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34.wmf" ContentType="image/x-wmf"/>
  <Override PartName="/ppt/media/image4.wmf" ContentType="image/x-wmf"/>
  <Override PartName="/ppt/media/image13.wmf" ContentType="image/x-wmf"/>
  <Override PartName="/ppt/media/image16.wmf" ContentType="image/x-wmf"/>
  <Override PartName="/ppt/media/image50.wmf" ContentType="image/x-wmf"/>
  <Override PartName="/ppt/media/image165.wmf" ContentType="image/x-wmf"/>
  <Override PartName="/ppt/media/image156.wmf" ContentType="image/x-wmf"/>
  <Override PartName="/ppt/media/image1.jpeg" ContentType="image/jpeg"/>
  <Override PartName="/ppt/media/image89.wmf" ContentType="image/x-wmf"/>
  <Override PartName="/ppt/media/image57.wmf" ContentType="image/x-wmf"/>
  <Override PartName="/ppt/media/image58.wmf" ContentType="image/x-wmf"/>
  <Override PartName="/ppt/media/image25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3.wmf" ContentType="image/x-wmf"/>
  <Override PartName="/ppt/media/image185.wmf" ContentType="image/x-wmf"/>
  <Override PartName="/ppt/media/image93.wmf" ContentType="image/x-wmf"/>
  <Override PartName="/ppt/media/image117.wmf" ContentType="image/x-wmf"/>
  <Override PartName="/ppt/media/image186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270.wmf" ContentType="image/x-wmf"/>
  <Override PartName="/ppt/media/image202.wmf" ContentType="image/x-wmf"/>
  <Override PartName="/ppt/media/image274.wmf" ContentType="image/x-wmf"/>
  <Override PartName="/ppt/media/image206.wmf" ContentType="image/x-wmf"/>
  <Override PartName="/ppt/media/image260.wmf" ContentType="image/x-wmf"/>
  <Override PartName="/ppt/media/image59.wmf" ContentType="image/x-wmf"/>
  <Override PartName="/ppt/media/image280.wmf" ContentType="image/x-wmf"/>
  <Override PartName="/ppt/media/image81.wmf" ContentType="image/x-wmf"/>
  <Override PartName="/ppt/media/image105.wmf" ContentType="image/x-wmf"/>
  <Override PartName="/ppt/media/image173.wmf" ContentType="image/x-wmf"/>
  <Override PartName="/ppt/media/image102.wmf" ContentType="image/x-wmf"/>
  <Override PartName="/ppt/media/image275.wmf" ContentType="image/x-wmf"/>
  <Override PartName="/ppt/media/image207.wmf" ContentType="image/x-wmf"/>
  <Override PartName="/ppt/media/image266.wmf" ContentType="image/x-wmf"/>
  <Override PartName="/ppt/media/image304.wmf" ContentType="image/x-wmf"/>
  <Override PartName="/ppt/media/image261.wmf" ContentType="image/x-wmf"/>
  <Override PartName="/ppt/media/image281.wmf" ContentType="image/x-wmf"/>
  <Override PartName="/ppt/media/image103.wmf" ContentType="image/x-wmf"/>
  <Override PartName="/ppt/media/image276.wmf" ContentType="image/x-wmf"/>
  <Override PartName="/ppt/media/image208.wmf" ContentType="image/x-wmf"/>
  <Override PartName="/ppt/media/image267.wmf" ContentType="image/x-wmf"/>
  <Override PartName="/ppt/media/image305.wmf" ContentType="image/x-wmf"/>
  <Override PartName="/ppt/media/image112.wmf" ContentType="image/x-wmf"/>
  <Override PartName="/ppt/media/image180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84.wmf" ContentType="image/x-wmf"/>
  <Override PartName="/ppt/media/image272.wmf" ContentType="image/x-wmf"/>
  <Override PartName="/ppt/media/image204.wmf" ContentType="image/x-wmf"/>
  <Override PartName="/ppt/media/image171.wmf" ContentType="image/x-wmf"/>
  <Override PartName="/ppt/media/image299.wmf" ContentType="image/x-wmf"/>
  <Override PartName="/ppt/media/image271.wmf" ContentType="image/x-wmf"/>
  <Override PartName="/ppt/media/image203.wmf" ContentType="image/x-wmf"/>
  <Override PartName="/ppt/media/image262.wmf" ContentType="image/x-wmf"/>
  <Override PartName="/ppt/media/image300.wmf" ContentType="image/x-wmf"/>
  <Override PartName="/ppt/media/image170.wmf" ContentType="image/x-wmf"/>
  <Override PartName="/ppt/media/image298.wmf" ContentType="image/x-wmf"/>
  <Override PartName="/ppt/media/image291.wmf" ContentType="image/x-wmf"/>
  <Override PartName="/ppt/media/image69.wmf" ContentType="image/x-wmf"/>
  <Override PartName="/ppt/media/image290.wmf" ContentType="image/x-wmf"/>
  <Override PartName="/ppt/media/image303.wmf" ContentType="image/x-wmf"/>
  <Override PartName="/ppt/media/image265.wmf" ContentType="image/x-wmf"/>
  <Override PartName="/ppt/media/image301.wmf" ContentType="image/x-wmf"/>
  <Override PartName="/ppt/media/image263.wmf" ContentType="image/x-wmf"/>
  <Override PartName="/ppt/media/image194.wmf" ContentType="image/x-wmf"/>
  <Override PartName="/ppt/media/image126.wmf" ContentType="image/x-wmf"/>
  <Override PartName="/ppt/media/image193.wmf" ContentType="image/x-wmf"/>
  <Override PartName="/ppt/media/image125.wmf" ContentType="image/x-wmf"/>
  <Override PartName="/ppt/media/image294.wmf" ContentType="image/x-wmf"/>
  <Override PartName="/ppt/media/image124.wmf" ContentType="image/x-wmf"/>
  <Override PartName="/ppt/media/image192.wmf" ContentType="image/x-wmf"/>
  <Override PartName="/ppt/media/image297.wmf" ContentType="image/x-wmf"/>
  <Override PartName="/ppt/media/image283.wmf" ContentType="image/x-wmf"/>
  <Override PartName="/ppt/media/image113.wmf" ContentType="image/x-wmf"/>
  <Override PartName="/ppt/media/image181.wmf" ContentType="image/x-wmf"/>
  <Override PartName="/ppt/media/image293.wmf" ContentType="image/x-wmf"/>
  <Override PartName="/ppt/media/image123.wmf" ContentType="image/x-wmf"/>
  <Override PartName="/ppt/media/image191.wmf" ContentType="image/x-wmf"/>
  <Override PartName="/ppt/media/image296.wmf" ContentType="image/x-wmf"/>
  <Override PartName="/ppt/media/image282.wmf" ContentType="image/x-wmf"/>
  <Override PartName="/ppt/media/image292.wmf" ContentType="image/x-wmf"/>
  <Override PartName="/ppt/media/image122.wmf" ContentType="image/x-wmf"/>
  <Override PartName="/ppt/media/image190.wmf" ContentType="image/x-wmf"/>
  <Override PartName="/ppt/media/image29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20.wmf" ContentType="image/x-wmf"/>
  <Override PartName="/ppt/media/image287.wmf" ContentType="image/x-wmf"/>
  <Override PartName="/ppt/media/image273.wmf" ContentType="image/x-wmf"/>
  <Override PartName="/ppt/media/image205.wmf" ContentType="image/x-wmf"/>
  <Override PartName="/ppt/media/image264.wmf" ContentType="image/x-wmf"/>
  <Override PartName="/ppt/media/image302.wmf" ContentType="image/x-wmf"/>
  <Override PartName="/ppt/media/image286.wmf" ContentType="image/x-wmf"/>
  <Override PartName="/ppt/media/image285.wmf" ContentType="image/x-wmf"/>
  <Override PartName="/ppt/media/image174.wmf" ContentType="image/x-wmf"/>
  <Override PartName="/ppt/media/image277.wmf" ContentType="image/x-wmf"/>
  <Override PartName="/ppt/media/image209.wmf" ContentType="image/x-wmf"/>
  <Override PartName="/ppt/media/image172.wmf" ContentType="image/x-wmf"/>
  <Override PartName="/ppt/media/image14.wmf" ContentType="image/x-wmf"/>
  <Override PartName="/ppt/media/image106.wmf" ContentType="image/x-wmf"/>
  <Override PartName="/ppt/media/image82.wmf" ContentType="image/x-wmf"/>
  <Override PartName="/ppt/media/image2.wmf" ContentType="image/x-wmf"/>
  <Override PartName="/ppt/media/image154.wmf" ContentType="image/x-wmf"/>
  <Override PartName="/ppt/media/image3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83.wmf" ContentType="image/x-wmf"/>
  <Override PartName="/ppt/media/image107.wmf" ContentType="image/x-wmf"/>
  <Override PartName="/ppt/media/image17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307.wmf" ContentType="image/x-wmf"/>
  <Override PartName="/ppt/media/image269.wmf" ContentType="image/x-wmf"/>
  <Override PartName="/ppt/media/image141.wmf" ContentType="image/x-wmf"/>
  <Override PartName="/ppt/media/image308.wmf" ContentType="image/x-wmf"/>
  <Override PartName="/ppt/media/image142.wmf" ContentType="image/x-wmf"/>
  <Override PartName="/ppt/media/image30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278.wmf" ContentType="image/x-wmf"/>
  <Override PartName="/ppt/media/image150.wmf" ContentType="image/x-wmf"/>
  <Override PartName="/ppt/media/image279.wmf" ContentType="image/x-wmf"/>
  <Override PartName="/ppt/media/image151.wmf" ContentType="image/x-wmf"/>
  <Override PartName="/ppt/media/image152.wmf" ContentType="image/x-wmf"/>
  <Override PartName="/ppt/media/image153.wmf" ContentType="image/x-wmf"/>
  <Override PartName="/ppt/media/image288.wmf" ContentType="image/x-wmf"/>
  <Override PartName="/ppt/media/image160.wmf" ContentType="image/x-wmf"/>
  <Override PartName="/ppt/media/image289.wmf" ContentType="image/x-wmf"/>
  <Override PartName="/ppt/media/image161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10.wmf" ContentType="image/x-wmf"/>
  <Override PartName="/ppt/media/image2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8800" y="8597880"/>
            <a:ext cx="4478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0" y="8772480"/>
            <a:ext cx="261468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84280"/>
                <a:tab algn="l" pos="482292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6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84280"/>
                <a:tab algn="l" pos="482292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786880"/>
            <a:ext cx="664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Num" idx="1"/>
          </p:nvPr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576FC0C-C4CF-4C7F-BB09-262947F66DB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871560" y="244440"/>
            <a:ext cx="5313240" cy="398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404640" y="4371480"/>
            <a:ext cx="6110640" cy="4248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9C92F66-8A63-4B79-9ED7-813A2A0B9A9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4469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3E4471A-B747-46AE-81CF-279A14552C1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4472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6B5CCD7-FDA9-45B8-9577-00E30C1E344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4475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372A7F0-685C-4EAC-9B5A-F34C08DEB75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4478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7D715E4-E406-487B-AE6A-F1128F484A9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C165114-CE0E-435F-A9F9-8BE37A5E622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BD7B894-1D7D-42AC-AD3E-C044FF8CCB8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PlaceHolder 1"/>
          <p:cNvSpPr>
            <a:spLocks noGrp="1"/>
          </p:cNvSpPr>
          <p:nvPr>
            <p:ph type="body"/>
          </p:nvPr>
        </p:nvSpPr>
        <p:spPr>
          <a:xfrm>
            <a:off x="406080" y="4465440"/>
            <a:ext cx="615636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PlaceHolder 2"/>
          <p:cNvSpPr>
            <a:spLocks noGrp="1"/>
          </p:cNvSpPr>
          <p:nvPr>
            <p:ph type="sldImg"/>
          </p:nvPr>
        </p:nvSpPr>
        <p:spPr>
          <a:xfrm>
            <a:off x="839880" y="249120"/>
            <a:ext cx="5429160" cy="4071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EE20FD2-ADF3-44E4-9E4D-30E10C3B072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705F65D-B35E-4934-AF19-E21896AE550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"/>
          <p:cNvSpPr txBox="1"/>
          <p:nvPr/>
        </p:nvSpPr>
        <p:spPr>
          <a:xfrm>
            <a:off x="5918040" y="8669160"/>
            <a:ext cx="811440" cy="2858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10BB743-34C3-4CB7-B1FD-4A7C8801EFC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PlaceHolder 1"/>
          <p:cNvSpPr>
            <a:spLocks noGrp="1"/>
          </p:cNvSpPr>
          <p:nvPr>
            <p:ph type="sldImg"/>
          </p:nvPr>
        </p:nvSpPr>
        <p:spPr>
          <a:xfrm>
            <a:off x="1279440" y="571680"/>
            <a:ext cx="4451400" cy="3338280"/>
          </a:xfrm>
          <a:prstGeom prst="rect">
            <a:avLst/>
          </a:prstGeom>
          <a:ln w="0">
            <a:noFill/>
          </a:ln>
        </p:spPr>
      </p:sp>
      <p:sp>
        <p:nvSpPr>
          <p:cNvPr id="4466" name="PlaceHolder 2"/>
          <p:cNvSpPr>
            <a:spLocks noGrp="1"/>
          </p:cNvSpPr>
          <p:nvPr>
            <p:ph type="body"/>
          </p:nvPr>
        </p:nvSpPr>
        <p:spPr>
          <a:xfrm>
            <a:off x="875880" y="4057200"/>
            <a:ext cx="52657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88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289280" y="6672240"/>
            <a:ext cx="17787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999999"/>
                </a:solidFill>
                <a:latin typeface="Arial"/>
              </a:rPr>
              <a:t>2D Cisco Icon Library v2.3—</a:t>
            </a:r>
            <a:fld id="{B715291F-FB19-414D-A012-3F9D5B451775}" type="slidenum">
              <a:rPr b="1" lang="en-US" sz="7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257800" cy="312408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3520" y="0"/>
            <a:ext cx="3930480" cy="3144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8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999999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880" y="3390480"/>
            <a:ext cx="6937200" cy="420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89280" y="6672240"/>
            <a:ext cx="17787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999999"/>
                </a:solidFill>
                <a:latin typeface="Arial"/>
              </a:rPr>
              <a:t>2D Cisco Icon Library v2.3—</a:t>
            </a:r>
            <a:fld id="{D6EA7BE3-640E-4200-871F-43D99AF85BEB}" type="slidenum">
              <a:rPr b="1" lang="en-US" sz="7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2.wmf"/><Relationship Id="rId2" Type="http://schemas.openxmlformats.org/officeDocument/2006/relationships/image" Target="../media/image143.wmf"/><Relationship Id="rId3" Type="http://schemas.openxmlformats.org/officeDocument/2006/relationships/image" Target="../media/image72.wmf"/><Relationship Id="rId4" Type="http://schemas.openxmlformats.org/officeDocument/2006/relationships/image" Target="../media/image144.wmf"/><Relationship Id="rId5" Type="http://schemas.openxmlformats.org/officeDocument/2006/relationships/image" Target="../media/image145.wmf"/><Relationship Id="rId6" Type="http://schemas.openxmlformats.org/officeDocument/2006/relationships/image" Target="../media/image146.wmf"/><Relationship Id="rId7" Type="http://schemas.openxmlformats.org/officeDocument/2006/relationships/image" Target="../media/image147.wmf"/><Relationship Id="rId8" Type="http://schemas.openxmlformats.org/officeDocument/2006/relationships/image" Target="../media/image148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9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image" Target="../media/image152.wmf"/><Relationship Id="rId5" Type="http://schemas.openxmlformats.org/officeDocument/2006/relationships/image" Target="../media/image153.wmf"/><Relationship Id="rId6" Type="http://schemas.openxmlformats.org/officeDocument/2006/relationships/image" Target="../media/image154.wmf"/><Relationship Id="rId7" Type="http://schemas.openxmlformats.org/officeDocument/2006/relationships/image" Target="../media/image155.wmf"/><Relationship Id="rId8" Type="http://schemas.openxmlformats.org/officeDocument/2006/relationships/image" Target="../media/image156.wmf"/><Relationship Id="rId9" Type="http://schemas.openxmlformats.org/officeDocument/2006/relationships/image" Target="../media/image157.wmf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8.wmf"/><Relationship Id="rId2" Type="http://schemas.openxmlformats.org/officeDocument/2006/relationships/image" Target="../media/image159.wmf"/><Relationship Id="rId3" Type="http://schemas.openxmlformats.org/officeDocument/2006/relationships/image" Target="../media/image160.wmf"/><Relationship Id="rId4" Type="http://schemas.openxmlformats.org/officeDocument/2006/relationships/image" Target="../media/image161.wmf"/><Relationship Id="rId5" Type="http://schemas.openxmlformats.org/officeDocument/2006/relationships/image" Target="../media/image162.wmf"/><Relationship Id="rId6" Type="http://schemas.openxmlformats.org/officeDocument/2006/relationships/image" Target="../media/image163.wmf"/><Relationship Id="rId7" Type="http://schemas.openxmlformats.org/officeDocument/2006/relationships/image" Target="../media/image164.wmf"/><Relationship Id="rId8" Type="http://schemas.openxmlformats.org/officeDocument/2006/relationships/image" Target="../media/image165.wmf"/><Relationship Id="rId9" Type="http://schemas.openxmlformats.org/officeDocument/2006/relationships/image" Target="../media/image166.wmf"/><Relationship Id="rId10" Type="http://schemas.openxmlformats.org/officeDocument/2006/relationships/image" Target="../media/image167.wmf"/><Relationship Id="rId11" Type="http://schemas.openxmlformats.org/officeDocument/2006/relationships/image" Target="../media/image168.wmf"/><Relationship Id="rId12" Type="http://schemas.openxmlformats.org/officeDocument/2006/relationships/image" Target="../media/image169.wmf"/><Relationship Id="rId13" Type="http://schemas.openxmlformats.org/officeDocument/2006/relationships/image" Target="../media/image170.wmf"/><Relationship Id="rId14" Type="http://schemas.openxmlformats.org/officeDocument/2006/relationships/image" Target="../media/image171.wmf"/><Relationship Id="rId15" Type="http://schemas.openxmlformats.org/officeDocument/2006/relationships/image" Target="../media/image172.wmf"/><Relationship Id="rId16" Type="http://schemas.openxmlformats.org/officeDocument/2006/relationships/image" Target="../media/image173.wmf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4.wmf"/><Relationship Id="rId2" Type="http://schemas.openxmlformats.org/officeDocument/2006/relationships/image" Target="../media/image175.wmf"/><Relationship Id="rId3" Type="http://schemas.openxmlformats.org/officeDocument/2006/relationships/image" Target="../media/image176.wmf"/><Relationship Id="rId4" Type="http://schemas.openxmlformats.org/officeDocument/2006/relationships/image" Target="../media/image177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8.wmf"/><Relationship Id="rId2" Type="http://schemas.openxmlformats.org/officeDocument/2006/relationships/image" Target="../media/image179.wmf"/><Relationship Id="rId3" Type="http://schemas.openxmlformats.org/officeDocument/2006/relationships/image" Target="../media/image180.wmf"/><Relationship Id="rId4" Type="http://schemas.openxmlformats.org/officeDocument/2006/relationships/image" Target="../media/image181.wmf"/><Relationship Id="rId5" Type="http://schemas.openxmlformats.org/officeDocument/2006/relationships/image" Target="../media/image182.wmf"/><Relationship Id="rId6" Type="http://schemas.openxmlformats.org/officeDocument/2006/relationships/image" Target="../media/image183.wmf"/><Relationship Id="rId7" Type="http://schemas.openxmlformats.org/officeDocument/2006/relationships/image" Target="../media/image184.wmf"/><Relationship Id="rId8" Type="http://schemas.openxmlformats.org/officeDocument/2006/relationships/image" Target="../media/image185.wmf"/><Relationship Id="rId9" Type="http://schemas.openxmlformats.org/officeDocument/2006/relationships/image" Target="../media/image186.wmf"/><Relationship Id="rId10" Type="http://schemas.openxmlformats.org/officeDocument/2006/relationships/image" Target="../media/image187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8.wmf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image" Target="../media/image198.wmf"/><Relationship Id="rId12" Type="http://schemas.openxmlformats.org/officeDocument/2006/relationships/image" Target="../media/image199.wmf"/><Relationship Id="rId13" Type="http://schemas.openxmlformats.org/officeDocument/2006/relationships/image" Target="../media/image200.wmf"/><Relationship Id="rId14" Type="http://schemas.openxmlformats.org/officeDocument/2006/relationships/image" Target="../media/image201.wmf"/><Relationship Id="rId15" Type="http://schemas.openxmlformats.org/officeDocument/2006/relationships/image" Target="../media/image202.wmf"/><Relationship Id="rId16" Type="http://schemas.openxmlformats.org/officeDocument/2006/relationships/image" Target="../media/image203.wmf"/><Relationship Id="rId17" Type="http://schemas.openxmlformats.org/officeDocument/2006/relationships/image" Target="../media/image204.wmf"/><Relationship Id="rId18" Type="http://schemas.openxmlformats.org/officeDocument/2006/relationships/image" Target="../media/image205.wmf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6.wmf"/><Relationship Id="rId2" Type="http://schemas.openxmlformats.org/officeDocument/2006/relationships/image" Target="../media/image207.wmf"/><Relationship Id="rId3" Type="http://schemas.openxmlformats.org/officeDocument/2006/relationships/image" Target="../media/image208.wmf"/><Relationship Id="rId4" Type="http://schemas.openxmlformats.org/officeDocument/2006/relationships/image" Target="../media/image209.wmf"/><Relationship Id="rId5" Type="http://schemas.openxmlformats.org/officeDocument/2006/relationships/image" Target="../media/image210.wmf"/><Relationship Id="rId6" Type="http://schemas.openxmlformats.org/officeDocument/2006/relationships/image" Target="../media/image211.wmf"/><Relationship Id="rId7" Type="http://schemas.openxmlformats.org/officeDocument/2006/relationships/image" Target="../media/image212.wmf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3.wmf"/><Relationship Id="rId2" Type="http://schemas.openxmlformats.org/officeDocument/2006/relationships/image" Target="../media/image214.wmf"/><Relationship Id="rId3" Type="http://schemas.openxmlformats.org/officeDocument/2006/relationships/image" Target="../media/image215.wmf"/><Relationship Id="rId4" Type="http://schemas.openxmlformats.org/officeDocument/2006/relationships/image" Target="../media/image216.wmf"/><Relationship Id="rId5" Type="http://schemas.openxmlformats.org/officeDocument/2006/relationships/image" Target="../media/image217.wmf"/><Relationship Id="rId6" Type="http://schemas.openxmlformats.org/officeDocument/2006/relationships/image" Target="../media/image218.wmf"/><Relationship Id="rId7" Type="http://schemas.openxmlformats.org/officeDocument/2006/relationships/image" Target="../media/image219.wmf"/><Relationship Id="rId8" Type="http://schemas.openxmlformats.org/officeDocument/2006/relationships/image" Target="../media/image220.wmf"/><Relationship Id="rId9" Type="http://schemas.openxmlformats.org/officeDocument/2006/relationships/image" Target="../media/image221.wmf"/><Relationship Id="rId10" Type="http://schemas.openxmlformats.org/officeDocument/2006/relationships/image" Target="../media/image222.wmf"/><Relationship Id="rId11" Type="http://schemas.openxmlformats.org/officeDocument/2006/relationships/image" Target="../media/image223.wmf"/><Relationship Id="rId12" Type="http://schemas.openxmlformats.org/officeDocument/2006/relationships/image" Target="../media/image224.wmf"/><Relationship Id="rId13" Type="http://schemas.openxmlformats.org/officeDocument/2006/relationships/image" Target="../media/image225.wmf"/><Relationship Id="rId14" Type="http://schemas.openxmlformats.org/officeDocument/2006/relationships/image" Target="../media/image226.wmf"/><Relationship Id="rId15" Type="http://schemas.openxmlformats.org/officeDocument/2006/relationships/image" Target="../media/image227.wmf"/><Relationship Id="rId16" Type="http://schemas.openxmlformats.org/officeDocument/2006/relationships/image" Target="../media/image228.wmf"/><Relationship Id="rId17" Type="http://schemas.openxmlformats.org/officeDocument/2006/relationships/image" Target="../media/image229.wmf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0.wmf"/><Relationship Id="rId2" Type="http://schemas.openxmlformats.org/officeDocument/2006/relationships/image" Target="../media/image231.wmf"/><Relationship Id="rId3" Type="http://schemas.openxmlformats.org/officeDocument/2006/relationships/image" Target="../media/image232.wmf"/><Relationship Id="rId4" Type="http://schemas.openxmlformats.org/officeDocument/2006/relationships/image" Target="../media/image233.wmf"/><Relationship Id="rId5" Type="http://schemas.openxmlformats.org/officeDocument/2006/relationships/image" Target="../media/image234.wmf"/><Relationship Id="rId6" Type="http://schemas.openxmlformats.org/officeDocument/2006/relationships/image" Target="../media/image235.wmf"/><Relationship Id="rId7" Type="http://schemas.openxmlformats.org/officeDocument/2006/relationships/image" Target="../media/image236.wmf"/><Relationship Id="rId8" Type="http://schemas.openxmlformats.org/officeDocument/2006/relationships/image" Target="../media/image237.wmf"/><Relationship Id="rId9" Type="http://schemas.openxmlformats.org/officeDocument/2006/relationships/image" Target="../media/image238.wmf"/><Relationship Id="rId10" Type="http://schemas.openxmlformats.org/officeDocument/2006/relationships/image" Target="../media/image239.wmf"/><Relationship Id="rId11" Type="http://schemas.openxmlformats.org/officeDocument/2006/relationships/image" Target="../media/image240.wmf"/><Relationship Id="rId12" Type="http://schemas.openxmlformats.org/officeDocument/2006/relationships/image" Target="../media/image241.wmf"/><Relationship Id="rId13" Type="http://schemas.openxmlformats.org/officeDocument/2006/relationships/image" Target="../media/image242.wmf"/><Relationship Id="rId14" Type="http://schemas.openxmlformats.org/officeDocument/2006/relationships/image" Target="../media/image243.wmf"/><Relationship Id="rId15" Type="http://schemas.openxmlformats.org/officeDocument/2006/relationships/image" Target="../media/image244.wmf"/><Relationship Id="rId16" Type="http://schemas.openxmlformats.org/officeDocument/2006/relationships/image" Target="../media/image245.wmf"/><Relationship Id="rId1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6.wmf"/><Relationship Id="rId2" Type="http://schemas.openxmlformats.org/officeDocument/2006/relationships/image" Target="../media/image247.wmf"/><Relationship Id="rId3" Type="http://schemas.openxmlformats.org/officeDocument/2006/relationships/image" Target="../media/image248.wmf"/><Relationship Id="rId4" Type="http://schemas.openxmlformats.org/officeDocument/2006/relationships/image" Target="../media/image249.wmf"/><Relationship Id="rId5" Type="http://schemas.openxmlformats.org/officeDocument/2006/relationships/image" Target="../media/image250.wmf"/><Relationship Id="rId6" Type="http://schemas.openxmlformats.org/officeDocument/2006/relationships/image" Target="../media/image251.wmf"/><Relationship Id="rId7" Type="http://schemas.openxmlformats.org/officeDocument/2006/relationships/image" Target="../media/image252.wmf"/><Relationship Id="rId8" Type="http://schemas.openxmlformats.org/officeDocument/2006/relationships/image" Target="../media/image253.wmf"/><Relationship Id="rId9" Type="http://schemas.openxmlformats.org/officeDocument/2006/relationships/image" Target="../media/image254.wmf"/><Relationship Id="rId10" Type="http://schemas.openxmlformats.org/officeDocument/2006/relationships/image" Target="../media/image255.wmf"/><Relationship Id="rId11" Type="http://schemas.openxmlformats.org/officeDocument/2006/relationships/image" Target="../media/image256.wmf"/><Relationship Id="rId12" Type="http://schemas.openxmlformats.org/officeDocument/2006/relationships/image" Target="../media/image257.wmf"/><Relationship Id="rId13" Type="http://schemas.openxmlformats.org/officeDocument/2006/relationships/image" Target="../media/image258.wmf"/><Relationship Id="rId14" Type="http://schemas.openxmlformats.org/officeDocument/2006/relationships/image" Target="../media/image259.wmf"/><Relationship Id="rId15" Type="http://schemas.openxmlformats.org/officeDocument/2006/relationships/image" Target="../media/image260.wmf"/><Relationship Id="rId16" Type="http://schemas.openxmlformats.org/officeDocument/2006/relationships/image" Target="../media/image261.wmf"/><Relationship Id="rId17" Type="http://schemas.openxmlformats.org/officeDocument/2006/relationships/image" Target="../media/image262.wmf"/><Relationship Id="rId18" Type="http://schemas.openxmlformats.org/officeDocument/2006/relationships/image" Target="../media/image263.wmf"/><Relationship Id="rId19" Type="http://schemas.openxmlformats.org/officeDocument/2006/relationships/image" Target="../media/image264.wmf"/><Relationship Id="rId20" Type="http://schemas.openxmlformats.org/officeDocument/2006/relationships/image" Target="../media/image265.wmf"/><Relationship Id="rId2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slideLayout" Target="../slideLayouts/slideLayout5.xml"/><Relationship Id="rId2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6.wmf"/><Relationship Id="rId2" Type="http://schemas.openxmlformats.org/officeDocument/2006/relationships/image" Target="../media/image267.wmf"/><Relationship Id="rId3" Type="http://schemas.openxmlformats.org/officeDocument/2006/relationships/image" Target="../media/image268.wmf"/><Relationship Id="rId4" Type="http://schemas.openxmlformats.org/officeDocument/2006/relationships/image" Target="../media/image269.wmf"/><Relationship Id="rId5" Type="http://schemas.openxmlformats.org/officeDocument/2006/relationships/image" Target="../media/image270.wmf"/><Relationship Id="rId6" Type="http://schemas.openxmlformats.org/officeDocument/2006/relationships/image" Target="../media/image271.wmf"/><Relationship Id="rId7" Type="http://schemas.openxmlformats.org/officeDocument/2006/relationships/image" Target="../media/image272.wmf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3.wmf"/><Relationship Id="rId2" Type="http://schemas.openxmlformats.org/officeDocument/2006/relationships/image" Target="../media/image274.wmf"/><Relationship Id="rId3" Type="http://schemas.openxmlformats.org/officeDocument/2006/relationships/image" Target="../media/image275.wmf"/><Relationship Id="rId4" Type="http://schemas.openxmlformats.org/officeDocument/2006/relationships/image" Target="../media/image276.wmf"/><Relationship Id="rId5" Type="http://schemas.openxmlformats.org/officeDocument/2006/relationships/image" Target="../media/image277.wmf"/><Relationship Id="rId6" Type="http://schemas.openxmlformats.org/officeDocument/2006/relationships/image" Target="../media/image278.wmf"/><Relationship Id="rId7" Type="http://schemas.openxmlformats.org/officeDocument/2006/relationships/image" Target="../media/image279.wmf"/><Relationship Id="rId8" Type="http://schemas.openxmlformats.org/officeDocument/2006/relationships/image" Target="../media/image280.wmf"/><Relationship Id="rId9" Type="http://schemas.openxmlformats.org/officeDocument/2006/relationships/image" Target="../media/image281.wmf"/><Relationship Id="rId10" Type="http://schemas.openxmlformats.org/officeDocument/2006/relationships/image" Target="../media/image282.wmf"/><Relationship Id="rId11" Type="http://schemas.openxmlformats.org/officeDocument/2006/relationships/image" Target="../media/image283.wmf"/><Relationship Id="rId12" Type="http://schemas.openxmlformats.org/officeDocument/2006/relationships/image" Target="../media/image284.wmf"/><Relationship Id="rId13" Type="http://schemas.openxmlformats.org/officeDocument/2006/relationships/image" Target="../media/image285.wmf"/><Relationship Id="rId14" Type="http://schemas.openxmlformats.org/officeDocument/2006/relationships/image" Target="../media/image286.wmf"/><Relationship Id="rId15" Type="http://schemas.openxmlformats.org/officeDocument/2006/relationships/image" Target="../media/image287.wmf"/><Relationship Id="rId16" Type="http://schemas.openxmlformats.org/officeDocument/2006/relationships/image" Target="../media/image288.wmf"/><Relationship Id="rId17" Type="http://schemas.openxmlformats.org/officeDocument/2006/relationships/image" Target="../media/image289.wmf"/><Relationship Id="rId1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0.wmf"/><Relationship Id="rId2" Type="http://schemas.openxmlformats.org/officeDocument/2006/relationships/image" Target="../media/image291.wmf"/><Relationship Id="rId3" Type="http://schemas.openxmlformats.org/officeDocument/2006/relationships/image" Target="../media/image292.wmf"/><Relationship Id="rId4" Type="http://schemas.openxmlformats.org/officeDocument/2006/relationships/image" Target="../media/image293.wmf"/><Relationship Id="rId5" Type="http://schemas.openxmlformats.org/officeDocument/2006/relationships/image" Target="../media/image294.wmf"/><Relationship Id="rId6" Type="http://schemas.openxmlformats.org/officeDocument/2006/relationships/image" Target="../media/image295.wmf"/><Relationship Id="rId7" Type="http://schemas.openxmlformats.org/officeDocument/2006/relationships/image" Target="../media/image296.wmf"/><Relationship Id="rId8" Type="http://schemas.openxmlformats.org/officeDocument/2006/relationships/image" Target="../media/image297.wmf"/><Relationship Id="rId9" Type="http://schemas.openxmlformats.org/officeDocument/2006/relationships/image" Target="../media/image298.wmf"/><Relationship Id="rId10" Type="http://schemas.openxmlformats.org/officeDocument/2006/relationships/image" Target="../media/image299.wmf"/><Relationship Id="rId11" Type="http://schemas.openxmlformats.org/officeDocument/2006/relationships/image" Target="../media/image300.wmf"/><Relationship Id="rId12" Type="http://schemas.openxmlformats.org/officeDocument/2006/relationships/image" Target="../media/image301.wmf"/><Relationship Id="rId13" Type="http://schemas.openxmlformats.org/officeDocument/2006/relationships/image" Target="../media/image302.wmf"/><Relationship Id="rId1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3.wmf"/><Relationship Id="rId2" Type="http://schemas.openxmlformats.org/officeDocument/2006/relationships/image" Target="../media/image304.wmf"/><Relationship Id="rId3" Type="http://schemas.openxmlformats.org/officeDocument/2006/relationships/image" Target="../media/image305.wmf"/><Relationship Id="rId4" Type="http://schemas.openxmlformats.org/officeDocument/2006/relationships/image" Target="../media/image306.wmf"/><Relationship Id="rId5" Type="http://schemas.openxmlformats.org/officeDocument/2006/relationships/image" Target="../media/image307.wmf"/><Relationship Id="rId6" Type="http://schemas.openxmlformats.org/officeDocument/2006/relationships/image" Target="../media/image308.wmf"/><Relationship Id="rId7" Type="http://schemas.openxmlformats.org/officeDocument/2006/relationships/image" Target="../media/image309.wmf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image" Target="../media/image42.wmf"/><Relationship Id="rId15" Type="http://schemas.openxmlformats.org/officeDocument/2006/relationships/image" Target="../media/image43.wmf"/><Relationship Id="rId16" Type="http://schemas.openxmlformats.org/officeDocument/2006/relationships/image" Target="../media/image44.wmf"/><Relationship Id="rId17" Type="http://schemas.openxmlformats.org/officeDocument/2006/relationships/image" Target="../media/image45.wmf"/><Relationship Id="rId18" Type="http://schemas.openxmlformats.org/officeDocument/2006/relationships/image" Target="../media/image46.wmf"/><Relationship Id="rId19" Type="http://schemas.openxmlformats.org/officeDocument/2006/relationships/image" Target="../media/image47.wmf"/><Relationship Id="rId20" Type="http://schemas.openxmlformats.org/officeDocument/2006/relationships/image" Target="../media/image48.wmf"/><Relationship Id="rId21" Type="http://schemas.openxmlformats.org/officeDocument/2006/relationships/image" Target="../media/image49.wmf"/><Relationship Id="rId22" Type="http://schemas.openxmlformats.org/officeDocument/2006/relationships/image" Target="../media/image50.wmf"/><Relationship Id="rId23" Type="http://schemas.openxmlformats.org/officeDocument/2006/relationships/slideLayout" Target="../slideLayouts/slideLayout5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image" Target="../media/image62.wmf"/><Relationship Id="rId13" Type="http://schemas.openxmlformats.org/officeDocument/2006/relationships/image" Target="../media/image63.wmf"/><Relationship Id="rId14" Type="http://schemas.openxmlformats.org/officeDocument/2006/relationships/image" Target="../media/image64.wmf"/><Relationship Id="rId15" Type="http://schemas.openxmlformats.org/officeDocument/2006/relationships/image" Target="../media/image65.wmf"/><Relationship Id="rId16" Type="http://schemas.openxmlformats.org/officeDocument/2006/relationships/image" Target="../media/image66.wmf"/><Relationship Id="rId17" Type="http://schemas.openxmlformats.org/officeDocument/2006/relationships/image" Target="../media/image67.wmf"/><Relationship Id="rId18" Type="http://schemas.openxmlformats.org/officeDocument/2006/relationships/image" Target="../media/image68.wmf"/><Relationship Id="rId19" Type="http://schemas.openxmlformats.org/officeDocument/2006/relationships/image" Target="../media/image69.wmf"/><Relationship Id="rId20" Type="http://schemas.openxmlformats.org/officeDocument/2006/relationships/image" Target="../media/image70.wmf"/><Relationship Id="rId21" Type="http://schemas.openxmlformats.org/officeDocument/2006/relationships/image" Target="../media/image71.wmf"/><Relationship Id="rId22" Type="http://schemas.openxmlformats.org/officeDocument/2006/relationships/image" Target="../media/image72.wmf"/><Relationship Id="rId23" Type="http://schemas.openxmlformats.org/officeDocument/2006/relationships/image" Target="../media/image73.wmf"/><Relationship Id="rId24" Type="http://schemas.openxmlformats.org/officeDocument/2006/relationships/image" Target="../media/image74.wmf"/><Relationship Id="rId25" Type="http://schemas.openxmlformats.org/officeDocument/2006/relationships/image" Target="../media/image75.wmf"/><Relationship Id="rId26" Type="http://schemas.openxmlformats.org/officeDocument/2006/relationships/image" Target="../media/image76.wmf"/><Relationship Id="rId27" Type="http://schemas.openxmlformats.org/officeDocument/2006/relationships/slideLayout" Target="../slideLayouts/slideLayout5.xml"/><Relationship Id="rId2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3.wmf"/><Relationship Id="rId8" Type="http://schemas.openxmlformats.org/officeDocument/2006/relationships/image" Target="../media/image84.wmf"/><Relationship Id="rId9" Type="http://schemas.openxmlformats.org/officeDocument/2006/relationships/image" Target="../media/image85.wmf"/><Relationship Id="rId10" Type="http://schemas.openxmlformats.org/officeDocument/2006/relationships/image" Target="../media/image86.wmf"/><Relationship Id="rId11" Type="http://schemas.openxmlformats.org/officeDocument/2006/relationships/image" Target="../media/image87.wmf"/><Relationship Id="rId12" Type="http://schemas.openxmlformats.org/officeDocument/2006/relationships/image" Target="../media/image88.wmf"/><Relationship Id="rId13" Type="http://schemas.openxmlformats.org/officeDocument/2006/relationships/image" Target="../media/image89.wmf"/><Relationship Id="rId14" Type="http://schemas.openxmlformats.org/officeDocument/2006/relationships/image" Target="../media/image90.wmf"/><Relationship Id="rId15" Type="http://schemas.openxmlformats.org/officeDocument/2006/relationships/image" Target="../media/image91.wmf"/><Relationship Id="rId16" Type="http://schemas.openxmlformats.org/officeDocument/2006/relationships/image" Target="../media/image92.wmf"/><Relationship Id="rId17" Type="http://schemas.openxmlformats.org/officeDocument/2006/relationships/image" Target="../media/image93.wmf"/><Relationship Id="rId18" Type="http://schemas.openxmlformats.org/officeDocument/2006/relationships/slideLayout" Target="../slideLayouts/slideLayout5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image" Target="../media/image112.wmf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image" Target="../media/image116.wmf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image" Target="../media/image119.wmf"/><Relationship Id="rId8" Type="http://schemas.openxmlformats.org/officeDocument/2006/relationships/image" Target="../media/image120.wmf"/><Relationship Id="rId9" Type="http://schemas.openxmlformats.org/officeDocument/2006/relationships/image" Target="../media/image121.wmf"/><Relationship Id="rId10" Type="http://schemas.openxmlformats.org/officeDocument/2006/relationships/image" Target="../media/image122.wmf"/><Relationship Id="rId11" Type="http://schemas.openxmlformats.org/officeDocument/2006/relationships/image" Target="../media/image123.wmf"/><Relationship Id="rId12" Type="http://schemas.openxmlformats.org/officeDocument/2006/relationships/image" Target="../media/image124.wmf"/><Relationship Id="rId13" Type="http://schemas.openxmlformats.org/officeDocument/2006/relationships/image" Target="../media/image125.wmf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6.wmf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image" Target="../media/image131.wmf"/><Relationship Id="rId7" Type="http://schemas.openxmlformats.org/officeDocument/2006/relationships/image" Target="../media/image132.wmf"/><Relationship Id="rId8" Type="http://schemas.openxmlformats.org/officeDocument/2006/relationships/image" Target="../media/image133.wmf"/><Relationship Id="rId9" Type="http://schemas.openxmlformats.org/officeDocument/2006/relationships/image" Target="../media/image134.wmf"/><Relationship Id="rId10" Type="http://schemas.openxmlformats.org/officeDocument/2006/relationships/image" Target="../media/image135.wmf"/><Relationship Id="rId11" Type="http://schemas.openxmlformats.org/officeDocument/2006/relationships/image" Target="../media/image136.wmf"/><Relationship Id="rId12" Type="http://schemas.openxmlformats.org/officeDocument/2006/relationships/image" Target="../media/image137.wmf"/><Relationship Id="rId13" Type="http://schemas.openxmlformats.org/officeDocument/2006/relationships/image" Target="../media/image138.wmf"/><Relationship Id="rId14" Type="http://schemas.openxmlformats.org/officeDocument/2006/relationships/image" Target="../media/image139.wmf"/><Relationship Id="rId15" Type="http://schemas.openxmlformats.org/officeDocument/2006/relationships/image" Target="../media/image140.wmf"/><Relationship Id="rId16" Type="http://schemas.openxmlformats.org/officeDocument/2006/relationships/image" Target="../media/image141.wmf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50520" y="1312560"/>
            <a:ext cx="3546360" cy="84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PWS 2D Cisco Icon Libr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4" name="" descr=""/>
          <p:cNvPicPr/>
          <p:nvPr/>
        </p:nvPicPr>
        <p:blipFill>
          <a:blip r:embed="rId1"/>
          <a:stretch/>
        </p:blipFill>
        <p:spPr>
          <a:xfrm>
            <a:off x="3276720" y="2592360"/>
            <a:ext cx="895320" cy="870120"/>
          </a:xfrm>
          <a:prstGeom prst="rect">
            <a:avLst/>
          </a:prstGeom>
          <a:ln w="0">
            <a:noFill/>
          </a:ln>
        </p:spPr>
      </p:pic>
      <p:pic>
        <p:nvPicPr>
          <p:cNvPr id="1875" name="" descr=""/>
          <p:cNvPicPr/>
          <p:nvPr/>
        </p:nvPicPr>
        <p:blipFill>
          <a:blip r:embed="rId2"/>
          <a:stretch/>
        </p:blipFill>
        <p:spPr>
          <a:xfrm>
            <a:off x="676440" y="4309920"/>
            <a:ext cx="949320" cy="63036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3"/>
          <a:stretch/>
        </p:blipFill>
        <p:spPr>
          <a:xfrm>
            <a:off x="676440" y="2390760"/>
            <a:ext cx="949320" cy="63036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1736640" y="2440080"/>
            <a:ext cx="13813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Control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1736640" y="1468440"/>
            <a:ext cx="1800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4"/>
          <a:stretch/>
        </p:blipFill>
        <p:spPr>
          <a:xfrm>
            <a:off x="758880" y="1347840"/>
            <a:ext cx="782640" cy="771480"/>
          </a:xfrm>
          <a:prstGeom prst="rect">
            <a:avLst/>
          </a:prstGeom>
          <a:ln w="0">
            <a:noFill/>
          </a:ln>
        </p:spPr>
      </p:pic>
      <p:pic>
        <p:nvPicPr>
          <p:cNvPr id="1881" name="" descr=""/>
          <p:cNvPicPr/>
          <p:nvPr/>
        </p:nvPicPr>
        <p:blipFill>
          <a:blip r:embed="rId5"/>
          <a:stretch/>
        </p:blipFill>
        <p:spPr>
          <a:xfrm>
            <a:off x="665280" y="3359160"/>
            <a:ext cx="960480" cy="636480"/>
          </a:xfrm>
          <a:prstGeom prst="rect">
            <a:avLst/>
          </a:prstGeom>
          <a:ln w="0">
            <a:noFill/>
          </a:ln>
        </p:spPr>
      </p:pic>
      <p:sp>
        <p:nvSpPr>
          <p:cNvPr id="1882" name=""/>
          <p:cNvSpPr/>
          <p:nvPr/>
        </p:nvSpPr>
        <p:spPr>
          <a:xfrm>
            <a:off x="1736640" y="3390840"/>
            <a:ext cx="1381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 XM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736640" y="4309920"/>
            <a:ext cx="1381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 XM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736640" y="5322960"/>
            <a:ext cx="1381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5" name="" descr=""/>
          <p:cNvPicPr/>
          <p:nvPr/>
        </p:nvPicPr>
        <p:blipFill>
          <a:blip r:embed="rId6"/>
          <a:stretch/>
        </p:blipFill>
        <p:spPr>
          <a:xfrm>
            <a:off x="573120" y="5259240"/>
            <a:ext cx="1079640" cy="641520"/>
          </a:xfrm>
          <a:prstGeom prst="rect">
            <a:avLst/>
          </a:prstGeom>
          <a:ln w="0">
            <a:noFill/>
          </a:ln>
        </p:spPr>
      </p:pic>
      <p:sp>
        <p:nvSpPr>
          <p:cNvPr id="1886" name=""/>
          <p:cNvSpPr/>
          <p:nvPr/>
        </p:nvSpPr>
        <p:spPr>
          <a:xfrm>
            <a:off x="4191120" y="1746360"/>
            <a:ext cx="8856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7" name="" descr=""/>
          <p:cNvPicPr/>
          <p:nvPr/>
        </p:nvPicPr>
        <p:blipFill>
          <a:blip r:embed="rId7"/>
          <a:stretch/>
        </p:blipFill>
        <p:spPr>
          <a:xfrm>
            <a:off x="3429000" y="1523880"/>
            <a:ext cx="581040" cy="84960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4191120" y="2743200"/>
            <a:ext cx="1060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R 1000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9" name="" descr=""/>
          <p:cNvPicPr/>
          <p:nvPr/>
        </p:nvPicPr>
        <p:blipFill>
          <a:blip r:embed="rId8"/>
          <a:stretch/>
        </p:blipFill>
        <p:spPr>
          <a:xfrm>
            <a:off x="3429000" y="3657600"/>
            <a:ext cx="617400" cy="998640"/>
          </a:xfrm>
          <a:prstGeom prst="rect">
            <a:avLst/>
          </a:prstGeom>
          <a:ln w="0">
            <a:noFill/>
          </a:ln>
        </p:spPr>
      </p:pic>
      <p:sp>
        <p:nvSpPr>
          <p:cNvPr id="1890" name=""/>
          <p:cNvSpPr/>
          <p:nvPr/>
        </p:nvSpPr>
        <p:spPr>
          <a:xfrm>
            <a:off x="4191120" y="3886200"/>
            <a:ext cx="1060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IC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2971800" y="2438280"/>
            <a:ext cx="1461960" cy="492840"/>
          </a:xfrm>
          <a:custGeom>
            <a:avLst/>
            <a:gdLst>
              <a:gd name="textAreaLeft" fmla="*/ 333720 w 1461960"/>
              <a:gd name="textAreaRight" fmla="*/ 1128240 w 1461960"/>
              <a:gd name="textAreaTop" fmla="*/ 112320 h 492840"/>
              <a:gd name="textAreaBottom" fmla="*/ 380520 h 49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"/>
          <p:cNvSpPr/>
          <p:nvPr/>
        </p:nvSpPr>
        <p:spPr>
          <a:xfrm>
            <a:off x="4724280" y="4788000"/>
            <a:ext cx="1298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al Cross-Conn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6438960" y="1290600"/>
            <a:ext cx="1060560" cy="633600"/>
            <a:chOff x="6438960" y="1290600"/>
            <a:chExt cx="1060560" cy="633600"/>
          </a:xfrm>
        </p:grpSpPr>
        <p:grpSp>
          <p:nvGrpSpPr>
            <p:cNvPr id="1894" name=""/>
            <p:cNvGrpSpPr/>
            <p:nvPr/>
          </p:nvGrpSpPr>
          <p:grpSpPr>
            <a:xfrm>
              <a:off x="6438960" y="1290600"/>
              <a:ext cx="1060560" cy="633600"/>
              <a:chOff x="6438960" y="1290600"/>
              <a:chExt cx="1060560" cy="633600"/>
            </a:xfrm>
          </p:grpSpPr>
          <p:grpSp>
            <p:nvGrpSpPr>
              <p:cNvPr id="1895" name=""/>
              <p:cNvGrpSpPr/>
              <p:nvPr/>
            </p:nvGrpSpPr>
            <p:grpSpPr>
              <a:xfrm>
                <a:off x="6438960" y="1290600"/>
                <a:ext cx="1060560" cy="633600"/>
                <a:chOff x="6438960" y="1290600"/>
                <a:chExt cx="1060560" cy="63360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6443640" y="1293840"/>
                  <a:ext cx="1050840" cy="349200"/>
                </a:xfrm>
                <a:custGeom>
                  <a:avLst/>
                  <a:gdLst/>
                  <a:ahLst/>
                  <a:rect l="l" t="t" r="r" b="b"/>
                  <a:pathLst>
                    <a:path w="15877" h="5288">
                      <a:moveTo>
                        <a:pt x="3368" y="5288"/>
                      </a:moveTo>
                      <a:lnTo>
                        <a:pt x="0" y="2500"/>
                      </a:lnTo>
                      <a:lnTo>
                        <a:pt x="3368" y="0"/>
                      </a:lnTo>
                      <a:lnTo>
                        <a:pt x="12413" y="0"/>
                      </a:lnTo>
                      <a:lnTo>
                        <a:pt x="15877" y="2500"/>
                      </a:lnTo>
                      <a:lnTo>
                        <a:pt x="12509" y="5288"/>
                      </a:lnTo>
                      <a:lnTo>
                        <a:pt x="3368" y="5288"/>
                      </a:lnTo>
                      <a:close/>
                    </a:path>
                  </a:pathLst>
                </a:custGeom>
                <a:solidFill>
                  <a:srgbClr val="3caf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6438960" y="1457280"/>
                  <a:ext cx="230040" cy="189000"/>
                </a:xfrm>
                <a:custGeom>
                  <a:avLst/>
                  <a:gdLst/>
                  <a:ahLst/>
                  <a:rect l="l" t="t" r="r" b="b"/>
                  <a:pathLst>
                    <a:path w="3476" h="2864">
                      <a:moveTo>
                        <a:pt x="49" y="0"/>
                      </a:moveTo>
                      <a:lnTo>
                        <a:pt x="47" y="76"/>
                      </a:lnTo>
                      <a:lnTo>
                        <a:pt x="3415" y="2864"/>
                      </a:lnTo>
                      <a:lnTo>
                        <a:pt x="3476" y="2790"/>
                      </a:lnTo>
                      <a:lnTo>
                        <a:pt x="108" y="2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0" y="37"/>
                      </a:lnTo>
                      <a:lnTo>
                        <a:pt x="47" y="7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6442200" y="1290600"/>
                  <a:ext cx="226800" cy="171720"/>
                </a:xfrm>
                <a:custGeom>
                  <a:avLst/>
                  <a:gdLst/>
                  <a:ahLst/>
                  <a:rect l="l" t="t" r="r" b="b"/>
                  <a:pathLst>
                    <a:path w="3425" h="2586">
                      <a:moveTo>
                        <a:pt x="3396" y="0"/>
                      </a:moveTo>
                      <a:lnTo>
                        <a:pt x="3368" y="10"/>
                      </a:lnTo>
                      <a:lnTo>
                        <a:pt x="0" y="2509"/>
                      </a:lnTo>
                      <a:lnTo>
                        <a:pt x="57" y="2586"/>
                      </a:lnTo>
                      <a:lnTo>
                        <a:pt x="3425" y="86"/>
                      </a:lnTo>
                      <a:lnTo>
                        <a:pt x="3396" y="0"/>
                      </a:lnTo>
                      <a:lnTo>
                        <a:pt x="3396" y="0"/>
                      </a:lnTo>
                      <a:lnTo>
                        <a:pt x="3381" y="0"/>
                      </a:lnTo>
                      <a:lnTo>
                        <a:pt x="3368" y="10"/>
                      </a:lnTo>
                      <a:lnTo>
                        <a:pt x="3396" y="0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6667560" y="1290600"/>
                  <a:ext cx="600120" cy="6480"/>
                </a:xfrm>
                <a:custGeom>
                  <a:avLst/>
                  <a:gdLst/>
                  <a:ahLst/>
                  <a:rect l="l" t="t" r="r" b="b"/>
                  <a:pathLst>
                    <a:path w="9073" h="96">
                      <a:moveTo>
                        <a:pt x="9073" y="9"/>
                      </a:moveTo>
                      <a:lnTo>
                        <a:pt x="9045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9045" y="96"/>
                      </a:lnTo>
                      <a:lnTo>
                        <a:pt x="9073" y="9"/>
                      </a:lnTo>
                      <a:lnTo>
                        <a:pt x="9073" y="9"/>
                      </a:lnTo>
                      <a:lnTo>
                        <a:pt x="9060" y="0"/>
                      </a:lnTo>
                      <a:lnTo>
                        <a:pt x="9045" y="0"/>
                      </a:lnTo>
                      <a:lnTo>
                        <a:pt x="9073" y="9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7263000" y="1290600"/>
                  <a:ext cx="236520" cy="171720"/>
                </a:xfrm>
                <a:custGeom>
                  <a:avLst/>
                  <a:gdLst/>
                  <a:ahLst/>
                  <a:rect l="l" t="t" r="r" b="b"/>
                  <a:pathLst>
                    <a:path w="3570" h="2578">
                      <a:moveTo>
                        <a:pt x="3523" y="2576"/>
                      </a:moveTo>
                      <a:lnTo>
                        <a:pt x="3520" y="2500"/>
                      </a:lnTo>
                      <a:lnTo>
                        <a:pt x="56" y="0"/>
                      </a:lnTo>
                      <a:lnTo>
                        <a:pt x="0" y="78"/>
                      </a:lnTo>
                      <a:lnTo>
                        <a:pt x="3464" y="2578"/>
                      </a:lnTo>
                      <a:lnTo>
                        <a:pt x="3523" y="2576"/>
                      </a:lnTo>
                      <a:lnTo>
                        <a:pt x="3523" y="2576"/>
                      </a:lnTo>
                      <a:lnTo>
                        <a:pt x="3570" y="2536"/>
                      </a:lnTo>
                      <a:lnTo>
                        <a:pt x="3520" y="2500"/>
                      </a:lnTo>
                      <a:lnTo>
                        <a:pt x="3523" y="2576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7269120" y="1457280"/>
                  <a:ext cx="227160" cy="189000"/>
                </a:xfrm>
                <a:custGeom>
                  <a:avLst/>
                  <a:gdLst/>
                  <a:ahLst/>
                  <a:rect l="l" t="t" r="r" b="b"/>
                  <a:pathLst>
                    <a:path w="3430" h="2873">
                      <a:moveTo>
                        <a:pt x="31" y="2873"/>
                      </a:moveTo>
                      <a:lnTo>
                        <a:pt x="62" y="2862"/>
                      </a:lnTo>
                      <a:lnTo>
                        <a:pt x="3430" y="74"/>
                      </a:lnTo>
                      <a:lnTo>
                        <a:pt x="3368" y="0"/>
                      </a:lnTo>
                      <a:lnTo>
                        <a:pt x="0" y="2788"/>
                      </a:lnTo>
                      <a:lnTo>
                        <a:pt x="31" y="2873"/>
                      </a:lnTo>
                      <a:lnTo>
                        <a:pt x="31" y="2873"/>
                      </a:lnTo>
                      <a:lnTo>
                        <a:pt x="48" y="2873"/>
                      </a:lnTo>
                      <a:lnTo>
                        <a:pt x="62" y="2862"/>
                      </a:lnTo>
                      <a:lnTo>
                        <a:pt x="31" y="2873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6664320" y="1639800"/>
                  <a:ext cx="606600" cy="6480"/>
                </a:xfrm>
                <a:custGeom>
                  <a:avLst/>
                  <a:gdLst/>
                  <a:ahLst/>
                  <a:rect l="l" t="t" r="r" b="b"/>
                  <a:pathLst>
                    <a:path w="9171" h="96">
                      <a:moveTo>
                        <a:pt x="0" y="85"/>
                      </a:moveTo>
                      <a:lnTo>
                        <a:pt x="30" y="96"/>
                      </a:lnTo>
                      <a:lnTo>
                        <a:pt x="9171" y="96"/>
                      </a:lnTo>
                      <a:lnTo>
                        <a:pt x="9171" y="0"/>
                      </a:lnTo>
                      <a:lnTo>
                        <a:pt x="30" y="0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13" y="96"/>
                      </a:lnTo>
                      <a:lnTo>
                        <a:pt x="30" y="96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6667560" y="1643040"/>
                  <a:ext cx="603360" cy="274680"/>
                </a:xfrm>
                <a:prstGeom prst="rect">
                  <a:avLst/>
                </a:prstGeom>
                <a:solidFill>
                  <a:srgbClr val="077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6664320" y="1643040"/>
                  <a:ext cx="6480" cy="277920"/>
                </a:xfrm>
                <a:custGeom>
                  <a:avLst/>
                  <a:gdLst/>
                  <a:ahLst/>
                  <a:rect l="l" t="t" r="r" b="b"/>
                  <a:pathLst>
                    <a:path w="96" h="4183">
                      <a:moveTo>
                        <a:pt x="48" y="4183"/>
                      </a:moveTo>
                      <a:lnTo>
                        <a:pt x="96" y="4135"/>
                      </a:lnTo>
                      <a:lnTo>
                        <a:pt x="96" y="0"/>
                      </a:lnTo>
                      <a:lnTo>
                        <a:pt x="0" y="0"/>
                      </a:lnTo>
                      <a:lnTo>
                        <a:pt x="0" y="4135"/>
                      </a:lnTo>
                      <a:lnTo>
                        <a:pt x="48" y="4183"/>
                      </a:lnTo>
                      <a:lnTo>
                        <a:pt x="0" y="4135"/>
                      </a:lnTo>
                      <a:lnTo>
                        <a:pt x="0" y="4183"/>
                      </a:lnTo>
                      <a:lnTo>
                        <a:pt x="48" y="4183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6667560" y="1914480"/>
                  <a:ext cx="606600" cy="6480"/>
                </a:xfrm>
                <a:custGeom>
                  <a:avLst/>
                  <a:gdLst/>
                  <a:ahLst/>
                  <a:rect l="l" t="t" r="r" b="b"/>
                  <a:pathLst>
                    <a:path w="9189" h="96">
                      <a:moveTo>
                        <a:pt x="9189" y="48"/>
                      </a:moveTo>
                      <a:lnTo>
                        <a:pt x="9141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9141" y="96"/>
                      </a:lnTo>
                      <a:lnTo>
                        <a:pt x="9189" y="48"/>
                      </a:lnTo>
                      <a:lnTo>
                        <a:pt x="9141" y="96"/>
                      </a:lnTo>
                      <a:lnTo>
                        <a:pt x="9189" y="96"/>
                      </a:lnTo>
                      <a:lnTo>
                        <a:pt x="9189" y="48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7267680" y="1639800"/>
                  <a:ext cx="6480" cy="277920"/>
                </a:xfrm>
                <a:custGeom>
                  <a:avLst/>
                  <a:gdLst/>
                  <a:ahLst/>
                  <a:rect l="l" t="t" r="r" b="b"/>
                  <a:pathLst>
                    <a:path w="96" h="4183">
                      <a:moveTo>
                        <a:pt x="48" y="0"/>
                      </a:moveTo>
                      <a:lnTo>
                        <a:pt x="0" y="48"/>
                      </a:lnTo>
                      <a:lnTo>
                        <a:pt x="0" y="4183"/>
                      </a:lnTo>
                      <a:lnTo>
                        <a:pt x="96" y="4183"/>
                      </a:lnTo>
                      <a:lnTo>
                        <a:pt x="96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664320" y="1639800"/>
                  <a:ext cx="606600" cy="6480"/>
                </a:xfrm>
                <a:custGeom>
                  <a:avLst/>
                  <a:gdLst/>
                  <a:ahLst/>
                  <a:rect l="l" t="t" r="r" b="b"/>
                  <a:pathLst>
                    <a:path w="9189" h="96">
                      <a:moveTo>
                        <a:pt x="0" y="48"/>
                      </a:moveTo>
                      <a:lnTo>
                        <a:pt x="48" y="96"/>
                      </a:lnTo>
                      <a:lnTo>
                        <a:pt x="9189" y="96"/>
                      </a:lnTo>
                      <a:lnTo>
                        <a:pt x="9189" y="0"/>
                      </a:lnTo>
                      <a:lnTo>
                        <a:pt x="48" y="0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7270920" y="1459080"/>
                  <a:ext cx="223560" cy="458640"/>
                </a:xfrm>
                <a:custGeom>
                  <a:avLst/>
                  <a:gdLst/>
                  <a:ahLst/>
                  <a:rect l="l" t="t" r="r" b="b"/>
                  <a:pathLst>
                    <a:path w="3368" h="6923">
                      <a:moveTo>
                        <a:pt x="0" y="2788"/>
                      </a:moveTo>
                      <a:lnTo>
                        <a:pt x="0" y="6923"/>
                      </a:lnTo>
                      <a:lnTo>
                        <a:pt x="3368" y="4134"/>
                      </a:lnTo>
                      <a:lnTo>
                        <a:pt x="3368" y="0"/>
                      </a:lnTo>
                      <a:lnTo>
                        <a:pt x="0" y="2788"/>
                      </a:lnTo>
                      <a:close/>
                    </a:path>
                  </a:pathLst>
                </a:custGeom>
                <a:solidFill>
                  <a:srgbClr val="104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7267680" y="1643040"/>
                  <a:ext cx="6480" cy="281160"/>
                </a:xfrm>
                <a:custGeom>
                  <a:avLst/>
                  <a:gdLst/>
                  <a:ahLst/>
                  <a:rect l="l" t="t" r="r" b="b"/>
                  <a:pathLst>
                    <a:path w="96" h="4236">
                      <a:moveTo>
                        <a:pt x="79" y="4172"/>
                      </a:moveTo>
                      <a:lnTo>
                        <a:pt x="96" y="4135"/>
                      </a:lnTo>
                      <a:lnTo>
                        <a:pt x="96" y="0"/>
                      </a:lnTo>
                      <a:lnTo>
                        <a:pt x="0" y="0"/>
                      </a:lnTo>
                      <a:lnTo>
                        <a:pt x="0" y="4135"/>
                      </a:lnTo>
                      <a:lnTo>
                        <a:pt x="79" y="4172"/>
                      </a:lnTo>
                      <a:lnTo>
                        <a:pt x="0" y="4135"/>
                      </a:lnTo>
                      <a:lnTo>
                        <a:pt x="0" y="4236"/>
                      </a:lnTo>
                      <a:lnTo>
                        <a:pt x="79" y="4172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7269120" y="1730520"/>
                  <a:ext cx="228600" cy="189000"/>
                </a:xfrm>
                <a:custGeom>
                  <a:avLst/>
                  <a:gdLst/>
                  <a:ahLst/>
                  <a:rect l="l" t="t" r="r" b="b"/>
                  <a:pathLst>
                    <a:path w="3447" h="2863">
                      <a:moveTo>
                        <a:pt x="3447" y="37"/>
                      </a:moveTo>
                      <a:lnTo>
                        <a:pt x="3368" y="0"/>
                      </a:lnTo>
                      <a:lnTo>
                        <a:pt x="0" y="2789"/>
                      </a:lnTo>
                      <a:lnTo>
                        <a:pt x="62" y="2863"/>
                      </a:lnTo>
                      <a:lnTo>
                        <a:pt x="3430" y="74"/>
                      </a:lnTo>
                      <a:lnTo>
                        <a:pt x="3447" y="37"/>
                      </a:lnTo>
                      <a:lnTo>
                        <a:pt x="3430" y="74"/>
                      </a:lnTo>
                      <a:lnTo>
                        <a:pt x="3447" y="59"/>
                      </a:lnTo>
                      <a:lnTo>
                        <a:pt x="3447" y="37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7491600" y="1452600"/>
                  <a:ext cx="6120" cy="279360"/>
                </a:xfrm>
                <a:custGeom>
                  <a:avLst/>
                  <a:gdLst/>
                  <a:ahLst/>
                  <a:rect l="l" t="t" r="r" b="b"/>
                  <a:pathLst>
                    <a:path w="96" h="4236">
                      <a:moveTo>
                        <a:pt x="17" y="65"/>
                      </a:moveTo>
                      <a:lnTo>
                        <a:pt x="0" y="102"/>
                      </a:lnTo>
                      <a:lnTo>
                        <a:pt x="0" y="4236"/>
                      </a:lnTo>
                      <a:lnTo>
                        <a:pt x="96" y="4236"/>
                      </a:lnTo>
                      <a:lnTo>
                        <a:pt x="96" y="102"/>
                      </a:lnTo>
                      <a:lnTo>
                        <a:pt x="17" y="65"/>
                      </a:lnTo>
                      <a:lnTo>
                        <a:pt x="96" y="102"/>
                      </a:lnTo>
                      <a:lnTo>
                        <a:pt x="96" y="0"/>
                      </a:lnTo>
                      <a:lnTo>
                        <a:pt x="17" y="65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7267680" y="1457280"/>
                  <a:ext cx="228600" cy="189000"/>
                </a:xfrm>
                <a:custGeom>
                  <a:avLst/>
                  <a:gdLst/>
                  <a:ahLst/>
                  <a:rect l="l" t="t" r="r" b="b"/>
                  <a:pathLst>
                    <a:path w="3447" h="2862">
                      <a:moveTo>
                        <a:pt x="0" y="2825"/>
                      </a:moveTo>
                      <a:lnTo>
                        <a:pt x="79" y="2862"/>
                      </a:lnTo>
                      <a:lnTo>
                        <a:pt x="3447" y="74"/>
                      </a:lnTo>
                      <a:lnTo>
                        <a:pt x="3385" y="0"/>
                      </a:lnTo>
                      <a:lnTo>
                        <a:pt x="17" y="2788"/>
                      </a:lnTo>
                      <a:lnTo>
                        <a:pt x="0" y="2825"/>
                      </a:lnTo>
                      <a:lnTo>
                        <a:pt x="17" y="2788"/>
                      </a:lnTo>
                      <a:lnTo>
                        <a:pt x="0" y="2803"/>
                      </a:lnTo>
                      <a:lnTo>
                        <a:pt x="0" y="2825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6443640" y="1459080"/>
                  <a:ext cx="223920" cy="458640"/>
                </a:xfrm>
                <a:custGeom>
                  <a:avLst/>
                  <a:gdLst/>
                  <a:ahLst/>
                  <a:rect l="l" t="t" r="r" b="b"/>
                  <a:pathLst>
                    <a:path w="3368" h="6923">
                      <a:moveTo>
                        <a:pt x="3368" y="2788"/>
                      </a:moveTo>
                      <a:lnTo>
                        <a:pt x="3368" y="6923"/>
                      </a:lnTo>
                      <a:lnTo>
                        <a:pt x="0" y="3942"/>
                      </a:lnTo>
                      <a:lnTo>
                        <a:pt x="0" y="0"/>
                      </a:lnTo>
                      <a:lnTo>
                        <a:pt x="3368" y="2788"/>
                      </a:lnTo>
                      <a:close/>
                    </a:path>
                  </a:pathLst>
                </a:custGeom>
                <a:solidFill>
                  <a:srgbClr val="3caf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6664320" y="1643040"/>
                  <a:ext cx="6480" cy="281160"/>
                </a:xfrm>
                <a:custGeom>
                  <a:avLst/>
                  <a:gdLst/>
                  <a:ahLst/>
                  <a:rect l="l" t="t" r="r" b="b"/>
                  <a:pathLst>
                    <a:path w="96" h="4240">
                      <a:moveTo>
                        <a:pt x="17" y="4170"/>
                      </a:moveTo>
                      <a:lnTo>
                        <a:pt x="96" y="4135"/>
                      </a:lnTo>
                      <a:lnTo>
                        <a:pt x="96" y="0"/>
                      </a:lnTo>
                      <a:lnTo>
                        <a:pt x="0" y="0"/>
                      </a:lnTo>
                      <a:lnTo>
                        <a:pt x="0" y="4135"/>
                      </a:lnTo>
                      <a:lnTo>
                        <a:pt x="17" y="4170"/>
                      </a:lnTo>
                      <a:lnTo>
                        <a:pt x="17" y="4170"/>
                      </a:lnTo>
                      <a:lnTo>
                        <a:pt x="96" y="4240"/>
                      </a:lnTo>
                      <a:lnTo>
                        <a:pt x="96" y="4135"/>
                      </a:lnTo>
                      <a:lnTo>
                        <a:pt x="17" y="4170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6440400" y="1717920"/>
                  <a:ext cx="228600" cy="201600"/>
                </a:xfrm>
                <a:custGeom>
                  <a:avLst/>
                  <a:gdLst/>
                  <a:ahLst/>
                  <a:rect l="l" t="t" r="r" b="b"/>
                  <a:pathLst>
                    <a:path w="3448" h="3052">
                      <a:moveTo>
                        <a:pt x="0" y="36"/>
                      </a:moveTo>
                      <a:lnTo>
                        <a:pt x="17" y="72"/>
                      </a:lnTo>
                      <a:lnTo>
                        <a:pt x="3385" y="3052"/>
                      </a:lnTo>
                      <a:lnTo>
                        <a:pt x="3448" y="2981"/>
                      </a:lnTo>
                      <a:lnTo>
                        <a:pt x="80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1" y="57"/>
                      </a:lnTo>
                      <a:lnTo>
                        <a:pt x="17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6440400" y="1452600"/>
                  <a:ext cx="6480" cy="266760"/>
                </a:xfrm>
                <a:custGeom>
                  <a:avLst/>
                  <a:gdLst/>
                  <a:ahLst/>
                  <a:rect l="l" t="t" r="r" b="b"/>
                  <a:pathLst>
                    <a:path w="96" h="4044">
                      <a:moveTo>
                        <a:pt x="79" y="65"/>
                      </a:moveTo>
                      <a:lnTo>
                        <a:pt x="0" y="102"/>
                      </a:lnTo>
                      <a:lnTo>
                        <a:pt x="0" y="4044"/>
                      </a:lnTo>
                      <a:lnTo>
                        <a:pt x="96" y="4044"/>
                      </a:lnTo>
                      <a:lnTo>
                        <a:pt x="96" y="102"/>
                      </a:lnTo>
                      <a:lnTo>
                        <a:pt x="79" y="65"/>
                      </a:lnTo>
                      <a:lnTo>
                        <a:pt x="79" y="65"/>
                      </a:lnTo>
                      <a:lnTo>
                        <a:pt x="0" y="0"/>
                      </a:lnTo>
                      <a:lnTo>
                        <a:pt x="0" y="102"/>
                      </a:lnTo>
                      <a:lnTo>
                        <a:pt x="79" y="65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6442200" y="1457280"/>
                  <a:ext cx="228600" cy="189000"/>
                </a:xfrm>
                <a:custGeom>
                  <a:avLst/>
                  <a:gdLst/>
                  <a:ahLst/>
                  <a:rect l="l" t="t" r="r" b="b"/>
                  <a:pathLst>
                    <a:path w="3446" h="2862">
                      <a:moveTo>
                        <a:pt x="3446" y="2825"/>
                      </a:moveTo>
                      <a:lnTo>
                        <a:pt x="3429" y="2788"/>
                      </a:lnTo>
                      <a:lnTo>
                        <a:pt x="61" y="0"/>
                      </a:lnTo>
                      <a:lnTo>
                        <a:pt x="0" y="74"/>
                      </a:lnTo>
                      <a:lnTo>
                        <a:pt x="3368" y="2862"/>
                      </a:lnTo>
                      <a:lnTo>
                        <a:pt x="3446" y="2825"/>
                      </a:lnTo>
                      <a:lnTo>
                        <a:pt x="3446" y="2825"/>
                      </a:lnTo>
                      <a:lnTo>
                        <a:pt x="3446" y="2803"/>
                      </a:lnTo>
                      <a:lnTo>
                        <a:pt x="3429" y="2788"/>
                      </a:lnTo>
                      <a:lnTo>
                        <a:pt x="3446" y="2825"/>
                      </a:lnTo>
                      <a:close/>
                    </a:path>
                  </a:pathLst>
                </a:custGeom>
                <a:solidFill>
                  <a:srgbClr val="aed8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6718320" y="1463760"/>
                  <a:ext cx="484200" cy="19080"/>
                </a:xfrm>
                <a:prstGeom prst="rect">
                  <a:avLst/>
                </a:pr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6724800" y="1339920"/>
                  <a:ext cx="125280" cy="19080"/>
                </a:xfrm>
                <a:custGeom>
                  <a:avLst/>
                  <a:gdLst/>
                  <a:ahLst/>
                  <a:rect l="l" t="t" r="r" b="b"/>
                  <a:pathLst>
                    <a:path w="1885" h="288">
                      <a:moveTo>
                        <a:pt x="1885" y="42"/>
                      </a:moveTo>
                      <a:lnTo>
                        <a:pt x="1783" y="0"/>
                      </a:lnTo>
                      <a:lnTo>
                        <a:pt x="0" y="0"/>
                      </a:lnTo>
                      <a:lnTo>
                        <a:pt x="0" y="288"/>
                      </a:lnTo>
                      <a:lnTo>
                        <a:pt x="1783" y="288"/>
                      </a:lnTo>
                      <a:lnTo>
                        <a:pt x="1885" y="42"/>
                      </a:lnTo>
                      <a:lnTo>
                        <a:pt x="1885" y="42"/>
                      </a:lnTo>
                      <a:lnTo>
                        <a:pt x="1843" y="0"/>
                      </a:lnTo>
                      <a:lnTo>
                        <a:pt x="1783" y="0"/>
                      </a:lnTo>
                      <a:lnTo>
                        <a:pt x="1885" y="4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6835680" y="1343160"/>
                  <a:ext cx="262080" cy="266760"/>
                </a:xfrm>
                <a:custGeom>
                  <a:avLst/>
                  <a:gdLst/>
                  <a:ahLst/>
                  <a:rect l="l" t="t" r="r" b="b"/>
                  <a:pathLst>
                    <a:path w="3970" h="4038">
                      <a:moveTo>
                        <a:pt x="3868" y="4038"/>
                      </a:moveTo>
                      <a:lnTo>
                        <a:pt x="3970" y="3792"/>
                      </a:lnTo>
                      <a:lnTo>
                        <a:pt x="204" y="0"/>
                      </a:lnTo>
                      <a:lnTo>
                        <a:pt x="0" y="203"/>
                      </a:lnTo>
                      <a:lnTo>
                        <a:pt x="3766" y="3995"/>
                      </a:lnTo>
                      <a:lnTo>
                        <a:pt x="3868" y="4038"/>
                      </a:lnTo>
                      <a:lnTo>
                        <a:pt x="3766" y="3995"/>
                      </a:lnTo>
                      <a:lnTo>
                        <a:pt x="3809" y="4038"/>
                      </a:lnTo>
                      <a:lnTo>
                        <a:pt x="3868" y="4038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7091280" y="1590840"/>
                  <a:ext cx="104760" cy="19080"/>
                </a:xfrm>
                <a:prstGeom prst="rect">
                  <a:avLst/>
                </a:pr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7085160" y="1339920"/>
                  <a:ext cx="110880" cy="19080"/>
                </a:xfrm>
                <a:custGeom>
                  <a:avLst/>
                  <a:gdLst/>
                  <a:ahLst/>
                  <a:rect l="l" t="t" r="r" b="b"/>
                  <a:pathLst>
                    <a:path w="1688" h="288">
                      <a:moveTo>
                        <a:pt x="0" y="42"/>
                      </a:moveTo>
                      <a:lnTo>
                        <a:pt x="102" y="288"/>
                      </a:lnTo>
                      <a:lnTo>
                        <a:pt x="1688" y="288"/>
                      </a:lnTo>
                      <a:lnTo>
                        <a:pt x="1688" y="0"/>
                      </a:lnTo>
                      <a:lnTo>
                        <a:pt x="102" y="0"/>
                      </a:lnTo>
                      <a:lnTo>
                        <a:pt x="0" y="42"/>
                      </a:lnTo>
                      <a:lnTo>
                        <a:pt x="102" y="0"/>
                      </a:lnTo>
                      <a:lnTo>
                        <a:pt x="43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6835680" y="1343160"/>
                  <a:ext cx="262080" cy="266760"/>
                </a:xfrm>
                <a:custGeom>
                  <a:avLst/>
                  <a:gdLst/>
                  <a:ahLst/>
                  <a:rect l="l" t="t" r="r" b="b"/>
                  <a:pathLst>
                    <a:path w="3970" h="4038">
                      <a:moveTo>
                        <a:pt x="102" y="4038"/>
                      </a:moveTo>
                      <a:lnTo>
                        <a:pt x="204" y="3995"/>
                      </a:lnTo>
                      <a:lnTo>
                        <a:pt x="3970" y="203"/>
                      </a:lnTo>
                      <a:lnTo>
                        <a:pt x="3766" y="0"/>
                      </a:lnTo>
                      <a:lnTo>
                        <a:pt x="0" y="3792"/>
                      </a:lnTo>
                      <a:lnTo>
                        <a:pt x="102" y="4038"/>
                      </a:lnTo>
                      <a:lnTo>
                        <a:pt x="102" y="4038"/>
                      </a:lnTo>
                      <a:lnTo>
                        <a:pt x="162" y="4038"/>
                      </a:lnTo>
                      <a:lnTo>
                        <a:pt x="204" y="3995"/>
                      </a:lnTo>
                      <a:lnTo>
                        <a:pt x="102" y="4038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724800" y="1590840"/>
                  <a:ext cx="117360" cy="19080"/>
                </a:xfrm>
                <a:prstGeom prst="rect">
                  <a:avLst/>
                </a:pr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6956640" y="1336680"/>
                  <a:ext cx="18720" cy="277920"/>
                </a:xfrm>
                <a:prstGeom prst="rect">
                  <a:avLst/>
                </a:pr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6713640" y="1460520"/>
                  <a:ext cx="485640" cy="19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6720120" y="1336680"/>
                  <a:ext cx="125280" cy="19080"/>
                </a:xfrm>
                <a:custGeom>
                  <a:avLst/>
                  <a:gdLst/>
                  <a:ahLst/>
                  <a:rect l="l" t="t" r="r" b="b"/>
                  <a:pathLst>
                    <a:path w="1886" h="288">
                      <a:moveTo>
                        <a:pt x="1886" y="42"/>
                      </a:moveTo>
                      <a:lnTo>
                        <a:pt x="1784" y="0"/>
                      </a:lnTo>
                      <a:lnTo>
                        <a:pt x="0" y="0"/>
                      </a:lnTo>
                      <a:lnTo>
                        <a:pt x="0" y="288"/>
                      </a:lnTo>
                      <a:lnTo>
                        <a:pt x="1784" y="288"/>
                      </a:lnTo>
                      <a:lnTo>
                        <a:pt x="1886" y="42"/>
                      </a:lnTo>
                      <a:lnTo>
                        <a:pt x="1886" y="42"/>
                      </a:lnTo>
                      <a:lnTo>
                        <a:pt x="1844" y="0"/>
                      </a:lnTo>
                      <a:lnTo>
                        <a:pt x="1784" y="0"/>
                      </a:lnTo>
                      <a:lnTo>
                        <a:pt x="1886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6831000" y="1339920"/>
                  <a:ext cx="263520" cy="266760"/>
                </a:xfrm>
                <a:custGeom>
                  <a:avLst/>
                  <a:gdLst/>
                  <a:ahLst/>
                  <a:rect l="l" t="t" r="r" b="b"/>
                  <a:pathLst>
                    <a:path w="3970" h="4038">
                      <a:moveTo>
                        <a:pt x="3868" y="4038"/>
                      </a:moveTo>
                      <a:lnTo>
                        <a:pt x="3970" y="3792"/>
                      </a:lnTo>
                      <a:lnTo>
                        <a:pt x="204" y="0"/>
                      </a:lnTo>
                      <a:lnTo>
                        <a:pt x="0" y="203"/>
                      </a:lnTo>
                      <a:lnTo>
                        <a:pt x="3765" y="3995"/>
                      </a:lnTo>
                      <a:lnTo>
                        <a:pt x="3868" y="4038"/>
                      </a:lnTo>
                      <a:lnTo>
                        <a:pt x="3765" y="3995"/>
                      </a:lnTo>
                      <a:lnTo>
                        <a:pt x="3807" y="4038"/>
                      </a:lnTo>
                      <a:lnTo>
                        <a:pt x="3868" y="40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7088400" y="1587600"/>
                  <a:ext cx="104760" cy="19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7080480" y="1336680"/>
                  <a:ext cx="112680" cy="19080"/>
                </a:xfrm>
                <a:custGeom>
                  <a:avLst/>
                  <a:gdLst/>
                  <a:ahLst/>
                  <a:rect l="l" t="t" r="r" b="b"/>
                  <a:pathLst>
                    <a:path w="1688" h="288">
                      <a:moveTo>
                        <a:pt x="0" y="42"/>
                      </a:moveTo>
                      <a:lnTo>
                        <a:pt x="103" y="288"/>
                      </a:lnTo>
                      <a:lnTo>
                        <a:pt x="1688" y="288"/>
                      </a:lnTo>
                      <a:lnTo>
                        <a:pt x="1688" y="0"/>
                      </a:lnTo>
                      <a:lnTo>
                        <a:pt x="103" y="0"/>
                      </a:lnTo>
                      <a:lnTo>
                        <a:pt x="0" y="42"/>
                      </a:lnTo>
                      <a:lnTo>
                        <a:pt x="103" y="0"/>
                      </a:lnTo>
                      <a:lnTo>
                        <a:pt x="42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831000" y="1339920"/>
                  <a:ext cx="263520" cy="266760"/>
                </a:xfrm>
                <a:custGeom>
                  <a:avLst/>
                  <a:gdLst/>
                  <a:ahLst/>
                  <a:rect l="l" t="t" r="r" b="b"/>
                  <a:pathLst>
                    <a:path w="3970" h="4038">
                      <a:moveTo>
                        <a:pt x="102" y="4038"/>
                      </a:moveTo>
                      <a:lnTo>
                        <a:pt x="204" y="3995"/>
                      </a:lnTo>
                      <a:lnTo>
                        <a:pt x="3970" y="203"/>
                      </a:lnTo>
                      <a:lnTo>
                        <a:pt x="3765" y="0"/>
                      </a:lnTo>
                      <a:lnTo>
                        <a:pt x="0" y="3792"/>
                      </a:lnTo>
                      <a:lnTo>
                        <a:pt x="102" y="4038"/>
                      </a:lnTo>
                      <a:lnTo>
                        <a:pt x="102" y="4038"/>
                      </a:lnTo>
                      <a:lnTo>
                        <a:pt x="162" y="4038"/>
                      </a:lnTo>
                      <a:lnTo>
                        <a:pt x="204" y="3995"/>
                      </a:lnTo>
                      <a:lnTo>
                        <a:pt x="102" y="40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6720120" y="1587600"/>
                  <a:ext cx="118800" cy="19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6951600" y="1333440"/>
                  <a:ext cx="19080" cy="27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6811920" y="1654200"/>
                  <a:ext cx="320760" cy="249120"/>
                </a:xfrm>
                <a:custGeom>
                  <a:avLst/>
                  <a:gdLst/>
                  <a:ahLst/>
                  <a:rect l="l" t="t" r="r" b="b"/>
                  <a:pathLst>
                    <a:path w="4853" h="3757">
                      <a:moveTo>
                        <a:pt x="1010" y="2849"/>
                      </a:moveTo>
                      <a:lnTo>
                        <a:pt x="2151" y="2849"/>
                      </a:lnTo>
                      <a:lnTo>
                        <a:pt x="2151" y="3225"/>
                      </a:lnTo>
                      <a:lnTo>
                        <a:pt x="1877" y="3225"/>
                      </a:lnTo>
                      <a:lnTo>
                        <a:pt x="2408" y="3757"/>
                      </a:lnTo>
                      <a:lnTo>
                        <a:pt x="2938" y="3226"/>
                      </a:lnTo>
                      <a:lnTo>
                        <a:pt x="2692" y="3226"/>
                      </a:lnTo>
                      <a:lnTo>
                        <a:pt x="2692" y="2836"/>
                      </a:lnTo>
                      <a:lnTo>
                        <a:pt x="3338" y="2843"/>
                      </a:lnTo>
                      <a:lnTo>
                        <a:pt x="3646" y="2843"/>
                      </a:lnTo>
                      <a:lnTo>
                        <a:pt x="3853" y="2841"/>
                      </a:lnTo>
                      <a:lnTo>
                        <a:pt x="3853" y="2163"/>
                      </a:lnTo>
                      <a:lnTo>
                        <a:pt x="4321" y="2163"/>
                      </a:lnTo>
                      <a:lnTo>
                        <a:pt x="4321" y="2435"/>
                      </a:lnTo>
                      <a:lnTo>
                        <a:pt x="4853" y="1905"/>
                      </a:lnTo>
                      <a:lnTo>
                        <a:pt x="4322" y="1375"/>
                      </a:lnTo>
                      <a:lnTo>
                        <a:pt x="4322" y="1622"/>
                      </a:lnTo>
                      <a:lnTo>
                        <a:pt x="3839" y="1622"/>
                      </a:lnTo>
                      <a:lnTo>
                        <a:pt x="3839" y="917"/>
                      </a:lnTo>
                      <a:lnTo>
                        <a:pt x="3839" y="907"/>
                      </a:lnTo>
                      <a:lnTo>
                        <a:pt x="3663" y="907"/>
                      </a:lnTo>
                      <a:lnTo>
                        <a:pt x="2679" y="907"/>
                      </a:lnTo>
                      <a:lnTo>
                        <a:pt x="2679" y="532"/>
                      </a:lnTo>
                      <a:lnTo>
                        <a:pt x="2952" y="532"/>
                      </a:lnTo>
                      <a:lnTo>
                        <a:pt x="2421" y="0"/>
                      </a:lnTo>
                      <a:lnTo>
                        <a:pt x="1890" y="530"/>
                      </a:lnTo>
                      <a:lnTo>
                        <a:pt x="2138" y="530"/>
                      </a:lnTo>
                      <a:lnTo>
                        <a:pt x="2138" y="920"/>
                      </a:lnTo>
                      <a:lnTo>
                        <a:pt x="1780" y="920"/>
                      </a:lnTo>
                      <a:lnTo>
                        <a:pt x="1780" y="917"/>
                      </a:lnTo>
                      <a:lnTo>
                        <a:pt x="1000" y="917"/>
                      </a:lnTo>
                      <a:lnTo>
                        <a:pt x="1000" y="1595"/>
                      </a:lnTo>
                      <a:lnTo>
                        <a:pt x="532" y="1595"/>
                      </a:lnTo>
                      <a:lnTo>
                        <a:pt x="532" y="1323"/>
                      </a:lnTo>
                      <a:lnTo>
                        <a:pt x="0" y="1853"/>
                      </a:lnTo>
                      <a:lnTo>
                        <a:pt x="531" y="2383"/>
                      </a:lnTo>
                      <a:lnTo>
                        <a:pt x="531" y="2137"/>
                      </a:lnTo>
                      <a:lnTo>
                        <a:pt x="1014" y="2137"/>
                      </a:lnTo>
                      <a:lnTo>
                        <a:pt x="1010" y="284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6808680" y="1768680"/>
                  <a:ext cx="5040" cy="11160"/>
                </a:xfrm>
                <a:custGeom>
                  <a:avLst/>
                  <a:gdLst/>
                  <a:ahLst/>
                  <a:rect l="l" t="t" r="r" b="b"/>
                  <a:pathLst>
                    <a:path w="86" h="172">
                      <a:moveTo>
                        <a:pt x="86" y="0"/>
                      </a:moveTo>
                      <a:lnTo>
                        <a:pt x="86" y="172"/>
                      </a:lnTo>
                      <a:lnTo>
                        <a:pt x="0" y="86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d932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6810480" y="1765440"/>
                  <a:ext cx="6480" cy="17280"/>
                </a:xfrm>
                <a:custGeom>
                  <a:avLst/>
                  <a:gdLst/>
                  <a:ahLst/>
                  <a:rect l="l" t="t" r="r" b="b"/>
                  <a:pathLst>
                    <a:path w="99" h="270">
                      <a:moveTo>
                        <a:pt x="0" y="171"/>
                      </a:moveTo>
                      <a:lnTo>
                        <a:pt x="0" y="98"/>
                      </a:lnTo>
                      <a:lnTo>
                        <a:pt x="99" y="0"/>
                      </a:lnTo>
                      <a:lnTo>
                        <a:pt x="99" y="270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db41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6813720" y="1762200"/>
                  <a:ext cx="7920" cy="23760"/>
                </a:xfrm>
                <a:custGeom>
                  <a:avLst/>
                  <a:gdLst/>
                  <a:ahLst/>
                  <a:rect l="l" t="t" r="r" b="b"/>
                  <a:pathLst>
                    <a:path w="99" h="368">
                      <a:moveTo>
                        <a:pt x="0" y="270"/>
                      </a:moveTo>
                      <a:lnTo>
                        <a:pt x="0" y="98"/>
                      </a:lnTo>
                      <a:lnTo>
                        <a:pt x="99" y="0"/>
                      </a:lnTo>
                      <a:lnTo>
                        <a:pt x="99" y="368"/>
                      </a:lnTo>
                      <a:lnTo>
                        <a:pt x="0" y="270"/>
                      </a:lnTo>
                      <a:close/>
                    </a:path>
                  </a:pathLst>
                </a:custGeom>
                <a:solidFill>
                  <a:srgbClr val="dd4d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6816960" y="1758960"/>
                  <a:ext cx="7920" cy="30240"/>
                </a:xfrm>
                <a:custGeom>
                  <a:avLst/>
                  <a:gdLst/>
                  <a:ahLst/>
                  <a:rect l="l" t="t" r="r" b="b"/>
                  <a:pathLst>
                    <a:path w="99" h="466">
                      <a:moveTo>
                        <a:pt x="0" y="368"/>
                      </a:moveTo>
                      <a:lnTo>
                        <a:pt x="0" y="98"/>
                      </a:lnTo>
                      <a:lnTo>
                        <a:pt x="99" y="0"/>
                      </a:lnTo>
                      <a:lnTo>
                        <a:pt x="99" y="466"/>
                      </a:lnTo>
                      <a:lnTo>
                        <a:pt x="0" y="368"/>
                      </a:lnTo>
                      <a:close/>
                    </a:path>
                  </a:pathLst>
                </a:custGeom>
                <a:solidFill>
                  <a:srgbClr val="df58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6821640" y="1755720"/>
                  <a:ext cx="6120" cy="36720"/>
                </a:xfrm>
                <a:custGeom>
                  <a:avLst/>
                  <a:gdLst/>
                  <a:ahLst/>
                  <a:rect l="l" t="t" r="r" b="b"/>
                  <a:pathLst>
                    <a:path w="98" h="565">
                      <a:moveTo>
                        <a:pt x="0" y="466"/>
                      </a:moveTo>
                      <a:lnTo>
                        <a:pt x="0" y="98"/>
                      </a:lnTo>
                      <a:lnTo>
                        <a:pt x="98" y="0"/>
                      </a:lnTo>
                      <a:lnTo>
                        <a:pt x="98" y="565"/>
                      </a:lnTo>
                      <a:lnTo>
                        <a:pt x="0" y="466"/>
                      </a:lnTo>
                      <a:close/>
                    </a:path>
                  </a:pathLst>
                </a:custGeom>
                <a:solidFill>
                  <a:srgbClr val="e06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6824880" y="1752840"/>
                  <a:ext cx="6120" cy="42840"/>
                </a:xfrm>
                <a:custGeom>
                  <a:avLst/>
                  <a:gdLst/>
                  <a:ahLst/>
                  <a:rect l="l" t="t" r="r" b="b"/>
                  <a:pathLst>
                    <a:path w="98" h="663">
                      <a:moveTo>
                        <a:pt x="0" y="564"/>
                      </a:moveTo>
                      <a:lnTo>
                        <a:pt x="0" y="98"/>
                      </a:lnTo>
                      <a:lnTo>
                        <a:pt x="98" y="0"/>
                      </a:lnTo>
                      <a:lnTo>
                        <a:pt x="98" y="663"/>
                      </a:lnTo>
                      <a:lnTo>
                        <a:pt x="0" y="564"/>
                      </a:lnTo>
                      <a:close/>
                    </a:path>
                  </a:pathLst>
                </a:custGeom>
                <a:solidFill>
                  <a:srgbClr val="e26d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6827760" y="1749600"/>
                  <a:ext cx="6480" cy="48960"/>
                </a:xfrm>
                <a:custGeom>
                  <a:avLst/>
                  <a:gdLst/>
                  <a:ahLst/>
                  <a:rect l="l" t="t" r="r" b="b"/>
                  <a:pathLst>
                    <a:path w="98" h="762">
                      <a:moveTo>
                        <a:pt x="0" y="664"/>
                      </a:moveTo>
                      <a:lnTo>
                        <a:pt x="0" y="99"/>
                      </a:lnTo>
                      <a:lnTo>
                        <a:pt x="98" y="0"/>
                      </a:lnTo>
                      <a:lnTo>
                        <a:pt x="98" y="762"/>
                      </a:lnTo>
                      <a:lnTo>
                        <a:pt x="0" y="664"/>
                      </a:lnTo>
                      <a:close/>
                    </a:path>
                  </a:pathLst>
                </a:custGeom>
                <a:solidFill>
                  <a:srgbClr val="e477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831000" y="1746360"/>
                  <a:ext cx="6480" cy="57240"/>
                </a:xfrm>
                <a:custGeom>
                  <a:avLst/>
                  <a:gdLst/>
                  <a:ahLst/>
                  <a:rect l="l" t="t" r="r" b="b"/>
                  <a:pathLst>
                    <a:path w="99" h="861">
                      <a:moveTo>
                        <a:pt x="0" y="762"/>
                      </a:moveTo>
                      <a:lnTo>
                        <a:pt x="0" y="99"/>
                      </a:lnTo>
                      <a:lnTo>
                        <a:pt x="99" y="0"/>
                      </a:lnTo>
                      <a:lnTo>
                        <a:pt x="99" y="861"/>
                      </a:lnTo>
                      <a:lnTo>
                        <a:pt x="0" y="762"/>
                      </a:lnTo>
                      <a:close/>
                    </a:path>
                  </a:pathLst>
                </a:custGeom>
                <a:solidFill>
                  <a:srgbClr val="e480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6834240" y="1743120"/>
                  <a:ext cx="6480" cy="63720"/>
                </a:xfrm>
                <a:custGeom>
                  <a:avLst/>
                  <a:gdLst/>
                  <a:ahLst/>
                  <a:rect l="l" t="t" r="r" b="b"/>
                  <a:pathLst>
                    <a:path w="99" h="959">
                      <a:moveTo>
                        <a:pt x="0" y="860"/>
                      </a:moveTo>
                      <a:lnTo>
                        <a:pt x="0" y="98"/>
                      </a:lnTo>
                      <a:lnTo>
                        <a:pt x="99" y="0"/>
                      </a:lnTo>
                      <a:lnTo>
                        <a:pt x="99" y="959"/>
                      </a:lnTo>
                      <a:lnTo>
                        <a:pt x="0" y="860"/>
                      </a:lnTo>
                      <a:close/>
                    </a:path>
                  </a:pathLst>
                </a:custGeom>
                <a:solidFill>
                  <a:srgbClr val="e78b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6837480" y="1739880"/>
                  <a:ext cx="6120" cy="69840"/>
                </a:xfrm>
                <a:custGeom>
                  <a:avLst/>
                  <a:gdLst/>
                  <a:ahLst/>
                  <a:rect l="l" t="t" r="r" b="b"/>
                  <a:pathLst>
                    <a:path w="98" h="1058">
                      <a:moveTo>
                        <a:pt x="0" y="960"/>
                      </a:moveTo>
                      <a:lnTo>
                        <a:pt x="0" y="99"/>
                      </a:lnTo>
                      <a:lnTo>
                        <a:pt x="98" y="0"/>
                      </a:lnTo>
                      <a:lnTo>
                        <a:pt x="98" y="1058"/>
                      </a:lnTo>
                      <a:lnTo>
                        <a:pt x="0" y="960"/>
                      </a:lnTo>
                      <a:close/>
                    </a:path>
                  </a:pathLst>
                </a:custGeom>
                <a:solidFill>
                  <a:srgbClr val="e894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6840720" y="1738440"/>
                  <a:ext cx="6120" cy="71280"/>
                </a:xfrm>
                <a:custGeom>
                  <a:avLst/>
                  <a:gdLst/>
                  <a:ahLst/>
                  <a:rect l="l" t="t" r="r" b="b"/>
                  <a:pathLst>
                    <a:path w="98" h="1061">
                      <a:moveTo>
                        <a:pt x="0" y="1011"/>
                      </a:moveTo>
                      <a:lnTo>
                        <a:pt x="0" y="52"/>
                      </a:lnTo>
                      <a:lnTo>
                        <a:pt x="51" y="0"/>
                      </a:lnTo>
                      <a:lnTo>
                        <a:pt x="51" y="273"/>
                      </a:lnTo>
                      <a:lnTo>
                        <a:pt x="98" y="273"/>
                      </a:lnTo>
                      <a:lnTo>
                        <a:pt x="98" y="814"/>
                      </a:lnTo>
                      <a:lnTo>
                        <a:pt x="50" y="814"/>
                      </a:lnTo>
                      <a:lnTo>
                        <a:pt x="50" y="1061"/>
                      </a:lnTo>
                      <a:lnTo>
                        <a:pt x="0" y="1011"/>
                      </a:lnTo>
                      <a:close/>
                    </a:path>
                  </a:pathLst>
                </a:custGeom>
                <a:solidFill>
                  <a:srgbClr val="eaa0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843600" y="1738440"/>
                  <a:ext cx="6480" cy="71280"/>
                </a:xfrm>
                <a:custGeom>
                  <a:avLst/>
                  <a:gdLst/>
                  <a:ahLst/>
                  <a:rect l="l" t="t" r="r" b="b"/>
                  <a:pathLst>
                    <a:path w="98" h="1061">
                      <a:moveTo>
                        <a:pt x="0" y="1060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273"/>
                      </a:lnTo>
                      <a:lnTo>
                        <a:pt x="98" y="273"/>
                      </a:lnTo>
                      <a:lnTo>
                        <a:pt x="98" y="814"/>
                      </a:lnTo>
                      <a:lnTo>
                        <a:pt x="1" y="814"/>
                      </a:lnTo>
                      <a:lnTo>
                        <a:pt x="1" y="1061"/>
                      </a:lnTo>
                      <a:lnTo>
                        <a:pt x="0" y="1060"/>
                      </a:lnTo>
                      <a:close/>
                    </a:path>
                  </a:pathLst>
                </a:custGeom>
                <a:solidFill>
                  <a:srgbClr val="eca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846840" y="1757520"/>
                  <a:ext cx="6480" cy="34920"/>
                </a:xfrm>
                <a:prstGeom prst="rect">
                  <a:avLst/>
                </a:prstGeom>
                <a:solidFill>
                  <a:srgbClr val="efb6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850080" y="1757520"/>
                  <a:ext cx="6480" cy="34920"/>
                </a:xfrm>
                <a:prstGeom prst="rect">
                  <a:avLst/>
                </a:prstGeom>
                <a:solidFill>
                  <a:srgbClr val="f1c4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853320" y="1757520"/>
                  <a:ext cx="6480" cy="34920"/>
                </a:xfrm>
                <a:prstGeom prst="rect">
                  <a:avLst/>
                </a:prstGeom>
                <a:solidFill>
                  <a:srgbClr val="f2cf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6856560" y="1757520"/>
                  <a:ext cx="6120" cy="34920"/>
                </a:xfrm>
                <a:prstGeom prst="rect">
                  <a:avLst/>
                </a:prstGeom>
                <a:solidFill>
                  <a:srgbClr val="f5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6859800" y="1757520"/>
                  <a:ext cx="6120" cy="34920"/>
                </a:xfrm>
                <a:prstGeom prst="rect">
                  <a:avLst/>
                </a:pr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6862680" y="1757520"/>
                  <a:ext cx="6480" cy="34920"/>
                </a:xfrm>
                <a:prstGeom prst="rect">
                  <a:avLst/>
                </a:pr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6865920" y="1757520"/>
                  <a:ext cx="6480" cy="34920"/>
                </a:xfrm>
                <a:prstGeom prst="rect">
                  <a:avLst/>
                </a:pr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6869160" y="1712880"/>
                  <a:ext cx="6480" cy="127080"/>
                </a:xfrm>
                <a:custGeom>
                  <a:avLst/>
                  <a:gdLst/>
                  <a:ahLst/>
                  <a:rect l="l" t="t" r="r" b="b"/>
                  <a:pathLst>
                    <a:path w="98" h="1932">
                      <a:moveTo>
                        <a:pt x="0" y="1220"/>
                      </a:moveTo>
                      <a:lnTo>
                        <a:pt x="0" y="679"/>
                      </a:lnTo>
                      <a:lnTo>
                        <a:pt x="77" y="679"/>
                      </a:lnTo>
                      <a:lnTo>
                        <a:pt x="77" y="0"/>
                      </a:lnTo>
                      <a:lnTo>
                        <a:pt x="98" y="0"/>
                      </a:lnTo>
                      <a:lnTo>
                        <a:pt x="98" y="1932"/>
                      </a:lnTo>
                      <a:lnTo>
                        <a:pt x="87" y="1932"/>
                      </a:lnTo>
                      <a:lnTo>
                        <a:pt x="90" y="1220"/>
                      </a:lnTo>
                      <a:lnTo>
                        <a:pt x="0" y="1220"/>
                      </a:lnTo>
                      <a:close/>
                    </a:path>
                  </a:pathLst>
                </a:cu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6872400" y="1712880"/>
                  <a:ext cx="6120" cy="127080"/>
                </a:xfrm>
                <a:custGeom>
                  <a:avLst/>
                  <a:gdLst/>
                  <a:ahLst/>
                  <a:rect l="l" t="t" r="r" b="b"/>
                  <a:pathLst>
                    <a:path w="98" h="1932">
                      <a:moveTo>
                        <a:pt x="0" y="1220"/>
                      </a:moveTo>
                      <a:lnTo>
                        <a:pt x="0" y="679"/>
                      </a:lnTo>
                      <a:lnTo>
                        <a:pt x="28" y="679"/>
                      </a:lnTo>
                      <a:lnTo>
                        <a:pt x="28" y="0"/>
                      </a:lnTo>
                      <a:lnTo>
                        <a:pt x="98" y="0"/>
                      </a:lnTo>
                      <a:lnTo>
                        <a:pt x="98" y="1932"/>
                      </a:lnTo>
                      <a:lnTo>
                        <a:pt x="38" y="1932"/>
                      </a:lnTo>
                      <a:lnTo>
                        <a:pt x="41" y="1220"/>
                      </a:lnTo>
                      <a:lnTo>
                        <a:pt x="0" y="1220"/>
                      </a:lnTo>
                      <a:close/>
                    </a:path>
                  </a:pathLst>
                </a:custGeom>
                <a:solidFill>
                  <a:srgbClr val="e1e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6875640" y="1712880"/>
                  <a:ext cx="6120" cy="127080"/>
                </a:xfrm>
                <a:prstGeom prst="rect">
                  <a:avLst/>
                </a:prstGeom>
                <a:solidFill>
                  <a:srgbClr val="cadd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6878520" y="1712880"/>
                  <a:ext cx="8280" cy="127080"/>
                </a:xfrm>
                <a:prstGeom prst="rect">
                  <a:avLst/>
                </a:prstGeom>
                <a:solidFill>
                  <a:srgbClr val="bad7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6881760" y="1712880"/>
                  <a:ext cx="7920" cy="127080"/>
                </a:xfrm>
                <a:prstGeom prst="rect">
                  <a:avLst/>
                </a:prstGeom>
                <a:solidFill>
                  <a:srgbClr val="a7c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6886800" y="1712880"/>
                  <a:ext cx="6120" cy="127080"/>
                </a:xfrm>
                <a:prstGeom prst="rect">
                  <a:avLst/>
                </a:prstGeom>
                <a:solidFill>
                  <a:srgbClr val="97c9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6889680" y="1712880"/>
                  <a:ext cx="6480" cy="127080"/>
                </a:xfrm>
                <a:prstGeom prst="rect">
                  <a:avLst/>
                </a:prstGeom>
                <a:solidFill>
                  <a:srgbClr val="88c3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6892920" y="1712880"/>
                  <a:ext cx="6480" cy="127080"/>
                </a:xfrm>
                <a:prstGeom prst="rect">
                  <a:avLst/>
                </a:prstGeom>
                <a:solidFill>
                  <a:srgbClr val="78bd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6896160" y="1712880"/>
                  <a:ext cx="6480" cy="127080"/>
                </a:xfrm>
                <a:prstGeom prst="rect">
                  <a:avLst/>
                </a:prstGeom>
                <a:solidFill>
                  <a:srgbClr val="69b8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6899400" y="1712880"/>
                  <a:ext cx="6120" cy="127080"/>
                </a:xfrm>
                <a:prstGeom prst="rect">
                  <a:avLst/>
                </a:prstGeom>
                <a:solidFill>
                  <a:srgbClr val="57b3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6902640" y="1712880"/>
                  <a:ext cx="6120" cy="127080"/>
                </a:xfrm>
                <a:prstGeom prst="rect">
                  <a:avLst/>
                </a:prstGeom>
                <a:solidFill>
                  <a:srgbClr val="44ae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905520" y="1712880"/>
                  <a:ext cx="6480" cy="127080"/>
                </a:xfrm>
                <a:prstGeom prst="rect">
                  <a:avLst/>
                </a:prstGeom>
                <a:solidFill>
                  <a:srgbClr val="2aaa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6908760" y="1712880"/>
                  <a:ext cx="6480" cy="127080"/>
                </a:xfrm>
                <a:prstGeom prst="rect">
                  <a:avLst/>
                </a:prstGeom>
                <a:solidFill>
                  <a:srgbClr val="00a5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6912000" y="1712880"/>
                  <a:ext cx="6480" cy="127080"/>
                </a:xfrm>
                <a:prstGeom prst="rect">
                  <a:avLst/>
                </a:prstGeom>
                <a:solidFill>
                  <a:srgbClr val="00a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6915240" y="1712880"/>
                  <a:ext cx="6480" cy="127080"/>
                </a:xfrm>
                <a:prstGeom prst="rect">
                  <a:avLst/>
                </a:prstGeom>
                <a:solidFill>
                  <a:srgbClr val="009c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6918480" y="1712880"/>
                  <a:ext cx="6120" cy="127080"/>
                </a:xfrm>
                <a:prstGeom prst="rect">
                  <a:avLst/>
                </a:prstGeom>
                <a:solidFill>
                  <a:srgbClr val="009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6921720" y="1712880"/>
                  <a:ext cx="6120" cy="127080"/>
                </a:xfrm>
                <a:custGeom>
                  <a:avLst/>
                  <a:gdLst/>
                  <a:ahLst/>
                  <a:rect l="l" t="t" r="r" b="b"/>
                  <a:pathLst>
                    <a:path w="98" h="1932">
                      <a:moveTo>
                        <a:pt x="0" y="1932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68" y="4"/>
                      </a:lnTo>
                      <a:lnTo>
                        <a:pt x="98" y="4"/>
                      </a:lnTo>
                      <a:lnTo>
                        <a:pt x="98" y="1932"/>
                      </a:lnTo>
                      <a:lnTo>
                        <a:pt x="0" y="1932"/>
                      </a:lnTo>
                      <a:close/>
                    </a:path>
                  </a:pathLst>
                </a:custGeom>
                <a:solidFill>
                  <a:srgbClr val="0091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6924600" y="1712880"/>
                  <a:ext cx="6480" cy="127080"/>
                </a:xfrm>
                <a:custGeom>
                  <a:avLst/>
                  <a:gdLst/>
                  <a:ahLst/>
                  <a:rect l="l" t="t" r="r" b="b"/>
                  <a:pathLst>
                    <a:path w="99" h="1932">
                      <a:moveTo>
                        <a:pt x="0" y="1932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4"/>
                      </a:lnTo>
                      <a:lnTo>
                        <a:pt x="99" y="4"/>
                      </a:lnTo>
                      <a:lnTo>
                        <a:pt x="99" y="1932"/>
                      </a:lnTo>
                      <a:lnTo>
                        <a:pt x="0" y="1932"/>
                      </a:lnTo>
                      <a:close/>
                    </a:path>
                  </a:pathLst>
                </a:custGeom>
                <a:solidFill>
                  <a:srgbClr val="008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6927840" y="1685880"/>
                  <a:ext cx="6480" cy="181080"/>
                </a:xfrm>
                <a:custGeom>
                  <a:avLst/>
                  <a:gdLst/>
                  <a:ahLst/>
                  <a:rect l="l" t="t" r="r" b="b"/>
                  <a:pathLst>
                    <a:path w="99" h="2746">
                      <a:moveTo>
                        <a:pt x="0" y="2337"/>
                      </a:moveTo>
                      <a:lnTo>
                        <a:pt x="0" y="409"/>
                      </a:lnTo>
                      <a:lnTo>
                        <a:pt x="99" y="409"/>
                      </a:lnTo>
                      <a:lnTo>
                        <a:pt x="99" y="2337"/>
                      </a:lnTo>
                      <a:lnTo>
                        <a:pt x="0" y="2337"/>
                      </a:lnTo>
                      <a:close/>
                      <a:moveTo>
                        <a:pt x="99" y="0"/>
                      </a:moveTo>
                      <a:lnTo>
                        <a:pt x="99" y="19"/>
                      </a:lnTo>
                      <a:lnTo>
                        <a:pt x="81" y="19"/>
                      </a:lnTo>
                      <a:lnTo>
                        <a:pt x="99" y="0"/>
                      </a:lnTo>
                      <a:close/>
                      <a:moveTo>
                        <a:pt x="99" y="2714"/>
                      </a:moveTo>
                      <a:lnTo>
                        <a:pt x="99" y="2746"/>
                      </a:lnTo>
                      <a:lnTo>
                        <a:pt x="67" y="2714"/>
                      </a:lnTo>
                      <a:lnTo>
                        <a:pt x="99" y="2714"/>
                      </a:lnTo>
                      <a:close/>
                    </a:path>
                  </a:pathLst>
                </a:custGeom>
                <a:solidFill>
                  <a:srgbClr val="0084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6931080" y="1683000"/>
                  <a:ext cx="6480" cy="187200"/>
                </a:xfrm>
                <a:custGeom>
                  <a:avLst/>
                  <a:gdLst/>
                  <a:ahLst/>
                  <a:rect l="l" t="t" r="r" b="b"/>
                  <a:pathLst>
                    <a:path w="98" h="2844">
                      <a:moveTo>
                        <a:pt x="0" y="2386"/>
                      </a:moveTo>
                      <a:lnTo>
                        <a:pt x="0" y="458"/>
                      </a:lnTo>
                      <a:lnTo>
                        <a:pt x="98" y="458"/>
                      </a:lnTo>
                      <a:lnTo>
                        <a:pt x="98" y="2386"/>
                      </a:lnTo>
                      <a:lnTo>
                        <a:pt x="0" y="2386"/>
                      </a:lnTo>
                      <a:close/>
                      <a:moveTo>
                        <a:pt x="98" y="0"/>
                      </a:moveTo>
                      <a:lnTo>
                        <a:pt x="98" y="68"/>
                      </a:lnTo>
                      <a:lnTo>
                        <a:pt x="31" y="68"/>
                      </a:lnTo>
                      <a:lnTo>
                        <a:pt x="98" y="0"/>
                      </a:lnTo>
                      <a:close/>
                      <a:moveTo>
                        <a:pt x="98" y="2763"/>
                      </a:moveTo>
                      <a:lnTo>
                        <a:pt x="98" y="2844"/>
                      </a:lnTo>
                      <a:lnTo>
                        <a:pt x="17" y="2763"/>
                      </a:lnTo>
                      <a:lnTo>
                        <a:pt x="98" y="2763"/>
                      </a:lnTo>
                      <a:close/>
                    </a:path>
                  </a:pathLst>
                </a:custGeom>
                <a:solidFill>
                  <a:srgbClr val="007e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6934320" y="1679760"/>
                  <a:ext cx="6120" cy="193680"/>
                </a:xfrm>
                <a:custGeom>
                  <a:avLst/>
                  <a:gdLst/>
                  <a:ahLst/>
                  <a:rect l="l" t="t" r="r" b="b"/>
                  <a:pathLst>
                    <a:path w="98" h="2942">
                      <a:moveTo>
                        <a:pt x="0" y="2844"/>
                      </a:moveTo>
                      <a:lnTo>
                        <a:pt x="0" y="2812"/>
                      </a:lnTo>
                      <a:lnTo>
                        <a:pt x="98" y="2812"/>
                      </a:lnTo>
                      <a:lnTo>
                        <a:pt x="98" y="2942"/>
                      </a:lnTo>
                      <a:lnTo>
                        <a:pt x="0" y="2844"/>
                      </a:lnTo>
                      <a:close/>
                      <a:moveTo>
                        <a:pt x="0" y="2435"/>
                      </a:moveTo>
                      <a:lnTo>
                        <a:pt x="0" y="507"/>
                      </a:lnTo>
                      <a:lnTo>
                        <a:pt x="98" y="507"/>
                      </a:lnTo>
                      <a:lnTo>
                        <a:pt x="98" y="2435"/>
                      </a:lnTo>
                      <a:lnTo>
                        <a:pt x="0" y="2435"/>
                      </a:lnTo>
                      <a:close/>
                      <a:moveTo>
                        <a:pt x="0" y="117"/>
                      </a:moveTo>
                      <a:lnTo>
                        <a:pt x="0" y="98"/>
                      </a:lnTo>
                      <a:lnTo>
                        <a:pt x="98" y="0"/>
                      </a:lnTo>
                      <a:lnTo>
                        <a:pt x="98" y="117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07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6937560" y="1676520"/>
                  <a:ext cx="6120" cy="200160"/>
                </a:xfrm>
                <a:custGeom>
                  <a:avLst/>
                  <a:gdLst/>
                  <a:ahLst/>
                  <a:rect l="l" t="t" r="r" b="b"/>
                  <a:pathLst>
                    <a:path w="98" h="3040">
                      <a:moveTo>
                        <a:pt x="0" y="2942"/>
                      </a:moveTo>
                      <a:lnTo>
                        <a:pt x="0" y="2861"/>
                      </a:lnTo>
                      <a:lnTo>
                        <a:pt x="98" y="2861"/>
                      </a:lnTo>
                      <a:lnTo>
                        <a:pt x="98" y="3040"/>
                      </a:lnTo>
                      <a:lnTo>
                        <a:pt x="0" y="2942"/>
                      </a:lnTo>
                      <a:close/>
                      <a:moveTo>
                        <a:pt x="0" y="2484"/>
                      </a:moveTo>
                      <a:lnTo>
                        <a:pt x="0" y="556"/>
                      </a:lnTo>
                      <a:lnTo>
                        <a:pt x="98" y="556"/>
                      </a:lnTo>
                      <a:lnTo>
                        <a:pt x="98" y="2484"/>
                      </a:lnTo>
                      <a:lnTo>
                        <a:pt x="0" y="2484"/>
                      </a:lnTo>
                      <a:close/>
                      <a:moveTo>
                        <a:pt x="0" y="166"/>
                      </a:moveTo>
                      <a:lnTo>
                        <a:pt x="0" y="98"/>
                      </a:lnTo>
                      <a:lnTo>
                        <a:pt x="98" y="0"/>
                      </a:lnTo>
                      <a:lnTo>
                        <a:pt x="98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72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6940440" y="1671840"/>
                  <a:ext cx="8280" cy="207720"/>
                </a:xfrm>
                <a:custGeom>
                  <a:avLst/>
                  <a:gdLst/>
                  <a:ahLst/>
                  <a:rect l="l" t="t" r="r" b="b"/>
                  <a:pathLst>
                    <a:path w="98" h="3139">
                      <a:moveTo>
                        <a:pt x="0" y="3041"/>
                      </a:moveTo>
                      <a:lnTo>
                        <a:pt x="0" y="2911"/>
                      </a:lnTo>
                      <a:lnTo>
                        <a:pt x="98" y="2911"/>
                      </a:lnTo>
                      <a:lnTo>
                        <a:pt x="98" y="3139"/>
                      </a:lnTo>
                      <a:lnTo>
                        <a:pt x="0" y="3041"/>
                      </a:lnTo>
                      <a:close/>
                      <a:moveTo>
                        <a:pt x="0" y="2534"/>
                      </a:moveTo>
                      <a:lnTo>
                        <a:pt x="0" y="606"/>
                      </a:lnTo>
                      <a:lnTo>
                        <a:pt x="98" y="606"/>
                      </a:lnTo>
                      <a:lnTo>
                        <a:pt x="98" y="2534"/>
                      </a:lnTo>
                      <a:lnTo>
                        <a:pt x="0" y="2534"/>
                      </a:lnTo>
                      <a:close/>
                      <a:moveTo>
                        <a:pt x="0" y="216"/>
                      </a:moveTo>
                      <a:lnTo>
                        <a:pt x="0" y="99"/>
                      </a:lnTo>
                      <a:lnTo>
                        <a:pt x="98" y="0"/>
                      </a:lnTo>
                      <a:lnTo>
                        <a:pt x="98" y="216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006a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6943680" y="1668600"/>
                  <a:ext cx="7920" cy="214200"/>
                </a:xfrm>
                <a:custGeom>
                  <a:avLst/>
                  <a:gdLst/>
                  <a:ahLst/>
                  <a:rect l="l" t="t" r="r" b="b"/>
                  <a:pathLst>
                    <a:path w="98" h="3237">
                      <a:moveTo>
                        <a:pt x="0" y="3139"/>
                      </a:moveTo>
                      <a:lnTo>
                        <a:pt x="0" y="2960"/>
                      </a:lnTo>
                      <a:lnTo>
                        <a:pt x="94" y="2960"/>
                      </a:lnTo>
                      <a:lnTo>
                        <a:pt x="94" y="2583"/>
                      </a:lnTo>
                      <a:lnTo>
                        <a:pt x="0" y="2583"/>
                      </a:lnTo>
                      <a:lnTo>
                        <a:pt x="0" y="655"/>
                      </a:lnTo>
                      <a:lnTo>
                        <a:pt x="81" y="655"/>
                      </a:lnTo>
                      <a:lnTo>
                        <a:pt x="81" y="265"/>
                      </a:lnTo>
                      <a:lnTo>
                        <a:pt x="0" y="265"/>
                      </a:lnTo>
                      <a:lnTo>
                        <a:pt x="0" y="99"/>
                      </a:lnTo>
                      <a:lnTo>
                        <a:pt x="98" y="0"/>
                      </a:lnTo>
                      <a:lnTo>
                        <a:pt x="98" y="3237"/>
                      </a:lnTo>
                      <a:lnTo>
                        <a:pt x="0" y="3139"/>
                      </a:lnTo>
                      <a:close/>
                    </a:path>
                  </a:pathLst>
                </a:custGeom>
                <a:solidFill>
                  <a:srgbClr val="0065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6948720" y="1665360"/>
                  <a:ext cx="6120" cy="220680"/>
                </a:xfrm>
                <a:custGeom>
                  <a:avLst/>
                  <a:gdLst/>
                  <a:ahLst/>
                  <a:rect l="l" t="t" r="r" b="b"/>
                  <a:pathLst>
                    <a:path w="99" h="3336">
                      <a:moveTo>
                        <a:pt x="0" y="3237"/>
                      </a:moveTo>
                      <a:lnTo>
                        <a:pt x="0" y="3009"/>
                      </a:lnTo>
                      <a:lnTo>
                        <a:pt x="45" y="3009"/>
                      </a:lnTo>
                      <a:lnTo>
                        <a:pt x="45" y="2632"/>
                      </a:lnTo>
                      <a:lnTo>
                        <a:pt x="0" y="2632"/>
                      </a:lnTo>
                      <a:lnTo>
                        <a:pt x="0" y="704"/>
                      </a:lnTo>
                      <a:lnTo>
                        <a:pt x="32" y="704"/>
                      </a:lnTo>
                      <a:lnTo>
                        <a:pt x="32" y="314"/>
                      </a:lnTo>
                      <a:lnTo>
                        <a:pt x="0" y="314"/>
                      </a:lnTo>
                      <a:lnTo>
                        <a:pt x="0" y="98"/>
                      </a:lnTo>
                      <a:lnTo>
                        <a:pt x="99" y="0"/>
                      </a:lnTo>
                      <a:lnTo>
                        <a:pt x="99" y="3336"/>
                      </a:lnTo>
                      <a:lnTo>
                        <a:pt x="0" y="3237"/>
                      </a:lnTo>
                      <a:close/>
                    </a:path>
                  </a:pathLst>
                </a:custGeom>
                <a:solidFill>
                  <a:srgbClr val="0c5e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6951600" y="1662120"/>
                  <a:ext cx="6480" cy="227160"/>
                </a:xfrm>
                <a:custGeom>
                  <a:avLst/>
                  <a:gdLst/>
                  <a:ahLst/>
                  <a:rect l="l" t="t" r="r" b="b"/>
                  <a:pathLst>
                    <a:path w="100" h="3434">
                      <a:moveTo>
                        <a:pt x="0" y="3335"/>
                      </a:moveTo>
                      <a:lnTo>
                        <a:pt x="0" y="98"/>
                      </a:lnTo>
                      <a:lnTo>
                        <a:pt x="100" y="0"/>
                      </a:lnTo>
                      <a:lnTo>
                        <a:pt x="100" y="3434"/>
                      </a:lnTo>
                      <a:lnTo>
                        <a:pt x="0" y="3335"/>
                      </a:lnTo>
                      <a:close/>
                    </a:path>
                  </a:pathLst>
                </a:custGeom>
                <a:solidFill>
                  <a:srgbClr val="1757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6954840" y="1658880"/>
                  <a:ext cx="6480" cy="233640"/>
                </a:xfrm>
                <a:custGeom>
                  <a:avLst/>
                  <a:gdLst/>
                  <a:ahLst/>
                  <a:rect l="l" t="t" r="r" b="b"/>
                  <a:pathLst>
                    <a:path w="99" h="3532">
                      <a:moveTo>
                        <a:pt x="0" y="3434"/>
                      </a:moveTo>
                      <a:lnTo>
                        <a:pt x="0" y="98"/>
                      </a:lnTo>
                      <a:lnTo>
                        <a:pt x="99" y="0"/>
                      </a:lnTo>
                      <a:lnTo>
                        <a:pt x="99" y="3532"/>
                      </a:lnTo>
                      <a:lnTo>
                        <a:pt x="0" y="3434"/>
                      </a:lnTo>
                      <a:close/>
                    </a:path>
                  </a:pathLst>
                </a:custGeom>
                <a:solidFill>
                  <a:srgbClr val="1f51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6958080" y="1656000"/>
                  <a:ext cx="6480" cy="241200"/>
                </a:xfrm>
                <a:custGeom>
                  <a:avLst/>
                  <a:gdLst/>
                  <a:ahLst/>
                  <a:rect l="l" t="t" r="r" b="b"/>
                  <a:pathLst>
                    <a:path w="98" h="3630">
                      <a:moveTo>
                        <a:pt x="0" y="3532"/>
                      </a:moveTo>
                      <a:lnTo>
                        <a:pt x="0" y="98"/>
                      </a:lnTo>
                      <a:lnTo>
                        <a:pt x="98" y="0"/>
                      </a:lnTo>
                      <a:lnTo>
                        <a:pt x="98" y="3630"/>
                      </a:lnTo>
                      <a:lnTo>
                        <a:pt x="0" y="3532"/>
                      </a:lnTo>
                      <a:close/>
                    </a:path>
                  </a:pathLst>
                </a:custGeom>
                <a:solidFill>
                  <a:srgbClr val="264a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6961320" y="1652760"/>
                  <a:ext cx="6120" cy="247680"/>
                </a:xfrm>
                <a:custGeom>
                  <a:avLst/>
                  <a:gdLst/>
                  <a:ahLst/>
                  <a:rect l="l" t="t" r="r" b="b"/>
                  <a:pathLst>
                    <a:path w="98" h="3729">
                      <a:moveTo>
                        <a:pt x="0" y="3630"/>
                      </a:moveTo>
                      <a:lnTo>
                        <a:pt x="0" y="98"/>
                      </a:lnTo>
                      <a:lnTo>
                        <a:pt x="98" y="0"/>
                      </a:lnTo>
                      <a:lnTo>
                        <a:pt x="98" y="3729"/>
                      </a:lnTo>
                      <a:lnTo>
                        <a:pt x="0" y="3630"/>
                      </a:lnTo>
                      <a:close/>
                    </a:path>
                  </a:pathLst>
                </a:custGeom>
                <a:solidFill>
                  <a:srgbClr val="2943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6964560" y="1650960"/>
                  <a:ext cx="6120" cy="249480"/>
                </a:xfrm>
                <a:custGeom>
                  <a:avLst/>
                  <a:gdLst/>
                  <a:ahLst/>
                  <a:rect l="l" t="t" r="r" b="b"/>
                  <a:pathLst>
                    <a:path w="98" h="3757">
                      <a:moveTo>
                        <a:pt x="0" y="3699"/>
                      </a:moveTo>
                      <a:lnTo>
                        <a:pt x="0" y="69"/>
                      </a:lnTo>
                      <a:lnTo>
                        <a:pt x="69" y="0"/>
                      </a:lnTo>
                      <a:lnTo>
                        <a:pt x="98" y="29"/>
                      </a:lnTo>
                      <a:lnTo>
                        <a:pt x="98" y="3714"/>
                      </a:lnTo>
                      <a:lnTo>
                        <a:pt x="56" y="3757"/>
                      </a:lnTo>
                      <a:lnTo>
                        <a:pt x="0" y="3699"/>
                      </a:lnTo>
                      <a:close/>
                    </a:path>
                  </a:pathLst>
                </a:custGeom>
                <a:solidFill>
                  <a:srgbClr val="2d3b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6967440" y="1650960"/>
                  <a:ext cx="3240" cy="249480"/>
                </a:xfrm>
                <a:custGeom>
                  <a:avLst/>
                  <a:gdLst/>
                  <a:ahLst/>
                  <a:rect l="l" t="t" r="r" b="b"/>
                  <a:pathLst>
                    <a:path w="49" h="3757">
                      <a:moveTo>
                        <a:pt x="0" y="3749"/>
                      </a:moveTo>
                      <a:lnTo>
                        <a:pt x="0" y="20"/>
                      </a:lnTo>
                      <a:lnTo>
                        <a:pt x="20" y="0"/>
                      </a:lnTo>
                      <a:lnTo>
                        <a:pt x="49" y="29"/>
                      </a:lnTo>
                      <a:lnTo>
                        <a:pt x="49" y="3714"/>
                      </a:lnTo>
                      <a:lnTo>
                        <a:pt x="7" y="3757"/>
                      </a:lnTo>
                      <a:lnTo>
                        <a:pt x="0" y="3749"/>
                      </a:lnTo>
                      <a:close/>
                    </a:path>
                  </a:pathLst>
                </a:custGeom>
                <a:solidFill>
                  <a:srgbClr val="3127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7124760" y="177336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76" h="151">
                      <a:moveTo>
                        <a:pt x="0" y="151"/>
                      </a:moveTo>
                      <a:lnTo>
                        <a:pt x="0" y="0"/>
                      </a:lnTo>
                      <a:lnTo>
                        <a:pt x="76" y="75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db41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7121520" y="1770120"/>
                  <a:ext cx="6480" cy="15840"/>
                </a:xfrm>
                <a:custGeom>
                  <a:avLst/>
                  <a:gdLst/>
                  <a:ahLst/>
                  <a:rect l="l" t="t" r="r" b="b"/>
                  <a:pathLst>
                    <a:path w="99" h="251">
                      <a:moveTo>
                        <a:pt x="99" y="99"/>
                      </a:moveTo>
                      <a:lnTo>
                        <a:pt x="99" y="152"/>
                      </a:lnTo>
                      <a:lnTo>
                        <a:pt x="0" y="251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</a:path>
                  </a:pathLst>
                </a:custGeom>
                <a:solidFill>
                  <a:srgbClr val="dd4d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7118280" y="1765440"/>
                  <a:ext cx="6480" cy="23760"/>
                </a:xfrm>
                <a:custGeom>
                  <a:avLst/>
                  <a:gdLst/>
                  <a:ahLst/>
                  <a:rect l="l" t="t" r="r" b="b"/>
                  <a:pathLst>
                    <a:path w="100" h="349">
                      <a:moveTo>
                        <a:pt x="100" y="99"/>
                      </a:moveTo>
                      <a:lnTo>
                        <a:pt x="100" y="250"/>
                      </a:lnTo>
                      <a:lnTo>
                        <a:pt x="0" y="349"/>
                      </a:lnTo>
                      <a:lnTo>
                        <a:pt x="0" y="0"/>
                      </a:lnTo>
                      <a:lnTo>
                        <a:pt x="100" y="99"/>
                      </a:lnTo>
                      <a:close/>
                    </a:path>
                  </a:pathLst>
                </a:custGeom>
                <a:solidFill>
                  <a:srgbClr val="df58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7115400" y="1762200"/>
                  <a:ext cx="6120" cy="30240"/>
                </a:xfrm>
                <a:custGeom>
                  <a:avLst/>
                  <a:gdLst/>
                  <a:ahLst/>
                  <a:rect l="l" t="t" r="r" b="b"/>
                  <a:pathLst>
                    <a:path w="100" h="449">
                      <a:moveTo>
                        <a:pt x="100" y="99"/>
                      </a:moveTo>
                      <a:lnTo>
                        <a:pt x="100" y="350"/>
                      </a:lnTo>
                      <a:lnTo>
                        <a:pt x="0" y="449"/>
                      </a:lnTo>
                      <a:lnTo>
                        <a:pt x="0" y="0"/>
                      </a:lnTo>
                      <a:lnTo>
                        <a:pt x="100" y="99"/>
                      </a:lnTo>
                      <a:close/>
                    </a:path>
                  </a:pathLst>
                </a:custGeom>
                <a:solidFill>
                  <a:srgbClr val="e06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7112160" y="1758960"/>
                  <a:ext cx="6120" cy="36720"/>
                </a:xfrm>
                <a:custGeom>
                  <a:avLst/>
                  <a:gdLst/>
                  <a:ahLst/>
                  <a:rect l="l" t="t" r="r" b="b"/>
                  <a:pathLst>
                    <a:path w="99" h="548">
                      <a:moveTo>
                        <a:pt x="99" y="99"/>
                      </a:moveTo>
                      <a:lnTo>
                        <a:pt x="99" y="448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</a:path>
                  </a:pathLst>
                </a:custGeom>
                <a:solidFill>
                  <a:srgbClr val="e26d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7108920" y="1755720"/>
                  <a:ext cx="6480" cy="42840"/>
                </a:xfrm>
                <a:custGeom>
                  <a:avLst/>
                  <a:gdLst/>
                  <a:ahLst/>
                  <a:rect l="l" t="t" r="r" b="b"/>
                  <a:pathLst>
                    <a:path w="99" h="647">
                      <a:moveTo>
                        <a:pt x="99" y="99"/>
                      </a:moveTo>
                      <a:lnTo>
                        <a:pt x="99" y="548"/>
                      </a:lnTo>
                      <a:lnTo>
                        <a:pt x="0" y="647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</a:path>
                  </a:pathLst>
                </a:custGeom>
                <a:solidFill>
                  <a:srgbClr val="e477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7104240" y="1752840"/>
                  <a:ext cx="7920" cy="48960"/>
                </a:xfrm>
                <a:custGeom>
                  <a:avLst/>
                  <a:gdLst/>
                  <a:ahLst/>
                  <a:rect l="l" t="t" r="r" b="b"/>
                  <a:pathLst>
                    <a:path w="99" h="746">
                      <a:moveTo>
                        <a:pt x="99" y="99"/>
                      </a:moveTo>
                      <a:lnTo>
                        <a:pt x="99" y="647"/>
                      </a:lnTo>
                      <a:lnTo>
                        <a:pt x="0" y="746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</a:path>
                  </a:pathLst>
                </a:custGeom>
                <a:solidFill>
                  <a:srgbClr val="e480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7101000" y="1749600"/>
                  <a:ext cx="7920" cy="55440"/>
                </a:xfrm>
                <a:custGeom>
                  <a:avLst/>
                  <a:gdLst/>
                  <a:ahLst/>
                  <a:rect l="l" t="t" r="r" b="b"/>
                  <a:pathLst>
                    <a:path w="99" h="845">
                      <a:moveTo>
                        <a:pt x="99" y="99"/>
                      </a:moveTo>
                      <a:lnTo>
                        <a:pt x="99" y="746"/>
                      </a:lnTo>
                      <a:lnTo>
                        <a:pt x="0" y="845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</a:path>
                  </a:pathLst>
                </a:custGeom>
                <a:solidFill>
                  <a:srgbClr val="e78b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7097760" y="1746360"/>
                  <a:ext cx="6480" cy="61920"/>
                </a:xfrm>
                <a:custGeom>
                  <a:avLst/>
                  <a:gdLst/>
                  <a:ahLst/>
                  <a:rect l="l" t="t" r="r" b="b"/>
                  <a:pathLst>
                    <a:path w="99" h="943">
                      <a:moveTo>
                        <a:pt x="99" y="99"/>
                      </a:moveTo>
                      <a:lnTo>
                        <a:pt x="99" y="845"/>
                      </a:lnTo>
                      <a:lnTo>
                        <a:pt x="0" y="943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</a:path>
                  </a:pathLst>
                </a:custGeom>
                <a:solidFill>
                  <a:srgbClr val="e894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7094520" y="1743120"/>
                  <a:ext cx="6480" cy="68400"/>
                </a:xfrm>
                <a:custGeom>
                  <a:avLst/>
                  <a:gdLst/>
                  <a:ahLst/>
                  <a:rect l="l" t="t" r="r" b="b"/>
                  <a:pathLst>
                    <a:path w="99" h="1043">
                      <a:moveTo>
                        <a:pt x="99" y="99"/>
                      </a:moveTo>
                      <a:lnTo>
                        <a:pt x="99" y="944"/>
                      </a:lnTo>
                      <a:lnTo>
                        <a:pt x="0" y="1043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</a:path>
                  </a:pathLst>
                </a:custGeom>
                <a:solidFill>
                  <a:srgbClr val="eaa0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7091280" y="1743120"/>
                  <a:ext cx="6480" cy="69840"/>
                </a:xfrm>
                <a:custGeom>
                  <a:avLst/>
                  <a:gdLst/>
                  <a:ahLst/>
                  <a:rect l="l" t="t" r="r" b="b"/>
                  <a:pathLst>
                    <a:path w="99" h="1060">
                      <a:moveTo>
                        <a:pt x="99" y="58"/>
                      </a:moveTo>
                      <a:lnTo>
                        <a:pt x="99" y="1001"/>
                      </a:lnTo>
                      <a:lnTo>
                        <a:pt x="41" y="1060"/>
                      </a:lnTo>
                      <a:lnTo>
                        <a:pt x="41" y="788"/>
                      </a:lnTo>
                      <a:lnTo>
                        <a:pt x="0" y="788"/>
                      </a:lnTo>
                      <a:lnTo>
                        <a:pt x="0" y="247"/>
                      </a:lnTo>
                      <a:lnTo>
                        <a:pt x="42" y="247"/>
                      </a:lnTo>
                      <a:lnTo>
                        <a:pt x="42" y="0"/>
                      </a:lnTo>
                      <a:lnTo>
                        <a:pt x="99" y="58"/>
                      </a:lnTo>
                      <a:close/>
                    </a:path>
                  </a:pathLst>
                </a:custGeom>
                <a:solidFill>
                  <a:srgbClr val="eca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7088400" y="1743120"/>
                  <a:ext cx="6120" cy="69840"/>
                </a:xfrm>
                <a:custGeom>
                  <a:avLst/>
                  <a:gdLst/>
                  <a:ahLst/>
                  <a:rect l="l" t="t" r="r" b="b"/>
                  <a:pathLst>
                    <a:path w="99" h="1060">
                      <a:moveTo>
                        <a:pt x="99" y="8"/>
                      </a:moveTo>
                      <a:lnTo>
                        <a:pt x="99" y="1051"/>
                      </a:lnTo>
                      <a:lnTo>
                        <a:pt x="90" y="1060"/>
                      </a:lnTo>
                      <a:lnTo>
                        <a:pt x="90" y="788"/>
                      </a:lnTo>
                      <a:lnTo>
                        <a:pt x="0" y="788"/>
                      </a:lnTo>
                      <a:lnTo>
                        <a:pt x="0" y="247"/>
                      </a:lnTo>
                      <a:lnTo>
                        <a:pt x="91" y="247"/>
                      </a:lnTo>
                      <a:lnTo>
                        <a:pt x="91" y="0"/>
                      </a:lnTo>
                      <a:lnTo>
                        <a:pt x="99" y="8"/>
                      </a:lnTo>
                      <a:close/>
                    </a:path>
                  </a:pathLst>
                </a:custGeom>
                <a:solidFill>
                  <a:srgbClr val="efb6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7085160" y="1758960"/>
                  <a:ext cx="6120" cy="34920"/>
                </a:xfrm>
                <a:prstGeom prst="rect">
                  <a:avLst/>
                </a:prstGeom>
                <a:solidFill>
                  <a:srgbClr val="f1c4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7081920" y="1758960"/>
                  <a:ext cx="6480" cy="34920"/>
                </a:xfrm>
                <a:prstGeom prst="rect">
                  <a:avLst/>
                </a:prstGeom>
                <a:solidFill>
                  <a:srgbClr val="f2cf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7078680" y="1758960"/>
                  <a:ext cx="6480" cy="34920"/>
                </a:xfrm>
                <a:prstGeom prst="rect">
                  <a:avLst/>
                </a:prstGeom>
                <a:solidFill>
                  <a:srgbClr val="f5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7075440" y="1758960"/>
                  <a:ext cx="6480" cy="34920"/>
                </a:xfrm>
                <a:prstGeom prst="rect">
                  <a:avLst/>
                </a:pr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072200" y="1758960"/>
                  <a:ext cx="6480" cy="34920"/>
                </a:xfrm>
                <a:prstGeom prst="rect">
                  <a:avLst/>
                </a:pr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069320" y="1758960"/>
                  <a:ext cx="6120" cy="34920"/>
                </a:xfrm>
                <a:prstGeom prst="rect">
                  <a:avLst/>
                </a:pr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7066080" y="1758960"/>
                  <a:ext cx="6120" cy="34920"/>
                </a:xfrm>
                <a:prstGeom prst="rect">
                  <a:avLst/>
                </a:pr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7062840" y="1711440"/>
                  <a:ext cx="6480" cy="128520"/>
                </a:xfrm>
                <a:custGeom>
                  <a:avLst/>
                  <a:gdLst/>
                  <a:ahLst/>
                  <a:rect l="l" t="t" r="r" b="b"/>
                  <a:pathLst>
                    <a:path w="99" h="1934">
                      <a:moveTo>
                        <a:pt x="99" y="715"/>
                      </a:moveTo>
                      <a:lnTo>
                        <a:pt x="99" y="1256"/>
                      </a:lnTo>
                      <a:lnTo>
                        <a:pt x="18" y="1256"/>
                      </a:lnTo>
                      <a:lnTo>
                        <a:pt x="18" y="1933"/>
                      </a:lnTo>
                      <a:lnTo>
                        <a:pt x="0" y="1934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9"/>
                      </a:lnTo>
                      <a:lnTo>
                        <a:pt x="5" y="715"/>
                      </a:lnTo>
                      <a:lnTo>
                        <a:pt x="99" y="715"/>
                      </a:lnTo>
                      <a:close/>
                    </a:path>
                  </a:pathLst>
                </a:custGeom>
                <a:solidFill>
                  <a:srgbClr val="e1e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059600" y="1711440"/>
                  <a:ext cx="6480" cy="128520"/>
                </a:xfrm>
                <a:custGeom>
                  <a:avLst/>
                  <a:gdLst/>
                  <a:ahLst/>
                  <a:rect l="l" t="t" r="r" b="b"/>
                  <a:pathLst>
                    <a:path w="99" h="1934">
                      <a:moveTo>
                        <a:pt x="99" y="715"/>
                      </a:moveTo>
                      <a:lnTo>
                        <a:pt x="99" y="1256"/>
                      </a:lnTo>
                      <a:lnTo>
                        <a:pt x="67" y="1256"/>
                      </a:lnTo>
                      <a:lnTo>
                        <a:pt x="67" y="1933"/>
                      </a:lnTo>
                      <a:lnTo>
                        <a:pt x="0" y="1934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9"/>
                      </a:lnTo>
                      <a:lnTo>
                        <a:pt x="54" y="715"/>
                      </a:lnTo>
                      <a:lnTo>
                        <a:pt x="99" y="715"/>
                      </a:lnTo>
                      <a:close/>
                    </a:path>
                  </a:pathLst>
                </a:custGeom>
                <a:solidFill>
                  <a:srgbClr val="cadd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7054920" y="1711440"/>
                  <a:ext cx="7920" cy="128520"/>
                </a:xfrm>
                <a:prstGeom prst="rect">
                  <a:avLst/>
                </a:prstGeom>
                <a:solidFill>
                  <a:srgbClr val="bad7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7051680" y="1711440"/>
                  <a:ext cx="7920" cy="128520"/>
                </a:xfrm>
                <a:custGeom>
                  <a:avLst/>
                  <a:gdLst/>
                  <a:ahLst/>
                  <a:rect l="l" t="t" r="r" b="b"/>
                  <a:pathLst>
                    <a:path w="99" h="1935">
                      <a:moveTo>
                        <a:pt x="99" y="0"/>
                      </a:moveTo>
                      <a:lnTo>
                        <a:pt x="99" y="1934"/>
                      </a:lnTo>
                      <a:lnTo>
                        <a:pt x="0" y="1935"/>
                      </a:lnTo>
                      <a:lnTo>
                        <a:pt x="0" y="0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a7c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7048440" y="1711440"/>
                  <a:ext cx="6480" cy="128520"/>
                </a:xfrm>
                <a:custGeom>
                  <a:avLst/>
                  <a:gdLst/>
                  <a:ahLst/>
                  <a:rect l="l" t="t" r="r" b="b"/>
                  <a:pathLst>
                    <a:path w="100" h="1935">
                      <a:moveTo>
                        <a:pt x="100" y="0"/>
                      </a:moveTo>
                      <a:lnTo>
                        <a:pt x="100" y="1934"/>
                      </a:lnTo>
                      <a:lnTo>
                        <a:pt x="10" y="1935"/>
                      </a:lnTo>
                      <a:lnTo>
                        <a:pt x="0" y="1935"/>
                      </a:ln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97c9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7045560" y="1711440"/>
                  <a:ext cx="6120" cy="128520"/>
                </a:xfrm>
                <a:custGeom>
                  <a:avLst/>
                  <a:gdLst/>
                  <a:ahLst/>
                  <a:rect l="l" t="t" r="r" b="b"/>
                  <a:pathLst>
                    <a:path w="100" h="1935">
                      <a:moveTo>
                        <a:pt x="100" y="0"/>
                      </a:moveTo>
                      <a:lnTo>
                        <a:pt x="100" y="1935"/>
                      </a:lnTo>
                      <a:lnTo>
                        <a:pt x="59" y="1935"/>
                      </a:lnTo>
                      <a:lnTo>
                        <a:pt x="0" y="1935"/>
                      </a:lnTo>
                      <a:lnTo>
                        <a:pt x="0" y="0"/>
                      </a:lnTo>
                      <a:lnTo>
                        <a:pt x="75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88c3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7042320" y="1711440"/>
                  <a:ext cx="6120" cy="128520"/>
                </a:xfrm>
                <a:prstGeom prst="rect">
                  <a:avLst/>
                </a:prstGeom>
                <a:solidFill>
                  <a:srgbClr val="78bd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7039080" y="1711440"/>
                  <a:ext cx="6480" cy="128520"/>
                </a:xfrm>
                <a:prstGeom prst="rect">
                  <a:avLst/>
                </a:prstGeom>
                <a:solidFill>
                  <a:srgbClr val="69b8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7035840" y="1711440"/>
                  <a:ext cx="6480" cy="128520"/>
                </a:xfrm>
                <a:prstGeom prst="rect">
                  <a:avLst/>
                </a:prstGeom>
                <a:solidFill>
                  <a:srgbClr val="57b3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7032600" y="1711440"/>
                  <a:ext cx="6480" cy="128520"/>
                </a:xfrm>
                <a:prstGeom prst="rect">
                  <a:avLst/>
                </a:prstGeom>
                <a:solidFill>
                  <a:srgbClr val="44ae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7029360" y="1711440"/>
                  <a:ext cx="6480" cy="128520"/>
                </a:xfrm>
                <a:prstGeom prst="rect">
                  <a:avLst/>
                </a:prstGeom>
                <a:solidFill>
                  <a:srgbClr val="2aaa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7026480" y="1711440"/>
                  <a:ext cx="6120" cy="128520"/>
                </a:xfrm>
                <a:custGeom>
                  <a:avLst/>
                  <a:gdLst/>
                  <a:ahLst/>
                  <a:rect l="l" t="t" r="r" b="b"/>
                  <a:pathLst>
                    <a:path w="99" h="1935">
                      <a:moveTo>
                        <a:pt x="99" y="0"/>
                      </a:moveTo>
                      <a:lnTo>
                        <a:pt x="99" y="1935"/>
                      </a:lnTo>
                      <a:lnTo>
                        <a:pt x="48" y="1935"/>
                      </a:lnTo>
                      <a:lnTo>
                        <a:pt x="0" y="1935"/>
                      </a:lnTo>
                      <a:lnTo>
                        <a:pt x="0" y="0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a5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7023240" y="1711440"/>
                  <a:ext cx="6120" cy="128520"/>
                </a:xfrm>
                <a:custGeom>
                  <a:avLst/>
                  <a:gdLst/>
                  <a:ahLst/>
                  <a:rect l="l" t="t" r="r" b="b"/>
                  <a:pathLst>
                    <a:path w="99" h="1935">
                      <a:moveTo>
                        <a:pt x="99" y="0"/>
                      </a:moveTo>
                      <a:lnTo>
                        <a:pt x="99" y="1935"/>
                      </a:lnTo>
                      <a:lnTo>
                        <a:pt x="98" y="1935"/>
                      </a:lnTo>
                      <a:lnTo>
                        <a:pt x="0" y="1934"/>
                      </a:lnTo>
                      <a:lnTo>
                        <a:pt x="0" y="0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a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7020000" y="1711440"/>
                  <a:ext cx="6480" cy="128520"/>
                </a:xfrm>
                <a:custGeom>
                  <a:avLst/>
                  <a:gdLst/>
                  <a:ahLst/>
                  <a:rect l="l" t="t" r="r" b="b"/>
                  <a:pathLst>
                    <a:path w="99" h="1935">
                      <a:moveTo>
                        <a:pt x="99" y="0"/>
                      </a:moveTo>
                      <a:lnTo>
                        <a:pt x="99" y="1935"/>
                      </a:lnTo>
                      <a:lnTo>
                        <a:pt x="0" y="1934"/>
                      </a:lnTo>
                      <a:lnTo>
                        <a:pt x="0" y="0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9c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7016760" y="1711440"/>
                  <a:ext cx="6480" cy="128520"/>
                </a:xfrm>
                <a:custGeom>
                  <a:avLst/>
                  <a:gdLst/>
                  <a:ahLst/>
                  <a:rect l="l" t="t" r="r" b="b"/>
                  <a:pathLst>
                    <a:path w="100" h="1934">
                      <a:moveTo>
                        <a:pt x="100" y="0"/>
                      </a:moveTo>
                      <a:lnTo>
                        <a:pt x="100" y="1934"/>
                      </a:lnTo>
                      <a:lnTo>
                        <a:pt x="0" y="1933"/>
                      </a:lnTo>
                      <a:lnTo>
                        <a:pt x="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009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7013520" y="1711440"/>
                  <a:ext cx="6480" cy="128520"/>
                </a:xfrm>
                <a:custGeom>
                  <a:avLst/>
                  <a:gdLst/>
                  <a:ahLst/>
                  <a:rect l="l" t="t" r="r" b="b"/>
                  <a:pathLst>
                    <a:path w="100" h="1934">
                      <a:moveTo>
                        <a:pt x="100" y="0"/>
                      </a:moveTo>
                      <a:lnTo>
                        <a:pt x="100" y="1934"/>
                      </a:lnTo>
                      <a:lnTo>
                        <a:pt x="0" y="1933"/>
                      </a:lnTo>
                      <a:lnTo>
                        <a:pt x="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0091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7010640" y="1711440"/>
                  <a:ext cx="6120" cy="128520"/>
                </a:xfrm>
                <a:custGeom>
                  <a:avLst/>
                  <a:gdLst/>
                  <a:ahLst/>
                  <a:rect l="l" t="t" r="r" b="b"/>
                  <a:pathLst>
                    <a:path w="99" h="1933">
                      <a:moveTo>
                        <a:pt x="99" y="0"/>
                      </a:moveTo>
                      <a:lnTo>
                        <a:pt x="99" y="1933"/>
                      </a:lnTo>
                      <a:lnTo>
                        <a:pt x="0" y="1932"/>
                      </a:lnTo>
                      <a:lnTo>
                        <a:pt x="0" y="0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8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05600" y="1711440"/>
                  <a:ext cx="7920" cy="128520"/>
                </a:xfrm>
                <a:custGeom>
                  <a:avLst/>
                  <a:gdLst/>
                  <a:ahLst/>
                  <a:rect l="l" t="t" r="r" b="b"/>
                  <a:pathLst>
                    <a:path w="99" h="1933">
                      <a:moveTo>
                        <a:pt x="99" y="0"/>
                      </a:moveTo>
                      <a:lnTo>
                        <a:pt x="99" y="1933"/>
                      </a:lnTo>
                      <a:lnTo>
                        <a:pt x="0" y="1932"/>
                      </a:lnTo>
                      <a:lnTo>
                        <a:pt x="0" y="0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0084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002360" y="1685880"/>
                  <a:ext cx="8280" cy="154080"/>
                </a:xfrm>
                <a:custGeom>
                  <a:avLst/>
                  <a:gdLst/>
                  <a:ahLst/>
                  <a:rect l="l" t="t" r="r" b="b"/>
                  <a:pathLst>
                    <a:path w="99" h="2318">
                      <a:moveTo>
                        <a:pt x="99" y="386"/>
                      </a:moveTo>
                      <a:lnTo>
                        <a:pt x="99" y="2318"/>
                      </a:lnTo>
                      <a:lnTo>
                        <a:pt x="0" y="2317"/>
                      </a:lnTo>
                      <a:lnTo>
                        <a:pt x="0" y="386"/>
                      </a:lnTo>
                      <a:lnTo>
                        <a:pt x="99" y="386"/>
                      </a:lnTo>
                      <a:close/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7e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999480" y="1683000"/>
                  <a:ext cx="6120" cy="185400"/>
                </a:xfrm>
                <a:custGeom>
                  <a:avLst/>
                  <a:gdLst/>
                  <a:ahLst/>
                  <a:rect l="l" t="t" r="r" b="b"/>
                  <a:pathLst>
                    <a:path w="99" h="2801">
                      <a:moveTo>
                        <a:pt x="99" y="436"/>
                      </a:moveTo>
                      <a:lnTo>
                        <a:pt x="99" y="2368"/>
                      </a:lnTo>
                      <a:lnTo>
                        <a:pt x="0" y="2367"/>
                      </a:lnTo>
                      <a:lnTo>
                        <a:pt x="0" y="436"/>
                      </a:lnTo>
                      <a:lnTo>
                        <a:pt x="99" y="436"/>
                      </a:lnTo>
                      <a:close/>
                      <a:moveTo>
                        <a:pt x="0" y="2801"/>
                      </a:moveTo>
                      <a:lnTo>
                        <a:pt x="0" y="2755"/>
                      </a:lnTo>
                      <a:lnTo>
                        <a:pt x="46" y="2755"/>
                      </a:lnTo>
                      <a:lnTo>
                        <a:pt x="0" y="2801"/>
                      </a:lnTo>
                      <a:close/>
                      <a:moveTo>
                        <a:pt x="0" y="60"/>
                      </a:moveTo>
                      <a:lnTo>
                        <a:pt x="0" y="0"/>
                      </a:lnTo>
                      <a:lnTo>
                        <a:pt x="59" y="60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007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996240" y="1679760"/>
                  <a:ext cx="6120" cy="191880"/>
                </a:xfrm>
                <a:custGeom>
                  <a:avLst/>
                  <a:gdLst/>
                  <a:ahLst/>
                  <a:rect l="l" t="t" r="r" b="b"/>
                  <a:pathLst>
                    <a:path w="99" h="2901">
                      <a:moveTo>
                        <a:pt x="99" y="100"/>
                      </a:moveTo>
                      <a:lnTo>
                        <a:pt x="99" y="110"/>
                      </a:lnTo>
                      <a:lnTo>
                        <a:pt x="0" y="110"/>
                      </a:lnTo>
                      <a:lnTo>
                        <a:pt x="0" y="0"/>
                      </a:lnTo>
                      <a:lnTo>
                        <a:pt x="99" y="100"/>
                      </a:lnTo>
                      <a:close/>
                      <a:moveTo>
                        <a:pt x="99" y="486"/>
                      </a:moveTo>
                      <a:lnTo>
                        <a:pt x="99" y="2417"/>
                      </a:lnTo>
                      <a:lnTo>
                        <a:pt x="0" y="2416"/>
                      </a:lnTo>
                      <a:lnTo>
                        <a:pt x="0" y="486"/>
                      </a:lnTo>
                      <a:lnTo>
                        <a:pt x="99" y="486"/>
                      </a:lnTo>
                      <a:close/>
                      <a:moveTo>
                        <a:pt x="0" y="2901"/>
                      </a:moveTo>
                      <a:lnTo>
                        <a:pt x="0" y="2805"/>
                      </a:lnTo>
                      <a:lnTo>
                        <a:pt x="96" y="2805"/>
                      </a:lnTo>
                      <a:lnTo>
                        <a:pt x="0" y="2901"/>
                      </a:lnTo>
                      <a:close/>
                    </a:path>
                  </a:pathLst>
                </a:custGeom>
                <a:solidFill>
                  <a:srgbClr val="0072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993000" y="1676520"/>
                  <a:ext cx="6480" cy="198360"/>
                </a:xfrm>
                <a:custGeom>
                  <a:avLst/>
                  <a:gdLst/>
                  <a:ahLst/>
                  <a:rect l="l" t="t" r="r" b="b"/>
                  <a:pathLst>
                    <a:path w="99" h="2999">
                      <a:moveTo>
                        <a:pt x="99" y="99"/>
                      </a:moveTo>
                      <a:lnTo>
                        <a:pt x="99" y="159"/>
                      </a:lnTo>
                      <a:lnTo>
                        <a:pt x="0" y="159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  <a:moveTo>
                        <a:pt x="99" y="535"/>
                      </a:moveTo>
                      <a:lnTo>
                        <a:pt x="99" y="2466"/>
                      </a:lnTo>
                      <a:lnTo>
                        <a:pt x="0" y="2465"/>
                      </a:lnTo>
                      <a:lnTo>
                        <a:pt x="0" y="535"/>
                      </a:lnTo>
                      <a:lnTo>
                        <a:pt x="99" y="535"/>
                      </a:lnTo>
                      <a:close/>
                      <a:moveTo>
                        <a:pt x="99" y="2854"/>
                      </a:moveTo>
                      <a:lnTo>
                        <a:pt x="99" y="2900"/>
                      </a:lnTo>
                      <a:lnTo>
                        <a:pt x="0" y="2999"/>
                      </a:lnTo>
                      <a:lnTo>
                        <a:pt x="0" y="2854"/>
                      </a:lnTo>
                      <a:lnTo>
                        <a:pt x="99" y="2854"/>
                      </a:lnTo>
                      <a:close/>
                    </a:path>
                  </a:pathLst>
                </a:custGeom>
                <a:solidFill>
                  <a:srgbClr val="006a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989760" y="1673280"/>
                  <a:ext cx="6480" cy="204840"/>
                </a:xfrm>
                <a:custGeom>
                  <a:avLst/>
                  <a:gdLst/>
                  <a:ahLst/>
                  <a:rect l="l" t="t" r="r" b="b"/>
                  <a:pathLst>
                    <a:path w="99" h="3099">
                      <a:moveTo>
                        <a:pt x="99" y="99"/>
                      </a:moveTo>
                      <a:lnTo>
                        <a:pt x="99" y="209"/>
                      </a:lnTo>
                      <a:lnTo>
                        <a:pt x="0" y="209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  <a:moveTo>
                        <a:pt x="99" y="585"/>
                      </a:moveTo>
                      <a:lnTo>
                        <a:pt x="99" y="2515"/>
                      </a:lnTo>
                      <a:lnTo>
                        <a:pt x="0" y="2514"/>
                      </a:lnTo>
                      <a:lnTo>
                        <a:pt x="0" y="585"/>
                      </a:lnTo>
                      <a:lnTo>
                        <a:pt x="99" y="585"/>
                      </a:lnTo>
                      <a:close/>
                      <a:moveTo>
                        <a:pt x="99" y="2904"/>
                      </a:moveTo>
                      <a:lnTo>
                        <a:pt x="99" y="3000"/>
                      </a:lnTo>
                      <a:lnTo>
                        <a:pt x="0" y="3099"/>
                      </a:lnTo>
                      <a:lnTo>
                        <a:pt x="0" y="2904"/>
                      </a:lnTo>
                      <a:lnTo>
                        <a:pt x="99" y="2904"/>
                      </a:lnTo>
                      <a:close/>
                    </a:path>
                  </a:pathLst>
                </a:custGeom>
                <a:solidFill>
                  <a:srgbClr val="0065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986520" y="1670040"/>
                  <a:ext cx="6480" cy="211320"/>
                </a:xfrm>
                <a:custGeom>
                  <a:avLst/>
                  <a:gdLst/>
                  <a:ahLst/>
                  <a:rect l="l" t="t" r="r" b="b"/>
                  <a:pathLst>
                    <a:path w="99" h="3197">
                      <a:moveTo>
                        <a:pt x="99" y="99"/>
                      </a:moveTo>
                      <a:lnTo>
                        <a:pt x="99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  <a:moveTo>
                        <a:pt x="99" y="634"/>
                      </a:moveTo>
                      <a:lnTo>
                        <a:pt x="99" y="2564"/>
                      </a:lnTo>
                      <a:lnTo>
                        <a:pt x="0" y="2562"/>
                      </a:lnTo>
                      <a:lnTo>
                        <a:pt x="0" y="634"/>
                      </a:lnTo>
                      <a:lnTo>
                        <a:pt x="99" y="634"/>
                      </a:lnTo>
                      <a:close/>
                      <a:moveTo>
                        <a:pt x="99" y="2953"/>
                      </a:moveTo>
                      <a:lnTo>
                        <a:pt x="99" y="3098"/>
                      </a:lnTo>
                      <a:lnTo>
                        <a:pt x="0" y="3197"/>
                      </a:lnTo>
                      <a:lnTo>
                        <a:pt x="0" y="2953"/>
                      </a:lnTo>
                      <a:lnTo>
                        <a:pt x="99" y="2953"/>
                      </a:lnTo>
                      <a:close/>
                    </a:path>
                  </a:pathLst>
                </a:custGeom>
                <a:solidFill>
                  <a:srgbClr val="0c5e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983640" y="1666800"/>
                  <a:ext cx="6120" cy="217800"/>
                </a:xfrm>
                <a:custGeom>
                  <a:avLst/>
                  <a:gdLst/>
                  <a:ahLst/>
                  <a:rect l="l" t="t" r="r" b="b"/>
                  <a:pathLst>
                    <a:path w="100" h="3297">
                      <a:moveTo>
                        <a:pt x="100" y="99"/>
                      </a:moveTo>
                      <a:lnTo>
                        <a:pt x="100" y="308"/>
                      </a:lnTo>
                      <a:lnTo>
                        <a:pt x="34" y="308"/>
                      </a:lnTo>
                      <a:lnTo>
                        <a:pt x="34" y="684"/>
                      </a:lnTo>
                      <a:lnTo>
                        <a:pt x="100" y="684"/>
                      </a:lnTo>
                      <a:lnTo>
                        <a:pt x="100" y="2613"/>
                      </a:lnTo>
                      <a:lnTo>
                        <a:pt x="48" y="2612"/>
                      </a:lnTo>
                      <a:lnTo>
                        <a:pt x="48" y="3003"/>
                      </a:lnTo>
                      <a:lnTo>
                        <a:pt x="100" y="3003"/>
                      </a:lnTo>
                      <a:lnTo>
                        <a:pt x="100" y="3198"/>
                      </a:lnTo>
                      <a:lnTo>
                        <a:pt x="0" y="3297"/>
                      </a:lnTo>
                      <a:lnTo>
                        <a:pt x="0" y="0"/>
                      </a:lnTo>
                      <a:lnTo>
                        <a:pt x="100" y="99"/>
                      </a:lnTo>
                      <a:close/>
                    </a:path>
                  </a:pathLst>
                </a:custGeom>
                <a:solidFill>
                  <a:srgbClr val="1757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980400" y="1663920"/>
                  <a:ext cx="6120" cy="223560"/>
                </a:xfrm>
                <a:custGeom>
                  <a:avLst/>
                  <a:gdLst/>
                  <a:ahLst/>
                  <a:rect l="l" t="t" r="r" b="b"/>
                  <a:pathLst>
                    <a:path w="100" h="3395">
                      <a:moveTo>
                        <a:pt x="100" y="99"/>
                      </a:moveTo>
                      <a:lnTo>
                        <a:pt x="100" y="357"/>
                      </a:lnTo>
                      <a:lnTo>
                        <a:pt x="83" y="357"/>
                      </a:lnTo>
                      <a:lnTo>
                        <a:pt x="83" y="733"/>
                      </a:lnTo>
                      <a:lnTo>
                        <a:pt x="100" y="733"/>
                      </a:lnTo>
                      <a:lnTo>
                        <a:pt x="100" y="2661"/>
                      </a:lnTo>
                      <a:lnTo>
                        <a:pt x="97" y="2661"/>
                      </a:lnTo>
                      <a:lnTo>
                        <a:pt x="97" y="3052"/>
                      </a:lnTo>
                      <a:lnTo>
                        <a:pt x="100" y="3052"/>
                      </a:lnTo>
                      <a:lnTo>
                        <a:pt x="100" y="3296"/>
                      </a:lnTo>
                      <a:lnTo>
                        <a:pt x="0" y="3395"/>
                      </a:lnTo>
                      <a:lnTo>
                        <a:pt x="0" y="0"/>
                      </a:lnTo>
                      <a:lnTo>
                        <a:pt x="100" y="99"/>
                      </a:lnTo>
                      <a:close/>
                    </a:path>
                  </a:pathLst>
                </a:custGeom>
                <a:solidFill>
                  <a:srgbClr val="1f51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77160" y="1660680"/>
                  <a:ext cx="6480" cy="230040"/>
                </a:xfrm>
                <a:custGeom>
                  <a:avLst/>
                  <a:gdLst/>
                  <a:ahLst/>
                  <a:rect l="l" t="t" r="r" b="b"/>
                  <a:pathLst>
                    <a:path w="99" h="3495">
                      <a:moveTo>
                        <a:pt x="99" y="99"/>
                      </a:moveTo>
                      <a:lnTo>
                        <a:pt x="99" y="3396"/>
                      </a:lnTo>
                      <a:lnTo>
                        <a:pt x="0" y="3495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</a:path>
                  </a:pathLst>
                </a:custGeom>
                <a:solidFill>
                  <a:srgbClr val="264a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6973920" y="1656000"/>
                  <a:ext cx="6480" cy="237960"/>
                </a:xfrm>
                <a:custGeom>
                  <a:avLst/>
                  <a:gdLst/>
                  <a:ahLst/>
                  <a:rect l="l" t="t" r="r" b="b"/>
                  <a:pathLst>
                    <a:path w="99" h="3593">
                      <a:moveTo>
                        <a:pt x="99" y="99"/>
                      </a:moveTo>
                      <a:lnTo>
                        <a:pt x="99" y="3494"/>
                      </a:lnTo>
                      <a:lnTo>
                        <a:pt x="0" y="3593"/>
                      </a:lnTo>
                      <a:lnTo>
                        <a:pt x="0" y="0"/>
                      </a:lnTo>
                      <a:lnTo>
                        <a:pt x="99" y="99"/>
                      </a:lnTo>
                      <a:close/>
                    </a:path>
                  </a:pathLst>
                </a:custGeom>
                <a:solidFill>
                  <a:srgbClr val="2943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6970680" y="1652760"/>
                  <a:ext cx="6480" cy="244440"/>
                </a:xfrm>
                <a:custGeom>
                  <a:avLst/>
                  <a:gdLst/>
                  <a:ahLst/>
                  <a:rect l="l" t="t" r="r" b="b"/>
                  <a:pathLst>
                    <a:path w="98" h="3692">
                      <a:moveTo>
                        <a:pt x="98" y="99"/>
                      </a:moveTo>
                      <a:lnTo>
                        <a:pt x="98" y="3594"/>
                      </a:lnTo>
                      <a:lnTo>
                        <a:pt x="0" y="3692"/>
                      </a:lnTo>
                      <a:lnTo>
                        <a:pt x="0" y="0"/>
                      </a:lnTo>
                      <a:lnTo>
                        <a:pt x="98" y="99"/>
                      </a:lnTo>
                      <a:close/>
                    </a:path>
                  </a:pathLst>
                </a:custGeom>
                <a:solidFill>
                  <a:srgbClr val="2d3b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6970680" y="1652760"/>
                  <a:ext cx="3240" cy="244440"/>
                </a:xfrm>
                <a:custGeom>
                  <a:avLst/>
                  <a:gdLst/>
                  <a:ahLst/>
                  <a:rect l="l" t="t" r="r" b="b"/>
                  <a:pathLst>
                    <a:path w="49" h="3692">
                      <a:moveTo>
                        <a:pt x="49" y="50"/>
                      </a:moveTo>
                      <a:lnTo>
                        <a:pt x="49" y="3643"/>
                      </a:lnTo>
                      <a:lnTo>
                        <a:pt x="0" y="3692"/>
                      </a:lnTo>
                      <a:lnTo>
                        <a:pt x="0" y="0"/>
                      </a:lnTo>
                      <a:lnTo>
                        <a:pt x="49" y="50"/>
                      </a:lnTo>
                      <a:close/>
                    </a:path>
                  </a:pathLst>
                </a:custGeom>
                <a:solidFill>
                  <a:srgbClr val="3127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6966000" y="165096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96" h="47">
                      <a:moveTo>
                        <a:pt x="96" y="47"/>
                      </a:moveTo>
                      <a:lnTo>
                        <a:pt x="0" y="47"/>
                      </a:lnTo>
                      <a:lnTo>
                        <a:pt x="48" y="0"/>
                      </a:lnTo>
                      <a:lnTo>
                        <a:pt x="96" y="47"/>
                      </a:lnTo>
                      <a:close/>
                    </a:path>
                  </a:pathLst>
                </a:custGeom>
                <a:solidFill>
                  <a:srgbClr val="d932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6962760" y="165276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70" h="75">
                      <a:moveTo>
                        <a:pt x="74" y="0"/>
                      </a:moveTo>
                      <a:lnTo>
                        <a:pt x="96" y="0"/>
                      </a:lnTo>
                      <a:lnTo>
                        <a:pt x="170" y="75"/>
                      </a:lnTo>
                      <a:lnTo>
                        <a:pt x="0" y="7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db41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961320" y="1654200"/>
                  <a:ext cx="15840" cy="4680"/>
                </a:xfrm>
                <a:custGeom>
                  <a:avLst/>
                  <a:gdLst/>
                  <a:ahLst/>
                  <a:rect l="l" t="t" r="r" b="b"/>
                  <a:pathLst>
                    <a:path w="244" h="75">
                      <a:moveTo>
                        <a:pt x="74" y="0"/>
                      </a:moveTo>
                      <a:lnTo>
                        <a:pt x="170" y="0"/>
                      </a:lnTo>
                      <a:lnTo>
                        <a:pt x="244" y="75"/>
                      </a:lnTo>
                      <a:lnTo>
                        <a:pt x="0" y="7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dd4d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958080" y="1657440"/>
                  <a:ext cx="20520" cy="4680"/>
                </a:xfrm>
                <a:custGeom>
                  <a:avLst/>
                  <a:gdLst/>
                  <a:ahLst/>
                  <a:rect l="l" t="t" r="r" b="b"/>
                  <a:pathLst>
                    <a:path w="320" h="74">
                      <a:moveTo>
                        <a:pt x="75" y="0"/>
                      </a:moveTo>
                      <a:lnTo>
                        <a:pt x="245" y="0"/>
                      </a:lnTo>
                      <a:lnTo>
                        <a:pt x="320" y="74"/>
                      </a:lnTo>
                      <a:lnTo>
                        <a:pt x="0" y="74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df58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6954840" y="1658880"/>
                  <a:ext cx="27000" cy="6480"/>
                </a:xfrm>
                <a:custGeom>
                  <a:avLst/>
                  <a:gdLst/>
                  <a:ahLst/>
                  <a:rect l="l" t="t" r="r" b="b"/>
                  <a:pathLst>
                    <a:path w="394" h="75">
                      <a:moveTo>
                        <a:pt x="75" y="0"/>
                      </a:moveTo>
                      <a:lnTo>
                        <a:pt x="319" y="0"/>
                      </a:lnTo>
                      <a:lnTo>
                        <a:pt x="394" y="75"/>
                      </a:lnTo>
                      <a:lnTo>
                        <a:pt x="0" y="75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e06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953400" y="166212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468" h="75">
                      <a:moveTo>
                        <a:pt x="74" y="0"/>
                      </a:moveTo>
                      <a:lnTo>
                        <a:pt x="394" y="0"/>
                      </a:lnTo>
                      <a:lnTo>
                        <a:pt x="468" y="75"/>
                      </a:lnTo>
                      <a:lnTo>
                        <a:pt x="0" y="7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e26d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6950160" y="1665360"/>
                  <a:ext cx="36360" cy="4680"/>
                </a:xfrm>
                <a:custGeom>
                  <a:avLst/>
                  <a:gdLst/>
                  <a:ahLst/>
                  <a:rect l="l" t="t" r="r" b="b"/>
                  <a:pathLst>
                    <a:path w="545" h="74">
                      <a:moveTo>
                        <a:pt x="76" y="0"/>
                      </a:moveTo>
                      <a:lnTo>
                        <a:pt x="470" y="0"/>
                      </a:lnTo>
                      <a:lnTo>
                        <a:pt x="545" y="74"/>
                      </a:lnTo>
                      <a:lnTo>
                        <a:pt x="0" y="74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477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6948720" y="1666800"/>
                  <a:ext cx="41040" cy="5040"/>
                </a:xfrm>
                <a:custGeom>
                  <a:avLst/>
                  <a:gdLst/>
                  <a:ahLst/>
                  <a:rect l="l" t="t" r="r" b="b"/>
                  <a:pathLst>
                    <a:path w="620" h="75">
                      <a:moveTo>
                        <a:pt x="76" y="0"/>
                      </a:moveTo>
                      <a:lnTo>
                        <a:pt x="544" y="0"/>
                      </a:lnTo>
                      <a:lnTo>
                        <a:pt x="620" y="75"/>
                      </a:lnTo>
                      <a:lnTo>
                        <a:pt x="0" y="75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e480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6945480" y="1670040"/>
                  <a:ext cx="46080" cy="4680"/>
                </a:xfrm>
                <a:custGeom>
                  <a:avLst/>
                  <a:gdLst/>
                  <a:ahLst/>
                  <a:rect l="l" t="t" r="r" b="b"/>
                  <a:pathLst>
                    <a:path w="694" h="75">
                      <a:moveTo>
                        <a:pt x="74" y="0"/>
                      </a:moveTo>
                      <a:lnTo>
                        <a:pt x="619" y="0"/>
                      </a:lnTo>
                      <a:lnTo>
                        <a:pt x="694" y="75"/>
                      </a:lnTo>
                      <a:lnTo>
                        <a:pt x="0" y="7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e78b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6943680" y="1671840"/>
                  <a:ext cx="50760" cy="4680"/>
                </a:xfrm>
                <a:custGeom>
                  <a:avLst/>
                  <a:gdLst/>
                  <a:ahLst/>
                  <a:rect l="l" t="t" r="r" b="b"/>
                  <a:pathLst>
                    <a:path w="768" h="74">
                      <a:moveTo>
                        <a:pt x="74" y="0"/>
                      </a:moveTo>
                      <a:lnTo>
                        <a:pt x="694" y="0"/>
                      </a:lnTo>
                      <a:lnTo>
                        <a:pt x="768" y="74"/>
                      </a:lnTo>
                      <a:lnTo>
                        <a:pt x="0" y="74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e894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940440" y="1674720"/>
                  <a:ext cx="55800" cy="5040"/>
                </a:xfrm>
                <a:custGeom>
                  <a:avLst/>
                  <a:gdLst/>
                  <a:ahLst/>
                  <a:rect l="l" t="t" r="r" b="b"/>
                  <a:pathLst>
                    <a:path w="843" h="74">
                      <a:moveTo>
                        <a:pt x="75" y="0"/>
                      </a:moveTo>
                      <a:lnTo>
                        <a:pt x="769" y="0"/>
                      </a:lnTo>
                      <a:lnTo>
                        <a:pt x="843" y="74"/>
                      </a:lnTo>
                      <a:lnTo>
                        <a:pt x="0" y="74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eaa0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6939000" y="1676520"/>
                  <a:ext cx="60480" cy="4680"/>
                </a:xfrm>
                <a:custGeom>
                  <a:avLst/>
                  <a:gdLst/>
                  <a:ahLst/>
                  <a:rect l="l" t="t" r="r" b="b"/>
                  <a:pathLst>
                    <a:path w="918" h="75">
                      <a:moveTo>
                        <a:pt x="75" y="0"/>
                      </a:moveTo>
                      <a:lnTo>
                        <a:pt x="843" y="0"/>
                      </a:lnTo>
                      <a:lnTo>
                        <a:pt x="918" y="75"/>
                      </a:lnTo>
                      <a:lnTo>
                        <a:pt x="0" y="75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eca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6935760" y="1679760"/>
                  <a:ext cx="65160" cy="4680"/>
                </a:xfrm>
                <a:custGeom>
                  <a:avLst/>
                  <a:gdLst/>
                  <a:ahLst/>
                  <a:rect l="l" t="t" r="r" b="b"/>
                  <a:pathLst>
                    <a:path w="992" h="75">
                      <a:moveTo>
                        <a:pt x="74" y="0"/>
                      </a:moveTo>
                      <a:lnTo>
                        <a:pt x="917" y="0"/>
                      </a:lnTo>
                      <a:lnTo>
                        <a:pt x="992" y="75"/>
                      </a:lnTo>
                      <a:lnTo>
                        <a:pt x="0" y="7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efb6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6934320" y="1681200"/>
                  <a:ext cx="69840" cy="6480"/>
                </a:xfrm>
                <a:custGeom>
                  <a:avLst/>
                  <a:gdLst/>
                  <a:ahLst/>
                  <a:rect l="l" t="t" r="r" b="b"/>
                  <a:pathLst>
                    <a:path w="1061" h="75">
                      <a:moveTo>
                        <a:pt x="71" y="0"/>
                      </a:moveTo>
                      <a:lnTo>
                        <a:pt x="989" y="0"/>
                      </a:lnTo>
                      <a:lnTo>
                        <a:pt x="1061" y="73"/>
                      </a:lnTo>
                      <a:lnTo>
                        <a:pt x="787" y="73"/>
                      </a:lnTo>
                      <a:lnTo>
                        <a:pt x="787" y="75"/>
                      </a:lnTo>
                      <a:lnTo>
                        <a:pt x="246" y="75"/>
                      </a:lnTo>
                      <a:lnTo>
                        <a:pt x="246" y="72"/>
                      </a:lnTo>
                      <a:lnTo>
                        <a:pt x="0" y="72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f1c4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6934320" y="1684440"/>
                  <a:ext cx="69840" cy="4680"/>
                </a:xfrm>
                <a:custGeom>
                  <a:avLst/>
                  <a:gdLst/>
                  <a:ahLst/>
                  <a:rect l="l" t="t" r="r" b="b"/>
                  <a:pathLst>
                    <a:path w="1061" h="76">
                      <a:moveTo>
                        <a:pt x="34" y="0"/>
                      </a:moveTo>
                      <a:lnTo>
                        <a:pt x="1026" y="0"/>
                      </a:lnTo>
                      <a:lnTo>
                        <a:pt x="1061" y="36"/>
                      </a:lnTo>
                      <a:lnTo>
                        <a:pt x="787" y="36"/>
                      </a:lnTo>
                      <a:lnTo>
                        <a:pt x="787" y="76"/>
                      </a:lnTo>
                      <a:lnTo>
                        <a:pt x="246" y="76"/>
                      </a:lnTo>
                      <a:lnTo>
                        <a:pt x="246" y="35"/>
                      </a:lnTo>
                      <a:lnTo>
                        <a:pt x="0" y="35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2cf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6950160" y="1687680"/>
                  <a:ext cx="34920" cy="4680"/>
                </a:xfrm>
                <a:prstGeom prst="rect">
                  <a:avLst/>
                </a:prstGeom>
                <a:solidFill>
                  <a:srgbClr val="f5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6950160" y="1689120"/>
                  <a:ext cx="34920" cy="4680"/>
                </a:xfrm>
                <a:prstGeom prst="rect">
                  <a:avLst/>
                </a:pr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6950160" y="1692360"/>
                  <a:ext cx="34920" cy="4680"/>
                </a:xfrm>
                <a:prstGeom prst="rect">
                  <a:avLst/>
                </a:pr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6950160" y="1693800"/>
                  <a:ext cx="34920" cy="5040"/>
                </a:xfrm>
                <a:prstGeom prst="rect">
                  <a:avLst/>
                </a:pr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6950160" y="1697040"/>
                  <a:ext cx="34920" cy="4680"/>
                </a:xfrm>
                <a:prstGeom prst="rect">
                  <a:avLst/>
                </a:prstGeom>
                <a:solidFill>
                  <a:srgbClr val="f6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6950160" y="1698840"/>
                  <a:ext cx="34920" cy="4680"/>
                </a:xfrm>
                <a:prstGeom prst="rect">
                  <a:avLst/>
                </a:prstGeom>
                <a:solidFill>
                  <a:srgbClr val="e1e6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6950160" y="1701720"/>
                  <a:ext cx="34920" cy="5040"/>
                </a:xfrm>
                <a:prstGeom prst="rect">
                  <a:avLst/>
                </a:prstGeom>
                <a:solidFill>
                  <a:srgbClr val="cadd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950160" y="1703520"/>
                  <a:ext cx="34920" cy="6480"/>
                </a:xfrm>
                <a:prstGeom prst="rect">
                  <a:avLst/>
                </a:prstGeom>
                <a:solidFill>
                  <a:srgbClr val="bad7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6950160" y="1706760"/>
                  <a:ext cx="34920" cy="4680"/>
                </a:xfrm>
                <a:prstGeom prst="rect">
                  <a:avLst/>
                </a:prstGeom>
                <a:solidFill>
                  <a:srgbClr val="a7c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6889680" y="1710000"/>
                  <a:ext cx="162000" cy="4680"/>
                </a:xfrm>
                <a:custGeom>
                  <a:avLst/>
                  <a:gdLst/>
                  <a:ahLst/>
                  <a:rect l="l" t="t" r="r" b="b"/>
                  <a:pathLst>
                    <a:path w="2452" h="74">
                      <a:moveTo>
                        <a:pt x="904" y="0"/>
                      </a:moveTo>
                      <a:lnTo>
                        <a:pt x="1445" y="0"/>
                      </a:lnTo>
                      <a:lnTo>
                        <a:pt x="1445" y="38"/>
                      </a:lnTo>
                      <a:lnTo>
                        <a:pt x="2429" y="38"/>
                      </a:lnTo>
                      <a:lnTo>
                        <a:pt x="2452" y="38"/>
                      </a:lnTo>
                      <a:lnTo>
                        <a:pt x="2402" y="74"/>
                      </a:lnTo>
                      <a:lnTo>
                        <a:pt x="35" y="74"/>
                      </a:lnTo>
                      <a:lnTo>
                        <a:pt x="0" y="47"/>
                      </a:lnTo>
                      <a:lnTo>
                        <a:pt x="547" y="47"/>
                      </a:lnTo>
                      <a:lnTo>
                        <a:pt x="547" y="51"/>
                      </a:lnTo>
                      <a:lnTo>
                        <a:pt x="904" y="51"/>
                      </a:lnTo>
                      <a:lnTo>
                        <a:pt x="904" y="0"/>
                      </a:lnTo>
                      <a:close/>
                    </a:path>
                  </a:pathLst>
                </a:custGeom>
                <a:solidFill>
                  <a:srgbClr val="97c9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6889680" y="1711440"/>
                  <a:ext cx="162000" cy="4680"/>
                </a:xfrm>
                <a:custGeom>
                  <a:avLst/>
                  <a:gdLst/>
                  <a:ahLst/>
                  <a:rect l="l" t="t" r="r" b="b"/>
                  <a:pathLst>
                    <a:path w="2452" h="75">
                      <a:moveTo>
                        <a:pt x="904" y="0"/>
                      </a:moveTo>
                      <a:lnTo>
                        <a:pt x="1445" y="0"/>
                      </a:lnTo>
                      <a:lnTo>
                        <a:pt x="1445" y="1"/>
                      </a:lnTo>
                      <a:lnTo>
                        <a:pt x="2429" y="1"/>
                      </a:lnTo>
                      <a:lnTo>
                        <a:pt x="2452" y="1"/>
                      </a:lnTo>
                      <a:lnTo>
                        <a:pt x="2353" y="75"/>
                      </a:lnTo>
                      <a:lnTo>
                        <a:pt x="84" y="75"/>
                      </a:lnTo>
                      <a:lnTo>
                        <a:pt x="0" y="10"/>
                      </a:lnTo>
                      <a:lnTo>
                        <a:pt x="547" y="10"/>
                      </a:lnTo>
                      <a:lnTo>
                        <a:pt x="547" y="14"/>
                      </a:lnTo>
                      <a:lnTo>
                        <a:pt x="904" y="14"/>
                      </a:lnTo>
                      <a:lnTo>
                        <a:pt x="904" y="0"/>
                      </a:lnTo>
                      <a:close/>
                    </a:path>
                  </a:pathLst>
                </a:custGeom>
                <a:solidFill>
                  <a:srgbClr val="88c3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6892920" y="1714680"/>
                  <a:ext cx="155520" cy="4680"/>
                </a:xfrm>
                <a:custGeom>
                  <a:avLst/>
                  <a:gdLst/>
                  <a:ahLst/>
                  <a:rect l="l" t="t" r="r" b="b"/>
                  <a:pathLst>
                    <a:path w="2367" h="75">
                      <a:moveTo>
                        <a:pt x="0" y="0"/>
                      </a:moveTo>
                      <a:lnTo>
                        <a:pt x="2367" y="0"/>
                      </a:lnTo>
                      <a:lnTo>
                        <a:pt x="2268" y="75"/>
                      </a:lnTo>
                      <a:lnTo>
                        <a:pt x="98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8bd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6896160" y="1716120"/>
                  <a:ext cx="149400" cy="4680"/>
                </a:xfrm>
                <a:custGeom>
                  <a:avLst/>
                  <a:gdLst/>
                  <a:ahLst/>
                  <a:rect l="l" t="t" r="r" b="b"/>
                  <a:pathLst>
                    <a:path w="2269" h="74">
                      <a:moveTo>
                        <a:pt x="0" y="0"/>
                      </a:moveTo>
                      <a:lnTo>
                        <a:pt x="2269" y="0"/>
                      </a:lnTo>
                      <a:lnTo>
                        <a:pt x="2169" y="74"/>
                      </a:lnTo>
                      <a:lnTo>
                        <a:pt x="97" y="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9b8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6899400" y="1719360"/>
                  <a:ext cx="142920" cy="4680"/>
                </a:xfrm>
                <a:custGeom>
                  <a:avLst/>
                  <a:gdLst/>
                  <a:ahLst/>
                  <a:rect l="l" t="t" r="r" b="b"/>
                  <a:pathLst>
                    <a:path w="2170" h="75">
                      <a:moveTo>
                        <a:pt x="0" y="0"/>
                      </a:moveTo>
                      <a:lnTo>
                        <a:pt x="2170" y="0"/>
                      </a:lnTo>
                      <a:lnTo>
                        <a:pt x="2070" y="75"/>
                      </a:lnTo>
                      <a:lnTo>
                        <a:pt x="97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b3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6902640" y="1720800"/>
                  <a:ext cx="136440" cy="5040"/>
                </a:xfrm>
                <a:custGeom>
                  <a:avLst/>
                  <a:gdLst/>
                  <a:ahLst/>
                  <a:rect l="l" t="t" r="r" b="b"/>
                  <a:pathLst>
                    <a:path w="2072" h="75">
                      <a:moveTo>
                        <a:pt x="0" y="0"/>
                      </a:moveTo>
                      <a:lnTo>
                        <a:pt x="2072" y="0"/>
                      </a:lnTo>
                      <a:lnTo>
                        <a:pt x="1973" y="75"/>
                      </a:lnTo>
                      <a:lnTo>
                        <a:pt x="98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ae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6905520" y="1724040"/>
                  <a:ext cx="130320" cy="4680"/>
                </a:xfrm>
                <a:custGeom>
                  <a:avLst/>
                  <a:gdLst/>
                  <a:ahLst/>
                  <a:rect l="l" t="t" r="r" b="b"/>
                  <a:pathLst>
                    <a:path w="1973" h="74">
                      <a:moveTo>
                        <a:pt x="0" y="0"/>
                      </a:moveTo>
                      <a:lnTo>
                        <a:pt x="1973" y="0"/>
                      </a:lnTo>
                      <a:lnTo>
                        <a:pt x="1874" y="74"/>
                      </a:lnTo>
                      <a:lnTo>
                        <a:pt x="98" y="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aaa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6908760" y="1725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875" h="74">
                      <a:moveTo>
                        <a:pt x="0" y="0"/>
                      </a:moveTo>
                      <a:lnTo>
                        <a:pt x="1875" y="0"/>
                      </a:lnTo>
                      <a:lnTo>
                        <a:pt x="1775" y="74"/>
                      </a:lnTo>
                      <a:lnTo>
                        <a:pt x="98" y="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5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6912000" y="1728720"/>
                  <a:ext cx="117360" cy="5040"/>
                </a:xfrm>
                <a:custGeom>
                  <a:avLst/>
                  <a:gdLst/>
                  <a:ahLst/>
                  <a:rect l="l" t="t" r="r" b="b"/>
                  <a:pathLst>
                    <a:path w="1776" h="75">
                      <a:moveTo>
                        <a:pt x="0" y="0"/>
                      </a:moveTo>
                      <a:lnTo>
                        <a:pt x="1776" y="0"/>
                      </a:lnTo>
                      <a:lnTo>
                        <a:pt x="1677" y="75"/>
                      </a:lnTo>
                      <a:lnTo>
                        <a:pt x="97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6915240" y="1731960"/>
                  <a:ext cx="111240" cy="4680"/>
                </a:xfrm>
                <a:custGeom>
                  <a:avLst/>
                  <a:gdLst/>
                  <a:ahLst/>
                  <a:rect l="l" t="t" r="r" b="b"/>
                  <a:pathLst>
                    <a:path w="1677" h="75">
                      <a:moveTo>
                        <a:pt x="0" y="0"/>
                      </a:moveTo>
                      <a:lnTo>
                        <a:pt x="1677" y="0"/>
                      </a:lnTo>
                      <a:lnTo>
                        <a:pt x="1578" y="75"/>
                      </a:lnTo>
                      <a:lnTo>
                        <a:pt x="98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c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6918480" y="1733760"/>
                  <a:ext cx="104760" cy="4680"/>
                </a:xfrm>
                <a:custGeom>
                  <a:avLst/>
                  <a:gdLst/>
                  <a:ahLst/>
                  <a:rect l="l" t="t" r="r" b="b"/>
                  <a:pathLst>
                    <a:path w="1580" h="74">
                      <a:moveTo>
                        <a:pt x="0" y="0"/>
                      </a:moveTo>
                      <a:lnTo>
                        <a:pt x="1580" y="0"/>
                      </a:lnTo>
                      <a:lnTo>
                        <a:pt x="1479" y="74"/>
                      </a:lnTo>
                      <a:lnTo>
                        <a:pt x="99" y="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8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6921720" y="1736640"/>
                  <a:ext cx="98280" cy="5040"/>
                </a:xfrm>
                <a:custGeom>
                  <a:avLst/>
                  <a:gdLst/>
                  <a:ahLst/>
                  <a:rect l="l" t="t" r="r" b="b"/>
                  <a:pathLst>
                    <a:path w="1480" h="76">
                      <a:moveTo>
                        <a:pt x="0" y="0"/>
                      </a:moveTo>
                      <a:lnTo>
                        <a:pt x="1480" y="0"/>
                      </a:lnTo>
                      <a:lnTo>
                        <a:pt x="1380" y="76"/>
                      </a:lnTo>
                      <a:lnTo>
                        <a:pt x="98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91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6924600" y="1738440"/>
                  <a:ext cx="92160" cy="4680"/>
                </a:xfrm>
                <a:custGeom>
                  <a:avLst/>
                  <a:gdLst/>
                  <a:ahLst/>
                  <a:rect l="l" t="t" r="r" b="b"/>
                  <a:pathLst>
                    <a:path w="1380" h="76">
                      <a:moveTo>
                        <a:pt x="0" y="0"/>
                      </a:moveTo>
                      <a:lnTo>
                        <a:pt x="1380" y="0"/>
                      </a:lnTo>
                      <a:lnTo>
                        <a:pt x="1281" y="76"/>
                      </a:lnTo>
                      <a:lnTo>
                        <a:pt x="97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6927840" y="1741680"/>
                  <a:ext cx="84240" cy="4680"/>
                </a:xfrm>
                <a:custGeom>
                  <a:avLst/>
                  <a:gdLst/>
                  <a:ahLst/>
                  <a:rect l="l" t="t" r="r" b="b"/>
                  <a:pathLst>
                    <a:path w="1282" h="74">
                      <a:moveTo>
                        <a:pt x="0" y="0"/>
                      </a:moveTo>
                      <a:lnTo>
                        <a:pt x="1282" y="0"/>
                      </a:lnTo>
                      <a:lnTo>
                        <a:pt x="1182" y="74"/>
                      </a:lnTo>
                      <a:lnTo>
                        <a:pt x="97" y="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4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6931080" y="1743120"/>
                  <a:ext cx="77760" cy="4680"/>
                </a:xfrm>
                <a:custGeom>
                  <a:avLst/>
                  <a:gdLst/>
                  <a:ahLst/>
                  <a:rect l="l" t="t" r="r" b="b"/>
                  <a:pathLst>
                    <a:path w="1184" h="74">
                      <a:moveTo>
                        <a:pt x="0" y="0"/>
                      </a:moveTo>
                      <a:lnTo>
                        <a:pt x="1184" y="0"/>
                      </a:lnTo>
                      <a:lnTo>
                        <a:pt x="1085" y="74"/>
                      </a:lnTo>
                      <a:lnTo>
                        <a:pt x="98" y="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7e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6934320" y="1746360"/>
                  <a:ext cx="71280" cy="4680"/>
                </a:xfrm>
                <a:custGeom>
                  <a:avLst/>
                  <a:gdLst/>
                  <a:ahLst/>
                  <a:rect l="l" t="t" r="r" b="b"/>
                  <a:pathLst>
                    <a:path w="1085" h="75">
                      <a:moveTo>
                        <a:pt x="0" y="0"/>
                      </a:moveTo>
                      <a:lnTo>
                        <a:pt x="1085" y="0"/>
                      </a:lnTo>
                      <a:lnTo>
                        <a:pt x="986" y="75"/>
                      </a:lnTo>
                      <a:lnTo>
                        <a:pt x="98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7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6937560" y="1747800"/>
                  <a:ext cx="64800" cy="6480"/>
                </a:xfrm>
                <a:custGeom>
                  <a:avLst/>
                  <a:gdLst/>
                  <a:ahLst/>
                  <a:rect l="l" t="t" r="r" b="b"/>
                  <a:pathLst>
                    <a:path w="987" h="75">
                      <a:moveTo>
                        <a:pt x="0" y="0"/>
                      </a:moveTo>
                      <a:lnTo>
                        <a:pt x="987" y="0"/>
                      </a:lnTo>
                      <a:lnTo>
                        <a:pt x="887" y="75"/>
                      </a:lnTo>
                      <a:lnTo>
                        <a:pt x="98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72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6940440" y="1751040"/>
                  <a:ext cx="59040" cy="4680"/>
                </a:xfrm>
                <a:custGeom>
                  <a:avLst/>
                  <a:gdLst/>
                  <a:ahLst/>
                  <a:rect l="l" t="t" r="r" b="b"/>
                  <a:pathLst>
                    <a:path w="888" h="74">
                      <a:moveTo>
                        <a:pt x="0" y="0"/>
                      </a:moveTo>
                      <a:lnTo>
                        <a:pt x="888" y="0"/>
                      </a:lnTo>
                      <a:lnTo>
                        <a:pt x="789" y="74"/>
                      </a:lnTo>
                      <a:lnTo>
                        <a:pt x="97" y="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a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6943680" y="1754280"/>
                  <a:ext cx="52560" cy="4680"/>
                </a:xfrm>
                <a:custGeom>
                  <a:avLst/>
                  <a:gdLst/>
                  <a:ahLst/>
                  <a:rect l="l" t="t" r="r" b="b"/>
                  <a:pathLst>
                    <a:path w="789" h="75">
                      <a:moveTo>
                        <a:pt x="0" y="0"/>
                      </a:moveTo>
                      <a:lnTo>
                        <a:pt x="789" y="0"/>
                      </a:lnTo>
                      <a:lnTo>
                        <a:pt x="690" y="75"/>
                      </a:lnTo>
                      <a:lnTo>
                        <a:pt x="97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5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6946920" y="1755720"/>
                  <a:ext cx="46080" cy="5040"/>
                </a:xfrm>
                <a:custGeom>
                  <a:avLst/>
                  <a:gdLst/>
                  <a:ahLst/>
                  <a:rect l="l" t="t" r="r" b="b"/>
                  <a:pathLst>
                    <a:path w="692" h="75">
                      <a:moveTo>
                        <a:pt x="0" y="0"/>
                      </a:moveTo>
                      <a:lnTo>
                        <a:pt x="692" y="0"/>
                      </a:lnTo>
                      <a:lnTo>
                        <a:pt x="592" y="75"/>
                      </a:lnTo>
                      <a:lnTo>
                        <a:pt x="99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c5e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6950160" y="1758960"/>
                  <a:ext cx="39600" cy="4680"/>
                </a:xfrm>
                <a:custGeom>
                  <a:avLst/>
                  <a:gdLst/>
                  <a:ahLst/>
                  <a:rect l="l" t="t" r="r" b="b"/>
                  <a:pathLst>
                    <a:path w="593" h="74">
                      <a:moveTo>
                        <a:pt x="0" y="0"/>
                      </a:moveTo>
                      <a:lnTo>
                        <a:pt x="593" y="0"/>
                      </a:lnTo>
                      <a:lnTo>
                        <a:pt x="493" y="74"/>
                      </a:lnTo>
                      <a:lnTo>
                        <a:pt x="99" y="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757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6953400" y="1760760"/>
                  <a:ext cx="33120" cy="4680"/>
                </a:xfrm>
                <a:custGeom>
                  <a:avLst/>
                  <a:gdLst/>
                  <a:ahLst/>
                  <a:rect l="l" t="t" r="r" b="b"/>
                  <a:pathLst>
                    <a:path w="493" h="74">
                      <a:moveTo>
                        <a:pt x="0" y="0"/>
                      </a:moveTo>
                      <a:lnTo>
                        <a:pt x="493" y="0"/>
                      </a:lnTo>
                      <a:lnTo>
                        <a:pt x="393" y="74"/>
                      </a:lnTo>
                      <a:lnTo>
                        <a:pt x="97" y="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f51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6956640" y="1763640"/>
                  <a:ext cx="27000" cy="5040"/>
                </a:xfrm>
                <a:custGeom>
                  <a:avLst/>
                  <a:gdLst/>
                  <a:ahLst/>
                  <a:rect l="l" t="t" r="r" b="b"/>
                  <a:pathLst>
                    <a:path w="394" h="75">
                      <a:moveTo>
                        <a:pt x="0" y="0"/>
                      </a:moveTo>
                      <a:lnTo>
                        <a:pt x="394" y="0"/>
                      </a:lnTo>
                      <a:lnTo>
                        <a:pt x="294" y="75"/>
                      </a:lnTo>
                      <a:lnTo>
                        <a:pt x="97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64a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6959520" y="1765440"/>
                  <a:ext cx="20880" cy="4680"/>
                </a:xfrm>
                <a:custGeom>
                  <a:avLst/>
                  <a:gdLst/>
                  <a:ahLst/>
                  <a:rect l="l" t="t" r="r" b="b"/>
                  <a:pathLst>
                    <a:path w="296" h="75">
                      <a:moveTo>
                        <a:pt x="0" y="0"/>
                      </a:moveTo>
                      <a:lnTo>
                        <a:pt x="296" y="0"/>
                      </a:lnTo>
                      <a:lnTo>
                        <a:pt x="197" y="75"/>
                      </a:lnTo>
                      <a:lnTo>
                        <a:pt x="98" y="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43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6962760" y="1768680"/>
                  <a:ext cx="14400" cy="4680"/>
                </a:xfrm>
                <a:custGeom>
                  <a:avLst/>
                  <a:gdLst/>
                  <a:ahLst/>
                  <a:rect l="l" t="t" r="r" b="b"/>
                  <a:pathLst>
                    <a:path w="197" h="74">
                      <a:moveTo>
                        <a:pt x="0" y="0"/>
                      </a:moveTo>
                      <a:lnTo>
                        <a:pt x="197" y="0"/>
                      </a:lnTo>
                      <a:lnTo>
                        <a:pt x="98" y="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3b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6966000" y="177012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99" h="37">
                      <a:moveTo>
                        <a:pt x="0" y="0"/>
                      </a:moveTo>
                      <a:lnTo>
                        <a:pt x="99" y="0"/>
                      </a:lnTo>
                      <a:lnTo>
                        <a:pt x="49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127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6964560" y="189720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83" h="43">
                      <a:moveTo>
                        <a:pt x="0" y="0"/>
                      </a:moveTo>
                      <a:lnTo>
                        <a:pt x="83" y="0"/>
                      </a:lnTo>
                      <a:lnTo>
                        <a:pt x="41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32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6962760" y="189540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161" h="80">
                      <a:moveTo>
                        <a:pt x="82" y="80"/>
                      </a:moveTo>
                      <a:lnTo>
                        <a:pt x="78" y="80"/>
                      </a:lnTo>
                      <a:lnTo>
                        <a:pt x="0" y="0"/>
                      </a:lnTo>
                      <a:lnTo>
                        <a:pt x="161" y="0"/>
                      </a:lnTo>
                      <a:lnTo>
                        <a:pt x="82" y="80"/>
                      </a:lnTo>
                      <a:close/>
                    </a:path>
                  </a:pathLst>
                </a:custGeom>
                <a:solidFill>
                  <a:srgbClr val="db41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6959520" y="1892520"/>
                  <a:ext cx="15840" cy="4680"/>
                </a:xfrm>
                <a:custGeom>
                  <a:avLst/>
                  <a:gdLst/>
                  <a:ahLst/>
                  <a:rect l="l" t="t" r="r" b="b"/>
                  <a:pathLst>
                    <a:path w="239" h="78">
                      <a:moveTo>
                        <a:pt x="161" y="78"/>
                      </a:moveTo>
                      <a:lnTo>
                        <a:pt x="78" y="78"/>
                      </a:ln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161" y="78"/>
                      </a:lnTo>
                      <a:close/>
                    </a:path>
                  </a:pathLst>
                </a:custGeom>
                <a:solidFill>
                  <a:srgbClr val="dd4d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6958080" y="1889280"/>
                  <a:ext cx="20520" cy="6120"/>
                </a:xfrm>
                <a:custGeom>
                  <a:avLst/>
                  <a:gdLst/>
                  <a:ahLst/>
                  <a:rect l="l" t="t" r="r" b="b"/>
                  <a:pathLst>
                    <a:path w="317" h="78">
                      <a:moveTo>
                        <a:pt x="239" y="78"/>
                      </a:moveTo>
                      <a:lnTo>
                        <a:pt x="78" y="78"/>
                      </a:lnTo>
                      <a:lnTo>
                        <a:pt x="0" y="0"/>
                      </a:lnTo>
                      <a:lnTo>
                        <a:pt x="317" y="0"/>
                      </a:lnTo>
                      <a:lnTo>
                        <a:pt x="239" y="78"/>
                      </a:lnTo>
                      <a:close/>
                    </a:path>
                  </a:pathLst>
                </a:custGeom>
                <a:solidFill>
                  <a:srgbClr val="df58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6954840" y="1887480"/>
                  <a:ext cx="25560" cy="5040"/>
                </a:xfrm>
                <a:custGeom>
                  <a:avLst/>
                  <a:gdLst/>
                  <a:ahLst/>
                  <a:rect l="l" t="t" r="r" b="b"/>
                  <a:pathLst>
                    <a:path w="396" h="78">
                      <a:moveTo>
                        <a:pt x="318" y="78"/>
                      </a:moveTo>
                      <a:lnTo>
                        <a:pt x="79" y="78"/>
                      </a:lnTo>
                      <a:lnTo>
                        <a:pt x="0" y="0"/>
                      </a:lnTo>
                      <a:lnTo>
                        <a:pt x="396" y="0"/>
                      </a:lnTo>
                      <a:lnTo>
                        <a:pt x="318" y="78"/>
                      </a:lnTo>
                      <a:close/>
                    </a:path>
                  </a:pathLst>
                </a:custGeom>
                <a:solidFill>
                  <a:srgbClr val="e062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6951600" y="1884600"/>
                  <a:ext cx="32040" cy="4680"/>
                </a:xfrm>
                <a:custGeom>
                  <a:avLst/>
                  <a:gdLst/>
                  <a:ahLst/>
                  <a:rect l="l" t="t" r="r" b="b"/>
                  <a:pathLst>
                    <a:path w="476" h="79">
                      <a:moveTo>
                        <a:pt x="397" y="79"/>
                      </a:moveTo>
                      <a:lnTo>
                        <a:pt x="80" y="79"/>
                      </a:lnTo>
                      <a:lnTo>
                        <a:pt x="0" y="0"/>
                      </a:lnTo>
                      <a:lnTo>
                        <a:pt x="476" y="0"/>
                      </a:lnTo>
                      <a:lnTo>
                        <a:pt x="397" y="79"/>
                      </a:lnTo>
                      <a:close/>
                    </a:path>
                  </a:pathLst>
                </a:custGeom>
                <a:solidFill>
                  <a:srgbClr val="e26d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6950160" y="1881360"/>
                  <a:ext cx="36360" cy="6120"/>
                </a:xfrm>
                <a:custGeom>
                  <a:avLst/>
                  <a:gdLst/>
                  <a:ahLst/>
                  <a:rect l="l" t="t" r="r" b="b"/>
                  <a:pathLst>
                    <a:path w="555" h="79">
                      <a:moveTo>
                        <a:pt x="475" y="79"/>
                      </a:moveTo>
                      <a:lnTo>
                        <a:pt x="79" y="79"/>
                      </a:lnTo>
                      <a:lnTo>
                        <a:pt x="0" y="0"/>
                      </a:lnTo>
                      <a:lnTo>
                        <a:pt x="555" y="0"/>
                      </a:lnTo>
                      <a:lnTo>
                        <a:pt x="475" y="79"/>
                      </a:lnTo>
                      <a:close/>
                    </a:path>
                  </a:pathLst>
                </a:custGeom>
                <a:solidFill>
                  <a:srgbClr val="e477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6946920" y="1879560"/>
                  <a:ext cx="41400" cy="5040"/>
                </a:xfrm>
                <a:custGeom>
                  <a:avLst/>
                  <a:gdLst/>
                  <a:ahLst/>
                  <a:rect l="l" t="t" r="r" b="b"/>
                  <a:pathLst>
                    <a:path w="633" h="78">
                      <a:moveTo>
                        <a:pt x="554" y="78"/>
                      </a:moveTo>
                      <a:lnTo>
                        <a:pt x="78" y="78"/>
                      </a:lnTo>
                      <a:lnTo>
                        <a:pt x="0" y="0"/>
                      </a:lnTo>
                      <a:lnTo>
                        <a:pt x="633" y="0"/>
                      </a:lnTo>
                      <a:lnTo>
                        <a:pt x="554" y="78"/>
                      </a:lnTo>
                      <a:close/>
                    </a:path>
                  </a:pathLst>
                </a:custGeom>
                <a:solidFill>
                  <a:srgbClr val="e480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6943680" y="1876680"/>
                  <a:ext cx="47880" cy="4680"/>
                </a:xfrm>
                <a:custGeom>
                  <a:avLst/>
                  <a:gdLst/>
                  <a:ahLst/>
                  <a:rect l="l" t="t" r="r" b="b"/>
                  <a:pathLst>
                    <a:path w="711" h="78">
                      <a:moveTo>
                        <a:pt x="633" y="78"/>
                      </a:moveTo>
                      <a:lnTo>
                        <a:pt x="78" y="78"/>
                      </a:lnTo>
                      <a:lnTo>
                        <a:pt x="0" y="0"/>
                      </a:lnTo>
                      <a:lnTo>
                        <a:pt x="711" y="0"/>
                      </a:lnTo>
                      <a:lnTo>
                        <a:pt x="633" y="78"/>
                      </a:lnTo>
                      <a:close/>
                    </a:path>
                  </a:pathLst>
                </a:custGeom>
                <a:solidFill>
                  <a:srgbClr val="e78b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6942240" y="1873440"/>
                  <a:ext cx="52200" cy="6120"/>
                </a:xfrm>
                <a:custGeom>
                  <a:avLst/>
                  <a:gdLst/>
                  <a:ahLst/>
                  <a:rect l="l" t="t" r="r" b="b"/>
                  <a:pathLst>
                    <a:path w="790" h="78">
                      <a:moveTo>
                        <a:pt x="711" y="78"/>
                      </a:moveTo>
                      <a:lnTo>
                        <a:pt x="78" y="78"/>
                      </a:lnTo>
                      <a:lnTo>
                        <a:pt x="0" y="0"/>
                      </a:lnTo>
                      <a:lnTo>
                        <a:pt x="790" y="0"/>
                      </a:lnTo>
                      <a:lnTo>
                        <a:pt x="711" y="78"/>
                      </a:lnTo>
                      <a:close/>
                    </a:path>
                  </a:pathLst>
                </a:custGeom>
                <a:solidFill>
                  <a:srgbClr val="e894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6939000" y="1871640"/>
                  <a:ext cx="57240" cy="5040"/>
                </a:xfrm>
                <a:custGeom>
                  <a:avLst/>
                  <a:gdLst/>
                  <a:ahLst/>
                  <a:rect l="l" t="t" r="r" b="b"/>
                  <a:pathLst>
                    <a:path w="869" h="79">
                      <a:moveTo>
                        <a:pt x="790" y="79"/>
                      </a:moveTo>
                      <a:lnTo>
                        <a:pt x="79" y="79"/>
                      </a:lnTo>
                      <a:lnTo>
                        <a:pt x="0" y="0"/>
                      </a:lnTo>
                      <a:lnTo>
                        <a:pt x="869" y="0"/>
                      </a:lnTo>
                      <a:lnTo>
                        <a:pt x="790" y="79"/>
                      </a:lnTo>
                      <a:close/>
                    </a:path>
                  </a:pathLst>
                </a:custGeom>
                <a:solidFill>
                  <a:srgbClr val="eaa0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6935760" y="1868400"/>
                  <a:ext cx="63720" cy="5040"/>
                </a:xfrm>
                <a:custGeom>
                  <a:avLst/>
                  <a:gdLst/>
                  <a:ahLst/>
                  <a:rect l="l" t="t" r="r" b="b"/>
                  <a:pathLst>
                    <a:path w="947" h="79">
                      <a:moveTo>
                        <a:pt x="869" y="79"/>
                      </a:moveTo>
                      <a:lnTo>
                        <a:pt x="79" y="79"/>
                      </a:lnTo>
                      <a:lnTo>
                        <a:pt x="0" y="0"/>
                      </a:lnTo>
                      <a:lnTo>
                        <a:pt x="947" y="0"/>
                      </a:lnTo>
                      <a:lnTo>
                        <a:pt x="869" y="79"/>
                      </a:lnTo>
                      <a:close/>
                    </a:path>
                  </a:pathLst>
                </a:custGeom>
                <a:solidFill>
                  <a:srgbClr val="ecab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6" name=""/>
              <p:cNvSpPr/>
              <p:nvPr/>
            </p:nvSpPr>
            <p:spPr>
              <a:xfrm>
                <a:off x="6934320" y="1866960"/>
                <a:ext cx="66600" cy="4680"/>
              </a:xfrm>
              <a:custGeom>
                <a:avLst/>
                <a:gdLst/>
                <a:ahLst/>
                <a:rect l="l" t="t" r="r" b="b"/>
                <a:pathLst>
                  <a:path w="1025" h="78">
                    <a:moveTo>
                      <a:pt x="947" y="78"/>
                    </a:moveTo>
                    <a:lnTo>
                      <a:pt x="78" y="78"/>
                    </a:lnTo>
                    <a:lnTo>
                      <a:pt x="0" y="0"/>
                    </a:lnTo>
                    <a:lnTo>
                      <a:pt x="1025" y="0"/>
                    </a:lnTo>
                    <a:lnTo>
                      <a:pt x="947" y="78"/>
                    </a:lnTo>
                    <a:close/>
                  </a:path>
                </a:pathLst>
              </a:custGeom>
              <a:solidFill>
                <a:srgbClr val="efb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932520" y="186372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1062" h="78">
                    <a:moveTo>
                      <a:pt x="1005" y="78"/>
                    </a:moveTo>
                    <a:lnTo>
                      <a:pt x="58" y="78"/>
                    </a:lnTo>
                    <a:lnTo>
                      <a:pt x="0" y="20"/>
                    </a:lnTo>
                    <a:lnTo>
                      <a:pt x="273" y="20"/>
                    </a:lnTo>
                    <a:lnTo>
                      <a:pt x="273" y="0"/>
                    </a:lnTo>
                    <a:lnTo>
                      <a:pt x="815" y="0"/>
                    </a:lnTo>
                    <a:lnTo>
                      <a:pt x="815" y="21"/>
                    </a:lnTo>
                    <a:lnTo>
                      <a:pt x="1062" y="21"/>
                    </a:lnTo>
                    <a:lnTo>
                      <a:pt x="1005" y="78"/>
                    </a:lnTo>
                    <a:close/>
                  </a:path>
                </a:pathLst>
              </a:custGeom>
              <a:solidFill>
                <a:srgbClr val="f1c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932520" y="1860480"/>
                <a:ext cx="69840" cy="6480"/>
              </a:xfrm>
              <a:custGeom>
                <a:avLst/>
                <a:gdLst/>
                <a:ahLst/>
                <a:rect l="l" t="t" r="r" b="b"/>
                <a:pathLst>
                  <a:path w="1062" h="79">
                    <a:moveTo>
                      <a:pt x="1044" y="79"/>
                    </a:moveTo>
                    <a:lnTo>
                      <a:pt x="19" y="79"/>
                    </a:lnTo>
                    <a:lnTo>
                      <a:pt x="0" y="60"/>
                    </a:lnTo>
                    <a:lnTo>
                      <a:pt x="273" y="60"/>
                    </a:lnTo>
                    <a:lnTo>
                      <a:pt x="273" y="0"/>
                    </a:lnTo>
                    <a:lnTo>
                      <a:pt x="815" y="0"/>
                    </a:lnTo>
                    <a:lnTo>
                      <a:pt x="815" y="61"/>
                    </a:lnTo>
                    <a:lnTo>
                      <a:pt x="1062" y="61"/>
                    </a:lnTo>
                    <a:lnTo>
                      <a:pt x="1044" y="79"/>
                    </a:lnTo>
                    <a:close/>
                  </a:path>
                </a:pathLst>
              </a:custGeom>
              <a:solidFill>
                <a:srgbClr val="f2c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950160" y="1859040"/>
                <a:ext cx="36360" cy="4680"/>
              </a:xfrm>
              <a:prstGeom prst="rect">
                <a:avLst/>
              </a:prstGeom>
              <a:solidFill>
                <a:srgbClr val="f5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950160" y="1851120"/>
                <a:ext cx="36360" cy="4680"/>
              </a:xfrm>
              <a:prstGeom prst="rect">
                <a:avLst/>
              </a:prstGeom>
              <a:solidFill>
                <a:srgbClr val="f6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950160" y="1847880"/>
                <a:ext cx="36360" cy="4680"/>
              </a:xfrm>
              <a:prstGeom prst="rect">
                <a:avLst/>
              </a:prstGeom>
              <a:solidFill>
                <a:srgbClr val="f6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950160" y="1844640"/>
                <a:ext cx="36360" cy="6480"/>
              </a:xfrm>
              <a:prstGeom prst="rect">
                <a:avLst/>
              </a:prstGeom>
              <a:solidFill>
                <a:srgbClr val="e1e6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886800" y="1838520"/>
                <a:ext cx="168120" cy="4680"/>
              </a:xfrm>
              <a:custGeom>
                <a:avLst/>
                <a:gdLst/>
                <a:ahLst/>
                <a:rect l="l" t="t" r="r" b="b"/>
                <a:pathLst>
                  <a:path w="2551" h="78">
                    <a:moveTo>
                      <a:pt x="1521" y="78"/>
                    </a:moveTo>
                    <a:lnTo>
                      <a:pt x="979" y="78"/>
                    </a:lnTo>
                    <a:lnTo>
                      <a:pt x="979" y="36"/>
                    </a:lnTo>
                    <a:lnTo>
                      <a:pt x="0" y="36"/>
                    </a:lnTo>
                    <a:lnTo>
                      <a:pt x="47" y="0"/>
                    </a:lnTo>
                    <a:lnTo>
                      <a:pt x="2514" y="0"/>
                    </a:lnTo>
                    <a:lnTo>
                      <a:pt x="2551" y="30"/>
                    </a:lnTo>
                    <a:lnTo>
                      <a:pt x="2475" y="30"/>
                    </a:lnTo>
                    <a:lnTo>
                      <a:pt x="2167" y="30"/>
                    </a:lnTo>
                    <a:lnTo>
                      <a:pt x="1521" y="23"/>
                    </a:lnTo>
                    <a:lnTo>
                      <a:pt x="1521" y="78"/>
                    </a:lnTo>
                    <a:close/>
                  </a:path>
                </a:pathLst>
              </a:custGeom>
              <a:solidFill>
                <a:srgbClr val="a7c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886800" y="1835280"/>
                <a:ext cx="168120" cy="4680"/>
              </a:xfrm>
              <a:custGeom>
                <a:avLst/>
                <a:gdLst/>
                <a:ahLst/>
                <a:rect l="l" t="t" r="r" b="b"/>
                <a:pathLst>
                  <a:path w="2551" h="79">
                    <a:moveTo>
                      <a:pt x="1521" y="79"/>
                    </a:moveTo>
                    <a:lnTo>
                      <a:pt x="979" y="79"/>
                    </a:lnTo>
                    <a:lnTo>
                      <a:pt x="979" y="76"/>
                    </a:lnTo>
                    <a:lnTo>
                      <a:pt x="0" y="76"/>
                    </a:lnTo>
                    <a:lnTo>
                      <a:pt x="97" y="0"/>
                    </a:lnTo>
                    <a:lnTo>
                      <a:pt x="2464" y="0"/>
                    </a:lnTo>
                    <a:lnTo>
                      <a:pt x="2551" y="70"/>
                    </a:lnTo>
                    <a:lnTo>
                      <a:pt x="2475" y="70"/>
                    </a:lnTo>
                    <a:lnTo>
                      <a:pt x="2167" y="70"/>
                    </a:lnTo>
                    <a:lnTo>
                      <a:pt x="1521" y="63"/>
                    </a:lnTo>
                    <a:lnTo>
                      <a:pt x="1521" y="79"/>
                    </a:lnTo>
                    <a:close/>
                  </a:path>
                </a:pathLst>
              </a:custGeom>
              <a:solidFill>
                <a:srgbClr val="97c9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889680" y="1832040"/>
                <a:ext cx="162000" cy="6480"/>
              </a:xfrm>
              <a:custGeom>
                <a:avLst/>
                <a:gdLst/>
                <a:ahLst/>
                <a:rect l="l" t="t" r="r" b="b"/>
                <a:pathLst>
                  <a:path w="2467" h="79">
                    <a:moveTo>
                      <a:pt x="2467" y="79"/>
                    </a:moveTo>
                    <a:lnTo>
                      <a:pt x="0" y="79"/>
                    </a:lnTo>
                    <a:lnTo>
                      <a:pt x="100" y="0"/>
                    </a:lnTo>
                    <a:lnTo>
                      <a:pt x="2368" y="0"/>
                    </a:lnTo>
                    <a:lnTo>
                      <a:pt x="2467" y="79"/>
                    </a:lnTo>
                    <a:close/>
                  </a:path>
                </a:pathLst>
              </a:custGeom>
              <a:solidFill>
                <a:srgbClr val="88c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892920" y="1830600"/>
                <a:ext cx="155520" cy="4680"/>
              </a:xfrm>
              <a:custGeom>
                <a:avLst/>
                <a:gdLst/>
                <a:ahLst/>
                <a:rect l="l" t="t" r="r" b="b"/>
                <a:pathLst>
                  <a:path w="2367" h="78">
                    <a:moveTo>
                      <a:pt x="2367" y="78"/>
                    </a:moveTo>
                    <a:lnTo>
                      <a:pt x="0" y="78"/>
                    </a:lnTo>
                    <a:lnTo>
                      <a:pt x="99" y="0"/>
                    </a:lnTo>
                    <a:lnTo>
                      <a:pt x="2269" y="0"/>
                    </a:lnTo>
                    <a:lnTo>
                      <a:pt x="2367" y="78"/>
                    </a:lnTo>
                    <a:close/>
                  </a:path>
                </a:pathLst>
              </a:custGeom>
              <a:solidFill>
                <a:srgbClr val="78b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896160" y="1827360"/>
                <a:ext cx="149400" cy="4680"/>
              </a:xfrm>
              <a:custGeom>
                <a:avLst/>
                <a:gdLst/>
                <a:ahLst/>
                <a:rect l="l" t="t" r="r" b="b"/>
                <a:pathLst>
                  <a:path w="2268" h="78">
                    <a:moveTo>
                      <a:pt x="2268" y="78"/>
                    </a:moveTo>
                    <a:lnTo>
                      <a:pt x="0" y="78"/>
                    </a:lnTo>
                    <a:lnTo>
                      <a:pt x="99" y="0"/>
                    </a:lnTo>
                    <a:lnTo>
                      <a:pt x="2171" y="0"/>
                    </a:lnTo>
                    <a:lnTo>
                      <a:pt x="2268" y="78"/>
                    </a:lnTo>
                    <a:close/>
                  </a:path>
                </a:pathLst>
              </a:custGeom>
              <a:solidFill>
                <a:srgbClr val="69b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899400" y="1824120"/>
                <a:ext cx="142920" cy="6480"/>
              </a:xfrm>
              <a:custGeom>
                <a:avLst/>
                <a:gdLst/>
                <a:ahLst/>
                <a:rect l="l" t="t" r="r" b="b"/>
                <a:pathLst>
                  <a:path w="2170" h="78">
                    <a:moveTo>
                      <a:pt x="2170" y="78"/>
                    </a:moveTo>
                    <a:lnTo>
                      <a:pt x="0" y="78"/>
                    </a:lnTo>
                    <a:lnTo>
                      <a:pt x="100" y="0"/>
                    </a:lnTo>
                    <a:lnTo>
                      <a:pt x="2073" y="0"/>
                    </a:lnTo>
                    <a:lnTo>
                      <a:pt x="2170" y="78"/>
                    </a:lnTo>
                    <a:close/>
                  </a:path>
                </a:pathLst>
              </a:custGeom>
              <a:solidFill>
                <a:srgbClr val="57b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902640" y="1822680"/>
                <a:ext cx="136440" cy="4680"/>
              </a:xfrm>
              <a:custGeom>
                <a:avLst/>
                <a:gdLst/>
                <a:ahLst/>
                <a:rect l="l" t="t" r="r" b="b"/>
                <a:pathLst>
                  <a:path w="2072" h="79">
                    <a:moveTo>
                      <a:pt x="2072" y="79"/>
                    </a:moveTo>
                    <a:lnTo>
                      <a:pt x="0" y="79"/>
                    </a:lnTo>
                    <a:lnTo>
                      <a:pt x="100" y="0"/>
                    </a:lnTo>
                    <a:lnTo>
                      <a:pt x="1974" y="0"/>
                    </a:lnTo>
                    <a:lnTo>
                      <a:pt x="2072" y="79"/>
                    </a:lnTo>
                    <a:close/>
                  </a:path>
                </a:pathLst>
              </a:custGeom>
              <a:solidFill>
                <a:srgbClr val="44a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905520" y="1819440"/>
                <a:ext cx="130320" cy="4680"/>
              </a:xfrm>
              <a:custGeom>
                <a:avLst/>
                <a:gdLst/>
                <a:ahLst/>
                <a:rect l="l" t="t" r="r" b="b"/>
                <a:pathLst>
                  <a:path w="1973" h="79">
                    <a:moveTo>
                      <a:pt x="1973" y="79"/>
                    </a:moveTo>
                    <a:lnTo>
                      <a:pt x="0" y="79"/>
                    </a:lnTo>
                    <a:lnTo>
                      <a:pt x="99" y="0"/>
                    </a:lnTo>
                    <a:lnTo>
                      <a:pt x="1875" y="0"/>
                    </a:lnTo>
                    <a:lnTo>
                      <a:pt x="1973" y="79"/>
                    </a:lnTo>
                    <a:close/>
                  </a:path>
                </a:pathLst>
              </a:custGeom>
              <a:solidFill>
                <a:srgbClr val="2aaa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908760" y="1816200"/>
                <a:ext cx="123840" cy="6480"/>
              </a:xfrm>
              <a:custGeom>
                <a:avLst/>
                <a:gdLst/>
                <a:ahLst/>
                <a:rect l="l" t="t" r="r" b="b"/>
                <a:pathLst>
                  <a:path w="1874" h="78">
                    <a:moveTo>
                      <a:pt x="1874" y="78"/>
                    </a:moveTo>
                    <a:lnTo>
                      <a:pt x="0" y="78"/>
                    </a:lnTo>
                    <a:lnTo>
                      <a:pt x="99" y="0"/>
                    </a:lnTo>
                    <a:lnTo>
                      <a:pt x="1777" y="0"/>
                    </a:lnTo>
                    <a:lnTo>
                      <a:pt x="1874" y="78"/>
                    </a:lnTo>
                    <a:close/>
                  </a:path>
                </a:pathLst>
              </a:custGeom>
              <a:solidFill>
                <a:srgbClr val="00a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912000" y="1814760"/>
                <a:ext cx="117360" cy="4680"/>
              </a:xfrm>
              <a:custGeom>
                <a:avLst/>
                <a:gdLst/>
                <a:ahLst/>
                <a:rect l="l" t="t" r="r" b="b"/>
                <a:pathLst>
                  <a:path w="1776" h="78">
                    <a:moveTo>
                      <a:pt x="1776" y="78"/>
                    </a:moveTo>
                    <a:lnTo>
                      <a:pt x="0" y="78"/>
                    </a:lnTo>
                    <a:lnTo>
                      <a:pt x="100" y="0"/>
                    </a:lnTo>
                    <a:lnTo>
                      <a:pt x="1679" y="0"/>
                    </a:lnTo>
                    <a:lnTo>
                      <a:pt x="1776" y="78"/>
                    </a:lnTo>
                    <a:close/>
                  </a:path>
                </a:pathLst>
              </a:custGeom>
              <a:solidFill>
                <a:srgbClr val="00a1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915240" y="1811520"/>
                <a:ext cx="111240" cy="4680"/>
              </a:xfrm>
              <a:custGeom>
                <a:avLst/>
                <a:gdLst/>
                <a:ahLst/>
                <a:rect l="l" t="t" r="r" b="b"/>
                <a:pathLst>
                  <a:path w="1678" h="78">
                    <a:moveTo>
                      <a:pt x="1678" y="78"/>
                    </a:moveTo>
                    <a:lnTo>
                      <a:pt x="0" y="78"/>
                    </a:lnTo>
                    <a:lnTo>
                      <a:pt x="100" y="0"/>
                    </a:lnTo>
                    <a:lnTo>
                      <a:pt x="1580" y="0"/>
                    </a:lnTo>
                    <a:lnTo>
                      <a:pt x="1678" y="78"/>
                    </a:lnTo>
                    <a:close/>
                  </a:path>
                </a:pathLst>
              </a:custGeom>
              <a:solidFill>
                <a:srgbClr val="009c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918480" y="1809720"/>
                <a:ext cx="104760" cy="5040"/>
              </a:xfrm>
              <a:custGeom>
                <a:avLst/>
                <a:gdLst/>
                <a:ahLst/>
                <a:rect l="l" t="t" r="r" b="b"/>
                <a:pathLst>
                  <a:path w="1579" h="79">
                    <a:moveTo>
                      <a:pt x="1579" y="79"/>
                    </a:moveTo>
                    <a:lnTo>
                      <a:pt x="0" y="79"/>
                    </a:lnTo>
                    <a:lnTo>
                      <a:pt x="100" y="0"/>
                    </a:lnTo>
                    <a:lnTo>
                      <a:pt x="1480" y="0"/>
                    </a:lnTo>
                    <a:lnTo>
                      <a:pt x="1579" y="79"/>
                    </a:lnTo>
                    <a:close/>
                  </a:path>
                </a:pathLst>
              </a:custGeom>
              <a:solidFill>
                <a:srgbClr val="009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921720" y="1806840"/>
                <a:ext cx="98280" cy="4680"/>
              </a:xfrm>
              <a:custGeom>
                <a:avLst/>
                <a:gdLst/>
                <a:ahLst/>
                <a:rect l="l" t="t" r="r" b="b"/>
                <a:pathLst>
                  <a:path w="1480" h="79">
                    <a:moveTo>
                      <a:pt x="1480" y="79"/>
                    </a:moveTo>
                    <a:lnTo>
                      <a:pt x="0" y="79"/>
                    </a:lnTo>
                    <a:lnTo>
                      <a:pt x="100" y="0"/>
                    </a:lnTo>
                    <a:lnTo>
                      <a:pt x="1382" y="0"/>
                    </a:lnTo>
                    <a:lnTo>
                      <a:pt x="1480" y="79"/>
                    </a:lnTo>
                    <a:close/>
                  </a:path>
                </a:pathLst>
              </a:custGeom>
              <a:solidFill>
                <a:srgbClr val="009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6924600" y="1803600"/>
                <a:ext cx="92160" cy="6120"/>
              </a:xfrm>
              <a:custGeom>
                <a:avLst/>
                <a:gdLst/>
                <a:ahLst/>
                <a:rect l="l" t="t" r="r" b="b"/>
                <a:pathLst>
                  <a:path w="1380" h="78">
                    <a:moveTo>
                      <a:pt x="1380" y="78"/>
                    </a:moveTo>
                    <a:lnTo>
                      <a:pt x="0" y="78"/>
                    </a:lnTo>
                    <a:lnTo>
                      <a:pt x="99" y="0"/>
                    </a:lnTo>
                    <a:lnTo>
                      <a:pt x="1283" y="0"/>
                    </a:lnTo>
                    <a:lnTo>
                      <a:pt x="1380" y="78"/>
                    </a:lnTo>
                    <a:close/>
                  </a:path>
                </a:pathLst>
              </a:custGeom>
              <a:solidFill>
                <a:srgbClr val="008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927840" y="1801800"/>
                <a:ext cx="85680" cy="5040"/>
              </a:xfrm>
              <a:custGeom>
                <a:avLst/>
                <a:gdLst/>
                <a:ahLst/>
                <a:rect l="l" t="t" r="r" b="b"/>
                <a:pathLst>
                  <a:path w="1282" h="78">
                    <a:moveTo>
                      <a:pt x="1282" y="78"/>
                    </a:moveTo>
                    <a:lnTo>
                      <a:pt x="0" y="78"/>
                    </a:lnTo>
                    <a:lnTo>
                      <a:pt x="99" y="0"/>
                    </a:lnTo>
                    <a:lnTo>
                      <a:pt x="1184" y="0"/>
                    </a:lnTo>
                    <a:lnTo>
                      <a:pt x="1282" y="78"/>
                    </a:lnTo>
                    <a:close/>
                  </a:path>
                </a:pathLst>
              </a:custGeom>
              <a:solidFill>
                <a:srgbClr val="008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931080" y="1798560"/>
                <a:ext cx="79560" cy="5040"/>
              </a:xfrm>
              <a:custGeom>
                <a:avLst/>
                <a:gdLst/>
                <a:ahLst/>
                <a:rect l="l" t="t" r="r" b="b"/>
                <a:pathLst>
                  <a:path w="1184" h="78">
                    <a:moveTo>
                      <a:pt x="1184" y="78"/>
                    </a:moveTo>
                    <a:lnTo>
                      <a:pt x="0" y="78"/>
                    </a:lnTo>
                    <a:lnTo>
                      <a:pt x="100" y="0"/>
                    </a:lnTo>
                    <a:lnTo>
                      <a:pt x="1086" y="0"/>
                    </a:lnTo>
                    <a:lnTo>
                      <a:pt x="1184" y="78"/>
                    </a:lnTo>
                    <a:close/>
                  </a:path>
                </a:pathLst>
              </a:custGeom>
              <a:solidFill>
                <a:srgbClr val="007e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935760" y="179568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1085" h="79">
                    <a:moveTo>
                      <a:pt x="1085" y="79"/>
                    </a:moveTo>
                    <a:lnTo>
                      <a:pt x="0" y="79"/>
                    </a:lnTo>
                    <a:lnTo>
                      <a:pt x="99" y="0"/>
                    </a:lnTo>
                    <a:lnTo>
                      <a:pt x="987" y="0"/>
                    </a:lnTo>
                    <a:lnTo>
                      <a:pt x="1085" y="79"/>
                    </a:lnTo>
                    <a:close/>
                  </a:path>
                </a:pathLst>
              </a:custGeom>
              <a:solidFill>
                <a:srgbClr val="007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6939000" y="1793880"/>
                <a:ext cx="65160" cy="4680"/>
              </a:xfrm>
              <a:custGeom>
                <a:avLst/>
                <a:gdLst/>
                <a:ahLst/>
                <a:rect l="l" t="t" r="r" b="b"/>
                <a:pathLst>
                  <a:path w="986" h="79">
                    <a:moveTo>
                      <a:pt x="986" y="79"/>
                    </a:moveTo>
                    <a:lnTo>
                      <a:pt x="0" y="79"/>
                    </a:lnTo>
                    <a:lnTo>
                      <a:pt x="99" y="0"/>
                    </a:lnTo>
                    <a:lnTo>
                      <a:pt x="889" y="0"/>
                    </a:lnTo>
                    <a:lnTo>
                      <a:pt x="986" y="79"/>
                    </a:lnTo>
                    <a:close/>
                  </a:path>
                </a:pathLst>
              </a:custGeom>
              <a:solidFill>
                <a:srgbClr val="00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942240" y="179064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888" h="79">
                    <a:moveTo>
                      <a:pt x="888" y="79"/>
                    </a:moveTo>
                    <a:lnTo>
                      <a:pt x="0" y="79"/>
                    </a:lnTo>
                    <a:lnTo>
                      <a:pt x="100" y="0"/>
                    </a:lnTo>
                    <a:lnTo>
                      <a:pt x="791" y="0"/>
                    </a:lnTo>
                    <a:lnTo>
                      <a:pt x="888" y="79"/>
                    </a:lnTo>
                    <a:close/>
                  </a:path>
                </a:pathLst>
              </a:custGeom>
              <a:solidFill>
                <a:srgbClr val="006a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945480" y="1787760"/>
                <a:ext cx="52200" cy="6120"/>
              </a:xfrm>
              <a:custGeom>
                <a:avLst/>
                <a:gdLst/>
                <a:ahLst/>
                <a:rect l="l" t="t" r="r" b="b"/>
                <a:pathLst>
                  <a:path w="790" h="79">
                    <a:moveTo>
                      <a:pt x="790" y="79"/>
                    </a:moveTo>
                    <a:lnTo>
                      <a:pt x="0" y="79"/>
                    </a:lnTo>
                    <a:lnTo>
                      <a:pt x="99" y="0"/>
                    </a:lnTo>
                    <a:lnTo>
                      <a:pt x="692" y="0"/>
                    </a:lnTo>
                    <a:lnTo>
                      <a:pt x="790" y="79"/>
                    </a:lnTo>
                    <a:close/>
                  </a:path>
                </a:pathLst>
              </a:custGeom>
              <a:solidFill>
                <a:srgbClr val="006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948720" y="1785960"/>
                <a:ext cx="45720" cy="4680"/>
              </a:xfrm>
              <a:custGeom>
                <a:avLst/>
                <a:gdLst/>
                <a:ahLst/>
                <a:rect l="l" t="t" r="r" b="b"/>
                <a:pathLst>
                  <a:path w="691" h="78">
                    <a:moveTo>
                      <a:pt x="691" y="78"/>
                    </a:moveTo>
                    <a:lnTo>
                      <a:pt x="0" y="78"/>
                    </a:lnTo>
                    <a:lnTo>
                      <a:pt x="100" y="0"/>
                    </a:lnTo>
                    <a:lnTo>
                      <a:pt x="593" y="0"/>
                    </a:lnTo>
                    <a:lnTo>
                      <a:pt x="691" y="78"/>
                    </a:lnTo>
                    <a:close/>
                  </a:path>
                </a:pathLst>
              </a:custGeom>
              <a:solidFill>
                <a:srgbClr val="0c5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951600" y="1782720"/>
                <a:ext cx="39960" cy="5040"/>
              </a:xfrm>
              <a:custGeom>
                <a:avLst/>
                <a:gdLst/>
                <a:ahLst/>
                <a:rect l="l" t="t" r="r" b="b"/>
                <a:pathLst>
                  <a:path w="593" h="79">
                    <a:moveTo>
                      <a:pt x="593" y="79"/>
                    </a:moveTo>
                    <a:lnTo>
                      <a:pt x="0" y="79"/>
                    </a:lnTo>
                    <a:lnTo>
                      <a:pt x="101" y="0"/>
                    </a:lnTo>
                    <a:lnTo>
                      <a:pt x="495" y="0"/>
                    </a:lnTo>
                    <a:lnTo>
                      <a:pt x="593" y="79"/>
                    </a:lnTo>
                    <a:close/>
                  </a:path>
                </a:pathLst>
              </a:custGeom>
              <a:solidFill>
                <a:srgbClr val="1757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954840" y="1781280"/>
                <a:ext cx="33480" cy="4680"/>
              </a:xfrm>
              <a:custGeom>
                <a:avLst/>
                <a:gdLst/>
                <a:ahLst/>
                <a:rect l="l" t="t" r="r" b="b"/>
                <a:pathLst>
                  <a:path w="493" h="79">
                    <a:moveTo>
                      <a:pt x="493" y="79"/>
                    </a:moveTo>
                    <a:lnTo>
                      <a:pt x="0" y="79"/>
                    </a:lnTo>
                    <a:lnTo>
                      <a:pt x="99" y="0"/>
                    </a:lnTo>
                    <a:lnTo>
                      <a:pt x="395" y="0"/>
                    </a:lnTo>
                    <a:lnTo>
                      <a:pt x="493" y="79"/>
                    </a:lnTo>
                    <a:close/>
                  </a:path>
                </a:pathLst>
              </a:custGeom>
              <a:solidFill>
                <a:srgbClr val="1f51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958080" y="177804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394" h="78">
                    <a:moveTo>
                      <a:pt x="394" y="78"/>
                    </a:moveTo>
                    <a:lnTo>
                      <a:pt x="0" y="78"/>
                    </a:lnTo>
                    <a:lnTo>
                      <a:pt x="99" y="0"/>
                    </a:lnTo>
                    <a:lnTo>
                      <a:pt x="296" y="0"/>
                    </a:lnTo>
                    <a:lnTo>
                      <a:pt x="394" y="78"/>
                    </a:lnTo>
                    <a:close/>
                  </a:path>
                </a:pathLst>
              </a:custGeom>
              <a:solidFill>
                <a:srgbClr val="264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961320" y="177480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296" h="78">
                    <a:moveTo>
                      <a:pt x="296" y="78"/>
                    </a:moveTo>
                    <a:lnTo>
                      <a:pt x="0" y="78"/>
                    </a:lnTo>
                    <a:lnTo>
                      <a:pt x="100" y="0"/>
                    </a:lnTo>
                    <a:lnTo>
                      <a:pt x="198" y="0"/>
                    </a:lnTo>
                    <a:lnTo>
                      <a:pt x="296" y="78"/>
                    </a:lnTo>
                    <a:close/>
                  </a:path>
                </a:pathLst>
              </a:custGeom>
              <a:solidFill>
                <a:srgbClr val="294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964560" y="17733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197" h="78">
                    <a:moveTo>
                      <a:pt x="197" y="78"/>
                    </a:moveTo>
                    <a:lnTo>
                      <a:pt x="0" y="78"/>
                    </a:lnTo>
                    <a:lnTo>
                      <a:pt x="99" y="0"/>
                    </a:lnTo>
                    <a:lnTo>
                      <a:pt x="197" y="78"/>
                    </a:lnTo>
                    <a:close/>
                  </a:path>
                </a:pathLst>
              </a:custGeom>
              <a:solidFill>
                <a:srgbClr val="2d3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9" name=""/>
            <p:cNvSpPr/>
            <p:nvPr/>
          </p:nvSpPr>
          <p:spPr>
            <a:xfrm>
              <a:off x="6950160" y="1855800"/>
              <a:ext cx="36360" cy="4680"/>
            </a:xfrm>
            <a:prstGeom prst="rect">
              <a:avLst/>
            </a:prstGeom>
            <a:solidFill>
              <a:srgbClr val="f6e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950160" y="1852560"/>
              <a:ext cx="36360" cy="6480"/>
            </a:xfrm>
            <a:prstGeom prst="rect">
              <a:avLst/>
            </a:prstGeom>
            <a:solidFill>
              <a:srgbClr val="f6e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50160" y="1843200"/>
              <a:ext cx="36360" cy="4680"/>
            </a:xfrm>
            <a:prstGeom prst="rect">
              <a:avLst/>
            </a:prstGeom>
            <a:solidFill>
              <a:srgbClr val="cadd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950160" y="1839960"/>
              <a:ext cx="36360" cy="4680"/>
            </a:xfrm>
            <a:prstGeom prst="rect">
              <a:avLst/>
            </a:prstGeom>
            <a:solidFill>
              <a:srgbClr val="bad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67440" y="1773360"/>
              <a:ext cx="6480" cy="1440"/>
            </a:xfrm>
            <a:custGeom>
              <a:avLst/>
              <a:gdLst/>
              <a:ahLst/>
              <a:rect l="l" t="t" r="r" b="b"/>
              <a:pathLst>
                <a:path w="98" h="39">
                  <a:moveTo>
                    <a:pt x="98" y="39"/>
                  </a:moveTo>
                  <a:lnTo>
                    <a:pt x="0" y="39"/>
                  </a:lnTo>
                  <a:lnTo>
                    <a:pt x="49" y="0"/>
                  </a:lnTo>
                  <a:lnTo>
                    <a:pt x="98" y="39"/>
                  </a:lnTo>
                  <a:close/>
                </a:path>
              </a:pathLst>
            </a:custGeom>
            <a:solidFill>
              <a:srgbClr val="312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, Optical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1604880" y="1697040"/>
            <a:ext cx="1073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ic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tection Switch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2209680" y="3060720"/>
            <a:ext cx="1265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nelize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2209680" y="4091040"/>
            <a:ext cx="1359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catenated Paylo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1604880" y="5334120"/>
            <a:ext cx="1400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 Cross- Conn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9" name="" descr=""/>
          <p:cNvPicPr/>
          <p:nvPr/>
        </p:nvPicPr>
        <p:blipFill>
          <a:blip r:embed="rId1"/>
          <a:stretch/>
        </p:blipFill>
        <p:spPr>
          <a:xfrm>
            <a:off x="198360" y="2968560"/>
            <a:ext cx="2038320" cy="685800"/>
          </a:xfrm>
          <a:prstGeom prst="rect">
            <a:avLst/>
          </a:prstGeom>
          <a:ln w="0">
            <a:noFill/>
          </a:ln>
        </p:spPr>
      </p:pic>
      <p:pic>
        <p:nvPicPr>
          <p:cNvPr id="2140" name="" descr=""/>
          <p:cNvPicPr/>
          <p:nvPr/>
        </p:nvPicPr>
        <p:blipFill>
          <a:blip r:embed="rId2"/>
          <a:stretch/>
        </p:blipFill>
        <p:spPr>
          <a:xfrm>
            <a:off x="380880" y="3975120"/>
            <a:ext cx="1838520" cy="733320"/>
          </a:xfrm>
          <a:prstGeom prst="rect">
            <a:avLst/>
          </a:prstGeom>
          <a:ln w="0">
            <a:noFill/>
          </a:ln>
        </p:spPr>
      </p:pic>
      <p:pic>
        <p:nvPicPr>
          <p:cNvPr id="2141" name="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190880" cy="1171440"/>
          </a:xfrm>
          <a:prstGeom prst="rect">
            <a:avLst/>
          </a:prstGeom>
          <a:ln w="0">
            <a:noFill/>
          </a:ln>
        </p:spPr>
      </p:pic>
      <p:sp>
        <p:nvSpPr>
          <p:cNvPr id="2142" name=""/>
          <p:cNvSpPr/>
          <p:nvPr/>
        </p:nvSpPr>
        <p:spPr>
          <a:xfrm>
            <a:off x="4724280" y="2216160"/>
            <a:ext cx="126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 Fi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3" name="" descr=""/>
          <p:cNvPicPr/>
          <p:nvPr/>
        </p:nvPicPr>
        <p:blipFill>
          <a:blip r:embed="rId4"/>
          <a:stretch/>
        </p:blipFill>
        <p:spPr>
          <a:xfrm>
            <a:off x="3803760" y="2120760"/>
            <a:ext cx="895320" cy="495360"/>
          </a:xfrm>
          <a:prstGeom prst="rect">
            <a:avLst/>
          </a:prstGeom>
          <a:ln w="0">
            <a:noFill/>
          </a:ln>
        </p:spPr>
      </p:pic>
      <p:sp>
        <p:nvSpPr>
          <p:cNvPr id="2144" name=""/>
          <p:cNvSpPr/>
          <p:nvPr/>
        </p:nvSpPr>
        <p:spPr>
          <a:xfrm>
            <a:off x="4724280" y="3720960"/>
            <a:ext cx="927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5" name="" descr=""/>
          <p:cNvPicPr/>
          <p:nvPr/>
        </p:nvPicPr>
        <p:blipFill>
          <a:blip r:embed="rId5"/>
          <a:stretch/>
        </p:blipFill>
        <p:spPr>
          <a:xfrm>
            <a:off x="3660840" y="3519360"/>
            <a:ext cx="1038240" cy="905040"/>
          </a:xfrm>
          <a:prstGeom prst="rect">
            <a:avLst/>
          </a:prstGeom>
          <a:ln w="0">
            <a:noFill/>
          </a:ln>
        </p:spPr>
      </p:pic>
      <p:pic>
        <p:nvPicPr>
          <p:cNvPr id="2146" name="" descr=""/>
          <p:cNvPicPr/>
          <p:nvPr/>
        </p:nvPicPr>
        <p:blipFill>
          <a:blip r:embed="rId6"/>
          <a:stretch/>
        </p:blipFill>
        <p:spPr>
          <a:xfrm>
            <a:off x="4049640" y="1359000"/>
            <a:ext cx="649440" cy="592200"/>
          </a:xfrm>
          <a:prstGeom prst="rect">
            <a:avLst/>
          </a:prstGeom>
          <a:ln w="0">
            <a:noFill/>
          </a:ln>
        </p:spPr>
      </p:pic>
      <p:sp>
        <p:nvSpPr>
          <p:cNvPr id="2147" name=""/>
          <p:cNvSpPr/>
          <p:nvPr/>
        </p:nvSpPr>
        <p:spPr>
          <a:xfrm>
            <a:off x="4724280" y="1503360"/>
            <a:ext cx="126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8" name="" descr=""/>
          <p:cNvPicPr/>
          <p:nvPr/>
        </p:nvPicPr>
        <p:blipFill>
          <a:blip r:embed="rId7"/>
          <a:stretch/>
        </p:blipFill>
        <p:spPr>
          <a:xfrm>
            <a:off x="380880" y="1447920"/>
            <a:ext cx="1190880" cy="1199880"/>
          </a:xfrm>
          <a:prstGeom prst="rect">
            <a:avLst/>
          </a:prstGeom>
          <a:ln w="0">
            <a:noFill/>
          </a:ln>
        </p:spPr>
      </p:pic>
      <p:sp>
        <p:nvSpPr>
          <p:cNvPr id="2149" name=""/>
          <p:cNvSpPr/>
          <p:nvPr/>
        </p:nvSpPr>
        <p:spPr>
          <a:xfrm>
            <a:off x="7550280" y="1357200"/>
            <a:ext cx="1562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 Services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724280" y="2882880"/>
            <a:ext cx="126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S 151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3724200" y="2712960"/>
            <a:ext cx="974880" cy="642960"/>
            <a:chOff x="3724200" y="2712960"/>
            <a:chExt cx="974880" cy="642960"/>
          </a:xfrm>
        </p:grpSpPr>
        <p:sp>
          <p:nvSpPr>
            <p:cNvPr id="2152" name=""/>
            <p:cNvSpPr/>
            <p:nvPr/>
          </p:nvSpPr>
          <p:spPr>
            <a:xfrm>
              <a:off x="3724200" y="2803680"/>
              <a:ext cx="881280" cy="550800"/>
            </a:xfrm>
            <a:prstGeom prst="rect">
              <a:avLst/>
            </a:prstGeom>
            <a:solidFill>
              <a:srgbClr val="1c9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724200" y="2803680"/>
              <a:ext cx="881280" cy="550800"/>
            </a:xfrm>
            <a:prstGeom prst="rect">
              <a:avLst/>
            </a:prstGeom>
            <a:noFill/>
            <a:ln w="6480">
              <a:solidFill>
                <a:srgbClr val="add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605480" y="2712960"/>
              <a:ext cx="93600" cy="642960"/>
            </a:xfrm>
            <a:custGeom>
              <a:avLst/>
              <a:gdLst/>
              <a:ahLst/>
              <a:rect l="l" t="t" r="r" b="b"/>
              <a:pathLst>
                <a:path w="1523" h="10525">
                  <a:moveTo>
                    <a:pt x="0" y="10525"/>
                  </a:moveTo>
                  <a:lnTo>
                    <a:pt x="1523" y="9000"/>
                  </a:lnTo>
                  <a:lnTo>
                    <a:pt x="1523" y="0"/>
                  </a:lnTo>
                  <a:lnTo>
                    <a:pt x="0" y="1522"/>
                  </a:lnTo>
                  <a:lnTo>
                    <a:pt x="0" y="10525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605480" y="2712960"/>
              <a:ext cx="93600" cy="642960"/>
            </a:xfrm>
            <a:custGeom>
              <a:avLst/>
              <a:gdLst/>
              <a:ahLst/>
              <a:rect l="l" t="t" r="r" b="b"/>
              <a:pathLst>
                <a:path w="1523" h="10525">
                  <a:moveTo>
                    <a:pt x="0" y="10525"/>
                  </a:moveTo>
                  <a:lnTo>
                    <a:pt x="1523" y="9000"/>
                  </a:lnTo>
                  <a:lnTo>
                    <a:pt x="1523" y="0"/>
                  </a:lnTo>
                  <a:lnTo>
                    <a:pt x="0" y="1522"/>
                  </a:lnTo>
                  <a:lnTo>
                    <a:pt x="0" y="10525"/>
                  </a:lnTo>
                  <a:close/>
                </a:path>
              </a:pathLst>
            </a:custGeom>
            <a:noFill/>
            <a:ln w="648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724200" y="2712960"/>
              <a:ext cx="974880" cy="93960"/>
            </a:xfrm>
            <a:custGeom>
              <a:avLst/>
              <a:gdLst/>
              <a:ahLst/>
              <a:rect l="l" t="t" r="r" b="b"/>
              <a:pathLst>
                <a:path w="15956" h="1522">
                  <a:moveTo>
                    <a:pt x="14433" y="1522"/>
                  </a:moveTo>
                  <a:lnTo>
                    <a:pt x="15956" y="0"/>
                  </a:lnTo>
                  <a:lnTo>
                    <a:pt x="1526" y="0"/>
                  </a:lnTo>
                  <a:lnTo>
                    <a:pt x="0" y="1522"/>
                  </a:lnTo>
                  <a:lnTo>
                    <a:pt x="14433" y="1522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724200" y="2712960"/>
              <a:ext cx="974880" cy="93960"/>
            </a:xfrm>
            <a:custGeom>
              <a:avLst/>
              <a:gdLst/>
              <a:ahLst/>
              <a:rect l="l" t="t" r="r" b="b"/>
              <a:pathLst>
                <a:path w="15956" h="1522">
                  <a:moveTo>
                    <a:pt x="14433" y="1522"/>
                  </a:moveTo>
                  <a:lnTo>
                    <a:pt x="15956" y="0"/>
                  </a:lnTo>
                  <a:lnTo>
                    <a:pt x="1526" y="0"/>
                  </a:lnTo>
                  <a:lnTo>
                    <a:pt x="0" y="1522"/>
                  </a:lnTo>
                  <a:lnTo>
                    <a:pt x="14433" y="1522"/>
                  </a:lnTo>
                  <a:close/>
                </a:path>
              </a:pathLst>
            </a:custGeom>
            <a:noFill/>
            <a:ln w="648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170600" y="2887560"/>
              <a:ext cx="333360" cy="397080"/>
            </a:xfrm>
            <a:custGeom>
              <a:avLst/>
              <a:gdLst/>
              <a:ahLst/>
              <a:rect l="l" t="t" r="r" b="b"/>
              <a:pathLst>
                <a:path w="5476" h="6517">
                  <a:moveTo>
                    <a:pt x="5476" y="6517"/>
                  </a:moveTo>
                  <a:lnTo>
                    <a:pt x="5476" y="0"/>
                  </a:lnTo>
                  <a:lnTo>
                    <a:pt x="0" y="3258"/>
                  </a:lnTo>
                  <a:lnTo>
                    <a:pt x="5476" y="65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34000" y="2887560"/>
              <a:ext cx="339480" cy="397080"/>
            </a:xfrm>
            <a:custGeom>
              <a:avLst/>
              <a:gdLst/>
              <a:ahLst/>
              <a:rect l="l" t="t" r="r" b="b"/>
              <a:pathLst>
                <a:path w="5570" h="6517">
                  <a:moveTo>
                    <a:pt x="0" y="0"/>
                  </a:moveTo>
                  <a:lnTo>
                    <a:pt x="0" y="6517"/>
                  </a:lnTo>
                  <a:lnTo>
                    <a:pt x="5570" y="32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165560" y="2879640"/>
              <a:ext cx="335160" cy="398520"/>
            </a:xfrm>
            <a:custGeom>
              <a:avLst/>
              <a:gdLst/>
              <a:ahLst/>
              <a:rect l="l" t="t" r="r" b="b"/>
              <a:pathLst>
                <a:path w="5476" h="6519">
                  <a:moveTo>
                    <a:pt x="5476" y="6519"/>
                  </a:moveTo>
                  <a:lnTo>
                    <a:pt x="5476" y="0"/>
                  </a:lnTo>
                  <a:lnTo>
                    <a:pt x="0" y="3260"/>
                  </a:lnTo>
                  <a:lnTo>
                    <a:pt x="5476" y="65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830760" y="2879640"/>
              <a:ext cx="339840" cy="398520"/>
            </a:xfrm>
            <a:custGeom>
              <a:avLst/>
              <a:gdLst/>
              <a:ahLst/>
              <a:rect l="l" t="t" r="r" b="b"/>
              <a:pathLst>
                <a:path w="5570" h="6519">
                  <a:moveTo>
                    <a:pt x="0" y="0"/>
                  </a:moveTo>
                  <a:lnTo>
                    <a:pt x="0" y="6519"/>
                  </a:lnTo>
                  <a:lnTo>
                    <a:pt x="5570" y="32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2" name=""/>
          <p:cNvSpPr/>
          <p:nvPr/>
        </p:nvSpPr>
        <p:spPr>
          <a:xfrm>
            <a:off x="7550280" y="212868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107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6438960" y="1968480"/>
            <a:ext cx="1060200" cy="623520"/>
            <a:chOff x="6438960" y="1968480"/>
            <a:chExt cx="1060200" cy="623520"/>
          </a:xfrm>
        </p:grpSpPr>
        <p:sp>
          <p:nvSpPr>
            <p:cNvPr id="2164" name=""/>
            <p:cNvSpPr/>
            <p:nvPr/>
          </p:nvSpPr>
          <p:spPr>
            <a:xfrm>
              <a:off x="6441840" y="2228760"/>
              <a:ext cx="1054440" cy="360360"/>
            </a:xfrm>
            <a:custGeom>
              <a:avLst/>
              <a:gdLst/>
              <a:ahLst/>
              <a:rect l="l" t="t" r="r" b="b"/>
              <a:pathLst>
                <a:path w="16202" h="5537">
                  <a:moveTo>
                    <a:pt x="16202" y="2768"/>
                  </a:moveTo>
                  <a:lnTo>
                    <a:pt x="16192" y="2911"/>
                  </a:lnTo>
                  <a:lnTo>
                    <a:pt x="16160" y="3052"/>
                  </a:lnTo>
                  <a:lnTo>
                    <a:pt x="16109" y="3190"/>
                  </a:lnTo>
                  <a:lnTo>
                    <a:pt x="16038" y="3326"/>
                  </a:lnTo>
                  <a:lnTo>
                    <a:pt x="15947" y="3461"/>
                  </a:lnTo>
                  <a:lnTo>
                    <a:pt x="15838" y="3592"/>
                  </a:lnTo>
                  <a:lnTo>
                    <a:pt x="15711" y="3721"/>
                  </a:lnTo>
                  <a:lnTo>
                    <a:pt x="15565" y="3846"/>
                  </a:lnTo>
                  <a:lnTo>
                    <a:pt x="15403" y="3969"/>
                  </a:lnTo>
                  <a:lnTo>
                    <a:pt x="15224" y="4088"/>
                  </a:lnTo>
                  <a:lnTo>
                    <a:pt x="15029" y="4204"/>
                  </a:lnTo>
                  <a:lnTo>
                    <a:pt x="14818" y="4316"/>
                  </a:lnTo>
                  <a:lnTo>
                    <a:pt x="14592" y="4425"/>
                  </a:lnTo>
                  <a:lnTo>
                    <a:pt x="14352" y="4530"/>
                  </a:lnTo>
                  <a:lnTo>
                    <a:pt x="14097" y="4630"/>
                  </a:lnTo>
                  <a:lnTo>
                    <a:pt x="13829" y="4727"/>
                  </a:lnTo>
                  <a:lnTo>
                    <a:pt x="13547" y="4818"/>
                  </a:lnTo>
                  <a:lnTo>
                    <a:pt x="13253" y="4905"/>
                  </a:lnTo>
                  <a:lnTo>
                    <a:pt x="12947" y="4987"/>
                  </a:lnTo>
                  <a:lnTo>
                    <a:pt x="12630" y="5065"/>
                  </a:lnTo>
                  <a:lnTo>
                    <a:pt x="12301" y="5137"/>
                  </a:lnTo>
                  <a:lnTo>
                    <a:pt x="11962" y="5203"/>
                  </a:lnTo>
                  <a:lnTo>
                    <a:pt x="11612" y="5264"/>
                  </a:lnTo>
                  <a:lnTo>
                    <a:pt x="11253" y="5320"/>
                  </a:lnTo>
                  <a:lnTo>
                    <a:pt x="10886" y="5369"/>
                  </a:lnTo>
                  <a:lnTo>
                    <a:pt x="10510" y="5413"/>
                  </a:lnTo>
                  <a:lnTo>
                    <a:pt x="10124" y="5451"/>
                  </a:lnTo>
                  <a:lnTo>
                    <a:pt x="9733" y="5481"/>
                  </a:lnTo>
                  <a:lnTo>
                    <a:pt x="9334" y="5506"/>
                  </a:lnTo>
                  <a:lnTo>
                    <a:pt x="8929" y="5523"/>
                  </a:lnTo>
                  <a:lnTo>
                    <a:pt x="8518" y="5534"/>
                  </a:lnTo>
                  <a:lnTo>
                    <a:pt x="8101" y="5537"/>
                  </a:lnTo>
                  <a:lnTo>
                    <a:pt x="7684" y="5534"/>
                  </a:lnTo>
                  <a:lnTo>
                    <a:pt x="7273" y="5523"/>
                  </a:lnTo>
                  <a:lnTo>
                    <a:pt x="6868" y="5506"/>
                  </a:lnTo>
                  <a:lnTo>
                    <a:pt x="6469" y="5481"/>
                  </a:lnTo>
                  <a:lnTo>
                    <a:pt x="6078" y="5451"/>
                  </a:lnTo>
                  <a:lnTo>
                    <a:pt x="5692" y="5413"/>
                  </a:lnTo>
                  <a:lnTo>
                    <a:pt x="5316" y="5369"/>
                  </a:lnTo>
                  <a:lnTo>
                    <a:pt x="4949" y="5320"/>
                  </a:lnTo>
                  <a:lnTo>
                    <a:pt x="4590" y="5264"/>
                  </a:lnTo>
                  <a:lnTo>
                    <a:pt x="4240" y="5203"/>
                  </a:lnTo>
                  <a:lnTo>
                    <a:pt x="3901" y="5137"/>
                  </a:lnTo>
                  <a:lnTo>
                    <a:pt x="3572" y="5065"/>
                  </a:lnTo>
                  <a:lnTo>
                    <a:pt x="3254" y="4987"/>
                  </a:lnTo>
                  <a:lnTo>
                    <a:pt x="2949" y="4905"/>
                  </a:lnTo>
                  <a:lnTo>
                    <a:pt x="2654" y="4818"/>
                  </a:lnTo>
                  <a:lnTo>
                    <a:pt x="2373" y="4727"/>
                  </a:lnTo>
                  <a:lnTo>
                    <a:pt x="2105" y="4630"/>
                  </a:lnTo>
                  <a:lnTo>
                    <a:pt x="1850" y="4530"/>
                  </a:lnTo>
                  <a:lnTo>
                    <a:pt x="1610" y="4425"/>
                  </a:lnTo>
                  <a:lnTo>
                    <a:pt x="1384" y="4316"/>
                  </a:lnTo>
                  <a:lnTo>
                    <a:pt x="1173" y="4204"/>
                  </a:lnTo>
                  <a:lnTo>
                    <a:pt x="978" y="4088"/>
                  </a:lnTo>
                  <a:lnTo>
                    <a:pt x="799" y="3969"/>
                  </a:lnTo>
                  <a:lnTo>
                    <a:pt x="637" y="3846"/>
                  </a:lnTo>
                  <a:lnTo>
                    <a:pt x="491" y="3721"/>
                  </a:lnTo>
                  <a:lnTo>
                    <a:pt x="364" y="3592"/>
                  </a:lnTo>
                  <a:lnTo>
                    <a:pt x="255" y="3461"/>
                  </a:lnTo>
                  <a:lnTo>
                    <a:pt x="164" y="3326"/>
                  </a:lnTo>
                  <a:lnTo>
                    <a:pt x="93" y="3190"/>
                  </a:lnTo>
                  <a:lnTo>
                    <a:pt x="42" y="3052"/>
                  </a:lnTo>
                  <a:lnTo>
                    <a:pt x="10" y="2911"/>
                  </a:lnTo>
                  <a:lnTo>
                    <a:pt x="0" y="2768"/>
                  </a:lnTo>
                  <a:lnTo>
                    <a:pt x="10" y="2626"/>
                  </a:lnTo>
                  <a:lnTo>
                    <a:pt x="42" y="2485"/>
                  </a:lnTo>
                  <a:lnTo>
                    <a:pt x="93" y="2347"/>
                  </a:lnTo>
                  <a:lnTo>
                    <a:pt x="164" y="2210"/>
                  </a:lnTo>
                  <a:lnTo>
                    <a:pt x="255" y="2077"/>
                  </a:lnTo>
                  <a:lnTo>
                    <a:pt x="364" y="1946"/>
                  </a:lnTo>
                  <a:lnTo>
                    <a:pt x="491" y="1817"/>
                  </a:lnTo>
                  <a:lnTo>
                    <a:pt x="637" y="1691"/>
                  </a:lnTo>
                  <a:lnTo>
                    <a:pt x="799" y="1569"/>
                  </a:lnTo>
                  <a:lnTo>
                    <a:pt x="978" y="1450"/>
                  </a:lnTo>
                  <a:lnTo>
                    <a:pt x="1173" y="1334"/>
                  </a:lnTo>
                  <a:lnTo>
                    <a:pt x="1384" y="1221"/>
                  </a:lnTo>
                  <a:lnTo>
                    <a:pt x="1610" y="1113"/>
                  </a:lnTo>
                  <a:lnTo>
                    <a:pt x="1850" y="1008"/>
                  </a:lnTo>
                  <a:lnTo>
                    <a:pt x="2105" y="907"/>
                  </a:lnTo>
                  <a:lnTo>
                    <a:pt x="2373" y="811"/>
                  </a:lnTo>
                  <a:lnTo>
                    <a:pt x="2654" y="720"/>
                  </a:lnTo>
                  <a:lnTo>
                    <a:pt x="2949" y="632"/>
                  </a:lnTo>
                  <a:lnTo>
                    <a:pt x="3254" y="551"/>
                  </a:lnTo>
                  <a:lnTo>
                    <a:pt x="3572" y="473"/>
                  </a:lnTo>
                  <a:lnTo>
                    <a:pt x="3901" y="401"/>
                  </a:lnTo>
                  <a:lnTo>
                    <a:pt x="4240" y="335"/>
                  </a:lnTo>
                  <a:lnTo>
                    <a:pt x="4590" y="273"/>
                  </a:lnTo>
                  <a:lnTo>
                    <a:pt x="4949" y="218"/>
                  </a:lnTo>
                  <a:lnTo>
                    <a:pt x="5316" y="168"/>
                  </a:lnTo>
                  <a:lnTo>
                    <a:pt x="5692" y="124"/>
                  </a:lnTo>
                  <a:lnTo>
                    <a:pt x="6078" y="87"/>
                  </a:lnTo>
                  <a:lnTo>
                    <a:pt x="6469" y="56"/>
                  </a:lnTo>
                  <a:lnTo>
                    <a:pt x="6868" y="31"/>
                  </a:lnTo>
                  <a:lnTo>
                    <a:pt x="7273" y="14"/>
                  </a:lnTo>
                  <a:lnTo>
                    <a:pt x="7684" y="4"/>
                  </a:lnTo>
                  <a:lnTo>
                    <a:pt x="8101" y="0"/>
                  </a:lnTo>
                  <a:lnTo>
                    <a:pt x="8518" y="4"/>
                  </a:lnTo>
                  <a:lnTo>
                    <a:pt x="8929" y="14"/>
                  </a:lnTo>
                  <a:lnTo>
                    <a:pt x="9334" y="31"/>
                  </a:lnTo>
                  <a:lnTo>
                    <a:pt x="9733" y="56"/>
                  </a:lnTo>
                  <a:lnTo>
                    <a:pt x="10124" y="87"/>
                  </a:lnTo>
                  <a:lnTo>
                    <a:pt x="10510" y="124"/>
                  </a:lnTo>
                  <a:lnTo>
                    <a:pt x="10886" y="168"/>
                  </a:lnTo>
                  <a:lnTo>
                    <a:pt x="11253" y="218"/>
                  </a:lnTo>
                  <a:lnTo>
                    <a:pt x="11612" y="273"/>
                  </a:lnTo>
                  <a:lnTo>
                    <a:pt x="11962" y="335"/>
                  </a:lnTo>
                  <a:lnTo>
                    <a:pt x="12301" y="401"/>
                  </a:lnTo>
                  <a:lnTo>
                    <a:pt x="12630" y="473"/>
                  </a:lnTo>
                  <a:lnTo>
                    <a:pt x="12947" y="551"/>
                  </a:lnTo>
                  <a:lnTo>
                    <a:pt x="13253" y="632"/>
                  </a:lnTo>
                  <a:lnTo>
                    <a:pt x="13547" y="720"/>
                  </a:lnTo>
                  <a:lnTo>
                    <a:pt x="13829" y="811"/>
                  </a:lnTo>
                  <a:lnTo>
                    <a:pt x="14097" y="907"/>
                  </a:lnTo>
                  <a:lnTo>
                    <a:pt x="14352" y="1008"/>
                  </a:lnTo>
                  <a:lnTo>
                    <a:pt x="14592" y="1113"/>
                  </a:lnTo>
                  <a:lnTo>
                    <a:pt x="14818" y="1221"/>
                  </a:lnTo>
                  <a:lnTo>
                    <a:pt x="15029" y="1334"/>
                  </a:lnTo>
                  <a:lnTo>
                    <a:pt x="15224" y="1450"/>
                  </a:lnTo>
                  <a:lnTo>
                    <a:pt x="15403" y="1569"/>
                  </a:lnTo>
                  <a:lnTo>
                    <a:pt x="15565" y="1691"/>
                  </a:lnTo>
                  <a:lnTo>
                    <a:pt x="15711" y="1817"/>
                  </a:lnTo>
                  <a:lnTo>
                    <a:pt x="15838" y="1946"/>
                  </a:lnTo>
                  <a:lnTo>
                    <a:pt x="15947" y="2077"/>
                  </a:lnTo>
                  <a:lnTo>
                    <a:pt x="16038" y="2210"/>
                  </a:lnTo>
                  <a:lnTo>
                    <a:pt x="16109" y="2347"/>
                  </a:lnTo>
                  <a:lnTo>
                    <a:pt x="16160" y="2485"/>
                  </a:lnTo>
                  <a:lnTo>
                    <a:pt x="16192" y="2626"/>
                  </a:lnTo>
                  <a:lnTo>
                    <a:pt x="16202" y="2768"/>
                  </a:lnTo>
                  <a:close/>
                </a:path>
              </a:pathLst>
            </a:custGeom>
            <a:solidFill>
              <a:srgbClr val="077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965640" y="2408760"/>
              <a:ext cx="533520" cy="183240"/>
            </a:xfrm>
            <a:custGeom>
              <a:avLst/>
              <a:gdLst/>
              <a:ahLst/>
              <a:rect l="l" t="t" r="r" b="b"/>
              <a:pathLst>
                <a:path w="8201" h="2819">
                  <a:moveTo>
                    <a:pt x="50" y="2819"/>
                  </a:moveTo>
                  <a:lnTo>
                    <a:pt x="50" y="2819"/>
                  </a:lnTo>
                  <a:lnTo>
                    <a:pt x="260" y="2818"/>
                  </a:lnTo>
                  <a:lnTo>
                    <a:pt x="468" y="2815"/>
                  </a:lnTo>
                  <a:lnTo>
                    <a:pt x="675" y="2811"/>
                  </a:lnTo>
                  <a:lnTo>
                    <a:pt x="879" y="2805"/>
                  </a:lnTo>
                  <a:lnTo>
                    <a:pt x="1083" y="2797"/>
                  </a:lnTo>
                  <a:lnTo>
                    <a:pt x="1286" y="2786"/>
                  </a:lnTo>
                  <a:lnTo>
                    <a:pt x="1487" y="2775"/>
                  </a:lnTo>
                  <a:lnTo>
                    <a:pt x="1685" y="2763"/>
                  </a:lnTo>
                  <a:lnTo>
                    <a:pt x="1883" y="2748"/>
                  </a:lnTo>
                  <a:lnTo>
                    <a:pt x="2079" y="2731"/>
                  </a:lnTo>
                  <a:lnTo>
                    <a:pt x="2271" y="2713"/>
                  </a:lnTo>
                  <a:lnTo>
                    <a:pt x="2464" y="2694"/>
                  </a:lnTo>
                  <a:lnTo>
                    <a:pt x="2653" y="2673"/>
                  </a:lnTo>
                  <a:lnTo>
                    <a:pt x="2841" y="2651"/>
                  </a:lnTo>
                  <a:lnTo>
                    <a:pt x="3026" y="2627"/>
                  </a:lnTo>
                  <a:lnTo>
                    <a:pt x="3210" y="2601"/>
                  </a:lnTo>
                  <a:lnTo>
                    <a:pt x="3391" y="2574"/>
                  </a:lnTo>
                  <a:lnTo>
                    <a:pt x="3569" y="2545"/>
                  </a:lnTo>
                  <a:lnTo>
                    <a:pt x="3745" y="2516"/>
                  </a:lnTo>
                  <a:lnTo>
                    <a:pt x="3920" y="2484"/>
                  </a:lnTo>
                  <a:lnTo>
                    <a:pt x="4091" y="2451"/>
                  </a:lnTo>
                  <a:lnTo>
                    <a:pt x="4260" y="2417"/>
                  </a:lnTo>
                  <a:lnTo>
                    <a:pt x="4426" y="2381"/>
                  </a:lnTo>
                  <a:lnTo>
                    <a:pt x="4590" y="2344"/>
                  </a:lnTo>
                  <a:lnTo>
                    <a:pt x="4750" y="2307"/>
                  </a:lnTo>
                  <a:lnTo>
                    <a:pt x="4908" y="2267"/>
                  </a:lnTo>
                  <a:lnTo>
                    <a:pt x="5064" y="2226"/>
                  </a:lnTo>
                  <a:lnTo>
                    <a:pt x="5216" y="2185"/>
                  </a:lnTo>
                  <a:lnTo>
                    <a:pt x="5291" y="2163"/>
                  </a:lnTo>
                  <a:lnTo>
                    <a:pt x="5364" y="2142"/>
                  </a:lnTo>
                  <a:lnTo>
                    <a:pt x="5438" y="2119"/>
                  </a:lnTo>
                  <a:lnTo>
                    <a:pt x="5511" y="2097"/>
                  </a:lnTo>
                  <a:lnTo>
                    <a:pt x="5582" y="2075"/>
                  </a:lnTo>
                  <a:lnTo>
                    <a:pt x="5654" y="2051"/>
                  </a:lnTo>
                  <a:lnTo>
                    <a:pt x="5724" y="2029"/>
                  </a:lnTo>
                  <a:lnTo>
                    <a:pt x="5793" y="2005"/>
                  </a:lnTo>
                  <a:lnTo>
                    <a:pt x="5863" y="1981"/>
                  </a:lnTo>
                  <a:lnTo>
                    <a:pt x="5930" y="1958"/>
                  </a:lnTo>
                  <a:lnTo>
                    <a:pt x="5997" y="1933"/>
                  </a:lnTo>
                  <a:lnTo>
                    <a:pt x="6063" y="1909"/>
                  </a:lnTo>
                  <a:lnTo>
                    <a:pt x="6129" y="1883"/>
                  </a:lnTo>
                  <a:lnTo>
                    <a:pt x="6193" y="1859"/>
                  </a:lnTo>
                  <a:lnTo>
                    <a:pt x="6257" y="1833"/>
                  </a:lnTo>
                  <a:lnTo>
                    <a:pt x="6319" y="1807"/>
                  </a:lnTo>
                  <a:lnTo>
                    <a:pt x="6381" y="1781"/>
                  </a:lnTo>
                  <a:lnTo>
                    <a:pt x="6442" y="1755"/>
                  </a:lnTo>
                  <a:lnTo>
                    <a:pt x="6503" y="1728"/>
                  </a:lnTo>
                  <a:lnTo>
                    <a:pt x="6562" y="1702"/>
                  </a:lnTo>
                  <a:lnTo>
                    <a:pt x="6620" y="1674"/>
                  </a:lnTo>
                  <a:lnTo>
                    <a:pt x="6678" y="1648"/>
                  </a:lnTo>
                  <a:lnTo>
                    <a:pt x="6734" y="1621"/>
                  </a:lnTo>
                  <a:lnTo>
                    <a:pt x="6790" y="1593"/>
                  </a:lnTo>
                  <a:lnTo>
                    <a:pt x="6844" y="1565"/>
                  </a:lnTo>
                  <a:lnTo>
                    <a:pt x="6898" y="1536"/>
                  </a:lnTo>
                  <a:lnTo>
                    <a:pt x="6951" y="1507"/>
                  </a:lnTo>
                  <a:lnTo>
                    <a:pt x="7002" y="1479"/>
                  </a:lnTo>
                  <a:lnTo>
                    <a:pt x="7053" y="1450"/>
                  </a:lnTo>
                  <a:lnTo>
                    <a:pt x="7103" y="1421"/>
                  </a:lnTo>
                  <a:lnTo>
                    <a:pt x="7152" y="1391"/>
                  </a:lnTo>
                  <a:lnTo>
                    <a:pt x="7199" y="1362"/>
                  </a:lnTo>
                  <a:lnTo>
                    <a:pt x="7246" y="1332"/>
                  </a:lnTo>
                  <a:lnTo>
                    <a:pt x="7292" y="1302"/>
                  </a:lnTo>
                  <a:lnTo>
                    <a:pt x="7337" y="1271"/>
                  </a:lnTo>
                  <a:lnTo>
                    <a:pt x="7381" y="1241"/>
                  </a:lnTo>
                  <a:lnTo>
                    <a:pt x="7424" y="1210"/>
                  </a:lnTo>
                  <a:lnTo>
                    <a:pt x="7465" y="1180"/>
                  </a:lnTo>
                  <a:lnTo>
                    <a:pt x="7506" y="1148"/>
                  </a:lnTo>
                  <a:lnTo>
                    <a:pt x="7546" y="1116"/>
                  </a:lnTo>
                  <a:lnTo>
                    <a:pt x="7584" y="1085"/>
                  </a:lnTo>
                  <a:lnTo>
                    <a:pt x="7621" y="1053"/>
                  </a:lnTo>
                  <a:lnTo>
                    <a:pt x="7658" y="1021"/>
                  </a:lnTo>
                  <a:lnTo>
                    <a:pt x="7694" y="988"/>
                  </a:lnTo>
                  <a:lnTo>
                    <a:pt x="7727" y="956"/>
                  </a:lnTo>
                  <a:lnTo>
                    <a:pt x="7761" y="923"/>
                  </a:lnTo>
                  <a:lnTo>
                    <a:pt x="7792" y="890"/>
                  </a:lnTo>
                  <a:lnTo>
                    <a:pt x="7824" y="857"/>
                  </a:lnTo>
                  <a:lnTo>
                    <a:pt x="7854" y="824"/>
                  </a:lnTo>
                  <a:lnTo>
                    <a:pt x="7882" y="790"/>
                  </a:lnTo>
                  <a:lnTo>
                    <a:pt x="7910" y="756"/>
                  </a:lnTo>
                  <a:lnTo>
                    <a:pt x="7936" y="722"/>
                  </a:lnTo>
                  <a:lnTo>
                    <a:pt x="7961" y="688"/>
                  </a:lnTo>
                  <a:lnTo>
                    <a:pt x="7985" y="653"/>
                  </a:lnTo>
                  <a:lnTo>
                    <a:pt x="8007" y="619"/>
                  </a:lnTo>
                  <a:lnTo>
                    <a:pt x="8029" y="584"/>
                  </a:lnTo>
                  <a:lnTo>
                    <a:pt x="8049" y="549"/>
                  </a:lnTo>
                  <a:lnTo>
                    <a:pt x="8069" y="514"/>
                  </a:lnTo>
                  <a:lnTo>
                    <a:pt x="8087" y="478"/>
                  </a:lnTo>
                  <a:lnTo>
                    <a:pt x="8103" y="442"/>
                  </a:lnTo>
                  <a:lnTo>
                    <a:pt x="8118" y="407"/>
                  </a:lnTo>
                  <a:lnTo>
                    <a:pt x="8133" y="370"/>
                  </a:lnTo>
                  <a:lnTo>
                    <a:pt x="8145" y="334"/>
                  </a:lnTo>
                  <a:lnTo>
                    <a:pt x="8157" y="298"/>
                  </a:lnTo>
                  <a:lnTo>
                    <a:pt x="8167" y="261"/>
                  </a:lnTo>
                  <a:lnTo>
                    <a:pt x="8176" y="224"/>
                  </a:lnTo>
                  <a:lnTo>
                    <a:pt x="8184" y="188"/>
                  </a:lnTo>
                  <a:lnTo>
                    <a:pt x="8190" y="150"/>
                  </a:lnTo>
                  <a:lnTo>
                    <a:pt x="8195" y="113"/>
                  </a:lnTo>
                  <a:lnTo>
                    <a:pt x="8198" y="76"/>
                  </a:lnTo>
                  <a:lnTo>
                    <a:pt x="8200" y="38"/>
                  </a:lnTo>
                  <a:lnTo>
                    <a:pt x="8201" y="0"/>
                  </a:lnTo>
                  <a:lnTo>
                    <a:pt x="8102" y="0"/>
                  </a:lnTo>
                  <a:lnTo>
                    <a:pt x="8101" y="35"/>
                  </a:lnTo>
                  <a:lnTo>
                    <a:pt x="8099" y="69"/>
                  </a:lnTo>
                  <a:lnTo>
                    <a:pt x="8096" y="102"/>
                  </a:lnTo>
                  <a:lnTo>
                    <a:pt x="8092" y="136"/>
                  </a:lnTo>
                  <a:lnTo>
                    <a:pt x="8087" y="169"/>
                  </a:lnTo>
                  <a:lnTo>
                    <a:pt x="8080" y="203"/>
                  </a:lnTo>
                  <a:lnTo>
                    <a:pt x="8072" y="237"/>
                  </a:lnTo>
                  <a:lnTo>
                    <a:pt x="8062" y="270"/>
                  </a:lnTo>
                  <a:lnTo>
                    <a:pt x="8052" y="303"/>
                  </a:lnTo>
                  <a:lnTo>
                    <a:pt x="8040" y="336"/>
                  </a:lnTo>
                  <a:lnTo>
                    <a:pt x="8027" y="369"/>
                  </a:lnTo>
                  <a:lnTo>
                    <a:pt x="8014" y="403"/>
                  </a:lnTo>
                  <a:lnTo>
                    <a:pt x="7997" y="435"/>
                  </a:lnTo>
                  <a:lnTo>
                    <a:pt x="7981" y="468"/>
                  </a:lnTo>
                  <a:lnTo>
                    <a:pt x="7964" y="500"/>
                  </a:lnTo>
                  <a:lnTo>
                    <a:pt x="7944" y="533"/>
                  </a:lnTo>
                  <a:lnTo>
                    <a:pt x="7925" y="566"/>
                  </a:lnTo>
                  <a:lnTo>
                    <a:pt x="7902" y="598"/>
                  </a:lnTo>
                  <a:lnTo>
                    <a:pt x="7880" y="631"/>
                  </a:lnTo>
                  <a:lnTo>
                    <a:pt x="7857" y="662"/>
                  </a:lnTo>
                  <a:lnTo>
                    <a:pt x="7832" y="695"/>
                  </a:lnTo>
                  <a:lnTo>
                    <a:pt x="7806" y="727"/>
                  </a:lnTo>
                  <a:lnTo>
                    <a:pt x="7779" y="759"/>
                  </a:lnTo>
                  <a:lnTo>
                    <a:pt x="7751" y="791"/>
                  </a:lnTo>
                  <a:lnTo>
                    <a:pt x="7721" y="822"/>
                  </a:lnTo>
                  <a:lnTo>
                    <a:pt x="7691" y="854"/>
                  </a:lnTo>
                  <a:lnTo>
                    <a:pt x="7659" y="885"/>
                  </a:lnTo>
                  <a:lnTo>
                    <a:pt x="7626" y="916"/>
                  </a:lnTo>
                  <a:lnTo>
                    <a:pt x="7592" y="947"/>
                  </a:lnTo>
                  <a:lnTo>
                    <a:pt x="7557" y="978"/>
                  </a:lnTo>
                  <a:lnTo>
                    <a:pt x="7520" y="1010"/>
                  </a:lnTo>
                  <a:lnTo>
                    <a:pt x="7484" y="1040"/>
                  </a:lnTo>
                  <a:lnTo>
                    <a:pt x="7445" y="1071"/>
                  </a:lnTo>
                  <a:lnTo>
                    <a:pt x="7405" y="1100"/>
                  </a:lnTo>
                  <a:lnTo>
                    <a:pt x="7366" y="1131"/>
                  </a:lnTo>
                  <a:lnTo>
                    <a:pt x="7324" y="1160"/>
                  </a:lnTo>
                  <a:lnTo>
                    <a:pt x="7281" y="1191"/>
                  </a:lnTo>
                  <a:lnTo>
                    <a:pt x="7237" y="1220"/>
                  </a:lnTo>
                  <a:lnTo>
                    <a:pt x="7192" y="1250"/>
                  </a:lnTo>
                  <a:lnTo>
                    <a:pt x="7146" y="1278"/>
                  </a:lnTo>
                  <a:lnTo>
                    <a:pt x="7101" y="1308"/>
                  </a:lnTo>
                  <a:lnTo>
                    <a:pt x="7053" y="1336"/>
                  </a:lnTo>
                  <a:lnTo>
                    <a:pt x="7004" y="1365"/>
                  </a:lnTo>
                  <a:lnTo>
                    <a:pt x="6954" y="1393"/>
                  </a:lnTo>
                  <a:lnTo>
                    <a:pt x="6903" y="1421"/>
                  </a:lnTo>
                  <a:lnTo>
                    <a:pt x="6851" y="1449"/>
                  </a:lnTo>
                  <a:lnTo>
                    <a:pt x="6799" y="1477"/>
                  </a:lnTo>
                  <a:lnTo>
                    <a:pt x="6745" y="1504"/>
                  </a:lnTo>
                  <a:lnTo>
                    <a:pt x="6690" y="1532"/>
                  </a:lnTo>
                  <a:lnTo>
                    <a:pt x="6635" y="1558"/>
                  </a:lnTo>
                  <a:lnTo>
                    <a:pt x="6578" y="1586"/>
                  </a:lnTo>
                  <a:lnTo>
                    <a:pt x="6521" y="1612"/>
                  </a:lnTo>
                  <a:lnTo>
                    <a:pt x="6463" y="1639"/>
                  </a:lnTo>
                  <a:lnTo>
                    <a:pt x="6403" y="1664"/>
                  </a:lnTo>
                  <a:lnTo>
                    <a:pt x="6343" y="1691"/>
                  </a:lnTo>
                  <a:lnTo>
                    <a:pt x="6282" y="1716"/>
                  </a:lnTo>
                  <a:lnTo>
                    <a:pt x="6219" y="1742"/>
                  </a:lnTo>
                  <a:lnTo>
                    <a:pt x="6157" y="1766"/>
                  </a:lnTo>
                  <a:lnTo>
                    <a:pt x="6093" y="1792"/>
                  </a:lnTo>
                  <a:lnTo>
                    <a:pt x="6029" y="1816"/>
                  </a:lnTo>
                  <a:lnTo>
                    <a:pt x="5964" y="1840"/>
                  </a:lnTo>
                  <a:lnTo>
                    <a:pt x="5897" y="1865"/>
                  </a:lnTo>
                  <a:lnTo>
                    <a:pt x="5830" y="1888"/>
                  </a:lnTo>
                  <a:lnTo>
                    <a:pt x="5762" y="1912"/>
                  </a:lnTo>
                  <a:lnTo>
                    <a:pt x="5693" y="1935"/>
                  </a:lnTo>
                  <a:lnTo>
                    <a:pt x="5623" y="1958"/>
                  </a:lnTo>
                  <a:lnTo>
                    <a:pt x="5553" y="1981"/>
                  </a:lnTo>
                  <a:lnTo>
                    <a:pt x="5482" y="2003"/>
                  </a:lnTo>
                  <a:lnTo>
                    <a:pt x="5409" y="2025"/>
                  </a:lnTo>
                  <a:lnTo>
                    <a:pt x="5337" y="2047"/>
                  </a:lnTo>
                  <a:lnTo>
                    <a:pt x="5264" y="2069"/>
                  </a:lnTo>
                  <a:lnTo>
                    <a:pt x="5189" y="2090"/>
                  </a:lnTo>
                  <a:lnTo>
                    <a:pt x="5038" y="2131"/>
                  </a:lnTo>
                  <a:lnTo>
                    <a:pt x="4885" y="2171"/>
                  </a:lnTo>
                  <a:lnTo>
                    <a:pt x="4728" y="2211"/>
                  </a:lnTo>
                  <a:lnTo>
                    <a:pt x="4568" y="2249"/>
                  </a:lnTo>
                  <a:lnTo>
                    <a:pt x="4405" y="2285"/>
                  </a:lnTo>
                  <a:lnTo>
                    <a:pt x="4240" y="2320"/>
                  </a:lnTo>
                  <a:lnTo>
                    <a:pt x="4073" y="2354"/>
                  </a:lnTo>
                  <a:lnTo>
                    <a:pt x="3901" y="2387"/>
                  </a:lnTo>
                  <a:lnTo>
                    <a:pt x="3729" y="2418"/>
                  </a:lnTo>
                  <a:lnTo>
                    <a:pt x="3553" y="2447"/>
                  </a:lnTo>
                  <a:lnTo>
                    <a:pt x="3376" y="2476"/>
                  </a:lnTo>
                  <a:lnTo>
                    <a:pt x="3195" y="2503"/>
                  </a:lnTo>
                  <a:lnTo>
                    <a:pt x="3013" y="2529"/>
                  </a:lnTo>
                  <a:lnTo>
                    <a:pt x="2828" y="2552"/>
                  </a:lnTo>
                  <a:lnTo>
                    <a:pt x="2642" y="2575"/>
                  </a:lnTo>
                  <a:lnTo>
                    <a:pt x="2454" y="2596"/>
                  </a:lnTo>
                  <a:lnTo>
                    <a:pt x="2262" y="2615"/>
                  </a:lnTo>
                  <a:lnTo>
                    <a:pt x="2069" y="2633"/>
                  </a:lnTo>
                  <a:lnTo>
                    <a:pt x="1875" y="2649"/>
                  </a:lnTo>
                  <a:lnTo>
                    <a:pt x="1679" y="2664"/>
                  </a:lnTo>
                  <a:lnTo>
                    <a:pt x="1481" y="2677"/>
                  </a:lnTo>
                  <a:lnTo>
                    <a:pt x="1281" y="2689"/>
                  </a:lnTo>
                  <a:lnTo>
                    <a:pt x="1079" y="2698"/>
                  </a:lnTo>
                  <a:lnTo>
                    <a:pt x="876" y="2706"/>
                  </a:lnTo>
                  <a:lnTo>
                    <a:pt x="672" y="2712"/>
                  </a:lnTo>
                  <a:lnTo>
                    <a:pt x="466" y="2717"/>
                  </a:lnTo>
                  <a:lnTo>
                    <a:pt x="259" y="2719"/>
                  </a:lnTo>
                  <a:lnTo>
                    <a:pt x="50" y="2720"/>
                  </a:lnTo>
                  <a:lnTo>
                    <a:pt x="50" y="2720"/>
                  </a:lnTo>
                  <a:lnTo>
                    <a:pt x="50" y="2720"/>
                  </a:lnTo>
                  <a:lnTo>
                    <a:pt x="44" y="2720"/>
                  </a:lnTo>
                  <a:lnTo>
                    <a:pt x="39" y="2721"/>
                  </a:lnTo>
                  <a:lnTo>
                    <a:pt x="33" y="2722"/>
                  </a:lnTo>
                  <a:lnTo>
                    <a:pt x="29" y="2724"/>
                  </a:lnTo>
                  <a:lnTo>
                    <a:pt x="24" y="2726"/>
                  </a:lnTo>
                  <a:lnTo>
                    <a:pt x="19" y="2729"/>
                  </a:lnTo>
                  <a:lnTo>
                    <a:pt x="16" y="2732"/>
                  </a:lnTo>
                  <a:lnTo>
                    <a:pt x="13" y="2736"/>
                  </a:lnTo>
                  <a:lnTo>
                    <a:pt x="7" y="2743"/>
                  </a:lnTo>
                  <a:lnTo>
                    <a:pt x="3" y="2752"/>
                  </a:lnTo>
                  <a:lnTo>
                    <a:pt x="1" y="2760"/>
                  </a:lnTo>
                  <a:lnTo>
                    <a:pt x="0" y="2769"/>
                  </a:lnTo>
                  <a:lnTo>
                    <a:pt x="1" y="2779"/>
                  </a:lnTo>
                  <a:lnTo>
                    <a:pt x="3" y="2787"/>
                  </a:lnTo>
                  <a:lnTo>
                    <a:pt x="7" y="2797"/>
                  </a:lnTo>
                  <a:lnTo>
                    <a:pt x="13" y="2804"/>
                  </a:lnTo>
                  <a:lnTo>
                    <a:pt x="16" y="2807"/>
                  </a:lnTo>
                  <a:lnTo>
                    <a:pt x="19" y="2810"/>
                  </a:lnTo>
                  <a:lnTo>
                    <a:pt x="24" y="2813"/>
                  </a:lnTo>
                  <a:lnTo>
                    <a:pt x="29" y="2815"/>
                  </a:lnTo>
                  <a:lnTo>
                    <a:pt x="33" y="2817"/>
                  </a:lnTo>
                  <a:lnTo>
                    <a:pt x="39" y="2818"/>
                  </a:lnTo>
                  <a:lnTo>
                    <a:pt x="44" y="2819"/>
                  </a:lnTo>
                  <a:lnTo>
                    <a:pt x="50" y="281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438960" y="2406240"/>
              <a:ext cx="530640" cy="185760"/>
            </a:xfrm>
            <a:custGeom>
              <a:avLst/>
              <a:gdLst/>
              <a:ahLst/>
              <a:rect l="l" t="t" r="r" b="b"/>
              <a:pathLst>
                <a:path w="8151" h="2867">
                  <a:moveTo>
                    <a:pt x="0" y="48"/>
                  </a:moveTo>
                  <a:lnTo>
                    <a:pt x="0" y="48"/>
                  </a:lnTo>
                  <a:lnTo>
                    <a:pt x="1" y="86"/>
                  </a:lnTo>
                  <a:lnTo>
                    <a:pt x="3" y="124"/>
                  </a:lnTo>
                  <a:lnTo>
                    <a:pt x="6" y="161"/>
                  </a:lnTo>
                  <a:lnTo>
                    <a:pt x="11" y="198"/>
                  </a:lnTo>
                  <a:lnTo>
                    <a:pt x="17" y="236"/>
                  </a:lnTo>
                  <a:lnTo>
                    <a:pt x="24" y="272"/>
                  </a:lnTo>
                  <a:lnTo>
                    <a:pt x="34" y="309"/>
                  </a:lnTo>
                  <a:lnTo>
                    <a:pt x="44" y="346"/>
                  </a:lnTo>
                  <a:lnTo>
                    <a:pt x="55" y="382"/>
                  </a:lnTo>
                  <a:lnTo>
                    <a:pt x="68" y="418"/>
                  </a:lnTo>
                  <a:lnTo>
                    <a:pt x="83" y="455"/>
                  </a:lnTo>
                  <a:lnTo>
                    <a:pt x="98" y="490"/>
                  </a:lnTo>
                  <a:lnTo>
                    <a:pt x="114" y="526"/>
                  </a:lnTo>
                  <a:lnTo>
                    <a:pt x="132" y="562"/>
                  </a:lnTo>
                  <a:lnTo>
                    <a:pt x="152" y="597"/>
                  </a:lnTo>
                  <a:lnTo>
                    <a:pt x="172" y="632"/>
                  </a:lnTo>
                  <a:lnTo>
                    <a:pt x="194" y="667"/>
                  </a:lnTo>
                  <a:lnTo>
                    <a:pt x="216" y="701"/>
                  </a:lnTo>
                  <a:lnTo>
                    <a:pt x="240" y="736"/>
                  </a:lnTo>
                  <a:lnTo>
                    <a:pt x="265" y="770"/>
                  </a:lnTo>
                  <a:lnTo>
                    <a:pt x="291" y="804"/>
                  </a:lnTo>
                  <a:lnTo>
                    <a:pt x="319" y="838"/>
                  </a:lnTo>
                  <a:lnTo>
                    <a:pt x="347" y="872"/>
                  </a:lnTo>
                  <a:lnTo>
                    <a:pt x="377" y="905"/>
                  </a:lnTo>
                  <a:lnTo>
                    <a:pt x="409" y="938"/>
                  </a:lnTo>
                  <a:lnTo>
                    <a:pt x="440" y="971"/>
                  </a:lnTo>
                  <a:lnTo>
                    <a:pt x="474" y="1004"/>
                  </a:lnTo>
                  <a:lnTo>
                    <a:pt x="507" y="1036"/>
                  </a:lnTo>
                  <a:lnTo>
                    <a:pt x="543" y="1069"/>
                  </a:lnTo>
                  <a:lnTo>
                    <a:pt x="580" y="1101"/>
                  </a:lnTo>
                  <a:lnTo>
                    <a:pt x="616" y="1133"/>
                  </a:lnTo>
                  <a:lnTo>
                    <a:pt x="655" y="1164"/>
                  </a:lnTo>
                  <a:lnTo>
                    <a:pt x="695" y="1196"/>
                  </a:lnTo>
                  <a:lnTo>
                    <a:pt x="736" y="1228"/>
                  </a:lnTo>
                  <a:lnTo>
                    <a:pt x="777" y="1258"/>
                  </a:lnTo>
                  <a:lnTo>
                    <a:pt x="820" y="1289"/>
                  </a:lnTo>
                  <a:lnTo>
                    <a:pt x="864" y="1319"/>
                  </a:lnTo>
                  <a:lnTo>
                    <a:pt x="909" y="1350"/>
                  </a:lnTo>
                  <a:lnTo>
                    <a:pt x="955" y="1380"/>
                  </a:lnTo>
                  <a:lnTo>
                    <a:pt x="1002" y="1410"/>
                  </a:lnTo>
                  <a:lnTo>
                    <a:pt x="1049" y="1439"/>
                  </a:lnTo>
                  <a:lnTo>
                    <a:pt x="1098" y="1469"/>
                  </a:lnTo>
                  <a:lnTo>
                    <a:pt x="1148" y="1498"/>
                  </a:lnTo>
                  <a:lnTo>
                    <a:pt x="1198" y="1527"/>
                  </a:lnTo>
                  <a:lnTo>
                    <a:pt x="1250" y="1555"/>
                  </a:lnTo>
                  <a:lnTo>
                    <a:pt x="1303" y="1584"/>
                  </a:lnTo>
                  <a:lnTo>
                    <a:pt x="1357" y="1613"/>
                  </a:lnTo>
                  <a:lnTo>
                    <a:pt x="1411" y="1641"/>
                  </a:lnTo>
                  <a:lnTo>
                    <a:pt x="1467" y="1669"/>
                  </a:lnTo>
                  <a:lnTo>
                    <a:pt x="1523" y="1696"/>
                  </a:lnTo>
                  <a:lnTo>
                    <a:pt x="1580" y="1722"/>
                  </a:lnTo>
                  <a:lnTo>
                    <a:pt x="1639" y="1750"/>
                  </a:lnTo>
                  <a:lnTo>
                    <a:pt x="1698" y="1776"/>
                  </a:lnTo>
                  <a:lnTo>
                    <a:pt x="1759" y="1803"/>
                  </a:lnTo>
                  <a:lnTo>
                    <a:pt x="1820" y="1829"/>
                  </a:lnTo>
                  <a:lnTo>
                    <a:pt x="1882" y="1855"/>
                  </a:lnTo>
                  <a:lnTo>
                    <a:pt x="1944" y="1881"/>
                  </a:lnTo>
                  <a:lnTo>
                    <a:pt x="2007" y="1907"/>
                  </a:lnTo>
                  <a:lnTo>
                    <a:pt x="2072" y="1931"/>
                  </a:lnTo>
                  <a:lnTo>
                    <a:pt x="2138" y="1957"/>
                  </a:lnTo>
                  <a:lnTo>
                    <a:pt x="2204" y="1981"/>
                  </a:lnTo>
                  <a:lnTo>
                    <a:pt x="2271" y="2006"/>
                  </a:lnTo>
                  <a:lnTo>
                    <a:pt x="2338" y="2029"/>
                  </a:lnTo>
                  <a:lnTo>
                    <a:pt x="2408" y="2053"/>
                  </a:lnTo>
                  <a:lnTo>
                    <a:pt x="2477" y="2077"/>
                  </a:lnTo>
                  <a:lnTo>
                    <a:pt x="2547" y="2099"/>
                  </a:lnTo>
                  <a:lnTo>
                    <a:pt x="2619" y="2123"/>
                  </a:lnTo>
                  <a:lnTo>
                    <a:pt x="2690" y="2145"/>
                  </a:lnTo>
                  <a:lnTo>
                    <a:pt x="2762" y="2167"/>
                  </a:lnTo>
                  <a:lnTo>
                    <a:pt x="2837" y="2190"/>
                  </a:lnTo>
                  <a:lnTo>
                    <a:pt x="2910" y="2211"/>
                  </a:lnTo>
                  <a:lnTo>
                    <a:pt x="2985" y="2233"/>
                  </a:lnTo>
                  <a:lnTo>
                    <a:pt x="3137" y="2274"/>
                  </a:lnTo>
                  <a:lnTo>
                    <a:pt x="3292" y="2315"/>
                  </a:lnTo>
                  <a:lnTo>
                    <a:pt x="3451" y="2355"/>
                  </a:lnTo>
                  <a:lnTo>
                    <a:pt x="3611" y="2392"/>
                  </a:lnTo>
                  <a:lnTo>
                    <a:pt x="3775" y="2429"/>
                  </a:lnTo>
                  <a:lnTo>
                    <a:pt x="3941" y="2465"/>
                  </a:lnTo>
                  <a:lnTo>
                    <a:pt x="4110" y="2499"/>
                  </a:lnTo>
                  <a:lnTo>
                    <a:pt x="4281" y="2532"/>
                  </a:lnTo>
                  <a:lnTo>
                    <a:pt x="4456" y="2564"/>
                  </a:lnTo>
                  <a:lnTo>
                    <a:pt x="4632" y="2593"/>
                  </a:lnTo>
                  <a:lnTo>
                    <a:pt x="4810" y="2622"/>
                  </a:lnTo>
                  <a:lnTo>
                    <a:pt x="4991" y="2649"/>
                  </a:lnTo>
                  <a:lnTo>
                    <a:pt x="5175" y="2675"/>
                  </a:lnTo>
                  <a:lnTo>
                    <a:pt x="5360" y="2699"/>
                  </a:lnTo>
                  <a:lnTo>
                    <a:pt x="5548" y="2721"/>
                  </a:lnTo>
                  <a:lnTo>
                    <a:pt x="5737" y="2742"/>
                  </a:lnTo>
                  <a:lnTo>
                    <a:pt x="5929" y="2761"/>
                  </a:lnTo>
                  <a:lnTo>
                    <a:pt x="6122" y="2779"/>
                  </a:lnTo>
                  <a:lnTo>
                    <a:pt x="6318" y="2796"/>
                  </a:lnTo>
                  <a:lnTo>
                    <a:pt x="6516" y="2811"/>
                  </a:lnTo>
                  <a:lnTo>
                    <a:pt x="6714" y="2823"/>
                  </a:lnTo>
                  <a:lnTo>
                    <a:pt x="6915" y="2834"/>
                  </a:lnTo>
                  <a:lnTo>
                    <a:pt x="7118" y="2845"/>
                  </a:lnTo>
                  <a:lnTo>
                    <a:pt x="7322" y="2853"/>
                  </a:lnTo>
                  <a:lnTo>
                    <a:pt x="7526" y="2859"/>
                  </a:lnTo>
                  <a:lnTo>
                    <a:pt x="7733" y="2863"/>
                  </a:lnTo>
                  <a:lnTo>
                    <a:pt x="7941" y="2866"/>
                  </a:lnTo>
                  <a:lnTo>
                    <a:pt x="8151" y="2867"/>
                  </a:lnTo>
                  <a:lnTo>
                    <a:pt x="8151" y="2768"/>
                  </a:lnTo>
                  <a:lnTo>
                    <a:pt x="7942" y="2767"/>
                  </a:lnTo>
                  <a:lnTo>
                    <a:pt x="7735" y="2765"/>
                  </a:lnTo>
                  <a:lnTo>
                    <a:pt x="7529" y="2760"/>
                  </a:lnTo>
                  <a:lnTo>
                    <a:pt x="7325" y="2754"/>
                  </a:lnTo>
                  <a:lnTo>
                    <a:pt x="7122" y="2746"/>
                  </a:lnTo>
                  <a:lnTo>
                    <a:pt x="6920" y="2737"/>
                  </a:lnTo>
                  <a:lnTo>
                    <a:pt x="6720" y="2725"/>
                  </a:lnTo>
                  <a:lnTo>
                    <a:pt x="6522" y="2712"/>
                  </a:lnTo>
                  <a:lnTo>
                    <a:pt x="6326" y="2697"/>
                  </a:lnTo>
                  <a:lnTo>
                    <a:pt x="6132" y="2681"/>
                  </a:lnTo>
                  <a:lnTo>
                    <a:pt x="5938" y="2663"/>
                  </a:lnTo>
                  <a:lnTo>
                    <a:pt x="5747" y="2644"/>
                  </a:lnTo>
                  <a:lnTo>
                    <a:pt x="5559" y="2623"/>
                  </a:lnTo>
                  <a:lnTo>
                    <a:pt x="5373" y="2600"/>
                  </a:lnTo>
                  <a:lnTo>
                    <a:pt x="5188" y="2577"/>
                  </a:lnTo>
                  <a:lnTo>
                    <a:pt x="5006" y="2551"/>
                  </a:lnTo>
                  <a:lnTo>
                    <a:pt x="4825" y="2524"/>
                  </a:lnTo>
                  <a:lnTo>
                    <a:pt x="4647" y="2495"/>
                  </a:lnTo>
                  <a:lnTo>
                    <a:pt x="4472" y="2466"/>
                  </a:lnTo>
                  <a:lnTo>
                    <a:pt x="4300" y="2435"/>
                  </a:lnTo>
                  <a:lnTo>
                    <a:pt x="4128" y="2402"/>
                  </a:lnTo>
                  <a:lnTo>
                    <a:pt x="3961" y="2368"/>
                  </a:lnTo>
                  <a:lnTo>
                    <a:pt x="3795" y="2333"/>
                  </a:lnTo>
                  <a:lnTo>
                    <a:pt x="3633" y="2297"/>
                  </a:lnTo>
                  <a:lnTo>
                    <a:pt x="3473" y="2259"/>
                  </a:lnTo>
                  <a:lnTo>
                    <a:pt x="3316" y="2219"/>
                  </a:lnTo>
                  <a:lnTo>
                    <a:pt x="3163" y="2179"/>
                  </a:lnTo>
                  <a:lnTo>
                    <a:pt x="3012" y="2138"/>
                  </a:lnTo>
                  <a:lnTo>
                    <a:pt x="2937" y="2117"/>
                  </a:lnTo>
                  <a:lnTo>
                    <a:pt x="2864" y="2095"/>
                  </a:lnTo>
                  <a:lnTo>
                    <a:pt x="2791" y="2073"/>
                  </a:lnTo>
                  <a:lnTo>
                    <a:pt x="2719" y="2051"/>
                  </a:lnTo>
                  <a:lnTo>
                    <a:pt x="2648" y="2029"/>
                  </a:lnTo>
                  <a:lnTo>
                    <a:pt x="2578" y="2006"/>
                  </a:lnTo>
                  <a:lnTo>
                    <a:pt x="2507" y="1983"/>
                  </a:lnTo>
                  <a:lnTo>
                    <a:pt x="2439" y="1960"/>
                  </a:lnTo>
                  <a:lnTo>
                    <a:pt x="2371" y="1936"/>
                  </a:lnTo>
                  <a:lnTo>
                    <a:pt x="2304" y="1913"/>
                  </a:lnTo>
                  <a:lnTo>
                    <a:pt x="2237" y="1888"/>
                  </a:lnTo>
                  <a:lnTo>
                    <a:pt x="2172" y="1864"/>
                  </a:lnTo>
                  <a:lnTo>
                    <a:pt x="2108" y="1840"/>
                  </a:lnTo>
                  <a:lnTo>
                    <a:pt x="2044" y="1814"/>
                  </a:lnTo>
                  <a:lnTo>
                    <a:pt x="1981" y="1790"/>
                  </a:lnTo>
                  <a:lnTo>
                    <a:pt x="1919" y="1764"/>
                  </a:lnTo>
                  <a:lnTo>
                    <a:pt x="1858" y="1739"/>
                  </a:lnTo>
                  <a:lnTo>
                    <a:pt x="1797" y="1712"/>
                  </a:lnTo>
                  <a:lnTo>
                    <a:pt x="1738" y="1687"/>
                  </a:lnTo>
                  <a:lnTo>
                    <a:pt x="1680" y="1660"/>
                  </a:lnTo>
                  <a:lnTo>
                    <a:pt x="1622" y="1634"/>
                  </a:lnTo>
                  <a:lnTo>
                    <a:pt x="1566" y="1606"/>
                  </a:lnTo>
                  <a:lnTo>
                    <a:pt x="1511" y="1580"/>
                  </a:lnTo>
                  <a:lnTo>
                    <a:pt x="1456" y="1552"/>
                  </a:lnTo>
                  <a:lnTo>
                    <a:pt x="1402" y="1525"/>
                  </a:lnTo>
                  <a:lnTo>
                    <a:pt x="1349" y="1497"/>
                  </a:lnTo>
                  <a:lnTo>
                    <a:pt x="1298" y="1469"/>
                  </a:lnTo>
                  <a:lnTo>
                    <a:pt x="1247" y="1441"/>
                  </a:lnTo>
                  <a:lnTo>
                    <a:pt x="1197" y="1413"/>
                  </a:lnTo>
                  <a:lnTo>
                    <a:pt x="1148" y="1384"/>
                  </a:lnTo>
                  <a:lnTo>
                    <a:pt x="1100" y="1356"/>
                  </a:lnTo>
                  <a:lnTo>
                    <a:pt x="1054" y="1326"/>
                  </a:lnTo>
                  <a:lnTo>
                    <a:pt x="1009" y="1298"/>
                  </a:lnTo>
                  <a:lnTo>
                    <a:pt x="964" y="1268"/>
                  </a:lnTo>
                  <a:lnTo>
                    <a:pt x="920" y="1239"/>
                  </a:lnTo>
                  <a:lnTo>
                    <a:pt x="877" y="1208"/>
                  </a:lnTo>
                  <a:lnTo>
                    <a:pt x="835" y="1179"/>
                  </a:lnTo>
                  <a:lnTo>
                    <a:pt x="795" y="1148"/>
                  </a:lnTo>
                  <a:lnTo>
                    <a:pt x="756" y="1119"/>
                  </a:lnTo>
                  <a:lnTo>
                    <a:pt x="717" y="1088"/>
                  </a:lnTo>
                  <a:lnTo>
                    <a:pt x="681" y="1058"/>
                  </a:lnTo>
                  <a:lnTo>
                    <a:pt x="644" y="1026"/>
                  </a:lnTo>
                  <a:lnTo>
                    <a:pt x="609" y="995"/>
                  </a:lnTo>
                  <a:lnTo>
                    <a:pt x="575" y="964"/>
                  </a:lnTo>
                  <a:lnTo>
                    <a:pt x="542" y="933"/>
                  </a:lnTo>
                  <a:lnTo>
                    <a:pt x="510" y="902"/>
                  </a:lnTo>
                  <a:lnTo>
                    <a:pt x="480" y="870"/>
                  </a:lnTo>
                  <a:lnTo>
                    <a:pt x="450" y="839"/>
                  </a:lnTo>
                  <a:lnTo>
                    <a:pt x="422" y="807"/>
                  </a:lnTo>
                  <a:lnTo>
                    <a:pt x="395" y="775"/>
                  </a:lnTo>
                  <a:lnTo>
                    <a:pt x="369" y="743"/>
                  </a:lnTo>
                  <a:lnTo>
                    <a:pt x="344" y="711"/>
                  </a:lnTo>
                  <a:lnTo>
                    <a:pt x="320" y="679"/>
                  </a:lnTo>
                  <a:lnTo>
                    <a:pt x="298" y="646"/>
                  </a:lnTo>
                  <a:lnTo>
                    <a:pt x="277" y="614"/>
                  </a:lnTo>
                  <a:lnTo>
                    <a:pt x="257" y="581"/>
                  </a:lnTo>
                  <a:lnTo>
                    <a:pt x="237" y="548"/>
                  </a:lnTo>
                  <a:lnTo>
                    <a:pt x="220" y="516"/>
                  </a:lnTo>
                  <a:lnTo>
                    <a:pt x="203" y="483"/>
                  </a:lnTo>
                  <a:lnTo>
                    <a:pt x="187" y="451"/>
                  </a:lnTo>
                  <a:lnTo>
                    <a:pt x="173" y="417"/>
                  </a:lnTo>
                  <a:lnTo>
                    <a:pt x="161" y="384"/>
                  </a:lnTo>
                  <a:lnTo>
                    <a:pt x="149" y="351"/>
                  </a:lnTo>
                  <a:lnTo>
                    <a:pt x="139" y="318"/>
                  </a:lnTo>
                  <a:lnTo>
                    <a:pt x="129" y="285"/>
                  </a:lnTo>
                  <a:lnTo>
                    <a:pt x="121" y="251"/>
                  </a:lnTo>
                  <a:lnTo>
                    <a:pt x="114" y="217"/>
                  </a:lnTo>
                  <a:lnTo>
                    <a:pt x="109" y="184"/>
                  </a:lnTo>
                  <a:lnTo>
                    <a:pt x="105" y="150"/>
                  </a:lnTo>
                  <a:lnTo>
                    <a:pt x="101" y="117"/>
                  </a:lnTo>
                  <a:lnTo>
                    <a:pt x="100" y="83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8"/>
                  </a:lnTo>
                  <a:lnTo>
                    <a:pt x="99" y="42"/>
                  </a:lnTo>
                  <a:lnTo>
                    <a:pt x="98" y="37"/>
                  </a:lnTo>
                  <a:lnTo>
                    <a:pt x="97" y="32"/>
                  </a:lnTo>
                  <a:lnTo>
                    <a:pt x="95" y="27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4" y="12"/>
                  </a:lnTo>
                  <a:lnTo>
                    <a:pt x="76" y="7"/>
                  </a:lnTo>
                  <a:lnTo>
                    <a:pt x="67" y="3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2" y="3"/>
                  </a:lnTo>
                  <a:lnTo>
                    <a:pt x="22" y="7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438960" y="2225880"/>
              <a:ext cx="533520" cy="182880"/>
            </a:xfrm>
            <a:custGeom>
              <a:avLst/>
              <a:gdLst/>
              <a:ahLst/>
              <a:rect l="l" t="t" r="r" b="b"/>
              <a:pathLst>
                <a:path w="8201" h="2817">
                  <a:moveTo>
                    <a:pt x="8151" y="0"/>
                  </a:moveTo>
                  <a:lnTo>
                    <a:pt x="8151" y="0"/>
                  </a:lnTo>
                  <a:lnTo>
                    <a:pt x="7941" y="0"/>
                  </a:lnTo>
                  <a:lnTo>
                    <a:pt x="7733" y="3"/>
                  </a:lnTo>
                  <a:lnTo>
                    <a:pt x="7526" y="8"/>
                  </a:lnTo>
                  <a:lnTo>
                    <a:pt x="7322" y="14"/>
                  </a:lnTo>
                  <a:lnTo>
                    <a:pt x="7118" y="22"/>
                  </a:lnTo>
                  <a:lnTo>
                    <a:pt x="6915" y="32"/>
                  </a:lnTo>
                  <a:lnTo>
                    <a:pt x="6714" y="43"/>
                  </a:lnTo>
                  <a:lnTo>
                    <a:pt x="6516" y="56"/>
                  </a:lnTo>
                  <a:lnTo>
                    <a:pt x="6318" y="70"/>
                  </a:lnTo>
                  <a:lnTo>
                    <a:pt x="6122" y="86"/>
                  </a:lnTo>
                  <a:lnTo>
                    <a:pt x="5929" y="105"/>
                  </a:lnTo>
                  <a:lnTo>
                    <a:pt x="5737" y="124"/>
                  </a:lnTo>
                  <a:lnTo>
                    <a:pt x="5548" y="146"/>
                  </a:lnTo>
                  <a:lnTo>
                    <a:pt x="5360" y="168"/>
                  </a:lnTo>
                  <a:lnTo>
                    <a:pt x="5175" y="192"/>
                  </a:lnTo>
                  <a:lnTo>
                    <a:pt x="4991" y="218"/>
                  </a:lnTo>
                  <a:lnTo>
                    <a:pt x="4810" y="245"/>
                  </a:lnTo>
                  <a:lnTo>
                    <a:pt x="4632" y="274"/>
                  </a:lnTo>
                  <a:lnTo>
                    <a:pt x="4456" y="303"/>
                  </a:lnTo>
                  <a:lnTo>
                    <a:pt x="4281" y="335"/>
                  </a:lnTo>
                  <a:lnTo>
                    <a:pt x="4110" y="368"/>
                  </a:lnTo>
                  <a:lnTo>
                    <a:pt x="3941" y="402"/>
                  </a:lnTo>
                  <a:lnTo>
                    <a:pt x="3775" y="437"/>
                  </a:lnTo>
                  <a:lnTo>
                    <a:pt x="3611" y="474"/>
                  </a:lnTo>
                  <a:lnTo>
                    <a:pt x="3451" y="512"/>
                  </a:lnTo>
                  <a:lnTo>
                    <a:pt x="3292" y="552"/>
                  </a:lnTo>
                  <a:lnTo>
                    <a:pt x="3137" y="593"/>
                  </a:lnTo>
                  <a:lnTo>
                    <a:pt x="2985" y="634"/>
                  </a:lnTo>
                  <a:lnTo>
                    <a:pt x="2837" y="677"/>
                  </a:lnTo>
                  <a:lnTo>
                    <a:pt x="2690" y="722"/>
                  </a:lnTo>
                  <a:lnTo>
                    <a:pt x="2619" y="744"/>
                  </a:lnTo>
                  <a:lnTo>
                    <a:pt x="2547" y="767"/>
                  </a:lnTo>
                  <a:lnTo>
                    <a:pt x="2477" y="790"/>
                  </a:lnTo>
                  <a:lnTo>
                    <a:pt x="2408" y="814"/>
                  </a:lnTo>
                  <a:lnTo>
                    <a:pt x="2338" y="837"/>
                  </a:lnTo>
                  <a:lnTo>
                    <a:pt x="2271" y="861"/>
                  </a:lnTo>
                  <a:lnTo>
                    <a:pt x="2204" y="886"/>
                  </a:lnTo>
                  <a:lnTo>
                    <a:pt x="2138" y="910"/>
                  </a:lnTo>
                  <a:lnTo>
                    <a:pt x="2072" y="935"/>
                  </a:lnTo>
                  <a:lnTo>
                    <a:pt x="2007" y="960"/>
                  </a:lnTo>
                  <a:lnTo>
                    <a:pt x="1944" y="986"/>
                  </a:lnTo>
                  <a:lnTo>
                    <a:pt x="1882" y="1011"/>
                  </a:lnTo>
                  <a:lnTo>
                    <a:pt x="1820" y="1038"/>
                  </a:lnTo>
                  <a:lnTo>
                    <a:pt x="1759" y="1063"/>
                  </a:lnTo>
                  <a:lnTo>
                    <a:pt x="1698" y="1089"/>
                  </a:lnTo>
                  <a:lnTo>
                    <a:pt x="1639" y="1117"/>
                  </a:lnTo>
                  <a:lnTo>
                    <a:pt x="1580" y="1143"/>
                  </a:lnTo>
                  <a:lnTo>
                    <a:pt x="1523" y="1171"/>
                  </a:lnTo>
                  <a:lnTo>
                    <a:pt x="1467" y="1198"/>
                  </a:lnTo>
                  <a:lnTo>
                    <a:pt x="1411" y="1226"/>
                  </a:lnTo>
                  <a:lnTo>
                    <a:pt x="1357" y="1254"/>
                  </a:lnTo>
                  <a:lnTo>
                    <a:pt x="1303" y="1282"/>
                  </a:lnTo>
                  <a:lnTo>
                    <a:pt x="1250" y="1310"/>
                  </a:lnTo>
                  <a:lnTo>
                    <a:pt x="1198" y="1339"/>
                  </a:lnTo>
                  <a:lnTo>
                    <a:pt x="1148" y="1368"/>
                  </a:lnTo>
                  <a:lnTo>
                    <a:pt x="1098" y="1397"/>
                  </a:lnTo>
                  <a:lnTo>
                    <a:pt x="1049" y="1427"/>
                  </a:lnTo>
                  <a:lnTo>
                    <a:pt x="1002" y="1457"/>
                  </a:lnTo>
                  <a:lnTo>
                    <a:pt x="955" y="1487"/>
                  </a:lnTo>
                  <a:lnTo>
                    <a:pt x="909" y="1517"/>
                  </a:lnTo>
                  <a:lnTo>
                    <a:pt x="864" y="1547"/>
                  </a:lnTo>
                  <a:lnTo>
                    <a:pt x="820" y="1577"/>
                  </a:lnTo>
                  <a:lnTo>
                    <a:pt x="777" y="1609"/>
                  </a:lnTo>
                  <a:lnTo>
                    <a:pt x="736" y="1639"/>
                  </a:lnTo>
                  <a:lnTo>
                    <a:pt x="695" y="1671"/>
                  </a:lnTo>
                  <a:lnTo>
                    <a:pt x="655" y="1701"/>
                  </a:lnTo>
                  <a:lnTo>
                    <a:pt x="616" y="1734"/>
                  </a:lnTo>
                  <a:lnTo>
                    <a:pt x="580" y="1766"/>
                  </a:lnTo>
                  <a:lnTo>
                    <a:pt x="543" y="1798"/>
                  </a:lnTo>
                  <a:lnTo>
                    <a:pt x="507" y="1830"/>
                  </a:lnTo>
                  <a:lnTo>
                    <a:pt x="474" y="1862"/>
                  </a:lnTo>
                  <a:lnTo>
                    <a:pt x="440" y="1895"/>
                  </a:lnTo>
                  <a:lnTo>
                    <a:pt x="409" y="1929"/>
                  </a:lnTo>
                  <a:lnTo>
                    <a:pt x="377" y="1961"/>
                  </a:lnTo>
                  <a:lnTo>
                    <a:pt x="347" y="1995"/>
                  </a:lnTo>
                  <a:lnTo>
                    <a:pt x="319" y="2028"/>
                  </a:lnTo>
                  <a:lnTo>
                    <a:pt x="291" y="2063"/>
                  </a:lnTo>
                  <a:lnTo>
                    <a:pt x="265" y="2097"/>
                  </a:lnTo>
                  <a:lnTo>
                    <a:pt x="240" y="2131"/>
                  </a:lnTo>
                  <a:lnTo>
                    <a:pt x="216" y="2165"/>
                  </a:lnTo>
                  <a:lnTo>
                    <a:pt x="194" y="2199"/>
                  </a:lnTo>
                  <a:lnTo>
                    <a:pt x="172" y="2235"/>
                  </a:lnTo>
                  <a:lnTo>
                    <a:pt x="152" y="2270"/>
                  </a:lnTo>
                  <a:lnTo>
                    <a:pt x="132" y="2305"/>
                  </a:lnTo>
                  <a:lnTo>
                    <a:pt x="114" y="2341"/>
                  </a:lnTo>
                  <a:lnTo>
                    <a:pt x="98" y="2377"/>
                  </a:lnTo>
                  <a:lnTo>
                    <a:pt x="83" y="2412"/>
                  </a:lnTo>
                  <a:lnTo>
                    <a:pt x="68" y="2448"/>
                  </a:lnTo>
                  <a:lnTo>
                    <a:pt x="55" y="2484"/>
                  </a:lnTo>
                  <a:lnTo>
                    <a:pt x="44" y="2521"/>
                  </a:lnTo>
                  <a:lnTo>
                    <a:pt x="34" y="2558"/>
                  </a:lnTo>
                  <a:lnTo>
                    <a:pt x="24" y="2594"/>
                  </a:lnTo>
                  <a:lnTo>
                    <a:pt x="17" y="2631"/>
                  </a:lnTo>
                  <a:lnTo>
                    <a:pt x="11" y="2668"/>
                  </a:lnTo>
                  <a:lnTo>
                    <a:pt x="6" y="2705"/>
                  </a:lnTo>
                  <a:lnTo>
                    <a:pt x="3" y="2743"/>
                  </a:lnTo>
                  <a:lnTo>
                    <a:pt x="1" y="2780"/>
                  </a:lnTo>
                  <a:lnTo>
                    <a:pt x="0" y="2817"/>
                  </a:lnTo>
                  <a:lnTo>
                    <a:pt x="99" y="2817"/>
                  </a:lnTo>
                  <a:lnTo>
                    <a:pt x="100" y="2784"/>
                  </a:lnTo>
                  <a:lnTo>
                    <a:pt x="101" y="2750"/>
                  </a:lnTo>
                  <a:lnTo>
                    <a:pt x="105" y="2717"/>
                  </a:lnTo>
                  <a:lnTo>
                    <a:pt x="109" y="2682"/>
                  </a:lnTo>
                  <a:lnTo>
                    <a:pt x="114" y="2649"/>
                  </a:lnTo>
                  <a:lnTo>
                    <a:pt x="121" y="2616"/>
                  </a:lnTo>
                  <a:lnTo>
                    <a:pt x="129" y="2582"/>
                  </a:lnTo>
                  <a:lnTo>
                    <a:pt x="139" y="2549"/>
                  </a:lnTo>
                  <a:lnTo>
                    <a:pt x="149" y="2516"/>
                  </a:lnTo>
                  <a:lnTo>
                    <a:pt x="161" y="2482"/>
                  </a:lnTo>
                  <a:lnTo>
                    <a:pt x="173" y="2450"/>
                  </a:lnTo>
                  <a:lnTo>
                    <a:pt x="187" y="2416"/>
                  </a:lnTo>
                  <a:lnTo>
                    <a:pt x="203" y="2384"/>
                  </a:lnTo>
                  <a:lnTo>
                    <a:pt x="220" y="2351"/>
                  </a:lnTo>
                  <a:lnTo>
                    <a:pt x="237" y="2317"/>
                  </a:lnTo>
                  <a:lnTo>
                    <a:pt x="257" y="2285"/>
                  </a:lnTo>
                  <a:lnTo>
                    <a:pt x="276" y="2252"/>
                  </a:lnTo>
                  <a:lnTo>
                    <a:pt x="298" y="2221"/>
                  </a:lnTo>
                  <a:lnTo>
                    <a:pt x="320" y="2188"/>
                  </a:lnTo>
                  <a:lnTo>
                    <a:pt x="344" y="2156"/>
                  </a:lnTo>
                  <a:lnTo>
                    <a:pt x="369" y="2124"/>
                  </a:lnTo>
                  <a:lnTo>
                    <a:pt x="395" y="2091"/>
                  </a:lnTo>
                  <a:lnTo>
                    <a:pt x="422" y="2060"/>
                  </a:lnTo>
                  <a:lnTo>
                    <a:pt x="450" y="2028"/>
                  </a:lnTo>
                  <a:lnTo>
                    <a:pt x="480" y="1997"/>
                  </a:lnTo>
                  <a:lnTo>
                    <a:pt x="510" y="1965"/>
                  </a:lnTo>
                  <a:lnTo>
                    <a:pt x="542" y="1934"/>
                  </a:lnTo>
                  <a:lnTo>
                    <a:pt x="575" y="1902"/>
                  </a:lnTo>
                  <a:lnTo>
                    <a:pt x="609" y="1871"/>
                  </a:lnTo>
                  <a:lnTo>
                    <a:pt x="644" y="1840"/>
                  </a:lnTo>
                  <a:lnTo>
                    <a:pt x="681" y="1809"/>
                  </a:lnTo>
                  <a:lnTo>
                    <a:pt x="717" y="1779"/>
                  </a:lnTo>
                  <a:lnTo>
                    <a:pt x="756" y="1748"/>
                  </a:lnTo>
                  <a:lnTo>
                    <a:pt x="795" y="1718"/>
                  </a:lnTo>
                  <a:lnTo>
                    <a:pt x="835" y="1688"/>
                  </a:lnTo>
                  <a:lnTo>
                    <a:pt x="877" y="1658"/>
                  </a:lnTo>
                  <a:lnTo>
                    <a:pt x="920" y="1628"/>
                  </a:lnTo>
                  <a:lnTo>
                    <a:pt x="964" y="1599"/>
                  </a:lnTo>
                  <a:lnTo>
                    <a:pt x="1009" y="1569"/>
                  </a:lnTo>
                  <a:lnTo>
                    <a:pt x="1054" y="1540"/>
                  </a:lnTo>
                  <a:lnTo>
                    <a:pt x="1100" y="1511"/>
                  </a:lnTo>
                  <a:lnTo>
                    <a:pt x="1148" y="1483"/>
                  </a:lnTo>
                  <a:lnTo>
                    <a:pt x="1197" y="1454"/>
                  </a:lnTo>
                  <a:lnTo>
                    <a:pt x="1247" y="1425"/>
                  </a:lnTo>
                  <a:lnTo>
                    <a:pt x="1298" y="1397"/>
                  </a:lnTo>
                  <a:lnTo>
                    <a:pt x="1349" y="1369"/>
                  </a:lnTo>
                  <a:lnTo>
                    <a:pt x="1402" y="1342"/>
                  </a:lnTo>
                  <a:lnTo>
                    <a:pt x="1456" y="1315"/>
                  </a:lnTo>
                  <a:lnTo>
                    <a:pt x="1511" y="1287"/>
                  </a:lnTo>
                  <a:lnTo>
                    <a:pt x="1566" y="1260"/>
                  </a:lnTo>
                  <a:lnTo>
                    <a:pt x="1622" y="1233"/>
                  </a:lnTo>
                  <a:lnTo>
                    <a:pt x="1680" y="1207"/>
                  </a:lnTo>
                  <a:lnTo>
                    <a:pt x="1738" y="1180"/>
                  </a:lnTo>
                  <a:lnTo>
                    <a:pt x="1797" y="1154"/>
                  </a:lnTo>
                  <a:lnTo>
                    <a:pt x="1858" y="1128"/>
                  </a:lnTo>
                  <a:lnTo>
                    <a:pt x="1919" y="1103"/>
                  </a:lnTo>
                  <a:lnTo>
                    <a:pt x="1981" y="1077"/>
                  </a:lnTo>
                  <a:lnTo>
                    <a:pt x="2044" y="1052"/>
                  </a:lnTo>
                  <a:lnTo>
                    <a:pt x="2108" y="1027"/>
                  </a:lnTo>
                  <a:lnTo>
                    <a:pt x="2172" y="1003"/>
                  </a:lnTo>
                  <a:lnTo>
                    <a:pt x="2237" y="978"/>
                  </a:lnTo>
                  <a:lnTo>
                    <a:pt x="2304" y="954"/>
                  </a:lnTo>
                  <a:lnTo>
                    <a:pt x="2371" y="931"/>
                  </a:lnTo>
                  <a:lnTo>
                    <a:pt x="2439" y="907"/>
                  </a:lnTo>
                  <a:lnTo>
                    <a:pt x="2507" y="884"/>
                  </a:lnTo>
                  <a:lnTo>
                    <a:pt x="2578" y="860"/>
                  </a:lnTo>
                  <a:lnTo>
                    <a:pt x="2648" y="838"/>
                  </a:lnTo>
                  <a:lnTo>
                    <a:pt x="2719" y="816"/>
                  </a:lnTo>
                  <a:lnTo>
                    <a:pt x="2864" y="772"/>
                  </a:lnTo>
                  <a:lnTo>
                    <a:pt x="3012" y="729"/>
                  </a:lnTo>
                  <a:lnTo>
                    <a:pt x="3163" y="687"/>
                  </a:lnTo>
                  <a:lnTo>
                    <a:pt x="3316" y="648"/>
                  </a:lnTo>
                  <a:lnTo>
                    <a:pt x="3473" y="608"/>
                  </a:lnTo>
                  <a:lnTo>
                    <a:pt x="3633" y="570"/>
                  </a:lnTo>
                  <a:lnTo>
                    <a:pt x="3795" y="534"/>
                  </a:lnTo>
                  <a:lnTo>
                    <a:pt x="3961" y="498"/>
                  </a:lnTo>
                  <a:lnTo>
                    <a:pt x="4128" y="464"/>
                  </a:lnTo>
                  <a:lnTo>
                    <a:pt x="4300" y="432"/>
                  </a:lnTo>
                  <a:lnTo>
                    <a:pt x="4472" y="401"/>
                  </a:lnTo>
                  <a:lnTo>
                    <a:pt x="4647" y="371"/>
                  </a:lnTo>
                  <a:lnTo>
                    <a:pt x="4825" y="342"/>
                  </a:lnTo>
                  <a:lnTo>
                    <a:pt x="5006" y="316"/>
                  </a:lnTo>
                  <a:lnTo>
                    <a:pt x="5188" y="290"/>
                  </a:lnTo>
                  <a:lnTo>
                    <a:pt x="5373" y="266"/>
                  </a:lnTo>
                  <a:lnTo>
                    <a:pt x="5559" y="243"/>
                  </a:lnTo>
                  <a:lnTo>
                    <a:pt x="5747" y="223"/>
                  </a:lnTo>
                  <a:lnTo>
                    <a:pt x="5938" y="204"/>
                  </a:lnTo>
                  <a:lnTo>
                    <a:pt x="6132" y="185"/>
                  </a:lnTo>
                  <a:lnTo>
                    <a:pt x="6326" y="169"/>
                  </a:lnTo>
                  <a:lnTo>
                    <a:pt x="6522" y="155"/>
                  </a:lnTo>
                  <a:lnTo>
                    <a:pt x="6720" y="141"/>
                  </a:lnTo>
                  <a:lnTo>
                    <a:pt x="6920" y="130"/>
                  </a:lnTo>
                  <a:lnTo>
                    <a:pt x="7122" y="120"/>
                  </a:lnTo>
                  <a:lnTo>
                    <a:pt x="7325" y="113"/>
                  </a:lnTo>
                  <a:lnTo>
                    <a:pt x="7529" y="106"/>
                  </a:lnTo>
                  <a:lnTo>
                    <a:pt x="7735" y="102"/>
                  </a:lnTo>
                  <a:lnTo>
                    <a:pt x="7942" y="100"/>
                  </a:lnTo>
                  <a:lnTo>
                    <a:pt x="8151" y="99"/>
                  </a:lnTo>
                  <a:lnTo>
                    <a:pt x="8151" y="99"/>
                  </a:lnTo>
                  <a:lnTo>
                    <a:pt x="8151" y="99"/>
                  </a:lnTo>
                  <a:lnTo>
                    <a:pt x="8157" y="98"/>
                  </a:lnTo>
                  <a:lnTo>
                    <a:pt x="8162" y="98"/>
                  </a:lnTo>
                  <a:lnTo>
                    <a:pt x="8167" y="96"/>
                  </a:lnTo>
                  <a:lnTo>
                    <a:pt x="8172" y="95"/>
                  </a:lnTo>
                  <a:lnTo>
                    <a:pt x="8177" y="92"/>
                  </a:lnTo>
                  <a:lnTo>
                    <a:pt x="8182" y="90"/>
                  </a:lnTo>
                  <a:lnTo>
                    <a:pt x="8185" y="86"/>
                  </a:lnTo>
                  <a:lnTo>
                    <a:pt x="8188" y="82"/>
                  </a:lnTo>
                  <a:lnTo>
                    <a:pt x="8194" y="75"/>
                  </a:lnTo>
                  <a:lnTo>
                    <a:pt x="8198" y="67"/>
                  </a:lnTo>
                  <a:lnTo>
                    <a:pt x="8200" y="58"/>
                  </a:lnTo>
                  <a:lnTo>
                    <a:pt x="8201" y="49"/>
                  </a:lnTo>
                  <a:lnTo>
                    <a:pt x="8200" y="40"/>
                  </a:lnTo>
                  <a:lnTo>
                    <a:pt x="8198" y="30"/>
                  </a:lnTo>
                  <a:lnTo>
                    <a:pt x="8194" y="22"/>
                  </a:lnTo>
                  <a:lnTo>
                    <a:pt x="8188" y="15"/>
                  </a:lnTo>
                  <a:lnTo>
                    <a:pt x="8185" y="12"/>
                  </a:lnTo>
                  <a:lnTo>
                    <a:pt x="8182" y="9"/>
                  </a:lnTo>
                  <a:lnTo>
                    <a:pt x="8177" y="6"/>
                  </a:lnTo>
                  <a:lnTo>
                    <a:pt x="8172" y="4"/>
                  </a:lnTo>
                  <a:lnTo>
                    <a:pt x="8167" y="2"/>
                  </a:lnTo>
                  <a:lnTo>
                    <a:pt x="8162" y="1"/>
                  </a:lnTo>
                  <a:lnTo>
                    <a:pt x="8157" y="0"/>
                  </a:lnTo>
                  <a:lnTo>
                    <a:pt x="8151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969600" y="2225880"/>
              <a:ext cx="529560" cy="182880"/>
            </a:xfrm>
            <a:custGeom>
              <a:avLst/>
              <a:gdLst/>
              <a:ahLst/>
              <a:rect l="l" t="t" r="r" b="b"/>
              <a:pathLst>
                <a:path w="8151" h="2817">
                  <a:moveTo>
                    <a:pt x="8151" y="2817"/>
                  </a:moveTo>
                  <a:lnTo>
                    <a:pt x="8150" y="2780"/>
                  </a:lnTo>
                  <a:lnTo>
                    <a:pt x="8148" y="2743"/>
                  </a:lnTo>
                  <a:lnTo>
                    <a:pt x="8145" y="2705"/>
                  </a:lnTo>
                  <a:lnTo>
                    <a:pt x="8140" y="2668"/>
                  </a:lnTo>
                  <a:lnTo>
                    <a:pt x="8134" y="2631"/>
                  </a:lnTo>
                  <a:lnTo>
                    <a:pt x="8126" y="2594"/>
                  </a:lnTo>
                  <a:lnTo>
                    <a:pt x="8117" y="2558"/>
                  </a:lnTo>
                  <a:lnTo>
                    <a:pt x="8107" y="2521"/>
                  </a:lnTo>
                  <a:lnTo>
                    <a:pt x="8095" y="2484"/>
                  </a:lnTo>
                  <a:lnTo>
                    <a:pt x="8083" y="2448"/>
                  </a:lnTo>
                  <a:lnTo>
                    <a:pt x="8068" y="2412"/>
                  </a:lnTo>
                  <a:lnTo>
                    <a:pt x="8053" y="2377"/>
                  </a:lnTo>
                  <a:lnTo>
                    <a:pt x="8037" y="2341"/>
                  </a:lnTo>
                  <a:lnTo>
                    <a:pt x="8019" y="2305"/>
                  </a:lnTo>
                  <a:lnTo>
                    <a:pt x="7999" y="2270"/>
                  </a:lnTo>
                  <a:lnTo>
                    <a:pt x="7979" y="2235"/>
                  </a:lnTo>
                  <a:lnTo>
                    <a:pt x="7957" y="2199"/>
                  </a:lnTo>
                  <a:lnTo>
                    <a:pt x="7935" y="2165"/>
                  </a:lnTo>
                  <a:lnTo>
                    <a:pt x="7911" y="2131"/>
                  </a:lnTo>
                  <a:lnTo>
                    <a:pt x="7886" y="2097"/>
                  </a:lnTo>
                  <a:lnTo>
                    <a:pt x="7860" y="2062"/>
                  </a:lnTo>
                  <a:lnTo>
                    <a:pt x="7832" y="2028"/>
                  </a:lnTo>
                  <a:lnTo>
                    <a:pt x="7804" y="1995"/>
                  </a:lnTo>
                  <a:lnTo>
                    <a:pt x="7774" y="1961"/>
                  </a:lnTo>
                  <a:lnTo>
                    <a:pt x="7742" y="1929"/>
                  </a:lnTo>
                  <a:lnTo>
                    <a:pt x="7711" y="1895"/>
                  </a:lnTo>
                  <a:lnTo>
                    <a:pt x="7677" y="1862"/>
                  </a:lnTo>
                  <a:lnTo>
                    <a:pt x="7644" y="1830"/>
                  </a:lnTo>
                  <a:lnTo>
                    <a:pt x="7608" y="1798"/>
                  </a:lnTo>
                  <a:lnTo>
                    <a:pt x="7571" y="1766"/>
                  </a:lnTo>
                  <a:lnTo>
                    <a:pt x="7534" y="1734"/>
                  </a:lnTo>
                  <a:lnTo>
                    <a:pt x="7496" y="1701"/>
                  </a:lnTo>
                  <a:lnTo>
                    <a:pt x="7456" y="1671"/>
                  </a:lnTo>
                  <a:lnTo>
                    <a:pt x="7415" y="1639"/>
                  </a:lnTo>
                  <a:lnTo>
                    <a:pt x="7374" y="1609"/>
                  </a:lnTo>
                  <a:lnTo>
                    <a:pt x="7331" y="1577"/>
                  </a:lnTo>
                  <a:lnTo>
                    <a:pt x="7287" y="1547"/>
                  </a:lnTo>
                  <a:lnTo>
                    <a:pt x="7242" y="1517"/>
                  </a:lnTo>
                  <a:lnTo>
                    <a:pt x="7196" y="1487"/>
                  </a:lnTo>
                  <a:lnTo>
                    <a:pt x="7149" y="1457"/>
                  </a:lnTo>
                  <a:lnTo>
                    <a:pt x="7102" y="1427"/>
                  </a:lnTo>
                  <a:lnTo>
                    <a:pt x="7053" y="1397"/>
                  </a:lnTo>
                  <a:lnTo>
                    <a:pt x="7003" y="1368"/>
                  </a:lnTo>
                  <a:lnTo>
                    <a:pt x="6952" y="1339"/>
                  </a:lnTo>
                  <a:lnTo>
                    <a:pt x="6901" y="1310"/>
                  </a:lnTo>
                  <a:lnTo>
                    <a:pt x="6848" y="1282"/>
                  </a:lnTo>
                  <a:lnTo>
                    <a:pt x="6794" y="1254"/>
                  </a:lnTo>
                  <a:lnTo>
                    <a:pt x="6740" y="1226"/>
                  </a:lnTo>
                  <a:lnTo>
                    <a:pt x="6684" y="1198"/>
                  </a:lnTo>
                  <a:lnTo>
                    <a:pt x="6628" y="1171"/>
                  </a:lnTo>
                  <a:lnTo>
                    <a:pt x="6570" y="1143"/>
                  </a:lnTo>
                  <a:lnTo>
                    <a:pt x="6512" y="1117"/>
                  </a:lnTo>
                  <a:lnTo>
                    <a:pt x="6453" y="1089"/>
                  </a:lnTo>
                  <a:lnTo>
                    <a:pt x="6392" y="1063"/>
                  </a:lnTo>
                  <a:lnTo>
                    <a:pt x="6331" y="1038"/>
                  </a:lnTo>
                  <a:lnTo>
                    <a:pt x="6269" y="1011"/>
                  </a:lnTo>
                  <a:lnTo>
                    <a:pt x="6207" y="986"/>
                  </a:lnTo>
                  <a:lnTo>
                    <a:pt x="6143" y="960"/>
                  </a:lnTo>
                  <a:lnTo>
                    <a:pt x="6079" y="935"/>
                  </a:lnTo>
                  <a:lnTo>
                    <a:pt x="6013" y="910"/>
                  </a:lnTo>
                  <a:lnTo>
                    <a:pt x="5947" y="886"/>
                  </a:lnTo>
                  <a:lnTo>
                    <a:pt x="5880" y="861"/>
                  </a:lnTo>
                  <a:lnTo>
                    <a:pt x="5813" y="837"/>
                  </a:lnTo>
                  <a:lnTo>
                    <a:pt x="5743" y="814"/>
                  </a:lnTo>
                  <a:lnTo>
                    <a:pt x="5674" y="790"/>
                  </a:lnTo>
                  <a:lnTo>
                    <a:pt x="5604" y="767"/>
                  </a:lnTo>
                  <a:lnTo>
                    <a:pt x="5532" y="744"/>
                  </a:lnTo>
                  <a:lnTo>
                    <a:pt x="5461" y="722"/>
                  </a:lnTo>
                  <a:lnTo>
                    <a:pt x="5314" y="677"/>
                  </a:lnTo>
                  <a:lnTo>
                    <a:pt x="5166" y="634"/>
                  </a:lnTo>
                  <a:lnTo>
                    <a:pt x="5014" y="593"/>
                  </a:lnTo>
                  <a:lnTo>
                    <a:pt x="4858" y="552"/>
                  </a:lnTo>
                  <a:lnTo>
                    <a:pt x="4700" y="512"/>
                  </a:lnTo>
                  <a:lnTo>
                    <a:pt x="4540" y="474"/>
                  </a:lnTo>
                  <a:lnTo>
                    <a:pt x="4376" y="437"/>
                  </a:lnTo>
                  <a:lnTo>
                    <a:pt x="4210" y="402"/>
                  </a:lnTo>
                  <a:lnTo>
                    <a:pt x="4041" y="368"/>
                  </a:lnTo>
                  <a:lnTo>
                    <a:pt x="3870" y="335"/>
                  </a:lnTo>
                  <a:lnTo>
                    <a:pt x="3695" y="303"/>
                  </a:lnTo>
                  <a:lnTo>
                    <a:pt x="3519" y="274"/>
                  </a:lnTo>
                  <a:lnTo>
                    <a:pt x="3341" y="245"/>
                  </a:lnTo>
                  <a:lnTo>
                    <a:pt x="3160" y="218"/>
                  </a:lnTo>
                  <a:lnTo>
                    <a:pt x="2976" y="192"/>
                  </a:lnTo>
                  <a:lnTo>
                    <a:pt x="2791" y="168"/>
                  </a:lnTo>
                  <a:lnTo>
                    <a:pt x="2603" y="146"/>
                  </a:lnTo>
                  <a:lnTo>
                    <a:pt x="2414" y="124"/>
                  </a:lnTo>
                  <a:lnTo>
                    <a:pt x="2221" y="105"/>
                  </a:lnTo>
                  <a:lnTo>
                    <a:pt x="2029" y="86"/>
                  </a:lnTo>
                  <a:lnTo>
                    <a:pt x="1833" y="70"/>
                  </a:lnTo>
                  <a:lnTo>
                    <a:pt x="1635" y="56"/>
                  </a:lnTo>
                  <a:lnTo>
                    <a:pt x="1437" y="43"/>
                  </a:lnTo>
                  <a:lnTo>
                    <a:pt x="1236" y="32"/>
                  </a:lnTo>
                  <a:lnTo>
                    <a:pt x="1033" y="22"/>
                  </a:lnTo>
                  <a:lnTo>
                    <a:pt x="829" y="14"/>
                  </a:lnTo>
                  <a:lnTo>
                    <a:pt x="625" y="8"/>
                  </a:lnTo>
                  <a:lnTo>
                    <a:pt x="418" y="3"/>
                  </a:lnTo>
                  <a:lnTo>
                    <a:pt x="210" y="0"/>
                  </a:lnTo>
                  <a:lnTo>
                    <a:pt x="0" y="0"/>
                  </a:lnTo>
                  <a:lnTo>
                    <a:pt x="0" y="99"/>
                  </a:lnTo>
                  <a:lnTo>
                    <a:pt x="209" y="100"/>
                  </a:lnTo>
                  <a:lnTo>
                    <a:pt x="416" y="102"/>
                  </a:lnTo>
                  <a:lnTo>
                    <a:pt x="622" y="106"/>
                  </a:lnTo>
                  <a:lnTo>
                    <a:pt x="826" y="113"/>
                  </a:lnTo>
                  <a:lnTo>
                    <a:pt x="1029" y="120"/>
                  </a:lnTo>
                  <a:lnTo>
                    <a:pt x="1231" y="130"/>
                  </a:lnTo>
                  <a:lnTo>
                    <a:pt x="1431" y="141"/>
                  </a:lnTo>
                  <a:lnTo>
                    <a:pt x="1629" y="155"/>
                  </a:lnTo>
                  <a:lnTo>
                    <a:pt x="1825" y="169"/>
                  </a:lnTo>
                  <a:lnTo>
                    <a:pt x="2019" y="185"/>
                  </a:lnTo>
                  <a:lnTo>
                    <a:pt x="2212" y="204"/>
                  </a:lnTo>
                  <a:lnTo>
                    <a:pt x="2404" y="223"/>
                  </a:lnTo>
                  <a:lnTo>
                    <a:pt x="2592" y="243"/>
                  </a:lnTo>
                  <a:lnTo>
                    <a:pt x="2778" y="266"/>
                  </a:lnTo>
                  <a:lnTo>
                    <a:pt x="2963" y="290"/>
                  </a:lnTo>
                  <a:lnTo>
                    <a:pt x="3145" y="316"/>
                  </a:lnTo>
                  <a:lnTo>
                    <a:pt x="3326" y="342"/>
                  </a:lnTo>
                  <a:lnTo>
                    <a:pt x="3503" y="371"/>
                  </a:lnTo>
                  <a:lnTo>
                    <a:pt x="3679" y="401"/>
                  </a:lnTo>
                  <a:lnTo>
                    <a:pt x="3851" y="432"/>
                  </a:lnTo>
                  <a:lnTo>
                    <a:pt x="4023" y="464"/>
                  </a:lnTo>
                  <a:lnTo>
                    <a:pt x="4190" y="498"/>
                  </a:lnTo>
                  <a:lnTo>
                    <a:pt x="4355" y="534"/>
                  </a:lnTo>
                  <a:lnTo>
                    <a:pt x="4518" y="570"/>
                  </a:lnTo>
                  <a:lnTo>
                    <a:pt x="4678" y="608"/>
                  </a:lnTo>
                  <a:lnTo>
                    <a:pt x="4835" y="648"/>
                  </a:lnTo>
                  <a:lnTo>
                    <a:pt x="4988" y="687"/>
                  </a:lnTo>
                  <a:lnTo>
                    <a:pt x="5139" y="729"/>
                  </a:lnTo>
                  <a:lnTo>
                    <a:pt x="5287" y="772"/>
                  </a:lnTo>
                  <a:lnTo>
                    <a:pt x="5432" y="816"/>
                  </a:lnTo>
                  <a:lnTo>
                    <a:pt x="5503" y="838"/>
                  </a:lnTo>
                  <a:lnTo>
                    <a:pt x="5573" y="860"/>
                  </a:lnTo>
                  <a:lnTo>
                    <a:pt x="5643" y="884"/>
                  </a:lnTo>
                  <a:lnTo>
                    <a:pt x="5712" y="907"/>
                  </a:lnTo>
                  <a:lnTo>
                    <a:pt x="5780" y="931"/>
                  </a:lnTo>
                  <a:lnTo>
                    <a:pt x="5847" y="954"/>
                  </a:lnTo>
                  <a:lnTo>
                    <a:pt x="5914" y="978"/>
                  </a:lnTo>
                  <a:lnTo>
                    <a:pt x="5979" y="1003"/>
                  </a:lnTo>
                  <a:lnTo>
                    <a:pt x="6043" y="1027"/>
                  </a:lnTo>
                  <a:lnTo>
                    <a:pt x="6107" y="1052"/>
                  </a:lnTo>
                  <a:lnTo>
                    <a:pt x="6170" y="1077"/>
                  </a:lnTo>
                  <a:lnTo>
                    <a:pt x="6232" y="1103"/>
                  </a:lnTo>
                  <a:lnTo>
                    <a:pt x="6293" y="1128"/>
                  </a:lnTo>
                  <a:lnTo>
                    <a:pt x="6353" y="1154"/>
                  </a:lnTo>
                  <a:lnTo>
                    <a:pt x="6413" y="1180"/>
                  </a:lnTo>
                  <a:lnTo>
                    <a:pt x="6471" y="1207"/>
                  </a:lnTo>
                  <a:lnTo>
                    <a:pt x="6528" y="1233"/>
                  </a:lnTo>
                  <a:lnTo>
                    <a:pt x="6585" y="1260"/>
                  </a:lnTo>
                  <a:lnTo>
                    <a:pt x="6640" y="1287"/>
                  </a:lnTo>
                  <a:lnTo>
                    <a:pt x="6695" y="1315"/>
                  </a:lnTo>
                  <a:lnTo>
                    <a:pt x="6749" y="1342"/>
                  </a:lnTo>
                  <a:lnTo>
                    <a:pt x="6801" y="1369"/>
                  </a:lnTo>
                  <a:lnTo>
                    <a:pt x="6853" y="1397"/>
                  </a:lnTo>
                  <a:lnTo>
                    <a:pt x="6904" y="1425"/>
                  </a:lnTo>
                  <a:lnTo>
                    <a:pt x="6954" y="1454"/>
                  </a:lnTo>
                  <a:lnTo>
                    <a:pt x="7003" y="1483"/>
                  </a:lnTo>
                  <a:lnTo>
                    <a:pt x="7051" y="1511"/>
                  </a:lnTo>
                  <a:lnTo>
                    <a:pt x="7096" y="1540"/>
                  </a:lnTo>
                  <a:lnTo>
                    <a:pt x="7142" y="1569"/>
                  </a:lnTo>
                  <a:lnTo>
                    <a:pt x="7187" y="1599"/>
                  </a:lnTo>
                  <a:lnTo>
                    <a:pt x="7231" y="1628"/>
                  </a:lnTo>
                  <a:lnTo>
                    <a:pt x="7274" y="1658"/>
                  </a:lnTo>
                  <a:lnTo>
                    <a:pt x="7316" y="1688"/>
                  </a:lnTo>
                  <a:lnTo>
                    <a:pt x="7355" y="1718"/>
                  </a:lnTo>
                  <a:lnTo>
                    <a:pt x="7395" y="1748"/>
                  </a:lnTo>
                  <a:lnTo>
                    <a:pt x="7434" y="1779"/>
                  </a:lnTo>
                  <a:lnTo>
                    <a:pt x="7470" y="1809"/>
                  </a:lnTo>
                  <a:lnTo>
                    <a:pt x="7507" y="1840"/>
                  </a:lnTo>
                  <a:lnTo>
                    <a:pt x="7542" y="1871"/>
                  </a:lnTo>
                  <a:lnTo>
                    <a:pt x="7576" y="1902"/>
                  </a:lnTo>
                  <a:lnTo>
                    <a:pt x="7609" y="1934"/>
                  </a:lnTo>
                  <a:lnTo>
                    <a:pt x="7641" y="1965"/>
                  </a:lnTo>
                  <a:lnTo>
                    <a:pt x="7671" y="1997"/>
                  </a:lnTo>
                  <a:lnTo>
                    <a:pt x="7701" y="2028"/>
                  </a:lnTo>
                  <a:lnTo>
                    <a:pt x="7729" y="2060"/>
                  </a:lnTo>
                  <a:lnTo>
                    <a:pt x="7756" y="2091"/>
                  </a:lnTo>
                  <a:lnTo>
                    <a:pt x="7782" y="2124"/>
                  </a:lnTo>
                  <a:lnTo>
                    <a:pt x="7807" y="2156"/>
                  </a:lnTo>
                  <a:lnTo>
                    <a:pt x="7830" y="2188"/>
                  </a:lnTo>
                  <a:lnTo>
                    <a:pt x="7852" y="2221"/>
                  </a:lnTo>
                  <a:lnTo>
                    <a:pt x="7875" y="2252"/>
                  </a:lnTo>
                  <a:lnTo>
                    <a:pt x="7894" y="2285"/>
                  </a:lnTo>
                  <a:lnTo>
                    <a:pt x="7914" y="2317"/>
                  </a:lnTo>
                  <a:lnTo>
                    <a:pt x="7931" y="2351"/>
                  </a:lnTo>
                  <a:lnTo>
                    <a:pt x="7947" y="2384"/>
                  </a:lnTo>
                  <a:lnTo>
                    <a:pt x="7964" y="2416"/>
                  </a:lnTo>
                  <a:lnTo>
                    <a:pt x="7977" y="2449"/>
                  </a:lnTo>
                  <a:lnTo>
                    <a:pt x="7990" y="2482"/>
                  </a:lnTo>
                  <a:lnTo>
                    <a:pt x="8002" y="2516"/>
                  </a:lnTo>
                  <a:lnTo>
                    <a:pt x="8012" y="2549"/>
                  </a:lnTo>
                  <a:lnTo>
                    <a:pt x="8022" y="2582"/>
                  </a:lnTo>
                  <a:lnTo>
                    <a:pt x="8030" y="2616"/>
                  </a:lnTo>
                  <a:lnTo>
                    <a:pt x="8037" y="2649"/>
                  </a:lnTo>
                  <a:lnTo>
                    <a:pt x="8042" y="2682"/>
                  </a:lnTo>
                  <a:lnTo>
                    <a:pt x="8046" y="2717"/>
                  </a:lnTo>
                  <a:lnTo>
                    <a:pt x="8049" y="2750"/>
                  </a:lnTo>
                  <a:lnTo>
                    <a:pt x="8051" y="2784"/>
                  </a:lnTo>
                  <a:lnTo>
                    <a:pt x="8052" y="2817"/>
                  </a:lnTo>
                  <a:lnTo>
                    <a:pt x="8151" y="281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440400" y="2155680"/>
              <a:ext cx="1055880" cy="257400"/>
            </a:xfrm>
            <a:custGeom>
              <a:avLst/>
              <a:gdLst/>
              <a:ahLst/>
              <a:rect l="l" t="t" r="r" b="b"/>
              <a:pathLst>
                <a:path w="16231" h="3955">
                  <a:moveTo>
                    <a:pt x="0" y="0"/>
                  </a:moveTo>
                  <a:lnTo>
                    <a:pt x="0" y="3955"/>
                  </a:lnTo>
                  <a:lnTo>
                    <a:pt x="16228" y="3955"/>
                  </a:lnTo>
                  <a:lnTo>
                    <a:pt x="1623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7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441840" y="1971360"/>
              <a:ext cx="1054440" cy="360360"/>
            </a:xfrm>
            <a:custGeom>
              <a:avLst/>
              <a:gdLst/>
              <a:ahLst/>
              <a:rect l="l" t="t" r="r" b="b"/>
              <a:pathLst>
                <a:path w="16202" h="5537">
                  <a:moveTo>
                    <a:pt x="16202" y="2769"/>
                  </a:moveTo>
                  <a:lnTo>
                    <a:pt x="16192" y="2911"/>
                  </a:lnTo>
                  <a:lnTo>
                    <a:pt x="16160" y="3052"/>
                  </a:lnTo>
                  <a:lnTo>
                    <a:pt x="16109" y="3190"/>
                  </a:lnTo>
                  <a:lnTo>
                    <a:pt x="16038" y="3327"/>
                  </a:lnTo>
                  <a:lnTo>
                    <a:pt x="15947" y="3460"/>
                  </a:lnTo>
                  <a:lnTo>
                    <a:pt x="15838" y="3591"/>
                  </a:lnTo>
                  <a:lnTo>
                    <a:pt x="15711" y="3720"/>
                  </a:lnTo>
                  <a:lnTo>
                    <a:pt x="15565" y="3846"/>
                  </a:lnTo>
                  <a:lnTo>
                    <a:pt x="15403" y="3968"/>
                  </a:lnTo>
                  <a:lnTo>
                    <a:pt x="15224" y="4088"/>
                  </a:lnTo>
                  <a:lnTo>
                    <a:pt x="15029" y="4203"/>
                  </a:lnTo>
                  <a:lnTo>
                    <a:pt x="14818" y="4316"/>
                  </a:lnTo>
                  <a:lnTo>
                    <a:pt x="14592" y="4424"/>
                  </a:lnTo>
                  <a:lnTo>
                    <a:pt x="14352" y="4529"/>
                  </a:lnTo>
                  <a:lnTo>
                    <a:pt x="14097" y="4630"/>
                  </a:lnTo>
                  <a:lnTo>
                    <a:pt x="13829" y="4726"/>
                  </a:lnTo>
                  <a:lnTo>
                    <a:pt x="13547" y="4817"/>
                  </a:lnTo>
                  <a:lnTo>
                    <a:pt x="13253" y="4905"/>
                  </a:lnTo>
                  <a:lnTo>
                    <a:pt x="12947" y="4987"/>
                  </a:lnTo>
                  <a:lnTo>
                    <a:pt x="12630" y="5064"/>
                  </a:lnTo>
                  <a:lnTo>
                    <a:pt x="12301" y="5136"/>
                  </a:lnTo>
                  <a:lnTo>
                    <a:pt x="11962" y="5203"/>
                  </a:lnTo>
                  <a:lnTo>
                    <a:pt x="11612" y="5264"/>
                  </a:lnTo>
                  <a:lnTo>
                    <a:pt x="11253" y="5319"/>
                  </a:lnTo>
                  <a:lnTo>
                    <a:pt x="10886" y="5369"/>
                  </a:lnTo>
                  <a:lnTo>
                    <a:pt x="10510" y="5413"/>
                  </a:lnTo>
                  <a:lnTo>
                    <a:pt x="10124" y="5450"/>
                  </a:lnTo>
                  <a:lnTo>
                    <a:pt x="9733" y="5481"/>
                  </a:lnTo>
                  <a:lnTo>
                    <a:pt x="9334" y="5506"/>
                  </a:lnTo>
                  <a:lnTo>
                    <a:pt x="8929" y="5523"/>
                  </a:lnTo>
                  <a:lnTo>
                    <a:pt x="8518" y="5533"/>
                  </a:lnTo>
                  <a:lnTo>
                    <a:pt x="8101" y="5537"/>
                  </a:lnTo>
                  <a:lnTo>
                    <a:pt x="7684" y="5533"/>
                  </a:lnTo>
                  <a:lnTo>
                    <a:pt x="7273" y="5523"/>
                  </a:lnTo>
                  <a:lnTo>
                    <a:pt x="6868" y="5506"/>
                  </a:lnTo>
                  <a:lnTo>
                    <a:pt x="6469" y="5481"/>
                  </a:lnTo>
                  <a:lnTo>
                    <a:pt x="6078" y="5450"/>
                  </a:lnTo>
                  <a:lnTo>
                    <a:pt x="5692" y="5413"/>
                  </a:lnTo>
                  <a:lnTo>
                    <a:pt x="5316" y="5369"/>
                  </a:lnTo>
                  <a:lnTo>
                    <a:pt x="4949" y="5319"/>
                  </a:lnTo>
                  <a:lnTo>
                    <a:pt x="4590" y="5264"/>
                  </a:lnTo>
                  <a:lnTo>
                    <a:pt x="4240" y="5203"/>
                  </a:lnTo>
                  <a:lnTo>
                    <a:pt x="3901" y="5136"/>
                  </a:lnTo>
                  <a:lnTo>
                    <a:pt x="3572" y="5064"/>
                  </a:lnTo>
                  <a:lnTo>
                    <a:pt x="3254" y="4987"/>
                  </a:lnTo>
                  <a:lnTo>
                    <a:pt x="2949" y="4905"/>
                  </a:lnTo>
                  <a:lnTo>
                    <a:pt x="2654" y="4817"/>
                  </a:lnTo>
                  <a:lnTo>
                    <a:pt x="2373" y="4726"/>
                  </a:lnTo>
                  <a:lnTo>
                    <a:pt x="2105" y="4630"/>
                  </a:lnTo>
                  <a:lnTo>
                    <a:pt x="1850" y="4529"/>
                  </a:lnTo>
                  <a:lnTo>
                    <a:pt x="1610" y="4424"/>
                  </a:lnTo>
                  <a:lnTo>
                    <a:pt x="1384" y="4316"/>
                  </a:lnTo>
                  <a:lnTo>
                    <a:pt x="1173" y="4203"/>
                  </a:lnTo>
                  <a:lnTo>
                    <a:pt x="978" y="4088"/>
                  </a:lnTo>
                  <a:lnTo>
                    <a:pt x="799" y="3968"/>
                  </a:lnTo>
                  <a:lnTo>
                    <a:pt x="637" y="3846"/>
                  </a:lnTo>
                  <a:lnTo>
                    <a:pt x="491" y="3720"/>
                  </a:lnTo>
                  <a:lnTo>
                    <a:pt x="364" y="3591"/>
                  </a:lnTo>
                  <a:lnTo>
                    <a:pt x="255" y="3460"/>
                  </a:lnTo>
                  <a:lnTo>
                    <a:pt x="164" y="3327"/>
                  </a:lnTo>
                  <a:lnTo>
                    <a:pt x="93" y="3190"/>
                  </a:lnTo>
                  <a:lnTo>
                    <a:pt x="42" y="3052"/>
                  </a:lnTo>
                  <a:lnTo>
                    <a:pt x="10" y="2911"/>
                  </a:lnTo>
                  <a:lnTo>
                    <a:pt x="0" y="2769"/>
                  </a:lnTo>
                  <a:lnTo>
                    <a:pt x="10" y="2626"/>
                  </a:lnTo>
                  <a:lnTo>
                    <a:pt x="42" y="2485"/>
                  </a:lnTo>
                  <a:lnTo>
                    <a:pt x="93" y="2347"/>
                  </a:lnTo>
                  <a:lnTo>
                    <a:pt x="164" y="2211"/>
                  </a:lnTo>
                  <a:lnTo>
                    <a:pt x="255" y="2077"/>
                  </a:lnTo>
                  <a:lnTo>
                    <a:pt x="364" y="1945"/>
                  </a:lnTo>
                  <a:lnTo>
                    <a:pt x="491" y="1816"/>
                  </a:lnTo>
                  <a:lnTo>
                    <a:pt x="637" y="1691"/>
                  </a:lnTo>
                  <a:lnTo>
                    <a:pt x="799" y="1568"/>
                  </a:lnTo>
                  <a:lnTo>
                    <a:pt x="978" y="1449"/>
                  </a:lnTo>
                  <a:lnTo>
                    <a:pt x="1173" y="1333"/>
                  </a:lnTo>
                  <a:lnTo>
                    <a:pt x="1384" y="1221"/>
                  </a:lnTo>
                  <a:lnTo>
                    <a:pt x="1610" y="1112"/>
                  </a:lnTo>
                  <a:lnTo>
                    <a:pt x="1850" y="1007"/>
                  </a:lnTo>
                  <a:lnTo>
                    <a:pt x="2105" y="907"/>
                  </a:lnTo>
                  <a:lnTo>
                    <a:pt x="2373" y="810"/>
                  </a:lnTo>
                  <a:lnTo>
                    <a:pt x="2654" y="719"/>
                  </a:lnTo>
                  <a:lnTo>
                    <a:pt x="2949" y="632"/>
                  </a:lnTo>
                  <a:lnTo>
                    <a:pt x="3254" y="550"/>
                  </a:lnTo>
                  <a:lnTo>
                    <a:pt x="3572" y="472"/>
                  </a:lnTo>
                  <a:lnTo>
                    <a:pt x="3901" y="400"/>
                  </a:lnTo>
                  <a:lnTo>
                    <a:pt x="4240" y="334"/>
                  </a:lnTo>
                  <a:lnTo>
                    <a:pt x="4590" y="273"/>
                  </a:lnTo>
                  <a:lnTo>
                    <a:pt x="4949" y="217"/>
                  </a:lnTo>
                  <a:lnTo>
                    <a:pt x="5316" y="168"/>
                  </a:lnTo>
                  <a:lnTo>
                    <a:pt x="5692" y="124"/>
                  </a:lnTo>
                  <a:lnTo>
                    <a:pt x="6078" y="86"/>
                  </a:lnTo>
                  <a:lnTo>
                    <a:pt x="6469" y="56"/>
                  </a:lnTo>
                  <a:lnTo>
                    <a:pt x="6868" y="31"/>
                  </a:lnTo>
                  <a:lnTo>
                    <a:pt x="7273" y="14"/>
                  </a:lnTo>
                  <a:lnTo>
                    <a:pt x="7684" y="3"/>
                  </a:lnTo>
                  <a:lnTo>
                    <a:pt x="8101" y="0"/>
                  </a:lnTo>
                  <a:lnTo>
                    <a:pt x="8518" y="3"/>
                  </a:lnTo>
                  <a:lnTo>
                    <a:pt x="8929" y="14"/>
                  </a:lnTo>
                  <a:lnTo>
                    <a:pt x="9334" y="31"/>
                  </a:lnTo>
                  <a:lnTo>
                    <a:pt x="9733" y="56"/>
                  </a:lnTo>
                  <a:lnTo>
                    <a:pt x="10124" y="86"/>
                  </a:lnTo>
                  <a:lnTo>
                    <a:pt x="10510" y="124"/>
                  </a:lnTo>
                  <a:lnTo>
                    <a:pt x="10886" y="168"/>
                  </a:lnTo>
                  <a:lnTo>
                    <a:pt x="11253" y="217"/>
                  </a:lnTo>
                  <a:lnTo>
                    <a:pt x="11612" y="273"/>
                  </a:lnTo>
                  <a:lnTo>
                    <a:pt x="11962" y="334"/>
                  </a:lnTo>
                  <a:lnTo>
                    <a:pt x="12301" y="400"/>
                  </a:lnTo>
                  <a:lnTo>
                    <a:pt x="12630" y="472"/>
                  </a:lnTo>
                  <a:lnTo>
                    <a:pt x="12947" y="550"/>
                  </a:lnTo>
                  <a:lnTo>
                    <a:pt x="13253" y="632"/>
                  </a:lnTo>
                  <a:lnTo>
                    <a:pt x="13547" y="719"/>
                  </a:lnTo>
                  <a:lnTo>
                    <a:pt x="13829" y="810"/>
                  </a:lnTo>
                  <a:lnTo>
                    <a:pt x="14097" y="907"/>
                  </a:lnTo>
                  <a:lnTo>
                    <a:pt x="14352" y="1007"/>
                  </a:lnTo>
                  <a:lnTo>
                    <a:pt x="14592" y="1112"/>
                  </a:lnTo>
                  <a:lnTo>
                    <a:pt x="14818" y="1221"/>
                  </a:lnTo>
                  <a:lnTo>
                    <a:pt x="15029" y="1333"/>
                  </a:lnTo>
                  <a:lnTo>
                    <a:pt x="15224" y="1449"/>
                  </a:lnTo>
                  <a:lnTo>
                    <a:pt x="15403" y="1568"/>
                  </a:lnTo>
                  <a:lnTo>
                    <a:pt x="15565" y="1691"/>
                  </a:lnTo>
                  <a:lnTo>
                    <a:pt x="15711" y="1816"/>
                  </a:lnTo>
                  <a:lnTo>
                    <a:pt x="15838" y="1945"/>
                  </a:lnTo>
                  <a:lnTo>
                    <a:pt x="15947" y="2077"/>
                  </a:lnTo>
                  <a:lnTo>
                    <a:pt x="16038" y="2211"/>
                  </a:lnTo>
                  <a:lnTo>
                    <a:pt x="16109" y="2347"/>
                  </a:lnTo>
                  <a:lnTo>
                    <a:pt x="16160" y="2485"/>
                  </a:lnTo>
                  <a:lnTo>
                    <a:pt x="16192" y="2626"/>
                  </a:lnTo>
                  <a:lnTo>
                    <a:pt x="16202" y="2769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965640" y="2151720"/>
              <a:ext cx="533520" cy="182880"/>
            </a:xfrm>
            <a:custGeom>
              <a:avLst/>
              <a:gdLst/>
              <a:ahLst/>
              <a:rect l="l" t="t" r="r" b="b"/>
              <a:pathLst>
                <a:path w="8201" h="2817">
                  <a:moveTo>
                    <a:pt x="50" y="2817"/>
                  </a:moveTo>
                  <a:lnTo>
                    <a:pt x="50" y="2817"/>
                  </a:lnTo>
                  <a:lnTo>
                    <a:pt x="260" y="2817"/>
                  </a:lnTo>
                  <a:lnTo>
                    <a:pt x="468" y="2814"/>
                  </a:lnTo>
                  <a:lnTo>
                    <a:pt x="675" y="2809"/>
                  </a:lnTo>
                  <a:lnTo>
                    <a:pt x="879" y="2803"/>
                  </a:lnTo>
                  <a:lnTo>
                    <a:pt x="1083" y="2795"/>
                  </a:lnTo>
                  <a:lnTo>
                    <a:pt x="1286" y="2785"/>
                  </a:lnTo>
                  <a:lnTo>
                    <a:pt x="1487" y="2774"/>
                  </a:lnTo>
                  <a:lnTo>
                    <a:pt x="1685" y="2761"/>
                  </a:lnTo>
                  <a:lnTo>
                    <a:pt x="1883" y="2747"/>
                  </a:lnTo>
                  <a:lnTo>
                    <a:pt x="2079" y="2731"/>
                  </a:lnTo>
                  <a:lnTo>
                    <a:pt x="2271" y="2712"/>
                  </a:lnTo>
                  <a:lnTo>
                    <a:pt x="2464" y="2693"/>
                  </a:lnTo>
                  <a:lnTo>
                    <a:pt x="2653" y="2671"/>
                  </a:lnTo>
                  <a:lnTo>
                    <a:pt x="2841" y="2649"/>
                  </a:lnTo>
                  <a:lnTo>
                    <a:pt x="3026" y="2625"/>
                  </a:lnTo>
                  <a:lnTo>
                    <a:pt x="3210" y="2599"/>
                  </a:lnTo>
                  <a:lnTo>
                    <a:pt x="3391" y="2573"/>
                  </a:lnTo>
                  <a:lnTo>
                    <a:pt x="3569" y="2544"/>
                  </a:lnTo>
                  <a:lnTo>
                    <a:pt x="3745" y="2514"/>
                  </a:lnTo>
                  <a:lnTo>
                    <a:pt x="3920" y="2482"/>
                  </a:lnTo>
                  <a:lnTo>
                    <a:pt x="4091" y="2449"/>
                  </a:lnTo>
                  <a:lnTo>
                    <a:pt x="4260" y="2416"/>
                  </a:lnTo>
                  <a:lnTo>
                    <a:pt x="4426" y="2380"/>
                  </a:lnTo>
                  <a:lnTo>
                    <a:pt x="4590" y="2344"/>
                  </a:lnTo>
                  <a:lnTo>
                    <a:pt x="4750" y="2305"/>
                  </a:lnTo>
                  <a:lnTo>
                    <a:pt x="4908" y="2266"/>
                  </a:lnTo>
                  <a:lnTo>
                    <a:pt x="5064" y="2225"/>
                  </a:lnTo>
                  <a:lnTo>
                    <a:pt x="5216" y="2183"/>
                  </a:lnTo>
                  <a:lnTo>
                    <a:pt x="5291" y="2161"/>
                  </a:lnTo>
                  <a:lnTo>
                    <a:pt x="5364" y="2140"/>
                  </a:lnTo>
                  <a:lnTo>
                    <a:pt x="5438" y="2118"/>
                  </a:lnTo>
                  <a:lnTo>
                    <a:pt x="5511" y="2096"/>
                  </a:lnTo>
                  <a:lnTo>
                    <a:pt x="5582" y="2073"/>
                  </a:lnTo>
                  <a:lnTo>
                    <a:pt x="5654" y="2050"/>
                  </a:lnTo>
                  <a:lnTo>
                    <a:pt x="5724" y="2027"/>
                  </a:lnTo>
                  <a:lnTo>
                    <a:pt x="5793" y="2003"/>
                  </a:lnTo>
                  <a:lnTo>
                    <a:pt x="5863" y="1980"/>
                  </a:lnTo>
                  <a:lnTo>
                    <a:pt x="5930" y="1956"/>
                  </a:lnTo>
                  <a:lnTo>
                    <a:pt x="5997" y="1931"/>
                  </a:lnTo>
                  <a:lnTo>
                    <a:pt x="6063" y="1907"/>
                  </a:lnTo>
                  <a:lnTo>
                    <a:pt x="6129" y="1882"/>
                  </a:lnTo>
                  <a:lnTo>
                    <a:pt x="6193" y="1857"/>
                  </a:lnTo>
                  <a:lnTo>
                    <a:pt x="6257" y="1831"/>
                  </a:lnTo>
                  <a:lnTo>
                    <a:pt x="6319" y="1806"/>
                  </a:lnTo>
                  <a:lnTo>
                    <a:pt x="6381" y="1779"/>
                  </a:lnTo>
                  <a:lnTo>
                    <a:pt x="6442" y="1754"/>
                  </a:lnTo>
                  <a:lnTo>
                    <a:pt x="6503" y="1728"/>
                  </a:lnTo>
                  <a:lnTo>
                    <a:pt x="6562" y="1700"/>
                  </a:lnTo>
                  <a:lnTo>
                    <a:pt x="6620" y="1674"/>
                  </a:lnTo>
                  <a:lnTo>
                    <a:pt x="6678" y="1646"/>
                  </a:lnTo>
                  <a:lnTo>
                    <a:pt x="6734" y="1619"/>
                  </a:lnTo>
                  <a:lnTo>
                    <a:pt x="6790" y="1591"/>
                  </a:lnTo>
                  <a:lnTo>
                    <a:pt x="6844" y="1564"/>
                  </a:lnTo>
                  <a:lnTo>
                    <a:pt x="6898" y="1535"/>
                  </a:lnTo>
                  <a:lnTo>
                    <a:pt x="6951" y="1507"/>
                  </a:lnTo>
                  <a:lnTo>
                    <a:pt x="7002" y="1478"/>
                  </a:lnTo>
                  <a:lnTo>
                    <a:pt x="7053" y="1449"/>
                  </a:lnTo>
                  <a:lnTo>
                    <a:pt x="7103" y="1420"/>
                  </a:lnTo>
                  <a:lnTo>
                    <a:pt x="7152" y="1390"/>
                  </a:lnTo>
                  <a:lnTo>
                    <a:pt x="7199" y="1361"/>
                  </a:lnTo>
                  <a:lnTo>
                    <a:pt x="7246" y="1330"/>
                  </a:lnTo>
                  <a:lnTo>
                    <a:pt x="7292" y="1301"/>
                  </a:lnTo>
                  <a:lnTo>
                    <a:pt x="7337" y="1270"/>
                  </a:lnTo>
                  <a:lnTo>
                    <a:pt x="7381" y="1240"/>
                  </a:lnTo>
                  <a:lnTo>
                    <a:pt x="7424" y="1209"/>
                  </a:lnTo>
                  <a:lnTo>
                    <a:pt x="7465" y="1178"/>
                  </a:lnTo>
                  <a:lnTo>
                    <a:pt x="7506" y="1146"/>
                  </a:lnTo>
                  <a:lnTo>
                    <a:pt x="7546" y="1116"/>
                  </a:lnTo>
                  <a:lnTo>
                    <a:pt x="7584" y="1084"/>
                  </a:lnTo>
                  <a:lnTo>
                    <a:pt x="7621" y="1051"/>
                  </a:lnTo>
                  <a:lnTo>
                    <a:pt x="7658" y="1020"/>
                  </a:lnTo>
                  <a:lnTo>
                    <a:pt x="7694" y="987"/>
                  </a:lnTo>
                  <a:lnTo>
                    <a:pt x="7727" y="955"/>
                  </a:lnTo>
                  <a:lnTo>
                    <a:pt x="7761" y="922"/>
                  </a:lnTo>
                  <a:lnTo>
                    <a:pt x="7792" y="888"/>
                  </a:lnTo>
                  <a:lnTo>
                    <a:pt x="7824" y="856"/>
                  </a:lnTo>
                  <a:lnTo>
                    <a:pt x="7854" y="822"/>
                  </a:lnTo>
                  <a:lnTo>
                    <a:pt x="7882" y="789"/>
                  </a:lnTo>
                  <a:lnTo>
                    <a:pt x="7910" y="755"/>
                  </a:lnTo>
                  <a:lnTo>
                    <a:pt x="7936" y="720"/>
                  </a:lnTo>
                  <a:lnTo>
                    <a:pt x="7961" y="687"/>
                  </a:lnTo>
                  <a:lnTo>
                    <a:pt x="7985" y="652"/>
                  </a:lnTo>
                  <a:lnTo>
                    <a:pt x="8007" y="618"/>
                  </a:lnTo>
                  <a:lnTo>
                    <a:pt x="8029" y="582"/>
                  </a:lnTo>
                  <a:lnTo>
                    <a:pt x="8049" y="547"/>
                  </a:lnTo>
                  <a:lnTo>
                    <a:pt x="8069" y="512"/>
                  </a:lnTo>
                  <a:lnTo>
                    <a:pt x="8087" y="476"/>
                  </a:lnTo>
                  <a:lnTo>
                    <a:pt x="8103" y="440"/>
                  </a:lnTo>
                  <a:lnTo>
                    <a:pt x="8118" y="405"/>
                  </a:lnTo>
                  <a:lnTo>
                    <a:pt x="8133" y="369"/>
                  </a:lnTo>
                  <a:lnTo>
                    <a:pt x="8145" y="333"/>
                  </a:lnTo>
                  <a:lnTo>
                    <a:pt x="8157" y="296"/>
                  </a:lnTo>
                  <a:lnTo>
                    <a:pt x="8167" y="260"/>
                  </a:lnTo>
                  <a:lnTo>
                    <a:pt x="8176" y="223"/>
                  </a:lnTo>
                  <a:lnTo>
                    <a:pt x="8184" y="186"/>
                  </a:lnTo>
                  <a:lnTo>
                    <a:pt x="8190" y="149"/>
                  </a:lnTo>
                  <a:lnTo>
                    <a:pt x="8195" y="112"/>
                  </a:lnTo>
                  <a:lnTo>
                    <a:pt x="8198" y="74"/>
                  </a:lnTo>
                  <a:lnTo>
                    <a:pt x="8200" y="37"/>
                  </a:lnTo>
                  <a:lnTo>
                    <a:pt x="8201" y="0"/>
                  </a:lnTo>
                  <a:lnTo>
                    <a:pt x="8102" y="0"/>
                  </a:lnTo>
                  <a:lnTo>
                    <a:pt x="8101" y="33"/>
                  </a:lnTo>
                  <a:lnTo>
                    <a:pt x="8099" y="68"/>
                  </a:lnTo>
                  <a:lnTo>
                    <a:pt x="8096" y="101"/>
                  </a:lnTo>
                  <a:lnTo>
                    <a:pt x="8092" y="135"/>
                  </a:lnTo>
                  <a:lnTo>
                    <a:pt x="8087" y="169"/>
                  </a:lnTo>
                  <a:lnTo>
                    <a:pt x="8080" y="201"/>
                  </a:lnTo>
                  <a:lnTo>
                    <a:pt x="8072" y="235"/>
                  </a:lnTo>
                  <a:lnTo>
                    <a:pt x="8062" y="268"/>
                  </a:lnTo>
                  <a:lnTo>
                    <a:pt x="8052" y="302"/>
                  </a:lnTo>
                  <a:lnTo>
                    <a:pt x="8040" y="335"/>
                  </a:lnTo>
                  <a:lnTo>
                    <a:pt x="8027" y="368"/>
                  </a:lnTo>
                  <a:lnTo>
                    <a:pt x="8014" y="401"/>
                  </a:lnTo>
                  <a:lnTo>
                    <a:pt x="7997" y="433"/>
                  </a:lnTo>
                  <a:lnTo>
                    <a:pt x="7981" y="467"/>
                  </a:lnTo>
                  <a:lnTo>
                    <a:pt x="7964" y="500"/>
                  </a:lnTo>
                  <a:lnTo>
                    <a:pt x="7944" y="532"/>
                  </a:lnTo>
                  <a:lnTo>
                    <a:pt x="7925" y="565"/>
                  </a:lnTo>
                  <a:lnTo>
                    <a:pt x="7902" y="597"/>
                  </a:lnTo>
                  <a:lnTo>
                    <a:pt x="7880" y="629"/>
                  </a:lnTo>
                  <a:lnTo>
                    <a:pt x="7857" y="661"/>
                  </a:lnTo>
                  <a:lnTo>
                    <a:pt x="7832" y="694"/>
                  </a:lnTo>
                  <a:lnTo>
                    <a:pt x="7806" y="726"/>
                  </a:lnTo>
                  <a:lnTo>
                    <a:pt x="7779" y="757"/>
                  </a:lnTo>
                  <a:lnTo>
                    <a:pt x="7751" y="790"/>
                  </a:lnTo>
                  <a:lnTo>
                    <a:pt x="7721" y="821"/>
                  </a:lnTo>
                  <a:lnTo>
                    <a:pt x="7691" y="853"/>
                  </a:lnTo>
                  <a:lnTo>
                    <a:pt x="7659" y="883"/>
                  </a:lnTo>
                  <a:lnTo>
                    <a:pt x="7626" y="915"/>
                  </a:lnTo>
                  <a:lnTo>
                    <a:pt x="7592" y="947"/>
                  </a:lnTo>
                  <a:lnTo>
                    <a:pt x="7557" y="977"/>
                  </a:lnTo>
                  <a:lnTo>
                    <a:pt x="7520" y="1008"/>
                  </a:lnTo>
                  <a:lnTo>
                    <a:pt x="7484" y="1038"/>
                  </a:lnTo>
                  <a:lnTo>
                    <a:pt x="7445" y="1069"/>
                  </a:lnTo>
                  <a:lnTo>
                    <a:pt x="7405" y="1099"/>
                  </a:lnTo>
                  <a:lnTo>
                    <a:pt x="7366" y="1129"/>
                  </a:lnTo>
                  <a:lnTo>
                    <a:pt x="7324" y="1159"/>
                  </a:lnTo>
                  <a:lnTo>
                    <a:pt x="7281" y="1189"/>
                  </a:lnTo>
                  <a:lnTo>
                    <a:pt x="7237" y="1218"/>
                  </a:lnTo>
                  <a:lnTo>
                    <a:pt x="7192" y="1248"/>
                  </a:lnTo>
                  <a:lnTo>
                    <a:pt x="7146" y="1277"/>
                  </a:lnTo>
                  <a:lnTo>
                    <a:pt x="7101" y="1306"/>
                  </a:lnTo>
                  <a:lnTo>
                    <a:pt x="7053" y="1334"/>
                  </a:lnTo>
                  <a:lnTo>
                    <a:pt x="7004" y="1363"/>
                  </a:lnTo>
                  <a:lnTo>
                    <a:pt x="6954" y="1392"/>
                  </a:lnTo>
                  <a:lnTo>
                    <a:pt x="6903" y="1420"/>
                  </a:lnTo>
                  <a:lnTo>
                    <a:pt x="6851" y="1448"/>
                  </a:lnTo>
                  <a:lnTo>
                    <a:pt x="6799" y="1476"/>
                  </a:lnTo>
                  <a:lnTo>
                    <a:pt x="6745" y="1504"/>
                  </a:lnTo>
                  <a:lnTo>
                    <a:pt x="6690" y="1530"/>
                  </a:lnTo>
                  <a:lnTo>
                    <a:pt x="6635" y="1557"/>
                  </a:lnTo>
                  <a:lnTo>
                    <a:pt x="6578" y="1584"/>
                  </a:lnTo>
                  <a:lnTo>
                    <a:pt x="6521" y="1610"/>
                  </a:lnTo>
                  <a:lnTo>
                    <a:pt x="6463" y="1637"/>
                  </a:lnTo>
                  <a:lnTo>
                    <a:pt x="6403" y="1663"/>
                  </a:lnTo>
                  <a:lnTo>
                    <a:pt x="6343" y="1689"/>
                  </a:lnTo>
                  <a:lnTo>
                    <a:pt x="6282" y="1714"/>
                  </a:lnTo>
                  <a:lnTo>
                    <a:pt x="6219" y="1740"/>
                  </a:lnTo>
                  <a:lnTo>
                    <a:pt x="6157" y="1765"/>
                  </a:lnTo>
                  <a:lnTo>
                    <a:pt x="6093" y="1790"/>
                  </a:lnTo>
                  <a:lnTo>
                    <a:pt x="6029" y="1815"/>
                  </a:lnTo>
                  <a:lnTo>
                    <a:pt x="5964" y="1839"/>
                  </a:lnTo>
                  <a:lnTo>
                    <a:pt x="5897" y="1863"/>
                  </a:lnTo>
                  <a:lnTo>
                    <a:pt x="5830" y="1886"/>
                  </a:lnTo>
                  <a:lnTo>
                    <a:pt x="5762" y="1910"/>
                  </a:lnTo>
                  <a:lnTo>
                    <a:pt x="5693" y="1933"/>
                  </a:lnTo>
                  <a:lnTo>
                    <a:pt x="5623" y="1957"/>
                  </a:lnTo>
                  <a:lnTo>
                    <a:pt x="5553" y="1979"/>
                  </a:lnTo>
                  <a:lnTo>
                    <a:pt x="5482" y="2001"/>
                  </a:lnTo>
                  <a:lnTo>
                    <a:pt x="5409" y="2024"/>
                  </a:lnTo>
                  <a:lnTo>
                    <a:pt x="5337" y="2045"/>
                  </a:lnTo>
                  <a:lnTo>
                    <a:pt x="5264" y="2067"/>
                  </a:lnTo>
                  <a:lnTo>
                    <a:pt x="5189" y="2088"/>
                  </a:lnTo>
                  <a:lnTo>
                    <a:pt x="5038" y="2130"/>
                  </a:lnTo>
                  <a:lnTo>
                    <a:pt x="4885" y="2170"/>
                  </a:lnTo>
                  <a:lnTo>
                    <a:pt x="4728" y="2209"/>
                  </a:lnTo>
                  <a:lnTo>
                    <a:pt x="4568" y="2247"/>
                  </a:lnTo>
                  <a:lnTo>
                    <a:pt x="4405" y="2283"/>
                  </a:lnTo>
                  <a:lnTo>
                    <a:pt x="4240" y="2319"/>
                  </a:lnTo>
                  <a:lnTo>
                    <a:pt x="4073" y="2353"/>
                  </a:lnTo>
                  <a:lnTo>
                    <a:pt x="3901" y="2385"/>
                  </a:lnTo>
                  <a:lnTo>
                    <a:pt x="3729" y="2417"/>
                  </a:lnTo>
                  <a:lnTo>
                    <a:pt x="3553" y="2446"/>
                  </a:lnTo>
                  <a:lnTo>
                    <a:pt x="3376" y="2475"/>
                  </a:lnTo>
                  <a:lnTo>
                    <a:pt x="3195" y="2501"/>
                  </a:lnTo>
                  <a:lnTo>
                    <a:pt x="3013" y="2527"/>
                  </a:lnTo>
                  <a:lnTo>
                    <a:pt x="2828" y="2551"/>
                  </a:lnTo>
                  <a:lnTo>
                    <a:pt x="2642" y="2574"/>
                  </a:lnTo>
                  <a:lnTo>
                    <a:pt x="2454" y="2594"/>
                  </a:lnTo>
                  <a:lnTo>
                    <a:pt x="2262" y="2614"/>
                  </a:lnTo>
                  <a:lnTo>
                    <a:pt x="2069" y="2632"/>
                  </a:lnTo>
                  <a:lnTo>
                    <a:pt x="1875" y="2648"/>
                  </a:lnTo>
                  <a:lnTo>
                    <a:pt x="1679" y="2662"/>
                  </a:lnTo>
                  <a:lnTo>
                    <a:pt x="1481" y="2676"/>
                  </a:lnTo>
                  <a:lnTo>
                    <a:pt x="1281" y="2687"/>
                  </a:lnTo>
                  <a:lnTo>
                    <a:pt x="1079" y="2697"/>
                  </a:lnTo>
                  <a:lnTo>
                    <a:pt x="876" y="2705"/>
                  </a:lnTo>
                  <a:lnTo>
                    <a:pt x="672" y="2711"/>
                  </a:lnTo>
                  <a:lnTo>
                    <a:pt x="466" y="2715"/>
                  </a:lnTo>
                  <a:lnTo>
                    <a:pt x="259" y="2717"/>
                  </a:lnTo>
                  <a:lnTo>
                    <a:pt x="50" y="2718"/>
                  </a:lnTo>
                  <a:lnTo>
                    <a:pt x="50" y="2718"/>
                  </a:lnTo>
                  <a:lnTo>
                    <a:pt x="50" y="2718"/>
                  </a:lnTo>
                  <a:lnTo>
                    <a:pt x="44" y="2719"/>
                  </a:lnTo>
                  <a:lnTo>
                    <a:pt x="39" y="2719"/>
                  </a:lnTo>
                  <a:lnTo>
                    <a:pt x="33" y="2721"/>
                  </a:lnTo>
                  <a:lnTo>
                    <a:pt x="29" y="2723"/>
                  </a:lnTo>
                  <a:lnTo>
                    <a:pt x="24" y="2725"/>
                  </a:lnTo>
                  <a:lnTo>
                    <a:pt x="19" y="2727"/>
                  </a:lnTo>
                  <a:lnTo>
                    <a:pt x="16" y="2731"/>
                  </a:lnTo>
                  <a:lnTo>
                    <a:pt x="13" y="2735"/>
                  </a:lnTo>
                  <a:lnTo>
                    <a:pt x="7" y="2742"/>
                  </a:lnTo>
                  <a:lnTo>
                    <a:pt x="3" y="2750"/>
                  </a:lnTo>
                  <a:lnTo>
                    <a:pt x="1" y="2759"/>
                  </a:lnTo>
                  <a:lnTo>
                    <a:pt x="0" y="2768"/>
                  </a:lnTo>
                  <a:lnTo>
                    <a:pt x="1" y="2777"/>
                  </a:lnTo>
                  <a:lnTo>
                    <a:pt x="3" y="2787"/>
                  </a:lnTo>
                  <a:lnTo>
                    <a:pt x="7" y="2795"/>
                  </a:lnTo>
                  <a:lnTo>
                    <a:pt x="13" y="2802"/>
                  </a:lnTo>
                  <a:lnTo>
                    <a:pt x="16" y="2806"/>
                  </a:lnTo>
                  <a:lnTo>
                    <a:pt x="19" y="2809"/>
                  </a:lnTo>
                  <a:lnTo>
                    <a:pt x="24" y="2811"/>
                  </a:lnTo>
                  <a:lnTo>
                    <a:pt x="29" y="2813"/>
                  </a:lnTo>
                  <a:lnTo>
                    <a:pt x="33" y="2815"/>
                  </a:lnTo>
                  <a:lnTo>
                    <a:pt x="39" y="2816"/>
                  </a:lnTo>
                  <a:lnTo>
                    <a:pt x="44" y="2817"/>
                  </a:lnTo>
                  <a:lnTo>
                    <a:pt x="50" y="281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438960" y="2148840"/>
              <a:ext cx="530640" cy="185760"/>
            </a:xfrm>
            <a:custGeom>
              <a:avLst/>
              <a:gdLst/>
              <a:ahLst/>
              <a:rect l="l" t="t" r="r" b="b"/>
              <a:pathLst>
                <a:path w="8151" h="2867">
                  <a:moveTo>
                    <a:pt x="0" y="50"/>
                  </a:moveTo>
                  <a:lnTo>
                    <a:pt x="0" y="50"/>
                  </a:lnTo>
                  <a:lnTo>
                    <a:pt x="1" y="87"/>
                  </a:lnTo>
                  <a:lnTo>
                    <a:pt x="3" y="124"/>
                  </a:lnTo>
                  <a:lnTo>
                    <a:pt x="6" y="162"/>
                  </a:lnTo>
                  <a:lnTo>
                    <a:pt x="11" y="199"/>
                  </a:lnTo>
                  <a:lnTo>
                    <a:pt x="17" y="236"/>
                  </a:lnTo>
                  <a:lnTo>
                    <a:pt x="24" y="273"/>
                  </a:lnTo>
                  <a:lnTo>
                    <a:pt x="34" y="310"/>
                  </a:lnTo>
                  <a:lnTo>
                    <a:pt x="44" y="346"/>
                  </a:lnTo>
                  <a:lnTo>
                    <a:pt x="55" y="383"/>
                  </a:lnTo>
                  <a:lnTo>
                    <a:pt x="68" y="419"/>
                  </a:lnTo>
                  <a:lnTo>
                    <a:pt x="83" y="455"/>
                  </a:lnTo>
                  <a:lnTo>
                    <a:pt x="98" y="490"/>
                  </a:lnTo>
                  <a:lnTo>
                    <a:pt x="114" y="526"/>
                  </a:lnTo>
                  <a:lnTo>
                    <a:pt x="132" y="562"/>
                  </a:lnTo>
                  <a:lnTo>
                    <a:pt x="152" y="597"/>
                  </a:lnTo>
                  <a:lnTo>
                    <a:pt x="172" y="632"/>
                  </a:lnTo>
                  <a:lnTo>
                    <a:pt x="194" y="668"/>
                  </a:lnTo>
                  <a:lnTo>
                    <a:pt x="216" y="702"/>
                  </a:lnTo>
                  <a:lnTo>
                    <a:pt x="240" y="737"/>
                  </a:lnTo>
                  <a:lnTo>
                    <a:pt x="265" y="770"/>
                  </a:lnTo>
                  <a:lnTo>
                    <a:pt x="291" y="805"/>
                  </a:lnTo>
                  <a:lnTo>
                    <a:pt x="319" y="839"/>
                  </a:lnTo>
                  <a:lnTo>
                    <a:pt x="347" y="872"/>
                  </a:lnTo>
                  <a:lnTo>
                    <a:pt x="377" y="906"/>
                  </a:lnTo>
                  <a:lnTo>
                    <a:pt x="409" y="938"/>
                  </a:lnTo>
                  <a:lnTo>
                    <a:pt x="440" y="972"/>
                  </a:lnTo>
                  <a:lnTo>
                    <a:pt x="474" y="1005"/>
                  </a:lnTo>
                  <a:lnTo>
                    <a:pt x="507" y="1037"/>
                  </a:lnTo>
                  <a:lnTo>
                    <a:pt x="543" y="1070"/>
                  </a:lnTo>
                  <a:lnTo>
                    <a:pt x="580" y="1101"/>
                  </a:lnTo>
                  <a:lnTo>
                    <a:pt x="616" y="1134"/>
                  </a:lnTo>
                  <a:lnTo>
                    <a:pt x="655" y="1166"/>
                  </a:lnTo>
                  <a:lnTo>
                    <a:pt x="695" y="1196"/>
                  </a:lnTo>
                  <a:lnTo>
                    <a:pt x="736" y="1228"/>
                  </a:lnTo>
                  <a:lnTo>
                    <a:pt x="777" y="1259"/>
                  </a:lnTo>
                  <a:lnTo>
                    <a:pt x="820" y="1290"/>
                  </a:lnTo>
                  <a:lnTo>
                    <a:pt x="864" y="1320"/>
                  </a:lnTo>
                  <a:lnTo>
                    <a:pt x="909" y="1351"/>
                  </a:lnTo>
                  <a:lnTo>
                    <a:pt x="955" y="1380"/>
                  </a:lnTo>
                  <a:lnTo>
                    <a:pt x="1002" y="1411"/>
                  </a:lnTo>
                  <a:lnTo>
                    <a:pt x="1049" y="1440"/>
                  </a:lnTo>
                  <a:lnTo>
                    <a:pt x="1098" y="1470"/>
                  </a:lnTo>
                  <a:lnTo>
                    <a:pt x="1148" y="1499"/>
                  </a:lnTo>
                  <a:lnTo>
                    <a:pt x="1198" y="1528"/>
                  </a:lnTo>
                  <a:lnTo>
                    <a:pt x="1250" y="1557"/>
                  </a:lnTo>
                  <a:lnTo>
                    <a:pt x="1303" y="1585"/>
                  </a:lnTo>
                  <a:lnTo>
                    <a:pt x="1357" y="1614"/>
                  </a:lnTo>
                  <a:lnTo>
                    <a:pt x="1411" y="1641"/>
                  </a:lnTo>
                  <a:lnTo>
                    <a:pt x="1467" y="1669"/>
                  </a:lnTo>
                  <a:lnTo>
                    <a:pt x="1523" y="1696"/>
                  </a:lnTo>
                  <a:lnTo>
                    <a:pt x="1580" y="1724"/>
                  </a:lnTo>
                  <a:lnTo>
                    <a:pt x="1639" y="1750"/>
                  </a:lnTo>
                  <a:lnTo>
                    <a:pt x="1698" y="1778"/>
                  </a:lnTo>
                  <a:lnTo>
                    <a:pt x="1759" y="1804"/>
                  </a:lnTo>
                  <a:lnTo>
                    <a:pt x="1820" y="1829"/>
                  </a:lnTo>
                  <a:lnTo>
                    <a:pt x="1882" y="1856"/>
                  </a:lnTo>
                  <a:lnTo>
                    <a:pt x="1944" y="1881"/>
                  </a:lnTo>
                  <a:lnTo>
                    <a:pt x="2007" y="1907"/>
                  </a:lnTo>
                  <a:lnTo>
                    <a:pt x="2072" y="1932"/>
                  </a:lnTo>
                  <a:lnTo>
                    <a:pt x="2138" y="1957"/>
                  </a:lnTo>
                  <a:lnTo>
                    <a:pt x="2204" y="1981"/>
                  </a:lnTo>
                  <a:lnTo>
                    <a:pt x="2271" y="2006"/>
                  </a:lnTo>
                  <a:lnTo>
                    <a:pt x="2338" y="2030"/>
                  </a:lnTo>
                  <a:lnTo>
                    <a:pt x="2408" y="2053"/>
                  </a:lnTo>
                  <a:lnTo>
                    <a:pt x="2477" y="2077"/>
                  </a:lnTo>
                  <a:lnTo>
                    <a:pt x="2547" y="2100"/>
                  </a:lnTo>
                  <a:lnTo>
                    <a:pt x="2619" y="2123"/>
                  </a:lnTo>
                  <a:lnTo>
                    <a:pt x="2690" y="2146"/>
                  </a:lnTo>
                  <a:lnTo>
                    <a:pt x="2762" y="2168"/>
                  </a:lnTo>
                  <a:lnTo>
                    <a:pt x="2837" y="2190"/>
                  </a:lnTo>
                  <a:lnTo>
                    <a:pt x="2910" y="2211"/>
                  </a:lnTo>
                  <a:lnTo>
                    <a:pt x="2985" y="2233"/>
                  </a:lnTo>
                  <a:lnTo>
                    <a:pt x="3137" y="2275"/>
                  </a:lnTo>
                  <a:lnTo>
                    <a:pt x="3292" y="2316"/>
                  </a:lnTo>
                  <a:lnTo>
                    <a:pt x="3451" y="2355"/>
                  </a:lnTo>
                  <a:lnTo>
                    <a:pt x="3611" y="2394"/>
                  </a:lnTo>
                  <a:lnTo>
                    <a:pt x="3775" y="2430"/>
                  </a:lnTo>
                  <a:lnTo>
                    <a:pt x="3941" y="2466"/>
                  </a:lnTo>
                  <a:lnTo>
                    <a:pt x="4110" y="2499"/>
                  </a:lnTo>
                  <a:lnTo>
                    <a:pt x="4281" y="2532"/>
                  </a:lnTo>
                  <a:lnTo>
                    <a:pt x="4456" y="2564"/>
                  </a:lnTo>
                  <a:lnTo>
                    <a:pt x="4632" y="2594"/>
                  </a:lnTo>
                  <a:lnTo>
                    <a:pt x="4810" y="2623"/>
                  </a:lnTo>
                  <a:lnTo>
                    <a:pt x="4991" y="2649"/>
                  </a:lnTo>
                  <a:lnTo>
                    <a:pt x="5175" y="2675"/>
                  </a:lnTo>
                  <a:lnTo>
                    <a:pt x="5360" y="2699"/>
                  </a:lnTo>
                  <a:lnTo>
                    <a:pt x="5548" y="2721"/>
                  </a:lnTo>
                  <a:lnTo>
                    <a:pt x="5737" y="2743"/>
                  </a:lnTo>
                  <a:lnTo>
                    <a:pt x="5929" y="2762"/>
                  </a:lnTo>
                  <a:lnTo>
                    <a:pt x="6122" y="2781"/>
                  </a:lnTo>
                  <a:lnTo>
                    <a:pt x="6318" y="2797"/>
                  </a:lnTo>
                  <a:lnTo>
                    <a:pt x="6516" y="2811"/>
                  </a:lnTo>
                  <a:lnTo>
                    <a:pt x="6714" y="2824"/>
                  </a:lnTo>
                  <a:lnTo>
                    <a:pt x="6915" y="2835"/>
                  </a:lnTo>
                  <a:lnTo>
                    <a:pt x="7118" y="2845"/>
                  </a:lnTo>
                  <a:lnTo>
                    <a:pt x="7322" y="2853"/>
                  </a:lnTo>
                  <a:lnTo>
                    <a:pt x="7526" y="2859"/>
                  </a:lnTo>
                  <a:lnTo>
                    <a:pt x="7733" y="2864"/>
                  </a:lnTo>
                  <a:lnTo>
                    <a:pt x="7941" y="2867"/>
                  </a:lnTo>
                  <a:lnTo>
                    <a:pt x="8151" y="2867"/>
                  </a:lnTo>
                  <a:lnTo>
                    <a:pt x="8151" y="2768"/>
                  </a:lnTo>
                  <a:lnTo>
                    <a:pt x="7942" y="2767"/>
                  </a:lnTo>
                  <a:lnTo>
                    <a:pt x="7735" y="2765"/>
                  </a:lnTo>
                  <a:lnTo>
                    <a:pt x="7529" y="2761"/>
                  </a:lnTo>
                  <a:lnTo>
                    <a:pt x="7325" y="2755"/>
                  </a:lnTo>
                  <a:lnTo>
                    <a:pt x="7122" y="2747"/>
                  </a:lnTo>
                  <a:lnTo>
                    <a:pt x="6920" y="2737"/>
                  </a:lnTo>
                  <a:lnTo>
                    <a:pt x="6720" y="2726"/>
                  </a:lnTo>
                  <a:lnTo>
                    <a:pt x="6522" y="2712"/>
                  </a:lnTo>
                  <a:lnTo>
                    <a:pt x="6326" y="2698"/>
                  </a:lnTo>
                  <a:lnTo>
                    <a:pt x="6132" y="2682"/>
                  </a:lnTo>
                  <a:lnTo>
                    <a:pt x="5938" y="2664"/>
                  </a:lnTo>
                  <a:lnTo>
                    <a:pt x="5747" y="2644"/>
                  </a:lnTo>
                  <a:lnTo>
                    <a:pt x="5559" y="2624"/>
                  </a:lnTo>
                  <a:lnTo>
                    <a:pt x="5373" y="2601"/>
                  </a:lnTo>
                  <a:lnTo>
                    <a:pt x="5188" y="2577"/>
                  </a:lnTo>
                  <a:lnTo>
                    <a:pt x="5006" y="2551"/>
                  </a:lnTo>
                  <a:lnTo>
                    <a:pt x="4825" y="2525"/>
                  </a:lnTo>
                  <a:lnTo>
                    <a:pt x="4647" y="2496"/>
                  </a:lnTo>
                  <a:lnTo>
                    <a:pt x="4472" y="2467"/>
                  </a:lnTo>
                  <a:lnTo>
                    <a:pt x="4300" y="2435"/>
                  </a:lnTo>
                  <a:lnTo>
                    <a:pt x="4128" y="2403"/>
                  </a:lnTo>
                  <a:lnTo>
                    <a:pt x="3961" y="2369"/>
                  </a:lnTo>
                  <a:lnTo>
                    <a:pt x="3795" y="2333"/>
                  </a:lnTo>
                  <a:lnTo>
                    <a:pt x="3633" y="2297"/>
                  </a:lnTo>
                  <a:lnTo>
                    <a:pt x="3473" y="2259"/>
                  </a:lnTo>
                  <a:lnTo>
                    <a:pt x="3316" y="2220"/>
                  </a:lnTo>
                  <a:lnTo>
                    <a:pt x="3163" y="2180"/>
                  </a:lnTo>
                  <a:lnTo>
                    <a:pt x="3012" y="2138"/>
                  </a:lnTo>
                  <a:lnTo>
                    <a:pt x="2937" y="2117"/>
                  </a:lnTo>
                  <a:lnTo>
                    <a:pt x="2864" y="2095"/>
                  </a:lnTo>
                  <a:lnTo>
                    <a:pt x="2791" y="2074"/>
                  </a:lnTo>
                  <a:lnTo>
                    <a:pt x="2719" y="2051"/>
                  </a:lnTo>
                  <a:lnTo>
                    <a:pt x="2648" y="2029"/>
                  </a:lnTo>
                  <a:lnTo>
                    <a:pt x="2578" y="2007"/>
                  </a:lnTo>
                  <a:lnTo>
                    <a:pt x="2507" y="1983"/>
                  </a:lnTo>
                  <a:lnTo>
                    <a:pt x="2439" y="1960"/>
                  </a:lnTo>
                  <a:lnTo>
                    <a:pt x="2371" y="1936"/>
                  </a:lnTo>
                  <a:lnTo>
                    <a:pt x="2304" y="1913"/>
                  </a:lnTo>
                  <a:lnTo>
                    <a:pt x="2237" y="1889"/>
                  </a:lnTo>
                  <a:lnTo>
                    <a:pt x="2172" y="1865"/>
                  </a:lnTo>
                  <a:lnTo>
                    <a:pt x="2108" y="1840"/>
                  </a:lnTo>
                  <a:lnTo>
                    <a:pt x="2044" y="1815"/>
                  </a:lnTo>
                  <a:lnTo>
                    <a:pt x="1981" y="1790"/>
                  </a:lnTo>
                  <a:lnTo>
                    <a:pt x="1919" y="1764"/>
                  </a:lnTo>
                  <a:lnTo>
                    <a:pt x="1858" y="1739"/>
                  </a:lnTo>
                  <a:lnTo>
                    <a:pt x="1797" y="1713"/>
                  </a:lnTo>
                  <a:lnTo>
                    <a:pt x="1738" y="1687"/>
                  </a:lnTo>
                  <a:lnTo>
                    <a:pt x="1680" y="1660"/>
                  </a:lnTo>
                  <a:lnTo>
                    <a:pt x="1622" y="1634"/>
                  </a:lnTo>
                  <a:lnTo>
                    <a:pt x="1566" y="1607"/>
                  </a:lnTo>
                  <a:lnTo>
                    <a:pt x="1511" y="1580"/>
                  </a:lnTo>
                  <a:lnTo>
                    <a:pt x="1456" y="1554"/>
                  </a:lnTo>
                  <a:lnTo>
                    <a:pt x="1402" y="1526"/>
                  </a:lnTo>
                  <a:lnTo>
                    <a:pt x="1349" y="1498"/>
                  </a:lnTo>
                  <a:lnTo>
                    <a:pt x="1298" y="1470"/>
                  </a:lnTo>
                  <a:lnTo>
                    <a:pt x="1247" y="1442"/>
                  </a:lnTo>
                  <a:lnTo>
                    <a:pt x="1197" y="1413"/>
                  </a:lnTo>
                  <a:lnTo>
                    <a:pt x="1148" y="1384"/>
                  </a:lnTo>
                  <a:lnTo>
                    <a:pt x="1100" y="1356"/>
                  </a:lnTo>
                  <a:lnTo>
                    <a:pt x="1054" y="1327"/>
                  </a:lnTo>
                  <a:lnTo>
                    <a:pt x="1009" y="1298"/>
                  </a:lnTo>
                  <a:lnTo>
                    <a:pt x="964" y="1268"/>
                  </a:lnTo>
                  <a:lnTo>
                    <a:pt x="920" y="1239"/>
                  </a:lnTo>
                  <a:lnTo>
                    <a:pt x="877" y="1209"/>
                  </a:lnTo>
                  <a:lnTo>
                    <a:pt x="835" y="1179"/>
                  </a:lnTo>
                  <a:lnTo>
                    <a:pt x="795" y="1149"/>
                  </a:lnTo>
                  <a:lnTo>
                    <a:pt x="756" y="1119"/>
                  </a:lnTo>
                  <a:lnTo>
                    <a:pt x="717" y="1088"/>
                  </a:lnTo>
                  <a:lnTo>
                    <a:pt x="681" y="1058"/>
                  </a:lnTo>
                  <a:lnTo>
                    <a:pt x="644" y="1027"/>
                  </a:lnTo>
                  <a:lnTo>
                    <a:pt x="609" y="997"/>
                  </a:lnTo>
                  <a:lnTo>
                    <a:pt x="575" y="965"/>
                  </a:lnTo>
                  <a:lnTo>
                    <a:pt x="542" y="933"/>
                  </a:lnTo>
                  <a:lnTo>
                    <a:pt x="510" y="903"/>
                  </a:lnTo>
                  <a:lnTo>
                    <a:pt x="480" y="871"/>
                  </a:lnTo>
                  <a:lnTo>
                    <a:pt x="450" y="840"/>
                  </a:lnTo>
                  <a:lnTo>
                    <a:pt x="422" y="807"/>
                  </a:lnTo>
                  <a:lnTo>
                    <a:pt x="395" y="776"/>
                  </a:lnTo>
                  <a:lnTo>
                    <a:pt x="369" y="744"/>
                  </a:lnTo>
                  <a:lnTo>
                    <a:pt x="344" y="711"/>
                  </a:lnTo>
                  <a:lnTo>
                    <a:pt x="320" y="679"/>
                  </a:lnTo>
                  <a:lnTo>
                    <a:pt x="298" y="647"/>
                  </a:lnTo>
                  <a:lnTo>
                    <a:pt x="277" y="615"/>
                  </a:lnTo>
                  <a:lnTo>
                    <a:pt x="257" y="582"/>
                  </a:lnTo>
                  <a:lnTo>
                    <a:pt x="237" y="550"/>
                  </a:lnTo>
                  <a:lnTo>
                    <a:pt x="220" y="517"/>
                  </a:lnTo>
                  <a:lnTo>
                    <a:pt x="203" y="483"/>
                  </a:lnTo>
                  <a:lnTo>
                    <a:pt x="187" y="451"/>
                  </a:lnTo>
                  <a:lnTo>
                    <a:pt x="173" y="418"/>
                  </a:lnTo>
                  <a:lnTo>
                    <a:pt x="161" y="385"/>
                  </a:lnTo>
                  <a:lnTo>
                    <a:pt x="149" y="352"/>
                  </a:lnTo>
                  <a:lnTo>
                    <a:pt x="139" y="318"/>
                  </a:lnTo>
                  <a:lnTo>
                    <a:pt x="129" y="285"/>
                  </a:lnTo>
                  <a:lnTo>
                    <a:pt x="121" y="251"/>
                  </a:lnTo>
                  <a:lnTo>
                    <a:pt x="114" y="219"/>
                  </a:lnTo>
                  <a:lnTo>
                    <a:pt x="109" y="185"/>
                  </a:lnTo>
                  <a:lnTo>
                    <a:pt x="105" y="151"/>
                  </a:lnTo>
                  <a:lnTo>
                    <a:pt x="101" y="118"/>
                  </a:lnTo>
                  <a:lnTo>
                    <a:pt x="100" y="83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43"/>
                  </a:lnTo>
                  <a:lnTo>
                    <a:pt x="98" y="37"/>
                  </a:lnTo>
                  <a:lnTo>
                    <a:pt x="97" y="32"/>
                  </a:lnTo>
                  <a:lnTo>
                    <a:pt x="95" y="28"/>
                  </a:lnTo>
                  <a:lnTo>
                    <a:pt x="93" y="23"/>
                  </a:lnTo>
                  <a:lnTo>
                    <a:pt x="90" y="19"/>
                  </a:lnTo>
                  <a:lnTo>
                    <a:pt x="87" y="16"/>
                  </a:lnTo>
                  <a:lnTo>
                    <a:pt x="84" y="12"/>
                  </a:lnTo>
                  <a:lnTo>
                    <a:pt x="76" y="7"/>
                  </a:lnTo>
                  <a:lnTo>
                    <a:pt x="67" y="3"/>
                  </a:lnTo>
                  <a:lnTo>
                    <a:pt x="59" y="1"/>
                  </a:lnTo>
                  <a:lnTo>
                    <a:pt x="50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2" y="7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438960" y="1968480"/>
              <a:ext cx="533520" cy="183240"/>
            </a:xfrm>
            <a:custGeom>
              <a:avLst/>
              <a:gdLst/>
              <a:ahLst/>
              <a:rect l="l" t="t" r="r" b="b"/>
              <a:pathLst>
                <a:path w="8201" h="2819">
                  <a:moveTo>
                    <a:pt x="8151" y="0"/>
                  </a:moveTo>
                  <a:lnTo>
                    <a:pt x="8151" y="0"/>
                  </a:lnTo>
                  <a:lnTo>
                    <a:pt x="7941" y="1"/>
                  </a:lnTo>
                  <a:lnTo>
                    <a:pt x="7733" y="4"/>
                  </a:lnTo>
                  <a:lnTo>
                    <a:pt x="7526" y="8"/>
                  </a:lnTo>
                  <a:lnTo>
                    <a:pt x="7322" y="14"/>
                  </a:lnTo>
                  <a:lnTo>
                    <a:pt x="7118" y="22"/>
                  </a:lnTo>
                  <a:lnTo>
                    <a:pt x="6915" y="33"/>
                  </a:lnTo>
                  <a:lnTo>
                    <a:pt x="6714" y="44"/>
                  </a:lnTo>
                  <a:lnTo>
                    <a:pt x="6516" y="56"/>
                  </a:lnTo>
                  <a:lnTo>
                    <a:pt x="6318" y="71"/>
                  </a:lnTo>
                  <a:lnTo>
                    <a:pt x="6122" y="88"/>
                  </a:lnTo>
                  <a:lnTo>
                    <a:pt x="5929" y="106"/>
                  </a:lnTo>
                  <a:lnTo>
                    <a:pt x="5737" y="125"/>
                  </a:lnTo>
                  <a:lnTo>
                    <a:pt x="5548" y="146"/>
                  </a:lnTo>
                  <a:lnTo>
                    <a:pt x="5360" y="168"/>
                  </a:lnTo>
                  <a:lnTo>
                    <a:pt x="5175" y="192"/>
                  </a:lnTo>
                  <a:lnTo>
                    <a:pt x="4991" y="218"/>
                  </a:lnTo>
                  <a:lnTo>
                    <a:pt x="4810" y="245"/>
                  </a:lnTo>
                  <a:lnTo>
                    <a:pt x="4632" y="274"/>
                  </a:lnTo>
                  <a:lnTo>
                    <a:pt x="4456" y="303"/>
                  </a:lnTo>
                  <a:lnTo>
                    <a:pt x="4281" y="335"/>
                  </a:lnTo>
                  <a:lnTo>
                    <a:pt x="4110" y="368"/>
                  </a:lnTo>
                  <a:lnTo>
                    <a:pt x="3941" y="402"/>
                  </a:lnTo>
                  <a:lnTo>
                    <a:pt x="3775" y="438"/>
                  </a:lnTo>
                  <a:lnTo>
                    <a:pt x="3611" y="475"/>
                  </a:lnTo>
                  <a:lnTo>
                    <a:pt x="3451" y="512"/>
                  </a:lnTo>
                  <a:lnTo>
                    <a:pt x="3292" y="552"/>
                  </a:lnTo>
                  <a:lnTo>
                    <a:pt x="3137" y="593"/>
                  </a:lnTo>
                  <a:lnTo>
                    <a:pt x="2985" y="634"/>
                  </a:lnTo>
                  <a:lnTo>
                    <a:pt x="2837" y="678"/>
                  </a:lnTo>
                  <a:lnTo>
                    <a:pt x="2690" y="722"/>
                  </a:lnTo>
                  <a:lnTo>
                    <a:pt x="2619" y="744"/>
                  </a:lnTo>
                  <a:lnTo>
                    <a:pt x="2547" y="768"/>
                  </a:lnTo>
                  <a:lnTo>
                    <a:pt x="2477" y="790"/>
                  </a:lnTo>
                  <a:lnTo>
                    <a:pt x="2408" y="814"/>
                  </a:lnTo>
                  <a:lnTo>
                    <a:pt x="2338" y="838"/>
                  </a:lnTo>
                  <a:lnTo>
                    <a:pt x="2271" y="861"/>
                  </a:lnTo>
                  <a:lnTo>
                    <a:pt x="2204" y="886"/>
                  </a:lnTo>
                  <a:lnTo>
                    <a:pt x="2138" y="910"/>
                  </a:lnTo>
                  <a:lnTo>
                    <a:pt x="2072" y="936"/>
                  </a:lnTo>
                  <a:lnTo>
                    <a:pt x="2007" y="960"/>
                  </a:lnTo>
                  <a:lnTo>
                    <a:pt x="1944" y="986"/>
                  </a:lnTo>
                  <a:lnTo>
                    <a:pt x="1882" y="1012"/>
                  </a:lnTo>
                  <a:lnTo>
                    <a:pt x="1820" y="1038"/>
                  </a:lnTo>
                  <a:lnTo>
                    <a:pt x="1759" y="1064"/>
                  </a:lnTo>
                  <a:lnTo>
                    <a:pt x="1698" y="1091"/>
                  </a:lnTo>
                  <a:lnTo>
                    <a:pt x="1639" y="1117"/>
                  </a:lnTo>
                  <a:lnTo>
                    <a:pt x="1580" y="1145"/>
                  </a:lnTo>
                  <a:lnTo>
                    <a:pt x="1523" y="1171"/>
                  </a:lnTo>
                  <a:lnTo>
                    <a:pt x="1467" y="1198"/>
                  </a:lnTo>
                  <a:lnTo>
                    <a:pt x="1411" y="1227"/>
                  </a:lnTo>
                  <a:lnTo>
                    <a:pt x="1357" y="1254"/>
                  </a:lnTo>
                  <a:lnTo>
                    <a:pt x="1303" y="1283"/>
                  </a:lnTo>
                  <a:lnTo>
                    <a:pt x="1250" y="1312"/>
                  </a:lnTo>
                  <a:lnTo>
                    <a:pt x="1198" y="1340"/>
                  </a:lnTo>
                  <a:lnTo>
                    <a:pt x="1148" y="1369"/>
                  </a:lnTo>
                  <a:lnTo>
                    <a:pt x="1098" y="1398"/>
                  </a:lnTo>
                  <a:lnTo>
                    <a:pt x="1049" y="1428"/>
                  </a:lnTo>
                  <a:lnTo>
                    <a:pt x="1002" y="1457"/>
                  </a:lnTo>
                  <a:lnTo>
                    <a:pt x="955" y="1487"/>
                  </a:lnTo>
                  <a:lnTo>
                    <a:pt x="909" y="1517"/>
                  </a:lnTo>
                  <a:lnTo>
                    <a:pt x="864" y="1548"/>
                  </a:lnTo>
                  <a:lnTo>
                    <a:pt x="820" y="1578"/>
                  </a:lnTo>
                  <a:lnTo>
                    <a:pt x="777" y="1609"/>
                  </a:lnTo>
                  <a:lnTo>
                    <a:pt x="736" y="1639"/>
                  </a:lnTo>
                  <a:lnTo>
                    <a:pt x="695" y="1671"/>
                  </a:lnTo>
                  <a:lnTo>
                    <a:pt x="655" y="1703"/>
                  </a:lnTo>
                  <a:lnTo>
                    <a:pt x="616" y="1734"/>
                  </a:lnTo>
                  <a:lnTo>
                    <a:pt x="580" y="1766"/>
                  </a:lnTo>
                  <a:lnTo>
                    <a:pt x="543" y="1798"/>
                  </a:lnTo>
                  <a:lnTo>
                    <a:pt x="507" y="1831"/>
                  </a:lnTo>
                  <a:lnTo>
                    <a:pt x="474" y="1863"/>
                  </a:lnTo>
                  <a:lnTo>
                    <a:pt x="440" y="1896"/>
                  </a:lnTo>
                  <a:lnTo>
                    <a:pt x="409" y="1929"/>
                  </a:lnTo>
                  <a:lnTo>
                    <a:pt x="377" y="1962"/>
                  </a:lnTo>
                  <a:lnTo>
                    <a:pt x="347" y="1996"/>
                  </a:lnTo>
                  <a:lnTo>
                    <a:pt x="319" y="2029"/>
                  </a:lnTo>
                  <a:lnTo>
                    <a:pt x="291" y="2063"/>
                  </a:lnTo>
                  <a:lnTo>
                    <a:pt x="265" y="2097"/>
                  </a:lnTo>
                  <a:lnTo>
                    <a:pt x="240" y="2131"/>
                  </a:lnTo>
                  <a:lnTo>
                    <a:pt x="216" y="2166"/>
                  </a:lnTo>
                  <a:lnTo>
                    <a:pt x="194" y="2200"/>
                  </a:lnTo>
                  <a:lnTo>
                    <a:pt x="172" y="2235"/>
                  </a:lnTo>
                  <a:lnTo>
                    <a:pt x="152" y="2271"/>
                  </a:lnTo>
                  <a:lnTo>
                    <a:pt x="132" y="2305"/>
                  </a:lnTo>
                  <a:lnTo>
                    <a:pt x="114" y="2341"/>
                  </a:lnTo>
                  <a:lnTo>
                    <a:pt x="98" y="2377"/>
                  </a:lnTo>
                  <a:lnTo>
                    <a:pt x="83" y="2412"/>
                  </a:lnTo>
                  <a:lnTo>
                    <a:pt x="68" y="2449"/>
                  </a:lnTo>
                  <a:lnTo>
                    <a:pt x="55" y="2485"/>
                  </a:lnTo>
                  <a:lnTo>
                    <a:pt x="44" y="2521"/>
                  </a:lnTo>
                  <a:lnTo>
                    <a:pt x="34" y="2558"/>
                  </a:lnTo>
                  <a:lnTo>
                    <a:pt x="24" y="2595"/>
                  </a:lnTo>
                  <a:lnTo>
                    <a:pt x="17" y="2632"/>
                  </a:lnTo>
                  <a:lnTo>
                    <a:pt x="11" y="2669"/>
                  </a:lnTo>
                  <a:lnTo>
                    <a:pt x="6" y="2706"/>
                  </a:lnTo>
                  <a:lnTo>
                    <a:pt x="3" y="2743"/>
                  </a:lnTo>
                  <a:lnTo>
                    <a:pt x="1" y="2781"/>
                  </a:lnTo>
                  <a:lnTo>
                    <a:pt x="0" y="2819"/>
                  </a:lnTo>
                  <a:lnTo>
                    <a:pt x="99" y="2819"/>
                  </a:lnTo>
                  <a:lnTo>
                    <a:pt x="100" y="2784"/>
                  </a:lnTo>
                  <a:lnTo>
                    <a:pt x="101" y="2750"/>
                  </a:lnTo>
                  <a:lnTo>
                    <a:pt x="105" y="2717"/>
                  </a:lnTo>
                  <a:lnTo>
                    <a:pt x="109" y="2683"/>
                  </a:lnTo>
                  <a:lnTo>
                    <a:pt x="114" y="2650"/>
                  </a:lnTo>
                  <a:lnTo>
                    <a:pt x="121" y="2616"/>
                  </a:lnTo>
                  <a:lnTo>
                    <a:pt x="129" y="2582"/>
                  </a:lnTo>
                  <a:lnTo>
                    <a:pt x="139" y="2550"/>
                  </a:lnTo>
                  <a:lnTo>
                    <a:pt x="149" y="2516"/>
                  </a:lnTo>
                  <a:lnTo>
                    <a:pt x="161" y="2484"/>
                  </a:lnTo>
                  <a:lnTo>
                    <a:pt x="173" y="2450"/>
                  </a:lnTo>
                  <a:lnTo>
                    <a:pt x="187" y="2417"/>
                  </a:lnTo>
                  <a:lnTo>
                    <a:pt x="203" y="2384"/>
                  </a:lnTo>
                  <a:lnTo>
                    <a:pt x="220" y="2351"/>
                  </a:lnTo>
                  <a:lnTo>
                    <a:pt x="237" y="2319"/>
                  </a:lnTo>
                  <a:lnTo>
                    <a:pt x="257" y="2286"/>
                  </a:lnTo>
                  <a:lnTo>
                    <a:pt x="276" y="2253"/>
                  </a:lnTo>
                  <a:lnTo>
                    <a:pt x="298" y="2221"/>
                  </a:lnTo>
                  <a:lnTo>
                    <a:pt x="320" y="2188"/>
                  </a:lnTo>
                  <a:lnTo>
                    <a:pt x="344" y="2157"/>
                  </a:lnTo>
                  <a:lnTo>
                    <a:pt x="369" y="2124"/>
                  </a:lnTo>
                  <a:lnTo>
                    <a:pt x="395" y="2093"/>
                  </a:lnTo>
                  <a:lnTo>
                    <a:pt x="422" y="2060"/>
                  </a:lnTo>
                  <a:lnTo>
                    <a:pt x="450" y="2028"/>
                  </a:lnTo>
                  <a:lnTo>
                    <a:pt x="480" y="1997"/>
                  </a:lnTo>
                  <a:lnTo>
                    <a:pt x="510" y="1965"/>
                  </a:lnTo>
                  <a:lnTo>
                    <a:pt x="542" y="1934"/>
                  </a:lnTo>
                  <a:lnTo>
                    <a:pt x="575" y="1903"/>
                  </a:lnTo>
                  <a:lnTo>
                    <a:pt x="609" y="1872"/>
                  </a:lnTo>
                  <a:lnTo>
                    <a:pt x="644" y="1841"/>
                  </a:lnTo>
                  <a:lnTo>
                    <a:pt x="681" y="1809"/>
                  </a:lnTo>
                  <a:lnTo>
                    <a:pt x="717" y="1779"/>
                  </a:lnTo>
                  <a:lnTo>
                    <a:pt x="756" y="1748"/>
                  </a:lnTo>
                  <a:lnTo>
                    <a:pt x="795" y="1719"/>
                  </a:lnTo>
                  <a:lnTo>
                    <a:pt x="835" y="1688"/>
                  </a:lnTo>
                  <a:lnTo>
                    <a:pt x="877" y="1659"/>
                  </a:lnTo>
                  <a:lnTo>
                    <a:pt x="920" y="1629"/>
                  </a:lnTo>
                  <a:lnTo>
                    <a:pt x="964" y="1599"/>
                  </a:lnTo>
                  <a:lnTo>
                    <a:pt x="1009" y="1570"/>
                  </a:lnTo>
                  <a:lnTo>
                    <a:pt x="1054" y="1541"/>
                  </a:lnTo>
                  <a:lnTo>
                    <a:pt x="1100" y="1512"/>
                  </a:lnTo>
                  <a:lnTo>
                    <a:pt x="1148" y="1483"/>
                  </a:lnTo>
                  <a:lnTo>
                    <a:pt x="1197" y="1454"/>
                  </a:lnTo>
                  <a:lnTo>
                    <a:pt x="1247" y="1426"/>
                  </a:lnTo>
                  <a:lnTo>
                    <a:pt x="1298" y="1398"/>
                  </a:lnTo>
                  <a:lnTo>
                    <a:pt x="1349" y="1370"/>
                  </a:lnTo>
                  <a:lnTo>
                    <a:pt x="1402" y="1342"/>
                  </a:lnTo>
                  <a:lnTo>
                    <a:pt x="1456" y="1315"/>
                  </a:lnTo>
                  <a:lnTo>
                    <a:pt x="1511" y="1287"/>
                  </a:lnTo>
                  <a:lnTo>
                    <a:pt x="1566" y="1261"/>
                  </a:lnTo>
                  <a:lnTo>
                    <a:pt x="1622" y="1233"/>
                  </a:lnTo>
                  <a:lnTo>
                    <a:pt x="1680" y="1207"/>
                  </a:lnTo>
                  <a:lnTo>
                    <a:pt x="1738" y="1180"/>
                  </a:lnTo>
                  <a:lnTo>
                    <a:pt x="1797" y="1155"/>
                  </a:lnTo>
                  <a:lnTo>
                    <a:pt x="1858" y="1128"/>
                  </a:lnTo>
                  <a:lnTo>
                    <a:pt x="1919" y="1103"/>
                  </a:lnTo>
                  <a:lnTo>
                    <a:pt x="1981" y="1077"/>
                  </a:lnTo>
                  <a:lnTo>
                    <a:pt x="2044" y="1053"/>
                  </a:lnTo>
                  <a:lnTo>
                    <a:pt x="2108" y="1027"/>
                  </a:lnTo>
                  <a:lnTo>
                    <a:pt x="2172" y="1003"/>
                  </a:lnTo>
                  <a:lnTo>
                    <a:pt x="2237" y="979"/>
                  </a:lnTo>
                  <a:lnTo>
                    <a:pt x="2304" y="955"/>
                  </a:lnTo>
                  <a:lnTo>
                    <a:pt x="2371" y="931"/>
                  </a:lnTo>
                  <a:lnTo>
                    <a:pt x="2439" y="907"/>
                  </a:lnTo>
                  <a:lnTo>
                    <a:pt x="2507" y="884"/>
                  </a:lnTo>
                  <a:lnTo>
                    <a:pt x="2578" y="861"/>
                  </a:lnTo>
                  <a:lnTo>
                    <a:pt x="2648" y="838"/>
                  </a:lnTo>
                  <a:lnTo>
                    <a:pt x="2719" y="817"/>
                  </a:lnTo>
                  <a:lnTo>
                    <a:pt x="2864" y="772"/>
                  </a:lnTo>
                  <a:lnTo>
                    <a:pt x="3012" y="729"/>
                  </a:lnTo>
                  <a:lnTo>
                    <a:pt x="3163" y="688"/>
                  </a:lnTo>
                  <a:lnTo>
                    <a:pt x="3316" y="648"/>
                  </a:lnTo>
                  <a:lnTo>
                    <a:pt x="3473" y="609"/>
                  </a:lnTo>
                  <a:lnTo>
                    <a:pt x="3633" y="570"/>
                  </a:lnTo>
                  <a:lnTo>
                    <a:pt x="3795" y="535"/>
                  </a:lnTo>
                  <a:lnTo>
                    <a:pt x="3961" y="499"/>
                  </a:lnTo>
                  <a:lnTo>
                    <a:pt x="4128" y="465"/>
                  </a:lnTo>
                  <a:lnTo>
                    <a:pt x="4300" y="433"/>
                  </a:lnTo>
                  <a:lnTo>
                    <a:pt x="4472" y="401"/>
                  </a:lnTo>
                  <a:lnTo>
                    <a:pt x="4647" y="372"/>
                  </a:lnTo>
                  <a:lnTo>
                    <a:pt x="4825" y="343"/>
                  </a:lnTo>
                  <a:lnTo>
                    <a:pt x="5006" y="316"/>
                  </a:lnTo>
                  <a:lnTo>
                    <a:pt x="5188" y="290"/>
                  </a:lnTo>
                  <a:lnTo>
                    <a:pt x="5373" y="267"/>
                  </a:lnTo>
                  <a:lnTo>
                    <a:pt x="5559" y="244"/>
                  </a:lnTo>
                  <a:lnTo>
                    <a:pt x="5747" y="223"/>
                  </a:lnTo>
                  <a:lnTo>
                    <a:pt x="5938" y="204"/>
                  </a:lnTo>
                  <a:lnTo>
                    <a:pt x="6132" y="186"/>
                  </a:lnTo>
                  <a:lnTo>
                    <a:pt x="6326" y="170"/>
                  </a:lnTo>
                  <a:lnTo>
                    <a:pt x="6522" y="155"/>
                  </a:lnTo>
                  <a:lnTo>
                    <a:pt x="6720" y="142"/>
                  </a:lnTo>
                  <a:lnTo>
                    <a:pt x="6920" y="130"/>
                  </a:lnTo>
                  <a:lnTo>
                    <a:pt x="7122" y="121"/>
                  </a:lnTo>
                  <a:lnTo>
                    <a:pt x="7325" y="113"/>
                  </a:lnTo>
                  <a:lnTo>
                    <a:pt x="7529" y="107"/>
                  </a:lnTo>
                  <a:lnTo>
                    <a:pt x="7735" y="103"/>
                  </a:lnTo>
                  <a:lnTo>
                    <a:pt x="7942" y="100"/>
                  </a:lnTo>
                  <a:lnTo>
                    <a:pt x="8151" y="99"/>
                  </a:lnTo>
                  <a:lnTo>
                    <a:pt x="8151" y="99"/>
                  </a:lnTo>
                  <a:lnTo>
                    <a:pt x="8151" y="99"/>
                  </a:lnTo>
                  <a:lnTo>
                    <a:pt x="8157" y="99"/>
                  </a:lnTo>
                  <a:lnTo>
                    <a:pt x="8162" y="98"/>
                  </a:lnTo>
                  <a:lnTo>
                    <a:pt x="8167" y="97"/>
                  </a:lnTo>
                  <a:lnTo>
                    <a:pt x="8172" y="95"/>
                  </a:lnTo>
                  <a:lnTo>
                    <a:pt x="8177" y="93"/>
                  </a:lnTo>
                  <a:lnTo>
                    <a:pt x="8182" y="90"/>
                  </a:lnTo>
                  <a:lnTo>
                    <a:pt x="8185" y="87"/>
                  </a:lnTo>
                  <a:lnTo>
                    <a:pt x="8188" y="83"/>
                  </a:lnTo>
                  <a:lnTo>
                    <a:pt x="8194" y="76"/>
                  </a:lnTo>
                  <a:lnTo>
                    <a:pt x="8198" y="67"/>
                  </a:lnTo>
                  <a:lnTo>
                    <a:pt x="8200" y="59"/>
                  </a:lnTo>
                  <a:lnTo>
                    <a:pt x="8201" y="50"/>
                  </a:lnTo>
                  <a:lnTo>
                    <a:pt x="8200" y="41"/>
                  </a:lnTo>
                  <a:lnTo>
                    <a:pt x="8198" y="32"/>
                  </a:lnTo>
                  <a:lnTo>
                    <a:pt x="8194" y="23"/>
                  </a:lnTo>
                  <a:lnTo>
                    <a:pt x="8188" y="15"/>
                  </a:lnTo>
                  <a:lnTo>
                    <a:pt x="8185" y="12"/>
                  </a:lnTo>
                  <a:lnTo>
                    <a:pt x="8182" y="9"/>
                  </a:lnTo>
                  <a:lnTo>
                    <a:pt x="8177" y="6"/>
                  </a:lnTo>
                  <a:lnTo>
                    <a:pt x="8172" y="4"/>
                  </a:lnTo>
                  <a:lnTo>
                    <a:pt x="8167" y="2"/>
                  </a:lnTo>
                  <a:lnTo>
                    <a:pt x="8162" y="1"/>
                  </a:lnTo>
                  <a:lnTo>
                    <a:pt x="8157" y="0"/>
                  </a:lnTo>
                  <a:lnTo>
                    <a:pt x="8151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969600" y="1968480"/>
              <a:ext cx="529560" cy="183240"/>
            </a:xfrm>
            <a:custGeom>
              <a:avLst/>
              <a:gdLst/>
              <a:ahLst/>
              <a:rect l="l" t="t" r="r" b="b"/>
              <a:pathLst>
                <a:path w="8151" h="2819">
                  <a:moveTo>
                    <a:pt x="8151" y="2819"/>
                  </a:moveTo>
                  <a:lnTo>
                    <a:pt x="8150" y="2781"/>
                  </a:lnTo>
                  <a:lnTo>
                    <a:pt x="8148" y="2743"/>
                  </a:lnTo>
                  <a:lnTo>
                    <a:pt x="8145" y="2706"/>
                  </a:lnTo>
                  <a:lnTo>
                    <a:pt x="8140" y="2669"/>
                  </a:lnTo>
                  <a:lnTo>
                    <a:pt x="8134" y="2632"/>
                  </a:lnTo>
                  <a:lnTo>
                    <a:pt x="8126" y="2595"/>
                  </a:lnTo>
                  <a:lnTo>
                    <a:pt x="8117" y="2558"/>
                  </a:lnTo>
                  <a:lnTo>
                    <a:pt x="8107" y="2521"/>
                  </a:lnTo>
                  <a:lnTo>
                    <a:pt x="8095" y="2485"/>
                  </a:lnTo>
                  <a:lnTo>
                    <a:pt x="8083" y="2449"/>
                  </a:lnTo>
                  <a:lnTo>
                    <a:pt x="8068" y="2412"/>
                  </a:lnTo>
                  <a:lnTo>
                    <a:pt x="8053" y="2377"/>
                  </a:lnTo>
                  <a:lnTo>
                    <a:pt x="8037" y="2341"/>
                  </a:lnTo>
                  <a:lnTo>
                    <a:pt x="8019" y="2305"/>
                  </a:lnTo>
                  <a:lnTo>
                    <a:pt x="7999" y="2271"/>
                  </a:lnTo>
                  <a:lnTo>
                    <a:pt x="7979" y="2235"/>
                  </a:lnTo>
                  <a:lnTo>
                    <a:pt x="7957" y="2200"/>
                  </a:lnTo>
                  <a:lnTo>
                    <a:pt x="7935" y="2166"/>
                  </a:lnTo>
                  <a:lnTo>
                    <a:pt x="7911" y="2131"/>
                  </a:lnTo>
                  <a:lnTo>
                    <a:pt x="7886" y="2097"/>
                  </a:lnTo>
                  <a:lnTo>
                    <a:pt x="7860" y="2063"/>
                  </a:lnTo>
                  <a:lnTo>
                    <a:pt x="7832" y="2029"/>
                  </a:lnTo>
                  <a:lnTo>
                    <a:pt x="7804" y="1996"/>
                  </a:lnTo>
                  <a:lnTo>
                    <a:pt x="7774" y="1962"/>
                  </a:lnTo>
                  <a:lnTo>
                    <a:pt x="7742" y="1929"/>
                  </a:lnTo>
                  <a:lnTo>
                    <a:pt x="7711" y="1896"/>
                  </a:lnTo>
                  <a:lnTo>
                    <a:pt x="7677" y="1863"/>
                  </a:lnTo>
                  <a:lnTo>
                    <a:pt x="7644" y="1831"/>
                  </a:lnTo>
                  <a:lnTo>
                    <a:pt x="7608" y="1798"/>
                  </a:lnTo>
                  <a:lnTo>
                    <a:pt x="7571" y="1766"/>
                  </a:lnTo>
                  <a:lnTo>
                    <a:pt x="7534" y="1734"/>
                  </a:lnTo>
                  <a:lnTo>
                    <a:pt x="7496" y="1703"/>
                  </a:lnTo>
                  <a:lnTo>
                    <a:pt x="7456" y="1671"/>
                  </a:lnTo>
                  <a:lnTo>
                    <a:pt x="7415" y="1639"/>
                  </a:lnTo>
                  <a:lnTo>
                    <a:pt x="7374" y="1609"/>
                  </a:lnTo>
                  <a:lnTo>
                    <a:pt x="7331" y="1578"/>
                  </a:lnTo>
                  <a:lnTo>
                    <a:pt x="7287" y="1548"/>
                  </a:lnTo>
                  <a:lnTo>
                    <a:pt x="7242" y="1517"/>
                  </a:lnTo>
                  <a:lnTo>
                    <a:pt x="7196" y="1487"/>
                  </a:lnTo>
                  <a:lnTo>
                    <a:pt x="7149" y="1457"/>
                  </a:lnTo>
                  <a:lnTo>
                    <a:pt x="7102" y="1428"/>
                  </a:lnTo>
                  <a:lnTo>
                    <a:pt x="7053" y="1398"/>
                  </a:lnTo>
                  <a:lnTo>
                    <a:pt x="7003" y="1369"/>
                  </a:lnTo>
                  <a:lnTo>
                    <a:pt x="6952" y="1340"/>
                  </a:lnTo>
                  <a:lnTo>
                    <a:pt x="6901" y="1312"/>
                  </a:lnTo>
                  <a:lnTo>
                    <a:pt x="6848" y="1283"/>
                  </a:lnTo>
                  <a:lnTo>
                    <a:pt x="6794" y="1254"/>
                  </a:lnTo>
                  <a:lnTo>
                    <a:pt x="6740" y="1227"/>
                  </a:lnTo>
                  <a:lnTo>
                    <a:pt x="6684" y="1198"/>
                  </a:lnTo>
                  <a:lnTo>
                    <a:pt x="6628" y="1171"/>
                  </a:lnTo>
                  <a:lnTo>
                    <a:pt x="6570" y="1145"/>
                  </a:lnTo>
                  <a:lnTo>
                    <a:pt x="6512" y="1117"/>
                  </a:lnTo>
                  <a:lnTo>
                    <a:pt x="6453" y="1091"/>
                  </a:lnTo>
                  <a:lnTo>
                    <a:pt x="6392" y="1064"/>
                  </a:lnTo>
                  <a:lnTo>
                    <a:pt x="6331" y="1038"/>
                  </a:lnTo>
                  <a:lnTo>
                    <a:pt x="6269" y="1012"/>
                  </a:lnTo>
                  <a:lnTo>
                    <a:pt x="6207" y="986"/>
                  </a:lnTo>
                  <a:lnTo>
                    <a:pt x="6143" y="960"/>
                  </a:lnTo>
                  <a:lnTo>
                    <a:pt x="6079" y="936"/>
                  </a:lnTo>
                  <a:lnTo>
                    <a:pt x="6013" y="910"/>
                  </a:lnTo>
                  <a:lnTo>
                    <a:pt x="5947" y="886"/>
                  </a:lnTo>
                  <a:lnTo>
                    <a:pt x="5880" y="861"/>
                  </a:lnTo>
                  <a:lnTo>
                    <a:pt x="5813" y="838"/>
                  </a:lnTo>
                  <a:lnTo>
                    <a:pt x="5743" y="814"/>
                  </a:lnTo>
                  <a:lnTo>
                    <a:pt x="5674" y="790"/>
                  </a:lnTo>
                  <a:lnTo>
                    <a:pt x="5604" y="768"/>
                  </a:lnTo>
                  <a:lnTo>
                    <a:pt x="5532" y="744"/>
                  </a:lnTo>
                  <a:lnTo>
                    <a:pt x="5461" y="722"/>
                  </a:lnTo>
                  <a:lnTo>
                    <a:pt x="5314" y="678"/>
                  </a:lnTo>
                  <a:lnTo>
                    <a:pt x="5166" y="634"/>
                  </a:lnTo>
                  <a:lnTo>
                    <a:pt x="5014" y="593"/>
                  </a:lnTo>
                  <a:lnTo>
                    <a:pt x="4858" y="552"/>
                  </a:lnTo>
                  <a:lnTo>
                    <a:pt x="4700" y="512"/>
                  </a:lnTo>
                  <a:lnTo>
                    <a:pt x="4540" y="475"/>
                  </a:lnTo>
                  <a:lnTo>
                    <a:pt x="4376" y="438"/>
                  </a:lnTo>
                  <a:lnTo>
                    <a:pt x="4210" y="402"/>
                  </a:lnTo>
                  <a:lnTo>
                    <a:pt x="4041" y="368"/>
                  </a:lnTo>
                  <a:lnTo>
                    <a:pt x="3870" y="335"/>
                  </a:lnTo>
                  <a:lnTo>
                    <a:pt x="3695" y="303"/>
                  </a:lnTo>
                  <a:lnTo>
                    <a:pt x="3519" y="274"/>
                  </a:lnTo>
                  <a:lnTo>
                    <a:pt x="3341" y="245"/>
                  </a:lnTo>
                  <a:lnTo>
                    <a:pt x="3160" y="218"/>
                  </a:lnTo>
                  <a:lnTo>
                    <a:pt x="2976" y="192"/>
                  </a:lnTo>
                  <a:lnTo>
                    <a:pt x="2791" y="168"/>
                  </a:lnTo>
                  <a:lnTo>
                    <a:pt x="2603" y="146"/>
                  </a:lnTo>
                  <a:lnTo>
                    <a:pt x="2414" y="125"/>
                  </a:lnTo>
                  <a:lnTo>
                    <a:pt x="2221" y="106"/>
                  </a:lnTo>
                  <a:lnTo>
                    <a:pt x="2029" y="88"/>
                  </a:lnTo>
                  <a:lnTo>
                    <a:pt x="1833" y="71"/>
                  </a:lnTo>
                  <a:lnTo>
                    <a:pt x="1635" y="56"/>
                  </a:lnTo>
                  <a:lnTo>
                    <a:pt x="1437" y="44"/>
                  </a:lnTo>
                  <a:lnTo>
                    <a:pt x="1236" y="33"/>
                  </a:lnTo>
                  <a:lnTo>
                    <a:pt x="1033" y="22"/>
                  </a:lnTo>
                  <a:lnTo>
                    <a:pt x="829" y="14"/>
                  </a:lnTo>
                  <a:lnTo>
                    <a:pt x="625" y="8"/>
                  </a:lnTo>
                  <a:lnTo>
                    <a:pt x="418" y="4"/>
                  </a:lnTo>
                  <a:lnTo>
                    <a:pt x="210" y="1"/>
                  </a:lnTo>
                  <a:lnTo>
                    <a:pt x="0" y="0"/>
                  </a:lnTo>
                  <a:lnTo>
                    <a:pt x="0" y="99"/>
                  </a:lnTo>
                  <a:lnTo>
                    <a:pt x="209" y="100"/>
                  </a:lnTo>
                  <a:lnTo>
                    <a:pt x="416" y="103"/>
                  </a:lnTo>
                  <a:lnTo>
                    <a:pt x="622" y="107"/>
                  </a:lnTo>
                  <a:lnTo>
                    <a:pt x="826" y="113"/>
                  </a:lnTo>
                  <a:lnTo>
                    <a:pt x="1029" y="121"/>
                  </a:lnTo>
                  <a:lnTo>
                    <a:pt x="1231" y="130"/>
                  </a:lnTo>
                  <a:lnTo>
                    <a:pt x="1431" y="142"/>
                  </a:lnTo>
                  <a:lnTo>
                    <a:pt x="1629" y="155"/>
                  </a:lnTo>
                  <a:lnTo>
                    <a:pt x="1825" y="170"/>
                  </a:lnTo>
                  <a:lnTo>
                    <a:pt x="2019" y="186"/>
                  </a:lnTo>
                  <a:lnTo>
                    <a:pt x="2212" y="204"/>
                  </a:lnTo>
                  <a:lnTo>
                    <a:pt x="2404" y="223"/>
                  </a:lnTo>
                  <a:lnTo>
                    <a:pt x="2592" y="244"/>
                  </a:lnTo>
                  <a:lnTo>
                    <a:pt x="2778" y="267"/>
                  </a:lnTo>
                  <a:lnTo>
                    <a:pt x="2963" y="290"/>
                  </a:lnTo>
                  <a:lnTo>
                    <a:pt x="3145" y="316"/>
                  </a:lnTo>
                  <a:lnTo>
                    <a:pt x="3326" y="343"/>
                  </a:lnTo>
                  <a:lnTo>
                    <a:pt x="3503" y="372"/>
                  </a:lnTo>
                  <a:lnTo>
                    <a:pt x="3679" y="401"/>
                  </a:lnTo>
                  <a:lnTo>
                    <a:pt x="3851" y="433"/>
                  </a:lnTo>
                  <a:lnTo>
                    <a:pt x="4023" y="465"/>
                  </a:lnTo>
                  <a:lnTo>
                    <a:pt x="4190" y="499"/>
                  </a:lnTo>
                  <a:lnTo>
                    <a:pt x="4355" y="535"/>
                  </a:lnTo>
                  <a:lnTo>
                    <a:pt x="4518" y="570"/>
                  </a:lnTo>
                  <a:lnTo>
                    <a:pt x="4678" y="609"/>
                  </a:lnTo>
                  <a:lnTo>
                    <a:pt x="4835" y="648"/>
                  </a:lnTo>
                  <a:lnTo>
                    <a:pt x="4988" y="688"/>
                  </a:lnTo>
                  <a:lnTo>
                    <a:pt x="5139" y="729"/>
                  </a:lnTo>
                  <a:lnTo>
                    <a:pt x="5287" y="772"/>
                  </a:lnTo>
                  <a:lnTo>
                    <a:pt x="5432" y="817"/>
                  </a:lnTo>
                  <a:lnTo>
                    <a:pt x="5503" y="838"/>
                  </a:lnTo>
                  <a:lnTo>
                    <a:pt x="5573" y="861"/>
                  </a:lnTo>
                  <a:lnTo>
                    <a:pt x="5643" y="884"/>
                  </a:lnTo>
                  <a:lnTo>
                    <a:pt x="5712" y="907"/>
                  </a:lnTo>
                  <a:lnTo>
                    <a:pt x="5780" y="931"/>
                  </a:lnTo>
                  <a:lnTo>
                    <a:pt x="5847" y="955"/>
                  </a:lnTo>
                  <a:lnTo>
                    <a:pt x="5914" y="979"/>
                  </a:lnTo>
                  <a:lnTo>
                    <a:pt x="5979" y="1003"/>
                  </a:lnTo>
                  <a:lnTo>
                    <a:pt x="6043" y="1027"/>
                  </a:lnTo>
                  <a:lnTo>
                    <a:pt x="6107" y="1053"/>
                  </a:lnTo>
                  <a:lnTo>
                    <a:pt x="6170" y="1077"/>
                  </a:lnTo>
                  <a:lnTo>
                    <a:pt x="6232" y="1103"/>
                  </a:lnTo>
                  <a:lnTo>
                    <a:pt x="6293" y="1128"/>
                  </a:lnTo>
                  <a:lnTo>
                    <a:pt x="6353" y="1155"/>
                  </a:lnTo>
                  <a:lnTo>
                    <a:pt x="6413" y="1180"/>
                  </a:lnTo>
                  <a:lnTo>
                    <a:pt x="6471" y="1207"/>
                  </a:lnTo>
                  <a:lnTo>
                    <a:pt x="6528" y="1233"/>
                  </a:lnTo>
                  <a:lnTo>
                    <a:pt x="6585" y="1261"/>
                  </a:lnTo>
                  <a:lnTo>
                    <a:pt x="6640" y="1287"/>
                  </a:lnTo>
                  <a:lnTo>
                    <a:pt x="6695" y="1315"/>
                  </a:lnTo>
                  <a:lnTo>
                    <a:pt x="6749" y="1342"/>
                  </a:lnTo>
                  <a:lnTo>
                    <a:pt x="6801" y="1370"/>
                  </a:lnTo>
                  <a:lnTo>
                    <a:pt x="6853" y="1398"/>
                  </a:lnTo>
                  <a:lnTo>
                    <a:pt x="6904" y="1426"/>
                  </a:lnTo>
                  <a:lnTo>
                    <a:pt x="6954" y="1454"/>
                  </a:lnTo>
                  <a:lnTo>
                    <a:pt x="7003" y="1483"/>
                  </a:lnTo>
                  <a:lnTo>
                    <a:pt x="7051" y="1512"/>
                  </a:lnTo>
                  <a:lnTo>
                    <a:pt x="7096" y="1541"/>
                  </a:lnTo>
                  <a:lnTo>
                    <a:pt x="7142" y="1570"/>
                  </a:lnTo>
                  <a:lnTo>
                    <a:pt x="7187" y="1599"/>
                  </a:lnTo>
                  <a:lnTo>
                    <a:pt x="7231" y="1629"/>
                  </a:lnTo>
                  <a:lnTo>
                    <a:pt x="7274" y="1659"/>
                  </a:lnTo>
                  <a:lnTo>
                    <a:pt x="7316" y="1688"/>
                  </a:lnTo>
                  <a:lnTo>
                    <a:pt x="7355" y="1719"/>
                  </a:lnTo>
                  <a:lnTo>
                    <a:pt x="7395" y="1748"/>
                  </a:lnTo>
                  <a:lnTo>
                    <a:pt x="7434" y="1779"/>
                  </a:lnTo>
                  <a:lnTo>
                    <a:pt x="7470" y="1809"/>
                  </a:lnTo>
                  <a:lnTo>
                    <a:pt x="7507" y="1841"/>
                  </a:lnTo>
                  <a:lnTo>
                    <a:pt x="7542" y="1872"/>
                  </a:lnTo>
                  <a:lnTo>
                    <a:pt x="7576" y="1903"/>
                  </a:lnTo>
                  <a:lnTo>
                    <a:pt x="7609" y="1934"/>
                  </a:lnTo>
                  <a:lnTo>
                    <a:pt x="7641" y="1965"/>
                  </a:lnTo>
                  <a:lnTo>
                    <a:pt x="7671" y="1997"/>
                  </a:lnTo>
                  <a:lnTo>
                    <a:pt x="7701" y="2028"/>
                  </a:lnTo>
                  <a:lnTo>
                    <a:pt x="7729" y="2060"/>
                  </a:lnTo>
                  <a:lnTo>
                    <a:pt x="7756" y="2093"/>
                  </a:lnTo>
                  <a:lnTo>
                    <a:pt x="7782" y="2124"/>
                  </a:lnTo>
                  <a:lnTo>
                    <a:pt x="7807" y="2157"/>
                  </a:lnTo>
                  <a:lnTo>
                    <a:pt x="7830" y="2188"/>
                  </a:lnTo>
                  <a:lnTo>
                    <a:pt x="7852" y="2221"/>
                  </a:lnTo>
                  <a:lnTo>
                    <a:pt x="7875" y="2253"/>
                  </a:lnTo>
                  <a:lnTo>
                    <a:pt x="7894" y="2286"/>
                  </a:lnTo>
                  <a:lnTo>
                    <a:pt x="7914" y="2319"/>
                  </a:lnTo>
                  <a:lnTo>
                    <a:pt x="7931" y="2351"/>
                  </a:lnTo>
                  <a:lnTo>
                    <a:pt x="7947" y="2384"/>
                  </a:lnTo>
                  <a:lnTo>
                    <a:pt x="7964" y="2417"/>
                  </a:lnTo>
                  <a:lnTo>
                    <a:pt x="7977" y="2450"/>
                  </a:lnTo>
                  <a:lnTo>
                    <a:pt x="7990" y="2484"/>
                  </a:lnTo>
                  <a:lnTo>
                    <a:pt x="8002" y="2516"/>
                  </a:lnTo>
                  <a:lnTo>
                    <a:pt x="8012" y="2550"/>
                  </a:lnTo>
                  <a:lnTo>
                    <a:pt x="8022" y="2582"/>
                  </a:lnTo>
                  <a:lnTo>
                    <a:pt x="8030" y="2616"/>
                  </a:lnTo>
                  <a:lnTo>
                    <a:pt x="8037" y="2650"/>
                  </a:lnTo>
                  <a:lnTo>
                    <a:pt x="8042" y="2683"/>
                  </a:lnTo>
                  <a:lnTo>
                    <a:pt x="8046" y="2717"/>
                  </a:lnTo>
                  <a:lnTo>
                    <a:pt x="8049" y="2750"/>
                  </a:lnTo>
                  <a:lnTo>
                    <a:pt x="8051" y="2784"/>
                  </a:lnTo>
                  <a:lnTo>
                    <a:pt x="8052" y="2819"/>
                  </a:lnTo>
                  <a:lnTo>
                    <a:pt x="8151" y="281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982560" y="2021040"/>
              <a:ext cx="345960" cy="115920"/>
            </a:xfrm>
            <a:custGeom>
              <a:avLst/>
              <a:gdLst/>
              <a:ahLst/>
              <a:rect l="l" t="t" r="r" b="b"/>
              <a:pathLst>
                <a:path w="5332" h="1799">
                  <a:moveTo>
                    <a:pt x="0" y="1404"/>
                  </a:moveTo>
                  <a:lnTo>
                    <a:pt x="1193" y="1799"/>
                  </a:lnTo>
                  <a:lnTo>
                    <a:pt x="4014" y="677"/>
                  </a:lnTo>
                  <a:lnTo>
                    <a:pt x="5332" y="997"/>
                  </a:lnTo>
                  <a:lnTo>
                    <a:pt x="4637" y="0"/>
                  </a:lnTo>
                  <a:lnTo>
                    <a:pt x="1239" y="0"/>
                  </a:lnTo>
                  <a:lnTo>
                    <a:pt x="2659" y="347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6603480" y="2160000"/>
              <a:ext cx="347400" cy="117360"/>
            </a:xfrm>
            <a:custGeom>
              <a:avLst/>
              <a:gdLst/>
              <a:ahLst/>
              <a:rect l="l" t="t" r="r" b="b"/>
              <a:pathLst>
                <a:path w="5332" h="1798">
                  <a:moveTo>
                    <a:pt x="5332" y="395"/>
                  </a:moveTo>
                  <a:lnTo>
                    <a:pt x="4138" y="0"/>
                  </a:lnTo>
                  <a:lnTo>
                    <a:pt x="1316" y="1122"/>
                  </a:lnTo>
                  <a:lnTo>
                    <a:pt x="0" y="801"/>
                  </a:lnTo>
                  <a:lnTo>
                    <a:pt x="694" y="1798"/>
                  </a:lnTo>
                  <a:lnTo>
                    <a:pt x="4092" y="1798"/>
                  </a:lnTo>
                  <a:lnTo>
                    <a:pt x="2672" y="1452"/>
                  </a:lnTo>
                  <a:lnTo>
                    <a:pt x="5332" y="3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622200" y="2017080"/>
              <a:ext cx="347400" cy="117360"/>
            </a:xfrm>
            <a:custGeom>
              <a:avLst/>
              <a:gdLst/>
              <a:ahLst/>
              <a:rect l="l" t="t" r="r" b="b"/>
              <a:pathLst>
                <a:path w="5332" h="1797">
                  <a:moveTo>
                    <a:pt x="0" y="394"/>
                  </a:moveTo>
                  <a:lnTo>
                    <a:pt x="1194" y="0"/>
                  </a:lnTo>
                  <a:lnTo>
                    <a:pt x="4016" y="1121"/>
                  </a:lnTo>
                  <a:lnTo>
                    <a:pt x="5332" y="800"/>
                  </a:lnTo>
                  <a:lnTo>
                    <a:pt x="4637" y="1797"/>
                  </a:lnTo>
                  <a:lnTo>
                    <a:pt x="1239" y="1797"/>
                  </a:lnTo>
                  <a:lnTo>
                    <a:pt x="2660" y="1451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971400" y="2168640"/>
              <a:ext cx="345960" cy="117000"/>
            </a:xfrm>
            <a:custGeom>
              <a:avLst/>
              <a:gdLst/>
              <a:ahLst/>
              <a:rect l="l" t="t" r="r" b="b"/>
              <a:pathLst>
                <a:path w="5331" h="1797">
                  <a:moveTo>
                    <a:pt x="5331" y="1403"/>
                  </a:moveTo>
                  <a:lnTo>
                    <a:pt x="4138" y="1797"/>
                  </a:lnTo>
                  <a:lnTo>
                    <a:pt x="1317" y="676"/>
                  </a:lnTo>
                  <a:lnTo>
                    <a:pt x="0" y="996"/>
                  </a:lnTo>
                  <a:lnTo>
                    <a:pt x="695" y="0"/>
                  </a:lnTo>
                  <a:lnTo>
                    <a:pt x="4092" y="0"/>
                  </a:lnTo>
                  <a:lnTo>
                    <a:pt x="2672" y="346"/>
                  </a:lnTo>
                  <a:lnTo>
                    <a:pt x="5331" y="140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988680" y="2027160"/>
              <a:ext cx="347400" cy="117360"/>
            </a:xfrm>
            <a:custGeom>
              <a:avLst/>
              <a:gdLst/>
              <a:ahLst/>
              <a:rect l="l" t="t" r="r" b="b"/>
              <a:pathLst>
                <a:path w="5331" h="1798">
                  <a:moveTo>
                    <a:pt x="0" y="1403"/>
                  </a:moveTo>
                  <a:lnTo>
                    <a:pt x="1193" y="1798"/>
                  </a:lnTo>
                  <a:lnTo>
                    <a:pt x="4015" y="676"/>
                  </a:lnTo>
                  <a:lnTo>
                    <a:pt x="5331" y="997"/>
                  </a:lnTo>
                  <a:lnTo>
                    <a:pt x="4637" y="0"/>
                  </a:lnTo>
                  <a:lnTo>
                    <a:pt x="1239" y="0"/>
                  </a:lnTo>
                  <a:lnTo>
                    <a:pt x="2659" y="346"/>
                  </a:lnTo>
                  <a:lnTo>
                    <a:pt x="0" y="14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610680" y="2167200"/>
              <a:ext cx="345960" cy="115560"/>
            </a:xfrm>
            <a:custGeom>
              <a:avLst/>
              <a:gdLst/>
              <a:ahLst/>
              <a:rect l="l" t="t" r="r" b="b"/>
              <a:pathLst>
                <a:path w="5332" h="1798">
                  <a:moveTo>
                    <a:pt x="5332" y="395"/>
                  </a:moveTo>
                  <a:lnTo>
                    <a:pt x="4137" y="0"/>
                  </a:lnTo>
                  <a:lnTo>
                    <a:pt x="1316" y="1122"/>
                  </a:lnTo>
                  <a:lnTo>
                    <a:pt x="0" y="801"/>
                  </a:lnTo>
                  <a:lnTo>
                    <a:pt x="695" y="1798"/>
                  </a:lnTo>
                  <a:lnTo>
                    <a:pt x="4093" y="1798"/>
                  </a:lnTo>
                  <a:lnTo>
                    <a:pt x="2672" y="1452"/>
                  </a:lnTo>
                  <a:lnTo>
                    <a:pt x="5332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629400" y="2024280"/>
              <a:ext cx="345960" cy="115560"/>
            </a:xfrm>
            <a:custGeom>
              <a:avLst/>
              <a:gdLst/>
              <a:ahLst/>
              <a:rect l="l" t="t" r="r" b="b"/>
              <a:pathLst>
                <a:path w="5332" h="1798">
                  <a:moveTo>
                    <a:pt x="0" y="394"/>
                  </a:moveTo>
                  <a:lnTo>
                    <a:pt x="1194" y="0"/>
                  </a:lnTo>
                  <a:lnTo>
                    <a:pt x="4016" y="1121"/>
                  </a:lnTo>
                  <a:lnTo>
                    <a:pt x="5332" y="802"/>
                  </a:lnTo>
                  <a:lnTo>
                    <a:pt x="4637" y="1798"/>
                  </a:lnTo>
                  <a:lnTo>
                    <a:pt x="1239" y="1798"/>
                  </a:lnTo>
                  <a:lnTo>
                    <a:pt x="2659" y="1451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978600" y="2174400"/>
              <a:ext cx="345960" cy="117360"/>
            </a:xfrm>
            <a:custGeom>
              <a:avLst/>
              <a:gdLst/>
              <a:ahLst/>
              <a:rect l="l" t="t" r="r" b="b"/>
              <a:pathLst>
                <a:path w="5332" h="1797">
                  <a:moveTo>
                    <a:pt x="5332" y="1403"/>
                  </a:moveTo>
                  <a:lnTo>
                    <a:pt x="4139" y="1797"/>
                  </a:lnTo>
                  <a:lnTo>
                    <a:pt x="1318" y="676"/>
                  </a:lnTo>
                  <a:lnTo>
                    <a:pt x="0" y="996"/>
                  </a:lnTo>
                  <a:lnTo>
                    <a:pt x="695" y="0"/>
                  </a:lnTo>
                  <a:lnTo>
                    <a:pt x="4093" y="0"/>
                  </a:lnTo>
                  <a:lnTo>
                    <a:pt x="2673" y="346"/>
                  </a:lnTo>
                  <a:lnTo>
                    <a:pt x="5332" y="14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438960" y="2151720"/>
              <a:ext cx="5760" cy="252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38960" y="2154240"/>
              <a:ext cx="5760" cy="25920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438960" y="2413440"/>
              <a:ext cx="5760" cy="396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493400" y="2151720"/>
              <a:ext cx="5760" cy="252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493400" y="2154240"/>
              <a:ext cx="5760" cy="25920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493400" y="2413440"/>
              <a:ext cx="5760" cy="396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76640" y="2355840"/>
              <a:ext cx="386280" cy="208800"/>
            </a:xfrm>
            <a:custGeom>
              <a:avLst/>
              <a:gdLst/>
              <a:ahLst/>
              <a:rect l="l" t="t" r="r" b="b"/>
              <a:pathLst>
                <a:path w="5925" h="3218">
                  <a:moveTo>
                    <a:pt x="5925" y="1610"/>
                  </a:moveTo>
                  <a:lnTo>
                    <a:pt x="5921" y="1692"/>
                  </a:lnTo>
                  <a:lnTo>
                    <a:pt x="5910" y="1774"/>
                  </a:lnTo>
                  <a:lnTo>
                    <a:pt x="5891" y="1854"/>
                  </a:lnTo>
                  <a:lnTo>
                    <a:pt x="5865" y="1933"/>
                  </a:lnTo>
                  <a:lnTo>
                    <a:pt x="5832" y="2011"/>
                  </a:lnTo>
                  <a:lnTo>
                    <a:pt x="5792" y="2087"/>
                  </a:lnTo>
                  <a:lnTo>
                    <a:pt x="5746" y="2163"/>
                  </a:lnTo>
                  <a:lnTo>
                    <a:pt x="5693" y="2235"/>
                  </a:lnTo>
                  <a:lnTo>
                    <a:pt x="5633" y="2306"/>
                  </a:lnTo>
                  <a:lnTo>
                    <a:pt x="5567" y="2376"/>
                  </a:lnTo>
                  <a:lnTo>
                    <a:pt x="5496" y="2444"/>
                  </a:lnTo>
                  <a:lnTo>
                    <a:pt x="5419" y="2509"/>
                  </a:lnTo>
                  <a:lnTo>
                    <a:pt x="5336" y="2572"/>
                  </a:lnTo>
                  <a:lnTo>
                    <a:pt x="5249" y="2633"/>
                  </a:lnTo>
                  <a:lnTo>
                    <a:pt x="5156" y="2691"/>
                  </a:lnTo>
                  <a:lnTo>
                    <a:pt x="5057" y="2747"/>
                  </a:lnTo>
                  <a:lnTo>
                    <a:pt x="4954" y="2800"/>
                  </a:lnTo>
                  <a:lnTo>
                    <a:pt x="4847" y="2851"/>
                  </a:lnTo>
                  <a:lnTo>
                    <a:pt x="4735" y="2899"/>
                  </a:lnTo>
                  <a:lnTo>
                    <a:pt x="4619" y="2944"/>
                  </a:lnTo>
                  <a:lnTo>
                    <a:pt x="4499" y="2985"/>
                  </a:lnTo>
                  <a:lnTo>
                    <a:pt x="4374" y="3024"/>
                  </a:lnTo>
                  <a:lnTo>
                    <a:pt x="4247" y="3060"/>
                  </a:lnTo>
                  <a:lnTo>
                    <a:pt x="4116" y="3092"/>
                  </a:lnTo>
                  <a:lnTo>
                    <a:pt x="3981" y="3121"/>
                  </a:lnTo>
                  <a:lnTo>
                    <a:pt x="3844" y="3146"/>
                  </a:lnTo>
                  <a:lnTo>
                    <a:pt x="3703" y="3168"/>
                  </a:lnTo>
                  <a:lnTo>
                    <a:pt x="3559" y="3186"/>
                  </a:lnTo>
                  <a:lnTo>
                    <a:pt x="3414" y="3200"/>
                  </a:lnTo>
                  <a:lnTo>
                    <a:pt x="3266" y="3210"/>
                  </a:lnTo>
                  <a:lnTo>
                    <a:pt x="3115" y="3216"/>
                  </a:lnTo>
                  <a:lnTo>
                    <a:pt x="2963" y="3218"/>
                  </a:lnTo>
                  <a:lnTo>
                    <a:pt x="2810" y="3216"/>
                  </a:lnTo>
                  <a:lnTo>
                    <a:pt x="2661" y="3210"/>
                  </a:lnTo>
                  <a:lnTo>
                    <a:pt x="2512" y="3200"/>
                  </a:lnTo>
                  <a:lnTo>
                    <a:pt x="2366" y="3186"/>
                  </a:lnTo>
                  <a:lnTo>
                    <a:pt x="2222" y="3168"/>
                  </a:lnTo>
                  <a:lnTo>
                    <a:pt x="2082" y="3146"/>
                  </a:lnTo>
                  <a:lnTo>
                    <a:pt x="1944" y="3121"/>
                  </a:lnTo>
                  <a:lnTo>
                    <a:pt x="1810" y="3092"/>
                  </a:lnTo>
                  <a:lnTo>
                    <a:pt x="1678" y="3060"/>
                  </a:lnTo>
                  <a:lnTo>
                    <a:pt x="1551" y="3024"/>
                  </a:lnTo>
                  <a:lnTo>
                    <a:pt x="1427" y="2985"/>
                  </a:lnTo>
                  <a:lnTo>
                    <a:pt x="1307" y="2944"/>
                  </a:lnTo>
                  <a:lnTo>
                    <a:pt x="1190" y="2899"/>
                  </a:lnTo>
                  <a:lnTo>
                    <a:pt x="1079" y="2851"/>
                  </a:lnTo>
                  <a:lnTo>
                    <a:pt x="971" y="2800"/>
                  </a:lnTo>
                  <a:lnTo>
                    <a:pt x="868" y="2747"/>
                  </a:lnTo>
                  <a:lnTo>
                    <a:pt x="771" y="2691"/>
                  </a:lnTo>
                  <a:lnTo>
                    <a:pt x="677" y="2633"/>
                  </a:lnTo>
                  <a:lnTo>
                    <a:pt x="589" y="2572"/>
                  </a:lnTo>
                  <a:lnTo>
                    <a:pt x="507" y="2509"/>
                  </a:lnTo>
                  <a:lnTo>
                    <a:pt x="429" y="2444"/>
                  </a:lnTo>
                  <a:lnTo>
                    <a:pt x="358" y="2376"/>
                  </a:lnTo>
                  <a:lnTo>
                    <a:pt x="293" y="2306"/>
                  </a:lnTo>
                  <a:lnTo>
                    <a:pt x="234" y="2235"/>
                  </a:lnTo>
                  <a:lnTo>
                    <a:pt x="181" y="2163"/>
                  </a:lnTo>
                  <a:lnTo>
                    <a:pt x="134" y="2087"/>
                  </a:lnTo>
                  <a:lnTo>
                    <a:pt x="94" y="2011"/>
                  </a:lnTo>
                  <a:lnTo>
                    <a:pt x="60" y="1933"/>
                  </a:lnTo>
                  <a:lnTo>
                    <a:pt x="35" y="1854"/>
                  </a:lnTo>
                  <a:lnTo>
                    <a:pt x="16" y="1774"/>
                  </a:lnTo>
                  <a:lnTo>
                    <a:pt x="4" y="1692"/>
                  </a:lnTo>
                  <a:lnTo>
                    <a:pt x="0" y="1610"/>
                  </a:lnTo>
                  <a:lnTo>
                    <a:pt x="4" y="1526"/>
                  </a:lnTo>
                  <a:lnTo>
                    <a:pt x="16" y="1445"/>
                  </a:lnTo>
                  <a:lnTo>
                    <a:pt x="35" y="1364"/>
                  </a:lnTo>
                  <a:lnTo>
                    <a:pt x="60" y="1285"/>
                  </a:lnTo>
                  <a:lnTo>
                    <a:pt x="94" y="1207"/>
                  </a:lnTo>
                  <a:lnTo>
                    <a:pt x="134" y="1131"/>
                  </a:lnTo>
                  <a:lnTo>
                    <a:pt x="181" y="1056"/>
                  </a:lnTo>
                  <a:lnTo>
                    <a:pt x="234" y="983"/>
                  </a:lnTo>
                  <a:lnTo>
                    <a:pt x="293" y="912"/>
                  </a:lnTo>
                  <a:lnTo>
                    <a:pt x="358" y="843"/>
                  </a:lnTo>
                  <a:lnTo>
                    <a:pt x="429" y="775"/>
                  </a:lnTo>
                  <a:lnTo>
                    <a:pt x="507" y="709"/>
                  </a:lnTo>
                  <a:lnTo>
                    <a:pt x="589" y="646"/>
                  </a:lnTo>
                  <a:lnTo>
                    <a:pt x="677" y="586"/>
                  </a:lnTo>
                  <a:lnTo>
                    <a:pt x="771" y="527"/>
                  </a:lnTo>
                  <a:lnTo>
                    <a:pt x="868" y="471"/>
                  </a:lnTo>
                  <a:lnTo>
                    <a:pt x="971" y="418"/>
                  </a:lnTo>
                  <a:lnTo>
                    <a:pt x="1079" y="367"/>
                  </a:lnTo>
                  <a:lnTo>
                    <a:pt x="1190" y="319"/>
                  </a:lnTo>
                  <a:lnTo>
                    <a:pt x="1307" y="275"/>
                  </a:lnTo>
                  <a:lnTo>
                    <a:pt x="1427" y="233"/>
                  </a:lnTo>
                  <a:lnTo>
                    <a:pt x="1551" y="194"/>
                  </a:lnTo>
                  <a:lnTo>
                    <a:pt x="1678" y="159"/>
                  </a:lnTo>
                  <a:lnTo>
                    <a:pt x="1810" y="127"/>
                  </a:lnTo>
                  <a:lnTo>
                    <a:pt x="1944" y="98"/>
                  </a:lnTo>
                  <a:lnTo>
                    <a:pt x="2082" y="72"/>
                  </a:lnTo>
                  <a:lnTo>
                    <a:pt x="2222" y="51"/>
                  </a:lnTo>
                  <a:lnTo>
                    <a:pt x="2366" y="32"/>
                  </a:lnTo>
                  <a:lnTo>
                    <a:pt x="2512" y="19"/>
                  </a:lnTo>
                  <a:lnTo>
                    <a:pt x="2661" y="9"/>
                  </a:lnTo>
                  <a:lnTo>
                    <a:pt x="2810" y="2"/>
                  </a:lnTo>
                  <a:lnTo>
                    <a:pt x="2963" y="0"/>
                  </a:lnTo>
                  <a:lnTo>
                    <a:pt x="3115" y="2"/>
                  </a:lnTo>
                  <a:lnTo>
                    <a:pt x="3266" y="9"/>
                  </a:lnTo>
                  <a:lnTo>
                    <a:pt x="3414" y="19"/>
                  </a:lnTo>
                  <a:lnTo>
                    <a:pt x="3559" y="32"/>
                  </a:lnTo>
                  <a:lnTo>
                    <a:pt x="3703" y="51"/>
                  </a:lnTo>
                  <a:lnTo>
                    <a:pt x="3844" y="72"/>
                  </a:lnTo>
                  <a:lnTo>
                    <a:pt x="3981" y="98"/>
                  </a:lnTo>
                  <a:lnTo>
                    <a:pt x="4116" y="127"/>
                  </a:lnTo>
                  <a:lnTo>
                    <a:pt x="4247" y="159"/>
                  </a:lnTo>
                  <a:lnTo>
                    <a:pt x="4374" y="194"/>
                  </a:lnTo>
                  <a:lnTo>
                    <a:pt x="4499" y="233"/>
                  </a:lnTo>
                  <a:lnTo>
                    <a:pt x="4619" y="275"/>
                  </a:lnTo>
                  <a:lnTo>
                    <a:pt x="4735" y="319"/>
                  </a:lnTo>
                  <a:lnTo>
                    <a:pt x="4847" y="367"/>
                  </a:lnTo>
                  <a:lnTo>
                    <a:pt x="4954" y="418"/>
                  </a:lnTo>
                  <a:lnTo>
                    <a:pt x="5057" y="471"/>
                  </a:lnTo>
                  <a:lnTo>
                    <a:pt x="5156" y="527"/>
                  </a:lnTo>
                  <a:lnTo>
                    <a:pt x="5249" y="586"/>
                  </a:lnTo>
                  <a:lnTo>
                    <a:pt x="5336" y="646"/>
                  </a:lnTo>
                  <a:lnTo>
                    <a:pt x="5419" y="709"/>
                  </a:lnTo>
                  <a:lnTo>
                    <a:pt x="5496" y="775"/>
                  </a:lnTo>
                  <a:lnTo>
                    <a:pt x="5567" y="843"/>
                  </a:lnTo>
                  <a:lnTo>
                    <a:pt x="5633" y="912"/>
                  </a:lnTo>
                  <a:lnTo>
                    <a:pt x="5693" y="983"/>
                  </a:lnTo>
                  <a:lnTo>
                    <a:pt x="5746" y="1056"/>
                  </a:lnTo>
                  <a:lnTo>
                    <a:pt x="5792" y="1131"/>
                  </a:lnTo>
                  <a:lnTo>
                    <a:pt x="5832" y="1207"/>
                  </a:lnTo>
                  <a:lnTo>
                    <a:pt x="5865" y="1285"/>
                  </a:lnTo>
                  <a:lnTo>
                    <a:pt x="5891" y="1364"/>
                  </a:lnTo>
                  <a:lnTo>
                    <a:pt x="5910" y="1445"/>
                  </a:lnTo>
                  <a:lnTo>
                    <a:pt x="5921" y="1526"/>
                  </a:lnTo>
                  <a:lnTo>
                    <a:pt x="5925" y="1610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967080" y="2460600"/>
              <a:ext cx="198720" cy="107280"/>
            </a:xfrm>
            <a:custGeom>
              <a:avLst/>
              <a:gdLst/>
              <a:ahLst/>
              <a:rect l="l" t="t" r="r" b="b"/>
              <a:pathLst>
                <a:path w="3062" h="1657">
                  <a:moveTo>
                    <a:pt x="50" y="1657"/>
                  </a:moveTo>
                  <a:lnTo>
                    <a:pt x="50" y="1657"/>
                  </a:lnTo>
                  <a:lnTo>
                    <a:pt x="127" y="1657"/>
                  </a:lnTo>
                  <a:lnTo>
                    <a:pt x="204" y="1655"/>
                  </a:lnTo>
                  <a:lnTo>
                    <a:pt x="279" y="1653"/>
                  </a:lnTo>
                  <a:lnTo>
                    <a:pt x="356" y="1649"/>
                  </a:lnTo>
                  <a:lnTo>
                    <a:pt x="430" y="1644"/>
                  </a:lnTo>
                  <a:lnTo>
                    <a:pt x="505" y="1639"/>
                  </a:lnTo>
                  <a:lnTo>
                    <a:pt x="579" y="1632"/>
                  </a:lnTo>
                  <a:lnTo>
                    <a:pt x="652" y="1625"/>
                  </a:lnTo>
                  <a:lnTo>
                    <a:pt x="725" y="1616"/>
                  </a:lnTo>
                  <a:lnTo>
                    <a:pt x="797" y="1606"/>
                  </a:lnTo>
                  <a:lnTo>
                    <a:pt x="868" y="1596"/>
                  </a:lnTo>
                  <a:lnTo>
                    <a:pt x="939" y="1585"/>
                  </a:lnTo>
                  <a:lnTo>
                    <a:pt x="1009" y="1572"/>
                  </a:lnTo>
                  <a:lnTo>
                    <a:pt x="1078" y="1559"/>
                  </a:lnTo>
                  <a:lnTo>
                    <a:pt x="1147" y="1545"/>
                  </a:lnTo>
                  <a:lnTo>
                    <a:pt x="1214" y="1530"/>
                  </a:lnTo>
                  <a:lnTo>
                    <a:pt x="1280" y="1514"/>
                  </a:lnTo>
                  <a:lnTo>
                    <a:pt x="1346" y="1497"/>
                  </a:lnTo>
                  <a:lnTo>
                    <a:pt x="1411" y="1480"/>
                  </a:lnTo>
                  <a:lnTo>
                    <a:pt x="1476" y="1461"/>
                  </a:lnTo>
                  <a:lnTo>
                    <a:pt x="1539" y="1443"/>
                  </a:lnTo>
                  <a:lnTo>
                    <a:pt x="1601" y="1422"/>
                  </a:lnTo>
                  <a:lnTo>
                    <a:pt x="1662" y="1401"/>
                  </a:lnTo>
                  <a:lnTo>
                    <a:pt x="1723" y="1379"/>
                  </a:lnTo>
                  <a:lnTo>
                    <a:pt x="1782" y="1357"/>
                  </a:lnTo>
                  <a:lnTo>
                    <a:pt x="1840" y="1335"/>
                  </a:lnTo>
                  <a:lnTo>
                    <a:pt x="1897" y="1310"/>
                  </a:lnTo>
                  <a:lnTo>
                    <a:pt x="1954" y="1286"/>
                  </a:lnTo>
                  <a:lnTo>
                    <a:pt x="2010" y="1260"/>
                  </a:lnTo>
                  <a:lnTo>
                    <a:pt x="2064" y="1235"/>
                  </a:lnTo>
                  <a:lnTo>
                    <a:pt x="2116" y="1207"/>
                  </a:lnTo>
                  <a:lnTo>
                    <a:pt x="2168" y="1180"/>
                  </a:lnTo>
                  <a:lnTo>
                    <a:pt x="2218" y="1152"/>
                  </a:lnTo>
                  <a:lnTo>
                    <a:pt x="2267" y="1123"/>
                  </a:lnTo>
                  <a:lnTo>
                    <a:pt x="2316" y="1094"/>
                  </a:lnTo>
                  <a:lnTo>
                    <a:pt x="2363" y="1064"/>
                  </a:lnTo>
                  <a:lnTo>
                    <a:pt x="2408" y="1033"/>
                  </a:lnTo>
                  <a:lnTo>
                    <a:pt x="2453" y="1002"/>
                  </a:lnTo>
                  <a:lnTo>
                    <a:pt x="2496" y="970"/>
                  </a:lnTo>
                  <a:lnTo>
                    <a:pt x="2537" y="937"/>
                  </a:lnTo>
                  <a:lnTo>
                    <a:pt x="2577" y="904"/>
                  </a:lnTo>
                  <a:lnTo>
                    <a:pt x="2616" y="870"/>
                  </a:lnTo>
                  <a:lnTo>
                    <a:pt x="2653" y="836"/>
                  </a:lnTo>
                  <a:lnTo>
                    <a:pt x="2689" y="801"/>
                  </a:lnTo>
                  <a:lnTo>
                    <a:pt x="2724" y="765"/>
                  </a:lnTo>
                  <a:lnTo>
                    <a:pt x="2757" y="730"/>
                  </a:lnTo>
                  <a:lnTo>
                    <a:pt x="2788" y="693"/>
                  </a:lnTo>
                  <a:lnTo>
                    <a:pt x="2818" y="655"/>
                  </a:lnTo>
                  <a:lnTo>
                    <a:pt x="2847" y="618"/>
                  </a:lnTo>
                  <a:lnTo>
                    <a:pt x="2874" y="580"/>
                  </a:lnTo>
                  <a:lnTo>
                    <a:pt x="2899" y="541"/>
                  </a:lnTo>
                  <a:lnTo>
                    <a:pt x="2922" y="502"/>
                  </a:lnTo>
                  <a:lnTo>
                    <a:pt x="2944" y="462"/>
                  </a:lnTo>
                  <a:lnTo>
                    <a:pt x="2963" y="422"/>
                  </a:lnTo>
                  <a:lnTo>
                    <a:pt x="2982" y="381"/>
                  </a:lnTo>
                  <a:lnTo>
                    <a:pt x="2999" y="341"/>
                  </a:lnTo>
                  <a:lnTo>
                    <a:pt x="3013" y="299"/>
                  </a:lnTo>
                  <a:lnTo>
                    <a:pt x="3025" y="257"/>
                  </a:lnTo>
                  <a:lnTo>
                    <a:pt x="3037" y="215"/>
                  </a:lnTo>
                  <a:lnTo>
                    <a:pt x="3046" y="173"/>
                  </a:lnTo>
                  <a:lnTo>
                    <a:pt x="3053" y="130"/>
                  </a:lnTo>
                  <a:lnTo>
                    <a:pt x="3058" y="86"/>
                  </a:lnTo>
                  <a:lnTo>
                    <a:pt x="3061" y="43"/>
                  </a:lnTo>
                  <a:lnTo>
                    <a:pt x="3062" y="0"/>
                  </a:lnTo>
                  <a:lnTo>
                    <a:pt x="2963" y="0"/>
                  </a:lnTo>
                  <a:lnTo>
                    <a:pt x="2962" y="38"/>
                  </a:lnTo>
                  <a:lnTo>
                    <a:pt x="2959" y="77"/>
                  </a:lnTo>
                  <a:lnTo>
                    <a:pt x="2955" y="116"/>
                  </a:lnTo>
                  <a:lnTo>
                    <a:pt x="2949" y="154"/>
                  </a:lnTo>
                  <a:lnTo>
                    <a:pt x="2941" y="193"/>
                  </a:lnTo>
                  <a:lnTo>
                    <a:pt x="2931" y="231"/>
                  </a:lnTo>
                  <a:lnTo>
                    <a:pt x="2919" y="268"/>
                  </a:lnTo>
                  <a:lnTo>
                    <a:pt x="2906" y="306"/>
                  </a:lnTo>
                  <a:lnTo>
                    <a:pt x="2891" y="343"/>
                  </a:lnTo>
                  <a:lnTo>
                    <a:pt x="2875" y="380"/>
                  </a:lnTo>
                  <a:lnTo>
                    <a:pt x="2856" y="417"/>
                  </a:lnTo>
                  <a:lnTo>
                    <a:pt x="2836" y="453"/>
                  </a:lnTo>
                  <a:lnTo>
                    <a:pt x="2814" y="489"/>
                  </a:lnTo>
                  <a:lnTo>
                    <a:pt x="2791" y="525"/>
                  </a:lnTo>
                  <a:lnTo>
                    <a:pt x="2767" y="560"/>
                  </a:lnTo>
                  <a:lnTo>
                    <a:pt x="2740" y="595"/>
                  </a:lnTo>
                  <a:lnTo>
                    <a:pt x="2713" y="630"/>
                  </a:lnTo>
                  <a:lnTo>
                    <a:pt x="2683" y="664"/>
                  </a:lnTo>
                  <a:lnTo>
                    <a:pt x="2652" y="698"/>
                  </a:lnTo>
                  <a:lnTo>
                    <a:pt x="2620" y="731"/>
                  </a:lnTo>
                  <a:lnTo>
                    <a:pt x="2586" y="764"/>
                  </a:lnTo>
                  <a:lnTo>
                    <a:pt x="2551" y="797"/>
                  </a:lnTo>
                  <a:lnTo>
                    <a:pt x="2514" y="828"/>
                  </a:lnTo>
                  <a:lnTo>
                    <a:pt x="2475" y="860"/>
                  </a:lnTo>
                  <a:lnTo>
                    <a:pt x="2435" y="892"/>
                  </a:lnTo>
                  <a:lnTo>
                    <a:pt x="2395" y="922"/>
                  </a:lnTo>
                  <a:lnTo>
                    <a:pt x="2352" y="952"/>
                  </a:lnTo>
                  <a:lnTo>
                    <a:pt x="2308" y="981"/>
                  </a:lnTo>
                  <a:lnTo>
                    <a:pt x="2263" y="1011"/>
                  </a:lnTo>
                  <a:lnTo>
                    <a:pt x="2217" y="1038"/>
                  </a:lnTo>
                  <a:lnTo>
                    <a:pt x="2169" y="1067"/>
                  </a:lnTo>
                  <a:lnTo>
                    <a:pt x="2121" y="1093"/>
                  </a:lnTo>
                  <a:lnTo>
                    <a:pt x="2071" y="1120"/>
                  </a:lnTo>
                  <a:lnTo>
                    <a:pt x="2020" y="1146"/>
                  </a:lnTo>
                  <a:lnTo>
                    <a:pt x="1967" y="1171"/>
                  </a:lnTo>
                  <a:lnTo>
                    <a:pt x="1914" y="1196"/>
                  </a:lnTo>
                  <a:lnTo>
                    <a:pt x="1859" y="1220"/>
                  </a:lnTo>
                  <a:lnTo>
                    <a:pt x="1804" y="1243"/>
                  </a:lnTo>
                  <a:lnTo>
                    <a:pt x="1747" y="1265"/>
                  </a:lnTo>
                  <a:lnTo>
                    <a:pt x="1689" y="1287"/>
                  </a:lnTo>
                  <a:lnTo>
                    <a:pt x="1630" y="1308"/>
                  </a:lnTo>
                  <a:lnTo>
                    <a:pt x="1570" y="1328"/>
                  </a:lnTo>
                  <a:lnTo>
                    <a:pt x="1509" y="1348"/>
                  </a:lnTo>
                  <a:lnTo>
                    <a:pt x="1448" y="1366"/>
                  </a:lnTo>
                  <a:lnTo>
                    <a:pt x="1385" y="1384"/>
                  </a:lnTo>
                  <a:lnTo>
                    <a:pt x="1322" y="1402"/>
                  </a:lnTo>
                  <a:lnTo>
                    <a:pt x="1257" y="1418"/>
                  </a:lnTo>
                  <a:lnTo>
                    <a:pt x="1191" y="1433"/>
                  </a:lnTo>
                  <a:lnTo>
                    <a:pt x="1125" y="1449"/>
                  </a:lnTo>
                  <a:lnTo>
                    <a:pt x="1059" y="1462"/>
                  </a:lnTo>
                  <a:lnTo>
                    <a:pt x="991" y="1475"/>
                  </a:lnTo>
                  <a:lnTo>
                    <a:pt x="922" y="1487"/>
                  </a:lnTo>
                  <a:lnTo>
                    <a:pt x="853" y="1499"/>
                  </a:lnTo>
                  <a:lnTo>
                    <a:pt x="783" y="1509"/>
                  </a:lnTo>
                  <a:lnTo>
                    <a:pt x="712" y="1518"/>
                  </a:lnTo>
                  <a:lnTo>
                    <a:pt x="641" y="1526"/>
                  </a:lnTo>
                  <a:lnTo>
                    <a:pt x="570" y="1534"/>
                  </a:lnTo>
                  <a:lnTo>
                    <a:pt x="496" y="1540"/>
                  </a:lnTo>
                  <a:lnTo>
                    <a:pt x="424" y="1546"/>
                  </a:lnTo>
                  <a:lnTo>
                    <a:pt x="350" y="1550"/>
                  </a:lnTo>
                  <a:lnTo>
                    <a:pt x="275" y="1555"/>
                  </a:lnTo>
                  <a:lnTo>
                    <a:pt x="201" y="1557"/>
                  </a:lnTo>
                  <a:lnTo>
                    <a:pt x="126" y="1559"/>
                  </a:lnTo>
                  <a:lnTo>
                    <a:pt x="50" y="1559"/>
                  </a:lnTo>
                  <a:lnTo>
                    <a:pt x="50" y="1559"/>
                  </a:lnTo>
                  <a:lnTo>
                    <a:pt x="50" y="1559"/>
                  </a:lnTo>
                  <a:lnTo>
                    <a:pt x="44" y="1559"/>
                  </a:lnTo>
                  <a:lnTo>
                    <a:pt x="38" y="1560"/>
                  </a:lnTo>
                  <a:lnTo>
                    <a:pt x="33" y="1562"/>
                  </a:lnTo>
                  <a:lnTo>
                    <a:pt x="28" y="1563"/>
                  </a:lnTo>
                  <a:lnTo>
                    <a:pt x="24" y="1566"/>
                  </a:lnTo>
                  <a:lnTo>
                    <a:pt x="20" y="1568"/>
                  </a:lnTo>
                  <a:lnTo>
                    <a:pt x="17" y="1571"/>
                  </a:lnTo>
                  <a:lnTo>
                    <a:pt x="13" y="1574"/>
                  </a:lnTo>
                  <a:lnTo>
                    <a:pt x="7" y="1582"/>
                  </a:lnTo>
                  <a:lnTo>
                    <a:pt x="3" y="1590"/>
                  </a:lnTo>
                  <a:lnTo>
                    <a:pt x="1" y="1599"/>
                  </a:lnTo>
                  <a:lnTo>
                    <a:pt x="0" y="1608"/>
                  </a:lnTo>
                  <a:lnTo>
                    <a:pt x="1" y="1618"/>
                  </a:lnTo>
                  <a:lnTo>
                    <a:pt x="3" y="1627"/>
                  </a:lnTo>
                  <a:lnTo>
                    <a:pt x="7" y="1635"/>
                  </a:lnTo>
                  <a:lnTo>
                    <a:pt x="13" y="1642"/>
                  </a:lnTo>
                  <a:lnTo>
                    <a:pt x="17" y="1645"/>
                  </a:lnTo>
                  <a:lnTo>
                    <a:pt x="20" y="1648"/>
                  </a:lnTo>
                  <a:lnTo>
                    <a:pt x="24" y="1651"/>
                  </a:lnTo>
                  <a:lnTo>
                    <a:pt x="28" y="1653"/>
                  </a:lnTo>
                  <a:lnTo>
                    <a:pt x="33" y="1655"/>
                  </a:lnTo>
                  <a:lnTo>
                    <a:pt x="38" y="1656"/>
                  </a:lnTo>
                  <a:lnTo>
                    <a:pt x="44" y="1657"/>
                  </a:lnTo>
                  <a:lnTo>
                    <a:pt x="50" y="165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773760" y="2457720"/>
              <a:ext cx="195840" cy="110160"/>
            </a:xfrm>
            <a:custGeom>
              <a:avLst/>
              <a:gdLst/>
              <a:ahLst/>
              <a:rect l="l" t="t" r="r" b="b"/>
              <a:pathLst>
                <a:path w="3012" h="1707">
                  <a:moveTo>
                    <a:pt x="0" y="50"/>
                  </a:moveTo>
                  <a:lnTo>
                    <a:pt x="0" y="50"/>
                  </a:lnTo>
                  <a:lnTo>
                    <a:pt x="1" y="92"/>
                  </a:lnTo>
                  <a:lnTo>
                    <a:pt x="4" y="136"/>
                  </a:lnTo>
                  <a:lnTo>
                    <a:pt x="10" y="180"/>
                  </a:lnTo>
                  <a:lnTo>
                    <a:pt x="17" y="223"/>
                  </a:lnTo>
                  <a:lnTo>
                    <a:pt x="25" y="265"/>
                  </a:lnTo>
                  <a:lnTo>
                    <a:pt x="36" y="307"/>
                  </a:lnTo>
                  <a:lnTo>
                    <a:pt x="48" y="349"/>
                  </a:lnTo>
                  <a:lnTo>
                    <a:pt x="64" y="391"/>
                  </a:lnTo>
                  <a:lnTo>
                    <a:pt x="80" y="431"/>
                  </a:lnTo>
                  <a:lnTo>
                    <a:pt x="98" y="472"/>
                  </a:lnTo>
                  <a:lnTo>
                    <a:pt x="119" y="512"/>
                  </a:lnTo>
                  <a:lnTo>
                    <a:pt x="140" y="552"/>
                  </a:lnTo>
                  <a:lnTo>
                    <a:pt x="163" y="591"/>
                  </a:lnTo>
                  <a:lnTo>
                    <a:pt x="188" y="630"/>
                  </a:lnTo>
                  <a:lnTo>
                    <a:pt x="215" y="668"/>
                  </a:lnTo>
                  <a:lnTo>
                    <a:pt x="243" y="705"/>
                  </a:lnTo>
                  <a:lnTo>
                    <a:pt x="273" y="743"/>
                  </a:lnTo>
                  <a:lnTo>
                    <a:pt x="305" y="780"/>
                  </a:lnTo>
                  <a:lnTo>
                    <a:pt x="338" y="815"/>
                  </a:lnTo>
                  <a:lnTo>
                    <a:pt x="372" y="851"/>
                  </a:lnTo>
                  <a:lnTo>
                    <a:pt x="408" y="886"/>
                  </a:lnTo>
                  <a:lnTo>
                    <a:pt x="446" y="920"/>
                  </a:lnTo>
                  <a:lnTo>
                    <a:pt x="484" y="954"/>
                  </a:lnTo>
                  <a:lnTo>
                    <a:pt x="525" y="987"/>
                  </a:lnTo>
                  <a:lnTo>
                    <a:pt x="566" y="1020"/>
                  </a:lnTo>
                  <a:lnTo>
                    <a:pt x="609" y="1052"/>
                  </a:lnTo>
                  <a:lnTo>
                    <a:pt x="654" y="1083"/>
                  </a:lnTo>
                  <a:lnTo>
                    <a:pt x="699" y="1114"/>
                  </a:lnTo>
                  <a:lnTo>
                    <a:pt x="746" y="1144"/>
                  </a:lnTo>
                  <a:lnTo>
                    <a:pt x="794" y="1173"/>
                  </a:lnTo>
                  <a:lnTo>
                    <a:pt x="843" y="1202"/>
                  </a:lnTo>
                  <a:lnTo>
                    <a:pt x="894" y="1230"/>
                  </a:lnTo>
                  <a:lnTo>
                    <a:pt x="946" y="1257"/>
                  </a:lnTo>
                  <a:lnTo>
                    <a:pt x="999" y="1285"/>
                  </a:lnTo>
                  <a:lnTo>
                    <a:pt x="1053" y="1310"/>
                  </a:lnTo>
                  <a:lnTo>
                    <a:pt x="1108" y="1336"/>
                  </a:lnTo>
                  <a:lnTo>
                    <a:pt x="1164" y="1360"/>
                  </a:lnTo>
                  <a:lnTo>
                    <a:pt x="1221" y="1385"/>
                  </a:lnTo>
                  <a:lnTo>
                    <a:pt x="1279" y="1407"/>
                  </a:lnTo>
                  <a:lnTo>
                    <a:pt x="1339" y="1429"/>
                  </a:lnTo>
                  <a:lnTo>
                    <a:pt x="1399" y="1451"/>
                  </a:lnTo>
                  <a:lnTo>
                    <a:pt x="1460" y="1472"/>
                  </a:lnTo>
                  <a:lnTo>
                    <a:pt x="1523" y="1493"/>
                  </a:lnTo>
                  <a:lnTo>
                    <a:pt x="1586" y="1511"/>
                  </a:lnTo>
                  <a:lnTo>
                    <a:pt x="1650" y="1530"/>
                  </a:lnTo>
                  <a:lnTo>
                    <a:pt x="1715" y="1547"/>
                  </a:lnTo>
                  <a:lnTo>
                    <a:pt x="1781" y="1564"/>
                  </a:lnTo>
                  <a:lnTo>
                    <a:pt x="1848" y="1580"/>
                  </a:lnTo>
                  <a:lnTo>
                    <a:pt x="1916" y="1595"/>
                  </a:lnTo>
                  <a:lnTo>
                    <a:pt x="1984" y="1609"/>
                  </a:lnTo>
                  <a:lnTo>
                    <a:pt x="2053" y="1622"/>
                  </a:lnTo>
                  <a:lnTo>
                    <a:pt x="2123" y="1635"/>
                  </a:lnTo>
                  <a:lnTo>
                    <a:pt x="2194" y="1646"/>
                  </a:lnTo>
                  <a:lnTo>
                    <a:pt x="2265" y="1656"/>
                  </a:lnTo>
                  <a:lnTo>
                    <a:pt x="2337" y="1666"/>
                  </a:lnTo>
                  <a:lnTo>
                    <a:pt x="2410" y="1675"/>
                  </a:lnTo>
                  <a:lnTo>
                    <a:pt x="2483" y="1682"/>
                  </a:lnTo>
                  <a:lnTo>
                    <a:pt x="2557" y="1689"/>
                  </a:lnTo>
                  <a:lnTo>
                    <a:pt x="2631" y="1694"/>
                  </a:lnTo>
                  <a:lnTo>
                    <a:pt x="2707" y="1699"/>
                  </a:lnTo>
                  <a:lnTo>
                    <a:pt x="2782" y="1703"/>
                  </a:lnTo>
                  <a:lnTo>
                    <a:pt x="2858" y="1705"/>
                  </a:lnTo>
                  <a:lnTo>
                    <a:pt x="2935" y="1707"/>
                  </a:lnTo>
                  <a:lnTo>
                    <a:pt x="3012" y="1707"/>
                  </a:lnTo>
                  <a:lnTo>
                    <a:pt x="3012" y="1609"/>
                  </a:lnTo>
                  <a:lnTo>
                    <a:pt x="2936" y="1609"/>
                  </a:lnTo>
                  <a:lnTo>
                    <a:pt x="2860" y="1607"/>
                  </a:lnTo>
                  <a:lnTo>
                    <a:pt x="2786" y="1605"/>
                  </a:lnTo>
                  <a:lnTo>
                    <a:pt x="2712" y="1600"/>
                  </a:lnTo>
                  <a:lnTo>
                    <a:pt x="2638" y="1596"/>
                  </a:lnTo>
                  <a:lnTo>
                    <a:pt x="2565" y="1590"/>
                  </a:lnTo>
                  <a:lnTo>
                    <a:pt x="2493" y="1584"/>
                  </a:lnTo>
                  <a:lnTo>
                    <a:pt x="2420" y="1576"/>
                  </a:lnTo>
                  <a:lnTo>
                    <a:pt x="2349" y="1568"/>
                  </a:lnTo>
                  <a:lnTo>
                    <a:pt x="2279" y="1559"/>
                  </a:lnTo>
                  <a:lnTo>
                    <a:pt x="2208" y="1549"/>
                  </a:lnTo>
                  <a:lnTo>
                    <a:pt x="2139" y="1537"/>
                  </a:lnTo>
                  <a:lnTo>
                    <a:pt x="2071" y="1525"/>
                  </a:lnTo>
                  <a:lnTo>
                    <a:pt x="2004" y="1512"/>
                  </a:lnTo>
                  <a:lnTo>
                    <a:pt x="1936" y="1499"/>
                  </a:lnTo>
                  <a:lnTo>
                    <a:pt x="1870" y="1483"/>
                  </a:lnTo>
                  <a:lnTo>
                    <a:pt x="1805" y="1468"/>
                  </a:lnTo>
                  <a:lnTo>
                    <a:pt x="1741" y="1452"/>
                  </a:lnTo>
                  <a:lnTo>
                    <a:pt x="1676" y="1434"/>
                  </a:lnTo>
                  <a:lnTo>
                    <a:pt x="1614" y="1416"/>
                  </a:lnTo>
                  <a:lnTo>
                    <a:pt x="1552" y="1398"/>
                  </a:lnTo>
                  <a:lnTo>
                    <a:pt x="1491" y="1378"/>
                  </a:lnTo>
                  <a:lnTo>
                    <a:pt x="1432" y="1358"/>
                  </a:lnTo>
                  <a:lnTo>
                    <a:pt x="1373" y="1337"/>
                  </a:lnTo>
                  <a:lnTo>
                    <a:pt x="1315" y="1315"/>
                  </a:lnTo>
                  <a:lnTo>
                    <a:pt x="1259" y="1293"/>
                  </a:lnTo>
                  <a:lnTo>
                    <a:pt x="1203" y="1270"/>
                  </a:lnTo>
                  <a:lnTo>
                    <a:pt x="1148" y="1246"/>
                  </a:lnTo>
                  <a:lnTo>
                    <a:pt x="1095" y="1221"/>
                  </a:lnTo>
                  <a:lnTo>
                    <a:pt x="1042" y="1196"/>
                  </a:lnTo>
                  <a:lnTo>
                    <a:pt x="991" y="1170"/>
                  </a:lnTo>
                  <a:lnTo>
                    <a:pt x="941" y="1143"/>
                  </a:lnTo>
                  <a:lnTo>
                    <a:pt x="892" y="1117"/>
                  </a:lnTo>
                  <a:lnTo>
                    <a:pt x="845" y="1088"/>
                  </a:lnTo>
                  <a:lnTo>
                    <a:pt x="798" y="1061"/>
                  </a:lnTo>
                  <a:lnTo>
                    <a:pt x="753" y="1031"/>
                  </a:lnTo>
                  <a:lnTo>
                    <a:pt x="710" y="1002"/>
                  </a:lnTo>
                  <a:lnTo>
                    <a:pt x="667" y="972"/>
                  </a:lnTo>
                  <a:lnTo>
                    <a:pt x="626" y="942"/>
                  </a:lnTo>
                  <a:lnTo>
                    <a:pt x="586" y="910"/>
                  </a:lnTo>
                  <a:lnTo>
                    <a:pt x="549" y="878"/>
                  </a:lnTo>
                  <a:lnTo>
                    <a:pt x="511" y="847"/>
                  </a:lnTo>
                  <a:lnTo>
                    <a:pt x="476" y="814"/>
                  </a:lnTo>
                  <a:lnTo>
                    <a:pt x="443" y="781"/>
                  </a:lnTo>
                  <a:lnTo>
                    <a:pt x="410" y="748"/>
                  </a:lnTo>
                  <a:lnTo>
                    <a:pt x="378" y="714"/>
                  </a:lnTo>
                  <a:lnTo>
                    <a:pt x="349" y="680"/>
                  </a:lnTo>
                  <a:lnTo>
                    <a:pt x="321" y="645"/>
                  </a:lnTo>
                  <a:lnTo>
                    <a:pt x="295" y="610"/>
                  </a:lnTo>
                  <a:lnTo>
                    <a:pt x="270" y="575"/>
                  </a:lnTo>
                  <a:lnTo>
                    <a:pt x="247" y="539"/>
                  </a:lnTo>
                  <a:lnTo>
                    <a:pt x="226" y="503"/>
                  </a:lnTo>
                  <a:lnTo>
                    <a:pt x="205" y="467"/>
                  </a:lnTo>
                  <a:lnTo>
                    <a:pt x="188" y="430"/>
                  </a:lnTo>
                  <a:lnTo>
                    <a:pt x="171" y="393"/>
                  </a:lnTo>
                  <a:lnTo>
                    <a:pt x="156" y="356"/>
                  </a:lnTo>
                  <a:lnTo>
                    <a:pt x="143" y="318"/>
                  </a:lnTo>
                  <a:lnTo>
                    <a:pt x="131" y="281"/>
                  </a:lnTo>
                  <a:lnTo>
                    <a:pt x="122" y="243"/>
                  </a:lnTo>
                  <a:lnTo>
                    <a:pt x="114" y="204"/>
                  </a:lnTo>
                  <a:lnTo>
                    <a:pt x="107" y="166"/>
                  </a:lnTo>
                  <a:lnTo>
                    <a:pt x="102" y="127"/>
                  </a:lnTo>
                  <a:lnTo>
                    <a:pt x="99" y="88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8" y="44"/>
                  </a:lnTo>
                  <a:lnTo>
                    <a:pt x="98" y="37"/>
                  </a:lnTo>
                  <a:lnTo>
                    <a:pt x="96" y="32"/>
                  </a:lnTo>
                  <a:lnTo>
                    <a:pt x="95" y="27"/>
                  </a:lnTo>
                  <a:lnTo>
                    <a:pt x="92" y="23"/>
                  </a:lnTo>
                  <a:lnTo>
                    <a:pt x="90" y="19"/>
                  </a:lnTo>
                  <a:lnTo>
                    <a:pt x="87" y="15"/>
                  </a:lnTo>
                  <a:lnTo>
                    <a:pt x="84" y="12"/>
                  </a:lnTo>
                  <a:lnTo>
                    <a:pt x="76" y="7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23" y="7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773760" y="2351880"/>
              <a:ext cx="198720" cy="108360"/>
            </a:xfrm>
            <a:custGeom>
              <a:avLst/>
              <a:gdLst/>
              <a:ahLst/>
              <a:rect l="l" t="t" r="r" b="b"/>
              <a:pathLst>
                <a:path w="3061" h="1659">
                  <a:moveTo>
                    <a:pt x="3012" y="0"/>
                  </a:moveTo>
                  <a:lnTo>
                    <a:pt x="3012" y="0"/>
                  </a:lnTo>
                  <a:lnTo>
                    <a:pt x="2935" y="0"/>
                  </a:lnTo>
                  <a:lnTo>
                    <a:pt x="2858" y="2"/>
                  </a:lnTo>
                  <a:lnTo>
                    <a:pt x="2782" y="5"/>
                  </a:lnTo>
                  <a:lnTo>
                    <a:pt x="2707" y="8"/>
                  </a:lnTo>
                  <a:lnTo>
                    <a:pt x="2631" y="13"/>
                  </a:lnTo>
                  <a:lnTo>
                    <a:pt x="2557" y="18"/>
                  </a:lnTo>
                  <a:lnTo>
                    <a:pt x="2483" y="25"/>
                  </a:lnTo>
                  <a:lnTo>
                    <a:pt x="2410" y="32"/>
                  </a:lnTo>
                  <a:lnTo>
                    <a:pt x="2337" y="42"/>
                  </a:lnTo>
                  <a:lnTo>
                    <a:pt x="2265" y="51"/>
                  </a:lnTo>
                  <a:lnTo>
                    <a:pt x="2194" y="61"/>
                  </a:lnTo>
                  <a:lnTo>
                    <a:pt x="2123" y="73"/>
                  </a:lnTo>
                  <a:lnTo>
                    <a:pt x="2053" y="85"/>
                  </a:lnTo>
                  <a:lnTo>
                    <a:pt x="1984" y="99"/>
                  </a:lnTo>
                  <a:lnTo>
                    <a:pt x="1916" y="113"/>
                  </a:lnTo>
                  <a:lnTo>
                    <a:pt x="1848" y="127"/>
                  </a:lnTo>
                  <a:lnTo>
                    <a:pt x="1781" y="143"/>
                  </a:lnTo>
                  <a:lnTo>
                    <a:pt x="1715" y="160"/>
                  </a:lnTo>
                  <a:lnTo>
                    <a:pt x="1650" y="178"/>
                  </a:lnTo>
                  <a:lnTo>
                    <a:pt x="1586" y="196"/>
                  </a:lnTo>
                  <a:lnTo>
                    <a:pt x="1523" y="216"/>
                  </a:lnTo>
                  <a:lnTo>
                    <a:pt x="1460" y="235"/>
                  </a:lnTo>
                  <a:lnTo>
                    <a:pt x="1399" y="256"/>
                  </a:lnTo>
                  <a:lnTo>
                    <a:pt x="1339" y="278"/>
                  </a:lnTo>
                  <a:lnTo>
                    <a:pt x="1279" y="300"/>
                  </a:lnTo>
                  <a:lnTo>
                    <a:pt x="1221" y="324"/>
                  </a:lnTo>
                  <a:lnTo>
                    <a:pt x="1164" y="347"/>
                  </a:lnTo>
                  <a:lnTo>
                    <a:pt x="1108" y="372"/>
                  </a:lnTo>
                  <a:lnTo>
                    <a:pt x="1053" y="397"/>
                  </a:lnTo>
                  <a:lnTo>
                    <a:pt x="999" y="423"/>
                  </a:lnTo>
                  <a:lnTo>
                    <a:pt x="946" y="450"/>
                  </a:lnTo>
                  <a:lnTo>
                    <a:pt x="894" y="477"/>
                  </a:lnTo>
                  <a:lnTo>
                    <a:pt x="843" y="505"/>
                  </a:lnTo>
                  <a:lnTo>
                    <a:pt x="794" y="534"/>
                  </a:lnTo>
                  <a:lnTo>
                    <a:pt x="746" y="564"/>
                  </a:lnTo>
                  <a:lnTo>
                    <a:pt x="699" y="594"/>
                  </a:lnTo>
                  <a:lnTo>
                    <a:pt x="654" y="624"/>
                  </a:lnTo>
                  <a:lnTo>
                    <a:pt x="609" y="656"/>
                  </a:lnTo>
                  <a:lnTo>
                    <a:pt x="566" y="688"/>
                  </a:lnTo>
                  <a:lnTo>
                    <a:pt x="525" y="721"/>
                  </a:lnTo>
                  <a:lnTo>
                    <a:pt x="484" y="753"/>
                  </a:lnTo>
                  <a:lnTo>
                    <a:pt x="446" y="787"/>
                  </a:lnTo>
                  <a:lnTo>
                    <a:pt x="408" y="822"/>
                  </a:lnTo>
                  <a:lnTo>
                    <a:pt x="372" y="856"/>
                  </a:lnTo>
                  <a:lnTo>
                    <a:pt x="338" y="892"/>
                  </a:lnTo>
                  <a:lnTo>
                    <a:pt x="305" y="929"/>
                  </a:lnTo>
                  <a:lnTo>
                    <a:pt x="273" y="965"/>
                  </a:lnTo>
                  <a:lnTo>
                    <a:pt x="243" y="1002"/>
                  </a:lnTo>
                  <a:lnTo>
                    <a:pt x="215" y="1040"/>
                  </a:lnTo>
                  <a:lnTo>
                    <a:pt x="188" y="1077"/>
                  </a:lnTo>
                  <a:lnTo>
                    <a:pt x="163" y="1116"/>
                  </a:lnTo>
                  <a:lnTo>
                    <a:pt x="140" y="1156"/>
                  </a:lnTo>
                  <a:lnTo>
                    <a:pt x="119" y="1195"/>
                  </a:lnTo>
                  <a:lnTo>
                    <a:pt x="98" y="1235"/>
                  </a:lnTo>
                  <a:lnTo>
                    <a:pt x="80" y="1276"/>
                  </a:lnTo>
                  <a:lnTo>
                    <a:pt x="64" y="1316"/>
                  </a:lnTo>
                  <a:lnTo>
                    <a:pt x="48" y="1358"/>
                  </a:lnTo>
                  <a:lnTo>
                    <a:pt x="36" y="1400"/>
                  </a:lnTo>
                  <a:lnTo>
                    <a:pt x="25" y="1442"/>
                  </a:lnTo>
                  <a:lnTo>
                    <a:pt x="17" y="1485"/>
                  </a:lnTo>
                  <a:lnTo>
                    <a:pt x="10" y="1527"/>
                  </a:lnTo>
                  <a:lnTo>
                    <a:pt x="4" y="1571"/>
                  </a:lnTo>
                  <a:lnTo>
                    <a:pt x="1" y="1615"/>
                  </a:lnTo>
                  <a:lnTo>
                    <a:pt x="0" y="1659"/>
                  </a:lnTo>
                  <a:lnTo>
                    <a:pt x="99" y="1659"/>
                  </a:lnTo>
                  <a:lnTo>
                    <a:pt x="99" y="1619"/>
                  </a:lnTo>
                  <a:lnTo>
                    <a:pt x="102" y="1580"/>
                  </a:lnTo>
                  <a:lnTo>
                    <a:pt x="107" y="1542"/>
                  </a:lnTo>
                  <a:lnTo>
                    <a:pt x="114" y="1503"/>
                  </a:lnTo>
                  <a:lnTo>
                    <a:pt x="122" y="1464"/>
                  </a:lnTo>
                  <a:lnTo>
                    <a:pt x="131" y="1426"/>
                  </a:lnTo>
                  <a:lnTo>
                    <a:pt x="143" y="1389"/>
                  </a:lnTo>
                  <a:lnTo>
                    <a:pt x="156" y="1351"/>
                  </a:lnTo>
                  <a:lnTo>
                    <a:pt x="171" y="1314"/>
                  </a:lnTo>
                  <a:lnTo>
                    <a:pt x="188" y="1277"/>
                  </a:lnTo>
                  <a:lnTo>
                    <a:pt x="205" y="1241"/>
                  </a:lnTo>
                  <a:lnTo>
                    <a:pt x="226" y="1204"/>
                  </a:lnTo>
                  <a:lnTo>
                    <a:pt x="247" y="1169"/>
                  </a:lnTo>
                  <a:lnTo>
                    <a:pt x="270" y="1133"/>
                  </a:lnTo>
                  <a:lnTo>
                    <a:pt x="295" y="1098"/>
                  </a:lnTo>
                  <a:lnTo>
                    <a:pt x="321" y="1062"/>
                  </a:lnTo>
                  <a:lnTo>
                    <a:pt x="349" y="1027"/>
                  </a:lnTo>
                  <a:lnTo>
                    <a:pt x="378" y="994"/>
                  </a:lnTo>
                  <a:lnTo>
                    <a:pt x="410" y="960"/>
                  </a:lnTo>
                  <a:lnTo>
                    <a:pt x="443" y="926"/>
                  </a:lnTo>
                  <a:lnTo>
                    <a:pt x="476" y="894"/>
                  </a:lnTo>
                  <a:lnTo>
                    <a:pt x="511" y="860"/>
                  </a:lnTo>
                  <a:lnTo>
                    <a:pt x="549" y="829"/>
                  </a:lnTo>
                  <a:lnTo>
                    <a:pt x="586" y="797"/>
                  </a:lnTo>
                  <a:lnTo>
                    <a:pt x="626" y="767"/>
                  </a:lnTo>
                  <a:lnTo>
                    <a:pt x="667" y="736"/>
                  </a:lnTo>
                  <a:lnTo>
                    <a:pt x="710" y="706"/>
                  </a:lnTo>
                  <a:lnTo>
                    <a:pt x="753" y="676"/>
                  </a:lnTo>
                  <a:lnTo>
                    <a:pt x="798" y="647"/>
                  </a:lnTo>
                  <a:lnTo>
                    <a:pt x="845" y="619"/>
                  </a:lnTo>
                  <a:lnTo>
                    <a:pt x="892" y="591"/>
                  </a:lnTo>
                  <a:lnTo>
                    <a:pt x="941" y="564"/>
                  </a:lnTo>
                  <a:lnTo>
                    <a:pt x="991" y="538"/>
                  </a:lnTo>
                  <a:lnTo>
                    <a:pt x="1042" y="511"/>
                  </a:lnTo>
                  <a:lnTo>
                    <a:pt x="1095" y="487"/>
                  </a:lnTo>
                  <a:lnTo>
                    <a:pt x="1148" y="462"/>
                  </a:lnTo>
                  <a:lnTo>
                    <a:pt x="1203" y="438"/>
                  </a:lnTo>
                  <a:lnTo>
                    <a:pt x="1259" y="414"/>
                  </a:lnTo>
                  <a:lnTo>
                    <a:pt x="1315" y="392"/>
                  </a:lnTo>
                  <a:lnTo>
                    <a:pt x="1373" y="371"/>
                  </a:lnTo>
                  <a:lnTo>
                    <a:pt x="1432" y="349"/>
                  </a:lnTo>
                  <a:lnTo>
                    <a:pt x="1491" y="329"/>
                  </a:lnTo>
                  <a:lnTo>
                    <a:pt x="1552" y="309"/>
                  </a:lnTo>
                  <a:lnTo>
                    <a:pt x="1614" y="291"/>
                  </a:lnTo>
                  <a:lnTo>
                    <a:pt x="1676" y="273"/>
                  </a:lnTo>
                  <a:lnTo>
                    <a:pt x="1741" y="255"/>
                  </a:lnTo>
                  <a:lnTo>
                    <a:pt x="1805" y="239"/>
                  </a:lnTo>
                  <a:lnTo>
                    <a:pt x="1870" y="224"/>
                  </a:lnTo>
                  <a:lnTo>
                    <a:pt x="1936" y="209"/>
                  </a:lnTo>
                  <a:lnTo>
                    <a:pt x="2004" y="195"/>
                  </a:lnTo>
                  <a:lnTo>
                    <a:pt x="2071" y="182"/>
                  </a:lnTo>
                  <a:lnTo>
                    <a:pt x="2139" y="170"/>
                  </a:lnTo>
                  <a:lnTo>
                    <a:pt x="2208" y="159"/>
                  </a:lnTo>
                  <a:lnTo>
                    <a:pt x="2279" y="149"/>
                  </a:lnTo>
                  <a:lnTo>
                    <a:pt x="2349" y="139"/>
                  </a:lnTo>
                  <a:lnTo>
                    <a:pt x="2420" y="131"/>
                  </a:lnTo>
                  <a:lnTo>
                    <a:pt x="2493" y="123"/>
                  </a:lnTo>
                  <a:lnTo>
                    <a:pt x="2565" y="117"/>
                  </a:lnTo>
                  <a:lnTo>
                    <a:pt x="2638" y="111"/>
                  </a:lnTo>
                  <a:lnTo>
                    <a:pt x="2712" y="107"/>
                  </a:lnTo>
                  <a:lnTo>
                    <a:pt x="2786" y="103"/>
                  </a:lnTo>
                  <a:lnTo>
                    <a:pt x="2860" y="101"/>
                  </a:lnTo>
                  <a:lnTo>
                    <a:pt x="2936" y="99"/>
                  </a:lnTo>
                  <a:lnTo>
                    <a:pt x="3012" y="99"/>
                  </a:lnTo>
                  <a:lnTo>
                    <a:pt x="3012" y="99"/>
                  </a:lnTo>
                  <a:lnTo>
                    <a:pt x="3012" y="99"/>
                  </a:lnTo>
                  <a:lnTo>
                    <a:pt x="3018" y="99"/>
                  </a:lnTo>
                  <a:lnTo>
                    <a:pt x="3023" y="98"/>
                  </a:lnTo>
                  <a:lnTo>
                    <a:pt x="3029" y="97"/>
                  </a:lnTo>
                  <a:lnTo>
                    <a:pt x="3034" y="95"/>
                  </a:lnTo>
                  <a:lnTo>
                    <a:pt x="3038" y="93"/>
                  </a:lnTo>
                  <a:lnTo>
                    <a:pt x="3042" y="89"/>
                  </a:lnTo>
                  <a:lnTo>
                    <a:pt x="3046" y="86"/>
                  </a:lnTo>
                  <a:lnTo>
                    <a:pt x="3049" y="83"/>
                  </a:lnTo>
                  <a:lnTo>
                    <a:pt x="3054" y="75"/>
                  </a:lnTo>
                  <a:lnTo>
                    <a:pt x="3058" y="67"/>
                  </a:lnTo>
                  <a:lnTo>
                    <a:pt x="3060" y="58"/>
                  </a:lnTo>
                  <a:lnTo>
                    <a:pt x="3061" y="49"/>
                  </a:lnTo>
                  <a:lnTo>
                    <a:pt x="3060" y="40"/>
                  </a:lnTo>
                  <a:lnTo>
                    <a:pt x="3058" y="31"/>
                  </a:lnTo>
                  <a:lnTo>
                    <a:pt x="3054" y="22"/>
                  </a:lnTo>
                  <a:lnTo>
                    <a:pt x="3049" y="15"/>
                  </a:lnTo>
                  <a:lnTo>
                    <a:pt x="3046" y="12"/>
                  </a:lnTo>
                  <a:lnTo>
                    <a:pt x="3042" y="9"/>
                  </a:lnTo>
                  <a:lnTo>
                    <a:pt x="3038" y="6"/>
                  </a:lnTo>
                  <a:lnTo>
                    <a:pt x="3034" y="4"/>
                  </a:lnTo>
                  <a:lnTo>
                    <a:pt x="3029" y="2"/>
                  </a:lnTo>
                  <a:lnTo>
                    <a:pt x="3023" y="1"/>
                  </a:lnTo>
                  <a:lnTo>
                    <a:pt x="3018" y="0"/>
                  </a:lnTo>
                  <a:lnTo>
                    <a:pt x="3012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969600" y="2351880"/>
              <a:ext cx="196200" cy="108360"/>
            </a:xfrm>
            <a:custGeom>
              <a:avLst/>
              <a:gdLst/>
              <a:ahLst/>
              <a:rect l="l" t="t" r="r" b="b"/>
              <a:pathLst>
                <a:path w="3012" h="1659">
                  <a:moveTo>
                    <a:pt x="3012" y="1659"/>
                  </a:moveTo>
                  <a:lnTo>
                    <a:pt x="3011" y="1614"/>
                  </a:lnTo>
                  <a:lnTo>
                    <a:pt x="3008" y="1571"/>
                  </a:lnTo>
                  <a:lnTo>
                    <a:pt x="3003" y="1527"/>
                  </a:lnTo>
                  <a:lnTo>
                    <a:pt x="2996" y="1485"/>
                  </a:lnTo>
                  <a:lnTo>
                    <a:pt x="2987" y="1442"/>
                  </a:lnTo>
                  <a:lnTo>
                    <a:pt x="2975" y="1400"/>
                  </a:lnTo>
                  <a:lnTo>
                    <a:pt x="2963" y="1358"/>
                  </a:lnTo>
                  <a:lnTo>
                    <a:pt x="2949" y="1316"/>
                  </a:lnTo>
                  <a:lnTo>
                    <a:pt x="2932" y="1276"/>
                  </a:lnTo>
                  <a:lnTo>
                    <a:pt x="2913" y="1235"/>
                  </a:lnTo>
                  <a:lnTo>
                    <a:pt x="2894" y="1195"/>
                  </a:lnTo>
                  <a:lnTo>
                    <a:pt x="2872" y="1156"/>
                  </a:lnTo>
                  <a:lnTo>
                    <a:pt x="2849" y="1116"/>
                  </a:lnTo>
                  <a:lnTo>
                    <a:pt x="2824" y="1077"/>
                  </a:lnTo>
                  <a:lnTo>
                    <a:pt x="2797" y="1040"/>
                  </a:lnTo>
                  <a:lnTo>
                    <a:pt x="2768" y="1002"/>
                  </a:lnTo>
                  <a:lnTo>
                    <a:pt x="2738" y="965"/>
                  </a:lnTo>
                  <a:lnTo>
                    <a:pt x="2707" y="929"/>
                  </a:lnTo>
                  <a:lnTo>
                    <a:pt x="2674" y="892"/>
                  </a:lnTo>
                  <a:lnTo>
                    <a:pt x="2639" y="856"/>
                  </a:lnTo>
                  <a:lnTo>
                    <a:pt x="2603" y="822"/>
                  </a:lnTo>
                  <a:lnTo>
                    <a:pt x="2566" y="787"/>
                  </a:lnTo>
                  <a:lnTo>
                    <a:pt x="2527" y="753"/>
                  </a:lnTo>
                  <a:lnTo>
                    <a:pt x="2487" y="721"/>
                  </a:lnTo>
                  <a:lnTo>
                    <a:pt x="2446" y="688"/>
                  </a:lnTo>
                  <a:lnTo>
                    <a:pt x="2403" y="656"/>
                  </a:lnTo>
                  <a:lnTo>
                    <a:pt x="2358" y="624"/>
                  </a:lnTo>
                  <a:lnTo>
                    <a:pt x="2313" y="594"/>
                  </a:lnTo>
                  <a:lnTo>
                    <a:pt x="2266" y="564"/>
                  </a:lnTo>
                  <a:lnTo>
                    <a:pt x="2217" y="534"/>
                  </a:lnTo>
                  <a:lnTo>
                    <a:pt x="2168" y="505"/>
                  </a:lnTo>
                  <a:lnTo>
                    <a:pt x="2118" y="477"/>
                  </a:lnTo>
                  <a:lnTo>
                    <a:pt x="2066" y="450"/>
                  </a:lnTo>
                  <a:lnTo>
                    <a:pt x="2014" y="423"/>
                  </a:lnTo>
                  <a:lnTo>
                    <a:pt x="1960" y="397"/>
                  </a:lnTo>
                  <a:lnTo>
                    <a:pt x="1904" y="372"/>
                  </a:lnTo>
                  <a:lnTo>
                    <a:pt x="1847" y="347"/>
                  </a:lnTo>
                  <a:lnTo>
                    <a:pt x="1790" y="324"/>
                  </a:lnTo>
                  <a:lnTo>
                    <a:pt x="1732" y="300"/>
                  </a:lnTo>
                  <a:lnTo>
                    <a:pt x="1673" y="278"/>
                  </a:lnTo>
                  <a:lnTo>
                    <a:pt x="1612" y="256"/>
                  </a:lnTo>
                  <a:lnTo>
                    <a:pt x="1551" y="235"/>
                  </a:lnTo>
                  <a:lnTo>
                    <a:pt x="1489" y="216"/>
                  </a:lnTo>
                  <a:lnTo>
                    <a:pt x="1426" y="196"/>
                  </a:lnTo>
                  <a:lnTo>
                    <a:pt x="1361" y="178"/>
                  </a:lnTo>
                  <a:lnTo>
                    <a:pt x="1296" y="160"/>
                  </a:lnTo>
                  <a:lnTo>
                    <a:pt x="1230" y="143"/>
                  </a:lnTo>
                  <a:lnTo>
                    <a:pt x="1164" y="127"/>
                  </a:lnTo>
                  <a:lnTo>
                    <a:pt x="1097" y="113"/>
                  </a:lnTo>
                  <a:lnTo>
                    <a:pt x="1027" y="99"/>
                  </a:lnTo>
                  <a:lnTo>
                    <a:pt x="959" y="85"/>
                  </a:lnTo>
                  <a:lnTo>
                    <a:pt x="889" y="73"/>
                  </a:lnTo>
                  <a:lnTo>
                    <a:pt x="818" y="61"/>
                  </a:lnTo>
                  <a:lnTo>
                    <a:pt x="747" y="51"/>
                  </a:lnTo>
                  <a:lnTo>
                    <a:pt x="675" y="42"/>
                  </a:lnTo>
                  <a:lnTo>
                    <a:pt x="602" y="32"/>
                  </a:lnTo>
                  <a:lnTo>
                    <a:pt x="529" y="25"/>
                  </a:lnTo>
                  <a:lnTo>
                    <a:pt x="455" y="18"/>
                  </a:lnTo>
                  <a:lnTo>
                    <a:pt x="380" y="13"/>
                  </a:lnTo>
                  <a:lnTo>
                    <a:pt x="306" y="8"/>
                  </a:lnTo>
                  <a:lnTo>
                    <a:pt x="229" y="5"/>
                  </a:lnTo>
                  <a:lnTo>
                    <a:pt x="154" y="2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99"/>
                  </a:lnTo>
                  <a:lnTo>
                    <a:pt x="76" y="99"/>
                  </a:lnTo>
                  <a:lnTo>
                    <a:pt x="151" y="101"/>
                  </a:lnTo>
                  <a:lnTo>
                    <a:pt x="225" y="103"/>
                  </a:lnTo>
                  <a:lnTo>
                    <a:pt x="300" y="107"/>
                  </a:lnTo>
                  <a:lnTo>
                    <a:pt x="374" y="111"/>
                  </a:lnTo>
                  <a:lnTo>
                    <a:pt x="446" y="117"/>
                  </a:lnTo>
                  <a:lnTo>
                    <a:pt x="520" y="123"/>
                  </a:lnTo>
                  <a:lnTo>
                    <a:pt x="591" y="131"/>
                  </a:lnTo>
                  <a:lnTo>
                    <a:pt x="662" y="139"/>
                  </a:lnTo>
                  <a:lnTo>
                    <a:pt x="733" y="149"/>
                  </a:lnTo>
                  <a:lnTo>
                    <a:pt x="803" y="159"/>
                  </a:lnTo>
                  <a:lnTo>
                    <a:pt x="872" y="170"/>
                  </a:lnTo>
                  <a:lnTo>
                    <a:pt x="941" y="182"/>
                  </a:lnTo>
                  <a:lnTo>
                    <a:pt x="1009" y="195"/>
                  </a:lnTo>
                  <a:lnTo>
                    <a:pt x="1075" y="209"/>
                  </a:lnTo>
                  <a:lnTo>
                    <a:pt x="1141" y="224"/>
                  </a:lnTo>
                  <a:lnTo>
                    <a:pt x="1207" y="239"/>
                  </a:lnTo>
                  <a:lnTo>
                    <a:pt x="1272" y="255"/>
                  </a:lnTo>
                  <a:lnTo>
                    <a:pt x="1335" y="273"/>
                  </a:lnTo>
                  <a:lnTo>
                    <a:pt x="1398" y="291"/>
                  </a:lnTo>
                  <a:lnTo>
                    <a:pt x="1459" y="309"/>
                  </a:lnTo>
                  <a:lnTo>
                    <a:pt x="1520" y="329"/>
                  </a:lnTo>
                  <a:lnTo>
                    <a:pt x="1580" y="349"/>
                  </a:lnTo>
                  <a:lnTo>
                    <a:pt x="1639" y="371"/>
                  </a:lnTo>
                  <a:lnTo>
                    <a:pt x="1697" y="392"/>
                  </a:lnTo>
                  <a:lnTo>
                    <a:pt x="1754" y="414"/>
                  </a:lnTo>
                  <a:lnTo>
                    <a:pt x="1809" y="438"/>
                  </a:lnTo>
                  <a:lnTo>
                    <a:pt x="1864" y="462"/>
                  </a:lnTo>
                  <a:lnTo>
                    <a:pt x="1917" y="487"/>
                  </a:lnTo>
                  <a:lnTo>
                    <a:pt x="1970" y="511"/>
                  </a:lnTo>
                  <a:lnTo>
                    <a:pt x="2021" y="538"/>
                  </a:lnTo>
                  <a:lnTo>
                    <a:pt x="2071" y="564"/>
                  </a:lnTo>
                  <a:lnTo>
                    <a:pt x="2119" y="591"/>
                  </a:lnTo>
                  <a:lnTo>
                    <a:pt x="2167" y="619"/>
                  </a:lnTo>
                  <a:lnTo>
                    <a:pt x="2213" y="647"/>
                  </a:lnTo>
                  <a:lnTo>
                    <a:pt x="2258" y="676"/>
                  </a:lnTo>
                  <a:lnTo>
                    <a:pt x="2302" y="706"/>
                  </a:lnTo>
                  <a:lnTo>
                    <a:pt x="2345" y="736"/>
                  </a:lnTo>
                  <a:lnTo>
                    <a:pt x="2385" y="767"/>
                  </a:lnTo>
                  <a:lnTo>
                    <a:pt x="2425" y="797"/>
                  </a:lnTo>
                  <a:lnTo>
                    <a:pt x="2464" y="829"/>
                  </a:lnTo>
                  <a:lnTo>
                    <a:pt x="2501" y="860"/>
                  </a:lnTo>
                  <a:lnTo>
                    <a:pt x="2536" y="894"/>
                  </a:lnTo>
                  <a:lnTo>
                    <a:pt x="2570" y="926"/>
                  </a:lnTo>
                  <a:lnTo>
                    <a:pt x="2602" y="960"/>
                  </a:lnTo>
                  <a:lnTo>
                    <a:pt x="2633" y="994"/>
                  </a:lnTo>
                  <a:lnTo>
                    <a:pt x="2663" y="1027"/>
                  </a:lnTo>
                  <a:lnTo>
                    <a:pt x="2690" y="1062"/>
                  </a:lnTo>
                  <a:lnTo>
                    <a:pt x="2717" y="1098"/>
                  </a:lnTo>
                  <a:lnTo>
                    <a:pt x="2741" y="1133"/>
                  </a:lnTo>
                  <a:lnTo>
                    <a:pt x="2764" y="1169"/>
                  </a:lnTo>
                  <a:lnTo>
                    <a:pt x="2786" y="1204"/>
                  </a:lnTo>
                  <a:lnTo>
                    <a:pt x="2806" y="1241"/>
                  </a:lnTo>
                  <a:lnTo>
                    <a:pt x="2825" y="1277"/>
                  </a:lnTo>
                  <a:lnTo>
                    <a:pt x="2841" y="1314"/>
                  </a:lnTo>
                  <a:lnTo>
                    <a:pt x="2856" y="1351"/>
                  </a:lnTo>
                  <a:lnTo>
                    <a:pt x="2869" y="1389"/>
                  </a:lnTo>
                  <a:lnTo>
                    <a:pt x="2881" y="1426"/>
                  </a:lnTo>
                  <a:lnTo>
                    <a:pt x="2891" y="1464"/>
                  </a:lnTo>
                  <a:lnTo>
                    <a:pt x="2899" y="1503"/>
                  </a:lnTo>
                  <a:lnTo>
                    <a:pt x="2905" y="1542"/>
                  </a:lnTo>
                  <a:lnTo>
                    <a:pt x="2909" y="1580"/>
                  </a:lnTo>
                  <a:lnTo>
                    <a:pt x="2912" y="1619"/>
                  </a:lnTo>
                  <a:lnTo>
                    <a:pt x="2913" y="1659"/>
                  </a:lnTo>
                  <a:lnTo>
                    <a:pt x="3012" y="165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869880" y="2399040"/>
              <a:ext cx="108720" cy="108360"/>
            </a:xfrm>
            <a:custGeom>
              <a:avLst/>
              <a:gdLst/>
              <a:ahLst/>
              <a:rect l="l" t="t" r="r" b="b"/>
              <a:pathLst>
                <a:path w="1674" h="1673">
                  <a:moveTo>
                    <a:pt x="0" y="1384"/>
                  </a:moveTo>
                  <a:lnTo>
                    <a:pt x="1094" y="289"/>
                  </a:lnTo>
                  <a:lnTo>
                    <a:pt x="804" y="0"/>
                  </a:lnTo>
                  <a:lnTo>
                    <a:pt x="1674" y="0"/>
                  </a:lnTo>
                  <a:lnTo>
                    <a:pt x="1674" y="901"/>
                  </a:lnTo>
                  <a:lnTo>
                    <a:pt x="1384" y="612"/>
                  </a:lnTo>
                  <a:lnTo>
                    <a:pt x="322" y="1673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952680" y="2437920"/>
              <a:ext cx="108720" cy="108360"/>
            </a:xfrm>
            <a:custGeom>
              <a:avLst/>
              <a:gdLst/>
              <a:ahLst/>
              <a:rect l="l" t="t" r="r" b="b"/>
              <a:pathLst>
                <a:path w="1674" h="1673">
                  <a:moveTo>
                    <a:pt x="0" y="1384"/>
                  </a:moveTo>
                  <a:lnTo>
                    <a:pt x="1095" y="289"/>
                  </a:lnTo>
                  <a:lnTo>
                    <a:pt x="805" y="0"/>
                  </a:lnTo>
                  <a:lnTo>
                    <a:pt x="1674" y="0"/>
                  </a:lnTo>
                  <a:lnTo>
                    <a:pt x="1674" y="901"/>
                  </a:lnTo>
                  <a:lnTo>
                    <a:pt x="1385" y="611"/>
                  </a:lnTo>
                  <a:lnTo>
                    <a:pt x="322" y="1673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865560" y="2394720"/>
              <a:ext cx="108720" cy="108360"/>
            </a:xfrm>
            <a:custGeom>
              <a:avLst/>
              <a:gdLst/>
              <a:ahLst/>
              <a:rect l="l" t="t" r="r" b="b"/>
              <a:pathLst>
                <a:path w="1674" h="1673">
                  <a:moveTo>
                    <a:pt x="0" y="1384"/>
                  </a:moveTo>
                  <a:lnTo>
                    <a:pt x="1095" y="289"/>
                  </a:lnTo>
                  <a:lnTo>
                    <a:pt x="805" y="0"/>
                  </a:lnTo>
                  <a:lnTo>
                    <a:pt x="1674" y="0"/>
                  </a:lnTo>
                  <a:lnTo>
                    <a:pt x="1674" y="901"/>
                  </a:lnTo>
                  <a:lnTo>
                    <a:pt x="1385" y="611"/>
                  </a:lnTo>
                  <a:lnTo>
                    <a:pt x="322" y="1673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948360" y="2433240"/>
              <a:ext cx="108720" cy="108720"/>
            </a:xfrm>
            <a:custGeom>
              <a:avLst/>
              <a:gdLst/>
              <a:ahLst/>
              <a:rect l="l" t="t" r="r" b="b"/>
              <a:pathLst>
                <a:path w="1674" h="1673">
                  <a:moveTo>
                    <a:pt x="0" y="1384"/>
                  </a:moveTo>
                  <a:lnTo>
                    <a:pt x="1095" y="289"/>
                  </a:lnTo>
                  <a:lnTo>
                    <a:pt x="805" y="0"/>
                  </a:lnTo>
                  <a:lnTo>
                    <a:pt x="1674" y="0"/>
                  </a:lnTo>
                  <a:lnTo>
                    <a:pt x="1674" y="901"/>
                  </a:lnTo>
                  <a:lnTo>
                    <a:pt x="1385" y="611"/>
                  </a:lnTo>
                  <a:lnTo>
                    <a:pt x="322" y="1673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6026040" y="5884920"/>
            <a:ext cx="1752480" cy="447480"/>
            <a:chOff x="6026040" y="5884920"/>
            <a:chExt cx="1752480" cy="447480"/>
          </a:xfrm>
        </p:grpSpPr>
        <p:sp>
          <p:nvSpPr>
            <p:cNvPr id="2199" name=""/>
            <p:cNvSpPr/>
            <p:nvPr/>
          </p:nvSpPr>
          <p:spPr>
            <a:xfrm>
              <a:off x="6026040" y="6113160"/>
              <a:ext cx="1752480" cy="0"/>
            </a:xfrm>
            <a:prstGeom prst="line">
              <a:avLst/>
            </a:prstGeom>
            <a:ln w="381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0" name=""/>
            <p:cNvGrpSpPr/>
            <p:nvPr/>
          </p:nvGrpSpPr>
          <p:grpSpPr>
            <a:xfrm>
              <a:off x="6483240" y="5884920"/>
              <a:ext cx="819000" cy="447480"/>
              <a:chOff x="6483240" y="5884920"/>
              <a:chExt cx="819000" cy="447480"/>
            </a:xfrm>
          </p:grpSpPr>
          <p:sp>
            <p:nvSpPr>
              <p:cNvPr id="2201" name=""/>
              <p:cNvSpPr/>
              <p:nvPr/>
            </p:nvSpPr>
            <p:spPr>
              <a:xfrm>
                <a:off x="6483240" y="5884920"/>
                <a:ext cx="819000" cy="447480"/>
              </a:xfrm>
              <a:prstGeom prst="ellipse">
                <a:avLst/>
              </a:prstGeom>
              <a:solidFill>
                <a:srgbClr val="0096d5"/>
              </a:solidFill>
              <a:ln w="9360">
                <a:solidFill>
                  <a:srgbClr val="003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2" name=""/>
              <p:cNvGrpSpPr/>
              <p:nvPr/>
            </p:nvGrpSpPr>
            <p:grpSpPr>
              <a:xfrm>
                <a:off x="6750000" y="5976720"/>
                <a:ext cx="268200" cy="267480"/>
                <a:chOff x="6750000" y="5976720"/>
                <a:chExt cx="268200" cy="26748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6756120" y="5982840"/>
                  <a:ext cx="262080" cy="26136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6750000" y="5976720"/>
                  <a:ext cx="26172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05" name=""/>
          <p:cNvGrpSpPr/>
          <p:nvPr/>
        </p:nvGrpSpPr>
        <p:grpSpPr>
          <a:xfrm>
            <a:off x="6026040" y="5181480"/>
            <a:ext cx="1752480" cy="447480"/>
            <a:chOff x="6026040" y="5181480"/>
            <a:chExt cx="1752480" cy="447480"/>
          </a:xfrm>
        </p:grpSpPr>
        <p:sp>
          <p:nvSpPr>
            <p:cNvPr id="2206" name=""/>
            <p:cNvSpPr/>
            <p:nvPr/>
          </p:nvSpPr>
          <p:spPr>
            <a:xfrm>
              <a:off x="6026040" y="5402160"/>
              <a:ext cx="1752480" cy="0"/>
            </a:xfrm>
            <a:prstGeom prst="line">
              <a:avLst/>
            </a:prstGeom>
            <a:ln w="381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7" name=""/>
            <p:cNvGrpSpPr/>
            <p:nvPr/>
          </p:nvGrpSpPr>
          <p:grpSpPr>
            <a:xfrm>
              <a:off x="6492600" y="5181480"/>
              <a:ext cx="819360" cy="447480"/>
              <a:chOff x="6492600" y="5181480"/>
              <a:chExt cx="819360" cy="447480"/>
            </a:xfrm>
          </p:grpSpPr>
          <p:sp>
            <p:nvSpPr>
              <p:cNvPr id="2208" name=""/>
              <p:cNvSpPr/>
              <p:nvPr/>
            </p:nvSpPr>
            <p:spPr>
              <a:xfrm>
                <a:off x="6492600" y="5181480"/>
                <a:ext cx="819360" cy="447480"/>
              </a:xfrm>
              <a:prstGeom prst="ellipse">
                <a:avLst/>
              </a:prstGeom>
              <a:solidFill>
                <a:srgbClr val="0096d5"/>
              </a:solidFill>
              <a:ln w="9360">
                <a:solidFill>
                  <a:srgbClr val="003c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9" name=""/>
              <p:cNvGrpSpPr/>
              <p:nvPr/>
            </p:nvGrpSpPr>
            <p:grpSpPr>
              <a:xfrm>
                <a:off x="6646680" y="5227560"/>
                <a:ext cx="268200" cy="268200"/>
                <a:chOff x="6646680" y="5227560"/>
                <a:chExt cx="268200" cy="26820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6653160" y="5233680"/>
                  <a:ext cx="261720" cy="26208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6646680" y="5227560"/>
                  <a:ext cx="26208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"/>
              <p:cNvGrpSpPr/>
              <p:nvPr/>
            </p:nvGrpSpPr>
            <p:grpSpPr>
              <a:xfrm>
                <a:off x="6835680" y="5340240"/>
                <a:ext cx="268200" cy="268200"/>
                <a:chOff x="6835680" y="5340240"/>
                <a:chExt cx="268200" cy="268200"/>
              </a:xfrm>
            </p:grpSpPr>
            <p:sp>
              <p:nvSpPr>
                <p:cNvPr id="2213" name=""/>
                <p:cNvSpPr/>
                <p:nvPr/>
              </p:nvSpPr>
              <p:spPr>
                <a:xfrm>
                  <a:off x="6841800" y="5346360"/>
                  <a:ext cx="262080" cy="26208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6835680" y="5340240"/>
                  <a:ext cx="261720" cy="261720"/>
                </a:xfrm>
                <a:custGeom>
                  <a:avLst/>
                  <a:gdLst/>
                  <a:ahLst/>
                  <a:rect l="l" t="t" r="r" b="b"/>
                  <a:pathLst>
                    <a:path w="240" h="240">
                      <a:moveTo>
                        <a:pt x="96" y="0"/>
                      </a:moveTo>
                      <a:lnTo>
                        <a:pt x="144" y="48"/>
                      </a:lnTo>
                      <a:lnTo>
                        <a:pt x="48" y="144"/>
                      </a:lnTo>
                      <a:lnTo>
                        <a:pt x="0" y="192"/>
                      </a:lnTo>
                      <a:lnTo>
                        <a:pt x="48" y="240"/>
                      </a:lnTo>
                      <a:lnTo>
                        <a:pt x="192" y="96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720" rIns="7272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5" name=""/>
          <p:cNvSpPr/>
          <p:nvPr/>
        </p:nvSpPr>
        <p:spPr>
          <a:xfrm>
            <a:off x="7778880" y="5962680"/>
            <a:ext cx="1218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protected Op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7778880" y="5154480"/>
            <a:ext cx="99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tecte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7550280" y="3767040"/>
            <a:ext cx="110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ro 1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8" name="" descr=""/>
          <p:cNvPicPr/>
          <p:nvPr/>
        </p:nvPicPr>
        <p:blipFill>
          <a:blip r:embed="rId8"/>
          <a:stretch/>
        </p:blipFill>
        <p:spPr>
          <a:xfrm>
            <a:off x="6705720" y="3570120"/>
            <a:ext cx="793800" cy="696960"/>
          </a:xfrm>
          <a:prstGeom prst="rect">
            <a:avLst/>
          </a:prstGeom>
          <a:ln w="0">
            <a:noFill/>
          </a:ln>
        </p:spPr>
      </p:pic>
      <p:sp>
        <p:nvSpPr>
          <p:cNvPr id="2219" name=""/>
          <p:cNvSpPr/>
          <p:nvPr/>
        </p:nvSpPr>
        <p:spPr>
          <a:xfrm>
            <a:off x="7550280" y="4587840"/>
            <a:ext cx="110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S 155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08600" y="4390920"/>
            <a:ext cx="790560" cy="696600"/>
            <a:chOff x="6708600" y="4390920"/>
            <a:chExt cx="790560" cy="696600"/>
          </a:xfrm>
        </p:grpSpPr>
        <p:sp>
          <p:nvSpPr>
            <p:cNvPr id="2221" name=""/>
            <p:cNvSpPr/>
            <p:nvPr/>
          </p:nvSpPr>
          <p:spPr>
            <a:xfrm>
              <a:off x="6714720" y="4466160"/>
              <a:ext cx="709200" cy="61524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712560" y="4466160"/>
              <a:ext cx="4680" cy="617760"/>
            </a:xfrm>
            <a:custGeom>
              <a:avLst/>
              <a:gdLst/>
              <a:ahLst/>
              <a:rect l="l" t="t" r="r" b="b"/>
              <a:pathLst>
                <a:path w="117" h="12799">
                  <a:moveTo>
                    <a:pt x="59" y="12799"/>
                  </a:moveTo>
                  <a:lnTo>
                    <a:pt x="117" y="12740"/>
                  </a:lnTo>
                  <a:lnTo>
                    <a:pt x="117" y="0"/>
                  </a:lnTo>
                  <a:lnTo>
                    <a:pt x="0" y="0"/>
                  </a:lnTo>
                  <a:lnTo>
                    <a:pt x="0" y="12740"/>
                  </a:lnTo>
                  <a:lnTo>
                    <a:pt x="59" y="12799"/>
                  </a:lnTo>
                  <a:lnTo>
                    <a:pt x="0" y="12740"/>
                  </a:lnTo>
                  <a:lnTo>
                    <a:pt x="0" y="12799"/>
                  </a:lnTo>
                  <a:lnTo>
                    <a:pt x="59" y="1279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714720" y="5078880"/>
              <a:ext cx="712800" cy="5040"/>
            </a:xfrm>
            <a:custGeom>
              <a:avLst/>
              <a:gdLst/>
              <a:ahLst/>
              <a:rect l="l" t="t" r="r" b="b"/>
              <a:pathLst>
                <a:path w="14750" h="117">
                  <a:moveTo>
                    <a:pt x="14750" y="58"/>
                  </a:moveTo>
                  <a:lnTo>
                    <a:pt x="14692" y="0"/>
                  </a:lnTo>
                  <a:lnTo>
                    <a:pt x="0" y="0"/>
                  </a:lnTo>
                  <a:lnTo>
                    <a:pt x="0" y="117"/>
                  </a:lnTo>
                  <a:lnTo>
                    <a:pt x="14692" y="117"/>
                  </a:lnTo>
                  <a:lnTo>
                    <a:pt x="14750" y="58"/>
                  </a:lnTo>
                  <a:lnTo>
                    <a:pt x="14692" y="117"/>
                  </a:lnTo>
                  <a:lnTo>
                    <a:pt x="14750" y="117"/>
                  </a:lnTo>
                  <a:lnTo>
                    <a:pt x="14750" y="5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421400" y="4462560"/>
              <a:ext cx="6120" cy="618840"/>
            </a:xfrm>
            <a:custGeom>
              <a:avLst/>
              <a:gdLst/>
              <a:ahLst/>
              <a:rect l="l" t="t" r="r" b="b"/>
              <a:pathLst>
                <a:path w="117" h="12799">
                  <a:moveTo>
                    <a:pt x="59" y="0"/>
                  </a:moveTo>
                  <a:lnTo>
                    <a:pt x="0" y="59"/>
                  </a:lnTo>
                  <a:lnTo>
                    <a:pt x="0" y="12799"/>
                  </a:lnTo>
                  <a:lnTo>
                    <a:pt x="117" y="12799"/>
                  </a:lnTo>
                  <a:lnTo>
                    <a:pt x="117" y="59"/>
                  </a:lnTo>
                  <a:lnTo>
                    <a:pt x="59" y="0"/>
                  </a:lnTo>
                  <a:lnTo>
                    <a:pt x="117" y="59"/>
                  </a:lnTo>
                  <a:lnTo>
                    <a:pt x="117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712560" y="4462560"/>
              <a:ext cx="711360" cy="6120"/>
            </a:xfrm>
            <a:custGeom>
              <a:avLst/>
              <a:gdLst/>
              <a:ahLst/>
              <a:rect l="l" t="t" r="r" b="b"/>
              <a:pathLst>
                <a:path w="14751" h="116">
                  <a:moveTo>
                    <a:pt x="0" y="59"/>
                  </a:moveTo>
                  <a:lnTo>
                    <a:pt x="59" y="116"/>
                  </a:lnTo>
                  <a:lnTo>
                    <a:pt x="14751" y="116"/>
                  </a:lnTo>
                  <a:lnTo>
                    <a:pt x="14751" y="0"/>
                  </a:lnTo>
                  <a:lnTo>
                    <a:pt x="59" y="0"/>
                  </a:lnTo>
                  <a:lnTo>
                    <a:pt x="0" y="59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714720" y="4397040"/>
              <a:ext cx="778320" cy="69120"/>
            </a:xfrm>
            <a:custGeom>
              <a:avLst/>
              <a:gdLst/>
              <a:ahLst/>
              <a:rect l="l" t="t" r="r" b="b"/>
              <a:pathLst>
                <a:path w="16109" h="1416">
                  <a:moveTo>
                    <a:pt x="0" y="1416"/>
                  </a:moveTo>
                  <a:lnTo>
                    <a:pt x="1416" y="0"/>
                  </a:lnTo>
                  <a:lnTo>
                    <a:pt x="16109" y="0"/>
                  </a:lnTo>
                  <a:lnTo>
                    <a:pt x="14692" y="1416"/>
                  </a:lnTo>
                  <a:lnTo>
                    <a:pt x="0" y="1416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713640" y="4394880"/>
              <a:ext cx="71280" cy="72360"/>
            </a:xfrm>
            <a:custGeom>
              <a:avLst/>
              <a:gdLst/>
              <a:ahLst/>
              <a:rect l="l" t="t" r="r" b="b"/>
              <a:pathLst>
                <a:path w="1500" h="1515">
                  <a:moveTo>
                    <a:pt x="1458" y="0"/>
                  </a:moveTo>
                  <a:lnTo>
                    <a:pt x="1417" y="17"/>
                  </a:lnTo>
                  <a:lnTo>
                    <a:pt x="0" y="1433"/>
                  </a:lnTo>
                  <a:lnTo>
                    <a:pt x="83" y="1515"/>
                  </a:lnTo>
                  <a:lnTo>
                    <a:pt x="1500" y="99"/>
                  </a:lnTo>
                  <a:lnTo>
                    <a:pt x="1458" y="0"/>
                  </a:lnTo>
                  <a:lnTo>
                    <a:pt x="1458" y="0"/>
                  </a:lnTo>
                  <a:lnTo>
                    <a:pt x="1434" y="0"/>
                  </a:lnTo>
                  <a:lnTo>
                    <a:pt x="1417" y="17"/>
                  </a:lnTo>
                  <a:lnTo>
                    <a:pt x="1458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783840" y="4394880"/>
              <a:ext cx="715320" cy="4680"/>
            </a:xfrm>
            <a:custGeom>
              <a:avLst/>
              <a:gdLst/>
              <a:ahLst/>
              <a:rect l="l" t="t" r="r" b="b"/>
              <a:pathLst>
                <a:path w="14834" h="117">
                  <a:moveTo>
                    <a:pt x="14735" y="99"/>
                  </a:moveTo>
                  <a:lnTo>
                    <a:pt x="14693" y="0"/>
                  </a:lnTo>
                  <a:lnTo>
                    <a:pt x="0" y="0"/>
                  </a:lnTo>
                  <a:lnTo>
                    <a:pt x="0" y="117"/>
                  </a:lnTo>
                  <a:lnTo>
                    <a:pt x="14693" y="117"/>
                  </a:lnTo>
                  <a:lnTo>
                    <a:pt x="14735" y="99"/>
                  </a:lnTo>
                  <a:lnTo>
                    <a:pt x="14735" y="99"/>
                  </a:lnTo>
                  <a:lnTo>
                    <a:pt x="14834" y="0"/>
                  </a:lnTo>
                  <a:lnTo>
                    <a:pt x="14693" y="0"/>
                  </a:lnTo>
                  <a:lnTo>
                    <a:pt x="14735" y="9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422840" y="4395960"/>
              <a:ext cx="71280" cy="72720"/>
            </a:xfrm>
            <a:custGeom>
              <a:avLst/>
              <a:gdLst/>
              <a:ahLst/>
              <a:rect l="l" t="t" r="r" b="b"/>
              <a:pathLst>
                <a:path w="1500" h="1515">
                  <a:moveTo>
                    <a:pt x="41" y="1515"/>
                  </a:moveTo>
                  <a:lnTo>
                    <a:pt x="82" y="1498"/>
                  </a:lnTo>
                  <a:lnTo>
                    <a:pt x="1500" y="82"/>
                  </a:lnTo>
                  <a:lnTo>
                    <a:pt x="1418" y="0"/>
                  </a:lnTo>
                  <a:lnTo>
                    <a:pt x="0" y="1416"/>
                  </a:lnTo>
                  <a:lnTo>
                    <a:pt x="41" y="1515"/>
                  </a:lnTo>
                  <a:lnTo>
                    <a:pt x="41" y="1515"/>
                  </a:lnTo>
                  <a:lnTo>
                    <a:pt x="65" y="1515"/>
                  </a:lnTo>
                  <a:lnTo>
                    <a:pt x="82" y="1498"/>
                  </a:lnTo>
                  <a:lnTo>
                    <a:pt x="41" y="151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708600" y="4462560"/>
              <a:ext cx="715320" cy="6120"/>
            </a:xfrm>
            <a:custGeom>
              <a:avLst/>
              <a:gdLst/>
              <a:ahLst/>
              <a:rect l="l" t="t" r="r" b="b"/>
              <a:pathLst>
                <a:path w="14833" h="116">
                  <a:moveTo>
                    <a:pt x="99" y="17"/>
                  </a:moveTo>
                  <a:lnTo>
                    <a:pt x="141" y="116"/>
                  </a:lnTo>
                  <a:lnTo>
                    <a:pt x="14833" y="116"/>
                  </a:lnTo>
                  <a:lnTo>
                    <a:pt x="14833" y="0"/>
                  </a:lnTo>
                  <a:lnTo>
                    <a:pt x="141" y="0"/>
                  </a:lnTo>
                  <a:lnTo>
                    <a:pt x="99" y="17"/>
                  </a:lnTo>
                  <a:lnTo>
                    <a:pt x="99" y="17"/>
                  </a:lnTo>
                  <a:lnTo>
                    <a:pt x="0" y="116"/>
                  </a:lnTo>
                  <a:lnTo>
                    <a:pt x="141" y="116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423920" y="4397040"/>
              <a:ext cx="69120" cy="684360"/>
            </a:xfrm>
            <a:custGeom>
              <a:avLst/>
              <a:gdLst/>
              <a:ahLst/>
              <a:rect l="l" t="t" r="r" b="b"/>
              <a:pathLst>
                <a:path w="1417" h="14156">
                  <a:moveTo>
                    <a:pt x="0" y="14156"/>
                  </a:moveTo>
                  <a:lnTo>
                    <a:pt x="1417" y="12741"/>
                  </a:lnTo>
                  <a:lnTo>
                    <a:pt x="1417" y="0"/>
                  </a:lnTo>
                  <a:lnTo>
                    <a:pt x="0" y="1416"/>
                  </a:lnTo>
                  <a:lnTo>
                    <a:pt x="0" y="14156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422840" y="5011200"/>
              <a:ext cx="72360" cy="71280"/>
            </a:xfrm>
            <a:custGeom>
              <a:avLst/>
              <a:gdLst/>
              <a:ahLst/>
              <a:rect l="l" t="t" r="r" b="b"/>
              <a:pathLst>
                <a:path w="1517" h="1498">
                  <a:moveTo>
                    <a:pt x="1517" y="41"/>
                  </a:moveTo>
                  <a:lnTo>
                    <a:pt x="1418" y="0"/>
                  </a:lnTo>
                  <a:lnTo>
                    <a:pt x="0" y="1416"/>
                  </a:lnTo>
                  <a:lnTo>
                    <a:pt x="82" y="1498"/>
                  </a:lnTo>
                  <a:lnTo>
                    <a:pt x="1500" y="82"/>
                  </a:lnTo>
                  <a:lnTo>
                    <a:pt x="1517" y="41"/>
                  </a:lnTo>
                  <a:lnTo>
                    <a:pt x="1500" y="82"/>
                  </a:lnTo>
                  <a:lnTo>
                    <a:pt x="1517" y="65"/>
                  </a:lnTo>
                  <a:lnTo>
                    <a:pt x="1517" y="4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490520" y="4390920"/>
              <a:ext cx="4680" cy="621360"/>
            </a:xfrm>
            <a:custGeom>
              <a:avLst/>
              <a:gdLst/>
              <a:ahLst/>
              <a:rect l="l" t="t" r="r" b="b"/>
              <a:pathLst>
                <a:path w="117" h="12880">
                  <a:moveTo>
                    <a:pt x="18" y="97"/>
                  </a:moveTo>
                  <a:lnTo>
                    <a:pt x="0" y="139"/>
                  </a:lnTo>
                  <a:lnTo>
                    <a:pt x="0" y="12880"/>
                  </a:lnTo>
                  <a:lnTo>
                    <a:pt x="117" y="12880"/>
                  </a:lnTo>
                  <a:lnTo>
                    <a:pt x="117" y="139"/>
                  </a:lnTo>
                  <a:lnTo>
                    <a:pt x="18" y="97"/>
                  </a:lnTo>
                  <a:lnTo>
                    <a:pt x="117" y="139"/>
                  </a:lnTo>
                  <a:lnTo>
                    <a:pt x="117" y="0"/>
                  </a:lnTo>
                  <a:lnTo>
                    <a:pt x="18" y="9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421400" y="4395960"/>
              <a:ext cx="72720" cy="71280"/>
            </a:xfrm>
            <a:custGeom>
              <a:avLst/>
              <a:gdLst/>
              <a:ahLst/>
              <a:rect l="l" t="t" r="r" b="b"/>
              <a:pathLst>
                <a:path w="1517" h="1498">
                  <a:moveTo>
                    <a:pt x="0" y="1458"/>
                  </a:moveTo>
                  <a:lnTo>
                    <a:pt x="99" y="1498"/>
                  </a:lnTo>
                  <a:lnTo>
                    <a:pt x="1517" y="82"/>
                  </a:lnTo>
                  <a:lnTo>
                    <a:pt x="1435" y="0"/>
                  </a:lnTo>
                  <a:lnTo>
                    <a:pt x="17" y="1416"/>
                  </a:lnTo>
                  <a:lnTo>
                    <a:pt x="0" y="1458"/>
                  </a:lnTo>
                  <a:lnTo>
                    <a:pt x="17" y="1416"/>
                  </a:lnTo>
                  <a:lnTo>
                    <a:pt x="0" y="1433"/>
                  </a:lnTo>
                  <a:lnTo>
                    <a:pt x="0" y="145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421400" y="4466160"/>
              <a:ext cx="5040" cy="621360"/>
            </a:xfrm>
            <a:custGeom>
              <a:avLst/>
              <a:gdLst/>
              <a:ahLst/>
              <a:rect l="l" t="t" r="r" b="b"/>
              <a:pathLst>
                <a:path w="116" h="12879">
                  <a:moveTo>
                    <a:pt x="99" y="12782"/>
                  </a:moveTo>
                  <a:lnTo>
                    <a:pt x="116" y="12740"/>
                  </a:lnTo>
                  <a:lnTo>
                    <a:pt x="116" y="0"/>
                  </a:lnTo>
                  <a:lnTo>
                    <a:pt x="0" y="0"/>
                  </a:lnTo>
                  <a:lnTo>
                    <a:pt x="0" y="12740"/>
                  </a:lnTo>
                  <a:lnTo>
                    <a:pt x="99" y="12782"/>
                  </a:lnTo>
                  <a:lnTo>
                    <a:pt x="0" y="12740"/>
                  </a:lnTo>
                  <a:lnTo>
                    <a:pt x="0" y="12879"/>
                  </a:lnTo>
                  <a:lnTo>
                    <a:pt x="99" y="1278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107840" y="4546440"/>
              <a:ext cx="273240" cy="111600"/>
            </a:xfrm>
            <a:custGeom>
              <a:avLst/>
              <a:gdLst/>
              <a:ahLst/>
              <a:rect l="l" t="t" r="r" b="b"/>
              <a:pathLst>
                <a:path w="5651" h="2311">
                  <a:moveTo>
                    <a:pt x="0" y="2311"/>
                  </a:moveTo>
                  <a:lnTo>
                    <a:pt x="5651" y="0"/>
                  </a:lnTo>
                  <a:lnTo>
                    <a:pt x="5651" y="1556"/>
                  </a:lnTo>
                  <a:lnTo>
                    <a:pt x="0" y="231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107840" y="4658400"/>
              <a:ext cx="273240" cy="110160"/>
            </a:xfrm>
            <a:custGeom>
              <a:avLst/>
              <a:gdLst/>
              <a:ahLst/>
              <a:rect l="l" t="t" r="r" b="b"/>
              <a:pathLst>
                <a:path w="5651" h="2290">
                  <a:moveTo>
                    <a:pt x="0" y="0"/>
                  </a:moveTo>
                  <a:lnTo>
                    <a:pt x="5651" y="2290"/>
                  </a:lnTo>
                  <a:lnTo>
                    <a:pt x="5651" y="7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07840" y="4622040"/>
              <a:ext cx="273240" cy="70200"/>
            </a:xfrm>
            <a:custGeom>
              <a:avLst/>
              <a:gdLst/>
              <a:ahLst/>
              <a:rect l="l" t="t" r="r" b="b"/>
              <a:pathLst>
                <a:path w="5651" h="1464">
                  <a:moveTo>
                    <a:pt x="0" y="755"/>
                  </a:moveTo>
                  <a:lnTo>
                    <a:pt x="5651" y="1464"/>
                  </a:lnTo>
                  <a:lnTo>
                    <a:pt x="5651" y="0"/>
                  </a:lnTo>
                  <a:lnTo>
                    <a:pt x="0" y="755"/>
                  </a:lnTo>
                  <a:close/>
                </a:path>
              </a:pathLst>
            </a:custGeom>
            <a:solidFill>
              <a:srgbClr val="71c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60080" y="4762440"/>
              <a:ext cx="43920" cy="32400"/>
            </a:xfrm>
            <a:custGeom>
              <a:avLst/>
              <a:gdLst/>
              <a:ahLst/>
              <a:rect l="l" t="t" r="r" b="b"/>
              <a:pathLst>
                <a:path w="894" h="684">
                  <a:moveTo>
                    <a:pt x="0" y="353"/>
                  </a:moveTo>
                  <a:lnTo>
                    <a:pt x="894" y="0"/>
                  </a:lnTo>
                  <a:lnTo>
                    <a:pt x="894" y="307"/>
                  </a:lnTo>
                  <a:lnTo>
                    <a:pt x="0" y="684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816600" y="4739760"/>
              <a:ext cx="42480" cy="32400"/>
            </a:xfrm>
            <a:custGeom>
              <a:avLst/>
              <a:gdLst/>
              <a:ahLst/>
              <a:rect l="l" t="t" r="r" b="b"/>
              <a:pathLst>
                <a:path w="894" h="684">
                  <a:moveTo>
                    <a:pt x="0" y="353"/>
                  </a:moveTo>
                  <a:lnTo>
                    <a:pt x="894" y="0"/>
                  </a:lnTo>
                  <a:lnTo>
                    <a:pt x="894" y="306"/>
                  </a:lnTo>
                  <a:lnTo>
                    <a:pt x="0" y="684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872760" y="4716360"/>
              <a:ext cx="42480" cy="34920"/>
            </a:xfrm>
            <a:custGeom>
              <a:avLst/>
              <a:gdLst/>
              <a:ahLst/>
              <a:rect l="l" t="t" r="r" b="b"/>
              <a:pathLst>
                <a:path w="895" h="708">
                  <a:moveTo>
                    <a:pt x="0" y="354"/>
                  </a:moveTo>
                  <a:lnTo>
                    <a:pt x="895" y="0"/>
                  </a:lnTo>
                  <a:lnTo>
                    <a:pt x="895" y="331"/>
                  </a:lnTo>
                  <a:lnTo>
                    <a:pt x="0" y="708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928200" y="4694760"/>
              <a:ext cx="43560" cy="32400"/>
            </a:xfrm>
            <a:custGeom>
              <a:avLst/>
              <a:gdLst/>
              <a:ahLst/>
              <a:rect l="l" t="t" r="r" b="b"/>
              <a:pathLst>
                <a:path w="895" h="685">
                  <a:moveTo>
                    <a:pt x="0" y="355"/>
                  </a:moveTo>
                  <a:lnTo>
                    <a:pt x="895" y="0"/>
                  </a:lnTo>
                  <a:lnTo>
                    <a:pt x="895" y="307"/>
                  </a:lnTo>
                  <a:lnTo>
                    <a:pt x="0" y="685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985800" y="4672080"/>
              <a:ext cx="42480" cy="32400"/>
            </a:xfrm>
            <a:custGeom>
              <a:avLst/>
              <a:gdLst/>
              <a:ahLst/>
              <a:rect l="l" t="t" r="r" b="b"/>
              <a:pathLst>
                <a:path w="896" h="684">
                  <a:moveTo>
                    <a:pt x="0" y="354"/>
                  </a:moveTo>
                  <a:lnTo>
                    <a:pt x="896" y="0"/>
                  </a:lnTo>
                  <a:lnTo>
                    <a:pt x="896" y="307"/>
                  </a:lnTo>
                  <a:lnTo>
                    <a:pt x="0" y="684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756120" y="4511520"/>
              <a:ext cx="8640" cy="528120"/>
            </a:xfrm>
            <a:custGeom>
              <a:avLst/>
              <a:gdLst/>
              <a:ahLst/>
              <a:rect l="l" t="t" r="r" b="b"/>
              <a:pathLst>
                <a:path w="183" h="10945">
                  <a:moveTo>
                    <a:pt x="91" y="10945"/>
                  </a:moveTo>
                  <a:lnTo>
                    <a:pt x="183" y="10854"/>
                  </a:lnTo>
                  <a:lnTo>
                    <a:pt x="183" y="0"/>
                  </a:lnTo>
                  <a:lnTo>
                    <a:pt x="0" y="0"/>
                  </a:lnTo>
                  <a:lnTo>
                    <a:pt x="0" y="10854"/>
                  </a:lnTo>
                  <a:lnTo>
                    <a:pt x="91" y="10945"/>
                  </a:lnTo>
                  <a:lnTo>
                    <a:pt x="0" y="10854"/>
                  </a:lnTo>
                  <a:lnTo>
                    <a:pt x="0" y="10945"/>
                  </a:lnTo>
                  <a:lnTo>
                    <a:pt x="91" y="109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760080" y="5031000"/>
              <a:ext cx="623880" cy="8640"/>
            </a:xfrm>
            <a:custGeom>
              <a:avLst/>
              <a:gdLst/>
              <a:ahLst/>
              <a:rect l="l" t="t" r="r" b="b"/>
              <a:pathLst>
                <a:path w="12900" h="182">
                  <a:moveTo>
                    <a:pt x="12900" y="91"/>
                  </a:moveTo>
                  <a:lnTo>
                    <a:pt x="12809" y="0"/>
                  </a:lnTo>
                  <a:lnTo>
                    <a:pt x="0" y="0"/>
                  </a:lnTo>
                  <a:lnTo>
                    <a:pt x="0" y="182"/>
                  </a:lnTo>
                  <a:lnTo>
                    <a:pt x="12809" y="182"/>
                  </a:lnTo>
                  <a:lnTo>
                    <a:pt x="12900" y="91"/>
                  </a:lnTo>
                  <a:lnTo>
                    <a:pt x="12809" y="182"/>
                  </a:lnTo>
                  <a:lnTo>
                    <a:pt x="12900" y="182"/>
                  </a:lnTo>
                  <a:lnTo>
                    <a:pt x="12900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374960" y="4506480"/>
              <a:ext cx="8640" cy="528480"/>
            </a:xfrm>
            <a:custGeom>
              <a:avLst/>
              <a:gdLst/>
              <a:ahLst/>
              <a:rect l="l" t="t" r="r" b="b"/>
              <a:pathLst>
                <a:path w="183" h="10945">
                  <a:moveTo>
                    <a:pt x="92" y="0"/>
                  </a:moveTo>
                  <a:lnTo>
                    <a:pt x="0" y="91"/>
                  </a:lnTo>
                  <a:lnTo>
                    <a:pt x="0" y="10945"/>
                  </a:lnTo>
                  <a:lnTo>
                    <a:pt x="183" y="10945"/>
                  </a:lnTo>
                  <a:lnTo>
                    <a:pt x="183" y="91"/>
                  </a:lnTo>
                  <a:lnTo>
                    <a:pt x="92" y="0"/>
                  </a:lnTo>
                  <a:lnTo>
                    <a:pt x="183" y="91"/>
                  </a:lnTo>
                  <a:lnTo>
                    <a:pt x="183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756120" y="4506480"/>
              <a:ext cx="622440" cy="9720"/>
            </a:xfrm>
            <a:custGeom>
              <a:avLst/>
              <a:gdLst/>
              <a:ahLst/>
              <a:rect l="l" t="t" r="r" b="b"/>
              <a:pathLst>
                <a:path w="12900" h="182">
                  <a:moveTo>
                    <a:pt x="0" y="91"/>
                  </a:moveTo>
                  <a:lnTo>
                    <a:pt x="91" y="182"/>
                  </a:lnTo>
                  <a:lnTo>
                    <a:pt x="12900" y="182"/>
                  </a:lnTo>
                  <a:lnTo>
                    <a:pt x="12900" y="0"/>
                  </a:lnTo>
                  <a:lnTo>
                    <a:pt x="91" y="0"/>
                  </a:lnTo>
                  <a:lnTo>
                    <a:pt x="0" y="91"/>
                  </a:lnTo>
                  <a:lnTo>
                    <a:pt x="91" y="0"/>
                  </a:lnTo>
                  <a:lnTo>
                    <a:pt x="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903000" y="4605840"/>
              <a:ext cx="330120" cy="337680"/>
            </a:xfrm>
            <a:custGeom>
              <a:avLst/>
              <a:gdLst/>
              <a:ahLst/>
              <a:rect l="l" t="t" r="r" b="b"/>
              <a:pathLst>
                <a:path w="6838" h="6998">
                  <a:moveTo>
                    <a:pt x="3408" y="0"/>
                  </a:moveTo>
                  <a:lnTo>
                    <a:pt x="0" y="6998"/>
                  </a:lnTo>
                  <a:lnTo>
                    <a:pt x="6838" y="6998"/>
                  </a:lnTo>
                  <a:lnTo>
                    <a:pt x="3408" y="0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900480" y="4604400"/>
              <a:ext cx="169200" cy="341640"/>
            </a:xfrm>
            <a:custGeom>
              <a:avLst/>
              <a:gdLst/>
              <a:ahLst/>
              <a:rect l="l" t="t" r="r" b="b"/>
              <a:pathLst>
                <a:path w="3513" h="7083">
                  <a:moveTo>
                    <a:pt x="52" y="7083"/>
                  </a:moveTo>
                  <a:lnTo>
                    <a:pt x="104" y="7050"/>
                  </a:lnTo>
                  <a:lnTo>
                    <a:pt x="3513" y="52"/>
                  </a:lnTo>
                  <a:lnTo>
                    <a:pt x="3408" y="0"/>
                  </a:lnTo>
                  <a:lnTo>
                    <a:pt x="0" y="6999"/>
                  </a:lnTo>
                  <a:lnTo>
                    <a:pt x="52" y="70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903000" y="4941000"/>
              <a:ext cx="332640" cy="5040"/>
            </a:xfrm>
            <a:custGeom>
              <a:avLst/>
              <a:gdLst/>
              <a:ahLst/>
              <a:rect l="l" t="t" r="r" b="b"/>
              <a:pathLst>
                <a:path w="6891" h="117">
                  <a:moveTo>
                    <a:pt x="6891" y="33"/>
                  </a:moveTo>
                  <a:lnTo>
                    <a:pt x="6838" y="0"/>
                  </a:lnTo>
                  <a:lnTo>
                    <a:pt x="0" y="0"/>
                  </a:lnTo>
                  <a:lnTo>
                    <a:pt x="0" y="117"/>
                  </a:lnTo>
                  <a:lnTo>
                    <a:pt x="6838" y="117"/>
                  </a:lnTo>
                  <a:lnTo>
                    <a:pt x="6891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065000" y="4604400"/>
              <a:ext cx="170640" cy="340200"/>
            </a:xfrm>
            <a:custGeom>
              <a:avLst/>
              <a:gdLst/>
              <a:ahLst/>
              <a:rect l="l" t="t" r="r" b="b"/>
              <a:pathLst>
                <a:path w="3535" h="7050">
                  <a:moveTo>
                    <a:pt x="0" y="0"/>
                  </a:moveTo>
                  <a:lnTo>
                    <a:pt x="1" y="52"/>
                  </a:lnTo>
                  <a:lnTo>
                    <a:pt x="3429" y="7050"/>
                  </a:lnTo>
                  <a:lnTo>
                    <a:pt x="3535" y="6999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965640" y="4821480"/>
              <a:ext cx="81360" cy="34920"/>
            </a:xfrm>
            <a:custGeom>
              <a:avLst/>
              <a:gdLst/>
              <a:ahLst/>
              <a:rect l="l" t="t" r="r" b="b"/>
              <a:pathLst>
                <a:path w="1684" h="741">
                  <a:moveTo>
                    <a:pt x="1684" y="181"/>
                  </a:moveTo>
                  <a:lnTo>
                    <a:pt x="373" y="181"/>
                  </a:lnTo>
                  <a:lnTo>
                    <a:pt x="373" y="0"/>
                  </a:lnTo>
                  <a:lnTo>
                    <a:pt x="0" y="368"/>
                  </a:lnTo>
                  <a:lnTo>
                    <a:pt x="373" y="741"/>
                  </a:lnTo>
                  <a:lnTo>
                    <a:pt x="373" y="554"/>
                  </a:lnTo>
                  <a:lnTo>
                    <a:pt x="1684" y="554"/>
                  </a:lnTo>
                  <a:lnTo>
                    <a:pt x="1684" y="1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995880" y="4766400"/>
              <a:ext cx="63720" cy="63720"/>
            </a:xfrm>
            <a:custGeom>
              <a:avLst/>
              <a:gdLst/>
              <a:ahLst/>
              <a:rect l="l" t="t" r="r" b="b"/>
              <a:pathLst>
                <a:path w="1323" h="1316">
                  <a:moveTo>
                    <a:pt x="1323" y="1053"/>
                  </a:moveTo>
                  <a:lnTo>
                    <a:pt x="397" y="127"/>
                  </a:lnTo>
                  <a:lnTo>
                    <a:pt x="524" y="9"/>
                  </a:lnTo>
                  <a:lnTo>
                    <a:pt x="0" y="0"/>
                  </a:lnTo>
                  <a:lnTo>
                    <a:pt x="0" y="522"/>
                  </a:lnTo>
                  <a:lnTo>
                    <a:pt x="132" y="390"/>
                  </a:lnTo>
                  <a:lnTo>
                    <a:pt x="1060" y="1316"/>
                  </a:lnTo>
                  <a:lnTo>
                    <a:pt x="1323" y="10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050960" y="4736160"/>
              <a:ext cx="35280" cy="81360"/>
            </a:xfrm>
            <a:custGeom>
              <a:avLst/>
              <a:gdLst/>
              <a:ahLst/>
              <a:rect l="l" t="t" r="r" b="b"/>
              <a:pathLst>
                <a:path w="740" h="1683">
                  <a:moveTo>
                    <a:pt x="560" y="1683"/>
                  </a:moveTo>
                  <a:lnTo>
                    <a:pt x="560" y="373"/>
                  </a:lnTo>
                  <a:lnTo>
                    <a:pt x="740" y="373"/>
                  </a:lnTo>
                  <a:lnTo>
                    <a:pt x="373" y="0"/>
                  </a:lnTo>
                  <a:lnTo>
                    <a:pt x="0" y="373"/>
                  </a:lnTo>
                  <a:lnTo>
                    <a:pt x="186" y="373"/>
                  </a:lnTo>
                  <a:lnTo>
                    <a:pt x="186" y="1683"/>
                  </a:lnTo>
                  <a:lnTo>
                    <a:pt x="560" y="16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077600" y="4766400"/>
              <a:ext cx="63720" cy="63720"/>
            </a:xfrm>
            <a:custGeom>
              <a:avLst/>
              <a:gdLst/>
              <a:ahLst/>
              <a:rect l="l" t="t" r="r" b="b"/>
              <a:pathLst>
                <a:path w="1318" h="1322">
                  <a:moveTo>
                    <a:pt x="264" y="1322"/>
                  </a:moveTo>
                  <a:lnTo>
                    <a:pt x="1191" y="395"/>
                  </a:lnTo>
                  <a:lnTo>
                    <a:pt x="1314" y="524"/>
                  </a:lnTo>
                  <a:lnTo>
                    <a:pt x="1318" y="0"/>
                  </a:lnTo>
                  <a:lnTo>
                    <a:pt x="795" y="0"/>
                  </a:lnTo>
                  <a:lnTo>
                    <a:pt x="927" y="132"/>
                  </a:lnTo>
                  <a:lnTo>
                    <a:pt x="0" y="1059"/>
                  </a:lnTo>
                  <a:lnTo>
                    <a:pt x="264" y="1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090200" y="4821480"/>
              <a:ext cx="81360" cy="34920"/>
            </a:xfrm>
            <a:custGeom>
              <a:avLst/>
              <a:gdLst/>
              <a:ahLst/>
              <a:rect l="l" t="t" r="r" b="b"/>
              <a:pathLst>
                <a:path w="1683" h="740">
                  <a:moveTo>
                    <a:pt x="0" y="559"/>
                  </a:moveTo>
                  <a:lnTo>
                    <a:pt x="1310" y="559"/>
                  </a:lnTo>
                  <a:lnTo>
                    <a:pt x="1310" y="740"/>
                  </a:lnTo>
                  <a:lnTo>
                    <a:pt x="1683" y="373"/>
                  </a:lnTo>
                  <a:lnTo>
                    <a:pt x="1310" y="0"/>
                  </a:lnTo>
                  <a:lnTo>
                    <a:pt x="1310" y="186"/>
                  </a:lnTo>
                  <a:lnTo>
                    <a:pt x="0" y="186"/>
                  </a:lnTo>
                  <a:lnTo>
                    <a:pt x="0" y="5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077600" y="4848120"/>
              <a:ext cx="63720" cy="63720"/>
            </a:xfrm>
            <a:custGeom>
              <a:avLst/>
              <a:gdLst/>
              <a:ahLst/>
              <a:rect l="l" t="t" r="r" b="b"/>
              <a:pathLst>
                <a:path w="1323" h="1313">
                  <a:moveTo>
                    <a:pt x="0" y="264"/>
                  </a:moveTo>
                  <a:lnTo>
                    <a:pt x="927" y="1190"/>
                  </a:lnTo>
                  <a:lnTo>
                    <a:pt x="800" y="1313"/>
                  </a:lnTo>
                  <a:lnTo>
                    <a:pt x="1323" y="1306"/>
                  </a:lnTo>
                  <a:lnTo>
                    <a:pt x="1323" y="795"/>
                  </a:lnTo>
                  <a:lnTo>
                    <a:pt x="1191" y="927"/>
                  </a:lnTo>
                  <a:lnTo>
                    <a:pt x="264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050960" y="4860720"/>
              <a:ext cx="35280" cy="81360"/>
            </a:xfrm>
            <a:custGeom>
              <a:avLst/>
              <a:gdLst/>
              <a:ahLst/>
              <a:rect l="l" t="t" r="r" b="b"/>
              <a:pathLst>
                <a:path w="741" h="1683">
                  <a:moveTo>
                    <a:pt x="181" y="0"/>
                  </a:moveTo>
                  <a:lnTo>
                    <a:pt x="181" y="1310"/>
                  </a:lnTo>
                  <a:lnTo>
                    <a:pt x="0" y="1310"/>
                  </a:lnTo>
                  <a:lnTo>
                    <a:pt x="368" y="1683"/>
                  </a:lnTo>
                  <a:lnTo>
                    <a:pt x="741" y="1310"/>
                  </a:lnTo>
                  <a:lnTo>
                    <a:pt x="555" y="1310"/>
                  </a:lnTo>
                  <a:lnTo>
                    <a:pt x="555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995880" y="4848120"/>
              <a:ext cx="63720" cy="63720"/>
            </a:xfrm>
            <a:custGeom>
              <a:avLst/>
              <a:gdLst/>
              <a:ahLst/>
              <a:rect l="l" t="t" r="r" b="b"/>
              <a:pathLst>
                <a:path w="1319" h="1322">
                  <a:moveTo>
                    <a:pt x="1056" y="0"/>
                  </a:moveTo>
                  <a:lnTo>
                    <a:pt x="128" y="927"/>
                  </a:lnTo>
                  <a:lnTo>
                    <a:pt x="0" y="799"/>
                  </a:lnTo>
                  <a:lnTo>
                    <a:pt x="2" y="1322"/>
                  </a:lnTo>
                  <a:lnTo>
                    <a:pt x="523" y="1322"/>
                  </a:lnTo>
                  <a:lnTo>
                    <a:pt x="392" y="1190"/>
                  </a:lnTo>
                  <a:lnTo>
                    <a:pt x="1319" y="264"/>
                  </a:lnTo>
                  <a:lnTo>
                    <a:pt x="10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964560" y="4820400"/>
              <a:ext cx="81360" cy="34920"/>
            </a:xfrm>
            <a:custGeom>
              <a:avLst/>
              <a:gdLst/>
              <a:ahLst/>
              <a:rect l="l" t="t" r="r" b="b"/>
              <a:pathLst>
                <a:path w="1684" h="740">
                  <a:moveTo>
                    <a:pt x="1684" y="181"/>
                  </a:moveTo>
                  <a:lnTo>
                    <a:pt x="373" y="181"/>
                  </a:lnTo>
                  <a:lnTo>
                    <a:pt x="373" y="0"/>
                  </a:lnTo>
                  <a:lnTo>
                    <a:pt x="0" y="367"/>
                  </a:lnTo>
                  <a:lnTo>
                    <a:pt x="373" y="740"/>
                  </a:lnTo>
                  <a:lnTo>
                    <a:pt x="373" y="554"/>
                  </a:lnTo>
                  <a:lnTo>
                    <a:pt x="1684" y="554"/>
                  </a:lnTo>
                  <a:lnTo>
                    <a:pt x="1684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994800" y="4765320"/>
              <a:ext cx="63720" cy="63720"/>
            </a:xfrm>
            <a:custGeom>
              <a:avLst/>
              <a:gdLst/>
              <a:ahLst/>
              <a:rect l="l" t="t" r="r" b="b"/>
              <a:pathLst>
                <a:path w="1323" h="1316">
                  <a:moveTo>
                    <a:pt x="1323" y="1053"/>
                  </a:moveTo>
                  <a:lnTo>
                    <a:pt x="396" y="126"/>
                  </a:lnTo>
                  <a:lnTo>
                    <a:pt x="524" y="9"/>
                  </a:lnTo>
                  <a:lnTo>
                    <a:pt x="0" y="0"/>
                  </a:lnTo>
                  <a:lnTo>
                    <a:pt x="0" y="521"/>
                  </a:lnTo>
                  <a:lnTo>
                    <a:pt x="132" y="390"/>
                  </a:lnTo>
                  <a:lnTo>
                    <a:pt x="1059" y="1316"/>
                  </a:lnTo>
                  <a:lnTo>
                    <a:pt x="1323" y="10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049880" y="4735080"/>
              <a:ext cx="34920" cy="80280"/>
            </a:xfrm>
            <a:custGeom>
              <a:avLst/>
              <a:gdLst/>
              <a:ahLst/>
              <a:rect l="l" t="t" r="r" b="b"/>
              <a:pathLst>
                <a:path w="741" h="1683">
                  <a:moveTo>
                    <a:pt x="560" y="1683"/>
                  </a:moveTo>
                  <a:lnTo>
                    <a:pt x="560" y="373"/>
                  </a:lnTo>
                  <a:lnTo>
                    <a:pt x="741" y="373"/>
                  </a:lnTo>
                  <a:lnTo>
                    <a:pt x="374" y="0"/>
                  </a:lnTo>
                  <a:lnTo>
                    <a:pt x="0" y="373"/>
                  </a:lnTo>
                  <a:lnTo>
                    <a:pt x="187" y="373"/>
                  </a:lnTo>
                  <a:lnTo>
                    <a:pt x="187" y="1683"/>
                  </a:lnTo>
                  <a:lnTo>
                    <a:pt x="560" y="16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076160" y="4765320"/>
              <a:ext cx="63720" cy="63720"/>
            </a:xfrm>
            <a:custGeom>
              <a:avLst/>
              <a:gdLst/>
              <a:ahLst/>
              <a:rect l="l" t="t" r="r" b="b"/>
              <a:pathLst>
                <a:path w="1317" h="1323">
                  <a:moveTo>
                    <a:pt x="264" y="1323"/>
                  </a:moveTo>
                  <a:lnTo>
                    <a:pt x="1190" y="396"/>
                  </a:lnTo>
                  <a:lnTo>
                    <a:pt x="1313" y="524"/>
                  </a:lnTo>
                  <a:lnTo>
                    <a:pt x="1317" y="0"/>
                  </a:lnTo>
                  <a:lnTo>
                    <a:pt x="795" y="0"/>
                  </a:lnTo>
                  <a:lnTo>
                    <a:pt x="927" y="132"/>
                  </a:lnTo>
                  <a:lnTo>
                    <a:pt x="0" y="1060"/>
                  </a:lnTo>
                  <a:lnTo>
                    <a:pt x="264" y="13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089120" y="4820400"/>
              <a:ext cx="81360" cy="34920"/>
            </a:xfrm>
            <a:custGeom>
              <a:avLst/>
              <a:gdLst/>
              <a:ahLst/>
              <a:rect l="l" t="t" r="r" b="b"/>
              <a:pathLst>
                <a:path w="1683" h="739">
                  <a:moveTo>
                    <a:pt x="0" y="559"/>
                  </a:moveTo>
                  <a:lnTo>
                    <a:pt x="1311" y="559"/>
                  </a:lnTo>
                  <a:lnTo>
                    <a:pt x="1311" y="739"/>
                  </a:lnTo>
                  <a:lnTo>
                    <a:pt x="1683" y="373"/>
                  </a:lnTo>
                  <a:lnTo>
                    <a:pt x="1311" y="0"/>
                  </a:lnTo>
                  <a:lnTo>
                    <a:pt x="1311" y="186"/>
                  </a:lnTo>
                  <a:lnTo>
                    <a:pt x="0" y="186"/>
                  </a:lnTo>
                  <a:lnTo>
                    <a:pt x="0" y="5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076160" y="4846680"/>
              <a:ext cx="63720" cy="62640"/>
            </a:xfrm>
            <a:custGeom>
              <a:avLst/>
              <a:gdLst/>
              <a:ahLst/>
              <a:rect l="l" t="t" r="r" b="b"/>
              <a:pathLst>
                <a:path w="1322" h="1312">
                  <a:moveTo>
                    <a:pt x="0" y="263"/>
                  </a:moveTo>
                  <a:lnTo>
                    <a:pt x="927" y="1190"/>
                  </a:lnTo>
                  <a:lnTo>
                    <a:pt x="799" y="1312"/>
                  </a:lnTo>
                  <a:lnTo>
                    <a:pt x="1322" y="1305"/>
                  </a:lnTo>
                  <a:lnTo>
                    <a:pt x="1322" y="794"/>
                  </a:lnTo>
                  <a:lnTo>
                    <a:pt x="1190" y="926"/>
                  </a:lnTo>
                  <a:lnTo>
                    <a:pt x="264" y="0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049880" y="4859280"/>
              <a:ext cx="34920" cy="81360"/>
            </a:xfrm>
            <a:custGeom>
              <a:avLst/>
              <a:gdLst/>
              <a:ahLst/>
              <a:rect l="l" t="t" r="r" b="b"/>
              <a:pathLst>
                <a:path w="742" h="1684">
                  <a:moveTo>
                    <a:pt x="182" y="0"/>
                  </a:moveTo>
                  <a:lnTo>
                    <a:pt x="182" y="1311"/>
                  </a:lnTo>
                  <a:lnTo>
                    <a:pt x="0" y="1311"/>
                  </a:lnTo>
                  <a:lnTo>
                    <a:pt x="369" y="1684"/>
                  </a:lnTo>
                  <a:lnTo>
                    <a:pt x="742" y="1311"/>
                  </a:lnTo>
                  <a:lnTo>
                    <a:pt x="555" y="1311"/>
                  </a:lnTo>
                  <a:lnTo>
                    <a:pt x="555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994800" y="4846680"/>
              <a:ext cx="63720" cy="63720"/>
            </a:xfrm>
            <a:custGeom>
              <a:avLst/>
              <a:gdLst/>
              <a:ahLst/>
              <a:rect l="l" t="t" r="r" b="b"/>
              <a:pathLst>
                <a:path w="1319" h="1321">
                  <a:moveTo>
                    <a:pt x="1055" y="0"/>
                  </a:moveTo>
                  <a:lnTo>
                    <a:pt x="128" y="926"/>
                  </a:lnTo>
                  <a:lnTo>
                    <a:pt x="0" y="798"/>
                  </a:lnTo>
                  <a:lnTo>
                    <a:pt x="2" y="1321"/>
                  </a:lnTo>
                  <a:lnTo>
                    <a:pt x="524" y="1321"/>
                  </a:lnTo>
                  <a:lnTo>
                    <a:pt x="391" y="1190"/>
                  </a:lnTo>
                  <a:lnTo>
                    <a:pt x="1319" y="263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057440" y="4806360"/>
              <a:ext cx="20160" cy="1080"/>
            </a:xfrm>
            <a:custGeom>
              <a:avLst/>
              <a:gdLst/>
              <a:ahLst/>
              <a:rect l="l" t="t" r="r" b="b"/>
              <a:pathLst>
                <a:path w="406" h="28">
                  <a:moveTo>
                    <a:pt x="406" y="28"/>
                  </a:moveTo>
                  <a:lnTo>
                    <a:pt x="0" y="28"/>
                  </a:lnTo>
                  <a:lnTo>
                    <a:pt x="24" y="22"/>
                  </a:lnTo>
                  <a:lnTo>
                    <a:pt x="48" y="16"/>
                  </a:lnTo>
                  <a:lnTo>
                    <a:pt x="74" y="11"/>
                  </a:lnTo>
                  <a:lnTo>
                    <a:pt x="99" y="7"/>
                  </a:lnTo>
                  <a:lnTo>
                    <a:pt x="125" y="4"/>
                  </a:lnTo>
                  <a:lnTo>
                    <a:pt x="150" y="2"/>
                  </a:lnTo>
                  <a:lnTo>
                    <a:pt x="176" y="0"/>
                  </a:lnTo>
                  <a:lnTo>
                    <a:pt x="203" y="0"/>
                  </a:lnTo>
                  <a:lnTo>
                    <a:pt x="229" y="0"/>
                  </a:lnTo>
                  <a:lnTo>
                    <a:pt x="255" y="2"/>
                  </a:lnTo>
                  <a:lnTo>
                    <a:pt x="281" y="4"/>
                  </a:lnTo>
                  <a:lnTo>
                    <a:pt x="307" y="7"/>
                  </a:lnTo>
                  <a:lnTo>
                    <a:pt x="332" y="11"/>
                  </a:lnTo>
                  <a:lnTo>
                    <a:pt x="357" y="16"/>
                  </a:lnTo>
                  <a:lnTo>
                    <a:pt x="382" y="22"/>
                  </a:lnTo>
                  <a:lnTo>
                    <a:pt x="406" y="28"/>
                  </a:lnTo>
                  <a:close/>
                </a:path>
              </a:pathLst>
            </a:custGeom>
            <a:solidFill>
              <a:srgbClr val="d93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053840" y="4806360"/>
              <a:ext cx="27360" cy="2520"/>
            </a:xfrm>
            <a:custGeom>
              <a:avLst/>
              <a:gdLst/>
              <a:ahLst/>
              <a:rect l="l" t="t" r="r" b="b"/>
              <a:pathLst>
                <a:path w="568" h="58">
                  <a:moveTo>
                    <a:pt x="568" y="58"/>
                  </a:moveTo>
                  <a:lnTo>
                    <a:pt x="0" y="58"/>
                  </a:lnTo>
                  <a:lnTo>
                    <a:pt x="33" y="44"/>
                  </a:lnTo>
                  <a:lnTo>
                    <a:pt x="67" y="32"/>
                  </a:lnTo>
                  <a:lnTo>
                    <a:pt x="101" y="23"/>
                  </a:lnTo>
                  <a:lnTo>
                    <a:pt x="137" y="15"/>
                  </a:lnTo>
                  <a:lnTo>
                    <a:pt x="172" y="8"/>
                  </a:lnTo>
                  <a:lnTo>
                    <a:pt x="209" y="4"/>
                  </a:lnTo>
                  <a:lnTo>
                    <a:pt x="246" y="1"/>
                  </a:lnTo>
                  <a:lnTo>
                    <a:pt x="284" y="0"/>
                  </a:lnTo>
                  <a:lnTo>
                    <a:pt x="321" y="1"/>
                  </a:lnTo>
                  <a:lnTo>
                    <a:pt x="359" y="4"/>
                  </a:lnTo>
                  <a:lnTo>
                    <a:pt x="395" y="8"/>
                  </a:lnTo>
                  <a:lnTo>
                    <a:pt x="431" y="15"/>
                  </a:lnTo>
                  <a:lnTo>
                    <a:pt x="466" y="23"/>
                  </a:lnTo>
                  <a:lnTo>
                    <a:pt x="501" y="32"/>
                  </a:lnTo>
                  <a:lnTo>
                    <a:pt x="535" y="44"/>
                  </a:lnTo>
                  <a:lnTo>
                    <a:pt x="568" y="58"/>
                  </a:lnTo>
                  <a:close/>
                </a:path>
              </a:pathLst>
            </a:custGeom>
            <a:solidFill>
              <a:srgbClr val="d93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050960" y="4807440"/>
              <a:ext cx="32400" cy="2520"/>
            </a:xfrm>
            <a:custGeom>
              <a:avLst/>
              <a:gdLst/>
              <a:ahLst/>
              <a:rect l="l" t="t" r="r" b="b"/>
              <a:pathLst>
                <a:path w="688" h="58">
                  <a:moveTo>
                    <a:pt x="141" y="0"/>
                  </a:moveTo>
                  <a:lnTo>
                    <a:pt x="547" y="0"/>
                  </a:lnTo>
                  <a:lnTo>
                    <a:pt x="584" y="12"/>
                  </a:lnTo>
                  <a:lnTo>
                    <a:pt x="619" y="26"/>
                  </a:lnTo>
                  <a:lnTo>
                    <a:pt x="654" y="42"/>
                  </a:lnTo>
                  <a:lnTo>
                    <a:pt x="688" y="58"/>
                  </a:lnTo>
                  <a:lnTo>
                    <a:pt x="0" y="58"/>
                  </a:lnTo>
                  <a:lnTo>
                    <a:pt x="33" y="42"/>
                  </a:lnTo>
                  <a:lnTo>
                    <a:pt x="68" y="26"/>
                  </a:lnTo>
                  <a:lnTo>
                    <a:pt x="103" y="12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db41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048440" y="4808880"/>
              <a:ext cx="37800" cy="2520"/>
            </a:xfrm>
            <a:custGeom>
              <a:avLst/>
              <a:gdLst/>
              <a:ahLst/>
              <a:rect l="l" t="t" r="r" b="b"/>
              <a:pathLst>
                <a:path w="786" h="57">
                  <a:moveTo>
                    <a:pt x="109" y="0"/>
                  </a:moveTo>
                  <a:lnTo>
                    <a:pt x="677" y="0"/>
                  </a:lnTo>
                  <a:lnTo>
                    <a:pt x="705" y="13"/>
                  </a:lnTo>
                  <a:lnTo>
                    <a:pt x="732" y="26"/>
                  </a:lnTo>
                  <a:lnTo>
                    <a:pt x="760" y="41"/>
                  </a:lnTo>
                  <a:lnTo>
                    <a:pt x="786" y="57"/>
                  </a:lnTo>
                  <a:lnTo>
                    <a:pt x="0" y="57"/>
                  </a:lnTo>
                  <a:lnTo>
                    <a:pt x="26" y="41"/>
                  </a:lnTo>
                  <a:lnTo>
                    <a:pt x="53" y="26"/>
                  </a:lnTo>
                  <a:lnTo>
                    <a:pt x="80" y="1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dd4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046280" y="4810320"/>
              <a:ext cx="42480" cy="2520"/>
            </a:xfrm>
            <a:custGeom>
              <a:avLst/>
              <a:gdLst/>
              <a:ahLst/>
              <a:rect l="l" t="t" r="r" b="b"/>
              <a:pathLst>
                <a:path w="869" h="59">
                  <a:moveTo>
                    <a:pt x="90" y="0"/>
                  </a:moveTo>
                  <a:lnTo>
                    <a:pt x="778" y="0"/>
                  </a:lnTo>
                  <a:lnTo>
                    <a:pt x="802" y="14"/>
                  </a:lnTo>
                  <a:lnTo>
                    <a:pt x="824" y="27"/>
                  </a:lnTo>
                  <a:lnTo>
                    <a:pt x="846" y="43"/>
                  </a:lnTo>
                  <a:lnTo>
                    <a:pt x="869" y="59"/>
                  </a:lnTo>
                  <a:lnTo>
                    <a:pt x="0" y="59"/>
                  </a:lnTo>
                  <a:lnTo>
                    <a:pt x="21" y="43"/>
                  </a:lnTo>
                  <a:lnTo>
                    <a:pt x="43" y="27"/>
                  </a:lnTo>
                  <a:lnTo>
                    <a:pt x="67" y="1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df5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044840" y="4811760"/>
              <a:ext cx="45000" cy="2520"/>
            </a:xfrm>
            <a:custGeom>
              <a:avLst/>
              <a:gdLst/>
              <a:ahLst/>
              <a:rect l="l" t="t" r="r" b="b"/>
              <a:pathLst>
                <a:path w="941" h="58">
                  <a:moveTo>
                    <a:pt x="78" y="0"/>
                  </a:moveTo>
                  <a:lnTo>
                    <a:pt x="864" y="0"/>
                  </a:lnTo>
                  <a:lnTo>
                    <a:pt x="884" y="14"/>
                  </a:lnTo>
                  <a:lnTo>
                    <a:pt x="904" y="28"/>
                  </a:lnTo>
                  <a:lnTo>
                    <a:pt x="923" y="43"/>
                  </a:lnTo>
                  <a:lnTo>
                    <a:pt x="941" y="58"/>
                  </a:lnTo>
                  <a:lnTo>
                    <a:pt x="0" y="58"/>
                  </a:lnTo>
                  <a:lnTo>
                    <a:pt x="18" y="43"/>
                  </a:lnTo>
                  <a:lnTo>
                    <a:pt x="38" y="28"/>
                  </a:lnTo>
                  <a:lnTo>
                    <a:pt x="58" y="1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06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043760" y="4812840"/>
              <a:ext cx="47520" cy="2520"/>
            </a:xfrm>
            <a:custGeom>
              <a:avLst/>
              <a:gdLst/>
              <a:ahLst/>
              <a:rect l="l" t="t" r="r" b="b"/>
              <a:pathLst>
                <a:path w="1005" h="57">
                  <a:moveTo>
                    <a:pt x="68" y="0"/>
                  </a:moveTo>
                  <a:lnTo>
                    <a:pt x="937" y="0"/>
                  </a:lnTo>
                  <a:lnTo>
                    <a:pt x="954" y="13"/>
                  </a:lnTo>
                  <a:lnTo>
                    <a:pt x="971" y="27"/>
                  </a:lnTo>
                  <a:lnTo>
                    <a:pt x="987" y="42"/>
                  </a:lnTo>
                  <a:lnTo>
                    <a:pt x="1005" y="57"/>
                  </a:lnTo>
                  <a:lnTo>
                    <a:pt x="0" y="57"/>
                  </a:lnTo>
                  <a:lnTo>
                    <a:pt x="16" y="42"/>
                  </a:lnTo>
                  <a:lnTo>
                    <a:pt x="32" y="27"/>
                  </a:lnTo>
                  <a:lnTo>
                    <a:pt x="49" y="13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e26d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042320" y="4814280"/>
              <a:ext cx="50040" cy="3600"/>
            </a:xfrm>
            <a:custGeom>
              <a:avLst/>
              <a:gdLst/>
              <a:ahLst/>
              <a:rect l="l" t="t" r="r" b="b"/>
              <a:pathLst>
                <a:path w="1062" h="58">
                  <a:moveTo>
                    <a:pt x="60" y="0"/>
                  </a:moveTo>
                  <a:lnTo>
                    <a:pt x="1001" y="0"/>
                  </a:lnTo>
                  <a:lnTo>
                    <a:pt x="1017" y="14"/>
                  </a:lnTo>
                  <a:lnTo>
                    <a:pt x="1033" y="28"/>
                  </a:lnTo>
                  <a:lnTo>
                    <a:pt x="1047" y="43"/>
                  </a:lnTo>
                  <a:lnTo>
                    <a:pt x="1062" y="58"/>
                  </a:lnTo>
                  <a:lnTo>
                    <a:pt x="0" y="58"/>
                  </a:lnTo>
                  <a:lnTo>
                    <a:pt x="14" y="43"/>
                  </a:lnTo>
                  <a:lnTo>
                    <a:pt x="30" y="28"/>
                  </a:lnTo>
                  <a:lnTo>
                    <a:pt x="45" y="1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47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041240" y="4815360"/>
              <a:ext cx="52560" cy="3600"/>
            </a:xfrm>
            <a:custGeom>
              <a:avLst/>
              <a:gdLst/>
              <a:ahLst/>
              <a:rect l="l" t="t" r="r" b="b"/>
              <a:pathLst>
                <a:path w="1112" h="58">
                  <a:moveTo>
                    <a:pt x="54" y="0"/>
                  </a:moveTo>
                  <a:lnTo>
                    <a:pt x="1059" y="0"/>
                  </a:lnTo>
                  <a:lnTo>
                    <a:pt x="1072" y="14"/>
                  </a:lnTo>
                  <a:lnTo>
                    <a:pt x="1086" y="29"/>
                  </a:lnTo>
                  <a:lnTo>
                    <a:pt x="1099" y="43"/>
                  </a:lnTo>
                  <a:lnTo>
                    <a:pt x="1112" y="58"/>
                  </a:lnTo>
                  <a:lnTo>
                    <a:pt x="0" y="58"/>
                  </a:lnTo>
                  <a:lnTo>
                    <a:pt x="12" y="43"/>
                  </a:lnTo>
                  <a:lnTo>
                    <a:pt x="25" y="29"/>
                  </a:lnTo>
                  <a:lnTo>
                    <a:pt x="39" y="1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48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040160" y="4817880"/>
              <a:ext cx="55080" cy="2520"/>
            </a:xfrm>
            <a:custGeom>
              <a:avLst/>
              <a:gdLst/>
              <a:ahLst/>
              <a:rect l="l" t="t" r="r" b="b"/>
              <a:pathLst>
                <a:path w="1158" h="58">
                  <a:moveTo>
                    <a:pt x="48" y="0"/>
                  </a:moveTo>
                  <a:lnTo>
                    <a:pt x="1110" y="0"/>
                  </a:lnTo>
                  <a:lnTo>
                    <a:pt x="1122" y="14"/>
                  </a:lnTo>
                  <a:lnTo>
                    <a:pt x="1134" y="28"/>
                  </a:lnTo>
                  <a:lnTo>
                    <a:pt x="1146" y="43"/>
                  </a:lnTo>
                  <a:lnTo>
                    <a:pt x="1158" y="58"/>
                  </a:lnTo>
                  <a:lnTo>
                    <a:pt x="0" y="58"/>
                  </a:lnTo>
                  <a:lnTo>
                    <a:pt x="11" y="43"/>
                  </a:lnTo>
                  <a:lnTo>
                    <a:pt x="23" y="28"/>
                  </a:lnTo>
                  <a:lnTo>
                    <a:pt x="35" y="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78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038720" y="4818960"/>
              <a:ext cx="57600" cy="252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44" y="0"/>
                  </a:moveTo>
                  <a:lnTo>
                    <a:pt x="1156" y="0"/>
                  </a:lnTo>
                  <a:lnTo>
                    <a:pt x="1167" y="14"/>
                  </a:lnTo>
                  <a:lnTo>
                    <a:pt x="1179" y="29"/>
                  </a:lnTo>
                  <a:lnTo>
                    <a:pt x="1189" y="43"/>
                  </a:lnTo>
                  <a:lnTo>
                    <a:pt x="1200" y="58"/>
                  </a:lnTo>
                  <a:lnTo>
                    <a:pt x="0" y="58"/>
                  </a:lnTo>
                  <a:lnTo>
                    <a:pt x="10" y="43"/>
                  </a:lnTo>
                  <a:lnTo>
                    <a:pt x="21" y="29"/>
                  </a:lnTo>
                  <a:lnTo>
                    <a:pt x="32" y="1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89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37280" y="4820400"/>
              <a:ext cx="59760" cy="2160"/>
            </a:xfrm>
            <a:custGeom>
              <a:avLst/>
              <a:gdLst/>
              <a:ahLst/>
              <a:rect l="l" t="t" r="r" b="b"/>
              <a:pathLst>
                <a:path w="1237" h="57">
                  <a:moveTo>
                    <a:pt x="40" y="0"/>
                  </a:moveTo>
                  <a:lnTo>
                    <a:pt x="1198" y="0"/>
                  </a:lnTo>
                  <a:lnTo>
                    <a:pt x="1209" y="14"/>
                  </a:lnTo>
                  <a:lnTo>
                    <a:pt x="1218" y="28"/>
                  </a:lnTo>
                  <a:lnTo>
                    <a:pt x="1228" y="43"/>
                  </a:lnTo>
                  <a:lnTo>
                    <a:pt x="1237" y="57"/>
                  </a:lnTo>
                  <a:lnTo>
                    <a:pt x="0" y="57"/>
                  </a:lnTo>
                  <a:lnTo>
                    <a:pt x="9" y="43"/>
                  </a:lnTo>
                  <a:lnTo>
                    <a:pt x="19" y="28"/>
                  </a:lnTo>
                  <a:lnTo>
                    <a:pt x="29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aa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037280" y="4821480"/>
              <a:ext cx="59760" cy="2520"/>
            </a:xfrm>
            <a:custGeom>
              <a:avLst/>
              <a:gdLst/>
              <a:ahLst/>
              <a:rect l="l" t="t" r="r" b="b"/>
              <a:pathLst>
                <a:path w="1270" h="58">
                  <a:moveTo>
                    <a:pt x="35" y="0"/>
                  </a:moveTo>
                  <a:lnTo>
                    <a:pt x="1235" y="0"/>
                  </a:lnTo>
                  <a:lnTo>
                    <a:pt x="1244" y="14"/>
                  </a:lnTo>
                  <a:lnTo>
                    <a:pt x="1253" y="28"/>
                  </a:lnTo>
                  <a:lnTo>
                    <a:pt x="1261" y="44"/>
                  </a:lnTo>
                  <a:lnTo>
                    <a:pt x="1270" y="58"/>
                  </a:lnTo>
                  <a:lnTo>
                    <a:pt x="0" y="58"/>
                  </a:lnTo>
                  <a:lnTo>
                    <a:pt x="8" y="44"/>
                  </a:lnTo>
                  <a:lnTo>
                    <a:pt x="16" y="28"/>
                  </a:lnTo>
                  <a:lnTo>
                    <a:pt x="25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ca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036200" y="4822560"/>
              <a:ext cx="62640" cy="2520"/>
            </a:xfrm>
            <a:custGeom>
              <a:avLst/>
              <a:gdLst/>
              <a:ahLst/>
              <a:rect l="l" t="t" r="r" b="b"/>
              <a:pathLst>
                <a:path w="1300" h="59">
                  <a:moveTo>
                    <a:pt x="31" y="0"/>
                  </a:moveTo>
                  <a:lnTo>
                    <a:pt x="1268" y="0"/>
                  </a:lnTo>
                  <a:lnTo>
                    <a:pt x="1276" y="16"/>
                  </a:lnTo>
                  <a:lnTo>
                    <a:pt x="1284" y="30"/>
                  </a:lnTo>
                  <a:lnTo>
                    <a:pt x="1292" y="44"/>
                  </a:lnTo>
                  <a:lnTo>
                    <a:pt x="1300" y="59"/>
                  </a:lnTo>
                  <a:lnTo>
                    <a:pt x="0" y="59"/>
                  </a:lnTo>
                  <a:lnTo>
                    <a:pt x="7" y="44"/>
                  </a:lnTo>
                  <a:lnTo>
                    <a:pt x="15" y="30"/>
                  </a:lnTo>
                  <a:lnTo>
                    <a:pt x="23" y="1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fb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34760" y="4824000"/>
              <a:ext cx="65160" cy="2520"/>
            </a:xfrm>
            <a:custGeom>
              <a:avLst/>
              <a:gdLst/>
              <a:ahLst/>
              <a:rect l="l" t="t" r="r" b="b"/>
              <a:pathLst>
                <a:path w="1328" h="58">
                  <a:moveTo>
                    <a:pt x="29" y="0"/>
                  </a:moveTo>
                  <a:lnTo>
                    <a:pt x="1299" y="0"/>
                  </a:lnTo>
                  <a:lnTo>
                    <a:pt x="1306" y="14"/>
                  </a:lnTo>
                  <a:lnTo>
                    <a:pt x="1314" y="28"/>
                  </a:lnTo>
                  <a:lnTo>
                    <a:pt x="1321" y="43"/>
                  </a:lnTo>
                  <a:lnTo>
                    <a:pt x="1328" y="58"/>
                  </a:lnTo>
                  <a:lnTo>
                    <a:pt x="0" y="58"/>
                  </a:lnTo>
                  <a:lnTo>
                    <a:pt x="7" y="43"/>
                  </a:lnTo>
                  <a:lnTo>
                    <a:pt x="14" y="28"/>
                  </a:lnTo>
                  <a:lnTo>
                    <a:pt x="21" y="1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1c4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034760" y="4825080"/>
              <a:ext cx="65160" cy="2520"/>
            </a:xfrm>
            <a:custGeom>
              <a:avLst/>
              <a:gdLst/>
              <a:ahLst/>
              <a:rect l="l" t="t" r="r" b="b"/>
              <a:pathLst>
                <a:path w="1351" h="58">
                  <a:moveTo>
                    <a:pt x="26" y="0"/>
                  </a:moveTo>
                  <a:lnTo>
                    <a:pt x="1326" y="0"/>
                  </a:lnTo>
                  <a:lnTo>
                    <a:pt x="1333" y="14"/>
                  </a:lnTo>
                  <a:lnTo>
                    <a:pt x="1340" y="29"/>
                  </a:lnTo>
                  <a:lnTo>
                    <a:pt x="1346" y="43"/>
                  </a:lnTo>
                  <a:lnTo>
                    <a:pt x="1351" y="58"/>
                  </a:lnTo>
                  <a:lnTo>
                    <a:pt x="0" y="58"/>
                  </a:lnTo>
                  <a:lnTo>
                    <a:pt x="6" y="43"/>
                  </a:lnTo>
                  <a:lnTo>
                    <a:pt x="12" y="29"/>
                  </a:lnTo>
                  <a:lnTo>
                    <a:pt x="19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2c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034760" y="4826520"/>
              <a:ext cx="65160" cy="3600"/>
            </a:xfrm>
            <a:custGeom>
              <a:avLst/>
              <a:gdLst/>
              <a:ahLst/>
              <a:rect l="l" t="t" r="r" b="b"/>
              <a:pathLst>
                <a:path w="1373" h="57">
                  <a:moveTo>
                    <a:pt x="23" y="0"/>
                  </a:moveTo>
                  <a:lnTo>
                    <a:pt x="1351" y="0"/>
                  </a:lnTo>
                  <a:lnTo>
                    <a:pt x="1357" y="14"/>
                  </a:lnTo>
                  <a:lnTo>
                    <a:pt x="1362" y="29"/>
                  </a:lnTo>
                  <a:lnTo>
                    <a:pt x="1368" y="43"/>
                  </a:lnTo>
                  <a:lnTo>
                    <a:pt x="1373" y="57"/>
                  </a:lnTo>
                  <a:lnTo>
                    <a:pt x="0" y="57"/>
                  </a:lnTo>
                  <a:lnTo>
                    <a:pt x="5" y="43"/>
                  </a:lnTo>
                  <a:lnTo>
                    <a:pt x="11" y="29"/>
                  </a:lnTo>
                  <a:lnTo>
                    <a:pt x="17" y="1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5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033680" y="4827960"/>
              <a:ext cx="67680" cy="3600"/>
            </a:xfrm>
            <a:custGeom>
              <a:avLst/>
              <a:gdLst/>
              <a:ahLst/>
              <a:rect l="l" t="t" r="r" b="b"/>
              <a:pathLst>
                <a:path w="1391" h="58">
                  <a:moveTo>
                    <a:pt x="20" y="0"/>
                  </a:moveTo>
                  <a:lnTo>
                    <a:pt x="1371" y="0"/>
                  </a:lnTo>
                  <a:lnTo>
                    <a:pt x="1377" y="14"/>
                  </a:lnTo>
                  <a:lnTo>
                    <a:pt x="1382" y="28"/>
                  </a:lnTo>
                  <a:lnTo>
                    <a:pt x="1386" y="43"/>
                  </a:lnTo>
                  <a:lnTo>
                    <a:pt x="1391" y="58"/>
                  </a:lnTo>
                  <a:lnTo>
                    <a:pt x="0" y="58"/>
                  </a:lnTo>
                  <a:lnTo>
                    <a:pt x="5" y="43"/>
                  </a:lnTo>
                  <a:lnTo>
                    <a:pt x="9" y="28"/>
                  </a:lnTo>
                  <a:lnTo>
                    <a:pt x="14" y="1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6e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033680" y="4830480"/>
              <a:ext cx="67680" cy="2520"/>
            </a:xfrm>
            <a:custGeom>
              <a:avLst/>
              <a:gdLst/>
              <a:ahLst/>
              <a:rect l="l" t="t" r="r" b="b"/>
              <a:pathLst>
                <a:path w="1405" h="58">
                  <a:moveTo>
                    <a:pt x="16" y="0"/>
                  </a:moveTo>
                  <a:lnTo>
                    <a:pt x="1389" y="0"/>
                  </a:lnTo>
                  <a:lnTo>
                    <a:pt x="1393" y="15"/>
                  </a:lnTo>
                  <a:lnTo>
                    <a:pt x="1398" y="30"/>
                  </a:lnTo>
                  <a:lnTo>
                    <a:pt x="1402" y="44"/>
                  </a:lnTo>
                  <a:lnTo>
                    <a:pt x="1405" y="58"/>
                  </a:lnTo>
                  <a:lnTo>
                    <a:pt x="0" y="58"/>
                  </a:lnTo>
                  <a:lnTo>
                    <a:pt x="3" y="44"/>
                  </a:lnTo>
                  <a:lnTo>
                    <a:pt x="8" y="30"/>
                  </a:lnTo>
                  <a:lnTo>
                    <a:pt x="12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6e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033680" y="4831560"/>
              <a:ext cx="67680" cy="2520"/>
            </a:xfrm>
            <a:custGeom>
              <a:avLst/>
              <a:gdLst/>
              <a:ahLst/>
              <a:rect l="l" t="t" r="r" b="b"/>
              <a:pathLst>
                <a:path w="1419" h="57">
                  <a:moveTo>
                    <a:pt x="14" y="0"/>
                  </a:moveTo>
                  <a:lnTo>
                    <a:pt x="1405" y="0"/>
                  </a:lnTo>
                  <a:lnTo>
                    <a:pt x="1409" y="14"/>
                  </a:lnTo>
                  <a:lnTo>
                    <a:pt x="1412" y="28"/>
                  </a:lnTo>
                  <a:lnTo>
                    <a:pt x="1416" y="43"/>
                  </a:lnTo>
                  <a:lnTo>
                    <a:pt x="1419" y="57"/>
                  </a:lnTo>
                  <a:lnTo>
                    <a:pt x="0" y="57"/>
                  </a:lnTo>
                  <a:lnTo>
                    <a:pt x="3" y="43"/>
                  </a:lnTo>
                  <a:lnTo>
                    <a:pt x="7" y="28"/>
                  </a:lnTo>
                  <a:lnTo>
                    <a:pt x="1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6e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032240" y="4833000"/>
              <a:ext cx="69120" cy="2160"/>
            </a:xfrm>
            <a:custGeom>
              <a:avLst/>
              <a:gdLst/>
              <a:ahLst/>
              <a:rect l="l" t="t" r="r" b="b"/>
              <a:pathLst>
                <a:path w="1429" h="59">
                  <a:moveTo>
                    <a:pt x="12" y="0"/>
                  </a:moveTo>
                  <a:lnTo>
                    <a:pt x="1417" y="0"/>
                  </a:lnTo>
                  <a:lnTo>
                    <a:pt x="1421" y="15"/>
                  </a:lnTo>
                  <a:lnTo>
                    <a:pt x="1424" y="29"/>
                  </a:lnTo>
                  <a:lnTo>
                    <a:pt x="1427" y="44"/>
                  </a:lnTo>
                  <a:lnTo>
                    <a:pt x="1429" y="59"/>
                  </a:lnTo>
                  <a:lnTo>
                    <a:pt x="0" y="59"/>
                  </a:lnTo>
                  <a:lnTo>
                    <a:pt x="3" y="44"/>
                  </a:lnTo>
                  <a:lnTo>
                    <a:pt x="5" y="29"/>
                  </a:lnTo>
                  <a:lnTo>
                    <a:pt x="8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6e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032240" y="4834080"/>
              <a:ext cx="70200" cy="2520"/>
            </a:xfrm>
            <a:custGeom>
              <a:avLst/>
              <a:gdLst/>
              <a:ahLst/>
              <a:rect l="l" t="t" r="r" b="b"/>
              <a:pathLst>
                <a:path w="1438" h="58">
                  <a:moveTo>
                    <a:pt x="9" y="0"/>
                  </a:moveTo>
                  <a:lnTo>
                    <a:pt x="1428" y="0"/>
                  </a:lnTo>
                  <a:lnTo>
                    <a:pt x="1431" y="15"/>
                  </a:lnTo>
                  <a:lnTo>
                    <a:pt x="1433" y="29"/>
                  </a:lnTo>
                  <a:lnTo>
                    <a:pt x="1435" y="44"/>
                  </a:lnTo>
                  <a:lnTo>
                    <a:pt x="1438" y="58"/>
                  </a:lnTo>
                  <a:lnTo>
                    <a:pt x="0" y="58"/>
                  </a:lnTo>
                  <a:lnTo>
                    <a:pt x="2" y="44"/>
                  </a:lnTo>
                  <a:lnTo>
                    <a:pt x="4" y="29"/>
                  </a:lnTo>
                  <a:lnTo>
                    <a:pt x="7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1e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032240" y="4835160"/>
              <a:ext cx="70200" cy="2520"/>
            </a:xfrm>
            <a:custGeom>
              <a:avLst/>
              <a:gdLst/>
              <a:ahLst/>
              <a:rect l="l" t="t" r="r" b="b"/>
              <a:pathLst>
                <a:path w="1444" h="58">
                  <a:moveTo>
                    <a:pt x="7" y="0"/>
                  </a:moveTo>
                  <a:lnTo>
                    <a:pt x="1436" y="0"/>
                  </a:lnTo>
                  <a:lnTo>
                    <a:pt x="1438" y="14"/>
                  </a:lnTo>
                  <a:lnTo>
                    <a:pt x="1441" y="28"/>
                  </a:lnTo>
                  <a:lnTo>
                    <a:pt x="1443" y="42"/>
                  </a:lnTo>
                  <a:lnTo>
                    <a:pt x="1444" y="58"/>
                  </a:lnTo>
                  <a:lnTo>
                    <a:pt x="0" y="58"/>
                  </a:lnTo>
                  <a:lnTo>
                    <a:pt x="2" y="42"/>
                  </a:lnTo>
                  <a:lnTo>
                    <a:pt x="3" y="28"/>
                  </a:lnTo>
                  <a:lnTo>
                    <a:pt x="5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add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032240" y="4836600"/>
              <a:ext cx="70200" cy="2520"/>
            </a:xfrm>
            <a:custGeom>
              <a:avLst/>
              <a:gdLst/>
              <a:ahLst/>
              <a:rect l="l" t="t" r="r" b="b"/>
              <a:pathLst>
                <a:path w="1447" h="58">
                  <a:moveTo>
                    <a:pt x="4" y="0"/>
                  </a:moveTo>
                  <a:lnTo>
                    <a:pt x="1442" y="0"/>
                  </a:lnTo>
                  <a:lnTo>
                    <a:pt x="1444" y="14"/>
                  </a:lnTo>
                  <a:lnTo>
                    <a:pt x="1445" y="30"/>
                  </a:lnTo>
                  <a:lnTo>
                    <a:pt x="1446" y="44"/>
                  </a:lnTo>
                  <a:lnTo>
                    <a:pt x="1447" y="58"/>
                  </a:lnTo>
                  <a:lnTo>
                    <a:pt x="0" y="58"/>
                  </a:lnTo>
                  <a:lnTo>
                    <a:pt x="0" y="44"/>
                  </a:lnTo>
                  <a:lnTo>
                    <a:pt x="1" y="30"/>
                  </a:lnTo>
                  <a:lnTo>
                    <a:pt x="3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ad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032240" y="4837680"/>
              <a:ext cx="70200" cy="3960"/>
            </a:xfrm>
            <a:custGeom>
              <a:avLst/>
              <a:gdLst/>
              <a:ahLst/>
              <a:rect l="l" t="t" r="r" b="b"/>
              <a:pathLst>
                <a:path w="1448" h="57">
                  <a:moveTo>
                    <a:pt x="2" y="0"/>
                  </a:moveTo>
                  <a:lnTo>
                    <a:pt x="1446" y="0"/>
                  </a:lnTo>
                  <a:lnTo>
                    <a:pt x="1447" y="14"/>
                  </a:lnTo>
                  <a:lnTo>
                    <a:pt x="1448" y="28"/>
                  </a:lnTo>
                  <a:lnTo>
                    <a:pt x="1448" y="43"/>
                  </a:lnTo>
                  <a:lnTo>
                    <a:pt x="1448" y="57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1" y="28"/>
                  </a:lnTo>
                  <a:lnTo>
                    <a:pt x="1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c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032240" y="4839120"/>
              <a:ext cx="70200" cy="3600"/>
            </a:xfrm>
            <a:custGeom>
              <a:avLst/>
              <a:gdLst/>
              <a:ahLst/>
              <a:rect l="l" t="t" r="r" b="b"/>
              <a:pathLst>
                <a:path w="1448" h="58">
                  <a:moveTo>
                    <a:pt x="1" y="0"/>
                  </a:moveTo>
                  <a:lnTo>
                    <a:pt x="1448" y="0"/>
                  </a:lnTo>
                  <a:lnTo>
                    <a:pt x="1448" y="15"/>
                  </a:lnTo>
                  <a:lnTo>
                    <a:pt x="1448" y="29"/>
                  </a:lnTo>
                  <a:lnTo>
                    <a:pt x="1448" y="44"/>
                  </a:lnTo>
                  <a:lnTo>
                    <a:pt x="1448" y="58"/>
                  </a:lnTo>
                  <a:lnTo>
                    <a:pt x="1" y="58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7c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032240" y="4841640"/>
              <a:ext cx="70200" cy="2160"/>
            </a:xfrm>
            <a:custGeom>
              <a:avLst/>
              <a:gdLst/>
              <a:ahLst/>
              <a:rect l="l" t="t" r="r" b="b"/>
              <a:pathLst>
                <a:path w="1448" h="58">
                  <a:moveTo>
                    <a:pt x="0" y="0"/>
                  </a:moveTo>
                  <a:lnTo>
                    <a:pt x="1448" y="0"/>
                  </a:lnTo>
                  <a:lnTo>
                    <a:pt x="1448" y="0"/>
                  </a:lnTo>
                  <a:lnTo>
                    <a:pt x="1448" y="15"/>
                  </a:lnTo>
                  <a:lnTo>
                    <a:pt x="1448" y="30"/>
                  </a:lnTo>
                  <a:lnTo>
                    <a:pt x="1447" y="44"/>
                  </a:lnTo>
                  <a:lnTo>
                    <a:pt x="1446" y="58"/>
                  </a:lnTo>
                  <a:lnTo>
                    <a:pt x="2" y="58"/>
                  </a:lnTo>
                  <a:lnTo>
                    <a:pt x="1" y="44"/>
                  </a:lnTo>
                  <a:lnTo>
                    <a:pt x="1" y="3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c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032240" y="4843080"/>
              <a:ext cx="70200" cy="2520"/>
            </a:xfrm>
            <a:custGeom>
              <a:avLst/>
              <a:gdLst/>
              <a:ahLst/>
              <a:rect l="l" t="t" r="r" b="b"/>
              <a:pathLst>
                <a:path w="1447" h="59">
                  <a:moveTo>
                    <a:pt x="0" y="0"/>
                  </a:moveTo>
                  <a:lnTo>
                    <a:pt x="1447" y="0"/>
                  </a:lnTo>
                  <a:lnTo>
                    <a:pt x="1446" y="15"/>
                  </a:lnTo>
                  <a:lnTo>
                    <a:pt x="1445" y="29"/>
                  </a:lnTo>
                  <a:lnTo>
                    <a:pt x="1444" y="43"/>
                  </a:lnTo>
                  <a:lnTo>
                    <a:pt x="1442" y="59"/>
                  </a:lnTo>
                  <a:lnTo>
                    <a:pt x="4" y="59"/>
                  </a:lnTo>
                  <a:lnTo>
                    <a:pt x="3" y="43"/>
                  </a:lnTo>
                  <a:lnTo>
                    <a:pt x="1" y="29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b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032240" y="4844160"/>
              <a:ext cx="70200" cy="2520"/>
            </a:xfrm>
            <a:custGeom>
              <a:avLst/>
              <a:gdLst/>
              <a:ahLst/>
              <a:rect l="l" t="t" r="r" b="b"/>
              <a:pathLst>
                <a:path w="1444" h="58">
                  <a:moveTo>
                    <a:pt x="0" y="0"/>
                  </a:moveTo>
                  <a:lnTo>
                    <a:pt x="1444" y="0"/>
                  </a:lnTo>
                  <a:lnTo>
                    <a:pt x="1443" y="14"/>
                  </a:lnTo>
                  <a:lnTo>
                    <a:pt x="1441" y="30"/>
                  </a:lnTo>
                  <a:lnTo>
                    <a:pt x="1438" y="44"/>
                  </a:lnTo>
                  <a:lnTo>
                    <a:pt x="1436" y="58"/>
                  </a:lnTo>
                  <a:lnTo>
                    <a:pt x="7" y="58"/>
                  </a:lnTo>
                  <a:lnTo>
                    <a:pt x="5" y="44"/>
                  </a:lnTo>
                  <a:lnTo>
                    <a:pt x="3" y="30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032240" y="4845600"/>
              <a:ext cx="70200" cy="2520"/>
            </a:xfrm>
            <a:custGeom>
              <a:avLst/>
              <a:gdLst/>
              <a:ahLst/>
              <a:rect l="l" t="t" r="r" b="b"/>
              <a:pathLst>
                <a:path w="1438" h="57">
                  <a:moveTo>
                    <a:pt x="0" y="0"/>
                  </a:moveTo>
                  <a:lnTo>
                    <a:pt x="1438" y="0"/>
                  </a:lnTo>
                  <a:lnTo>
                    <a:pt x="1435" y="14"/>
                  </a:lnTo>
                  <a:lnTo>
                    <a:pt x="1433" y="28"/>
                  </a:lnTo>
                  <a:lnTo>
                    <a:pt x="1431" y="43"/>
                  </a:lnTo>
                  <a:lnTo>
                    <a:pt x="1428" y="57"/>
                  </a:lnTo>
                  <a:lnTo>
                    <a:pt x="9" y="57"/>
                  </a:lnTo>
                  <a:lnTo>
                    <a:pt x="7" y="43"/>
                  </a:lnTo>
                  <a:lnTo>
                    <a:pt x="4" y="28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b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032240" y="4846680"/>
              <a:ext cx="69120" cy="2520"/>
            </a:xfrm>
            <a:custGeom>
              <a:avLst/>
              <a:gdLst/>
              <a:ahLst/>
              <a:rect l="l" t="t" r="r" b="b"/>
              <a:pathLst>
                <a:path w="1429" h="58">
                  <a:moveTo>
                    <a:pt x="0" y="0"/>
                  </a:moveTo>
                  <a:lnTo>
                    <a:pt x="1429" y="0"/>
                  </a:lnTo>
                  <a:lnTo>
                    <a:pt x="1427" y="15"/>
                  </a:lnTo>
                  <a:lnTo>
                    <a:pt x="1424" y="29"/>
                  </a:lnTo>
                  <a:lnTo>
                    <a:pt x="1421" y="43"/>
                  </a:lnTo>
                  <a:lnTo>
                    <a:pt x="1417" y="58"/>
                  </a:lnTo>
                  <a:lnTo>
                    <a:pt x="12" y="58"/>
                  </a:lnTo>
                  <a:lnTo>
                    <a:pt x="8" y="43"/>
                  </a:lnTo>
                  <a:lnTo>
                    <a:pt x="5" y="29"/>
                  </a:lnTo>
                  <a:lnTo>
                    <a:pt x="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033680" y="4848120"/>
              <a:ext cx="67680" cy="2160"/>
            </a:xfrm>
            <a:custGeom>
              <a:avLst/>
              <a:gdLst/>
              <a:ahLst/>
              <a:rect l="l" t="t" r="r" b="b"/>
              <a:pathLst>
                <a:path w="1419" h="58">
                  <a:moveTo>
                    <a:pt x="0" y="0"/>
                  </a:moveTo>
                  <a:lnTo>
                    <a:pt x="1419" y="0"/>
                  </a:lnTo>
                  <a:lnTo>
                    <a:pt x="1416" y="14"/>
                  </a:lnTo>
                  <a:lnTo>
                    <a:pt x="1412" y="29"/>
                  </a:lnTo>
                  <a:lnTo>
                    <a:pt x="1409" y="44"/>
                  </a:lnTo>
                  <a:lnTo>
                    <a:pt x="1405" y="58"/>
                  </a:lnTo>
                  <a:lnTo>
                    <a:pt x="14" y="58"/>
                  </a:lnTo>
                  <a:lnTo>
                    <a:pt x="10" y="44"/>
                  </a:lnTo>
                  <a:lnTo>
                    <a:pt x="7" y="29"/>
                  </a:lnTo>
                  <a:lnTo>
                    <a:pt x="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a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033680" y="4849200"/>
              <a:ext cx="67680" cy="2520"/>
            </a:xfrm>
            <a:custGeom>
              <a:avLst/>
              <a:gdLst/>
              <a:ahLst/>
              <a:rect l="l" t="t" r="r" b="b"/>
              <a:pathLst>
                <a:path w="1405" h="57">
                  <a:moveTo>
                    <a:pt x="0" y="0"/>
                  </a:moveTo>
                  <a:lnTo>
                    <a:pt x="1405" y="0"/>
                  </a:lnTo>
                  <a:lnTo>
                    <a:pt x="1402" y="15"/>
                  </a:lnTo>
                  <a:lnTo>
                    <a:pt x="1398" y="29"/>
                  </a:lnTo>
                  <a:lnTo>
                    <a:pt x="1393" y="43"/>
                  </a:lnTo>
                  <a:lnTo>
                    <a:pt x="1389" y="57"/>
                  </a:lnTo>
                  <a:lnTo>
                    <a:pt x="16" y="57"/>
                  </a:lnTo>
                  <a:lnTo>
                    <a:pt x="12" y="43"/>
                  </a:lnTo>
                  <a:lnTo>
                    <a:pt x="8" y="29"/>
                  </a:lnTo>
                  <a:lnTo>
                    <a:pt x="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033680" y="4850280"/>
              <a:ext cx="67680" cy="3960"/>
            </a:xfrm>
            <a:custGeom>
              <a:avLst/>
              <a:gdLst/>
              <a:ahLst/>
              <a:rect l="l" t="t" r="r" b="b"/>
              <a:pathLst>
                <a:path w="1391" h="58">
                  <a:moveTo>
                    <a:pt x="0" y="0"/>
                  </a:moveTo>
                  <a:lnTo>
                    <a:pt x="1391" y="0"/>
                  </a:lnTo>
                  <a:lnTo>
                    <a:pt x="1386" y="14"/>
                  </a:lnTo>
                  <a:lnTo>
                    <a:pt x="1382" y="29"/>
                  </a:lnTo>
                  <a:lnTo>
                    <a:pt x="1377" y="44"/>
                  </a:lnTo>
                  <a:lnTo>
                    <a:pt x="1371" y="58"/>
                  </a:lnTo>
                  <a:lnTo>
                    <a:pt x="20" y="58"/>
                  </a:lnTo>
                  <a:lnTo>
                    <a:pt x="15" y="44"/>
                  </a:lnTo>
                  <a:lnTo>
                    <a:pt x="10" y="29"/>
                  </a:lnTo>
                  <a:lnTo>
                    <a:pt x="5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034760" y="4851720"/>
              <a:ext cx="65160" cy="3600"/>
            </a:xfrm>
            <a:custGeom>
              <a:avLst/>
              <a:gdLst/>
              <a:ahLst/>
              <a:rect l="l" t="t" r="r" b="b"/>
              <a:pathLst>
                <a:path w="1373" h="58">
                  <a:moveTo>
                    <a:pt x="0" y="0"/>
                  </a:moveTo>
                  <a:lnTo>
                    <a:pt x="1373" y="0"/>
                  </a:lnTo>
                  <a:lnTo>
                    <a:pt x="1368" y="16"/>
                  </a:lnTo>
                  <a:lnTo>
                    <a:pt x="1362" y="30"/>
                  </a:lnTo>
                  <a:lnTo>
                    <a:pt x="1357" y="44"/>
                  </a:lnTo>
                  <a:lnTo>
                    <a:pt x="1351" y="58"/>
                  </a:lnTo>
                  <a:lnTo>
                    <a:pt x="23" y="58"/>
                  </a:lnTo>
                  <a:lnTo>
                    <a:pt x="17" y="44"/>
                  </a:lnTo>
                  <a:lnTo>
                    <a:pt x="11" y="30"/>
                  </a:lnTo>
                  <a:lnTo>
                    <a:pt x="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34760" y="4854240"/>
              <a:ext cx="65160" cy="2160"/>
            </a:xfrm>
            <a:custGeom>
              <a:avLst/>
              <a:gdLst/>
              <a:ahLst/>
              <a:rect l="l" t="t" r="r" b="b"/>
              <a:pathLst>
                <a:path w="1351" h="58">
                  <a:moveTo>
                    <a:pt x="0" y="0"/>
                  </a:moveTo>
                  <a:lnTo>
                    <a:pt x="1351" y="0"/>
                  </a:lnTo>
                  <a:lnTo>
                    <a:pt x="1346" y="15"/>
                  </a:lnTo>
                  <a:lnTo>
                    <a:pt x="1340" y="29"/>
                  </a:lnTo>
                  <a:lnTo>
                    <a:pt x="1333" y="43"/>
                  </a:lnTo>
                  <a:lnTo>
                    <a:pt x="1326" y="58"/>
                  </a:lnTo>
                  <a:lnTo>
                    <a:pt x="26" y="58"/>
                  </a:lnTo>
                  <a:lnTo>
                    <a:pt x="19" y="43"/>
                  </a:lnTo>
                  <a:lnTo>
                    <a:pt x="12" y="29"/>
                  </a:lnTo>
                  <a:lnTo>
                    <a:pt x="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8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034760" y="4855320"/>
              <a:ext cx="65160" cy="2520"/>
            </a:xfrm>
            <a:custGeom>
              <a:avLst/>
              <a:gdLst/>
              <a:ahLst/>
              <a:rect l="l" t="t" r="r" b="b"/>
              <a:pathLst>
                <a:path w="1328" h="59">
                  <a:moveTo>
                    <a:pt x="0" y="0"/>
                  </a:moveTo>
                  <a:lnTo>
                    <a:pt x="1328" y="0"/>
                  </a:lnTo>
                  <a:lnTo>
                    <a:pt x="1321" y="15"/>
                  </a:lnTo>
                  <a:lnTo>
                    <a:pt x="1314" y="30"/>
                  </a:lnTo>
                  <a:lnTo>
                    <a:pt x="1306" y="45"/>
                  </a:lnTo>
                  <a:lnTo>
                    <a:pt x="1299" y="59"/>
                  </a:lnTo>
                  <a:lnTo>
                    <a:pt x="29" y="59"/>
                  </a:lnTo>
                  <a:lnTo>
                    <a:pt x="21" y="45"/>
                  </a:lnTo>
                  <a:lnTo>
                    <a:pt x="14" y="30"/>
                  </a:lnTo>
                  <a:lnTo>
                    <a:pt x="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036200" y="4856400"/>
              <a:ext cx="62640" cy="2520"/>
            </a:xfrm>
            <a:custGeom>
              <a:avLst/>
              <a:gdLst/>
              <a:ahLst/>
              <a:rect l="l" t="t" r="r" b="b"/>
              <a:pathLst>
                <a:path w="1300" h="57">
                  <a:moveTo>
                    <a:pt x="0" y="0"/>
                  </a:moveTo>
                  <a:lnTo>
                    <a:pt x="1300" y="0"/>
                  </a:lnTo>
                  <a:lnTo>
                    <a:pt x="1292" y="15"/>
                  </a:lnTo>
                  <a:lnTo>
                    <a:pt x="1284" y="29"/>
                  </a:lnTo>
                  <a:lnTo>
                    <a:pt x="1276" y="43"/>
                  </a:lnTo>
                  <a:lnTo>
                    <a:pt x="1268" y="57"/>
                  </a:lnTo>
                  <a:lnTo>
                    <a:pt x="31" y="57"/>
                  </a:lnTo>
                  <a:lnTo>
                    <a:pt x="23" y="43"/>
                  </a:lnTo>
                  <a:lnTo>
                    <a:pt x="15" y="29"/>
                  </a:lnTo>
                  <a:lnTo>
                    <a:pt x="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037280" y="4857840"/>
              <a:ext cx="59760" cy="2520"/>
            </a:xfrm>
            <a:custGeom>
              <a:avLst/>
              <a:gdLst/>
              <a:ahLst/>
              <a:rect l="l" t="t" r="r" b="b"/>
              <a:pathLst>
                <a:path w="1270" h="58">
                  <a:moveTo>
                    <a:pt x="0" y="0"/>
                  </a:moveTo>
                  <a:lnTo>
                    <a:pt x="1270" y="0"/>
                  </a:lnTo>
                  <a:lnTo>
                    <a:pt x="1261" y="14"/>
                  </a:lnTo>
                  <a:lnTo>
                    <a:pt x="1253" y="29"/>
                  </a:lnTo>
                  <a:lnTo>
                    <a:pt x="1244" y="44"/>
                  </a:lnTo>
                  <a:lnTo>
                    <a:pt x="1235" y="58"/>
                  </a:lnTo>
                  <a:lnTo>
                    <a:pt x="35" y="58"/>
                  </a:lnTo>
                  <a:lnTo>
                    <a:pt x="25" y="44"/>
                  </a:lnTo>
                  <a:lnTo>
                    <a:pt x="16" y="29"/>
                  </a:lnTo>
                  <a:lnTo>
                    <a:pt x="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037280" y="4859280"/>
              <a:ext cx="59760" cy="2520"/>
            </a:xfrm>
            <a:custGeom>
              <a:avLst/>
              <a:gdLst/>
              <a:ahLst/>
              <a:rect l="l" t="t" r="r" b="b"/>
              <a:pathLst>
                <a:path w="1237" h="58">
                  <a:moveTo>
                    <a:pt x="0" y="0"/>
                  </a:moveTo>
                  <a:lnTo>
                    <a:pt x="1237" y="0"/>
                  </a:lnTo>
                  <a:lnTo>
                    <a:pt x="1228" y="16"/>
                  </a:lnTo>
                  <a:lnTo>
                    <a:pt x="1218" y="30"/>
                  </a:lnTo>
                  <a:lnTo>
                    <a:pt x="1208" y="44"/>
                  </a:lnTo>
                  <a:lnTo>
                    <a:pt x="1198" y="58"/>
                  </a:lnTo>
                  <a:lnTo>
                    <a:pt x="40" y="58"/>
                  </a:lnTo>
                  <a:lnTo>
                    <a:pt x="29" y="44"/>
                  </a:lnTo>
                  <a:lnTo>
                    <a:pt x="19" y="30"/>
                  </a:lnTo>
                  <a:lnTo>
                    <a:pt x="9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038720" y="4860720"/>
              <a:ext cx="57600" cy="216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0" y="0"/>
                  </a:moveTo>
                  <a:lnTo>
                    <a:pt x="1200" y="0"/>
                  </a:lnTo>
                  <a:lnTo>
                    <a:pt x="1189" y="15"/>
                  </a:lnTo>
                  <a:lnTo>
                    <a:pt x="1179" y="29"/>
                  </a:lnTo>
                  <a:lnTo>
                    <a:pt x="1167" y="43"/>
                  </a:lnTo>
                  <a:lnTo>
                    <a:pt x="1156" y="58"/>
                  </a:lnTo>
                  <a:lnTo>
                    <a:pt x="44" y="58"/>
                  </a:lnTo>
                  <a:lnTo>
                    <a:pt x="32" y="43"/>
                  </a:lnTo>
                  <a:lnTo>
                    <a:pt x="21" y="29"/>
                  </a:lnTo>
                  <a:lnTo>
                    <a:pt x="1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40160" y="4861800"/>
              <a:ext cx="55080" cy="2520"/>
            </a:xfrm>
            <a:custGeom>
              <a:avLst/>
              <a:gdLst/>
              <a:ahLst/>
              <a:rect l="l" t="t" r="r" b="b"/>
              <a:pathLst>
                <a:path w="1158" h="58">
                  <a:moveTo>
                    <a:pt x="0" y="0"/>
                  </a:moveTo>
                  <a:lnTo>
                    <a:pt x="1158" y="0"/>
                  </a:lnTo>
                  <a:lnTo>
                    <a:pt x="1146" y="15"/>
                  </a:lnTo>
                  <a:lnTo>
                    <a:pt x="1134" y="31"/>
                  </a:lnTo>
                  <a:lnTo>
                    <a:pt x="1122" y="45"/>
                  </a:lnTo>
                  <a:lnTo>
                    <a:pt x="1109" y="58"/>
                  </a:lnTo>
                  <a:lnTo>
                    <a:pt x="48" y="58"/>
                  </a:lnTo>
                  <a:lnTo>
                    <a:pt x="35" y="45"/>
                  </a:lnTo>
                  <a:lnTo>
                    <a:pt x="23" y="31"/>
                  </a:lnTo>
                  <a:lnTo>
                    <a:pt x="1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041240" y="4862880"/>
              <a:ext cx="52560" cy="3960"/>
            </a:xfrm>
            <a:custGeom>
              <a:avLst/>
              <a:gdLst/>
              <a:ahLst/>
              <a:rect l="l" t="t" r="r" b="b"/>
              <a:pathLst>
                <a:path w="1112" h="57">
                  <a:moveTo>
                    <a:pt x="0" y="0"/>
                  </a:moveTo>
                  <a:lnTo>
                    <a:pt x="1112" y="0"/>
                  </a:lnTo>
                  <a:lnTo>
                    <a:pt x="1099" y="15"/>
                  </a:lnTo>
                  <a:lnTo>
                    <a:pt x="1086" y="29"/>
                  </a:lnTo>
                  <a:lnTo>
                    <a:pt x="1072" y="43"/>
                  </a:lnTo>
                  <a:lnTo>
                    <a:pt x="1058" y="57"/>
                  </a:lnTo>
                  <a:lnTo>
                    <a:pt x="54" y="57"/>
                  </a:lnTo>
                  <a:lnTo>
                    <a:pt x="39" y="43"/>
                  </a:lnTo>
                  <a:lnTo>
                    <a:pt x="25" y="29"/>
                  </a:lnTo>
                  <a:lnTo>
                    <a:pt x="12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042320" y="4864320"/>
              <a:ext cx="50040" cy="3600"/>
            </a:xfrm>
            <a:custGeom>
              <a:avLst/>
              <a:gdLst/>
              <a:ahLst/>
              <a:rect l="l" t="t" r="r" b="b"/>
              <a:pathLst>
                <a:path w="1061" h="59">
                  <a:moveTo>
                    <a:pt x="0" y="0"/>
                  </a:moveTo>
                  <a:lnTo>
                    <a:pt x="1061" y="0"/>
                  </a:lnTo>
                  <a:lnTo>
                    <a:pt x="1047" y="15"/>
                  </a:lnTo>
                  <a:lnTo>
                    <a:pt x="1032" y="30"/>
                  </a:lnTo>
                  <a:lnTo>
                    <a:pt x="1016" y="44"/>
                  </a:lnTo>
                  <a:lnTo>
                    <a:pt x="1001" y="59"/>
                  </a:lnTo>
                  <a:lnTo>
                    <a:pt x="60" y="59"/>
                  </a:lnTo>
                  <a:lnTo>
                    <a:pt x="45" y="44"/>
                  </a:lnTo>
                  <a:lnTo>
                    <a:pt x="30" y="30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5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043760" y="4866840"/>
              <a:ext cx="47520" cy="2520"/>
            </a:xfrm>
            <a:custGeom>
              <a:avLst/>
              <a:gdLst/>
              <a:ahLst/>
              <a:rect l="l" t="t" r="r" b="b"/>
              <a:pathLst>
                <a:path w="1004" h="58">
                  <a:moveTo>
                    <a:pt x="0" y="0"/>
                  </a:moveTo>
                  <a:lnTo>
                    <a:pt x="1004" y="0"/>
                  </a:lnTo>
                  <a:lnTo>
                    <a:pt x="987" y="15"/>
                  </a:lnTo>
                  <a:lnTo>
                    <a:pt x="971" y="31"/>
                  </a:lnTo>
                  <a:lnTo>
                    <a:pt x="954" y="45"/>
                  </a:lnTo>
                  <a:lnTo>
                    <a:pt x="936" y="58"/>
                  </a:lnTo>
                  <a:lnTo>
                    <a:pt x="68" y="58"/>
                  </a:lnTo>
                  <a:lnTo>
                    <a:pt x="49" y="45"/>
                  </a:lnTo>
                  <a:lnTo>
                    <a:pt x="32" y="31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044840" y="4867920"/>
              <a:ext cx="45000" cy="2520"/>
            </a:xfrm>
            <a:custGeom>
              <a:avLst/>
              <a:gdLst/>
              <a:ahLst/>
              <a:rect l="l" t="t" r="r" b="b"/>
              <a:pathLst>
                <a:path w="941" h="57">
                  <a:moveTo>
                    <a:pt x="0" y="0"/>
                  </a:moveTo>
                  <a:lnTo>
                    <a:pt x="941" y="0"/>
                  </a:lnTo>
                  <a:lnTo>
                    <a:pt x="923" y="15"/>
                  </a:lnTo>
                  <a:lnTo>
                    <a:pt x="904" y="29"/>
                  </a:lnTo>
                  <a:lnTo>
                    <a:pt x="883" y="43"/>
                  </a:lnTo>
                  <a:lnTo>
                    <a:pt x="863" y="57"/>
                  </a:lnTo>
                  <a:lnTo>
                    <a:pt x="78" y="57"/>
                  </a:lnTo>
                  <a:lnTo>
                    <a:pt x="58" y="43"/>
                  </a:lnTo>
                  <a:lnTo>
                    <a:pt x="39" y="29"/>
                  </a:lnTo>
                  <a:lnTo>
                    <a:pt x="1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046280" y="4869360"/>
              <a:ext cx="42480" cy="2160"/>
            </a:xfrm>
            <a:custGeom>
              <a:avLst/>
              <a:gdLst/>
              <a:ahLst/>
              <a:rect l="l" t="t" r="r" b="b"/>
              <a:pathLst>
                <a:path w="868" h="58">
                  <a:moveTo>
                    <a:pt x="0" y="0"/>
                  </a:moveTo>
                  <a:lnTo>
                    <a:pt x="868" y="0"/>
                  </a:lnTo>
                  <a:lnTo>
                    <a:pt x="846" y="16"/>
                  </a:lnTo>
                  <a:lnTo>
                    <a:pt x="824" y="30"/>
                  </a:lnTo>
                  <a:lnTo>
                    <a:pt x="801" y="45"/>
                  </a:lnTo>
                  <a:lnTo>
                    <a:pt x="777" y="58"/>
                  </a:lnTo>
                  <a:lnTo>
                    <a:pt x="90" y="58"/>
                  </a:lnTo>
                  <a:lnTo>
                    <a:pt x="67" y="45"/>
                  </a:lnTo>
                  <a:lnTo>
                    <a:pt x="43" y="30"/>
                  </a:lnTo>
                  <a:lnTo>
                    <a:pt x="2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5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048440" y="4870440"/>
              <a:ext cx="37800" cy="2520"/>
            </a:xfrm>
            <a:custGeom>
              <a:avLst/>
              <a:gdLst/>
              <a:ahLst/>
              <a:rect l="l" t="t" r="r" b="b"/>
              <a:pathLst>
                <a:path w="785" h="58">
                  <a:moveTo>
                    <a:pt x="0" y="0"/>
                  </a:moveTo>
                  <a:lnTo>
                    <a:pt x="785" y="0"/>
                  </a:lnTo>
                  <a:lnTo>
                    <a:pt x="760" y="17"/>
                  </a:lnTo>
                  <a:lnTo>
                    <a:pt x="732" y="32"/>
                  </a:lnTo>
                  <a:lnTo>
                    <a:pt x="705" y="45"/>
                  </a:lnTo>
                  <a:lnTo>
                    <a:pt x="677" y="58"/>
                  </a:lnTo>
                  <a:lnTo>
                    <a:pt x="109" y="58"/>
                  </a:lnTo>
                  <a:lnTo>
                    <a:pt x="80" y="45"/>
                  </a:lnTo>
                  <a:lnTo>
                    <a:pt x="53" y="32"/>
                  </a:lnTo>
                  <a:lnTo>
                    <a:pt x="27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050960" y="4871520"/>
              <a:ext cx="32400" cy="2520"/>
            </a:xfrm>
            <a:custGeom>
              <a:avLst/>
              <a:gdLst/>
              <a:ahLst/>
              <a:rect l="l" t="t" r="r" b="b"/>
              <a:pathLst>
                <a:path w="687" h="58">
                  <a:moveTo>
                    <a:pt x="0" y="0"/>
                  </a:moveTo>
                  <a:lnTo>
                    <a:pt x="687" y="0"/>
                  </a:lnTo>
                  <a:lnTo>
                    <a:pt x="654" y="17"/>
                  </a:lnTo>
                  <a:lnTo>
                    <a:pt x="619" y="32"/>
                  </a:lnTo>
                  <a:lnTo>
                    <a:pt x="601" y="39"/>
                  </a:lnTo>
                  <a:lnTo>
                    <a:pt x="583" y="46"/>
                  </a:lnTo>
                  <a:lnTo>
                    <a:pt x="565" y="53"/>
                  </a:lnTo>
                  <a:lnTo>
                    <a:pt x="546" y="58"/>
                  </a:lnTo>
                  <a:lnTo>
                    <a:pt x="141" y="58"/>
                  </a:lnTo>
                  <a:lnTo>
                    <a:pt x="123" y="53"/>
                  </a:lnTo>
                  <a:lnTo>
                    <a:pt x="104" y="46"/>
                  </a:lnTo>
                  <a:lnTo>
                    <a:pt x="86" y="39"/>
                  </a:lnTo>
                  <a:lnTo>
                    <a:pt x="69" y="32"/>
                  </a:lnTo>
                  <a:lnTo>
                    <a:pt x="33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4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053840" y="4872960"/>
              <a:ext cx="27360" cy="2520"/>
            </a:xfrm>
            <a:custGeom>
              <a:avLst/>
              <a:gdLst/>
              <a:ahLst/>
              <a:rect l="l" t="t" r="r" b="b"/>
              <a:pathLst>
                <a:path w="568" h="58">
                  <a:moveTo>
                    <a:pt x="0" y="0"/>
                  </a:moveTo>
                  <a:lnTo>
                    <a:pt x="568" y="0"/>
                  </a:lnTo>
                  <a:lnTo>
                    <a:pt x="534" y="13"/>
                  </a:lnTo>
                  <a:lnTo>
                    <a:pt x="501" y="25"/>
                  </a:lnTo>
                  <a:lnTo>
                    <a:pt x="466" y="35"/>
                  </a:lnTo>
                  <a:lnTo>
                    <a:pt x="431" y="43"/>
                  </a:lnTo>
                  <a:lnTo>
                    <a:pt x="395" y="50"/>
                  </a:lnTo>
                  <a:lnTo>
                    <a:pt x="359" y="54"/>
                  </a:lnTo>
                  <a:lnTo>
                    <a:pt x="321" y="57"/>
                  </a:lnTo>
                  <a:lnTo>
                    <a:pt x="284" y="58"/>
                  </a:lnTo>
                  <a:lnTo>
                    <a:pt x="246" y="57"/>
                  </a:lnTo>
                  <a:lnTo>
                    <a:pt x="209" y="54"/>
                  </a:lnTo>
                  <a:lnTo>
                    <a:pt x="172" y="50"/>
                  </a:lnTo>
                  <a:lnTo>
                    <a:pt x="137" y="43"/>
                  </a:lnTo>
                  <a:lnTo>
                    <a:pt x="101" y="35"/>
                  </a:lnTo>
                  <a:lnTo>
                    <a:pt x="67" y="25"/>
                  </a:lnTo>
                  <a:lnTo>
                    <a:pt x="3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3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057440" y="4874400"/>
              <a:ext cx="20160" cy="1080"/>
            </a:xfrm>
            <a:custGeom>
              <a:avLst/>
              <a:gdLst/>
              <a:ahLst/>
              <a:rect l="l" t="t" r="r" b="b"/>
              <a:pathLst>
                <a:path w="405" h="29">
                  <a:moveTo>
                    <a:pt x="0" y="0"/>
                  </a:moveTo>
                  <a:lnTo>
                    <a:pt x="405" y="0"/>
                  </a:lnTo>
                  <a:lnTo>
                    <a:pt x="381" y="7"/>
                  </a:lnTo>
                  <a:lnTo>
                    <a:pt x="357" y="13"/>
                  </a:lnTo>
                  <a:lnTo>
                    <a:pt x="331" y="18"/>
                  </a:lnTo>
                  <a:lnTo>
                    <a:pt x="306" y="22"/>
                  </a:lnTo>
                  <a:lnTo>
                    <a:pt x="281" y="25"/>
                  </a:lnTo>
                  <a:lnTo>
                    <a:pt x="255" y="27"/>
                  </a:lnTo>
                  <a:lnTo>
                    <a:pt x="229" y="29"/>
                  </a:lnTo>
                  <a:lnTo>
                    <a:pt x="203" y="29"/>
                  </a:lnTo>
                  <a:lnTo>
                    <a:pt x="176" y="29"/>
                  </a:lnTo>
                  <a:lnTo>
                    <a:pt x="150" y="27"/>
                  </a:lnTo>
                  <a:lnTo>
                    <a:pt x="125" y="25"/>
                  </a:lnTo>
                  <a:lnTo>
                    <a:pt x="99" y="22"/>
                  </a:lnTo>
                  <a:lnTo>
                    <a:pt x="74" y="18"/>
                  </a:lnTo>
                  <a:lnTo>
                    <a:pt x="48" y="13"/>
                  </a:lnTo>
                  <a:lnTo>
                    <a:pt x="2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032240" y="4806360"/>
              <a:ext cx="70200" cy="69120"/>
            </a:xfrm>
            <a:custGeom>
              <a:avLst/>
              <a:gdLst/>
              <a:ahLst/>
              <a:rect l="l" t="t" r="r" b="b"/>
              <a:pathLst>
                <a:path w="1448" h="1447">
                  <a:moveTo>
                    <a:pt x="0" y="723"/>
                  </a:moveTo>
                  <a:lnTo>
                    <a:pt x="1" y="686"/>
                  </a:lnTo>
                  <a:lnTo>
                    <a:pt x="4" y="649"/>
                  </a:lnTo>
                  <a:lnTo>
                    <a:pt x="8" y="613"/>
                  </a:lnTo>
                  <a:lnTo>
                    <a:pt x="14" y="577"/>
                  </a:lnTo>
                  <a:lnTo>
                    <a:pt x="22" y="543"/>
                  </a:lnTo>
                  <a:lnTo>
                    <a:pt x="32" y="509"/>
                  </a:lnTo>
                  <a:lnTo>
                    <a:pt x="43" y="475"/>
                  </a:lnTo>
                  <a:lnTo>
                    <a:pt x="56" y="442"/>
                  </a:lnTo>
                  <a:lnTo>
                    <a:pt x="71" y="409"/>
                  </a:lnTo>
                  <a:lnTo>
                    <a:pt x="87" y="379"/>
                  </a:lnTo>
                  <a:lnTo>
                    <a:pt x="104" y="348"/>
                  </a:lnTo>
                  <a:lnTo>
                    <a:pt x="123" y="319"/>
                  </a:lnTo>
                  <a:lnTo>
                    <a:pt x="144" y="291"/>
                  </a:lnTo>
                  <a:lnTo>
                    <a:pt x="165" y="263"/>
                  </a:lnTo>
                  <a:lnTo>
                    <a:pt x="187" y="237"/>
                  </a:lnTo>
                  <a:lnTo>
                    <a:pt x="212" y="212"/>
                  </a:lnTo>
                  <a:lnTo>
                    <a:pt x="237" y="187"/>
                  </a:lnTo>
                  <a:lnTo>
                    <a:pt x="263" y="165"/>
                  </a:lnTo>
                  <a:lnTo>
                    <a:pt x="291" y="144"/>
                  </a:lnTo>
                  <a:lnTo>
                    <a:pt x="319" y="123"/>
                  </a:lnTo>
                  <a:lnTo>
                    <a:pt x="348" y="104"/>
                  </a:lnTo>
                  <a:lnTo>
                    <a:pt x="379" y="87"/>
                  </a:lnTo>
                  <a:lnTo>
                    <a:pt x="409" y="71"/>
                  </a:lnTo>
                  <a:lnTo>
                    <a:pt x="442" y="57"/>
                  </a:lnTo>
                  <a:lnTo>
                    <a:pt x="475" y="43"/>
                  </a:lnTo>
                  <a:lnTo>
                    <a:pt x="509" y="32"/>
                  </a:lnTo>
                  <a:lnTo>
                    <a:pt x="543" y="22"/>
                  </a:lnTo>
                  <a:lnTo>
                    <a:pt x="578" y="14"/>
                  </a:lnTo>
                  <a:lnTo>
                    <a:pt x="613" y="8"/>
                  </a:lnTo>
                  <a:lnTo>
                    <a:pt x="650" y="3"/>
                  </a:lnTo>
                  <a:lnTo>
                    <a:pt x="686" y="1"/>
                  </a:lnTo>
                  <a:lnTo>
                    <a:pt x="724" y="0"/>
                  </a:lnTo>
                  <a:lnTo>
                    <a:pt x="761" y="1"/>
                  </a:lnTo>
                  <a:lnTo>
                    <a:pt x="798" y="3"/>
                  </a:lnTo>
                  <a:lnTo>
                    <a:pt x="834" y="8"/>
                  </a:lnTo>
                  <a:lnTo>
                    <a:pt x="870" y="14"/>
                  </a:lnTo>
                  <a:lnTo>
                    <a:pt x="904" y="22"/>
                  </a:lnTo>
                  <a:lnTo>
                    <a:pt x="939" y="32"/>
                  </a:lnTo>
                  <a:lnTo>
                    <a:pt x="972" y="43"/>
                  </a:lnTo>
                  <a:lnTo>
                    <a:pt x="1005" y="57"/>
                  </a:lnTo>
                  <a:lnTo>
                    <a:pt x="1037" y="71"/>
                  </a:lnTo>
                  <a:lnTo>
                    <a:pt x="1068" y="87"/>
                  </a:lnTo>
                  <a:lnTo>
                    <a:pt x="1099" y="104"/>
                  </a:lnTo>
                  <a:lnTo>
                    <a:pt x="1128" y="123"/>
                  </a:lnTo>
                  <a:lnTo>
                    <a:pt x="1157" y="144"/>
                  </a:lnTo>
                  <a:lnTo>
                    <a:pt x="1184" y="165"/>
                  </a:lnTo>
                  <a:lnTo>
                    <a:pt x="1210" y="187"/>
                  </a:lnTo>
                  <a:lnTo>
                    <a:pt x="1236" y="212"/>
                  </a:lnTo>
                  <a:lnTo>
                    <a:pt x="1260" y="237"/>
                  </a:lnTo>
                  <a:lnTo>
                    <a:pt x="1282" y="263"/>
                  </a:lnTo>
                  <a:lnTo>
                    <a:pt x="1304" y="291"/>
                  </a:lnTo>
                  <a:lnTo>
                    <a:pt x="1324" y="319"/>
                  </a:lnTo>
                  <a:lnTo>
                    <a:pt x="1343" y="348"/>
                  </a:lnTo>
                  <a:lnTo>
                    <a:pt x="1360" y="379"/>
                  </a:lnTo>
                  <a:lnTo>
                    <a:pt x="1377" y="409"/>
                  </a:lnTo>
                  <a:lnTo>
                    <a:pt x="1391" y="442"/>
                  </a:lnTo>
                  <a:lnTo>
                    <a:pt x="1404" y="475"/>
                  </a:lnTo>
                  <a:lnTo>
                    <a:pt x="1415" y="509"/>
                  </a:lnTo>
                  <a:lnTo>
                    <a:pt x="1425" y="543"/>
                  </a:lnTo>
                  <a:lnTo>
                    <a:pt x="1433" y="577"/>
                  </a:lnTo>
                  <a:lnTo>
                    <a:pt x="1439" y="613"/>
                  </a:lnTo>
                  <a:lnTo>
                    <a:pt x="1444" y="649"/>
                  </a:lnTo>
                  <a:lnTo>
                    <a:pt x="1447" y="686"/>
                  </a:lnTo>
                  <a:lnTo>
                    <a:pt x="1448" y="723"/>
                  </a:lnTo>
                  <a:lnTo>
                    <a:pt x="1447" y="761"/>
                  </a:lnTo>
                  <a:lnTo>
                    <a:pt x="1444" y="797"/>
                  </a:lnTo>
                  <a:lnTo>
                    <a:pt x="1439" y="834"/>
                  </a:lnTo>
                  <a:lnTo>
                    <a:pt x="1433" y="869"/>
                  </a:lnTo>
                  <a:lnTo>
                    <a:pt x="1425" y="904"/>
                  </a:lnTo>
                  <a:lnTo>
                    <a:pt x="1415" y="938"/>
                  </a:lnTo>
                  <a:lnTo>
                    <a:pt x="1404" y="972"/>
                  </a:lnTo>
                  <a:lnTo>
                    <a:pt x="1391" y="1005"/>
                  </a:lnTo>
                  <a:lnTo>
                    <a:pt x="1377" y="1037"/>
                  </a:lnTo>
                  <a:lnTo>
                    <a:pt x="1360" y="1068"/>
                  </a:lnTo>
                  <a:lnTo>
                    <a:pt x="1343" y="1098"/>
                  </a:lnTo>
                  <a:lnTo>
                    <a:pt x="1324" y="1128"/>
                  </a:lnTo>
                  <a:lnTo>
                    <a:pt x="1304" y="1156"/>
                  </a:lnTo>
                  <a:lnTo>
                    <a:pt x="1282" y="1183"/>
                  </a:lnTo>
                  <a:lnTo>
                    <a:pt x="1260" y="1210"/>
                  </a:lnTo>
                  <a:lnTo>
                    <a:pt x="1236" y="1235"/>
                  </a:lnTo>
                  <a:lnTo>
                    <a:pt x="1210" y="1258"/>
                  </a:lnTo>
                  <a:lnTo>
                    <a:pt x="1184" y="1282"/>
                  </a:lnTo>
                  <a:lnTo>
                    <a:pt x="1157" y="1303"/>
                  </a:lnTo>
                  <a:lnTo>
                    <a:pt x="1128" y="1323"/>
                  </a:lnTo>
                  <a:lnTo>
                    <a:pt x="1099" y="1343"/>
                  </a:lnTo>
                  <a:lnTo>
                    <a:pt x="1068" y="1360"/>
                  </a:lnTo>
                  <a:lnTo>
                    <a:pt x="1037" y="1376"/>
                  </a:lnTo>
                  <a:lnTo>
                    <a:pt x="1005" y="1390"/>
                  </a:lnTo>
                  <a:lnTo>
                    <a:pt x="972" y="1403"/>
                  </a:lnTo>
                  <a:lnTo>
                    <a:pt x="939" y="1415"/>
                  </a:lnTo>
                  <a:lnTo>
                    <a:pt x="904" y="1425"/>
                  </a:lnTo>
                  <a:lnTo>
                    <a:pt x="870" y="1432"/>
                  </a:lnTo>
                  <a:lnTo>
                    <a:pt x="834" y="1439"/>
                  </a:lnTo>
                  <a:lnTo>
                    <a:pt x="798" y="1443"/>
                  </a:lnTo>
                  <a:lnTo>
                    <a:pt x="761" y="1446"/>
                  </a:lnTo>
                  <a:lnTo>
                    <a:pt x="724" y="1447"/>
                  </a:lnTo>
                  <a:lnTo>
                    <a:pt x="686" y="1446"/>
                  </a:lnTo>
                  <a:lnTo>
                    <a:pt x="650" y="1443"/>
                  </a:lnTo>
                  <a:lnTo>
                    <a:pt x="613" y="1439"/>
                  </a:lnTo>
                  <a:lnTo>
                    <a:pt x="578" y="1432"/>
                  </a:lnTo>
                  <a:lnTo>
                    <a:pt x="543" y="1425"/>
                  </a:lnTo>
                  <a:lnTo>
                    <a:pt x="509" y="1415"/>
                  </a:lnTo>
                  <a:lnTo>
                    <a:pt x="475" y="1403"/>
                  </a:lnTo>
                  <a:lnTo>
                    <a:pt x="442" y="1390"/>
                  </a:lnTo>
                  <a:lnTo>
                    <a:pt x="409" y="1376"/>
                  </a:lnTo>
                  <a:lnTo>
                    <a:pt x="379" y="1360"/>
                  </a:lnTo>
                  <a:lnTo>
                    <a:pt x="348" y="1343"/>
                  </a:lnTo>
                  <a:lnTo>
                    <a:pt x="319" y="1323"/>
                  </a:lnTo>
                  <a:lnTo>
                    <a:pt x="291" y="1303"/>
                  </a:lnTo>
                  <a:lnTo>
                    <a:pt x="263" y="1282"/>
                  </a:lnTo>
                  <a:lnTo>
                    <a:pt x="237" y="1258"/>
                  </a:lnTo>
                  <a:lnTo>
                    <a:pt x="212" y="1235"/>
                  </a:lnTo>
                  <a:lnTo>
                    <a:pt x="187" y="1210"/>
                  </a:lnTo>
                  <a:lnTo>
                    <a:pt x="165" y="1183"/>
                  </a:lnTo>
                  <a:lnTo>
                    <a:pt x="144" y="1156"/>
                  </a:lnTo>
                  <a:lnTo>
                    <a:pt x="123" y="1128"/>
                  </a:lnTo>
                  <a:lnTo>
                    <a:pt x="104" y="1098"/>
                  </a:lnTo>
                  <a:lnTo>
                    <a:pt x="87" y="1068"/>
                  </a:lnTo>
                  <a:lnTo>
                    <a:pt x="71" y="1037"/>
                  </a:lnTo>
                  <a:lnTo>
                    <a:pt x="56" y="1005"/>
                  </a:lnTo>
                  <a:lnTo>
                    <a:pt x="43" y="972"/>
                  </a:lnTo>
                  <a:lnTo>
                    <a:pt x="32" y="938"/>
                  </a:lnTo>
                  <a:lnTo>
                    <a:pt x="22" y="904"/>
                  </a:lnTo>
                  <a:lnTo>
                    <a:pt x="14" y="869"/>
                  </a:lnTo>
                  <a:lnTo>
                    <a:pt x="8" y="834"/>
                  </a:lnTo>
                  <a:lnTo>
                    <a:pt x="4" y="797"/>
                  </a:lnTo>
                  <a:lnTo>
                    <a:pt x="1" y="761"/>
                  </a:lnTo>
                  <a:lnTo>
                    <a:pt x="0" y="723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0" name=""/>
          <p:cNvGrpSpPr/>
          <p:nvPr/>
        </p:nvGrpSpPr>
        <p:grpSpPr>
          <a:xfrm>
            <a:off x="3803760" y="4597560"/>
            <a:ext cx="887400" cy="873000"/>
            <a:chOff x="3803760" y="4597560"/>
            <a:chExt cx="887400" cy="873000"/>
          </a:xfrm>
        </p:grpSpPr>
        <p:grpSp>
          <p:nvGrpSpPr>
            <p:cNvPr id="2321" name=""/>
            <p:cNvGrpSpPr/>
            <p:nvPr/>
          </p:nvGrpSpPr>
          <p:grpSpPr>
            <a:xfrm>
              <a:off x="3803760" y="4597560"/>
              <a:ext cx="887400" cy="873000"/>
              <a:chOff x="3803760" y="4597560"/>
              <a:chExt cx="887400" cy="873000"/>
            </a:xfrm>
          </p:grpSpPr>
          <p:sp>
            <p:nvSpPr>
              <p:cNvPr id="2322" name=""/>
              <p:cNvSpPr/>
              <p:nvPr/>
            </p:nvSpPr>
            <p:spPr>
              <a:xfrm>
                <a:off x="3803760" y="4691160"/>
                <a:ext cx="787320" cy="779400"/>
              </a:xfrm>
              <a:prstGeom prst="rect">
                <a:avLst/>
              </a:prstGeom>
              <a:solidFill>
                <a:srgbClr val="009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3807000" y="4694400"/>
                <a:ext cx="780840" cy="772920"/>
              </a:xfrm>
              <a:prstGeom prst="rect">
                <a:avLst/>
              </a:prstGeom>
              <a:solidFill>
                <a:srgbClr val="0096d5"/>
              </a:solidFill>
              <a:ln w="792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3803760" y="4597560"/>
                <a:ext cx="887400" cy="93600"/>
              </a:xfrm>
              <a:custGeom>
                <a:avLst/>
                <a:gdLst/>
                <a:ahLst/>
                <a:rect l="l" t="t" r="r" b="b"/>
                <a:pathLst>
                  <a:path w="559" h="59">
                    <a:moveTo>
                      <a:pt x="0" y="59"/>
                    </a:moveTo>
                    <a:lnTo>
                      <a:pt x="63" y="0"/>
                    </a:lnTo>
                    <a:lnTo>
                      <a:pt x="559" y="0"/>
                    </a:lnTo>
                    <a:lnTo>
                      <a:pt x="496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3803760" y="4597560"/>
                <a:ext cx="887400" cy="93600"/>
              </a:xfrm>
              <a:custGeom>
                <a:avLst/>
                <a:gdLst/>
                <a:ahLst/>
                <a:rect l="l" t="t" r="r" b="b"/>
                <a:pathLst>
                  <a:path w="559" h="59">
                    <a:moveTo>
                      <a:pt x="0" y="59"/>
                    </a:moveTo>
                    <a:lnTo>
                      <a:pt x="63" y="0"/>
                    </a:lnTo>
                    <a:lnTo>
                      <a:pt x="559" y="0"/>
                    </a:lnTo>
                    <a:lnTo>
                      <a:pt x="496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b4ff"/>
              </a:solidFill>
              <a:ln w="792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591080" y="4597560"/>
                <a:ext cx="100080" cy="866880"/>
              </a:xfrm>
              <a:custGeom>
                <a:avLst/>
                <a:gdLst/>
                <a:ahLst/>
                <a:rect l="l" t="t" r="r" b="b"/>
                <a:pathLst>
                  <a:path w="63" h="546">
                    <a:moveTo>
                      <a:pt x="0" y="59"/>
                    </a:moveTo>
                    <a:lnTo>
                      <a:pt x="63" y="0"/>
                    </a:lnTo>
                    <a:lnTo>
                      <a:pt x="63" y="487"/>
                    </a:lnTo>
                    <a:lnTo>
                      <a:pt x="0" y="54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591080" y="4597560"/>
                <a:ext cx="100080" cy="866880"/>
              </a:xfrm>
              <a:custGeom>
                <a:avLst/>
                <a:gdLst/>
                <a:ahLst/>
                <a:rect l="l" t="t" r="r" b="b"/>
                <a:pathLst>
                  <a:path w="63" h="546">
                    <a:moveTo>
                      <a:pt x="0" y="59"/>
                    </a:moveTo>
                    <a:lnTo>
                      <a:pt x="63" y="0"/>
                    </a:lnTo>
                    <a:lnTo>
                      <a:pt x="63" y="487"/>
                    </a:lnTo>
                    <a:lnTo>
                      <a:pt x="0" y="54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5a80"/>
              </a:solidFill>
              <a:ln w="7920">
                <a:solidFill>
                  <a:srgbClr val="aae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8" name=""/>
            <p:cNvGrpSpPr/>
            <p:nvPr/>
          </p:nvGrpSpPr>
          <p:grpSpPr>
            <a:xfrm>
              <a:off x="3860640" y="4740480"/>
              <a:ext cx="695520" cy="701640"/>
              <a:chOff x="3860640" y="4740480"/>
              <a:chExt cx="695520" cy="701640"/>
            </a:xfrm>
          </p:grpSpPr>
          <p:sp>
            <p:nvSpPr>
              <p:cNvPr id="2329" name=""/>
              <p:cNvSpPr/>
              <p:nvPr/>
            </p:nvSpPr>
            <p:spPr>
              <a:xfrm>
                <a:off x="4441680" y="4740480"/>
                <a:ext cx="114480" cy="12204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72" y="0"/>
                    </a:moveTo>
                    <a:lnTo>
                      <a:pt x="0" y="0"/>
                    </a:lnTo>
                    <a:lnTo>
                      <a:pt x="27" y="27"/>
                    </a:lnTo>
                    <a:lnTo>
                      <a:pt x="4" y="50"/>
                    </a:lnTo>
                    <a:lnTo>
                      <a:pt x="27" y="72"/>
                    </a:lnTo>
                    <a:lnTo>
                      <a:pt x="45" y="50"/>
                    </a:lnTo>
                    <a:lnTo>
                      <a:pt x="72" y="7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441680" y="4740480"/>
                <a:ext cx="114480" cy="12204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72" y="0"/>
                    </a:moveTo>
                    <a:lnTo>
                      <a:pt x="0" y="0"/>
                    </a:lnTo>
                    <a:lnTo>
                      <a:pt x="27" y="27"/>
                    </a:lnTo>
                    <a:lnTo>
                      <a:pt x="4" y="50"/>
                    </a:lnTo>
                    <a:lnTo>
                      <a:pt x="27" y="72"/>
                    </a:lnTo>
                    <a:lnTo>
                      <a:pt x="45" y="50"/>
                    </a:lnTo>
                    <a:lnTo>
                      <a:pt x="72" y="77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397400" y="483408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22"/>
                    </a:moveTo>
                    <a:lnTo>
                      <a:pt x="23" y="45"/>
                    </a:lnTo>
                    <a:lnTo>
                      <a:pt x="46" y="22"/>
                    </a:lnTo>
                    <a:lnTo>
                      <a:pt x="23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397400" y="483408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22"/>
                    </a:moveTo>
                    <a:lnTo>
                      <a:pt x="23" y="45"/>
                    </a:lnTo>
                    <a:lnTo>
                      <a:pt x="46" y="22"/>
                    </a:lnTo>
                    <a:lnTo>
                      <a:pt x="23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348080" y="4883400"/>
                <a:ext cx="71640" cy="7272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23"/>
                    </a:moveTo>
                    <a:lnTo>
                      <a:pt x="22" y="46"/>
                    </a:ln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348080" y="4883400"/>
                <a:ext cx="71640" cy="7272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23"/>
                    </a:moveTo>
                    <a:lnTo>
                      <a:pt x="22" y="46"/>
                    </a:ln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297320" y="4934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297320" y="4934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248000" y="49849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4248000" y="49849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197240" y="5034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197240" y="5034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148280" y="508500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148280" y="508500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097160" y="513396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23"/>
                    </a:moveTo>
                    <a:lnTo>
                      <a:pt x="23" y="46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097160" y="513396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23"/>
                    </a:moveTo>
                    <a:lnTo>
                      <a:pt x="23" y="46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860640" y="5321520"/>
                <a:ext cx="114480" cy="12060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0" y="76"/>
                    </a:moveTo>
                    <a:lnTo>
                      <a:pt x="72" y="76"/>
                    </a:lnTo>
                    <a:lnTo>
                      <a:pt x="45" y="49"/>
                    </a:lnTo>
                    <a:lnTo>
                      <a:pt x="68" y="31"/>
                    </a:lnTo>
                    <a:lnTo>
                      <a:pt x="45" y="9"/>
                    </a:lnTo>
                    <a:lnTo>
                      <a:pt x="27" y="27"/>
                    </a:lnTo>
                    <a:lnTo>
                      <a:pt x="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860640" y="5321520"/>
                <a:ext cx="114480" cy="12060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0" y="76"/>
                    </a:moveTo>
                    <a:lnTo>
                      <a:pt x="72" y="76"/>
                    </a:lnTo>
                    <a:lnTo>
                      <a:pt x="45" y="49"/>
                    </a:lnTo>
                    <a:lnTo>
                      <a:pt x="68" y="31"/>
                    </a:lnTo>
                    <a:lnTo>
                      <a:pt x="45" y="9"/>
                    </a:lnTo>
                    <a:lnTo>
                      <a:pt x="27" y="27"/>
                    </a:lnTo>
                    <a:lnTo>
                      <a:pt x="0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046400" y="518472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046400" y="518472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997440" y="52358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997440" y="52358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946680" y="52848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946680" y="52848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3854520" y="4748400"/>
              <a:ext cx="701640" cy="693720"/>
              <a:chOff x="3854520" y="4748400"/>
              <a:chExt cx="701640" cy="693720"/>
            </a:xfrm>
          </p:grpSpPr>
          <p:sp>
            <p:nvSpPr>
              <p:cNvPr id="2354" name=""/>
              <p:cNvSpPr/>
              <p:nvPr/>
            </p:nvSpPr>
            <p:spPr>
              <a:xfrm>
                <a:off x="3854520" y="4748400"/>
                <a:ext cx="120600" cy="1141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0" y="0"/>
                    </a:moveTo>
                    <a:lnTo>
                      <a:pt x="0" y="72"/>
                    </a:lnTo>
                    <a:lnTo>
                      <a:pt x="27" y="45"/>
                    </a:lnTo>
                    <a:lnTo>
                      <a:pt x="49" y="67"/>
                    </a:lnTo>
                    <a:lnTo>
                      <a:pt x="72" y="45"/>
                    </a:lnTo>
                    <a:lnTo>
                      <a:pt x="49" y="27"/>
                    </a:lnTo>
                    <a:lnTo>
                      <a:pt x="7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54520" y="4748400"/>
                <a:ext cx="120600" cy="1141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0" y="0"/>
                    </a:moveTo>
                    <a:lnTo>
                      <a:pt x="0" y="72"/>
                    </a:lnTo>
                    <a:lnTo>
                      <a:pt x="27" y="45"/>
                    </a:lnTo>
                    <a:lnTo>
                      <a:pt x="49" y="67"/>
                    </a:lnTo>
                    <a:lnTo>
                      <a:pt x="72" y="45"/>
                    </a:lnTo>
                    <a:lnTo>
                      <a:pt x="49" y="27"/>
                    </a:lnTo>
                    <a:lnTo>
                      <a:pt x="7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946680" y="4834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946680" y="4834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3997440" y="4883400"/>
                <a:ext cx="71280" cy="7272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22" y="46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3997440" y="4883400"/>
                <a:ext cx="71280" cy="7272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22" y="46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046400" y="493416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046400" y="493416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097160" y="49849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097160" y="49849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148280" y="50342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2" y="45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148280" y="50342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2" y="45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97240" y="508500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197240" y="508500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248000" y="513396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22" y="46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248000" y="513396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22" y="46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433760" y="5327640"/>
                <a:ext cx="122400" cy="11448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77" y="72"/>
                    </a:moveTo>
                    <a:lnTo>
                      <a:pt x="77" y="0"/>
                    </a:lnTo>
                    <a:lnTo>
                      <a:pt x="50" y="27"/>
                    </a:lnTo>
                    <a:lnTo>
                      <a:pt x="32" y="5"/>
                    </a:lnTo>
                    <a:lnTo>
                      <a:pt x="9" y="27"/>
                    </a:lnTo>
                    <a:lnTo>
                      <a:pt x="27" y="45"/>
                    </a:lnTo>
                    <a:lnTo>
                      <a:pt x="0" y="72"/>
                    </a:lnTo>
                    <a:lnTo>
                      <a:pt x="7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433760" y="5327640"/>
                <a:ext cx="122400" cy="11448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77" y="72"/>
                    </a:moveTo>
                    <a:lnTo>
                      <a:pt x="77" y="0"/>
                    </a:lnTo>
                    <a:lnTo>
                      <a:pt x="50" y="27"/>
                    </a:lnTo>
                    <a:lnTo>
                      <a:pt x="32" y="5"/>
                    </a:lnTo>
                    <a:lnTo>
                      <a:pt x="9" y="27"/>
                    </a:lnTo>
                    <a:lnTo>
                      <a:pt x="27" y="45"/>
                    </a:lnTo>
                    <a:lnTo>
                      <a:pt x="0" y="72"/>
                    </a:lnTo>
                    <a:lnTo>
                      <a:pt x="77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297320" y="51847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297320" y="51847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348080" y="5235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2" y="45"/>
                    </a:move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2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348080" y="5235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2" y="45"/>
                    </a:move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2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397400" y="528480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4397400" y="528480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8" name=""/>
            <p:cNvGrpSpPr/>
            <p:nvPr/>
          </p:nvGrpSpPr>
          <p:grpSpPr>
            <a:xfrm>
              <a:off x="3846600" y="4740480"/>
              <a:ext cx="701640" cy="695160"/>
              <a:chOff x="3846600" y="4740480"/>
              <a:chExt cx="701640" cy="695160"/>
            </a:xfrm>
          </p:grpSpPr>
          <p:sp>
            <p:nvSpPr>
              <p:cNvPr id="2379" name=""/>
              <p:cNvSpPr/>
              <p:nvPr/>
            </p:nvSpPr>
            <p:spPr>
              <a:xfrm>
                <a:off x="3846600" y="4740480"/>
                <a:ext cx="122040" cy="11412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0" y="0"/>
                    </a:moveTo>
                    <a:lnTo>
                      <a:pt x="0" y="72"/>
                    </a:lnTo>
                    <a:lnTo>
                      <a:pt x="27" y="45"/>
                    </a:lnTo>
                    <a:lnTo>
                      <a:pt x="50" y="68"/>
                    </a:lnTo>
                    <a:lnTo>
                      <a:pt x="72" y="45"/>
                    </a:lnTo>
                    <a:lnTo>
                      <a:pt x="50" y="2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3846600" y="4740480"/>
                <a:ext cx="122040" cy="11412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0" y="0"/>
                    </a:moveTo>
                    <a:lnTo>
                      <a:pt x="0" y="72"/>
                    </a:lnTo>
                    <a:lnTo>
                      <a:pt x="27" y="45"/>
                    </a:lnTo>
                    <a:lnTo>
                      <a:pt x="50" y="68"/>
                    </a:lnTo>
                    <a:lnTo>
                      <a:pt x="72" y="45"/>
                    </a:lnTo>
                    <a:lnTo>
                      <a:pt x="50" y="2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3940200" y="482616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22" y="46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3940200" y="482616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22" y="46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989520" y="48769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3989520" y="48769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040280" y="49276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2" y="45"/>
                    </a:move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22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040280" y="49276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2" y="45"/>
                    </a:move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lnTo>
                      <a:pt x="22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089240" y="497700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089240" y="497700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140360" y="5027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140360" y="5027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191120" y="5077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2" y="45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4191120" y="5077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2" y="45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240080" y="5127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4240080" y="5127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427640" y="5321520"/>
                <a:ext cx="120600" cy="1141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76" y="72"/>
                    </a:moveTo>
                    <a:lnTo>
                      <a:pt x="76" y="0"/>
                    </a:lnTo>
                    <a:lnTo>
                      <a:pt x="49" y="27"/>
                    </a:lnTo>
                    <a:lnTo>
                      <a:pt x="31" y="4"/>
                    </a:lnTo>
                    <a:lnTo>
                      <a:pt x="9" y="27"/>
                    </a:lnTo>
                    <a:lnTo>
                      <a:pt x="27" y="45"/>
                    </a:lnTo>
                    <a:lnTo>
                      <a:pt x="0" y="72"/>
                    </a:lnTo>
                    <a:lnTo>
                      <a:pt x="76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4427640" y="5321520"/>
                <a:ext cx="120600" cy="1141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76" y="72"/>
                    </a:moveTo>
                    <a:lnTo>
                      <a:pt x="76" y="0"/>
                    </a:lnTo>
                    <a:lnTo>
                      <a:pt x="49" y="27"/>
                    </a:lnTo>
                    <a:lnTo>
                      <a:pt x="31" y="4"/>
                    </a:lnTo>
                    <a:lnTo>
                      <a:pt x="9" y="27"/>
                    </a:lnTo>
                    <a:lnTo>
                      <a:pt x="27" y="45"/>
                    </a:lnTo>
                    <a:lnTo>
                      <a:pt x="0" y="72"/>
                    </a:lnTo>
                    <a:lnTo>
                      <a:pt x="76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290840" y="517680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22" y="46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290840" y="517680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22" y="46"/>
                    </a:move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340160" y="522756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340160" y="522756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390920" y="52786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390920" y="52786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23" y="45"/>
                    </a:moveTo>
                    <a:lnTo>
                      <a:pt x="45" y="22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3" name=""/>
            <p:cNvGrpSpPr/>
            <p:nvPr/>
          </p:nvGrpSpPr>
          <p:grpSpPr>
            <a:xfrm>
              <a:off x="3854520" y="4734000"/>
              <a:ext cx="693720" cy="701640"/>
              <a:chOff x="3854520" y="4734000"/>
              <a:chExt cx="693720" cy="701640"/>
            </a:xfrm>
          </p:grpSpPr>
          <p:sp>
            <p:nvSpPr>
              <p:cNvPr id="2404" name=""/>
              <p:cNvSpPr/>
              <p:nvPr/>
            </p:nvSpPr>
            <p:spPr>
              <a:xfrm>
                <a:off x="4433760" y="4734000"/>
                <a:ext cx="114480" cy="12060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72" y="0"/>
                    </a:moveTo>
                    <a:lnTo>
                      <a:pt x="0" y="0"/>
                    </a:lnTo>
                    <a:lnTo>
                      <a:pt x="27" y="27"/>
                    </a:lnTo>
                    <a:lnTo>
                      <a:pt x="5" y="49"/>
                    </a:lnTo>
                    <a:lnTo>
                      <a:pt x="27" y="72"/>
                    </a:lnTo>
                    <a:lnTo>
                      <a:pt x="45" y="49"/>
                    </a:lnTo>
                    <a:lnTo>
                      <a:pt x="72" y="7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433760" y="4734000"/>
                <a:ext cx="114480" cy="12060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72" y="0"/>
                    </a:moveTo>
                    <a:lnTo>
                      <a:pt x="0" y="0"/>
                    </a:lnTo>
                    <a:lnTo>
                      <a:pt x="27" y="27"/>
                    </a:lnTo>
                    <a:lnTo>
                      <a:pt x="5" y="49"/>
                    </a:lnTo>
                    <a:lnTo>
                      <a:pt x="27" y="72"/>
                    </a:lnTo>
                    <a:lnTo>
                      <a:pt x="45" y="49"/>
                    </a:lnTo>
                    <a:lnTo>
                      <a:pt x="72" y="7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4390920" y="482616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23"/>
                    </a:moveTo>
                    <a:lnTo>
                      <a:pt x="23" y="46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390920" y="482616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23"/>
                    </a:moveTo>
                    <a:lnTo>
                      <a:pt x="23" y="46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340160" y="487692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340160" y="487692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6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290840" y="49276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290840" y="49276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240080" y="497700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240080" y="497700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191120" y="5027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191120" y="5027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140360" y="5077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140360" y="5077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089240" y="512784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22"/>
                    </a:moveTo>
                    <a:lnTo>
                      <a:pt x="23" y="45"/>
                    </a:lnTo>
                    <a:lnTo>
                      <a:pt x="46" y="22"/>
                    </a:lnTo>
                    <a:lnTo>
                      <a:pt x="23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4089240" y="512784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22"/>
                    </a:moveTo>
                    <a:lnTo>
                      <a:pt x="23" y="45"/>
                    </a:lnTo>
                    <a:lnTo>
                      <a:pt x="46" y="22"/>
                    </a:lnTo>
                    <a:lnTo>
                      <a:pt x="23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3854520" y="5313600"/>
                <a:ext cx="114120" cy="12204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0" y="77"/>
                    </a:moveTo>
                    <a:lnTo>
                      <a:pt x="72" y="77"/>
                    </a:lnTo>
                    <a:lnTo>
                      <a:pt x="45" y="50"/>
                    </a:lnTo>
                    <a:lnTo>
                      <a:pt x="67" y="32"/>
                    </a:lnTo>
                    <a:lnTo>
                      <a:pt x="45" y="9"/>
                    </a:lnTo>
                    <a:lnTo>
                      <a:pt x="27" y="27"/>
                    </a:lnTo>
                    <a:lnTo>
                      <a:pt x="0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3854520" y="5313600"/>
                <a:ext cx="114120" cy="12204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0" y="77"/>
                    </a:moveTo>
                    <a:lnTo>
                      <a:pt x="72" y="77"/>
                    </a:lnTo>
                    <a:lnTo>
                      <a:pt x="45" y="50"/>
                    </a:lnTo>
                    <a:lnTo>
                      <a:pt x="67" y="32"/>
                    </a:lnTo>
                    <a:lnTo>
                      <a:pt x="45" y="9"/>
                    </a:lnTo>
                    <a:lnTo>
                      <a:pt x="27" y="27"/>
                    </a:lnTo>
                    <a:lnTo>
                      <a:pt x="0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040280" y="517680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23"/>
                    </a:moveTo>
                    <a:lnTo>
                      <a:pt x="22" y="46"/>
                    </a:ln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040280" y="517680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23"/>
                    </a:moveTo>
                    <a:lnTo>
                      <a:pt x="22" y="46"/>
                    </a:lnTo>
                    <a:lnTo>
                      <a:pt x="45" y="23"/>
                    </a:lnTo>
                    <a:lnTo>
                      <a:pt x="22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3989520" y="522756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3989520" y="522756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3"/>
                    </a:moveTo>
                    <a:lnTo>
                      <a:pt x="23" y="45"/>
                    </a:lnTo>
                    <a:lnTo>
                      <a:pt x="45" y="23"/>
                    </a:lnTo>
                    <a:lnTo>
                      <a:pt x="2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3940200" y="52786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3940200" y="52786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22"/>
                    </a:moveTo>
                    <a:lnTo>
                      <a:pt x="22" y="45"/>
                    </a:lnTo>
                    <a:lnTo>
                      <a:pt x="45" y="22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28" name="" descr=""/>
          <p:cNvPicPr/>
          <p:nvPr/>
        </p:nvPicPr>
        <p:blipFill>
          <a:blip r:embed="rId9"/>
          <a:stretch/>
        </p:blipFill>
        <p:spPr>
          <a:xfrm>
            <a:off x="3546360" y="5626080"/>
            <a:ext cx="1152720" cy="787320"/>
          </a:xfrm>
          <a:prstGeom prst="rect">
            <a:avLst/>
          </a:prstGeom>
          <a:ln w="0">
            <a:noFill/>
          </a:ln>
        </p:spPr>
      </p:pic>
      <p:sp>
        <p:nvSpPr>
          <p:cNvPr id="2429" name=""/>
          <p:cNvSpPr/>
          <p:nvPr/>
        </p:nvSpPr>
        <p:spPr>
          <a:xfrm>
            <a:off x="4724280" y="5622840"/>
            <a:ext cx="1265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de Area Application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6819840" y="2716200"/>
            <a:ext cx="679320" cy="730440"/>
            <a:chOff x="6819840" y="2716200"/>
            <a:chExt cx="679320" cy="730440"/>
          </a:xfrm>
        </p:grpSpPr>
        <p:grpSp>
          <p:nvGrpSpPr>
            <p:cNvPr id="2431" name=""/>
            <p:cNvGrpSpPr/>
            <p:nvPr/>
          </p:nvGrpSpPr>
          <p:grpSpPr>
            <a:xfrm>
              <a:off x="6821280" y="3211560"/>
              <a:ext cx="676440" cy="235080"/>
              <a:chOff x="6821280" y="3211560"/>
              <a:chExt cx="676440" cy="235080"/>
            </a:xfrm>
          </p:grpSpPr>
          <p:sp>
            <p:nvSpPr>
              <p:cNvPr id="2432" name=""/>
              <p:cNvSpPr/>
              <p:nvPr/>
            </p:nvSpPr>
            <p:spPr>
              <a:xfrm>
                <a:off x="6821280" y="3213360"/>
                <a:ext cx="675000" cy="231480"/>
              </a:xfrm>
              <a:custGeom>
                <a:avLst/>
                <a:gdLst/>
                <a:ahLst/>
                <a:rect l="l" t="t" r="r" b="b"/>
                <a:pathLst>
                  <a:path w="15293" h="5240">
                    <a:moveTo>
                      <a:pt x="7647" y="0"/>
                    </a:moveTo>
                    <a:lnTo>
                      <a:pt x="7804" y="1"/>
                    </a:lnTo>
                    <a:lnTo>
                      <a:pt x="7961" y="2"/>
                    </a:lnTo>
                    <a:lnTo>
                      <a:pt x="8117" y="5"/>
                    </a:lnTo>
                    <a:lnTo>
                      <a:pt x="8272" y="9"/>
                    </a:lnTo>
                    <a:lnTo>
                      <a:pt x="8427" y="14"/>
                    </a:lnTo>
                    <a:lnTo>
                      <a:pt x="8581" y="19"/>
                    </a:lnTo>
                    <a:lnTo>
                      <a:pt x="8733" y="26"/>
                    </a:lnTo>
                    <a:lnTo>
                      <a:pt x="8885" y="34"/>
                    </a:lnTo>
                    <a:lnTo>
                      <a:pt x="9036" y="43"/>
                    </a:lnTo>
                    <a:lnTo>
                      <a:pt x="9185" y="53"/>
                    </a:lnTo>
                    <a:lnTo>
                      <a:pt x="9333" y="65"/>
                    </a:lnTo>
                    <a:lnTo>
                      <a:pt x="9480" y="77"/>
                    </a:lnTo>
                    <a:lnTo>
                      <a:pt x="9627" y="89"/>
                    </a:lnTo>
                    <a:lnTo>
                      <a:pt x="9772" y="103"/>
                    </a:lnTo>
                    <a:lnTo>
                      <a:pt x="9917" y="118"/>
                    </a:lnTo>
                    <a:lnTo>
                      <a:pt x="10060" y="134"/>
                    </a:lnTo>
                    <a:lnTo>
                      <a:pt x="10202" y="151"/>
                    </a:lnTo>
                    <a:lnTo>
                      <a:pt x="10341" y="169"/>
                    </a:lnTo>
                    <a:lnTo>
                      <a:pt x="10481" y="187"/>
                    </a:lnTo>
                    <a:lnTo>
                      <a:pt x="10619" y="206"/>
                    </a:lnTo>
                    <a:lnTo>
                      <a:pt x="10755" y="226"/>
                    </a:lnTo>
                    <a:lnTo>
                      <a:pt x="10890" y="249"/>
                    </a:lnTo>
                    <a:lnTo>
                      <a:pt x="11024" y="270"/>
                    </a:lnTo>
                    <a:lnTo>
                      <a:pt x="11157" y="293"/>
                    </a:lnTo>
                    <a:lnTo>
                      <a:pt x="11287" y="317"/>
                    </a:lnTo>
                    <a:lnTo>
                      <a:pt x="11416" y="342"/>
                    </a:lnTo>
                    <a:lnTo>
                      <a:pt x="11544" y="367"/>
                    </a:lnTo>
                    <a:lnTo>
                      <a:pt x="11670" y="393"/>
                    </a:lnTo>
                    <a:lnTo>
                      <a:pt x="11794" y="420"/>
                    </a:lnTo>
                    <a:lnTo>
                      <a:pt x="11918" y="449"/>
                    </a:lnTo>
                    <a:lnTo>
                      <a:pt x="12039" y="477"/>
                    </a:lnTo>
                    <a:lnTo>
                      <a:pt x="12158" y="506"/>
                    </a:lnTo>
                    <a:lnTo>
                      <a:pt x="12276" y="537"/>
                    </a:lnTo>
                    <a:lnTo>
                      <a:pt x="12392" y="568"/>
                    </a:lnTo>
                    <a:lnTo>
                      <a:pt x="12506" y="599"/>
                    </a:lnTo>
                    <a:lnTo>
                      <a:pt x="12619" y="632"/>
                    </a:lnTo>
                    <a:lnTo>
                      <a:pt x="12730" y="665"/>
                    </a:lnTo>
                    <a:lnTo>
                      <a:pt x="12838" y="699"/>
                    </a:lnTo>
                    <a:lnTo>
                      <a:pt x="12945" y="734"/>
                    </a:lnTo>
                    <a:lnTo>
                      <a:pt x="13050" y="769"/>
                    </a:lnTo>
                    <a:lnTo>
                      <a:pt x="13153" y="804"/>
                    </a:lnTo>
                    <a:lnTo>
                      <a:pt x="13254" y="841"/>
                    </a:lnTo>
                    <a:lnTo>
                      <a:pt x="13352" y="878"/>
                    </a:lnTo>
                    <a:lnTo>
                      <a:pt x="13449" y="917"/>
                    </a:lnTo>
                    <a:lnTo>
                      <a:pt x="13544" y="955"/>
                    </a:lnTo>
                    <a:lnTo>
                      <a:pt x="13637" y="994"/>
                    </a:lnTo>
                    <a:lnTo>
                      <a:pt x="13726" y="1034"/>
                    </a:lnTo>
                    <a:lnTo>
                      <a:pt x="13815" y="1074"/>
                    </a:lnTo>
                    <a:lnTo>
                      <a:pt x="13901" y="1115"/>
                    </a:lnTo>
                    <a:lnTo>
                      <a:pt x="13985" y="1156"/>
                    </a:lnTo>
                    <a:lnTo>
                      <a:pt x="14066" y="1199"/>
                    </a:lnTo>
                    <a:lnTo>
                      <a:pt x="14146" y="1241"/>
                    </a:lnTo>
                    <a:lnTo>
                      <a:pt x="14222" y="1285"/>
                    </a:lnTo>
                    <a:lnTo>
                      <a:pt x="14297" y="1328"/>
                    </a:lnTo>
                    <a:lnTo>
                      <a:pt x="14368" y="1373"/>
                    </a:lnTo>
                    <a:lnTo>
                      <a:pt x="14439" y="1418"/>
                    </a:lnTo>
                    <a:lnTo>
                      <a:pt x="14505" y="1462"/>
                    </a:lnTo>
                    <a:lnTo>
                      <a:pt x="14570" y="1509"/>
                    </a:lnTo>
                    <a:lnTo>
                      <a:pt x="14631" y="1554"/>
                    </a:lnTo>
                    <a:lnTo>
                      <a:pt x="14692" y="1602"/>
                    </a:lnTo>
                    <a:lnTo>
                      <a:pt x="14748" y="1648"/>
                    </a:lnTo>
                    <a:lnTo>
                      <a:pt x="14803" y="1697"/>
                    </a:lnTo>
                    <a:lnTo>
                      <a:pt x="14854" y="1744"/>
                    </a:lnTo>
                    <a:lnTo>
                      <a:pt x="14903" y="1793"/>
                    </a:lnTo>
                    <a:lnTo>
                      <a:pt x="14949" y="1842"/>
                    </a:lnTo>
                    <a:lnTo>
                      <a:pt x="14993" y="1891"/>
                    </a:lnTo>
                    <a:lnTo>
                      <a:pt x="15033" y="1942"/>
                    </a:lnTo>
                    <a:lnTo>
                      <a:pt x="15071" y="1991"/>
                    </a:lnTo>
                    <a:lnTo>
                      <a:pt x="15106" y="2042"/>
                    </a:lnTo>
                    <a:lnTo>
                      <a:pt x="15138" y="2093"/>
                    </a:lnTo>
                    <a:lnTo>
                      <a:pt x="15167" y="2144"/>
                    </a:lnTo>
                    <a:lnTo>
                      <a:pt x="15193" y="2195"/>
                    </a:lnTo>
                    <a:lnTo>
                      <a:pt x="15217" y="2248"/>
                    </a:lnTo>
                    <a:lnTo>
                      <a:pt x="15237" y="2299"/>
                    </a:lnTo>
                    <a:lnTo>
                      <a:pt x="15255" y="2352"/>
                    </a:lnTo>
                    <a:lnTo>
                      <a:pt x="15268" y="2405"/>
                    </a:lnTo>
                    <a:lnTo>
                      <a:pt x="15279" y="2458"/>
                    </a:lnTo>
                    <a:lnTo>
                      <a:pt x="15287" y="2512"/>
                    </a:lnTo>
                    <a:lnTo>
                      <a:pt x="15292" y="2565"/>
                    </a:lnTo>
                    <a:lnTo>
                      <a:pt x="15293" y="2620"/>
                    </a:lnTo>
                    <a:lnTo>
                      <a:pt x="15293" y="2620"/>
                    </a:lnTo>
                    <a:lnTo>
                      <a:pt x="15292" y="2673"/>
                    </a:lnTo>
                    <a:lnTo>
                      <a:pt x="15287" y="2727"/>
                    </a:lnTo>
                    <a:lnTo>
                      <a:pt x="15279" y="2780"/>
                    </a:lnTo>
                    <a:lnTo>
                      <a:pt x="15268" y="2834"/>
                    </a:lnTo>
                    <a:lnTo>
                      <a:pt x="15255" y="2887"/>
                    </a:lnTo>
                    <a:lnTo>
                      <a:pt x="15237" y="2939"/>
                    </a:lnTo>
                    <a:lnTo>
                      <a:pt x="15217" y="2992"/>
                    </a:lnTo>
                    <a:lnTo>
                      <a:pt x="15193" y="3043"/>
                    </a:lnTo>
                    <a:lnTo>
                      <a:pt x="15167" y="3095"/>
                    </a:lnTo>
                    <a:lnTo>
                      <a:pt x="15138" y="3146"/>
                    </a:lnTo>
                    <a:lnTo>
                      <a:pt x="15106" y="3197"/>
                    </a:lnTo>
                    <a:lnTo>
                      <a:pt x="15071" y="3247"/>
                    </a:lnTo>
                    <a:lnTo>
                      <a:pt x="15033" y="3298"/>
                    </a:lnTo>
                    <a:lnTo>
                      <a:pt x="14993" y="3347"/>
                    </a:lnTo>
                    <a:lnTo>
                      <a:pt x="14949" y="3397"/>
                    </a:lnTo>
                    <a:lnTo>
                      <a:pt x="14903" y="3447"/>
                    </a:lnTo>
                    <a:lnTo>
                      <a:pt x="14854" y="3495"/>
                    </a:lnTo>
                    <a:lnTo>
                      <a:pt x="14803" y="3543"/>
                    </a:lnTo>
                    <a:lnTo>
                      <a:pt x="14748" y="3590"/>
                    </a:lnTo>
                    <a:lnTo>
                      <a:pt x="14692" y="3638"/>
                    </a:lnTo>
                    <a:lnTo>
                      <a:pt x="14631" y="3684"/>
                    </a:lnTo>
                    <a:lnTo>
                      <a:pt x="14570" y="3731"/>
                    </a:lnTo>
                    <a:lnTo>
                      <a:pt x="14505" y="3776"/>
                    </a:lnTo>
                    <a:lnTo>
                      <a:pt x="14439" y="3822"/>
                    </a:lnTo>
                    <a:lnTo>
                      <a:pt x="14368" y="3866"/>
                    </a:lnTo>
                    <a:lnTo>
                      <a:pt x="14297" y="3910"/>
                    </a:lnTo>
                    <a:lnTo>
                      <a:pt x="14222" y="3955"/>
                    </a:lnTo>
                    <a:lnTo>
                      <a:pt x="14146" y="3997"/>
                    </a:lnTo>
                    <a:lnTo>
                      <a:pt x="14066" y="4041"/>
                    </a:lnTo>
                    <a:lnTo>
                      <a:pt x="13985" y="4082"/>
                    </a:lnTo>
                    <a:lnTo>
                      <a:pt x="13901" y="4124"/>
                    </a:lnTo>
                    <a:lnTo>
                      <a:pt x="13815" y="4165"/>
                    </a:lnTo>
                    <a:lnTo>
                      <a:pt x="13726" y="4206"/>
                    </a:lnTo>
                    <a:lnTo>
                      <a:pt x="13637" y="4245"/>
                    </a:lnTo>
                    <a:lnTo>
                      <a:pt x="13544" y="4284"/>
                    </a:lnTo>
                    <a:lnTo>
                      <a:pt x="13449" y="4323"/>
                    </a:lnTo>
                    <a:lnTo>
                      <a:pt x="13352" y="4360"/>
                    </a:lnTo>
                    <a:lnTo>
                      <a:pt x="13254" y="4398"/>
                    </a:lnTo>
                    <a:lnTo>
                      <a:pt x="13153" y="4434"/>
                    </a:lnTo>
                    <a:lnTo>
                      <a:pt x="13050" y="4470"/>
                    </a:lnTo>
                    <a:lnTo>
                      <a:pt x="12945" y="4506"/>
                    </a:lnTo>
                    <a:lnTo>
                      <a:pt x="12838" y="4540"/>
                    </a:lnTo>
                    <a:lnTo>
                      <a:pt x="12730" y="4575"/>
                    </a:lnTo>
                    <a:lnTo>
                      <a:pt x="12619" y="4607"/>
                    </a:lnTo>
                    <a:lnTo>
                      <a:pt x="12506" y="4639"/>
                    </a:lnTo>
                    <a:lnTo>
                      <a:pt x="12392" y="4672"/>
                    </a:lnTo>
                    <a:lnTo>
                      <a:pt x="12276" y="4702"/>
                    </a:lnTo>
                    <a:lnTo>
                      <a:pt x="12158" y="4732"/>
                    </a:lnTo>
                    <a:lnTo>
                      <a:pt x="12039" y="4762"/>
                    </a:lnTo>
                    <a:lnTo>
                      <a:pt x="11918" y="4791"/>
                    </a:lnTo>
                    <a:lnTo>
                      <a:pt x="11794" y="4818"/>
                    </a:lnTo>
                    <a:lnTo>
                      <a:pt x="11670" y="4845"/>
                    </a:lnTo>
                    <a:lnTo>
                      <a:pt x="11544" y="4872"/>
                    </a:lnTo>
                    <a:lnTo>
                      <a:pt x="11416" y="4898"/>
                    </a:lnTo>
                    <a:lnTo>
                      <a:pt x="11287" y="4922"/>
                    </a:lnTo>
                    <a:lnTo>
                      <a:pt x="11157" y="4946"/>
                    </a:lnTo>
                    <a:lnTo>
                      <a:pt x="11024" y="4969"/>
                    </a:lnTo>
                    <a:lnTo>
                      <a:pt x="10890" y="4991"/>
                    </a:lnTo>
                    <a:lnTo>
                      <a:pt x="10755" y="5012"/>
                    </a:lnTo>
                    <a:lnTo>
                      <a:pt x="10619" y="5032"/>
                    </a:lnTo>
                    <a:lnTo>
                      <a:pt x="10481" y="5053"/>
                    </a:lnTo>
                    <a:lnTo>
                      <a:pt x="10341" y="5071"/>
                    </a:lnTo>
                    <a:lnTo>
                      <a:pt x="10202" y="5088"/>
                    </a:lnTo>
                    <a:lnTo>
                      <a:pt x="10060" y="5105"/>
                    </a:lnTo>
                    <a:lnTo>
                      <a:pt x="9917" y="5121"/>
                    </a:lnTo>
                    <a:lnTo>
                      <a:pt x="9772" y="5135"/>
                    </a:lnTo>
                    <a:lnTo>
                      <a:pt x="9627" y="5150"/>
                    </a:lnTo>
                    <a:lnTo>
                      <a:pt x="9480" y="5163"/>
                    </a:lnTo>
                    <a:lnTo>
                      <a:pt x="9333" y="5175"/>
                    </a:lnTo>
                    <a:lnTo>
                      <a:pt x="9185" y="5186"/>
                    </a:lnTo>
                    <a:lnTo>
                      <a:pt x="9036" y="5196"/>
                    </a:lnTo>
                    <a:lnTo>
                      <a:pt x="8885" y="5204"/>
                    </a:lnTo>
                    <a:lnTo>
                      <a:pt x="8733" y="5212"/>
                    </a:lnTo>
                    <a:lnTo>
                      <a:pt x="8581" y="5219"/>
                    </a:lnTo>
                    <a:lnTo>
                      <a:pt x="8427" y="5225"/>
                    </a:lnTo>
                    <a:lnTo>
                      <a:pt x="8272" y="5231"/>
                    </a:lnTo>
                    <a:lnTo>
                      <a:pt x="8117" y="5235"/>
                    </a:lnTo>
                    <a:lnTo>
                      <a:pt x="7961" y="5237"/>
                    </a:lnTo>
                    <a:lnTo>
                      <a:pt x="7804" y="5239"/>
                    </a:lnTo>
                    <a:lnTo>
                      <a:pt x="7647" y="5240"/>
                    </a:lnTo>
                    <a:lnTo>
                      <a:pt x="7647" y="5240"/>
                    </a:lnTo>
                    <a:lnTo>
                      <a:pt x="7489" y="5239"/>
                    </a:lnTo>
                    <a:lnTo>
                      <a:pt x="7333" y="5237"/>
                    </a:lnTo>
                    <a:lnTo>
                      <a:pt x="7177" y="5235"/>
                    </a:lnTo>
                    <a:lnTo>
                      <a:pt x="7022" y="5231"/>
                    </a:lnTo>
                    <a:lnTo>
                      <a:pt x="6867" y="5225"/>
                    </a:lnTo>
                    <a:lnTo>
                      <a:pt x="6714" y="5219"/>
                    </a:lnTo>
                    <a:lnTo>
                      <a:pt x="6561" y="5212"/>
                    </a:lnTo>
                    <a:lnTo>
                      <a:pt x="6410" y="5204"/>
                    </a:lnTo>
                    <a:lnTo>
                      <a:pt x="6259" y="5196"/>
                    </a:lnTo>
                    <a:lnTo>
                      <a:pt x="6110" y="5186"/>
                    </a:lnTo>
                    <a:lnTo>
                      <a:pt x="5961" y="5175"/>
                    </a:lnTo>
                    <a:lnTo>
                      <a:pt x="5813" y="5163"/>
                    </a:lnTo>
                    <a:lnTo>
                      <a:pt x="5667" y="5150"/>
                    </a:lnTo>
                    <a:lnTo>
                      <a:pt x="5521" y="5135"/>
                    </a:lnTo>
                    <a:lnTo>
                      <a:pt x="5377" y="5121"/>
                    </a:lnTo>
                    <a:lnTo>
                      <a:pt x="5234" y="5105"/>
                    </a:lnTo>
                    <a:lnTo>
                      <a:pt x="5093" y="5088"/>
                    </a:lnTo>
                    <a:lnTo>
                      <a:pt x="4953" y="5071"/>
                    </a:lnTo>
                    <a:lnTo>
                      <a:pt x="4813" y="5053"/>
                    </a:lnTo>
                    <a:lnTo>
                      <a:pt x="4675" y="5032"/>
                    </a:lnTo>
                    <a:lnTo>
                      <a:pt x="4539" y="5012"/>
                    </a:lnTo>
                    <a:lnTo>
                      <a:pt x="4404" y="4991"/>
                    </a:lnTo>
                    <a:lnTo>
                      <a:pt x="4270" y="4969"/>
                    </a:lnTo>
                    <a:lnTo>
                      <a:pt x="4138" y="4946"/>
                    </a:lnTo>
                    <a:lnTo>
                      <a:pt x="4007" y="4922"/>
                    </a:lnTo>
                    <a:lnTo>
                      <a:pt x="3877" y="4898"/>
                    </a:lnTo>
                    <a:lnTo>
                      <a:pt x="3750" y="4872"/>
                    </a:lnTo>
                    <a:lnTo>
                      <a:pt x="3624" y="4845"/>
                    </a:lnTo>
                    <a:lnTo>
                      <a:pt x="3500" y="4818"/>
                    </a:lnTo>
                    <a:lnTo>
                      <a:pt x="3377" y="4791"/>
                    </a:lnTo>
                    <a:lnTo>
                      <a:pt x="3255" y="4762"/>
                    </a:lnTo>
                    <a:lnTo>
                      <a:pt x="3136" y="4732"/>
                    </a:lnTo>
                    <a:lnTo>
                      <a:pt x="3018" y="4702"/>
                    </a:lnTo>
                    <a:lnTo>
                      <a:pt x="2902" y="4672"/>
                    </a:lnTo>
                    <a:lnTo>
                      <a:pt x="2788" y="4639"/>
                    </a:lnTo>
                    <a:lnTo>
                      <a:pt x="2676" y="4607"/>
                    </a:lnTo>
                    <a:lnTo>
                      <a:pt x="2564" y="4575"/>
                    </a:lnTo>
                    <a:lnTo>
                      <a:pt x="2456" y="4540"/>
                    </a:lnTo>
                    <a:lnTo>
                      <a:pt x="2349" y="4506"/>
                    </a:lnTo>
                    <a:lnTo>
                      <a:pt x="2244" y="4470"/>
                    </a:lnTo>
                    <a:lnTo>
                      <a:pt x="2141" y="4434"/>
                    </a:lnTo>
                    <a:lnTo>
                      <a:pt x="2040" y="4398"/>
                    </a:lnTo>
                    <a:lnTo>
                      <a:pt x="1941" y="4360"/>
                    </a:lnTo>
                    <a:lnTo>
                      <a:pt x="1845" y="4323"/>
                    </a:lnTo>
                    <a:lnTo>
                      <a:pt x="1750" y="4284"/>
                    </a:lnTo>
                    <a:lnTo>
                      <a:pt x="1658" y="4245"/>
                    </a:lnTo>
                    <a:lnTo>
                      <a:pt x="1567" y="4206"/>
                    </a:lnTo>
                    <a:lnTo>
                      <a:pt x="1479" y="4165"/>
                    </a:lnTo>
                    <a:lnTo>
                      <a:pt x="1393" y="4124"/>
                    </a:lnTo>
                    <a:lnTo>
                      <a:pt x="1310" y="4082"/>
                    </a:lnTo>
                    <a:lnTo>
                      <a:pt x="1228" y="4041"/>
                    </a:lnTo>
                    <a:lnTo>
                      <a:pt x="1148" y="3997"/>
                    </a:lnTo>
                    <a:lnTo>
                      <a:pt x="1072" y="3955"/>
                    </a:lnTo>
                    <a:lnTo>
                      <a:pt x="997" y="3910"/>
                    </a:lnTo>
                    <a:lnTo>
                      <a:pt x="925" y="3866"/>
                    </a:lnTo>
                    <a:lnTo>
                      <a:pt x="856" y="3822"/>
                    </a:lnTo>
                    <a:lnTo>
                      <a:pt x="788" y="3776"/>
                    </a:lnTo>
                    <a:lnTo>
                      <a:pt x="724" y="3731"/>
                    </a:lnTo>
                    <a:lnTo>
                      <a:pt x="662" y="3684"/>
                    </a:lnTo>
                    <a:lnTo>
                      <a:pt x="603" y="3638"/>
                    </a:lnTo>
                    <a:lnTo>
                      <a:pt x="546" y="3590"/>
                    </a:lnTo>
                    <a:lnTo>
                      <a:pt x="491" y="3543"/>
                    </a:lnTo>
                    <a:lnTo>
                      <a:pt x="440" y="3495"/>
                    </a:lnTo>
                    <a:lnTo>
                      <a:pt x="391" y="3447"/>
                    </a:lnTo>
                    <a:lnTo>
                      <a:pt x="345" y="3397"/>
                    </a:lnTo>
                    <a:lnTo>
                      <a:pt x="302" y="3347"/>
                    </a:lnTo>
                    <a:lnTo>
                      <a:pt x="261" y="3298"/>
                    </a:lnTo>
                    <a:lnTo>
                      <a:pt x="223" y="3247"/>
                    </a:lnTo>
                    <a:lnTo>
                      <a:pt x="188" y="3197"/>
                    </a:lnTo>
                    <a:lnTo>
                      <a:pt x="156" y="3146"/>
                    </a:lnTo>
                    <a:lnTo>
                      <a:pt x="127" y="3095"/>
                    </a:lnTo>
                    <a:lnTo>
                      <a:pt x="101" y="3043"/>
                    </a:lnTo>
                    <a:lnTo>
                      <a:pt x="77" y="2992"/>
                    </a:lnTo>
                    <a:lnTo>
                      <a:pt x="57" y="2939"/>
                    </a:lnTo>
                    <a:lnTo>
                      <a:pt x="40" y="2887"/>
                    </a:lnTo>
                    <a:lnTo>
                      <a:pt x="25" y="2834"/>
                    </a:lnTo>
                    <a:lnTo>
                      <a:pt x="15" y="2780"/>
                    </a:lnTo>
                    <a:lnTo>
                      <a:pt x="7" y="2727"/>
                    </a:lnTo>
                    <a:lnTo>
                      <a:pt x="2" y="2673"/>
                    </a:lnTo>
                    <a:lnTo>
                      <a:pt x="0" y="2620"/>
                    </a:lnTo>
                    <a:lnTo>
                      <a:pt x="0" y="2620"/>
                    </a:lnTo>
                    <a:lnTo>
                      <a:pt x="2" y="2565"/>
                    </a:lnTo>
                    <a:lnTo>
                      <a:pt x="7" y="2512"/>
                    </a:lnTo>
                    <a:lnTo>
                      <a:pt x="15" y="2458"/>
                    </a:lnTo>
                    <a:lnTo>
                      <a:pt x="25" y="2405"/>
                    </a:lnTo>
                    <a:lnTo>
                      <a:pt x="40" y="2352"/>
                    </a:lnTo>
                    <a:lnTo>
                      <a:pt x="57" y="2299"/>
                    </a:lnTo>
                    <a:lnTo>
                      <a:pt x="77" y="2248"/>
                    </a:lnTo>
                    <a:lnTo>
                      <a:pt x="101" y="2195"/>
                    </a:lnTo>
                    <a:lnTo>
                      <a:pt x="127" y="2144"/>
                    </a:lnTo>
                    <a:lnTo>
                      <a:pt x="156" y="2093"/>
                    </a:lnTo>
                    <a:lnTo>
                      <a:pt x="188" y="2042"/>
                    </a:lnTo>
                    <a:lnTo>
                      <a:pt x="223" y="1991"/>
                    </a:lnTo>
                    <a:lnTo>
                      <a:pt x="261" y="1942"/>
                    </a:lnTo>
                    <a:lnTo>
                      <a:pt x="302" y="1891"/>
                    </a:lnTo>
                    <a:lnTo>
                      <a:pt x="345" y="1842"/>
                    </a:lnTo>
                    <a:lnTo>
                      <a:pt x="391" y="1793"/>
                    </a:lnTo>
                    <a:lnTo>
                      <a:pt x="440" y="1744"/>
                    </a:lnTo>
                    <a:lnTo>
                      <a:pt x="491" y="1697"/>
                    </a:lnTo>
                    <a:lnTo>
                      <a:pt x="546" y="1648"/>
                    </a:lnTo>
                    <a:lnTo>
                      <a:pt x="603" y="1602"/>
                    </a:lnTo>
                    <a:lnTo>
                      <a:pt x="662" y="1554"/>
                    </a:lnTo>
                    <a:lnTo>
                      <a:pt x="724" y="1509"/>
                    </a:lnTo>
                    <a:lnTo>
                      <a:pt x="788" y="1462"/>
                    </a:lnTo>
                    <a:lnTo>
                      <a:pt x="856" y="1418"/>
                    </a:lnTo>
                    <a:lnTo>
                      <a:pt x="925" y="1373"/>
                    </a:lnTo>
                    <a:lnTo>
                      <a:pt x="997" y="1328"/>
                    </a:lnTo>
                    <a:lnTo>
                      <a:pt x="1072" y="1285"/>
                    </a:lnTo>
                    <a:lnTo>
                      <a:pt x="1148" y="1241"/>
                    </a:lnTo>
                    <a:lnTo>
                      <a:pt x="1228" y="1199"/>
                    </a:lnTo>
                    <a:lnTo>
                      <a:pt x="1310" y="1156"/>
                    </a:lnTo>
                    <a:lnTo>
                      <a:pt x="1393" y="1115"/>
                    </a:lnTo>
                    <a:lnTo>
                      <a:pt x="1479" y="1074"/>
                    </a:lnTo>
                    <a:lnTo>
                      <a:pt x="1567" y="1034"/>
                    </a:lnTo>
                    <a:lnTo>
                      <a:pt x="1658" y="994"/>
                    </a:lnTo>
                    <a:lnTo>
                      <a:pt x="1750" y="955"/>
                    </a:lnTo>
                    <a:lnTo>
                      <a:pt x="1845" y="917"/>
                    </a:lnTo>
                    <a:lnTo>
                      <a:pt x="1941" y="878"/>
                    </a:lnTo>
                    <a:lnTo>
                      <a:pt x="2040" y="841"/>
                    </a:lnTo>
                    <a:lnTo>
                      <a:pt x="2141" y="804"/>
                    </a:lnTo>
                    <a:lnTo>
                      <a:pt x="2244" y="769"/>
                    </a:lnTo>
                    <a:lnTo>
                      <a:pt x="2349" y="734"/>
                    </a:lnTo>
                    <a:lnTo>
                      <a:pt x="2456" y="699"/>
                    </a:lnTo>
                    <a:lnTo>
                      <a:pt x="2564" y="665"/>
                    </a:lnTo>
                    <a:lnTo>
                      <a:pt x="2676" y="632"/>
                    </a:lnTo>
                    <a:lnTo>
                      <a:pt x="2788" y="599"/>
                    </a:lnTo>
                    <a:lnTo>
                      <a:pt x="2902" y="568"/>
                    </a:lnTo>
                    <a:lnTo>
                      <a:pt x="3018" y="537"/>
                    </a:lnTo>
                    <a:lnTo>
                      <a:pt x="3136" y="506"/>
                    </a:lnTo>
                    <a:lnTo>
                      <a:pt x="3255" y="477"/>
                    </a:lnTo>
                    <a:lnTo>
                      <a:pt x="3377" y="449"/>
                    </a:lnTo>
                    <a:lnTo>
                      <a:pt x="3500" y="420"/>
                    </a:lnTo>
                    <a:lnTo>
                      <a:pt x="3624" y="393"/>
                    </a:lnTo>
                    <a:lnTo>
                      <a:pt x="3750" y="367"/>
                    </a:lnTo>
                    <a:lnTo>
                      <a:pt x="3877" y="342"/>
                    </a:lnTo>
                    <a:lnTo>
                      <a:pt x="4007" y="317"/>
                    </a:lnTo>
                    <a:lnTo>
                      <a:pt x="4138" y="293"/>
                    </a:lnTo>
                    <a:lnTo>
                      <a:pt x="4270" y="270"/>
                    </a:lnTo>
                    <a:lnTo>
                      <a:pt x="4404" y="249"/>
                    </a:lnTo>
                    <a:lnTo>
                      <a:pt x="4539" y="226"/>
                    </a:lnTo>
                    <a:lnTo>
                      <a:pt x="4675" y="206"/>
                    </a:lnTo>
                    <a:lnTo>
                      <a:pt x="4813" y="187"/>
                    </a:lnTo>
                    <a:lnTo>
                      <a:pt x="4953" y="169"/>
                    </a:lnTo>
                    <a:lnTo>
                      <a:pt x="5093" y="151"/>
                    </a:lnTo>
                    <a:lnTo>
                      <a:pt x="5234" y="134"/>
                    </a:lnTo>
                    <a:lnTo>
                      <a:pt x="5377" y="118"/>
                    </a:lnTo>
                    <a:lnTo>
                      <a:pt x="5521" y="103"/>
                    </a:lnTo>
                    <a:lnTo>
                      <a:pt x="5667" y="89"/>
                    </a:lnTo>
                    <a:lnTo>
                      <a:pt x="5813" y="77"/>
                    </a:lnTo>
                    <a:lnTo>
                      <a:pt x="5961" y="65"/>
                    </a:lnTo>
                    <a:lnTo>
                      <a:pt x="6110" y="53"/>
                    </a:lnTo>
                    <a:lnTo>
                      <a:pt x="6259" y="43"/>
                    </a:lnTo>
                    <a:lnTo>
                      <a:pt x="6410" y="34"/>
                    </a:lnTo>
                    <a:lnTo>
                      <a:pt x="6561" y="26"/>
                    </a:lnTo>
                    <a:lnTo>
                      <a:pt x="6714" y="19"/>
                    </a:lnTo>
                    <a:lnTo>
                      <a:pt x="6867" y="14"/>
                    </a:lnTo>
                    <a:lnTo>
                      <a:pt x="7022" y="9"/>
                    </a:lnTo>
                    <a:lnTo>
                      <a:pt x="7177" y="5"/>
                    </a:lnTo>
                    <a:lnTo>
                      <a:pt x="7333" y="2"/>
                    </a:lnTo>
                    <a:lnTo>
                      <a:pt x="7489" y="1"/>
                    </a:lnTo>
                    <a:lnTo>
                      <a:pt x="7647" y="0"/>
                    </a:lnTo>
                    <a:lnTo>
                      <a:pt x="7647" y="0"/>
                    </a:lnTo>
                    <a:lnTo>
                      <a:pt x="7647" y="0"/>
                    </a:lnTo>
                    <a:close/>
                  </a:path>
                </a:pathLst>
              </a:cu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157880" y="3211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74"/>
                    </a:moveTo>
                    <a:lnTo>
                      <a:pt x="0" y="0"/>
                    </a:lnTo>
                    <a:lnTo>
                      <a:pt x="158" y="1"/>
                    </a:lnTo>
                    <a:lnTo>
                      <a:pt x="158" y="1"/>
                    </a:lnTo>
                    <a:lnTo>
                      <a:pt x="157" y="75"/>
                    </a:lnTo>
                    <a:lnTo>
                      <a:pt x="157" y="7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165800" y="3211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74"/>
                    </a:moveTo>
                    <a:lnTo>
                      <a:pt x="1" y="0"/>
                    </a:lnTo>
                    <a:lnTo>
                      <a:pt x="158" y="1"/>
                    </a:lnTo>
                    <a:lnTo>
                      <a:pt x="158" y="1"/>
                    </a:lnTo>
                    <a:lnTo>
                      <a:pt x="156" y="75"/>
                    </a:lnTo>
                    <a:lnTo>
                      <a:pt x="157" y="7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172280" y="32115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8" h="77">
                    <a:moveTo>
                      <a:pt x="0" y="74"/>
                    </a:moveTo>
                    <a:lnTo>
                      <a:pt x="2" y="0"/>
                    </a:lnTo>
                    <a:lnTo>
                      <a:pt x="158" y="3"/>
                    </a:lnTo>
                    <a:lnTo>
                      <a:pt x="158" y="3"/>
                    </a:lnTo>
                    <a:lnTo>
                      <a:pt x="156" y="77"/>
                    </a:lnTo>
                    <a:lnTo>
                      <a:pt x="156" y="7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178760" y="32133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158" h="78">
                    <a:moveTo>
                      <a:pt x="0" y="74"/>
                    </a:moveTo>
                    <a:lnTo>
                      <a:pt x="2" y="0"/>
                    </a:lnTo>
                    <a:lnTo>
                      <a:pt x="158" y="4"/>
                    </a:lnTo>
                    <a:lnTo>
                      <a:pt x="158" y="4"/>
                    </a:lnTo>
                    <a:lnTo>
                      <a:pt x="155" y="78"/>
                    </a:lnTo>
                    <a:lnTo>
                      <a:pt x="155" y="7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186680" y="3213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4"/>
                    </a:moveTo>
                    <a:lnTo>
                      <a:pt x="3" y="0"/>
                    </a:lnTo>
                    <a:lnTo>
                      <a:pt x="158" y="5"/>
                    </a:lnTo>
                    <a:lnTo>
                      <a:pt x="158" y="5"/>
                    </a:lnTo>
                    <a:lnTo>
                      <a:pt x="155" y="79"/>
                    </a:lnTo>
                    <a:lnTo>
                      <a:pt x="155" y="79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192800" y="32133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57" h="80">
                    <a:moveTo>
                      <a:pt x="0" y="74"/>
                    </a:moveTo>
                    <a:lnTo>
                      <a:pt x="3" y="0"/>
                    </a:lnTo>
                    <a:lnTo>
                      <a:pt x="156" y="5"/>
                    </a:lnTo>
                    <a:lnTo>
                      <a:pt x="157" y="5"/>
                    </a:lnTo>
                    <a:lnTo>
                      <a:pt x="153" y="80"/>
                    </a:lnTo>
                    <a:lnTo>
                      <a:pt x="153" y="8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199280" y="32133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156" h="82">
                    <a:moveTo>
                      <a:pt x="0" y="75"/>
                    </a:moveTo>
                    <a:lnTo>
                      <a:pt x="4" y="0"/>
                    </a:lnTo>
                    <a:lnTo>
                      <a:pt x="156" y="7"/>
                    </a:lnTo>
                    <a:lnTo>
                      <a:pt x="156" y="7"/>
                    </a:lnTo>
                    <a:lnTo>
                      <a:pt x="152" y="82"/>
                    </a:lnTo>
                    <a:lnTo>
                      <a:pt x="153" y="82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207200" y="32133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56" h="83">
                    <a:moveTo>
                      <a:pt x="0" y="75"/>
                    </a:moveTo>
                    <a:lnTo>
                      <a:pt x="4" y="0"/>
                    </a:lnTo>
                    <a:lnTo>
                      <a:pt x="156" y="8"/>
                    </a:lnTo>
                    <a:lnTo>
                      <a:pt x="156" y="8"/>
                    </a:lnTo>
                    <a:lnTo>
                      <a:pt x="152" y="83"/>
                    </a:lnTo>
                    <a:lnTo>
                      <a:pt x="152" y="8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213680" y="3213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55" h="84">
                    <a:moveTo>
                      <a:pt x="0" y="75"/>
                    </a:moveTo>
                    <a:lnTo>
                      <a:pt x="4" y="0"/>
                    </a:lnTo>
                    <a:lnTo>
                      <a:pt x="155" y="9"/>
                    </a:lnTo>
                    <a:lnTo>
                      <a:pt x="155" y="9"/>
                    </a:lnTo>
                    <a:lnTo>
                      <a:pt x="150" y="84"/>
                    </a:lnTo>
                    <a:lnTo>
                      <a:pt x="150" y="84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219800" y="32148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5" h="85">
                    <a:moveTo>
                      <a:pt x="0" y="75"/>
                    </a:moveTo>
                    <a:lnTo>
                      <a:pt x="5" y="0"/>
                    </a:lnTo>
                    <a:lnTo>
                      <a:pt x="155" y="10"/>
                    </a:lnTo>
                    <a:lnTo>
                      <a:pt x="155" y="10"/>
                    </a:lnTo>
                    <a:lnTo>
                      <a:pt x="149" y="85"/>
                    </a:lnTo>
                    <a:lnTo>
                      <a:pt x="149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226280" y="32148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5" h="86">
                    <a:moveTo>
                      <a:pt x="0" y="75"/>
                    </a:moveTo>
                    <a:lnTo>
                      <a:pt x="6" y="0"/>
                    </a:lnTo>
                    <a:lnTo>
                      <a:pt x="155" y="11"/>
                    </a:lnTo>
                    <a:lnTo>
                      <a:pt x="155" y="11"/>
                    </a:lnTo>
                    <a:lnTo>
                      <a:pt x="148" y="86"/>
                    </a:lnTo>
                    <a:lnTo>
                      <a:pt x="148" y="86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232760" y="32148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54" h="87">
                    <a:moveTo>
                      <a:pt x="0" y="75"/>
                    </a:moveTo>
                    <a:lnTo>
                      <a:pt x="7" y="0"/>
                    </a:lnTo>
                    <a:lnTo>
                      <a:pt x="154" y="12"/>
                    </a:lnTo>
                    <a:lnTo>
                      <a:pt x="154" y="12"/>
                    </a:lnTo>
                    <a:lnTo>
                      <a:pt x="147" y="87"/>
                    </a:lnTo>
                    <a:lnTo>
                      <a:pt x="147" y="87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238880" y="3216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4" h="87">
                    <a:moveTo>
                      <a:pt x="0" y="75"/>
                    </a:moveTo>
                    <a:lnTo>
                      <a:pt x="7" y="0"/>
                    </a:lnTo>
                    <a:lnTo>
                      <a:pt x="153" y="13"/>
                    </a:lnTo>
                    <a:lnTo>
                      <a:pt x="154" y="13"/>
                    </a:lnTo>
                    <a:lnTo>
                      <a:pt x="146" y="87"/>
                    </a:lnTo>
                    <a:lnTo>
                      <a:pt x="147" y="87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245360" y="3216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3" h="88">
                    <a:moveTo>
                      <a:pt x="0" y="74"/>
                    </a:moveTo>
                    <a:lnTo>
                      <a:pt x="8" y="0"/>
                    </a:lnTo>
                    <a:lnTo>
                      <a:pt x="153" y="14"/>
                    </a:lnTo>
                    <a:lnTo>
                      <a:pt x="153" y="14"/>
                    </a:lnTo>
                    <a:lnTo>
                      <a:pt x="146" y="88"/>
                    </a:lnTo>
                    <a:lnTo>
                      <a:pt x="146" y="8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251480" y="321624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152" h="90">
                    <a:moveTo>
                      <a:pt x="0" y="74"/>
                    </a:moveTo>
                    <a:lnTo>
                      <a:pt x="7" y="0"/>
                    </a:lnTo>
                    <a:lnTo>
                      <a:pt x="152" y="15"/>
                    </a:lnTo>
                    <a:lnTo>
                      <a:pt x="152" y="15"/>
                    </a:lnTo>
                    <a:lnTo>
                      <a:pt x="144" y="90"/>
                    </a:lnTo>
                    <a:lnTo>
                      <a:pt x="144" y="9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257960" y="3218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1" h="90">
                    <a:moveTo>
                      <a:pt x="0" y="75"/>
                    </a:moveTo>
                    <a:lnTo>
                      <a:pt x="8" y="0"/>
                    </a:lnTo>
                    <a:lnTo>
                      <a:pt x="151" y="16"/>
                    </a:lnTo>
                    <a:lnTo>
                      <a:pt x="151" y="16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264440" y="32180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0" y="74"/>
                    </a:moveTo>
                    <a:lnTo>
                      <a:pt x="9" y="0"/>
                    </a:lnTo>
                    <a:lnTo>
                      <a:pt x="151" y="16"/>
                    </a:lnTo>
                    <a:lnTo>
                      <a:pt x="151" y="16"/>
                    </a:lnTo>
                    <a:lnTo>
                      <a:pt x="142" y="91"/>
                    </a:lnTo>
                    <a:lnTo>
                      <a:pt x="142" y="91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270560" y="32194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0" h="92">
                    <a:moveTo>
                      <a:pt x="0" y="75"/>
                    </a:moveTo>
                    <a:lnTo>
                      <a:pt x="9" y="0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39" y="92"/>
                    </a:lnTo>
                    <a:lnTo>
                      <a:pt x="139" y="92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277040" y="32194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0" y="74"/>
                    </a:moveTo>
                    <a:lnTo>
                      <a:pt x="11" y="0"/>
                    </a:lnTo>
                    <a:lnTo>
                      <a:pt x="150" y="19"/>
                    </a:lnTo>
                    <a:lnTo>
                      <a:pt x="150" y="19"/>
                    </a:lnTo>
                    <a:lnTo>
                      <a:pt x="139" y="93"/>
                    </a:lnTo>
                    <a:lnTo>
                      <a:pt x="140" y="93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283520" y="3221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49" h="94">
                    <a:moveTo>
                      <a:pt x="0" y="74"/>
                    </a:moveTo>
                    <a:lnTo>
                      <a:pt x="11" y="0"/>
                    </a:lnTo>
                    <a:lnTo>
                      <a:pt x="149" y="20"/>
                    </a:lnTo>
                    <a:lnTo>
                      <a:pt x="149" y="20"/>
                    </a:lnTo>
                    <a:lnTo>
                      <a:pt x="138" y="94"/>
                    </a:lnTo>
                    <a:lnTo>
                      <a:pt x="138" y="9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289640" y="3221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8" h="94">
                    <a:moveTo>
                      <a:pt x="0" y="74"/>
                    </a:moveTo>
                    <a:lnTo>
                      <a:pt x="11" y="0"/>
                    </a:lnTo>
                    <a:lnTo>
                      <a:pt x="148" y="20"/>
                    </a:lnTo>
                    <a:lnTo>
                      <a:pt x="148" y="20"/>
                    </a:lnTo>
                    <a:lnTo>
                      <a:pt x="137" y="94"/>
                    </a:lnTo>
                    <a:lnTo>
                      <a:pt x="137" y="9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296120" y="32227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6" h="95">
                    <a:moveTo>
                      <a:pt x="0" y="74"/>
                    </a:moveTo>
                    <a:lnTo>
                      <a:pt x="11" y="0"/>
                    </a:lnTo>
                    <a:lnTo>
                      <a:pt x="146" y="21"/>
                    </a:lnTo>
                    <a:lnTo>
                      <a:pt x="146" y="21"/>
                    </a:lnTo>
                    <a:lnTo>
                      <a:pt x="134" y="95"/>
                    </a:lnTo>
                    <a:lnTo>
                      <a:pt x="134" y="9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300800" y="3222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6" h="96">
                    <a:moveTo>
                      <a:pt x="0" y="74"/>
                    </a:moveTo>
                    <a:lnTo>
                      <a:pt x="12" y="0"/>
                    </a:lnTo>
                    <a:lnTo>
                      <a:pt x="146" y="22"/>
                    </a:lnTo>
                    <a:lnTo>
                      <a:pt x="146" y="22"/>
                    </a:lnTo>
                    <a:lnTo>
                      <a:pt x="134" y="96"/>
                    </a:lnTo>
                    <a:lnTo>
                      <a:pt x="134" y="96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307280" y="32241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45" h="97">
                    <a:moveTo>
                      <a:pt x="0" y="74"/>
                    </a:moveTo>
                    <a:lnTo>
                      <a:pt x="12" y="0"/>
                    </a:lnTo>
                    <a:lnTo>
                      <a:pt x="145" y="24"/>
                    </a:lnTo>
                    <a:lnTo>
                      <a:pt x="145" y="24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313400" y="32259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5" h="97">
                    <a:moveTo>
                      <a:pt x="0" y="73"/>
                    </a:moveTo>
                    <a:lnTo>
                      <a:pt x="14" y="0"/>
                    </a:lnTo>
                    <a:lnTo>
                      <a:pt x="145" y="23"/>
                    </a:lnTo>
                    <a:lnTo>
                      <a:pt x="145" y="23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318440" y="32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44" h="98">
                    <a:moveTo>
                      <a:pt x="0" y="74"/>
                    </a:moveTo>
                    <a:lnTo>
                      <a:pt x="14" y="0"/>
                    </a:lnTo>
                    <a:lnTo>
                      <a:pt x="144" y="25"/>
                    </a:lnTo>
                    <a:lnTo>
                      <a:pt x="144" y="25"/>
                    </a:lnTo>
                    <a:lnTo>
                      <a:pt x="129" y="98"/>
                    </a:lnTo>
                    <a:lnTo>
                      <a:pt x="129" y="9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324560" y="32274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2" h="99">
                    <a:moveTo>
                      <a:pt x="0" y="73"/>
                    </a:moveTo>
                    <a:lnTo>
                      <a:pt x="15" y="0"/>
                    </a:lnTo>
                    <a:lnTo>
                      <a:pt x="142" y="25"/>
                    </a:lnTo>
                    <a:lnTo>
                      <a:pt x="142" y="25"/>
                    </a:lnTo>
                    <a:lnTo>
                      <a:pt x="127" y="99"/>
                    </a:lnTo>
                    <a:lnTo>
                      <a:pt x="127" y="99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329600" y="32292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42" h="100">
                    <a:moveTo>
                      <a:pt x="0" y="74"/>
                    </a:moveTo>
                    <a:lnTo>
                      <a:pt x="15" y="0"/>
                    </a:lnTo>
                    <a:lnTo>
                      <a:pt x="142" y="27"/>
                    </a:lnTo>
                    <a:lnTo>
                      <a:pt x="142" y="27"/>
                    </a:lnTo>
                    <a:lnTo>
                      <a:pt x="126" y="99"/>
                    </a:lnTo>
                    <a:lnTo>
                      <a:pt x="126" y="10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335720" y="32292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1" h="100">
                    <a:moveTo>
                      <a:pt x="0" y="72"/>
                    </a:moveTo>
                    <a:lnTo>
                      <a:pt x="16" y="0"/>
                    </a:lnTo>
                    <a:lnTo>
                      <a:pt x="140" y="27"/>
                    </a:lnTo>
                    <a:lnTo>
                      <a:pt x="141" y="27"/>
                    </a:lnTo>
                    <a:lnTo>
                      <a:pt x="124" y="100"/>
                    </a:lnTo>
                    <a:lnTo>
                      <a:pt x="124" y="10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340400" y="32306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0" h="101">
                    <a:moveTo>
                      <a:pt x="0" y="73"/>
                    </a:moveTo>
                    <a:lnTo>
                      <a:pt x="17" y="0"/>
                    </a:lnTo>
                    <a:lnTo>
                      <a:pt x="140" y="28"/>
                    </a:lnTo>
                    <a:lnTo>
                      <a:pt x="140" y="28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346880" y="323208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39" h="101">
                    <a:moveTo>
                      <a:pt x="0" y="73"/>
                    </a:moveTo>
                    <a:lnTo>
                      <a:pt x="18" y="0"/>
                    </a:lnTo>
                    <a:lnTo>
                      <a:pt x="139" y="29"/>
                    </a:lnTo>
                    <a:lnTo>
                      <a:pt x="139" y="29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351560" y="32338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0" y="72"/>
                    </a:moveTo>
                    <a:lnTo>
                      <a:pt x="17" y="0"/>
                    </a:lnTo>
                    <a:lnTo>
                      <a:pt x="138" y="29"/>
                    </a:lnTo>
                    <a:lnTo>
                      <a:pt x="138" y="29"/>
                    </a:lnTo>
                    <a:lnTo>
                      <a:pt x="118" y="102"/>
                    </a:lnTo>
                    <a:lnTo>
                      <a:pt x="119" y="10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356600" y="32338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8" h="103">
                    <a:moveTo>
                      <a:pt x="0" y="73"/>
                    </a:moveTo>
                    <a:lnTo>
                      <a:pt x="20" y="0"/>
                    </a:lnTo>
                    <a:lnTo>
                      <a:pt x="138" y="30"/>
                    </a:lnTo>
                    <a:lnTo>
                      <a:pt x="138" y="30"/>
                    </a:lnTo>
                    <a:lnTo>
                      <a:pt x="119" y="103"/>
                    </a:lnTo>
                    <a:lnTo>
                      <a:pt x="119" y="10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362720" y="32353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5" h="104">
                    <a:moveTo>
                      <a:pt x="0" y="73"/>
                    </a:moveTo>
                    <a:lnTo>
                      <a:pt x="19" y="0"/>
                    </a:lnTo>
                    <a:lnTo>
                      <a:pt x="135" y="32"/>
                    </a:lnTo>
                    <a:lnTo>
                      <a:pt x="135" y="32"/>
                    </a:lnTo>
                    <a:lnTo>
                      <a:pt x="115" y="103"/>
                    </a:lnTo>
                    <a:lnTo>
                      <a:pt x="115" y="104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367400" y="3237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0" y="71"/>
                    </a:moveTo>
                    <a:lnTo>
                      <a:pt x="20" y="0"/>
                    </a:lnTo>
                    <a:lnTo>
                      <a:pt x="134" y="32"/>
                    </a:lnTo>
                    <a:lnTo>
                      <a:pt x="134" y="32"/>
                    </a:lnTo>
                    <a:lnTo>
                      <a:pt x="114" y="104"/>
                    </a:lnTo>
                    <a:lnTo>
                      <a:pt x="114" y="104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372440" y="32385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0" y="72"/>
                    </a:moveTo>
                    <a:lnTo>
                      <a:pt x="20" y="0"/>
                    </a:lnTo>
                    <a:lnTo>
                      <a:pt x="134" y="32"/>
                    </a:lnTo>
                    <a:lnTo>
                      <a:pt x="134" y="32"/>
                    </a:lnTo>
                    <a:lnTo>
                      <a:pt x="112" y="104"/>
                    </a:lnTo>
                    <a:lnTo>
                      <a:pt x="112" y="104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377120" y="3240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33" h="104">
                    <a:moveTo>
                      <a:pt x="0" y="72"/>
                    </a:moveTo>
                    <a:lnTo>
                      <a:pt x="22" y="0"/>
                    </a:lnTo>
                    <a:lnTo>
                      <a:pt x="133" y="34"/>
                    </a:lnTo>
                    <a:lnTo>
                      <a:pt x="133" y="34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381800" y="3241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2" h="105">
                    <a:moveTo>
                      <a:pt x="0" y="70"/>
                    </a:moveTo>
                    <a:lnTo>
                      <a:pt x="23" y="0"/>
                    </a:lnTo>
                    <a:lnTo>
                      <a:pt x="132" y="33"/>
                    </a:lnTo>
                    <a:lnTo>
                      <a:pt x="132" y="33"/>
                    </a:lnTo>
                    <a:lnTo>
                      <a:pt x="109" y="105"/>
                    </a:lnTo>
                    <a:lnTo>
                      <a:pt x="109" y="10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386480" y="32432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72"/>
                    </a:moveTo>
                    <a:lnTo>
                      <a:pt x="23" y="0"/>
                    </a:lnTo>
                    <a:lnTo>
                      <a:pt x="130" y="35"/>
                    </a:lnTo>
                    <a:lnTo>
                      <a:pt x="130" y="35"/>
                    </a:lnTo>
                    <a:lnTo>
                      <a:pt x="106" y="106"/>
                    </a:lnTo>
                    <a:lnTo>
                      <a:pt x="106" y="10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391520" y="32450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0" y="71"/>
                    </a:moveTo>
                    <a:lnTo>
                      <a:pt x="24" y="0"/>
                    </a:lnTo>
                    <a:lnTo>
                      <a:pt x="129" y="36"/>
                    </a:lnTo>
                    <a:lnTo>
                      <a:pt x="129" y="36"/>
                    </a:lnTo>
                    <a:lnTo>
                      <a:pt x="104" y="106"/>
                    </a:lnTo>
                    <a:lnTo>
                      <a:pt x="105" y="106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396200" y="3246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8" h="106">
                    <a:moveTo>
                      <a:pt x="0" y="70"/>
                    </a:moveTo>
                    <a:lnTo>
                      <a:pt x="25" y="0"/>
                    </a:lnTo>
                    <a:lnTo>
                      <a:pt x="128" y="35"/>
                    </a:lnTo>
                    <a:lnTo>
                      <a:pt x="128" y="35"/>
                    </a:lnTo>
                    <a:lnTo>
                      <a:pt x="103" y="106"/>
                    </a:lnTo>
                    <a:lnTo>
                      <a:pt x="103" y="106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400880" y="3248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7" h="107">
                    <a:moveTo>
                      <a:pt x="0" y="71"/>
                    </a:moveTo>
                    <a:lnTo>
                      <a:pt x="25" y="0"/>
                    </a:lnTo>
                    <a:lnTo>
                      <a:pt x="126" y="37"/>
                    </a:lnTo>
                    <a:lnTo>
                      <a:pt x="127" y="37"/>
                    </a:lnTo>
                    <a:lnTo>
                      <a:pt x="100" y="107"/>
                    </a:lnTo>
                    <a:lnTo>
                      <a:pt x="101" y="10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405560" y="324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6" h="108">
                    <a:moveTo>
                      <a:pt x="0" y="70"/>
                    </a:moveTo>
                    <a:lnTo>
                      <a:pt x="27" y="0"/>
                    </a:lnTo>
                    <a:lnTo>
                      <a:pt x="126" y="38"/>
                    </a:lnTo>
                    <a:lnTo>
                      <a:pt x="126" y="38"/>
                    </a:lnTo>
                    <a:lnTo>
                      <a:pt x="99" y="108"/>
                    </a:lnTo>
                    <a:lnTo>
                      <a:pt x="99" y="108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410240" y="3251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24" h="107">
                    <a:moveTo>
                      <a:pt x="0" y="70"/>
                    </a:moveTo>
                    <a:lnTo>
                      <a:pt x="27" y="0"/>
                    </a:lnTo>
                    <a:lnTo>
                      <a:pt x="124" y="37"/>
                    </a:lnTo>
                    <a:lnTo>
                      <a:pt x="124" y="38"/>
                    </a:lnTo>
                    <a:lnTo>
                      <a:pt x="96" y="107"/>
                    </a:lnTo>
                    <a:lnTo>
                      <a:pt x="96" y="107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413480" y="32529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4" h="107">
                    <a:moveTo>
                      <a:pt x="0" y="69"/>
                    </a:moveTo>
                    <a:lnTo>
                      <a:pt x="28" y="0"/>
                    </a:lnTo>
                    <a:lnTo>
                      <a:pt x="123" y="39"/>
                    </a:lnTo>
                    <a:lnTo>
                      <a:pt x="124" y="39"/>
                    </a:lnTo>
                    <a:lnTo>
                      <a:pt x="95" y="107"/>
                    </a:lnTo>
                    <a:lnTo>
                      <a:pt x="95" y="10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418160" y="32544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0" y="68"/>
                    </a:moveTo>
                    <a:lnTo>
                      <a:pt x="29" y="0"/>
                    </a:lnTo>
                    <a:lnTo>
                      <a:pt x="122" y="39"/>
                    </a:lnTo>
                    <a:lnTo>
                      <a:pt x="122" y="39"/>
                    </a:lnTo>
                    <a:lnTo>
                      <a:pt x="91" y="107"/>
                    </a:lnTo>
                    <a:lnTo>
                      <a:pt x="91" y="10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421400" y="32562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0" y="68"/>
                    </a:moveTo>
                    <a:lnTo>
                      <a:pt x="31" y="0"/>
                    </a:lnTo>
                    <a:lnTo>
                      <a:pt x="122" y="40"/>
                    </a:lnTo>
                    <a:lnTo>
                      <a:pt x="122" y="40"/>
                    </a:lnTo>
                    <a:lnTo>
                      <a:pt x="90" y="108"/>
                    </a:lnTo>
                    <a:lnTo>
                      <a:pt x="90" y="10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426440" y="3257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0" y="68"/>
                    </a:moveTo>
                    <a:lnTo>
                      <a:pt x="32" y="0"/>
                    </a:lnTo>
                    <a:lnTo>
                      <a:pt x="121" y="40"/>
                    </a:lnTo>
                    <a:lnTo>
                      <a:pt x="121" y="41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429320" y="325908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19" h="108">
                    <a:moveTo>
                      <a:pt x="0" y="67"/>
                    </a:moveTo>
                    <a:lnTo>
                      <a:pt x="33" y="0"/>
                    </a:lnTo>
                    <a:lnTo>
                      <a:pt x="118" y="40"/>
                    </a:lnTo>
                    <a:lnTo>
                      <a:pt x="119" y="40"/>
                    </a:lnTo>
                    <a:lnTo>
                      <a:pt x="86" y="107"/>
                    </a:lnTo>
                    <a:lnTo>
                      <a:pt x="86" y="10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434360" y="326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7" h="109">
                    <a:moveTo>
                      <a:pt x="0" y="67"/>
                    </a:moveTo>
                    <a:lnTo>
                      <a:pt x="33" y="0"/>
                    </a:lnTo>
                    <a:lnTo>
                      <a:pt x="117" y="43"/>
                    </a:lnTo>
                    <a:lnTo>
                      <a:pt x="117" y="43"/>
                    </a:lnTo>
                    <a:lnTo>
                      <a:pt x="82" y="109"/>
                    </a:lnTo>
                    <a:lnTo>
                      <a:pt x="82" y="10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437240" y="3264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8" h="108">
                    <a:moveTo>
                      <a:pt x="0" y="66"/>
                    </a:moveTo>
                    <a:lnTo>
                      <a:pt x="35" y="0"/>
                    </a:lnTo>
                    <a:lnTo>
                      <a:pt x="117" y="41"/>
                    </a:lnTo>
                    <a:lnTo>
                      <a:pt x="118" y="42"/>
                    </a:lnTo>
                    <a:lnTo>
                      <a:pt x="81" y="108"/>
                    </a:lnTo>
                    <a:lnTo>
                      <a:pt x="82" y="10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440480" y="3265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0" y="66"/>
                    </a:moveTo>
                    <a:lnTo>
                      <a:pt x="37" y="0"/>
                    </a:lnTo>
                    <a:lnTo>
                      <a:pt x="116" y="43"/>
                    </a:lnTo>
                    <a:lnTo>
                      <a:pt x="116" y="43"/>
                    </a:lnTo>
                    <a:lnTo>
                      <a:pt x="78" y="108"/>
                    </a:lnTo>
                    <a:lnTo>
                      <a:pt x="79" y="10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443720" y="326700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0" y="65"/>
                    </a:moveTo>
                    <a:lnTo>
                      <a:pt x="38" y="0"/>
                    </a:lnTo>
                    <a:lnTo>
                      <a:pt x="115" y="43"/>
                    </a:lnTo>
                    <a:lnTo>
                      <a:pt x="116" y="43"/>
                    </a:lnTo>
                    <a:lnTo>
                      <a:pt x="77" y="108"/>
                    </a:lnTo>
                    <a:lnTo>
                      <a:pt x="77" y="108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448400" y="3268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3" h="108">
                    <a:moveTo>
                      <a:pt x="0" y="65"/>
                    </a:moveTo>
                    <a:lnTo>
                      <a:pt x="39" y="0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73" y="108"/>
                    </a:lnTo>
                    <a:lnTo>
                      <a:pt x="74" y="108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451640" y="3270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4" h="107">
                    <a:moveTo>
                      <a:pt x="0" y="63"/>
                    </a:moveTo>
                    <a:lnTo>
                      <a:pt x="40" y="0"/>
                    </a:lnTo>
                    <a:lnTo>
                      <a:pt x="113" y="44"/>
                    </a:lnTo>
                    <a:lnTo>
                      <a:pt x="114" y="44"/>
                    </a:lnTo>
                    <a:lnTo>
                      <a:pt x="72" y="107"/>
                    </a:lnTo>
                    <a:lnTo>
                      <a:pt x="73" y="107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454880" y="327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1" h="107">
                    <a:moveTo>
                      <a:pt x="0" y="63"/>
                    </a:moveTo>
                    <a:lnTo>
                      <a:pt x="42" y="0"/>
                    </a:lnTo>
                    <a:lnTo>
                      <a:pt x="111" y="46"/>
                    </a:lnTo>
                    <a:lnTo>
                      <a:pt x="111" y="46"/>
                    </a:lnTo>
                    <a:lnTo>
                      <a:pt x="69" y="107"/>
                    </a:lnTo>
                    <a:lnTo>
                      <a:pt x="69" y="107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458120" y="3274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10" h="107">
                    <a:moveTo>
                      <a:pt x="0" y="61"/>
                    </a:moveTo>
                    <a:lnTo>
                      <a:pt x="42" y="0"/>
                    </a:lnTo>
                    <a:lnTo>
                      <a:pt x="110" y="45"/>
                    </a:lnTo>
                    <a:lnTo>
                      <a:pt x="110" y="45"/>
                    </a:lnTo>
                    <a:lnTo>
                      <a:pt x="66" y="106"/>
                    </a:lnTo>
                    <a:lnTo>
                      <a:pt x="66" y="107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459560" y="32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0" h="106">
                    <a:moveTo>
                      <a:pt x="0" y="61"/>
                    </a:moveTo>
                    <a:lnTo>
                      <a:pt x="44" y="0"/>
                    </a:lnTo>
                    <a:lnTo>
                      <a:pt x="110" y="47"/>
                    </a:lnTo>
                    <a:lnTo>
                      <a:pt x="110" y="47"/>
                    </a:lnTo>
                    <a:lnTo>
                      <a:pt x="64" y="106"/>
                    </a:lnTo>
                    <a:lnTo>
                      <a:pt x="65" y="106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462800" y="3278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8" h="106">
                    <a:moveTo>
                      <a:pt x="0" y="59"/>
                    </a:moveTo>
                    <a:lnTo>
                      <a:pt x="46" y="0"/>
                    </a:lnTo>
                    <a:lnTo>
                      <a:pt x="108" y="46"/>
                    </a:lnTo>
                    <a:lnTo>
                      <a:pt x="108" y="46"/>
                    </a:lnTo>
                    <a:lnTo>
                      <a:pt x="61" y="105"/>
                    </a:lnTo>
                    <a:lnTo>
                      <a:pt x="62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466040" y="3281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7" h="105">
                    <a:moveTo>
                      <a:pt x="0" y="59"/>
                    </a:moveTo>
                    <a:lnTo>
                      <a:pt x="47" y="0"/>
                    </a:lnTo>
                    <a:lnTo>
                      <a:pt x="107" y="48"/>
                    </a:lnTo>
                    <a:lnTo>
                      <a:pt x="107" y="48"/>
                    </a:lnTo>
                    <a:lnTo>
                      <a:pt x="59" y="105"/>
                    </a:lnTo>
                    <a:lnTo>
                      <a:pt x="59" y="105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467480" y="3283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6" h="104">
                    <a:moveTo>
                      <a:pt x="0" y="57"/>
                    </a:moveTo>
                    <a:lnTo>
                      <a:pt x="48" y="0"/>
                    </a:lnTo>
                    <a:lnTo>
                      <a:pt x="106" y="47"/>
                    </a:lnTo>
                    <a:lnTo>
                      <a:pt x="106" y="48"/>
                    </a:lnTo>
                    <a:lnTo>
                      <a:pt x="56" y="104"/>
                    </a:lnTo>
                    <a:lnTo>
                      <a:pt x="56" y="10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470720" y="328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5" h="103">
                    <a:moveTo>
                      <a:pt x="0" y="56"/>
                    </a:moveTo>
                    <a:lnTo>
                      <a:pt x="50" y="0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53" y="102"/>
                    </a:lnTo>
                    <a:lnTo>
                      <a:pt x="54" y="10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472160" y="3287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0" y="53"/>
                    </a:moveTo>
                    <a:lnTo>
                      <a:pt x="52" y="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51" y="101"/>
                    </a:lnTo>
                    <a:lnTo>
                      <a:pt x="51" y="102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475400" y="3289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3" h="101">
                    <a:moveTo>
                      <a:pt x="0" y="53"/>
                    </a:moveTo>
                    <a:lnTo>
                      <a:pt x="53" y="0"/>
                    </a:lnTo>
                    <a:lnTo>
                      <a:pt x="103" y="49"/>
                    </a:lnTo>
                    <a:lnTo>
                      <a:pt x="103" y="50"/>
                    </a:lnTo>
                    <a:lnTo>
                      <a:pt x="48" y="100"/>
                    </a:lnTo>
                    <a:lnTo>
                      <a:pt x="49" y="101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477200" y="3292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2" h="99">
                    <a:moveTo>
                      <a:pt x="0" y="50"/>
                    </a:moveTo>
                    <a:lnTo>
                      <a:pt x="55" y="0"/>
                    </a:lnTo>
                    <a:lnTo>
                      <a:pt x="102" y="49"/>
                    </a:lnTo>
                    <a:lnTo>
                      <a:pt x="102" y="49"/>
                    </a:lnTo>
                    <a:lnTo>
                      <a:pt x="45" y="99"/>
                    </a:lnTo>
                    <a:lnTo>
                      <a:pt x="46" y="9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478640" y="3294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2" h="98">
                    <a:moveTo>
                      <a:pt x="0" y="50"/>
                    </a:moveTo>
                    <a:lnTo>
                      <a:pt x="57" y="0"/>
                    </a:lnTo>
                    <a:lnTo>
                      <a:pt x="101" y="51"/>
                    </a:lnTo>
                    <a:lnTo>
                      <a:pt x="102" y="51"/>
                    </a:lnTo>
                    <a:lnTo>
                      <a:pt x="43" y="98"/>
                    </a:lnTo>
                    <a:lnTo>
                      <a:pt x="44" y="98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481880" y="3295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0" y="47"/>
                    </a:moveTo>
                    <a:lnTo>
                      <a:pt x="59" y="0"/>
                    </a:lnTo>
                    <a:lnTo>
                      <a:pt x="100" y="50"/>
                    </a:lnTo>
                    <a:lnTo>
                      <a:pt x="100" y="51"/>
                    </a:lnTo>
                    <a:lnTo>
                      <a:pt x="40" y="96"/>
                    </a:lnTo>
                    <a:lnTo>
                      <a:pt x="41" y="9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483320" y="32990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99" h="94">
                    <a:moveTo>
                      <a:pt x="0" y="45"/>
                    </a:moveTo>
                    <a:lnTo>
                      <a:pt x="60" y="0"/>
                    </a:lnTo>
                    <a:lnTo>
                      <a:pt x="99" y="51"/>
                    </a:lnTo>
                    <a:lnTo>
                      <a:pt x="99" y="51"/>
                    </a:lnTo>
                    <a:lnTo>
                      <a:pt x="36" y="93"/>
                    </a:lnTo>
                    <a:lnTo>
                      <a:pt x="37" y="94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485120" y="330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9" h="93">
                    <a:moveTo>
                      <a:pt x="0" y="42"/>
                    </a:moveTo>
                    <a:lnTo>
                      <a:pt x="63" y="0"/>
                    </a:lnTo>
                    <a:lnTo>
                      <a:pt x="98" y="51"/>
                    </a:lnTo>
                    <a:lnTo>
                      <a:pt x="99" y="52"/>
                    </a:lnTo>
                    <a:lnTo>
                      <a:pt x="35" y="92"/>
                    </a:lnTo>
                    <a:lnTo>
                      <a:pt x="35" y="9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486560" y="330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0" y="40"/>
                    </a:moveTo>
                    <a:lnTo>
                      <a:pt x="64" y="0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31" y="89"/>
                    </a:lnTo>
                    <a:lnTo>
                      <a:pt x="32" y="9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488360" y="3305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96" h="88">
                    <a:moveTo>
                      <a:pt x="0" y="37"/>
                    </a:moveTo>
                    <a:lnTo>
                      <a:pt x="66" y="0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28" y="87"/>
                    </a:lnTo>
                    <a:lnTo>
                      <a:pt x="29" y="88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488360" y="3308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5" h="83">
                    <a:moveTo>
                      <a:pt x="0" y="33"/>
                    </a:moveTo>
                    <a:lnTo>
                      <a:pt x="68" y="0"/>
                    </a:lnTo>
                    <a:lnTo>
                      <a:pt x="94" y="52"/>
                    </a:lnTo>
                    <a:lnTo>
                      <a:pt x="95" y="52"/>
                    </a:lnTo>
                    <a:lnTo>
                      <a:pt x="26" y="82"/>
                    </a:lnTo>
                    <a:lnTo>
                      <a:pt x="26" y="8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489800" y="3310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93" h="82">
                    <a:moveTo>
                      <a:pt x="0" y="30"/>
                    </a:moveTo>
                    <a:lnTo>
                      <a:pt x="69" y="0"/>
                    </a:lnTo>
                    <a:lnTo>
                      <a:pt x="93" y="54"/>
                    </a:lnTo>
                    <a:lnTo>
                      <a:pt x="93" y="54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491240" y="331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0" y="27"/>
                    </a:moveTo>
                    <a:lnTo>
                      <a:pt x="71" y="0"/>
                    </a:lnTo>
                    <a:lnTo>
                      <a:pt x="91" y="53"/>
                    </a:lnTo>
                    <a:lnTo>
                      <a:pt x="92" y="54"/>
                    </a:lnTo>
                    <a:lnTo>
                      <a:pt x="20" y="77"/>
                    </a:lnTo>
                    <a:lnTo>
                      <a:pt x="21" y="7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91240" y="33148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89" h="75">
                    <a:moveTo>
                      <a:pt x="0" y="23"/>
                    </a:moveTo>
                    <a:lnTo>
                      <a:pt x="72" y="0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17" y="74"/>
                    </a:lnTo>
                    <a:lnTo>
                      <a:pt x="17" y="7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93040" y="3316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8" h="71">
                    <a:moveTo>
                      <a:pt x="0" y="19"/>
                    </a:moveTo>
                    <a:lnTo>
                      <a:pt x="72" y="0"/>
                    </a:lnTo>
                    <a:lnTo>
                      <a:pt x="87" y="53"/>
                    </a:lnTo>
                    <a:lnTo>
                      <a:pt x="88" y="54"/>
                    </a:lnTo>
                    <a:lnTo>
                      <a:pt x="13" y="70"/>
                    </a:lnTo>
                    <a:lnTo>
                      <a:pt x="13" y="7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493040" y="3319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16"/>
                    </a:moveTo>
                    <a:lnTo>
                      <a:pt x="75" y="0"/>
                    </a:lnTo>
                    <a:lnTo>
                      <a:pt x="86" y="55"/>
                    </a:lnTo>
                    <a:lnTo>
                      <a:pt x="86" y="56"/>
                    </a:lnTo>
                    <a:lnTo>
                      <a:pt x="11" y="67"/>
                    </a:lnTo>
                    <a:lnTo>
                      <a:pt x="11" y="6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493040" y="33228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0" y="11"/>
                    </a:moveTo>
                    <a:lnTo>
                      <a:pt x="75" y="0"/>
                    </a:lnTo>
                    <a:lnTo>
                      <a:pt x="83" y="55"/>
                    </a:lnTo>
                    <a:lnTo>
                      <a:pt x="83" y="56"/>
                    </a:lnTo>
                    <a:lnTo>
                      <a:pt x="8" y="63"/>
                    </a:lnTo>
                    <a:lnTo>
                      <a:pt x="8" y="6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494480" y="3324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0" h="59">
                    <a:moveTo>
                      <a:pt x="0" y="7"/>
                    </a:moveTo>
                    <a:lnTo>
                      <a:pt x="75" y="0"/>
                    </a:lnTo>
                    <a:lnTo>
                      <a:pt x="80" y="54"/>
                    </a:lnTo>
                    <a:lnTo>
                      <a:pt x="80" y="55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494480" y="3327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6" h="56">
                    <a:moveTo>
                      <a:pt x="0" y="3"/>
                    </a:moveTo>
                    <a:lnTo>
                      <a:pt x="75" y="0"/>
                    </a:lnTo>
                    <a:lnTo>
                      <a:pt x="76" y="55"/>
                    </a:lnTo>
                    <a:lnTo>
                      <a:pt x="76" y="56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494480" y="3328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5" h="2">
                    <a:moveTo>
                      <a:pt x="0" y="1"/>
                    </a:moveTo>
                    <a:lnTo>
                      <a:pt x="75" y="1"/>
                    </a:lnTo>
                    <a:lnTo>
                      <a:pt x="75" y="1"/>
                    </a:lnTo>
                    <a:lnTo>
                      <a:pt x="75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494480" y="3328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6" h="57">
                    <a:moveTo>
                      <a:pt x="1" y="0"/>
                    </a:moveTo>
                    <a:lnTo>
                      <a:pt x="76" y="2"/>
                    </a:lnTo>
                    <a:lnTo>
                      <a:pt x="75" y="56"/>
                    </a:lnTo>
                    <a:lnTo>
                      <a:pt x="75" y="57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494480" y="33321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5" y="0"/>
                    </a:moveTo>
                    <a:lnTo>
                      <a:pt x="80" y="6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493040" y="3333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3" h="67">
                    <a:moveTo>
                      <a:pt x="8" y="0"/>
                    </a:moveTo>
                    <a:lnTo>
                      <a:pt x="83" y="11"/>
                    </a:lnTo>
                    <a:lnTo>
                      <a:pt x="75" y="66"/>
                    </a:lnTo>
                    <a:lnTo>
                      <a:pt x="74" y="67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93040" y="3335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5" h="70">
                    <a:moveTo>
                      <a:pt x="11" y="0"/>
                    </a:moveTo>
                    <a:lnTo>
                      <a:pt x="85" y="16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1" y="51"/>
                    </a:lnTo>
                    <a:lnTo>
                      <a:pt x="0" y="5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93040" y="3338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7" h="75">
                    <a:moveTo>
                      <a:pt x="14" y="0"/>
                    </a:moveTo>
                    <a:lnTo>
                      <a:pt x="87" y="19"/>
                    </a:lnTo>
                    <a:lnTo>
                      <a:pt x="72" y="74"/>
                    </a:lnTo>
                    <a:lnTo>
                      <a:pt x="72" y="75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491240" y="3340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88" h="77">
                    <a:moveTo>
                      <a:pt x="16" y="0"/>
                    </a:moveTo>
                    <a:lnTo>
                      <a:pt x="88" y="24"/>
                    </a:lnTo>
                    <a:lnTo>
                      <a:pt x="70" y="77"/>
                    </a:lnTo>
                    <a:lnTo>
                      <a:pt x="70" y="77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491240" y="3343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0" h="81">
                    <a:moveTo>
                      <a:pt x="20" y="0"/>
                    </a:moveTo>
                    <a:lnTo>
                      <a:pt x="90" y="26"/>
                    </a:lnTo>
                    <a:lnTo>
                      <a:pt x="70" y="80"/>
                    </a:lnTo>
                    <a:lnTo>
                      <a:pt x="70" y="81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489800" y="3345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93" h="83">
                    <a:moveTo>
                      <a:pt x="23" y="0"/>
                    </a:moveTo>
                    <a:lnTo>
                      <a:pt x="93" y="30"/>
                    </a:lnTo>
                    <a:lnTo>
                      <a:pt x="68" y="82"/>
                    </a:lnTo>
                    <a:lnTo>
                      <a:pt x="68" y="83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488360" y="3348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3" h="87">
                    <a:moveTo>
                      <a:pt x="26" y="0"/>
                    </a:moveTo>
                    <a:lnTo>
                      <a:pt x="93" y="33"/>
                    </a:lnTo>
                    <a:lnTo>
                      <a:pt x="67" y="86"/>
                    </a:lnTo>
                    <a:lnTo>
                      <a:pt x="66" y="87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488360" y="3349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94" h="90">
                    <a:moveTo>
                      <a:pt x="28" y="0"/>
                    </a:moveTo>
                    <a:lnTo>
                      <a:pt x="94" y="37"/>
                    </a:lnTo>
                    <a:lnTo>
                      <a:pt x="64" y="89"/>
                    </a:lnTo>
                    <a:lnTo>
                      <a:pt x="64" y="9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486560" y="3351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96" h="92">
                    <a:moveTo>
                      <a:pt x="32" y="0"/>
                    </a:moveTo>
                    <a:lnTo>
                      <a:pt x="96" y="41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1" y="50"/>
                    </a:lnTo>
                    <a:lnTo>
                      <a:pt x="0" y="5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485120" y="3354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7" h="95">
                    <a:moveTo>
                      <a:pt x="35" y="0"/>
                    </a:moveTo>
                    <a:lnTo>
                      <a:pt x="97" y="42"/>
                    </a:lnTo>
                    <a:lnTo>
                      <a:pt x="62" y="94"/>
                    </a:lnTo>
                    <a:lnTo>
                      <a:pt x="61" y="95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483320" y="3355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97" h="96">
                    <a:moveTo>
                      <a:pt x="36" y="0"/>
                    </a:moveTo>
                    <a:lnTo>
                      <a:pt x="97" y="46"/>
                    </a:lnTo>
                    <a:lnTo>
                      <a:pt x="59" y="96"/>
                    </a:lnTo>
                    <a:lnTo>
                      <a:pt x="59" y="9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481880" y="3357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40" y="0"/>
                    </a:moveTo>
                    <a:lnTo>
                      <a:pt x="99" y="46"/>
                    </a:lnTo>
                    <a:lnTo>
                      <a:pt x="57" y="97"/>
                    </a:lnTo>
                    <a:lnTo>
                      <a:pt x="57" y="9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480080" y="3360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43" y="0"/>
                    </a:moveTo>
                    <a:lnTo>
                      <a:pt x="100" y="50"/>
                    </a:lnTo>
                    <a:lnTo>
                      <a:pt x="56" y="99"/>
                    </a:lnTo>
                    <a:lnTo>
                      <a:pt x="55" y="9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477200" y="3362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45" y="0"/>
                    </a:moveTo>
                    <a:lnTo>
                      <a:pt x="100" y="50"/>
                    </a:lnTo>
                    <a:lnTo>
                      <a:pt x="54" y="100"/>
                    </a:lnTo>
                    <a:lnTo>
                      <a:pt x="53" y="101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475400" y="3363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49" y="0"/>
                    </a:moveTo>
                    <a:lnTo>
                      <a:pt x="102" y="54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1" y="49"/>
                    </a:lnTo>
                    <a:lnTo>
                      <a:pt x="0" y="49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473960" y="3367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03" h="103">
                    <a:moveTo>
                      <a:pt x="51" y="0"/>
                    </a:moveTo>
                    <a:lnTo>
                      <a:pt x="103" y="53"/>
                    </a:lnTo>
                    <a:lnTo>
                      <a:pt x="51" y="102"/>
                    </a:lnTo>
                    <a:lnTo>
                      <a:pt x="50" y="103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470720" y="3368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54" y="0"/>
                    </a:moveTo>
                    <a:lnTo>
                      <a:pt x="104" y="57"/>
                    </a:lnTo>
                    <a:lnTo>
                      <a:pt x="50" y="104"/>
                    </a:lnTo>
                    <a:lnTo>
                      <a:pt x="49" y="105"/>
                    </a:lnTo>
                    <a:lnTo>
                      <a:pt x="1" y="48"/>
                    </a:lnTo>
                    <a:lnTo>
                      <a:pt x="0" y="48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467480" y="3370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5" h="105">
                    <a:moveTo>
                      <a:pt x="57" y="0"/>
                    </a:moveTo>
                    <a:lnTo>
                      <a:pt x="105" y="57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466040" y="337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59" y="0"/>
                    </a:moveTo>
                    <a:lnTo>
                      <a:pt x="106" y="59"/>
                    </a:lnTo>
                    <a:lnTo>
                      <a:pt x="46" y="106"/>
                    </a:lnTo>
                    <a:lnTo>
                      <a:pt x="46" y="10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462800" y="3375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7" h="106">
                    <a:moveTo>
                      <a:pt x="61" y="0"/>
                    </a:moveTo>
                    <a:lnTo>
                      <a:pt x="107" y="59"/>
                    </a:lnTo>
                    <a:lnTo>
                      <a:pt x="45" y="106"/>
                    </a:lnTo>
                    <a:lnTo>
                      <a:pt x="44" y="10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459560" y="3376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65" y="0"/>
                    </a:moveTo>
                    <a:lnTo>
                      <a:pt x="109" y="61"/>
                    </a:lnTo>
                    <a:lnTo>
                      <a:pt x="44" y="107"/>
                    </a:lnTo>
                    <a:lnTo>
                      <a:pt x="43" y="107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458120" y="337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66" y="0"/>
                    </a:moveTo>
                    <a:lnTo>
                      <a:pt x="109" y="61"/>
                    </a:lnTo>
                    <a:lnTo>
                      <a:pt x="42" y="107"/>
                    </a:lnTo>
                    <a:lnTo>
                      <a:pt x="42" y="107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454880" y="3381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0" h="108">
                    <a:moveTo>
                      <a:pt x="68" y="0"/>
                    </a:moveTo>
                    <a:lnTo>
                      <a:pt x="110" y="63"/>
                    </a:lnTo>
                    <a:lnTo>
                      <a:pt x="40" y="108"/>
                    </a:lnTo>
                    <a:lnTo>
                      <a:pt x="40" y="108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451640" y="338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12" h="108">
                    <a:moveTo>
                      <a:pt x="72" y="0"/>
                    </a:moveTo>
                    <a:lnTo>
                      <a:pt x="112" y="63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448400" y="3384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3" h="109">
                    <a:moveTo>
                      <a:pt x="74" y="0"/>
                    </a:moveTo>
                    <a:lnTo>
                      <a:pt x="113" y="65"/>
                    </a:lnTo>
                    <a:lnTo>
                      <a:pt x="38" y="109"/>
                    </a:lnTo>
                    <a:lnTo>
                      <a:pt x="38" y="109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443720" y="33861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4" h="109">
                    <a:moveTo>
                      <a:pt x="77" y="0"/>
                    </a:moveTo>
                    <a:lnTo>
                      <a:pt x="114" y="65"/>
                    </a:lnTo>
                    <a:lnTo>
                      <a:pt x="37" y="109"/>
                    </a:lnTo>
                    <a:lnTo>
                      <a:pt x="36" y="10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440480" y="3389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78" y="0"/>
                    </a:moveTo>
                    <a:lnTo>
                      <a:pt x="114" y="66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437240" y="33908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7" h="108">
                    <a:moveTo>
                      <a:pt x="82" y="0"/>
                    </a:moveTo>
                    <a:lnTo>
                      <a:pt x="117" y="65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434360" y="3392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7" h="109">
                    <a:moveTo>
                      <a:pt x="83" y="0"/>
                    </a:moveTo>
                    <a:lnTo>
                      <a:pt x="117" y="67"/>
                    </a:lnTo>
                    <a:lnTo>
                      <a:pt x="32" y="108"/>
                    </a:lnTo>
                    <a:lnTo>
                      <a:pt x="32" y="10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429320" y="3394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8" h="109">
                    <a:moveTo>
                      <a:pt x="86" y="0"/>
                    </a:moveTo>
                    <a:lnTo>
                      <a:pt x="118" y="68"/>
                    </a:lnTo>
                    <a:lnTo>
                      <a:pt x="33" y="109"/>
                    </a:lnTo>
                    <a:lnTo>
                      <a:pt x="32" y="10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426440" y="339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0" h="109">
                    <a:moveTo>
                      <a:pt x="88" y="0"/>
                    </a:moveTo>
                    <a:lnTo>
                      <a:pt x="120" y="68"/>
                    </a:lnTo>
                    <a:lnTo>
                      <a:pt x="32" y="108"/>
                    </a:lnTo>
                    <a:lnTo>
                      <a:pt x="31" y="109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421400" y="33973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90" y="0"/>
                    </a:moveTo>
                    <a:lnTo>
                      <a:pt x="121" y="69"/>
                    </a:lnTo>
                    <a:lnTo>
                      <a:pt x="31" y="108"/>
                    </a:lnTo>
                    <a:lnTo>
                      <a:pt x="30" y="10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7418160" y="33987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91" y="0"/>
                    </a:moveTo>
                    <a:lnTo>
                      <a:pt x="121" y="68"/>
                    </a:lnTo>
                    <a:lnTo>
                      <a:pt x="28" y="108"/>
                    </a:lnTo>
                    <a:lnTo>
                      <a:pt x="28" y="10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413480" y="3400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3" h="107">
                    <a:moveTo>
                      <a:pt x="95" y="0"/>
                    </a:moveTo>
                    <a:lnTo>
                      <a:pt x="123" y="69"/>
                    </a:lnTo>
                    <a:lnTo>
                      <a:pt x="28" y="107"/>
                    </a:lnTo>
                    <a:lnTo>
                      <a:pt x="28" y="107"/>
                    </a:lnTo>
                    <a:lnTo>
                      <a:pt x="1" y="37"/>
                    </a:lnTo>
                    <a:lnTo>
                      <a:pt x="0" y="3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410240" y="3403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24" h="109">
                    <a:moveTo>
                      <a:pt x="97" y="0"/>
                    </a:moveTo>
                    <a:lnTo>
                      <a:pt x="124" y="70"/>
                    </a:lnTo>
                    <a:lnTo>
                      <a:pt x="27" y="109"/>
                    </a:lnTo>
                    <a:lnTo>
                      <a:pt x="27" y="10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405560" y="3405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5" h="107">
                    <a:moveTo>
                      <a:pt x="98" y="0"/>
                    </a:moveTo>
                    <a:lnTo>
                      <a:pt x="125" y="70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400880" y="34070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6" h="107">
                    <a:moveTo>
                      <a:pt x="101" y="0"/>
                    </a:moveTo>
                    <a:lnTo>
                      <a:pt x="126" y="71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396200" y="3408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7" h="106">
                    <a:moveTo>
                      <a:pt x="102" y="0"/>
                    </a:moveTo>
                    <a:lnTo>
                      <a:pt x="127" y="69"/>
                    </a:lnTo>
                    <a:lnTo>
                      <a:pt x="24" y="106"/>
                    </a:lnTo>
                    <a:lnTo>
                      <a:pt x="24" y="10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391520" y="34099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05" y="0"/>
                    </a:moveTo>
                    <a:lnTo>
                      <a:pt x="129" y="71"/>
                    </a:lnTo>
                    <a:lnTo>
                      <a:pt x="24" y="106"/>
                    </a:lnTo>
                    <a:lnTo>
                      <a:pt x="23" y="10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386480" y="3411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06" y="0"/>
                    </a:moveTo>
                    <a:lnTo>
                      <a:pt x="129" y="71"/>
                    </a:lnTo>
                    <a:lnTo>
                      <a:pt x="23" y="106"/>
                    </a:lnTo>
                    <a:lnTo>
                      <a:pt x="22" y="10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381800" y="34131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109" y="0"/>
                    </a:moveTo>
                    <a:lnTo>
                      <a:pt x="131" y="71"/>
                    </a:lnTo>
                    <a:lnTo>
                      <a:pt x="23" y="105"/>
                    </a:lnTo>
                    <a:lnTo>
                      <a:pt x="22" y="10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377120" y="34131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2" h="105">
                    <a:moveTo>
                      <a:pt x="110" y="0"/>
                    </a:moveTo>
                    <a:lnTo>
                      <a:pt x="132" y="72"/>
                    </a:lnTo>
                    <a:lnTo>
                      <a:pt x="22" y="105"/>
                    </a:lnTo>
                    <a:lnTo>
                      <a:pt x="22" y="10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372440" y="3414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112" y="0"/>
                    </a:moveTo>
                    <a:lnTo>
                      <a:pt x="134" y="71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367400" y="34164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114" y="0"/>
                    </a:moveTo>
                    <a:lnTo>
                      <a:pt x="134" y="72"/>
                    </a:lnTo>
                    <a:lnTo>
                      <a:pt x="20" y="103"/>
                    </a:lnTo>
                    <a:lnTo>
                      <a:pt x="20" y="104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362720" y="34178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35" h="103">
                    <a:moveTo>
                      <a:pt x="115" y="0"/>
                    </a:moveTo>
                    <a:lnTo>
                      <a:pt x="135" y="73"/>
                    </a:lnTo>
                    <a:lnTo>
                      <a:pt x="19" y="103"/>
                    </a:lnTo>
                    <a:lnTo>
                      <a:pt x="18" y="10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358040" y="3419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36" h="102">
                    <a:moveTo>
                      <a:pt x="118" y="0"/>
                    </a:moveTo>
                    <a:lnTo>
                      <a:pt x="136" y="71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351560" y="3421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119" y="0"/>
                    </a:moveTo>
                    <a:lnTo>
                      <a:pt x="138" y="73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346880" y="3422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9" h="101">
                    <a:moveTo>
                      <a:pt x="122" y="0"/>
                    </a:moveTo>
                    <a:lnTo>
                      <a:pt x="139" y="72"/>
                    </a:lnTo>
                    <a:lnTo>
                      <a:pt x="18" y="101"/>
                    </a:lnTo>
                    <a:lnTo>
                      <a:pt x="18" y="10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340400" y="3422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0" h="102">
                    <a:moveTo>
                      <a:pt x="122" y="0"/>
                    </a:moveTo>
                    <a:lnTo>
                      <a:pt x="140" y="73"/>
                    </a:lnTo>
                    <a:lnTo>
                      <a:pt x="16" y="102"/>
                    </a:lnTo>
                    <a:lnTo>
                      <a:pt x="16" y="10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335720" y="34243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0" h="101">
                    <a:moveTo>
                      <a:pt x="124" y="0"/>
                    </a:moveTo>
                    <a:lnTo>
                      <a:pt x="140" y="74"/>
                    </a:lnTo>
                    <a:lnTo>
                      <a:pt x="16" y="100"/>
                    </a:lnTo>
                    <a:lnTo>
                      <a:pt x="16" y="101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329600" y="34257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42" h="100">
                    <a:moveTo>
                      <a:pt x="127" y="0"/>
                    </a:moveTo>
                    <a:lnTo>
                      <a:pt x="142" y="74"/>
                    </a:lnTo>
                    <a:lnTo>
                      <a:pt x="15" y="100"/>
                    </a:lnTo>
                    <a:lnTo>
                      <a:pt x="15" y="10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324560" y="3427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2" h="99">
                    <a:moveTo>
                      <a:pt x="127" y="0"/>
                    </a:moveTo>
                    <a:lnTo>
                      <a:pt x="142" y="74"/>
                    </a:lnTo>
                    <a:lnTo>
                      <a:pt x="15" y="99"/>
                    </a:lnTo>
                    <a:lnTo>
                      <a:pt x="14" y="99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318440" y="34275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43" h="98">
                    <a:moveTo>
                      <a:pt x="129" y="0"/>
                    </a:moveTo>
                    <a:lnTo>
                      <a:pt x="143" y="73"/>
                    </a:lnTo>
                    <a:lnTo>
                      <a:pt x="14" y="98"/>
                    </a:lnTo>
                    <a:lnTo>
                      <a:pt x="13" y="9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313400" y="3429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4" h="97">
                    <a:moveTo>
                      <a:pt x="131" y="0"/>
                    </a:moveTo>
                    <a:lnTo>
                      <a:pt x="144" y="73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307280" y="34308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45" h="97">
                    <a:moveTo>
                      <a:pt x="131" y="0"/>
                    </a:moveTo>
                    <a:lnTo>
                      <a:pt x="145" y="74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300800" y="3430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6" h="96">
                    <a:moveTo>
                      <a:pt x="134" y="0"/>
                    </a:moveTo>
                    <a:lnTo>
                      <a:pt x="146" y="74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296120" y="3432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6" h="95">
                    <a:moveTo>
                      <a:pt x="134" y="0"/>
                    </a:moveTo>
                    <a:lnTo>
                      <a:pt x="146" y="73"/>
                    </a:lnTo>
                    <a:lnTo>
                      <a:pt x="11" y="95"/>
                    </a:lnTo>
                    <a:lnTo>
                      <a:pt x="11" y="9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289640" y="3433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8" h="94">
                    <a:moveTo>
                      <a:pt x="137" y="0"/>
                    </a:moveTo>
                    <a:lnTo>
                      <a:pt x="148" y="74"/>
                    </a:lnTo>
                    <a:lnTo>
                      <a:pt x="11" y="94"/>
                    </a:lnTo>
                    <a:lnTo>
                      <a:pt x="11" y="9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283520" y="34336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137" y="0"/>
                    </a:moveTo>
                    <a:lnTo>
                      <a:pt x="148" y="74"/>
                    </a:lnTo>
                    <a:lnTo>
                      <a:pt x="10" y="93"/>
                    </a:lnTo>
                    <a:lnTo>
                      <a:pt x="10" y="9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277040" y="34354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40" y="0"/>
                    </a:moveTo>
                    <a:lnTo>
                      <a:pt x="150" y="74"/>
                    </a:lnTo>
                    <a:lnTo>
                      <a:pt x="11" y="93"/>
                    </a:lnTo>
                    <a:lnTo>
                      <a:pt x="11" y="93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270560" y="34354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0" h="92">
                    <a:moveTo>
                      <a:pt x="140" y="0"/>
                    </a:moveTo>
                    <a:lnTo>
                      <a:pt x="150" y="75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264440" y="3436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142" y="0"/>
                    </a:moveTo>
                    <a:lnTo>
                      <a:pt x="151" y="73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257960" y="343692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51" h="90">
                    <a:moveTo>
                      <a:pt x="143" y="0"/>
                    </a:moveTo>
                    <a:lnTo>
                      <a:pt x="151" y="75"/>
                    </a:lnTo>
                    <a:lnTo>
                      <a:pt x="8" y="90"/>
                    </a:lnTo>
                    <a:lnTo>
                      <a:pt x="7" y="9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251480" y="343872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151" h="89">
                    <a:moveTo>
                      <a:pt x="144" y="0"/>
                    </a:moveTo>
                    <a:lnTo>
                      <a:pt x="151" y="74"/>
                    </a:lnTo>
                    <a:lnTo>
                      <a:pt x="7" y="89"/>
                    </a:lnTo>
                    <a:lnTo>
                      <a:pt x="7" y="89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245360" y="3438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145" y="0"/>
                    </a:moveTo>
                    <a:lnTo>
                      <a:pt x="152" y="74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238880" y="3438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3" h="88">
                    <a:moveTo>
                      <a:pt x="147" y="0"/>
                    </a:moveTo>
                    <a:lnTo>
                      <a:pt x="153" y="75"/>
                    </a:lnTo>
                    <a:lnTo>
                      <a:pt x="7" y="88"/>
                    </a:lnTo>
                    <a:lnTo>
                      <a:pt x="6" y="88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232760" y="34401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53" h="87">
                    <a:moveTo>
                      <a:pt x="147" y="0"/>
                    </a:moveTo>
                    <a:lnTo>
                      <a:pt x="153" y="75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226280" y="34401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5" h="85">
                    <a:moveTo>
                      <a:pt x="148" y="0"/>
                    </a:moveTo>
                    <a:lnTo>
                      <a:pt x="155" y="74"/>
                    </a:lnTo>
                    <a:lnTo>
                      <a:pt x="6" y="85"/>
                    </a:lnTo>
                    <a:lnTo>
                      <a:pt x="6" y="8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219800" y="34401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5" h="85">
                    <a:moveTo>
                      <a:pt x="149" y="0"/>
                    </a:moveTo>
                    <a:lnTo>
                      <a:pt x="155" y="74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213680" y="3441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55" h="83">
                    <a:moveTo>
                      <a:pt x="150" y="0"/>
                    </a:moveTo>
                    <a:lnTo>
                      <a:pt x="155" y="75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207200" y="34419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55" h="82">
                    <a:moveTo>
                      <a:pt x="151" y="0"/>
                    </a:moveTo>
                    <a:lnTo>
                      <a:pt x="155" y="74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199280" y="34419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156" h="82">
                    <a:moveTo>
                      <a:pt x="153" y="0"/>
                    </a:moveTo>
                    <a:lnTo>
                      <a:pt x="156" y="75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192800" y="34419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6" h="81">
                    <a:moveTo>
                      <a:pt x="153" y="0"/>
                    </a:moveTo>
                    <a:lnTo>
                      <a:pt x="156" y="75"/>
                    </a:lnTo>
                    <a:lnTo>
                      <a:pt x="3" y="81"/>
                    </a:lnTo>
                    <a:lnTo>
                      <a:pt x="3" y="81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186680" y="34434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58" h="80">
                    <a:moveTo>
                      <a:pt x="155" y="0"/>
                    </a:moveTo>
                    <a:lnTo>
                      <a:pt x="158" y="75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178760" y="3443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155" y="0"/>
                    </a:moveTo>
                    <a:lnTo>
                      <a:pt x="158" y="75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172280" y="3443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7" h="77">
                    <a:moveTo>
                      <a:pt x="155" y="0"/>
                    </a:moveTo>
                    <a:lnTo>
                      <a:pt x="157" y="75"/>
                    </a:lnTo>
                    <a:lnTo>
                      <a:pt x="1" y="77"/>
                    </a:lnTo>
                    <a:lnTo>
                      <a:pt x="0" y="7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165800" y="34434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7" h="77">
                    <a:moveTo>
                      <a:pt x="157" y="0"/>
                    </a:moveTo>
                    <a:lnTo>
                      <a:pt x="157" y="75"/>
                    </a:lnTo>
                    <a:lnTo>
                      <a:pt x="1" y="77"/>
                    </a:lnTo>
                    <a:lnTo>
                      <a:pt x="0" y="7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157880" y="3443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7" h="76">
                    <a:moveTo>
                      <a:pt x="157" y="0"/>
                    </a:moveTo>
                    <a:lnTo>
                      <a:pt x="157" y="75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157880" y="34434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0" h="75">
                    <a:moveTo>
                      <a:pt x="0" y="0"/>
                    </a:moveTo>
                    <a:lnTo>
                      <a:pt x="0" y="75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151760" y="34434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58" h="76">
                    <a:moveTo>
                      <a:pt x="158" y="1"/>
                    </a:moveTo>
                    <a:lnTo>
                      <a:pt x="158" y="76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58" y="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145280" y="34434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8" h="77">
                    <a:moveTo>
                      <a:pt x="158" y="2"/>
                    </a:moveTo>
                    <a:lnTo>
                      <a:pt x="157" y="77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58" y="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137360" y="3443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7" h="77">
                    <a:moveTo>
                      <a:pt x="157" y="2"/>
                    </a:moveTo>
                    <a:lnTo>
                      <a:pt x="156" y="77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57" y="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130880" y="34434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7" h="79">
                    <a:moveTo>
                      <a:pt x="157" y="4"/>
                    </a:moveTo>
                    <a:lnTo>
                      <a:pt x="155" y="79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124760" y="34434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57" h="80">
                    <a:moveTo>
                      <a:pt x="157" y="5"/>
                    </a:moveTo>
                    <a:lnTo>
                      <a:pt x="155" y="80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57" y="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116840" y="34419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7" h="81">
                    <a:moveTo>
                      <a:pt x="157" y="6"/>
                    </a:moveTo>
                    <a:lnTo>
                      <a:pt x="154" y="81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57" y="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110360" y="34419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157" h="82">
                    <a:moveTo>
                      <a:pt x="157" y="7"/>
                    </a:moveTo>
                    <a:lnTo>
                      <a:pt x="153" y="82"/>
                    </a:lnTo>
                    <a:lnTo>
                      <a:pt x="1" y="75"/>
                    </a:lnTo>
                    <a:lnTo>
                      <a:pt x="0" y="7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57" y="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103880" y="34419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55" h="82">
                    <a:moveTo>
                      <a:pt x="155" y="7"/>
                    </a:moveTo>
                    <a:lnTo>
                      <a:pt x="151" y="8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55" y="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097760" y="3441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55" h="83">
                    <a:moveTo>
                      <a:pt x="155" y="9"/>
                    </a:moveTo>
                    <a:lnTo>
                      <a:pt x="151" y="83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091280" y="34401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5" h="85">
                    <a:moveTo>
                      <a:pt x="155" y="10"/>
                    </a:moveTo>
                    <a:lnTo>
                      <a:pt x="150" y="85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55" y="1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084800" y="34401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4" h="85">
                    <a:moveTo>
                      <a:pt x="154" y="11"/>
                    </a:moveTo>
                    <a:lnTo>
                      <a:pt x="149" y="85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54" y="1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076880" y="34401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4" h="87">
                    <a:moveTo>
                      <a:pt x="154" y="13"/>
                    </a:moveTo>
                    <a:lnTo>
                      <a:pt x="148" y="87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154" y="1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070760" y="3438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4" h="88">
                    <a:moveTo>
                      <a:pt x="154" y="13"/>
                    </a:moveTo>
                    <a:lnTo>
                      <a:pt x="147" y="88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4" y="1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064280" y="3438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152" y="13"/>
                    </a:moveTo>
                    <a:lnTo>
                      <a:pt x="145" y="88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2" y="1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057800" y="343872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152" h="89">
                    <a:moveTo>
                      <a:pt x="152" y="15"/>
                    </a:moveTo>
                    <a:lnTo>
                      <a:pt x="145" y="8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52" y="1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051680" y="343692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151" h="90">
                    <a:moveTo>
                      <a:pt x="151" y="16"/>
                    </a:moveTo>
                    <a:lnTo>
                      <a:pt x="143" y="90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51" y="1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045200" y="3436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150" y="16"/>
                    </a:moveTo>
                    <a:lnTo>
                      <a:pt x="142" y="91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50" y="1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039080" y="3435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0" h="92">
                    <a:moveTo>
                      <a:pt x="150" y="19"/>
                    </a:moveTo>
                    <a:lnTo>
                      <a:pt x="140" y="92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150" y="1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034040" y="34354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8"/>
                    </a:moveTo>
                    <a:lnTo>
                      <a:pt x="140" y="93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50" y="1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027920" y="34336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148" y="19"/>
                    </a:moveTo>
                    <a:lnTo>
                      <a:pt x="138" y="93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48" y="1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021440" y="3433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8" h="94">
                    <a:moveTo>
                      <a:pt x="148" y="20"/>
                    </a:moveTo>
                    <a:lnTo>
                      <a:pt x="137" y="9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8" y="2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014960" y="3432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7" h="95">
                    <a:moveTo>
                      <a:pt x="147" y="21"/>
                    </a:moveTo>
                    <a:lnTo>
                      <a:pt x="135" y="95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7" y="2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008840" y="34308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46" h="96">
                    <a:moveTo>
                      <a:pt x="146" y="23"/>
                    </a:moveTo>
                    <a:lnTo>
                      <a:pt x="134" y="96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6" y="2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004160" y="34308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44" h="97">
                    <a:moveTo>
                      <a:pt x="144" y="23"/>
                    </a:moveTo>
                    <a:lnTo>
                      <a:pt x="132" y="97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4" y="2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997680" y="3429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5" h="97">
                    <a:moveTo>
                      <a:pt x="145" y="23"/>
                    </a:moveTo>
                    <a:lnTo>
                      <a:pt x="132" y="97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5" y="2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993000" y="34275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44" h="98">
                    <a:moveTo>
                      <a:pt x="144" y="25"/>
                    </a:moveTo>
                    <a:lnTo>
                      <a:pt x="130" y="98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4" y="2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986520" y="3427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3" h="99">
                    <a:moveTo>
                      <a:pt x="143" y="26"/>
                    </a:moveTo>
                    <a:lnTo>
                      <a:pt x="127" y="9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3" y="2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980040" y="34257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42" h="100">
                    <a:moveTo>
                      <a:pt x="142" y="26"/>
                    </a:moveTo>
                    <a:lnTo>
                      <a:pt x="127" y="100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2" y="2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975360" y="34243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2" h="100">
                    <a:moveTo>
                      <a:pt x="142" y="27"/>
                    </a:moveTo>
                    <a:lnTo>
                      <a:pt x="125" y="10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42" y="2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970680" y="3422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41" h="102">
                    <a:moveTo>
                      <a:pt x="141" y="28"/>
                    </a:moveTo>
                    <a:lnTo>
                      <a:pt x="124" y="102"/>
                    </a:lnTo>
                    <a:lnTo>
                      <a:pt x="1" y="73"/>
                    </a:lnTo>
                    <a:lnTo>
                      <a:pt x="0" y="73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41" y="2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964200" y="3422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0" h="101">
                    <a:moveTo>
                      <a:pt x="140" y="28"/>
                    </a:moveTo>
                    <a:lnTo>
                      <a:pt x="121" y="10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0" y="2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959520" y="3421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7" h="102">
                    <a:moveTo>
                      <a:pt x="137" y="30"/>
                    </a:moveTo>
                    <a:lnTo>
                      <a:pt x="119" y="102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37" y="3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954840" y="3419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37" h="102">
                    <a:moveTo>
                      <a:pt x="137" y="30"/>
                    </a:moveTo>
                    <a:lnTo>
                      <a:pt x="119" y="102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7" y="3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948360" y="34178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136" y="32"/>
                    </a:moveTo>
                    <a:lnTo>
                      <a:pt x="116" y="103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6" y="3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943680" y="34164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5" h="103">
                    <a:moveTo>
                      <a:pt x="135" y="31"/>
                    </a:moveTo>
                    <a:lnTo>
                      <a:pt x="115" y="103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35" y="3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6939000" y="3414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134" y="32"/>
                    </a:moveTo>
                    <a:lnTo>
                      <a:pt x="113" y="104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34" y="3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934320" y="34131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3" h="105">
                    <a:moveTo>
                      <a:pt x="133" y="34"/>
                    </a:moveTo>
                    <a:lnTo>
                      <a:pt x="111" y="105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133" y="3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2" name=""/>
            <p:cNvGrpSpPr/>
            <p:nvPr/>
          </p:nvGrpSpPr>
          <p:grpSpPr>
            <a:xfrm>
              <a:off x="6819840" y="2716200"/>
              <a:ext cx="679320" cy="700200"/>
              <a:chOff x="6819840" y="2716200"/>
              <a:chExt cx="679320" cy="700200"/>
            </a:xfrm>
          </p:grpSpPr>
          <p:sp>
            <p:nvSpPr>
              <p:cNvPr id="2633" name=""/>
              <p:cNvSpPr/>
              <p:nvPr/>
            </p:nvSpPr>
            <p:spPr>
              <a:xfrm>
                <a:off x="6929280" y="34131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32" h="105">
                    <a:moveTo>
                      <a:pt x="132" y="33"/>
                    </a:moveTo>
                    <a:lnTo>
                      <a:pt x="109" y="105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32" y="3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924600" y="3411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1" h="106">
                    <a:moveTo>
                      <a:pt x="131" y="35"/>
                    </a:moveTo>
                    <a:lnTo>
                      <a:pt x="107" y="106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31" y="3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919920" y="34099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29" y="35"/>
                    </a:moveTo>
                    <a:lnTo>
                      <a:pt x="105" y="106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29" y="3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915240" y="3408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8" h="106">
                    <a:moveTo>
                      <a:pt x="128" y="35"/>
                    </a:moveTo>
                    <a:lnTo>
                      <a:pt x="104" y="106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28" y="3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910200" y="34070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7" h="106">
                    <a:moveTo>
                      <a:pt x="127" y="37"/>
                    </a:moveTo>
                    <a:lnTo>
                      <a:pt x="101" y="10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27" y="3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907320" y="3405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5" h="107">
                    <a:moveTo>
                      <a:pt x="125" y="37"/>
                    </a:moveTo>
                    <a:lnTo>
                      <a:pt x="99" y="107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25" y="3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902280" y="3403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25" h="108">
                    <a:moveTo>
                      <a:pt x="125" y="38"/>
                    </a:moveTo>
                    <a:lnTo>
                      <a:pt x="98" y="108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125" y="3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897600" y="3400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5" h="107">
                    <a:moveTo>
                      <a:pt x="125" y="38"/>
                    </a:moveTo>
                    <a:lnTo>
                      <a:pt x="95" y="10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125" y="3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894360" y="33987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23" h="108">
                    <a:moveTo>
                      <a:pt x="123" y="39"/>
                    </a:moveTo>
                    <a:lnTo>
                      <a:pt x="93" y="108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123" y="3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889680" y="3397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122" y="40"/>
                    </a:moveTo>
                    <a:lnTo>
                      <a:pt x="91" y="108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122" y="4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86440" y="3395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0" h="108">
                    <a:moveTo>
                      <a:pt x="120" y="40"/>
                    </a:moveTo>
                    <a:lnTo>
                      <a:pt x="88" y="108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120" y="4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881760" y="3394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9" h="109">
                    <a:moveTo>
                      <a:pt x="119" y="41"/>
                    </a:moveTo>
                    <a:lnTo>
                      <a:pt x="87" y="10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119" y="4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878520" y="3392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9" h="108">
                    <a:moveTo>
                      <a:pt x="119" y="41"/>
                    </a:moveTo>
                    <a:lnTo>
                      <a:pt x="85" y="108"/>
                    </a:lnTo>
                    <a:lnTo>
                      <a:pt x="1" y="67"/>
                    </a:lnTo>
                    <a:lnTo>
                      <a:pt x="0" y="67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19" y="4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75280" y="33908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7" h="108">
                    <a:moveTo>
                      <a:pt x="117" y="41"/>
                    </a:moveTo>
                    <a:lnTo>
                      <a:pt x="81" y="108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17" y="4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870600" y="33894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5" h="108">
                    <a:moveTo>
                      <a:pt x="115" y="43"/>
                    </a:moveTo>
                    <a:lnTo>
                      <a:pt x="80" y="10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115" y="4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67360" y="33861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4" h="107">
                    <a:moveTo>
                      <a:pt x="114" y="42"/>
                    </a:moveTo>
                    <a:lnTo>
                      <a:pt x="77" y="107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114" y="4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864120" y="33847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4" h="107">
                    <a:moveTo>
                      <a:pt x="114" y="44"/>
                    </a:moveTo>
                    <a:lnTo>
                      <a:pt x="76" y="107"/>
                    </a:lnTo>
                    <a:lnTo>
                      <a:pt x="1" y="64"/>
                    </a:lnTo>
                    <a:lnTo>
                      <a:pt x="0" y="6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114" y="4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861240" y="3382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12" h="108">
                    <a:moveTo>
                      <a:pt x="112" y="44"/>
                    </a:moveTo>
                    <a:lnTo>
                      <a:pt x="72" y="108"/>
                    </a:lnTo>
                    <a:lnTo>
                      <a:pt x="1" y="63"/>
                    </a:lnTo>
                    <a:lnTo>
                      <a:pt x="0" y="6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112" y="4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858000" y="3381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2" h="107">
                    <a:moveTo>
                      <a:pt x="112" y="45"/>
                    </a:moveTo>
                    <a:lnTo>
                      <a:pt x="71" y="107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854760" y="337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0" h="107">
                    <a:moveTo>
                      <a:pt x="110" y="45"/>
                    </a:moveTo>
                    <a:lnTo>
                      <a:pt x="67" y="107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10" y="4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53320" y="3376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9" h="106">
                    <a:moveTo>
                      <a:pt x="109" y="46"/>
                    </a:moveTo>
                    <a:lnTo>
                      <a:pt x="65" y="106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109" y="4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850080" y="3375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9" h="106">
                    <a:moveTo>
                      <a:pt x="109" y="45"/>
                    </a:moveTo>
                    <a:lnTo>
                      <a:pt x="64" y="106"/>
                    </a:lnTo>
                    <a:lnTo>
                      <a:pt x="1" y="59"/>
                    </a:lnTo>
                    <a:lnTo>
                      <a:pt x="0" y="58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109" y="4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846840" y="3373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7" h="105">
                    <a:moveTo>
                      <a:pt x="107" y="47"/>
                    </a:moveTo>
                    <a:lnTo>
                      <a:pt x="60" y="105"/>
                    </a:lnTo>
                    <a:lnTo>
                      <a:pt x="1" y="59"/>
                    </a:lnTo>
                    <a:lnTo>
                      <a:pt x="0" y="58"/>
                    </a:lnTo>
                    <a:lnTo>
                      <a:pt x="49" y="1"/>
                    </a:lnTo>
                    <a:lnTo>
                      <a:pt x="48" y="0"/>
                    </a:lnTo>
                    <a:lnTo>
                      <a:pt x="107" y="4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5400" y="3370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06" h="104">
                    <a:moveTo>
                      <a:pt x="106" y="47"/>
                    </a:moveTo>
                    <a:lnTo>
                      <a:pt x="57" y="10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106" y="4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842160" y="3368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5" h="103">
                    <a:moveTo>
                      <a:pt x="105" y="48"/>
                    </a:moveTo>
                    <a:lnTo>
                      <a:pt x="55" y="103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2" y="0"/>
                    </a:lnTo>
                    <a:lnTo>
                      <a:pt x="51" y="0"/>
                    </a:lnTo>
                    <a:lnTo>
                      <a:pt x="105" y="4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38920" y="3367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105" y="47"/>
                    </a:moveTo>
                    <a:lnTo>
                      <a:pt x="53" y="102"/>
                    </a:lnTo>
                    <a:lnTo>
                      <a:pt x="1" y="53"/>
                    </a:lnTo>
                    <a:lnTo>
                      <a:pt x="0" y="53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105" y="4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837480" y="33638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3" h="101">
                    <a:moveTo>
                      <a:pt x="103" y="48"/>
                    </a:moveTo>
                    <a:lnTo>
                      <a:pt x="49" y="101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103" y="4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835680" y="3362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102" y="48"/>
                    </a:moveTo>
                    <a:lnTo>
                      <a:pt x="47" y="100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56" y="1"/>
                    </a:lnTo>
                    <a:lnTo>
                      <a:pt x="56" y="0"/>
                    </a:lnTo>
                    <a:lnTo>
                      <a:pt x="102" y="4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834240" y="3360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101" y="50"/>
                    </a:moveTo>
                    <a:lnTo>
                      <a:pt x="45" y="98"/>
                    </a:lnTo>
                    <a:lnTo>
                      <a:pt x="1" y="49"/>
                    </a:lnTo>
                    <a:lnTo>
                      <a:pt x="0" y="49"/>
                    </a:lnTo>
                    <a:lnTo>
                      <a:pt x="59" y="1"/>
                    </a:lnTo>
                    <a:lnTo>
                      <a:pt x="58" y="0"/>
                    </a:lnTo>
                    <a:lnTo>
                      <a:pt x="101" y="5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6831000" y="3357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1" h="97">
                    <a:moveTo>
                      <a:pt x="101" y="49"/>
                    </a:moveTo>
                    <a:lnTo>
                      <a:pt x="42" y="97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62" y="1"/>
                    </a:lnTo>
                    <a:lnTo>
                      <a:pt x="60" y="0"/>
                    </a:lnTo>
                    <a:lnTo>
                      <a:pt x="101" y="4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829200" y="3355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00" h="94">
                    <a:moveTo>
                      <a:pt x="100" y="50"/>
                    </a:moveTo>
                    <a:lnTo>
                      <a:pt x="38" y="94"/>
                    </a:lnTo>
                    <a:lnTo>
                      <a:pt x="1" y="44"/>
                    </a:lnTo>
                    <a:lnTo>
                      <a:pt x="0" y="43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100" y="5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827760" y="33544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8" h="92">
                    <a:moveTo>
                      <a:pt x="98" y="49"/>
                    </a:moveTo>
                    <a:lnTo>
                      <a:pt x="36" y="92"/>
                    </a:lnTo>
                    <a:lnTo>
                      <a:pt x="1" y="41"/>
                    </a:lnTo>
                    <a:lnTo>
                      <a:pt x="0" y="40"/>
                    </a:lnTo>
                    <a:lnTo>
                      <a:pt x="64" y="1"/>
                    </a:lnTo>
                    <a:lnTo>
                      <a:pt x="64" y="0"/>
                    </a:lnTo>
                    <a:lnTo>
                      <a:pt x="98" y="4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826320" y="3351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97" y="51"/>
                    </a:moveTo>
                    <a:lnTo>
                      <a:pt x="33" y="9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97" y="5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826320" y="3349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94" y="50"/>
                    </a:moveTo>
                    <a:lnTo>
                      <a:pt x="29" y="8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67" y="1"/>
                    </a:lnTo>
                    <a:lnTo>
                      <a:pt x="66" y="0"/>
                    </a:lnTo>
                    <a:lnTo>
                      <a:pt x="94" y="5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824520" y="3348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5" h="85">
                    <a:moveTo>
                      <a:pt x="95" y="52"/>
                    </a:moveTo>
                    <a:lnTo>
                      <a:pt x="28" y="85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69" y="1"/>
                    </a:lnTo>
                    <a:lnTo>
                      <a:pt x="68" y="0"/>
                    </a:lnTo>
                    <a:lnTo>
                      <a:pt x="95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823080" y="3345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92" h="80">
                    <a:moveTo>
                      <a:pt x="92" y="50"/>
                    </a:moveTo>
                    <a:lnTo>
                      <a:pt x="23" y="8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70" y="1"/>
                    </a:lnTo>
                    <a:lnTo>
                      <a:pt x="69" y="0"/>
                    </a:lnTo>
                    <a:lnTo>
                      <a:pt x="92" y="5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823080" y="3343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92" y="52"/>
                    </a:moveTo>
                    <a:lnTo>
                      <a:pt x="22" y="78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92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821280" y="33400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89" h="75">
                    <a:moveTo>
                      <a:pt x="89" y="52"/>
                    </a:moveTo>
                    <a:lnTo>
                      <a:pt x="17" y="75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89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821280" y="3338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7" h="72">
                    <a:moveTo>
                      <a:pt x="87" y="52"/>
                    </a:moveTo>
                    <a:lnTo>
                      <a:pt x="15" y="72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74" y="1"/>
                    </a:lnTo>
                    <a:lnTo>
                      <a:pt x="73" y="0"/>
                    </a:lnTo>
                    <a:lnTo>
                      <a:pt x="87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819840" y="333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6" h="67">
                    <a:moveTo>
                      <a:pt x="86" y="52"/>
                    </a:moveTo>
                    <a:lnTo>
                      <a:pt x="12" y="67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75" y="1"/>
                    </a:lnTo>
                    <a:lnTo>
                      <a:pt x="75" y="0"/>
                    </a:lnTo>
                    <a:lnTo>
                      <a:pt x="86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819840" y="3333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83" y="52"/>
                    </a:moveTo>
                    <a:lnTo>
                      <a:pt x="8" y="64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76" y="1"/>
                    </a:lnTo>
                    <a:lnTo>
                      <a:pt x="76" y="0"/>
                    </a:lnTo>
                    <a:lnTo>
                      <a:pt x="83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819840" y="33321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1" h="60">
                    <a:moveTo>
                      <a:pt x="81" y="53"/>
                    </a:moveTo>
                    <a:lnTo>
                      <a:pt x="5" y="6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76" y="1"/>
                    </a:lnTo>
                    <a:lnTo>
                      <a:pt x="76" y="0"/>
                    </a:lnTo>
                    <a:lnTo>
                      <a:pt x="81" y="5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819840" y="3328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7" h="55">
                    <a:moveTo>
                      <a:pt x="77" y="53"/>
                    </a:moveTo>
                    <a:lnTo>
                      <a:pt x="1" y="5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74" y="1"/>
                    </a:lnTo>
                    <a:lnTo>
                      <a:pt x="74" y="0"/>
                    </a:lnTo>
                    <a:lnTo>
                      <a:pt x="77" y="5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6819840" y="3328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4" h="2">
                    <a:moveTo>
                      <a:pt x="74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4" y="2"/>
                    </a:lnTo>
                    <a:lnTo>
                      <a:pt x="74" y="1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6819840" y="3327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7" h="59">
                    <a:moveTo>
                      <a:pt x="74" y="59"/>
                    </a:moveTo>
                    <a:lnTo>
                      <a:pt x="0" y="57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77" y="7"/>
                    </a:lnTo>
                    <a:lnTo>
                      <a:pt x="77" y="6"/>
                    </a:lnTo>
                    <a:lnTo>
                      <a:pt x="74" y="5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6819840" y="3324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1" h="62">
                    <a:moveTo>
                      <a:pt x="76" y="62"/>
                    </a:moveTo>
                    <a:lnTo>
                      <a:pt x="0" y="55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80" y="11"/>
                    </a:lnTo>
                    <a:lnTo>
                      <a:pt x="81" y="10"/>
                    </a:lnTo>
                    <a:lnTo>
                      <a:pt x="76" y="6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6819840" y="3321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3" h="67">
                    <a:moveTo>
                      <a:pt x="75" y="67"/>
                    </a:moveTo>
                    <a:lnTo>
                      <a:pt x="0" y="56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3" y="15"/>
                    </a:lnTo>
                    <a:lnTo>
                      <a:pt x="83" y="14"/>
                    </a:lnTo>
                    <a:lnTo>
                      <a:pt x="75" y="6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6819840" y="3319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5" h="71">
                    <a:moveTo>
                      <a:pt x="75" y="71"/>
                    </a:moveTo>
                    <a:lnTo>
                      <a:pt x="0" y="56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75" y="7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6821280" y="3316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72" y="74"/>
                    </a:moveTo>
                    <a:lnTo>
                      <a:pt x="0" y="54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85" y="23"/>
                    </a:lnTo>
                    <a:lnTo>
                      <a:pt x="86" y="22"/>
                    </a:lnTo>
                    <a:lnTo>
                      <a:pt x="72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6821280" y="33148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89" h="78">
                    <a:moveTo>
                      <a:pt x="71" y="78"/>
                    </a:moveTo>
                    <a:lnTo>
                      <a:pt x="0" y="55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89" y="28"/>
                    </a:lnTo>
                    <a:lnTo>
                      <a:pt x="89" y="26"/>
                    </a:lnTo>
                    <a:lnTo>
                      <a:pt x="71" y="7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823080" y="331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90" h="81">
                    <a:moveTo>
                      <a:pt x="71" y="81"/>
                    </a:moveTo>
                    <a:lnTo>
                      <a:pt x="0" y="53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90" y="30"/>
                    </a:lnTo>
                    <a:lnTo>
                      <a:pt x="90" y="29"/>
                    </a:lnTo>
                    <a:lnTo>
                      <a:pt x="71" y="8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823080" y="3310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91" h="84">
                    <a:moveTo>
                      <a:pt x="69" y="84"/>
                    </a:moveTo>
                    <a:lnTo>
                      <a:pt x="0" y="54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91" y="33"/>
                    </a:lnTo>
                    <a:lnTo>
                      <a:pt x="91" y="32"/>
                    </a:lnTo>
                    <a:lnTo>
                      <a:pt x="69" y="8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824520" y="3306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93" h="86">
                    <a:moveTo>
                      <a:pt x="67" y="86"/>
                    </a:moveTo>
                    <a:lnTo>
                      <a:pt x="0" y="53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93" y="37"/>
                    </a:lnTo>
                    <a:lnTo>
                      <a:pt x="93" y="36"/>
                    </a:lnTo>
                    <a:lnTo>
                      <a:pt x="67" y="8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6826320" y="3305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94" h="90">
                    <a:moveTo>
                      <a:pt x="66" y="90"/>
                    </a:moveTo>
                    <a:lnTo>
                      <a:pt x="0" y="53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94" y="39"/>
                    </a:lnTo>
                    <a:lnTo>
                      <a:pt x="94" y="39"/>
                    </a:lnTo>
                    <a:lnTo>
                      <a:pt x="66" y="9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6826320" y="33037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6" h="92">
                    <a:moveTo>
                      <a:pt x="64" y="92"/>
                    </a:moveTo>
                    <a:lnTo>
                      <a:pt x="0" y="53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95" y="43"/>
                    </a:lnTo>
                    <a:lnTo>
                      <a:pt x="96" y="43"/>
                    </a:lnTo>
                    <a:lnTo>
                      <a:pt x="64" y="9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827760" y="3300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7" h="94">
                    <a:moveTo>
                      <a:pt x="62" y="94"/>
                    </a:moveTo>
                    <a:lnTo>
                      <a:pt x="0" y="51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97" y="44"/>
                    </a:lnTo>
                    <a:lnTo>
                      <a:pt x="97" y="44"/>
                    </a:lnTo>
                    <a:lnTo>
                      <a:pt x="62" y="9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6829200" y="32990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97" h="96">
                    <a:moveTo>
                      <a:pt x="61" y="96"/>
                    </a:moveTo>
                    <a:lnTo>
                      <a:pt x="0" y="52"/>
                    </a:lnTo>
                    <a:lnTo>
                      <a:pt x="38" y="1"/>
                    </a:lnTo>
                    <a:lnTo>
                      <a:pt x="38" y="0"/>
                    </a:lnTo>
                    <a:lnTo>
                      <a:pt x="97" y="48"/>
                    </a:lnTo>
                    <a:lnTo>
                      <a:pt x="97" y="47"/>
                    </a:lnTo>
                    <a:lnTo>
                      <a:pt x="61" y="9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6831000" y="3295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9" y="98"/>
                    </a:moveTo>
                    <a:lnTo>
                      <a:pt x="0" y="50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99" y="49"/>
                    </a:lnTo>
                    <a:lnTo>
                      <a:pt x="99" y="48"/>
                    </a:lnTo>
                    <a:lnTo>
                      <a:pt x="59" y="9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6834240" y="32940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57" y="100"/>
                    </a:moveTo>
                    <a:lnTo>
                      <a:pt x="0" y="51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99" y="52"/>
                    </a:lnTo>
                    <a:lnTo>
                      <a:pt x="100" y="51"/>
                    </a:lnTo>
                    <a:lnTo>
                      <a:pt x="57" y="10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6835680" y="3291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1" h="101">
                    <a:moveTo>
                      <a:pt x="55" y="101"/>
                    </a:moveTo>
                    <a:lnTo>
                      <a:pt x="0" y="49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55" y="10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837480" y="3289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4" y="102"/>
                    </a:moveTo>
                    <a:lnTo>
                      <a:pt x="0" y="50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102" y="55"/>
                    </a:lnTo>
                    <a:lnTo>
                      <a:pt x="102" y="55"/>
                    </a:lnTo>
                    <a:lnTo>
                      <a:pt x="54" y="10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840360" y="3287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03" h="103">
                    <a:moveTo>
                      <a:pt x="52" y="103"/>
                    </a:moveTo>
                    <a:lnTo>
                      <a:pt x="0" y="48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103" y="55"/>
                    </a:lnTo>
                    <a:lnTo>
                      <a:pt x="103" y="55"/>
                    </a:lnTo>
                    <a:lnTo>
                      <a:pt x="52" y="10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842160" y="328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50" y="104"/>
                    </a:moveTo>
                    <a:lnTo>
                      <a:pt x="0" y="49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103" y="58"/>
                    </a:lnTo>
                    <a:lnTo>
                      <a:pt x="104" y="57"/>
                    </a:lnTo>
                    <a:lnTo>
                      <a:pt x="50" y="10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845400" y="3283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48" y="105"/>
                    </a:moveTo>
                    <a:lnTo>
                      <a:pt x="0" y="47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104" y="58"/>
                    </a:lnTo>
                    <a:lnTo>
                      <a:pt x="104" y="57"/>
                    </a:lnTo>
                    <a:lnTo>
                      <a:pt x="48" y="10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846840" y="3281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47" y="106"/>
                    </a:moveTo>
                    <a:lnTo>
                      <a:pt x="0" y="48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106" y="60"/>
                    </a:lnTo>
                    <a:lnTo>
                      <a:pt x="106" y="60"/>
                    </a:lnTo>
                    <a:lnTo>
                      <a:pt x="47" y="10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850080" y="3278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8" h="106">
                    <a:moveTo>
                      <a:pt x="46" y="106"/>
                    </a:moveTo>
                    <a:lnTo>
                      <a:pt x="0" y="46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108" y="60"/>
                    </a:lnTo>
                    <a:lnTo>
                      <a:pt x="108" y="59"/>
                    </a:lnTo>
                    <a:lnTo>
                      <a:pt x="46" y="10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853320" y="32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44" y="107"/>
                    </a:moveTo>
                    <a:lnTo>
                      <a:pt x="0" y="47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107" y="62"/>
                    </a:lnTo>
                    <a:lnTo>
                      <a:pt x="108" y="62"/>
                    </a:lnTo>
                    <a:lnTo>
                      <a:pt x="44" y="10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6854760" y="3274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42" y="108"/>
                    </a:moveTo>
                    <a:lnTo>
                      <a:pt x="0" y="46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108" y="63"/>
                    </a:lnTo>
                    <a:lnTo>
                      <a:pt x="109" y="62"/>
                    </a:lnTo>
                    <a:lnTo>
                      <a:pt x="42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6858000" y="327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0" h="108">
                    <a:moveTo>
                      <a:pt x="41" y="108"/>
                    </a:moveTo>
                    <a:lnTo>
                      <a:pt x="0" y="45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110" y="64"/>
                    </a:lnTo>
                    <a:lnTo>
                      <a:pt x="110" y="63"/>
                    </a:lnTo>
                    <a:lnTo>
                      <a:pt x="41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6861240" y="3270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1" h="108">
                    <a:moveTo>
                      <a:pt x="39" y="108"/>
                    </a:moveTo>
                    <a:lnTo>
                      <a:pt x="0" y="44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39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864120" y="3268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2" h="108">
                    <a:moveTo>
                      <a:pt x="39" y="108"/>
                    </a:moveTo>
                    <a:lnTo>
                      <a:pt x="0" y="45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39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867360" y="3267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3" h="108">
                    <a:moveTo>
                      <a:pt x="36" y="108"/>
                    </a:moveTo>
                    <a:lnTo>
                      <a:pt x="0" y="43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113" y="65"/>
                    </a:lnTo>
                    <a:lnTo>
                      <a:pt x="113" y="65"/>
                    </a:lnTo>
                    <a:lnTo>
                      <a:pt x="36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870600" y="3265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5" h="109">
                    <a:moveTo>
                      <a:pt x="37" y="109"/>
                    </a:moveTo>
                    <a:lnTo>
                      <a:pt x="0" y="44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115" y="67"/>
                    </a:lnTo>
                    <a:lnTo>
                      <a:pt x="115" y="67"/>
                    </a:lnTo>
                    <a:lnTo>
                      <a:pt x="37" y="10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875280" y="32641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5" h="109">
                    <a:moveTo>
                      <a:pt x="34" y="109"/>
                    </a:moveTo>
                    <a:lnTo>
                      <a:pt x="0" y="42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115" y="68"/>
                    </a:lnTo>
                    <a:lnTo>
                      <a:pt x="115" y="67"/>
                    </a:lnTo>
                    <a:lnTo>
                      <a:pt x="34" y="10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6878520" y="3260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8" h="110">
                    <a:moveTo>
                      <a:pt x="34" y="110"/>
                    </a:moveTo>
                    <a:lnTo>
                      <a:pt x="0" y="42"/>
                    </a:lnTo>
                    <a:lnTo>
                      <a:pt x="84" y="0"/>
                    </a:lnTo>
                    <a:lnTo>
                      <a:pt x="85" y="0"/>
                    </a:lnTo>
                    <a:lnTo>
                      <a:pt x="118" y="68"/>
                    </a:lnTo>
                    <a:lnTo>
                      <a:pt x="118" y="68"/>
                    </a:lnTo>
                    <a:lnTo>
                      <a:pt x="34" y="11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881760" y="325908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18" h="109">
                    <a:moveTo>
                      <a:pt x="33" y="109"/>
                    </a:moveTo>
                    <a:lnTo>
                      <a:pt x="0" y="41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117" y="68"/>
                    </a:lnTo>
                    <a:lnTo>
                      <a:pt x="118" y="68"/>
                    </a:lnTo>
                    <a:lnTo>
                      <a:pt x="33" y="10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886440" y="3257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0" h="108">
                    <a:moveTo>
                      <a:pt x="31" y="108"/>
                    </a:moveTo>
                    <a:lnTo>
                      <a:pt x="0" y="4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119" y="68"/>
                    </a:lnTo>
                    <a:lnTo>
                      <a:pt x="120" y="68"/>
                    </a:lnTo>
                    <a:lnTo>
                      <a:pt x="31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6889680" y="3256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31" y="108"/>
                    </a:moveTo>
                    <a:lnTo>
                      <a:pt x="0" y="40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122" y="69"/>
                    </a:lnTo>
                    <a:lnTo>
                      <a:pt x="122" y="69"/>
                    </a:lnTo>
                    <a:lnTo>
                      <a:pt x="31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6894360" y="32544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23" h="108">
                    <a:moveTo>
                      <a:pt x="31" y="108"/>
                    </a:moveTo>
                    <a:lnTo>
                      <a:pt x="0" y="39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123" y="68"/>
                    </a:lnTo>
                    <a:lnTo>
                      <a:pt x="123" y="68"/>
                    </a:lnTo>
                    <a:lnTo>
                      <a:pt x="31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897600" y="32529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3" h="108">
                    <a:moveTo>
                      <a:pt x="29" y="108"/>
                    </a:moveTo>
                    <a:lnTo>
                      <a:pt x="0" y="4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123" y="70"/>
                    </a:lnTo>
                    <a:lnTo>
                      <a:pt x="123" y="70"/>
                    </a:ln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902280" y="3251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24" h="107">
                    <a:moveTo>
                      <a:pt x="28" y="107"/>
                    </a:moveTo>
                    <a:lnTo>
                      <a:pt x="0" y="37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28" y="10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6907320" y="324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5" h="108">
                    <a:moveTo>
                      <a:pt x="27" y="108"/>
                    </a:moveTo>
                    <a:lnTo>
                      <a:pt x="0" y="38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25" y="70"/>
                    </a:lnTo>
                    <a:lnTo>
                      <a:pt x="125" y="70"/>
                    </a:lnTo>
                    <a:lnTo>
                      <a:pt x="27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910200" y="3248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6" h="107">
                    <a:moveTo>
                      <a:pt x="25" y="107"/>
                    </a:moveTo>
                    <a:lnTo>
                      <a:pt x="0" y="37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25" y="71"/>
                    </a:lnTo>
                    <a:lnTo>
                      <a:pt x="126" y="71"/>
                    </a:lnTo>
                    <a:lnTo>
                      <a:pt x="25" y="10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915240" y="3246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7" h="106">
                    <a:moveTo>
                      <a:pt x="24" y="106"/>
                    </a:moveTo>
                    <a:lnTo>
                      <a:pt x="0" y="35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27" y="70"/>
                    </a:lnTo>
                    <a:lnTo>
                      <a:pt x="127" y="70"/>
                    </a:lnTo>
                    <a:lnTo>
                      <a:pt x="24" y="10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919920" y="32450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4" y="106"/>
                    </a:moveTo>
                    <a:lnTo>
                      <a:pt x="0" y="36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28" y="71"/>
                    </a:lnTo>
                    <a:lnTo>
                      <a:pt x="129" y="71"/>
                    </a:lnTo>
                    <a:lnTo>
                      <a:pt x="24" y="10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924600" y="32432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31" h="106">
                    <a:moveTo>
                      <a:pt x="23" y="106"/>
                    </a:moveTo>
                    <a:lnTo>
                      <a:pt x="0" y="35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31" y="72"/>
                    </a:lnTo>
                    <a:lnTo>
                      <a:pt x="131" y="72"/>
                    </a:lnTo>
                    <a:lnTo>
                      <a:pt x="23" y="10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929280" y="3241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2" h="105">
                    <a:moveTo>
                      <a:pt x="24" y="105"/>
                    </a:moveTo>
                    <a:lnTo>
                      <a:pt x="0" y="33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32" y="71"/>
                    </a:lnTo>
                    <a:lnTo>
                      <a:pt x="132" y="70"/>
                    </a:lnTo>
                    <a:lnTo>
                      <a:pt x="24" y="10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934320" y="3240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33" h="105">
                    <a:moveTo>
                      <a:pt x="23" y="105"/>
                    </a:moveTo>
                    <a:lnTo>
                      <a:pt x="0" y="34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33" y="72"/>
                    </a:lnTo>
                    <a:lnTo>
                      <a:pt x="133" y="72"/>
                    </a:lnTo>
                    <a:lnTo>
                      <a:pt x="23" y="10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939000" y="32385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22" y="104"/>
                    </a:moveTo>
                    <a:lnTo>
                      <a:pt x="0" y="32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34" y="72"/>
                    </a:lnTo>
                    <a:lnTo>
                      <a:pt x="134" y="72"/>
                    </a:lnTo>
                    <a:lnTo>
                      <a:pt x="22" y="10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943680" y="3237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20" y="104"/>
                    </a:moveTo>
                    <a:lnTo>
                      <a:pt x="0" y="32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33" y="72"/>
                    </a:lnTo>
                    <a:lnTo>
                      <a:pt x="134" y="72"/>
                    </a:lnTo>
                    <a:lnTo>
                      <a:pt x="20" y="10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6948360" y="32353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6" h="104">
                    <a:moveTo>
                      <a:pt x="19" y="104"/>
                    </a:moveTo>
                    <a:lnTo>
                      <a:pt x="0" y="32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36" y="73"/>
                    </a:lnTo>
                    <a:lnTo>
                      <a:pt x="136" y="73"/>
                    </a:lnTo>
                    <a:lnTo>
                      <a:pt x="19" y="10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954840" y="3233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20" y="103"/>
                    </a:moveTo>
                    <a:lnTo>
                      <a:pt x="0" y="3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37" y="73"/>
                    </a:lnTo>
                    <a:lnTo>
                      <a:pt x="137" y="73"/>
                    </a:lnTo>
                    <a:lnTo>
                      <a:pt x="20" y="10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959520" y="32338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37" h="102">
                    <a:moveTo>
                      <a:pt x="18" y="102"/>
                    </a:moveTo>
                    <a:lnTo>
                      <a:pt x="0" y="29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37" y="72"/>
                    </a:lnTo>
                    <a:lnTo>
                      <a:pt x="137" y="72"/>
                    </a:lnTo>
                    <a:lnTo>
                      <a:pt x="18" y="10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964200" y="323208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39" h="101">
                    <a:moveTo>
                      <a:pt x="17" y="101"/>
                    </a:moveTo>
                    <a:lnTo>
                      <a:pt x="0" y="29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38" y="73"/>
                    </a:lnTo>
                    <a:lnTo>
                      <a:pt x="139" y="73"/>
                    </a:lnTo>
                    <a:lnTo>
                      <a:pt x="17" y="10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970680" y="3230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40" h="101">
                    <a:moveTo>
                      <a:pt x="17" y="101"/>
                    </a:moveTo>
                    <a:lnTo>
                      <a:pt x="0" y="28"/>
                    </a:lnTo>
                    <a:lnTo>
                      <a:pt x="123" y="0"/>
                    </a:lnTo>
                    <a:lnTo>
                      <a:pt x="124" y="0"/>
                    </a:lnTo>
                    <a:lnTo>
                      <a:pt x="140" y="73"/>
                    </a:lnTo>
                    <a:lnTo>
                      <a:pt x="140" y="73"/>
                    </a:lnTo>
                    <a:lnTo>
                      <a:pt x="17" y="10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975360" y="32292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0" h="100">
                    <a:moveTo>
                      <a:pt x="16" y="100"/>
                    </a:moveTo>
                    <a:lnTo>
                      <a:pt x="0" y="27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40" y="73"/>
                    </a:lnTo>
                    <a:lnTo>
                      <a:pt x="140" y="73"/>
                    </a:lnTo>
                    <a:lnTo>
                      <a:pt x="16" y="10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980040" y="3229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42" h="100">
                    <a:moveTo>
                      <a:pt x="16" y="100"/>
                    </a:moveTo>
                    <a:lnTo>
                      <a:pt x="0" y="27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42" y="74"/>
                    </a:lnTo>
                    <a:lnTo>
                      <a:pt x="142" y="74"/>
                    </a:lnTo>
                    <a:lnTo>
                      <a:pt x="16" y="10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986520" y="32274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3" h="99">
                    <a:moveTo>
                      <a:pt x="15" y="99"/>
                    </a:moveTo>
                    <a:lnTo>
                      <a:pt x="0" y="25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42" y="73"/>
                    </a:lnTo>
                    <a:lnTo>
                      <a:pt x="143" y="73"/>
                    </a:lnTo>
                    <a:lnTo>
                      <a:pt x="15" y="9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993000" y="32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44" h="98">
                    <a:moveTo>
                      <a:pt x="15" y="98"/>
                    </a:moveTo>
                    <a:lnTo>
                      <a:pt x="0" y="25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44" y="74"/>
                    </a:lnTo>
                    <a:lnTo>
                      <a:pt x="144" y="74"/>
                    </a:lnTo>
                    <a:lnTo>
                      <a:pt x="15" y="9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997680" y="32259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5" h="97">
                    <a:moveTo>
                      <a:pt x="14" y="97"/>
                    </a:moveTo>
                    <a:lnTo>
                      <a:pt x="0" y="23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45" y="73"/>
                    </a:lnTo>
                    <a:lnTo>
                      <a:pt x="145" y="73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004160" y="32241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44" h="97">
                    <a:moveTo>
                      <a:pt x="13" y="97"/>
                    </a:moveTo>
                    <a:lnTo>
                      <a:pt x="0" y="24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44" y="74"/>
                    </a:lnTo>
                    <a:lnTo>
                      <a:pt x="144" y="74"/>
                    </a:lnTo>
                    <a:lnTo>
                      <a:pt x="13" y="9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008840" y="3222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46" h="96">
                    <a:moveTo>
                      <a:pt x="12" y="96"/>
                    </a:moveTo>
                    <a:lnTo>
                      <a:pt x="0" y="22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46" y="74"/>
                    </a:lnTo>
                    <a:lnTo>
                      <a:pt x="146" y="74"/>
                    </a:lnTo>
                    <a:lnTo>
                      <a:pt x="12" y="9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014960" y="32227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7" h="95">
                    <a:moveTo>
                      <a:pt x="12" y="95"/>
                    </a:moveTo>
                    <a:lnTo>
                      <a:pt x="0" y="21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47" y="74"/>
                    </a:lnTo>
                    <a:lnTo>
                      <a:pt x="147" y="74"/>
                    </a:lnTo>
                    <a:lnTo>
                      <a:pt x="12" y="9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021440" y="3221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2" y="94"/>
                    </a:moveTo>
                    <a:lnTo>
                      <a:pt x="0" y="2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47" y="74"/>
                    </a:lnTo>
                    <a:lnTo>
                      <a:pt x="147" y="74"/>
                    </a:lnTo>
                    <a:lnTo>
                      <a:pt x="12" y="9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027920" y="3221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48" h="94">
                    <a:moveTo>
                      <a:pt x="10" y="94"/>
                    </a:moveTo>
                    <a:lnTo>
                      <a:pt x="0" y="20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48" y="74"/>
                    </a:lnTo>
                    <a:lnTo>
                      <a:pt x="148" y="74"/>
                    </a:lnTo>
                    <a:lnTo>
                      <a:pt x="10" y="9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034040" y="32194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10" y="93"/>
                    </a:moveTo>
                    <a:lnTo>
                      <a:pt x="0" y="19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9" y="74"/>
                    </a:lnTo>
                    <a:lnTo>
                      <a:pt x="149" y="74"/>
                    </a:lnTo>
                    <a:lnTo>
                      <a:pt x="10" y="9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039080" y="32194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0" h="92">
                    <a:moveTo>
                      <a:pt x="9" y="92"/>
                    </a:moveTo>
                    <a:lnTo>
                      <a:pt x="0" y="18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50" y="75"/>
                    </a:lnTo>
                    <a:lnTo>
                      <a:pt x="150" y="75"/>
                    </a:lnTo>
                    <a:lnTo>
                      <a:pt x="9" y="9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045200" y="32180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10" y="91"/>
                    </a:moveTo>
                    <a:lnTo>
                      <a:pt x="0" y="16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50" y="74"/>
                    </a:lnTo>
                    <a:lnTo>
                      <a:pt x="150" y="74"/>
                    </a:lnTo>
                    <a:lnTo>
                      <a:pt x="10" y="9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051680" y="3218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1" h="90">
                    <a:moveTo>
                      <a:pt x="8" y="90"/>
                    </a:moveTo>
                    <a:lnTo>
                      <a:pt x="0" y="16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51" y="75"/>
                    </a:lnTo>
                    <a:lnTo>
                      <a:pt x="151" y="75"/>
                    </a:lnTo>
                    <a:lnTo>
                      <a:pt x="8" y="9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057800" y="321624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152" h="90">
                    <a:moveTo>
                      <a:pt x="8" y="90"/>
                    </a:moveTo>
                    <a:lnTo>
                      <a:pt x="0" y="15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52" y="74"/>
                    </a:lnTo>
                    <a:lnTo>
                      <a:pt x="152" y="74"/>
                    </a:lnTo>
                    <a:lnTo>
                      <a:pt x="8" y="9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064280" y="3216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7" y="88"/>
                    </a:moveTo>
                    <a:lnTo>
                      <a:pt x="0" y="14"/>
                    </a:lnTo>
                    <a:lnTo>
                      <a:pt x="145" y="0"/>
                    </a:lnTo>
                    <a:lnTo>
                      <a:pt x="146" y="0"/>
                    </a:lnTo>
                    <a:lnTo>
                      <a:pt x="152" y="74"/>
                    </a:lnTo>
                    <a:lnTo>
                      <a:pt x="152" y="74"/>
                    </a:lnTo>
                    <a:lnTo>
                      <a:pt x="7" y="8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070760" y="3216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2" h="87">
                    <a:moveTo>
                      <a:pt x="6" y="87"/>
                    </a:moveTo>
                    <a:lnTo>
                      <a:pt x="0" y="13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52" y="75"/>
                    </a:lnTo>
                    <a:lnTo>
                      <a:pt x="152" y="75"/>
                    </a:lnTo>
                    <a:lnTo>
                      <a:pt x="6" y="8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076880" y="32148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4" h="87">
                    <a:moveTo>
                      <a:pt x="6" y="87"/>
                    </a:moveTo>
                    <a:lnTo>
                      <a:pt x="0" y="12"/>
                    </a:lnTo>
                    <a:lnTo>
                      <a:pt x="148" y="0"/>
                    </a:lnTo>
                    <a:lnTo>
                      <a:pt x="148" y="0"/>
                    </a:lnTo>
                    <a:lnTo>
                      <a:pt x="154" y="75"/>
                    </a:lnTo>
                    <a:lnTo>
                      <a:pt x="154" y="75"/>
                    </a:lnTo>
                    <a:lnTo>
                      <a:pt x="6" y="8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084800" y="32148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4" h="86">
                    <a:moveTo>
                      <a:pt x="6" y="86"/>
                    </a:moveTo>
                    <a:lnTo>
                      <a:pt x="0" y="11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54" y="75"/>
                    </a:lnTo>
                    <a:lnTo>
                      <a:pt x="154" y="75"/>
                    </a:lnTo>
                    <a:lnTo>
                      <a:pt x="6" y="8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091280" y="32148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5" h="85">
                    <a:moveTo>
                      <a:pt x="5" y="85"/>
                    </a:moveTo>
                    <a:lnTo>
                      <a:pt x="0" y="10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4" y="75"/>
                    </a:lnTo>
                    <a:lnTo>
                      <a:pt x="155" y="75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097760" y="3213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55" h="84">
                    <a:moveTo>
                      <a:pt x="4" y="84"/>
                    </a:moveTo>
                    <a:lnTo>
                      <a:pt x="0" y="9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5" y="75"/>
                    </a:lnTo>
                    <a:lnTo>
                      <a:pt x="155" y="75"/>
                    </a:lnTo>
                    <a:lnTo>
                      <a:pt x="4" y="8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103880" y="32133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55" h="83">
                    <a:moveTo>
                      <a:pt x="4" y="83"/>
                    </a:moveTo>
                    <a:lnTo>
                      <a:pt x="0" y="8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5" y="75"/>
                    </a:lnTo>
                    <a:lnTo>
                      <a:pt x="155" y="75"/>
                    </a:lnTo>
                    <a:lnTo>
                      <a:pt x="4" y="8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110360" y="32133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156" h="82">
                    <a:moveTo>
                      <a:pt x="3" y="82"/>
                    </a:moveTo>
                    <a:lnTo>
                      <a:pt x="0" y="7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5" y="75"/>
                    </a:lnTo>
                    <a:lnTo>
                      <a:pt x="156" y="75"/>
                    </a:lnTo>
                    <a:lnTo>
                      <a:pt x="3" y="8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116840" y="32133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156" h="80">
                    <a:moveTo>
                      <a:pt x="2" y="80"/>
                    </a:moveTo>
                    <a:lnTo>
                      <a:pt x="0" y="5"/>
                    </a:lnTo>
                    <a:lnTo>
                      <a:pt x="153" y="0"/>
                    </a:lnTo>
                    <a:lnTo>
                      <a:pt x="153" y="0"/>
                    </a:lnTo>
                    <a:lnTo>
                      <a:pt x="156" y="74"/>
                    </a:lnTo>
                    <a:lnTo>
                      <a:pt x="156" y="74"/>
                    </a:lnTo>
                    <a:lnTo>
                      <a:pt x="2" y="8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124760" y="32133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57" h="79">
                    <a:moveTo>
                      <a:pt x="3" y="79"/>
                    </a:moveTo>
                    <a:lnTo>
                      <a:pt x="0" y="5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7" y="74"/>
                    </a:lnTo>
                    <a:lnTo>
                      <a:pt x="157" y="74"/>
                    </a:lnTo>
                    <a:lnTo>
                      <a:pt x="3" y="7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130880" y="32133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57" h="78">
                    <a:moveTo>
                      <a:pt x="2" y="78"/>
                    </a:moveTo>
                    <a:lnTo>
                      <a:pt x="0" y="4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6" y="74"/>
                    </a:lnTo>
                    <a:lnTo>
                      <a:pt x="157" y="74"/>
                    </a:lnTo>
                    <a:lnTo>
                      <a:pt x="2" y="7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137360" y="32115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7" h="77">
                    <a:moveTo>
                      <a:pt x="1" y="77"/>
                    </a:moveTo>
                    <a:lnTo>
                      <a:pt x="0" y="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7" y="74"/>
                    </a:lnTo>
                    <a:lnTo>
                      <a:pt x="157" y="74"/>
                    </a:lnTo>
                    <a:lnTo>
                      <a:pt x="1" y="7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145280" y="3211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1" y="75"/>
                    </a:moveTo>
                    <a:lnTo>
                      <a:pt x="0" y="1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8" y="74"/>
                    </a:lnTo>
                    <a:lnTo>
                      <a:pt x="158" y="74"/>
                    </a:lnTo>
                    <a:lnTo>
                      <a:pt x="1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151760" y="32115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1" y="75"/>
                    </a:moveTo>
                    <a:lnTo>
                      <a:pt x="0" y="1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74"/>
                    </a:lnTo>
                    <a:lnTo>
                      <a:pt x="158" y="74"/>
                    </a:lnTo>
                    <a:lnTo>
                      <a:pt x="1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157880" y="3211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0" h="74">
                    <a:moveTo>
                      <a:pt x="0" y="7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824520" y="2836800"/>
                <a:ext cx="674640" cy="493920"/>
              </a:xfrm>
              <a:custGeom>
                <a:avLst/>
                <a:gdLst/>
                <a:ahLst/>
                <a:rect l="l" t="t" r="r" b="b"/>
                <a:pathLst>
                  <a:path w="15314" h="11212">
                    <a:moveTo>
                      <a:pt x="0" y="0"/>
                    </a:moveTo>
                    <a:lnTo>
                      <a:pt x="0" y="11212"/>
                    </a:lnTo>
                    <a:lnTo>
                      <a:pt x="15314" y="11212"/>
                    </a:lnTo>
                    <a:lnTo>
                      <a:pt x="153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902280" y="2963880"/>
                <a:ext cx="520920" cy="420840"/>
              </a:xfrm>
              <a:custGeom>
                <a:avLst/>
                <a:gdLst/>
                <a:ahLst/>
                <a:rect l="l" t="t" r="r" b="b"/>
                <a:pathLst>
                  <a:path w="11790" h="9531">
                    <a:moveTo>
                      <a:pt x="1698" y="0"/>
                    </a:moveTo>
                    <a:lnTo>
                      <a:pt x="1698" y="1215"/>
                    </a:lnTo>
                    <a:lnTo>
                      <a:pt x="4433" y="1215"/>
                    </a:lnTo>
                    <a:lnTo>
                      <a:pt x="5848" y="3738"/>
                    </a:lnTo>
                    <a:lnTo>
                      <a:pt x="7357" y="1215"/>
                    </a:lnTo>
                    <a:lnTo>
                      <a:pt x="10092" y="1215"/>
                    </a:lnTo>
                    <a:lnTo>
                      <a:pt x="10092" y="0"/>
                    </a:lnTo>
                    <a:lnTo>
                      <a:pt x="11790" y="1496"/>
                    </a:lnTo>
                    <a:lnTo>
                      <a:pt x="10092" y="2991"/>
                    </a:lnTo>
                    <a:lnTo>
                      <a:pt x="10092" y="1963"/>
                    </a:lnTo>
                    <a:lnTo>
                      <a:pt x="8111" y="1963"/>
                    </a:lnTo>
                    <a:lnTo>
                      <a:pt x="6508" y="4765"/>
                    </a:lnTo>
                    <a:lnTo>
                      <a:pt x="8111" y="7662"/>
                    </a:lnTo>
                    <a:lnTo>
                      <a:pt x="10092" y="7662"/>
                    </a:lnTo>
                    <a:lnTo>
                      <a:pt x="10092" y="6634"/>
                    </a:lnTo>
                    <a:lnTo>
                      <a:pt x="11790" y="8036"/>
                    </a:lnTo>
                    <a:lnTo>
                      <a:pt x="10092" y="9531"/>
                    </a:lnTo>
                    <a:lnTo>
                      <a:pt x="10092" y="8410"/>
                    </a:lnTo>
                    <a:lnTo>
                      <a:pt x="7357" y="8410"/>
                    </a:lnTo>
                    <a:lnTo>
                      <a:pt x="5848" y="5793"/>
                    </a:lnTo>
                    <a:lnTo>
                      <a:pt x="4433" y="8503"/>
                    </a:lnTo>
                    <a:lnTo>
                      <a:pt x="1698" y="8503"/>
                    </a:lnTo>
                    <a:lnTo>
                      <a:pt x="1698" y="9531"/>
                    </a:lnTo>
                    <a:lnTo>
                      <a:pt x="0" y="8036"/>
                    </a:lnTo>
                    <a:lnTo>
                      <a:pt x="1698" y="6634"/>
                    </a:lnTo>
                    <a:lnTo>
                      <a:pt x="1698" y="7662"/>
                    </a:lnTo>
                    <a:lnTo>
                      <a:pt x="3584" y="7662"/>
                    </a:lnTo>
                    <a:lnTo>
                      <a:pt x="5282" y="4765"/>
                    </a:lnTo>
                    <a:lnTo>
                      <a:pt x="3584" y="1963"/>
                    </a:lnTo>
                    <a:lnTo>
                      <a:pt x="1698" y="1963"/>
                    </a:lnTo>
                    <a:lnTo>
                      <a:pt x="1698" y="2897"/>
                    </a:lnTo>
                    <a:lnTo>
                      <a:pt x="0" y="1496"/>
                    </a:lnTo>
                    <a:lnTo>
                      <a:pt x="1698" y="0"/>
                    </a:lnTo>
                    <a:lnTo>
                      <a:pt x="1698" y="0"/>
                    </a:lnTo>
                    <a:lnTo>
                      <a:pt x="16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907320" y="2968560"/>
                <a:ext cx="519120" cy="420840"/>
              </a:xfrm>
              <a:custGeom>
                <a:avLst/>
                <a:gdLst/>
                <a:ahLst/>
                <a:rect l="l" t="t" r="r" b="b"/>
                <a:pathLst>
                  <a:path w="11790" h="9530">
                    <a:moveTo>
                      <a:pt x="1698" y="0"/>
                    </a:moveTo>
                    <a:lnTo>
                      <a:pt x="1698" y="1215"/>
                    </a:lnTo>
                    <a:lnTo>
                      <a:pt x="4433" y="1215"/>
                    </a:lnTo>
                    <a:lnTo>
                      <a:pt x="5848" y="3738"/>
                    </a:lnTo>
                    <a:lnTo>
                      <a:pt x="7357" y="1215"/>
                    </a:lnTo>
                    <a:lnTo>
                      <a:pt x="10092" y="1215"/>
                    </a:lnTo>
                    <a:lnTo>
                      <a:pt x="10092" y="0"/>
                    </a:lnTo>
                    <a:lnTo>
                      <a:pt x="11790" y="1495"/>
                    </a:lnTo>
                    <a:lnTo>
                      <a:pt x="10092" y="2990"/>
                    </a:lnTo>
                    <a:lnTo>
                      <a:pt x="10092" y="1962"/>
                    </a:lnTo>
                    <a:lnTo>
                      <a:pt x="8112" y="1962"/>
                    </a:lnTo>
                    <a:lnTo>
                      <a:pt x="6508" y="4765"/>
                    </a:lnTo>
                    <a:lnTo>
                      <a:pt x="8112" y="7662"/>
                    </a:lnTo>
                    <a:lnTo>
                      <a:pt x="10092" y="7662"/>
                    </a:lnTo>
                    <a:lnTo>
                      <a:pt x="10092" y="6634"/>
                    </a:lnTo>
                    <a:lnTo>
                      <a:pt x="11790" y="8035"/>
                    </a:lnTo>
                    <a:lnTo>
                      <a:pt x="10092" y="9530"/>
                    </a:lnTo>
                    <a:lnTo>
                      <a:pt x="10092" y="8409"/>
                    </a:lnTo>
                    <a:lnTo>
                      <a:pt x="7357" y="8409"/>
                    </a:lnTo>
                    <a:lnTo>
                      <a:pt x="5848" y="5793"/>
                    </a:lnTo>
                    <a:lnTo>
                      <a:pt x="4433" y="8503"/>
                    </a:lnTo>
                    <a:lnTo>
                      <a:pt x="1698" y="8503"/>
                    </a:lnTo>
                    <a:lnTo>
                      <a:pt x="1698" y="9530"/>
                    </a:lnTo>
                    <a:lnTo>
                      <a:pt x="0" y="8035"/>
                    </a:lnTo>
                    <a:lnTo>
                      <a:pt x="1698" y="6634"/>
                    </a:lnTo>
                    <a:lnTo>
                      <a:pt x="1698" y="7662"/>
                    </a:lnTo>
                    <a:lnTo>
                      <a:pt x="3584" y="7662"/>
                    </a:lnTo>
                    <a:lnTo>
                      <a:pt x="5282" y="4765"/>
                    </a:lnTo>
                    <a:lnTo>
                      <a:pt x="3584" y="1962"/>
                    </a:lnTo>
                    <a:lnTo>
                      <a:pt x="1698" y="1962"/>
                    </a:lnTo>
                    <a:lnTo>
                      <a:pt x="1698" y="2897"/>
                    </a:lnTo>
                    <a:lnTo>
                      <a:pt x="0" y="1495"/>
                    </a:lnTo>
                    <a:lnTo>
                      <a:pt x="1698" y="0"/>
                    </a:lnTo>
                    <a:lnTo>
                      <a:pt x="1698" y="0"/>
                    </a:lnTo>
                    <a:lnTo>
                      <a:pt x="16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819840" y="2832120"/>
                <a:ext cx="4680" cy="506520"/>
              </a:xfrm>
              <a:custGeom>
                <a:avLst/>
                <a:gdLst/>
                <a:ahLst/>
                <a:rect l="l" t="t" r="r" b="b"/>
                <a:pathLst>
                  <a:path w="76" h="11458">
                    <a:moveTo>
                      <a:pt x="0" y="0"/>
                    </a:moveTo>
                    <a:lnTo>
                      <a:pt x="76" y="0"/>
                    </a:lnTo>
                    <a:lnTo>
                      <a:pt x="76" y="11458"/>
                    </a:lnTo>
                    <a:lnTo>
                      <a:pt x="0" y="11458"/>
                    </a:lnTo>
                    <a:lnTo>
                      <a:pt x="76" y="11458"/>
                    </a:lnTo>
                    <a:lnTo>
                      <a:pt x="0" y="114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496280" y="2828880"/>
                <a:ext cx="2880" cy="501840"/>
              </a:xfrm>
              <a:custGeom>
                <a:avLst/>
                <a:gdLst/>
                <a:ahLst/>
                <a:rect l="l" t="t" r="r" b="b"/>
                <a:pathLst>
                  <a:path w="75" h="11383">
                    <a:moveTo>
                      <a:pt x="0" y="0"/>
                    </a:moveTo>
                    <a:lnTo>
                      <a:pt x="75" y="0"/>
                    </a:lnTo>
                    <a:lnTo>
                      <a:pt x="75" y="11383"/>
                    </a:lnTo>
                    <a:lnTo>
                      <a:pt x="0" y="11383"/>
                    </a:lnTo>
                    <a:lnTo>
                      <a:pt x="75" y="11383"/>
                    </a:lnTo>
                    <a:lnTo>
                      <a:pt x="0" y="113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821280" y="2718000"/>
                <a:ext cx="675000" cy="231840"/>
              </a:xfrm>
              <a:custGeom>
                <a:avLst/>
                <a:gdLst/>
                <a:ahLst/>
                <a:rect l="l" t="t" r="r" b="b"/>
                <a:pathLst>
                  <a:path w="15293" h="5240">
                    <a:moveTo>
                      <a:pt x="7647" y="0"/>
                    </a:moveTo>
                    <a:lnTo>
                      <a:pt x="7804" y="1"/>
                    </a:lnTo>
                    <a:lnTo>
                      <a:pt x="7961" y="3"/>
                    </a:lnTo>
                    <a:lnTo>
                      <a:pt x="8117" y="5"/>
                    </a:lnTo>
                    <a:lnTo>
                      <a:pt x="8272" y="9"/>
                    </a:lnTo>
                    <a:lnTo>
                      <a:pt x="8427" y="15"/>
                    </a:lnTo>
                    <a:lnTo>
                      <a:pt x="8581" y="21"/>
                    </a:lnTo>
                    <a:lnTo>
                      <a:pt x="8733" y="28"/>
                    </a:lnTo>
                    <a:lnTo>
                      <a:pt x="8885" y="36"/>
                    </a:lnTo>
                    <a:lnTo>
                      <a:pt x="9036" y="44"/>
                    </a:lnTo>
                    <a:lnTo>
                      <a:pt x="9185" y="54"/>
                    </a:lnTo>
                    <a:lnTo>
                      <a:pt x="9333" y="65"/>
                    </a:lnTo>
                    <a:lnTo>
                      <a:pt x="9480" y="77"/>
                    </a:lnTo>
                    <a:lnTo>
                      <a:pt x="9627" y="90"/>
                    </a:lnTo>
                    <a:lnTo>
                      <a:pt x="9772" y="104"/>
                    </a:lnTo>
                    <a:lnTo>
                      <a:pt x="9917" y="119"/>
                    </a:lnTo>
                    <a:lnTo>
                      <a:pt x="10060" y="135"/>
                    </a:lnTo>
                    <a:lnTo>
                      <a:pt x="10202" y="152"/>
                    </a:lnTo>
                    <a:lnTo>
                      <a:pt x="10341" y="169"/>
                    </a:lnTo>
                    <a:lnTo>
                      <a:pt x="10481" y="187"/>
                    </a:lnTo>
                    <a:lnTo>
                      <a:pt x="10619" y="208"/>
                    </a:lnTo>
                    <a:lnTo>
                      <a:pt x="10755" y="228"/>
                    </a:lnTo>
                    <a:lnTo>
                      <a:pt x="10890" y="249"/>
                    </a:lnTo>
                    <a:lnTo>
                      <a:pt x="11024" y="271"/>
                    </a:lnTo>
                    <a:lnTo>
                      <a:pt x="11157" y="294"/>
                    </a:lnTo>
                    <a:lnTo>
                      <a:pt x="11287" y="318"/>
                    </a:lnTo>
                    <a:lnTo>
                      <a:pt x="11416" y="342"/>
                    </a:lnTo>
                    <a:lnTo>
                      <a:pt x="11544" y="368"/>
                    </a:lnTo>
                    <a:lnTo>
                      <a:pt x="11670" y="395"/>
                    </a:lnTo>
                    <a:lnTo>
                      <a:pt x="11794" y="422"/>
                    </a:lnTo>
                    <a:lnTo>
                      <a:pt x="11918" y="449"/>
                    </a:lnTo>
                    <a:lnTo>
                      <a:pt x="12039" y="478"/>
                    </a:lnTo>
                    <a:lnTo>
                      <a:pt x="12158" y="508"/>
                    </a:lnTo>
                    <a:lnTo>
                      <a:pt x="12276" y="538"/>
                    </a:lnTo>
                    <a:lnTo>
                      <a:pt x="12392" y="568"/>
                    </a:lnTo>
                    <a:lnTo>
                      <a:pt x="12506" y="601"/>
                    </a:lnTo>
                    <a:lnTo>
                      <a:pt x="12619" y="633"/>
                    </a:lnTo>
                    <a:lnTo>
                      <a:pt x="12730" y="665"/>
                    </a:lnTo>
                    <a:lnTo>
                      <a:pt x="12838" y="700"/>
                    </a:lnTo>
                    <a:lnTo>
                      <a:pt x="12945" y="734"/>
                    </a:lnTo>
                    <a:lnTo>
                      <a:pt x="13050" y="770"/>
                    </a:lnTo>
                    <a:lnTo>
                      <a:pt x="13153" y="806"/>
                    </a:lnTo>
                    <a:lnTo>
                      <a:pt x="13254" y="842"/>
                    </a:lnTo>
                    <a:lnTo>
                      <a:pt x="13352" y="880"/>
                    </a:lnTo>
                    <a:lnTo>
                      <a:pt x="13449" y="917"/>
                    </a:lnTo>
                    <a:lnTo>
                      <a:pt x="13544" y="956"/>
                    </a:lnTo>
                    <a:lnTo>
                      <a:pt x="13637" y="995"/>
                    </a:lnTo>
                    <a:lnTo>
                      <a:pt x="13726" y="1034"/>
                    </a:lnTo>
                    <a:lnTo>
                      <a:pt x="13815" y="1075"/>
                    </a:lnTo>
                    <a:lnTo>
                      <a:pt x="13901" y="1116"/>
                    </a:lnTo>
                    <a:lnTo>
                      <a:pt x="13985" y="1158"/>
                    </a:lnTo>
                    <a:lnTo>
                      <a:pt x="14066" y="1200"/>
                    </a:lnTo>
                    <a:lnTo>
                      <a:pt x="14146" y="1243"/>
                    </a:lnTo>
                    <a:lnTo>
                      <a:pt x="14222" y="1285"/>
                    </a:lnTo>
                    <a:lnTo>
                      <a:pt x="14297" y="1330"/>
                    </a:lnTo>
                    <a:lnTo>
                      <a:pt x="14368" y="1374"/>
                    </a:lnTo>
                    <a:lnTo>
                      <a:pt x="14439" y="1418"/>
                    </a:lnTo>
                    <a:lnTo>
                      <a:pt x="14505" y="1464"/>
                    </a:lnTo>
                    <a:lnTo>
                      <a:pt x="14570" y="1509"/>
                    </a:lnTo>
                    <a:lnTo>
                      <a:pt x="14631" y="1556"/>
                    </a:lnTo>
                    <a:lnTo>
                      <a:pt x="14692" y="1602"/>
                    </a:lnTo>
                    <a:lnTo>
                      <a:pt x="14748" y="1650"/>
                    </a:lnTo>
                    <a:lnTo>
                      <a:pt x="14803" y="1697"/>
                    </a:lnTo>
                    <a:lnTo>
                      <a:pt x="14854" y="1745"/>
                    </a:lnTo>
                    <a:lnTo>
                      <a:pt x="14903" y="1794"/>
                    </a:lnTo>
                    <a:lnTo>
                      <a:pt x="14949" y="1843"/>
                    </a:lnTo>
                    <a:lnTo>
                      <a:pt x="14993" y="1892"/>
                    </a:lnTo>
                    <a:lnTo>
                      <a:pt x="15033" y="1942"/>
                    </a:lnTo>
                    <a:lnTo>
                      <a:pt x="15071" y="1993"/>
                    </a:lnTo>
                    <a:lnTo>
                      <a:pt x="15106" y="2043"/>
                    </a:lnTo>
                    <a:lnTo>
                      <a:pt x="15138" y="2094"/>
                    </a:lnTo>
                    <a:lnTo>
                      <a:pt x="15167" y="2145"/>
                    </a:lnTo>
                    <a:lnTo>
                      <a:pt x="15193" y="2197"/>
                    </a:lnTo>
                    <a:lnTo>
                      <a:pt x="15217" y="2248"/>
                    </a:lnTo>
                    <a:lnTo>
                      <a:pt x="15237" y="2301"/>
                    </a:lnTo>
                    <a:lnTo>
                      <a:pt x="15255" y="2353"/>
                    </a:lnTo>
                    <a:lnTo>
                      <a:pt x="15268" y="2406"/>
                    </a:lnTo>
                    <a:lnTo>
                      <a:pt x="15279" y="2460"/>
                    </a:lnTo>
                    <a:lnTo>
                      <a:pt x="15287" y="2513"/>
                    </a:lnTo>
                    <a:lnTo>
                      <a:pt x="15292" y="2567"/>
                    </a:lnTo>
                    <a:lnTo>
                      <a:pt x="15293" y="2620"/>
                    </a:lnTo>
                    <a:lnTo>
                      <a:pt x="15293" y="2620"/>
                    </a:lnTo>
                    <a:lnTo>
                      <a:pt x="15292" y="2675"/>
                    </a:lnTo>
                    <a:lnTo>
                      <a:pt x="15287" y="2728"/>
                    </a:lnTo>
                    <a:lnTo>
                      <a:pt x="15279" y="2782"/>
                    </a:lnTo>
                    <a:lnTo>
                      <a:pt x="15268" y="2835"/>
                    </a:lnTo>
                    <a:lnTo>
                      <a:pt x="15255" y="2888"/>
                    </a:lnTo>
                    <a:lnTo>
                      <a:pt x="15237" y="2941"/>
                    </a:lnTo>
                    <a:lnTo>
                      <a:pt x="15217" y="2992"/>
                    </a:lnTo>
                    <a:lnTo>
                      <a:pt x="15193" y="3045"/>
                    </a:lnTo>
                    <a:lnTo>
                      <a:pt x="15167" y="3096"/>
                    </a:lnTo>
                    <a:lnTo>
                      <a:pt x="15138" y="3147"/>
                    </a:lnTo>
                    <a:lnTo>
                      <a:pt x="15106" y="3198"/>
                    </a:lnTo>
                    <a:lnTo>
                      <a:pt x="15071" y="3249"/>
                    </a:lnTo>
                    <a:lnTo>
                      <a:pt x="15033" y="3298"/>
                    </a:lnTo>
                    <a:lnTo>
                      <a:pt x="14993" y="3349"/>
                    </a:lnTo>
                    <a:lnTo>
                      <a:pt x="14949" y="3397"/>
                    </a:lnTo>
                    <a:lnTo>
                      <a:pt x="14903" y="3447"/>
                    </a:lnTo>
                    <a:lnTo>
                      <a:pt x="14854" y="3496"/>
                    </a:lnTo>
                    <a:lnTo>
                      <a:pt x="14803" y="3543"/>
                    </a:lnTo>
                    <a:lnTo>
                      <a:pt x="14748" y="3592"/>
                    </a:lnTo>
                    <a:lnTo>
                      <a:pt x="14692" y="3638"/>
                    </a:lnTo>
                    <a:lnTo>
                      <a:pt x="14631" y="3686"/>
                    </a:lnTo>
                    <a:lnTo>
                      <a:pt x="14570" y="3731"/>
                    </a:lnTo>
                    <a:lnTo>
                      <a:pt x="14505" y="3778"/>
                    </a:lnTo>
                    <a:lnTo>
                      <a:pt x="14439" y="3823"/>
                    </a:lnTo>
                    <a:lnTo>
                      <a:pt x="14368" y="3867"/>
                    </a:lnTo>
                    <a:lnTo>
                      <a:pt x="14297" y="3912"/>
                    </a:lnTo>
                    <a:lnTo>
                      <a:pt x="14222" y="3955"/>
                    </a:lnTo>
                    <a:lnTo>
                      <a:pt x="14146" y="3999"/>
                    </a:lnTo>
                    <a:lnTo>
                      <a:pt x="14066" y="4041"/>
                    </a:lnTo>
                    <a:lnTo>
                      <a:pt x="13985" y="4084"/>
                    </a:lnTo>
                    <a:lnTo>
                      <a:pt x="13901" y="4125"/>
                    </a:lnTo>
                    <a:lnTo>
                      <a:pt x="13815" y="4166"/>
                    </a:lnTo>
                    <a:lnTo>
                      <a:pt x="13726" y="4206"/>
                    </a:lnTo>
                    <a:lnTo>
                      <a:pt x="13637" y="4246"/>
                    </a:lnTo>
                    <a:lnTo>
                      <a:pt x="13544" y="4285"/>
                    </a:lnTo>
                    <a:lnTo>
                      <a:pt x="13449" y="4323"/>
                    </a:lnTo>
                    <a:lnTo>
                      <a:pt x="13352" y="4362"/>
                    </a:lnTo>
                    <a:lnTo>
                      <a:pt x="13254" y="4399"/>
                    </a:lnTo>
                    <a:lnTo>
                      <a:pt x="13153" y="4436"/>
                    </a:lnTo>
                    <a:lnTo>
                      <a:pt x="13050" y="4471"/>
                    </a:lnTo>
                    <a:lnTo>
                      <a:pt x="12945" y="4506"/>
                    </a:lnTo>
                    <a:lnTo>
                      <a:pt x="12838" y="4541"/>
                    </a:lnTo>
                    <a:lnTo>
                      <a:pt x="12730" y="4575"/>
                    </a:lnTo>
                    <a:lnTo>
                      <a:pt x="12619" y="4608"/>
                    </a:lnTo>
                    <a:lnTo>
                      <a:pt x="12506" y="4641"/>
                    </a:lnTo>
                    <a:lnTo>
                      <a:pt x="12392" y="4672"/>
                    </a:lnTo>
                    <a:lnTo>
                      <a:pt x="12276" y="4703"/>
                    </a:lnTo>
                    <a:lnTo>
                      <a:pt x="12158" y="4734"/>
                    </a:lnTo>
                    <a:lnTo>
                      <a:pt x="12039" y="4763"/>
                    </a:lnTo>
                    <a:lnTo>
                      <a:pt x="11918" y="4791"/>
                    </a:lnTo>
                    <a:lnTo>
                      <a:pt x="11794" y="4820"/>
                    </a:lnTo>
                    <a:lnTo>
                      <a:pt x="11670" y="4847"/>
                    </a:lnTo>
                    <a:lnTo>
                      <a:pt x="11544" y="4873"/>
                    </a:lnTo>
                    <a:lnTo>
                      <a:pt x="11416" y="4898"/>
                    </a:lnTo>
                    <a:lnTo>
                      <a:pt x="11287" y="4923"/>
                    </a:lnTo>
                    <a:lnTo>
                      <a:pt x="11157" y="4947"/>
                    </a:lnTo>
                    <a:lnTo>
                      <a:pt x="11024" y="4970"/>
                    </a:lnTo>
                    <a:lnTo>
                      <a:pt x="10890" y="4991"/>
                    </a:lnTo>
                    <a:lnTo>
                      <a:pt x="10755" y="5014"/>
                    </a:lnTo>
                    <a:lnTo>
                      <a:pt x="10619" y="5034"/>
                    </a:lnTo>
                    <a:lnTo>
                      <a:pt x="10481" y="5053"/>
                    </a:lnTo>
                    <a:lnTo>
                      <a:pt x="10341" y="5071"/>
                    </a:lnTo>
                    <a:lnTo>
                      <a:pt x="10202" y="5089"/>
                    </a:lnTo>
                    <a:lnTo>
                      <a:pt x="10060" y="5106"/>
                    </a:lnTo>
                    <a:lnTo>
                      <a:pt x="9917" y="5122"/>
                    </a:lnTo>
                    <a:lnTo>
                      <a:pt x="9772" y="5137"/>
                    </a:lnTo>
                    <a:lnTo>
                      <a:pt x="9627" y="5151"/>
                    </a:lnTo>
                    <a:lnTo>
                      <a:pt x="9480" y="5163"/>
                    </a:lnTo>
                    <a:lnTo>
                      <a:pt x="9333" y="5175"/>
                    </a:lnTo>
                    <a:lnTo>
                      <a:pt x="9185" y="5187"/>
                    </a:lnTo>
                    <a:lnTo>
                      <a:pt x="9036" y="5197"/>
                    </a:lnTo>
                    <a:lnTo>
                      <a:pt x="8885" y="5206"/>
                    </a:lnTo>
                    <a:lnTo>
                      <a:pt x="8733" y="5214"/>
                    </a:lnTo>
                    <a:lnTo>
                      <a:pt x="8581" y="5221"/>
                    </a:lnTo>
                    <a:lnTo>
                      <a:pt x="8427" y="5226"/>
                    </a:lnTo>
                    <a:lnTo>
                      <a:pt x="8272" y="5231"/>
                    </a:lnTo>
                    <a:lnTo>
                      <a:pt x="8117" y="5235"/>
                    </a:lnTo>
                    <a:lnTo>
                      <a:pt x="7961" y="5238"/>
                    </a:lnTo>
                    <a:lnTo>
                      <a:pt x="7804" y="5239"/>
                    </a:lnTo>
                    <a:lnTo>
                      <a:pt x="7647" y="5240"/>
                    </a:lnTo>
                    <a:lnTo>
                      <a:pt x="7647" y="5240"/>
                    </a:lnTo>
                    <a:lnTo>
                      <a:pt x="7489" y="5239"/>
                    </a:lnTo>
                    <a:lnTo>
                      <a:pt x="7333" y="5238"/>
                    </a:lnTo>
                    <a:lnTo>
                      <a:pt x="7177" y="5235"/>
                    </a:lnTo>
                    <a:lnTo>
                      <a:pt x="7022" y="5231"/>
                    </a:lnTo>
                    <a:lnTo>
                      <a:pt x="6867" y="5226"/>
                    </a:lnTo>
                    <a:lnTo>
                      <a:pt x="6714" y="5221"/>
                    </a:lnTo>
                    <a:lnTo>
                      <a:pt x="6561" y="5214"/>
                    </a:lnTo>
                    <a:lnTo>
                      <a:pt x="6410" y="5206"/>
                    </a:lnTo>
                    <a:lnTo>
                      <a:pt x="6259" y="5197"/>
                    </a:lnTo>
                    <a:lnTo>
                      <a:pt x="6110" y="5187"/>
                    </a:lnTo>
                    <a:lnTo>
                      <a:pt x="5961" y="5175"/>
                    </a:lnTo>
                    <a:lnTo>
                      <a:pt x="5813" y="5163"/>
                    </a:lnTo>
                    <a:lnTo>
                      <a:pt x="5667" y="5151"/>
                    </a:lnTo>
                    <a:lnTo>
                      <a:pt x="5521" y="5137"/>
                    </a:lnTo>
                    <a:lnTo>
                      <a:pt x="5377" y="5122"/>
                    </a:lnTo>
                    <a:lnTo>
                      <a:pt x="5234" y="5106"/>
                    </a:lnTo>
                    <a:lnTo>
                      <a:pt x="5093" y="5089"/>
                    </a:lnTo>
                    <a:lnTo>
                      <a:pt x="4953" y="5071"/>
                    </a:lnTo>
                    <a:lnTo>
                      <a:pt x="4813" y="5053"/>
                    </a:lnTo>
                    <a:lnTo>
                      <a:pt x="4675" y="5034"/>
                    </a:lnTo>
                    <a:lnTo>
                      <a:pt x="4539" y="5014"/>
                    </a:lnTo>
                    <a:lnTo>
                      <a:pt x="4404" y="4991"/>
                    </a:lnTo>
                    <a:lnTo>
                      <a:pt x="4270" y="4970"/>
                    </a:lnTo>
                    <a:lnTo>
                      <a:pt x="4138" y="4947"/>
                    </a:lnTo>
                    <a:lnTo>
                      <a:pt x="4007" y="4923"/>
                    </a:lnTo>
                    <a:lnTo>
                      <a:pt x="3877" y="4898"/>
                    </a:lnTo>
                    <a:lnTo>
                      <a:pt x="3750" y="4873"/>
                    </a:lnTo>
                    <a:lnTo>
                      <a:pt x="3624" y="4847"/>
                    </a:lnTo>
                    <a:lnTo>
                      <a:pt x="3500" y="4820"/>
                    </a:lnTo>
                    <a:lnTo>
                      <a:pt x="3377" y="4791"/>
                    </a:lnTo>
                    <a:lnTo>
                      <a:pt x="3255" y="4763"/>
                    </a:lnTo>
                    <a:lnTo>
                      <a:pt x="3136" y="4734"/>
                    </a:lnTo>
                    <a:lnTo>
                      <a:pt x="3018" y="4703"/>
                    </a:lnTo>
                    <a:lnTo>
                      <a:pt x="2902" y="4672"/>
                    </a:lnTo>
                    <a:lnTo>
                      <a:pt x="2788" y="4641"/>
                    </a:lnTo>
                    <a:lnTo>
                      <a:pt x="2676" y="4608"/>
                    </a:lnTo>
                    <a:lnTo>
                      <a:pt x="2564" y="4575"/>
                    </a:lnTo>
                    <a:lnTo>
                      <a:pt x="2456" y="4541"/>
                    </a:lnTo>
                    <a:lnTo>
                      <a:pt x="2349" y="4506"/>
                    </a:lnTo>
                    <a:lnTo>
                      <a:pt x="2244" y="4471"/>
                    </a:lnTo>
                    <a:lnTo>
                      <a:pt x="2141" y="4436"/>
                    </a:lnTo>
                    <a:lnTo>
                      <a:pt x="2040" y="4399"/>
                    </a:lnTo>
                    <a:lnTo>
                      <a:pt x="1941" y="4362"/>
                    </a:lnTo>
                    <a:lnTo>
                      <a:pt x="1845" y="4323"/>
                    </a:lnTo>
                    <a:lnTo>
                      <a:pt x="1750" y="4285"/>
                    </a:lnTo>
                    <a:lnTo>
                      <a:pt x="1658" y="4246"/>
                    </a:lnTo>
                    <a:lnTo>
                      <a:pt x="1567" y="4206"/>
                    </a:lnTo>
                    <a:lnTo>
                      <a:pt x="1479" y="4166"/>
                    </a:lnTo>
                    <a:lnTo>
                      <a:pt x="1393" y="4125"/>
                    </a:lnTo>
                    <a:lnTo>
                      <a:pt x="1310" y="4084"/>
                    </a:lnTo>
                    <a:lnTo>
                      <a:pt x="1228" y="4041"/>
                    </a:lnTo>
                    <a:lnTo>
                      <a:pt x="1148" y="3999"/>
                    </a:lnTo>
                    <a:lnTo>
                      <a:pt x="1072" y="3955"/>
                    </a:lnTo>
                    <a:lnTo>
                      <a:pt x="997" y="3912"/>
                    </a:lnTo>
                    <a:lnTo>
                      <a:pt x="925" y="3867"/>
                    </a:lnTo>
                    <a:lnTo>
                      <a:pt x="856" y="3823"/>
                    </a:lnTo>
                    <a:lnTo>
                      <a:pt x="788" y="3778"/>
                    </a:lnTo>
                    <a:lnTo>
                      <a:pt x="724" y="3731"/>
                    </a:lnTo>
                    <a:lnTo>
                      <a:pt x="662" y="3686"/>
                    </a:lnTo>
                    <a:lnTo>
                      <a:pt x="603" y="3638"/>
                    </a:lnTo>
                    <a:lnTo>
                      <a:pt x="546" y="3592"/>
                    </a:lnTo>
                    <a:lnTo>
                      <a:pt x="491" y="3543"/>
                    </a:lnTo>
                    <a:lnTo>
                      <a:pt x="440" y="3496"/>
                    </a:lnTo>
                    <a:lnTo>
                      <a:pt x="391" y="3447"/>
                    </a:lnTo>
                    <a:lnTo>
                      <a:pt x="345" y="3397"/>
                    </a:lnTo>
                    <a:lnTo>
                      <a:pt x="302" y="3349"/>
                    </a:lnTo>
                    <a:lnTo>
                      <a:pt x="261" y="3298"/>
                    </a:lnTo>
                    <a:lnTo>
                      <a:pt x="223" y="3249"/>
                    </a:lnTo>
                    <a:lnTo>
                      <a:pt x="188" y="3198"/>
                    </a:lnTo>
                    <a:lnTo>
                      <a:pt x="156" y="3147"/>
                    </a:lnTo>
                    <a:lnTo>
                      <a:pt x="127" y="3096"/>
                    </a:lnTo>
                    <a:lnTo>
                      <a:pt x="101" y="3045"/>
                    </a:lnTo>
                    <a:lnTo>
                      <a:pt x="77" y="2992"/>
                    </a:lnTo>
                    <a:lnTo>
                      <a:pt x="57" y="2941"/>
                    </a:lnTo>
                    <a:lnTo>
                      <a:pt x="40" y="2888"/>
                    </a:lnTo>
                    <a:lnTo>
                      <a:pt x="25" y="2835"/>
                    </a:lnTo>
                    <a:lnTo>
                      <a:pt x="15" y="2782"/>
                    </a:lnTo>
                    <a:lnTo>
                      <a:pt x="7" y="2728"/>
                    </a:lnTo>
                    <a:lnTo>
                      <a:pt x="2" y="2675"/>
                    </a:lnTo>
                    <a:lnTo>
                      <a:pt x="0" y="2620"/>
                    </a:lnTo>
                    <a:lnTo>
                      <a:pt x="0" y="2620"/>
                    </a:lnTo>
                    <a:lnTo>
                      <a:pt x="2" y="2567"/>
                    </a:lnTo>
                    <a:lnTo>
                      <a:pt x="7" y="2513"/>
                    </a:lnTo>
                    <a:lnTo>
                      <a:pt x="15" y="2460"/>
                    </a:lnTo>
                    <a:lnTo>
                      <a:pt x="25" y="2406"/>
                    </a:lnTo>
                    <a:lnTo>
                      <a:pt x="40" y="2353"/>
                    </a:lnTo>
                    <a:lnTo>
                      <a:pt x="57" y="2301"/>
                    </a:lnTo>
                    <a:lnTo>
                      <a:pt x="77" y="2248"/>
                    </a:lnTo>
                    <a:lnTo>
                      <a:pt x="101" y="2197"/>
                    </a:lnTo>
                    <a:lnTo>
                      <a:pt x="127" y="2145"/>
                    </a:lnTo>
                    <a:lnTo>
                      <a:pt x="156" y="2094"/>
                    </a:lnTo>
                    <a:lnTo>
                      <a:pt x="188" y="2043"/>
                    </a:lnTo>
                    <a:lnTo>
                      <a:pt x="223" y="1993"/>
                    </a:lnTo>
                    <a:lnTo>
                      <a:pt x="261" y="1942"/>
                    </a:lnTo>
                    <a:lnTo>
                      <a:pt x="302" y="1892"/>
                    </a:lnTo>
                    <a:lnTo>
                      <a:pt x="345" y="1843"/>
                    </a:lnTo>
                    <a:lnTo>
                      <a:pt x="391" y="1794"/>
                    </a:lnTo>
                    <a:lnTo>
                      <a:pt x="440" y="1745"/>
                    </a:lnTo>
                    <a:lnTo>
                      <a:pt x="491" y="1697"/>
                    </a:lnTo>
                    <a:lnTo>
                      <a:pt x="546" y="1650"/>
                    </a:lnTo>
                    <a:lnTo>
                      <a:pt x="603" y="1602"/>
                    </a:lnTo>
                    <a:lnTo>
                      <a:pt x="662" y="1556"/>
                    </a:lnTo>
                    <a:lnTo>
                      <a:pt x="724" y="1509"/>
                    </a:lnTo>
                    <a:lnTo>
                      <a:pt x="788" y="1464"/>
                    </a:lnTo>
                    <a:lnTo>
                      <a:pt x="856" y="1418"/>
                    </a:lnTo>
                    <a:lnTo>
                      <a:pt x="925" y="1374"/>
                    </a:lnTo>
                    <a:lnTo>
                      <a:pt x="997" y="1330"/>
                    </a:lnTo>
                    <a:lnTo>
                      <a:pt x="1072" y="1285"/>
                    </a:lnTo>
                    <a:lnTo>
                      <a:pt x="1148" y="1243"/>
                    </a:lnTo>
                    <a:lnTo>
                      <a:pt x="1228" y="1200"/>
                    </a:lnTo>
                    <a:lnTo>
                      <a:pt x="1310" y="1158"/>
                    </a:lnTo>
                    <a:lnTo>
                      <a:pt x="1393" y="1116"/>
                    </a:lnTo>
                    <a:lnTo>
                      <a:pt x="1479" y="1075"/>
                    </a:lnTo>
                    <a:lnTo>
                      <a:pt x="1567" y="1034"/>
                    </a:lnTo>
                    <a:lnTo>
                      <a:pt x="1658" y="995"/>
                    </a:lnTo>
                    <a:lnTo>
                      <a:pt x="1750" y="956"/>
                    </a:lnTo>
                    <a:lnTo>
                      <a:pt x="1845" y="917"/>
                    </a:lnTo>
                    <a:lnTo>
                      <a:pt x="1941" y="880"/>
                    </a:lnTo>
                    <a:lnTo>
                      <a:pt x="2040" y="842"/>
                    </a:lnTo>
                    <a:lnTo>
                      <a:pt x="2141" y="806"/>
                    </a:lnTo>
                    <a:lnTo>
                      <a:pt x="2244" y="770"/>
                    </a:lnTo>
                    <a:lnTo>
                      <a:pt x="2349" y="734"/>
                    </a:lnTo>
                    <a:lnTo>
                      <a:pt x="2456" y="700"/>
                    </a:lnTo>
                    <a:lnTo>
                      <a:pt x="2564" y="665"/>
                    </a:lnTo>
                    <a:lnTo>
                      <a:pt x="2676" y="633"/>
                    </a:lnTo>
                    <a:lnTo>
                      <a:pt x="2788" y="601"/>
                    </a:lnTo>
                    <a:lnTo>
                      <a:pt x="2902" y="568"/>
                    </a:lnTo>
                    <a:lnTo>
                      <a:pt x="3018" y="538"/>
                    </a:lnTo>
                    <a:lnTo>
                      <a:pt x="3136" y="508"/>
                    </a:lnTo>
                    <a:lnTo>
                      <a:pt x="3255" y="478"/>
                    </a:lnTo>
                    <a:lnTo>
                      <a:pt x="3377" y="449"/>
                    </a:lnTo>
                    <a:lnTo>
                      <a:pt x="3500" y="422"/>
                    </a:lnTo>
                    <a:lnTo>
                      <a:pt x="3624" y="395"/>
                    </a:lnTo>
                    <a:lnTo>
                      <a:pt x="3750" y="368"/>
                    </a:lnTo>
                    <a:lnTo>
                      <a:pt x="3877" y="342"/>
                    </a:lnTo>
                    <a:lnTo>
                      <a:pt x="4007" y="318"/>
                    </a:lnTo>
                    <a:lnTo>
                      <a:pt x="4138" y="294"/>
                    </a:lnTo>
                    <a:lnTo>
                      <a:pt x="4270" y="271"/>
                    </a:lnTo>
                    <a:lnTo>
                      <a:pt x="4404" y="249"/>
                    </a:lnTo>
                    <a:lnTo>
                      <a:pt x="4539" y="228"/>
                    </a:lnTo>
                    <a:lnTo>
                      <a:pt x="4675" y="208"/>
                    </a:lnTo>
                    <a:lnTo>
                      <a:pt x="4813" y="187"/>
                    </a:lnTo>
                    <a:lnTo>
                      <a:pt x="4953" y="169"/>
                    </a:lnTo>
                    <a:lnTo>
                      <a:pt x="5093" y="152"/>
                    </a:lnTo>
                    <a:lnTo>
                      <a:pt x="5234" y="135"/>
                    </a:lnTo>
                    <a:lnTo>
                      <a:pt x="5377" y="119"/>
                    </a:lnTo>
                    <a:lnTo>
                      <a:pt x="5521" y="104"/>
                    </a:lnTo>
                    <a:lnTo>
                      <a:pt x="5667" y="90"/>
                    </a:lnTo>
                    <a:lnTo>
                      <a:pt x="5813" y="77"/>
                    </a:lnTo>
                    <a:lnTo>
                      <a:pt x="5961" y="65"/>
                    </a:lnTo>
                    <a:lnTo>
                      <a:pt x="6110" y="54"/>
                    </a:lnTo>
                    <a:lnTo>
                      <a:pt x="6259" y="44"/>
                    </a:lnTo>
                    <a:lnTo>
                      <a:pt x="6410" y="36"/>
                    </a:lnTo>
                    <a:lnTo>
                      <a:pt x="6561" y="28"/>
                    </a:lnTo>
                    <a:lnTo>
                      <a:pt x="6714" y="21"/>
                    </a:lnTo>
                    <a:lnTo>
                      <a:pt x="6867" y="15"/>
                    </a:lnTo>
                    <a:lnTo>
                      <a:pt x="7022" y="9"/>
                    </a:lnTo>
                    <a:lnTo>
                      <a:pt x="7177" y="5"/>
                    </a:lnTo>
                    <a:lnTo>
                      <a:pt x="7333" y="3"/>
                    </a:lnTo>
                    <a:lnTo>
                      <a:pt x="7489" y="1"/>
                    </a:lnTo>
                    <a:lnTo>
                      <a:pt x="7647" y="0"/>
                    </a:lnTo>
                    <a:lnTo>
                      <a:pt x="7647" y="0"/>
                    </a:lnTo>
                    <a:lnTo>
                      <a:pt x="7647" y="0"/>
                    </a:lnTo>
                    <a:close/>
                  </a:path>
                </a:pathLst>
              </a:custGeom>
              <a:solidFill>
                <a:srgbClr val="00b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157880" y="27162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74"/>
                    </a:moveTo>
                    <a:lnTo>
                      <a:pt x="0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7" y="75"/>
                    </a:lnTo>
                    <a:lnTo>
                      <a:pt x="157" y="7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165800" y="27162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8" h="77">
                    <a:moveTo>
                      <a:pt x="0" y="75"/>
                    </a:moveTo>
                    <a:lnTo>
                      <a:pt x="1" y="0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6" y="77"/>
                    </a:lnTo>
                    <a:lnTo>
                      <a:pt x="157" y="77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172280" y="27162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8" h="77">
                    <a:moveTo>
                      <a:pt x="0" y="75"/>
                    </a:moveTo>
                    <a:lnTo>
                      <a:pt x="2" y="0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6" y="77"/>
                    </a:lnTo>
                    <a:lnTo>
                      <a:pt x="156" y="77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178760" y="27162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0" y="75"/>
                    </a:moveTo>
                    <a:lnTo>
                      <a:pt x="2" y="0"/>
                    </a:lnTo>
                    <a:lnTo>
                      <a:pt x="158" y="4"/>
                    </a:lnTo>
                    <a:lnTo>
                      <a:pt x="158" y="4"/>
                    </a:lnTo>
                    <a:lnTo>
                      <a:pt x="155" y="79"/>
                    </a:lnTo>
                    <a:lnTo>
                      <a:pt x="155" y="79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186680" y="27162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58" h="80">
                    <a:moveTo>
                      <a:pt x="0" y="75"/>
                    </a:moveTo>
                    <a:lnTo>
                      <a:pt x="3" y="0"/>
                    </a:lnTo>
                    <a:lnTo>
                      <a:pt x="158" y="5"/>
                    </a:lnTo>
                    <a:lnTo>
                      <a:pt x="158" y="5"/>
                    </a:lnTo>
                    <a:lnTo>
                      <a:pt x="155" y="80"/>
                    </a:lnTo>
                    <a:lnTo>
                      <a:pt x="155" y="80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192800" y="271620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57" h="81">
                    <a:moveTo>
                      <a:pt x="0" y="75"/>
                    </a:moveTo>
                    <a:lnTo>
                      <a:pt x="3" y="0"/>
                    </a:lnTo>
                    <a:lnTo>
                      <a:pt x="156" y="6"/>
                    </a:lnTo>
                    <a:lnTo>
                      <a:pt x="157" y="6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199280" y="27180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6" h="82">
                    <a:moveTo>
                      <a:pt x="0" y="75"/>
                    </a:moveTo>
                    <a:lnTo>
                      <a:pt x="4" y="0"/>
                    </a:lnTo>
                    <a:lnTo>
                      <a:pt x="156" y="7"/>
                    </a:lnTo>
                    <a:lnTo>
                      <a:pt x="156" y="7"/>
                    </a:lnTo>
                    <a:lnTo>
                      <a:pt x="152" y="82"/>
                    </a:lnTo>
                    <a:lnTo>
                      <a:pt x="153" y="82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207200" y="27180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6" h="82">
                    <a:moveTo>
                      <a:pt x="0" y="75"/>
                    </a:moveTo>
                    <a:lnTo>
                      <a:pt x="4" y="0"/>
                    </a:lnTo>
                    <a:lnTo>
                      <a:pt x="156" y="8"/>
                    </a:lnTo>
                    <a:lnTo>
                      <a:pt x="156" y="8"/>
                    </a:lnTo>
                    <a:lnTo>
                      <a:pt x="152" y="82"/>
                    </a:lnTo>
                    <a:lnTo>
                      <a:pt x="152" y="82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213680" y="27180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55" h="83">
                    <a:moveTo>
                      <a:pt x="0" y="74"/>
                    </a:moveTo>
                    <a:lnTo>
                      <a:pt x="4" y="0"/>
                    </a:lnTo>
                    <a:lnTo>
                      <a:pt x="155" y="8"/>
                    </a:lnTo>
                    <a:lnTo>
                      <a:pt x="155" y="8"/>
                    </a:lnTo>
                    <a:lnTo>
                      <a:pt x="150" y="83"/>
                    </a:lnTo>
                    <a:lnTo>
                      <a:pt x="150" y="83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219800" y="2718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5" h="85">
                    <a:moveTo>
                      <a:pt x="0" y="75"/>
                    </a:moveTo>
                    <a:lnTo>
                      <a:pt x="5" y="0"/>
                    </a:lnTo>
                    <a:lnTo>
                      <a:pt x="155" y="11"/>
                    </a:lnTo>
                    <a:lnTo>
                      <a:pt x="155" y="11"/>
                    </a:lnTo>
                    <a:lnTo>
                      <a:pt x="149" y="85"/>
                    </a:lnTo>
                    <a:lnTo>
                      <a:pt x="149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226280" y="2718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5" h="85">
                    <a:moveTo>
                      <a:pt x="0" y="74"/>
                    </a:moveTo>
                    <a:lnTo>
                      <a:pt x="6" y="0"/>
                    </a:lnTo>
                    <a:lnTo>
                      <a:pt x="155" y="11"/>
                    </a:lnTo>
                    <a:lnTo>
                      <a:pt x="155" y="11"/>
                    </a:lnTo>
                    <a:lnTo>
                      <a:pt x="148" y="85"/>
                    </a:lnTo>
                    <a:lnTo>
                      <a:pt x="148" y="8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232760" y="27194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54" h="87">
                    <a:moveTo>
                      <a:pt x="0" y="74"/>
                    </a:moveTo>
                    <a:lnTo>
                      <a:pt x="7" y="0"/>
                    </a:lnTo>
                    <a:lnTo>
                      <a:pt x="154" y="12"/>
                    </a:lnTo>
                    <a:lnTo>
                      <a:pt x="154" y="12"/>
                    </a:lnTo>
                    <a:lnTo>
                      <a:pt x="147" y="87"/>
                    </a:lnTo>
                    <a:lnTo>
                      <a:pt x="147" y="8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238880" y="27194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4" h="88">
                    <a:moveTo>
                      <a:pt x="0" y="75"/>
                    </a:moveTo>
                    <a:lnTo>
                      <a:pt x="7" y="0"/>
                    </a:lnTo>
                    <a:lnTo>
                      <a:pt x="153" y="13"/>
                    </a:lnTo>
                    <a:lnTo>
                      <a:pt x="154" y="13"/>
                    </a:lnTo>
                    <a:lnTo>
                      <a:pt x="146" y="88"/>
                    </a:lnTo>
                    <a:lnTo>
                      <a:pt x="147" y="8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245360" y="27194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3" h="88">
                    <a:moveTo>
                      <a:pt x="0" y="75"/>
                    </a:moveTo>
                    <a:lnTo>
                      <a:pt x="8" y="0"/>
                    </a:lnTo>
                    <a:lnTo>
                      <a:pt x="153" y="14"/>
                    </a:lnTo>
                    <a:lnTo>
                      <a:pt x="153" y="14"/>
                    </a:lnTo>
                    <a:lnTo>
                      <a:pt x="146" y="88"/>
                    </a:lnTo>
                    <a:lnTo>
                      <a:pt x="146" y="88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7251480" y="2721240"/>
                <a:ext cx="8280" cy="2880"/>
              </a:xfrm>
              <a:custGeom>
                <a:avLst/>
                <a:gdLst/>
                <a:ahLst/>
                <a:rect l="l" t="t" r="r" b="b"/>
                <a:pathLst>
                  <a:path w="152" h="89">
                    <a:moveTo>
                      <a:pt x="0" y="74"/>
                    </a:moveTo>
                    <a:lnTo>
                      <a:pt x="7" y="0"/>
                    </a:lnTo>
                    <a:lnTo>
                      <a:pt x="152" y="15"/>
                    </a:lnTo>
                    <a:lnTo>
                      <a:pt x="152" y="15"/>
                    </a:lnTo>
                    <a:lnTo>
                      <a:pt x="144" y="89"/>
                    </a:lnTo>
                    <a:lnTo>
                      <a:pt x="144" y="89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257960" y="27212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1" h="90">
                    <a:moveTo>
                      <a:pt x="0" y="74"/>
                    </a:moveTo>
                    <a:lnTo>
                      <a:pt x="8" y="0"/>
                    </a:lnTo>
                    <a:lnTo>
                      <a:pt x="151" y="15"/>
                    </a:lnTo>
                    <a:lnTo>
                      <a:pt x="151" y="15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264440" y="27226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0" y="75"/>
                    </a:moveTo>
                    <a:lnTo>
                      <a:pt x="9" y="0"/>
                    </a:lnTo>
                    <a:lnTo>
                      <a:pt x="151" y="18"/>
                    </a:lnTo>
                    <a:lnTo>
                      <a:pt x="151" y="18"/>
                    </a:lnTo>
                    <a:lnTo>
                      <a:pt x="142" y="91"/>
                    </a:lnTo>
                    <a:lnTo>
                      <a:pt x="142" y="91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270560" y="27226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0" h="92">
                    <a:moveTo>
                      <a:pt x="0" y="73"/>
                    </a:moveTo>
                    <a:lnTo>
                      <a:pt x="9" y="0"/>
                    </a:lnTo>
                    <a:lnTo>
                      <a:pt x="150" y="17"/>
                    </a:lnTo>
                    <a:lnTo>
                      <a:pt x="150" y="17"/>
                    </a:lnTo>
                    <a:lnTo>
                      <a:pt x="139" y="92"/>
                    </a:lnTo>
                    <a:lnTo>
                      <a:pt x="139" y="92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277040" y="27241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0" y="75"/>
                    </a:moveTo>
                    <a:lnTo>
                      <a:pt x="11" y="0"/>
                    </a:lnTo>
                    <a:lnTo>
                      <a:pt x="150" y="19"/>
                    </a:lnTo>
                    <a:lnTo>
                      <a:pt x="150" y="19"/>
                    </a:lnTo>
                    <a:lnTo>
                      <a:pt x="139" y="93"/>
                    </a:lnTo>
                    <a:lnTo>
                      <a:pt x="140" y="9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283520" y="27241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0" y="74"/>
                    </a:moveTo>
                    <a:lnTo>
                      <a:pt x="11" y="0"/>
                    </a:lnTo>
                    <a:lnTo>
                      <a:pt x="149" y="19"/>
                    </a:lnTo>
                    <a:lnTo>
                      <a:pt x="149" y="19"/>
                    </a:lnTo>
                    <a:lnTo>
                      <a:pt x="138" y="93"/>
                    </a:lnTo>
                    <a:lnTo>
                      <a:pt x="138" y="93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289640" y="27259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8" h="94">
                    <a:moveTo>
                      <a:pt x="0" y="74"/>
                    </a:moveTo>
                    <a:lnTo>
                      <a:pt x="11" y="0"/>
                    </a:lnTo>
                    <a:lnTo>
                      <a:pt x="148" y="20"/>
                    </a:lnTo>
                    <a:lnTo>
                      <a:pt x="148" y="20"/>
                    </a:lnTo>
                    <a:lnTo>
                      <a:pt x="137" y="94"/>
                    </a:lnTo>
                    <a:lnTo>
                      <a:pt x="137" y="9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296120" y="27259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6" h="95">
                    <a:moveTo>
                      <a:pt x="0" y="74"/>
                    </a:moveTo>
                    <a:lnTo>
                      <a:pt x="11" y="0"/>
                    </a:lnTo>
                    <a:lnTo>
                      <a:pt x="146" y="22"/>
                    </a:lnTo>
                    <a:lnTo>
                      <a:pt x="146" y="22"/>
                    </a:lnTo>
                    <a:lnTo>
                      <a:pt x="134" y="95"/>
                    </a:lnTo>
                    <a:lnTo>
                      <a:pt x="134" y="95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300800" y="27273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6" h="96">
                    <a:moveTo>
                      <a:pt x="0" y="73"/>
                    </a:moveTo>
                    <a:lnTo>
                      <a:pt x="12" y="0"/>
                    </a:lnTo>
                    <a:lnTo>
                      <a:pt x="146" y="22"/>
                    </a:lnTo>
                    <a:lnTo>
                      <a:pt x="146" y="22"/>
                    </a:lnTo>
                    <a:lnTo>
                      <a:pt x="134" y="96"/>
                    </a:lnTo>
                    <a:lnTo>
                      <a:pt x="134" y="9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307280" y="2727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45" h="97">
                    <a:moveTo>
                      <a:pt x="0" y="74"/>
                    </a:moveTo>
                    <a:lnTo>
                      <a:pt x="12" y="0"/>
                    </a:lnTo>
                    <a:lnTo>
                      <a:pt x="145" y="23"/>
                    </a:lnTo>
                    <a:lnTo>
                      <a:pt x="145" y="23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7313400" y="27291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5" h="97">
                    <a:moveTo>
                      <a:pt x="0" y="74"/>
                    </a:moveTo>
                    <a:lnTo>
                      <a:pt x="14" y="0"/>
                    </a:lnTo>
                    <a:lnTo>
                      <a:pt x="145" y="24"/>
                    </a:lnTo>
                    <a:lnTo>
                      <a:pt x="145" y="24"/>
                    </a:lnTo>
                    <a:lnTo>
                      <a:pt x="131" y="97"/>
                    </a:lnTo>
                    <a:lnTo>
                      <a:pt x="131" y="9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318440" y="2730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44" h="98">
                    <a:moveTo>
                      <a:pt x="0" y="73"/>
                    </a:moveTo>
                    <a:lnTo>
                      <a:pt x="14" y="0"/>
                    </a:lnTo>
                    <a:lnTo>
                      <a:pt x="144" y="25"/>
                    </a:lnTo>
                    <a:lnTo>
                      <a:pt x="144" y="25"/>
                    </a:lnTo>
                    <a:lnTo>
                      <a:pt x="129" y="98"/>
                    </a:lnTo>
                    <a:lnTo>
                      <a:pt x="129" y="9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324560" y="2730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2" h="99">
                    <a:moveTo>
                      <a:pt x="0" y="73"/>
                    </a:moveTo>
                    <a:lnTo>
                      <a:pt x="15" y="0"/>
                    </a:lnTo>
                    <a:lnTo>
                      <a:pt x="142" y="25"/>
                    </a:lnTo>
                    <a:lnTo>
                      <a:pt x="142" y="25"/>
                    </a:lnTo>
                    <a:lnTo>
                      <a:pt x="127" y="99"/>
                    </a:lnTo>
                    <a:lnTo>
                      <a:pt x="127" y="99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329600" y="27320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42" h="100">
                    <a:moveTo>
                      <a:pt x="0" y="74"/>
                    </a:moveTo>
                    <a:lnTo>
                      <a:pt x="15" y="0"/>
                    </a:lnTo>
                    <a:lnTo>
                      <a:pt x="142" y="27"/>
                    </a:lnTo>
                    <a:lnTo>
                      <a:pt x="142" y="27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335720" y="27338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1" h="100">
                    <a:moveTo>
                      <a:pt x="0" y="73"/>
                    </a:moveTo>
                    <a:lnTo>
                      <a:pt x="16" y="0"/>
                    </a:lnTo>
                    <a:lnTo>
                      <a:pt x="140" y="26"/>
                    </a:lnTo>
                    <a:lnTo>
                      <a:pt x="141" y="26"/>
                    </a:lnTo>
                    <a:lnTo>
                      <a:pt x="124" y="100"/>
                    </a:lnTo>
                    <a:lnTo>
                      <a:pt x="124" y="10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340400" y="27352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0" h="102">
                    <a:moveTo>
                      <a:pt x="0" y="74"/>
                    </a:moveTo>
                    <a:lnTo>
                      <a:pt x="17" y="0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22" y="102"/>
                    </a:lnTo>
                    <a:lnTo>
                      <a:pt x="122" y="102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346880" y="2735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9" h="101">
                    <a:moveTo>
                      <a:pt x="0" y="73"/>
                    </a:moveTo>
                    <a:lnTo>
                      <a:pt x="18" y="0"/>
                    </a:lnTo>
                    <a:lnTo>
                      <a:pt x="139" y="29"/>
                    </a:lnTo>
                    <a:lnTo>
                      <a:pt x="139" y="29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7351560" y="2737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0" y="72"/>
                    </a:moveTo>
                    <a:lnTo>
                      <a:pt x="17" y="0"/>
                    </a:lnTo>
                    <a:lnTo>
                      <a:pt x="138" y="29"/>
                    </a:lnTo>
                    <a:lnTo>
                      <a:pt x="138" y="29"/>
                    </a:lnTo>
                    <a:lnTo>
                      <a:pt x="118" y="101"/>
                    </a:lnTo>
                    <a:lnTo>
                      <a:pt x="119" y="10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356600" y="2738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0" y="72"/>
                    </a:moveTo>
                    <a:lnTo>
                      <a:pt x="20" y="0"/>
                    </a:lnTo>
                    <a:lnTo>
                      <a:pt x="138" y="31"/>
                    </a:lnTo>
                    <a:lnTo>
                      <a:pt x="138" y="31"/>
                    </a:lnTo>
                    <a:lnTo>
                      <a:pt x="119" y="102"/>
                    </a:lnTo>
                    <a:lnTo>
                      <a:pt x="119" y="10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362720" y="27399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35" h="103">
                    <a:moveTo>
                      <a:pt x="0" y="71"/>
                    </a:moveTo>
                    <a:lnTo>
                      <a:pt x="19" y="0"/>
                    </a:lnTo>
                    <a:lnTo>
                      <a:pt x="135" y="31"/>
                    </a:lnTo>
                    <a:lnTo>
                      <a:pt x="135" y="31"/>
                    </a:lnTo>
                    <a:lnTo>
                      <a:pt x="115" y="103"/>
                    </a:lnTo>
                    <a:lnTo>
                      <a:pt x="115" y="103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367400" y="27417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4" h="103">
                    <a:moveTo>
                      <a:pt x="0" y="72"/>
                    </a:moveTo>
                    <a:lnTo>
                      <a:pt x="20" y="0"/>
                    </a:lnTo>
                    <a:lnTo>
                      <a:pt x="134" y="31"/>
                    </a:lnTo>
                    <a:lnTo>
                      <a:pt x="134" y="31"/>
                    </a:lnTo>
                    <a:lnTo>
                      <a:pt x="114" y="103"/>
                    </a:lnTo>
                    <a:lnTo>
                      <a:pt x="114" y="103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372440" y="27432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0" y="72"/>
                    </a:moveTo>
                    <a:lnTo>
                      <a:pt x="20" y="0"/>
                    </a:lnTo>
                    <a:lnTo>
                      <a:pt x="134" y="33"/>
                    </a:lnTo>
                    <a:lnTo>
                      <a:pt x="134" y="33"/>
                    </a:lnTo>
                    <a:lnTo>
                      <a:pt x="112" y="104"/>
                    </a:lnTo>
                    <a:lnTo>
                      <a:pt x="112" y="104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377120" y="27450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33" h="105">
                    <a:moveTo>
                      <a:pt x="0" y="71"/>
                    </a:moveTo>
                    <a:lnTo>
                      <a:pt x="22" y="0"/>
                    </a:lnTo>
                    <a:lnTo>
                      <a:pt x="133" y="33"/>
                    </a:lnTo>
                    <a:lnTo>
                      <a:pt x="133" y="33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381800" y="2746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32" h="105">
                    <a:moveTo>
                      <a:pt x="0" y="72"/>
                    </a:moveTo>
                    <a:lnTo>
                      <a:pt x="23" y="0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09" y="105"/>
                    </a:lnTo>
                    <a:lnTo>
                      <a:pt x="109" y="105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386480" y="27464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0" h="106">
                    <a:moveTo>
                      <a:pt x="0" y="71"/>
                    </a:moveTo>
                    <a:lnTo>
                      <a:pt x="23" y="0"/>
                    </a:lnTo>
                    <a:lnTo>
                      <a:pt x="130" y="35"/>
                    </a:lnTo>
                    <a:lnTo>
                      <a:pt x="130" y="35"/>
                    </a:lnTo>
                    <a:lnTo>
                      <a:pt x="106" y="106"/>
                    </a:lnTo>
                    <a:lnTo>
                      <a:pt x="106" y="106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391520" y="27478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0" y="71"/>
                    </a:moveTo>
                    <a:lnTo>
                      <a:pt x="24" y="0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04" y="106"/>
                    </a:lnTo>
                    <a:lnTo>
                      <a:pt x="105" y="106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396200" y="27496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8" h="106">
                    <a:moveTo>
                      <a:pt x="0" y="71"/>
                    </a:moveTo>
                    <a:lnTo>
                      <a:pt x="25" y="0"/>
                    </a:lnTo>
                    <a:lnTo>
                      <a:pt x="128" y="37"/>
                    </a:lnTo>
                    <a:lnTo>
                      <a:pt x="128" y="37"/>
                    </a:lnTo>
                    <a:lnTo>
                      <a:pt x="103" y="106"/>
                    </a:lnTo>
                    <a:lnTo>
                      <a:pt x="103" y="106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400880" y="27511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27" h="106">
                    <a:moveTo>
                      <a:pt x="0" y="69"/>
                    </a:moveTo>
                    <a:lnTo>
                      <a:pt x="25" y="0"/>
                    </a:lnTo>
                    <a:lnTo>
                      <a:pt x="126" y="36"/>
                    </a:lnTo>
                    <a:lnTo>
                      <a:pt x="127" y="36"/>
                    </a:lnTo>
                    <a:lnTo>
                      <a:pt x="100" y="106"/>
                    </a:lnTo>
                    <a:lnTo>
                      <a:pt x="101" y="106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405560" y="2752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6" h="107">
                    <a:moveTo>
                      <a:pt x="0" y="70"/>
                    </a:moveTo>
                    <a:lnTo>
                      <a:pt x="27" y="0"/>
                    </a:lnTo>
                    <a:lnTo>
                      <a:pt x="126" y="37"/>
                    </a:lnTo>
                    <a:lnTo>
                      <a:pt x="126" y="37"/>
                    </a:lnTo>
                    <a:lnTo>
                      <a:pt x="99" y="107"/>
                    </a:lnTo>
                    <a:lnTo>
                      <a:pt x="99" y="107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410240" y="27543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24" h="107">
                    <a:moveTo>
                      <a:pt x="0" y="70"/>
                    </a:moveTo>
                    <a:lnTo>
                      <a:pt x="27" y="0"/>
                    </a:lnTo>
                    <a:lnTo>
                      <a:pt x="124" y="39"/>
                    </a:lnTo>
                    <a:lnTo>
                      <a:pt x="124" y="39"/>
                    </a:lnTo>
                    <a:lnTo>
                      <a:pt x="96" y="107"/>
                    </a:lnTo>
                    <a:lnTo>
                      <a:pt x="96" y="107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13480" y="27576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4" h="107">
                    <a:moveTo>
                      <a:pt x="0" y="68"/>
                    </a:moveTo>
                    <a:lnTo>
                      <a:pt x="28" y="0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95" y="107"/>
                    </a:lnTo>
                    <a:lnTo>
                      <a:pt x="95" y="107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18160" y="27590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0" y="69"/>
                    </a:moveTo>
                    <a:lnTo>
                      <a:pt x="29" y="0"/>
                    </a:lnTo>
                    <a:lnTo>
                      <a:pt x="122" y="40"/>
                    </a:lnTo>
                    <a:lnTo>
                      <a:pt x="122" y="40"/>
                    </a:lnTo>
                    <a:lnTo>
                      <a:pt x="91" y="108"/>
                    </a:lnTo>
                    <a:lnTo>
                      <a:pt x="91" y="10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421400" y="27608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0" y="68"/>
                    </a:moveTo>
                    <a:lnTo>
                      <a:pt x="31" y="0"/>
                    </a:lnTo>
                    <a:lnTo>
                      <a:pt x="122" y="40"/>
                    </a:lnTo>
                    <a:lnTo>
                      <a:pt x="122" y="40"/>
                    </a:lnTo>
                    <a:lnTo>
                      <a:pt x="90" y="108"/>
                    </a:lnTo>
                    <a:lnTo>
                      <a:pt x="90" y="10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426440" y="2762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0" y="68"/>
                    </a:moveTo>
                    <a:lnTo>
                      <a:pt x="32" y="0"/>
                    </a:lnTo>
                    <a:lnTo>
                      <a:pt x="121" y="40"/>
                    </a:lnTo>
                    <a:lnTo>
                      <a:pt x="121" y="40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429320" y="2764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9" h="109">
                    <a:moveTo>
                      <a:pt x="0" y="68"/>
                    </a:moveTo>
                    <a:lnTo>
                      <a:pt x="33" y="0"/>
                    </a:lnTo>
                    <a:lnTo>
                      <a:pt x="118" y="42"/>
                    </a:lnTo>
                    <a:lnTo>
                      <a:pt x="119" y="42"/>
                    </a:lnTo>
                    <a:lnTo>
                      <a:pt x="86" y="109"/>
                    </a:lnTo>
                    <a:lnTo>
                      <a:pt x="86" y="10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434360" y="2765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7" h="108">
                    <a:moveTo>
                      <a:pt x="0" y="67"/>
                    </a:moveTo>
                    <a:lnTo>
                      <a:pt x="33" y="0"/>
                    </a:lnTo>
                    <a:lnTo>
                      <a:pt x="117" y="41"/>
                    </a:lnTo>
                    <a:lnTo>
                      <a:pt x="117" y="41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437240" y="27669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8" h="108">
                    <a:moveTo>
                      <a:pt x="0" y="67"/>
                    </a:moveTo>
                    <a:lnTo>
                      <a:pt x="35" y="0"/>
                    </a:lnTo>
                    <a:lnTo>
                      <a:pt x="117" y="43"/>
                    </a:lnTo>
                    <a:lnTo>
                      <a:pt x="118" y="43"/>
                    </a:lnTo>
                    <a:lnTo>
                      <a:pt x="81" y="108"/>
                    </a:lnTo>
                    <a:lnTo>
                      <a:pt x="82" y="10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440480" y="2768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0" y="65"/>
                    </a:moveTo>
                    <a:lnTo>
                      <a:pt x="37" y="0"/>
                    </a:lnTo>
                    <a:lnTo>
                      <a:pt x="116" y="42"/>
                    </a:lnTo>
                    <a:lnTo>
                      <a:pt x="116" y="43"/>
                    </a:lnTo>
                    <a:lnTo>
                      <a:pt x="78" y="108"/>
                    </a:lnTo>
                    <a:lnTo>
                      <a:pt x="79" y="108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443720" y="277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6" h="107">
                    <a:moveTo>
                      <a:pt x="0" y="65"/>
                    </a:moveTo>
                    <a:lnTo>
                      <a:pt x="38" y="0"/>
                    </a:lnTo>
                    <a:lnTo>
                      <a:pt x="115" y="43"/>
                    </a:lnTo>
                    <a:lnTo>
                      <a:pt x="116" y="44"/>
                    </a:lnTo>
                    <a:lnTo>
                      <a:pt x="77" y="107"/>
                    </a:lnTo>
                    <a:lnTo>
                      <a:pt x="77" y="107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448400" y="27734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3" h="107">
                    <a:moveTo>
                      <a:pt x="0" y="63"/>
                    </a:moveTo>
                    <a:lnTo>
                      <a:pt x="39" y="0"/>
                    </a:lnTo>
                    <a:lnTo>
                      <a:pt x="113" y="43"/>
                    </a:lnTo>
                    <a:lnTo>
                      <a:pt x="113" y="43"/>
                    </a:lnTo>
                    <a:lnTo>
                      <a:pt x="73" y="107"/>
                    </a:lnTo>
                    <a:lnTo>
                      <a:pt x="74" y="107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51640" y="277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0" y="64"/>
                    </a:moveTo>
                    <a:lnTo>
                      <a:pt x="40" y="0"/>
                    </a:lnTo>
                    <a:lnTo>
                      <a:pt x="113" y="45"/>
                    </a:lnTo>
                    <a:lnTo>
                      <a:pt x="114" y="46"/>
                    </a:lnTo>
                    <a:lnTo>
                      <a:pt x="72" y="108"/>
                    </a:lnTo>
                    <a:lnTo>
                      <a:pt x="73" y="10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54880" y="277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1" h="107">
                    <a:moveTo>
                      <a:pt x="0" y="62"/>
                    </a:moveTo>
                    <a:lnTo>
                      <a:pt x="42" y="0"/>
                    </a:lnTo>
                    <a:lnTo>
                      <a:pt x="111" y="44"/>
                    </a:lnTo>
                    <a:lnTo>
                      <a:pt x="111" y="44"/>
                    </a:lnTo>
                    <a:lnTo>
                      <a:pt x="69" y="106"/>
                    </a:lnTo>
                    <a:lnTo>
                      <a:pt x="69" y="10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458120" y="2779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0" h="107">
                    <a:moveTo>
                      <a:pt x="0" y="62"/>
                    </a:moveTo>
                    <a:lnTo>
                      <a:pt x="42" y="0"/>
                    </a:lnTo>
                    <a:lnTo>
                      <a:pt x="110" y="46"/>
                    </a:lnTo>
                    <a:lnTo>
                      <a:pt x="110" y="47"/>
                    </a:lnTo>
                    <a:lnTo>
                      <a:pt x="66" y="107"/>
                    </a:lnTo>
                    <a:lnTo>
                      <a:pt x="66" y="107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459560" y="278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0" h="106">
                    <a:moveTo>
                      <a:pt x="0" y="60"/>
                    </a:moveTo>
                    <a:lnTo>
                      <a:pt x="44" y="0"/>
                    </a:lnTo>
                    <a:lnTo>
                      <a:pt x="110" y="45"/>
                    </a:lnTo>
                    <a:lnTo>
                      <a:pt x="110" y="45"/>
                    </a:lnTo>
                    <a:lnTo>
                      <a:pt x="64" y="106"/>
                    </a:lnTo>
                    <a:lnTo>
                      <a:pt x="65" y="106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462800" y="2782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8" h="106">
                    <a:moveTo>
                      <a:pt x="0" y="61"/>
                    </a:moveTo>
                    <a:lnTo>
                      <a:pt x="46" y="0"/>
                    </a:lnTo>
                    <a:lnTo>
                      <a:pt x="108" y="47"/>
                    </a:lnTo>
                    <a:lnTo>
                      <a:pt x="108" y="48"/>
                    </a:lnTo>
                    <a:lnTo>
                      <a:pt x="61" y="106"/>
                    </a:lnTo>
                    <a:lnTo>
                      <a:pt x="62" y="106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466040" y="2784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7" h="105">
                    <a:moveTo>
                      <a:pt x="0" y="58"/>
                    </a:moveTo>
                    <a:lnTo>
                      <a:pt x="47" y="0"/>
                    </a:lnTo>
                    <a:lnTo>
                      <a:pt x="107" y="46"/>
                    </a:lnTo>
                    <a:lnTo>
                      <a:pt x="107" y="47"/>
                    </a:lnTo>
                    <a:lnTo>
                      <a:pt x="59" y="104"/>
                    </a:lnTo>
                    <a:lnTo>
                      <a:pt x="59" y="10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467480" y="2787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6" h="104">
                    <a:moveTo>
                      <a:pt x="0" y="57"/>
                    </a:moveTo>
                    <a:lnTo>
                      <a:pt x="48" y="0"/>
                    </a:lnTo>
                    <a:lnTo>
                      <a:pt x="106" y="48"/>
                    </a:lnTo>
                    <a:lnTo>
                      <a:pt x="106" y="48"/>
                    </a:lnTo>
                    <a:lnTo>
                      <a:pt x="56" y="103"/>
                    </a:lnTo>
                    <a:lnTo>
                      <a:pt x="56" y="10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470720" y="278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5" h="103">
                    <a:moveTo>
                      <a:pt x="0" y="55"/>
                    </a:moveTo>
                    <a:lnTo>
                      <a:pt x="50" y="0"/>
                    </a:lnTo>
                    <a:lnTo>
                      <a:pt x="105" y="48"/>
                    </a:lnTo>
                    <a:lnTo>
                      <a:pt x="105" y="48"/>
                    </a:lnTo>
                    <a:lnTo>
                      <a:pt x="53" y="103"/>
                    </a:lnTo>
                    <a:lnTo>
                      <a:pt x="54" y="103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472160" y="27910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0" y="55"/>
                    </a:moveTo>
                    <a:lnTo>
                      <a:pt x="52" y="0"/>
                    </a:lnTo>
                    <a:lnTo>
                      <a:pt x="104" y="49"/>
                    </a:lnTo>
                    <a:lnTo>
                      <a:pt x="104" y="49"/>
                    </a:lnTo>
                    <a:lnTo>
                      <a:pt x="51" y="102"/>
                    </a:lnTo>
                    <a:lnTo>
                      <a:pt x="51" y="10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475400" y="279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3" h="101">
                    <a:moveTo>
                      <a:pt x="0" y="53"/>
                    </a:moveTo>
                    <a:lnTo>
                      <a:pt x="53" y="0"/>
                    </a:lnTo>
                    <a:lnTo>
                      <a:pt x="103" y="49"/>
                    </a:lnTo>
                    <a:lnTo>
                      <a:pt x="103" y="49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477200" y="2795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0" y="52"/>
                    </a:moveTo>
                    <a:lnTo>
                      <a:pt x="55" y="0"/>
                    </a:lnTo>
                    <a:lnTo>
                      <a:pt x="102" y="50"/>
                    </a:lnTo>
                    <a:lnTo>
                      <a:pt x="102" y="51"/>
                    </a:lnTo>
                    <a:lnTo>
                      <a:pt x="45" y="99"/>
                    </a:lnTo>
                    <a:lnTo>
                      <a:pt x="46" y="10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478640" y="2799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2" h="98">
                    <a:moveTo>
                      <a:pt x="0" y="48"/>
                    </a:moveTo>
                    <a:lnTo>
                      <a:pt x="57" y="0"/>
                    </a:lnTo>
                    <a:lnTo>
                      <a:pt x="101" y="49"/>
                    </a:lnTo>
                    <a:lnTo>
                      <a:pt x="102" y="50"/>
                    </a:lnTo>
                    <a:lnTo>
                      <a:pt x="43" y="97"/>
                    </a:lnTo>
                    <a:lnTo>
                      <a:pt x="44" y="9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481880" y="2800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0" y="47"/>
                    </a:moveTo>
                    <a:lnTo>
                      <a:pt x="59" y="0"/>
                    </a:lnTo>
                    <a:lnTo>
                      <a:pt x="100" y="50"/>
                    </a:lnTo>
                    <a:lnTo>
                      <a:pt x="100" y="51"/>
                    </a:lnTo>
                    <a:lnTo>
                      <a:pt x="40" y="95"/>
                    </a:lnTo>
                    <a:lnTo>
                      <a:pt x="41" y="9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483320" y="28018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99" h="94">
                    <a:moveTo>
                      <a:pt x="0" y="44"/>
                    </a:moveTo>
                    <a:lnTo>
                      <a:pt x="60" y="0"/>
                    </a:lnTo>
                    <a:lnTo>
                      <a:pt x="99" y="50"/>
                    </a:lnTo>
                    <a:lnTo>
                      <a:pt x="99" y="51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485120" y="2805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9" h="92">
                    <a:moveTo>
                      <a:pt x="0" y="43"/>
                    </a:moveTo>
                    <a:lnTo>
                      <a:pt x="63" y="0"/>
                    </a:lnTo>
                    <a:lnTo>
                      <a:pt x="98" y="51"/>
                    </a:lnTo>
                    <a:lnTo>
                      <a:pt x="99" y="52"/>
                    </a:lnTo>
                    <a:lnTo>
                      <a:pt x="35" y="91"/>
                    </a:lnTo>
                    <a:lnTo>
                      <a:pt x="35" y="92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3" name=""/>
            <p:cNvGrpSpPr/>
            <p:nvPr/>
          </p:nvGrpSpPr>
          <p:grpSpPr>
            <a:xfrm>
              <a:off x="6819840" y="2774880"/>
              <a:ext cx="677880" cy="176400"/>
              <a:chOff x="6819840" y="2774880"/>
              <a:chExt cx="677880" cy="176400"/>
            </a:xfrm>
          </p:grpSpPr>
          <p:sp>
            <p:nvSpPr>
              <p:cNvPr id="2834" name=""/>
              <p:cNvSpPr/>
              <p:nvPr/>
            </p:nvSpPr>
            <p:spPr>
              <a:xfrm>
                <a:off x="7486560" y="2806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0" y="39"/>
                    </a:moveTo>
                    <a:lnTo>
                      <a:pt x="64" y="0"/>
                    </a:lnTo>
                    <a:lnTo>
                      <a:pt x="96" y="51"/>
                    </a:lnTo>
                    <a:lnTo>
                      <a:pt x="97" y="52"/>
                    </a:lnTo>
                    <a:lnTo>
                      <a:pt x="31" y="89"/>
                    </a:lnTo>
                    <a:lnTo>
                      <a:pt x="32" y="9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488360" y="2809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96" h="87">
                    <a:moveTo>
                      <a:pt x="0" y="37"/>
                    </a:moveTo>
                    <a:lnTo>
                      <a:pt x="66" y="0"/>
                    </a:lnTo>
                    <a:lnTo>
                      <a:pt x="96" y="52"/>
                    </a:lnTo>
                    <a:lnTo>
                      <a:pt x="96" y="53"/>
                    </a:lnTo>
                    <a:lnTo>
                      <a:pt x="28" y="86"/>
                    </a:lnTo>
                    <a:lnTo>
                      <a:pt x="29" y="8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488360" y="2811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5" h="85">
                    <a:moveTo>
                      <a:pt x="0" y="33"/>
                    </a:moveTo>
                    <a:lnTo>
                      <a:pt x="68" y="0"/>
                    </a:lnTo>
                    <a:lnTo>
                      <a:pt x="94" y="53"/>
                    </a:lnTo>
                    <a:lnTo>
                      <a:pt x="95" y="5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489800" y="281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93" h="80">
                    <a:moveTo>
                      <a:pt x="0" y="30"/>
                    </a:moveTo>
                    <a:lnTo>
                      <a:pt x="69" y="0"/>
                    </a:lnTo>
                    <a:lnTo>
                      <a:pt x="93" y="52"/>
                    </a:lnTo>
                    <a:lnTo>
                      <a:pt x="93" y="53"/>
                    </a:lnTo>
                    <a:lnTo>
                      <a:pt x="22" y="79"/>
                    </a:lnTo>
                    <a:lnTo>
                      <a:pt x="23" y="8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491240" y="2816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2" h="78">
                    <a:moveTo>
                      <a:pt x="0" y="26"/>
                    </a:moveTo>
                    <a:lnTo>
                      <a:pt x="71" y="0"/>
                    </a:lnTo>
                    <a:lnTo>
                      <a:pt x="91" y="53"/>
                    </a:lnTo>
                    <a:lnTo>
                      <a:pt x="92" y="54"/>
                    </a:lnTo>
                    <a:lnTo>
                      <a:pt x="20" y="77"/>
                    </a:lnTo>
                    <a:lnTo>
                      <a:pt x="21" y="7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491240" y="2819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89" h="75">
                    <a:moveTo>
                      <a:pt x="0" y="23"/>
                    </a:moveTo>
                    <a:lnTo>
                      <a:pt x="72" y="0"/>
                    </a:lnTo>
                    <a:lnTo>
                      <a:pt x="89" y="53"/>
                    </a:lnTo>
                    <a:lnTo>
                      <a:pt x="89" y="54"/>
                    </a:lnTo>
                    <a:lnTo>
                      <a:pt x="17" y="73"/>
                    </a:lnTo>
                    <a:lnTo>
                      <a:pt x="17" y="7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493040" y="2820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8" h="72">
                    <a:moveTo>
                      <a:pt x="0" y="19"/>
                    </a:moveTo>
                    <a:lnTo>
                      <a:pt x="72" y="0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13" y="71"/>
                    </a:lnTo>
                    <a:lnTo>
                      <a:pt x="13" y="7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493040" y="2824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6" h="67">
                    <a:moveTo>
                      <a:pt x="0" y="15"/>
                    </a:moveTo>
                    <a:lnTo>
                      <a:pt x="75" y="0"/>
                    </a:lnTo>
                    <a:lnTo>
                      <a:pt x="86" y="53"/>
                    </a:lnTo>
                    <a:lnTo>
                      <a:pt x="86" y="54"/>
                    </a:lnTo>
                    <a:lnTo>
                      <a:pt x="11" y="66"/>
                    </a:lnTo>
                    <a:lnTo>
                      <a:pt x="11" y="6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493040" y="2826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0" y="12"/>
                    </a:moveTo>
                    <a:lnTo>
                      <a:pt x="75" y="0"/>
                    </a:lnTo>
                    <a:lnTo>
                      <a:pt x="83" y="55"/>
                    </a:lnTo>
                    <a:lnTo>
                      <a:pt x="83" y="56"/>
                    </a:lnTo>
                    <a:lnTo>
                      <a:pt x="8" y="63"/>
                    </a:lnTo>
                    <a:lnTo>
                      <a:pt x="8" y="6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494480" y="2828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0" h="60">
                    <a:moveTo>
                      <a:pt x="0" y="7"/>
                    </a:moveTo>
                    <a:lnTo>
                      <a:pt x="75" y="0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5" y="59"/>
                    </a:lnTo>
                    <a:lnTo>
                      <a:pt x="5" y="6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494480" y="2830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6" h="55">
                    <a:moveTo>
                      <a:pt x="0" y="2"/>
                    </a:moveTo>
                    <a:lnTo>
                      <a:pt x="75" y="0"/>
                    </a:lnTo>
                    <a:lnTo>
                      <a:pt x="76" y="54"/>
                    </a:lnTo>
                    <a:lnTo>
                      <a:pt x="76" y="54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494480" y="2833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5" h="2">
                    <a:moveTo>
                      <a:pt x="0" y="1"/>
                    </a:moveTo>
                    <a:lnTo>
                      <a:pt x="75" y="1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494480" y="2833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1" y="0"/>
                    </a:moveTo>
                    <a:lnTo>
                      <a:pt x="76" y="2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494480" y="2835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0" h="62">
                    <a:moveTo>
                      <a:pt x="5" y="0"/>
                    </a:moveTo>
                    <a:lnTo>
                      <a:pt x="80" y="7"/>
                    </a:lnTo>
                    <a:lnTo>
                      <a:pt x="75" y="61"/>
                    </a:lnTo>
                    <a:lnTo>
                      <a:pt x="75" y="62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493040" y="28386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3" h="67">
                    <a:moveTo>
                      <a:pt x="8" y="0"/>
                    </a:moveTo>
                    <a:lnTo>
                      <a:pt x="83" y="11"/>
                    </a:lnTo>
                    <a:lnTo>
                      <a:pt x="75" y="66"/>
                    </a:lnTo>
                    <a:lnTo>
                      <a:pt x="74" y="67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493040" y="2840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5" h="71">
                    <a:moveTo>
                      <a:pt x="11" y="0"/>
                    </a:moveTo>
                    <a:lnTo>
                      <a:pt x="85" y="15"/>
                    </a:lnTo>
                    <a:lnTo>
                      <a:pt x="74" y="70"/>
                    </a:lnTo>
                    <a:lnTo>
                      <a:pt x="74" y="71"/>
                    </a:lnTo>
                    <a:lnTo>
                      <a:pt x="1" y="51"/>
                    </a:lnTo>
                    <a:lnTo>
                      <a:pt x="0" y="5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493040" y="2841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7" h="74">
                    <a:moveTo>
                      <a:pt x="14" y="0"/>
                    </a:moveTo>
                    <a:lnTo>
                      <a:pt x="87" y="20"/>
                    </a:lnTo>
                    <a:lnTo>
                      <a:pt x="72" y="73"/>
                    </a:lnTo>
                    <a:lnTo>
                      <a:pt x="72" y="74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491240" y="28447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88" h="78">
                    <a:moveTo>
                      <a:pt x="16" y="0"/>
                    </a:moveTo>
                    <a:lnTo>
                      <a:pt x="88" y="23"/>
                    </a:lnTo>
                    <a:lnTo>
                      <a:pt x="70" y="77"/>
                    </a:lnTo>
                    <a:lnTo>
                      <a:pt x="70" y="78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491240" y="2846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90" h="81">
                    <a:moveTo>
                      <a:pt x="20" y="0"/>
                    </a:moveTo>
                    <a:lnTo>
                      <a:pt x="90" y="28"/>
                    </a:lnTo>
                    <a:lnTo>
                      <a:pt x="70" y="80"/>
                    </a:lnTo>
                    <a:lnTo>
                      <a:pt x="70" y="81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489800" y="2849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3" h="84">
                    <a:moveTo>
                      <a:pt x="23" y="0"/>
                    </a:moveTo>
                    <a:lnTo>
                      <a:pt x="93" y="30"/>
                    </a:lnTo>
                    <a:lnTo>
                      <a:pt x="68" y="83"/>
                    </a:lnTo>
                    <a:lnTo>
                      <a:pt x="68" y="84"/>
                    </a:lnTo>
                    <a:lnTo>
                      <a:pt x="1" y="51"/>
                    </a:lnTo>
                    <a:lnTo>
                      <a:pt x="0" y="5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488360" y="2851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3" h="86">
                    <a:moveTo>
                      <a:pt x="26" y="0"/>
                    </a:moveTo>
                    <a:lnTo>
                      <a:pt x="93" y="33"/>
                    </a:lnTo>
                    <a:lnTo>
                      <a:pt x="67" y="85"/>
                    </a:lnTo>
                    <a:lnTo>
                      <a:pt x="66" y="86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488360" y="2853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94" h="90">
                    <a:moveTo>
                      <a:pt x="28" y="0"/>
                    </a:moveTo>
                    <a:lnTo>
                      <a:pt x="94" y="37"/>
                    </a:lnTo>
                    <a:lnTo>
                      <a:pt x="64" y="89"/>
                    </a:lnTo>
                    <a:lnTo>
                      <a:pt x="64" y="90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486560" y="2855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6" h="92">
                    <a:moveTo>
                      <a:pt x="32" y="0"/>
                    </a:moveTo>
                    <a:lnTo>
                      <a:pt x="96" y="39"/>
                    </a:lnTo>
                    <a:lnTo>
                      <a:pt x="63" y="91"/>
                    </a:lnTo>
                    <a:lnTo>
                      <a:pt x="63" y="92"/>
                    </a:lnTo>
                    <a:lnTo>
                      <a:pt x="1" y="49"/>
                    </a:lnTo>
                    <a:lnTo>
                      <a:pt x="0" y="4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485120" y="2857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7" h="94">
                    <a:moveTo>
                      <a:pt x="35" y="0"/>
                    </a:moveTo>
                    <a:lnTo>
                      <a:pt x="97" y="43"/>
                    </a:lnTo>
                    <a:lnTo>
                      <a:pt x="62" y="93"/>
                    </a:lnTo>
                    <a:lnTo>
                      <a:pt x="61" y="94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483320" y="28609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97" h="96">
                    <a:moveTo>
                      <a:pt x="36" y="0"/>
                    </a:moveTo>
                    <a:lnTo>
                      <a:pt x="97" y="44"/>
                    </a:lnTo>
                    <a:lnTo>
                      <a:pt x="59" y="95"/>
                    </a:lnTo>
                    <a:lnTo>
                      <a:pt x="59" y="96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481880" y="2862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40" y="0"/>
                    </a:moveTo>
                    <a:lnTo>
                      <a:pt x="99" y="48"/>
                    </a:lnTo>
                    <a:lnTo>
                      <a:pt x="57" y="97"/>
                    </a:lnTo>
                    <a:lnTo>
                      <a:pt x="57" y="98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480080" y="2863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43" y="0"/>
                    </a:moveTo>
                    <a:lnTo>
                      <a:pt x="100" y="49"/>
                    </a:lnTo>
                    <a:lnTo>
                      <a:pt x="56" y="99"/>
                    </a:lnTo>
                    <a:lnTo>
                      <a:pt x="55" y="100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477200" y="2867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45" y="0"/>
                    </a:moveTo>
                    <a:lnTo>
                      <a:pt x="100" y="52"/>
                    </a:lnTo>
                    <a:lnTo>
                      <a:pt x="54" y="101"/>
                    </a:lnTo>
                    <a:lnTo>
                      <a:pt x="53" y="101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475400" y="286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49" y="0"/>
                    </a:moveTo>
                    <a:lnTo>
                      <a:pt x="102" y="52"/>
                    </a:lnTo>
                    <a:lnTo>
                      <a:pt x="53" y="101"/>
                    </a:lnTo>
                    <a:lnTo>
                      <a:pt x="53" y="102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473960" y="2870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03" h="103">
                    <a:moveTo>
                      <a:pt x="51" y="0"/>
                    </a:moveTo>
                    <a:lnTo>
                      <a:pt x="103" y="55"/>
                    </a:lnTo>
                    <a:lnTo>
                      <a:pt x="51" y="103"/>
                    </a:lnTo>
                    <a:lnTo>
                      <a:pt x="50" y="103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470720" y="287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54" y="0"/>
                    </a:moveTo>
                    <a:lnTo>
                      <a:pt x="104" y="55"/>
                    </a:lnTo>
                    <a:lnTo>
                      <a:pt x="50" y="104"/>
                    </a:lnTo>
                    <a:lnTo>
                      <a:pt x="49" y="104"/>
                    </a:lnTo>
                    <a:lnTo>
                      <a:pt x="1" y="46"/>
                    </a:lnTo>
                    <a:lnTo>
                      <a:pt x="0" y="47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467480" y="2874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5" h="105">
                    <a:moveTo>
                      <a:pt x="57" y="0"/>
                    </a:moveTo>
                    <a:lnTo>
                      <a:pt x="105" y="58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1" y="47"/>
                    </a:lnTo>
                    <a:lnTo>
                      <a:pt x="0" y="4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466040" y="2876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59" y="0"/>
                    </a:moveTo>
                    <a:lnTo>
                      <a:pt x="106" y="58"/>
                    </a:lnTo>
                    <a:lnTo>
                      <a:pt x="46" y="106"/>
                    </a:lnTo>
                    <a:lnTo>
                      <a:pt x="46" y="10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462800" y="2879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7" h="106">
                    <a:moveTo>
                      <a:pt x="61" y="0"/>
                    </a:moveTo>
                    <a:lnTo>
                      <a:pt x="107" y="60"/>
                    </a:lnTo>
                    <a:lnTo>
                      <a:pt x="45" y="106"/>
                    </a:lnTo>
                    <a:lnTo>
                      <a:pt x="44" y="10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459560" y="288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65" y="0"/>
                    </a:moveTo>
                    <a:lnTo>
                      <a:pt x="109" y="60"/>
                    </a:lnTo>
                    <a:lnTo>
                      <a:pt x="44" y="107"/>
                    </a:lnTo>
                    <a:lnTo>
                      <a:pt x="43" y="107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458120" y="2882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66" y="0"/>
                    </a:moveTo>
                    <a:lnTo>
                      <a:pt x="109" y="62"/>
                    </a:lnTo>
                    <a:lnTo>
                      <a:pt x="42" y="107"/>
                    </a:lnTo>
                    <a:lnTo>
                      <a:pt x="42" y="108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454880" y="2884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0" h="108">
                    <a:moveTo>
                      <a:pt x="68" y="0"/>
                    </a:moveTo>
                    <a:lnTo>
                      <a:pt x="110" y="63"/>
                    </a:lnTo>
                    <a:lnTo>
                      <a:pt x="40" y="108"/>
                    </a:lnTo>
                    <a:lnTo>
                      <a:pt x="40" y="108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451640" y="288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2" h="108">
                    <a:moveTo>
                      <a:pt x="72" y="0"/>
                    </a:moveTo>
                    <a:lnTo>
                      <a:pt x="112" y="64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448400" y="28893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3" h="108">
                    <a:moveTo>
                      <a:pt x="74" y="0"/>
                    </a:moveTo>
                    <a:lnTo>
                      <a:pt x="113" y="63"/>
                    </a:lnTo>
                    <a:lnTo>
                      <a:pt x="38" y="108"/>
                    </a:lnTo>
                    <a:lnTo>
                      <a:pt x="38" y="108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443720" y="289080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77" y="0"/>
                    </a:moveTo>
                    <a:lnTo>
                      <a:pt x="114" y="65"/>
                    </a:lnTo>
                    <a:lnTo>
                      <a:pt x="37" y="108"/>
                    </a:lnTo>
                    <a:lnTo>
                      <a:pt x="36" y="108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440480" y="2892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4" h="109">
                    <a:moveTo>
                      <a:pt x="78" y="0"/>
                    </a:moveTo>
                    <a:lnTo>
                      <a:pt x="114" y="65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437240" y="2894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7" h="109">
                    <a:moveTo>
                      <a:pt x="82" y="0"/>
                    </a:moveTo>
                    <a:lnTo>
                      <a:pt x="117" y="67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1" y="41"/>
                    </a:lnTo>
                    <a:lnTo>
                      <a:pt x="0" y="42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434360" y="28958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17" h="110">
                    <a:moveTo>
                      <a:pt x="83" y="0"/>
                    </a:moveTo>
                    <a:lnTo>
                      <a:pt x="117" y="68"/>
                    </a:lnTo>
                    <a:lnTo>
                      <a:pt x="32" y="110"/>
                    </a:lnTo>
                    <a:lnTo>
                      <a:pt x="32" y="11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429320" y="28987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18" h="109">
                    <a:moveTo>
                      <a:pt x="86" y="0"/>
                    </a:moveTo>
                    <a:lnTo>
                      <a:pt x="118" y="68"/>
                    </a:lnTo>
                    <a:lnTo>
                      <a:pt x="33" y="109"/>
                    </a:lnTo>
                    <a:lnTo>
                      <a:pt x="32" y="10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426440" y="2900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0" h="108">
                    <a:moveTo>
                      <a:pt x="88" y="0"/>
                    </a:moveTo>
                    <a:lnTo>
                      <a:pt x="120" y="68"/>
                    </a:lnTo>
                    <a:lnTo>
                      <a:pt x="32" y="108"/>
                    </a:lnTo>
                    <a:lnTo>
                      <a:pt x="31" y="10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421400" y="29019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90" y="0"/>
                    </a:moveTo>
                    <a:lnTo>
                      <a:pt x="121" y="68"/>
                    </a:lnTo>
                    <a:lnTo>
                      <a:pt x="31" y="108"/>
                    </a:lnTo>
                    <a:lnTo>
                      <a:pt x="30" y="10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418160" y="29037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91" y="0"/>
                    </a:moveTo>
                    <a:lnTo>
                      <a:pt x="121" y="69"/>
                    </a:lnTo>
                    <a:lnTo>
                      <a:pt x="28" y="108"/>
                    </a:lnTo>
                    <a:lnTo>
                      <a:pt x="28" y="10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413480" y="29052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3" h="108">
                    <a:moveTo>
                      <a:pt x="95" y="0"/>
                    </a:moveTo>
                    <a:lnTo>
                      <a:pt x="123" y="68"/>
                    </a:lnTo>
                    <a:lnTo>
                      <a:pt x="28" y="108"/>
                    </a:lnTo>
                    <a:lnTo>
                      <a:pt x="28" y="108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410240" y="2906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24" h="107">
                    <a:moveTo>
                      <a:pt x="97" y="0"/>
                    </a:moveTo>
                    <a:lnTo>
                      <a:pt x="124" y="70"/>
                    </a:lnTo>
                    <a:lnTo>
                      <a:pt x="27" y="107"/>
                    </a:lnTo>
                    <a:lnTo>
                      <a:pt x="27" y="10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405560" y="290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5" h="108">
                    <a:moveTo>
                      <a:pt x="98" y="0"/>
                    </a:moveTo>
                    <a:lnTo>
                      <a:pt x="125" y="70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400880" y="2909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6" h="107">
                    <a:moveTo>
                      <a:pt x="101" y="0"/>
                    </a:moveTo>
                    <a:lnTo>
                      <a:pt x="126" y="70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396200" y="29116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7" h="106">
                    <a:moveTo>
                      <a:pt x="102" y="0"/>
                    </a:moveTo>
                    <a:lnTo>
                      <a:pt x="127" y="71"/>
                    </a:lnTo>
                    <a:lnTo>
                      <a:pt x="24" y="106"/>
                    </a:lnTo>
                    <a:lnTo>
                      <a:pt x="24" y="10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391520" y="2913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05" y="0"/>
                    </a:moveTo>
                    <a:lnTo>
                      <a:pt x="129" y="70"/>
                    </a:lnTo>
                    <a:lnTo>
                      <a:pt x="24" y="106"/>
                    </a:lnTo>
                    <a:lnTo>
                      <a:pt x="23" y="10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386480" y="29145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06" y="0"/>
                    </a:moveTo>
                    <a:lnTo>
                      <a:pt x="129" y="71"/>
                    </a:lnTo>
                    <a:lnTo>
                      <a:pt x="23" y="106"/>
                    </a:lnTo>
                    <a:lnTo>
                      <a:pt x="22" y="10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381800" y="29163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1" h="105">
                    <a:moveTo>
                      <a:pt x="109" y="0"/>
                    </a:moveTo>
                    <a:lnTo>
                      <a:pt x="131" y="72"/>
                    </a:lnTo>
                    <a:lnTo>
                      <a:pt x="23" y="105"/>
                    </a:lnTo>
                    <a:lnTo>
                      <a:pt x="22" y="105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377120" y="29178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32" h="105">
                    <a:moveTo>
                      <a:pt x="110" y="0"/>
                    </a:moveTo>
                    <a:lnTo>
                      <a:pt x="132" y="71"/>
                    </a:lnTo>
                    <a:lnTo>
                      <a:pt x="22" y="105"/>
                    </a:lnTo>
                    <a:lnTo>
                      <a:pt x="22" y="10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372440" y="2919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112" y="0"/>
                    </a:moveTo>
                    <a:lnTo>
                      <a:pt x="134" y="7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367400" y="29210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114" y="0"/>
                    </a:moveTo>
                    <a:lnTo>
                      <a:pt x="134" y="7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362720" y="29228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5" h="104">
                    <a:moveTo>
                      <a:pt x="115" y="0"/>
                    </a:moveTo>
                    <a:lnTo>
                      <a:pt x="135" y="72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358040" y="292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118" y="0"/>
                    </a:moveTo>
                    <a:lnTo>
                      <a:pt x="136" y="7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351560" y="2924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119" y="0"/>
                    </a:moveTo>
                    <a:lnTo>
                      <a:pt x="138" y="73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346880" y="29257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39" h="101">
                    <a:moveTo>
                      <a:pt x="122" y="0"/>
                    </a:moveTo>
                    <a:lnTo>
                      <a:pt x="139" y="72"/>
                    </a:lnTo>
                    <a:lnTo>
                      <a:pt x="18" y="101"/>
                    </a:lnTo>
                    <a:lnTo>
                      <a:pt x="18" y="10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340400" y="29275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0" h="101">
                    <a:moveTo>
                      <a:pt x="122" y="0"/>
                    </a:moveTo>
                    <a:lnTo>
                      <a:pt x="140" y="73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335720" y="29289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0" h="100">
                    <a:moveTo>
                      <a:pt x="124" y="0"/>
                    </a:moveTo>
                    <a:lnTo>
                      <a:pt x="140" y="73"/>
                    </a:lnTo>
                    <a:lnTo>
                      <a:pt x="16" y="100"/>
                    </a:lnTo>
                    <a:lnTo>
                      <a:pt x="16" y="100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329600" y="2930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42" h="101">
                    <a:moveTo>
                      <a:pt x="127" y="0"/>
                    </a:moveTo>
                    <a:lnTo>
                      <a:pt x="142" y="74"/>
                    </a:lnTo>
                    <a:lnTo>
                      <a:pt x="15" y="101"/>
                    </a:lnTo>
                    <a:lnTo>
                      <a:pt x="15" y="10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324560" y="29307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2" h="99">
                    <a:moveTo>
                      <a:pt x="127" y="0"/>
                    </a:moveTo>
                    <a:lnTo>
                      <a:pt x="142" y="74"/>
                    </a:lnTo>
                    <a:lnTo>
                      <a:pt x="15" y="99"/>
                    </a:lnTo>
                    <a:lnTo>
                      <a:pt x="14" y="99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318440" y="29322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43" h="98">
                    <a:moveTo>
                      <a:pt x="129" y="0"/>
                    </a:moveTo>
                    <a:lnTo>
                      <a:pt x="143" y="73"/>
                    </a:lnTo>
                    <a:lnTo>
                      <a:pt x="14" y="98"/>
                    </a:lnTo>
                    <a:lnTo>
                      <a:pt x="13" y="9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313400" y="29336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4" h="97">
                    <a:moveTo>
                      <a:pt x="131" y="0"/>
                    </a:moveTo>
                    <a:lnTo>
                      <a:pt x="144" y="74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307280" y="29336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45" h="97">
                    <a:moveTo>
                      <a:pt x="131" y="0"/>
                    </a:moveTo>
                    <a:lnTo>
                      <a:pt x="145" y="73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300800" y="29354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6" h="96">
                    <a:moveTo>
                      <a:pt x="134" y="0"/>
                    </a:moveTo>
                    <a:lnTo>
                      <a:pt x="146" y="74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296120" y="29368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6" h="95">
                    <a:moveTo>
                      <a:pt x="134" y="0"/>
                    </a:moveTo>
                    <a:lnTo>
                      <a:pt x="146" y="74"/>
                    </a:lnTo>
                    <a:lnTo>
                      <a:pt x="11" y="95"/>
                    </a:lnTo>
                    <a:lnTo>
                      <a:pt x="11" y="9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289640" y="2936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8" h="94">
                    <a:moveTo>
                      <a:pt x="137" y="0"/>
                    </a:moveTo>
                    <a:lnTo>
                      <a:pt x="148" y="74"/>
                    </a:lnTo>
                    <a:lnTo>
                      <a:pt x="11" y="94"/>
                    </a:lnTo>
                    <a:lnTo>
                      <a:pt x="11" y="9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283520" y="2938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48" h="94">
                    <a:moveTo>
                      <a:pt x="137" y="0"/>
                    </a:moveTo>
                    <a:lnTo>
                      <a:pt x="148" y="74"/>
                    </a:lnTo>
                    <a:lnTo>
                      <a:pt x="10" y="94"/>
                    </a:lnTo>
                    <a:lnTo>
                      <a:pt x="10" y="9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277040" y="29386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40" y="0"/>
                    </a:moveTo>
                    <a:lnTo>
                      <a:pt x="150" y="74"/>
                    </a:lnTo>
                    <a:lnTo>
                      <a:pt x="11" y="93"/>
                    </a:lnTo>
                    <a:lnTo>
                      <a:pt x="11" y="93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270560" y="29401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0" h="92">
                    <a:moveTo>
                      <a:pt x="140" y="0"/>
                    </a:moveTo>
                    <a:lnTo>
                      <a:pt x="150" y="74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264440" y="29401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142" y="0"/>
                    </a:moveTo>
                    <a:lnTo>
                      <a:pt x="151" y="75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257960" y="2941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1" h="90">
                    <a:moveTo>
                      <a:pt x="143" y="0"/>
                    </a:moveTo>
                    <a:lnTo>
                      <a:pt x="151" y="74"/>
                    </a:lnTo>
                    <a:lnTo>
                      <a:pt x="8" y="90"/>
                    </a:lnTo>
                    <a:lnTo>
                      <a:pt x="7" y="9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251480" y="294156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151" h="90">
                    <a:moveTo>
                      <a:pt x="144" y="0"/>
                    </a:moveTo>
                    <a:lnTo>
                      <a:pt x="151" y="75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245360" y="29433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145" y="0"/>
                    </a:moveTo>
                    <a:lnTo>
                      <a:pt x="152" y="74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238880" y="29433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3" h="87">
                    <a:moveTo>
                      <a:pt x="147" y="0"/>
                    </a:moveTo>
                    <a:lnTo>
                      <a:pt x="153" y="74"/>
                    </a:lnTo>
                    <a:lnTo>
                      <a:pt x="7" y="87"/>
                    </a:lnTo>
                    <a:lnTo>
                      <a:pt x="6" y="8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232760" y="2943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53" h="87">
                    <a:moveTo>
                      <a:pt x="147" y="0"/>
                    </a:moveTo>
                    <a:lnTo>
                      <a:pt x="153" y="75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226280" y="29448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5" h="86">
                    <a:moveTo>
                      <a:pt x="148" y="0"/>
                    </a:moveTo>
                    <a:lnTo>
                      <a:pt x="155" y="75"/>
                    </a:lnTo>
                    <a:lnTo>
                      <a:pt x="6" y="86"/>
                    </a:lnTo>
                    <a:lnTo>
                      <a:pt x="6" y="8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219800" y="29448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5" h="85">
                    <a:moveTo>
                      <a:pt x="149" y="0"/>
                    </a:moveTo>
                    <a:lnTo>
                      <a:pt x="155" y="7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213680" y="29448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55" h="84">
                    <a:moveTo>
                      <a:pt x="150" y="0"/>
                    </a:moveTo>
                    <a:lnTo>
                      <a:pt x="155" y="75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207200" y="29466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5" h="83">
                    <a:moveTo>
                      <a:pt x="151" y="0"/>
                    </a:moveTo>
                    <a:lnTo>
                      <a:pt x="155" y="75"/>
                    </a:lnTo>
                    <a:lnTo>
                      <a:pt x="3" y="83"/>
                    </a:lnTo>
                    <a:lnTo>
                      <a:pt x="3" y="8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199280" y="2946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6" h="82">
                    <a:moveTo>
                      <a:pt x="153" y="0"/>
                    </a:moveTo>
                    <a:lnTo>
                      <a:pt x="156" y="75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192800" y="29466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6" h="80">
                    <a:moveTo>
                      <a:pt x="153" y="0"/>
                    </a:moveTo>
                    <a:lnTo>
                      <a:pt x="156" y="75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186680" y="29466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58" h="79">
                    <a:moveTo>
                      <a:pt x="155" y="0"/>
                    </a:moveTo>
                    <a:lnTo>
                      <a:pt x="158" y="74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178760" y="2946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8" h="78">
                    <a:moveTo>
                      <a:pt x="155" y="0"/>
                    </a:moveTo>
                    <a:lnTo>
                      <a:pt x="158" y="74"/>
                    </a:lnTo>
                    <a:lnTo>
                      <a:pt x="2" y="78"/>
                    </a:lnTo>
                    <a:lnTo>
                      <a:pt x="2" y="7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172280" y="29466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7" h="77">
                    <a:moveTo>
                      <a:pt x="155" y="0"/>
                    </a:moveTo>
                    <a:lnTo>
                      <a:pt x="157" y="74"/>
                    </a:lnTo>
                    <a:lnTo>
                      <a:pt x="1" y="77"/>
                    </a:lnTo>
                    <a:lnTo>
                      <a:pt x="0" y="7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165800" y="2946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7" h="75">
                    <a:moveTo>
                      <a:pt x="157" y="0"/>
                    </a:moveTo>
                    <a:lnTo>
                      <a:pt x="157" y="74"/>
                    </a:lnTo>
                    <a:lnTo>
                      <a:pt x="1" y="75"/>
                    </a:lnTo>
                    <a:lnTo>
                      <a:pt x="0" y="7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157880" y="29466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7" h="75">
                    <a:moveTo>
                      <a:pt x="157" y="0"/>
                    </a:moveTo>
                    <a:lnTo>
                      <a:pt x="157" y="74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157880" y="29480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0" h="74">
                    <a:moveTo>
                      <a:pt x="0" y="0"/>
                    </a:move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151760" y="2946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158" y="1"/>
                    </a:moveTo>
                    <a:lnTo>
                      <a:pt x="158" y="75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58" y="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145280" y="2946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158" y="1"/>
                    </a:moveTo>
                    <a:lnTo>
                      <a:pt x="157" y="75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58" y="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137360" y="29466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7" h="77">
                    <a:moveTo>
                      <a:pt x="157" y="3"/>
                    </a:moveTo>
                    <a:lnTo>
                      <a:pt x="156" y="77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57" y="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130880" y="29466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7" h="78">
                    <a:moveTo>
                      <a:pt x="157" y="4"/>
                    </a:moveTo>
                    <a:lnTo>
                      <a:pt x="155" y="78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124760" y="29466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57" h="79">
                    <a:moveTo>
                      <a:pt x="157" y="5"/>
                    </a:moveTo>
                    <a:lnTo>
                      <a:pt x="155" y="7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57" y="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116840" y="2946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7" h="80">
                    <a:moveTo>
                      <a:pt x="157" y="6"/>
                    </a:moveTo>
                    <a:lnTo>
                      <a:pt x="154" y="80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57" y="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110360" y="2946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7" h="82">
                    <a:moveTo>
                      <a:pt x="157" y="7"/>
                    </a:moveTo>
                    <a:lnTo>
                      <a:pt x="153" y="82"/>
                    </a:lnTo>
                    <a:lnTo>
                      <a:pt x="1" y="75"/>
                    </a:lnTo>
                    <a:lnTo>
                      <a:pt x="0" y="7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57" y="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103880" y="29466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5" h="83">
                    <a:moveTo>
                      <a:pt x="155" y="8"/>
                    </a:moveTo>
                    <a:lnTo>
                      <a:pt x="151" y="83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55" y="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097760" y="29448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55" h="84">
                    <a:moveTo>
                      <a:pt x="155" y="9"/>
                    </a:moveTo>
                    <a:lnTo>
                      <a:pt x="151" y="84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091280" y="29448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5" h="85">
                    <a:moveTo>
                      <a:pt x="155" y="10"/>
                    </a:moveTo>
                    <a:lnTo>
                      <a:pt x="150" y="85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55" y="1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084800" y="29448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54" h="86">
                    <a:moveTo>
                      <a:pt x="154" y="11"/>
                    </a:moveTo>
                    <a:lnTo>
                      <a:pt x="149" y="86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54" y="1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076880" y="29433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4" h="87">
                    <a:moveTo>
                      <a:pt x="154" y="12"/>
                    </a:moveTo>
                    <a:lnTo>
                      <a:pt x="148" y="87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154" y="1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070760" y="29433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4" h="87">
                    <a:moveTo>
                      <a:pt x="154" y="12"/>
                    </a:moveTo>
                    <a:lnTo>
                      <a:pt x="147" y="87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4" y="1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064280" y="29433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152" y="14"/>
                    </a:moveTo>
                    <a:lnTo>
                      <a:pt x="145" y="88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2" y="1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057800" y="294156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152" h="90">
                    <a:moveTo>
                      <a:pt x="152" y="16"/>
                    </a:moveTo>
                    <a:lnTo>
                      <a:pt x="145" y="90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52" y="1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051680" y="2941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1" h="90">
                    <a:moveTo>
                      <a:pt x="151" y="15"/>
                    </a:moveTo>
                    <a:lnTo>
                      <a:pt x="143" y="9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51" y="1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045200" y="29401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150" y="17"/>
                    </a:moveTo>
                    <a:lnTo>
                      <a:pt x="142" y="91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50" y="1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039080" y="29401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150" h="92">
                    <a:moveTo>
                      <a:pt x="150" y="17"/>
                    </a:moveTo>
                    <a:lnTo>
                      <a:pt x="140" y="9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150" y="1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034040" y="29386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9"/>
                    </a:moveTo>
                    <a:lnTo>
                      <a:pt x="140" y="93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50" y="1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027920" y="29386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48" h="94">
                    <a:moveTo>
                      <a:pt x="148" y="20"/>
                    </a:moveTo>
                    <a:lnTo>
                      <a:pt x="138" y="9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48" y="2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021440" y="2936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8" h="94">
                    <a:moveTo>
                      <a:pt x="148" y="20"/>
                    </a:moveTo>
                    <a:lnTo>
                      <a:pt x="137" y="9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8" y="2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014960" y="29368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7" h="95">
                    <a:moveTo>
                      <a:pt x="147" y="21"/>
                    </a:moveTo>
                    <a:lnTo>
                      <a:pt x="135" y="95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7" y="2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008840" y="29354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46" h="96">
                    <a:moveTo>
                      <a:pt x="146" y="22"/>
                    </a:moveTo>
                    <a:lnTo>
                      <a:pt x="134" y="96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6" y="2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004160" y="29336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44" h="97">
                    <a:moveTo>
                      <a:pt x="144" y="23"/>
                    </a:moveTo>
                    <a:lnTo>
                      <a:pt x="132" y="97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4" y="2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997680" y="29336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45" h="97">
                    <a:moveTo>
                      <a:pt x="145" y="24"/>
                    </a:moveTo>
                    <a:lnTo>
                      <a:pt x="132" y="97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5" y="2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993000" y="29322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44" h="98">
                    <a:moveTo>
                      <a:pt x="144" y="24"/>
                    </a:moveTo>
                    <a:lnTo>
                      <a:pt x="130" y="98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4" y="2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986520" y="29307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3" h="99">
                    <a:moveTo>
                      <a:pt x="143" y="26"/>
                    </a:moveTo>
                    <a:lnTo>
                      <a:pt x="127" y="9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3" y="2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6980040" y="29307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42" h="101">
                    <a:moveTo>
                      <a:pt x="142" y="27"/>
                    </a:moveTo>
                    <a:lnTo>
                      <a:pt x="127" y="101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42" y="2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6975360" y="29289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2" h="100">
                    <a:moveTo>
                      <a:pt x="142" y="28"/>
                    </a:moveTo>
                    <a:lnTo>
                      <a:pt x="125" y="100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42" y="2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6970680" y="2927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41" h="101">
                    <a:moveTo>
                      <a:pt x="141" y="28"/>
                    </a:moveTo>
                    <a:lnTo>
                      <a:pt x="124" y="101"/>
                    </a:lnTo>
                    <a:lnTo>
                      <a:pt x="1" y="73"/>
                    </a:lnTo>
                    <a:lnTo>
                      <a:pt x="0" y="73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41" y="2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964200" y="29257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40" h="101">
                    <a:moveTo>
                      <a:pt x="140" y="28"/>
                    </a:moveTo>
                    <a:lnTo>
                      <a:pt x="121" y="10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0" y="2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6959520" y="2924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7" h="102">
                    <a:moveTo>
                      <a:pt x="137" y="30"/>
                    </a:moveTo>
                    <a:lnTo>
                      <a:pt x="119" y="102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37" y="3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6954840" y="2924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37" y="30"/>
                    </a:moveTo>
                    <a:lnTo>
                      <a:pt x="119" y="10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7" y="3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948360" y="29228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6" h="104">
                    <a:moveTo>
                      <a:pt x="136" y="31"/>
                    </a:moveTo>
                    <a:lnTo>
                      <a:pt x="116" y="104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36" y="3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943680" y="29210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5" h="104">
                    <a:moveTo>
                      <a:pt x="135" y="33"/>
                    </a:moveTo>
                    <a:lnTo>
                      <a:pt x="115" y="104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35" y="3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939000" y="2919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34" h="104">
                    <a:moveTo>
                      <a:pt x="134" y="32"/>
                    </a:moveTo>
                    <a:lnTo>
                      <a:pt x="113" y="104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34" y="3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934320" y="29178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33" h="104">
                    <a:moveTo>
                      <a:pt x="133" y="32"/>
                    </a:moveTo>
                    <a:lnTo>
                      <a:pt x="111" y="104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133" y="3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929280" y="29163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32" h="105">
                    <a:moveTo>
                      <a:pt x="132" y="35"/>
                    </a:moveTo>
                    <a:lnTo>
                      <a:pt x="109" y="105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32" y="3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924600" y="29145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31" h="106">
                    <a:moveTo>
                      <a:pt x="131" y="34"/>
                    </a:moveTo>
                    <a:lnTo>
                      <a:pt x="107" y="106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31" y="3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919920" y="29131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129" y="35"/>
                    </a:moveTo>
                    <a:lnTo>
                      <a:pt x="105" y="10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29" y="3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915240" y="29116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8" h="106">
                    <a:moveTo>
                      <a:pt x="128" y="36"/>
                    </a:moveTo>
                    <a:lnTo>
                      <a:pt x="104" y="106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28" y="3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910200" y="2909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7" h="107">
                    <a:moveTo>
                      <a:pt x="127" y="36"/>
                    </a:moveTo>
                    <a:lnTo>
                      <a:pt x="101" y="107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27" y="3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907320" y="2908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5" h="108">
                    <a:moveTo>
                      <a:pt x="125" y="38"/>
                    </a:moveTo>
                    <a:lnTo>
                      <a:pt x="99" y="108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25" y="3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902280" y="2906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25" h="107">
                    <a:moveTo>
                      <a:pt x="125" y="37"/>
                    </a:moveTo>
                    <a:lnTo>
                      <a:pt x="98" y="107"/>
                    </a:lnTo>
                    <a:lnTo>
                      <a:pt x="1" y="70"/>
                    </a:lnTo>
                    <a:lnTo>
                      <a:pt x="0" y="69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125" y="3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897600" y="29052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5" h="107">
                    <a:moveTo>
                      <a:pt x="125" y="38"/>
                    </a:moveTo>
                    <a:lnTo>
                      <a:pt x="95" y="107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125" y="3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894360" y="29037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23" h="108">
                    <a:moveTo>
                      <a:pt x="123" y="40"/>
                    </a:moveTo>
                    <a:lnTo>
                      <a:pt x="93" y="108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123" y="4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889680" y="2901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2" h="108">
                    <a:moveTo>
                      <a:pt x="122" y="40"/>
                    </a:moveTo>
                    <a:lnTo>
                      <a:pt x="91" y="108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122" y="4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886440" y="2900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0" h="108">
                    <a:moveTo>
                      <a:pt x="120" y="40"/>
                    </a:moveTo>
                    <a:lnTo>
                      <a:pt x="88" y="108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120" y="4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881760" y="28987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19" h="108">
                    <a:moveTo>
                      <a:pt x="119" y="41"/>
                    </a:moveTo>
                    <a:lnTo>
                      <a:pt x="87" y="108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119" y="4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878520" y="2897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9" h="109">
                    <a:moveTo>
                      <a:pt x="119" y="42"/>
                    </a:moveTo>
                    <a:lnTo>
                      <a:pt x="85" y="109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19" y="4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875280" y="2894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7" h="108">
                    <a:moveTo>
                      <a:pt x="117" y="42"/>
                    </a:moveTo>
                    <a:lnTo>
                      <a:pt x="81" y="108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17" y="4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870600" y="2892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5" h="108">
                    <a:moveTo>
                      <a:pt x="115" y="42"/>
                    </a:moveTo>
                    <a:lnTo>
                      <a:pt x="80" y="108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115" y="4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867360" y="28908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114" y="43"/>
                    </a:moveTo>
                    <a:lnTo>
                      <a:pt x="77" y="108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114" y="4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864120" y="28893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114" y="43"/>
                    </a:moveTo>
                    <a:lnTo>
                      <a:pt x="76" y="108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114" y="4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861240" y="288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2" h="107">
                    <a:moveTo>
                      <a:pt x="112" y="44"/>
                    </a:moveTo>
                    <a:lnTo>
                      <a:pt x="72" y="107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112" y="4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858000" y="2884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2" h="107">
                    <a:moveTo>
                      <a:pt x="112" y="44"/>
                    </a:moveTo>
                    <a:lnTo>
                      <a:pt x="71" y="107"/>
                    </a:lnTo>
                    <a:lnTo>
                      <a:pt x="1" y="61"/>
                    </a:lnTo>
                    <a:lnTo>
                      <a:pt x="0" y="6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112" y="4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854760" y="2882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10" h="107">
                    <a:moveTo>
                      <a:pt x="110" y="46"/>
                    </a:moveTo>
                    <a:lnTo>
                      <a:pt x="67" y="107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110" y="4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853320" y="2881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9" h="106">
                    <a:moveTo>
                      <a:pt x="109" y="45"/>
                    </a:moveTo>
                    <a:lnTo>
                      <a:pt x="65" y="106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109" y="4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850080" y="2879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9" h="106">
                    <a:moveTo>
                      <a:pt x="109" y="47"/>
                    </a:moveTo>
                    <a:lnTo>
                      <a:pt x="64" y="106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109" y="4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846840" y="2876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7" h="105">
                    <a:moveTo>
                      <a:pt x="107" y="46"/>
                    </a:moveTo>
                    <a:lnTo>
                      <a:pt x="60" y="105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107" y="4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845400" y="28749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06" h="104">
                    <a:moveTo>
                      <a:pt x="106" y="47"/>
                    </a:moveTo>
                    <a:lnTo>
                      <a:pt x="57" y="104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6" y="4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842160" y="287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5" h="103">
                    <a:moveTo>
                      <a:pt x="105" y="47"/>
                    </a:moveTo>
                    <a:lnTo>
                      <a:pt x="55" y="103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52" y="1"/>
                    </a:lnTo>
                    <a:lnTo>
                      <a:pt x="51" y="0"/>
                    </a:lnTo>
                    <a:lnTo>
                      <a:pt x="105" y="4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838920" y="2870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105" y="49"/>
                    </a:moveTo>
                    <a:lnTo>
                      <a:pt x="53" y="102"/>
                    </a:lnTo>
                    <a:lnTo>
                      <a:pt x="1" y="54"/>
                    </a:lnTo>
                    <a:lnTo>
                      <a:pt x="0" y="54"/>
                    </a:lnTo>
                    <a:lnTo>
                      <a:pt x="54" y="1"/>
                    </a:lnTo>
                    <a:lnTo>
                      <a:pt x="53" y="0"/>
                    </a:lnTo>
                    <a:lnTo>
                      <a:pt x="105" y="4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837480" y="2868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3" h="101">
                    <a:moveTo>
                      <a:pt x="103" y="48"/>
                    </a:moveTo>
                    <a:lnTo>
                      <a:pt x="49" y="101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55" y="1"/>
                    </a:lnTo>
                    <a:lnTo>
                      <a:pt x="54" y="0"/>
                    </a:lnTo>
                    <a:lnTo>
                      <a:pt x="103" y="4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835680" y="2867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2" h="99">
                    <a:moveTo>
                      <a:pt x="102" y="49"/>
                    </a:moveTo>
                    <a:lnTo>
                      <a:pt x="47" y="9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102" y="4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834240" y="28638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101" y="48"/>
                    </a:moveTo>
                    <a:lnTo>
                      <a:pt x="45" y="98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101" y="4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831000" y="286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1" h="96">
                    <a:moveTo>
                      <a:pt x="101" y="49"/>
                    </a:moveTo>
                    <a:lnTo>
                      <a:pt x="42" y="9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101" y="4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829200" y="28609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00" h="95">
                    <a:moveTo>
                      <a:pt x="100" y="49"/>
                    </a:moveTo>
                    <a:lnTo>
                      <a:pt x="38" y="95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62" y="1"/>
                    </a:lnTo>
                    <a:lnTo>
                      <a:pt x="62" y="0"/>
                    </a:lnTo>
                    <a:lnTo>
                      <a:pt x="100" y="4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827760" y="2857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8" h="93">
                    <a:moveTo>
                      <a:pt x="98" y="51"/>
                    </a:moveTo>
                    <a:lnTo>
                      <a:pt x="36" y="93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64" y="1"/>
                    </a:lnTo>
                    <a:lnTo>
                      <a:pt x="64" y="0"/>
                    </a:lnTo>
                    <a:lnTo>
                      <a:pt x="98" y="5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826320" y="2855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97" y="50"/>
                    </a:moveTo>
                    <a:lnTo>
                      <a:pt x="33" y="9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97" y="5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826320" y="28544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94" h="88">
                    <a:moveTo>
                      <a:pt x="94" y="51"/>
                    </a:moveTo>
                    <a:lnTo>
                      <a:pt x="29" y="88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67" y="1"/>
                    </a:lnTo>
                    <a:lnTo>
                      <a:pt x="66" y="0"/>
                    </a:lnTo>
                    <a:lnTo>
                      <a:pt x="94" y="5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824520" y="2851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5" h="83">
                    <a:moveTo>
                      <a:pt x="95" y="50"/>
                    </a:moveTo>
                    <a:lnTo>
                      <a:pt x="28" y="8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69" y="1"/>
                    </a:lnTo>
                    <a:lnTo>
                      <a:pt x="68" y="0"/>
                    </a:lnTo>
                    <a:lnTo>
                      <a:pt x="95" y="5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823080" y="2849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2" h="82">
                    <a:moveTo>
                      <a:pt x="92" y="52"/>
                    </a:moveTo>
                    <a:lnTo>
                      <a:pt x="23" y="8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0" y="1"/>
                    </a:lnTo>
                    <a:lnTo>
                      <a:pt x="69" y="0"/>
                    </a:lnTo>
                    <a:lnTo>
                      <a:pt x="92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823080" y="2846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92" h="79">
                    <a:moveTo>
                      <a:pt x="92" y="52"/>
                    </a:moveTo>
                    <a:lnTo>
                      <a:pt x="22" y="79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72" y="2"/>
                    </a:lnTo>
                    <a:lnTo>
                      <a:pt x="72" y="0"/>
                    </a:lnTo>
                    <a:lnTo>
                      <a:pt x="92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821280" y="28447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89" h="75">
                    <a:moveTo>
                      <a:pt x="89" y="52"/>
                    </a:moveTo>
                    <a:lnTo>
                      <a:pt x="17" y="75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89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821280" y="2843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87" h="71">
                    <a:moveTo>
                      <a:pt x="87" y="52"/>
                    </a:moveTo>
                    <a:lnTo>
                      <a:pt x="15" y="71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74" y="1"/>
                    </a:lnTo>
                    <a:lnTo>
                      <a:pt x="73" y="0"/>
                    </a:lnTo>
                    <a:lnTo>
                      <a:pt x="87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819840" y="2840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86" y="52"/>
                    </a:moveTo>
                    <a:lnTo>
                      <a:pt x="12" y="68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75" y="1"/>
                    </a:lnTo>
                    <a:lnTo>
                      <a:pt x="75" y="0"/>
                    </a:lnTo>
                    <a:lnTo>
                      <a:pt x="86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819840" y="28386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83" y="53"/>
                    </a:moveTo>
                    <a:lnTo>
                      <a:pt x="8" y="64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76" y="1"/>
                    </a:lnTo>
                    <a:lnTo>
                      <a:pt x="76" y="0"/>
                    </a:lnTo>
                    <a:lnTo>
                      <a:pt x="83" y="5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819840" y="2835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1" h="59">
                    <a:moveTo>
                      <a:pt x="81" y="52"/>
                    </a:moveTo>
                    <a:lnTo>
                      <a:pt x="5" y="5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76" y="2"/>
                    </a:lnTo>
                    <a:lnTo>
                      <a:pt x="76" y="0"/>
                    </a:lnTo>
                    <a:lnTo>
                      <a:pt x="81" y="5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819840" y="2833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7" h="56">
                    <a:moveTo>
                      <a:pt x="77" y="54"/>
                    </a:moveTo>
                    <a:lnTo>
                      <a:pt x="1" y="5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7" y="54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819840" y="2833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4" h="2">
                    <a:moveTo>
                      <a:pt x="7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819840" y="2830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7" h="57">
                    <a:moveTo>
                      <a:pt x="74" y="57"/>
                    </a:moveTo>
                    <a:lnTo>
                      <a:pt x="0" y="55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77" y="6"/>
                    </a:lnTo>
                    <a:lnTo>
                      <a:pt x="77" y="5"/>
                    </a:lnTo>
                    <a:lnTo>
                      <a:pt x="74" y="5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819840" y="2828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1" h="63">
                    <a:moveTo>
                      <a:pt x="76" y="63"/>
                    </a:moveTo>
                    <a:lnTo>
                      <a:pt x="0" y="57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80" y="11"/>
                    </a:lnTo>
                    <a:lnTo>
                      <a:pt x="81" y="10"/>
                    </a:lnTo>
                    <a:lnTo>
                      <a:pt x="76" y="6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819840" y="2826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83" h="67">
                    <a:moveTo>
                      <a:pt x="75" y="67"/>
                    </a:moveTo>
                    <a:lnTo>
                      <a:pt x="0" y="56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3" y="16"/>
                    </a:lnTo>
                    <a:lnTo>
                      <a:pt x="83" y="15"/>
                    </a:lnTo>
                    <a:lnTo>
                      <a:pt x="75" y="6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819840" y="2824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5" h="70">
                    <a:moveTo>
                      <a:pt x="75" y="70"/>
                    </a:moveTo>
                    <a:lnTo>
                      <a:pt x="0" y="54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85" y="19"/>
                    </a:lnTo>
                    <a:lnTo>
                      <a:pt x="85" y="18"/>
                    </a:lnTo>
                    <a:lnTo>
                      <a:pt x="75" y="7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821280" y="2820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6" h="75">
                    <a:moveTo>
                      <a:pt x="72" y="75"/>
                    </a:moveTo>
                    <a:lnTo>
                      <a:pt x="0" y="56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85" y="24"/>
                    </a:lnTo>
                    <a:lnTo>
                      <a:pt x="86" y="2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821280" y="2819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89" h="77">
                    <a:moveTo>
                      <a:pt x="71" y="77"/>
                    </a:moveTo>
                    <a:lnTo>
                      <a:pt x="0" y="53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89" y="26"/>
                    </a:lnTo>
                    <a:lnTo>
                      <a:pt x="89" y="25"/>
                    </a:lnTo>
                    <a:lnTo>
                      <a:pt x="71" y="7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823080" y="2816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0" h="81">
                    <a:moveTo>
                      <a:pt x="71" y="81"/>
                    </a:moveTo>
                    <a:lnTo>
                      <a:pt x="0" y="5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90" y="30"/>
                    </a:lnTo>
                    <a:lnTo>
                      <a:pt x="90" y="29"/>
                    </a:lnTo>
                    <a:lnTo>
                      <a:pt x="71" y="8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823080" y="281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91" h="83">
                    <a:moveTo>
                      <a:pt x="69" y="83"/>
                    </a:moveTo>
                    <a:lnTo>
                      <a:pt x="0" y="53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91" y="33"/>
                    </a:lnTo>
                    <a:lnTo>
                      <a:pt x="91" y="33"/>
                    </a:lnTo>
                    <a:lnTo>
                      <a:pt x="69" y="8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824520" y="2811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3" h="86">
                    <a:moveTo>
                      <a:pt x="67" y="86"/>
                    </a:moveTo>
                    <a:lnTo>
                      <a:pt x="0" y="53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93" y="36"/>
                    </a:lnTo>
                    <a:lnTo>
                      <a:pt x="93" y="35"/>
                    </a:lnTo>
                    <a:lnTo>
                      <a:pt x="67" y="8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6826320" y="2809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94" h="90">
                    <a:moveTo>
                      <a:pt x="66" y="90"/>
                    </a:moveTo>
                    <a:lnTo>
                      <a:pt x="0" y="54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94" y="41"/>
                    </a:lnTo>
                    <a:lnTo>
                      <a:pt x="94" y="40"/>
                    </a:lnTo>
                    <a:lnTo>
                      <a:pt x="66" y="90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6826320" y="2806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6" h="92">
                    <a:moveTo>
                      <a:pt x="64" y="92"/>
                    </a:moveTo>
                    <a:lnTo>
                      <a:pt x="0" y="5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95" y="42"/>
                    </a:lnTo>
                    <a:lnTo>
                      <a:pt x="96" y="41"/>
                    </a:lnTo>
                    <a:lnTo>
                      <a:pt x="64" y="9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6827760" y="2805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7" h="95">
                    <a:moveTo>
                      <a:pt x="62" y="95"/>
                    </a:moveTo>
                    <a:lnTo>
                      <a:pt x="0" y="53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97" y="46"/>
                    </a:lnTo>
                    <a:lnTo>
                      <a:pt x="97" y="45"/>
                    </a:lnTo>
                    <a:lnTo>
                      <a:pt x="62" y="9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6829200" y="28018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97" h="96">
                    <a:moveTo>
                      <a:pt x="61" y="96"/>
                    </a:moveTo>
                    <a:lnTo>
                      <a:pt x="0" y="5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97" y="46"/>
                    </a:lnTo>
                    <a:lnTo>
                      <a:pt x="97" y="46"/>
                    </a:lnTo>
                    <a:lnTo>
                      <a:pt x="61" y="9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6831000" y="2800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9" y="98"/>
                    </a:moveTo>
                    <a:lnTo>
                      <a:pt x="0" y="52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59" y="9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834240" y="2797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00" h="99">
                    <a:moveTo>
                      <a:pt x="57" y="99"/>
                    </a:moveTo>
                    <a:lnTo>
                      <a:pt x="0" y="49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57" y="99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35680" y="2795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1" h="101">
                    <a:moveTo>
                      <a:pt x="55" y="101"/>
                    </a:moveTo>
                    <a:lnTo>
                      <a:pt x="0" y="51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101" y="54"/>
                    </a:lnTo>
                    <a:lnTo>
                      <a:pt x="101" y="53"/>
                    </a:lnTo>
                    <a:lnTo>
                      <a:pt x="55" y="101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837480" y="2793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4" y="102"/>
                    </a:moveTo>
                    <a:lnTo>
                      <a:pt x="0" y="48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2" y="53"/>
                    </a:lnTo>
                    <a:lnTo>
                      <a:pt x="102" y="53"/>
                    </a:lnTo>
                    <a:lnTo>
                      <a:pt x="54" y="102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40360" y="2791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03" h="103">
                    <a:moveTo>
                      <a:pt x="52" y="103"/>
                    </a:moveTo>
                    <a:lnTo>
                      <a:pt x="0" y="50"/>
                    </a:lnTo>
                    <a:lnTo>
                      <a:pt x="52" y="1"/>
                    </a:lnTo>
                    <a:lnTo>
                      <a:pt x="53" y="0"/>
                    </a:lnTo>
                    <a:lnTo>
                      <a:pt x="103" y="57"/>
                    </a:lnTo>
                    <a:lnTo>
                      <a:pt x="103" y="56"/>
                    </a:lnTo>
                    <a:lnTo>
                      <a:pt x="52" y="103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842160" y="2789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50" y="105"/>
                    </a:moveTo>
                    <a:lnTo>
                      <a:pt x="0" y="48"/>
                    </a:lnTo>
                    <a:lnTo>
                      <a:pt x="54" y="1"/>
                    </a:lnTo>
                    <a:lnTo>
                      <a:pt x="55" y="0"/>
                    </a:lnTo>
                    <a:lnTo>
                      <a:pt x="103" y="57"/>
                    </a:lnTo>
                    <a:lnTo>
                      <a:pt x="104" y="57"/>
                    </a:lnTo>
                    <a:lnTo>
                      <a:pt x="50" y="10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845400" y="2787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48" y="105"/>
                    </a:moveTo>
                    <a:lnTo>
                      <a:pt x="0" y="48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104" y="59"/>
                    </a:lnTo>
                    <a:lnTo>
                      <a:pt x="104" y="59"/>
                    </a:lnTo>
                    <a:lnTo>
                      <a:pt x="48" y="105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6846840" y="2784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6" h="106">
                    <a:moveTo>
                      <a:pt x="47" y="106"/>
                    </a:moveTo>
                    <a:lnTo>
                      <a:pt x="0" y="47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47" y="10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6850080" y="2782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8" h="106">
                    <a:moveTo>
                      <a:pt x="46" y="106"/>
                    </a:moveTo>
                    <a:lnTo>
                      <a:pt x="0" y="47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108" y="61"/>
                    </a:lnTo>
                    <a:lnTo>
                      <a:pt x="108" y="61"/>
                    </a:lnTo>
                    <a:lnTo>
                      <a:pt x="46" y="106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6853320" y="278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44" y="107"/>
                    </a:moveTo>
                    <a:lnTo>
                      <a:pt x="0" y="46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107" y="61"/>
                    </a:lnTo>
                    <a:lnTo>
                      <a:pt x="108" y="61"/>
                    </a:lnTo>
                    <a:lnTo>
                      <a:pt x="44" y="10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854760" y="2779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42" y="107"/>
                    </a:moveTo>
                    <a:lnTo>
                      <a:pt x="0" y="46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108" y="63"/>
                    </a:lnTo>
                    <a:lnTo>
                      <a:pt x="109" y="63"/>
                    </a:lnTo>
                    <a:lnTo>
                      <a:pt x="42" y="107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858000" y="2776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0" h="108">
                    <a:moveTo>
                      <a:pt x="41" y="108"/>
                    </a:moveTo>
                    <a:lnTo>
                      <a:pt x="0" y="45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110" y="63"/>
                    </a:lnTo>
                    <a:lnTo>
                      <a:pt x="110" y="63"/>
                    </a:lnTo>
                    <a:lnTo>
                      <a:pt x="41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861240" y="2774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11" h="108">
                    <a:moveTo>
                      <a:pt x="39" y="108"/>
                    </a:moveTo>
                    <a:lnTo>
                      <a:pt x="0" y="45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111" y="65"/>
                    </a:lnTo>
                    <a:lnTo>
                      <a:pt x="111" y="64"/>
                    </a:lnTo>
                    <a:lnTo>
                      <a:pt x="39" y="108"/>
                    </a:lnTo>
                    <a:close/>
                  </a:path>
                </a:pathLst>
              </a:custGeom>
              <a:solidFill>
                <a:srgbClr val="aae6ff"/>
              </a:solidFill>
              <a:ln w="0">
                <a:solidFill>
                  <a:srgbClr val="aae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4" name=""/>
            <p:cNvSpPr/>
            <p:nvPr/>
          </p:nvSpPr>
          <p:spPr>
            <a:xfrm>
              <a:off x="6864120" y="2773440"/>
              <a:ext cx="5040" cy="4680"/>
            </a:xfrm>
            <a:custGeom>
              <a:avLst/>
              <a:gdLst/>
              <a:ahLst/>
              <a:rect l="l" t="t" r="r" b="b"/>
              <a:pathLst>
                <a:path w="112" h="109">
                  <a:moveTo>
                    <a:pt x="39" y="109"/>
                  </a:moveTo>
                  <a:lnTo>
                    <a:pt x="0" y="44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112" y="65"/>
                  </a:lnTo>
                  <a:lnTo>
                    <a:pt x="112" y="64"/>
                  </a:lnTo>
                  <a:lnTo>
                    <a:pt x="39" y="109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67360" y="2772000"/>
              <a:ext cx="5040" cy="4680"/>
            </a:xfrm>
            <a:custGeom>
              <a:avLst/>
              <a:gdLst/>
              <a:ahLst/>
              <a:rect l="l" t="t" r="r" b="b"/>
              <a:pathLst>
                <a:path w="113" h="109">
                  <a:moveTo>
                    <a:pt x="36" y="109"/>
                  </a:moveTo>
                  <a:lnTo>
                    <a:pt x="0" y="4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113" y="66"/>
                  </a:lnTo>
                  <a:lnTo>
                    <a:pt x="113" y="66"/>
                  </a:lnTo>
                  <a:lnTo>
                    <a:pt x="36" y="109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70600" y="2768760"/>
              <a:ext cx="6480" cy="468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37" y="108"/>
                  </a:moveTo>
                  <a:lnTo>
                    <a:pt x="0" y="42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115" y="65"/>
                  </a:lnTo>
                  <a:lnTo>
                    <a:pt x="115" y="65"/>
                  </a:lnTo>
                  <a:lnTo>
                    <a:pt x="37" y="108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875280" y="2766960"/>
              <a:ext cx="5040" cy="504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34" y="108"/>
                  </a:moveTo>
                  <a:lnTo>
                    <a:pt x="0" y="43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115" y="67"/>
                  </a:lnTo>
                  <a:lnTo>
                    <a:pt x="115" y="67"/>
                  </a:lnTo>
                  <a:lnTo>
                    <a:pt x="34" y="108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878520" y="2765520"/>
              <a:ext cx="4680" cy="4680"/>
            </a:xfrm>
            <a:custGeom>
              <a:avLst/>
              <a:gdLst/>
              <a:ahLst/>
              <a:rect l="l" t="t" r="r" b="b"/>
              <a:pathLst>
                <a:path w="118" h="109">
                  <a:moveTo>
                    <a:pt x="34" y="109"/>
                  </a:moveTo>
                  <a:lnTo>
                    <a:pt x="0" y="42"/>
                  </a:lnTo>
                  <a:lnTo>
                    <a:pt x="84" y="1"/>
                  </a:lnTo>
                  <a:lnTo>
                    <a:pt x="85" y="0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34" y="109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881760" y="2764080"/>
              <a:ext cx="6480" cy="4680"/>
            </a:xfrm>
            <a:custGeom>
              <a:avLst/>
              <a:gdLst/>
              <a:ahLst/>
              <a:rect l="l" t="t" r="r" b="b"/>
              <a:pathLst>
                <a:path w="118" h="109">
                  <a:moveTo>
                    <a:pt x="33" y="109"/>
                  </a:moveTo>
                  <a:lnTo>
                    <a:pt x="0" y="41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17" y="68"/>
                  </a:lnTo>
                  <a:lnTo>
                    <a:pt x="118" y="68"/>
                  </a:lnTo>
                  <a:lnTo>
                    <a:pt x="33" y="109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886440" y="2762280"/>
              <a:ext cx="4680" cy="4680"/>
            </a:xfrm>
            <a:custGeom>
              <a:avLst/>
              <a:gdLst/>
              <a:ahLst/>
              <a:rect l="l" t="t" r="r" b="b"/>
              <a:pathLst>
                <a:path w="120" h="109">
                  <a:moveTo>
                    <a:pt x="31" y="109"/>
                  </a:moveTo>
                  <a:lnTo>
                    <a:pt x="0" y="41"/>
                  </a:lnTo>
                  <a:lnTo>
                    <a:pt x="88" y="1"/>
                  </a:lnTo>
                  <a:lnTo>
                    <a:pt x="88" y="0"/>
                  </a:lnTo>
                  <a:lnTo>
                    <a:pt x="119" y="69"/>
                  </a:lnTo>
                  <a:lnTo>
                    <a:pt x="120" y="69"/>
                  </a:lnTo>
                  <a:lnTo>
                    <a:pt x="31" y="109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889680" y="2760840"/>
              <a:ext cx="4680" cy="468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31" y="108"/>
                  </a:moveTo>
                  <a:lnTo>
                    <a:pt x="0" y="39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122" y="68"/>
                  </a:lnTo>
                  <a:lnTo>
                    <a:pt x="122" y="68"/>
                  </a:lnTo>
                  <a:lnTo>
                    <a:pt x="31" y="108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94360" y="2759040"/>
              <a:ext cx="5040" cy="5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31" y="108"/>
                  </a:moveTo>
                  <a:lnTo>
                    <a:pt x="0" y="4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123" y="69"/>
                  </a:lnTo>
                  <a:lnTo>
                    <a:pt x="123" y="69"/>
                  </a:lnTo>
                  <a:lnTo>
                    <a:pt x="31" y="108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97600" y="2757600"/>
              <a:ext cx="6480" cy="3240"/>
            </a:xfrm>
            <a:custGeom>
              <a:avLst/>
              <a:gdLst/>
              <a:ahLst/>
              <a:rect l="l" t="t" r="r" b="b"/>
              <a:pathLst>
                <a:path w="123" h="107">
                  <a:moveTo>
                    <a:pt x="29" y="107"/>
                  </a:moveTo>
                  <a:lnTo>
                    <a:pt x="0" y="38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23" y="70"/>
                  </a:lnTo>
                  <a:lnTo>
                    <a:pt x="123" y="68"/>
                  </a:lnTo>
                  <a:lnTo>
                    <a:pt x="29" y="107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902280" y="2754360"/>
              <a:ext cx="5040" cy="4680"/>
            </a:xfrm>
            <a:custGeom>
              <a:avLst/>
              <a:gdLst/>
              <a:ahLst/>
              <a:rect l="l" t="t" r="r" b="b"/>
              <a:pathLst>
                <a:path w="124" h="109">
                  <a:moveTo>
                    <a:pt x="28" y="109"/>
                  </a:moveTo>
                  <a:lnTo>
                    <a:pt x="0" y="39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24" y="70"/>
                  </a:lnTo>
                  <a:lnTo>
                    <a:pt x="124" y="70"/>
                  </a:lnTo>
                  <a:lnTo>
                    <a:pt x="28" y="109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907320" y="2752920"/>
              <a:ext cx="4680" cy="4680"/>
            </a:xfrm>
            <a:custGeom>
              <a:avLst/>
              <a:gdLst/>
              <a:ahLst/>
              <a:rect l="l" t="t" r="r" b="b"/>
              <a:pathLst>
                <a:path w="125" h="107">
                  <a:moveTo>
                    <a:pt x="27" y="107"/>
                  </a:moveTo>
                  <a:lnTo>
                    <a:pt x="0" y="37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25" y="71"/>
                  </a:lnTo>
                  <a:lnTo>
                    <a:pt x="125" y="70"/>
                  </a:lnTo>
                  <a:lnTo>
                    <a:pt x="27" y="107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910200" y="2751120"/>
              <a:ext cx="6480" cy="5040"/>
            </a:xfrm>
            <a:custGeom>
              <a:avLst/>
              <a:gdLst/>
              <a:ahLst/>
              <a:rect l="l" t="t" r="r" b="b"/>
              <a:pathLst>
                <a:path w="126" h="107">
                  <a:moveTo>
                    <a:pt x="25" y="107"/>
                  </a:moveTo>
                  <a:lnTo>
                    <a:pt x="0" y="3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25" y="69"/>
                  </a:lnTo>
                  <a:lnTo>
                    <a:pt x="126" y="69"/>
                  </a:lnTo>
                  <a:lnTo>
                    <a:pt x="25" y="107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915240" y="2749680"/>
              <a:ext cx="6120" cy="4680"/>
            </a:xfrm>
            <a:custGeom>
              <a:avLst/>
              <a:gdLst/>
              <a:ahLst/>
              <a:rect l="l" t="t" r="r" b="b"/>
              <a:pathLst>
                <a:path w="127" h="106">
                  <a:moveTo>
                    <a:pt x="24" y="106"/>
                  </a:moveTo>
                  <a:lnTo>
                    <a:pt x="0" y="37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27" y="71"/>
                  </a:lnTo>
                  <a:lnTo>
                    <a:pt x="127" y="71"/>
                  </a:lnTo>
                  <a:lnTo>
                    <a:pt x="24" y="106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919920" y="2747880"/>
              <a:ext cx="6120" cy="5040"/>
            </a:xfrm>
            <a:custGeom>
              <a:avLst/>
              <a:gdLst/>
              <a:ahLst/>
              <a:rect l="l" t="t" r="r" b="b"/>
              <a:pathLst>
                <a:path w="129" h="106">
                  <a:moveTo>
                    <a:pt x="24" y="106"/>
                  </a:moveTo>
                  <a:lnTo>
                    <a:pt x="0" y="35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28" y="71"/>
                  </a:lnTo>
                  <a:lnTo>
                    <a:pt x="129" y="71"/>
                  </a:lnTo>
                  <a:lnTo>
                    <a:pt x="24" y="106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924600" y="2746440"/>
              <a:ext cx="6480" cy="4680"/>
            </a:xfrm>
            <a:custGeom>
              <a:avLst/>
              <a:gdLst/>
              <a:ahLst/>
              <a:rect l="l" t="t" r="r" b="b"/>
              <a:pathLst>
                <a:path w="131" h="106">
                  <a:moveTo>
                    <a:pt x="23" y="106"/>
                  </a:moveTo>
                  <a:lnTo>
                    <a:pt x="0" y="35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31" y="71"/>
                  </a:lnTo>
                  <a:lnTo>
                    <a:pt x="131" y="71"/>
                  </a:lnTo>
                  <a:lnTo>
                    <a:pt x="23" y="106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929280" y="2746440"/>
              <a:ext cx="6480" cy="3240"/>
            </a:xfrm>
            <a:custGeom>
              <a:avLst/>
              <a:gdLst/>
              <a:ahLst/>
              <a:rect l="l" t="t" r="r" b="b"/>
              <a:pathLst>
                <a:path w="132" h="105">
                  <a:moveTo>
                    <a:pt x="24" y="105"/>
                  </a:moveTo>
                  <a:lnTo>
                    <a:pt x="0" y="34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32" y="72"/>
                  </a:lnTo>
                  <a:lnTo>
                    <a:pt x="132" y="72"/>
                  </a:lnTo>
                  <a:lnTo>
                    <a:pt x="24" y="105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934320" y="2745000"/>
              <a:ext cx="6120" cy="288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23" y="105"/>
                  </a:moveTo>
                  <a:lnTo>
                    <a:pt x="0" y="33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33" y="71"/>
                  </a:lnTo>
                  <a:lnTo>
                    <a:pt x="133" y="71"/>
                  </a:lnTo>
                  <a:lnTo>
                    <a:pt x="23" y="105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939000" y="2743200"/>
              <a:ext cx="6120" cy="468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22" y="104"/>
                  </a:moveTo>
                  <a:lnTo>
                    <a:pt x="0" y="33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34" y="72"/>
                  </a:lnTo>
                  <a:lnTo>
                    <a:pt x="134" y="72"/>
                  </a:lnTo>
                  <a:lnTo>
                    <a:pt x="22" y="104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943680" y="2741760"/>
              <a:ext cx="6480" cy="4680"/>
            </a:xfrm>
            <a:custGeom>
              <a:avLst/>
              <a:gdLst/>
              <a:ahLst/>
              <a:rect l="l" t="t" r="r" b="b"/>
              <a:pathLst>
                <a:path w="134" h="104">
                  <a:moveTo>
                    <a:pt x="20" y="104"/>
                  </a:moveTo>
                  <a:lnTo>
                    <a:pt x="0" y="32"/>
                  </a:lnTo>
                  <a:lnTo>
                    <a:pt x="114" y="1"/>
                  </a:lnTo>
                  <a:lnTo>
                    <a:pt x="114" y="0"/>
                  </a:lnTo>
                  <a:lnTo>
                    <a:pt x="133" y="73"/>
                  </a:lnTo>
                  <a:lnTo>
                    <a:pt x="134" y="73"/>
                  </a:lnTo>
                  <a:lnTo>
                    <a:pt x="20" y="104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948360" y="2739960"/>
              <a:ext cx="6480" cy="50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9" y="103"/>
                  </a:moveTo>
                  <a:lnTo>
                    <a:pt x="0" y="3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36" y="71"/>
                  </a:lnTo>
                  <a:lnTo>
                    <a:pt x="136" y="71"/>
                  </a:lnTo>
                  <a:lnTo>
                    <a:pt x="19" y="103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954840" y="2738520"/>
              <a:ext cx="4680" cy="4680"/>
            </a:xfrm>
            <a:custGeom>
              <a:avLst/>
              <a:gdLst/>
              <a:ahLst/>
              <a:rect l="l" t="t" r="r" b="b"/>
              <a:pathLst>
                <a:path w="137" h="102">
                  <a:moveTo>
                    <a:pt x="20" y="102"/>
                  </a:moveTo>
                  <a:lnTo>
                    <a:pt x="0" y="3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37" y="73"/>
                  </a:lnTo>
                  <a:lnTo>
                    <a:pt x="137" y="73"/>
                  </a:lnTo>
                  <a:lnTo>
                    <a:pt x="20" y="102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959520" y="2737080"/>
              <a:ext cx="6480" cy="4680"/>
            </a:xfrm>
            <a:custGeom>
              <a:avLst/>
              <a:gdLst/>
              <a:ahLst/>
              <a:rect l="l" t="t" r="r" b="b"/>
              <a:pathLst>
                <a:path w="137" h="102">
                  <a:moveTo>
                    <a:pt x="18" y="102"/>
                  </a:moveTo>
                  <a:lnTo>
                    <a:pt x="0" y="29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37" y="72"/>
                  </a:lnTo>
                  <a:lnTo>
                    <a:pt x="137" y="72"/>
                  </a:lnTo>
                  <a:lnTo>
                    <a:pt x="18" y="102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964200" y="2735280"/>
              <a:ext cx="6480" cy="46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17" y="101"/>
                  </a:moveTo>
                  <a:lnTo>
                    <a:pt x="0" y="29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38" y="73"/>
                  </a:lnTo>
                  <a:lnTo>
                    <a:pt x="139" y="73"/>
                  </a:lnTo>
                  <a:lnTo>
                    <a:pt x="17" y="101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970680" y="2735280"/>
              <a:ext cx="4680" cy="3240"/>
            </a:xfrm>
            <a:custGeom>
              <a:avLst/>
              <a:gdLst/>
              <a:ahLst/>
              <a:rect l="l" t="t" r="r" b="b"/>
              <a:pathLst>
                <a:path w="140" h="102">
                  <a:moveTo>
                    <a:pt x="17" y="102"/>
                  </a:moveTo>
                  <a:lnTo>
                    <a:pt x="0" y="29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40" y="74"/>
                  </a:lnTo>
                  <a:lnTo>
                    <a:pt x="140" y="74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975360" y="2733840"/>
              <a:ext cx="6480" cy="4680"/>
            </a:xfrm>
            <a:custGeom>
              <a:avLst/>
              <a:gdLst/>
              <a:ahLst/>
              <a:rect l="l" t="t" r="r" b="b"/>
              <a:pathLst>
                <a:path w="140" h="101">
                  <a:moveTo>
                    <a:pt x="16" y="101"/>
                  </a:moveTo>
                  <a:lnTo>
                    <a:pt x="0" y="27"/>
                  </a:lnTo>
                  <a:lnTo>
                    <a:pt x="124" y="1"/>
                  </a:lnTo>
                  <a:lnTo>
                    <a:pt x="124" y="0"/>
                  </a:lnTo>
                  <a:lnTo>
                    <a:pt x="140" y="74"/>
                  </a:lnTo>
                  <a:lnTo>
                    <a:pt x="140" y="74"/>
                  </a:lnTo>
                  <a:lnTo>
                    <a:pt x="16" y="101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980040" y="2732040"/>
              <a:ext cx="6480" cy="5040"/>
            </a:xfrm>
            <a:custGeom>
              <a:avLst/>
              <a:gdLst/>
              <a:ahLst/>
              <a:rect l="l" t="t" r="r" b="b"/>
              <a:pathLst>
                <a:path w="142" h="100">
                  <a:moveTo>
                    <a:pt x="16" y="100"/>
                  </a:moveTo>
                  <a:lnTo>
                    <a:pt x="0" y="26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6" y="100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986520" y="2730600"/>
              <a:ext cx="6480" cy="4680"/>
            </a:xfrm>
            <a:custGeom>
              <a:avLst/>
              <a:gdLst/>
              <a:ahLst/>
              <a:rect l="l" t="t" r="r" b="b"/>
              <a:pathLst>
                <a:path w="143" h="99">
                  <a:moveTo>
                    <a:pt x="15" y="99"/>
                  </a:moveTo>
                  <a:lnTo>
                    <a:pt x="0" y="25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42" y="73"/>
                  </a:lnTo>
                  <a:lnTo>
                    <a:pt x="143" y="73"/>
                  </a:lnTo>
                  <a:lnTo>
                    <a:pt x="15" y="99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993000" y="2730600"/>
              <a:ext cx="6120" cy="4680"/>
            </a:xfrm>
            <a:custGeom>
              <a:avLst/>
              <a:gdLst/>
              <a:ahLst/>
              <a:rect l="l" t="t" r="r" b="b"/>
              <a:pathLst>
                <a:path w="144" h="98">
                  <a:moveTo>
                    <a:pt x="15" y="98"/>
                  </a:moveTo>
                  <a:lnTo>
                    <a:pt x="0" y="25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44" y="73"/>
                  </a:lnTo>
                  <a:lnTo>
                    <a:pt x="144" y="73"/>
                  </a:lnTo>
                  <a:lnTo>
                    <a:pt x="15" y="98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997680" y="2729160"/>
              <a:ext cx="6480" cy="4680"/>
            </a:xfrm>
            <a:custGeom>
              <a:avLst/>
              <a:gdLst/>
              <a:ahLst/>
              <a:rect l="l" t="t" r="r" b="b"/>
              <a:pathLst>
                <a:path w="145" h="97">
                  <a:moveTo>
                    <a:pt x="14" y="97"/>
                  </a:moveTo>
                  <a:lnTo>
                    <a:pt x="0" y="2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5" y="74"/>
                  </a:lnTo>
                  <a:lnTo>
                    <a:pt x="145" y="74"/>
                  </a:lnTo>
                  <a:lnTo>
                    <a:pt x="14" y="97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004160" y="2727360"/>
              <a:ext cx="6120" cy="4680"/>
            </a:xfrm>
            <a:custGeom>
              <a:avLst/>
              <a:gdLst/>
              <a:ahLst/>
              <a:rect l="l" t="t" r="r" b="b"/>
              <a:pathLst>
                <a:path w="144" h="97">
                  <a:moveTo>
                    <a:pt x="13" y="97"/>
                  </a:moveTo>
                  <a:lnTo>
                    <a:pt x="0" y="23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4" y="74"/>
                  </a:lnTo>
                  <a:lnTo>
                    <a:pt x="144" y="74"/>
                  </a:lnTo>
                  <a:lnTo>
                    <a:pt x="13" y="97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008840" y="2727360"/>
              <a:ext cx="7920" cy="4680"/>
            </a:xfrm>
            <a:custGeom>
              <a:avLst/>
              <a:gdLst/>
              <a:ahLst/>
              <a:rect l="l" t="t" r="r" b="b"/>
              <a:pathLst>
                <a:path w="146" h="96">
                  <a:moveTo>
                    <a:pt x="12" y="96"/>
                  </a:moveTo>
                  <a:lnTo>
                    <a:pt x="0" y="2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46" y="73"/>
                  </a:lnTo>
                  <a:lnTo>
                    <a:pt x="146" y="73"/>
                  </a:lnTo>
                  <a:lnTo>
                    <a:pt x="12" y="96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014960" y="2725920"/>
              <a:ext cx="6480" cy="4680"/>
            </a:xfrm>
            <a:custGeom>
              <a:avLst/>
              <a:gdLst/>
              <a:ahLst/>
              <a:rect l="l" t="t" r="r" b="b"/>
              <a:pathLst>
                <a:path w="147" h="95">
                  <a:moveTo>
                    <a:pt x="12" y="95"/>
                  </a:moveTo>
                  <a:lnTo>
                    <a:pt x="0" y="2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47" y="74"/>
                  </a:lnTo>
                  <a:lnTo>
                    <a:pt x="147" y="74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021440" y="2725920"/>
              <a:ext cx="6480" cy="3240"/>
            </a:xfrm>
            <a:custGeom>
              <a:avLst/>
              <a:gdLst/>
              <a:ahLst/>
              <a:rect l="l" t="t" r="r" b="b"/>
              <a:pathLst>
                <a:path w="147" h="94">
                  <a:moveTo>
                    <a:pt x="12" y="94"/>
                  </a:moveTo>
                  <a:lnTo>
                    <a:pt x="0" y="2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47" y="74"/>
                  </a:lnTo>
                  <a:lnTo>
                    <a:pt x="147" y="74"/>
                  </a:lnTo>
                  <a:lnTo>
                    <a:pt x="12" y="94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027920" y="2724120"/>
              <a:ext cx="6120" cy="5040"/>
            </a:xfrm>
            <a:custGeom>
              <a:avLst/>
              <a:gdLst/>
              <a:ahLst/>
              <a:rect l="l" t="t" r="r" b="b"/>
              <a:pathLst>
                <a:path w="148" h="93">
                  <a:moveTo>
                    <a:pt x="10" y="93"/>
                  </a:moveTo>
                  <a:lnTo>
                    <a:pt x="0" y="19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48" y="74"/>
                  </a:lnTo>
                  <a:lnTo>
                    <a:pt x="148" y="74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034040" y="2724120"/>
              <a:ext cx="6480" cy="3240"/>
            </a:xfrm>
            <a:custGeom>
              <a:avLst/>
              <a:gdLst/>
              <a:ahLst/>
              <a:rect l="l" t="t" r="r" b="b"/>
              <a:pathLst>
                <a:path w="149" h="93">
                  <a:moveTo>
                    <a:pt x="10" y="93"/>
                  </a:moveTo>
                  <a:lnTo>
                    <a:pt x="0" y="19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9" y="75"/>
                  </a:lnTo>
                  <a:lnTo>
                    <a:pt x="149" y="75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039080" y="2722680"/>
              <a:ext cx="7920" cy="4680"/>
            </a:xfrm>
            <a:custGeom>
              <a:avLst/>
              <a:gdLst/>
              <a:ahLst/>
              <a:rect l="l" t="t" r="r" b="b"/>
              <a:pathLst>
                <a:path w="150" h="92">
                  <a:moveTo>
                    <a:pt x="9" y="92"/>
                  </a:moveTo>
                  <a:lnTo>
                    <a:pt x="0" y="17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0" y="73"/>
                  </a:lnTo>
                  <a:lnTo>
                    <a:pt x="150" y="73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045200" y="2722680"/>
              <a:ext cx="7920" cy="3240"/>
            </a:xfrm>
            <a:custGeom>
              <a:avLst/>
              <a:gdLst/>
              <a:ahLst/>
              <a:rect l="l" t="t" r="r" b="b"/>
              <a:pathLst>
                <a:path w="150" h="91">
                  <a:moveTo>
                    <a:pt x="10" y="91"/>
                  </a:moveTo>
                  <a:lnTo>
                    <a:pt x="0" y="18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50" y="75"/>
                  </a:lnTo>
                  <a:lnTo>
                    <a:pt x="150" y="75"/>
                  </a:lnTo>
                  <a:lnTo>
                    <a:pt x="10" y="91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051680" y="2721240"/>
              <a:ext cx="7920" cy="4680"/>
            </a:xfrm>
            <a:custGeom>
              <a:avLst/>
              <a:gdLst/>
              <a:ahLst/>
              <a:rect l="l" t="t" r="r" b="b"/>
              <a:pathLst>
                <a:path w="151" h="90">
                  <a:moveTo>
                    <a:pt x="8" y="90"/>
                  </a:moveTo>
                  <a:lnTo>
                    <a:pt x="0" y="15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51" y="74"/>
                  </a:lnTo>
                  <a:lnTo>
                    <a:pt x="151" y="74"/>
                  </a:lnTo>
                  <a:lnTo>
                    <a:pt x="8" y="90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057800" y="2721240"/>
              <a:ext cx="8280" cy="2880"/>
            </a:xfrm>
            <a:custGeom>
              <a:avLst/>
              <a:gdLst/>
              <a:ahLst/>
              <a:rect l="l" t="t" r="r" b="b"/>
              <a:pathLst>
                <a:path w="152" h="89">
                  <a:moveTo>
                    <a:pt x="8" y="89"/>
                  </a:moveTo>
                  <a:lnTo>
                    <a:pt x="0" y="15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52" y="74"/>
                  </a:lnTo>
                  <a:lnTo>
                    <a:pt x="152" y="74"/>
                  </a:lnTo>
                  <a:lnTo>
                    <a:pt x="8" y="89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064280" y="2719440"/>
              <a:ext cx="7920" cy="4680"/>
            </a:xfrm>
            <a:custGeom>
              <a:avLst/>
              <a:gdLst/>
              <a:ahLst/>
              <a:rect l="l" t="t" r="r" b="b"/>
              <a:pathLst>
                <a:path w="152" h="88">
                  <a:moveTo>
                    <a:pt x="7" y="88"/>
                  </a:moveTo>
                  <a:lnTo>
                    <a:pt x="0" y="14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52" y="75"/>
                  </a:lnTo>
                  <a:lnTo>
                    <a:pt x="152" y="75"/>
                  </a:lnTo>
                  <a:lnTo>
                    <a:pt x="7" y="88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070760" y="2719440"/>
              <a:ext cx="7920" cy="4680"/>
            </a:xfrm>
            <a:custGeom>
              <a:avLst/>
              <a:gdLst/>
              <a:ahLst/>
              <a:rect l="l" t="t" r="r" b="b"/>
              <a:pathLst>
                <a:path w="152" h="88">
                  <a:moveTo>
                    <a:pt x="6" y="88"/>
                  </a:moveTo>
                  <a:lnTo>
                    <a:pt x="0" y="13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52" y="75"/>
                  </a:lnTo>
                  <a:lnTo>
                    <a:pt x="152" y="75"/>
                  </a:lnTo>
                  <a:lnTo>
                    <a:pt x="6" y="88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076880" y="2719440"/>
              <a:ext cx="7920" cy="32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6" y="87"/>
                  </a:moveTo>
                  <a:lnTo>
                    <a:pt x="0" y="12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54" y="74"/>
                  </a:lnTo>
                  <a:lnTo>
                    <a:pt x="154" y="74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084800" y="2718000"/>
              <a:ext cx="6480" cy="4680"/>
            </a:xfrm>
            <a:custGeom>
              <a:avLst/>
              <a:gdLst/>
              <a:ahLst/>
              <a:rect l="l" t="t" r="r" b="b"/>
              <a:pathLst>
                <a:path w="154" h="85">
                  <a:moveTo>
                    <a:pt x="6" y="85"/>
                  </a:moveTo>
                  <a:lnTo>
                    <a:pt x="0" y="11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4" y="74"/>
                  </a:lnTo>
                  <a:lnTo>
                    <a:pt x="154" y="74"/>
                  </a:lnTo>
                  <a:lnTo>
                    <a:pt x="6" y="85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091280" y="2718000"/>
              <a:ext cx="6480" cy="4680"/>
            </a:xfrm>
            <a:custGeom>
              <a:avLst/>
              <a:gdLst/>
              <a:ahLst/>
              <a:rect l="l" t="t" r="r" b="b"/>
              <a:pathLst>
                <a:path w="155" h="85">
                  <a:moveTo>
                    <a:pt x="5" y="85"/>
                  </a:moveTo>
                  <a:lnTo>
                    <a:pt x="0" y="11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4" y="75"/>
                  </a:lnTo>
                  <a:lnTo>
                    <a:pt x="155" y="75"/>
                  </a:lnTo>
                  <a:lnTo>
                    <a:pt x="5" y="85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097760" y="2718000"/>
              <a:ext cx="6120" cy="3240"/>
            </a:xfrm>
            <a:custGeom>
              <a:avLst/>
              <a:gdLst/>
              <a:ahLst/>
              <a:rect l="l" t="t" r="r" b="b"/>
              <a:pathLst>
                <a:path w="155" h="83">
                  <a:moveTo>
                    <a:pt x="4" y="83"/>
                  </a:moveTo>
                  <a:lnTo>
                    <a:pt x="0" y="8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5" y="74"/>
                  </a:lnTo>
                  <a:lnTo>
                    <a:pt x="155" y="74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103880" y="2718000"/>
              <a:ext cx="6480" cy="3240"/>
            </a:xfrm>
            <a:custGeom>
              <a:avLst/>
              <a:gdLst/>
              <a:ahLst/>
              <a:rect l="l" t="t" r="r" b="b"/>
              <a:pathLst>
                <a:path w="155" h="82">
                  <a:moveTo>
                    <a:pt x="4" y="82"/>
                  </a:moveTo>
                  <a:lnTo>
                    <a:pt x="0" y="8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5" y="75"/>
                  </a:lnTo>
                  <a:lnTo>
                    <a:pt x="155" y="75"/>
                  </a:lnTo>
                  <a:lnTo>
                    <a:pt x="4" y="82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110360" y="2718000"/>
              <a:ext cx="7920" cy="3240"/>
            </a:xfrm>
            <a:custGeom>
              <a:avLst/>
              <a:gdLst/>
              <a:ahLst/>
              <a:rect l="l" t="t" r="r" b="b"/>
              <a:pathLst>
                <a:path w="156" h="82">
                  <a:moveTo>
                    <a:pt x="3" y="82"/>
                  </a:moveTo>
                  <a:lnTo>
                    <a:pt x="0" y="7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5" y="75"/>
                  </a:lnTo>
                  <a:lnTo>
                    <a:pt x="156" y="75"/>
                  </a:lnTo>
                  <a:lnTo>
                    <a:pt x="3" y="82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116840" y="2716200"/>
              <a:ext cx="7920" cy="5040"/>
            </a:xfrm>
            <a:custGeom>
              <a:avLst/>
              <a:gdLst/>
              <a:ahLst/>
              <a:rect l="l" t="t" r="r" b="b"/>
              <a:pathLst>
                <a:path w="156" h="81">
                  <a:moveTo>
                    <a:pt x="2" y="81"/>
                  </a:moveTo>
                  <a:lnTo>
                    <a:pt x="0" y="6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6" y="75"/>
                  </a:lnTo>
                  <a:lnTo>
                    <a:pt x="156" y="75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124760" y="2716200"/>
              <a:ext cx="6120" cy="3240"/>
            </a:xfrm>
            <a:custGeom>
              <a:avLst/>
              <a:gdLst/>
              <a:ahLst/>
              <a:rect l="l" t="t" r="r" b="b"/>
              <a:pathLst>
                <a:path w="157" h="80">
                  <a:moveTo>
                    <a:pt x="3" y="80"/>
                  </a:moveTo>
                  <a:lnTo>
                    <a:pt x="0" y="5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7" y="75"/>
                  </a:lnTo>
                  <a:lnTo>
                    <a:pt x="157" y="75"/>
                  </a:lnTo>
                  <a:lnTo>
                    <a:pt x="3" y="80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130880" y="2716200"/>
              <a:ext cx="6480" cy="324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2" y="79"/>
                  </a:moveTo>
                  <a:lnTo>
                    <a:pt x="0" y="4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6" y="75"/>
                  </a:lnTo>
                  <a:lnTo>
                    <a:pt x="157" y="75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137360" y="2716200"/>
              <a:ext cx="7920" cy="3240"/>
            </a:xfrm>
            <a:custGeom>
              <a:avLst/>
              <a:gdLst/>
              <a:ahLst/>
              <a:rect l="l" t="t" r="r" b="b"/>
              <a:pathLst>
                <a:path w="157" h="77">
                  <a:moveTo>
                    <a:pt x="1" y="77"/>
                  </a:moveTo>
                  <a:lnTo>
                    <a:pt x="0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7" y="75"/>
                  </a:lnTo>
                  <a:lnTo>
                    <a:pt x="157" y="7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145280" y="2716200"/>
              <a:ext cx="6480" cy="3240"/>
            </a:xfrm>
            <a:custGeom>
              <a:avLst/>
              <a:gdLst/>
              <a:ahLst/>
              <a:rect l="l" t="t" r="r" b="b"/>
              <a:pathLst>
                <a:path w="158" h="77">
                  <a:moveTo>
                    <a:pt x="1" y="77"/>
                  </a:moveTo>
                  <a:lnTo>
                    <a:pt x="0" y="2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8" y="75"/>
                  </a:lnTo>
                  <a:lnTo>
                    <a:pt x="158" y="75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151760" y="2716200"/>
              <a:ext cx="6120" cy="324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1" y="75"/>
                  </a:move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8" y="74"/>
                  </a:lnTo>
                  <a:lnTo>
                    <a:pt x="158" y="74"/>
                  </a:lnTo>
                  <a:lnTo>
                    <a:pt x="1" y="75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157880" y="2716200"/>
              <a:ext cx="1800" cy="324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7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aae6ff"/>
            </a:solidFill>
            <a:ln w="0">
              <a:solidFill>
                <a:srgbClr val="aae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912000" y="2741760"/>
              <a:ext cx="306360" cy="136440"/>
            </a:xfrm>
            <a:custGeom>
              <a:avLst/>
              <a:gdLst/>
              <a:ahLst/>
              <a:rect l="l" t="t" r="r" b="b"/>
              <a:pathLst>
                <a:path w="6979" h="3084">
                  <a:moveTo>
                    <a:pt x="0" y="2710"/>
                  </a:moveTo>
                  <a:lnTo>
                    <a:pt x="1131" y="3084"/>
                  </a:lnTo>
                  <a:lnTo>
                    <a:pt x="5753" y="654"/>
                  </a:lnTo>
                  <a:lnTo>
                    <a:pt x="6979" y="935"/>
                  </a:lnTo>
                  <a:lnTo>
                    <a:pt x="6319" y="0"/>
                  </a:lnTo>
                  <a:lnTo>
                    <a:pt x="3113" y="0"/>
                  </a:lnTo>
                  <a:lnTo>
                    <a:pt x="4433" y="374"/>
                  </a:lnTo>
                  <a:lnTo>
                    <a:pt x="0" y="2710"/>
                  </a:lnTo>
                  <a:lnTo>
                    <a:pt x="0" y="2710"/>
                  </a:lnTo>
                  <a:lnTo>
                    <a:pt x="0" y="2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110360" y="2791080"/>
              <a:ext cx="307800" cy="131760"/>
            </a:xfrm>
            <a:custGeom>
              <a:avLst/>
              <a:gdLst/>
              <a:ahLst/>
              <a:rect l="l" t="t" r="r" b="b"/>
              <a:pathLst>
                <a:path w="6979" h="2990">
                  <a:moveTo>
                    <a:pt x="0" y="2616"/>
                  </a:moveTo>
                  <a:lnTo>
                    <a:pt x="1132" y="2990"/>
                  </a:lnTo>
                  <a:lnTo>
                    <a:pt x="5659" y="654"/>
                  </a:lnTo>
                  <a:lnTo>
                    <a:pt x="6979" y="934"/>
                  </a:lnTo>
                  <a:lnTo>
                    <a:pt x="6319" y="0"/>
                  </a:lnTo>
                  <a:lnTo>
                    <a:pt x="3018" y="0"/>
                  </a:lnTo>
                  <a:lnTo>
                    <a:pt x="4432" y="280"/>
                  </a:lnTo>
                  <a:lnTo>
                    <a:pt x="0" y="2616"/>
                  </a:lnTo>
                  <a:lnTo>
                    <a:pt x="0" y="2616"/>
                  </a:lnTo>
                  <a:lnTo>
                    <a:pt x="0" y="2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915240" y="2746440"/>
              <a:ext cx="307800" cy="135000"/>
            </a:xfrm>
            <a:custGeom>
              <a:avLst/>
              <a:gdLst/>
              <a:ahLst/>
              <a:rect l="l" t="t" r="r" b="b"/>
              <a:pathLst>
                <a:path w="6979" h="3083">
                  <a:moveTo>
                    <a:pt x="0" y="2710"/>
                  </a:moveTo>
                  <a:lnTo>
                    <a:pt x="1132" y="3083"/>
                  </a:lnTo>
                  <a:lnTo>
                    <a:pt x="5754" y="654"/>
                  </a:lnTo>
                  <a:lnTo>
                    <a:pt x="6979" y="934"/>
                  </a:lnTo>
                  <a:lnTo>
                    <a:pt x="6319" y="0"/>
                  </a:lnTo>
                  <a:lnTo>
                    <a:pt x="3113" y="0"/>
                  </a:lnTo>
                  <a:lnTo>
                    <a:pt x="4433" y="373"/>
                  </a:lnTo>
                  <a:lnTo>
                    <a:pt x="0" y="2710"/>
                  </a:lnTo>
                  <a:lnTo>
                    <a:pt x="0" y="2710"/>
                  </a:lnTo>
                  <a:lnTo>
                    <a:pt x="0" y="27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115040" y="2795760"/>
              <a:ext cx="308160" cy="131760"/>
            </a:xfrm>
            <a:custGeom>
              <a:avLst/>
              <a:gdLst/>
              <a:ahLst/>
              <a:rect l="l" t="t" r="r" b="b"/>
              <a:pathLst>
                <a:path w="6979" h="2990">
                  <a:moveTo>
                    <a:pt x="0" y="2617"/>
                  </a:moveTo>
                  <a:lnTo>
                    <a:pt x="1131" y="2990"/>
                  </a:lnTo>
                  <a:lnTo>
                    <a:pt x="5752" y="654"/>
                  </a:lnTo>
                  <a:lnTo>
                    <a:pt x="6979" y="935"/>
                  </a:lnTo>
                  <a:lnTo>
                    <a:pt x="6319" y="0"/>
                  </a:lnTo>
                  <a:lnTo>
                    <a:pt x="3112" y="0"/>
                  </a:lnTo>
                  <a:lnTo>
                    <a:pt x="4432" y="374"/>
                  </a:lnTo>
                  <a:lnTo>
                    <a:pt x="0" y="2617"/>
                  </a:lnTo>
                  <a:lnTo>
                    <a:pt x="0" y="2617"/>
                  </a:lnTo>
                  <a:lnTo>
                    <a:pt x="0" y="26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3" name=""/>
          <p:cNvSpPr/>
          <p:nvPr/>
        </p:nvSpPr>
        <p:spPr>
          <a:xfrm>
            <a:off x="7550280" y="287820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tical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4" name="" descr=""/>
          <p:cNvPicPr/>
          <p:nvPr/>
        </p:nvPicPr>
        <p:blipFill>
          <a:blip r:embed="rId1"/>
          <a:stretch/>
        </p:blipFill>
        <p:spPr>
          <a:xfrm>
            <a:off x="2108160" y="2664000"/>
            <a:ext cx="1252440" cy="742680"/>
          </a:xfrm>
          <a:prstGeom prst="rect">
            <a:avLst/>
          </a:prstGeom>
          <a:ln w="0">
            <a:noFill/>
          </a:ln>
        </p:spPr>
      </p:pic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Securit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096" name="" descr=""/>
          <p:cNvPicPr/>
          <p:nvPr/>
        </p:nvPicPr>
        <p:blipFill>
          <a:blip r:embed="rId2"/>
          <a:stretch/>
        </p:blipFill>
        <p:spPr>
          <a:xfrm>
            <a:off x="2127240" y="5102280"/>
            <a:ext cx="1270080" cy="1146240"/>
          </a:xfrm>
          <a:prstGeom prst="rect">
            <a:avLst/>
          </a:prstGeom>
          <a:ln w="0">
            <a:noFill/>
          </a:ln>
        </p:spPr>
      </p:pic>
      <p:pic>
        <p:nvPicPr>
          <p:cNvPr id="3097" name="" descr=""/>
          <p:cNvPicPr/>
          <p:nvPr/>
        </p:nvPicPr>
        <p:blipFill>
          <a:blip r:embed="rId3"/>
          <a:stretch/>
        </p:blipFill>
        <p:spPr>
          <a:xfrm>
            <a:off x="603360" y="5102280"/>
            <a:ext cx="1269720" cy="1146240"/>
          </a:xfrm>
          <a:prstGeom prst="rect">
            <a:avLst/>
          </a:prstGeom>
          <a:ln w="0">
            <a:noFill/>
          </a:ln>
        </p:spPr>
      </p:pic>
      <p:pic>
        <p:nvPicPr>
          <p:cNvPr id="3098" name="" descr=""/>
          <p:cNvPicPr/>
          <p:nvPr/>
        </p:nvPicPr>
        <p:blipFill>
          <a:blip r:embed="rId4"/>
          <a:stretch/>
        </p:blipFill>
        <p:spPr>
          <a:xfrm>
            <a:off x="698400" y="3654360"/>
            <a:ext cx="1190880" cy="1174680"/>
          </a:xfrm>
          <a:prstGeom prst="rect">
            <a:avLst/>
          </a:prstGeom>
          <a:ln w="0">
            <a:noFill/>
          </a:ln>
        </p:spPr>
      </p:pic>
      <p:pic>
        <p:nvPicPr>
          <p:cNvPr id="3099" name="" descr=""/>
          <p:cNvPicPr/>
          <p:nvPr/>
        </p:nvPicPr>
        <p:blipFill>
          <a:blip r:embed="rId5"/>
          <a:stretch/>
        </p:blipFill>
        <p:spPr>
          <a:xfrm>
            <a:off x="666720" y="2664000"/>
            <a:ext cx="1252440" cy="742680"/>
          </a:xfrm>
          <a:prstGeom prst="rect">
            <a:avLst/>
          </a:prstGeom>
          <a:ln w="0">
            <a:noFill/>
          </a:ln>
        </p:spPr>
      </p:pic>
      <p:pic>
        <p:nvPicPr>
          <p:cNvPr id="3100" name="" descr=""/>
          <p:cNvPicPr/>
          <p:nvPr/>
        </p:nvPicPr>
        <p:blipFill>
          <a:blip r:embed="rId6"/>
          <a:stretch/>
        </p:blipFill>
        <p:spPr>
          <a:xfrm>
            <a:off x="609480" y="1673280"/>
            <a:ext cx="1435320" cy="620640"/>
          </a:xfrm>
          <a:prstGeom prst="rect">
            <a:avLst/>
          </a:prstGeom>
          <a:ln w="0">
            <a:noFill/>
          </a:ln>
        </p:spPr>
      </p:pic>
      <p:pic>
        <p:nvPicPr>
          <p:cNvPr id="3101" name="" descr=""/>
          <p:cNvPicPr/>
          <p:nvPr/>
        </p:nvPicPr>
        <p:blipFill>
          <a:blip r:embed="rId7"/>
          <a:stretch/>
        </p:blipFill>
        <p:spPr>
          <a:xfrm>
            <a:off x="2139840" y="3654360"/>
            <a:ext cx="1190880" cy="1174680"/>
          </a:xfrm>
          <a:prstGeom prst="rect">
            <a:avLst/>
          </a:prstGeom>
          <a:ln w="0">
            <a:noFill/>
          </a:ln>
        </p:spPr>
      </p:pic>
      <p:pic>
        <p:nvPicPr>
          <p:cNvPr id="3102" name="" descr=""/>
          <p:cNvPicPr/>
          <p:nvPr/>
        </p:nvPicPr>
        <p:blipFill>
          <a:blip r:embed="rId8"/>
          <a:stretch/>
        </p:blipFill>
        <p:spPr>
          <a:xfrm>
            <a:off x="1987560" y="1668600"/>
            <a:ext cx="1441440" cy="625320"/>
          </a:xfrm>
          <a:prstGeom prst="rect">
            <a:avLst/>
          </a:prstGeom>
          <a:ln w="0">
            <a:noFill/>
          </a:ln>
        </p:spPr>
      </p:pic>
      <p:sp>
        <p:nvSpPr>
          <p:cNvPr id="3103" name=""/>
          <p:cNvSpPr/>
          <p:nvPr/>
        </p:nvSpPr>
        <p:spPr>
          <a:xfrm>
            <a:off x="3498840" y="1508040"/>
            <a:ext cx="16066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e Swit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3498840" y="2587680"/>
            <a:ext cx="16066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e Rout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3498840" y="3807000"/>
            <a:ext cx="16066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e Catalyst Swit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5803920" y="4297320"/>
            <a:ext cx="844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3498840" y="5178600"/>
            <a:ext cx="16066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 Managemen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and Generic Color Schem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5479920" y="6019920"/>
            <a:ext cx="160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e Endpoint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PC and Lapto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9" name="" descr=""/>
          <p:cNvPicPr/>
          <p:nvPr/>
        </p:nvPicPr>
        <p:blipFill>
          <a:blip r:embed="rId9"/>
          <a:stretch/>
        </p:blipFill>
        <p:spPr>
          <a:xfrm>
            <a:off x="5824440" y="3251160"/>
            <a:ext cx="803520" cy="1066680"/>
          </a:xfrm>
          <a:prstGeom prst="rect">
            <a:avLst/>
          </a:prstGeom>
          <a:ln w="0">
            <a:noFill/>
          </a:ln>
        </p:spPr>
      </p:pic>
      <p:sp>
        <p:nvSpPr>
          <p:cNvPr id="3110" name=""/>
          <p:cNvSpPr/>
          <p:nvPr/>
        </p:nvSpPr>
        <p:spPr>
          <a:xfrm>
            <a:off x="5486400" y="2478240"/>
            <a:ext cx="160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ASA 5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1" name="" descr=""/>
          <p:cNvPicPr/>
          <p:nvPr/>
        </p:nvPicPr>
        <p:blipFill>
          <a:blip r:embed="rId10"/>
          <a:stretch/>
        </p:blipFill>
        <p:spPr>
          <a:xfrm>
            <a:off x="7297560" y="1589040"/>
            <a:ext cx="1176480" cy="849240"/>
          </a:xfrm>
          <a:prstGeom prst="rect">
            <a:avLst/>
          </a:prstGeom>
          <a:ln w="0">
            <a:noFill/>
          </a:ln>
        </p:spPr>
      </p:pic>
      <p:sp>
        <p:nvSpPr>
          <p:cNvPr id="3112" name=""/>
          <p:cNvSpPr/>
          <p:nvPr/>
        </p:nvSpPr>
        <p:spPr>
          <a:xfrm>
            <a:off x="7162920" y="2478240"/>
            <a:ext cx="144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 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3" name="" descr=""/>
          <p:cNvPicPr/>
          <p:nvPr/>
        </p:nvPicPr>
        <p:blipFill>
          <a:blip r:embed="rId11"/>
          <a:stretch/>
        </p:blipFill>
        <p:spPr>
          <a:xfrm>
            <a:off x="5796000" y="1503360"/>
            <a:ext cx="981000" cy="934920"/>
          </a:xfrm>
          <a:prstGeom prst="rect">
            <a:avLst/>
          </a:prstGeom>
          <a:ln w="0">
            <a:noFill/>
          </a:ln>
        </p:spPr>
      </p:pic>
      <p:sp>
        <p:nvSpPr>
          <p:cNvPr id="3114" name=""/>
          <p:cNvSpPr/>
          <p:nvPr/>
        </p:nvSpPr>
        <p:spPr>
          <a:xfrm>
            <a:off x="6905520" y="4297320"/>
            <a:ext cx="21495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Security MAR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and Subdued Color Schem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5" name="" descr=""/>
          <p:cNvPicPr/>
          <p:nvPr/>
        </p:nvPicPr>
        <p:blipFill>
          <a:blip r:embed="rId12"/>
          <a:stretch/>
        </p:blipFill>
        <p:spPr>
          <a:xfrm>
            <a:off x="7394400" y="3575160"/>
            <a:ext cx="1187640" cy="752400"/>
          </a:xfrm>
          <a:prstGeom prst="rect">
            <a:avLst/>
          </a:prstGeom>
          <a:ln w="0">
            <a:noFill/>
          </a:ln>
        </p:spPr>
      </p:pic>
      <p:pic>
        <p:nvPicPr>
          <p:cNvPr id="3116" name="" descr=""/>
          <p:cNvPicPr/>
          <p:nvPr/>
        </p:nvPicPr>
        <p:blipFill>
          <a:blip r:embed="rId13"/>
          <a:stretch/>
        </p:blipFill>
        <p:spPr>
          <a:xfrm>
            <a:off x="7394400" y="2863800"/>
            <a:ext cx="1209960" cy="773280"/>
          </a:xfrm>
          <a:prstGeom prst="rect">
            <a:avLst/>
          </a:prstGeom>
          <a:ln w="0">
            <a:noFill/>
          </a:ln>
        </p:spPr>
      </p:pic>
      <p:pic>
        <p:nvPicPr>
          <p:cNvPr id="3117" name="" descr=""/>
          <p:cNvPicPr/>
          <p:nvPr/>
        </p:nvPicPr>
        <p:blipFill>
          <a:blip r:embed="rId14"/>
          <a:stretch/>
        </p:blipFill>
        <p:spPr>
          <a:xfrm>
            <a:off x="7201080" y="4978440"/>
            <a:ext cx="1245960" cy="1011240"/>
          </a:xfrm>
          <a:prstGeom prst="rect">
            <a:avLst/>
          </a:prstGeom>
          <a:ln w="0">
            <a:noFill/>
          </a:ln>
        </p:spPr>
      </p:pic>
      <p:sp>
        <p:nvSpPr>
          <p:cNvPr id="3118" name=""/>
          <p:cNvSpPr/>
          <p:nvPr/>
        </p:nvSpPr>
        <p:spPr>
          <a:xfrm>
            <a:off x="7639200" y="6067440"/>
            <a:ext cx="7110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9" name="" descr=""/>
          <p:cNvPicPr/>
          <p:nvPr/>
        </p:nvPicPr>
        <p:blipFill>
          <a:blip r:embed="rId15"/>
          <a:stretch/>
        </p:blipFill>
        <p:spPr>
          <a:xfrm>
            <a:off x="5326200" y="5140440"/>
            <a:ext cx="914400" cy="825480"/>
          </a:xfrm>
          <a:prstGeom prst="rect">
            <a:avLst/>
          </a:prstGeom>
          <a:ln w="0">
            <a:noFill/>
          </a:ln>
        </p:spPr>
      </p:pic>
      <p:pic>
        <p:nvPicPr>
          <p:cNvPr id="3120" name="" descr=""/>
          <p:cNvPicPr/>
          <p:nvPr/>
        </p:nvPicPr>
        <p:blipFill>
          <a:blip r:embed="rId16"/>
          <a:stretch/>
        </p:blipFill>
        <p:spPr>
          <a:xfrm>
            <a:off x="5921280" y="4811760"/>
            <a:ext cx="85428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"/>
          <p:cNvSpPr/>
          <p:nvPr/>
        </p:nvSpPr>
        <p:spPr>
          <a:xfrm>
            <a:off x="2743200" y="232092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743200" y="3606840"/>
            <a:ext cx="11430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BM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fram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F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5580000" y="4572000"/>
            <a:ext cx="14558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uster Controller/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274 or 3174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most common typ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4" name="" descr=""/>
          <p:cNvPicPr/>
          <p:nvPr/>
        </p:nvPicPr>
        <p:blipFill>
          <a:blip r:embed="rId1"/>
          <a:stretch/>
        </p:blipFill>
        <p:spPr>
          <a:xfrm>
            <a:off x="4484520" y="4664160"/>
            <a:ext cx="1014480" cy="912600"/>
          </a:xfrm>
          <a:prstGeom prst="rect">
            <a:avLst/>
          </a:prstGeom>
          <a:ln w="0">
            <a:noFill/>
          </a:ln>
        </p:spPr>
      </p:pic>
      <p:sp>
        <p:nvSpPr>
          <p:cNvPr id="3125" name=""/>
          <p:cNvSpPr/>
          <p:nvPr/>
        </p:nvSpPr>
        <p:spPr>
          <a:xfrm>
            <a:off x="5580000" y="2028960"/>
            <a:ext cx="1887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uster Controller/3174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desktop model, not used much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6" name="" descr=""/>
          <p:cNvPicPr/>
          <p:nvPr/>
        </p:nvPicPr>
        <p:blipFill>
          <a:blip r:embed="rId2"/>
          <a:stretch/>
        </p:blipFill>
        <p:spPr>
          <a:xfrm>
            <a:off x="4478400" y="2108160"/>
            <a:ext cx="1020600" cy="428760"/>
          </a:xfrm>
          <a:prstGeom prst="rect">
            <a:avLst/>
          </a:prstGeom>
          <a:ln w="0">
            <a:noFill/>
          </a:ln>
        </p:spPr>
      </p:pic>
      <p:sp>
        <p:nvSpPr>
          <p:cNvPr id="3127" name=""/>
          <p:cNvSpPr/>
          <p:nvPr/>
        </p:nvSpPr>
        <p:spPr>
          <a:xfrm>
            <a:off x="5580000" y="351144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BM Mini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S40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8" name="" descr=""/>
          <p:cNvPicPr/>
          <p:nvPr/>
        </p:nvPicPr>
        <p:blipFill>
          <a:blip r:embed="rId3"/>
          <a:stretch/>
        </p:blipFill>
        <p:spPr>
          <a:xfrm>
            <a:off x="4664160" y="3162240"/>
            <a:ext cx="834840" cy="1200240"/>
          </a:xfrm>
          <a:prstGeom prst="rect">
            <a:avLst/>
          </a:prstGeom>
          <a:ln w="0">
            <a:noFill/>
          </a:ln>
        </p:spPr>
      </p:pic>
      <p:grpSp>
        <p:nvGrpSpPr>
          <p:cNvPr id="3129" name=""/>
          <p:cNvGrpSpPr/>
          <p:nvPr/>
        </p:nvGrpSpPr>
        <p:grpSpPr>
          <a:xfrm>
            <a:off x="1946160" y="2060640"/>
            <a:ext cx="804960" cy="1023480"/>
            <a:chOff x="1946160" y="2060640"/>
            <a:chExt cx="804960" cy="1023480"/>
          </a:xfrm>
        </p:grpSpPr>
        <p:sp>
          <p:nvSpPr>
            <p:cNvPr id="3130" name=""/>
            <p:cNvSpPr/>
            <p:nvPr/>
          </p:nvSpPr>
          <p:spPr>
            <a:xfrm>
              <a:off x="1946160" y="2227320"/>
              <a:ext cx="319320" cy="79056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1947960" y="2228760"/>
              <a:ext cx="315720" cy="78732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265480" y="2227320"/>
              <a:ext cx="318960" cy="79056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266920" y="2228760"/>
              <a:ext cx="316080" cy="787320"/>
            </a:xfrm>
            <a:prstGeom prst="rect">
              <a:avLst/>
            </a:prstGeom>
            <a:solidFill>
              <a:srgbClr val="a5a585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584440" y="2060640"/>
              <a:ext cx="166680" cy="957240"/>
            </a:xfrm>
            <a:custGeom>
              <a:avLst/>
              <a:gdLst/>
              <a:ahLst/>
              <a:rect l="l" t="t" r="r" b="b"/>
              <a:pathLst>
                <a:path w="105" h="603">
                  <a:moveTo>
                    <a:pt x="105" y="497"/>
                  </a:moveTo>
                  <a:lnTo>
                    <a:pt x="105" y="0"/>
                  </a:lnTo>
                  <a:lnTo>
                    <a:pt x="0" y="105"/>
                  </a:lnTo>
                  <a:lnTo>
                    <a:pt x="0" y="603"/>
                  </a:lnTo>
                  <a:lnTo>
                    <a:pt x="105" y="497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584440" y="2060640"/>
              <a:ext cx="166680" cy="957240"/>
            </a:xfrm>
            <a:custGeom>
              <a:avLst/>
              <a:gdLst/>
              <a:ahLst/>
              <a:rect l="l" t="t" r="r" b="b"/>
              <a:pathLst>
                <a:path w="105" h="603">
                  <a:moveTo>
                    <a:pt x="105" y="497"/>
                  </a:moveTo>
                  <a:lnTo>
                    <a:pt x="105" y="0"/>
                  </a:lnTo>
                  <a:lnTo>
                    <a:pt x="0" y="105"/>
                  </a:lnTo>
                  <a:lnTo>
                    <a:pt x="0" y="603"/>
                  </a:lnTo>
                  <a:lnTo>
                    <a:pt x="105" y="497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946160" y="2060640"/>
              <a:ext cx="804960" cy="166680"/>
            </a:xfrm>
            <a:custGeom>
              <a:avLst/>
              <a:gdLst/>
              <a:ahLst/>
              <a:rect l="l" t="t" r="r" b="b"/>
              <a:pathLst>
                <a:path w="507" h="105">
                  <a:moveTo>
                    <a:pt x="105" y="0"/>
                  </a:moveTo>
                  <a:lnTo>
                    <a:pt x="0" y="105"/>
                  </a:lnTo>
                  <a:lnTo>
                    <a:pt x="402" y="105"/>
                  </a:lnTo>
                  <a:lnTo>
                    <a:pt x="507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946160" y="2060640"/>
              <a:ext cx="804960" cy="166680"/>
            </a:xfrm>
            <a:custGeom>
              <a:avLst/>
              <a:gdLst/>
              <a:ahLst/>
              <a:rect l="l" t="t" r="r" b="b"/>
              <a:pathLst>
                <a:path w="507" h="105">
                  <a:moveTo>
                    <a:pt x="105" y="0"/>
                  </a:moveTo>
                  <a:lnTo>
                    <a:pt x="0" y="105"/>
                  </a:lnTo>
                  <a:lnTo>
                    <a:pt x="402" y="105"/>
                  </a:lnTo>
                  <a:lnTo>
                    <a:pt x="507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2284200" y="2079720"/>
              <a:ext cx="128520" cy="128520"/>
            </a:xfrm>
            <a:prstGeom prst="line">
              <a:avLst/>
            </a:prstGeom>
            <a:ln w="468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946160" y="2941920"/>
              <a:ext cx="323640" cy="14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1947960" y="2943360"/>
              <a:ext cx="3196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170080" y="2233440"/>
              <a:ext cx="95400" cy="784440"/>
            </a:xfrm>
            <a:custGeom>
              <a:avLst/>
              <a:gdLst/>
              <a:ahLst/>
              <a:rect l="l" t="t" r="r" b="b"/>
              <a:pathLst>
                <a:path w="60" h="494">
                  <a:moveTo>
                    <a:pt x="0" y="36"/>
                  </a:moveTo>
                  <a:lnTo>
                    <a:pt x="0" y="60"/>
                  </a:lnTo>
                  <a:lnTo>
                    <a:pt x="0" y="87"/>
                  </a:lnTo>
                  <a:lnTo>
                    <a:pt x="0" y="120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7"/>
                  </a:lnTo>
                  <a:lnTo>
                    <a:pt x="0" y="343"/>
                  </a:lnTo>
                  <a:lnTo>
                    <a:pt x="0" y="379"/>
                  </a:lnTo>
                  <a:lnTo>
                    <a:pt x="0" y="409"/>
                  </a:lnTo>
                  <a:lnTo>
                    <a:pt x="0" y="437"/>
                  </a:lnTo>
                  <a:lnTo>
                    <a:pt x="0" y="461"/>
                  </a:lnTo>
                  <a:lnTo>
                    <a:pt x="0" y="479"/>
                  </a:lnTo>
                  <a:lnTo>
                    <a:pt x="0" y="488"/>
                  </a:lnTo>
                  <a:lnTo>
                    <a:pt x="0" y="494"/>
                  </a:lnTo>
                  <a:lnTo>
                    <a:pt x="60" y="494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60" y="3"/>
                  </a:lnTo>
                  <a:lnTo>
                    <a:pt x="60" y="6"/>
                  </a:lnTo>
                  <a:lnTo>
                    <a:pt x="51" y="15"/>
                  </a:lnTo>
                  <a:lnTo>
                    <a:pt x="36" y="24"/>
                  </a:lnTo>
                  <a:lnTo>
                    <a:pt x="18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170080" y="3013200"/>
              <a:ext cx="9540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0" y="39"/>
                  </a:moveTo>
                  <a:lnTo>
                    <a:pt x="21" y="33"/>
                  </a:lnTo>
                  <a:lnTo>
                    <a:pt x="39" y="24"/>
                  </a:lnTo>
                  <a:lnTo>
                    <a:pt x="48" y="21"/>
                  </a:lnTo>
                  <a:lnTo>
                    <a:pt x="54" y="15"/>
                  </a:lnTo>
                  <a:lnTo>
                    <a:pt x="57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946160" y="2217600"/>
              <a:ext cx="319320" cy="15840"/>
            </a:xfrm>
            <a:custGeom>
              <a:avLst/>
              <a:gdLst/>
              <a:ahLst/>
              <a:rect l="l" t="t" r="r" b="b"/>
              <a:pathLst>
                <a:path w="201" h="10">
                  <a:moveTo>
                    <a:pt x="9" y="0"/>
                  </a:moveTo>
                  <a:lnTo>
                    <a:pt x="0" y="10"/>
                  </a:lnTo>
                  <a:lnTo>
                    <a:pt x="201" y="10"/>
                  </a:lnTo>
                  <a:lnTo>
                    <a:pt x="201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1946160" y="2217600"/>
              <a:ext cx="319320" cy="15840"/>
            </a:xfrm>
            <a:custGeom>
              <a:avLst/>
              <a:gdLst/>
              <a:ahLst/>
              <a:rect l="l" t="t" r="r" b="b"/>
              <a:pathLst>
                <a:path w="201" h="10">
                  <a:moveTo>
                    <a:pt x="9" y="0"/>
                  </a:moveTo>
                  <a:lnTo>
                    <a:pt x="0" y="10"/>
                  </a:lnTo>
                  <a:lnTo>
                    <a:pt x="201" y="10"/>
                  </a:lnTo>
                  <a:lnTo>
                    <a:pt x="201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946160" y="2157120"/>
              <a:ext cx="323640" cy="14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8"/>
                  </a:moveTo>
                  <a:arcTo wR="10800" hR="10800" stAng="-25948" swAng="10851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8"/>
                  </a:moveTo>
                  <a:arcTo wR="10800" hR="10800" stAng="-25948" swAng="10851896"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947960" y="2158560"/>
              <a:ext cx="31968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7"/>
                  </a:moveTo>
                  <a:arcTo wR="10800" hR="10800" stAng="-26271" swAng="1085254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7"/>
                  </a:moveTo>
                  <a:arcTo wR="10800" hR="10800" stAng="-26271" swAng="10852542"/>
                </a:path>
              </a:pathLst>
            </a:custGeom>
            <a:noFill/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1974960" y="2227320"/>
              <a:ext cx="261720" cy="1440"/>
            </a:xfrm>
            <a:prstGeom prst="line">
              <a:avLst/>
            </a:prstGeom>
            <a:ln w="468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270160" y="2233440"/>
              <a:ext cx="57240" cy="779760"/>
            </a:xfrm>
            <a:prstGeom prst="rect">
              <a:avLst/>
            </a:pr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270160" y="2233440"/>
              <a:ext cx="57240" cy="779760"/>
            </a:xfrm>
            <a:prstGeom prst="rect">
              <a:avLst/>
            </a:pr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317680" y="2281320"/>
              <a:ext cx="214560" cy="180720"/>
            </a:xfrm>
            <a:prstGeom prst="rect">
              <a:avLst/>
            </a:pr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319480" y="2282760"/>
              <a:ext cx="210960" cy="177840"/>
            </a:xfrm>
            <a:prstGeom prst="rect">
              <a:avLst/>
            </a:prstGeom>
            <a:solidFill>
              <a:srgbClr val="93936c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322360" y="2286000"/>
              <a:ext cx="5040" cy="1760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322360" y="2286000"/>
              <a:ext cx="5040" cy="1760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951200" y="2243160"/>
              <a:ext cx="14040" cy="798480"/>
            </a:xfrm>
            <a:custGeom>
              <a:avLst/>
              <a:gdLst/>
              <a:ahLst/>
              <a:rect l="l" t="t" r="r" b="b"/>
              <a:pathLst>
                <a:path w="9" h="503">
                  <a:moveTo>
                    <a:pt x="0" y="0"/>
                  </a:moveTo>
                  <a:lnTo>
                    <a:pt x="9" y="9"/>
                  </a:lnTo>
                  <a:lnTo>
                    <a:pt x="9" y="503"/>
                  </a:lnTo>
                  <a:lnTo>
                    <a:pt x="0" y="4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951200" y="2243160"/>
              <a:ext cx="14040" cy="798480"/>
            </a:xfrm>
            <a:custGeom>
              <a:avLst/>
              <a:gdLst/>
              <a:ahLst/>
              <a:rect l="l" t="t" r="r" b="b"/>
              <a:pathLst>
                <a:path w="9" h="503">
                  <a:moveTo>
                    <a:pt x="0" y="0"/>
                  </a:moveTo>
                  <a:lnTo>
                    <a:pt x="9" y="9"/>
                  </a:lnTo>
                  <a:lnTo>
                    <a:pt x="9" y="503"/>
                  </a:lnTo>
                  <a:lnTo>
                    <a:pt x="0" y="4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947960" y="2158560"/>
              <a:ext cx="31968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7"/>
                  </a:moveTo>
                  <a:arcTo wR="10800" hR="10800" stAng="-26271" swAng="1085254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7"/>
                  </a:moveTo>
                  <a:arcTo wR="10800" hR="10800" stAng="-26271" swAng="10852542"/>
                </a:path>
              </a:pathLst>
            </a:custGeom>
            <a:noFill/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947960" y="2948760"/>
              <a:ext cx="319680" cy="13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1" y="10368"/>
                  </a:moveTo>
                  <a:arcTo wR="10800" hR="10800" stAng="-137464" swAng="109924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1" y="10368"/>
                  </a:moveTo>
                  <a:arcTo wR="10800" hR="10800" stAng="-137464" swAng="10992474"/>
                </a:path>
              </a:pathLst>
            </a:custGeom>
            <a:noFill/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1413000" y="3444840"/>
            <a:ext cx="1314360" cy="1023480"/>
            <a:chOff x="1413000" y="3444840"/>
            <a:chExt cx="1314360" cy="1023480"/>
          </a:xfrm>
        </p:grpSpPr>
        <p:sp>
          <p:nvSpPr>
            <p:cNvPr id="3159" name=""/>
            <p:cNvSpPr/>
            <p:nvPr/>
          </p:nvSpPr>
          <p:spPr>
            <a:xfrm>
              <a:off x="1413000" y="3611520"/>
              <a:ext cx="318960" cy="79056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414440" y="3612960"/>
              <a:ext cx="316080" cy="787320"/>
            </a:xfrm>
            <a:prstGeom prst="rect">
              <a:avLst/>
            </a:prstGeom>
            <a:solidFill>
              <a:srgbClr val="b7b79d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731960" y="3611520"/>
              <a:ext cx="318960" cy="79056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733400" y="3612960"/>
              <a:ext cx="316080" cy="787320"/>
            </a:xfrm>
            <a:prstGeom prst="rect">
              <a:avLst/>
            </a:prstGeom>
            <a:solidFill>
              <a:srgbClr val="a5a585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050920" y="3444840"/>
              <a:ext cx="166680" cy="957240"/>
            </a:xfrm>
            <a:custGeom>
              <a:avLst/>
              <a:gdLst/>
              <a:ahLst/>
              <a:rect l="l" t="t" r="r" b="b"/>
              <a:pathLst>
                <a:path w="105" h="603">
                  <a:moveTo>
                    <a:pt x="105" y="497"/>
                  </a:moveTo>
                  <a:lnTo>
                    <a:pt x="105" y="0"/>
                  </a:lnTo>
                  <a:lnTo>
                    <a:pt x="0" y="105"/>
                  </a:lnTo>
                  <a:lnTo>
                    <a:pt x="0" y="603"/>
                  </a:lnTo>
                  <a:lnTo>
                    <a:pt x="105" y="497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050920" y="3444840"/>
              <a:ext cx="166680" cy="957240"/>
            </a:xfrm>
            <a:custGeom>
              <a:avLst/>
              <a:gdLst/>
              <a:ahLst/>
              <a:rect l="l" t="t" r="r" b="b"/>
              <a:pathLst>
                <a:path w="105" h="603">
                  <a:moveTo>
                    <a:pt x="105" y="497"/>
                  </a:moveTo>
                  <a:lnTo>
                    <a:pt x="105" y="0"/>
                  </a:lnTo>
                  <a:lnTo>
                    <a:pt x="0" y="105"/>
                  </a:lnTo>
                  <a:lnTo>
                    <a:pt x="0" y="603"/>
                  </a:lnTo>
                  <a:lnTo>
                    <a:pt x="105" y="497"/>
                  </a:lnTo>
                  <a:close/>
                </a:path>
              </a:pathLst>
            </a:custGeom>
            <a:solidFill>
              <a:srgbClr val="7a7a5a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13000" y="3444840"/>
              <a:ext cx="804600" cy="166680"/>
            </a:xfrm>
            <a:custGeom>
              <a:avLst/>
              <a:gdLst/>
              <a:ahLst/>
              <a:rect l="l" t="t" r="r" b="b"/>
              <a:pathLst>
                <a:path w="507" h="105">
                  <a:moveTo>
                    <a:pt x="105" y="0"/>
                  </a:moveTo>
                  <a:lnTo>
                    <a:pt x="0" y="105"/>
                  </a:lnTo>
                  <a:lnTo>
                    <a:pt x="402" y="105"/>
                  </a:lnTo>
                  <a:lnTo>
                    <a:pt x="507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413000" y="3444840"/>
              <a:ext cx="804600" cy="166680"/>
            </a:xfrm>
            <a:custGeom>
              <a:avLst/>
              <a:gdLst/>
              <a:ahLst/>
              <a:rect l="l" t="t" r="r" b="b"/>
              <a:pathLst>
                <a:path w="507" h="105">
                  <a:moveTo>
                    <a:pt x="105" y="0"/>
                  </a:moveTo>
                  <a:lnTo>
                    <a:pt x="0" y="105"/>
                  </a:lnTo>
                  <a:lnTo>
                    <a:pt x="402" y="105"/>
                  </a:lnTo>
                  <a:lnTo>
                    <a:pt x="507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9c9b6"/>
            </a:solidFill>
            <a:ln w="468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 flipH="1">
              <a:off x="1750680" y="3463920"/>
              <a:ext cx="128520" cy="128520"/>
            </a:xfrm>
            <a:prstGeom prst="line">
              <a:avLst/>
            </a:prstGeom>
            <a:ln w="468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13000" y="4326120"/>
              <a:ext cx="323280" cy="14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414440" y="4327560"/>
              <a:ext cx="320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800000"/>
                </a:path>
              </a:pathLst>
            </a:custGeom>
            <a:noFill/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636560" y="3617640"/>
              <a:ext cx="95400" cy="784440"/>
            </a:xfrm>
            <a:custGeom>
              <a:avLst/>
              <a:gdLst/>
              <a:ahLst/>
              <a:rect l="l" t="t" r="r" b="b"/>
              <a:pathLst>
                <a:path w="60" h="494">
                  <a:moveTo>
                    <a:pt x="0" y="36"/>
                  </a:moveTo>
                  <a:lnTo>
                    <a:pt x="0" y="60"/>
                  </a:lnTo>
                  <a:lnTo>
                    <a:pt x="0" y="87"/>
                  </a:lnTo>
                  <a:lnTo>
                    <a:pt x="0" y="120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7"/>
                  </a:lnTo>
                  <a:lnTo>
                    <a:pt x="0" y="343"/>
                  </a:lnTo>
                  <a:lnTo>
                    <a:pt x="0" y="379"/>
                  </a:lnTo>
                  <a:lnTo>
                    <a:pt x="0" y="409"/>
                  </a:lnTo>
                  <a:lnTo>
                    <a:pt x="0" y="437"/>
                  </a:lnTo>
                  <a:lnTo>
                    <a:pt x="0" y="461"/>
                  </a:lnTo>
                  <a:lnTo>
                    <a:pt x="0" y="479"/>
                  </a:lnTo>
                  <a:lnTo>
                    <a:pt x="0" y="488"/>
                  </a:lnTo>
                  <a:lnTo>
                    <a:pt x="0" y="494"/>
                  </a:lnTo>
                  <a:lnTo>
                    <a:pt x="60" y="494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60" y="3"/>
                  </a:lnTo>
                  <a:lnTo>
                    <a:pt x="60" y="6"/>
                  </a:lnTo>
                  <a:lnTo>
                    <a:pt x="51" y="15"/>
                  </a:lnTo>
                  <a:lnTo>
                    <a:pt x="36" y="24"/>
                  </a:lnTo>
                  <a:lnTo>
                    <a:pt x="18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636560" y="4397400"/>
              <a:ext cx="9540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0" y="39"/>
                  </a:moveTo>
                  <a:lnTo>
                    <a:pt x="21" y="33"/>
                  </a:lnTo>
                  <a:lnTo>
                    <a:pt x="39" y="24"/>
                  </a:lnTo>
                  <a:lnTo>
                    <a:pt x="48" y="21"/>
                  </a:lnTo>
                  <a:lnTo>
                    <a:pt x="54" y="15"/>
                  </a:lnTo>
                  <a:lnTo>
                    <a:pt x="57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413000" y="3601800"/>
              <a:ext cx="318960" cy="15840"/>
            </a:xfrm>
            <a:custGeom>
              <a:avLst/>
              <a:gdLst/>
              <a:ahLst/>
              <a:rect l="l" t="t" r="r" b="b"/>
              <a:pathLst>
                <a:path w="201" h="10">
                  <a:moveTo>
                    <a:pt x="9" y="0"/>
                  </a:moveTo>
                  <a:lnTo>
                    <a:pt x="0" y="10"/>
                  </a:lnTo>
                  <a:lnTo>
                    <a:pt x="201" y="10"/>
                  </a:lnTo>
                  <a:lnTo>
                    <a:pt x="201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413000" y="3601800"/>
              <a:ext cx="318960" cy="15840"/>
            </a:xfrm>
            <a:custGeom>
              <a:avLst/>
              <a:gdLst/>
              <a:ahLst/>
              <a:rect l="l" t="t" r="r" b="b"/>
              <a:pathLst>
                <a:path w="201" h="10">
                  <a:moveTo>
                    <a:pt x="9" y="0"/>
                  </a:moveTo>
                  <a:lnTo>
                    <a:pt x="0" y="10"/>
                  </a:lnTo>
                  <a:lnTo>
                    <a:pt x="201" y="10"/>
                  </a:lnTo>
                  <a:lnTo>
                    <a:pt x="201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413000" y="3541320"/>
              <a:ext cx="323280" cy="14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8"/>
                  </a:moveTo>
                  <a:arcTo wR="10800" hR="10800" stAng="-25948" swAng="10851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8"/>
                  </a:moveTo>
                  <a:arcTo wR="10800" hR="10800" stAng="-25948" swAng="10851896"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14440" y="3542760"/>
              <a:ext cx="32040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7"/>
                  </a:moveTo>
                  <a:arcTo wR="10800" hR="10800" stAng="-26271" swAng="1085254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7"/>
                  </a:moveTo>
                  <a:arcTo wR="10800" hR="10800" stAng="-26271" swAng="10852542"/>
                </a:path>
              </a:pathLst>
            </a:custGeom>
            <a:noFill/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441440" y="3611520"/>
              <a:ext cx="262080" cy="1440"/>
            </a:xfrm>
            <a:prstGeom prst="line">
              <a:avLst/>
            </a:prstGeom>
            <a:ln w="4680">
              <a:solidFill>
                <a:srgbClr val="7a7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736640" y="3617640"/>
              <a:ext cx="57240" cy="779760"/>
            </a:xfrm>
            <a:prstGeom prst="rect">
              <a:avLst/>
            </a:pr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736640" y="3617640"/>
              <a:ext cx="57240" cy="779760"/>
            </a:xfrm>
            <a:prstGeom prst="rect">
              <a:avLst/>
            </a:pr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784520" y="3665520"/>
              <a:ext cx="214200" cy="180720"/>
            </a:xfrm>
            <a:prstGeom prst="rect">
              <a:avLst/>
            </a:pr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785960" y="3666960"/>
              <a:ext cx="210960" cy="177840"/>
            </a:xfrm>
            <a:prstGeom prst="rect">
              <a:avLst/>
            </a:prstGeom>
            <a:solidFill>
              <a:srgbClr val="93936c"/>
            </a:solidFill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789200" y="3670200"/>
              <a:ext cx="4680" cy="1760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789200" y="3670200"/>
              <a:ext cx="4680" cy="176040"/>
            </a:xfrm>
            <a:prstGeom prst="rect">
              <a:avLst/>
            </a:pr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417680" y="3627360"/>
              <a:ext cx="14400" cy="798480"/>
            </a:xfrm>
            <a:custGeom>
              <a:avLst/>
              <a:gdLst/>
              <a:ahLst/>
              <a:rect l="l" t="t" r="r" b="b"/>
              <a:pathLst>
                <a:path w="9" h="503">
                  <a:moveTo>
                    <a:pt x="0" y="0"/>
                  </a:moveTo>
                  <a:lnTo>
                    <a:pt x="9" y="9"/>
                  </a:lnTo>
                  <a:lnTo>
                    <a:pt x="9" y="503"/>
                  </a:lnTo>
                  <a:lnTo>
                    <a:pt x="0" y="4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417680" y="3627360"/>
              <a:ext cx="14400" cy="798480"/>
            </a:xfrm>
            <a:custGeom>
              <a:avLst/>
              <a:gdLst/>
              <a:ahLst/>
              <a:rect l="l" t="t" r="r" b="b"/>
              <a:pathLst>
                <a:path w="9" h="503">
                  <a:moveTo>
                    <a:pt x="0" y="0"/>
                  </a:moveTo>
                  <a:lnTo>
                    <a:pt x="9" y="9"/>
                  </a:lnTo>
                  <a:lnTo>
                    <a:pt x="9" y="503"/>
                  </a:lnTo>
                  <a:lnTo>
                    <a:pt x="0" y="4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414440" y="3542760"/>
              <a:ext cx="32040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7"/>
                  </a:moveTo>
                  <a:arcTo wR="10800" hR="10800" stAng="-26271" swAng="1085254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7"/>
                  </a:moveTo>
                  <a:arcTo wR="10800" hR="10800" stAng="-26271" swAng="10852542"/>
                </a:path>
              </a:pathLst>
            </a:custGeom>
            <a:noFill/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414440" y="4332960"/>
              <a:ext cx="320400" cy="13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1" y="10368"/>
                  </a:moveTo>
                  <a:arcTo wR="10800" hR="10800" stAng="-137464" swAng="1099247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1" y="10368"/>
                  </a:moveTo>
                  <a:arcTo wR="10800" hR="10800" stAng="-137464" swAng="10992474"/>
                </a:path>
              </a:pathLst>
            </a:custGeom>
            <a:noFill/>
            <a:ln w="468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2070000" y="3760560"/>
              <a:ext cx="657360" cy="641520"/>
              <a:chOff x="2070000" y="3760560"/>
              <a:chExt cx="657360" cy="641520"/>
            </a:xfrm>
          </p:grpSpPr>
          <p:sp>
            <p:nvSpPr>
              <p:cNvPr id="3188" name=""/>
              <p:cNvSpPr/>
              <p:nvPr/>
            </p:nvSpPr>
            <p:spPr>
              <a:xfrm>
                <a:off x="2070000" y="3846240"/>
                <a:ext cx="190440" cy="555840"/>
              </a:xfrm>
              <a:prstGeom prst="rect">
                <a:avLst/>
              </a:prstGeom>
              <a:solidFill>
                <a:srgbClr val="a5a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071800" y="3848040"/>
                <a:ext cx="187200" cy="552240"/>
              </a:xfrm>
              <a:prstGeom prst="rect">
                <a:avLst/>
              </a:prstGeom>
              <a:solidFill>
                <a:srgbClr val="a5a585"/>
              </a:solidFill>
              <a:ln w="468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260440" y="3846240"/>
                <a:ext cx="190800" cy="555840"/>
              </a:xfrm>
              <a:prstGeom prst="rect">
                <a:avLst/>
              </a:prstGeom>
              <a:solidFill>
                <a:srgbClr val="a5a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262240" y="3848040"/>
                <a:ext cx="187200" cy="552240"/>
              </a:xfrm>
              <a:prstGeom prst="rect">
                <a:avLst/>
              </a:prstGeom>
              <a:solidFill>
                <a:srgbClr val="a5a585"/>
              </a:solidFill>
              <a:ln w="468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451240" y="3846240"/>
                <a:ext cx="190440" cy="555840"/>
              </a:xfrm>
              <a:prstGeom prst="rect">
                <a:avLst/>
              </a:prstGeom>
              <a:solidFill>
                <a:srgbClr val="a5a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2452680" y="3848040"/>
                <a:ext cx="187200" cy="552240"/>
              </a:xfrm>
              <a:prstGeom prst="rect">
                <a:avLst/>
              </a:prstGeom>
              <a:solidFill>
                <a:srgbClr val="a5a585"/>
              </a:solidFill>
              <a:ln w="468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2070000" y="3760560"/>
                <a:ext cx="276480" cy="85680"/>
              </a:xfrm>
              <a:custGeom>
                <a:avLst/>
                <a:gdLst/>
                <a:ahLst/>
                <a:rect l="l" t="t" r="r" b="b"/>
                <a:pathLst>
                  <a:path w="174" h="54">
                    <a:moveTo>
                      <a:pt x="54" y="0"/>
                    </a:moveTo>
                    <a:lnTo>
                      <a:pt x="0" y="54"/>
                    </a:lnTo>
                    <a:lnTo>
                      <a:pt x="120" y="54"/>
                    </a:lnTo>
                    <a:lnTo>
                      <a:pt x="17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2070000" y="3760560"/>
                <a:ext cx="276480" cy="85680"/>
              </a:xfrm>
              <a:custGeom>
                <a:avLst/>
                <a:gdLst/>
                <a:ahLst/>
                <a:rect l="l" t="t" r="r" b="b"/>
                <a:pathLst>
                  <a:path w="174" h="54">
                    <a:moveTo>
                      <a:pt x="54" y="0"/>
                    </a:moveTo>
                    <a:lnTo>
                      <a:pt x="0" y="54"/>
                    </a:lnTo>
                    <a:lnTo>
                      <a:pt x="120" y="54"/>
                    </a:lnTo>
                    <a:lnTo>
                      <a:pt x="17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9c9b6"/>
              </a:solidFill>
              <a:ln w="46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2260440" y="3760560"/>
                <a:ext cx="276480" cy="85680"/>
              </a:xfrm>
              <a:custGeom>
                <a:avLst/>
                <a:gdLst/>
                <a:ahLst/>
                <a:rect l="l" t="t" r="r" b="b"/>
                <a:pathLst>
                  <a:path w="174" h="54">
                    <a:moveTo>
                      <a:pt x="54" y="0"/>
                    </a:moveTo>
                    <a:lnTo>
                      <a:pt x="0" y="54"/>
                    </a:lnTo>
                    <a:lnTo>
                      <a:pt x="120" y="54"/>
                    </a:lnTo>
                    <a:lnTo>
                      <a:pt x="17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2260440" y="3760560"/>
                <a:ext cx="276480" cy="85680"/>
              </a:xfrm>
              <a:custGeom>
                <a:avLst/>
                <a:gdLst/>
                <a:ahLst/>
                <a:rect l="l" t="t" r="r" b="b"/>
                <a:pathLst>
                  <a:path w="174" h="54">
                    <a:moveTo>
                      <a:pt x="54" y="0"/>
                    </a:moveTo>
                    <a:lnTo>
                      <a:pt x="0" y="54"/>
                    </a:lnTo>
                    <a:lnTo>
                      <a:pt x="120" y="54"/>
                    </a:lnTo>
                    <a:lnTo>
                      <a:pt x="17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9c9b6"/>
              </a:solidFill>
              <a:ln w="46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2451240" y="3760560"/>
                <a:ext cx="276120" cy="85680"/>
              </a:xfrm>
              <a:custGeom>
                <a:avLst/>
                <a:gdLst/>
                <a:ahLst/>
                <a:rect l="l" t="t" r="r" b="b"/>
                <a:pathLst>
                  <a:path w="174" h="54">
                    <a:moveTo>
                      <a:pt x="54" y="0"/>
                    </a:moveTo>
                    <a:lnTo>
                      <a:pt x="0" y="54"/>
                    </a:lnTo>
                    <a:lnTo>
                      <a:pt x="120" y="54"/>
                    </a:lnTo>
                    <a:lnTo>
                      <a:pt x="17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2451240" y="3760560"/>
                <a:ext cx="276120" cy="85680"/>
              </a:xfrm>
              <a:custGeom>
                <a:avLst/>
                <a:gdLst/>
                <a:ahLst/>
                <a:rect l="l" t="t" r="r" b="b"/>
                <a:pathLst>
                  <a:path w="174" h="54">
                    <a:moveTo>
                      <a:pt x="54" y="0"/>
                    </a:moveTo>
                    <a:lnTo>
                      <a:pt x="0" y="54"/>
                    </a:lnTo>
                    <a:lnTo>
                      <a:pt x="120" y="54"/>
                    </a:lnTo>
                    <a:lnTo>
                      <a:pt x="17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9c9b6"/>
              </a:solidFill>
              <a:ln w="46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2641680" y="3760560"/>
                <a:ext cx="85680" cy="641520"/>
              </a:xfrm>
              <a:custGeom>
                <a:avLst/>
                <a:gdLst/>
                <a:ahLst/>
                <a:rect l="l" t="t" r="r" b="b"/>
                <a:pathLst>
                  <a:path w="54" h="404">
                    <a:moveTo>
                      <a:pt x="54" y="353"/>
                    </a:moveTo>
                    <a:lnTo>
                      <a:pt x="0" y="404"/>
                    </a:lnTo>
                    <a:lnTo>
                      <a:pt x="0" y="54"/>
                    </a:lnTo>
                    <a:lnTo>
                      <a:pt x="54" y="0"/>
                    </a:lnTo>
                    <a:lnTo>
                      <a:pt x="54" y="353"/>
                    </a:lnTo>
                    <a:close/>
                  </a:path>
                </a:pathLst>
              </a:cu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2641680" y="3760560"/>
                <a:ext cx="85680" cy="641520"/>
              </a:xfrm>
              <a:custGeom>
                <a:avLst/>
                <a:gdLst/>
                <a:ahLst/>
                <a:rect l="l" t="t" r="r" b="b"/>
                <a:pathLst>
                  <a:path w="54" h="404">
                    <a:moveTo>
                      <a:pt x="54" y="353"/>
                    </a:moveTo>
                    <a:lnTo>
                      <a:pt x="0" y="404"/>
                    </a:lnTo>
                    <a:lnTo>
                      <a:pt x="0" y="54"/>
                    </a:lnTo>
                    <a:lnTo>
                      <a:pt x="54" y="0"/>
                    </a:lnTo>
                    <a:lnTo>
                      <a:pt x="54" y="353"/>
                    </a:lnTo>
                    <a:close/>
                  </a:path>
                </a:pathLst>
              </a:custGeom>
              <a:solidFill>
                <a:srgbClr val="7a7a5a"/>
              </a:solidFill>
              <a:ln w="4680">
                <a:solidFill>
                  <a:srgbClr val="49493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2479680" y="3870360"/>
                <a:ext cx="138240" cy="101520"/>
              </a:xfrm>
              <a:prstGeom prst="rect">
                <a:avLst/>
              </a:pr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2481120" y="3871800"/>
                <a:ext cx="135000" cy="98280"/>
              </a:xfrm>
              <a:prstGeom prst="rect">
                <a:avLst/>
              </a:prstGeom>
              <a:solidFill>
                <a:srgbClr val="93936c"/>
              </a:solidFill>
              <a:ln w="468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2479680" y="4000320"/>
                <a:ext cx="138240" cy="95400"/>
              </a:xfrm>
              <a:prstGeom prst="rect">
                <a:avLst/>
              </a:pr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2481120" y="4002120"/>
                <a:ext cx="135000" cy="91800"/>
              </a:xfrm>
              <a:prstGeom prst="rect">
                <a:avLst/>
              </a:prstGeom>
              <a:solidFill>
                <a:srgbClr val="93936c"/>
              </a:solidFill>
              <a:ln w="468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2479680" y="4271760"/>
                <a:ext cx="138240" cy="96840"/>
              </a:xfrm>
              <a:prstGeom prst="rect">
                <a:avLst/>
              </a:pr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2481120" y="4273560"/>
                <a:ext cx="135000" cy="93600"/>
              </a:xfrm>
              <a:prstGeom prst="rect">
                <a:avLst/>
              </a:prstGeom>
              <a:solidFill>
                <a:srgbClr val="93936c"/>
              </a:solidFill>
              <a:ln w="4680">
                <a:solidFill>
                  <a:srgbClr val="4949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IBM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2743200" y="4786200"/>
            <a:ext cx="11430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P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Front-End Process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0" name="" descr=""/>
          <p:cNvPicPr/>
          <p:nvPr/>
        </p:nvPicPr>
        <p:blipFill>
          <a:blip r:embed="rId4"/>
          <a:stretch/>
        </p:blipFill>
        <p:spPr>
          <a:xfrm>
            <a:off x="2070000" y="4819680"/>
            <a:ext cx="66204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W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pSp>
        <p:nvGrpSpPr>
          <p:cNvPr id="3212" name=""/>
          <p:cNvGrpSpPr/>
          <p:nvPr/>
        </p:nvGrpSpPr>
        <p:grpSpPr>
          <a:xfrm>
            <a:off x="6299280" y="3525840"/>
            <a:ext cx="990000" cy="861840"/>
            <a:chOff x="6299280" y="3525840"/>
            <a:chExt cx="990000" cy="861840"/>
          </a:xfrm>
        </p:grpSpPr>
        <p:sp>
          <p:nvSpPr>
            <p:cNvPr id="3213" name=""/>
            <p:cNvSpPr/>
            <p:nvPr/>
          </p:nvSpPr>
          <p:spPr>
            <a:xfrm>
              <a:off x="6302160" y="3529080"/>
              <a:ext cx="983880" cy="104760"/>
            </a:xfrm>
            <a:custGeom>
              <a:avLst/>
              <a:gdLst/>
              <a:ahLst/>
              <a:rect l="l" t="t" r="r" b="b"/>
              <a:pathLst>
                <a:path w="16116" h="1720">
                  <a:moveTo>
                    <a:pt x="0" y="1720"/>
                  </a:moveTo>
                  <a:lnTo>
                    <a:pt x="1719" y="0"/>
                  </a:lnTo>
                  <a:lnTo>
                    <a:pt x="16116" y="0"/>
                  </a:lnTo>
                  <a:lnTo>
                    <a:pt x="14400" y="1720"/>
                  </a:lnTo>
                  <a:lnTo>
                    <a:pt x="0" y="1720"/>
                  </a:lnTo>
                  <a:close/>
                </a:path>
              </a:pathLst>
            </a:cu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300720" y="3525840"/>
              <a:ext cx="109080" cy="111240"/>
            </a:xfrm>
            <a:custGeom>
              <a:avLst/>
              <a:gdLst/>
              <a:ahLst/>
              <a:rect l="l" t="t" r="r" b="b"/>
              <a:pathLst>
                <a:path w="1794" h="1809">
                  <a:moveTo>
                    <a:pt x="1757" y="0"/>
                  </a:moveTo>
                  <a:lnTo>
                    <a:pt x="1720" y="15"/>
                  </a:lnTo>
                  <a:lnTo>
                    <a:pt x="0" y="1735"/>
                  </a:lnTo>
                  <a:lnTo>
                    <a:pt x="74" y="1809"/>
                  </a:lnTo>
                  <a:lnTo>
                    <a:pt x="1794" y="89"/>
                  </a:lnTo>
                  <a:lnTo>
                    <a:pt x="1757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406920" y="3525840"/>
              <a:ext cx="880560" cy="6480"/>
            </a:xfrm>
            <a:custGeom>
              <a:avLst/>
              <a:gdLst/>
              <a:ahLst/>
              <a:rect l="l" t="t" r="r" b="b"/>
              <a:pathLst>
                <a:path w="14435" h="104">
                  <a:moveTo>
                    <a:pt x="14435" y="89"/>
                  </a:moveTo>
                  <a:lnTo>
                    <a:pt x="14397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4397" y="104"/>
                  </a:lnTo>
                  <a:lnTo>
                    <a:pt x="14435" y="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180200" y="3527280"/>
              <a:ext cx="107280" cy="109800"/>
            </a:xfrm>
            <a:custGeom>
              <a:avLst/>
              <a:gdLst/>
              <a:ahLst/>
              <a:rect l="l" t="t" r="r" b="b"/>
              <a:pathLst>
                <a:path w="1791" h="1809">
                  <a:moveTo>
                    <a:pt x="37" y="1809"/>
                  </a:moveTo>
                  <a:lnTo>
                    <a:pt x="74" y="1794"/>
                  </a:lnTo>
                  <a:lnTo>
                    <a:pt x="1791" y="74"/>
                  </a:lnTo>
                  <a:lnTo>
                    <a:pt x="1717" y="0"/>
                  </a:lnTo>
                  <a:lnTo>
                    <a:pt x="0" y="1720"/>
                  </a:lnTo>
                  <a:lnTo>
                    <a:pt x="37" y="180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300720" y="3630600"/>
              <a:ext cx="880560" cy="6480"/>
            </a:xfrm>
            <a:custGeom>
              <a:avLst/>
              <a:gdLst/>
              <a:ahLst/>
              <a:rect l="l" t="t" r="r" b="b"/>
              <a:pathLst>
                <a:path w="14438" h="104">
                  <a:moveTo>
                    <a:pt x="0" y="15"/>
                  </a:moveTo>
                  <a:lnTo>
                    <a:pt x="38" y="104"/>
                  </a:lnTo>
                  <a:lnTo>
                    <a:pt x="14438" y="104"/>
                  </a:lnTo>
                  <a:lnTo>
                    <a:pt x="14438" y="0"/>
                  </a:lnTo>
                  <a:lnTo>
                    <a:pt x="3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302160" y="3633840"/>
              <a:ext cx="879120" cy="750960"/>
            </a:xfrm>
            <a:prstGeom prst="rect">
              <a:avLst/>
            </a:prstGeom>
            <a:solidFill>
              <a:srgbClr val="b6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302160" y="3630600"/>
              <a:ext cx="882360" cy="6480"/>
            </a:xfrm>
            <a:custGeom>
              <a:avLst/>
              <a:gdLst/>
              <a:ahLst/>
              <a:rect l="l" t="t" r="r" b="b"/>
              <a:pathLst>
                <a:path w="14453" h="104">
                  <a:moveTo>
                    <a:pt x="14453" y="53"/>
                  </a:moveTo>
                  <a:lnTo>
                    <a:pt x="14401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4401" y="104"/>
                  </a:lnTo>
                  <a:lnTo>
                    <a:pt x="14453" y="5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178400" y="3633840"/>
              <a:ext cx="6120" cy="753840"/>
            </a:xfrm>
            <a:custGeom>
              <a:avLst/>
              <a:gdLst/>
              <a:ahLst/>
              <a:rect l="l" t="t" r="r" b="b"/>
              <a:pathLst>
                <a:path w="104" h="12345">
                  <a:moveTo>
                    <a:pt x="52" y="12345"/>
                  </a:moveTo>
                  <a:lnTo>
                    <a:pt x="104" y="12292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12292"/>
                  </a:lnTo>
                  <a:lnTo>
                    <a:pt x="52" y="1234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299280" y="4381560"/>
              <a:ext cx="882360" cy="6120"/>
            </a:xfrm>
            <a:custGeom>
              <a:avLst/>
              <a:gdLst/>
              <a:ahLst/>
              <a:rect l="l" t="t" r="r" b="b"/>
              <a:pathLst>
                <a:path w="14454" h="104">
                  <a:moveTo>
                    <a:pt x="0" y="51"/>
                  </a:moveTo>
                  <a:lnTo>
                    <a:pt x="53" y="104"/>
                  </a:lnTo>
                  <a:lnTo>
                    <a:pt x="14454" y="104"/>
                  </a:lnTo>
                  <a:lnTo>
                    <a:pt x="14454" y="0"/>
                  </a:lnTo>
                  <a:lnTo>
                    <a:pt x="53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299280" y="3630600"/>
              <a:ext cx="6120" cy="754200"/>
            </a:xfrm>
            <a:custGeom>
              <a:avLst/>
              <a:gdLst/>
              <a:ahLst/>
              <a:rect l="l" t="t" r="r" b="b"/>
              <a:pathLst>
                <a:path w="104" h="12345">
                  <a:moveTo>
                    <a:pt x="53" y="0"/>
                  </a:moveTo>
                  <a:lnTo>
                    <a:pt x="0" y="53"/>
                  </a:lnTo>
                  <a:lnTo>
                    <a:pt x="0" y="12345"/>
                  </a:lnTo>
                  <a:lnTo>
                    <a:pt x="104" y="12345"/>
                  </a:lnTo>
                  <a:lnTo>
                    <a:pt x="104" y="5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181640" y="3529080"/>
              <a:ext cx="104400" cy="855720"/>
            </a:xfrm>
            <a:custGeom>
              <a:avLst/>
              <a:gdLst/>
              <a:ahLst/>
              <a:rect l="l" t="t" r="r" b="b"/>
              <a:pathLst>
                <a:path w="1717" h="14012">
                  <a:moveTo>
                    <a:pt x="2" y="14012"/>
                  </a:moveTo>
                  <a:lnTo>
                    <a:pt x="1717" y="12296"/>
                  </a:lnTo>
                  <a:lnTo>
                    <a:pt x="1716" y="0"/>
                  </a:lnTo>
                  <a:lnTo>
                    <a:pt x="0" y="1720"/>
                  </a:lnTo>
                  <a:lnTo>
                    <a:pt x="2" y="14012"/>
                  </a:lnTo>
                  <a:close/>
                </a:path>
              </a:pathLst>
            </a:custGeom>
            <a:solidFill>
              <a:srgbClr val="7b7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180200" y="4278240"/>
              <a:ext cx="109080" cy="108000"/>
            </a:xfrm>
            <a:custGeom>
              <a:avLst/>
              <a:gdLst/>
              <a:ahLst/>
              <a:rect l="l" t="t" r="r" b="b"/>
              <a:pathLst>
                <a:path w="1806" h="1791">
                  <a:moveTo>
                    <a:pt x="1806" y="37"/>
                  </a:moveTo>
                  <a:lnTo>
                    <a:pt x="1717" y="0"/>
                  </a:lnTo>
                  <a:lnTo>
                    <a:pt x="0" y="1717"/>
                  </a:lnTo>
                  <a:lnTo>
                    <a:pt x="74" y="1791"/>
                  </a:lnTo>
                  <a:lnTo>
                    <a:pt x="1791" y="74"/>
                  </a:lnTo>
                  <a:lnTo>
                    <a:pt x="1806" y="3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283160" y="3527280"/>
              <a:ext cx="6120" cy="752760"/>
            </a:xfrm>
            <a:custGeom>
              <a:avLst/>
              <a:gdLst/>
              <a:ahLst/>
              <a:rect l="l" t="t" r="r" b="b"/>
              <a:pathLst>
                <a:path w="105" h="12334">
                  <a:moveTo>
                    <a:pt x="15" y="0"/>
                  </a:moveTo>
                  <a:lnTo>
                    <a:pt x="0" y="38"/>
                  </a:lnTo>
                  <a:lnTo>
                    <a:pt x="1" y="12334"/>
                  </a:lnTo>
                  <a:lnTo>
                    <a:pt x="105" y="12334"/>
                  </a:lnTo>
                  <a:lnTo>
                    <a:pt x="104" y="3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178400" y="3527280"/>
              <a:ext cx="109080" cy="109800"/>
            </a:xfrm>
            <a:custGeom>
              <a:avLst/>
              <a:gdLst/>
              <a:ahLst/>
              <a:rect l="l" t="t" r="r" b="b"/>
              <a:pathLst>
                <a:path w="1806" h="1794">
                  <a:moveTo>
                    <a:pt x="0" y="1758"/>
                  </a:moveTo>
                  <a:lnTo>
                    <a:pt x="89" y="1794"/>
                  </a:lnTo>
                  <a:lnTo>
                    <a:pt x="1806" y="74"/>
                  </a:lnTo>
                  <a:lnTo>
                    <a:pt x="1732" y="0"/>
                  </a:lnTo>
                  <a:lnTo>
                    <a:pt x="15" y="1720"/>
                  </a:lnTo>
                  <a:lnTo>
                    <a:pt x="0" y="175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178400" y="3633840"/>
              <a:ext cx="6120" cy="752400"/>
            </a:xfrm>
            <a:custGeom>
              <a:avLst/>
              <a:gdLst/>
              <a:ahLst/>
              <a:rect l="l" t="t" r="r" b="b"/>
              <a:pathLst>
                <a:path w="105" h="12330">
                  <a:moveTo>
                    <a:pt x="90" y="12330"/>
                  </a:moveTo>
                  <a:lnTo>
                    <a:pt x="105" y="12292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1" y="12292"/>
                  </a:lnTo>
                  <a:lnTo>
                    <a:pt x="90" y="1233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629040" y="3668760"/>
              <a:ext cx="212400" cy="106200"/>
            </a:xfrm>
            <a:custGeom>
              <a:avLst/>
              <a:gdLst/>
              <a:ahLst/>
              <a:rect l="l" t="t" r="r" b="b"/>
              <a:pathLst>
                <a:path w="3462" h="1734">
                  <a:moveTo>
                    <a:pt x="1731" y="0"/>
                  </a:moveTo>
                  <a:lnTo>
                    <a:pt x="0" y="1734"/>
                  </a:lnTo>
                  <a:lnTo>
                    <a:pt x="3462" y="1734"/>
                  </a:lnTo>
                  <a:lnTo>
                    <a:pt x="1731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629040" y="4230720"/>
              <a:ext cx="212400" cy="106200"/>
            </a:xfrm>
            <a:custGeom>
              <a:avLst/>
              <a:gdLst/>
              <a:ahLst/>
              <a:rect l="l" t="t" r="r" b="b"/>
              <a:pathLst>
                <a:path w="3462" h="1734">
                  <a:moveTo>
                    <a:pt x="1731" y="1734"/>
                  </a:moveTo>
                  <a:lnTo>
                    <a:pt x="3462" y="0"/>
                  </a:lnTo>
                  <a:lnTo>
                    <a:pt x="0" y="0"/>
                  </a:lnTo>
                  <a:lnTo>
                    <a:pt x="1731" y="17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6330600" y="3916440"/>
              <a:ext cx="106200" cy="210960"/>
            </a:xfrm>
            <a:custGeom>
              <a:avLst/>
              <a:gdLst/>
              <a:ahLst/>
              <a:rect l="l" t="t" r="r" b="b"/>
              <a:pathLst>
                <a:path w="1734" h="3462">
                  <a:moveTo>
                    <a:pt x="0" y="1731"/>
                  </a:moveTo>
                  <a:lnTo>
                    <a:pt x="1734" y="3462"/>
                  </a:lnTo>
                  <a:lnTo>
                    <a:pt x="1734" y="0"/>
                  </a:lnTo>
                  <a:lnTo>
                    <a:pt x="0" y="17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034040" y="3916440"/>
              <a:ext cx="105840" cy="210960"/>
            </a:xfrm>
            <a:custGeom>
              <a:avLst/>
              <a:gdLst/>
              <a:ahLst/>
              <a:rect l="l" t="t" r="r" b="b"/>
              <a:pathLst>
                <a:path w="1734" h="3462">
                  <a:moveTo>
                    <a:pt x="1734" y="1731"/>
                  </a:moveTo>
                  <a:lnTo>
                    <a:pt x="0" y="0"/>
                  </a:lnTo>
                  <a:lnTo>
                    <a:pt x="0" y="3462"/>
                  </a:lnTo>
                  <a:lnTo>
                    <a:pt x="1734" y="17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573600" y="3914640"/>
              <a:ext cx="331560" cy="244440"/>
            </a:xfrm>
            <a:custGeom>
              <a:avLst/>
              <a:gdLst/>
              <a:ahLst/>
              <a:rect l="l" t="t" r="r" b="b"/>
              <a:pathLst>
                <a:path w="5437" h="3986">
                  <a:moveTo>
                    <a:pt x="4004" y="0"/>
                  </a:moveTo>
                  <a:lnTo>
                    <a:pt x="1433" y="0"/>
                  </a:lnTo>
                  <a:lnTo>
                    <a:pt x="1433" y="1139"/>
                  </a:lnTo>
                  <a:lnTo>
                    <a:pt x="0" y="2572"/>
                  </a:lnTo>
                  <a:lnTo>
                    <a:pt x="0" y="3838"/>
                  </a:lnTo>
                  <a:lnTo>
                    <a:pt x="144" y="3986"/>
                  </a:lnTo>
                  <a:lnTo>
                    <a:pt x="5280" y="3986"/>
                  </a:lnTo>
                  <a:lnTo>
                    <a:pt x="5437" y="3825"/>
                  </a:lnTo>
                  <a:lnTo>
                    <a:pt x="5437" y="2572"/>
                  </a:lnTo>
                  <a:lnTo>
                    <a:pt x="4004" y="1139"/>
                  </a:lnTo>
                  <a:lnTo>
                    <a:pt x="400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510240" y="3833640"/>
              <a:ext cx="451800" cy="168480"/>
            </a:xfrm>
            <a:custGeom>
              <a:avLst/>
              <a:gdLst/>
              <a:ahLst/>
              <a:rect l="l" t="t" r="r" b="b"/>
              <a:pathLst>
                <a:path w="7410" h="2769">
                  <a:moveTo>
                    <a:pt x="4417" y="27"/>
                  </a:moveTo>
                  <a:lnTo>
                    <a:pt x="3985" y="0"/>
                  </a:lnTo>
                  <a:lnTo>
                    <a:pt x="3147" y="0"/>
                  </a:lnTo>
                  <a:lnTo>
                    <a:pt x="2513" y="59"/>
                  </a:lnTo>
                  <a:lnTo>
                    <a:pt x="1832" y="210"/>
                  </a:lnTo>
                  <a:lnTo>
                    <a:pt x="1226" y="424"/>
                  </a:lnTo>
                  <a:lnTo>
                    <a:pt x="736" y="698"/>
                  </a:lnTo>
                  <a:lnTo>
                    <a:pt x="333" y="1061"/>
                  </a:lnTo>
                  <a:lnTo>
                    <a:pt x="0" y="1689"/>
                  </a:lnTo>
                  <a:lnTo>
                    <a:pt x="0" y="2465"/>
                  </a:lnTo>
                  <a:lnTo>
                    <a:pt x="301" y="2769"/>
                  </a:lnTo>
                  <a:lnTo>
                    <a:pt x="1296" y="2769"/>
                  </a:lnTo>
                  <a:lnTo>
                    <a:pt x="1590" y="2471"/>
                  </a:lnTo>
                  <a:lnTo>
                    <a:pt x="1590" y="1768"/>
                  </a:lnTo>
                  <a:lnTo>
                    <a:pt x="1424" y="1768"/>
                  </a:lnTo>
                  <a:lnTo>
                    <a:pt x="1541" y="1296"/>
                  </a:lnTo>
                  <a:lnTo>
                    <a:pt x="2300" y="963"/>
                  </a:lnTo>
                  <a:lnTo>
                    <a:pt x="2836" y="874"/>
                  </a:lnTo>
                  <a:lnTo>
                    <a:pt x="3230" y="852"/>
                  </a:lnTo>
                  <a:lnTo>
                    <a:pt x="3745" y="847"/>
                  </a:lnTo>
                  <a:lnTo>
                    <a:pt x="4151" y="864"/>
                  </a:lnTo>
                  <a:lnTo>
                    <a:pt x="4701" y="923"/>
                  </a:lnTo>
                  <a:lnTo>
                    <a:pt x="5250" y="1080"/>
                  </a:lnTo>
                  <a:lnTo>
                    <a:pt x="5692" y="1218"/>
                  </a:lnTo>
                  <a:lnTo>
                    <a:pt x="5997" y="1761"/>
                  </a:lnTo>
                  <a:lnTo>
                    <a:pt x="5850" y="1761"/>
                  </a:lnTo>
                  <a:lnTo>
                    <a:pt x="5850" y="2475"/>
                  </a:lnTo>
                  <a:lnTo>
                    <a:pt x="6141" y="2766"/>
                  </a:lnTo>
                  <a:lnTo>
                    <a:pt x="7115" y="2769"/>
                  </a:lnTo>
                  <a:lnTo>
                    <a:pt x="7410" y="2471"/>
                  </a:lnTo>
                  <a:lnTo>
                    <a:pt x="7410" y="1689"/>
                  </a:lnTo>
                  <a:lnTo>
                    <a:pt x="7155" y="1208"/>
                  </a:lnTo>
                  <a:lnTo>
                    <a:pt x="6664" y="727"/>
                  </a:lnTo>
                  <a:lnTo>
                    <a:pt x="6154" y="432"/>
                  </a:lnTo>
                  <a:lnTo>
                    <a:pt x="5617" y="210"/>
                  </a:lnTo>
                  <a:lnTo>
                    <a:pt x="4877" y="66"/>
                  </a:lnTo>
                  <a:lnTo>
                    <a:pt x="4417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6636960" y="3675240"/>
              <a:ext cx="210960" cy="106200"/>
            </a:xfrm>
            <a:custGeom>
              <a:avLst/>
              <a:gdLst/>
              <a:ahLst/>
              <a:rect l="l" t="t" r="r" b="b"/>
              <a:pathLst>
                <a:path w="3462" h="1734">
                  <a:moveTo>
                    <a:pt x="1731" y="0"/>
                  </a:moveTo>
                  <a:lnTo>
                    <a:pt x="0" y="1734"/>
                  </a:lnTo>
                  <a:lnTo>
                    <a:pt x="3462" y="1734"/>
                  </a:lnTo>
                  <a:lnTo>
                    <a:pt x="17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636960" y="4237200"/>
              <a:ext cx="210960" cy="106200"/>
            </a:xfrm>
            <a:custGeom>
              <a:avLst/>
              <a:gdLst/>
              <a:ahLst/>
              <a:rect l="l" t="t" r="r" b="b"/>
              <a:pathLst>
                <a:path w="3462" h="1734">
                  <a:moveTo>
                    <a:pt x="1731" y="1734"/>
                  </a:moveTo>
                  <a:lnTo>
                    <a:pt x="3462" y="0"/>
                  </a:lnTo>
                  <a:lnTo>
                    <a:pt x="0" y="0"/>
                  </a:lnTo>
                  <a:lnTo>
                    <a:pt x="1731" y="17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337080" y="3922560"/>
              <a:ext cx="105840" cy="211320"/>
            </a:xfrm>
            <a:custGeom>
              <a:avLst/>
              <a:gdLst/>
              <a:ahLst/>
              <a:rect l="l" t="t" r="r" b="b"/>
              <a:pathLst>
                <a:path w="1734" h="3462">
                  <a:moveTo>
                    <a:pt x="0" y="1731"/>
                  </a:moveTo>
                  <a:lnTo>
                    <a:pt x="1734" y="3462"/>
                  </a:lnTo>
                  <a:lnTo>
                    <a:pt x="1734" y="0"/>
                  </a:lnTo>
                  <a:lnTo>
                    <a:pt x="0" y="17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040160" y="3922560"/>
              <a:ext cx="106200" cy="211320"/>
            </a:xfrm>
            <a:custGeom>
              <a:avLst/>
              <a:gdLst/>
              <a:ahLst/>
              <a:rect l="l" t="t" r="r" b="b"/>
              <a:pathLst>
                <a:path w="1734" h="3462">
                  <a:moveTo>
                    <a:pt x="1734" y="1731"/>
                  </a:moveTo>
                  <a:lnTo>
                    <a:pt x="0" y="0"/>
                  </a:lnTo>
                  <a:lnTo>
                    <a:pt x="0" y="3462"/>
                  </a:lnTo>
                  <a:lnTo>
                    <a:pt x="1734" y="17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6580080" y="3921120"/>
              <a:ext cx="331200" cy="244440"/>
            </a:xfrm>
            <a:custGeom>
              <a:avLst/>
              <a:gdLst/>
              <a:ahLst/>
              <a:rect l="l" t="t" r="r" b="b"/>
              <a:pathLst>
                <a:path w="5437" h="3986">
                  <a:moveTo>
                    <a:pt x="4005" y="0"/>
                  </a:moveTo>
                  <a:lnTo>
                    <a:pt x="1433" y="0"/>
                  </a:lnTo>
                  <a:lnTo>
                    <a:pt x="1433" y="1139"/>
                  </a:lnTo>
                  <a:lnTo>
                    <a:pt x="0" y="2572"/>
                  </a:lnTo>
                  <a:lnTo>
                    <a:pt x="0" y="3838"/>
                  </a:lnTo>
                  <a:lnTo>
                    <a:pt x="144" y="3986"/>
                  </a:lnTo>
                  <a:lnTo>
                    <a:pt x="5280" y="3986"/>
                  </a:lnTo>
                  <a:lnTo>
                    <a:pt x="5437" y="3826"/>
                  </a:lnTo>
                  <a:lnTo>
                    <a:pt x="5437" y="2572"/>
                  </a:lnTo>
                  <a:lnTo>
                    <a:pt x="4005" y="1139"/>
                  </a:lnTo>
                  <a:lnTo>
                    <a:pt x="40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6516360" y="3840120"/>
              <a:ext cx="452160" cy="168480"/>
            </a:xfrm>
            <a:custGeom>
              <a:avLst/>
              <a:gdLst/>
              <a:ahLst/>
              <a:rect l="l" t="t" r="r" b="b"/>
              <a:pathLst>
                <a:path w="7411" h="2767">
                  <a:moveTo>
                    <a:pt x="4417" y="25"/>
                  </a:moveTo>
                  <a:lnTo>
                    <a:pt x="3985" y="0"/>
                  </a:lnTo>
                  <a:lnTo>
                    <a:pt x="3149" y="0"/>
                  </a:lnTo>
                  <a:lnTo>
                    <a:pt x="2513" y="59"/>
                  </a:lnTo>
                  <a:lnTo>
                    <a:pt x="1833" y="209"/>
                  </a:lnTo>
                  <a:lnTo>
                    <a:pt x="1227" y="424"/>
                  </a:lnTo>
                  <a:lnTo>
                    <a:pt x="736" y="696"/>
                  </a:lnTo>
                  <a:lnTo>
                    <a:pt x="334" y="1060"/>
                  </a:lnTo>
                  <a:lnTo>
                    <a:pt x="0" y="1688"/>
                  </a:lnTo>
                  <a:lnTo>
                    <a:pt x="0" y="2463"/>
                  </a:lnTo>
                  <a:lnTo>
                    <a:pt x="301" y="2767"/>
                  </a:lnTo>
                  <a:lnTo>
                    <a:pt x="1296" y="2767"/>
                  </a:lnTo>
                  <a:lnTo>
                    <a:pt x="1590" y="2470"/>
                  </a:lnTo>
                  <a:lnTo>
                    <a:pt x="1590" y="1766"/>
                  </a:lnTo>
                  <a:lnTo>
                    <a:pt x="1424" y="1766"/>
                  </a:lnTo>
                  <a:lnTo>
                    <a:pt x="1542" y="1295"/>
                  </a:lnTo>
                  <a:lnTo>
                    <a:pt x="2301" y="961"/>
                  </a:lnTo>
                  <a:lnTo>
                    <a:pt x="2837" y="873"/>
                  </a:lnTo>
                  <a:lnTo>
                    <a:pt x="3232" y="851"/>
                  </a:lnTo>
                  <a:lnTo>
                    <a:pt x="3745" y="846"/>
                  </a:lnTo>
                  <a:lnTo>
                    <a:pt x="4153" y="863"/>
                  </a:lnTo>
                  <a:lnTo>
                    <a:pt x="4701" y="922"/>
                  </a:lnTo>
                  <a:lnTo>
                    <a:pt x="5252" y="1079"/>
                  </a:lnTo>
                  <a:lnTo>
                    <a:pt x="5693" y="1217"/>
                  </a:lnTo>
                  <a:lnTo>
                    <a:pt x="5997" y="1759"/>
                  </a:lnTo>
                  <a:lnTo>
                    <a:pt x="5850" y="1759"/>
                  </a:lnTo>
                  <a:lnTo>
                    <a:pt x="5850" y="2473"/>
                  </a:lnTo>
                  <a:lnTo>
                    <a:pt x="6141" y="2764"/>
                  </a:lnTo>
                  <a:lnTo>
                    <a:pt x="7117" y="2767"/>
                  </a:lnTo>
                  <a:lnTo>
                    <a:pt x="7411" y="2470"/>
                  </a:lnTo>
                  <a:lnTo>
                    <a:pt x="7411" y="1688"/>
                  </a:lnTo>
                  <a:lnTo>
                    <a:pt x="7155" y="1207"/>
                  </a:lnTo>
                  <a:lnTo>
                    <a:pt x="6664" y="726"/>
                  </a:lnTo>
                  <a:lnTo>
                    <a:pt x="6154" y="431"/>
                  </a:lnTo>
                  <a:lnTo>
                    <a:pt x="5618" y="209"/>
                  </a:lnTo>
                  <a:lnTo>
                    <a:pt x="4879" y="65"/>
                  </a:lnTo>
                  <a:lnTo>
                    <a:pt x="441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0" name=""/>
          <p:cNvSpPr/>
          <p:nvPr/>
        </p:nvSpPr>
        <p:spPr>
          <a:xfrm>
            <a:off x="2033640" y="1371600"/>
            <a:ext cx="11984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SU/CS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dd text in PowerPoin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1" name="" descr=""/>
          <p:cNvPicPr/>
          <p:nvPr/>
        </p:nvPicPr>
        <p:blipFill>
          <a:blip r:embed="rId1"/>
          <a:stretch/>
        </p:blipFill>
        <p:spPr>
          <a:xfrm>
            <a:off x="969840" y="1371600"/>
            <a:ext cx="1022400" cy="492120"/>
          </a:xfrm>
          <a:prstGeom prst="rect">
            <a:avLst/>
          </a:prstGeom>
          <a:ln w="0">
            <a:noFill/>
          </a:ln>
        </p:spPr>
      </p:pic>
      <p:sp>
        <p:nvSpPr>
          <p:cNvPr id="3242" name=""/>
          <p:cNvSpPr/>
          <p:nvPr/>
        </p:nvSpPr>
        <p:spPr>
          <a:xfrm>
            <a:off x="2033640" y="2133720"/>
            <a:ext cx="938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3" name="" descr=""/>
          <p:cNvPicPr/>
          <p:nvPr/>
        </p:nvPicPr>
        <p:blipFill>
          <a:blip r:embed="rId2"/>
          <a:stretch/>
        </p:blipFill>
        <p:spPr>
          <a:xfrm>
            <a:off x="1255680" y="2133720"/>
            <a:ext cx="736560" cy="492120"/>
          </a:xfrm>
          <a:prstGeom prst="rect">
            <a:avLst/>
          </a:prstGeom>
          <a:ln w="0">
            <a:noFill/>
          </a:ln>
        </p:spPr>
      </p:pic>
      <p:sp>
        <p:nvSpPr>
          <p:cNvPr id="3244" name=""/>
          <p:cNvSpPr/>
          <p:nvPr/>
        </p:nvSpPr>
        <p:spPr>
          <a:xfrm>
            <a:off x="2033640" y="3054240"/>
            <a:ext cx="938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2033640" y="3841920"/>
            <a:ext cx="938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X/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2033640" y="4884840"/>
            <a:ext cx="939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b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ay 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7246800" y="157788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stributed 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7246800" y="259380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cal 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9" name="" descr=""/>
          <p:cNvPicPr/>
          <p:nvPr/>
        </p:nvPicPr>
        <p:blipFill>
          <a:blip r:embed="rId3"/>
          <a:stretch/>
        </p:blipFill>
        <p:spPr>
          <a:xfrm>
            <a:off x="6195960" y="1577880"/>
            <a:ext cx="1093680" cy="741600"/>
          </a:xfrm>
          <a:prstGeom prst="rect">
            <a:avLst/>
          </a:prstGeom>
          <a:ln w="0">
            <a:noFill/>
          </a:ln>
        </p:spPr>
      </p:pic>
      <p:pic>
        <p:nvPicPr>
          <p:cNvPr id="3250" name="" descr=""/>
          <p:cNvPicPr/>
          <p:nvPr/>
        </p:nvPicPr>
        <p:blipFill>
          <a:blip r:embed="rId4"/>
          <a:stretch/>
        </p:blipFill>
        <p:spPr>
          <a:xfrm>
            <a:off x="6281640" y="2593800"/>
            <a:ext cx="1008000" cy="663840"/>
          </a:xfrm>
          <a:prstGeom prst="rect">
            <a:avLst/>
          </a:prstGeom>
          <a:ln w="0">
            <a:noFill/>
          </a:ln>
        </p:spPr>
      </p:pic>
      <p:pic>
        <p:nvPicPr>
          <p:cNvPr id="3251" name="" descr=""/>
          <p:cNvPicPr/>
          <p:nvPr/>
        </p:nvPicPr>
        <p:blipFill>
          <a:blip r:embed="rId5"/>
          <a:stretch/>
        </p:blipFill>
        <p:spPr>
          <a:xfrm>
            <a:off x="969840" y="2805120"/>
            <a:ext cx="1022400" cy="803160"/>
          </a:xfrm>
          <a:prstGeom prst="rect">
            <a:avLst/>
          </a:prstGeom>
          <a:ln w="0">
            <a:noFill/>
          </a:ln>
        </p:spPr>
      </p:pic>
      <p:pic>
        <p:nvPicPr>
          <p:cNvPr id="3252" name="" descr=""/>
          <p:cNvPicPr/>
          <p:nvPr/>
        </p:nvPicPr>
        <p:blipFill>
          <a:blip r:embed="rId6"/>
          <a:stretch/>
        </p:blipFill>
        <p:spPr>
          <a:xfrm>
            <a:off x="961920" y="3776760"/>
            <a:ext cx="1030320" cy="803160"/>
          </a:xfrm>
          <a:prstGeom prst="rect">
            <a:avLst/>
          </a:prstGeom>
          <a:ln w="0">
            <a:noFill/>
          </a:ln>
        </p:spPr>
      </p:pic>
      <p:pic>
        <p:nvPicPr>
          <p:cNvPr id="3253" name="" descr=""/>
          <p:cNvPicPr/>
          <p:nvPr/>
        </p:nvPicPr>
        <p:blipFill>
          <a:blip r:embed="rId7"/>
          <a:stretch/>
        </p:blipFill>
        <p:spPr>
          <a:xfrm>
            <a:off x="1028880" y="4754520"/>
            <a:ext cx="963360" cy="782640"/>
          </a:xfrm>
          <a:prstGeom prst="rect">
            <a:avLst/>
          </a:prstGeom>
          <a:ln w="0">
            <a:noFill/>
          </a:ln>
        </p:spPr>
      </p:pic>
      <p:pic>
        <p:nvPicPr>
          <p:cNvPr id="3254" name="" descr=""/>
          <p:cNvPicPr/>
          <p:nvPr/>
        </p:nvPicPr>
        <p:blipFill>
          <a:blip r:embed="rId8"/>
          <a:stretch/>
        </p:blipFill>
        <p:spPr>
          <a:xfrm>
            <a:off x="1028880" y="5008680"/>
            <a:ext cx="963360" cy="782640"/>
          </a:xfrm>
          <a:prstGeom prst="rect">
            <a:avLst/>
          </a:prstGeom>
          <a:ln w="0">
            <a:noFill/>
          </a:ln>
        </p:spPr>
      </p:pic>
      <p:sp>
        <p:nvSpPr>
          <p:cNvPr id="3255" name=""/>
          <p:cNvSpPr/>
          <p:nvPr/>
        </p:nvSpPr>
        <p:spPr>
          <a:xfrm>
            <a:off x="2033640" y="6024600"/>
            <a:ext cx="6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6" name="" descr=""/>
          <p:cNvPicPr/>
          <p:nvPr/>
        </p:nvPicPr>
        <p:blipFill>
          <a:blip r:embed="rId9"/>
          <a:stretch/>
        </p:blipFill>
        <p:spPr>
          <a:xfrm>
            <a:off x="914400" y="5880240"/>
            <a:ext cx="1077840" cy="591840"/>
          </a:xfrm>
          <a:prstGeom prst="rect">
            <a:avLst/>
          </a:prstGeom>
          <a:ln w="0">
            <a:noFill/>
          </a:ln>
        </p:spPr>
      </p:pic>
      <p:sp>
        <p:nvSpPr>
          <p:cNvPr id="3257" name=""/>
          <p:cNvSpPr/>
          <p:nvPr/>
        </p:nvSpPr>
        <p:spPr>
          <a:xfrm>
            <a:off x="7246800" y="352584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X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mal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8" name="" descr=""/>
          <p:cNvPicPr/>
          <p:nvPr/>
        </p:nvPicPr>
        <p:blipFill>
          <a:blip r:embed="rId10"/>
          <a:stretch/>
        </p:blipFill>
        <p:spPr>
          <a:xfrm>
            <a:off x="5475240" y="4952880"/>
            <a:ext cx="3048120" cy="1285920"/>
          </a:xfrm>
          <a:prstGeom prst="rect">
            <a:avLst/>
          </a:prstGeom>
          <a:ln w="0">
            <a:noFill/>
          </a:ln>
        </p:spPr>
      </p:pic>
      <p:sp>
        <p:nvSpPr>
          <p:cNvPr id="3259" name=""/>
          <p:cNvSpPr/>
          <p:nvPr/>
        </p:nvSpPr>
        <p:spPr>
          <a:xfrm>
            <a:off x="6399360" y="5443560"/>
            <a:ext cx="119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PT 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4768920" y="4257720"/>
            <a:ext cx="9954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Cloud, Standard C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3479760" y="4300560"/>
            <a:ext cx="1295280" cy="814320"/>
          </a:xfrm>
          <a:custGeom>
            <a:avLst/>
            <a:gdLst/>
            <a:ahLst/>
            <a:rect l="l" t="t" r="r" b="b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b6c0c2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4768920" y="3338640"/>
            <a:ext cx="996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3479760" y="3282840"/>
            <a:ext cx="1295280" cy="814320"/>
          </a:xfrm>
          <a:custGeom>
            <a:avLst/>
            <a:gdLst/>
            <a:ahLst/>
            <a:rect l="l" t="t" r="r" b="b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4768920" y="2365200"/>
            <a:ext cx="996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3479760" y="2308320"/>
            <a:ext cx="1295280" cy="814320"/>
          </a:xfrm>
          <a:custGeom>
            <a:avLst/>
            <a:gdLst/>
            <a:ahLst/>
            <a:rect l="l" t="t" r="r" b="b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fbe79d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4768920" y="1390680"/>
            <a:ext cx="996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Clou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3479760" y="1333440"/>
            <a:ext cx="1295280" cy="814320"/>
          </a:xfrm>
          <a:custGeom>
            <a:avLst/>
            <a:gdLst/>
            <a:ahLst/>
            <a:rect l="l" t="t" r="r" b="b"/>
            <a:pathLst>
              <a:path w="1444" h="1052">
                <a:moveTo>
                  <a:pt x="484" y="902"/>
                </a:moveTo>
                <a:cubicBezTo>
                  <a:pt x="544" y="974"/>
                  <a:pt x="592" y="1024"/>
                  <a:pt x="756" y="1052"/>
                </a:cubicBezTo>
                <a:cubicBezTo>
                  <a:pt x="892" y="1048"/>
                  <a:pt x="972" y="1026"/>
                  <a:pt x="1032" y="950"/>
                </a:cubicBezTo>
                <a:cubicBezTo>
                  <a:pt x="1108" y="966"/>
                  <a:pt x="1224" y="940"/>
                  <a:pt x="1308" y="872"/>
                </a:cubicBezTo>
                <a:cubicBezTo>
                  <a:pt x="1392" y="772"/>
                  <a:pt x="1388" y="702"/>
                  <a:pt x="1356" y="602"/>
                </a:cubicBezTo>
                <a:cubicBezTo>
                  <a:pt x="1412" y="554"/>
                  <a:pt x="1424" y="568"/>
                  <a:pt x="1444" y="460"/>
                </a:cubicBezTo>
                <a:cubicBezTo>
                  <a:pt x="1428" y="380"/>
                  <a:pt x="1404" y="370"/>
                  <a:pt x="1340" y="346"/>
                </a:cubicBezTo>
                <a:cubicBezTo>
                  <a:pt x="1324" y="292"/>
                  <a:pt x="1332" y="244"/>
                  <a:pt x="1260" y="192"/>
                </a:cubicBezTo>
                <a:cubicBezTo>
                  <a:pt x="1180" y="144"/>
                  <a:pt x="1132" y="156"/>
                  <a:pt x="1076" y="174"/>
                </a:cubicBezTo>
                <a:cubicBezTo>
                  <a:pt x="1036" y="15"/>
                  <a:pt x="908" y="16"/>
                  <a:pt x="816" y="7"/>
                </a:cubicBezTo>
                <a:cubicBezTo>
                  <a:pt x="728" y="0"/>
                  <a:pt x="564" y="34"/>
                  <a:pt x="548" y="134"/>
                </a:cubicBezTo>
                <a:cubicBezTo>
                  <a:pt x="472" y="90"/>
                  <a:pt x="384" y="84"/>
                  <a:pt x="296" y="140"/>
                </a:cubicBezTo>
                <a:cubicBezTo>
                  <a:pt x="224" y="200"/>
                  <a:pt x="196" y="260"/>
                  <a:pt x="204" y="336"/>
                </a:cubicBezTo>
                <a:cubicBezTo>
                  <a:pt x="140" y="328"/>
                  <a:pt x="40" y="372"/>
                  <a:pt x="12" y="500"/>
                </a:cubicBezTo>
                <a:cubicBezTo>
                  <a:pt x="0" y="642"/>
                  <a:pt x="108" y="704"/>
                  <a:pt x="144" y="702"/>
                </a:cubicBezTo>
                <a:cubicBezTo>
                  <a:pt x="132" y="750"/>
                  <a:pt x="164" y="836"/>
                  <a:pt x="256" y="896"/>
                </a:cubicBezTo>
                <a:cubicBezTo>
                  <a:pt x="376" y="940"/>
                  <a:pt x="420" y="922"/>
                  <a:pt x="484" y="902"/>
                </a:cubicBezTo>
                <a:close/>
              </a:path>
            </a:pathLst>
          </a:custGeom>
          <a:solidFill>
            <a:srgbClr val="7a8890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8" name="" descr=""/>
          <p:cNvPicPr/>
          <p:nvPr/>
        </p:nvPicPr>
        <p:blipFill>
          <a:blip r:embed="rId1"/>
          <a:stretch/>
        </p:blipFill>
        <p:spPr>
          <a:xfrm>
            <a:off x="2870280" y="3505320"/>
            <a:ext cx="615960" cy="819000"/>
          </a:xfrm>
          <a:prstGeom prst="rect">
            <a:avLst/>
          </a:prstGeom>
          <a:ln w="0">
            <a:noFill/>
          </a:ln>
        </p:spPr>
      </p:pic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LA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1227240" y="1517760"/>
            <a:ext cx="1185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statio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u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1227240" y="2801880"/>
            <a:ext cx="113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1227240" y="3770280"/>
            <a:ext cx="113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1227240" y="4826160"/>
            <a:ext cx="113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5776920" y="1517760"/>
            <a:ext cx="123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M/FastGb Ether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5" name="" descr=""/>
          <p:cNvPicPr/>
          <p:nvPr/>
        </p:nvPicPr>
        <p:blipFill>
          <a:blip r:embed="rId2"/>
          <a:stretch/>
        </p:blipFill>
        <p:spPr>
          <a:xfrm>
            <a:off x="4917960" y="1517760"/>
            <a:ext cx="809640" cy="792000"/>
          </a:xfrm>
          <a:prstGeom prst="rect">
            <a:avLst/>
          </a:prstGeom>
          <a:ln w="0">
            <a:noFill/>
          </a:ln>
        </p:spPr>
      </p:pic>
      <p:sp>
        <p:nvSpPr>
          <p:cNvPr id="3276" name=""/>
          <p:cNvSpPr/>
          <p:nvPr/>
        </p:nvSpPr>
        <p:spPr>
          <a:xfrm>
            <a:off x="5776920" y="2782800"/>
            <a:ext cx="923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P Mi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7" name="" descr=""/>
          <p:cNvPicPr/>
          <p:nvPr/>
        </p:nvPicPr>
        <p:blipFill>
          <a:blip r:embed="rId3"/>
          <a:stretch/>
        </p:blipFill>
        <p:spPr>
          <a:xfrm>
            <a:off x="4937040" y="2543040"/>
            <a:ext cx="773280" cy="784440"/>
          </a:xfrm>
          <a:prstGeom prst="rect">
            <a:avLst/>
          </a:prstGeom>
          <a:ln w="0">
            <a:noFill/>
          </a:ln>
        </p:spPr>
      </p:pic>
      <p:sp>
        <p:nvSpPr>
          <p:cNvPr id="3278" name=""/>
          <p:cNvSpPr/>
          <p:nvPr/>
        </p:nvSpPr>
        <p:spPr>
          <a:xfrm>
            <a:off x="5776920" y="3598920"/>
            <a:ext cx="1440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per-Comp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9" name="" descr=""/>
          <p:cNvPicPr/>
          <p:nvPr/>
        </p:nvPicPr>
        <p:blipFill>
          <a:blip r:embed="rId4"/>
          <a:stretch/>
        </p:blipFill>
        <p:spPr>
          <a:xfrm>
            <a:off x="4815000" y="3454560"/>
            <a:ext cx="1015920" cy="882360"/>
          </a:xfrm>
          <a:prstGeom prst="rect">
            <a:avLst/>
          </a:prstGeom>
          <a:ln w="0">
            <a:noFill/>
          </a:ln>
        </p:spPr>
      </p:pic>
      <p:sp>
        <p:nvSpPr>
          <p:cNvPr id="3280" name=""/>
          <p:cNvSpPr/>
          <p:nvPr/>
        </p:nvSpPr>
        <p:spPr>
          <a:xfrm>
            <a:off x="5776920" y="4589640"/>
            <a:ext cx="1170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N2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1" name="" descr=""/>
          <p:cNvPicPr/>
          <p:nvPr/>
        </p:nvPicPr>
        <p:blipFill>
          <a:blip r:embed="rId5"/>
          <a:stretch/>
        </p:blipFill>
        <p:spPr>
          <a:xfrm>
            <a:off x="4978440" y="4500720"/>
            <a:ext cx="690480" cy="706320"/>
          </a:xfrm>
          <a:prstGeom prst="rect">
            <a:avLst/>
          </a:prstGeom>
          <a:ln w="0">
            <a:noFill/>
          </a:ln>
        </p:spPr>
      </p:pic>
      <p:sp>
        <p:nvSpPr>
          <p:cNvPr id="3282" name=""/>
          <p:cNvSpPr/>
          <p:nvPr/>
        </p:nvSpPr>
        <p:spPr>
          <a:xfrm>
            <a:off x="3886200" y="5470560"/>
            <a:ext cx="957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Clu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3" name="" descr=""/>
          <p:cNvPicPr/>
          <p:nvPr/>
        </p:nvPicPr>
        <p:blipFill>
          <a:blip r:embed="rId6"/>
          <a:stretch/>
        </p:blipFill>
        <p:spPr>
          <a:xfrm>
            <a:off x="2438280" y="5470560"/>
            <a:ext cx="1479600" cy="898560"/>
          </a:xfrm>
          <a:prstGeom prst="rect">
            <a:avLst/>
          </a:prstGeom>
          <a:ln w="0">
            <a:noFill/>
          </a:ln>
        </p:spPr>
      </p:pic>
      <p:sp>
        <p:nvSpPr>
          <p:cNvPr id="3284" name=""/>
          <p:cNvSpPr/>
          <p:nvPr/>
        </p:nvSpPr>
        <p:spPr>
          <a:xfrm>
            <a:off x="8053560" y="1623960"/>
            <a:ext cx="87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3689280" y="169236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3689280" y="3538440"/>
            <a:ext cx="1130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e/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227240" y="5470560"/>
            <a:ext cx="1295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ni or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AX/VM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DEC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3689280" y="276228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3689280" y="479736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0" name="" descr=""/>
          <p:cNvPicPr/>
          <p:nvPr/>
        </p:nvPicPr>
        <p:blipFill>
          <a:blip r:embed="rId7"/>
          <a:stretch/>
        </p:blipFill>
        <p:spPr>
          <a:xfrm>
            <a:off x="2720880" y="2543040"/>
            <a:ext cx="914400" cy="741600"/>
          </a:xfrm>
          <a:prstGeom prst="rect">
            <a:avLst/>
          </a:prstGeom>
          <a:ln w="0">
            <a:noFill/>
          </a:ln>
        </p:spPr>
      </p:pic>
      <p:pic>
        <p:nvPicPr>
          <p:cNvPr id="3291" name="" descr=""/>
          <p:cNvPicPr/>
          <p:nvPr/>
        </p:nvPicPr>
        <p:blipFill>
          <a:blip r:embed="rId8"/>
          <a:stretch/>
        </p:blipFill>
        <p:spPr>
          <a:xfrm>
            <a:off x="2649600" y="1517760"/>
            <a:ext cx="1057320" cy="654120"/>
          </a:xfrm>
          <a:prstGeom prst="rect">
            <a:avLst/>
          </a:prstGeom>
          <a:ln w="0">
            <a:noFill/>
          </a:ln>
        </p:spPr>
      </p:pic>
      <p:pic>
        <p:nvPicPr>
          <p:cNvPr id="3292" name="" descr=""/>
          <p:cNvPicPr/>
          <p:nvPr/>
        </p:nvPicPr>
        <p:blipFill>
          <a:blip r:embed="rId9"/>
          <a:stretch/>
        </p:blipFill>
        <p:spPr>
          <a:xfrm>
            <a:off x="374760" y="5470560"/>
            <a:ext cx="822240" cy="719280"/>
          </a:xfrm>
          <a:prstGeom prst="rect">
            <a:avLst/>
          </a:prstGeom>
          <a:ln w="0">
            <a:noFill/>
          </a:ln>
        </p:spPr>
      </p:pic>
      <p:pic>
        <p:nvPicPr>
          <p:cNvPr id="3293" name="" descr=""/>
          <p:cNvPicPr/>
          <p:nvPr/>
        </p:nvPicPr>
        <p:blipFill>
          <a:blip r:embed="rId10"/>
          <a:stretch/>
        </p:blipFill>
        <p:spPr>
          <a:xfrm>
            <a:off x="2720880" y="4584600"/>
            <a:ext cx="914400" cy="730440"/>
          </a:xfrm>
          <a:prstGeom prst="rect">
            <a:avLst/>
          </a:prstGeom>
          <a:ln w="0">
            <a:noFill/>
          </a:ln>
        </p:spPr>
      </p:pic>
      <p:pic>
        <p:nvPicPr>
          <p:cNvPr id="3294" name="" descr=""/>
          <p:cNvPicPr/>
          <p:nvPr/>
        </p:nvPicPr>
        <p:blipFill>
          <a:blip r:embed="rId11"/>
          <a:stretch/>
        </p:blipFill>
        <p:spPr>
          <a:xfrm>
            <a:off x="7292880" y="4216320"/>
            <a:ext cx="800280" cy="739800"/>
          </a:xfrm>
          <a:prstGeom prst="rect">
            <a:avLst/>
          </a:prstGeom>
          <a:ln w="0">
            <a:noFill/>
          </a:ln>
        </p:spPr>
      </p:pic>
      <p:sp>
        <p:nvSpPr>
          <p:cNvPr id="3295" name=""/>
          <p:cNvSpPr/>
          <p:nvPr/>
        </p:nvSpPr>
        <p:spPr>
          <a:xfrm>
            <a:off x="8053560" y="4433760"/>
            <a:ext cx="556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6" name="" descr=""/>
          <p:cNvPicPr/>
          <p:nvPr/>
        </p:nvPicPr>
        <p:blipFill>
          <a:blip r:embed="rId12"/>
          <a:stretch/>
        </p:blipFill>
        <p:spPr>
          <a:xfrm>
            <a:off x="7375680" y="1517760"/>
            <a:ext cx="717480" cy="714240"/>
          </a:xfrm>
          <a:prstGeom prst="rect">
            <a:avLst/>
          </a:prstGeom>
          <a:ln w="0">
            <a:noFill/>
          </a:ln>
        </p:spPr>
      </p:pic>
      <p:sp>
        <p:nvSpPr>
          <p:cNvPr id="3297" name=""/>
          <p:cNvSpPr/>
          <p:nvPr/>
        </p:nvSpPr>
        <p:spPr>
          <a:xfrm>
            <a:off x="8053560" y="2649600"/>
            <a:ext cx="909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8" name="" descr=""/>
          <p:cNvPicPr/>
          <p:nvPr/>
        </p:nvPicPr>
        <p:blipFill>
          <a:blip r:embed="rId13"/>
          <a:stretch/>
        </p:blipFill>
        <p:spPr>
          <a:xfrm>
            <a:off x="7321680" y="3538440"/>
            <a:ext cx="771480" cy="557280"/>
          </a:xfrm>
          <a:prstGeom prst="rect">
            <a:avLst/>
          </a:prstGeom>
          <a:ln w="0">
            <a:noFill/>
          </a:ln>
        </p:spPr>
      </p:pic>
      <p:sp>
        <p:nvSpPr>
          <p:cNvPr id="3299" name=""/>
          <p:cNvSpPr/>
          <p:nvPr/>
        </p:nvSpPr>
        <p:spPr>
          <a:xfrm>
            <a:off x="8053560" y="3665520"/>
            <a:ext cx="94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0" name="" descr=""/>
          <p:cNvPicPr/>
          <p:nvPr/>
        </p:nvPicPr>
        <p:blipFill>
          <a:blip r:embed="rId14"/>
          <a:stretch/>
        </p:blipFill>
        <p:spPr>
          <a:xfrm>
            <a:off x="7375680" y="2543040"/>
            <a:ext cx="717480" cy="714600"/>
          </a:xfrm>
          <a:prstGeom prst="rect">
            <a:avLst/>
          </a:prstGeom>
          <a:ln w="0">
            <a:noFill/>
          </a:ln>
        </p:spPr>
      </p:pic>
      <p:pic>
        <p:nvPicPr>
          <p:cNvPr id="3301" name="" descr=""/>
          <p:cNvPicPr/>
          <p:nvPr/>
        </p:nvPicPr>
        <p:blipFill>
          <a:blip r:embed="rId15"/>
          <a:stretch/>
        </p:blipFill>
        <p:spPr>
          <a:xfrm>
            <a:off x="318960" y="2543040"/>
            <a:ext cx="909720" cy="822600"/>
          </a:xfrm>
          <a:prstGeom prst="rect">
            <a:avLst/>
          </a:prstGeom>
          <a:ln w="0">
            <a:noFill/>
          </a:ln>
        </p:spPr>
      </p:pic>
      <p:pic>
        <p:nvPicPr>
          <p:cNvPr id="3302" name="" descr=""/>
          <p:cNvPicPr/>
          <p:nvPr/>
        </p:nvPicPr>
        <p:blipFill>
          <a:blip r:embed="rId16"/>
          <a:stretch/>
        </p:blipFill>
        <p:spPr>
          <a:xfrm>
            <a:off x="293760" y="3538440"/>
            <a:ext cx="1082520" cy="768600"/>
          </a:xfrm>
          <a:prstGeom prst="rect">
            <a:avLst/>
          </a:prstGeom>
          <a:ln w="0">
            <a:noFill/>
          </a:ln>
        </p:spPr>
      </p:pic>
      <p:pic>
        <p:nvPicPr>
          <p:cNvPr id="3303" name="" descr=""/>
          <p:cNvPicPr/>
          <p:nvPr/>
        </p:nvPicPr>
        <p:blipFill>
          <a:blip r:embed="rId17"/>
          <a:stretch/>
        </p:blipFill>
        <p:spPr>
          <a:xfrm>
            <a:off x="347760" y="4584600"/>
            <a:ext cx="793800" cy="787680"/>
          </a:xfrm>
          <a:prstGeom prst="rect">
            <a:avLst/>
          </a:prstGeom>
          <a:ln w="0">
            <a:noFill/>
          </a:ln>
        </p:spPr>
      </p:pic>
      <p:pic>
        <p:nvPicPr>
          <p:cNvPr id="3304" name="" descr=""/>
          <p:cNvPicPr/>
          <p:nvPr/>
        </p:nvPicPr>
        <p:blipFill>
          <a:blip r:embed="rId18"/>
          <a:stretch/>
        </p:blipFill>
        <p:spPr>
          <a:xfrm>
            <a:off x="312840" y="1371600"/>
            <a:ext cx="977760" cy="868320"/>
          </a:xfrm>
          <a:prstGeom prst="rect">
            <a:avLst/>
          </a:prstGeom>
          <a:ln w="0">
            <a:noFill/>
          </a:ln>
        </p:spPr>
      </p:pic>
      <p:grpSp>
        <p:nvGrpSpPr>
          <p:cNvPr id="3305" name=""/>
          <p:cNvGrpSpPr/>
          <p:nvPr/>
        </p:nvGrpSpPr>
        <p:grpSpPr>
          <a:xfrm>
            <a:off x="4854600" y="5310360"/>
            <a:ext cx="965160" cy="879480"/>
            <a:chOff x="4854600" y="5310360"/>
            <a:chExt cx="965160" cy="879480"/>
          </a:xfrm>
        </p:grpSpPr>
        <p:sp>
          <p:nvSpPr>
            <p:cNvPr id="3306" name=""/>
            <p:cNvSpPr/>
            <p:nvPr/>
          </p:nvSpPr>
          <p:spPr>
            <a:xfrm>
              <a:off x="5651640" y="5316840"/>
              <a:ext cx="161640" cy="866520"/>
            </a:xfrm>
            <a:custGeom>
              <a:avLst/>
              <a:gdLst/>
              <a:ahLst/>
              <a:rect l="l" t="t" r="r" b="b"/>
              <a:pathLst>
                <a:path w="2755" h="14740">
                  <a:moveTo>
                    <a:pt x="0" y="14740"/>
                  </a:moveTo>
                  <a:lnTo>
                    <a:pt x="2755" y="12115"/>
                  </a:lnTo>
                  <a:lnTo>
                    <a:pt x="2755" y="0"/>
                  </a:lnTo>
                  <a:lnTo>
                    <a:pt x="0" y="2624"/>
                  </a:lnTo>
                  <a:lnTo>
                    <a:pt x="0" y="14740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646600" y="6023160"/>
              <a:ext cx="173160" cy="165240"/>
            </a:xfrm>
            <a:custGeom>
              <a:avLst/>
              <a:gdLst/>
              <a:ahLst/>
              <a:rect l="l" t="t" r="r" b="b"/>
              <a:pathLst>
                <a:path w="2939" h="2812">
                  <a:moveTo>
                    <a:pt x="2937" y="109"/>
                  </a:moveTo>
                  <a:lnTo>
                    <a:pt x="2755" y="31"/>
                  </a:lnTo>
                  <a:lnTo>
                    <a:pt x="0" y="2656"/>
                  </a:lnTo>
                  <a:lnTo>
                    <a:pt x="148" y="2812"/>
                  </a:lnTo>
                  <a:lnTo>
                    <a:pt x="2904" y="187"/>
                  </a:lnTo>
                  <a:lnTo>
                    <a:pt x="2937" y="109"/>
                  </a:lnTo>
                  <a:lnTo>
                    <a:pt x="2904" y="187"/>
                  </a:lnTo>
                  <a:lnTo>
                    <a:pt x="2912" y="177"/>
                  </a:lnTo>
                  <a:lnTo>
                    <a:pt x="2921" y="168"/>
                  </a:lnTo>
                  <a:lnTo>
                    <a:pt x="2927" y="158"/>
                  </a:lnTo>
                  <a:lnTo>
                    <a:pt x="2932" y="148"/>
                  </a:lnTo>
                  <a:lnTo>
                    <a:pt x="2935" y="137"/>
                  </a:lnTo>
                  <a:lnTo>
                    <a:pt x="2938" y="127"/>
                  </a:lnTo>
                  <a:lnTo>
                    <a:pt x="2939" y="117"/>
                  </a:lnTo>
                  <a:lnTo>
                    <a:pt x="2939" y="107"/>
                  </a:lnTo>
                  <a:lnTo>
                    <a:pt x="2938" y="97"/>
                  </a:lnTo>
                  <a:lnTo>
                    <a:pt x="2936" y="87"/>
                  </a:lnTo>
                  <a:lnTo>
                    <a:pt x="2933" y="78"/>
                  </a:lnTo>
                  <a:lnTo>
                    <a:pt x="2930" y="69"/>
                  </a:lnTo>
                  <a:lnTo>
                    <a:pt x="2926" y="60"/>
                  </a:lnTo>
                  <a:lnTo>
                    <a:pt x="2920" y="51"/>
                  </a:lnTo>
                  <a:lnTo>
                    <a:pt x="2914" y="43"/>
                  </a:lnTo>
                  <a:lnTo>
                    <a:pt x="2907" y="35"/>
                  </a:lnTo>
                  <a:lnTo>
                    <a:pt x="2900" y="28"/>
                  </a:lnTo>
                  <a:lnTo>
                    <a:pt x="2893" y="22"/>
                  </a:lnTo>
                  <a:lnTo>
                    <a:pt x="2884" y="16"/>
                  </a:lnTo>
                  <a:lnTo>
                    <a:pt x="2875" y="11"/>
                  </a:lnTo>
                  <a:lnTo>
                    <a:pt x="2866" y="7"/>
                  </a:lnTo>
                  <a:lnTo>
                    <a:pt x="2857" y="4"/>
                  </a:lnTo>
                  <a:lnTo>
                    <a:pt x="2847" y="2"/>
                  </a:lnTo>
                  <a:lnTo>
                    <a:pt x="2837" y="0"/>
                  </a:lnTo>
                  <a:lnTo>
                    <a:pt x="2827" y="0"/>
                  </a:lnTo>
                  <a:lnTo>
                    <a:pt x="2817" y="1"/>
                  </a:lnTo>
                  <a:lnTo>
                    <a:pt x="2807" y="3"/>
                  </a:lnTo>
                  <a:lnTo>
                    <a:pt x="2796" y="5"/>
                  </a:lnTo>
                  <a:lnTo>
                    <a:pt x="2785" y="10"/>
                  </a:lnTo>
                  <a:lnTo>
                    <a:pt x="2776" y="15"/>
                  </a:lnTo>
                  <a:lnTo>
                    <a:pt x="2766" y="23"/>
                  </a:lnTo>
                  <a:lnTo>
                    <a:pt x="2755" y="31"/>
                  </a:lnTo>
                  <a:lnTo>
                    <a:pt x="2937" y="109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807160" y="5310360"/>
              <a:ext cx="12600" cy="719280"/>
            </a:xfrm>
            <a:custGeom>
              <a:avLst/>
              <a:gdLst/>
              <a:ahLst/>
              <a:rect l="l" t="t" r="r" b="b"/>
              <a:pathLst>
                <a:path w="216" h="12224">
                  <a:moveTo>
                    <a:pt x="34" y="31"/>
                  </a:moveTo>
                  <a:lnTo>
                    <a:pt x="0" y="109"/>
                  </a:lnTo>
                  <a:lnTo>
                    <a:pt x="0" y="12224"/>
                  </a:lnTo>
                  <a:lnTo>
                    <a:pt x="216" y="12224"/>
                  </a:lnTo>
                  <a:lnTo>
                    <a:pt x="216" y="109"/>
                  </a:lnTo>
                  <a:lnTo>
                    <a:pt x="34" y="31"/>
                  </a:lnTo>
                  <a:lnTo>
                    <a:pt x="216" y="109"/>
                  </a:lnTo>
                  <a:lnTo>
                    <a:pt x="216" y="95"/>
                  </a:lnTo>
                  <a:lnTo>
                    <a:pt x="214" y="83"/>
                  </a:lnTo>
                  <a:lnTo>
                    <a:pt x="211" y="72"/>
                  </a:lnTo>
                  <a:lnTo>
                    <a:pt x="207" y="62"/>
                  </a:lnTo>
                  <a:lnTo>
                    <a:pt x="203" y="51"/>
                  </a:lnTo>
                  <a:lnTo>
                    <a:pt x="196" y="43"/>
                  </a:lnTo>
                  <a:lnTo>
                    <a:pt x="190" y="35"/>
                  </a:lnTo>
                  <a:lnTo>
                    <a:pt x="183" y="28"/>
                  </a:lnTo>
                  <a:lnTo>
                    <a:pt x="175" y="22"/>
                  </a:lnTo>
                  <a:lnTo>
                    <a:pt x="167" y="15"/>
                  </a:lnTo>
                  <a:lnTo>
                    <a:pt x="157" y="11"/>
                  </a:lnTo>
                  <a:lnTo>
                    <a:pt x="148" y="7"/>
                  </a:lnTo>
                  <a:lnTo>
                    <a:pt x="138" y="4"/>
                  </a:lnTo>
                  <a:lnTo>
                    <a:pt x="129" y="2"/>
                  </a:lnTo>
                  <a:lnTo>
                    <a:pt x="118" y="1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9" y="2"/>
                  </a:lnTo>
                  <a:lnTo>
                    <a:pt x="78" y="4"/>
                  </a:lnTo>
                  <a:lnTo>
                    <a:pt x="69" y="7"/>
                  </a:lnTo>
                  <a:lnTo>
                    <a:pt x="60" y="11"/>
                  </a:lnTo>
                  <a:lnTo>
                    <a:pt x="51" y="15"/>
                  </a:lnTo>
                  <a:lnTo>
                    <a:pt x="43" y="22"/>
                  </a:lnTo>
                  <a:lnTo>
                    <a:pt x="34" y="28"/>
                  </a:lnTo>
                  <a:lnTo>
                    <a:pt x="27" y="35"/>
                  </a:lnTo>
                  <a:lnTo>
                    <a:pt x="21" y="43"/>
                  </a:lnTo>
                  <a:lnTo>
                    <a:pt x="15" y="51"/>
                  </a:lnTo>
                  <a:lnTo>
                    <a:pt x="10" y="62"/>
                  </a:lnTo>
                  <a:lnTo>
                    <a:pt x="6" y="72"/>
                  </a:lnTo>
                  <a:lnTo>
                    <a:pt x="4" y="83"/>
                  </a:lnTo>
                  <a:lnTo>
                    <a:pt x="2" y="95"/>
                  </a:lnTo>
                  <a:lnTo>
                    <a:pt x="0" y="109"/>
                  </a:lnTo>
                  <a:lnTo>
                    <a:pt x="34" y="3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645160" y="5311800"/>
              <a:ext cx="173160" cy="165240"/>
            </a:xfrm>
            <a:custGeom>
              <a:avLst/>
              <a:gdLst/>
              <a:ahLst/>
              <a:rect l="l" t="t" r="r" b="b"/>
              <a:pathLst>
                <a:path w="2939" h="2812">
                  <a:moveTo>
                    <a:pt x="2" y="2702"/>
                  </a:moveTo>
                  <a:lnTo>
                    <a:pt x="183" y="2780"/>
                  </a:lnTo>
                  <a:lnTo>
                    <a:pt x="2939" y="155"/>
                  </a:lnTo>
                  <a:lnTo>
                    <a:pt x="2790" y="0"/>
                  </a:lnTo>
                  <a:lnTo>
                    <a:pt x="35" y="2624"/>
                  </a:lnTo>
                  <a:lnTo>
                    <a:pt x="2" y="2702"/>
                  </a:lnTo>
                  <a:lnTo>
                    <a:pt x="35" y="2624"/>
                  </a:lnTo>
                  <a:lnTo>
                    <a:pt x="26" y="2634"/>
                  </a:lnTo>
                  <a:lnTo>
                    <a:pt x="18" y="2644"/>
                  </a:lnTo>
                  <a:lnTo>
                    <a:pt x="12" y="2654"/>
                  </a:lnTo>
                  <a:lnTo>
                    <a:pt x="7" y="2663"/>
                  </a:lnTo>
                  <a:lnTo>
                    <a:pt x="4" y="2674"/>
                  </a:lnTo>
                  <a:lnTo>
                    <a:pt x="1" y="2684"/>
                  </a:lnTo>
                  <a:lnTo>
                    <a:pt x="0" y="2694"/>
                  </a:lnTo>
                  <a:lnTo>
                    <a:pt x="0" y="2704"/>
                  </a:lnTo>
                  <a:lnTo>
                    <a:pt x="1" y="2715"/>
                  </a:lnTo>
                  <a:lnTo>
                    <a:pt x="3" y="2725"/>
                  </a:lnTo>
                  <a:lnTo>
                    <a:pt x="5" y="2734"/>
                  </a:lnTo>
                  <a:lnTo>
                    <a:pt x="9" y="2743"/>
                  </a:lnTo>
                  <a:lnTo>
                    <a:pt x="13" y="2753"/>
                  </a:lnTo>
                  <a:lnTo>
                    <a:pt x="18" y="2761"/>
                  </a:lnTo>
                  <a:lnTo>
                    <a:pt x="24" y="2769"/>
                  </a:lnTo>
                  <a:lnTo>
                    <a:pt x="31" y="2776"/>
                  </a:lnTo>
                  <a:lnTo>
                    <a:pt x="39" y="2783"/>
                  </a:lnTo>
                  <a:lnTo>
                    <a:pt x="46" y="2789"/>
                  </a:lnTo>
                  <a:lnTo>
                    <a:pt x="54" y="2796"/>
                  </a:lnTo>
                  <a:lnTo>
                    <a:pt x="63" y="2801"/>
                  </a:lnTo>
                  <a:lnTo>
                    <a:pt x="72" y="2805"/>
                  </a:lnTo>
                  <a:lnTo>
                    <a:pt x="82" y="2808"/>
                  </a:lnTo>
                  <a:lnTo>
                    <a:pt x="92" y="2810"/>
                  </a:lnTo>
                  <a:lnTo>
                    <a:pt x="101" y="2812"/>
                  </a:lnTo>
                  <a:lnTo>
                    <a:pt x="111" y="2812"/>
                  </a:lnTo>
                  <a:lnTo>
                    <a:pt x="122" y="2811"/>
                  </a:lnTo>
                  <a:lnTo>
                    <a:pt x="132" y="2809"/>
                  </a:lnTo>
                  <a:lnTo>
                    <a:pt x="142" y="2806"/>
                  </a:lnTo>
                  <a:lnTo>
                    <a:pt x="153" y="2802"/>
                  </a:lnTo>
                  <a:lnTo>
                    <a:pt x="163" y="2796"/>
                  </a:lnTo>
                  <a:lnTo>
                    <a:pt x="173" y="2788"/>
                  </a:lnTo>
                  <a:lnTo>
                    <a:pt x="183" y="2780"/>
                  </a:lnTo>
                  <a:lnTo>
                    <a:pt x="2" y="270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645160" y="5470560"/>
              <a:ext cx="12600" cy="719280"/>
            </a:xfrm>
            <a:custGeom>
              <a:avLst/>
              <a:gdLst/>
              <a:ahLst/>
              <a:rect l="l" t="t" r="r" b="b"/>
              <a:pathLst>
                <a:path w="215" h="12224">
                  <a:moveTo>
                    <a:pt x="181" y="12194"/>
                  </a:moveTo>
                  <a:lnTo>
                    <a:pt x="215" y="12116"/>
                  </a:lnTo>
                  <a:lnTo>
                    <a:pt x="215" y="0"/>
                  </a:lnTo>
                  <a:lnTo>
                    <a:pt x="0" y="0"/>
                  </a:lnTo>
                  <a:lnTo>
                    <a:pt x="0" y="12116"/>
                  </a:lnTo>
                  <a:lnTo>
                    <a:pt x="181" y="12194"/>
                  </a:lnTo>
                  <a:lnTo>
                    <a:pt x="0" y="12116"/>
                  </a:lnTo>
                  <a:lnTo>
                    <a:pt x="0" y="12130"/>
                  </a:lnTo>
                  <a:lnTo>
                    <a:pt x="2" y="12142"/>
                  </a:lnTo>
                  <a:lnTo>
                    <a:pt x="5" y="12153"/>
                  </a:lnTo>
                  <a:lnTo>
                    <a:pt x="9" y="12164"/>
                  </a:lnTo>
                  <a:lnTo>
                    <a:pt x="13" y="12173"/>
                  </a:lnTo>
                  <a:lnTo>
                    <a:pt x="19" y="12182"/>
                  </a:lnTo>
                  <a:lnTo>
                    <a:pt x="25" y="12190"/>
                  </a:lnTo>
                  <a:lnTo>
                    <a:pt x="33" y="12197"/>
                  </a:lnTo>
                  <a:lnTo>
                    <a:pt x="41" y="12203"/>
                  </a:lnTo>
                  <a:lnTo>
                    <a:pt x="49" y="12209"/>
                  </a:lnTo>
                  <a:lnTo>
                    <a:pt x="58" y="12214"/>
                  </a:lnTo>
                  <a:lnTo>
                    <a:pt x="67" y="12218"/>
                  </a:lnTo>
                  <a:lnTo>
                    <a:pt x="77" y="12220"/>
                  </a:lnTo>
                  <a:lnTo>
                    <a:pt x="87" y="12222"/>
                  </a:lnTo>
                  <a:lnTo>
                    <a:pt x="97" y="12224"/>
                  </a:lnTo>
                  <a:lnTo>
                    <a:pt x="107" y="12224"/>
                  </a:lnTo>
                  <a:lnTo>
                    <a:pt x="117" y="12224"/>
                  </a:lnTo>
                  <a:lnTo>
                    <a:pt x="127" y="12222"/>
                  </a:lnTo>
                  <a:lnTo>
                    <a:pt x="137" y="12220"/>
                  </a:lnTo>
                  <a:lnTo>
                    <a:pt x="146" y="12218"/>
                  </a:lnTo>
                  <a:lnTo>
                    <a:pt x="156" y="12214"/>
                  </a:lnTo>
                  <a:lnTo>
                    <a:pt x="165" y="12209"/>
                  </a:lnTo>
                  <a:lnTo>
                    <a:pt x="173" y="12203"/>
                  </a:lnTo>
                  <a:lnTo>
                    <a:pt x="181" y="12197"/>
                  </a:lnTo>
                  <a:lnTo>
                    <a:pt x="188" y="12190"/>
                  </a:lnTo>
                  <a:lnTo>
                    <a:pt x="195" y="12182"/>
                  </a:lnTo>
                  <a:lnTo>
                    <a:pt x="201" y="12173"/>
                  </a:lnTo>
                  <a:lnTo>
                    <a:pt x="206" y="12164"/>
                  </a:lnTo>
                  <a:lnTo>
                    <a:pt x="209" y="12153"/>
                  </a:lnTo>
                  <a:lnTo>
                    <a:pt x="212" y="12142"/>
                  </a:lnTo>
                  <a:lnTo>
                    <a:pt x="214" y="12130"/>
                  </a:lnTo>
                  <a:lnTo>
                    <a:pt x="215" y="12116"/>
                  </a:lnTo>
                  <a:lnTo>
                    <a:pt x="181" y="12194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861080" y="5316840"/>
              <a:ext cx="952200" cy="153720"/>
            </a:xfrm>
            <a:custGeom>
              <a:avLst/>
              <a:gdLst/>
              <a:ahLst/>
              <a:rect l="l" t="t" r="r" b="b"/>
              <a:pathLst>
                <a:path w="16198" h="2624">
                  <a:moveTo>
                    <a:pt x="16198" y="0"/>
                  </a:moveTo>
                  <a:lnTo>
                    <a:pt x="13443" y="2624"/>
                  </a:lnTo>
                  <a:lnTo>
                    <a:pt x="0" y="2624"/>
                  </a:lnTo>
                  <a:lnTo>
                    <a:pt x="3502" y="0"/>
                  </a:lnTo>
                  <a:lnTo>
                    <a:pt x="16198" y="0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645160" y="5311800"/>
              <a:ext cx="173160" cy="165240"/>
            </a:xfrm>
            <a:custGeom>
              <a:avLst/>
              <a:gdLst/>
              <a:ahLst/>
              <a:rect l="l" t="t" r="r" b="b"/>
              <a:pathLst>
                <a:path w="2939" h="2812">
                  <a:moveTo>
                    <a:pt x="109" y="2810"/>
                  </a:moveTo>
                  <a:lnTo>
                    <a:pt x="183" y="2780"/>
                  </a:lnTo>
                  <a:lnTo>
                    <a:pt x="2939" y="155"/>
                  </a:lnTo>
                  <a:lnTo>
                    <a:pt x="2790" y="0"/>
                  </a:lnTo>
                  <a:lnTo>
                    <a:pt x="35" y="2624"/>
                  </a:lnTo>
                  <a:lnTo>
                    <a:pt x="109" y="2810"/>
                  </a:lnTo>
                  <a:lnTo>
                    <a:pt x="35" y="2624"/>
                  </a:lnTo>
                  <a:lnTo>
                    <a:pt x="26" y="2634"/>
                  </a:lnTo>
                  <a:lnTo>
                    <a:pt x="18" y="2644"/>
                  </a:lnTo>
                  <a:lnTo>
                    <a:pt x="12" y="2654"/>
                  </a:lnTo>
                  <a:lnTo>
                    <a:pt x="7" y="2663"/>
                  </a:lnTo>
                  <a:lnTo>
                    <a:pt x="4" y="2674"/>
                  </a:lnTo>
                  <a:lnTo>
                    <a:pt x="1" y="2684"/>
                  </a:lnTo>
                  <a:lnTo>
                    <a:pt x="0" y="2694"/>
                  </a:lnTo>
                  <a:lnTo>
                    <a:pt x="0" y="2704"/>
                  </a:lnTo>
                  <a:lnTo>
                    <a:pt x="1" y="2715"/>
                  </a:lnTo>
                  <a:lnTo>
                    <a:pt x="3" y="2725"/>
                  </a:lnTo>
                  <a:lnTo>
                    <a:pt x="5" y="2734"/>
                  </a:lnTo>
                  <a:lnTo>
                    <a:pt x="9" y="2743"/>
                  </a:lnTo>
                  <a:lnTo>
                    <a:pt x="13" y="2753"/>
                  </a:lnTo>
                  <a:lnTo>
                    <a:pt x="18" y="2761"/>
                  </a:lnTo>
                  <a:lnTo>
                    <a:pt x="24" y="2769"/>
                  </a:lnTo>
                  <a:lnTo>
                    <a:pt x="31" y="2776"/>
                  </a:lnTo>
                  <a:lnTo>
                    <a:pt x="39" y="2783"/>
                  </a:lnTo>
                  <a:lnTo>
                    <a:pt x="46" y="2789"/>
                  </a:lnTo>
                  <a:lnTo>
                    <a:pt x="54" y="2796"/>
                  </a:lnTo>
                  <a:lnTo>
                    <a:pt x="63" y="2801"/>
                  </a:lnTo>
                  <a:lnTo>
                    <a:pt x="72" y="2805"/>
                  </a:lnTo>
                  <a:lnTo>
                    <a:pt x="82" y="2808"/>
                  </a:lnTo>
                  <a:lnTo>
                    <a:pt x="92" y="2810"/>
                  </a:lnTo>
                  <a:lnTo>
                    <a:pt x="101" y="2812"/>
                  </a:lnTo>
                  <a:lnTo>
                    <a:pt x="111" y="2812"/>
                  </a:lnTo>
                  <a:lnTo>
                    <a:pt x="122" y="2811"/>
                  </a:lnTo>
                  <a:lnTo>
                    <a:pt x="132" y="2809"/>
                  </a:lnTo>
                  <a:lnTo>
                    <a:pt x="142" y="2806"/>
                  </a:lnTo>
                  <a:lnTo>
                    <a:pt x="153" y="2802"/>
                  </a:lnTo>
                  <a:lnTo>
                    <a:pt x="163" y="2796"/>
                  </a:lnTo>
                  <a:lnTo>
                    <a:pt x="173" y="2788"/>
                  </a:lnTo>
                  <a:lnTo>
                    <a:pt x="183" y="2780"/>
                  </a:lnTo>
                  <a:lnTo>
                    <a:pt x="109" y="281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854600" y="5464440"/>
              <a:ext cx="797040" cy="12600"/>
            </a:xfrm>
            <a:custGeom>
              <a:avLst/>
              <a:gdLst/>
              <a:ahLst/>
              <a:rect l="l" t="t" r="r" b="b"/>
              <a:pathLst>
                <a:path w="13551" h="215">
                  <a:moveTo>
                    <a:pt x="43" y="21"/>
                  </a:moveTo>
                  <a:lnTo>
                    <a:pt x="108" y="215"/>
                  </a:lnTo>
                  <a:lnTo>
                    <a:pt x="13551" y="215"/>
                  </a:lnTo>
                  <a:lnTo>
                    <a:pt x="13551" y="0"/>
                  </a:lnTo>
                  <a:lnTo>
                    <a:pt x="108" y="0"/>
                  </a:lnTo>
                  <a:lnTo>
                    <a:pt x="43" y="21"/>
                  </a:lnTo>
                  <a:lnTo>
                    <a:pt x="108" y="0"/>
                  </a:lnTo>
                  <a:lnTo>
                    <a:pt x="94" y="1"/>
                  </a:lnTo>
                  <a:lnTo>
                    <a:pt x="82" y="2"/>
                  </a:lnTo>
                  <a:lnTo>
                    <a:pt x="71" y="5"/>
                  </a:lnTo>
                  <a:lnTo>
                    <a:pt x="61" y="9"/>
                  </a:lnTo>
                  <a:lnTo>
                    <a:pt x="51" y="14"/>
                  </a:lnTo>
                  <a:lnTo>
                    <a:pt x="42" y="19"/>
                  </a:lnTo>
                  <a:lnTo>
                    <a:pt x="34" y="26"/>
                  </a:lnTo>
                  <a:lnTo>
                    <a:pt x="27" y="33"/>
                  </a:lnTo>
                  <a:lnTo>
                    <a:pt x="21" y="42"/>
                  </a:lnTo>
                  <a:lnTo>
                    <a:pt x="15" y="50"/>
                  </a:lnTo>
                  <a:lnTo>
                    <a:pt x="10" y="59"/>
                  </a:lnTo>
                  <a:lnTo>
                    <a:pt x="6" y="68"/>
                  </a:lnTo>
                  <a:lnTo>
                    <a:pt x="4" y="78"/>
                  </a:lnTo>
                  <a:lnTo>
                    <a:pt x="2" y="88"/>
                  </a:lnTo>
                  <a:lnTo>
                    <a:pt x="0" y="97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2" y="128"/>
                  </a:lnTo>
                  <a:lnTo>
                    <a:pt x="4" y="137"/>
                  </a:lnTo>
                  <a:lnTo>
                    <a:pt x="6" y="147"/>
                  </a:lnTo>
                  <a:lnTo>
                    <a:pt x="10" y="156"/>
                  </a:lnTo>
                  <a:lnTo>
                    <a:pt x="15" y="165"/>
                  </a:lnTo>
                  <a:lnTo>
                    <a:pt x="21" y="174"/>
                  </a:lnTo>
                  <a:lnTo>
                    <a:pt x="27" y="181"/>
                  </a:lnTo>
                  <a:lnTo>
                    <a:pt x="34" y="188"/>
                  </a:lnTo>
                  <a:lnTo>
                    <a:pt x="42" y="195"/>
                  </a:lnTo>
                  <a:lnTo>
                    <a:pt x="51" y="201"/>
                  </a:lnTo>
                  <a:lnTo>
                    <a:pt x="61" y="206"/>
                  </a:lnTo>
                  <a:lnTo>
                    <a:pt x="71" y="210"/>
                  </a:lnTo>
                  <a:lnTo>
                    <a:pt x="82" y="213"/>
                  </a:lnTo>
                  <a:lnTo>
                    <a:pt x="94" y="215"/>
                  </a:lnTo>
                  <a:lnTo>
                    <a:pt x="108" y="215"/>
                  </a:lnTo>
                  <a:lnTo>
                    <a:pt x="43" y="2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857840" y="5310360"/>
              <a:ext cx="216000" cy="165240"/>
            </a:xfrm>
            <a:custGeom>
              <a:avLst/>
              <a:gdLst/>
              <a:ahLst/>
              <a:rect l="l" t="t" r="r" b="b"/>
              <a:pathLst>
                <a:path w="3676" h="2820">
                  <a:moveTo>
                    <a:pt x="3567" y="1"/>
                  </a:moveTo>
                  <a:lnTo>
                    <a:pt x="3503" y="24"/>
                  </a:lnTo>
                  <a:lnTo>
                    <a:pt x="0" y="2648"/>
                  </a:lnTo>
                  <a:lnTo>
                    <a:pt x="129" y="2820"/>
                  </a:lnTo>
                  <a:lnTo>
                    <a:pt x="3632" y="195"/>
                  </a:lnTo>
                  <a:lnTo>
                    <a:pt x="3567" y="1"/>
                  </a:lnTo>
                  <a:lnTo>
                    <a:pt x="3632" y="195"/>
                  </a:lnTo>
                  <a:lnTo>
                    <a:pt x="3642" y="187"/>
                  </a:lnTo>
                  <a:lnTo>
                    <a:pt x="3651" y="178"/>
                  </a:lnTo>
                  <a:lnTo>
                    <a:pt x="3658" y="169"/>
                  </a:lnTo>
                  <a:lnTo>
                    <a:pt x="3664" y="160"/>
                  </a:lnTo>
                  <a:lnTo>
                    <a:pt x="3669" y="150"/>
                  </a:lnTo>
                  <a:lnTo>
                    <a:pt x="3672" y="140"/>
                  </a:lnTo>
                  <a:lnTo>
                    <a:pt x="3674" y="130"/>
                  </a:lnTo>
                  <a:lnTo>
                    <a:pt x="3676" y="120"/>
                  </a:lnTo>
                  <a:lnTo>
                    <a:pt x="3676" y="110"/>
                  </a:lnTo>
                  <a:lnTo>
                    <a:pt x="3675" y="100"/>
                  </a:lnTo>
                  <a:lnTo>
                    <a:pt x="3674" y="90"/>
                  </a:lnTo>
                  <a:lnTo>
                    <a:pt x="3671" y="81"/>
                  </a:lnTo>
                  <a:lnTo>
                    <a:pt x="3668" y="71"/>
                  </a:lnTo>
                  <a:lnTo>
                    <a:pt x="3664" y="63"/>
                  </a:lnTo>
                  <a:lnTo>
                    <a:pt x="3659" y="53"/>
                  </a:lnTo>
                  <a:lnTo>
                    <a:pt x="3654" y="45"/>
                  </a:lnTo>
                  <a:lnTo>
                    <a:pt x="3646" y="37"/>
                  </a:lnTo>
                  <a:lnTo>
                    <a:pt x="3640" y="30"/>
                  </a:lnTo>
                  <a:lnTo>
                    <a:pt x="3632" y="24"/>
                  </a:lnTo>
                  <a:lnTo>
                    <a:pt x="3624" y="17"/>
                  </a:lnTo>
                  <a:lnTo>
                    <a:pt x="3616" y="12"/>
                  </a:lnTo>
                  <a:lnTo>
                    <a:pt x="3606" y="8"/>
                  </a:lnTo>
                  <a:lnTo>
                    <a:pt x="3597" y="4"/>
                  </a:lnTo>
                  <a:lnTo>
                    <a:pt x="3588" y="2"/>
                  </a:lnTo>
                  <a:lnTo>
                    <a:pt x="3578" y="1"/>
                  </a:lnTo>
                  <a:lnTo>
                    <a:pt x="3567" y="0"/>
                  </a:lnTo>
                  <a:lnTo>
                    <a:pt x="3556" y="1"/>
                  </a:lnTo>
                  <a:lnTo>
                    <a:pt x="3546" y="3"/>
                  </a:lnTo>
                  <a:lnTo>
                    <a:pt x="3536" y="6"/>
                  </a:lnTo>
                  <a:lnTo>
                    <a:pt x="3524" y="10"/>
                  </a:lnTo>
                  <a:lnTo>
                    <a:pt x="3514" y="16"/>
                  </a:lnTo>
                  <a:lnTo>
                    <a:pt x="3503" y="24"/>
                  </a:lnTo>
                  <a:lnTo>
                    <a:pt x="3567" y="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067360" y="5310360"/>
              <a:ext cx="752400" cy="12600"/>
            </a:xfrm>
            <a:custGeom>
              <a:avLst/>
              <a:gdLst/>
              <a:ahLst/>
              <a:rect l="l" t="t" r="r" b="b"/>
              <a:pathLst>
                <a:path w="12804" h="216">
                  <a:moveTo>
                    <a:pt x="12771" y="186"/>
                  </a:moveTo>
                  <a:lnTo>
                    <a:pt x="12696" y="0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12696" y="216"/>
                  </a:lnTo>
                  <a:lnTo>
                    <a:pt x="12771" y="186"/>
                  </a:lnTo>
                  <a:lnTo>
                    <a:pt x="12696" y="216"/>
                  </a:lnTo>
                  <a:lnTo>
                    <a:pt x="12710" y="215"/>
                  </a:lnTo>
                  <a:lnTo>
                    <a:pt x="12722" y="213"/>
                  </a:lnTo>
                  <a:lnTo>
                    <a:pt x="12733" y="210"/>
                  </a:lnTo>
                  <a:lnTo>
                    <a:pt x="12743" y="207"/>
                  </a:lnTo>
                  <a:lnTo>
                    <a:pt x="12754" y="202"/>
                  </a:lnTo>
                  <a:lnTo>
                    <a:pt x="12762" y="196"/>
                  </a:lnTo>
                  <a:lnTo>
                    <a:pt x="12770" y="190"/>
                  </a:lnTo>
                  <a:lnTo>
                    <a:pt x="12777" y="183"/>
                  </a:lnTo>
                  <a:lnTo>
                    <a:pt x="12783" y="174"/>
                  </a:lnTo>
                  <a:lnTo>
                    <a:pt x="12790" y="166"/>
                  </a:lnTo>
                  <a:lnTo>
                    <a:pt x="12794" y="157"/>
                  </a:lnTo>
                  <a:lnTo>
                    <a:pt x="12798" y="148"/>
                  </a:lnTo>
                  <a:lnTo>
                    <a:pt x="12801" y="138"/>
                  </a:lnTo>
                  <a:lnTo>
                    <a:pt x="12803" y="128"/>
                  </a:lnTo>
                  <a:lnTo>
                    <a:pt x="12804" y="118"/>
                  </a:lnTo>
                  <a:lnTo>
                    <a:pt x="12804" y="109"/>
                  </a:lnTo>
                  <a:lnTo>
                    <a:pt x="12804" y="98"/>
                  </a:lnTo>
                  <a:lnTo>
                    <a:pt x="12803" y="88"/>
                  </a:lnTo>
                  <a:lnTo>
                    <a:pt x="12801" y="78"/>
                  </a:lnTo>
                  <a:lnTo>
                    <a:pt x="12798" y="69"/>
                  </a:lnTo>
                  <a:lnTo>
                    <a:pt x="12794" y="59"/>
                  </a:lnTo>
                  <a:lnTo>
                    <a:pt x="12790" y="50"/>
                  </a:lnTo>
                  <a:lnTo>
                    <a:pt x="12783" y="42"/>
                  </a:lnTo>
                  <a:lnTo>
                    <a:pt x="12777" y="34"/>
                  </a:lnTo>
                  <a:lnTo>
                    <a:pt x="12770" y="27"/>
                  </a:lnTo>
                  <a:lnTo>
                    <a:pt x="12762" y="21"/>
                  </a:lnTo>
                  <a:lnTo>
                    <a:pt x="12754" y="14"/>
                  </a:lnTo>
                  <a:lnTo>
                    <a:pt x="12743" y="10"/>
                  </a:lnTo>
                  <a:lnTo>
                    <a:pt x="12733" y="6"/>
                  </a:lnTo>
                  <a:lnTo>
                    <a:pt x="12722" y="3"/>
                  </a:lnTo>
                  <a:lnTo>
                    <a:pt x="12710" y="1"/>
                  </a:lnTo>
                  <a:lnTo>
                    <a:pt x="12696" y="0"/>
                  </a:lnTo>
                  <a:lnTo>
                    <a:pt x="12771" y="186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4862520" y="5470560"/>
              <a:ext cx="789120" cy="712800"/>
            </a:xfrm>
            <a:prstGeom prst="rect">
              <a:avLst/>
            </a:pr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645160" y="5464440"/>
              <a:ext cx="12600" cy="718920"/>
            </a:xfrm>
            <a:custGeom>
              <a:avLst/>
              <a:gdLst/>
              <a:ahLst/>
              <a:rect l="l" t="t" r="r" b="b"/>
              <a:pathLst>
                <a:path w="215" h="12223">
                  <a:moveTo>
                    <a:pt x="107" y="0"/>
                  </a:moveTo>
                  <a:lnTo>
                    <a:pt x="0" y="107"/>
                  </a:lnTo>
                  <a:lnTo>
                    <a:pt x="0" y="12223"/>
                  </a:lnTo>
                  <a:lnTo>
                    <a:pt x="215" y="12223"/>
                  </a:lnTo>
                  <a:lnTo>
                    <a:pt x="215" y="107"/>
                  </a:lnTo>
                  <a:lnTo>
                    <a:pt x="107" y="0"/>
                  </a:lnTo>
                  <a:lnTo>
                    <a:pt x="215" y="107"/>
                  </a:lnTo>
                  <a:lnTo>
                    <a:pt x="215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856040" y="5464440"/>
              <a:ext cx="795600" cy="12600"/>
            </a:xfrm>
            <a:custGeom>
              <a:avLst/>
              <a:gdLst/>
              <a:ahLst/>
              <a:rect l="l" t="t" r="r" b="b"/>
              <a:pathLst>
                <a:path w="13517" h="215">
                  <a:moveTo>
                    <a:pt x="0" y="107"/>
                  </a:moveTo>
                  <a:lnTo>
                    <a:pt x="108" y="215"/>
                  </a:lnTo>
                  <a:lnTo>
                    <a:pt x="13517" y="215"/>
                  </a:lnTo>
                  <a:lnTo>
                    <a:pt x="13517" y="0"/>
                  </a:lnTo>
                  <a:lnTo>
                    <a:pt x="108" y="0"/>
                  </a:lnTo>
                  <a:lnTo>
                    <a:pt x="0" y="107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856040" y="5470560"/>
              <a:ext cx="12960" cy="719280"/>
            </a:xfrm>
            <a:custGeom>
              <a:avLst/>
              <a:gdLst/>
              <a:ahLst/>
              <a:rect l="l" t="t" r="r" b="b"/>
              <a:pathLst>
                <a:path w="215" h="12224">
                  <a:moveTo>
                    <a:pt x="108" y="12224"/>
                  </a:moveTo>
                  <a:lnTo>
                    <a:pt x="215" y="12116"/>
                  </a:lnTo>
                  <a:lnTo>
                    <a:pt x="215" y="0"/>
                  </a:lnTo>
                  <a:lnTo>
                    <a:pt x="0" y="0"/>
                  </a:lnTo>
                  <a:lnTo>
                    <a:pt x="0" y="12116"/>
                  </a:lnTo>
                  <a:lnTo>
                    <a:pt x="108" y="12224"/>
                  </a:lnTo>
                  <a:lnTo>
                    <a:pt x="0" y="12116"/>
                  </a:lnTo>
                  <a:lnTo>
                    <a:pt x="0" y="12224"/>
                  </a:lnTo>
                  <a:lnTo>
                    <a:pt x="108" y="12224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862520" y="6177240"/>
              <a:ext cx="795240" cy="12600"/>
            </a:xfrm>
            <a:custGeom>
              <a:avLst/>
              <a:gdLst/>
              <a:ahLst/>
              <a:rect l="l" t="t" r="r" b="b"/>
              <a:pathLst>
                <a:path w="13517" h="215">
                  <a:moveTo>
                    <a:pt x="13517" y="107"/>
                  </a:moveTo>
                  <a:lnTo>
                    <a:pt x="13409" y="0"/>
                  </a:lnTo>
                  <a:lnTo>
                    <a:pt x="0" y="0"/>
                  </a:lnTo>
                  <a:lnTo>
                    <a:pt x="0" y="215"/>
                  </a:lnTo>
                  <a:lnTo>
                    <a:pt x="13409" y="215"/>
                  </a:lnTo>
                  <a:lnTo>
                    <a:pt x="13517" y="107"/>
                  </a:lnTo>
                  <a:lnTo>
                    <a:pt x="13409" y="215"/>
                  </a:lnTo>
                  <a:lnTo>
                    <a:pt x="13517" y="215"/>
                  </a:lnTo>
                  <a:lnTo>
                    <a:pt x="13517" y="10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221440" y="5558040"/>
              <a:ext cx="85680" cy="576360"/>
            </a:xfrm>
            <a:custGeom>
              <a:avLst/>
              <a:gdLst/>
              <a:ahLst/>
              <a:rect l="l" t="t" r="r" b="b"/>
              <a:pathLst>
                <a:path w="1446" h="9777">
                  <a:moveTo>
                    <a:pt x="493" y="0"/>
                  </a:moveTo>
                  <a:lnTo>
                    <a:pt x="493" y="8689"/>
                  </a:lnTo>
                  <a:lnTo>
                    <a:pt x="0" y="8689"/>
                  </a:lnTo>
                  <a:lnTo>
                    <a:pt x="724" y="9777"/>
                  </a:lnTo>
                  <a:lnTo>
                    <a:pt x="1446" y="8689"/>
                  </a:lnTo>
                  <a:lnTo>
                    <a:pt x="959" y="8689"/>
                  </a:lnTo>
                  <a:lnTo>
                    <a:pt x="959" y="0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002200" y="5558040"/>
              <a:ext cx="85680" cy="576360"/>
            </a:xfrm>
            <a:custGeom>
              <a:avLst/>
              <a:gdLst/>
              <a:ahLst/>
              <a:rect l="l" t="t" r="r" b="b"/>
              <a:pathLst>
                <a:path w="1445" h="9777">
                  <a:moveTo>
                    <a:pt x="492" y="0"/>
                  </a:moveTo>
                  <a:lnTo>
                    <a:pt x="492" y="8689"/>
                  </a:lnTo>
                  <a:lnTo>
                    <a:pt x="0" y="8689"/>
                  </a:lnTo>
                  <a:lnTo>
                    <a:pt x="722" y="9777"/>
                  </a:lnTo>
                  <a:lnTo>
                    <a:pt x="1445" y="8689"/>
                  </a:lnTo>
                  <a:lnTo>
                    <a:pt x="958" y="8689"/>
                  </a:lnTo>
                  <a:lnTo>
                    <a:pt x="958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432400" y="5556600"/>
              <a:ext cx="84240" cy="576000"/>
            </a:xfrm>
            <a:custGeom>
              <a:avLst/>
              <a:gdLst/>
              <a:ahLst/>
              <a:rect l="l" t="t" r="r" b="b"/>
              <a:pathLst>
                <a:path w="1446" h="9778">
                  <a:moveTo>
                    <a:pt x="492" y="0"/>
                  </a:moveTo>
                  <a:lnTo>
                    <a:pt x="492" y="8689"/>
                  </a:lnTo>
                  <a:lnTo>
                    <a:pt x="0" y="8689"/>
                  </a:lnTo>
                  <a:lnTo>
                    <a:pt x="722" y="9778"/>
                  </a:lnTo>
                  <a:lnTo>
                    <a:pt x="1446" y="8689"/>
                  </a:lnTo>
                  <a:lnTo>
                    <a:pt x="958" y="8689"/>
                  </a:lnTo>
                  <a:lnTo>
                    <a:pt x="958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938840" y="5734080"/>
              <a:ext cx="641160" cy="25560"/>
            </a:xfrm>
            <a:custGeom>
              <a:avLst/>
              <a:gdLst/>
              <a:ahLst/>
              <a:rect l="l" t="t" r="r" b="b"/>
              <a:pathLst>
                <a:path w="10902" h="431">
                  <a:moveTo>
                    <a:pt x="0" y="216"/>
                  </a:moveTo>
                  <a:lnTo>
                    <a:pt x="216" y="431"/>
                  </a:lnTo>
                  <a:lnTo>
                    <a:pt x="10902" y="431"/>
                  </a:lnTo>
                  <a:lnTo>
                    <a:pt x="10902" y="0"/>
                  </a:lnTo>
                  <a:lnTo>
                    <a:pt x="216" y="0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0" y="431"/>
                  </a:lnTo>
                  <a:lnTo>
                    <a:pt x="216" y="431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938840" y="5534280"/>
              <a:ext cx="25200" cy="212760"/>
            </a:xfrm>
            <a:custGeom>
              <a:avLst/>
              <a:gdLst/>
              <a:ahLst/>
              <a:rect l="l" t="t" r="r" b="b"/>
              <a:pathLst>
                <a:path w="431" h="3627">
                  <a:moveTo>
                    <a:pt x="216" y="0"/>
                  </a:moveTo>
                  <a:lnTo>
                    <a:pt x="0" y="216"/>
                  </a:lnTo>
                  <a:lnTo>
                    <a:pt x="0" y="3627"/>
                  </a:lnTo>
                  <a:lnTo>
                    <a:pt x="431" y="3627"/>
                  </a:lnTo>
                  <a:lnTo>
                    <a:pt x="431" y="216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951440" y="5534280"/>
              <a:ext cx="641520" cy="25200"/>
            </a:xfrm>
            <a:custGeom>
              <a:avLst/>
              <a:gdLst/>
              <a:ahLst/>
              <a:rect l="l" t="t" r="r" b="b"/>
              <a:pathLst>
                <a:path w="10901" h="431">
                  <a:moveTo>
                    <a:pt x="10901" y="216"/>
                  </a:moveTo>
                  <a:lnTo>
                    <a:pt x="10686" y="0"/>
                  </a:lnTo>
                  <a:lnTo>
                    <a:pt x="0" y="0"/>
                  </a:lnTo>
                  <a:lnTo>
                    <a:pt x="0" y="431"/>
                  </a:lnTo>
                  <a:lnTo>
                    <a:pt x="10686" y="431"/>
                  </a:lnTo>
                  <a:lnTo>
                    <a:pt x="10901" y="216"/>
                  </a:lnTo>
                  <a:lnTo>
                    <a:pt x="10901" y="216"/>
                  </a:lnTo>
                  <a:lnTo>
                    <a:pt x="10901" y="0"/>
                  </a:lnTo>
                  <a:lnTo>
                    <a:pt x="10686" y="0"/>
                  </a:lnTo>
                  <a:lnTo>
                    <a:pt x="10901" y="2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567400" y="5546880"/>
              <a:ext cx="25560" cy="212760"/>
            </a:xfrm>
            <a:custGeom>
              <a:avLst/>
              <a:gdLst/>
              <a:ahLst/>
              <a:rect l="l" t="t" r="r" b="b"/>
              <a:pathLst>
                <a:path w="432" h="3626">
                  <a:moveTo>
                    <a:pt x="217" y="3626"/>
                  </a:moveTo>
                  <a:lnTo>
                    <a:pt x="432" y="3411"/>
                  </a:lnTo>
                  <a:lnTo>
                    <a:pt x="432" y="0"/>
                  </a:lnTo>
                  <a:lnTo>
                    <a:pt x="0" y="0"/>
                  </a:lnTo>
                  <a:lnTo>
                    <a:pt x="0" y="3411"/>
                  </a:lnTo>
                  <a:lnTo>
                    <a:pt x="217" y="3626"/>
                  </a:lnTo>
                  <a:lnTo>
                    <a:pt x="217" y="3626"/>
                  </a:lnTo>
                  <a:lnTo>
                    <a:pt x="432" y="3626"/>
                  </a:lnTo>
                  <a:lnTo>
                    <a:pt x="432" y="3411"/>
                  </a:lnTo>
                  <a:lnTo>
                    <a:pt x="217" y="36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216400" y="5554800"/>
              <a:ext cx="86040" cy="574560"/>
            </a:xfrm>
            <a:custGeom>
              <a:avLst/>
              <a:gdLst/>
              <a:ahLst/>
              <a:rect l="l" t="t" r="r" b="b"/>
              <a:pathLst>
                <a:path w="1445" h="9778">
                  <a:moveTo>
                    <a:pt x="492" y="0"/>
                  </a:moveTo>
                  <a:lnTo>
                    <a:pt x="492" y="8689"/>
                  </a:lnTo>
                  <a:lnTo>
                    <a:pt x="0" y="8689"/>
                  </a:lnTo>
                  <a:lnTo>
                    <a:pt x="722" y="9778"/>
                  </a:lnTo>
                  <a:lnTo>
                    <a:pt x="1445" y="8689"/>
                  </a:lnTo>
                  <a:lnTo>
                    <a:pt x="958" y="8689"/>
                  </a:lnTo>
                  <a:lnTo>
                    <a:pt x="958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997520" y="5554800"/>
              <a:ext cx="84240" cy="574560"/>
            </a:xfrm>
            <a:custGeom>
              <a:avLst/>
              <a:gdLst/>
              <a:ahLst/>
              <a:rect l="l" t="t" r="r" b="b"/>
              <a:pathLst>
                <a:path w="1447" h="9778">
                  <a:moveTo>
                    <a:pt x="493" y="0"/>
                  </a:moveTo>
                  <a:lnTo>
                    <a:pt x="493" y="8689"/>
                  </a:lnTo>
                  <a:lnTo>
                    <a:pt x="0" y="8689"/>
                  </a:lnTo>
                  <a:lnTo>
                    <a:pt x="724" y="9778"/>
                  </a:lnTo>
                  <a:lnTo>
                    <a:pt x="1447" y="8689"/>
                  </a:lnTo>
                  <a:lnTo>
                    <a:pt x="960" y="8689"/>
                  </a:lnTo>
                  <a:lnTo>
                    <a:pt x="960" y="0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426280" y="5554800"/>
              <a:ext cx="85680" cy="574560"/>
            </a:xfrm>
            <a:custGeom>
              <a:avLst/>
              <a:gdLst/>
              <a:ahLst/>
              <a:rect l="l" t="t" r="r" b="b"/>
              <a:pathLst>
                <a:path w="1444" h="9778">
                  <a:moveTo>
                    <a:pt x="492" y="0"/>
                  </a:moveTo>
                  <a:lnTo>
                    <a:pt x="492" y="8689"/>
                  </a:lnTo>
                  <a:lnTo>
                    <a:pt x="0" y="8689"/>
                  </a:lnTo>
                  <a:lnTo>
                    <a:pt x="722" y="9778"/>
                  </a:lnTo>
                  <a:lnTo>
                    <a:pt x="1444" y="8689"/>
                  </a:lnTo>
                  <a:lnTo>
                    <a:pt x="958" y="8689"/>
                  </a:lnTo>
                  <a:lnTo>
                    <a:pt x="958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933800" y="5729400"/>
              <a:ext cx="641520" cy="25560"/>
            </a:xfrm>
            <a:custGeom>
              <a:avLst/>
              <a:gdLst/>
              <a:ahLst/>
              <a:rect l="l" t="t" r="r" b="b"/>
              <a:pathLst>
                <a:path w="10901" h="431">
                  <a:moveTo>
                    <a:pt x="0" y="216"/>
                  </a:moveTo>
                  <a:lnTo>
                    <a:pt x="216" y="431"/>
                  </a:lnTo>
                  <a:lnTo>
                    <a:pt x="10901" y="431"/>
                  </a:lnTo>
                  <a:lnTo>
                    <a:pt x="10901" y="0"/>
                  </a:lnTo>
                  <a:lnTo>
                    <a:pt x="216" y="0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0" y="431"/>
                  </a:lnTo>
                  <a:lnTo>
                    <a:pt x="216" y="431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933800" y="5529600"/>
              <a:ext cx="25560" cy="212400"/>
            </a:xfrm>
            <a:custGeom>
              <a:avLst/>
              <a:gdLst/>
              <a:ahLst/>
              <a:rect l="l" t="t" r="r" b="b"/>
              <a:pathLst>
                <a:path w="431" h="3626">
                  <a:moveTo>
                    <a:pt x="216" y="0"/>
                  </a:moveTo>
                  <a:lnTo>
                    <a:pt x="0" y="215"/>
                  </a:lnTo>
                  <a:lnTo>
                    <a:pt x="0" y="3626"/>
                  </a:lnTo>
                  <a:lnTo>
                    <a:pt x="431" y="3626"/>
                  </a:lnTo>
                  <a:lnTo>
                    <a:pt x="431" y="215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0" y="0"/>
                  </a:lnTo>
                  <a:lnTo>
                    <a:pt x="0" y="215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946760" y="5529600"/>
              <a:ext cx="641160" cy="25200"/>
            </a:xfrm>
            <a:custGeom>
              <a:avLst/>
              <a:gdLst/>
              <a:ahLst/>
              <a:rect l="l" t="t" r="r" b="b"/>
              <a:pathLst>
                <a:path w="10901" h="430">
                  <a:moveTo>
                    <a:pt x="10901" y="215"/>
                  </a:moveTo>
                  <a:lnTo>
                    <a:pt x="10685" y="0"/>
                  </a:lnTo>
                  <a:lnTo>
                    <a:pt x="0" y="0"/>
                  </a:lnTo>
                  <a:lnTo>
                    <a:pt x="0" y="430"/>
                  </a:lnTo>
                  <a:lnTo>
                    <a:pt x="10685" y="430"/>
                  </a:lnTo>
                  <a:lnTo>
                    <a:pt x="10901" y="215"/>
                  </a:lnTo>
                  <a:lnTo>
                    <a:pt x="10901" y="215"/>
                  </a:lnTo>
                  <a:lnTo>
                    <a:pt x="10901" y="0"/>
                  </a:lnTo>
                  <a:lnTo>
                    <a:pt x="10685" y="0"/>
                  </a:lnTo>
                  <a:lnTo>
                    <a:pt x="10901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562720" y="5542200"/>
              <a:ext cx="25200" cy="212760"/>
            </a:xfrm>
            <a:custGeom>
              <a:avLst/>
              <a:gdLst/>
              <a:ahLst/>
              <a:rect l="l" t="t" r="r" b="b"/>
              <a:pathLst>
                <a:path w="431" h="3626">
                  <a:moveTo>
                    <a:pt x="215" y="3626"/>
                  </a:moveTo>
                  <a:lnTo>
                    <a:pt x="431" y="3411"/>
                  </a:lnTo>
                  <a:lnTo>
                    <a:pt x="431" y="0"/>
                  </a:lnTo>
                  <a:lnTo>
                    <a:pt x="0" y="0"/>
                  </a:lnTo>
                  <a:lnTo>
                    <a:pt x="0" y="3411"/>
                  </a:lnTo>
                  <a:lnTo>
                    <a:pt x="215" y="3626"/>
                  </a:lnTo>
                  <a:lnTo>
                    <a:pt x="215" y="3626"/>
                  </a:lnTo>
                  <a:lnTo>
                    <a:pt x="431" y="3626"/>
                  </a:lnTo>
                  <a:lnTo>
                    <a:pt x="431" y="3411"/>
                  </a:lnTo>
                  <a:lnTo>
                    <a:pt x="215" y="36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5" name=""/>
          <p:cNvSpPr/>
          <p:nvPr/>
        </p:nvSpPr>
        <p:spPr>
          <a:xfrm>
            <a:off x="5776920" y="5470560"/>
            <a:ext cx="1236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lligence Engine 2100 S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Media and Network Lin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2182680" y="1752480"/>
            <a:ext cx="14558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ken Rings: with and without Tex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2182680" y="3583080"/>
            <a:ext cx="14558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DDI Rings: with and without Text, Vertical and Horizon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9" name="" descr=""/>
          <p:cNvPicPr/>
          <p:nvPr/>
        </p:nvPicPr>
        <p:blipFill>
          <a:blip r:embed="rId1"/>
          <a:stretch/>
        </p:blipFill>
        <p:spPr>
          <a:xfrm>
            <a:off x="1655640" y="4657680"/>
            <a:ext cx="1650960" cy="720720"/>
          </a:xfrm>
          <a:prstGeom prst="rect">
            <a:avLst/>
          </a:prstGeom>
          <a:ln w="0">
            <a:noFill/>
          </a:ln>
        </p:spPr>
      </p:pic>
      <p:pic>
        <p:nvPicPr>
          <p:cNvPr id="3340" name="" descr=""/>
          <p:cNvPicPr/>
          <p:nvPr/>
        </p:nvPicPr>
        <p:blipFill>
          <a:blip r:embed="rId2"/>
          <a:stretch/>
        </p:blipFill>
        <p:spPr>
          <a:xfrm>
            <a:off x="1434960" y="3765600"/>
            <a:ext cx="720720" cy="1649520"/>
          </a:xfrm>
          <a:prstGeom prst="rect">
            <a:avLst/>
          </a:prstGeom>
          <a:ln w="0">
            <a:noFill/>
          </a:ln>
        </p:spPr>
      </p:pic>
      <p:pic>
        <p:nvPicPr>
          <p:cNvPr id="3341" name="" descr=""/>
          <p:cNvPicPr/>
          <p:nvPr/>
        </p:nvPicPr>
        <p:blipFill>
          <a:blip r:embed="rId3"/>
          <a:stretch/>
        </p:blipFill>
        <p:spPr>
          <a:xfrm>
            <a:off x="1092240" y="3508200"/>
            <a:ext cx="720720" cy="1649520"/>
          </a:xfrm>
          <a:prstGeom prst="rect">
            <a:avLst/>
          </a:prstGeom>
          <a:ln w="0">
            <a:noFill/>
          </a:ln>
        </p:spPr>
      </p:pic>
      <p:pic>
        <p:nvPicPr>
          <p:cNvPr id="3342" name="" descr=""/>
          <p:cNvPicPr/>
          <p:nvPr/>
        </p:nvPicPr>
        <p:blipFill>
          <a:blip r:embed="rId4"/>
          <a:stretch/>
        </p:blipFill>
        <p:spPr>
          <a:xfrm>
            <a:off x="1141560" y="4829040"/>
            <a:ext cx="1650960" cy="720720"/>
          </a:xfrm>
          <a:prstGeom prst="rect">
            <a:avLst/>
          </a:prstGeom>
          <a:ln w="0">
            <a:noFill/>
          </a:ln>
        </p:spPr>
      </p:pic>
      <p:sp>
        <p:nvSpPr>
          <p:cNvPr id="3343" name=""/>
          <p:cNvSpPr/>
          <p:nvPr/>
        </p:nvSpPr>
        <p:spPr>
          <a:xfrm>
            <a:off x="3530520" y="2736720"/>
            <a:ext cx="4372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: Ser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3959280" y="2052720"/>
            <a:ext cx="3602160" cy="17280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b2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5" name=""/>
          <p:cNvGrpSpPr/>
          <p:nvPr/>
        </p:nvGrpSpPr>
        <p:grpSpPr>
          <a:xfrm>
            <a:off x="3873600" y="3492360"/>
            <a:ext cx="3600000" cy="171360"/>
            <a:chOff x="3873600" y="3492360"/>
            <a:chExt cx="3600000" cy="171360"/>
          </a:xfrm>
        </p:grpSpPr>
        <p:sp>
          <p:nvSpPr>
            <p:cNvPr id="3346" name=""/>
            <p:cNvSpPr/>
            <p:nvPr/>
          </p:nvSpPr>
          <p:spPr>
            <a:xfrm flipV="1">
              <a:off x="5502240" y="3492360"/>
              <a:ext cx="171000" cy="17136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387360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13064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38768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64508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90212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515916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416560" y="3492360"/>
              <a:ext cx="17136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550224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75928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601668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27372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653076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78816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704520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302600" y="3663720"/>
              <a:ext cx="171000" cy="0"/>
            </a:xfrm>
            <a:prstGeom prst="line">
              <a:avLst/>
            </a:prstGeom>
            <a:ln w="255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2" name=""/>
          <p:cNvSpPr/>
          <p:nvPr/>
        </p:nvSpPr>
        <p:spPr>
          <a:xfrm>
            <a:off x="3959280" y="2395440"/>
            <a:ext cx="3602160" cy="1731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b2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3" name=""/>
          <p:cNvGrpSpPr/>
          <p:nvPr/>
        </p:nvGrpSpPr>
        <p:grpSpPr>
          <a:xfrm>
            <a:off x="3873600" y="3835080"/>
            <a:ext cx="3600000" cy="171360"/>
            <a:chOff x="3873600" y="3835080"/>
            <a:chExt cx="3600000" cy="171360"/>
          </a:xfrm>
        </p:grpSpPr>
        <p:sp>
          <p:nvSpPr>
            <p:cNvPr id="3364" name=""/>
            <p:cNvSpPr/>
            <p:nvPr/>
          </p:nvSpPr>
          <p:spPr>
            <a:xfrm flipV="1">
              <a:off x="5502240" y="3835080"/>
              <a:ext cx="171000" cy="17100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87360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13064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38768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64508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90212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515916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416560" y="3835440"/>
              <a:ext cx="17136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550224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575928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601668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627372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53076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78816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04520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302600" y="4006440"/>
              <a:ext cx="171000" cy="0"/>
            </a:xfrm>
            <a:prstGeom prst="line">
              <a:avLst/>
            </a:prstGeom>
            <a:ln w="5076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0" name=""/>
          <p:cNvSpPr/>
          <p:nvPr/>
        </p:nvSpPr>
        <p:spPr>
          <a:xfrm>
            <a:off x="3530520" y="4092480"/>
            <a:ext cx="4372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: Circuit-Switch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3530520" y="5365800"/>
            <a:ext cx="4372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: Eth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3959280" y="5022720"/>
            <a:ext cx="3600360" cy="0"/>
          </a:xfrm>
          <a:prstGeom prst="line">
            <a:avLst/>
          </a:prstGeom>
          <a:ln w="2556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3959280" y="5280120"/>
            <a:ext cx="3600360" cy="0"/>
          </a:xfrm>
          <a:prstGeom prst="line">
            <a:avLst/>
          </a:prstGeom>
          <a:ln w="50760">
            <a:solidFill>
              <a:srgbClr val="b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4" name="" descr=""/>
          <p:cNvPicPr/>
          <p:nvPr/>
        </p:nvPicPr>
        <p:blipFill>
          <a:blip r:embed="rId5"/>
          <a:stretch/>
        </p:blipFill>
        <p:spPr>
          <a:xfrm>
            <a:off x="1512720" y="221940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3385" name="" descr=""/>
          <p:cNvPicPr/>
          <p:nvPr/>
        </p:nvPicPr>
        <p:blipFill>
          <a:blip r:embed="rId6"/>
          <a:stretch/>
        </p:blipFill>
        <p:spPr>
          <a:xfrm>
            <a:off x="1170000" y="221940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386" name="" descr=""/>
          <p:cNvPicPr/>
          <p:nvPr/>
        </p:nvPicPr>
        <p:blipFill>
          <a:blip r:embed="rId7"/>
          <a:stretch/>
        </p:blipFill>
        <p:spPr>
          <a:xfrm>
            <a:off x="1166760" y="1790640"/>
            <a:ext cx="757440" cy="736560"/>
          </a:xfrm>
          <a:prstGeom prst="rect">
            <a:avLst/>
          </a:prstGeom>
          <a:ln w="0">
            <a:noFill/>
          </a:ln>
        </p:spPr>
      </p:pic>
      <p:sp>
        <p:nvSpPr>
          <p:cNvPr id="3387" name=""/>
          <p:cNvSpPr/>
          <p:nvPr/>
        </p:nvSpPr>
        <p:spPr>
          <a:xfrm>
            <a:off x="6781680" y="2832120"/>
            <a:ext cx="1677960" cy="640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red or black network lines with no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Building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389" name="" descr=""/>
          <p:cNvPicPr/>
          <p:nvPr/>
        </p:nvPicPr>
        <p:blipFill>
          <a:blip r:embed="rId1"/>
          <a:stretch/>
        </p:blipFill>
        <p:spPr>
          <a:xfrm>
            <a:off x="166680" y="1371600"/>
            <a:ext cx="1933560" cy="1076400"/>
          </a:xfrm>
          <a:prstGeom prst="rect">
            <a:avLst/>
          </a:prstGeom>
          <a:ln w="0">
            <a:noFill/>
          </a:ln>
        </p:spPr>
      </p:pic>
      <p:sp>
        <p:nvSpPr>
          <p:cNvPr id="3390" name=""/>
          <p:cNvSpPr/>
          <p:nvPr/>
        </p:nvSpPr>
        <p:spPr>
          <a:xfrm>
            <a:off x="2081160" y="1839960"/>
            <a:ext cx="1300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2081160" y="3121200"/>
            <a:ext cx="1300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2" name="" descr=""/>
          <p:cNvPicPr/>
          <p:nvPr/>
        </p:nvPicPr>
        <p:blipFill>
          <a:blip r:embed="rId2"/>
          <a:stretch/>
        </p:blipFill>
        <p:spPr>
          <a:xfrm>
            <a:off x="295200" y="3097080"/>
            <a:ext cx="1847880" cy="755640"/>
          </a:xfrm>
          <a:prstGeom prst="rect">
            <a:avLst/>
          </a:prstGeom>
          <a:ln w="0">
            <a:noFill/>
          </a:ln>
        </p:spPr>
      </p:pic>
      <p:sp>
        <p:nvSpPr>
          <p:cNvPr id="3393" name=""/>
          <p:cNvSpPr/>
          <p:nvPr/>
        </p:nvSpPr>
        <p:spPr>
          <a:xfrm>
            <a:off x="2081160" y="4214880"/>
            <a:ext cx="130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mall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4" name="" descr=""/>
          <p:cNvPicPr/>
          <p:nvPr/>
        </p:nvPicPr>
        <p:blipFill>
          <a:blip r:embed="rId3"/>
          <a:stretch/>
        </p:blipFill>
        <p:spPr>
          <a:xfrm>
            <a:off x="944640" y="4148280"/>
            <a:ext cx="1138320" cy="695160"/>
          </a:xfrm>
          <a:prstGeom prst="rect">
            <a:avLst/>
          </a:prstGeom>
          <a:ln w="0">
            <a:noFill/>
          </a:ln>
        </p:spPr>
      </p:pic>
      <p:sp>
        <p:nvSpPr>
          <p:cNvPr id="3395" name=""/>
          <p:cNvSpPr/>
          <p:nvPr/>
        </p:nvSpPr>
        <p:spPr>
          <a:xfrm>
            <a:off x="2081160" y="5072040"/>
            <a:ext cx="13003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an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ffice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ular, Subdue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6" name="" descr=""/>
          <p:cNvPicPr/>
          <p:nvPr/>
        </p:nvPicPr>
        <p:blipFill>
          <a:blip r:embed="rId4"/>
          <a:stretch/>
        </p:blipFill>
        <p:spPr>
          <a:xfrm>
            <a:off x="250920" y="5203800"/>
            <a:ext cx="581040" cy="762120"/>
          </a:xfrm>
          <a:prstGeom prst="rect">
            <a:avLst/>
          </a:prstGeom>
          <a:ln w="0">
            <a:noFill/>
          </a:ln>
        </p:spPr>
      </p:pic>
      <p:pic>
        <p:nvPicPr>
          <p:cNvPr id="3397" name="" descr=""/>
          <p:cNvPicPr/>
          <p:nvPr/>
        </p:nvPicPr>
        <p:blipFill>
          <a:blip r:embed="rId5"/>
          <a:stretch/>
        </p:blipFill>
        <p:spPr>
          <a:xfrm>
            <a:off x="879480" y="5203800"/>
            <a:ext cx="581040" cy="762120"/>
          </a:xfrm>
          <a:prstGeom prst="rect">
            <a:avLst/>
          </a:prstGeom>
          <a:ln w="0">
            <a:noFill/>
          </a:ln>
        </p:spPr>
      </p:pic>
      <p:sp>
        <p:nvSpPr>
          <p:cNvPr id="3398" name=""/>
          <p:cNvSpPr/>
          <p:nvPr/>
        </p:nvSpPr>
        <p:spPr>
          <a:xfrm>
            <a:off x="5981760" y="1770120"/>
            <a:ext cx="15429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adquarters: Regular, Subdue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5981760" y="3225960"/>
            <a:ext cx="15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use: Regular 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5981760" y="4254480"/>
            <a:ext cx="15429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lecommut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use: Color 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5981760" y="5283360"/>
            <a:ext cx="1542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me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2" name="" descr=""/>
          <p:cNvPicPr/>
          <p:nvPr/>
        </p:nvPicPr>
        <p:blipFill>
          <a:blip r:embed="rId6"/>
          <a:stretch/>
        </p:blipFill>
        <p:spPr>
          <a:xfrm>
            <a:off x="4187880" y="4900680"/>
            <a:ext cx="17380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3403" name=""/>
          <p:cNvGrpSpPr/>
          <p:nvPr/>
        </p:nvGrpSpPr>
        <p:grpSpPr>
          <a:xfrm>
            <a:off x="3578400" y="1590840"/>
            <a:ext cx="2347560" cy="1125360"/>
            <a:chOff x="3578400" y="1590840"/>
            <a:chExt cx="2347560" cy="1125360"/>
          </a:xfrm>
        </p:grpSpPr>
        <p:pic>
          <p:nvPicPr>
            <p:cNvPr id="3404" name="" descr=""/>
            <p:cNvPicPr/>
            <p:nvPr/>
          </p:nvPicPr>
          <p:blipFill>
            <a:blip r:embed="rId7"/>
            <a:stretch/>
          </p:blipFill>
          <p:spPr>
            <a:xfrm>
              <a:off x="3578400" y="159084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5" name="" descr=""/>
            <p:cNvPicPr/>
            <p:nvPr/>
          </p:nvPicPr>
          <p:blipFill>
            <a:blip r:embed="rId8"/>
            <a:stretch/>
          </p:blipFill>
          <p:spPr>
            <a:xfrm>
              <a:off x="4397760" y="1590840"/>
              <a:ext cx="7329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6" name="" descr=""/>
            <p:cNvPicPr/>
            <p:nvPr/>
          </p:nvPicPr>
          <p:blipFill>
            <a:blip r:embed="rId9"/>
            <a:stretch/>
          </p:blipFill>
          <p:spPr>
            <a:xfrm>
              <a:off x="5193000" y="1590840"/>
              <a:ext cx="732960" cy="11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7" name="" descr=""/>
          <p:cNvPicPr/>
          <p:nvPr/>
        </p:nvPicPr>
        <p:blipFill>
          <a:blip r:embed="rId10"/>
          <a:stretch/>
        </p:blipFill>
        <p:spPr>
          <a:xfrm>
            <a:off x="1508040" y="5203800"/>
            <a:ext cx="581040" cy="762120"/>
          </a:xfrm>
          <a:prstGeom prst="rect">
            <a:avLst/>
          </a:prstGeom>
          <a:ln w="0">
            <a:noFill/>
          </a:ln>
        </p:spPr>
      </p:pic>
      <p:pic>
        <p:nvPicPr>
          <p:cNvPr id="3408" name="" descr=""/>
          <p:cNvPicPr/>
          <p:nvPr/>
        </p:nvPicPr>
        <p:blipFill>
          <a:blip r:embed="rId11"/>
          <a:stretch/>
        </p:blipFill>
        <p:spPr>
          <a:xfrm>
            <a:off x="7570800" y="1569960"/>
            <a:ext cx="1057320" cy="835200"/>
          </a:xfrm>
          <a:prstGeom prst="rect">
            <a:avLst/>
          </a:prstGeom>
          <a:ln w="0">
            <a:noFill/>
          </a:ln>
        </p:spPr>
      </p:pic>
      <p:pic>
        <p:nvPicPr>
          <p:cNvPr id="3409" name="" descr=""/>
          <p:cNvPicPr/>
          <p:nvPr/>
        </p:nvPicPr>
        <p:blipFill>
          <a:blip r:embed="rId12"/>
          <a:stretch/>
        </p:blipFill>
        <p:spPr>
          <a:xfrm>
            <a:off x="7570800" y="2217600"/>
            <a:ext cx="1057320" cy="835200"/>
          </a:xfrm>
          <a:prstGeom prst="rect">
            <a:avLst/>
          </a:prstGeom>
          <a:ln w="0">
            <a:noFill/>
          </a:ln>
        </p:spPr>
      </p:pic>
      <p:pic>
        <p:nvPicPr>
          <p:cNvPr id="3410" name="" descr=""/>
          <p:cNvPicPr/>
          <p:nvPr/>
        </p:nvPicPr>
        <p:blipFill>
          <a:blip r:embed="rId13"/>
          <a:stretch/>
        </p:blipFill>
        <p:spPr>
          <a:xfrm>
            <a:off x="7570800" y="2824200"/>
            <a:ext cx="1057320" cy="836640"/>
          </a:xfrm>
          <a:prstGeom prst="rect">
            <a:avLst/>
          </a:prstGeom>
          <a:ln w="0">
            <a:noFill/>
          </a:ln>
        </p:spPr>
      </p:pic>
      <p:sp>
        <p:nvSpPr>
          <p:cNvPr id="3411" name=""/>
          <p:cNvSpPr/>
          <p:nvPr/>
        </p:nvSpPr>
        <p:spPr>
          <a:xfrm>
            <a:off x="7427880" y="3692520"/>
            <a:ext cx="14572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um Building: Regular, Subdued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Bl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2" name="" descr=""/>
          <p:cNvPicPr/>
          <p:nvPr/>
        </p:nvPicPr>
        <p:blipFill>
          <a:blip r:embed="rId14"/>
          <a:stretch/>
        </p:blipFill>
        <p:spPr>
          <a:xfrm>
            <a:off x="3522600" y="3932280"/>
            <a:ext cx="1174680" cy="772920"/>
          </a:xfrm>
          <a:prstGeom prst="rect">
            <a:avLst/>
          </a:prstGeom>
          <a:ln w="0">
            <a:noFill/>
          </a:ln>
        </p:spPr>
      </p:pic>
      <p:pic>
        <p:nvPicPr>
          <p:cNvPr id="3413" name="" descr=""/>
          <p:cNvPicPr/>
          <p:nvPr/>
        </p:nvPicPr>
        <p:blipFill>
          <a:blip r:embed="rId15"/>
          <a:stretch/>
        </p:blipFill>
        <p:spPr>
          <a:xfrm>
            <a:off x="3514680" y="2930400"/>
            <a:ext cx="1187640" cy="785880"/>
          </a:xfrm>
          <a:prstGeom prst="rect">
            <a:avLst/>
          </a:prstGeom>
          <a:ln w="0">
            <a:noFill/>
          </a:ln>
        </p:spPr>
      </p:pic>
      <p:pic>
        <p:nvPicPr>
          <p:cNvPr id="3414" name="" descr=""/>
          <p:cNvPicPr/>
          <p:nvPr/>
        </p:nvPicPr>
        <p:blipFill>
          <a:blip r:embed="rId16"/>
          <a:stretch/>
        </p:blipFill>
        <p:spPr>
          <a:xfrm>
            <a:off x="4842000" y="2930400"/>
            <a:ext cx="1187280" cy="785880"/>
          </a:xfrm>
          <a:prstGeom prst="rect">
            <a:avLst/>
          </a:prstGeom>
          <a:ln w="0">
            <a:noFill/>
          </a:ln>
        </p:spPr>
      </p:pic>
      <p:pic>
        <p:nvPicPr>
          <p:cNvPr id="3415" name="" descr=""/>
          <p:cNvPicPr/>
          <p:nvPr/>
        </p:nvPicPr>
        <p:blipFill>
          <a:blip r:embed="rId17"/>
          <a:stretch/>
        </p:blipFill>
        <p:spPr>
          <a:xfrm>
            <a:off x="4683240" y="3932280"/>
            <a:ext cx="1174680" cy="772920"/>
          </a:xfrm>
          <a:prstGeom prst="rect">
            <a:avLst/>
          </a:prstGeom>
          <a:ln w="0">
            <a:noFill/>
          </a:ln>
        </p:spPr>
      </p:pic>
      <p:grpSp>
        <p:nvGrpSpPr>
          <p:cNvPr id="3416" name=""/>
          <p:cNvGrpSpPr/>
          <p:nvPr/>
        </p:nvGrpSpPr>
        <p:grpSpPr>
          <a:xfrm>
            <a:off x="7340760" y="4902120"/>
            <a:ext cx="1014120" cy="1217520"/>
            <a:chOff x="7340760" y="4902120"/>
            <a:chExt cx="1014120" cy="1217520"/>
          </a:xfrm>
        </p:grpSpPr>
        <p:sp>
          <p:nvSpPr>
            <p:cNvPr id="3417" name=""/>
            <p:cNvSpPr/>
            <p:nvPr/>
          </p:nvSpPr>
          <p:spPr>
            <a:xfrm>
              <a:off x="8132760" y="4984560"/>
              <a:ext cx="212760" cy="1135080"/>
            </a:xfrm>
            <a:custGeom>
              <a:avLst/>
              <a:gdLst/>
              <a:ahLst/>
              <a:rect l="l" t="t" r="r" b="b"/>
              <a:pathLst>
                <a:path w="2817" h="15028">
                  <a:moveTo>
                    <a:pt x="2817" y="11715"/>
                  </a:moveTo>
                  <a:lnTo>
                    <a:pt x="2817" y="0"/>
                  </a:lnTo>
                  <a:lnTo>
                    <a:pt x="0" y="2823"/>
                  </a:lnTo>
                  <a:lnTo>
                    <a:pt x="0" y="15028"/>
                  </a:lnTo>
                  <a:lnTo>
                    <a:pt x="2817" y="11715"/>
                  </a:lnTo>
                  <a:close/>
                </a:path>
              </a:pathLst>
            </a:custGeom>
            <a:solidFill>
              <a:srgbClr val="7c7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32760" y="4984560"/>
              <a:ext cx="212760" cy="1135080"/>
            </a:xfrm>
            <a:custGeom>
              <a:avLst/>
              <a:gdLst/>
              <a:ahLst/>
              <a:rect l="l" t="t" r="r" b="b"/>
              <a:pathLst>
                <a:path w="2817" h="15028">
                  <a:moveTo>
                    <a:pt x="2817" y="11715"/>
                  </a:moveTo>
                  <a:lnTo>
                    <a:pt x="2817" y="0"/>
                  </a:lnTo>
                  <a:lnTo>
                    <a:pt x="0" y="2823"/>
                  </a:lnTo>
                  <a:lnTo>
                    <a:pt x="0" y="15028"/>
                  </a:lnTo>
                  <a:lnTo>
                    <a:pt x="2817" y="11715"/>
                  </a:lnTo>
                  <a:close/>
                </a:path>
              </a:pathLst>
            </a:custGeom>
            <a:noFill/>
            <a:ln w="1260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359480" y="5197320"/>
              <a:ext cx="768600" cy="922320"/>
            </a:xfrm>
            <a:prstGeom prst="rect">
              <a:avLst/>
            </a:prstGeom>
            <a:solidFill>
              <a:srgbClr val="b7b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7359480" y="5197320"/>
              <a:ext cx="768600" cy="922320"/>
            </a:xfrm>
            <a:prstGeom prst="rect">
              <a:avLst/>
            </a:prstGeom>
            <a:noFill/>
            <a:ln w="1260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346880" y="4908600"/>
              <a:ext cx="1001880" cy="288720"/>
            </a:xfrm>
            <a:custGeom>
              <a:avLst/>
              <a:gdLst/>
              <a:ahLst/>
              <a:rect l="l" t="t" r="r" b="b"/>
              <a:pathLst>
                <a:path w="13249" h="3820">
                  <a:moveTo>
                    <a:pt x="10343" y="3820"/>
                  </a:moveTo>
                  <a:lnTo>
                    <a:pt x="13249" y="961"/>
                  </a:lnTo>
                  <a:lnTo>
                    <a:pt x="11786" y="0"/>
                  </a:lnTo>
                  <a:lnTo>
                    <a:pt x="1894" y="0"/>
                  </a:lnTo>
                  <a:lnTo>
                    <a:pt x="0" y="3820"/>
                  </a:lnTo>
                  <a:lnTo>
                    <a:pt x="10343" y="3820"/>
                  </a:lnTo>
                  <a:close/>
                </a:path>
              </a:pathLst>
            </a:custGeom>
            <a:solidFill>
              <a:srgbClr val="b84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124840" y="4975200"/>
              <a:ext cx="230040" cy="226800"/>
            </a:xfrm>
            <a:custGeom>
              <a:avLst/>
              <a:gdLst/>
              <a:ahLst/>
              <a:rect l="l" t="t" r="r" b="b"/>
              <a:pathLst>
                <a:path w="3050" h="3004">
                  <a:moveTo>
                    <a:pt x="3011" y="16"/>
                  </a:moveTo>
                  <a:lnTo>
                    <a:pt x="2906" y="26"/>
                  </a:lnTo>
                  <a:lnTo>
                    <a:pt x="0" y="2884"/>
                  </a:lnTo>
                  <a:lnTo>
                    <a:pt x="118" y="3004"/>
                  </a:lnTo>
                  <a:lnTo>
                    <a:pt x="3024" y="145"/>
                  </a:lnTo>
                  <a:lnTo>
                    <a:pt x="3011" y="16"/>
                  </a:lnTo>
                  <a:lnTo>
                    <a:pt x="3024" y="145"/>
                  </a:lnTo>
                  <a:lnTo>
                    <a:pt x="3031" y="138"/>
                  </a:lnTo>
                  <a:lnTo>
                    <a:pt x="3036" y="130"/>
                  </a:lnTo>
                  <a:lnTo>
                    <a:pt x="3041" y="122"/>
                  </a:lnTo>
                  <a:lnTo>
                    <a:pt x="3045" y="114"/>
                  </a:lnTo>
                  <a:lnTo>
                    <a:pt x="3047" y="107"/>
                  </a:lnTo>
                  <a:lnTo>
                    <a:pt x="3049" y="98"/>
                  </a:lnTo>
                  <a:lnTo>
                    <a:pt x="3050" y="90"/>
                  </a:lnTo>
                  <a:lnTo>
                    <a:pt x="3050" y="82"/>
                  </a:lnTo>
                  <a:lnTo>
                    <a:pt x="3049" y="74"/>
                  </a:lnTo>
                  <a:lnTo>
                    <a:pt x="3048" y="67"/>
                  </a:lnTo>
                  <a:lnTo>
                    <a:pt x="3045" y="59"/>
                  </a:lnTo>
                  <a:lnTo>
                    <a:pt x="3042" y="52"/>
                  </a:lnTo>
                  <a:lnTo>
                    <a:pt x="3039" y="46"/>
                  </a:lnTo>
                  <a:lnTo>
                    <a:pt x="3035" y="39"/>
                  </a:lnTo>
                  <a:lnTo>
                    <a:pt x="3030" y="33"/>
                  </a:lnTo>
                  <a:lnTo>
                    <a:pt x="3025" y="27"/>
                  </a:lnTo>
                  <a:lnTo>
                    <a:pt x="3019" y="22"/>
                  </a:lnTo>
                  <a:lnTo>
                    <a:pt x="3013" y="17"/>
                  </a:lnTo>
                  <a:lnTo>
                    <a:pt x="3007" y="12"/>
                  </a:lnTo>
                  <a:lnTo>
                    <a:pt x="2999" y="8"/>
                  </a:lnTo>
                  <a:lnTo>
                    <a:pt x="2992" y="5"/>
                  </a:lnTo>
                  <a:lnTo>
                    <a:pt x="2984" y="3"/>
                  </a:lnTo>
                  <a:lnTo>
                    <a:pt x="2977" y="1"/>
                  </a:lnTo>
                  <a:lnTo>
                    <a:pt x="2969" y="0"/>
                  </a:lnTo>
                  <a:lnTo>
                    <a:pt x="2961" y="0"/>
                  </a:lnTo>
                  <a:lnTo>
                    <a:pt x="2954" y="1"/>
                  </a:lnTo>
                  <a:lnTo>
                    <a:pt x="2946" y="2"/>
                  </a:lnTo>
                  <a:lnTo>
                    <a:pt x="2938" y="5"/>
                  </a:lnTo>
                  <a:lnTo>
                    <a:pt x="2930" y="8"/>
                  </a:lnTo>
                  <a:lnTo>
                    <a:pt x="2922" y="13"/>
                  </a:lnTo>
                  <a:lnTo>
                    <a:pt x="2913" y="19"/>
                  </a:lnTo>
                  <a:lnTo>
                    <a:pt x="2906" y="26"/>
                  </a:lnTo>
                  <a:lnTo>
                    <a:pt x="3011" y="16"/>
                  </a:lnTo>
                  <a:close/>
                </a:path>
              </a:pathLst>
            </a:custGeom>
            <a:solidFill>
              <a:srgbClr val="e5a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231040" y="4902120"/>
              <a:ext cx="120960" cy="84240"/>
            </a:xfrm>
            <a:custGeom>
              <a:avLst/>
              <a:gdLst/>
              <a:ahLst/>
              <a:rect l="l" t="t" r="r" b="b"/>
              <a:pathLst>
                <a:path w="1593" h="1116">
                  <a:moveTo>
                    <a:pt x="84" y="1"/>
                  </a:moveTo>
                  <a:lnTo>
                    <a:pt x="38" y="155"/>
                  </a:lnTo>
                  <a:lnTo>
                    <a:pt x="1502" y="1116"/>
                  </a:lnTo>
                  <a:lnTo>
                    <a:pt x="1593" y="977"/>
                  </a:lnTo>
                  <a:lnTo>
                    <a:pt x="130" y="15"/>
                  </a:lnTo>
                  <a:lnTo>
                    <a:pt x="84" y="1"/>
                  </a:lnTo>
                  <a:lnTo>
                    <a:pt x="130" y="15"/>
                  </a:lnTo>
                  <a:lnTo>
                    <a:pt x="122" y="10"/>
                  </a:lnTo>
                  <a:lnTo>
                    <a:pt x="113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8" y="0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3" y="3"/>
                  </a:lnTo>
                  <a:lnTo>
                    <a:pt x="56" y="5"/>
                  </a:lnTo>
                  <a:lnTo>
                    <a:pt x="49" y="8"/>
                  </a:lnTo>
                  <a:lnTo>
                    <a:pt x="42" y="12"/>
                  </a:lnTo>
                  <a:lnTo>
                    <a:pt x="36" y="16"/>
                  </a:lnTo>
                  <a:lnTo>
                    <a:pt x="30" y="21"/>
                  </a:lnTo>
                  <a:lnTo>
                    <a:pt x="24" y="27"/>
                  </a:lnTo>
                  <a:lnTo>
                    <a:pt x="19" y="32"/>
                  </a:lnTo>
                  <a:lnTo>
                    <a:pt x="15" y="39"/>
                  </a:lnTo>
                  <a:lnTo>
                    <a:pt x="11" y="46"/>
                  </a:lnTo>
                  <a:lnTo>
                    <a:pt x="7" y="53"/>
                  </a:lnTo>
                  <a:lnTo>
                    <a:pt x="5" y="60"/>
                  </a:lnTo>
                  <a:lnTo>
                    <a:pt x="2" y="68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2" y="106"/>
                  </a:lnTo>
                  <a:lnTo>
                    <a:pt x="5" y="114"/>
                  </a:lnTo>
                  <a:lnTo>
                    <a:pt x="8" y="121"/>
                  </a:lnTo>
                  <a:lnTo>
                    <a:pt x="12" y="129"/>
                  </a:lnTo>
                  <a:lnTo>
                    <a:pt x="17" y="136"/>
                  </a:lnTo>
                  <a:lnTo>
                    <a:pt x="23" y="143"/>
                  </a:lnTo>
                  <a:lnTo>
                    <a:pt x="30" y="149"/>
                  </a:lnTo>
                  <a:lnTo>
                    <a:pt x="38" y="155"/>
                  </a:lnTo>
                  <a:lnTo>
                    <a:pt x="84" y="1"/>
                  </a:lnTo>
                  <a:close/>
                </a:path>
              </a:pathLst>
            </a:custGeom>
            <a:solidFill>
              <a:srgbClr val="e5a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483320" y="4902120"/>
              <a:ext cx="754200" cy="12600"/>
            </a:xfrm>
            <a:custGeom>
              <a:avLst/>
              <a:gdLst/>
              <a:ahLst/>
              <a:rect l="l" t="t" r="r" b="b"/>
              <a:pathLst>
                <a:path w="9976" h="168">
                  <a:moveTo>
                    <a:pt x="10" y="47"/>
                  </a:moveTo>
                  <a:lnTo>
                    <a:pt x="84" y="168"/>
                  </a:lnTo>
                  <a:lnTo>
                    <a:pt x="9976" y="168"/>
                  </a:lnTo>
                  <a:lnTo>
                    <a:pt x="9976" y="0"/>
                  </a:lnTo>
                  <a:lnTo>
                    <a:pt x="84" y="0"/>
                  </a:lnTo>
                  <a:lnTo>
                    <a:pt x="10" y="47"/>
                  </a:lnTo>
                  <a:lnTo>
                    <a:pt x="84" y="0"/>
                  </a:lnTo>
                  <a:lnTo>
                    <a:pt x="74" y="1"/>
                  </a:lnTo>
                  <a:lnTo>
                    <a:pt x="65" y="2"/>
                  </a:lnTo>
                  <a:lnTo>
                    <a:pt x="56" y="4"/>
                  </a:lnTo>
                  <a:lnTo>
                    <a:pt x="48" y="7"/>
                  </a:lnTo>
                  <a:lnTo>
                    <a:pt x="40" y="11"/>
                  </a:lnTo>
                  <a:lnTo>
                    <a:pt x="34" y="15"/>
                  </a:lnTo>
                  <a:lnTo>
                    <a:pt x="28" y="20"/>
                  </a:lnTo>
                  <a:lnTo>
                    <a:pt x="22" y="26"/>
                  </a:lnTo>
                  <a:lnTo>
                    <a:pt x="17" y="32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7" y="53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2" y="99"/>
                  </a:lnTo>
                  <a:lnTo>
                    <a:pt x="4" y="107"/>
                  </a:lnTo>
                  <a:lnTo>
                    <a:pt x="7" y="114"/>
                  </a:lnTo>
                  <a:lnTo>
                    <a:pt x="9" y="122"/>
                  </a:lnTo>
                  <a:lnTo>
                    <a:pt x="13" y="129"/>
                  </a:lnTo>
                  <a:lnTo>
                    <a:pt x="17" y="136"/>
                  </a:lnTo>
                  <a:lnTo>
                    <a:pt x="22" y="142"/>
                  </a:lnTo>
                  <a:lnTo>
                    <a:pt x="28" y="148"/>
                  </a:lnTo>
                  <a:lnTo>
                    <a:pt x="34" y="153"/>
                  </a:lnTo>
                  <a:lnTo>
                    <a:pt x="40" y="157"/>
                  </a:lnTo>
                  <a:lnTo>
                    <a:pt x="48" y="161"/>
                  </a:lnTo>
                  <a:lnTo>
                    <a:pt x="56" y="164"/>
                  </a:lnTo>
                  <a:lnTo>
                    <a:pt x="65" y="166"/>
                  </a:lnTo>
                  <a:lnTo>
                    <a:pt x="74" y="167"/>
                  </a:lnTo>
                  <a:lnTo>
                    <a:pt x="84" y="168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e5a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340760" y="4905360"/>
              <a:ext cx="155520" cy="298440"/>
            </a:xfrm>
            <a:custGeom>
              <a:avLst/>
              <a:gdLst/>
              <a:ahLst/>
              <a:rect l="l" t="t" r="r" b="b"/>
              <a:pathLst>
                <a:path w="2054" h="3942">
                  <a:moveTo>
                    <a:pt x="85" y="3941"/>
                  </a:moveTo>
                  <a:lnTo>
                    <a:pt x="160" y="3893"/>
                  </a:lnTo>
                  <a:lnTo>
                    <a:pt x="2054" y="74"/>
                  </a:lnTo>
                  <a:lnTo>
                    <a:pt x="1905" y="0"/>
                  </a:lnTo>
                  <a:lnTo>
                    <a:pt x="10" y="3820"/>
                  </a:lnTo>
                  <a:lnTo>
                    <a:pt x="85" y="3941"/>
                  </a:lnTo>
                  <a:lnTo>
                    <a:pt x="10" y="3820"/>
                  </a:lnTo>
                  <a:lnTo>
                    <a:pt x="6" y="3829"/>
                  </a:lnTo>
                  <a:lnTo>
                    <a:pt x="3" y="3838"/>
                  </a:lnTo>
                  <a:lnTo>
                    <a:pt x="1" y="3847"/>
                  </a:lnTo>
                  <a:lnTo>
                    <a:pt x="0" y="3856"/>
                  </a:lnTo>
                  <a:lnTo>
                    <a:pt x="0" y="3864"/>
                  </a:lnTo>
                  <a:lnTo>
                    <a:pt x="1" y="3872"/>
                  </a:lnTo>
                  <a:lnTo>
                    <a:pt x="3" y="3880"/>
                  </a:lnTo>
                  <a:lnTo>
                    <a:pt x="5" y="3887"/>
                  </a:lnTo>
                  <a:lnTo>
                    <a:pt x="9" y="3895"/>
                  </a:lnTo>
                  <a:lnTo>
                    <a:pt x="13" y="3902"/>
                  </a:lnTo>
                  <a:lnTo>
                    <a:pt x="17" y="3908"/>
                  </a:lnTo>
                  <a:lnTo>
                    <a:pt x="22" y="3914"/>
                  </a:lnTo>
                  <a:lnTo>
                    <a:pt x="28" y="3919"/>
                  </a:lnTo>
                  <a:lnTo>
                    <a:pt x="34" y="3924"/>
                  </a:lnTo>
                  <a:lnTo>
                    <a:pt x="40" y="3928"/>
                  </a:lnTo>
                  <a:lnTo>
                    <a:pt x="48" y="3932"/>
                  </a:lnTo>
                  <a:lnTo>
                    <a:pt x="55" y="3935"/>
                  </a:lnTo>
                  <a:lnTo>
                    <a:pt x="63" y="3938"/>
                  </a:lnTo>
                  <a:lnTo>
                    <a:pt x="70" y="3940"/>
                  </a:lnTo>
                  <a:lnTo>
                    <a:pt x="78" y="3941"/>
                  </a:lnTo>
                  <a:lnTo>
                    <a:pt x="85" y="3942"/>
                  </a:lnTo>
                  <a:lnTo>
                    <a:pt x="93" y="3941"/>
                  </a:lnTo>
                  <a:lnTo>
                    <a:pt x="101" y="3940"/>
                  </a:lnTo>
                  <a:lnTo>
                    <a:pt x="108" y="3939"/>
                  </a:lnTo>
                  <a:lnTo>
                    <a:pt x="116" y="3936"/>
                  </a:lnTo>
                  <a:lnTo>
                    <a:pt x="123" y="3933"/>
                  </a:lnTo>
                  <a:lnTo>
                    <a:pt x="130" y="3929"/>
                  </a:lnTo>
                  <a:lnTo>
                    <a:pt x="138" y="3924"/>
                  </a:lnTo>
                  <a:lnTo>
                    <a:pt x="144" y="3918"/>
                  </a:lnTo>
                  <a:lnTo>
                    <a:pt x="150" y="3911"/>
                  </a:lnTo>
                  <a:lnTo>
                    <a:pt x="155" y="3903"/>
                  </a:lnTo>
                  <a:lnTo>
                    <a:pt x="160" y="3893"/>
                  </a:lnTo>
                  <a:lnTo>
                    <a:pt x="85" y="3941"/>
                  </a:lnTo>
                  <a:close/>
                </a:path>
              </a:pathLst>
            </a:custGeom>
            <a:solidFill>
              <a:srgbClr val="e5a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346880" y="5191200"/>
              <a:ext cx="789120" cy="12600"/>
            </a:xfrm>
            <a:custGeom>
              <a:avLst/>
              <a:gdLst/>
              <a:ahLst/>
              <a:rect l="l" t="t" r="r" b="b"/>
              <a:pathLst>
                <a:path w="10427" h="168">
                  <a:moveTo>
                    <a:pt x="10402" y="144"/>
                  </a:moveTo>
                  <a:lnTo>
                    <a:pt x="10343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10343" y="168"/>
                  </a:lnTo>
                  <a:lnTo>
                    <a:pt x="10402" y="144"/>
                  </a:lnTo>
                  <a:lnTo>
                    <a:pt x="10343" y="168"/>
                  </a:lnTo>
                  <a:lnTo>
                    <a:pt x="10353" y="167"/>
                  </a:lnTo>
                  <a:lnTo>
                    <a:pt x="10363" y="166"/>
                  </a:lnTo>
                  <a:lnTo>
                    <a:pt x="10371" y="164"/>
                  </a:lnTo>
                  <a:lnTo>
                    <a:pt x="10380" y="161"/>
                  </a:lnTo>
                  <a:lnTo>
                    <a:pt x="10388" y="157"/>
                  </a:lnTo>
                  <a:lnTo>
                    <a:pt x="10395" y="152"/>
                  </a:lnTo>
                  <a:lnTo>
                    <a:pt x="10401" y="147"/>
                  </a:lnTo>
                  <a:lnTo>
                    <a:pt x="10406" y="142"/>
                  </a:lnTo>
                  <a:lnTo>
                    <a:pt x="10411" y="136"/>
                  </a:lnTo>
                  <a:lnTo>
                    <a:pt x="10415" y="129"/>
                  </a:lnTo>
                  <a:lnTo>
                    <a:pt x="10419" y="123"/>
                  </a:lnTo>
                  <a:lnTo>
                    <a:pt x="10422" y="114"/>
                  </a:lnTo>
                  <a:lnTo>
                    <a:pt x="10424" y="107"/>
                  </a:lnTo>
                  <a:lnTo>
                    <a:pt x="10426" y="99"/>
                  </a:lnTo>
                  <a:lnTo>
                    <a:pt x="10427" y="92"/>
                  </a:lnTo>
                  <a:lnTo>
                    <a:pt x="10427" y="84"/>
                  </a:lnTo>
                  <a:lnTo>
                    <a:pt x="10427" y="76"/>
                  </a:lnTo>
                  <a:lnTo>
                    <a:pt x="10426" y="68"/>
                  </a:lnTo>
                  <a:lnTo>
                    <a:pt x="10424" y="61"/>
                  </a:lnTo>
                  <a:lnTo>
                    <a:pt x="10422" y="53"/>
                  </a:lnTo>
                  <a:lnTo>
                    <a:pt x="10419" y="46"/>
                  </a:lnTo>
                  <a:lnTo>
                    <a:pt x="10415" y="39"/>
                  </a:lnTo>
                  <a:lnTo>
                    <a:pt x="10411" y="32"/>
                  </a:lnTo>
                  <a:lnTo>
                    <a:pt x="10406" y="26"/>
                  </a:lnTo>
                  <a:lnTo>
                    <a:pt x="10401" y="20"/>
                  </a:lnTo>
                  <a:lnTo>
                    <a:pt x="10395" y="15"/>
                  </a:lnTo>
                  <a:lnTo>
                    <a:pt x="10388" y="11"/>
                  </a:lnTo>
                  <a:lnTo>
                    <a:pt x="10380" y="7"/>
                  </a:lnTo>
                  <a:lnTo>
                    <a:pt x="10371" y="4"/>
                  </a:lnTo>
                  <a:lnTo>
                    <a:pt x="10363" y="2"/>
                  </a:lnTo>
                  <a:lnTo>
                    <a:pt x="10353" y="0"/>
                  </a:lnTo>
                  <a:lnTo>
                    <a:pt x="10343" y="0"/>
                  </a:lnTo>
                  <a:lnTo>
                    <a:pt x="10402" y="144"/>
                  </a:lnTo>
                  <a:close/>
                </a:path>
              </a:pathLst>
            </a:custGeom>
            <a:solidFill>
              <a:srgbClr val="e5a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7523280" y="5541840"/>
              <a:ext cx="82440" cy="81000"/>
            </a:xfrm>
            <a:custGeom>
              <a:avLst/>
              <a:gdLst/>
              <a:ahLst/>
              <a:rect l="l" t="t" r="r" b="b"/>
              <a:pathLst>
                <a:path w="1100" h="1065">
                  <a:moveTo>
                    <a:pt x="0" y="0"/>
                  </a:moveTo>
                  <a:lnTo>
                    <a:pt x="0" y="1065"/>
                  </a:lnTo>
                  <a:lnTo>
                    <a:pt x="1100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7516800" y="56228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7410600" y="5541840"/>
              <a:ext cx="83880" cy="81000"/>
            </a:xfrm>
            <a:custGeom>
              <a:avLst/>
              <a:gdLst/>
              <a:ahLst/>
              <a:rect l="l" t="t" r="r" b="b"/>
              <a:pathLst>
                <a:path w="1110" h="1065">
                  <a:moveTo>
                    <a:pt x="0" y="0"/>
                  </a:moveTo>
                  <a:lnTo>
                    <a:pt x="0" y="1065"/>
                  </a:lnTo>
                  <a:lnTo>
                    <a:pt x="1110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7405560" y="56228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7408800" y="5387760"/>
              <a:ext cx="85680" cy="81000"/>
            </a:xfrm>
            <a:custGeom>
              <a:avLst/>
              <a:gdLst/>
              <a:ahLst/>
              <a:rect l="l" t="t" r="r" b="b"/>
              <a:pathLst>
                <a:path w="1123" h="1065">
                  <a:moveTo>
                    <a:pt x="0" y="0"/>
                  </a:moveTo>
                  <a:lnTo>
                    <a:pt x="0" y="1065"/>
                  </a:lnTo>
                  <a:lnTo>
                    <a:pt x="1123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7405560" y="5468760"/>
              <a:ext cx="88920" cy="180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7521480" y="5234040"/>
              <a:ext cx="84240" cy="79200"/>
            </a:xfrm>
            <a:custGeom>
              <a:avLst/>
              <a:gdLst/>
              <a:ahLst/>
              <a:rect l="l" t="t" r="r" b="b"/>
              <a:pathLst>
                <a:path w="1112" h="1065">
                  <a:moveTo>
                    <a:pt x="0" y="0"/>
                  </a:moveTo>
                  <a:lnTo>
                    <a:pt x="0" y="1065"/>
                  </a:lnTo>
                  <a:lnTo>
                    <a:pt x="1112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516800" y="53132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408800" y="5234040"/>
              <a:ext cx="85680" cy="79200"/>
            </a:xfrm>
            <a:custGeom>
              <a:avLst/>
              <a:gdLst/>
              <a:ahLst/>
              <a:rect l="l" t="t" r="r" b="b"/>
              <a:pathLst>
                <a:path w="1135" h="1065">
                  <a:moveTo>
                    <a:pt x="0" y="0"/>
                  </a:moveTo>
                  <a:lnTo>
                    <a:pt x="0" y="1065"/>
                  </a:lnTo>
                  <a:lnTo>
                    <a:pt x="1135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405560" y="53132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651800" y="5541840"/>
              <a:ext cx="85680" cy="81000"/>
            </a:xfrm>
            <a:custGeom>
              <a:avLst/>
              <a:gdLst/>
              <a:ahLst/>
              <a:rect l="l" t="t" r="r" b="b"/>
              <a:pathLst>
                <a:path w="1127" h="1065">
                  <a:moveTo>
                    <a:pt x="0" y="0"/>
                  </a:moveTo>
                  <a:lnTo>
                    <a:pt x="0" y="1065"/>
                  </a:lnTo>
                  <a:lnTo>
                    <a:pt x="1127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648560" y="56228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653240" y="5387760"/>
              <a:ext cx="84240" cy="81000"/>
            </a:xfrm>
            <a:custGeom>
              <a:avLst/>
              <a:gdLst/>
              <a:ahLst/>
              <a:rect l="l" t="t" r="r" b="b"/>
              <a:pathLst>
                <a:path w="1105" h="1065">
                  <a:moveTo>
                    <a:pt x="0" y="0"/>
                  </a:moveTo>
                  <a:lnTo>
                    <a:pt x="0" y="1065"/>
                  </a:lnTo>
                  <a:lnTo>
                    <a:pt x="1105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648560" y="5468760"/>
              <a:ext cx="88920" cy="180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651800" y="5234040"/>
              <a:ext cx="85680" cy="79200"/>
            </a:xfrm>
            <a:custGeom>
              <a:avLst/>
              <a:gdLst/>
              <a:ahLst/>
              <a:rect l="l" t="t" r="r" b="b"/>
              <a:pathLst>
                <a:path w="1121" h="1065">
                  <a:moveTo>
                    <a:pt x="0" y="0"/>
                  </a:moveTo>
                  <a:lnTo>
                    <a:pt x="0" y="1065"/>
                  </a:lnTo>
                  <a:lnTo>
                    <a:pt x="1121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648560" y="53132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886880" y="5541840"/>
              <a:ext cx="83880" cy="81000"/>
            </a:xfrm>
            <a:custGeom>
              <a:avLst/>
              <a:gdLst/>
              <a:ahLst/>
              <a:rect l="l" t="t" r="r" b="b"/>
              <a:pathLst>
                <a:path w="1110" h="1065">
                  <a:moveTo>
                    <a:pt x="0" y="0"/>
                  </a:moveTo>
                  <a:lnTo>
                    <a:pt x="0" y="1065"/>
                  </a:lnTo>
                  <a:lnTo>
                    <a:pt x="1110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881840" y="56228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773840" y="5541840"/>
              <a:ext cx="84240" cy="81000"/>
            </a:xfrm>
            <a:custGeom>
              <a:avLst/>
              <a:gdLst/>
              <a:ahLst/>
              <a:rect l="l" t="t" r="r" b="b"/>
              <a:pathLst>
                <a:path w="1123" h="1065">
                  <a:moveTo>
                    <a:pt x="0" y="0"/>
                  </a:moveTo>
                  <a:lnTo>
                    <a:pt x="0" y="1065"/>
                  </a:lnTo>
                  <a:lnTo>
                    <a:pt x="1123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769160" y="56228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773840" y="5387760"/>
              <a:ext cx="84240" cy="81000"/>
            </a:xfrm>
            <a:custGeom>
              <a:avLst/>
              <a:gdLst/>
              <a:ahLst/>
              <a:rect l="l" t="t" r="r" b="b"/>
              <a:pathLst>
                <a:path w="1112" h="1065">
                  <a:moveTo>
                    <a:pt x="0" y="0"/>
                  </a:moveTo>
                  <a:lnTo>
                    <a:pt x="0" y="1065"/>
                  </a:lnTo>
                  <a:lnTo>
                    <a:pt x="1112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769160" y="5468760"/>
              <a:ext cx="88920" cy="180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886880" y="5234040"/>
              <a:ext cx="83880" cy="79200"/>
            </a:xfrm>
            <a:custGeom>
              <a:avLst/>
              <a:gdLst/>
              <a:ahLst/>
              <a:rect l="l" t="t" r="r" b="b"/>
              <a:pathLst>
                <a:path w="1110" h="1065">
                  <a:moveTo>
                    <a:pt x="0" y="0"/>
                  </a:moveTo>
                  <a:lnTo>
                    <a:pt x="0" y="1065"/>
                  </a:lnTo>
                  <a:lnTo>
                    <a:pt x="1110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881840" y="53132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772400" y="5234040"/>
              <a:ext cx="85680" cy="79200"/>
            </a:xfrm>
            <a:custGeom>
              <a:avLst/>
              <a:gdLst/>
              <a:ahLst/>
              <a:rect l="l" t="t" r="r" b="b"/>
              <a:pathLst>
                <a:path w="1145" h="1065">
                  <a:moveTo>
                    <a:pt x="0" y="0"/>
                  </a:moveTo>
                  <a:lnTo>
                    <a:pt x="0" y="1065"/>
                  </a:lnTo>
                  <a:lnTo>
                    <a:pt x="1145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769160" y="53132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16840" y="5541840"/>
              <a:ext cx="84240" cy="81000"/>
            </a:xfrm>
            <a:custGeom>
              <a:avLst/>
              <a:gdLst/>
              <a:ahLst/>
              <a:rect l="l" t="t" r="r" b="b"/>
              <a:pathLst>
                <a:path w="1117" h="1065">
                  <a:moveTo>
                    <a:pt x="0" y="0"/>
                  </a:moveTo>
                  <a:lnTo>
                    <a:pt x="0" y="1065"/>
                  </a:lnTo>
                  <a:lnTo>
                    <a:pt x="1117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012160" y="56228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016840" y="5387760"/>
              <a:ext cx="84240" cy="81000"/>
            </a:xfrm>
            <a:custGeom>
              <a:avLst/>
              <a:gdLst/>
              <a:ahLst/>
              <a:rect l="l" t="t" r="r" b="b"/>
              <a:pathLst>
                <a:path w="1128" h="1065">
                  <a:moveTo>
                    <a:pt x="0" y="0"/>
                  </a:moveTo>
                  <a:lnTo>
                    <a:pt x="0" y="1065"/>
                  </a:lnTo>
                  <a:lnTo>
                    <a:pt x="1128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012160" y="5468760"/>
              <a:ext cx="88920" cy="180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015400" y="5234040"/>
              <a:ext cx="85680" cy="79200"/>
            </a:xfrm>
            <a:custGeom>
              <a:avLst/>
              <a:gdLst/>
              <a:ahLst/>
              <a:rect l="l" t="t" r="r" b="b"/>
              <a:pathLst>
                <a:path w="1133" h="1065">
                  <a:moveTo>
                    <a:pt x="0" y="0"/>
                  </a:moveTo>
                  <a:lnTo>
                    <a:pt x="0" y="1065"/>
                  </a:lnTo>
                  <a:lnTo>
                    <a:pt x="1133" y="1065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012160" y="5313240"/>
              <a:ext cx="88920" cy="1440"/>
            </a:xfrm>
            <a:prstGeom prst="line">
              <a:avLst/>
            </a:prstGeom>
            <a:ln w="1116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251920" y="5100480"/>
              <a:ext cx="50760" cy="139680"/>
            </a:xfrm>
            <a:custGeom>
              <a:avLst/>
              <a:gdLst/>
              <a:ahLst/>
              <a:rect l="l" t="t" r="r" b="b"/>
              <a:pathLst>
                <a:path w="679" h="1838">
                  <a:moveTo>
                    <a:pt x="679" y="0"/>
                  </a:moveTo>
                  <a:lnTo>
                    <a:pt x="679" y="1210"/>
                  </a:lnTo>
                  <a:lnTo>
                    <a:pt x="0" y="1838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251920" y="5418000"/>
              <a:ext cx="50760" cy="138240"/>
            </a:xfrm>
            <a:custGeom>
              <a:avLst/>
              <a:gdLst/>
              <a:ahLst/>
              <a:rect l="l" t="t" r="r" b="b"/>
              <a:pathLst>
                <a:path w="679" h="1838">
                  <a:moveTo>
                    <a:pt x="679" y="0"/>
                  </a:moveTo>
                  <a:lnTo>
                    <a:pt x="679" y="1210"/>
                  </a:lnTo>
                  <a:lnTo>
                    <a:pt x="0" y="1838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8166240" y="5491080"/>
              <a:ext cx="50760" cy="139680"/>
            </a:xfrm>
            <a:custGeom>
              <a:avLst/>
              <a:gdLst/>
              <a:ahLst/>
              <a:rect l="l" t="t" r="r" b="b"/>
              <a:pathLst>
                <a:path w="678" h="1838">
                  <a:moveTo>
                    <a:pt x="678" y="0"/>
                  </a:moveTo>
                  <a:lnTo>
                    <a:pt x="678" y="1209"/>
                  </a:lnTo>
                  <a:lnTo>
                    <a:pt x="0" y="1838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8166240" y="5173560"/>
              <a:ext cx="50760" cy="139680"/>
            </a:xfrm>
            <a:custGeom>
              <a:avLst/>
              <a:gdLst/>
              <a:ahLst/>
              <a:rect l="l" t="t" r="r" b="b"/>
              <a:pathLst>
                <a:path w="678" h="1838">
                  <a:moveTo>
                    <a:pt x="678" y="0"/>
                  </a:moveTo>
                  <a:lnTo>
                    <a:pt x="678" y="1211"/>
                  </a:lnTo>
                  <a:lnTo>
                    <a:pt x="0" y="1838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8126280" y="4906800"/>
              <a:ext cx="122400" cy="292320"/>
            </a:xfrm>
            <a:custGeom>
              <a:avLst/>
              <a:gdLst/>
              <a:ahLst/>
              <a:rect l="l" t="t" r="r" b="b"/>
              <a:pathLst>
                <a:path w="1609" h="3864">
                  <a:moveTo>
                    <a:pt x="157" y="3864"/>
                  </a:moveTo>
                  <a:lnTo>
                    <a:pt x="1609" y="60"/>
                  </a:lnTo>
                  <a:lnTo>
                    <a:pt x="1452" y="0"/>
                  </a:lnTo>
                  <a:lnTo>
                    <a:pt x="0" y="3805"/>
                  </a:lnTo>
                  <a:lnTo>
                    <a:pt x="157" y="3864"/>
                  </a:lnTo>
                  <a:close/>
                </a:path>
              </a:pathLst>
            </a:custGeom>
            <a:solidFill>
              <a:srgbClr val="e5a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667640" y="5878440"/>
              <a:ext cx="152280" cy="236520"/>
            </a:xfrm>
            <a:custGeom>
              <a:avLst/>
              <a:gdLst/>
              <a:ahLst/>
              <a:rect l="l" t="t" r="r" b="b"/>
              <a:pathLst>
                <a:path w="2013" h="3141">
                  <a:moveTo>
                    <a:pt x="0" y="3086"/>
                  </a:moveTo>
                  <a:lnTo>
                    <a:pt x="0" y="0"/>
                  </a:lnTo>
                  <a:lnTo>
                    <a:pt x="2013" y="0"/>
                  </a:lnTo>
                  <a:lnTo>
                    <a:pt x="2013" y="3141"/>
                  </a:lnTo>
                </a:path>
              </a:pathLst>
            </a:custGeom>
            <a:noFill/>
            <a:ln w="111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5" name=""/>
          <p:cNvSpPr/>
          <p:nvPr/>
        </p:nvSpPr>
        <p:spPr>
          <a:xfrm>
            <a:off x="8331120" y="5283360"/>
            <a:ext cx="68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Peop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3467" name="" descr=""/>
          <p:cNvPicPr/>
          <p:nvPr/>
        </p:nvPicPr>
        <p:blipFill>
          <a:blip r:embed="rId1"/>
          <a:stretch/>
        </p:blipFill>
        <p:spPr>
          <a:xfrm>
            <a:off x="542880" y="1473120"/>
            <a:ext cx="785880" cy="2606760"/>
          </a:xfrm>
          <a:prstGeom prst="rect">
            <a:avLst/>
          </a:prstGeom>
          <a:ln w="0">
            <a:noFill/>
          </a:ln>
        </p:spPr>
      </p:pic>
      <p:sp>
        <p:nvSpPr>
          <p:cNvPr id="3468" name=""/>
          <p:cNvSpPr/>
          <p:nvPr/>
        </p:nvSpPr>
        <p:spPr>
          <a:xfrm>
            <a:off x="336600" y="4168800"/>
            <a:ext cx="12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1536840" y="4168800"/>
            <a:ext cx="119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0" name="" descr=""/>
          <p:cNvPicPr/>
          <p:nvPr/>
        </p:nvPicPr>
        <p:blipFill>
          <a:blip r:embed="rId2"/>
          <a:stretch/>
        </p:blipFill>
        <p:spPr>
          <a:xfrm>
            <a:off x="506088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3471" name="" descr=""/>
          <p:cNvPicPr/>
          <p:nvPr/>
        </p:nvPicPr>
        <p:blipFill>
          <a:blip r:embed="rId3"/>
          <a:stretch/>
        </p:blipFill>
        <p:spPr>
          <a:xfrm>
            <a:off x="420372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3472" name="" descr=""/>
          <p:cNvPicPr/>
          <p:nvPr/>
        </p:nvPicPr>
        <p:blipFill>
          <a:blip r:embed="rId4"/>
          <a:stretch/>
        </p:blipFill>
        <p:spPr>
          <a:xfrm>
            <a:off x="3346560" y="3260880"/>
            <a:ext cx="511200" cy="907920"/>
          </a:xfrm>
          <a:prstGeom prst="rect">
            <a:avLst/>
          </a:prstGeom>
          <a:ln w="0">
            <a:noFill/>
          </a:ln>
        </p:spPr>
      </p:pic>
      <p:pic>
        <p:nvPicPr>
          <p:cNvPr id="3473" name="" descr=""/>
          <p:cNvPicPr/>
          <p:nvPr/>
        </p:nvPicPr>
        <p:blipFill>
          <a:blip r:embed="rId5"/>
          <a:stretch/>
        </p:blipFill>
        <p:spPr>
          <a:xfrm>
            <a:off x="3354480" y="1808280"/>
            <a:ext cx="495360" cy="917280"/>
          </a:xfrm>
          <a:prstGeom prst="rect">
            <a:avLst/>
          </a:prstGeom>
          <a:ln w="0">
            <a:noFill/>
          </a:ln>
        </p:spPr>
      </p:pic>
      <p:pic>
        <p:nvPicPr>
          <p:cNvPr id="3474" name="" descr=""/>
          <p:cNvPicPr/>
          <p:nvPr/>
        </p:nvPicPr>
        <p:blipFill>
          <a:blip r:embed="rId6"/>
          <a:stretch/>
        </p:blipFill>
        <p:spPr>
          <a:xfrm>
            <a:off x="4211640" y="1808280"/>
            <a:ext cx="493560" cy="917280"/>
          </a:xfrm>
          <a:prstGeom prst="rect">
            <a:avLst/>
          </a:prstGeom>
          <a:ln w="0">
            <a:noFill/>
          </a:ln>
        </p:spPr>
      </p:pic>
      <p:pic>
        <p:nvPicPr>
          <p:cNvPr id="3475" name="" descr=""/>
          <p:cNvPicPr/>
          <p:nvPr/>
        </p:nvPicPr>
        <p:blipFill>
          <a:blip r:embed="rId7"/>
          <a:stretch/>
        </p:blipFill>
        <p:spPr>
          <a:xfrm>
            <a:off x="4983120" y="1808280"/>
            <a:ext cx="493920" cy="917280"/>
          </a:xfrm>
          <a:prstGeom prst="rect">
            <a:avLst/>
          </a:prstGeom>
          <a:ln w="0">
            <a:noFill/>
          </a:ln>
        </p:spPr>
      </p:pic>
      <p:sp>
        <p:nvSpPr>
          <p:cNvPr id="3476" name=""/>
          <p:cNvSpPr/>
          <p:nvPr/>
        </p:nvSpPr>
        <p:spPr>
          <a:xfrm>
            <a:off x="2944800" y="280836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mbol Woman, Various Col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2944800" y="4265640"/>
            <a:ext cx="2914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mbol Man, Various Col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1447920" y="5823000"/>
            <a:ext cx="1457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nning Man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lor 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2835360" y="5823000"/>
            <a:ext cx="202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nning Wo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0" name="" descr=""/>
          <p:cNvPicPr/>
          <p:nvPr/>
        </p:nvPicPr>
        <p:blipFill>
          <a:blip r:embed="rId8"/>
          <a:stretch/>
        </p:blipFill>
        <p:spPr>
          <a:xfrm>
            <a:off x="3487680" y="4921200"/>
            <a:ext cx="720720" cy="881280"/>
          </a:xfrm>
          <a:prstGeom prst="rect">
            <a:avLst/>
          </a:prstGeom>
          <a:ln w="0">
            <a:noFill/>
          </a:ln>
        </p:spPr>
      </p:pic>
      <p:sp>
        <p:nvSpPr>
          <p:cNvPr id="3481" name=""/>
          <p:cNvSpPr/>
          <p:nvPr/>
        </p:nvSpPr>
        <p:spPr>
          <a:xfrm>
            <a:off x="6019920" y="5823000"/>
            <a:ext cx="1469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d User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Wo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7429680" y="4276800"/>
            <a:ext cx="1714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d-User Female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5842080" y="4276800"/>
            <a:ext cx="1760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d-User Male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4" name="" descr=""/>
          <p:cNvPicPr/>
          <p:nvPr/>
        </p:nvPicPr>
        <p:blipFill>
          <a:blip r:embed="rId9"/>
          <a:stretch/>
        </p:blipFill>
        <p:spPr>
          <a:xfrm>
            <a:off x="2241720" y="4921200"/>
            <a:ext cx="693720" cy="873000"/>
          </a:xfrm>
          <a:prstGeom prst="rect">
            <a:avLst/>
          </a:prstGeom>
          <a:ln w="0">
            <a:noFill/>
          </a:ln>
        </p:spPr>
      </p:pic>
      <p:pic>
        <p:nvPicPr>
          <p:cNvPr id="3485" name="" descr=""/>
          <p:cNvPicPr/>
          <p:nvPr/>
        </p:nvPicPr>
        <p:blipFill>
          <a:blip r:embed="rId10"/>
          <a:stretch/>
        </p:blipFill>
        <p:spPr>
          <a:xfrm>
            <a:off x="1528920" y="4921200"/>
            <a:ext cx="693720" cy="873000"/>
          </a:xfrm>
          <a:prstGeom prst="rect">
            <a:avLst/>
          </a:prstGeom>
          <a:ln w="0">
            <a:noFill/>
          </a:ln>
        </p:spPr>
      </p:pic>
      <p:pic>
        <p:nvPicPr>
          <p:cNvPr id="3486" name="" descr=""/>
          <p:cNvPicPr/>
          <p:nvPr/>
        </p:nvPicPr>
        <p:blipFill>
          <a:blip r:embed="rId11"/>
          <a:stretch/>
        </p:blipFill>
        <p:spPr>
          <a:xfrm>
            <a:off x="6248520" y="1752480"/>
            <a:ext cx="852480" cy="1219320"/>
          </a:xfrm>
          <a:prstGeom prst="rect">
            <a:avLst/>
          </a:prstGeom>
          <a:ln w="0">
            <a:noFill/>
          </a:ln>
        </p:spPr>
      </p:pic>
      <p:pic>
        <p:nvPicPr>
          <p:cNvPr id="3487" name="" descr=""/>
          <p:cNvPicPr/>
          <p:nvPr/>
        </p:nvPicPr>
        <p:blipFill>
          <a:blip r:embed="rId12"/>
          <a:stretch/>
        </p:blipFill>
        <p:spPr>
          <a:xfrm>
            <a:off x="1722600" y="1523880"/>
            <a:ext cx="715680" cy="2514600"/>
          </a:xfrm>
          <a:prstGeom prst="rect">
            <a:avLst/>
          </a:prstGeom>
          <a:ln w="0">
            <a:noFill/>
          </a:ln>
        </p:spPr>
      </p:pic>
      <p:pic>
        <p:nvPicPr>
          <p:cNvPr id="3488" name="" descr=""/>
          <p:cNvPicPr/>
          <p:nvPr/>
        </p:nvPicPr>
        <p:blipFill>
          <a:blip r:embed="rId13"/>
          <a:stretch/>
        </p:blipFill>
        <p:spPr>
          <a:xfrm>
            <a:off x="7924680" y="1752480"/>
            <a:ext cx="770040" cy="1219320"/>
          </a:xfrm>
          <a:prstGeom prst="rect">
            <a:avLst/>
          </a:prstGeom>
          <a:ln w="0">
            <a:noFill/>
          </a:ln>
        </p:spPr>
      </p:pic>
      <p:pic>
        <p:nvPicPr>
          <p:cNvPr id="3489" name="" descr=""/>
          <p:cNvPicPr/>
          <p:nvPr/>
        </p:nvPicPr>
        <p:blipFill>
          <a:blip r:embed="rId14"/>
          <a:stretch/>
        </p:blipFill>
        <p:spPr>
          <a:xfrm>
            <a:off x="7924680" y="3124080"/>
            <a:ext cx="771480" cy="1219320"/>
          </a:xfrm>
          <a:prstGeom prst="rect">
            <a:avLst/>
          </a:prstGeom>
          <a:ln w="0">
            <a:noFill/>
          </a:ln>
        </p:spPr>
      </p:pic>
      <p:pic>
        <p:nvPicPr>
          <p:cNvPr id="3490" name="" descr=""/>
          <p:cNvPicPr/>
          <p:nvPr/>
        </p:nvPicPr>
        <p:blipFill>
          <a:blip r:embed="rId15"/>
          <a:stretch/>
        </p:blipFill>
        <p:spPr>
          <a:xfrm>
            <a:off x="6310440" y="4800600"/>
            <a:ext cx="814320" cy="1109520"/>
          </a:xfrm>
          <a:prstGeom prst="rect">
            <a:avLst/>
          </a:prstGeom>
          <a:ln w="0">
            <a:noFill/>
          </a:ln>
        </p:spPr>
      </p:pic>
      <p:pic>
        <p:nvPicPr>
          <p:cNvPr id="3491" name="" descr=""/>
          <p:cNvPicPr/>
          <p:nvPr/>
        </p:nvPicPr>
        <p:blipFill>
          <a:blip r:embed="rId16"/>
          <a:stretch/>
        </p:blipFill>
        <p:spPr>
          <a:xfrm>
            <a:off x="6324480" y="3048120"/>
            <a:ext cx="8319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Multimedia/Voice/Phon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pSp>
        <p:nvGrpSpPr>
          <p:cNvPr id="3493" name=""/>
          <p:cNvGrpSpPr/>
          <p:nvPr/>
        </p:nvGrpSpPr>
        <p:grpSpPr>
          <a:xfrm>
            <a:off x="4640400" y="5467320"/>
            <a:ext cx="920520" cy="1020960"/>
            <a:chOff x="4640400" y="5467320"/>
            <a:chExt cx="920520" cy="1020960"/>
          </a:xfrm>
        </p:grpSpPr>
        <p:sp>
          <p:nvSpPr>
            <p:cNvPr id="3494" name=""/>
            <p:cNvSpPr/>
            <p:nvPr/>
          </p:nvSpPr>
          <p:spPr>
            <a:xfrm>
              <a:off x="5095800" y="5580000"/>
              <a:ext cx="12960" cy="6480"/>
            </a:xfrm>
            <a:prstGeom prst="rect">
              <a:avLst/>
            </a:prstGeom>
            <a:solidFill>
              <a:srgbClr val="ba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5095800" y="5467320"/>
              <a:ext cx="12960" cy="6480"/>
            </a:xfrm>
            <a:prstGeom prst="rect">
              <a:avLst/>
            </a:prstGeom>
            <a:solidFill>
              <a:srgbClr val="ba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6" name=""/>
            <p:cNvGrpSpPr/>
            <p:nvPr/>
          </p:nvGrpSpPr>
          <p:grpSpPr>
            <a:xfrm>
              <a:off x="4640400" y="5467320"/>
              <a:ext cx="920520" cy="1020960"/>
              <a:chOff x="4640400" y="5467320"/>
              <a:chExt cx="920520" cy="1020960"/>
            </a:xfrm>
          </p:grpSpPr>
          <p:sp>
            <p:nvSpPr>
              <p:cNvPr id="3497" name=""/>
              <p:cNvSpPr/>
              <p:nvPr/>
            </p:nvSpPr>
            <p:spPr>
              <a:xfrm>
                <a:off x="4876920" y="6026400"/>
                <a:ext cx="452520" cy="458640"/>
              </a:xfrm>
              <a:custGeom>
                <a:avLst/>
                <a:gdLst/>
                <a:ahLst/>
                <a:rect l="l" t="t" r="r" b="b"/>
                <a:pathLst>
                  <a:path w="7138" h="7221">
                    <a:moveTo>
                      <a:pt x="7138" y="3610"/>
                    </a:moveTo>
                    <a:lnTo>
                      <a:pt x="7133" y="3796"/>
                    </a:lnTo>
                    <a:lnTo>
                      <a:pt x="7120" y="3979"/>
                    </a:lnTo>
                    <a:lnTo>
                      <a:pt x="7097" y="4159"/>
                    </a:lnTo>
                    <a:lnTo>
                      <a:pt x="7066" y="4337"/>
                    </a:lnTo>
                    <a:lnTo>
                      <a:pt x="7025" y="4512"/>
                    </a:lnTo>
                    <a:lnTo>
                      <a:pt x="6977" y="4683"/>
                    </a:lnTo>
                    <a:lnTo>
                      <a:pt x="6921" y="4851"/>
                    </a:lnTo>
                    <a:lnTo>
                      <a:pt x="6858" y="5014"/>
                    </a:lnTo>
                    <a:lnTo>
                      <a:pt x="6785" y="5175"/>
                    </a:lnTo>
                    <a:lnTo>
                      <a:pt x="6707" y="5331"/>
                    </a:lnTo>
                    <a:lnTo>
                      <a:pt x="6621" y="5482"/>
                    </a:lnTo>
                    <a:lnTo>
                      <a:pt x="6528" y="5628"/>
                    </a:lnTo>
                    <a:lnTo>
                      <a:pt x="6429" y="5770"/>
                    </a:lnTo>
                    <a:lnTo>
                      <a:pt x="6323" y="5907"/>
                    </a:lnTo>
                    <a:lnTo>
                      <a:pt x="6210" y="6037"/>
                    </a:lnTo>
                    <a:lnTo>
                      <a:pt x="6093" y="6163"/>
                    </a:lnTo>
                    <a:lnTo>
                      <a:pt x="5968" y="6282"/>
                    </a:lnTo>
                    <a:lnTo>
                      <a:pt x="5839" y="6396"/>
                    </a:lnTo>
                    <a:lnTo>
                      <a:pt x="5704" y="6502"/>
                    </a:lnTo>
                    <a:lnTo>
                      <a:pt x="5564" y="6604"/>
                    </a:lnTo>
                    <a:lnTo>
                      <a:pt x="5419" y="6697"/>
                    </a:lnTo>
                    <a:lnTo>
                      <a:pt x="5270" y="6785"/>
                    </a:lnTo>
                    <a:lnTo>
                      <a:pt x="5116" y="6864"/>
                    </a:lnTo>
                    <a:lnTo>
                      <a:pt x="4958" y="6936"/>
                    </a:lnTo>
                    <a:lnTo>
                      <a:pt x="4796" y="7001"/>
                    </a:lnTo>
                    <a:lnTo>
                      <a:pt x="4630" y="7058"/>
                    </a:lnTo>
                    <a:lnTo>
                      <a:pt x="4461" y="7106"/>
                    </a:lnTo>
                    <a:lnTo>
                      <a:pt x="4288" y="7147"/>
                    </a:lnTo>
                    <a:lnTo>
                      <a:pt x="4112" y="7179"/>
                    </a:lnTo>
                    <a:lnTo>
                      <a:pt x="3934" y="7202"/>
                    </a:lnTo>
                    <a:lnTo>
                      <a:pt x="3753" y="7216"/>
                    </a:lnTo>
                    <a:lnTo>
                      <a:pt x="3569" y="7221"/>
                    </a:lnTo>
                    <a:lnTo>
                      <a:pt x="3385" y="7216"/>
                    </a:lnTo>
                    <a:lnTo>
                      <a:pt x="3205" y="7202"/>
                    </a:lnTo>
                    <a:lnTo>
                      <a:pt x="3026" y="7179"/>
                    </a:lnTo>
                    <a:lnTo>
                      <a:pt x="2850" y="7147"/>
                    </a:lnTo>
                    <a:lnTo>
                      <a:pt x="2677" y="7106"/>
                    </a:lnTo>
                    <a:lnTo>
                      <a:pt x="2509" y="7058"/>
                    </a:lnTo>
                    <a:lnTo>
                      <a:pt x="2342" y="7001"/>
                    </a:lnTo>
                    <a:lnTo>
                      <a:pt x="2180" y="6936"/>
                    </a:lnTo>
                    <a:lnTo>
                      <a:pt x="2023" y="6864"/>
                    </a:lnTo>
                    <a:lnTo>
                      <a:pt x="1868" y="6785"/>
                    </a:lnTo>
                    <a:lnTo>
                      <a:pt x="1719" y="6697"/>
                    </a:lnTo>
                    <a:lnTo>
                      <a:pt x="1574" y="6604"/>
                    </a:lnTo>
                    <a:lnTo>
                      <a:pt x="1434" y="6502"/>
                    </a:lnTo>
                    <a:lnTo>
                      <a:pt x="1300" y="6396"/>
                    </a:lnTo>
                    <a:lnTo>
                      <a:pt x="1170" y="6282"/>
                    </a:lnTo>
                    <a:lnTo>
                      <a:pt x="1046" y="6163"/>
                    </a:lnTo>
                    <a:lnTo>
                      <a:pt x="928" y="6037"/>
                    </a:lnTo>
                    <a:lnTo>
                      <a:pt x="816" y="5907"/>
                    </a:lnTo>
                    <a:lnTo>
                      <a:pt x="709" y="5770"/>
                    </a:lnTo>
                    <a:lnTo>
                      <a:pt x="610" y="5628"/>
                    </a:lnTo>
                    <a:lnTo>
                      <a:pt x="518" y="5482"/>
                    </a:lnTo>
                    <a:lnTo>
                      <a:pt x="431" y="5331"/>
                    </a:lnTo>
                    <a:lnTo>
                      <a:pt x="353" y="5175"/>
                    </a:lnTo>
                    <a:lnTo>
                      <a:pt x="281" y="5014"/>
                    </a:lnTo>
                    <a:lnTo>
                      <a:pt x="217" y="4851"/>
                    </a:lnTo>
                    <a:lnTo>
                      <a:pt x="161" y="4683"/>
                    </a:lnTo>
                    <a:lnTo>
                      <a:pt x="113" y="4512"/>
                    </a:lnTo>
                    <a:lnTo>
                      <a:pt x="73" y="4337"/>
                    </a:lnTo>
                    <a:lnTo>
                      <a:pt x="42" y="4159"/>
                    </a:lnTo>
                    <a:lnTo>
                      <a:pt x="18" y="3979"/>
                    </a:lnTo>
                    <a:lnTo>
                      <a:pt x="5" y="3796"/>
                    </a:lnTo>
                    <a:lnTo>
                      <a:pt x="0" y="3610"/>
                    </a:lnTo>
                    <a:lnTo>
                      <a:pt x="5" y="3424"/>
                    </a:lnTo>
                    <a:lnTo>
                      <a:pt x="18" y="3241"/>
                    </a:lnTo>
                    <a:lnTo>
                      <a:pt x="42" y="3060"/>
                    </a:lnTo>
                    <a:lnTo>
                      <a:pt x="73" y="2883"/>
                    </a:lnTo>
                    <a:lnTo>
                      <a:pt x="113" y="2708"/>
                    </a:lnTo>
                    <a:lnTo>
                      <a:pt x="161" y="2537"/>
                    </a:lnTo>
                    <a:lnTo>
                      <a:pt x="217" y="2369"/>
                    </a:lnTo>
                    <a:lnTo>
                      <a:pt x="281" y="2205"/>
                    </a:lnTo>
                    <a:lnTo>
                      <a:pt x="353" y="2046"/>
                    </a:lnTo>
                    <a:lnTo>
                      <a:pt x="431" y="1890"/>
                    </a:lnTo>
                    <a:lnTo>
                      <a:pt x="518" y="1738"/>
                    </a:lnTo>
                    <a:lnTo>
                      <a:pt x="610" y="1591"/>
                    </a:lnTo>
                    <a:lnTo>
                      <a:pt x="709" y="1451"/>
                    </a:lnTo>
                    <a:lnTo>
                      <a:pt x="816" y="1314"/>
                    </a:lnTo>
                    <a:lnTo>
                      <a:pt x="928" y="1183"/>
                    </a:lnTo>
                    <a:lnTo>
                      <a:pt x="1046" y="1058"/>
                    </a:lnTo>
                    <a:lnTo>
                      <a:pt x="1170" y="938"/>
                    </a:lnTo>
                    <a:lnTo>
                      <a:pt x="1300" y="825"/>
                    </a:lnTo>
                    <a:lnTo>
                      <a:pt x="1434" y="717"/>
                    </a:lnTo>
                    <a:lnTo>
                      <a:pt x="1574" y="617"/>
                    </a:lnTo>
                    <a:lnTo>
                      <a:pt x="1719" y="523"/>
                    </a:lnTo>
                    <a:lnTo>
                      <a:pt x="1868" y="436"/>
                    </a:lnTo>
                    <a:lnTo>
                      <a:pt x="2023" y="356"/>
                    </a:lnTo>
                    <a:lnTo>
                      <a:pt x="2180" y="283"/>
                    </a:lnTo>
                    <a:lnTo>
                      <a:pt x="2342" y="219"/>
                    </a:lnTo>
                    <a:lnTo>
                      <a:pt x="2509" y="162"/>
                    </a:lnTo>
                    <a:lnTo>
                      <a:pt x="2677" y="114"/>
                    </a:lnTo>
                    <a:lnTo>
                      <a:pt x="2850" y="73"/>
                    </a:lnTo>
                    <a:lnTo>
                      <a:pt x="3026" y="41"/>
                    </a:lnTo>
                    <a:lnTo>
                      <a:pt x="3205" y="18"/>
                    </a:lnTo>
                    <a:lnTo>
                      <a:pt x="3385" y="4"/>
                    </a:lnTo>
                    <a:lnTo>
                      <a:pt x="3569" y="0"/>
                    </a:lnTo>
                    <a:lnTo>
                      <a:pt x="3753" y="4"/>
                    </a:lnTo>
                    <a:lnTo>
                      <a:pt x="3934" y="18"/>
                    </a:lnTo>
                    <a:lnTo>
                      <a:pt x="4112" y="41"/>
                    </a:lnTo>
                    <a:lnTo>
                      <a:pt x="4288" y="73"/>
                    </a:lnTo>
                    <a:lnTo>
                      <a:pt x="4461" y="114"/>
                    </a:lnTo>
                    <a:lnTo>
                      <a:pt x="4630" y="162"/>
                    </a:lnTo>
                    <a:lnTo>
                      <a:pt x="4796" y="219"/>
                    </a:lnTo>
                    <a:lnTo>
                      <a:pt x="4958" y="283"/>
                    </a:lnTo>
                    <a:lnTo>
                      <a:pt x="5116" y="356"/>
                    </a:lnTo>
                    <a:lnTo>
                      <a:pt x="5270" y="436"/>
                    </a:lnTo>
                    <a:lnTo>
                      <a:pt x="5419" y="523"/>
                    </a:lnTo>
                    <a:lnTo>
                      <a:pt x="5564" y="617"/>
                    </a:lnTo>
                    <a:lnTo>
                      <a:pt x="5704" y="717"/>
                    </a:lnTo>
                    <a:lnTo>
                      <a:pt x="5839" y="825"/>
                    </a:lnTo>
                    <a:lnTo>
                      <a:pt x="5968" y="938"/>
                    </a:lnTo>
                    <a:lnTo>
                      <a:pt x="6093" y="1058"/>
                    </a:lnTo>
                    <a:lnTo>
                      <a:pt x="6210" y="1183"/>
                    </a:lnTo>
                    <a:lnTo>
                      <a:pt x="6323" y="1314"/>
                    </a:lnTo>
                    <a:lnTo>
                      <a:pt x="6429" y="1451"/>
                    </a:lnTo>
                    <a:lnTo>
                      <a:pt x="6528" y="1591"/>
                    </a:lnTo>
                    <a:lnTo>
                      <a:pt x="6621" y="1738"/>
                    </a:lnTo>
                    <a:lnTo>
                      <a:pt x="6707" y="1890"/>
                    </a:lnTo>
                    <a:lnTo>
                      <a:pt x="6785" y="2046"/>
                    </a:lnTo>
                    <a:lnTo>
                      <a:pt x="6858" y="2205"/>
                    </a:lnTo>
                    <a:lnTo>
                      <a:pt x="6921" y="2369"/>
                    </a:lnTo>
                    <a:lnTo>
                      <a:pt x="6977" y="2537"/>
                    </a:lnTo>
                    <a:lnTo>
                      <a:pt x="7025" y="2708"/>
                    </a:lnTo>
                    <a:lnTo>
                      <a:pt x="7066" y="2883"/>
                    </a:lnTo>
                    <a:lnTo>
                      <a:pt x="7097" y="3060"/>
                    </a:lnTo>
                    <a:lnTo>
                      <a:pt x="7120" y="3241"/>
                    </a:lnTo>
                    <a:lnTo>
                      <a:pt x="7133" y="3424"/>
                    </a:lnTo>
                    <a:lnTo>
                      <a:pt x="7138" y="3610"/>
                    </a:lnTo>
                    <a:close/>
                  </a:path>
                </a:pathLst>
              </a:custGeom>
              <a:solidFill>
                <a:srgbClr val="545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099040" y="6255000"/>
                <a:ext cx="233280" cy="233280"/>
              </a:xfrm>
              <a:custGeom>
                <a:avLst/>
                <a:gdLst/>
                <a:ahLst/>
                <a:rect l="l" t="t" r="r" b="b"/>
                <a:pathLst>
                  <a:path w="3673" h="3663">
                    <a:moveTo>
                      <a:pt x="52" y="3663"/>
                    </a:moveTo>
                    <a:lnTo>
                      <a:pt x="52" y="3663"/>
                    </a:lnTo>
                    <a:lnTo>
                      <a:pt x="99" y="3663"/>
                    </a:lnTo>
                    <a:lnTo>
                      <a:pt x="146" y="3662"/>
                    </a:lnTo>
                    <a:lnTo>
                      <a:pt x="192" y="3660"/>
                    </a:lnTo>
                    <a:lnTo>
                      <a:pt x="238" y="3658"/>
                    </a:lnTo>
                    <a:lnTo>
                      <a:pt x="284" y="3656"/>
                    </a:lnTo>
                    <a:lnTo>
                      <a:pt x="330" y="3652"/>
                    </a:lnTo>
                    <a:lnTo>
                      <a:pt x="376" y="3648"/>
                    </a:lnTo>
                    <a:lnTo>
                      <a:pt x="423" y="3644"/>
                    </a:lnTo>
                    <a:lnTo>
                      <a:pt x="468" y="3639"/>
                    </a:lnTo>
                    <a:lnTo>
                      <a:pt x="513" y="3634"/>
                    </a:lnTo>
                    <a:lnTo>
                      <a:pt x="558" y="3628"/>
                    </a:lnTo>
                    <a:lnTo>
                      <a:pt x="603" y="3621"/>
                    </a:lnTo>
                    <a:lnTo>
                      <a:pt x="649" y="3614"/>
                    </a:lnTo>
                    <a:lnTo>
                      <a:pt x="693" y="3606"/>
                    </a:lnTo>
                    <a:lnTo>
                      <a:pt x="737" y="3598"/>
                    </a:lnTo>
                    <a:lnTo>
                      <a:pt x="781" y="3589"/>
                    </a:lnTo>
                    <a:lnTo>
                      <a:pt x="825" y="3580"/>
                    </a:lnTo>
                    <a:lnTo>
                      <a:pt x="870" y="3570"/>
                    </a:lnTo>
                    <a:lnTo>
                      <a:pt x="914" y="3559"/>
                    </a:lnTo>
                    <a:lnTo>
                      <a:pt x="957" y="3547"/>
                    </a:lnTo>
                    <a:lnTo>
                      <a:pt x="1000" y="3536"/>
                    </a:lnTo>
                    <a:lnTo>
                      <a:pt x="1043" y="3524"/>
                    </a:lnTo>
                    <a:lnTo>
                      <a:pt x="1086" y="3511"/>
                    </a:lnTo>
                    <a:lnTo>
                      <a:pt x="1129" y="3498"/>
                    </a:lnTo>
                    <a:lnTo>
                      <a:pt x="1171" y="3484"/>
                    </a:lnTo>
                    <a:lnTo>
                      <a:pt x="1213" y="3470"/>
                    </a:lnTo>
                    <a:lnTo>
                      <a:pt x="1255" y="3456"/>
                    </a:lnTo>
                    <a:lnTo>
                      <a:pt x="1297" y="3441"/>
                    </a:lnTo>
                    <a:lnTo>
                      <a:pt x="1338" y="3425"/>
                    </a:lnTo>
                    <a:lnTo>
                      <a:pt x="1380" y="3409"/>
                    </a:lnTo>
                    <a:lnTo>
                      <a:pt x="1421" y="3392"/>
                    </a:lnTo>
                    <a:lnTo>
                      <a:pt x="1461" y="3375"/>
                    </a:lnTo>
                    <a:lnTo>
                      <a:pt x="1502" y="3358"/>
                    </a:lnTo>
                    <a:lnTo>
                      <a:pt x="1542" y="3339"/>
                    </a:lnTo>
                    <a:lnTo>
                      <a:pt x="1582" y="3320"/>
                    </a:lnTo>
                    <a:lnTo>
                      <a:pt x="1622" y="3301"/>
                    </a:lnTo>
                    <a:lnTo>
                      <a:pt x="1661" y="3282"/>
                    </a:lnTo>
                    <a:lnTo>
                      <a:pt x="1700" y="3262"/>
                    </a:lnTo>
                    <a:lnTo>
                      <a:pt x="1739" y="3241"/>
                    </a:lnTo>
                    <a:lnTo>
                      <a:pt x="1778" y="3221"/>
                    </a:lnTo>
                    <a:lnTo>
                      <a:pt x="1816" y="3199"/>
                    </a:lnTo>
                    <a:lnTo>
                      <a:pt x="1855" y="3178"/>
                    </a:lnTo>
                    <a:lnTo>
                      <a:pt x="1892" y="3155"/>
                    </a:lnTo>
                    <a:lnTo>
                      <a:pt x="1930" y="3133"/>
                    </a:lnTo>
                    <a:lnTo>
                      <a:pt x="1967" y="3109"/>
                    </a:lnTo>
                    <a:lnTo>
                      <a:pt x="2004" y="3085"/>
                    </a:lnTo>
                    <a:lnTo>
                      <a:pt x="2040" y="3061"/>
                    </a:lnTo>
                    <a:lnTo>
                      <a:pt x="2077" y="3037"/>
                    </a:lnTo>
                    <a:lnTo>
                      <a:pt x="2113" y="3012"/>
                    </a:lnTo>
                    <a:lnTo>
                      <a:pt x="2148" y="2987"/>
                    </a:lnTo>
                    <a:lnTo>
                      <a:pt x="2184" y="2961"/>
                    </a:lnTo>
                    <a:lnTo>
                      <a:pt x="2219" y="2935"/>
                    </a:lnTo>
                    <a:lnTo>
                      <a:pt x="2287" y="2881"/>
                    </a:lnTo>
                    <a:lnTo>
                      <a:pt x="2355" y="2826"/>
                    </a:lnTo>
                    <a:lnTo>
                      <a:pt x="2389" y="2798"/>
                    </a:lnTo>
                    <a:lnTo>
                      <a:pt x="2422" y="2769"/>
                    </a:lnTo>
                    <a:lnTo>
                      <a:pt x="2455" y="2741"/>
                    </a:lnTo>
                    <a:lnTo>
                      <a:pt x="2487" y="2711"/>
                    </a:lnTo>
                    <a:lnTo>
                      <a:pt x="2518" y="2681"/>
                    </a:lnTo>
                    <a:lnTo>
                      <a:pt x="2550" y="2651"/>
                    </a:lnTo>
                    <a:lnTo>
                      <a:pt x="2582" y="2620"/>
                    </a:lnTo>
                    <a:lnTo>
                      <a:pt x="2613" y="2589"/>
                    </a:lnTo>
                    <a:lnTo>
                      <a:pt x="2673" y="2527"/>
                    </a:lnTo>
                    <a:lnTo>
                      <a:pt x="2732" y="2462"/>
                    </a:lnTo>
                    <a:lnTo>
                      <a:pt x="2761" y="2429"/>
                    </a:lnTo>
                    <a:lnTo>
                      <a:pt x="2790" y="2396"/>
                    </a:lnTo>
                    <a:lnTo>
                      <a:pt x="2819" y="2363"/>
                    </a:lnTo>
                    <a:lnTo>
                      <a:pt x="2847" y="2329"/>
                    </a:lnTo>
                    <a:lnTo>
                      <a:pt x="2874" y="2296"/>
                    </a:lnTo>
                    <a:lnTo>
                      <a:pt x="2901" y="2260"/>
                    </a:lnTo>
                    <a:lnTo>
                      <a:pt x="2927" y="2226"/>
                    </a:lnTo>
                    <a:lnTo>
                      <a:pt x="2954" y="2191"/>
                    </a:lnTo>
                    <a:lnTo>
                      <a:pt x="2979" y="2156"/>
                    </a:lnTo>
                    <a:lnTo>
                      <a:pt x="3005" y="2120"/>
                    </a:lnTo>
                    <a:lnTo>
                      <a:pt x="3030" y="2084"/>
                    </a:lnTo>
                    <a:lnTo>
                      <a:pt x="3055" y="2047"/>
                    </a:lnTo>
                    <a:lnTo>
                      <a:pt x="3079" y="2010"/>
                    </a:lnTo>
                    <a:lnTo>
                      <a:pt x="3103" y="1974"/>
                    </a:lnTo>
                    <a:lnTo>
                      <a:pt x="3126" y="1936"/>
                    </a:lnTo>
                    <a:lnTo>
                      <a:pt x="3149" y="1899"/>
                    </a:lnTo>
                    <a:lnTo>
                      <a:pt x="3171" y="1861"/>
                    </a:lnTo>
                    <a:lnTo>
                      <a:pt x="3193" y="1822"/>
                    </a:lnTo>
                    <a:lnTo>
                      <a:pt x="3215" y="1784"/>
                    </a:lnTo>
                    <a:lnTo>
                      <a:pt x="3236" y="1745"/>
                    </a:lnTo>
                    <a:lnTo>
                      <a:pt x="3256" y="1706"/>
                    </a:lnTo>
                    <a:lnTo>
                      <a:pt x="3277" y="1667"/>
                    </a:lnTo>
                    <a:lnTo>
                      <a:pt x="3297" y="1628"/>
                    </a:lnTo>
                    <a:lnTo>
                      <a:pt x="3317" y="1587"/>
                    </a:lnTo>
                    <a:lnTo>
                      <a:pt x="3335" y="1547"/>
                    </a:lnTo>
                    <a:lnTo>
                      <a:pt x="3354" y="1507"/>
                    </a:lnTo>
                    <a:lnTo>
                      <a:pt x="3371" y="1466"/>
                    </a:lnTo>
                    <a:lnTo>
                      <a:pt x="3389" y="1426"/>
                    </a:lnTo>
                    <a:lnTo>
                      <a:pt x="3406" y="1384"/>
                    </a:lnTo>
                    <a:lnTo>
                      <a:pt x="3422" y="1342"/>
                    </a:lnTo>
                    <a:lnTo>
                      <a:pt x="3438" y="1301"/>
                    </a:lnTo>
                    <a:lnTo>
                      <a:pt x="3453" y="1259"/>
                    </a:lnTo>
                    <a:lnTo>
                      <a:pt x="3468" y="1217"/>
                    </a:lnTo>
                    <a:lnTo>
                      <a:pt x="3483" y="1174"/>
                    </a:lnTo>
                    <a:lnTo>
                      <a:pt x="3497" y="1131"/>
                    </a:lnTo>
                    <a:lnTo>
                      <a:pt x="3510" y="1089"/>
                    </a:lnTo>
                    <a:lnTo>
                      <a:pt x="3523" y="1046"/>
                    </a:lnTo>
                    <a:lnTo>
                      <a:pt x="3536" y="1003"/>
                    </a:lnTo>
                    <a:lnTo>
                      <a:pt x="3548" y="958"/>
                    </a:lnTo>
                    <a:lnTo>
                      <a:pt x="3560" y="915"/>
                    </a:lnTo>
                    <a:lnTo>
                      <a:pt x="3571" y="871"/>
                    </a:lnTo>
                    <a:lnTo>
                      <a:pt x="3581" y="827"/>
                    </a:lnTo>
                    <a:lnTo>
                      <a:pt x="3591" y="783"/>
                    </a:lnTo>
                    <a:lnTo>
                      <a:pt x="3600" y="737"/>
                    </a:lnTo>
                    <a:lnTo>
                      <a:pt x="3609" y="693"/>
                    </a:lnTo>
                    <a:lnTo>
                      <a:pt x="3617" y="648"/>
                    </a:lnTo>
                    <a:lnTo>
                      <a:pt x="3625" y="603"/>
                    </a:lnTo>
                    <a:lnTo>
                      <a:pt x="3632" y="558"/>
                    </a:lnTo>
                    <a:lnTo>
                      <a:pt x="3638" y="512"/>
                    </a:lnTo>
                    <a:lnTo>
                      <a:pt x="3644" y="466"/>
                    </a:lnTo>
                    <a:lnTo>
                      <a:pt x="3650" y="420"/>
                    </a:lnTo>
                    <a:lnTo>
                      <a:pt x="3655" y="375"/>
                    </a:lnTo>
                    <a:lnTo>
                      <a:pt x="3659" y="328"/>
                    </a:lnTo>
                    <a:lnTo>
                      <a:pt x="3663" y="281"/>
                    </a:lnTo>
                    <a:lnTo>
                      <a:pt x="3666" y="235"/>
                    </a:lnTo>
                    <a:lnTo>
                      <a:pt x="3669" y="188"/>
                    </a:lnTo>
                    <a:lnTo>
                      <a:pt x="3671" y="142"/>
                    </a:lnTo>
                    <a:lnTo>
                      <a:pt x="3672" y="94"/>
                    </a:lnTo>
                    <a:lnTo>
                      <a:pt x="3673" y="47"/>
                    </a:lnTo>
                    <a:lnTo>
                      <a:pt x="3673" y="0"/>
                    </a:lnTo>
                    <a:lnTo>
                      <a:pt x="3569" y="0"/>
                    </a:lnTo>
                    <a:lnTo>
                      <a:pt x="3568" y="46"/>
                    </a:lnTo>
                    <a:lnTo>
                      <a:pt x="3568" y="92"/>
                    </a:lnTo>
                    <a:lnTo>
                      <a:pt x="3566" y="138"/>
                    </a:lnTo>
                    <a:lnTo>
                      <a:pt x="3564" y="184"/>
                    </a:lnTo>
                    <a:lnTo>
                      <a:pt x="3561" y="229"/>
                    </a:lnTo>
                    <a:lnTo>
                      <a:pt x="3558" y="274"/>
                    </a:lnTo>
                    <a:lnTo>
                      <a:pt x="3555" y="319"/>
                    </a:lnTo>
                    <a:lnTo>
                      <a:pt x="3551" y="364"/>
                    </a:lnTo>
                    <a:lnTo>
                      <a:pt x="3546" y="409"/>
                    </a:lnTo>
                    <a:lnTo>
                      <a:pt x="3540" y="453"/>
                    </a:lnTo>
                    <a:lnTo>
                      <a:pt x="3535" y="497"/>
                    </a:lnTo>
                    <a:lnTo>
                      <a:pt x="3528" y="541"/>
                    </a:lnTo>
                    <a:lnTo>
                      <a:pt x="3520" y="586"/>
                    </a:lnTo>
                    <a:lnTo>
                      <a:pt x="3513" y="630"/>
                    </a:lnTo>
                    <a:lnTo>
                      <a:pt x="3505" y="674"/>
                    </a:lnTo>
                    <a:lnTo>
                      <a:pt x="3497" y="717"/>
                    </a:lnTo>
                    <a:lnTo>
                      <a:pt x="3487" y="760"/>
                    </a:lnTo>
                    <a:lnTo>
                      <a:pt x="3478" y="804"/>
                    </a:lnTo>
                    <a:lnTo>
                      <a:pt x="3468" y="847"/>
                    </a:lnTo>
                    <a:lnTo>
                      <a:pt x="3457" y="889"/>
                    </a:lnTo>
                    <a:lnTo>
                      <a:pt x="3446" y="931"/>
                    </a:lnTo>
                    <a:lnTo>
                      <a:pt x="3435" y="973"/>
                    </a:lnTo>
                    <a:lnTo>
                      <a:pt x="3423" y="1016"/>
                    </a:lnTo>
                    <a:lnTo>
                      <a:pt x="3410" y="1058"/>
                    </a:lnTo>
                    <a:lnTo>
                      <a:pt x="3397" y="1100"/>
                    </a:lnTo>
                    <a:lnTo>
                      <a:pt x="3384" y="1141"/>
                    </a:lnTo>
                    <a:lnTo>
                      <a:pt x="3369" y="1182"/>
                    </a:lnTo>
                    <a:lnTo>
                      <a:pt x="3355" y="1223"/>
                    </a:lnTo>
                    <a:lnTo>
                      <a:pt x="3340" y="1264"/>
                    </a:lnTo>
                    <a:lnTo>
                      <a:pt x="3325" y="1304"/>
                    </a:lnTo>
                    <a:lnTo>
                      <a:pt x="3309" y="1345"/>
                    </a:lnTo>
                    <a:lnTo>
                      <a:pt x="3292" y="1384"/>
                    </a:lnTo>
                    <a:lnTo>
                      <a:pt x="3274" y="1425"/>
                    </a:lnTo>
                    <a:lnTo>
                      <a:pt x="3257" y="1464"/>
                    </a:lnTo>
                    <a:lnTo>
                      <a:pt x="3239" y="1503"/>
                    </a:lnTo>
                    <a:lnTo>
                      <a:pt x="3221" y="1542"/>
                    </a:lnTo>
                    <a:lnTo>
                      <a:pt x="3202" y="1581"/>
                    </a:lnTo>
                    <a:lnTo>
                      <a:pt x="3183" y="1619"/>
                    </a:lnTo>
                    <a:lnTo>
                      <a:pt x="3164" y="1658"/>
                    </a:lnTo>
                    <a:lnTo>
                      <a:pt x="3144" y="1696"/>
                    </a:lnTo>
                    <a:lnTo>
                      <a:pt x="3123" y="1733"/>
                    </a:lnTo>
                    <a:lnTo>
                      <a:pt x="3102" y="1771"/>
                    </a:lnTo>
                    <a:lnTo>
                      <a:pt x="3081" y="1807"/>
                    </a:lnTo>
                    <a:lnTo>
                      <a:pt x="3059" y="1845"/>
                    </a:lnTo>
                    <a:lnTo>
                      <a:pt x="3036" y="1882"/>
                    </a:lnTo>
                    <a:lnTo>
                      <a:pt x="3014" y="1918"/>
                    </a:lnTo>
                    <a:lnTo>
                      <a:pt x="2991" y="1953"/>
                    </a:lnTo>
                    <a:lnTo>
                      <a:pt x="2967" y="1989"/>
                    </a:lnTo>
                    <a:lnTo>
                      <a:pt x="2943" y="2024"/>
                    </a:lnTo>
                    <a:lnTo>
                      <a:pt x="2919" y="2060"/>
                    </a:lnTo>
                    <a:lnTo>
                      <a:pt x="2895" y="2095"/>
                    </a:lnTo>
                    <a:lnTo>
                      <a:pt x="2870" y="2129"/>
                    </a:lnTo>
                    <a:lnTo>
                      <a:pt x="2844" y="2163"/>
                    </a:lnTo>
                    <a:lnTo>
                      <a:pt x="2818" y="2196"/>
                    </a:lnTo>
                    <a:lnTo>
                      <a:pt x="2791" y="2230"/>
                    </a:lnTo>
                    <a:lnTo>
                      <a:pt x="2765" y="2263"/>
                    </a:lnTo>
                    <a:lnTo>
                      <a:pt x="2738" y="2296"/>
                    </a:lnTo>
                    <a:lnTo>
                      <a:pt x="2710" y="2328"/>
                    </a:lnTo>
                    <a:lnTo>
                      <a:pt x="2682" y="2360"/>
                    </a:lnTo>
                    <a:lnTo>
                      <a:pt x="2655" y="2392"/>
                    </a:lnTo>
                    <a:lnTo>
                      <a:pt x="2597" y="2454"/>
                    </a:lnTo>
                    <a:lnTo>
                      <a:pt x="2537" y="2516"/>
                    </a:lnTo>
                    <a:lnTo>
                      <a:pt x="2508" y="2546"/>
                    </a:lnTo>
                    <a:lnTo>
                      <a:pt x="2477" y="2575"/>
                    </a:lnTo>
                    <a:lnTo>
                      <a:pt x="2447" y="2604"/>
                    </a:lnTo>
                    <a:lnTo>
                      <a:pt x="2416" y="2633"/>
                    </a:lnTo>
                    <a:lnTo>
                      <a:pt x="2384" y="2662"/>
                    </a:lnTo>
                    <a:lnTo>
                      <a:pt x="2353" y="2690"/>
                    </a:lnTo>
                    <a:lnTo>
                      <a:pt x="2321" y="2718"/>
                    </a:lnTo>
                    <a:lnTo>
                      <a:pt x="2288" y="2745"/>
                    </a:lnTo>
                    <a:lnTo>
                      <a:pt x="2222" y="2799"/>
                    </a:lnTo>
                    <a:lnTo>
                      <a:pt x="2155" y="2851"/>
                    </a:lnTo>
                    <a:lnTo>
                      <a:pt x="2121" y="2876"/>
                    </a:lnTo>
                    <a:lnTo>
                      <a:pt x="2087" y="2901"/>
                    </a:lnTo>
                    <a:lnTo>
                      <a:pt x="2052" y="2926"/>
                    </a:lnTo>
                    <a:lnTo>
                      <a:pt x="2017" y="2950"/>
                    </a:lnTo>
                    <a:lnTo>
                      <a:pt x="1982" y="2974"/>
                    </a:lnTo>
                    <a:lnTo>
                      <a:pt x="1947" y="2997"/>
                    </a:lnTo>
                    <a:lnTo>
                      <a:pt x="1911" y="3020"/>
                    </a:lnTo>
                    <a:lnTo>
                      <a:pt x="1875" y="3042"/>
                    </a:lnTo>
                    <a:lnTo>
                      <a:pt x="1839" y="3065"/>
                    </a:lnTo>
                    <a:lnTo>
                      <a:pt x="1801" y="3086"/>
                    </a:lnTo>
                    <a:lnTo>
                      <a:pt x="1764" y="3107"/>
                    </a:lnTo>
                    <a:lnTo>
                      <a:pt x="1727" y="3129"/>
                    </a:lnTo>
                    <a:lnTo>
                      <a:pt x="1690" y="3149"/>
                    </a:lnTo>
                    <a:lnTo>
                      <a:pt x="1653" y="3169"/>
                    </a:lnTo>
                    <a:lnTo>
                      <a:pt x="1615" y="3188"/>
                    </a:lnTo>
                    <a:lnTo>
                      <a:pt x="1575" y="3207"/>
                    </a:lnTo>
                    <a:lnTo>
                      <a:pt x="1537" y="3225"/>
                    </a:lnTo>
                    <a:lnTo>
                      <a:pt x="1498" y="3243"/>
                    </a:lnTo>
                    <a:lnTo>
                      <a:pt x="1460" y="3261"/>
                    </a:lnTo>
                    <a:lnTo>
                      <a:pt x="1420" y="3278"/>
                    </a:lnTo>
                    <a:lnTo>
                      <a:pt x="1381" y="3295"/>
                    </a:lnTo>
                    <a:lnTo>
                      <a:pt x="1340" y="3311"/>
                    </a:lnTo>
                    <a:lnTo>
                      <a:pt x="1301" y="3326"/>
                    </a:lnTo>
                    <a:lnTo>
                      <a:pt x="1261" y="3342"/>
                    </a:lnTo>
                    <a:lnTo>
                      <a:pt x="1220" y="3357"/>
                    </a:lnTo>
                    <a:lnTo>
                      <a:pt x="1179" y="3371"/>
                    </a:lnTo>
                    <a:lnTo>
                      <a:pt x="1139" y="3385"/>
                    </a:lnTo>
                    <a:lnTo>
                      <a:pt x="1097" y="3398"/>
                    </a:lnTo>
                    <a:lnTo>
                      <a:pt x="1056" y="3411"/>
                    </a:lnTo>
                    <a:lnTo>
                      <a:pt x="1014" y="3423"/>
                    </a:lnTo>
                    <a:lnTo>
                      <a:pt x="973" y="3435"/>
                    </a:lnTo>
                    <a:lnTo>
                      <a:pt x="931" y="3446"/>
                    </a:lnTo>
                    <a:lnTo>
                      <a:pt x="889" y="3456"/>
                    </a:lnTo>
                    <a:lnTo>
                      <a:pt x="845" y="3467"/>
                    </a:lnTo>
                    <a:lnTo>
                      <a:pt x="803" y="3476"/>
                    </a:lnTo>
                    <a:lnTo>
                      <a:pt x="761" y="3485"/>
                    </a:lnTo>
                    <a:lnTo>
                      <a:pt x="718" y="3494"/>
                    </a:lnTo>
                    <a:lnTo>
                      <a:pt x="675" y="3502"/>
                    </a:lnTo>
                    <a:lnTo>
                      <a:pt x="631" y="3509"/>
                    </a:lnTo>
                    <a:lnTo>
                      <a:pt x="587" y="3516"/>
                    </a:lnTo>
                    <a:lnTo>
                      <a:pt x="544" y="3523"/>
                    </a:lnTo>
                    <a:lnTo>
                      <a:pt x="500" y="3529"/>
                    </a:lnTo>
                    <a:lnTo>
                      <a:pt x="456" y="3534"/>
                    </a:lnTo>
                    <a:lnTo>
                      <a:pt x="412" y="3539"/>
                    </a:lnTo>
                    <a:lnTo>
                      <a:pt x="367" y="3543"/>
                    </a:lnTo>
                    <a:lnTo>
                      <a:pt x="322" y="3547"/>
                    </a:lnTo>
                    <a:lnTo>
                      <a:pt x="278" y="3550"/>
                    </a:lnTo>
                    <a:lnTo>
                      <a:pt x="233" y="3553"/>
                    </a:lnTo>
                    <a:lnTo>
                      <a:pt x="188" y="3555"/>
                    </a:lnTo>
                    <a:lnTo>
                      <a:pt x="143" y="3557"/>
                    </a:lnTo>
                    <a:lnTo>
                      <a:pt x="97" y="3558"/>
                    </a:lnTo>
                    <a:lnTo>
                      <a:pt x="52" y="3558"/>
                    </a:lnTo>
                    <a:lnTo>
                      <a:pt x="52" y="3558"/>
                    </a:lnTo>
                    <a:lnTo>
                      <a:pt x="52" y="3558"/>
                    </a:lnTo>
                    <a:lnTo>
                      <a:pt x="46" y="3558"/>
                    </a:lnTo>
                    <a:lnTo>
                      <a:pt x="40" y="3559"/>
                    </a:lnTo>
                    <a:lnTo>
                      <a:pt x="34" y="3561"/>
                    </a:lnTo>
                    <a:lnTo>
                      <a:pt x="29" y="3563"/>
                    </a:lnTo>
                    <a:lnTo>
                      <a:pt x="24" y="3565"/>
                    </a:lnTo>
                    <a:lnTo>
                      <a:pt x="20" y="3568"/>
                    </a:lnTo>
                    <a:lnTo>
                      <a:pt x="16" y="3571"/>
                    </a:lnTo>
                    <a:lnTo>
                      <a:pt x="13" y="3574"/>
                    </a:lnTo>
                    <a:lnTo>
                      <a:pt x="7" y="3582"/>
                    </a:lnTo>
                    <a:lnTo>
                      <a:pt x="3" y="3591"/>
                    </a:lnTo>
                    <a:lnTo>
                      <a:pt x="0" y="3601"/>
                    </a:lnTo>
                    <a:lnTo>
                      <a:pt x="0" y="3611"/>
                    </a:lnTo>
                    <a:lnTo>
                      <a:pt x="0" y="3620"/>
                    </a:lnTo>
                    <a:lnTo>
                      <a:pt x="3" y="3630"/>
                    </a:lnTo>
                    <a:lnTo>
                      <a:pt x="7" y="3639"/>
                    </a:lnTo>
                    <a:lnTo>
                      <a:pt x="13" y="3647"/>
                    </a:lnTo>
                    <a:lnTo>
                      <a:pt x="16" y="3650"/>
                    </a:lnTo>
                    <a:lnTo>
                      <a:pt x="20" y="3653"/>
                    </a:lnTo>
                    <a:lnTo>
                      <a:pt x="24" y="3656"/>
                    </a:lnTo>
                    <a:lnTo>
                      <a:pt x="29" y="3659"/>
                    </a:lnTo>
                    <a:lnTo>
                      <a:pt x="34" y="3660"/>
                    </a:lnTo>
                    <a:lnTo>
                      <a:pt x="40" y="3662"/>
                    </a:lnTo>
                    <a:lnTo>
                      <a:pt x="46" y="3663"/>
                    </a:lnTo>
                    <a:lnTo>
                      <a:pt x="52" y="3663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872240" y="6251760"/>
                <a:ext cx="230040" cy="236520"/>
              </a:xfrm>
              <a:custGeom>
                <a:avLst/>
                <a:gdLst/>
                <a:ahLst/>
                <a:rect l="l" t="t" r="r" b="b"/>
                <a:pathLst>
                  <a:path w="3621" h="3715">
                    <a:moveTo>
                      <a:pt x="0" y="52"/>
                    </a:moveTo>
                    <a:lnTo>
                      <a:pt x="0" y="52"/>
                    </a:lnTo>
                    <a:lnTo>
                      <a:pt x="0" y="99"/>
                    </a:lnTo>
                    <a:lnTo>
                      <a:pt x="1" y="146"/>
                    </a:lnTo>
                    <a:lnTo>
                      <a:pt x="2" y="194"/>
                    </a:lnTo>
                    <a:lnTo>
                      <a:pt x="4" y="240"/>
                    </a:lnTo>
                    <a:lnTo>
                      <a:pt x="7" y="287"/>
                    </a:lnTo>
                    <a:lnTo>
                      <a:pt x="10" y="333"/>
                    </a:lnTo>
                    <a:lnTo>
                      <a:pt x="14" y="380"/>
                    </a:lnTo>
                    <a:lnTo>
                      <a:pt x="18" y="427"/>
                    </a:lnTo>
                    <a:lnTo>
                      <a:pt x="23" y="472"/>
                    </a:lnTo>
                    <a:lnTo>
                      <a:pt x="29" y="518"/>
                    </a:lnTo>
                    <a:lnTo>
                      <a:pt x="35" y="564"/>
                    </a:lnTo>
                    <a:lnTo>
                      <a:pt x="41" y="610"/>
                    </a:lnTo>
                    <a:lnTo>
                      <a:pt x="48" y="655"/>
                    </a:lnTo>
                    <a:lnTo>
                      <a:pt x="56" y="700"/>
                    </a:lnTo>
                    <a:lnTo>
                      <a:pt x="64" y="745"/>
                    </a:lnTo>
                    <a:lnTo>
                      <a:pt x="73" y="789"/>
                    </a:lnTo>
                    <a:lnTo>
                      <a:pt x="82" y="835"/>
                    </a:lnTo>
                    <a:lnTo>
                      <a:pt x="93" y="879"/>
                    </a:lnTo>
                    <a:lnTo>
                      <a:pt x="103" y="923"/>
                    </a:lnTo>
                    <a:lnTo>
                      <a:pt x="114" y="967"/>
                    </a:lnTo>
                    <a:lnTo>
                      <a:pt x="126" y="1010"/>
                    </a:lnTo>
                    <a:lnTo>
                      <a:pt x="137" y="1055"/>
                    </a:lnTo>
                    <a:lnTo>
                      <a:pt x="150" y="1098"/>
                    </a:lnTo>
                    <a:lnTo>
                      <a:pt x="163" y="1141"/>
                    </a:lnTo>
                    <a:lnTo>
                      <a:pt x="176" y="1183"/>
                    </a:lnTo>
                    <a:lnTo>
                      <a:pt x="190" y="1226"/>
                    </a:lnTo>
                    <a:lnTo>
                      <a:pt x="205" y="1269"/>
                    </a:lnTo>
                    <a:lnTo>
                      <a:pt x="220" y="1311"/>
                    </a:lnTo>
                    <a:lnTo>
                      <a:pt x="235" y="1353"/>
                    </a:lnTo>
                    <a:lnTo>
                      <a:pt x="251" y="1394"/>
                    </a:lnTo>
                    <a:lnTo>
                      <a:pt x="267" y="1436"/>
                    </a:lnTo>
                    <a:lnTo>
                      <a:pt x="284" y="1478"/>
                    </a:lnTo>
                    <a:lnTo>
                      <a:pt x="302" y="1518"/>
                    </a:lnTo>
                    <a:lnTo>
                      <a:pt x="319" y="1559"/>
                    </a:lnTo>
                    <a:lnTo>
                      <a:pt x="339" y="1599"/>
                    </a:lnTo>
                    <a:lnTo>
                      <a:pt x="357" y="1639"/>
                    </a:lnTo>
                    <a:lnTo>
                      <a:pt x="377" y="1680"/>
                    </a:lnTo>
                    <a:lnTo>
                      <a:pt x="396" y="1719"/>
                    </a:lnTo>
                    <a:lnTo>
                      <a:pt x="417" y="1758"/>
                    </a:lnTo>
                    <a:lnTo>
                      <a:pt x="437" y="1797"/>
                    </a:lnTo>
                    <a:lnTo>
                      <a:pt x="458" y="1836"/>
                    </a:lnTo>
                    <a:lnTo>
                      <a:pt x="480" y="1874"/>
                    </a:lnTo>
                    <a:lnTo>
                      <a:pt x="502" y="1913"/>
                    </a:lnTo>
                    <a:lnTo>
                      <a:pt x="524" y="1951"/>
                    </a:lnTo>
                    <a:lnTo>
                      <a:pt x="547" y="1988"/>
                    </a:lnTo>
                    <a:lnTo>
                      <a:pt x="571" y="2026"/>
                    </a:lnTo>
                    <a:lnTo>
                      <a:pt x="595" y="2062"/>
                    </a:lnTo>
                    <a:lnTo>
                      <a:pt x="619" y="2099"/>
                    </a:lnTo>
                    <a:lnTo>
                      <a:pt x="643" y="2136"/>
                    </a:lnTo>
                    <a:lnTo>
                      <a:pt x="668" y="2172"/>
                    </a:lnTo>
                    <a:lnTo>
                      <a:pt x="694" y="2208"/>
                    </a:lnTo>
                    <a:lnTo>
                      <a:pt x="719" y="2243"/>
                    </a:lnTo>
                    <a:lnTo>
                      <a:pt x="745" y="2278"/>
                    </a:lnTo>
                    <a:lnTo>
                      <a:pt x="772" y="2312"/>
                    </a:lnTo>
                    <a:lnTo>
                      <a:pt x="799" y="2348"/>
                    </a:lnTo>
                    <a:lnTo>
                      <a:pt x="827" y="2381"/>
                    </a:lnTo>
                    <a:lnTo>
                      <a:pt x="855" y="2415"/>
                    </a:lnTo>
                    <a:lnTo>
                      <a:pt x="883" y="2448"/>
                    </a:lnTo>
                    <a:lnTo>
                      <a:pt x="912" y="2481"/>
                    </a:lnTo>
                    <a:lnTo>
                      <a:pt x="941" y="2514"/>
                    </a:lnTo>
                    <a:lnTo>
                      <a:pt x="970" y="2547"/>
                    </a:lnTo>
                    <a:lnTo>
                      <a:pt x="1000" y="2579"/>
                    </a:lnTo>
                    <a:lnTo>
                      <a:pt x="1030" y="2610"/>
                    </a:lnTo>
                    <a:lnTo>
                      <a:pt x="1061" y="2642"/>
                    </a:lnTo>
                    <a:lnTo>
                      <a:pt x="1092" y="2672"/>
                    </a:lnTo>
                    <a:lnTo>
                      <a:pt x="1123" y="2703"/>
                    </a:lnTo>
                    <a:lnTo>
                      <a:pt x="1154" y="2733"/>
                    </a:lnTo>
                    <a:lnTo>
                      <a:pt x="1186" y="2763"/>
                    </a:lnTo>
                    <a:lnTo>
                      <a:pt x="1218" y="2793"/>
                    </a:lnTo>
                    <a:lnTo>
                      <a:pt x="1251" y="2821"/>
                    </a:lnTo>
                    <a:lnTo>
                      <a:pt x="1284" y="2850"/>
                    </a:lnTo>
                    <a:lnTo>
                      <a:pt x="1318" y="2878"/>
                    </a:lnTo>
                    <a:lnTo>
                      <a:pt x="1352" y="2906"/>
                    </a:lnTo>
                    <a:lnTo>
                      <a:pt x="1386" y="2933"/>
                    </a:lnTo>
                    <a:lnTo>
                      <a:pt x="1420" y="2960"/>
                    </a:lnTo>
                    <a:lnTo>
                      <a:pt x="1454" y="2987"/>
                    </a:lnTo>
                    <a:lnTo>
                      <a:pt x="1489" y="3013"/>
                    </a:lnTo>
                    <a:lnTo>
                      <a:pt x="1525" y="3039"/>
                    </a:lnTo>
                    <a:lnTo>
                      <a:pt x="1561" y="3064"/>
                    </a:lnTo>
                    <a:lnTo>
                      <a:pt x="1597" y="3089"/>
                    </a:lnTo>
                    <a:lnTo>
                      <a:pt x="1633" y="3113"/>
                    </a:lnTo>
                    <a:lnTo>
                      <a:pt x="1669" y="3137"/>
                    </a:lnTo>
                    <a:lnTo>
                      <a:pt x="1706" y="3161"/>
                    </a:lnTo>
                    <a:lnTo>
                      <a:pt x="1743" y="3185"/>
                    </a:lnTo>
                    <a:lnTo>
                      <a:pt x="1781" y="3207"/>
                    </a:lnTo>
                    <a:lnTo>
                      <a:pt x="1819" y="3230"/>
                    </a:lnTo>
                    <a:lnTo>
                      <a:pt x="1857" y="3251"/>
                    </a:lnTo>
                    <a:lnTo>
                      <a:pt x="1895" y="3273"/>
                    </a:lnTo>
                    <a:lnTo>
                      <a:pt x="1934" y="3293"/>
                    </a:lnTo>
                    <a:lnTo>
                      <a:pt x="1972" y="3314"/>
                    </a:lnTo>
                    <a:lnTo>
                      <a:pt x="2012" y="3334"/>
                    </a:lnTo>
                    <a:lnTo>
                      <a:pt x="2052" y="3353"/>
                    </a:lnTo>
                    <a:lnTo>
                      <a:pt x="2091" y="3372"/>
                    </a:lnTo>
                    <a:lnTo>
                      <a:pt x="2131" y="3391"/>
                    </a:lnTo>
                    <a:lnTo>
                      <a:pt x="2171" y="3410"/>
                    </a:lnTo>
                    <a:lnTo>
                      <a:pt x="2212" y="3427"/>
                    </a:lnTo>
                    <a:lnTo>
                      <a:pt x="2252" y="3444"/>
                    </a:lnTo>
                    <a:lnTo>
                      <a:pt x="2294" y="3461"/>
                    </a:lnTo>
                    <a:lnTo>
                      <a:pt x="2335" y="3477"/>
                    </a:lnTo>
                    <a:lnTo>
                      <a:pt x="2376" y="3493"/>
                    </a:lnTo>
                    <a:lnTo>
                      <a:pt x="2418" y="3508"/>
                    </a:lnTo>
                    <a:lnTo>
                      <a:pt x="2459" y="3522"/>
                    </a:lnTo>
                    <a:lnTo>
                      <a:pt x="2503" y="3536"/>
                    </a:lnTo>
                    <a:lnTo>
                      <a:pt x="2545" y="3550"/>
                    </a:lnTo>
                    <a:lnTo>
                      <a:pt x="2587" y="3563"/>
                    </a:lnTo>
                    <a:lnTo>
                      <a:pt x="2630" y="3576"/>
                    </a:lnTo>
                    <a:lnTo>
                      <a:pt x="2673" y="3588"/>
                    </a:lnTo>
                    <a:lnTo>
                      <a:pt x="2716" y="3599"/>
                    </a:lnTo>
                    <a:lnTo>
                      <a:pt x="2760" y="3611"/>
                    </a:lnTo>
                    <a:lnTo>
                      <a:pt x="2804" y="3622"/>
                    </a:lnTo>
                    <a:lnTo>
                      <a:pt x="2848" y="3632"/>
                    </a:lnTo>
                    <a:lnTo>
                      <a:pt x="2892" y="3641"/>
                    </a:lnTo>
                    <a:lnTo>
                      <a:pt x="2936" y="3650"/>
                    </a:lnTo>
                    <a:lnTo>
                      <a:pt x="2980" y="3658"/>
                    </a:lnTo>
                    <a:lnTo>
                      <a:pt x="3025" y="3666"/>
                    </a:lnTo>
                    <a:lnTo>
                      <a:pt x="3070" y="3673"/>
                    </a:lnTo>
                    <a:lnTo>
                      <a:pt x="3115" y="3680"/>
                    </a:lnTo>
                    <a:lnTo>
                      <a:pt x="3160" y="3686"/>
                    </a:lnTo>
                    <a:lnTo>
                      <a:pt x="3205" y="3691"/>
                    </a:lnTo>
                    <a:lnTo>
                      <a:pt x="3251" y="3696"/>
                    </a:lnTo>
                    <a:lnTo>
                      <a:pt x="3297" y="3700"/>
                    </a:lnTo>
                    <a:lnTo>
                      <a:pt x="3343" y="3704"/>
                    </a:lnTo>
                    <a:lnTo>
                      <a:pt x="3389" y="3708"/>
                    </a:lnTo>
                    <a:lnTo>
                      <a:pt x="3435" y="3710"/>
                    </a:lnTo>
                    <a:lnTo>
                      <a:pt x="3482" y="3712"/>
                    </a:lnTo>
                    <a:lnTo>
                      <a:pt x="3528" y="3714"/>
                    </a:lnTo>
                    <a:lnTo>
                      <a:pt x="3574" y="3715"/>
                    </a:lnTo>
                    <a:lnTo>
                      <a:pt x="3621" y="3715"/>
                    </a:lnTo>
                    <a:lnTo>
                      <a:pt x="3621" y="3610"/>
                    </a:lnTo>
                    <a:lnTo>
                      <a:pt x="3576" y="3610"/>
                    </a:lnTo>
                    <a:lnTo>
                      <a:pt x="3531" y="3609"/>
                    </a:lnTo>
                    <a:lnTo>
                      <a:pt x="3486" y="3607"/>
                    </a:lnTo>
                    <a:lnTo>
                      <a:pt x="3440" y="3605"/>
                    </a:lnTo>
                    <a:lnTo>
                      <a:pt x="3395" y="3602"/>
                    </a:lnTo>
                    <a:lnTo>
                      <a:pt x="3351" y="3599"/>
                    </a:lnTo>
                    <a:lnTo>
                      <a:pt x="3306" y="3595"/>
                    </a:lnTo>
                    <a:lnTo>
                      <a:pt x="3262" y="3591"/>
                    </a:lnTo>
                    <a:lnTo>
                      <a:pt x="3217" y="3586"/>
                    </a:lnTo>
                    <a:lnTo>
                      <a:pt x="3173" y="3581"/>
                    </a:lnTo>
                    <a:lnTo>
                      <a:pt x="3129" y="3575"/>
                    </a:lnTo>
                    <a:lnTo>
                      <a:pt x="3086" y="3568"/>
                    </a:lnTo>
                    <a:lnTo>
                      <a:pt x="3043" y="3561"/>
                    </a:lnTo>
                    <a:lnTo>
                      <a:pt x="2999" y="3554"/>
                    </a:lnTo>
                    <a:lnTo>
                      <a:pt x="2955" y="3546"/>
                    </a:lnTo>
                    <a:lnTo>
                      <a:pt x="2913" y="3537"/>
                    </a:lnTo>
                    <a:lnTo>
                      <a:pt x="2870" y="3528"/>
                    </a:lnTo>
                    <a:lnTo>
                      <a:pt x="2828" y="3519"/>
                    </a:lnTo>
                    <a:lnTo>
                      <a:pt x="2785" y="3508"/>
                    </a:lnTo>
                    <a:lnTo>
                      <a:pt x="2742" y="3498"/>
                    </a:lnTo>
                    <a:lnTo>
                      <a:pt x="2700" y="3487"/>
                    </a:lnTo>
                    <a:lnTo>
                      <a:pt x="2659" y="3475"/>
                    </a:lnTo>
                    <a:lnTo>
                      <a:pt x="2617" y="3463"/>
                    </a:lnTo>
                    <a:lnTo>
                      <a:pt x="2576" y="3450"/>
                    </a:lnTo>
                    <a:lnTo>
                      <a:pt x="2535" y="3437"/>
                    </a:lnTo>
                    <a:lnTo>
                      <a:pt x="2494" y="3423"/>
                    </a:lnTo>
                    <a:lnTo>
                      <a:pt x="2453" y="3409"/>
                    </a:lnTo>
                    <a:lnTo>
                      <a:pt x="2412" y="3394"/>
                    </a:lnTo>
                    <a:lnTo>
                      <a:pt x="2372" y="3378"/>
                    </a:lnTo>
                    <a:lnTo>
                      <a:pt x="2333" y="3363"/>
                    </a:lnTo>
                    <a:lnTo>
                      <a:pt x="2293" y="3347"/>
                    </a:lnTo>
                    <a:lnTo>
                      <a:pt x="2253" y="3330"/>
                    </a:lnTo>
                    <a:lnTo>
                      <a:pt x="2213" y="3313"/>
                    </a:lnTo>
                    <a:lnTo>
                      <a:pt x="2175" y="3295"/>
                    </a:lnTo>
                    <a:lnTo>
                      <a:pt x="2136" y="3277"/>
                    </a:lnTo>
                    <a:lnTo>
                      <a:pt x="2098" y="3259"/>
                    </a:lnTo>
                    <a:lnTo>
                      <a:pt x="2059" y="3240"/>
                    </a:lnTo>
                    <a:lnTo>
                      <a:pt x="2021" y="3221"/>
                    </a:lnTo>
                    <a:lnTo>
                      <a:pt x="1983" y="3201"/>
                    </a:lnTo>
                    <a:lnTo>
                      <a:pt x="1946" y="3181"/>
                    </a:lnTo>
                    <a:lnTo>
                      <a:pt x="1908" y="3159"/>
                    </a:lnTo>
                    <a:lnTo>
                      <a:pt x="1872" y="3138"/>
                    </a:lnTo>
                    <a:lnTo>
                      <a:pt x="1835" y="3117"/>
                    </a:lnTo>
                    <a:lnTo>
                      <a:pt x="1799" y="3094"/>
                    </a:lnTo>
                    <a:lnTo>
                      <a:pt x="1762" y="3072"/>
                    </a:lnTo>
                    <a:lnTo>
                      <a:pt x="1726" y="3049"/>
                    </a:lnTo>
                    <a:lnTo>
                      <a:pt x="1691" y="3026"/>
                    </a:lnTo>
                    <a:lnTo>
                      <a:pt x="1656" y="3002"/>
                    </a:lnTo>
                    <a:lnTo>
                      <a:pt x="1621" y="2978"/>
                    </a:lnTo>
                    <a:lnTo>
                      <a:pt x="1587" y="2953"/>
                    </a:lnTo>
                    <a:lnTo>
                      <a:pt x="1553" y="2928"/>
                    </a:lnTo>
                    <a:lnTo>
                      <a:pt x="1518" y="2903"/>
                    </a:lnTo>
                    <a:lnTo>
                      <a:pt x="1484" y="2877"/>
                    </a:lnTo>
                    <a:lnTo>
                      <a:pt x="1451" y="2851"/>
                    </a:lnTo>
                    <a:lnTo>
                      <a:pt x="1418" y="2824"/>
                    </a:lnTo>
                    <a:lnTo>
                      <a:pt x="1385" y="2798"/>
                    </a:lnTo>
                    <a:lnTo>
                      <a:pt x="1353" y="2770"/>
                    </a:lnTo>
                    <a:lnTo>
                      <a:pt x="1321" y="2742"/>
                    </a:lnTo>
                    <a:lnTo>
                      <a:pt x="1288" y="2714"/>
                    </a:lnTo>
                    <a:lnTo>
                      <a:pt x="1257" y="2685"/>
                    </a:lnTo>
                    <a:lnTo>
                      <a:pt x="1226" y="2656"/>
                    </a:lnTo>
                    <a:lnTo>
                      <a:pt x="1196" y="2627"/>
                    </a:lnTo>
                    <a:lnTo>
                      <a:pt x="1166" y="2598"/>
                    </a:lnTo>
                    <a:lnTo>
                      <a:pt x="1136" y="2568"/>
                    </a:lnTo>
                    <a:lnTo>
                      <a:pt x="1106" y="2538"/>
                    </a:lnTo>
                    <a:lnTo>
                      <a:pt x="1077" y="2506"/>
                    </a:lnTo>
                    <a:lnTo>
                      <a:pt x="1047" y="2475"/>
                    </a:lnTo>
                    <a:lnTo>
                      <a:pt x="1019" y="2444"/>
                    </a:lnTo>
                    <a:lnTo>
                      <a:pt x="990" y="2412"/>
                    </a:lnTo>
                    <a:lnTo>
                      <a:pt x="963" y="2380"/>
                    </a:lnTo>
                    <a:lnTo>
                      <a:pt x="935" y="2348"/>
                    </a:lnTo>
                    <a:lnTo>
                      <a:pt x="908" y="2315"/>
                    </a:lnTo>
                    <a:lnTo>
                      <a:pt x="882" y="2282"/>
                    </a:lnTo>
                    <a:lnTo>
                      <a:pt x="856" y="2248"/>
                    </a:lnTo>
                    <a:lnTo>
                      <a:pt x="830" y="2215"/>
                    </a:lnTo>
                    <a:lnTo>
                      <a:pt x="803" y="2181"/>
                    </a:lnTo>
                    <a:lnTo>
                      <a:pt x="778" y="2147"/>
                    </a:lnTo>
                    <a:lnTo>
                      <a:pt x="754" y="2112"/>
                    </a:lnTo>
                    <a:lnTo>
                      <a:pt x="730" y="2076"/>
                    </a:lnTo>
                    <a:lnTo>
                      <a:pt x="706" y="2041"/>
                    </a:lnTo>
                    <a:lnTo>
                      <a:pt x="682" y="2005"/>
                    </a:lnTo>
                    <a:lnTo>
                      <a:pt x="659" y="1970"/>
                    </a:lnTo>
                    <a:lnTo>
                      <a:pt x="637" y="1934"/>
                    </a:lnTo>
                    <a:lnTo>
                      <a:pt x="615" y="1897"/>
                    </a:lnTo>
                    <a:lnTo>
                      <a:pt x="593" y="1859"/>
                    </a:lnTo>
                    <a:lnTo>
                      <a:pt x="572" y="1823"/>
                    </a:lnTo>
                    <a:lnTo>
                      <a:pt x="550" y="1785"/>
                    </a:lnTo>
                    <a:lnTo>
                      <a:pt x="529" y="1748"/>
                    </a:lnTo>
                    <a:lnTo>
                      <a:pt x="509" y="1710"/>
                    </a:lnTo>
                    <a:lnTo>
                      <a:pt x="490" y="1671"/>
                    </a:lnTo>
                    <a:lnTo>
                      <a:pt x="471" y="1633"/>
                    </a:lnTo>
                    <a:lnTo>
                      <a:pt x="452" y="1594"/>
                    </a:lnTo>
                    <a:lnTo>
                      <a:pt x="434" y="1555"/>
                    </a:lnTo>
                    <a:lnTo>
                      <a:pt x="416" y="1516"/>
                    </a:lnTo>
                    <a:lnTo>
                      <a:pt x="399" y="1477"/>
                    </a:lnTo>
                    <a:lnTo>
                      <a:pt x="382" y="1436"/>
                    </a:lnTo>
                    <a:lnTo>
                      <a:pt x="365" y="1396"/>
                    </a:lnTo>
                    <a:lnTo>
                      <a:pt x="349" y="1356"/>
                    </a:lnTo>
                    <a:lnTo>
                      <a:pt x="334" y="1316"/>
                    </a:lnTo>
                    <a:lnTo>
                      <a:pt x="318" y="1275"/>
                    </a:lnTo>
                    <a:lnTo>
                      <a:pt x="303" y="1234"/>
                    </a:lnTo>
                    <a:lnTo>
                      <a:pt x="289" y="1193"/>
                    </a:lnTo>
                    <a:lnTo>
                      <a:pt x="276" y="1152"/>
                    </a:lnTo>
                    <a:lnTo>
                      <a:pt x="263" y="1110"/>
                    </a:lnTo>
                    <a:lnTo>
                      <a:pt x="250" y="1068"/>
                    </a:lnTo>
                    <a:lnTo>
                      <a:pt x="238" y="1025"/>
                    </a:lnTo>
                    <a:lnTo>
                      <a:pt x="227" y="983"/>
                    </a:lnTo>
                    <a:lnTo>
                      <a:pt x="216" y="941"/>
                    </a:lnTo>
                    <a:lnTo>
                      <a:pt x="205" y="899"/>
                    </a:lnTo>
                    <a:lnTo>
                      <a:pt x="195" y="856"/>
                    </a:lnTo>
                    <a:lnTo>
                      <a:pt x="186" y="812"/>
                    </a:lnTo>
                    <a:lnTo>
                      <a:pt x="177" y="769"/>
                    </a:lnTo>
                    <a:lnTo>
                      <a:pt x="168" y="726"/>
                    </a:lnTo>
                    <a:lnTo>
                      <a:pt x="160" y="682"/>
                    </a:lnTo>
                    <a:lnTo>
                      <a:pt x="153" y="638"/>
                    </a:lnTo>
                    <a:lnTo>
                      <a:pt x="146" y="593"/>
                    </a:lnTo>
                    <a:lnTo>
                      <a:pt x="139" y="549"/>
                    </a:lnTo>
                    <a:lnTo>
                      <a:pt x="134" y="505"/>
                    </a:lnTo>
                    <a:lnTo>
                      <a:pt x="128" y="461"/>
                    </a:lnTo>
                    <a:lnTo>
                      <a:pt x="123" y="416"/>
                    </a:lnTo>
                    <a:lnTo>
                      <a:pt x="119" y="371"/>
                    </a:lnTo>
                    <a:lnTo>
                      <a:pt x="116" y="326"/>
                    </a:lnTo>
                    <a:lnTo>
                      <a:pt x="113" y="281"/>
                    </a:lnTo>
                    <a:lnTo>
                      <a:pt x="110" y="236"/>
                    </a:lnTo>
                    <a:lnTo>
                      <a:pt x="108" y="190"/>
                    </a:lnTo>
                    <a:lnTo>
                      <a:pt x="107" y="144"/>
                    </a:lnTo>
                    <a:lnTo>
                      <a:pt x="106" y="98"/>
                    </a:lnTo>
                    <a:lnTo>
                      <a:pt x="106" y="52"/>
                    </a:lnTo>
                    <a:lnTo>
                      <a:pt x="106" y="52"/>
                    </a:lnTo>
                    <a:lnTo>
                      <a:pt x="106" y="52"/>
                    </a:lnTo>
                    <a:lnTo>
                      <a:pt x="105" y="46"/>
                    </a:lnTo>
                    <a:lnTo>
                      <a:pt x="104" y="40"/>
                    </a:lnTo>
                    <a:lnTo>
                      <a:pt x="103" y="34"/>
                    </a:lnTo>
                    <a:lnTo>
                      <a:pt x="101" y="29"/>
                    </a:lnTo>
                    <a:lnTo>
                      <a:pt x="99" y="25"/>
                    </a:lnTo>
                    <a:lnTo>
                      <a:pt x="96" y="20"/>
                    </a:lnTo>
                    <a:lnTo>
                      <a:pt x="93" y="16"/>
                    </a:lnTo>
                    <a:lnTo>
                      <a:pt x="89" y="13"/>
                    </a:lnTo>
                    <a:lnTo>
                      <a:pt x="80" y="7"/>
                    </a:lnTo>
                    <a:lnTo>
                      <a:pt x="71" y="3"/>
                    </a:lnTo>
                    <a:lnTo>
                      <a:pt x="62" y="1"/>
                    </a:lnTo>
                    <a:lnTo>
                      <a:pt x="52" y="0"/>
                    </a:lnTo>
                    <a:lnTo>
                      <a:pt x="42" y="1"/>
                    </a:lnTo>
                    <a:lnTo>
                      <a:pt x="33" y="3"/>
                    </a:lnTo>
                    <a:lnTo>
                      <a:pt x="24" y="7"/>
                    </a:lnTo>
                    <a:lnTo>
                      <a:pt x="16" y="13"/>
                    </a:lnTo>
                    <a:lnTo>
                      <a:pt x="12" y="16"/>
                    </a:lnTo>
                    <a:lnTo>
                      <a:pt x="9" y="20"/>
                    </a:lnTo>
                    <a:lnTo>
                      <a:pt x="6" y="25"/>
                    </a:lnTo>
                    <a:lnTo>
                      <a:pt x="4" y="29"/>
                    </a:lnTo>
                    <a:lnTo>
                      <a:pt x="2" y="34"/>
                    </a:lnTo>
                    <a:lnTo>
                      <a:pt x="1" y="40"/>
                    </a:lnTo>
                    <a:lnTo>
                      <a:pt x="0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872240" y="6023160"/>
                <a:ext cx="233280" cy="231840"/>
              </a:xfrm>
              <a:custGeom>
                <a:avLst/>
                <a:gdLst/>
                <a:ahLst/>
                <a:rect l="l" t="t" r="r" b="b"/>
                <a:pathLst>
                  <a:path w="3674" h="3663">
                    <a:moveTo>
                      <a:pt x="3621" y="0"/>
                    </a:moveTo>
                    <a:lnTo>
                      <a:pt x="3621" y="0"/>
                    </a:lnTo>
                    <a:lnTo>
                      <a:pt x="3574" y="0"/>
                    </a:lnTo>
                    <a:lnTo>
                      <a:pt x="3528" y="2"/>
                    </a:lnTo>
                    <a:lnTo>
                      <a:pt x="3482" y="3"/>
                    </a:lnTo>
                    <a:lnTo>
                      <a:pt x="3435" y="5"/>
                    </a:lnTo>
                    <a:lnTo>
                      <a:pt x="3389" y="8"/>
                    </a:lnTo>
                    <a:lnTo>
                      <a:pt x="3343" y="11"/>
                    </a:lnTo>
                    <a:lnTo>
                      <a:pt x="3297" y="15"/>
                    </a:lnTo>
                    <a:lnTo>
                      <a:pt x="3251" y="19"/>
                    </a:lnTo>
                    <a:lnTo>
                      <a:pt x="3205" y="24"/>
                    </a:lnTo>
                    <a:lnTo>
                      <a:pt x="3160" y="30"/>
                    </a:lnTo>
                    <a:lnTo>
                      <a:pt x="3115" y="36"/>
                    </a:lnTo>
                    <a:lnTo>
                      <a:pt x="3070" y="42"/>
                    </a:lnTo>
                    <a:lnTo>
                      <a:pt x="3025" y="50"/>
                    </a:lnTo>
                    <a:lnTo>
                      <a:pt x="2980" y="57"/>
                    </a:lnTo>
                    <a:lnTo>
                      <a:pt x="2936" y="66"/>
                    </a:lnTo>
                    <a:lnTo>
                      <a:pt x="2892" y="74"/>
                    </a:lnTo>
                    <a:lnTo>
                      <a:pt x="2847" y="84"/>
                    </a:lnTo>
                    <a:lnTo>
                      <a:pt x="2804" y="94"/>
                    </a:lnTo>
                    <a:lnTo>
                      <a:pt x="2760" y="104"/>
                    </a:lnTo>
                    <a:lnTo>
                      <a:pt x="2716" y="115"/>
                    </a:lnTo>
                    <a:lnTo>
                      <a:pt x="2673" y="127"/>
                    </a:lnTo>
                    <a:lnTo>
                      <a:pt x="2630" y="139"/>
                    </a:lnTo>
                    <a:lnTo>
                      <a:pt x="2587" y="152"/>
                    </a:lnTo>
                    <a:lnTo>
                      <a:pt x="2545" y="165"/>
                    </a:lnTo>
                    <a:lnTo>
                      <a:pt x="2503" y="179"/>
                    </a:lnTo>
                    <a:lnTo>
                      <a:pt x="2460" y="193"/>
                    </a:lnTo>
                    <a:lnTo>
                      <a:pt x="2418" y="208"/>
                    </a:lnTo>
                    <a:lnTo>
                      <a:pt x="2376" y="223"/>
                    </a:lnTo>
                    <a:lnTo>
                      <a:pt x="2335" y="238"/>
                    </a:lnTo>
                    <a:lnTo>
                      <a:pt x="2294" y="255"/>
                    </a:lnTo>
                    <a:lnTo>
                      <a:pt x="2252" y="271"/>
                    </a:lnTo>
                    <a:lnTo>
                      <a:pt x="2212" y="288"/>
                    </a:lnTo>
                    <a:lnTo>
                      <a:pt x="2171" y="306"/>
                    </a:lnTo>
                    <a:lnTo>
                      <a:pt x="2131" y="324"/>
                    </a:lnTo>
                    <a:lnTo>
                      <a:pt x="2091" y="342"/>
                    </a:lnTo>
                    <a:lnTo>
                      <a:pt x="2052" y="362"/>
                    </a:lnTo>
                    <a:lnTo>
                      <a:pt x="2011" y="382"/>
                    </a:lnTo>
                    <a:lnTo>
                      <a:pt x="1972" y="402"/>
                    </a:lnTo>
                    <a:lnTo>
                      <a:pt x="1934" y="422"/>
                    </a:lnTo>
                    <a:lnTo>
                      <a:pt x="1895" y="443"/>
                    </a:lnTo>
                    <a:lnTo>
                      <a:pt x="1857" y="464"/>
                    </a:lnTo>
                    <a:lnTo>
                      <a:pt x="1819" y="486"/>
                    </a:lnTo>
                    <a:lnTo>
                      <a:pt x="1781" y="508"/>
                    </a:lnTo>
                    <a:lnTo>
                      <a:pt x="1743" y="531"/>
                    </a:lnTo>
                    <a:lnTo>
                      <a:pt x="1706" y="554"/>
                    </a:lnTo>
                    <a:lnTo>
                      <a:pt x="1669" y="578"/>
                    </a:lnTo>
                    <a:lnTo>
                      <a:pt x="1633" y="602"/>
                    </a:lnTo>
                    <a:lnTo>
                      <a:pt x="1597" y="626"/>
                    </a:lnTo>
                    <a:lnTo>
                      <a:pt x="1561" y="651"/>
                    </a:lnTo>
                    <a:lnTo>
                      <a:pt x="1525" y="677"/>
                    </a:lnTo>
                    <a:lnTo>
                      <a:pt x="1489" y="702"/>
                    </a:lnTo>
                    <a:lnTo>
                      <a:pt x="1454" y="728"/>
                    </a:lnTo>
                    <a:lnTo>
                      <a:pt x="1420" y="755"/>
                    </a:lnTo>
                    <a:lnTo>
                      <a:pt x="1386" y="781"/>
                    </a:lnTo>
                    <a:lnTo>
                      <a:pt x="1352" y="810"/>
                    </a:lnTo>
                    <a:lnTo>
                      <a:pt x="1318" y="838"/>
                    </a:lnTo>
                    <a:lnTo>
                      <a:pt x="1251" y="894"/>
                    </a:lnTo>
                    <a:lnTo>
                      <a:pt x="1187" y="952"/>
                    </a:lnTo>
                    <a:lnTo>
                      <a:pt x="1154" y="982"/>
                    </a:lnTo>
                    <a:lnTo>
                      <a:pt x="1123" y="1013"/>
                    </a:lnTo>
                    <a:lnTo>
                      <a:pt x="1092" y="1043"/>
                    </a:lnTo>
                    <a:lnTo>
                      <a:pt x="1061" y="1074"/>
                    </a:lnTo>
                    <a:lnTo>
                      <a:pt x="1000" y="1136"/>
                    </a:lnTo>
                    <a:lnTo>
                      <a:pt x="941" y="1200"/>
                    </a:lnTo>
                    <a:lnTo>
                      <a:pt x="912" y="1234"/>
                    </a:lnTo>
                    <a:lnTo>
                      <a:pt x="883" y="1267"/>
                    </a:lnTo>
                    <a:lnTo>
                      <a:pt x="855" y="1300"/>
                    </a:lnTo>
                    <a:lnTo>
                      <a:pt x="827" y="1334"/>
                    </a:lnTo>
                    <a:lnTo>
                      <a:pt x="799" y="1368"/>
                    </a:lnTo>
                    <a:lnTo>
                      <a:pt x="772" y="1402"/>
                    </a:lnTo>
                    <a:lnTo>
                      <a:pt x="745" y="1438"/>
                    </a:lnTo>
                    <a:lnTo>
                      <a:pt x="719" y="1472"/>
                    </a:lnTo>
                    <a:lnTo>
                      <a:pt x="694" y="1508"/>
                    </a:lnTo>
                    <a:lnTo>
                      <a:pt x="668" y="1543"/>
                    </a:lnTo>
                    <a:lnTo>
                      <a:pt x="643" y="1579"/>
                    </a:lnTo>
                    <a:lnTo>
                      <a:pt x="619" y="1615"/>
                    </a:lnTo>
                    <a:lnTo>
                      <a:pt x="595" y="1653"/>
                    </a:lnTo>
                    <a:lnTo>
                      <a:pt x="571" y="1690"/>
                    </a:lnTo>
                    <a:lnTo>
                      <a:pt x="547" y="1727"/>
                    </a:lnTo>
                    <a:lnTo>
                      <a:pt x="524" y="1764"/>
                    </a:lnTo>
                    <a:lnTo>
                      <a:pt x="502" y="1802"/>
                    </a:lnTo>
                    <a:lnTo>
                      <a:pt x="480" y="1840"/>
                    </a:lnTo>
                    <a:lnTo>
                      <a:pt x="458" y="1880"/>
                    </a:lnTo>
                    <a:lnTo>
                      <a:pt x="437" y="1918"/>
                    </a:lnTo>
                    <a:lnTo>
                      <a:pt x="417" y="1957"/>
                    </a:lnTo>
                    <a:lnTo>
                      <a:pt x="396" y="1996"/>
                    </a:lnTo>
                    <a:lnTo>
                      <a:pt x="377" y="2036"/>
                    </a:lnTo>
                    <a:lnTo>
                      <a:pt x="357" y="2076"/>
                    </a:lnTo>
                    <a:lnTo>
                      <a:pt x="339" y="2116"/>
                    </a:lnTo>
                    <a:lnTo>
                      <a:pt x="319" y="2156"/>
                    </a:lnTo>
                    <a:lnTo>
                      <a:pt x="302" y="2197"/>
                    </a:lnTo>
                    <a:lnTo>
                      <a:pt x="284" y="2238"/>
                    </a:lnTo>
                    <a:lnTo>
                      <a:pt x="267" y="2279"/>
                    </a:lnTo>
                    <a:lnTo>
                      <a:pt x="251" y="2321"/>
                    </a:lnTo>
                    <a:lnTo>
                      <a:pt x="235" y="2362"/>
                    </a:lnTo>
                    <a:lnTo>
                      <a:pt x="220" y="2404"/>
                    </a:lnTo>
                    <a:lnTo>
                      <a:pt x="205" y="2446"/>
                    </a:lnTo>
                    <a:lnTo>
                      <a:pt x="190" y="2488"/>
                    </a:lnTo>
                    <a:lnTo>
                      <a:pt x="176" y="2532"/>
                    </a:lnTo>
                    <a:lnTo>
                      <a:pt x="163" y="2575"/>
                    </a:lnTo>
                    <a:lnTo>
                      <a:pt x="150" y="2618"/>
                    </a:lnTo>
                    <a:lnTo>
                      <a:pt x="137" y="2661"/>
                    </a:lnTo>
                    <a:lnTo>
                      <a:pt x="126" y="2704"/>
                    </a:lnTo>
                    <a:lnTo>
                      <a:pt x="114" y="2749"/>
                    </a:lnTo>
                    <a:lnTo>
                      <a:pt x="103" y="2792"/>
                    </a:lnTo>
                    <a:lnTo>
                      <a:pt x="93" y="2836"/>
                    </a:lnTo>
                    <a:lnTo>
                      <a:pt x="82" y="2881"/>
                    </a:lnTo>
                    <a:lnTo>
                      <a:pt x="73" y="2925"/>
                    </a:lnTo>
                    <a:lnTo>
                      <a:pt x="64" y="2971"/>
                    </a:lnTo>
                    <a:lnTo>
                      <a:pt x="56" y="3015"/>
                    </a:lnTo>
                    <a:lnTo>
                      <a:pt x="48" y="3060"/>
                    </a:lnTo>
                    <a:lnTo>
                      <a:pt x="41" y="3105"/>
                    </a:lnTo>
                    <a:lnTo>
                      <a:pt x="35" y="3152"/>
                    </a:lnTo>
                    <a:lnTo>
                      <a:pt x="29" y="3197"/>
                    </a:lnTo>
                    <a:lnTo>
                      <a:pt x="23" y="3243"/>
                    </a:lnTo>
                    <a:lnTo>
                      <a:pt x="18" y="3289"/>
                    </a:lnTo>
                    <a:lnTo>
                      <a:pt x="14" y="3335"/>
                    </a:lnTo>
                    <a:lnTo>
                      <a:pt x="10" y="3382"/>
                    </a:lnTo>
                    <a:lnTo>
                      <a:pt x="7" y="3428"/>
                    </a:lnTo>
                    <a:lnTo>
                      <a:pt x="4" y="3475"/>
                    </a:lnTo>
                    <a:lnTo>
                      <a:pt x="2" y="3521"/>
                    </a:lnTo>
                    <a:lnTo>
                      <a:pt x="1" y="3568"/>
                    </a:lnTo>
                    <a:lnTo>
                      <a:pt x="0" y="3616"/>
                    </a:lnTo>
                    <a:lnTo>
                      <a:pt x="0" y="3663"/>
                    </a:lnTo>
                    <a:lnTo>
                      <a:pt x="106" y="3663"/>
                    </a:lnTo>
                    <a:lnTo>
                      <a:pt x="106" y="3617"/>
                    </a:lnTo>
                    <a:lnTo>
                      <a:pt x="107" y="3571"/>
                    </a:lnTo>
                    <a:lnTo>
                      <a:pt x="108" y="3525"/>
                    </a:lnTo>
                    <a:lnTo>
                      <a:pt x="110" y="3480"/>
                    </a:lnTo>
                    <a:lnTo>
                      <a:pt x="113" y="3435"/>
                    </a:lnTo>
                    <a:lnTo>
                      <a:pt x="116" y="3390"/>
                    </a:lnTo>
                    <a:lnTo>
                      <a:pt x="119" y="3344"/>
                    </a:lnTo>
                    <a:lnTo>
                      <a:pt x="123" y="3299"/>
                    </a:lnTo>
                    <a:lnTo>
                      <a:pt x="128" y="3255"/>
                    </a:lnTo>
                    <a:lnTo>
                      <a:pt x="134" y="3210"/>
                    </a:lnTo>
                    <a:lnTo>
                      <a:pt x="139" y="3166"/>
                    </a:lnTo>
                    <a:lnTo>
                      <a:pt x="146" y="3121"/>
                    </a:lnTo>
                    <a:lnTo>
                      <a:pt x="153" y="3077"/>
                    </a:lnTo>
                    <a:lnTo>
                      <a:pt x="160" y="3033"/>
                    </a:lnTo>
                    <a:lnTo>
                      <a:pt x="168" y="2990"/>
                    </a:lnTo>
                    <a:lnTo>
                      <a:pt x="177" y="2946"/>
                    </a:lnTo>
                    <a:lnTo>
                      <a:pt x="186" y="2902"/>
                    </a:lnTo>
                    <a:lnTo>
                      <a:pt x="195" y="2859"/>
                    </a:lnTo>
                    <a:lnTo>
                      <a:pt x="205" y="2817"/>
                    </a:lnTo>
                    <a:lnTo>
                      <a:pt x="216" y="2774"/>
                    </a:lnTo>
                    <a:lnTo>
                      <a:pt x="227" y="2732"/>
                    </a:lnTo>
                    <a:lnTo>
                      <a:pt x="238" y="2689"/>
                    </a:lnTo>
                    <a:lnTo>
                      <a:pt x="250" y="2647"/>
                    </a:lnTo>
                    <a:lnTo>
                      <a:pt x="263" y="2605"/>
                    </a:lnTo>
                    <a:lnTo>
                      <a:pt x="276" y="2564"/>
                    </a:lnTo>
                    <a:lnTo>
                      <a:pt x="289" y="2523"/>
                    </a:lnTo>
                    <a:lnTo>
                      <a:pt x="303" y="2481"/>
                    </a:lnTo>
                    <a:lnTo>
                      <a:pt x="318" y="2440"/>
                    </a:lnTo>
                    <a:lnTo>
                      <a:pt x="334" y="2399"/>
                    </a:lnTo>
                    <a:lnTo>
                      <a:pt x="349" y="2359"/>
                    </a:lnTo>
                    <a:lnTo>
                      <a:pt x="365" y="2319"/>
                    </a:lnTo>
                    <a:lnTo>
                      <a:pt x="382" y="2278"/>
                    </a:lnTo>
                    <a:lnTo>
                      <a:pt x="399" y="2238"/>
                    </a:lnTo>
                    <a:lnTo>
                      <a:pt x="416" y="2199"/>
                    </a:lnTo>
                    <a:lnTo>
                      <a:pt x="434" y="2160"/>
                    </a:lnTo>
                    <a:lnTo>
                      <a:pt x="452" y="2121"/>
                    </a:lnTo>
                    <a:lnTo>
                      <a:pt x="471" y="2083"/>
                    </a:lnTo>
                    <a:lnTo>
                      <a:pt x="490" y="2043"/>
                    </a:lnTo>
                    <a:lnTo>
                      <a:pt x="509" y="2005"/>
                    </a:lnTo>
                    <a:lnTo>
                      <a:pt x="529" y="1968"/>
                    </a:lnTo>
                    <a:lnTo>
                      <a:pt x="550" y="1930"/>
                    </a:lnTo>
                    <a:lnTo>
                      <a:pt x="572" y="1893"/>
                    </a:lnTo>
                    <a:lnTo>
                      <a:pt x="593" y="1855"/>
                    </a:lnTo>
                    <a:lnTo>
                      <a:pt x="615" y="1818"/>
                    </a:lnTo>
                    <a:lnTo>
                      <a:pt x="637" y="1782"/>
                    </a:lnTo>
                    <a:lnTo>
                      <a:pt x="659" y="1746"/>
                    </a:lnTo>
                    <a:lnTo>
                      <a:pt x="682" y="1710"/>
                    </a:lnTo>
                    <a:lnTo>
                      <a:pt x="706" y="1675"/>
                    </a:lnTo>
                    <a:lnTo>
                      <a:pt x="730" y="1638"/>
                    </a:lnTo>
                    <a:lnTo>
                      <a:pt x="754" y="1604"/>
                    </a:lnTo>
                    <a:lnTo>
                      <a:pt x="778" y="1569"/>
                    </a:lnTo>
                    <a:lnTo>
                      <a:pt x="803" y="1535"/>
                    </a:lnTo>
                    <a:lnTo>
                      <a:pt x="830" y="1501"/>
                    </a:lnTo>
                    <a:lnTo>
                      <a:pt x="856" y="1467"/>
                    </a:lnTo>
                    <a:lnTo>
                      <a:pt x="882" y="1434"/>
                    </a:lnTo>
                    <a:lnTo>
                      <a:pt x="908" y="1400"/>
                    </a:lnTo>
                    <a:lnTo>
                      <a:pt x="935" y="1367"/>
                    </a:lnTo>
                    <a:lnTo>
                      <a:pt x="963" y="1335"/>
                    </a:lnTo>
                    <a:lnTo>
                      <a:pt x="990" y="1303"/>
                    </a:lnTo>
                    <a:lnTo>
                      <a:pt x="1018" y="1272"/>
                    </a:lnTo>
                    <a:lnTo>
                      <a:pt x="1077" y="1208"/>
                    </a:lnTo>
                    <a:lnTo>
                      <a:pt x="1136" y="1147"/>
                    </a:lnTo>
                    <a:lnTo>
                      <a:pt x="1165" y="1118"/>
                    </a:lnTo>
                    <a:lnTo>
                      <a:pt x="1196" y="1088"/>
                    </a:lnTo>
                    <a:lnTo>
                      <a:pt x="1226" y="1059"/>
                    </a:lnTo>
                    <a:lnTo>
                      <a:pt x="1257" y="1030"/>
                    </a:lnTo>
                    <a:lnTo>
                      <a:pt x="1321" y="973"/>
                    </a:lnTo>
                    <a:lnTo>
                      <a:pt x="1386" y="918"/>
                    </a:lnTo>
                    <a:lnTo>
                      <a:pt x="1418" y="891"/>
                    </a:lnTo>
                    <a:lnTo>
                      <a:pt x="1451" y="864"/>
                    </a:lnTo>
                    <a:lnTo>
                      <a:pt x="1484" y="838"/>
                    </a:lnTo>
                    <a:lnTo>
                      <a:pt x="1518" y="813"/>
                    </a:lnTo>
                    <a:lnTo>
                      <a:pt x="1553" y="786"/>
                    </a:lnTo>
                    <a:lnTo>
                      <a:pt x="1587" y="761"/>
                    </a:lnTo>
                    <a:lnTo>
                      <a:pt x="1621" y="737"/>
                    </a:lnTo>
                    <a:lnTo>
                      <a:pt x="1656" y="713"/>
                    </a:lnTo>
                    <a:lnTo>
                      <a:pt x="1691" y="689"/>
                    </a:lnTo>
                    <a:lnTo>
                      <a:pt x="1726" y="666"/>
                    </a:lnTo>
                    <a:lnTo>
                      <a:pt x="1762" y="643"/>
                    </a:lnTo>
                    <a:lnTo>
                      <a:pt x="1799" y="621"/>
                    </a:lnTo>
                    <a:lnTo>
                      <a:pt x="1835" y="599"/>
                    </a:lnTo>
                    <a:lnTo>
                      <a:pt x="1872" y="577"/>
                    </a:lnTo>
                    <a:lnTo>
                      <a:pt x="1909" y="555"/>
                    </a:lnTo>
                    <a:lnTo>
                      <a:pt x="1946" y="535"/>
                    </a:lnTo>
                    <a:lnTo>
                      <a:pt x="1983" y="514"/>
                    </a:lnTo>
                    <a:lnTo>
                      <a:pt x="2021" y="495"/>
                    </a:lnTo>
                    <a:lnTo>
                      <a:pt x="2059" y="475"/>
                    </a:lnTo>
                    <a:lnTo>
                      <a:pt x="2098" y="456"/>
                    </a:lnTo>
                    <a:lnTo>
                      <a:pt x="2136" y="438"/>
                    </a:lnTo>
                    <a:lnTo>
                      <a:pt x="2175" y="420"/>
                    </a:lnTo>
                    <a:lnTo>
                      <a:pt x="2213" y="402"/>
                    </a:lnTo>
                    <a:lnTo>
                      <a:pt x="2253" y="385"/>
                    </a:lnTo>
                    <a:lnTo>
                      <a:pt x="2293" y="369"/>
                    </a:lnTo>
                    <a:lnTo>
                      <a:pt x="2333" y="352"/>
                    </a:lnTo>
                    <a:lnTo>
                      <a:pt x="2372" y="336"/>
                    </a:lnTo>
                    <a:lnTo>
                      <a:pt x="2412" y="321"/>
                    </a:lnTo>
                    <a:lnTo>
                      <a:pt x="2453" y="306"/>
                    </a:lnTo>
                    <a:lnTo>
                      <a:pt x="2493" y="292"/>
                    </a:lnTo>
                    <a:lnTo>
                      <a:pt x="2535" y="279"/>
                    </a:lnTo>
                    <a:lnTo>
                      <a:pt x="2576" y="265"/>
                    </a:lnTo>
                    <a:lnTo>
                      <a:pt x="2617" y="253"/>
                    </a:lnTo>
                    <a:lnTo>
                      <a:pt x="2659" y="241"/>
                    </a:lnTo>
                    <a:lnTo>
                      <a:pt x="2700" y="229"/>
                    </a:lnTo>
                    <a:lnTo>
                      <a:pt x="2742" y="217"/>
                    </a:lnTo>
                    <a:lnTo>
                      <a:pt x="2785" y="207"/>
                    </a:lnTo>
                    <a:lnTo>
                      <a:pt x="2828" y="197"/>
                    </a:lnTo>
                    <a:lnTo>
                      <a:pt x="2870" y="187"/>
                    </a:lnTo>
                    <a:lnTo>
                      <a:pt x="2913" y="178"/>
                    </a:lnTo>
                    <a:lnTo>
                      <a:pt x="2955" y="169"/>
                    </a:lnTo>
                    <a:lnTo>
                      <a:pt x="2999" y="161"/>
                    </a:lnTo>
                    <a:lnTo>
                      <a:pt x="3043" y="154"/>
                    </a:lnTo>
                    <a:lnTo>
                      <a:pt x="3086" y="147"/>
                    </a:lnTo>
                    <a:lnTo>
                      <a:pt x="3129" y="139"/>
                    </a:lnTo>
                    <a:lnTo>
                      <a:pt x="3173" y="133"/>
                    </a:lnTo>
                    <a:lnTo>
                      <a:pt x="3217" y="128"/>
                    </a:lnTo>
                    <a:lnTo>
                      <a:pt x="3262" y="123"/>
                    </a:lnTo>
                    <a:lnTo>
                      <a:pt x="3306" y="119"/>
                    </a:lnTo>
                    <a:lnTo>
                      <a:pt x="3351" y="115"/>
                    </a:lnTo>
                    <a:lnTo>
                      <a:pt x="3395" y="112"/>
                    </a:lnTo>
                    <a:lnTo>
                      <a:pt x="3440" y="110"/>
                    </a:lnTo>
                    <a:lnTo>
                      <a:pt x="3486" y="108"/>
                    </a:lnTo>
                    <a:lnTo>
                      <a:pt x="3531" y="106"/>
                    </a:lnTo>
                    <a:lnTo>
                      <a:pt x="3576" y="105"/>
                    </a:lnTo>
                    <a:lnTo>
                      <a:pt x="3621" y="105"/>
                    </a:lnTo>
                    <a:lnTo>
                      <a:pt x="3621" y="105"/>
                    </a:lnTo>
                    <a:lnTo>
                      <a:pt x="3621" y="105"/>
                    </a:lnTo>
                    <a:lnTo>
                      <a:pt x="3627" y="105"/>
                    </a:lnTo>
                    <a:lnTo>
                      <a:pt x="3633" y="104"/>
                    </a:lnTo>
                    <a:lnTo>
                      <a:pt x="3639" y="102"/>
                    </a:lnTo>
                    <a:lnTo>
                      <a:pt x="3644" y="101"/>
                    </a:lnTo>
                    <a:lnTo>
                      <a:pt x="3649" y="98"/>
                    </a:lnTo>
                    <a:lnTo>
                      <a:pt x="3653" y="95"/>
                    </a:lnTo>
                    <a:lnTo>
                      <a:pt x="3657" y="92"/>
                    </a:lnTo>
                    <a:lnTo>
                      <a:pt x="3660" y="89"/>
                    </a:lnTo>
                    <a:lnTo>
                      <a:pt x="3666" y="81"/>
                    </a:lnTo>
                    <a:lnTo>
                      <a:pt x="3670" y="72"/>
                    </a:lnTo>
                    <a:lnTo>
                      <a:pt x="3673" y="62"/>
                    </a:lnTo>
                    <a:lnTo>
                      <a:pt x="3674" y="53"/>
                    </a:lnTo>
                    <a:lnTo>
                      <a:pt x="3673" y="43"/>
                    </a:lnTo>
                    <a:lnTo>
                      <a:pt x="3670" y="33"/>
                    </a:lnTo>
                    <a:lnTo>
                      <a:pt x="3666" y="25"/>
                    </a:lnTo>
                    <a:lnTo>
                      <a:pt x="3660" y="17"/>
                    </a:lnTo>
                    <a:lnTo>
                      <a:pt x="3657" y="13"/>
                    </a:lnTo>
                    <a:lnTo>
                      <a:pt x="3653" y="10"/>
                    </a:lnTo>
                    <a:lnTo>
                      <a:pt x="3649" y="7"/>
                    </a:lnTo>
                    <a:lnTo>
                      <a:pt x="3644" y="5"/>
                    </a:lnTo>
                    <a:lnTo>
                      <a:pt x="3639" y="3"/>
                    </a:lnTo>
                    <a:lnTo>
                      <a:pt x="3633" y="1"/>
                    </a:lnTo>
                    <a:lnTo>
                      <a:pt x="3627" y="0"/>
                    </a:lnTo>
                    <a:lnTo>
                      <a:pt x="3621" y="0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102280" y="6023160"/>
                <a:ext cx="230040" cy="231840"/>
              </a:xfrm>
              <a:custGeom>
                <a:avLst/>
                <a:gdLst/>
                <a:ahLst/>
                <a:rect l="l" t="t" r="r" b="b"/>
                <a:pathLst>
                  <a:path w="3621" h="3663">
                    <a:moveTo>
                      <a:pt x="3621" y="3663"/>
                    </a:moveTo>
                    <a:lnTo>
                      <a:pt x="3621" y="3616"/>
                    </a:lnTo>
                    <a:lnTo>
                      <a:pt x="3620" y="3568"/>
                    </a:lnTo>
                    <a:lnTo>
                      <a:pt x="3619" y="3521"/>
                    </a:lnTo>
                    <a:lnTo>
                      <a:pt x="3617" y="3475"/>
                    </a:lnTo>
                    <a:lnTo>
                      <a:pt x="3614" y="3428"/>
                    </a:lnTo>
                    <a:lnTo>
                      <a:pt x="3611" y="3382"/>
                    </a:lnTo>
                    <a:lnTo>
                      <a:pt x="3607" y="3335"/>
                    </a:lnTo>
                    <a:lnTo>
                      <a:pt x="3603" y="3289"/>
                    </a:lnTo>
                    <a:lnTo>
                      <a:pt x="3598" y="3243"/>
                    </a:lnTo>
                    <a:lnTo>
                      <a:pt x="3592" y="3197"/>
                    </a:lnTo>
                    <a:lnTo>
                      <a:pt x="3586" y="3152"/>
                    </a:lnTo>
                    <a:lnTo>
                      <a:pt x="3580" y="3105"/>
                    </a:lnTo>
                    <a:lnTo>
                      <a:pt x="3573" y="3060"/>
                    </a:lnTo>
                    <a:lnTo>
                      <a:pt x="3565" y="3015"/>
                    </a:lnTo>
                    <a:lnTo>
                      <a:pt x="3557" y="2971"/>
                    </a:lnTo>
                    <a:lnTo>
                      <a:pt x="3548" y="2925"/>
                    </a:lnTo>
                    <a:lnTo>
                      <a:pt x="3539" y="2881"/>
                    </a:lnTo>
                    <a:lnTo>
                      <a:pt x="3529" y="2836"/>
                    </a:lnTo>
                    <a:lnTo>
                      <a:pt x="3519" y="2792"/>
                    </a:lnTo>
                    <a:lnTo>
                      <a:pt x="3508" y="2749"/>
                    </a:lnTo>
                    <a:lnTo>
                      <a:pt x="3496" y="2704"/>
                    </a:lnTo>
                    <a:lnTo>
                      <a:pt x="3484" y="2661"/>
                    </a:lnTo>
                    <a:lnTo>
                      <a:pt x="3471" y="2618"/>
                    </a:lnTo>
                    <a:lnTo>
                      <a:pt x="3458" y="2575"/>
                    </a:lnTo>
                    <a:lnTo>
                      <a:pt x="3445" y="2532"/>
                    </a:lnTo>
                    <a:lnTo>
                      <a:pt x="3431" y="2488"/>
                    </a:lnTo>
                    <a:lnTo>
                      <a:pt x="3416" y="2446"/>
                    </a:lnTo>
                    <a:lnTo>
                      <a:pt x="3401" y="2404"/>
                    </a:lnTo>
                    <a:lnTo>
                      <a:pt x="3386" y="2362"/>
                    </a:lnTo>
                    <a:lnTo>
                      <a:pt x="3370" y="2321"/>
                    </a:lnTo>
                    <a:lnTo>
                      <a:pt x="3354" y="2279"/>
                    </a:lnTo>
                    <a:lnTo>
                      <a:pt x="3337" y="2238"/>
                    </a:lnTo>
                    <a:lnTo>
                      <a:pt x="3319" y="2197"/>
                    </a:lnTo>
                    <a:lnTo>
                      <a:pt x="3302" y="2156"/>
                    </a:lnTo>
                    <a:lnTo>
                      <a:pt x="3283" y="2116"/>
                    </a:lnTo>
                    <a:lnTo>
                      <a:pt x="3265" y="2076"/>
                    </a:lnTo>
                    <a:lnTo>
                      <a:pt x="3245" y="2035"/>
                    </a:lnTo>
                    <a:lnTo>
                      <a:pt x="3225" y="1996"/>
                    </a:lnTo>
                    <a:lnTo>
                      <a:pt x="3205" y="1957"/>
                    </a:lnTo>
                    <a:lnTo>
                      <a:pt x="3184" y="1918"/>
                    </a:lnTo>
                    <a:lnTo>
                      <a:pt x="3163" y="1880"/>
                    </a:lnTo>
                    <a:lnTo>
                      <a:pt x="3141" y="1840"/>
                    </a:lnTo>
                    <a:lnTo>
                      <a:pt x="3119" y="1802"/>
                    </a:lnTo>
                    <a:lnTo>
                      <a:pt x="3097" y="1764"/>
                    </a:lnTo>
                    <a:lnTo>
                      <a:pt x="3074" y="1727"/>
                    </a:lnTo>
                    <a:lnTo>
                      <a:pt x="3051" y="1690"/>
                    </a:lnTo>
                    <a:lnTo>
                      <a:pt x="3027" y="1653"/>
                    </a:lnTo>
                    <a:lnTo>
                      <a:pt x="3003" y="1615"/>
                    </a:lnTo>
                    <a:lnTo>
                      <a:pt x="2953" y="1543"/>
                    </a:lnTo>
                    <a:lnTo>
                      <a:pt x="2902" y="1472"/>
                    </a:lnTo>
                    <a:lnTo>
                      <a:pt x="2849" y="1402"/>
                    </a:lnTo>
                    <a:lnTo>
                      <a:pt x="2795" y="1334"/>
                    </a:lnTo>
                    <a:lnTo>
                      <a:pt x="2738" y="1267"/>
                    </a:lnTo>
                    <a:lnTo>
                      <a:pt x="2680" y="1200"/>
                    </a:lnTo>
                    <a:lnTo>
                      <a:pt x="2621" y="1136"/>
                    </a:lnTo>
                    <a:lnTo>
                      <a:pt x="2561" y="1074"/>
                    </a:lnTo>
                    <a:lnTo>
                      <a:pt x="2498" y="1013"/>
                    </a:lnTo>
                    <a:lnTo>
                      <a:pt x="2435" y="952"/>
                    </a:lnTo>
                    <a:lnTo>
                      <a:pt x="2370" y="894"/>
                    </a:lnTo>
                    <a:lnTo>
                      <a:pt x="2304" y="837"/>
                    </a:lnTo>
                    <a:lnTo>
                      <a:pt x="2235" y="781"/>
                    </a:lnTo>
                    <a:lnTo>
                      <a:pt x="2167" y="728"/>
                    </a:lnTo>
                    <a:lnTo>
                      <a:pt x="2132" y="702"/>
                    </a:lnTo>
                    <a:lnTo>
                      <a:pt x="2096" y="677"/>
                    </a:lnTo>
                    <a:lnTo>
                      <a:pt x="2061" y="651"/>
                    </a:lnTo>
                    <a:lnTo>
                      <a:pt x="2025" y="626"/>
                    </a:lnTo>
                    <a:lnTo>
                      <a:pt x="1988" y="602"/>
                    </a:lnTo>
                    <a:lnTo>
                      <a:pt x="1952" y="578"/>
                    </a:lnTo>
                    <a:lnTo>
                      <a:pt x="1915" y="554"/>
                    </a:lnTo>
                    <a:lnTo>
                      <a:pt x="1878" y="531"/>
                    </a:lnTo>
                    <a:lnTo>
                      <a:pt x="1840" y="508"/>
                    </a:lnTo>
                    <a:lnTo>
                      <a:pt x="1803" y="486"/>
                    </a:lnTo>
                    <a:lnTo>
                      <a:pt x="1764" y="464"/>
                    </a:lnTo>
                    <a:lnTo>
                      <a:pt x="1726" y="443"/>
                    </a:lnTo>
                    <a:lnTo>
                      <a:pt x="1687" y="422"/>
                    </a:lnTo>
                    <a:lnTo>
                      <a:pt x="1648" y="402"/>
                    </a:lnTo>
                    <a:lnTo>
                      <a:pt x="1610" y="382"/>
                    </a:lnTo>
                    <a:lnTo>
                      <a:pt x="1570" y="362"/>
                    </a:lnTo>
                    <a:lnTo>
                      <a:pt x="1530" y="342"/>
                    </a:lnTo>
                    <a:lnTo>
                      <a:pt x="1490" y="324"/>
                    </a:lnTo>
                    <a:lnTo>
                      <a:pt x="1450" y="306"/>
                    </a:lnTo>
                    <a:lnTo>
                      <a:pt x="1409" y="288"/>
                    </a:lnTo>
                    <a:lnTo>
                      <a:pt x="1369" y="271"/>
                    </a:lnTo>
                    <a:lnTo>
                      <a:pt x="1328" y="255"/>
                    </a:lnTo>
                    <a:lnTo>
                      <a:pt x="1286" y="238"/>
                    </a:lnTo>
                    <a:lnTo>
                      <a:pt x="1245" y="223"/>
                    </a:lnTo>
                    <a:lnTo>
                      <a:pt x="1203" y="208"/>
                    </a:lnTo>
                    <a:lnTo>
                      <a:pt x="1161" y="193"/>
                    </a:lnTo>
                    <a:lnTo>
                      <a:pt x="1119" y="179"/>
                    </a:lnTo>
                    <a:lnTo>
                      <a:pt x="1077" y="165"/>
                    </a:lnTo>
                    <a:lnTo>
                      <a:pt x="1034" y="152"/>
                    </a:lnTo>
                    <a:lnTo>
                      <a:pt x="991" y="139"/>
                    </a:lnTo>
                    <a:lnTo>
                      <a:pt x="948" y="127"/>
                    </a:lnTo>
                    <a:lnTo>
                      <a:pt x="905" y="115"/>
                    </a:lnTo>
                    <a:lnTo>
                      <a:pt x="862" y="104"/>
                    </a:lnTo>
                    <a:lnTo>
                      <a:pt x="818" y="94"/>
                    </a:lnTo>
                    <a:lnTo>
                      <a:pt x="773" y="84"/>
                    </a:lnTo>
                    <a:lnTo>
                      <a:pt x="729" y="74"/>
                    </a:lnTo>
                    <a:lnTo>
                      <a:pt x="685" y="66"/>
                    </a:lnTo>
                    <a:lnTo>
                      <a:pt x="641" y="57"/>
                    </a:lnTo>
                    <a:lnTo>
                      <a:pt x="597" y="50"/>
                    </a:lnTo>
                    <a:lnTo>
                      <a:pt x="551" y="42"/>
                    </a:lnTo>
                    <a:lnTo>
                      <a:pt x="506" y="36"/>
                    </a:lnTo>
                    <a:lnTo>
                      <a:pt x="461" y="30"/>
                    </a:lnTo>
                    <a:lnTo>
                      <a:pt x="416" y="24"/>
                    </a:lnTo>
                    <a:lnTo>
                      <a:pt x="371" y="19"/>
                    </a:lnTo>
                    <a:lnTo>
                      <a:pt x="324" y="15"/>
                    </a:lnTo>
                    <a:lnTo>
                      <a:pt x="278" y="11"/>
                    </a:lnTo>
                    <a:lnTo>
                      <a:pt x="232" y="8"/>
                    </a:lnTo>
                    <a:lnTo>
                      <a:pt x="186" y="5"/>
                    </a:lnTo>
                    <a:lnTo>
                      <a:pt x="140" y="3"/>
                    </a:lnTo>
                    <a:lnTo>
                      <a:pt x="94" y="2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45" y="105"/>
                    </a:lnTo>
                    <a:lnTo>
                      <a:pt x="91" y="106"/>
                    </a:lnTo>
                    <a:lnTo>
                      <a:pt x="136" y="108"/>
                    </a:lnTo>
                    <a:lnTo>
                      <a:pt x="181" y="110"/>
                    </a:lnTo>
                    <a:lnTo>
                      <a:pt x="226" y="112"/>
                    </a:lnTo>
                    <a:lnTo>
                      <a:pt x="270" y="115"/>
                    </a:lnTo>
                    <a:lnTo>
                      <a:pt x="315" y="119"/>
                    </a:lnTo>
                    <a:lnTo>
                      <a:pt x="360" y="123"/>
                    </a:lnTo>
                    <a:lnTo>
                      <a:pt x="404" y="128"/>
                    </a:lnTo>
                    <a:lnTo>
                      <a:pt x="448" y="133"/>
                    </a:lnTo>
                    <a:lnTo>
                      <a:pt x="492" y="139"/>
                    </a:lnTo>
                    <a:lnTo>
                      <a:pt x="535" y="147"/>
                    </a:lnTo>
                    <a:lnTo>
                      <a:pt x="579" y="154"/>
                    </a:lnTo>
                    <a:lnTo>
                      <a:pt x="623" y="161"/>
                    </a:lnTo>
                    <a:lnTo>
                      <a:pt x="666" y="169"/>
                    </a:lnTo>
                    <a:lnTo>
                      <a:pt x="709" y="178"/>
                    </a:lnTo>
                    <a:lnTo>
                      <a:pt x="751" y="187"/>
                    </a:lnTo>
                    <a:lnTo>
                      <a:pt x="793" y="197"/>
                    </a:lnTo>
                    <a:lnTo>
                      <a:pt x="837" y="207"/>
                    </a:lnTo>
                    <a:lnTo>
                      <a:pt x="879" y="217"/>
                    </a:lnTo>
                    <a:lnTo>
                      <a:pt x="921" y="229"/>
                    </a:lnTo>
                    <a:lnTo>
                      <a:pt x="962" y="241"/>
                    </a:lnTo>
                    <a:lnTo>
                      <a:pt x="1004" y="253"/>
                    </a:lnTo>
                    <a:lnTo>
                      <a:pt x="1045" y="265"/>
                    </a:lnTo>
                    <a:lnTo>
                      <a:pt x="1087" y="279"/>
                    </a:lnTo>
                    <a:lnTo>
                      <a:pt x="1128" y="292"/>
                    </a:lnTo>
                    <a:lnTo>
                      <a:pt x="1168" y="306"/>
                    </a:lnTo>
                    <a:lnTo>
                      <a:pt x="1209" y="321"/>
                    </a:lnTo>
                    <a:lnTo>
                      <a:pt x="1249" y="336"/>
                    </a:lnTo>
                    <a:lnTo>
                      <a:pt x="1288" y="352"/>
                    </a:lnTo>
                    <a:lnTo>
                      <a:pt x="1329" y="369"/>
                    </a:lnTo>
                    <a:lnTo>
                      <a:pt x="1368" y="385"/>
                    </a:lnTo>
                    <a:lnTo>
                      <a:pt x="1408" y="402"/>
                    </a:lnTo>
                    <a:lnTo>
                      <a:pt x="1446" y="420"/>
                    </a:lnTo>
                    <a:lnTo>
                      <a:pt x="1485" y="438"/>
                    </a:lnTo>
                    <a:lnTo>
                      <a:pt x="1523" y="456"/>
                    </a:lnTo>
                    <a:lnTo>
                      <a:pt x="1562" y="475"/>
                    </a:lnTo>
                    <a:lnTo>
                      <a:pt x="1601" y="495"/>
                    </a:lnTo>
                    <a:lnTo>
                      <a:pt x="1638" y="514"/>
                    </a:lnTo>
                    <a:lnTo>
                      <a:pt x="1675" y="535"/>
                    </a:lnTo>
                    <a:lnTo>
                      <a:pt x="1712" y="555"/>
                    </a:lnTo>
                    <a:lnTo>
                      <a:pt x="1749" y="577"/>
                    </a:lnTo>
                    <a:lnTo>
                      <a:pt x="1787" y="599"/>
                    </a:lnTo>
                    <a:lnTo>
                      <a:pt x="1823" y="621"/>
                    </a:lnTo>
                    <a:lnTo>
                      <a:pt x="1859" y="643"/>
                    </a:lnTo>
                    <a:lnTo>
                      <a:pt x="1895" y="666"/>
                    </a:lnTo>
                    <a:lnTo>
                      <a:pt x="1930" y="689"/>
                    </a:lnTo>
                    <a:lnTo>
                      <a:pt x="1965" y="713"/>
                    </a:lnTo>
                    <a:lnTo>
                      <a:pt x="2000" y="737"/>
                    </a:lnTo>
                    <a:lnTo>
                      <a:pt x="2035" y="761"/>
                    </a:lnTo>
                    <a:lnTo>
                      <a:pt x="2069" y="786"/>
                    </a:lnTo>
                    <a:lnTo>
                      <a:pt x="2103" y="813"/>
                    </a:lnTo>
                    <a:lnTo>
                      <a:pt x="2170" y="864"/>
                    </a:lnTo>
                    <a:lnTo>
                      <a:pt x="2236" y="918"/>
                    </a:lnTo>
                    <a:lnTo>
                      <a:pt x="2301" y="973"/>
                    </a:lnTo>
                    <a:lnTo>
                      <a:pt x="2364" y="1030"/>
                    </a:lnTo>
                    <a:lnTo>
                      <a:pt x="2425" y="1088"/>
                    </a:lnTo>
                    <a:lnTo>
                      <a:pt x="2485" y="1147"/>
                    </a:lnTo>
                    <a:lnTo>
                      <a:pt x="2545" y="1208"/>
                    </a:lnTo>
                    <a:lnTo>
                      <a:pt x="2602" y="1271"/>
                    </a:lnTo>
                    <a:lnTo>
                      <a:pt x="2658" y="1335"/>
                    </a:lnTo>
                    <a:lnTo>
                      <a:pt x="2713" y="1400"/>
                    </a:lnTo>
                    <a:lnTo>
                      <a:pt x="2766" y="1467"/>
                    </a:lnTo>
                    <a:lnTo>
                      <a:pt x="2818" y="1535"/>
                    </a:lnTo>
                    <a:lnTo>
                      <a:pt x="2867" y="1604"/>
                    </a:lnTo>
                    <a:lnTo>
                      <a:pt x="2915" y="1675"/>
                    </a:lnTo>
                    <a:lnTo>
                      <a:pt x="2939" y="1710"/>
                    </a:lnTo>
                    <a:lnTo>
                      <a:pt x="2962" y="1746"/>
                    </a:lnTo>
                    <a:lnTo>
                      <a:pt x="2984" y="1782"/>
                    </a:lnTo>
                    <a:lnTo>
                      <a:pt x="3007" y="1818"/>
                    </a:lnTo>
                    <a:lnTo>
                      <a:pt x="3029" y="1855"/>
                    </a:lnTo>
                    <a:lnTo>
                      <a:pt x="3050" y="1893"/>
                    </a:lnTo>
                    <a:lnTo>
                      <a:pt x="3071" y="1930"/>
                    </a:lnTo>
                    <a:lnTo>
                      <a:pt x="3092" y="1968"/>
                    </a:lnTo>
                    <a:lnTo>
                      <a:pt x="3112" y="2005"/>
                    </a:lnTo>
                    <a:lnTo>
                      <a:pt x="3131" y="2043"/>
                    </a:lnTo>
                    <a:lnTo>
                      <a:pt x="3150" y="2083"/>
                    </a:lnTo>
                    <a:lnTo>
                      <a:pt x="3169" y="2121"/>
                    </a:lnTo>
                    <a:lnTo>
                      <a:pt x="3187" y="2160"/>
                    </a:lnTo>
                    <a:lnTo>
                      <a:pt x="3205" y="2199"/>
                    </a:lnTo>
                    <a:lnTo>
                      <a:pt x="3222" y="2238"/>
                    </a:lnTo>
                    <a:lnTo>
                      <a:pt x="3240" y="2278"/>
                    </a:lnTo>
                    <a:lnTo>
                      <a:pt x="3257" y="2319"/>
                    </a:lnTo>
                    <a:lnTo>
                      <a:pt x="3273" y="2359"/>
                    </a:lnTo>
                    <a:lnTo>
                      <a:pt x="3288" y="2399"/>
                    </a:lnTo>
                    <a:lnTo>
                      <a:pt x="3303" y="2440"/>
                    </a:lnTo>
                    <a:lnTo>
                      <a:pt x="3317" y="2481"/>
                    </a:lnTo>
                    <a:lnTo>
                      <a:pt x="3332" y="2523"/>
                    </a:lnTo>
                    <a:lnTo>
                      <a:pt x="3345" y="2564"/>
                    </a:lnTo>
                    <a:lnTo>
                      <a:pt x="3358" y="2605"/>
                    </a:lnTo>
                    <a:lnTo>
                      <a:pt x="3371" y="2647"/>
                    </a:lnTo>
                    <a:lnTo>
                      <a:pt x="3383" y="2689"/>
                    </a:lnTo>
                    <a:lnTo>
                      <a:pt x="3394" y="2732"/>
                    </a:lnTo>
                    <a:lnTo>
                      <a:pt x="3405" y="2774"/>
                    </a:lnTo>
                    <a:lnTo>
                      <a:pt x="3416" y="2817"/>
                    </a:lnTo>
                    <a:lnTo>
                      <a:pt x="3426" y="2859"/>
                    </a:lnTo>
                    <a:lnTo>
                      <a:pt x="3435" y="2902"/>
                    </a:lnTo>
                    <a:lnTo>
                      <a:pt x="3445" y="2946"/>
                    </a:lnTo>
                    <a:lnTo>
                      <a:pt x="3453" y="2990"/>
                    </a:lnTo>
                    <a:lnTo>
                      <a:pt x="3461" y="3033"/>
                    </a:lnTo>
                    <a:lnTo>
                      <a:pt x="3468" y="3077"/>
                    </a:lnTo>
                    <a:lnTo>
                      <a:pt x="3476" y="3121"/>
                    </a:lnTo>
                    <a:lnTo>
                      <a:pt x="3483" y="3166"/>
                    </a:lnTo>
                    <a:lnTo>
                      <a:pt x="3488" y="3210"/>
                    </a:lnTo>
                    <a:lnTo>
                      <a:pt x="3494" y="3255"/>
                    </a:lnTo>
                    <a:lnTo>
                      <a:pt x="3499" y="3299"/>
                    </a:lnTo>
                    <a:lnTo>
                      <a:pt x="3503" y="3344"/>
                    </a:lnTo>
                    <a:lnTo>
                      <a:pt x="3506" y="3390"/>
                    </a:lnTo>
                    <a:lnTo>
                      <a:pt x="3509" y="3435"/>
                    </a:lnTo>
                    <a:lnTo>
                      <a:pt x="3512" y="3480"/>
                    </a:lnTo>
                    <a:lnTo>
                      <a:pt x="3514" y="3525"/>
                    </a:lnTo>
                    <a:lnTo>
                      <a:pt x="3516" y="3571"/>
                    </a:lnTo>
                    <a:lnTo>
                      <a:pt x="3516" y="3617"/>
                    </a:lnTo>
                    <a:lnTo>
                      <a:pt x="3517" y="3663"/>
                    </a:lnTo>
                    <a:lnTo>
                      <a:pt x="3621" y="3663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4643640" y="5470560"/>
                <a:ext cx="911160" cy="824040"/>
              </a:xfrm>
              <a:custGeom>
                <a:avLst/>
                <a:gdLst/>
                <a:ahLst/>
                <a:rect l="l" t="t" r="r" b="b"/>
                <a:pathLst>
                  <a:path w="14355" h="12966">
                    <a:moveTo>
                      <a:pt x="5821" y="1213"/>
                    </a:moveTo>
                    <a:lnTo>
                      <a:pt x="5321" y="2478"/>
                    </a:lnTo>
                    <a:lnTo>
                      <a:pt x="4846" y="3558"/>
                    </a:lnTo>
                    <a:lnTo>
                      <a:pt x="4426" y="4507"/>
                    </a:lnTo>
                    <a:lnTo>
                      <a:pt x="3793" y="5667"/>
                    </a:lnTo>
                    <a:lnTo>
                      <a:pt x="3108" y="6800"/>
                    </a:lnTo>
                    <a:lnTo>
                      <a:pt x="2318" y="8038"/>
                    </a:lnTo>
                    <a:lnTo>
                      <a:pt x="1686" y="8960"/>
                    </a:lnTo>
                    <a:lnTo>
                      <a:pt x="1186" y="9619"/>
                    </a:lnTo>
                    <a:lnTo>
                      <a:pt x="580" y="10330"/>
                    </a:lnTo>
                    <a:lnTo>
                      <a:pt x="211" y="10779"/>
                    </a:lnTo>
                    <a:lnTo>
                      <a:pt x="26" y="11148"/>
                    </a:lnTo>
                    <a:lnTo>
                      <a:pt x="0" y="11622"/>
                    </a:lnTo>
                    <a:lnTo>
                      <a:pt x="159" y="12097"/>
                    </a:lnTo>
                    <a:lnTo>
                      <a:pt x="422" y="12518"/>
                    </a:lnTo>
                    <a:lnTo>
                      <a:pt x="844" y="12808"/>
                    </a:lnTo>
                    <a:lnTo>
                      <a:pt x="1291" y="12940"/>
                    </a:lnTo>
                    <a:lnTo>
                      <a:pt x="2108" y="12887"/>
                    </a:lnTo>
                    <a:lnTo>
                      <a:pt x="2950" y="12703"/>
                    </a:lnTo>
                    <a:lnTo>
                      <a:pt x="4241" y="12571"/>
                    </a:lnTo>
                    <a:lnTo>
                      <a:pt x="5953" y="12518"/>
                    </a:lnTo>
                    <a:lnTo>
                      <a:pt x="7217" y="12492"/>
                    </a:lnTo>
                    <a:lnTo>
                      <a:pt x="9693" y="12518"/>
                    </a:lnTo>
                    <a:lnTo>
                      <a:pt x="11010" y="12703"/>
                    </a:lnTo>
                    <a:lnTo>
                      <a:pt x="12195" y="12860"/>
                    </a:lnTo>
                    <a:lnTo>
                      <a:pt x="13116" y="12966"/>
                    </a:lnTo>
                    <a:lnTo>
                      <a:pt x="13564" y="12860"/>
                    </a:lnTo>
                    <a:lnTo>
                      <a:pt x="13907" y="12650"/>
                    </a:lnTo>
                    <a:lnTo>
                      <a:pt x="14249" y="12149"/>
                    </a:lnTo>
                    <a:lnTo>
                      <a:pt x="14355" y="11491"/>
                    </a:lnTo>
                    <a:lnTo>
                      <a:pt x="14144" y="10752"/>
                    </a:lnTo>
                    <a:lnTo>
                      <a:pt x="13670" y="10147"/>
                    </a:lnTo>
                    <a:lnTo>
                      <a:pt x="12906" y="9093"/>
                    </a:lnTo>
                    <a:lnTo>
                      <a:pt x="12063" y="7959"/>
                    </a:lnTo>
                    <a:lnTo>
                      <a:pt x="11141" y="6589"/>
                    </a:lnTo>
                    <a:lnTo>
                      <a:pt x="10456" y="5245"/>
                    </a:lnTo>
                    <a:lnTo>
                      <a:pt x="9851" y="4165"/>
                    </a:lnTo>
                    <a:lnTo>
                      <a:pt x="9298" y="2978"/>
                    </a:lnTo>
                    <a:lnTo>
                      <a:pt x="8666" y="1450"/>
                    </a:lnTo>
                    <a:lnTo>
                      <a:pt x="8324" y="554"/>
                    </a:lnTo>
                    <a:lnTo>
                      <a:pt x="7954" y="159"/>
                    </a:lnTo>
                    <a:lnTo>
                      <a:pt x="7507" y="0"/>
                    </a:lnTo>
                    <a:lnTo>
                      <a:pt x="6927" y="0"/>
                    </a:lnTo>
                    <a:lnTo>
                      <a:pt x="6427" y="133"/>
                    </a:lnTo>
                    <a:lnTo>
                      <a:pt x="6084" y="581"/>
                    </a:lnTo>
                    <a:lnTo>
                      <a:pt x="5821" y="1213"/>
                    </a:lnTo>
                    <a:close/>
                  </a:path>
                </a:pathLst>
              </a:custGeom>
              <a:solidFill>
                <a:srgbClr val="545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087880" y="5985000"/>
                <a:ext cx="262080" cy="252360"/>
              </a:xfrm>
              <a:custGeom>
                <a:avLst/>
                <a:gdLst/>
                <a:ahLst/>
                <a:rect l="l" t="t" r="r" b="b"/>
                <a:pathLst>
                  <a:path w="4122" h="3967">
                    <a:moveTo>
                      <a:pt x="158" y="3967"/>
                    </a:moveTo>
                    <a:lnTo>
                      <a:pt x="158" y="3967"/>
                    </a:lnTo>
                    <a:lnTo>
                      <a:pt x="209" y="3966"/>
                    </a:lnTo>
                    <a:lnTo>
                      <a:pt x="260" y="3965"/>
                    </a:lnTo>
                    <a:lnTo>
                      <a:pt x="310" y="3963"/>
                    </a:lnTo>
                    <a:lnTo>
                      <a:pt x="362" y="3961"/>
                    </a:lnTo>
                    <a:lnTo>
                      <a:pt x="412" y="3958"/>
                    </a:lnTo>
                    <a:lnTo>
                      <a:pt x="463" y="3955"/>
                    </a:lnTo>
                    <a:lnTo>
                      <a:pt x="512" y="3950"/>
                    </a:lnTo>
                    <a:lnTo>
                      <a:pt x="562" y="3945"/>
                    </a:lnTo>
                    <a:lnTo>
                      <a:pt x="613" y="3940"/>
                    </a:lnTo>
                    <a:lnTo>
                      <a:pt x="662" y="3934"/>
                    </a:lnTo>
                    <a:lnTo>
                      <a:pt x="712" y="3927"/>
                    </a:lnTo>
                    <a:lnTo>
                      <a:pt x="761" y="3920"/>
                    </a:lnTo>
                    <a:lnTo>
                      <a:pt x="810" y="3912"/>
                    </a:lnTo>
                    <a:lnTo>
                      <a:pt x="860" y="3904"/>
                    </a:lnTo>
                    <a:lnTo>
                      <a:pt x="908" y="3895"/>
                    </a:lnTo>
                    <a:lnTo>
                      <a:pt x="956" y="3885"/>
                    </a:lnTo>
                    <a:lnTo>
                      <a:pt x="1004" y="3875"/>
                    </a:lnTo>
                    <a:lnTo>
                      <a:pt x="1053" y="3864"/>
                    </a:lnTo>
                    <a:lnTo>
                      <a:pt x="1100" y="3853"/>
                    </a:lnTo>
                    <a:lnTo>
                      <a:pt x="1148" y="3841"/>
                    </a:lnTo>
                    <a:lnTo>
                      <a:pt x="1195" y="3829"/>
                    </a:lnTo>
                    <a:lnTo>
                      <a:pt x="1242" y="3816"/>
                    </a:lnTo>
                    <a:lnTo>
                      <a:pt x="1289" y="3802"/>
                    </a:lnTo>
                    <a:lnTo>
                      <a:pt x="1337" y="3788"/>
                    </a:lnTo>
                    <a:lnTo>
                      <a:pt x="1383" y="3773"/>
                    </a:lnTo>
                    <a:lnTo>
                      <a:pt x="1429" y="3758"/>
                    </a:lnTo>
                    <a:lnTo>
                      <a:pt x="1475" y="3742"/>
                    </a:lnTo>
                    <a:lnTo>
                      <a:pt x="1520" y="3725"/>
                    </a:lnTo>
                    <a:lnTo>
                      <a:pt x="1566" y="3708"/>
                    </a:lnTo>
                    <a:lnTo>
                      <a:pt x="1611" y="3691"/>
                    </a:lnTo>
                    <a:lnTo>
                      <a:pt x="1655" y="3672"/>
                    </a:lnTo>
                    <a:lnTo>
                      <a:pt x="1700" y="3654"/>
                    </a:lnTo>
                    <a:lnTo>
                      <a:pt x="1744" y="3635"/>
                    </a:lnTo>
                    <a:lnTo>
                      <a:pt x="1789" y="3616"/>
                    </a:lnTo>
                    <a:lnTo>
                      <a:pt x="1833" y="3596"/>
                    </a:lnTo>
                    <a:lnTo>
                      <a:pt x="1876" y="3575"/>
                    </a:lnTo>
                    <a:lnTo>
                      <a:pt x="1919" y="3554"/>
                    </a:lnTo>
                    <a:lnTo>
                      <a:pt x="1962" y="3532"/>
                    </a:lnTo>
                    <a:lnTo>
                      <a:pt x="2004" y="3509"/>
                    </a:lnTo>
                    <a:lnTo>
                      <a:pt x="2047" y="3487"/>
                    </a:lnTo>
                    <a:lnTo>
                      <a:pt x="2089" y="3464"/>
                    </a:lnTo>
                    <a:lnTo>
                      <a:pt x="2130" y="3440"/>
                    </a:lnTo>
                    <a:lnTo>
                      <a:pt x="2172" y="3416"/>
                    </a:lnTo>
                    <a:lnTo>
                      <a:pt x="2212" y="3391"/>
                    </a:lnTo>
                    <a:lnTo>
                      <a:pt x="2253" y="3367"/>
                    </a:lnTo>
                    <a:lnTo>
                      <a:pt x="2294" y="3341"/>
                    </a:lnTo>
                    <a:lnTo>
                      <a:pt x="2334" y="3315"/>
                    </a:lnTo>
                    <a:lnTo>
                      <a:pt x="2374" y="3288"/>
                    </a:lnTo>
                    <a:lnTo>
                      <a:pt x="2413" y="3261"/>
                    </a:lnTo>
                    <a:lnTo>
                      <a:pt x="2452" y="3234"/>
                    </a:lnTo>
                    <a:lnTo>
                      <a:pt x="2491" y="3206"/>
                    </a:lnTo>
                    <a:lnTo>
                      <a:pt x="2530" y="3178"/>
                    </a:lnTo>
                    <a:lnTo>
                      <a:pt x="2567" y="3149"/>
                    </a:lnTo>
                    <a:lnTo>
                      <a:pt x="2605" y="3120"/>
                    </a:lnTo>
                    <a:lnTo>
                      <a:pt x="2642" y="3090"/>
                    </a:lnTo>
                    <a:lnTo>
                      <a:pt x="2678" y="3060"/>
                    </a:lnTo>
                    <a:lnTo>
                      <a:pt x="2715" y="3029"/>
                    </a:lnTo>
                    <a:lnTo>
                      <a:pt x="2752" y="2998"/>
                    </a:lnTo>
                    <a:lnTo>
                      <a:pt x="2787" y="2967"/>
                    </a:lnTo>
                    <a:lnTo>
                      <a:pt x="2823" y="2935"/>
                    </a:lnTo>
                    <a:lnTo>
                      <a:pt x="2858" y="2903"/>
                    </a:lnTo>
                    <a:lnTo>
                      <a:pt x="2892" y="2870"/>
                    </a:lnTo>
                    <a:lnTo>
                      <a:pt x="2926" y="2837"/>
                    </a:lnTo>
                    <a:lnTo>
                      <a:pt x="2960" y="2804"/>
                    </a:lnTo>
                    <a:lnTo>
                      <a:pt x="2994" y="2770"/>
                    </a:lnTo>
                    <a:lnTo>
                      <a:pt x="3027" y="2736"/>
                    </a:lnTo>
                    <a:lnTo>
                      <a:pt x="3059" y="2702"/>
                    </a:lnTo>
                    <a:lnTo>
                      <a:pt x="3092" y="2666"/>
                    </a:lnTo>
                    <a:lnTo>
                      <a:pt x="3123" y="2630"/>
                    </a:lnTo>
                    <a:lnTo>
                      <a:pt x="3154" y="2595"/>
                    </a:lnTo>
                    <a:lnTo>
                      <a:pt x="3185" y="2559"/>
                    </a:lnTo>
                    <a:lnTo>
                      <a:pt x="3216" y="2523"/>
                    </a:lnTo>
                    <a:lnTo>
                      <a:pt x="3247" y="2486"/>
                    </a:lnTo>
                    <a:lnTo>
                      <a:pt x="3276" y="2448"/>
                    </a:lnTo>
                    <a:lnTo>
                      <a:pt x="3305" y="2410"/>
                    </a:lnTo>
                    <a:lnTo>
                      <a:pt x="3334" y="2372"/>
                    </a:lnTo>
                    <a:lnTo>
                      <a:pt x="3362" y="2334"/>
                    </a:lnTo>
                    <a:lnTo>
                      <a:pt x="3390" y="2296"/>
                    </a:lnTo>
                    <a:lnTo>
                      <a:pt x="3417" y="2257"/>
                    </a:lnTo>
                    <a:lnTo>
                      <a:pt x="3444" y="2217"/>
                    </a:lnTo>
                    <a:lnTo>
                      <a:pt x="3471" y="2177"/>
                    </a:lnTo>
                    <a:lnTo>
                      <a:pt x="3497" y="2137"/>
                    </a:lnTo>
                    <a:lnTo>
                      <a:pt x="3523" y="2097"/>
                    </a:lnTo>
                    <a:lnTo>
                      <a:pt x="3547" y="2056"/>
                    </a:lnTo>
                    <a:lnTo>
                      <a:pt x="3572" y="2015"/>
                    </a:lnTo>
                    <a:lnTo>
                      <a:pt x="3596" y="1973"/>
                    </a:lnTo>
                    <a:lnTo>
                      <a:pt x="3620" y="1932"/>
                    </a:lnTo>
                    <a:lnTo>
                      <a:pt x="3642" y="1890"/>
                    </a:lnTo>
                    <a:lnTo>
                      <a:pt x="3665" y="1848"/>
                    </a:lnTo>
                    <a:lnTo>
                      <a:pt x="3687" y="1804"/>
                    </a:lnTo>
                    <a:lnTo>
                      <a:pt x="3710" y="1762"/>
                    </a:lnTo>
                    <a:lnTo>
                      <a:pt x="3731" y="1719"/>
                    </a:lnTo>
                    <a:lnTo>
                      <a:pt x="3752" y="1676"/>
                    </a:lnTo>
                    <a:lnTo>
                      <a:pt x="3772" y="1632"/>
                    </a:lnTo>
                    <a:lnTo>
                      <a:pt x="3791" y="1587"/>
                    </a:lnTo>
                    <a:lnTo>
                      <a:pt x="3810" y="1543"/>
                    </a:lnTo>
                    <a:lnTo>
                      <a:pt x="3829" y="1498"/>
                    </a:lnTo>
                    <a:lnTo>
                      <a:pt x="3847" y="1454"/>
                    </a:lnTo>
                    <a:lnTo>
                      <a:pt x="3864" y="1409"/>
                    </a:lnTo>
                    <a:lnTo>
                      <a:pt x="3881" y="1363"/>
                    </a:lnTo>
                    <a:lnTo>
                      <a:pt x="3897" y="1317"/>
                    </a:lnTo>
                    <a:lnTo>
                      <a:pt x="3913" y="1272"/>
                    </a:lnTo>
                    <a:lnTo>
                      <a:pt x="3928" y="1226"/>
                    </a:lnTo>
                    <a:lnTo>
                      <a:pt x="3943" y="1179"/>
                    </a:lnTo>
                    <a:lnTo>
                      <a:pt x="3958" y="1131"/>
                    </a:lnTo>
                    <a:lnTo>
                      <a:pt x="3972" y="1085"/>
                    </a:lnTo>
                    <a:lnTo>
                      <a:pt x="3985" y="1038"/>
                    </a:lnTo>
                    <a:lnTo>
                      <a:pt x="3997" y="991"/>
                    </a:lnTo>
                    <a:lnTo>
                      <a:pt x="4009" y="942"/>
                    </a:lnTo>
                    <a:lnTo>
                      <a:pt x="4020" y="895"/>
                    </a:lnTo>
                    <a:lnTo>
                      <a:pt x="4031" y="847"/>
                    </a:lnTo>
                    <a:lnTo>
                      <a:pt x="4041" y="799"/>
                    </a:lnTo>
                    <a:lnTo>
                      <a:pt x="4051" y="751"/>
                    </a:lnTo>
                    <a:lnTo>
                      <a:pt x="4060" y="701"/>
                    </a:lnTo>
                    <a:lnTo>
                      <a:pt x="4068" y="652"/>
                    </a:lnTo>
                    <a:lnTo>
                      <a:pt x="4076" y="603"/>
                    </a:lnTo>
                    <a:lnTo>
                      <a:pt x="4083" y="554"/>
                    </a:lnTo>
                    <a:lnTo>
                      <a:pt x="4090" y="504"/>
                    </a:lnTo>
                    <a:lnTo>
                      <a:pt x="4096" y="455"/>
                    </a:lnTo>
                    <a:lnTo>
                      <a:pt x="4101" y="405"/>
                    </a:lnTo>
                    <a:lnTo>
                      <a:pt x="4106" y="355"/>
                    </a:lnTo>
                    <a:lnTo>
                      <a:pt x="4110" y="304"/>
                    </a:lnTo>
                    <a:lnTo>
                      <a:pt x="4113" y="254"/>
                    </a:lnTo>
                    <a:lnTo>
                      <a:pt x="4116" y="204"/>
                    </a:lnTo>
                    <a:lnTo>
                      <a:pt x="4118" y="153"/>
                    </a:lnTo>
                    <a:lnTo>
                      <a:pt x="4120" y="102"/>
                    </a:lnTo>
                    <a:lnTo>
                      <a:pt x="4121" y="51"/>
                    </a:lnTo>
                    <a:lnTo>
                      <a:pt x="4122" y="0"/>
                    </a:lnTo>
                    <a:lnTo>
                      <a:pt x="3806" y="0"/>
                    </a:lnTo>
                    <a:lnTo>
                      <a:pt x="3806" y="47"/>
                    </a:lnTo>
                    <a:lnTo>
                      <a:pt x="3805" y="94"/>
                    </a:lnTo>
                    <a:lnTo>
                      <a:pt x="3804" y="142"/>
                    </a:lnTo>
                    <a:lnTo>
                      <a:pt x="3802" y="188"/>
                    </a:lnTo>
                    <a:lnTo>
                      <a:pt x="3799" y="235"/>
                    </a:lnTo>
                    <a:lnTo>
                      <a:pt x="3796" y="281"/>
                    </a:lnTo>
                    <a:lnTo>
                      <a:pt x="3792" y="328"/>
                    </a:lnTo>
                    <a:lnTo>
                      <a:pt x="3788" y="374"/>
                    </a:lnTo>
                    <a:lnTo>
                      <a:pt x="3782" y="419"/>
                    </a:lnTo>
                    <a:lnTo>
                      <a:pt x="3777" y="465"/>
                    </a:lnTo>
                    <a:lnTo>
                      <a:pt x="3771" y="510"/>
                    </a:lnTo>
                    <a:lnTo>
                      <a:pt x="3764" y="557"/>
                    </a:lnTo>
                    <a:lnTo>
                      <a:pt x="3757" y="602"/>
                    </a:lnTo>
                    <a:lnTo>
                      <a:pt x="3749" y="646"/>
                    </a:lnTo>
                    <a:lnTo>
                      <a:pt x="3741" y="691"/>
                    </a:lnTo>
                    <a:lnTo>
                      <a:pt x="3733" y="735"/>
                    </a:lnTo>
                    <a:lnTo>
                      <a:pt x="3723" y="781"/>
                    </a:lnTo>
                    <a:lnTo>
                      <a:pt x="3713" y="825"/>
                    </a:lnTo>
                    <a:lnTo>
                      <a:pt x="3702" y="869"/>
                    </a:lnTo>
                    <a:lnTo>
                      <a:pt x="3691" y="912"/>
                    </a:lnTo>
                    <a:lnTo>
                      <a:pt x="3679" y="956"/>
                    </a:lnTo>
                    <a:lnTo>
                      <a:pt x="3667" y="1000"/>
                    </a:lnTo>
                    <a:lnTo>
                      <a:pt x="3655" y="1043"/>
                    </a:lnTo>
                    <a:lnTo>
                      <a:pt x="3642" y="1085"/>
                    </a:lnTo>
                    <a:lnTo>
                      <a:pt x="3628" y="1128"/>
                    </a:lnTo>
                    <a:lnTo>
                      <a:pt x="3614" y="1171"/>
                    </a:lnTo>
                    <a:lnTo>
                      <a:pt x="3600" y="1213"/>
                    </a:lnTo>
                    <a:lnTo>
                      <a:pt x="3585" y="1255"/>
                    </a:lnTo>
                    <a:lnTo>
                      <a:pt x="3569" y="1296"/>
                    </a:lnTo>
                    <a:lnTo>
                      <a:pt x="3553" y="1338"/>
                    </a:lnTo>
                    <a:lnTo>
                      <a:pt x="3536" y="1379"/>
                    </a:lnTo>
                    <a:lnTo>
                      <a:pt x="3520" y="1421"/>
                    </a:lnTo>
                    <a:lnTo>
                      <a:pt x="3502" y="1462"/>
                    </a:lnTo>
                    <a:lnTo>
                      <a:pt x="3484" y="1502"/>
                    </a:lnTo>
                    <a:lnTo>
                      <a:pt x="3465" y="1542"/>
                    </a:lnTo>
                    <a:lnTo>
                      <a:pt x="3446" y="1582"/>
                    </a:lnTo>
                    <a:lnTo>
                      <a:pt x="3426" y="1623"/>
                    </a:lnTo>
                    <a:lnTo>
                      <a:pt x="3407" y="1662"/>
                    </a:lnTo>
                    <a:lnTo>
                      <a:pt x="3386" y="1701"/>
                    </a:lnTo>
                    <a:lnTo>
                      <a:pt x="3366" y="1739"/>
                    </a:lnTo>
                    <a:lnTo>
                      <a:pt x="3344" y="1778"/>
                    </a:lnTo>
                    <a:lnTo>
                      <a:pt x="3323" y="1817"/>
                    </a:lnTo>
                    <a:lnTo>
                      <a:pt x="3301" y="1855"/>
                    </a:lnTo>
                    <a:lnTo>
                      <a:pt x="3278" y="1893"/>
                    </a:lnTo>
                    <a:lnTo>
                      <a:pt x="3255" y="1930"/>
                    </a:lnTo>
                    <a:lnTo>
                      <a:pt x="3232" y="1967"/>
                    </a:lnTo>
                    <a:lnTo>
                      <a:pt x="3207" y="2004"/>
                    </a:lnTo>
                    <a:lnTo>
                      <a:pt x="3182" y="2041"/>
                    </a:lnTo>
                    <a:lnTo>
                      <a:pt x="3158" y="2077"/>
                    </a:lnTo>
                    <a:lnTo>
                      <a:pt x="3133" y="2113"/>
                    </a:lnTo>
                    <a:lnTo>
                      <a:pt x="3107" y="2149"/>
                    </a:lnTo>
                    <a:lnTo>
                      <a:pt x="3081" y="2183"/>
                    </a:lnTo>
                    <a:lnTo>
                      <a:pt x="3055" y="2218"/>
                    </a:lnTo>
                    <a:lnTo>
                      <a:pt x="3028" y="2254"/>
                    </a:lnTo>
                    <a:lnTo>
                      <a:pt x="3001" y="2288"/>
                    </a:lnTo>
                    <a:lnTo>
                      <a:pt x="2972" y="2321"/>
                    </a:lnTo>
                    <a:lnTo>
                      <a:pt x="2944" y="2355"/>
                    </a:lnTo>
                    <a:lnTo>
                      <a:pt x="2916" y="2388"/>
                    </a:lnTo>
                    <a:lnTo>
                      <a:pt x="2887" y="2421"/>
                    </a:lnTo>
                    <a:lnTo>
                      <a:pt x="2858" y="2454"/>
                    </a:lnTo>
                    <a:lnTo>
                      <a:pt x="2829" y="2487"/>
                    </a:lnTo>
                    <a:lnTo>
                      <a:pt x="2799" y="2518"/>
                    </a:lnTo>
                    <a:lnTo>
                      <a:pt x="2768" y="2550"/>
                    </a:lnTo>
                    <a:lnTo>
                      <a:pt x="2737" y="2580"/>
                    </a:lnTo>
                    <a:lnTo>
                      <a:pt x="2706" y="2611"/>
                    </a:lnTo>
                    <a:lnTo>
                      <a:pt x="2675" y="2642"/>
                    </a:lnTo>
                    <a:lnTo>
                      <a:pt x="2643" y="2673"/>
                    </a:lnTo>
                    <a:lnTo>
                      <a:pt x="2611" y="2702"/>
                    </a:lnTo>
                    <a:lnTo>
                      <a:pt x="2578" y="2731"/>
                    </a:lnTo>
                    <a:lnTo>
                      <a:pt x="2545" y="2760"/>
                    </a:lnTo>
                    <a:lnTo>
                      <a:pt x="2512" y="2788"/>
                    </a:lnTo>
                    <a:lnTo>
                      <a:pt x="2478" y="2816"/>
                    </a:lnTo>
                    <a:lnTo>
                      <a:pt x="2444" y="2844"/>
                    </a:lnTo>
                    <a:lnTo>
                      <a:pt x="2410" y="2871"/>
                    </a:lnTo>
                    <a:lnTo>
                      <a:pt x="2376" y="2899"/>
                    </a:lnTo>
                    <a:lnTo>
                      <a:pt x="2340" y="2925"/>
                    </a:lnTo>
                    <a:lnTo>
                      <a:pt x="2305" y="2951"/>
                    </a:lnTo>
                    <a:lnTo>
                      <a:pt x="2270" y="2977"/>
                    </a:lnTo>
                    <a:lnTo>
                      <a:pt x="2233" y="3002"/>
                    </a:lnTo>
                    <a:lnTo>
                      <a:pt x="2197" y="3026"/>
                    </a:lnTo>
                    <a:lnTo>
                      <a:pt x="2161" y="3051"/>
                    </a:lnTo>
                    <a:lnTo>
                      <a:pt x="2124" y="3075"/>
                    </a:lnTo>
                    <a:lnTo>
                      <a:pt x="2087" y="3099"/>
                    </a:lnTo>
                    <a:lnTo>
                      <a:pt x="2050" y="3122"/>
                    </a:lnTo>
                    <a:lnTo>
                      <a:pt x="2011" y="3145"/>
                    </a:lnTo>
                    <a:lnTo>
                      <a:pt x="1973" y="3167"/>
                    </a:lnTo>
                    <a:lnTo>
                      <a:pt x="1935" y="3188"/>
                    </a:lnTo>
                    <a:lnTo>
                      <a:pt x="1896" y="3209"/>
                    </a:lnTo>
                    <a:lnTo>
                      <a:pt x="1858" y="3230"/>
                    </a:lnTo>
                    <a:lnTo>
                      <a:pt x="1819" y="3251"/>
                    </a:lnTo>
                    <a:lnTo>
                      <a:pt x="1780" y="3270"/>
                    </a:lnTo>
                    <a:lnTo>
                      <a:pt x="1739" y="3290"/>
                    </a:lnTo>
                    <a:lnTo>
                      <a:pt x="1699" y="3309"/>
                    </a:lnTo>
                    <a:lnTo>
                      <a:pt x="1659" y="3328"/>
                    </a:lnTo>
                    <a:lnTo>
                      <a:pt x="1619" y="3346"/>
                    </a:lnTo>
                    <a:lnTo>
                      <a:pt x="1578" y="3364"/>
                    </a:lnTo>
                    <a:lnTo>
                      <a:pt x="1537" y="3381"/>
                    </a:lnTo>
                    <a:lnTo>
                      <a:pt x="1495" y="3397"/>
                    </a:lnTo>
                    <a:lnTo>
                      <a:pt x="1453" y="3413"/>
                    </a:lnTo>
                    <a:lnTo>
                      <a:pt x="1413" y="3429"/>
                    </a:lnTo>
                    <a:lnTo>
                      <a:pt x="1370" y="3444"/>
                    </a:lnTo>
                    <a:lnTo>
                      <a:pt x="1328" y="3458"/>
                    </a:lnTo>
                    <a:lnTo>
                      <a:pt x="1285" y="3472"/>
                    </a:lnTo>
                    <a:lnTo>
                      <a:pt x="1242" y="3486"/>
                    </a:lnTo>
                    <a:lnTo>
                      <a:pt x="1199" y="3499"/>
                    </a:lnTo>
                    <a:lnTo>
                      <a:pt x="1157" y="3511"/>
                    </a:lnTo>
                    <a:lnTo>
                      <a:pt x="1114" y="3523"/>
                    </a:lnTo>
                    <a:lnTo>
                      <a:pt x="1070" y="3536"/>
                    </a:lnTo>
                    <a:lnTo>
                      <a:pt x="1026" y="3547"/>
                    </a:lnTo>
                    <a:lnTo>
                      <a:pt x="982" y="3557"/>
                    </a:lnTo>
                    <a:lnTo>
                      <a:pt x="938" y="3567"/>
                    </a:lnTo>
                    <a:lnTo>
                      <a:pt x="894" y="3577"/>
                    </a:lnTo>
                    <a:lnTo>
                      <a:pt x="849" y="3585"/>
                    </a:lnTo>
                    <a:lnTo>
                      <a:pt x="803" y="3593"/>
                    </a:lnTo>
                    <a:lnTo>
                      <a:pt x="759" y="3601"/>
                    </a:lnTo>
                    <a:lnTo>
                      <a:pt x="714" y="3608"/>
                    </a:lnTo>
                    <a:lnTo>
                      <a:pt x="669" y="3615"/>
                    </a:lnTo>
                    <a:lnTo>
                      <a:pt x="623" y="3621"/>
                    </a:lnTo>
                    <a:lnTo>
                      <a:pt x="578" y="3626"/>
                    </a:lnTo>
                    <a:lnTo>
                      <a:pt x="531" y="3632"/>
                    </a:lnTo>
                    <a:lnTo>
                      <a:pt x="485" y="3635"/>
                    </a:lnTo>
                    <a:lnTo>
                      <a:pt x="439" y="3639"/>
                    </a:lnTo>
                    <a:lnTo>
                      <a:pt x="393" y="3643"/>
                    </a:lnTo>
                    <a:lnTo>
                      <a:pt x="347" y="3646"/>
                    </a:lnTo>
                    <a:lnTo>
                      <a:pt x="299" y="3648"/>
                    </a:lnTo>
                    <a:lnTo>
                      <a:pt x="252" y="3649"/>
                    </a:lnTo>
                    <a:lnTo>
                      <a:pt x="205" y="3650"/>
                    </a:lnTo>
                    <a:lnTo>
                      <a:pt x="158" y="3650"/>
                    </a:lnTo>
                    <a:lnTo>
                      <a:pt x="158" y="3650"/>
                    </a:lnTo>
                    <a:lnTo>
                      <a:pt x="158" y="3650"/>
                    </a:lnTo>
                    <a:lnTo>
                      <a:pt x="139" y="3651"/>
                    </a:lnTo>
                    <a:lnTo>
                      <a:pt x="121" y="3653"/>
                    </a:lnTo>
                    <a:lnTo>
                      <a:pt x="105" y="3658"/>
                    </a:lnTo>
                    <a:lnTo>
                      <a:pt x="90" y="3663"/>
                    </a:lnTo>
                    <a:lnTo>
                      <a:pt x="74" y="3671"/>
                    </a:lnTo>
                    <a:lnTo>
                      <a:pt x="61" y="3679"/>
                    </a:lnTo>
                    <a:lnTo>
                      <a:pt x="50" y="3688"/>
                    </a:lnTo>
                    <a:lnTo>
                      <a:pt x="39" y="3699"/>
                    </a:lnTo>
                    <a:lnTo>
                      <a:pt x="30" y="3711"/>
                    </a:lnTo>
                    <a:lnTo>
                      <a:pt x="22" y="3723"/>
                    </a:lnTo>
                    <a:lnTo>
                      <a:pt x="15" y="3736"/>
                    </a:lnTo>
                    <a:lnTo>
                      <a:pt x="10" y="3750"/>
                    </a:lnTo>
                    <a:lnTo>
                      <a:pt x="5" y="3765"/>
                    </a:lnTo>
                    <a:lnTo>
                      <a:pt x="2" y="3779"/>
                    </a:lnTo>
                    <a:lnTo>
                      <a:pt x="1" y="3794"/>
                    </a:lnTo>
                    <a:lnTo>
                      <a:pt x="0" y="3808"/>
                    </a:lnTo>
                    <a:lnTo>
                      <a:pt x="1" y="3823"/>
                    </a:lnTo>
                    <a:lnTo>
                      <a:pt x="2" y="3838"/>
                    </a:lnTo>
                    <a:lnTo>
                      <a:pt x="5" y="3852"/>
                    </a:lnTo>
                    <a:lnTo>
                      <a:pt x="10" y="3866"/>
                    </a:lnTo>
                    <a:lnTo>
                      <a:pt x="15" y="3880"/>
                    </a:lnTo>
                    <a:lnTo>
                      <a:pt x="22" y="3893"/>
                    </a:lnTo>
                    <a:lnTo>
                      <a:pt x="30" y="3905"/>
                    </a:lnTo>
                    <a:lnTo>
                      <a:pt x="39" y="3916"/>
                    </a:lnTo>
                    <a:lnTo>
                      <a:pt x="50" y="3927"/>
                    </a:lnTo>
                    <a:lnTo>
                      <a:pt x="61" y="3937"/>
                    </a:lnTo>
                    <a:lnTo>
                      <a:pt x="74" y="3945"/>
                    </a:lnTo>
                    <a:lnTo>
                      <a:pt x="90" y="3952"/>
                    </a:lnTo>
                    <a:lnTo>
                      <a:pt x="105" y="3959"/>
                    </a:lnTo>
                    <a:lnTo>
                      <a:pt x="121" y="3963"/>
                    </a:lnTo>
                    <a:lnTo>
                      <a:pt x="139" y="3966"/>
                    </a:lnTo>
                    <a:lnTo>
                      <a:pt x="158" y="3967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4846680" y="5975640"/>
                <a:ext cx="250920" cy="261720"/>
              </a:xfrm>
              <a:custGeom>
                <a:avLst/>
                <a:gdLst/>
                <a:ahLst/>
                <a:rect l="l" t="t" r="r" b="b"/>
                <a:pathLst>
                  <a:path w="3964" h="4125">
                    <a:moveTo>
                      <a:pt x="0" y="158"/>
                    </a:moveTo>
                    <a:lnTo>
                      <a:pt x="0" y="158"/>
                    </a:lnTo>
                    <a:lnTo>
                      <a:pt x="0" y="209"/>
                    </a:lnTo>
                    <a:lnTo>
                      <a:pt x="2" y="260"/>
                    </a:lnTo>
                    <a:lnTo>
                      <a:pt x="3" y="311"/>
                    </a:lnTo>
                    <a:lnTo>
                      <a:pt x="5" y="361"/>
                    </a:lnTo>
                    <a:lnTo>
                      <a:pt x="8" y="412"/>
                    </a:lnTo>
                    <a:lnTo>
                      <a:pt x="12" y="462"/>
                    </a:lnTo>
                    <a:lnTo>
                      <a:pt x="16" y="513"/>
                    </a:lnTo>
                    <a:lnTo>
                      <a:pt x="21" y="563"/>
                    </a:lnTo>
                    <a:lnTo>
                      <a:pt x="27" y="613"/>
                    </a:lnTo>
                    <a:lnTo>
                      <a:pt x="33" y="662"/>
                    </a:lnTo>
                    <a:lnTo>
                      <a:pt x="40" y="712"/>
                    </a:lnTo>
                    <a:lnTo>
                      <a:pt x="46" y="761"/>
                    </a:lnTo>
                    <a:lnTo>
                      <a:pt x="55" y="810"/>
                    </a:lnTo>
                    <a:lnTo>
                      <a:pt x="63" y="859"/>
                    </a:lnTo>
                    <a:lnTo>
                      <a:pt x="72" y="909"/>
                    </a:lnTo>
                    <a:lnTo>
                      <a:pt x="82" y="957"/>
                    </a:lnTo>
                    <a:lnTo>
                      <a:pt x="91" y="1005"/>
                    </a:lnTo>
                    <a:lnTo>
                      <a:pt x="102" y="1053"/>
                    </a:lnTo>
                    <a:lnTo>
                      <a:pt x="114" y="1100"/>
                    </a:lnTo>
                    <a:lnTo>
                      <a:pt x="126" y="1149"/>
                    </a:lnTo>
                    <a:lnTo>
                      <a:pt x="138" y="1196"/>
                    </a:lnTo>
                    <a:lnTo>
                      <a:pt x="151" y="1243"/>
                    </a:lnTo>
                    <a:lnTo>
                      <a:pt x="165" y="1290"/>
                    </a:lnTo>
                    <a:lnTo>
                      <a:pt x="179" y="1337"/>
                    </a:lnTo>
                    <a:lnTo>
                      <a:pt x="194" y="1384"/>
                    </a:lnTo>
                    <a:lnTo>
                      <a:pt x="209" y="1430"/>
                    </a:lnTo>
                    <a:lnTo>
                      <a:pt x="225" y="1475"/>
                    </a:lnTo>
                    <a:lnTo>
                      <a:pt x="241" y="1520"/>
                    </a:lnTo>
                    <a:lnTo>
                      <a:pt x="258" y="1567"/>
                    </a:lnTo>
                    <a:lnTo>
                      <a:pt x="276" y="1612"/>
                    </a:lnTo>
                    <a:lnTo>
                      <a:pt x="294" y="1657"/>
                    </a:lnTo>
                    <a:lnTo>
                      <a:pt x="313" y="1701"/>
                    </a:lnTo>
                    <a:lnTo>
                      <a:pt x="332" y="1745"/>
                    </a:lnTo>
                    <a:lnTo>
                      <a:pt x="351" y="1790"/>
                    </a:lnTo>
                    <a:lnTo>
                      <a:pt x="371" y="1834"/>
                    </a:lnTo>
                    <a:lnTo>
                      <a:pt x="392" y="1877"/>
                    </a:lnTo>
                    <a:lnTo>
                      <a:pt x="413" y="1920"/>
                    </a:lnTo>
                    <a:lnTo>
                      <a:pt x="435" y="1962"/>
                    </a:lnTo>
                    <a:lnTo>
                      <a:pt x="456" y="2006"/>
                    </a:lnTo>
                    <a:lnTo>
                      <a:pt x="479" y="2048"/>
                    </a:lnTo>
                    <a:lnTo>
                      <a:pt x="502" y="2090"/>
                    </a:lnTo>
                    <a:lnTo>
                      <a:pt x="527" y="2131"/>
                    </a:lnTo>
                    <a:lnTo>
                      <a:pt x="550" y="2173"/>
                    </a:lnTo>
                    <a:lnTo>
                      <a:pt x="575" y="2214"/>
                    </a:lnTo>
                    <a:lnTo>
                      <a:pt x="600" y="2255"/>
                    </a:lnTo>
                    <a:lnTo>
                      <a:pt x="625" y="2295"/>
                    </a:lnTo>
                    <a:lnTo>
                      <a:pt x="652" y="2335"/>
                    </a:lnTo>
                    <a:lnTo>
                      <a:pt x="678" y="2375"/>
                    </a:lnTo>
                    <a:lnTo>
                      <a:pt x="705" y="2415"/>
                    </a:lnTo>
                    <a:lnTo>
                      <a:pt x="732" y="2454"/>
                    </a:lnTo>
                    <a:lnTo>
                      <a:pt x="761" y="2492"/>
                    </a:lnTo>
                    <a:lnTo>
                      <a:pt x="789" y="2530"/>
                    </a:lnTo>
                    <a:lnTo>
                      <a:pt x="817" y="2568"/>
                    </a:lnTo>
                    <a:lnTo>
                      <a:pt x="846" y="2606"/>
                    </a:lnTo>
                    <a:lnTo>
                      <a:pt x="876" y="2644"/>
                    </a:lnTo>
                    <a:lnTo>
                      <a:pt x="906" y="2680"/>
                    </a:lnTo>
                    <a:lnTo>
                      <a:pt x="936" y="2717"/>
                    </a:lnTo>
                    <a:lnTo>
                      <a:pt x="967" y="2753"/>
                    </a:lnTo>
                    <a:lnTo>
                      <a:pt x="999" y="2788"/>
                    </a:lnTo>
                    <a:lnTo>
                      <a:pt x="1031" y="2824"/>
                    </a:lnTo>
                    <a:lnTo>
                      <a:pt x="1063" y="2860"/>
                    </a:lnTo>
                    <a:lnTo>
                      <a:pt x="1096" y="2894"/>
                    </a:lnTo>
                    <a:lnTo>
                      <a:pt x="1128" y="2928"/>
                    </a:lnTo>
                    <a:lnTo>
                      <a:pt x="1162" y="2962"/>
                    </a:lnTo>
                    <a:lnTo>
                      <a:pt x="1196" y="2995"/>
                    </a:lnTo>
                    <a:lnTo>
                      <a:pt x="1230" y="3028"/>
                    </a:lnTo>
                    <a:lnTo>
                      <a:pt x="1265" y="3061"/>
                    </a:lnTo>
                    <a:lnTo>
                      <a:pt x="1300" y="3093"/>
                    </a:lnTo>
                    <a:lnTo>
                      <a:pt x="1335" y="3125"/>
                    </a:lnTo>
                    <a:lnTo>
                      <a:pt x="1371" y="3156"/>
                    </a:lnTo>
                    <a:lnTo>
                      <a:pt x="1407" y="3187"/>
                    </a:lnTo>
                    <a:lnTo>
                      <a:pt x="1443" y="3218"/>
                    </a:lnTo>
                    <a:lnTo>
                      <a:pt x="1481" y="3248"/>
                    </a:lnTo>
                    <a:lnTo>
                      <a:pt x="1518" y="3278"/>
                    </a:lnTo>
                    <a:lnTo>
                      <a:pt x="1556" y="3307"/>
                    </a:lnTo>
                    <a:lnTo>
                      <a:pt x="1593" y="3336"/>
                    </a:lnTo>
                    <a:lnTo>
                      <a:pt x="1631" y="3364"/>
                    </a:lnTo>
                    <a:lnTo>
                      <a:pt x="1670" y="3392"/>
                    </a:lnTo>
                    <a:lnTo>
                      <a:pt x="1709" y="3419"/>
                    </a:lnTo>
                    <a:lnTo>
                      <a:pt x="1749" y="3446"/>
                    </a:lnTo>
                    <a:lnTo>
                      <a:pt x="1789" y="3473"/>
                    </a:lnTo>
                    <a:lnTo>
                      <a:pt x="1828" y="3499"/>
                    </a:lnTo>
                    <a:lnTo>
                      <a:pt x="1869" y="3525"/>
                    </a:lnTo>
                    <a:lnTo>
                      <a:pt x="1909" y="3549"/>
                    </a:lnTo>
                    <a:lnTo>
                      <a:pt x="1950" y="3574"/>
                    </a:lnTo>
                    <a:lnTo>
                      <a:pt x="1992" y="3598"/>
                    </a:lnTo>
                    <a:lnTo>
                      <a:pt x="2034" y="3622"/>
                    </a:lnTo>
                    <a:lnTo>
                      <a:pt x="2075" y="3645"/>
                    </a:lnTo>
                    <a:lnTo>
                      <a:pt x="2117" y="3667"/>
                    </a:lnTo>
                    <a:lnTo>
                      <a:pt x="2160" y="3690"/>
                    </a:lnTo>
                    <a:lnTo>
                      <a:pt x="2204" y="3712"/>
                    </a:lnTo>
                    <a:lnTo>
                      <a:pt x="2246" y="3733"/>
                    </a:lnTo>
                    <a:lnTo>
                      <a:pt x="2290" y="3754"/>
                    </a:lnTo>
                    <a:lnTo>
                      <a:pt x="2333" y="3774"/>
                    </a:lnTo>
                    <a:lnTo>
                      <a:pt x="2377" y="3793"/>
                    </a:lnTo>
                    <a:lnTo>
                      <a:pt x="2422" y="3812"/>
                    </a:lnTo>
                    <a:lnTo>
                      <a:pt x="2467" y="3830"/>
                    </a:lnTo>
                    <a:lnTo>
                      <a:pt x="2511" y="3849"/>
                    </a:lnTo>
                    <a:lnTo>
                      <a:pt x="2556" y="3866"/>
                    </a:lnTo>
                    <a:lnTo>
                      <a:pt x="2602" y="3883"/>
                    </a:lnTo>
                    <a:lnTo>
                      <a:pt x="2647" y="3900"/>
                    </a:lnTo>
                    <a:lnTo>
                      <a:pt x="2694" y="3916"/>
                    </a:lnTo>
                    <a:lnTo>
                      <a:pt x="2740" y="3931"/>
                    </a:lnTo>
                    <a:lnTo>
                      <a:pt x="2786" y="3946"/>
                    </a:lnTo>
                    <a:lnTo>
                      <a:pt x="2832" y="3960"/>
                    </a:lnTo>
                    <a:lnTo>
                      <a:pt x="2880" y="3974"/>
                    </a:lnTo>
                    <a:lnTo>
                      <a:pt x="2928" y="3987"/>
                    </a:lnTo>
                    <a:lnTo>
                      <a:pt x="2975" y="3999"/>
                    </a:lnTo>
                    <a:lnTo>
                      <a:pt x="3022" y="4011"/>
                    </a:lnTo>
                    <a:lnTo>
                      <a:pt x="3070" y="4022"/>
                    </a:lnTo>
                    <a:lnTo>
                      <a:pt x="3117" y="4033"/>
                    </a:lnTo>
                    <a:lnTo>
                      <a:pt x="3166" y="4043"/>
                    </a:lnTo>
                    <a:lnTo>
                      <a:pt x="3215" y="4053"/>
                    </a:lnTo>
                    <a:lnTo>
                      <a:pt x="3263" y="4062"/>
                    </a:lnTo>
                    <a:lnTo>
                      <a:pt x="3312" y="4070"/>
                    </a:lnTo>
                    <a:lnTo>
                      <a:pt x="3361" y="4078"/>
                    </a:lnTo>
                    <a:lnTo>
                      <a:pt x="3411" y="4085"/>
                    </a:lnTo>
                    <a:lnTo>
                      <a:pt x="3460" y="4092"/>
                    </a:lnTo>
                    <a:lnTo>
                      <a:pt x="3509" y="4098"/>
                    </a:lnTo>
                    <a:lnTo>
                      <a:pt x="3560" y="4103"/>
                    </a:lnTo>
                    <a:lnTo>
                      <a:pt x="3609" y="4108"/>
                    </a:lnTo>
                    <a:lnTo>
                      <a:pt x="3660" y="4113"/>
                    </a:lnTo>
                    <a:lnTo>
                      <a:pt x="3710" y="4116"/>
                    </a:lnTo>
                    <a:lnTo>
                      <a:pt x="3761" y="4119"/>
                    </a:lnTo>
                    <a:lnTo>
                      <a:pt x="3811" y="4121"/>
                    </a:lnTo>
                    <a:lnTo>
                      <a:pt x="3862" y="4123"/>
                    </a:lnTo>
                    <a:lnTo>
                      <a:pt x="3914" y="4124"/>
                    </a:lnTo>
                    <a:lnTo>
                      <a:pt x="3964" y="4125"/>
                    </a:lnTo>
                    <a:lnTo>
                      <a:pt x="3964" y="3808"/>
                    </a:lnTo>
                    <a:lnTo>
                      <a:pt x="3917" y="3808"/>
                    </a:lnTo>
                    <a:lnTo>
                      <a:pt x="3869" y="3807"/>
                    </a:lnTo>
                    <a:lnTo>
                      <a:pt x="3822" y="3806"/>
                    </a:lnTo>
                    <a:lnTo>
                      <a:pt x="3776" y="3804"/>
                    </a:lnTo>
                    <a:lnTo>
                      <a:pt x="3730" y="3801"/>
                    </a:lnTo>
                    <a:lnTo>
                      <a:pt x="3684" y="3797"/>
                    </a:lnTo>
                    <a:lnTo>
                      <a:pt x="3636" y="3793"/>
                    </a:lnTo>
                    <a:lnTo>
                      <a:pt x="3590" y="3790"/>
                    </a:lnTo>
                    <a:lnTo>
                      <a:pt x="3545" y="3784"/>
                    </a:lnTo>
                    <a:lnTo>
                      <a:pt x="3499" y="3779"/>
                    </a:lnTo>
                    <a:lnTo>
                      <a:pt x="3454" y="3773"/>
                    </a:lnTo>
                    <a:lnTo>
                      <a:pt x="3409" y="3766"/>
                    </a:lnTo>
                    <a:lnTo>
                      <a:pt x="3363" y="3759"/>
                    </a:lnTo>
                    <a:lnTo>
                      <a:pt x="3318" y="3751"/>
                    </a:lnTo>
                    <a:lnTo>
                      <a:pt x="3274" y="3743"/>
                    </a:lnTo>
                    <a:lnTo>
                      <a:pt x="3229" y="3735"/>
                    </a:lnTo>
                    <a:lnTo>
                      <a:pt x="3185" y="3725"/>
                    </a:lnTo>
                    <a:lnTo>
                      <a:pt x="3140" y="3715"/>
                    </a:lnTo>
                    <a:lnTo>
                      <a:pt x="3096" y="3705"/>
                    </a:lnTo>
                    <a:lnTo>
                      <a:pt x="3052" y="3694"/>
                    </a:lnTo>
                    <a:lnTo>
                      <a:pt x="3009" y="3681"/>
                    </a:lnTo>
                    <a:lnTo>
                      <a:pt x="2966" y="3669"/>
                    </a:lnTo>
                    <a:lnTo>
                      <a:pt x="2922" y="3657"/>
                    </a:lnTo>
                    <a:lnTo>
                      <a:pt x="2879" y="3644"/>
                    </a:lnTo>
                    <a:lnTo>
                      <a:pt x="2837" y="3630"/>
                    </a:lnTo>
                    <a:lnTo>
                      <a:pt x="2795" y="3616"/>
                    </a:lnTo>
                    <a:lnTo>
                      <a:pt x="2752" y="3602"/>
                    </a:lnTo>
                    <a:lnTo>
                      <a:pt x="2711" y="3587"/>
                    </a:lnTo>
                    <a:lnTo>
                      <a:pt x="2668" y="3571"/>
                    </a:lnTo>
                    <a:lnTo>
                      <a:pt x="2627" y="3555"/>
                    </a:lnTo>
                    <a:lnTo>
                      <a:pt x="2586" y="3539"/>
                    </a:lnTo>
                    <a:lnTo>
                      <a:pt x="2544" y="3522"/>
                    </a:lnTo>
                    <a:lnTo>
                      <a:pt x="2504" y="3504"/>
                    </a:lnTo>
                    <a:lnTo>
                      <a:pt x="2464" y="3486"/>
                    </a:lnTo>
                    <a:lnTo>
                      <a:pt x="2423" y="3467"/>
                    </a:lnTo>
                    <a:lnTo>
                      <a:pt x="2383" y="3448"/>
                    </a:lnTo>
                    <a:lnTo>
                      <a:pt x="2343" y="3428"/>
                    </a:lnTo>
                    <a:lnTo>
                      <a:pt x="2304" y="3409"/>
                    </a:lnTo>
                    <a:lnTo>
                      <a:pt x="2265" y="3388"/>
                    </a:lnTo>
                    <a:lnTo>
                      <a:pt x="2226" y="3367"/>
                    </a:lnTo>
                    <a:lnTo>
                      <a:pt x="2186" y="3346"/>
                    </a:lnTo>
                    <a:lnTo>
                      <a:pt x="2148" y="3325"/>
                    </a:lnTo>
                    <a:lnTo>
                      <a:pt x="2111" y="3303"/>
                    </a:lnTo>
                    <a:lnTo>
                      <a:pt x="2073" y="3280"/>
                    </a:lnTo>
                    <a:lnTo>
                      <a:pt x="2036" y="3257"/>
                    </a:lnTo>
                    <a:lnTo>
                      <a:pt x="1999" y="3233"/>
                    </a:lnTo>
                    <a:lnTo>
                      <a:pt x="1962" y="3209"/>
                    </a:lnTo>
                    <a:lnTo>
                      <a:pt x="1925" y="3184"/>
                    </a:lnTo>
                    <a:lnTo>
                      <a:pt x="1888" y="3160"/>
                    </a:lnTo>
                    <a:lnTo>
                      <a:pt x="1853" y="3135"/>
                    </a:lnTo>
                    <a:lnTo>
                      <a:pt x="1818" y="3109"/>
                    </a:lnTo>
                    <a:lnTo>
                      <a:pt x="1782" y="3083"/>
                    </a:lnTo>
                    <a:lnTo>
                      <a:pt x="1747" y="3057"/>
                    </a:lnTo>
                    <a:lnTo>
                      <a:pt x="1712" y="3029"/>
                    </a:lnTo>
                    <a:lnTo>
                      <a:pt x="1678" y="3002"/>
                    </a:lnTo>
                    <a:lnTo>
                      <a:pt x="1644" y="2974"/>
                    </a:lnTo>
                    <a:lnTo>
                      <a:pt x="1610" y="2946"/>
                    </a:lnTo>
                    <a:lnTo>
                      <a:pt x="1577" y="2918"/>
                    </a:lnTo>
                    <a:lnTo>
                      <a:pt x="1544" y="2889"/>
                    </a:lnTo>
                    <a:lnTo>
                      <a:pt x="1512" y="2860"/>
                    </a:lnTo>
                    <a:lnTo>
                      <a:pt x="1480" y="2831"/>
                    </a:lnTo>
                    <a:lnTo>
                      <a:pt x="1447" y="2800"/>
                    </a:lnTo>
                    <a:lnTo>
                      <a:pt x="1416" y="2769"/>
                    </a:lnTo>
                    <a:lnTo>
                      <a:pt x="1385" y="2738"/>
                    </a:lnTo>
                    <a:lnTo>
                      <a:pt x="1354" y="2708"/>
                    </a:lnTo>
                    <a:lnTo>
                      <a:pt x="1324" y="2676"/>
                    </a:lnTo>
                    <a:lnTo>
                      <a:pt x="1294" y="2645"/>
                    </a:lnTo>
                    <a:lnTo>
                      <a:pt x="1264" y="2612"/>
                    </a:lnTo>
                    <a:lnTo>
                      <a:pt x="1235" y="2579"/>
                    </a:lnTo>
                    <a:lnTo>
                      <a:pt x="1205" y="2546"/>
                    </a:lnTo>
                    <a:lnTo>
                      <a:pt x="1177" y="2513"/>
                    </a:lnTo>
                    <a:lnTo>
                      <a:pt x="1149" y="2480"/>
                    </a:lnTo>
                    <a:lnTo>
                      <a:pt x="1122" y="2446"/>
                    </a:lnTo>
                    <a:lnTo>
                      <a:pt x="1095" y="2412"/>
                    </a:lnTo>
                    <a:lnTo>
                      <a:pt x="1068" y="2376"/>
                    </a:lnTo>
                    <a:lnTo>
                      <a:pt x="1042" y="2341"/>
                    </a:lnTo>
                    <a:lnTo>
                      <a:pt x="1015" y="2307"/>
                    </a:lnTo>
                    <a:lnTo>
                      <a:pt x="989" y="2271"/>
                    </a:lnTo>
                    <a:lnTo>
                      <a:pt x="964" y="2235"/>
                    </a:lnTo>
                    <a:lnTo>
                      <a:pt x="939" y="2199"/>
                    </a:lnTo>
                    <a:lnTo>
                      <a:pt x="914" y="2162"/>
                    </a:lnTo>
                    <a:lnTo>
                      <a:pt x="891" y="2125"/>
                    </a:lnTo>
                    <a:lnTo>
                      <a:pt x="868" y="2088"/>
                    </a:lnTo>
                    <a:lnTo>
                      <a:pt x="844" y="2051"/>
                    </a:lnTo>
                    <a:lnTo>
                      <a:pt x="822" y="2013"/>
                    </a:lnTo>
                    <a:lnTo>
                      <a:pt x="800" y="1975"/>
                    </a:lnTo>
                    <a:lnTo>
                      <a:pt x="778" y="1936"/>
                    </a:lnTo>
                    <a:lnTo>
                      <a:pt x="757" y="1897"/>
                    </a:lnTo>
                    <a:lnTo>
                      <a:pt x="735" y="1859"/>
                    </a:lnTo>
                    <a:lnTo>
                      <a:pt x="715" y="1820"/>
                    </a:lnTo>
                    <a:lnTo>
                      <a:pt x="695" y="1781"/>
                    </a:lnTo>
                    <a:lnTo>
                      <a:pt x="676" y="1740"/>
                    </a:lnTo>
                    <a:lnTo>
                      <a:pt x="657" y="1700"/>
                    </a:lnTo>
                    <a:lnTo>
                      <a:pt x="638" y="1660"/>
                    </a:lnTo>
                    <a:lnTo>
                      <a:pt x="620" y="1620"/>
                    </a:lnTo>
                    <a:lnTo>
                      <a:pt x="603" y="1579"/>
                    </a:lnTo>
                    <a:lnTo>
                      <a:pt x="586" y="1537"/>
                    </a:lnTo>
                    <a:lnTo>
                      <a:pt x="570" y="1496"/>
                    </a:lnTo>
                    <a:lnTo>
                      <a:pt x="553" y="1455"/>
                    </a:lnTo>
                    <a:lnTo>
                      <a:pt x="538" y="1413"/>
                    </a:lnTo>
                    <a:lnTo>
                      <a:pt x="523" y="1371"/>
                    </a:lnTo>
                    <a:lnTo>
                      <a:pt x="508" y="1329"/>
                    </a:lnTo>
                    <a:lnTo>
                      <a:pt x="493" y="1286"/>
                    </a:lnTo>
                    <a:lnTo>
                      <a:pt x="480" y="1243"/>
                    </a:lnTo>
                    <a:lnTo>
                      <a:pt x="467" y="1200"/>
                    </a:lnTo>
                    <a:lnTo>
                      <a:pt x="454" y="1158"/>
                    </a:lnTo>
                    <a:lnTo>
                      <a:pt x="442" y="1115"/>
                    </a:lnTo>
                    <a:lnTo>
                      <a:pt x="431" y="1070"/>
                    </a:lnTo>
                    <a:lnTo>
                      <a:pt x="420" y="1027"/>
                    </a:lnTo>
                    <a:lnTo>
                      <a:pt x="409" y="983"/>
                    </a:lnTo>
                    <a:lnTo>
                      <a:pt x="400" y="939"/>
                    </a:lnTo>
                    <a:lnTo>
                      <a:pt x="390" y="893"/>
                    </a:lnTo>
                    <a:lnTo>
                      <a:pt x="381" y="849"/>
                    </a:lnTo>
                    <a:lnTo>
                      <a:pt x="373" y="804"/>
                    </a:lnTo>
                    <a:lnTo>
                      <a:pt x="365" y="760"/>
                    </a:lnTo>
                    <a:lnTo>
                      <a:pt x="359" y="715"/>
                    </a:lnTo>
                    <a:lnTo>
                      <a:pt x="352" y="668"/>
                    </a:lnTo>
                    <a:lnTo>
                      <a:pt x="346" y="623"/>
                    </a:lnTo>
                    <a:lnTo>
                      <a:pt x="340" y="577"/>
                    </a:lnTo>
                    <a:lnTo>
                      <a:pt x="335" y="532"/>
                    </a:lnTo>
                    <a:lnTo>
                      <a:pt x="331" y="486"/>
                    </a:lnTo>
                    <a:lnTo>
                      <a:pt x="327" y="439"/>
                    </a:lnTo>
                    <a:lnTo>
                      <a:pt x="324" y="393"/>
                    </a:lnTo>
                    <a:lnTo>
                      <a:pt x="321" y="347"/>
                    </a:lnTo>
                    <a:lnTo>
                      <a:pt x="319" y="300"/>
                    </a:lnTo>
                    <a:lnTo>
                      <a:pt x="317" y="252"/>
                    </a:lnTo>
                    <a:lnTo>
                      <a:pt x="317" y="205"/>
                    </a:lnTo>
                    <a:lnTo>
                      <a:pt x="317" y="158"/>
                    </a:lnTo>
                    <a:lnTo>
                      <a:pt x="317" y="158"/>
                    </a:lnTo>
                    <a:lnTo>
                      <a:pt x="317" y="158"/>
                    </a:lnTo>
                    <a:lnTo>
                      <a:pt x="316" y="139"/>
                    </a:lnTo>
                    <a:lnTo>
                      <a:pt x="313" y="121"/>
                    </a:lnTo>
                    <a:lnTo>
                      <a:pt x="309" y="105"/>
                    </a:lnTo>
                    <a:lnTo>
                      <a:pt x="303" y="89"/>
                    </a:lnTo>
                    <a:lnTo>
                      <a:pt x="296" y="75"/>
                    </a:lnTo>
                    <a:lnTo>
                      <a:pt x="288" y="62"/>
                    </a:lnTo>
                    <a:lnTo>
                      <a:pt x="278" y="50"/>
                    </a:lnTo>
                    <a:lnTo>
                      <a:pt x="268" y="40"/>
                    </a:lnTo>
                    <a:lnTo>
                      <a:pt x="255" y="30"/>
                    </a:lnTo>
                    <a:lnTo>
                      <a:pt x="243" y="22"/>
                    </a:lnTo>
                    <a:lnTo>
                      <a:pt x="230" y="15"/>
                    </a:lnTo>
                    <a:lnTo>
                      <a:pt x="216" y="9"/>
                    </a:lnTo>
                    <a:lnTo>
                      <a:pt x="202" y="5"/>
                    </a:lnTo>
                    <a:lnTo>
                      <a:pt x="188" y="2"/>
                    </a:lnTo>
                    <a:lnTo>
                      <a:pt x="173" y="0"/>
                    </a:lnTo>
                    <a:lnTo>
                      <a:pt x="158" y="0"/>
                    </a:lnTo>
                    <a:lnTo>
                      <a:pt x="144" y="0"/>
                    </a:lnTo>
                    <a:lnTo>
                      <a:pt x="129" y="2"/>
                    </a:lnTo>
                    <a:lnTo>
                      <a:pt x="115" y="5"/>
                    </a:lnTo>
                    <a:lnTo>
                      <a:pt x="101" y="9"/>
                    </a:lnTo>
                    <a:lnTo>
                      <a:pt x="87" y="15"/>
                    </a:lnTo>
                    <a:lnTo>
                      <a:pt x="74" y="22"/>
                    </a:lnTo>
                    <a:lnTo>
                      <a:pt x="62" y="30"/>
                    </a:lnTo>
                    <a:lnTo>
                      <a:pt x="50" y="40"/>
                    </a:lnTo>
                    <a:lnTo>
                      <a:pt x="40" y="50"/>
                    </a:lnTo>
                    <a:lnTo>
                      <a:pt x="30" y="62"/>
                    </a:lnTo>
                    <a:lnTo>
                      <a:pt x="21" y="75"/>
                    </a:lnTo>
                    <a:lnTo>
                      <a:pt x="13" y="89"/>
                    </a:lnTo>
                    <a:lnTo>
                      <a:pt x="8" y="105"/>
                    </a:lnTo>
                    <a:lnTo>
                      <a:pt x="3" y="121"/>
                    </a:lnTo>
                    <a:lnTo>
                      <a:pt x="1" y="139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4846680" y="5734080"/>
                <a:ext cx="260280" cy="250920"/>
              </a:xfrm>
              <a:custGeom>
                <a:avLst/>
                <a:gdLst/>
                <a:ahLst/>
                <a:rect l="l" t="t" r="r" b="b"/>
                <a:pathLst>
                  <a:path w="4122" h="3965">
                    <a:moveTo>
                      <a:pt x="3964" y="0"/>
                    </a:moveTo>
                    <a:lnTo>
                      <a:pt x="3964" y="0"/>
                    </a:lnTo>
                    <a:lnTo>
                      <a:pt x="3914" y="0"/>
                    </a:lnTo>
                    <a:lnTo>
                      <a:pt x="3862" y="1"/>
                    </a:lnTo>
                    <a:lnTo>
                      <a:pt x="3811" y="3"/>
                    </a:lnTo>
                    <a:lnTo>
                      <a:pt x="3760" y="5"/>
                    </a:lnTo>
                    <a:lnTo>
                      <a:pt x="3710" y="8"/>
                    </a:lnTo>
                    <a:lnTo>
                      <a:pt x="3660" y="11"/>
                    </a:lnTo>
                    <a:lnTo>
                      <a:pt x="3609" y="15"/>
                    </a:lnTo>
                    <a:lnTo>
                      <a:pt x="3560" y="20"/>
                    </a:lnTo>
                    <a:lnTo>
                      <a:pt x="3509" y="26"/>
                    </a:lnTo>
                    <a:lnTo>
                      <a:pt x="3460" y="31"/>
                    </a:lnTo>
                    <a:lnTo>
                      <a:pt x="3411" y="38"/>
                    </a:lnTo>
                    <a:lnTo>
                      <a:pt x="3361" y="45"/>
                    </a:lnTo>
                    <a:lnTo>
                      <a:pt x="3312" y="53"/>
                    </a:lnTo>
                    <a:lnTo>
                      <a:pt x="3263" y="61"/>
                    </a:lnTo>
                    <a:lnTo>
                      <a:pt x="3215" y="71"/>
                    </a:lnTo>
                    <a:lnTo>
                      <a:pt x="3166" y="80"/>
                    </a:lnTo>
                    <a:lnTo>
                      <a:pt x="3117" y="90"/>
                    </a:lnTo>
                    <a:lnTo>
                      <a:pt x="3070" y="101"/>
                    </a:lnTo>
                    <a:lnTo>
                      <a:pt x="3022" y="113"/>
                    </a:lnTo>
                    <a:lnTo>
                      <a:pt x="2975" y="125"/>
                    </a:lnTo>
                    <a:lnTo>
                      <a:pt x="2927" y="137"/>
                    </a:lnTo>
                    <a:lnTo>
                      <a:pt x="2880" y="150"/>
                    </a:lnTo>
                    <a:lnTo>
                      <a:pt x="2833" y="163"/>
                    </a:lnTo>
                    <a:lnTo>
                      <a:pt x="2786" y="177"/>
                    </a:lnTo>
                    <a:lnTo>
                      <a:pt x="2740" y="192"/>
                    </a:lnTo>
                    <a:lnTo>
                      <a:pt x="2694" y="208"/>
                    </a:lnTo>
                    <a:lnTo>
                      <a:pt x="2647" y="224"/>
                    </a:lnTo>
                    <a:lnTo>
                      <a:pt x="2602" y="241"/>
                    </a:lnTo>
                    <a:lnTo>
                      <a:pt x="2556" y="257"/>
                    </a:lnTo>
                    <a:lnTo>
                      <a:pt x="2512" y="275"/>
                    </a:lnTo>
                    <a:lnTo>
                      <a:pt x="2467" y="293"/>
                    </a:lnTo>
                    <a:lnTo>
                      <a:pt x="2422" y="311"/>
                    </a:lnTo>
                    <a:lnTo>
                      <a:pt x="2377" y="330"/>
                    </a:lnTo>
                    <a:lnTo>
                      <a:pt x="2333" y="350"/>
                    </a:lnTo>
                    <a:lnTo>
                      <a:pt x="2290" y="370"/>
                    </a:lnTo>
                    <a:lnTo>
                      <a:pt x="2246" y="391"/>
                    </a:lnTo>
                    <a:lnTo>
                      <a:pt x="2204" y="411"/>
                    </a:lnTo>
                    <a:lnTo>
                      <a:pt x="2160" y="434"/>
                    </a:lnTo>
                    <a:lnTo>
                      <a:pt x="2117" y="456"/>
                    </a:lnTo>
                    <a:lnTo>
                      <a:pt x="2075" y="479"/>
                    </a:lnTo>
                    <a:lnTo>
                      <a:pt x="2034" y="502"/>
                    </a:lnTo>
                    <a:lnTo>
                      <a:pt x="1992" y="526"/>
                    </a:lnTo>
                    <a:lnTo>
                      <a:pt x="1950" y="549"/>
                    </a:lnTo>
                    <a:lnTo>
                      <a:pt x="1909" y="574"/>
                    </a:lnTo>
                    <a:lnTo>
                      <a:pt x="1869" y="599"/>
                    </a:lnTo>
                    <a:lnTo>
                      <a:pt x="1828" y="624"/>
                    </a:lnTo>
                    <a:lnTo>
                      <a:pt x="1789" y="651"/>
                    </a:lnTo>
                    <a:lnTo>
                      <a:pt x="1749" y="677"/>
                    </a:lnTo>
                    <a:lnTo>
                      <a:pt x="1709" y="704"/>
                    </a:lnTo>
                    <a:lnTo>
                      <a:pt x="1670" y="732"/>
                    </a:lnTo>
                    <a:lnTo>
                      <a:pt x="1632" y="760"/>
                    </a:lnTo>
                    <a:lnTo>
                      <a:pt x="1593" y="787"/>
                    </a:lnTo>
                    <a:lnTo>
                      <a:pt x="1556" y="816"/>
                    </a:lnTo>
                    <a:lnTo>
                      <a:pt x="1518" y="845"/>
                    </a:lnTo>
                    <a:lnTo>
                      <a:pt x="1481" y="876"/>
                    </a:lnTo>
                    <a:lnTo>
                      <a:pt x="1443" y="906"/>
                    </a:lnTo>
                    <a:lnTo>
                      <a:pt x="1407" y="936"/>
                    </a:lnTo>
                    <a:lnTo>
                      <a:pt x="1371" y="967"/>
                    </a:lnTo>
                    <a:lnTo>
                      <a:pt x="1335" y="998"/>
                    </a:lnTo>
                    <a:lnTo>
                      <a:pt x="1300" y="1030"/>
                    </a:lnTo>
                    <a:lnTo>
                      <a:pt x="1265" y="1063"/>
                    </a:lnTo>
                    <a:lnTo>
                      <a:pt x="1230" y="1095"/>
                    </a:lnTo>
                    <a:lnTo>
                      <a:pt x="1196" y="1128"/>
                    </a:lnTo>
                    <a:lnTo>
                      <a:pt x="1162" y="1161"/>
                    </a:lnTo>
                    <a:lnTo>
                      <a:pt x="1128" y="1195"/>
                    </a:lnTo>
                    <a:lnTo>
                      <a:pt x="1096" y="1229"/>
                    </a:lnTo>
                    <a:lnTo>
                      <a:pt x="1063" y="1264"/>
                    </a:lnTo>
                    <a:lnTo>
                      <a:pt x="1031" y="1299"/>
                    </a:lnTo>
                    <a:lnTo>
                      <a:pt x="999" y="1335"/>
                    </a:lnTo>
                    <a:lnTo>
                      <a:pt x="967" y="1371"/>
                    </a:lnTo>
                    <a:lnTo>
                      <a:pt x="936" y="1406"/>
                    </a:lnTo>
                    <a:lnTo>
                      <a:pt x="906" y="1443"/>
                    </a:lnTo>
                    <a:lnTo>
                      <a:pt x="876" y="1480"/>
                    </a:lnTo>
                    <a:lnTo>
                      <a:pt x="846" y="1517"/>
                    </a:lnTo>
                    <a:lnTo>
                      <a:pt x="817" y="1555"/>
                    </a:lnTo>
                    <a:lnTo>
                      <a:pt x="789" y="1593"/>
                    </a:lnTo>
                    <a:lnTo>
                      <a:pt x="761" y="1631"/>
                    </a:lnTo>
                    <a:lnTo>
                      <a:pt x="732" y="1670"/>
                    </a:lnTo>
                    <a:lnTo>
                      <a:pt x="705" y="1710"/>
                    </a:lnTo>
                    <a:lnTo>
                      <a:pt x="678" y="1749"/>
                    </a:lnTo>
                    <a:lnTo>
                      <a:pt x="652" y="1788"/>
                    </a:lnTo>
                    <a:lnTo>
                      <a:pt x="625" y="1828"/>
                    </a:lnTo>
                    <a:lnTo>
                      <a:pt x="600" y="1868"/>
                    </a:lnTo>
                    <a:lnTo>
                      <a:pt x="575" y="1909"/>
                    </a:lnTo>
                    <a:lnTo>
                      <a:pt x="550" y="1951"/>
                    </a:lnTo>
                    <a:lnTo>
                      <a:pt x="527" y="1992"/>
                    </a:lnTo>
                    <a:lnTo>
                      <a:pt x="502" y="2034"/>
                    </a:lnTo>
                    <a:lnTo>
                      <a:pt x="479" y="2075"/>
                    </a:lnTo>
                    <a:lnTo>
                      <a:pt x="456" y="2117"/>
                    </a:lnTo>
                    <a:lnTo>
                      <a:pt x="435" y="2161"/>
                    </a:lnTo>
                    <a:lnTo>
                      <a:pt x="413" y="2204"/>
                    </a:lnTo>
                    <a:lnTo>
                      <a:pt x="392" y="2246"/>
                    </a:lnTo>
                    <a:lnTo>
                      <a:pt x="371" y="2290"/>
                    </a:lnTo>
                    <a:lnTo>
                      <a:pt x="351" y="2333"/>
                    </a:lnTo>
                    <a:lnTo>
                      <a:pt x="332" y="2378"/>
                    </a:lnTo>
                    <a:lnTo>
                      <a:pt x="313" y="2422"/>
                    </a:lnTo>
                    <a:lnTo>
                      <a:pt x="294" y="2467"/>
                    </a:lnTo>
                    <a:lnTo>
                      <a:pt x="276" y="2511"/>
                    </a:lnTo>
                    <a:lnTo>
                      <a:pt x="258" y="2556"/>
                    </a:lnTo>
                    <a:lnTo>
                      <a:pt x="241" y="2603"/>
                    </a:lnTo>
                    <a:lnTo>
                      <a:pt x="225" y="2648"/>
                    </a:lnTo>
                    <a:lnTo>
                      <a:pt x="209" y="2693"/>
                    </a:lnTo>
                    <a:lnTo>
                      <a:pt x="194" y="2739"/>
                    </a:lnTo>
                    <a:lnTo>
                      <a:pt x="179" y="2787"/>
                    </a:lnTo>
                    <a:lnTo>
                      <a:pt x="165" y="2833"/>
                    </a:lnTo>
                    <a:lnTo>
                      <a:pt x="151" y="2880"/>
                    </a:lnTo>
                    <a:lnTo>
                      <a:pt x="138" y="2927"/>
                    </a:lnTo>
                    <a:lnTo>
                      <a:pt x="126" y="2975"/>
                    </a:lnTo>
                    <a:lnTo>
                      <a:pt x="114" y="3023"/>
                    </a:lnTo>
                    <a:lnTo>
                      <a:pt x="102" y="3070"/>
                    </a:lnTo>
                    <a:lnTo>
                      <a:pt x="91" y="3118"/>
                    </a:lnTo>
                    <a:lnTo>
                      <a:pt x="82" y="3166"/>
                    </a:lnTo>
                    <a:lnTo>
                      <a:pt x="72" y="3215"/>
                    </a:lnTo>
                    <a:lnTo>
                      <a:pt x="63" y="3264"/>
                    </a:lnTo>
                    <a:lnTo>
                      <a:pt x="55" y="3313"/>
                    </a:lnTo>
                    <a:lnTo>
                      <a:pt x="46" y="3362"/>
                    </a:lnTo>
                    <a:lnTo>
                      <a:pt x="40" y="3411"/>
                    </a:lnTo>
                    <a:lnTo>
                      <a:pt x="33" y="3461"/>
                    </a:lnTo>
                    <a:lnTo>
                      <a:pt x="27" y="3510"/>
                    </a:lnTo>
                    <a:lnTo>
                      <a:pt x="21" y="3560"/>
                    </a:lnTo>
                    <a:lnTo>
                      <a:pt x="16" y="3610"/>
                    </a:lnTo>
                    <a:lnTo>
                      <a:pt x="12" y="3661"/>
                    </a:lnTo>
                    <a:lnTo>
                      <a:pt x="8" y="3711"/>
                    </a:lnTo>
                    <a:lnTo>
                      <a:pt x="5" y="3762"/>
                    </a:lnTo>
                    <a:lnTo>
                      <a:pt x="3" y="3812"/>
                    </a:lnTo>
                    <a:lnTo>
                      <a:pt x="2" y="3864"/>
                    </a:lnTo>
                    <a:lnTo>
                      <a:pt x="0" y="3914"/>
                    </a:lnTo>
                    <a:lnTo>
                      <a:pt x="0" y="3965"/>
                    </a:lnTo>
                    <a:lnTo>
                      <a:pt x="317" y="3965"/>
                    </a:lnTo>
                    <a:lnTo>
                      <a:pt x="317" y="3918"/>
                    </a:lnTo>
                    <a:lnTo>
                      <a:pt x="317" y="3871"/>
                    </a:lnTo>
                    <a:lnTo>
                      <a:pt x="319" y="3823"/>
                    </a:lnTo>
                    <a:lnTo>
                      <a:pt x="321" y="3776"/>
                    </a:lnTo>
                    <a:lnTo>
                      <a:pt x="324" y="3731"/>
                    </a:lnTo>
                    <a:lnTo>
                      <a:pt x="327" y="3684"/>
                    </a:lnTo>
                    <a:lnTo>
                      <a:pt x="331" y="3638"/>
                    </a:lnTo>
                    <a:lnTo>
                      <a:pt x="335" y="3591"/>
                    </a:lnTo>
                    <a:lnTo>
                      <a:pt x="340" y="3546"/>
                    </a:lnTo>
                    <a:lnTo>
                      <a:pt x="346" y="3500"/>
                    </a:lnTo>
                    <a:lnTo>
                      <a:pt x="352" y="3455"/>
                    </a:lnTo>
                    <a:lnTo>
                      <a:pt x="359" y="3408"/>
                    </a:lnTo>
                    <a:lnTo>
                      <a:pt x="365" y="3363"/>
                    </a:lnTo>
                    <a:lnTo>
                      <a:pt x="373" y="3319"/>
                    </a:lnTo>
                    <a:lnTo>
                      <a:pt x="381" y="3274"/>
                    </a:lnTo>
                    <a:lnTo>
                      <a:pt x="390" y="3230"/>
                    </a:lnTo>
                    <a:lnTo>
                      <a:pt x="400" y="3185"/>
                    </a:lnTo>
                    <a:lnTo>
                      <a:pt x="409" y="3140"/>
                    </a:lnTo>
                    <a:lnTo>
                      <a:pt x="420" y="3097"/>
                    </a:lnTo>
                    <a:lnTo>
                      <a:pt x="431" y="3053"/>
                    </a:lnTo>
                    <a:lnTo>
                      <a:pt x="442" y="3010"/>
                    </a:lnTo>
                    <a:lnTo>
                      <a:pt x="454" y="2965"/>
                    </a:lnTo>
                    <a:lnTo>
                      <a:pt x="467" y="2923"/>
                    </a:lnTo>
                    <a:lnTo>
                      <a:pt x="480" y="2880"/>
                    </a:lnTo>
                    <a:lnTo>
                      <a:pt x="493" y="2838"/>
                    </a:lnTo>
                    <a:lnTo>
                      <a:pt x="508" y="2795"/>
                    </a:lnTo>
                    <a:lnTo>
                      <a:pt x="523" y="2752"/>
                    </a:lnTo>
                    <a:lnTo>
                      <a:pt x="538" y="2710"/>
                    </a:lnTo>
                    <a:lnTo>
                      <a:pt x="553" y="2669"/>
                    </a:lnTo>
                    <a:lnTo>
                      <a:pt x="570" y="2628"/>
                    </a:lnTo>
                    <a:lnTo>
                      <a:pt x="586" y="2586"/>
                    </a:lnTo>
                    <a:lnTo>
                      <a:pt x="603" y="2544"/>
                    </a:lnTo>
                    <a:lnTo>
                      <a:pt x="620" y="2504"/>
                    </a:lnTo>
                    <a:lnTo>
                      <a:pt x="638" y="2463"/>
                    </a:lnTo>
                    <a:lnTo>
                      <a:pt x="657" y="2423"/>
                    </a:lnTo>
                    <a:lnTo>
                      <a:pt x="676" y="2384"/>
                    </a:lnTo>
                    <a:lnTo>
                      <a:pt x="695" y="2343"/>
                    </a:lnTo>
                    <a:lnTo>
                      <a:pt x="715" y="2303"/>
                    </a:lnTo>
                    <a:lnTo>
                      <a:pt x="735" y="2265"/>
                    </a:lnTo>
                    <a:lnTo>
                      <a:pt x="757" y="2226"/>
                    </a:lnTo>
                    <a:lnTo>
                      <a:pt x="778" y="2187"/>
                    </a:lnTo>
                    <a:lnTo>
                      <a:pt x="800" y="2149"/>
                    </a:lnTo>
                    <a:lnTo>
                      <a:pt x="822" y="2110"/>
                    </a:lnTo>
                    <a:lnTo>
                      <a:pt x="844" y="2072"/>
                    </a:lnTo>
                    <a:lnTo>
                      <a:pt x="868" y="2035"/>
                    </a:lnTo>
                    <a:lnTo>
                      <a:pt x="891" y="1999"/>
                    </a:lnTo>
                    <a:lnTo>
                      <a:pt x="914" y="1962"/>
                    </a:lnTo>
                    <a:lnTo>
                      <a:pt x="939" y="1925"/>
                    </a:lnTo>
                    <a:lnTo>
                      <a:pt x="964" y="1888"/>
                    </a:lnTo>
                    <a:lnTo>
                      <a:pt x="989" y="1852"/>
                    </a:lnTo>
                    <a:lnTo>
                      <a:pt x="1015" y="1817"/>
                    </a:lnTo>
                    <a:lnTo>
                      <a:pt x="1042" y="1782"/>
                    </a:lnTo>
                    <a:lnTo>
                      <a:pt x="1068" y="1747"/>
                    </a:lnTo>
                    <a:lnTo>
                      <a:pt x="1095" y="1713"/>
                    </a:lnTo>
                    <a:lnTo>
                      <a:pt x="1122" y="1677"/>
                    </a:lnTo>
                    <a:lnTo>
                      <a:pt x="1149" y="1643"/>
                    </a:lnTo>
                    <a:lnTo>
                      <a:pt x="1177" y="1610"/>
                    </a:lnTo>
                    <a:lnTo>
                      <a:pt x="1205" y="1577"/>
                    </a:lnTo>
                    <a:lnTo>
                      <a:pt x="1235" y="1544"/>
                    </a:lnTo>
                    <a:lnTo>
                      <a:pt x="1264" y="1512"/>
                    </a:lnTo>
                    <a:lnTo>
                      <a:pt x="1294" y="1479"/>
                    </a:lnTo>
                    <a:lnTo>
                      <a:pt x="1324" y="1447"/>
                    </a:lnTo>
                    <a:lnTo>
                      <a:pt x="1354" y="1415"/>
                    </a:lnTo>
                    <a:lnTo>
                      <a:pt x="1385" y="1385"/>
                    </a:lnTo>
                    <a:lnTo>
                      <a:pt x="1416" y="1354"/>
                    </a:lnTo>
                    <a:lnTo>
                      <a:pt x="1447" y="1324"/>
                    </a:lnTo>
                    <a:lnTo>
                      <a:pt x="1480" y="1294"/>
                    </a:lnTo>
                    <a:lnTo>
                      <a:pt x="1512" y="1263"/>
                    </a:lnTo>
                    <a:lnTo>
                      <a:pt x="1544" y="1234"/>
                    </a:lnTo>
                    <a:lnTo>
                      <a:pt x="1577" y="1205"/>
                    </a:lnTo>
                    <a:lnTo>
                      <a:pt x="1610" y="1177"/>
                    </a:lnTo>
                    <a:lnTo>
                      <a:pt x="1644" y="1149"/>
                    </a:lnTo>
                    <a:lnTo>
                      <a:pt x="1678" y="1121"/>
                    </a:lnTo>
                    <a:lnTo>
                      <a:pt x="1712" y="1094"/>
                    </a:lnTo>
                    <a:lnTo>
                      <a:pt x="1747" y="1068"/>
                    </a:lnTo>
                    <a:lnTo>
                      <a:pt x="1782" y="1040"/>
                    </a:lnTo>
                    <a:lnTo>
                      <a:pt x="1817" y="1014"/>
                    </a:lnTo>
                    <a:lnTo>
                      <a:pt x="1853" y="988"/>
                    </a:lnTo>
                    <a:lnTo>
                      <a:pt x="1888" y="963"/>
                    </a:lnTo>
                    <a:lnTo>
                      <a:pt x="1925" y="939"/>
                    </a:lnTo>
                    <a:lnTo>
                      <a:pt x="1962" y="914"/>
                    </a:lnTo>
                    <a:lnTo>
                      <a:pt x="1999" y="891"/>
                    </a:lnTo>
                    <a:lnTo>
                      <a:pt x="2036" y="867"/>
                    </a:lnTo>
                    <a:lnTo>
                      <a:pt x="2073" y="843"/>
                    </a:lnTo>
                    <a:lnTo>
                      <a:pt x="2111" y="821"/>
                    </a:lnTo>
                    <a:lnTo>
                      <a:pt x="2148" y="798"/>
                    </a:lnTo>
                    <a:lnTo>
                      <a:pt x="2186" y="777"/>
                    </a:lnTo>
                    <a:lnTo>
                      <a:pt x="2226" y="755"/>
                    </a:lnTo>
                    <a:lnTo>
                      <a:pt x="2265" y="735"/>
                    </a:lnTo>
                    <a:lnTo>
                      <a:pt x="2304" y="714"/>
                    </a:lnTo>
                    <a:lnTo>
                      <a:pt x="2343" y="695"/>
                    </a:lnTo>
                    <a:lnTo>
                      <a:pt x="2383" y="675"/>
                    </a:lnTo>
                    <a:lnTo>
                      <a:pt x="2423" y="657"/>
                    </a:lnTo>
                    <a:lnTo>
                      <a:pt x="2464" y="638"/>
                    </a:lnTo>
                    <a:lnTo>
                      <a:pt x="2504" y="619"/>
                    </a:lnTo>
                    <a:lnTo>
                      <a:pt x="2544" y="601"/>
                    </a:lnTo>
                    <a:lnTo>
                      <a:pt x="2585" y="585"/>
                    </a:lnTo>
                    <a:lnTo>
                      <a:pt x="2626" y="568"/>
                    </a:lnTo>
                    <a:lnTo>
                      <a:pt x="2668" y="552"/>
                    </a:lnTo>
                    <a:lnTo>
                      <a:pt x="2711" y="537"/>
                    </a:lnTo>
                    <a:lnTo>
                      <a:pt x="2752" y="522"/>
                    </a:lnTo>
                    <a:lnTo>
                      <a:pt x="2795" y="507"/>
                    </a:lnTo>
                    <a:lnTo>
                      <a:pt x="2837" y="493"/>
                    </a:lnTo>
                    <a:lnTo>
                      <a:pt x="2879" y="479"/>
                    </a:lnTo>
                    <a:lnTo>
                      <a:pt x="2921" y="466"/>
                    </a:lnTo>
                    <a:lnTo>
                      <a:pt x="2966" y="454"/>
                    </a:lnTo>
                    <a:lnTo>
                      <a:pt x="3009" y="442"/>
                    </a:lnTo>
                    <a:lnTo>
                      <a:pt x="3052" y="430"/>
                    </a:lnTo>
                    <a:lnTo>
                      <a:pt x="3096" y="419"/>
                    </a:lnTo>
                    <a:lnTo>
                      <a:pt x="3140" y="408"/>
                    </a:lnTo>
                    <a:lnTo>
                      <a:pt x="3185" y="398"/>
                    </a:lnTo>
                    <a:lnTo>
                      <a:pt x="3229" y="389"/>
                    </a:lnTo>
                    <a:lnTo>
                      <a:pt x="3274" y="380"/>
                    </a:lnTo>
                    <a:lnTo>
                      <a:pt x="3318" y="372"/>
                    </a:lnTo>
                    <a:lnTo>
                      <a:pt x="3363" y="364"/>
                    </a:lnTo>
                    <a:lnTo>
                      <a:pt x="3409" y="357"/>
                    </a:lnTo>
                    <a:lnTo>
                      <a:pt x="3454" y="350"/>
                    </a:lnTo>
                    <a:lnTo>
                      <a:pt x="3499" y="345"/>
                    </a:lnTo>
                    <a:lnTo>
                      <a:pt x="3545" y="339"/>
                    </a:lnTo>
                    <a:lnTo>
                      <a:pt x="3590" y="334"/>
                    </a:lnTo>
                    <a:lnTo>
                      <a:pt x="3636" y="330"/>
                    </a:lnTo>
                    <a:lnTo>
                      <a:pt x="3684" y="326"/>
                    </a:lnTo>
                    <a:lnTo>
                      <a:pt x="3730" y="322"/>
                    </a:lnTo>
                    <a:lnTo>
                      <a:pt x="3776" y="320"/>
                    </a:lnTo>
                    <a:lnTo>
                      <a:pt x="3822" y="317"/>
                    </a:lnTo>
                    <a:lnTo>
                      <a:pt x="3869" y="316"/>
                    </a:lnTo>
                    <a:lnTo>
                      <a:pt x="3917" y="316"/>
                    </a:lnTo>
                    <a:lnTo>
                      <a:pt x="3964" y="315"/>
                    </a:lnTo>
                    <a:lnTo>
                      <a:pt x="3964" y="315"/>
                    </a:lnTo>
                    <a:lnTo>
                      <a:pt x="3964" y="315"/>
                    </a:lnTo>
                    <a:lnTo>
                      <a:pt x="3983" y="314"/>
                    </a:lnTo>
                    <a:lnTo>
                      <a:pt x="4001" y="312"/>
                    </a:lnTo>
                    <a:lnTo>
                      <a:pt x="4018" y="308"/>
                    </a:lnTo>
                    <a:lnTo>
                      <a:pt x="4033" y="302"/>
                    </a:lnTo>
                    <a:lnTo>
                      <a:pt x="4047" y="295"/>
                    </a:lnTo>
                    <a:lnTo>
                      <a:pt x="4060" y="286"/>
                    </a:lnTo>
                    <a:lnTo>
                      <a:pt x="4072" y="277"/>
                    </a:lnTo>
                    <a:lnTo>
                      <a:pt x="4082" y="266"/>
                    </a:lnTo>
                    <a:lnTo>
                      <a:pt x="4092" y="255"/>
                    </a:lnTo>
                    <a:lnTo>
                      <a:pt x="4100" y="242"/>
                    </a:lnTo>
                    <a:lnTo>
                      <a:pt x="4106" y="229"/>
                    </a:lnTo>
                    <a:lnTo>
                      <a:pt x="4112" y="216"/>
                    </a:lnTo>
                    <a:lnTo>
                      <a:pt x="4116" y="201"/>
                    </a:lnTo>
                    <a:lnTo>
                      <a:pt x="4119" y="186"/>
                    </a:lnTo>
                    <a:lnTo>
                      <a:pt x="4121" y="172"/>
                    </a:lnTo>
                    <a:lnTo>
                      <a:pt x="4122" y="157"/>
                    </a:lnTo>
                    <a:lnTo>
                      <a:pt x="4121" y="142"/>
                    </a:lnTo>
                    <a:lnTo>
                      <a:pt x="4119" y="128"/>
                    </a:lnTo>
                    <a:lnTo>
                      <a:pt x="4116" y="113"/>
                    </a:lnTo>
                    <a:lnTo>
                      <a:pt x="4112" y="99"/>
                    </a:lnTo>
                    <a:lnTo>
                      <a:pt x="4106" y="86"/>
                    </a:lnTo>
                    <a:lnTo>
                      <a:pt x="4100" y="73"/>
                    </a:lnTo>
                    <a:lnTo>
                      <a:pt x="4092" y="60"/>
                    </a:lnTo>
                    <a:lnTo>
                      <a:pt x="4082" y="49"/>
                    </a:lnTo>
                    <a:lnTo>
                      <a:pt x="4072" y="38"/>
                    </a:lnTo>
                    <a:lnTo>
                      <a:pt x="4060" y="29"/>
                    </a:lnTo>
                    <a:lnTo>
                      <a:pt x="4047" y="20"/>
                    </a:lnTo>
                    <a:lnTo>
                      <a:pt x="4033" y="13"/>
                    </a:lnTo>
                    <a:lnTo>
                      <a:pt x="4018" y="7"/>
                    </a:lnTo>
                    <a:lnTo>
                      <a:pt x="4001" y="3"/>
                    </a:lnTo>
                    <a:lnTo>
                      <a:pt x="3983" y="0"/>
                    </a:lnTo>
                    <a:lnTo>
                      <a:pt x="3964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097600" y="5734080"/>
                <a:ext cx="252360" cy="250920"/>
              </a:xfrm>
              <a:custGeom>
                <a:avLst/>
                <a:gdLst/>
                <a:ahLst/>
                <a:rect l="l" t="t" r="r" b="b"/>
                <a:pathLst>
                  <a:path w="3964" h="3965">
                    <a:moveTo>
                      <a:pt x="3964" y="3965"/>
                    </a:moveTo>
                    <a:lnTo>
                      <a:pt x="3963" y="3914"/>
                    </a:lnTo>
                    <a:lnTo>
                      <a:pt x="3962" y="3864"/>
                    </a:lnTo>
                    <a:lnTo>
                      <a:pt x="3960" y="3812"/>
                    </a:lnTo>
                    <a:lnTo>
                      <a:pt x="3958" y="3761"/>
                    </a:lnTo>
                    <a:lnTo>
                      <a:pt x="3955" y="3711"/>
                    </a:lnTo>
                    <a:lnTo>
                      <a:pt x="3952" y="3661"/>
                    </a:lnTo>
                    <a:lnTo>
                      <a:pt x="3948" y="3610"/>
                    </a:lnTo>
                    <a:lnTo>
                      <a:pt x="3943" y="3560"/>
                    </a:lnTo>
                    <a:lnTo>
                      <a:pt x="3938" y="3510"/>
                    </a:lnTo>
                    <a:lnTo>
                      <a:pt x="3932" y="3461"/>
                    </a:lnTo>
                    <a:lnTo>
                      <a:pt x="3925" y="3411"/>
                    </a:lnTo>
                    <a:lnTo>
                      <a:pt x="3918" y="3362"/>
                    </a:lnTo>
                    <a:lnTo>
                      <a:pt x="3910" y="3313"/>
                    </a:lnTo>
                    <a:lnTo>
                      <a:pt x="3902" y="3264"/>
                    </a:lnTo>
                    <a:lnTo>
                      <a:pt x="3893" y="3215"/>
                    </a:lnTo>
                    <a:lnTo>
                      <a:pt x="3883" y="3166"/>
                    </a:lnTo>
                    <a:lnTo>
                      <a:pt x="3873" y="3118"/>
                    </a:lnTo>
                    <a:lnTo>
                      <a:pt x="3862" y="3070"/>
                    </a:lnTo>
                    <a:lnTo>
                      <a:pt x="3851" y="3023"/>
                    </a:lnTo>
                    <a:lnTo>
                      <a:pt x="3839" y="2975"/>
                    </a:lnTo>
                    <a:lnTo>
                      <a:pt x="3827" y="2927"/>
                    </a:lnTo>
                    <a:lnTo>
                      <a:pt x="3814" y="2880"/>
                    </a:lnTo>
                    <a:lnTo>
                      <a:pt x="3800" y="2834"/>
                    </a:lnTo>
                    <a:lnTo>
                      <a:pt x="3785" y="2787"/>
                    </a:lnTo>
                    <a:lnTo>
                      <a:pt x="3770" y="2739"/>
                    </a:lnTo>
                    <a:lnTo>
                      <a:pt x="3755" y="2693"/>
                    </a:lnTo>
                    <a:lnTo>
                      <a:pt x="3739" y="2648"/>
                    </a:lnTo>
                    <a:lnTo>
                      <a:pt x="3723" y="2602"/>
                    </a:lnTo>
                    <a:lnTo>
                      <a:pt x="3706" y="2556"/>
                    </a:lnTo>
                    <a:lnTo>
                      <a:pt x="3689" y="2512"/>
                    </a:lnTo>
                    <a:lnTo>
                      <a:pt x="3671" y="2467"/>
                    </a:lnTo>
                    <a:lnTo>
                      <a:pt x="3652" y="2422"/>
                    </a:lnTo>
                    <a:lnTo>
                      <a:pt x="3633" y="2378"/>
                    </a:lnTo>
                    <a:lnTo>
                      <a:pt x="3614" y="2333"/>
                    </a:lnTo>
                    <a:lnTo>
                      <a:pt x="3594" y="2290"/>
                    </a:lnTo>
                    <a:lnTo>
                      <a:pt x="3573" y="2246"/>
                    </a:lnTo>
                    <a:lnTo>
                      <a:pt x="3552" y="2203"/>
                    </a:lnTo>
                    <a:lnTo>
                      <a:pt x="3529" y="2161"/>
                    </a:lnTo>
                    <a:lnTo>
                      <a:pt x="3507" y="2117"/>
                    </a:lnTo>
                    <a:lnTo>
                      <a:pt x="3484" y="2075"/>
                    </a:lnTo>
                    <a:lnTo>
                      <a:pt x="3462" y="2033"/>
                    </a:lnTo>
                    <a:lnTo>
                      <a:pt x="3438" y="1992"/>
                    </a:lnTo>
                    <a:lnTo>
                      <a:pt x="3414" y="1951"/>
                    </a:lnTo>
                    <a:lnTo>
                      <a:pt x="3389" y="1909"/>
                    </a:lnTo>
                    <a:lnTo>
                      <a:pt x="3365" y="1868"/>
                    </a:lnTo>
                    <a:lnTo>
                      <a:pt x="3339" y="1828"/>
                    </a:lnTo>
                    <a:lnTo>
                      <a:pt x="3313" y="1788"/>
                    </a:lnTo>
                    <a:lnTo>
                      <a:pt x="3286" y="1749"/>
                    </a:lnTo>
                    <a:lnTo>
                      <a:pt x="3259" y="1710"/>
                    </a:lnTo>
                    <a:lnTo>
                      <a:pt x="3232" y="1670"/>
                    </a:lnTo>
                    <a:lnTo>
                      <a:pt x="3204" y="1631"/>
                    </a:lnTo>
                    <a:lnTo>
                      <a:pt x="3176" y="1593"/>
                    </a:lnTo>
                    <a:lnTo>
                      <a:pt x="3147" y="1555"/>
                    </a:lnTo>
                    <a:lnTo>
                      <a:pt x="3118" y="1517"/>
                    </a:lnTo>
                    <a:lnTo>
                      <a:pt x="3089" y="1480"/>
                    </a:lnTo>
                    <a:lnTo>
                      <a:pt x="3058" y="1442"/>
                    </a:lnTo>
                    <a:lnTo>
                      <a:pt x="3027" y="1406"/>
                    </a:lnTo>
                    <a:lnTo>
                      <a:pt x="2996" y="1371"/>
                    </a:lnTo>
                    <a:lnTo>
                      <a:pt x="2965" y="1335"/>
                    </a:lnTo>
                    <a:lnTo>
                      <a:pt x="2934" y="1299"/>
                    </a:lnTo>
                    <a:lnTo>
                      <a:pt x="2901" y="1264"/>
                    </a:lnTo>
                    <a:lnTo>
                      <a:pt x="2869" y="1229"/>
                    </a:lnTo>
                    <a:lnTo>
                      <a:pt x="2836" y="1195"/>
                    </a:lnTo>
                    <a:lnTo>
                      <a:pt x="2802" y="1161"/>
                    </a:lnTo>
                    <a:lnTo>
                      <a:pt x="2768" y="1128"/>
                    </a:lnTo>
                    <a:lnTo>
                      <a:pt x="2734" y="1095"/>
                    </a:lnTo>
                    <a:lnTo>
                      <a:pt x="2700" y="1063"/>
                    </a:lnTo>
                    <a:lnTo>
                      <a:pt x="2665" y="1030"/>
                    </a:lnTo>
                    <a:lnTo>
                      <a:pt x="2629" y="998"/>
                    </a:lnTo>
                    <a:lnTo>
                      <a:pt x="2594" y="967"/>
                    </a:lnTo>
                    <a:lnTo>
                      <a:pt x="2557" y="936"/>
                    </a:lnTo>
                    <a:lnTo>
                      <a:pt x="2521" y="906"/>
                    </a:lnTo>
                    <a:lnTo>
                      <a:pt x="2484" y="876"/>
                    </a:lnTo>
                    <a:lnTo>
                      <a:pt x="2447" y="845"/>
                    </a:lnTo>
                    <a:lnTo>
                      <a:pt x="2409" y="816"/>
                    </a:lnTo>
                    <a:lnTo>
                      <a:pt x="2372" y="787"/>
                    </a:lnTo>
                    <a:lnTo>
                      <a:pt x="2332" y="760"/>
                    </a:lnTo>
                    <a:lnTo>
                      <a:pt x="2294" y="732"/>
                    </a:lnTo>
                    <a:lnTo>
                      <a:pt x="2255" y="704"/>
                    </a:lnTo>
                    <a:lnTo>
                      <a:pt x="2216" y="677"/>
                    </a:lnTo>
                    <a:lnTo>
                      <a:pt x="2176" y="651"/>
                    </a:lnTo>
                    <a:lnTo>
                      <a:pt x="2136" y="624"/>
                    </a:lnTo>
                    <a:lnTo>
                      <a:pt x="2095" y="599"/>
                    </a:lnTo>
                    <a:lnTo>
                      <a:pt x="2054" y="574"/>
                    </a:lnTo>
                    <a:lnTo>
                      <a:pt x="2014" y="549"/>
                    </a:lnTo>
                    <a:lnTo>
                      <a:pt x="1972" y="526"/>
                    </a:lnTo>
                    <a:lnTo>
                      <a:pt x="1931" y="502"/>
                    </a:lnTo>
                    <a:lnTo>
                      <a:pt x="1889" y="479"/>
                    </a:lnTo>
                    <a:lnTo>
                      <a:pt x="1846" y="456"/>
                    </a:lnTo>
                    <a:lnTo>
                      <a:pt x="1804" y="434"/>
                    </a:lnTo>
                    <a:lnTo>
                      <a:pt x="1761" y="411"/>
                    </a:lnTo>
                    <a:lnTo>
                      <a:pt x="1718" y="391"/>
                    </a:lnTo>
                    <a:lnTo>
                      <a:pt x="1675" y="370"/>
                    </a:lnTo>
                    <a:lnTo>
                      <a:pt x="1631" y="350"/>
                    </a:lnTo>
                    <a:lnTo>
                      <a:pt x="1586" y="330"/>
                    </a:lnTo>
                    <a:lnTo>
                      <a:pt x="1542" y="311"/>
                    </a:lnTo>
                    <a:lnTo>
                      <a:pt x="1497" y="293"/>
                    </a:lnTo>
                    <a:lnTo>
                      <a:pt x="1453" y="275"/>
                    </a:lnTo>
                    <a:lnTo>
                      <a:pt x="1408" y="257"/>
                    </a:lnTo>
                    <a:lnTo>
                      <a:pt x="1362" y="241"/>
                    </a:lnTo>
                    <a:lnTo>
                      <a:pt x="1317" y="224"/>
                    </a:lnTo>
                    <a:lnTo>
                      <a:pt x="1271" y="208"/>
                    </a:lnTo>
                    <a:lnTo>
                      <a:pt x="1225" y="192"/>
                    </a:lnTo>
                    <a:lnTo>
                      <a:pt x="1179" y="177"/>
                    </a:lnTo>
                    <a:lnTo>
                      <a:pt x="1131" y="163"/>
                    </a:lnTo>
                    <a:lnTo>
                      <a:pt x="1084" y="150"/>
                    </a:lnTo>
                    <a:lnTo>
                      <a:pt x="1038" y="137"/>
                    </a:lnTo>
                    <a:lnTo>
                      <a:pt x="990" y="125"/>
                    </a:lnTo>
                    <a:lnTo>
                      <a:pt x="942" y="113"/>
                    </a:lnTo>
                    <a:lnTo>
                      <a:pt x="895" y="101"/>
                    </a:lnTo>
                    <a:lnTo>
                      <a:pt x="846" y="90"/>
                    </a:lnTo>
                    <a:lnTo>
                      <a:pt x="798" y="80"/>
                    </a:lnTo>
                    <a:lnTo>
                      <a:pt x="750" y="71"/>
                    </a:lnTo>
                    <a:lnTo>
                      <a:pt x="702" y="61"/>
                    </a:lnTo>
                    <a:lnTo>
                      <a:pt x="652" y="53"/>
                    </a:lnTo>
                    <a:lnTo>
                      <a:pt x="603" y="45"/>
                    </a:lnTo>
                    <a:lnTo>
                      <a:pt x="554" y="38"/>
                    </a:lnTo>
                    <a:lnTo>
                      <a:pt x="504" y="31"/>
                    </a:lnTo>
                    <a:lnTo>
                      <a:pt x="455" y="26"/>
                    </a:lnTo>
                    <a:lnTo>
                      <a:pt x="404" y="20"/>
                    </a:lnTo>
                    <a:lnTo>
                      <a:pt x="354" y="15"/>
                    </a:lnTo>
                    <a:lnTo>
                      <a:pt x="305" y="11"/>
                    </a:lnTo>
                    <a:lnTo>
                      <a:pt x="254" y="8"/>
                    </a:lnTo>
                    <a:lnTo>
                      <a:pt x="204" y="5"/>
                    </a:lnTo>
                    <a:lnTo>
                      <a:pt x="152" y="3"/>
                    </a:lnTo>
                    <a:lnTo>
                      <a:pt x="102" y="1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315"/>
                    </a:lnTo>
                    <a:lnTo>
                      <a:pt x="47" y="316"/>
                    </a:lnTo>
                    <a:lnTo>
                      <a:pt x="94" y="316"/>
                    </a:lnTo>
                    <a:lnTo>
                      <a:pt x="141" y="317"/>
                    </a:lnTo>
                    <a:lnTo>
                      <a:pt x="188" y="320"/>
                    </a:lnTo>
                    <a:lnTo>
                      <a:pt x="235" y="322"/>
                    </a:lnTo>
                    <a:lnTo>
                      <a:pt x="281" y="326"/>
                    </a:lnTo>
                    <a:lnTo>
                      <a:pt x="327" y="330"/>
                    </a:lnTo>
                    <a:lnTo>
                      <a:pt x="373" y="334"/>
                    </a:lnTo>
                    <a:lnTo>
                      <a:pt x="420" y="339"/>
                    </a:lnTo>
                    <a:lnTo>
                      <a:pt x="465" y="345"/>
                    </a:lnTo>
                    <a:lnTo>
                      <a:pt x="511" y="350"/>
                    </a:lnTo>
                    <a:lnTo>
                      <a:pt x="556" y="357"/>
                    </a:lnTo>
                    <a:lnTo>
                      <a:pt x="601" y="364"/>
                    </a:lnTo>
                    <a:lnTo>
                      <a:pt x="645" y="372"/>
                    </a:lnTo>
                    <a:lnTo>
                      <a:pt x="691" y="380"/>
                    </a:lnTo>
                    <a:lnTo>
                      <a:pt x="736" y="389"/>
                    </a:lnTo>
                    <a:lnTo>
                      <a:pt x="780" y="398"/>
                    </a:lnTo>
                    <a:lnTo>
                      <a:pt x="824" y="408"/>
                    </a:lnTo>
                    <a:lnTo>
                      <a:pt x="868" y="419"/>
                    </a:lnTo>
                    <a:lnTo>
                      <a:pt x="912" y="430"/>
                    </a:lnTo>
                    <a:lnTo>
                      <a:pt x="955" y="442"/>
                    </a:lnTo>
                    <a:lnTo>
                      <a:pt x="999" y="454"/>
                    </a:lnTo>
                    <a:lnTo>
                      <a:pt x="1042" y="466"/>
                    </a:lnTo>
                    <a:lnTo>
                      <a:pt x="1084" y="479"/>
                    </a:lnTo>
                    <a:lnTo>
                      <a:pt x="1127" y="493"/>
                    </a:lnTo>
                    <a:lnTo>
                      <a:pt x="1170" y="507"/>
                    </a:lnTo>
                    <a:lnTo>
                      <a:pt x="1212" y="522"/>
                    </a:lnTo>
                    <a:lnTo>
                      <a:pt x="1254" y="537"/>
                    </a:lnTo>
                    <a:lnTo>
                      <a:pt x="1295" y="552"/>
                    </a:lnTo>
                    <a:lnTo>
                      <a:pt x="1337" y="568"/>
                    </a:lnTo>
                    <a:lnTo>
                      <a:pt x="1379" y="585"/>
                    </a:lnTo>
                    <a:lnTo>
                      <a:pt x="1420" y="601"/>
                    </a:lnTo>
                    <a:lnTo>
                      <a:pt x="1461" y="619"/>
                    </a:lnTo>
                    <a:lnTo>
                      <a:pt x="1501" y="638"/>
                    </a:lnTo>
                    <a:lnTo>
                      <a:pt x="1541" y="657"/>
                    </a:lnTo>
                    <a:lnTo>
                      <a:pt x="1581" y="675"/>
                    </a:lnTo>
                    <a:lnTo>
                      <a:pt x="1621" y="695"/>
                    </a:lnTo>
                    <a:lnTo>
                      <a:pt x="1661" y="714"/>
                    </a:lnTo>
                    <a:lnTo>
                      <a:pt x="1700" y="735"/>
                    </a:lnTo>
                    <a:lnTo>
                      <a:pt x="1738" y="755"/>
                    </a:lnTo>
                    <a:lnTo>
                      <a:pt x="1777" y="777"/>
                    </a:lnTo>
                    <a:lnTo>
                      <a:pt x="1815" y="798"/>
                    </a:lnTo>
                    <a:lnTo>
                      <a:pt x="1853" y="821"/>
                    </a:lnTo>
                    <a:lnTo>
                      <a:pt x="1892" y="843"/>
                    </a:lnTo>
                    <a:lnTo>
                      <a:pt x="1929" y="867"/>
                    </a:lnTo>
                    <a:lnTo>
                      <a:pt x="1966" y="891"/>
                    </a:lnTo>
                    <a:lnTo>
                      <a:pt x="2003" y="914"/>
                    </a:lnTo>
                    <a:lnTo>
                      <a:pt x="2039" y="939"/>
                    </a:lnTo>
                    <a:lnTo>
                      <a:pt x="2075" y="963"/>
                    </a:lnTo>
                    <a:lnTo>
                      <a:pt x="2112" y="988"/>
                    </a:lnTo>
                    <a:lnTo>
                      <a:pt x="2148" y="1014"/>
                    </a:lnTo>
                    <a:lnTo>
                      <a:pt x="2182" y="1040"/>
                    </a:lnTo>
                    <a:lnTo>
                      <a:pt x="2218" y="1068"/>
                    </a:lnTo>
                    <a:lnTo>
                      <a:pt x="2252" y="1094"/>
                    </a:lnTo>
                    <a:lnTo>
                      <a:pt x="2286" y="1121"/>
                    </a:lnTo>
                    <a:lnTo>
                      <a:pt x="2319" y="1149"/>
                    </a:lnTo>
                    <a:lnTo>
                      <a:pt x="2354" y="1177"/>
                    </a:lnTo>
                    <a:lnTo>
                      <a:pt x="2387" y="1205"/>
                    </a:lnTo>
                    <a:lnTo>
                      <a:pt x="2420" y="1234"/>
                    </a:lnTo>
                    <a:lnTo>
                      <a:pt x="2453" y="1263"/>
                    </a:lnTo>
                    <a:lnTo>
                      <a:pt x="2485" y="1294"/>
                    </a:lnTo>
                    <a:lnTo>
                      <a:pt x="2517" y="1324"/>
                    </a:lnTo>
                    <a:lnTo>
                      <a:pt x="2548" y="1354"/>
                    </a:lnTo>
                    <a:lnTo>
                      <a:pt x="2579" y="1385"/>
                    </a:lnTo>
                    <a:lnTo>
                      <a:pt x="2610" y="1415"/>
                    </a:lnTo>
                    <a:lnTo>
                      <a:pt x="2641" y="1447"/>
                    </a:lnTo>
                    <a:lnTo>
                      <a:pt x="2671" y="1479"/>
                    </a:lnTo>
                    <a:lnTo>
                      <a:pt x="2700" y="1512"/>
                    </a:lnTo>
                    <a:lnTo>
                      <a:pt x="2729" y="1544"/>
                    </a:lnTo>
                    <a:lnTo>
                      <a:pt x="2758" y="1577"/>
                    </a:lnTo>
                    <a:lnTo>
                      <a:pt x="2786" y="1610"/>
                    </a:lnTo>
                    <a:lnTo>
                      <a:pt x="2814" y="1644"/>
                    </a:lnTo>
                    <a:lnTo>
                      <a:pt x="2843" y="1677"/>
                    </a:lnTo>
                    <a:lnTo>
                      <a:pt x="2870" y="1713"/>
                    </a:lnTo>
                    <a:lnTo>
                      <a:pt x="2897" y="1747"/>
                    </a:lnTo>
                    <a:lnTo>
                      <a:pt x="2923" y="1782"/>
                    </a:lnTo>
                    <a:lnTo>
                      <a:pt x="2949" y="1817"/>
                    </a:lnTo>
                    <a:lnTo>
                      <a:pt x="2975" y="1852"/>
                    </a:lnTo>
                    <a:lnTo>
                      <a:pt x="3000" y="1888"/>
                    </a:lnTo>
                    <a:lnTo>
                      <a:pt x="3024" y="1925"/>
                    </a:lnTo>
                    <a:lnTo>
                      <a:pt x="3049" y="1962"/>
                    </a:lnTo>
                    <a:lnTo>
                      <a:pt x="3074" y="1999"/>
                    </a:lnTo>
                    <a:lnTo>
                      <a:pt x="3097" y="2035"/>
                    </a:lnTo>
                    <a:lnTo>
                      <a:pt x="3120" y="2072"/>
                    </a:lnTo>
                    <a:lnTo>
                      <a:pt x="3143" y="2110"/>
                    </a:lnTo>
                    <a:lnTo>
                      <a:pt x="3165" y="2149"/>
                    </a:lnTo>
                    <a:lnTo>
                      <a:pt x="3186" y="2188"/>
                    </a:lnTo>
                    <a:lnTo>
                      <a:pt x="3208" y="2226"/>
                    </a:lnTo>
                    <a:lnTo>
                      <a:pt x="3228" y="2265"/>
                    </a:lnTo>
                    <a:lnTo>
                      <a:pt x="3249" y="2303"/>
                    </a:lnTo>
                    <a:lnTo>
                      <a:pt x="3268" y="2343"/>
                    </a:lnTo>
                    <a:lnTo>
                      <a:pt x="3288" y="2384"/>
                    </a:lnTo>
                    <a:lnTo>
                      <a:pt x="3307" y="2423"/>
                    </a:lnTo>
                    <a:lnTo>
                      <a:pt x="3326" y="2463"/>
                    </a:lnTo>
                    <a:lnTo>
                      <a:pt x="3344" y="2504"/>
                    </a:lnTo>
                    <a:lnTo>
                      <a:pt x="3362" y="2544"/>
                    </a:lnTo>
                    <a:lnTo>
                      <a:pt x="3378" y="2586"/>
                    </a:lnTo>
                    <a:lnTo>
                      <a:pt x="3395" y="2627"/>
                    </a:lnTo>
                    <a:lnTo>
                      <a:pt x="3411" y="2669"/>
                    </a:lnTo>
                    <a:lnTo>
                      <a:pt x="3427" y="2710"/>
                    </a:lnTo>
                    <a:lnTo>
                      <a:pt x="3442" y="2752"/>
                    </a:lnTo>
                    <a:lnTo>
                      <a:pt x="3456" y="2795"/>
                    </a:lnTo>
                    <a:lnTo>
                      <a:pt x="3470" y="2838"/>
                    </a:lnTo>
                    <a:lnTo>
                      <a:pt x="3484" y="2880"/>
                    </a:lnTo>
                    <a:lnTo>
                      <a:pt x="3497" y="2922"/>
                    </a:lnTo>
                    <a:lnTo>
                      <a:pt x="3509" y="2965"/>
                    </a:lnTo>
                    <a:lnTo>
                      <a:pt x="3521" y="3010"/>
                    </a:lnTo>
                    <a:lnTo>
                      <a:pt x="3533" y="3053"/>
                    </a:lnTo>
                    <a:lnTo>
                      <a:pt x="3544" y="3097"/>
                    </a:lnTo>
                    <a:lnTo>
                      <a:pt x="3555" y="3140"/>
                    </a:lnTo>
                    <a:lnTo>
                      <a:pt x="3565" y="3185"/>
                    </a:lnTo>
                    <a:lnTo>
                      <a:pt x="3575" y="3230"/>
                    </a:lnTo>
                    <a:lnTo>
                      <a:pt x="3583" y="3274"/>
                    </a:lnTo>
                    <a:lnTo>
                      <a:pt x="3591" y="3319"/>
                    </a:lnTo>
                    <a:lnTo>
                      <a:pt x="3599" y="3363"/>
                    </a:lnTo>
                    <a:lnTo>
                      <a:pt x="3606" y="3408"/>
                    </a:lnTo>
                    <a:lnTo>
                      <a:pt x="3613" y="3455"/>
                    </a:lnTo>
                    <a:lnTo>
                      <a:pt x="3619" y="3500"/>
                    </a:lnTo>
                    <a:lnTo>
                      <a:pt x="3624" y="3546"/>
                    </a:lnTo>
                    <a:lnTo>
                      <a:pt x="3630" y="3591"/>
                    </a:lnTo>
                    <a:lnTo>
                      <a:pt x="3634" y="3638"/>
                    </a:lnTo>
                    <a:lnTo>
                      <a:pt x="3638" y="3684"/>
                    </a:lnTo>
                    <a:lnTo>
                      <a:pt x="3641" y="3731"/>
                    </a:lnTo>
                    <a:lnTo>
                      <a:pt x="3644" y="3777"/>
                    </a:lnTo>
                    <a:lnTo>
                      <a:pt x="3646" y="3823"/>
                    </a:lnTo>
                    <a:lnTo>
                      <a:pt x="3647" y="3871"/>
                    </a:lnTo>
                    <a:lnTo>
                      <a:pt x="3648" y="3918"/>
                    </a:lnTo>
                    <a:lnTo>
                      <a:pt x="3648" y="3965"/>
                    </a:lnTo>
                    <a:lnTo>
                      <a:pt x="3964" y="3965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4737240" y="61581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118" y="234"/>
                    </a:moveTo>
                    <a:lnTo>
                      <a:pt x="205" y="176"/>
                    </a:lnTo>
                    <a:lnTo>
                      <a:pt x="89" y="0"/>
                    </a:lnTo>
                    <a:lnTo>
                      <a:pt x="0" y="59"/>
                    </a:lnTo>
                    <a:lnTo>
                      <a:pt x="118" y="234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651560" y="6161040"/>
                <a:ext cx="93600" cy="68400"/>
              </a:xfrm>
              <a:custGeom>
                <a:avLst/>
                <a:gdLst/>
                <a:ahLst/>
                <a:rect l="l" t="t" r="r" b="b"/>
                <a:pathLst>
                  <a:path w="1460" h="1071">
                    <a:moveTo>
                      <a:pt x="116" y="1071"/>
                    </a:moveTo>
                    <a:lnTo>
                      <a:pt x="1460" y="175"/>
                    </a:lnTo>
                    <a:lnTo>
                      <a:pt x="1342" y="0"/>
                    </a:lnTo>
                    <a:lnTo>
                      <a:pt x="0" y="895"/>
                    </a:lnTo>
                    <a:lnTo>
                      <a:pt x="116" y="1071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646520" y="621828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89" y="0"/>
                    </a:moveTo>
                    <a:lnTo>
                      <a:pt x="0" y="59"/>
                    </a:lnTo>
                    <a:lnTo>
                      <a:pt x="118" y="234"/>
                    </a:lnTo>
                    <a:lnTo>
                      <a:pt x="205" y="176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751280" y="61786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118" y="234"/>
                    </a:moveTo>
                    <a:lnTo>
                      <a:pt x="205" y="176"/>
                    </a:lnTo>
                    <a:lnTo>
                      <a:pt x="89" y="0"/>
                    </a:lnTo>
                    <a:lnTo>
                      <a:pt x="0" y="60"/>
                    </a:lnTo>
                    <a:lnTo>
                      <a:pt x="118" y="234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667400" y="6183360"/>
                <a:ext cx="92160" cy="68400"/>
              </a:xfrm>
              <a:custGeom>
                <a:avLst/>
                <a:gdLst/>
                <a:ahLst/>
                <a:rect l="l" t="t" r="r" b="b"/>
                <a:pathLst>
                  <a:path w="1460" h="1071">
                    <a:moveTo>
                      <a:pt x="116" y="1071"/>
                    </a:moveTo>
                    <a:lnTo>
                      <a:pt x="1460" y="174"/>
                    </a:lnTo>
                    <a:lnTo>
                      <a:pt x="1342" y="0"/>
                    </a:lnTo>
                    <a:lnTo>
                      <a:pt x="0" y="895"/>
                    </a:lnTo>
                    <a:lnTo>
                      <a:pt x="116" y="1071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660920" y="62406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89" y="0"/>
                    </a:moveTo>
                    <a:lnTo>
                      <a:pt x="0" y="59"/>
                    </a:lnTo>
                    <a:lnTo>
                      <a:pt x="118" y="234"/>
                    </a:lnTo>
                    <a:lnTo>
                      <a:pt x="205" y="176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4767480" y="6201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118" y="234"/>
                    </a:moveTo>
                    <a:lnTo>
                      <a:pt x="205" y="176"/>
                    </a:lnTo>
                    <a:lnTo>
                      <a:pt x="89" y="0"/>
                    </a:lnTo>
                    <a:lnTo>
                      <a:pt x="0" y="59"/>
                    </a:lnTo>
                    <a:lnTo>
                      <a:pt x="118" y="234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4681440" y="6205680"/>
                <a:ext cx="93960" cy="66600"/>
              </a:xfrm>
              <a:custGeom>
                <a:avLst/>
                <a:gdLst/>
                <a:ahLst/>
                <a:rect l="l" t="t" r="r" b="b"/>
                <a:pathLst>
                  <a:path w="1460" h="1071">
                    <a:moveTo>
                      <a:pt x="116" y="1071"/>
                    </a:moveTo>
                    <a:lnTo>
                      <a:pt x="1460" y="175"/>
                    </a:lnTo>
                    <a:lnTo>
                      <a:pt x="1342" y="0"/>
                    </a:lnTo>
                    <a:lnTo>
                      <a:pt x="0" y="895"/>
                    </a:lnTo>
                    <a:lnTo>
                      <a:pt x="116" y="1071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4676760" y="6261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89" y="0"/>
                    </a:moveTo>
                    <a:lnTo>
                      <a:pt x="0" y="60"/>
                    </a:lnTo>
                    <a:lnTo>
                      <a:pt x="118" y="234"/>
                    </a:lnTo>
                    <a:lnTo>
                      <a:pt x="205" y="176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5457960" y="61581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205" y="59"/>
                    </a:moveTo>
                    <a:lnTo>
                      <a:pt x="118" y="0"/>
                    </a:lnTo>
                    <a:lnTo>
                      <a:pt x="0" y="176"/>
                    </a:lnTo>
                    <a:lnTo>
                      <a:pt x="89" y="234"/>
                    </a:lnTo>
                    <a:lnTo>
                      <a:pt x="205" y="59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5462640" y="6161040"/>
                <a:ext cx="93600" cy="68400"/>
              </a:xfrm>
              <a:custGeom>
                <a:avLst/>
                <a:gdLst/>
                <a:ahLst/>
                <a:rect l="l" t="t" r="r" b="b"/>
                <a:pathLst>
                  <a:path w="1460" h="1071">
                    <a:moveTo>
                      <a:pt x="1460" y="895"/>
                    </a:moveTo>
                    <a:lnTo>
                      <a:pt x="116" y="0"/>
                    </a:lnTo>
                    <a:lnTo>
                      <a:pt x="0" y="175"/>
                    </a:lnTo>
                    <a:lnTo>
                      <a:pt x="1342" y="1071"/>
                    </a:lnTo>
                    <a:lnTo>
                      <a:pt x="1460" y="895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548320" y="62182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0" y="176"/>
                    </a:moveTo>
                    <a:lnTo>
                      <a:pt x="89" y="234"/>
                    </a:lnTo>
                    <a:lnTo>
                      <a:pt x="205" y="59"/>
                    </a:lnTo>
                    <a:lnTo>
                      <a:pt x="118" y="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442120" y="6178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205" y="60"/>
                    </a:moveTo>
                    <a:lnTo>
                      <a:pt x="118" y="0"/>
                    </a:lnTo>
                    <a:lnTo>
                      <a:pt x="0" y="176"/>
                    </a:lnTo>
                    <a:lnTo>
                      <a:pt x="89" y="234"/>
                    </a:lnTo>
                    <a:lnTo>
                      <a:pt x="205" y="60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5448240" y="6183360"/>
                <a:ext cx="92160" cy="68400"/>
              </a:xfrm>
              <a:custGeom>
                <a:avLst/>
                <a:gdLst/>
                <a:ahLst/>
                <a:rect l="l" t="t" r="r" b="b"/>
                <a:pathLst>
                  <a:path w="1460" h="1071">
                    <a:moveTo>
                      <a:pt x="1460" y="895"/>
                    </a:moveTo>
                    <a:lnTo>
                      <a:pt x="116" y="0"/>
                    </a:lnTo>
                    <a:lnTo>
                      <a:pt x="0" y="174"/>
                    </a:lnTo>
                    <a:lnTo>
                      <a:pt x="1342" y="1071"/>
                    </a:lnTo>
                    <a:lnTo>
                      <a:pt x="1460" y="895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5532480" y="62406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0" y="176"/>
                    </a:moveTo>
                    <a:lnTo>
                      <a:pt x="89" y="234"/>
                    </a:lnTo>
                    <a:lnTo>
                      <a:pt x="205" y="59"/>
                    </a:lnTo>
                    <a:lnTo>
                      <a:pt x="118" y="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5427720" y="6201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205" y="59"/>
                    </a:moveTo>
                    <a:lnTo>
                      <a:pt x="118" y="0"/>
                    </a:lnTo>
                    <a:lnTo>
                      <a:pt x="0" y="176"/>
                    </a:lnTo>
                    <a:lnTo>
                      <a:pt x="89" y="234"/>
                    </a:lnTo>
                    <a:lnTo>
                      <a:pt x="205" y="59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5432400" y="6205680"/>
                <a:ext cx="93600" cy="66600"/>
              </a:xfrm>
              <a:custGeom>
                <a:avLst/>
                <a:gdLst/>
                <a:ahLst/>
                <a:rect l="l" t="t" r="r" b="b"/>
                <a:pathLst>
                  <a:path w="1460" h="1071">
                    <a:moveTo>
                      <a:pt x="1460" y="895"/>
                    </a:moveTo>
                    <a:lnTo>
                      <a:pt x="116" y="0"/>
                    </a:lnTo>
                    <a:lnTo>
                      <a:pt x="0" y="175"/>
                    </a:lnTo>
                    <a:lnTo>
                      <a:pt x="1342" y="1071"/>
                    </a:lnTo>
                    <a:lnTo>
                      <a:pt x="1460" y="895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5518080" y="626112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205" h="234">
                    <a:moveTo>
                      <a:pt x="0" y="176"/>
                    </a:moveTo>
                    <a:lnTo>
                      <a:pt x="88" y="234"/>
                    </a:lnTo>
                    <a:lnTo>
                      <a:pt x="205" y="60"/>
                    </a:lnTo>
                    <a:lnTo>
                      <a:pt x="118" y="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5119920" y="547056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211" h="107">
                    <a:moveTo>
                      <a:pt x="211" y="106"/>
                    </a:moveTo>
                    <a:lnTo>
                      <a:pt x="211" y="0"/>
                    </a:lnTo>
                    <a:lnTo>
                      <a:pt x="0" y="1"/>
                    </a:lnTo>
                    <a:lnTo>
                      <a:pt x="0" y="107"/>
                    </a:lnTo>
                    <a:lnTo>
                      <a:pt x="211" y="106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5119920" y="5477040"/>
                <a:ext cx="14040" cy="102960"/>
              </a:xfrm>
              <a:custGeom>
                <a:avLst/>
                <a:gdLst/>
                <a:ahLst/>
                <a:rect l="l" t="t" r="r" b="b"/>
                <a:pathLst>
                  <a:path w="220" h="1616">
                    <a:moveTo>
                      <a:pt x="220" y="1615"/>
                    </a:moveTo>
                    <a:lnTo>
                      <a:pt x="211" y="0"/>
                    </a:lnTo>
                    <a:lnTo>
                      <a:pt x="0" y="1"/>
                    </a:lnTo>
                    <a:lnTo>
                      <a:pt x="9" y="1616"/>
                    </a:lnTo>
                    <a:lnTo>
                      <a:pt x="220" y="1615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5121360" y="55800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211" h="107">
                    <a:moveTo>
                      <a:pt x="0" y="1"/>
                    </a:moveTo>
                    <a:lnTo>
                      <a:pt x="0" y="107"/>
                    </a:lnTo>
                    <a:lnTo>
                      <a:pt x="211" y="106"/>
                    </a:lnTo>
                    <a:lnTo>
                      <a:pt x="21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5095800" y="5473800"/>
                <a:ext cx="12960" cy="106200"/>
              </a:xfrm>
              <a:prstGeom prst="rect">
                <a:avLst/>
              </a:pr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067360" y="54705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211" h="107">
                    <a:moveTo>
                      <a:pt x="211" y="106"/>
                    </a:moveTo>
                    <a:lnTo>
                      <a:pt x="210" y="0"/>
                    </a:lnTo>
                    <a:lnTo>
                      <a:pt x="0" y="1"/>
                    </a:lnTo>
                    <a:lnTo>
                      <a:pt x="0" y="107"/>
                    </a:lnTo>
                    <a:lnTo>
                      <a:pt x="211" y="106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067360" y="5477040"/>
                <a:ext cx="14400" cy="102960"/>
              </a:xfrm>
              <a:custGeom>
                <a:avLst/>
                <a:gdLst/>
                <a:ahLst/>
                <a:rect l="l" t="t" r="r" b="b"/>
                <a:pathLst>
                  <a:path w="219" h="1616">
                    <a:moveTo>
                      <a:pt x="219" y="1615"/>
                    </a:moveTo>
                    <a:lnTo>
                      <a:pt x="211" y="0"/>
                    </a:lnTo>
                    <a:lnTo>
                      <a:pt x="0" y="1"/>
                    </a:lnTo>
                    <a:lnTo>
                      <a:pt x="9" y="1616"/>
                    </a:lnTo>
                    <a:lnTo>
                      <a:pt x="219" y="1615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5068800" y="558000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211" h="107">
                    <a:moveTo>
                      <a:pt x="0" y="1"/>
                    </a:moveTo>
                    <a:lnTo>
                      <a:pt x="0" y="107"/>
                    </a:lnTo>
                    <a:lnTo>
                      <a:pt x="211" y="106"/>
                    </a:lnTo>
                    <a:lnTo>
                      <a:pt x="2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ab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4978440" y="5546880"/>
                <a:ext cx="38160" cy="82440"/>
              </a:xfrm>
              <a:custGeom>
                <a:avLst/>
                <a:gdLst/>
                <a:ahLst/>
                <a:rect l="l" t="t" r="r" b="b"/>
                <a:pathLst>
                  <a:path w="599" h="1305">
                    <a:moveTo>
                      <a:pt x="96" y="1305"/>
                    </a:moveTo>
                    <a:lnTo>
                      <a:pt x="97" y="1303"/>
                    </a:lnTo>
                    <a:lnTo>
                      <a:pt x="599" y="38"/>
                    </a:lnTo>
                    <a:lnTo>
                      <a:pt x="500" y="0"/>
                    </a:lnTo>
                    <a:lnTo>
                      <a:pt x="0" y="1265"/>
                    </a:lnTo>
                    <a:lnTo>
                      <a:pt x="96" y="1305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4948200" y="5626080"/>
                <a:ext cx="36720" cy="71640"/>
              </a:xfrm>
              <a:custGeom>
                <a:avLst/>
                <a:gdLst/>
                <a:ahLst/>
                <a:rect l="l" t="t" r="r" b="b"/>
                <a:pathLst>
                  <a:path w="570" h="1123">
                    <a:moveTo>
                      <a:pt x="96" y="1123"/>
                    </a:moveTo>
                    <a:lnTo>
                      <a:pt x="96" y="1122"/>
                    </a:lnTo>
                    <a:lnTo>
                      <a:pt x="570" y="42"/>
                    </a:lnTo>
                    <a:lnTo>
                      <a:pt x="475" y="0"/>
                    </a:lnTo>
                    <a:lnTo>
                      <a:pt x="0" y="1081"/>
                    </a:lnTo>
                    <a:lnTo>
                      <a:pt x="96" y="1123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4921200" y="569592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517" h="995">
                    <a:moveTo>
                      <a:pt x="95" y="995"/>
                    </a:moveTo>
                    <a:lnTo>
                      <a:pt x="96" y="991"/>
                    </a:lnTo>
                    <a:lnTo>
                      <a:pt x="517" y="43"/>
                    </a:lnTo>
                    <a:lnTo>
                      <a:pt x="422" y="0"/>
                    </a:lnTo>
                    <a:lnTo>
                      <a:pt x="0" y="949"/>
                    </a:lnTo>
                    <a:lnTo>
                      <a:pt x="95" y="995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4881600" y="575496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725" h="1212">
                    <a:moveTo>
                      <a:pt x="91" y="1212"/>
                    </a:moveTo>
                    <a:lnTo>
                      <a:pt x="92" y="1210"/>
                    </a:lnTo>
                    <a:lnTo>
                      <a:pt x="725" y="50"/>
                    </a:lnTo>
                    <a:lnTo>
                      <a:pt x="632" y="0"/>
                    </a:lnTo>
                    <a:lnTo>
                      <a:pt x="0" y="1160"/>
                    </a:lnTo>
                    <a:lnTo>
                      <a:pt x="91" y="1212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4838760" y="5829480"/>
                <a:ext cx="49320" cy="74520"/>
              </a:xfrm>
              <a:custGeom>
                <a:avLst/>
                <a:gdLst/>
                <a:ahLst/>
                <a:rect l="l" t="t" r="r" b="b"/>
                <a:pathLst>
                  <a:path w="775" h="1188">
                    <a:moveTo>
                      <a:pt x="89" y="1188"/>
                    </a:moveTo>
                    <a:lnTo>
                      <a:pt x="90" y="1187"/>
                    </a:lnTo>
                    <a:lnTo>
                      <a:pt x="775" y="54"/>
                    </a:lnTo>
                    <a:lnTo>
                      <a:pt x="685" y="0"/>
                    </a:lnTo>
                    <a:lnTo>
                      <a:pt x="0" y="1133"/>
                    </a:lnTo>
                    <a:lnTo>
                      <a:pt x="89" y="1188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4788000" y="5900760"/>
                <a:ext cx="55440" cy="82800"/>
              </a:xfrm>
              <a:custGeom>
                <a:avLst/>
                <a:gdLst/>
                <a:ahLst/>
                <a:rect l="l" t="t" r="r" b="b"/>
                <a:pathLst>
                  <a:path w="878" h="1296">
                    <a:moveTo>
                      <a:pt x="88" y="1296"/>
                    </a:moveTo>
                    <a:lnTo>
                      <a:pt x="88" y="1294"/>
                    </a:lnTo>
                    <a:lnTo>
                      <a:pt x="878" y="56"/>
                    </a:lnTo>
                    <a:lnTo>
                      <a:pt x="790" y="0"/>
                    </a:lnTo>
                    <a:lnTo>
                      <a:pt x="0" y="1238"/>
                    </a:lnTo>
                    <a:lnTo>
                      <a:pt x="88" y="1296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748400" y="597852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719" h="983">
                    <a:moveTo>
                      <a:pt x="85" y="983"/>
                    </a:moveTo>
                    <a:lnTo>
                      <a:pt x="86" y="981"/>
                    </a:lnTo>
                    <a:lnTo>
                      <a:pt x="719" y="59"/>
                    </a:lnTo>
                    <a:lnTo>
                      <a:pt x="632" y="0"/>
                    </a:lnTo>
                    <a:lnTo>
                      <a:pt x="0" y="922"/>
                    </a:lnTo>
                    <a:lnTo>
                      <a:pt x="85" y="983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4716360" y="6037200"/>
                <a:ext cx="36720" cy="46080"/>
              </a:xfrm>
              <a:custGeom>
                <a:avLst/>
                <a:gdLst/>
                <a:ahLst/>
                <a:rect l="l" t="t" r="r" b="b"/>
                <a:pathLst>
                  <a:path w="584" h="724">
                    <a:moveTo>
                      <a:pt x="81" y="724"/>
                    </a:moveTo>
                    <a:lnTo>
                      <a:pt x="83" y="722"/>
                    </a:lnTo>
                    <a:lnTo>
                      <a:pt x="584" y="63"/>
                    </a:lnTo>
                    <a:lnTo>
                      <a:pt x="500" y="0"/>
                    </a:lnTo>
                    <a:lnTo>
                      <a:pt x="0" y="659"/>
                    </a:lnTo>
                    <a:lnTo>
                      <a:pt x="81" y="724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4678560" y="60786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686" h="780">
                    <a:moveTo>
                      <a:pt x="0" y="712"/>
                    </a:moveTo>
                    <a:lnTo>
                      <a:pt x="81" y="780"/>
                    </a:lnTo>
                    <a:lnTo>
                      <a:pt x="686" y="68"/>
                    </a:lnTo>
                    <a:lnTo>
                      <a:pt x="607" y="0"/>
                    </a:lnTo>
                    <a:lnTo>
                      <a:pt x="1" y="711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654440" y="6124680"/>
                <a:ext cx="28800" cy="33480"/>
              </a:xfrm>
              <a:custGeom>
                <a:avLst/>
                <a:gdLst/>
                <a:ahLst/>
                <a:rect l="l" t="t" r="r" b="b"/>
                <a:pathLst>
                  <a:path w="457" h="516">
                    <a:moveTo>
                      <a:pt x="0" y="458"/>
                    </a:moveTo>
                    <a:lnTo>
                      <a:pt x="87" y="516"/>
                    </a:lnTo>
                    <a:lnTo>
                      <a:pt x="457" y="68"/>
                    </a:lnTo>
                    <a:lnTo>
                      <a:pt x="375" y="0"/>
                    </a:lnTo>
                    <a:lnTo>
                      <a:pt x="7" y="448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641840" y="615312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284" h="416">
                    <a:moveTo>
                      <a:pt x="0" y="390"/>
                    </a:moveTo>
                    <a:lnTo>
                      <a:pt x="100" y="416"/>
                    </a:lnTo>
                    <a:lnTo>
                      <a:pt x="284" y="48"/>
                    </a:lnTo>
                    <a:lnTo>
                      <a:pt x="190" y="0"/>
                    </a:lnTo>
                    <a:lnTo>
                      <a:pt x="6" y="369"/>
                    </a:lnTo>
                    <a:lnTo>
                      <a:pt x="0" y="39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640400" y="617868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132" h="494">
                    <a:moveTo>
                      <a:pt x="3" y="494"/>
                    </a:moveTo>
                    <a:lnTo>
                      <a:pt x="105" y="480"/>
                    </a:lnTo>
                    <a:lnTo>
                      <a:pt x="132" y="5"/>
                    </a:lnTo>
                    <a:lnTo>
                      <a:pt x="26" y="0"/>
                    </a:lnTo>
                    <a:lnTo>
                      <a:pt x="0" y="474"/>
                    </a:lnTo>
                    <a:lnTo>
                      <a:pt x="3" y="494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640400" y="620712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257" h="519">
                    <a:moveTo>
                      <a:pt x="163" y="519"/>
                    </a:moveTo>
                    <a:lnTo>
                      <a:pt x="257" y="475"/>
                    </a:lnTo>
                    <a:lnTo>
                      <a:pt x="99" y="0"/>
                    </a:lnTo>
                    <a:lnTo>
                      <a:pt x="0" y="34"/>
                    </a:lnTo>
                    <a:lnTo>
                      <a:pt x="158" y="508"/>
                    </a:lnTo>
                    <a:lnTo>
                      <a:pt x="163" y="519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4651560" y="623736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352" h="493">
                    <a:moveTo>
                      <a:pt x="278" y="493"/>
                    </a:moveTo>
                    <a:lnTo>
                      <a:pt x="352" y="422"/>
                    </a:lnTo>
                    <a:lnTo>
                      <a:pt x="89" y="0"/>
                    </a:lnTo>
                    <a:lnTo>
                      <a:pt x="0" y="55"/>
                    </a:lnTo>
                    <a:lnTo>
                      <a:pt x="263" y="477"/>
                    </a:lnTo>
                    <a:lnTo>
                      <a:pt x="278" y="493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668840" y="62629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481" h="384">
                    <a:moveTo>
                      <a:pt x="437" y="384"/>
                    </a:moveTo>
                    <a:lnTo>
                      <a:pt x="481" y="291"/>
                    </a:lnTo>
                    <a:lnTo>
                      <a:pt x="60" y="0"/>
                    </a:lnTo>
                    <a:lnTo>
                      <a:pt x="0" y="88"/>
                    </a:lnTo>
                    <a:lnTo>
                      <a:pt x="422" y="377"/>
                    </a:lnTo>
                    <a:lnTo>
                      <a:pt x="437" y="384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4695840" y="628020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477" h="234">
                    <a:moveTo>
                      <a:pt x="466" y="234"/>
                    </a:moveTo>
                    <a:lnTo>
                      <a:pt x="477" y="131"/>
                    </a:lnTo>
                    <a:lnTo>
                      <a:pt x="29" y="0"/>
                    </a:lnTo>
                    <a:lnTo>
                      <a:pt x="0" y="100"/>
                    </a:lnTo>
                    <a:lnTo>
                      <a:pt x="447" y="232"/>
                    </a:lnTo>
                    <a:lnTo>
                      <a:pt x="466" y="234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4726080" y="6284880"/>
                <a:ext cx="52200" cy="11160"/>
              </a:xfrm>
              <a:custGeom>
                <a:avLst/>
                <a:gdLst/>
                <a:ahLst/>
                <a:rect l="l" t="t" r="r" b="b"/>
                <a:pathLst>
                  <a:path w="831" h="158">
                    <a:moveTo>
                      <a:pt x="831" y="105"/>
                    </a:moveTo>
                    <a:lnTo>
                      <a:pt x="816" y="0"/>
                    </a:lnTo>
                    <a:lnTo>
                      <a:pt x="0" y="53"/>
                    </a:lnTo>
                    <a:lnTo>
                      <a:pt x="7" y="158"/>
                    </a:lnTo>
                    <a:lnTo>
                      <a:pt x="823" y="106"/>
                    </a:lnTo>
                    <a:lnTo>
                      <a:pt x="831" y="105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4776840" y="6274080"/>
                <a:ext cx="55440" cy="18720"/>
              </a:xfrm>
              <a:custGeom>
                <a:avLst/>
                <a:gdLst/>
                <a:ahLst/>
                <a:rect l="l" t="t" r="r" b="b"/>
                <a:pathLst>
                  <a:path w="864" h="289">
                    <a:moveTo>
                      <a:pt x="848" y="0"/>
                    </a:moveTo>
                    <a:lnTo>
                      <a:pt x="842" y="1"/>
                    </a:lnTo>
                    <a:lnTo>
                      <a:pt x="0" y="185"/>
                    </a:lnTo>
                    <a:lnTo>
                      <a:pt x="22" y="289"/>
                    </a:lnTo>
                    <a:lnTo>
                      <a:pt x="864" y="104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4830840" y="6265800"/>
                <a:ext cx="82440" cy="14400"/>
              </a:xfrm>
              <a:custGeom>
                <a:avLst/>
                <a:gdLst/>
                <a:ahLst/>
                <a:rect l="l" t="t" r="r" b="b"/>
                <a:pathLst>
                  <a:path w="1301" h="236">
                    <a:moveTo>
                      <a:pt x="1295" y="0"/>
                    </a:moveTo>
                    <a:lnTo>
                      <a:pt x="1291" y="0"/>
                    </a:lnTo>
                    <a:lnTo>
                      <a:pt x="0" y="131"/>
                    </a:lnTo>
                    <a:lnTo>
                      <a:pt x="10" y="236"/>
                    </a:lnTo>
                    <a:lnTo>
                      <a:pt x="1301" y="104"/>
                    </a:lnTo>
                    <a:lnTo>
                      <a:pt x="1295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4913280" y="6262920"/>
                <a:ext cx="108000" cy="9360"/>
              </a:xfrm>
              <a:custGeom>
                <a:avLst/>
                <a:gdLst/>
                <a:ahLst/>
                <a:rect l="l" t="t" r="r" b="b"/>
                <a:pathLst>
                  <a:path w="1714" h="158">
                    <a:moveTo>
                      <a:pt x="1712" y="0"/>
                    </a:moveTo>
                    <a:lnTo>
                      <a:pt x="1712" y="0"/>
                    </a:lnTo>
                    <a:lnTo>
                      <a:pt x="0" y="54"/>
                    </a:lnTo>
                    <a:lnTo>
                      <a:pt x="3" y="158"/>
                    </a:lnTo>
                    <a:lnTo>
                      <a:pt x="1714" y="106"/>
                    </a:lnTo>
                    <a:lnTo>
                      <a:pt x="1712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021280" y="6261120"/>
                <a:ext cx="81000" cy="7920"/>
              </a:xfrm>
              <a:custGeom>
                <a:avLst/>
                <a:gdLst/>
                <a:ahLst/>
                <a:rect l="l" t="t" r="r" b="b"/>
                <a:pathLst>
                  <a:path w="1266" h="132">
                    <a:moveTo>
                      <a:pt x="1265" y="0"/>
                    </a:moveTo>
                    <a:lnTo>
                      <a:pt x="1264" y="0"/>
                    </a:lnTo>
                    <a:lnTo>
                      <a:pt x="0" y="26"/>
                    </a:lnTo>
                    <a:lnTo>
                      <a:pt x="2" y="132"/>
                    </a:lnTo>
                    <a:lnTo>
                      <a:pt x="1266" y="106"/>
                    </a:lnTo>
                    <a:lnTo>
                      <a:pt x="1265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102280" y="6261120"/>
                <a:ext cx="157320" cy="7920"/>
              </a:xfrm>
              <a:custGeom>
                <a:avLst/>
                <a:gdLst/>
                <a:ahLst/>
                <a:rect l="l" t="t" r="r" b="b"/>
                <a:pathLst>
                  <a:path w="2483" h="132">
                    <a:moveTo>
                      <a:pt x="2483" y="27"/>
                    </a:moveTo>
                    <a:lnTo>
                      <a:pt x="2476" y="26"/>
                    </a:lnTo>
                    <a:lnTo>
                      <a:pt x="0" y="0"/>
                    </a:lnTo>
                    <a:lnTo>
                      <a:pt x="0" y="106"/>
                    </a:lnTo>
                    <a:lnTo>
                      <a:pt x="2475" y="132"/>
                    </a:lnTo>
                    <a:lnTo>
                      <a:pt x="2483" y="27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257800" y="6262920"/>
                <a:ext cx="85680" cy="17280"/>
              </a:xfrm>
              <a:custGeom>
                <a:avLst/>
                <a:gdLst/>
                <a:ahLst/>
                <a:rect l="l" t="t" r="r" b="b"/>
                <a:pathLst>
                  <a:path w="1332" h="289">
                    <a:moveTo>
                      <a:pt x="1318" y="289"/>
                    </a:moveTo>
                    <a:lnTo>
                      <a:pt x="1332" y="184"/>
                    </a:lnTo>
                    <a:lnTo>
                      <a:pt x="15" y="0"/>
                    </a:lnTo>
                    <a:lnTo>
                      <a:pt x="0" y="104"/>
                    </a:lnTo>
                    <a:lnTo>
                      <a:pt x="1318" y="289"/>
                    </a:lnTo>
                    <a:lnTo>
                      <a:pt x="1318" y="289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5342040" y="627408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1199" h="263">
                    <a:moveTo>
                      <a:pt x="1186" y="263"/>
                    </a:moveTo>
                    <a:lnTo>
                      <a:pt x="1199" y="159"/>
                    </a:lnTo>
                    <a:lnTo>
                      <a:pt x="14" y="0"/>
                    </a:lnTo>
                    <a:lnTo>
                      <a:pt x="0" y="105"/>
                    </a:lnTo>
                    <a:lnTo>
                      <a:pt x="1185" y="262"/>
                    </a:lnTo>
                    <a:lnTo>
                      <a:pt x="1186" y="263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418360" y="6283440"/>
                <a:ext cx="58680" cy="14400"/>
              </a:xfrm>
              <a:custGeom>
                <a:avLst/>
                <a:gdLst/>
                <a:ahLst/>
                <a:rect l="l" t="t" r="r" b="b"/>
                <a:pathLst>
                  <a:path w="940" h="210">
                    <a:moveTo>
                      <a:pt x="940" y="209"/>
                    </a:moveTo>
                    <a:lnTo>
                      <a:pt x="934" y="105"/>
                    </a:lnTo>
                    <a:lnTo>
                      <a:pt x="12" y="0"/>
                    </a:lnTo>
                    <a:lnTo>
                      <a:pt x="0" y="105"/>
                    </a:lnTo>
                    <a:lnTo>
                      <a:pt x="921" y="210"/>
                    </a:lnTo>
                    <a:lnTo>
                      <a:pt x="940" y="209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5475240" y="62834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488" h="208">
                    <a:moveTo>
                      <a:pt x="488" y="96"/>
                    </a:moveTo>
                    <a:lnTo>
                      <a:pt x="448" y="0"/>
                    </a:lnTo>
                    <a:lnTo>
                      <a:pt x="0" y="105"/>
                    </a:lnTo>
                    <a:lnTo>
                      <a:pt x="25" y="208"/>
                    </a:lnTo>
                    <a:lnTo>
                      <a:pt x="472" y="103"/>
                    </a:lnTo>
                    <a:lnTo>
                      <a:pt x="488" y="96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5504040" y="627084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413" h="300">
                    <a:moveTo>
                      <a:pt x="413" y="74"/>
                    </a:moveTo>
                    <a:lnTo>
                      <a:pt x="343" y="0"/>
                    </a:lnTo>
                    <a:lnTo>
                      <a:pt x="0" y="211"/>
                    </a:lnTo>
                    <a:lnTo>
                      <a:pt x="55" y="300"/>
                    </a:lnTo>
                    <a:lnTo>
                      <a:pt x="398" y="89"/>
                    </a:lnTo>
                    <a:lnTo>
                      <a:pt x="413" y="74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5524560" y="62406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437" h="559">
                    <a:moveTo>
                      <a:pt x="437" y="38"/>
                    </a:moveTo>
                    <a:lnTo>
                      <a:pt x="342" y="0"/>
                    </a:lnTo>
                    <a:lnTo>
                      <a:pt x="0" y="500"/>
                    </a:lnTo>
                    <a:lnTo>
                      <a:pt x="86" y="559"/>
                    </a:lnTo>
                    <a:lnTo>
                      <a:pt x="428" y="59"/>
                    </a:lnTo>
                    <a:lnTo>
                      <a:pt x="437" y="38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5545080" y="6199200"/>
                <a:ext cx="12960" cy="42840"/>
              </a:xfrm>
              <a:custGeom>
                <a:avLst/>
                <a:gdLst/>
                <a:ahLst/>
                <a:rect l="l" t="t" r="r" b="b"/>
                <a:pathLst>
                  <a:path w="210" h="682">
                    <a:moveTo>
                      <a:pt x="208" y="0"/>
                    </a:moveTo>
                    <a:lnTo>
                      <a:pt x="105" y="6"/>
                    </a:lnTo>
                    <a:lnTo>
                      <a:pt x="0" y="665"/>
                    </a:lnTo>
                    <a:lnTo>
                      <a:pt x="104" y="682"/>
                    </a:lnTo>
                    <a:lnTo>
                      <a:pt x="210" y="23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538960" y="615168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311" h="785">
                    <a:moveTo>
                      <a:pt x="91" y="0"/>
                    </a:moveTo>
                    <a:lnTo>
                      <a:pt x="0" y="46"/>
                    </a:lnTo>
                    <a:lnTo>
                      <a:pt x="210" y="785"/>
                    </a:lnTo>
                    <a:lnTo>
                      <a:pt x="311" y="756"/>
                    </a:lnTo>
                    <a:lnTo>
                      <a:pt x="101" y="18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508720" y="6113520"/>
                <a:ext cx="34920" cy="41400"/>
              </a:xfrm>
              <a:custGeom>
                <a:avLst/>
                <a:gdLst/>
                <a:ahLst/>
                <a:rect l="l" t="t" r="r" b="b"/>
                <a:pathLst>
                  <a:path w="557" h="671">
                    <a:moveTo>
                      <a:pt x="0" y="63"/>
                    </a:moveTo>
                    <a:lnTo>
                      <a:pt x="1" y="65"/>
                    </a:lnTo>
                    <a:lnTo>
                      <a:pt x="475" y="671"/>
                    </a:lnTo>
                    <a:lnTo>
                      <a:pt x="557" y="606"/>
                    </a:lnTo>
                    <a:lnTo>
                      <a:pt x="83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461200" y="604692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849" h="1116">
                    <a:moveTo>
                      <a:pt x="85" y="0"/>
                    </a:moveTo>
                    <a:lnTo>
                      <a:pt x="0" y="62"/>
                    </a:lnTo>
                    <a:lnTo>
                      <a:pt x="765" y="1116"/>
                    </a:lnTo>
                    <a:lnTo>
                      <a:pt x="849" y="1054"/>
                    </a:lnTo>
                    <a:lnTo>
                      <a:pt x="86" y="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407200" y="5973840"/>
                <a:ext cx="58680" cy="76320"/>
              </a:xfrm>
              <a:custGeom>
                <a:avLst/>
                <a:gdLst/>
                <a:ahLst/>
                <a:rect l="l" t="t" r="r" b="b"/>
                <a:pathLst>
                  <a:path w="928" h="1196">
                    <a:moveTo>
                      <a:pt x="0" y="61"/>
                    </a:moveTo>
                    <a:lnTo>
                      <a:pt x="1" y="63"/>
                    </a:lnTo>
                    <a:lnTo>
                      <a:pt x="843" y="1196"/>
                    </a:lnTo>
                    <a:lnTo>
                      <a:pt x="928" y="1133"/>
                    </a:lnTo>
                    <a:lnTo>
                      <a:pt x="8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348520" y="5886720"/>
                <a:ext cx="63360" cy="91800"/>
              </a:xfrm>
              <a:custGeom>
                <a:avLst/>
                <a:gdLst/>
                <a:ahLst/>
                <a:rect l="l" t="t" r="r" b="b"/>
                <a:pathLst>
                  <a:path w="1012" h="1429">
                    <a:moveTo>
                      <a:pt x="0" y="53"/>
                    </a:moveTo>
                    <a:lnTo>
                      <a:pt x="4" y="58"/>
                    </a:lnTo>
                    <a:lnTo>
                      <a:pt x="926" y="1429"/>
                    </a:lnTo>
                    <a:lnTo>
                      <a:pt x="1012" y="1370"/>
                    </a:lnTo>
                    <a:lnTo>
                      <a:pt x="9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5303880" y="580248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780" h="1393">
                    <a:moveTo>
                      <a:pt x="94" y="0"/>
                    </a:moveTo>
                    <a:lnTo>
                      <a:pt x="0" y="49"/>
                    </a:lnTo>
                    <a:lnTo>
                      <a:pt x="685" y="1393"/>
                    </a:lnTo>
                    <a:lnTo>
                      <a:pt x="780" y="1345"/>
                    </a:lnTo>
                    <a:lnTo>
                      <a:pt x="95" y="1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5265720" y="5734080"/>
                <a:ext cx="44640" cy="71640"/>
              </a:xfrm>
              <a:custGeom>
                <a:avLst/>
                <a:gdLst/>
                <a:ahLst/>
                <a:rect l="l" t="t" r="r" b="b"/>
                <a:pathLst>
                  <a:path w="700" h="1132">
                    <a:moveTo>
                      <a:pt x="0" y="48"/>
                    </a:moveTo>
                    <a:lnTo>
                      <a:pt x="2" y="51"/>
                    </a:lnTo>
                    <a:lnTo>
                      <a:pt x="607" y="1132"/>
                    </a:lnTo>
                    <a:lnTo>
                      <a:pt x="700" y="1081"/>
                    </a:lnTo>
                    <a:lnTo>
                      <a:pt x="93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5230800" y="5658120"/>
                <a:ext cx="41400" cy="79200"/>
              </a:xfrm>
              <a:custGeom>
                <a:avLst/>
                <a:gdLst/>
                <a:ahLst/>
                <a:rect l="l" t="t" r="r" b="b"/>
                <a:pathLst>
                  <a:path w="649" h="1231">
                    <a:moveTo>
                      <a:pt x="0" y="42"/>
                    </a:moveTo>
                    <a:lnTo>
                      <a:pt x="1" y="45"/>
                    </a:lnTo>
                    <a:lnTo>
                      <a:pt x="554" y="1231"/>
                    </a:lnTo>
                    <a:lnTo>
                      <a:pt x="649" y="1187"/>
                    </a:lnTo>
                    <a:lnTo>
                      <a:pt x="96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5191200" y="5561280"/>
                <a:ext cx="46080" cy="99720"/>
              </a:xfrm>
              <a:custGeom>
                <a:avLst/>
                <a:gdLst/>
                <a:ahLst/>
                <a:rect l="l" t="t" r="r" b="b"/>
                <a:pathLst>
                  <a:path w="729" h="1568">
                    <a:moveTo>
                      <a:pt x="0" y="39"/>
                    </a:moveTo>
                    <a:lnTo>
                      <a:pt x="0" y="40"/>
                    </a:lnTo>
                    <a:lnTo>
                      <a:pt x="632" y="1568"/>
                    </a:lnTo>
                    <a:lnTo>
                      <a:pt x="729" y="1529"/>
                    </a:lnTo>
                    <a:lnTo>
                      <a:pt x="97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5168880" y="5504040"/>
                <a:ext cx="28800" cy="60120"/>
              </a:xfrm>
              <a:custGeom>
                <a:avLst/>
                <a:gdLst/>
                <a:ahLst/>
                <a:rect l="l" t="t" r="r" b="b"/>
                <a:pathLst>
                  <a:path w="441" h="950">
                    <a:moveTo>
                      <a:pt x="88" y="0"/>
                    </a:moveTo>
                    <a:lnTo>
                      <a:pt x="0" y="54"/>
                    </a:lnTo>
                    <a:lnTo>
                      <a:pt x="343" y="950"/>
                    </a:lnTo>
                    <a:lnTo>
                      <a:pt x="441" y="912"/>
                    </a:lnTo>
                    <a:lnTo>
                      <a:pt x="99" y="1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5146560" y="54770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446" h="481">
                    <a:moveTo>
                      <a:pt x="56" y="0"/>
                    </a:moveTo>
                    <a:lnTo>
                      <a:pt x="0" y="86"/>
                    </a:lnTo>
                    <a:lnTo>
                      <a:pt x="368" y="481"/>
                    </a:lnTo>
                    <a:lnTo>
                      <a:pt x="446" y="410"/>
                    </a:lnTo>
                    <a:lnTo>
                      <a:pt x="77" y="1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5119920" y="5467320"/>
                <a:ext cx="29880" cy="16200"/>
              </a:xfrm>
              <a:custGeom>
                <a:avLst/>
                <a:gdLst/>
                <a:ahLst/>
                <a:rect l="l" t="t" r="r" b="b"/>
                <a:pathLst>
                  <a:path w="483" h="260">
                    <a:moveTo>
                      <a:pt x="18" y="0"/>
                    </a:moveTo>
                    <a:lnTo>
                      <a:pt x="0" y="102"/>
                    </a:lnTo>
                    <a:lnTo>
                      <a:pt x="448" y="260"/>
                    </a:lnTo>
                    <a:lnTo>
                      <a:pt x="483" y="161"/>
                    </a:lnTo>
                    <a:lnTo>
                      <a:pt x="35" y="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5083200" y="5467320"/>
                <a:ext cx="36720" cy="6480"/>
              </a:xfrm>
              <a:custGeom>
                <a:avLst/>
                <a:gdLst/>
                <a:ahLst/>
                <a:rect l="l" t="t" r="r" b="b"/>
                <a:pathLst>
                  <a:path w="593" h="105">
                    <a:moveTo>
                      <a:pt x="0" y="2"/>
                    </a:moveTo>
                    <a:lnTo>
                      <a:pt x="13" y="105"/>
                    </a:lnTo>
                    <a:lnTo>
                      <a:pt x="593" y="105"/>
                    </a:lnTo>
                    <a:lnTo>
                      <a:pt x="593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5050080" y="546732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555" h="233">
                    <a:moveTo>
                      <a:pt x="0" y="151"/>
                    </a:moveTo>
                    <a:lnTo>
                      <a:pt x="54" y="233"/>
                    </a:lnTo>
                    <a:lnTo>
                      <a:pt x="555" y="101"/>
                    </a:lnTo>
                    <a:lnTo>
                      <a:pt x="528" y="0"/>
                    </a:lnTo>
                    <a:lnTo>
                      <a:pt x="28" y="132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027760" y="547704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433" h="511">
                    <a:moveTo>
                      <a:pt x="0" y="459"/>
                    </a:moveTo>
                    <a:lnTo>
                      <a:pt x="91" y="511"/>
                    </a:lnTo>
                    <a:lnTo>
                      <a:pt x="433" y="63"/>
                    </a:lnTo>
                    <a:lnTo>
                      <a:pt x="350" y="0"/>
                    </a:lnTo>
                    <a:lnTo>
                      <a:pt x="7" y="448"/>
                    </a:lnTo>
                    <a:lnTo>
                      <a:pt x="0" y="459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5010120" y="550548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362" h="673">
                    <a:moveTo>
                      <a:pt x="0" y="634"/>
                    </a:moveTo>
                    <a:lnTo>
                      <a:pt x="98" y="673"/>
                    </a:lnTo>
                    <a:lnTo>
                      <a:pt x="362" y="41"/>
                    </a:lnTo>
                    <a:lnTo>
                      <a:pt x="264" y="0"/>
                    </a:lnTo>
                    <a:lnTo>
                      <a:pt x="1" y="633"/>
                    </a:lnTo>
                    <a:lnTo>
                      <a:pt x="0" y="634"/>
                    </a:lnTo>
                    <a:close/>
                  </a:path>
                </a:pathLst>
              </a:custGeom>
              <a:solidFill>
                <a:srgbClr val="aa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5029200" y="6280200"/>
                <a:ext cx="30240" cy="3024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5029200" y="627696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28" h="105">
                    <a:moveTo>
                      <a:pt x="528" y="53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474" y="105"/>
                    </a:lnTo>
                    <a:lnTo>
                      <a:pt x="528" y="53"/>
                    </a:lnTo>
                    <a:lnTo>
                      <a:pt x="528" y="53"/>
                    </a:lnTo>
                    <a:lnTo>
                      <a:pt x="528" y="0"/>
                    </a:lnTo>
                    <a:lnTo>
                      <a:pt x="474" y="0"/>
                    </a:lnTo>
                    <a:lnTo>
                      <a:pt x="528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5056200" y="628020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106" h="526">
                    <a:moveTo>
                      <a:pt x="52" y="526"/>
                    </a:moveTo>
                    <a:lnTo>
                      <a:pt x="106" y="474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474"/>
                    </a:lnTo>
                    <a:lnTo>
                      <a:pt x="52" y="526"/>
                    </a:lnTo>
                    <a:lnTo>
                      <a:pt x="52" y="526"/>
                    </a:lnTo>
                    <a:lnTo>
                      <a:pt x="106" y="526"/>
                    </a:lnTo>
                    <a:lnTo>
                      <a:pt x="106" y="474"/>
                    </a:lnTo>
                    <a:lnTo>
                      <a:pt x="52" y="526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5025960" y="630720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526" h="105">
                    <a:moveTo>
                      <a:pt x="0" y="53"/>
                    </a:moveTo>
                    <a:lnTo>
                      <a:pt x="52" y="105"/>
                    </a:lnTo>
                    <a:lnTo>
                      <a:pt x="526" y="105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05"/>
                    </a:lnTo>
                    <a:lnTo>
                      <a:pt x="52" y="10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5025960" y="627696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106" h="527">
                    <a:moveTo>
                      <a:pt x="52" y="0"/>
                    </a:moveTo>
                    <a:lnTo>
                      <a:pt x="0" y="53"/>
                    </a:lnTo>
                    <a:lnTo>
                      <a:pt x="0" y="527"/>
                    </a:lnTo>
                    <a:lnTo>
                      <a:pt x="106" y="527"/>
                    </a:lnTo>
                    <a:lnTo>
                      <a:pt x="106" y="53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5081760" y="6280200"/>
                <a:ext cx="29880" cy="3024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5081760" y="627696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527" h="105">
                    <a:moveTo>
                      <a:pt x="527" y="53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474" y="105"/>
                    </a:lnTo>
                    <a:lnTo>
                      <a:pt x="527" y="53"/>
                    </a:lnTo>
                    <a:lnTo>
                      <a:pt x="527" y="53"/>
                    </a:lnTo>
                    <a:lnTo>
                      <a:pt x="527" y="0"/>
                    </a:lnTo>
                    <a:lnTo>
                      <a:pt x="474" y="0"/>
                    </a:lnTo>
                    <a:lnTo>
                      <a:pt x="527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5108760" y="628020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5" h="526">
                    <a:moveTo>
                      <a:pt x="52" y="526"/>
                    </a:moveTo>
                    <a:lnTo>
                      <a:pt x="105" y="474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474"/>
                    </a:lnTo>
                    <a:lnTo>
                      <a:pt x="52" y="526"/>
                    </a:lnTo>
                    <a:lnTo>
                      <a:pt x="52" y="526"/>
                    </a:lnTo>
                    <a:lnTo>
                      <a:pt x="105" y="526"/>
                    </a:lnTo>
                    <a:lnTo>
                      <a:pt x="105" y="474"/>
                    </a:lnTo>
                    <a:lnTo>
                      <a:pt x="52" y="526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5078520" y="630720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526" h="105">
                    <a:moveTo>
                      <a:pt x="0" y="53"/>
                    </a:moveTo>
                    <a:lnTo>
                      <a:pt x="52" y="105"/>
                    </a:lnTo>
                    <a:lnTo>
                      <a:pt x="526" y="105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05"/>
                    </a:lnTo>
                    <a:lnTo>
                      <a:pt x="52" y="10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5078520" y="627696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105" h="527">
                    <a:moveTo>
                      <a:pt x="52" y="0"/>
                    </a:moveTo>
                    <a:lnTo>
                      <a:pt x="0" y="53"/>
                    </a:lnTo>
                    <a:lnTo>
                      <a:pt x="0" y="527"/>
                    </a:lnTo>
                    <a:lnTo>
                      <a:pt x="105" y="527"/>
                    </a:lnTo>
                    <a:lnTo>
                      <a:pt x="105" y="53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133960" y="6280200"/>
                <a:ext cx="30240" cy="3024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133960" y="627696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527" h="105">
                    <a:moveTo>
                      <a:pt x="527" y="53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474" y="105"/>
                    </a:lnTo>
                    <a:lnTo>
                      <a:pt x="527" y="53"/>
                    </a:lnTo>
                    <a:lnTo>
                      <a:pt x="527" y="53"/>
                    </a:lnTo>
                    <a:lnTo>
                      <a:pt x="527" y="0"/>
                    </a:lnTo>
                    <a:lnTo>
                      <a:pt x="474" y="0"/>
                    </a:lnTo>
                    <a:lnTo>
                      <a:pt x="527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160960" y="628020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105" h="526">
                    <a:moveTo>
                      <a:pt x="52" y="526"/>
                    </a:moveTo>
                    <a:lnTo>
                      <a:pt x="105" y="474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474"/>
                    </a:lnTo>
                    <a:lnTo>
                      <a:pt x="52" y="526"/>
                    </a:lnTo>
                    <a:lnTo>
                      <a:pt x="52" y="526"/>
                    </a:lnTo>
                    <a:lnTo>
                      <a:pt x="105" y="526"/>
                    </a:lnTo>
                    <a:lnTo>
                      <a:pt x="105" y="474"/>
                    </a:lnTo>
                    <a:lnTo>
                      <a:pt x="52" y="526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130720" y="630720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526" h="105">
                    <a:moveTo>
                      <a:pt x="0" y="53"/>
                    </a:moveTo>
                    <a:lnTo>
                      <a:pt x="52" y="105"/>
                    </a:lnTo>
                    <a:lnTo>
                      <a:pt x="526" y="105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05"/>
                    </a:lnTo>
                    <a:lnTo>
                      <a:pt x="52" y="10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130720" y="627696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105" h="527">
                    <a:moveTo>
                      <a:pt x="52" y="0"/>
                    </a:moveTo>
                    <a:lnTo>
                      <a:pt x="0" y="53"/>
                    </a:lnTo>
                    <a:lnTo>
                      <a:pt x="0" y="527"/>
                    </a:lnTo>
                    <a:lnTo>
                      <a:pt x="105" y="527"/>
                    </a:lnTo>
                    <a:lnTo>
                      <a:pt x="105" y="53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029200" y="6332760"/>
                <a:ext cx="30240" cy="2988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029200" y="632952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28" h="106">
                    <a:moveTo>
                      <a:pt x="528" y="54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6"/>
                    </a:lnTo>
                    <a:lnTo>
                      <a:pt x="474" y="106"/>
                    </a:lnTo>
                    <a:lnTo>
                      <a:pt x="528" y="54"/>
                    </a:lnTo>
                    <a:lnTo>
                      <a:pt x="528" y="54"/>
                    </a:lnTo>
                    <a:lnTo>
                      <a:pt x="528" y="0"/>
                    </a:lnTo>
                    <a:lnTo>
                      <a:pt x="474" y="0"/>
                    </a:lnTo>
                    <a:lnTo>
                      <a:pt x="528" y="54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056200" y="6332760"/>
                <a:ext cx="7920" cy="33120"/>
              </a:xfrm>
              <a:custGeom>
                <a:avLst/>
                <a:gdLst/>
                <a:ahLst/>
                <a:rect l="l" t="t" r="r" b="b"/>
                <a:pathLst>
                  <a:path w="106" h="526">
                    <a:moveTo>
                      <a:pt x="52" y="526"/>
                    </a:moveTo>
                    <a:lnTo>
                      <a:pt x="106" y="474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474"/>
                    </a:lnTo>
                    <a:lnTo>
                      <a:pt x="52" y="526"/>
                    </a:lnTo>
                    <a:lnTo>
                      <a:pt x="52" y="526"/>
                    </a:lnTo>
                    <a:lnTo>
                      <a:pt x="106" y="526"/>
                    </a:lnTo>
                    <a:lnTo>
                      <a:pt x="106" y="474"/>
                    </a:lnTo>
                    <a:lnTo>
                      <a:pt x="52" y="526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025960" y="6359760"/>
                <a:ext cx="33480" cy="6120"/>
              </a:xfrm>
              <a:custGeom>
                <a:avLst/>
                <a:gdLst/>
                <a:ahLst/>
                <a:rect l="l" t="t" r="r" b="b"/>
                <a:pathLst>
                  <a:path w="526" h="105">
                    <a:moveTo>
                      <a:pt x="0" y="53"/>
                    </a:moveTo>
                    <a:lnTo>
                      <a:pt x="52" y="105"/>
                    </a:lnTo>
                    <a:lnTo>
                      <a:pt x="526" y="105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05"/>
                    </a:lnTo>
                    <a:lnTo>
                      <a:pt x="52" y="10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025960" y="6329520"/>
                <a:ext cx="7920" cy="33120"/>
              </a:xfrm>
              <a:custGeom>
                <a:avLst/>
                <a:gdLst/>
                <a:ahLst/>
                <a:rect l="l" t="t" r="r" b="b"/>
                <a:pathLst>
                  <a:path w="106" h="528">
                    <a:moveTo>
                      <a:pt x="52" y="0"/>
                    </a:moveTo>
                    <a:lnTo>
                      <a:pt x="0" y="54"/>
                    </a:lnTo>
                    <a:lnTo>
                      <a:pt x="0" y="528"/>
                    </a:lnTo>
                    <a:lnTo>
                      <a:pt x="106" y="528"/>
                    </a:lnTo>
                    <a:lnTo>
                      <a:pt x="106" y="5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081760" y="6332760"/>
                <a:ext cx="29880" cy="2988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081760" y="632952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527" h="106">
                    <a:moveTo>
                      <a:pt x="527" y="54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6"/>
                    </a:lnTo>
                    <a:lnTo>
                      <a:pt x="474" y="106"/>
                    </a:lnTo>
                    <a:lnTo>
                      <a:pt x="527" y="54"/>
                    </a:lnTo>
                    <a:lnTo>
                      <a:pt x="527" y="54"/>
                    </a:lnTo>
                    <a:lnTo>
                      <a:pt x="527" y="0"/>
                    </a:lnTo>
                    <a:lnTo>
                      <a:pt x="474" y="0"/>
                    </a:lnTo>
                    <a:lnTo>
                      <a:pt x="527" y="54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108760" y="633276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5" h="526">
                    <a:moveTo>
                      <a:pt x="52" y="526"/>
                    </a:moveTo>
                    <a:lnTo>
                      <a:pt x="105" y="474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474"/>
                    </a:lnTo>
                    <a:lnTo>
                      <a:pt x="52" y="526"/>
                    </a:lnTo>
                    <a:lnTo>
                      <a:pt x="52" y="526"/>
                    </a:lnTo>
                    <a:lnTo>
                      <a:pt x="105" y="526"/>
                    </a:lnTo>
                    <a:lnTo>
                      <a:pt x="105" y="474"/>
                    </a:lnTo>
                    <a:lnTo>
                      <a:pt x="52" y="526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078520" y="6359760"/>
                <a:ext cx="33120" cy="6120"/>
              </a:xfrm>
              <a:custGeom>
                <a:avLst/>
                <a:gdLst/>
                <a:ahLst/>
                <a:rect l="l" t="t" r="r" b="b"/>
                <a:pathLst>
                  <a:path w="526" h="105">
                    <a:moveTo>
                      <a:pt x="0" y="53"/>
                    </a:moveTo>
                    <a:lnTo>
                      <a:pt x="52" y="105"/>
                    </a:lnTo>
                    <a:lnTo>
                      <a:pt x="526" y="105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05"/>
                    </a:lnTo>
                    <a:lnTo>
                      <a:pt x="52" y="10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078520" y="632952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5" h="528">
                    <a:moveTo>
                      <a:pt x="52" y="0"/>
                    </a:moveTo>
                    <a:lnTo>
                      <a:pt x="0" y="54"/>
                    </a:lnTo>
                    <a:lnTo>
                      <a:pt x="0" y="528"/>
                    </a:lnTo>
                    <a:lnTo>
                      <a:pt x="105" y="528"/>
                    </a:lnTo>
                    <a:lnTo>
                      <a:pt x="105" y="5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133960" y="6332760"/>
                <a:ext cx="30240" cy="2988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133960" y="632952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527" h="106">
                    <a:moveTo>
                      <a:pt x="527" y="54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6"/>
                    </a:lnTo>
                    <a:lnTo>
                      <a:pt x="474" y="106"/>
                    </a:lnTo>
                    <a:lnTo>
                      <a:pt x="527" y="54"/>
                    </a:lnTo>
                    <a:lnTo>
                      <a:pt x="527" y="54"/>
                    </a:lnTo>
                    <a:lnTo>
                      <a:pt x="527" y="0"/>
                    </a:lnTo>
                    <a:lnTo>
                      <a:pt x="474" y="0"/>
                    </a:lnTo>
                    <a:lnTo>
                      <a:pt x="527" y="54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160960" y="633276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5" h="526">
                    <a:moveTo>
                      <a:pt x="52" y="526"/>
                    </a:moveTo>
                    <a:lnTo>
                      <a:pt x="105" y="474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474"/>
                    </a:lnTo>
                    <a:lnTo>
                      <a:pt x="52" y="526"/>
                    </a:lnTo>
                    <a:lnTo>
                      <a:pt x="52" y="526"/>
                    </a:lnTo>
                    <a:lnTo>
                      <a:pt x="105" y="526"/>
                    </a:lnTo>
                    <a:lnTo>
                      <a:pt x="105" y="474"/>
                    </a:lnTo>
                    <a:lnTo>
                      <a:pt x="52" y="526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5130720" y="6359760"/>
                <a:ext cx="33480" cy="6120"/>
              </a:xfrm>
              <a:custGeom>
                <a:avLst/>
                <a:gdLst/>
                <a:ahLst/>
                <a:rect l="l" t="t" r="r" b="b"/>
                <a:pathLst>
                  <a:path w="526" h="105">
                    <a:moveTo>
                      <a:pt x="0" y="53"/>
                    </a:moveTo>
                    <a:lnTo>
                      <a:pt x="52" y="105"/>
                    </a:lnTo>
                    <a:lnTo>
                      <a:pt x="526" y="105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05"/>
                    </a:lnTo>
                    <a:lnTo>
                      <a:pt x="52" y="10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5130720" y="632952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5" h="528">
                    <a:moveTo>
                      <a:pt x="52" y="0"/>
                    </a:moveTo>
                    <a:lnTo>
                      <a:pt x="0" y="54"/>
                    </a:lnTo>
                    <a:lnTo>
                      <a:pt x="0" y="528"/>
                    </a:lnTo>
                    <a:lnTo>
                      <a:pt x="105" y="528"/>
                    </a:lnTo>
                    <a:lnTo>
                      <a:pt x="105" y="5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029200" y="6384960"/>
                <a:ext cx="30240" cy="3024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5029200" y="638172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28" h="106">
                    <a:moveTo>
                      <a:pt x="528" y="53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6"/>
                    </a:lnTo>
                    <a:lnTo>
                      <a:pt x="474" y="106"/>
                    </a:lnTo>
                    <a:lnTo>
                      <a:pt x="528" y="53"/>
                    </a:lnTo>
                    <a:lnTo>
                      <a:pt x="528" y="53"/>
                    </a:lnTo>
                    <a:lnTo>
                      <a:pt x="528" y="0"/>
                    </a:lnTo>
                    <a:lnTo>
                      <a:pt x="474" y="0"/>
                    </a:lnTo>
                    <a:lnTo>
                      <a:pt x="528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056200" y="638496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106" h="527">
                    <a:moveTo>
                      <a:pt x="52" y="527"/>
                    </a:moveTo>
                    <a:lnTo>
                      <a:pt x="106" y="475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52" y="527"/>
                    </a:lnTo>
                    <a:lnTo>
                      <a:pt x="52" y="527"/>
                    </a:lnTo>
                    <a:lnTo>
                      <a:pt x="106" y="527"/>
                    </a:lnTo>
                    <a:lnTo>
                      <a:pt x="106" y="475"/>
                    </a:lnTo>
                    <a:lnTo>
                      <a:pt x="52" y="527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025960" y="641052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526" h="106">
                    <a:moveTo>
                      <a:pt x="0" y="54"/>
                    </a:moveTo>
                    <a:lnTo>
                      <a:pt x="52" y="106"/>
                    </a:lnTo>
                    <a:lnTo>
                      <a:pt x="526" y="106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106"/>
                    </a:lnTo>
                    <a:lnTo>
                      <a:pt x="52" y="10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025960" y="638172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106" h="528">
                    <a:moveTo>
                      <a:pt x="52" y="0"/>
                    </a:moveTo>
                    <a:lnTo>
                      <a:pt x="0" y="53"/>
                    </a:lnTo>
                    <a:lnTo>
                      <a:pt x="0" y="528"/>
                    </a:lnTo>
                    <a:lnTo>
                      <a:pt x="106" y="528"/>
                    </a:lnTo>
                    <a:lnTo>
                      <a:pt x="106" y="53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081760" y="6384960"/>
                <a:ext cx="29880" cy="3024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081760" y="638172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527" h="106">
                    <a:moveTo>
                      <a:pt x="527" y="53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6"/>
                    </a:lnTo>
                    <a:lnTo>
                      <a:pt x="474" y="106"/>
                    </a:lnTo>
                    <a:lnTo>
                      <a:pt x="527" y="53"/>
                    </a:lnTo>
                    <a:lnTo>
                      <a:pt x="527" y="53"/>
                    </a:lnTo>
                    <a:lnTo>
                      <a:pt x="527" y="0"/>
                    </a:lnTo>
                    <a:lnTo>
                      <a:pt x="474" y="0"/>
                    </a:lnTo>
                    <a:lnTo>
                      <a:pt x="527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108760" y="638496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5" h="527">
                    <a:moveTo>
                      <a:pt x="52" y="527"/>
                    </a:moveTo>
                    <a:lnTo>
                      <a:pt x="105" y="475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52" y="527"/>
                    </a:lnTo>
                    <a:lnTo>
                      <a:pt x="52" y="527"/>
                    </a:lnTo>
                    <a:lnTo>
                      <a:pt x="105" y="527"/>
                    </a:lnTo>
                    <a:lnTo>
                      <a:pt x="105" y="475"/>
                    </a:lnTo>
                    <a:lnTo>
                      <a:pt x="52" y="527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078520" y="641052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526" h="106">
                    <a:moveTo>
                      <a:pt x="0" y="54"/>
                    </a:moveTo>
                    <a:lnTo>
                      <a:pt x="52" y="106"/>
                    </a:lnTo>
                    <a:lnTo>
                      <a:pt x="526" y="106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106"/>
                    </a:lnTo>
                    <a:lnTo>
                      <a:pt x="52" y="10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078520" y="63817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105" h="528">
                    <a:moveTo>
                      <a:pt x="52" y="0"/>
                    </a:moveTo>
                    <a:lnTo>
                      <a:pt x="0" y="53"/>
                    </a:lnTo>
                    <a:lnTo>
                      <a:pt x="0" y="528"/>
                    </a:lnTo>
                    <a:lnTo>
                      <a:pt x="105" y="528"/>
                    </a:lnTo>
                    <a:lnTo>
                      <a:pt x="105" y="53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133960" y="6384960"/>
                <a:ext cx="30240" cy="3024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133960" y="638172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527" h="106">
                    <a:moveTo>
                      <a:pt x="527" y="53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6"/>
                    </a:lnTo>
                    <a:lnTo>
                      <a:pt x="474" y="106"/>
                    </a:lnTo>
                    <a:lnTo>
                      <a:pt x="527" y="53"/>
                    </a:lnTo>
                    <a:lnTo>
                      <a:pt x="527" y="53"/>
                    </a:lnTo>
                    <a:lnTo>
                      <a:pt x="527" y="0"/>
                    </a:lnTo>
                    <a:lnTo>
                      <a:pt x="474" y="0"/>
                    </a:lnTo>
                    <a:lnTo>
                      <a:pt x="527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160960" y="638496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105" h="527">
                    <a:moveTo>
                      <a:pt x="52" y="527"/>
                    </a:moveTo>
                    <a:lnTo>
                      <a:pt x="105" y="475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52" y="527"/>
                    </a:lnTo>
                    <a:lnTo>
                      <a:pt x="52" y="527"/>
                    </a:lnTo>
                    <a:lnTo>
                      <a:pt x="105" y="527"/>
                    </a:lnTo>
                    <a:lnTo>
                      <a:pt x="105" y="475"/>
                    </a:lnTo>
                    <a:lnTo>
                      <a:pt x="52" y="527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130720" y="641052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526" h="106">
                    <a:moveTo>
                      <a:pt x="0" y="54"/>
                    </a:moveTo>
                    <a:lnTo>
                      <a:pt x="52" y="106"/>
                    </a:lnTo>
                    <a:lnTo>
                      <a:pt x="526" y="106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106"/>
                    </a:lnTo>
                    <a:lnTo>
                      <a:pt x="52" y="10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130720" y="63817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105" h="528">
                    <a:moveTo>
                      <a:pt x="52" y="0"/>
                    </a:moveTo>
                    <a:lnTo>
                      <a:pt x="0" y="53"/>
                    </a:lnTo>
                    <a:lnTo>
                      <a:pt x="0" y="528"/>
                    </a:lnTo>
                    <a:lnTo>
                      <a:pt x="105" y="528"/>
                    </a:lnTo>
                    <a:lnTo>
                      <a:pt x="105" y="53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029200" y="6435720"/>
                <a:ext cx="30240" cy="3024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029200" y="6432840"/>
                <a:ext cx="34920" cy="6120"/>
              </a:xfrm>
              <a:custGeom>
                <a:avLst/>
                <a:gdLst/>
                <a:ahLst/>
                <a:rect l="l" t="t" r="r" b="b"/>
                <a:pathLst>
                  <a:path w="528" h="105">
                    <a:moveTo>
                      <a:pt x="528" y="53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474" y="105"/>
                    </a:lnTo>
                    <a:lnTo>
                      <a:pt x="528" y="53"/>
                    </a:lnTo>
                    <a:lnTo>
                      <a:pt x="528" y="53"/>
                    </a:lnTo>
                    <a:lnTo>
                      <a:pt x="528" y="0"/>
                    </a:lnTo>
                    <a:lnTo>
                      <a:pt x="474" y="0"/>
                    </a:lnTo>
                    <a:lnTo>
                      <a:pt x="528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056200" y="643572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106" h="527">
                    <a:moveTo>
                      <a:pt x="52" y="527"/>
                    </a:moveTo>
                    <a:lnTo>
                      <a:pt x="106" y="474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474"/>
                    </a:lnTo>
                    <a:lnTo>
                      <a:pt x="52" y="527"/>
                    </a:lnTo>
                    <a:lnTo>
                      <a:pt x="52" y="527"/>
                    </a:lnTo>
                    <a:lnTo>
                      <a:pt x="106" y="527"/>
                    </a:lnTo>
                    <a:lnTo>
                      <a:pt x="106" y="474"/>
                    </a:lnTo>
                    <a:lnTo>
                      <a:pt x="52" y="527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025960" y="646272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526" h="105">
                    <a:moveTo>
                      <a:pt x="0" y="52"/>
                    </a:moveTo>
                    <a:lnTo>
                      <a:pt x="52" y="105"/>
                    </a:lnTo>
                    <a:lnTo>
                      <a:pt x="526" y="105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105"/>
                    </a:lnTo>
                    <a:lnTo>
                      <a:pt x="52" y="105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025960" y="6432840"/>
                <a:ext cx="7920" cy="33120"/>
              </a:xfrm>
              <a:custGeom>
                <a:avLst/>
                <a:gdLst/>
                <a:ahLst/>
                <a:rect l="l" t="t" r="r" b="b"/>
                <a:pathLst>
                  <a:path w="106" h="527">
                    <a:moveTo>
                      <a:pt x="52" y="0"/>
                    </a:moveTo>
                    <a:lnTo>
                      <a:pt x="0" y="53"/>
                    </a:lnTo>
                    <a:lnTo>
                      <a:pt x="0" y="527"/>
                    </a:lnTo>
                    <a:lnTo>
                      <a:pt x="106" y="527"/>
                    </a:lnTo>
                    <a:lnTo>
                      <a:pt x="106" y="53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081760" y="6435720"/>
                <a:ext cx="29880" cy="3024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081760" y="6432840"/>
                <a:ext cx="33120" cy="6120"/>
              </a:xfrm>
              <a:custGeom>
                <a:avLst/>
                <a:gdLst/>
                <a:ahLst/>
                <a:rect l="l" t="t" r="r" b="b"/>
                <a:pathLst>
                  <a:path w="527" h="105">
                    <a:moveTo>
                      <a:pt x="527" y="53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474" y="105"/>
                    </a:lnTo>
                    <a:lnTo>
                      <a:pt x="527" y="53"/>
                    </a:lnTo>
                    <a:lnTo>
                      <a:pt x="527" y="53"/>
                    </a:lnTo>
                    <a:lnTo>
                      <a:pt x="527" y="0"/>
                    </a:lnTo>
                    <a:lnTo>
                      <a:pt x="474" y="0"/>
                    </a:lnTo>
                    <a:lnTo>
                      <a:pt x="527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108760" y="643572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5" h="527">
                    <a:moveTo>
                      <a:pt x="52" y="527"/>
                    </a:moveTo>
                    <a:lnTo>
                      <a:pt x="105" y="474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474"/>
                    </a:lnTo>
                    <a:lnTo>
                      <a:pt x="52" y="527"/>
                    </a:lnTo>
                    <a:lnTo>
                      <a:pt x="52" y="527"/>
                    </a:lnTo>
                    <a:lnTo>
                      <a:pt x="105" y="527"/>
                    </a:lnTo>
                    <a:lnTo>
                      <a:pt x="105" y="474"/>
                    </a:lnTo>
                    <a:lnTo>
                      <a:pt x="52" y="527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078520" y="646272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526" h="105">
                    <a:moveTo>
                      <a:pt x="0" y="52"/>
                    </a:moveTo>
                    <a:lnTo>
                      <a:pt x="52" y="105"/>
                    </a:lnTo>
                    <a:lnTo>
                      <a:pt x="526" y="105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105"/>
                    </a:lnTo>
                    <a:lnTo>
                      <a:pt x="52" y="105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078520" y="643284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5" h="527">
                    <a:moveTo>
                      <a:pt x="52" y="0"/>
                    </a:moveTo>
                    <a:lnTo>
                      <a:pt x="0" y="53"/>
                    </a:lnTo>
                    <a:lnTo>
                      <a:pt x="0" y="527"/>
                    </a:lnTo>
                    <a:lnTo>
                      <a:pt x="105" y="527"/>
                    </a:lnTo>
                    <a:lnTo>
                      <a:pt x="105" y="53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5133960" y="6435720"/>
                <a:ext cx="30240" cy="3024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5133960" y="6432840"/>
                <a:ext cx="33480" cy="6120"/>
              </a:xfrm>
              <a:custGeom>
                <a:avLst/>
                <a:gdLst/>
                <a:ahLst/>
                <a:rect l="l" t="t" r="r" b="b"/>
                <a:pathLst>
                  <a:path w="527" h="105">
                    <a:moveTo>
                      <a:pt x="527" y="53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474" y="105"/>
                    </a:lnTo>
                    <a:lnTo>
                      <a:pt x="527" y="53"/>
                    </a:lnTo>
                    <a:lnTo>
                      <a:pt x="527" y="53"/>
                    </a:lnTo>
                    <a:lnTo>
                      <a:pt x="527" y="0"/>
                    </a:lnTo>
                    <a:lnTo>
                      <a:pt x="474" y="0"/>
                    </a:lnTo>
                    <a:lnTo>
                      <a:pt x="527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5160960" y="64357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105" h="527">
                    <a:moveTo>
                      <a:pt x="52" y="527"/>
                    </a:moveTo>
                    <a:lnTo>
                      <a:pt x="105" y="474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474"/>
                    </a:lnTo>
                    <a:lnTo>
                      <a:pt x="52" y="527"/>
                    </a:lnTo>
                    <a:lnTo>
                      <a:pt x="52" y="527"/>
                    </a:lnTo>
                    <a:lnTo>
                      <a:pt x="105" y="527"/>
                    </a:lnTo>
                    <a:lnTo>
                      <a:pt x="105" y="474"/>
                    </a:lnTo>
                    <a:lnTo>
                      <a:pt x="52" y="527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5130720" y="646272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526" h="105">
                    <a:moveTo>
                      <a:pt x="0" y="52"/>
                    </a:moveTo>
                    <a:lnTo>
                      <a:pt x="52" y="105"/>
                    </a:lnTo>
                    <a:lnTo>
                      <a:pt x="526" y="105"/>
                    </a:lnTo>
                    <a:lnTo>
                      <a:pt x="526" y="0"/>
                    </a:lnTo>
                    <a:lnTo>
                      <a:pt x="52" y="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105"/>
                    </a:lnTo>
                    <a:lnTo>
                      <a:pt x="52" y="105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5130720" y="643284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5" h="527">
                    <a:moveTo>
                      <a:pt x="52" y="0"/>
                    </a:moveTo>
                    <a:lnTo>
                      <a:pt x="0" y="53"/>
                    </a:lnTo>
                    <a:lnTo>
                      <a:pt x="0" y="527"/>
                    </a:lnTo>
                    <a:lnTo>
                      <a:pt x="105" y="527"/>
                    </a:lnTo>
                    <a:lnTo>
                      <a:pt x="105" y="53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4919760" y="6330960"/>
                <a:ext cx="8244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4919760" y="6327720"/>
                <a:ext cx="85680" cy="6480"/>
              </a:xfrm>
              <a:custGeom>
                <a:avLst/>
                <a:gdLst/>
                <a:ahLst/>
                <a:rect l="l" t="t" r="r" b="b"/>
                <a:pathLst>
                  <a:path w="1344" h="106">
                    <a:moveTo>
                      <a:pt x="1344" y="52"/>
                    </a:moveTo>
                    <a:lnTo>
                      <a:pt x="1291" y="0"/>
                    </a:lnTo>
                    <a:lnTo>
                      <a:pt x="0" y="0"/>
                    </a:lnTo>
                    <a:lnTo>
                      <a:pt x="0" y="106"/>
                    </a:lnTo>
                    <a:lnTo>
                      <a:pt x="1291" y="106"/>
                    </a:lnTo>
                    <a:lnTo>
                      <a:pt x="1344" y="52"/>
                    </a:lnTo>
                    <a:lnTo>
                      <a:pt x="1344" y="52"/>
                    </a:lnTo>
                    <a:lnTo>
                      <a:pt x="1344" y="0"/>
                    </a:lnTo>
                    <a:lnTo>
                      <a:pt x="1291" y="0"/>
                    </a:lnTo>
                    <a:lnTo>
                      <a:pt x="1344" y="52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4997520" y="633096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106" h="502">
                    <a:moveTo>
                      <a:pt x="53" y="502"/>
                    </a:moveTo>
                    <a:lnTo>
                      <a:pt x="106" y="449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449"/>
                    </a:lnTo>
                    <a:lnTo>
                      <a:pt x="53" y="502"/>
                    </a:lnTo>
                    <a:lnTo>
                      <a:pt x="53" y="502"/>
                    </a:lnTo>
                    <a:lnTo>
                      <a:pt x="106" y="502"/>
                    </a:lnTo>
                    <a:lnTo>
                      <a:pt x="106" y="449"/>
                    </a:lnTo>
                    <a:lnTo>
                      <a:pt x="53" y="502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4916520" y="6356520"/>
                <a:ext cx="85680" cy="6120"/>
              </a:xfrm>
              <a:custGeom>
                <a:avLst/>
                <a:gdLst/>
                <a:ahLst/>
                <a:rect l="l" t="t" r="r" b="b"/>
                <a:pathLst>
                  <a:path w="1343" h="106">
                    <a:moveTo>
                      <a:pt x="0" y="53"/>
                    </a:moveTo>
                    <a:lnTo>
                      <a:pt x="52" y="106"/>
                    </a:lnTo>
                    <a:lnTo>
                      <a:pt x="1343" y="106"/>
                    </a:lnTo>
                    <a:lnTo>
                      <a:pt x="1343" y="0"/>
                    </a:lnTo>
                    <a:lnTo>
                      <a:pt x="52" y="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06"/>
                    </a:lnTo>
                    <a:lnTo>
                      <a:pt x="52" y="106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4916520" y="6327720"/>
                <a:ext cx="6480" cy="32040"/>
              </a:xfrm>
              <a:custGeom>
                <a:avLst/>
                <a:gdLst/>
                <a:ahLst/>
                <a:rect l="l" t="t" r="r" b="b"/>
                <a:pathLst>
                  <a:path w="104" h="501">
                    <a:moveTo>
                      <a:pt x="52" y="0"/>
                    </a:moveTo>
                    <a:lnTo>
                      <a:pt x="0" y="52"/>
                    </a:lnTo>
                    <a:lnTo>
                      <a:pt x="0" y="501"/>
                    </a:lnTo>
                    <a:lnTo>
                      <a:pt x="104" y="501"/>
                    </a:lnTo>
                    <a:lnTo>
                      <a:pt x="104" y="52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187960" y="6330960"/>
                <a:ext cx="810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187960" y="6327720"/>
                <a:ext cx="84240" cy="6480"/>
              </a:xfrm>
              <a:custGeom>
                <a:avLst/>
                <a:gdLst/>
                <a:ahLst/>
                <a:rect l="l" t="t" r="r" b="b"/>
                <a:pathLst>
                  <a:path w="1342" h="106">
                    <a:moveTo>
                      <a:pt x="1342" y="52"/>
                    </a:moveTo>
                    <a:lnTo>
                      <a:pt x="1290" y="0"/>
                    </a:lnTo>
                    <a:lnTo>
                      <a:pt x="0" y="0"/>
                    </a:lnTo>
                    <a:lnTo>
                      <a:pt x="0" y="106"/>
                    </a:lnTo>
                    <a:lnTo>
                      <a:pt x="1290" y="106"/>
                    </a:lnTo>
                    <a:lnTo>
                      <a:pt x="1342" y="52"/>
                    </a:lnTo>
                    <a:lnTo>
                      <a:pt x="1342" y="52"/>
                    </a:lnTo>
                    <a:lnTo>
                      <a:pt x="1342" y="0"/>
                    </a:lnTo>
                    <a:lnTo>
                      <a:pt x="1290" y="0"/>
                    </a:lnTo>
                    <a:lnTo>
                      <a:pt x="1342" y="52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265720" y="6330960"/>
                <a:ext cx="6480" cy="31680"/>
              </a:xfrm>
              <a:custGeom>
                <a:avLst/>
                <a:gdLst/>
                <a:ahLst/>
                <a:rect l="l" t="t" r="r" b="b"/>
                <a:pathLst>
                  <a:path w="105" h="502">
                    <a:moveTo>
                      <a:pt x="53" y="502"/>
                    </a:moveTo>
                    <a:lnTo>
                      <a:pt x="105" y="449"/>
                    </a:lnTo>
                    <a:lnTo>
                      <a:pt x="105" y="0"/>
                    </a:lnTo>
                    <a:lnTo>
                      <a:pt x="0" y="0"/>
                    </a:lnTo>
                    <a:lnTo>
                      <a:pt x="0" y="449"/>
                    </a:lnTo>
                    <a:lnTo>
                      <a:pt x="53" y="502"/>
                    </a:lnTo>
                    <a:lnTo>
                      <a:pt x="53" y="502"/>
                    </a:lnTo>
                    <a:lnTo>
                      <a:pt x="105" y="502"/>
                    </a:lnTo>
                    <a:lnTo>
                      <a:pt x="105" y="449"/>
                    </a:lnTo>
                    <a:lnTo>
                      <a:pt x="53" y="502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183280" y="6356520"/>
                <a:ext cx="85680" cy="6120"/>
              </a:xfrm>
              <a:custGeom>
                <a:avLst/>
                <a:gdLst/>
                <a:ahLst/>
                <a:rect l="l" t="t" r="r" b="b"/>
                <a:pathLst>
                  <a:path w="1344" h="106">
                    <a:moveTo>
                      <a:pt x="0" y="53"/>
                    </a:moveTo>
                    <a:lnTo>
                      <a:pt x="54" y="106"/>
                    </a:lnTo>
                    <a:lnTo>
                      <a:pt x="1344" y="106"/>
                    </a:lnTo>
                    <a:lnTo>
                      <a:pt x="1344" y="0"/>
                    </a:lnTo>
                    <a:lnTo>
                      <a:pt x="54" y="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06"/>
                    </a:lnTo>
                    <a:lnTo>
                      <a:pt x="54" y="106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183280" y="6327720"/>
                <a:ext cx="7920" cy="32040"/>
              </a:xfrm>
              <a:custGeom>
                <a:avLst/>
                <a:gdLst/>
                <a:ahLst/>
                <a:rect l="l" t="t" r="r" b="b"/>
                <a:pathLst>
                  <a:path w="106" h="501">
                    <a:moveTo>
                      <a:pt x="54" y="0"/>
                    </a:moveTo>
                    <a:lnTo>
                      <a:pt x="0" y="52"/>
                    </a:lnTo>
                    <a:lnTo>
                      <a:pt x="0" y="501"/>
                    </a:lnTo>
                    <a:lnTo>
                      <a:pt x="106" y="501"/>
                    </a:lnTo>
                    <a:lnTo>
                      <a:pt x="106" y="5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184720" y="6384960"/>
                <a:ext cx="30240" cy="3024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184720" y="638172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27" h="106">
                    <a:moveTo>
                      <a:pt x="527" y="53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6"/>
                    </a:lnTo>
                    <a:lnTo>
                      <a:pt x="474" y="106"/>
                    </a:lnTo>
                    <a:lnTo>
                      <a:pt x="527" y="53"/>
                    </a:lnTo>
                    <a:lnTo>
                      <a:pt x="527" y="53"/>
                    </a:lnTo>
                    <a:lnTo>
                      <a:pt x="527" y="0"/>
                    </a:lnTo>
                    <a:lnTo>
                      <a:pt x="474" y="0"/>
                    </a:lnTo>
                    <a:lnTo>
                      <a:pt x="527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211720" y="638496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106" h="527">
                    <a:moveTo>
                      <a:pt x="53" y="527"/>
                    </a:moveTo>
                    <a:lnTo>
                      <a:pt x="106" y="475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53" y="527"/>
                    </a:lnTo>
                    <a:lnTo>
                      <a:pt x="53" y="527"/>
                    </a:lnTo>
                    <a:lnTo>
                      <a:pt x="106" y="527"/>
                    </a:lnTo>
                    <a:lnTo>
                      <a:pt x="106" y="475"/>
                    </a:lnTo>
                    <a:lnTo>
                      <a:pt x="53" y="527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181840" y="641052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527" h="106">
                    <a:moveTo>
                      <a:pt x="0" y="54"/>
                    </a:moveTo>
                    <a:lnTo>
                      <a:pt x="53" y="106"/>
                    </a:lnTo>
                    <a:lnTo>
                      <a:pt x="527" y="106"/>
                    </a:lnTo>
                    <a:lnTo>
                      <a:pt x="527" y="0"/>
                    </a:lnTo>
                    <a:lnTo>
                      <a:pt x="53" y="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106"/>
                    </a:lnTo>
                    <a:lnTo>
                      <a:pt x="53" y="10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5181840" y="638172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106" h="528">
                    <a:moveTo>
                      <a:pt x="53" y="0"/>
                    </a:moveTo>
                    <a:lnTo>
                      <a:pt x="0" y="53"/>
                    </a:lnTo>
                    <a:lnTo>
                      <a:pt x="0" y="528"/>
                    </a:lnTo>
                    <a:lnTo>
                      <a:pt x="106" y="528"/>
                    </a:lnTo>
                    <a:lnTo>
                      <a:pt x="106" y="5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4971960" y="6384960"/>
                <a:ext cx="30240" cy="30240"/>
              </a:xfrm>
              <a:prstGeom prst="rect">
                <a:avLst/>
              </a:prstGeom>
              <a:solidFill>
                <a:srgbClr val="de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4971960" y="638172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527" h="106">
                    <a:moveTo>
                      <a:pt x="527" y="53"/>
                    </a:moveTo>
                    <a:lnTo>
                      <a:pt x="474" y="0"/>
                    </a:lnTo>
                    <a:lnTo>
                      <a:pt x="0" y="0"/>
                    </a:lnTo>
                    <a:lnTo>
                      <a:pt x="0" y="106"/>
                    </a:lnTo>
                    <a:lnTo>
                      <a:pt x="474" y="106"/>
                    </a:lnTo>
                    <a:lnTo>
                      <a:pt x="527" y="53"/>
                    </a:lnTo>
                    <a:lnTo>
                      <a:pt x="527" y="53"/>
                    </a:lnTo>
                    <a:lnTo>
                      <a:pt x="527" y="0"/>
                    </a:lnTo>
                    <a:lnTo>
                      <a:pt x="474" y="0"/>
                    </a:lnTo>
                    <a:lnTo>
                      <a:pt x="527" y="53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4997520" y="638496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106" h="527">
                    <a:moveTo>
                      <a:pt x="53" y="527"/>
                    </a:moveTo>
                    <a:lnTo>
                      <a:pt x="106" y="475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475"/>
                    </a:lnTo>
                    <a:lnTo>
                      <a:pt x="53" y="527"/>
                    </a:lnTo>
                    <a:lnTo>
                      <a:pt x="53" y="527"/>
                    </a:lnTo>
                    <a:lnTo>
                      <a:pt x="106" y="527"/>
                    </a:lnTo>
                    <a:lnTo>
                      <a:pt x="106" y="475"/>
                    </a:lnTo>
                    <a:lnTo>
                      <a:pt x="53" y="527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4967280" y="641052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527" h="106">
                    <a:moveTo>
                      <a:pt x="0" y="54"/>
                    </a:moveTo>
                    <a:lnTo>
                      <a:pt x="53" y="106"/>
                    </a:lnTo>
                    <a:lnTo>
                      <a:pt x="527" y="106"/>
                    </a:lnTo>
                    <a:lnTo>
                      <a:pt x="527" y="0"/>
                    </a:lnTo>
                    <a:lnTo>
                      <a:pt x="53" y="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106"/>
                    </a:lnTo>
                    <a:lnTo>
                      <a:pt x="53" y="10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4967280" y="638172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106" h="528">
                    <a:moveTo>
                      <a:pt x="53" y="0"/>
                    </a:moveTo>
                    <a:lnTo>
                      <a:pt x="0" y="53"/>
                    </a:lnTo>
                    <a:lnTo>
                      <a:pt x="0" y="528"/>
                    </a:lnTo>
                    <a:lnTo>
                      <a:pt x="106" y="528"/>
                    </a:lnTo>
                    <a:lnTo>
                      <a:pt x="106" y="5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6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7" name="" descr=""/>
          <p:cNvPicPr/>
          <p:nvPr/>
        </p:nvPicPr>
        <p:blipFill>
          <a:blip r:embed="rId1"/>
          <a:stretch/>
        </p:blipFill>
        <p:spPr>
          <a:xfrm>
            <a:off x="625320" y="1311120"/>
            <a:ext cx="917640" cy="708120"/>
          </a:xfrm>
          <a:prstGeom prst="rect">
            <a:avLst/>
          </a:prstGeom>
          <a:ln w="0">
            <a:noFill/>
          </a:ln>
        </p:spPr>
      </p:pic>
      <p:sp>
        <p:nvSpPr>
          <p:cNvPr id="3658" name=""/>
          <p:cNvSpPr/>
          <p:nvPr/>
        </p:nvSpPr>
        <p:spPr>
          <a:xfrm>
            <a:off x="1579680" y="153360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1579680" y="473868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 Eth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0" name="" descr=""/>
          <p:cNvPicPr/>
          <p:nvPr/>
        </p:nvPicPr>
        <p:blipFill>
          <a:blip r:embed="rId2"/>
          <a:stretch/>
        </p:blipFill>
        <p:spPr>
          <a:xfrm>
            <a:off x="993600" y="4756320"/>
            <a:ext cx="540000" cy="723600"/>
          </a:xfrm>
          <a:prstGeom prst="rect">
            <a:avLst/>
          </a:prstGeom>
          <a:ln w="0">
            <a:noFill/>
          </a:ln>
        </p:spPr>
      </p:pic>
      <p:sp>
        <p:nvSpPr>
          <p:cNvPr id="3661" name=""/>
          <p:cNvSpPr/>
          <p:nvPr/>
        </p:nvSpPr>
        <p:spPr>
          <a:xfrm>
            <a:off x="5440320" y="570240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 Poly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1579680" y="2130480"/>
            <a:ext cx="1282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-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3" name="" descr=""/>
          <p:cNvPicPr/>
          <p:nvPr/>
        </p:nvPicPr>
        <p:blipFill>
          <a:blip r:embed="rId3"/>
          <a:stretch/>
        </p:blipFill>
        <p:spPr>
          <a:xfrm>
            <a:off x="230040" y="2044800"/>
            <a:ext cx="1289160" cy="593640"/>
          </a:xfrm>
          <a:prstGeom prst="rect">
            <a:avLst/>
          </a:prstGeom>
          <a:ln w="0">
            <a:noFill/>
          </a:ln>
        </p:spPr>
      </p:pic>
      <p:sp>
        <p:nvSpPr>
          <p:cNvPr id="3664" name=""/>
          <p:cNvSpPr/>
          <p:nvPr/>
        </p:nvSpPr>
        <p:spPr>
          <a:xfrm>
            <a:off x="1579680" y="3363840"/>
            <a:ext cx="942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 Fea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5" name="" descr=""/>
          <p:cNvPicPr/>
          <p:nvPr/>
        </p:nvPicPr>
        <p:blipFill>
          <a:blip r:embed="rId4"/>
          <a:stretch/>
        </p:blipFill>
        <p:spPr>
          <a:xfrm>
            <a:off x="662040" y="3390840"/>
            <a:ext cx="882720" cy="561960"/>
          </a:xfrm>
          <a:prstGeom prst="rect">
            <a:avLst/>
          </a:prstGeom>
          <a:ln w="0">
            <a:noFill/>
          </a:ln>
        </p:spPr>
      </p:pic>
      <p:pic>
        <p:nvPicPr>
          <p:cNvPr id="3666" name="" descr=""/>
          <p:cNvPicPr/>
          <p:nvPr/>
        </p:nvPicPr>
        <p:blipFill>
          <a:blip r:embed="rId5"/>
          <a:stretch/>
        </p:blipFill>
        <p:spPr>
          <a:xfrm>
            <a:off x="309600" y="2703600"/>
            <a:ext cx="1212840" cy="577800"/>
          </a:xfrm>
          <a:prstGeom prst="rect">
            <a:avLst/>
          </a:prstGeom>
          <a:ln w="0">
            <a:noFill/>
          </a:ln>
        </p:spPr>
      </p:pic>
      <p:sp>
        <p:nvSpPr>
          <p:cNvPr id="3667" name=""/>
          <p:cNvSpPr/>
          <p:nvPr/>
        </p:nvSpPr>
        <p:spPr>
          <a:xfrm>
            <a:off x="1579680" y="2744640"/>
            <a:ext cx="1325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x/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3720960" y="3735360"/>
            <a:ext cx="943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9" name="" descr=""/>
          <p:cNvPicPr/>
          <p:nvPr/>
        </p:nvPicPr>
        <p:blipFill>
          <a:blip r:embed="rId6"/>
          <a:stretch/>
        </p:blipFill>
        <p:spPr>
          <a:xfrm>
            <a:off x="3014640" y="3568680"/>
            <a:ext cx="722160" cy="915840"/>
          </a:xfrm>
          <a:prstGeom prst="rect">
            <a:avLst/>
          </a:prstGeom>
          <a:ln w="0">
            <a:noFill/>
          </a:ln>
        </p:spPr>
      </p:pic>
      <p:sp>
        <p:nvSpPr>
          <p:cNvPr id="3670" name=""/>
          <p:cNvSpPr/>
          <p:nvPr/>
        </p:nvSpPr>
        <p:spPr>
          <a:xfrm>
            <a:off x="3720960" y="15001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1" name="" descr=""/>
          <p:cNvPicPr/>
          <p:nvPr/>
        </p:nvPicPr>
        <p:blipFill>
          <a:blip r:embed="rId7"/>
          <a:stretch/>
        </p:blipFill>
        <p:spPr>
          <a:xfrm>
            <a:off x="2938320" y="1420920"/>
            <a:ext cx="816120" cy="722160"/>
          </a:xfrm>
          <a:prstGeom prst="rect">
            <a:avLst/>
          </a:prstGeom>
          <a:ln w="0">
            <a:noFill/>
          </a:ln>
        </p:spPr>
      </p:pic>
      <p:sp>
        <p:nvSpPr>
          <p:cNvPr id="3672" name=""/>
          <p:cNvSpPr/>
          <p:nvPr/>
        </p:nvSpPr>
        <p:spPr>
          <a:xfrm>
            <a:off x="3720960" y="264312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mera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/Vide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3" name=""/>
          <p:cNvGrpSpPr/>
          <p:nvPr/>
        </p:nvGrpSpPr>
        <p:grpSpPr>
          <a:xfrm>
            <a:off x="2878200" y="2252520"/>
            <a:ext cx="981000" cy="1280880"/>
            <a:chOff x="2878200" y="2252520"/>
            <a:chExt cx="981000" cy="1280880"/>
          </a:xfrm>
        </p:grpSpPr>
        <p:pic>
          <p:nvPicPr>
            <p:cNvPr id="3674" name="" descr=""/>
            <p:cNvPicPr/>
            <p:nvPr/>
          </p:nvPicPr>
          <p:blipFill>
            <a:blip r:embed="rId8"/>
            <a:stretch/>
          </p:blipFill>
          <p:spPr>
            <a:xfrm>
              <a:off x="2878200" y="2915280"/>
              <a:ext cx="903240" cy="61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5" name="" descr=""/>
            <p:cNvPicPr/>
            <p:nvPr/>
          </p:nvPicPr>
          <p:blipFill>
            <a:blip r:embed="rId9"/>
            <a:stretch/>
          </p:blipFill>
          <p:spPr>
            <a:xfrm>
              <a:off x="2953440" y="2252520"/>
              <a:ext cx="905760" cy="61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6" name=""/>
          <p:cNvSpPr/>
          <p:nvPr/>
        </p:nvSpPr>
        <p:spPr>
          <a:xfrm>
            <a:off x="5629320" y="496404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5629320" y="40384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8" name="" descr=""/>
          <p:cNvPicPr/>
          <p:nvPr/>
        </p:nvPicPr>
        <p:blipFill>
          <a:blip r:embed="rId10"/>
          <a:stretch/>
        </p:blipFill>
        <p:spPr>
          <a:xfrm>
            <a:off x="5035680" y="3849840"/>
            <a:ext cx="590400" cy="776160"/>
          </a:xfrm>
          <a:prstGeom prst="rect">
            <a:avLst/>
          </a:prstGeom>
          <a:ln w="0">
            <a:noFill/>
          </a:ln>
        </p:spPr>
      </p:pic>
      <p:pic>
        <p:nvPicPr>
          <p:cNvPr id="3679" name="" descr=""/>
          <p:cNvPicPr/>
          <p:nvPr/>
        </p:nvPicPr>
        <p:blipFill>
          <a:blip r:embed="rId11"/>
          <a:stretch/>
        </p:blipFill>
        <p:spPr>
          <a:xfrm>
            <a:off x="5059440" y="4724280"/>
            <a:ext cx="566640" cy="800280"/>
          </a:xfrm>
          <a:prstGeom prst="rect">
            <a:avLst/>
          </a:prstGeom>
          <a:ln w="0">
            <a:noFill/>
          </a:ln>
        </p:spPr>
      </p:pic>
      <p:sp>
        <p:nvSpPr>
          <p:cNvPr id="3680" name=""/>
          <p:cNvSpPr/>
          <p:nvPr/>
        </p:nvSpPr>
        <p:spPr>
          <a:xfrm>
            <a:off x="5629320" y="33289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1" name="" descr=""/>
          <p:cNvPicPr/>
          <p:nvPr/>
        </p:nvPicPr>
        <p:blipFill>
          <a:blip r:embed="rId12"/>
          <a:stretch/>
        </p:blipFill>
        <p:spPr>
          <a:xfrm>
            <a:off x="5170320" y="3138480"/>
            <a:ext cx="455760" cy="711360"/>
          </a:xfrm>
          <a:prstGeom prst="rect">
            <a:avLst/>
          </a:prstGeom>
          <a:ln w="0">
            <a:noFill/>
          </a:ln>
        </p:spPr>
      </p:pic>
      <p:sp>
        <p:nvSpPr>
          <p:cNvPr id="3682" name=""/>
          <p:cNvSpPr/>
          <p:nvPr/>
        </p:nvSpPr>
        <p:spPr>
          <a:xfrm>
            <a:off x="7772400" y="3246480"/>
            <a:ext cx="708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3" name="" descr=""/>
          <p:cNvPicPr/>
          <p:nvPr/>
        </p:nvPicPr>
        <p:blipFill>
          <a:blip r:embed="rId13"/>
          <a:stretch/>
        </p:blipFill>
        <p:spPr>
          <a:xfrm>
            <a:off x="7139160" y="3076560"/>
            <a:ext cx="690480" cy="685800"/>
          </a:xfrm>
          <a:prstGeom prst="rect">
            <a:avLst/>
          </a:prstGeom>
          <a:ln w="0">
            <a:noFill/>
          </a:ln>
        </p:spPr>
      </p:pic>
      <p:sp>
        <p:nvSpPr>
          <p:cNvPr id="3684" name=""/>
          <p:cNvSpPr/>
          <p:nvPr/>
        </p:nvSpPr>
        <p:spPr>
          <a:xfrm>
            <a:off x="3720960" y="4624560"/>
            <a:ext cx="94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5" name="" descr=""/>
          <p:cNvPicPr/>
          <p:nvPr/>
        </p:nvPicPr>
        <p:blipFill>
          <a:blip r:embed="rId14"/>
          <a:stretch/>
        </p:blipFill>
        <p:spPr>
          <a:xfrm>
            <a:off x="2751120" y="4586400"/>
            <a:ext cx="1014480" cy="500040"/>
          </a:xfrm>
          <a:prstGeom prst="rect">
            <a:avLst/>
          </a:prstGeom>
          <a:ln w="0">
            <a:noFill/>
          </a:ln>
        </p:spPr>
      </p:pic>
      <p:pic>
        <p:nvPicPr>
          <p:cNvPr id="3686" name="" descr=""/>
          <p:cNvPicPr/>
          <p:nvPr/>
        </p:nvPicPr>
        <p:blipFill>
          <a:blip r:embed="rId15"/>
          <a:stretch/>
        </p:blipFill>
        <p:spPr>
          <a:xfrm>
            <a:off x="955800" y="4016520"/>
            <a:ext cx="593640" cy="636480"/>
          </a:xfrm>
          <a:prstGeom prst="rect">
            <a:avLst/>
          </a:prstGeom>
          <a:ln w="0">
            <a:noFill/>
          </a:ln>
        </p:spPr>
      </p:pic>
      <p:sp>
        <p:nvSpPr>
          <p:cNvPr id="3687" name=""/>
          <p:cNvSpPr/>
          <p:nvPr/>
        </p:nvSpPr>
        <p:spPr>
          <a:xfrm>
            <a:off x="1587600" y="407664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7772400" y="414324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ass 4/5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9" name="" descr=""/>
          <p:cNvPicPr/>
          <p:nvPr/>
        </p:nvPicPr>
        <p:blipFill>
          <a:blip r:embed="rId16"/>
          <a:stretch/>
        </p:blipFill>
        <p:spPr>
          <a:xfrm>
            <a:off x="7102440" y="3978360"/>
            <a:ext cx="627120" cy="849240"/>
          </a:xfrm>
          <a:prstGeom prst="rect">
            <a:avLst/>
          </a:prstGeom>
          <a:ln w="0">
            <a:noFill/>
          </a:ln>
        </p:spPr>
      </p:pic>
      <p:sp>
        <p:nvSpPr>
          <p:cNvPr id="3690" name=""/>
          <p:cNvSpPr/>
          <p:nvPr/>
        </p:nvSpPr>
        <p:spPr>
          <a:xfrm>
            <a:off x="8001000" y="5005440"/>
            <a:ext cx="9907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ot and Holler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8153280" y="5829480"/>
            <a:ext cx="68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urr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2" name=""/>
          <p:cNvGrpSpPr/>
          <p:nvPr/>
        </p:nvGrpSpPr>
        <p:grpSpPr>
          <a:xfrm>
            <a:off x="6581880" y="5843520"/>
            <a:ext cx="1585800" cy="637920"/>
            <a:chOff x="6581880" y="5843520"/>
            <a:chExt cx="1585800" cy="637920"/>
          </a:xfrm>
        </p:grpSpPr>
        <p:sp>
          <p:nvSpPr>
            <p:cNvPr id="3693" name=""/>
            <p:cNvSpPr/>
            <p:nvPr/>
          </p:nvSpPr>
          <p:spPr>
            <a:xfrm>
              <a:off x="6708600" y="5916960"/>
              <a:ext cx="1331640" cy="448200"/>
            </a:xfrm>
            <a:custGeom>
              <a:avLst/>
              <a:gdLst/>
              <a:ahLst/>
              <a:rect l="l" t="t" r="r" b="b"/>
              <a:pathLst>
                <a:path w="13645" h="4584">
                  <a:moveTo>
                    <a:pt x="13156" y="4448"/>
                  </a:moveTo>
                  <a:lnTo>
                    <a:pt x="13155" y="4461"/>
                  </a:lnTo>
                  <a:lnTo>
                    <a:pt x="13153" y="4475"/>
                  </a:lnTo>
                  <a:lnTo>
                    <a:pt x="13150" y="4489"/>
                  </a:lnTo>
                  <a:lnTo>
                    <a:pt x="13146" y="4501"/>
                  </a:lnTo>
                  <a:lnTo>
                    <a:pt x="13140" y="4513"/>
                  </a:lnTo>
                  <a:lnTo>
                    <a:pt x="13133" y="4524"/>
                  </a:lnTo>
                  <a:lnTo>
                    <a:pt x="13125" y="4534"/>
                  </a:lnTo>
                  <a:lnTo>
                    <a:pt x="13116" y="4544"/>
                  </a:lnTo>
                  <a:lnTo>
                    <a:pt x="13106" y="4553"/>
                  </a:lnTo>
                  <a:lnTo>
                    <a:pt x="13096" y="4561"/>
                  </a:lnTo>
                  <a:lnTo>
                    <a:pt x="13085" y="4568"/>
                  </a:lnTo>
                  <a:lnTo>
                    <a:pt x="13073" y="4573"/>
                  </a:lnTo>
                  <a:lnTo>
                    <a:pt x="13060" y="4578"/>
                  </a:lnTo>
                  <a:lnTo>
                    <a:pt x="13047" y="4581"/>
                  </a:lnTo>
                  <a:lnTo>
                    <a:pt x="13034" y="4583"/>
                  </a:lnTo>
                  <a:lnTo>
                    <a:pt x="13020" y="4584"/>
                  </a:lnTo>
                  <a:lnTo>
                    <a:pt x="137" y="4584"/>
                  </a:lnTo>
                  <a:lnTo>
                    <a:pt x="122" y="4583"/>
                  </a:lnTo>
                  <a:lnTo>
                    <a:pt x="109" y="4581"/>
                  </a:lnTo>
                  <a:lnTo>
                    <a:pt x="96" y="4578"/>
                  </a:lnTo>
                  <a:lnTo>
                    <a:pt x="84" y="4573"/>
                  </a:lnTo>
                  <a:lnTo>
                    <a:pt x="71" y="4568"/>
                  </a:lnTo>
                  <a:lnTo>
                    <a:pt x="60" y="4561"/>
                  </a:lnTo>
                  <a:lnTo>
                    <a:pt x="50" y="4553"/>
                  </a:lnTo>
                  <a:lnTo>
                    <a:pt x="40" y="4544"/>
                  </a:lnTo>
                  <a:lnTo>
                    <a:pt x="32" y="4534"/>
                  </a:lnTo>
                  <a:lnTo>
                    <a:pt x="24" y="4524"/>
                  </a:lnTo>
                  <a:lnTo>
                    <a:pt x="17" y="4513"/>
                  </a:lnTo>
                  <a:lnTo>
                    <a:pt x="11" y="4501"/>
                  </a:lnTo>
                  <a:lnTo>
                    <a:pt x="6" y="4489"/>
                  </a:lnTo>
                  <a:lnTo>
                    <a:pt x="3" y="4475"/>
                  </a:lnTo>
                  <a:lnTo>
                    <a:pt x="1" y="4461"/>
                  </a:lnTo>
                  <a:lnTo>
                    <a:pt x="0" y="4448"/>
                  </a:lnTo>
                  <a:lnTo>
                    <a:pt x="716" y="137"/>
                  </a:lnTo>
                  <a:lnTo>
                    <a:pt x="717" y="123"/>
                  </a:lnTo>
                  <a:lnTo>
                    <a:pt x="719" y="110"/>
                  </a:lnTo>
                  <a:lnTo>
                    <a:pt x="722" y="96"/>
                  </a:lnTo>
                  <a:lnTo>
                    <a:pt x="727" y="83"/>
                  </a:lnTo>
                  <a:lnTo>
                    <a:pt x="732" y="72"/>
                  </a:lnTo>
                  <a:lnTo>
                    <a:pt x="739" y="61"/>
                  </a:lnTo>
                  <a:lnTo>
                    <a:pt x="747" y="50"/>
                  </a:lnTo>
                  <a:lnTo>
                    <a:pt x="755" y="41"/>
                  </a:lnTo>
                  <a:lnTo>
                    <a:pt x="765" y="32"/>
                  </a:lnTo>
                  <a:lnTo>
                    <a:pt x="775" y="23"/>
                  </a:lnTo>
                  <a:lnTo>
                    <a:pt x="787" y="17"/>
                  </a:lnTo>
                  <a:lnTo>
                    <a:pt x="799" y="11"/>
                  </a:lnTo>
                  <a:lnTo>
                    <a:pt x="811" y="6"/>
                  </a:lnTo>
                  <a:lnTo>
                    <a:pt x="824" y="3"/>
                  </a:lnTo>
                  <a:lnTo>
                    <a:pt x="838" y="1"/>
                  </a:lnTo>
                  <a:lnTo>
                    <a:pt x="852" y="0"/>
                  </a:lnTo>
                  <a:lnTo>
                    <a:pt x="13508" y="0"/>
                  </a:lnTo>
                  <a:lnTo>
                    <a:pt x="13523" y="1"/>
                  </a:lnTo>
                  <a:lnTo>
                    <a:pt x="13536" y="3"/>
                  </a:lnTo>
                  <a:lnTo>
                    <a:pt x="13549" y="6"/>
                  </a:lnTo>
                  <a:lnTo>
                    <a:pt x="13561" y="11"/>
                  </a:lnTo>
                  <a:lnTo>
                    <a:pt x="13573" y="17"/>
                  </a:lnTo>
                  <a:lnTo>
                    <a:pt x="13585" y="23"/>
                  </a:lnTo>
                  <a:lnTo>
                    <a:pt x="13595" y="32"/>
                  </a:lnTo>
                  <a:lnTo>
                    <a:pt x="13605" y="41"/>
                  </a:lnTo>
                  <a:lnTo>
                    <a:pt x="13613" y="50"/>
                  </a:lnTo>
                  <a:lnTo>
                    <a:pt x="13621" y="61"/>
                  </a:lnTo>
                  <a:lnTo>
                    <a:pt x="13628" y="72"/>
                  </a:lnTo>
                  <a:lnTo>
                    <a:pt x="13634" y="83"/>
                  </a:lnTo>
                  <a:lnTo>
                    <a:pt x="13639" y="96"/>
                  </a:lnTo>
                  <a:lnTo>
                    <a:pt x="13642" y="110"/>
                  </a:lnTo>
                  <a:lnTo>
                    <a:pt x="13644" y="123"/>
                  </a:lnTo>
                  <a:lnTo>
                    <a:pt x="13645" y="137"/>
                  </a:lnTo>
                  <a:lnTo>
                    <a:pt x="13156" y="4448"/>
                  </a:lnTo>
                  <a:close/>
                </a:path>
              </a:pathLst>
            </a:cu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979040" y="6351840"/>
              <a:ext cx="17640" cy="17640"/>
            </a:xfrm>
            <a:custGeom>
              <a:avLst/>
              <a:gdLst/>
              <a:ahLst/>
              <a:rect l="l" t="t" r="r" b="b"/>
              <a:pathLst>
                <a:path w="179" h="178">
                  <a:moveTo>
                    <a:pt x="0" y="178"/>
                  </a:moveTo>
                  <a:lnTo>
                    <a:pt x="0" y="178"/>
                  </a:lnTo>
                  <a:lnTo>
                    <a:pt x="18" y="177"/>
                  </a:lnTo>
                  <a:lnTo>
                    <a:pt x="35" y="175"/>
                  </a:lnTo>
                  <a:lnTo>
                    <a:pt x="53" y="169"/>
                  </a:lnTo>
                  <a:lnTo>
                    <a:pt x="69" y="163"/>
                  </a:lnTo>
                  <a:lnTo>
                    <a:pt x="85" y="156"/>
                  </a:lnTo>
                  <a:lnTo>
                    <a:pt x="99" y="147"/>
                  </a:lnTo>
                  <a:lnTo>
                    <a:pt x="114" y="137"/>
                  </a:lnTo>
                  <a:lnTo>
                    <a:pt x="126" y="126"/>
                  </a:lnTo>
                  <a:lnTo>
                    <a:pt x="137" y="113"/>
                  </a:lnTo>
                  <a:lnTo>
                    <a:pt x="148" y="99"/>
                  </a:lnTo>
                  <a:lnTo>
                    <a:pt x="156" y="84"/>
                  </a:lnTo>
                  <a:lnTo>
                    <a:pt x="164" y="69"/>
                  </a:lnTo>
                  <a:lnTo>
                    <a:pt x="171" y="53"/>
                  </a:lnTo>
                  <a:lnTo>
                    <a:pt x="175" y="36"/>
                  </a:lnTo>
                  <a:lnTo>
                    <a:pt x="177" y="17"/>
                  </a:lnTo>
                  <a:lnTo>
                    <a:pt x="179" y="0"/>
                  </a:lnTo>
                  <a:lnTo>
                    <a:pt x="94" y="0"/>
                  </a:lnTo>
                  <a:lnTo>
                    <a:pt x="93" y="9"/>
                  </a:lnTo>
                  <a:lnTo>
                    <a:pt x="92" y="19"/>
                  </a:lnTo>
                  <a:lnTo>
                    <a:pt x="90" y="27"/>
                  </a:lnTo>
                  <a:lnTo>
                    <a:pt x="87" y="37"/>
                  </a:lnTo>
                  <a:lnTo>
                    <a:pt x="83" y="45"/>
                  </a:lnTo>
                  <a:lnTo>
                    <a:pt x="78" y="53"/>
                  </a:lnTo>
                  <a:lnTo>
                    <a:pt x="73" y="60"/>
                  </a:lnTo>
                  <a:lnTo>
                    <a:pt x="67" y="66"/>
                  </a:lnTo>
                  <a:lnTo>
                    <a:pt x="60" y="72"/>
                  </a:lnTo>
                  <a:lnTo>
                    <a:pt x="53" y="78"/>
                  </a:lnTo>
                  <a:lnTo>
                    <a:pt x="45" y="82"/>
                  </a:lnTo>
                  <a:lnTo>
                    <a:pt x="36" y="86"/>
                  </a:lnTo>
                  <a:lnTo>
                    <a:pt x="28" y="89"/>
                  </a:lnTo>
                  <a:lnTo>
                    <a:pt x="19" y="92"/>
                  </a:lnTo>
                  <a:lnTo>
                    <a:pt x="1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6722640" y="6361200"/>
              <a:ext cx="1256040" cy="8280"/>
            </a:xfrm>
            <a:custGeom>
              <a:avLst/>
              <a:gdLst/>
              <a:ahLst/>
              <a:rect l="l" t="t" r="r" b="b"/>
              <a:pathLst>
                <a:path w="12883" h="85">
                  <a:moveTo>
                    <a:pt x="0" y="0"/>
                  </a:moveTo>
                  <a:lnTo>
                    <a:pt x="0" y="85"/>
                  </a:lnTo>
                  <a:lnTo>
                    <a:pt x="12883" y="85"/>
                  </a:lnTo>
                  <a:lnTo>
                    <a:pt x="1288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6704640" y="6350400"/>
              <a:ext cx="17640" cy="19080"/>
            </a:xfrm>
            <a:custGeom>
              <a:avLst/>
              <a:gdLst/>
              <a:ahLst/>
              <a:rect l="l" t="t" r="r" b="b"/>
              <a:pathLst>
                <a:path w="178" h="185">
                  <a:moveTo>
                    <a:pt x="0" y="0"/>
                  </a:moveTo>
                  <a:lnTo>
                    <a:pt x="0" y="7"/>
                  </a:lnTo>
                  <a:lnTo>
                    <a:pt x="1" y="24"/>
                  </a:lnTo>
                  <a:lnTo>
                    <a:pt x="3" y="43"/>
                  </a:lnTo>
                  <a:lnTo>
                    <a:pt x="7" y="60"/>
                  </a:lnTo>
                  <a:lnTo>
                    <a:pt x="13" y="76"/>
                  </a:lnTo>
                  <a:lnTo>
                    <a:pt x="21" y="91"/>
                  </a:lnTo>
                  <a:lnTo>
                    <a:pt x="29" y="106"/>
                  </a:lnTo>
                  <a:lnTo>
                    <a:pt x="40" y="120"/>
                  </a:lnTo>
                  <a:lnTo>
                    <a:pt x="52" y="133"/>
                  </a:lnTo>
                  <a:lnTo>
                    <a:pt x="64" y="144"/>
                  </a:lnTo>
                  <a:lnTo>
                    <a:pt x="78" y="154"/>
                  </a:lnTo>
                  <a:lnTo>
                    <a:pt x="92" y="163"/>
                  </a:lnTo>
                  <a:lnTo>
                    <a:pt x="108" y="170"/>
                  </a:lnTo>
                  <a:lnTo>
                    <a:pt x="125" y="176"/>
                  </a:lnTo>
                  <a:lnTo>
                    <a:pt x="142" y="182"/>
                  </a:lnTo>
                  <a:lnTo>
                    <a:pt x="159" y="184"/>
                  </a:lnTo>
                  <a:lnTo>
                    <a:pt x="178" y="185"/>
                  </a:lnTo>
                  <a:lnTo>
                    <a:pt x="178" y="100"/>
                  </a:lnTo>
                  <a:lnTo>
                    <a:pt x="167" y="100"/>
                  </a:lnTo>
                  <a:lnTo>
                    <a:pt x="158" y="99"/>
                  </a:lnTo>
                  <a:lnTo>
                    <a:pt x="149" y="96"/>
                  </a:lnTo>
                  <a:lnTo>
                    <a:pt x="141" y="93"/>
                  </a:lnTo>
                  <a:lnTo>
                    <a:pt x="133" y="89"/>
                  </a:lnTo>
                  <a:lnTo>
                    <a:pt x="125" y="85"/>
                  </a:lnTo>
                  <a:lnTo>
                    <a:pt x="118" y="79"/>
                  </a:lnTo>
                  <a:lnTo>
                    <a:pt x="110" y="73"/>
                  </a:lnTo>
                  <a:lnTo>
                    <a:pt x="104" y="67"/>
                  </a:lnTo>
                  <a:lnTo>
                    <a:pt x="99" y="60"/>
                  </a:lnTo>
                  <a:lnTo>
                    <a:pt x="94" y="52"/>
                  </a:lnTo>
                  <a:lnTo>
                    <a:pt x="90" y="44"/>
                  </a:lnTo>
                  <a:lnTo>
                    <a:pt x="87" y="34"/>
                  </a:lnTo>
                  <a:lnTo>
                    <a:pt x="85" y="26"/>
                  </a:lnTo>
                  <a:lnTo>
                    <a:pt x="84" y="16"/>
                  </a:lnTo>
                  <a:lnTo>
                    <a:pt x="83" y="7"/>
                  </a:lnTo>
                  <a:lnTo>
                    <a:pt x="83" y="1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6704640" y="5929560"/>
              <a:ext cx="77760" cy="422280"/>
            </a:xfrm>
            <a:custGeom>
              <a:avLst/>
              <a:gdLst/>
              <a:ahLst/>
              <a:rect l="l" t="t" r="r" b="b"/>
              <a:pathLst>
                <a:path w="799" h="4324">
                  <a:moveTo>
                    <a:pt x="799" y="7"/>
                  </a:moveTo>
                  <a:lnTo>
                    <a:pt x="715" y="0"/>
                  </a:lnTo>
                  <a:lnTo>
                    <a:pt x="0" y="4311"/>
                  </a:lnTo>
                  <a:lnTo>
                    <a:pt x="83" y="4324"/>
                  </a:lnTo>
                  <a:lnTo>
                    <a:pt x="798" y="13"/>
                  </a:lnTo>
                  <a:lnTo>
                    <a:pt x="799" y="7"/>
                  </a:lnTo>
                  <a:lnTo>
                    <a:pt x="798" y="13"/>
                  </a:lnTo>
                  <a:lnTo>
                    <a:pt x="799" y="10"/>
                  </a:lnTo>
                  <a:lnTo>
                    <a:pt x="799" y="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6774480" y="5913000"/>
              <a:ext cx="17640" cy="17640"/>
            </a:xfrm>
            <a:custGeom>
              <a:avLst/>
              <a:gdLst/>
              <a:ahLst/>
              <a:rect l="l" t="t" r="r" b="b"/>
              <a:pathLst>
                <a:path w="178" h="179">
                  <a:moveTo>
                    <a:pt x="178" y="0"/>
                  </a:moveTo>
                  <a:lnTo>
                    <a:pt x="178" y="0"/>
                  </a:lnTo>
                  <a:lnTo>
                    <a:pt x="160" y="1"/>
                  </a:lnTo>
                  <a:lnTo>
                    <a:pt x="142" y="5"/>
                  </a:lnTo>
                  <a:lnTo>
                    <a:pt x="125" y="9"/>
                  </a:lnTo>
                  <a:lnTo>
                    <a:pt x="109" y="15"/>
                  </a:lnTo>
                  <a:lnTo>
                    <a:pt x="93" y="22"/>
                  </a:lnTo>
                  <a:lnTo>
                    <a:pt x="78" y="31"/>
                  </a:lnTo>
                  <a:lnTo>
                    <a:pt x="65" y="41"/>
                  </a:lnTo>
                  <a:lnTo>
                    <a:pt x="52" y="52"/>
                  </a:lnTo>
                  <a:lnTo>
                    <a:pt x="41" y="65"/>
                  </a:lnTo>
                  <a:lnTo>
                    <a:pt x="30" y="79"/>
                  </a:lnTo>
                  <a:lnTo>
                    <a:pt x="21" y="94"/>
                  </a:lnTo>
                  <a:lnTo>
                    <a:pt x="14" y="109"/>
                  </a:lnTo>
                  <a:lnTo>
                    <a:pt x="8" y="126"/>
                  </a:lnTo>
                  <a:lnTo>
                    <a:pt x="3" y="143"/>
                  </a:lnTo>
                  <a:lnTo>
                    <a:pt x="1" y="161"/>
                  </a:lnTo>
                  <a:lnTo>
                    <a:pt x="0" y="179"/>
                  </a:lnTo>
                  <a:lnTo>
                    <a:pt x="84" y="179"/>
                  </a:lnTo>
                  <a:lnTo>
                    <a:pt x="84" y="169"/>
                  </a:lnTo>
                  <a:lnTo>
                    <a:pt x="86" y="160"/>
                  </a:lnTo>
                  <a:lnTo>
                    <a:pt x="88" y="151"/>
                  </a:lnTo>
                  <a:lnTo>
                    <a:pt x="91" y="142"/>
                  </a:lnTo>
                  <a:lnTo>
                    <a:pt x="95" y="133"/>
                  </a:lnTo>
                  <a:lnTo>
                    <a:pt x="99" y="126"/>
                  </a:lnTo>
                  <a:lnTo>
                    <a:pt x="106" y="119"/>
                  </a:lnTo>
                  <a:lnTo>
                    <a:pt x="112" y="112"/>
                  </a:lnTo>
                  <a:lnTo>
                    <a:pt x="118" y="106"/>
                  </a:lnTo>
                  <a:lnTo>
                    <a:pt x="125" y="101"/>
                  </a:lnTo>
                  <a:lnTo>
                    <a:pt x="133" y="96"/>
                  </a:lnTo>
                  <a:lnTo>
                    <a:pt x="141" y="92"/>
                  </a:lnTo>
                  <a:lnTo>
                    <a:pt x="150" y="89"/>
                  </a:lnTo>
                  <a:lnTo>
                    <a:pt x="158" y="87"/>
                  </a:lnTo>
                  <a:lnTo>
                    <a:pt x="169" y="85"/>
                  </a:lnTo>
                  <a:lnTo>
                    <a:pt x="178" y="85"/>
                  </a:lnTo>
                  <a:lnTo>
                    <a:pt x="178" y="85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6792120" y="5913000"/>
              <a:ext cx="1234800" cy="8280"/>
            </a:xfrm>
            <a:custGeom>
              <a:avLst/>
              <a:gdLst/>
              <a:ahLst/>
              <a:rect l="l" t="t" r="r" b="b"/>
              <a:pathLst>
                <a:path w="12656" h="85">
                  <a:moveTo>
                    <a:pt x="12656" y="85"/>
                  </a:moveTo>
                  <a:lnTo>
                    <a:pt x="12656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2656" y="85"/>
                  </a:lnTo>
                  <a:lnTo>
                    <a:pt x="12656" y="85"/>
                  </a:lnTo>
                  <a:lnTo>
                    <a:pt x="12656" y="0"/>
                  </a:lnTo>
                  <a:lnTo>
                    <a:pt x="12656" y="0"/>
                  </a:lnTo>
                  <a:lnTo>
                    <a:pt x="12656" y="0"/>
                  </a:lnTo>
                  <a:lnTo>
                    <a:pt x="12656" y="8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8026920" y="5913000"/>
              <a:ext cx="17640" cy="17640"/>
            </a:xfrm>
            <a:custGeom>
              <a:avLst/>
              <a:gdLst/>
              <a:ahLst/>
              <a:rect l="l" t="t" r="r" b="b"/>
              <a:pathLst>
                <a:path w="178" h="183">
                  <a:moveTo>
                    <a:pt x="178" y="183"/>
                  </a:moveTo>
                  <a:lnTo>
                    <a:pt x="178" y="179"/>
                  </a:lnTo>
                  <a:lnTo>
                    <a:pt x="177" y="161"/>
                  </a:lnTo>
                  <a:lnTo>
                    <a:pt x="175" y="143"/>
                  </a:lnTo>
                  <a:lnTo>
                    <a:pt x="170" y="126"/>
                  </a:lnTo>
                  <a:lnTo>
                    <a:pt x="165" y="109"/>
                  </a:lnTo>
                  <a:lnTo>
                    <a:pt x="157" y="94"/>
                  </a:lnTo>
                  <a:lnTo>
                    <a:pt x="148" y="79"/>
                  </a:lnTo>
                  <a:lnTo>
                    <a:pt x="138" y="65"/>
                  </a:lnTo>
                  <a:lnTo>
                    <a:pt x="126" y="52"/>
                  </a:lnTo>
                  <a:lnTo>
                    <a:pt x="113" y="41"/>
                  </a:lnTo>
                  <a:lnTo>
                    <a:pt x="100" y="31"/>
                  </a:lnTo>
                  <a:lnTo>
                    <a:pt x="86" y="22"/>
                  </a:lnTo>
                  <a:lnTo>
                    <a:pt x="70" y="15"/>
                  </a:lnTo>
                  <a:lnTo>
                    <a:pt x="53" y="9"/>
                  </a:lnTo>
                  <a:lnTo>
                    <a:pt x="36" y="5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1" y="85"/>
                  </a:lnTo>
                  <a:lnTo>
                    <a:pt x="20" y="87"/>
                  </a:lnTo>
                  <a:lnTo>
                    <a:pt x="29" y="89"/>
                  </a:lnTo>
                  <a:lnTo>
                    <a:pt x="37" y="92"/>
                  </a:lnTo>
                  <a:lnTo>
                    <a:pt x="45" y="96"/>
                  </a:lnTo>
                  <a:lnTo>
                    <a:pt x="53" y="101"/>
                  </a:lnTo>
                  <a:lnTo>
                    <a:pt x="60" y="106"/>
                  </a:lnTo>
                  <a:lnTo>
                    <a:pt x="68" y="112"/>
                  </a:lnTo>
                  <a:lnTo>
                    <a:pt x="74" y="118"/>
                  </a:lnTo>
                  <a:lnTo>
                    <a:pt x="79" y="126"/>
                  </a:lnTo>
                  <a:lnTo>
                    <a:pt x="84" y="133"/>
                  </a:lnTo>
                  <a:lnTo>
                    <a:pt x="88" y="142"/>
                  </a:lnTo>
                  <a:lnTo>
                    <a:pt x="91" y="151"/>
                  </a:lnTo>
                  <a:lnTo>
                    <a:pt x="93" y="160"/>
                  </a:lnTo>
                  <a:lnTo>
                    <a:pt x="94" y="169"/>
                  </a:lnTo>
                  <a:lnTo>
                    <a:pt x="95" y="179"/>
                  </a:lnTo>
                  <a:lnTo>
                    <a:pt x="95" y="174"/>
                  </a:lnTo>
                  <a:lnTo>
                    <a:pt x="178" y="183"/>
                  </a:lnTo>
                  <a:lnTo>
                    <a:pt x="178" y="181"/>
                  </a:lnTo>
                  <a:lnTo>
                    <a:pt x="178" y="179"/>
                  </a:lnTo>
                  <a:lnTo>
                    <a:pt x="178" y="18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988400" y="5930640"/>
              <a:ext cx="55800" cy="420840"/>
            </a:xfrm>
            <a:custGeom>
              <a:avLst/>
              <a:gdLst/>
              <a:ahLst/>
              <a:rect l="l" t="t" r="r" b="b"/>
              <a:pathLst>
                <a:path w="572" h="4320">
                  <a:moveTo>
                    <a:pt x="0" y="4316"/>
                  </a:moveTo>
                  <a:lnTo>
                    <a:pt x="84" y="4320"/>
                  </a:lnTo>
                  <a:lnTo>
                    <a:pt x="572" y="9"/>
                  </a:lnTo>
                  <a:lnTo>
                    <a:pt x="489" y="0"/>
                  </a:lnTo>
                  <a:lnTo>
                    <a:pt x="0" y="4311"/>
                  </a:lnTo>
                  <a:lnTo>
                    <a:pt x="0" y="4316"/>
                  </a:lnTo>
                  <a:lnTo>
                    <a:pt x="0" y="4311"/>
                  </a:lnTo>
                  <a:lnTo>
                    <a:pt x="0" y="4313"/>
                  </a:lnTo>
                  <a:lnTo>
                    <a:pt x="0" y="431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961400" y="5916960"/>
              <a:ext cx="201960" cy="448200"/>
            </a:xfrm>
            <a:custGeom>
              <a:avLst/>
              <a:gdLst/>
              <a:ahLst/>
              <a:rect l="l" t="t" r="r" b="b"/>
              <a:pathLst>
                <a:path w="2067" h="4584">
                  <a:moveTo>
                    <a:pt x="2067" y="3833"/>
                  </a:moveTo>
                  <a:lnTo>
                    <a:pt x="2066" y="3847"/>
                  </a:lnTo>
                  <a:lnTo>
                    <a:pt x="2064" y="3860"/>
                  </a:lnTo>
                  <a:lnTo>
                    <a:pt x="2061" y="3874"/>
                  </a:lnTo>
                  <a:lnTo>
                    <a:pt x="2056" y="3886"/>
                  </a:lnTo>
                  <a:lnTo>
                    <a:pt x="2050" y="3898"/>
                  </a:lnTo>
                  <a:lnTo>
                    <a:pt x="2044" y="3909"/>
                  </a:lnTo>
                  <a:lnTo>
                    <a:pt x="2036" y="3920"/>
                  </a:lnTo>
                  <a:lnTo>
                    <a:pt x="2027" y="3929"/>
                  </a:lnTo>
                  <a:lnTo>
                    <a:pt x="2018" y="3939"/>
                  </a:lnTo>
                  <a:lnTo>
                    <a:pt x="2007" y="3946"/>
                  </a:lnTo>
                  <a:lnTo>
                    <a:pt x="1995" y="3953"/>
                  </a:lnTo>
                  <a:lnTo>
                    <a:pt x="1984" y="3959"/>
                  </a:lnTo>
                  <a:lnTo>
                    <a:pt x="1971" y="3963"/>
                  </a:lnTo>
                  <a:lnTo>
                    <a:pt x="1958" y="3967"/>
                  </a:lnTo>
                  <a:lnTo>
                    <a:pt x="1944" y="3969"/>
                  </a:lnTo>
                  <a:lnTo>
                    <a:pt x="1930" y="3969"/>
                  </a:lnTo>
                  <a:lnTo>
                    <a:pt x="136" y="4584"/>
                  </a:lnTo>
                  <a:lnTo>
                    <a:pt x="122" y="4583"/>
                  </a:lnTo>
                  <a:lnTo>
                    <a:pt x="109" y="4581"/>
                  </a:lnTo>
                  <a:lnTo>
                    <a:pt x="96" y="4578"/>
                  </a:lnTo>
                  <a:lnTo>
                    <a:pt x="83" y="4573"/>
                  </a:lnTo>
                  <a:lnTo>
                    <a:pt x="71" y="4568"/>
                  </a:lnTo>
                  <a:lnTo>
                    <a:pt x="60" y="4561"/>
                  </a:lnTo>
                  <a:lnTo>
                    <a:pt x="50" y="4553"/>
                  </a:lnTo>
                  <a:lnTo>
                    <a:pt x="40" y="4544"/>
                  </a:lnTo>
                  <a:lnTo>
                    <a:pt x="31" y="4534"/>
                  </a:lnTo>
                  <a:lnTo>
                    <a:pt x="23" y="4524"/>
                  </a:lnTo>
                  <a:lnTo>
                    <a:pt x="16" y="4513"/>
                  </a:lnTo>
                  <a:lnTo>
                    <a:pt x="10" y="4501"/>
                  </a:lnTo>
                  <a:lnTo>
                    <a:pt x="6" y="4489"/>
                  </a:lnTo>
                  <a:lnTo>
                    <a:pt x="2" y="4475"/>
                  </a:lnTo>
                  <a:lnTo>
                    <a:pt x="0" y="4461"/>
                  </a:lnTo>
                  <a:lnTo>
                    <a:pt x="0" y="4448"/>
                  </a:lnTo>
                  <a:lnTo>
                    <a:pt x="489" y="137"/>
                  </a:lnTo>
                  <a:lnTo>
                    <a:pt x="489" y="123"/>
                  </a:lnTo>
                  <a:lnTo>
                    <a:pt x="491" y="110"/>
                  </a:lnTo>
                  <a:lnTo>
                    <a:pt x="495" y="96"/>
                  </a:lnTo>
                  <a:lnTo>
                    <a:pt x="499" y="83"/>
                  </a:lnTo>
                  <a:lnTo>
                    <a:pt x="505" y="72"/>
                  </a:lnTo>
                  <a:lnTo>
                    <a:pt x="512" y="61"/>
                  </a:lnTo>
                  <a:lnTo>
                    <a:pt x="519" y="50"/>
                  </a:lnTo>
                  <a:lnTo>
                    <a:pt x="528" y="41"/>
                  </a:lnTo>
                  <a:lnTo>
                    <a:pt x="538" y="32"/>
                  </a:lnTo>
                  <a:lnTo>
                    <a:pt x="549" y="23"/>
                  </a:lnTo>
                  <a:lnTo>
                    <a:pt x="560" y="17"/>
                  </a:lnTo>
                  <a:lnTo>
                    <a:pt x="572" y="11"/>
                  </a:lnTo>
                  <a:lnTo>
                    <a:pt x="584" y="6"/>
                  </a:lnTo>
                  <a:lnTo>
                    <a:pt x="597" y="3"/>
                  </a:lnTo>
                  <a:lnTo>
                    <a:pt x="611" y="1"/>
                  </a:lnTo>
                  <a:lnTo>
                    <a:pt x="625" y="0"/>
                  </a:lnTo>
                  <a:lnTo>
                    <a:pt x="1929" y="0"/>
                  </a:lnTo>
                  <a:lnTo>
                    <a:pt x="1942" y="1"/>
                  </a:lnTo>
                  <a:lnTo>
                    <a:pt x="1957" y="3"/>
                  </a:lnTo>
                  <a:lnTo>
                    <a:pt x="1969" y="6"/>
                  </a:lnTo>
                  <a:lnTo>
                    <a:pt x="1982" y="11"/>
                  </a:lnTo>
                  <a:lnTo>
                    <a:pt x="1994" y="17"/>
                  </a:lnTo>
                  <a:lnTo>
                    <a:pt x="2005" y="23"/>
                  </a:lnTo>
                  <a:lnTo>
                    <a:pt x="2016" y="32"/>
                  </a:lnTo>
                  <a:lnTo>
                    <a:pt x="2026" y="41"/>
                  </a:lnTo>
                  <a:lnTo>
                    <a:pt x="2034" y="50"/>
                  </a:lnTo>
                  <a:lnTo>
                    <a:pt x="2042" y="61"/>
                  </a:lnTo>
                  <a:lnTo>
                    <a:pt x="2049" y="72"/>
                  </a:lnTo>
                  <a:lnTo>
                    <a:pt x="2054" y="83"/>
                  </a:lnTo>
                  <a:lnTo>
                    <a:pt x="2059" y="96"/>
                  </a:lnTo>
                  <a:lnTo>
                    <a:pt x="2062" y="110"/>
                  </a:lnTo>
                  <a:lnTo>
                    <a:pt x="2064" y="123"/>
                  </a:lnTo>
                  <a:lnTo>
                    <a:pt x="2065" y="137"/>
                  </a:lnTo>
                  <a:lnTo>
                    <a:pt x="2067" y="3833"/>
                  </a:lnTo>
                  <a:close/>
                </a:path>
              </a:pathLst>
            </a:custGeom>
            <a:solidFill>
              <a:srgbClr val="7b7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8148240" y="6291720"/>
              <a:ext cx="19080" cy="17640"/>
            </a:xfrm>
            <a:custGeom>
              <a:avLst/>
              <a:gdLst/>
              <a:ahLst/>
              <a:rect l="l" t="t" r="r" b="b"/>
              <a:pathLst>
                <a:path w="192" h="179">
                  <a:moveTo>
                    <a:pt x="27" y="176"/>
                  </a:moveTo>
                  <a:lnTo>
                    <a:pt x="13" y="179"/>
                  </a:lnTo>
                  <a:lnTo>
                    <a:pt x="31" y="178"/>
                  </a:lnTo>
                  <a:lnTo>
                    <a:pt x="50" y="175"/>
                  </a:lnTo>
                  <a:lnTo>
                    <a:pt x="66" y="170"/>
                  </a:lnTo>
                  <a:lnTo>
                    <a:pt x="83" y="164"/>
                  </a:lnTo>
                  <a:lnTo>
                    <a:pt x="99" y="157"/>
                  </a:lnTo>
                  <a:lnTo>
                    <a:pt x="114" y="148"/>
                  </a:lnTo>
                  <a:lnTo>
                    <a:pt x="127" y="138"/>
                  </a:lnTo>
                  <a:lnTo>
                    <a:pt x="140" y="126"/>
                  </a:lnTo>
                  <a:lnTo>
                    <a:pt x="151" y="114"/>
                  </a:lnTo>
                  <a:lnTo>
                    <a:pt x="162" y="99"/>
                  </a:lnTo>
                  <a:lnTo>
                    <a:pt x="171" y="85"/>
                  </a:lnTo>
                  <a:lnTo>
                    <a:pt x="178" y="69"/>
                  </a:lnTo>
                  <a:lnTo>
                    <a:pt x="184" y="53"/>
                  </a:lnTo>
                  <a:lnTo>
                    <a:pt x="188" y="36"/>
                  </a:lnTo>
                  <a:lnTo>
                    <a:pt x="191" y="18"/>
                  </a:lnTo>
                  <a:lnTo>
                    <a:pt x="192" y="0"/>
                  </a:lnTo>
                  <a:lnTo>
                    <a:pt x="108" y="0"/>
                  </a:lnTo>
                  <a:lnTo>
                    <a:pt x="108" y="10"/>
                  </a:lnTo>
                  <a:lnTo>
                    <a:pt x="106" y="19"/>
                  </a:lnTo>
                  <a:lnTo>
                    <a:pt x="104" y="28"/>
                  </a:lnTo>
                  <a:lnTo>
                    <a:pt x="101" y="37"/>
                  </a:lnTo>
                  <a:lnTo>
                    <a:pt x="97" y="46"/>
                  </a:lnTo>
                  <a:lnTo>
                    <a:pt x="91" y="53"/>
                  </a:lnTo>
                  <a:lnTo>
                    <a:pt x="86" y="60"/>
                  </a:lnTo>
                  <a:lnTo>
                    <a:pt x="80" y="67"/>
                  </a:lnTo>
                  <a:lnTo>
                    <a:pt x="74" y="73"/>
                  </a:lnTo>
                  <a:lnTo>
                    <a:pt x="66" y="78"/>
                  </a:lnTo>
                  <a:lnTo>
                    <a:pt x="59" y="83"/>
                  </a:lnTo>
                  <a:lnTo>
                    <a:pt x="51" y="87"/>
                  </a:lnTo>
                  <a:lnTo>
                    <a:pt x="42" y="90"/>
                  </a:lnTo>
                  <a:lnTo>
                    <a:pt x="33" y="92"/>
                  </a:lnTo>
                  <a:lnTo>
                    <a:pt x="23" y="94"/>
                  </a:lnTo>
                  <a:lnTo>
                    <a:pt x="13" y="94"/>
                  </a:lnTo>
                  <a:lnTo>
                    <a:pt x="0" y="96"/>
                  </a:lnTo>
                  <a:lnTo>
                    <a:pt x="13" y="94"/>
                  </a:lnTo>
                  <a:lnTo>
                    <a:pt x="7" y="94"/>
                  </a:lnTo>
                  <a:lnTo>
                    <a:pt x="0" y="96"/>
                  </a:lnTo>
                  <a:lnTo>
                    <a:pt x="27" y="17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973640" y="6301080"/>
              <a:ext cx="177120" cy="68400"/>
            </a:xfrm>
            <a:custGeom>
              <a:avLst/>
              <a:gdLst/>
              <a:ahLst/>
              <a:rect l="l" t="t" r="r" b="b"/>
              <a:pathLst>
                <a:path w="1822" h="697">
                  <a:moveTo>
                    <a:pt x="14" y="697"/>
                  </a:moveTo>
                  <a:lnTo>
                    <a:pt x="27" y="695"/>
                  </a:lnTo>
                  <a:lnTo>
                    <a:pt x="1822" y="80"/>
                  </a:lnTo>
                  <a:lnTo>
                    <a:pt x="1795" y="0"/>
                  </a:lnTo>
                  <a:lnTo>
                    <a:pt x="0" y="615"/>
                  </a:lnTo>
                  <a:lnTo>
                    <a:pt x="14" y="697"/>
                  </a:lnTo>
                  <a:lnTo>
                    <a:pt x="14" y="697"/>
                  </a:lnTo>
                  <a:lnTo>
                    <a:pt x="21" y="697"/>
                  </a:lnTo>
                  <a:lnTo>
                    <a:pt x="27" y="695"/>
                  </a:lnTo>
                  <a:lnTo>
                    <a:pt x="14" y="69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7957080" y="6351840"/>
              <a:ext cx="17640" cy="17640"/>
            </a:xfrm>
            <a:custGeom>
              <a:avLst/>
              <a:gdLst/>
              <a:ahLst/>
              <a:rect l="l" t="t" r="r" b="b"/>
              <a:pathLst>
                <a:path w="179" h="183">
                  <a:moveTo>
                    <a:pt x="1" y="0"/>
                  </a:moveTo>
                  <a:lnTo>
                    <a:pt x="0" y="5"/>
                  </a:lnTo>
                  <a:lnTo>
                    <a:pt x="1" y="22"/>
                  </a:lnTo>
                  <a:lnTo>
                    <a:pt x="4" y="41"/>
                  </a:lnTo>
                  <a:lnTo>
                    <a:pt x="9" y="58"/>
                  </a:lnTo>
                  <a:lnTo>
                    <a:pt x="15" y="74"/>
                  </a:lnTo>
                  <a:lnTo>
                    <a:pt x="22" y="89"/>
                  </a:lnTo>
                  <a:lnTo>
                    <a:pt x="31" y="104"/>
                  </a:lnTo>
                  <a:lnTo>
                    <a:pt x="41" y="118"/>
                  </a:lnTo>
                  <a:lnTo>
                    <a:pt x="53" y="131"/>
                  </a:lnTo>
                  <a:lnTo>
                    <a:pt x="65" y="142"/>
                  </a:lnTo>
                  <a:lnTo>
                    <a:pt x="80" y="152"/>
                  </a:lnTo>
                  <a:lnTo>
                    <a:pt x="94" y="161"/>
                  </a:lnTo>
                  <a:lnTo>
                    <a:pt x="110" y="168"/>
                  </a:lnTo>
                  <a:lnTo>
                    <a:pt x="126" y="174"/>
                  </a:lnTo>
                  <a:lnTo>
                    <a:pt x="144" y="180"/>
                  </a:lnTo>
                  <a:lnTo>
                    <a:pt x="161" y="182"/>
                  </a:lnTo>
                  <a:lnTo>
                    <a:pt x="179" y="183"/>
                  </a:lnTo>
                  <a:lnTo>
                    <a:pt x="179" y="98"/>
                  </a:lnTo>
                  <a:lnTo>
                    <a:pt x="169" y="98"/>
                  </a:lnTo>
                  <a:lnTo>
                    <a:pt x="160" y="97"/>
                  </a:lnTo>
                  <a:lnTo>
                    <a:pt x="151" y="94"/>
                  </a:lnTo>
                  <a:lnTo>
                    <a:pt x="143" y="91"/>
                  </a:lnTo>
                  <a:lnTo>
                    <a:pt x="134" y="87"/>
                  </a:lnTo>
                  <a:lnTo>
                    <a:pt x="126" y="83"/>
                  </a:lnTo>
                  <a:lnTo>
                    <a:pt x="119" y="77"/>
                  </a:lnTo>
                  <a:lnTo>
                    <a:pt x="112" y="71"/>
                  </a:lnTo>
                  <a:lnTo>
                    <a:pt x="106" y="65"/>
                  </a:lnTo>
                  <a:lnTo>
                    <a:pt x="101" y="58"/>
                  </a:lnTo>
                  <a:lnTo>
                    <a:pt x="96" y="50"/>
                  </a:lnTo>
                  <a:lnTo>
                    <a:pt x="92" y="42"/>
                  </a:lnTo>
                  <a:lnTo>
                    <a:pt x="89" y="32"/>
                  </a:lnTo>
                  <a:lnTo>
                    <a:pt x="87" y="24"/>
                  </a:lnTo>
                  <a:lnTo>
                    <a:pt x="85" y="14"/>
                  </a:lnTo>
                  <a:lnTo>
                    <a:pt x="85" y="5"/>
                  </a:lnTo>
                  <a:lnTo>
                    <a:pt x="85" y="9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7957080" y="5930640"/>
              <a:ext cx="55800" cy="420840"/>
            </a:xfrm>
            <a:custGeom>
              <a:avLst/>
              <a:gdLst/>
              <a:ahLst/>
              <a:rect l="l" t="t" r="r" b="b"/>
              <a:pathLst>
                <a:path w="572" h="4320">
                  <a:moveTo>
                    <a:pt x="572" y="5"/>
                  </a:moveTo>
                  <a:lnTo>
                    <a:pt x="489" y="0"/>
                  </a:lnTo>
                  <a:lnTo>
                    <a:pt x="0" y="4311"/>
                  </a:lnTo>
                  <a:lnTo>
                    <a:pt x="84" y="4320"/>
                  </a:lnTo>
                  <a:lnTo>
                    <a:pt x="572" y="9"/>
                  </a:lnTo>
                  <a:lnTo>
                    <a:pt x="572" y="5"/>
                  </a:lnTo>
                  <a:lnTo>
                    <a:pt x="572" y="9"/>
                  </a:lnTo>
                  <a:lnTo>
                    <a:pt x="572" y="7"/>
                  </a:lnTo>
                  <a:lnTo>
                    <a:pt x="572" y="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8004960" y="5913000"/>
              <a:ext cx="17640" cy="1764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179" y="0"/>
                  </a:moveTo>
                  <a:lnTo>
                    <a:pt x="179" y="0"/>
                  </a:lnTo>
                  <a:lnTo>
                    <a:pt x="161" y="1"/>
                  </a:lnTo>
                  <a:lnTo>
                    <a:pt x="143" y="5"/>
                  </a:lnTo>
                  <a:lnTo>
                    <a:pt x="126" y="9"/>
                  </a:lnTo>
                  <a:lnTo>
                    <a:pt x="110" y="15"/>
                  </a:lnTo>
                  <a:lnTo>
                    <a:pt x="93" y="22"/>
                  </a:lnTo>
                  <a:lnTo>
                    <a:pt x="79" y="31"/>
                  </a:lnTo>
                  <a:lnTo>
                    <a:pt x="65" y="41"/>
                  </a:lnTo>
                  <a:lnTo>
                    <a:pt x="53" y="52"/>
                  </a:lnTo>
                  <a:lnTo>
                    <a:pt x="41" y="65"/>
                  </a:lnTo>
                  <a:lnTo>
                    <a:pt x="30" y="79"/>
                  </a:lnTo>
                  <a:lnTo>
                    <a:pt x="22" y="94"/>
                  </a:lnTo>
                  <a:lnTo>
                    <a:pt x="14" y="109"/>
                  </a:lnTo>
                  <a:lnTo>
                    <a:pt x="8" y="126"/>
                  </a:lnTo>
                  <a:lnTo>
                    <a:pt x="4" y="143"/>
                  </a:lnTo>
                  <a:lnTo>
                    <a:pt x="1" y="161"/>
                  </a:lnTo>
                  <a:lnTo>
                    <a:pt x="0" y="179"/>
                  </a:lnTo>
                  <a:lnTo>
                    <a:pt x="84" y="179"/>
                  </a:lnTo>
                  <a:lnTo>
                    <a:pt x="84" y="169"/>
                  </a:lnTo>
                  <a:lnTo>
                    <a:pt x="86" y="160"/>
                  </a:lnTo>
                  <a:lnTo>
                    <a:pt x="88" y="151"/>
                  </a:lnTo>
                  <a:lnTo>
                    <a:pt x="91" y="142"/>
                  </a:lnTo>
                  <a:lnTo>
                    <a:pt x="96" y="133"/>
                  </a:lnTo>
                  <a:lnTo>
                    <a:pt x="101" y="126"/>
                  </a:lnTo>
                  <a:lnTo>
                    <a:pt x="106" y="119"/>
                  </a:lnTo>
                  <a:lnTo>
                    <a:pt x="112" y="112"/>
                  </a:lnTo>
                  <a:lnTo>
                    <a:pt x="119" y="106"/>
                  </a:lnTo>
                  <a:lnTo>
                    <a:pt x="126" y="101"/>
                  </a:lnTo>
                  <a:lnTo>
                    <a:pt x="134" y="96"/>
                  </a:lnTo>
                  <a:lnTo>
                    <a:pt x="142" y="92"/>
                  </a:lnTo>
                  <a:lnTo>
                    <a:pt x="150" y="89"/>
                  </a:lnTo>
                  <a:lnTo>
                    <a:pt x="160" y="87"/>
                  </a:lnTo>
                  <a:lnTo>
                    <a:pt x="169" y="85"/>
                  </a:lnTo>
                  <a:lnTo>
                    <a:pt x="179" y="85"/>
                  </a:lnTo>
                  <a:lnTo>
                    <a:pt x="179" y="85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8022960" y="5913000"/>
              <a:ext cx="126720" cy="8280"/>
            </a:xfrm>
            <a:custGeom>
              <a:avLst/>
              <a:gdLst/>
              <a:ahLst/>
              <a:rect l="l" t="t" r="r" b="b"/>
              <a:pathLst>
                <a:path w="1304" h="85">
                  <a:moveTo>
                    <a:pt x="1304" y="85"/>
                  </a:moveTo>
                  <a:lnTo>
                    <a:pt x="130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304" y="85"/>
                  </a:lnTo>
                  <a:lnTo>
                    <a:pt x="1304" y="85"/>
                  </a:lnTo>
                  <a:lnTo>
                    <a:pt x="1304" y="0"/>
                  </a:lnTo>
                  <a:lnTo>
                    <a:pt x="1304" y="0"/>
                  </a:lnTo>
                  <a:lnTo>
                    <a:pt x="1304" y="0"/>
                  </a:lnTo>
                  <a:lnTo>
                    <a:pt x="1304" y="8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8150040" y="5913000"/>
              <a:ext cx="17640" cy="17640"/>
            </a:xfrm>
            <a:custGeom>
              <a:avLst/>
              <a:gdLst/>
              <a:ahLst/>
              <a:rect l="l" t="t" r="r" b="b"/>
              <a:pathLst>
                <a:path w="178" h="179">
                  <a:moveTo>
                    <a:pt x="178" y="179"/>
                  </a:moveTo>
                  <a:lnTo>
                    <a:pt x="178" y="179"/>
                  </a:lnTo>
                  <a:lnTo>
                    <a:pt x="177" y="161"/>
                  </a:lnTo>
                  <a:lnTo>
                    <a:pt x="174" y="143"/>
                  </a:lnTo>
                  <a:lnTo>
                    <a:pt x="170" y="126"/>
                  </a:lnTo>
                  <a:lnTo>
                    <a:pt x="164" y="109"/>
                  </a:lnTo>
                  <a:lnTo>
                    <a:pt x="157" y="94"/>
                  </a:lnTo>
                  <a:lnTo>
                    <a:pt x="147" y="79"/>
                  </a:lnTo>
                  <a:lnTo>
                    <a:pt x="137" y="65"/>
                  </a:lnTo>
                  <a:lnTo>
                    <a:pt x="126" y="52"/>
                  </a:lnTo>
                  <a:lnTo>
                    <a:pt x="113" y="41"/>
                  </a:lnTo>
                  <a:lnTo>
                    <a:pt x="100" y="31"/>
                  </a:lnTo>
                  <a:lnTo>
                    <a:pt x="85" y="22"/>
                  </a:lnTo>
                  <a:lnTo>
                    <a:pt x="69" y="15"/>
                  </a:lnTo>
                  <a:lnTo>
                    <a:pt x="53" y="9"/>
                  </a:lnTo>
                  <a:lnTo>
                    <a:pt x="36" y="5"/>
                  </a:lnTo>
                  <a:lnTo>
                    <a:pt x="17" y="1"/>
                  </a:lnTo>
                  <a:lnTo>
                    <a:pt x="0" y="0"/>
                  </a:lnTo>
                  <a:lnTo>
                    <a:pt x="0" y="85"/>
                  </a:lnTo>
                  <a:lnTo>
                    <a:pt x="9" y="85"/>
                  </a:lnTo>
                  <a:lnTo>
                    <a:pt x="18" y="87"/>
                  </a:lnTo>
                  <a:lnTo>
                    <a:pt x="28" y="89"/>
                  </a:lnTo>
                  <a:lnTo>
                    <a:pt x="37" y="92"/>
                  </a:lnTo>
                  <a:lnTo>
                    <a:pt x="45" y="96"/>
                  </a:lnTo>
                  <a:lnTo>
                    <a:pt x="53" y="101"/>
                  </a:lnTo>
                  <a:lnTo>
                    <a:pt x="60" y="106"/>
                  </a:lnTo>
                  <a:lnTo>
                    <a:pt x="66" y="112"/>
                  </a:lnTo>
                  <a:lnTo>
                    <a:pt x="72" y="118"/>
                  </a:lnTo>
                  <a:lnTo>
                    <a:pt x="78" y="126"/>
                  </a:lnTo>
                  <a:lnTo>
                    <a:pt x="82" y="133"/>
                  </a:lnTo>
                  <a:lnTo>
                    <a:pt x="87" y="142"/>
                  </a:lnTo>
                  <a:lnTo>
                    <a:pt x="90" y="151"/>
                  </a:lnTo>
                  <a:lnTo>
                    <a:pt x="93" y="160"/>
                  </a:lnTo>
                  <a:lnTo>
                    <a:pt x="94" y="169"/>
                  </a:lnTo>
                  <a:lnTo>
                    <a:pt x="94" y="179"/>
                  </a:lnTo>
                  <a:lnTo>
                    <a:pt x="94" y="179"/>
                  </a:lnTo>
                  <a:lnTo>
                    <a:pt x="178" y="179"/>
                  </a:lnTo>
                  <a:lnTo>
                    <a:pt x="178" y="179"/>
                  </a:lnTo>
                  <a:lnTo>
                    <a:pt x="178" y="17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8159400" y="5930640"/>
              <a:ext cx="7920" cy="360720"/>
            </a:xfrm>
            <a:custGeom>
              <a:avLst/>
              <a:gdLst/>
              <a:ahLst/>
              <a:rect l="l" t="t" r="r" b="b"/>
              <a:pathLst>
                <a:path w="86" h="3696">
                  <a:moveTo>
                    <a:pt x="2" y="3696"/>
                  </a:moveTo>
                  <a:lnTo>
                    <a:pt x="86" y="3696"/>
                  </a:lnTo>
                  <a:lnTo>
                    <a:pt x="84" y="0"/>
                  </a:lnTo>
                  <a:lnTo>
                    <a:pt x="0" y="0"/>
                  </a:lnTo>
                  <a:lnTo>
                    <a:pt x="2" y="3696"/>
                  </a:lnTo>
                  <a:lnTo>
                    <a:pt x="2" y="3696"/>
                  </a:lnTo>
                  <a:lnTo>
                    <a:pt x="86" y="3696"/>
                  </a:lnTo>
                  <a:lnTo>
                    <a:pt x="86" y="3696"/>
                  </a:lnTo>
                  <a:lnTo>
                    <a:pt x="86" y="3696"/>
                  </a:lnTo>
                  <a:lnTo>
                    <a:pt x="2" y="369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437960" y="6279480"/>
              <a:ext cx="531360" cy="143280"/>
            </a:xfrm>
            <a:custGeom>
              <a:avLst/>
              <a:gdLst/>
              <a:ahLst/>
              <a:rect l="l" t="t" r="r" b="b"/>
              <a:pathLst>
                <a:path w="5446" h="1484">
                  <a:moveTo>
                    <a:pt x="4436" y="1484"/>
                  </a:moveTo>
                  <a:lnTo>
                    <a:pt x="0" y="1484"/>
                  </a:lnTo>
                  <a:lnTo>
                    <a:pt x="1206" y="0"/>
                  </a:lnTo>
                  <a:lnTo>
                    <a:pt x="5446" y="0"/>
                  </a:lnTo>
                  <a:lnTo>
                    <a:pt x="4436" y="1484"/>
                  </a:lnTo>
                  <a:close/>
                </a:path>
              </a:pathLst>
            </a:cu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430040" y="6419880"/>
              <a:ext cx="441000" cy="8280"/>
            </a:xfrm>
            <a:custGeom>
              <a:avLst/>
              <a:gdLst/>
              <a:ahLst/>
              <a:rect l="l" t="t" r="r" b="b"/>
              <a:pathLst>
                <a:path w="4523" h="84">
                  <a:moveTo>
                    <a:pt x="55" y="15"/>
                  </a:moveTo>
                  <a:lnTo>
                    <a:pt x="87" y="84"/>
                  </a:lnTo>
                  <a:lnTo>
                    <a:pt x="4523" y="84"/>
                  </a:lnTo>
                  <a:lnTo>
                    <a:pt x="4523" y="0"/>
                  </a:lnTo>
                  <a:lnTo>
                    <a:pt x="87" y="0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0" y="84"/>
                  </a:lnTo>
                  <a:lnTo>
                    <a:pt x="87" y="84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435440" y="6275160"/>
              <a:ext cx="124200" cy="150120"/>
            </a:xfrm>
            <a:custGeom>
              <a:avLst/>
              <a:gdLst/>
              <a:ahLst/>
              <a:rect l="l" t="t" r="r" b="b"/>
              <a:pathLst>
                <a:path w="1271" h="1552">
                  <a:moveTo>
                    <a:pt x="1238" y="0"/>
                  </a:moveTo>
                  <a:lnTo>
                    <a:pt x="1206" y="16"/>
                  </a:lnTo>
                  <a:lnTo>
                    <a:pt x="0" y="1499"/>
                  </a:lnTo>
                  <a:lnTo>
                    <a:pt x="65" y="1552"/>
                  </a:lnTo>
                  <a:lnTo>
                    <a:pt x="1271" y="68"/>
                  </a:lnTo>
                  <a:lnTo>
                    <a:pt x="1238" y="0"/>
                  </a:lnTo>
                  <a:lnTo>
                    <a:pt x="1238" y="0"/>
                  </a:lnTo>
                  <a:lnTo>
                    <a:pt x="1219" y="0"/>
                  </a:lnTo>
                  <a:lnTo>
                    <a:pt x="1206" y="16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555680" y="6275160"/>
              <a:ext cx="421920" cy="6480"/>
            </a:xfrm>
            <a:custGeom>
              <a:avLst/>
              <a:gdLst/>
              <a:ahLst/>
              <a:rect l="l" t="t" r="r" b="b"/>
              <a:pathLst>
                <a:path w="4320" h="84">
                  <a:moveTo>
                    <a:pt x="4275" y="65"/>
                  </a:moveTo>
                  <a:lnTo>
                    <a:pt x="4240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4240" y="84"/>
                  </a:lnTo>
                  <a:lnTo>
                    <a:pt x="4275" y="65"/>
                  </a:lnTo>
                  <a:lnTo>
                    <a:pt x="4275" y="65"/>
                  </a:lnTo>
                  <a:lnTo>
                    <a:pt x="4320" y="0"/>
                  </a:lnTo>
                  <a:lnTo>
                    <a:pt x="4240" y="0"/>
                  </a:lnTo>
                  <a:lnTo>
                    <a:pt x="4275" y="6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867080" y="6276600"/>
              <a:ext cx="106200" cy="151560"/>
            </a:xfrm>
            <a:custGeom>
              <a:avLst/>
              <a:gdLst/>
              <a:ahLst/>
              <a:rect l="l" t="t" r="r" b="b"/>
              <a:pathLst>
                <a:path w="1080" h="1549">
                  <a:moveTo>
                    <a:pt x="35" y="1549"/>
                  </a:moveTo>
                  <a:lnTo>
                    <a:pt x="69" y="1531"/>
                  </a:lnTo>
                  <a:lnTo>
                    <a:pt x="1080" y="46"/>
                  </a:lnTo>
                  <a:lnTo>
                    <a:pt x="1011" y="0"/>
                  </a:lnTo>
                  <a:lnTo>
                    <a:pt x="0" y="1483"/>
                  </a:lnTo>
                  <a:lnTo>
                    <a:pt x="35" y="1549"/>
                  </a:lnTo>
                  <a:lnTo>
                    <a:pt x="35" y="1549"/>
                  </a:lnTo>
                  <a:lnTo>
                    <a:pt x="57" y="1549"/>
                  </a:lnTo>
                  <a:lnTo>
                    <a:pt x="69" y="1531"/>
                  </a:lnTo>
                  <a:lnTo>
                    <a:pt x="35" y="154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437960" y="6425640"/>
              <a:ext cx="432720" cy="48600"/>
            </a:xfrm>
            <a:custGeom>
              <a:avLst/>
              <a:gdLst/>
              <a:ahLst/>
              <a:rect l="l" t="t" r="r" b="b"/>
              <a:pathLst>
                <a:path w="4436" h="504">
                  <a:moveTo>
                    <a:pt x="4436" y="504"/>
                  </a:moveTo>
                  <a:lnTo>
                    <a:pt x="0" y="504"/>
                  </a:lnTo>
                  <a:lnTo>
                    <a:pt x="50" y="0"/>
                  </a:lnTo>
                  <a:lnTo>
                    <a:pt x="4436" y="0"/>
                  </a:lnTo>
                  <a:lnTo>
                    <a:pt x="4436" y="504"/>
                  </a:lnTo>
                  <a:close/>
                </a:path>
              </a:pathLst>
            </a:custGeom>
            <a:solidFill>
              <a:srgbClr val="b6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434000" y="6470640"/>
              <a:ext cx="436680" cy="8280"/>
            </a:xfrm>
            <a:custGeom>
              <a:avLst/>
              <a:gdLst/>
              <a:ahLst/>
              <a:rect l="l" t="t" r="r" b="b"/>
              <a:pathLst>
                <a:path w="4483" h="84">
                  <a:moveTo>
                    <a:pt x="6" y="38"/>
                  </a:moveTo>
                  <a:lnTo>
                    <a:pt x="47" y="84"/>
                  </a:lnTo>
                  <a:lnTo>
                    <a:pt x="4483" y="84"/>
                  </a:lnTo>
                  <a:lnTo>
                    <a:pt x="4483" y="0"/>
                  </a:lnTo>
                  <a:lnTo>
                    <a:pt x="47" y="0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0" y="84"/>
                  </a:lnTo>
                  <a:lnTo>
                    <a:pt x="47" y="84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434000" y="6421680"/>
              <a:ext cx="13320" cy="52920"/>
            </a:xfrm>
            <a:custGeom>
              <a:avLst/>
              <a:gdLst/>
              <a:ahLst/>
              <a:rect l="l" t="t" r="r" b="b"/>
              <a:pathLst>
                <a:path w="133" h="550">
                  <a:moveTo>
                    <a:pt x="91" y="0"/>
                  </a:moveTo>
                  <a:lnTo>
                    <a:pt x="49" y="38"/>
                  </a:lnTo>
                  <a:lnTo>
                    <a:pt x="0" y="542"/>
                  </a:lnTo>
                  <a:lnTo>
                    <a:pt x="83" y="550"/>
                  </a:lnTo>
                  <a:lnTo>
                    <a:pt x="133" y="46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53" y="0"/>
                  </a:lnTo>
                  <a:lnTo>
                    <a:pt x="49" y="3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443720" y="6421680"/>
              <a:ext cx="431280" cy="7920"/>
            </a:xfrm>
            <a:custGeom>
              <a:avLst/>
              <a:gdLst/>
              <a:ahLst/>
              <a:rect l="l" t="t" r="r" b="b"/>
              <a:pathLst>
                <a:path w="4427" h="85">
                  <a:moveTo>
                    <a:pt x="4427" y="42"/>
                  </a:moveTo>
                  <a:lnTo>
                    <a:pt x="4386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4386" y="85"/>
                  </a:lnTo>
                  <a:lnTo>
                    <a:pt x="4427" y="42"/>
                  </a:lnTo>
                  <a:lnTo>
                    <a:pt x="4427" y="42"/>
                  </a:lnTo>
                  <a:lnTo>
                    <a:pt x="4427" y="0"/>
                  </a:lnTo>
                  <a:lnTo>
                    <a:pt x="4386" y="0"/>
                  </a:lnTo>
                  <a:lnTo>
                    <a:pt x="4427" y="4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867080" y="6425640"/>
              <a:ext cx="7920" cy="53280"/>
            </a:xfrm>
            <a:custGeom>
              <a:avLst/>
              <a:gdLst/>
              <a:ahLst/>
              <a:rect l="l" t="t" r="r" b="b"/>
              <a:pathLst>
                <a:path w="84" h="546">
                  <a:moveTo>
                    <a:pt x="43" y="546"/>
                  </a:moveTo>
                  <a:lnTo>
                    <a:pt x="84" y="50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43" y="546"/>
                  </a:lnTo>
                  <a:lnTo>
                    <a:pt x="43" y="546"/>
                  </a:lnTo>
                  <a:lnTo>
                    <a:pt x="84" y="546"/>
                  </a:lnTo>
                  <a:lnTo>
                    <a:pt x="84" y="504"/>
                  </a:lnTo>
                  <a:lnTo>
                    <a:pt x="43" y="54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7872840" y="6270840"/>
              <a:ext cx="97920" cy="200880"/>
            </a:xfrm>
            <a:custGeom>
              <a:avLst/>
              <a:gdLst/>
              <a:ahLst/>
              <a:rect l="l" t="t" r="r" b="b"/>
              <a:pathLst>
                <a:path w="1012" h="2054">
                  <a:moveTo>
                    <a:pt x="1012" y="0"/>
                  </a:moveTo>
                  <a:lnTo>
                    <a:pt x="1012" y="943"/>
                  </a:lnTo>
                  <a:lnTo>
                    <a:pt x="0" y="2054"/>
                  </a:lnTo>
                  <a:lnTo>
                    <a:pt x="0" y="1551"/>
                  </a:lnTo>
                  <a:lnTo>
                    <a:pt x="1012" y="0"/>
                  </a:lnTo>
                  <a:close/>
                </a:path>
              </a:pathLst>
            </a:custGeom>
            <a:solidFill>
              <a:srgbClr val="7b7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7966800" y="6270840"/>
              <a:ext cx="7920" cy="94320"/>
            </a:xfrm>
            <a:custGeom>
              <a:avLst/>
              <a:gdLst/>
              <a:ahLst/>
              <a:rect l="l" t="t" r="r" b="b"/>
              <a:pathLst>
                <a:path w="84" h="971">
                  <a:moveTo>
                    <a:pt x="73" y="971"/>
                  </a:moveTo>
                  <a:lnTo>
                    <a:pt x="84" y="94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3"/>
                  </a:lnTo>
                  <a:lnTo>
                    <a:pt x="73" y="971"/>
                  </a:lnTo>
                  <a:lnTo>
                    <a:pt x="73" y="971"/>
                  </a:lnTo>
                  <a:lnTo>
                    <a:pt x="84" y="959"/>
                  </a:lnTo>
                  <a:lnTo>
                    <a:pt x="84" y="943"/>
                  </a:lnTo>
                  <a:lnTo>
                    <a:pt x="73" y="97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868520" y="6359760"/>
              <a:ext cx="106200" cy="121680"/>
            </a:xfrm>
            <a:custGeom>
              <a:avLst/>
              <a:gdLst/>
              <a:ahLst/>
              <a:rect l="l" t="t" r="r" b="b"/>
              <a:pathLst>
                <a:path w="1085" h="1247">
                  <a:moveTo>
                    <a:pt x="0" y="1140"/>
                  </a:moveTo>
                  <a:lnTo>
                    <a:pt x="73" y="1168"/>
                  </a:lnTo>
                  <a:lnTo>
                    <a:pt x="1085" y="57"/>
                  </a:lnTo>
                  <a:lnTo>
                    <a:pt x="1023" y="0"/>
                  </a:lnTo>
                  <a:lnTo>
                    <a:pt x="11" y="1112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247"/>
                  </a:lnTo>
                  <a:lnTo>
                    <a:pt x="73" y="1168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7868520" y="6419880"/>
              <a:ext cx="8280" cy="51840"/>
            </a:xfrm>
            <a:custGeom>
              <a:avLst/>
              <a:gdLst/>
              <a:ahLst/>
              <a:rect l="l" t="t" r="r" b="b"/>
              <a:pathLst>
                <a:path w="84" h="527">
                  <a:moveTo>
                    <a:pt x="7" y="0"/>
                  </a:moveTo>
                  <a:lnTo>
                    <a:pt x="0" y="24"/>
                  </a:lnTo>
                  <a:lnTo>
                    <a:pt x="0" y="527"/>
                  </a:lnTo>
                  <a:lnTo>
                    <a:pt x="84" y="527"/>
                  </a:lnTo>
                  <a:lnTo>
                    <a:pt x="84" y="24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7869960" y="6257160"/>
              <a:ext cx="104760" cy="166680"/>
            </a:xfrm>
            <a:custGeom>
              <a:avLst/>
              <a:gdLst/>
              <a:ahLst/>
              <a:rect l="l" t="t" r="r" b="b"/>
              <a:pathLst>
                <a:path w="1089" h="1712">
                  <a:moveTo>
                    <a:pt x="1089" y="139"/>
                  </a:moveTo>
                  <a:lnTo>
                    <a:pt x="1012" y="116"/>
                  </a:lnTo>
                  <a:lnTo>
                    <a:pt x="0" y="1666"/>
                  </a:lnTo>
                  <a:lnTo>
                    <a:pt x="70" y="1712"/>
                  </a:lnTo>
                  <a:lnTo>
                    <a:pt x="1082" y="161"/>
                  </a:lnTo>
                  <a:lnTo>
                    <a:pt x="1089" y="139"/>
                  </a:lnTo>
                  <a:lnTo>
                    <a:pt x="1089" y="139"/>
                  </a:lnTo>
                  <a:lnTo>
                    <a:pt x="1089" y="0"/>
                  </a:lnTo>
                  <a:lnTo>
                    <a:pt x="1012" y="116"/>
                  </a:lnTo>
                  <a:lnTo>
                    <a:pt x="1089" y="13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7083000" y="5918760"/>
              <a:ext cx="72000" cy="447840"/>
            </a:xfrm>
            <a:custGeom>
              <a:avLst/>
              <a:gdLst/>
              <a:ahLst/>
              <a:rect l="l" t="t" r="r" b="b"/>
              <a:pathLst>
                <a:path w="745" h="4597">
                  <a:moveTo>
                    <a:pt x="83" y="4597"/>
                  </a:moveTo>
                  <a:lnTo>
                    <a:pt x="745" y="12"/>
                  </a:lnTo>
                  <a:lnTo>
                    <a:pt x="662" y="0"/>
                  </a:lnTo>
                  <a:lnTo>
                    <a:pt x="0" y="4585"/>
                  </a:lnTo>
                  <a:lnTo>
                    <a:pt x="83" y="459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7551360" y="5916960"/>
              <a:ext cx="52920" cy="363240"/>
            </a:xfrm>
            <a:custGeom>
              <a:avLst/>
              <a:gdLst/>
              <a:ahLst/>
              <a:rect l="l" t="t" r="r" b="b"/>
              <a:pathLst>
                <a:path w="542" h="3723">
                  <a:moveTo>
                    <a:pt x="84" y="3723"/>
                  </a:moveTo>
                  <a:lnTo>
                    <a:pt x="542" y="11"/>
                  </a:lnTo>
                  <a:lnTo>
                    <a:pt x="459" y="0"/>
                  </a:lnTo>
                  <a:lnTo>
                    <a:pt x="0" y="3713"/>
                  </a:lnTo>
                  <a:lnTo>
                    <a:pt x="84" y="372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871040" y="6025320"/>
              <a:ext cx="102240" cy="102240"/>
            </a:xfrm>
            <a:custGeom>
              <a:avLst/>
              <a:gdLst/>
              <a:ahLst/>
              <a:rect l="l" t="t" r="r" b="b"/>
              <a:pathLst>
                <a:path w="1051" h="1051">
                  <a:moveTo>
                    <a:pt x="1051" y="525"/>
                  </a:moveTo>
                  <a:lnTo>
                    <a:pt x="1050" y="552"/>
                  </a:lnTo>
                  <a:lnTo>
                    <a:pt x="1048" y="579"/>
                  </a:lnTo>
                  <a:lnTo>
                    <a:pt x="1045" y="605"/>
                  </a:lnTo>
                  <a:lnTo>
                    <a:pt x="1040" y="631"/>
                  </a:lnTo>
                  <a:lnTo>
                    <a:pt x="1034" y="657"/>
                  </a:lnTo>
                  <a:lnTo>
                    <a:pt x="1027" y="681"/>
                  </a:lnTo>
                  <a:lnTo>
                    <a:pt x="1018" y="705"/>
                  </a:lnTo>
                  <a:lnTo>
                    <a:pt x="1009" y="730"/>
                  </a:lnTo>
                  <a:lnTo>
                    <a:pt x="998" y="753"/>
                  </a:lnTo>
                  <a:lnTo>
                    <a:pt x="987" y="775"/>
                  </a:lnTo>
                  <a:lnTo>
                    <a:pt x="975" y="798"/>
                  </a:lnTo>
                  <a:lnTo>
                    <a:pt x="961" y="819"/>
                  </a:lnTo>
                  <a:lnTo>
                    <a:pt x="946" y="839"/>
                  </a:lnTo>
                  <a:lnTo>
                    <a:pt x="930" y="859"/>
                  </a:lnTo>
                  <a:lnTo>
                    <a:pt x="914" y="878"/>
                  </a:lnTo>
                  <a:lnTo>
                    <a:pt x="897" y="896"/>
                  </a:lnTo>
                  <a:lnTo>
                    <a:pt x="878" y="914"/>
                  </a:lnTo>
                  <a:lnTo>
                    <a:pt x="859" y="931"/>
                  </a:lnTo>
                  <a:lnTo>
                    <a:pt x="840" y="946"/>
                  </a:lnTo>
                  <a:lnTo>
                    <a:pt x="818" y="960"/>
                  </a:lnTo>
                  <a:lnTo>
                    <a:pt x="797" y="974"/>
                  </a:lnTo>
                  <a:lnTo>
                    <a:pt x="776" y="987"/>
                  </a:lnTo>
                  <a:lnTo>
                    <a:pt x="752" y="999"/>
                  </a:lnTo>
                  <a:lnTo>
                    <a:pt x="730" y="1009"/>
                  </a:lnTo>
                  <a:lnTo>
                    <a:pt x="706" y="1018"/>
                  </a:lnTo>
                  <a:lnTo>
                    <a:pt x="681" y="1026"/>
                  </a:lnTo>
                  <a:lnTo>
                    <a:pt x="656" y="1033"/>
                  </a:lnTo>
                  <a:lnTo>
                    <a:pt x="630" y="1039"/>
                  </a:lnTo>
                  <a:lnTo>
                    <a:pt x="605" y="1044"/>
                  </a:lnTo>
                  <a:lnTo>
                    <a:pt x="579" y="1047"/>
                  </a:lnTo>
                  <a:lnTo>
                    <a:pt x="552" y="1049"/>
                  </a:lnTo>
                  <a:lnTo>
                    <a:pt x="525" y="1051"/>
                  </a:lnTo>
                  <a:lnTo>
                    <a:pt x="498" y="1049"/>
                  </a:lnTo>
                  <a:lnTo>
                    <a:pt x="471" y="1047"/>
                  </a:lnTo>
                  <a:lnTo>
                    <a:pt x="444" y="1044"/>
                  </a:lnTo>
                  <a:lnTo>
                    <a:pt x="419" y="1039"/>
                  </a:lnTo>
                  <a:lnTo>
                    <a:pt x="394" y="1033"/>
                  </a:lnTo>
                  <a:lnTo>
                    <a:pt x="368" y="1026"/>
                  </a:lnTo>
                  <a:lnTo>
                    <a:pt x="344" y="1018"/>
                  </a:lnTo>
                  <a:lnTo>
                    <a:pt x="321" y="1009"/>
                  </a:lnTo>
                  <a:lnTo>
                    <a:pt x="297" y="999"/>
                  </a:lnTo>
                  <a:lnTo>
                    <a:pt x="275" y="987"/>
                  </a:lnTo>
                  <a:lnTo>
                    <a:pt x="252" y="974"/>
                  </a:lnTo>
                  <a:lnTo>
                    <a:pt x="231" y="960"/>
                  </a:lnTo>
                  <a:lnTo>
                    <a:pt x="211" y="946"/>
                  </a:lnTo>
                  <a:lnTo>
                    <a:pt x="190" y="931"/>
                  </a:lnTo>
                  <a:lnTo>
                    <a:pt x="171" y="914"/>
                  </a:lnTo>
                  <a:lnTo>
                    <a:pt x="153" y="896"/>
                  </a:lnTo>
                  <a:lnTo>
                    <a:pt x="136" y="878"/>
                  </a:lnTo>
                  <a:lnTo>
                    <a:pt x="119" y="859"/>
                  </a:lnTo>
                  <a:lnTo>
                    <a:pt x="104" y="839"/>
                  </a:lnTo>
                  <a:lnTo>
                    <a:pt x="89" y="819"/>
                  </a:lnTo>
                  <a:lnTo>
                    <a:pt x="76" y="798"/>
                  </a:lnTo>
                  <a:lnTo>
                    <a:pt x="62" y="775"/>
                  </a:lnTo>
                  <a:lnTo>
                    <a:pt x="51" y="753"/>
                  </a:lnTo>
                  <a:lnTo>
                    <a:pt x="40" y="730"/>
                  </a:lnTo>
                  <a:lnTo>
                    <a:pt x="31" y="705"/>
                  </a:lnTo>
                  <a:lnTo>
                    <a:pt x="23" y="681"/>
                  </a:lnTo>
                  <a:lnTo>
                    <a:pt x="16" y="657"/>
                  </a:lnTo>
                  <a:lnTo>
                    <a:pt x="10" y="631"/>
                  </a:lnTo>
                  <a:lnTo>
                    <a:pt x="6" y="605"/>
                  </a:lnTo>
                  <a:lnTo>
                    <a:pt x="2" y="579"/>
                  </a:lnTo>
                  <a:lnTo>
                    <a:pt x="0" y="552"/>
                  </a:lnTo>
                  <a:lnTo>
                    <a:pt x="0" y="525"/>
                  </a:lnTo>
                  <a:lnTo>
                    <a:pt x="0" y="498"/>
                  </a:lnTo>
                  <a:lnTo>
                    <a:pt x="2" y="471"/>
                  </a:lnTo>
                  <a:lnTo>
                    <a:pt x="6" y="445"/>
                  </a:lnTo>
                  <a:lnTo>
                    <a:pt x="10" y="419"/>
                  </a:lnTo>
                  <a:lnTo>
                    <a:pt x="16" y="394"/>
                  </a:lnTo>
                  <a:lnTo>
                    <a:pt x="23" y="369"/>
                  </a:lnTo>
                  <a:lnTo>
                    <a:pt x="31" y="344"/>
                  </a:lnTo>
                  <a:lnTo>
                    <a:pt x="40" y="321"/>
                  </a:lnTo>
                  <a:lnTo>
                    <a:pt x="51" y="298"/>
                  </a:lnTo>
                  <a:lnTo>
                    <a:pt x="62" y="275"/>
                  </a:lnTo>
                  <a:lnTo>
                    <a:pt x="76" y="253"/>
                  </a:lnTo>
                  <a:lnTo>
                    <a:pt x="89" y="232"/>
                  </a:lnTo>
                  <a:lnTo>
                    <a:pt x="104" y="211"/>
                  </a:lnTo>
                  <a:lnTo>
                    <a:pt x="119" y="191"/>
                  </a:lnTo>
                  <a:lnTo>
                    <a:pt x="136" y="172"/>
                  </a:lnTo>
                  <a:lnTo>
                    <a:pt x="153" y="153"/>
                  </a:lnTo>
                  <a:lnTo>
                    <a:pt x="171" y="136"/>
                  </a:lnTo>
                  <a:lnTo>
                    <a:pt x="190" y="120"/>
                  </a:lnTo>
                  <a:lnTo>
                    <a:pt x="211" y="105"/>
                  </a:lnTo>
                  <a:lnTo>
                    <a:pt x="231" y="89"/>
                  </a:lnTo>
                  <a:lnTo>
                    <a:pt x="252" y="76"/>
                  </a:lnTo>
                  <a:lnTo>
                    <a:pt x="275" y="63"/>
                  </a:lnTo>
                  <a:lnTo>
                    <a:pt x="297" y="52"/>
                  </a:lnTo>
                  <a:lnTo>
                    <a:pt x="321" y="42"/>
                  </a:lnTo>
                  <a:lnTo>
                    <a:pt x="344" y="32"/>
                  </a:lnTo>
                  <a:lnTo>
                    <a:pt x="368" y="24"/>
                  </a:lnTo>
                  <a:lnTo>
                    <a:pt x="394" y="16"/>
                  </a:lnTo>
                  <a:lnTo>
                    <a:pt x="419" y="10"/>
                  </a:lnTo>
                  <a:lnTo>
                    <a:pt x="444" y="6"/>
                  </a:lnTo>
                  <a:lnTo>
                    <a:pt x="471" y="3"/>
                  </a:lnTo>
                  <a:lnTo>
                    <a:pt x="498" y="1"/>
                  </a:lnTo>
                  <a:lnTo>
                    <a:pt x="525" y="0"/>
                  </a:lnTo>
                  <a:lnTo>
                    <a:pt x="552" y="1"/>
                  </a:lnTo>
                  <a:lnTo>
                    <a:pt x="579" y="3"/>
                  </a:lnTo>
                  <a:lnTo>
                    <a:pt x="605" y="6"/>
                  </a:lnTo>
                  <a:lnTo>
                    <a:pt x="630" y="10"/>
                  </a:lnTo>
                  <a:lnTo>
                    <a:pt x="656" y="16"/>
                  </a:lnTo>
                  <a:lnTo>
                    <a:pt x="681" y="24"/>
                  </a:lnTo>
                  <a:lnTo>
                    <a:pt x="706" y="32"/>
                  </a:lnTo>
                  <a:lnTo>
                    <a:pt x="730" y="42"/>
                  </a:lnTo>
                  <a:lnTo>
                    <a:pt x="752" y="52"/>
                  </a:lnTo>
                  <a:lnTo>
                    <a:pt x="776" y="63"/>
                  </a:lnTo>
                  <a:lnTo>
                    <a:pt x="797" y="76"/>
                  </a:lnTo>
                  <a:lnTo>
                    <a:pt x="818" y="89"/>
                  </a:lnTo>
                  <a:lnTo>
                    <a:pt x="840" y="105"/>
                  </a:lnTo>
                  <a:lnTo>
                    <a:pt x="859" y="120"/>
                  </a:lnTo>
                  <a:lnTo>
                    <a:pt x="878" y="136"/>
                  </a:lnTo>
                  <a:lnTo>
                    <a:pt x="897" y="153"/>
                  </a:lnTo>
                  <a:lnTo>
                    <a:pt x="914" y="172"/>
                  </a:lnTo>
                  <a:lnTo>
                    <a:pt x="930" y="191"/>
                  </a:lnTo>
                  <a:lnTo>
                    <a:pt x="946" y="211"/>
                  </a:lnTo>
                  <a:lnTo>
                    <a:pt x="961" y="232"/>
                  </a:lnTo>
                  <a:lnTo>
                    <a:pt x="975" y="253"/>
                  </a:lnTo>
                  <a:lnTo>
                    <a:pt x="987" y="275"/>
                  </a:lnTo>
                  <a:lnTo>
                    <a:pt x="998" y="298"/>
                  </a:lnTo>
                  <a:lnTo>
                    <a:pt x="1009" y="321"/>
                  </a:lnTo>
                  <a:lnTo>
                    <a:pt x="1018" y="344"/>
                  </a:lnTo>
                  <a:lnTo>
                    <a:pt x="1027" y="369"/>
                  </a:lnTo>
                  <a:lnTo>
                    <a:pt x="1034" y="394"/>
                  </a:lnTo>
                  <a:lnTo>
                    <a:pt x="1040" y="419"/>
                  </a:lnTo>
                  <a:lnTo>
                    <a:pt x="1045" y="445"/>
                  </a:lnTo>
                  <a:lnTo>
                    <a:pt x="1048" y="471"/>
                  </a:lnTo>
                  <a:lnTo>
                    <a:pt x="1050" y="498"/>
                  </a:lnTo>
                  <a:lnTo>
                    <a:pt x="1051" y="5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921440" y="6075720"/>
              <a:ext cx="55800" cy="55800"/>
            </a:xfrm>
            <a:custGeom>
              <a:avLst/>
              <a:gdLst/>
              <a:ahLst/>
              <a:rect l="l" t="t" r="r" b="b"/>
              <a:pathLst>
                <a:path w="568" h="567">
                  <a:moveTo>
                    <a:pt x="0" y="567"/>
                  </a:moveTo>
                  <a:lnTo>
                    <a:pt x="0" y="567"/>
                  </a:lnTo>
                  <a:lnTo>
                    <a:pt x="29" y="566"/>
                  </a:lnTo>
                  <a:lnTo>
                    <a:pt x="58" y="564"/>
                  </a:lnTo>
                  <a:lnTo>
                    <a:pt x="86" y="561"/>
                  </a:lnTo>
                  <a:lnTo>
                    <a:pt x="115" y="556"/>
                  </a:lnTo>
                  <a:lnTo>
                    <a:pt x="142" y="550"/>
                  </a:lnTo>
                  <a:lnTo>
                    <a:pt x="168" y="542"/>
                  </a:lnTo>
                  <a:lnTo>
                    <a:pt x="195" y="533"/>
                  </a:lnTo>
                  <a:lnTo>
                    <a:pt x="221" y="522"/>
                  </a:lnTo>
                  <a:lnTo>
                    <a:pt x="246" y="511"/>
                  </a:lnTo>
                  <a:lnTo>
                    <a:pt x="270" y="499"/>
                  </a:lnTo>
                  <a:lnTo>
                    <a:pt x="294" y="485"/>
                  </a:lnTo>
                  <a:lnTo>
                    <a:pt x="318" y="471"/>
                  </a:lnTo>
                  <a:lnTo>
                    <a:pt x="339" y="454"/>
                  </a:lnTo>
                  <a:lnTo>
                    <a:pt x="360" y="437"/>
                  </a:lnTo>
                  <a:lnTo>
                    <a:pt x="382" y="420"/>
                  </a:lnTo>
                  <a:lnTo>
                    <a:pt x="401" y="401"/>
                  </a:lnTo>
                  <a:lnTo>
                    <a:pt x="420" y="381"/>
                  </a:lnTo>
                  <a:lnTo>
                    <a:pt x="438" y="361"/>
                  </a:lnTo>
                  <a:lnTo>
                    <a:pt x="455" y="340"/>
                  </a:lnTo>
                  <a:lnTo>
                    <a:pt x="470" y="317"/>
                  </a:lnTo>
                  <a:lnTo>
                    <a:pt x="485" y="294"/>
                  </a:lnTo>
                  <a:lnTo>
                    <a:pt x="499" y="271"/>
                  </a:lnTo>
                  <a:lnTo>
                    <a:pt x="512" y="246"/>
                  </a:lnTo>
                  <a:lnTo>
                    <a:pt x="523" y="221"/>
                  </a:lnTo>
                  <a:lnTo>
                    <a:pt x="533" y="195"/>
                  </a:lnTo>
                  <a:lnTo>
                    <a:pt x="542" y="168"/>
                  </a:lnTo>
                  <a:lnTo>
                    <a:pt x="549" y="142"/>
                  </a:lnTo>
                  <a:lnTo>
                    <a:pt x="555" y="115"/>
                  </a:lnTo>
                  <a:lnTo>
                    <a:pt x="560" y="86"/>
                  </a:lnTo>
                  <a:lnTo>
                    <a:pt x="565" y="58"/>
                  </a:lnTo>
                  <a:lnTo>
                    <a:pt x="567" y="29"/>
                  </a:lnTo>
                  <a:lnTo>
                    <a:pt x="568" y="0"/>
                  </a:lnTo>
                  <a:lnTo>
                    <a:pt x="483" y="0"/>
                  </a:lnTo>
                  <a:lnTo>
                    <a:pt x="483" y="25"/>
                  </a:lnTo>
                  <a:lnTo>
                    <a:pt x="481" y="50"/>
                  </a:lnTo>
                  <a:lnTo>
                    <a:pt x="478" y="74"/>
                  </a:lnTo>
                  <a:lnTo>
                    <a:pt x="474" y="97"/>
                  </a:lnTo>
                  <a:lnTo>
                    <a:pt x="468" y="121"/>
                  </a:lnTo>
                  <a:lnTo>
                    <a:pt x="462" y="144"/>
                  </a:lnTo>
                  <a:lnTo>
                    <a:pt x="454" y="166"/>
                  </a:lnTo>
                  <a:lnTo>
                    <a:pt x="446" y="189"/>
                  </a:lnTo>
                  <a:lnTo>
                    <a:pt x="436" y="210"/>
                  </a:lnTo>
                  <a:lnTo>
                    <a:pt x="425" y="230"/>
                  </a:lnTo>
                  <a:lnTo>
                    <a:pt x="413" y="250"/>
                  </a:lnTo>
                  <a:lnTo>
                    <a:pt x="401" y="270"/>
                  </a:lnTo>
                  <a:lnTo>
                    <a:pt x="388" y="289"/>
                  </a:lnTo>
                  <a:lnTo>
                    <a:pt x="374" y="307"/>
                  </a:lnTo>
                  <a:lnTo>
                    <a:pt x="358" y="325"/>
                  </a:lnTo>
                  <a:lnTo>
                    <a:pt x="342" y="342"/>
                  </a:lnTo>
                  <a:lnTo>
                    <a:pt x="325" y="358"/>
                  </a:lnTo>
                  <a:lnTo>
                    <a:pt x="308" y="373"/>
                  </a:lnTo>
                  <a:lnTo>
                    <a:pt x="289" y="387"/>
                  </a:lnTo>
                  <a:lnTo>
                    <a:pt x="270" y="401"/>
                  </a:lnTo>
                  <a:lnTo>
                    <a:pt x="251" y="414"/>
                  </a:lnTo>
                  <a:lnTo>
                    <a:pt x="230" y="425"/>
                  </a:lnTo>
                  <a:lnTo>
                    <a:pt x="209" y="435"/>
                  </a:lnTo>
                  <a:lnTo>
                    <a:pt x="189" y="445"/>
                  </a:lnTo>
                  <a:lnTo>
                    <a:pt x="166" y="454"/>
                  </a:lnTo>
                  <a:lnTo>
                    <a:pt x="144" y="462"/>
                  </a:lnTo>
                  <a:lnTo>
                    <a:pt x="121" y="468"/>
                  </a:lnTo>
                  <a:lnTo>
                    <a:pt x="97" y="474"/>
                  </a:lnTo>
                  <a:lnTo>
                    <a:pt x="74" y="478"/>
                  </a:lnTo>
                  <a:lnTo>
                    <a:pt x="49" y="481"/>
                  </a:lnTo>
                  <a:lnTo>
                    <a:pt x="25" y="483"/>
                  </a:lnTo>
                  <a:lnTo>
                    <a:pt x="0" y="483"/>
                  </a:lnTo>
                  <a:lnTo>
                    <a:pt x="0" y="483"/>
                  </a:lnTo>
                  <a:lnTo>
                    <a:pt x="0" y="567"/>
                  </a:lnTo>
                  <a:lnTo>
                    <a:pt x="0" y="567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7867080" y="6075720"/>
              <a:ext cx="54360" cy="55800"/>
            </a:xfrm>
            <a:custGeom>
              <a:avLst/>
              <a:gdLst/>
              <a:ahLst/>
              <a:rect l="l" t="t" r="r" b="b"/>
              <a:pathLst>
                <a:path w="568" h="567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8"/>
                  </a:lnTo>
                  <a:lnTo>
                    <a:pt x="7" y="86"/>
                  </a:lnTo>
                  <a:lnTo>
                    <a:pt x="12" y="115"/>
                  </a:lnTo>
                  <a:lnTo>
                    <a:pt x="18" y="142"/>
                  </a:lnTo>
                  <a:lnTo>
                    <a:pt x="26" y="168"/>
                  </a:lnTo>
                  <a:lnTo>
                    <a:pt x="34" y="195"/>
                  </a:lnTo>
                  <a:lnTo>
                    <a:pt x="45" y="221"/>
                  </a:lnTo>
                  <a:lnTo>
                    <a:pt x="57" y="246"/>
                  </a:lnTo>
                  <a:lnTo>
                    <a:pt x="69" y="271"/>
                  </a:lnTo>
                  <a:lnTo>
                    <a:pt x="82" y="294"/>
                  </a:lnTo>
                  <a:lnTo>
                    <a:pt x="97" y="317"/>
                  </a:lnTo>
                  <a:lnTo>
                    <a:pt x="113" y="340"/>
                  </a:lnTo>
                  <a:lnTo>
                    <a:pt x="130" y="361"/>
                  </a:lnTo>
                  <a:lnTo>
                    <a:pt x="148" y="381"/>
                  </a:lnTo>
                  <a:lnTo>
                    <a:pt x="166" y="401"/>
                  </a:lnTo>
                  <a:lnTo>
                    <a:pt x="186" y="420"/>
                  </a:lnTo>
                  <a:lnTo>
                    <a:pt x="207" y="437"/>
                  </a:lnTo>
                  <a:lnTo>
                    <a:pt x="228" y="454"/>
                  </a:lnTo>
                  <a:lnTo>
                    <a:pt x="251" y="471"/>
                  </a:lnTo>
                  <a:lnTo>
                    <a:pt x="273" y="485"/>
                  </a:lnTo>
                  <a:lnTo>
                    <a:pt x="297" y="499"/>
                  </a:lnTo>
                  <a:lnTo>
                    <a:pt x="322" y="511"/>
                  </a:lnTo>
                  <a:lnTo>
                    <a:pt x="347" y="522"/>
                  </a:lnTo>
                  <a:lnTo>
                    <a:pt x="373" y="533"/>
                  </a:lnTo>
                  <a:lnTo>
                    <a:pt x="399" y="542"/>
                  </a:lnTo>
                  <a:lnTo>
                    <a:pt x="427" y="550"/>
                  </a:lnTo>
                  <a:lnTo>
                    <a:pt x="454" y="556"/>
                  </a:lnTo>
                  <a:lnTo>
                    <a:pt x="481" y="561"/>
                  </a:lnTo>
                  <a:lnTo>
                    <a:pt x="510" y="564"/>
                  </a:lnTo>
                  <a:lnTo>
                    <a:pt x="539" y="566"/>
                  </a:lnTo>
                  <a:lnTo>
                    <a:pt x="568" y="567"/>
                  </a:lnTo>
                  <a:lnTo>
                    <a:pt x="568" y="483"/>
                  </a:lnTo>
                  <a:lnTo>
                    <a:pt x="542" y="483"/>
                  </a:lnTo>
                  <a:lnTo>
                    <a:pt x="518" y="481"/>
                  </a:lnTo>
                  <a:lnTo>
                    <a:pt x="494" y="478"/>
                  </a:lnTo>
                  <a:lnTo>
                    <a:pt x="470" y="474"/>
                  </a:lnTo>
                  <a:lnTo>
                    <a:pt x="447" y="468"/>
                  </a:lnTo>
                  <a:lnTo>
                    <a:pt x="424" y="462"/>
                  </a:lnTo>
                  <a:lnTo>
                    <a:pt x="401" y="454"/>
                  </a:lnTo>
                  <a:lnTo>
                    <a:pt x="380" y="445"/>
                  </a:lnTo>
                  <a:lnTo>
                    <a:pt x="358" y="435"/>
                  </a:lnTo>
                  <a:lnTo>
                    <a:pt x="337" y="425"/>
                  </a:lnTo>
                  <a:lnTo>
                    <a:pt x="317" y="414"/>
                  </a:lnTo>
                  <a:lnTo>
                    <a:pt x="297" y="401"/>
                  </a:lnTo>
                  <a:lnTo>
                    <a:pt x="278" y="387"/>
                  </a:lnTo>
                  <a:lnTo>
                    <a:pt x="260" y="373"/>
                  </a:lnTo>
                  <a:lnTo>
                    <a:pt x="243" y="358"/>
                  </a:lnTo>
                  <a:lnTo>
                    <a:pt x="226" y="342"/>
                  </a:lnTo>
                  <a:lnTo>
                    <a:pt x="210" y="325"/>
                  </a:lnTo>
                  <a:lnTo>
                    <a:pt x="195" y="307"/>
                  </a:lnTo>
                  <a:lnTo>
                    <a:pt x="181" y="289"/>
                  </a:lnTo>
                  <a:lnTo>
                    <a:pt x="166" y="270"/>
                  </a:lnTo>
                  <a:lnTo>
                    <a:pt x="154" y="250"/>
                  </a:lnTo>
                  <a:lnTo>
                    <a:pt x="143" y="230"/>
                  </a:lnTo>
                  <a:lnTo>
                    <a:pt x="132" y="210"/>
                  </a:lnTo>
                  <a:lnTo>
                    <a:pt x="122" y="189"/>
                  </a:lnTo>
                  <a:lnTo>
                    <a:pt x="114" y="166"/>
                  </a:lnTo>
                  <a:lnTo>
                    <a:pt x="105" y="144"/>
                  </a:lnTo>
                  <a:lnTo>
                    <a:pt x="99" y="121"/>
                  </a:lnTo>
                  <a:lnTo>
                    <a:pt x="94" y="97"/>
                  </a:lnTo>
                  <a:lnTo>
                    <a:pt x="90" y="74"/>
                  </a:lnTo>
                  <a:lnTo>
                    <a:pt x="87" y="50"/>
                  </a:lnTo>
                  <a:lnTo>
                    <a:pt x="85" y="2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7867080" y="6021000"/>
              <a:ext cx="54360" cy="54720"/>
            </a:xfrm>
            <a:custGeom>
              <a:avLst/>
              <a:gdLst/>
              <a:ahLst/>
              <a:rect l="l" t="t" r="r" b="b"/>
              <a:pathLst>
                <a:path w="568" h="567">
                  <a:moveTo>
                    <a:pt x="568" y="0"/>
                  </a:moveTo>
                  <a:lnTo>
                    <a:pt x="568" y="0"/>
                  </a:lnTo>
                  <a:lnTo>
                    <a:pt x="538" y="1"/>
                  </a:lnTo>
                  <a:lnTo>
                    <a:pt x="510" y="4"/>
                  </a:lnTo>
                  <a:lnTo>
                    <a:pt x="481" y="7"/>
                  </a:lnTo>
                  <a:lnTo>
                    <a:pt x="454" y="12"/>
                  </a:lnTo>
                  <a:lnTo>
                    <a:pt x="427" y="18"/>
                  </a:lnTo>
                  <a:lnTo>
                    <a:pt x="399" y="26"/>
                  </a:lnTo>
                  <a:lnTo>
                    <a:pt x="373" y="35"/>
                  </a:lnTo>
                  <a:lnTo>
                    <a:pt x="347" y="45"/>
                  </a:lnTo>
                  <a:lnTo>
                    <a:pt x="322" y="56"/>
                  </a:lnTo>
                  <a:lnTo>
                    <a:pt x="297" y="69"/>
                  </a:lnTo>
                  <a:lnTo>
                    <a:pt x="273" y="83"/>
                  </a:lnTo>
                  <a:lnTo>
                    <a:pt x="251" y="97"/>
                  </a:lnTo>
                  <a:lnTo>
                    <a:pt x="228" y="113"/>
                  </a:lnTo>
                  <a:lnTo>
                    <a:pt x="207" y="129"/>
                  </a:lnTo>
                  <a:lnTo>
                    <a:pt x="186" y="148"/>
                  </a:lnTo>
                  <a:lnTo>
                    <a:pt x="166" y="166"/>
                  </a:lnTo>
                  <a:lnTo>
                    <a:pt x="148" y="186"/>
                  </a:lnTo>
                  <a:lnTo>
                    <a:pt x="130" y="207"/>
                  </a:lnTo>
                  <a:lnTo>
                    <a:pt x="113" y="228"/>
                  </a:lnTo>
                  <a:lnTo>
                    <a:pt x="97" y="250"/>
                  </a:lnTo>
                  <a:lnTo>
                    <a:pt x="82" y="274"/>
                  </a:lnTo>
                  <a:lnTo>
                    <a:pt x="69" y="297"/>
                  </a:lnTo>
                  <a:lnTo>
                    <a:pt x="57" y="321"/>
                  </a:lnTo>
                  <a:lnTo>
                    <a:pt x="45" y="347"/>
                  </a:lnTo>
                  <a:lnTo>
                    <a:pt x="34" y="372"/>
                  </a:lnTo>
                  <a:lnTo>
                    <a:pt x="26" y="398"/>
                  </a:lnTo>
                  <a:lnTo>
                    <a:pt x="18" y="426"/>
                  </a:lnTo>
                  <a:lnTo>
                    <a:pt x="12" y="453"/>
                  </a:lnTo>
                  <a:lnTo>
                    <a:pt x="7" y="481"/>
                  </a:lnTo>
                  <a:lnTo>
                    <a:pt x="3" y="509"/>
                  </a:lnTo>
                  <a:lnTo>
                    <a:pt x="1" y="538"/>
                  </a:lnTo>
                  <a:lnTo>
                    <a:pt x="0" y="567"/>
                  </a:lnTo>
                  <a:lnTo>
                    <a:pt x="84" y="567"/>
                  </a:lnTo>
                  <a:lnTo>
                    <a:pt x="85" y="542"/>
                  </a:lnTo>
                  <a:lnTo>
                    <a:pt x="87" y="517"/>
                  </a:lnTo>
                  <a:lnTo>
                    <a:pt x="90" y="494"/>
                  </a:lnTo>
                  <a:lnTo>
                    <a:pt x="94" y="469"/>
                  </a:lnTo>
                  <a:lnTo>
                    <a:pt x="99" y="446"/>
                  </a:lnTo>
                  <a:lnTo>
                    <a:pt x="105" y="424"/>
                  </a:lnTo>
                  <a:lnTo>
                    <a:pt x="114" y="401"/>
                  </a:lnTo>
                  <a:lnTo>
                    <a:pt x="122" y="379"/>
                  </a:lnTo>
                  <a:lnTo>
                    <a:pt x="132" y="358"/>
                  </a:lnTo>
                  <a:lnTo>
                    <a:pt x="143" y="336"/>
                  </a:lnTo>
                  <a:lnTo>
                    <a:pt x="154" y="316"/>
                  </a:lnTo>
                  <a:lnTo>
                    <a:pt x="166" y="297"/>
                  </a:lnTo>
                  <a:lnTo>
                    <a:pt x="181" y="278"/>
                  </a:lnTo>
                  <a:lnTo>
                    <a:pt x="195" y="259"/>
                  </a:lnTo>
                  <a:lnTo>
                    <a:pt x="210" y="242"/>
                  </a:lnTo>
                  <a:lnTo>
                    <a:pt x="226" y="226"/>
                  </a:lnTo>
                  <a:lnTo>
                    <a:pt x="243" y="210"/>
                  </a:lnTo>
                  <a:lnTo>
                    <a:pt x="260" y="194"/>
                  </a:lnTo>
                  <a:lnTo>
                    <a:pt x="278" y="180"/>
                  </a:lnTo>
                  <a:lnTo>
                    <a:pt x="297" y="167"/>
                  </a:lnTo>
                  <a:lnTo>
                    <a:pt x="317" y="154"/>
                  </a:lnTo>
                  <a:lnTo>
                    <a:pt x="337" y="143"/>
                  </a:lnTo>
                  <a:lnTo>
                    <a:pt x="358" y="131"/>
                  </a:lnTo>
                  <a:lnTo>
                    <a:pt x="380" y="122"/>
                  </a:lnTo>
                  <a:lnTo>
                    <a:pt x="401" y="113"/>
                  </a:lnTo>
                  <a:lnTo>
                    <a:pt x="424" y="106"/>
                  </a:lnTo>
                  <a:lnTo>
                    <a:pt x="447" y="99"/>
                  </a:lnTo>
                  <a:lnTo>
                    <a:pt x="470" y="94"/>
                  </a:lnTo>
                  <a:lnTo>
                    <a:pt x="494" y="90"/>
                  </a:lnTo>
                  <a:lnTo>
                    <a:pt x="518" y="87"/>
                  </a:lnTo>
                  <a:lnTo>
                    <a:pt x="543" y="85"/>
                  </a:lnTo>
                  <a:lnTo>
                    <a:pt x="568" y="84"/>
                  </a:lnTo>
                  <a:lnTo>
                    <a:pt x="568" y="84"/>
                  </a:lnTo>
                  <a:lnTo>
                    <a:pt x="568" y="0"/>
                  </a:lnTo>
                  <a:lnTo>
                    <a:pt x="568" y="0"/>
                  </a:lnTo>
                  <a:lnTo>
                    <a:pt x="568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7921440" y="6021000"/>
              <a:ext cx="55800" cy="54720"/>
            </a:xfrm>
            <a:custGeom>
              <a:avLst/>
              <a:gdLst/>
              <a:ahLst/>
              <a:rect l="l" t="t" r="r" b="b"/>
              <a:pathLst>
                <a:path w="568" h="567">
                  <a:moveTo>
                    <a:pt x="568" y="567"/>
                  </a:moveTo>
                  <a:lnTo>
                    <a:pt x="568" y="567"/>
                  </a:lnTo>
                  <a:lnTo>
                    <a:pt x="567" y="538"/>
                  </a:lnTo>
                  <a:lnTo>
                    <a:pt x="565" y="509"/>
                  </a:lnTo>
                  <a:lnTo>
                    <a:pt x="560" y="481"/>
                  </a:lnTo>
                  <a:lnTo>
                    <a:pt x="555" y="453"/>
                  </a:lnTo>
                  <a:lnTo>
                    <a:pt x="549" y="426"/>
                  </a:lnTo>
                  <a:lnTo>
                    <a:pt x="542" y="398"/>
                  </a:lnTo>
                  <a:lnTo>
                    <a:pt x="533" y="372"/>
                  </a:lnTo>
                  <a:lnTo>
                    <a:pt x="523" y="347"/>
                  </a:lnTo>
                  <a:lnTo>
                    <a:pt x="512" y="321"/>
                  </a:lnTo>
                  <a:lnTo>
                    <a:pt x="499" y="297"/>
                  </a:lnTo>
                  <a:lnTo>
                    <a:pt x="485" y="274"/>
                  </a:lnTo>
                  <a:lnTo>
                    <a:pt x="470" y="250"/>
                  </a:lnTo>
                  <a:lnTo>
                    <a:pt x="455" y="228"/>
                  </a:lnTo>
                  <a:lnTo>
                    <a:pt x="438" y="207"/>
                  </a:lnTo>
                  <a:lnTo>
                    <a:pt x="420" y="186"/>
                  </a:lnTo>
                  <a:lnTo>
                    <a:pt x="401" y="166"/>
                  </a:lnTo>
                  <a:lnTo>
                    <a:pt x="382" y="148"/>
                  </a:lnTo>
                  <a:lnTo>
                    <a:pt x="360" y="129"/>
                  </a:lnTo>
                  <a:lnTo>
                    <a:pt x="339" y="113"/>
                  </a:lnTo>
                  <a:lnTo>
                    <a:pt x="318" y="97"/>
                  </a:lnTo>
                  <a:lnTo>
                    <a:pt x="294" y="83"/>
                  </a:lnTo>
                  <a:lnTo>
                    <a:pt x="270" y="69"/>
                  </a:lnTo>
                  <a:lnTo>
                    <a:pt x="246" y="56"/>
                  </a:lnTo>
                  <a:lnTo>
                    <a:pt x="221" y="45"/>
                  </a:lnTo>
                  <a:lnTo>
                    <a:pt x="195" y="35"/>
                  </a:lnTo>
                  <a:lnTo>
                    <a:pt x="168" y="26"/>
                  </a:lnTo>
                  <a:lnTo>
                    <a:pt x="142" y="18"/>
                  </a:lnTo>
                  <a:lnTo>
                    <a:pt x="115" y="12"/>
                  </a:lnTo>
                  <a:lnTo>
                    <a:pt x="86" y="7"/>
                  </a:lnTo>
                  <a:lnTo>
                    <a:pt x="58" y="4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25" y="85"/>
                  </a:lnTo>
                  <a:lnTo>
                    <a:pt x="49" y="87"/>
                  </a:lnTo>
                  <a:lnTo>
                    <a:pt x="74" y="90"/>
                  </a:lnTo>
                  <a:lnTo>
                    <a:pt x="97" y="94"/>
                  </a:lnTo>
                  <a:lnTo>
                    <a:pt x="121" y="99"/>
                  </a:lnTo>
                  <a:lnTo>
                    <a:pt x="144" y="106"/>
                  </a:lnTo>
                  <a:lnTo>
                    <a:pt x="166" y="113"/>
                  </a:lnTo>
                  <a:lnTo>
                    <a:pt x="189" y="122"/>
                  </a:lnTo>
                  <a:lnTo>
                    <a:pt x="209" y="131"/>
                  </a:lnTo>
                  <a:lnTo>
                    <a:pt x="230" y="143"/>
                  </a:lnTo>
                  <a:lnTo>
                    <a:pt x="251" y="154"/>
                  </a:lnTo>
                  <a:lnTo>
                    <a:pt x="270" y="167"/>
                  </a:lnTo>
                  <a:lnTo>
                    <a:pt x="289" y="180"/>
                  </a:lnTo>
                  <a:lnTo>
                    <a:pt x="308" y="194"/>
                  </a:lnTo>
                  <a:lnTo>
                    <a:pt x="325" y="210"/>
                  </a:lnTo>
                  <a:lnTo>
                    <a:pt x="342" y="226"/>
                  </a:lnTo>
                  <a:lnTo>
                    <a:pt x="358" y="242"/>
                  </a:lnTo>
                  <a:lnTo>
                    <a:pt x="374" y="259"/>
                  </a:lnTo>
                  <a:lnTo>
                    <a:pt x="388" y="278"/>
                  </a:lnTo>
                  <a:lnTo>
                    <a:pt x="401" y="297"/>
                  </a:lnTo>
                  <a:lnTo>
                    <a:pt x="413" y="316"/>
                  </a:lnTo>
                  <a:lnTo>
                    <a:pt x="425" y="336"/>
                  </a:lnTo>
                  <a:lnTo>
                    <a:pt x="436" y="358"/>
                  </a:lnTo>
                  <a:lnTo>
                    <a:pt x="446" y="379"/>
                  </a:lnTo>
                  <a:lnTo>
                    <a:pt x="454" y="400"/>
                  </a:lnTo>
                  <a:lnTo>
                    <a:pt x="462" y="424"/>
                  </a:lnTo>
                  <a:lnTo>
                    <a:pt x="468" y="446"/>
                  </a:lnTo>
                  <a:lnTo>
                    <a:pt x="474" y="469"/>
                  </a:lnTo>
                  <a:lnTo>
                    <a:pt x="478" y="494"/>
                  </a:lnTo>
                  <a:lnTo>
                    <a:pt x="481" y="517"/>
                  </a:lnTo>
                  <a:lnTo>
                    <a:pt x="483" y="542"/>
                  </a:lnTo>
                  <a:lnTo>
                    <a:pt x="483" y="567"/>
                  </a:lnTo>
                  <a:lnTo>
                    <a:pt x="483" y="567"/>
                  </a:lnTo>
                  <a:lnTo>
                    <a:pt x="568" y="567"/>
                  </a:lnTo>
                  <a:lnTo>
                    <a:pt x="568" y="567"/>
                  </a:lnTo>
                  <a:lnTo>
                    <a:pt x="568" y="56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553160" y="6302520"/>
              <a:ext cx="126720" cy="84240"/>
            </a:xfrm>
            <a:custGeom>
              <a:avLst/>
              <a:gdLst/>
              <a:ahLst/>
              <a:rect l="l" t="t" r="r" b="b"/>
              <a:pathLst>
                <a:path w="1304" h="877">
                  <a:moveTo>
                    <a:pt x="1265" y="473"/>
                  </a:moveTo>
                  <a:lnTo>
                    <a:pt x="1253" y="496"/>
                  </a:lnTo>
                  <a:lnTo>
                    <a:pt x="1240" y="518"/>
                  </a:lnTo>
                  <a:lnTo>
                    <a:pt x="1225" y="539"/>
                  </a:lnTo>
                  <a:lnTo>
                    <a:pt x="1208" y="561"/>
                  </a:lnTo>
                  <a:lnTo>
                    <a:pt x="1191" y="581"/>
                  </a:lnTo>
                  <a:lnTo>
                    <a:pt x="1173" y="601"/>
                  </a:lnTo>
                  <a:lnTo>
                    <a:pt x="1152" y="622"/>
                  </a:lnTo>
                  <a:lnTo>
                    <a:pt x="1132" y="641"/>
                  </a:lnTo>
                  <a:lnTo>
                    <a:pt x="1110" y="659"/>
                  </a:lnTo>
                  <a:lnTo>
                    <a:pt x="1086" y="677"/>
                  </a:lnTo>
                  <a:lnTo>
                    <a:pt x="1063" y="695"/>
                  </a:lnTo>
                  <a:lnTo>
                    <a:pt x="1038" y="712"/>
                  </a:lnTo>
                  <a:lnTo>
                    <a:pt x="1012" y="728"/>
                  </a:lnTo>
                  <a:lnTo>
                    <a:pt x="986" y="743"/>
                  </a:lnTo>
                  <a:lnTo>
                    <a:pt x="958" y="759"/>
                  </a:lnTo>
                  <a:lnTo>
                    <a:pt x="931" y="772"/>
                  </a:lnTo>
                  <a:lnTo>
                    <a:pt x="903" y="786"/>
                  </a:lnTo>
                  <a:lnTo>
                    <a:pt x="873" y="798"/>
                  </a:lnTo>
                  <a:lnTo>
                    <a:pt x="844" y="809"/>
                  </a:lnTo>
                  <a:lnTo>
                    <a:pt x="813" y="821"/>
                  </a:lnTo>
                  <a:lnTo>
                    <a:pt x="783" y="831"/>
                  </a:lnTo>
                  <a:lnTo>
                    <a:pt x="751" y="840"/>
                  </a:lnTo>
                  <a:lnTo>
                    <a:pt x="721" y="848"/>
                  </a:lnTo>
                  <a:lnTo>
                    <a:pt x="689" y="855"/>
                  </a:lnTo>
                  <a:lnTo>
                    <a:pt x="657" y="861"/>
                  </a:lnTo>
                  <a:lnTo>
                    <a:pt x="625" y="866"/>
                  </a:lnTo>
                  <a:lnTo>
                    <a:pt x="593" y="870"/>
                  </a:lnTo>
                  <a:lnTo>
                    <a:pt x="561" y="874"/>
                  </a:lnTo>
                  <a:lnTo>
                    <a:pt x="529" y="876"/>
                  </a:lnTo>
                  <a:lnTo>
                    <a:pt x="497" y="877"/>
                  </a:lnTo>
                  <a:lnTo>
                    <a:pt x="465" y="877"/>
                  </a:lnTo>
                  <a:lnTo>
                    <a:pt x="433" y="875"/>
                  </a:lnTo>
                  <a:lnTo>
                    <a:pt x="402" y="873"/>
                  </a:lnTo>
                  <a:lnTo>
                    <a:pt x="371" y="870"/>
                  </a:lnTo>
                  <a:lnTo>
                    <a:pt x="342" y="865"/>
                  </a:lnTo>
                  <a:lnTo>
                    <a:pt x="313" y="860"/>
                  </a:lnTo>
                  <a:lnTo>
                    <a:pt x="287" y="853"/>
                  </a:lnTo>
                  <a:lnTo>
                    <a:pt x="261" y="846"/>
                  </a:lnTo>
                  <a:lnTo>
                    <a:pt x="235" y="837"/>
                  </a:lnTo>
                  <a:lnTo>
                    <a:pt x="212" y="828"/>
                  </a:lnTo>
                  <a:lnTo>
                    <a:pt x="188" y="818"/>
                  </a:lnTo>
                  <a:lnTo>
                    <a:pt x="167" y="806"/>
                  </a:lnTo>
                  <a:lnTo>
                    <a:pt x="147" y="794"/>
                  </a:lnTo>
                  <a:lnTo>
                    <a:pt x="127" y="781"/>
                  </a:lnTo>
                  <a:lnTo>
                    <a:pt x="110" y="768"/>
                  </a:lnTo>
                  <a:lnTo>
                    <a:pt x="93" y="754"/>
                  </a:lnTo>
                  <a:lnTo>
                    <a:pt x="78" y="738"/>
                  </a:lnTo>
                  <a:lnTo>
                    <a:pt x="63" y="723"/>
                  </a:lnTo>
                  <a:lnTo>
                    <a:pt x="51" y="707"/>
                  </a:lnTo>
                  <a:lnTo>
                    <a:pt x="40" y="690"/>
                  </a:lnTo>
                  <a:lnTo>
                    <a:pt x="30" y="672"/>
                  </a:lnTo>
                  <a:lnTo>
                    <a:pt x="21" y="654"/>
                  </a:lnTo>
                  <a:lnTo>
                    <a:pt x="14" y="635"/>
                  </a:lnTo>
                  <a:lnTo>
                    <a:pt x="9" y="616"/>
                  </a:lnTo>
                  <a:lnTo>
                    <a:pt x="5" y="596"/>
                  </a:lnTo>
                  <a:lnTo>
                    <a:pt x="1" y="576"/>
                  </a:lnTo>
                  <a:lnTo>
                    <a:pt x="0" y="556"/>
                  </a:lnTo>
                  <a:lnTo>
                    <a:pt x="1" y="535"/>
                  </a:lnTo>
                  <a:lnTo>
                    <a:pt x="4" y="514"/>
                  </a:lnTo>
                  <a:lnTo>
                    <a:pt x="8" y="492"/>
                  </a:lnTo>
                  <a:lnTo>
                    <a:pt x="13" y="470"/>
                  </a:lnTo>
                  <a:lnTo>
                    <a:pt x="20" y="448"/>
                  </a:lnTo>
                  <a:lnTo>
                    <a:pt x="28" y="426"/>
                  </a:lnTo>
                  <a:lnTo>
                    <a:pt x="39" y="403"/>
                  </a:lnTo>
                  <a:lnTo>
                    <a:pt x="51" y="381"/>
                  </a:lnTo>
                  <a:lnTo>
                    <a:pt x="64" y="359"/>
                  </a:lnTo>
                  <a:lnTo>
                    <a:pt x="79" y="337"/>
                  </a:lnTo>
                  <a:lnTo>
                    <a:pt x="95" y="316"/>
                  </a:lnTo>
                  <a:lnTo>
                    <a:pt x="113" y="295"/>
                  </a:lnTo>
                  <a:lnTo>
                    <a:pt x="132" y="275"/>
                  </a:lnTo>
                  <a:lnTo>
                    <a:pt x="151" y="255"/>
                  </a:lnTo>
                  <a:lnTo>
                    <a:pt x="172" y="236"/>
                  </a:lnTo>
                  <a:lnTo>
                    <a:pt x="195" y="217"/>
                  </a:lnTo>
                  <a:lnTo>
                    <a:pt x="217" y="198"/>
                  </a:lnTo>
                  <a:lnTo>
                    <a:pt x="241" y="181"/>
                  </a:lnTo>
                  <a:lnTo>
                    <a:pt x="266" y="165"/>
                  </a:lnTo>
                  <a:lnTo>
                    <a:pt x="292" y="149"/>
                  </a:lnTo>
                  <a:lnTo>
                    <a:pt x="318" y="133"/>
                  </a:lnTo>
                  <a:lnTo>
                    <a:pt x="346" y="118"/>
                  </a:lnTo>
                  <a:lnTo>
                    <a:pt x="373" y="104"/>
                  </a:lnTo>
                  <a:lnTo>
                    <a:pt x="402" y="91"/>
                  </a:lnTo>
                  <a:lnTo>
                    <a:pt x="431" y="79"/>
                  </a:lnTo>
                  <a:lnTo>
                    <a:pt x="461" y="67"/>
                  </a:lnTo>
                  <a:lnTo>
                    <a:pt x="491" y="55"/>
                  </a:lnTo>
                  <a:lnTo>
                    <a:pt x="522" y="46"/>
                  </a:lnTo>
                  <a:lnTo>
                    <a:pt x="552" y="37"/>
                  </a:lnTo>
                  <a:lnTo>
                    <a:pt x="584" y="29"/>
                  </a:lnTo>
                  <a:lnTo>
                    <a:pt x="615" y="22"/>
                  </a:lnTo>
                  <a:lnTo>
                    <a:pt x="647" y="15"/>
                  </a:lnTo>
                  <a:lnTo>
                    <a:pt x="679" y="10"/>
                  </a:lnTo>
                  <a:lnTo>
                    <a:pt x="711" y="6"/>
                  </a:lnTo>
                  <a:lnTo>
                    <a:pt x="743" y="3"/>
                  </a:lnTo>
                  <a:lnTo>
                    <a:pt x="776" y="1"/>
                  </a:lnTo>
                  <a:lnTo>
                    <a:pt x="807" y="0"/>
                  </a:lnTo>
                  <a:lnTo>
                    <a:pt x="840" y="0"/>
                  </a:lnTo>
                  <a:lnTo>
                    <a:pt x="871" y="1"/>
                  </a:lnTo>
                  <a:lnTo>
                    <a:pt x="903" y="3"/>
                  </a:lnTo>
                  <a:lnTo>
                    <a:pt x="933" y="7"/>
                  </a:lnTo>
                  <a:lnTo>
                    <a:pt x="961" y="11"/>
                  </a:lnTo>
                  <a:lnTo>
                    <a:pt x="990" y="17"/>
                  </a:lnTo>
                  <a:lnTo>
                    <a:pt x="1017" y="23"/>
                  </a:lnTo>
                  <a:lnTo>
                    <a:pt x="1044" y="31"/>
                  </a:lnTo>
                  <a:lnTo>
                    <a:pt x="1068" y="39"/>
                  </a:lnTo>
                  <a:lnTo>
                    <a:pt x="1093" y="48"/>
                  </a:lnTo>
                  <a:lnTo>
                    <a:pt x="1115" y="59"/>
                  </a:lnTo>
                  <a:lnTo>
                    <a:pt x="1137" y="71"/>
                  </a:lnTo>
                  <a:lnTo>
                    <a:pt x="1158" y="82"/>
                  </a:lnTo>
                  <a:lnTo>
                    <a:pt x="1177" y="95"/>
                  </a:lnTo>
                  <a:lnTo>
                    <a:pt x="1194" y="108"/>
                  </a:lnTo>
                  <a:lnTo>
                    <a:pt x="1211" y="123"/>
                  </a:lnTo>
                  <a:lnTo>
                    <a:pt x="1227" y="138"/>
                  </a:lnTo>
                  <a:lnTo>
                    <a:pt x="1241" y="154"/>
                  </a:lnTo>
                  <a:lnTo>
                    <a:pt x="1253" y="170"/>
                  </a:lnTo>
                  <a:lnTo>
                    <a:pt x="1264" y="187"/>
                  </a:lnTo>
                  <a:lnTo>
                    <a:pt x="1274" y="205"/>
                  </a:lnTo>
                  <a:lnTo>
                    <a:pt x="1284" y="223"/>
                  </a:lnTo>
                  <a:lnTo>
                    <a:pt x="1290" y="241"/>
                  </a:lnTo>
                  <a:lnTo>
                    <a:pt x="1296" y="260"/>
                  </a:lnTo>
                  <a:lnTo>
                    <a:pt x="1300" y="281"/>
                  </a:lnTo>
                  <a:lnTo>
                    <a:pt x="1303" y="300"/>
                  </a:lnTo>
                  <a:lnTo>
                    <a:pt x="1304" y="320"/>
                  </a:lnTo>
                  <a:lnTo>
                    <a:pt x="1303" y="342"/>
                  </a:lnTo>
                  <a:lnTo>
                    <a:pt x="1301" y="363"/>
                  </a:lnTo>
                  <a:lnTo>
                    <a:pt x="1297" y="384"/>
                  </a:lnTo>
                  <a:lnTo>
                    <a:pt x="1292" y="407"/>
                  </a:lnTo>
                  <a:lnTo>
                    <a:pt x="1285" y="429"/>
                  </a:lnTo>
                  <a:lnTo>
                    <a:pt x="1275" y="451"/>
                  </a:lnTo>
                  <a:lnTo>
                    <a:pt x="1265" y="4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7153920" y="6000480"/>
              <a:ext cx="185760" cy="248760"/>
            </a:xfrm>
            <a:custGeom>
              <a:avLst/>
              <a:gdLst/>
              <a:ahLst/>
              <a:rect l="l" t="t" r="r" b="b"/>
              <a:pathLst>
                <a:path w="1892" h="2556">
                  <a:moveTo>
                    <a:pt x="1658" y="1971"/>
                  </a:moveTo>
                  <a:lnTo>
                    <a:pt x="1651" y="2015"/>
                  </a:lnTo>
                  <a:lnTo>
                    <a:pt x="1640" y="2056"/>
                  </a:lnTo>
                  <a:lnTo>
                    <a:pt x="1629" y="2095"/>
                  </a:lnTo>
                  <a:lnTo>
                    <a:pt x="1616" y="2133"/>
                  </a:lnTo>
                  <a:lnTo>
                    <a:pt x="1601" y="2168"/>
                  </a:lnTo>
                  <a:lnTo>
                    <a:pt x="1585" y="2202"/>
                  </a:lnTo>
                  <a:lnTo>
                    <a:pt x="1566" y="2233"/>
                  </a:lnTo>
                  <a:lnTo>
                    <a:pt x="1547" y="2262"/>
                  </a:lnTo>
                  <a:lnTo>
                    <a:pt x="1526" y="2291"/>
                  </a:lnTo>
                  <a:lnTo>
                    <a:pt x="1503" y="2316"/>
                  </a:lnTo>
                  <a:lnTo>
                    <a:pt x="1480" y="2342"/>
                  </a:lnTo>
                  <a:lnTo>
                    <a:pt x="1455" y="2364"/>
                  </a:lnTo>
                  <a:lnTo>
                    <a:pt x="1428" y="2385"/>
                  </a:lnTo>
                  <a:lnTo>
                    <a:pt x="1401" y="2406"/>
                  </a:lnTo>
                  <a:lnTo>
                    <a:pt x="1372" y="2424"/>
                  </a:lnTo>
                  <a:lnTo>
                    <a:pt x="1342" y="2441"/>
                  </a:lnTo>
                  <a:lnTo>
                    <a:pt x="1310" y="2456"/>
                  </a:lnTo>
                  <a:lnTo>
                    <a:pt x="1279" y="2470"/>
                  </a:lnTo>
                  <a:lnTo>
                    <a:pt x="1245" y="2484"/>
                  </a:lnTo>
                  <a:lnTo>
                    <a:pt x="1212" y="2495"/>
                  </a:lnTo>
                  <a:lnTo>
                    <a:pt x="1176" y="2506"/>
                  </a:lnTo>
                  <a:lnTo>
                    <a:pt x="1141" y="2515"/>
                  </a:lnTo>
                  <a:lnTo>
                    <a:pt x="1103" y="2523"/>
                  </a:lnTo>
                  <a:lnTo>
                    <a:pt x="1065" y="2530"/>
                  </a:lnTo>
                  <a:lnTo>
                    <a:pt x="1028" y="2536"/>
                  </a:lnTo>
                  <a:lnTo>
                    <a:pt x="988" y="2542"/>
                  </a:lnTo>
                  <a:lnTo>
                    <a:pt x="949" y="2547"/>
                  </a:lnTo>
                  <a:lnTo>
                    <a:pt x="908" y="2550"/>
                  </a:lnTo>
                  <a:lnTo>
                    <a:pt x="867" y="2553"/>
                  </a:lnTo>
                  <a:lnTo>
                    <a:pt x="826" y="2555"/>
                  </a:lnTo>
                  <a:lnTo>
                    <a:pt x="784" y="2556"/>
                  </a:lnTo>
                  <a:lnTo>
                    <a:pt x="741" y="2556"/>
                  </a:lnTo>
                  <a:lnTo>
                    <a:pt x="699" y="2556"/>
                  </a:lnTo>
                  <a:lnTo>
                    <a:pt x="657" y="2556"/>
                  </a:lnTo>
                  <a:lnTo>
                    <a:pt x="616" y="2554"/>
                  </a:lnTo>
                  <a:lnTo>
                    <a:pt x="576" y="2552"/>
                  </a:lnTo>
                  <a:lnTo>
                    <a:pt x="537" y="2549"/>
                  </a:lnTo>
                  <a:lnTo>
                    <a:pt x="499" y="2545"/>
                  </a:lnTo>
                  <a:lnTo>
                    <a:pt x="461" y="2539"/>
                  </a:lnTo>
                  <a:lnTo>
                    <a:pt x="424" y="2533"/>
                  </a:lnTo>
                  <a:lnTo>
                    <a:pt x="389" y="2527"/>
                  </a:lnTo>
                  <a:lnTo>
                    <a:pt x="355" y="2519"/>
                  </a:lnTo>
                  <a:lnTo>
                    <a:pt x="322" y="2510"/>
                  </a:lnTo>
                  <a:lnTo>
                    <a:pt x="290" y="2500"/>
                  </a:lnTo>
                  <a:lnTo>
                    <a:pt x="260" y="2489"/>
                  </a:lnTo>
                  <a:lnTo>
                    <a:pt x="230" y="2476"/>
                  </a:lnTo>
                  <a:lnTo>
                    <a:pt x="203" y="2462"/>
                  </a:lnTo>
                  <a:lnTo>
                    <a:pt x="177" y="2447"/>
                  </a:lnTo>
                  <a:lnTo>
                    <a:pt x="152" y="2430"/>
                  </a:lnTo>
                  <a:lnTo>
                    <a:pt x="129" y="2412"/>
                  </a:lnTo>
                  <a:lnTo>
                    <a:pt x="107" y="2392"/>
                  </a:lnTo>
                  <a:lnTo>
                    <a:pt x="88" y="2371"/>
                  </a:lnTo>
                  <a:lnTo>
                    <a:pt x="71" y="2349"/>
                  </a:lnTo>
                  <a:lnTo>
                    <a:pt x="55" y="2324"/>
                  </a:lnTo>
                  <a:lnTo>
                    <a:pt x="40" y="2298"/>
                  </a:lnTo>
                  <a:lnTo>
                    <a:pt x="28" y="2271"/>
                  </a:lnTo>
                  <a:lnTo>
                    <a:pt x="18" y="2241"/>
                  </a:lnTo>
                  <a:lnTo>
                    <a:pt x="11" y="2210"/>
                  </a:lnTo>
                  <a:lnTo>
                    <a:pt x="5" y="2176"/>
                  </a:lnTo>
                  <a:lnTo>
                    <a:pt x="2" y="2141"/>
                  </a:lnTo>
                  <a:lnTo>
                    <a:pt x="0" y="2104"/>
                  </a:lnTo>
                  <a:lnTo>
                    <a:pt x="1" y="2065"/>
                  </a:lnTo>
                  <a:lnTo>
                    <a:pt x="5" y="2024"/>
                  </a:lnTo>
                  <a:lnTo>
                    <a:pt x="10" y="1980"/>
                  </a:lnTo>
                  <a:lnTo>
                    <a:pt x="234" y="586"/>
                  </a:lnTo>
                  <a:lnTo>
                    <a:pt x="243" y="542"/>
                  </a:lnTo>
                  <a:lnTo>
                    <a:pt x="252" y="501"/>
                  </a:lnTo>
                  <a:lnTo>
                    <a:pt x="264" y="462"/>
                  </a:lnTo>
                  <a:lnTo>
                    <a:pt x="277" y="425"/>
                  </a:lnTo>
                  <a:lnTo>
                    <a:pt x="291" y="389"/>
                  </a:lnTo>
                  <a:lnTo>
                    <a:pt x="308" y="356"/>
                  </a:lnTo>
                  <a:lnTo>
                    <a:pt x="326" y="324"/>
                  </a:lnTo>
                  <a:lnTo>
                    <a:pt x="345" y="295"/>
                  </a:lnTo>
                  <a:lnTo>
                    <a:pt x="367" y="266"/>
                  </a:lnTo>
                  <a:lnTo>
                    <a:pt x="389" y="240"/>
                  </a:lnTo>
                  <a:lnTo>
                    <a:pt x="412" y="216"/>
                  </a:lnTo>
                  <a:lnTo>
                    <a:pt x="438" y="193"/>
                  </a:lnTo>
                  <a:lnTo>
                    <a:pt x="464" y="172"/>
                  </a:lnTo>
                  <a:lnTo>
                    <a:pt x="491" y="152"/>
                  </a:lnTo>
                  <a:lnTo>
                    <a:pt x="521" y="133"/>
                  </a:lnTo>
                  <a:lnTo>
                    <a:pt x="550" y="116"/>
                  </a:lnTo>
                  <a:lnTo>
                    <a:pt x="582" y="101"/>
                  </a:lnTo>
                  <a:lnTo>
                    <a:pt x="613" y="87"/>
                  </a:lnTo>
                  <a:lnTo>
                    <a:pt x="647" y="73"/>
                  </a:lnTo>
                  <a:lnTo>
                    <a:pt x="681" y="62"/>
                  </a:lnTo>
                  <a:lnTo>
                    <a:pt x="716" y="51"/>
                  </a:lnTo>
                  <a:lnTo>
                    <a:pt x="753" y="42"/>
                  </a:lnTo>
                  <a:lnTo>
                    <a:pt x="789" y="34"/>
                  </a:lnTo>
                  <a:lnTo>
                    <a:pt x="827" y="27"/>
                  </a:lnTo>
                  <a:lnTo>
                    <a:pt x="865" y="21"/>
                  </a:lnTo>
                  <a:lnTo>
                    <a:pt x="904" y="15"/>
                  </a:lnTo>
                  <a:lnTo>
                    <a:pt x="944" y="11"/>
                  </a:lnTo>
                  <a:lnTo>
                    <a:pt x="984" y="8"/>
                  </a:lnTo>
                  <a:lnTo>
                    <a:pt x="1025" y="4"/>
                  </a:lnTo>
                  <a:lnTo>
                    <a:pt x="1066" y="2"/>
                  </a:lnTo>
                  <a:lnTo>
                    <a:pt x="1108" y="1"/>
                  </a:lnTo>
                  <a:lnTo>
                    <a:pt x="1151" y="0"/>
                  </a:lnTo>
                  <a:lnTo>
                    <a:pt x="1193" y="0"/>
                  </a:lnTo>
                  <a:lnTo>
                    <a:pt x="1235" y="1"/>
                  </a:lnTo>
                  <a:lnTo>
                    <a:pt x="1276" y="3"/>
                  </a:lnTo>
                  <a:lnTo>
                    <a:pt x="1316" y="6"/>
                  </a:lnTo>
                  <a:lnTo>
                    <a:pt x="1356" y="9"/>
                  </a:lnTo>
                  <a:lnTo>
                    <a:pt x="1394" y="13"/>
                  </a:lnTo>
                  <a:lnTo>
                    <a:pt x="1431" y="18"/>
                  </a:lnTo>
                  <a:lnTo>
                    <a:pt x="1468" y="24"/>
                  </a:lnTo>
                  <a:lnTo>
                    <a:pt x="1503" y="30"/>
                  </a:lnTo>
                  <a:lnTo>
                    <a:pt x="1538" y="38"/>
                  </a:lnTo>
                  <a:lnTo>
                    <a:pt x="1570" y="47"/>
                  </a:lnTo>
                  <a:lnTo>
                    <a:pt x="1602" y="57"/>
                  </a:lnTo>
                  <a:lnTo>
                    <a:pt x="1632" y="68"/>
                  </a:lnTo>
                  <a:lnTo>
                    <a:pt x="1662" y="82"/>
                  </a:lnTo>
                  <a:lnTo>
                    <a:pt x="1689" y="95"/>
                  </a:lnTo>
                  <a:lnTo>
                    <a:pt x="1716" y="110"/>
                  </a:lnTo>
                  <a:lnTo>
                    <a:pt x="1740" y="127"/>
                  </a:lnTo>
                  <a:lnTo>
                    <a:pt x="1763" y="146"/>
                  </a:lnTo>
                  <a:lnTo>
                    <a:pt x="1785" y="165"/>
                  </a:lnTo>
                  <a:lnTo>
                    <a:pt x="1804" y="186"/>
                  </a:lnTo>
                  <a:lnTo>
                    <a:pt x="1822" y="208"/>
                  </a:lnTo>
                  <a:lnTo>
                    <a:pt x="1837" y="233"/>
                  </a:lnTo>
                  <a:lnTo>
                    <a:pt x="1852" y="259"/>
                  </a:lnTo>
                  <a:lnTo>
                    <a:pt x="1864" y="287"/>
                  </a:lnTo>
                  <a:lnTo>
                    <a:pt x="1874" y="316"/>
                  </a:lnTo>
                  <a:lnTo>
                    <a:pt x="1881" y="347"/>
                  </a:lnTo>
                  <a:lnTo>
                    <a:pt x="1887" y="381"/>
                  </a:lnTo>
                  <a:lnTo>
                    <a:pt x="1891" y="416"/>
                  </a:lnTo>
                  <a:lnTo>
                    <a:pt x="1892" y="453"/>
                  </a:lnTo>
                  <a:lnTo>
                    <a:pt x="1891" y="493"/>
                  </a:lnTo>
                  <a:lnTo>
                    <a:pt x="1888" y="533"/>
                  </a:lnTo>
                  <a:lnTo>
                    <a:pt x="1882" y="577"/>
                  </a:lnTo>
                  <a:lnTo>
                    <a:pt x="1658" y="19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226640" y="6192000"/>
              <a:ext cx="93960" cy="61200"/>
            </a:xfrm>
            <a:custGeom>
              <a:avLst/>
              <a:gdLst/>
              <a:ahLst/>
              <a:rect l="l" t="t" r="r" b="b"/>
              <a:pathLst>
                <a:path w="958" h="633">
                  <a:moveTo>
                    <a:pt x="0" y="633"/>
                  </a:moveTo>
                  <a:lnTo>
                    <a:pt x="0" y="633"/>
                  </a:lnTo>
                  <a:lnTo>
                    <a:pt x="43" y="632"/>
                  </a:lnTo>
                  <a:lnTo>
                    <a:pt x="86" y="631"/>
                  </a:lnTo>
                  <a:lnTo>
                    <a:pt x="128" y="629"/>
                  </a:lnTo>
                  <a:lnTo>
                    <a:pt x="170" y="626"/>
                  </a:lnTo>
                  <a:lnTo>
                    <a:pt x="212" y="623"/>
                  </a:lnTo>
                  <a:lnTo>
                    <a:pt x="252" y="618"/>
                  </a:lnTo>
                  <a:lnTo>
                    <a:pt x="293" y="613"/>
                  </a:lnTo>
                  <a:lnTo>
                    <a:pt x="332" y="607"/>
                  </a:lnTo>
                  <a:lnTo>
                    <a:pt x="371" y="599"/>
                  </a:lnTo>
                  <a:lnTo>
                    <a:pt x="409" y="591"/>
                  </a:lnTo>
                  <a:lnTo>
                    <a:pt x="446" y="581"/>
                  </a:lnTo>
                  <a:lnTo>
                    <a:pt x="483" y="570"/>
                  </a:lnTo>
                  <a:lnTo>
                    <a:pt x="518" y="558"/>
                  </a:lnTo>
                  <a:lnTo>
                    <a:pt x="554" y="544"/>
                  </a:lnTo>
                  <a:lnTo>
                    <a:pt x="588" y="529"/>
                  </a:lnTo>
                  <a:lnTo>
                    <a:pt x="621" y="513"/>
                  </a:lnTo>
                  <a:lnTo>
                    <a:pt x="653" y="494"/>
                  </a:lnTo>
                  <a:lnTo>
                    <a:pt x="683" y="475"/>
                  </a:lnTo>
                  <a:lnTo>
                    <a:pt x="712" y="454"/>
                  </a:lnTo>
                  <a:lnTo>
                    <a:pt x="741" y="431"/>
                  </a:lnTo>
                  <a:lnTo>
                    <a:pt x="754" y="419"/>
                  </a:lnTo>
                  <a:lnTo>
                    <a:pt x="768" y="406"/>
                  </a:lnTo>
                  <a:lnTo>
                    <a:pt x="781" y="393"/>
                  </a:lnTo>
                  <a:lnTo>
                    <a:pt x="794" y="380"/>
                  </a:lnTo>
                  <a:lnTo>
                    <a:pt x="806" y="366"/>
                  </a:lnTo>
                  <a:lnTo>
                    <a:pt x="817" y="351"/>
                  </a:lnTo>
                  <a:lnTo>
                    <a:pt x="829" y="337"/>
                  </a:lnTo>
                  <a:lnTo>
                    <a:pt x="840" y="322"/>
                  </a:lnTo>
                  <a:lnTo>
                    <a:pt x="851" y="306"/>
                  </a:lnTo>
                  <a:lnTo>
                    <a:pt x="861" y="289"/>
                  </a:lnTo>
                  <a:lnTo>
                    <a:pt x="871" y="273"/>
                  </a:lnTo>
                  <a:lnTo>
                    <a:pt x="880" y="256"/>
                  </a:lnTo>
                  <a:lnTo>
                    <a:pt x="889" y="239"/>
                  </a:lnTo>
                  <a:lnTo>
                    <a:pt x="898" y="220"/>
                  </a:lnTo>
                  <a:lnTo>
                    <a:pt x="906" y="202"/>
                  </a:lnTo>
                  <a:lnTo>
                    <a:pt x="914" y="183"/>
                  </a:lnTo>
                  <a:lnTo>
                    <a:pt x="921" y="163"/>
                  </a:lnTo>
                  <a:lnTo>
                    <a:pt x="928" y="143"/>
                  </a:lnTo>
                  <a:lnTo>
                    <a:pt x="934" y="123"/>
                  </a:lnTo>
                  <a:lnTo>
                    <a:pt x="940" y="102"/>
                  </a:lnTo>
                  <a:lnTo>
                    <a:pt x="945" y="80"/>
                  </a:lnTo>
                  <a:lnTo>
                    <a:pt x="950" y="59"/>
                  </a:lnTo>
                  <a:lnTo>
                    <a:pt x="954" y="36"/>
                  </a:lnTo>
                  <a:lnTo>
                    <a:pt x="958" y="13"/>
                  </a:lnTo>
                  <a:lnTo>
                    <a:pt x="876" y="0"/>
                  </a:lnTo>
                  <a:lnTo>
                    <a:pt x="872" y="21"/>
                  </a:lnTo>
                  <a:lnTo>
                    <a:pt x="868" y="42"/>
                  </a:lnTo>
                  <a:lnTo>
                    <a:pt x="864" y="61"/>
                  </a:lnTo>
                  <a:lnTo>
                    <a:pt x="859" y="80"/>
                  </a:lnTo>
                  <a:lnTo>
                    <a:pt x="854" y="100"/>
                  </a:lnTo>
                  <a:lnTo>
                    <a:pt x="848" y="118"/>
                  </a:lnTo>
                  <a:lnTo>
                    <a:pt x="842" y="135"/>
                  </a:lnTo>
                  <a:lnTo>
                    <a:pt x="835" y="152"/>
                  </a:lnTo>
                  <a:lnTo>
                    <a:pt x="828" y="170"/>
                  </a:lnTo>
                  <a:lnTo>
                    <a:pt x="821" y="186"/>
                  </a:lnTo>
                  <a:lnTo>
                    <a:pt x="814" y="201"/>
                  </a:lnTo>
                  <a:lnTo>
                    <a:pt x="806" y="216"/>
                  </a:lnTo>
                  <a:lnTo>
                    <a:pt x="798" y="231"/>
                  </a:lnTo>
                  <a:lnTo>
                    <a:pt x="790" y="246"/>
                  </a:lnTo>
                  <a:lnTo>
                    <a:pt x="781" y="260"/>
                  </a:lnTo>
                  <a:lnTo>
                    <a:pt x="771" y="273"/>
                  </a:lnTo>
                  <a:lnTo>
                    <a:pt x="762" y="286"/>
                  </a:lnTo>
                  <a:lnTo>
                    <a:pt x="752" y="299"/>
                  </a:lnTo>
                  <a:lnTo>
                    <a:pt x="742" y="312"/>
                  </a:lnTo>
                  <a:lnTo>
                    <a:pt x="732" y="324"/>
                  </a:lnTo>
                  <a:lnTo>
                    <a:pt x="721" y="335"/>
                  </a:lnTo>
                  <a:lnTo>
                    <a:pt x="709" y="346"/>
                  </a:lnTo>
                  <a:lnTo>
                    <a:pt x="698" y="357"/>
                  </a:lnTo>
                  <a:lnTo>
                    <a:pt x="687" y="367"/>
                  </a:lnTo>
                  <a:lnTo>
                    <a:pt x="662" y="387"/>
                  </a:lnTo>
                  <a:lnTo>
                    <a:pt x="636" y="406"/>
                  </a:lnTo>
                  <a:lnTo>
                    <a:pt x="609" y="423"/>
                  </a:lnTo>
                  <a:lnTo>
                    <a:pt x="581" y="438"/>
                  </a:lnTo>
                  <a:lnTo>
                    <a:pt x="552" y="454"/>
                  </a:lnTo>
                  <a:lnTo>
                    <a:pt x="522" y="467"/>
                  </a:lnTo>
                  <a:lnTo>
                    <a:pt x="490" y="479"/>
                  </a:lnTo>
                  <a:lnTo>
                    <a:pt x="458" y="490"/>
                  </a:lnTo>
                  <a:lnTo>
                    <a:pt x="424" y="500"/>
                  </a:lnTo>
                  <a:lnTo>
                    <a:pt x="389" y="510"/>
                  </a:lnTo>
                  <a:lnTo>
                    <a:pt x="354" y="518"/>
                  </a:lnTo>
                  <a:lnTo>
                    <a:pt x="317" y="524"/>
                  </a:lnTo>
                  <a:lnTo>
                    <a:pt x="281" y="530"/>
                  </a:lnTo>
                  <a:lnTo>
                    <a:pt x="242" y="535"/>
                  </a:lnTo>
                  <a:lnTo>
                    <a:pt x="204" y="540"/>
                  </a:lnTo>
                  <a:lnTo>
                    <a:pt x="164" y="543"/>
                  </a:lnTo>
                  <a:lnTo>
                    <a:pt x="124" y="546"/>
                  </a:lnTo>
                  <a:lnTo>
                    <a:pt x="84" y="547"/>
                  </a:lnTo>
                  <a:lnTo>
                    <a:pt x="42" y="549"/>
                  </a:lnTo>
                  <a:lnTo>
                    <a:pt x="0" y="549"/>
                  </a:lnTo>
                  <a:lnTo>
                    <a:pt x="0" y="549"/>
                  </a:lnTo>
                  <a:lnTo>
                    <a:pt x="0" y="633"/>
                  </a:lnTo>
                  <a:lnTo>
                    <a:pt x="0" y="633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151400" y="6193080"/>
              <a:ext cx="75240" cy="59760"/>
            </a:xfrm>
            <a:custGeom>
              <a:avLst/>
              <a:gdLst/>
              <a:ahLst/>
              <a:rect l="l" t="t" r="r" b="b"/>
              <a:pathLst>
                <a:path w="783" h="625">
                  <a:moveTo>
                    <a:pt x="11" y="0"/>
                  </a:moveTo>
                  <a:lnTo>
                    <a:pt x="11" y="0"/>
                  </a:lnTo>
                  <a:lnTo>
                    <a:pt x="7" y="24"/>
                  </a:lnTo>
                  <a:lnTo>
                    <a:pt x="5" y="46"/>
                  </a:lnTo>
                  <a:lnTo>
                    <a:pt x="2" y="68"/>
                  </a:lnTo>
                  <a:lnTo>
                    <a:pt x="1" y="90"/>
                  </a:lnTo>
                  <a:lnTo>
                    <a:pt x="0" y="111"/>
                  </a:lnTo>
                  <a:lnTo>
                    <a:pt x="0" y="131"/>
                  </a:lnTo>
                  <a:lnTo>
                    <a:pt x="0" y="151"/>
                  </a:lnTo>
                  <a:lnTo>
                    <a:pt x="1" y="171"/>
                  </a:lnTo>
                  <a:lnTo>
                    <a:pt x="3" y="190"/>
                  </a:lnTo>
                  <a:lnTo>
                    <a:pt x="5" y="209"/>
                  </a:lnTo>
                  <a:lnTo>
                    <a:pt x="8" y="228"/>
                  </a:lnTo>
                  <a:lnTo>
                    <a:pt x="11" y="245"/>
                  </a:lnTo>
                  <a:lnTo>
                    <a:pt x="15" y="262"/>
                  </a:lnTo>
                  <a:lnTo>
                    <a:pt x="20" y="279"/>
                  </a:lnTo>
                  <a:lnTo>
                    <a:pt x="26" y="297"/>
                  </a:lnTo>
                  <a:lnTo>
                    <a:pt x="32" y="313"/>
                  </a:lnTo>
                  <a:lnTo>
                    <a:pt x="38" y="328"/>
                  </a:lnTo>
                  <a:lnTo>
                    <a:pt x="45" y="343"/>
                  </a:lnTo>
                  <a:lnTo>
                    <a:pt x="52" y="358"/>
                  </a:lnTo>
                  <a:lnTo>
                    <a:pt x="60" y="373"/>
                  </a:lnTo>
                  <a:lnTo>
                    <a:pt x="69" y="387"/>
                  </a:lnTo>
                  <a:lnTo>
                    <a:pt x="78" y="400"/>
                  </a:lnTo>
                  <a:lnTo>
                    <a:pt x="89" y="413"/>
                  </a:lnTo>
                  <a:lnTo>
                    <a:pt x="99" y="425"/>
                  </a:lnTo>
                  <a:lnTo>
                    <a:pt x="109" y="438"/>
                  </a:lnTo>
                  <a:lnTo>
                    <a:pt x="120" y="449"/>
                  </a:lnTo>
                  <a:lnTo>
                    <a:pt x="132" y="460"/>
                  </a:lnTo>
                  <a:lnTo>
                    <a:pt x="144" y="471"/>
                  </a:lnTo>
                  <a:lnTo>
                    <a:pt x="157" y="481"/>
                  </a:lnTo>
                  <a:lnTo>
                    <a:pt x="170" y="490"/>
                  </a:lnTo>
                  <a:lnTo>
                    <a:pt x="183" y="501"/>
                  </a:lnTo>
                  <a:lnTo>
                    <a:pt x="197" y="510"/>
                  </a:lnTo>
                  <a:lnTo>
                    <a:pt x="225" y="526"/>
                  </a:lnTo>
                  <a:lnTo>
                    <a:pt x="255" y="541"/>
                  </a:lnTo>
                  <a:lnTo>
                    <a:pt x="286" y="554"/>
                  </a:lnTo>
                  <a:lnTo>
                    <a:pt x="318" y="566"/>
                  </a:lnTo>
                  <a:lnTo>
                    <a:pt x="352" y="578"/>
                  </a:lnTo>
                  <a:lnTo>
                    <a:pt x="387" y="587"/>
                  </a:lnTo>
                  <a:lnTo>
                    <a:pt x="423" y="595"/>
                  </a:lnTo>
                  <a:lnTo>
                    <a:pt x="459" y="602"/>
                  </a:lnTo>
                  <a:lnTo>
                    <a:pt x="497" y="608"/>
                  </a:lnTo>
                  <a:lnTo>
                    <a:pt x="535" y="613"/>
                  </a:lnTo>
                  <a:lnTo>
                    <a:pt x="575" y="617"/>
                  </a:lnTo>
                  <a:lnTo>
                    <a:pt x="616" y="620"/>
                  </a:lnTo>
                  <a:lnTo>
                    <a:pt x="656" y="622"/>
                  </a:lnTo>
                  <a:lnTo>
                    <a:pt x="698" y="624"/>
                  </a:lnTo>
                  <a:lnTo>
                    <a:pt x="741" y="625"/>
                  </a:lnTo>
                  <a:lnTo>
                    <a:pt x="783" y="625"/>
                  </a:lnTo>
                  <a:lnTo>
                    <a:pt x="783" y="541"/>
                  </a:lnTo>
                  <a:lnTo>
                    <a:pt x="742" y="541"/>
                  </a:lnTo>
                  <a:lnTo>
                    <a:pt x="700" y="540"/>
                  </a:lnTo>
                  <a:lnTo>
                    <a:pt x="660" y="539"/>
                  </a:lnTo>
                  <a:lnTo>
                    <a:pt x="621" y="537"/>
                  </a:lnTo>
                  <a:lnTo>
                    <a:pt x="582" y="534"/>
                  </a:lnTo>
                  <a:lnTo>
                    <a:pt x="546" y="530"/>
                  </a:lnTo>
                  <a:lnTo>
                    <a:pt x="509" y="525"/>
                  </a:lnTo>
                  <a:lnTo>
                    <a:pt x="474" y="520"/>
                  </a:lnTo>
                  <a:lnTo>
                    <a:pt x="440" y="513"/>
                  </a:lnTo>
                  <a:lnTo>
                    <a:pt x="407" y="506"/>
                  </a:lnTo>
                  <a:lnTo>
                    <a:pt x="376" y="496"/>
                  </a:lnTo>
                  <a:lnTo>
                    <a:pt x="346" y="487"/>
                  </a:lnTo>
                  <a:lnTo>
                    <a:pt x="317" y="476"/>
                  </a:lnTo>
                  <a:lnTo>
                    <a:pt x="291" y="465"/>
                  </a:lnTo>
                  <a:lnTo>
                    <a:pt x="265" y="452"/>
                  </a:lnTo>
                  <a:lnTo>
                    <a:pt x="241" y="438"/>
                  </a:lnTo>
                  <a:lnTo>
                    <a:pt x="230" y="430"/>
                  </a:lnTo>
                  <a:lnTo>
                    <a:pt x="219" y="423"/>
                  </a:lnTo>
                  <a:lnTo>
                    <a:pt x="208" y="415"/>
                  </a:lnTo>
                  <a:lnTo>
                    <a:pt x="198" y="407"/>
                  </a:lnTo>
                  <a:lnTo>
                    <a:pt x="189" y="399"/>
                  </a:lnTo>
                  <a:lnTo>
                    <a:pt x="179" y="390"/>
                  </a:lnTo>
                  <a:lnTo>
                    <a:pt x="171" y="381"/>
                  </a:lnTo>
                  <a:lnTo>
                    <a:pt x="163" y="372"/>
                  </a:lnTo>
                  <a:lnTo>
                    <a:pt x="155" y="361"/>
                  </a:lnTo>
                  <a:lnTo>
                    <a:pt x="146" y="351"/>
                  </a:lnTo>
                  <a:lnTo>
                    <a:pt x="139" y="341"/>
                  </a:lnTo>
                  <a:lnTo>
                    <a:pt x="133" y="330"/>
                  </a:lnTo>
                  <a:lnTo>
                    <a:pt x="126" y="319"/>
                  </a:lnTo>
                  <a:lnTo>
                    <a:pt x="120" y="307"/>
                  </a:lnTo>
                  <a:lnTo>
                    <a:pt x="115" y="295"/>
                  </a:lnTo>
                  <a:lnTo>
                    <a:pt x="110" y="282"/>
                  </a:lnTo>
                  <a:lnTo>
                    <a:pt x="105" y="269"/>
                  </a:lnTo>
                  <a:lnTo>
                    <a:pt x="101" y="256"/>
                  </a:lnTo>
                  <a:lnTo>
                    <a:pt x="97" y="242"/>
                  </a:lnTo>
                  <a:lnTo>
                    <a:pt x="94" y="228"/>
                  </a:lnTo>
                  <a:lnTo>
                    <a:pt x="91" y="213"/>
                  </a:lnTo>
                  <a:lnTo>
                    <a:pt x="89" y="198"/>
                  </a:lnTo>
                  <a:lnTo>
                    <a:pt x="86" y="182"/>
                  </a:lnTo>
                  <a:lnTo>
                    <a:pt x="85" y="166"/>
                  </a:lnTo>
                  <a:lnTo>
                    <a:pt x="84" y="148"/>
                  </a:lnTo>
                  <a:lnTo>
                    <a:pt x="84" y="131"/>
                  </a:lnTo>
                  <a:lnTo>
                    <a:pt x="84" y="113"/>
                  </a:lnTo>
                  <a:lnTo>
                    <a:pt x="85" y="94"/>
                  </a:lnTo>
                  <a:lnTo>
                    <a:pt x="86" y="75"/>
                  </a:lnTo>
                  <a:lnTo>
                    <a:pt x="89" y="55"/>
                  </a:lnTo>
                  <a:lnTo>
                    <a:pt x="91" y="35"/>
                  </a:lnTo>
                  <a:lnTo>
                    <a:pt x="94" y="13"/>
                  </a:lnTo>
                  <a:lnTo>
                    <a:pt x="94" y="1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7151400" y="6056640"/>
              <a:ext cx="29880" cy="137880"/>
            </a:xfrm>
            <a:custGeom>
              <a:avLst/>
              <a:gdLst/>
              <a:ahLst/>
              <a:rect l="l" t="t" r="r" b="b"/>
              <a:pathLst>
                <a:path w="307" h="1407">
                  <a:moveTo>
                    <a:pt x="307" y="13"/>
                  </a:moveTo>
                  <a:lnTo>
                    <a:pt x="224" y="0"/>
                  </a:lnTo>
                  <a:lnTo>
                    <a:pt x="0" y="1394"/>
                  </a:lnTo>
                  <a:lnTo>
                    <a:pt x="83" y="1407"/>
                  </a:lnTo>
                  <a:lnTo>
                    <a:pt x="307" y="13"/>
                  </a:lnTo>
                  <a:lnTo>
                    <a:pt x="307" y="13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307" y="1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7173360" y="5996520"/>
              <a:ext cx="93960" cy="61560"/>
            </a:xfrm>
            <a:custGeom>
              <a:avLst/>
              <a:gdLst/>
              <a:ahLst/>
              <a:rect l="l" t="t" r="r" b="b"/>
              <a:pathLst>
                <a:path w="958" h="633">
                  <a:moveTo>
                    <a:pt x="958" y="0"/>
                  </a:moveTo>
                  <a:lnTo>
                    <a:pt x="958" y="0"/>
                  </a:lnTo>
                  <a:lnTo>
                    <a:pt x="915" y="1"/>
                  </a:lnTo>
                  <a:lnTo>
                    <a:pt x="872" y="2"/>
                  </a:lnTo>
                  <a:lnTo>
                    <a:pt x="830" y="4"/>
                  </a:lnTo>
                  <a:lnTo>
                    <a:pt x="788" y="6"/>
                  </a:lnTo>
                  <a:lnTo>
                    <a:pt x="746" y="10"/>
                  </a:lnTo>
                  <a:lnTo>
                    <a:pt x="706" y="14"/>
                  </a:lnTo>
                  <a:lnTo>
                    <a:pt x="666" y="20"/>
                  </a:lnTo>
                  <a:lnTo>
                    <a:pt x="627" y="26"/>
                  </a:lnTo>
                  <a:lnTo>
                    <a:pt x="587" y="33"/>
                  </a:lnTo>
                  <a:lnTo>
                    <a:pt x="549" y="42"/>
                  </a:lnTo>
                  <a:lnTo>
                    <a:pt x="512" y="52"/>
                  </a:lnTo>
                  <a:lnTo>
                    <a:pt x="475" y="63"/>
                  </a:lnTo>
                  <a:lnTo>
                    <a:pt x="440" y="75"/>
                  </a:lnTo>
                  <a:lnTo>
                    <a:pt x="405" y="89"/>
                  </a:lnTo>
                  <a:lnTo>
                    <a:pt x="371" y="104"/>
                  </a:lnTo>
                  <a:lnTo>
                    <a:pt x="338" y="121"/>
                  </a:lnTo>
                  <a:lnTo>
                    <a:pt x="306" y="139"/>
                  </a:lnTo>
                  <a:lnTo>
                    <a:pt x="275" y="158"/>
                  </a:lnTo>
                  <a:lnTo>
                    <a:pt x="246" y="179"/>
                  </a:lnTo>
                  <a:lnTo>
                    <a:pt x="218" y="202"/>
                  </a:lnTo>
                  <a:lnTo>
                    <a:pt x="204" y="214"/>
                  </a:lnTo>
                  <a:lnTo>
                    <a:pt x="191" y="227"/>
                  </a:lnTo>
                  <a:lnTo>
                    <a:pt x="178" y="240"/>
                  </a:lnTo>
                  <a:lnTo>
                    <a:pt x="164" y="254"/>
                  </a:lnTo>
                  <a:lnTo>
                    <a:pt x="152" y="267"/>
                  </a:lnTo>
                  <a:lnTo>
                    <a:pt x="141" y="282"/>
                  </a:lnTo>
                  <a:lnTo>
                    <a:pt x="129" y="296"/>
                  </a:lnTo>
                  <a:lnTo>
                    <a:pt x="119" y="311"/>
                  </a:lnTo>
                  <a:lnTo>
                    <a:pt x="107" y="328"/>
                  </a:lnTo>
                  <a:lnTo>
                    <a:pt x="97" y="344"/>
                  </a:lnTo>
                  <a:lnTo>
                    <a:pt x="87" y="360"/>
                  </a:lnTo>
                  <a:lnTo>
                    <a:pt x="78" y="377"/>
                  </a:lnTo>
                  <a:lnTo>
                    <a:pt x="69" y="395"/>
                  </a:lnTo>
                  <a:lnTo>
                    <a:pt x="61" y="413"/>
                  </a:lnTo>
                  <a:lnTo>
                    <a:pt x="53" y="431"/>
                  </a:lnTo>
                  <a:lnTo>
                    <a:pt x="44" y="450"/>
                  </a:lnTo>
                  <a:lnTo>
                    <a:pt x="37" y="470"/>
                  </a:lnTo>
                  <a:lnTo>
                    <a:pt x="30" y="490"/>
                  </a:lnTo>
                  <a:lnTo>
                    <a:pt x="24" y="510"/>
                  </a:lnTo>
                  <a:lnTo>
                    <a:pt x="18" y="532"/>
                  </a:lnTo>
                  <a:lnTo>
                    <a:pt x="13" y="553"/>
                  </a:lnTo>
                  <a:lnTo>
                    <a:pt x="8" y="574"/>
                  </a:lnTo>
                  <a:lnTo>
                    <a:pt x="4" y="598"/>
                  </a:lnTo>
                  <a:lnTo>
                    <a:pt x="0" y="620"/>
                  </a:lnTo>
                  <a:lnTo>
                    <a:pt x="83" y="633"/>
                  </a:lnTo>
                  <a:lnTo>
                    <a:pt x="86" y="612"/>
                  </a:lnTo>
                  <a:lnTo>
                    <a:pt x="90" y="591"/>
                  </a:lnTo>
                  <a:lnTo>
                    <a:pt x="94" y="572"/>
                  </a:lnTo>
                  <a:lnTo>
                    <a:pt x="99" y="553"/>
                  </a:lnTo>
                  <a:lnTo>
                    <a:pt x="104" y="534"/>
                  </a:lnTo>
                  <a:lnTo>
                    <a:pt x="111" y="515"/>
                  </a:lnTo>
                  <a:lnTo>
                    <a:pt x="117" y="498"/>
                  </a:lnTo>
                  <a:lnTo>
                    <a:pt x="123" y="481"/>
                  </a:lnTo>
                  <a:lnTo>
                    <a:pt x="130" y="464"/>
                  </a:lnTo>
                  <a:lnTo>
                    <a:pt x="137" y="447"/>
                  </a:lnTo>
                  <a:lnTo>
                    <a:pt x="144" y="432"/>
                  </a:lnTo>
                  <a:lnTo>
                    <a:pt x="152" y="417"/>
                  </a:lnTo>
                  <a:lnTo>
                    <a:pt x="160" y="402"/>
                  </a:lnTo>
                  <a:lnTo>
                    <a:pt x="168" y="387"/>
                  </a:lnTo>
                  <a:lnTo>
                    <a:pt x="178" y="373"/>
                  </a:lnTo>
                  <a:lnTo>
                    <a:pt x="187" y="360"/>
                  </a:lnTo>
                  <a:lnTo>
                    <a:pt x="196" y="347"/>
                  </a:lnTo>
                  <a:lnTo>
                    <a:pt x="206" y="334"/>
                  </a:lnTo>
                  <a:lnTo>
                    <a:pt x="216" y="322"/>
                  </a:lnTo>
                  <a:lnTo>
                    <a:pt x="227" y="309"/>
                  </a:lnTo>
                  <a:lnTo>
                    <a:pt x="238" y="298"/>
                  </a:lnTo>
                  <a:lnTo>
                    <a:pt x="249" y="287"/>
                  </a:lnTo>
                  <a:lnTo>
                    <a:pt x="260" y="276"/>
                  </a:lnTo>
                  <a:lnTo>
                    <a:pt x="272" y="266"/>
                  </a:lnTo>
                  <a:lnTo>
                    <a:pt x="296" y="245"/>
                  </a:lnTo>
                  <a:lnTo>
                    <a:pt x="322" y="227"/>
                  </a:lnTo>
                  <a:lnTo>
                    <a:pt x="349" y="210"/>
                  </a:lnTo>
                  <a:lnTo>
                    <a:pt x="378" y="195"/>
                  </a:lnTo>
                  <a:lnTo>
                    <a:pt x="406" y="179"/>
                  </a:lnTo>
                  <a:lnTo>
                    <a:pt x="437" y="166"/>
                  </a:lnTo>
                  <a:lnTo>
                    <a:pt x="468" y="154"/>
                  </a:lnTo>
                  <a:lnTo>
                    <a:pt x="501" y="143"/>
                  </a:lnTo>
                  <a:lnTo>
                    <a:pt x="534" y="133"/>
                  </a:lnTo>
                  <a:lnTo>
                    <a:pt x="569" y="124"/>
                  </a:lnTo>
                  <a:lnTo>
                    <a:pt x="604" y="116"/>
                  </a:lnTo>
                  <a:lnTo>
                    <a:pt x="641" y="108"/>
                  </a:lnTo>
                  <a:lnTo>
                    <a:pt x="678" y="102"/>
                  </a:lnTo>
                  <a:lnTo>
                    <a:pt x="716" y="97"/>
                  </a:lnTo>
                  <a:lnTo>
                    <a:pt x="755" y="93"/>
                  </a:lnTo>
                  <a:lnTo>
                    <a:pt x="794" y="90"/>
                  </a:lnTo>
                  <a:lnTo>
                    <a:pt x="835" y="87"/>
                  </a:lnTo>
                  <a:lnTo>
                    <a:pt x="875" y="85"/>
                  </a:lnTo>
                  <a:lnTo>
                    <a:pt x="916" y="84"/>
                  </a:lnTo>
                  <a:lnTo>
                    <a:pt x="958" y="84"/>
                  </a:lnTo>
                  <a:lnTo>
                    <a:pt x="958" y="84"/>
                  </a:lnTo>
                  <a:lnTo>
                    <a:pt x="958" y="0"/>
                  </a:lnTo>
                  <a:lnTo>
                    <a:pt x="958" y="0"/>
                  </a:lnTo>
                  <a:lnTo>
                    <a:pt x="958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7267320" y="5996520"/>
              <a:ext cx="76320" cy="59760"/>
            </a:xfrm>
            <a:custGeom>
              <a:avLst/>
              <a:gdLst/>
              <a:ahLst/>
              <a:rect l="l" t="t" r="r" b="b"/>
              <a:pathLst>
                <a:path w="783" h="625">
                  <a:moveTo>
                    <a:pt x="773" y="625"/>
                  </a:moveTo>
                  <a:lnTo>
                    <a:pt x="773" y="625"/>
                  </a:lnTo>
                  <a:lnTo>
                    <a:pt x="776" y="602"/>
                  </a:lnTo>
                  <a:lnTo>
                    <a:pt x="779" y="579"/>
                  </a:lnTo>
                  <a:lnTo>
                    <a:pt x="781" y="557"/>
                  </a:lnTo>
                  <a:lnTo>
                    <a:pt x="782" y="536"/>
                  </a:lnTo>
                  <a:lnTo>
                    <a:pt x="783" y="514"/>
                  </a:lnTo>
                  <a:lnTo>
                    <a:pt x="783" y="494"/>
                  </a:lnTo>
                  <a:lnTo>
                    <a:pt x="783" y="474"/>
                  </a:lnTo>
                  <a:lnTo>
                    <a:pt x="782" y="454"/>
                  </a:lnTo>
                  <a:lnTo>
                    <a:pt x="780" y="435"/>
                  </a:lnTo>
                  <a:lnTo>
                    <a:pt x="778" y="416"/>
                  </a:lnTo>
                  <a:lnTo>
                    <a:pt x="775" y="398"/>
                  </a:lnTo>
                  <a:lnTo>
                    <a:pt x="772" y="380"/>
                  </a:lnTo>
                  <a:lnTo>
                    <a:pt x="768" y="362"/>
                  </a:lnTo>
                  <a:lnTo>
                    <a:pt x="763" y="346"/>
                  </a:lnTo>
                  <a:lnTo>
                    <a:pt x="758" y="329"/>
                  </a:lnTo>
                  <a:lnTo>
                    <a:pt x="752" y="312"/>
                  </a:lnTo>
                  <a:lnTo>
                    <a:pt x="745" y="297"/>
                  </a:lnTo>
                  <a:lnTo>
                    <a:pt x="738" y="282"/>
                  </a:lnTo>
                  <a:lnTo>
                    <a:pt x="731" y="267"/>
                  </a:lnTo>
                  <a:lnTo>
                    <a:pt x="723" y="253"/>
                  </a:lnTo>
                  <a:lnTo>
                    <a:pt x="714" y="238"/>
                  </a:lnTo>
                  <a:lnTo>
                    <a:pt x="705" y="225"/>
                  </a:lnTo>
                  <a:lnTo>
                    <a:pt x="696" y="212"/>
                  </a:lnTo>
                  <a:lnTo>
                    <a:pt x="684" y="200"/>
                  </a:lnTo>
                  <a:lnTo>
                    <a:pt x="674" y="188"/>
                  </a:lnTo>
                  <a:lnTo>
                    <a:pt x="663" y="176"/>
                  </a:lnTo>
                  <a:lnTo>
                    <a:pt x="651" y="165"/>
                  </a:lnTo>
                  <a:lnTo>
                    <a:pt x="639" y="154"/>
                  </a:lnTo>
                  <a:lnTo>
                    <a:pt x="627" y="144"/>
                  </a:lnTo>
                  <a:lnTo>
                    <a:pt x="614" y="134"/>
                  </a:lnTo>
                  <a:lnTo>
                    <a:pt x="601" y="125"/>
                  </a:lnTo>
                  <a:lnTo>
                    <a:pt x="586" y="116"/>
                  </a:lnTo>
                  <a:lnTo>
                    <a:pt x="558" y="99"/>
                  </a:lnTo>
                  <a:lnTo>
                    <a:pt x="528" y="84"/>
                  </a:lnTo>
                  <a:lnTo>
                    <a:pt x="498" y="71"/>
                  </a:lnTo>
                  <a:lnTo>
                    <a:pt x="465" y="59"/>
                  </a:lnTo>
                  <a:lnTo>
                    <a:pt x="432" y="48"/>
                  </a:lnTo>
                  <a:lnTo>
                    <a:pt x="397" y="38"/>
                  </a:lnTo>
                  <a:lnTo>
                    <a:pt x="360" y="30"/>
                  </a:lnTo>
                  <a:lnTo>
                    <a:pt x="324" y="23"/>
                  </a:lnTo>
                  <a:lnTo>
                    <a:pt x="286" y="17"/>
                  </a:lnTo>
                  <a:lnTo>
                    <a:pt x="248" y="12"/>
                  </a:lnTo>
                  <a:lnTo>
                    <a:pt x="208" y="8"/>
                  </a:lnTo>
                  <a:lnTo>
                    <a:pt x="168" y="5"/>
                  </a:lnTo>
                  <a:lnTo>
                    <a:pt x="127" y="3"/>
                  </a:lnTo>
                  <a:lnTo>
                    <a:pt x="85" y="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42" y="84"/>
                  </a:lnTo>
                  <a:lnTo>
                    <a:pt x="83" y="84"/>
                  </a:lnTo>
                  <a:lnTo>
                    <a:pt x="124" y="86"/>
                  </a:lnTo>
                  <a:lnTo>
                    <a:pt x="162" y="88"/>
                  </a:lnTo>
                  <a:lnTo>
                    <a:pt x="201" y="91"/>
                  </a:lnTo>
                  <a:lnTo>
                    <a:pt x="238" y="95"/>
                  </a:lnTo>
                  <a:lnTo>
                    <a:pt x="274" y="100"/>
                  </a:lnTo>
                  <a:lnTo>
                    <a:pt x="310" y="105"/>
                  </a:lnTo>
                  <a:lnTo>
                    <a:pt x="343" y="112"/>
                  </a:lnTo>
                  <a:lnTo>
                    <a:pt x="377" y="120"/>
                  </a:lnTo>
                  <a:lnTo>
                    <a:pt x="408" y="129"/>
                  </a:lnTo>
                  <a:lnTo>
                    <a:pt x="438" y="138"/>
                  </a:lnTo>
                  <a:lnTo>
                    <a:pt x="466" y="148"/>
                  </a:lnTo>
                  <a:lnTo>
                    <a:pt x="493" y="160"/>
                  </a:lnTo>
                  <a:lnTo>
                    <a:pt x="519" y="173"/>
                  </a:lnTo>
                  <a:lnTo>
                    <a:pt x="543" y="188"/>
                  </a:lnTo>
                  <a:lnTo>
                    <a:pt x="553" y="195"/>
                  </a:lnTo>
                  <a:lnTo>
                    <a:pt x="565" y="202"/>
                  </a:lnTo>
                  <a:lnTo>
                    <a:pt x="575" y="210"/>
                  </a:lnTo>
                  <a:lnTo>
                    <a:pt x="585" y="218"/>
                  </a:lnTo>
                  <a:lnTo>
                    <a:pt x="595" y="226"/>
                  </a:lnTo>
                  <a:lnTo>
                    <a:pt x="604" y="235"/>
                  </a:lnTo>
                  <a:lnTo>
                    <a:pt x="612" y="244"/>
                  </a:lnTo>
                  <a:lnTo>
                    <a:pt x="621" y="255"/>
                  </a:lnTo>
                  <a:lnTo>
                    <a:pt x="629" y="264"/>
                  </a:lnTo>
                  <a:lnTo>
                    <a:pt x="637" y="274"/>
                  </a:lnTo>
                  <a:lnTo>
                    <a:pt x="644" y="285"/>
                  </a:lnTo>
                  <a:lnTo>
                    <a:pt x="651" y="295"/>
                  </a:lnTo>
                  <a:lnTo>
                    <a:pt x="657" y="306"/>
                  </a:lnTo>
                  <a:lnTo>
                    <a:pt x="663" y="318"/>
                  </a:lnTo>
                  <a:lnTo>
                    <a:pt x="668" y="331"/>
                  </a:lnTo>
                  <a:lnTo>
                    <a:pt x="673" y="343"/>
                  </a:lnTo>
                  <a:lnTo>
                    <a:pt x="678" y="356"/>
                  </a:lnTo>
                  <a:lnTo>
                    <a:pt x="682" y="369"/>
                  </a:lnTo>
                  <a:lnTo>
                    <a:pt x="686" y="383"/>
                  </a:lnTo>
                  <a:lnTo>
                    <a:pt x="690" y="398"/>
                  </a:lnTo>
                  <a:lnTo>
                    <a:pt x="693" y="412"/>
                  </a:lnTo>
                  <a:lnTo>
                    <a:pt x="695" y="427"/>
                  </a:lnTo>
                  <a:lnTo>
                    <a:pt x="697" y="443"/>
                  </a:lnTo>
                  <a:lnTo>
                    <a:pt x="698" y="460"/>
                  </a:lnTo>
                  <a:lnTo>
                    <a:pt x="699" y="477"/>
                  </a:lnTo>
                  <a:lnTo>
                    <a:pt x="700" y="494"/>
                  </a:lnTo>
                  <a:lnTo>
                    <a:pt x="699" y="512"/>
                  </a:lnTo>
                  <a:lnTo>
                    <a:pt x="699" y="532"/>
                  </a:lnTo>
                  <a:lnTo>
                    <a:pt x="697" y="550"/>
                  </a:lnTo>
                  <a:lnTo>
                    <a:pt x="695" y="570"/>
                  </a:lnTo>
                  <a:lnTo>
                    <a:pt x="693" y="590"/>
                  </a:lnTo>
                  <a:lnTo>
                    <a:pt x="690" y="612"/>
                  </a:lnTo>
                  <a:lnTo>
                    <a:pt x="690" y="612"/>
                  </a:lnTo>
                  <a:lnTo>
                    <a:pt x="773" y="625"/>
                  </a:lnTo>
                  <a:lnTo>
                    <a:pt x="773" y="625"/>
                  </a:lnTo>
                  <a:lnTo>
                    <a:pt x="773" y="62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312680" y="6055200"/>
              <a:ext cx="29880" cy="137880"/>
            </a:xfrm>
            <a:custGeom>
              <a:avLst/>
              <a:gdLst/>
              <a:ahLst/>
              <a:rect l="l" t="t" r="r" b="b"/>
              <a:pathLst>
                <a:path w="307" h="1407">
                  <a:moveTo>
                    <a:pt x="0" y="1394"/>
                  </a:moveTo>
                  <a:lnTo>
                    <a:pt x="82" y="1407"/>
                  </a:lnTo>
                  <a:lnTo>
                    <a:pt x="307" y="13"/>
                  </a:lnTo>
                  <a:lnTo>
                    <a:pt x="224" y="0"/>
                  </a:lnTo>
                  <a:lnTo>
                    <a:pt x="0" y="1394"/>
                  </a:lnTo>
                  <a:lnTo>
                    <a:pt x="0" y="1394"/>
                  </a:lnTo>
                  <a:lnTo>
                    <a:pt x="82" y="1407"/>
                  </a:lnTo>
                  <a:lnTo>
                    <a:pt x="82" y="1407"/>
                  </a:lnTo>
                  <a:lnTo>
                    <a:pt x="82" y="1407"/>
                  </a:lnTo>
                  <a:lnTo>
                    <a:pt x="0" y="1394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334280" y="6000480"/>
              <a:ext cx="183960" cy="248760"/>
            </a:xfrm>
            <a:custGeom>
              <a:avLst/>
              <a:gdLst/>
              <a:ahLst/>
              <a:rect l="l" t="t" r="r" b="b"/>
              <a:pathLst>
                <a:path w="1892" h="2556">
                  <a:moveTo>
                    <a:pt x="1657" y="1971"/>
                  </a:moveTo>
                  <a:lnTo>
                    <a:pt x="1649" y="2015"/>
                  </a:lnTo>
                  <a:lnTo>
                    <a:pt x="1640" y="2056"/>
                  </a:lnTo>
                  <a:lnTo>
                    <a:pt x="1628" y="2095"/>
                  </a:lnTo>
                  <a:lnTo>
                    <a:pt x="1615" y="2133"/>
                  </a:lnTo>
                  <a:lnTo>
                    <a:pt x="1601" y="2168"/>
                  </a:lnTo>
                  <a:lnTo>
                    <a:pt x="1583" y="2202"/>
                  </a:lnTo>
                  <a:lnTo>
                    <a:pt x="1566" y="2233"/>
                  </a:lnTo>
                  <a:lnTo>
                    <a:pt x="1547" y="2262"/>
                  </a:lnTo>
                  <a:lnTo>
                    <a:pt x="1525" y="2291"/>
                  </a:lnTo>
                  <a:lnTo>
                    <a:pt x="1503" y="2316"/>
                  </a:lnTo>
                  <a:lnTo>
                    <a:pt x="1480" y="2342"/>
                  </a:lnTo>
                  <a:lnTo>
                    <a:pt x="1454" y="2364"/>
                  </a:lnTo>
                  <a:lnTo>
                    <a:pt x="1428" y="2385"/>
                  </a:lnTo>
                  <a:lnTo>
                    <a:pt x="1400" y="2406"/>
                  </a:lnTo>
                  <a:lnTo>
                    <a:pt x="1371" y="2424"/>
                  </a:lnTo>
                  <a:lnTo>
                    <a:pt x="1341" y="2441"/>
                  </a:lnTo>
                  <a:lnTo>
                    <a:pt x="1310" y="2456"/>
                  </a:lnTo>
                  <a:lnTo>
                    <a:pt x="1279" y="2470"/>
                  </a:lnTo>
                  <a:lnTo>
                    <a:pt x="1245" y="2484"/>
                  </a:lnTo>
                  <a:lnTo>
                    <a:pt x="1210" y="2495"/>
                  </a:lnTo>
                  <a:lnTo>
                    <a:pt x="1176" y="2506"/>
                  </a:lnTo>
                  <a:lnTo>
                    <a:pt x="1139" y="2515"/>
                  </a:lnTo>
                  <a:lnTo>
                    <a:pt x="1103" y="2523"/>
                  </a:lnTo>
                  <a:lnTo>
                    <a:pt x="1065" y="2530"/>
                  </a:lnTo>
                  <a:lnTo>
                    <a:pt x="1027" y="2536"/>
                  </a:lnTo>
                  <a:lnTo>
                    <a:pt x="988" y="2542"/>
                  </a:lnTo>
                  <a:lnTo>
                    <a:pt x="948" y="2547"/>
                  </a:lnTo>
                  <a:lnTo>
                    <a:pt x="908" y="2550"/>
                  </a:lnTo>
                  <a:lnTo>
                    <a:pt x="867" y="2553"/>
                  </a:lnTo>
                  <a:lnTo>
                    <a:pt x="825" y="2555"/>
                  </a:lnTo>
                  <a:lnTo>
                    <a:pt x="783" y="2556"/>
                  </a:lnTo>
                  <a:lnTo>
                    <a:pt x="741" y="2556"/>
                  </a:lnTo>
                  <a:lnTo>
                    <a:pt x="698" y="2556"/>
                  </a:lnTo>
                  <a:lnTo>
                    <a:pt x="657" y="2556"/>
                  </a:lnTo>
                  <a:lnTo>
                    <a:pt x="616" y="2554"/>
                  </a:lnTo>
                  <a:lnTo>
                    <a:pt x="576" y="2552"/>
                  </a:lnTo>
                  <a:lnTo>
                    <a:pt x="536" y="2549"/>
                  </a:lnTo>
                  <a:lnTo>
                    <a:pt x="498" y="2545"/>
                  </a:lnTo>
                  <a:lnTo>
                    <a:pt x="461" y="2539"/>
                  </a:lnTo>
                  <a:lnTo>
                    <a:pt x="424" y="2533"/>
                  </a:lnTo>
                  <a:lnTo>
                    <a:pt x="389" y="2527"/>
                  </a:lnTo>
                  <a:lnTo>
                    <a:pt x="354" y="2519"/>
                  </a:lnTo>
                  <a:lnTo>
                    <a:pt x="322" y="2510"/>
                  </a:lnTo>
                  <a:lnTo>
                    <a:pt x="290" y="2500"/>
                  </a:lnTo>
                  <a:lnTo>
                    <a:pt x="259" y="2489"/>
                  </a:lnTo>
                  <a:lnTo>
                    <a:pt x="230" y="2476"/>
                  </a:lnTo>
                  <a:lnTo>
                    <a:pt x="203" y="2462"/>
                  </a:lnTo>
                  <a:lnTo>
                    <a:pt x="176" y="2447"/>
                  </a:lnTo>
                  <a:lnTo>
                    <a:pt x="152" y="2430"/>
                  </a:lnTo>
                  <a:lnTo>
                    <a:pt x="129" y="2412"/>
                  </a:lnTo>
                  <a:lnTo>
                    <a:pt x="107" y="2392"/>
                  </a:lnTo>
                  <a:lnTo>
                    <a:pt x="88" y="2371"/>
                  </a:lnTo>
                  <a:lnTo>
                    <a:pt x="70" y="2349"/>
                  </a:lnTo>
                  <a:lnTo>
                    <a:pt x="54" y="2324"/>
                  </a:lnTo>
                  <a:lnTo>
                    <a:pt x="40" y="2298"/>
                  </a:lnTo>
                  <a:lnTo>
                    <a:pt x="28" y="2271"/>
                  </a:lnTo>
                  <a:lnTo>
                    <a:pt x="18" y="2241"/>
                  </a:lnTo>
                  <a:lnTo>
                    <a:pt x="10" y="2210"/>
                  </a:lnTo>
                  <a:lnTo>
                    <a:pt x="5" y="2176"/>
                  </a:lnTo>
                  <a:lnTo>
                    <a:pt x="1" y="2141"/>
                  </a:lnTo>
                  <a:lnTo>
                    <a:pt x="0" y="2104"/>
                  </a:lnTo>
                  <a:lnTo>
                    <a:pt x="1" y="2065"/>
                  </a:lnTo>
                  <a:lnTo>
                    <a:pt x="4" y="2024"/>
                  </a:lnTo>
                  <a:lnTo>
                    <a:pt x="10" y="1980"/>
                  </a:lnTo>
                  <a:lnTo>
                    <a:pt x="234" y="586"/>
                  </a:lnTo>
                  <a:lnTo>
                    <a:pt x="241" y="542"/>
                  </a:lnTo>
                  <a:lnTo>
                    <a:pt x="251" y="501"/>
                  </a:lnTo>
                  <a:lnTo>
                    <a:pt x="263" y="462"/>
                  </a:lnTo>
                  <a:lnTo>
                    <a:pt x="276" y="425"/>
                  </a:lnTo>
                  <a:lnTo>
                    <a:pt x="291" y="389"/>
                  </a:lnTo>
                  <a:lnTo>
                    <a:pt x="307" y="356"/>
                  </a:lnTo>
                  <a:lnTo>
                    <a:pt x="326" y="324"/>
                  </a:lnTo>
                  <a:lnTo>
                    <a:pt x="345" y="295"/>
                  </a:lnTo>
                  <a:lnTo>
                    <a:pt x="366" y="266"/>
                  </a:lnTo>
                  <a:lnTo>
                    <a:pt x="389" y="240"/>
                  </a:lnTo>
                  <a:lnTo>
                    <a:pt x="412" y="216"/>
                  </a:lnTo>
                  <a:lnTo>
                    <a:pt x="437" y="193"/>
                  </a:lnTo>
                  <a:lnTo>
                    <a:pt x="464" y="172"/>
                  </a:lnTo>
                  <a:lnTo>
                    <a:pt x="491" y="152"/>
                  </a:lnTo>
                  <a:lnTo>
                    <a:pt x="520" y="133"/>
                  </a:lnTo>
                  <a:lnTo>
                    <a:pt x="550" y="116"/>
                  </a:lnTo>
                  <a:lnTo>
                    <a:pt x="581" y="101"/>
                  </a:lnTo>
                  <a:lnTo>
                    <a:pt x="613" y="87"/>
                  </a:lnTo>
                  <a:lnTo>
                    <a:pt x="647" y="73"/>
                  </a:lnTo>
                  <a:lnTo>
                    <a:pt x="680" y="62"/>
                  </a:lnTo>
                  <a:lnTo>
                    <a:pt x="716" y="51"/>
                  </a:lnTo>
                  <a:lnTo>
                    <a:pt x="751" y="42"/>
                  </a:lnTo>
                  <a:lnTo>
                    <a:pt x="789" y="34"/>
                  </a:lnTo>
                  <a:lnTo>
                    <a:pt x="826" y="27"/>
                  </a:lnTo>
                  <a:lnTo>
                    <a:pt x="864" y="21"/>
                  </a:lnTo>
                  <a:lnTo>
                    <a:pt x="904" y="15"/>
                  </a:lnTo>
                  <a:lnTo>
                    <a:pt x="943" y="11"/>
                  </a:lnTo>
                  <a:lnTo>
                    <a:pt x="984" y="8"/>
                  </a:lnTo>
                  <a:lnTo>
                    <a:pt x="1025" y="4"/>
                  </a:lnTo>
                  <a:lnTo>
                    <a:pt x="1066" y="2"/>
                  </a:lnTo>
                  <a:lnTo>
                    <a:pt x="1108" y="1"/>
                  </a:lnTo>
                  <a:lnTo>
                    <a:pt x="1151" y="0"/>
                  </a:lnTo>
                  <a:lnTo>
                    <a:pt x="1193" y="0"/>
                  </a:lnTo>
                  <a:lnTo>
                    <a:pt x="1235" y="1"/>
                  </a:lnTo>
                  <a:lnTo>
                    <a:pt x="1275" y="3"/>
                  </a:lnTo>
                  <a:lnTo>
                    <a:pt x="1316" y="6"/>
                  </a:lnTo>
                  <a:lnTo>
                    <a:pt x="1355" y="9"/>
                  </a:lnTo>
                  <a:lnTo>
                    <a:pt x="1393" y="13"/>
                  </a:lnTo>
                  <a:lnTo>
                    <a:pt x="1431" y="18"/>
                  </a:lnTo>
                  <a:lnTo>
                    <a:pt x="1467" y="24"/>
                  </a:lnTo>
                  <a:lnTo>
                    <a:pt x="1503" y="30"/>
                  </a:lnTo>
                  <a:lnTo>
                    <a:pt x="1537" y="38"/>
                  </a:lnTo>
                  <a:lnTo>
                    <a:pt x="1570" y="47"/>
                  </a:lnTo>
                  <a:lnTo>
                    <a:pt x="1602" y="57"/>
                  </a:lnTo>
                  <a:lnTo>
                    <a:pt x="1632" y="68"/>
                  </a:lnTo>
                  <a:lnTo>
                    <a:pt x="1661" y="82"/>
                  </a:lnTo>
                  <a:lnTo>
                    <a:pt x="1689" y="95"/>
                  </a:lnTo>
                  <a:lnTo>
                    <a:pt x="1715" y="110"/>
                  </a:lnTo>
                  <a:lnTo>
                    <a:pt x="1740" y="127"/>
                  </a:lnTo>
                  <a:lnTo>
                    <a:pt x="1763" y="146"/>
                  </a:lnTo>
                  <a:lnTo>
                    <a:pt x="1783" y="165"/>
                  </a:lnTo>
                  <a:lnTo>
                    <a:pt x="1804" y="186"/>
                  </a:lnTo>
                  <a:lnTo>
                    <a:pt x="1821" y="208"/>
                  </a:lnTo>
                  <a:lnTo>
                    <a:pt x="1837" y="233"/>
                  </a:lnTo>
                  <a:lnTo>
                    <a:pt x="1851" y="259"/>
                  </a:lnTo>
                  <a:lnTo>
                    <a:pt x="1864" y="287"/>
                  </a:lnTo>
                  <a:lnTo>
                    <a:pt x="1873" y="316"/>
                  </a:lnTo>
                  <a:lnTo>
                    <a:pt x="1881" y="347"/>
                  </a:lnTo>
                  <a:lnTo>
                    <a:pt x="1887" y="381"/>
                  </a:lnTo>
                  <a:lnTo>
                    <a:pt x="1890" y="416"/>
                  </a:lnTo>
                  <a:lnTo>
                    <a:pt x="1892" y="453"/>
                  </a:lnTo>
                  <a:lnTo>
                    <a:pt x="1891" y="493"/>
                  </a:lnTo>
                  <a:lnTo>
                    <a:pt x="1887" y="533"/>
                  </a:lnTo>
                  <a:lnTo>
                    <a:pt x="1882" y="577"/>
                  </a:lnTo>
                  <a:lnTo>
                    <a:pt x="1657" y="19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407000" y="6192000"/>
              <a:ext cx="92880" cy="61200"/>
            </a:xfrm>
            <a:custGeom>
              <a:avLst/>
              <a:gdLst/>
              <a:ahLst/>
              <a:rect l="l" t="t" r="r" b="b"/>
              <a:pathLst>
                <a:path w="958" h="633">
                  <a:moveTo>
                    <a:pt x="0" y="633"/>
                  </a:moveTo>
                  <a:lnTo>
                    <a:pt x="0" y="633"/>
                  </a:lnTo>
                  <a:lnTo>
                    <a:pt x="43" y="632"/>
                  </a:lnTo>
                  <a:lnTo>
                    <a:pt x="85" y="631"/>
                  </a:lnTo>
                  <a:lnTo>
                    <a:pt x="128" y="629"/>
                  </a:lnTo>
                  <a:lnTo>
                    <a:pt x="170" y="626"/>
                  </a:lnTo>
                  <a:lnTo>
                    <a:pt x="211" y="623"/>
                  </a:lnTo>
                  <a:lnTo>
                    <a:pt x="252" y="618"/>
                  </a:lnTo>
                  <a:lnTo>
                    <a:pt x="292" y="613"/>
                  </a:lnTo>
                  <a:lnTo>
                    <a:pt x="331" y="607"/>
                  </a:lnTo>
                  <a:lnTo>
                    <a:pt x="370" y="599"/>
                  </a:lnTo>
                  <a:lnTo>
                    <a:pt x="408" y="591"/>
                  </a:lnTo>
                  <a:lnTo>
                    <a:pt x="446" y="581"/>
                  </a:lnTo>
                  <a:lnTo>
                    <a:pt x="483" y="570"/>
                  </a:lnTo>
                  <a:lnTo>
                    <a:pt x="518" y="558"/>
                  </a:lnTo>
                  <a:lnTo>
                    <a:pt x="553" y="544"/>
                  </a:lnTo>
                  <a:lnTo>
                    <a:pt x="587" y="529"/>
                  </a:lnTo>
                  <a:lnTo>
                    <a:pt x="620" y="513"/>
                  </a:lnTo>
                  <a:lnTo>
                    <a:pt x="651" y="494"/>
                  </a:lnTo>
                  <a:lnTo>
                    <a:pt x="683" y="475"/>
                  </a:lnTo>
                  <a:lnTo>
                    <a:pt x="712" y="454"/>
                  </a:lnTo>
                  <a:lnTo>
                    <a:pt x="740" y="431"/>
                  </a:lnTo>
                  <a:lnTo>
                    <a:pt x="754" y="419"/>
                  </a:lnTo>
                  <a:lnTo>
                    <a:pt x="767" y="406"/>
                  </a:lnTo>
                  <a:lnTo>
                    <a:pt x="780" y="393"/>
                  </a:lnTo>
                  <a:lnTo>
                    <a:pt x="792" y="380"/>
                  </a:lnTo>
                  <a:lnTo>
                    <a:pt x="805" y="366"/>
                  </a:lnTo>
                  <a:lnTo>
                    <a:pt x="817" y="351"/>
                  </a:lnTo>
                  <a:lnTo>
                    <a:pt x="828" y="337"/>
                  </a:lnTo>
                  <a:lnTo>
                    <a:pt x="839" y="322"/>
                  </a:lnTo>
                  <a:lnTo>
                    <a:pt x="850" y="306"/>
                  </a:lnTo>
                  <a:lnTo>
                    <a:pt x="861" y="289"/>
                  </a:lnTo>
                  <a:lnTo>
                    <a:pt x="871" y="273"/>
                  </a:lnTo>
                  <a:lnTo>
                    <a:pt x="880" y="256"/>
                  </a:lnTo>
                  <a:lnTo>
                    <a:pt x="889" y="239"/>
                  </a:lnTo>
                  <a:lnTo>
                    <a:pt x="897" y="220"/>
                  </a:lnTo>
                  <a:lnTo>
                    <a:pt x="905" y="202"/>
                  </a:lnTo>
                  <a:lnTo>
                    <a:pt x="913" y="183"/>
                  </a:lnTo>
                  <a:lnTo>
                    <a:pt x="920" y="163"/>
                  </a:lnTo>
                  <a:lnTo>
                    <a:pt x="928" y="143"/>
                  </a:lnTo>
                  <a:lnTo>
                    <a:pt x="934" y="123"/>
                  </a:lnTo>
                  <a:lnTo>
                    <a:pt x="940" y="102"/>
                  </a:lnTo>
                  <a:lnTo>
                    <a:pt x="945" y="80"/>
                  </a:lnTo>
                  <a:lnTo>
                    <a:pt x="950" y="59"/>
                  </a:lnTo>
                  <a:lnTo>
                    <a:pt x="954" y="36"/>
                  </a:lnTo>
                  <a:lnTo>
                    <a:pt x="958" y="13"/>
                  </a:lnTo>
                  <a:lnTo>
                    <a:pt x="875" y="0"/>
                  </a:lnTo>
                  <a:lnTo>
                    <a:pt x="872" y="21"/>
                  </a:lnTo>
                  <a:lnTo>
                    <a:pt x="868" y="42"/>
                  </a:lnTo>
                  <a:lnTo>
                    <a:pt x="863" y="61"/>
                  </a:lnTo>
                  <a:lnTo>
                    <a:pt x="859" y="80"/>
                  </a:lnTo>
                  <a:lnTo>
                    <a:pt x="853" y="100"/>
                  </a:lnTo>
                  <a:lnTo>
                    <a:pt x="847" y="118"/>
                  </a:lnTo>
                  <a:lnTo>
                    <a:pt x="841" y="135"/>
                  </a:lnTo>
                  <a:lnTo>
                    <a:pt x="835" y="152"/>
                  </a:lnTo>
                  <a:lnTo>
                    <a:pt x="828" y="170"/>
                  </a:lnTo>
                  <a:lnTo>
                    <a:pt x="821" y="186"/>
                  </a:lnTo>
                  <a:lnTo>
                    <a:pt x="814" y="201"/>
                  </a:lnTo>
                  <a:lnTo>
                    <a:pt x="806" y="216"/>
                  </a:lnTo>
                  <a:lnTo>
                    <a:pt x="798" y="231"/>
                  </a:lnTo>
                  <a:lnTo>
                    <a:pt x="789" y="246"/>
                  </a:lnTo>
                  <a:lnTo>
                    <a:pt x="780" y="260"/>
                  </a:lnTo>
                  <a:lnTo>
                    <a:pt x="771" y="273"/>
                  </a:lnTo>
                  <a:lnTo>
                    <a:pt x="761" y="286"/>
                  </a:lnTo>
                  <a:lnTo>
                    <a:pt x="752" y="299"/>
                  </a:lnTo>
                  <a:lnTo>
                    <a:pt x="742" y="312"/>
                  </a:lnTo>
                  <a:lnTo>
                    <a:pt x="731" y="324"/>
                  </a:lnTo>
                  <a:lnTo>
                    <a:pt x="720" y="335"/>
                  </a:lnTo>
                  <a:lnTo>
                    <a:pt x="709" y="346"/>
                  </a:lnTo>
                  <a:lnTo>
                    <a:pt x="698" y="357"/>
                  </a:lnTo>
                  <a:lnTo>
                    <a:pt x="686" y="367"/>
                  </a:lnTo>
                  <a:lnTo>
                    <a:pt x="661" y="387"/>
                  </a:lnTo>
                  <a:lnTo>
                    <a:pt x="636" y="406"/>
                  </a:lnTo>
                  <a:lnTo>
                    <a:pt x="609" y="423"/>
                  </a:lnTo>
                  <a:lnTo>
                    <a:pt x="580" y="438"/>
                  </a:lnTo>
                  <a:lnTo>
                    <a:pt x="552" y="454"/>
                  </a:lnTo>
                  <a:lnTo>
                    <a:pt x="521" y="467"/>
                  </a:lnTo>
                  <a:lnTo>
                    <a:pt x="490" y="479"/>
                  </a:lnTo>
                  <a:lnTo>
                    <a:pt x="457" y="490"/>
                  </a:lnTo>
                  <a:lnTo>
                    <a:pt x="424" y="500"/>
                  </a:lnTo>
                  <a:lnTo>
                    <a:pt x="389" y="510"/>
                  </a:lnTo>
                  <a:lnTo>
                    <a:pt x="354" y="518"/>
                  </a:lnTo>
                  <a:lnTo>
                    <a:pt x="317" y="524"/>
                  </a:lnTo>
                  <a:lnTo>
                    <a:pt x="279" y="530"/>
                  </a:lnTo>
                  <a:lnTo>
                    <a:pt x="242" y="535"/>
                  </a:lnTo>
                  <a:lnTo>
                    <a:pt x="203" y="540"/>
                  </a:lnTo>
                  <a:lnTo>
                    <a:pt x="164" y="543"/>
                  </a:lnTo>
                  <a:lnTo>
                    <a:pt x="123" y="546"/>
                  </a:lnTo>
                  <a:lnTo>
                    <a:pt x="82" y="547"/>
                  </a:lnTo>
                  <a:lnTo>
                    <a:pt x="42" y="549"/>
                  </a:lnTo>
                  <a:lnTo>
                    <a:pt x="0" y="549"/>
                  </a:lnTo>
                  <a:lnTo>
                    <a:pt x="0" y="549"/>
                  </a:lnTo>
                  <a:lnTo>
                    <a:pt x="0" y="633"/>
                  </a:lnTo>
                  <a:lnTo>
                    <a:pt x="0" y="633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330320" y="6193080"/>
              <a:ext cx="76320" cy="59760"/>
            </a:xfrm>
            <a:custGeom>
              <a:avLst/>
              <a:gdLst/>
              <a:ahLst/>
              <a:rect l="l" t="t" r="r" b="b"/>
              <a:pathLst>
                <a:path w="783" h="625">
                  <a:moveTo>
                    <a:pt x="11" y="0"/>
                  </a:moveTo>
                  <a:lnTo>
                    <a:pt x="11" y="0"/>
                  </a:lnTo>
                  <a:lnTo>
                    <a:pt x="7" y="24"/>
                  </a:lnTo>
                  <a:lnTo>
                    <a:pt x="4" y="46"/>
                  </a:lnTo>
                  <a:lnTo>
                    <a:pt x="2" y="68"/>
                  </a:lnTo>
                  <a:lnTo>
                    <a:pt x="1" y="90"/>
                  </a:lnTo>
                  <a:lnTo>
                    <a:pt x="0" y="111"/>
                  </a:lnTo>
                  <a:lnTo>
                    <a:pt x="0" y="131"/>
                  </a:lnTo>
                  <a:lnTo>
                    <a:pt x="0" y="151"/>
                  </a:lnTo>
                  <a:lnTo>
                    <a:pt x="1" y="171"/>
                  </a:lnTo>
                  <a:lnTo>
                    <a:pt x="3" y="190"/>
                  </a:lnTo>
                  <a:lnTo>
                    <a:pt x="5" y="209"/>
                  </a:lnTo>
                  <a:lnTo>
                    <a:pt x="8" y="228"/>
                  </a:lnTo>
                  <a:lnTo>
                    <a:pt x="11" y="245"/>
                  </a:lnTo>
                  <a:lnTo>
                    <a:pt x="15" y="262"/>
                  </a:lnTo>
                  <a:lnTo>
                    <a:pt x="20" y="279"/>
                  </a:lnTo>
                  <a:lnTo>
                    <a:pt x="25" y="297"/>
                  </a:lnTo>
                  <a:lnTo>
                    <a:pt x="30" y="313"/>
                  </a:lnTo>
                  <a:lnTo>
                    <a:pt x="37" y="328"/>
                  </a:lnTo>
                  <a:lnTo>
                    <a:pt x="45" y="343"/>
                  </a:lnTo>
                  <a:lnTo>
                    <a:pt x="52" y="358"/>
                  </a:lnTo>
                  <a:lnTo>
                    <a:pt x="60" y="373"/>
                  </a:lnTo>
                  <a:lnTo>
                    <a:pt x="69" y="387"/>
                  </a:lnTo>
                  <a:lnTo>
                    <a:pt x="78" y="400"/>
                  </a:lnTo>
                  <a:lnTo>
                    <a:pt x="87" y="413"/>
                  </a:lnTo>
                  <a:lnTo>
                    <a:pt x="98" y="425"/>
                  </a:lnTo>
                  <a:lnTo>
                    <a:pt x="109" y="438"/>
                  </a:lnTo>
                  <a:lnTo>
                    <a:pt x="120" y="449"/>
                  </a:lnTo>
                  <a:lnTo>
                    <a:pt x="131" y="460"/>
                  </a:lnTo>
                  <a:lnTo>
                    <a:pt x="143" y="471"/>
                  </a:lnTo>
                  <a:lnTo>
                    <a:pt x="156" y="481"/>
                  </a:lnTo>
                  <a:lnTo>
                    <a:pt x="169" y="490"/>
                  </a:lnTo>
                  <a:lnTo>
                    <a:pt x="183" y="501"/>
                  </a:lnTo>
                  <a:lnTo>
                    <a:pt x="197" y="510"/>
                  </a:lnTo>
                  <a:lnTo>
                    <a:pt x="224" y="526"/>
                  </a:lnTo>
                  <a:lnTo>
                    <a:pt x="254" y="541"/>
                  </a:lnTo>
                  <a:lnTo>
                    <a:pt x="285" y="554"/>
                  </a:lnTo>
                  <a:lnTo>
                    <a:pt x="318" y="566"/>
                  </a:lnTo>
                  <a:lnTo>
                    <a:pt x="351" y="578"/>
                  </a:lnTo>
                  <a:lnTo>
                    <a:pt x="386" y="587"/>
                  </a:lnTo>
                  <a:lnTo>
                    <a:pt x="421" y="595"/>
                  </a:lnTo>
                  <a:lnTo>
                    <a:pt x="459" y="602"/>
                  </a:lnTo>
                  <a:lnTo>
                    <a:pt x="497" y="608"/>
                  </a:lnTo>
                  <a:lnTo>
                    <a:pt x="535" y="613"/>
                  </a:lnTo>
                  <a:lnTo>
                    <a:pt x="575" y="617"/>
                  </a:lnTo>
                  <a:lnTo>
                    <a:pt x="614" y="620"/>
                  </a:lnTo>
                  <a:lnTo>
                    <a:pt x="656" y="622"/>
                  </a:lnTo>
                  <a:lnTo>
                    <a:pt x="698" y="624"/>
                  </a:lnTo>
                  <a:lnTo>
                    <a:pt x="740" y="625"/>
                  </a:lnTo>
                  <a:lnTo>
                    <a:pt x="783" y="625"/>
                  </a:lnTo>
                  <a:lnTo>
                    <a:pt x="783" y="541"/>
                  </a:lnTo>
                  <a:lnTo>
                    <a:pt x="740" y="541"/>
                  </a:lnTo>
                  <a:lnTo>
                    <a:pt x="700" y="540"/>
                  </a:lnTo>
                  <a:lnTo>
                    <a:pt x="659" y="539"/>
                  </a:lnTo>
                  <a:lnTo>
                    <a:pt x="621" y="537"/>
                  </a:lnTo>
                  <a:lnTo>
                    <a:pt x="582" y="534"/>
                  </a:lnTo>
                  <a:lnTo>
                    <a:pt x="544" y="530"/>
                  </a:lnTo>
                  <a:lnTo>
                    <a:pt x="508" y="525"/>
                  </a:lnTo>
                  <a:lnTo>
                    <a:pt x="473" y="520"/>
                  </a:lnTo>
                  <a:lnTo>
                    <a:pt x="440" y="513"/>
                  </a:lnTo>
                  <a:lnTo>
                    <a:pt x="406" y="506"/>
                  </a:lnTo>
                  <a:lnTo>
                    <a:pt x="375" y="496"/>
                  </a:lnTo>
                  <a:lnTo>
                    <a:pt x="345" y="487"/>
                  </a:lnTo>
                  <a:lnTo>
                    <a:pt x="317" y="476"/>
                  </a:lnTo>
                  <a:lnTo>
                    <a:pt x="289" y="465"/>
                  </a:lnTo>
                  <a:lnTo>
                    <a:pt x="264" y="452"/>
                  </a:lnTo>
                  <a:lnTo>
                    <a:pt x="240" y="438"/>
                  </a:lnTo>
                  <a:lnTo>
                    <a:pt x="229" y="430"/>
                  </a:lnTo>
                  <a:lnTo>
                    <a:pt x="218" y="423"/>
                  </a:lnTo>
                  <a:lnTo>
                    <a:pt x="208" y="415"/>
                  </a:lnTo>
                  <a:lnTo>
                    <a:pt x="198" y="407"/>
                  </a:lnTo>
                  <a:lnTo>
                    <a:pt x="188" y="399"/>
                  </a:lnTo>
                  <a:lnTo>
                    <a:pt x="179" y="390"/>
                  </a:lnTo>
                  <a:lnTo>
                    <a:pt x="171" y="381"/>
                  </a:lnTo>
                  <a:lnTo>
                    <a:pt x="161" y="372"/>
                  </a:lnTo>
                  <a:lnTo>
                    <a:pt x="153" y="361"/>
                  </a:lnTo>
                  <a:lnTo>
                    <a:pt x="146" y="351"/>
                  </a:lnTo>
                  <a:lnTo>
                    <a:pt x="139" y="341"/>
                  </a:lnTo>
                  <a:lnTo>
                    <a:pt x="132" y="330"/>
                  </a:lnTo>
                  <a:lnTo>
                    <a:pt x="126" y="319"/>
                  </a:lnTo>
                  <a:lnTo>
                    <a:pt x="120" y="307"/>
                  </a:lnTo>
                  <a:lnTo>
                    <a:pt x="115" y="295"/>
                  </a:lnTo>
                  <a:lnTo>
                    <a:pt x="110" y="282"/>
                  </a:lnTo>
                  <a:lnTo>
                    <a:pt x="105" y="269"/>
                  </a:lnTo>
                  <a:lnTo>
                    <a:pt x="100" y="256"/>
                  </a:lnTo>
                  <a:lnTo>
                    <a:pt x="96" y="242"/>
                  </a:lnTo>
                  <a:lnTo>
                    <a:pt x="93" y="228"/>
                  </a:lnTo>
                  <a:lnTo>
                    <a:pt x="90" y="213"/>
                  </a:lnTo>
                  <a:lnTo>
                    <a:pt x="88" y="198"/>
                  </a:lnTo>
                  <a:lnTo>
                    <a:pt x="86" y="182"/>
                  </a:lnTo>
                  <a:lnTo>
                    <a:pt x="85" y="166"/>
                  </a:lnTo>
                  <a:lnTo>
                    <a:pt x="84" y="148"/>
                  </a:lnTo>
                  <a:lnTo>
                    <a:pt x="83" y="131"/>
                  </a:lnTo>
                  <a:lnTo>
                    <a:pt x="84" y="113"/>
                  </a:lnTo>
                  <a:lnTo>
                    <a:pt x="84" y="94"/>
                  </a:lnTo>
                  <a:lnTo>
                    <a:pt x="86" y="75"/>
                  </a:lnTo>
                  <a:lnTo>
                    <a:pt x="87" y="55"/>
                  </a:lnTo>
                  <a:lnTo>
                    <a:pt x="90" y="35"/>
                  </a:lnTo>
                  <a:lnTo>
                    <a:pt x="93" y="13"/>
                  </a:lnTo>
                  <a:lnTo>
                    <a:pt x="93" y="1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331400" y="6056640"/>
              <a:ext cx="29880" cy="137880"/>
            </a:xfrm>
            <a:custGeom>
              <a:avLst/>
              <a:gdLst/>
              <a:ahLst/>
              <a:rect l="l" t="t" r="r" b="b"/>
              <a:pathLst>
                <a:path w="306" h="1407">
                  <a:moveTo>
                    <a:pt x="306" y="13"/>
                  </a:moveTo>
                  <a:lnTo>
                    <a:pt x="224" y="0"/>
                  </a:lnTo>
                  <a:lnTo>
                    <a:pt x="0" y="1394"/>
                  </a:lnTo>
                  <a:lnTo>
                    <a:pt x="82" y="1407"/>
                  </a:lnTo>
                  <a:lnTo>
                    <a:pt x="306" y="13"/>
                  </a:lnTo>
                  <a:lnTo>
                    <a:pt x="306" y="13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306" y="1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353720" y="5996520"/>
              <a:ext cx="92880" cy="61560"/>
            </a:xfrm>
            <a:custGeom>
              <a:avLst/>
              <a:gdLst/>
              <a:ahLst/>
              <a:rect l="l" t="t" r="r" b="b"/>
              <a:pathLst>
                <a:path w="958" h="633">
                  <a:moveTo>
                    <a:pt x="958" y="0"/>
                  </a:moveTo>
                  <a:lnTo>
                    <a:pt x="958" y="0"/>
                  </a:lnTo>
                  <a:lnTo>
                    <a:pt x="914" y="1"/>
                  </a:lnTo>
                  <a:lnTo>
                    <a:pt x="871" y="2"/>
                  </a:lnTo>
                  <a:lnTo>
                    <a:pt x="830" y="4"/>
                  </a:lnTo>
                  <a:lnTo>
                    <a:pt x="788" y="6"/>
                  </a:lnTo>
                  <a:lnTo>
                    <a:pt x="746" y="10"/>
                  </a:lnTo>
                  <a:lnTo>
                    <a:pt x="706" y="14"/>
                  </a:lnTo>
                  <a:lnTo>
                    <a:pt x="665" y="20"/>
                  </a:lnTo>
                  <a:lnTo>
                    <a:pt x="625" y="26"/>
                  </a:lnTo>
                  <a:lnTo>
                    <a:pt x="587" y="33"/>
                  </a:lnTo>
                  <a:lnTo>
                    <a:pt x="549" y="42"/>
                  </a:lnTo>
                  <a:lnTo>
                    <a:pt x="512" y="52"/>
                  </a:lnTo>
                  <a:lnTo>
                    <a:pt x="475" y="63"/>
                  </a:lnTo>
                  <a:lnTo>
                    <a:pt x="439" y="75"/>
                  </a:lnTo>
                  <a:lnTo>
                    <a:pt x="404" y="89"/>
                  </a:lnTo>
                  <a:lnTo>
                    <a:pt x="370" y="104"/>
                  </a:lnTo>
                  <a:lnTo>
                    <a:pt x="337" y="121"/>
                  </a:lnTo>
                  <a:lnTo>
                    <a:pt x="305" y="139"/>
                  </a:lnTo>
                  <a:lnTo>
                    <a:pt x="275" y="158"/>
                  </a:lnTo>
                  <a:lnTo>
                    <a:pt x="245" y="179"/>
                  </a:lnTo>
                  <a:lnTo>
                    <a:pt x="217" y="202"/>
                  </a:lnTo>
                  <a:lnTo>
                    <a:pt x="204" y="214"/>
                  </a:lnTo>
                  <a:lnTo>
                    <a:pt x="190" y="227"/>
                  </a:lnTo>
                  <a:lnTo>
                    <a:pt x="177" y="240"/>
                  </a:lnTo>
                  <a:lnTo>
                    <a:pt x="164" y="254"/>
                  </a:lnTo>
                  <a:lnTo>
                    <a:pt x="152" y="267"/>
                  </a:lnTo>
                  <a:lnTo>
                    <a:pt x="140" y="282"/>
                  </a:lnTo>
                  <a:lnTo>
                    <a:pt x="129" y="296"/>
                  </a:lnTo>
                  <a:lnTo>
                    <a:pt x="117" y="311"/>
                  </a:lnTo>
                  <a:lnTo>
                    <a:pt x="107" y="328"/>
                  </a:lnTo>
                  <a:lnTo>
                    <a:pt x="97" y="344"/>
                  </a:lnTo>
                  <a:lnTo>
                    <a:pt x="87" y="360"/>
                  </a:lnTo>
                  <a:lnTo>
                    <a:pt x="78" y="377"/>
                  </a:lnTo>
                  <a:lnTo>
                    <a:pt x="69" y="395"/>
                  </a:lnTo>
                  <a:lnTo>
                    <a:pt x="59" y="413"/>
                  </a:lnTo>
                  <a:lnTo>
                    <a:pt x="51" y="431"/>
                  </a:lnTo>
                  <a:lnTo>
                    <a:pt x="44" y="450"/>
                  </a:lnTo>
                  <a:lnTo>
                    <a:pt x="37" y="470"/>
                  </a:lnTo>
                  <a:lnTo>
                    <a:pt x="30" y="490"/>
                  </a:lnTo>
                  <a:lnTo>
                    <a:pt x="24" y="510"/>
                  </a:lnTo>
                  <a:lnTo>
                    <a:pt x="18" y="532"/>
                  </a:lnTo>
                  <a:lnTo>
                    <a:pt x="13" y="553"/>
                  </a:lnTo>
                  <a:lnTo>
                    <a:pt x="8" y="574"/>
                  </a:lnTo>
                  <a:lnTo>
                    <a:pt x="4" y="598"/>
                  </a:lnTo>
                  <a:lnTo>
                    <a:pt x="0" y="620"/>
                  </a:lnTo>
                  <a:lnTo>
                    <a:pt x="82" y="633"/>
                  </a:lnTo>
                  <a:lnTo>
                    <a:pt x="86" y="612"/>
                  </a:lnTo>
                  <a:lnTo>
                    <a:pt x="90" y="591"/>
                  </a:lnTo>
                  <a:lnTo>
                    <a:pt x="94" y="572"/>
                  </a:lnTo>
                  <a:lnTo>
                    <a:pt x="99" y="553"/>
                  </a:lnTo>
                  <a:lnTo>
                    <a:pt x="104" y="534"/>
                  </a:lnTo>
                  <a:lnTo>
                    <a:pt x="110" y="515"/>
                  </a:lnTo>
                  <a:lnTo>
                    <a:pt x="116" y="498"/>
                  </a:lnTo>
                  <a:lnTo>
                    <a:pt x="122" y="481"/>
                  </a:lnTo>
                  <a:lnTo>
                    <a:pt x="130" y="464"/>
                  </a:lnTo>
                  <a:lnTo>
                    <a:pt x="137" y="447"/>
                  </a:lnTo>
                  <a:lnTo>
                    <a:pt x="144" y="432"/>
                  </a:lnTo>
                  <a:lnTo>
                    <a:pt x="152" y="417"/>
                  </a:lnTo>
                  <a:lnTo>
                    <a:pt x="160" y="402"/>
                  </a:lnTo>
                  <a:lnTo>
                    <a:pt x="168" y="387"/>
                  </a:lnTo>
                  <a:lnTo>
                    <a:pt x="177" y="373"/>
                  </a:lnTo>
                  <a:lnTo>
                    <a:pt x="186" y="360"/>
                  </a:lnTo>
                  <a:lnTo>
                    <a:pt x="196" y="347"/>
                  </a:lnTo>
                  <a:lnTo>
                    <a:pt x="206" y="334"/>
                  </a:lnTo>
                  <a:lnTo>
                    <a:pt x="216" y="322"/>
                  </a:lnTo>
                  <a:lnTo>
                    <a:pt x="226" y="309"/>
                  </a:lnTo>
                  <a:lnTo>
                    <a:pt x="237" y="298"/>
                  </a:lnTo>
                  <a:lnTo>
                    <a:pt x="248" y="287"/>
                  </a:lnTo>
                  <a:lnTo>
                    <a:pt x="260" y="276"/>
                  </a:lnTo>
                  <a:lnTo>
                    <a:pt x="271" y="266"/>
                  </a:lnTo>
                  <a:lnTo>
                    <a:pt x="296" y="245"/>
                  </a:lnTo>
                  <a:lnTo>
                    <a:pt x="322" y="227"/>
                  </a:lnTo>
                  <a:lnTo>
                    <a:pt x="349" y="210"/>
                  </a:lnTo>
                  <a:lnTo>
                    <a:pt x="376" y="195"/>
                  </a:lnTo>
                  <a:lnTo>
                    <a:pt x="406" y="179"/>
                  </a:lnTo>
                  <a:lnTo>
                    <a:pt x="436" y="166"/>
                  </a:lnTo>
                  <a:lnTo>
                    <a:pt x="468" y="154"/>
                  </a:lnTo>
                  <a:lnTo>
                    <a:pt x="500" y="143"/>
                  </a:lnTo>
                  <a:lnTo>
                    <a:pt x="534" y="133"/>
                  </a:lnTo>
                  <a:lnTo>
                    <a:pt x="568" y="124"/>
                  </a:lnTo>
                  <a:lnTo>
                    <a:pt x="604" y="116"/>
                  </a:lnTo>
                  <a:lnTo>
                    <a:pt x="641" y="108"/>
                  </a:lnTo>
                  <a:lnTo>
                    <a:pt x="677" y="102"/>
                  </a:lnTo>
                  <a:lnTo>
                    <a:pt x="716" y="97"/>
                  </a:lnTo>
                  <a:lnTo>
                    <a:pt x="754" y="93"/>
                  </a:lnTo>
                  <a:lnTo>
                    <a:pt x="794" y="90"/>
                  </a:lnTo>
                  <a:lnTo>
                    <a:pt x="834" y="87"/>
                  </a:lnTo>
                  <a:lnTo>
                    <a:pt x="874" y="85"/>
                  </a:lnTo>
                  <a:lnTo>
                    <a:pt x="916" y="84"/>
                  </a:lnTo>
                  <a:lnTo>
                    <a:pt x="958" y="84"/>
                  </a:lnTo>
                  <a:lnTo>
                    <a:pt x="958" y="84"/>
                  </a:lnTo>
                  <a:lnTo>
                    <a:pt x="958" y="0"/>
                  </a:lnTo>
                  <a:lnTo>
                    <a:pt x="958" y="0"/>
                  </a:lnTo>
                  <a:lnTo>
                    <a:pt x="958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446600" y="5996520"/>
              <a:ext cx="76320" cy="59760"/>
            </a:xfrm>
            <a:custGeom>
              <a:avLst/>
              <a:gdLst/>
              <a:ahLst/>
              <a:rect l="l" t="t" r="r" b="b"/>
              <a:pathLst>
                <a:path w="783" h="625">
                  <a:moveTo>
                    <a:pt x="772" y="625"/>
                  </a:moveTo>
                  <a:lnTo>
                    <a:pt x="772" y="625"/>
                  </a:lnTo>
                  <a:lnTo>
                    <a:pt x="776" y="602"/>
                  </a:lnTo>
                  <a:lnTo>
                    <a:pt x="778" y="579"/>
                  </a:lnTo>
                  <a:lnTo>
                    <a:pt x="780" y="557"/>
                  </a:lnTo>
                  <a:lnTo>
                    <a:pt x="782" y="536"/>
                  </a:lnTo>
                  <a:lnTo>
                    <a:pt x="783" y="514"/>
                  </a:lnTo>
                  <a:lnTo>
                    <a:pt x="783" y="494"/>
                  </a:lnTo>
                  <a:lnTo>
                    <a:pt x="783" y="474"/>
                  </a:lnTo>
                  <a:lnTo>
                    <a:pt x="782" y="454"/>
                  </a:lnTo>
                  <a:lnTo>
                    <a:pt x="780" y="435"/>
                  </a:lnTo>
                  <a:lnTo>
                    <a:pt x="778" y="416"/>
                  </a:lnTo>
                  <a:lnTo>
                    <a:pt x="775" y="398"/>
                  </a:lnTo>
                  <a:lnTo>
                    <a:pt x="772" y="380"/>
                  </a:lnTo>
                  <a:lnTo>
                    <a:pt x="768" y="362"/>
                  </a:lnTo>
                  <a:lnTo>
                    <a:pt x="762" y="346"/>
                  </a:lnTo>
                  <a:lnTo>
                    <a:pt x="757" y="329"/>
                  </a:lnTo>
                  <a:lnTo>
                    <a:pt x="751" y="312"/>
                  </a:lnTo>
                  <a:lnTo>
                    <a:pt x="745" y="297"/>
                  </a:lnTo>
                  <a:lnTo>
                    <a:pt x="738" y="282"/>
                  </a:lnTo>
                  <a:lnTo>
                    <a:pt x="730" y="267"/>
                  </a:lnTo>
                  <a:lnTo>
                    <a:pt x="723" y="253"/>
                  </a:lnTo>
                  <a:lnTo>
                    <a:pt x="714" y="238"/>
                  </a:lnTo>
                  <a:lnTo>
                    <a:pt x="705" y="225"/>
                  </a:lnTo>
                  <a:lnTo>
                    <a:pt x="694" y="212"/>
                  </a:lnTo>
                  <a:lnTo>
                    <a:pt x="684" y="200"/>
                  </a:lnTo>
                  <a:lnTo>
                    <a:pt x="674" y="188"/>
                  </a:lnTo>
                  <a:lnTo>
                    <a:pt x="663" y="176"/>
                  </a:lnTo>
                  <a:lnTo>
                    <a:pt x="651" y="165"/>
                  </a:lnTo>
                  <a:lnTo>
                    <a:pt x="638" y="154"/>
                  </a:lnTo>
                  <a:lnTo>
                    <a:pt x="626" y="144"/>
                  </a:lnTo>
                  <a:lnTo>
                    <a:pt x="613" y="134"/>
                  </a:lnTo>
                  <a:lnTo>
                    <a:pt x="600" y="125"/>
                  </a:lnTo>
                  <a:lnTo>
                    <a:pt x="586" y="116"/>
                  </a:lnTo>
                  <a:lnTo>
                    <a:pt x="558" y="99"/>
                  </a:lnTo>
                  <a:lnTo>
                    <a:pt x="528" y="84"/>
                  </a:lnTo>
                  <a:lnTo>
                    <a:pt x="497" y="71"/>
                  </a:lnTo>
                  <a:lnTo>
                    <a:pt x="465" y="59"/>
                  </a:lnTo>
                  <a:lnTo>
                    <a:pt x="431" y="48"/>
                  </a:lnTo>
                  <a:lnTo>
                    <a:pt x="396" y="38"/>
                  </a:lnTo>
                  <a:lnTo>
                    <a:pt x="360" y="30"/>
                  </a:lnTo>
                  <a:lnTo>
                    <a:pt x="324" y="23"/>
                  </a:lnTo>
                  <a:lnTo>
                    <a:pt x="286" y="17"/>
                  </a:lnTo>
                  <a:lnTo>
                    <a:pt x="247" y="12"/>
                  </a:lnTo>
                  <a:lnTo>
                    <a:pt x="208" y="8"/>
                  </a:lnTo>
                  <a:lnTo>
                    <a:pt x="167" y="5"/>
                  </a:lnTo>
                  <a:lnTo>
                    <a:pt x="126" y="3"/>
                  </a:lnTo>
                  <a:lnTo>
                    <a:pt x="85" y="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41" y="84"/>
                  </a:lnTo>
                  <a:lnTo>
                    <a:pt x="83" y="84"/>
                  </a:lnTo>
                  <a:lnTo>
                    <a:pt x="122" y="86"/>
                  </a:lnTo>
                  <a:lnTo>
                    <a:pt x="162" y="88"/>
                  </a:lnTo>
                  <a:lnTo>
                    <a:pt x="201" y="91"/>
                  </a:lnTo>
                  <a:lnTo>
                    <a:pt x="237" y="95"/>
                  </a:lnTo>
                  <a:lnTo>
                    <a:pt x="274" y="100"/>
                  </a:lnTo>
                  <a:lnTo>
                    <a:pt x="309" y="105"/>
                  </a:lnTo>
                  <a:lnTo>
                    <a:pt x="343" y="112"/>
                  </a:lnTo>
                  <a:lnTo>
                    <a:pt x="375" y="120"/>
                  </a:lnTo>
                  <a:lnTo>
                    <a:pt x="407" y="129"/>
                  </a:lnTo>
                  <a:lnTo>
                    <a:pt x="437" y="138"/>
                  </a:lnTo>
                  <a:lnTo>
                    <a:pt x="466" y="148"/>
                  </a:lnTo>
                  <a:lnTo>
                    <a:pt x="492" y="160"/>
                  </a:lnTo>
                  <a:lnTo>
                    <a:pt x="518" y="173"/>
                  </a:lnTo>
                  <a:lnTo>
                    <a:pt x="542" y="188"/>
                  </a:lnTo>
                  <a:lnTo>
                    <a:pt x="553" y="195"/>
                  </a:lnTo>
                  <a:lnTo>
                    <a:pt x="564" y="202"/>
                  </a:lnTo>
                  <a:lnTo>
                    <a:pt x="574" y="210"/>
                  </a:lnTo>
                  <a:lnTo>
                    <a:pt x="585" y="218"/>
                  </a:lnTo>
                  <a:lnTo>
                    <a:pt x="594" y="226"/>
                  </a:lnTo>
                  <a:lnTo>
                    <a:pt x="603" y="235"/>
                  </a:lnTo>
                  <a:lnTo>
                    <a:pt x="612" y="244"/>
                  </a:lnTo>
                  <a:lnTo>
                    <a:pt x="620" y="255"/>
                  </a:lnTo>
                  <a:lnTo>
                    <a:pt x="628" y="264"/>
                  </a:lnTo>
                  <a:lnTo>
                    <a:pt x="636" y="274"/>
                  </a:lnTo>
                  <a:lnTo>
                    <a:pt x="644" y="285"/>
                  </a:lnTo>
                  <a:lnTo>
                    <a:pt x="650" y="295"/>
                  </a:lnTo>
                  <a:lnTo>
                    <a:pt x="657" y="306"/>
                  </a:lnTo>
                  <a:lnTo>
                    <a:pt x="663" y="318"/>
                  </a:lnTo>
                  <a:lnTo>
                    <a:pt x="668" y="331"/>
                  </a:lnTo>
                  <a:lnTo>
                    <a:pt x="673" y="343"/>
                  </a:lnTo>
                  <a:lnTo>
                    <a:pt x="678" y="356"/>
                  </a:lnTo>
                  <a:lnTo>
                    <a:pt x="682" y="369"/>
                  </a:lnTo>
                  <a:lnTo>
                    <a:pt x="685" y="383"/>
                  </a:lnTo>
                  <a:lnTo>
                    <a:pt x="689" y="398"/>
                  </a:lnTo>
                  <a:lnTo>
                    <a:pt x="692" y="412"/>
                  </a:lnTo>
                  <a:lnTo>
                    <a:pt x="694" y="427"/>
                  </a:lnTo>
                  <a:lnTo>
                    <a:pt x="696" y="443"/>
                  </a:lnTo>
                  <a:lnTo>
                    <a:pt x="697" y="460"/>
                  </a:lnTo>
                  <a:lnTo>
                    <a:pt x="698" y="477"/>
                  </a:lnTo>
                  <a:lnTo>
                    <a:pt x="698" y="494"/>
                  </a:lnTo>
                  <a:lnTo>
                    <a:pt x="698" y="512"/>
                  </a:lnTo>
                  <a:lnTo>
                    <a:pt x="697" y="532"/>
                  </a:lnTo>
                  <a:lnTo>
                    <a:pt x="696" y="550"/>
                  </a:lnTo>
                  <a:lnTo>
                    <a:pt x="694" y="570"/>
                  </a:lnTo>
                  <a:lnTo>
                    <a:pt x="692" y="590"/>
                  </a:lnTo>
                  <a:lnTo>
                    <a:pt x="689" y="612"/>
                  </a:lnTo>
                  <a:lnTo>
                    <a:pt x="689" y="612"/>
                  </a:lnTo>
                  <a:lnTo>
                    <a:pt x="772" y="625"/>
                  </a:lnTo>
                  <a:lnTo>
                    <a:pt x="772" y="625"/>
                  </a:lnTo>
                  <a:lnTo>
                    <a:pt x="772" y="62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491240" y="6055200"/>
              <a:ext cx="29880" cy="137880"/>
            </a:xfrm>
            <a:custGeom>
              <a:avLst/>
              <a:gdLst/>
              <a:ahLst/>
              <a:rect l="l" t="t" r="r" b="b"/>
              <a:pathLst>
                <a:path w="307" h="1407">
                  <a:moveTo>
                    <a:pt x="0" y="1394"/>
                  </a:moveTo>
                  <a:lnTo>
                    <a:pt x="83" y="1407"/>
                  </a:lnTo>
                  <a:lnTo>
                    <a:pt x="307" y="13"/>
                  </a:lnTo>
                  <a:lnTo>
                    <a:pt x="224" y="0"/>
                  </a:lnTo>
                  <a:lnTo>
                    <a:pt x="0" y="1394"/>
                  </a:lnTo>
                  <a:lnTo>
                    <a:pt x="0" y="1394"/>
                  </a:lnTo>
                  <a:lnTo>
                    <a:pt x="83" y="1407"/>
                  </a:lnTo>
                  <a:lnTo>
                    <a:pt x="83" y="1407"/>
                  </a:lnTo>
                  <a:lnTo>
                    <a:pt x="83" y="1407"/>
                  </a:lnTo>
                  <a:lnTo>
                    <a:pt x="0" y="1394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613280" y="6021000"/>
              <a:ext cx="217080" cy="211680"/>
            </a:xfrm>
            <a:custGeom>
              <a:avLst/>
              <a:gdLst/>
              <a:ahLst/>
              <a:rect l="l" t="t" r="r" b="b"/>
              <a:pathLst>
                <a:path w="2225" h="2171">
                  <a:moveTo>
                    <a:pt x="2030" y="1675"/>
                  </a:moveTo>
                  <a:lnTo>
                    <a:pt x="2020" y="1712"/>
                  </a:lnTo>
                  <a:lnTo>
                    <a:pt x="2008" y="1747"/>
                  </a:lnTo>
                  <a:lnTo>
                    <a:pt x="1993" y="1779"/>
                  </a:lnTo>
                  <a:lnTo>
                    <a:pt x="1977" y="1812"/>
                  </a:lnTo>
                  <a:lnTo>
                    <a:pt x="1959" y="1841"/>
                  </a:lnTo>
                  <a:lnTo>
                    <a:pt x="1938" y="1870"/>
                  </a:lnTo>
                  <a:lnTo>
                    <a:pt x="1917" y="1896"/>
                  </a:lnTo>
                  <a:lnTo>
                    <a:pt x="1893" y="1922"/>
                  </a:lnTo>
                  <a:lnTo>
                    <a:pt x="1867" y="1946"/>
                  </a:lnTo>
                  <a:lnTo>
                    <a:pt x="1840" y="1968"/>
                  </a:lnTo>
                  <a:lnTo>
                    <a:pt x="1810" y="1989"/>
                  </a:lnTo>
                  <a:lnTo>
                    <a:pt x="1780" y="2009"/>
                  </a:lnTo>
                  <a:lnTo>
                    <a:pt x="1748" y="2026"/>
                  </a:lnTo>
                  <a:lnTo>
                    <a:pt x="1714" y="2043"/>
                  </a:lnTo>
                  <a:lnTo>
                    <a:pt x="1678" y="2059"/>
                  </a:lnTo>
                  <a:lnTo>
                    <a:pt x="1642" y="2074"/>
                  </a:lnTo>
                  <a:lnTo>
                    <a:pt x="1604" y="2087"/>
                  </a:lnTo>
                  <a:lnTo>
                    <a:pt x="1565" y="2099"/>
                  </a:lnTo>
                  <a:lnTo>
                    <a:pt x="1524" y="2109"/>
                  </a:lnTo>
                  <a:lnTo>
                    <a:pt x="1482" y="2119"/>
                  </a:lnTo>
                  <a:lnTo>
                    <a:pt x="1440" y="2129"/>
                  </a:lnTo>
                  <a:lnTo>
                    <a:pt x="1395" y="2137"/>
                  </a:lnTo>
                  <a:lnTo>
                    <a:pt x="1350" y="2144"/>
                  </a:lnTo>
                  <a:lnTo>
                    <a:pt x="1305" y="2150"/>
                  </a:lnTo>
                  <a:lnTo>
                    <a:pt x="1258" y="2155"/>
                  </a:lnTo>
                  <a:lnTo>
                    <a:pt x="1209" y="2159"/>
                  </a:lnTo>
                  <a:lnTo>
                    <a:pt x="1161" y="2163"/>
                  </a:lnTo>
                  <a:lnTo>
                    <a:pt x="1112" y="2166"/>
                  </a:lnTo>
                  <a:lnTo>
                    <a:pt x="1062" y="2168"/>
                  </a:lnTo>
                  <a:lnTo>
                    <a:pt x="1011" y="2170"/>
                  </a:lnTo>
                  <a:lnTo>
                    <a:pt x="959" y="2171"/>
                  </a:lnTo>
                  <a:lnTo>
                    <a:pt x="907" y="2171"/>
                  </a:lnTo>
                  <a:lnTo>
                    <a:pt x="856" y="2171"/>
                  </a:lnTo>
                  <a:lnTo>
                    <a:pt x="805" y="2171"/>
                  </a:lnTo>
                  <a:lnTo>
                    <a:pt x="754" y="2169"/>
                  </a:lnTo>
                  <a:lnTo>
                    <a:pt x="705" y="2167"/>
                  </a:lnTo>
                  <a:lnTo>
                    <a:pt x="656" y="2165"/>
                  </a:lnTo>
                  <a:lnTo>
                    <a:pt x="610" y="2162"/>
                  </a:lnTo>
                  <a:lnTo>
                    <a:pt x="564" y="2158"/>
                  </a:lnTo>
                  <a:lnTo>
                    <a:pt x="519" y="2153"/>
                  </a:lnTo>
                  <a:lnTo>
                    <a:pt x="476" y="2147"/>
                  </a:lnTo>
                  <a:lnTo>
                    <a:pt x="434" y="2140"/>
                  </a:lnTo>
                  <a:lnTo>
                    <a:pt x="393" y="2133"/>
                  </a:lnTo>
                  <a:lnTo>
                    <a:pt x="355" y="2124"/>
                  </a:lnTo>
                  <a:lnTo>
                    <a:pt x="317" y="2114"/>
                  </a:lnTo>
                  <a:lnTo>
                    <a:pt x="282" y="2103"/>
                  </a:lnTo>
                  <a:lnTo>
                    <a:pt x="248" y="2091"/>
                  </a:lnTo>
                  <a:lnTo>
                    <a:pt x="217" y="2079"/>
                  </a:lnTo>
                  <a:lnTo>
                    <a:pt x="186" y="2065"/>
                  </a:lnTo>
                  <a:lnTo>
                    <a:pt x="158" y="2049"/>
                  </a:lnTo>
                  <a:lnTo>
                    <a:pt x="132" y="2032"/>
                  </a:lnTo>
                  <a:lnTo>
                    <a:pt x="108" y="2014"/>
                  </a:lnTo>
                  <a:lnTo>
                    <a:pt x="87" y="1995"/>
                  </a:lnTo>
                  <a:lnTo>
                    <a:pt x="66" y="1974"/>
                  </a:lnTo>
                  <a:lnTo>
                    <a:pt x="50" y="1952"/>
                  </a:lnTo>
                  <a:lnTo>
                    <a:pt x="35" y="1929"/>
                  </a:lnTo>
                  <a:lnTo>
                    <a:pt x="23" y="1903"/>
                  </a:lnTo>
                  <a:lnTo>
                    <a:pt x="12" y="1877"/>
                  </a:lnTo>
                  <a:lnTo>
                    <a:pt x="6" y="1849"/>
                  </a:lnTo>
                  <a:lnTo>
                    <a:pt x="1" y="1819"/>
                  </a:lnTo>
                  <a:lnTo>
                    <a:pt x="0" y="1787"/>
                  </a:lnTo>
                  <a:lnTo>
                    <a:pt x="1" y="1754"/>
                  </a:lnTo>
                  <a:lnTo>
                    <a:pt x="5" y="1719"/>
                  </a:lnTo>
                  <a:lnTo>
                    <a:pt x="12" y="1682"/>
                  </a:lnTo>
                  <a:lnTo>
                    <a:pt x="195" y="497"/>
                  </a:lnTo>
                  <a:lnTo>
                    <a:pt x="205" y="459"/>
                  </a:lnTo>
                  <a:lnTo>
                    <a:pt x="218" y="425"/>
                  </a:lnTo>
                  <a:lnTo>
                    <a:pt x="232" y="391"/>
                  </a:lnTo>
                  <a:lnTo>
                    <a:pt x="248" y="360"/>
                  </a:lnTo>
                  <a:lnTo>
                    <a:pt x="266" y="329"/>
                  </a:lnTo>
                  <a:lnTo>
                    <a:pt x="287" y="301"/>
                  </a:lnTo>
                  <a:lnTo>
                    <a:pt x="308" y="275"/>
                  </a:lnTo>
                  <a:lnTo>
                    <a:pt x="332" y="249"/>
                  </a:lnTo>
                  <a:lnTo>
                    <a:pt x="358" y="226"/>
                  </a:lnTo>
                  <a:lnTo>
                    <a:pt x="385" y="203"/>
                  </a:lnTo>
                  <a:lnTo>
                    <a:pt x="415" y="182"/>
                  </a:lnTo>
                  <a:lnTo>
                    <a:pt x="445" y="163"/>
                  </a:lnTo>
                  <a:lnTo>
                    <a:pt x="478" y="145"/>
                  </a:lnTo>
                  <a:lnTo>
                    <a:pt x="511" y="127"/>
                  </a:lnTo>
                  <a:lnTo>
                    <a:pt x="547" y="112"/>
                  </a:lnTo>
                  <a:lnTo>
                    <a:pt x="583" y="98"/>
                  </a:lnTo>
                  <a:lnTo>
                    <a:pt x="621" y="85"/>
                  </a:lnTo>
                  <a:lnTo>
                    <a:pt x="661" y="73"/>
                  </a:lnTo>
                  <a:lnTo>
                    <a:pt x="701" y="61"/>
                  </a:lnTo>
                  <a:lnTo>
                    <a:pt x="743" y="51"/>
                  </a:lnTo>
                  <a:lnTo>
                    <a:pt x="785" y="42"/>
                  </a:lnTo>
                  <a:lnTo>
                    <a:pt x="830" y="35"/>
                  </a:lnTo>
                  <a:lnTo>
                    <a:pt x="875" y="28"/>
                  </a:lnTo>
                  <a:lnTo>
                    <a:pt x="921" y="22"/>
                  </a:lnTo>
                  <a:lnTo>
                    <a:pt x="968" y="16"/>
                  </a:lnTo>
                  <a:lnTo>
                    <a:pt x="1016" y="12"/>
                  </a:lnTo>
                  <a:lnTo>
                    <a:pt x="1064" y="8"/>
                  </a:lnTo>
                  <a:lnTo>
                    <a:pt x="1114" y="5"/>
                  </a:lnTo>
                  <a:lnTo>
                    <a:pt x="1163" y="3"/>
                  </a:lnTo>
                  <a:lnTo>
                    <a:pt x="1214" y="1"/>
                  </a:lnTo>
                  <a:lnTo>
                    <a:pt x="1266" y="0"/>
                  </a:lnTo>
                  <a:lnTo>
                    <a:pt x="1318" y="0"/>
                  </a:lnTo>
                  <a:lnTo>
                    <a:pt x="1370" y="0"/>
                  </a:lnTo>
                  <a:lnTo>
                    <a:pt x="1420" y="1"/>
                  </a:lnTo>
                  <a:lnTo>
                    <a:pt x="1471" y="2"/>
                  </a:lnTo>
                  <a:lnTo>
                    <a:pt x="1520" y="4"/>
                  </a:lnTo>
                  <a:lnTo>
                    <a:pt x="1568" y="7"/>
                  </a:lnTo>
                  <a:lnTo>
                    <a:pt x="1615" y="10"/>
                  </a:lnTo>
                  <a:lnTo>
                    <a:pt x="1661" y="14"/>
                  </a:lnTo>
                  <a:lnTo>
                    <a:pt x="1706" y="19"/>
                  </a:lnTo>
                  <a:lnTo>
                    <a:pt x="1749" y="25"/>
                  </a:lnTo>
                  <a:lnTo>
                    <a:pt x="1791" y="31"/>
                  </a:lnTo>
                  <a:lnTo>
                    <a:pt x="1832" y="39"/>
                  </a:lnTo>
                  <a:lnTo>
                    <a:pt x="1870" y="47"/>
                  </a:lnTo>
                  <a:lnTo>
                    <a:pt x="1907" y="57"/>
                  </a:lnTo>
                  <a:lnTo>
                    <a:pt x="1944" y="68"/>
                  </a:lnTo>
                  <a:lnTo>
                    <a:pt x="1977" y="80"/>
                  </a:lnTo>
                  <a:lnTo>
                    <a:pt x="2009" y="93"/>
                  </a:lnTo>
                  <a:lnTo>
                    <a:pt x="2039" y="107"/>
                  </a:lnTo>
                  <a:lnTo>
                    <a:pt x="2068" y="122"/>
                  </a:lnTo>
                  <a:lnTo>
                    <a:pt x="2093" y="139"/>
                  </a:lnTo>
                  <a:lnTo>
                    <a:pt x="2117" y="157"/>
                  </a:lnTo>
                  <a:lnTo>
                    <a:pt x="2139" y="176"/>
                  </a:lnTo>
                  <a:lnTo>
                    <a:pt x="2158" y="196"/>
                  </a:lnTo>
                  <a:lnTo>
                    <a:pt x="2175" y="219"/>
                  </a:lnTo>
                  <a:lnTo>
                    <a:pt x="2190" y="242"/>
                  </a:lnTo>
                  <a:lnTo>
                    <a:pt x="2203" y="267"/>
                  </a:lnTo>
                  <a:lnTo>
                    <a:pt x="2212" y="295"/>
                  </a:lnTo>
                  <a:lnTo>
                    <a:pt x="2219" y="322"/>
                  </a:lnTo>
                  <a:lnTo>
                    <a:pt x="2223" y="353"/>
                  </a:lnTo>
                  <a:lnTo>
                    <a:pt x="2225" y="384"/>
                  </a:lnTo>
                  <a:lnTo>
                    <a:pt x="2224" y="418"/>
                  </a:lnTo>
                  <a:lnTo>
                    <a:pt x="2219" y="452"/>
                  </a:lnTo>
                  <a:lnTo>
                    <a:pt x="2212" y="490"/>
                  </a:lnTo>
                  <a:lnTo>
                    <a:pt x="2030" y="16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701840" y="6183720"/>
              <a:ext cx="113040" cy="53280"/>
            </a:xfrm>
            <a:custGeom>
              <a:avLst/>
              <a:gdLst/>
              <a:ahLst/>
              <a:rect l="l" t="t" r="r" b="b"/>
              <a:pathLst>
                <a:path w="1164" h="549">
                  <a:moveTo>
                    <a:pt x="0" y="549"/>
                  </a:moveTo>
                  <a:lnTo>
                    <a:pt x="0" y="549"/>
                  </a:lnTo>
                  <a:lnTo>
                    <a:pt x="52" y="548"/>
                  </a:lnTo>
                  <a:lnTo>
                    <a:pt x="105" y="547"/>
                  </a:lnTo>
                  <a:lnTo>
                    <a:pt x="156" y="546"/>
                  </a:lnTo>
                  <a:lnTo>
                    <a:pt x="207" y="543"/>
                  </a:lnTo>
                  <a:lnTo>
                    <a:pt x="256" y="540"/>
                  </a:lnTo>
                  <a:lnTo>
                    <a:pt x="306" y="537"/>
                  </a:lnTo>
                  <a:lnTo>
                    <a:pt x="355" y="532"/>
                  </a:lnTo>
                  <a:lnTo>
                    <a:pt x="403" y="527"/>
                  </a:lnTo>
                  <a:lnTo>
                    <a:pt x="449" y="520"/>
                  </a:lnTo>
                  <a:lnTo>
                    <a:pt x="495" y="513"/>
                  </a:lnTo>
                  <a:lnTo>
                    <a:pt x="541" y="505"/>
                  </a:lnTo>
                  <a:lnTo>
                    <a:pt x="584" y="495"/>
                  </a:lnTo>
                  <a:lnTo>
                    <a:pt x="627" y="486"/>
                  </a:lnTo>
                  <a:lnTo>
                    <a:pt x="670" y="474"/>
                  </a:lnTo>
                  <a:lnTo>
                    <a:pt x="710" y="462"/>
                  </a:lnTo>
                  <a:lnTo>
                    <a:pt x="750" y="447"/>
                  </a:lnTo>
                  <a:lnTo>
                    <a:pt x="788" y="433"/>
                  </a:lnTo>
                  <a:lnTo>
                    <a:pt x="825" y="416"/>
                  </a:lnTo>
                  <a:lnTo>
                    <a:pt x="861" y="399"/>
                  </a:lnTo>
                  <a:lnTo>
                    <a:pt x="894" y="379"/>
                  </a:lnTo>
                  <a:lnTo>
                    <a:pt x="928" y="359"/>
                  </a:lnTo>
                  <a:lnTo>
                    <a:pt x="958" y="337"/>
                  </a:lnTo>
                  <a:lnTo>
                    <a:pt x="974" y="325"/>
                  </a:lnTo>
                  <a:lnTo>
                    <a:pt x="988" y="312"/>
                  </a:lnTo>
                  <a:lnTo>
                    <a:pt x="1002" y="300"/>
                  </a:lnTo>
                  <a:lnTo>
                    <a:pt x="1015" y="287"/>
                  </a:lnTo>
                  <a:lnTo>
                    <a:pt x="1028" y="273"/>
                  </a:lnTo>
                  <a:lnTo>
                    <a:pt x="1042" y="260"/>
                  </a:lnTo>
                  <a:lnTo>
                    <a:pt x="1054" y="245"/>
                  </a:lnTo>
                  <a:lnTo>
                    <a:pt x="1065" y="230"/>
                  </a:lnTo>
                  <a:lnTo>
                    <a:pt x="1076" y="215"/>
                  </a:lnTo>
                  <a:lnTo>
                    <a:pt x="1087" y="200"/>
                  </a:lnTo>
                  <a:lnTo>
                    <a:pt x="1098" y="184"/>
                  </a:lnTo>
                  <a:lnTo>
                    <a:pt x="1107" y="167"/>
                  </a:lnTo>
                  <a:lnTo>
                    <a:pt x="1116" y="150"/>
                  </a:lnTo>
                  <a:lnTo>
                    <a:pt x="1125" y="133"/>
                  </a:lnTo>
                  <a:lnTo>
                    <a:pt x="1132" y="114"/>
                  </a:lnTo>
                  <a:lnTo>
                    <a:pt x="1140" y="96"/>
                  </a:lnTo>
                  <a:lnTo>
                    <a:pt x="1146" y="78"/>
                  </a:lnTo>
                  <a:lnTo>
                    <a:pt x="1152" y="59"/>
                  </a:lnTo>
                  <a:lnTo>
                    <a:pt x="1158" y="39"/>
                  </a:lnTo>
                  <a:lnTo>
                    <a:pt x="1164" y="19"/>
                  </a:lnTo>
                  <a:lnTo>
                    <a:pt x="1081" y="0"/>
                  </a:lnTo>
                  <a:lnTo>
                    <a:pt x="1077" y="17"/>
                  </a:lnTo>
                  <a:lnTo>
                    <a:pt x="1072" y="34"/>
                  </a:lnTo>
                  <a:lnTo>
                    <a:pt x="1067" y="51"/>
                  </a:lnTo>
                  <a:lnTo>
                    <a:pt x="1061" y="67"/>
                  </a:lnTo>
                  <a:lnTo>
                    <a:pt x="1055" y="82"/>
                  </a:lnTo>
                  <a:lnTo>
                    <a:pt x="1049" y="97"/>
                  </a:lnTo>
                  <a:lnTo>
                    <a:pt x="1042" y="111"/>
                  </a:lnTo>
                  <a:lnTo>
                    <a:pt x="1034" y="127"/>
                  </a:lnTo>
                  <a:lnTo>
                    <a:pt x="1025" y="140"/>
                  </a:lnTo>
                  <a:lnTo>
                    <a:pt x="1017" y="154"/>
                  </a:lnTo>
                  <a:lnTo>
                    <a:pt x="1008" y="166"/>
                  </a:lnTo>
                  <a:lnTo>
                    <a:pt x="999" y="179"/>
                  </a:lnTo>
                  <a:lnTo>
                    <a:pt x="989" y="192"/>
                  </a:lnTo>
                  <a:lnTo>
                    <a:pt x="979" y="204"/>
                  </a:lnTo>
                  <a:lnTo>
                    <a:pt x="967" y="216"/>
                  </a:lnTo>
                  <a:lnTo>
                    <a:pt x="956" y="227"/>
                  </a:lnTo>
                  <a:lnTo>
                    <a:pt x="945" y="238"/>
                  </a:lnTo>
                  <a:lnTo>
                    <a:pt x="933" y="249"/>
                  </a:lnTo>
                  <a:lnTo>
                    <a:pt x="921" y="260"/>
                  </a:lnTo>
                  <a:lnTo>
                    <a:pt x="908" y="270"/>
                  </a:lnTo>
                  <a:lnTo>
                    <a:pt x="880" y="289"/>
                  </a:lnTo>
                  <a:lnTo>
                    <a:pt x="852" y="307"/>
                  </a:lnTo>
                  <a:lnTo>
                    <a:pt x="821" y="325"/>
                  </a:lnTo>
                  <a:lnTo>
                    <a:pt x="790" y="341"/>
                  </a:lnTo>
                  <a:lnTo>
                    <a:pt x="756" y="355"/>
                  </a:lnTo>
                  <a:lnTo>
                    <a:pt x="721" y="369"/>
                  </a:lnTo>
                  <a:lnTo>
                    <a:pt x="684" y="381"/>
                  </a:lnTo>
                  <a:lnTo>
                    <a:pt x="646" y="394"/>
                  </a:lnTo>
                  <a:lnTo>
                    <a:pt x="607" y="404"/>
                  </a:lnTo>
                  <a:lnTo>
                    <a:pt x="566" y="414"/>
                  </a:lnTo>
                  <a:lnTo>
                    <a:pt x="525" y="422"/>
                  </a:lnTo>
                  <a:lnTo>
                    <a:pt x="482" y="430"/>
                  </a:lnTo>
                  <a:lnTo>
                    <a:pt x="437" y="437"/>
                  </a:lnTo>
                  <a:lnTo>
                    <a:pt x="392" y="443"/>
                  </a:lnTo>
                  <a:lnTo>
                    <a:pt x="346" y="448"/>
                  </a:lnTo>
                  <a:lnTo>
                    <a:pt x="299" y="452"/>
                  </a:lnTo>
                  <a:lnTo>
                    <a:pt x="251" y="456"/>
                  </a:lnTo>
                  <a:lnTo>
                    <a:pt x="203" y="460"/>
                  </a:lnTo>
                  <a:lnTo>
                    <a:pt x="153" y="462"/>
                  </a:lnTo>
                  <a:lnTo>
                    <a:pt x="103" y="464"/>
                  </a:lnTo>
                  <a:lnTo>
                    <a:pt x="52" y="465"/>
                  </a:lnTo>
                  <a:lnTo>
                    <a:pt x="0" y="465"/>
                  </a:lnTo>
                  <a:lnTo>
                    <a:pt x="0" y="465"/>
                  </a:lnTo>
                  <a:lnTo>
                    <a:pt x="0" y="549"/>
                  </a:lnTo>
                  <a:lnTo>
                    <a:pt x="0" y="549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608960" y="6183720"/>
              <a:ext cx="92880" cy="53280"/>
            </a:xfrm>
            <a:custGeom>
              <a:avLst/>
              <a:gdLst/>
              <a:ahLst/>
              <a:rect l="l" t="t" r="r" b="b"/>
              <a:pathLst>
                <a:path w="949" h="541">
                  <a:moveTo>
                    <a:pt x="13" y="2"/>
                  </a:moveTo>
                  <a:lnTo>
                    <a:pt x="14" y="0"/>
                  </a:lnTo>
                  <a:lnTo>
                    <a:pt x="10" y="19"/>
                  </a:lnTo>
                  <a:lnTo>
                    <a:pt x="6" y="40"/>
                  </a:lnTo>
                  <a:lnTo>
                    <a:pt x="4" y="59"/>
                  </a:lnTo>
                  <a:lnTo>
                    <a:pt x="2" y="77"/>
                  </a:lnTo>
                  <a:lnTo>
                    <a:pt x="1" y="96"/>
                  </a:lnTo>
                  <a:lnTo>
                    <a:pt x="0" y="115"/>
                  </a:lnTo>
                  <a:lnTo>
                    <a:pt x="1" y="132"/>
                  </a:lnTo>
                  <a:lnTo>
                    <a:pt x="2" y="149"/>
                  </a:lnTo>
                  <a:lnTo>
                    <a:pt x="4" y="166"/>
                  </a:lnTo>
                  <a:lnTo>
                    <a:pt x="7" y="184"/>
                  </a:lnTo>
                  <a:lnTo>
                    <a:pt x="11" y="200"/>
                  </a:lnTo>
                  <a:lnTo>
                    <a:pt x="15" y="216"/>
                  </a:lnTo>
                  <a:lnTo>
                    <a:pt x="20" y="231"/>
                  </a:lnTo>
                  <a:lnTo>
                    <a:pt x="26" y="247"/>
                  </a:lnTo>
                  <a:lnTo>
                    <a:pt x="33" y="262"/>
                  </a:lnTo>
                  <a:lnTo>
                    <a:pt x="40" y="276"/>
                  </a:lnTo>
                  <a:lnTo>
                    <a:pt x="48" y="290"/>
                  </a:lnTo>
                  <a:lnTo>
                    <a:pt x="57" y="303"/>
                  </a:lnTo>
                  <a:lnTo>
                    <a:pt x="67" y="316"/>
                  </a:lnTo>
                  <a:lnTo>
                    <a:pt x="77" y="329"/>
                  </a:lnTo>
                  <a:lnTo>
                    <a:pt x="88" y="341"/>
                  </a:lnTo>
                  <a:lnTo>
                    <a:pt x="99" y="352"/>
                  </a:lnTo>
                  <a:lnTo>
                    <a:pt x="111" y="363"/>
                  </a:lnTo>
                  <a:lnTo>
                    <a:pt x="123" y="373"/>
                  </a:lnTo>
                  <a:lnTo>
                    <a:pt x="137" y="384"/>
                  </a:lnTo>
                  <a:lnTo>
                    <a:pt x="150" y="394"/>
                  </a:lnTo>
                  <a:lnTo>
                    <a:pt x="164" y="403"/>
                  </a:lnTo>
                  <a:lnTo>
                    <a:pt x="178" y="412"/>
                  </a:lnTo>
                  <a:lnTo>
                    <a:pt x="194" y="421"/>
                  </a:lnTo>
                  <a:lnTo>
                    <a:pt x="209" y="429"/>
                  </a:lnTo>
                  <a:lnTo>
                    <a:pt x="225" y="436"/>
                  </a:lnTo>
                  <a:lnTo>
                    <a:pt x="242" y="444"/>
                  </a:lnTo>
                  <a:lnTo>
                    <a:pt x="276" y="458"/>
                  </a:lnTo>
                  <a:lnTo>
                    <a:pt x="311" y="470"/>
                  </a:lnTo>
                  <a:lnTo>
                    <a:pt x="348" y="481"/>
                  </a:lnTo>
                  <a:lnTo>
                    <a:pt x="388" y="491"/>
                  </a:lnTo>
                  <a:lnTo>
                    <a:pt x="427" y="500"/>
                  </a:lnTo>
                  <a:lnTo>
                    <a:pt x="469" y="508"/>
                  </a:lnTo>
                  <a:lnTo>
                    <a:pt x="512" y="515"/>
                  </a:lnTo>
                  <a:lnTo>
                    <a:pt x="556" y="522"/>
                  </a:lnTo>
                  <a:lnTo>
                    <a:pt x="602" y="527"/>
                  </a:lnTo>
                  <a:lnTo>
                    <a:pt x="649" y="531"/>
                  </a:lnTo>
                  <a:lnTo>
                    <a:pt x="696" y="534"/>
                  </a:lnTo>
                  <a:lnTo>
                    <a:pt x="745" y="537"/>
                  </a:lnTo>
                  <a:lnTo>
                    <a:pt x="795" y="539"/>
                  </a:lnTo>
                  <a:lnTo>
                    <a:pt x="846" y="540"/>
                  </a:lnTo>
                  <a:lnTo>
                    <a:pt x="898" y="541"/>
                  </a:lnTo>
                  <a:lnTo>
                    <a:pt x="949" y="541"/>
                  </a:lnTo>
                  <a:lnTo>
                    <a:pt x="949" y="457"/>
                  </a:lnTo>
                  <a:lnTo>
                    <a:pt x="898" y="457"/>
                  </a:lnTo>
                  <a:lnTo>
                    <a:pt x="847" y="456"/>
                  </a:lnTo>
                  <a:lnTo>
                    <a:pt x="798" y="455"/>
                  </a:lnTo>
                  <a:lnTo>
                    <a:pt x="749" y="453"/>
                  </a:lnTo>
                  <a:lnTo>
                    <a:pt x="701" y="451"/>
                  </a:lnTo>
                  <a:lnTo>
                    <a:pt x="655" y="446"/>
                  </a:lnTo>
                  <a:lnTo>
                    <a:pt x="610" y="442"/>
                  </a:lnTo>
                  <a:lnTo>
                    <a:pt x="566" y="438"/>
                  </a:lnTo>
                  <a:lnTo>
                    <a:pt x="524" y="432"/>
                  </a:lnTo>
                  <a:lnTo>
                    <a:pt x="483" y="426"/>
                  </a:lnTo>
                  <a:lnTo>
                    <a:pt x="444" y="418"/>
                  </a:lnTo>
                  <a:lnTo>
                    <a:pt x="407" y="410"/>
                  </a:lnTo>
                  <a:lnTo>
                    <a:pt x="371" y="401"/>
                  </a:lnTo>
                  <a:lnTo>
                    <a:pt x="337" y="391"/>
                  </a:lnTo>
                  <a:lnTo>
                    <a:pt x="305" y="379"/>
                  </a:lnTo>
                  <a:lnTo>
                    <a:pt x="275" y="366"/>
                  </a:lnTo>
                  <a:lnTo>
                    <a:pt x="261" y="360"/>
                  </a:lnTo>
                  <a:lnTo>
                    <a:pt x="247" y="354"/>
                  </a:lnTo>
                  <a:lnTo>
                    <a:pt x="234" y="347"/>
                  </a:lnTo>
                  <a:lnTo>
                    <a:pt x="221" y="340"/>
                  </a:lnTo>
                  <a:lnTo>
                    <a:pt x="209" y="333"/>
                  </a:lnTo>
                  <a:lnTo>
                    <a:pt x="198" y="325"/>
                  </a:lnTo>
                  <a:lnTo>
                    <a:pt x="186" y="317"/>
                  </a:lnTo>
                  <a:lnTo>
                    <a:pt x="176" y="308"/>
                  </a:lnTo>
                  <a:lnTo>
                    <a:pt x="166" y="300"/>
                  </a:lnTo>
                  <a:lnTo>
                    <a:pt x="157" y="292"/>
                  </a:lnTo>
                  <a:lnTo>
                    <a:pt x="149" y="283"/>
                  </a:lnTo>
                  <a:lnTo>
                    <a:pt x="141" y="274"/>
                  </a:lnTo>
                  <a:lnTo>
                    <a:pt x="133" y="265"/>
                  </a:lnTo>
                  <a:lnTo>
                    <a:pt x="127" y="256"/>
                  </a:lnTo>
                  <a:lnTo>
                    <a:pt x="119" y="246"/>
                  </a:lnTo>
                  <a:lnTo>
                    <a:pt x="113" y="235"/>
                  </a:lnTo>
                  <a:lnTo>
                    <a:pt x="108" y="225"/>
                  </a:lnTo>
                  <a:lnTo>
                    <a:pt x="103" y="214"/>
                  </a:lnTo>
                  <a:lnTo>
                    <a:pt x="99" y="203"/>
                  </a:lnTo>
                  <a:lnTo>
                    <a:pt x="95" y="192"/>
                  </a:lnTo>
                  <a:lnTo>
                    <a:pt x="92" y="180"/>
                  </a:lnTo>
                  <a:lnTo>
                    <a:pt x="89" y="167"/>
                  </a:lnTo>
                  <a:lnTo>
                    <a:pt x="87" y="155"/>
                  </a:lnTo>
                  <a:lnTo>
                    <a:pt x="86" y="142"/>
                  </a:lnTo>
                  <a:lnTo>
                    <a:pt x="84" y="128"/>
                  </a:lnTo>
                  <a:lnTo>
                    <a:pt x="84" y="114"/>
                  </a:lnTo>
                  <a:lnTo>
                    <a:pt x="84" y="99"/>
                  </a:lnTo>
                  <a:lnTo>
                    <a:pt x="85" y="84"/>
                  </a:lnTo>
                  <a:lnTo>
                    <a:pt x="87" y="68"/>
                  </a:lnTo>
                  <a:lnTo>
                    <a:pt x="89" y="52"/>
                  </a:lnTo>
                  <a:lnTo>
                    <a:pt x="92" y="35"/>
                  </a:lnTo>
                  <a:lnTo>
                    <a:pt x="95" y="18"/>
                  </a:lnTo>
                  <a:lnTo>
                    <a:pt x="96" y="15"/>
                  </a:lnTo>
                  <a:lnTo>
                    <a:pt x="95" y="18"/>
                  </a:lnTo>
                  <a:lnTo>
                    <a:pt x="96" y="17"/>
                  </a:lnTo>
                  <a:lnTo>
                    <a:pt x="96" y="15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610400" y="6068880"/>
              <a:ext cx="25920" cy="115920"/>
            </a:xfrm>
            <a:custGeom>
              <a:avLst/>
              <a:gdLst/>
              <a:ahLst/>
              <a:rect l="l" t="t" r="r" b="b"/>
              <a:pathLst>
                <a:path w="266" h="1201">
                  <a:moveTo>
                    <a:pt x="184" y="0"/>
                  </a:moveTo>
                  <a:lnTo>
                    <a:pt x="184" y="3"/>
                  </a:lnTo>
                  <a:lnTo>
                    <a:pt x="0" y="1188"/>
                  </a:lnTo>
                  <a:lnTo>
                    <a:pt x="83" y="1201"/>
                  </a:lnTo>
                  <a:lnTo>
                    <a:pt x="266" y="16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84" y="2"/>
                  </a:lnTo>
                  <a:lnTo>
                    <a:pt x="184" y="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628040" y="6017040"/>
              <a:ext cx="113040" cy="53280"/>
            </a:xfrm>
            <a:custGeom>
              <a:avLst/>
              <a:gdLst/>
              <a:ahLst/>
              <a:rect l="l" t="t" r="r" b="b"/>
              <a:pathLst>
                <a:path w="1163" h="548">
                  <a:moveTo>
                    <a:pt x="1163" y="0"/>
                  </a:moveTo>
                  <a:lnTo>
                    <a:pt x="1163" y="0"/>
                  </a:lnTo>
                  <a:lnTo>
                    <a:pt x="1110" y="0"/>
                  </a:lnTo>
                  <a:lnTo>
                    <a:pt x="1058" y="1"/>
                  </a:lnTo>
                  <a:lnTo>
                    <a:pt x="1007" y="3"/>
                  </a:lnTo>
                  <a:lnTo>
                    <a:pt x="957" y="5"/>
                  </a:lnTo>
                  <a:lnTo>
                    <a:pt x="907" y="8"/>
                  </a:lnTo>
                  <a:lnTo>
                    <a:pt x="857" y="12"/>
                  </a:lnTo>
                  <a:lnTo>
                    <a:pt x="808" y="16"/>
                  </a:lnTo>
                  <a:lnTo>
                    <a:pt x="760" y="21"/>
                  </a:lnTo>
                  <a:lnTo>
                    <a:pt x="714" y="28"/>
                  </a:lnTo>
                  <a:lnTo>
                    <a:pt x="668" y="35"/>
                  </a:lnTo>
                  <a:lnTo>
                    <a:pt x="623" y="44"/>
                  </a:lnTo>
                  <a:lnTo>
                    <a:pt x="579" y="53"/>
                  </a:lnTo>
                  <a:lnTo>
                    <a:pt x="536" y="63"/>
                  </a:lnTo>
                  <a:lnTo>
                    <a:pt x="493" y="74"/>
                  </a:lnTo>
                  <a:lnTo>
                    <a:pt x="453" y="86"/>
                  </a:lnTo>
                  <a:lnTo>
                    <a:pt x="414" y="100"/>
                  </a:lnTo>
                  <a:lnTo>
                    <a:pt x="375" y="116"/>
                  </a:lnTo>
                  <a:lnTo>
                    <a:pt x="338" y="132"/>
                  </a:lnTo>
                  <a:lnTo>
                    <a:pt x="302" y="149"/>
                  </a:lnTo>
                  <a:lnTo>
                    <a:pt x="269" y="168"/>
                  </a:lnTo>
                  <a:lnTo>
                    <a:pt x="235" y="190"/>
                  </a:lnTo>
                  <a:lnTo>
                    <a:pt x="205" y="211"/>
                  </a:lnTo>
                  <a:lnTo>
                    <a:pt x="190" y="223"/>
                  </a:lnTo>
                  <a:lnTo>
                    <a:pt x="175" y="235"/>
                  </a:lnTo>
                  <a:lnTo>
                    <a:pt x="161" y="249"/>
                  </a:lnTo>
                  <a:lnTo>
                    <a:pt x="148" y="262"/>
                  </a:lnTo>
                  <a:lnTo>
                    <a:pt x="135" y="275"/>
                  </a:lnTo>
                  <a:lnTo>
                    <a:pt x="122" y="289"/>
                  </a:lnTo>
                  <a:lnTo>
                    <a:pt x="109" y="303"/>
                  </a:lnTo>
                  <a:lnTo>
                    <a:pt x="98" y="318"/>
                  </a:lnTo>
                  <a:lnTo>
                    <a:pt x="87" y="333"/>
                  </a:lnTo>
                  <a:lnTo>
                    <a:pt x="76" y="349"/>
                  </a:lnTo>
                  <a:lnTo>
                    <a:pt x="66" y="364"/>
                  </a:lnTo>
                  <a:lnTo>
                    <a:pt x="56" y="381"/>
                  </a:lnTo>
                  <a:lnTo>
                    <a:pt x="47" y="398"/>
                  </a:lnTo>
                  <a:lnTo>
                    <a:pt x="38" y="416"/>
                  </a:lnTo>
                  <a:lnTo>
                    <a:pt x="31" y="433"/>
                  </a:lnTo>
                  <a:lnTo>
                    <a:pt x="23" y="452"/>
                  </a:lnTo>
                  <a:lnTo>
                    <a:pt x="17" y="471"/>
                  </a:lnTo>
                  <a:lnTo>
                    <a:pt x="10" y="489"/>
                  </a:lnTo>
                  <a:lnTo>
                    <a:pt x="5" y="509"/>
                  </a:lnTo>
                  <a:lnTo>
                    <a:pt x="0" y="529"/>
                  </a:lnTo>
                  <a:lnTo>
                    <a:pt x="82" y="548"/>
                  </a:lnTo>
                  <a:lnTo>
                    <a:pt x="86" y="531"/>
                  </a:lnTo>
                  <a:lnTo>
                    <a:pt x="91" y="513"/>
                  </a:lnTo>
                  <a:lnTo>
                    <a:pt x="96" y="497"/>
                  </a:lnTo>
                  <a:lnTo>
                    <a:pt x="102" y="482"/>
                  </a:lnTo>
                  <a:lnTo>
                    <a:pt x="108" y="466"/>
                  </a:lnTo>
                  <a:lnTo>
                    <a:pt x="114" y="450"/>
                  </a:lnTo>
                  <a:lnTo>
                    <a:pt x="122" y="436"/>
                  </a:lnTo>
                  <a:lnTo>
                    <a:pt x="130" y="422"/>
                  </a:lnTo>
                  <a:lnTo>
                    <a:pt x="138" y="408"/>
                  </a:lnTo>
                  <a:lnTo>
                    <a:pt x="146" y="395"/>
                  </a:lnTo>
                  <a:lnTo>
                    <a:pt x="155" y="381"/>
                  </a:lnTo>
                  <a:lnTo>
                    <a:pt x="164" y="368"/>
                  </a:lnTo>
                  <a:lnTo>
                    <a:pt x="174" y="356"/>
                  </a:lnTo>
                  <a:lnTo>
                    <a:pt x="184" y="344"/>
                  </a:lnTo>
                  <a:lnTo>
                    <a:pt x="196" y="333"/>
                  </a:lnTo>
                  <a:lnTo>
                    <a:pt x="207" y="321"/>
                  </a:lnTo>
                  <a:lnTo>
                    <a:pt x="218" y="309"/>
                  </a:lnTo>
                  <a:lnTo>
                    <a:pt x="230" y="299"/>
                  </a:lnTo>
                  <a:lnTo>
                    <a:pt x="242" y="288"/>
                  </a:lnTo>
                  <a:lnTo>
                    <a:pt x="256" y="279"/>
                  </a:lnTo>
                  <a:lnTo>
                    <a:pt x="283" y="259"/>
                  </a:lnTo>
                  <a:lnTo>
                    <a:pt x="311" y="240"/>
                  </a:lnTo>
                  <a:lnTo>
                    <a:pt x="342" y="224"/>
                  </a:lnTo>
                  <a:lnTo>
                    <a:pt x="374" y="208"/>
                  </a:lnTo>
                  <a:lnTo>
                    <a:pt x="407" y="193"/>
                  </a:lnTo>
                  <a:lnTo>
                    <a:pt x="443" y="180"/>
                  </a:lnTo>
                  <a:lnTo>
                    <a:pt x="479" y="166"/>
                  </a:lnTo>
                  <a:lnTo>
                    <a:pt x="517" y="154"/>
                  </a:lnTo>
                  <a:lnTo>
                    <a:pt x="556" y="144"/>
                  </a:lnTo>
                  <a:lnTo>
                    <a:pt x="597" y="134"/>
                  </a:lnTo>
                  <a:lnTo>
                    <a:pt x="639" y="126"/>
                  </a:lnTo>
                  <a:lnTo>
                    <a:pt x="681" y="118"/>
                  </a:lnTo>
                  <a:lnTo>
                    <a:pt x="726" y="111"/>
                  </a:lnTo>
                  <a:lnTo>
                    <a:pt x="771" y="105"/>
                  </a:lnTo>
                  <a:lnTo>
                    <a:pt x="817" y="99"/>
                  </a:lnTo>
                  <a:lnTo>
                    <a:pt x="864" y="95"/>
                  </a:lnTo>
                  <a:lnTo>
                    <a:pt x="912" y="91"/>
                  </a:lnTo>
                  <a:lnTo>
                    <a:pt x="961" y="89"/>
                  </a:lnTo>
                  <a:lnTo>
                    <a:pt x="1010" y="86"/>
                  </a:lnTo>
                  <a:lnTo>
                    <a:pt x="1060" y="85"/>
                  </a:lnTo>
                  <a:lnTo>
                    <a:pt x="1111" y="84"/>
                  </a:lnTo>
                  <a:lnTo>
                    <a:pt x="1163" y="83"/>
                  </a:lnTo>
                  <a:lnTo>
                    <a:pt x="1163" y="83"/>
                  </a:lnTo>
                  <a:lnTo>
                    <a:pt x="1163" y="0"/>
                  </a:lnTo>
                  <a:lnTo>
                    <a:pt x="1163" y="0"/>
                  </a:lnTo>
                  <a:lnTo>
                    <a:pt x="1163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741440" y="6017040"/>
              <a:ext cx="92880" cy="51840"/>
            </a:xfrm>
            <a:custGeom>
              <a:avLst/>
              <a:gdLst/>
              <a:ahLst/>
              <a:rect l="l" t="t" r="r" b="b"/>
              <a:pathLst>
                <a:path w="949" h="541">
                  <a:moveTo>
                    <a:pt x="935" y="538"/>
                  </a:moveTo>
                  <a:lnTo>
                    <a:pt x="935" y="541"/>
                  </a:lnTo>
                  <a:lnTo>
                    <a:pt x="939" y="521"/>
                  </a:lnTo>
                  <a:lnTo>
                    <a:pt x="943" y="501"/>
                  </a:lnTo>
                  <a:lnTo>
                    <a:pt x="946" y="482"/>
                  </a:lnTo>
                  <a:lnTo>
                    <a:pt x="948" y="463"/>
                  </a:lnTo>
                  <a:lnTo>
                    <a:pt x="949" y="444"/>
                  </a:lnTo>
                  <a:lnTo>
                    <a:pt x="949" y="426"/>
                  </a:lnTo>
                  <a:lnTo>
                    <a:pt x="949" y="408"/>
                  </a:lnTo>
                  <a:lnTo>
                    <a:pt x="948" y="391"/>
                  </a:lnTo>
                  <a:lnTo>
                    <a:pt x="945" y="373"/>
                  </a:lnTo>
                  <a:lnTo>
                    <a:pt x="943" y="356"/>
                  </a:lnTo>
                  <a:lnTo>
                    <a:pt x="938" y="340"/>
                  </a:lnTo>
                  <a:lnTo>
                    <a:pt x="934" y="325"/>
                  </a:lnTo>
                  <a:lnTo>
                    <a:pt x="929" y="308"/>
                  </a:lnTo>
                  <a:lnTo>
                    <a:pt x="923" y="293"/>
                  </a:lnTo>
                  <a:lnTo>
                    <a:pt x="916" y="279"/>
                  </a:lnTo>
                  <a:lnTo>
                    <a:pt x="909" y="265"/>
                  </a:lnTo>
                  <a:lnTo>
                    <a:pt x="901" y="251"/>
                  </a:lnTo>
                  <a:lnTo>
                    <a:pt x="892" y="237"/>
                  </a:lnTo>
                  <a:lnTo>
                    <a:pt x="883" y="224"/>
                  </a:lnTo>
                  <a:lnTo>
                    <a:pt x="872" y="212"/>
                  </a:lnTo>
                  <a:lnTo>
                    <a:pt x="861" y="200"/>
                  </a:lnTo>
                  <a:lnTo>
                    <a:pt x="850" y="188"/>
                  </a:lnTo>
                  <a:lnTo>
                    <a:pt x="838" y="176"/>
                  </a:lnTo>
                  <a:lnTo>
                    <a:pt x="826" y="166"/>
                  </a:lnTo>
                  <a:lnTo>
                    <a:pt x="812" y="156"/>
                  </a:lnTo>
                  <a:lnTo>
                    <a:pt x="799" y="146"/>
                  </a:lnTo>
                  <a:lnTo>
                    <a:pt x="785" y="137"/>
                  </a:lnTo>
                  <a:lnTo>
                    <a:pt x="770" y="128"/>
                  </a:lnTo>
                  <a:lnTo>
                    <a:pt x="740" y="112"/>
                  </a:lnTo>
                  <a:lnTo>
                    <a:pt x="708" y="96"/>
                  </a:lnTo>
                  <a:lnTo>
                    <a:pt x="673" y="82"/>
                  </a:lnTo>
                  <a:lnTo>
                    <a:pt x="638" y="70"/>
                  </a:lnTo>
                  <a:lnTo>
                    <a:pt x="601" y="59"/>
                  </a:lnTo>
                  <a:lnTo>
                    <a:pt x="562" y="49"/>
                  </a:lnTo>
                  <a:lnTo>
                    <a:pt x="522" y="39"/>
                  </a:lnTo>
                  <a:lnTo>
                    <a:pt x="480" y="31"/>
                  </a:lnTo>
                  <a:lnTo>
                    <a:pt x="437" y="25"/>
                  </a:lnTo>
                  <a:lnTo>
                    <a:pt x="393" y="19"/>
                  </a:lnTo>
                  <a:lnTo>
                    <a:pt x="347" y="14"/>
                  </a:lnTo>
                  <a:lnTo>
                    <a:pt x="300" y="10"/>
                  </a:lnTo>
                  <a:lnTo>
                    <a:pt x="253" y="6"/>
                  </a:lnTo>
                  <a:lnTo>
                    <a:pt x="204" y="4"/>
                  </a:lnTo>
                  <a:lnTo>
                    <a:pt x="154" y="2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52" y="83"/>
                  </a:lnTo>
                  <a:lnTo>
                    <a:pt x="102" y="84"/>
                  </a:lnTo>
                  <a:lnTo>
                    <a:pt x="151" y="85"/>
                  </a:lnTo>
                  <a:lnTo>
                    <a:pt x="200" y="87"/>
                  </a:lnTo>
                  <a:lnTo>
                    <a:pt x="248" y="90"/>
                  </a:lnTo>
                  <a:lnTo>
                    <a:pt x="294" y="93"/>
                  </a:lnTo>
                  <a:lnTo>
                    <a:pt x="339" y="97"/>
                  </a:lnTo>
                  <a:lnTo>
                    <a:pt x="383" y="102"/>
                  </a:lnTo>
                  <a:lnTo>
                    <a:pt x="424" y="107"/>
                  </a:lnTo>
                  <a:lnTo>
                    <a:pt x="466" y="115"/>
                  </a:lnTo>
                  <a:lnTo>
                    <a:pt x="505" y="122"/>
                  </a:lnTo>
                  <a:lnTo>
                    <a:pt x="542" y="130"/>
                  </a:lnTo>
                  <a:lnTo>
                    <a:pt x="578" y="140"/>
                  </a:lnTo>
                  <a:lnTo>
                    <a:pt x="612" y="150"/>
                  </a:lnTo>
                  <a:lnTo>
                    <a:pt x="644" y="161"/>
                  </a:lnTo>
                  <a:lnTo>
                    <a:pt x="674" y="173"/>
                  </a:lnTo>
                  <a:lnTo>
                    <a:pt x="702" y="187"/>
                  </a:lnTo>
                  <a:lnTo>
                    <a:pt x="728" y="201"/>
                  </a:lnTo>
                  <a:lnTo>
                    <a:pt x="739" y="208"/>
                  </a:lnTo>
                  <a:lnTo>
                    <a:pt x="752" y="215"/>
                  </a:lnTo>
                  <a:lnTo>
                    <a:pt x="763" y="223"/>
                  </a:lnTo>
                  <a:lnTo>
                    <a:pt x="773" y="231"/>
                  </a:lnTo>
                  <a:lnTo>
                    <a:pt x="782" y="239"/>
                  </a:lnTo>
                  <a:lnTo>
                    <a:pt x="791" y="249"/>
                  </a:lnTo>
                  <a:lnTo>
                    <a:pt x="800" y="257"/>
                  </a:lnTo>
                  <a:lnTo>
                    <a:pt x="808" y="266"/>
                  </a:lnTo>
                  <a:lnTo>
                    <a:pt x="816" y="275"/>
                  </a:lnTo>
                  <a:lnTo>
                    <a:pt x="823" y="285"/>
                  </a:lnTo>
                  <a:lnTo>
                    <a:pt x="830" y="294"/>
                  </a:lnTo>
                  <a:lnTo>
                    <a:pt x="835" y="304"/>
                  </a:lnTo>
                  <a:lnTo>
                    <a:pt x="841" y="316"/>
                  </a:lnTo>
                  <a:lnTo>
                    <a:pt x="846" y="326"/>
                  </a:lnTo>
                  <a:lnTo>
                    <a:pt x="850" y="337"/>
                  </a:lnTo>
                  <a:lnTo>
                    <a:pt x="854" y="348"/>
                  </a:lnTo>
                  <a:lnTo>
                    <a:pt x="857" y="360"/>
                  </a:lnTo>
                  <a:lnTo>
                    <a:pt x="860" y="372"/>
                  </a:lnTo>
                  <a:lnTo>
                    <a:pt x="862" y="386"/>
                  </a:lnTo>
                  <a:lnTo>
                    <a:pt x="863" y="399"/>
                  </a:lnTo>
                  <a:lnTo>
                    <a:pt x="864" y="412"/>
                  </a:lnTo>
                  <a:lnTo>
                    <a:pt x="865" y="426"/>
                  </a:lnTo>
                  <a:lnTo>
                    <a:pt x="864" y="441"/>
                  </a:lnTo>
                  <a:lnTo>
                    <a:pt x="863" y="456"/>
                  </a:lnTo>
                  <a:lnTo>
                    <a:pt x="862" y="472"/>
                  </a:lnTo>
                  <a:lnTo>
                    <a:pt x="860" y="488"/>
                  </a:lnTo>
                  <a:lnTo>
                    <a:pt x="857" y="504"/>
                  </a:lnTo>
                  <a:lnTo>
                    <a:pt x="853" y="522"/>
                  </a:lnTo>
                  <a:lnTo>
                    <a:pt x="853" y="525"/>
                  </a:lnTo>
                  <a:lnTo>
                    <a:pt x="853" y="522"/>
                  </a:lnTo>
                  <a:lnTo>
                    <a:pt x="853" y="524"/>
                  </a:lnTo>
                  <a:lnTo>
                    <a:pt x="853" y="525"/>
                  </a:lnTo>
                  <a:lnTo>
                    <a:pt x="935" y="53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806960" y="6067440"/>
              <a:ext cx="25920" cy="117720"/>
            </a:xfrm>
            <a:custGeom>
              <a:avLst/>
              <a:gdLst/>
              <a:ahLst/>
              <a:rect l="l" t="t" r="r" b="b"/>
              <a:pathLst>
                <a:path w="265" h="1201">
                  <a:moveTo>
                    <a:pt x="83" y="1201"/>
                  </a:moveTo>
                  <a:lnTo>
                    <a:pt x="83" y="1198"/>
                  </a:lnTo>
                  <a:lnTo>
                    <a:pt x="265" y="13"/>
                  </a:lnTo>
                  <a:lnTo>
                    <a:pt x="183" y="0"/>
                  </a:lnTo>
                  <a:lnTo>
                    <a:pt x="0" y="1185"/>
                  </a:lnTo>
                  <a:lnTo>
                    <a:pt x="83" y="1201"/>
                  </a:lnTo>
                  <a:lnTo>
                    <a:pt x="83" y="1201"/>
                  </a:lnTo>
                  <a:lnTo>
                    <a:pt x="83" y="1199"/>
                  </a:lnTo>
                  <a:lnTo>
                    <a:pt x="83" y="1198"/>
                  </a:lnTo>
                  <a:lnTo>
                    <a:pt x="83" y="120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6812640" y="6107040"/>
              <a:ext cx="259200" cy="41040"/>
            </a:xfrm>
            <a:custGeom>
              <a:avLst/>
              <a:gdLst/>
              <a:ahLst/>
              <a:rect l="l" t="t" r="r" b="b"/>
              <a:pathLst>
                <a:path w="2663" h="421">
                  <a:moveTo>
                    <a:pt x="2592" y="421"/>
                  </a:moveTo>
                  <a:lnTo>
                    <a:pt x="0" y="421"/>
                  </a:lnTo>
                  <a:lnTo>
                    <a:pt x="70" y="0"/>
                  </a:lnTo>
                  <a:lnTo>
                    <a:pt x="2663" y="0"/>
                  </a:lnTo>
                  <a:lnTo>
                    <a:pt x="2592" y="4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798960" y="6168600"/>
              <a:ext cx="259200" cy="40680"/>
            </a:xfrm>
            <a:custGeom>
              <a:avLst/>
              <a:gdLst/>
              <a:ahLst/>
              <a:rect l="l" t="t" r="r" b="b"/>
              <a:pathLst>
                <a:path w="2662" h="420">
                  <a:moveTo>
                    <a:pt x="2592" y="420"/>
                  </a:moveTo>
                  <a:lnTo>
                    <a:pt x="0" y="420"/>
                  </a:lnTo>
                  <a:lnTo>
                    <a:pt x="70" y="0"/>
                  </a:lnTo>
                  <a:lnTo>
                    <a:pt x="2662" y="0"/>
                  </a:lnTo>
                  <a:lnTo>
                    <a:pt x="2592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6785280" y="6230160"/>
              <a:ext cx="259200" cy="40680"/>
            </a:xfrm>
            <a:custGeom>
              <a:avLst/>
              <a:gdLst/>
              <a:ahLst/>
              <a:rect l="l" t="t" r="r" b="b"/>
              <a:pathLst>
                <a:path w="2662" h="420">
                  <a:moveTo>
                    <a:pt x="2592" y="420"/>
                  </a:moveTo>
                  <a:lnTo>
                    <a:pt x="0" y="420"/>
                  </a:lnTo>
                  <a:lnTo>
                    <a:pt x="70" y="0"/>
                  </a:lnTo>
                  <a:lnTo>
                    <a:pt x="2662" y="0"/>
                  </a:lnTo>
                  <a:lnTo>
                    <a:pt x="2592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6771600" y="6291720"/>
              <a:ext cx="259200" cy="40680"/>
            </a:xfrm>
            <a:custGeom>
              <a:avLst/>
              <a:gdLst/>
              <a:ahLst/>
              <a:rect l="l" t="t" r="r" b="b"/>
              <a:pathLst>
                <a:path w="2663" h="420">
                  <a:moveTo>
                    <a:pt x="2593" y="420"/>
                  </a:moveTo>
                  <a:lnTo>
                    <a:pt x="0" y="420"/>
                  </a:lnTo>
                  <a:lnTo>
                    <a:pt x="70" y="0"/>
                  </a:lnTo>
                  <a:lnTo>
                    <a:pt x="2663" y="0"/>
                  </a:lnTo>
                  <a:lnTo>
                    <a:pt x="2593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707240" y="6319080"/>
              <a:ext cx="183960" cy="68040"/>
            </a:xfrm>
            <a:custGeom>
              <a:avLst/>
              <a:gdLst/>
              <a:ahLst/>
              <a:rect l="l" t="t" r="r" b="b"/>
              <a:pathLst>
                <a:path w="1892" h="700">
                  <a:moveTo>
                    <a:pt x="1401" y="700"/>
                  </a:moveTo>
                  <a:lnTo>
                    <a:pt x="0" y="700"/>
                  </a:lnTo>
                  <a:lnTo>
                    <a:pt x="490" y="0"/>
                  </a:lnTo>
                  <a:lnTo>
                    <a:pt x="1892" y="0"/>
                  </a:lnTo>
                  <a:lnTo>
                    <a:pt x="1401" y="7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6949440" y="5862600"/>
              <a:ext cx="315000" cy="137880"/>
            </a:xfrm>
            <a:custGeom>
              <a:avLst/>
              <a:gdLst/>
              <a:ahLst/>
              <a:rect l="l" t="t" r="r" b="b"/>
              <a:pathLst>
                <a:path w="3238" h="1405">
                  <a:moveTo>
                    <a:pt x="3238" y="38"/>
                  </a:moveTo>
                  <a:lnTo>
                    <a:pt x="3209" y="34"/>
                  </a:lnTo>
                  <a:lnTo>
                    <a:pt x="3141" y="25"/>
                  </a:lnTo>
                  <a:lnTo>
                    <a:pt x="3090" y="20"/>
                  </a:lnTo>
                  <a:lnTo>
                    <a:pt x="3030" y="14"/>
                  </a:lnTo>
                  <a:lnTo>
                    <a:pt x="2961" y="10"/>
                  </a:lnTo>
                  <a:lnTo>
                    <a:pt x="2885" y="5"/>
                  </a:lnTo>
                  <a:lnTo>
                    <a:pt x="2801" y="2"/>
                  </a:lnTo>
                  <a:lnTo>
                    <a:pt x="2710" y="0"/>
                  </a:lnTo>
                  <a:lnTo>
                    <a:pt x="2661" y="0"/>
                  </a:lnTo>
                  <a:lnTo>
                    <a:pt x="2612" y="1"/>
                  </a:lnTo>
                  <a:lnTo>
                    <a:pt x="2561" y="2"/>
                  </a:lnTo>
                  <a:lnTo>
                    <a:pt x="2508" y="4"/>
                  </a:lnTo>
                  <a:lnTo>
                    <a:pt x="2453" y="6"/>
                  </a:lnTo>
                  <a:lnTo>
                    <a:pt x="2397" y="9"/>
                  </a:lnTo>
                  <a:lnTo>
                    <a:pt x="2341" y="13"/>
                  </a:lnTo>
                  <a:lnTo>
                    <a:pt x="2283" y="18"/>
                  </a:lnTo>
                  <a:lnTo>
                    <a:pt x="2225" y="24"/>
                  </a:lnTo>
                  <a:lnTo>
                    <a:pt x="2164" y="30"/>
                  </a:lnTo>
                  <a:lnTo>
                    <a:pt x="2103" y="38"/>
                  </a:lnTo>
                  <a:lnTo>
                    <a:pt x="2041" y="48"/>
                  </a:lnTo>
                  <a:lnTo>
                    <a:pt x="1978" y="58"/>
                  </a:lnTo>
                  <a:lnTo>
                    <a:pt x="1915" y="69"/>
                  </a:lnTo>
                  <a:lnTo>
                    <a:pt x="1851" y="81"/>
                  </a:lnTo>
                  <a:lnTo>
                    <a:pt x="1785" y="94"/>
                  </a:lnTo>
                  <a:lnTo>
                    <a:pt x="1720" y="109"/>
                  </a:lnTo>
                  <a:lnTo>
                    <a:pt x="1654" y="126"/>
                  </a:lnTo>
                  <a:lnTo>
                    <a:pt x="1588" y="144"/>
                  </a:lnTo>
                  <a:lnTo>
                    <a:pt x="1521" y="163"/>
                  </a:lnTo>
                  <a:lnTo>
                    <a:pt x="1454" y="185"/>
                  </a:lnTo>
                  <a:lnTo>
                    <a:pt x="1386" y="207"/>
                  </a:lnTo>
                  <a:lnTo>
                    <a:pt x="1318" y="231"/>
                  </a:lnTo>
                  <a:lnTo>
                    <a:pt x="1251" y="257"/>
                  </a:lnTo>
                  <a:lnTo>
                    <a:pt x="1183" y="285"/>
                  </a:lnTo>
                  <a:lnTo>
                    <a:pt x="1116" y="314"/>
                  </a:lnTo>
                  <a:lnTo>
                    <a:pt x="1048" y="346"/>
                  </a:lnTo>
                  <a:lnTo>
                    <a:pt x="981" y="379"/>
                  </a:lnTo>
                  <a:lnTo>
                    <a:pt x="914" y="415"/>
                  </a:lnTo>
                  <a:lnTo>
                    <a:pt x="848" y="452"/>
                  </a:lnTo>
                  <a:lnTo>
                    <a:pt x="782" y="492"/>
                  </a:lnTo>
                  <a:lnTo>
                    <a:pt x="717" y="534"/>
                  </a:lnTo>
                  <a:lnTo>
                    <a:pt x="685" y="556"/>
                  </a:lnTo>
                  <a:lnTo>
                    <a:pt x="652" y="578"/>
                  </a:lnTo>
                  <a:lnTo>
                    <a:pt x="620" y="601"/>
                  </a:lnTo>
                  <a:lnTo>
                    <a:pt x="588" y="624"/>
                  </a:lnTo>
                  <a:lnTo>
                    <a:pt x="556" y="647"/>
                  </a:lnTo>
                  <a:lnTo>
                    <a:pt x="524" y="673"/>
                  </a:lnTo>
                  <a:lnTo>
                    <a:pt x="493" y="698"/>
                  </a:lnTo>
                  <a:lnTo>
                    <a:pt x="462" y="724"/>
                  </a:lnTo>
                  <a:lnTo>
                    <a:pt x="431" y="750"/>
                  </a:lnTo>
                  <a:lnTo>
                    <a:pt x="400" y="777"/>
                  </a:lnTo>
                  <a:lnTo>
                    <a:pt x="370" y="805"/>
                  </a:lnTo>
                  <a:lnTo>
                    <a:pt x="339" y="833"/>
                  </a:lnTo>
                  <a:lnTo>
                    <a:pt x="309" y="862"/>
                  </a:lnTo>
                  <a:lnTo>
                    <a:pt x="279" y="892"/>
                  </a:lnTo>
                  <a:lnTo>
                    <a:pt x="250" y="921"/>
                  </a:lnTo>
                  <a:lnTo>
                    <a:pt x="221" y="952"/>
                  </a:lnTo>
                  <a:lnTo>
                    <a:pt x="192" y="984"/>
                  </a:lnTo>
                  <a:lnTo>
                    <a:pt x="163" y="1016"/>
                  </a:lnTo>
                  <a:lnTo>
                    <a:pt x="136" y="1049"/>
                  </a:lnTo>
                  <a:lnTo>
                    <a:pt x="108" y="1083"/>
                  </a:lnTo>
                  <a:lnTo>
                    <a:pt x="80" y="1116"/>
                  </a:lnTo>
                  <a:lnTo>
                    <a:pt x="54" y="1151"/>
                  </a:lnTo>
                  <a:lnTo>
                    <a:pt x="27" y="1186"/>
                  </a:lnTo>
                  <a:lnTo>
                    <a:pt x="0" y="1223"/>
                  </a:lnTo>
                  <a:lnTo>
                    <a:pt x="257" y="1405"/>
                  </a:lnTo>
                  <a:lnTo>
                    <a:pt x="279" y="1374"/>
                  </a:lnTo>
                  <a:lnTo>
                    <a:pt x="304" y="1341"/>
                  </a:lnTo>
                  <a:lnTo>
                    <a:pt x="327" y="1311"/>
                  </a:lnTo>
                  <a:lnTo>
                    <a:pt x="351" y="1281"/>
                  </a:lnTo>
                  <a:lnTo>
                    <a:pt x="376" y="1251"/>
                  </a:lnTo>
                  <a:lnTo>
                    <a:pt x="401" y="1223"/>
                  </a:lnTo>
                  <a:lnTo>
                    <a:pt x="427" y="1194"/>
                  </a:lnTo>
                  <a:lnTo>
                    <a:pt x="451" y="1166"/>
                  </a:lnTo>
                  <a:lnTo>
                    <a:pt x="476" y="1140"/>
                  </a:lnTo>
                  <a:lnTo>
                    <a:pt x="504" y="1112"/>
                  </a:lnTo>
                  <a:lnTo>
                    <a:pt x="529" y="1086"/>
                  </a:lnTo>
                  <a:lnTo>
                    <a:pt x="556" y="1060"/>
                  </a:lnTo>
                  <a:lnTo>
                    <a:pt x="582" y="1036"/>
                  </a:lnTo>
                  <a:lnTo>
                    <a:pt x="609" y="1012"/>
                  </a:lnTo>
                  <a:lnTo>
                    <a:pt x="636" y="987"/>
                  </a:lnTo>
                  <a:lnTo>
                    <a:pt x="663" y="964"/>
                  </a:lnTo>
                  <a:lnTo>
                    <a:pt x="691" y="942"/>
                  </a:lnTo>
                  <a:lnTo>
                    <a:pt x="719" y="919"/>
                  </a:lnTo>
                  <a:lnTo>
                    <a:pt x="747" y="898"/>
                  </a:lnTo>
                  <a:lnTo>
                    <a:pt x="775" y="877"/>
                  </a:lnTo>
                  <a:lnTo>
                    <a:pt x="803" y="855"/>
                  </a:lnTo>
                  <a:lnTo>
                    <a:pt x="832" y="835"/>
                  </a:lnTo>
                  <a:lnTo>
                    <a:pt x="860" y="815"/>
                  </a:lnTo>
                  <a:lnTo>
                    <a:pt x="889" y="797"/>
                  </a:lnTo>
                  <a:lnTo>
                    <a:pt x="948" y="759"/>
                  </a:lnTo>
                  <a:lnTo>
                    <a:pt x="1007" y="723"/>
                  </a:lnTo>
                  <a:lnTo>
                    <a:pt x="1066" y="690"/>
                  </a:lnTo>
                  <a:lnTo>
                    <a:pt x="1125" y="658"/>
                  </a:lnTo>
                  <a:lnTo>
                    <a:pt x="1185" y="629"/>
                  </a:lnTo>
                  <a:lnTo>
                    <a:pt x="1245" y="601"/>
                  </a:lnTo>
                  <a:lnTo>
                    <a:pt x="1306" y="574"/>
                  </a:lnTo>
                  <a:lnTo>
                    <a:pt x="1367" y="549"/>
                  </a:lnTo>
                  <a:lnTo>
                    <a:pt x="1428" y="526"/>
                  </a:lnTo>
                  <a:lnTo>
                    <a:pt x="1489" y="503"/>
                  </a:lnTo>
                  <a:lnTo>
                    <a:pt x="1550" y="483"/>
                  </a:lnTo>
                  <a:lnTo>
                    <a:pt x="1611" y="465"/>
                  </a:lnTo>
                  <a:lnTo>
                    <a:pt x="1671" y="446"/>
                  </a:lnTo>
                  <a:lnTo>
                    <a:pt x="1733" y="430"/>
                  </a:lnTo>
                  <a:lnTo>
                    <a:pt x="1793" y="415"/>
                  </a:lnTo>
                  <a:lnTo>
                    <a:pt x="1853" y="402"/>
                  </a:lnTo>
                  <a:lnTo>
                    <a:pt x="1912" y="389"/>
                  </a:lnTo>
                  <a:lnTo>
                    <a:pt x="1971" y="377"/>
                  </a:lnTo>
                  <a:lnTo>
                    <a:pt x="2030" y="367"/>
                  </a:lnTo>
                  <a:lnTo>
                    <a:pt x="2087" y="358"/>
                  </a:lnTo>
                  <a:lnTo>
                    <a:pt x="2144" y="350"/>
                  </a:lnTo>
                  <a:lnTo>
                    <a:pt x="2201" y="343"/>
                  </a:lnTo>
                  <a:lnTo>
                    <a:pt x="2256" y="337"/>
                  </a:lnTo>
                  <a:lnTo>
                    <a:pt x="2311" y="331"/>
                  </a:lnTo>
                  <a:lnTo>
                    <a:pt x="2365" y="327"/>
                  </a:lnTo>
                  <a:lnTo>
                    <a:pt x="2418" y="324"/>
                  </a:lnTo>
                  <a:lnTo>
                    <a:pt x="2468" y="320"/>
                  </a:lnTo>
                  <a:lnTo>
                    <a:pt x="2519" y="318"/>
                  </a:lnTo>
                  <a:lnTo>
                    <a:pt x="2568" y="317"/>
                  </a:lnTo>
                  <a:lnTo>
                    <a:pt x="2616" y="315"/>
                  </a:lnTo>
                  <a:lnTo>
                    <a:pt x="2662" y="315"/>
                  </a:lnTo>
                  <a:lnTo>
                    <a:pt x="2706" y="315"/>
                  </a:lnTo>
                  <a:lnTo>
                    <a:pt x="2792" y="317"/>
                  </a:lnTo>
                  <a:lnTo>
                    <a:pt x="2871" y="320"/>
                  </a:lnTo>
                  <a:lnTo>
                    <a:pt x="2942" y="324"/>
                  </a:lnTo>
                  <a:lnTo>
                    <a:pt x="3004" y="329"/>
                  </a:lnTo>
                  <a:lnTo>
                    <a:pt x="3059" y="333"/>
                  </a:lnTo>
                  <a:lnTo>
                    <a:pt x="3103" y="338"/>
                  </a:lnTo>
                  <a:lnTo>
                    <a:pt x="3167" y="346"/>
                  </a:lnTo>
                  <a:lnTo>
                    <a:pt x="3186" y="349"/>
                  </a:lnTo>
                  <a:lnTo>
                    <a:pt x="3238" y="38"/>
                  </a:lnTo>
                  <a:close/>
                </a:path>
              </a:pathLst>
            </a:custGeom>
            <a:solidFill>
              <a:srgbClr val="7b7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6797520" y="6085440"/>
              <a:ext cx="65520" cy="268920"/>
            </a:xfrm>
            <a:custGeom>
              <a:avLst/>
              <a:gdLst/>
              <a:ahLst/>
              <a:rect l="l" t="t" r="r" b="b"/>
              <a:pathLst>
                <a:path w="663" h="2751">
                  <a:moveTo>
                    <a:pt x="102" y="2751"/>
                  </a:moveTo>
                  <a:lnTo>
                    <a:pt x="663" y="22"/>
                  </a:lnTo>
                  <a:lnTo>
                    <a:pt x="560" y="0"/>
                  </a:lnTo>
                  <a:lnTo>
                    <a:pt x="0" y="2731"/>
                  </a:lnTo>
                  <a:lnTo>
                    <a:pt x="102" y="2751"/>
                  </a:lnTo>
                  <a:close/>
                </a:path>
              </a:pathLst>
            </a:cu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6980760" y="6085440"/>
              <a:ext cx="64080" cy="268920"/>
            </a:xfrm>
            <a:custGeom>
              <a:avLst/>
              <a:gdLst/>
              <a:ahLst/>
              <a:rect l="l" t="t" r="r" b="b"/>
              <a:pathLst>
                <a:path w="663" h="2751">
                  <a:moveTo>
                    <a:pt x="102" y="2751"/>
                  </a:moveTo>
                  <a:lnTo>
                    <a:pt x="663" y="22"/>
                  </a:lnTo>
                  <a:lnTo>
                    <a:pt x="561" y="0"/>
                  </a:lnTo>
                  <a:lnTo>
                    <a:pt x="0" y="2731"/>
                  </a:lnTo>
                  <a:lnTo>
                    <a:pt x="102" y="2751"/>
                  </a:lnTo>
                  <a:close/>
                </a:path>
              </a:pathLst>
            </a:cu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893280" y="6085440"/>
              <a:ext cx="64080" cy="268920"/>
            </a:xfrm>
            <a:custGeom>
              <a:avLst/>
              <a:gdLst/>
              <a:ahLst/>
              <a:rect l="l" t="t" r="r" b="b"/>
              <a:pathLst>
                <a:path w="663" h="2751">
                  <a:moveTo>
                    <a:pt x="102" y="2751"/>
                  </a:moveTo>
                  <a:lnTo>
                    <a:pt x="663" y="22"/>
                  </a:lnTo>
                  <a:lnTo>
                    <a:pt x="561" y="0"/>
                  </a:lnTo>
                  <a:lnTo>
                    <a:pt x="0" y="2731"/>
                  </a:lnTo>
                  <a:lnTo>
                    <a:pt x="102" y="2751"/>
                  </a:lnTo>
                  <a:close/>
                </a:path>
              </a:pathLst>
            </a:cu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6595200" y="6109920"/>
              <a:ext cx="23040" cy="95400"/>
            </a:xfrm>
            <a:custGeom>
              <a:avLst/>
              <a:gdLst/>
              <a:ahLst/>
              <a:rect l="l" t="t" r="r" b="b"/>
              <a:pathLst>
                <a:path w="244" h="973">
                  <a:moveTo>
                    <a:pt x="162" y="0"/>
                  </a:moveTo>
                  <a:lnTo>
                    <a:pt x="0" y="960"/>
                  </a:lnTo>
                  <a:lnTo>
                    <a:pt x="83" y="973"/>
                  </a:lnTo>
                  <a:lnTo>
                    <a:pt x="244" y="13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6657120" y="5951520"/>
              <a:ext cx="103680" cy="360360"/>
            </a:xfrm>
            <a:custGeom>
              <a:avLst/>
              <a:gdLst/>
              <a:ahLst/>
              <a:rect l="l" t="t" r="r" b="b"/>
              <a:pathLst>
                <a:path w="1068" h="3693">
                  <a:moveTo>
                    <a:pt x="718" y="1216"/>
                  </a:moveTo>
                  <a:lnTo>
                    <a:pt x="697" y="1280"/>
                  </a:lnTo>
                  <a:lnTo>
                    <a:pt x="676" y="1346"/>
                  </a:lnTo>
                  <a:lnTo>
                    <a:pt x="653" y="1412"/>
                  </a:lnTo>
                  <a:lnTo>
                    <a:pt x="631" y="1479"/>
                  </a:lnTo>
                  <a:lnTo>
                    <a:pt x="609" y="1548"/>
                  </a:lnTo>
                  <a:lnTo>
                    <a:pt x="586" y="1617"/>
                  </a:lnTo>
                  <a:lnTo>
                    <a:pt x="565" y="1687"/>
                  </a:lnTo>
                  <a:lnTo>
                    <a:pt x="544" y="1757"/>
                  </a:lnTo>
                  <a:lnTo>
                    <a:pt x="523" y="1828"/>
                  </a:lnTo>
                  <a:lnTo>
                    <a:pt x="504" y="1899"/>
                  </a:lnTo>
                  <a:lnTo>
                    <a:pt x="487" y="1971"/>
                  </a:lnTo>
                  <a:lnTo>
                    <a:pt x="469" y="2042"/>
                  </a:lnTo>
                  <a:lnTo>
                    <a:pt x="455" y="2114"/>
                  </a:lnTo>
                  <a:lnTo>
                    <a:pt x="442" y="2186"/>
                  </a:lnTo>
                  <a:lnTo>
                    <a:pt x="436" y="2223"/>
                  </a:lnTo>
                  <a:lnTo>
                    <a:pt x="431" y="2258"/>
                  </a:lnTo>
                  <a:lnTo>
                    <a:pt x="427" y="2294"/>
                  </a:lnTo>
                  <a:lnTo>
                    <a:pt x="423" y="2329"/>
                  </a:lnTo>
                  <a:lnTo>
                    <a:pt x="543" y="2576"/>
                  </a:lnTo>
                  <a:lnTo>
                    <a:pt x="388" y="3693"/>
                  </a:lnTo>
                  <a:lnTo>
                    <a:pt x="14" y="2972"/>
                  </a:lnTo>
                  <a:lnTo>
                    <a:pt x="6" y="2916"/>
                  </a:lnTo>
                  <a:lnTo>
                    <a:pt x="1" y="2851"/>
                  </a:lnTo>
                  <a:lnTo>
                    <a:pt x="0" y="2778"/>
                  </a:lnTo>
                  <a:lnTo>
                    <a:pt x="2" y="2698"/>
                  </a:lnTo>
                  <a:lnTo>
                    <a:pt x="7" y="2610"/>
                  </a:lnTo>
                  <a:lnTo>
                    <a:pt x="16" y="2516"/>
                  </a:lnTo>
                  <a:lnTo>
                    <a:pt x="28" y="2417"/>
                  </a:lnTo>
                  <a:lnTo>
                    <a:pt x="41" y="2313"/>
                  </a:lnTo>
                  <a:lnTo>
                    <a:pt x="58" y="2204"/>
                  </a:lnTo>
                  <a:lnTo>
                    <a:pt x="76" y="2092"/>
                  </a:lnTo>
                  <a:lnTo>
                    <a:pt x="97" y="1977"/>
                  </a:lnTo>
                  <a:lnTo>
                    <a:pt x="120" y="1859"/>
                  </a:lnTo>
                  <a:lnTo>
                    <a:pt x="144" y="1740"/>
                  </a:lnTo>
                  <a:lnTo>
                    <a:pt x="170" y="1619"/>
                  </a:lnTo>
                  <a:lnTo>
                    <a:pt x="197" y="1498"/>
                  </a:lnTo>
                  <a:lnTo>
                    <a:pt x="226" y="1377"/>
                  </a:lnTo>
                  <a:lnTo>
                    <a:pt x="255" y="1258"/>
                  </a:lnTo>
                  <a:lnTo>
                    <a:pt x="286" y="1139"/>
                  </a:lnTo>
                  <a:lnTo>
                    <a:pt x="317" y="1023"/>
                  </a:lnTo>
                  <a:lnTo>
                    <a:pt x="349" y="909"/>
                  </a:lnTo>
                  <a:lnTo>
                    <a:pt x="380" y="799"/>
                  </a:lnTo>
                  <a:lnTo>
                    <a:pt x="412" y="693"/>
                  </a:lnTo>
                  <a:lnTo>
                    <a:pt x="443" y="592"/>
                  </a:lnTo>
                  <a:lnTo>
                    <a:pt x="474" y="496"/>
                  </a:lnTo>
                  <a:lnTo>
                    <a:pt x="506" y="406"/>
                  </a:lnTo>
                  <a:lnTo>
                    <a:pt x="535" y="323"/>
                  </a:lnTo>
                  <a:lnTo>
                    <a:pt x="565" y="247"/>
                  </a:lnTo>
                  <a:lnTo>
                    <a:pt x="593" y="179"/>
                  </a:lnTo>
                  <a:lnTo>
                    <a:pt x="621" y="120"/>
                  </a:lnTo>
                  <a:lnTo>
                    <a:pt x="646" y="70"/>
                  </a:lnTo>
                  <a:lnTo>
                    <a:pt x="671" y="30"/>
                  </a:lnTo>
                  <a:lnTo>
                    <a:pt x="693" y="0"/>
                  </a:lnTo>
                  <a:lnTo>
                    <a:pt x="1068" y="721"/>
                  </a:lnTo>
                  <a:lnTo>
                    <a:pt x="831" y="1446"/>
                  </a:lnTo>
                  <a:lnTo>
                    <a:pt x="718" y="1216"/>
                  </a:lnTo>
                  <a:close/>
                </a:path>
              </a:pathLst>
            </a:custGeom>
            <a:solidFill>
              <a:srgbClr val="7b7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6693840" y="6068880"/>
              <a:ext cx="36720" cy="111600"/>
            </a:xfrm>
            <a:custGeom>
              <a:avLst/>
              <a:gdLst/>
              <a:ahLst/>
              <a:rect l="l" t="t" r="r" b="b"/>
              <a:pathLst>
                <a:path w="379" h="1145">
                  <a:moveTo>
                    <a:pt x="81" y="1108"/>
                  </a:moveTo>
                  <a:lnTo>
                    <a:pt x="85" y="1131"/>
                  </a:lnTo>
                  <a:lnTo>
                    <a:pt x="89" y="1096"/>
                  </a:lnTo>
                  <a:lnTo>
                    <a:pt x="93" y="1060"/>
                  </a:lnTo>
                  <a:lnTo>
                    <a:pt x="99" y="1026"/>
                  </a:lnTo>
                  <a:lnTo>
                    <a:pt x="105" y="990"/>
                  </a:lnTo>
                  <a:lnTo>
                    <a:pt x="117" y="919"/>
                  </a:lnTo>
                  <a:lnTo>
                    <a:pt x="132" y="848"/>
                  </a:lnTo>
                  <a:lnTo>
                    <a:pt x="148" y="777"/>
                  </a:lnTo>
                  <a:lnTo>
                    <a:pt x="166" y="706"/>
                  </a:lnTo>
                  <a:lnTo>
                    <a:pt x="185" y="636"/>
                  </a:lnTo>
                  <a:lnTo>
                    <a:pt x="205" y="565"/>
                  </a:lnTo>
                  <a:lnTo>
                    <a:pt x="226" y="495"/>
                  </a:lnTo>
                  <a:lnTo>
                    <a:pt x="248" y="426"/>
                  </a:lnTo>
                  <a:lnTo>
                    <a:pt x="269" y="357"/>
                  </a:lnTo>
                  <a:lnTo>
                    <a:pt x="292" y="289"/>
                  </a:lnTo>
                  <a:lnTo>
                    <a:pt x="314" y="222"/>
                  </a:lnTo>
                  <a:lnTo>
                    <a:pt x="336" y="155"/>
                  </a:lnTo>
                  <a:lnTo>
                    <a:pt x="358" y="90"/>
                  </a:lnTo>
                  <a:lnTo>
                    <a:pt x="379" y="26"/>
                  </a:lnTo>
                  <a:lnTo>
                    <a:pt x="300" y="0"/>
                  </a:lnTo>
                  <a:lnTo>
                    <a:pt x="278" y="64"/>
                  </a:lnTo>
                  <a:lnTo>
                    <a:pt x="257" y="130"/>
                  </a:lnTo>
                  <a:lnTo>
                    <a:pt x="235" y="196"/>
                  </a:lnTo>
                  <a:lnTo>
                    <a:pt x="212" y="263"/>
                  </a:lnTo>
                  <a:lnTo>
                    <a:pt x="190" y="332"/>
                  </a:lnTo>
                  <a:lnTo>
                    <a:pt x="168" y="401"/>
                  </a:lnTo>
                  <a:lnTo>
                    <a:pt x="145" y="472"/>
                  </a:lnTo>
                  <a:lnTo>
                    <a:pt x="125" y="542"/>
                  </a:lnTo>
                  <a:lnTo>
                    <a:pt x="104" y="614"/>
                  </a:lnTo>
                  <a:lnTo>
                    <a:pt x="84" y="686"/>
                  </a:lnTo>
                  <a:lnTo>
                    <a:pt x="66" y="758"/>
                  </a:lnTo>
                  <a:lnTo>
                    <a:pt x="50" y="831"/>
                  </a:lnTo>
                  <a:lnTo>
                    <a:pt x="35" y="904"/>
                  </a:lnTo>
                  <a:lnTo>
                    <a:pt x="21" y="976"/>
                  </a:lnTo>
                  <a:lnTo>
                    <a:pt x="15" y="1012"/>
                  </a:lnTo>
                  <a:lnTo>
                    <a:pt x="10" y="1049"/>
                  </a:lnTo>
                  <a:lnTo>
                    <a:pt x="6" y="1086"/>
                  </a:lnTo>
                  <a:lnTo>
                    <a:pt x="2" y="1122"/>
                  </a:lnTo>
                  <a:lnTo>
                    <a:pt x="6" y="1145"/>
                  </a:lnTo>
                  <a:lnTo>
                    <a:pt x="2" y="1122"/>
                  </a:lnTo>
                  <a:lnTo>
                    <a:pt x="0" y="1134"/>
                  </a:lnTo>
                  <a:lnTo>
                    <a:pt x="6" y="1145"/>
                  </a:lnTo>
                  <a:lnTo>
                    <a:pt x="81" y="110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6694920" y="6176880"/>
              <a:ext cx="19080" cy="27000"/>
            </a:xfrm>
            <a:custGeom>
              <a:avLst/>
              <a:gdLst/>
              <a:ahLst/>
              <a:rect l="l" t="t" r="r" b="b"/>
              <a:pathLst>
                <a:path w="200" h="283">
                  <a:moveTo>
                    <a:pt x="199" y="270"/>
                  </a:moveTo>
                  <a:lnTo>
                    <a:pt x="195" y="245"/>
                  </a:lnTo>
                  <a:lnTo>
                    <a:pt x="75" y="0"/>
                  </a:lnTo>
                  <a:lnTo>
                    <a:pt x="0" y="37"/>
                  </a:lnTo>
                  <a:lnTo>
                    <a:pt x="120" y="283"/>
                  </a:lnTo>
                  <a:lnTo>
                    <a:pt x="199" y="270"/>
                  </a:lnTo>
                  <a:lnTo>
                    <a:pt x="199" y="270"/>
                  </a:lnTo>
                  <a:lnTo>
                    <a:pt x="200" y="258"/>
                  </a:lnTo>
                  <a:lnTo>
                    <a:pt x="195" y="245"/>
                  </a:lnTo>
                  <a:lnTo>
                    <a:pt x="199" y="27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6690960" y="6202800"/>
              <a:ext cx="23040" cy="122760"/>
            </a:xfrm>
            <a:custGeom>
              <a:avLst/>
              <a:gdLst/>
              <a:ahLst/>
              <a:rect l="l" t="t" r="r" b="b"/>
              <a:pathLst>
                <a:path w="238" h="1257">
                  <a:moveTo>
                    <a:pt x="5" y="1142"/>
                  </a:moveTo>
                  <a:lnTo>
                    <a:pt x="84" y="1128"/>
                  </a:lnTo>
                  <a:lnTo>
                    <a:pt x="238" y="11"/>
                  </a:lnTo>
                  <a:lnTo>
                    <a:pt x="155" y="0"/>
                  </a:lnTo>
                  <a:lnTo>
                    <a:pt x="0" y="1117"/>
                  </a:lnTo>
                  <a:lnTo>
                    <a:pt x="5" y="1142"/>
                  </a:lnTo>
                  <a:lnTo>
                    <a:pt x="5" y="1142"/>
                  </a:lnTo>
                  <a:lnTo>
                    <a:pt x="66" y="1257"/>
                  </a:lnTo>
                  <a:lnTo>
                    <a:pt x="84" y="1128"/>
                  </a:lnTo>
                  <a:lnTo>
                    <a:pt x="5" y="114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6654240" y="6239520"/>
              <a:ext cx="45000" cy="73440"/>
            </a:xfrm>
            <a:custGeom>
              <a:avLst/>
              <a:gdLst/>
              <a:ahLst/>
              <a:rect l="l" t="t" r="r" b="b"/>
              <a:pathLst>
                <a:path w="452" h="760">
                  <a:moveTo>
                    <a:pt x="0" y="28"/>
                  </a:moveTo>
                  <a:lnTo>
                    <a:pt x="3" y="39"/>
                  </a:lnTo>
                  <a:lnTo>
                    <a:pt x="377" y="760"/>
                  </a:lnTo>
                  <a:lnTo>
                    <a:pt x="452" y="722"/>
                  </a:lnTo>
                  <a:lnTo>
                    <a:pt x="78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6652800" y="5944680"/>
              <a:ext cx="74880" cy="297720"/>
            </a:xfrm>
            <a:custGeom>
              <a:avLst/>
              <a:gdLst/>
              <a:ahLst/>
              <a:rect l="l" t="t" r="r" b="b"/>
              <a:pathLst>
                <a:path w="772" h="3054">
                  <a:moveTo>
                    <a:pt x="772" y="55"/>
                  </a:moveTo>
                  <a:lnTo>
                    <a:pt x="704" y="46"/>
                  </a:lnTo>
                  <a:lnTo>
                    <a:pt x="691" y="62"/>
                  </a:lnTo>
                  <a:lnTo>
                    <a:pt x="678" y="80"/>
                  </a:lnTo>
                  <a:lnTo>
                    <a:pt x="665" y="101"/>
                  </a:lnTo>
                  <a:lnTo>
                    <a:pt x="652" y="124"/>
                  </a:lnTo>
                  <a:lnTo>
                    <a:pt x="638" y="148"/>
                  </a:lnTo>
                  <a:lnTo>
                    <a:pt x="625" y="176"/>
                  </a:lnTo>
                  <a:lnTo>
                    <a:pt x="611" y="205"/>
                  </a:lnTo>
                  <a:lnTo>
                    <a:pt x="597" y="237"/>
                  </a:lnTo>
                  <a:lnTo>
                    <a:pt x="568" y="306"/>
                  </a:lnTo>
                  <a:lnTo>
                    <a:pt x="539" y="383"/>
                  </a:lnTo>
                  <a:lnTo>
                    <a:pt x="508" y="466"/>
                  </a:lnTo>
                  <a:lnTo>
                    <a:pt x="477" y="557"/>
                  </a:lnTo>
                  <a:lnTo>
                    <a:pt x="445" y="654"/>
                  </a:lnTo>
                  <a:lnTo>
                    <a:pt x="414" y="755"/>
                  </a:lnTo>
                  <a:lnTo>
                    <a:pt x="381" y="862"/>
                  </a:lnTo>
                  <a:lnTo>
                    <a:pt x="350" y="972"/>
                  </a:lnTo>
                  <a:lnTo>
                    <a:pt x="318" y="1086"/>
                  </a:lnTo>
                  <a:lnTo>
                    <a:pt x="287" y="1203"/>
                  </a:lnTo>
                  <a:lnTo>
                    <a:pt x="256" y="1321"/>
                  </a:lnTo>
                  <a:lnTo>
                    <a:pt x="227" y="1441"/>
                  </a:lnTo>
                  <a:lnTo>
                    <a:pt x="199" y="1563"/>
                  </a:lnTo>
                  <a:lnTo>
                    <a:pt x="171" y="1684"/>
                  </a:lnTo>
                  <a:lnTo>
                    <a:pt x="145" y="1804"/>
                  </a:lnTo>
                  <a:lnTo>
                    <a:pt x="120" y="1925"/>
                  </a:lnTo>
                  <a:lnTo>
                    <a:pt x="98" y="2043"/>
                  </a:lnTo>
                  <a:lnTo>
                    <a:pt x="77" y="2159"/>
                  </a:lnTo>
                  <a:lnTo>
                    <a:pt x="58" y="2271"/>
                  </a:lnTo>
                  <a:lnTo>
                    <a:pt x="42" y="2381"/>
                  </a:lnTo>
                  <a:lnTo>
                    <a:pt x="34" y="2434"/>
                  </a:lnTo>
                  <a:lnTo>
                    <a:pt x="28" y="2486"/>
                  </a:lnTo>
                  <a:lnTo>
                    <a:pt x="22" y="2537"/>
                  </a:lnTo>
                  <a:lnTo>
                    <a:pt x="17" y="2586"/>
                  </a:lnTo>
                  <a:lnTo>
                    <a:pt x="12" y="2635"/>
                  </a:lnTo>
                  <a:lnTo>
                    <a:pt x="8" y="2681"/>
                  </a:lnTo>
                  <a:lnTo>
                    <a:pt x="4" y="2726"/>
                  </a:lnTo>
                  <a:lnTo>
                    <a:pt x="2" y="2770"/>
                  </a:lnTo>
                  <a:lnTo>
                    <a:pt x="0" y="2811"/>
                  </a:lnTo>
                  <a:lnTo>
                    <a:pt x="0" y="2852"/>
                  </a:lnTo>
                  <a:lnTo>
                    <a:pt x="0" y="2890"/>
                  </a:lnTo>
                  <a:lnTo>
                    <a:pt x="1" y="2927"/>
                  </a:lnTo>
                  <a:lnTo>
                    <a:pt x="3" y="2961"/>
                  </a:lnTo>
                  <a:lnTo>
                    <a:pt x="7" y="2995"/>
                  </a:lnTo>
                  <a:lnTo>
                    <a:pt x="11" y="3025"/>
                  </a:lnTo>
                  <a:lnTo>
                    <a:pt x="16" y="3054"/>
                  </a:lnTo>
                  <a:lnTo>
                    <a:pt x="98" y="3037"/>
                  </a:lnTo>
                  <a:lnTo>
                    <a:pt x="93" y="3013"/>
                  </a:lnTo>
                  <a:lnTo>
                    <a:pt x="90" y="2986"/>
                  </a:lnTo>
                  <a:lnTo>
                    <a:pt x="87" y="2955"/>
                  </a:lnTo>
                  <a:lnTo>
                    <a:pt x="85" y="2924"/>
                  </a:lnTo>
                  <a:lnTo>
                    <a:pt x="84" y="2889"/>
                  </a:lnTo>
                  <a:lnTo>
                    <a:pt x="84" y="2853"/>
                  </a:lnTo>
                  <a:lnTo>
                    <a:pt x="85" y="2814"/>
                  </a:lnTo>
                  <a:lnTo>
                    <a:pt x="86" y="2774"/>
                  </a:lnTo>
                  <a:lnTo>
                    <a:pt x="89" y="2731"/>
                  </a:lnTo>
                  <a:lnTo>
                    <a:pt x="92" y="2687"/>
                  </a:lnTo>
                  <a:lnTo>
                    <a:pt x="95" y="2642"/>
                  </a:lnTo>
                  <a:lnTo>
                    <a:pt x="100" y="2594"/>
                  </a:lnTo>
                  <a:lnTo>
                    <a:pt x="105" y="2546"/>
                  </a:lnTo>
                  <a:lnTo>
                    <a:pt x="111" y="2497"/>
                  </a:lnTo>
                  <a:lnTo>
                    <a:pt x="117" y="2445"/>
                  </a:lnTo>
                  <a:lnTo>
                    <a:pt x="124" y="2393"/>
                  </a:lnTo>
                  <a:lnTo>
                    <a:pt x="141" y="2284"/>
                  </a:lnTo>
                  <a:lnTo>
                    <a:pt x="160" y="2173"/>
                  </a:lnTo>
                  <a:lnTo>
                    <a:pt x="180" y="2058"/>
                  </a:lnTo>
                  <a:lnTo>
                    <a:pt x="203" y="1940"/>
                  </a:lnTo>
                  <a:lnTo>
                    <a:pt x="227" y="1822"/>
                  </a:lnTo>
                  <a:lnTo>
                    <a:pt x="253" y="1702"/>
                  </a:lnTo>
                  <a:lnTo>
                    <a:pt x="281" y="1581"/>
                  </a:lnTo>
                  <a:lnTo>
                    <a:pt x="308" y="1461"/>
                  </a:lnTo>
                  <a:lnTo>
                    <a:pt x="338" y="1342"/>
                  </a:lnTo>
                  <a:lnTo>
                    <a:pt x="368" y="1224"/>
                  </a:lnTo>
                  <a:lnTo>
                    <a:pt x="400" y="1108"/>
                  </a:lnTo>
                  <a:lnTo>
                    <a:pt x="430" y="995"/>
                  </a:lnTo>
                  <a:lnTo>
                    <a:pt x="462" y="885"/>
                  </a:lnTo>
                  <a:lnTo>
                    <a:pt x="494" y="779"/>
                  </a:lnTo>
                  <a:lnTo>
                    <a:pt x="526" y="679"/>
                  </a:lnTo>
                  <a:lnTo>
                    <a:pt x="556" y="584"/>
                  </a:lnTo>
                  <a:lnTo>
                    <a:pt x="588" y="494"/>
                  </a:lnTo>
                  <a:lnTo>
                    <a:pt x="617" y="412"/>
                  </a:lnTo>
                  <a:lnTo>
                    <a:pt x="647" y="337"/>
                  </a:lnTo>
                  <a:lnTo>
                    <a:pt x="674" y="270"/>
                  </a:lnTo>
                  <a:lnTo>
                    <a:pt x="687" y="240"/>
                  </a:lnTo>
                  <a:lnTo>
                    <a:pt x="700" y="212"/>
                  </a:lnTo>
                  <a:lnTo>
                    <a:pt x="714" y="187"/>
                  </a:lnTo>
                  <a:lnTo>
                    <a:pt x="726" y="163"/>
                  </a:lnTo>
                  <a:lnTo>
                    <a:pt x="737" y="144"/>
                  </a:lnTo>
                  <a:lnTo>
                    <a:pt x="748" y="127"/>
                  </a:lnTo>
                  <a:lnTo>
                    <a:pt x="758" y="113"/>
                  </a:lnTo>
                  <a:lnTo>
                    <a:pt x="766" y="102"/>
                  </a:lnTo>
                  <a:lnTo>
                    <a:pt x="698" y="93"/>
                  </a:lnTo>
                  <a:lnTo>
                    <a:pt x="772" y="55"/>
                  </a:lnTo>
                  <a:lnTo>
                    <a:pt x="744" y="0"/>
                  </a:lnTo>
                  <a:lnTo>
                    <a:pt x="704" y="46"/>
                  </a:lnTo>
                  <a:lnTo>
                    <a:pt x="772" y="5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6721200" y="5950080"/>
              <a:ext cx="45000" cy="73440"/>
            </a:xfrm>
            <a:custGeom>
              <a:avLst/>
              <a:gdLst/>
              <a:ahLst/>
              <a:rect l="l" t="t" r="r" b="b"/>
              <a:pathLst>
                <a:path w="456" h="759">
                  <a:moveTo>
                    <a:pt x="451" y="753"/>
                  </a:moveTo>
                  <a:lnTo>
                    <a:pt x="449" y="720"/>
                  </a:lnTo>
                  <a:lnTo>
                    <a:pt x="74" y="0"/>
                  </a:lnTo>
                  <a:lnTo>
                    <a:pt x="0" y="38"/>
                  </a:lnTo>
                  <a:lnTo>
                    <a:pt x="374" y="759"/>
                  </a:lnTo>
                  <a:lnTo>
                    <a:pt x="451" y="753"/>
                  </a:lnTo>
                  <a:lnTo>
                    <a:pt x="451" y="753"/>
                  </a:lnTo>
                  <a:lnTo>
                    <a:pt x="456" y="737"/>
                  </a:lnTo>
                  <a:lnTo>
                    <a:pt x="449" y="720"/>
                  </a:lnTo>
                  <a:lnTo>
                    <a:pt x="451" y="75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6734880" y="6021000"/>
              <a:ext cx="29880" cy="82080"/>
            </a:xfrm>
            <a:custGeom>
              <a:avLst/>
              <a:gdLst/>
              <a:ahLst/>
              <a:rect l="l" t="t" r="r" b="b"/>
              <a:pathLst>
                <a:path w="317" h="850">
                  <a:moveTo>
                    <a:pt x="3" y="758"/>
                  </a:moveTo>
                  <a:lnTo>
                    <a:pt x="81" y="752"/>
                  </a:lnTo>
                  <a:lnTo>
                    <a:pt x="317" y="27"/>
                  </a:lnTo>
                  <a:lnTo>
                    <a:pt x="238" y="0"/>
                  </a:lnTo>
                  <a:lnTo>
                    <a:pt x="0" y="726"/>
                  </a:lnTo>
                  <a:lnTo>
                    <a:pt x="3" y="758"/>
                  </a:lnTo>
                  <a:lnTo>
                    <a:pt x="3" y="758"/>
                  </a:lnTo>
                  <a:lnTo>
                    <a:pt x="48" y="850"/>
                  </a:lnTo>
                  <a:lnTo>
                    <a:pt x="81" y="752"/>
                  </a:lnTo>
                  <a:lnTo>
                    <a:pt x="3" y="75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6723720" y="6059160"/>
              <a:ext cx="17640" cy="35280"/>
            </a:xfrm>
            <a:custGeom>
              <a:avLst/>
              <a:gdLst/>
              <a:ahLst/>
              <a:rect l="l" t="t" r="r" b="b"/>
              <a:pathLst>
                <a:path w="190" h="360">
                  <a:moveTo>
                    <a:pt x="0" y="98"/>
                  </a:moveTo>
                  <a:lnTo>
                    <a:pt x="2" y="129"/>
                  </a:lnTo>
                  <a:lnTo>
                    <a:pt x="114" y="360"/>
                  </a:lnTo>
                  <a:lnTo>
                    <a:pt x="190" y="323"/>
                  </a:lnTo>
                  <a:lnTo>
                    <a:pt x="77" y="93"/>
                  </a:lnTo>
                  <a:lnTo>
                    <a:pt x="0" y="98"/>
                  </a:lnTo>
                  <a:lnTo>
                    <a:pt x="77" y="93"/>
                  </a:lnTo>
                  <a:lnTo>
                    <a:pt x="32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6587280" y="6240960"/>
              <a:ext cx="107640" cy="72360"/>
            </a:xfrm>
            <a:custGeom>
              <a:avLst/>
              <a:gdLst/>
              <a:ahLst/>
              <a:rect l="l" t="t" r="r" b="b"/>
              <a:pathLst>
                <a:path w="1104" h="732">
                  <a:moveTo>
                    <a:pt x="0" y="10"/>
                  </a:moveTo>
                  <a:lnTo>
                    <a:pt x="230" y="732"/>
                  </a:lnTo>
                  <a:lnTo>
                    <a:pt x="1104" y="721"/>
                  </a:lnTo>
                  <a:lnTo>
                    <a:pt x="73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6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583320" y="6240960"/>
              <a:ext cx="29880" cy="76320"/>
            </a:xfrm>
            <a:custGeom>
              <a:avLst/>
              <a:gdLst/>
              <a:ahLst/>
              <a:rect l="l" t="t" r="r" b="b"/>
              <a:pathLst>
                <a:path w="311" h="777">
                  <a:moveTo>
                    <a:pt x="273" y="776"/>
                  </a:moveTo>
                  <a:lnTo>
                    <a:pt x="311" y="722"/>
                  </a:lnTo>
                  <a:lnTo>
                    <a:pt x="81" y="0"/>
                  </a:lnTo>
                  <a:lnTo>
                    <a:pt x="0" y="25"/>
                  </a:lnTo>
                  <a:lnTo>
                    <a:pt x="232" y="747"/>
                  </a:lnTo>
                  <a:lnTo>
                    <a:pt x="273" y="776"/>
                  </a:lnTo>
                  <a:lnTo>
                    <a:pt x="232" y="747"/>
                  </a:lnTo>
                  <a:lnTo>
                    <a:pt x="241" y="777"/>
                  </a:lnTo>
                  <a:lnTo>
                    <a:pt x="273" y="77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6610680" y="6307920"/>
              <a:ext cx="91080" cy="9360"/>
            </a:xfrm>
            <a:custGeom>
              <a:avLst/>
              <a:gdLst/>
              <a:ahLst/>
              <a:rect l="l" t="t" r="r" b="b"/>
              <a:pathLst>
                <a:path w="942" h="96">
                  <a:moveTo>
                    <a:pt x="912" y="24"/>
                  </a:moveTo>
                  <a:lnTo>
                    <a:pt x="874" y="0"/>
                  </a:lnTo>
                  <a:lnTo>
                    <a:pt x="0" y="13"/>
                  </a:lnTo>
                  <a:lnTo>
                    <a:pt x="2" y="96"/>
                  </a:lnTo>
                  <a:lnTo>
                    <a:pt x="875" y="85"/>
                  </a:lnTo>
                  <a:lnTo>
                    <a:pt x="912" y="24"/>
                  </a:lnTo>
                  <a:lnTo>
                    <a:pt x="875" y="85"/>
                  </a:lnTo>
                  <a:lnTo>
                    <a:pt x="942" y="84"/>
                  </a:lnTo>
                  <a:lnTo>
                    <a:pt x="912" y="24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6655320" y="6237000"/>
              <a:ext cx="43920" cy="76320"/>
            </a:xfrm>
            <a:custGeom>
              <a:avLst/>
              <a:gdLst/>
              <a:ahLst/>
              <a:rect l="l" t="t" r="r" b="b"/>
              <a:pathLst>
                <a:path w="449" h="782">
                  <a:moveTo>
                    <a:pt x="37" y="0"/>
                  </a:moveTo>
                  <a:lnTo>
                    <a:pt x="0" y="61"/>
                  </a:lnTo>
                  <a:lnTo>
                    <a:pt x="374" y="782"/>
                  </a:lnTo>
                  <a:lnTo>
                    <a:pt x="449" y="744"/>
                  </a:lnTo>
                  <a:lnTo>
                    <a:pt x="75" y="22"/>
                  </a:lnTo>
                  <a:lnTo>
                    <a:pt x="37" y="0"/>
                  </a:lnTo>
                  <a:lnTo>
                    <a:pt x="75" y="22"/>
                  </a:lnTo>
                  <a:lnTo>
                    <a:pt x="6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6581880" y="6237000"/>
              <a:ext cx="76320" cy="9360"/>
            </a:xfrm>
            <a:custGeom>
              <a:avLst/>
              <a:gdLst/>
              <a:ahLst/>
              <a:rect l="l" t="t" r="r" b="b"/>
              <a:pathLst>
                <a:path w="788" h="93">
                  <a:moveTo>
                    <a:pt x="16" y="65"/>
                  </a:moveTo>
                  <a:lnTo>
                    <a:pt x="57" y="93"/>
                  </a:lnTo>
                  <a:lnTo>
                    <a:pt x="788" y="84"/>
                  </a:lnTo>
                  <a:lnTo>
                    <a:pt x="787" y="0"/>
                  </a:lnTo>
                  <a:lnTo>
                    <a:pt x="56" y="10"/>
                  </a:lnTo>
                  <a:lnTo>
                    <a:pt x="16" y="65"/>
                  </a:lnTo>
                  <a:lnTo>
                    <a:pt x="56" y="10"/>
                  </a:lnTo>
                  <a:lnTo>
                    <a:pt x="0" y="11"/>
                  </a:lnTo>
                  <a:lnTo>
                    <a:pt x="16" y="6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6586200" y="5951520"/>
              <a:ext cx="138960" cy="290880"/>
            </a:xfrm>
            <a:custGeom>
              <a:avLst/>
              <a:gdLst/>
              <a:ahLst/>
              <a:rect l="l" t="t" r="r" b="b"/>
              <a:pathLst>
                <a:path w="1423" h="2982">
                  <a:moveTo>
                    <a:pt x="1423" y="0"/>
                  </a:moveTo>
                  <a:lnTo>
                    <a:pt x="1401" y="30"/>
                  </a:lnTo>
                  <a:lnTo>
                    <a:pt x="1376" y="70"/>
                  </a:lnTo>
                  <a:lnTo>
                    <a:pt x="1351" y="120"/>
                  </a:lnTo>
                  <a:lnTo>
                    <a:pt x="1323" y="179"/>
                  </a:lnTo>
                  <a:lnTo>
                    <a:pt x="1295" y="247"/>
                  </a:lnTo>
                  <a:lnTo>
                    <a:pt x="1265" y="323"/>
                  </a:lnTo>
                  <a:lnTo>
                    <a:pt x="1236" y="406"/>
                  </a:lnTo>
                  <a:lnTo>
                    <a:pt x="1204" y="496"/>
                  </a:lnTo>
                  <a:lnTo>
                    <a:pt x="1173" y="592"/>
                  </a:lnTo>
                  <a:lnTo>
                    <a:pt x="1142" y="693"/>
                  </a:lnTo>
                  <a:lnTo>
                    <a:pt x="1110" y="799"/>
                  </a:lnTo>
                  <a:lnTo>
                    <a:pt x="1079" y="909"/>
                  </a:lnTo>
                  <a:lnTo>
                    <a:pt x="1047" y="1023"/>
                  </a:lnTo>
                  <a:lnTo>
                    <a:pt x="1016" y="1139"/>
                  </a:lnTo>
                  <a:lnTo>
                    <a:pt x="985" y="1258"/>
                  </a:lnTo>
                  <a:lnTo>
                    <a:pt x="956" y="1377"/>
                  </a:lnTo>
                  <a:lnTo>
                    <a:pt x="927" y="1498"/>
                  </a:lnTo>
                  <a:lnTo>
                    <a:pt x="900" y="1619"/>
                  </a:lnTo>
                  <a:lnTo>
                    <a:pt x="874" y="1740"/>
                  </a:lnTo>
                  <a:lnTo>
                    <a:pt x="850" y="1859"/>
                  </a:lnTo>
                  <a:lnTo>
                    <a:pt x="827" y="1977"/>
                  </a:lnTo>
                  <a:lnTo>
                    <a:pt x="806" y="2092"/>
                  </a:lnTo>
                  <a:lnTo>
                    <a:pt x="788" y="2204"/>
                  </a:lnTo>
                  <a:lnTo>
                    <a:pt x="771" y="2313"/>
                  </a:lnTo>
                  <a:lnTo>
                    <a:pt x="758" y="2417"/>
                  </a:lnTo>
                  <a:lnTo>
                    <a:pt x="746" y="2516"/>
                  </a:lnTo>
                  <a:lnTo>
                    <a:pt x="737" y="2610"/>
                  </a:lnTo>
                  <a:lnTo>
                    <a:pt x="732" y="2698"/>
                  </a:lnTo>
                  <a:lnTo>
                    <a:pt x="730" y="2778"/>
                  </a:lnTo>
                  <a:lnTo>
                    <a:pt x="731" y="2851"/>
                  </a:lnTo>
                  <a:lnTo>
                    <a:pt x="736" y="2916"/>
                  </a:lnTo>
                  <a:lnTo>
                    <a:pt x="744" y="2972"/>
                  </a:lnTo>
                  <a:lnTo>
                    <a:pt x="14" y="2982"/>
                  </a:lnTo>
                  <a:lnTo>
                    <a:pt x="5" y="2926"/>
                  </a:lnTo>
                  <a:lnTo>
                    <a:pt x="1" y="2861"/>
                  </a:lnTo>
                  <a:lnTo>
                    <a:pt x="0" y="2788"/>
                  </a:lnTo>
                  <a:lnTo>
                    <a:pt x="2" y="2708"/>
                  </a:lnTo>
                  <a:lnTo>
                    <a:pt x="7" y="2620"/>
                  </a:lnTo>
                  <a:lnTo>
                    <a:pt x="15" y="2526"/>
                  </a:lnTo>
                  <a:lnTo>
                    <a:pt x="26" y="2427"/>
                  </a:lnTo>
                  <a:lnTo>
                    <a:pt x="40" y="2322"/>
                  </a:lnTo>
                  <a:lnTo>
                    <a:pt x="57" y="2214"/>
                  </a:lnTo>
                  <a:lnTo>
                    <a:pt x="76" y="2102"/>
                  </a:lnTo>
                  <a:lnTo>
                    <a:pt x="96" y="1986"/>
                  </a:lnTo>
                  <a:lnTo>
                    <a:pt x="119" y="1868"/>
                  </a:lnTo>
                  <a:lnTo>
                    <a:pt x="143" y="1750"/>
                  </a:lnTo>
                  <a:lnTo>
                    <a:pt x="169" y="1629"/>
                  </a:lnTo>
                  <a:lnTo>
                    <a:pt x="197" y="1508"/>
                  </a:lnTo>
                  <a:lnTo>
                    <a:pt x="225" y="1387"/>
                  </a:lnTo>
                  <a:lnTo>
                    <a:pt x="255" y="1268"/>
                  </a:lnTo>
                  <a:lnTo>
                    <a:pt x="285" y="1149"/>
                  </a:lnTo>
                  <a:lnTo>
                    <a:pt x="316" y="1032"/>
                  </a:lnTo>
                  <a:lnTo>
                    <a:pt x="347" y="920"/>
                  </a:lnTo>
                  <a:lnTo>
                    <a:pt x="379" y="809"/>
                  </a:lnTo>
                  <a:lnTo>
                    <a:pt x="411" y="703"/>
                  </a:lnTo>
                  <a:lnTo>
                    <a:pt x="443" y="602"/>
                  </a:lnTo>
                  <a:lnTo>
                    <a:pt x="474" y="506"/>
                  </a:lnTo>
                  <a:lnTo>
                    <a:pt x="505" y="416"/>
                  </a:lnTo>
                  <a:lnTo>
                    <a:pt x="535" y="333"/>
                  </a:lnTo>
                  <a:lnTo>
                    <a:pt x="564" y="257"/>
                  </a:lnTo>
                  <a:lnTo>
                    <a:pt x="593" y="189"/>
                  </a:lnTo>
                  <a:lnTo>
                    <a:pt x="620" y="130"/>
                  </a:lnTo>
                  <a:lnTo>
                    <a:pt x="646" y="79"/>
                  </a:lnTo>
                  <a:lnTo>
                    <a:pt x="670" y="40"/>
                  </a:lnTo>
                  <a:lnTo>
                    <a:pt x="692" y="9"/>
                  </a:lnTo>
                  <a:lnTo>
                    <a:pt x="1423" y="0"/>
                  </a:lnTo>
                  <a:close/>
                </a:path>
              </a:pathLst>
            </a:cu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6652800" y="5948640"/>
              <a:ext cx="74880" cy="296280"/>
            </a:xfrm>
            <a:custGeom>
              <a:avLst/>
              <a:gdLst/>
              <a:ahLst/>
              <a:rect l="l" t="t" r="r" b="b"/>
              <a:pathLst>
                <a:path w="766" h="3042">
                  <a:moveTo>
                    <a:pt x="57" y="3042"/>
                  </a:moveTo>
                  <a:lnTo>
                    <a:pt x="98" y="2991"/>
                  </a:lnTo>
                  <a:lnTo>
                    <a:pt x="93" y="2967"/>
                  </a:lnTo>
                  <a:lnTo>
                    <a:pt x="90" y="2940"/>
                  </a:lnTo>
                  <a:lnTo>
                    <a:pt x="87" y="2909"/>
                  </a:lnTo>
                  <a:lnTo>
                    <a:pt x="85" y="2878"/>
                  </a:lnTo>
                  <a:lnTo>
                    <a:pt x="84" y="2843"/>
                  </a:lnTo>
                  <a:lnTo>
                    <a:pt x="84" y="2807"/>
                  </a:lnTo>
                  <a:lnTo>
                    <a:pt x="85" y="2768"/>
                  </a:lnTo>
                  <a:lnTo>
                    <a:pt x="86" y="2728"/>
                  </a:lnTo>
                  <a:lnTo>
                    <a:pt x="89" y="2685"/>
                  </a:lnTo>
                  <a:lnTo>
                    <a:pt x="92" y="2641"/>
                  </a:lnTo>
                  <a:lnTo>
                    <a:pt x="95" y="2596"/>
                  </a:lnTo>
                  <a:lnTo>
                    <a:pt x="100" y="2548"/>
                  </a:lnTo>
                  <a:lnTo>
                    <a:pt x="105" y="2500"/>
                  </a:lnTo>
                  <a:lnTo>
                    <a:pt x="111" y="2451"/>
                  </a:lnTo>
                  <a:lnTo>
                    <a:pt x="117" y="2399"/>
                  </a:lnTo>
                  <a:lnTo>
                    <a:pt x="124" y="2347"/>
                  </a:lnTo>
                  <a:lnTo>
                    <a:pt x="141" y="2238"/>
                  </a:lnTo>
                  <a:lnTo>
                    <a:pt x="160" y="2127"/>
                  </a:lnTo>
                  <a:lnTo>
                    <a:pt x="180" y="2012"/>
                  </a:lnTo>
                  <a:lnTo>
                    <a:pt x="203" y="1894"/>
                  </a:lnTo>
                  <a:lnTo>
                    <a:pt x="227" y="1776"/>
                  </a:lnTo>
                  <a:lnTo>
                    <a:pt x="253" y="1656"/>
                  </a:lnTo>
                  <a:lnTo>
                    <a:pt x="281" y="1535"/>
                  </a:lnTo>
                  <a:lnTo>
                    <a:pt x="308" y="1415"/>
                  </a:lnTo>
                  <a:lnTo>
                    <a:pt x="338" y="1296"/>
                  </a:lnTo>
                  <a:lnTo>
                    <a:pt x="368" y="1178"/>
                  </a:lnTo>
                  <a:lnTo>
                    <a:pt x="400" y="1062"/>
                  </a:lnTo>
                  <a:lnTo>
                    <a:pt x="430" y="949"/>
                  </a:lnTo>
                  <a:lnTo>
                    <a:pt x="462" y="839"/>
                  </a:lnTo>
                  <a:lnTo>
                    <a:pt x="494" y="733"/>
                  </a:lnTo>
                  <a:lnTo>
                    <a:pt x="526" y="633"/>
                  </a:lnTo>
                  <a:lnTo>
                    <a:pt x="556" y="538"/>
                  </a:lnTo>
                  <a:lnTo>
                    <a:pt x="588" y="448"/>
                  </a:lnTo>
                  <a:lnTo>
                    <a:pt x="617" y="366"/>
                  </a:lnTo>
                  <a:lnTo>
                    <a:pt x="647" y="291"/>
                  </a:lnTo>
                  <a:lnTo>
                    <a:pt x="674" y="224"/>
                  </a:lnTo>
                  <a:lnTo>
                    <a:pt x="687" y="194"/>
                  </a:lnTo>
                  <a:lnTo>
                    <a:pt x="700" y="166"/>
                  </a:lnTo>
                  <a:lnTo>
                    <a:pt x="714" y="141"/>
                  </a:lnTo>
                  <a:lnTo>
                    <a:pt x="726" y="117"/>
                  </a:lnTo>
                  <a:lnTo>
                    <a:pt x="737" y="98"/>
                  </a:lnTo>
                  <a:lnTo>
                    <a:pt x="748" y="81"/>
                  </a:lnTo>
                  <a:lnTo>
                    <a:pt x="758" y="67"/>
                  </a:lnTo>
                  <a:lnTo>
                    <a:pt x="766" y="56"/>
                  </a:lnTo>
                  <a:lnTo>
                    <a:pt x="704" y="0"/>
                  </a:lnTo>
                  <a:lnTo>
                    <a:pt x="691" y="16"/>
                  </a:lnTo>
                  <a:lnTo>
                    <a:pt x="678" y="34"/>
                  </a:lnTo>
                  <a:lnTo>
                    <a:pt x="665" y="55"/>
                  </a:lnTo>
                  <a:lnTo>
                    <a:pt x="652" y="78"/>
                  </a:lnTo>
                  <a:lnTo>
                    <a:pt x="638" y="102"/>
                  </a:lnTo>
                  <a:lnTo>
                    <a:pt x="625" y="130"/>
                  </a:lnTo>
                  <a:lnTo>
                    <a:pt x="611" y="159"/>
                  </a:lnTo>
                  <a:lnTo>
                    <a:pt x="597" y="191"/>
                  </a:lnTo>
                  <a:lnTo>
                    <a:pt x="568" y="260"/>
                  </a:lnTo>
                  <a:lnTo>
                    <a:pt x="539" y="337"/>
                  </a:lnTo>
                  <a:lnTo>
                    <a:pt x="508" y="420"/>
                  </a:lnTo>
                  <a:lnTo>
                    <a:pt x="477" y="511"/>
                  </a:lnTo>
                  <a:lnTo>
                    <a:pt x="445" y="608"/>
                  </a:lnTo>
                  <a:lnTo>
                    <a:pt x="414" y="709"/>
                  </a:lnTo>
                  <a:lnTo>
                    <a:pt x="381" y="816"/>
                  </a:lnTo>
                  <a:lnTo>
                    <a:pt x="350" y="926"/>
                  </a:lnTo>
                  <a:lnTo>
                    <a:pt x="318" y="1040"/>
                  </a:lnTo>
                  <a:lnTo>
                    <a:pt x="287" y="1157"/>
                  </a:lnTo>
                  <a:lnTo>
                    <a:pt x="256" y="1275"/>
                  </a:lnTo>
                  <a:lnTo>
                    <a:pt x="227" y="1395"/>
                  </a:lnTo>
                  <a:lnTo>
                    <a:pt x="199" y="1517"/>
                  </a:lnTo>
                  <a:lnTo>
                    <a:pt x="171" y="1638"/>
                  </a:lnTo>
                  <a:lnTo>
                    <a:pt x="145" y="1758"/>
                  </a:lnTo>
                  <a:lnTo>
                    <a:pt x="120" y="1879"/>
                  </a:lnTo>
                  <a:lnTo>
                    <a:pt x="98" y="1997"/>
                  </a:lnTo>
                  <a:lnTo>
                    <a:pt x="77" y="2113"/>
                  </a:lnTo>
                  <a:lnTo>
                    <a:pt x="58" y="2225"/>
                  </a:lnTo>
                  <a:lnTo>
                    <a:pt x="42" y="2335"/>
                  </a:lnTo>
                  <a:lnTo>
                    <a:pt x="34" y="2388"/>
                  </a:lnTo>
                  <a:lnTo>
                    <a:pt x="28" y="2440"/>
                  </a:lnTo>
                  <a:lnTo>
                    <a:pt x="22" y="2491"/>
                  </a:lnTo>
                  <a:lnTo>
                    <a:pt x="17" y="2540"/>
                  </a:lnTo>
                  <a:lnTo>
                    <a:pt x="12" y="2589"/>
                  </a:lnTo>
                  <a:lnTo>
                    <a:pt x="8" y="2635"/>
                  </a:lnTo>
                  <a:lnTo>
                    <a:pt x="4" y="2680"/>
                  </a:lnTo>
                  <a:lnTo>
                    <a:pt x="2" y="2724"/>
                  </a:lnTo>
                  <a:lnTo>
                    <a:pt x="0" y="2765"/>
                  </a:lnTo>
                  <a:lnTo>
                    <a:pt x="0" y="2806"/>
                  </a:lnTo>
                  <a:lnTo>
                    <a:pt x="0" y="2844"/>
                  </a:lnTo>
                  <a:lnTo>
                    <a:pt x="1" y="2881"/>
                  </a:lnTo>
                  <a:lnTo>
                    <a:pt x="3" y="2915"/>
                  </a:lnTo>
                  <a:lnTo>
                    <a:pt x="7" y="2949"/>
                  </a:lnTo>
                  <a:lnTo>
                    <a:pt x="11" y="2979"/>
                  </a:lnTo>
                  <a:lnTo>
                    <a:pt x="16" y="3008"/>
                  </a:lnTo>
                  <a:lnTo>
                    <a:pt x="56" y="2958"/>
                  </a:lnTo>
                  <a:lnTo>
                    <a:pt x="57" y="3042"/>
                  </a:lnTo>
                  <a:lnTo>
                    <a:pt x="107" y="3041"/>
                  </a:lnTo>
                  <a:lnTo>
                    <a:pt x="98" y="2991"/>
                  </a:lnTo>
                  <a:lnTo>
                    <a:pt x="57" y="304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6583320" y="6237000"/>
              <a:ext cx="74880" cy="9360"/>
            </a:xfrm>
            <a:custGeom>
              <a:avLst/>
              <a:gdLst/>
              <a:ahLst/>
              <a:rect l="l" t="t" r="r" b="b"/>
              <a:pathLst>
                <a:path w="773" h="94">
                  <a:moveTo>
                    <a:pt x="0" y="60"/>
                  </a:moveTo>
                  <a:lnTo>
                    <a:pt x="42" y="93"/>
                  </a:lnTo>
                  <a:lnTo>
                    <a:pt x="773" y="84"/>
                  </a:lnTo>
                  <a:lnTo>
                    <a:pt x="772" y="0"/>
                  </a:lnTo>
                  <a:lnTo>
                    <a:pt x="41" y="1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7" y="94"/>
                  </a:lnTo>
                  <a:lnTo>
                    <a:pt x="42" y="9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6581880" y="5948640"/>
              <a:ext cx="75240" cy="294840"/>
            </a:xfrm>
            <a:custGeom>
              <a:avLst/>
              <a:gdLst/>
              <a:ahLst/>
              <a:rect l="l" t="t" r="r" b="b"/>
              <a:pathLst>
                <a:path w="767" h="3022">
                  <a:moveTo>
                    <a:pt x="735" y="0"/>
                  </a:moveTo>
                  <a:lnTo>
                    <a:pt x="704" y="14"/>
                  </a:lnTo>
                  <a:lnTo>
                    <a:pt x="691" y="30"/>
                  </a:lnTo>
                  <a:lnTo>
                    <a:pt x="679" y="48"/>
                  </a:lnTo>
                  <a:lnTo>
                    <a:pt x="665" y="69"/>
                  </a:lnTo>
                  <a:lnTo>
                    <a:pt x="652" y="91"/>
                  </a:lnTo>
                  <a:lnTo>
                    <a:pt x="639" y="116"/>
                  </a:lnTo>
                  <a:lnTo>
                    <a:pt x="625" y="144"/>
                  </a:lnTo>
                  <a:lnTo>
                    <a:pt x="612" y="173"/>
                  </a:lnTo>
                  <a:lnTo>
                    <a:pt x="597" y="205"/>
                  </a:lnTo>
                  <a:lnTo>
                    <a:pt x="583" y="238"/>
                  </a:lnTo>
                  <a:lnTo>
                    <a:pt x="569" y="274"/>
                  </a:lnTo>
                  <a:lnTo>
                    <a:pt x="554" y="311"/>
                  </a:lnTo>
                  <a:lnTo>
                    <a:pt x="538" y="351"/>
                  </a:lnTo>
                  <a:lnTo>
                    <a:pt x="508" y="434"/>
                  </a:lnTo>
                  <a:lnTo>
                    <a:pt x="477" y="524"/>
                  </a:lnTo>
                  <a:lnTo>
                    <a:pt x="446" y="621"/>
                  </a:lnTo>
                  <a:lnTo>
                    <a:pt x="413" y="723"/>
                  </a:lnTo>
                  <a:lnTo>
                    <a:pt x="382" y="829"/>
                  </a:lnTo>
                  <a:lnTo>
                    <a:pt x="350" y="939"/>
                  </a:lnTo>
                  <a:lnTo>
                    <a:pt x="318" y="1054"/>
                  </a:lnTo>
                  <a:lnTo>
                    <a:pt x="287" y="1171"/>
                  </a:lnTo>
                  <a:lnTo>
                    <a:pt x="257" y="1290"/>
                  </a:lnTo>
                  <a:lnTo>
                    <a:pt x="228" y="1409"/>
                  </a:lnTo>
                  <a:lnTo>
                    <a:pt x="199" y="1530"/>
                  </a:lnTo>
                  <a:lnTo>
                    <a:pt x="172" y="1652"/>
                  </a:lnTo>
                  <a:lnTo>
                    <a:pt x="145" y="1773"/>
                  </a:lnTo>
                  <a:lnTo>
                    <a:pt x="121" y="1892"/>
                  </a:lnTo>
                  <a:lnTo>
                    <a:pt x="99" y="2011"/>
                  </a:lnTo>
                  <a:lnTo>
                    <a:pt x="77" y="2127"/>
                  </a:lnTo>
                  <a:lnTo>
                    <a:pt x="59" y="2239"/>
                  </a:lnTo>
                  <a:lnTo>
                    <a:pt x="42" y="2349"/>
                  </a:lnTo>
                  <a:lnTo>
                    <a:pt x="35" y="2402"/>
                  </a:lnTo>
                  <a:lnTo>
                    <a:pt x="27" y="2454"/>
                  </a:lnTo>
                  <a:lnTo>
                    <a:pt x="22" y="2504"/>
                  </a:lnTo>
                  <a:lnTo>
                    <a:pt x="16" y="2554"/>
                  </a:lnTo>
                  <a:lnTo>
                    <a:pt x="12" y="2603"/>
                  </a:lnTo>
                  <a:lnTo>
                    <a:pt x="8" y="2648"/>
                  </a:lnTo>
                  <a:lnTo>
                    <a:pt x="5" y="2694"/>
                  </a:lnTo>
                  <a:lnTo>
                    <a:pt x="3" y="2738"/>
                  </a:lnTo>
                  <a:lnTo>
                    <a:pt x="1" y="2779"/>
                  </a:lnTo>
                  <a:lnTo>
                    <a:pt x="0" y="2820"/>
                  </a:lnTo>
                  <a:lnTo>
                    <a:pt x="0" y="2858"/>
                  </a:lnTo>
                  <a:lnTo>
                    <a:pt x="2" y="2895"/>
                  </a:lnTo>
                  <a:lnTo>
                    <a:pt x="3" y="2929"/>
                  </a:lnTo>
                  <a:lnTo>
                    <a:pt x="6" y="2962"/>
                  </a:lnTo>
                  <a:lnTo>
                    <a:pt x="10" y="2993"/>
                  </a:lnTo>
                  <a:lnTo>
                    <a:pt x="15" y="3022"/>
                  </a:lnTo>
                  <a:lnTo>
                    <a:pt x="98" y="3006"/>
                  </a:lnTo>
                  <a:lnTo>
                    <a:pt x="93" y="2980"/>
                  </a:lnTo>
                  <a:lnTo>
                    <a:pt x="89" y="2954"/>
                  </a:lnTo>
                  <a:lnTo>
                    <a:pt x="87" y="2923"/>
                  </a:lnTo>
                  <a:lnTo>
                    <a:pt x="85" y="2891"/>
                  </a:lnTo>
                  <a:lnTo>
                    <a:pt x="84" y="2856"/>
                  </a:lnTo>
                  <a:lnTo>
                    <a:pt x="84" y="2820"/>
                  </a:lnTo>
                  <a:lnTo>
                    <a:pt x="84" y="2781"/>
                  </a:lnTo>
                  <a:lnTo>
                    <a:pt x="86" y="2741"/>
                  </a:lnTo>
                  <a:lnTo>
                    <a:pt x="88" y="2699"/>
                  </a:lnTo>
                  <a:lnTo>
                    <a:pt x="91" y="2655"/>
                  </a:lnTo>
                  <a:lnTo>
                    <a:pt x="95" y="2610"/>
                  </a:lnTo>
                  <a:lnTo>
                    <a:pt x="100" y="2562"/>
                  </a:lnTo>
                  <a:lnTo>
                    <a:pt x="106" y="2513"/>
                  </a:lnTo>
                  <a:lnTo>
                    <a:pt x="112" y="2464"/>
                  </a:lnTo>
                  <a:lnTo>
                    <a:pt x="118" y="2413"/>
                  </a:lnTo>
                  <a:lnTo>
                    <a:pt x="125" y="2360"/>
                  </a:lnTo>
                  <a:lnTo>
                    <a:pt x="141" y="2253"/>
                  </a:lnTo>
                  <a:lnTo>
                    <a:pt x="159" y="2141"/>
                  </a:lnTo>
                  <a:lnTo>
                    <a:pt x="181" y="2026"/>
                  </a:lnTo>
                  <a:lnTo>
                    <a:pt x="203" y="1909"/>
                  </a:lnTo>
                  <a:lnTo>
                    <a:pt x="228" y="1790"/>
                  </a:lnTo>
                  <a:lnTo>
                    <a:pt x="253" y="1670"/>
                  </a:lnTo>
                  <a:lnTo>
                    <a:pt x="280" y="1549"/>
                  </a:lnTo>
                  <a:lnTo>
                    <a:pt x="309" y="1429"/>
                  </a:lnTo>
                  <a:lnTo>
                    <a:pt x="338" y="1310"/>
                  </a:lnTo>
                  <a:lnTo>
                    <a:pt x="369" y="1191"/>
                  </a:lnTo>
                  <a:lnTo>
                    <a:pt x="399" y="1075"/>
                  </a:lnTo>
                  <a:lnTo>
                    <a:pt x="431" y="963"/>
                  </a:lnTo>
                  <a:lnTo>
                    <a:pt x="462" y="853"/>
                  </a:lnTo>
                  <a:lnTo>
                    <a:pt x="494" y="748"/>
                  </a:lnTo>
                  <a:lnTo>
                    <a:pt x="525" y="646"/>
                  </a:lnTo>
                  <a:lnTo>
                    <a:pt x="557" y="552"/>
                  </a:lnTo>
                  <a:lnTo>
                    <a:pt x="587" y="462"/>
                  </a:lnTo>
                  <a:lnTo>
                    <a:pt x="618" y="379"/>
                  </a:lnTo>
                  <a:lnTo>
                    <a:pt x="632" y="341"/>
                  </a:lnTo>
                  <a:lnTo>
                    <a:pt x="646" y="304"/>
                  </a:lnTo>
                  <a:lnTo>
                    <a:pt x="660" y="270"/>
                  </a:lnTo>
                  <a:lnTo>
                    <a:pt x="675" y="238"/>
                  </a:lnTo>
                  <a:lnTo>
                    <a:pt x="688" y="208"/>
                  </a:lnTo>
                  <a:lnTo>
                    <a:pt x="701" y="180"/>
                  </a:lnTo>
                  <a:lnTo>
                    <a:pt x="713" y="155"/>
                  </a:lnTo>
                  <a:lnTo>
                    <a:pt x="725" y="132"/>
                  </a:lnTo>
                  <a:lnTo>
                    <a:pt x="738" y="111"/>
                  </a:lnTo>
                  <a:lnTo>
                    <a:pt x="748" y="95"/>
                  </a:lnTo>
                  <a:lnTo>
                    <a:pt x="758" y="81"/>
                  </a:lnTo>
                  <a:lnTo>
                    <a:pt x="767" y="70"/>
                  </a:lnTo>
                  <a:lnTo>
                    <a:pt x="737" y="84"/>
                  </a:lnTo>
                  <a:lnTo>
                    <a:pt x="735" y="0"/>
                  </a:lnTo>
                  <a:lnTo>
                    <a:pt x="716" y="0"/>
                  </a:lnTo>
                  <a:lnTo>
                    <a:pt x="704" y="14"/>
                  </a:lnTo>
                  <a:lnTo>
                    <a:pt x="735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6654240" y="5947200"/>
              <a:ext cx="79200" cy="9360"/>
            </a:xfrm>
            <a:custGeom>
              <a:avLst/>
              <a:gdLst/>
              <a:ahLst/>
              <a:rect l="l" t="t" r="r" b="b"/>
              <a:pathLst>
                <a:path w="825" h="94">
                  <a:moveTo>
                    <a:pt x="762" y="70"/>
                  </a:moveTo>
                  <a:lnTo>
                    <a:pt x="731" y="0"/>
                  </a:lnTo>
                  <a:lnTo>
                    <a:pt x="0" y="10"/>
                  </a:lnTo>
                  <a:lnTo>
                    <a:pt x="2" y="94"/>
                  </a:lnTo>
                  <a:lnTo>
                    <a:pt x="732" y="84"/>
                  </a:lnTo>
                  <a:lnTo>
                    <a:pt x="762" y="70"/>
                  </a:lnTo>
                  <a:lnTo>
                    <a:pt x="762" y="70"/>
                  </a:lnTo>
                  <a:lnTo>
                    <a:pt x="825" y="0"/>
                  </a:lnTo>
                  <a:lnTo>
                    <a:pt x="731" y="0"/>
                  </a:lnTo>
                  <a:lnTo>
                    <a:pt x="762" y="7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6891840" y="5963400"/>
              <a:ext cx="102240" cy="102240"/>
            </a:xfrm>
            <a:custGeom>
              <a:avLst/>
              <a:gdLst/>
              <a:ahLst/>
              <a:rect l="l" t="t" r="r" b="b"/>
              <a:pathLst>
                <a:path w="1051" h="1050">
                  <a:moveTo>
                    <a:pt x="1051" y="525"/>
                  </a:moveTo>
                  <a:lnTo>
                    <a:pt x="1050" y="552"/>
                  </a:lnTo>
                  <a:lnTo>
                    <a:pt x="1048" y="578"/>
                  </a:lnTo>
                  <a:lnTo>
                    <a:pt x="1045" y="605"/>
                  </a:lnTo>
                  <a:lnTo>
                    <a:pt x="1040" y="631"/>
                  </a:lnTo>
                  <a:lnTo>
                    <a:pt x="1035" y="657"/>
                  </a:lnTo>
                  <a:lnTo>
                    <a:pt x="1028" y="681"/>
                  </a:lnTo>
                  <a:lnTo>
                    <a:pt x="1020" y="705"/>
                  </a:lnTo>
                  <a:lnTo>
                    <a:pt x="1009" y="730"/>
                  </a:lnTo>
                  <a:lnTo>
                    <a:pt x="999" y="753"/>
                  </a:lnTo>
                  <a:lnTo>
                    <a:pt x="988" y="775"/>
                  </a:lnTo>
                  <a:lnTo>
                    <a:pt x="975" y="798"/>
                  </a:lnTo>
                  <a:lnTo>
                    <a:pt x="962" y="819"/>
                  </a:lnTo>
                  <a:lnTo>
                    <a:pt x="946" y="839"/>
                  </a:lnTo>
                  <a:lnTo>
                    <a:pt x="931" y="860"/>
                  </a:lnTo>
                  <a:lnTo>
                    <a:pt x="915" y="878"/>
                  </a:lnTo>
                  <a:lnTo>
                    <a:pt x="897" y="896"/>
                  </a:lnTo>
                  <a:lnTo>
                    <a:pt x="878" y="913"/>
                  </a:lnTo>
                  <a:lnTo>
                    <a:pt x="860" y="931"/>
                  </a:lnTo>
                  <a:lnTo>
                    <a:pt x="840" y="946"/>
                  </a:lnTo>
                  <a:lnTo>
                    <a:pt x="819" y="960"/>
                  </a:lnTo>
                  <a:lnTo>
                    <a:pt x="798" y="974"/>
                  </a:lnTo>
                  <a:lnTo>
                    <a:pt x="776" y="986"/>
                  </a:lnTo>
                  <a:lnTo>
                    <a:pt x="753" y="999"/>
                  </a:lnTo>
                  <a:lnTo>
                    <a:pt x="730" y="1009"/>
                  </a:lnTo>
                  <a:lnTo>
                    <a:pt x="707" y="1018"/>
                  </a:lnTo>
                  <a:lnTo>
                    <a:pt x="681" y="1027"/>
                  </a:lnTo>
                  <a:lnTo>
                    <a:pt x="657" y="1034"/>
                  </a:lnTo>
                  <a:lnTo>
                    <a:pt x="631" y="1039"/>
                  </a:lnTo>
                  <a:lnTo>
                    <a:pt x="605" y="1044"/>
                  </a:lnTo>
                  <a:lnTo>
                    <a:pt x="580" y="1047"/>
                  </a:lnTo>
                  <a:lnTo>
                    <a:pt x="552" y="1049"/>
                  </a:lnTo>
                  <a:lnTo>
                    <a:pt x="526" y="1050"/>
                  </a:lnTo>
                  <a:lnTo>
                    <a:pt x="498" y="1049"/>
                  </a:lnTo>
                  <a:lnTo>
                    <a:pt x="472" y="1047"/>
                  </a:lnTo>
                  <a:lnTo>
                    <a:pt x="446" y="1044"/>
                  </a:lnTo>
                  <a:lnTo>
                    <a:pt x="419" y="1039"/>
                  </a:lnTo>
                  <a:lnTo>
                    <a:pt x="394" y="1034"/>
                  </a:lnTo>
                  <a:lnTo>
                    <a:pt x="369" y="1027"/>
                  </a:lnTo>
                  <a:lnTo>
                    <a:pt x="345" y="1018"/>
                  </a:lnTo>
                  <a:lnTo>
                    <a:pt x="321" y="1009"/>
                  </a:lnTo>
                  <a:lnTo>
                    <a:pt x="297" y="999"/>
                  </a:lnTo>
                  <a:lnTo>
                    <a:pt x="275" y="986"/>
                  </a:lnTo>
                  <a:lnTo>
                    <a:pt x="253" y="974"/>
                  </a:lnTo>
                  <a:lnTo>
                    <a:pt x="231" y="960"/>
                  </a:lnTo>
                  <a:lnTo>
                    <a:pt x="211" y="946"/>
                  </a:lnTo>
                  <a:lnTo>
                    <a:pt x="191" y="931"/>
                  </a:lnTo>
                  <a:lnTo>
                    <a:pt x="172" y="913"/>
                  </a:lnTo>
                  <a:lnTo>
                    <a:pt x="154" y="896"/>
                  </a:lnTo>
                  <a:lnTo>
                    <a:pt x="137" y="878"/>
                  </a:lnTo>
                  <a:lnTo>
                    <a:pt x="119" y="860"/>
                  </a:lnTo>
                  <a:lnTo>
                    <a:pt x="104" y="839"/>
                  </a:lnTo>
                  <a:lnTo>
                    <a:pt x="90" y="819"/>
                  </a:lnTo>
                  <a:lnTo>
                    <a:pt x="76" y="798"/>
                  </a:lnTo>
                  <a:lnTo>
                    <a:pt x="64" y="775"/>
                  </a:lnTo>
                  <a:lnTo>
                    <a:pt x="51" y="753"/>
                  </a:lnTo>
                  <a:lnTo>
                    <a:pt x="41" y="730"/>
                  </a:lnTo>
                  <a:lnTo>
                    <a:pt x="32" y="705"/>
                  </a:lnTo>
                  <a:lnTo>
                    <a:pt x="23" y="681"/>
                  </a:lnTo>
                  <a:lnTo>
                    <a:pt x="16" y="657"/>
                  </a:lnTo>
                  <a:lnTo>
                    <a:pt x="11" y="631"/>
                  </a:lnTo>
                  <a:lnTo>
                    <a:pt x="6" y="605"/>
                  </a:lnTo>
                  <a:lnTo>
                    <a:pt x="3" y="578"/>
                  </a:lnTo>
                  <a:lnTo>
                    <a:pt x="1" y="552"/>
                  </a:lnTo>
                  <a:lnTo>
                    <a:pt x="0" y="525"/>
                  </a:lnTo>
                  <a:lnTo>
                    <a:pt x="1" y="498"/>
                  </a:lnTo>
                  <a:lnTo>
                    <a:pt x="3" y="472"/>
                  </a:lnTo>
                  <a:lnTo>
                    <a:pt x="6" y="445"/>
                  </a:lnTo>
                  <a:lnTo>
                    <a:pt x="11" y="419"/>
                  </a:lnTo>
                  <a:lnTo>
                    <a:pt x="16" y="394"/>
                  </a:lnTo>
                  <a:lnTo>
                    <a:pt x="23" y="369"/>
                  </a:lnTo>
                  <a:lnTo>
                    <a:pt x="32" y="345"/>
                  </a:lnTo>
                  <a:lnTo>
                    <a:pt x="41" y="321"/>
                  </a:lnTo>
                  <a:lnTo>
                    <a:pt x="51" y="297"/>
                  </a:lnTo>
                  <a:lnTo>
                    <a:pt x="64" y="275"/>
                  </a:lnTo>
                  <a:lnTo>
                    <a:pt x="76" y="253"/>
                  </a:lnTo>
                  <a:lnTo>
                    <a:pt x="90" y="231"/>
                  </a:lnTo>
                  <a:lnTo>
                    <a:pt x="104" y="211"/>
                  </a:lnTo>
                  <a:lnTo>
                    <a:pt x="119" y="191"/>
                  </a:lnTo>
                  <a:lnTo>
                    <a:pt x="137" y="172"/>
                  </a:lnTo>
                  <a:lnTo>
                    <a:pt x="154" y="154"/>
                  </a:lnTo>
                  <a:lnTo>
                    <a:pt x="172" y="136"/>
                  </a:lnTo>
                  <a:lnTo>
                    <a:pt x="191" y="120"/>
                  </a:lnTo>
                  <a:lnTo>
                    <a:pt x="211" y="105"/>
                  </a:lnTo>
                  <a:lnTo>
                    <a:pt x="231" y="89"/>
                  </a:lnTo>
                  <a:lnTo>
                    <a:pt x="253" y="76"/>
                  </a:lnTo>
                  <a:lnTo>
                    <a:pt x="275" y="64"/>
                  </a:lnTo>
                  <a:lnTo>
                    <a:pt x="297" y="52"/>
                  </a:lnTo>
                  <a:lnTo>
                    <a:pt x="321" y="42"/>
                  </a:lnTo>
                  <a:lnTo>
                    <a:pt x="345" y="31"/>
                  </a:lnTo>
                  <a:lnTo>
                    <a:pt x="369" y="23"/>
                  </a:lnTo>
                  <a:lnTo>
                    <a:pt x="394" y="16"/>
                  </a:lnTo>
                  <a:lnTo>
                    <a:pt x="419" y="11"/>
                  </a:lnTo>
                  <a:lnTo>
                    <a:pt x="446" y="6"/>
                  </a:lnTo>
                  <a:lnTo>
                    <a:pt x="472" y="3"/>
                  </a:lnTo>
                  <a:lnTo>
                    <a:pt x="498" y="1"/>
                  </a:lnTo>
                  <a:lnTo>
                    <a:pt x="526" y="0"/>
                  </a:lnTo>
                  <a:lnTo>
                    <a:pt x="552" y="1"/>
                  </a:lnTo>
                  <a:lnTo>
                    <a:pt x="580" y="3"/>
                  </a:lnTo>
                  <a:lnTo>
                    <a:pt x="605" y="6"/>
                  </a:lnTo>
                  <a:lnTo>
                    <a:pt x="631" y="11"/>
                  </a:lnTo>
                  <a:lnTo>
                    <a:pt x="657" y="16"/>
                  </a:lnTo>
                  <a:lnTo>
                    <a:pt x="681" y="23"/>
                  </a:lnTo>
                  <a:lnTo>
                    <a:pt x="707" y="31"/>
                  </a:lnTo>
                  <a:lnTo>
                    <a:pt x="730" y="42"/>
                  </a:lnTo>
                  <a:lnTo>
                    <a:pt x="753" y="52"/>
                  </a:lnTo>
                  <a:lnTo>
                    <a:pt x="776" y="64"/>
                  </a:lnTo>
                  <a:lnTo>
                    <a:pt x="798" y="76"/>
                  </a:lnTo>
                  <a:lnTo>
                    <a:pt x="819" y="89"/>
                  </a:lnTo>
                  <a:lnTo>
                    <a:pt x="840" y="105"/>
                  </a:lnTo>
                  <a:lnTo>
                    <a:pt x="860" y="120"/>
                  </a:lnTo>
                  <a:lnTo>
                    <a:pt x="878" y="136"/>
                  </a:lnTo>
                  <a:lnTo>
                    <a:pt x="897" y="154"/>
                  </a:lnTo>
                  <a:lnTo>
                    <a:pt x="915" y="172"/>
                  </a:lnTo>
                  <a:lnTo>
                    <a:pt x="931" y="191"/>
                  </a:lnTo>
                  <a:lnTo>
                    <a:pt x="946" y="211"/>
                  </a:lnTo>
                  <a:lnTo>
                    <a:pt x="962" y="231"/>
                  </a:lnTo>
                  <a:lnTo>
                    <a:pt x="975" y="253"/>
                  </a:lnTo>
                  <a:lnTo>
                    <a:pt x="988" y="275"/>
                  </a:lnTo>
                  <a:lnTo>
                    <a:pt x="999" y="297"/>
                  </a:lnTo>
                  <a:lnTo>
                    <a:pt x="1009" y="321"/>
                  </a:lnTo>
                  <a:lnTo>
                    <a:pt x="1020" y="345"/>
                  </a:lnTo>
                  <a:lnTo>
                    <a:pt x="1028" y="369"/>
                  </a:lnTo>
                  <a:lnTo>
                    <a:pt x="1035" y="394"/>
                  </a:lnTo>
                  <a:lnTo>
                    <a:pt x="1040" y="419"/>
                  </a:lnTo>
                  <a:lnTo>
                    <a:pt x="1045" y="445"/>
                  </a:lnTo>
                  <a:lnTo>
                    <a:pt x="1048" y="472"/>
                  </a:lnTo>
                  <a:lnTo>
                    <a:pt x="1050" y="498"/>
                  </a:lnTo>
                  <a:lnTo>
                    <a:pt x="1051" y="5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6942600" y="6014160"/>
              <a:ext cx="55440" cy="55800"/>
            </a:xfrm>
            <a:custGeom>
              <a:avLst/>
              <a:gdLst/>
              <a:ahLst/>
              <a:rect l="l" t="t" r="r" b="b"/>
              <a:pathLst>
                <a:path w="567" h="567">
                  <a:moveTo>
                    <a:pt x="0" y="567"/>
                  </a:moveTo>
                  <a:lnTo>
                    <a:pt x="0" y="567"/>
                  </a:lnTo>
                  <a:lnTo>
                    <a:pt x="28" y="566"/>
                  </a:lnTo>
                  <a:lnTo>
                    <a:pt x="58" y="564"/>
                  </a:lnTo>
                  <a:lnTo>
                    <a:pt x="86" y="561"/>
                  </a:lnTo>
                  <a:lnTo>
                    <a:pt x="114" y="556"/>
                  </a:lnTo>
                  <a:lnTo>
                    <a:pt x="141" y="550"/>
                  </a:lnTo>
                  <a:lnTo>
                    <a:pt x="168" y="542"/>
                  </a:lnTo>
                  <a:lnTo>
                    <a:pt x="195" y="532"/>
                  </a:lnTo>
                  <a:lnTo>
                    <a:pt x="220" y="522"/>
                  </a:lnTo>
                  <a:lnTo>
                    <a:pt x="246" y="511"/>
                  </a:lnTo>
                  <a:lnTo>
                    <a:pt x="270" y="499"/>
                  </a:lnTo>
                  <a:lnTo>
                    <a:pt x="293" y="485"/>
                  </a:lnTo>
                  <a:lnTo>
                    <a:pt x="317" y="471"/>
                  </a:lnTo>
                  <a:lnTo>
                    <a:pt x="339" y="454"/>
                  </a:lnTo>
                  <a:lnTo>
                    <a:pt x="360" y="438"/>
                  </a:lnTo>
                  <a:lnTo>
                    <a:pt x="381" y="420"/>
                  </a:lnTo>
                  <a:lnTo>
                    <a:pt x="401" y="401"/>
                  </a:lnTo>
                  <a:lnTo>
                    <a:pt x="419" y="381"/>
                  </a:lnTo>
                  <a:lnTo>
                    <a:pt x="438" y="361"/>
                  </a:lnTo>
                  <a:lnTo>
                    <a:pt x="454" y="340"/>
                  </a:lnTo>
                  <a:lnTo>
                    <a:pt x="470" y="317"/>
                  </a:lnTo>
                  <a:lnTo>
                    <a:pt x="484" y="294"/>
                  </a:lnTo>
                  <a:lnTo>
                    <a:pt x="499" y="271"/>
                  </a:lnTo>
                  <a:lnTo>
                    <a:pt x="511" y="246"/>
                  </a:lnTo>
                  <a:lnTo>
                    <a:pt x="522" y="221"/>
                  </a:lnTo>
                  <a:lnTo>
                    <a:pt x="532" y="194"/>
                  </a:lnTo>
                  <a:lnTo>
                    <a:pt x="541" y="169"/>
                  </a:lnTo>
                  <a:lnTo>
                    <a:pt x="549" y="142"/>
                  </a:lnTo>
                  <a:lnTo>
                    <a:pt x="556" y="114"/>
                  </a:lnTo>
                  <a:lnTo>
                    <a:pt x="561" y="86"/>
                  </a:lnTo>
                  <a:lnTo>
                    <a:pt x="564" y="57"/>
                  </a:lnTo>
                  <a:lnTo>
                    <a:pt x="567" y="29"/>
                  </a:lnTo>
                  <a:lnTo>
                    <a:pt x="567" y="0"/>
                  </a:lnTo>
                  <a:lnTo>
                    <a:pt x="483" y="0"/>
                  </a:lnTo>
                  <a:lnTo>
                    <a:pt x="482" y="25"/>
                  </a:lnTo>
                  <a:lnTo>
                    <a:pt x="480" y="49"/>
                  </a:lnTo>
                  <a:lnTo>
                    <a:pt x="477" y="74"/>
                  </a:lnTo>
                  <a:lnTo>
                    <a:pt x="473" y="97"/>
                  </a:lnTo>
                  <a:lnTo>
                    <a:pt x="468" y="121"/>
                  </a:lnTo>
                  <a:lnTo>
                    <a:pt x="461" y="144"/>
                  </a:lnTo>
                  <a:lnTo>
                    <a:pt x="454" y="166"/>
                  </a:lnTo>
                  <a:lnTo>
                    <a:pt x="445" y="188"/>
                  </a:lnTo>
                  <a:lnTo>
                    <a:pt x="436" y="210"/>
                  </a:lnTo>
                  <a:lnTo>
                    <a:pt x="424" y="230"/>
                  </a:lnTo>
                  <a:lnTo>
                    <a:pt x="413" y="250"/>
                  </a:lnTo>
                  <a:lnTo>
                    <a:pt x="400" y="271"/>
                  </a:lnTo>
                  <a:lnTo>
                    <a:pt x="387" y="289"/>
                  </a:lnTo>
                  <a:lnTo>
                    <a:pt x="373" y="307"/>
                  </a:lnTo>
                  <a:lnTo>
                    <a:pt x="357" y="325"/>
                  </a:lnTo>
                  <a:lnTo>
                    <a:pt x="341" y="342"/>
                  </a:lnTo>
                  <a:lnTo>
                    <a:pt x="325" y="358"/>
                  </a:lnTo>
                  <a:lnTo>
                    <a:pt x="308" y="373"/>
                  </a:lnTo>
                  <a:lnTo>
                    <a:pt x="288" y="387"/>
                  </a:lnTo>
                  <a:lnTo>
                    <a:pt x="270" y="400"/>
                  </a:lnTo>
                  <a:lnTo>
                    <a:pt x="251" y="414"/>
                  </a:lnTo>
                  <a:lnTo>
                    <a:pt x="229" y="425"/>
                  </a:lnTo>
                  <a:lnTo>
                    <a:pt x="209" y="436"/>
                  </a:lnTo>
                  <a:lnTo>
                    <a:pt x="188" y="445"/>
                  </a:lnTo>
                  <a:lnTo>
                    <a:pt x="165" y="454"/>
                  </a:lnTo>
                  <a:lnTo>
                    <a:pt x="143" y="461"/>
                  </a:lnTo>
                  <a:lnTo>
                    <a:pt x="121" y="467"/>
                  </a:lnTo>
                  <a:lnTo>
                    <a:pt x="97" y="474"/>
                  </a:lnTo>
                  <a:lnTo>
                    <a:pt x="73" y="478"/>
                  </a:lnTo>
                  <a:lnTo>
                    <a:pt x="50" y="481"/>
                  </a:lnTo>
                  <a:lnTo>
                    <a:pt x="24" y="483"/>
                  </a:lnTo>
                  <a:lnTo>
                    <a:pt x="0" y="483"/>
                  </a:lnTo>
                  <a:lnTo>
                    <a:pt x="0" y="483"/>
                  </a:lnTo>
                  <a:lnTo>
                    <a:pt x="0" y="567"/>
                  </a:lnTo>
                  <a:lnTo>
                    <a:pt x="0" y="567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6887880" y="6014160"/>
              <a:ext cx="54720" cy="55800"/>
            </a:xfrm>
            <a:custGeom>
              <a:avLst/>
              <a:gdLst/>
              <a:ahLst/>
              <a:rect l="l" t="t" r="r" b="b"/>
              <a:pathLst>
                <a:path w="568" h="567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7"/>
                  </a:lnTo>
                  <a:lnTo>
                    <a:pt x="6" y="86"/>
                  </a:lnTo>
                  <a:lnTo>
                    <a:pt x="11" y="114"/>
                  </a:lnTo>
                  <a:lnTo>
                    <a:pt x="17" y="142"/>
                  </a:lnTo>
                  <a:lnTo>
                    <a:pt x="25" y="169"/>
                  </a:lnTo>
                  <a:lnTo>
                    <a:pt x="35" y="195"/>
                  </a:lnTo>
                  <a:lnTo>
                    <a:pt x="45" y="221"/>
                  </a:lnTo>
                  <a:lnTo>
                    <a:pt x="56" y="246"/>
                  </a:lnTo>
                  <a:lnTo>
                    <a:pt x="68" y="271"/>
                  </a:lnTo>
                  <a:lnTo>
                    <a:pt x="82" y="294"/>
                  </a:lnTo>
                  <a:lnTo>
                    <a:pt x="96" y="317"/>
                  </a:lnTo>
                  <a:lnTo>
                    <a:pt x="113" y="340"/>
                  </a:lnTo>
                  <a:lnTo>
                    <a:pt x="130" y="361"/>
                  </a:lnTo>
                  <a:lnTo>
                    <a:pt x="147" y="381"/>
                  </a:lnTo>
                  <a:lnTo>
                    <a:pt x="167" y="401"/>
                  </a:lnTo>
                  <a:lnTo>
                    <a:pt x="186" y="420"/>
                  </a:lnTo>
                  <a:lnTo>
                    <a:pt x="206" y="438"/>
                  </a:lnTo>
                  <a:lnTo>
                    <a:pt x="228" y="454"/>
                  </a:lnTo>
                  <a:lnTo>
                    <a:pt x="250" y="471"/>
                  </a:lnTo>
                  <a:lnTo>
                    <a:pt x="273" y="485"/>
                  </a:lnTo>
                  <a:lnTo>
                    <a:pt x="297" y="499"/>
                  </a:lnTo>
                  <a:lnTo>
                    <a:pt x="321" y="511"/>
                  </a:lnTo>
                  <a:lnTo>
                    <a:pt x="346" y="522"/>
                  </a:lnTo>
                  <a:lnTo>
                    <a:pt x="372" y="532"/>
                  </a:lnTo>
                  <a:lnTo>
                    <a:pt x="398" y="542"/>
                  </a:lnTo>
                  <a:lnTo>
                    <a:pt x="426" y="550"/>
                  </a:lnTo>
                  <a:lnTo>
                    <a:pt x="453" y="556"/>
                  </a:lnTo>
                  <a:lnTo>
                    <a:pt x="481" y="561"/>
                  </a:lnTo>
                  <a:lnTo>
                    <a:pt x="510" y="564"/>
                  </a:lnTo>
                  <a:lnTo>
                    <a:pt x="538" y="566"/>
                  </a:lnTo>
                  <a:lnTo>
                    <a:pt x="568" y="567"/>
                  </a:lnTo>
                  <a:lnTo>
                    <a:pt x="568" y="483"/>
                  </a:lnTo>
                  <a:lnTo>
                    <a:pt x="542" y="483"/>
                  </a:lnTo>
                  <a:lnTo>
                    <a:pt x="518" y="481"/>
                  </a:lnTo>
                  <a:lnTo>
                    <a:pt x="494" y="478"/>
                  </a:lnTo>
                  <a:lnTo>
                    <a:pt x="470" y="474"/>
                  </a:lnTo>
                  <a:lnTo>
                    <a:pt x="446" y="467"/>
                  </a:lnTo>
                  <a:lnTo>
                    <a:pt x="424" y="461"/>
                  </a:lnTo>
                  <a:lnTo>
                    <a:pt x="401" y="454"/>
                  </a:lnTo>
                  <a:lnTo>
                    <a:pt x="379" y="445"/>
                  </a:lnTo>
                  <a:lnTo>
                    <a:pt x="358" y="436"/>
                  </a:lnTo>
                  <a:lnTo>
                    <a:pt x="337" y="425"/>
                  </a:lnTo>
                  <a:lnTo>
                    <a:pt x="317" y="414"/>
                  </a:lnTo>
                  <a:lnTo>
                    <a:pt x="297" y="400"/>
                  </a:lnTo>
                  <a:lnTo>
                    <a:pt x="278" y="387"/>
                  </a:lnTo>
                  <a:lnTo>
                    <a:pt x="260" y="373"/>
                  </a:lnTo>
                  <a:lnTo>
                    <a:pt x="243" y="358"/>
                  </a:lnTo>
                  <a:lnTo>
                    <a:pt x="225" y="342"/>
                  </a:lnTo>
                  <a:lnTo>
                    <a:pt x="209" y="325"/>
                  </a:lnTo>
                  <a:lnTo>
                    <a:pt x="194" y="307"/>
                  </a:lnTo>
                  <a:lnTo>
                    <a:pt x="180" y="289"/>
                  </a:lnTo>
                  <a:lnTo>
                    <a:pt x="167" y="271"/>
                  </a:lnTo>
                  <a:lnTo>
                    <a:pt x="153" y="250"/>
                  </a:lnTo>
                  <a:lnTo>
                    <a:pt x="142" y="230"/>
                  </a:lnTo>
                  <a:lnTo>
                    <a:pt x="131" y="210"/>
                  </a:lnTo>
                  <a:lnTo>
                    <a:pt x="122" y="188"/>
                  </a:lnTo>
                  <a:lnTo>
                    <a:pt x="113" y="166"/>
                  </a:lnTo>
                  <a:lnTo>
                    <a:pt x="106" y="144"/>
                  </a:lnTo>
                  <a:lnTo>
                    <a:pt x="100" y="121"/>
                  </a:lnTo>
                  <a:lnTo>
                    <a:pt x="93" y="97"/>
                  </a:lnTo>
                  <a:lnTo>
                    <a:pt x="89" y="74"/>
                  </a:lnTo>
                  <a:lnTo>
                    <a:pt x="86" y="49"/>
                  </a:lnTo>
                  <a:lnTo>
                    <a:pt x="84" y="2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887880" y="5959440"/>
              <a:ext cx="54720" cy="54360"/>
            </a:xfrm>
            <a:custGeom>
              <a:avLst/>
              <a:gdLst/>
              <a:ahLst/>
              <a:rect l="l" t="t" r="r" b="b"/>
              <a:pathLst>
                <a:path w="568" h="567">
                  <a:moveTo>
                    <a:pt x="568" y="0"/>
                  </a:moveTo>
                  <a:lnTo>
                    <a:pt x="568" y="0"/>
                  </a:lnTo>
                  <a:lnTo>
                    <a:pt x="538" y="1"/>
                  </a:lnTo>
                  <a:lnTo>
                    <a:pt x="510" y="3"/>
                  </a:lnTo>
                  <a:lnTo>
                    <a:pt x="481" y="6"/>
                  </a:lnTo>
                  <a:lnTo>
                    <a:pt x="453" y="12"/>
                  </a:lnTo>
                  <a:lnTo>
                    <a:pt x="426" y="18"/>
                  </a:lnTo>
                  <a:lnTo>
                    <a:pt x="398" y="26"/>
                  </a:lnTo>
                  <a:lnTo>
                    <a:pt x="373" y="35"/>
                  </a:lnTo>
                  <a:lnTo>
                    <a:pt x="346" y="45"/>
                  </a:lnTo>
                  <a:lnTo>
                    <a:pt x="321" y="56"/>
                  </a:lnTo>
                  <a:lnTo>
                    <a:pt x="297" y="68"/>
                  </a:lnTo>
                  <a:lnTo>
                    <a:pt x="273" y="83"/>
                  </a:lnTo>
                  <a:lnTo>
                    <a:pt x="250" y="97"/>
                  </a:lnTo>
                  <a:lnTo>
                    <a:pt x="228" y="113"/>
                  </a:lnTo>
                  <a:lnTo>
                    <a:pt x="206" y="129"/>
                  </a:lnTo>
                  <a:lnTo>
                    <a:pt x="186" y="148"/>
                  </a:lnTo>
                  <a:lnTo>
                    <a:pt x="167" y="166"/>
                  </a:lnTo>
                  <a:lnTo>
                    <a:pt x="147" y="186"/>
                  </a:lnTo>
                  <a:lnTo>
                    <a:pt x="130" y="206"/>
                  </a:lnTo>
                  <a:lnTo>
                    <a:pt x="113" y="228"/>
                  </a:lnTo>
                  <a:lnTo>
                    <a:pt x="96" y="250"/>
                  </a:lnTo>
                  <a:lnTo>
                    <a:pt x="82" y="273"/>
                  </a:lnTo>
                  <a:lnTo>
                    <a:pt x="68" y="297"/>
                  </a:lnTo>
                  <a:lnTo>
                    <a:pt x="56" y="321"/>
                  </a:lnTo>
                  <a:lnTo>
                    <a:pt x="45" y="346"/>
                  </a:lnTo>
                  <a:lnTo>
                    <a:pt x="35" y="372"/>
                  </a:lnTo>
                  <a:lnTo>
                    <a:pt x="25" y="398"/>
                  </a:lnTo>
                  <a:lnTo>
                    <a:pt x="17" y="426"/>
                  </a:lnTo>
                  <a:lnTo>
                    <a:pt x="11" y="453"/>
                  </a:lnTo>
                  <a:lnTo>
                    <a:pt x="6" y="481"/>
                  </a:lnTo>
                  <a:lnTo>
                    <a:pt x="3" y="509"/>
                  </a:lnTo>
                  <a:lnTo>
                    <a:pt x="1" y="538"/>
                  </a:lnTo>
                  <a:lnTo>
                    <a:pt x="0" y="567"/>
                  </a:lnTo>
                  <a:lnTo>
                    <a:pt x="84" y="567"/>
                  </a:lnTo>
                  <a:lnTo>
                    <a:pt x="84" y="542"/>
                  </a:lnTo>
                  <a:lnTo>
                    <a:pt x="86" y="518"/>
                  </a:lnTo>
                  <a:lnTo>
                    <a:pt x="89" y="494"/>
                  </a:lnTo>
                  <a:lnTo>
                    <a:pt x="93" y="469"/>
                  </a:lnTo>
                  <a:lnTo>
                    <a:pt x="100" y="446"/>
                  </a:lnTo>
                  <a:lnTo>
                    <a:pt x="106" y="424"/>
                  </a:lnTo>
                  <a:lnTo>
                    <a:pt x="113" y="401"/>
                  </a:lnTo>
                  <a:lnTo>
                    <a:pt x="122" y="379"/>
                  </a:lnTo>
                  <a:lnTo>
                    <a:pt x="131" y="358"/>
                  </a:lnTo>
                  <a:lnTo>
                    <a:pt x="142" y="337"/>
                  </a:lnTo>
                  <a:lnTo>
                    <a:pt x="153" y="317"/>
                  </a:lnTo>
                  <a:lnTo>
                    <a:pt x="167" y="297"/>
                  </a:lnTo>
                  <a:lnTo>
                    <a:pt x="180" y="278"/>
                  </a:lnTo>
                  <a:lnTo>
                    <a:pt x="194" y="260"/>
                  </a:lnTo>
                  <a:lnTo>
                    <a:pt x="209" y="242"/>
                  </a:lnTo>
                  <a:lnTo>
                    <a:pt x="225" y="226"/>
                  </a:lnTo>
                  <a:lnTo>
                    <a:pt x="243" y="209"/>
                  </a:lnTo>
                  <a:lnTo>
                    <a:pt x="260" y="194"/>
                  </a:lnTo>
                  <a:lnTo>
                    <a:pt x="278" y="180"/>
                  </a:lnTo>
                  <a:lnTo>
                    <a:pt x="297" y="167"/>
                  </a:lnTo>
                  <a:lnTo>
                    <a:pt x="317" y="154"/>
                  </a:lnTo>
                  <a:lnTo>
                    <a:pt x="337" y="142"/>
                  </a:lnTo>
                  <a:lnTo>
                    <a:pt x="358" y="131"/>
                  </a:lnTo>
                  <a:lnTo>
                    <a:pt x="379" y="122"/>
                  </a:lnTo>
                  <a:lnTo>
                    <a:pt x="401" y="113"/>
                  </a:lnTo>
                  <a:lnTo>
                    <a:pt x="424" y="106"/>
                  </a:lnTo>
                  <a:lnTo>
                    <a:pt x="446" y="99"/>
                  </a:lnTo>
                  <a:lnTo>
                    <a:pt x="470" y="94"/>
                  </a:lnTo>
                  <a:lnTo>
                    <a:pt x="494" y="90"/>
                  </a:lnTo>
                  <a:lnTo>
                    <a:pt x="518" y="87"/>
                  </a:lnTo>
                  <a:lnTo>
                    <a:pt x="542" y="85"/>
                  </a:lnTo>
                  <a:lnTo>
                    <a:pt x="568" y="84"/>
                  </a:lnTo>
                  <a:lnTo>
                    <a:pt x="568" y="84"/>
                  </a:lnTo>
                  <a:lnTo>
                    <a:pt x="568" y="0"/>
                  </a:lnTo>
                  <a:lnTo>
                    <a:pt x="568" y="0"/>
                  </a:lnTo>
                  <a:lnTo>
                    <a:pt x="568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6942600" y="5959440"/>
              <a:ext cx="55440" cy="54360"/>
            </a:xfrm>
            <a:custGeom>
              <a:avLst/>
              <a:gdLst/>
              <a:ahLst/>
              <a:rect l="l" t="t" r="r" b="b"/>
              <a:pathLst>
                <a:path w="567" h="567">
                  <a:moveTo>
                    <a:pt x="567" y="567"/>
                  </a:moveTo>
                  <a:lnTo>
                    <a:pt x="567" y="567"/>
                  </a:lnTo>
                  <a:lnTo>
                    <a:pt x="567" y="538"/>
                  </a:lnTo>
                  <a:lnTo>
                    <a:pt x="564" y="509"/>
                  </a:lnTo>
                  <a:lnTo>
                    <a:pt x="561" y="481"/>
                  </a:lnTo>
                  <a:lnTo>
                    <a:pt x="556" y="453"/>
                  </a:lnTo>
                  <a:lnTo>
                    <a:pt x="549" y="426"/>
                  </a:lnTo>
                  <a:lnTo>
                    <a:pt x="541" y="398"/>
                  </a:lnTo>
                  <a:lnTo>
                    <a:pt x="532" y="373"/>
                  </a:lnTo>
                  <a:lnTo>
                    <a:pt x="522" y="346"/>
                  </a:lnTo>
                  <a:lnTo>
                    <a:pt x="511" y="321"/>
                  </a:lnTo>
                  <a:lnTo>
                    <a:pt x="499" y="297"/>
                  </a:lnTo>
                  <a:lnTo>
                    <a:pt x="484" y="273"/>
                  </a:lnTo>
                  <a:lnTo>
                    <a:pt x="470" y="250"/>
                  </a:lnTo>
                  <a:lnTo>
                    <a:pt x="454" y="228"/>
                  </a:lnTo>
                  <a:lnTo>
                    <a:pt x="438" y="206"/>
                  </a:lnTo>
                  <a:lnTo>
                    <a:pt x="419" y="186"/>
                  </a:lnTo>
                  <a:lnTo>
                    <a:pt x="401" y="166"/>
                  </a:lnTo>
                  <a:lnTo>
                    <a:pt x="381" y="148"/>
                  </a:lnTo>
                  <a:lnTo>
                    <a:pt x="360" y="129"/>
                  </a:lnTo>
                  <a:lnTo>
                    <a:pt x="339" y="113"/>
                  </a:lnTo>
                  <a:lnTo>
                    <a:pt x="317" y="97"/>
                  </a:lnTo>
                  <a:lnTo>
                    <a:pt x="293" y="83"/>
                  </a:lnTo>
                  <a:lnTo>
                    <a:pt x="270" y="68"/>
                  </a:lnTo>
                  <a:lnTo>
                    <a:pt x="246" y="56"/>
                  </a:lnTo>
                  <a:lnTo>
                    <a:pt x="220" y="45"/>
                  </a:lnTo>
                  <a:lnTo>
                    <a:pt x="195" y="35"/>
                  </a:lnTo>
                  <a:lnTo>
                    <a:pt x="168" y="26"/>
                  </a:lnTo>
                  <a:lnTo>
                    <a:pt x="141" y="18"/>
                  </a:lnTo>
                  <a:lnTo>
                    <a:pt x="114" y="12"/>
                  </a:lnTo>
                  <a:lnTo>
                    <a:pt x="86" y="6"/>
                  </a:lnTo>
                  <a:lnTo>
                    <a:pt x="58" y="3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24" y="85"/>
                  </a:lnTo>
                  <a:lnTo>
                    <a:pt x="50" y="87"/>
                  </a:lnTo>
                  <a:lnTo>
                    <a:pt x="73" y="90"/>
                  </a:lnTo>
                  <a:lnTo>
                    <a:pt x="97" y="94"/>
                  </a:lnTo>
                  <a:lnTo>
                    <a:pt x="121" y="99"/>
                  </a:lnTo>
                  <a:lnTo>
                    <a:pt x="143" y="106"/>
                  </a:lnTo>
                  <a:lnTo>
                    <a:pt x="165" y="113"/>
                  </a:lnTo>
                  <a:lnTo>
                    <a:pt x="188" y="122"/>
                  </a:lnTo>
                  <a:lnTo>
                    <a:pt x="209" y="131"/>
                  </a:lnTo>
                  <a:lnTo>
                    <a:pt x="229" y="142"/>
                  </a:lnTo>
                  <a:lnTo>
                    <a:pt x="251" y="154"/>
                  </a:lnTo>
                  <a:lnTo>
                    <a:pt x="270" y="167"/>
                  </a:lnTo>
                  <a:lnTo>
                    <a:pt x="288" y="180"/>
                  </a:lnTo>
                  <a:lnTo>
                    <a:pt x="308" y="194"/>
                  </a:lnTo>
                  <a:lnTo>
                    <a:pt x="325" y="209"/>
                  </a:lnTo>
                  <a:lnTo>
                    <a:pt x="341" y="226"/>
                  </a:lnTo>
                  <a:lnTo>
                    <a:pt x="357" y="242"/>
                  </a:lnTo>
                  <a:lnTo>
                    <a:pt x="373" y="260"/>
                  </a:lnTo>
                  <a:lnTo>
                    <a:pt x="387" y="278"/>
                  </a:lnTo>
                  <a:lnTo>
                    <a:pt x="400" y="297"/>
                  </a:lnTo>
                  <a:lnTo>
                    <a:pt x="413" y="317"/>
                  </a:lnTo>
                  <a:lnTo>
                    <a:pt x="424" y="337"/>
                  </a:lnTo>
                  <a:lnTo>
                    <a:pt x="436" y="358"/>
                  </a:lnTo>
                  <a:lnTo>
                    <a:pt x="445" y="379"/>
                  </a:lnTo>
                  <a:lnTo>
                    <a:pt x="454" y="401"/>
                  </a:lnTo>
                  <a:lnTo>
                    <a:pt x="461" y="424"/>
                  </a:lnTo>
                  <a:lnTo>
                    <a:pt x="468" y="446"/>
                  </a:lnTo>
                  <a:lnTo>
                    <a:pt x="473" y="469"/>
                  </a:lnTo>
                  <a:lnTo>
                    <a:pt x="477" y="494"/>
                  </a:lnTo>
                  <a:lnTo>
                    <a:pt x="480" y="518"/>
                  </a:lnTo>
                  <a:lnTo>
                    <a:pt x="482" y="542"/>
                  </a:lnTo>
                  <a:lnTo>
                    <a:pt x="483" y="567"/>
                  </a:lnTo>
                  <a:lnTo>
                    <a:pt x="483" y="567"/>
                  </a:lnTo>
                  <a:lnTo>
                    <a:pt x="567" y="567"/>
                  </a:lnTo>
                  <a:lnTo>
                    <a:pt x="567" y="567"/>
                  </a:lnTo>
                  <a:lnTo>
                    <a:pt x="567" y="56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7214040" y="5847480"/>
              <a:ext cx="95400" cy="54720"/>
            </a:xfrm>
            <a:custGeom>
              <a:avLst/>
              <a:gdLst/>
              <a:ahLst/>
              <a:rect l="l" t="t" r="r" b="b"/>
              <a:pathLst>
                <a:path w="982" h="560">
                  <a:moveTo>
                    <a:pt x="982" y="280"/>
                  </a:moveTo>
                  <a:lnTo>
                    <a:pt x="981" y="295"/>
                  </a:lnTo>
                  <a:lnTo>
                    <a:pt x="979" y="309"/>
                  </a:lnTo>
                  <a:lnTo>
                    <a:pt x="976" y="322"/>
                  </a:lnTo>
                  <a:lnTo>
                    <a:pt x="972" y="337"/>
                  </a:lnTo>
                  <a:lnTo>
                    <a:pt x="965" y="350"/>
                  </a:lnTo>
                  <a:lnTo>
                    <a:pt x="959" y="363"/>
                  </a:lnTo>
                  <a:lnTo>
                    <a:pt x="951" y="376"/>
                  </a:lnTo>
                  <a:lnTo>
                    <a:pt x="943" y="389"/>
                  </a:lnTo>
                  <a:lnTo>
                    <a:pt x="933" y="401"/>
                  </a:lnTo>
                  <a:lnTo>
                    <a:pt x="922" y="414"/>
                  </a:lnTo>
                  <a:lnTo>
                    <a:pt x="911" y="425"/>
                  </a:lnTo>
                  <a:lnTo>
                    <a:pt x="897" y="437"/>
                  </a:lnTo>
                  <a:lnTo>
                    <a:pt x="884" y="447"/>
                  </a:lnTo>
                  <a:lnTo>
                    <a:pt x="869" y="458"/>
                  </a:lnTo>
                  <a:lnTo>
                    <a:pt x="854" y="468"/>
                  </a:lnTo>
                  <a:lnTo>
                    <a:pt x="837" y="478"/>
                  </a:lnTo>
                  <a:lnTo>
                    <a:pt x="820" y="488"/>
                  </a:lnTo>
                  <a:lnTo>
                    <a:pt x="803" y="496"/>
                  </a:lnTo>
                  <a:lnTo>
                    <a:pt x="785" y="504"/>
                  </a:lnTo>
                  <a:lnTo>
                    <a:pt x="765" y="512"/>
                  </a:lnTo>
                  <a:lnTo>
                    <a:pt x="745" y="519"/>
                  </a:lnTo>
                  <a:lnTo>
                    <a:pt x="725" y="526"/>
                  </a:lnTo>
                  <a:lnTo>
                    <a:pt x="703" y="532"/>
                  </a:lnTo>
                  <a:lnTo>
                    <a:pt x="682" y="538"/>
                  </a:lnTo>
                  <a:lnTo>
                    <a:pt x="660" y="544"/>
                  </a:lnTo>
                  <a:lnTo>
                    <a:pt x="636" y="548"/>
                  </a:lnTo>
                  <a:lnTo>
                    <a:pt x="613" y="552"/>
                  </a:lnTo>
                  <a:lnTo>
                    <a:pt x="590" y="555"/>
                  </a:lnTo>
                  <a:lnTo>
                    <a:pt x="565" y="557"/>
                  </a:lnTo>
                  <a:lnTo>
                    <a:pt x="541" y="559"/>
                  </a:lnTo>
                  <a:lnTo>
                    <a:pt x="515" y="560"/>
                  </a:lnTo>
                  <a:lnTo>
                    <a:pt x="491" y="560"/>
                  </a:lnTo>
                  <a:lnTo>
                    <a:pt x="466" y="560"/>
                  </a:lnTo>
                  <a:lnTo>
                    <a:pt x="440" y="559"/>
                  </a:lnTo>
                  <a:lnTo>
                    <a:pt x="416" y="557"/>
                  </a:lnTo>
                  <a:lnTo>
                    <a:pt x="391" y="555"/>
                  </a:lnTo>
                  <a:lnTo>
                    <a:pt x="368" y="552"/>
                  </a:lnTo>
                  <a:lnTo>
                    <a:pt x="345" y="548"/>
                  </a:lnTo>
                  <a:lnTo>
                    <a:pt x="321" y="544"/>
                  </a:lnTo>
                  <a:lnTo>
                    <a:pt x="300" y="538"/>
                  </a:lnTo>
                  <a:lnTo>
                    <a:pt x="278" y="532"/>
                  </a:lnTo>
                  <a:lnTo>
                    <a:pt x="256" y="526"/>
                  </a:lnTo>
                  <a:lnTo>
                    <a:pt x="236" y="519"/>
                  </a:lnTo>
                  <a:lnTo>
                    <a:pt x="217" y="512"/>
                  </a:lnTo>
                  <a:lnTo>
                    <a:pt x="197" y="504"/>
                  </a:lnTo>
                  <a:lnTo>
                    <a:pt x="178" y="496"/>
                  </a:lnTo>
                  <a:lnTo>
                    <a:pt x="161" y="488"/>
                  </a:lnTo>
                  <a:lnTo>
                    <a:pt x="144" y="478"/>
                  </a:lnTo>
                  <a:lnTo>
                    <a:pt x="127" y="468"/>
                  </a:lnTo>
                  <a:lnTo>
                    <a:pt x="112" y="458"/>
                  </a:lnTo>
                  <a:lnTo>
                    <a:pt x="98" y="447"/>
                  </a:lnTo>
                  <a:lnTo>
                    <a:pt x="84" y="437"/>
                  </a:lnTo>
                  <a:lnTo>
                    <a:pt x="71" y="425"/>
                  </a:lnTo>
                  <a:lnTo>
                    <a:pt x="59" y="414"/>
                  </a:lnTo>
                  <a:lnTo>
                    <a:pt x="48" y="401"/>
                  </a:lnTo>
                  <a:lnTo>
                    <a:pt x="39" y="389"/>
                  </a:lnTo>
                  <a:lnTo>
                    <a:pt x="30" y="376"/>
                  </a:lnTo>
                  <a:lnTo>
                    <a:pt x="22" y="363"/>
                  </a:lnTo>
                  <a:lnTo>
                    <a:pt x="16" y="350"/>
                  </a:lnTo>
                  <a:lnTo>
                    <a:pt x="10" y="337"/>
                  </a:lnTo>
                  <a:lnTo>
                    <a:pt x="5" y="322"/>
                  </a:lnTo>
                  <a:lnTo>
                    <a:pt x="2" y="309"/>
                  </a:lnTo>
                  <a:lnTo>
                    <a:pt x="0" y="295"/>
                  </a:lnTo>
                  <a:lnTo>
                    <a:pt x="0" y="280"/>
                  </a:lnTo>
                  <a:lnTo>
                    <a:pt x="0" y="265"/>
                  </a:lnTo>
                  <a:lnTo>
                    <a:pt x="2" y="251"/>
                  </a:lnTo>
                  <a:lnTo>
                    <a:pt x="5" y="237"/>
                  </a:lnTo>
                  <a:lnTo>
                    <a:pt x="10" y="224"/>
                  </a:lnTo>
                  <a:lnTo>
                    <a:pt x="16" y="210"/>
                  </a:lnTo>
                  <a:lnTo>
                    <a:pt x="22" y="196"/>
                  </a:lnTo>
                  <a:lnTo>
                    <a:pt x="30" y="183"/>
                  </a:lnTo>
                  <a:lnTo>
                    <a:pt x="39" y="171"/>
                  </a:lnTo>
                  <a:lnTo>
                    <a:pt x="48" y="159"/>
                  </a:lnTo>
                  <a:lnTo>
                    <a:pt x="59" y="147"/>
                  </a:lnTo>
                  <a:lnTo>
                    <a:pt x="71" y="135"/>
                  </a:lnTo>
                  <a:lnTo>
                    <a:pt x="84" y="123"/>
                  </a:lnTo>
                  <a:lnTo>
                    <a:pt x="98" y="112"/>
                  </a:lnTo>
                  <a:lnTo>
                    <a:pt x="112" y="102"/>
                  </a:lnTo>
                  <a:lnTo>
                    <a:pt x="127" y="92"/>
                  </a:lnTo>
                  <a:lnTo>
                    <a:pt x="144" y="82"/>
                  </a:lnTo>
                  <a:lnTo>
                    <a:pt x="161" y="73"/>
                  </a:lnTo>
                  <a:lnTo>
                    <a:pt x="178" y="64"/>
                  </a:lnTo>
                  <a:lnTo>
                    <a:pt x="197" y="55"/>
                  </a:lnTo>
                  <a:lnTo>
                    <a:pt x="217" y="48"/>
                  </a:lnTo>
                  <a:lnTo>
                    <a:pt x="236" y="40"/>
                  </a:lnTo>
                  <a:lnTo>
                    <a:pt x="256" y="34"/>
                  </a:lnTo>
                  <a:lnTo>
                    <a:pt x="278" y="28"/>
                  </a:lnTo>
                  <a:lnTo>
                    <a:pt x="300" y="22"/>
                  </a:lnTo>
                  <a:lnTo>
                    <a:pt x="321" y="17"/>
                  </a:lnTo>
                  <a:lnTo>
                    <a:pt x="345" y="13"/>
                  </a:lnTo>
                  <a:lnTo>
                    <a:pt x="368" y="9"/>
                  </a:lnTo>
                  <a:lnTo>
                    <a:pt x="391" y="6"/>
                  </a:lnTo>
                  <a:lnTo>
                    <a:pt x="416" y="4"/>
                  </a:lnTo>
                  <a:lnTo>
                    <a:pt x="440" y="2"/>
                  </a:lnTo>
                  <a:lnTo>
                    <a:pt x="466" y="1"/>
                  </a:lnTo>
                  <a:lnTo>
                    <a:pt x="491" y="0"/>
                  </a:lnTo>
                  <a:lnTo>
                    <a:pt x="515" y="1"/>
                  </a:lnTo>
                  <a:lnTo>
                    <a:pt x="541" y="2"/>
                  </a:lnTo>
                  <a:lnTo>
                    <a:pt x="565" y="4"/>
                  </a:lnTo>
                  <a:lnTo>
                    <a:pt x="590" y="6"/>
                  </a:lnTo>
                  <a:lnTo>
                    <a:pt x="613" y="9"/>
                  </a:lnTo>
                  <a:lnTo>
                    <a:pt x="636" y="13"/>
                  </a:lnTo>
                  <a:lnTo>
                    <a:pt x="660" y="17"/>
                  </a:lnTo>
                  <a:lnTo>
                    <a:pt x="682" y="22"/>
                  </a:lnTo>
                  <a:lnTo>
                    <a:pt x="703" y="28"/>
                  </a:lnTo>
                  <a:lnTo>
                    <a:pt x="725" y="34"/>
                  </a:lnTo>
                  <a:lnTo>
                    <a:pt x="745" y="40"/>
                  </a:lnTo>
                  <a:lnTo>
                    <a:pt x="765" y="48"/>
                  </a:lnTo>
                  <a:lnTo>
                    <a:pt x="785" y="55"/>
                  </a:lnTo>
                  <a:lnTo>
                    <a:pt x="803" y="64"/>
                  </a:lnTo>
                  <a:lnTo>
                    <a:pt x="820" y="73"/>
                  </a:lnTo>
                  <a:lnTo>
                    <a:pt x="837" y="82"/>
                  </a:lnTo>
                  <a:lnTo>
                    <a:pt x="854" y="92"/>
                  </a:lnTo>
                  <a:lnTo>
                    <a:pt x="869" y="102"/>
                  </a:lnTo>
                  <a:lnTo>
                    <a:pt x="884" y="112"/>
                  </a:lnTo>
                  <a:lnTo>
                    <a:pt x="897" y="123"/>
                  </a:lnTo>
                  <a:lnTo>
                    <a:pt x="911" y="135"/>
                  </a:lnTo>
                  <a:lnTo>
                    <a:pt x="922" y="147"/>
                  </a:lnTo>
                  <a:lnTo>
                    <a:pt x="933" y="159"/>
                  </a:lnTo>
                  <a:lnTo>
                    <a:pt x="943" y="171"/>
                  </a:lnTo>
                  <a:lnTo>
                    <a:pt x="951" y="183"/>
                  </a:lnTo>
                  <a:lnTo>
                    <a:pt x="959" y="196"/>
                  </a:lnTo>
                  <a:lnTo>
                    <a:pt x="965" y="210"/>
                  </a:lnTo>
                  <a:lnTo>
                    <a:pt x="972" y="224"/>
                  </a:lnTo>
                  <a:lnTo>
                    <a:pt x="976" y="237"/>
                  </a:lnTo>
                  <a:lnTo>
                    <a:pt x="979" y="251"/>
                  </a:lnTo>
                  <a:lnTo>
                    <a:pt x="981" y="265"/>
                  </a:lnTo>
                  <a:lnTo>
                    <a:pt x="982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261920" y="5874840"/>
              <a:ext cx="51840" cy="30960"/>
            </a:xfrm>
            <a:custGeom>
              <a:avLst/>
              <a:gdLst/>
              <a:ahLst/>
              <a:rect l="l" t="t" r="r" b="b"/>
              <a:pathLst>
                <a:path w="532" h="322">
                  <a:moveTo>
                    <a:pt x="0" y="322"/>
                  </a:moveTo>
                  <a:lnTo>
                    <a:pt x="0" y="322"/>
                  </a:lnTo>
                  <a:lnTo>
                    <a:pt x="26" y="321"/>
                  </a:lnTo>
                  <a:lnTo>
                    <a:pt x="52" y="320"/>
                  </a:lnTo>
                  <a:lnTo>
                    <a:pt x="78" y="318"/>
                  </a:lnTo>
                  <a:lnTo>
                    <a:pt x="104" y="316"/>
                  </a:lnTo>
                  <a:lnTo>
                    <a:pt x="128" y="312"/>
                  </a:lnTo>
                  <a:lnTo>
                    <a:pt x="152" y="309"/>
                  </a:lnTo>
                  <a:lnTo>
                    <a:pt x="177" y="304"/>
                  </a:lnTo>
                  <a:lnTo>
                    <a:pt x="200" y="299"/>
                  </a:lnTo>
                  <a:lnTo>
                    <a:pt x="224" y="293"/>
                  </a:lnTo>
                  <a:lnTo>
                    <a:pt x="246" y="286"/>
                  </a:lnTo>
                  <a:lnTo>
                    <a:pt x="267" y="279"/>
                  </a:lnTo>
                  <a:lnTo>
                    <a:pt x="289" y="272"/>
                  </a:lnTo>
                  <a:lnTo>
                    <a:pt x="310" y="263"/>
                  </a:lnTo>
                  <a:lnTo>
                    <a:pt x="329" y="254"/>
                  </a:lnTo>
                  <a:lnTo>
                    <a:pt x="348" y="244"/>
                  </a:lnTo>
                  <a:lnTo>
                    <a:pt x="368" y="234"/>
                  </a:lnTo>
                  <a:lnTo>
                    <a:pt x="385" y="224"/>
                  </a:lnTo>
                  <a:lnTo>
                    <a:pt x="402" y="213"/>
                  </a:lnTo>
                  <a:lnTo>
                    <a:pt x="419" y="201"/>
                  </a:lnTo>
                  <a:lnTo>
                    <a:pt x="434" y="188"/>
                  </a:lnTo>
                  <a:lnTo>
                    <a:pt x="448" y="176"/>
                  </a:lnTo>
                  <a:lnTo>
                    <a:pt x="461" y="162"/>
                  </a:lnTo>
                  <a:lnTo>
                    <a:pt x="473" y="149"/>
                  </a:lnTo>
                  <a:lnTo>
                    <a:pt x="486" y="134"/>
                  </a:lnTo>
                  <a:lnTo>
                    <a:pt x="496" y="119"/>
                  </a:lnTo>
                  <a:lnTo>
                    <a:pt x="505" y="103"/>
                  </a:lnTo>
                  <a:lnTo>
                    <a:pt x="513" y="87"/>
                  </a:lnTo>
                  <a:lnTo>
                    <a:pt x="520" y="71"/>
                  </a:lnTo>
                  <a:lnTo>
                    <a:pt x="525" y="53"/>
                  </a:lnTo>
                  <a:lnTo>
                    <a:pt x="529" y="36"/>
                  </a:lnTo>
                  <a:lnTo>
                    <a:pt x="531" y="18"/>
                  </a:lnTo>
                  <a:lnTo>
                    <a:pt x="532" y="0"/>
                  </a:lnTo>
                  <a:lnTo>
                    <a:pt x="448" y="0"/>
                  </a:lnTo>
                  <a:lnTo>
                    <a:pt x="448" y="11"/>
                  </a:lnTo>
                  <a:lnTo>
                    <a:pt x="446" y="21"/>
                  </a:lnTo>
                  <a:lnTo>
                    <a:pt x="444" y="32"/>
                  </a:lnTo>
                  <a:lnTo>
                    <a:pt x="441" y="42"/>
                  </a:lnTo>
                  <a:lnTo>
                    <a:pt x="437" y="52"/>
                  </a:lnTo>
                  <a:lnTo>
                    <a:pt x="431" y="64"/>
                  </a:lnTo>
                  <a:lnTo>
                    <a:pt x="425" y="74"/>
                  </a:lnTo>
                  <a:lnTo>
                    <a:pt x="418" y="84"/>
                  </a:lnTo>
                  <a:lnTo>
                    <a:pt x="409" y="94"/>
                  </a:lnTo>
                  <a:lnTo>
                    <a:pt x="400" y="104"/>
                  </a:lnTo>
                  <a:lnTo>
                    <a:pt x="390" y="114"/>
                  </a:lnTo>
                  <a:lnTo>
                    <a:pt x="379" y="125"/>
                  </a:lnTo>
                  <a:lnTo>
                    <a:pt x="367" y="135"/>
                  </a:lnTo>
                  <a:lnTo>
                    <a:pt x="355" y="144"/>
                  </a:lnTo>
                  <a:lnTo>
                    <a:pt x="340" y="153"/>
                  </a:lnTo>
                  <a:lnTo>
                    <a:pt x="326" y="162"/>
                  </a:lnTo>
                  <a:lnTo>
                    <a:pt x="310" y="170"/>
                  </a:lnTo>
                  <a:lnTo>
                    <a:pt x="294" y="178"/>
                  </a:lnTo>
                  <a:lnTo>
                    <a:pt x="276" y="185"/>
                  </a:lnTo>
                  <a:lnTo>
                    <a:pt x="259" y="194"/>
                  </a:lnTo>
                  <a:lnTo>
                    <a:pt x="241" y="200"/>
                  </a:lnTo>
                  <a:lnTo>
                    <a:pt x="222" y="207"/>
                  </a:lnTo>
                  <a:lnTo>
                    <a:pt x="201" y="212"/>
                  </a:lnTo>
                  <a:lnTo>
                    <a:pt x="181" y="217"/>
                  </a:lnTo>
                  <a:lnTo>
                    <a:pt x="160" y="222"/>
                  </a:lnTo>
                  <a:lnTo>
                    <a:pt x="138" y="226"/>
                  </a:lnTo>
                  <a:lnTo>
                    <a:pt x="116" y="230"/>
                  </a:lnTo>
                  <a:lnTo>
                    <a:pt x="94" y="233"/>
                  </a:lnTo>
                  <a:lnTo>
                    <a:pt x="71" y="235"/>
                  </a:lnTo>
                  <a:lnTo>
                    <a:pt x="48" y="237"/>
                  </a:lnTo>
                  <a:lnTo>
                    <a:pt x="23" y="237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7210080" y="5874840"/>
              <a:ext cx="51480" cy="30960"/>
            </a:xfrm>
            <a:custGeom>
              <a:avLst/>
              <a:gdLst/>
              <a:ahLst/>
              <a:rect l="l" t="t" r="r" b="b"/>
              <a:pathLst>
                <a:path w="533" h="322">
                  <a:moveTo>
                    <a:pt x="0" y="0"/>
                  </a:moveTo>
                  <a:lnTo>
                    <a:pt x="0" y="0"/>
                  </a:lnTo>
                  <a:lnTo>
                    <a:pt x="1" y="18"/>
                  </a:lnTo>
                  <a:lnTo>
                    <a:pt x="3" y="36"/>
                  </a:lnTo>
                  <a:lnTo>
                    <a:pt x="7" y="53"/>
                  </a:lnTo>
                  <a:lnTo>
                    <a:pt x="12" y="71"/>
                  </a:lnTo>
                  <a:lnTo>
                    <a:pt x="19" y="87"/>
                  </a:lnTo>
                  <a:lnTo>
                    <a:pt x="27" y="103"/>
                  </a:lnTo>
                  <a:lnTo>
                    <a:pt x="36" y="119"/>
                  </a:lnTo>
                  <a:lnTo>
                    <a:pt x="46" y="134"/>
                  </a:lnTo>
                  <a:lnTo>
                    <a:pt x="59" y="149"/>
                  </a:lnTo>
                  <a:lnTo>
                    <a:pt x="71" y="162"/>
                  </a:lnTo>
                  <a:lnTo>
                    <a:pt x="84" y="176"/>
                  </a:lnTo>
                  <a:lnTo>
                    <a:pt x="98" y="188"/>
                  </a:lnTo>
                  <a:lnTo>
                    <a:pt x="113" y="201"/>
                  </a:lnTo>
                  <a:lnTo>
                    <a:pt x="130" y="213"/>
                  </a:lnTo>
                  <a:lnTo>
                    <a:pt x="147" y="224"/>
                  </a:lnTo>
                  <a:lnTo>
                    <a:pt x="165" y="234"/>
                  </a:lnTo>
                  <a:lnTo>
                    <a:pt x="184" y="244"/>
                  </a:lnTo>
                  <a:lnTo>
                    <a:pt x="203" y="254"/>
                  </a:lnTo>
                  <a:lnTo>
                    <a:pt x="222" y="263"/>
                  </a:lnTo>
                  <a:lnTo>
                    <a:pt x="244" y="272"/>
                  </a:lnTo>
                  <a:lnTo>
                    <a:pt x="265" y="279"/>
                  </a:lnTo>
                  <a:lnTo>
                    <a:pt x="286" y="286"/>
                  </a:lnTo>
                  <a:lnTo>
                    <a:pt x="309" y="293"/>
                  </a:lnTo>
                  <a:lnTo>
                    <a:pt x="332" y="299"/>
                  </a:lnTo>
                  <a:lnTo>
                    <a:pt x="355" y="304"/>
                  </a:lnTo>
                  <a:lnTo>
                    <a:pt x="380" y="309"/>
                  </a:lnTo>
                  <a:lnTo>
                    <a:pt x="404" y="312"/>
                  </a:lnTo>
                  <a:lnTo>
                    <a:pt x="429" y="316"/>
                  </a:lnTo>
                  <a:lnTo>
                    <a:pt x="454" y="318"/>
                  </a:lnTo>
                  <a:lnTo>
                    <a:pt x="480" y="320"/>
                  </a:lnTo>
                  <a:lnTo>
                    <a:pt x="507" y="321"/>
                  </a:lnTo>
                  <a:lnTo>
                    <a:pt x="533" y="322"/>
                  </a:lnTo>
                  <a:lnTo>
                    <a:pt x="533" y="238"/>
                  </a:lnTo>
                  <a:lnTo>
                    <a:pt x="509" y="237"/>
                  </a:lnTo>
                  <a:lnTo>
                    <a:pt x="484" y="237"/>
                  </a:lnTo>
                  <a:lnTo>
                    <a:pt x="462" y="235"/>
                  </a:lnTo>
                  <a:lnTo>
                    <a:pt x="439" y="233"/>
                  </a:lnTo>
                  <a:lnTo>
                    <a:pt x="416" y="230"/>
                  </a:lnTo>
                  <a:lnTo>
                    <a:pt x="394" y="226"/>
                  </a:lnTo>
                  <a:lnTo>
                    <a:pt x="373" y="222"/>
                  </a:lnTo>
                  <a:lnTo>
                    <a:pt x="351" y="217"/>
                  </a:lnTo>
                  <a:lnTo>
                    <a:pt x="331" y="212"/>
                  </a:lnTo>
                  <a:lnTo>
                    <a:pt x="312" y="207"/>
                  </a:lnTo>
                  <a:lnTo>
                    <a:pt x="292" y="200"/>
                  </a:lnTo>
                  <a:lnTo>
                    <a:pt x="273" y="194"/>
                  </a:lnTo>
                  <a:lnTo>
                    <a:pt x="256" y="185"/>
                  </a:lnTo>
                  <a:lnTo>
                    <a:pt x="238" y="178"/>
                  </a:lnTo>
                  <a:lnTo>
                    <a:pt x="222" y="170"/>
                  </a:lnTo>
                  <a:lnTo>
                    <a:pt x="207" y="162"/>
                  </a:lnTo>
                  <a:lnTo>
                    <a:pt x="192" y="153"/>
                  </a:lnTo>
                  <a:lnTo>
                    <a:pt x="177" y="144"/>
                  </a:lnTo>
                  <a:lnTo>
                    <a:pt x="165" y="135"/>
                  </a:lnTo>
                  <a:lnTo>
                    <a:pt x="153" y="125"/>
                  </a:lnTo>
                  <a:lnTo>
                    <a:pt x="142" y="114"/>
                  </a:lnTo>
                  <a:lnTo>
                    <a:pt x="132" y="104"/>
                  </a:lnTo>
                  <a:lnTo>
                    <a:pt x="123" y="94"/>
                  </a:lnTo>
                  <a:lnTo>
                    <a:pt x="115" y="84"/>
                  </a:lnTo>
                  <a:lnTo>
                    <a:pt x="107" y="74"/>
                  </a:lnTo>
                  <a:lnTo>
                    <a:pt x="101" y="64"/>
                  </a:lnTo>
                  <a:lnTo>
                    <a:pt x="95" y="53"/>
                  </a:lnTo>
                  <a:lnTo>
                    <a:pt x="91" y="42"/>
                  </a:lnTo>
                  <a:lnTo>
                    <a:pt x="88" y="32"/>
                  </a:lnTo>
                  <a:lnTo>
                    <a:pt x="86" y="21"/>
                  </a:lnTo>
                  <a:lnTo>
                    <a:pt x="84" y="11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7210080" y="5843520"/>
              <a:ext cx="51480" cy="31320"/>
            </a:xfrm>
            <a:custGeom>
              <a:avLst/>
              <a:gdLst/>
              <a:ahLst/>
              <a:rect l="l" t="t" r="r" b="b"/>
              <a:pathLst>
                <a:path w="533" h="322">
                  <a:moveTo>
                    <a:pt x="533" y="0"/>
                  </a:moveTo>
                  <a:lnTo>
                    <a:pt x="533" y="0"/>
                  </a:lnTo>
                  <a:lnTo>
                    <a:pt x="507" y="0"/>
                  </a:lnTo>
                  <a:lnTo>
                    <a:pt x="480" y="2"/>
                  </a:lnTo>
                  <a:lnTo>
                    <a:pt x="454" y="3"/>
                  </a:lnTo>
                  <a:lnTo>
                    <a:pt x="429" y="6"/>
                  </a:lnTo>
                  <a:lnTo>
                    <a:pt x="404" y="9"/>
                  </a:lnTo>
                  <a:lnTo>
                    <a:pt x="380" y="13"/>
                  </a:lnTo>
                  <a:lnTo>
                    <a:pt x="355" y="18"/>
                  </a:lnTo>
                  <a:lnTo>
                    <a:pt x="332" y="23"/>
                  </a:lnTo>
                  <a:lnTo>
                    <a:pt x="309" y="29"/>
                  </a:lnTo>
                  <a:lnTo>
                    <a:pt x="286" y="36"/>
                  </a:lnTo>
                  <a:lnTo>
                    <a:pt x="265" y="43"/>
                  </a:lnTo>
                  <a:lnTo>
                    <a:pt x="244" y="51"/>
                  </a:lnTo>
                  <a:lnTo>
                    <a:pt x="222" y="59"/>
                  </a:lnTo>
                  <a:lnTo>
                    <a:pt x="203" y="68"/>
                  </a:lnTo>
                  <a:lnTo>
                    <a:pt x="184" y="77"/>
                  </a:lnTo>
                  <a:lnTo>
                    <a:pt x="165" y="87"/>
                  </a:lnTo>
                  <a:lnTo>
                    <a:pt x="147" y="98"/>
                  </a:lnTo>
                  <a:lnTo>
                    <a:pt x="130" y="110"/>
                  </a:lnTo>
                  <a:lnTo>
                    <a:pt x="113" y="121"/>
                  </a:lnTo>
                  <a:lnTo>
                    <a:pt x="98" y="134"/>
                  </a:lnTo>
                  <a:lnTo>
                    <a:pt x="84" y="146"/>
                  </a:lnTo>
                  <a:lnTo>
                    <a:pt x="71" y="159"/>
                  </a:lnTo>
                  <a:lnTo>
                    <a:pt x="59" y="174"/>
                  </a:lnTo>
                  <a:lnTo>
                    <a:pt x="46" y="188"/>
                  </a:lnTo>
                  <a:lnTo>
                    <a:pt x="36" y="203"/>
                  </a:lnTo>
                  <a:lnTo>
                    <a:pt x="27" y="219"/>
                  </a:lnTo>
                  <a:lnTo>
                    <a:pt x="19" y="235"/>
                  </a:lnTo>
                  <a:lnTo>
                    <a:pt x="12" y="252"/>
                  </a:lnTo>
                  <a:lnTo>
                    <a:pt x="7" y="269"/>
                  </a:lnTo>
                  <a:lnTo>
                    <a:pt x="3" y="286"/>
                  </a:lnTo>
                  <a:lnTo>
                    <a:pt x="1" y="304"/>
                  </a:lnTo>
                  <a:lnTo>
                    <a:pt x="0" y="322"/>
                  </a:lnTo>
                  <a:lnTo>
                    <a:pt x="84" y="322"/>
                  </a:lnTo>
                  <a:lnTo>
                    <a:pt x="84" y="312"/>
                  </a:lnTo>
                  <a:lnTo>
                    <a:pt x="86" y="300"/>
                  </a:lnTo>
                  <a:lnTo>
                    <a:pt x="88" y="290"/>
                  </a:lnTo>
                  <a:lnTo>
                    <a:pt x="91" y="280"/>
                  </a:lnTo>
                  <a:lnTo>
                    <a:pt x="95" y="269"/>
                  </a:lnTo>
                  <a:lnTo>
                    <a:pt x="101" y="259"/>
                  </a:lnTo>
                  <a:lnTo>
                    <a:pt x="107" y="249"/>
                  </a:lnTo>
                  <a:lnTo>
                    <a:pt x="115" y="238"/>
                  </a:lnTo>
                  <a:lnTo>
                    <a:pt x="123" y="227"/>
                  </a:lnTo>
                  <a:lnTo>
                    <a:pt x="132" y="217"/>
                  </a:lnTo>
                  <a:lnTo>
                    <a:pt x="142" y="207"/>
                  </a:lnTo>
                  <a:lnTo>
                    <a:pt x="153" y="198"/>
                  </a:lnTo>
                  <a:lnTo>
                    <a:pt x="165" y="188"/>
                  </a:lnTo>
                  <a:lnTo>
                    <a:pt x="177" y="179"/>
                  </a:lnTo>
                  <a:lnTo>
                    <a:pt x="192" y="169"/>
                  </a:lnTo>
                  <a:lnTo>
                    <a:pt x="207" y="160"/>
                  </a:lnTo>
                  <a:lnTo>
                    <a:pt x="222" y="152"/>
                  </a:lnTo>
                  <a:lnTo>
                    <a:pt x="238" y="144"/>
                  </a:lnTo>
                  <a:lnTo>
                    <a:pt x="256" y="136"/>
                  </a:lnTo>
                  <a:lnTo>
                    <a:pt x="273" y="129"/>
                  </a:lnTo>
                  <a:lnTo>
                    <a:pt x="292" y="122"/>
                  </a:lnTo>
                  <a:lnTo>
                    <a:pt x="312" y="116"/>
                  </a:lnTo>
                  <a:lnTo>
                    <a:pt x="331" y="110"/>
                  </a:lnTo>
                  <a:lnTo>
                    <a:pt x="351" y="105"/>
                  </a:lnTo>
                  <a:lnTo>
                    <a:pt x="373" y="100"/>
                  </a:lnTo>
                  <a:lnTo>
                    <a:pt x="394" y="96"/>
                  </a:lnTo>
                  <a:lnTo>
                    <a:pt x="416" y="92"/>
                  </a:lnTo>
                  <a:lnTo>
                    <a:pt x="439" y="89"/>
                  </a:lnTo>
                  <a:lnTo>
                    <a:pt x="462" y="87"/>
                  </a:lnTo>
                  <a:lnTo>
                    <a:pt x="484" y="85"/>
                  </a:lnTo>
                  <a:lnTo>
                    <a:pt x="509" y="84"/>
                  </a:lnTo>
                  <a:lnTo>
                    <a:pt x="533" y="84"/>
                  </a:lnTo>
                  <a:lnTo>
                    <a:pt x="533" y="84"/>
                  </a:lnTo>
                  <a:lnTo>
                    <a:pt x="533" y="0"/>
                  </a:lnTo>
                  <a:lnTo>
                    <a:pt x="533" y="0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7261920" y="5843520"/>
              <a:ext cx="51840" cy="31320"/>
            </a:xfrm>
            <a:custGeom>
              <a:avLst/>
              <a:gdLst/>
              <a:ahLst/>
              <a:rect l="l" t="t" r="r" b="b"/>
              <a:pathLst>
                <a:path w="532" h="322">
                  <a:moveTo>
                    <a:pt x="532" y="322"/>
                  </a:moveTo>
                  <a:lnTo>
                    <a:pt x="532" y="322"/>
                  </a:lnTo>
                  <a:lnTo>
                    <a:pt x="531" y="304"/>
                  </a:lnTo>
                  <a:lnTo>
                    <a:pt x="529" y="286"/>
                  </a:lnTo>
                  <a:lnTo>
                    <a:pt x="525" y="269"/>
                  </a:lnTo>
                  <a:lnTo>
                    <a:pt x="520" y="252"/>
                  </a:lnTo>
                  <a:lnTo>
                    <a:pt x="513" y="234"/>
                  </a:lnTo>
                  <a:lnTo>
                    <a:pt x="505" y="219"/>
                  </a:lnTo>
                  <a:lnTo>
                    <a:pt x="496" y="203"/>
                  </a:lnTo>
                  <a:lnTo>
                    <a:pt x="486" y="188"/>
                  </a:lnTo>
                  <a:lnTo>
                    <a:pt x="473" y="174"/>
                  </a:lnTo>
                  <a:lnTo>
                    <a:pt x="461" y="159"/>
                  </a:lnTo>
                  <a:lnTo>
                    <a:pt x="448" y="146"/>
                  </a:lnTo>
                  <a:lnTo>
                    <a:pt x="434" y="134"/>
                  </a:lnTo>
                  <a:lnTo>
                    <a:pt x="419" y="121"/>
                  </a:lnTo>
                  <a:lnTo>
                    <a:pt x="402" y="110"/>
                  </a:lnTo>
                  <a:lnTo>
                    <a:pt x="385" y="98"/>
                  </a:lnTo>
                  <a:lnTo>
                    <a:pt x="368" y="87"/>
                  </a:lnTo>
                  <a:lnTo>
                    <a:pt x="348" y="77"/>
                  </a:lnTo>
                  <a:lnTo>
                    <a:pt x="329" y="68"/>
                  </a:lnTo>
                  <a:lnTo>
                    <a:pt x="310" y="59"/>
                  </a:lnTo>
                  <a:lnTo>
                    <a:pt x="289" y="51"/>
                  </a:lnTo>
                  <a:lnTo>
                    <a:pt x="267" y="43"/>
                  </a:lnTo>
                  <a:lnTo>
                    <a:pt x="246" y="36"/>
                  </a:lnTo>
                  <a:lnTo>
                    <a:pt x="224" y="29"/>
                  </a:lnTo>
                  <a:lnTo>
                    <a:pt x="200" y="23"/>
                  </a:lnTo>
                  <a:lnTo>
                    <a:pt x="177" y="18"/>
                  </a:lnTo>
                  <a:lnTo>
                    <a:pt x="152" y="13"/>
                  </a:lnTo>
                  <a:lnTo>
                    <a:pt x="128" y="9"/>
                  </a:lnTo>
                  <a:lnTo>
                    <a:pt x="104" y="6"/>
                  </a:lnTo>
                  <a:lnTo>
                    <a:pt x="78" y="3"/>
                  </a:lnTo>
                  <a:lnTo>
                    <a:pt x="52" y="2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23" y="84"/>
                  </a:lnTo>
                  <a:lnTo>
                    <a:pt x="48" y="85"/>
                  </a:lnTo>
                  <a:lnTo>
                    <a:pt x="71" y="87"/>
                  </a:lnTo>
                  <a:lnTo>
                    <a:pt x="94" y="89"/>
                  </a:lnTo>
                  <a:lnTo>
                    <a:pt x="116" y="92"/>
                  </a:lnTo>
                  <a:lnTo>
                    <a:pt x="138" y="96"/>
                  </a:lnTo>
                  <a:lnTo>
                    <a:pt x="160" y="100"/>
                  </a:lnTo>
                  <a:lnTo>
                    <a:pt x="181" y="105"/>
                  </a:lnTo>
                  <a:lnTo>
                    <a:pt x="201" y="110"/>
                  </a:lnTo>
                  <a:lnTo>
                    <a:pt x="222" y="116"/>
                  </a:lnTo>
                  <a:lnTo>
                    <a:pt x="241" y="122"/>
                  </a:lnTo>
                  <a:lnTo>
                    <a:pt x="259" y="129"/>
                  </a:lnTo>
                  <a:lnTo>
                    <a:pt x="276" y="136"/>
                  </a:lnTo>
                  <a:lnTo>
                    <a:pt x="294" y="144"/>
                  </a:lnTo>
                  <a:lnTo>
                    <a:pt x="310" y="152"/>
                  </a:lnTo>
                  <a:lnTo>
                    <a:pt x="326" y="160"/>
                  </a:lnTo>
                  <a:lnTo>
                    <a:pt x="340" y="169"/>
                  </a:lnTo>
                  <a:lnTo>
                    <a:pt x="355" y="179"/>
                  </a:lnTo>
                  <a:lnTo>
                    <a:pt x="367" y="188"/>
                  </a:lnTo>
                  <a:lnTo>
                    <a:pt x="379" y="198"/>
                  </a:lnTo>
                  <a:lnTo>
                    <a:pt x="390" y="207"/>
                  </a:lnTo>
                  <a:lnTo>
                    <a:pt x="400" y="217"/>
                  </a:lnTo>
                  <a:lnTo>
                    <a:pt x="409" y="227"/>
                  </a:lnTo>
                  <a:lnTo>
                    <a:pt x="418" y="238"/>
                  </a:lnTo>
                  <a:lnTo>
                    <a:pt x="425" y="249"/>
                  </a:lnTo>
                  <a:lnTo>
                    <a:pt x="431" y="259"/>
                  </a:lnTo>
                  <a:lnTo>
                    <a:pt x="437" y="269"/>
                  </a:lnTo>
                  <a:lnTo>
                    <a:pt x="441" y="280"/>
                  </a:lnTo>
                  <a:lnTo>
                    <a:pt x="444" y="290"/>
                  </a:lnTo>
                  <a:lnTo>
                    <a:pt x="446" y="300"/>
                  </a:lnTo>
                  <a:lnTo>
                    <a:pt x="448" y="312"/>
                  </a:lnTo>
                  <a:lnTo>
                    <a:pt x="448" y="322"/>
                  </a:lnTo>
                  <a:lnTo>
                    <a:pt x="448" y="322"/>
                  </a:lnTo>
                  <a:lnTo>
                    <a:pt x="532" y="322"/>
                  </a:lnTo>
                  <a:lnTo>
                    <a:pt x="532" y="322"/>
                  </a:lnTo>
                  <a:lnTo>
                    <a:pt x="532" y="32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4" name=""/>
          <p:cNvGrpSpPr/>
          <p:nvPr/>
        </p:nvGrpSpPr>
        <p:grpSpPr>
          <a:xfrm>
            <a:off x="7135920" y="5013360"/>
            <a:ext cx="803160" cy="600120"/>
            <a:chOff x="7135920" y="5013360"/>
            <a:chExt cx="803160" cy="600120"/>
          </a:xfrm>
        </p:grpSpPr>
        <p:sp>
          <p:nvSpPr>
            <p:cNvPr id="3795" name=""/>
            <p:cNvSpPr/>
            <p:nvPr/>
          </p:nvSpPr>
          <p:spPr>
            <a:xfrm>
              <a:off x="7146360" y="5470920"/>
              <a:ext cx="546840" cy="127800"/>
            </a:xfrm>
            <a:prstGeom prst="rect">
              <a:avLst/>
            </a:prstGeom>
            <a:solidFill>
              <a:srgbClr val="b6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140960" y="5465520"/>
              <a:ext cx="10080" cy="133200"/>
            </a:xfrm>
            <a:custGeom>
              <a:avLst/>
              <a:gdLst/>
              <a:ahLst/>
              <a:rect l="l" t="t" r="r" b="b"/>
              <a:pathLst>
                <a:path w="216" h="2760">
                  <a:moveTo>
                    <a:pt x="108" y="0"/>
                  </a:moveTo>
                  <a:lnTo>
                    <a:pt x="0" y="108"/>
                  </a:lnTo>
                  <a:lnTo>
                    <a:pt x="0" y="2760"/>
                  </a:lnTo>
                  <a:lnTo>
                    <a:pt x="216" y="2760"/>
                  </a:lnTo>
                  <a:lnTo>
                    <a:pt x="216" y="108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7146360" y="5465520"/>
              <a:ext cx="552240" cy="10080"/>
            </a:xfrm>
            <a:custGeom>
              <a:avLst/>
              <a:gdLst/>
              <a:ahLst/>
              <a:rect l="l" t="t" r="r" b="b"/>
              <a:pathLst>
                <a:path w="11422" h="216">
                  <a:moveTo>
                    <a:pt x="11422" y="108"/>
                  </a:moveTo>
                  <a:lnTo>
                    <a:pt x="11314" y="0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11314" y="216"/>
                  </a:lnTo>
                  <a:lnTo>
                    <a:pt x="11422" y="108"/>
                  </a:lnTo>
                  <a:lnTo>
                    <a:pt x="11422" y="108"/>
                  </a:lnTo>
                  <a:lnTo>
                    <a:pt x="11422" y="0"/>
                  </a:lnTo>
                  <a:lnTo>
                    <a:pt x="11314" y="0"/>
                  </a:lnTo>
                  <a:lnTo>
                    <a:pt x="11422" y="10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7688520" y="5470920"/>
              <a:ext cx="10080" cy="133200"/>
            </a:xfrm>
            <a:custGeom>
              <a:avLst/>
              <a:gdLst/>
              <a:ahLst/>
              <a:rect l="l" t="t" r="r" b="b"/>
              <a:pathLst>
                <a:path w="216" h="2760">
                  <a:moveTo>
                    <a:pt x="108" y="2760"/>
                  </a:moveTo>
                  <a:lnTo>
                    <a:pt x="216" y="2652"/>
                  </a:lnTo>
                  <a:lnTo>
                    <a:pt x="216" y="0"/>
                  </a:lnTo>
                  <a:lnTo>
                    <a:pt x="0" y="0"/>
                  </a:lnTo>
                  <a:lnTo>
                    <a:pt x="0" y="2652"/>
                  </a:lnTo>
                  <a:lnTo>
                    <a:pt x="108" y="2760"/>
                  </a:lnTo>
                  <a:lnTo>
                    <a:pt x="108" y="2760"/>
                  </a:lnTo>
                  <a:lnTo>
                    <a:pt x="216" y="2760"/>
                  </a:lnTo>
                  <a:lnTo>
                    <a:pt x="216" y="2652"/>
                  </a:lnTo>
                  <a:lnTo>
                    <a:pt x="108" y="276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140960" y="5593680"/>
              <a:ext cx="552240" cy="10440"/>
            </a:xfrm>
            <a:custGeom>
              <a:avLst/>
              <a:gdLst/>
              <a:ahLst/>
              <a:rect l="l" t="t" r="r" b="b"/>
              <a:pathLst>
                <a:path w="11422" h="216">
                  <a:moveTo>
                    <a:pt x="0" y="108"/>
                  </a:moveTo>
                  <a:lnTo>
                    <a:pt x="108" y="216"/>
                  </a:lnTo>
                  <a:lnTo>
                    <a:pt x="11422" y="216"/>
                  </a:lnTo>
                  <a:lnTo>
                    <a:pt x="11422" y="0"/>
                  </a:lnTo>
                  <a:lnTo>
                    <a:pt x="108" y="0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216"/>
                  </a:lnTo>
                  <a:lnTo>
                    <a:pt x="108" y="216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7146360" y="5092920"/>
              <a:ext cx="783360" cy="378000"/>
            </a:xfrm>
            <a:custGeom>
              <a:avLst/>
              <a:gdLst/>
              <a:ahLst/>
              <a:rect l="l" t="t" r="r" b="b"/>
              <a:pathLst>
                <a:path w="16209" h="7801">
                  <a:moveTo>
                    <a:pt x="11327" y="7801"/>
                  </a:moveTo>
                  <a:lnTo>
                    <a:pt x="0" y="7801"/>
                  </a:lnTo>
                  <a:lnTo>
                    <a:pt x="5384" y="0"/>
                  </a:lnTo>
                  <a:lnTo>
                    <a:pt x="16209" y="0"/>
                  </a:lnTo>
                  <a:lnTo>
                    <a:pt x="11327" y="7801"/>
                  </a:lnTo>
                  <a:close/>
                </a:path>
              </a:pathLst>
            </a:cu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7135920" y="5465520"/>
              <a:ext cx="557640" cy="10080"/>
            </a:xfrm>
            <a:custGeom>
              <a:avLst/>
              <a:gdLst/>
              <a:ahLst/>
              <a:rect l="l" t="t" r="r" b="b"/>
              <a:pathLst>
                <a:path w="11530" h="216">
                  <a:moveTo>
                    <a:pt x="115" y="47"/>
                  </a:moveTo>
                  <a:lnTo>
                    <a:pt x="203" y="216"/>
                  </a:lnTo>
                  <a:lnTo>
                    <a:pt x="11530" y="216"/>
                  </a:lnTo>
                  <a:lnTo>
                    <a:pt x="11530" y="0"/>
                  </a:lnTo>
                  <a:lnTo>
                    <a:pt x="203" y="0"/>
                  </a:lnTo>
                  <a:lnTo>
                    <a:pt x="115" y="47"/>
                  </a:lnTo>
                  <a:lnTo>
                    <a:pt x="115" y="47"/>
                  </a:lnTo>
                  <a:lnTo>
                    <a:pt x="0" y="216"/>
                  </a:lnTo>
                  <a:lnTo>
                    <a:pt x="203" y="216"/>
                  </a:lnTo>
                  <a:lnTo>
                    <a:pt x="115" y="4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140960" y="5087880"/>
              <a:ext cx="268920" cy="385560"/>
            </a:xfrm>
            <a:custGeom>
              <a:avLst/>
              <a:gdLst/>
              <a:ahLst/>
              <a:rect l="l" t="t" r="r" b="b"/>
              <a:pathLst>
                <a:path w="5560" h="7970">
                  <a:moveTo>
                    <a:pt x="5472" y="0"/>
                  </a:moveTo>
                  <a:lnTo>
                    <a:pt x="5382" y="46"/>
                  </a:lnTo>
                  <a:lnTo>
                    <a:pt x="0" y="7848"/>
                  </a:lnTo>
                  <a:lnTo>
                    <a:pt x="178" y="7970"/>
                  </a:lnTo>
                  <a:lnTo>
                    <a:pt x="5560" y="169"/>
                  </a:lnTo>
                  <a:lnTo>
                    <a:pt x="5472" y="0"/>
                  </a:lnTo>
                  <a:lnTo>
                    <a:pt x="5472" y="0"/>
                  </a:lnTo>
                  <a:lnTo>
                    <a:pt x="5414" y="0"/>
                  </a:lnTo>
                  <a:lnTo>
                    <a:pt x="5382" y="46"/>
                  </a:lnTo>
                  <a:lnTo>
                    <a:pt x="5472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7406280" y="5087880"/>
              <a:ext cx="532800" cy="10080"/>
            </a:xfrm>
            <a:custGeom>
              <a:avLst/>
              <a:gdLst/>
              <a:ahLst/>
              <a:rect l="l" t="t" r="r" b="b"/>
              <a:pathLst>
                <a:path w="11018" h="215">
                  <a:moveTo>
                    <a:pt x="10916" y="165"/>
                  </a:moveTo>
                  <a:lnTo>
                    <a:pt x="10825" y="0"/>
                  </a:lnTo>
                  <a:lnTo>
                    <a:pt x="0" y="0"/>
                  </a:lnTo>
                  <a:lnTo>
                    <a:pt x="0" y="215"/>
                  </a:lnTo>
                  <a:lnTo>
                    <a:pt x="10825" y="215"/>
                  </a:lnTo>
                  <a:lnTo>
                    <a:pt x="10916" y="165"/>
                  </a:lnTo>
                  <a:lnTo>
                    <a:pt x="10916" y="165"/>
                  </a:lnTo>
                  <a:lnTo>
                    <a:pt x="11018" y="0"/>
                  </a:lnTo>
                  <a:lnTo>
                    <a:pt x="10825" y="0"/>
                  </a:lnTo>
                  <a:lnTo>
                    <a:pt x="10916" y="16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7689600" y="5090400"/>
              <a:ext cx="244080" cy="385200"/>
            </a:xfrm>
            <a:custGeom>
              <a:avLst/>
              <a:gdLst/>
              <a:ahLst/>
              <a:rect l="l" t="t" r="r" b="b"/>
              <a:pathLst>
                <a:path w="5064" h="7966">
                  <a:moveTo>
                    <a:pt x="91" y="7966"/>
                  </a:moveTo>
                  <a:lnTo>
                    <a:pt x="182" y="7915"/>
                  </a:lnTo>
                  <a:lnTo>
                    <a:pt x="5064" y="114"/>
                  </a:lnTo>
                  <a:lnTo>
                    <a:pt x="4882" y="0"/>
                  </a:lnTo>
                  <a:lnTo>
                    <a:pt x="0" y="7801"/>
                  </a:lnTo>
                  <a:lnTo>
                    <a:pt x="91" y="7966"/>
                  </a:lnTo>
                  <a:lnTo>
                    <a:pt x="91" y="7966"/>
                  </a:lnTo>
                  <a:lnTo>
                    <a:pt x="151" y="7966"/>
                  </a:lnTo>
                  <a:lnTo>
                    <a:pt x="182" y="7915"/>
                  </a:lnTo>
                  <a:lnTo>
                    <a:pt x="91" y="796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693560" y="5095440"/>
              <a:ext cx="236160" cy="504360"/>
            </a:xfrm>
            <a:custGeom>
              <a:avLst/>
              <a:gdLst/>
              <a:ahLst/>
              <a:rect l="l" t="t" r="r" b="b"/>
              <a:pathLst>
                <a:path w="4882" h="10414">
                  <a:moveTo>
                    <a:pt x="4882" y="0"/>
                  </a:moveTo>
                  <a:lnTo>
                    <a:pt x="4882" y="4919"/>
                  </a:lnTo>
                  <a:lnTo>
                    <a:pt x="0" y="10414"/>
                  </a:lnTo>
                  <a:lnTo>
                    <a:pt x="0" y="7803"/>
                  </a:lnTo>
                  <a:lnTo>
                    <a:pt x="4882" y="0"/>
                  </a:lnTo>
                  <a:close/>
                </a:path>
              </a:pathLst>
            </a:custGeom>
            <a:solidFill>
              <a:srgbClr val="7b7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7924680" y="5095440"/>
              <a:ext cx="10080" cy="241920"/>
            </a:xfrm>
            <a:custGeom>
              <a:avLst/>
              <a:gdLst/>
              <a:ahLst/>
              <a:rect l="l" t="t" r="r" b="b"/>
              <a:pathLst>
                <a:path w="216" h="4990">
                  <a:moveTo>
                    <a:pt x="188" y="4990"/>
                  </a:moveTo>
                  <a:lnTo>
                    <a:pt x="216" y="4919"/>
                  </a:lnTo>
                  <a:lnTo>
                    <a:pt x="216" y="0"/>
                  </a:lnTo>
                  <a:lnTo>
                    <a:pt x="0" y="0"/>
                  </a:lnTo>
                  <a:lnTo>
                    <a:pt x="0" y="4919"/>
                  </a:lnTo>
                  <a:lnTo>
                    <a:pt x="188" y="4990"/>
                  </a:lnTo>
                  <a:lnTo>
                    <a:pt x="188" y="4990"/>
                  </a:lnTo>
                  <a:lnTo>
                    <a:pt x="216" y="4959"/>
                  </a:lnTo>
                  <a:lnTo>
                    <a:pt x="216" y="4919"/>
                  </a:lnTo>
                  <a:lnTo>
                    <a:pt x="188" y="499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688520" y="5331240"/>
              <a:ext cx="245520" cy="282240"/>
            </a:xfrm>
            <a:custGeom>
              <a:avLst/>
              <a:gdLst/>
              <a:ahLst/>
              <a:rect l="l" t="t" r="r" b="b"/>
              <a:pathLst>
                <a:path w="5070" h="5847">
                  <a:moveTo>
                    <a:pt x="0" y="5567"/>
                  </a:moveTo>
                  <a:lnTo>
                    <a:pt x="189" y="5638"/>
                  </a:lnTo>
                  <a:lnTo>
                    <a:pt x="5070" y="143"/>
                  </a:lnTo>
                  <a:lnTo>
                    <a:pt x="4909" y="0"/>
                  </a:lnTo>
                  <a:lnTo>
                    <a:pt x="28" y="5496"/>
                  </a:lnTo>
                  <a:lnTo>
                    <a:pt x="0" y="5567"/>
                  </a:lnTo>
                  <a:lnTo>
                    <a:pt x="0" y="5567"/>
                  </a:lnTo>
                  <a:lnTo>
                    <a:pt x="0" y="5847"/>
                  </a:lnTo>
                  <a:lnTo>
                    <a:pt x="189" y="5638"/>
                  </a:lnTo>
                  <a:lnTo>
                    <a:pt x="0" y="556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688520" y="5470920"/>
              <a:ext cx="10080" cy="129240"/>
            </a:xfrm>
            <a:custGeom>
              <a:avLst/>
              <a:gdLst/>
              <a:ahLst/>
              <a:rect l="l" t="t" r="r" b="b"/>
              <a:pathLst>
                <a:path w="216" h="2668">
                  <a:moveTo>
                    <a:pt x="17" y="0"/>
                  </a:moveTo>
                  <a:lnTo>
                    <a:pt x="0" y="57"/>
                  </a:lnTo>
                  <a:lnTo>
                    <a:pt x="0" y="2668"/>
                  </a:lnTo>
                  <a:lnTo>
                    <a:pt x="216" y="2668"/>
                  </a:lnTo>
                  <a:lnTo>
                    <a:pt x="216" y="5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26"/>
                  </a:lnTo>
                  <a:lnTo>
                    <a:pt x="0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689600" y="5078880"/>
              <a:ext cx="245520" cy="397080"/>
            </a:xfrm>
            <a:custGeom>
              <a:avLst/>
              <a:gdLst/>
              <a:ahLst/>
              <a:rect l="l" t="t" r="r" b="b"/>
              <a:pathLst>
                <a:path w="5081" h="8231">
                  <a:moveTo>
                    <a:pt x="5081" y="372"/>
                  </a:moveTo>
                  <a:lnTo>
                    <a:pt x="4882" y="315"/>
                  </a:lnTo>
                  <a:lnTo>
                    <a:pt x="0" y="8118"/>
                  </a:lnTo>
                  <a:lnTo>
                    <a:pt x="182" y="8231"/>
                  </a:lnTo>
                  <a:lnTo>
                    <a:pt x="5064" y="429"/>
                  </a:lnTo>
                  <a:lnTo>
                    <a:pt x="5081" y="372"/>
                  </a:lnTo>
                  <a:lnTo>
                    <a:pt x="5081" y="372"/>
                  </a:lnTo>
                  <a:lnTo>
                    <a:pt x="5081" y="0"/>
                  </a:lnTo>
                  <a:lnTo>
                    <a:pt x="4882" y="315"/>
                  </a:lnTo>
                  <a:lnTo>
                    <a:pt x="5081" y="37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18800" y="5022360"/>
              <a:ext cx="271440" cy="433800"/>
            </a:xfrm>
            <a:custGeom>
              <a:avLst/>
              <a:gdLst/>
              <a:ahLst/>
              <a:rect l="l" t="t" r="r" b="b"/>
              <a:pathLst>
                <a:path w="5620" h="8980">
                  <a:moveTo>
                    <a:pt x="3969" y="2885"/>
                  </a:moveTo>
                  <a:lnTo>
                    <a:pt x="3836" y="3037"/>
                  </a:lnTo>
                  <a:lnTo>
                    <a:pt x="3702" y="3191"/>
                  </a:lnTo>
                  <a:lnTo>
                    <a:pt x="3564" y="3348"/>
                  </a:lnTo>
                  <a:lnTo>
                    <a:pt x="3424" y="3506"/>
                  </a:lnTo>
                  <a:lnTo>
                    <a:pt x="3284" y="3668"/>
                  </a:lnTo>
                  <a:lnTo>
                    <a:pt x="3143" y="3831"/>
                  </a:lnTo>
                  <a:lnTo>
                    <a:pt x="3003" y="3995"/>
                  </a:lnTo>
                  <a:lnTo>
                    <a:pt x="2863" y="4162"/>
                  </a:lnTo>
                  <a:lnTo>
                    <a:pt x="2795" y="4246"/>
                  </a:lnTo>
                  <a:lnTo>
                    <a:pt x="2726" y="4330"/>
                  </a:lnTo>
                  <a:lnTo>
                    <a:pt x="2658" y="4414"/>
                  </a:lnTo>
                  <a:lnTo>
                    <a:pt x="2590" y="4498"/>
                  </a:lnTo>
                  <a:lnTo>
                    <a:pt x="2524" y="4583"/>
                  </a:lnTo>
                  <a:lnTo>
                    <a:pt x="2458" y="4668"/>
                  </a:lnTo>
                  <a:lnTo>
                    <a:pt x="2393" y="4752"/>
                  </a:lnTo>
                  <a:lnTo>
                    <a:pt x="2330" y="4837"/>
                  </a:lnTo>
                  <a:lnTo>
                    <a:pt x="2266" y="4922"/>
                  </a:lnTo>
                  <a:lnTo>
                    <a:pt x="2205" y="5008"/>
                  </a:lnTo>
                  <a:lnTo>
                    <a:pt x="2145" y="5093"/>
                  </a:lnTo>
                  <a:lnTo>
                    <a:pt x="2087" y="5178"/>
                  </a:lnTo>
                  <a:lnTo>
                    <a:pt x="2029" y="5263"/>
                  </a:lnTo>
                  <a:lnTo>
                    <a:pt x="1974" y="5348"/>
                  </a:lnTo>
                  <a:lnTo>
                    <a:pt x="1920" y="5433"/>
                  </a:lnTo>
                  <a:lnTo>
                    <a:pt x="1867" y="5517"/>
                  </a:lnTo>
                  <a:lnTo>
                    <a:pt x="1913" y="6335"/>
                  </a:lnTo>
                  <a:lnTo>
                    <a:pt x="199" y="8980"/>
                  </a:lnTo>
                  <a:lnTo>
                    <a:pt x="0" y="7027"/>
                  </a:lnTo>
                  <a:lnTo>
                    <a:pt x="41" y="6894"/>
                  </a:lnTo>
                  <a:lnTo>
                    <a:pt x="103" y="6740"/>
                  </a:lnTo>
                  <a:lnTo>
                    <a:pt x="184" y="6566"/>
                  </a:lnTo>
                  <a:lnTo>
                    <a:pt x="283" y="6376"/>
                  </a:lnTo>
                  <a:lnTo>
                    <a:pt x="399" y="6169"/>
                  </a:lnTo>
                  <a:lnTo>
                    <a:pt x="531" y="5947"/>
                  </a:lnTo>
                  <a:lnTo>
                    <a:pt x="676" y="5711"/>
                  </a:lnTo>
                  <a:lnTo>
                    <a:pt x="835" y="5464"/>
                  </a:lnTo>
                  <a:lnTo>
                    <a:pt x="1006" y="5208"/>
                  </a:lnTo>
                  <a:lnTo>
                    <a:pt x="1187" y="4941"/>
                  </a:lnTo>
                  <a:lnTo>
                    <a:pt x="1378" y="4669"/>
                  </a:lnTo>
                  <a:lnTo>
                    <a:pt x="1576" y="4390"/>
                  </a:lnTo>
                  <a:lnTo>
                    <a:pt x="1782" y="4108"/>
                  </a:lnTo>
                  <a:lnTo>
                    <a:pt x="1992" y="3823"/>
                  </a:lnTo>
                  <a:lnTo>
                    <a:pt x="2207" y="3537"/>
                  </a:lnTo>
                  <a:lnTo>
                    <a:pt x="2425" y="3252"/>
                  </a:lnTo>
                  <a:lnTo>
                    <a:pt x="2645" y="2968"/>
                  </a:lnTo>
                  <a:lnTo>
                    <a:pt x="2866" y="2688"/>
                  </a:lnTo>
                  <a:lnTo>
                    <a:pt x="3085" y="2414"/>
                  </a:lnTo>
                  <a:lnTo>
                    <a:pt x="3303" y="2146"/>
                  </a:lnTo>
                  <a:lnTo>
                    <a:pt x="3518" y="1886"/>
                  </a:lnTo>
                  <a:lnTo>
                    <a:pt x="3727" y="1636"/>
                  </a:lnTo>
                  <a:lnTo>
                    <a:pt x="3932" y="1397"/>
                  </a:lnTo>
                  <a:lnTo>
                    <a:pt x="4129" y="1170"/>
                  </a:lnTo>
                  <a:lnTo>
                    <a:pt x="4318" y="959"/>
                  </a:lnTo>
                  <a:lnTo>
                    <a:pt x="4498" y="762"/>
                  </a:lnTo>
                  <a:lnTo>
                    <a:pt x="4666" y="583"/>
                  </a:lnTo>
                  <a:lnTo>
                    <a:pt x="4823" y="423"/>
                  </a:lnTo>
                  <a:lnTo>
                    <a:pt x="4967" y="283"/>
                  </a:lnTo>
                  <a:lnTo>
                    <a:pt x="5095" y="165"/>
                  </a:lnTo>
                  <a:lnTo>
                    <a:pt x="5208" y="71"/>
                  </a:lnTo>
                  <a:lnTo>
                    <a:pt x="5305" y="0"/>
                  </a:lnTo>
                  <a:lnTo>
                    <a:pt x="5620" y="1723"/>
                  </a:lnTo>
                  <a:lnTo>
                    <a:pt x="4013" y="3668"/>
                  </a:lnTo>
                  <a:lnTo>
                    <a:pt x="3969" y="2885"/>
                  </a:lnTo>
                  <a:close/>
                </a:path>
              </a:pathLst>
            </a:custGeom>
            <a:solidFill>
              <a:srgbClr val="7b7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403400" y="5158440"/>
              <a:ext cx="110880" cy="133200"/>
            </a:xfrm>
            <a:custGeom>
              <a:avLst/>
              <a:gdLst/>
              <a:ahLst/>
              <a:rect l="l" t="t" r="r" b="b"/>
              <a:pathLst>
                <a:path w="2292" h="2758">
                  <a:moveTo>
                    <a:pt x="217" y="2696"/>
                  </a:moveTo>
                  <a:lnTo>
                    <a:pt x="201" y="2758"/>
                  </a:lnTo>
                  <a:lnTo>
                    <a:pt x="252" y="2675"/>
                  </a:lnTo>
                  <a:lnTo>
                    <a:pt x="306" y="2591"/>
                  </a:lnTo>
                  <a:lnTo>
                    <a:pt x="361" y="2507"/>
                  </a:lnTo>
                  <a:lnTo>
                    <a:pt x="417" y="2423"/>
                  </a:lnTo>
                  <a:lnTo>
                    <a:pt x="475" y="2339"/>
                  </a:lnTo>
                  <a:lnTo>
                    <a:pt x="535" y="2255"/>
                  </a:lnTo>
                  <a:lnTo>
                    <a:pt x="595" y="2170"/>
                  </a:lnTo>
                  <a:lnTo>
                    <a:pt x="658" y="2086"/>
                  </a:lnTo>
                  <a:lnTo>
                    <a:pt x="721" y="2002"/>
                  </a:lnTo>
                  <a:lnTo>
                    <a:pt x="785" y="1918"/>
                  </a:lnTo>
                  <a:lnTo>
                    <a:pt x="851" y="1834"/>
                  </a:lnTo>
                  <a:lnTo>
                    <a:pt x="916" y="1749"/>
                  </a:lnTo>
                  <a:lnTo>
                    <a:pt x="984" y="1666"/>
                  </a:lnTo>
                  <a:lnTo>
                    <a:pt x="1051" y="1582"/>
                  </a:lnTo>
                  <a:lnTo>
                    <a:pt x="1120" y="1498"/>
                  </a:lnTo>
                  <a:lnTo>
                    <a:pt x="1188" y="1416"/>
                  </a:lnTo>
                  <a:lnTo>
                    <a:pt x="1327" y="1250"/>
                  </a:lnTo>
                  <a:lnTo>
                    <a:pt x="1467" y="1086"/>
                  </a:lnTo>
                  <a:lnTo>
                    <a:pt x="1607" y="923"/>
                  </a:lnTo>
                  <a:lnTo>
                    <a:pt x="1747" y="762"/>
                  </a:lnTo>
                  <a:lnTo>
                    <a:pt x="1886" y="603"/>
                  </a:lnTo>
                  <a:lnTo>
                    <a:pt x="2025" y="447"/>
                  </a:lnTo>
                  <a:lnTo>
                    <a:pt x="2159" y="292"/>
                  </a:lnTo>
                  <a:lnTo>
                    <a:pt x="2292" y="141"/>
                  </a:lnTo>
                  <a:lnTo>
                    <a:pt x="2129" y="0"/>
                  </a:lnTo>
                  <a:lnTo>
                    <a:pt x="1998" y="151"/>
                  </a:lnTo>
                  <a:lnTo>
                    <a:pt x="1863" y="305"/>
                  </a:lnTo>
                  <a:lnTo>
                    <a:pt x="1726" y="461"/>
                  </a:lnTo>
                  <a:lnTo>
                    <a:pt x="1586" y="621"/>
                  </a:lnTo>
                  <a:lnTo>
                    <a:pt x="1444" y="782"/>
                  </a:lnTo>
                  <a:lnTo>
                    <a:pt x="1303" y="946"/>
                  </a:lnTo>
                  <a:lnTo>
                    <a:pt x="1162" y="1111"/>
                  </a:lnTo>
                  <a:lnTo>
                    <a:pt x="1023" y="1279"/>
                  </a:lnTo>
                  <a:lnTo>
                    <a:pt x="953" y="1363"/>
                  </a:lnTo>
                  <a:lnTo>
                    <a:pt x="884" y="1447"/>
                  </a:lnTo>
                  <a:lnTo>
                    <a:pt x="815" y="1532"/>
                  </a:lnTo>
                  <a:lnTo>
                    <a:pt x="748" y="1617"/>
                  </a:lnTo>
                  <a:lnTo>
                    <a:pt x="681" y="1702"/>
                  </a:lnTo>
                  <a:lnTo>
                    <a:pt x="614" y="1787"/>
                  </a:lnTo>
                  <a:lnTo>
                    <a:pt x="549" y="1873"/>
                  </a:lnTo>
                  <a:lnTo>
                    <a:pt x="485" y="1959"/>
                  </a:lnTo>
                  <a:lnTo>
                    <a:pt x="422" y="2045"/>
                  </a:lnTo>
                  <a:lnTo>
                    <a:pt x="360" y="2130"/>
                  </a:lnTo>
                  <a:lnTo>
                    <a:pt x="299" y="2216"/>
                  </a:lnTo>
                  <a:lnTo>
                    <a:pt x="239" y="2302"/>
                  </a:lnTo>
                  <a:lnTo>
                    <a:pt x="181" y="2389"/>
                  </a:lnTo>
                  <a:lnTo>
                    <a:pt x="125" y="2474"/>
                  </a:lnTo>
                  <a:lnTo>
                    <a:pt x="70" y="2560"/>
                  </a:lnTo>
                  <a:lnTo>
                    <a:pt x="17" y="2646"/>
                  </a:lnTo>
                  <a:lnTo>
                    <a:pt x="2" y="2708"/>
                  </a:lnTo>
                  <a:lnTo>
                    <a:pt x="17" y="2646"/>
                  </a:lnTo>
                  <a:lnTo>
                    <a:pt x="0" y="2675"/>
                  </a:lnTo>
                  <a:lnTo>
                    <a:pt x="2" y="2708"/>
                  </a:lnTo>
                  <a:lnTo>
                    <a:pt x="217" y="269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7403400" y="5289120"/>
              <a:ext cx="12960" cy="41760"/>
            </a:xfrm>
            <a:custGeom>
              <a:avLst/>
              <a:gdLst/>
              <a:ahLst/>
              <a:rect l="l" t="t" r="r" b="b"/>
              <a:pathLst>
                <a:path w="263" h="883">
                  <a:moveTo>
                    <a:pt x="244" y="883"/>
                  </a:moveTo>
                  <a:lnTo>
                    <a:pt x="260" y="818"/>
                  </a:lnTo>
                  <a:lnTo>
                    <a:pt x="215" y="0"/>
                  </a:lnTo>
                  <a:lnTo>
                    <a:pt x="0" y="12"/>
                  </a:lnTo>
                  <a:lnTo>
                    <a:pt x="45" y="831"/>
                  </a:lnTo>
                  <a:lnTo>
                    <a:pt x="244" y="883"/>
                  </a:lnTo>
                  <a:lnTo>
                    <a:pt x="244" y="883"/>
                  </a:lnTo>
                  <a:lnTo>
                    <a:pt x="263" y="853"/>
                  </a:lnTo>
                  <a:lnTo>
                    <a:pt x="260" y="818"/>
                  </a:lnTo>
                  <a:lnTo>
                    <a:pt x="244" y="88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7322760" y="5325840"/>
              <a:ext cx="92520" cy="146160"/>
            </a:xfrm>
            <a:custGeom>
              <a:avLst/>
              <a:gdLst/>
              <a:ahLst/>
              <a:rect l="l" t="t" r="r" b="b"/>
              <a:pathLst>
                <a:path w="1913" h="3012">
                  <a:moveTo>
                    <a:pt x="0" y="2713"/>
                  </a:moveTo>
                  <a:lnTo>
                    <a:pt x="197" y="2762"/>
                  </a:lnTo>
                  <a:lnTo>
                    <a:pt x="1913" y="117"/>
                  </a:lnTo>
                  <a:lnTo>
                    <a:pt x="1732" y="0"/>
                  </a:lnTo>
                  <a:lnTo>
                    <a:pt x="18" y="2645"/>
                  </a:lnTo>
                  <a:lnTo>
                    <a:pt x="0" y="2713"/>
                  </a:lnTo>
                  <a:lnTo>
                    <a:pt x="0" y="2713"/>
                  </a:lnTo>
                  <a:lnTo>
                    <a:pt x="32" y="3012"/>
                  </a:lnTo>
                  <a:lnTo>
                    <a:pt x="197" y="2762"/>
                  </a:lnTo>
                  <a:lnTo>
                    <a:pt x="0" y="271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313400" y="5361120"/>
              <a:ext cx="19440" cy="95400"/>
            </a:xfrm>
            <a:custGeom>
              <a:avLst/>
              <a:gdLst/>
              <a:ahLst/>
              <a:rect l="l" t="t" r="r" b="b"/>
              <a:pathLst>
                <a:path w="415" h="1989">
                  <a:moveTo>
                    <a:pt x="5" y="0"/>
                  </a:moveTo>
                  <a:lnTo>
                    <a:pt x="2" y="36"/>
                  </a:lnTo>
                  <a:lnTo>
                    <a:pt x="200" y="1989"/>
                  </a:lnTo>
                  <a:lnTo>
                    <a:pt x="415" y="1969"/>
                  </a:lnTo>
                  <a:lnTo>
                    <a:pt x="216" y="1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2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7313400" y="5013360"/>
              <a:ext cx="266400" cy="350280"/>
            </a:xfrm>
            <a:custGeom>
              <a:avLst/>
              <a:gdLst/>
              <a:ahLst/>
              <a:rect l="l" t="t" r="r" b="b"/>
              <a:pathLst>
                <a:path w="5515" h="7229">
                  <a:moveTo>
                    <a:pt x="5515" y="158"/>
                  </a:moveTo>
                  <a:lnTo>
                    <a:pt x="5351" y="87"/>
                  </a:lnTo>
                  <a:lnTo>
                    <a:pt x="5326" y="104"/>
                  </a:lnTo>
                  <a:lnTo>
                    <a:pt x="5300" y="121"/>
                  </a:lnTo>
                  <a:lnTo>
                    <a:pt x="5273" y="141"/>
                  </a:lnTo>
                  <a:lnTo>
                    <a:pt x="5246" y="163"/>
                  </a:lnTo>
                  <a:lnTo>
                    <a:pt x="5189" y="208"/>
                  </a:lnTo>
                  <a:lnTo>
                    <a:pt x="5128" y="260"/>
                  </a:lnTo>
                  <a:lnTo>
                    <a:pt x="5064" y="318"/>
                  </a:lnTo>
                  <a:lnTo>
                    <a:pt x="4996" y="381"/>
                  </a:lnTo>
                  <a:lnTo>
                    <a:pt x="4925" y="450"/>
                  </a:lnTo>
                  <a:lnTo>
                    <a:pt x="4851" y="523"/>
                  </a:lnTo>
                  <a:lnTo>
                    <a:pt x="4773" y="602"/>
                  </a:lnTo>
                  <a:lnTo>
                    <a:pt x="4693" y="685"/>
                  </a:lnTo>
                  <a:lnTo>
                    <a:pt x="4609" y="773"/>
                  </a:lnTo>
                  <a:lnTo>
                    <a:pt x="4523" y="865"/>
                  </a:lnTo>
                  <a:lnTo>
                    <a:pt x="4433" y="962"/>
                  </a:lnTo>
                  <a:lnTo>
                    <a:pt x="4342" y="1062"/>
                  </a:lnTo>
                  <a:lnTo>
                    <a:pt x="4248" y="1167"/>
                  </a:lnTo>
                  <a:lnTo>
                    <a:pt x="4152" y="1276"/>
                  </a:lnTo>
                  <a:lnTo>
                    <a:pt x="4054" y="1388"/>
                  </a:lnTo>
                  <a:lnTo>
                    <a:pt x="3954" y="1503"/>
                  </a:lnTo>
                  <a:lnTo>
                    <a:pt x="3852" y="1621"/>
                  </a:lnTo>
                  <a:lnTo>
                    <a:pt x="3750" y="1742"/>
                  </a:lnTo>
                  <a:lnTo>
                    <a:pt x="3645" y="1866"/>
                  </a:lnTo>
                  <a:lnTo>
                    <a:pt x="3539" y="1994"/>
                  </a:lnTo>
                  <a:lnTo>
                    <a:pt x="3432" y="2123"/>
                  </a:lnTo>
                  <a:lnTo>
                    <a:pt x="3324" y="2254"/>
                  </a:lnTo>
                  <a:lnTo>
                    <a:pt x="3215" y="2388"/>
                  </a:lnTo>
                  <a:lnTo>
                    <a:pt x="3105" y="2522"/>
                  </a:lnTo>
                  <a:lnTo>
                    <a:pt x="2995" y="2660"/>
                  </a:lnTo>
                  <a:lnTo>
                    <a:pt x="2885" y="2798"/>
                  </a:lnTo>
                  <a:lnTo>
                    <a:pt x="2775" y="2938"/>
                  </a:lnTo>
                  <a:lnTo>
                    <a:pt x="2665" y="3079"/>
                  </a:lnTo>
                  <a:lnTo>
                    <a:pt x="2554" y="3220"/>
                  </a:lnTo>
                  <a:lnTo>
                    <a:pt x="2444" y="3362"/>
                  </a:lnTo>
                  <a:lnTo>
                    <a:pt x="2335" y="3505"/>
                  </a:lnTo>
                  <a:lnTo>
                    <a:pt x="2225" y="3649"/>
                  </a:lnTo>
                  <a:lnTo>
                    <a:pt x="2117" y="3792"/>
                  </a:lnTo>
                  <a:lnTo>
                    <a:pt x="2010" y="3935"/>
                  </a:lnTo>
                  <a:lnTo>
                    <a:pt x="1904" y="4078"/>
                  </a:lnTo>
                  <a:lnTo>
                    <a:pt x="1798" y="4221"/>
                  </a:lnTo>
                  <a:lnTo>
                    <a:pt x="1695" y="4363"/>
                  </a:lnTo>
                  <a:lnTo>
                    <a:pt x="1593" y="4504"/>
                  </a:lnTo>
                  <a:lnTo>
                    <a:pt x="1492" y="4644"/>
                  </a:lnTo>
                  <a:lnTo>
                    <a:pt x="1394" y="4783"/>
                  </a:lnTo>
                  <a:lnTo>
                    <a:pt x="1297" y="4921"/>
                  </a:lnTo>
                  <a:lnTo>
                    <a:pt x="1203" y="5056"/>
                  </a:lnTo>
                  <a:lnTo>
                    <a:pt x="1110" y="5191"/>
                  </a:lnTo>
                  <a:lnTo>
                    <a:pt x="1021" y="5324"/>
                  </a:lnTo>
                  <a:lnTo>
                    <a:pt x="934" y="5453"/>
                  </a:lnTo>
                  <a:lnTo>
                    <a:pt x="850" y="5582"/>
                  </a:lnTo>
                  <a:lnTo>
                    <a:pt x="768" y="5707"/>
                  </a:lnTo>
                  <a:lnTo>
                    <a:pt x="690" y="5830"/>
                  </a:lnTo>
                  <a:lnTo>
                    <a:pt x="614" y="5950"/>
                  </a:lnTo>
                  <a:lnTo>
                    <a:pt x="543" y="6067"/>
                  </a:lnTo>
                  <a:lnTo>
                    <a:pt x="474" y="6181"/>
                  </a:lnTo>
                  <a:lnTo>
                    <a:pt x="410" y="6291"/>
                  </a:lnTo>
                  <a:lnTo>
                    <a:pt x="350" y="6397"/>
                  </a:lnTo>
                  <a:lnTo>
                    <a:pt x="293" y="6501"/>
                  </a:lnTo>
                  <a:lnTo>
                    <a:pt x="240" y="6600"/>
                  </a:lnTo>
                  <a:lnTo>
                    <a:pt x="192" y="6695"/>
                  </a:lnTo>
                  <a:lnTo>
                    <a:pt x="169" y="6740"/>
                  </a:lnTo>
                  <a:lnTo>
                    <a:pt x="148" y="6786"/>
                  </a:lnTo>
                  <a:lnTo>
                    <a:pt x="128" y="6830"/>
                  </a:lnTo>
                  <a:lnTo>
                    <a:pt x="109" y="6873"/>
                  </a:lnTo>
                  <a:lnTo>
                    <a:pt x="90" y="6914"/>
                  </a:lnTo>
                  <a:lnTo>
                    <a:pt x="74" y="6955"/>
                  </a:lnTo>
                  <a:lnTo>
                    <a:pt x="58" y="6995"/>
                  </a:lnTo>
                  <a:lnTo>
                    <a:pt x="43" y="7034"/>
                  </a:lnTo>
                  <a:lnTo>
                    <a:pt x="31" y="7071"/>
                  </a:lnTo>
                  <a:lnTo>
                    <a:pt x="20" y="7107"/>
                  </a:lnTo>
                  <a:lnTo>
                    <a:pt x="9" y="7142"/>
                  </a:lnTo>
                  <a:lnTo>
                    <a:pt x="0" y="7177"/>
                  </a:lnTo>
                  <a:lnTo>
                    <a:pt x="208" y="7229"/>
                  </a:lnTo>
                  <a:lnTo>
                    <a:pt x="216" y="7201"/>
                  </a:lnTo>
                  <a:lnTo>
                    <a:pt x="225" y="7170"/>
                  </a:lnTo>
                  <a:lnTo>
                    <a:pt x="234" y="7139"/>
                  </a:lnTo>
                  <a:lnTo>
                    <a:pt x="247" y="7106"/>
                  </a:lnTo>
                  <a:lnTo>
                    <a:pt x="259" y="7071"/>
                  </a:lnTo>
                  <a:lnTo>
                    <a:pt x="274" y="7035"/>
                  </a:lnTo>
                  <a:lnTo>
                    <a:pt x="289" y="6997"/>
                  </a:lnTo>
                  <a:lnTo>
                    <a:pt x="306" y="6959"/>
                  </a:lnTo>
                  <a:lnTo>
                    <a:pt x="324" y="6919"/>
                  </a:lnTo>
                  <a:lnTo>
                    <a:pt x="342" y="6877"/>
                  </a:lnTo>
                  <a:lnTo>
                    <a:pt x="363" y="6835"/>
                  </a:lnTo>
                  <a:lnTo>
                    <a:pt x="384" y="6790"/>
                  </a:lnTo>
                  <a:lnTo>
                    <a:pt x="432" y="6698"/>
                  </a:lnTo>
                  <a:lnTo>
                    <a:pt x="482" y="6603"/>
                  </a:lnTo>
                  <a:lnTo>
                    <a:pt x="537" y="6502"/>
                  </a:lnTo>
                  <a:lnTo>
                    <a:pt x="597" y="6397"/>
                  </a:lnTo>
                  <a:lnTo>
                    <a:pt x="660" y="6290"/>
                  </a:lnTo>
                  <a:lnTo>
                    <a:pt x="726" y="6178"/>
                  </a:lnTo>
                  <a:lnTo>
                    <a:pt x="797" y="6063"/>
                  </a:lnTo>
                  <a:lnTo>
                    <a:pt x="872" y="5944"/>
                  </a:lnTo>
                  <a:lnTo>
                    <a:pt x="949" y="5823"/>
                  </a:lnTo>
                  <a:lnTo>
                    <a:pt x="1029" y="5699"/>
                  </a:lnTo>
                  <a:lnTo>
                    <a:pt x="1113" y="5572"/>
                  </a:lnTo>
                  <a:lnTo>
                    <a:pt x="1200" y="5443"/>
                  </a:lnTo>
                  <a:lnTo>
                    <a:pt x="1288" y="5312"/>
                  </a:lnTo>
                  <a:lnTo>
                    <a:pt x="1380" y="5179"/>
                  </a:lnTo>
                  <a:lnTo>
                    <a:pt x="1474" y="5044"/>
                  </a:lnTo>
                  <a:lnTo>
                    <a:pt x="1570" y="4907"/>
                  </a:lnTo>
                  <a:lnTo>
                    <a:pt x="1668" y="4768"/>
                  </a:lnTo>
                  <a:lnTo>
                    <a:pt x="1767" y="4629"/>
                  </a:lnTo>
                  <a:lnTo>
                    <a:pt x="1869" y="4489"/>
                  </a:lnTo>
                  <a:lnTo>
                    <a:pt x="1972" y="4347"/>
                  </a:lnTo>
                  <a:lnTo>
                    <a:pt x="2077" y="4205"/>
                  </a:lnTo>
                  <a:lnTo>
                    <a:pt x="2182" y="4064"/>
                  </a:lnTo>
                  <a:lnTo>
                    <a:pt x="2289" y="3920"/>
                  </a:lnTo>
                  <a:lnTo>
                    <a:pt x="2397" y="3779"/>
                  </a:lnTo>
                  <a:lnTo>
                    <a:pt x="2505" y="3635"/>
                  </a:lnTo>
                  <a:lnTo>
                    <a:pt x="2614" y="3494"/>
                  </a:lnTo>
                  <a:lnTo>
                    <a:pt x="2724" y="3352"/>
                  </a:lnTo>
                  <a:lnTo>
                    <a:pt x="2834" y="3211"/>
                  </a:lnTo>
                  <a:lnTo>
                    <a:pt x="2944" y="3071"/>
                  </a:lnTo>
                  <a:lnTo>
                    <a:pt x="3054" y="2932"/>
                  </a:lnTo>
                  <a:lnTo>
                    <a:pt x="3164" y="2794"/>
                  </a:lnTo>
                  <a:lnTo>
                    <a:pt x="3273" y="2657"/>
                  </a:lnTo>
                  <a:lnTo>
                    <a:pt x="3382" y="2524"/>
                  </a:lnTo>
                  <a:lnTo>
                    <a:pt x="3490" y="2390"/>
                  </a:lnTo>
                  <a:lnTo>
                    <a:pt x="3598" y="2259"/>
                  </a:lnTo>
                  <a:lnTo>
                    <a:pt x="3704" y="2131"/>
                  </a:lnTo>
                  <a:lnTo>
                    <a:pt x="3810" y="2004"/>
                  </a:lnTo>
                  <a:lnTo>
                    <a:pt x="3913" y="1881"/>
                  </a:lnTo>
                  <a:lnTo>
                    <a:pt x="4016" y="1761"/>
                  </a:lnTo>
                  <a:lnTo>
                    <a:pt x="4117" y="1644"/>
                  </a:lnTo>
                  <a:lnTo>
                    <a:pt x="4217" y="1529"/>
                  </a:lnTo>
                  <a:lnTo>
                    <a:pt x="4314" y="1418"/>
                  </a:lnTo>
                  <a:lnTo>
                    <a:pt x="4409" y="1310"/>
                  </a:lnTo>
                  <a:lnTo>
                    <a:pt x="4502" y="1206"/>
                  </a:lnTo>
                  <a:lnTo>
                    <a:pt x="4592" y="1107"/>
                  </a:lnTo>
                  <a:lnTo>
                    <a:pt x="4680" y="1011"/>
                  </a:lnTo>
                  <a:lnTo>
                    <a:pt x="4766" y="920"/>
                  </a:lnTo>
                  <a:lnTo>
                    <a:pt x="4848" y="833"/>
                  </a:lnTo>
                  <a:lnTo>
                    <a:pt x="4927" y="751"/>
                  </a:lnTo>
                  <a:lnTo>
                    <a:pt x="5003" y="675"/>
                  </a:lnTo>
                  <a:lnTo>
                    <a:pt x="5076" y="603"/>
                  </a:lnTo>
                  <a:lnTo>
                    <a:pt x="5144" y="537"/>
                  </a:lnTo>
                  <a:lnTo>
                    <a:pt x="5210" y="477"/>
                  </a:lnTo>
                  <a:lnTo>
                    <a:pt x="5271" y="422"/>
                  </a:lnTo>
                  <a:lnTo>
                    <a:pt x="5327" y="373"/>
                  </a:lnTo>
                  <a:lnTo>
                    <a:pt x="5380" y="331"/>
                  </a:lnTo>
                  <a:lnTo>
                    <a:pt x="5403" y="312"/>
                  </a:lnTo>
                  <a:lnTo>
                    <a:pt x="5427" y="295"/>
                  </a:lnTo>
                  <a:lnTo>
                    <a:pt x="5447" y="280"/>
                  </a:lnTo>
                  <a:lnTo>
                    <a:pt x="5468" y="266"/>
                  </a:lnTo>
                  <a:lnTo>
                    <a:pt x="5303" y="196"/>
                  </a:lnTo>
                  <a:lnTo>
                    <a:pt x="5515" y="158"/>
                  </a:lnTo>
                  <a:lnTo>
                    <a:pt x="5486" y="0"/>
                  </a:lnTo>
                  <a:lnTo>
                    <a:pt x="5351" y="87"/>
                  </a:lnTo>
                  <a:lnTo>
                    <a:pt x="5515" y="15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7570800" y="5021280"/>
              <a:ext cx="24840" cy="87120"/>
            </a:xfrm>
            <a:custGeom>
              <a:avLst/>
              <a:gdLst/>
              <a:ahLst/>
              <a:rect l="l" t="t" r="r" b="b"/>
              <a:pathLst>
                <a:path w="537" h="1808">
                  <a:moveTo>
                    <a:pt x="504" y="1808"/>
                  </a:moveTo>
                  <a:lnTo>
                    <a:pt x="527" y="1721"/>
                  </a:lnTo>
                  <a:lnTo>
                    <a:pt x="212" y="0"/>
                  </a:lnTo>
                  <a:lnTo>
                    <a:pt x="0" y="38"/>
                  </a:lnTo>
                  <a:lnTo>
                    <a:pt x="316" y="1759"/>
                  </a:lnTo>
                  <a:lnTo>
                    <a:pt x="504" y="1808"/>
                  </a:lnTo>
                  <a:lnTo>
                    <a:pt x="504" y="1808"/>
                  </a:lnTo>
                  <a:lnTo>
                    <a:pt x="537" y="1770"/>
                  </a:lnTo>
                  <a:lnTo>
                    <a:pt x="527" y="1721"/>
                  </a:lnTo>
                  <a:lnTo>
                    <a:pt x="504" y="180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508160" y="5102280"/>
              <a:ext cx="86040" cy="110880"/>
            </a:xfrm>
            <a:custGeom>
              <a:avLst/>
              <a:gdLst/>
              <a:ahLst/>
              <a:rect l="l" t="t" r="r" b="b"/>
              <a:pathLst>
                <a:path w="1797" h="2289">
                  <a:moveTo>
                    <a:pt x="0" y="2020"/>
                  </a:moveTo>
                  <a:lnTo>
                    <a:pt x="190" y="2082"/>
                  </a:lnTo>
                  <a:lnTo>
                    <a:pt x="1797" y="136"/>
                  </a:lnTo>
                  <a:lnTo>
                    <a:pt x="1631" y="0"/>
                  </a:lnTo>
                  <a:lnTo>
                    <a:pt x="24" y="1945"/>
                  </a:lnTo>
                  <a:lnTo>
                    <a:pt x="0" y="2020"/>
                  </a:lnTo>
                  <a:lnTo>
                    <a:pt x="0" y="2020"/>
                  </a:lnTo>
                  <a:lnTo>
                    <a:pt x="17" y="2289"/>
                  </a:lnTo>
                  <a:lnTo>
                    <a:pt x="190" y="2082"/>
                  </a:lnTo>
                  <a:lnTo>
                    <a:pt x="0" y="202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7505280" y="5148000"/>
              <a:ext cx="12960" cy="51840"/>
            </a:xfrm>
            <a:custGeom>
              <a:avLst/>
              <a:gdLst/>
              <a:ahLst/>
              <a:rect l="l" t="t" r="r" b="b"/>
              <a:pathLst>
                <a:path w="260" h="1057">
                  <a:moveTo>
                    <a:pt x="26" y="198"/>
                  </a:moveTo>
                  <a:lnTo>
                    <a:pt x="0" y="275"/>
                  </a:lnTo>
                  <a:lnTo>
                    <a:pt x="45" y="1057"/>
                  </a:lnTo>
                  <a:lnTo>
                    <a:pt x="260" y="1045"/>
                  </a:lnTo>
                  <a:lnTo>
                    <a:pt x="215" y="262"/>
                  </a:lnTo>
                  <a:lnTo>
                    <a:pt x="26" y="198"/>
                  </a:lnTo>
                  <a:lnTo>
                    <a:pt x="215" y="262"/>
                  </a:lnTo>
                  <a:lnTo>
                    <a:pt x="200" y="0"/>
                  </a:lnTo>
                  <a:lnTo>
                    <a:pt x="26" y="19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7211520" y="5362560"/>
              <a:ext cx="116280" cy="93960"/>
            </a:xfrm>
            <a:custGeom>
              <a:avLst/>
              <a:gdLst/>
              <a:ahLst/>
              <a:rect l="l" t="t" r="r" b="b"/>
              <a:pathLst>
                <a:path w="2423" h="1953">
                  <a:moveTo>
                    <a:pt x="198" y="0"/>
                  </a:moveTo>
                  <a:lnTo>
                    <a:pt x="0" y="1953"/>
                  </a:lnTo>
                  <a:lnTo>
                    <a:pt x="2423" y="1953"/>
                  </a:lnTo>
                  <a:lnTo>
                    <a:pt x="2224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b6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7205040" y="5361120"/>
              <a:ext cx="20880" cy="100800"/>
            </a:xfrm>
            <a:custGeom>
              <a:avLst/>
              <a:gdLst/>
              <a:ahLst/>
              <a:rect l="l" t="t" r="r" b="b"/>
              <a:pathLst>
                <a:path w="424" h="2072">
                  <a:moveTo>
                    <a:pt x="119" y="2072"/>
                  </a:moveTo>
                  <a:lnTo>
                    <a:pt x="226" y="1974"/>
                  </a:lnTo>
                  <a:lnTo>
                    <a:pt x="424" y="21"/>
                  </a:lnTo>
                  <a:lnTo>
                    <a:pt x="210" y="0"/>
                  </a:lnTo>
                  <a:lnTo>
                    <a:pt x="12" y="1954"/>
                  </a:lnTo>
                  <a:lnTo>
                    <a:pt x="119" y="2072"/>
                  </a:lnTo>
                  <a:lnTo>
                    <a:pt x="12" y="1954"/>
                  </a:lnTo>
                  <a:lnTo>
                    <a:pt x="0" y="2072"/>
                  </a:lnTo>
                  <a:lnTo>
                    <a:pt x="119" y="207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211520" y="5451480"/>
              <a:ext cx="122760" cy="10080"/>
            </a:xfrm>
            <a:custGeom>
              <a:avLst/>
              <a:gdLst/>
              <a:ahLst/>
              <a:rect l="l" t="t" r="r" b="b"/>
              <a:pathLst>
                <a:path w="2541" h="216">
                  <a:moveTo>
                    <a:pt x="2530" y="98"/>
                  </a:moveTo>
                  <a:lnTo>
                    <a:pt x="2423" y="0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2423" y="216"/>
                  </a:lnTo>
                  <a:lnTo>
                    <a:pt x="2530" y="98"/>
                  </a:lnTo>
                  <a:lnTo>
                    <a:pt x="2423" y="216"/>
                  </a:lnTo>
                  <a:lnTo>
                    <a:pt x="2541" y="216"/>
                  </a:lnTo>
                  <a:lnTo>
                    <a:pt x="2530" y="9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313400" y="5357160"/>
              <a:ext cx="19440" cy="99000"/>
            </a:xfrm>
            <a:custGeom>
              <a:avLst/>
              <a:gdLst/>
              <a:ahLst/>
              <a:rect l="l" t="t" r="r" b="b"/>
              <a:pathLst>
                <a:path w="413" h="2071">
                  <a:moveTo>
                    <a:pt x="107" y="0"/>
                  </a:moveTo>
                  <a:lnTo>
                    <a:pt x="0" y="118"/>
                  </a:lnTo>
                  <a:lnTo>
                    <a:pt x="198" y="2071"/>
                  </a:lnTo>
                  <a:lnTo>
                    <a:pt x="413" y="2051"/>
                  </a:lnTo>
                  <a:lnTo>
                    <a:pt x="214" y="97"/>
                  </a:lnTo>
                  <a:lnTo>
                    <a:pt x="107" y="0"/>
                  </a:lnTo>
                  <a:lnTo>
                    <a:pt x="214" y="97"/>
                  </a:lnTo>
                  <a:lnTo>
                    <a:pt x="204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215480" y="5357160"/>
              <a:ext cx="103320" cy="10080"/>
            </a:xfrm>
            <a:custGeom>
              <a:avLst/>
              <a:gdLst/>
              <a:ahLst/>
              <a:rect l="l" t="t" r="r" b="b"/>
              <a:pathLst>
                <a:path w="2133" h="215">
                  <a:moveTo>
                    <a:pt x="0" y="97"/>
                  </a:moveTo>
                  <a:lnTo>
                    <a:pt x="107" y="215"/>
                  </a:lnTo>
                  <a:lnTo>
                    <a:pt x="2133" y="215"/>
                  </a:lnTo>
                  <a:lnTo>
                    <a:pt x="2133" y="0"/>
                  </a:lnTo>
                  <a:lnTo>
                    <a:pt x="107" y="0"/>
                  </a:lnTo>
                  <a:lnTo>
                    <a:pt x="0" y="97"/>
                  </a:lnTo>
                  <a:lnTo>
                    <a:pt x="107" y="0"/>
                  </a:lnTo>
                  <a:lnTo>
                    <a:pt x="1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220880" y="5022360"/>
              <a:ext cx="353880" cy="339840"/>
            </a:xfrm>
            <a:custGeom>
              <a:avLst/>
              <a:gdLst/>
              <a:ahLst/>
              <a:rect l="l" t="t" r="r" b="b"/>
              <a:pathLst>
                <a:path w="7331" h="7027">
                  <a:moveTo>
                    <a:pt x="7331" y="0"/>
                  </a:moveTo>
                  <a:lnTo>
                    <a:pt x="7234" y="71"/>
                  </a:lnTo>
                  <a:lnTo>
                    <a:pt x="7121" y="165"/>
                  </a:lnTo>
                  <a:lnTo>
                    <a:pt x="6993" y="283"/>
                  </a:lnTo>
                  <a:lnTo>
                    <a:pt x="6849" y="423"/>
                  </a:lnTo>
                  <a:lnTo>
                    <a:pt x="6692" y="583"/>
                  </a:lnTo>
                  <a:lnTo>
                    <a:pt x="6524" y="762"/>
                  </a:lnTo>
                  <a:lnTo>
                    <a:pt x="6344" y="959"/>
                  </a:lnTo>
                  <a:lnTo>
                    <a:pt x="6155" y="1170"/>
                  </a:lnTo>
                  <a:lnTo>
                    <a:pt x="5958" y="1397"/>
                  </a:lnTo>
                  <a:lnTo>
                    <a:pt x="5753" y="1636"/>
                  </a:lnTo>
                  <a:lnTo>
                    <a:pt x="5544" y="1886"/>
                  </a:lnTo>
                  <a:lnTo>
                    <a:pt x="5329" y="2146"/>
                  </a:lnTo>
                  <a:lnTo>
                    <a:pt x="5111" y="2414"/>
                  </a:lnTo>
                  <a:lnTo>
                    <a:pt x="4892" y="2688"/>
                  </a:lnTo>
                  <a:lnTo>
                    <a:pt x="4671" y="2968"/>
                  </a:lnTo>
                  <a:lnTo>
                    <a:pt x="4451" y="3252"/>
                  </a:lnTo>
                  <a:lnTo>
                    <a:pt x="4233" y="3537"/>
                  </a:lnTo>
                  <a:lnTo>
                    <a:pt x="4018" y="3823"/>
                  </a:lnTo>
                  <a:lnTo>
                    <a:pt x="3808" y="4108"/>
                  </a:lnTo>
                  <a:lnTo>
                    <a:pt x="3602" y="4390"/>
                  </a:lnTo>
                  <a:lnTo>
                    <a:pt x="3404" y="4669"/>
                  </a:lnTo>
                  <a:lnTo>
                    <a:pt x="3213" y="4941"/>
                  </a:lnTo>
                  <a:lnTo>
                    <a:pt x="3032" y="5208"/>
                  </a:lnTo>
                  <a:lnTo>
                    <a:pt x="2861" y="5464"/>
                  </a:lnTo>
                  <a:lnTo>
                    <a:pt x="2702" y="5711"/>
                  </a:lnTo>
                  <a:lnTo>
                    <a:pt x="2557" y="5947"/>
                  </a:lnTo>
                  <a:lnTo>
                    <a:pt x="2425" y="6169"/>
                  </a:lnTo>
                  <a:lnTo>
                    <a:pt x="2309" y="6376"/>
                  </a:lnTo>
                  <a:lnTo>
                    <a:pt x="2210" y="6566"/>
                  </a:lnTo>
                  <a:lnTo>
                    <a:pt x="2129" y="6740"/>
                  </a:lnTo>
                  <a:lnTo>
                    <a:pt x="2067" y="6894"/>
                  </a:lnTo>
                  <a:lnTo>
                    <a:pt x="2026" y="7027"/>
                  </a:lnTo>
                  <a:lnTo>
                    <a:pt x="0" y="7027"/>
                  </a:lnTo>
                  <a:lnTo>
                    <a:pt x="41" y="6894"/>
                  </a:lnTo>
                  <a:lnTo>
                    <a:pt x="104" y="6740"/>
                  </a:lnTo>
                  <a:lnTo>
                    <a:pt x="185" y="6566"/>
                  </a:lnTo>
                  <a:lnTo>
                    <a:pt x="283" y="6376"/>
                  </a:lnTo>
                  <a:lnTo>
                    <a:pt x="399" y="6169"/>
                  </a:lnTo>
                  <a:lnTo>
                    <a:pt x="531" y="5947"/>
                  </a:lnTo>
                  <a:lnTo>
                    <a:pt x="677" y="5711"/>
                  </a:lnTo>
                  <a:lnTo>
                    <a:pt x="835" y="5464"/>
                  </a:lnTo>
                  <a:lnTo>
                    <a:pt x="1007" y="5208"/>
                  </a:lnTo>
                  <a:lnTo>
                    <a:pt x="1187" y="4941"/>
                  </a:lnTo>
                  <a:lnTo>
                    <a:pt x="1378" y="4669"/>
                  </a:lnTo>
                  <a:lnTo>
                    <a:pt x="1576" y="4390"/>
                  </a:lnTo>
                  <a:lnTo>
                    <a:pt x="1782" y="4108"/>
                  </a:lnTo>
                  <a:lnTo>
                    <a:pt x="1992" y="3823"/>
                  </a:lnTo>
                  <a:lnTo>
                    <a:pt x="2207" y="3537"/>
                  </a:lnTo>
                  <a:lnTo>
                    <a:pt x="2426" y="3252"/>
                  </a:lnTo>
                  <a:lnTo>
                    <a:pt x="2645" y="2968"/>
                  </a:lnTo>
                  <a:lnTo>
                    <a:pt x="2866" y="2688"/>
                  </a:lnTo>
                  <a:lnTo>
                    <a:pt x="3085" y="2414"/>
                  </a:lnTo>
                  <a:lnTo>
                    <a:pt x="3303" y="2146"/>
                  </a:lnTo>
                  <a:lnTo>
                    <a:pt x="3518" y="1886"/>
                  </a:lnTo>
                  <a:lnTo>
                    <a:pt x="3728" y="1636"/>
                  </a:lnTo>
                  <a:lnTo>
                    <a:pt x="3932" y="1397"/>
                  </a:lnTo>
                  <a:lnTo>
                    <a:pt x="4129" y="1170"/>
                  </a:lnTo>
                  <a:lnTo>
                    <a:pt x="4318" y="959"/>
                  </a:lnTo>
                  <a:lnTo>
                    <a:pt x="4498" y="762"/>
                  </a:lnTo>
                  <a:lnTo>
                    <a:pt x="4667" y="583"/>
                  </a:lnTo>
                  <a:lnTo>
                    <a:pt x="4824" y="423"/>
                  </a:lnTo>
                  <a:lnTo>
                    <a:pt x="4967" y="283"/>
                  </a:lnTo>
                  <a:lnTo>
                    <a:pt x="5097" y="165"/>
                  </a:lnTo>
                  <a:lnTo>
                    <a:pt x="5210" y="71"/>
                  </a:lnTo>
                  <a:lnTo>
                    <a:pt x="5306" y="0"/>
                  </a:lnTo>
                  <a:lnTo>
                    <a:pt x="7331" y="0"/>
                  </a:lnTo>
                  <a:close/>
                </a:path>
              </a:pathLst>
            </a:cu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313400" y="5017320"/>
              <a:ext cx="264960" cy="349920"/>
            </a:xfrm>
            <a:custGeom>
              <a:avLst/>
              <a:gdLst/>
              <a:ahLst/>
              <a:rect l="l" t="t" r="r" b="b"/>
              <a:pathLst>
                <a:path w="5468" h="7223">
                  <a:moveTo>
                    <a:pt x="104" y="7223"/>
                  </a:moveTo>
                  <a:lnTo>
                    <a:pt x="208" y="7142"/>
                  </a:lnTo>
                  <a:lnTo>
                    <a:pt x="216" y="7114"/>
                  </a:lnTo>
                  <a:lnTo>
                    <a:pt x="225" y="7083"/>
                  </a:lnTo>
                  <a:lnTo>
                    <a:pt x="234" y="7052"/>
                  </a:lnTo>
                  <a:lnTo>
                    <a:pt x="247" y="7019"/>
                  </a:lnTo>
                  <a:lnTo>
                    <a:pt x="259" y="6984"/>
                  </a:lnTo>
                  <a:lnTo>
                    <a:pt x="274" y="6948"/>
                  </a:lnTo>
                  <a:lnTo>
                    <a:pt x="289" y="6910"/>
                  </a:lnTo>
                  <a:lnTo>
                    <a:pt x="306" y="6872"/>
                  </a:lnTo>
                  <a:lnTo>
                    <a:pt x="324" y="6832"/>
                  </a:lnTo>
                  <a:lnTo>
                    <a:pt x="342" y="6790"/>
                  </a:lnTo>
                  <a:lnTo>
                    <a:pt x="363" y="6748"/>
                  </a:lnTo>
                  <a:lnTo>
                    <a:pt x="384" y="6703"/>
                  </a:lnTo>
                  <a:lnTo>
                    <a:pt x="432" y="6611"/>
                  </a:lnTo>
                  <a:lnTo>
                    <a:pt x="482" y="6516"/>
                  </a:lnTo>
                  <a:lnTo>
                    <a:pt x="537" y="6415"/>
                  </a:lnTo>
                  <a:lnTo>
                    <a:pt x="597" y="6310"/>
                  </a:lnTo>
                  <a:lnTo>
                    <a:pt x="660" y="6203"/>
                  </a:lnTo>
                  <a:lnTo>
                    <a:pt x="726" y="6091"/>
                  </a:lnTo>
                  <a:lnTo>
                    <a:pt x="797" y="5976"/>
                  </a:lnTo>
                  <a:lnTo>
                    <a:pt x="872" y="5857"/>
                  </a:lnTo>
                  <a:lnTo>
                    <a:pt x="949" y="5736"/>
                  </a:lnTo>
                  <a:lnTo>
                    <a:pt x="1029" y="5612"/>
                  </a:lnTo>
                  <a:lnTo>
                    <a:pt x="1113" y="5485"/>
                  </a:lnTo>
                  <a:lnTo>
                    <a:pt x="1200" y="5356"/>
                  </a:lnTo>
                  <a:lnTo>
                    <a:pt x="1288" y="5225"/>
                  </a:lnTo>
                  <a:lnTo>
                    <a:pt x="1380" y="5092"/>
                  </a:lnTo>
                  <a:lnTo>
                    <a:pt x="1474" y="4957"/>
                  </a:lnTo>
                  <a:lnTo>
                    <a:pt x="1570" y="4820"/>
                  </a:lnTo>
                  <a:lnTo>
                    <a:pt x="1668" y="4681"/>
                  </a:lnTo>
                  <a:lnTo>
                    <a:pt x="1767" y="4542"/>
                  </a:lnTo>
                  <a:lnTo>
                    <a:pt x="1869" y="4402"/>
                  </a:lnTo>
                  <a:lnTo>
                    <a:pt x="1972" y="4260"/>
                  </a:lnTo>
                  <a:lnTo>
                    <a:pt x="2077" y="4118"/>
                  </a:lnTo>
                  <a:lnTo>
                    <a:pt x="2182" y="3977"/>
                  </a:lnTo>
                  <a:lnTo>
                    <a:pt x="2289" y="3833"/>
                  </a:lnTo>
                  <a:lnTo>
                    <a:pt x="2397" y="3692"/>
                  </a:lnTo>
                  <a:lnTo>
                    <a:pt x="2505" y="3548"/>
                  </a:lnTo>
                  <a:lnTo>
                    <a:pt x="2614" y="3407"/>
                  </a:lnTo>
                  <a:lnTo>
                    <a:pt x="2724" y="3265"/>
                  </a:lnTo>
                  <a:lnTo>
                    <a:pt x="2834" y="3124"/>
                  </a:lnTo>
                  <a:lnTo>
                    <a:pt x="2944" y="2984"/>
                  </a:lnTo>
                  <a:lnTo>
                    <a:pt x="3054" y="2845"/>
                  </a:lnTo>
                  <a:lnTo>
                    <a:pt x="3164" y="2707"/>
                  </a:lnTo>
                  <a:lnTo>
                    <a:pt x="3273" y="2570"/>
                  </a:lnTo>
                  <a:lnTo>
                    <a:pt x="3382" y="2437"/>
                  </a:lnTo>
                  <a:lnTo>
                    <a:pt x="3490" y="2303"/>
                  </a:lnTo>
                  <a:lnTo>
                    <a:pt x="3598" y="2172"/>
                  </a:lnTo>
                  <a:lnTo>
                    <a:pt x="3704" y="2044"/>
                  </a:lnTo>
                  <a:lnTo>
                    <a:pt x="3810" y="1917"/>
                  </a:lnTo>
                  <a:lnTo>
                    <a:pt x="3913" y="1794"/>
                  </a:lnTo>
                  <a:lnTo>
                    <a:pt x="4016" y="1674"/>
                  </a:lnTo>
                  <a:lnTo>
                    <a:pt x="4117" y="1557"/>
                  </a:lnTo>
                  <a:lnTo>
                    <a:pt x="4217" y="1442"/>
                  </a:lnTo>
                  <a:lnTo>
                    <a:pt x="4314" y="1331"/>
                  </a:lnTo>
                  <a:lnTo>
                    <a:pt x="4409" y="1223"/>
                  </a:lnTo>
                  <a:lnTo>
                    <a:pt x="4502" y="1119"/>
                  </a:lnTo>
                  <a:lnTo>
                    <a:pt x="4592" y="1020"/>
                  </a:lnTo>
                  <a:lnTo>
                    <a:pt x="4680" y="924"/>
                  </a:lnTo>
                  <a:lnTo>
                    <a:pt x="4766" y="833"/>
                  </a:lnTo>
                  <a:lnTo>
                    <a:pt x="4848" y="746"/>
                  </a:lnTo>
                  <a:lnTo>
                    <a:pt x="4927" y="664"/>
                  </a:lnTo>
                  <a:lnTo>
                    <a:pt x="5003" y="588"/>
                  </a:lnTo>
                  <a:lnTo>
                    <a:pt x="5076" y="516"/>
                  </a:lnTo>
                  <a:lnTo>
                    <a:pt x="5144" y="450"/>
                  </a:lnTo>
                  <a:lnTo>
                    <a:pt x="5210" y="390"/>
                  </a:lnTo>
                  <a:lnTo>
                    <a:pt x="5271" y="335"/>
                  </a:lnTo>
                  <a:lnTo>
                    <a:pt x="5327" y="286"/>
                  </a:lnTo>
                  <a:lnTo>
                    <a:pt x="5380" y="244"/>
                  </a:lnTo>
                  <a:lnTo>
                    <a:pt x="5403" y="225"/>
                  </a:lnTo>
                  <a:lnTo>
                    <a:pt x="5427" y="208"/>
                  </a:lnTo>
                  <a:lnTo>
                    <a:pt x="5447" y="193"/>
                  </a:lnTo>
                  <a:lnTo>
                    <a:pt x="5468" y="179"/>
                  </a:lnTo>
                  <a:lnTo>
                    <a:pt x="5351" y="0"/>
                  </a:lnTo>
                  <a:lnTo>
                    <a:pt x="5326" y="17"/>
                  </a:lnTo>
                  <a:lnTo>
                    <a:pt x="5300" y="34"/>
                  </a:lnTo>
                  <a:lnTo>
                    <a:pt x="5273" y="54"/>
                  </a:lnTo>
                  <a:lnTo>
                    <a:pt x="5246" y="76"/>
                  </a:lnTo>
                  <a:lnTo>
                    <a:pt x="5189" y="121"/>
                  </a:lnTo>
                  <a:lnTo>
                    <a:pt x="5128" y="173"/>
                  </a:lnTo>
                  <a:lnTo>
                    <a:pt x="5064" y="231"/>
                  </a:lnTo>
                  <a:lnTo>
                    <a:pt x="4996" y="294"/>
                  </a:lnTo>
                  <a:lnTo>
                    <a:pt x="4925" y="363"/>
                  </a:lnTo>
                  <a:lnTo>
                    <a:pt x="4851" y="436"/>
                  </a:lnTo>
                  <a:lnTo>
                    <a:pt x="4773" y="515"/>
                  </a:lnTo>
                  <a:lnTo>
                    <a:pt x="4693" y="598"/>
                  </a:lnTo>
                  <a:lnTo>
                    <a:pt x="4609" y="686"/>
                  </a:lnTo>
                  <a:lnTo>
                    <a:pt x="4523" y="778"/>
                  </a:lnTo>
                  <a:lnTo>
                    <a:pt x="4433" y="875"/>
                  </a:lnTo>
                  <a:lnTo>
                    <a:pt x="4342" y="975"/>
                  </a:lnTo>
                  <a:lnTo>
                    <a:pt x="4248" y="1080"/>
                  </a:lnTo>
                  <a:lnTo>
                    <a:pt x="4152" y="1189"/>
                  </a:lnTo>
                  <a:lnTo>
                    <a:pt x="4054" y="1301"/>
                  </a:lnTo>
                  <a:lnTo>
                    <a:pt x="3954" y="1416"/>
                  </a:lnTo>
                  <a:lnTo>
                    <a:pt x="3852" y="1534"/>
                  </a:lnTo>
                  <a:lnTo>
                    <a:pt x="3750" y="1655"/>
                  </a:lnTo>
                  <a:lnTo>
                    <a:pt x="3645" y="1779"/>
                  </a:lnTo>
                  <a:lnTo>
                    <a:pt x="3539" y="1907"/>
                  </a:lnTo>
                  <a:lnTo>
                    <a:pt x="3432" y="2036"/>
                  </a:lnTo>
                  <a:lnTo>
                    <a:pt x="3324" y="2167"/>
                  </a:lnTo>
                  <a:lnTo>
                    <a:pt x="3215" y="2301"/>
                  </a:lnTo>
                  <a:lnTo>
                    <a:pt x="3105" y="2435"/>
                  </a:lnTo>
                  <a:lnTo>
                    <a:pt x="2995" y="2573"/>
                  </a:lnTo>
                  <a:lnTo>
                    <a:pt x="2885" y="2711"/>
                  </a:lnTo>
                  <a:lnTo>
                    <a:pt x="2775" y="2851"/>
                  </a:lnTo>
                  <a:lnTo>
                    <a:pt x="2665" y="2992"/>
                  </a:lnTo>
                  <a:lnTo>
                    <a:pt x="2554" y="3133"/>
                  </a:lnTo>
                  <a:lnTo>
                    <a:pt x="2444" y="3275"/>
                  </a:lnTo>
                  <a:lnTo>
                    <a:pt x="2335" y="3418"/>
                  </a:lnTo>
                  <a:lnTo>
                    <a:pt x="2225" y="3562"/>
                  </a:lnTo>
                  <a:lnTo>
                    <a:pt x="2117" y="3705"/>
                  </a:lnTo>
                  <a:lnTo>
                    <a:pt x="2010" y="3848"/>
                  </a:lnTo>
                  <a:lnTo>
                    <a:pt x="1904" y="3991"/>
                  </a:lnTo>
                  <a:lnTo>
                    <a:pt x="1798" y="4134"/>
                  </a:lnTo>
                  <a:lnTo>
                    <a:pt x="1695" y="4276"/>
                  </a:lnTo>
                  <a:lnTo>
                    <a:pt x="1593" y="4417"/>
                  </a:lnTo>
                  <a:lnTo>
                    <a:pt x="1492" y="4557"/>
                  </a:lnTo>
                  <a:lnTo>
                    <a:pt x="1394" y="4696"/>
                  </a:lnTo>
                  <a:lnTo>
                    <a:pt x="1297" y="4834"/>
                  </a:lnTo>
                  <a:lnTo>
                    <a:pt x="1203" y="4969"/>
                  </a:lnTo>
                  <a:lnTo>
                    <a:pt x="1110" y="5104"/>
                  </a:lnTo>
                  <a:lnTo>
                    <a:pt x="1021" y="5237"/>
                  </a:lnTo>
                  <a:lnTo>
                    <a:pt x="934" y="5366"/>
                  </a:lnTo>
                  <a:lnTo>
                    <a:pt x="850" y="5495"/>
                  </a:lnTo>
                  <a:lnTo>
                    <a:pt x="768" y="5620"/>
                  </a:lnTo>
                  <a:lnTo>
                    <a:pt x="690" y="5743"/>
                  </a:lnTo>
                  <a:lnTo>
                    <a:pt x="614" y="5863"/>
                  </a:lnTo>
                  <a:lnTo>
                    <a:pt x="543" y="5980"/>
                  </a:lnTo>
                  <a:lnTo>
                    <a:pt x="474" y="6094"/>
                  </a:lnTo>
                  <a:lnTo>
                    <a:pt x="410" y="6204"/>
                  </a:lnTo>
                  <a:lnTo>
                    <a:pt x="350" y="6310"/>
                  </a:lnTo>
                  <a:lnTo>
                    <a:pt x="293" y="6414"/>
                  </a:lnTo>
                  <a:lnTo>
                    <a:pt x="240" y="6513"/>
                  </a:lnTo>
                  <a:lnTo>
                    <a:pt x="192" y="6608"/>
                  </a:lnTo>
                  <a:lnTo>
                    <a:pt x="169" y="6653"/>
                  </a:lnTo>
                  <a:lnTo>
                    <a:pt x="148" y="6699"/>
                  </a:lnTo>
                  <a:lnTo>
                    <a:pt x="128" y="6743"/>
                  </a:lnTo>
                  <a:lnTo>
                    <a:pt x="109" y="6786"/>
                  </a:lnTo>
                  <a:lnTo>
                    <a:pt x="90" y="6827"/>
                  </a:lnTo>
                  <a:lnTo>
                    <a:pt x="74" y="6868"/>
                  </a:lnTo>
                  <a:lnTo>
                    <a:pt x="58" y="6908"/>
                  </a:lnTo>
                  <a:lnTo>
                    <a:pt x="43" y="6947"/>
                  </a:lnTo>
                  <a:lnTo>
                    <a:pt x="31" y="6984"/>
                  </a:lnTo>
                  <a:lnTo>
                    <a:pt x="20" y="7020"/>
                  </a:lnTo>
                  <a:lnTo>
                    <a:pt x="9" y="7055"/>
                  </a:lnTo>
                  <a:lnTo>
                    <a:pt x="0" y="7090"/>
                  </a:lnTo>
                  <a:lnTo>
                    <a:pt x="104" y="7008"/>
                  </a:lnTo>
                  <a:lnTo>
                    <a:pt x="104" y="7223"/>
                  </a:lnTo>
                  <a:lnTo>
                    <a:pt x="188" y="7223"/>
                  </a:lnTo>
                  <a:lnTo>
                    <a:pt x="208" y="7142"/>
                  </a:lnTo>
                  <a:lnTo>
                    <a:pt x="104" y="722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214400" y="5357160"/>
              <a:ext cx="104400" cy="10080"/>
            </a:xfrm>
            <a:custGeom>
              <a:avLst/>
              <a:gdLst/>
              <a:ahLst/>
              <a:rect l="l" t="t" r="r" b="b"/>
              <a:pathLst>
                <a:path w="2163" h="215">
                  <a:moveTo>
                    <a:pt x="33" y="82"/>
                  </a:moveTo>
                  <a:lnTo>
                    <a:pt x="137" y="215"/>
                  </a:lnTo>
                  <a:lnTo>
                    <a:pt x="2163" y="215"/>
                  </a:lnTo>
                  <a:lnTo>
                    <a:pt x="2163" y="0"/>
                  </a:lnTo>
                  <a:lnTo>
                    <a:pt x="137" y="0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0" y="215"/>
                  </a:lnTo>
                  <a:lnTo>
                    <a:pt x="137" y="215"/>
                  </a:lnTo>
                  <a:lnTo>
                    <a:pt x="33" y="8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7215480" y="5017320"/>
              <a:ext cx="265320" cy="346320"/>
            </a:xfrm>
            <a:custGeom>
              <a:avLst/>
              <a:gdLst/>
              <a:ahLst/>
              <a:rect l="l" t="t" r="r" b="b"/>
              <a:pathLst>
                <a:path w="5468" h="7160">
                  <a:moveTo>
                    <a:pt x="5410" y="0"/>
                  </a:moveTo>
                  <a:lnTo>
                    <a:pt x="5351" y="18"/>
                  </a:lnTo>
                  <a:lnTo>
                    <a:pt x="5326" y="35"/>
                  </a:lnTo>
                  <a:lnTo>
                    <a:pt x="5300" y="52"/>
                  </a:lnTo>
                  <a:lnTo>
                    <a:pt x="5274" y="72"/>
                  </a:lnTo>
                  <a:lnTo>
                    <a:pt x="5246" y="94"/>
                  </a:lnTo>
                  <a:lnTo>
                    <a:pt x="5190" y="139"/>
                  </a:lnTo>
                  <a:lnTo>
                    <a:pt x="5129" y="191"/>
                  </a:lnTo>
                  <a:lnTo>
                    <a:pt x="5065" y="249"/>
                  </a:lnTo>
                  <a:lnTo>
                    <a:pt x="4997" y="312"/>
                  </a:lnTo>
                  <a:lnTo>
                    <a:pt x="4926" y="381"/>
                  </a:lnTo>
                  <a:lnTo>
                    <a:pt x="4852" y="454"/>
                  </a:lnTo>
                  <a:lnTo>
                    <a:pt x="4774" y="533"/>
                  </a:lnTo>
                  <a:lnTo>
                    <a:pt x="4693" y="616"/>
                  </a:lnTo>
                  <a:lnTo>
                    <a:pt x="4609" y="704"/>
                  </a:lnTo>
                  <a:lnTo>
                    <a:pt x="4523" y="796"/>
                  </a:lnTo>
                  <a:lnTo>
                    <a:pt x="4434" y="893"/>
                  </a:lnTo>
                  <a:lnTo>
                    <a:pt x="4342" y="993"/>
                  </a:lnTo>
                  <a:lnTo>
                    <a:pt x="4249" y="1098"/>
                  </a:lnTo>
                  <a:lnTo>
                    <a:pt x="4152" y="1207"/>
                  </a:lnTo>
                  <a:lnTo>
                    <a:pt x="4055" y="1319"/>
                  </a:lnTo>
                  <a:lnTo>
                    <a:pt x="3955" y="1434"/>
                  </a:lnTo>
                  <a:lnTo>
                    <a:pt x="3853" y="1552"/>
                  </a:lnTo>
                  <a:lnTo>
                    <a:pt x="3750" y="1673"/>
                  </a:lnTo>
                  <a:lnTo>
                    <a:pt x="3645" y="1797"/>
                  </a:lnTo>
                  <a:lnTo>
                    <a:pt x="3539" y="1925"/>
                  </a:lnTo>
                  <a:lnTo>
                    <a:pt x="3432" y="2054"/>
                  </a:lnTo>
                  <a:lnTo>
                    <a:pt x="3324" y="2185"/>
                  </a:lnTo>
                  <a:lnTo>
                    <a:pt x="3215" y="2319"/>
                  </a:lnTo>
                  <a:lnTo>
                    <a:pt x="3106" y="2453"/>
                  </a:lnTo>
                  <a:lnTo>
                    <a:pt x="2996" y="2591"/>
                  </a:lnTo>
                  <a:lnTo>
                    <a:pt x="2886" y="2729"/>
                  </a:lnTo>
                  <a:lnTo>
                    <a:pt x="2775" y="2869"/>
                  </a:lnTo>
                  <a:lnTo>
                    <a:pt x="2665" y="3010"/>
                  </a:lnTo>
                  <a:lnTo>
                    <a:pt x="2554" y="3151"/>
                  </a:lnTo>
                  <a:lnTo>
                    <a:pt x="2445" y="3293"/>
                  </a:lnTo>
                  <a:lnTo>
                    <a:pt x="2335" y="3436"/>
                  </a:lnTo>
                  <a:lnTo>
                    <a:pt x="2226" y="3580"/>
                  </a:lnTo>
                  <a:lnTo>
                    <a:pt x="2117" y="3723"/>
                  </a:lnTo>
                  <a:lnTo>
                    <a:pt x="2010" y="3866"/>
                  </a:lnTo>
                  <a:lnTo>
                    <a:pt x="1904" y="4009"/>
                  </a:lnTo>
                  <a:lnTo>
                    <a:pt x="1799" y="4152"/>
                  </a:lnTo>
                  <a:lnTo>
                    <a:pt x="1695" y="4294"/>
                  </a:lnTo>
                  <a:lnTo>
                    <a:pt x="1593" y="4435"/>
                  </a:lnTo>
                  <a:lnTo>
                    <a:pt x="1492" y="4575"/>
                  </a:lnTo>
                  <a:lnTo>
                    <a:pt x="1394" y="4714"/>
                  </a:lnTo>
                  <a:lnTo>
                    <a:pt x="1297" y="4852"/>
                  </a:lnTo>
                  <a:lnTo>
                    <a:pt x="1203" y="4987"/>
                  </a:lnTo>
                  <a:lnTo>
                    <a:pt x="1111" y="5122"/>
                  </a:lnTo>
                  <a:lnTo>
                    <a:pt x="1021" y="5255"/>
                  </a:lnTo>
                  <a:lnTo>
                    <a:pt x="934" y="5384"/>
                  </a:lnTo>
                  <a:lnTo>
                    <a:pt x="850" y="5513"/>
                  </a:lnTo>
                  <a:lnTo>
                    <a:pt x="768" y="5638"/>
                  </a:lnTo>
                  <a:lnTo>
                    <a:pt x="690" y="5761"/>
                  </a:lnTo>
                  <a:lnTo>
                    <a:pt x="614" y="5881"/>
                  </a:lnTo>
                  <a:lnTo>
                    <a:pt x="543" y="5998"/>
                  </a:lnTo>
                  <a:lnTo>
                    <a:pt x="474" y="6112"/>
                  </a:lnTo>
                  <a:lnTo>
                    <a:pt x="410" y="6222"/>
                  </a:lnTo>
                  <a:lnTo>
                    <a:pt x="350" y="6328"/>
                  </a:lnTo>
                  <a:lnTo>
                    <a:pt x="293" y="6432"/>
                  </a:lnTo>
                  <a:lnTo>
                    <a:pt x="240" y="6531"/>
                  </a:lnTo>
                  <a:lnTo>
                    <a:pt x="192" y="6626"/>
                  </a:lnTo>
                  <a:lnTo>
                    <a:pt x="169" y="6671"/>
                  </a:lnTo>
                  <a:lnTo>
                    <a:pt x="148" y="6717"/>
                  </a:lnTo>
                  <a:lnTo>
                    <a:pt x="128" y="6761"/>
                  </a:lnTo>
                  <a:lnTo>
                    <a:pt x="109" y="6804"/>
                  </a:lnTo>
                  <a:lnTo>
                    <a:pt x="90" y="6845"/>
                  </a:lnTo>
                  <a:lnTo>
                    <a:pt x="74" y="6886"/>
                  </a:lnTo>
                  <a:lnTo>
                    <a:pt x="58" y="6926"/>
                  </a:lnTo>
                  <a:lnTo>
                    <a:pt x="44" y="6965"/>
                  </a:lnTo>
                  <a:lnTo>
                    <a:pt x="31" y="7002"/>
                  </a:lnTo>
                  <a:lnTo>
                    <a:pt x="20" y="7038"/>
                  </a:lnTo>
                  <a:lnTo>
                    <a:pt x="8" y="7073"/>
                  </a:lnTo>
                  <a:lnTo>
                    <a:pt x="0" y="7108"/>
                  </a:lnTo>
                  <a:lnTo>
                    <a:pt x="209" y="7160"/>
                  </a:lnTo>
                  <a:lnTo>
                    <a:pt x="216" y="7132"/>
                  </a:lnTo>
                  <a:lnTo>
                    <a:pt x="225" y="7101"/>
                  </a:lnTo>
                  <a:lnTo>
                    <a:pt x="235" y="7070"/>
                  </a:lnTo>
                  <a:lnTo>
                    <a:pt x="247" y="7037"/>
                  </a:lnTo>
                  <a:lnTo>
                    <a:pt x="260" y="7002"/>
                  </a:lnTo>
                  <a:lnTo>
                    <a:pt x="274" y="6966"/>
                  </a:lnTo>
                  <a:lnTo>
                    <a:pt x="290" y="6928"/>
                  </a:lnTo>
                  <a:lnTo>
                    <a:pt x="306" y="6890"/>
                  </a:lnTo>
                  <a:lnTo>
                    <a:pt x="324" y="6850"/>
                  </a:lnTo>
                  <a:lnTo>
                    <a:pt x="343" y="6808"/>
                  </a:lnTo>
                  <a:lnTo>
                    <a:pt x="363" y="6766"/>
                  </a:lnTo>
                  <a:lnTo>
                    <a:pt x="384" y="6721"/>
                  </a:lnTo>
                  <a:lnTo>
                    <a:pt x="432" y="6629"/>
                  </a:lnTo>
                  <a:lnTo>
                    <a:pt x="483" y="6534"/>
                  </a:lnTo>
                  <a:lnTo>
                    <a:pt x="538" y="6433"/>
                  </a:lnTo>
                  <a:lnTo>
                    <a:pt x="597" y="6328"/>
                  </a:lnTo>
                  <a:lnTo>
                    <a:pt x="660" y="6221"/>
                  </a:lnTo>
                  <a:lnTo>
                    <a:pt x="727" y="6109"/>
                  </a:lnTo>
                  <a:lnTo>
                    <a:pt x="797" y="5994"/>
                  </a:lnTo>
                  <a:lnTo>
                    <a:pt x="872" y="5875"/>
                  </a:lnTo>
                  <a:lnTo>
                    <a:pt x="950" y="5754"/>
                  </a:lnTo>
                  <a:lnTo>
                    <a:pt x="1030" y="5630"/>
                  </a:lnTo>
                  <a:lnTo>
                    <a:pt x="1114" y="5503"/>
                  </a:lnTo>
                  <a:lnTo>
                    <a:pt x="1200" y="5374"/>
                  </a:lnTo>
                  <a:lnTo>
                    <a:pt x="1288" y="5243"/>
                  </a:lnTo>
                  <a:lnTo>
                    <a:pt x="1380" y="5110"/>
                  </a:lnTo>
                  <a:lnTo>
                    <a:pt x="1474" y="4975"/>
                  </a:lnTo>
                  <a:lnTo>
                    <a:pt x="1570" y="4838"/>
                  </a:lnTo>
                  <a:lnTo>
                    <a:pt x="1668" y="4699"/>
                  </a:lnTo>
                  <a:lnTo>
                    <a:pt x="1767" y="4560"/>
                  </a:lnTo>
                  <a:lnTo>
                    <a:pt x="1869" y="4420"/>
                  </a:lnTo>
                  <a:lnTo>
                    <a:pt x="1973" y="4278"/>
                  </a:lnTo>
                  <a:lnTo>
                    <a:pt x="2077" y="4136"/>
                  </a:lnTo>
                  <a:lnTo>
                    <a:pt x="2183" y="3995"/>
                  </a:lnTo>
                  <a:lnTo>
                    <a:pt x="2289" y="3851"/>
                  </a:lnTo>
                  <a:lnTo>
                    <a:pt x="2397" y="3710"/>
                  </a:lnTo>
                  <a:lnTo>
                    <a:pt x="2506" y="3566"/>
                  </a:lnTo>
                  <a:lnTo>
                    <a:pt x="2615" y="3425"/>
                  </a:lnTo>
                  <a:lnTo>
                    <a:pt x="2724" y="3283"/>
                  </a:lnTo>
                  <a:lnTo>
                    <a:pt x="2834" y="3142"/>
                  </a:lnTo>
                  <a:lnTo>
                    <a:pt x="2944" y="3002"/>
                  </a:lnTo>
                  <a:lnTo>
                    <a:pt x="3054" y="2863"/>
                  </a:lnTo>
                  <a:lnTo>
                    <a:pt x="3164" y="2725"/>
                  </a:lnTo>
                  <a:lnTo>
                    <a:pt x="3273" y="2588"/>
                  </a:lnTo>
                  <a:lnTo>
                    <a:pt x="3382" y="2455"/>
                  </a:lnTo>
                  <a:lnTo>
                    <a:pt x="3491" y="2321"/>
                  </a:lnTo>
                  <a:lnTo>
                    <a:pt x="3598" y="2190"/>
                  </a:lnTo>
                  <a:lnTo>
                    <a:pt x="3704" y="2062"/>
                  </a:lnTo>
                  <a:lnTo>
                    <a:pt x="3810" y="1935"/>
                  </a:lnTo>
                  <a:lnTo>
                    <a:pt x="3914" y="1812"/>
                  </a:lnTo>
                  <a:lnTo>
                    <a:pt x="4016" y="1692"/>
                  </a:lnTo>
                  <a:lnTo>
                    <a:pt x="4117" y="1575"/>
                  </a:lnTo>
                  <a:lnTo>
                    <a:pt x="4217" y="1460"/>
                  </a:lnTo>
                  <a:lnTo>
                    <a:pt x="4314" y="1349"/>
                  </a:lnTo>
                  <a:lnTo>
                    <a:pt x="4410" y="1241"/>
                  </a:lnTo>
                  <a:lnTo>
                    <a:pt x="4502" y="1137"/>
                  </a:lnTo>
                  <a:lnTo>
                    <a:pt x="4593" y="1038"/>
                  </a:lnTo>
                  <a:lnTo>
                    <a:pt x="4681" y="942"/>
                  </a:lnTo>
                  <a:lnTo>
                    <a:pt x="4766" y="851"/>
                  </a:lnTo>
                  <a:lnTo>
                    <a:pt x="4849" y="764"/>
                  </a:lnTo>
                  <a:lnTo>
                    <a:pt x="4928" y="682"/>
                  </a:lnTo>
                  <a:lnTo>
                    <a:pt x="5003" y="606"/>
                  </a:lnTo>
                  <a:lnTo>
                    <a:pt x="5076" y="534"/>
                  </a:lnTo>
                  <a:lnTo>
                    <a:pt x="5146" y="468"/>
                  </a:lnTo>
                  <a:lnTo>
                    <a:pt x="5210" y="408"/>
                  </a:lnTo>
                  <a:lnTo>
                    <a:pt x="5271" y="353"/>
                  </a:lnTo>
                  <a:lnTo>
                    <a:pt x="5328" y="304"/>
                  </a:lnTo>
                  <a:lnTo>
                    <a:pt x="5380" y="262"/>
                  </a:lnTo>
                  <a:lnTo>
                    <a:pt x="5404" y="243"/>
                  </a:lnTo>
                  <a:lnTo>
                    <a:pt x="5427" y="226"/>
                  </a:lnTo>
                  <a:lnTo>
                    <a:pt x="5449" y="211"/>
                  </a:lnTo>
                  <a:lnTo>
                    <a:pt x="5468" y="197"/>
                  </a:lnTo>
                  <a:lnTo>
                    <a:pt x="5410" y="215"/>
                  </a:lnTo>
                  <a:lnTo>
                    <a:pt x="5410" y="0"/>
                  </a:lnTo>
                  <a:lnTo>
                    <a:pt x="5378" y="0"/>
                  </a:lnTo>
                  <a:lnTo>
                    <a:pt x="5351" y="18"/>
                  </a:lnTo>
                  <a:lnTo>
                    <a:pt x="5410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476480" y="5017320"/>
              <a:ext cx="116280" cy="10080"/>
            </a:xfrm>
            <a:custGeom>
              <a:avLst/>
              <a:gdLst/>
              <a:ahLst/>
              <a:rect l="l" t="t" r="r" b="b"/>
              <a:pathLst>
                <a:path w="2382" h="215">
                  <a:moveTo>
                    <a:pt x="2084" y="197"/>
                  </a:moveTo>
                  <a:lnTo>
                    <a:pt x="2025" y="0"/>
                  </a:lnTo>
                  <a:lnTo>
                    <a:pt x="0" y="0"/>
                  </a:lnTo>
                  <a:lnTo>
                    <a:pt x="0" y="215"/>
                  </a:lnTo>
                  <a:lnTo>
                    <a:pt x="2025" y="215"/>
                  </a:lnTo>
                  <a:lnTo>
                    <a:pt x="2084" y="197"/>
                  </a:lnTo>
                  <a:lnTo>
                    <a:pt x="2084" y="197"/>
                  </a:lnTo>
                  <a:lnTo>
                    <a:pt x="2382" y="0"/>
                  </a:lnTo>
                  <a:lnTo>
                    <a:pt x="2025" y="0"/>
                  </a:lnTo>
                  <a:lnTo>
                    <a:pt x="2084" y="19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392960" y="5413680"/>
              <a:ext cx="48240" cy="19440"/>
            </a:xfrm>
            <a:custGeom>
              <a:avLst/>
              <a:gdLst/>
              <a:ahLst/>
              <a:rect l="l" t="t" r="r" b="b"/>
              <a:pathLst>
                <a:path w="1009" h="404">
                  <a:moveTo>
                    <a:pt x="659" y="404"/>
                  </a:moveTo>
                  <a:lnTo>
                    <a:pt x="0" y="404"/>
                  </a:lnTo>
                  <a:lnTo>
                    <a:pt x="349" y="0"/>
                  </a:lnTo>
                  <a:lnTo>
                    <a:pt x="1009" y="0"/>
                  </a:lnTo>
                  <a:lnTo>
                    <a:pt x="659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392960" y="5413680"/>
              <a:ext cx="48240" cy="19440"/>
            </a:xfrm>
            <a:custGeom>
              <a:avLst/>
              <a:gdLst/>
              <a:ahLst/>
              <a:rect l="l" t="t" r="r" b="b"/>
              <a:pathLst>
                <a:path w="1009" h="404">
                  <a:moveTo>
                    <a:pt x="659" y="404"/>
                  </a:moveTo>
                  <a:lnTo>
                    <a:pt x="0" y="404"/>
                  </a:lnTo>
                  <a:lnTo>
                    <a:pt x="349" y="0"/>
                  </a:lnTo>
                  <a:lnTo>
                    <a:pt x="1009" y="0"/>
                  </a:lnTo>
                  <a:lnTo>
                    <a:pt x="659" y="404"/>
                  </a:lnTo>
                  <a:close/>
                </a:path>
              </a:pathLst>
            </a:custGeom>
            <a:noFill/>
            <a:ln w="93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471440" y="5413680"/>
              <a:ext cx="48240" cy="19440"/>
            </a:xfrm>
            <a:custGeom>
              <a:avLst/>
              <a:gdLst/>
              <a:ahLst/>
              <a:rect l="l" t="t" r="r" b="b"/>
              <a:pathLst>
                <a:path w="1009" h="404">
                  <a:moveTo>
                    <a:pt x="660" y="404"/>
                  </a:moveTo>
                  <a:lnTo>
                    <a:pt x="0" y="404"/>
                  </a:lnTo>
                  <a:lnTo>
                    <a:pt x="350" y="0"/>
                  </a:lnTo>
                  <a:lnTo>
                    <a:pt x="1009" y="0"/>
                  </a:lnTo>
                  <a:lnTo>
                    <a:pt x="660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471440" y="5413680"/>
              <a:ext cx="48240" cy="19440"/>
            </a:xfrm>
            <a:custGeom>
              <a:avLst/>
              <a:gdLst/>
              <a:ahLst/>
              <a:rect l="l" t="t" r="r" b="b"/>
              <a:pathLst>
                <a:path w="1009" h="404">
                  <a:moveTo>
                    <a:pt x="660" y="404"/>
                  </a:moveTo>
                  <a:lnTo>
                    <a:pt x="0" y="404"/>
                  </a:lnTo>
                  <a:lnTo>
                    <a:pt x="350" y="0"/>
                  </a:lnTo>
                  <a:lnTo>
                    <a:pt x="1009" y="0"/>
                  </a:lnTo>
                  <a:lnTo>
                    <a:pt x="660" y="404"/>
                  </a:lnTo>
                  <a:close/>
                </a:path>
              </a:pathLst>
            </a:custGeom>
            <a:noFill/>
            <a:ln w="93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549920" y="5413680"/>
              <a:ext cx="50760" cy="19440"/>
            </a:xfrm>
            <a:custGeom>
              <a:avLst/>
              <a:gdLst/>
              <a:ahLst/>
              <a:rect l="l" t="t" r="r" b="b"/>
              <a:pathLst>
                <a:path w="1055" h="404">
                  <a:moveTo>
                    <a:pt x="659" y="404"/>
                  </a:moveTo>
                  <a:lnTo>
                    <a:pt x="0" y="404"/>
                  </a:lnTo>
                  <a:lnTo>
                    <a:pt x="348" y="0"/>
                  </a:lnTo>
                  <a:lnTo>
                    <a:pt x="1055" y="0"/>
                  </a:lnTo>
                  <a:lnTo>
                    <a:pt x="659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549920" y="5413680"/>
              <a:ext cx="50760" cy="19440"/>
            </a:xfrm>
            <a:custGeom>
              <a:avLst/>
              <a:gdLst/>
              <a:ahLst/>
              <a:rect l="l" t="t" r="r" b="b"/>
              <a:pathLst>
                <a:path w="1055" h="404">
                  <a:moveTo>
                    <a:pt x="659" y="404"/>
                  </a:moveTo>
                  <a:lnTo>
                    <a:pt x="0" y="404"/>
                  </a:lnTo>
                  <a:lnTo>
                    <a:pt x="348" y="0"/>
                  </a:lnTo>
                  <a:lnTo>
                    <a:pt x="1055" y="0"/>
                  </a:lnTo>
                  <a:lnTo>
                    <a:pt x="659" y="404"/>
                  </a:lnTo>
                  <a:close/>
                </a:path>
              </a:pathLst>
            </a:custGeom>
            <a:noFill/>
            <a:ln w="93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628400" y="5413680"/>
              <a:ext cx="50760" cy="19440"/>
            </a:xfrm>
            <a:custGeom>
              <a:avLst/>
              <a:gdLst/>
              <a:ahLst/>
              <a:rect l="l" t="t" r="r" b="b"/>
              <a:pathLst>
                <a:path w="1055" h="404">
                  <a:moveTo>
                    <a:pt x="660" y="404"/>
                  </a:moveTo>
                  <a:lnTo>
                    <a:pt x="0" y="404"/>
                  </a:lnTo>
                  <a:lnTo>
                    <a:pt x="349" y="0"/>
                  </a:lnTo>
                  <a:lnTo>
                    <a:pt x="1055" y="0"/>
                  </a:lnTo>
                  <a:lnTo>
                    <a:pt x="660" y="4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7628400" y="5413680"/>
              <a:ext cx="50760" cy="19440"/>
            </a:xfrm>
            <a:custGeom>
              <a:avLst/>
              <a:gdLst/>
              <a:ahLst/>
              <a:rect l="l" t="t" r="r" b="b"/>
              <a:pathLst>
                <a:path w="1055" h="404">
                  <a:moveTo>
                    <a:pt x="660" y="404"/>
                  </a:moveTo>
                  <a:lnTo>
                    <a:pt x="0" y="404"/>
                  </a:lnTo>
                  <a:lnTo>
                    <a:pt x="349" y="0"/>
                  </a:lnTo>
                  <a:lnTo>
                    <a:pt x="1055" y="0"/>
                  </a:lnTo>
                  <a:lnTo>
                    <a:pt x="660" y="404"/>
                  </a:lnTo>
                  <a:close/>
                </a:path>
              </a:pathLst>
            </a:custGeom>
            <a:noFill/>
            <a:ln w="936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7" name=""/>
          <p:cNvGrpSpPr/>
          <p:nvPr/>
        </p:nvGrpSpPr>
        <p:grpSpPr>
          <a:xfrm>
            <a:off x="4876920" y="1500120"/>
            <a:ext cx="1225440" cy="531720"/>
            <a:chOff x="4876920" y="1500120"/>
            <a:chExt cx="1225440" cy="531720"/>
          </a:xfrm>
        </p:grpSpPr>
        <p:sp>
          <p:nvSpPr>
            <p:cNvPr id="3838" name=""/>
            <p:cNvSpPr/>
            <p:nvPr/>
          </p:nvSpPr>
          <p:spPr>
            <a:xfrm>
              <a:off x="4908600" y="1503360"/>
              <a:ext cx="1165320" cy="212760"/>
            </a:xfrm>
            <a:custGeom>
              <a:avLst/>
              <a:gdLst/>
              <a:ahLst/>
              <a:rect l="l" t="t" r="r" b="b"/>
              <a:pathLst>
                <a:path w="15410" h="2819">
                  <a:moveTo>
                    <a:pt x="15410" y="331"/>
                  </a:moveTo>
                  <a:lnTo>
                    <a:pt x="15391" y="312"/>
                  </a:lnTo>
                  <a:lnTo>
                    <a:pt x="15371" y="293"/>
                  </a:lnTo>
                  <a:lnTo>
                    <a:pt x="15350" y="275"/>
                  </a:lnTo>
                  <a:lnTo>
                    <a:pt x="15329" y="258"/>
                  </a:lnTo>
                  <a:lnTo>
                    <a:pt x="15308" y="241"/>
                  </a:lnTo>
                  <a:lnTo>
                    <a:pt x="15286" y="225"/>
                  </a:lnTo>
                  <a:lnTo>
                    <a:pt x="15264" y="208"/>
                  </a:lnTo>
                  <a:lnTo>
                    <a:pt x="15242" y="193"/>
                  </a:lnTo>
                  <a:lnTo>
                    <a:pt x="15220" y="178"/>
                  </a:lnTo>
                  <a:lnTo>
                    <a:pt x="15196" y="164"/>
                  </a:lnTo>
                  <a:lnTo>
                    <a:pt x="15173" y="150"/>
                  </a:lnTo>
                  <a:lnTo>
                    <a:pt x="15149" y="136"/>
                  </a:lnTo>
                  <a:lnTo>
                    <a:pt x="15124" y="123"/>
                  </a:lnTo>
                  <a:lnTo>
                    <a:pt x="15100" y="111"/>
                  </a:lnTo>
                  <a:lnTo>
                    <a:pt x="15075" y="99"/>
                  </a:lnTo>
                  <a:lnTo>
                    <a:pt x="15050" y="89"/>
                  </a:lnTo>
                  <a:lnTo>
                    <a:pt x="15024" y="78"/>
                  </a:lnTo>
                  <a:lnTo>
                    <a:pt x="14999" y="68"/>
                  </a:lnTo>
                  <a:lnTo>
                    <a:pt x="14972" y="58"/>
                  </a:lnTo>
                  <a:lnTo>
                    <a:pt x="14946" y="50"/>
                  </a:lnTo>
                  <a:lnTo>
                    <a:pt x="14919" y="42"/>
                  </a:lnTo>
                  <a:lnTo>
                    <a:pt x="14892" y="35"/>
                  </a:lnTo>
                  <a:lnTo>
                    <a:pt x="14865" y="28"/>
                  </a:lnTo>
                  <a:lnTo>
                    <a:pt x="14838" y="22"/>
                  </a:lnTo>
                  <a:lnTo>
                    <a:pt x="14809" y="17"/>
                  </a:lnTo>
                  <a:lnTo>
                    <a:pt x="14782" y="13"/>
                  </a:lnTo>
                  <a:lnTo>
                    <a:pt x="14754" y="9"/>
                  </a:lnTo>
                  <a:lnTo>
                    <a:pt x="14725" y="5"/>
                  </a:lnTo>
                  <a:lnTo>
                    <a:pt x="14696" y="3"/>
                  </a:lnTo>
                  <a:lnTo>
                    <a:pt x="14667" y="1"/>
                  </a:lnTo>
                  <a:lnTo>
                    <a:pt x="14638" y="0"/>
                  </a:lnTo>
                  <a:lnTo>
                    <a:pt x="14609" y="0"/>
                  </a:lnTo>
                  <a:lnTo>
                    <a:pt x="2967" y="0"/>
                  </a:lnTo>
                  <a:lnTo>
                    <a:pt x="2910" y="1"/>
                  </a:lnTo>
                  <a:lnTo>
                    <a:pt x="2854" y="5"/>
                  </a:lnTo>
                  <a:lnTo>
                    <a:pt x="2801" y="11"/>
                  </a:lnTo>
                  <a:lnTo>
                    <a:pt x="2750" y="20"/>
                  </a:lnTo>
                  <a:lnTo>
                    <a:pt x="2700" y="31"/>
                  </a:lnTo>
                  <a:lnTo>
                    <a:pt x="2652" y="44"/>
                  </a:lnTo>
                  <a:lnTo>
                    <a:pt x="2606" y="59"/>
                  </a:lnTo>
                  <a:lnTo>
                    <a:pt x="2561" y="78"/>
                  </a:lnTo>
                  <a:lnTo>
                    <a:pt x="2518" y="97"/>
                  </a:lnTo>
                  <a:lnTo>
                    <a:pt x="2476" y="118"/>
                  </a:lnTo>
                  <a:lnTo>
                    <a:pt x="2435" y="140"/>
                  </a:lnTo>
                  <a:lnTo>
                    <a:pt x="2396" y="166"/>
                  </a:lnTo>
                  <a:lnTo>
                    <a:pt x="2357" y="191"/>
                  </a:lnTo>
                  <a:lnTo>
                    <a:pt x="2320" y="219"/>
                  </a:lnTo>
                  <a:lnTo>
                    <a:pt x="2283" y="248"/>
                  </a:lnTo>
                  <a:lnTo>
                    <a:pt x="2248" y="278"/>
                  </a:lnTo>
                  <a:lnTo>
                    <a:pt x="2214" y="310"/>
                  </a:lnTo>
                  <a:lnTo>
                    <a:pt x="2179" y="342"/>
                  </a:lnTo>
                  <a:lnTo>
                    <a:pt x="2145" y="376"/>
                  </a:lnTo>
                  <a:lnTo>
                    <a:pt x="2111" y="409"/>
                  </a:lnTo>
                  <a:lnTo>
                    <a:pt x="2044" y="480"/>
                  </a:lnTo>
                  <a:lnTo>
                    <a:pt x="1978" y="553"/>
                  </a:lnTo>
                  <a:lnTo>
                    <a:pt x="1913" y="627"/>
                  </a:lnTo>
                  <a:lnTo>
                    <a:pt x="1845" y="702"/>
                  </a:lnTo>
                  <a:lnTo>
                    <a:pt x="1810" y="740"/>
                  </a:lnTo>
                  <a:lnTo>
                    <a:pt x="1776" y="778"/>
                  </a:lnTo>
                  <a:lnTo>
                    <a:pt x="1740" y="814"/>
                  </a:lnTo>
                  <a:lnTo>
                    <a:pt x="1704" y="852"/>
                  </a:lnTo>
                  <a:lnTo>
                    <a:pt x="0" y="2688"/>
                  </a:lnTo>
                  <a:lnTo>
                    <a:pt x="13557" y="2819"/>
                  </a:lnTo>
                  <a:lnTo>
                    <a:pt x="15410" y="331"/>
                  </a:lnTo>
                  <a:close/>
                </a:path>
              </a:pathLst>
            </a:cu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6013440" y="1500120"/>
              <a:ext cx="63360" cy="30240"/>
            </a:xfrm>
            <a:custGeom>
              <a:avLst/>
              <a:gdLst/>
              <a:ahLst/>
              <a:rect l="l" t="t" r="r" b="b"/>
              <a:pathLst>
                <a:path w="830" h="403">
                  <a:moveTo>
                    <a:pt x="0" y="84"/>
                  </a:moveTo>
                  <a:lnTo>
                    <a:pt x="28" y="85"/>
                  </a:lnTo>
                  <a:lnTo>
                    <a:pt x="56" y="86"/>
                  </a:lnTo>
                  <a:lnTo>
                    <a:pt x="84" y="88"/>
                  </a:lnTo>
                  <a:lnTo>
                    <a:pt x="112" y="90"/>
                  </a:lnTo>
                  <a:lnTo>
                    <a:pt x="138" y="93"/>
                  </a:lnTo>
                  <a:lnTo>
                    <a:pt x="166" y="97"/>
                  </a:lnTo>
                  <a:lnTo>
                    <a:pt x="193" y="101"/>
                  </a:lnTo>
                  <a:lnTo>
                    <a:pt x="220" y="106"/>
                  </a:lnTo>
                  <a:lnTo>
                    <a:pt x="247" y="112"/>
                  </a:lnTo>
                  <a:lnTo>
                    <a:pt x="272" y="119"/>
                  </a:lnTo>
                  <a:lnTo>
                    <a:pt x="299" y="126"/>
                  </a:lnTo>
                  <a:lnTo>
                    <a:pt x="325" y="134"/>
                  </a:lnTo>
                  <a:lnTo>
                    <a:pt x="350" y="142"/>
                  </a:lnTo>
                  <a:lnTo>
                    <a:pt x="376" y="151"/>
                  </a:lnTo>
                  <a:lnTo>
                    <a:pt x="400" y="160"/>
                  </a:lnTo>
                  <a:lnTo>
                    <a:pt x="424" y="170"/>
                  </a:lnTo>
                  <a:lnTo>
                    <a:pt x="448" y="180"/>
                  </a:lnTo>
                  <a:lnTo>
                    <a:pt x="473" y="192"/>
                  </a:lnTo>
                  <a:lnTo>
                    <a:pt x="496" y="204"/>
                  </a:lnTo>
                  <a:lnTo>
                    <a:pt x="519" y="216"/>
                  </a:lnTo>
                  <a:lnTo>
                    <a:pt x="543" y="229"/>
                  </a:lnTo>
                  <a:lnTo>
                    <a:pt x="566" y="242"/>
                  </a:lnTo>
                  <a:lnTo>
                    <a:pt x="587" y="256"/>
                  </a:lnTo>
                  <a:lnTo>
                    <a:pt x="610" y="271"/>
                  </a:lnTo>
                  <a:lnTo>
                    <a:pt x="631" y="286"/>
                  </a:lnTo>
                  <a:lnTo>
                    <a:pt x="652" y="301"/>
                  </a:lnTo>
                  <a:lnTo>
                    <a:pt x="673" y="317"/>
                  </a:lnTo>
                  <a:lnTo>
                    <a:pt x="694" y="333"/>
                  </a:lnTo>
                  <a:lnTo>
                    <a:pt x="714" y="351"/>
                  </a:lnTo>
                  <a:lnTo>
                    <a:pt x="733" y="368"/>
                  </a:lnTo>
                  <a:lnTo>
                    <a:pt x="752" y="386"/>
                  </a:lnTo>
                  <a:lnTo>
                    <a:pt x="771" y="403"/>
                  </a:lnTo>
                  <a:lnTo>
                    <a:pt x="830" y="345"/>
                  </a:lnTo>
                  <a:lnTo>
                    <a:pt x="810" y="324"/>
                  </a:lnTo>
                  <a:lnTo>
                    <a:pt x="790" y="305"/>
                  </a:lnTo>
                  <a:lnTo>
                    <a:pt x="769" y="287"/>
                  </a:lnTo>
                  <a:lnTo>
                    <a:pt x="747" y="269"/>
                  </a:lnTo>
                  <a:lnTo>
                    <a:pt x="725" y="250"/>
                  </a:lnTo>
                  <a:lnTo>
                    <a:pt x="703" y="234"/>
                  </a:lnTo>
                  <a:lnTo>
                    <a:pt x="681" y="217"/>
                  </a:lnTo>
                  <a:lnTo>
                    <a:pt x="657" y="201"/>
                  </a:lnTo>
                  <a:lnTo>
                    <a:pt x="633" y="185"/>
                  </a:lnTo>
                  <a:lnTo>
                    <a:pt x="610" y="170"/>
                  </a:lnTo>
                  <a:lnTo>
                    <a:pt x="584" y="156"/>
                  </a:lnTo>
                  <a:lnTo>
                    <a:pt x="560" y="142"/>
                  </a:lnTo>
                  <a:lnTo>
                    <a:pt x="535" y="129"/>
                  </a:lnTo>
                  <a:lnTo>
                    <a:pt x="509" y="117"/>
                  </a:lnTo>
                  <a:lnTo>
                    <a:pt x="484" y="104"/>
                  </a:lnTo>
                  <a:lnTo>
                    <a:pt x="458" y="92"/>
                  </a:lnTo>
                  <a:lnTo>
                    <a:pt x="430" y="82"/>
                  </a:lnTo>
                  <a:lnTo>
                    <a:pt x="404" y="71"/>
                  </a:lnTo>
                  <a:lnTo>
                    <a:pt x="377" y="62"/>
                  </a:lnTo>
                  <a:lnTo>
                    <a:pt x="349" y="53"/>
                  </a:lnTo>
                  <a:lnTo>
                    <a:pt x="322" y="45"/>
                  </a:lnTo>
                  <a:lnTo>
                    <a:pt x="293" y="37"/>
                  </a:lnTo>
                  <a:lnTo>
                    <a:pt x="265" y="30"/>
                  </a:lnTo>
                  <a:lnTo>
                    <a:pt x="237" y="24"/>
                  </a:lnTo>
                  <a:lnTo>
                    <a:pt x="207" y="18"/>
                  </a:lnTo>
                  <a:lnTo>
                    <a:pt x="179" y="13"/>
                  </a:lnTo>
                  <a:lnTo>
                    <a:pt x="150" y="10"/>
                  </a:lnTo>
                  <a:lnTo>
                    <a:pt x="120" y="6"/>
                  </a:lnTo>
                  <a:lnTo>
                    <a:pt x="90" y="3"/>
                  </a:lnTo>
                  <a:lnTo>
                    <a:pt x="60" y="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133960" y="1500120"/>
              <a:ext cx="879480" cy="6480"/>
            </a:xfrm>
            <a:prstGeom prst="rect">
              <a:avLst/>
            </a:pr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035680" y="1500120"/>
              <a:ext cx="98280" cy="69840"/>
            </a:xfrm>
            <a:custGeom>
              <a:avLst/>
              <a:gdLst/>
              <a:ahLst/>
              <a:rect l="l" t="t" r="r" b="b"/>
              <a:pathLst>
                <a:path w="1294" h="925">
                  <a:moveTo>
                    <a:pt x="60" y="925"/>
                  </a:moveTo>
                  <a:lnTo>
                    <a:pt x="97" y="888"/>
                  </a:lnTo>
                  <a:lnTo>
                    <a:pt x="133" y="849"/>
                  </a:lnTo>
                  <a:lnTo>
                    <a:pt x="169" y="812"/>
                  </a:lnTo>
                  <a:lnTo>
                    <a:pt x="203" y="773"/>
                  </a:lnTo>
                  <a:lnTo>
                    <a:pt x="271" y="698"/>
                  </a:lnTo>
                  <a:lnTo>
                    <a:pt x="337" y="624"/>
                  </a:lnTo>
                  <a:lnTo>
                    <a:pt x="403" y="551"/>
                  </a:lnTo>
                  <a:lnTo>
                    <a:pt x="469" y="481"/>
                  </a:lnTo>
                  <a:lnTo>
                    <a:pt x="502" y="448"/>
                  </a:lnTo>
                  <a:lnTo>
                    <a:pt x="534" y="415"/>
                  </a:lnTo>
                  <a:lnTo>
                    <a:pt x="569" y="383"/>
                  </a:lnTo>
                  <a:lnTo>
                    <a:pt x="602" y="353"/>
                  </a:lnTo>
                  <a:lnTo>
                    <a:pt x="638" y="323"/>
                  </a:lnTo>
                  <a:lnTo>
                    <a:pt x="673" y="296"/>
                  </a:lnTo>
                  <a:lnTo>
                    <a:pt x="709" y="269"/>
                  </a:lnTo>
                  <a:lnTo>
                    <a:pt x="746" y="243"/>
                  </a:lnTo>
                  <a:lnTo>
                    <a:pt x="784" y="220"/>
                  </a:lnTo>
                  <a:lnTo>
                    <a:pt x="823" y="198"/>
                  </a:lnTo>
                  <a:lnTo>
                    <a:pt x="842" y="187"/>
                  </a:lnTo>
                  <a:lnTo>
                    <a:pt x="863" y="177"/>
                  </a:lnTo>
                  <a:lnTo>
                    <a:pt x="883" y="168"/>
                  </a:lnTo>
                  <a:lnTo>
                    <a:pt x="904" y="159"/>
                  </a:lnTo>
                  <a:lnTo>
                    <a:pt x="926" y="151"/>
                  </a:lnTo>
                  <a:lnTo>
                    <a:pt x="947" y="142"/>
                  </a:lnTo>
                  <a:lnTo>
                    <a:pt x="969" y="135"/>
                  </a:lnTo>
                  <a:lnTo>
                    <a:pt x="991" y="128"/>
                  </a:lnTo>
                  <a:lnTo>
                    <a:pt x="1014" y="121"/>
                  </a:lnTo>
                  <a:lnTo>
                    <a:pt x="1037" y="115"/>
                  </a:lnTo>
                  <a:lnTo>
                    <a:pt x="1060" y="109"/>
                  </a:lnTo>
                  <a:lnTo>
                    <a:pt x="1085" y="104"/>
                  </a:lnTo>
                  <a:lnTo>
                    <a:pt x="1109" y="99"/>
                  </a:lnTo>
                  <a:lnTo>
                    <a:pt x="1134" y="95"/>
                  </a:lnTo>
                  <a:lnTo>
                    <a:pt x="1160" y="92"/>
                  </a:lnTo>
                  <a:lnTo>
                    <a:pt x="1185" y="89"/>
                  </a:lnTo>
                  <a:lnTo>
                    <a:pt x="1211" y="87"/>
                  </a:lnTo>
                  <a:lnTo>
                    <a:pt x="1239" y="86"/>
                  </a:lnTo>
                  <a:lnTo>
                    <a:pt x="1266" y="85"/>
                  </a:lnTo>
                  <a:lnTo>
                    <a:pt x="1294" y="84"/>
                  </a:lnTo>
                  <a:lnTo>
                    <a:pt x="1294" y="0"/>
                  </a:lnTo>
                  <a:lnTo>
                    <a:pt x="1264" y="0"/>
                  </a:lnTo>
                  <a:lnTo>
                    <a:pt x="1235" y="1"/>
                  </a:lnTo>
                  <a:lnTo>
                    <a:pt x="1206" y="3"/>
                  </a:lnTo>
                  <a:lnTo>
                    <a:pt x="1178" y="6"/>
                  </a:lnTo>
                  <a:lnTo>
                    <a:pt x="1150" y="8"/>
                  </a:lnTo>
                  <a:lnTo>
                    <a:pt x="1122" y="12"/>
                  </a:lnTo>
                  <a:lnTo>
                    <a:pt x="1095" y="16"/>
                  </a:lnTo>
                  <a:lnTo>
                    <a:pt x="1068" y="21"/>
                  </a:lnTo>
                  <a:lnTo>
                    <a:pt x="1042" y="27"/>
                  </a:lnTo>
                  <a:lnTo>
                    <a:pt x="1017" y="33"/>
                  </a:lnTo>
                  <a:lnTo>
                    <a:pt x="991" y="40"/>
                  </a:lnTo>
                  <a:lnTo>
                    <a:pt x="967" y="47"/>
                  </a:lnTo>
                  <a:lnTo>
                    <a:pt x="942" y="55"/>
                  </a:lnTo>
                  <a:lnTo>
                    <a:pt x="918" y="63"/>
                  </a:lnTo>
                  <a:lnTo>
                    <a:pt x="895" y="72"/>
                  </a:lnTo>
                  <a:lnTo>
                    <a:pt x="872" y="81"/>
                  </a:lnTo>
                  <a:lnTo>
                    <a:pt x="850" y="91"/>
                  </a:lnTo>
                  <a:lnTo>
                    <a:pt x="826" y="101"/>
                  </a:lnTo>
                  <a:lnTo>
                    <a:pt x="805" y="112"/>
                  </a:lnTo>
                  <a:lnTo>
                    <a:pt x="783" y="124"/>
                  </a:lnTo>
                  <a:lnTo>
                    <a:pt x="741" y="147"/>
                  </a:lnTo>
                  <a:lnTo>
                    <a:pt x="701" y="173"/>
                  </a:lnTo>
                  <a:lnTo>
                    <a:pt x="660" y="200"/>
                  </a:lnTo>
                  <a:lnTo>
                    <a:pt x="622" y="228"/>
                  </a:lnTo>
                  <a:lnTo>
                    <a:pt x="584" y="258"/>
                  </a:lnTo>
                  <a:lnTo>
                    <a:pt x="548" y="289"/>
                  </a:lnTo>
                  <a:lnTo>
                    <a:pt x="512" y="321"/>
                  </a:lnTo>
                  <a:lnTo>
                    <a:pt x="477" y="355"/>
                  </a:lnTo>
                  <a:lnTo>
                    <a:pt x="442" y="388"/>
                  </a:lnTo>
                  <a:lnTo>
                    <a:pt x="408" y="424"/>
                  </a:lnTo>
                  <a:lnTo>
                    <a:pt x="341" y="495"/>
                  </a:lnTo>
                  <a:lnTo>
                    <a:pt x="274" y="568"/>
                  </a:lnTo>
                  <a:lnTo>
                    <a:pt x="208" y="642"/>
                  </a:lnTo>
                  <a:lnTo>
                    <a:pt x="141" y="717"/>
                  </a:lnTo>
                  <a:lnTo>
                    <a:pt x="107" y="754"/>
                  </a:lnTo>
                  <a:lnTo>
                    <a:pt x="71" y="791"/>
                  </a:lnTo>
                  <a:lnTo>
                    <a:pt x="37" y="828"/>
                  </a:lnTo>
                  <a:lnTo>
                    <a:pt x="0" y="865"/>
                  </a:lnTo>
                  <a:lnTo>
                    <a:pt x="60" y="92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902120" y="1565280"/>
              <a:ext cx="138240" cy="144360"/>
            </a:xfrm>
            <a:custGeom>
              <a:avLst/>
              <a:gdLst/>
              <a:ahLst/>
              <a:rect l="l" t="t" r="r" b="b"/>
              <a:pathLst>
                <a:path w="1830" h="1907">
                  <a:moveTo>
                    <a:pt x="95" y="1907"/>
                  </a:moveTo>
                  <a:lnTo>
                    <a:pt x="126" y="1893"/>
                  </a:lnTo>
                  <a:lnTo>
                    <a:pt x="1830" y="57"/>
                  </a:lnTo>
                  <a:lnTo>
                    <a:pt x="1768" y="0"/>
                  </a:lnTo>
                  <a:lnTo>
                    <a:pt x="64" y="1836"/>
                  </a:lnTo>
                  <a:lnTo>
                    <a:pt x="95" y="1907"/>
                  </a:lnTo>
                  <a:lnTo>
                    <a:pt x="64" y="1836"/>
                  </a:lnTo>
                  <a:lnTo>
                    <a:pt x="0" y="1906"/>
                  </a:lnTo>
                  <a:lnTo>
                    <a:pt x="95" y="190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908600" y="1703520"/>
              <a:ext cx="1025640" cy="15840"/>
            </a:xfrm>
            <a:custGeom>
              <a:avLst/>
              <a:gdLst/>
              <a:ahLst/>
              <a:rect l="l" t="t" r="r" b="b"/>
              <a:pathLst>
                <a:path w="13558" h="215">
                  <a:moveTo>
                    <a:pt x="13558" y="131"/>
                  </a:moveTo>
                  <a:lnTo>
                    <a:pt x="1" y="0"/>
                  </a:lnTo>
                  <a:lnTo>
                    <a:pt x="0" y="84"/>
                  </a:lnTo>
                  <a:lnTo>
                    <a:pt x="13558" y="215"/>
                  </a:lnTo>
                  <a:lnTo>
                    <a:pt x="13558" y="13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916600" y="1528920"/>
              <a:ext cx="182520" cy="485640"/>
            </a:xfrm>
            <a:custGeom>
              <a:avLst/>
              <a:gdLst/>
              <a:ahLst/>
              <a:rect l="l" t="t" r="r" b="b"/>
              <a:pathLst>
                <a:path w="2424" h="6422">
                  <a:moveTo>
                    <a:pt x="2093" y="0"/>
                  </a:moveTo>
                  <a:lnTo>
                    <a:pt x="2111" y="19"/>
                  </a:lnTo>
                  <a:lnTo>
                    <a:pt x="2131" y="39"/>
                  </a:lnTo>
                  <a:lnTo>
                    <a:pt x="2149" y="60"/>
                  </a:lnTo>
                  <a:lnTo>
                    <a:pt x="2166" y="81"/>
                  </a:lnTo>
                  <a:lnTo>
                    <a:pt x="2183" y="101"/>
                  </a:lnTo>
                  <a:lnTo>
                    <a:pt x="2200" y="124"/>
                  </a:lnTo>
                  <a:lnTo>
                    <a:pt x="2216" y="146"/>
                  </a:lnTo>
                  <a:lnTo>
                    <a:pt x="2231" y="168"/>
                  </a:lnTo>
                  <a:lnTo>
                    <a:pt x="2246" y="190"/>
                  </a:lnTo>
                  <a:lnTo>
                    <a:pt x="2260" y="214"/>
                  </a:lnTo>
                  <a:lnTo>
                    <a:pt x="2274" y="237"/>
                  </a:lnTo>
                  <a:lnTo>
                    <a:pt x="2288" y="261"/>
                  </a:lnTo>
                  <a:lnTo>
                    <a:pt x="2301" y="286"/>
                  </a:lnTo>
                  <a:lnTo>
                    <a:pt x="2313" y="310"/>
                  </a:lnTo>
                  <a:lnTo>
                    <a:pt x="2324" y="335"/>
                  </a:lnTo>
                  <a:lnTo>
                    <a:pt x="2335" y="361"/>
                  </a:lnTo>
                  <a:lnTo>
                    <a:pt x="2346" y="386"/>
                  </a:lnTo>
                  <a:lnTo>
                    <a:pt x="2356" y="411"/>
                  </a:lnTo>
                  <a:lnTo>
                    <a:pt x="2366" y="438"/>
                  </a:lnTo>
                  <a:lnTo>
                    <a:pt x="2374" y="464"/>
                  </a:lnTo>
                  <a:lnTo>
                    <a:pt x="2382" y="491"/>
                  </a:lnTo>
                  <a:lnTo>
                    <a:pt x="2389" y="518"/>
                  </a:lnTo>
                  <a:lnTo>
                    <a:pt x="2396" y="545"/>
                  </a:lnTo>
                  <a:lnTo>
                    <a:pt x="2402" y="573"/>
                  </a:lnTo>
                  <a:lnTo>
                    <a:pt x="2407" y="601"/>
                  </a:lnTo>
                  <a:lnTo>
                    <a:pt x="2411" y="629"/>
                  </a:lnTo>
                  <a:lnTo>
                    <a:pt x="2415" y="657"/>
                  </a:lnTo>
                  <a:lnTo>
                    <a:pt x="2419" y="686"/>
                  </a:lnTo>
                  <a:lnTo>
                    <a:pt x="2421" y="714"/>
                  </a:lnTo>
                  <a:lnTo>
                    <a:pt x="2423" y="743"/>
                  </a:lnTo>
                  <a:lnTo>
                    <a:pt x="2424" y="772"/>
                  </a:lnTo>
                  <a:lnTo>
                    <a:pt x="2424" y="802"/>
                  </a:lnTo>
                  <a:lnTo>
                    <a:pt x="2424" y="3125"/>
                  </a:lnTo>
                  <a:lnTo>
                    <a:pt x="65" y="6422"/>
                  </a:lnTo>
                  <a:lnTo>
                    <a:pt x="0" y="2390"/>
                  </a:lnTo>
                  <a:lnTo>
                    <a:pt x="2093" y="0"/>
                  </a:lnTo>
                  <a:close/>
                </a:path>
              </a:pathLst>
            </a:custGeom>
            <a:solidFill>
              <a:srgbClr val="7b7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072120" y="1525680"/>
              <a:ext cx="30240" cy="63360"/>
            </a:xfrm>
            <a:custGeom>
              <a:avLst/>
              <a:gdLst/>
              <a:ahLst/>
              <a:rect l="l" t="t" r="r" b="b"/>
              <a:pathLst>
                <a:path w="404" h="831">
                  <a:moveTo>
                    <a:pt x="404" y="831"/>
                  </a:moveTo>
                  <a:lnTo>
                    <a:pt x="404" y="800"/>
                  </a:lnTo>
                  <a:lnTo>
                    <a:pt x="402" y="770"/>
                  </a:lnTo>
                  <a:lnTo>
                    <a:pt x="401" y="740"/>
                  </a:lnTo>
                  <a:lnTo>
                    <a:pt x="398" y="710"/>
                  </a:lnTo>
                  <a:lnTo>
                    <a:pt x="394" y="681"/>
                  </a:lnTo>
                  <a:lnTo>
                    <a:pt x="391" y="651"/>
                  </a:lnTo>
                  <a:lnTo>
                    <a:pt x="386" y="623"/>
                  </a:lnTo>
                  <a:lnTo>
                    <a:pt x="380" y="593"/>
                  </a:lnTo>
                  <a:lnTo>
                    <a:pt x="374" y="565"/>
                  </a:lnTo>
                  <a:lnTo>
                    <a:pt x="367" y="537"/>
                  </a:lnTo>
                  <a:lnTo>
                    <a:pt x="359" y="509"/>
                  </a:lnTo>
                  <a:lnTo>
                    <a:pt x="351" y="481"/>
                  </a:lnTo>
                  <a:lnTo>
                    <a:pt x="342" y="454"/>
                  </a:lnTo>
                  <a:lnTo>
                    <a:pt x="333" y="426"/>
                  </a:lnTo>
                  <a:lnTo>
                    <a:pt x="322" y="400"/>
                  </a:lnTo>
                  <a:lnTo>
                    <a:pt x="312" y="372"/>
                  </a:lnTo>
                  <a:lnTo>
                    <a:pt x="300" y="347"/>
                  </a:lnTo>
                  <a:lnTo>
                    <a:pt x="287" y="321"/>
                  </a:lnTo>
                  <a:lnTo>
                    <a:pt x="275" y="295"/>
                  </a:lnTo>
                  <a:lnTo>
                    <a:pt x="262" y="270"/>
                  </a:lnTo>
                  <a:lnTo>
                    <a:pt x="248" y="246"/>
                  </a:lnTo>
                  <a:lnTo>
                    <a:pt x="234" y="221"/>
                  </a:lnTo>
                  <a:lnTo>
                    <a:pt x="219" y="197"/>
                  </a:lnTo>
                  <a:lnTo>
                    <a:pt x="203" y="173"/>
                  </a:lnTo>
                  <a:lnTo>
                    <a:pt x="187" y="150"/>
                  </a:lnTo>
                  <a:lnTo>
                    <a:pt x="171" y="127"/>
                  </a:lnTo>
                  <a:lnTo>
                    <a:pt x="153" y="105"/>
                  </a:lnTo>
                  <a:lnTo>
                    <a:pt x="135" y="83"/>
                  </a:lnTo>
                  <a:lnTo>
                    <a:pt x="117" y="61"/>
                  </a:lnTo>
                  <a:lnTo>
                    <a:pt x="99" y="40"/>
                  </a:lnTo>
                  <a:lnTo>
                    <a:pt x="80" y="20"/>
                  </a:lnTo>
                  <a:lnTo>
                    <a:pt x="59" y="0"/>
                  </a:lnTo>
                  <a:lnTo>
                    <a:pt x="0" y="59"/>
                  </a:lnTo>
                  <a:lnTo>
                    <a:pt x="18" y="78"/>
                  </a:lnTo>
                  <a:lnTo>
                    <a:pt x="36" y="97"/>
                  </a:lnTo>
                  <a:lnTo>
                    <a:pt x="53" y="116"/>
                  </a:lnTo>
                  <a:lnTo>
                    <a:pt x="71" y="136"/>
                  </a:lnTo>
                  <a:lnTo>
                    <a:pt x="87" y="157"/>
                  </a:lnTo>
                  <a:lnTo>
                    <a:pt x="103" y="178"/>
                  </a:lnTo>
                  <a:lnTo>
                    <a:pt x="118" y="199"/>
                  </a:lnTo>
                  <a:lnTo>
                    <a:pt x="133" y="220"/>
                  </a:lnTo>
                  <a:lnTo>
                    <a:pt x="148" y="243"/>
                  </a:lnTo>
                  <a:lnTo>
                    <a:pt x="162" y="265"/>
                  </a:lnTo>
                  <a:lnTo>
                    <a:pt x="175" y="287"/>
                  </a:lnTo>
                  <a:lnTo>
                    <a:pt x="188" y="311"/>
                  </a:lnTo>
                  <a:lnTo>
                    <a:pt x="200" y="334"/>
                  </a:lnTo>
                  <a:lnTo>
                    <a:pt x="212" y="357"/>
                  </a:lnTo>
                  <a:lnTo>
                    <a:pt x="224" y="382"/>
                  </a:lnTo>
                  <a:lnTo>
                    <a:pt x="234" y="406"/>
                  </a:lnTo>
                  <a:lnTo>
                    <a:pt x="244" y="430"/>
                  </a:lnTo>
                  <a:lnTo>
                    <a:pt x="253" y="456"/>
                  </a:lnTo>
                  <a:lnTo>
                    <a:pt x="262" y="481"/>
                  </a:lnTo>
                  <a:lnTo>
                    <a:pt x="270" y="506"/>
                  </a:lnTo>
                  <a:lnTo>
                    <a:pt x="278" y="532"/>
                  </a:lnTo>
                  <a:lnTo>
                    <a:pt x="285" y="558"/>
                  </a:lnTo>
                  <a:lnTo>
                    <a:pt x="292" y="584"/>
                  </a:lnTo>
                  <a:lnTo>
                    <a:pt x="298" y="611"/>
                  </a:lnTo>
                  <a:lnTo>
                    <a:pt x="303" y="637"/>
                  </a:lnTo>
                  <a:lnTo>
                    <a:pt x="307" y="664"/>
                  </a:lnTo>
                  <a:lnTo>
                    <a:pt x="311" y="692"/>
                  </a:lnTo>
                  <a:lnTo>
                    <a:pt x="314" y="719"/>
                  </a:lnTo>
                  <a:lnTo>
                    <a:pt x="316" y="746"/>
                  </a:lnTo>
                  <a:lnTo>
                    <a:pt x="318" y="774"/>
                  </a:lnTo>
                  <a:lnTo>
                    <a:pt x="319" y="802"/>
                  </a:lnTo>
                  <a:lnTo>
                    <a:pt x="320" y="831"/>
                  </a:lnTo>
                  <a:lnTo>
                    <a:pt x="404" y="83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095880" y="1589040"/>
              <a:ext cx="6480" cy="177840"/>
            </a:xfrm>
            <a:custGeom>
              <a:avLst/>
              <a:gdLst/>
              <a:ahLst/>
              <a:rect l="l" t="t" r="r" b="b"/>
              <a:pathLst>
                <a:path w="84" h="2348">
                  <a:moveTo>
                    <a:pt x="76" y="2348"/>
                  </a:moveTo>
                  <a:lnTo>
                    <a:pt x="84" y="23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2323"/>
                  </a:lnTo>
                  <a:lnTo>
                    <a:pt x="76" y="2348"/>
                  </a:lnTo>
                  <a:lnTo>
                    <a:pt x="76" y="2348"/>
                  </a:lnTo>
                  <a:lnTo>
                    <a:pt x="84" y="2336"/>
                  </a:lnTo>
                  <a:lnTo>
                    <a:pt x="84" y="2323"/>
                  </a:lnTo>
                  <a:lnTo>
                    <a:pt x="76" y="234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918040" y="1762200"/>
              <a:ext cx="184320" cy="261720"/>
            </a:xfrm>
            <a:custGeom>
              <a:avLst/>
              <a:gdLst/>
              <a:ahLst/>
              <a:rect l="l" t="t" r="r" b="b"/>
              <a:pathLst>
                <a:path w="2436" h="3448">
                  <a:moveTo>
                    <a:pt x="0" y="3322"/>
                  </a:moveTo>
                  <a:lnTo>
                    <a:pt x="76" y="3345"/>
                  </a:lnTo>
                  <a:lnTo>
                    <a:pt x="2436" y="49"/>
                  </a:lnTo>
                  <a:lnTo>
                    <a:pt x="2367" y="0"/>
                  </a:lnTo>
                  <a:lnTo>
                    <a:pt x="7" y="3297"/>
                  </a:lnTo>
                  <a:lnTo>
                    <a:pt x="0" y="3322"/>
                  </a:lnTo>
                  <a:lnTo>
                    <a:pt x="0" y="3322"/>
                  </a:lnTo>
                  <a:lnTo>
                    <a:pt x="3" y="3448"/>
                  </a:lnTo>
                  <a:lnTo>
                    <a:pt x="76" y="3345"/>
                  </a:lnTo>
                  <a:lnTo>
                    <a:pt x="0" y="332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911920" y="1709640"/>
              <a:ext cx="12600" cy="304920"/>
            </a:xfrm>
            <a:custGeom>
              <a:avLst/>
              <a:gdLst/>
              <a:ahLst/>
              <a:rect l="l" t="t" r="r" b="b"/>
              <a:pathLst>
                <a:path w="150" h="4033">
                  <a:moveTo>
                    <a:pt x="0" y="1"/>
                  </a:moveTo>
                  <a:lnTo>
                    <a:pt x="66" y="4033"/>
                  </a:lnTo>
                  <a:lnTo>
                    <a:pt x="150" y="4032"/>
                  </a:lnTo>
                  <a:lnTo>
                    <a:pt x="8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4879800" y="1681200"/>
              <a:ext cx="1070280" cy="347760"/>
            </a:xfrm>
            <a:custGeom>
              <a:avLst/>
              <a:gdLst/>
              <a:ahLst/>
              <a:rect l="l" t="t" r="r" b="b"/>
              <a:pathLst>
                <a:path w="14160" h="4589">
                  <a:moveTo>
                    <a:pt x="14160" y="3456"/>
                  </a:moveTo>
                  <a:lnTo>
                    <a:pt x="14159" y="3515"/>
                  </a:lnTo>
                  <a:lnTo>
                    <a:pt x="14155" y="3573"/>
                  </a:lnTo>
                  <a:lnTo>
                    <a:pt x="14147" y="3630"/>
                  </a:lnTo>
                  <a:lnTo>
                    <a:pt x="14137" y="3685"/>
                  </a:lnTo>
                  <a:lnTo>
                    <a:pt x="14124" y="3740"/>
                  </a:lnTo>
                  <a:lnTo>
                    <a:pt x="14109" y="3794"/>
                  </a:lnTo>
                  <a:lnTo>
                    <a:pt x="14091" y="3847"/>
                  </a:lnTo>
                  <a:lnTo>
                    <a:pt x="14071" y="3897"/>
                  </a:lnTo>
                  <a:lnTo>
                    <a:pt x="14048" y="3948"/>
                  </a:lnTo>
                  <a:lnTo>
                    <a:pt x="14023" y="3997"/>
                  </a:lnTo>
                  <a:lnTo>
                    <a:pt x="13996" y="4044"/>
                  </a:lnTo>
                  <a:lnTo>
                    <a:pt x="13966" y="4090"/>
                  </a:lnTo>
                  <a:lnTo>
                    <a:pt x="13935" y="4134"/>
                  </a:lnTo>
                  <a:lnTo>
                    <a:pt x="13901" y="4177"/>
                  </a:lnTo>
                  <a:lnTo>
                    <a:pt x="13866" y="4219"/>
                  </a:lnTo>
                  <a:lnTo>
                    <a:pt x="13828" y="4258"/>
                  </a:lnTo>
                  <a:lnTo>
                    <a:pt x="13789" y="4296"/>
                  </a:lnTo>
                  <a:lnTo>
                    <a:pt x="13747" y="4331"/>
                  </a:lnTo>
                  <a:lnTo>
                    <a:pt x="13705" y="4364"/>
                  </a:lnTo>
                  <a:lnTo>
                    <a:pt x="13660" y="4396"/>
                  </a:lnTo>
                  <a:lnTo>
                    <a:pt x="13615" y="4425"/>
                  </a:lnTo>
                  <a:lnTo>
                    <a:pt x="13567" y="4453"/>
                  </a:lnTo>
                  <a:lnTo>
                    <a:pt x="13518" y="4478"/>
                  </a:lnTo>
                  <a:lnTo>
                    <a:pt x="13468" y="4500"/>
                  </a:lnTo>
                  <a:lnTo>
                    <a:pt x="13417" y="4522"/>
                  </a:lnTo>
                  <a:lnTo>
                    <a:pt x="13364" y="4539"/>
                  </a:lnTo>
                  <a:lnTo>
                    <a:pt x="13311" y="4554"/>
                  </a:lnTo>
                  <a:lnTo>
                    <a:pt x="13255" y="4567"/>
                  </a:lnTo>
                  <a:lnTo>
                    <a:pt x="13199" y="4576"/>
                  </a:lnTo>
                  <a:lnTo>
                    <a:pt x="13142" y="4584"/>
                  </a:lnTo>
                  <a:lnTo>
                    <a:pt x="13086" y="4588"/>
                  </a:lnTo>
                  <a:lnTo>
                    <a:pt x="13027" y="4589"/>
                  </a:lnTo>
                  <a:lnTo>
                    <a:pt x="1132" y="4589"/>
                  </a:lnTo>
                  <a:lnTo>
                    <a:pt x="1074" y="4588"/>
                  </a:lnTo>
                  <a:lnTo>
                    <a:pt x="1016" y="4584"/>
                  </a:lnTo>
                  <a:lnTo>
                    <a:pt x="959" y="4576"/>
                  </a:lnTo>
                  <a:lnTo>
                    <a:pt x="903" y="4567"/>
                  </a:lnTo>
                  <a:lnTo>
                    <a:pt x="849" y="4554"/>
                  </a:lnTo>
                  <a:lnTo>
                    <a:pt x="795" y="4539"/>
                  </a:lnTo>
                  <a:lnTo>
                    <a:pt x="742" y="4522"/>
                  </a:lnTo>
                  <a:lnTo>
                    <a:pt x="691" y="4500"/>
                  </a:lnTo>
                  <a:lnTo>
                    <a:pt x="641" y="4478"/>
                  </a:lnTo>
                  <a:lnTo>
                    <a:pt x="592" y="4453"/>
                  </a:lnTo>
                  <a:lnTo>
                    <a:pt x="545" y="4425"/>
                  </a:lnTo>
                  <a:lnTo>
                    <a:pt x="499" y="4396"/>
                  </a:lnTo>
                  <a:lnTo>
                    <a:pt x="455" y="4364"/>
                  </a:lnTo>
                  <a:lnTo>
                    <a:pt x="411" y="4331"/>
                  </a:lnTo>
                  <a:lnTo>
                    <a:pt x="370" y="4296"/>
                  </a:lnTo>
                  <a:lnTo>
                    <a:pt x="331" y="4258"/>
                  </a:lnTo>
                  <a:lnTo>
                    <a:pt x="293" y="4219"/>
                  </a:lnTo>
                  <a:lnTo>
                    <a:pt x="258" y="4177"/>
                  </a:lnTo>
                  <a:lnTo>
                    <a:pt x="224" y="4134"/>
                  </a:lnTo>
                  <a:lnTo>
                    <a:pt x="193" y="4090"/>
                  </a:lnTo>
                  <a:lnTo>
                    <a:pt x="163" y="4044"/>
                  </a:lnTo>
                  <a:lnTo>
                    <a:pt x="136" y="3997"/>
                  </a:lnTo>
                  <a:lnTo>
                    <a:pt x="111" y="3948"/>
                  </a:lnTo>
                  <a:lnTo>
                    <a:pt x="89" y="3897"/>
                  </a:lnTo>
                  <a:lnTo>
                    <a:pt x="67" y="3847"/>
                  </a:lnTo>
                  <a:lnTo>
                    <a:pt x="50" y="3794"/>
                  </a:lnTo>
                  <a:lnTo>
                    <a:pt x="35" y="3740"/>
                  </a:lnTo>
                  <a:lnTo>
                    <a:pt x="22" y="3685"/>
                  </a:lnTo>
                  <a:lnTo>
                    <a:pt x="13" y="3630"/>
                  </a:lnTo>
                  <a:lnTo>
                    <a:pt x="5" y="3573"/>
                  </a:lnTo>
                  <a:lnTo>
                    <a:pt x="1" y="3515"/>
                  </a:lnTo>
                  <a:lnTo>
                    <a:pt x="0" y="3456"/>
                  </a:lnTo>
                  <a:lnTo>
                    <a:pt x="0" y="1133"/>
                  </a:lnTo>
                  <a:lnTo>
                    <a:pt x="1" y="1075"/>
                  </a:lnTo>
                  <a:lnTo>
                    <a:pt x="5" y="1017"/>
                  </a:lnTo>
                  <a:lnTo>
                    <a:pt x="13" y="960"/>
                  </a:lnTo>
                  <a:lnTo>
                    <a:pt x="22" y="905"/>
                  </a:lnTo>
                  <a:lnTo>
                    <a:pt x="35" y="850"/>
                  </a:lnTo>
                  <a:lnTo>
                    <a:pt x="50" y="796"/>
                  </a:lnTo>
                  <a:lnTo>
                    <a:pt x="67" y="744"/>
                  </a:lnTo>
                  <a:lnTo>
                    <a:pt x="89" y="692"/>
                  </a:lnTo>
                  <a:lnTo>
                    <a:pt x="111" y="641"/>
                  </a:lnTo>
                  <a:lnTo>
                    <a:pt x="136" y="593"/>
                  </a:lnTo>
                  <a:lnTo>
                    <a:pt x="163" y="545"/>
                  </a:lnTo>
                  <a:lnTo>
                    <a:pt x="193" y="499"/>
                  </a:lnTo>
                  <a:lnTo>
                    <a:pt x="224" y="455"/>
                  </a:lnTo>
                  <a:lnTo>
                    <a:pt x="258" y="412"/>
                  </a:lnTo>
                  <a:lnTo>
                    <a:pt x="293" y="371"/>
                  </a:lnTo>
                  <a:lnTo>
                    <a:pt x="331" y="332"/>
                  </a:lnTo>
                  <a:lnTo>
                    <a:pt x="370" y="295"/>
                  </a:lnTo>
                  <a:lnTo>
                    <a:pt x="411" y="258"/>
                  </a:lnTo>
                  <a:lnTo>
                    <a:pt x="455" y="225"/>
                  </a:lnTo>
                  <a:lnTo>
                    <a:pt x="499" y="193"/>
                  </a:lnTo>
                  <a:lnTo>
                    <a:pt x="545" y="164"/>
                  </a:lnTo>
                  <a:lnTo>
                    <a:pt x="592" y="137"/>
                  </a:lnTo>
                  <a:lnTo>
                    <a:pt x="641" y="111"/>
                  </a:lnTo>
                  <a:lnTo>
                    <a:pt x="691" y="89"/>
                  </a:lnTo>
                  <a:lnTo>
                    <a:pt x="742" y="69"/>
                  </a:lnTo>
                  <a:lnTo>
                    <a:pt x="795" y="50"/>
                  </a:lnTo>
                  <a:lnTo>
                    <a:pt x="849" y="35"/>
                  </a:lnTo>
                  <a:lnTo>
                    <a:pt x="903" y="23"/>
                  </a:lnTo>
                  <a:lnTo>
                    <a:pt x="959" y="13"/>
                  </a:lnTo>
                  <a:lnTo>
                    <a:pt x="1016" y="6"/>
                  </a:lnTo>
                  <a:lnTo>
                    <a:pt x="1074" y="1"/>
                  </a:lnTo>
                  <a:lnTo>
                    <a:pt x="1132" y="0"/>
                  </a:lnTo>
                  <a:lnTo>
                    <a:pt x="13027" y="0"/>
                  </a:lnTo>
                  <a:lnTo>
                    <a:pt x="13086" y="1"/>
                  </a:lnTo>
                  <a:lnTo>
                    <a:pt x="13142" y="6"/>
                  </a:lnTo>
                  <a:lnTo>
                    <a:pt x="13199" y="13"/>
                  </a:lnTo>
                  <a:lnTo>
                    <a:pt x="13255" y="23"/>
                  </a:lnTo>
                  <a:lnTo>
                    <a:pt x="13311" y="35"/>
                  </a:lnTo>
                  <a:lnTo>
                    <a:pt x="13364" y="50"/>
                  </a:lnTo>
                  <a:lnTo>
                    <a:pt x="13417" y="69"/>
                  </a:lnTo>
                  <a:lnTo>
                    <a:pt x="13468" y="89"/>
                  </a:lnTo>
                  <a:lnTo>
                    <a:pt x="13518" y="111"/>
                  </a:lnTo>
                  <a:lnTo>
                    <a:pt x="13567" y="137"/>
                  </a:lnTo>
                  <a:lnTo>
                    <a:pt x="13615" y="164"/>
                  </a:lnTo>
                  <a:lnTo>
                    <a:pt x="13660" y="193"/>
                  </a:lnTo>
                  <a:lnTo>
                    <a:pt x="13705" y="225"/>
                  </a:lnTo>
                  <a:lnTo>
                    <a:pt x="13747" y="258"/>
                  </a:lnTo>
                  <a:lnTo>
                    <a:pt x="13789" y="295"/>
                  </a:lnTo>
                  <a:lnTo>
                    <a:pt x="13828" y="332"/>
                  </a:lnTo>
                  <a:lnTo>
                    <a:pt x="13866" y="371"/>
                  </a:lnTo>
                  <a:lnTo>
                    <a:pt x="13901" y="412"/>
                  </a:lnTo>
                  <a:lnTo>
                    <a:pt x="13935" y="455"/>
                  </a:lnTo>
                  <a:lnTo>
                    <a:pt x="13966" y="499"/>
                  </a:lnTo>
                  <a:lnTo>
                    <a:pt x="13996" y="545"/>
                  </a:lnTo>
                  <a:lnTo>
                    <a:pt x="14023" y="593"/>
                  </a:lnTo>
                  <a:lnTo>
                    <a:pt x="14048" y="641"/>
                  </a:lnTo>
                  <a:lnTo>
                    <a:pt x="14071" y="692"/>
                  </a:lnTo>
                  <a:lnTo>
                    <a:pt x="14091" y="744"/>
                  </a:lnTo>
                  <a:lnTo>
                    <a:pt x="14109" y="796"/>
                  </a:lnTo>
                  <a:lnTo>
                    <a:pt x="14124" y="850"/>
                  </a:lnTo>
                  <a:lnTo>
                    <a:pt x="14137" y="905"/>
                  </a:lnTo>
                  <a:lnTo>
                    <a:pt x="14147" y="960"/>
                  </a:lnTo>
                  <a:lnTo>
                    <a:pt x="14155" y="1017"/>
                  </a:lnTo>
                  <a:lnTo>
                    <a:pt x="14159" y="1075"/>
                  </a:lnTo>
                  <a:lnTo>
                    <a:pt x="14160" y="1133"/>
                  </a:lnTo>
                  <a:lnTo>
                    <a:pt x="14160" y="3456"/>
                  </a:lnTo>
                  <a:close/>
                </a:path>
              </a:pathLst>
            </a:custGeom>
            <a:solidFill>
              <a:srgbClr val="b6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864400" y="1943280"/>
              <a:ext cx="88560" cy="88560"/>
            </a:xfrm>
            <a:custGeom>
              <a:avLst/>
              <a:gdLst/>
              <a:ahLst/>
              <a:rect l="l" t="t" r="r" b="b"/>
              <a:pathLst>
                <a:path w="1175" h="1176">
                  <a:moveTo>
                    <a:pt x="0" y="1176"/>
                  </a:moveTo>
                  <a:lnTo>
                    <a:pt x="0" y="1176"/>
                  </a:lnTo>
                  <a:lnTo>
                    <a:pt x="30" y="1176"/>
                  </a:lnTo>
                  <a:lnTo>
                    <a:pt x="61" y="1174"/>
                  </a:lnTo>
                  <a:lnTo>
                    <a:pt x="90" y="1173"/>
                  </a:lnTo>
                  <a:lnTo>
                    <a:pt x="119" y="1170"/>
                  </a:lnTo>
                  <a:lnTo>
                    <a:pt x="150" y="1167"/>
                  </a:lnTo>
                  <a:lnTo>
                    <a:pt x="179" y="1163"/>
                  </a:lnTo>
                  <a:lnTo>
                    <a:pt x="208" y="1158"/>
                  </a:lnTo>
                  <a:lnTo>
                    <a:pt x="237" y="1152"/>
                  </a:lnTo>
                  <a:lnTo>
                    <a:pt x="265" y="1146"/>
                  </a:lnTo>
                  <a:lnTo>
                    <a:pt x="294" y="1140"/>
                  </a:lnTo>
                  <a:lnTo>
                    <a:pt x="321" y="1131"/>
                  </a:lnTo>
                  <a:lnTo>
                    <a:pt x="349" y="1123"/>
                  </a:lnTo>
                  <a:lnTo>
                    <a:pt x="377" y="1114"/>
                  </a:lnTo>
                  <a:lnTo>
                    <a:pt x="404" y="1105"/>
                  </a:lnTo>
                  <a:lnTo>
                    <a:pt x="431" y="1095"/>
                  </a:lnTo>
                  <a:lnTo>
                    <a:pt x="458" y="1084"/>
                  </a:lnTo>
                  <a:lnTo>
                    <a:pt x="483" y="1073"/>
                  </a:lnTo>
                  <a:lnTo>
                    <a:pt x="510" y="1060"/>
                  </a:lnTo>
                  <a:lnTo>
                    <a:pt x="535" y="1047"/>
                  </a:lnTo>
                  <a:lnTo>
                    <a:pt x="560" y="1034"/>
                  </a:lnTo>
                  <a:lnTo>
                    <a:pt x="585" y="1020"/>
                  </a:lnTo>
                  <a:lnTo>
                    <a:pt x="609" y="1006"/>
                  </a:lnTo>
                  <a:lnTo>
                    <a:pt x="633" y="991"/>
                  </a:lnTo>
                  <a:lnTo>
                    <a:pt x="658" y="975"/>
                  </a:lnTo>
                  <a:lnTo>
                    <a:pt x="681" y="959"/>
                  </a:lnTo>
                  <a:lnTo>
                    <a:pt x="703" y="943"/>
                  </a:lnTo>
                  <a:lnTo>
                    <a:pt x="725" y="926"/>
                  </a:lnTo>
                  <a:lnTo>
                    <a:pt x="748" y="907"/>
                  </a:lnTo>
                  <a:lnTo>
                    <a:pt x="769" y="889"/>
                  </a:lnTo>
                  <a:lnTo>
                    <a:pt x="790" y="871"/>
                  </a:lnTo>
                  <a:lnTo>
                    <a:pt x="811" y="852"/>
                  </a:lnTo>
                  <a:lnTo>
                    <a:pt x="831" y="831"/>
                  </a:lnTo>
                  <a:lnTo>
                    <a:pt x="851" y="811"/>
                  </a:lnTo>
                  <a:lnTo>
                    <a:pt x="870" y="791"/>
                  </a:lnTo>
                  <a:lnTo>
                    <a:pt x="889" y="770"/>
                  </a:lnTo>
                  <a:lnTo>
                    <a:pt x="907" y="748"/>
                  </a:lnTo>
                  <a:lnTo>
                    <a:pt x="925" y="726"/>
                  </a:lnTo>
                  <a:lnTo>
                    <a:pt x="942" y="704"/>
                  </a:lnTo>
                  <a:lnTo>
                    <a:pt x="958" y="681"/>
                  </a:lnTo>
                  <a:lnTo>
                    <a:pt x="975" y="658"/>
                  </a:lnTo>
                  <a:lnTo>
                    <a:pt x="990" y="634"/>
                  </a:lnTo>
                  <a:lnTo>
                    <a:pt x="1005" y="611"/>
                  </a:lnTo>
                  <a:lnTo>
                    <a:pt x="1019" y="586"/>
                  </a:lnTo>
                  <a:lnTo>
                    <a:pt x="1033" y="561"/>
                  </a:lnTo>
                  <a:lnTo>
                    <a:pt x="1047" y="536"/>
                  </a:lnTo>
                  <a:lnTo>
                    <a:pt x="1059" y="510"/>
                  </a:lnTo>
                  <a:lnTo>
                    <a:pt x="1071" y="485"/>
                  </a:lnTo>
                  <a:lnTo>
                    <a:pt x="1083" y="459"/>
                  </a:lnTo>
                  <a:lnTo>
                    <a:pt x="1093" y="431"/>
                  </a:lnTo>
                  <a:lnTo>
                    <a:pt x="1104" y="405"/>
                  </a:lnTo>
                  <a:lnTo>
                    <a:pt x="1113" y="377"/>
                  </a:lnTo>
                  <a:lnTo>
                    <a:pt x="1123" y="350"/>
                  </a:lnTo>
                  <a:lnTo>
                    <a:pt x="1131" y="323"/>
                  </a:lnTo>
                  <a:lnTo>
                    <a:pt x="1138" y="294"/>
                  </a:lnTo>
                  <a:lnTo>
                    <a:pt x="1145" y="266"/>
                  </a:lnTo>
                  <a:lnTo>
                    <a:pt x="1151" y="238"/>
                  </a:lnTo>
                  <a:lnTo>
                    <a:pt x="1157" y="208"/>
                  </a:lnTo>
                  <a:lnTo>
                    <a:pt x="1162" y="180"/>
                  </a:lnTo>
                  <a:lnTo>
                    <a:pt x="1165" y="150"/>
                  </a:lnTo>
                  <a:lnTo>
                    <a:pt x="1169" y="121"/>
                  </a:lnTo>
                  <a:lnTo>
                    <a:pt x="1172" y="91"/>
                  </a:lnTo>
                  <a:lnTo>
                    <a:pt x="1173" y="61"/>
                  </a:lnTo>
                  <a:lnTo>
                    <a:pt x="1175" y="31"/>
                  </a:lnTo>
                  <a:lnTo>
                    <a:pt x="1175" y="0"/>
                  </a:lnTo>
                  <a:lnTo>
                    <a:pt x="1091" y="0"/>
                  </a:lnTo>
                  <a:lnTo>
                    <a:pt x="1090" y="29"/>
                  </a:lnTo>
                  <a:lnTo>
                    <a:pt x="1089" y="57"/>
                  </a:lnTo>
                  <a:lnTo>
                    <a:pt x="1087" y="85"/>
                  </a:lnTo>
                  <a:lnTo>
                    <a:pt x="1085" y="112"/>
                  </a:lnTo>
                  <a:lnTo>
                    <a:pt x="1082" y="139"/>
                  </a:lnTo>
                  <a:lnTo>
                    <a:pt x="1078" y="167"/>
                  </a:lnTo>
                  <a:lnTo>
                    <a:pt x="1074" y="194"/>
                  </a:lnTo>
                  <a:lnTo>
                    <a:pt x="1069" y="220"/>
                  </a:lnTo>
                  <a:lnTo>
                    <a:pt x="1063" y="248"/>
                  </a:lnTo>
                  <a:lnTo>
                    <a:pt x="1057" y="273"/>
                  </a:lnTo>
                  <a:lnTo>
                    <a:pt x="1050" y="299"/>
                  </a:lnTo>
                  <a:lnTo>
                    <a:pt x="1042" y="325"/>
                  </a:lnTo>
                  <a:lnTo>
                    <a:pt x="1033" y="351"/>
                  </a:lnTo>
                  <a:lnTo>
                    <a:pt x="1024" y="375"/>
                  </a:lnTo>
                  <a:lnTo>
                    <a:pt x="1015" y="401"/>
                  </a:lnTo>
                  <a:lnTo>
                    <a:pt x="1005" y="425"/>
                  </a:lnTo>
                  <a:lnTo>
                    <a:pt x="995" y="449"/>
                  </a:lnTo>
                  <a:lnTo>
                    <a:pt x="984" y="474"/>
                  </a:lnTo>
                  <a:lnTo>
                    <a:pt x="972" y="497"/>
                  </a:lnTo>
                  <a:lnTo>
                    <a:pt x="959" y="520"/>
                  </a:lnTo>
                  <a:lnTo>
                    <a:pt x="946" y="544"/>
                  </a:lnTo>
                  <a:lnTo>
                    <a:pt x="933" y="567"/>
                  </a:lnTo>
                  <a:lnTo>
                    <a:pt x="919" y="588"/>
                  </a:lnTo>
                  <a:lnTo>
                    <a:pt x="905" y="611"/>
                  </a:lnTo>
                  <a:lnTo>
                    <a:pt x="890" y="632"/>
                  </a:lnTo>
                  <a:lnTo>
                    <a:pt x="874" y="653"/>
                  </a:lnTo>
                  <a:lnTo>
                    <a:pt x="858" y="674"/>
                  </a:lnTo>
                  <a:lnTo>
                    <a:pt x="842" y="695"/>
                  </a:lnTo>
                  <a:lnTo>
                    <a:pt x="825" y="715"/>
                  </a:lnTo>
                  <a:lnTo>
                    <a:pt x="807" y="734"/>
                  </a:lnTo>
                  <a:lnTo>
                    <a:pt x="789" y="753"/>
                  </a:lnTo>
                  <a:lnTo>
                    <a:pt x="771" y="772"/>
                  </a:lnTo>
                  <a:lnTo>
                    <a:pt x="753" y="790"/>
                  </a:lnTo>
                  <a:lnTo>
                    <a:pt x="734" y="808"/>
                  </a:lnTo>
                  <a:lnTo>
                    <a:pt x="714" y="825"/>
                  </a:lnTo>
                  <a:lnTo>
                    <a:pt x="694" y="843"/>
                  </a:lnTo>
                  <a:lnTo>
                    <a:pt x="674" y="859"/>
                  </a:lnTo>
                  <a:lnTo>
                    <a:pt x="652" y="875"/>
                  </a:lnTo>
                  <a:lnTo>
                    <a:pt x="631" y="890"/>
                  </a:lnTo>
                  <a:lnTo>
                    <a:pt x="610" y="905"/>
                  </a:lnTo>
                  <a:lnTo>
                    <a:pt x="588" y="920"/>
                  </a:lnTo>
                  <a:lnTo>
                    <a:pt x="565" y="934"/>
                  </a:lnTo>
                  <a:lnTo>
                    <a:pt x="543" y="947"/>
                  </a:lnTo>
                  <a:lnTo>
                    <a:pt x="520" y="960"/>
                  </a:lnTo>
                  <a:lnTo>
                    <a:pt x="496" y="972"/>
                  </a:lnTo>
                  <a:lnTo>
                    <a:pt x="473" y="984"/>
                  </a:lnTo>
                  <a:lnTo>
                    <a:pt x="449" y="996"/>
                  </a:lnTo>
                  <a:lnTo>
                    <a:pt x="424" y="1006"/>
                  </a:lnTo>
                  <a:lnTo>
                    <a:pt x="400" y="1016"/>
                  </a:lnTo>
                  <a:lnTo>
                    <a:pt x="375" y="1025"/>
                  </a:lnTo>
                  <a:lnTo>
                    <a:pt x="350" y="1034"/>
                  </a:lnTo>
                  <a:lnTo>
                    <a:pt x="324" y="1042"/>
                  </a:lnTo>
                  <a:lnTo>
                    <a:pt x="299" y="1050"/>
                  </a:lnTo>
                  <a:lnTo>
                    <a:pt x="272" y="1057"/>
                  </a:lnTo>
                  <a:lnTo>
                    <a:pt x="246" y="1064"/>
                  </a:lnTo>
                  <a:lnTo>
                    <a:pt x="220" y="1070"/>
                  </a:lnTo>
                  <a:lnTo>
                    <a:pt x="193" y="1075"/>
                  </a:lnTo>
                  <a:lnTo>
                    <a:pt x="166" y="1079"/>
                  </a:lnTo>
                  <a:lnTo>
                    <a:pt x="139" y="1083"/>
                  </a:lnTo>
                  <a:lnTo>
                    <a:pt x="111" y="1086"/>
                  </a:lnTo>
                  <a:lnTo>
                    <a:pt x="84" y="1089"/>
                  </a:lnTo>
                  <a:lnTo>
                    <a:pt x="57" y="1090"/>
                  </a:lnTo>
                  <a:lnTo>
                    <a:pt x="28" y="1091"/>
                  </a:lnTo>
                  <a:lnTo>
                    <a:pt x="0" y="1092"/>
                  </a:lnTo>
                  <a:lnTo>
                    <a:pt x="0" y="1092"/>
                  </a:lnTo>
                  <a:lnTo>
                    <a:pt x="0" y="1176"/>
                  </a:lnTo>
                  <a:lnTo>
                    <a:pt x="0" y="1176"/>
                  </a:lnTo>
                  <a:lnTo>
                    <a:pt x="0" y="117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4965840" y="2025720"/>
              <a:ext cx="898560" cy="6120"/>
            </a:xfrm>
            <a:custGeom>
              <a:avLst/>
              <a:gdLst/>
              <a:ahLst/>
              <a:rect l="l" t="t" r="r" b="b"/>
              <a:pathLst>
                <a:path w="11895" h="84">
                  <a:moveTo>
                    <a:pt x="0" y="0"/>
                  </a:moveTo>
                  <a:lnTo>
                    <a:pt x="0" y="84"/>
                  </a:lnTo>
                  <a:lnTo>
                    <a:pt x="11895" y="84"/>
                  </a:lnTo>
                  <a:lnTo>
                    <a:pt x="1189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4876920" y="1943280"/>
              <a:ext cx="88920" cy="88560"/>
            </a:xfrm>
            <a:custGeom>
              <a:avLst/>
              <a:gdLst/>
              <a:ahLst/>
              <a:rect l="l" t="t" r="r" b="b"/>
              <a:pathLst>
                <a:path w="1175" h="1176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2" y="61"/>
                  </a:lnTo>
                  <a:lnTo>
                    <a:pt x="3" y="91"/>
                  </a:lnTo>
                  <a:lnTo>
                    <a:pt x="6" y="121"/>
                  </a:lnTo>
                  <a:lnTo>
                    <a:pt x="9" y="150"/>
                  </a:lnTo>
                  <a:lnTo>
                    <a:pt x="13" y="180"/>
                  </a:lnTo>
                  <a:lnTo>
                    <a:pt x="18" y="209"/>
                  </a:lnTo>
                  <a:lnTo>
                    <a:pt x="24" y="238"/>
                  </a:lnTo>
                  <a:lnTo>
                    <a:pt x="30" y="266"/>
                  </a:lnTo>
                  <a:lnTo>
                    <a:pt x="36" y="294"/>
                  </a:lnTo>
                  <a:lnTo>
                    <a:pt x="45" y="323"/>
                  </a:lnTo>
                  <a:lnTo>
                    <a:pt x="53" y="350"/>
                  </a:lnTo>
                  <a:lnTo>
                    <a:pt x="62" y="377"/>
                  </a:lnTo>
                  <a:lnTo>
                    <a:pt x="71" y="405"/>
                  </a:lnTo>
                  <a:lnTo>
                    <a:pt x="81" y="432"/>
                  </a:lnTo>
                  <a:lnTo>
                    <a:pt x="92" y="459"/>
                  </a:lnTo>
                  <a:lnTo>
                    <a:pt x="103" y="485"/>
                  </a:lnTo>
                  <a:lnTo>
                    <a:pt x="116" y="510"/>
                  </a:lnTo>
                  <a:lnTo>
                    <a:pt x="129" y="536"/>
                  </a:lnTo>
                  <a:lnTo>
                    <a:pt x="142" y="561"/>
                  </a:lnTo>
                  <a:lnTo>
                    <a:pt x="156" y="586"/>
                  </a:lnTo>
                  <a:lnTo>
                    <a:pt x="170" y="611"/>
                  </a:lnTo>
                  <a:lnTo>
                    <a:pt x="185" y="634"/>
                  </a:lnTo>
                  <a:lnTo>
                    <a:pt x="201" y="658"/>
                  </a:lnTo>
                  <a:lnTo>
                    <a:pt x="217" y="681"/>
                  </a:lnTo>
                  <a:lnTo>
                    <a:pt x="233" y="704"/>
                  </a:lnTo>
                  <a:lnTo>
                    <a:pt x="250" y="726"/>
                  </a:lnTo>
                  <a:lnTo>
                    <a:pt x="269" y="748"/>
                  </a:lnTo>
                  <a:lnTo>
                    <a:pt x="287" y="770"/>
                  </a:lnTo>
                  <a:lnTo>
                    <a:pt x="305" y="791"/>
                  </a:lnTo>
                  <a:lnTo>
                    <a:pt x="324" y="811"/>
                  </a:lnTo>
                  <a:lnTo>
                    <a:pt x="345" y="831"/>
                  </a:lnTo>
                  <a:lnTo>
                    <a:pt x="365" y="852"/>
                  </a:lnTo>
                  <a:lnTo>
                    <a:pt x="385" y="871"/>
                  </a:lnTo>
                  <a:lnTo>
                    <a:pt x="406" y="889"/>
                  </a:lnTo>
                  <a:lnTo>
                    <a:pt x="428" y="907"/>
                  </a:lnTo>
                  <a:lnTo>
                    <a:pt x="450" y="926"/>
                  </a:lnTo>
                  <a:lnTo>
                    <a:pt x="472" y="943"/>
                  </a:lnTo>
                  <a:lnTo>
                    <a:pt x="494" y="959"/>
                  </a:lnTo>
                  <a:lnTo>
                    <a:pt x="518" y="975"/>
                  </a:lnTo>
                  <a:lnTo>
                    <a:pt x="542" y="991"/>
                  </a:lnTo>
                  <a:lnTo>
                    <a:pt x="565" y="1006"/>
                  </a:lnTo>
                  <a:lnTo>
                    <a:pt x="590" y="1020"/>
                  </a:lnTo>
                  <a:lnTo>
                    <a:pt x="615" y="1034"/>
                  </a:lnTo>
                  <a:lnTo>
                    <a:pt x="640" y="1047"/>
                  </a:lnTo>
                  <a:lnTo>
                    <a:pt x="666" y="1060"/>
                  </a:lnTo>
                  <a:lnTo>
                    <a:pt x="691" y="1073"/>
                  </a:lnTo>
                  <a:lnTo>
                    <a:pt x="717" y="1084"/>
                  </a:lnTo>
                  <a:lnTo>
                    <a:pt x="744" y="1095"/>
                  </a:lnTo>
                  <a:lnTo>
                    <a:pt x="771" y="1105"/>
                  </a:lnTo>
                  <a:lnTo>
                    <a:pt x="798" y="1114"/>
                  </a:lnTo>
                  <a:lnTo>
                    <a:pt x="826" y="1123"/>
                  </a:lnTo>
                  <a:lnTo>
                    <a:pt x="853" y="1131"/>
                  </a:lnTo>
                  <a:lnTo>
                    <a:pt x="882" y="1140"/>
                  </a:lnTo>
                  <a:lnTo>
                    <a:pt x="910" y="1146"/>
                  </a:lnTo>
                  <a:lnTo>
                    <a:pt x="938" y="1152"/>
                  </a:lnTo>
                  <a:lnTo>
                    <a:pt x="967" y="1158"/>
                  </a:lnTo>
                  <a:lnTo>
                    <a:pt x="996" y="1163"/>
                  </a:lnTo>
                  <a:lnTo>
                    <a:pt x="1025" y="1167"/>
                  </a:lnTo>
                  <a:lnTo>
                    <a:pt x="1055" y="1170"/>
                  </a:lnTo>
                  <a:lnTo>
                    <a:pt x="1085" y="1173"/>
                  </a:lnTo>
                  <a:lnTo>
                    <a:pt x="1115" y="1174"/>
                  </a:lnTo>
                  <a:lnTo>
                    <a:pt x="1145" y="1176"/>
                  </a:lnTo>
                  <a:lnTo>
                    <a:pt x="1175" y="1176"/>
                  </a:lnTo>
                  <a:lnTo>
                    <a:pt x="1175" y="1092"/>
                  </a:lnTo>
                  <a:lnTo>
                    <a:pt x="1147" y="1091"/>
                  </a:lnTo>
                  <a:lnTo>
                    <a:pt x="1119" y="1090"/>
                  </a:lnTo>
                  <a:lnTo>
                    <a:pt x="1091" y="1089"/>
                  </a:lnTo>
                  <a:lnTo>
                    <a:pt x="1063" y="1086"/>
                  </a:lnTo>
                  <a:lnTo>
                    <a:pt x="1037" y="1083"/>
                  </a:lnTo>
                  <a:lnTo>
                    <a:pt x="1009" y="1079"/>
                  </a:lnTo>
                  <a:lnTo>
                    <a:pt x="982" y="1075"/>
                  </a:lnTo>
                  <a:lnTo>
                    <a:pt x="955" y="1070"/>
                  </a:lnTo>
                  <a:lnTo>
                    <a:pt x="928" y="1064"/>
                  </a:lnTo>
                  <a:lnTo>
                    <a:pt x="902" y="1057"/>
                  </a:lnTo>
                  <a:lnTo>
                    <a:pt x="876" y="1050"/>
                  </a:lnTo>
                  <a:lnTo>
                    <a:pt x="851" y="1042"/>
                  </a:lnTo>
                  <a:lnTo>
                    <a:pt x="825" y="1034"/>
                  </a:lnTo>
                  <a:lnTo>
                    <a:pt x="800" y="1025"/>
                  </a:lnTo>
                  <a:lnTo>
                    <a:pt x="775" y="1016"/>
                  </a:lnTo>
                  <a:lnTo>
                    <a:pt x="751" y="1006"/>
                  </a:lnTo>
                  <a:lnTo>
                    <a:pt x="727" y="996"/>
                  </a:lnTo>
                  <a:lnTo>
                    <a:pt x="702" y="984"/>
                  </a:lnTo>
                  <a:lnTo>
                    <a:pt x="679" y="972"/>
                  </a:lnTo>
                  <a:lnTo>
                    <a:pt x="656" y="960"/>
                  </a:lnTo>
                  <a:lnTo>
                    <a:pt x="632" y="947"/>
                  </a:lnTo>
                  <a:lnTo>
                    <a:pt x="609" y="934"/>
                  </a:lnTo>
                  <a:lnTo>
                    <a:pt x="587" y="920"/>
                  </a:lnTo>
                  <a:lnTo>
                    <a:pt x="565" y="905"/>
                  </a:lnTo>
                  <a:lnTo>
                    <a:pt x="544" y="890"/>
                  </a:lnTo>
                  <a:lnTo>
                    <a:pt x="523" y="875"/>
                  </a:lnTo>
                  <a:lnTo>
                    <a:pt x="502" y="859"/>
                  </a:lnTo>
                  <a:lnTo>
                    <a:pt x="481" y="843"/>
                  </a:lnTo>
                  <a:lnTo>
                    <a:pt x="461" y="825"/>
                  </a:lnTo>
                  <a:lnTo>
                    <a:pt x="442" y="808"/>
                  </a:lnTo>
                  <a:lnTo>
                    <a:pt x="423" y="790"/>
                  </a:lnTo>
                  <a:lnTo>
                    <a:pt x="404" y="773"/>
                  </a:lnTo>
                  <a:lnTo>
                    <a:pt x="385" y="753"/>
                  </a:lnTo>
                  <a:lnTo>
                    <a:pt x="368" y="734"/>
                  </a:lnTo>
                  <a:lnTo>
                    <a:pt x="351" y="715"/>
                  </a:lnTo>
                  <a:lnTo>
                    <a:pt x="333" y="695"/>
                  </a:lnTo>
                  <a:lnTo>
                    <a:pt x="317" y="674"/>
                  </a:lnTo>
                  <a:lnTo>
                    <a:pt x="301" y="653"/>
                  </a:lnTo>
                  <a:lnTo>
                    <a:pt x="286" y="632"/>
                  </a:lnTo>
                  <a:lnTo>
                    <a:pt x="271" y="611"/>
                  </a:lnTo>
                  <a:lnTo>
                    <a:pt x="256" y="588"/>
                  </a:lnTo>
                  <a:lnTo>
                    <a:pt x="242" y="567"/>
                  </a:lnTo>
                  <a:lnTo>
                    <a:pt x="229" y="544"/>
                  </a:lnTo>
                  <a:lnTo>
                    <a:pt x="216" y="520"/>
                  </a:lnTo>
                  <a:lnTo>
                    <a:pt x="204" y="497"/>
                  </a:lnTo>
                  <a:lnTo>
                    <a:pt x="192" y="474"/>
                  </a:lnTo>
                  <a:lnTo>
                    <a:pt x="180" y="449"/>
                  </a:lnTo>
                  <a:lnTo>
                    <a:pt x="170" y="425"/>
                  </a:lnTo>
                  <a:lnTo>
                    <a:pt x="160" y="401"/>
                  </a:lnTo>
                  <a:lnTo>
                    <a:pt x="151" y="375"/>
                  </a:lnTo>
                  <a:lnTo>
                    <a:pt x="142" y="351"/>
                  </a:lnTo>
                  <a:lnTo>
                    <a:pt x="134" y="325"/>
                  </a:lnTo>
                  <a:lnTo>
                    <a:pt x="126" y="299"/>
                  </a:lnTo>
                  <a:lnTo>
                    <a:pt x="119" y="273"/>
                  </a:lnTo>
                  <a:lnTo>
                    <a:pt x="112" y="248"/>
                  </a:lnTo>
                  <a:lnTo>
                    <a:pt x="106" y="220"/>
                  </a:lnTo>
                  <a:lnTo>
                    <a:pt x="101" y="194"/>
                  </a:lnTo>
                  <a:lnTo>
                    <a:pt x="97" y="167"/>
                  </a:lnTo>
                  <a:lnTo>
                    <a:pt x="93" y="139"/>
                  </a:lnTo>
                  <a:lnTo>
                    <a:pt x="90" y="112"/>
                  </a:lnTo>
                  <a:lnTo>
                    <a:pt x="87" y="85"/>
                  </a:lnTo>
                  <a:lnTo>
                    <a:pt x="86" y="57"/>
                  </a:lnTo>
                  <a:lnTo>
                    <a:pt x="85" y="29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876920" y="1766880"/>
              <a:ext cx="6120" cy="176400"/>
            </a:xfrm>
            <a:custGeom>
              <a:avLst/>
              <a:gdLst/>
              <a:ahLst/>
              <a:rect l="l" t="t" r="r" b="b"/>
              <a:pathLst>
                <a:path w="84" h="2323">
                  <a:moveTo>
                    <a:pt x="84" y="0"/>
                  </a:moveTo>
                  <a:lnTo>
                    <a:pt x="0" y="0"/>
                  </a:lnTo>
                  <a:lnTo>
                    <a:pt x="0" y="2323"/>
                  </a:lnTo>
                  <a:lnTo>
                    <a:pt x="84" y="2323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4876920" y="1677960"/>
              <a:ext cx="88920" cy="88920"/>
            </a:xfrm>
            <a:custGeom>
              <a:avLst/>
              <a:gdLst/>
              <a:ahLst/>
              <a:rect l="l" t="t" r="r" b="b"/>
              <a:pathLst>
                <a:path w="1175" h="1176">
                  <a:moveTo>
                    <a:pt x="1175" y="0"/>
                  </a:moveTo>
                  <a:lnTo>
                    <a:pt x="1175" y="0"/>
                  </a:lnTo>
                  <a:lnTo>
                    <a:pt x="1145" y="1"/>
                  </a:lnTo>
                  <a:lnTo>
                    <a:pt x="1115" y="2"/>
                  </a:lnTo>
                  <a:lnTo>
                    <a:pt x="1085" y="4"/>
                  </a:lnTo>
                  <a:lnTo>
                    <a:pt x="1055" y="6"/>
                  </a:lnTo>
                  <a:lnTo>
                    <a:pt x="1025" y="10"/>
                  </a:lnTo>
                  <a:lnTo>
                    <a:pt x="996" y="14"/>
                  </a:lnTo>
                  <a:lnTo>
                    <a:pt x="968" y="18"/>
                  </a:lnTo>
                  <a:lnTo>
                    <a:pt x="938" y="25"/>
                  </a:lnTo>
                  <a:lnTo>
                    <a:pt x="910" y="31"/>
                  </a:lnTo>
                  <a:lnTo>
                    <a:pt x="882" y="38"/>
                  </a:lnTo>
                  <a:lnTo>
                    <a:pt x="853" y="45"/>
                  </a:lnTo>
                  <a:lnTo>
                    <a:pt x="826" y="54"/>
                  </a:lnTo>
                  <a:lnTo>
                    <a:pt x="798" y="62"/>
                  </a:lnTo>
                  <a:lnTo>
                    <a:pt x="771" y="72"/>
                  </a:lnTo>
                  <a:lnTo>
                    <a:pt x="745" y="82"/>
                  </a:lnTo>
                  <a:lnTo>
                    <a:pt x="717" y="93"/>
                  </a:lnTo>
                  <a:lnTo>
                    <a:pt x="691" y="105"/>
                  </a:lnTo>
                  <a:lnTo>
                    <a:pt x="666" y="117"/>
                  </a:lnTo>
                  <a:lnTo>
                    <a:pt x="640" y="129"/>
                  </a:lnTo>
                  <a:lnTo>
                    <a:pt x="615" y="142"/>
                  </a:lnTo>
                  <a:lnTo>
                    <a:pt x="590" y="156"/>
                  </a:lnTo>
                  <a:lnTo>
                    <a:pt x="565" y="170"/>
                  </a:lnTo>
                  <a:lnTo>
                    <a:pt x="542" y="186"/>
                  </a:lnTo>
                  <a:lnTo>
                    <a:pt x="518" y="201"/>
                  </a:lnTo>
                  <a:lnTo>
                    <a:pt x="494" y="217"/>
                  </a:lnTo>
                  <a:lnTo>
                    <a:pt x="472" y="234"/>
                  </a:lnTo>
                  <a:lnTo>
                    <a:pt x="450" y="252"/>
                  </a:lnTo>
                  <a:lnTo>
                    <a:pt x="428" y="269"/>
                  </a:lnTo>
                  <a:lnTo>
                    <a:pt x="406" y="287"/>
                  </a:lnTo>
                  <a:lnTo>
                    <a:pt x="385" y="306"/>
                  </a:lnTo>
                  <a:lnTo>
                    <a:pt x="365" y="326"/>
                  </a:lnTo>
                  <a:lnTo>
                    <a:pt x="345" y="345"/>
                  </a:lnTo>
                  <a:lnTo>
                    <a:pt x="324" y="365"/>
                  </a:lnTo>
                  <a:lnTo>
                    <a:pt x="305" y="385"/>
                  </a:lnTo>
                  <a:lnTo>
                    <a:pt x="287" y="407"/>
                  </a:lnTo>
                  <a:lnTo>
                    <a:pt x="269" y="428"/>
                  </a:lnTo>
                  <a:lnTo>
                    <a:pt x="250" y="450"/>
                  </a:lnTo>
                  <a:lnTo>
                    <a:pt x="233" y="472"/>
                  </a:lnTo>
                  <a:lnTo>
                    <a:pt x="217" y="496"/>
                  </a:lnTo>
                  <a:lnTo>
                    <a:pt x="201" y="519"/>
                  </a:lnTo>
                  <a:lnTo>
                    <a:pt x="185" y="542"/>
                  </a:lnTo>
                  <a:lnTo>
                    <a:pt x="170" y="567"/>
                  </a:lnTo>
                  <a:lnTo>
                    <a:pt x="156" y="591"/>
                  </a:lnTo>
                  <a:lnTo>
                    <a:pt x="142" y="615"/>
                  </a:lnTo>
                  <a:lnTo>
                    <a:pt x="129" y="641"/>
                  </a:lnTo>
                  <a:lnTo>
                    <a:pt x="116" y="666"/>
                  </a:lnTo>
                  <a:lnTo>
                    <a:pt x="103" y="692"/>
                  </a:lnTo>
                  <a:lnTo>
                    <a:pt x="92" y="719"/>
                  </a:lnTo>
                  <a:lnTo>
                    <a:pt x="81" y="745"/>
                  </a:lnTo>
                  <a:lnTo>
                    <a:pt x="71" y="771"/>
                  </a:lnTo>
                  <a:lnTo>
                    <a:pt x="62" y="799"/>
                  </a:lnTo>
                  <a:lnTo>
                    <a:pt x="53" y="826"/>
                  </a:lnTo>
                  <a:lnTo>
                    <a:pt x="45" y="854"/>
                  </a:lnTo>
                  <a:lnTo>
                    <a:pt x="36" y="882"/>
                  </a:lnTo>
                  <a:lnTo>
                    <a:pt x="30" y="910"/>
                  </a:lnTo>
                  <a:lnTo>
                    <a:pt x="24" y="939"/>
                  </a:lnTo>
                  <a:lnTo>
                    <a:pt x="18" y="968"/>
                  </a:lnTo>
                  <a:lnTo>
                    <a:pt x="13" y="997"/>
                  </a:lnTo>
                  <a:lnTo>
                    <a:pt x="9" y="1027"/>
                  </a:lnTo>
                  <a:lnTo>
                    <a:pt x="6" y="1056"/>
                  </a:lnTo>
                  <a:lnTo>
                    <a:pt x="3" y="1086"/>
                  </a:lnTo>
                  <a:lnTo>
                    <a:pt x="2" y="1116"/>
                  </a:lnTo>
                  <a:lnTo>
                    <a:pt x="0" y="1145"/>
                  </a:lnTo>
                  <a:lnTo>
                    <a:pt x="0" y="1176"/>
                  </a:lnTo>
                  <a:lnTo>
                    <a:pt x="84" y="1176"/>
                  </a:lnTo>
                  <a:lnTo>
                    <a:pt x="85" y="1147"/>
                  </a:lnTo>
                  <a:lnTo>
                    <a:pt x="86" y="1120"/>
                  </a:lnTo>
                  <a:lnTo>
                    <a:pt x="87" y="1092"/>
                  </a:lnTo>
                  <a:lnTo>
                    <a:pt x="90" y="1064"/>
                  </a:lnTo>
                  <a:lnTo>
                    <a:pt x="93" y="1037"/>
                  </a:lnTo>
                  <a:lnTo>
                    <a:pt x="97" y="1010"/>
                  </a:lnTo>
                  <a:lnTo>
                    <a:pt x="101" y="983"/>
                  </a:lnTo>
                  <a:lnTo>
                    <a:pt x="106" y="956"/>
                  </a:lnTo>
                  <a:lnTo>
                    <a:pt x="112" y="929"/>
                  </a:lnTo>
                  <a:lnTo>
                    <a:pt x="119" y="903"/>
                  </a:lnTo>
                  <a:lnTo>
                    <a:pt x="126" y="877"/>
                  </a:lnTo>
                  <a:lnTo>
                    <a:pt x="134" y="851"/>
                  </a:lnTo>
                  <a:lnTo>
                    <a:pt x="142" y="826"/>
                  </a:lnTo>
                  <a:lnTo>
                    <a:pt x="151" y="801"/>
                  </a:lnTo>
                  <a:lnTo>
                    <a:pt x="160" y="775"/>
                  </a:lnTo>
                  <a:lnTo>
                    <a:pt x="170" y="751"/>
                  </a:lnTo>
                  <a:lnTo>
                    <a:pt x="180" y="727"/>
                  </a:lnTo>
                  <a:lnTo>
                    <a:pt x="192" y="703"/>
                  </a:lnTo>
                  <a:lnTo>
                    <a:pt x="204" y="679"/>
                  </a:lnTo>
                  <a:lnTo>
                    <a:pt x="216" y="656"/>
                  </a:lnTo>
                  <a:lnTo>
                    <a:pt x="229" y="633"/>
                  </a:lnTo>
                  <a:lnTo>
                    <a:pt x="242" y="610"/>
                  </a:lnTo>
                  <a:lnTo>
                    <a:pt x="256" y="588"/>
                  </a:lnTo>
                  <a:lnTo>
                    <a:pt x="271" y="566"/>
                  </a:lnTo>
                  <a:lnTo>
                    <a:pt x="286" y="544"/>
                  </a:lnTo>
                  <a:lnTo>
                    <a:pt x="301" y="523"/>
                  </a:lnTo>
                  <a:lnTo>
                    <a:pt x="317" y="503"/>
                  </a:lnTo>
                  <a:lnTo>
                    <a:pt x="333" y="483"/>
                  </a:lnTo>
                  <a:lnTo>
                    <a:pt x="351" y="462"/>
                  </a:lnTo>
                  <a:lnTo>
                    <a:pt x="368" y="442"/>
                  </a:lnTo>
                  <a:lnTo>
                    <a:pt x="385" y="423"/>
                  </a:lnTo>
                  <a:lnTo>
                    <a:pt x="404" y="405"/>
                  </a:lnTo>
                  <a:lnTo>
                    <a:pt x="423" y="386"/>
                  </a:lnTo>
                  <a:lnTo>
                    <a:pt x="442" y="368"/>
                  </a:lnTo>
                  <a:lnTo>
                    <a:pt x="461" y="351"/>
                  </a:lnTo>
                  <a:lnTo>
                    <a:pt x="481" y="334"/>
                  </a:lnTo>
                  <a:lnTo>
                    <a:pt x="502" y="317"/>
                  </a:lnTo>
                  <a:lnTo>
                    <a:pt x="523" y="302"/>
                  </a:lnTo>
                  <a:lnTo>
                    <a:pt x="544" y="286"/>
                  </a:lnTo>
                  <a:lnTo>
                    <a:pt x="565" y="272"/>
                  </a:lnTo>
                  <a:lnTo>
                    <a:pt x="587" y="257"/>
                  </a:lnTo>
                  <a:lnTo>
                    <a:pt x="609" y="242"/>
                  </a:lnTo>
                  <a:lnTo>
                    <a:pt x="632" y="229"/>
                  </a:lnTo>
                  <a:lnTo>
                    <a:pt x="656" y="217"/>
                  </a:lnTo>
                  <a:lnTo>
                    <a:pt x="679" y="204"/>
                  </a:lnTo>
                  <a:lnTo>
                    <a:pt x="702" y="193"/>
                  </a:lnTo>
                  <a:lnTo>
                    <a:pt x="727" y="182"/>
                  </a:lnTo>
                  <a:lnTo>
                    <a:pt x="751" y="170"/>
                  </a:lnTo>
                  <a:lnTo>
                    <a:pt x="775" y="160"/>
                  </a:lnTo>
                  <a:lnTo>
                    <a:pt x="800" y="151"/>
                  </a:lnTo>
                  <a:lnTo>
                    <a:pt x="825" y="142"/>
                  </a:lnTo>
                  <a:lnTo>
                    <a:pt x="851" y="134"/>
                  </a:lnTo>
                  <a:lnTo>
                    <a:pt x="876" y="127"/>
                  </a:lnTo>
                  <a:lnTo>
                    <a:pt x="902" y="119"/>
                  </a:lnTo>
                  <a:lnTo>
                    <a:pt x="928" y="113"/>
                  </a:lnTo>
                  <a:lnTo>
                    <a:pt x="955" y="107"/>
                  </a:lnTo>
                  <a:lnTo>
                    <a:pt x="982" y="103"/>
                  </a:lnTo>
                  <a:lnTo>
                    <a:pt x="1009" y="97"/>
                  </a:lnTo>
                  <a:lnTo>
                    <a:pt x="1037" y="93"/>
                  </a:lnTo>
                  <a:lnTo>
                    <a:pt x="1063" y="90"/>
                  </a:lnTo>
                  <a:lnTo>
                    <a:pt x="1091" y="88"/>
                  </a:lnTo>
                  <a:lnTo>
                    <a:pt x="1119" y="86"/>
                  </a:lnTo>
                  <a:lnTo>
                    <a:pt x="1147" y="85"/>
                  </a:lnTo>
                  <a:lnTo>
                    <a:pt x="1175" y="85"/>
                  </a:lnTo>
                  <a:lnTo>
                    <a:pt x="1175" y="85"/>
                  </a:lnTo>
                  <a:lnTo>
                    <a:pt x="1175" y="0"/>
                  </a:lnTo>
                  <a:lnTo>
                    <a:pt x="1175" y="0"/>
                  </a:lnTo>
                  <a:lnTo>
                    <a:pt x="1175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4965840" y="1677960"/>
              <a:ext cx="898560" cy="6480"/>
            </a:xfrm>
            <a:custGeom>
              <a:avLst/>
              <a:gdLst/>
              <a:ahLst/>
              <a:rect l="l" t="t" r="r" b="b"/>
              <a:pathLst>
                <a:path w="11895" h="85">
                  <a:moveTo>
                    <a:pt x="11895" y="85"/>
                  </a:moveTo>
                  <a:lnTo>
                    <a:pt x="11895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1895" y="85"/>
                  </a:lnTo>
                  <a:lnTo>
                    <a:pt x="11895" y="85"/>
                  </a:lnTo>
                  <a:lnTo>
                    <a:pt x="11895" y="0"/>
                  </a:lnTo>
                  <a:lnTo>
                    <a:pt x="11895" y="0"/>
                  </a:lnTo>
                  <a:lnTo>
                    <a:pt x="11895" y="0"/>
                  </a:lnTo>
                  <a:lnTo>
                    <a:pt x="11895" y="8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864400" y="1677960"/>
              <a:ext cx="88560" cy="88920"/>
            </a:xfrm>
            <a:custGeom>
              <a:avLst/>
              <a:gdLst/>
              <a:ahLst/>
              <a:rect l="l" t="t" r="r" b="b"/>
              <a:pathLst>
                <a:path w="1175" h="1176">
                  <a:moveTo>
                    <a:pt x="1175" y="1176"/>
                  </a:moveTo>
                  <a:lnTo>
                    <a:pt x="1175" y="1176"/>
                  </a:lnTo>
                  <a:lnTo>
                    <a:pt x="1175" y="1145"/>
                  </a:lnTo>
                  <a:lnTo>
                    <a:pt x="1173" y="1115"/>
                  </a:lnTo>
                  <a:lnTo>
                    <a:pt x="1172" y="1086"/>
                  </a:lnTo>
                  <a:lnTo>
                    <a:pt x="1169" y="1056"/>
                  </a:lnTo>
                  <a:lnTo>
                    <a:pt x="1165" y="1027"/>
                  </a:lnTo>
                  <a:lnTo>
                    <a:pt x="1162" y="997"/>
                  </a:lnTo>
                  <a:lnTo>
                    <a:pt x="1157" y="968"/>
                  </a:lnTo>
                  <a:lnTo>
                    <a:pt x="1151" y="939"/>
                  </a:lnTo>
                  <a:lnTo>
                    <a:pt x="1145" y="910"/>
                  </a:lnTo>
                  <a:lnTo>
                    <a:pt x="1138" y="882"/>
                  </a:lnTo>
                  <a:lnTo>
                    <a:pt x="1131" y="854"/>
                  </a:lnTo>
                  <a:lnTo>
                    <a:pt x="1123" y="826"/>
                  </a:lnTo>
                  <a:lnTo>
                    <a:pt x="1113" y="799"/>
                  </a:lnTo>
                  <a:lnTo>
                    <a:pt x="1104" y="772"/>
                  </a:lnTo>
                  <a:lnTo>
                    <a:pt x="1093" y="745"/>
                  </a:lnTo>
                  <a:lnTo>
                    <a:pt x="1083" y="719"/>
                  </a:lnTo>
                  <a:lnTo>
                    <a:pt x="1071" y="692"/>
                  </a:lnTo>
                  <a:lnTo>
                    <a:pt x="1059" y="666"/>
                  </a:lnTo>
                  <a:lnTo>
                    <a:pt x="1047" y="641"/>
                  </a:lnTo>
                  <a:lnTo>
                    <a:pt x="1033" y="615"/>
                  </a:lnTo>
                  <a:lnTo>
                    <a:pt x="1019" y="591"/>
                  </a:lnTo>
                  <a:lnTo>
                    <a:pt x="1005" y="567"/>
                  </a:lnTo>
                  <a:lnTo>
                    <a:pt x="990" y="542"/>
                  </a:lnTo>
                  <a:lnTo>
                    <a:pt x="975" y="519"/>
                  </a:lnTo>
                  <a:lnTo>
                    <a:pt x="958" y="496"/>
                  </a:lnTo>
                  <a:lnTo>
                    <a:pt x="942" y="472"/>
                  </a:lnTo>
                  <a:lnTo>
                    <a:pt x="925" y="450"/>
                  </a:lnTo>
                  <a:lnTo>
                    <a:pt x="907" y="428"/>
                  </a:lnTo>
                  <a:lnTo>
                    <a:pt x="889" y="407"/>
                  </a:lnTo>
                  <a:lnTo>
                    <a:pt x="870" y="385"/>
                  </a:lnTo>
                  <a:lnTo>
                    <a:pt x="851" y="365"/>
                  </a:lnTo>
                  <a:lnTo>
                    <a:pt x="831" y="345"/>
                  </a:lnTo>
                  <a:lnTo>
                    <a:pt x="811" y="326"/>
                  </a:lnTo>
                  <a:lnTo>
                    <a:pt x="790" y="306"/>
                  </a:lnTo>
                  <a:lnTo>
                    <a:pt x="769" y="287"/>
                  </a:lnTo>
                  <a:lnTo>
                    <a:pt x="748" y="269"/>
                  </a:lnTo>
                  <a:lnTo>
                    <a:pt x="725" y="252"/>
                  </a:lnTo>
                  <a:lnTo>
                    <a:pt x="703" y="234"/>
                  </a:lnTo>
                  <a:lnTo>
                    <a:pt x="681" y="217"/>
                  </a:lnTo>
                  <a:lnTo>
                    <a:pt x="658" y="201"/>
                  </a:lnTo>
                  <a:lnTo>
                    <a:pt x="633" y="186"/>
                  </a:lnTo>
                  <a:lnTo>
                    <a:pt x="609" y="170"/>
                  </a:lnTo>
                  <a:lnTo>
                    <a:pt x="585" y="156"/>
                  </a:lnTo>
                  <a:lnTo>
                    <a:pt x="560" y="143"/>
                  </a:lnTo>
                  <a:lnTo>
                    <a:pt x="535" y="129"/>
                  </a:lnTo>
                  <a:lnTo>
                    <a:pt x="510" y="117"/>
                  </a:lnTo>
                  <a:lnTo>
                    <a:pt x="483" y="105"/>
                  </a:lnTo>
                  <a:lnTo>
                    <a:pt x="458" y="93"/>
                  </a:lnTo>
                  <a:lnTo>
                    <a:pt x="431" y="82"/>
                  </a:lnTo>
                  <a:lnTo>
                    <a:pt x="404" y="72"/>
                  </a:lnTo>
                  <a:lnTo>
                    <a:pt x="377" y="62"/>
                  </a:lnTo>
                  <a:lnTo>
                    <a:pt x="349" y="54"/>
                  </a:lnTo>
                  <a:lnTo>
                    <a:pt x="321" y="45"/>
                  </a:lnTo>
                  <a:lnTo>
                    <a:pt x="294" y="38"/>
                  </a:lnTo>
                  <a:lnTo>
                    <a:pt x="265" y="31"/>
                  </a:lnTo>
                  <a:lnTo>
                    <a:pt x="237" y="25"/>
                  </a:lnTo>
                  <a:lnTo>
                    <a:pt x="208" y="18"/>
                  </a:lnTo>
                  <a:lnTo>
                    <a:pt x="179" y="14"/>
                  </a:lnTo>
                  <a:lnTo>
                    <a:pt x="150" y="10"/>
                  </a:lnTo>
                  <a:lnTo>
                    <a:pt x="119" y="6"/>
                  </a:lnTo>
                  <a:lnTo>
                    <a:pt x="90" y="4"/>
                  </a:lnTo>
                  <a:lnTo>
                    <a:pt x="61" y="2"/>
                  </a:lnTo>
                  <a:lnTo>
                    <a:pt x="30" y="1"/>
                  </a:lnTo>
                  <a:lnTo>
                    <a:pt x="0" y="0"/>
                  </a:lnTo>
                  <a:lnTo>
                    <a:pt x="0" y="85"/>
                  </a:lnTo>
                  <a:lnTo>
                    <a:pt x="28" y="85"/>
                  </a:lnTo>
                  <a:lnTo>
                    <a:pt x="56" y="86"/>
                  </a:lnTo>
                  <a:lnTo>
                    <a:pt x="84" y="88"/>
                  </a:lnTo>
                  <a:lnTo>
                    <a:pt x="111" y="90"/>
                  </a:lnTo>
                  <a:lnTo>
                    <a:pt x="139" y="93"/>
                  </a:lnTo>
                  <a:lnTo>
                    <a:pt x="166" y="97"/>
                  </a:lnTo>
                  <a:lnTo>
                    <a:pt x="193" y="103"/>
                  </a:lnTo>
                  <a:lnTo>
                    <a:pt x="220" y="107"/>
                  </a:lnTo>
                  <a:lnTo>
                    <a:pt x="246" y="113"/>
                  </a:lnTo>
                  <a:lnTo>
                    <a:pt x="272" y="119"/>
                  </a:lnTo>
                  <a:lnTo>
                    <a:pt x="299" y="127"/>
                  </a:lnTo>
                  <a:lnTo>
                    <a:pt x="324" y="134"/>
                  </a:lnTo>
                  <a:lnTo>
                    <a:pt x="349" y="142"/>
                  </a:lnTo>
                  <a:lnTo>
                    <a:pt x="375" y="151"/>
                  </a:lnTo>
                  <a:lnTo>
                    <a:pt x="400" y="160"/>
                  </a:lnTo>
                  <a:lnTo>
                    <a:pt x="424" y="170"/>
                  </a:lnTo>
                  <a:lnTo>
                    <a:pt x="449" y="182"/>
                  </a:lnTo>
                  <a:lnTo>
                    <a:pt x="473" y="193"/>
                  </a:lnTo>
                  <a:lnTo>
                    <a:pt x="496" y="204"/>
                  </a:lnTo>
                  <a:lnTo>
                    <a:pt x="520" y="217"/>
                  </a:lnTo>
                  <a:lnTo>
                    <a:pt x="543" y="229"/>
                  </a:lnTo>
                  <a:lnTo>
                    <a:pt x="565" y="242"/>
                  </a:lnTo>
                  <a:lnTo>
                    <a:pt x="588" y="257"/>
                  </a:lnTo>
                  <a:lnTo>
                    <a:pt x="610" y="272"/>
                  </a:lnTo>
                  <a:lnTo>
                    <a:pt x="631" y="286"/>
                  </a:lnTo>
                  <a:lnTo>
                    <a:pt x="652" y="302"/>
                  </a:lnTo>
                  <a:lnTo>
                    <a:pt x="674" y="317"/>
                  </a:lnTo>
                  <a:lnTo>
                    <a:pt x="694" y="334"/>
                  </a:lnTo>
                  <a:lnTo>
                    <a:pt x="714" y="351"/>
                  </a:lnTo>
                  <a:lnTo>
                    <a:pt x="734" y="368"/>
                  </a:lnTo>
                  <a:lnTo>
                    <a:pt x="753" y="386"/>
                  </a:lnTo>
                  <a:lnTo>
                    <a:pt x="771" y="405"/>
                  </a:lnTo>
                  <a:lnTo>
                    <a:pt x="789" y="423"/>
                  </a:lnTo>
                  <a:lnTo>
                    <a:pt x="807" y="442"/>
                  </a:lnTo>
                  <a:lnTo>
                    <a:pt x="825" y="462"/>
                  </a:lnTo>
                  <a:lnTo>
                    <a:pt x="842" y="483"/>
                  </a:lnTo>
                  <a:lnTo>
                    <a:pt x="858" y="503"/>
                  </a:lnTo>
                  <a:lnTo>
                    <a:pt x="874" y="523"/>
                  </a:lnTo>
                  <a:lnTo>
                    <a:pt x="890" y="544"/>
                  </a:lnTo>
                  <a:lnTo>
                    <a:pt x="905" y="566"/>
                  </a:lnTo>
                  <a:lnTo>
                    <a:pt x="919" y="588"/>
                  </a:lnTo>
                  <a:lnTo>
                    <a:pt x="933" y="610"/>
                  </a:lnTo>
                  <a:lnTo>
                    <a:pt x="946" y="633"/>
                  </a:lnTo>
                  <a:lnTo>
                    <a:pt x="959" y="656"/>
                  </a:lnTo>
                  <a:lnTo>
                    <a:pt x="972" y="679"/>
                  </a:lnTo>
                  <a:lnTo>
                    <a:pt x="984" y="703"/>
                  </a:lnTo>
                  <a:lnTo>
                    <a:pt x="995" y="727"/>
                  </a:lnTo>
                  <a:lnTo>
                    <a:pt x="1005" y="751"/>
                  </a:lnTo>
                  <a:lnTo>
                    <a:pt x="1015" y="775"/>
                  </a:lnTo>
                  <a:lnTo>
                    <a:pt x="1024" y="801"/>
                  </a:lnTo>
                  <a:lnTo>
                    <a:pt x="1033" y="826"/>
                  </a:lnTo>
                  <a:lnTo>
                    <a:pt x="1042" y="851"/>
                  </a:lnTo>
                  <a:lnTo>
                    <a:pt x="1050" y="877"/>
                  </a:lnTo>
                  <a:lnTo>
                    <a:pt x="1057" y="903"/>
                  </a:lnTo>
                  <a:lnTo>
                    <a:pt x="1063" y="929"/>
                  </a:lnTo>
                  <a:lnTo>
                    <a:pt x="1069" y="956"/>
                  </a:lnTo>
                  <a:lnTo>
                    <a:pt x="1074" y="982"/>
                  </a:lnTo>
                  <a:lnTo>
                    <a:pt x="1078" y="1010"/>
                  </a:lnTo>
                  <a:lnTo>
                    <a:pt x="1082" y="1037"/>
                  </a:lnTo>
                  <a:lnTo>
                    <a:pt x="1085" y="1064"/>
                  </a:lnTo>
                  <a:lnTo>
                    <a:pt x="1087" y="1092"/>
                  </a:lnTo>
                  <a:lnTo>
                    <a:pt x="1089" y="1120"/>
                  </a:lnTo>
                  <a:lnTo>
                    <a:pt x="1090" y="1147"/>
                  </a:lnTo>
                  <a:lnTo>
                    <a:pt x="1091" y="1176"/>
                  </a:lnTo>
                  <a:lnTo>
                    <a:pt x="1091" y="1176"/>
                  </a:lnTo>
                  <a:lnTo>
                    <a:pt x="1175" y="1176"/>
                  </a:lnTo>
                  <a:lnTo>
                    <a:pt x="1175" y="1176"/>
                  </a:lnTo>
                  <a:lnTo>
                    <a:pt x="1175" y="117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946840" y="1766880"/>
              <a:ext cx="6120" cy="176400"/>
            </a:xfrm>
            <a:custGeom>
              <a:avLst/>
              <a:gdLst/>
              <a:ahLst/>
              <a:rect l="l" t="t" r="r" b="b"/>
              <a:pathLst>
                <a:path w="84" h="2323">
                  <a:moveTo>
                    <a:pt x="0" y="2323"/>
                  </a:moveTo>
                  <a:lnTo>
                    <a:pt x="84" y="232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2323"/>
                  </a:lnTo>
                  <a:lnTo>
                    <a:pt x="0" y="2323"/>
                  </a:lnTo>
                  <a:lnTo>
                    <a:pt x="84" y="2323"/>
                  </a:lnTo>
                  <a:lnTo>
                    <a:pt x="84" y="2323"/>
                  </a:lnTo>
                  <a:lnTo>
                    <a:pt x="84" y="2323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186520" y="1711440"/>
              <a:ext cx="452160" cy="142920"/>
            </a:xfrm>
            <a:prstGeom prst="rect">
              <a:avLst/>
            </a:pr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5186520" y="1711440"/>
              <a:ext cx="452160" cy="142920"/>
            </a:xfrm>
            <a:prstGeom prst="rect">
              <a:avLst/>
            </a:prstGeom>
            <a:noFill/>
            <a:ln w="3240">
              <a:solidFill>
                <a:srgbClr val="4e50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702400" y="1738440"/>
              <a:ext cx="55440" cy="55440"/>
            </a:xfrm>
            <a:custGeom>
              <a:avLst/>
              <a:gdLst/>
              <a:ahLst/>
              <a:rect l="l" t="t" r="r" b="b"/>
              <a:pathLst>
                <a:path w="734" h="733">
                  <a:moveTo>
                    <a:pt x="734" y="367"/>
                  </a:moveTo>
                  <a:lnTo>
                    <a:pt x="733" y="386"/>
                  </a:lnTo>
                  <a:lnTo>
                    <a:pt x="732" y="404"/>
                  </a:lnTo>
                  <a:lnTo>
                    <a:pt x="730" y="422"/>
                  </a:lnTo>
                  <a:lnTo>
                    <a:pt x="727" y="441"/>
                  </a:lnTo>
                  <a:lnTo>
                    <a:pt x="723" y="458"/>
                  </a:lnTo>
                  <a:lnTo>
                    <a:pt x="718" y="476"/>
                  </a:lnTo>
                  <a:lnTo>
                    <a:pt x="712" y="492"/>
                  </a:lnTo>
                  <a:lnTo>
                    <a:pt x="706" y="509"/>
                  </a:lnTo>
                  <a:lnTo>
                    <a:pt x="698" y="526"/>
                  </a:lnTo>
                  <a:lnTo>
                    <a:pt x="690" y="542"/>
                  </a:lnTo>
                  <a:lnTo>
                    <a:pt x="682" y="557"/>
                  </a:lnTo>
                  <a:lnTo>
                    <a:pt x="672" y="571"/>
                  </a:lnTo>
                  <a:lnTo>
                    <a:pt x="662" y="586"/>
                  </a:lnTo>
                  <a:lnTo>
                    <a:pt x="650" y="600"/>
                  </a:lnTo>
                  <a:lnTo>
                    <a:pt x="639" y="613"/>
                  </a:lnTo>
                  <a:lnTo>
                    <a:pt x="627" y="626"/>
                  </a:lnTo>
                  <a:lnTo>
                    <a:pt x="614" y="638"/>
                  </a:lnTo>
                  <a:lnTo>
                    <a:pt x="601" y="649"/>
                  </a:lnTo>
                  <a:lnTo>
                    <a:pt x="588" y="660"/>
                  </a:lnTo>
                  <a:lnTo>
                    <a:pt x="572" y="671"/>
                  </a:lnTo>
                  <a:lnTo>
                    <a:pt x="558" y="681"/>
                  </a:lnTo>
                  <a:lnTo>
                    <a:pt x="542" y="689"/>
                  </a:lnTo>
                  <a:lnTo>
                    <a:pt x="527" y="697"/>
                  </a:lnTo>
                  <a:lnTo>
                    <a:pt x="511" y="705"/>
                  </a:lnTo>
                  <a:lnTo>
                    <a:pt x="493" y="711"/>
                  </a:lnTo>
                  <a:lnTo>
                    <a:pt x="477" y="717"/>
                  </a:lnTo>
                  <a:lnTo>
                    <a:pt x="459" y="722"/>
                  </a:lnTo>
                  <a:lnTo>
                    <a:pt x="442" y="726"/>
                  </a:lnTo>
                  <a:lnTo>
                    <a:pt x="423" y="729"/>
                  </a:lnTo>
                  <a:lnTo>
                    <a:pt x="405" y="731"/>
                  </a:lnTo>
                  <a:lnTo>
                    <a:pt x="386" y="733"/>
                  </a:lnTo>
                  <a:lnTo>
                    <a:pt x="368" y="733"/>
                  </a:lnTo>
                  <a:lnTo>
                    <a:pt x="348" y="733"/>
                  </a:lnTo>
                  <a:lnTo>
                    <a:pt x="330" y="731"/>
                  </a:lnTo>
                  <a:lnTo>
                    <a:pt x="312" y="729"/>
                  </a:lnTo>
                  <a:lnTo>
                    <a:pt x="294" y="726"/>
                  </a:lnTo>
                  <a:lnTo>
                    <a:pt x="275" y="722"/>
                  </a:lnTo>
                  <a:lnTo>
                    <a:pt x="258" y="717"/>
                  </a:lnTo>
                  <a:lnTo>
                    <a:pt x="241" y="711"/>
                  </a:lnTo>
                  <a:lnTo>
                    <a:pt x="225" y="705"/>
                  </a:lnTo>
                  <a:lnTo>
                    <a:pt x="209" y="697"/>
                  </a:lnTo>
                  <a:lnTo>
                    <a:pt x="192" y="689"/>
                  </a:lnTo>
                  <a:lnTo>
                    <a:pt x="177" y="681"/>
                  </a:lnTo>
                  <a:lnTo>
                    <a:pt x="162" y="671"/>
                  </a:lnTo>
                  <a:lnTo>
                    <a:pt x="148" y="660"/>
                  </a:lnTo>
                  <a:lnTo>
                    <a:pt x="134" y="649"/>
                  </a:lnTo>
                  <a:lnTo>
                    <a:pt x="120" y="638"/>
                  </a:lnTo>
                  <a:lnTo>
                    <a:pt x="108" y="626"/>
                  </a:lnTo>
                  <a:lnTo>
                    <a:pt x="96" y="613"/>
                  </a:lnTo>
                  <a:lnTo>
                    <a:pt x="84" y="600"/>
                  </a:lnTo>
                  <a:lnTo>
                    <a:pt x="73" y="586"/>
                  </a:lnTo>
                  <a:lnTo>
                    <a:pt x="63" y="571"/>
                  </a:lnTo>
                  <a:lnTo>
                    <a:pt x="54" y="557"/>
                  </a:lnTo>
                  <a:lnTo>
                    <a:pt x="44" y="542"/>
                  </a:lnTo>
                  <a:lnTo>
                    <a:pt x="36" y="526"/>
                  </a:lnTo>
                  <a:lnTo>
                    <a:pt x="29" y="509"/>
                  </a:lnTo>
                  <a:lnTo>
                    <a:pt x="22" y="492"/>
                  </a:lnTo>
                  <a:lnTo>
                    <a:pt x="17" y="476"/>
                  </a:lnTo>
                  <a:lnTo>
                    <a:pt x="12" y="458"/>
                  </a:lnTo>
                  <a:lnTo>
                    <a:pt x="8" y="441"/>
                  </a:lnTo>
                  <a:lnTo>
                    <a:pt x="5" y="422"/>
                  </a:lnTo>
                  <a:lnTo>
                    <a:pt x="2" y="404"/>
                  </a:lnTo>
                  <a:lnTo>
                    <a:pt x="1" y="386"/>
                  </a:lnTo>
                  <a:lnTo>
                    <a:pt x="0" y="367"/>
                  </a:lnTo>
                  <a:lnTo>
                    <a:pt x="1" y="347"/>
                  </a:lnTo>
                  <a:lnTo>
                    <a:pt x="2" y="329"/>
                  </a:lnTo>
                  <a:lnTo>
                    <a:pt x="5" y="311"/>
                  </a:lnTo>
                  <a:lnTo>
                    <a:pt x="8" y="293"/>
                  </a:lnTo>
                  <a:lnTo>
                    <a:pt x="12" y="274"/>
                  </a:lnTo>
                  <a:lnTo>
                    <a:pt x="17" y="257"/>
                  </a:lnTo>
                  <a:lnTo>
                    <a:pt x="22" y="240"/>
                  </a:lnTo>
                  <a:lnTo>
                    <a:pt x="29" y="224"/>
                  </a:lnTo>
                  <a:lnTo>
                    <a:pt x="36" y="207"/>
                  </a:lnTo>
                  <a:lnTo>
                    <a:pt x="44" y="191"/>
                  </a:lnTo>
                  <a:lnTo>
                    <a:pt x="54" y="176"/>
                  </a:lnTo>
                  <a:lnTo>
                    <a:pt x="63" y="161"/>
                  </a:lnTo>
                  <a:lnTo>
                    <a:pt x="73" y="147"/>
                  </a:lnTo>
                  <a:lnTo>
                    <a:pt x="84" y="132"/>
                  </a:lnTo>
                  <a:lnTo>
                    <a:pt x="96" y="119"/>
                  </a:lnTo>
                  <a:lnTo>
                    <a:pt x="108" y="107"/>
                  </a:lnTo>
                  <a:lnTo>
                    <a:pt x="120" y="95"/>
                  </a:lnTo>
                  <a:lnTo>
                    <a:pt x="134" y="83"/>
                  </a:lnTo>
                  <a:lnTo>
                    <a:pt x="148" y="73"/>
                  </a:lnTo>
                  <a:lnTo>
                    <a:pt x="162" y="62"/>
                  </a:lnTo>
                  <a:lnTo>
                    <a:pt x="177" y="52"/>
                  </a:lnTo>
                  <a:lnTo>
                    <a:pt x="192" y="43"/>
                  </a:lnTo>
                  <a:lnTo>
                    <a:pt x="209" y="35"/>
                  </a:lnTo>
                  <a:lnTo>
                    <a:pt x="225" y="28"/>
                  </a:lnTo>
                  <a:lnTo>
                    <a:pt x="241" y="22"/>
                  </a:lnTo>
                  <a:lnTo>
                    <a:pt x="258" y="16"/>
                  </a:lnTo>
                  <a:lnTo>
                    <a:pt x="275" y="11"/>
                  </a:lnTo>
                  <a:lnTo>
                    <a:pt x="294" y="7"/>
                  </a:lnTo>
                  <a:lnTo>
                    <a:pt x="312" y="4"/>
                  </a:lnTo>
                  <a:lnTo>
                    <a:pt x="330" y="1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6" y="0"/>
                  </a:lnTo>
                  <a:lnTo>
                    <a:pt x="405" y="1"/>
                  </a:lnTo>
                  <a:lnTo>
                    <a:pt x="423" y="4"/>
                  </a:lnTo>
                  <a:lnTo>
                    <a:pt x="442" y="7"/>
                  </a:lnTo>
                  <a:lnTo>
                    <a:pt x="459" y="11"/>
                  </a:lnTo>
                  <a:lnTo>
                    <a:pt x="477" y="16"/>
                  </a:lnTo>
                  <a:lnTo>
                    <a:pt x="493" y="22"/>
                  </a:lnTo>
                  <a:lnTo>
                    <a:pt x="511" y="28"/>
                  </a:lnTo>
                  <a:lnTo>
                    <a:pt x="527" y="35"/>
                  </a:lnTo>
                  <a:lnTo>
                    <a:pt x="542" y="43"/>
                  </a:lnTo>
                  <a:lnTo>
                    <a:pt x="558" y="52"/>
                  </a:lnTo>
                  <a:lnTo>
                    <a:pt x="572" y="62"/>
                  </a:lnTo>
                  <a:lnTo>
                    <a:pt x="588" y="73"/>
                  </a:lnTo>
                  <a:lnTo>
                    <a:pt x="601" y="83"/>
                  </a:lnTo>
                  <a:lnTo>
                    <a:pt x="614" y="95"/>
                  </a:lnTo>
                  <a:lnTo>
                    <a:pt x="627" y="107"/>
                  </a:lnTo>
                  <a:lnTo>
                    <a:pt x="639" y="119"/>
                  </a:lnTo>
                  <a:lnTo>
                    <a:pt x="650" y="132"/>
                  </a:lnTo>
                  <a:lnTo>
                    <a:pt x="662" y="147"/>
                  </a:lnTo>
                  <a:lnTo>
                    <a:pt x="672" y="161"/>
                  </a:lnTo>
                  <a:lnTo>
                    <a:pt x="682" y="176"/>
                  </a:lnTo>
                  <a:lnTo>
                    <a:pt x="690" y="191"/>
                  </a:lnTo>
                  <a:lnTo>
                    <a:pt x="698" y="207"/>
                  </a:lnTo>
                  <a:lnTo>
                    <a:pt x="706" y="224"/>
                  </a:lnTo>
                  <a:lnTo>
                    <a:pt x="712" y="240"/>
                  </a:lnTo>
                  <a:lnTo>
                    <a:pt x="718" y="257"/>
                  </a:lnTo>
                  <a:lnTo>
                    <a:pt x="723" y="274"/>
                  </a:lnTo>
                  <a:lnTo>
                    <a:pt x="727" y="293"/>
                  </a:lnTo>
                  <a:lnTo>
                    <a:pt x="730" y="311"/>
                  </a:lnTo>
                  <a:lnTo>
                    <a:pt x="732" y="329"/>
                  </a:lnTo>
                  <a:lnTo>
                    <a:pt x="733" y="347"/>
                  </a:lnTo>
                  <a:lnTo>
                    <a:pt x="734" y="3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702400" y="1738440"/>
              <a:ext cx="55440" cy="55440"/>
            </a:xfrm>
            <a:custGeom>
              <a:avLst/>
              <a:gdLst/>
              <a:ahLst/>
              <a:rect l="l" t="t" r="r" b="b"/>
              <a:pathLst>
                <a:path w="734" h="733">
                  <a:moveTo>
                    <a:pt x="734" y="367"/>
                  </a:moveTo>
                  <a:lnTo>
                    <a:pt x="733" y="386"/>
                  </a:lnTo>
                  <a:lnTo>
                    <a:pt x="732" y="404"/>
                  </a:lnTo>
                  <a:lnTo>
                    <a:pt x="730" y="422"/>
                  </a:lnTo>
                  <a:lnTo>
                    <a:pt x="727" y="441"/>
                  </a:lnTo>
                  <a:lnTo>
                    <a:pt x="723" y="458"/>
                  </a:lnTo>
                  <a:lnTo>
                    <a:pt x="718" y="476"/>
                  </a:lnTo>
                  <a:lnTo>
                    <a:pt x="712" y="492"/>
                  </a:lnTo>
                  <a:lnTo>
                    <a:pt x="706" y="509"/>
                  </a:lnTo>
                  <a:lnTo>
                    <a:pt x="698" y="526"/>
                  </a:lnTo>
                  <a:lnTo>
                    <a:pt x="690" y="542"/>
                  </a:lnTo>
                  <a:lnTo>
                    <a:pt x="682" y="557"/>
                  </a:lnTo>
                  <a:lnTo>
                    <a:pt x="672" y="571"/>
                  </a:lnTo>
                  <a:lnTo>
                    <a:pt x="662" y="586"/>
                  </a:lnTo>
                  <a:lnTo>
                    <a:pt x="650" y="600"/>
                  </a:lnTo>
                  <a:lnTo>
                    <a:pt x="639" y="613"/>
                  </a:lnTo>
                  <a:lnTo>
                    <a:pt x="627" y="626"/>
                  </a:lnTo>
                  <a:lnTo>
                    <a:pt x="614" y="638"/>
                  </a:lnTo>
                  <a:lnTo>
                    <a:pt x="601" y="649"/>
                  </a:lnTo>
                  <a:lnTo>
                    <a:pt x="588" y="660"/>
                  </a:lnTo>
                  <a:lnTo>
                    <a:pt x="572" y="671"/>
                  </a:lnTo>
                  <a:lnTo>
                    <a:pt x="558" y="681"/>
                  </a:lnTo>
                  <a:lnTo>
                    <a:pt x="542" y="689"/>
                  </a:lnTo>
                  <a:lnTo>
                    <a:pt x="527" y="697"/>
                  </a:lnTo>
                  <a:lnTo>
                    <a:pt x="511" y="705"/>
                  </a:lnTo>
                  <a:lnTo>
                    <a:pt x="493" y="711"/>
                  </a:lnTo>
                  <a:lnTo>
                    <a:pt x="477" y="717"/>
                  </a:lnTo>
                  <a:lnTo>
                    <a:pt x="459" y="722"/>
                  </a:lnTo>
                  <a:lnTo>
                    <a:pt x="442" y="726"/>
                  </a:lnTo>
                  <a:lnTo>
                    <a:pt x="423" y="729"/>
                  </a:lnTo>
                  <a:lnTo>
                    <a:pt x="405" y="731"/>
                  </a:lnTo>
                  <a:lnTo>
                    <a:pt x="386" y="733"/>
                  </a:lnTo>
                  <a:lnTo>
                    <a:pt x="368" y="733"/>
                  </a:lnTo>
                  <a:lnTo>
                    <a:pt x="348" y="733"/>
                  </a:lnTo>
                  <a:lnTo>
                    <a:pt x="330" y="731"/>
                  </a:lnTo>
                  <a:lnTo>
                    <a:pt x="312" y="729"/>
                  </a:lnTo>
                  <a:lnTo>
                    <a:pt x="294" y="726"/>
                  </a:lnTo>
                  <a:lnTo>
                    <a:pt x="275" y="722"/>
                  </a:lnTo>
                  <a:lnTo>
                    <a:pt x="258" y="717"/>
                  </a:lnTo>
                  <a:lnTo>
                    <a:pt x="241" y="711"/>
                  </a:lnTo>
                  <a:lnTo>
                    <a:pt x="225" y="705"/>
                  </a:lnTo>
                  <a:lnTo>
                    <a:pt x="209" y="697"/>
                  </a:lnTo>
                  <a:lnTo>
                    <a:pt x="192" y="689"/>
                  </a:lnTo>
                  <a:lnTo>
                    <a:pt x="177" y="681"/>
                  </a:lnTo>
                  <a:lnTo>
                    <a:pt x="162" y="671"/>
                  </a:lnTo>
                  <a:lnTo>
                    <a:pt x="148" y="660"/>
                  </a:lnTo>
                  <a:lnTo>
                    <a:pt x="134" y="649"/>
                  </a:lnTo>
                  <a:lnTo>
                    <a:pt x="120" y="638"/>
                  </a:lnTo>
                  <a:lnTo>
                    <a:pt x="108" y="626"/>
                  </a:lnTo>
                  <a:lnTo>
                    <a:pt x="96" y="613"/>
                  </a:lnTo>
                  <a:lnTo>
                    <a:pt x="84" y="600"/>
                  </a:lnTo>
                  <a:lnTo>
                    <a:pt x="73" y="586"/>
                  </a:lnTo>
                  <a:lnTo>
                    <a:pt x="63" y="571"/>
                  </a:lnTo>
                  <a:lnTo>
                    <a:pt x="54" y="557"/>
                  </a:lnTo>
                  <a:lnTo>
                    <a:pt x="44" y="542"/>
                  </a:lnTo>
                  <a:lnTo>
                    <a:pt x="36" y="526"/>
                  </a:lnTo>
                  <a:lnTo>
                    <a:pt x="29" y="509"/>
                  </a:lnTo>
                  <a:lnTo>
                    <a:pt x="22" y="492"/>
                  </a:lnTo>
                  <a:lnTo>
                    <a:pt x="17" y="476"/>
                  </a:lnTo>
                  <a:lnTo>
                    <a:pt x="12" y="458"/>
                  </a:lnTo>
                  <a:lnTo>
                    <a:pt x="8" y="441"/>
                  </a:lnTo>
                  <a:lnTo>
                    <a:pt x="5" y="422"/>
                  </a:lnTo>
                  <a:lnTo>
                    <a:pt x="2" y="404"/>
                  </a:lnTo>
                  <a:lnTo>
                    <a:pt x="1" y="386"/>
                  </a:lnTo>
                  <a:lnTo>
                    <a:pt x="0" y="367"/>
                  </a:lnTo>
                  <a:lnTo>
                    <a:pt x="1" y="347"/>
                  </a:lnTo>
                  <a:lnTo>
                    <a:pt x="2" y="329"/>
                  </a:lnTo>
                  <a:lnTo>
                    <a:pt x="5" y="311"/>
                  </a:lnTo>
                  <a:lnTo>
                    <a:pt x="8" y="293"/>
                  </a:lnTo>
                  <a:lnTo>
                    <a:pt x="12" y="274"/>
                  </a:lnTo>
                  <a:lnTo>
                    <a:pt x="17" y="257"/>
                  </a:lnTo>
                  <a:lnTo>
                    <a:pt x="22" y="240"/>
                  </a:lnTo>
                  <a:lnTo>
                    <a:pt x="29" y="224"/>
                  </a:lnTo>
                  <a:lnTo>
                    <a:pt x="36" y="207"/>
                  </a:lnTo>
                  <a:lnTo>
                    <a:pt x="44" y="191"/>
                  </a:lnTo>
                  <a:lnTo>
                    <a:pt x="54" y="176"/>
                  </a:lnTo>
                  <a:lnTo>
                    <a:pt x="63" y="161"/>
                  </a:lnTo>
                  <a:lnTo>
                    <a:pt x="73" y="147"/>
                  </a:lnTo>
                  <a:lnTo>
                    <a:pt x="84" y="132"/>
                  </a:lnTo>
                  <a:lnTo>
                    <a:pt x="96" y="119"/>
                  </a:lnTo>
                  <a:lnTo>
                    <a:pt x="108" y="107"/>
                  </a:lnTo>
                  <a:lnTo>
                    <a:pt x="120" y="95"/>
                  </a:lnTo>
                  <a:lnTo>
                    <a:pt x="134" y="83"/>
                  </a:lnTo>
                  <a:lnTo>
                    <a:pt x="148" y="73"/>
                  </a:lnTo>
                  <a:lnTo>
                    <a:pt x="162" y="62"/>
                  </a:lnTo>
                  <a:lnTo>
                    <a:pt x="177" y="52"/>
                  </a:lnTo>
                  <a:lnTo>
                    <a:pt x="192" y="43"/>
                  </a:lnTo>
                  <a:lnTo>
                    <a:pt x="209" y="35"/>
                  </a:lnTo>
                  <a:lnTo>
                    <a:pt x="225" y="28"/>
                  </a:lnTo>
                  <a:lnTo>
                    <a:pt x="241" y="22"/>
                  </a:lnTo>
                  <a:lnTo>
                    <a:pt x="258" y="16"/>
                  </a:lnTo>
                  <a:lnTo>
                    <a:pt x="275" y="11"/>
                  </a:lnTo>
                  <a:lnTo>
                    <a:pt x="294" y="7"/>
                  </a:lnTo>
                  <a:lnTo>
                    <a:pt x="312" y="4"/>
                  </a:lnTo>
                  <a:lnTo>
                    <a:pt x="330" y="1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6" y="0"/>
                  </a:lnTo>
                  <a:lnTo>
                    <a:pt x="405" y="1"/>
                  </a:lnTo>
                  <a:lnTo>
                    <a:pt x="423" y="4"/>
                  </a:lnTo>
                  <a:lnTo>
                    <a:pt x="442" y="7"/>
                  </a:lnTo>
                  <a:lnTo>
                    <a:pt x="459" y="11"/>
                  </a:lnTo>
                  <a:lnTo>
                    <a:pt x="477" y="16"/>
                  </a:lnTo>
                  <a:lnTo>
                    <a:pt x="493" y="22"/>
                  </a:lnTo>
                  <a:lnTo>
                    <a:pt x="511" y="28"/>
                  </a:lnTo>
                  <a:lnTo>
                    <a:pt x="527" y="35"/>
                  </a:lnTo>
                  <a:lnTo>
                    <a:pt x="542" y="43"/>
                  </a:lnTo>
                  <a:lnTo>
                    <a:pt x="558" y="52"/>
                  </a:lnTo>
                  <a:lnTo>
                    <a:pt x="572" y="62"/>
                  </a:lnTo>
                  <a:lnTo>
                    <a:pt x="588" y="73"/>
                  </a:lnTo>
                  <a:lnTo>
                    <a:pt x="601" y="83"/>
                  </a:lnTo>
                  <a:lnTo>
                    <a:pt x="614" y="95"/>
                  </a:lnTo>
                  <a:lnTo>
                    <a:pt x="627" y="107"/>
                  </a:lnTo>
                  <a:lnTo>
                    <a:pt x="639" y="119"/>
                  </a:lnTo>
                  <a:lnTo>
                    <a:pt x="650" y="132"/>
                  </a:lnTo>
                  <a:lnTo>
                    <a:pt x="662" y="147"/>
                  </a:lnTo>
                  <a:lnTo>
                    <a:pt x="672" y="161"/>
                  </a:lnTo>
                  <a:lnTo>
                    <a:pt x="682" y="176"/>
                  </a:lnTo>
                  <a:lnTo>
                    <a:pt x="690" y="191"/>
                  </a:lnTo>
                  <a:lnTo>
                    <a:pt x="698" y="207"/>
                  </a:lnTo>
                  <a:lnTo>
                    <a:pt x="706" y="224"/>
                  </a:lnTo>
                  <a:lnTo>
                    <a:pt x="712" y="240"/>
                  </a:lnTo>
                  <a:lnTo>
                    <a:pt x="718" y="257"/>
                  </a:lnTo>
                  <a:lnTo>
                    <a:pt x="723" y="274"/>
                  </a:lnTo>
                  <a:lnTo>
                    <a:pt x="727" y="293"/>
                  </a:lnTo>
                  <a:lnTo>
                    <a:pt x="730" y="311"/>
                  </a:lnTo>
                  <a:lnTo>
                    <a:pt x="732" y="329"/>
                  </a:lnTo>
                  <a:lnTo>
                    <a:pt x="733" y="347"/>
                  </a:lnTo>
                  <a:lnTo>
                    <a:pt x="734" y="367"/>
                  </a:lnTo>
                </a:path>
              </a:pathLst>
            </a:custGeom>
            <a:noFill/>
            <a:ln w="324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702400" y="1817640"/>
              <a:ext cx="55440" cy="55440"/>
            </a:xfrm>
            <a:custGeom>
              <a:avLst/>
              <a:gdLst/>
              <a:ahLst/>
              <a:rect l="l" t="t" r="r" b="b"/>
              <a:pathLst>
                <a:path w="734" h="733">
                  <a:moveTo>
                    <a:pt x="734" y="366"/>
                  </a:moveTo>
                  <a:lnTo>
                    <a:pt x="733" y="386"/>
                  </a:lnTo>
                  <a:lnTo>
                    <a:pt x="732" y="404"/>
                  </a:lnTo>
                  <a:lnTo>
                    <a:pt x="730" y="422"/>
                  </a:lnTo>
                  <a:lnTo>
                    <a:pt x="727" y="440"/>
                  </a:lnTo>
                  <a:lnTo>
                    <a:pt x="723" y="459"/>
                  </a:lnTo>
                  <a:lnTo>
                    <a:pt x="718" y="476"/>
                  </a:lnTo>
                  <a:lnTo>
                    <a:pt x="712" y="493"/>
                  </a:lnTo>
                  <a:lnTo>
                    <a:pt x="706" y="509"/>
                  </a:lnTo>
                  <a:lnTo>
                    <a:pt x="698" y="526"/>
                  </a:lnTo>
                  <a:lnTo>
                    <a:pt x="690" y="542"/>
                  </a:lnTo>
                  <a:lnTo>
                    <a:pt x="682" y="557"/>
                  </a:lnTo>
                  <a:lnTo>
                    <a:pt x="672" y="572"/>
                  </a:lnTo>
                  <a:lnTo>
                    <a:pt x="662" y="586"/>
                  </a:lnTo>
                  <a:lnTo>
                    <a:pt x="650" y="599"/>
                  </a:lnTo>
                  <a:lnTo>
                    <a:pt x="639" y="614"/>
                  </a:lnTo>
                  <a:lnTo>
                    <a:pt x="627" y="626"/>
                  </a:lnTo>
                  <a:lnTo>
                    <a:pt x="614" y="638"/>
                  </a:lnTo>
                  <a:lnTo>
                    <a:pt x="601" y="650"/>
                  </a:lnTo>
                  <a:lnTo>
                    <a:pt x="588" y="660"/>
                  </a:lnTo>
                  <a:lnTo>
                    <a:pt x="572" y="670"/>
                  </a:lnTo>
                  <a:lnTo>
                    <a:pt x="558" y="681"/>
                  </a:lnTo>
                  <a:lnTo>
                    <a:pt x="542" y="690"/>
                  </a:lnTo>
                  <a:lnTo>
                    <a:pt x="527" y="698"/>
                  </a:lnTo>
                  <a:lnTo>
                    <a:pt x="511" y="705"/>
                  </a:lnTo>
                  <a:lnTo>
                    <a:pt x="493" y="711"/>
                  </a:lnTo>
                  <a:lnTo>
                    <a:pt x="477" y="717"/>
                  </a:lnTo>
                  <a:lnTo>
                    <a:pt x="459" y="722"/>
                  </a:lnTo>
                  <a:lnTo>
                    <a:pt x="442" y="726"/>
                  </a:lnTo>
                  <a:lnTo>
                    <a:pt x="423" y="729"/>
                  </a:lnTo>
                  <a:lnTo>
                    <a:pt x="405" y="731"/>
                  </a:lnTo>
                  <a:lnTo>
                    <a:pt x="386" y="733"/>
                  </a:lnTo>
                  <a:lnTo>
                    <a:pt x="368" y="733"/>
                  </a:lnTo>
                  <a:lnTo>
                    <a:pt x="348" y="733"/>
                  </a:lnTo>
                  <a:lnTo>
                    <a:pt x="330" y="731"/>
                  </a:lnTo>
                  <a:lnTo>
                    <a:pt x="312" y="729"/>
                  </a:lnTo>
                  <a:lnTo>
                    <a:pt x="294" y="726"/>
                  </a:lnTo>
                  <a:lnTo>
                    <a:pt x="275" y="722"/>
                  </a:lnTo>
                  <a:lnTo>
                    <a:pt x="258" y="717"/>
                  </a:lnTo>
                  <a:lnTo>
                    <a:pt x="241" y="711"/>
                  </a:lnTo>
                  <a:lnTo>
                    <a:pt x="225" y="705"/>
                  </a:lnTo>
                  <a:lnTo>
                    <a:pt x="209" y="698"/>
                  </a:lnTo>
                  <a:lnTo>
                    <a:pt x="192" y="690"/>
                  </a:lnTo>
                  <a:lnTo>
                    <a:pt x="177" y="681"/>
                  </a:lnTo>
                  <a:lnTo>
                    <a:pt x="162" y="670"/>
                  </a:lnTo>
                  <a:lnTo>
                    <a:pt x="148" y="660"/>
                  </a:lnTo>
                  <a:lnTo>
                    <a:pt x="134" y="650"/>
                  </a:lnTo>
                  <a:lnTo>
                    <a:pt x="120" y="638"/>
                  </a:lnTo>
                  <a:lnTo>
                    <a:pt x="108" y="626"/>
                  </a:lnTo>
                  <a:lnTo>
                    <a:pt x="96" y="614"/>
                  </a:lnTo>
                  <a:lnTo>
                    <a:pt x="84" y="599"/>
                  </a:lnTo>
                  <a:lnTo>
                    <a:pt x="73" y="586"/>
                  </a:lnTo>
                  <a:lnTo>
                    <a:pt x="63" y="572"/>
                  </a:lnTo>
                  <a:lnTo>
                    <a:pt x="54" y="557"/>
                  </a:lnTo>
                  <a:lnTo>
                    <a:pt x="44" y="542"/>
                  </a:lnTo>
                  <a:lnTo>
                    <a:pt x="36" y="526"/>
                  </a:lnTo>
                  <a:lnTo>
                    <a:pt x="29" y="509"/>
                  </a:lnTo>
                  <a:lnTo>
                    <a:pt x="22" y="493"/>
                  </a:lnTo>
                  <a:lnTo>
                    <a:pt x="17" y="476"/>
                  </a:lnTo>
                  <a:lnTo>
                    <a:pt x="12" y="459"/>
                  </a:lnTo>
                  <a:lnTo>
                    <a:pt x="8" y="440"/>
                  </a:lnTo>
                  <a:lnTo>
                    <a:pt x="5" y="422"/>
                  </a:lnTo>
                  <a:lnTo>
                    <a:pt x="2" y="404"/>
                  </a:lnTo>
                  <a:lnTo>
                    <a:pt x="1" y="386"/>
                  </a:lnTo>
                  <a:lnTo>
                    <a:pt x="0" y="366"/>
                  </a:lnTo>
                  <a:lnTo>
                    <a:pt x="1" y="347"/>
                  </a:lnTo>
                  <a:lnTo>
                    <a:pt x="2" y="329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2" y="274"/>
                  </a:lnTo>
                  <a:lnTo>
                    <a:pt x="17" y="257"/>
                  </a:lnTo>
                  <a:lnTo>
                    <a:pt x="22" y="240"/>
                  </a:lnTo>
                  <a:lnTo>
                    <a:pt x="29" y="224"/>
                  </a:lnTo>
                  <a:lnTo>
                    <a:pt x="36" y="207"/>
                  </a:lnTo>
                  <a:lnTo>
                    <a:pt x="44" y="191"/>
                  </a:lnTo>
                  <a:lnTo>
                    <a:pt x="54" y="176"/>
                  </a:lnTo>
                  <a:lnTo>
                    <a:pt x="63" y="161"/>
                  </a:lnTo>
                  <a:lnTo>
                    <a:pt x="73" y="146"/>
                  </a:lnTo>
                  <a:lnTo>
                    <a:pt x="84" y="133"/>
                  </a:lnTo>
                  <a:lnTo>
                    <a:pt x="96" y="119"/>
                  </a:lnTo>
                  <a:lnTo>
                    <a:pt x="108" y="107"/>
                  </a:lnTo>
                  <a:lnTo>
                    <a:pt x="120" y="95"/>
                  </a:lnTo>
                  <a:lnTo>
                    <a:pt x="134" y="83"/>
                  </a:lnTo>
                  <a:lnTo>
                    <a:pt x="148" y="73"/>
                  </a:lnTo>
                  <a:lnTo>
                    <a:pt x="162" y="62"/>
                  </a:lnTo>
                  <a:lnTo>
                    <a:pt x="177" y="52"/>
                  </a:lnTo>
                  <a:lnTo>
                    <a:pt x="192" y="43"/>
                  </a:lnTo>
                  <a:lnTo>
                    <a:pt x="209" y="36"/>
                  </a:lnTo>
                  <a:lnTo>
                    <a:pt x="225" y="28"/>
                  </a:lnTo>
                  <a:lnTo>
                    <a:pt x="241" y="22"/>
                  </a:lnTo>
                  <a:lnTo>
                    <a:pt x="258" y="16"/>
                  </a:lnTo>
                  <a:lnTo>
                    <a:pt x="275" y="11"/>
                  </a:lnTo>
                  <a:lnTo>
                    <a:pt x="294" y="7"/>
                  </a:lnTo>
                  <a:lnTo>
                    <a:pt x="312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6" y="0"/>
                  </a:lnTo>
                  <a:lnTo>
                    <a:pt x="405" y="2"/>
                  </a:lnTo>
                  <a:lnTo>
                    <a:pt x="423" y="4"/>
                  </a:lnTo>
                  <a:lnTo>
                    <a:pt x="442" y="7"/>
                  </a:lnTo>
                  <a:lnTo>
                    <a:pt x="459" y="11"/>
                  </a:lnTo>
                  <a:lnTo>
                    <a:pt x="477" y="16"/>
                  </a:lnTo>
                  <a:lnTo>
                    <a:pt x="493" y="22"/>
                  </a:lnTo>
                  <a:lnTo>
                    <a:pt x="511" y="28"/>
                  </a:lnTo>
                  <a:lnTo>
                    <a:pt x="527" y="36"/>
                  </a:lnTo>
                  <a:lnTo>
                    <a:pt x="542" y="43"/>
                  </a:lnTo>
                  <a:lnTo>
                    <a:pt x="558" y="52"/>
                  </a:lnTo>
                  <a:lnTo>
                    <a:pt x="572" y="62"/>
                  </a:lnTo>
                  <a:lnTo>
                    <a:pt x="588" y="73"/>
                  </a:lnTo>
                  <a:lnTo>
                    <a:pt x="601" y="83"/>
                  </a:lnTo>
                  <a:lnTo>
                    <a:pt x="614" y="95"/>
                  </a:lnTo>
                  <a:lnTo>
                    <a:pt x="627" y="107"/>
                  </a:lnTo>
                  <a:lnTo>
                    <a:pt x="639" y="119"/>
                  </a:lnTo>
                  <a:lnTo>
                    <a:pt x="650" y="133"/>
                  </a:lnTo>
                  <a:lnTo>
                    <a:pt x="662" y="146"/>
                  </a:lnTo>
                  <a:lnTo>
                    <a:pt x="672" y="161"/>
                  </a:lnTo>
                  <a:lnTo>
                    <a:pt x="682" y="176"/>
                  </a:lnTo>
                  <a:lnTo>
                    <a:pt x="690" y="191"/>
                  </a:lnTo>
                  <a:lnTo>
                    <a:pt x="698" y="207"/>
                  </a:lnTo>
                  <a:lnTo>
                    <a:pt x="706" y="224"/>
                  </a:lnTo>
                  <a:lnTo>
                    <a:pt x="712" y="240"/>
                  </a:lnTo>
                  <a:lnTo>
                    <a:pt x="718" y="257"/>
                  </a:lnTo>
                  <a:lnTo>
                    <a:pt x="723" y="274"/>
                  </a:lnTo>
                  <a:lnTo>
                    <a:pt x="727" y="292"/>
                  </a:lnTo>
                  <a:lnTo>
                    <a:pt x="730" y="311"/>
                  </a:lnTo>
                  <a:lnTo>
                    <a:pt x="732" y="329"/>
                  </a:lnTo>
                  <a:lnTo>
                    <a:pt x="733" y="347"/>
                  </a:lnTo>
                  <a:lnTo>
                    <a:pt x="734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702400" y="1817640"/>
              <a:ext cx="55440" cy="55440"/>
            </a:xfrm>
            <a:custGeom>
              <a:avLst/>
              <a:gdLst/>
              <a:ahLst/>
              <a:rect l="l" t="t" r="r" b="b"/>
              <a:pathLst>
                <a:path w="734" h="733">
                  <a:moveTo>
                    <a:pt x="734" y="366"/>
                  </a:moveTo>
                  <a:lnTo>
                    <a:pt x="733" y="386"/>
                  </a:lnTo>
                  <a:lnTo>
                    <a:pt x="732" y="404"/>
                  </a:lnTo>
                  <a:lnTo>
                    <a:pt x="730" y="422"/>
                  </a:lnTo>
                  <a:lnTo>
                    <a:pt x="727" y="440"/>
                  </a:lnTo>
                  <a:lnTo>
                    <a:pt x="723" y="459"/>
                  </a:lnTo>
                  <a:lnTo>
                    <a:pt x="718" y="476"/>
                  </a:lnTo>
                  <a:lnTo>
                    <a:pt x="712" y="493"/>
                  </a:lnTo>
                  <a:lnTo>
                    <a:pt x="706" y="509"/>
                  </a:lnTo>
                  <a:lnTo>
                    <a:pt x="698" y="526"/>
                  </a:lnTo>
                  <a:lnTo>
                    <a:pt x="690" y="542"/>
                  </a:lnTo>
                  <a:lnTo>
                    <a:pt x="682" y="557"/>
                  </a:lnTo>
                  <a:lnTo>
                    <a:pt x="672" y="572"/>
                  </a:lnTo>
                  <a:lnTo>
                    <a:pt x="662" y="586"/>
                  </a:lnTo>
                  <a:lnTo>
                    <a:pt x="650" y="599"/>
                  </a:lnTo>
                  <a:lnTo>
                    <a:pt x="639" y="614"/>
                  </a:lnTo>
                  <a:lnTo>
                    <a:pt x="627" y="626"/>
                  </a:lnTo>
                  <a:lnTo>
                    <a:pt x="614" y="638"/>
                  </a:lnTo>
                  <a:lnTo>
                    <a:pt x="601" y="650"/>
                  </a:lnTo>
                  <a:lnTo>
                    <a:pt x="588" y="660"/>
                  </a:lnTo>
                  <a:lnTo>
                    <a:pt x="572" y="670"/>
                  </a:lnTo>
                  <a:lnTo>
                    <a:pt x="558" y="681"/>
                  </a:lnTo>
                  <a:lnTo>
                    <a:pt x="542" y="690"/>
                  </a:lnTo>
                  <a:lnTo>
                    <a:pt x="527" y="698"/>
                  </a:lnTo>
                  <a:lnTo>
                    <a:pt x="511" y="705"/>
                  </a:lnTo>
                  <a:lnTo>
                    <a:pt x="493" y="711"/>
                  </a:lnTo>
                  <a:lnTo>
                    <a:pt x="477" y="717"/>
                  </a:lnTo>
                  <a:lnTo>
                    <a:pt x="459" y="722"/>
                  </a:lnTo>
                  <a:lnTo>
                    <a:pt x="442" y="726"/>
                  </a:lnTo>
                  <a:lnTo>
                    <a:pt x="423" y="729"/>
                  </a:lnTo>
                  <a:lnTo>
                    <a:pt x="405" y="731"/>
                  </a:lnTo>
                  <a:lnTo>
                    <a:pt x="386" y="733"/>
                  </a:lnTo>
                  <a:lnTo>
                    <a:pt x="368" y="733"/>
                  </a:lnTo>
                  <a:lnTo>
                    <a:pt x="348" y="733"/>
                  </a:lnTo>
                  <a:lnTo>
                    <a:pt x="330" y="731"/>
                  </a:lnTo>
                  <a:lnTo>
                    <a:pt x="312" y="729"/>
                  </a:lnTo>
                  <a:lnTo>
                    <a:pt x="294" y="726"/>
                  </a:lnTo>
                  <a:lnTo>
                    <a:pt x="275" y="722"/>
                  </a:lnTo>
                  <a:lnTo>
                    <a:pt x="258" y="717"/>
                  </a:lnTo>
                  <a:lnTo>
                    <a:pt x="241" y="711"/>
                  </a:lnTo>
                  <a:lnTo>
                    <a:pt x="225" y="705"/>
                  </a:lnTo>
                  <a:lnTo>
                    <a:pt x="209" y="698"/>
                  </a:lnTo>
                  <a:lnTo>
                    <a:pt x="192" y="690"/>
                  </a:lnTo>
                  <a:lnTo>
                    <a:pt x="177" y="681"/>
                  </a:lnTo>
                  <a:lnTo>
                    <a:pt x="162" y="670"/>
                  </a:lnTo>
                  <a:lnTo>
                    <a:pt x="148" y="660"/>
                  </a:lnTo>
                  <a:lnTo>
                    <a:pt x="134" y="650"/>
                  </a:lnTo>
                  <a:lnTo>
                    <a:pt x="120" y="638"/>
                  </a:lnTo>
                  <a:lnTo>
                    <a:pt x="108" y="626"/>
                  </a:lnTo>
                  <a:lnTo>
                    <a:pt x="96" y="614"/>
                  </a:lnTo>
                  <a:lnTo>
                    <a:pt x="84" y="599"/>
                  </a:lnTo>
                  <a:lnTo>
                    <a:pt x="73" y="586"/>
                  </a:lnTo>
                  <a:lnTo>
                    <a:pt x="63" y="572"/>
                  </a:lnTo>
                  <a:lnTo>
                    <a:pt x="54" y="557"/>
                  </a:lnTo>
                  <a:lnTo>
                    <a:pt x="44" y="542"/>
                  </a:lnTo>
                  <a:lnTo>
                    <a:pt x="36" y="526"/>
                  </a:lnTo>
                  <a:lnTo>
                    <a:pt x="29" y="509"/>
                  </a:lnTo>
                  <a:lnTo>
                    <a:pt x="22" y="493"/>
                  </a:lnTo>
                  <a:lnTo>
                    <a:pt x="17" y="476"/>
                  </a:lnTo>
                  <a:lnTo>
                    <a:pt x="12" y="459"/>
                  </a:lnTo>
                  <a:lnTo>
                    <a:pt x="8" y="440"/>
                  </a:lnTo>
                  <a:lnTo>
                    <a:pt x="5" y="422"/>
                  </a:lnTo>
                  <a:lnTo>
                    <a:pt x="2" y="404"/>
                  </a:lnTo>
                  <a:lnTo>
                    <a:pt x="1" y="386"/>
                  </a:lnTo>
                  <a:lnTo>
                    <a:pt x="0" y="366"/>
                  </a:lnTo>
                  <a:lnTo>
                    <a:pt x="1" y="347"/>
                  </a:lnTo>
                  <a:lnTo>
                    <a:pt x="2" y="329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2" y="274"/>
                  </a:lnTo>
                  <a:lnTo>
                    <a:pt x="17" y="257"/>
                  </a:lnTo>
                  <a:lnTo>
                    <a:pt x="22" y="240"/>
                  </a:lnTo>
                  <a:lnTo>
                    <a:pt x="29" y="224"/>
                  </a:lnTo>
                  <a:lnTo>
                    <a:pt x="36" y="207"/>
                  </a:lnTo>
                  <a:lnTo>
                    <a:pt x="44" y="191"/>
                  </a:lnTo>
                  <a:lnTo>
                    <a:pt x="54" y="176"/>
                  </a:lnTo>
                  <a:lnTo>
                    <a:pt x="63" y="161"/>
                  </a:lnTo>
                  <a:lnTo>
                    <a:pt x="73" y="146"/>
                  </a:lnTo>
                  <a:lnTo>
                    <a:pt x="84" y="133"/>
                  </a:lnTo>
                  <a:lnTo>
                    <a:pt x="96" y="119"/>
                  </a:lnTo>
                  <a:lnTo>
                    <a:pt x="108" y="107"/>
                  </a:lnTo>
                  <a:lnTo>
                    <a:pt x="120" y="95"/>
                  </a:lnTo>
                  <a:lnTo>
                    <a:pt x="134" y="83"/>
                  </a:lnTo>
                  <a:lnTo>
                    <a:pt x="148" y="73"/>
                  </a:lnTo>
                  <a:lnTo>
                    <a:pt x="162" y="62"/>
                  </a:lnTo>
                  <a:lnTo>
                    <a:pt x="177" y="52"/>
                  </a:lnTo>
                  <a:lnTo>
                    <a:pt x="192" y="43"/>
                  </a:lnTo>
                  <a:lnTo>
                    <a:pt x="209" y="36"/>
                  </a:lnTo>
                  <a:lnTo>
                    <a:pt x="225" y="28"/>
                  </a:lnTo>
                  <a:lnTo>
                    <a:pt x="241" y="22"/>
                  </a:lnTo>
                  <a:lnTo>
                    <a:pt x="258" y="16"/>
                  </a:lnTo>
                  <a:lnTo>
                    <a:pt x="275" y="11"/>
                  </a:lnTo>
                  <a:lnTo>
                    <a:pt x="294" y="7"/>
                  </a:lnTo>
                  <a:lnTo>
                    <a:pt x="312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6" y="0"/>
                  </a:lnTo>
                  <a:lnTo>
                    <a:pt x="405" y="2"/>
                  </a:lnTo>
                  <a:lnTo>
                    <a:pt x="423" y="4"/>
                  </a:lnTo>
                  <a:lnTo>
                    <a:pt x="442" y="7"/>
                  </a:lnTo>
                  <a:lnTo>
                    <a:pt x="459" y="11"/>
                  </a:lnTo>
                  <a:lnTo>
                    <a:pt x="477" y="16"/>
                  </a:lnTo>
                  <a:lnTo>
                    <a:pt x="493" y="22"/>
                  </a:lnTo>
                  <a:lnTo>
                    <a:pt x="511" y="28"/>
                  </a:lnTo>
                  <a:lnTo>
                    <a:pt x="527" y="36"/>
                  </a:lnTo>
                  <a:lnTo>
                    <a:pt x="542" y="43"/>
                  </a:lnTo>
                  <a:lnTo>
                    <a:pt x="558" y="52"/>
                  </a:lnTo>
                  <a:lnTo>
                    <a:pt x="572" y="62"/>
                  </a:lnTo>
                  <a:lnTo>
                    <a:pt x="588" y="73"/>
                  </a:lnTo>
                  <a:lnTo>
                    <a:pt x="601" y="83"/>
                  </a:lnTo>
                  <a:lnTo>
                    <a:pt x="614" y="95"/>
                  </a:lnTo>
                  <a:lnTo>
                    <a:pt x="627" y="107"/>
                  </a:lnTo>
                  <a:lnTo>
                    <a:pt x="639" y="119"/>
                  </a:lnTo>
                  <a:lnTo>
                    <a:pt x="650" y="133"/>
                  </a:lnTo>
                  <a:lnTo>
                    <a:pt x="662" y="146"/>
                  </a:lnTo>
                  <a:lnTo>
                    <a:pt x="672" y="161"/>
                  </a:lnTo>
                  <a:lnTo>
                    <a:pt x="682" y="176"/>
                  </a:lnTo>
                  <a:lnTo>
                    <a:pt x="690" y="191"/>
                  </a:lnTo>
                  <a:lnTo>
                    <a:pt x="698" y="207"/>
                  </a:lnTo>
                  <a:lnTo>
                    <a:pt x="706" y="224"/>
                  </a:lnTo>
                  <a:lnTo>
                    <a:pt x="712" y="240"/>
                  </a:lnTo>
                  <a:lnTo>
                    <a:pt x="718" y="257"/>
                  </a:lnTo>
                  <a:lnTo>
                    <a:pt x="723" y="274"/>
                  </a:lnTo>
                  <a:lnTo>
                    <a:pt x="727" y="292"/>
                  </a:lnTo>
                  <a:lnTo>
                    <a:pt x="730" y="311"/>
                  </a:lnTo>
                  <a:lnTo>
                    <a:pt x="732" y="329"/>
                  </a:lnTo>
                  <a:lnTo>
                    <a:pt x="733" y="347"/>
                  </a:lnTo>
                  <a:lnTo>
                    <a:pt x="734" y="366"/>
                  </a:lnTo>
                </a:path>
              </a:pathLst>
            </a:custGeom>
            <a:noFill/>
            <a:ln w="324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702400" y="1897200"/>
              <a:ext cx="55440" cy="55440"/>
            </a:xfrm>
            <a:custGeom>
              <a:avLst/>
              <a:gdLst/>
              <a:ahLst/>
              <a:rect l="l" t="t" r="r" b="b"/>
              <a:pathLst>
                <a:path w="734" h="734">
                  <a:moveTo>
                    <a:pt x="734" y="367"/>
                  </a:moveTo>
                  <a:lnTo>
                    <a:pt x="733" y="387"/>
                  </a:lnTo>
                  <a:lnTo>
                    <a:pt x="732" y="405"/>
                  </a:lnTo>
                  <a:lnTo>
                    <a:pt x="730" y="423"/>
                  </a:lnTo>
                  <a:lnTo>
                    <a:pt x="727" y="441"/>
                  </a:lnTo>
                  <a:lnTo>
                    <a:pt x="723" y="459"/>
                  </a:lnTo>
                  <a:lnTo>
                    <a:pt x="718" y="477"/>
                  </a:lnTo>
                  <a:lnTo>
                    <a:pt x="712" y="494"/>
                  </a:lnTo>
                  <a:lnTo>
                    <a:pt x="706" y="510"/>
                  </a:lnTo>
                  <a:lnTo>
                    <a:pt x="698" y="526"/>
                  </a:lnTo>
                  <a:lnTo>
                    <a:pt x="690" y="543"/>
                  </a:lnTo>
                  <a:lnTo>
                    <a:pt x="682" y="558"/>
                  </a:lnTo>
                  <a:lnTo>
                    <a:pt x="672" y="573"/>
                  </a:lnTo>
                  <a:lnTo>
                    <a:pt x="662" y="587"/>
                  </a:lnTo>
                  <a:lnTo>
                    <a:pt x="650" y="601"/>
                  </a:lnTo>
                  <a:lnTo>
                    <a:pt x="639" y="615"/>
                  </a:lnTo>
                  <a:lnTo>
                    <a:pt x="627" y="627"/>
                  </a:lnTo>
                  <a:lnTo>
                    <a:pt x="614" y="639"/>
                  </a:lnTo>
                  <a:lnTo>
                    <a:pt x="601" y="651"/>
                  </a:lnTo>
                  <a:lnTo>
                    <a:pt x="588" y="661"/>
                  </a:lnTo>
                  <a:lnTo>
                    <a:pt x="572" y="672"/>
                  </a:lnTo>
                  <a:lnTo>
                    <a:pt x="558" y="681"/>
                  </a:lnTo>
                  <a:lnTo>
                    <a:pt x="542" y="691"/>
                  </a:lnTo>
                  <a:lnTo>
                    <a:pt x="527" y="699"/>
                  </a:lnTo>
                  <a:lnTo>
                    <a:pt x="511" y="706"/>
                  </a:lnTo>
                  <a:lnTo>
                    <a:pt x="493" y="712"/>
                  </a:lnTo>
                  <a:lnTo>
                    <a:pt x="477" y="718"/>
                  </a:lnTo>
                  <a:lnTo>
                    <a:pt x="459" y="723"/>
                  </a:lnTo>
                  <a:lnTo>
                    <a:pt x="442" y="727"/>
                  </a:lnTo>
                  <a:lnTo>
                    <a:pt x="423" y="730"/>
                  </a:lnTo>
                  <a:lnTo>
                    <a:pt x="405" y="733"/>
                  </a:lnTo>
                  <a:lnTo>
                    <a:pt x="386" y="734"/>
                  </a:lnTo>
                  <a:lnTo>
                    <a:pt x="368" y="734"/>
                  </a:lnTo>
                  <a:lnTo>
                    <a:pt x="348" y="734"/>
                  </a:lnTo>
                  <a:lnTo>
                    <a:pt x="330" y="733"/>
                  </a:lnTo>
                  <a:lnTo>
                    <a:pt x="312" y="730"/>
                  </a:lnTo>
                  <a:lnTo>
                    <a:pt x="294" y="727"/>
                  </a:lnTo>
                  <a:lnTo>
                    <a:pt x="275" y="723"/>
                  </a:lnTo>
                  <a:lnTo>
                    <a:pt x="258" y="718"/>
                  </a:lnTo>
                  <a:lnTo>
                    <a:pt x="241" y="712"/>
                  </a:lnTo>
                  <a:lnTo>
                    <a:pt x="225" y="706"/>
                  </a:lnTo>
                  <a:lnTo>
                    <a:pt x="209" y="699"/>
                  </a:lnTo>
                  <a:lnTo>
                    <a:pt x="192" y="691"/>
                  </a:lnTo>
                  <a:lnTo>
                    <a:pt x="177" y="681"/>
                  </a:lnTo>
                  <a:lnTo>
                    <a:pt x="162" y="672"/>
                  </a:lnTo>
                  <a:lnTo>
                    <a:pt x="148" y="661"/>
                  </a:lnTo>
                  <a:lnTo>
                    <a:pt x="134" y="651"/>
                  </a:lnTo>
                  <a:lnTo>
                    <a:pt x="120" y="639"/>
                  </a:lnTo>
                  <a:lnTo>
                    <a:pt x="108" y="627"/>
                  </a:lnTo>
                  <a:lnTo>
                    <a:pt x="96" y="615"/>
                  </a:lnTo>
                  <a:lnTo>
                    <a:pt x="84" y="601"/>
                  </a:lnTo>
                  <a:lnTo>
                    <a:pt x="73" y="587"/>
                  </a:lnTo>
                  <a:lnTo>
                    <a:pt x="63" y="573"/>
                  </a:lnTo>
                  <a:lnTo>
                    <a:pt x="54" y="558"/>
                  </a:lnTo>
                  <a:lnTo>
                    <a:pt x="44" y="543"/>
                  </a:lnTo>
                  <a:lnTo>
                    <a:pt x="36" y="526"/>
                  </a:lnTo>
                  <a:lnTo>
                    <a:pt x="29" y="510"/>
                  </a:lnTo>
                  <a:lnTo>
                    <a:pt x="22" y="494"/>
                  </a:lnTo>
                  <a:lnTo>
                    <a:pt x="17" y="477"/>
                  </a:lnTo>
                  <a:lnTo>
                    <a:pt x="12" y="459"/>
                  </a:lnTo>
                  <a:lnTo>
                    <a:pt x="8" y="441"/>
                  </a:lnTo>
                  <a:lnTo>
                    <a:pt x="5" y="423"/>
                  </a:lnTo>
                  <a:lnTo>
                    <a:pt x="2" y="405"/>
                  </a:lnTo>
                  <a:lnTo>
                    <a:pt x="1" y="387"/>
                  </a:lnTo>
                  <a:lnTo>
                    <a:pt x="0" y="367"/>
                  </a:lnTo>
                  <a:lnTo>
                    <a:pt x="1" y="348"/>
                  </a:lnTo>
                  <a:lnTo>
                    <a:pt x="2" y="330"/>
                  </a:lnTo>
                  <a:lnTo>
                    <a:pt x="5" y="312"/>
                  </a:lnTo>
                  <a:lnTo>
                    <a:pt x="8" y="293"/>
                  </a:lnTo>
                  <a:lnTo>
                    <a:pt x="12" y="276"/>
                  </a:lnTo>
                  <a:lnTo>
                    <a:pt x="17" y="258"/>
                  </a:lnTo>
                  <a:lnTo>
                    <a:pt x="22" y="242"/>
                  </a:lnTo>
                  <a:lnTo>
                    <a:pt x="29" y="224"/>
                  </a:lnTo>
                  <a:lnTo>
                    <a:pt x="36" y="208"/>
                  </a:lnTo>
                  <a:lnTo>
                    <a:pt x="44" y="192"/>
                  </a:lnTo>
                  <a:lnTo>
                    <a:pt x="54" y="177"/>
                  </a:lnTo>
                  <a:lnTo>
                    <a:pt x="63" y="163"/>
                  </a:lnTo>
                  <a:lnTo>
                    <a:pt x="73" y="147"/>
                  </a:lnTo>
                  <a:lnTo>
                    <a:pt x="84" y="134"/>
                  </a:lnTo>
                  <a:lnTo>
                    <a:pt x="96" y="121"/>
                  </a:lnTo>
                  <a:lnTo>
                    <a:pt x="108" y="108"/>
                  </a:lnTo>
                  <a:lnTo>
                    <a:pt x="120" y="96"/>
                  </a:lnTo>
                  <a:lnTo>
                    <a:pt x="134" y="85"/>
                  </a:lnTo>
                  <a:lnTo>
                    <a:pt x="148" y="73"/>
                  </a:lnTo>
                  <a:lnTo>
                    <a:pt x="162" y="63"/>
                  </a:lnTo>
                  <a:lnTo>
                    <a:pt x="177" y="53"/>
                  </a:lnTo>
                  <a:lnTo>
                    <a:pt x="192" y="45"/>
                  </a:lnTo>
                  <a:lnTo>
                    <a:pt x="209" y="37"/>
                  </a:lnTo>
                  <a:lnTo>
                    <a:pt x="225" y="29"/>
                  </a:lnTo>
                  <a:lnTo>
                    <a:pt x="241" y="23"/>
                  </a:lnTo>
                  <a:lnTo>
                    <a:pt x="258" y="17"/>
                  </a:lnTo>
                  <a:lnTo>
                    <a:pt x="275" y="12"/>
                  </a:lnTo>
                  <a:lnTo>
                    <a:pt x="294" y="8"/>
                  </a:lnTo>
                  <a:lnTo>
                    <a:pt x="312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6" y="0"/>
                  </a:lnTo>
                  <a:lnTo>
                    <a:pt x="405" y="2"/>
                  </a:lnTo>
                  <a:lnTo>
                    <a:pt x="423" y="4"/>
                  </a:lnTo>
                  <a:lnTo>
                    <a:pt x="442" y="8"/>
                  </a:lnTo>
                  <a:lnTo>
                    <a:pt x="459" y="12"/>
                  </a:lnTo>
                  <a:lnTo>
                    <a:pt x="477" y="17"/>
                  </a:lnTo>
                  <a:lnTo>
                    <a:pt x="493" y="23"/>
                  </a:lnTo>
                  <a:lnTo>
                    <a:pt x="511" y="29"/>
                  </a:lnTo>
                  <a:lnTo>
                    <a:pt x="527" y="37"/>
                  </a:lnTo>
                  <a:lnTo>
                    <a:pt x="542" y="45"/>
                  </a:lnTo>
                  <a:lnTo>
                    <a:pt x="558" y="53"/>
                  </a:lnTo>
                  <a:lnTo>
                    <a:pt x="572" y="63"/>
                  </a:lnTo>
                  <a:lnTo>
                    <a:pt x="588" y="73"/>
                  </a:lnTo>
                  <a:lnTo>
                    <a:pt x="601" y="85"/>
                  </a:lnTo>
                  <a:lnTo>
                    <a:pt x="614" y="96"/>
                  </a:lnTo>
                  <a:lnTo>
                    <a:pt x="627" y="108"/>
                  </a:lnTo>
                  <a:lnTo>
                    <a:pt x="639" y="121"/>
                  </a:lnTo>
                  <a:lnTo>
                    <a:pt x="650" y="134"/>
                  </a:lnTo>
                  <a:lnTo>
                    <a:pt x="662" y="147"/>
                  </a:lnTo>
                  <a:lnTo>
                    <a:pt x="672" y="163"/>
                  </a:lnTo>
                  <a:lnTo>
                    <a:pt x="682" y="177"/>
                  </a:lnTo>
                  <a:lnTo>
                    <a:pt x="690" y="192"/>
                  </a:lnTo>
                  <a:lnTo>
                    <a:pt x="698" y="208"/>
                  </a:lnTo>
                  <a:lnTo>
                    <a:pt x="706" y="224"/>
                  </a:lnTo>
                  <a:lnTo>
                    <a:pt x="712" y="242"/>
                  </a:lnTo>
                  <a:lnTo>
                    <a:pt x="718" y="258"/>
                  </a:lnTo>
                  <a:lnTo>
                    <a:pt x="723" y="276"/>
                  </a:lnTo>
                  <a:lnTo>
                    <a:pt x="727" y="293"/>
                  </a:lnTo>
                  <a:lnTo>
                    <a:pt x="730" y="312"/>
                  </a:lnTo>
                  <a:lnTo>
                    <a:pt x="732" y="330"/>
                  </a:lnTo>
                  <a:lnTo>
                    <a:pt x="733" y="348"/>
                  </a:lnTo>
                  <a:lnTo>
                    <a:pt x="734" y="3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702400" y="1897200"/>
              <a:ext cx="55440" cy="55440"/>
            </a:xfrm>
            <a:custGeom>
              <a:avLst/>
              <a:gdLst/>
              <a:ahLst/>
              <a:rect l="l" t="t" r="r" b="b"/>
              <a:pathLst>
                <a:path w="734" h="734">
                  <a:moveTo>
                    <a:pt x="734" y="367"/>
                  </a:moveTo>
                  <a:lnTo>
                    <a:pt x="733" y="387"/>
                  </a:lnTo>
                  <a:lnTo>
                    <a:pt x="732" y="405"/>
                  </a:lnTo>
                  <a:lnTo>
                    <a:pt x="730" y="423"/>
                  </a:lnTo>
                  <a:lnTo>
                    <a:pt x="727" y="441"/>
                  </a:lnTo>
                  <a:lnTo>
                    <a:pt x="723" y="459"/>
                  </a:lnTo>
                  <a:lnTo>
                    <a:pt x="718" y="477"/>
                  </a:lnTo>
                  <a:lnTo>
                    <a:pt x="712" y="494"/>
                  </a:lnTo>
                  <a:lnTo>
                    <a:pt x="706" y="510"/>
                  </a:lnTo>
                  <a:lnTo>
                    <a:pt x="698" y="526"/>
                  </a:lnTo>
                  <a:lnTo>
                    <a:pt x="690" y="543"/>
                  </a:lnTo>
                  <a:lnTo>
                    <a:pt x="682" y="558"/>
                  </a:lnTo>
                  <a:lnTo>
                    <a:pt x="672" y="573"/>
                  </a:lnTo>
                  <a:lnTo>
                    <a:pt x="662" y="587"/>
                  </a:lnTo>
                  <a:lnTo>
                    <a:pt x="650" y="601"/>
                  </a:lnTo>
                  <a:lnTo>
                    <a:pt x="639" y="615"/>
                  </a:lnTo>
                  <a:lnTo>
                    <a:pt x="627" y="627"/>
                  </a:lnTo>
                  <a:lnTo>
                    <a:pt x="614" y="639"/>
                  </a:lnTo>
                  <a:lnTo>
                    <a:pt x="601" y="651"/>
                  </a:lnTo>
                  <a:lnTo>
                    <a:pt x="588" y="661"/>
                  </a:lnTo>
                  <a:lnTo>
                    <a:pt x="572" y="672"/>
                  </a:lnTo>
                  <a:lnTo>
                    <a:pt x="558" y="681"/>
                  </a:lnTo>
                  <a:lnTo>
                    <a:pt x="542" y="691"/>
                  </a:lnTo>
                  <a:lnTo>
                    <a:pt x="527" y="699"/>
                  </a:lnTo>
                  <a:lnTo>
                    <a:pt x="511" y="706"/>
                  </a:lnTo>
                  <a:lnTo>
                    <a:pt x="493" y="712"/>
                  </a:lnTo>
                  <a:lnTo>
                    <a:pt x="477" y="718"/>
                  </a:lnTo>
                  <a:lnTo>
                    <a:pt x="459" y="723"/>
                  </a:lnTo>
                  <a:lnTo>
                    <a:pt x="442" y="727"/>
                  </a:lnTo>
                  <a:lnTo>
                    <a:pt x="423" y="730"/>
                  </a:lnTo>
                  <a:lnTo>
                    <a:pt x="405" y="733"/>
                  </a:lnTo>
                  <a:lnTo>
                    <a:pt x="386" y="734"/>
                  </a:lnTo>
                  <a:lnTo>
                    <a:pt x="368" y="734"/>
                  </a:lnTo>
                  <a:lnTo>
                    <a:pt x="348" y="734"/>
                  </a:lnTo>
                  <a:lnTo>
                    <a:pt x="330" y="733"/>
                  </a:lnTo>
                  <a:lnTo>
                    <a:pt x="312" y="730"/>
                  </a:lnTo>
                  <a:lnTo>
                    <a:pt x="294" y="727"/>
                  </a:lnTo>
                  <a:lnTo>
                    <a:pt x="275" y="723"/>
                  </a:lnTo>
                  <a:lnTo>
                    <a:pt x="258" y="718"/>
                  </a:lnTo>
                  <a:lnTo>
                    <a:pt x="241" y="712"/>
                  </a:lnTo>
                  <a:lnTo>
                    <a:pt x="225" y="706"/>
                  </a:lnTo>
                  <a:lnTo>
                    <a:pt x="209" y="699"/>
                  </a:lnTo>
                  <a:lnTo>
                    <a:pt x="192" y="691"/>
                  </a:lnTo>
                  <a:lnTo>
                    <a:pt x="177" y="681"/>
                  </a:lnTo>
                  <a:lnTo>
                    <a:pt x="162" y="672"/>
                  </a:lnTo>
                  <a:lnTo>
                    <a:pt x="148" y="661"/>
                  </a:lnTo>
                  <a:lnTo>
                    <a:pt x="134" y="651"/>
                  </a:lnTo>
                  <a:lnTo>
                    <a:pt x="120" y="639"/>
                  </a:lnTo>
                  <a:lnTo>
                    <a:pt x="108" y="627"/>
                  </a:lnTo>
                  <a:lnTo>
                    <a:pt x="96" y="615"/>
                  </a:lnTo>
                  <a:lnTo>
                    <a:pt x="84" y="601"/>
                  </a:lnTo>
                  <a:lnTo>
                    <a:pt x="73" y="587"/>
                  </a:lnTo>
                  <a:lnTo>
                    <a:pt x="63" y="573"/>
                  </a:lnTo>
                  <a:lnTo>
                    <a:pt x="54" y="558"/>
                  </a:lnTo>
                  <a:lnTo>
                    <a:pt x="44" y="543"/>
                  </a:lnTo>
                  <a:lnTo>
                    <a:pt x="36" y="526"/>
                  </a:lnTo>
                  <a:lnTo>
                    <a:pt x="29" y="510"/>
                  </a:lnTo>
                  <a:lnTo>
                    <a:pt x="22" y="494"/>
                  </a:lnTo>
                  <a:lnTo>
                    <a:pt x="17" y="477"/>
                  </a:lnTo>
                  <a:lnTo>
                    <a:pt x="12" y="459"/>
                  </a:lnTo>
                  <a:lnTo>
                    <a:pt x="8" y="441"/>
                  </a:lnTo>
                  <a:lnTo>
                    <a:pt x="5" y="423"/>
                  </a:lnTo>
                  <a:lnTo>
                    <a:pt x="2" y="405"/>
                  </a:lnTo>
                  <a:lnTo>
                    <a:pt x="1" y="387"/>
                  </a:lnTo>
                  <a:lnTo>
                    <a:pt x="0" y="367"/>
                  </a:lnTo>
                  <a:lnTo>
                    <a:pt x="1" y="348"/>
                  </a:lnTo>
                  <a:lnTo>
                    <a:pt x="2" y="330"/>
                  </a:lnTo>
                  <a:lnTo>
                    <a:pt x="5" y="312"/>
                  </a:lnTo>
                  <a:lnTo>
                    <a:pt x="8" y="293"/>
                  </a:lnTo>
                  <a:lnTo>
                    <a:pt x="12" y="276"/>
                  </a:lnTo>
                  <a:lnTo>
                    <a:pt x="17" y="258"/>
                  </a:lnTo>
                  <a:lnTo>
                    <a:pt x="22" y="242"/>
                  </a:lnTo>
                  <a:lnTo>
                    <a:pt x="29" y="224"/>
                  </a:lnTo>
                  <a:lnTo>
                    <a:pt x="36" y="208"/>
                  </a:lnTo>
                  <a:lnTo>
                    <a:pt x="44" y="192"/>
                  </a:lnTo>
                  <a:lnTo>
                    <a:pt x="54" y="177"/>
                  </a:lnTo>
                  <a:lnTo>
                    <a:pt x="63" y="163"/>
                  </a:lnTo>
                  <a:lnTo>
                    <a:pt x="73" y="147"/>
                  </a:lnTo>
                  <a:lnTo>
                    <a:pt x="84" y="134"/>
                  </a:lnTo>
                  <a:lnTo>
                    <a:pt x="96" y="121"/>
                  </a:lnTo>
                  <a:lnTo>
                    <a:pt x="108" y="108"/>
                  </a:lnTo>
                  <a:lnTo>
                    <a:pt x="120" y="96"/>
                  </a:lnTo>
                  <a:lnTo>
                    <a:pt x="134" y="85"/>
                  </a:lnTo>
                  <a:lnTo>
                    <a:pt x="148" y="73"/>
                  </a:lnTo>
                  <a:lnTo>
                    <a:pt x="162" y="63"/>
                  </a:lnTo>
                  <a:lnTo>
                    <a:pt x="177" y="53"/>
                  </a:lnTo>
                  <a:lnTo>
                    <a:pt x="192" y="45"/>
                  </a:lnTo>
                  <a:lnTo>
                    <a:pt x="209" y="37"/>
                  </a:lnTo>
                  <a:lnTo>
                    <a:pt x="225" y="29"/>
                  </a:lnTo>
                  <a:lnTo>
                    <a:pt x="241" y="23"/>
                  </a:lnTo>
                  <a:lnTo>
                    <a:pt x="258" y="17"/>
                  </a:lnTo>
                  <a:lnTo>
                    <a:pt x="275" y="12"/>
                  </a:lnTo>
                  <a:lnTo>
                    <a:pt x="294" y="8"/>
                  </a:lnTo>
                  <a:lnTo>
                    <a:pt x="312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6" y="0"/>
                  </a:lnTo>
                  <a:lnTo>
                    <a:pt x="405" y="2"/>
                  </a:lnTo>
                  <a:lnTo>
                    <a:pt x="423" y="4"/>
                  </a:lnTo>
                  <a:lnTo>
                    <a:pt x="442" y="8"/>
                  </a:lnTo>
                  <a:lnTo>
                    <a:pt x="459" y="12"/>
                  </a:lnTo>
                  <a:lnTo>
                    <a:pt x="477" y="17"/>
                  </a:lnTo>
                  <a:lnTo>
                    <a:pt x="493" y="23"/>
                  </a:lnTo>
                  <a:lnTo>
                    <a:pt x="511" y="29"/>
                  </a:lnTo>
                  <a:lnTo>
                    <a:pt x="527" y="37"/>
                  </a:lnTo>
                  <a:lnTo>
                    <a:pt x="542" y="45"/>
                  </a:lnTo>
                  <a:lnTo>
                    <a:pt x="558" y="53"/>
                  </a:lnTo>
                  <a:lnTo>
                    <a:pt x="572" y="63"/>
                  </a:lnTo>
                  <a:lnTo>
                    <a:pt x="588" y="73"/>
                  </a:lnTo>
                  <a:lnTo>
                    <a:pt x="601" y="85"/>
                  </a:lnTo>
                  <a:lnTo>
                    <a:pt x="614" y="96"/>
                  </a:lnTo>
                  <a:lnTo>
                    <a:pt x="627" y="108"/>
                  </a:lnTo>
                  <a:lnTo>
                    <a:pt x="639" y="121"/>
                  </a:lnTo>
                  <a:lnTo>
                    <a:pt x="650" y="134"/>
                  </a:lnTo>
                  <a:lnTo>
                    <a:pt x="662" y="147"/>
                  </a:lnTo>
                  <a:lnTo>
                    <a:pt x="672" y="163"/>
                  </a:lnTo>
                  <a:lnTo>
                    <a:pt x="682" y="177"/>
                  </a:lnTo>
                  <a:lnTo>
                    <a:pt x="690" y="192"/>
                  </a:lnTo>
                  <a:lnTo>
                    <a:pt x="698" y="208"/>
                  </a:lnTo>
                  <a:lnTo>
                    <a:pt x="706" y="224"/>
                  </a:lnTo>
                  <a:lnTo>
                    <a:pt x="712" y="242"/>
                  </a:lnTo>
                  <a:lnTo>
                    <a:pt x="718" y="258"/>
                  </a:lnTo>
                  <a:lnTo>
                    <a:pt x="723" y="276"/>
                  </a:lnTo>
                  <a:lnTo>
                    <a:pt x="727" y="293"/>
                  </a:lnTo>
                  <a:lnTo>
                    <a:pt x="730" y="312"/>
                  </a:lnTo>
                  <a:lnTo>
                    <a:pt x="732" y="330"/>
                  </a:lnTo>
                  <a:lnTo>
                    <a:pt x="733" y="348"/>
                  </a:lnTo>
                  <a:lnTo>
                    <a:pt x="734" y="367"/>
                  </a:lnTo>
                </a:path>
              </a:pathLst>
            </a:custGeom>
            <a:noFill/>
            <a:ln w="324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297400" y="1909800"/>
              <a:ext cx="257400" cy="79200"/>
            </a:xfrm>
            <a:custGeom>
              <a:avLst/>
              <a:gdLst/>
              <a:ahLst/>
              <a:rect l="l" t="t" r="r" b="b"/>
              <a:pathLst>
                <a:path w="3408" h="1049">
                  <a:moveTo>
                    <a:pt x="3408" y="525"/>
                  </a:moveTo>
                  <a:lnTo>
                    <a:pt x="3405" y="551"/>
                  </a:lnTo>
                  <a:lnTo>
                    <a:pt x="3399" y="578"/>
                  </a:lnTo>
                  <a:lnTo>
                    <a:pt x="3388" y="605"/>
                  </a:lnTo>
                  <a:lnTo>
                    <a:pt x="3374" y="630"/>
                  </a:lnTo>
                  <a:lnTo>
                    <a:pt x="3355" y="655"/>
                  </a:lnTo>
                  <a:lnTo>
                    <a:pt x="3331" y="681"/>
                  </a:lnTo>
                  <a:lnTo>
                    <a:pt x="3305" y="705"/>
                  </a:lnTo>
                  <a:lnTo>
                    <a:pt x="3274" y="728"/>
                  </a:lnTo>
                  <a:lnTo>
                    <a:pt x="3240" y="752"/>
                  </a:lnTo>
                  <a:lnTo>
                    <a:pt x="3203" y="774"/>
                  </a:lnTo>
                  <a:lnTo>
                    <a:pt x="3161" y="796"/>
                  </a:lnTo>
                  <a:lnTo>
                    <a:pt x="3116" y="818"/>
                  </a:lnTo>
                  <a:lnTo>
                    <a:pt x="3069" y="838"/>
                  </a:lnTo>
                  <a:lnTo>
                    <a:pt x="3019" y="858"/>
                  </a:lnTo>
                  <a:lnTo>
                    <a:pt x="2965" y="877"/>
                  </a:lnTo>
                  <a:lnTo>
                    <a:pt x="2909" y="896"/>
                  </a:lnTo>
                  <a:lnTo>
                    <a:pt x="2850" y="913"/>
                  </a:lnTo>
                  <a:lnTo>
                    <a:pt x="2788" y="929"/>
                  </a:lnTo>
                  <a:lnTo>
                    <a:pt x="2723" y="945"/>
                  </a:lnTo>
                  <a:lnTo>
                    <a:pt x="2656" y="959"/>
                  </a:lnTo>
                  <a:lnTo>
                    <a:pt x="2587" y="973"/>
                  </a:lnTo>
                  <a:lnTo>
                    <a:pt x="2516" y="986"/>
                  </a:lnTo>
                  <a:lnTo>
                    <a:pt x="2443" y="997"/>
                  </a:lnTo>
                  <a:lnTo>
                    <a:pt x="2367" y="1008"/>
                  </a:lnTo>
                  <a:lnTo>
                    <a:pt x="2290" y="1017"/>
                  </a:lnTo>
                  <a:lnTo>
                    <a:pt x="2211" y="1025"/>
                  </a:lnTo>
                  <a:lnTo>
                    <a:pt x="2129" y="1032"/>
                  </a:lnTo>
                  <a:lnTo>
                    <a:pt x="2047" y="1038"/>
                  </a:lnTo>
                  <a:lnTo>
                    <a:pt x="1963" y="1042"/>
                  </a:lnTo>
                  <a:lnTo>
                    <a:pt x="1878" y="1047"/>
                  </a:lnTo>
                  <a:lnTo>
                    <a:pt x="1791" y="1049"/>
                  </a:lnTo>
                  <a:lnTo>
                    <a:pt x="1704" y="1049"/>
                  </a:lnTo>
                  <a:lnTo>
                    <a:pt x="1616" y="1049"/>
                  </a:lnTo>
                  <a:lnTo>
                    <a:pt x="1530" y="1047"/>
                  </a:lnTo>
                  <a:lnTo>
                    <a:pt x="1445" y="1042"/>
                  </a:lnTo>
                  <a:lnTo>
                    <a:pt x="1360" y="1038"/>
                  </a:lnTo>
                  <a:lnTo>
                    <a:pt x="1278" y="1032"/>
                  </a:lnTo>
                  <a:lnTo>
                    <a:pt x="1197" y="1025"/>
                  </a:lnTo>
                  <a:lnTo>
                    <a:pt x="1118" y="1017"/>
                  </a:lnTo>
                  <a:lnTo>
                    <a:pt x="1040" y="1008"/>
                  </a:lnTo>
                  <a:lnTo>
                    <a:pt x="965" y="997"/>
                  </a:lnTo>
                  <a:lnTo>
                    <a:pt x="891" y="986"/>
                  </a:lnTo>
                  <a:lnTo>
                    <a:pt x="820" y="973"/>
                  </a:lnTo>
                  <a:lnTo>
                    <a:pt x="751" y="959"/>
                  </a:lnTo>
                  <a:lnTo>
                    <a:pt x="685" y="945"/>
                  </a:lnTo>
                  <a:lnTo>
                    <a:pt x="620" y="929"/>
                  </a:lnTo>
                  <a:lnTo>
                    <a:pt x="558" y="913"/>
                  </a:lnTo>
                  <a:lnTo>
                    <a:pt x="499" y="896"/>
                  </a:lnTo>
                  <a:lnTo>
                    <a:pt x="442" y="877"/>
                  </a:lnTo>
                  <a:lnTo>
                    <a:pt x="389" y="858"/>
                  </a:lnTo>
                  <a:lnTo>
                    <a:pt x="338" y="838"/>
                  </a:lnTo>
                  <a:lnTo>
                    <a:pt x="291" y="818"/>
                  </a:lnTo>
                  <a:lnTo>
                    <a:pt x="247" y="796"/>
                  </a:lnTo>
                  <a:lnTo>
                    <a:pt x="205" y="774"/>
                  </a:lnTo>
                  <a:lnTo>
                    <a:pt x="168" y="752"/>
                  </a:lnTo>
                  <a:lnTo>
                    <a:pt x="133" y="728"/>
                  </a:lnTo>
                  <a:lnTo>
                    <a:pt x="103" y="705"/>
                  </a:lnTo>
                  <a:lnTo>
                    <a:pt x="77" y="681"/>
                  </a:lnTo>
                  <a:lnTo>
                    <a:pt x="53" y="655"/>
                  </a:lnTo>
                  <a:lnTo>
                    <a:pt x="34" y="630"/>
                  </a:lnTo>
                  <a:lnTo>
                    <a:pt x="20" y="605"/>
                  </a:lnTo>
                  <a:lnTo>
                    <a:pt x="9" y="578"/>
                  </a:lnTo>
                  <a:lnTo>
                    <a:pt x="2" y="551"/>
                  </a:lnTo>
                  <a:lnTo>
                    <a:pt x="0" y="525"/>
                  </a:lnTo>
                  <a:lnTo>
                    <a:pt x="2" y="497"/>
                  </a:lnTo>
                  <a:lnTo>
                    <a:pt x="9" y="471"/>
                  </a:lnTo>
                  <a:lnTo>
                    <a:pt x="20" y="445"/>
                  </a:lnTo>
                  <a:lnTo>
                    <a:pt x="34" y="418"/>
                  </a:lnTo>
                  <a:lnTo>
                    <a:pt x="53" y="393"/>
                  </a:lnTo>
                  <a:lnTo>
                    <a:pt x="77" y="369"/>
                  </a:lnTo>
                  <a:lnTo>
                    <a:pt x="103" y="344"/>
                  </a:lnTo>
                  <a:lnTo>
                    <a:pt x="133" y="320"/>
                  </a:lnTo>
                  <a:lnTo>
                    <a:pt x="168" y="297"/>
                  </a:lnTo>
                  <a:lnTo>
                    <a:pt x="205" y="274"/>
                  </a:lnTo>
                  <a:lnTo>
                    <a:pt x="247" y="252"/>
                  </a:lnTo>
                  <a:lnTo>
                    <a:pt x="291" y="231"/>
                  </a:lnTo>
                  <a:lnTo>
                    <a:pt x="338" y="210"/>
                  </a:lnTo>
                  <a:lnTo>
                    <a:pt x="389" y="190"/>
                  </a:lnTo>
                  <a:lnTo>
                    <a:pt x="442" y="172"/>
                  </a:lnTo>
                  <a:lnTo>
                    <a:pt x="499" y="154"/>
                  </a:lnTo>
                  <a:lnTo>
                    <a:pt x="558" y="137"/>
                  </a:lnTo>
                  <a:lnTo>
                    <a:pt x="620" y="119"/>
                  </a:lnTo>
                  <a:lnTo>
                    <a:pt x="685" y="104"/>
                  </a:lnTo>
                  <a:lnTo>
                    <a:pt x="751" y="89"/>
                  </a:lnTo>
                  <a:lnTo>
                    <a:pt x="820" y="76"/>
                  </a:lnTo>
                  <a:lnTo>
                    <a:pt x="891" y="64"/>
                  </a:lnTo>
                  <a:lnTo>
                    <a:pt x="965" y="51"/>
                  </a:lnTo>
                  <a:lnTo>
                    <a:pt x="1040" y="41"/>
                  </a:lnTo>
                  <a:lnTo>
                    <a:pt x="1118" y="31"/>
                  </a:lnTo>
                  <a:lnTo>
                    <a:pt x="1197" y="23"/>
                  </a:lnTo>
                  <a:lnTo>
                    <a:pt x="1278" y="16"/>
                  </a:lnTo>
                  <a:lnTo>
                    <a:pt x="1360" y="11"/>
                  </a:lnTo>
                  <a:lnTo>
                    <a:pt x="1445" y="6"/>
                  </a:lnTo>
                  <a:lnTo>
                    <a:pt x="1530" y="3"/>
                  </a:lnTo>
                  <a:lnTo>
                    <a:pt x="1616" y="1"/>
                  </a:lnTo>
                  <a:lnTo>
                    <a:pt x="1704" y="0"/>
                  </a:lnTo>
                  <a:lnTo>
                    <a:pt x="1791" y="1"/>
                  </a:lnTo>
                  <a:lnTo>
                    <a:pt x="1878" y="3"/>
                  </a:lnTo>
                  <a:lnTo>
                    <a:pt x="1963" y="6"/>
                  </a:lnTo>
                  <a:lnTo>
                    <a:pt x="2047" y="11"/>
                  </a:lnTo>
                  <a:lnTo>
                    <a:pt x="2129" y="16"/>
                  </a:lnTo>
                  <a:lnTo>
                    <a:pt x="2211" y="23"/>
                  </a:lnTo>
                  <a:lnTo>
                    <a:pt x="2290" y="31"/>
                  </a:lnTo>
                  <a:lnTo>
                    <a:pt x="2367" y="41"/>
                  </a:lnTo>
                  <a:lnTo>
                    <a:pt x="2443" y="51"/>
                  </a:lnTo>
                  <a:lnTo>
                    <a:pt x="2516" y="64"/>
                  </a:lnTo>
                  <a:lnTo>
                    <a:pt x="2587" y="76"/>
                  </a:lnTo>
                  <a:lnTo>
                    <a:pt x="2656" y="89"/>
                  </a:lnTo>
                  <a:lnTo>
                    <a:pt x="2723" y="104"/>
                  </a:lnTo>
                  <a:lnTo>
                    <a:pt x="2788" y="119"/>
                  </a:lnTo>
                  <a:lnTo>
                    <a:pt x="2850" y="137"/>
                  </a:lnTo>
                  <a:lnTo>
                    <a:pt x="2909" y="154"/>
                  </a:lnTo>
                  <a:lnTo>
                    <a:pt x="2965" y="172"/>
                  </a:lnTo>
                  <a:lnTo>
                    <a:pt x="3019" y="190"/>
                  </a:lnTo>
                  <a:lnTo>
                    <a:pt x="3069" y="210"/>
                  </a:lnTo>
                  <a:lnTo>
                    <a:pt x="3116" y="231"/>
                  </a:lnTo>
                  <a:lnTo>
                    <a:pt x="3161" y="252"/>
                  </a:lnTo>
                  <a:lnTo>
                    <a:pt x="3203" y="274"/>
                  </a:lnTo>
                  <a:lnTo>
                    <a:pt x="3240" y="297"/>
                  </a:lnTo>
                  <a:lnTo>
                    <a:pt x="3274" y="320"/>
                  </a:lnTo>
                  <a:lnTo>
                    <a:pt x="3305" y="344"/>
                  </a:lnTo>
                  <a:lnTo>
                    <a:pt x="3331" y="369"/>
                  </a:lnTo>
                  <a:lnTo>
                    <a:pt x="3355" y="393"/>
                  </a:lnTo>
                  <a:lnTo>
                    <a:pt x="3374" y="418"/>
                  </a:lnTo>
                  <a:lnTo>
                    <a:pt x="3388" y="445"/>
                  </a:lnTo>
                  <a:lnTo>
                    <a:pt x="3399" y="471"/>
                  </a:lnTo>
                  <a:lnTo>
                    <a:pt x="3405" y="497"/>
                  </a:lnTo>
                  <a:lnTo>
                    <a:pt x="3408" y="5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297400" y="1909800"/>
              <a:ext cx="257400" cy="79200"/>
            </a:xfrm>
            <a:custGeom>
              <a:avLst/>
              <a:gdLst/>
              <a:ahLst/>
              <a:rect l="l" t="t" r="r" b="b"/>
              <a:pathLst>
                <a:path w="3408" h="1049">
                  <a:moveTo>
                    <a:pt x="3408" y="525"/>
                  </a:moveTo>
                  <a:lnTo>
                    <a:pt x="3405" y="551"/>
                  </a:lnTo>
                  <a:lnTo>
                    <a:pt x="3399" y="578"/>
                  </a:lnTo>
                  <a:lnTo>
                    <a:pt x="3388" y="605"/>
                  </a:lnTo>
                  <a:lnTo>
                    <a:pt x="3374" y="630"/>
                  </a:lnTo>
                  <a:lnTo>
                    <a:pt x="3355" y="655"/>
                  </a:lnTo>
                  <a:lnTo>
                    <a:pt x="3331" y="681"/>
                  </a:lnTo>
                  <a:lnTo>
                    <a:pt x="3305" y="705"/>
                  </a:lnTo>
                  <a:lnTo>
                    <a:pt x="3274" y="728"/>
                  </a:lnTo>
                  <a:lnTo>
                    <a:pt x="3240" y="752"/>
                  </a:lnTo>
                  <a:lnTo>
                    <a:pt x="3203" y="774"/>
                  </a:lnTo>
                  <a:lnTo>
                    <a:pt x="3161" y="796"/>
                  </a:lnTo>
                  <a:lnTo>
                    <a:pt x="3116" y="818"/>
                  </a:lnTo>
                  <a:lnTo>
                    <a:pt x="3069" y="838"/>
                  </a:lnTo>
                  <a:lnTo>
                    <a:pt x="3019" y="858"/>
                  </a:lnTo>
                  <a:lnTo>
                    <a:pt x="2965" y="877"/>
                  </a:lnTo>
                  <a:lnTo>
                    <a:pt x="2909" y="896"/>
                  </a:lnTo>
                  <a:lnTo>
                    <a:pt x="2850" y="913"/>
                  </a:lnTo>
                  <a:lnTo>
                    <a:pt x="2788" y="929"/>
                  </a:lnTo>
                  <a:lnTo>
                    <a:pt x="2723" y="945"/>
                  </a:lnTo>
                  <a:lnTo>
                    <a:pt x="2656" y="959"/>
                  </a:lnTo>
                  <a:lnTo>
                    <a:pt x="2587" y="973"/>
                  </a:lnTo>
                  <a:lnTo>
                    <a:pt x="2516" y="986"/>
                  </a:lnTo>
                  <a:lnTo>
                    <a:pt x="2443" y="997"/>
                  </a:lnTo>
                  <a:lnTo>
                    <a:pt x="2367" y="1008"/>
                  </a:lnTo>
                  <a:lnTo>
                    <a:pt x="2290" y="1017"/>
                  </a:lnTo>
                  <a:lnTo>
                    <a:pt x="2211" y="1025"/>
                  </a:lnTo>
                  <a:lnTo>
                    <a:pt x="2129" y="1032"/>
                  </a:lnTo>
                  <a:lnTo>
                    <a:pt x="2047" y="1038"/>
                  </a:lnTo>
                  <a:lnTo>
                    <a:pt x="1963" y="1042"/>
                  </a:lnTo>
                  <a:lnTo>
                    <a:pt x="1878" y="1047"/>
                  </a:lnTo>
                  <a:lnTo>
                    <a:pt x="1791" y="1049"/>
                  </a:lnTo>
                  <a:lnTo>
                    <a:pt x="1704" y="1049"/>
                  </a:lnTo>
                  <a:lnTo>
                    <a:pt x="1616" y="1049"/>
                  </a:lnTo>
                  <a:lnTo>
                    <a:pt x="1530" y="1047"/>
                  </a:lnTo>
                  <a:lnTo>
                    <a:pt x="1445" y="1042"/>
                  </a:lnTo>
                  <a:lnTo>
                    <a:pt x="1360" y="1038"/>
                  </a:lnTo>
                  <a:lnTo>
                    <a:pt x="1278" y="1032"/>
                  </a:lnTo>
                  <a:lnTo>
                    <a:pt x="1197" y="1025"/>
                  </a:lnTo>
                  <a:lnTo>
                    <a:pt x="1118" y="1017"/>
                  </a:lnTo>
                  <a:lnTo>
                    <a:pt x="1040" y="1008"/>
                  </a:lnTo>
                  <a:lnTo>
                    <a:pt x="965" y="997"/>
                  </a:lnTo>
                  <a:lnTo>
                    <a:pt x="891" y="986"/>
                  </a:lnTo>
                  <a:lnTo>
                    <a:pt x="820" y="973"/>
                  </a:lnTo>
                  <a:lnTo>
                    <a:pt x="751" y="959"/>
                  </a:lnTo>
                  <a:lnTo>
                    <a:pt x="685" y="945"/>
                  </a:lnTo>
                  <a:lnTo>
                    <a:pt x="620" y="929"/>
                  </a:lnTo>
                  <a:lnTo>
                    <a:pt x="558" y="913"/>
                  </a:lnTo>
                  <a:lnTo>
                    <a:pt x="499" y="896"/>
                  </a:lnTo>
                  <a:lnTo>
                    <a:pt x="442" y="877"/>
                  </a:lnTo>
                  <a:lnTo>
                    <a:pt x="389" y="858"/>
                  </a:lnTo>
                  <a:lnTo>
                    <a:pt x="338" y="838"/>
                  </a:lnTo>
                  <a:lnTo>
                    <a:pt x="291" y="818"/>
                  </a:lnTo>
                  <a:lnTo>
                    <a:pt x="247" y="796"/>
                  </a:lnTo>
                  <a:lnTo>
                    <a:pt x="205" y="774"/>
                  </a:lnTo>
                  <a:lnTo>
                    <a:pt x="168" y="752"/>
                  </a:lnTo>
                  <a:lnTo>
                    <a:pt x="133" y="728"/>
                  </a:lnTo>
                  <a:lnTo>
                    <a:pt x="103" y="705"/>
                  </a:lnTo>
                  <a:lnTo>
                    <a:pt x="77" y="681"/>
                  </a:lnTo>
                  <a:lnTo>
                    <a:pt x="53" y="655"/>
                  </a:lnTo>
                  <a:lnTo>
                    <a:pt x="34" y="630"/>
                  </a:lnTo>
                  <a:lnTo>
                    <a:pt x="20" y="605"/>
                  </a:lnTo>
                  <a:lnTo>
                    <a:pt x="9" y="578"/>
                  </a:lnTo>
                  <a:lnTo>
                    <a:pt x="2" y="551"/>
                  </a:lnTo>
                  <a:lnTo>
                    <a:pt x="0" y="525"/>
                  </a:lnTo>
                  <a:lnTo>
                    <a:pt x="2" y="497"/>
                  </a:lnTo>
                  <a:lnTo>
                    <a:pt x="9" y="471"/>
                  </a:lnTo>
                  <a:lnTo>
                    <a:pt x="20" y="445"/>
                  </a:lnTo>
                  <a:lnTo>
                    <a:pt x="34" y="418"/>
                  </a:lnTo>
                  <a:lnTo>
                    <a:pt x="53" y="393"/>
                  </a:lnTo>
                  <a:lnTo>
                    <a:pt x="77" y="369"/>
                  </a:lnTo>
                  <a:lnTo>
                    <a:pt x="103" y="344"/>
                  </a:lnTo>
                  <a:lnTo>
                    <a:pt x="133" y="320"/>
                  </a:lnTo>
                  <a:lnTo>
                    <a:pt x="168" y="297"/>
                  </a:lnTo>
                  <a:lnTo>
                    <a:pt x="205" y="274"/>
                  </a:lnTo>
                  <a:lnTo>
                    <a:pt x="247" y="252"/>
                  </a:lnTo>
                  <a:lnTo>
                    <a:pt x="291" y="231"/>
                  </a:lnTo>
                  <a:lnTo>
                    <a:pt x="338" y="210"/>
                  </a:lnTo>
                  <a:lnTo>
                    <a:pt x="389" y="190"/>
                  </a:lnTo>
                  <a:lnTo>
                    <a:pt x="442" y="172"/>
                  </a:lnTo>
                  <a:lnTo>
                    <a:pt x="499" y="154"/>
                  </a:lnTo>
                  <a:lnTo>
                    <a:pt x="558" y="137"/>
                  </a:lnTo>
                  <a:lnTo>
                    <a:pt x="620" y="119"/>
                  </a:lnTo>
                  <a:lnTo>
                    <a:pt x="685" y="104"/>
                  </a:lnTo>
                  <a:lnTo>
                    <a:pt x="751" y="89"/>
                  </a:lnTo>
                  <a:lnTo>
                    <a:pt x="820" y="76"/>
                  </a:lnTo>
                  <a:lnTo>
                    <a:pt x="891" y="64"/>
                  </a:lnTo>
                  <a:lnTo>
                    <a:pt x="965" y="51"/>
                  </a:lnTo>
                  <a:lnTo>
                    <a:pt x="1040" y="41"/>
                  </a:lnTo>
                  <a:lnTo>
                    <a:pt x="1118" y="31"/>
                  </a:lnTo>
                  <a:lnTo>
                    <a:pt x="1197" y="23"/>
                  </a:lnTo>
                  <a:lnTo>
                    <a:pt x="1278" y="16"/>
                  </a:lnTo>
                  <a:lnTo>
                    <a:pt x="1360" y="11"/>
                  </a:lnTo>
                  <a:lnTo>
                    <a:pt x="1445" y="6"/>
                  </a:lnTo>
                  <a:lnTo>
                    <a:pt x="1530" y="3"/>
                  </a:lnTo>
                  <a:lnTo>
                    <a:pt x="1616" y="1"/>
                  </a:lnTo>
                  <a:lnTo>
                    <a:pt x="1704" y="0"/>
                  </a:lnTo>
                  <a:lnTo>
                    <a:pt x="1791" y="1"/>
                  </a:lnTo>
                  <a:lnTo>
                    <a:pt x="1878" y="3"/>
                  </a:lnTo>
                  <a:lnTo>
                    <a:pt x="1963" y="6"/>
                  </a:lnTo>
                  <a:lnTo>
                    <a:pt x="2047" y="11"/>
                  </a:lnTo>
                  <a:lnTo>
                    <a:pt x="2129" y="16"/>
                  </a:lnTo>
                  <a:lnTo>
                    <a:pt x="2211" y="23"/>
                  </a:lnTo>
                  <a:lnTo>
                    <a:pt x="2290" y="31"/>
                  </a:lnTo>
                  <a:lnTo>
                    <a:pt x="2367" y="41"/>
                  </a:lnTo>
                  <a:lnTo>
                    <a:pt x="2443" y="51"/>
                  </a:lnTo>
                  <a:lnTo>
                    <a:pt x="2516" y="64"/>
                  </a:lnTo>
                  <a:lnTo>
                    <a:pt x="2587" y="76"/>
                  </a:lnTo>
                  <a:lnTo>
                    <a:pt x="2656" y="89"/>
                  </a:lnTo>
                  <a:lnTo>
                    <a:pt x="2723" y="104"/>
                  </a:lnTo>
                  <a:lnTo>
                    <a:pt x="2788" y="119"/>
                  </a:lnTo>
                  <a:lnTo>
                    <a:pt x="2850" y="137"/>
                  </a:lnTo>
                  <a:lnTo>
                    <a:pt x="2909" y="154"/>
                  </a:lnTo>
                  <a:lnTo>
                    <a:pt x="2965" y="172"/>
                  </a:lnTo>
                  <a:lnTo>
                    <a:pt x="3019" y="190"/>
                  </a:lnTo>
                  <a:lnTo>
                    <a:pt x="3069" y="210"/>
                  </a:lnTo>
                  <a:lnTo>
                    <a:pt x="3116" y="231"/>
                  </a:lnTo>
                  <a:lnTo>
                    <a:pt x="3161" y="252"/>
                  </a:lnTo>
                  <a:lnTo>
                    <a:pt x="3203" y="274"/>
                  </a:lnTo>
                  <a:lnTo>
                    <a:pt x="3240" y="297"/>
                  </a:lnTo>
                  <a:lnTo>
                    <a:pt x="3274" y="320"/>
                  </a:lnTo>
                  <a:lnTo>
                    <a:pt x="3305" y="344"/>
                  </a:lnTo>
                  <a:lnTo>
                    <a:pt x="3331" y="369"/>
                  </a:lnTo>
                  <a:lnTo>
                    <a:pt x="3355" y="393"/>
                  </a:lnTo>
                  <a:lnTo>
                    <a:pt x="3374" y="418"/>
                  </a:lnTo>
                  <a:lnTo>
                    <a:pt x="3388" y="445"/>
                  </a:lnTo>
                  <a:lnTo>
                    <a:pt x="3399" y="471"/>
                  </a:lnTo>
                  <a:lnTo>
                    <a:pt x="3405" y="497"/>
                  </a:lnTo>
                  <a:lnTo>
                    <a:pt x="3408" y="525"/>
                  </a:lnTo>
                </a:path>
              </a:pathLst>
            </a:custGeom>
            <a:noFill/>
            <a:ln w="3240">
              <a:solidFill>
                <a:srgbClr val="4e50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8" name="" descr=""/>
          <p:cNvPicPr/>
          <p:nvPr/>
        </p:nvPicPr>
        <p:blipFill>
          <a:blip r:embed="rId17"/>
          <a:stretch/>
        </p:blipFill>
        <p:spPr>
          <a:xfrm>
            <a:off x="7238880" y="1347840"/>
            <a:ext cx="771480" cy="838080"/>
          </a:xfrm>
          <a:prstGeom prst="rect">
            <a:avLst/>
          </a:prstGeom>
          <a:ln w="0">
            <a:noFill/>
          </a:ln>
        </p:spPr>
      </p:pic>
      <p:sp>
        <p:nvSpPr>
          <p:cNvPr id="3869" name=""/>
          <p:cNvSpPr/>
          <p:nvPr/>
        </p:nvSpPr>
        <p:spPr>
          <a:xfrm>
            <a:off x="8001000" y="160488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BF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8001000" y="236376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BFW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1" name="" descr=""/>
          <p:cNvPicPr/>
          <p:nvPr/>
        </p:nvPicPr>
        <p:blipFill>
          <a:blip r:embed="rId18"/>
          <a:stretch/>
        </p:blipFill>
        <p:spPr>
          <a:xfrm>
            <a:off x="7153200" y="2205000"/>
            <a:ext cx="924120" cy="743040"/>
          </a:xfrm>
          <a:prstGeom prst="rect">
            <a:avLst/>
          </a:prstGeom>
          <a:ln w="0">
            <a:noFill/>
          </a:ln>
        </p:spPr>
      </p:pic>
      <p:sp>
        <p:nvSpPr>
          <p:cNvPr id="3872" name=""/>
          <p:cNvSpPr/>
          <p:nvPr/>
        </p:nvSpPr>
        <p:spPr>
          <a:xfrm>
            <a:off x="6035760" y="1500120"/>
            <a:ext cx="145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t-Top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x (ST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6035760" y="245592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4" name=""/>
          <p:cNvGrpSpPr/>
          <p:nvPr/>
        </p:nvGrpSpPr>
        <p:grpSpPr>
          <a:xfrm>
            <a:off x="5178600" y="2182680"/>
            <a:ext cx="861840" cy="849600"/>
            <a:chOff x="5178600" y="2182680"/>
            <a:chExt cx="861840" cy="849600"/>
          </a:xfrm>
        </p:grpSpPr>
        <p:sp>
          <p:nvSpPr>
            <p:cNvPr id="3875" name=""/>
            <p:cNvSpPr/>
            <p:nvPr/>
          </p:nvSpPr>
          <p:spPr>
            <a:xfrm>
              <a:off x="5303880" y="2370240"/>
              <a:ext cx="485640" cy="6120"/>
            </a:xfrm>
            <a:prstGeom prst="rect">
              <a:avLst/>
            </a:pr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303880" y="2790720"/>
              <a:ext cx="485640" cy="7920"/>
            </a:xfrm>
            <a:prstGeom prst="rect">
              <a:avLst/>
            </a:pr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241960" y="2430360"/>
              <a:ext cx="7920" cy="306360"/>
            </a:xfrm>
            <a:prstGeom prst="rect">
              <a:avLst/>
            </a:pr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8" name=""/>
            <p:cNvGrpSpPr/>
            <p:nvPr/>
          </p:nvGrpSpPr>
          <p:grpSpPr>
            <a:xfrm>
              <a:off x="5178600" y="2182680"/>
              <a:ext cx="861840" cy="849600"/>
              <a:chOff x="5178600" y="2182680"/>
              <a:chExt cx="861840" cy="849600"/>
            </a:xfrm>
          </p:grpSpPr>
          <p:grpSp>
            <p:nvGrpSpPr>
              <p:cNvPr id="3879" name=""/>
              <p:cNvGrpSpPr/>
              <p:nvPr/>
            </p:nvGrpSpPr>
            <p:grpSpPr>
              <a:xfrm>
                <a:off x="5178600" y="2182680"/>
                <a:ext cx="861840" cy="849600"/>
                <a:chOff x="5178600" y="2182680"/>
                <a:chExt cx="861840" cy="849600"/>
              </a:xfrm>
            </p:grpSpPr>
            <p:sp>
              <p:nvSpPr>
                <p:cNvPr id="3880" name=""/>
                <p:cNvSpPr/>
                <p:nvPr/>
              </p:nvSpPr>
              <p:spPr>
                <a:xfrm>
                  <a:off x="5245200" y="2374920"/>
                  <a:ext cx="600120" cy="422280"/>
                </a:xfrm>
                <a:custGeom>
                  <a:avLst/>
                  <a:gdLst/>
                  <a:ahLst/>
                  <a:rect l="l" t="t" r="r" b="b"/>
                  <a:pathLst>
                    <a:path w="11361" h="7966">
                      <a:moveTo>
                        <a:pt x="1084" y="0"/>
                      </a:moveTo>
                      <a:lnTo>
                        <a:pt x="10277" y="0"/>
                      </a:lnTo>
                      <a:lnTo>
                        <a:pt x="10333" y="1"/>
                      </a:lnTo>
                      <a:lnTo>
                        <a:pt x="10388" y="5"/>
                      </a:lnTo>
                      <a:lnTo>
                        <a:pt x="10443" y="12"/>
                      </a:lnTo>
                      <a:lnTo>
                        <a:pt x="10496" y="21"/>
                      </a:lnTo>
                      <a:lnTo>
                        <a:pt x="10548" y="33"/>
                      </a:lnTo>
                      <a:lnTo>
                        <a:pt x="10600" y="49"/>
                      </a:lnTo>
                      <a:lnTo>
                        <a:pt x="10650" y="65"/>
                      </a:lnTo>
                      <a:lnTo>
                        <a:pt x="10699" y="84"/>
                      </a:lnTo>
                      <a:lnTo>
                        <a:pt x="10747" y="106"/>
                      </a:lnTo>
                      <a:lnTo>
                        <a:pt x="10794" y="130"/>
                      </a:lnTo>
                      <a:lnTo>
                        <a:pt x="10839" y="156"/>
                      </a:lnTo>
                      <a:lnTo>
                        <a:pt x="10883" y="184"/>
                      </a:lnTo>
                      <a:lnTo>
                        <a:pt x="10926" y="215"/>
                      </a:lnTo>
                      <a:lnTo>
                        <a:pt x="10966" y="246"/>
                      </a:lnTo>
                      <a:lnTo>
                        <a:pt x="11006" y="281"/>
                      </a:lnTo>
                      <a:lnTo>
                        <a:pt x="11043" y="316"/>
                      </a:lnTo>
                      <a:lnTo>
                        <a:pt x="11080" y="354"/>
                      </a:lnTo>
                      <a:lnTo>
                        <a:pt x="11113" y="393"/>
                      </a:lnTo>
                      <a:lnTo>
                        <a:pt x="11146" y="435"/>
                      </a:lnTo>
                      <a:lnTo>
                        <a:pt x="11176" y="476"/>
                      </a:lnTo>
                      <a:lnTo>
                        <a:pt x="11204" y="521"/>
                      </a:lnTo>
                      <a:lnTo>
                        <a:pt x="11230" y="566"/>
                      </a:lnTo>
                      <a:lnTo>
                        <a:pt x="11254" y="613"/>
                      </a:lnTo>
                      <a:lnTo>
                        <a:pt x="11276" y="661"/>
                      </a:lnTo>
                      <a:lnTo>
                        <a:pt x="11295" y="709"/>
                      </a:lnTo>
                      <a:lnTo>
                        <a:pt x="11312" y="760"/>
                      </a:lnTo>
                      <a:lnTo>
                        <a:pt x="11326" y="812"/>
                      </a:lnTo>
                      <a:lnTo>
                        <a:pt x="11339" y="863"/>
                      </a:lnTo>
                      <a:lnTo>
                        <a:pt x="11349" y="917"/>
                      </a:lnTo>
                      <a:lnTo>
                        <a:pt x="11356" y="972"/>
                      </a:lnTo>
                      <a:lnTo>
                        <a:pt x="11360" y="1026"/>
                      </a:lnTo>
                      <a:lnTo>
                        <a:pt x="11361" y="1082"/>
                      </a:lnTo>
                      <a:lnTo>
                        <a:pt x="11361" y="6884"/>
                      </a:lnTo>
                      <a:lnTo>
                        <a:pt x="11360" y="6940"/>
                      </a:lnTo>
                      <a:lnTo>
                        <a:pt x="11356" y="6995"/>
                      </a:lnTo>
                      <a:lnTo>
                        <a:pt x="11349" y="7049"/>
                      </a:lnTo>
                      <a:lnTo>
                        <a:pt x="11339" y="7102"/>
                      </a:lnTo>
                      <a:lnTo>
                        <a:pt x="11326" y="7155"/>
                      </a:lnTo>
                      <a:lnTo>
                        <a:pt x="11312" y="7206"/>
                      </a:lnTo>
                      <a:lnTo>
                        <a:pt x="11295" y="7256"/>
                      </a:lnTo>
                      <a:lnTo>
                        <a:pt x="11276" y="7306"/>
                      </a:lnTo>
                      <a:lnTo>
                        <a:pt x="11254" y="7353"/>
                      </a:lnTo>
                      <a:lnTo>
                        <a:pt x="11230" y="7400"/>
                      </a:lnTo>
                      <a:lnTo>
                        <a:pt x="11204" y="7446"/>
                      </a:lnTo>
                      <a:lnTo>
                        <a:pt x="11176" y="7489"/>
                      </a:lnTo>
                      <a:lnTo>
                        <a:pt x="11146" y="7532"/>
                      </a:lnTo>
                      <a:lnTo>
                        <a:pt x="11113" y="7572"/>
                      </a:lnTo>
                      <a:lnTo>
                        <a:pt x="11080" y="7612"/>
                      </a:lnTo>
                      <a:lnTo>
                        <a:pt x="11043" y="7649"/>
                      </a:lnTo>
                      <a:lnTo>
                        <a:pt x="11006" y="7685"/>
                      </a:lnTo>
                      <a:lnTo>
                        <a:pt x="10966" y="7719"/>
                      </a:lnTo>
                      <a:lnTo>
                        <a:pt x="10926" y="7752"/>
                      </a:lnTo>
                      <a:lnTo>
                        <a:pt x="10883" y="7782"/>
                      </a:lnTo>
                      <a:lnTo>
                        <a:pt x="10839" y="7809"/>
                      </a:lnTo>
                      <a:lnTo>
                        <a:pt x="10794" y="7836"/>
                      </a:lnTo>
                      <a:lnTo>
                        <a:pt x="10747" y="7860"/>
                      </a:lnTo>
                      <a:lnTo>
                        <a:pt x="10699" y="7881"/>
                      </a:lnTo>
                      <a:lnTo>
                        <a:pt x="10650" y="7901"/>
                      </a:lnTo>
                      <a:lnTo>
                        <a:pt x="10600" y="7918"/>
                      </a:lnTo>
                      <a:lnTo>
                        <a:pt x="10548" y="7932"/>
                      </a:lnTo>
                      <a:lnTo>
                        <a:pt x="10496" y="7944"/>
                      </a:lnTo>
                      <a:lnTo>
                        <a:pt x="10443" y="7954"/>
                      </a:lnTo>
                      <a:lnTo>
                        <a:pt x="10388" y="7960"/>
                      </a:lnTo>
                      <a:lnTo>
                        <a:pt x="10333" y="7965"/>
                      </a:lnTo>
                      <a:lnTo>
                        <a:pt x="10277" y="7966"/>
                      </a:lnTo>
                      <a:lnTo>
                        <a:pt x="1084" y="7966"/>
                      </a:lnTo>
                      <a:lnTo>
                        <a:pt x="1028" y="7965"/>
                      </a:lnTo>
                      <a:lnTo>
                        <a:pt x="973" y="7960"/>
                      </a:lnTo>
                      <a:lnTo>
                        <a:pt x="919" y="7954"/>
                      </a:lnTo>
                      <a:lnTo>
                        <a:pt x="865" y="7944"/>
                      </a:lnTo>
                      <a:lnTo>
                        <a:pt x="812" y="7932"/>
                      </a:lnTo>
                      <a:lnTo>
                        <a:pt x="762" y="7918"/>
                      </a:lnTo>
                      <a:lnTo>
                        <a:pt x="711" y="7901"/>
                      </a:lnTo>
                      <a:lnTo>
                        <a:pt x="662" y="7881"/>
                      </a:lnTo>
                      <a:lnTo>
                        <a:pt x="614" y="7860"/>
                      </a:lnTo>
                      <a:lnTo>
                        <a:pt x="567" y="7836"/>
                      </a:lnTo>
                      <a:lnTo>
                        <a:pt x="521" y="7809"/>
                      </a:lnTo>
                      <a:lnTo>
                        <a:pt x="478" y="7782"/>
                      </a:lnTo>
                      <a:lnTo>
                        <a:pt x="435" y="7752"/>
                      </a:lnTo>
                      <a:lnTo>
                        <a:pt x="394" y="7719"/>
                      </a:lnTo>
                      <a:lnTo>
                        <a:pt x="355" y="7685"/>
                      </a:lnTo>
                      <a:lnTo>
                        <a:pt x="317" y="7649"/>
                      </a:lnTo>
                      <a:lnTo>
                        <a:pt x="282" y="7612"/>
                      </a:lnTo>
                      <a:lnTo>
                        <a:pt x="247" y="7572"/>
                      </a:lnTo>
                      <a:lnTo>
                        <a:pt x="215" y="7532"/>
                      </a:lnTo>
                      <a:lnTo>
                        <a:pt x="185" y="7489"/>
                      </a:lnTo>
                      <a:lnTo>
                        <a:pt x="157" y="7446"/>
                      </a:lnTo>
                      <a:lnTo>
                        <a:pt x="131" y="7400"/>
                      </a:lnTo>
                      <a:lnTo>
                        <a:pt x="107" y="7353"/>
                      </a:lnTo>
                      <a:lnTo>
                        <a:pt x="85" y="7306"/>
                      </a:lnTo>
                      <a:lnTo>
                        <a:pt x="66" y="7256"/>
                      </a:lnTo>
                      <a:lnTo>
                        <a:pt x="49" y="7206"/>
                      </a:lnTo>
                      <a:lnTo>
                        <a:pt x="34" y="7155"/>
                      </a:lnTo>
                      <a:lnTo>
                        <a:pt x="22" y="7102"/>
                      </a:lnTo>
                      <a:lnTo>
                        <a:pt x="13" y="7049"/>
                      </a:lnTo>
                      <a:lnTo>
                        <a:pt x="6" y="6995"/>
                      </a:lnTo>
                      <a:lnTo>
                        <a:pt x="2" y="6940"/>
                      </a:lnTo>
                      <a:lnTo>
                        <a:pt x="0" y="6884"/>
                      </a:lnTo>
                      <a:lnTo>
                        <a:pt x="0" y="1082"/>
                      </a:lnTo>
                      <a:lnTo>
                        <a:pt x="2" y="1026"/>
                      </a:lnTo>
                      <a:lnTo>
                        <a:pt x="6" y="972"/>
                      </a:lnTo>
                      <a:lnTo>
                        <a:pt x="13" y="917"/>
                      </a:lnTo>
                      <a:lnTo>
                        <a:pt x="22" y="863"/>
                      </a:lnTo>
                      <a:lnTo>
                        <a:pt x="34" y="812"/>
                      </a:lnTo>
                      <a:lnTo>
                        <a:pt x="49" y="760"/>
                      </a:lnTo>
                      <a:lnTo>
                        <a:pt x="66" y="709"/>
                      </a:lnTo>
                      <a:lnTo>
                        <a:pt x="85" y="661"/>
                      </a:lnTo>
                      <a:lnTo>
                        <a:pt x="107" y="613"/>
                      </a:lnTo>
                      <a:lnTo>
                        <a:pt x="131" y="566"/>
                      </a:lnTo>
                      <a:lnTo>
                        <a:pt x="157" y="521"/>
                      </a:lnTo>
                      <a:lnTo>
                        <a:pt x="185" y="476"/>
                      </a:lnTo>
                      <a:lnTo>
                        <a:pt x="215" y="435"/>
                      </a:lnTo>
                      <a:lnTo>
                        <a:pt x="247" y="393"/>
                      </a:lnTo>
                      <a:lnTo>
                        <a:pt x="282" y="354"/>
                      </a:lnTo>
                      <a:lnTo>
                        <a:pt x="317" y="316"/>
                      </a:lnTo>
                      <a:lnTo>
                        <a:pt x="355" y="281"/>
                      </a:lnTo>
                      <a:lnTo>
                        <a:pt x="394" y="246"/>
                      </a:lnTo>
                      <a:lnTo>
                        <a:pt x="435" y="215"/>
                      </a:lnTo>
                      <a:lnTo>
                        <a:pt x="478" y="184"/>
                      </a:lnTo>
                      <a:lnTo>
                        <a:pt x="521" y="156"/>
                      </a:lnTo>
                      <a:lnTo>
                        <a:pt x="567" y="130"/>
                      </a:lnTo>
                      <a:lnTo>
                        <a:pt x="614" y="106"/>
                      </a:lnTo>
                      <a:lnTo>
                        <a:pt x="662" y="84"/>
                      </a:lnTo>
                      <a:lnTo>
                        <a:pt x="711" y="65"/>
                      </a:lnTo>
                      <a:lnTo>
                        <a:pt x="762" y="49"/>
                      </a:lnTo>
                      <a:lnTo>
                        <a:pt x="812" y="33"/>
                      </a:lnTo>
                      <a:lnTo>
                        <a:pt x="865" y="21"/>
                      </a:lnTo>
                      <a:lnTo>
                        <a:pt x="919" y="12"/>
                      </a:lnTo>
                      <a:lnTo>
                        <a:pt x="973" y="5"/>
                      </a:lnTo>
                      <a:lnTo>
                        <a:pt x="1028" y="1"/>
                      </a:lnTo>
                      <a:lnTo>
                        <a:pt x="1084" y="0"/>
                      </a:lnTo>
                      <a:close/>
                    </a:path>
                  </a:pathLst>
                </a:custGeom>
                <a:solidFill>
                  <a:srgbClr val="e2eb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5183280" y="2765520"/>
                  <a:ext cx="853920" cy="125280"/>
                </a:xfrm>
                <a:custGeom>
                  <a:avLst/>
                  <a:gdLst/>
                  <a:ahLst/>
                  <a:rect l="l" t="t" r="r" b="b"/>
                  <a:pathLst>
                    <a:path w="16124" h="2372">
                      <a:moveTo>
                        <a:pt x="16124" y="0"/>
                      </a:moveTo>
                      <a:lnTo>
                        <a:pt x="14457" y="2372"/>
                      </a:lnTo>
                      <a:lnTo>
                        <a:pt x="0" y="2372"/>
                      </a:lnTo>
                      <a:lnTo>
                        <a:pt x="2386" y="0"/>
                      </a:lnTo>
                      <a:lnTo>
                        <a:pt x="16124" y="0"/>
                      </a:lnTo>
                      <a:close/>
                    </a:path>
                  </a:pathLst>
                </a:custGeom>
                <a:solidFill>
                  <a:srgbClr val="c8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5946840" y="2763720"/>
                  <a:ext cx="92160" cy="128880"/>
                </a:xfrm>
                <a:custGeom>
                  <a:avLst/>
                  <a:gdLst/>
                  <a:ahLst/>
                  <a:rect l="l" t="t" r="r" b="b"/>
                  <a:pathLst>
                    <a:path w="1725" h="2429">
                      <a:moveTo>
                        <a:pt x="29" y="2429"/>
                      </a:moveTo>
                      <a:lnTo>
                        <a:pt x="60" y="2414"/>
                      </a:lnTo>
                      <a:lnTo>
                        <a:pt x="1725" y="42"/>
                      </a:lnTo>
                      <a:lnTo>
                        <a:pt x="1666" y="0"/>
                      </a:lnTo>
                      <a:lnTo>
                        <a:pt x="0" y="2372"/>
                      </a:lnTo>
                      <a:lnTo>
                        <a:pt x="29" y="2429"/>
                      </a:lnTo>
                      <a:lnTo>
                        <a:pt x="29" y="2429"/>
                      </a:lnTo>
                      <a:lnTo>
                        <a:pt x="49" y="2429"/>
                      </a:lnTo>
                      <a:lnTo>
                        <a:pt x="60" y="2414"/>
                      </a:lnTo>
                      <a:lnTo>
                        <a:pt x="29" y="2429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5178600" y="2889360"/>
                  <a:ext cx="769680" cy="3240"/>
                </a:xfrm>
                <a:custGeom>
                  <a:avLst/>
                  <a:gdLst/>
                  <a:ahLst/>
                  <a:rect l="l" t="t" r="r" b="b"/>
                  <a:pathLst>
                    <a:path w="14545" h="72">
                      <a:moveTo>
                        <a:pt x="62" y="10"/>
                      </a:moveTo>
                      <a:lnTo>
                        <a:pt x="88" y="72"/>
                      </a:lnTo>
                      <a:lnTo>
                        <a:pt x="14545" y="72"/>
                      </a:lnTo>
                      <a:lnTo>
                        <a:pt x="14545" y="0"/>
                      </a:lnTo>
                      <a:lnTo>
                        <a:pt x="88" y="0"/>
                      </a:lnTo>
                      <a:lnTo>
                        <a:pt x="62" y="10"/>
                      </a:lnTo>
                      <a:lnTo>
                        <a:pt x="62" y="10"/>
                      </a:lnTo>
                      <a:lnTo>
                        <a:pt x="0" y="72"/>
                      </a:lnTo>
                      <a:lnTo>
                        <a:pt x="88" y="72"/>
                      </a:lnTo>
                      <a:lnTo>
                        <a:pt x="62" y="1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5181480" y="2762280"/>
                  <a:ext cx="130320" cy="130320"/>
                </a:xfrm>
                <a:custGeom>
                  <a:avLst/>
                  <a:gdLst/>
                  <a:ahLst/>
                  <a:rect l="l" t="t" r="r" b="b"/>
                  <a:pathLst>
                    <a:path w="2438" h="2434">
                      <a:moveTo>
                        <a:pt x="2412" y="0"/>
                      </a:moveTo>
                      <a:lnTo>
                        <a:pt x="2387" y="10"/>
                      </a:lnTo>
                      <a:lnTo>
                        <a:pt x="0" y="2382"/>
                      </a:lnTo>
                      <a:lnTo>
                        <a:pt x="51" y="2434"/>
                      </a:lnTo>
                      <a:lnTo>
                        <a:pt x="2438" y="62"/>
                      </a:lnTo>
                      <a:lnTo>
                        <a:pt x="2412" y="0"/>
                      </a:lnTo>
                      <a:lnTo>
                        <a:pt x="2412" y="0"/>
                      </a:lnTo>
                      <a:lnTo>
                        <a:pt x="2397" y="0"/>
                      </a:lnTo>
                      <a:lnTo>
                        <a:pt x="2387" y="10"/>
                      </a:lnTo>
                      <a:lnTo>
                        <a:pt x="2412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5310360" y="2762280"/>
                  <a:ext cx="730080" cy="4680"/>
                </a:xfrm>
                <a:custGeom>
                  <a:avLst/>
                  <a:gdLst/>
                  <a:ahLst/>
                  <a:rect l="l" t="t" r="r" b="b"/>
                  <a:pathLst>
                    <a:path w="13807" h="72">
                      <a:moveTo>
                        <a:pt x="13767" y="57"/>
                      </a:moveTo>
                      <a:lnTo>
                        <a:pt x="13738" y="0"/>
                      </a:ln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13738" y="72"/>
                      </a:lnTo>
                      <a:lnTo>
                        <a:pt x="13767" y="57"/>
                      </a:lnTo>
                      <a:lnTo>
                        <a:pt x="13767" y="57"/>
                      </a:lnTo>
                      <a:lnTo>
                        <a:pt x="13807" y="0"/>
                      </a:lnTo>
                      <a:lnTo>
                        <a:pt x="13738" y="0"/>
                      </a:lnTo>
                      <a:lnTo>
                        <a:pt x="13767" y="57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5183280" y="2890800"/>
                  <a:ext cx="730080" cy="136440"/>
                </a:xfrm>
                <a:prstGeom prst="rect">
                  <a:avLst/>
                </a:prstGeom>
                <a:solidFill>
                  <a:srgbClr val="b6b7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5181480" y="2889360"/>
                  <a:ext cx="3240" cy="137880"/>
                </a:xfrm>
                <a:custGeom>
                  <a:avLst/>
                  <a:gdLst/>
                  <a:ahLst/>
                  <a:rect l="l" t="t" r="r" b="b"/>
                  <a:pathLst>
                    <a:path w="72" h="2619">
                      <a:moveTo>
                        <a:pt x="37" y="0"/>
                      </a:moveTo>
                      <a:lnTo>
                        <a:pt x="0" y="36"/>
                      </a:lnTo>
                      <a:lnTo>
                        <a:pt x="0" y="2619"/>
                      </a:lnTo>
                      <a:lnTo>
                        <a:pt x="72" y="2619"/>
                      </a:lnTo>
                      <a:lnTo>
                        <a:pt x="72" y="36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36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>
                  <a:off x="5183280" y="2889360"/>
                  <a:ext cx="733320" cy="3240"/>
                </a:xfrm>
                <a:custGeom>
                  <a:avLst/>
                  <a:gdLst/>
                  <a:ahLst/>
                  <a:rect l="l" t="t" r="r" b="b"/>
                  <a:pathLst>
                    <a:path w="13839" h="72">
                      <a:moveTo>
                        <a:pt x="13839" y="36"/>
                      </a:moveTo>
                      <a:lnTo>
                        <a:pt x="13802" y="0"/>
                      </a:ln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13802" y="72"/>
                      </a:lnTo>
                      <a:lnTo>
                        <a:pt x="13839" y="36"/>
                      </a:lnTo>
                      <a:lnTo>
                        <a:pt x="13839" y="36"/>
                      </a:lnTo>
                      <a:lnTo>
                        <a:pt x="13839" y="0"/>
                      </a:lnTo>
                      <a:lnTo>
                        <a:pt x="13802" y="0"/>
                      </a:lnTo>
                      <a:lnTo>
                        <a:pt x="13839" y="36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5911920" y="2890800"/>
                  <a:ext cx="4680" cy="138240"/>
                </a:xfrm>
                <a:custGeom>
                  <a:avLst/>
                  <a:gdLst/>
                  <a:ahLst/>
                  <a:rect l="l" t="t" r="r" b="b"/>
                  <a:pathLst>
                    <a:path w="73" h="2619">
                      <a:moveTo>
                        <a:pt x="36" y="2619"/>
                      </a:moveTo>
                      <a:lnTo>
                        <a:pt x="73" y="2583"/>
                      </a:ln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2583"/>
                      </a:lnTo>
                      <a:lnTo>
                        <a:pt x="36" y="2619"/>
                      </a:lnTo>
                      <a:lnTo>
                        <a:pt x="36" y="2619"/>
                      </a:lnTo>
                      <a:lnTo>
                        <a:pt x="73" y="2619"/>
                      </a:lnTo>
                      <a:lnTo>
                        <a:pt x="73" y="2583"/>
                      </a:lnTo>
                      <a:lnTo>
                        <a:pt x="36" y="2619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>
                  <a:off x="5181480" y="3025800"/>
                  <a:ext cx="731880" cy="3240"/>
                </a:xfrm>
                <a:custGeom>
                  <a:avLst/>
                  <a:gdLst/>
                  <a:ahLst/>
                  <a:rect l="l" t="t" r="r" b="b"/>
                  <a:pathLst>
                    <a:path w="13839" h="72">
                      <a:moveTo>
                        <a:pt x="0" y="36"/>
                      </a:moveTo>
                      <a:lnTo>
                        <a:pt x="37" y="72"/>
                      </a:lnTo>
                      <a:lnTo>
                        <a:pt x="13839" y="72"/>
                      </a:lnTo>
                      <a:lnTo>
                        <a:pt x="13839" y="0"/>
                      </a:lnTo>
                      <a:lnTo>
                        <a:pt x="37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72"/>
                      </a:lnTo>
                      <a:lnTo>
                        <a:pt x="37" y="72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>
                  <a:off x="5183280" y="2311560"/>
                  <a:ext cx="725400" cy="549000"/>
                </a:xfrm>
                <a:prstGeom prst="rect">
                  <a:avLst/>
                </a:prstGeom>
                <a:solidFill>
                  <a:srgbClr val="b6b7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5183280" y="2309760"/>
                  <a:ext cx="726840" cy="4680"/>
                </a:xfrm>
                <a:custGeom>
                  <a:avLst/>
                  <a:gdLst/>
                  <a:ahLst/>
                  <a:rect l="l" t="t" r="r" b="b"/>
                  <a:pathLst>
                    <a:path w="13745" h="72">
                      <a:moveTo>
                        <a:pt x="13745" y="35"/>
                      </a:moveTo>
                      <a:lnTo>
                        <a:pt x="13710" y="0"/>
                      </a:ln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13710" y="72"/>
                      </a:lnTo>
                      <a:lnTo>
                        <a:pt x="13745" y="35"/>
                      </a:lnTo>
                      <a:lnTo>
                        <a:pt x="13745" y="35"/>
                      </a:lnTo>
                      <a:lnTo>
                        <a:pt x="13745" y="0"/>
                      </a:lnTo>
                      <a:lnTo>
                        <a:pt x="13710" y="0"/>
                      </a:lnTo>
                      <a:lnTo>
                        <a:pt x="13745" y="35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5907240" y="2311560"/>
                  <a:ext cx="2880" cy="550800"/>
                </a:xfrm>
                <a:custGeom>
                  <a:avLst/>
                  <a:gdLst/>
                  <a:ahLst/>
                  <a:rect l="l" t="t" r="r" b="b"/>
                  <a:pathLst>
                    <a:path w="72" h="10399">
                      <a:moveTo>
                        <a:pt x="37" y="10399"/>
                      </a:moveTo>
                      <a:lnTo>
                        <a:pt x="72" y="10362"/>
                      </a:ln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10362"/>
                      </a:lnTo>
                      <a:lnTo>
                        <a:pt x="37" y="10399"/>
                      </a:lnTo>
                      <a:lnTo>
                        <a:pt x="37" y="10399"/>
                      </a:lnTo>
                      <a:lnTo>
                        <a:pt x="72" y="10399"/>
                      </a:lnTo>
                      <a:lnTo>
                        <a:pt x="72" y="10362"/>
                      </a:lnTo>
                      <a:lnTo>
                        <a:pt x="37" y="10399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5181480" y="2859120"/>
                  <a:ext cx="727200" cy="3240"/>
                </a:xfrm>
                <a:custGeom>
                  <a:avLst/>
                  <a:gdLst/>
                  <a:ahLst/>
                  <a:rect l="l" t="t" r="r" b="b"/>
                  <a:pathLst>
                    <a:path w="13747" h="72">
                      <a:moveTo>
                        <a:pt x="0" y="35"/>
                      </a:moveTo>
                      <a:lnTo>
                        <a:pt x="37" y="72"/>
                      </a:lnTo>
                      <a:lnTo>
                        <a:pt x="13747" y="72"/>
                      </a:lnTo>
                      <a:lnTo>
                        <a:pt x="13747" y="0"/>
                      </a:lnTo>
                      <a:lnTo>
                        <a:pt x="37" y="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72"/>
                      </a:lnTo>
                      <a:lnTo>
                        <a:pt x="37" y="72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5181480" y="2309760"/>
                  <a:ext cx="3240" cy="550800"/>
                </a:xfrm>
                <a:custGeom>
                  <a:avLst/>
                  <a:gdLst/>
                  <a:ahLst/>
                  <a:rect l="l" t="t" r="r" b="b"/>
                  <a:pathLst>
                    <a:path w="72" h="10397">
                      <a:moveTo>
                        <a:pt x="37" y="0"/>
                      </a:moveTo>
                      <a:lnTo>
                        <a:pt x="0" y="35"/>
                      </a:lnTo>
                      <a:lnTo>
                        <a:pt x="0" y="10397"/>
                      </a:lnTo>
                      <a:lnTo>
                        <a:pt x="72" y="10397"/>
                      </a:lnTo>
                      <a:lnTo>
                        <a:pt x="72" y="35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35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5908680" y="2187720"/>
                  <a:ext cx="123840" cy="672840"/>
                </a:xfrm>
                <a:custGeom>
                  <a:avLst/>
                  <a:gdLst/>
                  <a:ahLst/>
                  <a:rect l="l" t="t" r="r" b="b"/>
                  <a:pathLst>
                    <a:path w="2346" h="12706">
                      <a:moveTo>
                        <a:pt x="0" y="12706"/>
                      </a:moveTo>
                      <a:lnTo>
                        <a:pt x="2346" y="10362"/>
                      </a:lnTo>
                      <a:lnTo>
                        <a:pt x="2346" y="0"/>
                      </a:lnTo>
                      <a:lnTo>
                        <a:pt x="0" y="2344"/>
                      </a:lnTo>
                      <a:lnTo>
                        <a:pt x="0" y="12706"/>
                      </a:lnTo>
                      <a:close/>
                    </a:path>
                  </a:pathLst>
                </a:custGeom>
                <a:solidFill>
                  <a:srgbClr val="7b7c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5907240" y="2735280"/>
                  <a:ext cx="128520" cy="127080"/>
                </a:xfrm>
                <a:custGeom>
                  <a:avLst/>
                  <a:gdLst/>
                  <a:ahLst/>
                  <a:rect l="l" t="t" r="r" b="b"/>
                  <a:pathLst>
                    <a:path w="2410" h="2397">
                      <a:moveTo>
                        <a:pt x="2410" y="26"/>
                      </a:moveTo>
                      <a:lnTo>
                        <a:pt x="2348" y="0"/>
                      </a:lnTo>
                      <a:lnTo>
                        <a:pt x="0" y="2345"/>
                      </a:lnTo>
                      <a:lnTo>
                        <a:pt x="52" y="2397"/>
                      </a:lnTo>
                      <a:lnTo>
                        <a:pt x="2399" y="52"/>
                      </a:lnTo>
                      <a:lnTo>
                        <a:pt x="2410" y="26"/>
                      </a:lnTo>
                      <a:lnTo>
                        <a:pt x="2399" y="52"/>
                      </a:lnTo>
                      <a:lnTo>
                        <a:pt x="2410" y="41"/>
                      </a:lnTo>
                      <a:lnTo>
                        <a:pt x="2410" y="26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>
                  <a:off x="6031080" y="2182680"/>
                  <a:ext cx="4680" cy="554040"/>
                </a:xfrm>
                <a:custGeom>
                  <a:avLst/>
                  <a:gdLst/>
                  <a:ahLst/>
                  <a:rect l="l" t="t" r="r" b="b"/>
                  <a:pathLst>
                    <a:path w="72" h="10449">
                      <a:moveTo>
                        <a:pt x="10" y="61"/>
                      </a:moveTo>
                      <a:lnTo>
                        <a:pt x="0" y="87"/>
                      </a:lnTo>
                      <a:lnTo>
                        <a:pt x="0" y="10449"/>
                      </a:lnTo>
                      <a:lnTo>
                        <a:pt x="72" y="10449"/>
                      </a:lnTo>
                      <a:lnTo>
                        <a:pt x="72" y="87"/>
                      </a:lnTo>
                      <a:lnTo>
                        <a:pt x="10" y="61"/>
                      </a:lnTo>
                      <a:lnTo>
                        <a:pt x="72" y="87"/>
                      </a:lnTo>
                      <a:lnTo>
                        <a:pt x="72" y="0"/>
                      </a:lnTo>
                      <a:lnTo>
                        <a:pt x="10" y="61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>
                  <a:off x="5907240" y="2185920"/>
                  <a:ext cx="126720" cy="127080"/>
                </a:xfrm>
                <a:custGeom>
                  <a:avLst/>
                  <a:gdLst/>
                  <a:ahLst/>
                  <a:rect l="l" t="t" r="r" b="b"/>
                  <a:pathLst>
                    <a:path w="2409" h="2397">
                      <a:moveTo>
                        <a:pt x="0" y="2370"/>
                      </a:moveTo>
                      <a:lnTo>
                        <a:pt x="62" y="2397"/>
                      </a:lnTo>
                      <a:lnTo>
                        <a:pt x="2409" y="52"/>
                      </a:lnTo>
                      <a:lnTo>
                        <a:pt x="2358" y="0"/>
                      </a:lnTo>
                      <a:lnTo>
                        <a:pt x="10" y="2345"/>
                      </a:lnTo>
                      <a:lnTo>
                        <a:pt x="0" y="2370"/>
                      </a:lnTo>
                      <a:lnTo>
                        <a:pt x="10" y="2345"/>
                      </a:lnTo>
                      <a:lnTo>
                        <a:pt x="0" y="2356"/>
                      </a:lnTo>
                      <a:lnTo>
                        <a:pt x="0" y="237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5907240" y="2311560"/>
                  <a:ext cx="2880" cy="554040"/>
                </a:xfrm>
                <a:custGeom>
                  <a:avLst/>
                  <a:gdLst/>
                  <a:ahLst/>
                  <a:rect l="l" t="t" r="r" b="b"/>
                  <a:pathLst>
                    <a:path w="72" h="10449">
                      <a:moveTo>
                        <a:pt x="62" y="10389"/>
                      </a:moveTo>
                      <a:lnTo>
                        <a:pt x="72" y="10362"/>
                      </a:ln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10362"/>
                      </a:lnTo>
                      <a:lnTo>
                        <a:pt x="62" y="10389"/>
                      </a:lnTo>
                      <a:lnTo>
                        <a:pt x="0" y="10362"/>
                      </a:lnTo>
                      <a:lnTo>
                        <a:pt x="0" y="10449"/>
                      </a:lnTo>
                      <a:lnTo>
                        <a:pt x="62" y="10389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5913360" y="2768760"/>
                  <a:ext cx="123840" cy="258480"/>
                </a:xfrm>
                <a:custGeom>
                  <a:avLst/>
                  <a:gdLst/>
                  <a:ahLst/>
                  <a:rect l="l" t="t" r="r" b="b"/>
                  <a:pathLst>
                    <a:path w="2334" h="4904">
                      <a:moveTo>
                        <a:pt x="0" y="4904"/>
                      </a:moveTo>
                      <a:lnTo>
                        <a:pt x="0" y="2315"/>
                      </a:lnTo>
                      <a:lnTo>
                        <a:pt x="2334" y="0"/>
                      </a:lnTo>
                      <a:lnTo>
                        <a:pt x="2334" y="2574"/>
                      </a:lnTo>
                      <a:lnTo>
                        <a:pt x="0" y="4904"/>
                      </a:lnTo>
                      <a:close/>
                    </a:path>
                  </a:pathLst>
                </a:custGeom>
                <a:solidFill>
                  <a:srgbClr val="7b7c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5911920" y="2889360"/>
                  <a:ext cx="3240" cy="137880"/>
                </a:xfrm>
                <a:custGeom>
                  <a:avLst/>
                  <a:gdLst/>
                  <a:ahLst/>
                  <a:rect l="l" t="t" r="r" b="b"/>
                  <a:pathLst>
                    <a:path w="72" h="2615">
                      <a:moveTo>
                        <a:pt x="11" y="0"/>
                      </a:moveTo>
                      <a:lnTo>
                        <a:pt x="0" y="26"/>
                      </a:lnTo>
                      <a:lnTo>
                        <a:pt x="0" y="2615"/>
                      </a:lnTo>
                      <a:lnTo>
                        <a:pt x="72" y="2615"/>
                      </a:lnTo>
                      <a:lnTo>
                        <a:pt x="72" y="26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0" y="2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>
                  <a:off x="5911920" y="2763720"/>
                  <a:ext cx="127080" cy="128880"/>
                </a:xfrm>
                <a:custGeom>
                  <a:avLst/>
                  <a:gdLst/>
                  <a:ahLst/>
                  <a:rect l="l" t="t" r="r" b="b"/>
                  <a:pathLst>
                    <a:path w="2395" h="2427">
                      <a:moveTo>
                        <a:pt x="2395" y="86"/>
                      </a:moveTo>
                      <a:lnTo>
                        <a:pt x="2333" y="60"/>
                      </a:lnTo>
                      <a:lnTo>
                        <a:pt x="0" y="2375"/>
                      </a:lnTo>
                      <a:lnTo>
                        <a:pt x="50" y="2427"/>
                      </a:lnTo>
                      <a:lnTo>
                        <a:pt x="2384" y="112"/>
                      </a:lnTo>
                      <a:lnTo>
                        <a:pt x="2395" y="86"/>
                      </a:lnTo>
                      <a:lnTo>
                        <a:pt x="2395" y="86"/>
                      </a:lnTo>
                      <a:lnTo>
                        <a:pt x="2395" y="0"/>
                      </a:lnTo>
                      <a:lnTo>
                        <a:pt x="2333" y="60"/>
                      </a:lnTo>
                      <a:lnTo>
                        <a:pt x="2395" y="86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>
                  <a:off x="6033960" y="2768760"/>
                  <a:ext cx="5040" cy="136440"/>
                </a:xfrm>
                <a:custGeom>
                  <a:avLst/>
                  <a:gdLst/>
                  <a:ahLst/>
                  <a:rect l="l" t="t" r="r" b="b"/>
                  <a:pathLst>
                    <a:path w="72" h="2600">
                      <a:moveTo>
                        <a:pt x="61" y="2600"/>
                      </a:moveTo>
                      <a:lnTo>
                        <a:pt x="72" y="2574"/>
                      </a:ln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2574"/>
                      </a:lnTo>
                      <a:lnTo>
                        <a:pt x="61" y="2600"/>
                      </a:lnTo>
                      <a:lnTo>
                        <a:pt x="61" y="2600"/>
                      </a:lnTo>
                      <a:lnTo>
                        <a:pt x="72" y="2589"/>
                      </a:lnTo>
                      <a:lnTo>
                        <a:pt x="72" y="2574"/>
                      </a:lnTo>
                      <a:lnTo>
                        <a:pt x="61" y="260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>
                  <a:off x="5911920" y="2901960"/>
                  <a:ext cx="127080" cy="130320"/>
                </a:xfrm>
                <a:custGeom>
                  <a:avLst/>
                  <a:gdLst/>
                  <a:ahLst/>
                  <a:rect l="l" t="t" r="r" b="b"/>
                  <a:pathLst>
                    <a:path w="2395" h="2441">
                      <a:moveTo>
                        <a:pt x="0" y="2355"/>
                      </a:moveTo>
                      <a:lnTo>
                        <a:pt x="61" y="2381"/>
                      </a:lnTo>
                      <a:lnTo>
                        <a:pt x="2395" y="51"/>
                      </a:lnTo>
                      <a:lnTo>
                        <a:pt x="2344" y="0"/>
                      </a:lnTo>
                      <a:lnTo>
                        <a:pt x="11" y="2329"/>
                      </a:lnTo>
                      <a:lnTo>
                        <a:pt x="0" y="2355"/>
                      </a:lnTo>
                      <a:lnTo>
                        <a:pt x="0" y="2355"/>
                      </a:lnTo>
                      <a:lnTo>
                        <a:pt x="0" y="2441"/>
                      </a:lnTo>
                      <a:lnTo>
                        <a:pt x="61" y="2381"/>
                      </a:lnTo>
                      <a:lnTo>
                        <a:pt x="0" y="2355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5183280" y="2187720"/>
                  <a:ext cx="849240" cy="123840"/>
                </a:xfrm>
                <a:custGeom>
                  <a:avLst/>
                  <a:gdLst/>
                  <a:ahLst/>
                  <a:rect l="l" t="t" r="r" b="b"/>
                  <a:pathLst>
                    <a:path w="16056" h="2344">
                      <a:moveTo>
                        <a:pt x="16056" y="0"/>
                      </a:moveTo>
                      <a:lnTo>
                        <a:pt x="2674" y="0"/>
                      </a:lnTo>
                      <a:lnTo>
                        <a:pt x="0" y="2344"/>
                      </a:lnTo>
                      <a:lnTo>
                        <a:pt x="13710" y="2344"/>
                      </a:lnTo>
                      <a:lnTo>
                        <a:pt x="16056" y="0"/>
                      </a:lnTo>
                      <a:close/>
                    </a:path>
                  </a:pathLst>
                </a:custGeom>
                <a:solidFill>
                  <a:srgbClr val="c8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5324400" y="2185920"/>
                  <a:ext cx="708120" cy="3240"/>
                </a:xfrm>
                <a:custGeom>
                  <a:avLst/>
                  <a:gdLst/>
                  <a:ahLst/>
                  <a:rect l="l" t="t" r="r" b="b"/>
                  <a:pathLst>
                    <a:path w="13405" h="72">
                      <a:moveTo>
                        <a:pt x="0" y="9"/>
                      </a:moveTo>
                      <a:lnTo>
                        <a:pt x="23" y="72"/>
                      </a:lnTo>
                      <a:lnTo>
                        <a:pt x="13405" y="72"/>
                      </a:lnTo>
                      <a:lnTo>
                        <a:pt x="13405" y="0"/>
                      </a:lnTo>
                      <a:lnTo>
                        <a:pt x="23" y="0"/>
                      </a:lnTo>
                      <a:lnTo>
                        <a:pt x="0" y="9"/>
                      </a:lnTo>
                      <a:lnTo>
                        <a:pt x="23" y="0"/>
                      </a:lnTo>
                      <a:lnTo>
                        <a:pt x="1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5178600" y="2185920"/>
                  <a:ext cx="147600" cy="128520"/>
                </a:xfrm>
                <a:custGeom>
                  <a:avLst/>
                  <a:gdLst/>
                  <a:ahLst/>
                  <a:rect l="l" t="t" r="r" b="b"/>
                  <a:pathLst>
                    <a:path w="2794" h="2408">
                      <a:moveTo>
                        <a:pt x="96" y="2408"/>
                      </a:moveTo>
                      <a:lnTo>
                        <a:pt x="119" y="2399"/>
                      </a:lnTo>
                      <a:lnTo>
                        <a:pt x="2794" y="55"/>
                      </a:lnTo>
                      <a:lnTo>
                        <a:pt x="2747" y="0"/>
                      </a:lnTo>
                      <a:lnTo>
                        <a:pt x="71" y="2345"/>
                      </a:lnTo>
                      <a:lnTo>
                        <a:pt x="96" y="2408"/>
                      </a:lnTo>
                      <a:lnTo>
                        <a:pt x="71" y="2345"/>
                      </a:lnTo>
                      <a:lnTo>
                        <a:pt x="0" y="2408"/>
                      </a:lnTo>
                      <a:lnTo>
                        <a:pt x="96" y="2408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5183280" y="2309760"/>
                  <a:ext cx="726840" cy="4680"/>
                </a:xfrm>
                <a:custGeom>
                  <a:avLst/>
                  <a:gdLst/>
                  <a:ahLst/>
                  <a:rect l="l" t="t" r="r" b="b"/>
                  <a:pathLst>
                    <a:path w="13735" h="72">
                      <a:moveTo>
                        <a:pt x="13735" y="62"/>
                      </a:moveTo>
                      <a:lnTo>
                        <a:pt x="13710" y="0"/>
                      </a:ln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13710" y="72"/>
                      </a:lnTo>
                      <a:lnTo>
                        <a:pt x="13735" y="62"/>
                      </a:lnTo>
                      <a:lnTo>
                        <a:pt x="13710" y="72"/>
                      </a:lnTo>
                      <a:lnTo>
                        <a:pt x="13724" y="72"/>
                      </a:lnTo>
                      <a:lnTo>
                        <a:pt x="13735" y="62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5907240" y="2185920"/>
                  <a:ext cx="129960" cy="127080"/>
                </a:xfrm>
                <a:custGeom>
                  <a:avLst/>
                  <a:gdLst/>
                  <a:ahLst/>
                  <a:rect l="l" t="t" r="r" b="b"/>
                  <a:pathLst>
                    <a:path w="2460" h="2407">
                      <a:moveTo>
                        <a:pt x="2373" y="0"/>
                      </a:moveTo>
                      <a:lnTo>
                        <a:pt x="2348" y="10"/>
                      </a:lnTo>
                      <a:lnTo>
                        <a:pt x="0" y="2355"/>
                      </a:lnTo>
                      <a:lnTo>
                        <a:pt x="52" y="2407"/>
                      </a:lnTo>
                      <a:lnTo>
                        <a:pt x="2399" y="62"/>
                      </a:lnTo>
                      <a:lnTo>
                        <a:pt x="2373" y="0"/>
                      </a:lnTo>
                      <a:lnTo>
                        <a:pt x="2399" y="62"/>
                      </a:lnTo>
                      <a:lnTo>
                        <a:pt x="2460" y="0"/>
                      </a:lnTo>
                      <a:lnTo>
                        <a:pt x="2373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5224320" y="2917800"/>
                  <a:ext cx="86040" cy="85680"/>
                </a:xfrm>
                <a:custGeom>
                  <a:avLst/>
                  <a:gdLst/>
                  <a:ahLst/>
                  <a:rect l="l" t="t" r="r" b="b"/>
                  <a:pathLst>
                    <a:path w="1626" h="1626">
                      <a:moveTo>
                        <a:pt x="1626" y="813"/>
                      </a:moveTo>
                      <a:lnTo>
                        <a:pt x="1625" y="855"/>
                      </a:lnTo>
                      <a:lnTo>
                        <a:pt x="1622" y="896"/>
                      </a:lnTo>
                      <a:lnTo>
                        <a:pt x="1617" y="937"/>
                      </a:lnTo>
                      <a:lnTo>
                        <a:pt x="1610" y="977"/>
                      </a:lnTo>
                      <a:lnTo>
                        <a:pt x="1601" y="1017"/>
                      </a:lnTo>
                      <a:lnTo>
                        <a:pt x="1590" y="1055"/>
                      </a:lnTo>
                      <a:lnTo>
                        <a:pt x="1578" y="1093"/>
                      </a:lnTo>
                      <a:lnTo>
                        <a:pt x="1563" y="1129"/>
                      </a:lnTo>
                      <a:lnTo>
                        <a:pt x="1546" y="1166"/>
                      </a:lnTo>
                      <a:lnTo>
                        <a:pt x="1528" y="1200"/>
                      </a:lnTo>
                      <a:lnTo>
                        <a:pt x="1509" y="1235"/>
                      </a:lnTo>
                      <a:lnTo>
                        <a:pt x="1487" y="1268"/>
                      </a:lnTo>
                      <a:lnTo>
                        <a:pt x="1465" y="1299"/>
                      </a:lnTo>
                      <a:lnTo>
                        <a:pt x="1441" y="1330"/>
                      </a:lnTo>
                      <a:lnTo>
                        <a:pt x="1415" y="1359"/>
                      </a:lnTo>
                      <a:lnTo>
                        <a:pt x="1388" y="1388"/>
                      </a:lnTo>
                      <a:lnTo>
                        <a:pt x="1361" y="1415"/>
                      </a:lnTo>
                      <a:lnTo>
                        <a:pt x="1331" y="1440"/>
                      </a:lnTo>
                      <a:lnTo>
                        <a:pt x="1300" y="1465"/>
                      </a:lnTo>
                      <a:lnTo>
                        <a:pt x="1268" y="1487"/>
                      </a:lnTo>
                      <a:lnTo>
                        <a:pt x="1235" y="1508"/>
                      </a:lnTo>
                      <a:lnTo>
                        <a:pt x="1201" y="1527"/>
                      </a:lnTo>
                      <a:lnTo>
                        <a:pt x="1166" y="1546"/>
                      </a:lnTo>
                      <a:lnTo>
                        <a:pt x="1130" y="1562"/>
                      </a:lnTo>
                      <a:lnTo>
                        <a:pt x="1093" y="1577"/>
                      </a:lnTo>
                      <a:lnTo>
                        <a:pt x="1055" y="1589"/>
                      </a:lnTo>
                      <a:lnTo>
                        <a:pt x="1017" y="1600"/>
                      </a:lnTo>
                      <a:lnTo>
                        <a:pt x="977" y="1609"/>
                      </a:lnTo>
                      <a:lnTo>
                        <a:pt x="938" y="1617"/>
                      </a:lnTo>
                      <a:lnTo>
                        <a:pt x="896" y="1622"/>
                      </a:lnTo>
                      <a:lnTo>
                        <a:pt x="856" y="1625"/>
                      </a:lnTo>
                      <a:lnTo>
                        <a:pt x="813" y="1626"/>
                      </a:lnTo>
                      <a:lnTo>
                        <a:pt x="771" y="1625"/>
                      </a:lnTo>
                      <a:lnTo>
                        <a:pt x="730" y="1622"/>
                      </a:lnTo>
                      <a:lnTo>
                        <a:pt x="689" y="1617"/>
                      </a:lnTo>
                      <a:lnTo>
                        <a:pt x="650" y="1609"/>
                      </a:lnTo>
                      <a:lnTo>
                        <a:pt x="610" y="1600"/>
                      </a:lnTo>
                      <a:lnTo>
                        <a:pt x="571" y="1589"/>
                      </a:lnTo>
                      <a:lnTo>
                        <a:pt x="534" y="1577"/>
                      </a:lnTo>
                      <a:lnTo>
                        <a:pt x="496" y="1562"/>
                      </a:lnTo>
                      <a:lnTo>
                        <a:pt x="461" y="1546"/>
                      </a:lnTo>
                      <a:lnTo>
                        <a:pt x="425" y="1527"/>
                      </a:lnTo>
                      <a:lnTo>
                        <a:pt x="392" y="1508"/>
                      </a:lnTo>
                      <a:lnTo>
                        <a:pt x="358" y="1487"/>
                      </a:lnTo>
                      <a:lnTo>
                        <a:pt x="327" y="1465"/>
                      </a:lnTo>
                      <a:lnTo>
                        <a:pt x="296" y="1440"/>
                      </a:lnTo>
                      <a:lnTo>
                        <a:pt x="266" y="1415"/>
                      </a:lnTo>
                      <a:lnTo>
                        <a:pt x="239" y="1388"/>
                      </a:lnTo>
                      <a:lnTo>
                        <a:pt x="211" y="1359"/>
                      </a:lnTo>
                      <a:lnTo>
                        <a:pt x="186" y="1330"/>
                      </a:lnTo>
                      <a:lnTo>
                        <a:pt x="162" y="1299"/>
                      </a:lnTo>
                      <a:lnTo>
                        <a:pt x="139" y="1268"/>
                      </a:lnTo>
                      <a:lnTo>
                        <a:pt x="118" y="1235"/>
                      </a:lnTo>
                      <a:lnTo>
                        <a:pt x="99" y="1200"/>
                      </a:lnTo>
                      <a:lnTo>
                        <a:pt x="81" y="1166"/>
                      </a:lnTo>
                      <a:lnTo>
                        <a:pt x="64" y="1129"/>
                      </a:lnTo>
                      <a:lnTo>
                        <a:pt x="50" y="1093"/>
                      </a:lnTo>
                      <a:lnTo>
                        <a:pt x="37" y="1055"/>
                      </a:lnTo>
                      <a:lnTo>
                        <a:pt x="26" y="1017"/>
                      </a:lnTo>
                      <a:lnTo>
                        <a:pt x="17" y="977"/>
                      </a:lnTo>
                      <a:lnTo>
                        <a:pt x="10" y="937"/>
                      </a:lnTo>
                      <a:lnTo>
                        <a:pt x="4" y="896"/>
                      </a:lnTo>
                      <a:lnTo>
                        <a:pt x="1" y="855"/>
                      </a:lnTo>
                      <a:lnTo>
                        <a:pt x="0" y="813"/>
                      </a:lnTo>
                      <a:lnTo>
                        <a:pt x="1" y="771"/>
                      </a:lnTo>
                      <a:lnTo>
                        <a:pt x="4" y="730"/>
                      </a:lnTo>
                      <a:lnTo>
                        <a:pt x="10" y="689"/>
                      </a:lnTo>
                      <a:lnTo>
                        <a:pt x="17" y="649"/>
                      </a:lnTo>
                      <a:lnTo>
                        <a:pt x="26" y="610"/>
                      </a:lnTo>
                      <a:lnTo>
                        <a:pt x="37" y="572"/>
                      </a:lnTo>
                      <a:lnTo>
                        <a:pt x="50" y="533"/>
                      </a:lnTo>
                      <a:lnTo>
                        <a:pt x="64" y="497"/>
                      </a:lnTo>
                      <a:lnTo>
                        <a:pt x="81" y="460"/>
                      </a:lnTo>
                      <a:lnTo>
                        <a:pt x="99" y="426"/>
                      </a:lnTo>
                      <a:lnTo>
                        <a:pt x="118" y="391"/>
                      </a:lnTo>
                      <a:lnTo>
                        <a:pt x="139" y="359"/>
                      </a:lnTo>
                      <a:lnTo>
                        <a:pt x="162" y="327"/>
                      </a:lnTo>
                      <a:lnTo>
                        <a:pt x="186" y="296"/>
                      </a:lnTo>
                      <a:lnTo>
                        <a:pt x="211" y="267"/>
                      </a:lnTo>
                      <a:lnTo>
                        <a:pt x="239" y="238"/>
                      </a:lnTo>
                      <a:lnTo>
                        <a:pt x="266" y="211"/>
                      </a:lnTo>
                      <a:lnTo>
                        <a:pt x="296" y="186"/>
                      </a:lnTo>
                      <a:lnTo>
                        <a:pt x="327" y="161"/>
                      </a:lnTo>
                      <a:lnTo>
                        <a:pt x="358" y="139"/>
                      </a:lnTo>
                      <a:lnTo>
                        <a:pt x="392" y="118"/>
                      </a:lnTo>
                      <a:lnTo>
                        <a:pt x="425" y="99"/>
                      </a:lnTo>
                      <a:lnTo>
                        <a:pt x="461" y="80"/>
                      </a:lnTo>
                      <a:lnTo>
                        <a:pt x="496" y="64"/>
                      </a:lnTo>
                      <a:lnTo>
                        <a:pt x="534" y="50"/>
                      </a:lnTo>
                      <a:lnTo>
                        <a:pt x="571" y="37"/>
                      </a:lnTo>
                      <a:lnTo>
                        <a:pt x="610" y="26"/>
                      </a:lnTo>
                      <a:lnTo>
                        <a:pt x="650" y="17"/>
                      </a:lnTo>
                      <a:lnTo>
                        <a:pt x="689" y="9"/>
                      </a:lnTo>
                      <a:lnTo>
                        <a:pt x="730" y="4"/>
                      </a:lnTo>
                      <a:lnTo>
                        <a:pt x="771" y="1"/>
                      </a:lnTo>
                      <a:lnTo>
                        <a:pt x="813" y="0"/>
                      </a:lnTo>
                      <a:lnTo>
                        <a:pt x="856" y="1"/>
                      </a:lnTo>
                      <a:lnTo>
                        <a:pt x="896" y="4"/>
                      </a:lnTo>
                      <a:lnTo>
                        <a:pt x="938" y="9"/>
                      </a:lnTo>
                      <a:lnTo>
                        <a:pt x="977" y="17"/>
                      </a:lnTo>
                      <a:lnTo>
                        <a:pt x="1017" y="26"/>
                      </a:lnTo>
                      <a:lnTo>
                        <a:pt x="1055" y="37"/>
                      </a:lnTo>
                      <a:lnTo>
                        <a:pt x="1093" y="50"/>
                      </a:lnTo>
                      <a:lnTo>
                        <a:pt x="1130" y="64"/>
                      </a:lnTo>
                      <a:lnTo>
                        <a:pt x="1166" y="80"/>
                      </a:lnTo>
                      <a:lnTo>
                        <a:pt x="1201" y="99"/>
                      </a:lnTo>
                      <a:lnTo>
                        <a:pt x="1235" y="118"/>
                      </a:lnTo>
                      <a:lnTo>
                        <a:pt x="1268" y="139"/>
                      </a:lnTo>
                      <a:lnTo>
                        <a:pt x="1300" y="161"/>
                      </a:lnTo>
                      <a:lnTo>
                        <a:pt x="1331" y="186"/>
                      </a:lnTo>
                      <a:lnTo>
                        <a:pt x="1361" y="211"/>
                      </a:lnTo>
                      <a:lnTo>
                        <a:pt x="1388" y="238"/>
                      </a:lnTo>
                      <a:lnTo>
                        <a:pt x="1415" y="267"/>
                      </a:lnTo>
                      <a:lnTo>
                        <a:pt x="1441" y="296"/>
                      </a:lnTo>
                      <a:lnTo>
                        <a:pt x="1465" y="327"/>
                      </a:lnTo>
                      <a:lnTo>
                        <a:pt x="1487" y="359"/>
                      </a:lnTo>
                      <a:lnTo>
                        <a:pt x="1509" y="391"/>
                      </a:lnTo>
                      <a:lnTo>
                        <a:pt x="1528" y="426"/>
                      </a:lnTo>
                      <a:lnTo>
                        <a:pt x="1546" y="460"/>
                      </a:lnTo>
                      <a:lnTo>
                        <a:pt x="1563" y="497"/>
                      </a:lnTo>
                      <a:lnTo>
                        <a:pt x="1578" y="533"/>
                      </a:lnTo>
                      <a:lnTo>
                        <a:pt x="1590" y="572"/>
                      </a:lnTo>
                      <a:lnTo>
                        <a:pt x="1601" y="610"/>
                      </a:lnTo>
                      <a:lnTo>
                        <a:pt x="1610" y="649"/>
                      </a:lnTo>
                      <a:lnTo>
                        <a:pt x="1617" y="689"/>
                      </a:lnTo>
                      <a:lnTo>
                        <a:pt x="1622" y="730"/>
                      </a:lnTo>
                      <a:lnTo>
                        <a:pt x="1625" y="771"/>
                      </a:lnTo>
                      <a:lnTo>
                        <a:pt x="1626" y="813"/>
                      </a:lnTo>
                      <a:close/>
                    </a:path>
                  </a:pathLst>
                </a:custGeom>
                <a:solidFill>
                  <a:srgbClr val="c8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5267160" y="2960640"/>
                  <a:ext cx="44640" cy="44640"/>
                </a:xfrm>
                <a:custGeom>
                  <a:avLst/>
                  <a:gdLst/>
                  <a:ahLst/>
                  <a:rect l="l" t="t" r="r" b="b"/>
                  <a:pathLst>
                    <a:path w="850" h="849">
                      <a:moveTo>
                        <a:pt x="0" y="849"/>
                      </a:moveTo>
                      <a:lnTo>
                        <a:pt x="0" y="849"/>
                      </a:lnTo>
                      <a:lnTo>
                        <a:pt x="22" y="849"/>
                      </a:lnTo>
                      <a:lnTo>
                        <a:pt x="44" y="848"/>
                      </a:lnTo>
                      <a:lnTo>
                        <a:pt x="66" y="846"/>
                      </a:lnTo>
                      <a:lnTo>
                        <a:pt x="87" y="844"/>
                      </a:lnTo>
                      <a:lnTo>
                        <a:pt x="108" y="842"/>
                      </a:lnTo>
                      <a:lnTo>
                        <a:pt x="130" y="839"/>
                      </a:lnTo>
                      <a:lnTo>
                        <a:pt x="151" y="836"/>
                      </a:lnTo>
                      <a:lnTo>
                        <a:pt x="171" y="832"/>
                      </a:lnTo>
                      <a:lnTo>
                        <a:pt x="193" y="827"/>
                      </a:lnTo>
                      <a:lnTo>
                        <a:pt x="213" y="823"/>
                      </a:lnTo>
                      <a:lnTo>
                        <a:pt x="233" y="817"/>
                      </a:lnTo>
                      <a:lnTo>
                        <a:pt x="254" y="811"/>
                      </a:lnTo>
                      <a:lnTo>
                        <a:pt x="292" y="797"/>
                      </a:lnTo>
                      <a:lnTo>
                        <a:pt x="331" y="782"/>
                      </a:lnTo>
                      <a:lnTo>
                        <a:pt x="369" y="765"/>
                      </a:lnTo>
                      <a:lnTo>
                        <a:pt x="406" y="747"/>
                      </a:lnTo>
                      <a:lnTo>
                        <a:pt x="441" y="727"/>
                      </a:lnTo>
                      <a:lnTo>
                        <a:pt x="476" y="704"/>
                      </a:lnTo>
                      <a:lnTo>
                        <a:pt x="509" y="681"/>
                      </a:lnTo>
                      <a:lnTo>
                        <a:pt x="541" y="656"/>
                      </a:lnTo>
                      <a:lnTo>
                        <a:pt x="572" y="628"/>
                      </a:lnTo>
                      <a:lnTo>
                        <a:pt x="601" y="600"/>
                      </a:lnTo>
                      <a:lnTo>
                        <a:pt x="629" y="570"/>
                      </a:lnTo>
                      <a:lnTo>
                        <a:pt x="656" y="540"/>
                      </a:lnTo>
                      <a:lnTo>
                        <a:pt x="682" y="508"/>
                      </a:lnTo>
                      <a:lnTo>
                        <a:pt x="705" y="475"/>
                      </a:lnTo>
                      <a:lnTo>
                        <a:pt x="727" y="441"/>
                      </a:lnTo>
                      <a:lnTo>
                        <a:pt x="748" y="405"/>
                      </a:lnTo>
                      <a:lnTo>
                        <a:pt x="766" y="368"/>
                      </a:lnTo>
                      <a:lnTo>
                        <a:pt x="783" y="330"/>
                      </a:lnTo>
                      <a:lnTo>
                        <a:pt x="798" y="292"/>
                      </a:lnTo>
                      <a:lnTo>
                        <a:pt x="811" y="252"/>
                      </a:lnTo>
                      <a:lnTo>
                        <a:pt x="824" y="212"/>
                      </a:lnTo>
                      <a:lnTo>
                        <a:pt x="833" y="171"/>
                      </a:lnTo>
                      <a:lnTo>
                        <a:pt x="837" y="150"/>
                      </a:lnTo>
                      <a:lnTo>
                        <a:pt x="840" y="130"/>
                      </a:lnTo>
                      <a:lnTo>
                        <a:pt x="843" y="108"/>
                      </a:lnTo>
                      <a:lnTo>
                        <a:pt x="845" y="87"/>
                      </a:lnTo>
                      <a:lnTo>
                        <a:pt x="847" y="65"/>
                      </a:lnTo>
                      <a:lnTo>
                        <a:pt x="849" y="44"/>
                      </a:lnTo>
                      <a:lnTo>
                        <a:pt x="850" y="21"/>
                      </a:lnTo>
                      <a:lnTo>
                        <a:pt x="850" y="0"/>
                      </a:lnTo>
                      <a:lnTo>
                        <a:pt x="777" y="0"/>
                      </a:lnTo>
                      <a:lnTo>
                        <a:pt x="777" y="20"/>
                      </a:lnTo>
                      <a:lnTo>
                        <a:pt x="776" y="40"/>
                      </a:lnTo>
                      <a:lnTo>
                        <a:pt x="775" y="60"/>
                      </a:lnTo>
                      <a:lnTo>
                        <a:pt x="774" y="80"/>
                      </a:lnTo>
                      <a:lnTo>
                        <a:pt x="771" y="99"/>
                      </a:lnTo>
                      <a:lnTo>
                        <a:pt x="769" y="119"/>
                      </a:lnTo>
                      <a:lnTo>
                        <a:pt x="765" y="138"/>
                      </a:lnTo>
                      <a:lnTo>
                        <a:pt x="762" y="156"/>
                      </a:lnTo>
                      <a:lnTo>
                        <a:pt x="753" y="195"/>
                      </a:lnTo>
                      <a:lnTo>
                        <a:pt x="742" y="231"/>
                      </a:lnTo>
                      <a:lnTo>
                        <a:pt x="730" y="268"/>
                      </a:lnTo>
                      <a:lnTo>
                        <a:pt x="716" y="302"/>
                      </a:lnTo>
                      <a:lnTo>
                        <a:pt x="701" y="336"/>
                      </a:lnTo>
                      <a:lnTo>
                        <a:pt x="684" y="370"/>
                      </a:lnTo>
                      <a:lnTo>
                        <a:pt x="665" y="403"/>
                      </a:lnTo>
                      <a:lnTo>
                        <a:pt x="645" y="435"/>
                      </a:lnTo>
                      <a:lnTo>
                        <a:pt x="623" y="465"/>
                      </a:lnTo>
                      <a:lnTo>
                        <a:pt x="600" y="494"/>
                      </a:lnTo>
                      <a:lnTo>
                        <a:pt x="576" y="522"/>
                      </a:lnTo>
                      <a:lnTo>
                        <a:pt x="550" y="549"/>
                      </a:lnTo>
                      <a:lnTo>
                        <a:pt x="523" y="575"/>
                      </a:lnTo>
                      <a:lnTo>
                        <a:pt x="495" y="600"/>
                      </a:lnTo>
                      <a:lnTo>
                        <a:pt x="466" y="622"/>
                      </a:lnTo>
                      <a:lnTo>
                        <a:pt x="435" y="644"/>
                      </a:lnTo>
                      <a:lnTo>
                        <a:pt x="404" y="665"/>
                      </a:lnTo>
                      <a:lnTo>
                        <a:pt x="371" y="683"/>
                      </a:lnTo>
                      <a:lnTo>
                        <a:pt x="338" y="700"/>
                      </a:lnTo>
                      <a:lnTo>
                        <a:pt x="303" y="715"/>
                      </a:lnTo>
                      <a:lnTo>
                        <a:pt x="268" y="730"/>
                      </a:lnTo>
                      <a:lnTo>
                        <a:pt x="231" y="742"/>
                      </a:lnTo>
                      <a:lnTo>
                        <a:pt x="213" y="747"/>
                      </a:lnTo>
                      <a:lnTo>
                        <a:pt x="195" y="752"/>
                      </a:lnTo>
                      <a:lnTo>
                        <a:pt x="176" y="757"/>
                      </a:lnTo>
                      <a:lnTo>
                        <a:pt x="157" y="761"/>
                      </a:lnTo>
                      <a:lnTo>
                        <a:pt x="138" y="764"/>
                      </a:lnTo>
                      <a:lnTo>
                        <a:pt x="119" y="768"/>
                      </a:lnTo>
                      <a:lnTo>
                        <a:pt x="99" y="770"/>
                      </a:lnTo>
                      <a:lnTo>
                        <a:pt x="80" y="773"/>
                      </a:lnTo>
                      <a:lnTo>
                        <a:pt x="60" y="774"/>
                      </a:lnTo>
                      <a:lnTo>
                        <a:pt x="40" y="776"/>
                      </a:lnTo>
                      <a:lnTo>
                        <a:pt x="20" y="776"/>
                      </a:lnTo>
                      <a:lnTo>
                        <a:pt x="0" y="776"/>
                      </a:lnTo>
                      <a:lnTo>
                        <a:pt x="0" y="776"/>
                      </a:lnTo>
                      <a:lnTo>
                        <a:pt x="0" y="849"/>
                      </a:lnTo>
                      <a:lnTo>
                        <a:pt x="0" y="849"/>
                      </a:lnTo>
                      <a:lnTo>
                        <a:pt x="0" y="849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5222880" y="2960640"/>
                  <a:ext cx="44280" cy="44640"/>
                </a:xfrm>
                <a:custGeom>
                  <a:avLst/>
                  <a:gdLst/>
                  <a:ahLst/>
                  <a:rect l="l" t="t" r="r" b="b"/>
                  <a:pathLst>
                    <a:path w="848" h="84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1"/>
                      </a:lnTo>
                      <a:lnTo>
                        <a:pt x="1" y="44"/>
                      </a:lnTo>
                      <a:lnTo>
                        <a:pt x="2" y="65"/>
                      </a:lnTo>
                      <a:lnTo>
                        <a:pt x="4" y="87"/>
                      </a:lnTo>
                      <a:lnTo>
                        <a:pt x="6" y="108"/>
                      </a:lnTo>
                      <a:lnTo>
                        <a:pt x="9" y="130"/>
                      </a:lnTo>
                      <a:lnTo>
                        <a:pt x="13" y="150"/>
                      </a:lnTo>
                      <a:lnTo>
                        <a:pt x="17" y="171"/>
                      </a:lnTo>
                      <a:lnTo>
                        <a:pt x="21" y="192"/>
                      </a:lnTo>
                      <a:lnTo>
                        <a:pt x="26" y="212"/>
                      </a:lnTo>
                      <a:lnTo>
                        <a:pt x="31" y="232"/>
                      </a:lnTo>
                      <a:lnTo>
                        <a:pt x="37" y="252"/>
                      </a:lnTo>
                      <a:lnTo>
                        <a:pt x="51" y="292"/>
                      </a:lnTo>
                      <a:lnTo>
                        <a:pt x="66" y="330"/>
                      </a:lnTo>
                      <a:lnTo>
                        <a:pt x="83" y="368"/>
                      </a:lnTo>
                      <a:lnTo>
                        <a:pt x="101" y="404"/>
                      </a:lnTo>
                      <a:lnTo>
                        <a:pt x="123" y="441"/>
                      </a:lnTo>
                      <a:lnTo>
                        <a:pt x="144" y="475"/>
                      </a:lnTo>
                      <a:lnTo>
                        <a:pt x="168" y="508"/>
                      </a:lnTo>
                      <a:lnTo>
                        <a:pt x="193" y="540"/>
                      </a:lnTo>
                      <a:lnTo>
                        <a:pt x="220" y="570"/>
                      </a:lnTo>
                      <a:lnTo>
                        <a:pt x="247" y="600"/>
                      </a:lnTo>
                      <a:lnTo>
                        <a:pt x="277" y="628"/>
                      </a:lnTo>
                      <a:lnTo>
                        <a:pt x="308" y="656"/>
                      </a:lnTo>
                      <a:lnTo>
                        <a:pt x="340" y="680"/>
                      </a:lnTo>
                      <a:lnTo>
                        <a:pt x="373" y="704"/>
                      </a:lnTo>
                      <a:lnTo>
                        <a:pt x="408" y="727"/>
                      </a:lnTo>
                      <a:lnTo>
                        <a:pt x="443" y="747"/>
                      </a:lnTo>
                      <a:lnTo>
                        <a:pt x="480" y="765"/>
                      </a:lnTo>
                      <a:lnTo>
                        <a:pt x="517" y="782"/>
                      </a:lnTo>
                      <a:lnTo>
                        <a:pt x="556" y="797"/>
                      </a:lnTo>
                      <a:lnTo>
                        <a:pt x="595" y="811"/>
                      </a:lnTo>
                      <a:lnTo>
                        <a:pt x="616" y="817"/>
                      </a:lnTo>
                      <a:lnTo>
                        <a:pt x="636" y="823"/>
                      </a:lnTo>
                      <a:lnTo>
                        <a:pt x="656" y="827"/>
                      </a:lnTo>
                      <a:lnTo>
                        <a:pt x="677" y="832"/>
                      </a:lnTo>
                      <a:lnTo>
                        <a:pt x="698" y="836"/>
                      </a:lnTo>
                      <a:lnTo>
                        <a:pt x="719" y="839"/>
                      </a:lnTo>
                      <a:lnTo>
                        <a:pt x="740" y="842"/>
                      </a:lnTo>
                      <a:lnTo>
                        <a:pt x="762" y="844"/>
                      </a:lnTo>
                      <a:lnTo>
                        <a:pt x="783" y="846"/>
                      </a:lnTo>
                      <a:lnTo>
                        <a:pt x="804" y="848"/>
                      </a:lnTo>
                      <a:lnTo>
                        <a:pt x="827" y="849"/>
                      </a:lnTo>
                      <a:lnTo>
                        <a:pt x="848" y="849"/>
                      </a:lnTo>
                      <a:lnTo>
                        <a:pt x="848" y="776"/>
                      </a:lnTo>
                      <a:lnTo>
                        <a:pt x="828" y="776"/>
                      </a:lnTo>
                      <a:lnTo>
                        <a:pt x="808" y="776"/>
                      </a:lnTo>
                      <a:lnTo>
                        <a:pt x="788" y="774"/>
                      </a:lnTo>
                      <a:lnTo>
                        <a:pt x="769" y="773"/>
                      </a:lnTo>
                      <a:lnTo>
                        <a:pt x="750" y="770"/>
                      </a:lnTo>
                      <a:lnTo>
                        <a:pt x="729" y="768"/>
                      </a:lnTo>
                      <a:lnTo>
                        <a:pt x="711" y="765"/>
                      </a:lnTo>
                      <a:lnTo>
                        <a:pt x="692" y="761"/>
                      </a:lnTo>
                      <a:lnTo>
                        <a:pt x="672" y="757"/>
                      </a:lnTo>
                      <a:lnTo>
                        <a:pt x="654" y="752"/>
                      </a:lnTo>
                      <a:lnTo>
                        <a:pt x="636" y="747"/>
                      </a:lnTo>
                      <a:lnTo>
                        <a:pt x="618" y="742"/>
                      </a:lnTo>
                      <a:lnTo>
                        <a:pt x="581" y="730"/>
                      </a:lnTo>
                      <a:lnTo>
                        <a:pt x="546" y="715"/>
                      </a:lnTo>
                      <a:lnTo>
                        <a:pt x="511" y="700"/>
                      </a:lnTo>
                      <a:lnTo>
                        <a:pt x="478" y="683"/>
                      </a:lnTo>
                      <a:lnTo>
                        <a:pt x="445" y="665"/>
                      </a:lnTo>
                      <a:lnTo>
                        <a:pt x="414" y="644"/>
                      </a:lnTo>
                      <a:lnTo>
                        <a:pt x="383" y="622"/>
                      </a:lnTo>
                      <a:lnTo>
                        <a:pt x="354" y="600"/>
                      </a:lnTo>
                      <a:lnTo>
                        <a:pt x="326" y="575"/>
                      </a:lnTo>
                      <a:lnTo>
                        <a:pt x="299" y="549"/>
                      </a:lnTo>
                      <a:lnTo>
                        <a:pt x="273" y="522"/>
                      </a:lnTo>
                      <a:lnTo>
                        <a:pt x="248" y="494"/>
                      </a:lnTo>
                      <a:lnTo>
                        <a:pt x="226" y="465"/>
                      </a:lnTo>
                      <a:lnTo>
                        <a:pt x="204" y="435"/>
                      </a:lnTo>
                      <a:lnTo>
                        <a:pt x="183" y="403"/>
                      </a:lnTo>
                      <a:lnTo>
                        <a:pt x="165" y="371"/>
                      </a:lnTo>
                      <a:lnTo>
                        <a:pt x="148" y="337"/>
                      </a:lnTo>
                      <a:lnTo>
                        <a:pt x="133" y="302"/>
                      </a:lnTo>
                      <a:lnTo>
                        <a:pt x="119" y="268"/>
                      </a:lnTo>
                      <a:lnTo>
                        <a:pt x="106" y="231"/>
                      </a:lnTo>
                      <a:lnTo>
                        <a:pt x="101" y="213"/>
                      </a:lnTo>
                      <a:lnTo>
                        <a:pt x="96" y="195"/>
                      </a:lnTo>
                      <a:lnTo>
                        <a:pt x="91" y="175"/>
                      </a:lnTo>
                      <a:lnTo>
                        <a:pt x="87" y="157"/>
                      </a:lnTo>
                      <a:lnTo>
                        <a:pt x="84" y="138"/>
                      </a:lnTo>
                      <a:lnTo>
                        <a:pt x="81" y="119"/>
                      </a:lnTo>
                      <a:lnTo>
                        <a:pt x="78" y="99"/>
                      </a:lnTo>
                      <a:lnTo>
                        <a:pt x="76" y="80"/>
                      </a:lnTo>
                      <a:lnTo>
                        <a:pt x="74" y="60"/>
                      </a:lnTo>
                      <a:lnTo>
                        <a:pt x="73" y="41"/>
                      </a:lnTo>
                      <a:lnTo>
                        <a:pt x="72" y="2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5222880" y="2916360"/>
                  <a:ext cx="44280" cy="44280"/>
                </a:xfrm>
                <a:custGeom>
                  <a:avLst/>
                  <a:gdLst/>
                  <a:ahLst/>
                  <a:rect l="l" t="t" r="r" b="b"/>
                  <a:pathLst>
                    <a:path w="848" h="849">
                      <a:moveTo>
                        <a:pt x="848" y="0"/>
                      </a:moveTo>
                      <a:lnTo>
                        <a:pt x="848" y="0"/>
                      </a:lnTo>
                      <a:lnTo>
                        <a:pt x="827" y="1"/>
                      </a:lnTo>
                      <a:lnTo>
                        <a:pt x="804" y="1"/>
                      </a:lnTo>
                      <a:lnTo>
                        <a:pt x="783" y="3"/>
                      </a:lnTo>
                      <a:lnTo>
                        <a:pt x="762" y="5"/>
                      </a:lnTo>
                      <a:lnTo>
                        <a:pt x="740" y="7"/>
                      </a:lnTo>
                      <a:lnTo>
                        <a:pt x="719" y="10"/>
                      </a:lnTo>
                      <a:lnTo>
                        <a:pt x="698" y="13"/>
                      </a:lnTo>
                      <a:lnTo>
                        <a:pt x="676" y="17"/>
                      </a:lnTo>
                      <a:lnTo>
                        <a:pt x="636" y="27"/>
                      </a:lnTo>
                      <a:lnTo>
                        <a:pt x="595" y="38"/>
                      </a:lnTo>
                      <a:lnTo>
                        <a:pt x="556" y="52"/>
                      </a:lnTo>
                      <a:lnTo>
                        <a:pt x="517" y="67"/>
                      </a:lnTo>
                      <a:lnTo>
                        <a:pt x="480" y="84"/>
                      </a:lnTo>
                      <a:lnTo>
                        <a:pt x="443" y="103"/>
                      </a:lnTo>
                      <a:lnTo>
                        <a:pt x="408" y="123"/>
                      </a:lnTo>
                      <a:lnTo>
                        <a:pt x="373" y="145"/>
                      </a:lnTo>
                      <a:lnTo>
                        <a:pt x="340" y="169"/>
                      </a:lnTo>
                      <a:lnTo>
                        <a:pt x="308" y="194"/>
                      </a:lnTo>
                      <a:lnTo>
                        <a:pt x="277" y="221"/>
                      </a:lnTo>
                      <a:lnTo>
                        <a:pt x="247" y="249"/>
                      </a:lnTo>
                      <a:lnTo>
                        <a:pt x="220" y="279"/>
                      </a:lnTo>
                      <a:lnTo>
                        <a:pt x="193" y="309"/>
                      </a:lnTo>
                      <a:lnTo>
                        <a:pt x="168" y="341"/>
                      </a:lnTo>
                      <a:lnTo>
                        <a:pt x="144" y="375"/>
                      </a:lnTo>
                      <a:lnTo>
                        <a:pt x="123" y="409"/>
                      </a:lnTo>
                      <a:lnTo>
                        <a:pt x="101" y="445"/>
                      </a:lnTo>
                      <a:lnTo>
                        <a:pt x="83" y="481"/>
                      </a:lnTo>
                      <a:lnTo>
                        <a:pt x="66" y="519"/>
                      </a:lnTo>
                      <a:lnTo>
                        <a:pt x="51" y="557"/>
                      </a:lnTo>
                      <a:lnTo>
                        <a:pt x="37" y="597"/>
                      </a:lnTo>
                      <a:lnTo>
                        <a:pt x="31" y="617"/>
                      </a:lnTo>
                      <a:lnTo>
                        <a:pt x="26" y="637"/>
                      </a:lnTo>
                      <a:lnTo>
                        <a:pt x="21" y="657"/>
                      </a:lnTo>
                      <a:lnTo>
                        <a:pt x="17" y="678"/>
                      </a:lnTo>
                      <a:lnTo>
                        <a:pt x="13" y="699"/>
                      </a:lnTo>
                      <a:lnTo>
                        <a:pt x="9" y="720"/>
                      </a:lnTo>
                      <a:lnTo>
                        <a:pt x="6" y="741"/>
                      </a:lnTo>
                      <a:lnTo>
                        <a:pt x="4" y="763"/>
                      </a:lnTo>
                      <a:lnTo>
                        <a:pt x="2" y="784"/>
                      </a:lnTo>
                      <a:lnTo>
                        <a:pt x="1" y="805"/>
                      </a:lnTo>
                      <a:lnTo>
                        <a:pt x="0" y="827"/>
                      </a:lnTo>
                      <a:lnTo>
                        <a:pt x="0" y="849"/>
                      </a:lnTo>
                      <a:lnTo>
                        <a:pt x="72" y="849"/>
                      </a:lnTo>
                      <a:lnTo>
                        <a:pt x="72" y="829"/>
                      </a:lnTo>
                      <a:lnTo>
                        <a:pt x="73" y="808"/>
                      </a:lnTo>
                      <a:lnTo>
                        <a:pt x="74" y="789"/>
                      </a:lnTo>
                      <a:lnTo>
                        <a:pt x="76" y="769"/>
                      </a:lnTo>
                      <a:lnTo>
                        <a:pt x="78" y="750"/>
                      </a:lnTo>
                      <a:lnTo>
                        <a:pt x="81" y="730"/>
                      </a:lnTo>
                      <a:lnTo>
                        <a:pt x="84" y="711"/>
                      </a:lnTo>
                      <a:lnTo>
                        <a:pt x="87" y="692"/>
                      </a:lnTo>
                      <a:lnTo>
                        <a:pt x="91" y="674"/>
                      </a:lnTo>
                      <a:lnTo>
                        <a:pt x="96" y="654"/>
                      </a:lnTo>
                      <a:lnTo>
                        <a:pt x="101" y="636"/>
                      </a:lnTo>
                      <a:lnTo>
                        <a:pt x="106" y="618"/>
                      </a:lnTo>
                      <a:lnTo>
                        <a:pt x="119" y="582"/>
                      </a:lnTo>
                      <a:lnTo>
                        <a:pt x="133" y="547"/>
                      </a:lnTo>
                      <a:lnTo>
                        <a:pt x="148" y="513"/>
                      </a:lnTo>
                      <a:lnTo>
                        <a:pt x="165" y="479"/>
                      </a:lnTo>
                      <a:lnTo>
                        <a:pt x="183" y="447"/>
                      </a:lnTo>
                      <a:lnTo>
                        <a:pt x="204" y="415"/>
                      </a:lnTo>
                      <a:lnTo>
                        <a:pt x="226" y="385"/>
                      </a:lnTo>
                      <a:lnTo>
                        <a:pt x="248" y="356"/>
                      </a:lnTo>
                      <a:lnTo>
                        <a:pt x="273" y="327"/>
                      </a:lnTo>
                      <a:lnTo>
                        <a:pt x="299" y="300"/>
                      </a:lnTo>
                      <a:lnTo>
                        <a:pt x="326" y="274"/>
                      </a:lnTo>
                      <a:lnTo>
                        <a:pt x="354" y="250"/>
                      </a:lnTo>
                      <a:lnTo>
                        <a:pt x="383" y="227"/>
                      </a:lnTo>
                      <a:lnTo>
                        <a:pt x="414" y="206"/>
                      </a:lnTo>
                      <a:lnTo>
                        <a:pt x="445" y="185"/>
                      </a:lnTo>
                      <a:lnTo>
                        <a:pt x="478" y="166"/>
                      </a:lnTo>
                      <a:lnTo>
                        <a:pt x="511" y="149"/>
                      </a:lnTo>
                      <a:lnTo>
                        <a:pt x="546" y="134"/>
                      </a:lnTo>
                      <a:lnTo>
                        <a:pt x="581" y="119"/>
                      </a:lnTo>
                      <a:lnTo>
                        <a:pt x="617" y="107"/>
                      </a:lnTo>
                      <a:lnTo>
                        <a:pt x="654" y="97"/>
                      </a:lnTo>
                      <a:lnTo>
                        <a:pt x="692" y="88"/>
                      </a:lnTo>
                      <a:lnTo>
                        <a:pt x="711" y="85"/>
                      </a:lnTo>
                      <a:lnTo>
                        <a:pt x="729" y="82"/>
                      </a:lnTo>
                      <a:lnTo>
                        <a:pt x="750" y="79"/>
                      </a:lnTo>
                      <a:lnTo>
                        <a:pt x="769" y="77"/>
                      </a:lnTo>
                      <a:lnTo>
                        <a:pt x="788" y="75"/>
                      </a:lnTo>
                      <a:lnTo>
                        <a:pt x="808" y="74"/>
                      </a:lnTo>
                      <a:lnTo>
                        <a:pt x="828" y="73"/>
                      </a:lnTo>
                      <a:lnTo>
                        <a:pt x="848" y="73"/>
                      </a:lnTo>
                      <a:lnTo>
                        <a:pt x="848" y="73"/>
                      </a:lnTo>
                      <a:lnTo>
                        <a:pt x="848" y="0"/>
                      </a:lnTo>
                      <a:lnTo>
                        <a:pt x="848" y="0"/>
                      </a:lnTo>
                      <a:lnTo>
                        <a:pt x="848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5267160" y="2916360"/>
                  <a:ext cx="44640" cy="44280"/>
                </a:xfrm>
                <a:custGeom>
                  <a:avLst/>
                  <a:gdLst/>
                  <a:ahLst/>
                  <a:rect l="l" t="t" r="r" b="b"/>
                  <a:pathLst>
                    <a:path w="850" h="849">
                      <a:moveTo>
                        <a:pt x="850" y="849"/>
                      </a:moveTo>
                      <a:lnTo>
                        <a:pt x="850" y="849"/>
                      </a:lnTo>
                      <a:lnTo>
                        <a:pt x="850" y="827"/>
                      </a:lnTo>
                      <a:lnTo>
                        <a:pt x="849" y="805"/>
                      </a:lnTo>
                      <a:lnTo>
                        <a:pt x="847" y="784"/>
                      </a:lnTo>
                      <a:lnTo>
                        <a:pt x="845" y="763"/>
                      </a:lnTo>
                      <a:lnTo>
                        <a:pt x="843" y="741"/>
                      </a:lnTo>
                      <a:lnTo>
                        <a:pt x="840" y="720"/>
                      </a:lnTo>
                      <a:lnTo>
                        <a:pt x="837" y="699"/>
                      </a:lnTo>
                      <a:lnTo>
                        <a:pt x="833" y="678"/>
                      </a:lnTo>
                      <a:lnTo>
                        <a:pt x="823" y="637"/>
                      </a:lnTo>
                      <a:lnTo>
                        <a:pt x="811" y="597"/>
                      </a:lnTo>
                      <a:lnTo>
                        <a:pt x="798" y="557"/>
                      </a:lnTo>
                      <a:lnTo>
                        <a:pt x="783" y="519"/>
                      </a:lnTo>
                      <a:lnTo>
                        <a:pt x="766" y="481"/>
                      </a:lnTo>
                      <a:lnTo>
                        <a:pt x="748" y="445"/>
                      </a:lnTo>
                      <a:lnTo>
                        <a:pt x="727" y="409"/>
                      </a:lnTo>
                      <a:lnTo>
                        <a:pt x="705" y="375"/>
                      </a:lnTo>
                      <a:lnTo>
                        <a:pt x="682" y="341"/>
                      </a:lnTo>
                      <a:lnTo>
                        <a:pt x="656" y="309"/>
                      </a:lnTo>
                      <a:lnTo>
                        <a:pt x="629" y="279"/>
                      </a:lnTo>
                      <a:lnTo>
                        <a:pt x="601" y="249"/>
                      </a:lnTo>
                      <a:lnTo>
                        <a:pt x="572" y="221"/>
                      </a:lnTo>
                      <a:lnTo>
                        <a:pt x="541" y="194"/>
                      </a:lnTo>
                      <a:lnTo>
                        <a:pt x="509" y="169"/>
                      </a:lnTo>
                      <a:lnTo>
                        <a:pt x="476" y="145"/>
                      </a:lnTo>
                      <a:lnTo>
                        <a:pt x="441" y="123"/>
                      </a:lnTo>
                      <a:lnTo>
                        <a:pt x="406" y="103"/>
                      </a:lnTo>
                      <a:lnTo>
                        <a:pt x="369" y="84"/>
                      </a:lnTo>
                      <a:lnTo>
                        <a:pt x="331" y="67"/>
                      </a:lnTo>
                      <a:lnTo>
                        <a:pt x="292" y="52"/>
                      </a:lnTo>
                      <a:lnTo>
                        <a:pt x="254" y="38"/>
                      </a:lnTo>
                      <a:lnTo>
                        <a:pt x="213" y="27"/>
                      </a:lnTo>
                      <a:lnTo>
                        <a:pt x="172" y="17"/>
                      </a:lnTo>
                      <a:lnTo>
                        <a:pt x="151" y="13"/>
                      </a:lnTo>
                      <a:lnTo>
                        <a:pt x="130" y="10"/>
                      </a:lnTo>
                      <a:lnTo>
                        <a:pt x="108" y="7"/>
                      </a:lnTo>
                      <a:lnTo>
                        <a:pt x="87" y="5"/>
                      </a:lnTo>
                      <a:lnTo>
                        <a:pt x="66" y="3"/>
                      </a:lnTo>
                      <a:lnTo>
                        <a:pt x="44" y="1"/>
                      </a:lnTo>
                      <a:lnTo>
                        <a:pt x="22" y="1"/>
                      </a:lnTo>
                      <a:lnTo>
                        <a:pt x="0" y="0"/>
                      </a:lnTo>
                      <a:lnTo>
                        <a:pt x="0" y="73"/>
                      </a:lnTo>
                      <a:lnTo>
                        <a:pt x="20" y="73"/>
                      </a:lnTo>
                      <a:lnTo>
                        <a:pt x="40" y="74"/>
                      </a:lnTo>
                      <a:lnTo>
                        <a:pt x="60" y="75"/>
                      </a:lnTo>
                      <a:lnTo>
                        <a:pt x="80" y="77"/>
                      </a:lnTo>
                      <a:lnTo>
                        <a:pt x="99" y="79"/>
                      </a:lnTo>
                      <a:lnTo>
                        <a:pt x="119" y="82"/>
                      </a:lnTo>
                      <a:lnTo>
                        <a:pt x="138" y="85"/>
                      </a:lnTo>
                      <a:lnTo>
                        <a:pt x="157" y="88"/>
                      </a:lnTo>
                      <a:lnTo>
                        <a:pt x="195" y="97"/>
                      </a:lnTo>
                      <a:lnTo>
                        <a:pt x="231" y="107"/>
                      </a:lnTo>
                      <a:lnTo>
                        <a:pt x="268" y="119"/>
                      </a:lnTo>
                      <a:lnTo>
                        <a:pt x="303" y="134"/>
                      </a:lnTo>
                      <a:lnTo>
                        <a:pt x="338" y="149"/>
                      </a:lnTo>
                      <a:lnTo>
                        <a:pt x="371" y="166"/>
                      </a:lnTo>
                      <a:lnTo>
                        <a:pt x="404" y="185"/>
                      </a:lnTo>
                      <a:lnTo>
                        <a:pt x="435" y="206"/>
                      </a:lnTo>
                      <a:lnTo>
                        <a:pt x="466" y="227"/>
                      </a:lnTo>
                      <a:lnTo>
                        <a:pt x="495" y="250"/>
                      </a:lnTo>
                      <a:lnTo>
                        <a:pt x="523" y="274"/>
                      </a:lnTo>
                      <a:lnTo>
                        <a:pt x="550" y="300"/>
                      </a:lnTo>
                      <a:lnTo>
                        <a:pt x="576" y="327"/>
                      </a:lnTo>
                      <a:lnTo>
                        <a:pt x="600" y="356"/>
                      </a:lnTo>
                      <a:lnTo>
                        <a:pt x="623" y="385"/>
                      </a:lnTo>
                      <a:lnTo>
                        <a:pt x="645" y="415"/>
                      </a:lnTo>
                      <a:lnTo>
                        <a:pt x="665" y="447"/>
                      </a:lnTo>
                      <a:lnTo>
                        <a:pt x="684" y="479"/>
                      </a:lnTo>
                      <a:lnTo>
                        <a:pt x="701" y="513"/>
                      </a:lnTo>
                      <a:lnTo>
                        <a:pt x="716" y="547"/>
                      </a:lnTo>
                      <a:lnTo>
                        <a:pt x="730" y="582"/>
                      </a:lnTo>
                      <a:lnTo>
                        <a:pt x="742" y="618"/>
                      </a:lnTo>
                      <a:lnTo>
                        <a:pt x="753" y="654"/>
                      </a:lnTo>
                      <a:lnTo>
                        <a:pt x="762" y="693"/>
                      </a:lnTo>
                      <a:lnTo>
                        <a:pt x="765" y="711"/>
                      </a:lnTo>
                      <a:lnTo>
                        <a:pt x="769" y="730"/>
                      </a:lnTo>
                      <a:lnTo>
                        <a:pt x="771" y="750"/>
                      </a:lnTo>
                      <a:lnTo>
                        <a:pt x="774" y="769"/>
                      </a:lnTo>
                      <a:lnTo>
                        <a:pt x="775" y="789"/>
                      </a:lnTo>
                      <a:lnTo>
                        <a:pt x="776" y="809"/>
                      </a:lnTo>
                      <a:lnTo>
                        <a:pt x="777" y="829"/>
                      </a:lnTo>
                      <a:lnTo>
                        <a:pt x="777" y="849"/>
                      </a:lnTo>
                      <a:lnTo>
                        <a:pt x="777" y="849"/>
                      </a:lnTo>
                      <a:lnTo>
                        <a:pt x="850" y="849"/>
                      </a:lnTo>
                      <a:lnTo>
                        <a:pt x="850" y="849"/>
                      </a:lnTo>
                      <a:lnTo>
                        <a:pt x="850" y="849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5794200" y="2917800"/>
                  <a:ext cx="86040" cy="85680"/>
                </a:xfrm>
                <a:custGeom>
                  <a:avLst/>
                  <a:gdLst/>
                  <a:ahLst/>
                  <a:rect l="l" t="t" r="r" b="b"/>
                  <a:pathLst>
                    <a:path w="1627" h="1626">
                      <a:moveTo>
                        <a:pt x="1627" y="813"/>
                      </a:moveTo>
                      <a:lnTo>
                        <a:pt x="1626" y="855"/>
                      </a:lnTo>
                      <a:lnTo>
                        <a:pt x="1623" y="896"/>
                      </a:lnTo>
                      <a:lnTo>
                        <a:pt x="1618" y="937"/>
                      </a:lnTo>
                      <a:lnTo>
                        <a:pt x="1611" y="977"/>
                      </a:lnTo>
                      <a:lnTo>
                        <a:pt x="1602" y="1017"/>
                      </a:lnTo>
                      <a:lnTo>
                        <a:pt x="1590" y="1055"/>
                      </a:lnTo>
                      <a:lnTo>
                        <a:pt x="1578" y="1093"/>
                      </a:lnTo>
                      <a:lnTo>
                        <a:pt x="1563" y="1129"/>
                      </a:lnTo>
                      <a:lnTo>
                        <a:pt x="1547" y="1166"/>
                      </a:lnTo>
                      <a:lnTo>
                        <a:pt x="1530" y="1200"/>
                      </a:lnTo>
                      <a:lnTo>
                        <a:pt x="1509" y="1235"/>
                      </a:lnTo>
                      <a:lnTo>
                        <a:pt x="1488" y="1268"/>
                      </a:lnTo>
                      <a:lnTo>
                        <a:pt x="1466" y="1299"/>
                      </a:lnTo>
                      <a:lnTo>
                        <a:pt x="1441" y="1330"/>
                      </a:lnTo>
                      <a:lnTo>
                        <a:pt x="1416" y="1359"/>
                      </a:lnTo>
                      <a:lnTo>
                        <a:pt x="1390" y="1388"/>
                      </a:lnTo>
                      <a:lnTo>
                        <a:pt x="1361" y="1415"/>
                      </a:lnTo>
                      <a:lnTo>
                        <a:pt x="1332" y="1440"/>
                      </a:lnTo>
                      <a:lnTo>
                        <a:pt x="1300" y="1465"/>
                      </a:lnTo>
                      <a:lnTo>
                        <a:pt x="1269" y="1487"/>
                      </a:lnTo>
                      <a:lnTo>
                        <a:pt x="1235" y="1508"/>
                      </a:lnTo>
                      <a:lnTo>
                        <a:pt x="1202" y="1527"/>
                      </a:lnTo>
                      <a:lnTo>
                        <a:pt x="1166" y="1546"/>
                      </a:lnTo>
                      <a:lnTo>
                        <a:pt x="1131" y="1562"/>
                      </a:lnTo>
                      <a:lnTo>
                        <a:pt x="1093" y="1577"/>
                      </a:lnTo>
                      <a:lnTo>
                        <a:pt x="1056" y="1589"/>
                      </a:lnTo>
                      <a:lnTo>
                        <a:pt x="1017" y="1600"/>
                      </a:lnTo>
                      <a:lnTo>
                        <a:pt x="978" y="1609"/>
                      </a:lnTo>
                      <a:lnTo>
                        <a:pt x="938" y="1617"/>
                      </a:lnTo>
                      <a:lnTo>
                        <a:pt x="898" y="1622"/>
                      </a:lnTo>
                      <a:lnTo>
                        <a:pt x="856" y="1625"/>
                      </a:lnTo>
                      <a:lnTo>
                        <a:pt x="814" y="1626"/>
                      </a:lnTo>
                      <a:lnTo>
                        <a:pt x="772" y="1625"/>
                      </a:lnTo>
                      <a:lnTo>
                        <a:pt x="731" y="1622"/>
                      </a:lnTo>
                      <a:lnTo>
                        <a:pt x="690" y="1617"/>
                      </a:lnTo>
                      <a:lnTo>
                        <a:pt x="650" y="1609"/>
                      </a:lnTo>
                      <a:lnTo>
                        <a:pt x="611" y="1600"/>
                      </a:lnTo>
                      <a:lnTo>
                        <a:pt x="572" y="1589"/>
                      </a:lnTo>
                      <a:lnTo>
                        <a:pt x="534" y="1577"/>
                      </a:lnTo>
                      <a:lnTo>
                        <a:pt x="497" y="1562"/>
                      </a:lnTo>
                      <a:lnTo>
                        <a:pt x="461" y="1546"/>
                      </a:lnTo>
                      <a:lnTo>
                        <a:pt x="426" y="1527"/>
                      </a:lnTo>
                      <a:lnTo>
                        <a:pt x="391" y="1508"/>
                      </a:lnTo>
                      <a:lnTo>
                        <a:pt x="359" y="1487"/>
                      </a:lnTo>
                      <a:lnTo>
                        <a:pt x="327" y="1465"/>
                      </a:lnTo>
                      <a:lnTo>
                        <a:pt x="296" y="1440"/>
                      </a:lnTo>
                      <a:lnTo>
                        <a:pt x="267" y="1415"/>
                      </a:lnTo>
                      <a:lnTo>
                        <a:pt x="238" y="1388"/>
                      </a:lnTo>
                      <a:lnTo>
                        <a:pt x="211" y="1359"/>
                      </a:lnTo>
                      <a:lnTo>
                        <a:pt x="186" y="1330"/>
                      </a:lnTo>
                      <a:lnTo>
                        <a:pt x="161" y="1299"/>
                      </a:lnTo>
                      <a:lnTo>
                        <a:pt x="139" y="1268"/>
                      </a:lnTo>
                      <a:lnTo>
                        <a:pt x="118" y="1235"/>
                      </a:lnTo>
                      <a:lnTo>
                        <a:pt x="98" y="1200"/>
                      </a:lnTo>
                      <a:lnTo>
                        <a:pt x="80" y="1166"/>
                      </a:lnTo>
                      <a:lnTo>
                        <a:pt x="64" y="1129"/>
                      </a:lnTo>
                      <a:lnTo>
                        <a:pt x="49" y="1093"/>
                      </a:lnTo>
                      <a:lnTo>
                        <a:pt x="36" y="1055"/>
                      </a:lnTo>
                      <a:lnTo>
                        <a:pt x="25" y="1017"/>
                      </a:lnTo>
                      <a:lnTo>
                        <a:pt x="16" y="977"/>
                      </a:lnTo>
                      <a:lnTo>
                        <a:pt x="9" y="937"/>
                      </a:lnTo>
                      <a:lnTo>
                        <a:pt x="4" y="896"/>
                      </a:lnTo>
                      <a:lnTo>
                        <a:pt x="1" y="855"/>
                      </a:lnTo>
                      <a:lnTo>
                        <a:pt x="0" y="813"/>
                      </a:lnTo>
                      <a:lnTo>
                        <a:pt x="1" y="771"/>
                      </a:lnTo>
                      <a:lnTo>
                        <a:pt x="4" y="730"/>
                      </a:lnTo>
                      <a:lnTo>
                        <a:pt x="9" y="689"/>
                      </a:lnTo>
                      <a:lnTo>
                        <a:pt x="16" y="649"/>
                      </a:lnTo>
                      <a:lnTo>
                        <a:pt x="25" y="610"/>
                      </a:lnTo>
                      <a:lnTo>
                        <a:pt x="36" y="572"/>
                      </a:lnTo>
                      <a:lnTo>
                        <a:pt x="49" y="533"/>
                      </a:lnTo>
                      <a:lnTo>
                        <a:pt x="64" y="497"/>
                      </a:lnTo>
                      <a:lnTo>
                        <a:pt x="80" y="460"/>
                      </a:lnTo>
                      <a:lnTo>
                        <a:pt x="98" y="426"/>
                      </a:lnTo>
                      <a:lnTo>
                        <a:pt x="118" y="391"/>
                      </a:lnTo>
                      <a:lnTo>
                        <a:pt x="139" y="359"/>
                      </a:lnTo>
                      <a:lnTo>
                        <a:pt x="161" y="327"/>
                      </a:lnTo>
                      <a:lnTo>
                        <a:pt x="186" y="296"/>
                      </a:lnTo>
                      <a:lnTo>
                        <a:pt x="211" y="267"/>
                      </a:lnTo>
                      <a:lnTo>
                        <a:pt x="238" y="238"/>
                      </a:lnTo>
                      <a:lnTo>
                        <a:pt x="267" y="211"/>
                      </a:lnTo>
                      <a:lnTo>
                        <a:pt x="296" y="186"/>
                      </a:lnTo>
                      <a:lnTo>
                        <a:pt x="327" y="161"/>
                      </a:lnTo>
                      <a:lnTo>
                        <a:pt x="359" y="139"/>
                      </a:lnTo>
                      <a:lnTo>
                        <a:pt x="391" y="118"/>
                      </a:lnTo>
                      <a:lnTo>
                        <a:pt x="426" y="99"/>
                      </a:lnTo>
                      <a:lnTo>
                        <a:pt x="461" y="80"/>
                      </a:lnTo>
                      <a:lnTo>
                        <a:pt x="497" y="64"/>
                      </a:lnTo>
                      <a:lnTo>
                        <a:pt x="534" y="50"/>
                      </a:lnTo>
                      <a:lnTo>
                        <a:pt x="572" y="37"/>
                      </a:lnTo>
                      <a:lnTo>
                        <a:pt x="611" y="26"/>
                      </a:lnTo>
                      <a:lnTo>
                        <a:pt x="650" y="17"/>
                      </a:lnTo>
                      <a:lnTo>
                        <a:pt x="690" y="9"/>
                      </a:lnTo>
                      <a:lnTo>
                        <a:pt x="731" y="4"/>
                      </a:lnTo>
                      <a:lnTo>
                        <a:pt x="772" y="1"/>
                      </a:lnTo>
                      <a:lnTo>
                        <a:pt x="814" y="0"/>
                      </a:lnTo>
                      <a:lnTo>
                        <a:pt x="856" y="1"/>
                      </a:lnTo>
                      <a:lnTo>
                        <a:pt x="898" y="4"/>
                      </a:lnTo>
                      <a:lnTo>
                        <a:pt x="938" y="9"/>
                      </a:lnTo>
                      <a:lnTo>
                        <a:pt x="978" y="17"/>
                      </a:lnTo>
                      <a:lnTo>
                        <a:pt x="1017" y="26"/>
                      </a:lnTo>
                      <a:lnTo>
                        <a:pt x="1056" y="37"/>
                      </a:lnTo>
                      <a:lnTo>
                        <a:pt x="1093" y="50"/>
                      </a:lnTo>
                      <a:lnTo>
                        <a:pt x="1131" y="64"/>
                      </a:lnTo>
                      <a:lnTo>
                        <a:pt x="1166" y="80"/>
                      </a:lnTo>
                      <a:lnTo>
                        <a:pt x="1202" y="99"/>
                      </a:lnTo>
                      <a:lnTo>
                        <a:pt x="1235" y="118"/>
                      </a:lnTo>
                      <a:lnTo>
                        <a:pt x="1269" y="139"/>
                      </a:lnTo>
                      <a:lnTo>
                        <a:pt x="1300" y="161"/>
                      </a:lnTo>
                      <a:lnTo>
                        <a:pt x="1332" y="186"/>
                      </a:lnTo>
                      <a:lnTo>
                        <a:pt x="1361" y="211"/>
                      </a:lnTo>
                      <a:lnTo>
                        <a:pt x="1390" y="238"/>
                      </a:lnTo>
                      <a:lnTo>
                        <a:pt x="1416" y="267"/>
                      </a:lnTo>
                      <a:lnTo>
                        <a:pt x="1441" y="296"/>
                      </a:lnTo>
                      <a:lnTo>
                        <a:pt x="1466" y="327"/>
                      </a:lnTo>
                      <a:lnTo>
                        <a:pt x="1488" y="359"/>
                      </a:lnTo>
                      <a:lnTo>
                        <a:pt x="1509" y="391"/>
                      </a:lnTo>
                      <a:lnTo>
                        <a:pt x="1530" y="426"/>
                      </a:lnTo>
                      <a:lnTo>
                        <a:pt x="1547" y="460"/>
                      </a:lnTo>
                      <a:lnTo>
                        <a:pt x="1563" y="497"/>
                      </a:lnTo>
                      <a:lnTo>
                        <a:pt x="1578" y="533"/>
                      </a:lnTo>
                      <a:lnTo>
                        <a:pt x="1590" y="572"/>
                      </a:lnTo>
                      <a:lnTo>
                        <a:pt x="1602" y="610"/>
                      </a:lnTo>
                      <a:lnTo>
                        <a:pt x="1611" y="649"/>
                      </a:lnTo>
                      <a:lnTo>
                        <a:pt x="1618" y="689"/>
                      </a:lnTo>
                      <a:lnTo>
                        <a:pt x="1623" y="730"/>
                      </a:lnTo>
                      <a:lnTo>
                        <a:pt x="1626" y="771"/>
                      </a:lnTo>
                      <a:lnTo>
                        <a:pt x="1627" y="813"/>
                      </a:lnTo>
                      <a:close/>
                    </a:path>
                  </a:pathLst>
                </a:custGeom>
                <a:solidFill>
                  <a:srgbClr val="c8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5837400" y="2960640"/>
                  <a:ext cx="44280" cy="44640"/>
                </a:xfrm>
                <a:custGeom>
                  <a:avLst/>
                  <a:gdLst/>
                  <a:ahLst/>
                  <a:rect l="l" t="t" r="r" b="b"/>
                  <a:pathLst>
                    <a:path w="849" h="849">
                      <a:moveTo>
                        <a:pt x="0" y="849"/>
                      </a:moveTo>
                      <a:lnTo>
                        <a:pt x="0" y="849"/>
                      </a:lnTo>
                      <a:lnTo>
                        <a:pt x="22" y="849"/>
                      </a:lnTo>
                      <a:lnTo>
                        <a:pt x="44" y="848"/>
                      </a:lnTo>
                      <a:lnTo>
                        <a:pt x="65" y="846"/>
                      </a:lnTo>
                      <a:lnTo>
                        <a:pt x="87" y="844"/>
                      </a:lnTo>
                      <a:lnTo>
                        <a:pt x="108" y="842"/>
                      </a:lnTo>
                      <a:lnTo>
                        <a:pt x="129" y="839"/>
                      </a:lnTo>
                      <a:lnTo>
                        <a:pt x="151" y="836"/>
                      </a:lnTo>
                      <a:lnTo>
                        <a:pt x="171" y="832"/>
                      </a:lnTo>
                      <a:lnTo>
                        <a:pt x="192" y="827"/>
                      </a:lnTo>
                      <a:lnTo>
                        <a:pt x="212" y="823"/>
                      </a:lnTo>
                      <a:lnTo>
                        <a:pt x="233" y="817"/>
                      </a:lnTo>
                      <a:lnTo>
                        <a:pt x="253" y="811"/>
                      </a:lnTo>
                      <a:lnTo>
                        <a:pt x="293" y="797"/>
                      </a:lnTo>
                      <a:lnTo>
                        <a:pt x="330" y="782"/>
                      </a:lnTo>
                      <a:lnTo>
                        <a:pt x="369" y="765"/>
                      </a:lnTo>
                      <a:lnTo>
                        <a:pt x="405" y="747"/>
                      </a:lnTo>
                      <a:lnTo>
                        <a:pt x="441" y="727"/>
                      </a:lnTo>
                      <a:lnTo>
                        <a:pt x="475" y="704"/>
                      </a:lnTo>
                      <a:lnTo>
                        <a:pt x="509" y="681"/>
                      </a:lnTo>
                      <a:lnTo>
                        <a:pt x="540" y="656"/>
                      </a:lnTo>
                      <a:lnTo>
                        <a:pt x="572" y="628"/>
                      </a:lnTo>
                      <a:lnTo>
                        <a:pt x="601" y="601"/>
                      </a:lnTo>
                      <a:lnTo>
                        <a:pt x="628" y="570"/>
                      </a:lnTo>
                      <a:lnTo>
                        <a:pt x="656" y="540"/>
                      </a:lnTo>
                      <a:lnTo>
                        <a:pt x="681" y="508"/>
                      </a:lnTo>
                      <a:lnTo>
                        <a:pt x="704" y="475"/>
                      </a:lnTo>
                      <a:lnTo>
                        <a:pt x="727" y="441"/>
                      </a:lnTo>
                      <a:lnTo>
                        <a:pt x="747" y="405"/>
                      </a:lnTo>
                      <a:lnTo>
                        <a:pt x="765" y="368"/>
                      </a:lnTo>
                      <a:lnTo>
                        <a:pt x="783" y="330"/>
                      </a:lnTo>
                      <a:lnTo>
                        <a:pt x="798" y="292"/>
                      </a:lnTo>
                      <a:lnTo>
                        <a:pt x="811" y="252"/>
                      </a:lnTo>
                      <a:lnTo>
                        <a:pt x="823" y="212"/>
                      </a:lnTo>
                      <a:lnTo>
                        <a:pt x="832" y="171"/>
                      </a:lnTo>
                      <a:lnTo>
                        <a:pt x="836" y="150"/>
                      </a:lnTo>
                      <a:lnTo>
                        <a:pt x="840" y="130"/>
                      </a:lnTo>
                      <a:lnTo>
                        <a:pt x="842" y="108"/>
                      </a:lnTo>
                      <a:lnTo>
                        <a:pt x="845" y="87"/>
                      </a:lnTo>
                      <a:lnTo>
                        <a:pt x="847" y="65"/>
                      </a:lnTo>
                      <a:lnTo>
                        <a:pt x="848" y="44"/>
                      </a:lnTo>
                      <a:lnTo>
                        <a:pt x="849" y="21"/>
                      </a:lnTo>
                      <a:lnTo>
                        <a:pt x="849" y="0"/>
                      </a:lnTo>
                      <a:lnTo>
                        <a:pt x="777" y="0"/>
                      </a:lnTo>
                      <a:lnTo>
                        <a:pt x="776" y="20"/>
                      </a:lnTo>
                      <a:lnTo>
                        <a:pt x="776" y="40"/>
                      </a:lnTo>
                      <a:lnTo>
                        <a:pt x="774" y="60"/>
                      </a:lnTo>
                      <a:lnTo>
                        <a:pt x="773" y="80"/>
                      </a:lnTo>
                      <a:lnTo>
                        <a:pt x="771" y="99"/>
                      </a:lnTo>
                      <a:lnTo>
                        <a:pt x="768" y="119"/>
                      </a:lnTo>
                      <a:lnTo>
                        <a:pt x="765" y="138"/>
                      </a:lnTo>
                      <a:lnTo>
                        <a:pt x="761" y="156"/>
                      </a:lnTo>
                      <a:lnTo>
                        <a:pt x="753" y="195"/>
                      </a:lnTo>
                      <a:lnTo>
                        <a:pt x="742" y="231"/>
                      </a:lnTo>
                      <a:lnTo>
                        <a:pt x="730" y="268"/>
                      </a:lnTo>
                      <a:lnTo>
                        <a:pt x="717" y="302"/>
                      </a:lnTo>
                      <a:lnTo>
                        <a:pt x="700" y="336"/>
                      </a:lnTo>
                      <a:lnTo>
                        <a:pt x="683" y="370"/>
                      </a:lnTo>
                      <a:lnTo>
                        <a:pt x="665" y="403"/>
                      </a:lnTo>
                      <a:lnTo>
                        <a:pt x="645" y="435"/>
                      </a:lnTo>
                      <a:lnTo>
                        <a:pt x="622" y="465"/>
                      </a:lnTo>
                      <a:lnTo>
                        <a:pt x="600" y="494"/>
                      </a:lnTo>
                      <a:lnTo>
                        <a:pt x="576" y="522"/>
                      </a:lnTo>
                      <a:lnTo>
                        <a:pt x="549" y="549"/>
                      </a:lnTo>
                      <a:lnTo>
                        <a:pt x="523" y="575"/>
                      </a:lnTo>
                      <a:lnTo>
                        <a:pt x="494" y="600"/>
                      </a:lnTo>
                      <a:lnTo>
                        <a:pt x="465" y="622"/>
                      </a:lnTo>
                      <a:lnTo>
                        <a:pt x="435" y="644"/>
                      </a:lnTo>
                      <a:lnTo>
                        <a:pt x="403" y="665"/>
                      </a:lnTo>
                      <a:lnTo>
                        <a:pt x="371" y="683"/>
                      </a:lnTo>
                      <a:lnTo>
                        <a:pt x="337" y="700"/>
                      </a:lnTo>
                      <a:lnTo>
                        <a:pt x="303" y="715"/>
                      </a:lnTo>
                      <a:lnTo>
                        <a:pt x="267" y="730"/>
                      </a:lnTo>
                      <a:lnTo>
                        <a:pt x="231" y="742"/>
                      </a:lnTo>
                      <a:lnTo>
                        <a:pt x="212" y="747"/>
                      </a:lnTo>
                      <a:lnTo>
                        <a:pt x="194" y="752"/>
                      </a:lnTo>
                      <a:lnTo>
                        <a:pt x="176" y="757"/>
                      </a:lnTo>
                      <a:lnTo>
                        <a:pt x="157" y="761"/>
                      </a:lnTo>
                      <a:lnTo>
                        <a:pt x="137" y="765"/>
                      </a:lnTo>
                      <a:lnTo>
                        <a:pt x="118" y="768"/>
                      </a:lnTo>
                      <a:lnTo>
                        <a:pt x="99" y="770"/>
                      </a:lnTo>
                      <a:lnTo>
                        <a:pt x="80" y="773"/>
                      </a:lnTo>
                      <a:lnTo>
                        <a:pt x="60" y="774"/>
                      </a:lnTo>
                      <a:lnTo>
                        <a:pt x="40" y="776"/>
                      </a:lnTo>
                      <a:lnTo>
                        <a:pt x="21" y="776"/>
                      </a:lnTo>
                      <a:lnTo>
                        <a:pt x="0" y="776"/>
                      </a:lnTo>
                      <a:lnTo>
                        <a:pt x="0" y="776"/>
                      </a:lnTo>
                      <a:lnTo>
                        <a:pt x="0" y="849"/>
                      </a:lnTo>
                      <a:lnTo>
                        <a:pt x="0" y="849"/>
                      </a:lnTo>
                      <a:lnTo>
                        <a:pt x="0" y="849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5791320" y="2960640"/>
                  <a:ext cx="46080" cy="44640"/>
                </a:xfrm>
                <a:custGeom>
                  <a:avLst/>
                  <a:gdLst/>
                  <a:ahLst/>
                  <a:rect l="l" t="t" r="r" b="b"/>
                  <a:pathLst>
                    <a:path w="851" h="84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1"/>
                      </a:lnTo>
                      <a:lnTo>
                        <a:pt x="1" y="44"/>
                      </a:lnTo>
                      <a:lnTo>
                        <a:pt x="2" y="65"/>
                      </a:lnTo>
                      <a:lnTo>
                        <a:pt x="4" y="87"/>
                      </a:lnTo>
                      <a:lnTo>
                        <a:pt x="7" y="108"/>
                      </a:lnTo>
                      <a:lnTo>
                        <a:pt x="11" y="130"/>
                      </a:lnTo>
                      <a:lnTo>
                        <a:pt x="14" y="150"/>
                      </a:lnTo>
                      <a:lnTo>
                        <a:pt x="18" y="171"/>
                      </a:lnTo>
                      <a:lnTo>
                        <a:pt x="23" y="192"/>
                      </a:lnTo>
                      <a:lnTo>
                        <a:pt x="28" y="212"/>
                      </a:lnTo>
                      <a:lnTo>
                        <a:pt x="33" y="232"/>
                      </a:lnTo>
                      <a:lnTo>
                        <a:pt x="39" y="253"/>
                      </a:lnTo>
                      <a:lnTo>
                        <a:pt x="52" y="292"/>
                      </a:lnTo>
                      <a:lnTo>
                        <a:pt x="67" y="330"/>
                      </a:lnTo>
                      <a:lnTo>
                        <a:pt x="85" y="368"/>
                      </a:lnTo>
                      <a:lnTo>
                        <a:pt x="103" y="405"/>
                      </a:lnTo>
                      <a:lnTo>
                        <a:pt x="124" y="441"/>
                      </a:lnTo>
                      <a:lnTo>
                        <a:pt x="145" y="475"/>
                      </a:lnTo>
                      <a:lnTo>
                        <a:pt x="170" y="508"/>
                      </a:lnTo>
                      <a:lnTo>
                        <a:pt x="195" y="540"/>
                      </a:lnTo>
                      <a:lnTo>
                        <a:pt x="222" y="570"/>
                      </a:lnTo>
                      <a:lnTo>
                        <a:pt x="250" y="601"/>
                      </a:lnTo>
                      <a:lnTo>
                        <a:pt x="279" y="628"/>
                      </a:lnTo>
                      <a:lnTo>
                        <a:pt x="310" y="656"/>
                      </a:lnTo>
                      <a:lnTo>
                        <a:pt x="342" y="681"/>
                      </a:lnTo>
                      <a:lnTo>
                        <a:pt x="376" y="704"/>
                      </a:lnTo>
                      <a:lnTo>
                        <a:pt x="410" y="727"/>
                      </a:lnTo>
                      <a:lnTo>
                        <a:pt x="446" y="747"/>
                      </a:lnTo>
                      <a:lnTo>
                        <a:pt x="482" y="765"/>
                      </a:lnTo>
                      <a:lnTo>
                        <a:pt x="520" y="782"/>
                      </a:lnTo>
                      <a:lnTo>
                        <a:pt x="559" y="797"/>
                      </a:lnTo>
                      <a:lnTo>
                        <a:pt x="598" y="811"/>
                      </a:lnTo>
                      <a:lnTo>
                        <a:pt x="618" y="817"/>
                      </a:lnTo>
                      <a:lnTo>
                        <a:pt x="638" y="823"/>
                      </a:lnTo>
                      <a:lnTo>
                        <a:pt x="659" y="827"/>
                      </a:lnTo>
                      <a:lnTo>
                        <a:pt x="680" y="832"/>
                      </a:lnTo>
                      <a:lnTo>
                        <a:pt x="700" y="836"/>
                      </a:lnTo>
                      <a:lnTo>
                        <a:pt x="722" y="839"/>
                      </a:lnTo>
                      <a:lnTo>
                        <a:pt x="743" y="842"/>
                      </a:lnTo>
                      <a:lnTo>
                        <a:pt x="764" y="844"/>
                      </a:lnTo>
                      <a:lnTo>
                        <a:pt x="786" y="846"/>
                      </a:lnTo>
                      <a:lnTo>
                        <a:pt x="808" y="848"/>
                      </a:lnTo>
                      <a:lnTo>
                        <a:pt x="829" y="849"/>
                      </a:lnTo>
                      <a:lnTo>
                        <a:pt x="851" y="849"/>
                      </a:lnTo>
                      <a:lnTo>
                        <a:pt x="851" y="776"/>
                      </a:lnTo>
                      <a:lnTo>
                        <a:pt x="831" y="776"/>
                      </a:lnTo>
                      <a:lnTo>
                        <a:pt x="811" y="776"/>
                      </a:lnTo>
                      <a:lnTo>
                        <a:pt x="792" y="774"/>
                      </a:lnTo>
                      <a:lnTo>
                        <a:pt x="771" y="773"/>
                      </a:lnTo>
                      <a:lnTo>
                        <a:pt x="752" y="770"/>
                      </a:lnTo>
                      <a:lnTo>
                        <a:pt x="733" y="768"/>
                      </a:lnTo>
                      <a:lnTo>
                        <a:pt x="713" y="764"/>
                      </a:lnTo>
                      <a:lnTo>
                        <a:pt x="694" y="761"/>
                      </a:lnTo>
                      <a:lnTo>
                        <a:pt x="675" y="757"/>
                      </a:lnTo>
                      <a:lnTo>
                        <a:pt x="657" y="752"/>
                      </a:lnTo>
                      <a:lnTo>
                        <a:pt x="638" y="747"/>
                      </a:lnTo>
                      <a:lnTo>
                        <a:pt x="620" y="742"/>
                      </a:lnTo>
                      <a:lnTo>
                        <a:pt x="584" y="730"/>
                      </a:lnTo>
                      <a:lnTo>
                        <a:pt x="548" y="715"/>
                      </a:lnTo>
                      <a:lnTo>
                        <a:pt x="514" y="700"/>
                      </a:lnTo>
                      <a:lnTo>
                        <a:pt x="480" y="683"/>
                      </a:lnTo>
                      <a:lnTo>
                        <a:pt x="448" y="665"/>
                      </a:lnTo>
                      <a:lnTo>
                        <a:pt x="416" y="644"/>
                      </a:lnTo>
                      <a:lnTo>
                        <a:pt x="386" y="622"/>
                      </a:lnTo>
                      <a:lnTo>
                        <a:pt x="356" y="600"/>
                      </a:lnTo>
                      <a:lnTo>
                        <a:pt x="328" y="575"/>
                      </a:lnTo>
                      <a:lnTo>
                        <a:pt x="301" y="549"/>
                      </a:lnTo>
                      <a:lnTo>
                        <a:pt x="275" y="522"/>
                      </a:lnTo>
                      <a:lnTo>
                        <a:pt x="251" y="494"/>
                      </a:lnTo>
                      <a:lnTo>
                        <a:pt x="228" y="465"/>
                      </a:lnTo>
                      <a:lnTo>
                        <a:pt x="206" y="435"/>
                      </a:lnTo>
                      <a:lnTo>
                        <a:pt x="185" y="403"/>
                      </a:lnTo>
                      <a:lnTo>
                        <a:pt x="167" y="370"/>
                      </a:lnTo>
                      <a:lnTo>
                        <a:pt x="149" y="336"/>
                      </a:lnTo>
                      <a:lnTo>
                        <a:pt x="134" y="302"/>
                      </a:lnTo>
                      <a:lnTo>
                        <a:pt x="120" y="268"/>
                      </a:lnTo>
                      <a:lnTo>
                        <a:pt x="108" y="231"/>
                      </a:lnTo>
                      <a:lnTo>
                        <a:pt x="103" y="213"/>
                      </a:lnTo>
                      <a:lnTo>
                        <a:pt x="98" y="195"/>
                      </a:lnTo>
                      <a:lnTo>
                        <a:pt x="93" y="175"/>
                      </a:lnTo>
                      <a:lnTo>
                        <a:pt x="89" y="157"/>
                      </a:lnTo>
                      <a:lnTo>
                        <a:pt x="85" y="138"/>
                      </a:lnTo>
                      <a:lnTo>
                        <a:pt x="82" y="119"/>
                      </a:lnTo>
                      <a:lnTo>
                        <a:pt x="80" y="99"/>
                      </a:lnTo>
                      <a:lnTo>
                        <a:pt x="76" y="80"/>
                      </a:lnTo>
                      <a:lnTo>
                        <a:pt x="75" y="60"/>
                      </a:lnTo>
                      <a:lnTo>
                        <a:pt x="73" y="41"/>
                      </a:lnTo>
                      <a:lnTo>
                        <a:pt x="73" y="20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5791320" y="2916360"/>
                  <a:ext cx="46080" cy="44280"/>
                </a:xfrm>
                <a:custGeom>
                  <a:avLst/>
                  <a:gdLst/>
                  <a:ahLst/>
                  <a:rect l="l" t="t" r="r" b="b"/>
                  <a:pathLst>
                    <a:path w="851" h="849">
                      <a:moveTo>
                        <a:pt x="851" y="0"/>
                      </a:moveTo>
                      <a:lnTo>
                        <a:pt x="851" y="0"/>
                      </a:lnTo>
                      <a:lnTo>
                        <a:pt x="829" y="1"/>
                      </a:lnTo>
                      <a:lnTo>
                        <a:pt x="808" y="1"/>
                      </a:lnTo>
                      <a:lnTo>
                        <a:pt x="786" y="3"/>
                      </a:lnTo>
                      <a:lnTo>
                        <a:pt x="764" y="5"/>
                      </a:lnTo>
                      <a:lnTo>
                        <a:pt x="743" y="7"/>
                      </a:lnTo>
                      <a:lnTo>
                        <a:pt x="722" y="10"/>
                      </a:lnTo>
                      <a:lnTo>
                        <a:pt x="700" y="13"/>
                      </a:lnTo>
                      <a:lnTo>
                        <a:pt x="679" y="17"/>
                      </a:lnTo>
                      <a:lnTo>
                        <a:pt x="638" y="27"/>
                      </a:lnTo>
                      <a:lnTo>
                        <a:pt x="598" y="38"/>
                      </a:lnTo>
                      <a:lnTo>
                        <a:pt x="559" y="52"/>
                      </a:lnTo>
                      <a:lnTo>
                        <a:pt x="520" y="67"/>
                      </a:lnTo>
                      <a:lnTo>
                        <a:pt x="482" y="84"/>
                      </a:lnTo>
                      <a:lnTo>
                        <a:pt x="446" y="102"/>
                      </a:lnTo>
                      <a:lnTo>
                        <a:pt x="410" y="123"/>
                      </a:lnTo>
                      <a:lnTo>
                        <a:pt x="376" y="145"/>
                      </a:lnTo>
                      <a:lnTo>
                        <a:pt x="342" y="169"/>
                      </a:lnTo>
                      <a:lnTo>
                        <a:pt x="310" y="194"/>
                      </a:lnTo>
                      <a:lnTo>
                        <a:pt x="279" y="221"/>
                      </a:lnTo>
                      <a:lnTo>
                        <a:pt x="250" y="249"/>
                      </a:lnTo>
                      <a:lnTo>
                        <a:pt x="222" y="279"/>
                      </a:lnTo>
                      <a:lnTo>
                        <a:pt x="195" y="309"/>
                      </a:lnTo>
                      <a:lnTo>
                        <a:pt x="170" y="341"/>
                      </a:lnTo>
                      <a:lnTo>
                        <a:pt x="145" y="375"/>
                      </a:lnTo>
                      <a:lnTo>
                        <a:pt x="124" y="409"/>
                      </a:lnTo>
                      <a:lnTo>
                        <a:pt x="103" y="445"/>
                      </a:lnTo>
                      <a:lnTo>
                        <a:pt x="85" y="481"/>
                      </a:lnTo>
                      <a:lnTo>
                        <a:pt x="67" y="519"/>
                      </a:lnTo>
                      <a:lnTo>
                        <a:pt x="52" y="557"/>
                      </a:lnTo>
                      <a:lnTo>
                        <a:pt x="39" y="597"/>
                      </a:lnTo>
                      <a:lnTo>
                        <a:pt x="33" y="617"/>
                      </a:lnTo>
                      <a:lnTo>
                        <a:pt x="28" y="637"/>
                      </a:lnTo>
                      <a:lnTo>
                        <a:pt x="23" y="657"/>
                      </a:lnTo>
                      <a:lnTo>
                        <a:pt x="18" y="678"/>
                      </a:lnTo>
                      <a:lnTo>
                        <a:pt x="14" y="699"/>
                      </a:lnTo>
                      <a:lnTo>
                        <a:pt x="11" y="720"/>
                      </a:lnTo>
                      <a:lnTo>
                        <a:pt x="7" y="741"/>
                      </a:lnTo>
                      <a:lnTo>
                        <a:pt x="4" y="763"/>
                      </a:lnTo>
                      <a:lnTo>
                        <a:pt x="2" y="784"/>
                      </a:lnTo>
                      <a:lnTo>
                        <a:pt x="1" y="805"/>
                      </a:lnTo>
                      <a:lnTo>
                        <a:pt x="0" y="827"/>
                      </a:lnTo>
                      <a:lnTo>
                        <a:pt x="0" y="849"/>
                      </a:lnTo>
                      <a:lnTo>
                        <a:pt x="73" y="849"/>
                      </a:lnTo>
                      <a:lnTo>
                        <a:pt x="73" y="829"/>
                      </a:lnTo>
                      <a:lnTo>
                        <a:pt x="73" y="808"/>
                      </a:lnTo>
                      <a:lnTo>
                        <a:pt x="75" y="789"/>
                      </a:lnTo>
                      <a:lnTo>
                        <a:pt x="76" y="769"/>
                      </a:lnTo>
                      <a:lnTo>
                        <a:pt x="80" y="750"/>
                      </a:lnTo>
                      <a:lnTo>
                        <a:pt x="82" y="730"/>
                      </a:lnTo>
                      <a:lnTo>
                        <a:pt x="85" y="711"/>
                      </a:lnTo>
                      <a:lnTo>
                        <a:pt x="89" y="692"/>
                      </a:lnTo>
                      <a:lnTo>
                        <a:pt x="93" y="674"/>
                      </a:lnTo>
                      <a:lnTo>
                        <a:pt x="98" y="654"/>
                      </a:lnTo>
                      <a:lnTo>
                        <a:pt x="103" y="636"/>
                      </a:lnTo>
                      <a:lnTo>
                        <a:pt x="108" y="619"/>
                      </a:lnTo>
                      <a:lnTo>
                        <a:pt x="120" y="583"/>
                      </a:lnTo>
                      <a:lnTo>
                        <a:pt x="134" y="547"/>
                      </a:lnTo>
                      <a:lnTo>
                        <a:pt x="149" y="513"/>
                      </a:lnTo>
                      <a:lnTo>
                        <a:pt x="167" y="479"/>
                      </a:lnTo>
                      <a:lnTo>
                        <a:pt x="185" y="447"/>
                      </a:lnTo>
                      <a:lnTo>
                        <a:pt x="206" y="415"/>
                      </a:lnTo>
                      <a:lnTo>
                        <a:pt x="228" y="385"/>
                      </a:lnTo>
                      <a:lnTo>
                        <a:pt x="251" y="356"/>
                      </a:lnTo>
                      <a:lnTo>
                        <a:pt x="275" y="327"/>
                      </a:lnTo>
                      <a:lnTo>
                        <a:pt x="301" y="300"/>
                      </a:lnTo>
                      <a:lnTo>
                        <a:pt x="328" y="274"/>
                      </a:lnTo>
                      <a:lnTo>
                        <a:pt x="356" y="250"/>
                      </a:lnTo>
                      <a:lnTo>
                        <a:pt x="386" y="227"/>
                      </a:lnTo>
                      <a:lnTo>
                        <a:pt x="416" y="206"/>
                      </a:lnTo>
                      <a:lnTo>
                        <a:pt x="448" y="185"/>
                      </a:lnTo>
                      <a:lnTo>
                        <a:pt x="480" y="166"/>
                      </a:lnTo>
                      <a:lnTo>
                        <a:pt x="514" y="149"/>
                      </a:lnTo>
                      <a:lnTo>
                        <a:pt x="548" y="134"/>
                      </a:lnTo>
                      <a:lnTo>
                        <a:pt x="584" y="119"/>
                      </a:lnTo>
                      <a:lnTo>
                        <a:pt x="619" y="107"/>
                      </a:lnTo>
                      <a:lnTo>
                        <a:pt x="657" y="97"/>
                      </a:lnTo>
                      <a:lnTo>
                        <a:pt x="694" y="88"/>
                      </a:lnTo>
                      <a:lnTo>
                        <a:pt x="713" y="85"/>
                      </a:lnTo>
                      <a:lnTo>
                        <a:pt x="733" y="82"/>
                      </a:lnTo>
                      <a:lnTo>
                        <a:pt x="752" y="79"/>
                      </a:lnTo>
                      <a:lnTo>
                        <a:pt x="771" y="77"/>
                      </a:lnTo>
                      <a:lnTo>
                        <a:pt x="792" y="75"/>
                      </a:lnTo>
                      <a:lnTo>
                        <a:pt x="811" y="74"/>
                      </a:lnTo>
                      <a:lnTo>
                        <a:pt x="831" y="73"/>
                      </a:lnTo>
                      <a:lnTo>
                        <a:pt x="851" y="73"/>
                      </a:lnTo>
                      <a:lnTo>
                        <a:pt x="851" y="73"/>
                      </a:lnTo>
                      <a:lnTo>
                        <a:pt x="851" y="0"/>
                      </a:lnTo>
                      <a:lnTo>
                        <a:pt x="851" y="0"/>
                      </a:lnTo>
                      <a:lnTo>
                        <a:pt x="851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5837400" y="2916360"/>
                  <a:ext cx="44280" cy="44280"/>
                </a:xfrm>
                <a:custGeom>
                  <a:avLst/>
                  <a:gdLst/>
                  <a:ahLst/>
                  <a:rect l="l" t="t" r="r" b="b"/>
                  <a:pathLst>
                    <a:path w="849" h="849">
                      <a:moveTo>
                        <a:pt x="849" y="849"/>
                      </a:moveTo>
                      <a:lnTo>
                        <a:pt x="849" y="849"/>
                      </a:lnTo>
                      <a:lnTo>
                        <a:pt x="849" y="827"/>
                      </a:lnTo>
                      <a:lnTo>
                        <a:pt x="848" y="805"/>
                      </a:lnTo>
                      <a:lnTo>
                        <a:pt x="847" y="784"/>
                      </a:lnTo>
                      <a:lnTo>
                        <a:pt x="845" y="763"/>
                      </a:lnTo>
                      <a:lnTo>
                        <a:pt x="842" y="741"/>
                      </a:lnTo>
                      <a:lnTo>
                        <a:pt x="840" y="720"/>
                      </a:lnTo>
                      <a:lnTo>
                        <a:pt x="836" y="699"/>
                      </a:lnTo>
                      <a:lnTo>
                        <a:pt x="832" y="678"/>
                      </a:lnTo>
                      <a:lnTo>
                        <a:pt x="823" y="637"/>
                      </a:lnTo>
                      <a:lnTo>
                        <a:pt x="811" y="597"/>
                      </a:lnTo>
                      <a:lnTo>
                        <a:pt x="798" y="557"/>
                      </a:lnTo>
                      <a:lnTo>
                        <a:pt x="783" y="519"/>
                      </a:lnTo>
                      <a:lnTo>
                        <a:pt x="765" y="481"/>
                      </a:lnTo>
                      <a:lnTo>
                        <a:pt x="747" y="445"/>
                      </a:lnTo>
                      <a:lnTo>
                        <a:pt x="727" y="409"/>
                      </a:lnTo>
                      <a:lnTo>
                        <a:pt x="704" y="375"/>
                      </a:lnTo>
                      <a:lnTo>
                        <a:pt x="681" y="341"/>
                      </a:lnTo>
                      <a:lnTo>
                        <a:pt x="656" y="309"/>
                      </a:lnTo>
                      <a:lnTo>
                        <a:pt x="628" y="279"/>
                      </a:lnTo>
                      <a:lnTo>
                        <a:pt x="601" y="249"/>
                      </a:lnTo>
                      <a:lnTo>
                        <a:pt x="572" y="221"/>
                      </a:lnTo>
                      <a:lnTo>
                        <a:pt x="540" y="194"/>
                      </a:lnTo>
                      <a:lnTo>
                        <a:pt x="509" y="169"/>
                      </a:lnTo>
                      <a:lnTo>
                        <a:pt x="475" y="145"/>
                      </a:lnTo>
                      <a:lnTo>
                        <a:pt x="441" y="123"/>
                      </a:lnTo>
                      <a:lnTo>
                        <a:pt x="405" y="103"/>
                      </a:lnTo>
                      <a:lnTo>
                        <a:pt x="369" y="84"/>
                      </a:lnTo>
                      <a:lnTo>
                        <a:pt x="330" y="67"/>
                      </a:lnTo>
                      <a:lnTo>
                        <a:pt x="293" y="52"/>
                      </a:lnTo>
                      <a:lnTo>
                        <a:pt x="253" y="38"/>
                      </a:lnTo>
                      <a:lnTo>
                        <a:pt x="212" y="27"/>
                      </a:lnTo>
                      <a:lnTo>
                        <a:pt x="172" y="17"/>
                      </a:lnTo>
                      <a:lnTo>
                        <a:pt x="151" y="13"/>
                      </a:lnTo>
                      <a:lnTo>
                        <a:pt x="129" y="10"/>
                      </a:lnTo>
                      <a:lnTo>
                        <a:pt x="108" y="7"/>
                      </a:lnTo>
                      <a:lnTo>
                        <a:pt x="87" y="5"/>
                      </a:lnTo>
                      <a:lnTo>
                        <a:pt x="65" y="3"/>
                      </a:lnTo>
                      <a:lnTo>
                        <a:pt x="44" y="1"/>
                      </a:lnTo>
                      <a:lnTo>
                        <a:pt x="22" y="1"/>
                      </a:lnTo>
                      <a:lnTo>
                        <a:pt x="0" y="0"/>
                      </a:lnTo>
                      <a:lnTo>
                        <a:pt x="0" y="73"/>
                      </a:lnTo>
                      <a:lnTo>
                        <a:pt x="21" y="73"/>
                      </a:lnTo>
                      <a:lnTo>
                        <a:pt x="40" y="74"/>
                      </a:lnTo>
                      <a:lnTo>
                        <a:pt x="60" y="75"/>
                      </a:lnTo>
                      <a:lnTo>
                        <a:pt x="80" y="77"/>
                      </a:lnTo>
                      <a:lnTo>
                        <a:pt x="99" y="79"/>
                      </a:lnTo>
                      <a:lnTo>
                        <a:pt x="118" y="82"/>
                      </a:lnTo>
                      <a:lnTo>
                        <a:pt x="137" y="85"/>
                      </a:lnTo>
                      <a:lnTo>
                        <a:pt x="157" y="88"/>
                      </a:lnTo>
                      <a:lnTo>
                        <a:pt x="194" y="97"/>
                      </a:lnTo>
                      <a:lnTo>
                        <a:pt x="231" y="107"/>
                      </a:lnTo>
                      <a:lnTo>
                        <a:pt x="267" y="119"/>
                      </a:lnTo>
                      <a:lnTo>
                        <a:pt x="303" y="134"/>
                      </a:lnTo>
                      <a:lnTo>
                        <a:pt x="337" y="149"/>
                      </a:lnTo>
                      <a:lnTo>
                        <a:pt x="371" y="166"/>
                      </a:lnTo>
                      <a:lnTo>
                        <a:pt x="403" y="185"/>
                      </a:lnTo>
                      <a:lnTo>
                        <a:pt x="435" y="206"/>
                      </a:lnTo>
                      <a:lnTo>
                        <a:pt x="465" y="227"/>
                      </a:lnTo>
                      <a:lnTo>
                        <a:pt x="494" y="250"/>
                      </a:lnTo>
                      <a:lnTo>
                        <a:pt x="523" y="274"/>
                      </a:lnTo>
                      <a:lnTo>
                        <a:pt x="549" y="300"/>
                      </a:lnTo>
                      <a:lnTo>
                        <a:pt x="576" y="327"/>
                      </a:lnTo>
                      <a:lnTo>
                        <a:pt x="600" y="356"/>
                      </a:lnTo>
                      <a:lnTo>
                        <a:pt x="623" y="385"/>
                      </a:lnTo>
                      <a:lnTo>
                        <a:pt x="645" y="415"/>
                      </a:lnTo>
                      <a:lnTo>
                        <a:pt x="665" y="447"/>
                      </a:lnTo>
                      <a:lnTo>
                        <a:pt x="683" y="479"/>
                      </a:lnTo>
                      <a:lnTo>
                        <a:pt x="700" y="513"/>
                      </a:lnTo>
                      <a:lnTo>
                        <a:pt x="717" y="547"/>
                      </a:lnTo>
                      <a:lnTo>
                        <a:pt x="730" y="583"/>
                      </a:lnTo>
                      <a:lnTo>
                        <a:pt x="742" y="618"/>
                      </a:lnTo>
                      <a:lnTo>
                        <a:pt x="753" y="654"/>
                      </a:lnTo>
                      <a:lnTo>
                        <a:pt x="761" y="693"/>
                      </a:lnTo>
                      <a:lnTo>
                        <a:pt x="765" y="711"/>
                      </a:lnTo>
                      <a:lnTo>
                        <a:pt x="768" y="730"/>
                      </a:lnTo>
                      <a:lnTo>
                        <a:pt x="771" y="750"/>
                      </a:lnTo>
                      <a:lnTo>
                        <a:pt x="773" y="769"/>
                      </a:lnTo>
                      <a:lnTo>
                        <a:pt x="774" y="789"/>
                      </a:lnTo>
                      <a:lnTo>
                        <a:pt x="776" y="809"/>
                      </a:lnTo>
                      <a:lnTo>
                        <a:pt x="776" y="829"/>
                      </a:lnTo>
                      <a:lnTo>
                        <a:pt x="777" y="849"/>
                      </a:lnTo>
                      <a:lnTo>
                        <a:pt x="777" y="849"/>
                      </a:lnTo>
                      <a:lnTo>
                        <a:pt x="849" y="849"/>
                      </a:lnTo>
                      <a:lnTo>
                        <a:pt x="849" y="849"/>
                      </a:lnTo>
                      <a:lnTo>
                        <a:pt x="849" y="849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5427720" y="2949480"/>
                  <a:ext cx="44280" cy="44640"/>
                </a:xfrm>
                <a:custGeom>
                  <a:avLst/>
                  <a:gdLst/>
                  <a:ahLst/>
                  <a:rect l="l" t="t" r="r" b="b"/>
                  <a:pathLst>
                    <a:path w="840" h="839">
                      <a:moveTo>
                        <a:pt x="840" y="420"/>
                      </a:moveTo>
                      <a:lnTo>
                        <a:pt x="840" y="441"/>
                      </a:lnTo>
                      <a:lnTo>
                        <a:pt x="838" y="462"/>
                      </a:lnTo>
                      <a:lnTo>
                        <a:pt x="836" y="484"/>
                      </a:lnTo>
                      <a:lnTo>
                        <a:pt x="832" y="504"/>
                      </a:lnTo>
                      <a:lnTo>
                        <a:pt x="827" y="524"/>
                      </a:lnTo>
                      <a:lnTo>
                        <a:pt x="822" y="544"/>
                      </a:lnTo>
                      <a:lnTo>
                        <a:pt x="815" y="564"/>
                      </a:lnTo>
                      <a:lnTo>
                        <a:pt x="808" y="583"/>
                      </a:lnTo>
                      <a:lnTo>
                        <a:pt x="799" y="601"/>
                      </a:lnTo>
                      <a:lnTo>
                        <a:pt x="789" y="619"/>
                      </a:lnTo>
                      <a:lnTo>
                        <a:pt x="779" y="638"/>
                      </a:lnTo>
                      <a:lnTo>
                        <a:pt x="769" y="654"/>
                      </a:lnTo>
                      <a:lnTo>
                        <a:pt x="757" y="671"/>
                      </a:lnTo>
                      <a:lnTo>
                        <a:pt x="745" y="686"/>
                      </a:lnTo>
                      <a:lnTo>
                        <a:pt x="731" y="701"/>
                      </a:lnTo>
                      <a:lnTo>
                        <a:pt x="717" y="717"/>
                      </a:lnTo>
                      <a:lnTo>
                        <a:pt x="703" y="730"/>
                      </a:lnTo>
                      <a:lnTo>
                        <a:pt x="688" y="743"/>
                      </a:lnTo>
                      <a:lnTo>
                        <a:pt x="672" y="756"/>
                      </a:lnTo>
                      <a:lnTo>
                        <a:pt x="655" y="767"/>
                      </a:lnTo>
                      <a:lnTo>
                        <a:pt x="638" y="778"/>
                      </a:lnTo>
                      <a:lnTo>
                        <a:pt x="621" y="789"/>
                      </a:lnTo>
                      <a:lnTo>
                        <a:pt x="603" y="798"/>
                      </a:lnTo>
                      <a:lnTo>
                        <a:pt x="583" y="806"/>
                      </a:lnTo>
                      <a:lnTo>
                        <a:pt x="565" y="814"/>
                      </a:lnTo>
                      <a:lnTo>
                        <a:pt x="545" y="820"/>
                      </a:lnTo>
                      <a:lnTo>
                        <a:pt x="526" y="826"/>
                      </a:lnTo>
                      <a:lnTo>
                        <a:pt x="505" y="831"/>
                      </a:lnTo>
                      <a:lnTo>
                        <a:pt x="484" y="834"/>
                      </a:lnTo>
                      <a:lnTo>
                        <a:pt x="463" y="837"/>
                      </a:lnTo>
                      <a:lnTo>
                        <a:pt x="441" y="838"/>
                      </a:lnTo>
                      <a:lnTo>
                        <a:pt x="420" y="839"/>
                      </a:lnTo>
                      <a:lnTo>
                        <a:pt x="399" y="838"/>
                      </a:lnTo>
                      <a:lnTo>
                        <a:pt x="377" y="837"/>
                      </a:lnTo>
                      <a:lnTo>
                        <a:pt x="356" y="834"/>
                      </a:lnTo>
                      <a:lnTo>
                        <a:pt x="336" y="831"/>
                      </a:lnTo>
                      <a:lnTo>
                        <a:pt x="316" y="826"/>
                      </a:lnTo>
                      <a:lnTo>
                        <a:pt x="295" y="820"/>
                      </a:lnTo>
                      <a:lnTo>
                        <a:pt x="276" y="814"/>
                      </a:lnTo>
                      <a:lnTo>
                        <a:pt x="257" y="806"/>
                      </a:lnTo>
                      <a:lnTo>
                        <a:pt x="238" y="798"/>
                      </a:lnTo>
                      <a:lnTo>
                        <a:pt x="220" y="789"/>
                      </a:lnTo>
                      <a:lnTo>
                        <a:pt x="202" y="778"/>
                      </a:lnTo>
                      <a:lnTo>
                        <a:pt x="186" y="767"/>
                      </a:lnTo>
                      <a:lnTo>
                        <a:pt x="168" y="756"/>
                      </a:lnTo>
                      <a:lnTo>
                        <a:pt x="153" y="743"/>
                      </a:lnTo>
                      <a:lnTo>
                        <a:pt x="138" y="730"/>
                      </a:lnTo>
                      <a:lnTo>
                        <a:pt x="123" y="717"/>
                      </a:lnTo>
                      <a:lnTo>
                        <a:pt x="110" y="701"/>
                      </a:lnTo>
                      <a:lnTo>
                        <a:pt x="96" y="686"/>
                      </a:lnTo>
                      <a:lnTo>
                        <a:pt x="83" y="671"/>
                      </a:lnTo>
                      <a:lnTo>
                        <a:pt x="72" y="654"/>
                      </a:lnTo>
                      <a:lnTo>
                        <a:pt x="61" y="638"/>
                      </a:lnTo>
                      <a:lnTo>
                        <a:pt x="51" y="619"/>
                      </a:lnTo>
                      <a:lnTo>
                        <a:pt x="42" y="601"/>
                      </a:lnTo>
                      <a:lnTo>
                        <a:pt x="34" y="583"/>
                      </a:lnTo>
                      <a:lnTo>
                        <a:pt x="25" y="564"/>
                      </a:lnTo>
                      <a:lnTo>
                        <a:pt x="19" y="544"/>
                      </a:lnTo>
                      <a:lnTo>
                        <a:pt x="13" y="524"/>
                      </a:lnTo>
                      <a:lnTo>
                        <a:pt x="9" y="504"/>
                      </a:lnTo>
                      <a:lnTo>
                        <a:pt x="5" y="484"/>
                      </a:lnTo>
                      <a:lnTo>
                        <a:pt x="2" y="462"/>
                      </a:lnTo>
                      <a:lnTo>
                        <a:pt x="1" y="441"/>
                      </a:lnTo>
                      <a:lnTo>
                        <a:pt x="0" y="420"/>
                      </a:lnTo>
                      <a:lnTo>
                        <a:pt x="1" y="398"/>
                      </a:lnTo>
                      <a:lnTo>
                        <a:pt x="2" y="377"/>
                      </a:lnTo>
                      <a:lnTo>
                        <a:pt x="5" y="356"/>
                      </a:lnTo>
                      <a:lnTo>
                        <a:pt x="9" y="335"/>
                      </a:lnTo>
                      <a:lnTo>
                        <a:pt x="13" y="314"/>
                      </a:lnTo>
                      <a:lnTo>
                        <a:pt x="19" y="295"/>
                      </a:lnTo>
                      <a:lnTo>
                        <a:pt x="25" y="276"/>
                      </a:lnTo>
                      <a:lnTo>
                        <a:pt x="34" y="257"/>
                      </a:lnTo>
                      <a:lnTo>
                        <a:pt x="42" y="237"/>
                      </a:lnTo>
                      <a:lnTo>
                        <a:pt x="51" y="220"/>
                      </a:lnTo>
                      <a:lnTo>
                        <a:pt x="61" y="202"/>
                      </a:lnTo>
                      <a:lnTo>
                        <a:pt x="72" y="186"/>
                      </a:lnTo>
                      <a:lnTo>
                        <a:pt x="83" y="168"/>
                      </a:lnTo>
                      <a:lnTo>
                        <a:pt x="96" y="153"/>
                      </a:lnTo>
                      <a:lnTo>
                        <a:pt x="110" y="138"/>
                      </a:lnTo>
                      <a:lnTo>
                        <a:pt x="123" y="123"/>
                      </a:lnTo>
                      <a:lnTo>
                        <a:pt x="138" y="110"/>
                      </a:lnTo>
                      <a:lnTo>
                        <a:pt x="153" y="97"/>
                      </a:lnTo>
                      <a:lnTo>
                        <a:pt x="168" y="83"/>
                      </a:lnTo>
                      <a:lnTo>
                        <a:pt x="186" y="72"/>
                      </a:lnTo>
                      <a:lnTo>
                        <a:pt x="202" y="61"/>
                      </a:lnTo>
                      <a:lnTo>
                        <a:pt x="220" y="51"/>
                      </a:lnTo>
                      <a:lnTo>
                        <a:pt x="238" y="42"/>
                      </a:lnTo>
                      <a:lnTo>
                        <a:pt x="257" y="34"/>
                      </a:lnTo>
                      <a:lnTo>
                        <a:pt x="276" y="26"/>
                      </a:lnTo>
                      <a:lnTo>
                        <a:pt x="295" y="20"/>
                      </a:lnTo>
                      <a:lnTo>
                        <a:pt x="316" y="13"/>
                      </a:lnTo>
                      <a:lnTo>
                        <a:pt x="336" y="9"/>
                      </a:lnTo>
                      <a:lnTo>
                        <a:pt x="356" y="5"/>
                      </a:lnTo>
                      <a:lnTo>
                        <a:pt x="377" y="2"/>
                      </a:lnTo>
                      <a:lnTo>
                        <a:pt x="399" y="1"/>
                      </a:lnTo>
                      <a:lnTo>
                        <a:pt x="420" y="0"/>
                      </a:lnTo>
                      <a:lnTo>
                        <a:pt x="441" y="1"/>
                      </a:lnTo>
                      <a:lnTo>
                        <a:pt x="463" y="2"/>
                      </a:lnTo>
                      <a:lnTo>
                        <a:pt x="484" y="5"/>
                      </a:lnTo>
                      <a:lnTo>
                        <a:pt x="505" y="9"/>
                      </a:lnTo>
                      <a:lnTo>
                        <a:pt x="526" y="13"/>
                      </a:lnTo>
                      <a:lnTo>
                        <a:pt x="545" y="20"/>
                      </a:lnTo>
                      <a:lnTo>
                        <a:pt x="565" y="26"/>
                      </a:lnTo>
                      <a:lnTo>
                        <a:pt x="583" y="34"/>
                      </a:lnTo>
                      <a:lnTo>
                        <a:pt x="603" y="42"/>
                      </a:lnTo>
                      <a:lnTo>
                        <a:pt x="621" y="51"/>
                      </a:lnTo>
                      <a:lnTo>
                        <a:pt x="638" y="61"/>
                      </a:lnTo>
                      <a:lnTo>
                        <a:pt x="655" y="72"/>
                      </a:lnTo>
                      <a:lnTo>
                        <a:pt x="672" y="83"/>
                      </a:lnTo>
                      <a:lnTo>
                        <a:pt x="688" y="97"/>
                      </a:lnTo>
                      <a:lnTo>
                        <a:pt x="703" y="110"/>
                      </a:lnTo>
                      <a:lnTo>
                        <a:pt x="717" y="123"/>
                      </a:lnTo>
                      <a:lnTo>
                        <a:pt x="731" y="138"/>
                      </a:lnTo>
                      <a:lnTo>
                        <a:pt x="745" y="153"/>
                      </a:lnTo>
                      <a:lnTo>
                        <a:pt x="757" y="168"/>
                      </a:lnTo>
                      <a:lnTo>
                        <a:pt x="769" y="186"/>
                      </a:lnTo>
                      <a:lnTo>
                        <a:pt x="779" y="202"/>
                      </a:lnTo>
                      <a:lnTo>
                        <a:pt x="789" y="220"/>
                      </a:lnTo>
                      <a:lnTo>
                        <a:pt x="799" y="237"/>
                      </a:lnTo>
                      <a:lnTo>
                        <a:pt x="808" y="257"/>
                      </a:lnTo>
                      <a:lnTo>
                        <a:pt x="815" y="276"/>
                      </a:lnTo>
                      <a:lnTo>
                        <a:pt x="822" y="295"/>
                      </a:lnTo>
                      <a:lnTo>
                        <a:pt x="827" y="314"/>
                      </a:lnTo>
                      <a:lnTo>
                        <a:pt x="832" y="335"/>
                      </a:lnTo>
                      <a:lnTo>
                        <a:pt x="836" y="356"/>
                      </a:lnTo>
                      <a:lnTo>
                        <a:pt x="838" y="377"/>
                      </a:lnTo>
                      <a:lnTo>
                        <a:pt x="840" y="398"/>
                      </a:lnTo>
                      <a:lnTo>
                        <a:pt x="840" y="420"/>
                      </a:lnTo>
                      <a:close/>
                    </a:path>
                  </a:pathLst>
                </a:custGeom>
                <a:solidFill>
                  <a:srgbClr val="c8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5450040" y="2971800"/>
                  <a:ext cx="25200" cy="23760"/>
                </a:xfrm>
                <a:custGeom>
                  <a:avLst/>
                  <a:gdLst/>
                  <a:ahLst/>
                  <a:rect l="l" t="t" r="r" b="b"/>
                  <a:pathLst>
                    <a:path w="456" h="456">
                      <a:moveTo>
                        <a:pt x="0" y="456"/>
                      </a:moveTo>
                      <a:lnTo>
                        <a:pt x="0" y="456"/>
                      </a:lnTo>
                      <a:lnTo>
                        <a:pt x="23" y="455"/>
                      </a:lnTo>
                      <a:lnTo>
                        <a:pt x="47" y="453"/>
                      </a:lnTo>
                      <a:lnTo>
                        <a:pt x="69" y="451"/>
                      </a:lnTo>
                      <a:lnTo>
                        <a:pt x="92" y="447"/>
                      </a:lnTo>
                      <a:lnTo>
                        <a:pt x="114" y="442"/>
                      </a:lnTo>
                      <a:lnTo>
                        <a:pt x="136" y="434"/>
                      </a:lnTo>
                      <a:lnTo>
                        <a:pt x="157" y="427"/>
                      </a:lnTo>
                      <a:lnTo>
                        <a:pt x="178" y="419"/>
                      </a:lnTo>
                      <a:lnTo>
                        <a:pt x="198" y="410"/>
                      </a:lnTo>
                      <a:lnTo>
                        <a:pt x="218" y="400"/>
                      </a:lnTo>
                      <a:lnTo>
                        <a:pt x="236" y="390"/>
                      </a:lnTo>
                      <a:lnTo>
                        <a:pt x="256" y="378"/>
                      </a:lnTo>
                      <a:lnTo>
                        <a:pt x="273" y="365"/>
                      </a:lnTo>
                      <a:lnTo>
                        <a:pt x="290" y="351"/>
                      </a:lnTo>
                      <a:lnTo>
                        <a:pt x="307" y="337"/>
                      </a:lnTo>
                      <a:lnTo>
                        <a:pt x="323" y="322"/>
                      </a:lnTo>
                      <a:lnTo>
                        <a:pt x="338" y="306"/>
                      </a:lnTo>
                      <a:lnTo>
                        <a:pt x="352" y="290"/>
                      </a:lnTo>
                      <a:lnTo>
                        <a:pt x="366" y="272"/>
                      </a:lnTo>
                      <a:lnTo>
                        <a:pt x="378" y="254"/>
                      </a:lnTo>
                      <a:lnTo>
                        <a:pt x="391" y="236"/>
                      </a:lnTo>
                      <a:lnTo>
                        <a:pt x="402" y="217"/>
                      </a:lnTo>
                      <a:lnTo>
                        <a:pt x="412" y="197"/>
                      </a:lnTo>
                      <a:lnTo>
                        <a:pt x="421" y="177"/>
                      </a:lnTo>
                      <a:lnTo>
                        <a:pt x="429" y="157"/>
                      </a:lnTo>
                      <a:lnTo>
                        <a:pt x="436" y="136"/>
                      </a:lnTo>
                      <a:lnTo>
                        <a:pt x="442" y="113"/>
                      </a:lnTo>
                      <a:lnTo>
                        <a:pt x="447" y="91"/>
                      </a:lnTo>
                      <a:lnTo>
                        <a:pt x="451" y="69"/>
                      </a:lnTo>
                      <a:lnTo>
                        <a:pt x="454" y="46"/>
                      </a:lnTo>
                      <a:lnTo>
                        <a:pt x="455" y="23"/>
                      </a:lnTo>
                      <a:lnTo>
                        <a:pt x="456" y="0"/>
                      </a:lnTo>
                      <a:lnTo>
                        <a:pt x="384" y="0"/>
                      </a:lnTo>
                      <a:lnTo>
                        <a:pt x="383" y="19"/>
                      </a:lnTo>
                      <a:lnTo>
                        <a:pt x="382" y="39"/>
                      </a:lnTo>
                      <a:lnTo>
                        <a:pt x="379" y="59"/>
                      </a:lnTo>
                      <a:lnTo>
                        <a:pt x="376" y="77"/>
                      </a:lnTo>
                      <a:lnTo>
                        <a:pt x="372" y="96"/>
                      </a:lnTo>
                      <a:lnTo>
                        <a:pt x="367" y="113"/>
                      </a:lnTo>
                      <a:lnTo>
                        <a:pt x="361" y="131"/>
                      </a:lnTo>
                      <a:lnTo>
                        <a:pt x="354" y="149"/>
                      </a:lnTo>
                      <a:lnTo>
                        <a:pt x="346" y="166"/>
                      </a:lnTo>
                      <a:lnTo>
                        <a:pt x="338" y="182"/>
                      </a:lnTo>
                      <a:lnTo>
                        <a:pt x="329" y="198"/>
                      </a:lnTo>
                      <a:lnTo>
                        <a:pt x="319" y="214"/>
                      </a:lnTo>
                      <a:lnTo>
                        <a:pt x="308" y="229"/>
                      </a:lnTo>
                      <a:lnTo>
                        <a:pt x="296" y="244"/>
                      </a:lnTo>
                      <a:lnTo>
                        <a:pt x="284" y="257"/>
                      </a:lnTo>
                      <a:lnTo>
                        <a:pt x="272" y="270"/>
                      </a:lnTo>
                      <a:lnTo>
                        <a:pt x="259" y="283"/>
                      </a:lnTo>
                      <a:lnTo>
                        <a:pt x="244" y="296"/>
                      </a:lnTo>
                      <a:lnTo>
                        <a:pt x="230" y="307"/>
                      </a:lnTo>
                      <a:lnTo>
                        <a:pt x="215" y="318"/>
                      </a:lnTo>
                      <a:lnTo>
                        <a:pt x="199" y="328"/>
                      </a:lnTo>
                      <a:lnTo>
                        <a:pt x="184" y="337"/>
                      </a:lnTo>
                      <a:lnTo>
                        <a:pt x="166" y="345"/>
                      </a:lnTo>
                      <a:lnTo>
                        <a:pt x="150" y="353"/>
                      </a:lnTo>
                      <a:lnTo>
                        <a:pt x="132" y="359"/>
                      </a:lnTo>
                      <a:lnTo>
                        <a:pt x="115" y="366"/>
                      </a:lnTo>
                      <a:lnTo>
                        <a:pt x="96" y="371"/>
                      </a:lnTo>
                      <a:lnTo>
                        <a:pt x="77" y="376"/>
                      </a:lnTo>
                      <a:lnTo>
                        <a:pt x="59" y="379"/>
                      </a:lnTo>
                      <a:lnTo>
                        <a:pt x="40" y="381"/>
                      </a:lnTo>
                      <a:lnTo>
                        <a:pt x="20" y="383"/>
                      </a:lnTo>
                      <a:lnTo>
                        <a:pt x="0" y="383"/>
                      </a:lnTo>
                      <a:lnTo>
                        <a:pt x="0" y="383"/>
                      </a:lnTo>
                      <a:lnTo>
                        <a:pt x="0" y="456"/>
                      </a:lnTo>
                      <a:lnTo>
                        <a:pt x="0" y="456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5425920" y="2971800"/>
                  <a:ext cx="24120" cy="23760"/>
                </a:xfrm>
                <a:custGeom>
                  <a:avLst/>
                  <a:gdLst/>
                  <a:ahLst/>
                  <a:rect l="l" t="t" r="r" b="b"/>
                  <a:pathLst>
                    <a:path w="455" h="45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2" y="46"/>
                      </a:lnTo>
                      <a:lnTo>
                        <a:pt x="5" y="69"/>
                      </a:lnTo>
                      <a:lnTo>
                        <a:pt x="9" y="91"/>
                      </a:lnTo>
                      <a:lnTo>
                        <a:pt x="14" y="113"/>
                      </a:lnTo>
                      <a:lnTo>
                        <a:pt x="20" y="136"/>
                      </a:lnTo>
                      <a:lnTo>
                        <a:pt x="27" y="157"/>
                      </a:lnTo>
                      <a:lnTo>
                        <a:pt x="35" y="177"/>
                      </a:lnTo>
                      <a:lnTo>
                        <a:pt x="44" y="197"/>
                      </a:lnTo>
                      <a:lnTo>
                        <a:pt x="54" y="217"/>
                      </a:lnTo>
                      <a:lnTo>
                        <a:pt x="65" y="236"/>
                      </a:lnTo>
                      <a:lnTo>
                        <a:pt x="77" y="254"/>
                      </a:lnTo>
                      <a:lnTo>
                        <a:pt x="90" y="272"/>
                      </a:lnTo>
                      <a:lnTo>
                        <a:pt x="103" y="290"/>
                      </a:lnTo>
                      <a:lnTo>
                        <a:pt x="117" y="306"/>
                      </a:lnTo>
                      <a:lnTo>
                        <a:pt x="132" y="322"/>
                      </a:lnTo>
                      <a:lnTo>
                        <a:pt x="149" y="337"/>
                      </a:lnTo>
                      <a:lnTo>
                        <a:pt x="165" y="351"/>
                      </a:lnTo>
                      <a:lnTo>
                        <a:pt x="182" y="365"/>
                      </a:lnTo>
                      <a:lnTo>
                        <a:pt x="200" y="378"/>
                      </a:lnTo>
                      <a:lnTo>
                        <a:pt x="219" y="390"/>
                      </a:lnTo>
                      <a:lnTo>
                        <a:pt x="238" y="400"/>
                      </a:lnTo>
                      <a:lnTo>
                        <a:pt x="257" y="410"/>
                      </a:lnTo>
                      <a:lnTo>
                        <a:pt x="278" y="419"/>
                      </a:lnTo>
                      <a:lnTo>
                        <a:pt x="299" y="427"/>
                      </a:lnTo>
                      <a:lnTo>
                        <a:pt x="319" y="434"/>
                      </a:lnTo>
                      <a:lnTo>
                        <a:pt x="341" y="442"/>
                      </a:lnTo>
                      <a:lnTo>
                        <a:pt x="364" y="447"/>
                      </a:lnTo>
                      <a:lnTo>
                        <a:pt x="386" y="451"/>
                      </a:lnTo>
                      <a:lnTo>
                        <a:pt x="408" y="453"/>
                      </a:lnTo>
                      <a:lnTo>
                        <a:pt x="432" y="455"/>
                      </a:lnTo>
                      <a:lnTo>
                        <a:pt x="455" y="456"/>
                      </a:lnTo>
                      <a:lnTo>
                        <a:pt x="455" y="383"/>
                      </a:lnTo>
                      <a:lnTo>
                        <a:pt x="435" y="383"/>
                      </a:lnTo>
                      <a:lnTo>
                        <a:pt x="415" y="381"/>
                      </a:lnTo>
                      <a:lnTo>
                        <a:pt x="396" y="379"/>
                      </a:lnTo>
                      <a:lnTo>
                        <a:pt x="378" y="376"/>
                      </a:lnTo>
                      <a:lnTo>
                        <a:pt x="359" y="371"/>
                      </a:lnTo>
                      <a:lnTo>
                        <a:pt x="341" y="366"/>
                      </a:lnTo>
                      <a:lnTo>
                        <a:pt x="323" y="359"/>
                      </a:lnTo>
                      <a:lnTo>
                        <a:pt x="306" y="353"/>
                      </a:lnTo>
                      <a:lnTo>
                        <a:pt x="289" y="345"/>
                      </a:lnTo>
                      <a:lnTo>
                        <a:pt x="272" y="337"/>
                      </a:lnTo>
                      <a:lnTo>
                        <a:pt x="256" y="328"/>
                      </a:lnTo>
                      <a:lnTo>
                        <a:pt x="241" y="318"/>
                      </a:lnTo>
                      <a:lnTo>
                        <a:pt x="226" y="307"/>
                      </a:lnTo>
                      <a:lnTo>
                        <a:pt x="212" y="296"/>
                      </a:lnTo>
                      <a:lnTo>
                        <a:pt x="197" y="283"/>
                      </a:lnTo>
                      <a:lnTo>
                        <a:pt x="184" y="271"/>
                      </a:lnTo>
                      <a:lnTo>
                        <a:pt x="171" y="257"/>
                      </a:lnTo>
                      <a:lnTo>
                        <a:pt x="159" y="244"/>
                      </a:lnTo>
                      <a:lnTo>
                        <a:pt x="148" y="229"/>
                      </a:lnTo>
                      <a:lnTo>
                        <a:pt x="138" y="214"/>
                      </a:lnTo>
                      <a:lnTo>
                        <a:pt x="127" y="198"/>
                      </a:lnTo>
                      <a:lnTo>
                        <a:pt x="118" y="182"/>
                      </a:lnTo>
                      <a:lnTo>
                        <a:pt x="109" y="166"/>
                      </a:lnTo>
                      <a:lnTo>
                        <a:pt x="102" y="149"/>
                      </a:lnTo>
                      <a:lnTo>
                        <a:pt x="95" y="131"/>
                      </a:lnTo>
                      <a:lnTo>
                        <a:pt x="89" y="113"/>
                      </a:lnTo>
                      <a:lnTo>
                        <a:pt x="84" y="96"/>
                      </a:lnTo>
                      <a:lnTo>
                        <a:pt x="80" y="77"/>
                      </a:lnTo>
                      <a:lnTo>
                        <a:pt x="76" y="59"/>
                      </a:lnTo>
                      <a:lnTo>
                        <a:pt x="74" y="39"/>
                      </a:lnTo>
                      <a:lnTo>
                        <a:pt x="72" y="19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5425920" y="2948040"/>
                  <a:ext cx="24120" cy="23760"/>
                </a:xfrm>
                <a:custGeom>
                  <a:avLst/>
                  <a:gdLst/>
                  <a:ahLst/>
                  <a:rect l="l" t="t" r="r" b="b"/>
                  <a:pathLst>
                    <a:path w="455" h="456">
                      <a:moveTo>
                        <a:pt x="455" y="0"/>
                      </a:moveTo>
                      <a:lnTo>
                        <a:pt x="455" y="0"/>
                      </a:lnTo>
                      <a:lnTo>
                        <a:pt x="432" y="1"/>
                      </a:lnTo>
                      <a:lnTo>
                        <a:pt x="408" y="3"/>
                      </a:lnTo>
                      <a:lnTo>
                        <a:pt x="386" y="6"/>
                      </a:lnTo>
                      <a:lnTo>
                        <a:pt x="364" y="10"/>
                      </a:lnTo>
                      <a:lnTo>
                        <a:pt x="341" y="15"/>
                      </a:lnTo>
                      <a:lnTo>
                        <a:pt x="319" y="21"/>
                      </a:lnTo>
                      <a:lnTo>
                        <a:pt x="299" y="28"/>
                      </a:lnTo>
                      <a:lnTo>
                        <a:pt x="278" y="36"/>
                      </a:lnTo>
                      <a:lnTo>
                        <a:pt x="257" y="45"/>
                      </a:lnTo>
                      <a:lnTo>
                        <a:pt x="238" y="56"/>
                      </a:lnTo>
                      <a:lnTo>
                        <a:pt x="219" y="67"/>
                      </a:lnTo>
                      <a:lnTo>
                        <a:pt x="200" y="78"/>
                      </a:lnTo>
                      <a:lnTo>
                        <a:pt x="182" y="91"/>
                      </a:lnTo>
                      <a:lnTo>
                        <a:pt x="165" y="104"/>
                      </a:lnTo>
                      <a:lnTo>
                        <a:pt x="149" y="118"/>
                      </a:lnTo>
                      <a:lnTo>
                        <a:pt x="132" y="134"/>
                      </a:lnTo>
                      <a:lnTo>
                        <a:pt x="117" y="150"/>
                      </a:lnTo>
                      <a:lnTo>
                        <a:pt x="103" y="166"/>
                      </a:lnTo>
                      <a:lnTo>
                        <a:pt x="90" y="183"/>
                      </a:lnTo>
                      <a:lnTo>
                        <a:pt x="77" y="201"/>
                      </a:lnTo>
                      <a:lnTo>
                        <a:pt x="65" y="220"/>
                      </a:lnTo>
                      <a:lnTo>
                        <a:pt x="54" y="239"/>
                      </a:lnTo>
                      <a:lnTo>
                        <a:pt x="44" y="258"/>
                      </a:lnTo>
                      <a:lnTo>
                        <a:pt x="35" y="278"/>
                      </a:lnTo>
                      <a:lnTo>
                        <a:pt x="27" y="299"/>
                      </a:lnTo>
                      <a:lnTo>
                        <a:pt x="20" y="320"/>
                      </a:lnTo>
                      <a:lnTo>
                        <a:pt x="14" y="342"/>
                      </a:lnTo>
                      <a:lnTo>
                        <a:pt x="9" y="364"/>
                      </a:lnTo>
                      <a:lnTo>
                        <a:pt x="5" y="387"/>
                      </a:lnTo>
                      <a:lnTo>
                        <a:pt x="2" y="409"/>
                      </a:lnTo>
                      <a:lnTo>
                        <a:pt x="0" y="432"/>
                      </a:lnTo>
                      <a:lnTo>
                        <a:pt x="0" y="456"/>
                      </a:lnTo>
                      <a:lnTo>
                        <a:pt x="72" y="456"/>
                      </a:lnTo>
                      <a:lnTo>
                        <a:pt x="72" y="435"/>
                      </a:lnTo>
                      <a:lnTo>
                        <a:pt x="74" y="416"/>
                      </a:lnTo>
                      <a:lnTo>
                        <a:pt x="76" y="397"/>
                      </a:lnTo>
                      <a:lnTo>
                        <a:pt x="80" y="379"/>
                      </a:lnTo>
                      <a:lnTo>
                        <a:pt x="84" y="359"/>
                      </a:lnTo>
                      <a:lnTo>
                        <a:pt x="89" y="341"/>
                      </a:lnTo>
                      <a:lnTo>
                        <a:pt x="95" y="324"/>
                      </a:lnTo>
                      <a:lnTo>
                        <a:pt x="102" y="307"/>
                      </a:lnTo>
                      <a:lnTo>
                        <a:pt x="109" y="290"/>
                      </a:lnTo>
                      <a:lnTo>
                        <a:pt x="118" y="273"/>
                      </a:lnTo>
                      <a:lnTo>
                        <a:pt x="127" y="257"/>
                      </a:lnTo>
                      <a:lnTo>
                        <a:pt x="138" y="241"/>
                      </a:lnTo>
                      <a:lnTo>
                        <a:pt x="148" y="227"/>
                      </a:lnTo>
                      <a:lnTo>
                        <a:pt x="159" y="212"/>
                      </a:lnTo>
                      <a:lnTo>
                        <a:pt x="171" y="198"/>
                      </a:lnTo>
                      <a:lnTo>
                        <a:pt x="184" y="185"/>
                      </a:lnTo>
                      <a:lnTo>
                        <a:pt x="197" y="172"/>
                      </a:lnTo>
                      <a:lnTo>
                        <a:pt x="212" y="160"/>
                      </a:lnTo>
                      <a:lnTo>
                        <a:pt x="226" y="149"/>
                      </a:lnTo>
                      <a:lnTo>
                        <a:pt x="241" y="138"/>
                      </a:lnTo>
                      <a:lnTo>
                        <a:pt x="256" y="127"/>
                      </a:lnTo>
                      <a:lnTo>
                        <a:pt x="272" y="118"/>
                      </a:lnTo>
                      <a:lnTo>
                        <a:pt x="289" y="110"/>
                      </a:lnTo>
                      <a:lnTo>
                        <a:pt x="306" y="102"/>
                      </a:lnTo>
                      <a:lnTo>
                        <a:pt x="323" y="96"/>
                      </a:lnTo>
                      <a:lnTo>
                        <a:pt x="341" y="90"/>
                      </a:lnTo>
                      <a:lnTo>
                        <a:pt x="359" y="85"/>
                      </a:lnTo>
                      <a:lnTo>
                        <a:pt x="378" y="80"/>
                      </a:lnTo>
                      <a:lnTo>
                        <a:pt x="396" y="77"/>
                      </a:lnTo>
                      <a:lnTo>
                        <a:pt x="415" y="75"/>
                      </a:lnTo>
                      <a:lnTo>
                        <a:pt x="435" y="73"/>
                      </a:lnTo>
                      <a:lnTo>
                        <a:pt x="455" y="73"/>
                      </a:lnTo>
                      <a:lnTo>
                        <a:pt x="455" y="73"/>
                      </a:lnTo>
                      <a:lnTo>
                        <a:pt x="455" y="0"/>
                      </a:lnTo>
                      <a:lnTo>
                        <a:pt x="455" y="0"/>
                      </a:lnTo>
                      <a:lnTo>
                        <a:pt x="455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5450040" y="2948040"/>
                  <a:ext cx="25200" cy="23760"/>
                </a:xfrm>
                <a:custGeom>
                  <a:avLst/>
                  <a:gdLst/>
                  <a:ahLst/>
                  <a:rect l="l" t="t" r="r" b="b"/>
                  <a:pathLst>
                    <a:path w="456" h="456">
                      <a:moveTo>
                        <a:pt x="456" y="456"/>
                      </a:moveTo>
                      <a:lnTo>
                        <a:pt x="456" y="456"/>
                      </a:lnTo>
                      <a:lnTo>
                        <a:pt x="455" y="432"/>
                      </a:lnTo>
                      <a:lnTo>
                        <a:pt x="454" y="409"/>
                      </a:lnTo>
                      <a:lnTo>
                        <a:pt x="451" y="387"/>
                      </a:lnTo>
                      <a:lnTo>
                        <a:pt x="447" y="364"/>
                      </a:lnTo>
                      <a:lnTo>
                        <a:pt x="442" y="342"/>
                      </a:lnTo>
                      <a:lnTo>
                        <a:pt x="436" y="320"/>
                      </a:lnTo>
                      <a:lnTo>
                        <a:pt x="429" y="299"/>
                      </a:lnTo>
                      <a:lnTo>
                        <a:pt x="421" y="278"/>
                      </a:lnTo>
                      <a:lnTo>
                        <a:pt x="412" y="258"/>
                      </a:lnTo>
                      <a:lnTo>
                        <a:pt x="402" y="239"/>
                      </a:lnTo>
                      <a:lnTo>
                        <a:pt x="391" y="220"/>
                      </a:lnTo>
                      <a:lnTo>
                        <a:pt x="378" y="201"/>
                      </a:lnTo>
                      <a:lnTo>
                        <a:pt x="366" y="183"/>
                      </a:lnTo>
                      <a:lnTo>
                        <a:pt x="352" y="166"/>
                      </a:lnTo>
                      <a:lnTo>
                        <a:pt x="338" y="150"/>
                      </a:lnTo>
                      <a:lnTo>
                        <a:pt x="323" y="134"/>
                      </a:lnTo>
                      <a:lnTo>
                        <a:pt x="307" y="118"/>
                      </a:lnTo>
                      <a:lnTo>
                        <a:pt x="290" y="104"/>
                      </a:lnTo>
                      <a:lnTo>
                        <a:pt x="273" y="91"/>
                      </a:lnTo>
                      <a:lnTo>
                        <a:pt x="256" y="78"/>
                      </a:lnTo>
                      <a:lnTo>
                        <a:pt x="236" y="66"/>
                      </a:lnTo>
                      <a:lnTo>
                        <a:pt x="218" y="56"/>
                      </a:lnTo>
                      <a:lnTo>
                        <a:pt x="198" y="45"/>
                      </a:lnTo>
                      <a:lnTo>
                        <a:pt x="178" y="36"/>
                      </a:lnTo>
                      <a:lnTo>
                        <a:pt x="157" y="28"/>
                      </a:lnTo>
                      <a:lnTo>
                        <a:pt x="136" y="21"/>
                      </a:lnTo>
                      <a:lnTo>
                        <a:pt x="114" y="15"/>
                      </a:lnTo>
                      <a:lnTo>
                        <a:pt x="92" y="10"/>
                      </a:lnTo>
                      <a:lnTo>
                        <a:pt x="69" y="6"/>
                      </a:lnTo>
                      <a:lnTo>
                        <a:pt x="47" y="3"/>
                      </a:lnTo>
                      <a:lnTo>
                        <a:pt x="23" y="1"/>
                      </a:lnTo>
                      <a:lnTo>
                        <a:pt x="0" y="0"/>
                      </a:lnTo>
                      <a:lnTo>
                        <a:pt x="0" y="73"/>
                      </a:lnTo>
                      <a:lnTo>
                        <a:pt x="20" y="73"/>
                      </a:lnTo>
                      <a:lnTo>
                        <a:pt x="40" y="75"/>
                      </a:lnTo>
                      <a:lnTo>
                        <a:pt x="59" y="77"/>
                      </a:lnTo>
                      <a:lnTo>
                        <a:pt x="77" y="80"/>
                      </a:lnTo>
                      <a:lnTo>
                        <a:pt x="96" y="85"/>
                      </a:lnTo>
                      <a:lnTo>
                        <a:pt x="115" y="90"/>
                      </a:lnTo>
                      <a:lnTo>
                        <a:pt x="132" y="96"/>
                      </a:lnTo>
                      <a:lnTo>
                        <a:pt x="150" y="102"/>
                      </a:lnTo>
                      <a:lnTo>
                        <a:pt x="166" y="110"/>
                      </a:lnTo>
                      <a:lnTo>
                        <a:pt x="184" y="118"/>
                      </a:lnTo>
                      <a:lnTo>
                        <a:pt x="199" y="128"/>
                      </a:lnTo>
                      <a:lnTo>
                        <a:pt x="215" y="138"/>
                      </a:lnTo>
                      <a:lnTo>
                        <a:pt x="230" y="149"/>
                      </a:lnTo>
                      <a:lnTo>
                        <a:pt x="244" y="160"/>
                      </a:lnTo>
                      <a:lnTo>
                        <a:pt x="259" y="172"/>
                      </a:lnTo>
                      <a:lnTo>
                        <a:pt x="272" y="185"/>
                      </a:lnTo>
                      <a:lnTo>
                        <a:pt x="284" y="198"/>
                      </a:lnTo>
                      <a:lnTo>
                        <a:pt x="296" y="212"/>
                      </a:lnTo>
                      <a:lnTo>
                        <a:pt x="308" y="227"/>
                      </a:lnTo>
                      <a:lnTo>
                        <a:pt x="319" y="241"/>
                      </a:lnTo>
                      <a:lnTo>
                        <a:pt x="329" y="257"/>
                      </a:lnTo>
                      <a:lnTo>
                        <a:pt x="338" y="273"/>
                      </a:lnTo>
                      <a:lnTo>
                        <a:pt x="346" y="290"/>
                      </a:lnTo>
                      <a:lnTo>
                        <a:pt x="354" y="307"/>
                      </a:lnTo>
                      <a:lnTo>
                        <a:pt x="361" y="324"/>
                      </a:lnTo>
                      <a:lnTo>
                        <a:pt x="367" y="341"/>
                      </a:lnTo>
                      <a:lnTo>
                        <a:pt x="372" y="359"/>
                      </a:lnTo>
                      <a:lnTo>
                        <a:pt x="376" y="379"/>
                      </a:lnTo>
                      <a:lnTo>
                        <a:pt x="379" y="397"/>
                      </a:lnTo>
                      <a:lnTo>
                        <a:pt x="382" y="416"/>
                      </a:lnTo>
                      <a:lnTo>
                        <a:pt x="383" y="435"/>
                      </a:lnTo>
                      <a:lnTo>
                        <a:pt x="384" y="456"/>
                      </a:lnTo>
                      <a:lnTo>
                        <a:pt x="384" y="456"/>
                      </a:lnTo>
                      <a:lnTo>
                        <a:pt x="456" y="456"/>
                      </a:lnTo>
                      <a:lnTo>
                        <a:pt x="456" y="456"/>
                      </a:lnTo>
                      <a:lnTo>
                        <a:pt x="456" y="456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5516640" y="2949480"/>
                  <a:ext cx="44280" cy="44640"/>
                </a:xfrm>
                <a:custGeom>
                  <a:avLst/>
                  <a:gdLst/>
                  <a:ahLst/>
                  <a:rect l="l" t="t" r="r" b="b"/>
                  <a:pathLst>
                    <a:path w="840" h="839">
                      <a:moveTo>
                        <a:pt x="840" y="420"/>
                      </a:moveTo>
                      <a:lnTo>
                        <a:pt x="839" y="441"/>
                      </a:lnTo>
                      <a:lnTo>
                        <a:pt x="837" y="462"/>
                      </a:lnTo>
                      <a:lnTo>
                        <a:pt x="835" y="484"/>
                      </a:lnTo>
                      <a:lnTo>
                        <a:pt x="831" y="504"/>
                      </a:lnTo>
                      <a:lnTo>
                        <a:pt x="827" y="524"/>
                      </a:lnTo>
                      <a:lnTo>
                        <a:pt x="821" y="544"/>
                      </a:lnTo>
                      <a:lnTo>
                        <a:pt x="813" y="564"/>
                      </a:lnTo>
                      <a:lnTo>
                        <a:pt x="806" y="583"/>
                      </a:lnTo>
                      <a:lnTo>
                        <a:pt x="798" y="601"/>
                      </a:lnTo>
                      <a:lnTo>
                        <a:pt x="789" y="619"/>
                      </a:lnTo>
                      <a:lnTo>
                        <a:pt x="779" y="638"/>
                      </a:lnTo>
                      <a:lnTo>
                        <a:pt x="768" y="654"/>
                      </a:lnTo>
                      <a:lnTo>
                        <a:pt x="756" y="671"/>
                      </a:lnTo>
                      <a:lnTo>
                        <a:pt x="743" y="686"/>
                      </a:lnTo>
                      <a:lnTo>
                        <a:pt x="730" y="701"/>
                      </a:lnTo>
                      <a:lnTo>
                        <a:pt x="716" y="717"/>
                      </a:lnTo>
                      <a:lnTo>
                        <a:pt x="702" y="730"/>
                      </a:lnTo>
                      <a:lnTo>
                        <a:pt x="687" y="743"/>
                      </a:lnTo>
                      <a:lnTo>
                        <a:pt x="670" y="756"/>
                      </a:lnTo>
                      <a:lnTo>
                        <a:pt x="654" y="767"/>
                      </a:lnTo>
                      <a:lnTo>
                        <a:pt x="637" y="778"/>
                      </a:lnTo>
                      <a:lnTo>
                        <a:pt x="620" y="789"/>
                      </a:lnTo>
                      <a:lnTo>
                        <a:pt x="601" y="798"/>
                      </a:lnTo>
                      <a:lnTo>
                        <a:pt x="582" y="806"/>
                      </a:lnTo>
                      <a:lnTo>
                        <a:pt x="563" y="814"/>
                      </a:lnTo>
                      <a:lnTo>
                        <a:pt x="544" y="820"/>
                      </a:lnTo>
                      <a:lnTo>
                        <a:pt x="523" y="826"/>
                      </a:lnTo>
                      <a:lnTo>
                        <a:pt x="503" y="831"/>
                      </a:lnTo>
                      <a:lnTo>
                        <a:pt x="483" y="834"/>
                      </a:lnTo>
                      <a:lnTo>
                        <a:pt x="461" y="837"/>
                      </a:lnTo>
                      <a:lnTo>
                        <a:pt x="440" y="838"/>
                      </a:lnTo>
                      <a:lnTo>
                        <a:pt x="419" y="839"/>
                      </a:lnTo>
                      <a:lnTo>
                        <a:pt x="397" y="838"/>
                      </a:lnTo>
                      <a:lnTo>
                        <a:pt x="375" y="837"/>
                      </a:lnTo>
                      <a:lnTo>
                        <a:pt x="355" y="834"/>
                      </a:lnTo>
                      <a:lnTo>
                        <a:pt x="334" y="831"/>
                      </a:lnTo>
                      <a:lnTo>
                        <a:pt x="313" y="826"/>
                      </a:lnTo>
                      <a:lnTo>
                        <a:pt x="294" y="820"/>
                      </a:lnTo>
                      <a:lnTo>
                        <a:pt x="274" y="814"/>
                      </a:lnTo>
                      <a:lnTo>
                        <a:pt x="256" y="806"/>
                      </a:lnTo>
                      <a:lnTo>
                        <a:pt x="236" y="798"/>
                      </a:lnTo>
                      <a:lnTo>
                        <a:pt x="219" y="789"/>
                      </a:lnTo>
                      <a:lnTo>
                        <a:pt x="201" y="778"/>
                      </a:lnTo>
                      <a:lnTo>
                        <a:pt x="185" y="767"/>
                      </a:lnTo>
                      <a:lnTo>
                        <a:pt x="167" y="756"/>
                      </a:lnTo>
                      <a:lnTo>
                        <a:pt x="152" y="743"/>
                      </a:lnTo>
                      <a:lnTo>
                        <a:pt x="137" y="730"/>
                      </a:lnTo>
                      <a:lnTo>
                        <a:pt x="122" y="717"/>
                      </a:lnTo>
                      <a:lnTo>
                        <a:pt x="108" y="701"/>
                      </a:lnTo>
                      <a:lnTo>
                        <a:pt x="95" y="686"/>
                      </a:lnTo>
                      <a:lnTo>
                        <a:pt x="83" y="671"/>
                      </a:lnTo>
                      <a:lnTo>
                        <a:pt x="71" y="654"/>
                      </a:lnTo>
                      <a:lnTo>
                        <a:pt x="60" y="638"/>
                      </a:lnTo>
                      <a:lnTo>
                        <a:pt x="50" y="619"/>
                      </a:lnTo>
                      <a:lnTo>
                        <a:pt x="40" y="601"/>
                      </a:lnTo>
                      <a:lnTo>
                        <a:pt x="32" y="583"/>
                      </a:lnTo>
                      <a:lnTo>
                        <a:pt x="25" y="564"/>
                      </a:lnTo>
                      <a:lnTo>
                        <a:pt x="18" y="544"/>
                      </a:lnTo>
                      <a:lnTo>
                        <a:pt x="12" y="524"/>
                      </a:lnTo>
                      <a:lnTo>
                        <a:pt x="8" y="504"/>
                      </a:lnTo>
                      <a:lnTo>
                        <a:pt x="4" y="484"/>
                      </a:lnTo>
                      <a:lnTo>
                        <a:pt x="2" y="462"/>
                      </a:lnTo>
                      <a:lnTo>
                        <a:pt x="0" y="441"/>
                      </a:lnTo>
                      <a:lnTo>
                        <a:pt x="0" y="420"/>
                      </a:lnTo>
                      <a:lnTo>
                        <a:pt x="0" y="398"/>
                      </a:lnTo>
                      <a:lnTo>
                        <a:pt x="2" y="377"/>
                      </a:lnTo>
                      <a:lnTo>
                        <a:pt x="4" y="356"/>
                      </a:lnTo>
                      <a:lnTo>
                        <a:pt x="8" y="335"/>
                      </a:lnTo>
                      <a:lnTo>
                        <a:pt x="12" y="314"/>
                      </a:lnTo>
                      <a:lnTo>
                        <a:pt x="18" y="295"/>
                      </a:lnTo>
                      <a:lnTo>
                        <a:pt x="25" y="276"/>
                      </a:lnTo>
                      <a:lnTo>
                        <a:pt x="32" y="257"/>
                      </a:lnTo>
                      <a:lnTo>
                        <a:pt x="40" y="237"/>
                      </a:lnTo>
                      <a:lnTo>
                        <a:pt x="50" y="220"/>
                      </a:lnTo>
                      <a:lnTo>
                        <a:pt x="60" y="202"/>
                      </a:lnTo>
                      <a:lnTo>
                        <a:pt x="71" y="186"/>
                      </a:lnTo>
                      <a:lnTo>
                        <a:pt x="83" y="168"/>
                      </a:lnTo>
                      <a:lnTo>
                        <a:pt x="95" y="153"/>
                      </a:lnTo>
                      <a:lnTo>
                        <a:pt x="108" y="138"/>
                      </a:lnTo>
                      <a:lnTo>
                        <a:pt x="122" y="123"/>
                      </a:lnTo>
                      <a:lnTo>
                        <a:pt x="137" y="110"/>
                      </a:lnTo>
                      <a:lnTo>
                        <a:pt x="152" y="97"/>
                      </a:lnTo>
                      <a:lnTo>
                        <a:pt x="167" y="83"/>
                      </a:lnTo>
                      <a:lnTo>
                        <a:pt x="185" y="72"/>
                      </a:lnTo>
                      <a:lnTo>
                        <a:pt x="201" y="61"/>
                      </a:lnTo>
                      <a:lnTo>
                        <a:pt x="219" y="51"/>
                      </a:lnTo>
                      <a:lnTo>
                        <a:pt x="236" y="42"/>
                      </a:lnTo>
                      <a:lnTo>
                        <a:pt x="256" y="34"/>
                      </a:lnTo>
                      <a:lnTo>
                        <a:pt x="274" y="26"/>
                      </a:lnTo>
                      <a:lnTo>
                        <a:pt x="294" y="20"/>
                      </a:lnTo>
                      <a:lnTo>
                        <a:pt x="313" y="13"/>
                      </a:lnTo>
                      <a:lnTo>
                        <a:pt x="334" y="9"/>
                      </a:lnTo>
                      <a:lnTo>
                        <a:pt x="355" y="5"/>
                      </a:lnTo>
                      <a:lnTo>
                        <a:pt x="375" y="2"/>
                      </a:lnTo>
                      <a:lnTo>
                        <a:pt x="397" y="1"/>
                      </a:lnTo>
                      <a:lnTo>
                        <a:pt x="419" y="0"/>
                      </a:lnTo>
                      <a:lnTo>
                        <a:pt x="440" y="1"/>
                      </a:lnTo>
                      <a:lnTo>
                        <a:pt x="461" y="2"/>
                      </a:lnTo>
                      <a:lnTo>
                        <a:pt x="483" y="5"/>
                      </a:lnTo>
                      <a:lnTo>
                        <a:pt x="503" y="9"/>
                      </a:lnTo>
                      <a:lnTo>
                        <a:pt x="523" y="13"/>
                      </a:lnTo>
                      <a:lnTo>
                        <a:pt x="544" y="20"/>
                      </a:lnTo>
                      <a:lnTo>
                        <a:pt x="563" y="26"/>
                      </a:lnTo>
                      <a:lnTo>
                        <a:pt x="582" y="34"/>
                      </a:lnTo>
                      <a:lnTo>
                        <a:pt x="601" y="42"/>
                      </a:lnTo>
                      <a:lnTo>
                        <a:pt x="620" y="51"/>
                      </a:lnTo>
                      <a:lnTo>
                        <a:pt x="637" y="61"/>
                      </a:lnTo>
                      <a:lnTo>
                        <a:pt x="654" y="72"/>
                      </a:lnTo>
                      <a:lnTo>
                        <a:pt x="670" y="83"/>
                      </a:lnTo>
                      <a:lnTo>
                        <a:pt x="687" y="97"/>
                      </a:lnTo>
                      <a:lnTo>
                        <a:pt x="702" y="110"/>
                      </a:lnTo>
                      <a:lnTo>
                        <a:pt x="716" y="123"/>
                      </a:lnTo>
                      <a:lnTo>
                        <a:pt x="730" y="138"/>
                      </a:lnTo>
                      <a:lnTo>
                        <a:pt x="743" y="153"/>
                      </a:lnTo>
                      <a:lnTo>
                        <a:pt x="756" y="168"/>
                      </a:lnTo>
                      <a:lnTo>
                        <a:pt x="768" y="186"/>
                      </a:lnTo>
                      <a:lnTo>
                        <a:pt x="779" y="202"/>
                      </a:lnTo>
                      <a:lnTo>
                        <a:pt x="789" y="220"/>
                      </a:lnTo>
                      <a:lnTo>
                        <a:pt x="798" y="237"/>
                      </a:lnTo>
                      <a:lnTo>
                        <a:pt x="806" y="257"/>
                      </a:lnTo>
                      <a:lnTo>
                        <a:pt x="813" y="276"/>
                      </a:lnTo>
                      <a:lnTo>
                        <a:pt x="821" y="295"/>
                      </a:lnTo>
                      <a:lnTo>
                        <a:pt x="827" y="314"/>
                      </a:lnTo>
                      <a:lnTo>
                        <a:pt x="831" y="335"/>
                      </a:lnTo>
                      <a:lnTo>
                        <a:pt x="835" y="356"/>
                      </a:lnTo>
                      <a:lnTo>
                        <a:pt x="837" y="377"/>
                      </a:lnTo>
                      <a:lnTo>
                        <a:pt x="839" y="398"/>
                      </a:lnTo>
                      <a:lnTo>
                        <a:pt x="840" y="420"/>
                      </a:lnTo>
                      <a:close/>
                    </a:path>
                  </a:pathLst>
                </a:custGeom>
                <a:solidFill>
                  <a:srgbClr val="c8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5538960" y="2971800"/>
                  <a:ext cx="25200" cy="23760"/>
                </a:xfrm>
                <a:custGeom>
                  <a:avLst/>
                  <a:gdLst/>
                  <a:ahLst/>
                  <a:rect l="l" t="t" r="r" b="b"/>
                  <a:pathLst>
                    <a:path w="456" h="456">
                      <a:moveTo>
                        <a:pt x="0" y="456"/>
                      </a:moveTo>
                      <a:lnTo>
                        <a:pt x="0" y="456"/>
                      </a:lnTo>
                      <a:lnTo>
                        <a:pt x="23" y="455"/>
                      </a:lnTo>
                      <a:lnTo>
                        <a:pt x="46" y="453"/>
                      </a:lnTo>
                      <a:lnTo>
                        <a:pt x="69" y="451"/>
                      </a:lnTo>
                      <a:lnTo>
                        <a:pt x="91" y="447"/>
                      </a:lnTo>
                      <a:lnTo>
                        <a:pt x="113" y="442"/>
                      </a:lnTo>
                      <a:lnTo>
                        <a:pt x="136" y="434"/>
                      </a:lnTo>
                      <a:lnTo>
                        <a:pt x="157" y="427"/>
                      </a:lnTo>
                      <a:lnTo>
                        <a:pt x="177" y="419"/>
                      </a:lnTo>
                      <a:lnTo>
                        <a:pt x="198" y="410"/>
                      </a:lnTo>
                      <a:lnTo>
                        <a:pt x="217" y="400"/>
                      </a:lnTo>
                      <a:lnTo>
                        <a:pt x="236" y="390"/>
                      </a:lnTo>
                      <a:lnTo>
                        <a:pt x="255" y="378"/>
                      </a:lnTo>
                      <a:lnTo>
                        <a:pt x="273" y="365"/>
                      </a:lnTo>
                      <a:lnTo>
                        <a:pt x="290" y="351"/>
                      </a:lnTo>
                      <a:lnTo>
                        <a:pt x="307" y="337"/>
                      </a:lnTo>
                      <a:lnTo>
                        <a:pt x="322" y="322"/>
                      </a:lnTo>
                      <a:lnTo>
                        <a:pt x="338" y="306"/>
                      </a:lnTo>
                      <a:lnTo>
                        <a:pt x="352" y="290"/>
                      </a:lnTo>
                      <a:lnTo>
                        <a:pt x="366" y="272"/>
                      </a:lnTo>
                      <a:lnTo>
                        <a:pt x="378" y="254"/>
                      </a:lnTo>
                      <a:lnTo>
                        <a:pt x="390" y="236"/>
                      </a:lnTo>
                      <a:lnTo>
                        <a:pt x="402" y="217"/>
                      </a:lnTo>
                      <a:lnTo>
                        <a:pt x="412" y="197"/>
                      </a:lnTo>
                      <a:lnTo>
                        <a:pt x="421" y="177"/>
                      </a:lnTo>
                      <a:lnTo>
                        <a:pt x="429" y="157"/>
                      </a:lnTo>
                      <a:lnTo>
                        <a:pt x="436" y="136"/>
                      </a:lnTo>
                      <a:lnTo>
                        <a:pt x="442" y="113"/>
                      </a:lnTo>
                      <a:lnTo>
                        <a:pt x="447" y="91"/>
                      </a:lnTo>
                      <a:lnTo>
                        <a:pt x="451" y="69"/>
                      </a:lnTo>
                      <a:lnTo>
                        <a:pt x="454" y="46"/>
                      </a:lnTo>
                      <a:lnTo>
                        <a:pt x="456" y="23"/>
                      </a:lnTo>
                      <a:lnTo>
                        <a:pt x="456" y="0"/>
                      </a:lnTo>
                      <a:lnTo>
                        <a:pt x="384" y="0"/>
                      </a:lnTo>
                      <a:lnTo>
                        <a:pt x="383" y="19"/>
                      </a:lnTo>
                      <a:lnTo>
                        <a:pt x="382" y="39"/>
                      </a:lnTo>
                      <a:lnTo>
                        <a:pt x="380" y="59"/>
                      </a:lnTo>
                      <a:lnTo>
                        <a:pt x="376" y="77"/>
                      </a:lnTo>
                      <a:lnTo>
                        <a:pt x="372" y="96"/>
                      </a:lnTo>
                      <a:lnTo>
                        <a:pt x="367" y="113"/>
                      </a:lnTo>
                      <a:lnTo>
                        <a:pt x="361" y="131"/>
                      </a:lnTo>
                      <a:lnTo>
                        <a:pt x="354" y="149"/>
                      </a:lnTo>
                      <a:lnTo>
                        <a:pt x="347" y="166"/>
                      </a:lnTo>
                      <a:lnTo>
                        <a:pt x="338" y="182"/>
                      </a:lnTo>
                      <a:lnTo>
                        <a:pt x="328" y="198"/>
                      </a:lnTo>
                      <a:lnTo>
                        <a:pt x="318" y="214"/>
                      </a:lnTo>
                      <a:lnTo>
                        <a:pt x="308" y="229"/>
                      </a:lnTo>
                      <a:lnTo>
                        <a:pt x="296" y="244"/>
                      </a:lnTo>
                      <a:lnTo>
                        <a:pt x="285" y="257"/>
                      </a:lnTo>
                      <a:lnTo>
                        <a:pt x="272" y="270"/>
                      </a:lnTo>
                      <a:lnTo>
                        <a:pt x="258" y="283"/>
                      </a:lnTo>
                      <a:lnTo>
                        <a:pt x="244" y="296"/>
                      </a:lnTo>
                      <a:lnTo>
                        <a:pt x="230" y="307"/>
                      </a:lnTo>
                      <a:lnTo>
                        <a:pt x="215" y="318"/>
                      </a:lnTo>
                      <a:lnTo>
                        <a:pt x="200" y="328"/>
                      </a:lnTo>
                      <a:lnTo>
                        <a:pt x="183" y="337"/>
                      </a:lnTo>
                      <a:lnTo>
                        <a:pt x="166" y="345"/>
                      </a:lnTo>
                      <a:lnTo>
                        <a:pt x="150" y="353"/>
                      </a:lnTo>
                      <a:lnTo>
                        <a:pt x="132" y="359"/>
                      </a:lnTo>
                      <a:lnTo>
                        <a:pt x="114" y="366"/>
                      </a:lnTo>
                      <a:lnTo>
                        <a:pt x="96" y="371"/>
                      </a:lnTo>
                      <a:lnTo>
                        <a:pt x="77" y="376"/>
                      </a:lnTo>
                      <a:lnTo>
                        <a:pt x="59" y="379"/>
                      </a:lnTo>
                      <a:lnTo>
                        <a:pt x="39" y="381"/>
                      </a:lnTo>
                      <a:lnTo>
                        <a:pt x="19" y="383"/>
                      </a:lnTo>
                      <a:lnTo>
                        <a:pt x="0" y="383"/>
                      </a:lnTo>
                      <a:lnTo>
                        <a:pt x="0" y="383"/>
                      </a:lnTo>
                      <a:lnTo>
                        <a:pt x="0" y="456"/>
                      </a:lnTo>
                      <a:lnTo>
                        <a:pt x="0" y="456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>
                  <a:off x="5514840" y="2971800"/>
                  <a:ext cx="24120" cy="23760"/>
                </a:xfrm>
                <a:custGeom>
                  <a:avLst/>
                  <a:gdLst/>
                  <a:ahLst/>
                  <a:rect l="l" t="t" r="r" b="b"/>
                  <a:pathLst>
                    <a:path w="456" h="45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2" y="46"/>
                      </a:lnTo>
                      <a:lnTo>
                        <a:pt x="5" y="69"/>
                      </a:lnTo>
                      <a:lnTo>
                        <a:pt x="9" y="91"/>
                      </a:lnTo>
                      <a:lnTo>
                        <a:pt x="15" y="113"/>
                      </a:lnTo>
                      <a:lnTo>
                        <a:pt x="21" y="136"/>
                      </a:lnTo>
                      <a:lnTo>
                        <a:pt x="28" y="156"/>
                      </a:lnTo>
                      <a:lnTo>
                        <a:pt x="36" y="177"/>
                      </a:lnTo>
                      <a:lnTo>
                        <a:pt x="45" y="197"/>
                      </a:lnTo>
                      <a:lnTo>
                        <a:pt x="55" y="217"/>
                      </a:lnTo>
                      <a:lnTo>
                        <a:pt x="66" y="236"/>
                      </a:lnTo>
                      <a:lnTo>
                        <a:pt x="77" y="254"/>
                      </a:lnTo>
                      <a:lnTo>
                        <a:pt x="91" y="272"/>
                      </a:lnTo>
                      <a:lnTo>
                        <a:pt x="104" y="290"/>
                      </a:lnTo>
                      <a:lnTo>
                        <a:pt x="118" y="306"/>
                      </a:lnTo>
                      <a:lnTo>
                        <a:pt x="133" y="322"/>
                      </a:lnTo>
                      <a:lnTo>
                        <a:pt x="149" y="337"/>
                      </a:lnTo>
                      <a:lnTo>
                        <a:pt x="166" y="351"/>
                      </a:lnTo>
                      <a:lnTo>
                        <a:pt x="183" y="365"/>
                      </a:lnTo>
                      <a:lnTo>
                        <a:pt x="201" y="378"/>
                      </a:lnTo>
                      <a:lnTo>
                        <a:pt x="219" y="390"/>
                      </a:lnTo>
                      <a:lnTo>
                        <a:pt x="239" y="400"/>
                      </a:lnTo>
                      <a:lnTo>
                        <a:pt x="258" y="410"/>
                      </a:lnTo>
                      <a:lnTo>
                        <a:pt x="278" y="419"/>
                      </a:lnTo>
                      <a:lnTo>
                        <a:pt x="299" y="427"/>
                      </a:lnTo>
                      <a:lnTo>
                        <a:pt x="320" y="434"/>
                      </a:lnTo>
                      <a:lnTo>
                        <a:pt x="342" y="442"/>
                      </a:lnTo>
                      <a:lnTo>
                        <a:pt x="364" y="447"/>
                      </a:lnTo>
                      <a:lnTo>
                        <a:pt x="386" y="451"/>
                      </a:lnTo>
                      <a:lnTo>
                        <a:pt x="409" y="453"/>
                      </a:lnTo>
                      <a:lnTo>
                        <a:pt x="432" y="455"/>
                      </a:lnTo>
                      <a:lnTo>
                        <a:pt x="456" y="456"/>
                      </a:lnTo>
                      <a:lnTo>
                        <a:pt x="456" y="383"/>
                      </a:lnTo>
                      <a:lnTo>
                        <a:pt x="436" y="383"/>
                      </a:lnTo>
                      <a:lnTo>
                        <a:pt x="416" y="381"/>
                      </a:lnTo>
                      <a:lnTo>
                        <a:pt x="397" y="379"/>
                      </a:lnTo>
                      <a:lnTo>
                        <a:pt x="378" y="376"/>
                      </a:lnTo>
                      <a:lnTo>
                        <a:pt x="359" y="371"/>
                      </a:lnTo>
                      <a:lnTo>
                        <a:pt x="341" y="366"/>
                      </a:lnTo>
                      <a:lnTo>
                        <a:pt x="324" y="359"/>
                      </a:lnTo>
                      <a:lnTo>
                        <a:pt x="307" y="353"/>
                      </a:lnTo>
                      <a:lnTo>
                        <a:pt x="289" y="345"/>
                      </a:lnTo>
                      <a:lnTo>
                        <a:pt x="273" y="337"/>
                      </a:lnTo>
                      <a:lnTo>
                        <a:pt x="257" y="328"/>
                      </a:lnTo>
                      <a:lnTo>
                        <a:pt x="242" y="318"/>
                      </a:lnTo>
                      <a:lnTo>
                        <a:pt x="227" y="307"/>
                      </a:lnTo>
                      <a:lnTo>
                        <a:pt x="212" y="296"/>
                      </a:lnTo>
                      <a:lnTo>
                        <a:pt x="198" y="283"/>
                      </a:lnTo>
                      <a:lnTo>
                        <a:pt x="185" y="271"/>
                      </a:lnTo>
                      <a:lnTo>
                        <a:pt x="172" y="257"/>
                      </a:lnTo>
                      <a:lnTo>
                        <a:pt x="160" y="244"/>
                      </a:lnTo>
                      <a:lnTo>
                        <a:pt x="148" y="229"/>
                      </a:lnTo>
                      <a:lnTo>
                        <a:pt x="138" y="215"/>
                      </a:lnTo>
                      <a:lnTo>
                        <a:pt x="128" y="198"/>
                      </a:lnTo>
                      <a:lnTo>
                        <a:pt x="119" y="182"/>
                      </a:lnTo>
                      <a:lnTo>
                        <a:pt x="110" y="166"/>
                      </a:lnTo>
                      <a:lnTo>
                        <a:pt x="103" y="149"/>
                      </a:lnTo>
                      <a:lnTo>
                        <a:pt x="96" y="131"/>
                      </a:lnTo>
                      <a:lnTo>
                        <a:pt x="90" y="114"/>
                      </a:lnTo>
                      <a:lnTo>
                        <a:pt x="85" y="96"/>
                      </a:lnTo>
                      <a:lnTo>
                        <a:pt x="81" y="77"/>
                      </a:lnTo>
                      <a:lnTo>
                        <a:pt x="77" y="59"/>
                      </a:lnTo>
                      <a:lnTo>
                        <a:pt x="74" y="39"/>
                      </a:lnTo>
                      <a:lnTo>
                        <a:pt x="73" y="19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5514840" y="2948040"/>
                  <a:ext cx="24120" cy="23760"/>
                </a:xfrm>
                <a:custGeom>
                  <a:avLst/>
                  <a:gdLst/>
                  <a:ahLst/>
                  <a:rect l="l" t="t" r="r" b="b"/>
                  <a:pathLst>
                    <a:path w="456" h="456">
                      <a:moveTo>
                        <a:pt x="456" y="0"/>
                      </a:moveTo>
                      <a:lnTo>
                        <a:pt x="456" y="0"/>
                      </a:lnTo>
                      <a:lnTo>
                        <a:pt x="432" y="1"/>
                      </a:lnTo>
                      <a:lnTo>
                        <a:pt x="409" y="3"/>
                      </a:lnTo>
                      <a:lnTo>
                        <a:pt x="386" y="6"/>
                      </a:lnTo>
                      <a:lnTo>
                        <a:pt x="364" y="10"/>
                      </a:lnTo>
                      <a:lnTo>
                        <a:pt x="342" y="15"/>
                      </a:lnTo>
                      <a:lnTo>
                        <a:pt x="320" y="21"/>
                      </a:lnTo>
                      <a:lnTo>
                        <a:pt x="299" y="28"/>
                      </a:lnTo>
                      <a:lnTo>
                        <a:pt x="278" y="36"/>
                      </a:lnTo>
                      <a:lnTo>
                        <a:pt x="258" y="45"/>
                      </a:lnTo>
                      <a:lnTo>
                        <a:pt x="239" y="56"/>
                      </a:lnTo>
                      <a:lnTo>
                        <a:pt x="219" y="67"/>
                      </a:lnTo>
                      <a:lnTo>
                        <a:pt x="201" y="78"/>
                      </a:lnTo>
                      <a:lnTo>
                        <a:pt x="183" y="91"/>
                      </a:lnTo>
                      <a:lnTo>
                        <a:pt x="166" y="104"/>
                      </a:lnTo>
                      <a:lnTo>
                        <a:pt x="149" y="118"/>
                      </a:lnTo>
                      <a:lnTo>
                        <a:pt x="133" y="134"/>
                      </a:lnTo>
                      <a:lnTo>
                        <a:pt x="118" y="150"/>
                      </a:lnTo>
                      <a:lnTo>
                        <a:pt x="104" y="166"/>
                      </a:lnTo>
                      <a:lnTo>
                        <a:pt x="91" y="183"/>
                      </a:lnTo>
                      <a:lnTo>
                        <a:pt x="77" y="201"/>
                      </a:lnTo>
                      <a:lnTo>
                        <a:pt x="66" y="220"/>
                      </a:lnTo>
                      <a:lnTo>
                        <a:pt x="55" y="239"/>
                      </a:lnTo>
                      <a:lnTo>
                        <a:pt x="45" y="258"/>
                      </a:lnTo>
                      <a:lnTo>
                        <a:pt x="36" y="278"/>
                      </a:lnTo>
                      <a:lnTo>
                        <a:pt x="28" y="299"/>
                      </a:lnTo>
                      <a:lnTo>
                        <a:pt x="21" y="320"/>
                      </a:lnTo>
                      <a:lnTo>
                        <a:pt x="15" y="342"/>
                      </a:lnTo>
                      <a:lnTo>
                        <a:pt x="9" y="364"/>
                      </a:lnTo>
                      <a:lnTo>
                        <a:pt x="5" y="387"/>
                      </a:lnTo>
                      <a:lnTo>
                        <a:pt x="2" y="409"/>
                      </a:lnTo>
                      <a:lnTo>
                        <a:pt x="0" y="432"/>
                      </a:lnTo>
                      <a:lnTo>
                        <a:pt x="0" y="456"/>
                      </a:lnTo>
                      <a:lnTo>
                        <a:pt x="72" y="456"/>
                      </a:lnTo>
                      <a:lnTo>
                        <a:pt x="73" y="435"/>
                      </a:lnTo>
                      <a:lnTo>
                        <a:pt x="74" y="416"/>
                      </a:lnTo>
                      <a:lnTo>
                        <a:pt x="77" y="397"/>
                      </a:lnTo>
                      <a:lnTo>
                        <a:pt x="81" y="379"/>
                      </a:lnTo>
                      <a:lnTo>
                        <a:pt x="85" y="359"/>
                      </a:lnTo>
                      <a:lnTo>
                        <a:pt x="90" y="341"/>
                      </a:lnTo>
                      <a:lnTo>
                        <a:pt x="96" y="324"/>
                      </a:lnTo>
                      <a:lnTo>
                        <a:pt x="103" y="307"/>
                      </a:lnTo>
                      <a:lnTo>
                        <a:pt x="110" y="290"/>
                      </a:lnTo>
                      <a:lnTo>
                        <a:pt x="119" y="273"/>
                      </a:lnTo>
                      <a:lnTo>
                        <a:pt x="128" y="257"/>
                      </a:lnTo>
                      <a:lnTo>
                        <a:pt x="138" y="241"/>
                      </a:lnTo>
                      <a:lnTo>
                        <a:pt x="148" y="227"/>
                      </a:lnTo>
                      <a:lnTo>
                        <a:pt x="160" y="212"/>
                      </a:lnTo>
                      <a:lnTo>
                        <a:pt x="172" y="198"/>
                      </a:lnTo>
                      <a:lnTo>
                        <a:pt x="185" y="185"/>
                      </a:lnTo>
                      <a:lnTo>
                        <a:pt x="198" y="172"/>
                      </a:lnTo>
                      <a:lnTo>
                        <a:pt x="212" y="160"/>
                      </a:lnTo>
                      <a:lnTo>
                        <a:pt x="227" y="149"/>
                      </a:lnTo>
                      <a:lnTo>
                        <a:pt x="242" y="138"/>
                      </a:lnTo>
                      <a:lnTo>
                        <a:pt x="257" y="127"/>
                      </a:lnTo>
                      <a:lnTo>
                        <a:pt x="273" y="118"/>
                      </a:lnTo>
                      <a:lnTo>
                        <a:pt x="289" y="110"/>
                      </a:lnTo>
                      <a:lnTo>
                        <a:pt x="307" y="102"/>
                      </a:lnTo>
                      <a:lnTo>
                        <a:pt x="324" y="96"/>
                      </a:lnTo>
                      <a:lnTo>
                        <a:pt x="341" y="90"/>
                      </a:lnTo>
                      <a:lnTo>
                        <a:pt x="359" y="85"/>
                      </a:lnTo>
                      <a:lnTo>
                        <a:pt x="378" y="80"/>
                      </a:lnTo>
                      <a:lnTo>
                        <a:pt x="397" y="77"/>
                      </a:lnTo>
                      <a:lnTo>
                        <a:pt x="416" y="75"/>
                      </a:lnTo>
                      <a:lnTo>
                        <a:pt x="436" y="73"/>
                      </a:lnTo>
                      <a:lnTo>
                        <a:pt x="456" y="73"/>
                      </a:lnTo>
                      <a:lnTo>
                        <a:pt x="456" y="73"/>
                      </a:lnTo>
                      <a:lnTo>
                        <a:pt x="456" y="0"/>
                      </a:lnTo>
                      <a:lnTo>
                        <a:pt x="456" y="0"/>
                      </a:lnTo>
                      <a:lnTo>
                        <a:pt x="456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5538960" y="2948040"/>
                  <a:ext cx="25200" cy="23760"/>
                </a:xfrm>
                <a:custGeom>
                  <a:avLst/>
                  <a:gdLst/>
                  <a:ahLst/>
                  <a:rect l="l" t="t" r="r" b="b"/>
                  <a:pathLst>
                    <a:path w="456" h="456">
                      <a:moveTo>
                        <a:pt x="456" y="456"/>
                      </a:moveTo>
                      <a:lnTo>
                        <a:pt x="456" y="456"/>
                      </a:lnTo>
                      <a:lnTo>
                        <a:pt x="456" y="432"/>
                      </a:lnTo>
                      <a:lnTo>
                        <a:pt x="454" y="409"/>
                      </a:lnTo>
                      <a:lnTo>
                        <a:pt x="451" y="387"/>
                      </a:lnTo>
                      <a:lnTo>
                        <a:pt x="447" y="364"/>
                      </a:lnTo>
                      <a:lnTo>
                        <a:pt x="442" y="342"/>
                      </a:lnTo>
                      <a:lnTo>
                        <a:pt x="436" y="320"/>
                      </a:lnTo>
                      <a:lnTo>
                        <a:pt x="429" y="299"/>
                      </a:lnTo>
                      <a:lnTo>
                        <a:pt x="421" y="278"/>
                      </a:lnTo>
                      <a:lnTo>
                        <a:pt x="412" y="258"/>
                      </a:lnTo>
                      <a:lnTo>
                        <a:pt x="402" y="239"/>
                      </a:lnTo>
                      <a:lnTo>
                        <a:pt x="390" y="220"/>
                      </a:lnTo>
                      <a:lnTo>
                        <a:pt x="378" y="201"/>
                      </a:lnTo>
                      <a:lnTo>
                        <a:pt x="366" y="183"/>
                      </a:lnTo>
                      <a:lnTo>
                        <a:pt x="352" y="166"/>
                      </a:lnTo>
                      <a:lnTo>
                        <a:pt x="338" y="150"/>
                      </a:lnTo>
                      <a:lnTo>
                        <a:pt x="322" y="134"/>
                      </a:lnTo>
                      <a:lnTo>
                        <a:pt x="307" y="118"/>
                      </a:lnTo>
                      <a:lnTo>
                        <a:pt x="290" y="104"/>
                      </a:lnTo>
                      <a:lnTo>
                        <a:pt x="273" y="91"/>
                      </a:lnTo>
                      <a:lnTo>
                        <a:pt x="255" y="78"/>
                      </a:lnTo>
                      <a:lnTo>
                        <a:pt x="236" y="66"/>
                      </a:lnTo>
                      <a:lnTo>
                        <a:pt x="217" y="56"/>
                      </a:lnTo>
                      <a:lnTo>
                        <a:pt x="198" y="45"/>
                      </a:lnTo>
                      <a:lnTo>
                        <a:pt x="177" y="36"/>
                      </a:lnTo>
                      <a:lnTo>
                        <a:pt x="157" y="28"/>
                      </a:lnTo>
                      <a:lnTo>
                        <a:pt x="136" y="21"/>
                      </a:lnTo>
                      <a:lnTo>
                        <a:pt x="113" y="15"/>
                      </a:lnTo>
                      <a:lnTo>
                        <a:pt x="91" y="10"/>
                      </a:lnTo>
                      <a:lnTo>
                        <a:pt x="69" y="6"/>
                      </a:lnTo>
                      <a:lnTo>
                        <a:pt x="46" y="3"/>
                      </a:lnTo>
                      <a:lnTo>
                        <a:pt x="23" y="1"/>
                      </a:lnTo>
                      <a:lnTo>
                        <a:pt x="0" y="0"/>
                      </a:lnTo>
                      <a:lnTo>
                        <a:pt x="0" y="73"/>
                      </a:lnTo>
                      <a:lnTo>
                        <a:pt x="19" y="73"/>
                      </a:lnTo>
                      <a:lnTo>
                        <a:pt x="39" y="75"/>
                      </a:lnTo>
                      <a:lnTo>
                        <a:pt x="59" y="77"/>
                      </a:lnTo>
                      <a:lnTo>
                        <a:pt x="77" y="80"/>
                      </a:lnTo>
                      <a:lnTo>
                        <a:pt x="96" y="85"/>
                      </a:lnTo>
                      <a:lnTo>
                        <a:pt x="114" y="90"/>
                      </a:lnTo>
                      <a:lnTo>
                        <a:pt x="132" y="96"/>
                      </a:lnTo>
                      <a:lnTo>
                        <a:pt x="150" y="102"/>
                      </a:lnTo>
                      <a:lnTo>
                        <a:pt x="166" y="110"/>
                      </a:lnTo>
                      <a:lnTo>
                        <a:pt x="183" y="118"/>
                      </a:lnTo>
                      <a:lnTo>
                        <a:pt x="200" y="128"/>
                      </a:lnTo>
                      <a:lnTo>
                        <a:pt x="215" y="138"/>
                      </a:lnTo>
                      <a:lnTo>
                        <a:pt x="230" y="149"/>
                      </a:lnTo>
                      <a:lnTo>
                        <a:pt x="244" y="160"/>
                      </a:lnTo>
                      <a:lnTo>
                        <a:pt x="258" y="172"/>
                      </a:lnTo>
                      <a:lnTo>
                        <a:pt x="272" y="185"/>
                      </a:lnTo>
                      <a:lnTo>
                        <a:pt x="285" y="198"/>
                      </a:lnTo>
                      <a:lnTo>
                        <a:pt x="296" y="212"/>
                      </a:lnTo>
                      <a:lnTo>
                        <a:pt x="308" y="227"/>
                      </a:lnTo>
                      <a:lnTo>
                        <a:pt x="318" y="241"/>
                      </a:lnTo>
                      <a:lnTo>
                        <a:pt x="328" y="257"/>
                      </a:lnTo>
                      <a:lnTo>
                        <a:pt x="338" y="273"/>
                      </a:lnTo>
                      <a:lnTo>
                        <a:pt x="347" y="290"/>
                      </a:lnTo>
                      <a:lnTo>
                        <a:pt x="354" y="307"/>
                      </a:lnTo>
                      <a:lnTo>
                        <a:pt x="361" y="324"/>
                      </a:lnTo>
                      <a:lnTo>
                        <a:pt x="367" y="341"/>
                      </a:lnTo>
                      <a:lnTo>
                        <a:pt x="372" y="359"/>
                      </a:lnTo>
                      <a:lnTo>
                        <a:pt x="376" y="379"/>
                      </a:lnTo>
                      <a:lnTo>
                        <a:pt x="380" y="397"/>
                      </a:lnTo>
                      <a:lnTo>
                        <a:pt x="382" y="416"/>
                      </a:lnTo>
                      <a:lnTo>
                        <a:pt x="383" y="435"/>
                      </a:lnTo>
                      <a:lnTo>
                        <a:pt x="384" y="456"/>
                      </a:lnTo>
                      <a:lnTo>
                        <a:pt x="384" y="456"/>
                      </a:lnTo>
                      <a:lnTo>
                        <a:pt x="456" y="456"/>
                      </a:lnTo>
                      <a:lnTo>
                        <a:pt x="456" y="456"/>
                      </a:lnTo>
                      <a:lnTo>
                        <a:pt x="456" y="456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>
                  <a:off x="5605560" y="2949480"/>
                  <a:ext cx="44280" cy="44640"/>
                </a:xfrm>
                <a:custGeom>
                  <a:avLst/>
                  <a:gdLst/>
                  <a:ahLst/>
                  <a:rect l="l" t="t" r="r" b="b"/>
                  <a:pathLst>
                    <a:path w="841" h="839">
                      <a:moveTo>
                        <a:pt x="841" y="420"/>
                      </a:moveTo>
                      <a:lnTo>
                        <a:pt x="840" y="441"/>
                      </a:lnTo>
                      <a:lnTo>
                        <a:pt x="839" y="462"/>
                      </a:lnTo>
                      <a:lnTo>
                        <a:pt x="836" y="484"/>
                      </a:lnTo>
                      <a:lnTo>
                        <a:pt x="831" y="504"/>
                      </a:lnTo>
                      <a:lnTo>
                        <a:pt x="827" y="524"/>
                      </a:lnTo>
                      <a:lnTo>
                        <a:pt x="821" y="544"/>
                      </a:lnTo>
                      <a:lnTo>
                        <a:pt x="815" y="564"/>
                      </a:lnTo>
                      <a:lnTo>
                        <a:pt x="807" y="583"/>
                      </a:lnTo>
                      <a:lnTo>
                        <a:pt x="799" y="601"/>
                      </a:lnTo>
                      <a:lnTo>
                        <a:pt x="790" y="619"/>
                      </a:lnTo>
                      <a:lnTo>
                        <a:pt x="780" y="638"/>
                      </a:lnTo>
                      <a:lnTo>
                        <a:pt x="769" y="654"/>
                      </a:lnTo>
                      <a:lnTo>
                        <a:pt x="756" y="671"/>
                      </a:lnTo>
                      <a:lnTo>
                        <a:pt x="744" y="686"/>
                      </a:lnTo>
                      <a:lnTo>
                        <a:pt x="731" y="701"/>
                      </a:lnTo>
                      <a:lnTo>
                        <a:pt x="717" y="717"/>
                      </a:lnTo>
                      <a:lnTo>
                        <a:pt x="703" y="730"/>
                      </a:lnTo>
                      <a:lnTo>
                        <a:pt x="687" y="743"/>
                      </a:lnTo>
                      <a:lnTo>
                        <a:pt x="671" y="756"/>
                      </a:lnTo>
                      <a:lnTo>
                        <a:pt x="655" y="767"/>
                      </a:lnTo>
                      <a:lnTo>
                        <a:pt x="638" y="778"/>
                      </a:lnTo>
                      <a:lnTo>
                        <a:pt x="619" y="789"/>
                      </a:lnTo>
                      <a:lnTo>
                        <a:pt x="601" y="798"/>
                      </a:lnTo>
                      <a:lnTo>
                        <a:pt x="583" y="806"/>
                      </a:lnTo>
                      <a:lnTo>
                        <a:pt x="564" y="814"/>
                      </a:lnTo>
                      <a:lnTo>
                        <a:pt x="544" y="820"/>
                      </a:lnTo>
                      <a:lnTo>
                        <a:pt x="524" y="826"/>
                      </a:lnTo>
                      <a:lnTo>
                        <a:pt x="504" y="831"/>
                      </a:lnTo>
                      <a:lnTo>
                        <a:pt x="484" y="834"/>
                      </a:lnTo>
                      <a:lnTo>
                        <a:pt x="462" y="837"/>
                      </a:lnTo>
                      <a:lnTo>
                        <a:pt x="441" y="838"/>
                      </a:lnTo>
                      <a:lnTo>
                        <a:pt x="420" y="839"/>
                      </a:lnTo>
                      <a:lnTo>
                        <a:pt x="398" y="838"/>
                      </a:lnTo>
                      <a:lnTo>
                        <a:pt x="377" y="837"/>
                      </a:lnTo>
                      <a:lnTo>
                        <a:pt x="356" y="834"/>
                      </a:lnTo>
                      <a:lnTo>
                        <a:pt x="335" y="831"/>
                      </a:lnTo>
                      <a:lnTo>
                        <a:pt x="315" y="826"/>
                      </a:lnTo>
                      <a:lnTo>
                        <a:pt x="295" y="820"/>
                      </a:lnTo>
                      <a:lnTo>
                        <a:pt x="276" y="814"/>
                      </a:lnTo>
                      <a:lnTo>
                        <a:pt x="256" y="806"/>
                      </a:lnTo>
                      <a:lnTo>
                        <a:pt x="238" y="798"/>
                      </a:lnTo>
                      <a:lnTo>
                        <a:pt x="220" y="789"/>
                      </a:lnTo>
                      <a:lnTo>
                        <a:pt x="202" y="778"/>
                      </a:lnTo>
                      <a:lnTo>
                        <a:pt x="185" y="767"/>
                      </a:lnTo>
                      <a:lnTo>
                        <a:pt x="168" y="756"/>
                      </a:lnTo>
                      <a:lnTo>
                        <a:pt x="153" y="743"/>
                      </a:lnTo>
                      <a:lnTo>
                        <a:pt x="138" y="730"/>
                      </a:lnTo>
                      <a:lnTo>
                        <a:pt x="122" y="717"/>
                      </a:lnTo>
                      <a:lnTo>
                        <a:pt x="109" y="701"/>
                      </a:lnTo>
                      <a:lnTo>
                        <a:pt x="96" y="686"/>
                      </a:lnTo>
                      <a:lnTo>
                        <a:pt x="83" y="671"/>
                      </a:lnTo>
                      <a:lnTo>
                        <a:pt x="72" y="654"/>
                      </a:lnTo>
                      <a:lnTo>
                        <a:pt x="61" y="638"/>
                      </a:lnTo>
                      <a:lnTo>
                        <a:pt x="50" y="619"/>
                      </a:lnTo>
                      <a:lnTo>
                        <a:pt x="41" y="601"/>
                      </a:lnTo>
                      <a:lnTo>
                        <a:pt x="33" y="583"/>
                      </a:lnTo>
                      <a:lnTo>
                        <a:pt x="25" y="564"/>
                      </a:lnTo>
                      <a:lnTo>
                        <a:pt x="19" y="544"/>
                      </a:lnTo>
                      <a:lnTo>
                        <a:pt x="13" y="524"/>
                      </a:lnTo>
                      <a:lnTo>
                        <a:pt x="9" y="504"/>
                      </a:lnTo>
                      <a:lnTo>
                        <a:pt x="5" y="484"/>
                      </a:lnTo>
                      <a:lnTo>
                        <a:pt x="2" y="462"/>
                      </a:lnTo>
                      <a:lnTo>
                        <a:pt x="1" y="441"/>
                      </a:lnTo>
                      <a:lnTo>
                        <a:pt x="0" y="420"/>
                      </a:lnTo>
                      <a:lnTo>
                        <a:pt x="1" y="398"/>
                      </a:lnTo>
                      <a:lnTo>
                        <a:pt x="2" y="377"/>
                      </a:lnTo>
                      <a:lnTo>
                        <a:pt x="5" y="356"/>
                      </a:lnTo>
                      <a:lnTo>
                        <a:pt x="9" y="335"/>
                      </a:lnTo>
                      <a:lnTo>
                        <a:pt x="13" y="314"/>
                      </a:lnTo>
                      <a:lnTo>
                        <a:pt x="19" y="295"/>
                      </a:lnTo>
                      <a:lnTo>
                        <a:pt x="25" y="276"/>
                      </a:lnTo>
                      <a:lnTo>
                        <a:pt x="33" y="257"/>
                      </a:lnTo>
                      <a:lnTo>
                        <a:pt x="41" y="237"/>
                      </a:lnTo>
                      <a:lnTo>
                        <a:pt x="50" y="220"/>
                      </a:lnTo>
                      <a:lnTo>
                        <a:pt x="61" y="202"/>
                      </a:lnTo>
                      <a:lnTo>
                        <a:pt x="72" y="186"/>
                      </a:lnTo>
                      <a:lnTo>
                        <a:pt x="83" y="168"/>
                      </a:lnTo>
                      <a:lnTo>
                        <a:pt x="96" y="153"/>
                      </a:lnTo>
                      <a:lnTo>
                        <a:pt x="109" y="138"/>
                      </a:lnTo>
                      <a:lnTo>
                        <a:pt x="122" y="123"/>
                      </a:lnTo>
                      <a:lnTo>
                        <a:pt x="138" y="110"/>
                      </a:lnTo>
                      <a:lnTo>
                        <a:pt x="153" y="97"/>
                      </a:lnTo>
                      <a:lnTo>
                        <a:pt x="168" y="83"/>
                      </a:lnTo>
                      <a:lnTo>
                        <a:pt x="185" y="72"/>
                      </a:lnTo>
                      <a:lnTo>
                        <a:pt x="202" y="61"/>
                      </a:lnTo>
                      <a:lnTo>
                        <a:pt x="220" y="51"/>
                      </a:lnTo>
                      <a:lnTo>
                        <a:pt x="238" y="42"/>
                      </a:lnTo>
                      <a:lnTo>
                        <a:pt x="256" y="34"/>
                      </a:lnTo>
                      <a:lnTo>
                        <a:pt x="276" y="26"/>
                      </a:lnTo>
                      <a:lnTo>
                        <a:pt x="295" y="20"/>
                      </a:lnTo>
                      <a:lnTo>
                        <a:pt x="315" y="13"/>
                      </a:lnTo>
                      <a:lnTo>
                        <a:pt x="335" y="9"/>
                      </a:lnTo>
                      <a:lnTo>
                        <a:pt x="356" y="5"/>
                      </a:lnTo>
                      <a:lnTo>
                        <a:pt x="377" y="2"/>
                      </a:lnTo>
                      <a:lnTo>
                        <a:pt x="398" y="1"/>
                      </a:lnTo>
                      <a:lnTo>
                        <a:pt x="420" y="0"/>
                      </a:lnTo>
                      <a:lnTo>
                        <a:pt x="441" y="1"/>
                      </a:lnTo>
                      <a:lnTo>
                        <a:pt x="462" y="2"/>
                      </a:lnTo>
                      <a:lnTo>
                        <a:pt x="484" y="5"/>
                      </a:lnTo>
                      <a:lnTo>
                        <a:pt x="504" y="9"/>
                      </a:lnTo>
                      <a:lnTo>
                        <a:pt x="524" y="13"/>
                      </a:lnTo>
                      <a:lnTo>
                        <a:pt x="544" y="20"/>
                      </a:lnTo>
                      <a:lnTo>
                        <a:pt x="564" y="26"/>
                      </a:lnTo>
                      <a:lnTo>
                        <a:pt x="583" y="34"/>
                      </a:lnTo>
                      <a:lnTo>
                        <a:pt x="601" y="42"/>
                      </a:lnTo>
                      <a:lnTo>
                        <a:pt x="619" y="51"/>
                      </a:lnTo>
                      <a:lnTo>
                        <a:pt x="638" y="61"/>
                      </a:lnTo>
                      <a:lnTo>
                        <a:pt x="655" y="72"/>
                      </a:lnTo>
                      <a:lnTo>
                        <a:pt x="671" y="83"/>
                      </a:lnTo>
                      <a:lnTo>
                        <a:pt x="687" y="97"/>
                      </a:lnTo>
                      <a:lnTo>
                        <a:pt x="703" y="110"/>
                      </a:lnTo>
                      <a:lnTo>
                        <a:pt x="717" y="123"/>
                      </a:lnTo>
                      <a:lnTo>
                        <a:pt x="731" y="138"/>
                      </a:lnTo>
                      <a:lnTo>
                        <a:pt x="744" y="153"/>
                      </a:lnTo>
                      <a:lnTo>
                        <a:pt x="756" y="168"/>
                      </a:lnTo>
                      <a:lnTo>
                        <a:pt x="769" y="186"/>
                      </a:lnTo>
                      <a:lnTo>
                        <a:pt x="780" y="202"/>
                      </a:lnTo>
                      <a:lnTo>
                        <a:pt x="790" y="220"/>
                      </a:lnTo>
                      <a:lnTo>
                        <a:pt x="799" y="237"/>
                      </a:lnTo>
                      <a:lnTo>
                        <a:pt x="807" y="257"/>
                      </a:lnTo>
                      <a:lnTo>
                        <a:pt x="815" y="276"/>
                      </a:lnTo>
                      <a:lnTo>
                        <a:pt x="821" y="295"/>
                      </a:lnTo>
                      <a:lnTo>
                        <a:pt x="827" y="314"/>
                      </a:lnTo>
                      <a:lnTo>
                        <a:pt x="831" y="335"/>
                      </a:lnTo>
                      <a:lnTo>
                        <a:pt x="836" y="356"/>
                      </a:lnTo>
                      <a:lnTo>
                        <a:pt x="839" y="377"/>
                      </a:lnTo>
                      <a:lnTo>
                        <a:pt x="840" y="398"/>
                      </a:lnTo>
                      <a:lnTo>
                        <a:pt x="841" y="420"/>
                      </a:lnTo>
                      <a:close/>
                    </a:path>
                  </a:pathLst>
                </a:custGeom>
                <a:solidFill>
                  <a:srgbClr val="c8c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>
                  <a:off x="5627520" y="297180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457" h="456">
                      <a:moveTo>
                        <a:pt x="0" y="456"/>
                      </a:moveTo>
                      <a:lnTo>
                        <a:pt x="0" y="456"/>
                      </a:lnTo>
                      <a:lnTo>
                        <a:pt x="23" y="455"/>
                      </a:lnTo>
                      <a:lnTo>
                        <a:pt x="46" y="453"/>
                      </a:lnTo>
                      <a:lnTo>
                        <a:pt x="69" y="451"/>
                      </a:lnTo>
                      <a:lnTo>
                        <a:pt x="91" y="447"/>
                      </a:lnTo>
                      <a:lnTo>
                        <a:pt x="113" y="442"/>
                      </a:lnTo>
                      <a:lnTo>
                        <a:pt x="135" y="434"/>
                      </a:lnTo>
                      <a:lnTo>
                        <a:pt x="156" y="427"/>
                      </a:lnTo>
                      <a:lnTo>
                        <a:pt x="177" y="419"/>
                      </a:lnTo>
                      <a:lnTo>
                        <a:pt x="197" y="410"/>
                      </a:lnTo>
                      <a:lnTo>
                        <a:pt x="217" y="400"/>
                      </a:lnTo>
                      <a:lnTo>
                        <a:pt x="236" y="390"/>
                      </a:lnTo>
                      <a:lnTo>
                        <a:pt x="255" y="378"/>
                      </a:lnTo>
                      <a:lnTo>
                        <a:pt x="272" y="365"/>
                      </a:lnTo>
                      <a:lnTo>
                        <a:pt x="290" y="351"/>
                      </a:lnTo>
                      <a:lnTo>
                        <a:pt x="307" y="337"/>
                      </a:lnTo>
                      <a:lnTo>
                        <a:pt x="322" y="322"/>
                      </a:lnTo>
                      <a:lnTo>
                        <a:pt x="337" y="306"/>
                      </a:lnTo>
                      <a:lnTo>
                        <a:pt x="352" y="290"/>
                      </a:lnTo>
                      <a:lnTo>
                        <a:pt x="366" y="272"/>
                      </a:lnTo>
                      <a:lnTo>
                        <a:pt x="378" y="254"/>
                      </a:lnTo>
                      <a:lnTo>
                        <a:pt x="390" y="236"/>
                      </a:lnTo>
                      <a:lnTo>
                        <a:pt x="401" y="217"/>
                      </a:lnTo>
                      <a:lnTo>
                        <a:pt x="411" y="197"/>
                      </a:lnTo>
                      <a:lnTo>
                        <a:pt x="421" y="177"/>
                      </a:lnTo>
                      <a:lnTo>
                        <a:pt x="429" y="157"/>
                      </a:lnTo>
                      <a:lnTo>
                        <a:pt x="436" y="136"/>
                      </a:lnTo>
                      <a:lnTo>
                        <a:pt x="442" y="113"/>
                      </a:lnTo>
                      <a:lnTo>
                        <a:pt x="447" y="91"/>
                      </a:lnTo>
                      <a:lnTo>
                        <a:pt x="451" y="69"/>
                      </a:lnTo>
                      <a:lnTo>
                        <a:pt x="454" y="46"/>
                      </a:lnTo>
                      <a:lnTo>
                        <a:pt x="456" y="23"/>
                      </a:lnTo>
                      <a:lnTo>
                        <a:pt x="457" y="0"/>
                      </a:lnTo>
                      <a:lnTo>
                        <a:pt x="384" y="0"/>
                      </a:lnTo>
                      <a:lnTo>
                        <a:pt x="384" y="19"/>
                      </a:lnTo>
                      <a:lnTo>
                        <a:pt x="382" y="39"/>
                      </a:lnTo>
                      <a:lnTo>
                        <a:pt x="380" y="59"/>
                      </a:lnTo>
                      <a:lnTo>
                        <a:pt x="377" y="77"/>
                      </a:lnTo>
                      <a:lnTo>
                        <a:pt x="372" y="95"/>
                      </a:lnTo>
                      <a:lnTo>
                        <a:pt x="367" y="113"/>
                      </a:lnTo>
                      <a:lnTo>
                        <a:pt x="361" y="131"/>
                      </a:lnTo>
                      <a:lnTo>
                        <a:pt x="354" y="149"/>
                      </a:lnTo>
                      <a:lnTo>
                        <a:pt x="347" y="166"/>
                      </a:lnTo>
                      <a:lnTo>
                        <a:pt x="337" y="182"/>
                      </a:lnTo>
                      <a:lnTo>
                        <a:pt x="328" y="198"/>
                      </a:lnTo>
                      <a:lnTo>
                        <a:pt x="318" y="214"/>
                      </a:lnTo>
                      <a:lnTo>
                        <a:pt x="308" y="229"/>
                      </a:lnTo>
                      <a:lnTo>
                        <a:pt x="296" y="244"/>
                      </a:lnTo>
                      <a:lnTo>
                        <a:pt x="284" y="257"/>
                      </a:lnTo>
                      <a:lnTo>
                        <a:pt x="271" y="270"/>
                      </a:lnTo>
                      <a:lnTo>
                        <a:pt x="258" y="283"/>
                      </a:lnTo>
                      <a:lnTo>
                        <a:pt x="244" y="296"/>
                      </a:lnTo>
                      <a:lnTo>
                        <a:pt x="229" y="307"/>
                      </a:lnTo>
                      <a:lnTo>
                        <a:pt x="215" y="318"/>
                      </a:lnTo>
                      <a:lnTo>
                        <a:pt x="198" y="328"/>
                      </a:lnTo>
                      <a:lnTo>
                        <a:pt x="182" y="337"/>
                      </a:lnTo>
                      <a:lnTo>
                        <a:pt x="166" y="345"/>
                      </a:lnTo>
                      <a:lnTo>
                        <a:pt x="149" y="353"/>
                      </a:lnTo>
                      <a:lnTo>
                        <a:pt x="131" y="359"/>
                      </a:lnTo>
                      <a:lnTo>
                        <a:pt x="114" y="366"/>
                      </a:lnTo>
                      <a:lnTo>
                        <a:pt x="96" y="371"/>
                      </a:lnTo>
                      <a:lnTo>
                        <a:pt x="77" y="376"/>
                      </a:lnTo>
                      <a:lnTo>
                        <a:pt x="58" y="379"/>
                      </a:lnTo>
                      <a:lnTo>
                        <a:pt x="39" y="381"/>
                      </a:lnTo>
                      <a:lnTo>
                        <a:pt x="19" y="383"/>
                      </a:lnTo>
                      <a:lnTo>
                        <a:pt x="0" y="383"/>
                      </a:lnTo>
                      <a:lnTo>
                        <a:pt x="0" y="383"/>
                      </a:lnTo>
                      <a:lnTo>
                        <a:pt x="0" y="456"/>
                      </a:lnTo>
                      <a:lnTo>
                        <a:pt x="0" y="456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>
                  <a:off x="5603760" y="2971800"/>
                  <a:ext cx="23760" cy="23760"/>
                </a:xfrm>
                <a:custGeom>
                  <a:avLst/>
                  <a:gdLst/>
                  <a:ahLst/>
                  <a:rect l="l" t="t" r="r" b="b"/>
                  <a:pathLst>
                    <a:path w="457" h="45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23"/>
                      </a:lnTo>
                      <a:lnTo>
                        <a:pt x="3" y="46"/>
                      </a:lnTo>
                      <a:lnTo>
                        <a:pt x="6" y="69"/>
                      </a:lnTo>
                      <a:lnTo>
                        <a:pt x="10" y="91"/>
                      </a:lnTo>
                      <a:lnTo>
                        <a:pt x="15" y="113"/>
                      </a:lnTo>
                      <a:lnTo>
                        <a:pt x="21" y="136"/>
                      </a:lnTo>
                      <a:lnTo>
                        <a:pt x="29" y="157"/>
                      </a:lnTo>
                      <a:lnTo>
                        <a:pt x="37" y="177"/>
                      </a:lnTo>
                      <a:lnTo>
                        <a:pt x="46" y="197"/>
                      </a:lnTo>
                      <a:lnTo>
                        <a:pt x="56" y="217"/>
                      </a:lnTo>
                      <a:lnTo>
                        <a:pt x="67" y="236"/>
                      </a:lnTo>
                      <a:lnTo>
                        <a:pt x="78" y="254"/>
                      </a:lnTo>
                      <a:lnTo>
                        <a:pt x="91" y="272"/>
                      </a:lnTo>
                      <a:lnTo>
                        <a:pt x="105" y="290"/>
                      </a:lnTo>
                      <a:lnTo>
                        <a:pt x="119" y="306"/>
                      </a:lnTo>
                      <a:lnTo>
                        <a:pt x="134" y="322"/>
                      </a:lnTo>
                      <a:lnTo>
                        <a:pt x="150" y="337"/>
                      </a:lnTo>
                      <a:lnTo>
                        <a:pt x="167" y="351"/>
                      </a:lnTo>
                      <a:lnTo>
                        <a:pt x="184" y="365"/>
                      </a:lnTo>
                      <a:lnTo>
                        <a:pt x="202" y="378"/>
                      </a:lnTo>
                      <a:lnTo>
                        <a:pt x="220" y="390"/>
                      </a:lnTo>
                      <a:lnTo>
                        <a:pt x="240" y="400"/>
                      </a:lnTo>
                      <a:lnTo>
                        <a:pt x="259" y="410"/>
                      </a:lnTo>
                      <a:lnTo>
                        <a:pt x="279" y="419"/>
                      </a:lnTo>
                      <a:lnTo>
                        <a:pt x="299" y="427"/>
                      </a:lnTo>
                      <a:lnTo>
                        <a:pt x="321" y="434"/>
                      </a:lnTo>
                      <a:lnTo>
                        <a:pt x="343" y="442"/>
                      </a:lnTo>
                      <a:lnTo>
                        <a:pt x="364" y="447"/>
                      </a:lnTo>
                      <a:lnTo>
                        <a:pt x="388" y="451"/>
                      </a:lnTo>
                      <a:lnTo>
                        <a:pt x="410" y="453"/>
                      </a:lnTo>
                      <a:lnTo>
                        <a:pt x="433" y="455"/>
                      </a:lnTo>
                      <a:lnTo>
                        <a:pt x="457" y="456"/>
                      </a:lnTo>
                      <a:lnTo>
                        <a:pt x="457" y="383"/>
                      </a:lnTo>
                      <a:lnTo>
                        <a:pt x="436" y="383"/>
                      </a:lnTo>
                      <a:lnTo>
                        <a:pt x="417" y="381"/>
                      </a:lnTo>
                      <a:lnTo>
                        <a:pt x="398" y="379"/>
                      </a:lnTo>
                      <a:lnTo>
                        <a:pt x="380" y="376"/>
                      </a:lnTo>
                      <a:lnTo>
                        <a:pt x="360" y="371"/>
                      </a:lnTo>
                      <a:lnTo>
                        <a:pt x="343" y="366"/>
                      </a:lnTo>
                      <a:lnTo>
                        <a:pt x="325" y="359"/>
                      </a:lnTo>
                      <a:lnTo>
                        <a:pt x="308" y="353"/>
                      </a:lnTo>
                      <a:lnTo>
                        <a:pt x="290" y="345"/>
                      </a:lnTo>
                      <a:lnTo>
                        <a:pt x="274" y="337"/>
                      </a:lnTo>
                      <a:lnTo>
                        <a:pt x="258" y="328"/>
                      </a:lnTo>
                      <a:lnTo>
                        <a:pt x="243" y="318"/>
                      </a:lnTo>
                      <a:lnTo>
                        <a:pt x="227" y="307"/>
                      </a:lnTo>
                      <a:lnTo>
                        <a:pt x="213" y="296"/>
                      </a:lnTo>
                      <a:lnTo>
                        <a:pt x="199" y="283"/>
                      </a:lnTo>
                      <a:lnTo>
                        <a:pt x="186" y="271"/>
                      </a:lnTo>
                      <a:lnTo>
                        <a:pt x="173" y="257"/>
                      </a:lnTo>
                      <a:lnTo>
                        <a:pt x="160" y="244"/>
                      </a:lnTo>
                      <a:lnTo>
                        <a:pt x="149" y="229"/>
                      </a:lnTo>
                      <a:lnTo>
                        <a:pt x="138" y="214"/>
                      </a:lnTo>
                      <a:lnTo>
                        <a:pt x="129" y="198"/>
                      </a:lnTo>
                      <a:lnTo>
                        <a:pt x="120" y="182"/>
                      </a:lnTo>
                      <a:lnTo>
                        <a:pt x="111" y="166"/>
                      </a:lnTo>
                      <a:lnTo>
                        <a:pt x="103" y="149"/>
                      </a:lnTo>
                      <a:lnTo>
                        <a:pt x="97" y="131"/>
                      </a:lnTo>
                      <a:lnTo>
                        <a:pt x="90" y="114"/>
                      </a:lnTo>
                      <a:lnTo>
                        <a:pt x="85" y="96"/>
                      </a:lnTo>
                      <a:lnTo>
                        <a:pt x="80" y="77"/>
                      </a:lnTo>
                      <a:lnTo>
                        <a:pt x="77" y="59"/>
                      </a:lnTo>
                      <a:lnTo>
                        <a:pt x="75" y="39"/>
                      </a:lnTo>
                      <a:lnTo>
                        <a:pt x="73" y="19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>
                  <a:off x="5603760" y="2948040"/>
                  <a:ext cx="23760" cy="23760"/>
                </a:xfrm>
                <a:custGeom>
                  <a:avLst/>
                  <a:gdLst/>
                  <a:ahLst/>
                  <a:rect l="l" t="t" r="r" b="b"/>
                  <a:pathLst>
                    <a:path w="457" h="456">
                      <a:moveTo>
                        <a:pt x="457" y="0"/>
                      </a:moveTo>
                      <a:lnTo>
                        <a:pt x="457" y="0"/>
                      </a:lnTo>
                      <a:lnTo>
                        <a:pt x="433" y="1"/>
                      </a:lnTo>
                      <a:lnTo>
                        <a:pt x="410" y="3"/>
                      </a:lnTo>
                      <a:lnTo>
                        <a:pt x="388" y="6"/>
                      </a:lnTo>
                      <a:lnTo>
                        <a:pt x="364" y="10"/>
                      </a:lnTo>
                      <a:lnTo>
                        <a:pt x="343" y="15"/>
                      </a:lnTo>
                      <a:lnTo>
                        <a:pt x="321" y="21"/>
                      </a:lnTo>
                      <a:lnTo>
                        <a:pt x="300" y="28"/>
                      </a:lnTo>
                      <a:lnTo>
                        <a:pt x="279" y="36"/>
                      </a:lnTo>
                      <a:lnTo>
                        <a:pt x="259" y="45"/>
                      </a:lnTo>
                      <a:lnTo>
                        <a:pt x="240" y="56"/>
                      </a:lnTo>
                      <a:lnTo>
                        <a:pt x="220" y="67"/>
                      </a:lnTo>
                      <a:lnTo>
                        <a:pt x="202" y="78"/>
                      </a:lnTo>
                      <a:lnTo>
                        <a:pt x="184" y="91"/>
                      </a:lnTo>
                      <a:lnTo>
                        <a:pt x="167" y="104"/>
                      </a:lnTo>
                      <a:lnTo>
                        <a:pt x="150" y="118"/>
                      </a:lnTo>
                      <a:lnTo>
                        <a:pt x="134" y="134"/>
                      </a:lnTo>
                      <a:lnTo>
                        <a:pt x="119" y="150"/>
                      </a:lnTo>
                      <a:lnTo>
                        <a:pt x="105" y="166"/>
                      </a:lnTo>
                      <a:lnTo>
                        <a:pt x="91" y="183"/>
                      </a:lnTo>
                      <a:lnTo>
                        <a:pt x="78" y="201"/>
                      </a:lnTo>
                      <a:lnTo>
                        <a:pt x="67" y="220"/>
                      </a:lnTo>
                      <a:lnTo>
                        <a:pt x="56" y="239"/>
                      </a:lnTo>
                      <a:lnTo>
                        <a:pt x="46" y="258"/>
                      </a:lnTo>
                      <a:lnTo>
                        <a:pt x="37" y="278"/>
                      </a:lnTo>
                      <a:lnTo>
                        <a:pt x="29" y="299"/>
                      </a:lnTo>
                      <a:lnTo>
                        <a:pt x="21" y="320"/>
                      </a:lnTo>
                      <a:lnTo>
                        <a:pt x="15" y="342"/>
                      </a:lnTo>
                      <a:lnTo>
                        <a:pt x="10" y="364"/>
                      </a:lnTo>
                      <a:lnTo>
                        <a:pt x="6" y="387"/>
                      </a:lnTo>
                      <a:lnTo>
                        <a:pt x="3" y="409"/>
                      </a:lnTo>
                      <a:lnTo>
                        <a:pt x="1" y="432"/>
                      </a:lnTo>
                      <a:lnTo>
                        <a:pt x="0" y="456"/>
                      </a:lnTo>
                      <a:lnTo>
                        <a:pt x="73" y="456"/>
                      </a:lnTo>
                      <a:lnTo>
                        <a:pt x="73" y="435"/>
                      </a:lnTo>
                      <a:lnTo>
                        <a:pt x="75" y="416"/>
                      </a:lnTo>
                      <a:lnTo>
                        <a:pt x="77" y="397"/>
                      </a:lnTo>
                      <a:lnTo>
                        <a:pt x="80" y="379"/>
                      </a:lnTo>
                      <a:lnTo>
                        <a:pt x="85" y="359"/>
                      </a:lnTo>
                      <a:lnTo>
                        <a:pt x="90" y="341"/>
                      </a:lnTo>
                      <a:lnTo>
                        <a:pt x="97" y="324"/>
                      </a:lnTo>
                      <a:lnTo>
                        <a:pt x="103" y="307"/>
                      </a:lnTo>
                      <a:lnTo>
                        <a:pt x="111" y="290"/>
                      </a:lnTo>
                      <a:lnTo>
                        <a:pt x="120" y="273"/>
                      </a:lnTo>
                      <a:lnTo>
                        <a:pt x="129" y="257"/>
                      </a:lnTo>
                      <a:lnTo>
                        <a:pt x="138" y="241"/>
                      </a:lnTo>
                      <a:lnTo>
                        <a:pt x="149" y="227"/>
                      </a:lnTo>
                      <a:lnTo>
                        <a:pt x="160" y="212"/>
                      </a:lnTo>
                      <a:lnTo>
                        <a:pt x="173" y="198"/>
                      </a:lnTo>
                      <a:lnTo>
                        <a:pt x="186" y="185"/>
                      </a:lnTo>
                      <a:lnTo>
                        <a:pt x="199" y="172"/>
                      </a:lnTo>
                      <a:lnTo>
                        <a:pt x="213" y="160"/>
                      </a:lnTo>
                      <a:lnTo>
                        <a:pt x="227" y="149"/>
                      </a:lnTo>
                      <a:lnTo>
                        <a:pt x="243" y="138"/>
                      </a:lnTo>
                      <a:lnTo>
                        <a:pt x="258" y="127"/>
                      </a:lnTo>
                      <a:lnTo>
                        <a:pt x="274" y="118"/>
                      </a:lnTo>
                      <a:lnTo>
                        <a:pt x="290" y="110"/>
                      </a:lnTo>
                      <a:lnTo>
                        <a:pt x="308" y="102"/>
                      </a:lnTo>
                      <a:lnTo>
                        <a:pt x="325" y="96"/>
                      </a:lnTo>
                      <a:lnTo>
                        <a:pt x="343" y="90"/>
                      </a:lnTo>
                      <a:lnTo>
                        <a:pt x="360" y="85"/>
                      </a:lnTo>
                      <a:lnTo>
                        <a:pt x="380" y="80"/>
                      </a:lnTo>
                      <a:lnTo>
                        <a:pt x="398" y="77"/>
                      </a:lnTo>
                      <a:lnTo>
                        <a:pt x="417" y="75"/>
                      </a:lnTo>
                      <a:lnTo>
                        <a:pt x="436" y="73"/>
                      </a:lnTo>
                      <a:lnTo>
                        <a:pt x="457" y="73"/>
                      </a:lnTo>
                      <a:lnTo>
                        <a:pt x="457" y="73"/>
                      </a:lnTo>
                      <a:lnTo>
                        <a:pt x="457" y="0"/>
                      </a:lnTo>
                      <a:lnTo>
                        <a:pt x="457" y="0"/>
                      </a:lnTo>
                      <a:lnTo>
                        <a:pt x="457" y="0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>
                  <a:off x="5627520" y="294804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457" h="456">
                      <a:moveTo>
                        <a:pt x="457" y="456"/>
                      </a:moveTo>
                      <a:lnTo>
                        <a:pt x="457" y="456"/>
                      </a:lnTo>
                      <a:lnTo>
                        <a:pt x="456" y="432"/>
                      </a:lnTo>
                      <a:lnTo>
                        <a:pt x="454" y="409"/>
                      </a:lnTo>
                      <a:lnTo>
                        <a:pt x="451" y="387"/>
                      </a:lnTo>
                      <a:lnTo>
                        <a:pt x="447" y="364"/>
                      </a:lnTo>
                      <a:lnTo>
                        <a:pt x="442" y="342"/>
                      </a:lnTo>
                      <a:lnTo>
                        <a:pt x="436" y="320"/>
                      </a:lnTo>
                      <a:lnTo>
                        <a:pt x="429" y="299"/>
                      </a:lnTo>
                      <a:lnTo>
                        <a:pt x="421" y="278"/>
                      </a:lnTo>
                      <a:lnTo>
                        <a:pt x="411" y="258"/>
                      </a:lnTo>
                      <a:lnTo>
                        <a:pt x="401" y="239"/>
                      </a:lnTo>
                      <a:lnTo>
                        <a:pt x="390" y="220"/>
                      </a:lnTo>
                      <a:lnTo>
                        <a:pt x="378" y="201"/>
                      </a:lnTo>
                      <a:lnTo>
                        <a:pt x="366" y="183"/>
                      </a:lnTo>
                      <a:lnTo>
                        <a:pt x="352" y="166"/>
                      </a:lnTo>
                      <a:lnTo>
                        <a:pt x="337" y="150"/>
                      </a:lnTo>
                      <a:lnTo>
                        <a:pt x="322" y="134"/>
                      </a:lnTo>
                      <a:lnTo>
                        <a:pt x="306" y="118"/>
                      </a:lnTo>
                      <a:lnTo>
                        <a:pt x="290" y="104"/>
                      </a:lnTo>
                      <a:lnTo>
                        <a:pt x="272" y="91"/>
                      </a:lnTo>
                      <a:lnTo>
                        <a:pt x="254" y="78"/>
                      </a:lnTo>
                      <a:lnTo>
                        <a:pt x="236" y="66"/>
                      </a:lnTo>
                      <a:lnTo>
                        <a:pt x="217" y="56"/>
                      </a:lnTo>
                      <a:lnTo>
                        <a:pt x="197" y="45"/>
                      </a:lnTo>
                      <a:lnTo>
                        <a:pt x="177" y="36"/>
                      </a:lnTo>
                      <a:lnTo>
                        <a:pt x="156" y="28"/>
                      </a:lnTo>
                      <a:lnTo>
                        <a:pt x="135" y="21"/>
                      </a:lnTo>
                      <a:lnTo>
                        <a:pt x="113" y="15"/>
                      </a:lnTo>
                      <a:lnTo>
                        <a:pt x="91" y="10"/>
                      </a:lnTo>
                      <a:lnTo>
                        <a:pt x="69" y="6"/>
                      </a:lnTo>
                      <a:lnTo>
                        <a:pt x="46" y="3"/>
                      </a:lnTo>
                      <a:lnTo>
                        <a:pt x="23" y="1"/>
                      </a:lnTo>
                      <a:lnTo>
                        <a:pt x="0" y="0"/>
                      </a:lnTo>
                      <a:lnTo>
                        <a:pt x="0" y="73"/>
                      </a:lnTo>
                      <a:lnTo>
                        <a:pt x="19" y="73"/>
                      </a:lnTo>
                      <a:lnTo>
                        <a:pt x="39" y="75"/>
                      </a:lnTo>
                      <a:lnTo>
                        <a:pt x="58" y="77"/>
                      </a:lnTo>
                      <a:lnTo>
                        <a:pt x="77" y="80"/>
                      </a:lnTo>
                      <a:lnTo>
                        <a:pt x="96" y="85"/>
                      </a:lnTo>
                      <a:lnTo>
                        <a:pt x="114" y="90"/>
                      </a:lnTo>
                      <a:lnTo>
                        <a:pt x="131" y="96"/>
                      </a:lnTo>
                      <a:lnTo>
                        <a:pt x="149" y="102"/>
                      </a:lnTo>
                      <a:lnTo>
                        <a:pt x="166" y="110"/>
                      </a:lnTo>
                      <a:lnTo>
                        <a:pt x="182" y="118"/>
                      </a:lnTo>
                      <a:lnTo>
                        <a:pt x="198" y="128"/>
                      </a:lnTo>
                      <a:lnTo>
                        <a:pt x="215" y="138"/>
                      </a:lnTo>
                      <a:lnTo>
                        <a:pt x="229" y="149"/>
                      </a:lnTo>
                      <a:lnTo>
                        <a:pt x="244" y="160"/>
                      </a:lnTo>
                      <a:lnTo>
                        <a:pt x="258" y="172"/>
                      </a:lnTo>
                      <a:lnTo>
                        <a:pt x="271" y="185"/>
                      </a:lnTo>
                      <a:lnTo>
                        <a:pt x="284" y="198"/>
                      </a:lnTo>
                      <a:lnTo>
                        <a:pt x="296" y="212"/>
                      </a:lnTo>
                      <a:lnTo>
                        <a:pt x="308" y="227"/>
                      </a:lnTo>
                      <a:lnTo>
                        <a:pt x="318" y="241"/>
                      </a:lnTo>
                      <a:lnTo>
                        <a:pt x="328" y="257"/>
                      </a:lnTo>
                      <a:lnTo>
                        <a:pt x="337" y="273"/>
                      </a:lnTo>
                      <a:lnTo>
                        <a:pt x="347" y="290"/>
                      </a:lnTo>
                      <a:lnTo>
                        <a:pt x="354" y="307"/>
                      </a:lnTo>
                      <a:lnTo>
                        <a:pt x="361" y="324"/>
                      </a:lnTo>
                      <a:lnTo>
                        <a:pt x="367" y="341"/>
                      </a:lnTo>
                      <a:lnTo>
                        <a:pt x="372" y="359"/>
                      </a:lnTo>
                      <a:lnTo>
                        <a:pt x="377" y="379"/>
                      </a:lnTo>
                      <a:lnTo>
                        <a:pt x="380" y="397"/>
                      </a:lnTo>
                      <a:lnTo>
                        <a:pt x="382" y="416"/>
                      </a:lnTo>
                      <a:lnTo>
                        <a:pt x="384" y="435"/>
                      </a:lnTo>
                      <a:lnTo>
                        <a:pt x="384" y="456"/>
                      </a:lnTo>
                      <a:lnTo>
                        <a:pt x="384" y="456"/>
                      </a:lnTo>
                      <a:lnTo>
                        <a:pt x="457" y="456"/>
                      </a:lnTo>
                      <a:lnTo>
                        <a:pt x="457" y="456"/>
                      </a:lnTo>
                      <a:lnTo>
                        <a:pt x="457" y="456"/>
                      </a:lnTo>
                      <a:close/>
                    </a:path>
                  </a:pathLst>
                </a:custGeom>
                <a:solidFill>
                  <a:srgbClr val="4e5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>
                  <a:off x="5249880" y="2370240"/>
                  <a:ext cx="601560" cy="420480"/>
                </a:xfrm>
                <a:custGeom>
                  <a:avLst/>
                  <a:gdLst/>
                  <a:ahLst/>
                  <a:rect l="l" t="t" r="r" b="b"/>
                  <a:pathLst>
                    <a:path w="11360" h="7968">
                      <a:moveTo>
                        <a:pt x="1084" y="0"/>
                      </a:moveTo>
                      <a:lnTo>
                        <a:pt x="10277" y="0"/>
                      </a:lnTo>
                      <a:lnTo>
                        <a:pt x="10333" y="2"/>
                      </a:lnTo>
                      <a:lnTo>
                        <a:pt x="10388" y="7"/>
                      </a:lnTo>
                      <a:lnTo>
                        <a:pt x="10442" y="14"/>
                      </a:lnTo>
                      <a:lnTo>
                        <a:pt x="10495" y="23"/>
                      </a:lnTo>
                      <a:lnTo>
                        <a:pt x="10548" y="35"/>
                      </a:lnTo>
                      <a:lnTo>
                        <a:pt x="10600" y="49"/>
                      </a:lnTo>
                      <a:lnTo>
                        <a:pt x="10649" y="66"/>
                      </a:lnTo>
                      <a:lnTo>
                        <a:pt x="10699" y="86"/>
                      </a:lnTo>
                      <a:lnTo>
                        <a:pt x="10747" y="108"/>
                      </a:lnTo>
                      <a:lnTo>
                        <a:pt x="10793" y="131"/>
                      </a:lnTo>
                      <a:lnTo>
                        <a:pt x="10839" y="158"/>
                      </a:lnTo>
                      <a:lnTo>
                        <a:pt x="10883" y="186"/>
                      </a:lnTo>
                      <a:lnTo>
                        <a:pt x="10925" y="216"/>
                      </a:lnTo>
                      <a:lnTo>
                        <a:pt x="10967" y="248"/>
                      </a:lnTo>
                      <a:lnTo>
                        <a:pt x="11005" y="282"/>
                      </a:lnTo>
                      <a:lnTo>
                        <a:pt x="11043" y="318"/>
                      </a:lnTo>
                      <a:lnTo>
                        <a:pt x="11079" y="355"/>
                      </a:lnTo>
                      <a:lnTo>
                        <a:pt x="11113" y="395"/>
                      </a:lnTo>
                      <a:lnTo>
                        <a:pt x="11145" y="435"/>
                      </a:lnTo>
                      <a:lnTo>
                        <a:pt x="11176" y="478"/>
                      </a:lnTo>
                      <a:lnTo>
                        <a:pt x="11204" y="522"/>
                      </a:lnTo>
                      <a:lnTo>
                        <a:pt x="11230" y="567"/>
                      </a:lnTo>
                      <a:lnTo>
                        <a:pt x="11254" y="614"/>
                      </a:lnTo>
                      <a:lnTo>
                        <a:pt x="11275" y="662"/>
                      </a:lnTo>
                      <a:lnTo>
                        <a:pt x="11295" y="711"/>
                      </a:lnTo>
                      <a:lnTo>
                        <a:pt x="11312" y="761"/>
                      </a:lnTo>
                      <a:lnTo>
                        <a:pt x="11327" y="813"/>
                      </a:lnTo>
                      <a:lnTo>
                        <a:pt x="11339" y="865"/>
                      </a:lnTo>
                      <a:lnTo>
                        <a:pt x="11348" y="919"/>
                      </a:lnTo>
                      <a:lnTo>
                        <a:pt x="11355" y="972"/>
                      </a:lnTo>
                      <a:lnTo>
                        <a:pt x="11359" y="1028"/>
                      </a:lnTo>
                      <a:lnTo>
                        <a:pt x="11360" y="1083"/>
                      </a:lnTo>
                      <a:lnTo>
                        <a:pt x="11360" y="6886"/>
                      </a:lnTo>
                      <a:lnTo>
                        <a:pt x="11359" y="6942"/>
                      </a:lnTo>
                      <a:lnTo>
                        <a:pt x="11355" y="6996"/>
                      </a:lnTo>
                      <a:lnTo>
                        <a:pt x="11348" y="7050"/>
                      </a:lnTo>
                      <a:lnTo>
                        <a:pt x="11339" y="7104"/>
                      </a:lnTo>
                      <a:lnTo>
                        <a:pt x="11327" y="7156"/>
                      </a:lnTo>
                      <a:lnTo>
                        <a:pt x="11312" y="7207"/>
                      </a:lnTo>
                      <a:lnTo>
                        <a:pt x="11295" y="7258"/>
                      </a:lnTo>
                      <a:lnTo>
                        <a:pt x="11275" y="7306"/>
                      </a:lnTo>
                      <a:lnTo>
                        <a:pt x="11254" y="7355"/>
                      </a:lnTo>
                      <a:lnTo>
                        <a:pt x="11230" y="7402"/>
                      </a:lnTo>
                      <a:lnTo>
                        <a:pt x="11204" y="7447"/>
                      </a:lnTo>
                      <a:lnTo>
                        <a:pt x="11176" y="7491"/>
                      </a:lnTo>
                      <a:lnTo>
                        <a:pt x="11145" y="7533"/>
                      </a:lnTo>
                      <a:lnTo>
                        <a:pt x="11113" y="7574"/>
                      </a:lnTo>
                      <a:lnTo>
                        <a:pt x="11079" y="7613"/>
                      </a:lnTo>
                      <a:lnTo>
                        <a:pt x="11043" y="7651"/>
                      </a:lnTo>
                      <a:lnTo>
                        <a:pt x="11005" y="7686"/>
                      </a:lnTo>
                      <a:lnTo>
                        <a:pt x="10967" y="7721"/>
                      </a:lnTo>
                      <a:lnTo>
                        <a:pt x="10925" y="7753"/>
                      </a:lnTo>
                      <a:lnTo>
                        <a:pt x="10883" y="7783"/>
                      </a:lnTo>
                      <a:lnTo>
                        <a:pt x="10839" y="7811"/>
                      </a:lnTo>
                      <a:lnTo>
                        <a:pt x="10793" y="7837"/>
                      </a:lnTo>
                      <a:lnTo>
                        <a:pt x="10747" y="7861"/>
                      </a:lnTo>
                      <a:lnTo>
                        <a:pt x="10699" y="7883"/>
                      </a:lnTo>
                      <a:lnTo>
                        <a:pt x="10649" y="7902"/>
                      </a:lnTo>
                      <a:lnTo>
                        <a:pt x="10600" y="7919"/>
                      </a:lnTo>
                      <a:lnTo>
                        <a:pt x="10548" y="7934"/>
                      </a:lnTo>
                      <a:lnTo>
                        <a:pt x="10495" y="7946"/>
                      </a:lnTo>
                      <a:lnTo>
                        <a:pt x="10442" y="7955"/>
                      </a:lnTo>
                      <a:lnTo>
                        <a:pt x="10388" y="7962"/>
                      </a:lnTo>
                      <a:lnTo>
                        <a:pt x="10333" y="7966"/>
                      </a:lnTo>
                      <a:lnTo>
                        <a:pt x="10277" y="7968"/>
                      </a:lnTo>
                      <a:lnTo>
                        <a:pt x="1084" y="7968"/>
                      </a:lnTo>
                      <a:lnTo>
                        <a:pt x="1028" y="7966"/>
                      </a:lnTo>
                      <a:lnTo>
                        <a:pt x="973" y="7962"/>
                      </a:lnTo>
                      <a:lnTo>
                        <a:pt x="918" y="7955"/>
                      </a:lnTo>
                      <a:lnTo>
                        <a:pt x="865" y="7946"/>
                      </a:lnTo>
                      <a:lnTo>
                        <a:pt x="813" y="7934"/>
                      </a:lnTo>
                      <a:lnTo>
                        <a:pt x="761" y="7919"/>
                      </a:lnTo>
                      <a:lnTo>
                        <a:pt x="710" y="7902"/>
                      </a:lnTo>
                      <a:lnTo>
                        <a:pt x="662" y="7883"/>
                      </a:lnTo>
                      <a:lnTo>
                        <a:pt x="613" y="7861"/>
                      </a:lnTo>
                      <a:lnTo>
                        <a:pt x="566" y="7837"/>
                      </a:lnTo>
                      <a:lnTo>
                        <a:pt x="522" y="7811"/>
                      </a:lnTo>
                      <a:lnTo>
                        <a:pt x="477" y="7783"/>
                      </a:lnTo>
                      <a:lnTo>
                        <a:pt x="435" y="7753"/>
                      </a:lnTo>
                      <a:lnTo>
                        <a:pt x="394" y="7721"/>
                      </a:lnTo>
                      <a:lnTo>
                        <a:pt x="354" y="7686"/>
                      </a:lnTo>
                      <a:lnTo>
                        <a:pt x="317" y="7651"/>
                      </a:lnTo>
                      <a:lnTo>
                        <a:pt x="281" y="7613"/>
                      </a:lnTo>
                      <a:lnTo>
                        <a:pt x="247" y="7574"/>
                      </a:lnTo>
                      <a:lnTo>
                        <a:pt x="215" y="7533"/>
                      </a:lnTo>
                      <a:lnTo>
                        <a:pt x="185" y="7491"/>
                      </a:lnTo>
                      <a:lnTo>
                        <a:pt x="157" y="7447"/>
                      </a:lnTo>
                      <a:lnTo>
                        <a:pt x="130" y="7402"/>
                      </a:lnTo>
                      <a:lnTo>
                        <a:pt x="107" y="7355"/>
                      </a:lnTo>
                      <a:lnTo>
                        <a:pt x="86" y="7306"/>
                      </a:lnTo>
                      <a:lnTo>
                        <a:pt x="65" y="7258"/>
                      </a:lnTo>
                      <a:lnTo>
                        <a:pt x="49" y="7207"/>
                      </a:lnTo>
                      <a:lnTo>
                        <a:pt x="34" y="7156"/>
                      </a:lnTo>
                      <a:lnTo>
                        <a:pt x="22" y="7104"/>
                      </a:lnTo>
                      <a:lnTo>
                        <a:pt x="13" y="7050"/>
                      </a:lnTo>
                      <a:lnTo>
                        <a:pt x="5" y="6996"/>
                      </a:lnTo>
                      <a:lnTo>
                        <a:pt x="1" y="6942"/>
                      </a:lnTo>
                      <a:lnTo>
                        <a:pt x="0" y="6886"/>
                      </a:lnTo>
                      <a:lnTo>
                        <a:pt x="0" y="1083"/>
                      </a:lnTo>
                      <a:lnTo>
                        <a:pt x="1" y="1028"/>
                      </a:lnTo>
                      <a:lnTo>
                        <a:pt x="5" y="972"/>
                      </a:lnTo>
                      <a:lnTo>
                        <a:pt x="13" y="919"/>
                      </a:lnTo>
                      <a:lnTo>
                        <a:pt x="22" y="865"/>
                      </a:lnTo>
                      <a:lnTo>
                        <a:pt x="34" y="813"/>
                      </a:lnTo>
                      <a:lnTo>
                        <a:pt x="49" y="761"/>
                      </a:lnTo>
                      <a:lnTo>
                        <a:pt x="65" y="711"/>
                      </a:lnTo>
                      <a:lnTo>
                        <a:pt x="86" y="662"/>
                      </a:lnTo>
                      <a:lnTo>
                        <a:pt x="107" y="614"/>
                      </a:lnTo>
                      <a:lnTo>
                        <a:pt x="130" y="567"/>
                      </a:lnTo>
                      <a:lnTo>
                        <a:pt x="157" y="522"/>
                      </a:lnTo>
                      <a:lnTo>
                        <a:pt x="185" y="478"/>
                      </a:lnTo>
                      <a:lnTo>
                        <a:pt x="215" y="435"/>
                      </a:lnTo>
                      <a:lnTo>
                        <a:pt x="247" y="395"/>
                      </a:lnTo>
                      <a:lnTo>
                        <a:pt x="281" y="355"/>
                      </a:lnTo>
                      <a:lnTo>
                        <a:pt x="317" y="318"/>
                      </a:lnTo>
                      <a:lnTo>
                        <a:pt x="354" y="282"/>
                      </a:lnTo>
                      <a:lnTo>
                        <a:pt x="394" y="248"/>
                      </a:lnTo>
                      <a:lnTo>
                        <a:pt x="435" y="216"/>
                      </a:lnTo>
                      <a:lnTo>
                        <a:pt x="477" y="186"/>
                      </a:lnTo>
                      <a:lnTo>
                        <a:pt x="522" y="158"/>
                      </a:lnTo>
                      <a:lnTo>
                        <a:pt x="566" y="131"/>
                      </a:lnTo>
                      <a:lnTo>
                        <a:pt x="613" y="108"/>
                      </a:lnTo>
                      <a:lnTo>
                        <a:pt x="662" y="86"/>
                      </a:lnTo>
                      <a:lnTo>
                        <a:pt x="710" y="66"/>
                      </a:lnTo>
                      <a:lnTo>
                        <a:pt x="761" y="49"/>
                      </a:lnTo>
                      <a:lnTo>
                        <a:pt x="813" y="35"/>
                      </a:lnTo>
                      <a:lnTo>
                        <a:pt x="865" y="23"/>
                      </a:lnTo>
                      <a:lnTo>
                        <a:pt x="918" y="14"/>
                      </a:lnTo>
                      <a:lnTo>
                        <a:pt x="973" y="7"/>
                      </a:lnTo>
                      <a:lnTo>
                        <a:pt x="1028" y="2"/>
                      </a:lnTo>
                      <a:lnTo>
                        <a:pt x="1084" y="0"/>
                      </a:lnTo>
                      <a:close/>
                    </a:path>
                  </a:pathLst>
                </a:custGeom>
                <a:solidFill>
                  <a:srgbClr val="f4f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>
                  <a:off x="5373720" y="2389320"/>
                  <a:ext cx="154080" cy="268200"/>
                </a:xfrm>
                <a:custGeom>
                  <a:avLst/>
                  <a:gdLst/>
                  <a:ahLst/>
                  <a:rect l="l" t="t" r="r" b="b"/>
                  <a:pathLst>
                    <a:path w="2907" h="5070">
                      <a:moveTo>
                        <a:pt x="561" y="1085"/>
                      </a:moveTo>
                      <a:lnTo>
                        <a:pt x="1787" y="0"/>
                      </a:lnTo>
                      <a:lnTo>
                        <a:pt x="2697" y="420"/>
                      </a:lnTo>
                      <a:lnTo>
                        <a:pt x="2591" y="1399"/>
                      </a:lnTo>
                      <a:lnTo>
                        <a:pt x="2907" y="2098"/>
                      </a:lnTo>
                      <a:lnTo>
                        <a:pt x="2557" y="3042"/>
                      </a:lnTo>
                      <a:lnTo>
                        <a:pt x="2530" y="3255"/>
                      </a:lnTo>
                      <a:lnTo>
                        <a:pt x="2523" y="3277"/>
                      </a:lnTo>
                      <a:lnTo>
                        <a:pt x="2515" y="3297"/>
                      </a:lnTo>
                      <a:lnTo>
                        <a:pt x="2507" y="3315"/>
                      </a:lnTo>
                      <a:lnTo>
                        <a:pt x="2497" y="3331"/>
                      </a:lnTo>
                      <a:lnTo>
                        <a:pt x="2487" y="3346"/>
                      </a:lnTo>
                      <a:lnTo>
                        <a:pt x="2476" y="3358"/>
                      </a:lnTo>
                      <a:lnTo>
                        <a:pt x="2464" y="3370"/>
                      </a:lnTo>
                      <a:lnTo>
                        <a:pt x="2452" y="3380"/>
                      </a:lnTo>
                      <a:lnTo>
                        <a:pt x="2440" y="3389"/>
                      </a:lnTo>
                      <a:lnTo>
                        <a:pt x="2427" y="3396"/>
                      </a:lnTo>
                      <a:lnTo>
                        <a:pt x="2414" y="3402"/>
                      </a:lnTo>
                      <a:lnTo>
                        <a:pt x="2400" y="3407"/>
                      </a:lnTo>
                      <a:lnTo>
                        <a:pt x="2387" y="3410"/>
                      </a:lnTo>
                      <a:lnTo>
                        <a:pt x="2374" y="3413"/>
                      </a:lnTo>
                      <a:lnTo>
                        <a:pt x="2360" y="3415"/>
                      </a:lnTo>
                      <a:lnTo>
                        <a:pt x="2347" y="3416"/>
                      </a:lnTo>
                      <a:lnTo>
                        <a:pt x="2335" y="3417"/>
                      </a:lnTo>
                      <a:lnTo>
                        <a:pt x="2321" y="3417"/>
                      </a:lnTo>
                      <a:lnTo>
                        <a:pt x="2309" y="3416"/>
                      </a:lnTo>
                      <a:lnTo>
                        <a:pt x="2297" y="3415"/>
                      </a:lnTo>
                      <a:lnTo>
                        <a:pt x="2275" y="3411"/>
                      </a:lnTo>
                      <a:lnTo>
                        <a:pt x="2255" y="3407"/>
                      </a:lnTo>
                      <a:lnTo>
                        <a:pt x="2227" y="3399"/>
                      </a:lnTo>
                      <a:lnTo>
                        <a:pt x="2216" y="3395"/>
                      </a:lnTo>
                      <a:lnTo>
                        <a:pt x="1787" y="5070"/>
                      </a:lnTo>
                      <a:lnTo>
                        <a:pt x="631" y="3566"/>
                      </a:lnTo>
                      <a:lnTo>
                        <a:pt x="491" y="2902"/>
                      </a:lnTo>
                      <a:lnTo>
                        <a:pt x="0" y="1503"/>
                      </a:lnTo>
                      <a:lnTo>
                        <a:pt x="561" y="1085"/>
                      </a:lnTo>
                      <a:close/>
                    </a:path>
                  </a:pathLst>
                </a:custGeom>
                <a:solidFill>
                  <a:srgbClr val="f5dd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>
                  <a:off x="5402160" y="2386080"/>
                  <a:ext cx="66600" cy="61920"/>
                </a:xfrm>
                <a:custGeom>
                  <a:avLst/>
                  <a:gdLst/>
                  <a:ahLst/>
                  <a:rect l="l" t="t" r="r" b="b"/>
                  <a:pathLst>
                    <a:path w="1274" h="1154">
                      <a:moveTo>
                        <a:pt x="1265" y="10"/>
                      </a:moveTo>
                      <a:lnTo>
                        <a:pt x="1225" y="16"/>
                      </a:lnTo>
                      <a:lnTo>
                        <a:pt x="0" y="1100"/>
                      </a:lnTo>
                      <a:lnTo>
                        <a:pt x="49" y="1154"/>
                      </a:lnTo>
                      <a:lnTo>
                        <a:pt x="1274" y="70"/>
                      </a:lnTo>
                      <a:lnTo>
                        <a:pt x="1265" y="10"/>
                      </a:lnTo>
                      <a:lnTo>
                        <a:pt x="1265" y="10"/>
                      </a:lnTo>
                      <a:lnTo>
                        <a:pt x="1244" y="0"/>
                      </a:lnTo>
                      <a:lnTo>
                        <a:pt x="1225" y="16"/>
                      </a:lnTo>
                      <a:lnTo>
                        <a:pt x="1265" y="1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>
                  <a:off x="5467320" y="2387520"/>
                  <a:ext cx="50760" cy="25560"/>
                </a:xfrm>
                <a:custGeom>
                  <a:avLst/>
                  <a:gdLst/>
                  <a:ahLst/>
                  <a:rect l="l" t="t" r="r" b="b"/>
                  <a:pathLst>
                    <a:path w="963" h="485">
                      <a:moveTo>
                        <a:pt x="960" y="457"/>
                      </a:moveTo>
                      <a:lnTo>
                        <a:pt x="940" y="420"/>
                      </a:lnTo>
                      <a:lnTo>
                        <a:pt x="30" y="0"/>
                      </a:lnTo>
                      <a:lnTo>
                        <a:pt x="0" y="66"/>
                      </a:lnTo>
                      <a:lnTo>
                        <a:pt x="909" y="485"/>
                      </a:lnTo>
                      <a:lnTo>
                        <a:pt x="960" y="457"/>
                      </a:lnTo>
                      <a:lnTo>
                        <a:pt x="960" y="457"/>
                      </a:lnTo>
                      <a:lnTo>
                        <a:pt x="963" y="430"/>
                      </a:lnTo>
                      <a:lnTo>
                        <a:pt x="940" y="420"/>
                      </a:lnTo>
                      <a:lnTo>
                        <a:pt x="960" y="45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>
                  <a:off x="5508720" y="2411280"/>
                  <a:ext cx="9360" cy="52560"/>
                </a:xfrm>
                <a:custGeom>
                  <a:avLst/>
                  <a:gdLst/>
                  <a:ahLst/>
                  <a:rect l="l" t="t" r="r" b="b"/>
                  <a:pathLst>
                    <a:path w="177" h="998">
                      <a:moveTo>
                        <a:pt x="4" y="998"/>
                      </a:moveTo>
                      <a:lnTo>
                        <a:pt x="73" y="987"/>
                      </a:lnTo>
                      <a:lnTo>
                        <a:pt x="177" y="8"/>
                      </a:lnTo>
                      <a:lnTo>
                        <a:pt x="105" y="0"/>
                      </a:lnTo>
                      <a:lnTo>
                        <a:pt x="1" y="979"/>
                      </a:lnTo>
                      <a:lnTo>
                        <a:pt x="4" y="998"/>
                      </a:lnTo>
                      <a:lnTo>
                        <a:pt x="1" y="979"/>
                      </a:lnTo>
                      <a:lnTo>
                        <a:pt x="0" y="989"/>
                      </a:lnTo>
                      <a:lnTo>
                        <a:pt x="4" y="998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>
                  <a:off x="5508720" y="246204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386" h="730">
                      <a:moveTo>
                        <a:pt x="381" y="727"/>
                      </a:moveTo>
                      <a:lnTo>
                        <a:pt x="380" y="700"/>
                      </a:lnTo>
                      <a:lnTo>
                        <a:pt x="66" y="0"/>
                      </a:lnTo>
                      <a:lnTo>
                        <a:pt x="0" y="31"/>
                      </a:lnTo>
                      <a:lnTo>
                        <a:pt x="314" y="730"/>
                      </a:lnTo>
                      <a:lnTo>
                        <a:pt x="381" y="727"/>
                      </a:lnTo>
                      <a:lnTo>
                        <a:pt x="381" y="727"/>
                      </a:lnTo>
                      <a:lnTo>
                        <a:pt x="386" y="714"/>
                      </a:lnTo>
                      <a:lnTo>
                        <a:pt x="380" y="700"/>
                      </a:lnTo>
                      <a:lnTo>
                        <a:pt x="381" y="72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>
                  <a:off x="5506920" y="2498760"/>
                  <a:ext cx="22320" cy="52200"/>
                </a:xfrm>
                <a:custGeom>
                  <a:avLst/>
                  <a:gdLst/>
                  <a:ahLst/>
                  <a:rect l="l" t="t" r="r" b="b"/>
                  <a:pathLst>
                    <a:path w="420" h="968">
                      <a:moveTo>
                        <a:pt x="0" y="952"/>
                      </a:moveTo>
                      <a:lnTo>
                        <a:pt x="70" y="968"/>
                      </a:lnTo>
                      <a:lnTo>
                        <a:pt x="420" y="24"/>
                      </a:lnTo>
                      <a:lnTo>
                        <a:pt x="352" y="0"/>
                      </a:lnTo>
                      <a:lnTo>
                        <a:pt x="2" y="944"/>
                      </a:lnTo>
                      <a:lnTo>
                        <a:pt x="0" y="952"/>
                      </a:lnTo>
                      <a:lnTo>
                        <a:pt x="2" y="944"/>
                      </a:lnTo>
                      <a:lnTo>
                        <a:pt x="1" y="948"/>
                      </a:lnTo>
                      <a:lnTo>
                        <a:pt x="0" y="95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>
                  <a:off x="5505480" y="254952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97" h="221">
                      <a:moveTo>
                        <a:pt x="71" y="221"/>
                      </a:moveTo>
                      <a:lnTo>
                        <a:pt x="97" y="8"/>
                      </a:lnTo>
                      <a:lnTo>
                        <a:pt x="25" y="0"/>
                      </a:lnTo>
                      <a:lnTo>
                        <a:pt x="0" y="213"/>
                      </a:lnTo>
                      <a:lnTo>
                        <a:pt x="71" y="22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>
                  <a:off x="5489640" y="256068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363" h="209">
                      <a:moveTo>
                        <a:pt x="0" y="182"/>
                      </a:moveTo>
                      <a:lnTo>
                        <a:pt x="14" y="188"/>
                      </a:lnTo>
                      <a:lnTo>
                        <a:pt x="44" y="197"/>
                      </a:lnTo>
                      <a:lnTo>
                        <a:pt x="67" y="201"/>
                      </a:lnTo>
                      <a:lnTo>
                        <a:pt x="90" y="206"/>
                      </a:lnTo>
                      <a:lnTo>
                        <a:pt x="104" y="208"/>
                      </a:lnTo>
                      <a:lnTo>
                        <a:pt x="118" y="208"/>
                      </a:lnTo>
                      <a:lnTo>
                        <a:pt x="133" y="209"/>
                      </a:lnTo>
                      <a:lnTo>
                        <a:pt x="148" y="208"/>
                      </a:lnTo>
                      <a:lnTo>
                        <a:pt x="163" y="207"/>
                      </a:lnTo>
                      <a:lnTo>
                        <a:pt x="178" y="204"/>
                      </a:lnTo>
                      <a:lnTo>
                        <a:pt x="193" y="200"/>
                      </a:lnTo>
                      <a:lnTo>
                        <a:pt x="210" y="196"/>
                      </a:lnTo>
                      <a:lnTo>
                        <a:pt x="226" y="190"/>
                      </a:lnTo>
                      <a:lnTo>
                        <a:pt x="241" y="183"/>
                      </a:lnTo>
                      <a:lnTo>
                        <a:pt x="256" y="174"/>
                      </a:lnTo>
                      <a:lnTo>
                        <a:pt x="271" y="164"/>
                      </a:lnTo>
                      <a:lnTo>
                        <a:pt x="287" y="152"/>
                      </a:lnTo>
                      <a:lnTo>
                        <a:pt x="300" y="139"/>
                      </a:lnTo>
                      <a:lnTo>
                        <a:pt x="313" y="122"/>
                      </a:lnTo>
                      <a:lnTo>
                        <a:pt x="325" y="105"/>
                      </a:lnTo>
                      <a:lnTo>
                        <a:pt x="336" y="87"/>
                      </a:lnTo>
                      <a:lnTo>
                        <a:pt x="347" y="67"/>
                      </a:lnTo>
                      <a:lnTo>
                        <a:pt x="356" y="44"/>
                      </a:lnTo>
                      <a:lnTo>
                        <a:pt x="363" y="20"/>
                      </a:lnTo>
                      <a:lnTo>
                        <a:pt x="294" y="0"/>
                      </a:lnTo>
                      <a:lnTo>
                        <a:pt x="287" y="20"/>
                      </a:lnTo>
                      <a:lnTo>
                        <a:pt x="281" y="37"/>
                      </a:lnTo>
                      <a:lnTo>
                        <a:pt x="272" y="53"/>
                      </a:lnTo>
                      <a:lnTo>
                        <a:pt x="264" y="67"/>
                      </a:lnTo>
                      <a:lnTo>
                        <a:pt x="256" y="79"/>
                      </a:lnTo>
                      <a:lnTo>
                        <a:pt x="247" y="89"/>
                      </a:lnTo>
                      <a:lnTo>
                        <a:pt x="238" y="98"/>
                      </a:lnTo>
                      <a:lnTo>
                        <a:pt x="228" y="106"/>
                      </a:lnTo>
                      <a:lnTo>
                        <a:pt x="219" y="112"/>
                      </a:lnTo>
                      <a:lnTo>
                        <a:pt x="209" y="118"/>
                      </a:lnTo>
                      <a:lnTo>
                        <a:pt x="197" y="123"/>
                      </a:lnTo>
                      <a:lnTo>
                        <a:pt x="187" y="128"/>
                      </a:lnTo>
                      <a:lnTo>
                        <a:pt x="176" y="131"/>
                      </a:lnTo>
                      <a:lnTo>
                        <a:pt x="165" y="133"/>
                      </a:lnTo>
                      <a:lnTo>
                        <a:pt x="154" y="135"/>
                      </a:lnTo>
                      <a:lnTo>
                        <a:pt x="143" y="136"/>
                      </a:lnTo>
                      <a:lnTo>
                        <a:pt x="131" y="136"/>
                      </a:lnTo>
                      <a:lnTo>
                        <a:pt x="120" y="136"/>
                      </a:lnTo>
                      <a:lnTo>
                        <a:pt x="110" y="135"/>
                      </a:lnTo>
                      <a:lnTo>
                        <a:pt x="100" y="134"/>
                      </a:lnTo>
                      <a:lnTo>
                        <a:pt x="80" y="131"/>
                      </a:lnTo>
                      <a:lnTo>
                        <a:pt x="63" y="128"/>
                      </a:lnTo>
                      <a:lnTo>
                        <a:pt x="35" y="119"/>
                      </a:lnTo>
                      <a:lnTo>
                        <a:pt x="28" y="116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>
                  <a:off x="5465880" y="2568600"/>
                  <a:ext cx="27000" cy="92160"/>
                </a:xfrm>
                <a:custGeom>
                  <a:avLst/>
                  <a:gdLst/>
                  <a:ahLst/>
                  <a:rect l="l" t="t" r="r" b="b"/>
                  <a:pathLst>
                    <a:path w="500" h="1765">
                      <a:moveTo>
                        <a:pt x="7" y="1705"/>
                      </a:moveTo>
                      <a:lnTo>
                        <a:pt x="71" y="1693"/>
                      </a:lnTo>
                      <a:lnTo>
                        <a:pt x="500" y="17"/>
                      </a:lnTo>
                      <a:lnTo>
                        <a:pt x="429" y="0"/>
                      </a:lnTo>
                      <a:lnTo>
                        <a:pt x="0" y="1675"/>
                      </a:lnTo>
                      <a:lnTo>
                        <a:pt x="7" y="1705"/>
                      </a:lnTo>
                      <a:lnTo>
                        <a:pt x="7" y="1705"/>
                      </a:lnTo>
                      <a:lnTo>
                        <a:pt x="53" y="1765"/>
                      </a:lnTo>
                      <a:lnTo>
                        <a:pt x="71" y="1693"/>
                      </a:lnTo>
                      <a:lnTo>
                        <a:pt x="7" y="1705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5405400" y="2576520"/>
                  <a:ext cx="63360" cy="81000"/>
                </a:xfrm>
                <a:custGeom>
                  <a:avLst/>
                  <a:gdLst/>
                  <a:ahLst/>
                  <a:rect l="l" t="t" r="r" b="b"/>
                  <a:pathLst>
                    <a:path w="1219" h="1546">
                      <a:moveTo>
                        <a:pt x="0" y="29"/>
                      </a:moveTo>
                      <a:lnTo>
                        <a:pt x="7" y="43"/>
                      </a:lnTo>
                      <a:lnTo>
                        <a:pt x="1162" y="1546"/>
                      </a:lnTo>
                      <a:lnTo>
                        <a:pt x="1219" y="1502"/>
                      </a:lnTo>
                      <a:lnTo>
                        <a:pt x="65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2" y="37"/>
                      </a:lnTo>
                      <a:lnTo>
                        <a:pt x="7" y="4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>
                  <a:off x="5397480" y="2541600"/>
                  <a:ext cx="11160" cy="36360"/>
                </a:xfrm>
                <a:custGeom>
                  <a:avLst/>
                  <a:gdLst/>
                  <a:ahLst/>
                  <a:rect l="l" t="t" r="r" b="b"/>
                  <a:pathLst>
                    <a:path w="211" h="684">
                      <a:moveTo>
                        <a:pt x="70" y="0"/>
                      </a:moveTo>
                      <a:lnTo>
                        <a:pt x="0" y="19"/>
                      </a:lnTo>
                      <a:lnTo>
                        <a:pt x="140" y="684"/>
                      </a:lnTo>
                      <a:lnTo>
                        <a:pt x="211" y="669"/>
                      </a:lnTo>
                      <a:lnTo>
                        <a:pt x="71" y="5"/>
                      </a:lnTo>
                      <a:lnTo>
                        <a:pt x="70" y="0"/>
                      </a:lnTo>
                      <a:lnTo>
                        <a:pt x="71" y="5"/>
                      </a:lnTo>
                      <a:lnTo>
                        <a:pt x="71" y="2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>
                  <a:off x="5372280" y="2467080"/>
                  <a:ext cx="28440" cy="75960"/>
                </a:xfrm>
                <a:custGeom>
                  <a:avLst/>
                  <a:gdLst/>
                  <a:ahLst/>
                  <a:rect l="l" t="t" r="r" b="b"/>
                  <a:pathLst>
                    <a:path w="559" h="1423">
                      <a:moveTo>
                        <a:pt x="0" y="23"/>
                      </a:moveTo>
                      <a:lnTo>
                        <a:pt x="491" y="1423"/>
                      </a:lnTo>
                      <a:lnTo>
                        <a:pt x="559" y="1398"/>
                      </a:lnTo>
                      <a:lnTo>
                        <a:pt x="68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>
                  <a:off x="5356080" y="237960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2922" h="3294">
                      <a:moveTo>
                        <a:pt x="1424" y="972"/>
                      </a:moveTo>
                      <a:lnTo>
                        <a:pt x="1434" y="985"/>
                      </a:lnTo>
                      <a:lnTo>
                        <a:pt x="1443" y="999"/>
                      </a:lnTo>
                      <a:lnTo>
                        <a:pt x="1452" y="1013"/>
                      </a:lnTo>
                      <a:lnTo>
                        <a:pt x="1461" y="1029"/>
                      </a:lnTo>
                      <a:lnTo>
                        <a:pt x="1468" y="1043"/>
                      </a:lnTo>
                      <a:lnTo>
                        <a:pt x="1475" y="1058"/>
                      </a:lnTo>
                      <a:lnTo>
                        <a:pt x="1481" y="1073"/>
                      </a:lnTo>
                      <a:lnTo>
                        <a:pt x="1486" y="1088"/>
                      </a:lnTo>
                      <a:lnTo>
                        <a:pt x="1496" y="1119"/>
                      </a:lnTo>
                      <a:lnTo>
                        <a:pt x="1503" y="1148"/>
                      </a:lnTo>
                      <a:lnTo>
                        <a:pt x="1508" y="1176"/>
                      </a:lnTo>
                      <a:lnTo>
                        <a:pt x="1512" y="1201"/>
                      </a:lnTo>
                      <a:lnTo>
                        <a:pt x="1514" y="1229"/>
                      </a:lnTo>
                      <a:lnTo>
                        <a:pt x="1516" y="1258"/>
                      </a:lnTo>
                      <a:lnTo>
                        <a:pt x="1517" y="1286"/>
                      </a:lnTo>
                      <a:lnTo>
                        <a:pt x="1517" y="1314"/>
                      </a:lnTo>
                      <a:lnTo>
                        <a:pt x="1516" y="1342"/>
                      </a:lnTo>
                      <a:lnTo>
                        <a:pt x="1515" y="1370"/>
                      </a:lnTo>
                      <a:lnTo>
                        <a:pt x="1513" y="1399"/>
                      </a:lnTo>
                      <a:lnTo>
                        <a:pt x="1511" y="1427"/>
                      </a:lnTo>
                      <a:lnTo>
                        <a:pt x="1508" y="1455"/>
                      </a:lnTo>
                      <a:lnTo>
                        <a:pt x="1504" y="1484"/>
                      </a:lnTo>
                      <a:lnTo>
                        <a:pt x="1500" y="1512"/>
                      </a:lnTo>
                      <a:lnTo>
                        <a:pt x="1495" y="1540"/>
                      </a:lnTo>
                      <a:lnTo>
                        <a:pt x="1484" y="1596"/>
                      </a:lnTo>
                      <a:lnTo>
                        <a:pt x="1471" y="1652"/>
                      </a:lnTo>
                      <a:lnTo>
                        <a:pt x="1455" y="1709"/>
                      </a:lnTo>
                      <a:lnTo>
                        <a:pt x="1440" y="1763"/>
                      </a:lnTo>
                      <a:lnTo>
                        <a:pt x="1423" y="1819"/>
                      </a:lnTo>
                      <a:lnTo>
                        <a:pt x="1405" y="1874"/>
                      </a:lnTo>
                      <a:lnTo>
                        <a:pt x="1385" y="1928"/>
                      </a:lnTo>
                      <a:lnTo>
                        <a:pt x="1366" y="1982"/>
                      </a:lnTo>
                      <a:lnTo>
                        <a:pt x="1346" y="2036"/>
                      </a:lnTo>
                      <a:lnTo>
                        <a:pt x="1326" y="2089"/>
                      </a:lnTo>
                      <a:lnTo>
                        <a:pt x="1321" y="2104"/>
                      </a:lnTo>
                      <a:lnTo>
                        <a:pt x="1316" y="2120"/>
                      </a:lnTo>
                      <a:lnTo>
                        <a:pt x="1312" y="2139"/>
                      </a:lnTo>
                      <a:lnTo>
                        <a:pt x="1308" y="2159"/>
                      </a:lnTo>
                      <a:lnTo>
                        <a:pt x="1300" y="2201"/>
                      </a:lnTo>
                      <a:lnTo>
                        <a:pt x="1292" y="2241"/>
                      </a:lnTo>
                      <a:lnTo>
                        <a:pt x="1286" y="2259"/>
                      </a:lnTo>
                      <a:lnTo>
                        <a:pt x="1280" y="2274"/>
                      </a:lnTo>
                      <a:lnTo>
                        <a:pt x="1277" y="2281"/>
                      </a:lnTo>
                      <a:lnTo>
                        <a:pt x="1273" y="2287"/>
                      </a:lnTo>
                      <a:lnTo>
                        <a:pt x="1269" y="2293"/>
                      </a:lnTo>
                      <a:lnTo>
                        <a:pt x="1265" y="2297"/>
                      </a:lnTo>
                      <a:lnTo>
                        <a:pt x="1260" y="2301"/>
                      </a:lnTo>
                      <a:lnTo>
                        <a:pt x="1255" y="2304"/>
                      </a:lnTo>
                      <a:lnTo>
                        <a:pt x="1249" y="2305"/>
                      </a:lnTo>
                      <a:lnTo>
                        <a:pt x="1243" y="2306"/>
                      </a:lnTo>
                      <a:lnTo>
                        <a:pt x="1236" y="2305"/>
                      </a:lnTo>
                      <a:lnTo>
                        <a:pt x="1230" y="2303"/>
                      </a:lnTo>
                      <a:lnTo>
                        <a:pt x="1223" y="2300"/>
                      </a:lnTo>
                      <a:lnTo>
                        <a:pt x="1215" y="2296"/>
                      </a:lnTo>
                      <a:lnTo>
                        <a:pt x="1197" y="2283"/>
                      </a:lnTo>
                      <a:lnTo>
                        <a:pt x="1179" y="2268"/>
                      </a:lnTo>
                      <a:lnTo>
                        <a:pt x="1160" y="2252"/>
                      </a:lnTo>
                      <a:lnTo>
                        <a:pt x="1143" y="2234"/>
                      </a:lnTo>
                      <a:lnTo>
                        <a:pt x="1108" y="2198"/>
                      </a:lnTo>
                      <a:lnTo>
                        <a:pt x="1073" y="2159"/>
                      </a:lnTo>
                      <a:lnTo>
                        <a:pt x="1056" y="2141"/>
                      </a:lnTo>
                      <a:lnTo>
                        <a:pt x="1038" y="2124"/>
                      </a:lnTo>
                      <a:lnTo>
                        <a:pt x="1020" y="2107"/>
                      </a:lnTo>
                      <a:lnTo>
                        <a:pt x="1002" y="2091"/>
                      </a:lnTo>
                      <a:lnTo>
                        <a:pt x="984" y="2076"/>
                      </a:lnTo>
                      <a:lnTo>
                        <a:pt x="965" y="2064"/>
                      </a:lnTo>
                      <a:lnTo>
                        <a:pt x="955" y="2058"/>
                      </a:lnTo>
                      <a:lnTo>
                        <a:pt x="946" y="2054"/>
                      </a:lnTo>
                      <a:lnTo>
                        <a:pt x="936" y="2049"/>
                      </a:lnTo>
                      <a:lnTo>
                        <a:pt x="927" y="2046"/>
                      </a:lnTo>
                      <a:lnTo>
                        <a:pt x="914" y="2042"/>
                      </a:lnTo>
                      <a:lnTo>
                        <a:pt x="902" y="2039"/>
                      </a:lnTo>
                      <a:lnTo>
                        <a:pt x="889" y="2037"/>
                      </a:lnTo>
                      <a:lnTo>
                        <a:pt x="876" y="2036"/>
                      </a:lnTo>
                      <a:lnTo>
                        <a:pt x="864" y="2036"/>
                      </a:lnTo>
                      <a:lnTo>
                        <a:pt x="852" y="2037"/>
                      </a:lnTo>
                      <a:lnTo>
                        <a:pt x="839" y="2039"/>
                      </a:lnTo>
                      <a:lnTo>
                        <a:pt x="827" y="2041"/>
                      </a:lnTo>
                      <a:lnTo>
                        <a:pt x="813" y="2044"/>
                      </a:lnTo>
                      <a:lnTo>
                        <a:pt x="801" y="2048"/>
                      </a:lnTo>
                      <a:lnTo>
                        <a:pt x="788" y="2052"/>
                      </a:lnTo>
                      <a:lnTo>
                        <a:pt x="776" y="2057"/>
                      </a:lnTo>
                      <a:lnTo>
                        <a:pt x="750" y="2068"/>
                      </a:lnTo>
                      <a:lnTo>
                        <a:pt x="724" y="2081"/>
                      </a:lnTo>
                      <a:lnTo>
                        <a:pt x="699" y="2097"/>
                      </a:lnTo>
                      <a:lnTo>
                        <a:pt x="673" y="2112"/>
                      </a:lnTo>
                      <a:lnTo>
                        <a:pt x="648" y="2128"/>
                      </a:lnTo>
                      <a:lnTo>
                        <a:pt x="623" y="2145"/>
                      </a:lnTo>
                      <a:lnTo>
                        <a:pt x="572" y="2179"/>
                      </a:lnTo>
                      <a:lnTo>
                        <a:pt x="522" y="2209"/>
                      </a:lnTo>
                      <a:lnTo>
                        <a:pt x="569" y="2271"/>
                      </a:lnTo>
                      <a:lnTo>
                        <a:pt x="616" y="2332"/>
                      </a:lnTo>
                      <a:lnTo>
                        <a:pt x="661" y="2395"/>
                      </a:lnTo>
                      <a:lnTo>
                        <a:pt x="707" y="2456"/>
                      </a:lnTo>
                      <a:lnTo>
                        <a:pt x="729" y="2488"/>
                      </a:lnTo>
                      <a:lnTo>
                        <a:pt x="751" y="2520"/>
                      </a:lnTo>
                      <a:lnTo>
                        <a:pt x="773" y="2552"/>
                      </a:lnTo>
                      <a:lnTo>
                        <a:pt x="793" y="2584"/>
                      </a:lnTo>
                      <a:lnTo>
                        <a:pt x="813" y="2616"/>
                      </a:lnTo>
                      <a:lnTo>
                        <a:pt x="833" y="2649"/>
                      </a:lnTo>
                      <a:lnTo>
                        <a:pt x="851" y="2681"/>
                      </a:lnTo>
                      <a:lnTo>
                        <a:pt x="868" y="2715"/>
                      </a:lnTo>
                      <a:lnTo>
                        <a:pt x="883" y="2748"/>
                      </a:lnTo>
                      <a:lnTo>
                        <a:pt x="899" y="2782"/>
                      </a:lnTo>
                      <a:lnTo>
                        <a:pt x="913" y="2816"/>
                      </a:lnTo>
                      <a:lnTo>
                        <a:pt x="925" y="2851"/>
                      </a:lnTo>
                      <a:lnTo>
                        <a:pt x="935" y="2885"/>
                      </a:lnTo>
                      <a:lnTo>
                        <a:pt x="945" y="2920"/>
                      </a:lnTo>
                      <a:lnTo>
                        <a:pt x="952" y="2956"/>
                      </a:lnTo>
                      <a:lnTo>
                        <a:pt x="958" y="2991"/>
                      </a:lnTo>
                      <a:lnTo>
                        <a:pt x="962" y="3028"/>
                      </a:lnTo>
                      <a:lnTo>
                        <a:pt x="965" y="3064"/>
                      </a:lnTo>
                      <a:lnTo>
                        <a:pt x="965" y="3102"/>
                      </a:lnTo>
                      <a:lnTo>
                        <a:pt x="963" y="3139"/>
                      </a:lnTo>
                      <a:lnTo>
                        <a:pt x="959" y="3178"/>
                      </a:lnTo>
                      <a:lnTo>
                        <a:pt x="953" y="3216"/>
                      </a:lnTo>
                      <a:lnTo>
                        <a:pt x="945" y="3255"/>
                      </a:lnTo>
                      <a:lnTo>
                        <a:pt x="935" y="3294"/>
                      </a:lnTo>
                      <a:lnTo>
                        <a:pt x="877" y="3209"/>
                      </a:lnTo>
                      <a:lnTo>
                        <a:pt x="818" y="3124"/>
                      </a:lnTo>
                      <a:lnTo>
                        <a:pt x="761" y="3039"/>
                      </a:lnTo>
                      <a:lnTo>
                        <a:pt x="702" y="2953"/>
                      </a:lnTo>
                      <a:lnTo>
                        <a:pt x="644" y="2868"/>
                      </a:lnTo>
                      <a:lnTo>
                        <a:pt x="587" y="2782"/>
                      </a:lnTo>
                      <a:lnTo>
                        <a:pt x="529" y="2696"/>
                      </a:lnTo>
                      <a:lnTo>
                        <a:pt x="474" y="2608"/>
                      </a:lnTo>
                      <a:lnTo>
                        <a:pt x="418" y="2521"/>
                      </a:lnTo>
                      <a:lnTo>
                        <a:pt x="364" y="2434"/>
                      </a:lnTo>
                      <a:lnTo>
                        <a:pt x="311" y="2346"/>
                      </a:lnTo>
                      <a:lnTo>
                        <a:pt x="259" y="2257"/>
                      </a:lnTo>
                      <a:lnTo>
                        <a:pt x="209" y="2168"/>
                      </a:lnTo>
                      <a:lnTo>
                        <a:pt x="161" y="2076"/>
                      </a:lnTo>
                      <a:lnTo>
                        <a:pt x="138" y="2032"/>
                      </a:lnTo>
                      <a:lnTo>
                        <a:pt x="114" y="1985"/>
                      </a:lnTo>
                      <a:lnTo>
                        <a:pt x="92" y="1940"/>
                      </a:lnTo>
                      <a:lnTo>
                        <a:pt x="71" y="1893"/>
                      </a:lnTo>
                      <a:lnTo>
                        <a:pt x="59" y="1868"/>
                      </a:lnTo>
                      <a:lnTo>
                        <a:pt x="48" y="1841"/>
                      </a:lnTo>
                      <a:lnTo>
                        <a:pt x="39" y="1815"/>
                      </a:lnTo>
                      <a:lnTo>
                        <a:pt x="31" y="1788"/>
                      </a:lnTo>
                      <a:lnTo>
                        <a:pt x="24" y="1759"/>
                      </a:lnTo>
                      <a:lnTo>
                        <a:pt x="18" y="1731"/>
                      </a:lnTo>
                      <a:lnTo>
                        <a:pt x="13" y="1701"/>
                      </a:lnTo>
                      <a:lnTo>
                        <a:pt x="8" y="1673"/>
                      </a:lnTo>
                      <a:lnTo>
                        <a:pt x="5" y="1644"/>
                      </a:lnTo>
                      <a:lnTo>
                        <a:pt x="2" y="1613"/>
                      </a:lnTo>
                      <a:lnTo>
                        <a:pt x="1" y="1584"/>
                      </a:lnTo>
                      <a:lnTo>
                        <a:pt x="0" y="1554"/>
                      </a:lnTo>
                      <a:lnTo>
                        <a:pt x="0" y="1523"/>
                      </a:lnTo>
                      <a:lnTo>
                        <a:pt x="1" y="1494"/>
                      </a:lnTo>
                      <a:lnTo>
                        <a:pt x="3" y="1463"/>
                      </a:lnTo>
                      <a:lnTo>
                        <a:pt x="6" y="1433"/>
                      </a:lnTo>
                      <a:lnTo>
                        <a:pt x="9" y="1404"/>
                      </a:lnTo>
                      <a:lnTo>
                        <a:pt x="14" y="1374"/>
                      </a:lnTo>
                      <a:lnTo>
                        <a:pt x="19" y="1345"/>
                      </a:lnTo>
                      <a:lnTo>
                        <a:pt x="25" y="1315"/>
                      </a:lnTo>
                      <a:lnTo>
                        <a:pt x="32" y="1286"/>
                      </a:lnTo>
                      <a:lnTo>
                        <a:pt x="39" y="1258"/>
                      </a:lnTo>
                      <a:lnTo>
                        <a:pt x="48" y="1230"/>
                      </a:lnTo>
                      <a:lnTo>
                        <a:pt x="58" y="1203"/>
                      </a:lnTo>
                      <a:lnTo>
                        <a:pt x="68" y="1176"/>
                      </a:lnTo>
                      <a:lnTo>
                        <a:pt x="78" y="1149"/>
                      </a:lnTo>
                      <a:lnTo>
                        <a:pt x="89" y="1124"/>
                      </a:lnTo>
                      <a:lnTo>
                        <a:pt x="102" y="1100"/>
                      </a:lnTo>
                      <a:lnTo>
                        <a:pt x="114" y="1075"/>
                      </a:lnTo>
                      <a:lnTo>
                        <a:pt x="129" y="1052"/>
                      </a:lnTo>
                      <a:lnTo>
                        <a:pt x="143" y="1030"/>
                      </a:lnTo>
                      <a:lnTo>
                        <a:pt x="157" y="1008"/>
                      </a:lnTo>
                      <a:lnTo>
                        <a:pt x="181" y="977"/>
                      </a:lnTo>
                      <a:lnTo>
                        <a:pt x="206" y="945"/>
                      </a:lnTo>
                      <a:lnTo>
                        <a:pt x="231" y="913"/>
                      </a:lnTo>
                      <a:lnTo>
                        <a:pt x="257" y="883"/>
                      </a:lnTo>
                      <a:lnTo>
                        <a:pt x="285" y="852"/>
                      </a:lnTo>
                      <a:lnTo>
                        <a:pt x="312" y="822"/>
                      </a:lnTo>
                      <a:lnTo>
                        <a:pt x="340" y="792"/>
                      </a:lnTo>
                      <a:lnTo>
                        <a:pt x="369" y="763"/>
                      </a:lnTo>
                      <a:lnTo>
                        <a:pt x="398" y="734"/>
                      </a:lnTo>
                      <a:lnTo>
                        <a:pt x="428" y="705"/>
                      </a:lnTo>
                      <a:lnTo>
                        <a:pt x="458" y="678"/>
                      </a:lnTo>
                      <a:lnTo>
                        <a:pt x="490" y="652"/>
                      </a:lnTo>
                      <a:lnTo>
                        <a:pt x="521" y="624"/>
                      </a:lnTo>
                      <a:lnTo>
                        <a:pt x="554" y="599"/>
                      </a:lnTo>
                      <a:lnTo>
                        <a:pt x="587" y="574"/>
                      </a:lnTo>
                      <a:lnTo>
                        <a:pt x="620" y="549"/>
                      </a:lnTo>
                      <a:lnTo>
                        <a:pt x="654" y="525"/>
                      </a:lnTo>
                      <a:lnTo>
                        <a:pt x="688" y="503"/>
                      </a:lnTo>
                      <a:lnTo>
                        <a:pt x="723" y="480"/>
                      </a:lnTo>
                      <a:lnTo>
                        <a:pt x="758" y="458"/>
                      </a:lnTo>
                      <a:lnTo>
                        <a:pt x="793" y="438"/>
                      </a:lnTo>
                      <a:lnTo>
                        <a:pt x="830" y="418"/>
                      </a:lnTo>
                      <a:lnTo>
                        <a:pt x="866" y="398"/>
                      </a:lnTo>
                      <a:lnTo>
                        <a:pt x="903" y="380"/>
                      </a:lnTo>
                      <a:lnTo>
                        <a:pt x="940" y="363"/>
                      </a:lnTo>
                      <a:lnTo>
                        <a:pt x="978" y="347"/>
                      </a:lnTo>
                      <a:lnTo>
                        <a:pt x="1015" y="330"/>
                      </a:lnTo>
                      <a:lnTo>
                        <a:pt x="1054" y="316"/>
                      </a:lnTo>
                      <a:lnTo>
                        <a:pt x="1091" y="302"/>
                      </a:lnTo>
                      <a:lnTo>
                        <a:pt x="1131" y="290"/>
                      </a:lnTo>
                      <a:lnTo>
                        <a:pt x="1169" y="279"/>
                      </a:lnTo>
                      <a:lnTo>
                        <a:pt x="1209" y="268"/>
                      </a:lnTo>
                      <a:lnTo>
                        <a:pt x="1314" y="241"/>
                      </a:lnTo>
                      <a:lnTo>
                        <a:pt x="1421" y="215"/>
                      </a:lnTo>
                      <a:lnTo>
                        <a:pt x="1526" y="191"/>
                      </a:lnTo>
                      <a:lnTo>
                        <a:pt x="1633" y="166"/>
                      </a:lnTo>
                      <a:lnTo>
                        <a:pt x="1739" y="143"/>
                      </a:lnTo>
                      <a:lnTo>
                        <a:pt x="1845" y="122"/>
                      </a:lnTo>
                      <a:lnTo>
                        <a:pt x="1951" y="101"/>
                      </a:lnTo>
                      <a:lnTo>
                        <a:pt x="2058" y="82"/>
                      </a:lnTo>
                      <a:lnTo>
                        <a:pt x="2165" y="65"/>
                      </a:lnTo>
                      <a:lnTo>
                        <a:pt x="2272" y="50"/>
                      </a:lnTo>
                      <a:lnTo>
                        <a:pt x="2380" y="37"/>
                      </a:lnTo>
                      <a:lnTo>
                        <a:pt x="2487" y="24"/>
                      </a:lnTo>
                      <a:lnTo>
                        <a:pt x="2542" y="19"/>
                      </a:lnTo>
                      <a:lnTo>
                        <a:pt x="2596" y="15"/>
                      </a:lnTo>
                      <a:lnTo>
                        <a:pt x="2649" y="11"/>
                      </a:lnTo>
                      <a:lnTo>
                        <a:pt x="2704" y="7"/>
                      </a:lnTo>
                      <a:lnTo>
                        <a:pt x="2758" y="5"/>
                      </a:lnTo>
                      <a:lnTo>
                        <a:pt x="2813" y="3"/>
                      </a:lnTo>
                      <a:lnTo>
                        <a:pt x="2867" y="1"/>
                      </a:lnTo>
                      <a:lnTo>
                        <a:pt x="2922" y="0"/>
                      </a:lnTo>
                      <a:lnTo>
                        <a:pt x="2823" y="50"/>
                      </a:lnTo>
                      <a:lnTo>
                        <a:pt x="2725" y="98"/>
                      </a:lnTo>
                      <a:lnTo>
                        <a:pt x="2628" y="148"/>
                      </a:lnTo>
                      <a:lnTo>
                        <a:pt x="2532" y="197"/>
                      </a:lnTo>
                      <a:lnTo>
                        <a:pt x="2435" y="247"/>
                      </a:lnTo>
                      <a:lnTo>
                        <a:pt x="2339" y="297"/>
                      </a:lnTo>
                      <a:lnTo>
                        <a:pt x="2244" y="349"/>
                      </a:lnTo>
                      <a:lnTo>
                        <a:pt x="2148" y="400"/>
                      </a:lnTo>
                      <a:lnTo>
                        <a:pt x="2054" y="454"/>
                      </a:lnTo>
                      <a:lnTo>
                        <a:pt x="1959" y="509"/>
                      </a:lnTo>
                      <a:lnTo>
                        <a:pt x="1864" y="565"/>
                      </a:lnTo>
                      <a:lnTo>
                        <a:pt x="1770" y="622"/>
                      </a:lnTo>
                      <a:lnTo>
                        <a:pt x="1676" y="681"/>
                      </a:lnTo>
                      <a:lnTo>
                        <a:pt x="1580" y="742"/>
                      </a:lnTo>
                      <a:lnTo>
                        <a:pt x="1486" y="806"/>
                      </a:lnTo>
                      <a:lnTo>
                        <a:pt x="1392" y="871"/>
                      </a:lnTo>
                      <a:lnTo>
                        <a:pt x="1386" y="875"/>
                      </a:lnTo>
                      <a:lnTo>
                        <a:pt x="1383" y="880"/>
                      </a:lnTo>
                      <a:lnTo>
                        <a:pt x="1382" y="885"/>
                      </a:lnTo>
                      <a:lnTo>
                        <a:pt x="1381" y="890"/>
                      </a:lnTo>
                      <a:lnTo>
                        <a:pt x="1381" y="896"/>
                      </a:lnTo>
                      <a:lnTo>
                        <a:pt x="1382" y="903"/>
                      </a:lnTo>
                      <a:lnTo>
                        <a:pt x="1384" y="909"/>
                      </a:lnTo>
                      <a:lnTo>
                        <a:pt x="1387" y="916"/>
                      </a:lnTo>
                      <a:lnTo>
                        <a:pt x="1396" y="931"/>
                      </a:lnTo>
                      <a:lnTo>
                        <a:pt x="1404" y="946"/>
                      </a:lnTo>
                      <a:lnTo>
                        <a:pt x="1414" y="959"/>
                      </a:lnTo>
                      <a:lnTo>
                        <a:pt x="1424" y="972"/>
                      </a:lnTo>
                      <a:close/>
                    </a:path>
                  </a:pathLst>
                </a:custGeom>
                <a:solidFill>
                  <a:srgbClr val="925f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>
                  <a:off x="5430960" y="243036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152" h="255">
                      <a:moveTo>
                        <a:pt x="152" y="247"/>
                      </a:moveTo>
                      <a:lnTo>
                        <a:pt x="152" y="247"/>
                      </a:lnTo>
                      <a:lnTo>
                        <a:pt x="148" y="220"/>
                      </a:lnTo>
                      <a:lnTo>
                        <a:pt x="143" y="190"/>
                      </a:lnTo>
                      <a:lnTo>
                        <a:pt x="134" y="159"/>
                      </a:lnTo>
                      <a:lnTo>
                        <a:pt x="124" y="127"/>
                      </a:lnTo>
                      <a:lnTo>
                        <a:pt x="118" y="111"/>
                      </a:lnTo>
                      <a:lnTo>
                        <a:pt x="112" y="94"/>
                      </a:lnTo>
                      <a:lnTo>
                        <a:pt x="104" y="78"/>
                      </a:lnTo>
                      <a:lnTo>
                        <a:pt x="97" y="61"/>
                      </a:lnTo>
                      <a:lnTo>
                        <a:pt x="88" y="45"/>
                      </a:lnTo>
                      <a:lnTo>
                        <a:pt x="78" y="30"/>
                      </a:lnTo>
                      <a:lnTo>
                        <a:pt x="68" y="15"/>
                      </a:lnTo>
                      <a:lnTo>
                        <a:pt x="56" y="0"/>
                      </a:lnTo>
                      <a:lnTo>
                        <a:pt x="0" y="44"/>
                      </a:lnTo>
                      <a:lnTo>
                        <a:pt x="9" y="56"/>
                      </a:lnTo>
                      <a:lnTo>
                        <a:pt x="17" y="69"/>
                      </a:lnTo>
                      <a:lnTo>
                        <a:pt x="25" y="82"/>
                      </a:lnTo>
                      <a:lnTo>
                        <a:pt x="32" y="95"/>
                      </a:lnTo>
                      <a:lnTo>
                        <a:pt x="39" y="109"/>
                      </a:lnTo>
                      <a:lnTo>
                        <a:pt x="45" y="122"/>
                      </a:lnTo>
                      <a:lnTo>
                        <a:pt x="50" y="136"/>
                      </a:lnTo>
                      <a:lnTo>
                        <a:pt x="55" y="150"/>
                      </a:lnTo>
                      <a:lnTo>
                        <a:pt x="65" y="179"/>
                      </a:lnTo>
                      <a:lnTo>
                        <a:pt x="72" y="205"/>
                      </a:lnTo>
                      <a:lnTo>
                        <a:pt x="77" y="232"/>
                      </a:lnTo>
                      <a:lnTo>
                        <a:pt x="80" y="255"/>
                      </a:lnTo>
                      <a:lnTo>
                        <a:pt x="80" y="255"/>
                      </a:lnTo>
                      <a:lnTo>
                        <a:pt x="152" y="247"/>
                      </a:lnTo>
                      <a:lnTo>
                        <a:pt x="152" y="247"/>
                      </a:lnTo>
                      <a:lnTo>
                        <a:pt x="152" y="24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>
                  <a:off x="5424480" y="2443320"/>
                  <a:ext cx="14400" cy="47520"/>
                </a:xfrm>
                <a:custGeom>
                  <a:avLst/>
                  <a:gdLst/>
                  <a:ahLst/>
                  <a:rect l="l" t="t" r="r" b="b"/>
                  <a:pathLst>
                    <a:path w="262" h="905">
                      <a:moveTo>
                        <a:pt x="67" y="905"/>
                      </a:moveTo>
                      <a:lnTo>
                        <a:pt x="67" y="905"/>
                      </a:lnTo>
                      <a:lnTo>
                        <a:pt x="87" y="851"/>
                      </a:lnTo>
                      <a:lnTo>
                        <a:pt x="108" y="797"/>
                      </a:lnTo>
                      <a:lnTo>
                        <a:pt x="128" y="744"/>
                      </a:lnTo>
                      <a:lnTo>
                        <a:pt x="146" y="688"/>
                      </a:lnTo>
                      <a:lnTo>
                        <a:pt x="165" y="633"/>
                      </a:lnTo>
                      <a:lnTo>
                        <a:pt x="183" y="577"/>
                      </a:lnTo>
                      <a:lnTo>
                        <a:pt x="199" y="521"/>
                      </a:lnTo>
                      <a:lnTo>
                        <a:pt x="214" y="464"/>
                      </a:lnTo>
                      <a:lnTo>
                        <a:pt x="227" y="406"/>
                      </a:lnTo>
                      <a:lnTo>
                        <a:pt x="238" y="349"/>
                      </a:lnTo>
                      <a:lnTo>
                        <a:pt x="244" y="320"/>
                      </a:lnTo>
                      <a:lnTo>
                        <a:pt x="248" y="292"/>
                      </a:lnTo>
                      <a:lnTo>
                        <a:pt x="252" y="262"/>
                      </a:lnTo>
                      <a:lnTo>
                        <a:pt x="255" y="234"/>
                      </a:lnTo>
                      <a:lnTo>
                        <a:pt x="258" y="205"/>
                      </a:lnTo>
                      <a:lnTo>
                        <a:pt x="260" y="175"/>
                      </a:lnTo>
                      <a:lnTo>
                        <a:pt x="261" y="147"/>
                      </a:lnTo>
                      <a:lnTo>
                        <a:pt x="262" y="117"/>
                      </a:lnTo>
                      <a:lnTo>
                        <a:pt x="261" y="88"/>
                      </a:lnTo>
                      <a:lnTo>
                        <a:pt x="260" y="59"/>
                      </a:lnTo>
                      <a:lnTo>
                        <a:pt x="259" y="29"/>
                      </a:lnTo>
                      <a:lnTo>
                        <a:pt x="256" y="0"/>
                      </a:lnTo>
                      <a:lnTo>
                        <a:pt x="184" y="8"/>
                      </a:lnTo>
                      <a:lnTo>
                        <a:pt x="187" y="34"/>
                      </a:lnTo>
                      <a:lnTo>
                        <a:pt x="188" y="62"/>
                      </a:lnTo>
                      <a:lnTo>
                        <a:pt x="189" y="89"/>
                      </a:lnTo>
                      <a:lnTo>
                        <a:pt x="189" y="116"/>
                      </a:lnTo>
                      <a:lnTo>
                        <a:pt x="189" y="144"/>
                      </a:lnTo>
                      <a:lnTo>
                        <a:pt x="188" y="171"/>
                      </a:lnTo>
                      <a:lnTo>
                        <a:pt x="186" y="198"/>
                      </a:lnTo>
                      <a:lnTo>
                        <a:pt x="183" y="227"/>
                      </a:lnTo>
                      <a:lnTo>
                        <a:pt x="180" y="254"/>
                      </a:lnTo>
                      <a:lnTo>
                        <a:pt x="177" y="282"/>
                      </a:lnTo>
                      <a:lnTo>
                        <a:pt x="172" y="309"/>
                      </a:lnTo>
                      <a:lnTo>
                        <a:pt x="167" y="336"/>
                      </a:lnTo>
                      <a:lnTo>
                        <a:pt x="156" y="392"/>
                      </a:lnTo>
                      <a:lnTo>
                        <a:pt x="143" y="447"/>
                      </a:lnTo>
                      <a:lnTo>
                        <a:pt x="129" y="501"/>
                      </a:lnTo>
                      <a:lnTo>
                        <a:pt x="113" y="556"/>
                      </a:lnTo>
                      <a:lnTo>
                        <a:pt x="96" y="611"/>
                      </a:lnTo>
                      <a:lnTo>
                        <a:pt x="78" y="666"/>
                      </a:lnTo>
                      <a:lnTo>
                        <a:pt x="59" y="719"/>
                      </a:lnTo>
                      <a:lnTo>
                        <a:pt x="40" y="773"/>
                      </a:lnTo>
                      <a:lnTo>
                        <a:pt x="20" y="826"/>
                      </a:lnTo>
                      <a:lnTo>
                        <a:pt x="0" y="878"/>
                      </a:lnTo>
                      <a:lnTo>
                        <a:pt x="0" y="878"/>
                      </a:lnTo>
                      <a:lnTo>
                        <a:pt x="67" y="905"/>
                      </a:lnTo>
                      <a:lnTo>
                        <a:pt x="67" y="905"/>
                      </a:lnTo>
                      <a:lnTo>
                        <a:pt x="67" y="905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>
                  <a:off x="5419800" y="249084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64" h="267">
                      <a:moveTo>
                        <a:pt x="0" y="251"/>
                      </a:moveTo>
                      <a:lnTo>
                        <a:pt x="0" y="251"/>
                      </a:lnTo>
                      <a:lnTo>
                        <a:pt x="11" y="258"/>
                      </a:lnTo>
                      <a:lnTo>
                        <a:pt x="23" y="263"/>
                      </a:lnTo>
                      <a:lnTo>
                        <a:pt x="35" y="266"/>
                      </a:lnTo>
                      <a:lnTo>
                        <a:pt x="48" y="267"/>
                      </a:lnTo>
                      <a:lnTo>
                        <a:pt x="61" y="266"/>
                      </a:lnTo>
                      <a:lnTo>
                        <a:pt x="74" y="262"/>
                      </a:lnTo>
                      <a:lnTo>
                        <a:pt x="85" y="257"/>
                      </a:lnTo>
                      <a:lnTo>
                        <a:pt x="94" y="250"/>
                      </a:lnTo>
                      <a:lnTo>
                        <a:pt x="101" y="241"/>
                      </a:lnTo>
                      <a:lnTo>
                        <a:pt x="108" y="232"/>
                      </a:lnTo>
                      <a:lnTo>
                        <a:pt x="113" y="223"/>
                      </a:lnTo>
                      <a:lnTo>
                        <a:pt x="118" y="213"/>
                      </a:lnTo>
                      <a:lnTo>
                        <a:pt x="126" y="195"/>
                      </a:lnTo>
                      <a:lnTo>
                        <a:pt x="132" y="174"/>
                      </a:lnTo>
                      <a:lnTo>
                        <a:pt x="141" y="133"/>
                      </a:lnTo>
                      <a:lnTo>
                        <a:pt x="149" y="91"/>
                      </a:lnTo>
                      <a:lnTo>
                        <a:pt x="153" y="71"/>
                      </a:lnTo>
                      <a:lnTo>
                        <a:pt x="157" y="54"/>
                      </a:lnTo>
                      <a:lnTo>
                        <a:pt x="160" y="39"/>
                      </a:lnTo>
                      <a:lnTo>
                        <a:pt x="164" y="27"/>
                      </a:lnTo>
                      <a:lnTo>
                        <a:pt x="97" y="0"/>
                      </a:lnTo>
                      <a:lnTo>
                        <a:pt x="91" y="19"/>
                      </a:lnTo>
                      <a:lnTo>
                        <a:pt x="86" y="37"/>
                      </a:lnTo>
                      <a:lnTo>
                        <a:pt x="82" y="57"/>
                      </a:lnTo>
                      <a:lnTo>
                        <a:pt x="78" y="77"/>
                      </a:lnTo>
                      <a:lnTo>
                        <a:pt x="71" y="119"/>
                      </a:lnTo>
                      <a:lnTo>
                        <a:pt x="62" y="156"/>
                      </a:lnTo>
                      <a:lnTo>
                        <a:pt x="58" y="172"/>
                      </a:lnTo>
                      <a:lnTo>
                        <a:pt x="51" y="185"/>
                      </a:lnTo>
                      <a:lnTo>
                        <a:pt x="49" y="189"/>
                      </a:lnTo>
                      <a:lnTo>
                        <a:pt x="47" y="192"/>
                      </a:lnTo>
                      <a:lnTo>
                        <a:pt x="46" y="195"/>
                      </a:lnTo>
                      <a:lnTo>
                        <a:pt x="45" y="196"/>
                      </a:lnTo>
                      <a:lnTo>
                        <a:pt x="44" y="196"/>
                      </a:lnTo>
                      <a:lnTo>
                        <a:pt x="45" y="196"/>
                      </a:lnTo>
                      <a:lnTo>
                        <a:pt x="47" y="195"/>
                      </a:lnTo>
                      <a:lnTo>
                        <a:pt x="48" y="195"/>
                      </a:lnTo>
                      <a:lnTo>
                        <a:pt x="48" y="195"/>
                      </a:lnTo>
                      <a:lnTo>
                        <a:pt x="47" y="195"/>
                      </a:lnTo>
                      <a:lnTo>
                        <a:pt x="44" y="193"/>
                      </a:lnTo>
                      <a:lnTo>
                        <a:pt x="39" y="191"/>
                      </a:lnTo>
                      <a:lnTo>
                        <a:pt x="39" y="19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>
                  <a:off x="5405400" y="248616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319" h="314">
                      <a:moveTo>
                        <a:pt x="0" y="67"/>
                      </a:moveTo>
                      <a:lnTo>
                        <a:pt x="0" y="67"/>
                      </a:lnTo>
                      <a:lnTo>
                        <a:pt x="7" y="70"/>
                      </a:lnTo>
                      <a:lnTo>
                        <a:pt x="15" y="75"/>
                      </a:lnTo>
                      <a:lnTo>
                        <a:pt x="23" y="79"/>
                      </a:lnTo>
                      <a:lnTo>
                        <a:pt x="30" y="83"/>
                      </a:lnTo>
                      <a:lnTo>
                        <a:pt x="47" y="94"/>
                      </a:lnTo>
                      <a:lnTo>
                        <a:pt x="64" y="107"/>
                      </a:lnTo>
                      <a:lnTo>
                        <a:pt x="81" y="121"/>
                      </a:lnTo>
                      <a:lnTo>
                        <a:pt x="97" y="137"/>
                      </a:lnTo>
                      <a:lnTo>
                        <a:pt x="114" y="155"/>
                      </a:lnTo>
                      <a:lnTo>
                        <a:pt x="132" y="173"/>
                      </a:lnTo>
                      <a:lnTo>
                        <a:pt x="166" y="210"/>
                      </a:lnTo>
                      <a:lnTo>
                        <a:pt x="202" y="248"/>
                      </a:lnTo>
                      <a:lnTo>
                        <a:pt x="221" y="266"/>
                      </a:lnTo>
                      <a:lnTo>
                        <a:pt x="239" y="283"/>
                      </a:lnTo>
                      <a:lnTo>
                        <a:pt x="259" y="299"/>
                      </a:lnTo>
                      <a:lnTo>
                        <a:pt x="280" y="314"/>
                      </a:lnTo>
                      <a:lnTo>
                        <a:pt x="319" y="254"/>
                      </a:lnTo>
                      <a:lnTo>
                        <a:pt x="303" y="242"/>
                      </a:lnTo>
                      <a:lnTo>
                        <a:pt x="287" y="229"/>
                      </a:lnTo>
                      <a:lnTo>
                        <a:pt x="270" y="213"/>
                      </a:lnTo>
                      <a:lnTo>
                        <a:pt x="253" y="197"/>
                      </a:lnTo>
                      <a:lnTo>
                        <a:pt x="219" y="161"/>
                      </a:lnTo>
                      <a:lnTo>
                        <a:pt x="184" y="123"/>
                      </a:lnTo>
                      <a:lnTo>
                        <a:pt x="166" y="104"/>
                      </a:lnTo>
                      <a:lnTo>
                        <a:pt x="148" y="86"/>
                      </a:lnTo>
                      <a:lnTo>
                        <a:pt x="130" y="68"/>
                      </a:lnTo>
                      <a:lnTo>
                        <a:pt x="110" y="51"/>
                      </a:lnTo>
                      <a:lnTo>
                        <a:pt x="90" y="35"/>
                      </a:lnTo>
                      <a:lnTo>
                        <a:pt x="70" y="22"/>
                      </a:lnTo>
                      <a:lnTo>
                        <a:pt x="58" y="15"/>
                      </a:lnTo>
                      <a:lnTo>
                        <a:pt x="46" y="9"/>
                      </a:lnTo>
                      <a:lnTo>
                        <a:pt x="35" y="4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>
                  <a:off x="5381640" y="2486160"/>
                  <a:ext cx="23760" cy="12600"/>
                </a:xfrm>
                <a:custGeom>
                  <a:avLst/>
                  <a:gdLst/>
                  <a:ahLst/>
                  <a:rect l="l" t="t" r="r" b="b"/>
                  <a:pathLst>
                    <a:path w="469" h="241">
                      <a:moveTo>
                        <a:pt x="83" y="188"/>
                      </a:moveTo>
                      <a:lnTo>
                        <a:pt x="71" y="241"/>
                      </a:lnTo>
                      <a:lnTo>
                        <a:pt x="122" y="209"/>
                      </a:lnTo>
                      <a:lnTo>
                        <a:pt x="174" y="176"/>
                      </a:lnTo>
                      <a:lnTo>
                        <a:pt x="199" y="158"/>
                      </a:lnTo>
                      <a:lnTo>
                        <a:pt x="224" y="142"/>
                      </a:lnTo>
                      <a:lnTo>
                        <a:pt x="248" y="127"/>
                      </a:lnTo>
                      <a:lnTo>
                        <a:pt x="272" y="114"/>
                      </a:lnTo>
                      <a:lnTo>
                        <a:pt x="297" y="101"/>
                      </a:lnTo>
                      <a:lnTo>
                        <a:pt x="321" y="91"/>
                      </a:lnTo>
                      <a:lnTo>
                        <a:pt x="331" y="87"/>
                      </a:lnTo>
                      <a:lnTo>
                        <a:pt x="343" y="82"/>
                      </a:lnTo>
                      <a:lnTo>
                        <a:pt x="353" y="79"/>
                      </a:lnTo>
                      <a:lnTo>
                        <a:pt x="365" y="76"/>
                      </a:lnTo>
                      <a:lnTo>
                        <a:pt x="376" y="74"/>
                      </a:lnTo>
                      <a:lnTo>
                        <a:pt x="386" y="73"/>
                      </a:lnTo>
                      <a:lnTo>
                        <a:pt x="396" y="72"/>
                      </a:lnTo>
                      <a:lnTo>
                        <a:pt x="406" y="72"/>
                      </a:lnTo>
                      <a:lnTo>
                        <a:pt x="416" y="73"/>
                      </a:lnTo>
                      <a:lnTo>
                        <a:pt x="426" y="74"/>
                      </a:lnTo>
                      <a:lnTo>
                        <a:pt x="436" y="76"/>
                      </a:lnTo>
                      <a:lnTo>
                        <a:pt x="446" y="79"/>
                      </a:lnTo>
                      <a:lnTo>
                        <a:pt x="469" y="12"/>
                      </a:lnTo>
                      <a:lnTo>
                        <a:pt x="454" y="6"/>
                      </a:lnTo>
                      <a:lnTo>
                        <a:pt x="440" y="3"/>
                      </a:lnTo>
                      <a:lnTo>
                        <a:pt x="424" y="1"/>
                      </a:lnTo>
                      <a:lnTo>
                        <a:pt x="409" y="0"/>
                      </a:lnTo>
                      <a:lnTo>
                        <a:pt x="394" y="0"/>
                      </a:lnTo>
                      <a:lnTo>
                        <a:pt x="379" y="1"/>
                      </a:lnTo>
                      <a:lnTo>
                        <a:pt x="365" y="3"/>
                      </a:lnTo>
                      <a:lnTo>
                        <a:pt x="349" y="5"/>
                      </a:lnTo>
                      <a:lnTo>
                        <a:pt x="335" y="10"/>
                      </a:lnTo>
                      <a:lnTo>
                        <a:pt x="321" y="14"/>
                      </a:lnTo>
                      <a:lnTo>
                        <a:pt x="307" y="19"/>
                      </a:lnTo>
                      <a:lnTo>
                        <a:pt x="293" y="24"/>
                      </a:lnTo>
                      <a:lnTo>
                        <a:pt x="265" y="36"/>
                      </a:lnTo>
                      <a:lnTo>
                        <a:pt x="238" y="50"/>
                      </a:lnTo>
                      <a:lnTo>
                        <a:pt x="211" y="65"/>
                      </a:lnTo>
                      <a:lnTo>
                        <a:pt x="185" y="81"/>
                      </a:lnTo>
                      <a:lnTo>
                        <a:pt x="159" y="99"/>
                      </a:lnTo>
                      <a:lnTo>
                        <a:pt x="133" y="115"/>
                      </a:lnTo>
                      <a:lnTo>
                        <a:pt x="84" y="148"/>
                      </a:lnTo>
                      <a:lnTo>
                        <a:pt x="36" y="178"/>
                      </a:lnTo>
                      <a:lnTo>
                        <a:pt x="25" y="230"/>
                      </a:lnTo>
                      <a:lnTo>
                        <a:pt x="36" y="178"/>
                      </a:lnTo>
                      <a:lnTo>
                        <a:pt x="0" y="198"/>
                      </a:lnTo>
                      <a:lnTo>
                        <a:pt x="25" y="230"/>
                      </a:lnTo>
                      <a:lnTo>
                        <a:pt x="83" y="188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5" name=""/>
                <p:cNvSpPr/>
                <p:nvPr/>
              </p:nvSpPr>
              <p:spPr>
                <a:xfrm>
                  <a:off x="5383080" y="2495520"/>
                  <a:ext cx="27000" cy="63360"/>
                </a:xfrm>
                <a:custGeom>
                  <a:avLst/>
                  <a:gdLst/>
                  <a:ahLst/>
                  <a:rect l="l" t="t" r="r" b="b"/>
                  <a:pathLst>
                    <a:path w="508" h="1190">
                      <a:moveTo>
                        <a:pt x="411" y="1127"/>
                      </a:moveTo>
                      <a:lnTo>
                        <a:pt x="476" y="1118"/>
                      </a:lnTo>
                      <a:lnTo>
                        <a:pt x="482" y="1096"/>
                      </a:lnTo>
                      <a:lnTo>
                        <a:pt x="487" y="1076"/>
                      </a:lnTo>
                      <a:lnTo>
                        <a:pt x="492" y="1055"/>
                      </a:lnTo>
                      <a:lnTo>
                        <a:pt x="496" y="1034"/>
                      </a:lnTo>
                      <a:lnTo>
                        <a:pt x="499" y="1014"/>
                      </a:lnTo>
                      <a:lnTo>
                        <a:pt x="502" y="994"/>
                      </a:lnTo>
                      <a:lnTo>
                        <a:pt x="504" y="974"/>
                      </a:lnTo>
                      <a:lnTo>
                        <a:pt x="506" y="953"/>
                      </a:lnTo>
                      <a:lnTo>
                        <a:pt x="508" y="914"/>
                      </a:lnTo>
                      <a:lnTo>
                        <a:pt x="507" y="875"/>
                      </a:lnTo>
                      <a:lnTo>
                        <a:pt x="505" y="837"/>
                      </a:lnTo>
                      <a:lnTo>
                        <a:pt x="500" y="798"/>
                      </a:lnTo>
                      <a:lnTo>
                        <a:pt x="494" y="761"/>
                      </a:lnTo>
                      <a:lnTo>
                        <a:pt x="486" y="723"/>
                      </a:lnTo>
                      <a:lnTo>
                        <a:pt x="477" y="687"/>
                      </a:lnTo>
                      <a:lnTo>
                        <a:pt x="464" y="650"/>
                      </a:lnTo>
                      <a:lnTo>
                        <a:pt x="452" y="615"/>
                      </a:lnTo>
                      <a:lnTo>
                        <a:pt x="438" y="579"/>
                      </a:lnTo>
                      <a:lnTo>
                        <a:pt x="423" y="545"/>
                      </a:lnTo>
                      <a:lnTo>
                        <a:pt x="407" y="511"/>
                      </a:lnTo>
                      <a:lnTo>
                        <a:pt x="388" y="477"/>
                      </a:lnTo>
                      <a:lnTo>
                        <a:pt x="370" y="443"/>
                      </a:lnTo>
                      <a:lnTo>
                        <a:pt x="350" y="409"/>
                      </a:lnTo>
                      <a:lnTo>
                        <a:pt x="329" y="377"/>
                      </a:lnTo>
                      <a:lnTo>
                        <a:pt x="309" y="344"/>
                      </a:lnTo>
                      <a:lnTo>
                        <a:pt x="288" y="312"/>
                      </a:lnTo>
                      <a:lnTo>
                        <a:pt x="266" y="280"/>
                      </a:lnTo>
                      <a:lnTo>
                        <a:pt x="242" y="247"/>
                      </a:lnTo>
                      <a:lnTo>
                        <a:pt x="197" y="184"/>
                      </a:lnTo>
                      <a:lnTo>
                        <a:pt x="150" y="122"/>
                      </a:lnTo>
                      <a:lnTo>
                        <a:pt x="103" y="61"/>
                      </a:lnTo>
                      <a:lnTo>
                        <a:pt x="58" y="0"/>
                      </a:lnTo>
                      <a:lnTo>
                        <a:pt x="0" y="42"/>
                      </a:lnTo>
                      <a:lnTo>
                        <a:pt x="45" y="104"/>
                      </a:lnTo>
                      <a:lnTo>
                        <a:pt x="92" y="166"/>
                      </a:lnTo>
                      <a:lnTo>
                        <a:pt x="139" y="228"/>
                      </a:lnTo>
                      <a:lnTo>
                        <a:pt x="184" y="290"/>
                      </a:lnTo>
                      <a:lnTo>
                        <a:pt x="206" y="321"/>
                      </a:lnTo>
                      <a:lnTo>
                        <a:pt x="227" y="352"/>
                      </a:lnTo>
                      <a:lnTo>
                        <a:pt x="248" y="384"/>
                      </a:lnTo>
                      <a:lnTo>
                        <a:pt x="269" y="415"/>
                      </a:lnTo>
                      <a:lnTo>
                        <a:pt x="288" y="447"/>
                      </a:lnTo>
                      <a:lnTo>
                        <a:pt x="307" y="478"/>
                      </a:lnTo>
                      <a:lnTo>
                        <a:pt x="324" y="511"/>
                      </a:lnTo>
                      <a:lnTo>
                        <a:pt x="342" y="543"/>
                      </a:lnTo>
                      <a:lnTo>
                        <a:pt x="357" y="575"/>
                      </a:lnTo>
                      <a:lnTo>
                        <a:pt x="371" y="608"/>
                      </a:lnTo>
                      <a:lnTo>
                        <a:pt x="384" y="640"/>
                      </a:lnTo>
                      <a:lnTo>
                        <a:pt x="396" y="674"/>
                      </a:lnTo>
                      <a:lnTo>
                        <a:pt x="407" y="707"/>
                      </a:lnTo>
                      <a:lnTo>
                        <a:pt x="416" y="741"/>
                      </a:lnTo>
                      <a:lnTo>
                        <a:pt x="423" y="774"/>
                      </a:lnTo>
                      <a:lnTo>
                        <a:pt x="429" y="808"/>
                      </a:lnTo>
                      <a:lnTo>
                        <a:pt x="433" y="843"/>
                      </a:lnTo>
                      <a:lnTo>
                        <a:pt x="435" y="878"/>
                      </a:lnTo>
                      <a:lnTo>
                        <a:pt x="435" y="913"/>
                      </a:lnTo>
                      <a:lnTo>
                        <a:pt x="434" y="949"/>
                      </a:lnTo>
                      <a:lnTo>
                        <a:pt x="432" y="967"/>
                      </a:lnTo>
                      <a:lnTo>
                        <a:pt x="430" y="985"/>
                      </a:lnTo>
                      <a:lnTo>
                        <a:pt x="428" y="1003"/>
                      </a:lnTo>
                      <a:lnTo>
                        <a:pt x="424" y="1021"/>
                      </a:lnTo>
                      <a:lnTo>
                        <a:pt x="421" y="1041"/>
                      </a:lnTo>
                      <a:lnTo>
                        <a:pt x="417" y="1059"/>
                      </a:lnTo>
                      <a:lnTo>
                        <a:pt x="412" y="1078"/>
                      </a:lnTo>
                      <a:lnTo>
                        <a:pt x="406" y="1096"/>
                      </a:lnTo>
                      <a:lnTo>
                        <a:pt x="470" y="1086"/>
                      </a:lnTo>
                      <a:lnTo>
                        <a:pt x="411" y="1127"/>
                      </a:lnTo>
                      <a:lnTo>
                        <a:pt x="453" y="1190"/>
                      </a:lnTo>
                      <a:lnTo>
                        <a:pt x="476" y="1118"/>
                      </a:lnTo>
                      <a:lnTo>
                        <a:pt x="411" y="112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6" name=""/>
                <p:cNvSpPr/>
                <p:nvPr/>
              </p:nvSpPr>
              <p:spPr>
                <a:xfrm>
                  <a:off x="5357880" y="2479680"/>
                  <a:ext cx="49320" cy="76320"/>
                </a:xfrm>
                <a:custGeom>
                  <a:avLst/>
                  <a:gdLst/>
                  <a:ahLst/>
                  <a:rect l="l" t="t" r="r" b="b"/>
                  <a:pathLst>
                    <a:path w="927" h="1437">
                      <a:moveTo>
                        <a:pt x="0" y="30"/>
                      </a:moveTo>
                      <a:lnTo>
                        <a:pt x="0" y="30"/>
                      </a:lnTo>
                      <a:lnTo>
                        <a:pt x="23" y="77"/>
                      </a:lnTo>
                      <a:lnTo>
                        <a:pt x="45" y="123"/>
                      </a:lnTo>
                      <a:lnTo>
                        <a:pt x="68" y="170"/>
                      </a:lnTo>
                      <a:lnTo>
                        <a:pt x="92" y="216"/>
                      </a:lnTo>
                      <a:lnTo>
                        <a:pt x="140" y="307"/>
                      </a:lnTo>
                      <a:lnTo>
                        <a:pt x="191" y="397"/>
                      </a:lnTo>
                      <a:lnTo>
                        <a:pt x="243" y="486"/>
                      </a:lnTo>
                      <a:lnTo>
                        <a:pt x="297" y="574"/>
                      </a:lnTo>
                      <a:lnTo>
                        <a:pt x="350" y="662"/>
                      </a:lnTo>
                      <a:lnTo>
                        <a:pt x="406" y="750"/>
                      </a:lnTo>
                      <a:lnTo>
                        <a:pt x="463" y="837"/>
                      </a:lnTo>
                      <a:lnTo>
                        <a:pt x="520" y="923"/>
                      </a:lnTo>
                      <a:lnTo>
                        <a:pt x="578" y="1009"/>
                      </a:lnTo>
                      <a:lnTo>
                        <a:pt x="635" y="1095"/>
                      </a:lnTo>
                      <a:lnTo>
                        <a:pt x="693" y="1180"/>
                      </a:lnTo>
                      <a:lnTo>
                        <a:pt x="752" y="1266"/>
                      </a:lnTo>
                      <a:lnTo>
                        <a:pt x="810" y="1352"/>
                      </a:lnTo>
                      <a:lnTo>
                        <a:pt x="868" y="1437"/>
                      </a:lnTo>
                      <a:lnTo>
                        <a:pt x="927" y="1396"/>
                      </a:lnTo>
                      <a:lnTo>
                        <a:pt x="870" y="1311"/>
                      </a:lnTo>
                      <a:lnTo>
                        <a:pt x="812" y="1226"/>
                      </a:lnTo>
                      <a:lnTo>
                        <a:pt x="753" y="1141"/>
                      </a:lnTo>
                      <a:lnTo>
                        <a:pt x="695" y="1055"/>
                      </a:lnTo>
                      <a:lnTo>
                        <a:pt x="637" y="970"/>
                      </a:lnTo>
                      <a:lnTo>
                        <a:pt x="580" y="883"/>
                      </a:lnTo>
                      <a:lnTo>
                        <a:pt x="523" y="797"/>
                      </a:lnTo>
                      <a:lnTo>
                        <a:pt x="467" y="711"/>
                      </a:lnTo>
                      <a:lnTo>
                        <a:pt x="412" y="624"/>
                      </a:lnTo>
                      <a:lnTo>
                        <a:pt x="357" y="537"/>
                      </a:lnTo>
                      <a:lnTo>
                        <a:pt x="305" y="450"/>
                      </a:lnTo>
                      <a:lnTo>
                        <a:pt x="254" y="361"/>
                      </a:lnTo>
                      <a:lnTo>
                        <a:pt x="204" y="272"/>
                      </a:lnTo>
                      <a:lnTo>
                        <a:pt x="156" y="182"/>
                      </a:lnTo>
                      <a:lnTo>
                        <a:pt x="133" y="137"/>
                      </a:lnTo>
                      <a:lnTo>
                        <a:pt x="110" y="92"/>
                      </a:lnTo>
                      <a:lnTo>
                        <a:pt x="88" y="46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>
                  <a:off x="5354640" y="2432160"/>
                  <a:ext cx="11160" cy="48960"/>
                </a:xfrm>
                <a:custGeom>
                  <a:avLst/>
                  <a:gdLst/>
                  <a:ahLst/>
                  <a:rect l="l" t="t" r="r" b="b"/>
                  <a:pathLst>
                    <a:path w="223" h="921">
                      <a:moveTo>
                        <a:pt x="166" y="0"/>
                      </a:moveTo>
                      <a:lnTo>
                        <a:pt x="166" y="0"/>
                      </a:lnTo>
                      <a:lnTo>
                        <a:pt x="149" y="22"/>
                      </a:lnTo>
                      <a:lnTo>
                        <a:pt x="134" y="47"/>
                      </a:lnTo>
                      <a:lnTo>
                        <a:pt x="120" y="71"/>
                      </a:lnTo>
                      <a:lnTo>
                        <a:pt x="107" y="96"/>
                      </a:lnTo>
                      <a:lnTo>
                        <a:pt x="94" y="122"/>
                      </a:lnTo>
                      <a:lnTo>
                        <a:pt x="81" y="149"/>
                      </a:lnTo>
                      <a:lnTo>
                        <a:pt x="70" y="175"/>
                      </a:lnTo>
                      <a:lnTo>
                        <a:pt x="60" y="204"/>
                      </a:lnTo>
                      <a:lnTo>
                        <a:pt x="51" y="232"/>
                      </a:lnTo>
                      <a:lnTo>
                        <a:pt x="42" y="262"/>
                      </a:lnTo>
                      <a:lnTo>
                        <a:pt x="34" y="291"/>
                      </a:lnTo>
                      <a:lnTo>
                        <a:pt x="27" y="320"/>
                      </a:lnTo>
                      <a:lnTo>
                        <a:pt x="21" y="351"/>
                      </a:lnTo>
                      <a:lnTo>
                        <a:pt x="16" y="381"/>
                      </a:lnTo>
                      <a:lnTo>
                        <a:pt x="10" y="412"/>
                      </a:lnTo>
                      <a:lnTo>
                        <a:pt x="6" y="443"/>
                      </a:lnTo>
                      <a:lnTo>
                        <a:pt x="4" y="473"/>
                      </a:lnTo>
                      <a:lnTo>
                        <a:pt x="2" y="505"/>
                      </a:lnTo>
                      <a:lnTo>
                        <a:pt x="0" y="536"/>
                      </a:lnTo>
                      <a:lnTo>
                        <a:pt x="0" y="567"/>
                      </a:lnTo>
                      <a:lnTo>
                        <a:pt x="1" y="598"/>
                      </a:lnTo>
                      <a:lnTo>
                        <a:pt x="3" y="629"/>
                      </a:lnTo>
                      <a:lnTo>
                        <a:pt x="5" y="660"/>
                      </a:lnTo>
                      <a:lnTo>
                        <a:pt x="9" y="690"/>
                      </a:lnTo>
                      <a:lnTo>
                        <a:pt x="13" y="721"/>
                      </a:lnTo>
                      <a:lnTo>
                        <a:pt x="20" y="751"/>
                      </a:lnTo>
                      <a:lnTo>
                        <a:pt x="26" y="780"/>
                      </a:lnTo>
                      <a:lnTo>
                        <a:pt x="34" y="810"/>
                      </a:lnTo>
                      <a:lnTo>
                        <a:pt x="42" y="839"/>
                      </a:lnTo>
                      <a:lnTo>
                        <a:pt x="52" y="866"/>
                      </a:lnTo>
                      <a:lnTo>
                        <a:pt x="63" y="895"/>
                      </a:lnTo>
                      <a:lnTo>
                        <a:pt x="74" y="921"/>
                      </a:lnTo>
                      <a:lnTo>
                        <a:pt x="140" y="891"/>
                      </a:lnTo>
                      <a:lnTo>
                        <a:pt x="129" y="867"/>
                      </a:lnTo>
                      <a:lnTo>
                        <a:pt x="120" y="842"/>
                      </a:lnTo>
                      <a:lnTo>
                        <a:pt x="111" y="817"/>
                      </a:lnTo>
                      <a:lnTo>
                        <a:pt x="104" y="790"/>
                      </a:lnTo>
                      <a:lnTo>
                        <a:pt x="97" y="764"/>
                      </a:lnTo>
                      <a:lnTo>
                        <a:pt x="91" y="737"/>
                      </a:lnTo>
                      <a:lnTo>
                        <a:pt x="85" y="709"/>
                      </a:lnTo>
                      <a:lnTo>
                        <a:pt x="81" y="681"/>
                      </a:lnTo>
                      <a:lnTo>
                        <a:pt x="77" y="653"/>
                      </a:lnTo>
                      <a:lnTo>
                        <a:pt x="75" y="624"/>
                      </a:lnTo>
                      <a:lnTo>
                        <a:pt x="73" y="595"/>
                      </a:lnTo>
                      <a:lnTo>
                        <a:pt x="73" y="567"/>
                      </a:lnTo>
                      <a:lnTo>
                        <a:pt x="73" y="537"/>
                      </a:lnTo>
                      <a:lnTo>
                        <a:pt x="74" y="508"/>
                      </a:lnTo>
                      <a:lnTo>
                        <a:pt x="76" y="479"/>
                      </a:lnTo>
                      <a:lnTo>
                        <a:pt x="78" y="450"/>
                      </a:lnTo>
                      <a:lnTo>
                        <a:pt x="82" y="422"/>
                      </a:lnTo>
                      <a:lnTo>
                        <a:pt x="87" y="392"/>
                      </a:lnTo>
                      <a:lnTo>
                        <a:pt x="92" y="364"/>
                      </a:lnTo>
                      <a:lnTo>
                        <a:pt x="98" y="336"/>
                      </a:lnTo>
                      <a:lnTo>
                        <a:pt x="104" y="308"/>
                      </a:lnTo>
                      <a:lnTo>
                        <a:pt x="112" y="281"/>
                      </a:lnTo>
                      <a:lnTo>
                        <a:pt x="120" y="254"/>
                      </a:lnTo>
                      <a:lnTo>
                        <a:pt x="128" y="228"/>
                      </a:lnTo>
                      <a:lnTo>
                        <a:pt x="138" y="202"/>
                      </a:lnTo>
                      <a:lnTo>
                        <a:pt x="148" y="176"/>
                      </a:lnTo>
                      <a:lnTo>
                        <a:pt x="160" y="152"/>
                      </a:lnTo>
                      <a:lnTo>
                        <a:pt x="171" y="129"/>
                      </a:lnTo>
                      <a:lnTo>
                        <a:pt x="183" y="107"/>
                      </a:lnTo>
                      <a:lnTo>
                        <a:pt x="196" y="84"/>
                      </a:lnTo>
                      <a:lnTo>
                        <a:pt x="209" y="63"/>
                      </a:lnTo>
                      <a:lnTo>
                        <a:pt x="223" y="43"/>
                      </a:lnTo>
                      <a:lnTo>
                        <a:pt x="223" y="43"/>
                      </a:lnTo>
                      <a:lnTo>
                        <a:pt x="166" y="0"/>
                      </a:lnTo>
                      <a:lnTo>
                        <a:pt x="166" y="0"/>
                      </a:lnTo>
                      <a:lnTo>
                        <a:pt x="166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5362560" y="2392200"/>
                  <a:ext cx="58680" cy="43200"/>
                </a:xfrm>
                <a:custGeom>
                  <a:avLst/>
                  <a:gdLst/>
                  <a:ahLst/>
                  <a:rect l="l" t="t" r="r" b="b"/>
                  <a:pathLst>
                    <a:path w="1089" h="797">
                      <a:moveTo>
                        <a:pt x="1071" y="0"/>
                      </a:moveTo>
                      <a:lnTo>
                        <a:pt x="1071" y="0"/>
                      </a:lnTo>
                      <a:lnTo>
                        <a:pt x="1030" y="10"/>
                      </a:lnTo>
                      <a:lnTo>
                        <a:pt x="991" y="23"/>
                      </a:lnTo>
                      <a:lnTo>
                        <a:pt x="951" y="36"/>
                      </a:lnTo>
                      <a:lnTo>
                        <a:pt x="912" y="49"/>
                      </a:lnTo>
                      <a:lnTo>
                        <a:pt x="873" y="64"/>
                      </a:lnTo>
                      <a:lnTo>
                        <a:pt x="834" y="80"/>
                      </a:lnTo>
                      <a:lnTo>
                        <a:pt x="796" y="96"/>
                      </a:lnTo>
                      <a:lnTo>
                        <a:pt x="758" y="115"/>
                      </a:lnTo>
                      <a:lnTo>
                        <a:pt x="721" y="133"/>
                      </a:lnTo>
                      <a:lnTo>
                        <a:pt x="683" y="153"/>
                      </a:lnTo>
                      <a:lnTo>
                        <a:pt x="647" y="173"/>
                      </a:lnTo>
                      <a:lnTo>
                        <a:pt x="610" y="195"/>
                      </a:lnTo>
                      <a:lnTo>
                        <a:pt x="575" y="216"/>
                      </a:lnTo>
                      <a:lnTo>
                        <a:pt x="539" y="239"/>
                      </a:lnTo>
                      <a:lnTo>
                        <a:pt x="504" y="263"/>
                      </a:lnTo>
                      <a:lnTo>
                        <a:pt x="470" y="287"/>
                      </a:lnTo>
                      <a:lnTo>
                        <a:pt x="436" y="312"/>
                      </a:lnTo>
                      <a:lnTo>
                        <a:pt x="402" y="338"/>
                      </a:lnTo>
                      <a:lnTo>
                        <a:pt x="370" y="364"/>
                      </a:lnTo>
                      <a:lnTo>
                        <a:pt x="337" y="390"/>
                      </a:lnTo>
                      <a:lnTo>
                        <a:pt x="306" y="419"/>
                      </a:lnTo>
                      <a:lnTo>
                        <a:pt x="275" y="446"/>
                      </a:lnTo>
                      <a:lnTo>
                        <a:pt x="244" y="475"/>
                      </a:lnTo>
                      <a:lnTo>
                        <a:pt x="215" y="504"/>
                      </a:lnTo>
                      <a:lnTo>
                        <a:pt x="185" y="534"/>
                      </a:lnTo>
                      <a:lnTo>
                        <a:pt x="157" y="564"/>
                      </a:lnTo>
                      <a:lnTo>
                        <a:pt x="128" y="595"/>
                      </a:lnTo>
                      <a:lnTo>
                        <a:pt x="101" y="626"/>
                      </a:lnTo>
                      <a:lnTo>
                        <a:pt x="75" y="658"/>
                      </a:lnTo>
                      <a:lnTo>
                        <a:pt x="48" y="689"/>
                      </a:lnTo>
                      <a:lnTo>
                        <a:pt x="24" y="722"/>
                      </a:lnTo>
                      <a:lnTo>
                        <a:pt x="0" y="754"/>
                      </a:lnTo>
                      <a:lnTo>
                        <a:pt x="57" y="797"/>
                      </a:lnTo>
                      <a:lnTo>
                        <a:pt x="81" y="765"/>
                      </a:lnTo>
                      <a:lnTo>
                        <a:pt x="105" y="734"/>
                      </a:lnTo>
                      <a:lnTo>
                        <a:pt x="130" y="703"/>
                      </a:lnTo>
                      <a:lnTo>
                        <a:pt x="156" y="673"/>
                      </a:lnTo>
                      <a:lnTo>
                        <a:pt x="182" y="643"/>
                      </a:lnTo>
                      <a:lnTo>
                        <a:pt x="210" y="613"/>
                      </a:lnTo>
                      <a:lnTo>
                        <a:pt x="237" y="584"/>
                      </a:lnTo>
                      <a:lnTo>
                        <a:pt x="265" y="556"/>
                      </a:lnTo>
                      <a:lnTo>
                        <a:pt x="294" y="527"/>
                      </a:lnTo>
                      <a:lnTo>
                        <a:pt x="323" y="500"/>
                      </a:lnTo>
                      <a:lnTo>
                        <a:pt x="354" y="472"/>
                      </a:lnTo>
                      <a:lnTo>
                        <a:pt x="384" y="446"/>
                      </a:lnTo>
                      <a:lnTo>
                        <a:pt x="416" y="420"/>
                      </a:lnTo>
                      <a:lnTo>
                        <a:pt x="447" y="394"/>
                      </a:lnTo>
                      <a:lnTo>
                        <a:pt x="479" y="370"/>
                      </a:lnTo>
                      <a:lnTo>
                        <a:pt x="512" y="346"/>
                      </a:lnTo>
                      <a:lnTo>
                        <a:pt x="545" y="322"/>
                      </a:lnTo>
                      <a:lnTo>
                        <a:pt x="579" y="299"/>
                      </a:lnTo>
                      <a:lnTo>
                        <a:pt x="613" y="278"/>
                      </a:lnTo>
                      <a:lnTo>
                        <a:pt x="648" y="257"/>
                      </a:lnTo>
                      <a:lnTo>
                        <a:pt x="682" y="236"/>
                      </a:lnTo>
                      <a:lnTo>
                        <a:pt x="718" y="216"/>
                      </a:lnTo>
                      <a:lnTo>
                        <a:pt x="753" y="198"/>
                      </a:lnTo>
                      <a:lnTo>
                        <a:pt x="790" y="180"/>
                      </a:lnTo>
                      <a:lnTo>
                        <a:pt x="825" y="162"/>
                      </a:lnTo>
                      <a:lnTo>
                        <a:pt x="863" y="146"/>
                      </a:lnTo>
                      <a:lnTo>
                        <a:pt x="899" y="131"/>
                      </a:lnTo>
                      <a:lnTo>
                        <a:pt x="937" y="117"/>
                      </a:lnTo>
                      <a:lnTo>
                        <a:pt x="974" y="104"/>
                      </a:lnTo>
                      <a:lnTo>
                        <a:pt x="1012" y="91"/>
                      </a:lnTo>
                      <a:lnTo>
                        <a:pt x="1051" y="80"/>
                      </a:lnTo>
                      <a:lnTo>
                        <a:pt x="1088" y="70"/>
                      </a:lnTo>
                      <a:lnTo>
                        <a:pt x="1089" y="70"/>
                      </a:lnTo>
                      <a:lnTo>
                        <a:pt x="1088" y="70"/>
                      </a:lnTo>
                      <a:lnTo>
                        <a:pt x="1088" y="70"/>
                      </a:lnTo>
                      <a:lnTo>
                        <a:pt x="1089" y="70"/>
                      </a:lnTo>
                      <a:lnTo>
                        <a:pt x="1071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>
                  <a:off x="5419800" y="2378160"/>
                  <a:ext cx="100080" cy="17280"/>
                </a:xfrm>
                <a:custGeom>
                  <a:avLst/>
                  <a:gdLst/>
                  <a:ahLst/>
                  <a:rect l="l" t="t" r="r" b="b"/>
                  <a:pathLst>
                    <a:path w="1872" h="339">
                      <a:moveTo>
                        <a:pt x="1737" y="69"/>
                      </a:moveTo>
                      <a:lnTo>
                        <a:pt x="1721" y="0"/>
                      </a:lnTo>
                      <a:lnTo>
                        <a:pt x="1666" y="1"/>
                      </a:lnTo>
                      <a:lnTo>
                        <a:pt x="1612" y="3"/>
                      </a:lnTo>
                      <a:lnTo>
                        <a:pt x="1557" y="5"/>
                      </a:lnTo>
                      <a:lnTo>
                        <a:pt x="1502" y="8"/>
                      </a:lnTo>
                      <a:lnTo>
                        <a:pt x="1447" y="11"/>
                      </a:lnTo>
                      <a:lnTo>
                        <a:pt x="1393" y="15"/>
                      </a:lnTo>
                      <a:lnTo>
                        <a:pt x="1338" y="20"/>
                      </a:lnTo>
                      <a:lnTo>
                        <a:pt x="1284" y="25"/>
                      </a:lnTo>
                      <a:lnTo>
                        <a:pt x="1175" y="36"/>
                      </a:lnTo>
                      <a:lnTo>
                        <a:pt x="1068" y="50"/>
                      </a:lnTo>
                      <a:lnTo>
                        <a:pt x="959" y="66"/>
                      </a:lnTo>
                      <a:lnTo>
                        <a:pt x="853" y="83"/>
                      </a:lnTo>
                      <a:lnTo>
                        <a:pt x="745" y="102"/>
                      </a:lnTo>
                      <a:lnTo>
                        <a:pt x="638" y="122"/>
                      </a:lnTo>
                      <a:lnTo>
                        <a:pt x="531" y="144"/>
                      </a:lnTo>
                      <a:lnTo>
                        <a:pt x="425" y="167"/>
                      </a:lnTo>
                      <a:lnTo>
                        <a:pt x="318" y="191"/>
                      </a:lnTo>
                      <a:lnTo>
                        <a:pt x="212" y="217"/>
                      </a:lnTo>
                      <a:lnTo>
                        <a:pt x="106" y="242"/>
                      </a:lnTo>
                      <a:lnTo>
                        <a:pt x="0" y="269"/>
                      </a:lnTo>
                      <a:lnTo>
                        <a:pt x="18" y="339"/>
                      </a:lnTo>
                      <a:lnTo>
                        <a:pt x="124" y="313"/>
                      </a:lnTo>
                      <a:lnTo>
                        <a:pt x="229" y="286"/>
                      </a:lnTo>
                      <a:lnTo>
                        <a:pt x="335" y="261"/>
                      </a:lnTo>
                      <a:lnTo>
                        <a:pt x="441" y="238"/>
                      </a:lnTo>
                      <a:lnTo>
                        <a:pt x="547" y="215"/>
                      </a:lnTo>
                      <a:lnTo>
                        <a:pt x="652" y="193"/>
                      </a:lnTo>
                      <a:lnTo>
                        <a:pt x="759" y="173"/>
                      </a:lnTo>
                      <a:lnTo>
                        <a:pt x="864" y="154"/>
                      </a:lnTo>
                      <a:lnTo>
                        <a:pt x="971" y="137"/>
                      </a:lnTo>
                      <a:lnTo>
                        <a:pt x="1077" y="121"/>
                      </a:lnTo>
                      <a:lnTo>
                        <a:pt x="1184" y="108"/>
                      </a:lnTo>
                      <a:lnTo>
                        <a:pt x="1291" y="97"/>
                      </a:lnTo>
                      <a:lnTo>
                        <a:pt x="1345" y="92"/>
                      </a:lnTo>
                      <a:lnTo>
                        <a:pt x="1398" y="87"/>
                      </a:lnTo>
                      <a:lnTo>
                        <a:pt x="1452" y="83"/>
                      </a:lnTo>
                      <a:lnTo>
                        <a:pt x="1506" y="80"/>
                      </a:lnTo>
                      <a:lnTo>
                        <a:pt x="1560" y="77"/>
                      </a:lnTo>
                      <a:lnTo>
                        <a:pt x="1614" y="75"/>
                      </a:lnTo>
                      <a:lnTo>
                        <a:pt x="1667" y="74"/>
                      </a:lnTo>
                      <a:lnTo>
                        <a:pt x="1722" y="73"/>
                      </a:lnTo>
                      <a:lnTo>
                        <a:pt x="1706" y="4"/>
                      </a:lnTo>
                      <a:lnTo>
                        <a:pt x="1737" y="69"/>
                      </a:lnTo>
                      <a:lnTo>
                        <a:pt x="1872" y="2"/>
                      </a:lnTo>
                      <a:lnTo>
                        <a:pt x="1721" y="0"/>
                      </a:lnTo>
                      <a:lnTo>
                        <a:pt x="1737" y="6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>
                  <a:off x="5429160" y="2378160"/>
                  <a:ext cx="82800" cy="48960"/>
                </a:xfrm>
                <a:custGeom>
                  <a:avLst/>
                  <a:gdLst/>
                  <a:ahLst/>
                  <a:rect l="l" t="t" r="r" b="b"/>
                  <a:pathLst>
                    <a:path w="1567" h="932">
                      <a:moveTo>
                        <a:pt x="42" y="932"/>
                      </a:moveTo>
                      <a:lnTo>
                        <a:pt x="42" y="932"/>
                      </a:lnTo>
                      <a:lnTo>
                        <a:pt x="136" y="867"/>
                      </a:lnTo>
                      <a:lnTo>
                        <a:pt x="230" y="804"/>
                      </a:lnTo>
                      <a:lnTo>
                        <a:pt x="325" y="743"/>
                      </a:lnTo>
                      <a:lnTo>
                        <a:pt x="419" y="685"/>
                      </a:lnTo>
                      <a:lnTo>
                        <a:pt x="512" y="628"/>
                      </a:lnTo>
                      <a:lnTo>
                        <a:pt x="607" y="572"/>
                      </a:lnTo>
                      <a:lnTo>
                        <a:pt x="701" y="518"/>
                      </a:lnTo>
                      <a:lnTo>
                        <a:pt x="797" y="465"/>
                      </a:lnTo>
                      <a:lnTo>
                        <a:pt x="891" y="412"/>
                      </a:lnTo>
                      <a:lnTo>
                        <a:pt x="986" y="361"/>
                      </a:lnTo>
                      <a:lnTo>
                        <a:pt x="1082" y="311"/>
                      </a:lnTo>
                      <a:lnTo>
                        <a:pt x="1178" y="261"/>
                      </a:lnTo>
                      <a:lnTo>
                        <a:pt x="1274" y="212"/>
                      </a:lnTo>
                      <a:lnTo>
                        <a:pt x="1372" y="163"/>
                      </a:lnTo>
                      <a:lnTo>
                        <a:pt x="1469" y="113"/>
                      </a:lnTo>
                      <a:lnTo>
                        <a:pt x="1567" y="65"/>
                      </a:lnTo>
                      <a:lnTo>
                        <a:pt x="1536" y="0"/>
                      </a:lnTo>
                      <a:lnTo>
                        <a:pt x="1438" y="49"/>
                      </a:lnTo>
                      <a:lnTo>
                        <a:pt x="1339" y="98"/>
                      </a:lnTo>
                      <a:lnTo>
                        <a:pt x="1242" y="148"/>
                      </a:lnTo>
                      <a:lnTo>
                        <a:pt x="1144" y="197"/>
                      </a:lnTo>
                      <a:lnTo>
                        <a:pt x="1048" y="247"/>
                      </a:lnTo>
                      <a:lnTo>
                        <a:pt x="953" y="298"/>
                      </a:lnTo>
                      <a:lnTo>
                        <a:pt x="856" y="349"/>
                      </a:lnTo>
                      <a:lnTo>
                        <a:pt x="761" y="401"/>
                      </a:lnTo>
                      <a:lnTo>
                        <a:pt x="666" y="455"/>
                      </a:lnTo>
                      <a:lnTo>
                        <a:pt x="571" y="509"/>
                      </a:lnTo>
                      <a:lnTo>
                        <a:pt x="476" y="565"/>
                      </a:lnTo>
                      <a:lnTo>
                        <a:pt x="381" y="623"/>
                      </a:lnTo>
                      <a:lnTo>
                        <a:pt x="285" y="683"/>
                      </a:lnTo>
                      <a:lnTo>
                        <a:pt x="191" y="745"/>
                      </a:lnTo>
                      <a:lnTo>
                        <a:pt x="96" y="807"/>
                      </a:lnTo>
                      <a:lnTo>
                        <a:pt x="0" y="873"/>
                      </a:lnTo>
                      <a:lnTo>
                        <a:pt x="0" y="873"/>
                      </a:lnTo>
                      <a:lnTo>
                        <a:pt x="0" y="873"/>
                      </a:lnTo>
                      <a:lnTo>
                        <a:pt x="0" y="873"/>
                      </a:lnTo>
                      <a:lnTo>
                        <a:pt x="0" y="873"/>
                      </a:lnTo>
                      <a:lnTo>
                        <a:pt x="42" y="93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>
                  <a:off x="5427720" y="2424240"/>
                  <a:ext cx="6120" cy="9360"/>
                </a:xfrm>
                <a:custGeom>
                  <a:avLst/>
                  <a:gdLst/>
                  <a:ahLst/>
                  <a:rect l="l" t="t" r="r" b="b"/>
                  <a:pathLst>
                    <a:path w="107" h="154">
                      <a:moveTo>
                        <a:pt x="107" y="109"/>
                      </a:moveTo>
                      <a:lnTo>
                        <a:pt x="107" y="108"/>
                      </a:lnTo>
                      <a:lnTo>
                        <a:pt x="98" y="96"/>
                      </a:lnTo>
                      <a:lnTo>
                        <a:pt x="89" y="84"/>
                      </a:lnTo>
                      <a:lnTo>
                        <a:pt x="82" y="72"/>
                      </a:lnTo>
                      <a:lnTo>
                        <a:pt x="76" y="60"/>
                      </a:lnTo>
                      <a:lnTo>
                        <a:pt x="74" y="57"/>
                      </a:lnTo>
                      <a:lnTo>
                        <a:pt x="73" y="53"/>
                      </a:lnTo>
                      <a:lnTo>
                        <a:pt x="73" y="51"/>
                      </a:lnTo>
                      <a:lnTo>
                        <a:pt x="73" y="50"/>
                      </a:lnTo>
                      <a:lnTo>
                        <a:pt x="72" y="52"/>
                      </a:lnTo>
                      <a:lnTo>
                        <a:pt x="71" y="54"/>
                      </a:lnTo>
                      <a:lnTo>
                        <a:pt x="69" y="57"/>
                      </a:lnTo>
                      <a:lnTo>
                        <a:pt x="67" y="59"/>
                      </a:lnTo>
                      <a:lnTo>
                        <a:pt x="25" y="0"/>
                      </a:lnTo>
                      <a:lnTo>
                        <a:pt x="14" y="10"/>
                      </a:lnTo>
                      <a:lnTo>
                        <a:pt x="6" y="22"/>
                      </a:lnTo>
                      <a:lnTo>
                        <a:pt x="2" y="36"/>
                      </a:lnTo>
                      <a:lnTo>
                        <a:pt x="0" y="48"/>
                      </a:lnTo>
                      <a:lnTo>
                        <a:pt x="1" y="60"/>
                      </a:lnTo>
                      <a:lnTo>
                        <a:pt x="3" y="70"/>
                      </a:lnTo>
                      <a:lnTo>
                        <a:pt x="6" y="80"/>
                      </a:lnTo>
                      <a:lnTo>
                        <a:pt x="10" y="91"/>
                      </a:lnTo>
                      <a:lnTo>
                        <a:pt x="19" y="108"/>
                      </a:lnTo>
                      <a:lnTo>
                        <a:pt x="29" y="125"/>
                      </a:lnTo>
                      <a:lnTo>
                        <a:pt x="40" y="140"/>
                      </a:lnTo>
                      <a:lnTo>
                        <a:pt x="52" y="154"/>
                      </a:lnTo>
                      <a:lnTo>
                        <a:pt x="51" y="153"/>
                      </a:lnTo>
                      <a:lnTo>
                        <a:pt x="107" y="109"/>
                      </a:lnTo>
                      <a:lnTo>
                        <a:pt x="107" y="109"/>
                      </a:lnTo>
                      <a:lnTo>
                        <a:pt x="107" y="108"/>
                      </a:lnTo>
                      <a:lnTo>
                        <a:pt x="107" y="10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>
                  <a:off x="5491080" y="2400480"/>
                  <a:ext cx="55800" cy="72720"/>
                </a:xfrm>
                <a:custGeom>
                  <a:avLst/>
                  <a:gdLst/>
                  <a:ahLst/>
                  <a:rect l="l" t="t" r="r" b="b"/>
                  <a:pathLst>
                    <a:path w="1049" h="1386">
                      <a:moveTo>
                        <a:pt x="866" y="639"/>
                      </a:moveTo>
                      <a:lnTo>
                        <a:pt x="842" y="687"/>
                      </a:lnTo>
                      <a:lnTo>
                        <a:pt x="816" y="736"/>
                      </a:lnTo>
                      <a:lnTo>
                        <a:pt x="792" y="783"/>
                      </a:lnTo>
                      <a:lnTo>
                        <a:pt x="767" y="831"/>
                      </a:lnTo>
                      <a:lnTo>
                        <a:pt x="742" y="879"/>
                      </a:lnTo>
                      <a:lnTo>
                        <a:pt x="717" y="926"/>
                      </a:lnTo>
                      <a:lnTo>
                        <a:pt x="693" y="973"/>
                      </a:lnTo>
                      <a:lnTo>
                        <a:pt x="667" y="1020"/>
                      </a:lnTo>
                      <a:lnTo>
                        <a:pt x="642" y="1067"/>
                      </a:lnTo>
                      <a:lnTo>
                        <a:pt x="616" y="1113"/>
                      </a:lnTo>
                      <a:lnTo>
                        <a:pt x="589" y="1159"/>
                      </a:lnTo>
                      <a:lnTo>
                        <a:pt x="563" y="1205"/>
                      </a:lnTo>
                      <a:lnTo>
                        <a:pt x="535" y="1250"/>
                      </a:lnTo>
                      <a:lnTo>
                        <a:pt x="507" y="1296"/>
                      </a:lnTo>
                      <a:lnTo>
                        <a:pt x="479" y="1342"/>
                      </a:lnTo>
                      <a:lnTo>
                        <a:pt x="449" y="1386"/>
                      </a:lnTo>
                      <a:lnTo>
                        <a:pt x="451" y="1379"/>
                      </a:lnTo>
                      <a:lnTo>
                        <a:pt x="452" y="1373"/>
                      </a:lnTo>
                      <a:lnTo>
                        <a:pt x="452" y="1366"/>
                      </a:lnTo>
                      <a:lnTo>
                        <a:pt x="452" y="1360"/>
                      </a:lnTo>
                      <a:lnTo>
                        <a:pt x="451" y="1355"/>
                      </a:lnTo>
                      <a:lnTo>
                        <a:pt x="449" y="1349"/>
                      </a:lnTo>
                      <a:lnTo>
                        <a:pt x="447" y="1344"/>
                      </a:lnTo>
                      <a:lnTo>
                        <a:pt x="445" y="1339"/>
                      </a:lnTo>
                      <a:lnTo>
                        <a:pt x="442" y="1335"/>
                      </a:lnTo>
                      <a:lnTo>
                        <a:pt x="439" y="1331"/>
                      </a:lnTo>
                      <a:lnTo>
                        <a:pt x="435" y="1326"/>
                      </a:lnTo>
                      <a:lnTo>
                        <a:pt x="431" y="1323"/>
                      </a:lnTo>
                      <a:lnTo>
                        <a:pt x="426" y="1321"/>
                      </a:lnTo>
                      <a:lnTo>
                        <a:pt x="422" y="1318"/>
                      </a:lnTo>
                      <a:lnTo>
                        <a:pt x="416" y="1317"/>
                      </a:lnTo>
                      <a:lnTo>
                        <a:pt x="411" y="1315"/>
                      </a:lnTo>
                      <a:lnTo>
                        <a:pt x="397" y="1313"/>
                      </a:lnTo>
                      <a:lnTo>
                        <a:pt x="382" y="1312"/>
                      </a:lnTo>
                      <a:lnTo>
                        <a:pt x="367" y="1312"/>
                      </a:lnTo>
                      <a:lnTo>
                        <a:pt x="352" y="1312"/>
                      </a:lnTo>
                      <a:lnTo>
                        <a:pt x="321" y="1314"/>
                      </a:lnTo>
                      <a:lnTo>
                        <a:pt x="292" y="1316"/>
                      </a:lnTo>
                      <a:lnTo>
                        <a:pt x="278" y="1317"/>
                      </a:lnTo>
                      <a:lnTo>
                        <a:pt x="264" y="1317"/>
                      </a:lnTo>
                      <a:lnTo>
                        <a:pt x="250" y="1316"/>
                      </a:lnTo>
                      <a:lnTo>
                        <a:pt x="238" y="1315"/>
                      </a:lnTo>
                      <a:lnTo>
                        <a:pt x="227" y="1312"/>
                      </a:lnTo>
                      <a:lnTo>
                        <a:pt x="217" y="1309"/>
                      </a:lnTo>
                      <a:lnTo>
                        <a:pt x="208" y="1304"/>
                      </a:lnTo>
                      <a:lnTo>
                        <a:pt x="201" y="1298"/>
                      </a:lnTo>
                      <a:lnTo>
                        <a:pt x="194" y="1290"/>
                      </a:lnTo>
                      <a:lnTo>
                        <a:pt x="188" y="1280"/>
                      </a:lnTo>
                      <a:lnTo>
                        <a:pt x="182" y="1269"/>
                      </a:lnTo>
                      <a:lnTo>
                        <a:pt x="179" y="1257"/>
                      </a:lnTo>
                      <a:lnTo>
                        <a:pt x="175" y="1243"/>
                      </a:lnTo>
                      <a:lnTo>
                        <a:pt x="173" y="1229"/>
                      </a:lnTo>
                      <a:lnTo>
                        <a:pt x="172" y="1215"/>
                      </a:lnTo>
                      <a:lnTo>
                        <a:pt x="172" y="1200"/>
                      </a:lnTo>
                      <a:lnTo>
                        <a:pt x="172" y="1185"/>
                      </a:lnTo>
                      <a:lnTo>
                        <a:pt x="173" y="1170"/>
                      </a:lnTo>
                      <a:lnTo>
                        <a:pt x="175" y="1155"/>
                      </a:lnTo>
                      <a:lnTo>
                        <a:pt x="179" y="1142"/>
                      </a:lnTo>
                      <a:lnTo>
                        <a:pt x="182" y="1129"/>
                      </a:lnTo>
                      <a:lnTo>
                        <a:pt x="188" y="1117"/>
                      </a:lnTo>
                      <a:lnTo>
                        <a:pt x="194" y="1107"/>
                      </a:lnTo>
                      <a:lnTo>
                        <a:pt x="201" y="1097"/>
                      </a:lnTo>
                      <a:lnTo>
                        <a:pt x="205" y="1093"/>
                      </a:lnTo>
                      <a:lnTo>
                        <a:pt x="210" y="1090"/>
                      </a:lnTo>
                      <a:lnTo>
                        <a:pt x="215" y="1087"/>
                      </a:lnTo>
                      <a:lnTo>
                        <a:pt x="220" y="1085"/>
                      </a:lnTo>
                      <a:lnTo>
                        <a:pt x="233" y="1082"/>
                      </a:lnTo>
                      <a:lnTo>
                        <a:pt x="246" y="1081"/>
                      </a:lnTo>
                      <a:lnTo>
                        <a:pt x="262" y="1082"/>
                      </a:lnTo>
                      <a:lnTo>
                        <a:pt x="277" y="1084"/>
                      </a:lnTo>
                      <a:lnTo>
                        <a:pt x="292" y="1087"/>
                      </a:lnTo>
                      <a:lnTo>
                        <a:pt x="308" y="1090"/>
                      </a:lnTo>
                      <a:lnTo>
                        <a:pt x="338" y="1099"/>
                      </a:lnTo>
                      <a:lnTo>
                        <a:pt x="362" y="1107"/>
                      </a:lnTo>
                      <a:lnTo>
                        <a:pt x="372" y="1110"/>
                      </a:lnTo>
                      <a:lnTo>
                        <a:pt x="380" y="1112"/>
                      </a:lnTo>
                      <a:lnTo>
                        <a:pt x="383" y="1112"/>
                      </a:lnTo>
                      <a:lnTo>
                        <a:pt x="386" y="1112"/>
                      </a:lnTo>
                      <a:lnTo>
                        <a:pt x="388" y="1111"/>
                      </a:lnTo>
                      <a:lnTo>
                        <a:pt x="389" y="1110"/>
                      </a:lnTo>
                      <a:lnTo>
                        <a:pt x="411" y="1071"/>
                      </a:lnTo>
                      <a:lnTo>
                        <a:pt x="429" y="1034"/>
                      </a:lnTo>
                      <a:lnTo>
                        <a:pt x="443" y="996"/>
                      </a:lnTo>
                      <a:lnTo>
                        <a:pt x="453" y="959"/>
                      </a:lnTo>
                      <a:lnTo>
                        <a:pt x="460" y="922"/>
                      </a:lnTo>
                      <a:lnTo>
                        <a:pt x="463" y="886"/>
                      </a:lnTo>
                      <a:lnTo>
                        <a:pt x="463" y="849"/>
                      </a:lnTo>
                      <a:lnTo>
                        <a:pt x="461" y="813"/>
                      </a:lnTo>
                      <a:lnTo>
                        <a:pt x="455" y="777"/>
                      </a:lnTo>
                      <a:lnTo>
                        <a:pt x="447" y="742"/>
                      </a:lnTo>
                      <a:lnTo>
                        <a:pt x="437" y="707"/>
                      </a:lnTo>
                      <a:lnTo>
                        <a:pt x="425" y="673"/>
                      </a:lnTo>
                      <a:lnTo>
                        <a:pt x="410" y="638"/>
                      </a:lnTo>
                      <a:lnTo>
                        <a:pt x="393" y="604"/>
                      </a:lnTo>
                      <a:lnTo>
                        <a:pt x="375" y="570"/>
                      </a:lnTo>
                      <a:lnTo>
                        <a:pt x="356" y="535"/>
                      </a:lnTo>
                      <a:lnTo>
                        <a:pt x="335" y="502"/>
                      </a:lnTo>
                      <a:lnTo>
                        <a:pt x="313" y="468"/>
                      </a:lnTo>
                      <a:lnTo>
                        <a:pt x="290" y="435"/>
                      </a:lnTo>
                      <a:lnTo>
                        <a:pt x="267" y="401"/>
                      </a:lnTo>
                      <a:lnTo>
                        <a:pt x="218" y="334"/>
                      </a:lnTo>
                      <a:lnTo>
                        <a:pt x="169" y="268"/>
                      </a:lnTo>
                      <a:lnTo>
                        <a:pt x="146" y="234"/>
                      </a:lnTo>
                      <a:lnTo>
                        <a:pt x="122" y="202"/>
                      </a:lnTo>
                      <a:lnTo>
                        <a:pt x="99" y="168"/>
                      </a:lnTo>
                      <a:lnTo>
                        <a:pt x="77" y="135"/>
                      </a:lnTo>
                      <a:lnTo>
                        <a:pt x="56" y="101"/>
                      </a:lnTo>
                      <a:lnTo>
                        <a:pt x="35" y="68"/>
                      </a:lnTo>
                      <a:lnTo>
                        <a:pt x="17" y="35"/>
                      </a:ln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71" y="2"/>
                      </a:lnTo>
                      <a:lnTo>
                        <a:pt x="105" y="5"/>
                      </a:lnTo>
                      <a:lnTo>
                        <a:pt x="140" y="9"/>
                      </a:lnTo>
                      <a:lnTo>
                        <a:pt x="173" y="14"/>
                      </a:lnTo>
                      <a:lnTo>
                        <a:pt x="208" y="20"/>
                      </a:lnTo>
                      <a:lnTo>
                        <a:pt x="240" y="27"/>
                      </a:lnTo>
                      <a:lnTo>
                        <a:pt x="274" y="37"/>
                      </a:lnTo>
                      <a:lnTo>
                        <a:pt x="306" y="46"/>
                      </a:lnTo>
                      <a:lnTo>
                        <a:pt x="340" y="56"/>
                      </a:lnTo>
                      <a:lnTo>
                        <a:pt x="372" y="66"/>
                      </a:lnTo>
                      <a:lnTo>
                        <a:pt x="404" y="77"/>
                      </a:lnTo>
                      <a:lnTo>
                        <a:pt x="469" y="101"/>
                      </a:lnTo>
                      <a:lnTo>
                        <a:pt x="531" y="127"/>
                      </a:lnTo>
                      <a:lnTo>
                        <a:pt x="595" y="153"/>
                      </a:lnTo>
                      <a:lnTo>
                        <a:pt x="658" y="179"/>
                      </a:lnTo>
                      <a:lnTo>
                        <a:pt x="722" y="205"/>
                      </a:lnTo>
                      <a:lnTo>
                        <a:pt x="786" y="229"/>
                      </a:lnTo>
                      <a:lnTo>
                        <a:pt x="819" y="240"/>
                      </a:lnTo>
                      <a:lnTo>
                        <a:pt x="850" y="251"/>
                      </a:lnTo>
                      <a:lnTo>
                        <a:pt x="882" y="262"/>
                      </a:lnTo>
                      <a:lnTo>
                        <a:pt x="916" y="272"/>
                      </a:lnTo>
                      <a:lnTo>
                        <a:pt x="948" y="280"/>
                      </a:lnTo>
                      <a:lnTo>
                        <a:pt x="982" y="288"/>
                      </a:lnTo>
                      <a:lnTo>
                        <a:pt x="1015" y="295"/>
                      </a:lnTo>
                      <a:lnTo>
                        <a:pt x="1049" y="300"/>
                      </a:lnTo>
                      <a:lnTo>
                        <a:pt x="1036" y="320"/>
                      </a:lnTo>
                      <a:lnTo>
                        <a:pt x="1022" y="341"/>
                      </a:lnTo>
                      <a:lnTo>
                        <a:pt x="1009" y="361"/>
                      </a:lnTo>
                      <a:lnTo>
                        <a:pt x="997" y="381"/>
                      </a:lnTo>
                      <a:lnTo>
                        <a:pt x="974" y="424"/>
                      </a:lnTo>
                      <a:lnTo>
                        <a:pt x="952" y="466"/>
                      </a:lnTo>
                      <a:lnTo>
                        <a:pt x="931" y="509"/>
                      </a:lnTo>
                      <a:lnTo>
                        <a:pt x="910" y="552"/>
                      </a:lnTo>
                      <a:lnTo>
                        <a:pt x="888" y="596"/>
                      </a:lnTo>
                      <a:lnTo>
                        <a:pt x="866" y="639"/>
                      </a:lnTo>
                      <a:close/>
                    </a:path>
                  </a:pathLst>
                </a:custGeom>
                <a:solidFill>
                  <a:srgbClr val="925f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>
                  <a:off x="5510160" y="2433600"/>
                  <a:ext cx="28800" cy="50760"/>
                </a:xfrm>
                <a:custGeom>
                  <a:avLst/>
                  <a:gdLst/>
                  <a:ahLst/>
                  <a:rect l="l" t="t" r="r" b="b"/>
                  <a:pathLst>
                    <a:path w="540" h="961">
                      <a:moveTo>
                        <a:pt x="56" y="754"/>
                      </a:moveTo>
                      <a:lnTo>
                        <a:pt x="121" y="784"/>
                      </a:lnTo>
                      <a:lnTo>
                        <a:pt x="150" y="739"/>
                      </a:lnTo>
                      <a:lnTo>
                        <a:pt x="179" y="693"/>
                      </a:lnTo>
                      <a:lnTo>
                        <a:pt x="207" y="648"/>
                      </a:lnTo>
                      <a:lnTo>
                        <a:pt x="234" y="601"/>
                      </a:lnTo>
                      <a:lnTo>
                        <a:pt x="262" y="556"/>
                      </a:lnTo>
                      <a:lnTo>
                        <a:pt x="288" y="509"/>
                      </a:lnTo>
                      <a:lnTo>
                        <a:pt x="314" y="462"/>
                      </a:lnTo>
                      <a:lnTo>
                        <a:pt x="340" y="416"/>
                      </a:lnTo>
                      <a:lnTo>
                        <a:pt x="365" y="368"/>
                      </a:lnTo>
                      <a:lnTo>
                        <a:pt x="391" y="320"/>
                      </a:lnTo>
                      <a:lnTo>
                        <a:pt x="416" y="274"/>
                      </a:lnTo>
                      <a:lnTo>
                        <a:pt x="440" y="226"/>
                      </a:lnTo>
                      <a:lnTo>
                        <a:pt x="465" y="178"/>
                      </a:lnTo>
                      <a:lnTo>
                        <a:pt x="490" y="130"/>
                      </a:lnTo>
                      <a:lnTo>
                        <a:pt x="514" y="82"/>
                      </a:lnTo>
                      <a:lnTo>
                        <a:pt x="540" y="34"/>
                      </a:lnTo>
                      <a:lnTo>
                        <a:pt x="476" y="0"/>
                      </a:lnTo>
                      <a:lnTo>
                        <a:pt x="450" y="49"/>
                      </a:lnTo>
                      <a:lnTo>
                        <a:pt x="426" y="96"/>
                      </a:lnTo>
                      <a:lnTo>
                        <a:pt x="401" y="145"/>
                      </a:lnTo>
                      <a:lnTo>
                        <a:pt x="376" y="193"/>
                      </a:lnTo>
                      <a:lnTo>
                        <a:pt x="351" y="240"/>
                      </a:lnTo>
                      <a:lnTo>
                        <a:pt x="327" y="287"/>
                      </a:lnTo>
                      <a:lnTo>
                        <a:pt x="301" y="335"/>
                      </a:lnTo>
                      <a:lnTo>
                        <a:pt x="277" y="380"/>
                      </a:lnTo>
                      <a:lnTo>
                        <a:pt x="251" y="427"/>
                      </a:lnTo>
                      <a:lnTo>
                        <a:pt x="225" y="473"/>
                      </a:lnTo>
                      <a:lnTo>
                        <a:pt x="199" y="519"/>
                      </a:lnTo>
                      <a:lnTo>
                        <a:pt x="172" y="565"/>
                      </a:lnTo>
                      <a:lnTo>
                        <a:pt x="145" y="610"/>
                      </a:lnTo>
                      <a:lnTo>
                        <a:pt x="118" y="655"/>
                      </a:lnTo>
                      <a:lnTo>
                        <a:pt x="89" y="699"/>
                      </a:lnTo>
                      <a:lnTo>
                        <a:pt x="60" y="744"/>
                      </a:lnTo>
                      <a:lnTo>
                        <a:pt x="126" y="773"/>
                      </a:lnTo>
                      <a:lnTo>
                        <a:pt x="56" y="754"/>
                      </a:lnTo>
                      <a:lnTo>
                        <a:pt x="0" y="961"/>
                      </a:lnTo>
                      <a:lnTo>
                        <a:pt x="121" y="784"/>
                      </a:lnTo>
                      <a:lnTo>
                        <a:pt x="56" y="754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>
                  <a:off x="5511960" y="24670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4" h="115">
                      <a:moveTo>
                        <a:pt x="0" y="71"/>
                      </a:move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3" y="72"/>
                      </a:lnTo>
                      <a:lnTo>
                        <a:pt x="5" y="73"/>
                      </a:lnTo>
                      <a:lnTo>
                        <a:pt x="6" y="74"/>
                      </a:lnTo>
                      <a:lnTo>
                        <a:pt x="7" y="74"/>
                      </a:lnTo>
                      <a:lnTo>
                        <a:pt x="8" y="75"/>
                      </a:lnTo>
                      <a:lnTo>
                        <a:pt x="8" y="76"/>
                      </a:lnTo>
                      <a:lnTo>
                        <a:pt x="9" y="77"/>
                      </a:lnTo>
                      <a:lnTo>
                        <a:pt x="10" y="79"/>
                      </a:lnTo>
                      <a:lnTo>
                        <a:pt x="10" y="80"/>
                      </a:lnTo>
                      <a:lnTo>
                        <a:pt x="11" y="82"/>
                      </a:lnTo>
                      <a:lnTo>
                        <a:pt x="11" y="84"/>
                      </a:lnTo>
                      <a:lnTo>
                        <a:pt x="11" y="86"/>
                      </a:lnTo>
                      <a:lnTo>
                        <a:pt x="11" y="89"/>
                      </a:lnTo>
                      <a:lnTo>
                        <a:pt x="10" y="93"/>
                      </a:lnTo>
                      <a:lnTo>
                        <a:pt x="10" y="96"/>
                      </a:lnTo>
                      <a:lnTo>
                        <a:pt x="80" y="115"/>
                      </a:lnTo>
                      <a:lnTo>
                        <a:pt x="82" y="105"/>
                      </a:lnTo>
                      <a:lnTo>
                        <a:pt x="83" y="96"/>
                      </a:lnTo>
                      <a:lnTo>
                        <a:pt x="84" y="86"/>
                      </a:lnTo>
                      <a:lnTo>
                        <a:pt x="83" y="77"/>
                      </a:lnTo>
                      <a:lnTo>
                        <a:pt x="82" y="68"/>
                      </a:lnTo>
                      <a:lnTo>
                        <a:pt x="79" y="59"/>
                      </a:lnTo>
                      <a:lnTo>
                        <a:pt x="76" y="50"/>
                      </a:lnTo>
                      <a:lnTo>
                        <a:pt x="72" y="41"/>
                      </a:lnTo>
                      <a:lnTo>
                        <a:pt x="67" y="33"/>
                      </a:lnTo>
                      <a:lnTo>
                        <a:pt x="60" y="26"/>
                      </a:lnTo>
                      <a:lnTo>
                        <a:pt x="53" y="20"/>
                      </a:lnTo>
                      <a:lnTo>
                        <a:pt x="46" y="14"/>
                      </a:lnTo>
                      <a:lnTo>
                        <a:pt x="38" y="9"/>
                      </a:lnTo>
                      <a:lnTo>
                        <a:pt x="30" y="5"/>
                      </a:lnTo>
                      <a:lnTo>
                        <a:pt x="21" y="2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>
                  <a:off x="5500800" y="24670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243" h="80">
                      <a:moveTo>
                        <a:pt x="0" y="50"/>
                      </a:moveTo>
                      <a:lnTo>
                        <a:pt x="0" y="50"/>
                      </a:lnTo>
                      <a:lnTo>
                        <a:pt x="14" y="62"/>
                      </a:lnTo>
                      <a:lnTo>
                        <a:pt x="29" y="70"/>
                      </a:lnTo>
                      <a:lnTo>
                        <a:pt x="44" y="75"/>
                      </a:lnTo>
                      <a:lnTo>
                        <a:pt x="59" y="78"/>
                      </a:lnTo>
                      <a:lnTo>
                        <a:pt x="74" y="80"/>
                      </a:lnTo>
                      <a:lnTo>
                        <a:pt x="90" y="80"/>
                      </a:lnTo>
                      <a:lnTo>
                        <a:pt x="105" y="80"/>
                      </a:lnTo>
                      <a:lnTo>
                        <a:pt x="120" y="79"/>
                      </a:lnTo>
                      <a:lnTo>
                        <a:pt x="149" y="78"/>
                      </a:lnTo>
                      <a:lnTo>
                        <a:pt x="179" y="76"/>
                      </a:lnTo>
                      <a:lnTo>
                        <a:pt x="193" y="76"/>
                      </a:lnTo>
                      <a:lnTo>
                        <a:pt x="206" y="76"/>
                      </a:lnTo>
                      <a:lnTo>
                        <a:pt x="218" y="77"/>
                      </a:lnTo>
                      <a:lnTo>
                        <a:pt x="231" y="78"/>
                      </a:lnTo>
                      <a:lnTo>
                        <a:pt x="243" y="7"/>
                      </a:lnTo>
                      <a:lnTo>
                        <a:pt x="227" y="5"/>
                      </a:lnTo>
                      <a:lnTo>
                        <a:pt x="209" y="4"/>
                      </a:lnTo>
                      <a:lnTo>
                        <a:pt x="193" y="3"/>
                      </a:lnTo>
                      <a:lnTo>
                        <a:pt x="176" y="4"/>
                      </a:lnTo>
                      <a:lnTo>
                        <a:pt x="145" y="5"/>
                      </a:lnTo>
                      <a:lnTo>
                        <a:pt x="116" y="7"/>
                      </a:lnTo>
                      <a:lnTo>
                        <a:pt x="103" y="8"/>
                      </a:lnTo>
                      <a:lnTo>
                        <a:pt x="91" y="8"/>
                      </a:lnTo>
                      <a:lnTo>
                        <a:pt x="79" y="8"/>
                      </a:lnTo>
                      <a:lnTo>
                        <a:pt x="70" y="7"/>
                      </a:lnTo>
                      <a:lnTo>
                        <a:pt x="63" y="5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2" y="0"/>
                      </a:lnTo>
                      <a:lnTo>
                        <a:pt x="52" y="0"/>
                      </a:lnTo>
                      <a:lnTo>
                        <a:pt x="52" y="0"/>
                      </a:lnTo>
                      <a:lnTo>
                        <a:pt x="52" y="0"/>
                      </a:lnTo>
                      <a:lnTo>
                        <a:pt x="52" y="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5499000" y="2457360"/>
                  <a:ext cx="5040" cy="12960"/>
                </a:xfrm>
                <a:custGeom>
                  <a:avLst/>
                  <a:gdLst/>
                  <a:ahLst/>
                  <a:rect l="l" t="t" r="r" b="b"/>
                  <a:pathLst>
                    <a:path w="91" h="250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27" y="14"/>
                      </a:lnTo>
                      <a:lnTo>
                        <a:pt x="19" y="29"/>
                      </a:lnTo>
                      <a:lnTo>
                        <a:pt x="13" y="44"/>
                      </a:lnTo>
                      <a:lnTo>
                        <a:pt x="8" y="60"/>
                      </a:lnTo>
                      <a:lnTo>
                        <a:pt x="4" y="76"/>
                      </a:lnTo>
                      <a:lnTo>
                        <a:pt x="2" y="92"/>
                      </a:lnTo>
                      <a:lnTo>
                        <a:pt x="0" y="110"/>
                      </a:lnTo>
                      <a:lnTo>
                        <a:pt x="0" y="127"/>
                      </a:lnTo>
                      <a:lnTo>
                        <a:pt x="0" y="144"/>
                      </a:lnTo>
                      <a:lnTo>
                        <a:pt x="2" y="161"/>
                      </a:lnTo>
                      <a:lnTo>
                        <a:pt x="4" y="177"/>
                      </a:lnTo>
                      <a:lnTo>
                        <a:pt x="8" y="194"/>
                      </a:lnTo>
                      <a:lnTo>
                        <a:pt x="13" y="209"/>
                      </a:lnTo>
                      <a:lnTo>
                        <a:pt x="20" y="224"/>
                      </a:lnTo>
                      <a:lnTo>
                        <a:pt x="28" y="238"/>
                      </a:lnTo>
                      <a:lnTo>
                        <a:pt x="38" y="250"/>
                      </a:lnTo>
                      <a:lnTo>
                        <a:pt x="90" y="200"/>
                      </a:lnTo>
                      <a:lnTo>
                        <a:pt x="87" y="196"/>
                      </a:lnTo>
                      <a:lnTo>
                        <a:pt x="84" y="191"/>
                      </a:lnTo>
                      <a:lnTo>
                        <a:pt x="81" y="184"/>
                      </a:lnTo>
                      <a:lnTo>
                        <a:pt x="78" y="174"/>
                      </a:lnTo>
                      <a:lnTo>
                        <a:pt x="75" y="163"/>
                      </a:lnTo>
                      <a:lnTo>
                        <a:pt x="74" y="152"/>
                      </a:lnTo>
                      <a:lnTo>
                        <a:pt x="73" y="140"/>
                      </a:lnTo>
                      <a:lnTo>
                        <a:pt x="72" y="127"/>
                      </a:lnTo>
                      <a:lnTo>
                        <a:pt x="73" y="114"/>
                      </a:lnTo>
                      <a:lnTo>
                        <a:pt x="74" y="101"/>
                      </a:lnTo>
                      <a:lnTo>
                        <a:pt x="75" y="89"/>
                      </a:lnTo>
                      <a:lnTo>
                        <a:pt x="78" y="78"/>
                      </a:lnTo>
                      <a:lnTo>
                        <a:pt x="81" y="68"/>
                      </a:lnTo>
                      <a:lnTo>
                        <a:pt x="85" y="60"/>
                      </a:lnTo>
                      <a:lnTo>
                        <a:pt x="88" y="53"/>
                      </a:lnTo>
                      <a:lnTo>
                        <a:pt x="91" y="48"/>
                      </a:lnTo>
                      <a:lnTo>
                        <a:pt x="91" y="49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7" name=""/>
                <p:cNvSpPr/>
                <p:nvPr/>
              </p:nvSpPr>
              <p:spPr>
                <a:xfrm>
                  <a:off x="5500800" y="24559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247" h="103">
                      <a:moveTo>
                        <a:pt x="185" y="46"/>
                      </a:moveTo>
                      <a:lnTo>
                        <a:pt x="185" y="47"/>
                      </a:lnTo>
                      <a:lnTo>
                        <a:pt x="198" y="34"/>
                      </a:lnTo>
                      <a:lnTo>
                        <a:pt x="208" y="30"/>
                      </a:lnTo>
                      <a:lnTo>
                        <a:pt x="212" y="30"/>
                      </a:lnTo>
                      <a:lnTo>
                        <a:pt x="213" y="30"/>
                      </a:lnTo>
                      <a:lnTo>
                        <a:pt x="208" y="29"/>
                      </a:lnTo>
                      <a:lnTo>
                        <a:pt x="199" y="27"/>
                      </a:lnTo>
                      <a:lnTo>
                        <a:pt x="175" y="20"/>
                      </a:lnTo>
                      <a:lnTo>
                        <a:pt x="144" y="11"/>
                      </a:lnTo>
                      <a:lnTo>
                        <a:pt x="127" y="7"/>
                      </a:lnTo>
                      <a:lnTo>
                        <a:pt x="110" y="4"/>
                      </a:lnTo>
                      <a:lnTo>
                        <a:pt x="92" y="1"/>
                      </a:lnTo>
                      <a:lnTo>
                        <a:pt x="73" y="0"/>
                      </a:lnTo>
                      <a:lnTo>
                        <a:pt x="55" y="2"/>
                      </a:lnTo>
                      <a:lnTo>
                        <a:pt x="38" y="5"/>
                      </a:lnTo>
                      <a:lnTo>
                        <a:pt x="27" y="9"/>
                      </a:lnTo>
                      <a:lnTo>
                        <a:pt x="18" y="14"/>
                      </a:lnTo>
                      <a:lnTo>
                        <a:pt x="8" y="20"/>
                      </a:lnTo>
                      <a:lnTo>
                        <a:pt x="0" y="28"/>
                      </a:lnTo>
                      <a:lnTo>
                        <a:pt x="54" y="77"/>
                      </a:lnTo>
                      <a:lnTo>
                        <a:pt x="54" y="76"/>
                      </a:lnTo>
                      <a:lnTo>
                        <a:pt x="55" y="76"/>
                      </a:lnTo>
                      <a:lnTo>
                        <a:pt x="56" y="75"/>
                      </a:lnTo>
                      <a:lnTo>
                        <a:pt x="57" y="75"/>
                      </a:lnTo>
                      <a:lnTo>
                        <a:pt x="65" y="73"/>
                      </a:lnTo>
                      <a:lnTo>
                        <a:pt x="74" y="73"/>
                      </a:lnTo>
                      <a:lnTo>
                        <a:pt x="86" y="73"/>
                      </a:lnTo>
                      <a:lnTo>
                        <a:pt x="98" y="75"/>
                      </a:lnTo>
                      <a:lnTo>
                        <a:pt x="112" y="78"/>
                      </a:lnTo>
                      <a:lnTo>
                        <a:pt x="125" y="81"/>
                      </a:lnTo>
                      <a:lnTo>
                        <a:pt x="155" y="89"/>
                      </a:lnTo>
                      <a:lnTo>
                        <a:pt x="179" y="96"/>
                      </a:lnTo>
                      <a:lnTo>
                        <a:pt x="191" y="100"/>
                      </a:lnTo>
                      <a:lnTo>
                        <a:pt x="201" y="102"/>
                      </a:lnTo>
                      <a:lnTo>
                        <a:pt x="209" y="103"/>
                      </a:lnTo>
                      <a:lnTo>
                        <a:pt x="218" y="102"/>
                      </a:lnTo>
                      <a:lnTo>
                        <a:pt x="232" y="98"/>
                      </a:lnTo>
                      <a:lnTo>
                        <a:pt x="247" y="83"/>
                      </a:lnTo>
                      <a:lnTo>
                        <a:pt x="247" y="84"/>
                      </a:lnTo>
                      <a:lnTo>
                        <a:pt x="185" y="46"/>
                      </a:lnTo>
                      <a:lnTo>
                        <a:pt x="185" y="46"/>
                      </a:lnTo>
                      <a:lnTo>
                        <a:pt x="185" y="47"/>
                      </a:lnTo>
                      <a:lnTo>
                        <a:pt x="185" y="4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8" name=""/>
                <p:cNvSpPr/>
                <p:nvPr/>
              </p:nvSpPr>
              <p:spPr>
                <a:xfrm>
                  <a:off x="5487840" y="2398680"/>
                  <a:ext cx="30240" cy="60480"/>
                </a:xfrm>
                <a:custGeom>
                  <a:avLst/>
                  <a:gdLst/>
                  <a:ahLst/>
                  <a:rect l="l" t="t" r="r" b="b"/>
                  <a:pathLst>
                    <a:path w="557" h="1164">
                      <a:moveTo>
                        <a:pt x="56" y="0"/>
                      </a:moveTo>
                      <a:lnTo>
                        <a:pt x="24" y="51"/>
                      </a:lnTo>
                      <a:lnTo>
                        <a:pt x="42" y="86"/>
                      </a:lnTo>
                      <a:lnTo>
                        <a:pt x="61" y="120"/>
                      </a:lnTo>
                      <a:lnTo>
                        <a:pt x="81" y="155"/>
                      </a:lnTo>
                      <a:lnTo>
                        <a:pt x="104" y="189"/>
                      </a:lnTo>
                      <a:lnTo>
                        <a:pt x="126" y="224"/>
                      </a:lnTo>
                      <a:lnTo>
                        <a:pt x="149" y="257"/>
                      </a:lnTo>
                      <a:lnTo>
                        <a:pt x="174" y="290"/>
                      </a:lnTo>
                      <a:lnTo>
                        <a:pt x="198" y="324"/>
                      </a:lnTo>
                      <a:lnTo>
                        <a:pt x="247" y="391"/>
                      </a:lnTo>
                      <a:lnTo>
                        <a:pt x="294" y="458"/>
                      </a:lnTo>
                      <a:lnTo>
                        <a:pt x="318" y="490"/>
                      </a:lnTo>
                      <a:lnTo>
                        <a:pt x="340" y="523"/>
                      </a:lnTo>
                      <a:lnTo>
                        <a:pt x="361" y="556"/>
                      </a:lnTo>
                      <a:lnTo>
                        <a:pt x="382" y="589"/>
                      </a:lnTo>
                      <a:lnTo>
                        <a:pt x="401" y="622"/>
                      </a:lnTo>
                      <a:lnTo>
                        <a:pt x="418" y="655"/>
                      </a:lnTo>
                      <a:lnTo>
                        <a:pt x="434" y="688"/>
                      </a:lnTo>
                      <a:lnTo>
                        <a:pt x="448" y="721"/>
                      </a:lnTo>
                      <a:lnTo>
                        <a:pt x="455" y="737"/>
                      </a:lnTo>
                      <a:lnTo>
                        <a:pt x="460" y="753"/>
                      </a:lnTo>
                      <a:lnTo>
                        <a:pt x="465" y="770"/>
                      </a:lnTo>
                      <a:lnTo>
                        <a:pt x="470" y="787"/>
                      </a:lnTo>
                      <a:lnTo>
                        <a:pt x="474" y="803"/>
                      </a:lnTo>
                      <a:lnTo>
                        <a:pt x="477" y="819"/>
                      </a:lnTo>
                      <a:lnTo>
                        <a:pt x="480" y="836"/>
                      </a:lnTo>
                      <a:lnTo>
                        <a:pt x="482" y="852"/>
                      </a:lnTo>
                      <a:lnTo>
                        <a:pt x="484" y="869"/>
                      </a:lnTo>
                      <a:lnTo>
                        <a:pt x="485" y="885"/>
                      </a:lnTo>
                      <a:lnTo>
                        <a:pt x="485" y="901"/>
                      </a:lnTo>
                      <a:lnTo>
                        <a:pt x="485" y="919"/>
                      </a:lnTo>
                      <a:lnTo>
                        <a:pt x="483" y="935"/>
                      </a:lnTo>
                      <a:lnTo>
                        <a:pt x="481" y="952"/>
                      </a:lnTo>
                      <a:lnTo>
                        <a:pt x="479" y="968"/>
                      </a:lnTo>
                      <a:lnTo>
                        <a:pt x="475" y="986"/>
                      </a:lnTo>
                      <a:lnTo>
                        <a:pt x="471" y="1003"/>
                      </a:lnTo>
                      <a:lnTo>
                        <a:pt x="466" y="1020"/>
                      </a:lnTo>
                      <a:lnTo>
                        <a:pt x="460" y="1037"/>
                      </a:lnTo>
                      <a:lnTo>
                        <a:pt x="453" y="1054"/>
                      </a:lnTo>
                      <a:lnTo>
                        <a:pt x="444" y="1072"/>
                      </a:lnTo>
                      <a:lnTo>
                        <a:pt x="436" y="1090"/>
                      </a:lnTo>
                      <a:lnTo>
                        <a:pt x="426" y="1108"/>
                      </a:lnTo>
                      <a:lnTo>
                        <a:pt x="415" y="1126"/>
                      </a:lnTo>
                      <a:lnTo>
                        <a:pt x="477" y="1164"/>
                      </a:lnTo>
                      <a:lnTo>
                        <a:pt x="489" y="1144"/>
                      </a:lnTo>
                      <a:lnTo>
                        <a:pt x="500" y="1123"/>
                      </a:lnTo>
                      <a:lnTo>
                        <a:pt x="510" y="1103"/>
                      </a:lnTo>
                      <a:lnTo>
                        <a:pt x="519" y="1083"/>
                      </a:lnTo>
                      <a:lnTo>
                        <a:pt x="528" y="1063"/>
                      </a:lnTo>
                      <a:lnTo>
                        <a:pt x="535" y="1042"/>
                      </a:lnTo>
                      <a:lnTo>
                        <a:pt x="541" y="1022"/>
                      </a:lnTo>
                      <a:lnTo>
                        <a:pt x="546" y="1002"/>
                      </a:lnTo>
                      <a:lnTo>
                        <a:pt x="550" y="981"/>
                      </a:lnTo>
                      <a:lnTo>
                        <a:pt x="553" y="961"/>
                      </a:lnTo>
                      <a:lnTo>
                        <a:pt x="555" y="942"/>
                      </a:lnTo>
                      <a:lnTo>
                        <a:pt x="557" y="922"/>
                      </a:lnTo>
                      <a:lnTo>
                        <a:pt x="557" y="902"/>
                      </a:lnTo>
                      <a:lnTo>
                        <a:pt x="557" y="883"/>
                      </a:lnTo>
                      <a:lnTo>
                        <a:pt x="556" y="864"/>
                      </a:lnTo>
                      <a:lnTo>
                        <a:pt x="554" y="844"/>
                      </a:lnTo>
                      <a:lnTo>
                        <a:pt x="552" y="825"/>
                      </a:lnTo>
                      <a:lnTo>
                        <a:pt x="548" y="806"/>
                      </a:lnTo>
                      <a:lnTo>
                        <a:pt x="545" y="787"/>
                      </a:lnTo>
                      <a:lnTo>
                        <a:pt x="540" y="768"/>
                      </a:lnTo>
                      <a:lnTo>
                        <a:pt x="535" y="749"/>
                      </a:lnTo>
                      <a:lnTo>
                        <a:pt x="529" y="731"/>
                      </a:lnTo>
                      <a:lnTo>
                        <a:pt x="522" y="713"/>
                      </a:lnTo>
                      <a:lnTo>
                        <a:pt x="515" y="694"/>
                      </a:lnTo>
                      <a:lnTo>
                        <a:pt x="500" y="658"/>
                      </a:lnTo>
                      <a:lnTo>
                        <a:pt x="483" y="623"/>
                      </a:lnTo>
                      <a:lnTo>
                        <a:pt x="464" y="587"/>
                      </a:lnTo>
                      <a:lnTo>
                        <a:pt x="443" y="552"/>
                      </a:lnTo>
                      <a:lnTo>
                        <a:pt x="422" y="517"/>
                      </a:lnTo>
                      <a:lnTo>
                        <a:pt x="400" y="483"/>
                      </a:lnTo>
                      <a:lnTo>
                        <a:pt x="377" y="448"/>
                      </a:lnTo>
                      <a:lnTo>
                        <a:pt x="353" y="415"/>
                      </a:lnTo>
                      <a:lnTo>
                        <a:pt x="304" y="348"/>
                      </a:lnTo>
                      <a:lnTo>
                        <a:pt x="256" y="281"/>
                      </a:lnTo>
                      <a:lnTo>
                        <a:pt x="231" y="249"/>
                      </a:lnTo>
                      <a:lnTo>
                        <a:pt x="208" y="215"/>
                      </a:lnTo>
                      <a:lnTo>
                        <a:pt x="186" y="183"/>
                      </a:lnTo>
                      <a:lnTo>
                        <a:pt x="164" y="150"/>
                      </a:lnTo>
                      <a:lnTo>
                        <a:pt x="143" y="117"/>
                      </a:lnTo>
                      <a:lnTo>
                        <a:pt x="124" y="85"/>
                      </a:lnTo>
                      <a:lnTo>
                        <a:pt x="106" y="52"/>
                      </a:lnTo>
                      <a:lnTo>
                        <a:pt x="89" y="20"/>
                      </a:lnTo>
                      <a:lnTo>
                        <a:pt x="58" y="72"/>
                      </a:lnTo>
                      <a:lnTo>
                        <a:pt x="56" y="0"/>
                      </a:lnTo>
                      <a:lnTo>
                        <a:pt x="0" y="1"/>
                      </a:lnTo>
                      <a:lnTo>
                        <a:pt x="24" y="51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>
                  <a:off x="5491080" y="2398680"/>
                  <a:ext cx="58680" cy="19080"/>
                </a:xfrm>
                <a:custGeom>
                  <a:avLst/>
                  <a:gdLst/>
                  <a:ahLst/>
                  <a:rect l="l" t="t" r="r" b="b"/>
                  <a:pathLst>
                    <a:path w="1114" h="370">
                      <a:moveTo>
                        <a:pt x="1080" y="356"/>
                      </a:moveTo>
                      <a:lnTo>
                        <a:pt x="1056" y="300"/>
                      </a:lnTo>
                      <a:lnTo>
                        <a:pt x="1022" y="293"/>
                      </a:lnTo>
                      <a:lnTo>
                        <a:pt x="991" y="287"/>
                      </a:lnTo>
                      <a:lnTo>
                        <a:pt x="958" y="280"/>
                      </a:lnTo>
                      <a:lnTo>
                        <a:pt x="926" y="271"/>
                      </a:lnTo>
                      <a:lnTo>
                        <a:pt x="895" y="262"/>
                      </a:lnTo>
                      <a:lnTo>
                        <a:pt x="862" y="252"/>
                      </a:lnTo>
                      <a:lnTo>
                        <a:pt x="831" y="242"/>
                      </a:lnTo>
                      <a:lnTo>
                        <a:pt x="799" y="231"/>
                      </a:lnTo>
                      <a:lnTo>
                        <a:pt x="736" y="206"/>
                      </a:lnTo>
                      <a:lnTo>
                        <a:pt x="673" y="181"/>
                      </a:lnTo>
                      <a:lnTo>
                        <a:pt x="610" y="155"/>
                      </a:lnTo>
                      <a:lnTo>
                        <a:pt x="547" y="128"/>
                      </a:lnTo>
                      <a:lnTo>
                        <a:pt x="482" y="103"/>
                      </a:lnTo>
                      <a:lnTo>
                        <a:pt x="418" y="79"/>
                      </a:lnTo>
                      <a:lnTo>
                        <a:pt x="384" y="66"/>
                      </a:lnTo>
                      <a:lnTo>
                        <a:pt x="351" y="56"/>
                      </a:lnTo>
                      <a:lnTo>
                        <a:pt x="318" y="46"/>
                      </a:lnTo>
                      <a:lnTo>
                        <a:pt x="284" y="36"/>
                      </a:lnTo>
                      <a:lnTo>
                        <a:pt x="250" y="28"/>
                      </a:lnTo>
                      <a:lnTo>
                        <a:pt x="216" y="20"/>
                      </a:lnTo>
                      <a:lnTo>
                        <a:pt x="180" y="14"/>
                      </a:lnTo>
                      <a:lnTo>
                        <a:pt x="146" y="8"/>
                      </a:lnTo>
                      <a:lnTo>
                        <a:pt x="109" y="4"/>
                      </a:lnTo>
                      <a:lnTo>
                        <a:pt x="74" y="1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2" y="72"/>
                      </a:lnTo>
                      <a:lnTo>
                        <a:pt x="35" y="72"/>
                      </a:lnTo>
                      <a:lnTo>
                        <a:pt x="70" y="73"/>
                      </a:lnTo>
                      <a:lnTo>
                        <a:pt x="102" y="76"/>
                      </a:lnTo>
                      <a:lnTo>
                        <a:pt x="136" y="80"/>
                      </a:lnTo>
                      <a:lnTo>
                        <a:pt x="168" y="85"/>
                      </a:lnTo>
                      <a:lnTo>
                        <a:pt x="201" y="91"/>
                      </a:lnTo>
                      <a:lnTo>
                        <a:pt x="233" y="98"/>
                      </a:lnTo>
                      <a:lnTo>
                        <a:pt x="266" y="106"/>
                      </a:lnTo>
                      <a:lnTo>
                        <a:pt x="297" y="115"/>
                      </a:lnTo>
                      <a:lnTo>
                        <a:pt x="330" y="125"/>
                      </a:lnTo>
                      <a:lnTo>
                        <a:pt x="361" y="135"/>
                      </a:lnTo>
                      <a:lnTo>
                        <a:pt x="392" y="147"/>
                      </a:lnTo>
                      <a:lnTo>
                        <a:pt x="456" y="170"/>
                      </a:lnTo>
                      <a:lnTo>
                        <a:pt x="519" y="195"/>
                      </a:lnTo>
                      <a:lnTo>
                        <a:pt x="582" y="222"/>
                      </a:lnTo>
                      <a:lnTo>
                        <a:pt x="646" y="248"/>
                      </a:lnTo>
                      <a:lnTo>
                        <a:pt x="710" y="273"/>
                      </a:lnTo>
                      <a:lnTo>
                        <a:pt x="774" y="298"/>
                      </a:lnTo>
                      <a:lnTo>
                        <a:pt x="807" y="310"/>
                      </a:lnTo>
                      <a:lnTo>
                        <a:pt x="840" y="321"/>
                      </a:lnTo>
                      <a:lnTo>
                        <a:pt x="873" y="331"/>
                      </a:lnTo>
                      <a:lnTo>
                        <a:pt x="907" y="341"/>
                      </a:lnTo>
                      <a:lnTo>
                        <a:pt x="941" y="350"/>
                      </a:lnTo>
                      <a:lnTo>
                        <a:pt x="975" y="358"/>
                      </a:lnTo>
                      <a:lnTo>
                        <a:pt x="1010" y="365"/>
                      </a:lnTo>
                      <a:lnTo>
                        <a:pt x="1045" y="370"/>
                      </a:lnTo>
                      <a:lnTo>
                        <a:pt x="1020" y="315"/>
                      </a:lnTo>
                      <a:lnTo>
                        <a:pt x="1080" y="356"/>
                      </a:lnTo>
                      <a:lnTo>
                        <a:pt x="1114" y="308"/>
                      </a:lnTo>
                      <a:lnTo>
                        <a:pt x="1056" y="300"/>
                      </a:lnTo>
                      <a:lnTo>
                        <a:pt x="1080" y="35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5535720" y="2414520"/>
                  <a:ext cx="12600" cy="20880"/>
                </a:xfrm>
                <a:custGeom>
                  <a:avLst/>
                  <a:gdLst/>
                  <a:ahLst/>
                  <a:rect l="l" t="t" r="r" b="b"/>
                  <a:pathLst>
                    <a:path w="244" h="376">
                      <a:moveTo>
                        <a:pt x="64" y="376"/>
                      </a:moveTo>
                      <a:lnTo>
                        <a:pt x="64" y="376"/>
                      </a:lnTo>
                      <a:lnTo>
                        <a:pt x="86" y="332"/>
                      </a:lnTo>
                      <a:lnTo>
                        <a:pt x="107" y="289"/>
                      </a:lnTo>
                      <a:lnTo>
                        <a:pt x="129" y="245"/>
                      </a:lnTo>
                      <a:lnTo>
                        <a:pt x="150" y="202"/>
                      </a:lnTo>
                      <a:lnTo>
                        <a:pt x="171" y="161"/>
                      </a:lnTo>
                      <a:lnTo>
                        <a:pt x="193" y="119"/>
                      </a:lnTo>
                      <a:lnTo>
                        <a:pt x="206" y="99"/>
                      </a:lnTo>
                      <a:lnTo>
                        <a:pt x="218" y="80"/>
                      </a:lnTo>
                      <a:lnTo>
                        <a:pt x="230" y="61"/>
                      </a:lnTo>
                      <a:lnTo>
                        <a:pt x="244" y="41"/>
                      </a:lnTo>
                      <a:lnTo>
                        <a:pt x="184" y="0"/>
                      </a:lnTo>
                      <a:lnTo>
                        <a:pt x="170" y="20"/>
                      </a:lnTo>
                      <a:lnTo>
                        <a:pt x="157" y="41"/>
                      </a:lnTo>
                      <a:lnTo>
                        <a:pt x="144" y="63"/>
                      </a:lnTo>
                      <a:lnTo>
                        <a:pt x="131" y="84"/>
                      </a:lnTo>
                      <a:lnTo>
                        <a:pt x="107" y="126"/>
                      </a:lnTo>
                      <a:lnTo>
                        <a:pt x="85" y="170"/>
                      </a:lnTo>
                      <a:lnTo>
                        <a:pt x="64" y="214"/>
                      </a:lnTo>
                      <a:lnTo>
                        <a:pt x="42" y="256"/>
                      </a:lnTo>
                      <a:lnTo>
                        <a:pt x="21" y="300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64" y="376"/>
                      </a:lnTo>
                      <a:lnTo>
                        <a:pt x="64" y="376"/>
                      </a:lnTo>
                      <a:lnTo>
                        <a:pt x="64" y="37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5451480" y="2455920"/>
                  <a:ext cx="33480" cy="15840"/>
                </a:xfrm>
                <a:custGeom>
                  <a:avLst/>
                  <a:gdLst/>
                  <a:ahLst/>
                  <a:rect l="l" t="t" r="r" b="b"/>
                  <a:pathLst>
                    <a:path w="633" h="314">
                      <a:moveTo>
                        <a:pt x="182" y="304"/>
                      </a:moveTo>
                      <a:lnTo>
                        <a:pt x="171" y="302"/>
                      </a:lnTo>
                      <a:lnTo>
                        <a:pt x="158" y="301"/>
                      </a:lnTo>
                      <a:lnTo>
                        <a:pt x="144" y="300"/>
                      </a:lnTo>
                      <a:lnTo>
                        <a:pt x="131" y="300"/>
                      </a:lnTo>
                      <a:lnTo>
                        <a:pt x="104" y="300"/>
                      </a:lnTo>
                      <a:lnTo>
                        <a:pt x="77" y="301"/>
                      </a:lnTo>
                      <a:lnTo>
                        <a:pt x="54" y="301"/>
                      </a:lnTo>
                      <a:lnTo>
                        <a:pt x="35" y="301"/>
                      </a:lnTo>
                      <a:lnTo>
                        <a:pt x="28" y="300"/>
                      </a:lnTo>
                      <a:lnTo>
                        <a:pt x="22" y="299"/>
                      </a:lnTo>
                      <a:lnTo>
                        <a:pt x="18" y="297"/>
                      </a:lnTo>
                      <a:lnTo>
                        <a:pt x="16" y="294"/>
                      </a:lnTo>
                      <a:lnTo>
                        <a:pt x="7" y="261"/>
                      </a:lnTo>
                      <a:lnTo>
                        <a:pt x="2" y="232"/>
                      </a:lnTo>
                      <a:lnTo>
                        <a:pt x="0" y="205"/>
                      </a:lnTo>
                      <a:lnTo>
                        <a:pt x="1" y="180"/>
                      </a:lnTo>
                      <a:lnTo>
                        <a:pt x="5" y="159"/>
                      </a:lnTo>
                      <a:lnTo>
                        <a:pt x="13" y="140"/>
                      </a:lnTo>
                      <a:lnTo>
                        <a:pt x="23" y="123"/>
                      </a:lnTo>
                      <a:lnTo>
                        <a:pt x="35" y="108"/>
                      </a:lnTo>
                      <a:lnTo>
                        <a:pt x="49" y="95"/>
                      </a:lnTo>
                      <a:lnTo>
                        <a:pt x="65" y="85"/>
                      </a:lnTo>
                      <a:lnTo>
                        <a:pt x="84" y="75"/>
                      </a:lnTo>
                      <a:lnTo>
                        <a:pt x="104" y="68"/>
                      </a:lnTo>
                      <a:lnTo>
                        <a:pt x="125" y="61"/>
                      </a:lnTo>
                      <a:lnTo>
                        <a:pt x="148" y="56"/>
                      </a:lnTo>
                      <a:lnTo>
                        <a:pt x="173" y="52"/>
                      </a:lnTo>
                      <a:lnTo>
                        <a:pt x="199" y="48"/>
                      </a:lnTo>
                      <a:lnTo>
                        <a:pt x="226" y="45"/>
                      </a:lnTo>
                      <a:lnTo>
                        <a:pt x="253" y="43"/>
                      </a:lnTo>
                      <a:lnTo>
                        <a:pt x="281" y="42"/>
                      </a:lnTo>
                      <a:lnTo>
                        <a:pt x="310" y="41"/>
                      </a:lnTo>
                      <a:lnTo>
                        <a:pt x="368" y="39"/>
                      </a:lnTo>
                      <a:lnTo>
                        <a:pt x="426" y="37"/>
                      </a:lnTo>
                      <a:lnTo>
                        <a:pt x="455" y="35"/>
                      </a:lnTo>
                      <a:lnTo>
                        <a:pt x="483" y="33"/>
                      </a:lnTo>
                      <a:lnTo>
                        <a:pt x="511" y="30"/>
                      </a:lnTo>
                      <a:lnTo>
                        <a:pt x="537" y="26"/>
                      </a:lnTo>
                      <a:lnTo>
                        <a:pt x="563" y="22"/>
                      </a:lnTo>
                      <a:lnTo>
                        <a:pt x="588" y="16"/>
                      </a:lnTo>
                      <a:lnTo>
                        <a:pt x="611" y="9"/>
                      </a:lnTo>
                      <a:lnTo>
                        <a:pt x="633" y="0"/>
                      </a:lnTo>
                      <a:lnTo>
                        <a:pt x="628" y="22"/>
                      </a:lnTo>
                      <a:lnTo>
                        <a:pt x="622" y="43"/>
                      </a:lnTo>
                      <a:lnTo>
                        <a:pt x="615" y="64"/>
                      </a:lnTo>
                      <a:lnTo>
                        <a:pt x="609" y="83"/>
                      </a:lnTo>
                      <a:lnTo>
                        <a:pt x="601" y="102"/>
                      </a:lnTo>
                      <a:lnTo>
                        <a:pt x="594" y="120"/>
                      </a:lnTo>
                      <a:lnTo>
                        <a:pt x="585" y="138"/>
                      </a:lnTo>
                      <a:lnTo>
                        <a:pt x="575" y="155"/>
                      </a:lnTo>
                      <a:lnTo>
                        <a:pt x="566" y="170"/>
                      </a:lnTo>
                      <a:lnTo>
                        <a:pt x="556" y="185"/>
                      </a:lnTo>
                      <a:lnTo>
                        <a:pt x="545" y="199"/>
                      </a:lnTo>
                      <a:lnTo>
                        <a:pt x="534" y="214"/>
                      </a:lnTo>
                      <a:lnTo>
                        <a:pt x="522" y="226"/>
                      </a:lnTo>
                      <a:lnTo>
                        <a:pt x="510" y="238"/>
                      </a:lnTo>
                      <a:lnTo>
                        <a:pt x="496" y="249"/>
                      </a:lnTo>
                      <a:lnTo>
                        <a:pt x="483" y="259"/>
                      </a:lnTo>
                      <a:lnTo>
                        <a:pt x="469" y="268"/>
                      </a:lnTo>
                      <a:lnTo>
                        <a:pt x="454" y="276"/>
                      </a:lnTo>
                      <a:lnTo>
                        <a:pt x="439" y="285"/>
                      </a:lnTo>
                      <a:lnTo>
                        <a:pt x="423" y="292"/>
                      </a:lnTo>
                      <a:lnTo>
                        <a:pt x="406" y="298"/>
                      </a:lnTo>
                      <a:lnTo>
                        <a:pt x="389" y="303"/>
                      </a:lnTo>
                      <a:lnTo>
                        <a:pt x="372" y="307"/>
                      </a:lnTo>
                      <a:lnTo>
                        <a:pt x="353" y="310"/>
                      </a:lnTo>
                      <a:lnTo>
                        <a:pt x="334" y="312"/>
                      </a:lnTo>
                      <a:lnTo>
                        <a:pt x="314" y="314"/>
                      </a:lnTo>
                      <a:lnTo>
                        <a:pt x="293" y="314"/>
                      </a:lnTo>
                      <a:lnTo>
                        <a:pt x="273" y="314"/>
                      </a:lnTo>
                      <a:lnTo>
                        <a:pt x="251" y="313"/>
                      </a:lnTo>
                      <a:lnTo>
                        <a:pt x="229" y="311"/>
                      </a:lnTo>
                      <a:lnTo>
                        <a:pt x="206" y="308"/>
                      </a:lnTo>
                      <a:lnTo>
                        <a:pt x="182" y="3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>
                  <a:off x="5484960" y="249876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375" h="225">
                      <a:moveTo>
                        <a:pt x="264" y="225"/>
                      </a:moveTo>
                      <a:lnTo>
                        <a:pt x="231" y="225"/>
                      </a:lnTo>
                      <a:lnTo>
                        <a:pt x="198" y="225"/>
                      </a:lnTo>
                      <a:lnTo>
                        <a:pt x="165" y="225"/>
                      </a:lnTo>
                      <a:lnTo>
                        <a:pt x="133" y="225"/>
                      </a:lnTo>
                      <a:lnTo>
                        <a:pt x="100" y="225"/>
                      </a:lnTo>
                      <a:lnTo>
                        <a:pt x="67" y="225"/>
                      </a:lnTo>
                      <a:lnTo>
                        <a:pt x="34" y="225"/>
                      </a:lnTo>
                      <a:lnTo>
                        <a:pt x="0" y="225"/>
                      </a:lnTo>
                      <a:lnTo>
                        <a:pt x="40" y="193"/>
                      </a:lnTo>
                      <a:lnTo>
                        <a:pt x="79" y="161"/>
                      </a:lnTo>
                      <a:lnTo>
                        <a:pt x="120" y="130"/>
                      </a:lnTo>
                      <a:lnTo>
                        <a:pt x="161" y="101"/>
                      </a:lnTo>
                      <a:lnTo>
                        <a:pt x="183" y="87"/>
                      </a:lnTo>
                      <a:lnTo>
                        <a:pt x="204" y="73"/>
                      </a:lnTo>
                      <a:lnTo>
                        <a:pt x="226" y="60"/>
                      </a:lnTo>
                      <a:lnTo>
                        <a:pt x="248" y="47"/>
                      </a:lnTo>
                      <a:lnTo>
                        <a:pt x="270" y="35"/>
                      </a:lnTo>
                      <a:lnTo>
                        <a:pt x="292" y="23"/>
                      </a:lnTo>
                      <a:lnTo>
                        <a:pt x="316" y="12"/>
                      </a:lnTo>
                      <a:lnTo>
                        <a:pt x="339" y="0"/>
                      </a:lnTo>
                      <a:lnTo>
                        <a:pt x="337" y="16"/>
                      </a:lnTo>
                      <a:lnTo>
                        <a:pt x="335" y="30"/>
                      </a:lnTo>
                      <a:lnTo>
                        <a:pt x="335" y="45"/>
                      </a:lnTo>
                      <a:lnTo>
                        <a:pt x="335" y="59"/>
                      </a:lnTo>
                      <a:lnTo>
                        <a:pt x="336" y="73"/>
                      </a:lnTo>
                      <a:lnTo>
                        <a:pt x="337" y="88"/>
                      </a:lnTo>
                      <a:lnTo>
                        <a:pt x="339" y="102"/>
                      </a:lnTo>
                      <a:lnTo>
                        <a:pt x="342" y="116"/>
                      </a:lnTo>
                      <a:lnTo>
                        <a:pt x="348" y="143"/>
                      </a:lnTo>
                      <a:lnTo>
                        <a:pt x="356" y="171"/>
                      </a:lnTo>
                      <a:lnTo>
                        <a:pt x="365" y="198"/>
                      </a:lnTo>
                      <a:lnTo>
                        <a:pt x="375" y="225"/>
                      </a:lnTo>
                      <a:lnTo>
                        <a:pt x="348" y="225"/>
                      </a:lnTo>
                      <a:lnTo>
                        <a:pt x="320" y="225"/>
                      </a:lnTo>
                      <a:lnTo>
                        <a:pt x="292" y="225"/>
                      </a:lnTo>
                      <a:lnTo>
                        <a:pt x="264" y="2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5467320" y="2527200"/>
                  <a:ext cx="39600" cy="6480"/>
                </a:xfrm>
                <a:custGeom>
                  <a:avLst/>
                  <a:gdLst/>
                  <a:ahLst/>
                  <a:rect l="l" t="t" r="r" b="b"/>
                  <a:pathLst>
                    <a:path w="749" h="138">
                      <a:moveTo>
                        <a:pt x="525" y="138"/>
                      </a:moveTo>
                      <a:lnTo>
                        <a:pt x="459" y="138"/>
                      </a:lnTo>
                      <a:lnTo>
                        <a:pt x="393" y="138"/>
                      </a:lnTo>
                      <a:lnTo>
                        <a:pt x="327" y="138"/>
                      </a:lnTo>
                      <a:lnTo>
                        <a:pt x="262" y="138"/>
                      </a:lnTo>
                      <a:lnTo>
                        <a:pt x="196" y="138"/>
                      </a:lnTo>
                      <a:lnTo>
                        <a:pt x="131" y="138"/>
                      </a:lnTo>
                      <a:lnTo>
                        <a:pt x="65" y="138"/>
                      </a:lnTo>
                      <a:lnTo>
                        <a:pt x="0" y="138"/>
                      </a:lnTo>
                      <a:lnTo>
                        <a:pt x="13" y="127"/>
                      </a:lnTo>
                      <a:lnTo>
                        <a:pt x="26" y="117"/>
                      </a:lnTo>
                      <a:lnTo>
                        <a:pt x="39" y="108"/>
                      </a:lnTo>
                      <a:lnTo>
                        <a:pt x="53" y="100"/>
                      </a:lnTo>
                      <a:lnTo>
                        <a:pt x="68" y="93"/>
                      </a:lnTo>
                      <a:lnTo>
                        <a:pt x="83" y="86"/>
                      </a:lnTo>
                      <a:lnTo>
                        <a:pt x="98" y="79"/>
                      </a:lnTo>
                      <a:lnTo>
                        <a:pt x="113" y="73"/>
                      </a:lnTo>
                      <a:lnTo>
                        <a:pt x="143" y="64"/>
                      </a:lnTo>
                      <a:lnTo>
                        <a:pt x="174" y="57"/>
                      </a:lnTo>
                      <a:lnTo>
                        <a:pt x="201" y="52"/>
                      </a:lnTo>
                      <a:lnTo>
                        <a:pt x="227" y="48"/>
                      </a:lnTo>
                      <a:lnTo>
                        <a:pt x="259" y="43"/>
                      </a:lnTo>
                      <a:lnTo>
                        <a:pt x="291" y="37"/>
                      </a:lnTo>
                      <a:lnTo>
                        <a:pt x="326" y="30"/>
                      </a:lnTo>
                      <a:lnTo>
                        <a:pt x="360" y="22"/>
                      </a:lnTo>
                      <a:lnTo>
                        <a:pt x="395" y="15"/>
                      </a:lnTo>
                      <a:lnTo>
                        <a:pt x="430" y="9"/>
                      </a:lnTo>
                      <a:lnTo>
                        <a:pt x="448" y="6"/>
                      </a:lnTo>
                      <a:lnTo>
                        <a:pt x="465" y="3"/>
                      </a:lnTo>
                      <a:lnTo>
                        <a:pt x="483" y="1"/>
                      </a:lnTo>
                      <a:lnTo>
                        <a:pt x="500" y="0"/>
                      </a:lnTo>
                      <a:lnTo>
                        <a:pt x="518" y="0"/>
                      </a:lnTo>
                      <a:lnTo>
                        <a:pt x="535" y="0"/>
                      </a:lnTo>
                      <a:lnTo>
                        <a:pt x="552" y="2"/>
                      </a:lnTo>
                      <a:lnTo>
                        <a:pt x="569" y="5"/>
                      </a:lnTo>
                      <a:lnTo>
                        <a:pt x="586" y="8"/>
                      </a:lnTo>
                      <a:lnTo>
                        <a:pt x="602" y="13"/>
                      </a:lnTo>
                      <a:lnTo>
                        <a:pt x="618" y="18"/>
                      </a:lnTo>
                      <a:lnTo>
                        <a:pt x="634" y="25"/>
                      </a:lnTo>
                      <a:lnTo>
                        <a:pt x="651" y="34"/>
                      </a:lnTo>
                      <a:lnTo>
                        <a:pt x="666" y="43"/>
                      </a:lnTo>
                      <a:lnTo>
                        <a:pt x="680" y="55"/>
                      </a:lnTo>
                      <a:lnTo>
                        <a:pt x="695" y="68"/>
                      </a:lnTo>
                      <a:lnTo>
                        <a:pt x="709" y="83"/>
                      </a:lnTo>
                      <a:lnTo>
                        <a:pt x="723" y="99"/>
                      </a:lnTo>
                      <a:lnTo>
                        <a:pt x="737" y="118"/>
                      </a:lnTo>
                      <a:lnTo>
                        <a:pt x="749" y="138"/>
                      </a:lnTo>
                      <a:lnTo>
                        <a:pt x="722" y="138"/>
                      </a:lnTo>
                      <a:lnTo>
                        <a:pt x="693" y="138"/>
                      </a:lnTo>
                      <a:lnTo>
                        <a:pt x="665" y="138"/>
                      </a:lnTo>
                      <a:lnTo>
                        <a:pt x="637" y="138"/>
                      </a:lnTo>
                      <a:lnTo>
                        <a:pt x="609" y="138"/>
                      </a:lnTo>
                      <a:lnTo>
                        <a:pt x="581" y="138"/>
                      </a:lnTo>
                      <a:lnTo>
                        <a:pt x="553" y="138"/>
                      </a:lnTo>
                      <a:lnTo>
                        <a:pt x="525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5479920" y="2541600"/>
                  <a:ext cx="14400" cy="6480"/>
                </a:xfrm>
                <a:custGeom>
                  <a:avLst/>
                  <a:gdLst/>
                  <a:ahLst/>
                  <a:rect l="l" t="t" r="r" b="b"/>
                  <a:pathLst>
                    <a:path w="267" h="123">
                      <a:moveTo>
                        <a:pt x="221" y="15"/>
                      </a:moveTo>
                      <a:lnTo>
                        <a:pt x="241" y="25"/>
                      </a:lnTo>
                      <a:lnTo>
                        <a:pt x="256" y="34"/>
                      </a:lnTo>
                      <a:lnTo>
                        <a:pt x="260" y="38"/>
                      </a:lnTo>
                      <a:lnTo>
                        <a:pt x="264" y="41"/>
                      </a:lnTo>
                      <a:lnTo>
                        <a:pt x="266" y="45"/>
                      </a:lnTo>
                      <a:lnTo>
                        <a:pt x="267" y="48"/>
                      </a:lnTo>
                      <a:lnTo>
                        <a:pt x="267" y="51"/>
                      </a:lnTo>
                      <a:lnTo>
                        <a:pt x="266" y="54"/>
                      </a:lnTo>
                      <a:lnTo>
                        <a:pt x="264" y="56"/>
                      </a:lnTo>
                      <a:lnTo>
                        <a:pt x="261" y="59"/>
                      </a:lnTo>
                      <a:lnTo>
                        <a:pt x="254" y="64"/>
                      </a:lnTo>
                      <a:lnTo>
                        <a:pt x="245" y="69"/>
                      </a:lnTo>
                      <a:lnTo>
                        <a:pt x="223" y="79"/>
                      </a:lnTo>
                      <a:lnTo>
                        <a:pt x="203" y="89"/>
                      </a:lnTo>
                      <a:lnTo>
                        <a:pt x="198" y="92"/>
                      </a:lnTo>
                      <a:lnTo>
                        <a:pt x="195" y="96"/>
                      </a:lnTo>
                      <a:lnTo>
                        <a:pt x="192" y="99"/>
                      </a:lnTo>
                      <a:lnTo>
                        <a:pt x="189" y="102"/>
                      </a:lnTo>
                      <a:lnTo>
                        <a:pt x="187" y="107"/>
                      </a:lnTo>
                      <a:lnTo>
                        <a:pt x="187" y="111"/>
                      </a:lnTo>
                      <a:lnTo>
                        <a:pt x="187" y="115"/>
                      </a:lnTo>
                      <a:lnTo>
                        <a:pt x="188" y="119"/>
                      </a:lnTo>
                      <a:lnTo>
                        <a:pt x="179" y="121"/>
                      </a:lnTo>
                      <a:lnTo>
                        <a:pt x="170" y="122"/>
                      </a:lnTo>
                      <a:lnTo>
                        <a:pt x="161" y="123"/>
                      </a:lnTo>
                      <a:lnTo>
                        <a:pt x="154" y="123"/>
                      </a:lnTo>
                      <a:lnTo>
                        <a:pt x="146" y="122"/>
                      </a:lnTo>
                      <a:lnTo>
                        <a:pt x="139" y="121"/>
                      </a:lnTo>
                      <a:lnTo>
                        <a:pt x="132" y="119"/>
                      </a:lnTo>
                      <a:lnTo>
                        <a:pt x="125" y="117"/>
                      </a:lnTo>
                      <a:lnTo>
                        <a:pt x="113" y="112"/>
                      </a:lnTo>
                      <a:lnTo>
                        <a:pt x="100" y="105"/>
                      </a:lnTo>
                      <a:lnTo>
                        <a:pt x="89" y="96"/>
                      </a:lnTo>
                      <a:lnTo>
                        <a:pt x="79" y="87"/>
                      </a:lnTo>
                      <a:lnTo>
                        <a:pt x="59" y="67"/>
                      </a:lnTo>
                      <a:lnTo>
                        <a:pt x="41" y="46"/>
                      </a:lnTo>
                      <a:lnTo>
                        <a:pt x="30" y="35"/>
                      </a:lnTo>
                      <a:lnTo>
                        <a:pt x="21" y="24"/>
                      </a:lnTo>
                      <a:lnTo>
                        <a:pt x="11" y="15"/>
                      </a:lnTo>
                      <a:lnTo>
                        <a:pt x="0" y="6"/>
                      </a:lnTo>
                      <a:lnTo>
                        <a:pt x="28" y="5"/>
                      </a:lnTo>
                      <a:lnTo>
                        <a:pt x="57" y="4"/>
                      </a:lnTo>
                      <a:lnTo>
                        <a:pt x="86" y="2"/>
                      </a:lnTo>
                      <a:lnTo>
                        <a:pt x="115" y="1"/>
                      </a:lnTo>
                      <a:lnTo>
                        <a:pt x="129" y="0"/>
                      </a:lnTo>
                      <a:lnTo>
                        <a:pt x="143" y="1"/>
                      </a:lnTo>
                      <a:lnTo>
                        <a:pt x="156" y="1"/>
                      </a:lnTo>
                      <a:lnTo>
                        <a:pt x="170" y="3"/>
                      </a:lnTo>
                      <a:lnTo>
                        <a:pt x="184" y="4"/>
                      </a:lnTo>
                      <a:lnTo>
                        <a:pt x="197" y="7"/>
                      </a:lnTo>
                      <a:lnTo>
                        <a:pt x="209" y="11"/>
                      </a:lnTo>
                      <a:lnTo>
                        <a:pt x="221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>
                  <a:off x="5384880" y="2571840"/>
                  <a:ext cx="123840" cy="222120"/>
                </a:xfrm>
                <a:custGeom>
                  <a:avLst/>
                  <a:gdLst/>
                  <a:ahLst/>
                  <a:rect l="l" t="t" r="r" b="b"/>
                  <a:pathLst>
                    <a:path w="2329" h="4186">
                      <a:moveTo>
                        <a:pt x="1637" y="4186"/>
                      </a:moveTo>
                      <a:lnTo>
                        <a:pt x="2329" y="2153"/>
                      </a:lnTo>
                      <a:lnTo>
                        <a:pt x="2217" y="505"/>
                      </a:lnTo>
                      <a:lnTo>
                        <a:pt x="1993" y="280"/>
                      </a:lnTo>
                      <a:lnTo>
                        <a:pt x="1616" y="974"/>
                      </a:lnTo>
                      <a:lnTo>
                        <a:pt x="399" y="0"/>
                      </a:lnTo>
                      <a:lnTo>
                        <a:pt x="397" y="23"/>
                      </a:lnTo>
                      <a:lnTo>
                        <a:pt x="394" y="45"/>
                      </a:lnTo>
                      <a:lnTo>
                        <a:pt x="389" y="68"/>
                      </a:lnTo>
                      <a:lnTo>
                        <a:pt x="382" y="91"/>
                      </a:lnTo>
                      <a:lnTo>
                        <a:pt x="373" y="113"/>
                      </a:lnTo>
                      <a:lnTo>
                        <a:pt x="362" y="135"/>
                      </a:lnTo>
                      <a:lnTo>
                        <a:pt x="349" y="157"/>
                      </a:lnTo>
                      <a:lnTo>
                        <a:pt x="336" y="178"/>
                      </a:lnTo>
                      <a:lnTo>
                        <a:pt x="322" y="199"/>
                      </a:lnTo>
                      <a:lnTo>
                        <a:pt x="306" y="220"/>
                      </a:lnTo>
                      <a:lnTo>
                        <a:pt x="290" y="240"/>
                      </a:lnTo>
                      <a:lnTo>
                        <a:pt x="272" y="259"/>
                      </a:lnTo>
                      <a:lnTo>
                        <a:pt x="255" y="278"/>
                      </a:lnTo>
                      <a:lnTo>
                        <a:pt x="237" y="297"/>
                      </a:lnTo>
                      <a:lnTo>
                        <a:pt x="219" y="315"/>
                      </a:lnTo>
                      <a:lnTo>
                        <a:pt x="199" y="332"/>
                      </a:lnTo>
                      <a:lnTo>
                        <a:pt x="162" y="365"/>
                      </a:lnTo>
                      <a:lnTo>
                        <a:pt x="126" y="393"/>
                      </a:lnTo>
                      <a:lnTo>
                        <a:pt x="93" y="418"/>
                      </a:lnTo>
                      <a:lnTo>
                        <a:pt x="62" y="441"/>
                      </a:lnTo>
                      <a:lnTo>
                        <a:pt x="18" y="471"/>
                      </a:lnTo>
                      <a:lnTo>
                        <a:pt x="0" y="481"/>
                      </a:lnTo>
                      <a:lnTo>
                        <a:pt x="568" y="2265"/>
                      </a:lnTo>
                      <a:lnTo>
                        <a:pt x="1543" y="4034"/>
                      </a:lnTo>
                      <a:lnTo>
                        <a:pt x="1637" y="4186"/>
                      </a:lnTo>
                      <a:close/>
                    </a:path>
                  </a:pathLst>
                </a:custGeom>
                <a:solidFill>
                  <a:srgbClr val="d1df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>
                  <a:off x="5468760" y="268596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764" h="2056">
                      <a:moveTo>
                        <a:pt x="764" y="9"/>
                      </a:moveTo>
                      <a:lnTo>
                        <a:pt x="693" y="0"/>
                      </a:lnTo>
                      <a:lnTo>
                        <a:pt x="0" y="2033"/>
                      </a:lnTo>
                      <a:lnTo>
                        <a:pt x="69" y="2056"/>
                      </a:lnTo>
                      <a:lnTo>
                        <a:pt x="762" y="23"/>
                      </a:lnTo>
                      <a:lnTo>
                        <a:pt x="764" y="9"/>
                      </a:lnTo>
                      <a:lnTo>
                        <a:pt x="762" y="23"/>
                      </a:lnTo>
                      <a:lnTo>
                        <a:pt x="764" y="16"/>
                      </a:lnTo>
                      <a:lnTo>
                        <a:pt x="764" y="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>
                  <a:off x="5500800" y="2597040"/>
                  <a:ext cx="9360" cy="88920"/>
                </a:xfrm>
                <a:custGeom>
                  <a:avLst/>
                  <a:gdLst/>
                  <a:ahLst/>
                  <a:rect l="l" t="t" r="r" b="b"/>
                  <a:pathLst>
                    <a:path w="185" h="1675">
                      <a:moveTo>
                        <a:pt x="61" y="0"/>
                      </a:moveTo>
                      <a:lnTo>
                        <a:pt x="0" y="27"/>
                      </a:lnTo>
                      <a:lnTo>
                        <a:pt x="113" y="1675"/>
                      </a:lnTo>
                      <a:lnTo>
                        <a:pt x="185" y="1670"/>
                      </a:lnTo>
                      <a:lnTo>
                        <a:pt x="72" y="23"/>
                      </a:lnTo>
                      <a:lnTo>
                        <a:pt x="61" y="0"/>
                      </a:lnTo>
                      <a:lnTo>
                        <a:pt x="72" y="23"/>
                      </a:lnTo>
                      <a:lnTo>
                        <a:pt x="71" y="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5487840" y="258444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282" h="310">
                      <a:moveTo>
                        <a:pt x="0" y="43"/>
                      </a:moveTo>
                      <a:lnTo>
                        <a:pt x="6" y="86"/>
                      </a:lnTo>
                      <a:lnTo>
                        <a:pt x="231" y="310"/>
                      </a:lnTo>
                      <a:lnTo>
                        <a:pt x="282" y="259"/>
                      </a:lnTo>
                      <a:lnTo>
                        <a:pt x="58" y="34"/>
                      </a:lnTo>
                      <a:lnTo>
                        <a:pt x="0" y="43"/>
                      </a:lnTo>
                      <a:lnTo>
                        <a:pt x="58" y="34"/>
                      </a:lnTo>
                      <a:lnTo>
                        <a:pt x="24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>
                  <a:off x="5468760" y="2585880"/>
                  <a:ext cx="22320" cy="41400"/>
                </a:xfrm>
                <a:custGeom>
                  <a:avLst/>
                  <a:gdLst/>
                  <a:ahLst/>
                  <a:rect l="l" t="t" r="r" b="b"/>
                  <a:pathLst>
                    <a:path w="439" h="765">
                      <a:moveTo>
                        <a:pt x="9" y="738"/>
                      </a:moveTo>
                      <a:lnTo>
                        <a:pt x="64" y="727"/>
                      </a:lnTo>
                      <a:lnTo>
                        <a:pt x="439" y="34"/>
                      </a:lnTo>
                      <a:lnTo>
                        <a:pt x="375" y="0"/>
                      </a:lnTo>
                      <a:lnTo>
                        <a:pt x="0" y="692"/>
                      </a:lnTo>
                      <a:lnTo>
                        <a:pt x="9" y="738"/>
                      </a:lnTo>
                      <a:lnTo>
                        <a:pt x="9" y="738"/>
                      </a:lnTo>
                      <a:lnTo>
                        <a:pt x="43" y="765"/>
                      </a:lnTo>
                      <a:lnTo>
                        <a:pt x="64" y="727"/>
                      </a:lnTo>
                      <a:lnTo>
                        <a:pt x="9" y="738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0" name=""/>
                <p:cNvSpPr/>
                <p:nvPr/>
              </p:nvSpPr>
              <p:spPr>
                <a:xfrm>
                  <a:off x="5403960" y="2570040"/>
                  <a:ext cx="68040" cy="55800"/>
                </a:xfrm>
                <a:custGeom>
                  <a:avLst/>
                  <a:gdLst/>
                  <a:ahLst/>
                  <a:rect l="l" t="t" r="r" b="b"/>
                  <a:pathLst>
                    <a:path w="1264" h="1031">
                      <a:moveTo>
                        <a:pt x="0" y="57"/>
                      </a:moveTo>
                      <a:lnTo>
                        <a:pt x="1218" y="1031"/>
                      </a:lnTo>
                      <a:lnTo>
                        <a:pt x="1264" y="974"/>
                      </a:lnTo>
                      <a:lnTo>
                        <a:pt x="45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5383080" y="2571840"/>
                  <a:ext cx="24120" cy="28440"/>
                </a:xfrm>
                <a:custGeom>
                  <a:avLst/>
                  <a:gdLst/>
                  <a:ahLst/>
                  <a:rect l="l" t="t" r="r" b="b"/>
                  <a:pathLst>
                    <a:path w="454" h="513">
                      <a:moveTo>
                        <a:pt x="38" y="513"/>
                      </a:moveTo>
                      <a:lnTo>
                        <a:pt x="56" y="500"/>
                      </a:lnTo>
                      <a:lnTo>
                        <a:pt x="102" y="470"/>
                      </a:lnTo>
                      <a:lnTo>
                        <a:pt x="133" y="448"/>
                      </a:lnTo>
                      <a:lnTo>
                        <a:pt x="168" y="421"/>
                      </a:lnTo>
                      <a:lnTo>
                        <a:pt x="204" y="392"/>
                      </a:lnTo>
                      <a:lnTo>
                        <a:pt x="243" y="359"/>
                      </a:lnTo>
                      <a:lnTo>
                        <a:pt x="262" y="341"/>
                      </a:lnTo>
                      <a:lnTo>
                        <a:pt x="281" y="322"/>
                      </a:lnTo>
                      <a:lnTo>
                        <a:pt x="299" y="304"/>
                      </a:lnTo>
                      <a:lnTo>
                        <a:pt x="319" y="284"/>
                      </a:lnTo>
                      <a:lnTo>
                        <a:pt x="336" y="263"/>
                      </a:lnTo>
                      <a:lnTo>
                        <a:pt x="353" y="242"/>
                      </a:lnTo>
                      <a:lnTo>
                        <a:pt x="370" y="221"/>
                      </a:lnTo>
                      <a:lnTo>
                        <a:pt x="386" y="197"/>
                      </a:lnTo>
                      <a:lnTo>
                        <a:pt x="400" y="175"/>
                      </a:lnTo>
                      <a:lnTo>
                        <a:pt x="413" y="152"/>
                      </a:lnTo>
                      <a:lnTo>
                        <a:pt x="424" y="127"/>
                      </a:lnTo>
                      <a:lnTo>
                        <a:pt x="434" y="103"/>
                      </a:lnTo>
                      <a:lnTo>
                        <a:pt x="442" y="78"/>
                      </a:lnTo>
                      <a:lnTo>
                        <a:pt x="448" y="54"/>
                      </a:lnTo>
                      <a:lnTo>
                        <a:pt x="451" y="39"/>
                      </a:lnTo>
                      <a:lnTo>
                        <a:pt x="453" y="26"/>
                      </a:lnTo>
                      <a:lnTo>
                        <a:pt x="454" y="13"/>
                      </a:lnTo>
                      <a:lnTo>
                        <a:pt x="454" y="0"/>
                      </a:lnTo>
                      <a:lnTo>
                        <a:pt x="382" y="0"/>
                      </a:lnTo>
                      <a:lnTo>
                        <a:pt x="382" y="10"/>
                      </a:lnTo>
                      <a:lnTo>
                        <a:pt x="381" y="19"/>
                      </a:lnTo>
                      <a:lnTo>
                        <a:pt x="380" y="29"/>
                      </a:lnTo>
                      <a:lnTo>
                        <a:pt x="377" y="38"/>
                      </a:lnTo>
                      <a:lnTo>
                        <a:pt x="372" y="59"/>
                      </a:lnTo>
                      <a:lnTo>
                        <a:pt x="366" y="78"/>
                      </a:lnTo>
                      <a:lnTo>
                        <a:pt x="358" y="98"/>
                      </a:lnTo>
                      <a:lnTo>
                        <a:pt x="349" y="118"/>
                      </a:lnTo>
                      <a:lnTo>
                        <a:pt x="338" y="139"/>
                      </a:lnTo>
                      <a:lnTo>
                        <a:pt x="325" y="158"/>
                      </a:lnTo>
                      <a:lnTo>
                        <a:pt x="312" y="178"/>
                      </a:lnTo>
                      <a:lnTo>
                        <a:pt x="296" y="197"/>
                      </a:lnTo>
                      <a:lnTo>
                        <a:pt x="281" y="217"/>
                      </a:lnTo>
                      <a:lnTo>
                        <a:pt x="265" y="235"/>
                      </a:lnTo>
                      <a:lnTo>
                        <a:pt x="248" y="253"/>
                      </a:lnTo>
                      <a:lnTo>
                        <a:pt x="230" y="271"/>
                      </a:lnTo>
                      <a:lnTo>
                        <a:pt x="212" y="289"/>
                      </a:lnTo>
                      <a:lnTo>
                        <a:pt x="195" y="305"/>
                      </a:lnTo>
                      <a:lnTo>
                        <a:pt x="158" y="336"/>
                      </a:lnTo>
                      <a:lnTo>
                        <a:pt x="123" y="365"/>
                      </a:lnTo>
                      <a:lnTo>
                        <a:pt x="90" y="390"/>
                      </a:lnTo>
                      <a:lnTo>
                        <a:pt x="61" y="410"/>
                      </a:lnTo>
                      <a:lnTo>
                        <a:pt x="16" y="441"/>
                      </a:lnTo>
                      <a:lnTo>
                        <a:pt x="0" y="450"/>
                      </a:lnTo>
                      <a:lnTo>
                        <a:pt x="38" y="513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>
                  <a:off x="5383080" y="2597040"/>
                  <a:ext cx="33480" cy="95400"/>
                </a:xfrm>
                <a:custGeom>
                  <a:avLst/>
                  <a:gdLst/>
                  <a:ahLst/>
                  <a:rect l="l" t="t" r="r" b="b"/>
                  <a:pathLst>
                    <a:path w="636" h="1812">
                      <a:moveTo>
                        <a:pt x="570" y="1812"/>
                      </a:moveTo>
                      <a:lnTo>
                        <a:pt x="636" y="1784"/>
                      </a:lnTo>
                      <a:lnTo>
                        <a:pt x="69" y="0"/>
                      </a:lnTo>
                      <a:lnTo>
                        <a:pt x="0" y="22"/>
                      </a:lnTo>
                      <a:lnTo>
                        <a:pt x="568" y="1806"/>
                      </a:lnTo>
                      <a:lnTo>
                        <a:pt x="570" y="1812"/>
                      </a:lnTo>
                      <a:lnTo>
                        <a:pt x="568" y="1806"/>
                      </a:lnTo>
                      <a:lnTo>
                        <a:pt x="569" y="1809"/>
                      </a:lnTo>
                      <a:lnTo>
                        <a:pt x="570" y="181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3" name=""/>
                <p:cNvSpPr/>
                <p:nvPr/>
              </p:nvSpPr>
              <p:spPr>
                <a:xfrm>
                  <a:off x="5413320" y="269064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039" h="1805">
                      <a:moveTo>
                        <a:pt x="1039" y="1770"/>
                      </a:moveTo>
                      <a:lnTo>
                        <a:pt x="64" y="0"/>
                      </a:lnTo>
                      <a:lnTo>
                        <a:pt x="0" y="35"/>
                      </a:lnTo>
                      <a:lnTo>
                        <a:pt x="975" y="1805"/>
                      </a:lnTo>
                      <a:lnTo>
                        <a:pt x="1039" y="177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>
                  <a:off x="5450040" y="2625840"/>
                  <a:ext cx="39600" cy="153720"/>
                </a:xfrm>
                <a:custGeom>
                  <a:avLst/>
                  <a:gdLst/>
                  <a:ahLst/>
                  <a:rect l="l" t="t" r="r" b="b"/>
                  <a:pathLst>
                    <a:path w="749" h="2938">
                      <a:moveTo>
                        <a:pt x="749" y="2654"/>
                      </a:moveTo>
                      <a:lnTo>
                        <a:pt x="467" y="468"/>
                      </a:lnTo>
                      <a:lnTo>
                        <a:pt x="654" y="205"/>
                      </a:lnTo>
                      <a:lnTo>
                        <a:pt x="505" y="0"/>
                      </a:lnTo>
                      <a:lnTo>
                        <a:pt x="411" y="111"/>
                      </a:lnTo>
                      <a:lnTo>
                        <a:pt x="261" y="18"/>
                      </a:lnTo>
                      <a:lnTo>
                        <a:pt x="111" y="261"/>
                      </a:lnTo>
                      <a:lnTo>
                        <a:pt x="261" y="449"/>
                      </a:lnTo>
                      <a:lnTo>
                        <a:pt x="0" y="2938"/>
                      </a:lnTo>
                      <a:lnTo>
                        <a:pt x="749" y="2654"/>
                      </a:lnTo>
                      <a:close/>
                    </a:path>
                  </a:pathLst>
                </a:custGeom>
                <a:solidFill>
                  <a:srgbClr val="075f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>
                  <a:off x="5472000" y="2647800"/>
                  <a:ext cx="1908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211">
                      <a:moveTo>
                        <a:pt x="8" y="0"/>
                      </a:moveTo>
                      <a:lnTo>
                        <a:pt x="1" y="25"/>
                      </a:lnTo>
                      <a:lnTo>
                        <a:pt x="283" y="2211"/>
                      </a:lnTo>
                      <a:lnTo>
                        <a:pt x="355" y="2202"/>
                      </a:lnTo>
                      <a:lnTo>
                        <a:pt x="73" y="16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11"/>
                      </a:lnTo>
                      <a:lnTo>
                        <a:pt x="1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>
                  <a:off x="5472000" y="263520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261" h="304">
                      <a:moveTo>
                        <a:pt x="245" y="0"/>
                      </a:moveTo>
                      <a:lnTo>
                        <a:pt x="187" y="0"/>
                      </a:lnTo>
                      <a:lnTo>
                        <a:pt x="0" y="263"/>
                      </a:lnTo>
                      <a:lnTo>
                        <a:pt x="59" y="304"/>
                      </a:lnTo>
                      <a:lnTo>
                        <a:pt x="245" y="42"/>
                      </a:lnTo>
                      <a:lnTo>
                        <a:pt x="245" y="0"/>
                      </a:lnTo>
                      <a:lnTo>
                        <a:pt x="245" y="42"/>
                      </a:lnTo>
                      <a:lnTo>
                        <a:pt x="261" y="21"/>
                      </a:lnTo>
                      <a:lnTo>
                        <a:pt x="245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>
                  <a:off x="5475240" y="2622600"/>
                  <a:ext cx="11160" cy="14400"/>
                </a:xfrm>
                <a:custGeom>
                  <a:avLst/>
                  <a:gdLst/>
                  <a:ahLst/>
                  <a:rect l="l" t="t" r="r" b="b"/>
                  <a:pathLst>
                    <a:path w="207" h="285">
                      <a:moveTo>
                        <a:pt x="2" y="36"/>
                      </a:moveTo>
                      <a:lnTo>
                        <a:pt x="0" y="80"/>
                      </a:lnTo>
                      <a:lnTo>
                        <a:pt x="150" y="285"/>
                      </a:lnTo>
                      <a:lnTo>
                        <a:pt x="207" y="243"/>
                      </a:lnTo>
                      <a:lnTo>
                        <a:pt x="58" y="38"/>
                      </a:lnTo>
                      <a:lnTo>
                        <a:pt x="2" y="36"/>
                      </a:lnTo>
                      <a:lnTo>
                        <a:pt x="58" y="38"/>
                      </a:lnTo>
                      <a:lnTo>
                        <a:pt x="31" y="0"/>
                      </a:lnTo>
                      <a:lnTo>
                        <a:pt x="2" y="3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>
                  <a:off x="5470560" y="262404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49" h="181">
                      <a:moveTo>
                        <a:pt x="8" y="165"/>
                      </a:moveTo>
                      <a:lnTo>
                        <a:pt x="55" y="158"/>
                      </a:lnTo>
                      <a:lnTo>
                        <a:pt x="149" y="46"/>
                      </a:lnTo>
                      <a:lnTo>
                        <a:pt x="95" y="0"/>
                      </a:lnTo>
                      <a:lnTo>
                        <a:pt x="0" y="111"/>
                      </a:lnTo>
                      <a:lnTo>
                        <a:pt x="8" y="165"/>
                      </a:lnTo>
                      <a:lnTo>
                        <a:pt x="8" y="165"/>
                      </a:lnTo>
                      <a:lnTo>
                        <a:pt x="35" y="181"/>
                      </a:lnTo>
                      <a:lnTo>
                        <a:pt x="55" y="158"/>
                      </a:lnTo>
                      <a:lnTo>
                        <a:pt x="8" y="165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>
                  <a:off x="5462640" y="2622600"/>
                  <a:ext cx="9360" cy="9360"/>
                </a:xfrm>
                <a:custGeom>
                  <a:avLst/>
                  <a:gdLst/>
                  <a:ahLst/>
                  <a:rect l="l" t="t" r="r" b="b"/>
                  <a:pathLst>
                    <a:path w="199" h="174">
                      <a:moveTo>
                        <a:pt x="0" y="32"/>
                      </a:moveTo>
                      <a:lnTo>
                        <a:pt x="11" y="81"/>
                      </a:lnTo>
                      <a:lnTo>
                        <a:pt x="160" y="174"/>
                      </a:lnTo>
                      <a:lnTo>
                        <a:pt x="199" y="112"/>
                      </a:lnTo>
                      <a:lnTo>
                        <a:pt x="50" y="20"/>
                      </a:lnTo>
                      <a:lnTo>
                        <a:pt x="0" y="32"/>
                      </a:lnTo>
                      <a:lnTo>
                        <a:pt x="50" y="20"/>
                      </a:lnTo>
                      <a:lnTo>
                        <a:pt x="19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>
                  <a:off x="5452920" y="2625840"/>
                  <a:ext cx="12960" cy="14040"/>
                </a:xfrm>
                <a:custGeom>
                  <a:avLst/>
                  <a:gdLst/>
                  <a:ahLst/>
                  <a:rect l="l" t="t" r="r" b="b"/>
                  <a:pathLst>
                    <a:path w="224" h="285">
                      <a:moveTo>
                        <a:pt x="15" y="285"/>
                      </a:moveTo>
                      <a:lnTo>
                        <a:pt x="74" y="281"/>
                      </a:lnTo>
                      <a:lnTo>
                        <a:pt x="224" y="37"/>
                      </a:lnTo>
                      <a:lnTo>
                        <a:pt x="163" y="0"/>
                      </a:lnTo>
                      <a:lnTo>
                        <a:pt x="13" y="243"/>
                      </a:lnTo>
                      <a:lnTo>
                        <a:pt x="15" y="285"/>
                      </a:lnTo>
                      <a:lnTo>
                        <a:pt x="13" y="243"/>
                      </a:lnTo>
                      <a:lnTo>
                        <a:pt x="0" y="264"/>
                      </a:lnTo>
                      <a:lnTo>
                        <a:pt x="15" y="285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>
                  <a:off x="5454720" y="26370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16" h="232">
                      <a:moveTo>
                        <a:pt x="215" y="214"/>
                      </a:moveTo>
                      <a:lnTo>
                        <a:pt x="207" y="187"/>
                      </a:lnTo>
                      <a:lnTo>
                        <a:pt x="57" y="0"/>
                      </a:lnTo>
                      <a:lnTo>
                        <a:pt x="0" y="46"/>
                      </a:lnTo>
                      <a:lnTo>
                        <a:pt x="150" y="232"/>
                      </a:lnTo>
                      <a:lnTo>
                        <a:pt x="215" y="214"/>
                      </a:lnTo>
                      <a:lnTo>
                        <a:pt x="215" y="214"/>
                      </a:lnTo>
                      <a:lnTo>
                        <a:pt x="216" y="199"/>
                      </a:lnTo>
                      <a:lnTo>
                        <a:pt x="207" y="187"/>
                      </a:lnTo>
                      <a:lnTo>
                        <a:pt x="215" y="214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>
                  <a:off x="5448240" y="2647800"/>
                  <a:ext cx="17640" cy="133560"/>
                </a:xfrm>
                <a:custGeom>
                  <a:avLst/>
                  <a:gdLst/>
                  <a:ahLst/>
                  <a:rect l="l" t="t" r="r" b="b"/>
                  <a:pathLst>
                    <a:path w="335" h="2496">
                      <a:moveTo>
                        <a:pt x="72" y="2496"/>
                      </a:moveTo>
                      <a:lnTo>
                        <a:pt x="335" y="8"/>
                      </a:lnTo>
                      <a:lnTo>
                        <a:pt x="263" y="0"/>
                      </a:lnTo>
                      <a:lnTo>
                        <a:pt x="0" y="2489"/>
                      </a:lnTo>
                      <a:lnTo>
                        <a:pt x="72" y="249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5500800" y="245592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36" h="218">
                      <a:moveTo>
                        <a:pt x="217" y="73"/>
                      </a:moveTo>
                      <a:lnTo>
                        <a:pt x="81" y="0"/>
                      </a:lnTo>
                      <a:lnTo>
                        <a:pt x="0" y="118"/>
                      </a:lnTo>
                      <a:lnTo>
                        <a:pt x="37" y="218"/>
                      </a:lnTo>
                      <a:lnTo>
                        <a:pt x="236" y="181"/>
                      </a:lnTo>
                      <a:lnTo>
                        <a:pt x="217" y="73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5502240" y="245412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183" h="135">
                      <a:moveTo>
                        <a:pt x="0" y="11"/>
                      </a:moveTo>
                      <a:lnTo>
                        <a:pt x="12" y="64"/>
                      </a:lnTo>
                      <a:lnTo>
                        <a:pt x="149" y="135"/>
                      </a:lnTo>
                      <a:lnTo>
                        <a:pt x="183" y="72"/>
                      </a:lnTo>
                      <a:lnTo>
                        <a:pt x="47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>
                  <a:off x="5497560" y="24559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46" h="159">
                      <a:moveTo>
                        <a:pt x="0" y="151"/>
                      </a:moveTo>
                      <a:lnTo>
                        <a:pt x="64" y="159"/>
                      </a:lnTo>
                      <a:lnTo>
                        <a:pt x="146" y="41"/>
                      </a:lnTo>
                      <a:lnTo>
                        <a:pt x="86" y="0"/>
                      </a:lnTo>
                      <a:lnTo>
                        <a:pt x="5" y="117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>
                  <a:off x="5497560" y="24620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104" h="148">
                      <a:moveTo>
                        <a:pt x="77" y="148"/>
                      </a:moveTo>
                      <a:lnTo>
                        <a:pt x="104" y="101"/>
                      </a:lnTo>
                      <a:lnTo>
                        <a:pt x="68" y="0"/>
                      </a:lnTo>
                      <a:lnTo>
                        <a:pt x="0" y="26"/>
                      </a:lnTo>
                      <a:lnTo>
                        <a:pt x="36" y="125"/>
                      </a:lnTo>
                      <a:lnTo>
                        <a:pt x="77" y="148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5502240" y="246384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241" h="107">
                      <a:moveTo>
                        <a:pt x="241" y="29"/>
                      </a:moveTo>
                      <a:lnTo>
                        <a:pt x="200" y="0"/>
                      </a:lnTo>
                      <a:lnTo>
                        <a:pt x="0" y="36"/>
                      </a:lnTo>
                      <a:lnTo>
                        <a:pt x="13" y="107"/>
                      </a:lnTo>
                      <a:lnTo>
                        <a:pt x="212" y="71"/>
                      </a:lnTo>
                      <a:lnTo>
                        <a:pt x="241" y="2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>
                  <a:off x="5510160" y="24591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89" h="147">
                      <a:moveTo>
                        <a:pt x="53" y="0"/>
                      </a:moveTo>
                      <a:lnTo>
                        <a:pt x="0" y="38"/>
                      </a:lnTo>
                      <a:lnTo>
                        <a:pt x="18" y="147"/>
                      </a:lnTo>
                      <a:lnTo>
                        <a:pt x="89" y="134"/>
                      </a:lnTo>
                      <a:lnTo>
                        <a:pt x="71" y="26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>
                  <a:off x="5246640" y="2592360"/>
                  <a:ext cx="384120" cy="201600"/>
                </a:xfrm>
                <a:custGeom>
                  <a:avLst/>
                  <a:gdLst/>
                  <a:ahLst/>
                  <a:rect l="l" t="t" r="r" b="b"/>
                  <a:pathLst>
                    <a:path w="7275" h="3829">
                      <a:moveTo>
                        <a:pt x="0" y="1086"/>
                      </a:moveTo>
                      <a:lnTo>
                        <a:pt x="701" y="627"/>
                      </a:lnTo>
                      <a:lnTo>
                        <a:pt x="1451" y="506"/>
                      </a:lnTo>
                      <a:lnTo>
                        <a:pt x="2563" y="72"/>
                      </a:lnTo>
                      <a:lnTo>
                        <a:pt x="3021" y="1545"/>
                      </a:lnTo>
                      <a:lnTo>
                        <a:pt x="4061" y="3283"/>
                      </a:lnTo>
                      <a:lnTo>
                        <a:pt x="4351" y="3548"/>
                      </a:lnTo>
                      <a:lnTo>
                        <a:pt x="4931" y="2003"/>
                      </a:lnTo>
                      <a:lnTo>
                        <a:pt x="4956" y="1400"/>
                      </a:lnTo>
                      <a:lnTo>
                        <a:pt x="4882" y="651"/>
                      </a:lnTo>
                      <a:lnTo>
                        <a:pt x="4786" y="0"/>
                      </a:lnTo>
                      <a:lnTo>
                        <a:pt x="6043" y="482"/>
                      </a:lnTo>
                      <a:lnTo>
                        <a:pt x="7130" y="965"/>
                      </a:lnTo>
                      <a:lnTo>
                        <a:pt x="7275" y="2486"/>
                      </a:lnTo>
                      <a:lnTo>
                        <a:pt x="7058" y="3815"/>
                      </a:lnTo>
                      <a:lnTo>
                        <a:pt x="1499" y="3815"/>
                      </a:lnTo>
                      <a:lnTo>
                        <a:pt x="1481" y="3817"/>
                      </a:lnTo>
                      <a:lnTo>
                        <a:pt x="1433" y="3822"/>
                      </a:lnTo>
                      <a:lnTo>
                        <a:pt x="1398" y="3825"/>
                      </a:lnTo>
                      <a:lnTo>
                        <a:pt x="1358" y="3827"/>
                      </a:lnTo>
                      <a:lnTo>
                        <a:pt x="1311" y="3829"/>
                      </a:lnTo>
                      <a:lnTo>
                        <a:pt x="1259" y="3829"/>
                      </a:lnTo>
                      <a:lnTo>
                        <a:pt x="1203" y="3829"/>
                      </a:lnTo>
                      <a:lnTo>
                        <a:pt x="1143" y="3826"/>
                      </a:lnTo>
                      <a:lnTo>
                        <a:pt x="1081" y="3822"/>
                      </a:lnTo>
                      <a:lnTo>
                        <a:pt x="1015" y="3815"/>
                      </a:lnTo>
                      <a:lnTo>
                        <a:pt x="947" y="3805"/>
                      </a:lnTo>
                      <a:lnTo>
                        <a:pt x="877" y="3791"/>
                      </a:lnTo>
                      <a:lnTo>
                        <a:pt x="806" y="3774"/>
                      </a:lnTo>
                      <a:lnTo>
                        <a:pt x="735" y="3754"/>
                      </a:lnTo>
                      <a:lnTo>
                        <a:pt x="664" y="3730"/>
                      </a:lnTo>
                      <a:lnTo>
                        <a:pt x="594" y="3700"/>
                      </a:lnTo>
                      <a:lnTo>
                        <a:pt x="525" y="3666"/>
                      </a:lnTo>
                      <a:lnTo>
                        <a:pt x="458" y="3626"/>
                      </a:lnTo>
                      <a:lnTo>
                        <a:pt x="393" y="3581"/>
                      </a:lnTo>
                      <a:lnTo>
                        <a:pt x="331" y="3529"/>
                      </a:lnTo>
                      <a:lnTo>
                        <a:pt x="272" y="3471"/>
                      </a:lnTo>
                      <a:lnTo>
                        <a:pt x="218" y="3407"/>
                      </a:lnTo>
                      <a:lnTo>
                        <a:pt x="169" y="3335"/>
                      </a:lnTo>
                      <a:lnTo>
                        <a:pt x="124" y="3256"/>
                      </a:lnTo>
                      <a:lnTo>
                        <a:pt x="86" y="3170"/>
                      </a:lnTo>
                      <a:lnTo>
                        <a:pt x="54" y="3075"/>
                      </a:lnTo>
                      <a:lnTo>
                        <a:pt x="29" y="2972"/>
                      </a:lnTo>
                      <a:lnTo>
                        <a:pt x="10" y="2859"/>
                      </a:lnTo>
                      <a:lnTo>
                        <a:pt x="1" y="2738"/>
                      </a:lnTo>
                      <a:lnTo>
                        <a:pt x="0" y="2607"/>
                      </a:lnTo>
                      <a:lnTo>
                        <a:pt x="8" y="2292"/>
                      </a:lnTo>
                      <a:lnTo>
                        <a:pt x="14" y="2022"/>
                      </a:lnTo>
                      <a:lnTo>
                        <a:pt x="19" y="1794"/>
                      </a:lnTo>
                      <a:lnTo>
                        <a:pt x="21" y="1606"/>
                      </a:lnTo>
                      <a:lnTo>
                        <a:pt x="22" y="1452"/>
                      </a:lnTo>
                      <a:lnTo>
                        <a:pt x="22" y="1330"/>
                      </a:lnTo>
                      <a:lnTo>
                        <a:pt x="21" y="1237"/>
                      </a:lnTo>
                      <a:lnTo>
                        <a:pt x="19" y="1168"/>
                      </a:lnTo>
                      <a:lnTo>
                        <a:pt x="16" y="1119"/>
                      </a:lnTo>
                      <a:lnTo>
                        <a:pt x="13" y="1090"/>
                      </a:lnTo>
                      <a:lnTo>
                        <a:pt x="11" y="1081"/>
                      </a:lnTo>
                      <a:lnTo>
                        <a:pt x="10" y="1074"/>
                      </a:lnTo>
                      <a:lnTo>
                        <a:pt x="8" y="1071"/>
                      </a:lnTo>
                      <a:lnTo>
                        <a:pt x="7" y="1069"/>
                      </a:lnTo>
                      <a:lnTo>
                        <a:pt x="5" y="1070"/>
                      </a:lnTo>
                      <a:lnTo>
                        <a:pt x="4" y="1072"/>
                      </a:lnTo>
                      <a:lnTo>
                        <a:pt x="3" y="1074"/>
                      </a:lnTo>
                      <a:lnTo>
                        <a:pt x="2" y="1077"/>
                      </a:lnTo>
                      <a:lnTo>
                        <a:pt x="1" y="1083"/>
                      </a:lnTo>
                      <a:lnTo>
                        <a:pt x="0" y="1086"/>
                      </a:lnTo>
                      <a:close/>
                    </a:path>
                  </a:pathLst>
                </a:custGeom>
                <a:solidFill>
                  <a:srgbClr val="aaac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>
                  <a:off x="5245200" y="2622600"/>
                  <a:ext cx="39600" cy="28440"/>
                </a:xfrm>
                <a:custGeom>
                  <a:avLst/>
                  <a:gdLst/>
                  <a:ahLst/>
                  <a:rect l="l" t="t" r="r" b="b"/>
                  <a:pathLst>
                    <a:path w="741" h="525">
                      <a:moveTo>
                        <a:pt x="714" y="0"/>
                      </a:moveTo>
                      <a:lnTo>
                        <a:pt x="701" y="5"/>
                      </a:lnTo>
                      <a:lnTo>
                        <a:pt x="0" y="464"/>
                      </a:lnTo>
                      <a:lnTo>
                        <a:pt x="40" y="525"/>
                      </a:lnTo>
                      <a:lnTo>
                        <a:pt x="741" y="66"/>
                      </a:lnTo>
                      <a:lnTo>
                        <a:pt x="714" y="0"/>
                      </a:lnTo>
                      <a:lnTo>
                        <a:pt x="714" y="0"/>
                      </a:lnTo>
                      <a:lnTo>
                        <a:pt x="707" y="1"/>
                      </a:lnTo>
                      <a:lnTo>
                        <a:pt x="701" y="5"/>
                      </a:lnTo>
                      <a:lnTo>
                        <a:pt x="714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>
                  <a:off x="5283360" y="26161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769" h="192">
                      <a:moveTo>
                        <a:pt x="769" y="69"/>
                      </a:moveTo>
                      <a:lnTo>
                        <a:pt x="750" y="0"/>
                      </a:lnTo>
                      <a:lnTo>
                        <a:pt x="0" y="120"/>
                      </a:lnTo>
                      <a:lnTo>
                        <a:pt x="12" y="192"/>
                      </a:lnTo>
                      <a:lnTo>
                        <a:pt x="761" y="71"/>
                      </a:lnTo>
                      <a:lnTo>
                        <a:pt x="769" y="69"/>
                      </a:lnTo>
                      <a:lnTo>
                        <a:pt x="761" y="71"/>
                      </a:lnTo>
                      <a:lnTo>
                        <a:pt x="765" y="71"/>
                      </a:lnTo>
                      <a:lnTo>
                        <a:pt x="769" y="6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5322960" y="2592360"/>
                  <a:ext cx="60120" cy="28440"/>
                </a:xfrm>
                <a:custGeom>
                  <a:avLst/>
                  <a:gdLst/>
                  <a:ahLst/>
                  <a:rect l="l" t="t" r="r" b="b"/>
                  <a:pathLst>
                    <a:path w="1159" h="516">
                      <a:moveTo>
                        <a:pt x="1159" y="37"/>
                      </a:moveTo>
                      <a:lnTo>
                        <a:pt x="1111" y="14"/>
                      </a:lnTo>
                      <a:lnTo>
                        <a:pt x="0" y="449"/>
                      </a:lnTo>
                      <a:lnTo>
                        <a:pt x="26" y="516"/>
                      </a:lnTo>
                      <a:lnTo>
                        <a:pt x="1138" y="82"/>
                      </a:lnTo>
                      <a:lnTo>
                        <a:pt x="1159" y="37"/>
                      </a:lnTo>
                      <a:lnTo>
                        <a:pt x="1159" y="37"/>
                      </a:lnTo>
                      <a:lnTo>
                        <a:pt x="1147" y="0"/>
                      </a:lnTo>
                      <a:lnTo>
                        <a:pt x="1111" y="14"/>
                      </a:lnTo>
                      <a:lnTo>
                        <a:pt x="1159" y="3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>
                  <a:off x="5380200" y="2595600"/>
                  <a:ext cx="28440" cy="79200"/>
                </a:xfrm>
                <a:custGeom>
                  <a:avLst/>
                  <a:gdLst/>
                  <a:ahLst/>
                  <a:rect l="l" t="t" r="r" b="b"/>
                  <a:pathLst>
                    <a:path w="528" h="1502">
                      <a:moveTo>
                        <a:pt x="463" y="1502"/>
                      </a:moveTo>
                      <a:lnTo>
                        <a:pt x="528" y="1473"/>
                      </a:lnTo>
                      <a:lnTo>
                        <a:pt x="69" y="0"/>
                      </a:lnTo>
                      <a:lnTo>
                        <a:pt x="0" y="22"/>
                      </a:lnTo>
                      <a:lnTo>
                        <a:pt x="459" y="1494"/>
                      </a:lnTo>
                      <a:lnTo>
                        <a:pt x="463" y="1502"/>
                      </a:lnTo>
                      <a:lnTo>
                        <a:pt x="459" y="1494"/>
                      </a:lnTo>
                      <a:lnTo>
                        <a:pt x="461" y="1498"/>
                      </a:lnTo>
                      <a:lnTo>
                        <a:pt x="463" y="150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>
                  <a:off x="5403960" y="2673360"/>
                  <a:ext cx="58680" cy="93600"/>
                </a:xfrm>
                <a:custGeom>
                  <a:avLst/>
                  <a:gdLst/>
                  <a:ahLst/>
                  <a:rect l="l" t="t" r="r" b="b"/>
                  <a:pathLst>
                    <a:path w="1101" h="1784">
                      <a:moveTo>
                        <a:pt x="1045" y="1784"/>
                      </a:moveTo>
                      <a:lnTo>
                        <a:pt x="1101" y="1738"/>
                      </a:lnTo>
                      <a:lnTo>
                        <a:pt x="62" y="0"/>
                      </a:lnTo>
                      <a:lnTo>
                        <a:pt x="0" y="37"/>
                      </a:lnTo>
                      <a:lnTo>
                        <a:pt x="1038" y="1776"/>
                      </a:lnTo>
                      <a:lnTo>
                        <a:pt x="1045" y="1784"/>
                      </a:lnTo>
                      <a:lnTo>
                        <a:pt x="1038" y="1776"/>
                      </a:lnTo>
                      <a:lnTo>
                        <a:pt x="1041" y="1780"/>
                      </a:lnTo>
                      <a:lnTo>
                        <a:pt x="1045" y="1784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5459400" y="2763720"/>
                  <a:ext cx="19080" cy="19080"/>
                </a:xfrm>
                <a:custGeom>
                  <a:avLst/>
                  <a:gdLst/>
                  <a:ahLst/>
                  <a:rect l="l" t="t" r="r" b="b"/>
                  <a:pathLst>
                    <a:path w="348" h="355">
                      <a:moveTo>
                        <a:pt x="348" y="305"/>
                      </a:moveTo>
                      <a:lnTo>
                        <a:pt x="339" y="266"/>
                      </a:lnTo>
                      <a:lnTo>
                        <a:pt x="49" y="0"/>
                      </a:lnTo>
                      <a:lnTo>
                        <a:pt x="0" y="54"/>
                      </a:lnTo>
                      <a:lnTo>
                        <a:pt x="291" y="320"/>
                      </a:lnTo>
                      <a:lnTo>
                        <a:pt x="348" y="305"/>
                      </a:lnTo>
                      <a:lnTo>
                        <a:pt x="291" y="320"/>
                      </a:lnTo>
                      <a:lnTo>
                        <a:pt x="330" y="355"/>
                      </a:lnTo>
                      <a:lnTo>
                        <a:pt x="348" y="305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5475240" y="2697120"/>
                  <a:ext cx="33480" cy="82440"/>
                </a:xfrm>
                <a:custGeom>
                  <a:avLst/>
                  <a:gdLst/>
                  <a:ahLst/>
                  <a:rect l="l" t="t" r="r" b="b"/>
                  <a:pathLst>
                    <a:path w="650" h="1570">
                      <a:moveTo>
                        <a:pt x="650" y="14"/>
                      </a:moveTo>
                      <a:lnTo>
                        <a:pt x="580" y="0"/>
                      </a:lnTo>
                      <a:lnTo>
                        <a:pt x="0" y="1545"/>
                      </a:lnTo>
                      <a:lnTo>
                        <a:pt x="67" y="1570"/>
                      </a:lnTo>
                      <a:lnTo>
                        <a:pt x="648" y="25"/>
                      </a:lnTo>
                      <a:lnTo>
                        <a:pt x="650" y="14"/>
                      </a:lnTo>
                      <a:lnTo>
                        <a:pt x="648" y="25"/>
                      </a:lnTo>
                      <a:lnTo>
                        <a:pt x="650" y="19"/>
                      </a:lnTo>
                      <a:lnTo>
                        <a:pt x="650" y="14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7" name=""/>
                <p:cNvSpPr/>
                <p:nvPr/>
              </p:nvSpPr>
              <p:spPr>
                <a:xfrm>
                  <a:off x="5505480" y="2665440"/>
                  <a:ext cx="4680" cy="31680"/>
                </a:xfrm>
                <a:custGeom>
                  <a:avLst/>
                  <a:gdLst/>
                  <a:ahLst/>
                  <a:rect l="l" t="t" r="r" b="b"/>
                  <a:pathLst>
                    <a:path w="96" h="609">
                      <a:moveTo>
                        <a:pt x="96" y="0"/>
                      </a:moveTo>
                      <a:lnTo>
                        <a:pt x="24" y="2"/>
                      </a:lnTo>
                      <a:lnTo>
                        <a:pt x="0" y="606"/>
                      </a:lnTo>
                      <a:lnTo>
                        <a:pt x="72" y="609"/>
                      </a:lnTo>
                      <a:lnTo>
                        <a:pt x="96" y="5"/>
                      </a:lnTo>
                      <a:lnTo>
                        <a:pt x="96" y="0"/>
                      </a:lnTo>
                      <a:lnTo>
                        <a:pt x="96" y="5"/>
                      </a:lnTo>
                      <a:lnTo>
                        <a:pt x="96" y="3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>
                  <a:off x="5502240" y="26258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44" h="757">
                      <a:moveTo>
                        <a:pt x="71" y="0"/>
                      </a:moveTo>
                      <a:lnTo>
                        <a:pt x="0" y="9"/>
                      </a:lnTo>
                      <a:lnTo>
                        <a:pt x="72" y="757"/>
                      </a:lnTo>
                      <a:lnTo>
                        <a:pt x="144" y="750"/>
                      </a:lnTo>
                      <a:lnTo>
                        <a:pt x="72" y="2"/>
                      </a:lnTo>
                      <a:lnTo>
                        <a:pt x="71" y="0"/>
                      </a:lnTo>
                      <a:lnTo>
                        <a:pt x="72" y="2"/>
                      </a:lnTo>
                      <a:lnTo>
                        <a:pt x="72" y="1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>
                  <a:off x="5497560" y="2589120"/>
                  <a:ext cx="9360" cy="38160"/>
                </a:xfrm>
                <a:custGeom>
                  <a:avLst/>
                  <a:gdLst/>
                  <a:ahLst/>
                  <a:rect l="l" t="t" r="r" b="b"/>
                  <a:pathLst>
                    <a:path w="177" h="712">
                      <a:moveTo>
                        <a:pt x="58" y="22"/>
                      </a:moveTo>
                      <a:lnTo>
                        <a:pt x="10" y="61"/>
                      </a:lnTo>
                      <a:lnTo>
                        <a:pt x="106" y="712"/>
                      </a:lnTo>
                      <a:lnTo>
                        <a:pt x="177" y="702"/>
                      </a:lnTo>
                      <a:lnTo>
                        <a:pt x="81" y="51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0" y="0"/>
                      </a:lnTo>
                      <a:lnTo>
                        <a:pt x="10" y="61"/>
                      </a:lnTo>
                      <a:lnTo>
                        <a:pt x="58" y="2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5499000" y="2590920"/>
                  <a:ext cx="68400" cy="28440"/>
                </a:xfrm>
                <a:custGeom>
                  <a:avLst/>
                  <a:gdLst/>
                  <a:ahLst/>
                  <a:rect l="l" t="t" r="r" b="b"/>
                  <a:pathLst>
                    <a:path w="1284" h="550">
                      <a:moveTo>
                        <a:pt x="1284" y="484"/>
                      </a:moveTo>
                      <a:lnTo>
                        <a:pt x="1283" y="483"/>
                      </a:lnTo>
                      <a:lnTo>
                        <a:pt x="26" y="0"/>
                      </a:lnTo>
                      <a:lnTo>
                        <a:pt x="0" y="67"/>
                      </a:lnTo>
                      <a:lnTo>
                        <a:pt x="1257" y="550"/>
                      </a:lnTo>
                      <a:lnTo>
                        <a:pt x="1284" y="484"/>
                      </a:lnTo>
                      <a:lnTo>
                        <a:pt x="1284" y="484"/>
                      </a:lnTo>
                      <a:lnTo>
                        <a:pt x="1283" y="483"/>
                      </a:lnTo>
                      <a:lnTo>
                        <a:pt x="1283" y="483"/>
                      </a:lnTo>
                      <a:lnTo>
                        <a:pt x="1284" y="484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5565600" y="2616120"/>
                  <a:ext cx="60480" cy="28800"/>
                </a:xfrm>
                <a:custGeom>
                  <a:avLst/>
                  <a:gdLst/>
                  <a:ahLst/>
                  <a:rect l="l" t="t" r="r" b="b"/>
                  <a:pathLst>
                    <a:path w="1138" h="548">
                      <a:moveTo>
                        <a:pt x="1138" y="512"/>
                      </a:moveTo>
                      <a:lnTo>
                        <a:pt x="1117" y="482"/>
                      </a:lnTo>
                      <a:lnTo>
                        <a:pt x="29" y="0"/>
                      </a:lnTo>
                      <a:lnTo>
                        <a:pt x="0" y="65"/>
                      </a:lnTo>
                      <a:lnTo>
                        <a:pt x="1088" y="548"/>
                      </a:lnTo>
                      <a:lnTo>
                        <a:pt x="1138" y="512"/>
                      </a:lnTo>
                      <a:lnTo>
                        <a:pt x="1138" y="512"/>
                      </a:lnTo>
                      <a:lnTo>
                        <a:pt x="1137" y="491"/>
                      </a:lnTo>
                      <a:lnTo>
                        <a:pt x="1117" y="482"/>
                      </a:lnTo>
                      <a:lnTo>
                        <a:pt x="1138" y="51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5621400" y="2643120"/>
                  <a:ext cx="11160" cy="81000"/>
                </a:xfrm>
                <a:custGeom>
                  <a:avLst/>
                  <a:gdLst/>
                  <a:ahLst/>
                  <a:rect l="l" t="t" r="r" b="b"/>
                  <a:pathLst>
                    <a:path w="217" h="1530">
                      <a:moveTo>
                        <a:pt x="216" y="1530"/>
                      </a:moveTo>
                      <a:lnTo>
                        <a:pt x="216" y="1521"/>
                      </a:lnTo>
                      <a:lnTo>
                        <a:pt x="71" y="0"/>
                      </a:lnTo>
                      <a:lnTo>
                        <a:pt x="0" y="6"/>
                      </a:lnTo>
                      <a:lnTo>
                        <a:pt x="144" y="1527"/>
                      </a:lnTo>
                      <a:lnTo>
                        <a:pt x="216" y="1530"/>
                      </a:lnTo>
                      <a:lnTo>
                        <a:pt x="216" y="1530"/>
                      </a:lnTo>
                      <a:lnTo>
                        <a:pt x="217" y="1525"/>
                      </a:lnTo>
                      <a:lnTo>
                        <a:pt x="216" y="1521"/>
                      </a:lnTo>
                      <a:lnTo>
                        <a:pt x="216" y="153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5618160" y="2722680"/>
                  <a:ext cx="14400" cy="73080"/>
                </a:xfrm>
                <a:custGeom>
                  <a:avLst/>
                  <a:gdLst/>
                  <a:ahLst/>
                  <a:rect l="l" t="t" r="r" b="b"/>
                  <a:pathLst>
                    <a:path w="289" h="1370">
                      <a:moveTo>
                        <a:pt x="36" y="1370"/>
                      </a:moveTo>
                      <a:lnTo>
                        <a:pt x="72" y="1340"/>
                      </a:lnTo>
                      <a:lnTo>
                        <a:pt x="289" y="12"/>
                      </a:lnTo>
                      <a:lnTo>
                        <a:pt x="218" y="0"/>
                      </a:lnTo>
                      <a:lnTo>
                        <a:pt x="0" y="1329"/>
                      </a:lnTo>
                      <a:lnTo>
                        <a:pt x="36" y="1370"/>
                      </a:lnTo>
                      <a:lnTo>
                        <a:pt x="36" y="1370"/>
                      </a:lnTo>
                      <a:lnTo>
                        <a:pt x="67" y="1370"/>
                      </a:lnTo>
                      <a:lnTo>
                        <a:pt x="72" y="1340"/>
                      </a:lnTo>
                      <a:lnTo>
                        <a:pt x="36" y="137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5324400" y="2792520"/>
                  <a:ext cx="295200" cy="3240"/>
                </a:xfrm>
                <a:custGeom>
                  <a:avLst/>
                  <a:gdLst/>
                  <a:ahLst/>
                  <a:rect l="l" t="t" r="r" b="b"/>
                  <a:pathLst>
                    <a:path w="5565" h="72">
                      <a:moveTo>
                        <a:pt x="0" y="0"/>
                      </a:moveTo>
                      <a:lnTo>
                        <a:pt x="6" y="72"/>
                      </a:lnTo>
                      <a:lnTo>
                        <a:pt x="5565" y="72"/>
                      </a:lnTo>
                      <a:lnTo>
                        <a:pt x="5565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>
                  <a:off x="5243400" y="2730600"/>
                  <a:ext cx="82800" cy="66600"/>
                </a:xfrm>
                <a:custGeom>
                  <a:avLst/>
                  <a:gdLst/>
                  <a:ahLst/>
                  <a:rect l="l" t="t" r="r" b="b"/>
                  <a:pathLst>
                    <a:path w="1541" h="125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0" y="68"/>
                      </a:lnTo>
                      <a:lnTo>
                        <a:pt x="0" y="101"/>
                      </a:lnTo>
                      <a:lnTo>
                        <a:pt x="1" y="134"/>
                      </a:lnTo>
                      <a:lnTo>
                        <a:pt x="3" y="165"/>
                      </a:lnTo>
                      <a:lnTo>
                        <a:pt x="5" y="196"/>
                      </a:lnTo>
                      <a:lnTo>
                        <a:pt x="8" y="228"/>
                      </a:lnTo>
                      <a:lnTo>
                        <a:pt x="11" y="257"/>
                      </a:lnTo>
                      <a:lnTo>
                        <a:pt x="15" y="288"/>
                      </a:lnTo>
                      <a:lnTo>
                        <a:pt x="19" y="316"/>
                      </a:lnTo>
                      <a:lnTo>
                        <a:pt x="23" y="344"/>
                      </a:lnTo>
                      <a:lnTo>
                        <a:pt x="29" y="373"/>
                      </a:lnTo>
                      <a:lnTo>
                        <a:pt x="34" y="400"/>
                      </a:lnTo>
                      <a:lnTo>
                        <a:pt x="41" y="426"/>
                      </a:lnTo>
                      <a:lnTo>
                        <a:pt x="47" y="453"/>
                      </a:lnTo>
                      <a:lnTo>
                        <a:pt x="55" y="479"/>
                      </a:lnTo>
                      <a:lnTo>
                        <a:pt x="63" y="504"/>
                      </a:lnTo>
                      <a:lnTo>
                        <a:pt x="71" y="529"/>
                      </a:lnTo>
                      <a:lnTo>
                        <a:pt x="79" y="553"/>
                      </a:lnTo>
                      <a:lnTo>
                        <a:pt x="88" y="577"/>
                      </a:lnTo>
                      <a:lnTo>
                        <a:pt x="97" y="600"/>
                      </a:lnTo>
                      <a:lnTo>
                        <a:pt x="107" y="623"/>
                      </a:lnTo>
                      <a:lnTo>
                        <a:pt x="117" y="645"/>
                      </a:lnTo>
                      <a:lnTo>
                        <a:pt x="128" y="667"/>
                      </a:lnTo>
                      <a:lnTo>
                        <a:pt x="139" y="688"/>
                      </a:lnTo>
                      <a:lnTo>
                        <a:pt x="150" y="708"/>
                      </a:lnTo>
                      <a:lnTo>
                        <a:pt x="162" y="728"/>
                      </a:lnTo>
                      <a:lnTo>
                        <a:pt x="174" y="749"/>
                      </a:lnTo>
                      <a:lnTo>
                        <a:pt x="186" y="768"/>
                      </a:lnTo>
                      <a:lnTo>
                        <a:pt x="199" y="786"/>
                      </a:lnTo>
                      <a:lnTo>
                        <a:pt x="212" y="805"/>
                      </a:lnTo>
                      <a:lnTo>
                        <a:pt x="226" y="824"/>
                      </a:lnTo>
                      <a:lnTo>
                        <a:pt x="253" y="857"/>
                      </a:lnTo>
                      <a:lnTo>
                        <a:pt x="282" y="889"/>
                      </a:lnTo>
                      <a:lnTo>
                        <a:pt x="311" y="921"/>
                      </a:lnTo>
                      <a:lnTo>
                        <a:pt x="343" y="950"/>
                      </a:lnTo>
                      <a:lnTo>
                        <a:pt x="374" y="978"/>
                      </a:lnTo>
                      <a:lnTo>
                        <a:pt x="407" y="1003"/>
                      </a:lnTo>
                      <a:lnTo>
                        <a:pt x="440" y="1027"/>
                      </a:lnTo>
                      <a:lnTo>
                        <a:pt x="473" y="1051"/>
                      </a:lnTo>
                      <a:lnTo>
                        <a:pt x="508" y="1071"/>
                      </a:lnTo>
                      <a:lnTo>
                        <a:pt x="543" y="1091"/>
                      </a:lnTo>
                      <a:lnTo>
                        <a:pt x="579" y="1109"/>
                      </a:lnTo>
                      <a:lnTo>
                        <a:pt x="614" y="1127"/>
                      </a:lnTo>
                      <a:lnTo>
                        <a:pt x="651" y="1143"/>
                      </a:lnTo>
                      <a:lnTo>
                        <a:pt x="688" y="1157"/>
                      </a:lnTo>
                      <a:lnTo>
                        <a:pt x="724" y="1170"/>
                      </a:lnTo>
                      <a:lnTo>
                        <a:pt x="761" y="1182"/>
                      </a:lnTo>
                      <a:lnTo>
                        <a:pt x="797" y="1193"/>
                      </a:lnTo>
                      <a:lnTo>
                        <a:pt x="834" y="1204"/>
                      </a:lnTo>
                      <a:lnTo>
                        <a:pt x="869" y="1213"/>
                      </a:lnTo>
                      <a:lnTo>
                        <a:pt x="906" y="1221"/>
                      </a:lnTo>
                      <a:lnTo>
                        <a:pt x="941" y="1228"/>
                      </a:lnTo>
                      <a:lnTo>
                        <a:pt x="977" y="1234"/>
                      </a:lnTo>
                      <a:lnTo>
                        <a:pt x="1011" y="1239"/>
                      </a:lnTo>
                      <a:lnTo>
                        <a:pt x="1046" y="1244"/>
                      </a:lnTo>
                      <a:lnTo>
                        <a:pt x="1080" y="1248"/>
                      </a:lnTo>
                      <a:lnTo>
                        <a:pt x="1114" y="1251"/>
                      </a:lnTo>
                      <a:lnTo>
                        <a:pt x="1146" y="1254"/>
                      </a:lnTo>
                      <a:lnTo>
                        <a:pt x="1177" y="1256"/>
                      </a:lnTo>
                      <a:lnTo>
                        <a:pt x="1238" y="1258"/>
                      </a:lnTo>
                      <a:lnTo>
                        <a:pt x="1295" y="1259"/>
                      </a:lnTo>
                      <a:lnTo>
                        <a:pt x="1348" y="1258"/>
                      </a:lnTo>
                      <a:lnTo>
                        <a:pt x="1395" y="1257"/>
                      </a:lnTo>
                      <a:lnTo>
                        <a:pt x="1436" y="1254"/>
                      </a:lnTo>
                      <a:lnTo>
                        <a:pt x="1473" y="1251"/>
                      </a:lnTo>
                      <a:lnTo>
                        <a:pt x="1521" y="1246"/>
                      </a:lnTo>
                      <a:lnTo>
                        <a:pt x="1541" y="1244"/>
                      </a:lnTo>
                      <a:lnTo>
                        <a:pt x="1529" y="1172"/>
                      </a:lnTo>
                      <a:lnTo>
                        <a:pt x="1513" y="1174"/>
                      </a:lnTo>
                      <a:lnTo>
                        <a:pt x="1466" y="1180"/>
                      </a:lnTo>
                      <a:lnTo>
                        <a:pt x="1432" y="1182"/>
                      </a:lnTo>
                      <a:lnTo>
                        <a:pt x="1391" y="1185"/>
                      </a:lnTo>
                      <a:lnTo>
                        <a:pt x="1346" y="1186"/>
                      </a:lnTo>
                      <a:lnTo>
                        <a:pt x="1295" y="1187"/>
                      </a:lnTo>
                      <a:lnTo>
                        <a:pt x="1240" y="1186"/>
                      </a:lnTo>
                      <a:lnTo>
                        <a:pt x="1182" y="1184"/>
                      </a:lnTo>
                      <a:lnTo>
                        <a:pt x="1151" y="1182"/>
                      </a:lnTo>
                      <a:lnTo>
                        <a:pt x="1120" y="1179"/>
                      </a:lnTo>
                      <a:lnTo>
                        <a:pt x="1087" y="1176"/>
                      </a:lnTo>
                      <a:lnTo>
                        <a:pt x="1055" y="1172"/>
                      </a:lnTo>
                      <a:lnTo>
                        <a:pt x="1022" y="1168"/>
                      </a:lnTo>
                      <a:lnTo>
                        <a:pt x="989" y="1163"/>
                      </a:lnTo>
                      <a:lnTo>
                        <a:pt x="954" y="1157"/>
                      </a:lnTo>
                      <a:lnTo>
                        <a:pt x="921" y="1150"/>
                      </a:lnTo>
                      <a:lnTo>
                        <a:pt x="885" y="1142"/>
                      </a:lnTo>
                      <a:lnTo>
                        <a:pt x="851" y="1134"/>
                      </a:lnTo>
                      <a:lnTo>
                        <a:pt x="816" y="1125"/>
                      </a:lnTo>
                      <a:lnTo>
                        <a:pt x="782" y="1113"/>
                      </a:lnTo>
                      <a:lnTo>
                        <a:pt x="747" y="1102"/>
                      </a:lnTo>
                      <a:lnTo>
                        <a:pt x="713" y="1089"/>
                      </a:lnTo>
                      <a:lnTo>
                        <a:pt x="678" y="1076"/>
                      </a:lnTo>
                      <a:lnTo>
                        <a:pt x="645" y="1061"/>
                      </a:lnTo>
                      <a:lnTo>
                        <a:pt x="611" y="1045"/>
                      </a:lnTo>
                      <a:lnTo>
                        <a:pt x="578" y="1027"/>
                      </a:lnTo>
                      <a:lnTo>
                        <a:pt x="546" y="1009"/>
                      </a:lnTo>
                      <a:lnTo>
                        <a:pt x="513" y="990"/>
                      </a:lnTo>
                      <a:lnTo>
                        <a:pt x="482" y="969"/>
                      </a:lnTo>
                      <a:lnTo>
                        <a:pt x="450" y="945"/>
                      </a:lnTo>
                      <a:lnTo>
                        <a:pt x="421" y="922"/>
                      </a:lnTo>
                      <a:lnTo>
                        <a:pt x="391" y="897"/>
                      </a:lnTo>
                      <a:lnTo>
                        <a:pt x="363" y="869"/>
                      </a:lnTo>
                      <a:lnTo>
                        <a:pt x="335" y="841"/>
                      </a:lnTo>
                      <a:lnTo>
                        <a:pt x="308" y="810"/>
                      </a:lnTo>
                      <a:lnTo>
                        <a:pt x="283" y="779"/>
                      </a:lnTo>
                      <a:lnTo>
                        <a:pt x="271" y="763"/>
                      </a:lnTo>
                      <a:lnTo>
                        <a:pt x="258" y="746"/>
                      </a:lnTo>
                      <a:lnTo>
                        <a:pt x="246" y="728"/>
                      </a:lnTo>
                      <a:lnTo>
                        <a:pt x="235" y="710"/>
                      </a:lnTo>
                      <a:lnTo>
                        <a:pt x="224" y="692"/>
                      </a:lnTo>
                      <a:lnTo>
                        <a:pt x="213" y="674"/>
                      </a:lnTo>
                      <a:lnTo>
                        <a:pt x="203" y="654"/>
                      </a:lnTo>
                      <a:lnTo>
                        <a:pt x="193" y="634"/>
                      </a:lnTo>
                      <a:lnTo>
                        <a:pt x="182" y="614"/>
                      </a:lnTo>
                      <a:lnTo>
                        <a:pt x="173" y="594"/>
                      </a:lnTo>
                      <a:lnTo>
                        <a:pt x="164" y="572"/>
                      </a:lnTo>
                      <a:lnTo>
                        <a:pt x="155" y="551"/>
                      </a:lnTo>
                      <a:lnTo>
                        <a:pt x="147" y="529"/>
                      </a:lnTo>
                      <a:lnTo>
                        <a:pt x="139" y="505"/>
                      </a:lnTo>
                      <a:lnTo>
                        <a:pt x="132" y="483"/>
                      </a:lnTo>
                      <a:lnTo>
                        <a:pt x="125" y="459"/>
                      </a:lnTo>
                      <a:lnTo>
                        <a:pt x="117" y="435"/>
                      </a:lnTo>
                      <a:lnTo>
                        <a:pt x="111" y="410"/>
                      </a:lnTo>
                      <a:lnTo>
                        <a:pt x="105" y="385"/>
                      </a:lnTo>
                      <a:lnTo>
                        <a:pt x="100" y="359"/>
                      </a:lnTo>
                      <a:lnTo>
                        <a:pt x="95" y="332"/>
                      </a:lnTo>
                      <a:lnTo>
                        <a:pt x="90" y="305"/>
                      </a:lnTo>
                      <a:lnTo>
                        <a:pt x="86" y="277"/>
                      </a:lnTo>
                      <a:lnTo>
                        <a:pt x="83" y="249"/>
                      </a:lnTo>
                      <a:lnTo>
                        <a:pt x="80" y="221"/>
                      </a:lnTo>
                      <a:lnTo>
                        <a:pt x="77" y="191"/>
                      </a:lnTo>
                      <a:lnTo>
                        <a:pt x="75" y="161"/>
                      </a:lnTo>
                      <a:lnTo>
                        <a:pt x="74" y="131"/>
                      </a:lnTo>
                      <a:lnTo>
                        <a:pt x="73" y="99"/>
                      </a:lnTo>
                      <a:lnTo>
                        <a:pt x="72" y="68"/>
                      </a:lnTo>
                      <a:lnTo>
                        <a:pt x="72" y="35"/>
                      </a:lnTo>
                      <a:lnTo>
                        <a:pt x="73" y="2"/>
                      </a:lnTo>
                      <a:lnTo>
                        <a:pt x="73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>
                  <a:off x="5243400" y="2646360"/>
                  <a:ext cx="6480" cy="84240"/>
                </a:xfrm>
                <a:custGeom>
                  <a:avLst/>
                  <a:gdLst/>
                  <a:ahLst/>
                  <a:rect l="l" t="t" r="r" b="b"/>
                  <a:pathLst>
                    <a:path w="106" h="1573">
                      <a:moveTo>
                        <a:pt x="29" y="20"/>
                      </a:moveTo>
                      <a:lnTo>
                        <a:pt x="84" y="57"/>
                      </a:lnTo>
                      <a:lnTo>
                        <a:pt x="84" y="56"/>
                      </a:lnTo>
                      <a:lnTo>
                        <a:pt x="85" y="51"/>
                      </a:lnTo>
                      <a:lnTo>
                        <a:pt x="85" y="51"/>
                      </a:lnTo>
                      <a:lnTo>
                        <a:pt x="85" y="54"/>
                      </a:lnTo>
                      <a:lnTo>
                        <a:pt x="77" y="63"/>
                      </a:lnTo>
                      <a:lnTo>
                        <a:pt x="43" y="68"/>
                      </a:lnTo>
                      <a:lnTo>
                        <a:pt x="25" y="54"/>
                      </a:lnTo>
                      <a:lnTo>
                        <a:pt x="23" y="50"/>
                      </a:lnTo>
                      <a:lnTo>
                        <a:pt x="24" y="52"/>
                      </a:lnTo>
                      <a:lnTo>
                        <a:pt x="25" y="59"/>
                      </a:lnTo>
                      <a:lnTo>
                        <a:pt x="28" y="87"/>
                      </a:lnTo>
                      <a:lnTo>
                        <a:pt x="30" y="134"/>
                      </a:lnTo>
                      <a:lnTo>
                        <a:pt x="32" y="202"/>
                      </a:lnTo>
                      <a:lnTo>
                        <a:pt x="33" y="295"/>
                      </a:lnTo>
                      <a:lnTo>
                        <a:pt x="33" y="417"/>
                      </a:lnTo>
                      <a:lnTo>
                        <a:pt x="32" y="570"/>
                      </a:lnTo>
                      <a:lnTo>
                        <a:pt x="30" y="759"/>
                      </a:lnTo>
                      <a:lnTo>
                        <a:pt x="26" y="986"/>
                      </a:lnTo>
                      <a:lnTo>
                        <a:pt x="20" y="1256"/>
                      </a:lnTo>
                      <a:lnTo>
                        <a:pt x="12" y="1571"/>
                      </a:lnTo>
                      <a:lnTo>
                        <a:pt x="85" y="1573"/>
                      </a:lnTo>
                      <a:lnTo>
                        <a:pt x="93" y="1258"/>
                      </a:lnTo>
                      <a:lnTo>
                        <a:pt x="98" y="987"/>
                      </a:lnTo>
                      <a:lnTo>
                        <a:pt x="102" y="760"/>
                      </a:lnTo>
                      <a:lnTo>
                        <a:pt x="105" y="571"/>
                      </a:lnTo>
                      <a:lnTo>
                        <a:pt x="106" y="417"/>
                      </a:lnTo>
                      <a:lnTo>
                        <a:pt x="106" y="295"/>
                      </a:lnTo>
                      <a:lnTo>
                        <a:pt x="104" y="201"/>
                      </a:lnTo>
                      <a:lnTo>
                        <a:pt x="103" y="131"/>
                      </a:lnTo>
                      <a:lnTo>
                        <a:pt x="100" y="82"/>
                      </a:lnTo>
                      <a:lnTo>
                        <a:pt x="97" y="51"/>
                      </a:lnTo>
                      <a:lnTo>
                        <a:pt x="95" y="39"/>
                      </a:lnTo>
                      <a:lnTo>
                        <a:pt x="93" y="29"/>
                      </a:lnTo>
                      <a:lnTo>
                        <a:pt x="88" y="17"/>
                      </a:lnTo>
                      <a:lnTo>
                        <a:pt x="68" y="0"/>
                      </a:lnTo>
                      <a:lnTo>
                        <a:pt x="31" y="6"/>
                      </a:lnTo>
                      <a:lnTo>
                        <a:pt x="21" y="18"/>
                      </a:lnTo>
                      <a:lnTo>
                        <a:pt x="17" y="27"/>
                      </a:lnTo>
                      <a:lnTo>
                        <a:pt x="16" y="33"/>
                      </a:lnTo>
                      <a:lnTo>
                        <a:pt x="14" y="41"/>
                      </a:lnTo>
                      <a:lnTo>
                        <a:pt x="13" y="45"/>
                      </a:lnTo>
                      <a:lnTo>
                        <a:pt x="69" y="81"/>
                      </a:lnTo>
                      <a:lnTo>
                        <a:pt x="13" y="45"/>
                      </a:lnTo>
                      <a:lnTo>
                        <a:pt x="0" y="126"/>
                      </a:lnTo>
                      <a:lnTo>
                        <a:pt x="69" y="81"/>
                      </a:lnTo>
                      <a:lnTo>
                        <a:pt x="29" y="2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5570640" y="2739960"/>
                  <a:ext cx="11160" cy="103320"/>
                </a:xfrm>
                <a:custGeom>
                  <a:avLst/>
                  <a:gdLst/>
                  <a:ahLst/>
                  <a:rect l="l" t="t" r="r" b="b"/>
                  <a:pathLst>
                    <a:path w="218" h="1961">
                      <a:moveTo>
                        <a:pt x="145" y="0"/>
                      </a:moveTo>
                      <a:lnTo>
                        <a:pt x="0" y="1956"/>
                      </a:lnTo>
                      <a:lnTo>
                        <a:pt x="73" y="1961"/>
                      </a:lnTo>
                      <a:lnTo>
                        <a:pt x="218" y="5"/>
                      </a:lnTo>
                      <a:lnTo>
                        <a:pt x="145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5618160" y="2443320"/>
                  <a:ext cx="141120" cy="317520"/>
                </a:xfrm>
                <a:custGeom>
                  <a:avLst/>
                  <a:gdLst/>
                  <a:ahLst/>
                  <a:rect l="l" t="t" r="r" b="b"/>
                  <a:pathLst>
                    <a:path w="2682" h="6012">
                      <a:moveTo>
                        <a:pt x="0" y="4346"/>
                      </a:moveTo>
                      <a:lnTo>
                        <a:pt x="435" y="3548"/>
                      </a:lnTo>
                      <a:lnTo>
                        <a:pt x="72" y="2245"/>
                      </a:lnTo>
                      <a:lnTo>
                        <a:pt x="217" y="651"/>
                      </a:lnTo>
                      <a:lnTo>
                        <a:pt x="1232" y="0"/>
                      </a:lnTo>
                      <a:lnTo>
                        <a:pt x="1885" y="145"/>
                      </a:lnTo>
                      <a:lnTo>
                        <a:pt x="2682" y="361"/>
                      </a:lnTo>
                      <a:lnTo>
                        <a:pt x="2682" y="2915"/>
                      </a:lnTo>
                      <a:lnTo>
                        <a:pt x="2211" y="2951"/>
                      </a:lnTo>
                      <a:lnTo>
                        <a:pt x="1631" y="3005"/>
                      </a:lnTo>
                      <a:lnTo>
                        <a:pt x="1667" y="3766"/>
                      </a:lnTo>
                      <a:lnTo>
                        <a:pt x="2538" y="4418"/>
                      </a:lnTo>
                      <a:lnTo>
                        <a:pt x="2175" y="5287"/>
                      </a:lnTo>
                      <a:lnTo>
                        <a:pt x="942" y="6012"/>
                      </a:lnTo>
                      <a:lnTo>
                        <a:pt x="0" y="4346"/>
                      </a:lnTo>
                      <a:close/>
                    </a:path>
                  </a:pathLst>
                </a:custGeom>
                <a:solidFill>
                  <a:srgbClr val="f5dd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>
                  <a:off x="5616720" y="2630520"/>
                  <a:ext cx="27000" cy="42840"/>
                </a:xfrm>
                <a:custGeom>
                  <a:avLst/>
                  <a:gdLst/>
                  <a:ahLst/>
                  <a:rect l="l" t="t" r="r" b="b"/>
                  <a:pathLst>
                    <a:path w="506" h="832">
                      <a:moveTo>
                        <a:pt x="501" y="8"/>
                      </a:moveTo>
                      <a:lnTo>
                        <a:pt x="435" y="0"/>
                      </a:lnTo>
                      <a:lnTo>
                        <a:pt x="0" y="797"/>
                      </a:lnTo>
                      <a:lnTo>
                        <a:pt x="63" y="832"/>
                      </a:lnTo>
                      <a:lnTo>
                        <a:pt x="498" y="35"/>
                      </a:lnTo>
                      <a:lnTo>
                        <a:pt x="501" y="8"/>
                      </a:lnTo>
                      <a:lnTo>
                        <a:pt x="498" y="35"/>
                      </a:lnTo>
                      <a:lnTo>
                        <a:pt x="506" y="22"/>
                      </a:lnTo>
                      <a:lnTo>
                        <a:pt x="501" y="8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>
                  <a:off x="5619600" y="2560680"/>
                  <a:ext cx="22320" cy="71280"/>
                </a:xfrm>
                <a:custGeom>
                  <a:avLst/>
                  <a:gdLst/>
                  <a:ahLst/>
                  <a:rect l="l" t="t" r="r" b="b"/>
                  <a:pathLst>
                    <a:path w="434" h="1323">
                      <a:moveTo>
                        <a:pt x="1" y="6"/>
                      </a:moveTo>
                      <a:lnTo>
                        <a:pt x="2" y="19"/>
                      </a:lnTo>
                      <a:lnTo>
                        <a:pt x="364" y="1323"/>
                      </a:lnTo>
                      <a:lnTo>
                        <a:pt x="434" y="1304"/>
                      </a:lnTo>
                      <a:lnTo>
                        <a:pt x="72" y="0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13"/>
                      </a:lnTo>
                      <a:lnTo>
                        <a:pt x="2" y="19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5619600" y="2476440"/>
                  <a:ext cx="11160" cy="85680"/>
                </a:xfrm>
                <a:custGeom>
                  <a:avLst/>
                  <a:gdLst/>
                  <a:ahLst/>
                  <a:rect l="l" t="t" r="r" b="b"/>
                  <a:pathLst>
                    <a:path w="217" h="1627">
                      <a:moveTo>
                        <a:pt x="162" y="0"/>
                      </a:moveTo>
                      <a:lnTo>
                        <a:pt x="145" y="27"/>
                      </a:lnTo>
                      <a:lnTo>
                        <a:pt x="0" y="1620"/>
                      </a:lnTo>
                      <a:lnTo>
                        <a:pt x="72" y="1627"/>
                      </a:lnTo>
                      <a:lnTo>
                        <a:pt x="217" y="33"/>
                      </a:lnTo>
                      <a:lnTo>
                        <a:pt x="162" y="0"/>
                      </a:lnTo>
                      <a:lnTo>
                        <a:pt x="162" y="0"/>
                      </a:lnTo>
                      <a:lnTo>
                        <a:pt x="146" y="10"/>
                      </a:lnTo>
                      <a:lnTo>
                        <a:pt x="145" y="27"/>
                      </a:lnTo>
                      <a:lnTo>
                        <a:pt x="162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5627520" y="2441520"/>
                  <a:ext cx="55800" cy="38160"/>
                </a:xfrm>
                <a:custGeom>
                  <a:avLst/>
                  <a:gdLst/>
                  <a:ahLst/>
                  <a:rect l="l" t="t" r="r" b="b"/>
                  <a:pathLst>
                    <a:path w="1054" h="721">
                      <a:moveTo>
                        <a:pt x="1042" y="3"/>
                      </a:moveTo>
                      <a:lnTo>
                        <a:pt x="1015" y="8"/>
                      </a:lnTo>
                      <a:lnTo>
                        <a:pt x="0" y="660"/>
                      </a:lnTo>
                      <a:lnTo>
                        <a:pt x="39" y="721"/>
                      </a:lnTo>
                      <a:lnTo>
                        <a:pt x="1054" y="69"/>
                      </a:lnTo>
                      <a:lnTo>
                        <a:pt x="1042" y="3"/>
                      </a:lnTo>
                      <a:lnTo>
                        <a:pt x="1042" y="3"/>
                      </a:lnTo>
                      <a:lnTo>
                        <a:pt x="1027" y="0"/>
                      </a:lnTo>
                      <a:lnTo>
                        <a:pt x="1015" y="8"/>
                      </a:lnTo>
                      <a:lnTo>
                        <a:pt x="1042" y="3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>
                  <a:off x="5683320" y="2441520"/>
                  <a:ext cx="34920" cy="11160"/>
                </a:xfrm>
                <a:custGeom>
                  <a:avLst/>
                  <a:gdLst/>
                  <a:ahLst/>
                  <a:rect l="l" t="t" r="r" b="b"/>
                  <a:pathLst>
                    <a:path w="671" h="215">
                      <a:moveTo>
                        <a:pt x="671" y="145"/>
                      </a:moveTo>
                      <a:lnTo>
                        <a:pt x="669" y="145"/>
                      </a:lnTo>
                      <a:lnTo>
                        <a:pt x="16" y="0"/>
                      </a:lnTo>
                      <a:lnTo>
                        <a:pt x="0" y="70"/>
                      </a:lnTo>
                      <a:lnTo>
                        <a:pt x="653" y="215"/>
                      </a:lnTo>
                      <a:lnTo>
                        <a:pt x="671" y="145"/>
                      </a:lnTo>
                      <a:lnTo>
                        <a:pt x="671" y="145"/>
                      </a:lnTo>
                      <a:lnTo>
                        <a:pt x="670" y="145"/>
                      </a:lnTo>
                      <a:lnTo>
                        <a:pt x="669" y="145"/>
                      </a:lnTo>
                      <a:lnTo>
                        <a:pt x="671" y="145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5716440" y="2449440"/>
                  <a:ext cx="44640" cy="14400"/>
                </a:xfrm>
                <a:custGeom>
                  <a:avLst/>
                  <a:gdLst/>
                  <a:ahLst/>
                  <a:rect l="l" t="t" r="r" b="b"/>
                  <a:pathLst>
                    <a:path w="843" h="287">
                      <a:moveTo>
                        <a:pt x="843" y="252"/>
                      </a:moveTo>
                      <a:lnTo>
                        <a:pt x="817" y="218"/>
                      </a:lnTo>
                      <a:lnTo>
                        <a:pt x="20" y="0"/>
                      </a:lnTo>
                      <a:lnTo>
                        <a:pt x="0" y="70"/>
                      </a:lnTo>
                      <a:lnTo>
                        <a:pt x="798" y="287"/>
                      </a:lnTo>
                      <a:lnTo>
                        <a:pt x="843" y="252"/>
                      </a:lnTo>
                      <a:lnTo>
                        <a:pt x="843" y="252"/>
                      </a:lnTo>
                      <a:lnTo>
                        <a:pt x="843" y="225"/>
                      </a:lnTo>
                      <a:lnTo>
                        <a:pt x="817" y="218"/>
                      </a:lnTo>
                      <a:lnTo>
                        <a:pt x="843" y="25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5757840" y="2462040"/>
                  <a:ext cx="3240" cy="136800"/>
                </a:xfrm>
                <a:custGeom>
                  <a:avLst/>
                  <a:gdLst/>
                  <a:ahLst/>
                  <a:rect l="l" t="t" r="r" b="b"/>
                  <a:pathLst>
                    <a:path w="72" h="2589">
                      <a:moveTo>
                        <a:pt x="39" y="2589"/>
                      </a:moveTo>
                      <a:lnTo>
                        <a:pt x="72" y="2554"/>
                      </a:lnTo>
                      <a:lnTo>
                        <a:pt x="72" y="0"/>
                      </a:lnTo>
                      <a:lnTo>
                        <a:pt x="0" y="0"/>
                      </a:lnTo>
                      <a:lnTo>
                        <a:pt x="0" y="2554"/>
                      </a:lnTo>
                      <a:lnTo>
                        <a:pt x="39" y="2589"/>
                      </a:lnTo>
                      <a:lnTo>
                        <a:pt x="39" y="2589"/>
                      </a:lnTo>
                      <a:lnTo>
                        <a:pt x="72" y="2587"/>
                      </a:lnTo>
                      <a:lnTo>
                        <a:pt x="72" y="2554"/>
                      </a:lnTo>
                      <a:lnTo>
                        <a:pt x="39" y="258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5734080" y="259560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477" h="108">
                      <a:moveTo>
                        <a:pt x="0" y="36"/>
                      </a:moveTo>
                      <a:lnTo>
                        <a:pt x="6" y="108"/>
                      </a:lnTo>
                      <a:lnTo>
                        <a:pt x="477" y="71"/>
                      </a:lnTo>
                      <a:lnTo>
                        <a:pt x="472" y="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5702400" y="2597040"/>
                  <a:ext cx="33120" cy="6480"/>
                </a:xfrm>
                <a:custGeom>
                  <a:avLst/>
                  <a:gdLst/>
                  <a:ahLst/>
                  <a:rect l="l" t="t" r="r" b="b"/>
                  <a:pathLst>
                    <a:path w="621" h="127">
                      <a:moveTo>
                        <a:pt x="1" y="92"/>
                      </a:moveTo>
                      <a:lnTo>
                        <a:pt x="41" y="127"/>
                      </a:lnTo>
                      <a:lnTo>
                        <a:pt x="621" y="72"/>
                      </a:lnTo>
                      <a:lnTo>
                        <a:pt x="615" y="0"/>
                      </a:lnTo>
                      <a:lnTo>
                        <a:pt x="35" y="55"/>
                      </a:lnTo>
                      <a:lnTo>
                        <a:pt x="1" y="92"/>
                      </a:lnTo>
                      <a:lnTo>
                        <a:pt x="35" y="55"/>
                      </a:lnTo>
                      <a:lnTo>
                        <a:pt x="0" y="58"/>
                      </a:lnTo>
                      <a:lnTo>
                        <a:pt x="1" y="9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5702400" y="2602080"/>
                  <a:ext cx="4680" cy="41040"/>
                </a:xfrm>
                <a:custGeom>
                  <a:avLst/>
                  <a:gdLst/>
                  <a:ahLst/>
                  <a:rect l="l" t="t" r="r" b="b"/>
                  <a:pathLst>
                    <a:path w="109" h="792">
                      <a:moveTo>
                        <a:pt x="51" y="792"/>
                      </a:moveTo>
                      <a:lnTo>
                        <a:pt x="109" y="761"/>
                      </a:lnTo>
                      <a:lnTo>
                        <a:pt x="73" y="0"/>
                      </a:lnTo>
                      <a:lnTo>
                        <a:pt x="0" y="4"/>
                      </a:lnTo>
                      <a:lnTo>
                        <a:pt x="37" y="764"/>
                      </a:lnTo>
                      <a:lnTo>
                        <a:pt x="51" y="792"/>
                      </a:lnTo>
                      <a:lnTo>
                        <a:pt x="37" y="764"/>
                      </a:lnTo>
                      <a:lnTo>
                        <a:pt x="38" y="781"/>
                      </a:lnTo>
                      <a:lnTo>
                        <a:pt x="51" y="79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5705640" y="2639880"/>
                  <a:ext cx="48960" cy="38160"/>
                </a:xfrm>
                <a:custGeom>
                  <a:avLst/>
                  <a:gdLst/>
                  <a:ahLst/>
                  <a:rect l="l" t="t" r="r" b="b"/>
                  <a:pathLst>
                    <a:path w="936" h="709">
                      <a:moveTo>
                        <a:pt x="925" y="695"/>
                      </a:moveTo>
                      <a:lnTo>
                        <a:pt x="914" y="652"/>
                      </a:lnTo>
                      <a:lnTo>
                        <a:pt x="44" y="0"/>
                      </a:lnTo>
                      <a:lnTo>
                        <a:pt x="0" y="58"/>
                      </a:lnTo>
                      <a:lnTo>
                        <a:pt x="870" y="709"/>
                      </a:lnTo>
                      <a:lnTo>
                        <a:pt x="925" y="695"/>
                      </a:lnTo>
                      <a:lnTo>
                        <a:pt x="925" y="695"/>
                      </a:lnTo>
                      <a:lnTo>
                        <a:pt x="936" y="669"/>
                      </a:lnTo>
                      <a:lnTo>
                        <a:pt x="914" y="652"/>
                      </a:lnTo>
                      <a:lnTo>
                        <a:pt x="925" y="695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5730840" y="2676600"/>
                  <a:ext cx="22320" cy="47520"/>
                </a:xfrm>
                <a:custGeom>
                  <a:avLst/>
                  <a:gdLst/>
                  <a:ahLst/>
                  <a:rect l="l" t="t" r="r" b="b"/>
                  <a:pathLst>
                    <a:path w="429" h="915">
                      <a:moveTo>
                        <a:pt x="52" y="915"/>
                      </a:moveTo>
                      <a:lnTo>
                        <a:pt x="67" y="896"/>
                      </a:lnTo>
                      <a:lnTo>
                        <a:pt x="429" y="28"/>
                      </a:lnTo>
                      <a:lnTo>
                        <a:pt x="363" y="0"/>
                      </a:lnTo>
                      <a:lnTo>
                        <a:pt x="0" y="869"/>
                      </a:lnTo>
                      <a:lnTo>
                        <a:pt x="52" y="915"/>
                      </a:lnTo>
                      <a:lnTo>
                        <a:pt x="52" y="915"/>
                      </a:lnTo>
                      <a:lnTo>
                        <a:pt x="62" y="908"/>
                      </a:lnTo>
                      <a:lnTo>
                        <a:pt x="67" y="896"/>
                      </a:lnTo>
                      <a:lnTo>
                        <a:pt x="52" y="915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>
                  <a:off x="5665680" y="2720880"/>
                  <a:ext cx="68400" cy="42840"/>
                </a:xfrm>
                <a:custGeom>
                  <a:avLst/>
                  <a:gdLst/>
                  <a:ahLst/>
                  <a:rect l="l" t="t" r="r" b="b"/>
                  <a:pathLst>
                    <a:path w="1282" h="805">
                      <a:moveTo>
                        <a:pt x="0" y="773"/>
                      </a:moveTo>
                      <a:lnTo>
                        <a:pt x="49" y="786"/>
                      </a:lnTo>
                      <a:lnTo>
                        <a:pt x="1282" y="63"/>
                      </a:lnTo>
                      <a:lnTo>
                        <a:pt x="1245" y="0"/>
                      </a:lnTo>
                      <a:lnTo>
                        <a:pt x="13" y="724"/>
                      </a:lnTo>
                      <a:lnTo>
                        <a:pt x="0" y="773"/>
                      </a:lnTo>
                      <a:lnTo>
                        <a:pt x="0" y="773"/>
                      </a:lnTo>
                      <a:lnTo>
                        <a:pt x="18" y="805"/>
                      </a:lnTo>
                      <a:lnTo>
                        <a:pt x="49" y="786"/>
                      </a:lnTo>
                      <a:lnTo>
                        <a:pt x="0" y="773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>
                  <a:off x="5614920" y="2671920"/>
                  <a:ext cx="54000" cy="90360"/>
                </a:xfrm>
                <a:custGeom>
                  <a:avLst/>
                  <a:gdLst/>
                  <a:ahLst/>
                  <a:rect l="l" t="t" r="r" b="b"/>
                  <a:pathLst>
                    <a:path w="1016" h="1701">
                      <a:moveTo>
                        <a:pt x="10" y="0"/>
                      </a:moveTo>
                      <a:lnTo>
                        <a:pt x="10" y="35"/>
                      </a:lnTo>
                      <a:lnTo>
                        <a:pt x="953" y="1701"/>
                      </a:lnTo>
                      <a:lnTo>
                        <a:pt x="1016" y="1665"/>
                      </a:lnTo>
                      <a:lnTo>
                        <a:pt x="73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18"/>
                      </a:lnTo>
                      <a:lnTo>
                        <a:pt x="10" y="3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5699160" y="2557440"/>
                  <a:ext cx="31680" cy="19080"/>
                </a:xfrm>
                <a:custGeom>
                  <a:avLst/>
                  <a:gdLst/>
                  <a:ahLst/>
                  <a:rect l="l" t="t" r="r" b="b"/>
                  <a:pathLst>
                    <a:path w="598" h="383">
                      <a:moveTo>
                        <a:pt x="0" y="87"/>
                      </a:moveTo>
                      <a:lnTo>
                        <a:pt x="272" y="36"/>
                      </a:lnTo>
                      <a:lnTo>
                        <a:pt x="366" y="68"/>
                      </a:lnTo>
                      <a:lnTo>
                        <a:pt x="458" y="42"/>
                      </a:lnTo>
                      <a:lnTo>
                        <a:pt x="598" y="0"/>
                      </a:lnTo>
                      <a:lnTo>
                        <a:pt x="559" y="152"/>
                      </a:lnTo>
                      <a:lnTo>
                        <a:pt x="430" y="272"/>
                      </a:lnTo>
                      <a:lnTo>
                        <a:pt x="270" y="383"/>
                      </a:lnTo>
                      <a:lnTo>
                        <a:pt x="259" y="242"/>
                      </a:lnTo>
                      <a:lnTo>
                        <a:pt x="166" y="186"/>
                      </a:lnTo>
                      <a:lnTo>
                        <a:pt x="407" y="237"/>
                      </a:lnTo>
                      <a:lnTo>
                        <a:pt x="446" y="177"/>
                      </a:lnTo>
                      <a:lnTo>
                        <a:pt x="423" y="119"/>
                      </a:lnTo>
                      <a:lnTo>
                        <a:pt x="271" y="119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5564160" y="2413080"/>
                  <a:ext cx="214200" cy="214200"/>
                </a:xfrm>
                <a:custGeom>
                  <a:avLst/>
                  <a:gdLst/>
                  <a:ahLst/>
                  <a:rect l="l" t="t" r="r" b="b"/>
                  <a:pathLst>
                    <a:path w="4061" h="4056">
                      <a:moveTo>
                        <a:pt x="1596" y="72"/>
                      </a:moveTo>
                      <a:lnTo>
                        <a:pt x="581" y="580"/>
                      </a:lnTo>
                      <a:lnTo>
                        <a:pt x="291" y="1086"/>
                      </a:lnTo>
                      <a:lnTo>
                        <a:pt x="145" y="1956"/>
                      </a:lnTo>
                      <a:lnTo>
                        <a:pt x="0" y="2680"/>
                      </a:lnTo>
                      <a:lnTo>
                        <a:pt x="0" y="3332"/>
                      </a:lnTo>
                      <a:lnTo>
                        <a:pt x="509" y="4056"/>
                      </a:lnTo>
                      <a:lnTo>
                        <a:pt x="1596" y="4056"/>
                      </a:lnTo>
                      <a:lnTo>
                        <a:pt x="2030" y="3767"/>
                      </a:lnTo>
                      <a:lnTo>
                        <a:pt x="1885" y="3115"/>
                      </a:lnTo>
                      <a:lnTo>
                        <a:pt x="1813" y="2390"/>
                      </a:lnTo>
                      <a:lnTo>
                        <a:pt x="1741" y="1738"/>
                      </a:lnTo>
                      <a:lnTo>
                        <a:pt x="1958" y="1304"/>
                      </a:lnTo>
                      <a:lnTo>
                        <a:pt x="2393" y="870"/>
                      </a:lnTo>
                      <a:lnTo>
                        <a:pt x="2320" y="1376"/>
                      </a:lnTo>
                      <a:lnTo>
                        <a:pt x="2755" y="941"/>
                      </a:lnTo>
                      <a:lnTo>
                        <a:pt x="3264" y="1014"/>
                      </a:lnTo>
                      <a:lnTo>
                        <a:pt x="3409" y="1304"/>
                      </a:lnTo>
                      <a:lnTo>
                        <a:pt x="3336" y="1811"/>
                      </a:lnTo>
                      <a:lnTo>
                        <a:pt x="3444" y="2299"/>
                      </a:lnTo>
                      <a:lnTo>
                        <a:pt x="3400" y="2699"/>
                      </a:lnTo>
                      <a:lnTo>
                        <a:pt x="3299" y="3205"/>
                      </a:lnTo>
                      <a:lnTo>
                        <a:pt x="3119" y="3477"/>
                      </a:lnTo>
                      <a:lnTo>
                        <a:pt x="2538" y="3549"/>
                      </a:lnTo>
                      <a:lnTo>
                        <a:pt x="2683" y="3838"/>
                      </a:lnTo>
                      <a:lnTo>
                        <a:pt x="3698" y="3838"/>
                      </a:lnTo>
                      <a:lnTo>
                        <a:pt x="4061" y="3115"/>
                      </a:lnTo>
                      <a:lnTo>
                        <a:pt x="3843" y="2318"/>
                      </a:lnTo>
                      <a:lnTo>
                        <a:pt x="3916" y="1593"/>
                      </a:lnTo>
                      <a:lnTo>
                        <a:pt x="3698" y="870"/>
                      </a:lnTo>
                      <a:lnTo>
                        <a:pt x="3264" y="217"/>
                      </a:lnTo>
                      <a:lnTo>
                        <a:pt x="2610" y="0"/>
                      </a:lnTo>
                      <a:lnTo>
                        <a:pt x="1596" y="72"/>
                      </a:lnTo>
                      <a:close/>
                    </a:path>
                  </a:pathLst>
                </a:custGeom>
                <a:solidFill>
                  <a:srgbClr val="925f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>
                  <a:off x="5592600" y="2414520"/>
                  <a:ext cx="57240" cy="30240"/>
                </a:xfrm>
                <a:custGeom>
                  <a:avLst/>
                  <a:gdLst/>
                  <a:ahLst/>
                  <a:rect l="l" t="t" r="r" b="b"/>
                  <a:pathLst>
                    <a:path w="1063" h="572">
                      <a:moveTo>
                        <a:pt x="0" y="521"/>
                      </a:moveTo>
                      <a:lnTo>
                        <a:pt x="48" y="572"/>
                      </a:lnTo>
                      <a:lnTo>
                        <a:pt x="1063" y="64"/>
                      </a:lnTo>
                      <a:lnTo>
                        <a:pt x="1031" y="0"/>
                      </a:lnTo>
                      <a:lnTo>
                        <a:pt x="15" y="507"/>
                      </a:lnTo>
                      <a:lnTo>
                        <a:pt x="0" y="521"/>
                      </a:lnTo>
                      <a:lnTo>
                        <a:pt x="15" y="507"/>
                      </a:lnTo>
                      <a:lnTo>
                        <a:pt x="5" y="512"/>
                      </a:lnTo>
                      <a:lnTo>
                        <a:pt x="0" y="52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>
                  <a:off x="5576760" y="2441520"/>
                  <a:ext cx="19080" cy="28800"/>
                </a:xfrm>
                <a:custGeom>
                  <a:avLst/>
                  <a:gdLst/>
                  <a:ahLst/>
                  <a:rect l="l" t="t" r="r" b="b"/>
                  <a:pathLst>
                    <a:path w="357" h="544">
                      <a:moveTo>
                        <a:pt x="0" y="519"/>
                      </a:moveTo>
                      <a:lnTo>
                        <a:pt x="67" y="544"/>
                      </a:lnTo>
                      <a:lnTo>
                        <a:pt x="357" y="36"/>
                      </a:lnTo>
                      <a:lnTo>
                        <a:pt x="294" y="0"/>
                      </a:lnTo>
                      <a:lnTo>
                        <a:pt x="4" y="507"/>
                      </a:lnTo>
                      <a:lnTo>
                        <a:pt x="0" y="519"/>
                      </a:lnTo>
                      <a:lnTo>
                        <a:pt x="4" y="507"/>
                      </a:lnTo>
                      <a:lnTo>
                        <a:pt x="1" y="513"/>
                      </a:lnTo>
                      <a:lnTo>
                        <a:pt x="0" y="51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>
                  <a:off x="5570640" y="2470320"/>
                  <a:ext cx="11160" cy="45720"/>
                </a:xfrm>
                <a:custGeom>
                  <a:avLst/>
                  <a:gdLst/>
                  <a:ahLst/>
                  <a:rect l="l" t="t" r="r" b="b"/>
                  <a:pathLst>
                    <a:path w="216" h="883">
                      <a:moveTo>
                        <a:pt x="71" y="883"/>
                      </a:moveTo>
                      <a:lnTo>
                        <a:pt x="71" y="882"/>
                      </a:lnTo>
                      <a:lnTo>
                        <a:pt x="216" y="12"/>
                      </a:lnTo>
                      <a:lnTo>
                        <a:pt x="145" y="0"/>
                      </a:lnTo>
                      <a:lnTo>
                        <a:pt x="0" y="870"/>
                      </a:lnTo>
                      <a:lnTo>
                        <a:pt x="71" y="883"/>
                      </a:lnTo>
                      <a:lnTo>
                        <a:pt x="71" y="883"/>
                      </a:lnTo>
                      <a:lnTo>
                        <a:pt x="71" y="882"/>
                      </a:lnTo>
                      <a:lnTo>
                        <a:pt x="71" y="882"/>
                      </a:lnTo>
                      <a:lnTo>
                        <a:pt x="71" y="883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>
                  <a:off x="5562720" y="2516040"/>
                  <a:ext cx="11160" cy="38160"/>
                </a:xfrm>
                <a:custGeom>
                  <a:avLst/>
                  <a:gdLst/>
                  <a:ahLst/>
                  <a:rect l="l" t="t" r="r" b="b"/>
                  <a:pathLst>
                    <a:path w="217" h="738">
                      <a:moveTo>
                        <a:pt x="0" y="731"/>
                      </a:moveTo>
                      <a:lnTo>
                        <a:pt x="72" y="738"/>
                      </a:lnTo>
                      <a:lnTo>
                        <a:pt x="217" y="14"/>
                      </a:lnTo>
                      <a:lnTo>
                        <a:pt x="146" y="0"/>
                      </a:lnTo>
                      <a:lnTo>
                        <a:pt x="1" y="724"/>
                      </a:lnTo>
                      <a:lnTo>
                        <a:pt x="0" y="731"/>
                      </a:lnTo>
                      <a:lnTo>
                        <a:pt x="1" y="724"/>
                      </a:lnTo>
                      <a:lnTo>
                        <a:pt x="0" y="727"/>
                      </a:lnTo>
                      <a:lnTo>
                        <a:pt x="0" y="73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>
                  <a:off x="5562720" y="2554200"/>
                  <a:ext cx="2880" cy="34920"/>
                </a:xfrm>
                <a:custGeom>
                  <a:avLst/>
                  <a:gdLst/>
                  <a:ahLst/>
                  <a:rect l="l" t="t" r="r" b="b"/>
                  <a:pathLst>
                    <a:path w="73" h="672">
                      <a:moveTo>
                        <a:pt x="7" y="672"/>
                      </a:moveTo>
                      <a:lnTo>
                        <a:pt x="73" y="652"/>
                      </a:lnTo>
                      <a:lnTo>
                        <a:pt x="73" y="0"/>
                      </a:lnTo>
                      <a:lnTo>
                        <a:pt x="0" y="0"/>
                      </a:lnTo>
                      <a:lnTo>
                        <a:pt x="0" y="652"/>
                      </a:lnTo>
                      <a:lnTo>
                        <a:pt x="7" y="672"/>
                      </a:lnTo>
                      <a:lnTo>
                        <a:pt x="0" y="652"/>
                      </a:lnTo>
                      <a:lnTo>
                        <a:pt x="0" y="663"/>
                      </a:lnTo>
                      <a:lnTo>
                        <a:pt x="7" y="67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>
                  <a:off x="5562720" y="2587680"/>
                  <a:ext cx="29880" cy="41400"/>
                </a:xfrm>
                <a:custGeom>
                  <a:avLst/>
                  <a:gdLst/>
                  <a:ahLst/>
                  <a:rect l="l" t="t" r="r" b="b"/>
                  <a:pathLst>
                    <a:path w="567" h="780">
                      <a:moveTo>
                        <a:pt x="538" y="780"/>
                      </a:moveTo>
                      <a:lnTo>
                        <a:pt x="567" y="723"/>
                      </a:lnTo>
                      <a:lnTo>
                        <a:pt x="59" y="0"/>
                      </a:lnTo>
                      <a:lnTo>
                        <a:pt x="0" y="40"/>
                      </a:lnTo>
                      <a:lnTo>
                        <a:pt x="507" y="765"/>
                      </a:lnTo>
                      <a:lnTo>
                        <a:pt x="538" y="780"/>
                      </a:lnTo>
                      <a:lnTo>
                        <a:pt x="507" y="765"/>
                      </a:lnTo>
                      <a:lnTo>
                        <a:pt x="518" y="780"/>
                      </a:lnTo>
                      <a:lnTo>
                        <a:pt x="538" y="78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5591160" y="2625840"/>
                  <a:ext cx="58680" cy="3240"/>
                </a:xfrm>
                <a:custGeom>
                  <a:avLst/>
                  <a:gdLst/>
                  <a:ahLst/>
                  <a:rect l="l" t="t" r="r" b="b"/>
                  <a:pathLst>
                    <a:path w="1107" h="72">
                      <a:moveTo>
                        <a:pt x="1107" y="66"/>
                      </a:moveTo>
                      <a:lnTo>
                        <a:pt x="1087" y="0"/>
                      </a:ln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1087" y="72"/>
                      </a:lnTo>
                      <a:lnTo>
                        <a:pt x="1107" y="66"/>
                      </a:lnTo>
                      <a:lnTo>
                        <a:pt x="1087" y="72"/>
                      </a:lnTo>
                      <a:lnTo>
                        <a:pt x="1097" y="72"/>
                      </a:lnTo>
                      <a:lnTo>
                        <a:pt x="1107" y="6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5646600" y="2610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496" h="350">
                      <a:moveTo>
                        <a:pt x="490" y="22"/>
                      </a:moveTo>
                      <a:lnTo>
                        <a:pt x="435" y="0"/>
                      </a:lnTo>
                      <a:lnTo>
                        <a:pt x="0" y="290"/>
                      </a:lnTo>
                      <a:lnTo>
                        <a:pt x="40" y="350"/>
                      </a:lnTo>
                      <a:lnTo>
                        <a:pt x="474" y="60"/>
                      </a:lnTo>
                      <a:lnTo>
                        <a:pt x="490" y="22"/>
                      </a:lnTo>
                      <a:lnTo>
                        <a:pt x="474" y="60"/>
                      </a:lnTo>
                      <a:lnTo>
                        <a:pt x="496" y="47"/>
                      </a:lnTo>
                      <a:lnTo>
                        <a:pt x="490" y="2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3" name=""/>
                <p:cNvSpPr/>
                <p:nvPr/>
              </p:nvSpPr>
              <p:spPr>
                <a:xfrm>
                  <a:off x="5662440" y="2576520"/>
                  <a:ext cx="11160" cy="34920"/>
                </a:xfrm>
                <a:custGeom>
                  <a:avLst/>
                  <a:gdLst/>
                  <a:ahLst/>
                  <a:rect l="l" t="t" r="r" b="b"/>
                  <a:pathLst>
                    <a:path w="216" h="668">
                      <a:moveTo>
                        <a:pt x="0" y="11"/>
                      </a:moveTo>
                      <a:lnTo>
                        <a:pt x="1" y="15"/>
                      </a:lnTo>
                      <a:lnTo>
                        <a:pt x="146" y="668"/>
                      </a:lnTo>
                      <a:lnTo>
                        <a:pt x="216" y="651"/>
                      </a:lnTo>
                      <a:lnTo>
                        <a:pt x="71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>
                  <a:off x="5657760" y="25383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44" h="732">
                      <a:moveTo>
                        <a:pt x="71" y="0"/>
                      </a:moveTo>
                      <a:lnTo>
                        <a:pt x="0" y="8"/>
                      </a:lnTo>
                      <a:lnTo>
                        <a:pt x="72" y="732"/>
                      </a:lnTo>
                      <a:lnTo>
                        <a:pt x="144" y="725"/>
                      </a:lnTo>
                      <a:lnTo>
                        <a:pt x="71" y="0"/>
                      </a:lnTo>
                      <a:lnTo>
                        <a:pt x="71" y="0"/>
                      </a:lnTo>
                      <a:lnTo>
                        <a:pt x="71" y="0"/>
                      </a:lnTo>
                      <a:lnTo>
                        <a:pt x="71" y="0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>
                  <a:off x="5654520" y="2503440"/>
                  <a:ext cx="6480" cy="34920"/>
                </a:xfrm>
                <a:custGeom>
                  <a:avLst/>
                  <a:gdLst/>
                  <a:ahLst/>
                  <a:rect l="l" t="t" r="r" b="b"/>
                  <a:pathLst>
                    <a:path w="145" h="673">
                      <a:moveTo>
                        <a:pt x="5" y="0"/>
                      </a:moveTo>
                      <a:lnTo>
                        <a:pt x="1" y="20"/>
                      </a:lnTo>
                      <a:lnTo>
                        <a:pt x="74" y="673"/>
                      </a:lnTo>
                      <a:lnTo>
                        <a:pt x="145" y="664"/>
                      </a:lnTo>
                      <a:lnTo>
                        <a:pt x="73" y="1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" y="2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5654520" y="2479680"/>
                  <a:ext cx="14400" cy="25560"/>
                </a:xfrm>
                <a:custGeom>
                  <a:avLst/>
                  <a:gdLst/>
                  <a:ahLst/>
                  <a:rect l="l" t="t" r="r" b="b"/>
                  <a:pathLst>
                    <a:path w="282" h="476">
                      <a:moveTo>
                        <a:pt x="224" y="0"/>
                      </a:moveTo>
                      <a:lnTo>
                        <a:pt x="217" y="10"/>
                      </a:lnTo>
                      <a:lnTo>
                        <a:pt x="0" y="444"/>
                      </a:lnTo>
                      <a:lnTo>
                        <a:pt x="65" y="476"/>
                      </a:lnTo>
                      <a:lnTo>
                        <a:pt x="282" y="41"/>
                      </a:lnTo>
                      <a:lnTo>
                        <a:pt x="224" y="0"/>
                      </a:lnTo>
                      <a:lnTo>
                        <a:pt x="224" y="0"/>
                      </a:lnTo>
                      <a:lnTo>
                        <a:pt x="220" y="4"/>
                      </a:lnTo>
                      <a:lnTo>
                        <a:pt x="217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>
                  <a:off x="5665680" y="245268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511" h="563">
                      <a:moveTo>
                        <a:pt x="496" y="108"/>
                      </a:moveTo>
                      <a:lnTo>
                        <a:pt x="435" y="76"/>
                      </a:lnTo>
                      <a:lnTo>
                        <a:pt x="0" y="511"/>
                      </a:lnTo>
                      <a:lnTo>
                        <a:pt x="51" y="563"/>
                      </a:lnTo>
                      <a:lnTo>
                        <a:pt x="486" y="128"/>
                      </a:lnTo>
                      <a:lnTo>
                        <a:pt x="496" y="108"/>
                      </a:lnTo>
                      <a:lnTo>
                        <a:pt x="496" y="108"/>
                      </a:lnTo>
                      <a:lnTo>
                        <a:pt x="511" y="0"/>
                      </a:lnTo>
                      <a:lnTo>
                        <a:pt x="435" y="76"/>
                      </a:lnTo>
                      <a:lnTo>
                        <a:pt x="496" y="108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>
                  <a:off x="5684760" y="2457360"/>
                  <a:ext cx="7920" cy="33480"/>
                </a:xfrm>
                <a:custGeom>
                  <a:avLst/>
                  <a:gdLst/>
                  <a:ahLst/>
                  <a:rect l="l" t="t" r="r" b="b"/>
                  <a:pathLst>
                    <a:path w="158" h="614">
                      <a:moveTo>
                        <a:pt x="76" y="538"/>
                      </a:moveTo>
                      <a:lnTo>
                        <a:pt x="86" y="517"/>
                      </a:lnTo>
                      <a:lnTo>
                        <a:pt x="158" y="11"/>
                      </a:lnTo>
                      <a:lnTo>
                        <a:pt x="87" y="0"/>
                      </a:lnTo>
                      <a:lnTo>
                        <a:pt x="14" y="507"/>
                      </a:lnTo>
                      <a:lnTo>
                        <a:pt x="76" y="538"/>
                      </a:lnTo>
                      <a:lnTo>
                        <a:pt x="14" y="507"/>
                      </a:lnTo>
                      <a:lnTo>
                        <a:pt x="0" y="614"/>
                      </a:lnTo>
                      <a:lnTo>
                        <a:pt x="76" y="538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>
                  <a:off x="5684760" y="2460600"/>
                  <a:ext cx="27000" cy="25560"/>
                </a:xfrm>
                <a:custGeom>
                  <a:avLst/>
                  <a:gdLst/>
                  <a:ahLst/>
                  <a:rect l="l" t="t" r="r" b="b"/>
                  <a:pathLst>
                    <a:path w="487" h="499">
                      <a:moveTo>
                        <a:pt x="466" y="3"/>
                      </a:moveTo>
                      <a:lnTo>
                        <a:pt x="435" y="13"/>
                      </a:lnTo>
                      <a:lnTo>
                        <a:pt x="0" y="448"/>
                      </a:lnTo>
                      <a:lnTo>
                        <a:pt x="52" y="499"/>
                      </a:lnTo>
                      <a:lnTo>
                        <a:pt x="487" y="64"/>
                      </a:lnTo>
                      <a:lnTo>
                        <a:pt x="466" y="3"/>
                      </a:lnTo>
                      <a:lnTo>
                        <a:pt x="466" y="3"/>
                      </a:lnTo>
                      <a:lnTo>
                        <a:pt x="448" y="0"/>
                      </a:lnTo>
                      <a:lnTo>
                        <a:pt x="435" y="13"/>
                      </a:lnTo>
                      <a:lnTo>
                        <a:pt x="466" y="3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>
                  <a:off x="5710320" y="2460600"/>
                  <a:ext cx="28440" cy="7920"/>
                </a:xfrm>
                <a:custGeom>
                  <a:avLst/>
                  <a:gdLst/>
                  <a:ahLst/>
                  <a:rect l="l" t="t" r="r" b="b"/>
                  <a:pathLst>
                    <a:path w="545" h="144">
                      <a:moveTo>
                        <a:pt x="545" y="92"/>
                      </a:moveTo>
                      <a:lnTo>
                        <a:pt x="519" y="72"/>
                      </a:lnTo>
                      <a:lnTo>
                        <a:pt x="11" y="0"/>
                      </a:lnTo>
                      <a:lnTo>
                        <a:pt x="0" y="71"/>
                      </a:lnTo>
                      <a:lnTo>
                        <a:pt x="509" y="144"/>
                      </a:lnTo>
                      <a:lnTo>
                        <a:pt x="545" y="92"/>
                      </a:lnTo>
                      <a:lnTo>
                        <a:pt x="545" y="92"/>
                      </a:lnTo>
                      <a:lnTo>
                        <a:pt x="537" y="75"/>
                      </a:lnTo>
                      <a:lnTo>
                        <a:pt x="519" y="72"/>
                      </a:lnTo>
                      <a:lnTo>
                        <a:pt x="545" y="9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>
                  <a:off x="5735520" y="2465280"/>
                  <a:ext cx="11160" cy="17640"/>
                </a:xfrm>
                <a:custGeom>
                  <a:avLst/>
                  <a:gdLst/>
                  <a:ahLst/>
                  <a:rect l="l" t="t" r="r" b="b"/>
                  <a:pathLst>
                    <a:path w="214" h="321">
                      <a:moveTo>
                        <a:pt x="213" y="311"/>
                      </a:moveTo>
                      <a:lnTo>
                        <a:pt x="209" y="290"/>
                      </a:lnTo>
                      <a:lnTo>
                        <a:pt x="64" y="0"/>
                      </a:lnTo>
                      <a:lnTo>
                        <a:pt x="0" y="33"/>
                      </a:lnTo>
                      <a:lnTo>
                        <a:pt x="145" y="321"/>
                      </a:lnTo>
                      <a:lnTo>
                        <a:pt x="213" y="311"/>
                      </a:lnTo>
                      <a:lnTo>
                        <a:pt x="213" y="311"/>
                      </a:lnTo>
                      <a:lnTo>
                        <a:pt x="214" y="300"/>
                      </a:lnTo>
                      <a:lnTo>
                        <a:pt x="209" y="290"/>
                      </a:lnTo>
                      <a:lnTo>
                        <a:pt x="213" y="31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2" name=""/>
                <p:cNvSpPr/>
                <p:nvPr/>
              </p:nvSpPr>
              <p:spPr>
                <a:xfrm>
                  <a:off x="5738760" y="2481120"/>
                  <a:ext cx="7920" cy="27000"/>
                </a:xfrm>
                <a:custGeom>
                  <a:avLst/>
                  <a:gdLst/>
                  <a:ahLst/>
                  <a:rect l="l" t="t" r="r" b="b"/>
                  <a:pathLst>
                    <a:path w="145" h="521">
                      <a:moveTo>
                        <a:pt x="1" y="521"/>
                      </a:moveTo>
                      <a:lnTo>
                        <a:pt x="72" y="518"/>
                      </a:lnTo>
                      <a:lnTo>
                        <a:pt x="145" y="11"/>
                      </a:lnTo>
                      <a:lnTo>
                        <a:pt x="73" y="0"/>
                      </a:lnTo>
                      <a:lnTo>
                        <a:pt x="1" y="508"/>
                      </a:lnTo>
                      <a:lnTo>
                        <a:pt x="1" y="521"/>
                      </a:lnTo>
                      <a:lnTo>
                        <a:pt x="1" y="508"/>
                      </a:lnTo>
                      <a:lnTo>
                        <a:pt x="0" y="514"/>
                      </a:lnTo>
                      <a:lnTo>
                        <a:pt x="1" y="521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>
                  <a:off x="5738760" y="2508120"/>
                  <a:ext cx="9720" cy="27000"/>
                </a:xfrm>
                <a:custGeom>
                  <a:avLst/>
                  <a:gdLst/>
                  <a:ahLst/>
                  <a:rect l="l" t="t" r="r" b="b"/>
                  <a:pathLst>
                    <a:path w="181" h="504">
                      <a:moveTo>
                        <a:pt x="181" y="500"/>
                      </a:moveTo>
                      <a:lnTo>
                        <a:pt x="180" y="489"/>
                      </a:lnTo>
                      <a:lnTo>
                        <a:pt x="71" y="0"/>
                      </a:lnTo>
                      <a:lnTo>
                        <a:pt x="0" y="16"/>
                      </a:lnTo>
                      <a:lnTo>
                        <a:pt x="110" y="504"/>
                      </a:lnTo>
                      <a:lnTo>
                        <a:pt x="181" y="500"/>
                      </a:lnTo>
                      <a:lnTo>
                        <a:pt x="181" y="500"/>
                      </a:lnTo>
                      <a:lnTo>
                        <a:pt x="181" y="495"/>
                      </a:lnTo>
                      <a:lnTo>
                        <a:pt x="180" y="489"/>
                      </a:lnTo>
                      <a:lnTo>
                        <a:pt x="181" y="50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>
                  <a:off x="5742000" y="2533680"/>
                  <a:ext cx="6480" cy="22320"/>
                </a:xfrm>
                <a:custGeom>
                  <a:avLst/>
                  <a:gdLst/>
                  <a:ahLst/>
                  <a:rect l="l" t="t" r="r" b="b"/>
                  <a:pathLst>
                    <a:path w="118" h="410">
                      <a:moveTo>
                        <a:pt x="72" y="410"/>
                      </a:moveTo>
                      <a:lnTo>
                        <a:pt x="72" y="407"/>
                      </a:lnTo>
                      <a:lnTo>
                        <a:pt x="118" y="8"/>
                      </a:lnTo>
                      <a:lnTo>
                        <a:pt x="46" y="0"/>
                      </a:lnTo>
                      <a:lnTo>
                        <a:pt x="0" y="399"/>
                      </a:lnTo>
                      <a:lnTo>
                        <a:pt x="72" y="410"/>
                      </a:lnTo>
                      <a:lnTo>
                        <a:pt x="72" y="410"/>
                      </a:lnTo>
                      <a:lnTo>
                        <a:pt x="72" y="409"/>
                      </a:lnTo>
                      <a:lnTo>
                        <a:pt x="72" y="407"/>
                      </a:lnTo>
                      <a:lnTo>
                        <a:pt x="72" y="41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5" name=""/>
                <p:cNvSpPr/>
                <p:nvPr/>
              </p:nvSpPr>
              <p:spPr>
                <a:xfrm>
                  <a:off x="5737320" y="2554200"/>
                  <a:ext cx="7920" cy="28800"/>
                </a:xfrm>
                <a:custGeom>
                  <a:avLst/>
                  <a:gdLst/>
                  <a:ahLst/>
                  <a:rect l="l" t="t" r="r" b="b"/>
                  <a:pathLst>
                    <a:path w="171" h="534">
                      <a:moveTo>
                        <a:pt x="66" y="534"/>
                      </a:moveTo>
                      <a:lnTo>
                        <a:pt x="71" y="521"/>
                      </a:lnTo>
                      <a:lnTo>
                        <a:pt x="171" y="14"/>
                      </a:lnTo>
                      <a:lnTo>
                        <a:pt x="100" y="0"/>
                      </a:lnTo>
                      <a:lnTo>
                        <a:pt x="0" y="507"/>
                      </a:lnTo>
                      <a:lnTo>
                        <a:pt x="66" y="534"/>
                      </a:lnTo>
                      <a:lnTo>
                        <a:pt x="66" y="534"/>
                      </a:lnTo>
                      <a:lnTo>
                        <a:pt x="70" y="528"/>
                      </a:lnTo>
                      <a:lnTo>
                        <a:pt x="71" y="521"/>
                      </a:lnTo>
                      <a:lnTo>
                        <a:pt x="66" y="534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6" name=""/>
                <p:cNvSpPr/>
                <p:nvPr/>
              </p:nvSpPr>
              <p:spPr>
                <a:xfrm>
                  <a:off x="5727600" y="2581200"/>
                  <a:ext cx="12960" cy="17640"/>
                </a:xfrm>
                <a:custGeom>
                  <a:avLst/>
                  <a:gdLst/>
                  <a:ahLst/>
                  <a:rect l="l" t="t" r="r" b="b"/>
                  <a:pathLst>
                    <a:path w="242" h="327">
                      <a:moveTo>
                        <a:pt x="35" y="327"/>
                      </a:moveTo>
                      <a:lnTo>
                        <a:pt x="60" y="312"/>
                      </a:lnTo>
                      <a:lnTo>
                        <a:pt x="242" y="40"/>
                      </a:lnTo>
                      <a:lnTo>
                        <a:pt x="182" y="0"/>
                      </a:lnTo>
                      <a:lnTo>
                        <a:pt x="0" y="271"/>
                      </a:lnTo>
                      <a:lnTo>
                        <a:pt x="35" y="327"/>
                      </a:lnTo>
                      <a:lnTo>
                        <a:pt x="35" y="327"/>
                      </a:lnTo>
                      <a:lnTo>
                        <a:pt x="51" y="325"/>
                      </a:lnTo>
                      <a:lnTo>
                        <a:pt x="60" y="312"/>
                      </a:lnTo>
                      <a:lnTo>
                        <a:pt x="35" y="327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>
                  <a:off x="5695920" y="2593800"/>
                  <a:ext cx="33480" cy="8280"/>
                </a:xfrm>
                <a:custGeom>
                  <a:avLst/>
                  <a:gdLst/>
                  <a:ahLst/>
                  <a:rect l="l" t="t" r="r" b="b"/>
                  <a:pathLst>
                    <a:path w="639" h="145">
                      <a:moveTo>
                        <a:pt x="22" y="125"/>
                      </a:moveTo>
                      <a:lnTo>
                        <a:pt x="58" y="145"/>
                      </a:lnTo>
                      <a:lnTo>
                        <a:pt x="639" y="72"/>
                      </a:lnTo>
                      <a:lnTo>
                        <a:pt x="630" y="0"/>
                      </a:lnTo>
                      <a:lnTo>
                        <a:pt x="49" y="73"/>
                      </a:lnTo>
                      <a:lnTo>
                        <a:pt x="22" y="125"/>
                      </a:lnTo>
                      <a:lnTo>
                        <a:pt x="49" y="73"/>
                      </a:lnTo>
                      <a:lnTo>
                        <a:pt x="0" y="79"/>
                      </a:lnTo>
                      <a:lnTo>
                        <a:pt x="22" y="125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>
                  <a:off x="5695920" y="2598840"/>
                  <a:ext cx="111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343">
                      <a:moveTo>
                        <a:pt x="177" y="343"/>
                      </a:moveTo>
                      <a:lnTo>
                        <a:pt x="210" y="290"/>
                      </a:lnTo>
                      <a:lnTo>
                        <a:pt x="65" y="0"/>
                      </a:lnTo>
                      <a:lnTo>
                        <a:pt x="0" y="33"/>
                      </a:lnTo>
                      <a:lnTo>
                        <a:pt x="145" y="323"/>
                      </a:lnTo>
                      <a:lnTo>
                        <a:pt x="177" y="343"/>
                      </a:lnTo>
                      <a:lnTo>
                        <a:pt x="145" y="323"/>
                      </a:lnTo>
                      <a:lnTo>
                        <a:pt x="155" y="343"/>
                      </a:lnTo>
                      <a:lnTo>
                        <a:pt x="177" y="343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9" name=""/>
                <p:cNvSpPr/>
                <p:nvPr/>
              </p:nvSpPr>
              <p:spPr>
                <a:xfrm>
                  <a:off x="5705640" y="2612880"/>
                  <a:ext cx="55440" cy="5040"/>
                </a:xfrm>
                <a:custGeom>
                  <a:avLst/>
                  <a:gdLst/>
                  <a:ahLst/>
                  <a:rect l="l" t="t" r="r" b="b"/>
                  <a:pathLst>
                    <a:path w="1047" h="72">
                      <a:moveTo>
                        <a:pt x="1047" y="52"/>
                      </a:moveTo>
                      <a:lnTo>
                        <a:pt x="1015" y="0"/>
                      </a:ln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1015" y="72"/>
                      </a:lnTo>
                      <a:lnTo>
                        <a:pt x="1047" y="52"/>
                      </a:lnTo>
                      <a:lnTo>
                        <a:pt x="1015" y="72"/>
                      </a:lnTo>
                      <a:lnTo>
                        <a:pt x="1037" y="72"/>
                      </a:lnTo>
                      <a:lnTo>
                        <a:pt x="1047" y="5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0" name=""/>
                <p:cNvSpPr/>
                <p:nvPr/>
              </p:nvSpPr>
              <p:spPr>
                <a:xfrm>
                  <a:off x="5757840" y="257652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433" h="756">
                      <a:moveTo>
                        <a:pt x="429" y="6"/>
                      </a:moveTo>
                      <a:lnTo>
                        <a:pt x="362" y="0"/>
                      </a:lnTo>
                      <a:lnTo>
                        <a:pt x="0" y="723"/>
                      </a:lnTo>
                      <a:lnTo>
                        <a:pt x="64" y="756"/>
                      </a:lnTo>
                      <a:lnTo>
                        <a:pt x="427" y="31"/>
                      </a:lnTo>
                      <a:lnTo>
                        <a:pt x="429" y="6"/>
                      </a:lnTo>
                      <a:lnTo>
                        <a:pt x="427" y="31"/>
                      </a:lnTo>
                      <a:lnTo>
                        <a:pt x="433" y="19"/>
                      </a:lnTo>
                      <a:lnTo>
                        <a:pt x="429" y="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1" name=""/>
                <p:cNvSpPr/>
                <p:nvPr/>
              </p:nvSpPr>
              <p:spPr>
                <a:xfrm>
                  <a:off x="5765760" y="2535120"/>
                  <a:ext cx="14400" cy="42840"/>
                </a:xfrm>
                <a:custGeom>
                  <a:avLst/>
                  <a:gdLst/>
                  <a:ahLst/>
                  <a:rect l="l" t="t" r="r" b="b"/>
                  <a:pathLst>
                    <a:path w="289" h="816">
                      <a:moveTo>
                        <a:pt x="1" y="6"/>
                      </a:moveTo>
                      <a:lnTo>
                        <a:pt x="2" y="20"/>
                      </a:lnTo>
                      <a:lnTo>
                        <a:pt x="220" y="816"/>
                      </a:lnTo>
                      <a:lnTo>
                        <a:pt x="289" y="797"/>
                      </a:lnTo>
                      <a:lnTo>
                        <a:pt x="72" y="0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13"/>
                      </a:lnTo>
                      <a:lnTo>
                        <a:pt x="2" y="20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>
                  <a:off x="5765760" y="2495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45" h="739">
                      <a:moveTo>
                        <a:pt x="143" y="0"/>
                      </a:moveTo>
                      <a:lnTo>
                        <a:pt x="72" y="7"/>
                      </a:lnTo>
                      <a:lnTo>
                        <a:pt x="0" y="731"/>
                      </a:lnTo>
                      <a:lnTo>
                        <a:pt x="72" y="739"/>
                      </a:lnTo>
                      <a:lnTo>
                        <a:pt x="144" y="14"/>
                      </a:lnTo>
                      <a:lnTo>
                        <a:pt x="143" y="0"/>
                      </a:lnTo>
                      <a:lnTo>
                        <a:pt x="144" y="14"/>
                      </a:lnTo>
                      <a:lnTo>
                        <a:pt x="145" y="7"/>
                      </a:lnTo>
                      <a:lnTo>
                        <a:pt x="143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3" name=""/>
                <p:cNvSpPr/>
                <p:nvPr/>
              </p:nvSpPr>
              <p:spPr>
                <a:xfrm>
                  <a:off x="5757840" y="245736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87" h="755">
                      <a:moveTo>
                        <a:pt x="65" y="0"/>
                      </a:moveTo>
                      <a:lnTo>
                        <a:pt x="0" y="31"/>
                      </a:lnTo>
                      <a:lnTo>
                        <a:pt x="218" y="755"/>
                      </a:lnTo>
                      <a:lnTo>
                        <a:pt x="287" y="734"/>
                      </a:lnTo>
                      <a:lnTo>
                        <a:pt x="70" y="9"/>
                      </a:lnTo>
                      <a:lnTo>
                        <a:pt x="65" y="0"/>
                      </a:lnTo>
                      <a:lnTo>
                        <a:pt x="70" y="9"/>
                      </a:lnTo>
                      <a:lnTo>
                        <a:pt x="68" y="4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4" name=""/>
                <p:cNvSpPr/>
                <p:nvPr/>
              </p:nvSpPr>
              <p:spPr>
                <a:xfrm>
                  <a:off x="5735520" y="2422440"/>
                  <a:ext cx="25560" cy="36720"/>
                </a:xfrm>
                <a:custGeom>
                  <a:avLst/>
                  <a:gdLst/>
                  <a:ahLst/>
                  <a:rect l="l" t="t" r="r" b="b"/>
                  <a:pathLst>
                    <a:path w="495" h="706">
                      <a:moveTo>
                        <a:pt x="42" y="0"/>
                      </a:moveTo>
                      <a:lnTo>
                        <a:pt x="0" y="54"/>
                      </a:lnTo>
                      <a:lnTo>
                        <a:pt x="435" y="706"/>
                      </a:lnTo>
                      <a:lnTo>
                        <a:pt x="495" y="666"/>
                      </a:lnTo>
                      <a:lnTo>
                        <a:pt x="60" y="14"/>
                      </a:lnTo>
                      <a:lnTo>
                        <a:pt x="42" y="0"/>
                      </a:lnTo>
                      <a:lnTo>
                        <a:pt x="60" y="14"/>
                      </a:lnTo>
                      <a:lnTo>
                        <a:pt x="54" y="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>
                  <a:off x="5702400" y="2409840"/>
                  <a:ext cx="34920" cy="15840"/>
                </a:xfrm>
                <a:custGeom>
                  <a:avLst/>
                  <a:gdLst/>
                  <a:ahLst/>
                  <a:rect l="l" t="t" r="r" b="b"/>
                  <a:pathLst>
                    <a:path w="676" h="287">
                      <a:moveTo>
                        <a:pt x="9" y="0"/>
                      </a:moveTo>
                      <a:lnTo>
                        <a:pt x="0" y="71"/>
                      </a:lnTo>
                      <a:lnTo>
                        <a:pt x="652" y="287"/>
                      </a:lnTo>
                      <a:lnTo>
                        <a:pt x="676" y="219"/>
                      </a:lnTo>
                      <a:lnTo>
                        <a:pt x="23" y="2"/>
                      </a:lnTo>
                      <a:lnTo>
                        <a:pt x="9" y="0"/>
                      </a:lnTo>
                      <a:lnTo>
                        <a:pt x="23" y="2"/>
                      </a:lnTo>
                      <a:lnTo>
                        <a:pt x="16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5648400" y="2409840"/>
                  <a:ext cx="54000" cy="7920"/>
                </a:xfrm>
                <a:custGeom>
                  <a:avLst/>
                  <a:gdLst/>
                  <a:ahLst/>
                  <a:rect l="l" t="t" r="r" b="b"/>
                  <a:pathLst>
                    <a:path w="1033" h="145">
                      <a:moveTo>
                        <a:pt x="0" y="76"/>
                      </a:moveTo>
                      <a:lnTo>
                        <a:pt x="18" y="145"/>
                      </a:lnTo>
                      <a:lnTo>
                        <a:pt x="1033" y="72"/>
                      </a:lnTo>
                      <a:lnTo>
                        <a:pt x="1028" y="0"/>
                      </a:lnTo>
                      <a:lnTo>
                        <a:pt x="13" y="73"/>
                      </a:lnTo>
                      <a:lnTo>
                        <a:pt x="0" y="76"/>
                      </a:lnTo>
                      <a:lnTo>
                        <a:pt x="13" y="73"/>
                      </a:lnTo>
                      <a:lnTo>
                        <a:pt x="6" y="73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>
                  <a:off x="5713560" y="2543040"/>
                  <a:ext cx="17280" cy="7920"/>
                </a:xfrm>
                <a:custGeom>
                  <a:avLst/>
                  <a:gdLst/>
                  <a:ahLst/>
                  <a:rect l="l" t="t" r="r" b="b"/>
                  <a:pathLst>
                    <a:path w="326" h="120">
                      <a:moveTo>
                        <a:pt x="0" y="120"/>
                      </a:moveTo>
                      <a:lnTo>
                        <a:pt x="326" y="30"/>
                      </a:lnTo>
                      <a:lnTo>
                        <a:pt x="269" y="82"/>
                      </a:lnTo>
                      <a:lnTo>
                        <a:pt x="25" y="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8" name=""/>
                <p:cNvSpPr/>
                <p:nvPr/>
              </p:nvSpPr>
              <p:spPr>
                <a:xfrm>
                  <a:off x="5572080" y="2641680"/>
                  <a:ext cx="216000" cy="196920"/>
                </a:xfrm>
                <a:custGeom>
                  <a:avLst/>
                  <a:gdLst/>
                  <a:ahLst/>
                  <a:rect l="l" t="t" r="r" b="b"/>
                  <a:pathLst>
                    <a:path w="4089" h="3705">
                      <a:moveTo>
                        <a:pt x="4089" y="3705"/>
                      </a:moveTo>
                      <a:lnTo>
                        <a:pt x="4061" y="2607"/>
                      </a:lnTo>
                      <a:lnTo>
                        <a:pt x="3771" y="1303"/>
                      </a:lnTo>
                      <a:lnTo>
                        <a:pt x="3336" y="507"/>
                      </a:lnTo>
                      <a:lnTo>
                        <a:pt x="2683" y="0"/>
                      </a:lnTo>
                      <a:lnTo>
                        <a:pt x="2829" y="652"/>
                      </a:lnTo>
                      <a:lnTo>
                        <a:pt x="2538" y="1231"/>
                      </a:lnTo>
                      <a:lnTo>
                        <a:pt x="1740" y="869"/>
                      </a:lnTo>
                      <a:lnTo>
                        <a:pt x="1451" y="435"/>
                      </a:lnTo>
                      <a:lnTo>
                        <a:pt x="1233" y="0"/>
                      </a:lnTo>
                      <a:lnTo>
                        <a:pt x="0" y="724"/>
                      </a:lnTo>
                      <a:lnTo>
                        <a:pt x="726" y="2391"/>
                      </a:lnTo>
                      <a:lnTo>
                        <a:pt x="1044" y="3633"/>
                      </a:lnTo>
                      <a:lnTo>
                        <a:pt x="4089" y="3705"/>
                      </a:lnTo>
                      <a:close/>
                    </a:path>
                  </a:pathLst>
                </a:custGeom>
                <a:solidFill>
                  <a:srgbClr val="f8f0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>
                  <a:off x="5784840" y="2779560"/>
                  <a:ext cx="4680" cy="59040"/>
                </a:xfrm>
                <a:custGeom>
                  <a:avLst/>
                  <a:gdLst/>
                  <a:ahLst/>
                  <a:rect l="l" t="t" r="r" b="b"/>
                  <a:pathLst>
                    <a:path w="101" h="1107">
                      <a:moveTo>
                        <a:pt x="73" y="0"/>
                      </a:moveTo>
                      <a:lnTo>
                        <a:pt x="0" y="9"/>
                      </a:lnTo>
                      <a:lnTo>
                        <a:pt x="29" y="1107"/>
                      </a:lnTo>
                      <a:lnTo>
                        <a:pt x="101" y="1106"/>
                      </a:lnTo>
                      <a:lnTo>
                        <a:pt x="73" y="7"/>
                      </a:lnTo>
                      <a:lnTo>
                        <a:pt x="73" y="0"/>
                      </a:lnTo>
                      <a:lnTo>
                        <a:pt x="73" y="7"/>
                      </a:lnTo>
                      <a:lnTo>
                        <a:pt x="73" y="4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>
                  <a:off x="5769000" y="2709720"/>
                  <a:ext cx="19080" cy="71640"/>
                </a:xfrm>
                <a:custGeom>
                  <a:avLst/>
                  <a:gdLst/>
                  <a:ahLst/>
                  <a:rect l="l" t="t" r="r" b="b"/>
                  <a:pathLst>
                    <a:path w="362" h="1329">
                      <a:moveTo>
                        <a:pt x="67" y="0"/>
                      </a:moveTo>
                      <a:lnTo>
                        <a:pt x="0" y="25"/>
                      </a:lnTo>
                      <a:lnTo>
                        <a:pt x="291" y="1329"/>
                      </a:lnTo>
                      <a:lnTo>
                        <a:pt x="362" y="1313"/>
                      </a:lnTo>
                      <a:lnTo>
                        <a:pt x="71" y="10"/>
                      </a:lnTo>
                      <a:lnTo>
                        <a:pt x="67" y="0"/>
                      </a:lnTo>
                      <a:lnTo>
                        <a:pt x="71" y="10"/>
                      </a:lnTo>
                      <a:lnTo>
                        <a:pt x="70" y="5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1" name=""/>
                <p:cNvSpPr/>
                <p:nvPr/>
              </p:nvSpPr>
              <p:spPr>
                <a:xfrm>
                  <a:off x="5746680" y="2666880"/>
                  <a:ext cx="25560" cy="44640"/>
                </a:xfrm>
                <a:custGeom>
                  <a:avLst/>
                  <a:gdLst/>
                  <a:ahLst/>
                  <a:rect l="l" t="t" r="r" b="b"/>
                  <a:pathLst>
                    <a:path w="498" h="842">
                      <a:moveTo>
                        <a:pt x="54" y="0"/>
                      </a:moveTo>
                      <a:lnTo>
                        <a:pt x="0" y="46"/>
                      </a:lnTo>
                      <a:lnTo>
                        <a:pt x="435" y="842"/>
                      </a:lnTo>
                      <a:lnTo>
                        <a:pt x="498" y="808"/>
                      </a:lnTo>
                      <a:lnTo>
                        <a:pt x="63" y="12"/>
                      </a:lnTo>
                      <a:lnTo>
                        <a:pt x="54" y="0"/>
                      </a:lnTo>
                      <a:lnTo>
                        <a:pt x="63" y="12"/>
                      </a:lnTo>
                      <a:lnTo>
                        <a:pt x="60" y="4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>
                  <a:off x="5710320" y="2637000"/>
                  <a:ext cx="39600" cy="33120"/>
                </a:xfrm>
                <a:custGeom>
                  <a:avLst/>
                  <a:gdLst/>
                  <a:ahLst/>
                  <a:rect l="l" t="t" r="r" b="b"/>
                  <a:pathLst>
                    <a:path w="730" h="624">
                      <a:moveTo>
                        <a:pt x="20" y="96"/>
                      </a:moveTo>
                      <a:lnTo>
                        <a:pt x="33" y="118"/>
                      </a:lnTo>
                      <a:lnTo>
                        <a:pt x="685" y="624"/>
                      </a:lnTo>
                      <a:lnTo>
                        <a:pt x="730" y="567"/>
                      </a:lnTo>
                      <a:lnTo>
                        <a:pt x="78" y="60"/>
                      </a:lnTo>
                      <a:lnTo>
                        <a:pt x="20" y="96"/>
                      </a:lnTo>
                      <a:lnTo>
                        <a:pt x="78" y="60"/>
                      </a:lnTo>
                      <a:lnTo>
                        <a:pt x="0" y="0"/>
                      </a:lnTo>
                      <a:lnTo>
                        <a:pt x="20" y="9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>
                  <a:off x="5711760" y="2641680"/>
                  <a:ext cx="11160" cy="36360"/>
                </a:xfrm>
                <a:custGeom>
                  <a:avLst/>
                  <a:gdLst/>
                  <a:ahLst/>
                  <a:rect l="l" t="t" r="r" b="b"/>
                  <a:pathLst>
                    <a:path w="218" h="676">
                      <a:moveTo>
                        <a:pt x="213" y="676"/>
                      </a:moveTo>
                      <a:lnTo>
                        <a:pt x="215" y="652"/>
                      </a:lnTo>
                      <a:lnTo>
                        <a:pt x="70" y="0"/>
                      </a:lnTo>
                      <a:lnTo>
                        <a:pt x="0" y="15"/>
                      </a:lnTo>
                      <a:lnTo>
                        <a:pt x="145" y="668"/>
                      </a:lnTo>
                      <a:lnTo>
                        <a:pt x="213" y="676"/>
                      </a:lnTo>
                      <a:lnTo>
                        <a:pt x="213" y="676"/>
                      </a:lnTo>
                      <a:lnTo>
                        <a:pt x="218" y="665"/>
                      </a:lnTo>
                      <a:lnTo>
                        <a:pt x="215" y="652"/>
                      </a:lnTo>
                      <a:lnTo>
                        <a:pt x="213" y="676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>
                  <a:off x="5703840" y="2676600"/>
                  <a:ext cx="19080" cy="33120"/>
                </a:xfrm>
                <a:custGeom>
                  <a:avLst/>
                  <a:gdLst/>
                  <a:ahLst/>
                  <a:rect l="l" t="t" r="r" b="b"/>
                  <a:pathLst>
                    <a:path w="355" h="643">
                      <a:moveTo>
                        <a:pt x="17" y="629"/>
                      </a:moveTo>
                      <a:lnTo>
                        <a:pt x="65" y="613"/>
                      </a:lnTo>
                      <a:lnTo>
                        <a:pt x="355" y="33"/>
                      </a:lnTo>
                      <a:lnTo>
                        <a:pt x="290" y="0"/>
                      </a:lnTo>
                      <a:lnTo>
                        <a:pt x="0" y="580"/>
                      </a:lnTo>
                      <a:lnTo>
                        <a:pt x="17" y="629"/>
                      </a:lnTo>
                      <a:lnTo>
                        <a:pt x="17" y="629"/>
                      </a:lnTo>
                      <a:lnTo>
                        <a:pt x="49" y="643"/>
                      </a:lnTo>
                      <a:lnTo>
                        <a:pt x="65" y="613"/>
                      </a:lnTo>
                      <a:lnTo>
                        <a:pt x="17" y="629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5662440" y="2685960"/>
                  <a:ext cx="44640" cy="23760"/>
                </a:xfrm>
                <a:custGeom>
                  <a:avLst/>
                  <a:gdLst/>
                  <a:ahLst/>
                  <a:rect l="l" t="t" r="r" b="b"/>
                  <a:pathLst>
                    <a:path w="842" h="428">
                      <a:moveTo>
                        <a:pt x="0" y="53"/>
                      </a:moveTo>
                      <a:lnTo>
                        <a:pt x="15" y="66"/>
                      </a:lnTo>
                      <a:lnTo>
                        <a:pt x="812" y="428"/>
                      </a:lnTo>
                      <a:lnTo>
                        <a:pt x="842" y="362"/>
                      </a:lnTo>
                      <a:lnTo>
                        <a:pt x="44" y="0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5" y="62"/>
                      </a:lnTo>
                      <a:lnTo>
                        <a:pt x="15" y="66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6" name=""/>
                <p:cNvSpPr/>
                <p:nvPr/>
              </p:nvSpPr>
              <p:spPr>
                <a:xfrm>
                  <a:off x="5646600" y="266400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352" h="474">
                      <a:moveTo>
                        <a:pt x="0" y="35"/>
                      </a:moveTo>
                      <a:lnTo>
                        <a:pt x="2" y="39"/>
                      </a:lnTo>
                      <a:lnTo>
                        <a:pt x="292" y="474"/>
                      </a:lnTo>
                      <a:lnTo>
                        <a:pt x="352" y="434"/>
                      </a:lnTo>
                      <a:lnTo>
                        <a:pt x="61" y="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2" y="3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7" name=""/>
                <p:cNvSpPr/>
                <p:nvPr/>
              </p:nvSpPr>
              <p:spPr>
                <a:xfrm>
                  <a:off x="5635800" y="2639880"/>
                  <a:ext cx="14040" cy="25560"/>
                </a:xfrm>
                <a:custGeom>
                  <a:avLst/>
                  <a:gdLst/>
                  <a:ahLst/>
                  <a:rect l="l" t="t" r="r" b="b"/>
                  <a:pathLst>
                    <a:path w="283" h="501">
                      <a:moveTo>
                        <a:pt x="15" y="20"/>
                      </a:moveTo>
                      <a:lnTo>
                        <a:pt x="0" y="67"/>
                      </a:lnTo>
                      <a:lnTo>
                        <a:pt x="219" y="501"/>
                      </a:lnTo>
                      <a:lnTo>
                        <a:pt x="283" y="470"/>
                      </a:lnTo>
                      <a:lnTo>
                        <a:pt x="65" y="35"/>
                      </a:lnTo>
                      <a:lnTo>
                        <a:pt x="15" y="20"/>
                      </a:lnTo>
                      <a:lnTo>
                        <a:pt x="65" y="35"/>
                      </a:lnTo>
                      <a:lnTo>
                        <a:pt x="48" y="0"/>
                      </a:lnTo>
                      <a:lnTo>
                        <a:pt x="15" y="2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5568840" y="2639880"/>
                  <a:ext cx="68400" cy="42840"/>
                </a:xfrm>
                <a:custGeom>
                  <a:avLst/>
                  <a:gdLst/>
                  <a:ahLst/>
                  <a:rect l="l" t="t" r="r" b="b"/>
                  <a:pathLst>
                    <a:path w="1296" h="786">
                      <a:moveTo>
                        <a:pt x="12" y="770"/>
                      </a:moveTo>
                      <a:lnTo>
                        <a:pt x="64" y="786"/>
                      </a:lnTo>
                      <a:lnTo>
                        <a:pt x="1296" y="62"/>
                      </a:lnTo>
                      <a:lnTo>
                        <a:pt x="1260" y="0"/>
                      </a:lnTo>
                      <a:lnTo>
                        <a:pt x="27" y="724"/>
                      </a:lnTo>
                      <a:lnTo>
                        <a:pt x="12" y="770"/>
                      </a:lnTo>
                      <a:lnTo>
                        <a:pt x="27" y="724"/>
                      </a:lnTo>
                      <a:lnTo>
                        <a:pt x="0" y="740"/>
                      </a:lnTo>
                      <a:lnTo>
                        <a:pt x="12" y="770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9" name=""/>
                <p:cNvSpPr/>
                <p:nvPr/>
              </p:nvSpPr>
              <p:spPr>
                <a:xfrm>
                  <a:off x="5570640" y="2679840"/>
                  <a:ext cx="41040" cy="90360"/>
                </a:xfrm>
                <a:custGeom>
                  <a:avLst/>
                  <a:gdLst/>
                  <a:ahLst/>
                  <a:rect l="l" t="t" r="r" b="b"/>
                  <a:pathLst>
                    <a:path w="794" h="1696">
                      <a:moveTo>
                        <a:pt x="794" y="1672"/>
                      </a:moveTo>
                      <a:lnTo>
                        <a:pt x="792" y="1666"/>
                      </a:lnTo>
                      <a:lnTo>
                        <a:pt x="67" y="0"/>
                      </a:lnTo>
                      <a:lnTo>
                        <a:pt x="0" y="30"/>
                      </a:lnTo>
                      <a:lnTo>
                        <a:pt x="725" y="1696"/>
                      </a:lnTo>
                      <a:lnTo>
                        <a:pt x="794" y="1672"/>
                      </a:lnTo>
                      <a:lnTo>
                        <a:pt x="794" y="1672"/>
                      </a:lnTo>
                      <a:lnTo>
                        <a:pt x="793" y="1669"/>
                      </a:lnTo>
                      <a:lnTo>
                        <a:pt x="792" y="1666"/>
                      </a:lnTo>
                      <a:lnTo>
                        <a:pt x="794" y="1672"/>
                      </a:lnTo>
                      <a:close/>
                    </a:path>
                  </a:pathLst>
                </a:custGeom>
                <a:solidFill>
                  <a:srgbClr val="131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0" name=""/>
              <p:cNvSpPr/>
              <p:nvPr/>
            </p:nvSpPr>
            <p:spPr>
              <a:xfrm>
                <a:off x="5608800" y="276876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389" h="1261">
                    <a:moveTo>
                      <a:pt x="389" y="1243"/>
                    </a:moveTo>
                    <a:lnTo>
                      <a:pt x="71" y="0"/>
                    </a:lnTo>
                    <a:lnTo>
                      <a:pt x="0" y="18"/>
                    </a:lnTo>
                    <a:lnTo>
                      <a:pt x="319" y="1261"/>
                    </a:lnTo>
                    <a:lnTo>
                      <a:pt x="389" y="124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5713560" y="2641680"/>
                <a:ext cx="93600" cy="183960"/>
              </a:xfrm>
              <a:custGeom>
                <a:avLst/>
                <a:gdLst/>
                <a:ahLst/>
                <a:rect l="l" t="t" r="r" b="b"/>
                <a:pathLst>
                  <a:path w="1763" h="3471">
                    <a:moveTo>
                      <a:pt x="712" y="3350"/>
                    </a:moveTo>
                    <a:lnTo>
                      <a:pt x="581" y="2028"/>
                    </a:lnTo>
                    <a:lnTo>
                      <a:pt x="418" y="1249"/>
                    </a:lnTo>
                    <a:lnTo>
                      <a:pt x="272" y="540"/>
                    </a:lnTo>
                    <a:lnTo>
                      <a:pt x="0" y="0"/>
                    </a:lnTo>
                    <a:lnTo>
                      <a:pt x="1133" y="434"/>
                    </a:lnTo>
                    <a:lnTo>
                      <a:pt x="1519" y="809"/>
                    </a:lnTo>
                    <a:lnTo>
                      <a:pt x="1715" y="2347"/>
                    </a:lnTo>
                    <a:lnTo>
                      <a:pt x="1763" y="3471"/>
                    </a:lnTo>
                    <a:lnTo>
                      <a:pt x="712" y="3350"/>
                    </a:lnTo>
                    <a:close/>
                  </a:path>
                </a:pathLst>
              </a:custGeom>
              <a:solidFill>
                <a:srgbClr val="e9c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5742000" y="2749680"/>
                <a:ext cx="11160" cy="69840"/>
              </a:xfrm>
              <a:custGeom>
                <a:avLst/>
                <a:gdLst/>
                <a:ahLst/>
                <a:rect l="l" t="t" r="r" b="b"/>
                <a:pathLst>
                  <a:path w="204" h="1333">
                    <a:moveTo>
                      <a:pt x="71" y="0"/>
                    </a:moveTo>
                    <a:lnTo>
                      <a:pt x="0" y="11"/>
                    </a:lnTo>
                    <a:lnTo>
                      <a:pt x="132" y="1333"/>
                    </a:lnTo>
                    <a:lnTo>
                      <a:pt x="204" y="1326"/>
                    </a:lnTo>
                    <a:lnTo>
                      <a:pt x="72" y="4"/>
                    </a:lnTo>
                    <a:lnTo>
                      <a:pt x="71" y="0"/>
                    </a:lnTo>
                    <a:lnTo>
                      <a:pt x="72" y="4"/>
                    </a:lnTo>
                    <a:lnTo>
                      <a:pt x="72" y="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5734080" y="2708280"/>
                <a:ext cx="12600" cy="41400"/>
              </a:xfrm>
              <a:custGeom>
                <a:avLst/>
                <a:gdLst/>
                <a:ahLst/>
                <a:rect l="l" t="t" r="r" b="b"/>
                <a:pathLst>
                  <a:path w="232" h="794">
                    <a:moveTo>
                      <a:pt x="71" y="0"/>
                    </a:moveTo>
                    <a:lnTo>
                      <a:pt x="0" y="15"/>
                    </a:lnTo>
                    <a:lnTo>
                      <a:pt x="162" y="794"/>
                    </a:lnTo>
                    <a:lnTo>
                      <a:pt x="232" y="78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5726160" y="2670120"/>
                <a:ext cx="11160" cy="38160"/>
              </a:xfrm>
              <a:custGeom>
                <a:avLst/>
                <a:gdLst/>
                <a:ahLst/>
                <a:rect l="l" t="t" r="r" b="b"/>
                <a:pathLst>
                  <a:path w="217" h="732">
                    <a:moveTo>
                      <a:pt x="67" y="0"/>
                    </a:moveTo>
                    <a:lnTo>
                      <a:pt x="0" y="23"/>
                    </a:lnTo>
                    <a:lnTo>
                      <a:pt x="146" y="732"/>
                    </a:lnTo>
                    <a:lnTo>
                      <a:pt x="217" y="717"/>
                    </a:lnTo>
                    <a:lnTo>
                      <a:pt x="70" y="9"/>
                    </a:lnTo>
                    <a:lnTo>
                      <a:pt x="67" y="0"/>
                    </a:lnTo>
                    <a:lnTo>
                      <a:pt x="70" y="9"/>
                    </a:lnTo>
                    <a:lnTo>
                      <a:pt x="70" y="4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5710320" y="2638440"/>
                <a:ext cx="19080" cy="33480"/>
              </a:xfrm>
              <a:custGeom>
                <a:avLst/>
                <a:gdLst/>
                <a:ahLst/>
                <a:rect l="l" t="t" r="r" b="b"/>
                <a:pathLst>
                  <a:path w="377" h="622">
                    <a:moveTo>
                      <a:pt x="86" y="32"/>
                    </a:moveTo>
                    <a:lnTo>
                      <a:pt x="41" y="82"/>
                    </a:lnTo>
                    <a:lnTo>
                      <a:pt x="313" y="622"/>
                    </a:lnTo>
                    <a:lnTo>
                      <a:pt x="377" y="590"/>
                    </a:lnTo>
                    <a:lnTo>
                      <a:pt x="106" y="50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0" y="0"/>
                    </a:lnTo>
                    <a:lnTo>
                      <a:pt x="41" y="82"/>
                    </a:lnTo>
                    <a:lnTo>
                      <a:pt x="86" y="3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5713560" y="2639880"/>
                <a:ext cx="61920" cy="27000"/>
              </a:xfrm>
              <a:custGeom>
                <a:avLst/>
                <a:gdLst/>
                <a:ahLst/>
                <a:rect l="l" t="t" r="r" b="b"/>
                <a:pathLst>
                  <a:path w="1171" h="501">
                    <a:moveTo>
                      <a:pt x="1171" y="441"/>
                    </a:moveTo>
                    <a:lnTo>
                      <a:pt x="1159" y="433"/>
                    </a:lnTo>
                    <a:lnTo>
                      <a:pt x="26" y="0"/>
                    </a:lnTo>
                    <a:lnTo>
                      <a:pt x="0" y="68"/>
                    </a:lnTo>
                    <a:lnTo>
                      <a:pt x="1132" y="501"/>
                    </a:lnTo>
                    <a:lnTo>
                      <a:pt x="1171" y="441"/>
                    </a:lnTo>
                    <a:lnTo>
                      <a:pt x="1171" y="441"/>
                    </a:lnTo>
                    <a:lnTo>
                      <a:pt x="1166" y="436"/>
                    </a:lnTo>
                    <a:lnTo>
                      <a:pt x="1159" y="433"/>
                    </a:lnTo>
                    <a:lnTo>
                      <a:pt x="1171" y="44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5772240" y="2664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448" h="428">
                    <a:moveTo>
                      <a:pt x="448" y="397"/>
                    </a:moveTo>
                    <a:lnTo>
                      <a:pt x="437" y="375"/>
                    </a:lnTo>
                    <a:lnTo>
                      <a:pt x="51" y="0"/>
                    </a:lnTo>
                    <a:lnTo>
                      <a:pt x="0" y="52"/>
                    </a:lnTo>
                    <a:lnTo>
                      <a:pt x="387" y="428"/>
                    </a:lnTo>
                    <a:lnTo>
                      <a:pt x="448" y="397"/>
                    </a:lnTo>
                    <a:lnTo>
                      <a:pt x="448" y="397"/>
                    </a:lnTo>
                    <a:lnTo>
                      <a:pt x="445" y="385"/>
                    </a:lnTo>
                    <a:lnTo>
                      <a:pt x="437" y="375"/>
                    </a:lnTo>
                    <a:lnTo>
                      <a:pt x="448" y="39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5792760" y="2684520"/>
                <a:ext cx="12600" cy="82440"/>
              </a:xfrm>
              <a:custGeom>
                <a:avLst/>
                <a:gdLst/>
                <a:ahLst/>
                <a:rect l="l" t="t" r="r" b="b"/>
                <a:pathLst>
                  <a:path w="268" h="1548">
                    <a:moveTo>
                      <a:pt x="268" y="1542"/>
                    </a:moveTo>
                    <a:lnTo>
                      <a:pt x="268" y="1539"/>
                    </a:lnTo>
                    <a:lnTo>
                      <a:pt x="73" y="0"/>
                    </a:lnTo>
                    <a:lnTo>
                      <a:pt x="0" y="9"/>
                    </a:lnTo>
                    <a:lnTo>
                      <a:pt x="196" y="1548"/>
                    </a:lnTo>
                    <a:lnTo>
                      <a:pt x="268" y="1542"/>
                    </a:lnTo>
                    <a:lnTo>
                      <a:pt x="268" y="1542"/>
                    </a:lnTo>
                    <a:lnTo>
                      <a:pt x="268" y="1540"/>
                    </a:lnTo>
                    <a:lnTo>
                      <a:pt x="268" y="1539"/>
                    </a:lnTo>
                    <a:lnTo>
                      <a:pt x="268" y="154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5802480" y="2766960"/>
                <a:ext cx="6120" cy="58680"/>
              </a:xfrm>
              <a:custGeom>
                <a:avLst/>
                <a:gdLst/>
                <a:ahLst/>
                <a:rect l="l" t="t" r="r" b="b"/>
                <a:pathLst>
                  <a:path w="121" h="1126">
                    <a:moveTo>
                      <a:pt x="121" y="1123"/>
                    </a:moveTo>
                    <a:lnTo>
                      <a:pt x="72" y="0"/>
                    </a:lnTo>
                    <a:lnTo>
                      <a:pt x="0" y="3"/>
                    </a:lnTo>
                    <a:lnTo>
                      <a:pt x="49" y="1126"/>
                    </a:lnTo>
                    <a:lnTo>
                      <a:pt x="121" y="112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5502240" y="2638440"/>
                <a:ext cx="181080" cy="190440"/>
              </a:xfrm>
              <a:custGeom>
                <a:avLst/>
                <a:gdLst/>
                <a:ahLst/>
                <a:rect l="l" t="t" r="r" b="b"/>
                <a:pathLst>
                  <a:path w="3422" h="3594">
                    <a:moveTo>
                      <a:pt x="0" y="2933"/>
                    </a:moveTo>
                    <a:lnTo>
                      <a:pt x="453" y="725"/>
                    </a:lnTo>
                    <a:lnTo>
                      <a:pt x="2339" y="0"/>
                    </a:lnTo>
                    <a:lnTo>
                      <a:pt x="2991" y="1594"/>
                    </a:lnTo>
                    <a:lnTo>
                      <a:pt x="3281" y="2970"/>
                    </a:lnTo>
                    <a:lnTo>
                      <a:pt x="3422" y="3594"/>
                    </a:lnTo>
                    <a:lnTo>
                      <a:pt x="0" y="2933"/>
                    </a:lnTo>
                    <a:close/>
                  </a:path>
                </a:pathLst>
              </a:custGeom>
              <a:solidFill>
                <a:srgbClr val="e9c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5499000" y="2674800"/>
                <a:ext cx="28800" cy="119160"/>
              </a:xfrm>
              <a:custGeom>
                <a:avLst/>
                <a:gdLst/>
                <a:ahLst/>
                <a:rect l="l" t="t" r="r" b="b"/>
                <a:pathLst>
                  <a:path w="525" h="2250">
                    <a:moveTo>
                      <a:pt x="477" y="0"/>
                    </a:moveTo>
                    <a:lnTo>
                      <a:pt x="454" y="27"/>
                    </a:lnTo>
                    <a:lnTo>
                      <a:pt x="0" y="2235"/>
                    </a:lnTo>
                    <a:lnTo>
                      <a:pt x="71" y="2250"/>
                    </a:lnTo>
                    <a:lnTo>
                      <a:pt x="525" y="41"/>
                    </a:lnTo>
                    <a:lnTo>
                      <a:pt x="477" y="0"/>
                    </a:lnTo>
                    <a:lnTo>
                      <a:pt x="477" y="0"/>
                    </a:lnTo>
                    <a:lnTo>
                      <a:pt x="458" y="7"/>
                    </a:lnTo>
                    <a:lnTo>
                      <a:pt x="454" y="27"/>
                    </a:lnTo>
                    <a:lnTo>
                      <a:pt x="477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5524560" y="2637000"/>
                <a:ext cx="102960" cy="41040"/>
              </a:xfrm>
              <a:custGeom>
                <a:avLst/>
                <a:gdLst/>
                <a:ahLst/>
                <a:rect l="l" t="t" r="r" b="b"/>
                <a:pathLst>
                  <a:path w="1931" h="803">
                    <a:moveTo>
                      <a:pt x="1931" y="32"/>
                    </a:moveTo>
                    <a:lnTo>
                      <a:pt x="1885" y="12"/>
                    </a:lnTo>
                    <a:lnTo>
                      <a:pt x="0" y="736"/>
                    </a:lnTo>
                    <a:lnTo>
                      <a:pt x="25" y="803"/>
                    </a:lnTo>
                    <a:lnTo>
                      <a:pt x="1911" y="79"/>
                    </a:lnTo>
                    <a:lnTo>
                      <a:pt x="1931" y="32"/>
                    </a:lnTo>
                    <a:lnTo>
                      <a:pt x="1931" y="32"/>
                    </a:lnTo>
                    <a:lnTo>
                      <a:pt x="1918" y="0"/>
                    </a:lnTo>
                    <a:lnTo>
                      <a:pt x="1885" y="12"/>
                    </a:lnTo>
                    <a:lnTo>
                      <a:pt x="1931" y="3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5622840" y="2638440"/>
                <a:ext cx="38160" cy="85680"/>
              </a:xfrm>
              <a:custGeom>
                <a:avLst/>
                <a:gdLst/>
                <a:ahLst/>
                <a:rect l="l" t="t" r="r" b="b"/>
                <a:pathLst>
                  <a:path w="722" h="1620">
                    <a:moveTo>
                      <a:pt x="722" y="1600"/>
                    </a:moveTo>
                    <a:lnTo>
                      <a:pt x="720" y="1593"/>
                    </a:lnTo>
                    <a:lnTo>
                      <a:pt x="67" y="0"/>
                    </a:lnTo>
                    <a:lnTo>
                      <a:pt x="0" y="27"/>
                    </a:lnTo>
                    <a:lnTo>
                      <a:pt x="653" y="1620"/>
                    </a:lnTo>
                    <a:lnTo>
                      <a:pt x="722" y="1600"/>
                    </a:lnTo>
                    <a:lnTo>
                      <a:pt x="722" y="1600"/>
                    </a:lnTo>
                    <a:lnTo>
                      <a:pt x="721" y="1596"/>
                    </a:lnTo>
                    <a:lnTo>
                      <a:pt x="720" y="1593"/>
                    </a:lnTo>
                    <a:lnTo>
                      <a:pt x="722" y="160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5657760" y="2722680"/>
                <a:ext cx="19080" cy="73080"/>
              </a:xfrm>
              <a:custGeom>
                <a:avLst/>
                <a:gdLst/>
                <a:ahLst/>
                <a:rect l="l" t="t" r="r" b="b"/>
                <a:pathLst>
                  <a:path w="361" h="1391">
                    <a:moveTo>
                      <a:pt x="290" y="1391"/>
                    </a:moveTo>
                    <a:lnTo>
                      <a:pt x="361" y="1376"/>
                    </a:lnTo>
                    <a:lnTo>
                      <a:pt x="71" y="0"/>
                    </a:lnTo>
                    <a:lnTo>
                      <a:pt x="0" y="14"/>
                    </a:lnTo>
                    <a:lnTo>
                      <a:pt x="290" y="1390"/>
                    </a:lnTo>
                    <a:lnTo>
                      <a:pt x="290" y="1391"/>
                    </a:lnTo>
                    <a:lnTo>
                      <a:pt x="290" y="1390"/>
                    </a:lnTo>
                    <a:lnTo>
                      <a:pt x="290" y="1390"/>
                    </a:lnTo>
                    <a:lnTo>
                      <a:pt x="290" y="139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5673600" y="2795760"/>
                <a:ext cx="11160" cy="33120"/>
              </a:xfrm>
              <a:custGeom>
                <a:avLst/>
                <a:gdLst/>
                <a:ahLst/>
                <a:rect l="l" t="t" r="r" b="b"/>
                <a:pathLst>
                  <a:path w="212" h="640">
                    <a:moveTo>
                      <a:pt x="212" y="624"/>
                    </a:moveTo>
                    <a:lnTo>
                      <a:pt x="71" y="0"/>
                    </a:lnTo>
                    <a:lnTo>
                      <a:pt x="0" y="16"/>
                    </a:lnTo>
                    <a:lnTo>
                      <a:pt x="141" y="640"/>
                    </a:lnTo>
                    <a:lnTo>
                      <a:pt x="212" y="62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5467320" y="2676600"/>
                <a:ext cx="123840" cy="149040"/>
              </a:xfrm>
              <a:custGeom>
                <a:avLst/>
                <a:gdLst/>
                <a:ahLst/>
                <a:rect l="l" t="t" r="r" b="b"/>
                <a:pathLst>
                  <a:path w="2321" h="2825">
                    <a:moveTo>
                      <a:pt x="0" y="2752"/>
                    </a:moveTo>
                    <a:lnTo>
                      <a:pt x="507" y="1159"/>
                    </a:lnTo>
                    <a:lnTo>
                      <a:pt x="1087" y="0"/>
                    </a:lnTo>
                    <a:lnTo>
                      <a:pt x="1812" y="0"/>
                    </a:lnTo>
                    <a:lnTo>
                      <a:pt x="2248" y="796"/>
                    </a:lnTo>
                    <a:lnTo>
                      <a:pt x="2321" y="1666"/>
                    </a:lnTo>
                    <a:lnTo>
                      <a:pt x="1522" y="2825"/>
                    </a:lnTo>
                    <a:lnTo>
                      <a:pt x="0" y="2752"/>
                    </a:lnTo>
                    <a:close/>
                  </a:path>
                </a:pathLst>
              </a:custGeom>
              <a:solidFill>
                <a:srgbClr val="e9c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5465880" y="28224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0" h="55">
                    <a:moveTo>
                      <a:pt x="11" y="0"/>
                    </a:moveTo>
                    <a:lnTo>
                      <a:pt x="0" y="33"/>
                    </a:lnTo>
                    <a:lnTo>
                      <a:pt x="69" y="55"/>
                    </a:lnTo>
                    <a:lnTo>
                      <a:pt x="80" y="2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5465880" y="2736720"/>
                <a:ext cx="31680" cy="85680"/>
              </a:xfrm>
              <a:custGeom>
                <a:avLst/>
                <a:gdLst/>
                <a:ahLst/>
                <a:rect l="l" t="t" r="r" b="b"/>
                <a:pathLst>
                  <a:path w="576" h="1620">
                    <a:moveTo>
                      <a:pt x="510" y="0"/>
                    </a:moveTo>
                    <a:lnTo>
                      <a:pt x="508" y="5"/>
                    </a:lnTo>
                    <a:lnTo>
                      <a:pt x="0" y="1599"/>
                    </a:lnTo>
                    <a:lnTo>
                      <a:pt x="69" y="1620"/>
                    </a:lnTo>
                    <a:lnTo>
                      <a:pt x="576" y="26"/>
                    </a:lnTo>
                    <a:lnTo>
                      <a:pt x="51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5492880" y="2674800"/>
                <a:ext cx="34920" cy="63720"/>
              </a:xfrm>
              <a:custGeom>
                <a:avLst/>
                <a:gdLst/>
                <a:ahLst/>
                <a:rect l="l" t="t" r="r" b="b"/>
                <a:pathLst>
                  <a:path w="645" h="1212">
                    <a:moveTo>
                      <a:pt x="612" y="0"/>
                    </a:moveTo>
                    <a:lnTo>
                      <a:pt x="581" y="20"/>
                    </a:lnTo>
                    <a:lnTo>
                      <a:pt x="0" y="1180"/>
                    </a:lnTo>
                    <a:lnTo>
                      <a:pt x="64" y="1212"/>
                    </a:lnTo>
                    <a:lnTo>
                      <a:pt x="645" y="53"/>
                    </a:lnTo>
                    <a:lnTo>
                      <a:pt x="612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5526000" y="2674800"/>
                <a:ext cx="39600" cy="3240"/>
              </a:xfrm>
              <a:custGeom>
                <a:avLst/>
                <a:gdLst/>
                <a:ahLst/>
                <a:rect l="l" t="t" r="r" b="b"/>
                <a:pathLst>
                  <a:path w="757" h="73">
                    <a:moveTo>
                      <a:pt x="757" y="19"/>
                    </a:moveTo>
                    <a:lnTo>
                      <a:pt x="725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725" y="73"/>
                    </a:lnTo>
                    <a:lnTo>
                      <a:pt x="757" y="1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5562720" y="267660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503" h="831">
                    <a:moveTo>
                      <a:pt x="503" y="811"/>
                    </a:moveTo>
                    <a:lnTo>
                      <a:pt x="498" y="797"/>
                    </a:lnTo>
                    <a:lnTo>
                      <a:pt x="63" y="0"/>
                    </a:lnTo>
                    <a:lnTo>
                      <a:pt x="0" y="35"/>
                    </a:lnTo>
                    <a:lnTo>
                      <a:pt x="435" y="831"/>
                    </a:lnTo>
                    <a:lnTo>
                      <a:pt x="503" y="81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5584680" y="271944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45" h="893">
                    <a:moveTo>
                      <a:pt x="139" y="893"/>
                    </a:moveTo>
                    <a:lnTo>
                      <a:pt x="145" y="870"/>
                    </a:lnTo>
                    <a:lnTo>
                      <a:pt x="73" y="0"/>
                    </a:lnTo>
                    <a:lnTo>
                      <a:pt x="0" y="6"/>
                    </a:lnTo>
                    <a:lnTo>
                      <a:pt x="73" y="876"/>
                    </a:lnTo>
                    <a:lnTo>
                      <a:pt x="139" y="89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5546880" y="2763720"/>
                <a:ext cx="45720" cy="63720"/>
              </a:xfrm>
              <a:custGeom>
                <a:avLst/>
                <a:gdLst/>
                <a:ahLst/>
                <a:rect l="l" t="t" r="r" b="b"/>
                <a:pathLst>
                  <a:path w="857" h="1200">
                    <a:moveTo>
                      <a:pt x="60" y="1200"/>
                    </a:moveTo>
                    <a:lnTo>
                      <a:pt x="857" y="41"/>
                    </a:lnTo>
                    <a:lnTo>
                      <a:pt x="797" y="0"/>
                    </a:lnTo>
                    <a:lnTo>
                      <a:pt x="0" y="1159"/>
                    </a:lnTo>
                    <a:lnTo>
                      <a:pt x="60" y="120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5546880" y="28256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20" y="0"/>
                    </a:moveTo>
                    <a:lnTo>
                      <a:pt x="0" y="30"/>
                    </a:lnTo>
                    <a:lnTo>
                      <a:pt x="58" y="70"/>
                    </a:lnTo>
                    <a:lnTo>
                      <a:pt x="80" y="4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5764320" y="27385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652" h="290">
                    <a:moveTo>
                      <a:pt x="0" y="154"/>
                    </a:moveTo>
                    <a:lnTo>
                      <a:pt x="245" y="290"/>
                    </a:lnTo>
                    <a:lnTo>
                      <a:pt x="507" y="263"/>
                    </a:lnTo>
                    <a:lnTo>
                      <a:pt x="652" y="208"/>
                    </a:lnTo>
                    <a:lnTo>
                      <a:pt x="498" y="90"/>
                    </a:lnTo>
                    <a:lnTo>
                      <a:pt x="326" y="0"/>
                    </a:lnTo>
                    <a:lnTo>
                      <a:pt x="118" y="17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5761080" y="2778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1" h="64">
                    <a:moveTo>
                      <a:pt x="0" y="32"/>
                    </a:moveTo>
                    <a:lnTo>
                      <a:pt x="16" y="64"/>
                    </a:lnTo>
                    <a:lnTo>
                      <a:pt x="81" y="32"/>
                    </a:lnTo>
                    <a:lnTo>
                      <a:pt x="65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5754600" y="276696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167" h="231">
                    <a:moveTo>
                      <a:pt x="0" y="23"/>
                    </a:moveTo>
                    <a:lnTo>
                      <a:pt x="3" y="32"/>
                    </a:lnTo>
                    <a:lnTo>
                      <a:pt x="102" y="231"/>
                    </a:lnTo>
                    <a:lnTo>
                      <a:pt x="167" y="199"/>
                    </a:lnTo>
                    <a:lnTo>
                      <a:pt x="68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5754600" y="2763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87" h="90">
                    <a:moveTo>
                      <a:pt x="1" y="0"/>
                    </a:moveTo>
                    <a:lnTo>
                      <a:pt x="0" y="21"/>
                    </a:lnTo>
                    <a:lnTo>
                      <a:pt x="16" y="90"/>
                    </a:lnTo>
                    <a:lnTo>
                      <a:pt x="87" y="75"/>
                    </a:lnTo>
                    <a:lnTo>
                      <a:pt x="71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5754600" y="27543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31" h="193">
                    <a:moveTo>
                      <a:pt x="66" y="0"/>
                    </a:moveTo>
                    <a:lnTo>
                      <a:pt x="64" y="4"/>
                    </a:lnTo>
                    <a:lnTo>
                      <a:pt x="0" y="167"/>
                    </a:lnTo>
                    <a:lnTo>
                      <a:pt x="68" y="193"/>
                    </a:lnTo>
                    <a:lnTo>
                      <a:pt x="131" y="3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5757840" y="274176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188" h="273">
                    <a:moveTo>
                      <a:pt x="133" y="0"/>
                    </a:moveTo>
                    <a:lnTo>
                      <a:pt x="124" y="10"/>
                    </a:lnTo>
                    <a:lnTo>
                      <a:pt x="0" y="239"/>
                    </a:lnTo>
                    <a:lnTo>
                      <a:pt x="64" y="273"/>
                    </a:lnTo>
                    <a:lnTo>
                      <a:pt x="188" y="44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5765760" y="2736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55" h="146">
                    <a:moveTo>
                      <a:pt x="109" y="0"/>
                    </a:moveTo>
                    <a:lnTo>
                      <a:pt x="0" y="91"/>
                    </a:lnTo>
                    <a:lnTo>
                      <a:pt x="46" y="146"/>
                    </a:lnTo>
                    <a:lnTo>
                      <a:pt x="155" y="5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5770440" y="2735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46" y="78"/>
                    </a:moveTo>
                    <a:lnTo>
                      <a:pt x="74" y="55"/>
                    </a:lnTo>
                    <a:lnTo>
                      <a:pt x="27" y="0"/>
                    </a:lnTo>
                    <a:lnTo>
                      <a:pt x="0" y="23"/>
                    </a:lnTo>
                    <a:lnTo>
                      <a:pt x="46" y="78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5762520" y="275112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280" h="200">
                    <a:moveTo>
                      <a:pt x="279" y="200"/>
                    </a:moveTo>
                    <a:lnTo>
                      <a:pt x="280" y="136"/>
                    </a:lnTo>
                    <a:lnTo>
                      <a:pt x="35" y="0"/>
                    </a:lnTo>
                    <a:lnTo>
                      <a:pt x="0" y="63"/>
                    </a:lnTo>
                    <a:lnTo>
                      <a:pt x="245" y="200"/>
                    </a:lnTo>
                    <a:lnTo>
                      <a:pt x="279" y="200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5775480" y="275112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320" h="214">
                    <a:moveTo>
                      <a:pt x="291" y="0"/>
                    </a:moveTo>
                    <a:lnTo>
                      <a:pt x="287" y="2"/>
                    </a:lnTo>
                    <a:lnTo>
                      <a:pt x="0" y="150"/>
                    </a:lnTo>
                    <a:lnTo>
                      <a:pt x="33" y="214"/>
                    </a:lnTo>
                    <a:lnTo>
                      <a:pt x="320" y="66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5791320" y="27478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80" h="122">
                    <a:moveTo>
                      <a:pt x="180" y="5"/>
                    </a:moveTo>
                    <a:lnTo>
                      <a:pt x="145" y="0"/>
                    </a:lnTo>
                    <a:lnTo>
                      <a:pt x="0" y="54"/>
                    </a:lnTo>
                    <a:lnTo>
                      <a:pt x="26" y="122"/>
                    </a:lnTo>
                    <a:lnTo>
                      <a:pt x="170" y="67"/>
                    </a:lnTo>
                    <a:lnTo>
                      <a:pt x="180" y="5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5789520" y="27417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98" h="178">
                    <a:moveTo>
                      <a:pt x="39" y="0"/>
                    </a:moveTo>
                    <a:lnTo>
                      <a:pt x="0" y="61"/>
                    </a:lnTo>
                    <a:lnTo>
                      <a:pt x="153" y="178"/>
                    </a:lnTo>
                    <a:lnTo>
                      <a:pt x="198" y="121"/>
                    </a:lnTo>
                    <a:lnTo>
                      <a:pt x="44" y="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5781600" y="27367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206" h="159">
                    <a:moveTo>
                      <a:pt x="13" y="0"/>
                    </a:moveTo>
                    <a:lnTo>
                      <a:pt x="0" y="68"/>
                    </a:lnTo>
                    <a:lnTo>
                      <a:pt x="172" y="159"/>
                    </a:lnTo>
                    <a:lnTo>
                      <a:pt x="206" y="94"/>
                    </a:lnTo>
                    <a:lnTo>
                      <a:pt x="33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5769000" y="273672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239" h="90">
                    <a:moveTo>
                      <a:pt x="0" y="30"/>
                    </a:moveTo>
                    <a:lnTo>
                      <a:pt x="31" y="90"/>
                    </a:lnTo>
                    <a:lnTo>
                      <a:pt x="239" y="72"/>
                    </a:lnTo>
                    <a:lnTo>
                      <a:pt x="233" y="0"/>
                    </a:lnTo>
                    <a:lnTo>
                      <a:pt x="25" y="1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5762520" y="2738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80" h="183">
                    <a:moveTo>
                      <a:pt x="0" y="153"/>
                    </a:moveTo>
                    <a:lnTo>
                      <a:pt x="63" y="183"/>
                    </a:lnTo>
                    <a:lnTo>
                      <a:pt x="180" y="48"/>
                    </a:lnTo>
                    <a:lnTo>
                      <a:pt x="125" y="0"/>
                    </a:lnTo>
                    <a:lnTo>
                      <a:pt x="8" y="13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5761080" y="27464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96" h="158">
                    <a:moveTo>
                      <a:pt x="18" y="158"/>
                    </a:moveTo>
                    <a:lnTo>
                      <a:pt x="71" y="134"/>
                    </a:lnTo>
                    <a:lnTo>
                      <a:pt x="96" y="14"/>
                    </a:lnTo>
                    <a:lnTo>
                      <a:pt x="25" y="0"/>
                    </a:lnTo>
                    <a:lnTo>
                      <a:pt x="0" y="120"/>
                    </a:lnTo>
                    <a:lnTo>
                      <a:pt x="18" y="158"/>
                    </a:lnTo>
                    <a:close/>
                  </a:path>
                </a:pathLst>
              </a:custGeom>
              <a:solidFill>
                <a:srgbClr val="028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5746680" y="270828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825" h="788">
                    <a:moveTo>
                      <a:pt x="445" y="0"/>
                    </a:moveTo>
                    <a:lnTo>
                      <a:pt x="344" y="91"/>
                    </a:lnTo>
                    <a:lnTo>
                      <a:pt x="354" y="272"/>
                    </a:lnTo>
                    <a:lnTo>
                      <a:pt x="155" y="153"/>
                    </a:lnTo>
                    <a:lnTo>
                      <a:pt x="0" y="208"/>
                    </a:lnTo>
                    <a:lnTo>
                      <a:pt x="28" y="371"/>
                    </a:lnTo>
                    <a:lnTo>
                      <a:pt x="190" y="425"/>
                    </a:lnTo>
                    <a:lnTo>
                      <a:pt x="54" y="498"/>
                    </a:lnTo>
                    <a:lnTo>
                      <a:pt x="54" y="643"/>
                    </a:lnTo>
                    <a:lnTo>
                      <a:pt x="291" y="688"/>
                    </a:lnTo>
                    <a:lnTo>
                      <a:pt x="363" y="606"/>
                    </a:lnTo>
                    <a:lnTo>
                      <a:pt x="335" y="733"/>
                    </a:lnTo>
                    <a:lnTo>
                      <a:pt x="463" y="788"/>
                    </a:lnTo>
                    <a:lnTo>
                      <a:pt x="544" y="715"/>
                    </a:lnTo>
                    <a:lnTo>
                      <a:pt x="535" y="597"/>
                    </a:lnTo>
                    <a:lnTo>
                      <a:pt x="689" y="643"/>
                    </a:lnTo>
                    <a:lnTo>
                      <a:pt x="816" y="606"/>
                    </a:lnTo>
                    <a:lnTo>
                      <a:pt x="825" y="471"/>
                    </a:lnTo>
                    <a:lnTo>
                      <a:pt x="735" y="417"/>
                    </a:lnTo>
                    <a:lnTo>
                      <a:pt x="680" y="371"/>
                    </a:lnTo>
                    <a:lnTo>
                      <a:pt x="744" y="281"/>
                    </a:lnTo>
                    <a:lnTo>
                      <a:pt x="789" y="163"/>
                    </a:lnTo>
                    <a:lnTo>
                      <a:pt x="653" y="109"/>
                    </a:lnTo>
                    <a:lnTo>
                      <a:pt x="562" y="199"/>
                    </a:lnTo>
                    <a:lnTo>
                      <a:pt x="553" y="45"/>
                    </a:lnTo>
                    <a:lnTo>
                      <a:pt x="4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5716440" y="25113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342" h="207">
                    <a:moveTo>
                      <a:pt x="0" y="204"/>
                    </a:moveTo>
                    <a:lnTo>
                      <a:pt x="114" y="2"/>
                    </a:lnTo>
                    <a:lnTo>
                      <a:pt x="342" y="0"/>
                    </a:lnTo>
                    <a:lnTo>
                      <a:pt x="312" y="114"/>
                    </a:lnTo>
                    <a:lnTo>
                      <a:pt x="330" y="189"/>
                    </a:lnTo>
                    <a:lnTo>
                      <a:pt x="131" y="207"/>
                    </a:lnTo>
                    <a:lnTo>
                      <a:pt x="113" y="99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5678640" y="251316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417" h="208">
                    <a:moveTo>
                      <a:pt x="0" y="205"/>
                    </a:moveTo>
                    <a:lnTo>
                      <a:pt x="138" y="1"/>
                    </a:lnTo>
                    <a:lnTo>
                      <a:pt x="417" y="0"/>
                    </a:lnTo>
                    <a:lnTo>
                      <a:pt x="381" y="115"/>
                    </a:lnTo>
                    <a:lnTo>
                      <a:pt x="403" y="190"/>
                    </a:lnTo>
                    <a:lnTo>
                      <a:pt x="159" y="208"/>
                    </a:lnTo>
                    <a:lnTo>
                      <a:pt x="137" y="99"/>
                    </a:lnTo>
                    <a:lnTo>
                      <a:pt x="0" y="2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5670720" y="250020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625" h="163">
                    <a:moveTo>
                      <a:pt x="0" y="163"/>
                    </a:moveTo>
                    <a:lnTo>
                      <a:pt x="237" y="31"/>
                    </a:lnTo>
                    <a:lnTo>
                      <a:pt x="517" y="0"/>
                    </a:lnTo>
                    <a:lnTo>
                      <a:pt x="625" y="24"/>
                    </a:lnTo>
                    <a:lnTo>
                      <a:pt x="582" y="71"/>
                    </a:lnTo>
                    <a:lnTo>
                      <a:pt x="452" y="89"/>
                    </a:lnTo>
                    <a:lnTo>
                      <a:pt x="280" y="74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5719680" y="249876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362" h="127">
                    <a:moveTo>
                      <a:pt x="19" y="54"/>
                    </a:moveTo>
                    <a:lnTo>
                      <a:pt x="200" y="0"/>
                    </a:lnTo>
                    <a:lnTo>
                      <a:pt x="362" y="91"/>
                    </a:lnTo>
                    <a:lnTo>
                      <a:pt x="182" y="72"/>
                    </a:lnTo>
                    <a:lnTo>
                      <a:pt x="0" y="127"/>
                    </a:lnTo>
                    <a:lnTo>
                      <a:pt x="19" y="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5411880" y="2797200"/>
                <a:ext cx="446040" cy="46080"/>
              </a:xfrm>
              <a:prstGeom prst="rect">
                <a:avLst/>
              </a:prstGeom>
              <a:solidFill>
                <a:srgbClr val="b6b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5789520" y="237024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1155" h="1156">
                    <a:moveTo>
                      <a:pt x="1155" y="1156"/>
                    </a:moveTo>
                    <a:lnTo>
                      <a:pt x="1155" y="1126"/>
                    </a:lnTo>
                    <a:lnTo>
                      <a:pt x="1154" y="1097"/>
                    </a:lnTo>
                    <a:lnTo>
                      <a:pt x="1152" y="1066"/>
                    </a:lnTo>
                    <a:lnTo>
                      <a:pt x="1149" y="1038"/>
                    </a:lnTo>
                    <a:lnTo>
                      <a:pt x="1146" y="1009"/>
                    </a:lnTo>
                    <a:lnTo>
                      <a:pt x="1142" y="980"/>
                    </a:lnTo>
                    <a:lnTo>
                      <a:pt x="1138" y="952"/>
                    </a:lnTo>
                    <a:lnTo>
                      <a:pt x="1132" y="923"/>
                    </a:lnTo>
                    <a:lnTo>
                      <a:pt x="1126" y="895"/>
                    </a:lnTo>
                    <a:lnTo>
                      <a:pt x="1119" y="867"/>
                    </a:lnTo>
                    <a:lnTo>
                      <a:pt x="1112" y="839"/>
                    </a:lnTo>
                    <a:lnTo>
                      <a:pt x="1104" y="812"/>
                    </a:lnTo>
                    <a:lnTo>
                      <a:pt x="1095" y="786"/>
                    </a:lnTo>
                    <a:lnTo>
                      <a:pt x="1085" y="758"/>
                    </a:lnTo>
                    <a:lnTo>
                      <a:pt x="1075" y="732"/>
                    </a:lnTo>
                    <a:lnTo>
                      <a:pt x="1065" y="707"/>
                    </a:lnTo>
                    <a:lnTo>
                      <a:pt x="1054" y="680"/>
                    </a:lnTo>
                    <a:lnTo>
                      <a:pt x="1042" y="655"/>
                    </a:lnTo>
                    <a:lnTo>
                      <a:pt x="1029" y="630"/>
                    </a:lnTo>
                    <a:lnTo>
                      <a:pt x="1015" y="605"/>
                    </a:lnTo>
                    <a:lnTo>
                      <a:pt x="1002" y="581"/>
                    </a:lnTo>
                    <a:lnTo>
                      <a:pt x="988" y="557"/>
                    </a:lnTo>
                    <a:lnTo>
                      <a:pt x="974" y="533"/>
                    </a:lnTo>
                    <a:lnTo>
                      <a:pt x="959" y="510"/>
                    </a:lnTo>
                    <a:lnTo>
                      <a:pt x="942" y="487"/>
                    </a:lnTo>
                    <a:lnTo>
                      <a:pt x="926" y="465"/>
                    </a:lnTo>
                    <a:lnTo>
                      <a:pt x="909" y="442"/>
                    </a:lnTo>
                    <a:lnTo>
                      <a:pt x="892" y="421"/>
                    </a:lnTo>
                    <a:lnTo>
                      <a:pt x="873" y="400"/>
                    </a:lnTo>
                    <a:lnTo>
                      <a:pt x="855" y="379"/>
                    </a:lnTo>
                    <a:lnTo>
                      <a:pt x="837" y="359"/>
                    </a:lnTo>
                    <a:lnTo>
                      <a:pt x="818" y="339"/>
                    </a:lnTo>
                    <a:lnTo>
                      <a:pt x="797" y="320"/>
                    </a:lnTo>
                    <a:lnTo>
                      <a:pt x="777" y="301"/>
                    </a:lnTo>
                    <a:lnTo>
                      <a:pt x="756" y="282"/>
                    </a:lnTo>
                    <a:lnTo>
                      <a:pt x="734" y="265"/>
                    </a:lnTo>
                    <a:lnTo>
                      <a:pt x="713" y="248"/>
                    </a:lnTo>
                    <a:lnTo>
                      <a:pt x="691" y="230"/>
                    </a:lnTo>
                    <a:lnTo>
                      <a:pt x="668" y="214"/>
                    </a:lnTo>
                    <a:lnTo>
                      <a:pt x="646" y="198"/>
                    </a:lnTo>
                    <a:lnTo>
                      <a:pt x="623" y="183"/>
                    </a:lnTo>
                    <a:lnTo>
                      <a:pt x="598" y="169"/>
                    </a:lnTo>
                    <a:lnTo>
                      <a:pt x="575" y="154"/>
                    </a:lnTo>
                    <a:lnTo>
                      <a:pt x="551" y="140"/>
                    </a:lnTo>
                    <a:lnTo>
                      <a:pt x="525" y="127"/>
                    </a:lnTo>
                    <a:lnTo>
                      <a:pt x="501" y="115"/>
                    </a:lnTo>
                    <a:lnTo>
                      <a:pt x="476" y="103"/>
                    </a:lnTo>
                    <a:lnTo>
                      <a:pt x="449" y="92"/>
                    </a:lnTo>
                    <a:lnTo>
                      <a:pt x="423" y="81"/>
                    </a:lnTo>
                    <a:lnTo>
                      <a:pt x="398" y="71"/>
                    </a:lnTo>
                    <a:lnTo>
                      <a:pt x="370" y="61"/>
                    </a:lnTo>
                    <a:lnTo>
                      <a:pt x="343" y="53"/>
                    </a:lnTo>
                    <a:lnTo>
                      <a:pt x="315" y="45"/>
                    </a:lnTo>
                    <a:lnTo>
                      <a:pt x="288" y="37"/>
                    </a:lnTo>
                    <a:lnTo>
                      <a:pt x="261" y="31"/>
                    </a:lnTo>
                    <a:lnTo>
                      <a:pt x="232" y="25"/>
                    </a:lnTo>
                    <a:lnTo>
                      <a:pt x="204" y="19"/>
                    </a:lnTo>
                    <a:lnTo>
                      <a:pt x="175" y="14"/>
                    </a:lnTo>
                    <a:lnTo>
                      <a:pt x="147" y="11"/>
                    </a:lnTo>
                    <a:lnTo>
                      <a:pt x="118" y="7"/>
                    </a:lnTo>
                    <a:lnTo>
                      <a:pt x="88" y="5"/>
                    </a:lnTo>
                    <a:lnTo>
                      <a:pt x="59" y="2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145"/>
                    </a:lnTo>
                    <a:lnTo>
                      <a:pt x="26" y="146"/>
                    </a:lnTo>
                    <a:lnTo>
                      <a:pt x="52" y="146"/>
                    </a:lnTo>
                    <a:lnTo>
                      <a:pt x="78" y="148"/>
                    </a:lnTo>
                    <a:lnTo>
                      <a:pt x="103" y="150"/>
                    </a:lnTo>
                    <a:lnTo>
                      <a:pt x="129" y="153"/>
                    </a:lnTo>
                    <a:lnTo>
                      <a:pt x="154" y="158"/>
                    </a:lnTo>
                    <a:lnTo>
                      <a:pt x="179" y="162"/>
                    </a:lnTo>
                    <a:lnTo>
                      <a:pt x="204" y="166"/>
                    </a:lnTo>
                    <a:lnTo>
                      <a:pt x="228" y="172"/>
                    </a:lnTo>
                    <a:lnTo>
                      <a:pt x="253" y="177"/>
                    </a:lnTo>
                    <a:lnTo>
                      <a:pt x="277" y="184"/>
                    </a:lnTo>
                    <a:lnTo>
                      <a:pt x="300" y="191"/>
                    </a:lnTo>
                    <a:lnTo>
                      <a:pt x="324" y="199"/>
                    </a:lnTo>
                    <a:lnTo>
                      <a:pt x="347" y="207"/>
                    </a:lnTo>
                    <a:lnTo>
                      <a:pt x="370" y="215"/>
                    </a:lnTo>
                    <a:lnTo>
                      <a:pt x="394" y="224"/>
                    </a:lnTo>
                    <a:lnTo>
                      <a:pt x="416" y="235"/>
                    </a:lnTo>
                    <a:lnTo>
                      <a:pt x="438" y="245"/>
                    </a:lnTo>
                    <a:lnTo>
                      <a:pt x="461" y="256"/>
                    </a:lnTo>
                    <a:lnTo>
                      <a:pt x="482" y="267"/>
                    </a:lnTo>
                    <a:lnTo>
                      <a:pt x="503" y="279"/>
                    </a:lnTo>
                    <a:lnTo>
                      <a:pt x="524" y="291"/>
                    </a:lnTo>
                    <a:lnTo>
                      <a:pt x="545" y="304"/>
                    </a:lnTo>
                    <a:lnTo>
                      <a:pt x="565" y="318"/>
                    </a:lnTo>
                    <a:lnTo>
                      <a:pt x="585" y="332"/>
                    </a:lnTo>
                    <a:lnTo>
                      <a:pt x="605" y="346"/>
                    </a:lnTo>
                    <a:lnTo>
                      <a:pt x="624" y="361"/>
                    </a:lnTo>
                    <a:lnTo>
                      <a:pt x="643" y="376"/>
                    </a:lnTo>
                    <a:lnTo>
                      <a:pt x="661" y="392"/>
                    </a:lnTo>
                    <a:lnTo>
                      <a:pt x="680" y="408"/>
                    </a:lnTo>
                    <a:lnTo>
                      <a:pt x="697" y="424"/>
                    </a:lnTo>
                    <a:lnTo>
                      <a:pt x="714" y="441"/>
                    </a:lnTo>
                    <a:lnTo>
                      <a:pt x="731" y="458"/>
                    </a:lnTo>
                    <a:lnTo>
                      <a:pt x="749" y="477"/>
                    </a:lnTo>
                    <a:lnTo>
                      <a:pt x="764" y="495"/>
                    </a:lnTo>
                    <a:lnTo>
                      <a:pt x="780" y="513"/>
                    </a:lnTo>
                    <a:lnTo>
                      <a:pt x="795" y="532"/>
                    </a:lnTo>
                    <a:lnTo>
                      <a:pt x="809" y="552"/>
                    </a:lnTo>
                    <a:lnTo>
                      <a:pt x="825" y="571"/>
                    </a:lnTo>
                    <a:lnTo>
                      <a:pt x="838" y="591"/>
                    </a:lnTo>
                    <a:lnTo>
                      <a:pt x="852" y="611"/>
                    </a:lnTo>
                    <a:lnTo>
                      <a:pt x="864" y="632"/>
                    </a:lnTo>
                    <a:lnTo>
                      <a:pt x="877" y="653"/>
                    </a:lnTo>
                    <a:lnTo>
                      <a:pt x="889" y="674"/>
                    </a:lnTo>
                    <a:lnTo>
                      <a:pt x="901" y="696"/>
                    </a:lnTo>
                    <a:lnTo>
                      <a:pt x="911" y="718"/>
                    </a:lnTo>
                    <a:lnTo>
                      <a:pt x="921" y="740"/>
                    </a:lnTo>
                    <a:lnTo>
                      <a:pt x="931" y="762"/>
                    </a:lnTo>
                    <a:lnTo>
                      <a:pt x="940" y="785"/>
                    </a:lnTo>
                    <a:lnTo>
                      <a:pt x="949" y="808"/>
                    </a:lnTo>
                    <a:lnTo>
                      <a:pt x="958" y="831"/>
                    </a:lnTo>
                    <a:lnTo>
                      <a:pt x="966" y="855"/>
                    </a:lnTo>
                    <a:lnTo>
                      <a:pt x="973" y="879"/>
                    </a:lnTo>
                    <a:lnTo>
                      <a:pt x="979" y="903"/>
                    </a:lnTo>
                    <a:lnTo>
                      <a:pt x="985" y="928"/>
                    </a:lnTo>
                    <a:lnTo>
                      <a:pt x="990" y="952"/>
                    </a:lnTo>
                    <a:lnTo>
                      <a:pt x="995" y="976"/>
                    </a:lnTo>
                    <a:lnTo>
                      <a:pt x="999" y="1002"/>
                    </a:lnTo>
                    <a:lnTo>
                      <a:pt x="1003" y="1027"/>
                    </a:lnTo>
                    <a:lnTo>
                      <a:pt x="1005" y="1052"/>
                    </a:lnTo>
                    <a:lnTo>
                      <a:pt x="1008" y="1078"/>
                    </a:lnTo>
                    <a:lnTo>
                      <a:pt x="1009" y="1103"/>
                    </a:lnTo>
                    <a:lnTo>
                      <a:pt x="1010" y="1129"/>
                    </a:lnTo>
                    <a:lnTo>
                      <a:pt x="1010" y="1156"/>
                    </a:lnTo>
                    <a:lnTo>
                      <a:pt x="1155" y="1156"/>
                    </a:lnTo>
                    <a:close/>
                  </a:path>
                </a:pathLst>
              </a:custGeom>
              <a:solidFill>
                <a:srgbClr val="c8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5843520" y="2430360"/>
                <a:ext cx="7920" cy="306360"/>
              </a:xfrm>
              <a:prstGeom prst="rect">
                <a:avLst/>
              </a:prstGeom>
              <a:solidFill>
                <a:srgbClr val="c8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5789520" y="27367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1155" h="1155">
                    <a:moveTo>
                      <a:pt x="0" y="1155"/>
                    </a:moveTo>
                    <a:lnTo>
                      <a:pt x="29" y="1154"/>
                    </a:lnTo>
                    <a:lnTo>
                      <a:pt x="59" y="1153"/>
                    </a:lnTo>
                    <a:lnTo>
                      <a:pt x="88" y="1151"/>
                    </a:lnTo>
                    <a:lnTo>
                      <a:pt x="118" y="1149"/>
                    </a:lnTo>
                    <a:lnTo>
                      <a:pt x="147" y="1145"/>
                    </a:lnTo>
                    <a:lnTo>
                      <a:pt x="175" y="1142"/>
                    </a:lnTo>
                    <a:lnTo>
                      <a:pt x="204" y="1137"/>
                    </a:lnTo>
                    <a:lnTo>
                      <a:pt x="232" y="1131"/>
                    </a:lnTo>
                    <a:lnTo>
                      <a:pt x="261" y="1125"/>
                    </a:lnTo>
                    <a:lnTo>
                      <a:pt x="288" y="1118"/>
                    </a:lnTo>
                    <a:lnTo>
                      <a:pt x="315" y="1110"/>
                    </a:lnTo>
                    <a:lnTo>
                      <a:pt x="344" y="1102"/>
                    </a:lnTo>
                    <a:lnTo>
                      <a:pt x="370" y="1094"/>
                    </a:lnTo>
                    <a:lnTo>
                      <a:pt x="398" y="1084"/>
                    </a:lnTo>
                    <a:lnTo>
                      <a:pt x="423" y="1075"/>
                    </a:lnTo>
                    <a:lnTo>
                      <a:pt x="449" y="1064"/>
                    </a:lnTo>
                    <a:lnTo>
                      <a:pt x="476" y="1053"/>
                    </a:lnTo>
                    <a:lnTo>
                      <a:pt x="501" y="1040"/>
                    </a:lnTo>
                    <a:lnTo>
                      <a:pt x="525" y="1028"/>
                    </a:lnTo>
                    <a:lnTo>
                      <a:pt x="551" y="1015"/>
                    </a:lnTo>
                    <a:lnTo>
                      <a:pt x="575" y="1002"/>
                    </a:lnTo>
                    <a:lnTo>
                      <a:pt x="598" y="987"/>
                    </a:lnTo>
                    <a:lnTo>
                      <a:pt x="623" y="973"/>
                    </a:lnTo>
                    <a:lnTo>
                      <a:pt x="646" y="957"/>
                    </a:lnTo>
                    <a:lnTo>
                      <a:pt x="668" y="941"/>
                    </a:lnTo>
                    <a:lnTo>
                      <a:pt x="691" y="925"/>
                    </a:lnTo>
                    <a:lnTo>
                      <a:pt x="713" y="909"/>
                    </a:lnTo>
                    <a:lnTo>
                      <a:pt x="734" y="890"/>
                    </a:lnTo>
                    <a:lnTo>
                      <a:pt x="756" y="873"/>
                    </a:lnTo>
                    <a:lnTo>
                      <a:pt x="777" y="855"/>
                    </a:lnTo>
                    <a:lnTo>
                      <a:pt x="797" y="836"/>
                    </a:lnTo>
                    <a:lnTo>
                      <a:pt x="818" y="816"/>
                    </a:lnTo>
                    <a:lnTo>
                      <a:pt x="837" y="796"/>
                    </a:lnTo>
                    <a:lnTo>
                      <a:pt x="855" y="776"/>
                    </a:lnTo>
                    <a:lnTo>
                      <a:pt x="873" y="756"/>
                    </a:lnTo>
                    <a:lnTo>
                      <a:pt x="892" y="734"/>
                    </a:lnTo>
                    <a:lnTo>
                      <a:pt x="909" y="713"/>
                    </a:lnTo>
                    <a:lnTo>
                      <a:pt x="926" y="691"/>
                    </a:lnTo>
                    <a:lnTo>
                      <a:pt x="942" y="669"/>
                    </a:lnTo>
                    <a:lnTo>
                      <a:pt x="959" y="645"/>
                    </a:lnTo>
                    <a:lnTo>
                      <a:pt x="974" y="622"/>
                    </a:lnTo>
                    <a:lnTo>
                      <a:pt x="988" y="599"/>
                    </a:lnTo>
                    <a:lnTo>
                      <a:pt x="1002" y="574"/>
                    </a:lnTo>
                    <a:lnTo>
                      <a:pt x="1015" y="550"/>
                    </a:lnTo>
                    <a:lnTo>
                      <a:pt x="1029" y="526"/>
                    </a:lnTo>
                    <a:lnTo>
                      <a:pt x="1042" y="500"/>
                    </a:lnTo>
                    <a:lnTo>
                      <a:pt x="1054" y="475"/>
                    </a:lnTo>
                    <a:lnTo>
                      <a:pt x="1065" y="450"/>
                    </a:lnTo>
                    <a:lnTo>
                      <a:pt x="1075" y="423"/>
                    </a:lnTo>
                    <a:lnTo>
                      <a:pt x="1085" y="397"/>
                    </a:lnTo>
                    <a:lnTo>
                      <a:pt x="1095" y="371"/>
                    </a:lnTo>
                    <a:lnTo>
                      <a:pt x="1104" y="343"/>
                    </a:lnTo>
                    <a:lnTo>
                      <a:pt x="1112" y="316"/>
                    </a:lnTo>
                    <a:lnTo>
                      <a:pt x="1119" y="289"/>
                    </a:lnTo>
                    <a:lnTo>
                      <a:pt x="1126" y="260"/>
                    </a:lnTo>
                    <a:lnTo>
                      <a:pt x="1132" y="233"/>
                    </a:lnTo>
                    <a:lnTo>
                      <a:pt x="1138" y="204"/>
                    </a:lnTo>
                    <a:lnTo>
                      <a:pt x="1142" y="176"/>
                    </a:lnTo>
                    <a:lnTo>
                      <a:pt x="1146" y="147"/>
                    </a:lnTo>
                    <a:lnTo>
                      <a:pt x="1149" y="117"/>
                    </a:lnTo>
                    <a:lnTo>
                      <a:pt x="1152" y="89"/>
                    </a:lnTo>
                    <a:lnTo>
                      <a:pt x="1154" y="60"/>
                    </a:lnTo>
                    <a:lnTo>
                      <a:pt x="1155" y="30"/>
                    </a:lnTo>
                    <a:lnTo>
                      <a:pt x="1155" y="0"/>
                    </a:lnTo>
                    <a:lnTo>
                      <a:pt x="1010" y="0"/>
                    </a:lnTo>
                    <a:lnTo>
                      <a:pt x="1010" y="26"/>
                    </a:lnTo>
                    <a:lnTo>
                      <a:pt x="1009" y="52"/>
                    </a:lnTo>
                    <a:lnTo>
                      <a:pt x="1008" y="78"/>
                    </a:lnTo>
                    <a:lnTo>
                      <a:pt x="1005" y="103"/>
                    </a:lnTo>
                    <a:lnTo>
                      <a:pt x="1003" y="128"/>
                    </a:lnTo>
                    <a:lnTo>
                      <a:pt x="999" y="154"/>
                    </a:lnTo>
                    <a:lnTo>
                      <a:pt x="995" y="179"/>
                    </a:lnTo>
                    <a:lnTo>
                      <a:pt x="990" y="203"/>
                    </a:lnTo>
                    <a:lnTo>
                      <a:pt x="985" y="229"/>
                    </a:lnTo>
                    <a:lnTo>
                      <a:pt x="979" y="253"/>
                    </a:lnTo>
                    <a:lnTo>
                      <a:pt x="973" y="276"/>
                    </a:lnTo>
                    <a:lnTo>
                      <a:pt x="966" y="301"/>
                    </a:lnTo>
                    <a:lnTo>
                      <a:pt x="958" y="324"/>
                    </a:lnTo>
                    <a:lnTo>
                      <a:pt x="949" y="347"/>
                    </a:lnTo>
                    <a:lnTo>
                      <a:pt x="940" y="371"/>
                    </a:lnTo>
                    <a:lnTo>
                      <a:pt x="931" y="393"/>
                    </a:lnTo>
                    <a:lnTo>
                      <a:pt x="921" y="415"/>
                    </a:lnTo>
                    <a:lnTo>
                      <a:pt x="911" y="437"/>
                    </a:lnTo>
                    <a:lnTo>
                      <a:pt x="901" y="460"/>
                    </a:lnTo>
                    <a:lnTo>
                      <a:pt x="889" y="481"/>
                    </a:lnTo>
                    <a:lnTo>
                      <a:pt x="877" y="502"/>
                    </a:lnTo>
                    <a:lnTo>
                      <a:pt x="864" y="524"/>
                    </a:lnTo>
                    <a:lnTo>
                      <a:pt x="852" y="544"/>
                    </a:lnTo>
                    <a:lnTo>
                      <a:pt x="838" y="564"/>
                    </a:lnTo>
                    <a:lnTo>
                      <a:pt x="825" y="584"/>
                    </a:lnTo>
                    <a:lnTo>
                      <a:pt x="810" y="604"/>
                    </a:lnTo>
                    <a:lnTo>
                      <a:pt x="795" y="623"/>
                    </a:lnTo>
                    <a:lnTo>
                      <a:pt x="780" y="642"/>
                    </a:lnTo>
                    <a:lnTo>
                      <a:pt x="764" y="661"/>
                    </a:lnTo>
                    <a:lnTo>
                      <a:pt x="749" y="679"/>
                    </a:lnTo>
                    <a:lnTo>
                      <a:pt x="731" y="697"/>
                    </a:lnTo>
                    <a:lnTo>
                      <a:pt x="714" y="714"/>
                    </a:lnTo>
                    <a:lnTo>
                      <a:pt x="697" y="731"/>
                    </a:lnTo>
                    <a:lnTo>
                      <a:pt x="680" y="748"/>
                    </a:lnTo>
                    <a:lnTo>
                      <a:pt x="661" y="764"/>
                    </a:lnTo>
                    <a:lnTo>
                      <a:pt x="643" y="779"/>
                    </a:lnTo>
                    <a:lnTo>
                      <a:pt x="624" y="794"/>
                    </a:lnTo>
                    <a:lnTo>
                      <a:pt x="605" y="809"/>
                    </a:lnTo>
                    <a:lnTo>
                      <a:pt x="585" y="824"/>
                    </a:lnTo>
                    <a:lnTo>
                      <a:pt x="565" y="838"/>
                    </a:lnTo>
                    <a:lnTo>
                      <a:pt x="545" y="851"/>
                    </a:lnTo>
                    <a:lnTo>
                      <a:pt x="524" y="864"/>
                    </a:lnTo>
                    <a:lnTo>
                      <a:pt x="503" y="876"/>
                    </a:lnTo>
                    <a:lnTo>
                      <a:pt x="482" y="888"/>
                    </a:lnTo>
                    <a:lnTo>
                      <a:pt x="461" y="900"/>
                    </a:lnTo>
                    <a:lnTo>
                      <a:pt x="438" y="911"/>
                    </a:lnTo>
                    <a:lnTo>
                      <a:pt x="416" y="921"/>
                    </a:lnTo>
                    <a:lnTo>
                      <a:pt x="394" y="931"/>
                    </a:lnTo>
                    <a:lnTo>
                      <a:pt x="370" y="940"/>
                    </a:lnTo>
                    <a:lnTo>
                      <a:pt x="347" y="948"/>
                    </a:lnTo>
                    <a:lnTo>
                      <a:pt x="324" y="957"/>
                    </a:lnTo>
                    <a:lnTo>
                      <a:pt x="300" y="964"/>
                    </a:lnTo>
                    <a:lnTo>
                      <a:pt x="277" y="971"/>
                    </a:lnTo>
                    <a:lnTo>
                      <a:pt x="253" y="978"/>
                    </a:lnTo>
                    <a:lnTo>
                      <a:pt x="228" y="984"/>
                    </a:lnTo>
                    <a:lnTo>
                      <a:pt x="204" y="990"/>
                    </a:lnTo>
                    <a:lnTo>
                      <a:pt x="179" y="994"/>
                    </a:lnTo>
                    <a:lnTo>
                      <a:pt x="154" y="998"/>
                    </a:lnTo>
                    <a:lnTo>
                      <a:pt x="129" y="1002"/>
                    </a:lnTo>
                    <a:lnTo>
                      <a:pt x="103" y="1005"/>
                    </a:lnTo>
                    <a:lnTo>
                      <a:pt x="78" y="1007"/>
                    </a:lnTo>
                    <a:lnTo>
                      <a:pt x="52" y="1009"/>
                    </a:lnTo>
                    <a:lnTo>
                      <a:pt x="26" y="1009"/>
                    </a:lnTo>
                    <a:lnTo>
                      <a:pt x="0" y="1010"/>
                    </a:lnTo>
                    <a:lnTo>
                      <a:pt x="0" y="1155"/>
                    </a:lnTo>
                    <a:close/>
                  </a:path>
                </a:pathLst>
              </a:custGeom>
              <a:solidFill>
                <a:srgbClr val="c8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5241960" y="27367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1156" h="1155">
                    <a:moveTo>
                      <a:pt x="0" y="0"/>
                    </a:moveTo>
                    <a:lnTo>
                      <a:pt x="0" y="30"/>
                    </a:lnTo>
                    <a:lnTo>
                      <a:pt x="1" y="60"/>
                    </a:lnTo>
                    <a:lnTo>
                      <a:pt x="3" y="89"/>
                    </a:lnTo>
                    <a:lnTo>
                      <a:pt x="6" y="117"/>
                    </a:lnTo>
                    <a:lnTo>
                      <a:pt x="9" y="147"/>
                    </a:lnTo>
                    <a:lnTo>
                      <a:pt x="14" y="176"/>
                    </a:lnTo>
                    <a:lnTo>
                      <a:pt x="18" y="204"/>
                    </a:lnTo>
                    <a:lnTo>
                      <a:pt x="24" y="233"/>
                    </a:lnTo>
                    <a:lnTo>
                      <a:pt x="30" y="260"/>
                    </a:lnTo>
                    <a:lnTo>
                      <a:pt x="36" y="289"/>
                    </a:lnTo>
                    <a:lnTo>
                      <a:pt x="44" y="316"/>
                    </a:lnTo>
                    <a:lnTo>
                      <a:pt x="52" y="343"/>
                    </a:lnTo>
                    <a:lnTo>
                      <a:pt x="61" y="370"/>
                    </a:lnTo>
                    <a:lnTo>
                      <a:pt x="70" y="397"/>
                    </a:lnTo>
                    <a:lnTo>
                      <a:pt x="80" y="423"/>
                    </a:lnTo>
                    <a:lnTo>
                      <a:pt x="91" y="450"/>
                    </a:lnTo>
                    <a:lnTo>
                      <a:pt x="102" y="475"/>
                    </a:lnTo>
                    <a:lnTo>
                      <a:pt x="114" y="500"/>
                    </a:lnTo>
                    <a:lnTo>
                      <a:pt x="126" y="526"/>
                    </a:lnTo>
                    <a:lnTo>
                      <a:pt x="139" y="550"/>
                    </a:lnTo>
                    <a:lnTo>
                      <a:pt x="154" y="574"/>
                    </a:lnTo>
                    <a:lnTo>
                      <a:pt x="168" y="599"/>
                    </a:lnTo>
                    <a:lnTo>
                      <a:pt x="182" y="622"/>
                    </a:lnTo>
                    <a:lnTo>
                      <a:pt x="197" y="645"/>
                    </a:lnTo>
                    <a:lnTo>
                      <a:pt x="213" y="669"/>
                    </a:lnTo>
                    <a:lnTo>
                      <a:pt x="230" y="691"/>
                    </a:lnTo>
                    <a:lnTo>
                      <a:pt x="247" y="713"/>
                    </a:lnTo>
                    <a:lnTo>
                      <a:pt x="264" y="734"/>
                    </a:lnTo>
                    <a:lnTo>
                      <a:pt x="282" y="756"/>
                    </a:lnTo>
                    <a:lnTo>
                      <a:pt x="301" y="776"/>
                    </a:lnTo>
                    <a:lnTo>
                      <a:pt x="319" y="796"/>
                    </a:lnTo>
                    <a:lnTo>
                      <a:pt x="338" y="816"/>
                    </a:lnTo>
                    <a:lnTo>
                      <a:pt x="358" y="836"/>
                    </a:lnTo>
                    <a:lnTo>
                      <a:pt x="379" y="855"/>
                    </a:lnTo>
                    <a:lnTo>
                      <a:pt x="399" y="873"/>
                    </a:lnTo>
                    <a:lnTo>
                      <a:pt x="420" y="890"/>
                    </a:lnTo>
                    <a:lnTo>
                      <a:pt x="442" y="909"/>
                    </a:lnTo>
                    <a:lnTo>
                      <a:pt x="464" y="925"/>
                    </a:lnTo>
                    <a:lnTo>
                      <a:pt x="486" y="941"/>
                    </a:lnTo>
                    <a:lnTo>
                      <a:pt x="510" y="957"/>
                    </a:lnTo>
                    <a:lnTo>
                      <a:pt x="533" y="973"/>
                    </a:lnTo>
                    <a:lnTo>
                      <a:pt x="556" y="987"/>
                    </a:lnTo>
                    <a:lnTo>
                      <a:pt x="581" y="1002"/>
                    </a:lnTo>
                    <a:lnTo>
                      <a:pt x="605" y="1015"/>
                    </a:lnTo>
                    <a:lnTo>
                      <a:pt x="629" y="1028"/>
                    </a:lnTo>
                    <a:lnTo>
                      <a:pt x="655" y="1040"/>
                    </a:lnTo>
                    <a:lnTo>
                      <a:pt x="680" y="1053"/>
                    </a:lnTo>
                    <a:lnTo>
                      <a:pt x="706" y="1064"/>
                    </a:lnTo>
                    <a:lnTo>
                      <a:pt x="732" y="1075"/>
                    </a:lnTo>
                    <a:lnTo>
                      <a:pt x="758" y="1084"/>
                    </a:lnTo>
                    <a:lnTo>
                      <a:pt x="785" y="1094"/>
                    </a:lnTo>
                    <a:lnTo>
                      <a:pt x="812" y="1102"/>
                    </a:lnTo>
                    <a:lnTo>
                      <a:pt x="839" y="1110"/>
                    </a:lnTo>
                    <a:lnTo>
                      <a:pt x="868" y="1118"/>
                    </a:lnTo>
                    <a:lnTo>
                      <a:pt x="895" y="1125"/>
                    </a:lnTo>
                    <a:lnTo>
                      <a:pt x="923" y="1131"/>
                    </a:lnTo>
                    <a:lnTo>
                      <a:pt x="952" y="1137"/>
                    </a:lnTo>
                    <a:lnTo>
                      <a:pt x="980" y="1142"/>
                    </a:lnTo>
                    <a:lnTo>
                      <a:pt x="1009" y="1145"/>
                    </a:lnTo>
                    <a:lnTo>
                      <a:pt x="1038" y="1149"/>
                    </a:lnTo>
                    <a:lnTo>
                      <a:pt x="1067" y="1151"/>
                    </a:lnTo>
                    <a:lnTo>
                      <a:pt x="1097" y="1153"/>
                    </a:lnTo>
                    <a:lnTo>
                      <a:pt x="1126" y="1154"/>
                    </a:lnTo>
                    <a:lnTo>
                      <a:pt x="1156" y="1155"/>
                    </a:lnTo>
                    <a:lnTo>
                      <a:pt x="1156" y="1010"/>
                    </a:lnTo>
                    <a:lnTo>
                      <a:pt x="1129" y="1009"/>
                    </a:lnTo>
                    <a:lnTo>
                      <a:pt x="1104" y="1009"/>
                    </a:lnTo>
                    <a:lnTo>
                      <a:pt x="1078" y="1007"/>
                    </a:lnTo>
                    <a:lnTo>
                      <a:pt x="1052" y="1005"/>
                    </a:lnTo>
                    <a:lnTo>
                      <a:pt x="1027" y="1002"/>
                    </a:lnTo>
                    <a:lnTo>
                      <a:pt x="1002" y="998"/>
                    </a:lnTo>
                    <a:lnTo>
                      <a:pt x="977" y="994"/>
                    </a:lnTo>
                    <a:lnTo>
                      <a:pt x="952" y="990"/>
                    </a:lnTo>
                    <a:lnTo>
                      <a:pt x="927" y="984"/>
                    </a:lnTo>
                    <a:lnTo>
                      <a:pt x="903" y="978"/>
                    </a:lnTo>
                    <a:lnTo>
                      <a:pt x="879" y="971"/>
                    </a:lnTo>
                    <a:lnTo>
                      <a:pt x="855" y="964"/>
                    </a:lnTo>
                    <a:lnTo>
                      <a:pt x="831" y="957"/>
                    </a:lnTo>
                    <a:lnTo>
                      <a:pt x="808" y="948"/>
                    </a:lnTo>
                    <a:lnTo>
                      <a:pt x="785" y="940"/>
                    </a:lnTo>
                    <a:lnTo>
                      <a:pt x="762" y="931"/>
                    </a:lnTo>
                    <a:lnTo>
                      <a:pt x="740" y="921"/>
                    </a:lnTo>
                    <a:lnTo>
                      <a:pt x="717" y="911"/>
                    </a:lnTo>
                    <a:lnTo>
                      <a:pt x="695" y="900"/>
                    </a:lnTo>
                    <a:lnTo>
                      <a:pt x="674" y="888"/>
                    </a:lnTo>
                    <a:lnTo>
                      <a:pt x="653" y="876"/>
                    </a:lnTo>
                    <a:lnTo>
                      <a:pt x="631" y="864"/>
                    </a:lnTo>
                    <a:lnTo>
                      <a:pt x="611" y="851"/>
                    </a:lnTo>
                    <a:lnTo>
                      <a:pt x="591" y="838"/>
                    </a:lnTo>
                    <a:lnTo>
                      <a:pt x="570" y="824"/>
                    </a:lnTo>
                    <a:lnTo>
                      <a:pt x="551" y="809"/>
                    </a:lnTo>
                    <a:lnTo>
                      <a:pt x="532" y="794"/>
                    </a:lnTo>
                    <a:lnTo>
                      <a:pt x="513" y="779"/>
                    </a:lnTo>
                    <a:lnTo>
                      <a:pt x="494" y="764"/>
                    </a:lnTo>
                    <a:lnTo>
                      <a:pt x="476" y="748"/>
                    </a:lnTo>
                    <a:lnTo>
                      <a:pt x="458" y="731"/>
                    </a:lnTo>
                    <a:lnTo>
                      <a:pt x="441" y="714"/>
                    </a:lnTo>
                    <a:lnTo>
                      <a:pt x="424" y="697"/>
                    </a:lnTo>
                    <a:lnTo>
                      <a:pt x="407" y="679"/>
                    </a:lnTo>
                    <a:lnTo>
                      <a:pt x="391" y="661"/>
                    </a:lnTo>
                    <a:lnTo>
                      <a:pt x="376" y="642"/>
                    </a:lnTo>
                    <a:lnTo>
                      <a:pt x="360" y="623"/>
                    </a:lnTo>
                    <a:lnTo>
                      <a:pt x="345" y="604"/>
                    </a:lnTo>
                    <a:lnTo>
                      <a:pt x="331" y="584"/>
                    </a:lnTo>
                    <a:lnTo>
                      <a:pt x="318" y="564"/>
                    </a:lnTo>
                    <a:lnTo>
                      <a:pt x="304" y="544"/>
                    </a:lnTo>
                    <a:lnTo>
                      <a:pt x="291" y="524"/>
                    </a:lnTo>
                    <a:lnTo>
                      <a:pt x="278" y="502"/>
                    </a:lnTo>
                    <a:lnTo>
                      <a:pt x="267" y="481"/>
                    </a:lnTo>
                    <a:lnTo>
                      <a:pt x="255" y="460"/>
                    </a:lnTo>
                    <a:lnTo>
                      <a:pt x="245" y="437"/>
                    </a:lnTo>
                    <a:lnTo>
                      <a:pt x="234" y="415"/>
                    </a:lnTo>
                    <a:lnTo>
                      <a:pt x="225" y="393"/>
                    </a:lnTo>
                    <a:lnTo>
                      <a:pt x="215" y="371"/>
                    </a:lnTo>
                    <a:lnTo>
                      <a:pt x="206" y="347"/>
                    </a:lnTo>
                    <a:lnTo>
                      <a:pt x="198" y="324"/>
                    </a:lnTo>
                    <a:lnTo>
                      <a:pt x="190" y="301"/>
                    </a:lnTo>
                    <a:lnTo>
                      <a:pt x="183" y="276"/>
                    </a:lnTo>
                    <a:lnTo>
                      <a:pt x="177" y="253"/>
                    </a:lnTo>
                    <a:lnTo>
                      <a:pt x="171" y="229"/>
                    </a:lnTo>
                    <a:lnTo>
                      <a:pt x="166" y="203"/>
                    </a:lnTo>
                    <a:lnTo>
                      <a:pt x="161" y="179"/>
                    </a:lnTo>
                    <a:lnTo>
                      <a:pt x="157" y="154"/>
                    </a:lnTo>
                    <a:lnTo>
                      <a:pt x="152" y="128"/>
                    </a:lnTo>
                    <a:lnTo>
                      <a:pt x="150" y="103"/>
                    </a:lnTo>
                    <a:lnTo>
                      <a:pt x="147" y="78"/>
                    </a:lnTo>
                    <a:lnTo>
                      <a:pt x="146" y="52"/>
                    </a:lnTo>
                    <a:lnTo>
                      <a:pt x="145" y="26"/>
                    </a:lnTo>
                    <a:lnTo>
                      <a:pt x="1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5241960" y="237024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1156" h="1156">
                    <a:moveTo>
                      <a:pt x="1156" y="0"/>
                    </a:moveTo>
                    <a:lnTo>
                      <a:pt x="1126" y="1"/>
                    </a:lnTo>
                    <a:lnTo>
                      <a:pt x="1097" y="2"/>
                    </a:lnTo>
                    <a:lnTo>
                      <a:pt x="1067" y="5"/>
                    </a:lnTo>
                    <a:lnTo>
                      <a:pt x="1038" y="7"/>
                    </a:lnTo>
                    <a:lnTo>
                      <a:pt x="1009" y="11"/>
                    </a:lnTo>
                    <a:lnTo>
                      <a:pt x="980" y="14"/>
                    </a:lnTo>
                    <a:lnTo>
                      <a:pt x="952" y="19"/>
                    </a:lnTo>
                    <a:lnTo>
                      <a:pt x="923" y="25"/>
                    </a:lnTo>
                    <a:lnTo>
                      <a:pt x="895" y="31"/>
                    </a:lnTo>
                    <a:lnTo>
                      <a:pt x="868" y="37"/>
                    </a:lnTo>
                    <a:lnTo>
                      <a:pt x="839" y="45"/>
                    </a:lnTo>
                    <a:lnTo>
                      <a:pt x="813" y="53"/>
                    </a:lnTo>
                    <a:lnTo>
                      <a:pt x="785" y="61"/>
                    </a:lnTo>
                    <a:lnTo>
                      <a:pt x="758" y="71"/>
                    </a:lnTo>
                    <a:lnTo>
                      <a:pt x="732" y="81"/>
                    </a:lnTo>
                    <a:lnTo>
                      <a:pt x="706" y="92"/>
                    </a:lnTo>
                    <a:lnTo>
                      <a:pt x="680" y="103"/>
                    </a:lnTo>
                    <a:lnTo>
                      <a:pt x="655" y="115"/>
                    </a:lnTo>
                    <a:lnTo>
                      <a:pt x="629" y="127"/>
                    </a:lnTo>
                    <a:lnTo>
                      <a:pt x="605" y="140"/>
                    </a:lnTo>
                    <a:lnTo>
                      <a:pt x="581" y="154"/>
                    </a:lnTo>
                    <a:lnTo>
                      <a:pt x="556" y="169"/>
                    </a:lnTo>
                    <a:lnTo>
                      <a:pt x="533" y="183"/>
                    </a:lnTo>
                    <a:lnTo>
                      <a:pt x="510" y="198"/>
                    </a:lnTo>
                    <a:lnTo>
                      <a:pt x="486" y="214"/>
                    </a:lnTo>
                    <a:lnTo>
                      <a:pt x="464" y="230"/>
                    </a:lnTo>
                    <a:lnTo>
                      <a:pt x="442" y="248"/>
                    </a:lnTo>
                    <a:lnTo>
                      <a:pt x="420" y="265"/>
                    </a:lnTo>
                    <a:lnTo>
                      <a:pt x="399" y="282"/>
                    </a:lnTo>
                    <a:lnTo>
                      <a:pt x="379" y="301"/>
                    </a:lnTo>
                    <a:lnTo>
                      <a:pt x="358" y="320"/>
                    </a:lnTo>
                    <a:lnTo>
                      <a:pt x="338" y="339"/>
                    </a:lnTo>
                    <a:lnTo>
                      <a:pt x="319" y="359"/>
                    </a:lnTo>
                    <a:lnTo>
                      <a:pt x="301" y="379"/>
                    </a:lnTo>
                    <a:lnTo>
                      <a:pt x="282" y="400"/>
                    </a:lnTo>
                    <a:lnTo>
                      <a:pt x="264" y="421"/>
                    </a:lnTo>
                    <a:lnTo>
                      <a:pt x="247" y="442"/>
                    </a:lnTo>
                    <a:lnTo>
                      <a:pt x="230" y="465"/>
                    </a:lnTo>
                    <a:lnTo>
                      <a:pt x="213" y="487"/>
                    </a:lnTo>
                    <a:lnTo>
                      <a:pt x="197" y="510"/>
                    </a:lnTo>
                    <a:lnTo>
                      <a:pt x="182" y="533"/>
                    </a:lnTo>
                    <a:lnTo>
                      <a:pt x="168" y="557"/>
                    </a:lnTo>
                    <a:lnTo>
                      <a:pt x="154" y="581"/>
                    </a:lnTo>
                    <a:lnTo>
                      <a:pt x="139" y="605"/>
                    </a:lnTo>
                    <a:lnTo>
                      <a:pt x="126" y="630"/>
                    </a:lnTo>
                    <a:lnTo>
                      <a:pt x="114" y="655"/>
                    </a:lnTo>
                    <a:lnTo>
                      <a:pt x="102" y="680"/>
                    </a:lnTo>
                    <a:lnTo>
                      <a:pt x="91" y="707"/>
                    </a:lnTo>
                    <a:lnTo>
                      <a:pt x="80" y="732"/>
                    </a:lnTo>
                    <a:lnTo>
                      <a:pt x="70" y="758"/>
                    </a:lnTo>
                    <a:lnTo>
                      <a:pt x="61" y="786"/>
                    </a:lnTo>
                    <a:lnTo>
                      <a:pt x="52" y="812"/>
                    </a:lnTo>
                    <a:lnTo>
                      <a:pt x="44" y="839"/>
                    </a:lnTo>
                    <a:lnTo>
                      <a:pt x="36" y="867"/>
                    </a:lnTo>
                    <a:lnTo>
                      <a:pt x="30" y="895"/>
                    </a:lnTo>
                    <a:lnTo>
                      <a:pt x="24" y="923"/>
                    </a:lnTo>
                    <a:lnTo>
                      <a:pt x="18" y="951"/>
                    </a:lnTo>
                    <a:lnTo>
                      <a:pt x="14" y="980"/>
                    </a:lnTo>
                    <a:lnTo>
                      <a:pt x="9" y="1009"/>
                    </a:lnTo>
                    <a:lnTo>
                      <a:pt x="6" y="1038"/>
                    </a:lnTo>
                    <a:lnTo>
                      <a:pt x="3" y="1066"/>
                    </a:lnTo>
                    <a:lnTo>
                      <a:pt x="1" y="1097"/>
                    </a:lnTo>
                    <a:lnTo>
                      <a:pt x="0" y="1126"/>
                    </a:lnTo>
                    <a:lnTo>
                      <a:pt x="0" y="1156"/>
                    </a:lnTo>
                    <a:lnTo>
                      <a:pt x="145" y="1156"/>
                    </a:lnTo>
                    <a:lnTo>
                      <a:pt x="145" y="1129"/>
                    </a:lnTo>
                    <a:lnTo>
                      <a:pt x="146" y="1103"/>
                    </a:lnTo>
                    <a:lnTo>
                      <a:pt x="147" y="1078"/>
                    </a:lnTo>
                    <a:lnTo>
                      <a:pt x="150" y="1052"/>
                    </a:lnTo>
                    <a:lnTo>
                      <a:pt x="152" y="1027"/>
                    </a:lnTo>
                    <a:lnTo>
                      <a:pt x="157" y="1002"/>
                    </a:lnTo>
                    <a:lnTo>
                      <a:pt x="161" y="976"/>
                    </a:lnTo>
                    <a:lnTo>
                      <a:pt x="166" y="952"/>
                    </a:lnTo>
                    <a:lnTo>
                      <a:pt x="171" y="928"/>
                    </a:lnTo>
                    <a:lnTo>
                      <a:pt x="177" y="903"/>
                    </a:lnTo>
                    <a:lnTo>
                      <a:pt x="183" y="879"/>
                    </a:lnTo>
                    <a:lnTo>
                      <a:pt x="190" y="855"/>
                    </a:lnTo>
                    <a:lnTo>
                      <a:pt x="198" y="831"/>
                    </a:lnTo>
                    <a:lnTo>
                      <a:pt x="206" y="808"/>
                    </a:lnTo>
                    <a:lnTo>
                      <a:pt x="215" y="785"/>
                    </a:lnTo>
                    <a:lnTo>
                      <a:pt x="225" y="762"/>
                    </a:lnTo>
                    <a:lnTo>
                      <a:pt x="234" y="740"/>
                    </a:lnTo>
                    <a:lnTo>
                      <a:pt x="245" y="718"/>
                    </a:lnTo>
                    <a:lnTo>
                      <a:pt x="255" y="696"/>
                    </a:lnTo>
                    <a:lnTo>
                      <a:pt x="267" y="674"/>
                    </a:lnTo>
                    <a:lnTo>
                      <a:pt x="278" y="653"/>
                    </a:lnTo>
                    <a:lnTo>
                      <a:pt x="291" y="632"/>
                    </a:lnTo>
                    <a:lnTo>
                      <a:pt x="304" y="611"/>
                    </a:lnTo>
                    <a:lnTo>
                      <a:pt x="318" y="591"/>
                    </a:lnTo>
                    <a:lnTo>
                      <a:pt x="331" y="571"/>
                    </a:lnTo>
                    <a:lnTo>
                      <a:pt x="345" y="552"/>
                    </a:lnTo>
                    <a:lnTo>
                      <a:pt x="360" y="532"/>
                    </a:lnTo>
                    <a:lnTo>
                      <a:pt x="376" y="513"/>
                    </a:lnTo>
                    <a:lnTo>
                      <a:pt x="391" y="495"/>
                    </a:lnTo>
                    <a:lnTo>
                      <a:pt x="407" y="477"/>
                    </a:lnTo>
                    <a:lnTo>
                      <a:pt x="424" y="458"/>
                    </a:lnTo>
                    <a:lnTo>
                      <a:pt x="441" y="441"/>
                    </a:lnTo>
                    <a:lnTo>
                      <a:pt x="458" y="424"/>
                    </a:lnTo>
                    <a:lnTo>
                      <a:pt x="476" y="408"/>
                    </a:lnTo>
                    <a:lnTo>
                      <a:pt x="494" y="392"/>
                    </a:lnTo>
                    <a:lnTo>
                      <a:pt x="513" y="376"/>
                    </a:lnTo>
                    <a:lnTo>
                      <a:pt x="532" y="361"/>
                    </a:lnTo>
                    <a:lnTo>
                      <a:pt x="551" y="346"/>
                    </a:lnTo>
                    <a:lnTo>
                      <a:pt x="570" y="332"/>
                    </a:lnTo>
                    <a:lnTo>
                      <a:pt x="591" y="318"/>
                    </a:lnTo>
                    <a:lnTo>
                      <a:pt x="611" y="304"/>
                    </a:lnTo>
                    <a:lnTo>
                      <a:pt x="631" y="291"/>
                    </a:lnTo>
                    <a:lnTo>
                      <a:pt x="653" y="279"/>
                    </a:lnTo>
                    <a:lnTo>
                      <a:pt x="674" y="267"/>
                    </a:lnTo>
                    <a:lnTo>
                      <a:pt x="695" y="256"/>
                    </a:lnTo>
                    <a:lnTo>
                      <a:pt x="717" y="245"/>
                    </a:lnTo>
                    <a:lnTo>
                      <a:pt x="740" y="235"/>
                    </a:lnTo>
                    <a:lnTo>
                      <a:pt x="762" y="224"/>
                    </a:lnTo>
                    <a:lnTo>
                      <a:pt x="784" y="215"/>
                    </a:lnTo>
                    <a:lnTo>
                      <a:pt x="808" y="207"/>
                    </a:lnTo>
                    <a:lnTo>
                      <a:pt x="831" y="199"/>
                    </a:lnTo>
                    <a:lnTo>
                      <a:pt x="854" y="191"/>
                    </a:lnTo>
                    <a:lnTo>
                      <a:pt x="879" y="184"/>
                    </a:lnTo>
                    <a:lnTo>
                      <a:pt x="903" y="177"/>
                    </a:lnTo>
                    <a:lnTo>
                      <a:pt x="927" y="172"/>
                    </a:lnTo>
                    <a:lnTo>
                      <a:pt x="952" y="166"/>
                    </a:lnTo>
                    <a:lnTo>
                      <a:pt x="976" y="162"/>
                    </a:lnTo>
                    <a:lnTo>
                      <a:pt x="1002" y="158"/>
                    </a:lnTo>
                    <a:lnTo>
                      <a:pt x="1027" y="153"/>
                    </a:lnTo>
                    <a:lnTo>
                      <a:pt x="1052" y="150"/>
                    </a:lnTo>
                    <a:lnTo>
                      <a:pt x="1078" y="148"/>
                    </a:lnTo>
                    <a:lnTo>
                      <a:pt x="1104" y="146"/>
                    </a:lnTo>
                    <a:lnTo>
                      <a:pt x="1129" y="146"/>
                    </a:lnTo>
                    <a:lnTo>
                      <a:pt x="1156" y="145"/>
                    </a:lnTo>
                    <a:lnTo>
                      <a:pt x="1156" y="0"/>
                    </a:lnTo>
                    <a:close/>
                  </a:path>
                </a:pathLst>
              </a:custGeom>
              <a:solidFill>
                <a:srgbClr val="c8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2" name=""/>
          <p:cNvSpPr/>
          <p:nvPr/>
        </p:nvSpPr>
        <p:spPr>
          <a:xfrm>
            <a:off x="1579680" y="5678640"/>
            <a:ext cx="942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 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3" name="" descr=""/>
          <p:cNvPicPr/>
          <p:nvPr/>
        </p:nvPicPr>
        <p:blipFill>
          <a:blip r:embed="rId19"/>
          <a:stretch/>
        </p:blipFill>
        <p:spPr>
          <a:xfrm>
            <a:off x="552600" y="5651640"/>
            <a:ext cx="1065240" cy="583920"/>
          </a:xfrm>
          <a:prstGeom prst="rect">
            <a:avLst/>
          </a:prstGeom>
          <a:ln w="0">
            <a:noFill/>
          </a:ln>
        </p:spPr>
      </p:pic>
      <p:sp>
        <p:nvSpPr>
          <p:cNvPr id="4134" name=""/>
          <p:cNvSpPr/>
          <p:nvPr/>
        </p:nvSpPr>
        <p:spPr>
          <a:xfrm>
            <a:off x="3720960" y="5332320"/>
            <a:ext cx="14576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bil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5" name="" descr=""/>
          <p:cNvPicPr/>
          <p:nvPr/>
        </p:nvPicPr>
        <p:blipFill>
          <a:blip r:embed="rId20"/>
          <a:stretch/>
        </p:blipFill>
        <p:spPr>
          <a:xfrm>
            <a:off x="2409840" y="5313240"/>
            <a:ext cx="117324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92520" y="2362320"/>
            <a:ext cx="746280" cy="917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1760" y="1366920"/>
            <a:ext cx="904680" cy="5238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2567160" y="2324160"/>
            <a:ext cx="671400" cy="636120"/>
            <a:chOff x="2567160" y="2324160"/>
            <a:chExt cx="671400" cy="636120"/>
          </a:xfrm>
        </p:grpSpPr>
        <p:sp>
          <p:nvSpPr>
            <p:cNvPr id="96" name=""/>
            <p:cNvSpPr/>
            <p:nvPr/>
          </p:nvSpPr>
          <p:spPr>
            <a:xfrm>
              <a:off x="2578320" y="2447640"/>
              <a:ext cx="530280" cy="50292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05360" y="2442960"/>
              <a:ext cx="7920" cy="507600"/>
            </a:xfrm>
            <a:custGeom>
              <a:avLst/>
              <a:gdLst/>
              <a:ahLst/>
              <a:rect l="l" t="t" r="r" b="b"/>
              <a:pathLst>
                <a:path w="214" h="12465">
                  <a:moveTo>
                    <a:pt x="107" y="0"/>
                  </a:moveTo>
                  <a:lnTo>
                    <a:pt x="0" y="107"/>
                  </a:lnTo>
                  <a:lnTo>
                    <a:pt x="0" y="12465"/>
                  </a:lnTo>
                  <a:lnTo>
                    <a:pt x="214" y="12465"/>
                  </a:lnTo>
                  <a:lnTo>
                    <a:pt x="214" y="107"/>
                  </a:lnTo>
                  <a:lnTo>
                    <a:pt x="107" y="0"/>
                  </a:lnTo>
                  <a:lnTo>
                    <a:pt x="214" y="107"/>
                  </a:lnTo>
                  <a:lnTo>
                    <a:pt x="214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73640" y="2442960"/>
              <a:ext cx="534960" cy="9360"/>
            </a:xfrm>
            <a:custGeom>
              <a:avLst/>
              <a:gdLst/>
              <a:ahLst/>
              <a:rect l="l" t="t" r="r" b="b"/>
              <a:pathLst>
                <a:path w="13162" h="213">
                  <a:moveTo>
                    <a:pt x="0" y="107"/>
                  </a:moveTo>
                  <a:lnTo>
                    <a:pt x="106" y="213"/>
                  </a:lnTo>
                  <a:lnTo>
                    <a:pt x="13162" y="213"/>
                  </a:lnTo>
                  <a:lnTo>
                    <a:pt x="13162" y="0"/>
                  </a:lnTo>
                  <a:lnTo>
                    <a:pt x="106" y="0"/>
                  </a:lnTo>
                  <a:lnTo>
                    <a:pt x="0" y="107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73640" y="2447640"/>
              <a:ext cx="7920" cy="506160"/>
            </a:xfrm>
            <a:custGeom>
              <a:avLst/>
              <a:gdLst/>
              <a:ahLst/>
              <a:rect l="l" t="t" r="r" b="b"/>
              <a:pathLst>
                <a:path w="213" h="12464">
                  <a:moveTo>
                    <a:pt x="106" y="12464"/>
                  </a:moveTo>
                  <a:lnTo>
                    <a:pt x="213" y="12358"/>
                  </a:lnTo>
                  <a:lnTo>
                    <a:pt x="213" y="0"/>
                  </a:lnTo>
                  <a:lnTo>
                    <a:pt x="0" y="0"/>
                  </a:lnTo>
                  <a:lnTo>
                    <a:pt x="0" y="12358"/>
                  </a:lnTo>
                  <a:lnTo>
                    <a:pt x="106" y="12464"/>
                  </a:lnTo>
                  <a:lnTo>
                    <a:pt x="0" y="12358"/>
                  </a:lnTo>
                  <a:lnTo>
                    <a:pt x="0" y="12464"/>
                  </a:lnTo>
                  <a:lnTo>
                    <a:pt x="106" y="1246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78320" y="2946240"/>
              <a:ext cx="534960" cy="7560"/>
            </a:xfrm>
            <a:custGeom>
              <a:avLst/>
              <a:gdLst/>
              <a:ahLst/>
              <a:rect l="l" t="t" r="r" b="b"/>
              <a:pathLst>
                <a:path w="13163" h="212">
                  <a:moveTo>
                    <a:pt x="13163" y="106"/>
                  </a:moveTo>
                  <a:lnTo>
                    <a:pt x="13056" y="0"/>
                  </a:lnTo>
                  <a:lnTo>
                    <a:pt x="0" y="0"/>
                  </a:lnTo>
                  <a:lnTo>
                    <a:pt x="0" y="212"/>
                  </a:lnTo>
                  <a:lnTo>
                    <a:pt x="13056" y="212"/>
                  </a:lnTo>
                  <a:lnTo>
                    <a:pt x="13163" y="106"/>
                  </a:lnTo>
                  <a:lnTo>
                    <a:pt x="13056" y="212"/>
                  </a:lnTo>
                  <a:lnTo>
                    <a:pt x="13163" y="212"/>
                  </a:lnTo>
                  <a:lnTo>
                    <a:pt x="13163" y="10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78320" y="2333520"/>
              <a:ext cx="649440" cy="113760"/>
            </a:xfrm>
            <a:custGeom>
              <a:avLst/>
              <a:gdLst/>
              <a:ahLst/>
              <a:rect l="l" t="t" r="r" b="b"/>
              <a:pathLst>
                <a:path w="15973" h="2791">
                  <a:moveTo>
                    <a:pt x="13056" y="2791"/>
                  </a:moveTo>
                  <a:lnTo>
                    <a:pt x="15973" y="0"/>
                  </a:lnTo>
                  <a:lnTo>
                    <a:pt x="2934" y="0"/>
                  </a:lnTo>
                  <a:lnTo>
                    <a:pt x="0" y="2791"/>
                  </a:lnTo>
                  <a:lnTo>
                    <a:pt x="13056" y="2791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06800" y="2330280"/>
              <a:ext cx="131760" cy="120240"/>
            </a:xfrm>
            <a:custGeom>
              <a:avLst/>
              <a:gdLst/>
              <a:ahLst/>
              <a:rect l="l" t="t" r="r" b="b"/>
              <a:pathLst>
                <a:path w="3250" h="2973">
                  <a:moveTo>
                    <a:pt x="2990" y="0"/>
                  </a:moveTo>
                  <a:lnTo>
                    <a:pt x="2916" y="29"/>
                  </a:lnTo>
                  <a:lnTo>
                    <a:pt x="0" y="2820"/>
                  </a:lnTo>
                  <a:lnTo>
                    <a:pt x="146" y="2973"/>
                  </a:lnTo>
                  <a:lnTo>
                    <a:pt x="3063" y="183"/>
                  </a:lnTo>
                  <a:lnTo>
                    <a:pt x="2990" y="0"/>
                  </a:lnTo>
                  <a:lnTo>
                    <a:pt x="3063" y="183"/>
                  </a:lnTo>
                  <a:lnTo>
                    <a:pt x="3250" y="0"/>
                  </a:lnTo>
                  <a:lnTo>
                    <a:pt x="2990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94240" y="2330280"/>
              <a:ext cx="533520" cy="7560"/>
            </a:xfrm>
            <a:custGeom>
              <a:avLst/>
              <a:gdLst/>
              <a:ahLst/>
              <a:rect l="l" t="t" r="r" b="b"/>
              <a:pathLst>
                <a:path w="13113" h="212">
                  <a:moveTo>
                    <a:pt x="0" y="29"/>
                  </a:moveTo>
                  <a:lnTo>
                    <a:pt x="74" y="212"/>
                  </a:lnTo>
                  <a:lnTo>
                    <a:pt x="13113" y="212"/>
                  </a:lnTo>
                  <a:lnTo>
                    <a:pt x="13113" y="0"/>
                  </a:lnTo>
                  <a:lnTo>
                    <a:pt x="74" y="0"/>
                  </a:lnTo>
                  <a:lnTo>
                    <a:pt x="0" y="29"/>
                  </a:lnTo>
                  <a:lnTo>
                    <a:pt x="74" y="0"/>
                  </a:lnTo>
                  <a:lnTo>
                    <a:pt x="31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67160" y="2330280"/>
              <a:ext cx="133560" cy="122040"/>
            </a:xfrm>
            <a:custGeom>
              <a:avLst/>
              <a:gdLst/>
              <a:ahLst/>
              <a:rect l="l" t="t" r="r" b="b"/>
              <a:pathLst>
                <a:path w="3271" h="2974">
                  <a:moveTo>
                    <a:pt x="264" y="2974"/>
                  </a:moveTo>
                  <a:lnTo>
                    <a:pt x="338" y="2945"/>
                  </a:lnTo>
                  <a:lnTo>
                    <a:pt x="3271" y="154"/>
                  </a:lnTo>
                  <a:lnTo>
                    <a:pt x="3124" y="0"/>
                  </a:lnTo>
                  <a:lnTo>
                    <a:pt x="191" y="2790"/>
                  </a:lnTo>
                  <a:lnTo>
                    <a:pt x="264" y="2974"/>
                  </a:lnTo>
                  <a:lnTo>
                    <a:pt x="191" y="2790"/>
                  </a:lnTo>
                  <a:lnTo>
                    <a:pt x="0" y="2974"/>
                  </a:lnTo>
                  <a:lnTo>
                    <a:pt x="264" y="297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78320" y="2442960"/>
              <a:ext cx="533520" cy="9360"/>
            </a:xfrm>
            <a:custGeom>
              <a:avLst/>
              <a:gdLst/>
              <a:ahLst/>
              <a:rect l="l" t="t" r="r" b="b"/>
              <a:pathLst>
                <a:path w="13129" h="213">
                  <a:moveTo>
                    <a:pt x="13129" y="183"/>
                  </a:moveTo>
                  <a:lnTo>
                    <a:pt x="13056" y="0"/>
                  </a:lnTo>
                  <a:lnTo>
                    <a:pt x="0" y="0"/>
                  </a:lnTo>
                  <a:lnTo>
                    <a:pt x="0" y="213"/>
                  </a:lnTo>
                  <a:lnTo>
                    <a:pt x="13056" y="213"/>
                  </a:lnTo>
                  <a:lnTo>
                    <a:pt x="13129" y="183"/>
                  </a:lnTo>
                  <a:lnTo>
                    <a:pt x="13056" y="213"/>
                  </a:lnTo>
                  <a:lnTo>
                    <a:pt x="13099" y="213"/>
                  </a:lnTo>
                  <a:lnTo>
                    <a:pt x="13129" y="18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08600" y="2333520"/>
              <a:ext cx="119160" cy="617040"/>
            </a:xfrm>
            <a:custGeom>
              <a:avLst/>
              <a:gdLst/>
              <a:ahLst/>
              <a:rect l="l" t="t" r="r" b="b"/>
              <a:pathLst>
                <a:path w="2917" h="15149">
                  <a:moveTo>
                    <a:pt x="2917" y="12359"/>
                  </a:moveTo>
                  <a:lnTo>
                    <a:pt x="2917" y="0"/>
                  </a:lnTo>
                  <a:lnTo>
                    <a:pt x="0" y="2791"/>
                  </a:lnTo>
                  <a:lnTo>
                    <a:pt x="0" y="15149"/>
                  </a:lnTo>
                  <a:lnTo>
                    <a:pt x="2917" y="12359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24520" y="2324160"/>
              <a:ext cx="7920" cy="512640"/>
            </a:xfrm>
            <a:custGeom>
              <a:avLst/>
              <a:gdLst/>
              <a:ahLst/>
              <a:rect l="l" t="t" r="r" b="b"/>
              <a:pathLst>
                <a:path w="213" h="12604">
                  <a:moveTo>
                    <a:pt x="33" y="168"/>
                  </a:moveTo>
                  <a:lnTo>
                    <a:pt x="0" y="245"/>
                  </a:lnTo>
                  <a:lnTo>
                    <a:pt x="0" y="12604"/>
                  </a:lnTo>
                  <a:lnTo>
                    <a:pt x="213" y="12604"/>
                  </a:lnTo>
                  <a:lnTo>
                    <a:pt x="213" y="245"/>
                  </a:lnTo>
                  <a:lnTo>
                    <a:pt x="33" y="168"/>
                  </a:lnTo>
                  <a:lnTo>
                    <a:pt x="213" y="245"/>
                  </a:lnTo>
                  <a:lnTo>
                    <a:pt x="213" y="0"/>
                  </a:lnTo>
                  <a:lnTo>
                    <a:pt x="33" y="16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5360" y="2330280"/>
              <a:ext cx="125280" cy="120240"/>
            </a:xfrm>
            <a:custGeom>
              <a:avLst/>
              <a:gdLst/>
              <a:ahLst/>
              <a:rect l="l" t="t" r="r" b="b"/>
              <a:pathLst>
                <a:path w="3097" h="2944">
                  <a:moveTo>
                    <a:pt x="0" y="2868"/>
                  </a:moveTo>
                  <a:lnTo>
                    <a:pt x="180" y="2944"/>
                  </a:lnTo>
                  <a:lnTo>
                    <a:pt x="3097" y="154"/>
                  </a:lnTo>
                  <a:lnTo>
                    <a:pt x="2950" y="0"/>
                  </a:lnTo>
                  <a:lnTo>
                    <a:pt x="34" y="2791"/>
                  </a:lnTo>
                  <a:lnTo>
                    <a:pt x="0" y="2868"/>
                  </a:lnTo>
                  <a:lnTo>
                    <a:pt x="34" y="2791"/>
                  </a:lnTo>
                  <a:lnTo>
                    <a:pt x="0" y="2822"/>
                  </a:lnTo>
                  <a:lnTo>
                    <a:pt x="0" y="286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5360" y="2447640"/>
              <a:ext cx="7920" cy="512640"/>
            </a:xfrm>
            <a:custGeom>
              <a:avLst/>
              <a:gdLst/>
              <a:ahLst/>
              <a:rect l="l" t="t" r="r" b="b"/>
              <a:pathLst>
                <a:path w="214" h="12603">
                  <a:moveTo>
                    <a:pt x="180" y="12435"/>
                  </a:moveTo>
                  <a:lnTo>
                    <a:pt x="214" y="12358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12358"/>
                  </a:lnTo>
                  <a:lnTo>
                    <a:pt x="180" y="12435"/>
                  </a:lnTo>
                  <a:lnTo>
                    <a:pt x="0" y="12358"/>
                  </a:lnTo>
                  <a:lnTo>
                    <a:pt x="0" y="12603"/>
                  </a:lnTo>
                  <a:lnTo>
                    <a:pt x="180" y="1243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6800" y="2833560"/>
              <a:ext cx="125640" cy="120240"/>
            </a:xfrm>
            <a:custGeom>
              <a:avLst/>
              <a:gdLst/>
              <a:ahLst/>
              <a:rect l="l" t="t" r="r" b="b"/>
              <a:pathLst>
                <a:path w="3096" h="2944">
                  <a:moveTo>
                    <a:pt x="3096" y="77"/>
                  </a:moveTo>
                  <a:lnTo>
                    <a:pt x="2916" y="0"/>
                  </a:lnTo>
                  <a:lnTo>
                    <a:pt x="0" y="2790"/>
                  </a:lnTo>
                  <a:lnTo>
                    <a:pt x="146" y="2944"/>
                  </a:lnTo>
                  <a:lnTo>
                    <a:pt x="3063" y="153"/>
                  </a:lnTo>
                  <a:lnTo>
                    <a:pt x="3096" y="77"/>
                  </a:lnTo>
                  <a:lnTo>
                    <a:pt x="3063" y="153"/>
                  </a:lnTo>
                  <a:lnTo>
                    <a:pt x="3096" y="122"/>
                  </a:lnTo>
                  <a:lnTo>
                    <a:pt x="3096" y="7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10000" y="2879640"/>
              <a:ext cx="46080" cy="45720"/>
            </a:xfrm>
            <a:custGeom>
              <a:avLst/>
              <a:gdLst/>
              <a:ahLst/>
              <a:rect l="l" t="t" r="r" b="b"/>
              <a:pathLst>
                <a:path w="1126" h="1126">
                  <a:moveTo>
                    <a:pt x="563" y="1126"/>
                  </a:moveTo>
                  <a:lnTo>
                    <a:pt x="592" y="1126"/>
                  </a:lnTo>
                  <a:lnTo>
                    <a:pt x="620" y="1123"/>
                  </a:lnTo>
                  <a:lnTo>
                    <a:pt x="649" y="1120"/>
                  </a:lnTo>
                  <a:lnTo>
                    <a:pt x="676" y="1115"/>
                  </a:lnTo>
                  <a:lnTo>
                    <a:pt x="703" y="1109"/>
                  </a:lnTo>
                  <a:lnTo>
                    <a:pt x="731" y="1101"/>
                  </a:lnTo>
                  <a:lnTo>
                    <a:pt x="757" y="1093"/>
                  </a:lnTo>
                  <a:lnTo>
                    <a:pt x="782" y="1083"/>
                  </a:lnTo>
                  <a:lnTo>
                    <a:pt x="806" y="1070"/>
                  </a:lnTo>
                  <a:lnTo>
                    <a:pt x="831" y="1058"/>
                  </a:lnTo>
                  <a:lnTo>
                    <a:pt x="855" y="1045"/>
                  </a:lnTo>
                  <a:lnTo>
                    <a:pt x="877" y="1030"/>
                  </a:lnTo>
                  <a:lnTo>
                    <a:pt x="900" y="1015"/>
                  </a:lnTo>
                  <a:lnTo>
                    <a:pt x="921" y="998"/>
                  </a:lnTo>
                  <a:lnTo>
                    <a:pt x="941" y="980"/>
                  </a:lnTo>
                  <a:lnTo>
                    <a:pt x="961" y="961"/>
                  </a:lnTo>
                  <a:lnTo>
                    <a:pt x="979" y="942"/>
                  </a:lnTo>
                  <a:lnTo>
                    <a:pt x="998" y="922"/>
                  </a:lnTo>
                  <a:lnTo>
                    <a:pt x="1014" y="900"/>
                  </a:lnTo>
                  <a:lnTo>
                    <a:pt x="1030" y="878"/>
                  </a:lnTo>
                  <a:lnTo>
                    <a:pt x="1044" y="855"/>
                  </a:lnTo>
                  <a:lnTo>
                    <a:pt x="1058" y="832"/>
                  </a:lnTo>
                  <a:lnTo>
                    <a:pt x="1071" y="807"/>
                  </a:lnTo>
                  <a:lnTo>
                    <a:pt x="1082" y="782"/>
                  </a:lnTo>
                  <a:lnTo>
                    <a:pt x="1092" y="757"/>
                  </a:lnTo>
                  <a:lnTo>
                    <a:pt x="1101" y="731"/>
                  </a:lnTo>
                  <a:lnTo>
                    <a:pt x="1108" y="704"/>
                  </a:lnTo>
                  <a:lnTo>
                    <a:pt x="1114" y="677"/>
                  </a:lnTo>
                  <a:lnTo>
                    <a:pt x="1119" y="649"/>
                  </a:lnTo>
                  <a:lnTo>
                    <a:pt x="1123" y="620"/>
                  </a:lnTo>
                  <a:lnTo>
                    <a:pt x="1125" y="592"/>
                  </a:lnTo>
                  <a:lnTo>
                    <a:pt x="1126" y="563"/>
                  </a:lnTo>
                  <a:lnTo>
                    <a:pt x="1125" y="534"/>
                  </a:lnTo>
                  <a:lnTo>
                    <a:pt x="1123" y="506"/>
                  </a:lnTo>
                  <a:lnTo>
                    <a:pt x="1119" y="478"/>
                  </a:lnTo>
                  <a:lnTo>
                    <a:pt x="1114" y="449"/>
                  </a:lnTo>
                  <a:lnTo>
                    <a:pt x="1108" y="422"/>
                  </a:lnTo>
                  <a:lnTo>
                    <a:pt x="1101" y="396"/>
                  </a:lnTo>
                  <a:lnTo>
                    <a:pt x="1092" y="369"/>
                  </a:lnTo>
                  <a:lnTo>
                    <a:pt x="1082" y="344"/>
                  </a:lnTo>
                  <a:lnTo>
                    <a:pt x="1071" y="319"/>
                  </a:lnTo>
                  <a:lnTo>
                    <a:pt x="1058" y="295"/>
                  </a:lnTo>
                  <a:lnTo>
                    <a:pt x="1044" y="271"/>
                  </a:lnTo>
                  <a:lnTo>
                    <a:pt x="1030" y="248"/>
                  </a:lnTo>
                  <a:lnTo>
                    <a:pt x="1014" y="227"/>
                  </a:lnTo>
                  <a:lnTo>
                    <a:pt x="998" y="205"/>
                  </a:lnTo>
                  <a:lnTo>
                    <a:pt x="979" y="184"/>
                  </a:lnTo>
                  <a:lnTo>
                    <a:pt x="961" y="165"/>
                  </a:lnTo>
                  <a:lnTo>
                    <a:pt x="941" y="147"/>
                  </a:lnTo>
                  <a:lnTo>
                    <a:pt x="921" y="129"/>
                  </a:lnTo>
                  <a:lnTo>
                    <a:pt x="900" y="112"/>
                  </a:lnTo>
                  <a:lnTo>
                    <a:pt x="877" y="96"/>
                  </a:lnTo>
                  <a:lnTo>
                    <a:pt x="855" y="82"/>
                  </a:lnTo>
                  <a:lnTo>
                    <a:pt x="831" y="68"/>
                  </a:lnTo>
                  <a:lnTo>
                    <a:pt x="806" y="56"/>
                  </a:lnTo>
                  <a:lnTo>
                    <a:pt x="782" y="45"/>
                  </a:lnTo>
                  <a:lnTo>
                    <a:pt x="757" y="35"/>
                  </a:lnTo>
                  <a:lnTo>
                    <a:pt x="731" y="25"/>
                  </a:lnTo>
                  <a:lnTo>
                    <a:pt x="703" y="18"/>
                  </a:lnTo>
                  <a:lnTo>
                    <a:pt x="676" y="11"/>
                  </a:lnTo>
                  <a:lnTo>
                    <a:pt x="649" y="7"/>
                  </a:lnTo>
                  <a:lnTo>
                    <a:pt x="620" y="3"/>
                  </a:lnTo>
                  <a:lnTo>
                    <a:pt x="592" y="1"/>
                  </a:lnTo>
                  <a:lnTo>
                    <a:pt x="563" y="0"/>
                  </a:lnTo>
                  <a:lnTo>
                    <a:pt x="534" y="1"/>
                  </a:lnTo>
                  <a:lnTo>
                    <a:pt x="505" y="3"/>
                  </a:lnTo>
                  <a:lnTo>
                    <a:pt x="478" y="7"/>
                  </a:lnTo>
                  <a:lnTo>
                    <a:pt x="449" y="11"/>
                  </a:lnTo>
                  <a:lnTo>
                    <a:pt x="422" y="18"/>
                  </a:lnTo>
                  <a:lnTo>
                    <a:pt x="396" y="25"/>
                  </a:lnTo>
                  <a:lnTo>
                    <a:pt x="369" y="35"/>
                  </a:lnTo>
                  <a:lnTo>
                    <a:pt x="344" y="45"/>
                  </a:lnTo>
                  <a:lnTo>
                    <a:pt x="319" y="56"/>
                  </a:lnTo>
                  <a:lnTo>
                    <a:pt x="295" y="68"/>
                  </a:lnTo>
                  <a:lnTo>
                    <a:pt x="271" y="82"/>
                  </a:lnTo>
                  <a:lnTo>
                    <a:pt x="248" y="96"/>
                  </a:lnTo>
                  <a:lnTo>
                    <a:pt x="226" y="112"/>
                  </a:lnTo>
                  <a:lnTo>
                    <a:pt x="205" y="129"/>
                  </a:lnTo>
                  <a:lnTo>
                    <a:pt x="184" y="147"/>
                  </a:lnTo>
                  <a:lnTo>
                    <a:pt x="165" y="165"/>
                  </a:lnTo>
                  <a:lnTo>
                    <a:pt x="146" y="184"/>
                  </a:lnTo>
                  <a:lnTo>
                    <a:pt x="129" y="205"/>
                  </a:lnTo>
                  <a:lnTo>
                    <a:pt x="112" y="227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4"/>
                  </a:lnTo>
                  <a:lnTo>
                    <a:pt x="34" y="369"/>
                  </a:lnTo>
                  <a:lnTo>
                    <a:pt x="26" y="396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8"/>
                  </a:lnTo>
                  <a:lnTo>
                    <a:pt x="2" y="506"/>
                  </a:lnTo>
                  <a:lnTo>
                    <a:pt x="0" y="534"/>
                  </a:lnTo>
                  <a:lnTo>
                    <a:pt x="0" y="563"/>
                  </a:lnTo>
                  <a:lnTo>
                    <a:pt x="0" y="592"/>
                  </a:lnTo>
                  <a:lnTo>
                    <a:pt x="2" y="620"/>
                  </a:lnTo>
                  <a:lnTo>
                    <a:pt x="6" y="649"/>
                  </a:lnTo>
                  <a:lnTo>
                    <a:pt x="11" y="677"/>
                  </a:lnTo>
                  <a:lnTo>
                    <a:pt x="17" y="704"/>
                  </a:lnTo>
                  <a:lnTo>
                    <a:pt x="26" y="731"/>
                  </a:lnTo>
                  <a:lnTo>
                    <a:pt x="34" y="757"/>
                  </a:lnTo>
                  <a:lnTo>
                    <a:pt x="44" y="782"/>
                  </a:lnTo>
                  <a:lnTo>
                    <a:pt x="55" y="807"/>
                  </a:lnTo>
                  <a:lnTo>
                    <a:pt x="68" y="832"/>
                  </a:lnTo>
                  <a:lnTo>
                    <a:pt x="81" y="855"/>
                  </a:lnTo>
                  <a:lnTo>
                    <a:pt x="96" y="878"/>
                  </a:lnTo>
                  <a:lnTo>
                    <a:pt x="112" y="900"/>
                  </a:lnTo>
                  <a:lnTo>
                    <a:pt x="129" y="922"/>
                  </a:lnTo>
                  <a:lnTo>
                    <a:pt x="146" y="942"/>
                  </a:lnTo>
                  <a:lnTo>
                    <a:pt x="165" y="961"/>
                  </a:lnTo>
                  <a:lnTo>
                    <a:pt x="184" y="980"/>
                  </a:lnTo>
                  <a:lnTo>
                    <a:pt x="205" y="998"/>
                  </a:lnTo>
                  <a:lnTo>
                    <a:pt x="226" y="1015"/>
                  </a:lnTo>
                  <a:lnTo>
                    <a:pt x="248" y="1030"/>
                  </a:lnTo>
                  <a:lnTo>
                    <a:pt x="271" y="1045"/>
                  </a:lnTo>
                  <a:lnTo>
                    <a:pt x="295" y="1058"/>
                  </a:lnTo>
                  <a:lnTo>
                    <a:pt x="319" y="1070"/>
                  </a:lnTo>
                  <a:lnTo>
                    <a:pt x="344" y="1083"/>
                  </a:lnTo>
                  <a:lnTo>
                    <a:pt x="369" y="1093"/>
                  </a:lnTo>
                  <a:lnTo>
                    <a:pt x="396" y="1101"/>
                  </a:lnTo>
                  <a:lnTo>
                    <a:pt x="422" y="1109"/>
                  </a:lnTo>
                  <a:lnTo>
                    <a:pt x="449" y="1115"/>
                  </a:lnTo>
                  <a:lnTo>
                    <a:pt x="478" y="1120"/>
                  </a:lnTo>
                  <a:lnTo>
                    <a:pt x="505" y="1123"/>
                  </a:lnTo>
                  <a:lnTo>
                    <a:pt x="534" y="1126"/>
                  </a:lnTo>
                  <a:lnTo>
                    <a:pt x="563" y="1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10000" y="2879640"/>
              <a:ext cx="46080" cy="45720"/>
            </a:xfrm>
            <a:custGeom>
              <a:avLst/>
              <a:gdLst/>
              <a:ahLst/>
              <a:rect l="l" t="t" r="r" b="b"/>
              <a:pathLst>
                <a:path w="1126" h="1126">
                  <a:moveTo>
                    <a:pt x="563" y="1126"/>
                  </a:moveTo>
                  <a:lnTo>
                    <a:pt x="592" y="1126"/>
                  </a:lnTo>
                  <a:lnTo>
                    <a:pt x="620" y="1123"/>
                  </a:lnTo>
                  <a:lnTo>
                    <a:pt x="649" y="1120"/>
                  </a:lnTo>
                  <a:lnTo>
                    <a:pt x="676" y="1115"/>
                  </a:lnTo>
                  <a:lnTo>
                    <a:pt x="703" y="1109"/>
                  </a:lnTo>
                  <a:lnTo>
                    <a:pt x="731" y="1101"/>
                  </a:lnTo>
                  <a:lnTo>
                    <a:pt x="757" y="1093"/>
                  </a:lnTo>
                  <a:lnTo>
                    <a:pt x="782" y="1083"/>
                  </a:lnTo>
                  <a:lnTo>
                    <a:pt x="806" y="1070"/>
                  </a:lnTo>
                  <a:lnTo>
                    <a:pt x="831" y="1058"/>
                  </a:lnTo>
                  <a:lnTo>
                    <a:pt x="855" y="1045"/>
                  </a:lnTo>
                  <a:lnTo>
                    <a:pt x="877" y="1030"/>
                  </a:lnTo>
                  <a:lnTo>
                    <a:pt x="900" y="1015"/>
                  </a:lnTo>
                  <a:lnTo>
                    <a:pt x="921" y="998"/>
                  </a:lnTo>
                  <a:lnTo>
                    <a:pt x="941" y="980"/>
                  </a:lnTo>
                  <a:lnTo>
                    <a:pt x="961" y="961"/>
                  </a:lnTo>
                  <a:lnTo>
                    <a:pt x="979" y="942"/>
                  </a:lnTo>
                  <a:lnTo>
                    <a:pt x="998" y="922"/>
                  </a:lnTo>
                  <a:lnTo>
                    <a:pt x="1014" y="900"/>
                  </a:lnTo>
                  <a:lnTo>
                    <a:pt x="1030" y="878"/>
                  </a:lnTo>
                  <a:lnTo>
                    <a:pt x="1044" y="855"/>
                  </a:lnTo>
                  <a:lnTo>
                    <a:pt x="1058" y="832"/>
                  </a:lnTo>
                  <a:lnTo>
                    <a:pt x="1071" y="807"/>
                  </a:lnTo>
                  <a:lnTo>
                    <a:pt x="1082" y="782"/>
                  </a:lnTo>
                  <a:lnTo>
                    <a:pt x="1092" y="757"/>
                  </a:lnTo>
                  <a:lnTo>
                    <a:pt x="1101" y="731"/>
                  </a:lnTo>
                  <a:lnTo>
                    <a:pt x="1108" y="704"/>
                  </a:lnTo>
                  <a:lnTo>
                    <a:pt x="1114" y="677"/>
                  </a:lnTo>
                  <a:lnTo>
                    <a:pt x="1119" y="649"/>
                  </a:lnTo>
                  <a:lnTo>
                    <a:pt x="1123" y="620"/>
                  </a:lnTo>
                  <a:lnTo>
                    <a:pt x="1125" y="592"/>
                  </a:lnTo>
                  <a:lnTo>
                    <a:pt x="1126" y="563"/>
                  </a:lnTo>
                  <a:lnTo>
                    <a:pt x="1125" y="534"/>
                  </a:lnTo>
                  <a:lnTo>
                    <a:pt x="1123" y="506"/>
                  </a:lnTo>
                  <a:lnTo>
                    <a:pt x="1119" y="478"/>
                  </a:lnTo>
                  <a:lnTo>
                    <a:pt x="1114" y="449"/>
                  </a:lnTo>
                  <a:lnTo>
                    <a:pt x="1108" y="422"/>
                  </a:lnTo>
                  <a:lnTo>
                    <a:pt x="1101" y="396"/>
                  </a:lnTo>
                  <a:lnTo>
                    <a:pt x="1092" y="369"/>
                  </a:lnTo>
                  <a:lnTo>
                    <a:pt x="1082" y="344"/>
                  </a:lnTo>
                  <a:lnTo>
                    <a:pt x="1071" y="319"/>
                  </a:lnTo>
                  <a:lnTo>
                    <a:pt x="1058" y="295"/>
                  </a:lnTo>
                  <a:lnTo>
                    <a:pt x="1044" y="271"/>
                  </a:lnTo>
                  <a:lnTo>
                    <a:pt x="1030" y="248"/>
                  </a:lnTo>
                  <a:lnTo>
                    <a:pt x="1014" y="227"/>
                  </a:lnTo>
                  <a:lnTo>
                    <a:pt x="998" y="205"/>
                  </a:lnTo>
                  <a:lnTo>
                    <a:pt x="979" y="184"/>
                  </a:lnTo>
                  <a:lnTo>
                    <a:pt x="961" y="165"/>
                  </a:lnTo>
                  <a:lnTo>
                    <a:pt x="941" y="147"/>
                  </a:lnTo>
                  <a:lnTo>
                    <a:pt x="921" y="129"/>
                  </a:lnTo>
                  <a:lnTo>
                    <a:pt x="900" y="112"/>
                  </a:lnTo>
                  <a:lnTo>
                    <a:pt x="877" y="96"/>
                  </a:lnTo>
                  <a:lnTo>
                    <a:pt x="855" y="82"/>
                  </a:lnTo>
                  <a:lnTo>
                    <a:pt x="831" y="68"/>
                  </a:lnTo>
                  <a:lnTo>
                    <a:pt x="806" y="56"/>
                  </a:lnTo>
                  <a:lnTo>
                    <a:pt x="782" y="45"/>
                  </a:lnTo>
                  <a:lnTo>
                    <a:pt x="757" y="35"/>
                  </a:lnTo>
                  <a:lnTo>
                    <a:pt x="731" y="25"/>
                  </a:lnTo>
                  <a:lnTo>
                    <a:pt x="703" y="18"/>
                  </a:lnTo>
                  <a:lnTo>
                    <a:pt x="676" y="11"/>
                  </a:lnTo>
                  <a:lnTo>
                    <a:pt x="649" y="7"/>
                  </a:lnTo>
                  <a:lnTo>
                    <a:pt x="620" y="3"/>
                  </a:lnTo>
                  <a:lnTo>
                    <a:pt x="592" y="1"/>
                  </a:lnTo>
                  <a:lnTo>
                    <a:pt x="563" y="0"/>
                  </a:lnTo>
                  <a:lnTo>
                    <a:pt x="534" y="1"/>
                  </a:lnTo>
                  <a:lnTo>
                    <a:pt x="505" y="3"/>
                  </a:lnTo>
                  <a:lnTo>
                    <a:pt x="478" y="7"/>
                  </a:lnTo>
                  <a:lnTo>
                    <a:pt x="449" y="11"/>
                  </a:lnTo>
                  <a:lnTo>
                    <a:pt x="422" y="18"/>
                  </a:lnTo>
                  <a:lnTo>
                    <a:pt x="396" y="25"/>
                  </a:lnTo>
                  <a:lnTo>
                    <a:pt x="369" y="35"/>
                  </a:lnTo>
                  <a:lnTo>
                    <a:pt x="344" y="45"/>
                  </a:lnTo>
                  <a:lnTo>
                    <a:pt x="319" y="56"/>
                  </a:lnTo>
                  <a:lnTo>
                    <a:pt x="295" y="68"/>
                  </a:lnTo>
                  <a:lnTo>
                    <a:pt x="271" y="82"/>
                  </a:lnTo>
                  <a:lnTo>
                    <a:pt x="248" y="96"/>
                  </a:lnTo>
                  <a:lnTo>
                    <a:pt x="226" y="112"/>
                  </a:lnTo>
                  <a:lnTo>
                    <a:pt x="205" y="129"/>
                  </a:lnTo>
                  <a:lnTo>
                    <a:pt x="184" y="147"/>
                  </a:lnTo>
                  <a:lnTo>
                    <a:pt x="165" y="165"/>
                  </a:lnTo>
                  <a:lnTo>
                    <a:pt x="146" y="184"/>
                  </a:lnTo>
                  <a:lnTo>
                    <a:pt x="129" y="205"/>
                  </a:lnTo>
                  <a:lnTo>
                    <a:pt x="112" y="227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4"/>
                  </a:lnTo>
                  <a:lnTo>
                    <a:pt x="34" y="369"/>
                  </a:lnTo>
                  <a:lnTo>
                    <a:pt x="26" y="396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8"/>
                  </a:lnTo>
                  <a:lnTo>
                    <a:pt x="2" y="506"/>
                  </a:lnTo>
                  <a:lnTo>
                    <a:pt x="0" y="534"/>
                  </a:lnTo>
                  <a:lnTo>
                    <a:pt x="0" y="563"/>
                  </a:lnTo>
                  <a:lnTo>
                    <a:pt x="0" y="592"/>
                  </a:lnTo>
                  <a:lnTo>
                    <a:pt x="2" y="620"/>
                  </a:lnTo>
                  <a:lnTo>
                    <a:pt x="6" y="649"/>
                  </a:lnTo>
                  <a:lnTo>
                    <a:pt x="11" y="677"/>
                  </a:lnTo>
                  <a:lnTo>
                    <a:pt x="17" y="704"/>
                  </a:lnTo>
                  <a:lnTo>
                    <a:pt x="26" y="731"/>
                  </a:lnTo>
                  <a:lnTo>
                    <a:pt x="34" y="757"/>
                  </a:lnTo>
                  <a:lnTo>
                    <a:pt x="44" y="782"/>
                  </a:lnTo>
                  <a:lnTo>
                    <a:pt x="55" y="807"/>
                  </a:lnTo>
                  <a:lnTo>
                    <a:pt x="68" y="832"/>
                  </a:lnTo>
                  <a:lnTo>
                    <a:pt x="81" y="855"/>
                  </a:lnTo>
                  <a:lnTo>
                    <a:pt x="96" y="878"/>
                  </a:lnTo>
                  <a:lnTo>
                    <a:pt x="112" y="900"/>
                  </a:lnTo>
                  <a:lnTo>
                    <a:pt x="129" y="922"/>
                  </a:lnTo>
                  <a:lnTo>
                    <a:pt x="146" y="942"/>
                  </a:lnTo>
                  <a:lnTo>
                    <a:pt x="165" y="961"/>
                  </a:lnTo>
                  <a:lnTo>
                    <a:pt x="184" y="980"/>
                  </a:lnTo>
                  <a:lnTo>
                    <a:pt x="205" y="998"/>
                  </a:lnTo>
                  <a:lnTo>
                    <a:pt x="226" y="1015"/>
                  </a:lnTo>
                  <a:lnTo>
                    <a:pt x="248" y="1030"/>
                  </a:lnTo>
                  <a:lnTo>
                    <a:pt x="271" y="1045"/>
                  </a:lnTo>
                  <a:lnTo>
                    <a:pt x="295" y="1058"/>
                  </a:lnTo>
                  <a:lnTo>
                    <a:pt x="319" y="1070"/>
                  </a:lnTo>
                  <a:lnTo>
                    <a:pt x="344" y="1083"/>
                  </a:lnTo>
                  <a:lnTo>
                    <a:pt x="369" y="1093"/>
                  </a:lnTo>
                  <a:lnTo>
                    <a:pt x="396" y="1101"/>
                  </a:lnTo>
                  <a:lnTo>
                    <a:pt x="422" y="1109"/>
                  </a:lnTo>
                  <a:lnTo>
                    <a:pt x="449" y="1115"/>
                  </a:lnTo>
                  <a:lnTo>
                    <a:pt x="478" y="1120"/>
                  </a:lnTo>
                  <a:lnTo>
                    <a:pt x="505" y="1123"/>
                  </a:lnTo>
                  <a:lnTo>
                    <a:pt x="534" y="1126"/>
                  </a:lnTo>
                  <a:lnTo>
                    <a:pt x="563" y="112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13240" y="2749320"/>
              <a:ext cx="171360" cy="172800"/>
            </a:xfrm>
            <a:custGeom>
              <a:avLst/>
              <a:gdLst/>
              <a:ahLst/>
              <a:rect l="l" t="t" r="r" b="b"/>
              <a:pathLst>
                <a:path w="4208" h="4256">
                  <a:moveTo>
                    <a:pt x="0" y="3182"/>
                  </a:moveTo>
                  <a:lnTo>
                    <a:pt x="1100" y="4256"/>
                  </a:lnTo>
                  <a:lnTo>
                    <a:pt x="4208" y="1074"/>
                  </a:lnTo>
                  <a:lnTo>
                    <a:pt x="3109" y="0"/>
                  </a:lnTo>
                  <a:lnTo>
                    <a:pt x="0" y="3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13240" y="2749320"/>
              <a:ext cx="171360" cy="172800"/>
            </a:xfrm>
            <a:custGeom>
              <a:avLst/>
              <a:gdLst/>
              <a:ahLst/>
              <a:rect l="l" t="t" r="r" b="b"/>
              <a:pathLst>
                <a:path w="4208" h="4256">
                  <a:moveTo>
                    <a:pt x="0" y="3182"/>
                  </a:moveTo>
                  <a:lnTo>
                    <a:pt x="1100" y="4256"/>
                  </a:lnTo>
                  <a:lnTo>
                    <a:pt x="4208" y="1074"/>
                  </a:lnTo>
                  <a:lnTo>
                    <a:pt x="3109" y="0"/>
                  </a:lnTo>
                  <a:lnTo>
                    <a:pt x="0" y="3182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22680" y="2481120"/>
              <a:ext cx="343080" cy="344160"/>
            </a:xfrm>
            <a:custGeom>
              <a:avLst/>
              <a:gdLst/>
              <a:ahLst/>
              <a:rect l="l" t="t" r="r" b="b"/>
              <a:pathLst>
                <a:path w="8436" h="8437">
                  <a:moveTo>
                    <a:pt x="0" y="4218"/>
                  </a:moveTo>
                  <a:lnTo>
                    <a:pt x="5" y="4435"/>
                  </a:lnTo>
                  <a:lnTo>
                    <a:pt x="21" y="4648"/>
                  </a:lnTo>
                  <a:lnTo>
                    <a:pt x="48" y="4859"/>
                  </a:lnTo>
                  <a:lnTo>
                    <a:pt x="86" y="5067"/>
                  </a:lnTo>
                  <a:lnTo>
                    <a:pt x="132" y="5271"/>
                  </a:lnTo>
                  <a:lnTo>
                    <a:pt x="189" y="5471"/>
                  </a:lnTo>
                  <a:lnTo>
                    <a:pt x="256" y="5667"/>
                  </a:lnTo>
                  <a:lnTo>
                    <a:pt x="331" y="5858"/>
                  </a:lnTo>
                  <a:lnTo>
                    <a:pt x="415" y="6045"/>
                  </a:lnTo>
                  <a:lnTo>
                    <a:pt x="510" y="6227"/>
                  </a:lnTo>
                  <a:lnTo>
                    <a:pt x="611" y="6403"/>
                  </a:lnTo>
                  <a:lnTo>
                    <a:pt x="721" y="6575"/>
                  </a:lnTo>
                  <a:lnTo>
                    <a:pt x="838" y="6740"/>
                  </a:lnTo>
                  <a:lnTo>
                    <a:pt x="964" y="6900"/>
                  </a:lnTo>
                  <a:lnTo>
                    <a:pt x="1096" y="7053"/>
                  </a:lnTo>
                  <a:lnTo>
                    <a:pt x="1237" y="7199"/>
                  </a:lnTo>
                  <a:lnTo>
                    <a:pt x="1383" y="7339"/>
                  </a:lnTo>
                  <a:lnTo>
                    <a:pt x="1536" y="7472"/>
                  </a:lnTo>
                  <a:lnTo>
                    <a:pt x="1695" y="7597"/>
                  </a:lnTo>
                  <a:lnTo>
                    <a:pt x="1861" y="7715"/>
                  </a:lnTo>
                  <a:lnTo>
                    <a:pt x="2032" y="7825"/>
                  </a:lnTo>
                  <a:lnTo>
                    <a:pt x="2209" y="7927"/>
                  </a:lnTo>
                  <a:lnTo>
                    <a:pt x="2391" y="8020"/>
                  </a:lnTo>
                  <a:lnTo>
                    <a:pt x="2577" y="8105"/>
                  </a:lnTo>
                  <a:lnTo>
                    <a:pt x="2769" y="8180"/>
                  </a:lnTo>
                  <a:lnTo>
                    <a:pt x="2965" y="8246"/>
                  </a:lnTo>
                  <a:lnTo>
                    <a:pt x="3165" y="8303"/>
                  </a:lnTo>
                  <a:lnTo>
                    <a:pt x="3369" y="8351"/>
                  </a:lnTo>
                  <a:lnTo>
                    <a:pt x="3577" y="8388"/>
                  </a:lnTo>
                  <a:lnTo>
                    <a:pt x="3787" y="8414"/>
                  </a:lnTo>
                  <a:lnTo>
                    <a:pt x="4001" y="8431"/>
                  </a:lnTo>
                  <a:lnTo>
                    <a:pt x="4218" y="8437"/>
                  </a:lnTo>
                  <a:lnTo>
                    <a:pt x="4434" y="8431"/>
                  </a:lnTo>
                  <a:lnTo>
                    <a:pt x="4649" y="8414"/>
                  </a:lnTo>
                  <a:lnTo>
                    <a:pt x="4859" y="8388"/>
                  </a:lnTo>
                  <a:lnTo>
                    <a:pt x="5067" y="8351"/>
                  </a:lnTo>
                  <a:lnTo>
                    <a:pt x="5271" y="8303"/>
                  </a:lnTo>
                  <a:lnTo>
                    <a:pt x="5471" y="8246"/>
                  </a:lnTo>
                  <a:lnTo>
                    <a:pt x="5666" y="8180"/>
                  </a:lnTo>
                  <a:lnTo>
                    <a:pt x="5859" y="8105"/>
                  </a:lnTo>
                  <a:lnTo>
                    <a:pt x="6045" y="8020"/>
                  </a:lnTo>
                  <a:lnTo>
                    <a:pt x="6227" y="7927"/>
                  </a:lnTo>
                  <a:lnTo>
                    <a:pt x="6404" y="7825"/>
                  </a:lnTo>
                  <a:lnTo>
                    <a:pt x="6575" y="7715"/>
                  </a:lnTo>
                  <a:lnTo>
                    <a:pt x="6740" y="7597"/>
                  </a:lnTo>
                  <a:lnTo>
                    <a:pt x="6900" y="7472"/>
                  </a:lnTo>
                  <a:lnTo>
                    <a:pt x="7052" y="7339"/>
                  </a:lnTo>
                  <a:lnTo>
                    <a:pt x="7199" y="7199"/>
                  </a:lnTo>
                  <a:lnTo>
                    <a:pt x="7340" y="7053"/>
                  </a:lnTo>
                  <a:lnTo>
                    <a:pt x="7472" y="6900"/>
                  </a:lnTo>
                  <a:lnTo>
                    <a:pt x="7598" y="6740"/>
                  </a:lnTo>
                  <a:lnTo>
                    <a:pt x="7715" y="6575"/>
                  </a:lnTo>
                  <a:lnTo>
                    <a:pt x="7825" y="6403"/>
                  </a:lnTo>
                  <a:lnTo>
                    <a:pt x="7926" y="6227"/>
                  </a:lnTo>
                  <a:lnTo>
                    <a:pt x="8019" y="6045"/>
                  </a:lnTo>
                  <a:lnTo>
                    <a:pt x="8104" y="5858"/>
                  </a:lnTo>
                  <a:lnTo>
                    <a:pt x="8180" y="5667"/>
                  </a:lnTo>
                  <a:lnTo>
                    <a:pt x="8246" y="5471"/>
                  </a:lnTo>
                  <a:lnTo>
                    <a:pt x="8304" y="5271"/>
                  </a:lnTo>
                  <a:lnTo>
                    <a:pt x="8350" y="5067"/>
                  </a:lnTo>
                  <a:lnTo>
                    <a:pt x="8388" y="4859"/>
                  </a:lnTo>
                  <a:lnTo>
                    <a:pt x="8415" y="4648"/>
                  </a:lnTo>
                  <a:lnTo>
                    <a:pt x="8431" y="4435"/>
                  </a:lnTo>
                  <a:lnTo>
                    <a:pt x="8436" y="4218"/>
                  </a:lnTo>
                  <a:lnTo>
                    <a:pt x="8431" y="4001"/>
                  </a:lnTo>
                  <a:lnTo>
                    <a:pt x="8415" y="3787"/>
                  </a:lnTo>
                  <a:lnTo>
                    <a:pt x="8388" y="3577"/>
                  </a:lnTo>
                  <a:lnTo>
                    <a:pt x="8350" y="3368"/>
                  </a:lnTo>
                  <a:lnTo>
                    <a:pt x="8304" y="3165"/>
                  </a:lnTo>
                  <a:lnTo>
                    <a:pt x="8246" y="2965"/>
                  </a:lnTo>
                  <a:lnTo>
                    <a:pt x="8180" y="2768"/>
                  </a:lnTo>
                  <a:lnTo>
                    <a:pt x="8104" y="2577"/>
                  </a:lnTo>
                  <a:lnTo>
                    <a:pt x="8019" y="2390"/>
                  </a:lnTo>
                  <a:lnTo>
                    <a:pt x="7926" y="2209"/>
                  </a:lnTo>
                  <a:lnTo>
                    <a:pt x="7825" y="2032"/>
                  </a:lnTo>
                  <a:lnTo>
                    <a:pt x="7715" y="1861"/>
                  </a:lnTo>
                  <a:lnTo>
                    <a:pt x="7598" y="1695"/>
                  </a:lnTo>
                  <a:lnTo>
                    <a:pt x="7472" y="1536"/>
                  </a:lnTo>
                  <a:lnTo>
                    <a:pt x="7340" y="1382"/>
                  </a:lnTo>
                  <a:lnTo>
                    <a:pt x="7199" y="1236"/>
                  </a:lnTo>
                  <a:lnTo>
                    <a:pt x="7052" y="1096"/>
                  </a:lnTo>
                  <a:lnTo>
                    <a:pt x="6900" y="964"/>
                  </a:lnTo>
                  <a:lnTo>
                    <a:pt x="6740" y="838"/>
                  </a:lnTo>
                  <a:lnTo>
                    <a:pt x="6575" y="721"/>
                  </a:lnTo>
                  <a:lnTo>
                    <a:pt x="6404" y="611"/>
                  </a:lnTo>
                  <a:lnTo>
                    <a:pt x="6227" y="509"/>
                  </a:lnTo>
                  <a:lnTo>
                    <a:pt x="6045" y="415"/>
                  </a:lnTo>
                  <a:lnTo>
                    <a:pt x="5859" y="331"/>
                  </a:lnTo>
                  <a:lnTo>
                    <a:pt x="5666" y="255"/>
                  </a:lnTo>
                  <a:lnTo>
                    <a:pt x="5471" y="189"/>
                  </a:lnTo>
                  <a:lnTo>
                    <a:pt x="5271" y="132"/>
                  </a:lnTo>
                  <a:lnTo>
                    <a:pt x="5067" y="85"/>
                  </a:lnTo>
                  <a:lnTo>
                    <a:pt x="4859" y="48"/>
                  </a:lnTo>
                  <a:lnTo>
                    <a:pt x="4649" y="21"/>
                  </a:lnTo>
                  <a:lnTo>
                    <a:pt x="4434" y="5"/>
                  </a:lnTo>
                  <a:lnTo>
                    <a:pt x="4218" y="0"/>
                  </a:lnTo>
                  <a:lnTo>
                    <a:pt x="4001" y="5"/>
                  </a:lnTo>
                  <a:lnTo>
                    <a:pt x="3787" y="21"/>
                  </a:lnTo>
                  <a:lnTo>
                    <a:pt x="3577" y="48"/>
                  </a:lnTo>
                  <a:lnTo>
                    <a:pt x="3369" y="85"/>
                  </a:lnTo>
                  <a:lnTo>
                    <a:pt x="3165" y="132"/>
                  </a:lnTo>
                  <a:lnTo>
                    <a:pt x="2965" y="189"/>
                  </a:lnTo>
                  <a:lnTo>
                    <a:pt x="2769" y="255"/>
                  </a:lnTo>
                  <a:lnTo>
                    <a:pt x="2577" y="331"/>
                  </a:lnTo>
                  <a:lnTo>
                    <a:pt x="2391" y="415"/>
                  </a:lnTo>
                  <a:lnTo>
                    <a:pt x="2209" y="509"/>
                  </a:lnTo>
                  <a:lnTo>
                    <a:pt x="2032" y="611"/>
                  </a:lnTo>
                  <a:lnTo>
                    <a:pt x="1861" y="721"/>
                  </a:lnTo>
                  <a:lnTo>
                    <a:pt x="1695" y="838"/>
                  </a:lnTo>
                  <a:lnTo>
                    <a:pt x="1536" y="964"/>
                  </a:lnTo>
                  <a:lnTo>
                    <a:pt x="1383" y="1096"/>
                  </a:lnTo>
                  <a:lnTo>
                    <a:pt x="1237" y="1236"/>
                  </a:lnTo>
                  <a:lnTo>
                    <a:pt x="1096" y="1382"/>
                  </a:lnTo>
                  <a:lnTo>
                    <a:pt x="964" y="1536"/>
                  </a:lnTo>
                  <a:lnTo>
                    <a:pt x="838" y="1695"/>
                  </a:lnTo>
                  <a:lnTo>
                    <a:pt x="721" y="1861"/>
                  </a:lnTo>
                  <a:lnTo>
                    <a:pt x="611" y="2032"/>
                  </a:lnTo>
                  <a:lnTo>
                    <a:pt x="510" y="2209"/>
                  </a:lnTo>
                  <a:lnTo>
                    <a:pt x="415" y="2390"/>
                  </a:lnTo>
                  <a:lnTo>
                    <a:pt x="331" y="2577"/>
                  </a:lnTo>
                  <a:lnTo>
                    <a:pt x="256" y="2768"/>
                  </a:lnTo>
                  <a:lnTo>
                    <a:pt x="189" y="2965"/>
                  </a:lnTo>
                  <a:lnTo>
                    <a:pt x="132" y="3165"/>
                  </a:lnTo>
                  <a:lnTo>
                    <a:pt x="86" y="3368"/>
                  </a:lnTo>
                  <a:lnTo>
                    <a:pt x="48" y="3577"/>
                  </a:lnTo>
                  <a:lnTo>
                    <a:pt x="21" y="3787"/>
                  </a:lnTo>
                  <a:lnTo>
                    <a:pt x="5" y="4001"/>
                  </a:lnTo>
                  <a:lnTo>
                    <a:pt x="0" y="4218"/>
                  </a:lnTo>
                  <a:close/>
                  <a:moveTo>
                    <a:pt x="589" y="4218"/>
                  </a:moveTo>
                  <a:lnTo>
                    <a:pt x="593" y="4031"/>
                  </a:lnTo>
                  <a:lnTo>
                    <a:pt x="608" y="3847"/>
                  </a:lnTo>
                  <a:lnTo>
                    <a:pt x="631" y="3666"/>
                  </a:lnTo>
                  <a:lnTo>
                    <a:pt x="663" y="3488"/>
                  </a:lnTo>
                  <a:lnTo>
                    <a:pt x="704" y="3312"/>
                  </a:lnTo>
                  <a:lnTo>
                    <a:pt x="752" y="3140"/>
                  </a:lnTo>
                  <a:lnTo>
                    <a:pt x="810" y="2972"/>
                  </a:lnTo>
                  <a:lnTo>
                    <a:pt x="875" y="2807"/>
                  </a:lnTo>
                  <a:lnTo>
                    <a:pt x="948" y="2646"/>
                  </a:lnTo>
                  <a:lnTo>
                    <a:pt x="1027" y="2489"/>
                  </a:lnTo>
                  <a:lnTo>
                    <a:pt x="1115" y="2337"/>
                  </a:lnTo>
                  <a:lnTo>
                    <a:pt x="1210" y="2191"/>
                  </a:lnTo>
                  <a:lnTo>
                    <a:pt x="1311" y="2048"/>
                  </a:lnTo>
                  <a:lnTo>
                    <a:pt x="1419" y="1911"/>
                  </a:lnTo>
                  <a:lnTo>
                    <a:pt x="1533" y="1779"/>
                  </a:lnTo>
                  <a:lnTo>
                    <a:pt x="1654" y="1654"/>
                  </a:lnTo>
                  <a:lnTo>
                    <a:pt x="1779" y="1533"/>
                  </a:lnTo>
                  <a:lnTo>
                    <a:pt x="1912" y="1419"/>
                  </a:lnTo>
                  <a:lnTo>
                    <a:pt x="2048" y="1311"/>
                  </a:lnTo>
                  <a:lnTo>
                    <a:pt x="2191" y="1209"/>
                  </a:lnTo>
                  <a:lnTo>
                    <a:pt x="2337" y="1115"/>
                  </a:lnTo>
                  <a:lnTo>
                    <a:pt x="2490" y="1027"/>
                  </a:lnTo>
                  <a:lnTo>
                    <a:pt x="2646" y="947"/>
                  </a:lnTo>
                  <a:lnTo>
                    <a:pt x="2807" y="875"/>
                  </a:lnTo>
                  <a:lnTo>
                    <a:pt x="2972" y="810"/>
                  </a:lnTo>
                  <a:lnTo>
                    <a:pt x="3140" y="752"/>
                  </a:lnTo>
                  <a:lnTo>
                    <a:pt x="3313" y="704"/>
                  </a:lnTo>
                  <a:lnTo>
                    <a:pt x="3488" y="663"/>
                  </a:lnTo>
                  <a:lnTo>
                    <a:pt x="3666" y="631"/>
                  </a:lnTo>
                  <a:lnTo>
                    <a:pt x="3848" y="608"/>
                  </a:lnTo>
                  <a:lnTo>
                    <a:pt x="4032" y="593"/>
                  </a:lnTo>
                  <a:lnTo>
                    <a:pt x="4218" y="589"/>
                  </a:lnTo>
                  <a:lnTo>
                    <a:pt x="4404" y="593"/>
                  </a:lnTo>
                  <a:lnTo>
                    <a:pt x="4588" y="608"/>
                  </a:lnTo>
                  <a:lnTo>
                    <a:pt x="4770" y="631"/>
                  </a:lnTo>
                  <a:lnTo>
                    <a:pt x="4948" y="663"/>
                  </a:lnTo>
                  <a:lnTo>
                    <a:pt x="5123" y="704"/>
                  </a:lnTo>
                  <a:lnTo>
                    <a:pt x="5295" y="752"/>
                  </a:lnTo>
                  <a:lnTo>
                    <a:pt x="5464" y="810"/>
                  </a:lnTo>
                  <a:lnTo>
                    <a:pt x="5629" y="875"/>
                  </a:lnTo>
                  <a:lnTo>
                    <a:pt x="5790" y="947"/>
                  </a:lnTo>
                  <a:lnTo>
                    <a:pt x="5946" y="1027"/>
                  </a:lnTo>
                  <a:lnTo>
                    <a:pt x="6098" y="1115"/>
                  </a:lnTo>
                  <a:lnTo>
                    <a:pt x="6245" y="1209"/>
                  </a:lnTo>
                  <a:lnTo>
                    <a:pt x="6388" y="1311"/>
                  </a:lnTo>
                  <a:lnTo>
                    <a:pt x="6524" y="1419"/>
                  </a:lnTo>
                  <a:lnTo>
                    <a:pt x="6657" y="1533"/>
                  </a:lnTo>
                  <a:lnTo>
                    <a:pt x="6782" y="1654"/>
                  </a:lnTo>
                  <a:lnTo>
                    <a:pt x="6903" y="1779"/>
                  </a:lnTo>
                  <a:lnTo>
                    <a:pt x="7017" y="1911"/>
                  </a:lnTo>
                  <a:lnTo>
                    <a:pt x="7124" y="2048"/>
                  </a:lnTo>
                  <a:lnTo>
                    <a:pt x="7226" y="2191"/>
                  </a:lnTo>
                  <a:lnTo>
                    <a:pt x="7320" y="2337"/>
                  </a:lnTo>
                  <a:lnTo>
                    <a:pt x="7407" y="2489"/>
                  </a:lnTo>
                  <a:lnTo>
                    <a:pt x="7488" y="2646"/>
                  </a:lnTo>
                  <a:lnTo>
                    <a:pt x="7561" y="2807"/>
                  </a:lnTo>
                  <a:lnTo>
                    <a:pt x="7626" y="2972"/>
                  </a:lnTo>
                  <a:lnTo>
                    <a:pt x="7684" y="3140"/>
                  </a:lnTo>
                  <a:lnTo>
                    <a:pt x="7732" y="3312"/>
                  </a:lnTo>
                  <a:lnTo>
                    <a:pt x="7773" y="3488"/>
                  </a:lnTo>
                  <a:lnTo>
                    <a:pt x="7805" y="3666"/>
                  </a:lnTo>
                  <a:lnTo>
                    <a:pt x="7828" y="3847"/>
                  </a:lnTo>
                  <a:lnTo>
                    <a:pt x="7841" y="4031"/>
                  </a:lnTo>
                  <a:lnTo>
                    <a:pt x="7846" y="4218"/>
                  </a:lnTo>
                  <a:lnTo>
                    <a:pt x="7841" y="4404"/>
                  </a:lnTo>
                  <a:lnTo>
                    <a:pt x="7828" y="4588"/>
                  </a:lnTo>
                  <a:lnTo>
                    <a:pt x="7805" y="4769"/>
                  </a:lnTo>
                  <a:lnTo>
                    <a:pt x="7773" y="4949"/>
                  </a:lnTo>
                  <a:lnTo>
                    <a:pt x="7732" y="5124"/>
                  </a:lnTo>
                  <a:lnTo>
                    <a:pt x="7684" y="5296"/>
                  </a:lnTo>
                  <a:lnTo>
                    <a:pt x="7626" y="5464"/>
                  </a:lnTo>
                  <a:lnTo>
                    <a:pt x="7561" y="5629"/>
                  </a:lnTo>
                  <a:lnTo>
                    <a:pt x="7488" y="5789"/>
                  </a:lnTo>
                  <a:lnTo>
                    <a:pt x="7407" y="5946"/>
                  </a:lnTo>
                  <a:lnTo>
                    <a:pt x="7320" y="6098"/>
                  </a:lnTo>
                  <a:lnTo>
                    <a:pt x="7226" y="6245"/>
                  </a:lnTo>
                  <a:lnTo>
                    <a:pt x="7124" y="6388"/>
                  </a:lnTo>
                  <a:lnTo>
                    <a:pt x="7017" y="6525"/>
                  </a:lnTo>
                  <a:lnTo>
                    <a:pt x="6903" y="6656"/>
                  </a:lnTo>
                  <a:lnTo>
                    <a:pt x="6782" y="6783"/>
                  </a:lnTo>
                  <a:lnTo>
                    <a:pt x="6657" y="6903"/>
                  </a:lnTo>
                  <a:lnTo>
                    <a:pt x="6524" y="7017"/>
                  </a:lnTo>
                  <a:lnTo>
                    <a:pt x="6388" y="7125"/>
                  </a:lnTo>
                  <a:lnTo>
                    <a:pt x="6245" y="7226"/>
                  </a:lnTo>
                  <a:lnTo>
                    <a:pt x="6098" y="7321"/>
                  </a:lnTo>
                  <a:lnTo>
                    <a:pt x="5946" y="7408"/>
                  </a:lnTo>
                  <a:lnTo>
                    <a:pt x="5790" y="7489"/>
                  </a:lnTo>
                  <a:lnTo>
                    <a:pt x="5629" y="7561"/>
                  </a:lnTo>
                  <a:lnTo>
                    <a:pt x="5464" y="7626"/>
                  </a:lnTo>
                  <a:lnTo>
                    <a:pt x="5295" y="7683"/>
                  </a:lnTo>
                  <a:lnTo>
                    <a:pt x="5123" y="7733"/>
                  </a:lnTo>
                  <a:lnTo>
                    <a:pt x="4948" y="7773"/>
                  </a:lnTo>
                  <a:lnTo>
                    <a:pt x="4770" y="7804"/>
                  </a:lnTo>
                  <a:lnTo>
                    <a:pt x="4588" y="7828"/>
                  </a:lnTo>
                  <a:lnTo>
                    <a:pt x="4404" y="7842"/>
                  </a:lnTo>
                  <a:lnTo>
                    <a:pt x="4218" y="7847"/>
                  </a:lnTo>
                  <a:lnTo>
                    <a:pt x="4032" y="7842"/>
                  </a:lnTo>
                  <a:lnTo>
                    <a:pt x="3848" y="7828"/>
                  </a:lnTo>
                  <a:lnTo>
                    <a:pt x="3666" y="7804"/>
                  </a:lnTo>
                  <a:lnTo>
                    <a:pt x="3488" y="7773"/>
                  </a:lnTo>
                  <a:lnTo>
                    <a:pt x="3313" y="7733"/>
                  </a:lnTo>
                  <a:lnTo>
                    <a:pt x="3140" y="7683"/>
                  </a:lnTo>
                  <a:lnTo>
                    <a:pt x="2972" y="7626"/>
                  </a:lnTo>
                  <a:lnTo>
                    <a:pt x="2807" y="7561"/>
                  </a:lnTo>
                  <a:lnTo>
                    <a:pt x="2646" y="7489"/>
                  </a:lnTo>
                  <a:lnTo>
                    <a:pt x="2490" y="7408"/>
                  </a:lnTo>
                  <a:lnTo>
                    <a:pt x="2337" y="7321"/>
                  </a:lnTo>
                  <a:lnTo>
                    <a:pt x="2191" y="7226"/>
                  </a:lnTo>
                  <a:lnTo>
                    <a:pt x="2048" y="7125"/>
                  </a:lnTo>
                  <a:lnTo>
                    <a:pt x="1912" y="7017"/>
                  </a:lnTo>
                  <a:lnTo>
                    <a:pt x="1779" y="6903"/>
                  </a:lnTo>
                  <a:lnTo>
                    <a:pt x="1654" y="6783"/>
                  </a:lnTo>
                  <a:lnTo>
                    <a:pt x="1533" y="6656"/>
                  </a:lnTo>
                  <a:lnTo>
                    <a:pt x="1419" y="6525"/>
                  </a:lnTo>
                  <a:lnTo>
                    <a:pt x="1311" y="6388"/>
                  </a:lnTo>
                  <a:lnTo>
                    <a:pt x="1210" y="6245"/>
                  </a:lnTo>
                  <a:lnTo>
                    <a:pt x="1115" y="6098"/>
                  </a:lnTo>
                  <a:lnTo>
                    <a:pt x="1027" y="5946"/>
                  </a:lnTo>
                  <a:lnTo>
                    <a:pt x="948" y="5789"/>
                  </a:lnTo>
                  <a:lnTo>
                    <a:pt x="875" y="5629"/>
                  </a:lnTo>
                  <a:lnTo>
                    <a:pt x="810" y="5464"/>
                  </a:lnTo>
                  <a:lnTo>
                    <a:pt x="752" y="5296"/>
                  </a:lnTo>
                  <a:lnTo>
                    <a:pt x="704" y="5124"/>
                  </a:lnTo>
                  <a:lnTo>
                    <a:pt x="663" y="4949"/>
                  </a:lnTo>
                  <a:lnTo>
                    <a:pt x="631" y="4769"/>
                  </a:lnTo>
                  <a:lnTo>
                    <a:pt x="608" y="4588"/>
                  </a:lnTo>
                  <a:lnTo>
                    <a:pt x="593" y="4404"/>
                  </a:lnTo>
                  <a:lnTo>
                    <a:pt x="589" y="4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22680" y="2481120"/>
              <a:ext cx="343080" cy="344160"/>
            </a:xfrm>
            <a:custGeom>
              <a:avLst/>
              <a:gdLst/>
              <a:ahLst/>
              <a:rect l="l" t="t" r="r" b="b"/>
              <a:pathLst>
                <a:path w="8436" h="8437">
                  <a:moveTo>
                    <a:pt x="0" y="4218"/>
                  </a:moveTo>
                  <a:lnTo>
                    <a:pt x="5" y="4435"/>
                  </a:lnTo>
                  <a:lnTo>
                    <a:pt x="21" y="4648"/>
                  </a:lnTo>
                  <a:lnTo>
                    <a:pt x="48" y="4859"/>
                  </a:lnTo>
                  <a:lnTo>
                    <a:pt x="86" y="5067"/>
                  </a:lnTo>
                  <a:lnTo>
                    <a:pt x="132" y="5271"/>
                  </a:lnTo>
                  <a:lnTo>
                    <a:pt x="189" y="5471"/>
                  </a:lnTo>
                  <a:lnTo>
                    <a:pt x="256" y="5667"/>
                  </a:lnTo>
                  <a:lnTo>
                    <a:pt x="331" y="5858"/>
                  </a:lnTo>
                  <a:lnTo>
                    <a:pt x="415" y="6045"/>
                  </a:lnTo>
                  <a:lnTo>
                    <a:pt x="510" y="6227"/>
                  </a:lnTo>
                  <a:lnTo>
                    <a:pt x="611" y="6403"/>
                  </a:lnTo>
                  <a:lnTo>
                    <a:pt x="721" y="6575"/>
                  </a:lnTo>
                  <a:lnTo>
                    <a:pt x="838" y="6740"/>
                  </a:lnTo>
                  <a:lnTo>
                    <a:pt x="964" y="6900"/>
                  </a:lnTo>
                  <a:lnTo>
                    <a:pt x="1096" y="7053"/>
                  </a:lnTo>
                  <a:lnTo>
                    <a:pt x="1237" y="7199"/>
                  </a:lnTo>
                  <a:lnTo>
                    <a:pt x="1383" y="7339"/>
                  </a:lnTo>
                  <a:lnTo>
                    <a:pt x="1536" y="7472"/>
                  </a:lnTo>
                  <a:lnTo>
                    <a:pt x="1695" y="7597"/>
                  </a:lnTo>
                  <a:lnTo>
                    <a:pt x="1861" y="7715"/>
                  </a:lnTo>
                  <a:lnTo>
                    <a:pt x="2032" y="7825"/>
                  </a:lnTo>
                  <a:lnTo>
                    <a:pt x="2209" y="7927"/>
                  </a:lnTo>
                  <a:lnTo>
                    <a:pt x="2391" y="8020"/>
                  </a:lnTo>
                  <a:lnTo>
                    <a:pt x="2577" y="8105"/>
                  </a:lnTo>
                  <a:lnTo>
                    <a:pt x="2769" y="8180"/>
                  </a:lnTo>
                  <a:lnTo>
                    <a:pt x="2965" y="8246"/>
                  </a:lnTo>
                  <a:lnTo>
                    <a:pt x="3165" y="8303"/>
                  </a:lnTo>
                  <a:lnTo>
                    <a:pt x="3369" y="8351"/>
                  </a:lnTo>
                  <a:lnTo>
                    <a:pt x="3577" y="8388"/>
                  </a:lnTo>
                  <a:lnTo>
                    <a:pt x="3787" y="8414"/>
                  </a:lnTo>
                  <a:lnTo>
                    <a:pt x="4001" y="8431"/>
                  </a:lnTo>
                  <a:lnTo>
                    <a:pt x="4218" y="8437"/>
                  </a:lnTo>
                  <a:lnTo>
                    <a:pt x="4434" y="8431"/>
                  </a:lnTo>
                  <a:lnTo>
                    <a:pt x="4649" y="8414"/>
                  </a:lnTo>
                  <a:lnTo>
                    <a:pt x="4859" y="8388"/>
                  </a:lnTo>
                  <a:lnTo>
                    <a:pt x="5067" y="8351"/>
                  </a:lnTo>
                  <a:lnTo>
                    <a:pt x="5271" y="8303"/>
                  </a:lnTo>
                  <a:lnTo>
                    <a:pt x="5471" y="8246"/>
                  </a:lnTo>
                  <a:lnTo>
                    <a:pt x="5666" y="8180"/>
                  </a:lnTo>
                  <a:lnTo>
                    <a:pt x="5859" y="8105"/>
                  </a:lnTo>
                  <a:lnTo>
                    <a:pt x="6045" y="8020"/>
                  </a:lnTo>
                  <a:lnTo>
                    <a:pt x="6227" y="7927"/>
                  </a:lnTo>
                  <a:lnTo>
                    <a:pt x="6404" y="7825"/>
                  </a:lnTo>
                  <a:lnTo>
                    <a:pt x="6575" y="7715"/>
                  </a:lnTo>
                  <a:lnTo>
                    <a:pt x="6740" y="7597"/>
                  </a:lnTo>
                  <a:lnTo>
                    <a:pt x="6900" y="7472"/>
                  </a:lnTo>
                  <a:lnTo>
                    <a:pt x="7052" y="7339"/>
                  </a:lnTo>
                  <a:lnTo>
                    <a:pt x="7199" y="7199"/>
                  </a:lnTo>
                  <a:lnTo>
                    <a:pt x="7340" y="7053"/>
                  </a:lnTo>
                  <a:lnTo>
                    <a:pt x="7472" y="6900"/>
                  </a:lnTo>
                  <a:lnTo>
                    <a:pt x="7598" y="6740"/>
                  </a:lnTo>
                  <a:lnTo>
                    <a:pt x="7715" y="6575"/>
                  </a:lnTo>
                  <a:lnTo>
                    <a:pt x="7825" y="6403"/>
                  </a:lnTo>
                  <a:lnTo>
                    <a:pt x="7926" y="6227"/>
                  </a:lnTo>
                  <a:lnTo>
                    <a:pt x="8019" y="6045"/>
                  </a:lnTo>
                  <a:lnTo>
                    <a:pt x="8104" y="5858"/>
                  </a:lnTo>
                  <a:lnTo>
                    <a:pt x="8180" y="5667"/>
                  </a:lnTo>
                  <a:lnTo>
                    <a:pt x="8246" y="5471"/>
                  </a:lnTo>
                  <a:lnTo>
                    <a:pt x="8304" y="5271"/>
                  </a:lnTo>
                  <a:lnTo>
                    <a:pt x="8350" y="5067"/>
                  </a:lnTo>
                  <a:lnTo>
                    <a:pt x="8388" y="4859"/>
                  </a:lnTo>
                  <a:lnTo>
                    <a:pt x="8415" y="4648"/>
                  </a:lnTo>
                  <a:lnTo>
                    <a:pt x="8431" y="4435"/>
                  </a:lnTo>
                  <a:lnTo>
                    <a:pt x="8436" y="4218"/>
                  </a:lnTo>
                  <a:lnTo>
                    <a:pt x="8431" y="4001"/>
                  </a:lnTo>
                  <a:lnTo>
                    <a:pt x="8415" y="3787"/>
                  </a:lnTo>
                  <a:lnTo>
                    <a:pt x="8388" y="3577"/>
                  </a:lnTo>
                  <a:lnTo>
                    <a:pt x="8350" y="3368"/>
                  </a:lnTo>
                  <a:lnTo>
                    <a:pt x="8304" y="3165"/>
                  </a:lnTo>
                  <a:lnTo>
                    <a:pt x="8246" y="2965"/>
                  </a:lnTo>
                  <a:lnTo>
                    <a:pt x="8180" y="2768"/>
                  </a:lnTo>
                  <a:lnTo>
                    <a:pt x="8104" y="2577"/>
                  </a:lnTo>
                  <a:lnTo>
                    <a:pt x="8019" y="2390"/>
                  </a:lnTo>
                  <a:lnTo>
                    <a:pt x="7926" y="2209"/>
                  </a:lnTo>
                  <a:lnTo>
                    <a:pt x="7825" y="2032"/>
                  </a:lnTo>
                  <a:lnTo>
                    <a:pt x="7715" y="1861"/>
                  </a:lnTo>
                  <a:lnTo>
                    <a:pt x="7598" y="1695"/>
                  </a:lnTo>
                  <a:lnTo>
                    <a:pt x="7472" y="1536"/>
                  </a:lnTo>
                  <a:lnTo>
                    <a:pt x="7340" y="1382"/>
                  </a:lnTo>
                  <a:lnTo>
                    <a:pt x="7199" y="1236"/>
                  </a:lnTo>
                  <a:lnTo>
                    <a:pt x="7052" y="1096"/>
                  </a:lnTo>
                  <a:lnTo>
                    <a:pt x="6900" y="964"/>
                  </a:lnTo>
                  <a:lnTo>
                    <a:pt x="6740" y="838"/>
                  </a:lnTo>
                  <a:lnTo>
                    <a:pt x="6575" y="721"/>
                  </a:lnTo>
                  <a:lnTo>
                    <a:pt x="6404" y="611"/>
                  </a:lnTo>
                  <a:lnTo>
                    <a:pt x="6227" y="509"/>
                  </a:lnTo>
                  <a:lnTo>
                    <a:pt x="6045" y="415"/>
                  </a:lnTo>
                  <a:lnTo>
                    <a:pt x="5859" y="331"/>
                  </a:lnTo>
                  <a:lnTo>
                    <a:pt x="5666" y="255"/>
                  </a:lnTo>
                  <a:lnTo>
                    <a:pt x="5471" y="189"/>
                  </a:lnTo>
                  <a:lnTo>
                    <a:pt x="5271" y="132"/>
                  </a:lnTo>
                  <a:lnTo>
                    <a:pt x="5067" y="85"/>
                  </a:lnTo>
                  <a:lnTo>
                    <a:pt x="4859" y="48"/>
                  </a:lnTo>
                  <a:lnTo>
                    <a:pt x="4649" y="21"/>
                  </a:lnTo>
                  <a:lnTo>
                    <a:pt x="4434" y="5"/>
                  </a:lnTo>
                  <a:lnTo>
                    <a:pt x="4218" y="0"/>
                  </a:lnTo>
                  <a:lnTo>
                    <a:pt x="4001" y="5"/>
                  </a:lnTo>
                  <a:lnTo>
                    <a:pt x="3787" y="21"/>
                  </a:lnTo>
                  <a:lnTo>
                    <a:pt x="3577" y="48"/>
                  </a:lnTo>
                  <a:lnTo>
                    <a:pt x="3369" y="85"/>
                  </a:lnTo>
                  <a:lnTo>
                    <a:pt x="3165" y="132"/>
                  </a:lnTo>
                  <a:lnTo>
                    <a:pt x="2965" y="189"/>
                  </a:lnTo>
                  <a:lnTo>
                    <a:pt x="2769" y="255"/>
                  </a:lnTo>
                  <a:lnTo>
                    <a:pt x="2577" y="331"/>
                  </a:lnTo>
                  <a:lnTo>
                    <a:pt x="2391" y="415"/>
                  </a:lnTo>
                  <a:lnTo>
                    <a:pt x="2209" y="509"/>
                  </a:lnTo>
                  <a:lnTo>
                    <a:pt x="2032" y="611"/>
                  </a:lnTo>
                  <a:lnTo>
                    <a:pt x="1861" y="721"/>
                  </a:lnTo>
                  <a:lnTo>
                    <a:pt x="1695" y="838"/>
                  </a:lnTo>
                  <a:lnTo>
                    <a:pt x="1536" y="964"/>
                  </a:lnTo>
                  <a:lnTo>
                    <a:pt x="1383" y="1096"/>
                  </a:lnTo>
                  <a:lnTo>
                    <a:pt x="1237" y="1236"/>
                  </a:lnTo>
                  <a:lnTo>
                    <a:pt x="1096" y="1382"/>
                  </a:lnTo>
                  <a:lnTo>
                    <a:pt x="964" y="1536"/>
                  </a:lnTo>
                  <a:lnTo>
                    <a:pt x="838" y="1695"/>
                  </a:lnTo>
                  <a:lnTo>
                    <a:pt x="721" y="1861"/>
                  </a:lnTo>
                  <a:lnTo>
                    <a:pt x="611" y="2032"/>
                  </a:lnTo>
                  <a:lnTo>
                    <a:pt x="510" y="2209"/>
                  </a:lnTo>
                  <a:lnTo>
                    <a:pt x="415" y="2390"/>
                  </a:lnTo>
                  <a:lnTo>
                    <a:pt x="331" y="2577"/>
                  </a:lnTo>
                  <a:lnTo>
                    <a:pt x="256" y="2768"/>
                  </a:lnTo>
                  <a:lnTo>
                    <a:pt x="189" y="2965"/>
                  </a:lnTo>
                  <a:lnTo>
                    <a:pt x="132" y="3165"/>
                  </a:lnTo>
                  <a:lnTo>
                    <a:pt x="86" y="3368"/>
                  </a:lnTo>
                  <a:lnTo>
                    <a:pt x="48" y="3577"/>
                  </a:lnTo>
                  <a:lnTo>
                    <a:pt x="21" y="3787"/>
                  </a:lnTo>
                  <a:lnTo>
                    <a:pt x="5" y="4001"/>
                  </a:lnTo>
                  <a:lnTo>
                    <a:pt x="0" y="4218"/>
                  </a:lnTo>
                </a:path>
              </a:pathLst>
            </a:custGeom>
            <a:noFill/>
            <a:ln w="0">
              <a:solidFill>
                <a:srgbClr val="15161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440" y="2504880"/>
              <a:ext cx="295560" cy="294840"/>
            </a:xfrm>
            <a:custGeom>
              <a:avLst/>
              <a:gdLst/>
              <a:ahLst/>
              <a:rect l="l" t="t" r="r" b="b"/>
              <a:pathLst>
                <a:path w="7257" h="7258">
                  <a:moveTo>
                    <a:pt x="0" y="3629"/>
                  </a:moveTo>
                  <a:lnTo>
                    <a:pt x="4" y="3442"/>
                  </a:lnTo>
                  <a:lnTo>
                    <a:pt x="19" y="3258"/>
                  </a:lnTo>
                  <a:lnTo>
                    <a:pt x="42" y="3077"/>
                  </a:lnTo>
                  <a:lnTo>
                    <a:pt x="74" y="2899"/>
                  </a:lnTo>
                  <a:lnTo>
                    <a:pt x="115" y="2723"/>
                  </a:lnTo>
                  <a:lnTo>
                    <a:pt x="163" y="2551"/>
                  </a:lnTo>
                  <a:lnTo>
                    <a:pt x="221" y="2383"/>
                  </a:lnTo>
                  <a:lnTo>
                    <a:pt x="286" y="2218"/>
                  </a:lnTo>
                  <a:lnTo>
                    <a:pt x="359" y="2057"/>
                  </a:lnTo>
                  <a:lnTo>
                    <a:pt x="438" y="1900"/>
                  </a:lnTo>
                  <a:lnTo>
                    <a:pt x="526" y="1748"/>
                  </a:lnTo>
                  <a:lnTo>
                    <a:pt x="621" y="1602"/>
                  </a:lnTo>
                  <a:lnTo>
                    <a:pt x="722" y="1459"/>
                  </a:lnTo>
                  <a:lnTo>
                    <a:pt x="830" y="1322"/>
                  </a:lnTo>
                  <a:lnTo>
                    <a:pt x="944" y="1190"/>
                  </a:lnTo>
                  <a:lnTo>
                    <a:pt x="1065" y="1065"/>
                  </a:lnTo>
                  <a:lnTo>
                    <a:pt x="1190" y="944"/>
                  </a:lnTo>
                  <a:lnTo>
                    <a:pt x="1323" y="830"/>
                  </a:lnTo>
                  <a:lnTo>
                    <a:pt x="1459" y="722"/>
                  </a:lnTo>
                  <a:lnTo>
                    <a:pt x="1602" y="620"/>
                  </a:lnTo>
                  <a:lnTo>
                    <a:pt x="1748" y="526"/>
                  </a:lnTo>
                  <a:lnTo>
                    <a:pt x="1901" y="438"/>
                  </a:lnTo>
                  <a:lnTo>
                    <a:pt x="2057" y="358"/>
                  </a:lnTo>
                  <a:lnTo>
                    <a:pt x="2218" y="286"/>
                  </a:lnTo>
                  <a:lnTo>
                    <a:pt x="2383" y="221"/>
                  </a:lnTo>
                  <a:lnTo>
                    <a:pt x="2551" y="163"/>
                  </a:lnTo>
                  <a:lnTo>
                    <a:pt x="2724" y="115"/>
                  </a:lnTo>
                  <a:lnTo>
                    <a:pt x="2899" y="74"/>
                  </a:lnTo>
                  <a:lnTo>
                    <a:pt x="3077" y="42"/>
                  </a:lnTo>
                  <a:lnTo>
                    <a:pt x="3259" y="19"/>
                  </a:lnTo>
                  <a:lnTo>
                    <a:pt x="3443" y="4"/>
                  </a:lnTo>
                  <a:lnTo>
                    <a:pt x="3629" y="0"/>
                  </a:lnTo>
                  <a:lnTo>
                    <a:pt x="3815" y="4"/>
                  </a:lnTo>
                  <a:lnTo>
                    <a:pt x="3999" y="19"/>
                  </a:lnTo>
                  <a:lnTo>
                    <a:pt x="4181" y="42"/>
                  </a:lnTo>
                  <a:lnTo>
                    <a:pt x="4359" y="74"/>
                  </a:lnTo>
                  <a:lnTo>
                    <a:pt x="4534" y="115"/>
                  </a:lnTo>
                  <a:lnTo>
                    <a:pt x="4706" y="163"/>
                  </a:lnTo>
                  <a:lnTo>
                    <a:pt x="4875" y="221"/>
                  </a:lnTo>
                  <a:lnTo>
                    <a:pt x="5040" y="286"/>
                  </a:lnTo>
                  <a:lnTo>
                    <a:pt x="5201" y="358"/>
                  </a:lnTo>
                  <a:lnTo>
                    <a:pt x="5357" y="438"/>
                  </a:lnTo>
                  <a:lnTo>
                    <a:pt x="5509" y="526"/>
                  </a:lnTo>
                  <a:lnTo>
                    <a:pt x="5656" y="620"/>
                  </a:lnTo>
                  <a:lnTo>
                    <a:pt x="5799" y="722"/>
                  </a:lnTo>
                  <a:lnTo>
                    <a:pt x="5935" y="830"/>
                  </a:lnTo>
                  <a:lnTo>
                    <a:pt x="6068" y="944"/>
                  </a:lnTo>
                  <a:lnTo>
                    <a:pt x="6193" y="1065"/>
                  </a:lnTo>
                  <a:lnTo>
                    <a:pt x="6314" y="1190"/>
                  </a:lnTo>
                  <a:lnTo>
                    <a:pt x="6428" y="1322"/>
                  </a:lnTo>
                  <a:lnTo>
                    <a:pt x="6535" y="1459"/>
                  </a:lnTo>
                  <a:lnTo>
                    <a:pt x="6637" y="1602"/>
                  </a:lnTo>
                  <a:lnTo>
                    <a:pt x="6731" y="1748"/>
                  </a:lnTo>
                  <a:lnTo>
                    <a:pt x="6818" y="1900"/>
                  </a:lnTo>
                  <a:lnTo>
                    <a:pt x="6899" y="2057"/>
                  </a:lnTo>
                  <a:lnTo>
                    <a:pt x="6972" y="2218"/>
                  </a:lnTo>
                  <a:lnTo>
                    <a:pt x="7037" y="2383"/>
                  </a:lnTo>
                  <a:lnTo>
                    <a:pt x="7095" y="2551"/>
                  </a:lnTo>
                  <a:lnTo>
                    <a:pt x="7143" y="2723"/>
                  </a:lnTo>
                  <a:lnTo>
                    <a:pt x="7184" y="2899"/>
                  </a:lnTo>
                  <a:lnTo>
                    <a:pt x="7216" y="3077"/>
                  </a:lnTo>
                  <a:lnTo>
                    <a:pt x="7239" y="3258"/>
                  </a:lnTo>
                  <a:lnTo>
                    <a:pt x="7252" y="3442"/>
                  </a:lnTo>
                  <a:lnTo>
                    <a:pt x="7257" y="3629"/>
                  </a:lnTo>
                  <a:lnTo>
                    <a:pt x="7252" y="3815"/>
                  </a:lnTo>
                  <a:lnTo>
                    <a:pt x="7239" y="3999"/>
                  </a:lnTo>
                  <a:lnTo>
                    <a:pt x="7216" y="4180"/>
                  </a:lnTo>
                  <a:lnTo>
                    <a:pt x="7184" y="4360"/>
                  </a:lnTo>
                  <a:lnTo>
                    <a:pt x="7143" y="4535"/>
                  </a:lnTo>
                  <a:lnTo>
                    <a:pt x="7095" y="4707"/>
                  </a:lnTo>
                  <a:lnTo>
                    <a:pt x="7037" y="4875"/>
                  </a:lnTo>
                  <a:lnTo>
                    <a:pt x="6972" y="5040"/>
                  </a:lnTo>
                  <a:lnTo>
                    <a:pt x="6899" y="5200"/>
                  </a:lnTo>
                  <a:lnTo>
                    <a:pt x="6818" y="5357"/>
                  </a:lnTo>
                  <a:lnTo>
                    <a:pt x="6731" y="5509"/>
                  </a:lnTo>
                  <a:lnTo>
                    <a:pt x="6637" y="5656"/>
                  </a:lnTo>
                  <a:lnTo>
                    <a:pt x="6535" y="5799"/>
                  </a:lnTo>
                  <a:lnTo>
                    <a:pt x="6428" y="5936"/>
                  </a:lnTo>
                  <a:lnTo>
                    <a:pt x="6314" y="6067"/>
                  </a:lnTo>
                  <a:lnTo>
                    <a:pt x="6193" y="6194"/>
                  </a:lnTo>
                  <a:lnTo>
                    <a:pt x="6068" y="6314"/>
                  </a:lnTo>
                  <a:lnTo>
                    <a:pt x="5935" y="6428"/>
                  </a:lnTo>
                  <a:lnTo>
                    <a:pt x="5799" y="6536"/>
                  </a:lnTo>
                  <a:lnTo>
                    <a:pt x="5656" y="6637"/>
                  </a:lnTo>
                  <a:lnTo>
                    <a:pt x="5509" y="6732"/>
                  </a:lnTo>
                  <a:lnTo>
                    <a:pt x="5357" y="6819"/>
                  </a:lnTo>
                  <a:lnTo>
                    <a:pt x="5201" y="6900"/>
                  </a:lnTo>
                  <a:lnTo>
                    <a:pt x="5040" y="6972"/>
                  </a:lnTo>
                  <a:lnTo>
                    <a:pt x="4875" y="7037"/>
                  </a:lnTo>
                  <a:lnTo>
                    <a:pt x="4706" y="7094"/>
                  </a:lnTo>
                  <a:lnTo>
                    <a:pt x="4534" y="7144"/>
                  </a:lnTo>
                  <a:lnTo>
                    <a:pt x="4359" y="7184"/>
                  </a:lnTo>
                  <a:lnTo>
                    <a:pt x="4181" y="7215"/>
                  </a:lnTo>
                  <a:lnTo>
                    <a:pt x="3999" y="7239"/>
                  </a:lnTo>
                  <a:lnTo>
                    <a:pt x="3815" y="7253"/>
                  </a:lnTo>
                  <a:lnTo>
                    <a:pt x="3629" y="7258"/>
                  </a:lnTo>
                  <a:lnTo>
                    <a:pt x="3443" y="7253"/>
                  </a:lnTo>
                  <a:lnTo>
                    <a:pt x="3259" y="7239"/>
                  </a:lnTo>
                  <a:lnTo>
                    <a:pt x="3077" y="7215"/>
                  </a:lnTo>
                  <a:lnTo>
                    <a:pt x="2899" y="7184"/>
                  </a:lnTo>
                  <a:lnTo>
                    <a:pt x="2724" y="7144"/>
                  </a:lnTo>
                  <a:lnTo>
                    <a:pt x="2551" y="7094"/>
                  </a:lnTo>
                  <a:lnTo>
                    <a:pt x="2383" y="7037"/>
                  </a:lnTo>
                  <a:lnTo>
                    <a:pt x="2218" y="6972"/>
                  </a:lnTo>
                  <a:lnTo>
                    <a:pt x="2057" y="6900"/>
                  </a:lnTo>
                  <a:lnTo>
                    <a:pt x="1901" y="6819"/>
                  </a:lnTo>
                  <a:lnTo>
                    <a:pt x="1748" y="6732"/>
                  </a:lnTo>
                  <a:lnTo>
                    <a:pt x="1602" y="6637"/>
                  </a:lnTo>
                  <a:lnTo>
                    <a:pt x="1459" y="6536"/>
                  </a:lnTo>
                  <a:lnTo>
                    <a:pt x="1323" y="6428"/>
                  </a:lnTo>
                  <a:lnTo>
                    <a:pt x="1190" y="6314"/>
                  </a:lnTo>
                  <a:lnTo>
                    <a:pt x="1065" y="6194"/>
                  </a:lnTo>
                  <a:lnTo>
                    <a:pt x="944" y="6067"/>
                  </a:lnTo>
                  <a:lnTo>
                    <a:pt x="830" y="5936"/>
                  </a:lnTo>
                  <a:lnTo>
                    <a:pt x="722" y="5799"/>
                  </a:lnTo>
                  <a:lnTo>
                    <a:pt x="621" y="5656"/>
                  </a:lnTo>
                  <a:lnTo>
                    <a:pt x="526" y="5509"/>
                  </a:lnTo>
                  <a:lnTo>
                    <a:pt x="438" y="5357"/>
                  </a:lnTo>
                  <a:lnTo>
                    <a:pt x="359" y="5200"/>
                  </a:lnTo>
                  <a:lnTo>
                    <a:pt x="286" y="5040"/>
                  </a:lnTo>
                  <a:lnTo>
                    <a:pt x="221" y="4875"/>
                  </a:lnTo>
                  <a:lnTo>
                    <a:pt x="163" y="4707"/>
                  </a:lnTo>
                  <a:lnTo>
                    <a:pt x="115" y="4535"/>
                  </a:lnTo>
                  <a:lnTo>
                    <a:pt x="74" y="4360"/>
                  </a:lnTo>
                  <a:lnTo>
                    <a:pt x="42" y="4180"/>
                  </a:lnTo>
                  <a:lnTo>
                    <a:pt x="19" y="3999"/>
                  </a:lnTo>
                  <a:lnTo>
                    <a:pt x="4" y="3815"/>
                  </a:lnTo>
                  <a:lnTo>
                    <a:pt x="0" y="3629"/>
                  </a:lnTo>
                </a:path>
              </a:pathLst>
            </a:custGeom>
            <a:noFill/>
            <a:ln w="0">
              <a:solidFill>
                <a:srgbClr val="15161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02160" y="2490480"/>
              <a:ext cx="342720" cy="344160"/>
            </a:xfrm>
            <a:custGeom>
              <a:avLst/>
              <a:gdLst/>
              <a:ahLst/>
              <a:rect l="l" t="t" r="r" b="b"/>
              <a:pathLst>
                <a:path w="8436" h="8437">
                  <a:moveTo>
                    <a:pt x="0" y="4219"/>
                  </a:moveTo>
                  <a:lnTo>
                    <a:pt x="5" y="4435"/>
                  </a:lnTo>
                  <a:lnTo>
                    <a:pt x="22" y="4650"/>
                  </a:lnTo>
                  <a:lnTo>
                    <a:pt x="49" y="4860"/>
                  </a:lnTo>
                  <a:lnTo>
                    <a:pt x="86" y="5069"/>
                  </a:lnTo>
                  <a:lnTo>
                    <a:pt x="134" y="5272"/>
                  </a:lnTo>
                  <a:lnTo>
                    <a:pt x="190" y="5472"/>
                  </a:lnTo>
                  <a:lnTo>
                    <a:pt x="257" y="5669"/>
                  </a:lnTo>
                  <a:lnTo>
                    <a:pt x="332" y="5860"/>
                  </a:lnTo>
                  <a:lnTo>
                    <a:pt x="417" y="6047"/>
                  </a:lnTo>
                  <a:lnTo>
                    <a:pt x="510" y="6228"/>
                  </a:lnTo>
                  <a:lnTo>
                    <a:pt x="612" y="6405"/>
                  </a:lnTo>
                  <a:lnTo>
                    <a:pt x="721" y="6576"/>
                  </a:lnTo>
                  <a:lnTo>
                    <a:pt x="840" y="6742"/>
                  </a:lnTo>
                  <a:lnTo>
                    <a:pt x="965" y="6901"/>
                  </a:lnTo>
                  <a:lnTo>
                    <a:pt x="1098" y="7055"/>
                  </a:lnTo>
                  <a:lnTo>
                    <a:pt x="1237" y="7201"/>
                  </a:lnTo>
                  <a:lnTo>
                    <a:pt x="1384" y="7341"/>
                  </a:lnTo>
                  <a:lnTo>
                    <a:pt x="1537" y="7473"/>
                  </a:lnTo>
                  <a:lnTo>
                    <a:pt x="1696" y="7599"/>
                  </a:lnTo>
                  <a:lnTo>
                    <a:pt x="1861" y="7716"/>
                  </a:lnTo>
                  <a:lnTo>
                    <a:pt x="2033" y="7826"/>
                  </a:lnTo>
                  <a:lnTo>
                    <a:pt x="2209" y="7928"/>
                  </a:lnTo>
                  <a:lnTo>
                    <a:pt x="2391" y="8022"/>
                  </a:lnTo>
                  <a:lnTo>
                    <a:pt x="2579" y="8106"/>
                  </a:lnTo>
                  <a:lnTo>
                    <a:pt x="2770" y="8182"/>
                  </a:lnTo>
                  <a:lnTo>
                    <a:pt x="2966" y="8248"/>
                  </a:lnTo>
                  <a:lnTo>
                    <a:pt x="3165" y="8305"/>
                  </a:lnTo>
                  <a:lnTo>
                    <a:pt x="3370" y="8352"/>
                  </a:lnTo>
                  <a:lnTo>
                    <a:pt x="3577" y="8389"/>
                  </a:lnTo>
                  <a:lnTo>
                    <a:pt x="3787" y="8416"/>
                  </a:lnTo>
                  <a:lnTo>
                    <a:pt x="4002" y="8432"/>
                  </a:lnTo>
                  <a:lnTo>
                    <a:pt x="4218" y="8437"/>
                  </a:lnTo>
                  <a:lnTo>
                    <a:pt x="4435" y="8432"/>
                  </a:lnTo>
                  <a:lnTo>
                    <a:pt x="4649" y="8416"/>
                  </a:lnTo>
                  <a:lnTo>
                    <a:pt x="4860" y="8389"/>
                  </a:lnTo>
                  <a:lnTo>
                    <a:pt x="5068" y="8352"/>
                  </a:lnTo>
                  <a:lnTo>
                    <a:pt x="5271" y="8305"/>
                  </a:lnTo>
                  <a:lnTo>
                    <a:pt x="5472" y="8248"/>
                  </a:lnTo>
                  <a:lnTo>
                    <a:pt x="5668" y="8182"/>
                  </a:lnTo>
                  <a:lnTo>
                    <a:pt x="5859" y="8106"/>
                  </a:lnTo>
                  <a:lnTo>
                    <a:pt x="6045" y="8022"/>
                  </a:lnTo>
                  <a:lnTo>
                    <a:pt x="6227" y="7928"/>
                  </a:lnTo>
                  <a:lnTo>
                    <a:pt x="6404" y="7826"/>
                  </a:lnTo>
                  <a:lnTo>
                    <a:pt x="6575" y="7716"/>
                  </a:lnTo>
                  <a:lnTo>
                    <a:pt x="6741" y="7599"/>
                  </a:lnTo>
                  <a:lnTo>
                    <a:pt x="6900" y="7473"/>
                  </a:lnTo>
                  <a:lnTo>
                    <a:pt x="7054" y="7341"/>
                  </a:lnTo>
                  <a:lnTo>
                    <a:pt x="7200" y="7201"/>
                  </a:lnTo>
                  <a:lnTo>
                    <a:pt x="7340" y="7055"/>
                  </a:lnTo>
                  <a:lnTo>
                    <a:pt x="7472" y="6901"/>
                  </a:lnTo>
                  <a:lnTo>
                    <a:pt x="7598" y="6742"/>
                  </a:lnTo>
                  <a:lnTo>
                    <a:pt x="7715" y="6576"/>
                  </a:lnTo>
                  <a:lnTo>
                    <a:pt x="7825" y="6405"/>
                  </a:lnTo>
                  <a:lnTo>
                    <a:pt x="7927" y="6228"/>
                  </a:lnTo>
                  <a:lnTo>
                    <a:pt x="8020" y="6047"/>
                  </a:lnTo>
                  <a:lnTo>
                    <a:pt x="8105" y="5860"/>
                  </a:lnTo>
                  <a:lnTo>
                    <a:pt x="8181" y="5669"/>
                  </a:lnTo>
                  <a:lnTo>
                    <a:pt x="8247" y="5472"/>
                  </a:lnTo>
                  <a:lnTo>
                    <a:pt x="8304" y="5272"/>
                  </a:lnTo>
                  <a:lnTo>
                    <a:pt x="8350" y="5069"/>
                  </a:lnTo>
                  <a:lnTo>
                    <a:pt x="8388" y="4860"/>
                  </a:lnTo>
                  <a:lnTo>
                    <a:pt x="8415" y="4650"/>
                  </a:lnTo>
                  <a:lnTo>
                    <a:pt x="8431" y="4435"/>
                  </a:lnTo>
                  <a:lnTo>
                    <a:pt x="8436" y="4219"/>
                  </a:lnTo>
                  <a:lnTo>
                    <a:pt x="8431" y="4002"/>
                  </a:lnTo>
                  <a:lnTo>
                    <a:pt x="8415" y="3788"/>
                  </a:lnTo>
                  <a:lnTo>
                    <a:pt x="8388" y="3578"/>
                  </a:lnTo>
                  <a:lnTo>
                    <a:pt x="8350" y="3370"/>
                  </a:lnTo>
                  <a:lnTo>
                    <a:pt x="8304" y="3166"/>
                  </a:lnTo>
                  <a:lnTo>
                    <a:pt x="8247" y="2965"/>
                  </a:lnTo>
                  <a:lnTo>
                    <a:pt x="8181" y="2770"/>
                  </a:lnTo>
                  <a:lnTo>
                    <a:pt x="8105" y="2579"/>
                  </a:lnTo>
                  <a:lnTo>
                    <a:pt x="8020" y="2392"/>
                  </a:lnTo>
                  <a:lnTo>
                    <a:pt x="7927" y="2210"/>
                  </a:lnTo>
                  <a:lnTo>
                    <a:pt x="7825" y="2033"/>
                  </a:lnTo>
                  <a:lnTo>
                    <a:pt x="7715" y="1862"/>
                  </a:lnTo>
                  <a:lnTo>
                    <a:pt x="7598" y="1697"/>
                  </a:lnTo>
                  <a:lnTo>
                    <a:pt x="7472" y="1537"/>
                  </a:lnTo>
                  <a:lnTo>
                    <a:pt x="7340" y="1384"/>
                  </a:lnTo>
                  <a:lnTo>
                    <a:pt x="7200" y="1238"/>
                  </a:lnTo>
                  <a:lnTo>
                    <a:pt x="7054" y="1098"/>
                  </a:lnTo>
                  <a:lnTo>
                    <a:pt x="6900" y="964"/>
                  </a:lnTo>
                  <a:lnTo>
                    <a:pt x="6741" y="840"/>
                  </a:lnTo>
                  <a:lnTo>
                    <a:pt x="6575" y="722"/>
                  </a:lnTo>
                  <a:lnTo>
                    <a:pt x="6404" y="612"/>
                  </a:lnTo>
                  <a:lnTo>
                    <a:pt x="6227" y="510"/>
                  </a:lnTo>
                  <a:lnTo>
                    <a:pt x="6045" y="417"/>
                  </a:lnTo>
                  <a:lnTo>
                    <a:pt x="5859" y="332"/>
                  </a:lnTo>
                  <a:lnTo>
                    <a:pt x="5668" y="256"/>
                  </a:lnTo>
                  <a:lnTo>
                    <a:pt x="5472" y="191"/>
                  </a:lnTo>
                  <a:lnTo>
                    <a:pt x="5271" y="133"/>
                  </a:lnTo>
                  <a:lnTo>
                    <a:pt x="5068" y="86"/>
                  </a:lnTo>
                  <a:lnTo>
                    <a:pt x="4860" y="49"/>
                  </a:lnTo>
                  <a:lnTo>
                    <a:pt x="4649" y="22"/>
                  </a:lnTo>
                  <a:lnTo>
                    <a:pt x="4435" y="5"/>
                  </a:lnTo>
                  <a:lnTo>
                    <a:pt x="4218" y="0"/>
                  </a:lnTo>
                  <a:lnTo>
                    <a:pt x="4002" y="5"/>
                  </a:lnTo>
                  <a:lnTo>
                    <a:pt x="3787" y="22"/>
                  </a:lnTo>
                  <a:lnTo>
                    <a:pt x="3577" y="49"/>
                  </a:lnTo>
                  <a:lnTo>
                    <a:pt x="3370" y="86"/>
                  </a:lnTo>
                  <a:lnTo>
                    <a:pt x="3165" y="133"/>
                  </a:lnTo>
                  <a:lnTo>
                    <a:pt x="2966" y="191"/>
                  </a:lnTo>
                  <a:lnTo>
                    <a:pt x="2770" y="256"/>
                  </a:lnTo>
                  <a:lnTo>
                    <a:pt x="2579" y="332"/>
                  </a:lnTo>
                  <a:lnTo>
                    <a:pt x="2391" y="417"/>
                  </a:lnTo>
                  <a:lnTo>
                    <a:pt x="2209" y="510"/>
                  </a:lnTo>
                  <a:lnTo>
                    <a:pt x="2033" y="612"/>
                  </a:lnTo>
                  <a:lnTo>
                    <a:pt x="1861" y="722"/>
                  </a:lnTo>
                  <a:lnTo>
                    <a:pt x="1696" y="840"/>
                  </a:lnTo>
                  <a:lnTo>
                    <a:pt x="1537" y="964"/>
                  </a:lnTo>
                  <a:lnTo>
                    <a:pt x="1384" y="1098"/>
                  </a:lnTo>
                  <a:lnTo>
                    <a:pt x="1237" y="1238"/>
                  </a:lnTo>
                  <a:lnTo>
                    <a:pt x="1098" y="1384"/>
                  </a:lnTo>
                  <a:lnTo>
                    <a:pt x="965" y="1537"/>
                  </a:lnTo>
                  <a:lnTo>
                    <a:pt x="840" y="1697"/>
                  </a:lnTo>
                  <a:lnTo>
                    <a:pt x="721" y="1862"/>
                  </a:lnTo>
                  <a:lnTo>
                    <a:pt x="612" y="2033"/>
                  </a:lnTo>
                  <a:lnTo>
                    <a:pt x="510" y="2210"/>
                  </a:lnTo>
                  <a:lnTo>
                    <a:pt x="417" y="2392"/>
                  </a:lnTo>
                  <a:lnTo>
                    <a:pt x="332" y="2579"/>
                  </a:lnTo>
                  <a:lnTo>
                    <a:pt x="257" y="2770"/>
                  </a:lnTo>
                  <a:lnTo>
                    <a:pt x="190" y="2965"/>
                  </a:lnTo>
                  <a:lnTo>
                    <a:pt x="134" y="3166"/>
                  </a:lnTo>
                  <a:lnTo>
                    <a:pt x="86" y="3370"/>
                  </a:lnTo>
                  <a:lnTo>
                    <a:pt x="49" y="3578"/>
                  </a:lnTo>
                  <a:lnTo>
                    <a:pt x="22" y="3788"/>
                  </a:lnTo>
                  <a:lnTo>
                    <a:pt x="5" y="4002"/>
                  </a:lnTo>
                  <a:lnTo>
                    <a:pt x="0" y="4219"/>
                  </a:lnTo>
                  <a:close/>
                  <a:moveTo>
                    <a:pt x="590" y="4219"/>
                  </a:moveTo>
                  <a:lnTo>
                    <a:pt x="595" y="4033"/>
                  </a:lnTo>
                  <a:lnTo>
                    <a:pt x="609" y="3849"/>
                  </a:lnTo>
                  <a:lnTo>
                    <a:pt x="632" y="3668"/>
                  </a:lnTo>
                  <a:lnTo>
                    <a:pt x="664" y="3488"/>
                  </a:lnTo>
                  <a:lnTo>
                    <a:pt x="704" y="3313"/>
                  </a:lnTo>
                  <a:lnTo>
                    <a:pt x="754" y="3141"/>
                  </a:lnTo>
                  <a:lnTo>
                    <a:pt x="810" y="2973"/>
                  </a:lnTo>
                  <a:lnTo>
                    <a:pt x="876" y="2808"/>
                  </a:lnTo>
                  <a:lnTo>
                    <a:pt x="948" y="2647"/>
                  </a:lnTo>
                  <a:lnTo>
                    <a:pt x="1029" y="2491"/>
                  </a:lnTo>
                  <a:lnTo>
                    <a:pt x="1116" y="2339"/>
                  </a:lnTo>
                  <a:lnTo>
                    <a:pt x="1211" y="2192"/>
                  </a:lnTo>
                  <a:lnTo>
                    <a:pt x="1312" y="2049"/>
                  </a:lnTo>
                  <a:lnTo>
                    <a:pt x="1419" y="1912"/>
                  </a:lnTo>
                  <a:lnTo>
                    <a:pt x="1534" y="1780"/>
                  </a:lnTo>
                  <a:lnTo>
                    <a:pt x="1654" y="1654"/>
                  </a:lnTo>
                  <a:lnTo>
                    <a:pt x="1780" y="1534"/>
                  </a:lnTo>
                  <a:lnTo>
                    <a:pt x="1912" y="1420"/>
                  </a:lnTo>
                  <a:lnTo>
                    <a:pt x="2048" y="1312"/>
                  </a:lnTo>
                  <a:lnTo>
                    <a:pt x="2191" y="1210"/>
                  </a:lnTo>
                  <a:lnTo>
                    <a:pt x="2339" y="1116"/>
                  </a:lnTo>
                  <a:lnTo>
                    <a:pt x="2491" y="1029"/>
                  </a:lnTo>
                  <a:lnTo>
                    <a:pt x="2646" y="948"/>
                  </a:lnTo>
                  <a:lnTo>
                    <a:pt x="2807" y="875"/>
                  </a:lnTo>
                  <a:lnTo>
                    <a:pt x="2972" y="811"/>
                  </a:lnTo>
                  <a:lnTo>
                    <a:pt x="3141" y="754"/>
                  </a:lnTo>
                  <a:lnTo>
                    <a:pt x="3313" y="704"/>
                  </a:lnTo>
                  <a:lnTo>
                    <a:pt x="3488" y="664"/>
                  </a:lnTo>
                  <a:lnTo>
                    <a:pt x="3667" y="632"/>
                  </a:lnTo>
                  <a:lnTo>
                    <a:pt x="3848" y="609"/>
                  </a:lnTo>
                  <a:lnTo>
                    <a:pt x="4032" y="595"/>
                  </a:lnTo>
                  <a:lnTo>
                    <a:pt x="4218" y="590"/>
                  </a:lnTo>
                  <a:lnTo>
                    <a:pt x="4405" y="595"/>
                  </a:lnTo>
                  <a:lnTo>
                    <a:pt x="4588" y="609"/>
                  </a:lnTo>
                  <a:lnTo>
                    <a:pt x="4771" y="632"/>
                  </a:lnTo>
                  <a:lnTo>
                    <a:pt x="4949" y="664"/>
                  </a:lnTo>
                  <a:lnTo>
                    <a:pt x="5125" y="704"/>
                  </a:lnTo>
                  <a:lnTo>
                    <a:pt x="5297" y="754"/>
                  </a:lnTo>
                  <a:lnTo>
                    <a:pt x="5465" y="811"/>
                  </a:lnTo>
                  <a:lnTo>
                    <a:pt x="5629" y="875"/>
                  </a:lnTo>
                  <a:lnTo>
                    <a:pt x="5790" y="948"/>
                  </a:lnTo>
                  <a:lnTo>
                    <a:pt x="5947" y="1029"/>
                  </a:lnTo>
                  <a:lnTo>
                    <a:pt x="6099" y="1116"/>
                  </a:lnTo>
                  <a:lnTo>
                    <a:pt x="6245" y="1210"/>
                  </a:lnTo>
                  <a:lnTo>
                    <a:pt x="6388" y="1312"/>
                  </a:lnTo>
                  <a:lnTo>
                    <a:pt x="6526" y="1420"/>
                  </a:lnTo>
                  <a:lnTo>
                    <a:pt x="6657" y="1534"/>
                  </a:lnTo>
                  <a:lnTo>
                    <a:pt x="6783" y="1654"/>
                  </a:lnTo>
                  <a:lnTo>
                    <a:pt x="6903" y="1780"/>
                  </a:lnTo>
                  <a:lnTo>
                    <a:pt x="7017" y="1912"/>
                  </a:lnTo>
                  <a:lnTo>
                    <a:pt x="7125" y="2049"/>
                  </a:lnTo>
                  <a:lnTo>
                    <a:pt x="7227" y="2192"/>
                  </a:lnTo>
                  <a:lnTo>
                    <a:pt x="7321" y="2339"/>
                  </a:lnTo>
                  <a:lnTo>
                    <a:pt x="7409" y="2491"/>
                  </a:lnTo>
                  <a:lnTo>
                    <a:pt x="7489" y="2647"/>
                  </a:lnTo>
                  <a:lnTo>
                    <a:pt x="7561" y="2808"/>
                  </a:lnTo>
                  <a:lnTo>
                    <a:pt x="7626" y="2973"/>
                  </a:lnTo>
                  <a:lnTo>
                    <a:pt x="7684" y="3141"/>
                  </a:lnTo>
                  <a:lnTo>
                    <a:pt x="7732" y="3313"/>
                  </a:lnTo>
                  <a:lnTo>
                    <a:pt x="7773" y="3488"/>
                  </a:lnTo>
                  <a:lnTo>
                    <a:pt x="7805" y="3668"/>
                  </a:lnTo>
                  <a:lnTo>
                    <a:pt x="7829" y="3849"/>
                  </a:lnTo>
                  <a:lnTo>
                    <a:pt x="7843" y="4033"/>
                  </a:lnTo>
                  <a:lnTo>
                    <a:pt x="7847" y="4219"/>
                  </a:lnTo>
                  <a:lnTo>
                    <a:pt x="7843" y="4406"/>
                  </a:lnTo>
                  <a:lnTo>
                    <a:pt x="7829" y="4589"/>
                  </a:lnTo>
                  <a:lnTo>
                    <a:pt x="7805" y="4771"/>
                  </a:lnTo>
                  <a:lnTo>
                    <a:pt x="7773" y="4949"/>
                  </a:lnTo>
                  <a:lnTo>
                    <a:pt x="7732" y="5125"/>
                  </a:lnTo>
                  <a:lnTo>
                    <a:pt x="7684" y="5297"/>
                  </a:lnTo>
                  <a:lnTo>
                    <a:pt x="7626" y="5465"/>
                  </a:lnTo>
                  <a:lnTo>
                    <a:pt x="7561" y="5630"/>
                  </a:lnTo>
                  <a:lnTo>
                    <a:pt x="7489" y="5791"/>
                  </a:lnTo>
                  <a:lnTo>
                    <a:pt x="7409" y="5948"/>
                  </a:lnTo>
                  <a:lnTo>
                    <a:pt x="7321" y="6100"/>
                  </a:lnTo>
                  <a:lnTo>
                    <a:pt x="7227" y="6246"/>
                  </a:lnTo>
                  <a:lnTo>
                    <a:pt x="7125" y="6389"/>
                  </a:lnTo>
                  <a:lnTo>
                    <a:pt x="7017" y="6526"/>
                  </a:lnTo>
                  <a:lnTo>
                    <a:pt x="6903" y="6658"/>
                  </a:lnTo>
                  <a:lnTo>
                    <a:pt x="6783" y="6783"/>
                  </a:lnTo>
                  <a:lnTo>
                    <a:pt x="6657" y="6904"/>
                  </a:lnTo>
                  <a:lnTo>
                    <a:pt x="6526" y="7018"/>
                  </a:lnTo>
                  <a:lnTo>
                    <a:pt x="6388" y="7126"/>
                  </a:lnTo>
                  <a:lnTo>
                    <a:pt x="6245" y="7228"/>
                  </a:lnTo>
                  <a:lnTo>
                    <a:pt x="6099" y="7322"/>
                  </a:lnTo>
                  <a:lnTo>
                    <a:pt x="5947" y="7410"/>
                  </a:lnTo>
                  <a:lnTo>
                    <a:pt x="5790" y="7490"/>
                  </a:lnTo>
                  <a:lnTo>
                    <a:pt x="5629" y="7562"/>
                  </a:lnTo>
                  <a:lnTo>
                    <a:pt x="5465" y="7627"/>
                  </a:lnTo>
                  <a:lnTo>
                    <a:pt x="5297" y="7685"/>
                  </a:lnTo>
                  <a:lnTo>
                    <a:pt x="5125" y="7733"/>
                  </a:lnTo>
                  <a:lnTo>
                    <a:pt x="4949" y="7774"/>
                  </a:lnTo>
                  <a:lnTo>
                    <a:pt x="4771" y="7806"/>
                  </a:lnTo>
                  <a:lnTo>
                    <a:pt x="4588" y="7829"/>
                  </a:lnTo>
                  <a:lnTo>
                    <a:pt x="4405" y="7844"/>
                  </a:lnTo>
                  <a:lnTo>
                    <a:pt x="4218" y="7848"/>
                  </a:lnTo>
                  <a:lnTo>
                    <a:pt x="4032" y="7844"/>
                  </a:lnTo>
                  <a:lnTo>
                    <a:pt x="3848" y="7829"/>
                  </a:lnTo>
                  <a:lnTo>
                    <a:pt x="3667" y="7806"/>
                  </a:lnTo>
                  <a:lnTo>
                    <a:pt x="3488" y="7774"/>
                  </a:lnTo>
                  <a:lnTo>
                    <a:pt x="3313" y="7733"/>
                  </a:lnTo>
                  <a:lnTo>
                    <a:pt x="3141" y="7685"/>
                  </a:lnTo>
                  <a:lnTo>
                    <a:pt x="2972" y="7627"/>
                  </a:lnTo>
                  <a:lnTo>
                    <a:pt x="2807" y="7562"/>
                  </a:lnTo>
                  <a:lnTo>
                    <a:pt x="2646" y="7490"/>
                  </a:lnTo>
                  <a:lnTo>
                    <a:pt x="2491" y="7410"/>
                  </a:lnTo>
                  <a:lnTo>
                    <a:pt x="2339" y="7322"/>
                  </a:lnTo>
                  <a:lnTo>
                    <a:pt x="2191" y="7228"/>
                  </a:lnTo>
                  <a:lnTo>
                    <a:pt x="2048" y="7126"/>
                  </a:lnTo>
                  <a:lnTo>
                    <a:pt x="1912" y="7018"/>
                  </a:lnTo>
                  <a:lnTo>
                    <a:pt x="1780" y="6904"/>
                  </a:lnTo>
                  <a:lnTo>
                    <a:pt x="1654" y="6783"/>
                  </a:lnTo>
                  <a:lnTo>
                    <a:pt x="1534" y="6658"/>
                  </a:lnTo>
                  <a:lnTo>
                    <a:pt x="1419" y="6526"/>
                  </a:lnTo>
                  <a:lnTo>
                    <a:pt x="1312" y="6389"/>
                  </a:lnTo>
                  <a:lnTo>
                    <a:pt x="1211" y="6246"/>
                  </a:lnTo>
                  <a:lnTo>
                    <a:pt x="1116" y="6100"/>
                  </a:lnTo>
                  <a:lnTo>
                    <a:pt x="1029" y="5948"/>
                  </a:lnTo>
                  <a:lnTo>
                    <a:pt x="948" y="5791"/>
                  </a:lnTo>
                  <a:lnTo>
                    <a:pt x="876" y="5630"/>
                  </a:lnTo>
                  <a:lnTo>
                    <a:pt x="810" y="5465"/>
                  </a:lnTo>
                  <a:lnTo>
                    <a:pt x="754" y="5297"/>
                  </a:lnTo>
                  <a:lnTo>
                    <a:pt x="704" y="5125"/>
                  </a:lnTo>
                  <a:lnTo>
                    <a:pt x="664" y="4949"/>
                  </a:lnTo>
                  <a:lnTo>
                    <a:pt x="632" y="4771"/>
                  </a:lnTo>
                  <a:lnTo>
                    <a:pt x="609" y="4589"/>
                  </a:lnTo>
                  <a:lnTo>
                    <a:pt x="595" y="4406"/>
                  </a:lnTo>
                  <a:lnTo>
                    <a:pt x="590" y="4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02160" y="2490480"/>
              <a:ext cx="342720" cy="344160"/>
            </a:xfrm>
            <a:custGeom>
              <a:avLst/>
              <a:gdLst/>
              <a:ahLst/>
              <a:rect l="l" t="t" r="r" b="b"/>
              <a:pathLst>
                <a:path w="8436" h="8437">
                  <a:moveTo>
                    <a:pt x="0" y="4219"/>
                  </a:moveTo>
                  <a:lnTo>
                    <a:pt x="5" y="4435"/>
                  </a:lnTo>
                  <a:lnTo>
                    <a:pt x="22" y="4650"/>
                  </a:lnTo>
                  <a:lnTo>
                    <a:pt x="49" y="4860"/>
                  </a:lnTo>
                  <a:lnTo>
                    <a:pt x="86" y="5069"/>
                  </a:lnTo>
                  <a:lnTo>
                    <a:pt x="134" y="5272"/>
                  </a:lnTo>
                  <a:lnTo>
                    <a:pt x="190" y="5472"/>
                  </a:lnTo>
                  <a:lnTo>
                    <a:pt x="257" y="5669"/>
                  </a:lnTo>
                  <a:lnTo>
                    <a:pt x="332" y="5860"/>
                  </a:lnTo>
                  <a:lnTo>
                    <a:pt x="417" y="6047"/>
                  </a:lnTo>
                  <a:lnTo>
                    <a:pt x="510" y="6228"/>
                  </a:lnTo>
                  <a:lnTo>
                    <a:pt x="612" y="6405"/>
                  </a:lnTo>
                  <a:lnTo>
                    <a:pt x="721" y="6576"/>
                  </a:lnTo>
                  <a:lnTo>
                    <a:pt x="840" y="6742"/>
                  </a:lnTo>
                  <a:lnTo>
                    <a:pt x="965" y="6901"/>
                  </a:lnTo>
                  <a:lnTo>
                    <a:pt x="1098" y="7055"/>
                  </a:lnTo>
                  <a:lnTo>
                    <a:pt x="1237" y="7201"/>
                  </a:lnTo>
                  <a:lnTo>
                    <a:pt x="1384" y="7341"/>
                  </a:lnTo>
                  <a:lnTo>
                    <a:pt x="1537" y="7473"/>
                  </a:lnTo>
                  <a:lnTo>
                    <a:pt x="1696" y="7599"/>
                  </a:lnTo>
                  <a:lnTo>
                    <a:pt x="1861" y="7716"/>
                  </a:lnTo>
                  <a:lnTo>
                    <a:pt x="2033" y="7826"/>
                  </a:lnTo>
                  <a:lnTo>
                    <a:pt x="2209" y="7928"/>
                  </a:lnTo>
                  <a:lnTo>
                    <a:pt x="2391" y="8022"/>
                  </a:lnTo>
                  <a:lnTo>
                    <a:pt x="2579" y="8106"/>
                  </a:lnTo>
                  <a:lnTo>
                    <a:pt x="2770" y="8182"/>
                  </a:lnTo>
                  <a:lnTo>
                    <a:pt x="2966" y="8248"/>
                  </a:lnTo>
                  <a:lnTo>
                    <a:pt x="3165" y="8305"/>
                  </a:lnTo>
                  <a:lnTo>
                    <a:pt x="3370" y="8352"/>
                  </a:lnTo>
                  <a:lnTo>
                    <a:pt x="3577" y="8389"/>
                  </a:lnTo>
                  <a:lnTo>
                    <a:pt x="3787" y="8416"/>
                  </a:lnTo>
                  <a:lnTo>
                    <a:pt x="4002" y="8432"/>
                  </a:lnTo>
                  <a:lnTo>
                    <a:pt x="4218" y="8437"/>
                  </a:lnTo>
                  <a:lnTo>
                    <a:pt x="4435" y="8432"/>
                  </a:lnTo>
                  <a:lnTo>
                    <a:pt x="4649" y="8416"/>
                  </a:lnTo>
                  <a:lnTo>
                    <a:pt x="4860" y="8389"/>
                  </a:lnTo>
                  <a:lnTo>
                    <a:pt x="5068" y="8352"/>
                  </a:lnTo>
                  <a:lnTo>
                    <a:pt x="5271" y="8305"/>
                  </a:lnTo>
                  <a:lnTo>
                    <a:pt x="5472" y="8248"/>
                  </a:lnTo>
                  <a:lnTo>
                    <a:pt x="5668" y="8182"/>
                  </a:lnTo>
                  <a:lnTo>
                    <a:pt x="5859" y="8106"/>
                  </a:lnTo>
                  <a:lnTo>
                    <a:pt x="6045" y="8022"/>
                  </a:lnTo>
                  <a:lnTo>
                    <a:pt x="6227" y="7928"/>
                  </a:lnTo>
                  <a:lnTo>
                    <a:pt x="6404" y="7826"/>
                  </a:lnTo>
                  <a:lnTo>
                    <a:pt x="6575" y="7716"/>
                  </a:lnTo>
                  <a:lnTo>
                    <a:pt x="6741" y="7599"/>
                  </a:lnTo>
                  <a:lnTo>
                    <a:pt x="6900" y="7473"/>
                  </a:lnTo>
                  <a:lnTo>
                    <a:pt x="7054" y="7341"/>
                  </a:lnTo>
                  <a:lnTo>
                    <a:pt x="7200" y="7201"/>
                  </a:lnTo>
                  <a:lnTo>
                    <a:pt x="7340" y="7055"/>
                  </a:lnTo>
                  <a:lnTo>
                    <a:pt x="7472" y="6901"/>
                  </a:lnTo>
                  <a:lnTo>
                    <a:pt x="7598" y="6742"/>
                  </a:lnTo>
                  <a:lnTo>
                    <a:pt x="7715" y="6576"/>
                  </a:lnTo>
                  <a:lnTo>
                    <a:pt x="7825" y="6405"/>
                  </a:lnTo>
                  <a:lnTo>
                    <a:pt x="7927" y="6228"/>
                  </a:lnTo>
                  <a:lnTo>
                    <a:pt x="8020" y="6047"/>
                  </a:lnTo>
                  <a:lnTo>
                    <a:pt x="8105" y="5860"/>
                  </a:lnTo>
                  <a:lnTo>
                    <a:pt x="8181" y="5669"/>
                  </a:lnTo>
                  <a:lnTo>
                    <a:pt x="8247" y="5472"/>
                  </a:lnTo>
                  <a:lnTo>
                    <a:pt x="8304" y="5272"/>
                  </a:lnTo>
                  <a:lnTo>
                    <a:pt x="8350" y="5069"/>
                  </a:lnTo>
                  <a:lnTo>
                    <a:pt x="8388" y="4860"/>
                  </a:lnTo>
                  <a:lnTo>
                    <a:pt x="8415" y="4650"/>
                  </a:lnTo>
                  <a:lnTo>
                    <a:pt x="8431" y="4435"/>
                  </a:lnTo>
                  <a:lnTo>
                    <a:pt x="8436" y="4219"/>
                  </a:lnTo>
                  <a:lnTo>
                    <a:pt x="8431" y="4002"/>
                  </a:lnTo>
                  <a:lnTo>
                    <a:pt x="8415" y="3788"/>
                  </a:lnTo>
                  <a:lnTo>
                    <a:pt x="8388" y="3578"/>
                  </a:lnTo>
                  <a:lnTo>
                    <a:pt x="8350" y="3370"/>
                  </a:lnTo>
                  <a:lnTo>
                    <a:pt x="8304" y="3166"/>
                  </a:lnTo>
                  <a:lnTo>
                    <a:pt x="8247" y="2965"/>
                  </a:lnTo>
                  <a:lnTo>
                    <a:pt x="8181" y="2770"/>
                  </a:lnTo>
                  <a:lnTo>
                    <a:pt x="8105" y="2579"/>
                  </a:lnTo>
                  <a:lnTo>
                    <a:pt x="8020" y="2392"/>
                  </a:lnTo>
                  <a:lnTo>
                    <a:pt x="7927" y="2210"/>
                  </a:lnTo>
                  <a:lnTo>
                    <a:pt x="7825" y="2033"/>
                  </a:lnTo>
                  <a:lnTo>
                    <a:pt x="7715" y="1862"/>
                  </a:lnTo>
                  <a:lnTo>
                    <a:pt x="7598" y="1697"/>
                  </a:lnTo>
                  <a:lnTo>
                    <a:pt x="7472" y="1537"/>
                  </a:lnTo>
                  <a:lnTo>
                    <a:pt x="7340" y="1384"/>
                  </a:lnTo>
                  <a:lnTo>
                    <a:pt x="7200" y="1238"/>
                  </a:lnTo>
                  <a:lnTo>
                    <a:pt x="7054" y="1098"/>
                  </a:lnTo>
                  <a:lnTo>
                    <a:pt x="6900" y="964"/>
                  </a:lnTo>
                  <a:lnTo>
                    <a:pt x="6741" y="840"/>
                  </a:lnTo>
                  <a:lnTo>
                    <a:pt x="6575" y="722"/>
                  </a:lnTo>
                  <a:lnTo>
                    <a:pt x="6404" y="612"/>
                  </a:lnTo>
                  <a:lnTo>
                    <a:pt x="6227" y="510"/>
                  </a:lnTo>
                  <a:lnTo>
                    <a:pt x="6045" y="417"/>
                  </a:lnTo>
                  <a:lnTo>
                    <a:pt x="5859" y="332"/>
                  </a:lnTo>
                  <a:lnTo>
                    <a:pt x="5668" y="256"/>
                  </a:lnTo>
                  <a:lnTo>
                    <a:pt x="5472" y="191"/>
                  </a:lnTo>
                  <a:lnTo>
                    <a:pt x="5271" y="133"/>
                  </a:lnTo>
                  <a:lnTo>
                    <a:pt x="5068" y="86"/>
                  </a:lnTo>
                  <a:lnTo>
                    <a:pt x="4860" y="49"/>
                  </a:lnTo>
                  <a:lnTo>
                    <a:pt x="4649" y="22"/>
                  </a:lnTo>
                  <a:lnTo>
                    <a:pt x="4435" y="5"/>
                  </a:lnTo>
                  <a:lnTo>
                    <a:pt x="4218" y="0"/>
                  </a:lnTo>
                  <a:lnTo>
                    <a:pt x="4002" y="5"/>
                  </a:lnTo>
                  <a:lnTo>
                    <a:pt x="3787" y="22"/>
                  </a:lnTo>
                  <a:lnTo>
                    <a:pt x="3577" y="49"/>
                  </a:lnTo>
                  <a:lnTo>
                    <a:pt x="3370" y="86"/>
                  </a:lnTo>
                  <a:lnTo>
                    <a:pt x="3165" y="133"/>
                  </a:lnTo>
                  <a:lnTo>
                    <a:pt x="2966" y="191"/>
                  </a:lnTo>
                  <a:lnTo>
                    <a:pt x="2770" y="256"/>
                  </a:lnTo>
                  <a:lnTo>
                    <a:pt x="2579" y="332"/>
                  </a:lnTo>
                  <a:lnTo>
                    <a:pt x="2391" y="417"/>
                  </a:lnTo>
                  <a:lnTo>
                    <a:pt x="2209" y="510"/>
                  </a:lnTo>
                  <a:lnTo>
                    <a:pt x="2033" y="612"/>
                  </a:lnTo>
                  <a:lnTo>
                    <a:pt x="1861" y="722"/>
                  </a:lnTo>
                  <a:lnTo>
                    <a:pt x="1696" y="840"/>
                  </a:lnTo>
                  <a:lnTo>
                    <a:pt x="1537" y="964"/>
                  </a:lnTo>
                  <a:lnTo>
                    <a:pt x="1384" y="1098"/>
                  </a:lnTo>
                  <a:lnTo>
                    <a:pt x="1237" y="1238"/>
                  </a:lnTo>
                  <a:lnTo>
                    <a:pt x="1098" y="1384"/>
                  </a:lnTo>
                  <a:lnTo>
                    <a:pt x="965" y="1537"/>
                  </a:lnTo>
                  <a:lnTo>
                    <a:pt x="840" y="1697"/>
                  </a:lnTo>
                  <a:lnTo>
                    <a:pt x="721" y="1862"/>
                  </a:lnTo>
                  <a:lnTo>
                    <a:pt x="612" y="2033"/>
                  </a:lnTo>
                  <a:lnTo>
                    <a:pt x="510" y="2210"/>
                  </a:lnTo>
                  <a:lnTo>
                    <a:pt x="417" y="2392"/>
                  </a:lnTo>
                  <a:lnTo>
                    <a:pt x="332" y="2579"/>
                  </a:lnTo>
                  <a:lnTo>
                    <a:pt x="257" y="2770"/>
                  </a:lnTo>
                  <a:lnTo>
                    <a:pt x="190" y="2965"/>
                  </a:lnTo>
                  <a:lnTo>
                    <a:pt x="134" y="3166"/>
                  </a:lnTo>
                  <a:lnTo>
                    <a:pt x="86" y="3370"/>
                  </a:lnTo>
                  <a:lnTo>
                    <a:pt x="49" y="3578"/>
                  </a:lnTo>
                  <a:lnTo>
                    <a:pt x="22" y="3788"/>
                  </a:lnTo>
                  <a:lnTo>
                    <a:pt x="5" y="4002"/>
                  </a:lnTo>
                  <a:lnTo>
                    <a:pt x="0" y="4219"/>
                  </a:lnTo>
                  <a:close/>
                </a:path>
              </a:pathLst>
            </a:custGeom>
            <a:noFill/>
            <a:ln w="0">
              <a:solidFill>
                <a:srgbClr val="15161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25920" y="2516040"/>
              <a:ext cx="295200" cy="294840"/>
            </a:xfrm>
            <a:custGeom>
              <a:avLst/>
              <a:gdLst/>
              <a:ahLst/>
              <a:rect l="l" t="t" r="r" b="b"/>
              <a:pathLst>
                <a:path w="7257" h="7258">
                  <a:moveTo>
                    <a:pt x="0" y="3629"/>
                  </a:moveTo>
                  <a:lnTo>
                    <a:pt x="5" y="3443"/>
                  </a:lnTo>
                  <a:lnTo>
                    <a:pt x="19" y="3259"/>
                  </a:lnTo>
                  <a:lnTo>
                    <a:pt x="42" y="3078"/>
                  </a:lnTo>
                  <a:lnTo>
                    <a:pt x="74" y="2898"/>
                  </a:lnTo>
                  <a:lnTo>
                    <a:pt x="114" y="2723"/>
                  </a:lnTo>
                  <a:lnTo>
                    <a:pt x="164" y="2551"/>
                  </a:lnTo>
                  <a:lnTo>
                    <a:pt x="220" y="2383"/>
                  </a:lnTo>
                  <a:lnTo>
                    <a:pt x="286" y="2218"/>
                  </a:lnTo>
                  <a:lnTo>
                    <a:pt x="358" y="2057"/>
                  </a:lnTo>
                  <a:lnTo>
                    <a:pt x="439" y="1901"/>
                  </a:lnTo>
                  <a:lnTo>
                    <a:pt x="526" y="1749"/>
                  </a:lnTo>
                  <a:lnTo>
                    <a:pt x="621" y="1602"/>
                  </a:lnTo>
                  <a:lnTo>
                    <a:pt x="722" y="1459"/>
                  </a:lnTo>
                  <a:lnTo>
                    <a:pt x="829" y="1322"/>
                  </a:lnTo>
                  <a:lnTo>
                    <a:pt x="944" y="1190"/>
                  </a:lnTo>
                  <a:lnTo>
                    <a:pt x="1064" y="1064"/>
                  </a:lnTo>
                  <a:lnTo>
                    <a:pt x="1190" y="944"/>
                  </a:lnTo>
                  <a:lnTo>
                    <a:pt x="1322" y="830"/>
                  </a:lnTo>
                  <a:lnTo>
                    <a:pt x="1458" y="722"/>
                  </a:lnTo>
                  <a:lnTo>
                    <a:pt x="1601" y="620"/>
                  </a:lnTo>
                  <a:lnTo>
                    <a:pt x="1749" y="526"/>
                  </a:lnTo>
                  <a:lnTo>
                    <a:pt x="1901" y="439"/>
                  </a:lnTo>
                  <a:lnTo>
                    <a:pt x="2056" y="358"/>
                  </a:lnTo>
                  <a:lnTo>
                    <a:pt x="2217" y="285"/>
                  </a:lnTo>
                  <a:lnTo>
                    <a:pt x="2382" y="221"/>
                  </a:lnTo>
                  <a:lnTo>
                    <a:pt x="2551" y="164"/>
                  </a:lnTo>
                  <a:lnTo>
                    <a:pt x="2723" y="114"/>
                  </a:lnTo>
                  <a:lnTo>
                    <a:pt x="2898" y="74"/>
                  </a:lnTo>
                  <a:lnTo>
                    <a:pt x="3077" y="42"/>
                  </a:lnTo>
                  <a:lnTo>
                    <a:pt x="3258" y="19"/>
                  </a:lnTo>
                  <a:lnTo>
                    <a:pt x="3442" y="5"/>
                  </a:lnTo>
                  <a:lnTo>
                    <a:pt x="3628" y="0"/>
                  </a:lnTo>
                  <a:lnTo>
                    <a:pt x="3815" y="5"/>
                  </a:lnTo>
                  <a:lnTo>
                    <a:pt x="3998" y="19"/>
                  </a:lnTo>
                  <a:lnTo>
                    <a:pt x="4181" y="42"/>
                  </a:lnTo>
                  <a:lnTo>
                    <a:pt x="4359" y="74"/>
                  </a:lnTo>
                  <a:lnTo>
                    <a:pt x="4535" y="114"/>
                  </a:lnTo>
                  <a:lnTo>
                    <a:pt x="4707" y="164"/>
                  </a:lnTo>
                  <a:lnTo>
                    <a:pt x="4875" y="221"/>
                  </a:lnTo>
                  <a:lnTo>
                    <a:pt x="5039" y="285"/>
                  </a:lnTo>
                  <a:lnTo>
                    <a:pt x="5200" y="358"/>
                  </a:lnTo>
                  <a:lnTo>
                    <a:pt x="5357" y="439"/>
                  </a:lnTo>
                  <a:lnTo>
                    <a:pt x="5509" y="526"/>
                  </a:lnTo>
                  <a:lnTo>
                    <a:pt x="5655" y="620"/>
                  </a:lnTo>
                  <a:lnTo>
                    <a:pt x="5798" y="722"/>
                  </a:lnTo>
                  <a:lnTo>
                    <a:pt x="5936" y="830"/>
                  </a:lnTo>
                  <a:lnTo>
                    <a:pt x="6067" y="944"/>
                  </a:lnTo>
                  <a:lnTo>
                    <a:pt x="6193" y="1064"/>
                  </a:lnTo>
                  <a:lnTo>
                    <a:pt x="6313" y="1190"/>
                  </a:lnTo>
                  <a:lnTo>
                    <a:pt x="6427" y="1322"/>
                  </a:lnTo>
                  <a:lnTo>
                    <a:pt x="6535" y="1459"/>
                  </a:lnTo>
                  <a:lnTo>
                    <a:pt x="6637" y="1602"/>
                  </a:lnTo>
                  <a:lnTo>
                    <a:pt x="6731" y="1749"/>
                  </a:lnTo>
                  <a:lnTo>
                    <a:pt x="6819" y="1901"/>
                  </a:lnTo>
                  <a:lnTo>
                    <a:pt x="6899" y="2057"/>
                  </a:lnTo>
                  <a:lnTo>
                    <a:pt x="6971" y="2218"/>
                  </a:lnTo>
                  <a:lnTo>
                    <a:pt x="7036" y="2383"/>
                  </a:lnTo>
                  <a:lnTo>
                    <a:pt x="7094" y="2551"/>
                  </a:lnTo>
                  <a:lnTo>
                    <a:pt x="7142" y="2723"/>
                  </a:lnTo>
                  <a:lnTo>
                    <a:pt x="7183" y="2898"/>
                  </a:lnTo>
                  <a:lnTo>
                    <a:pt x="7215" y="3078"/>
                  </a:lnTo>
                  <a:lnTo>
                    <a:pt x="7239" y="3259"/>
                  </a:lnTo>
                  <a:lnTo>
                    <a:pt x="7253" y="3443"/>
                  </a:lnTo>
                  <a:lnTo>
                    <a:pt x="7257" y="3629"/>
                  </a:lnTo>
                  <a:lnTo>
                    <a:pt x="7253" y="3816"/>
                  </a:lnTo>
                  <a:lnTo>
                    <a:pt x="7239" y="3999"/>
                  </a:lnTo>
                  <a:lnTo>
                    <a:pt x="7215" y="4181"/>
                  </a:lnTo>
                  <a:lnTo>
                    <a:pt x="7183" y="4359"/>
                  </a:lnTo>
                  <a:lnTo>
                    <a:pt x="7142" y="4535"/>
                  </a:lnTo>
                  <a:lnTo>
                    <a:pt x="7094" y="4707"/>
                  </a:lnTo>
                  <a:lnTo>
                    <a:pt x="7036" y="4875"/>
                  </a:lnTo>
                  <a:lnTo>
                    <a:pt x="6971" y="5040"/>
                  </a:lnTo>
                  <a:lnTo>
                    <a:pt x="6899" y="5201"/>
                  </a:lnTo>
                  <a:lnTo>
                    <a:pt x="6819" y="5358"/>
                  </a:lnTo>
                  <a:lnTo>
                    <a:pt x="6731" y="5510"/>
                  </a:lnTo>
                  <a:lnTo>
                    <a:pt x="6637" y="5656"/>
                  </a:lnTo>
                  <a:lnTo>
                    <a:pt x="6535" y="5799"/>
                  </a:lnTo>
                  <a:lnTo>
                    <a:pt x="6427" y="5936"/>
                  </a:lnTo>
                  <a:lnTo>
                    <a:pt x="6313" y="6068"/>
                  </a:lnTo>
                  <a:lnTo>
                    <a:pt x="6193" y="6193"/>
                  </a:lnTo>
                  <a:lnTo>
                    <a:pt x="6067" y="6314"/>
                  </a:lnTo>
                  <a:lnTo>
                    <a:pt x="5936" y="6428"/>
                  </a:lnTo>
                  <a:lnTo>
                    <a:pt x="5798" y="6536"/>
                  </a:lnTo>
                  <a:lnTo>
                    <a:pt x="5655" y="6638"/>
                  </a:lnTo>
                  <a:lnTo>
                    <a:pt x="5509" y="6732"/>
                  </a:lnTo>
                  <a:lnTo>
                    <a:pt x="5357" y="6820"/>
                  </a:lnTo>
                  <a:lnTo>
                    <a:pt x="5200" y="6900"/>
                  </a:lnTo>
                  <a:lnTo>
                    <a:pt x="5039" y="6972"/>
                  </a:lnTo>
                  <a:lnTo>
                    <a:pt x="4875" y="7037"/>
                  </a:lnTo>
                  <a:lnTo>
                    <a:pt x="4707" y="7095"/>
                  </a:lnTo>
                  <a:lnTo>
                    <a:pt x="4535" y="7143"/>
                  </a:lnTo>
                  <a:lnTo>
                    <a:pt x="4359" y="7184"/>
                  </a:lnTo>
                  <a:lnTo>
                    <a:pt x="4181" y="7216"/>
                  </a:lnTo>
                  <a:lnTo>
                    <a:pt x="3998" y="7239"/>
                  </a:lnTo>
                  <a:lnTo>
                    <a:pt x="3815" y="7254"/>
                  </a:lnTo>
                  <a:lnTo>
                    <a:pt x="3628" y="7258"/>
                  </a:lnTo>
                  <a:lnTo>
                    <a:pt x="3442" y="7254"/>
                  </a:lnTo>
                  <a:lnTo>
                    <a:pt x="3258" y="7239"/>
                  </a:lnTo>
                  <a:lnTo>
                    <a:pt x="3077" y="7216"/>
                  </a:lnTo>
                  <a:lnTo>
                    <a:pt x="2898" y="7184"/>
                  </a:lnTo>
                  <a:lnTo>
                    <a:pt x="2723" y="7143"/>
                  </a:lnTo>
                  <a:lnTo>
                    <a:pt x="2551" y="7095"/>
                  </a:lnTo>
                  <a:lnTo>
                    <a:pt x="2382" y="7037"/>
                  </a:lnTo>
                  <a:lnTo>
                    <a:pt x="2217" y="6972"/>
                  </a:lnTo>
                  <a:lnTo>
                    <a:pt x="2056" y="6900"/>
                  </a:lnTo>
                  <a:lnTo>
                    <a:pt x="1901" y="6820"/>
                  </a:lnTo>
                  <a:lnTo>
                    <a:pt x="1749" y="6732"/>
                  </a:lnTo>
                  <a:lnTo>
                    <a:pt x="1601" y="6638"/>
                  </a:lnTo>
                  <a:lnTo>
                    <a:pt x="1458" y="6536"/>
                  </a:lnTo>
                  <a:lnTo>
                    <a:pt x="1322" y="6428"/>
                  </a:lnTo>
                  <a:lnTo>
                    <a:pt x="1190" y="6314"/>
                  </a:lnTo>
                  <a:lnTo>
                    <a:pt x="1064" y="6193"/>
                  </a:lnTo>
                  <a:lnTo>
                    <a:pt x="944" y="6068"/>
                  </a:lnTo>
                  <a:lnTo>
                    <a:pt x="829" y="5936"/>
                  </a:lnTo>
                  <a:lnTo>
                    <a:pt x="722" y="5799"/>
                  </a:lnTo>
                  <a:lnTo>
                    <a:pt x="621" y="5656"/>
                  </a:lnTo>
                  <a:lnTo>
                    <a:pt x="526" y="5510"/>
                  </a:lnTo>
                  <a:lnTo>
                    <a:pt x="439" y="5358"/>
                  </a:lnTo>
                  <a:lnTo>
                    <a:pt x="358" y="5201"/>
                  </a:lnTo>
                  <a:lnTo>
                    <a:pt x="286" y="5040"/>
                  </a:lnTo>
                  <a:lnTo>
                    <a:pt x="220" y="4875"/>
                  </a:lnTo>
                  <a:lnTo>
                    <a:pt x="164" y="4707"/>
                  </a:lnTo>
                  <a:lnTo>
                    <a:pt x="114" y="4535"/>
                  </a:lnTo>
                  <a:lnTo>
                    <a:pt x="74" y="4359"/>
                  </a:lnTo>
                  <a:lnTo>
                    <a:pt x="42" y="4181"/>
                  </a:lnTo>
                  <a:lnTo>
                    <a:pt x="19" y="3999"/>
                  </a:lnTo>
                  <a:lnTo>
                    <a:pt x="5" y="3816"/>
                  </a:lnTo>
                  <a:lnTo>
                    <a:pt x="0" y="3629"/>
                  </a:lnTo>
                </a:path>
              </a:pathLst>
            </a:custGeom>
            <a:noFill/>
            <a:ln w="0">
              <a:solidFill>
                <a:srgbClr val="15161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29320" y="2579400"/>
              <a:ext cx="29880" cy="142560"/>
            </a:xfrm>
            <a:custGeom>
              <a:avLst/>
              <a:gdLst/>
              <a:ahLst/>
              <a:rect l="l" t="t" r="r" b="b"/>
              <a:pathLst>
                <a:path w="747" h="3533">
                  <a:moveTo>
                    <a:pt x="373" y="0"/>
                  </a:moveTo>
                  <a:lnTo>
                    <a:pt x="0" y="374"/>
                  </a:lnTo>
                  <a:lnTo>
                    <a:pt x="0" y="3533"/>
                  </a:lnTo>
                  <a:lnTo>
                    <a:pt x="747" y="3533"/>
                  </a:lnTo>
                  <a:lnTo>
                    <a:pt x="747" y="374"/>
                  </a:lnTo>
                  <a:lnTo>
                    <a:pt x="373" y="0"/>
                  </a:lnTo>
                  <a:lnTo>
                    <a:pt x="747" y="374"/>
                  </a:lnTo>
                  <a:lnTo>
                    <a:pt x="747" y="0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0440" y="2579400"/>
              <a:ext cx="144720" cy="29880"/>
            </a:xfrm>
            <a:custGeom>
              <a:avLst/>
              <a:gdLst/>
              <a:ahLst/>
              <a:rect l="l" t="t" r="r" b="b"/>
              <a:pathLst>
                <a:path w="3532" h="748">
                  <a:moveTo>
                    <a:pt x="0" y="374"/>
                  </a:moveTo>
                  <a:lnTo>
                    <a:pt x="374" y="748"/>
                  </a:lnTo>
                  <a:lnTo>
                    <a:pt x="3532" y="748"/>
                  </a:lnTo>
                  <a:lnTo>
                    <a:pt x="3532" y="0"/>
                  </a:lnTo>
                  <a:lnTo>
                    <a:pt x="374" y="0"/>
                  </a:lnTo>
                  <a:lnTo>
                    <a:pt x="0" y="374"/>
                  </a:lnTo>
                  <a:lnTo>
                    <a:pt x="374" y="0"/>
                  </a:lnTo>
                  <a:lnTo>
                    <a:pt x="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0440" y="2593800"/>
              <a:ext cx="30240" cy="144000"/>
            </a:xfrm>
            <a:custGeom>
              <a:avLst/>
              <a:gdLst/>
              <a:ahLst/>
              <a:rect l="l" t="t" r="r" b="b"/>
              <a:pathLst>
                <a:path w="748" h="3532">
                  <a:moveTo>
                    <a:pt x="374" y="3532"/>
                  </a:moveTo>
                  <a:lnTo>
                    <a:pt x="748" y="3159"/>
                  </a:lnTo>
                  <a:lnTo>
                    <a:pt x="748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374" y="3532"/>
                  </a:lnTo>
                  <a:lnTo>
                    <a:pt x="0" y="3159"/>
                  </a:lnTo>
                  <a:lnTo>
                    <a:pt x="0" y="3532"/>
                  </a:lnTo>
                  <a:lnTo>
                    <a:pt x="374" y="35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6280" y="2708280"/>
              <a:ext cx="142920" cy="29520"/>
            </a:xfrm>
            <a:custGeom>
              <a:avLst/>
              <a:gdLst/>
              <a:ahLst/>
              <a:rect l="l" t="t" r="r" b="b"/>
              <a:pathLst>
                <a:path w="3532" h="747">
                  <a:moveTo>
                    <a:pt x="3532" y="374"/>
                  </a:moveTo>
                  <a:lnTo>
                    <a:pt x="315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3158" y="747"/>
                  </a:lnTo>
                  <a:lnTo>
                    <a:pt x="3532" y="374"/>
                  </a:lnTo>
                  <a:lnTo>
                    <a:pt x="3158" y="747"/>
                  </a:lnTo>
                  <a:lnTo>
                    <a:pt x="3532" y="747"/>
                  </a:lnTo>
                  <a:lnTo>
                    <a:pt x="3532" y="3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01600" y="2165400"/>
            <a:ext cx="836640" cy="492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25520" y="3714840"/>
            <a:ext cx="639720" cy="806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5440" y="4748040"/>
            <a:ext cx="1009800" cy="873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7066080" y="5943600"/>
            <a:ext cx="741240" cy="446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89160" y="1371600"/>
            <a:ext cx="1241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: Color 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35000" y="2075040"/>
            <a:ext cx="11923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Silicon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5000" y="3867120"/>
            <a:ext cx="111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tocol Transl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35000" y="4933800"/>
            <a:ext cx="1266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Work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85000" y="5943600"/>
            <a:ext cx="1112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inal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407880" y="5772240"/>
            <a:ext cx="654120" cy="644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35000" y="5772240"/>
            <a:ext cx="80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57640" y="1428840"/>
            <a:ext cx="1235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group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2346480" y="1309680"/>
            <a:ext cx="1009440" cy="87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57640" y="2286000"/>
            <a:ext cx="1235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Management 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85000" y="5105520"/>
            <a:ext cx="1063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mall Hub (10BASE-T Hu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85000" y="1447920"/>
            <a:ext cx="1114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BASE-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85000" y="2630520"/>
            <a:ext cx="1282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DDI/FDDI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6756480" y="5237280"/>
            <a:ext cx="1050840" cy="449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6751800" y="1473120"/>
            <a:ext cx="1055520" cy="451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6756480" y="2654280"/>
            <a:ext cx="1050840" cy="45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785000" y="3390840"/>
            <a:ext cx="1235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 Adapter 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7174080" y="3182760"/>
            <a:ext cx="633240" cy="919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131760" y="1366920"/>
            <a:ext cx="906480" cy="533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57640" y="5835600"/>
            <a:ext cx="1033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Flow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57640" y="4070520"/>
            <a:ext cx="1033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 Rout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2271600" y="3905280"/>
            <a:ext cx="1020960" cy="92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57640" y="4995720"/>
            <a:ext cx="1033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2212920" y="4946760"/>
            <a:ext cx="1058760" cy="693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2417760" y="5830920"/>
            <a:ext cx="847800" cy="50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35000" y="2973240"/>
            <a:ext cx="1192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velengt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7"/>
          <a:stretch/>
        </p:blipFill>
        <p:spPr>
          <a:xfrm>
            <a:off x="130320" y="2952720"/>
            <a:ext cx="911160" cy="542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785000" y="2038320"/>
            <a:ext cx="1051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BR910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ble DS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8"/>
          <a:stretch/>
        </p:blipFill>
        <p:spPr>
          <a:xfrm>
            <a:off x="6765840" y="2068560"/>
            <a:ext cx="1041480" cy="4446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10360" y="228600"/>
            <a:ext cx="2657520" cy="479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isco icons should not be changed. </a:t>
            </a:r>
            <a:r>
              <a:rPr b="1" lang="en-US" sz="1300" spc="-1" strike="noStrike">
                <a:solidFill>
                  <a:srgbClr val="b21a1a"/>
                </a:solidFill>
                <a:latin typeface="Arial"/>
              </a:rPr>
              <a:t>Do not alter color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9"/>
          <a:stretch/>
        </p:blipFill>
        <p:spPr>
          <a:xfrm>
            <a:off x="2095560" y="3070080"/>
            <a:ext cx="1143000" cy="723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257640" y="3044880"/>
            <a:ext cx="13050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orage Solution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gine (SS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8040" y="6006960"/>
            <a:ext cx="87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IOS SL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88040" y="1488960"/>
            <a:ext cx="1265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etingPlac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r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88040" y="2414520"/>
            <a:ext cx="1590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ftware-Based Router on File/Application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88040" y="4235400"/>
            <a:ext cx="731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>
            <a:off x="4452840" y="4124160"/>
            <a:ext cx="750960" cy="527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88040" y="4610160"/>
            <a:ext cx="14176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group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lor/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1"/>
          <a:stretch/>
        </p:blipFill>
        <p:spPr>
          <a:xfrm>
            <a:off x="4676760" y="5032440"/>
            <a:ext cx="608040" cy="25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2"/>
          <a:stretch/>
        </p:blipFill>
        <p:spPr>
          <a:xfrm>
            <a:off x="4495680" y="4786200"/>
            <a:ext cx="735120" cy="314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3"/>
          <a:stretch/>
        </p:blipFill>
        <p:spPr>
          <a:xfrm>
            <a:off x="4703760" y="1295280"/>
            <a:ext cx="630360" cy="1001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15040" y="3595680"/>
            <a:ext cx="1068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P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4"/>
          <a:stretch/>
        </p:blipFill>
        <p:spPr>
          <a:xfrm>
            <a:off x="4470480" y="3352680"/>
            <a:ext cx="844560" cy="744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5"/>
          <a:stretch/>
        </p:blipFill>
        <p:spPr>
          <a:xfrm>
            <a:off x="4324320" y="6005520"/>
            <a:ext cx="990720" cy="503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85000" y="4497480"/>
            <a:ext cx="533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6"/>
          <a:stretch/>
        </p:blipFill>
        <p:spPr>
          <a:xfrm>
            <a:off x="7107120" y="4191120"/>
            <a:ext cx="700200" cy="1019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7"/>
          <a:stretch/>
        </p:blipFill>
        <p:spPr>
          <a:xfrm>
            <a:off x="4307040" y="5499000"/>
            <a:ext cx="923760" cy="395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88040" y="5346720"/>
            <a:ext cx="14176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kgroup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ice-Enabl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TelePresenc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2836800" y="174960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TS-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8" name="" descr=""/>
          <p:cNvPicPr/>
          <p:nvPr/>
        </p:nvPicPr>
        <p:blipFill>
          <a:blip r:embed="rId1"/>
          <a:stretch/>
        </p:blipFill>
        <p:spPr>
          <a:xfrm>
            <a:off x="4533840" y="1538280"/>
            <a:ext cx="1049400" cy="1206360"/>
          </a:xfrm>
          <a:prstGeom prst="rect">
            <a:avLst/>
          </a:prstGeom>
          <a:ln w="0">
            <a:noFill/>
          </a:ln>
        </p:spPr>
      </p:pic>
      <p:pic>
        <p:nvPicPr>
          <p:cNvPr id="4139" name="" descr=""/>
          <p:cNvPicPr/>
          <p:nvPr/>
        </p:nvPicPr>
        <p:blipFill>
          <a:blip r:embed="rId2"/>
          <a:stretch/>
        </p:blipFill>
        <p:spPr>
          <a:xfrm>
            <a:off x="4656240" y="2987640"/>
            <a:ext cx="752400" cy="741240"/>
          </a:xfrm>
          <a:prstGeom prst="rect">
            <a:avLst/>
          </a:prstGeom>
          <a:ln w="0">
            <a:noFill/>
          </a:ln>
        </p:spPr>
      </p:pic>
      <p:pic>
        <p:nvPicPr>
          <p:cNvPr id="4140" name="" descr=""/>
          <p:cNvPicPr/>
          <p:nvPr/>
        </p:nvPicPr>
        <p:blipFill>
          <a:blip r:embed="rId3"/>
          <a:stretch/>
        </p:blipFill>
        <p:spPr>
          <a:xfrm>
            <a:off x="1246320" y="5564160"/>
            <a:ext cx="841320" cy="905040"/>
          </a:xfrm>
          <a:prstGeom prst="rect">
            <a:avLst/>
          </a:prstGeom>
          <a:ln w="0">
            <a:noFill/>
          </a:ln>
        </p:spPr>
      </p:pic>
      <p:pic>
        <p:nvPicPr>
          <p:cNvPr id="4141" name="" descr=""/>
          <p:cNvPicPr/>
          <p:nvPr/>
        </p:nvPicPr>
        <p:blipFill>
          <a:blip r:embed="rId4"/>
          <a:stretch/>
        </p:blipFill>
        <p:spPr>
          <a:xfrm>
            <a:off x="1249200" y="4402080"/>
            <a:ext cx="835200" cy="905040"/>
          </a:xfrm>
          <a:prstGeom prst="rect">
            <a:avLst/>
          </a:prstGeom>
          <a:ln w="0">
            <a:noFill/>
          </a:ln>
        </p:spPr>
      </p:pic>
      <p:sp>
        <p:nvSpPr>
          <p:cNvPr id="4142" name=""/>
          <p:cNvSpPr/>
          <p:nvPr/>
        </p:nvSpPr>
        <p:spPr>
          <a:xfrm>
            <a:off x="2836800" y="265104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TS-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2836800" y="355428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TS-3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2836800" y="4589640"/>
            <a:ext cx="1198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TS-Codec Prim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2836800" y="575136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TS-Codec Second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5751360" y="1982880"/>
            <a:ext cx="94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P MC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5751360" y="2986200"/>
            <a:ext cx="1524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TelePresence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8" name="" descr=""/>
          <p:cNvPicPr/>
          <p:nvPr/>
        </p:nvPicPr>
        <p:blipFill>
          <a:blip r:embed="rId5"/>
          <a:stretch/>
        </p:blipFill>
        <p:spPr>
          <a:xfrm>
            <a:off x="601560" y="3313080"/>
            <a:ext cx="2130480" cy="770040"/>
          </a:xfrm>
          <a:prstGeom prst="rect">
            <a:avLst/>
          </a:prstGeom>
          <a:ln w="0">
            <a:noFill/>
          </a:ln>
        </p:spPr>
      </p:pic>
      <p:pic>
        <p:nvPicPr>
          <p:cNvPr id="4149" name="" descr=""/>
          <p:cNvPicPr/>
          <p:nvPr/>
        </p:nvPicPr>
        <p:blipFill>
          <a:blip r:embed="rId6"/>
          <a:stretch/>
        </p:blipFill>
        <p:spPr>
          <a:xfrm>
            <a:off x="1274760" y="1538280"/>
            <a:ext cx="782640" cy="770040"/>
          </a:xfrm>
          <a:prstGeom prst="rect">
            <a:avLst/>
          </a:prstGeom>
          <a:ln w="0">
            <a:noFill/>
          </a:ln>
        </p:spPr>
      </p:pic>
      <p:pic>
        <p:nvPicPr>
          <p:cNvPr id="4150" name="" descr=""/>
          <p:cNvPicPr/>
          <p:nvPr/>
        </p:nvPicPr>
        <p:blipFill>
          <a:blip r:embed="rId7"/>
          <a:stretch/>
        </p:blipFill>
        <p:spPr>
          <a:xfrm>
            <a:off x="938160" y="2425680"/>
            <a:ext cx="1455840" cy="7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Miscellaneou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pSp>
        <p:nvGrpSpPr>
          <p:cNvPr id="4152" name=""/>
          <p:cNvGrpSpPr/>
          <p:nvPr/>
        </p:nvGrpSpPr>
        <p:grpSpPr>
          <a:xfrm>
            <a:off x="380880" y="5600880"/>
            <a:ext cx="1974960" cy="756720"/>
            <a:chOff x="380880" y="5600880"/>
            <a:chExt cx="1974960" cy="756720"/>
          </a:xfrm>
        </p:grpSpPr>
        <p:sp>
          <p:nvSpPr>
            <p:cNvPr id="4153" name=""/>
            <p:cNvSpPr/>
            <p:nvPr/>
          </p:nvSpPr>
          <p:spPr>
            <a:xfrm>
              <a:off x="1494000" y="5854680"/>
              <a:ext cx="330120" cy="253440"/>
            </a:xfrm>
            <a:custGeom>
              <a:avLst/>
              <a:gdLst/>
              <a:ahLst/>
              <a:rect l="l" t="t" r="r" b="b"/>
              <a:pathLst>
                <a:path w="2707" h="2080">
                  <a:moveTo>
                    <a:pt x="2624" y="0"/>
                  </a:moveTo>
                  <a:lnTo>
                    <a:pt x="0" y="1497"/>
                  </a:lnTo>
                  <a:lnTo>
                    <a:pt x="84" y="2080"/>
                  </a:lnTo>
                  <a:lnTo>
                    <a:pt x="2707" y="540"/>
                  </a:lnTo>
                  <a:lnTo>
                    <a:pt x="2624" y="0"/>
                  </a:lnTo>
                  <a:close/>
                </a:path>
              </a:pathLst>
            </a:custGeom>
            <a:solidFill>
              <a:srgbClr val="af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487520" y="5848200"/>
              <a:ext cx="330120" cy="196560"/>
            </a:xfrm>
            <a:custGeom>
              <a:avLst/>
              <a:gdLst/>
              <a:ahLst/>
              <a:rect l="l" t="t" r="r" b="b"/>
              <a:pathLst>
                <a:path w="2714" h="1611">
                  <a:moveTo>
                    <a:pt x="2" y="1558"/>
                  </a:moveTo>
                  <a:lnTo>
                    <a:pt x="91" y="1602"/>
                  </a:lnTo>
                  <a:lnTo>
                    <a:pt x="2714" y="104"/>
                  </a:lnTo>
                  <a:lnTo>
                    <a:pt x="2655" y="0"/>
                  </a:lnTo>
                  <a:lnTo>
                    <a:pt x="32" y="1499"/>
                  </a:lnTo>
                  <a:lnTo>
                    <a:pt x="2" y="1558"/>
                  </a:lnTo>
                  <a:lnTo>
                    <a:pt x="32" y="1499"/>
                  </a:lnTo>
                  <a:lnTo>
                    <a:pt x="26" y="1502"/>
                  </a:lnTo>
                  <a:lnTo>
                    <a:pt x="20" y="1507"/>
                  </a:lnTo>
                  <a:lnTo>
                    <a:pt x="15" y="1511"/>
                  </a:lnTo>
                  <a:lnTo>
                    <a:pt x="11" y="1516"/>
                  </a:lnTo>
                  <a:lnTo>
                    <a:pt x="7" y="1521"/>
                  </a:lnTo>
                  <a:lnTo>
                    <a:pt x="5" y="1526"/>
                  </a:lnTo>
                  <a:lnTo>
                    <a:pt x="3" y="1531"/>
                  </a:lnTo>
                  <a:lnTo>
                    <a:pt x="1" y="1537"/>
                  </a:lnTo>
                  <a:lnTo>
                    <a:pt x="0" y="1542"/>
                  </a:lnTo>
                  <a:lnTo>
                    <a:pt x="0" y="1548"/>
                  </a:lnTo>
                  <a:lnTo>
                    <a:pt x="0" y="1553"/>
                  </a:lnTo>
                  <a:lnTo>
                    <a:pt x="1" y="1559"/>
                  </a:lnTo>
                  <a:lnTo>
                    <a:pt x="4" y="1569"/>
                  </a:lnTo>
                  <a:lnTo>
                    <a:pt x="9" y="1580"/>
                  </a:lnTo>
                  <a:lnTo>
                    <a:pt x="15" y="1590"/>
                  </a:lnTo>
                  <a:lnTo>
                    <a:pt x="24" y="1597"/>
                  </a:lnTo>
                  <a:lnTo>
                    <a:pt x="28" y="1601"/>
                  </a:lnTo>
                  <a:lnTo>
                    <a:pt x="33" y="1604"/>
                  </a:lnTo>
                  <a:lnTo>
                    <a:pt x="38" y="1606"/>
                  </a:lnTo>
                  <a:lnTo>
                    <a:pt x="43" y="1608"/>
                  </a:lnTo>
                  <a:lnTo>
                    <a:pt x="48" y="1610"/>
                  </a:lnTo>
                  <a:lnTo>
                    <a:pt x="54" y="1611"/>
                  </a:lnTo>
                  <a:lnTo>
                    <a:pt x="60" y="1611"/>
                  </a:lnTo>
                  <a:lnTo>
                    <a:pt x="66" y="1611"/>
                  </a:lnTo>
                  <a:lnTo>
                    <a:pt x="72" y="1610"/>
                  </a:lnTo>
                  <a:lnTo>
                    <a:pt x="78" y="1608"/>
                  </a:lnTo>
                  <a:lnTo>
                    <a:pt x="84" y="1606"/>
                  </a:lnTo>
                  <a:lnTo>
                    <a:pt x="91" y="1602"/>
                  </a:lnTo>
                  <a:lnTo>
                    <a:pt x="2" y="1558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1487520" y="6037200"/>
              <a:ext cx="23760" cy="78840"/>
            </a:xfrm>
            <a:custGeom>
              <a:avLst/>
              <a:gdLst/>
              <a:ahLst/>
              <a:rect l="l" t="t" r="r" b="b"/>
              <a:pathLst>
                <a:path w="202" h="651">
                  <a:moveTo>
                    <a:pt x="172" y="642"/>
                  </a:moveTo>
                  <a:lnTo>
                    <a:pt x="201" y="582"/>
                  </a:lnTo>
                  <a:lnTo>
                    <a:pt x="119" y="0"/>
                  </a:lnTo>
                  <a:lnTo>
                    <a:pt x="0" y="16"/>
                  </a:lnTo>
                  <a:lnTo>
                    <a:pt x="83" y="599"/>
                  </a:lnTo>
                  <a:lnTo>
                    <a:pt x="172" y="642"/>
                  </a:lnTo>
                  <a:lnTo>
                    <a:pt x="83" y="599"/>
                  </a:lnTo>
                  <a:lnTo>
                    <a:pt x="84" y="606"/>
                  </a:lnTo>
                  <a:lnTo>
                    <a:pt x="86" y="613"/>
                  </a:lnTo>
                  <a:lnTo>
                    <a:pt x="89" y="619"/>
                  </a:lnTo>
                  <a:lnTo>
                    <a:pt x="92" y="624"/>
                  </a:lnTo>
                  <a:lnTo>
                    <a:pt x="95" y="629"/>
                  </a:lnTo>
                  <a:lnTo>
                    <a:pt x="99" y="633"/>
                  </a:lnTo>
                  <a:lnTo>
                    <a:pt x="103" y="637"/>
                  </a:lnTo>
                  <a:lnTo>
                    <a:pt x="107" y="641"/>
                  </a:lnTo>
                  <a:lnTo>
                    <a:pt x="113" y="643"/>
                  </a:lnTo>
                  <a:lnTo>
                    <a:pt x="118" y="647"/>
                  </a:lnTo>
                  <a:lnTo>
                    <a:pt x="123" y="649"/>
                  </a:lnTo>
                  <a:lnTo>
                    <a:pt x="129" y="650"/>
                  </a:lnTo>
                  <a:lnTo>
                    <a:pt x="140" y="651"/>
                  </a:lnTo>
                  <a:lnTo>
                    <a:pt x="151" y="650"/>
                  </a:lnTo>
                  <a:lnTo>
                    <a:pt x="162" y="648"/>
                  </a:lnTo>
                  <a:lnTo>
                    <a:pt x="172" y="643"/>
                  </a:lnTo>
                  <a:lnTo>
                    <a:pt x="177" y="640"/>
                  </a:lnTo>
                  <a:lnTo>
                    <a:pt x="181" y="637"/>
                  </a:lnTo>
                  <a:lnTo>
                    <a:pt x="185" y="633"/>
                  </a:lnTo>
                  <a:lnTo>
                    <a:pt x="189" y="629"/>
                  </a:lnTo>
                  <a:lnTo>
                    <a:pt x="192" y="625"/>
                  </a:lnTo>
                  <a:lnTo>
                    <a:pt x="195" y="620"/>
                  </a:lnTo>
                  <a:lnTo>
                    <a:pt x="198" y="614"/>
                  </a:lnTo>
                  <a:lnTo>
                    <a:pt x="200" y="609"/>
                  </a:lnTo>
                  <a:lnTo>
                    <a:pt x="201" y="603"/>
                  </a:lnTo>
                  <a:lnTo>
                    <a:pt x="202" y="596"/>
                  </a:lnTo>
                  <a:lnTo>
                    <a:pt x="202" y="590"/>
                  </a:lnTo>
                  <a:lnTo>
                    <a:pt x="201" y="582"/>
                  </a:lnTo>
                  <a:lnTo>
                    <a:pt x="172" y="642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500120" y="5913360"/>
              <a:ext cx="331920" cy="201240"/>
            </a:xfrm>
            <a:custGeom>
              <a:avLst/>
              <a:gdLst/>
              <a:ahLst/>
              <a:rect l="l" t="t" r="r" b="b"/>
              <a:pathLst>
                <a:path w="2713" h="1652">
                  <a:moveTo>
                    <a:pt x="2712" y="53"/>
                  </a:moveTo>
                  <a:lnTo>
                    <a:pt x="2622" y="9"/>
                  </a:lnTo>
                  <a:lnTo>
                    <a:pt x="0" y="1549"/>
                  </a:lnTo>
                  <a:lnTo>
                    <a:pt x="59" y="1652"/>
                  </a:lnTo>
                  <a:lnTo>
                    <a:pt x="2683" y="112"/>
                  </a:lnTo>
                  <a:lnTo>
                    <a:pt x="2712" y="53"/>
                  </a:lnTo>
                  <a:lnTo>
                    <a:pt x="2683" y="112"/>
                  </a:lnTo>
                  <a:lnTo>
                    <a:pt x="2689" y="109"/>
                  </a:lnTo>
                  <a:lnTo>
                    <a:pt x="2694" y="104"/>
                  </a:lnTo>
                  <a:lnTo>
                    <a:pt x="2699" y="100"/>
                  </a:lnTo>
                  <a:lnTo>
                    <a:pt x="2703" y="95"/>
                  </a:lnTo>
                  <a:lnTo>
                    <a:pt x="2706" y="90"/>
                  </a:lnTo>
                  <a:lnTo>
                    <a:pt x="2708" y="85"/>
                  </a:lnTo>
                  <a:lnTo>
                    <a:pt x="2710" y="80"/>
                  </a:lnTo>
                  <a:lnTo>
                    <a:pt x="2712" y="74"/>
                  </a:lnTo>
                  <a:lnTo>
                    <a:pt x="2712" y="69"/>
                  </a:lnTo>
                  <a:lnTo>
                    <a:pt x="2713" y="63"/>
                  </a:lnTo>
                  <a:lnTo>
                    <a:pt x="2712" y="58"/>
                  </a:lnTo>
                  <a:lnTo>
                    <a:pt x="2712" y="52"/>
                  </a:lnTo>
                  <a:lnTo>
                    <a:pt x="2709" y="42"/>
                  </a:lnTo>
                  <a:lnTo>
                    <a:pt x="2704" y="32"/>
                  </a:lnTo>
                  <a:lnTo>
                    <a:pt x="2698" y="22"/>
                  </a:lnTo>
                  <a:lnTo>
                    <a:pt x="2690" y="14"/>
                  </a:lnTo>
                  <a:lnTo>
                    <a:pt x="2685" y="10"/>
                  </a:lnTo>
                  <a:lnTo>
                    <a:pt x="2681" y="7"/>
                  </a:lnTo>
                  <a:lnTo>
                    <a:pt x="2676" y="5"/>
                  </a:lnTo>
                  <a:lnTo>
                    <a:pt x="2671" y="3"/>
                  </a:lnTo>
                  <a:lnTo>
                    <a:pt x="2665" y="2"/>
                  </a:lnTo>
                  <a:lnTo>
                    <a:pt x="2660" y="1"/>
                  </a:lnTo>
                  <a:lnTo>
                    <a:pt x="2654" y="0"/>
                  </a:lnTo>
                  <a:lnTo>
                    <a:pt x="2648" y="1"/>
                  </a:lnTo>
                  <a:lnTo>
                    <a:pt x="2642" y="2"/>
                  </a:lnTo>
                  <a:lnTo>
                    <a:pt x="2636" y="4"/>
                  </a:lnTo>
                  <a:lnTo>
                    <a:pt x="2628" y="6"/>
                  </a:lnTo>
                  <a:lnTo>
                    <a:pt x="2622" y="9"/>
                  </a:lnTo>
                  <a:lnTo>
                    <a:pt x="2712" y="53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806480" y="5848200"/>
              <a:ext cx="25560" cy="74160"/>
            </a:xfrm>
            <a:custGeom>
              <a:avLst/>
              <a:gdLst/>
              <a:ahLst/>
              <a:rect l="l" t="t" r="r" b="b"/>
              <a:pathLst>
                <a:path w="203" h="609">
                  <a:moveTo>
                    <a:pt x="31" y="7"/>
                  </a:moveTo>
                  <a:lnTo>
                    <a:pt x="1" y="69"/>
                  </a:lnTo>
                  <a:lnTo>
                    <a:pt x="84" y="609"/>
                  </a:lnTo>
                  <a:lnTo>
                    <a:pt x="203" y="592"/>
                  </a:lnTo>
                  <a:lnTo>
                    <a:pt x="119" y="50"/>
                  </a:lnTo>
                  <a:lnTo>
                    <a:pt x="31" y="7"/>
                  </a:lnTo>
                  <a:lnTo>
                    <a:pt x="119" y="50"/>
                  </a:lnTo>
                  <a:lnTo>
                    <a:pt x="118" y="43"/>
                  </a:lnTo>
                  <a:lnTo>
                    <a:pt x="116" y="37"/>
                  </a:lnTo>
                  <a:lnTo>
                    <a:pt x="113" y="31"/>
                  </a:lnTo>
                  <a:lnTo>
                    <a:pt x="110" y="25"/>
                  </a:lnTo>
                  <a:lnTo>
                    <a:pt x="107" y="20"/>
                  </a:lnTo>
                  <a:lnTo>
                    <a:pt x="103" y="16"/>
                  </a:lnTo>
                  <a:lnTo>
                    <a:pt x="99" y="12"/>
                  </a:lnTo>
                  <a:lnTo>
                    <a:pt x="94" y="9"/>
                  </a:lnTo>
                  <a:lnTo>
                    <a:pt x="89" y="6"/>
                  </a:lnTo>
                  <a:lnTo>
                    <a:pt x="84" y="4"/>
                  </a:lnTo>
                  <a:lnTo>
                    <a:pt x="79" y="2"/>
                  </a:lnTo>
                  <a:lnTo>
                    <a:pt x="74" y="1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1" y="3"/>
                  </a:lnTo>
                  <a:lnTo>
                    <a:pt x="31" y="7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6" y="17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6" y="30"/>
                  </a:lnTo>
                  <a:lnTo>
                    <a:pt x="4" y="36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539720" y="5987880"/>
              <a:ext cx="330480" cy="253800"/>
            </a:xfrm>
            <a:custGeom>
              <a:avLst/>
              <a:gdLst/>
              <a:ahLst/>
              <a:rect l="l" t="t" r="r" b="b"/>
              <a:pathLst>
                <a:path w="2707" h="2081">
                  <a:moveTo>
                    <a:pt x="2623" y="0"/>
                  </a:moveTo>
                  <a:lnTo>
                    <a:pt x="0" y="1498"/>
                  </a:lnTo>
                  <a:lnTo>
                    <a:pt x="83" y="2081"/>
                  </a:lnTo>
                  <a:lnTo>
                    <a:pt x="2707" y="541"/>
                  </a:lnTo>
                  <a:lnTo>
                    <a:pt x="2623" y="0"/>
                  </a:lnTo>
                  <a:close/>
                </a:path>
              </a:pathLst>
            </a:custGeom>
            <a:solidFill>
              <a:srgbClr val="af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531800" y="5981760"/>
              <a:ext cx="331920" cy="194760"/>
            </a:xfrm>
            <a:custGeom>
              <a:avLst/>
              <a:gdLst/>
              <a:ahLst/>
              <a:rect l="l" t="t" r="r" b="b"/>
              <a:pathLst>
                <a:path w="2714" h="1609">
                  <a:moveTo>
                    <a:pt x="1" y="1558"/>
                  </a:moveTo>
                  <a:lnTo>
                    <a:pt x="90" y="1601"/>
                  </a:lnTo>
                  <a:lnTo>
                    <a:pt x="2714" y="103"/>
                  </a:lnTo>
                  <a:lnTo>
                    <a:pt x="2655" y="0"/>
                  </a:lnTo>
                  <a:lnTo>
                    <a:pt x="31" y="1497"/>
                  </a:lnTo>
                  <a:lnTo>
                    <a:pt x="1" y="1558"/>
                  </a:lnTo>
                  <a:lnTo>
                    <a:pt x="31" y="1497"/>
                  </a:lnTo>
                  <a:lnTo>
                    <a:pt x="25" y="1501"/>
                  </a:lnTo>
                  <a:lnTo>
                    <a:pt x="20" y="1505"/>
                  </a:lnTo>
                  <a:lnTo>
                    <a:pt x="14" y="1510"/>
                  </a:lnTo>
                  <a:lnTo>
                    <a:pt x="10" y="1515"/>
                  </a:lnTo>
                  <a:lnTo>
                    <a:pt x="7" y="1520"/>
                  </a:lnTo>
                  <a:lnTo>
                    <a:pt x="5" y="1525"/>
                  </a:lnTo>
                  <a:lnTo>
                    <a:pt x="3" y="1531"/>
                  </a:lnTo>
                  <a:lnTo>
                    <a:pt x="1" y="1536"/>
                  </a:lnTo>
                  <a:lnTo>
                    <a:pt x="0" y="1541"/>
                  </a:lnTo>
                  <a:lnTo>
                    <a:pt x="0" y="1547"/>
                  </a:lnTo>
                  <a:lnTo>
                    <a:pt x="0" y="1552"/>
                  </a:lnTo>
                  <a:lnTo>
                    <a:pt x="1" y="1558"/>
                  </a:lnTo>
                  <a:lnTo>
                    <a:pt x="4" y="1569"/>
                  </a:lnTo>
                  <a:lnTo>
                    <a:pt x="8" y="1579"/>
                  </a:lnTo>
                  <a:lnTo>
                    <a:pt x="15" y="1588"/>
                  </a:lnTo>
                  <a:lnTo>
                    <a:pt x="23" y="1596"/>
                  </a:lnTo>
                  <a:lnTo>
                    <a:pt x="28" y="1599"/>
                  </a:lnTo>
                  <a:lnTo>
                    <a:pt x="32" y="1602"/>
                  </a:lnTo>
                  <a:lnTo>
                    <a:pt x="37" y="1605"/>
                  </a:lnTo>
                  <a:lnTo>
                    <a:pt x="43" y="1607"/>
                  </a:lnTo>
                  <a:lnTo>
                    <a:pt x="48" y="1608"/>
                  </a:lnTo>
                  <a:lnTo>
                    <a:pt x="54" y="1609"/>
                  </a:lnTo>
                  <a:lnTo>
                    <a:pt x="59" y="1609"/>
                  </a:lnTo>
                  <a:lnTo>
                    <a:pt x="65" y="1609"/>
                  </a:lnTo>
                  <a:lnTo>
                    <a:pt x="71" y="1608"/>
                  </a:lnTo>
                  <a:lnTo>
                    <a:pt x="78" y="1606"/>
                  </a:lnTo>
                  <a:lnTo>
                    <a:pt x="84" y="1604"/>
                  </a:lnTo>
                  <a:lnTo>
                    <a:pt x="90" y="1601"/>
                  </a:lnTo>
                  <a:lnTo>
                    <a:pt x="1" y="1558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531800" y="6168960"/>
              <a:ext cx="25560" cy="78840"/>
            </a:xfrm>
            <a:custGeom>
              <a:avLst/>
              <a:gdLst/>
              <a:ahLst/>
              <a:rect l="l" t="t" r="r" b="b"/>
              <a:pathLst>
                <a:path w="203" h="650">
                  <a:moveTo>
                    <a:pt x="173" y="642"/>
                  </a:moveTo>
                  <a:lnTo>
                    <a:pt x="202" y="583"/>
                  </a:lnTo>
                  <a:lnTo>
                    <a:pt x="120" y="0"/>
                  </a:lnTo>
                  <a:lnTo>
                    <a:pt x="0" y="17"/>
                  </a:lnTo>
                  <a:lnTo>
                    <a:pt x="84" y="599"/>
                  </a:lnTo>
                  <a:lnTo>
                    <a:pt x="173" y="642"/>
                  </a:lnTo>
                  <a:lnTo>
                    <a:pt x="84" y="599"/>
                  </a:lnTo>
                  <a:lnTo>
                    <a:pt x="85" y="606"/>
                  </a:lnTo>
                  <a:lnTo>
                    <a:pt x="87" y="613"/>
                  </a:lnTo>
                  <a:lnTo>
                    <a:pt x="89" y="619"/>
                  </a:lnTo>
                  <a:lnTo>
                    <a:pt x="92" y="624"/>
                  </a:lnTo>
                  <a:lnTo>
                    <a:pt x="96" y="629"/>
                  </a:lnTo>
                  <a:lnTo>
                    <a:pt x="100" y="634"/>
                  </a:lnTo>
                  <a:lnTo>
                    <a:pt x="104" y="637"/>
                  </a:lnTo>
                  <a:lnTo>
                    <a:pt x="108" y="641"/>
                  </a:lnTo>
                  <a:lnTo>
                    <a:pt x="114" y="644"/>
                  </a:lnTo>
                  <a:lnTo>
                    <a:pt x="119" y="646"/>
                  </a:lnTo>
                  <a:lnTo>
                    <a:pt x="124" y="648"/>
                  </a:lnTo>
                  <a:lnTo>
                    <a:pt x="130" y="649"/>
                  </a:lnTo>
                  <a:lnTo>
                    <a:pt x="141" y="650"/>
                  </a:lnTo>
                  <a:lnTo>
                    <a:pt x="152" y="650"/>
                  </a:lnTo>
                  <a:lnTo>
                    <a:pt x="162" y="647"/>
                  </a:lnTo>
                  <a:lnTo>
                    <a:pt x="173" y="643"/>
                  </a:lnTo>
                  <a:lnTo>
                    <a:pt x="177" y="640"/>
                  </a:lnTo>
                  <a:lnTo>
                    <a:pt x="182" y="637"/>
                  </a:lnTo>
                  <a:lnTo>
                    <a:pt x="186" y="633"/>
                  </a:lnTo>
                  <a:lnTo>
                    <a:pt x="190" y="629"/>
                  </a:lnTo>
                  <a:lnTo>
                    <a:pt x="193" y="625"/>
                  </a:lnTo>
                  <a:lnTo>
                    <a:pt x="196" y="620"/>
                  </a:lnTo>
                  <a:lnTo>
                    <a:pt x="199" y="615"/>
                  </a:lnTo>
                  <a:lnTo>
                    <a:pt x="201" y="609"/>
                  </a:lnTo>
                  <a:lnTo>
                    <a:pt x="202" y="603"/>
                  </a:lnTo>
                  <a:lnTo>
                    <a:pt x="203" y="597"/>
                  </a:lnTo>
                  <a:lnTo>
                    <a:pt x="203" y="590"/>
                  </a:lnTo>
                  <a:lnTo>
                    <a:pt x="202" y="583"/>
                  </a:lnTo>
                  <a:lnTo>
                    <a:pt x="173" y="642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546200" y="6046560"/>
              <a:ext cx="331920" cy="201240"/>
            </a:xfrm>
            <a:custGeom>
              <a:avLst/>
              <a:gdLst/>
              <a:ahLst/>
              <a:rect l="l" t="t" r="r" b="b"/>
              <a:pathLst>
                <a:path w="2714" h="1651">
                  <a:moveTo>
                    <a:pt x="2712" y="51"/>
                  </a:moveTo>
                  <a:lnTo>
                    <a:pt x="2623" y="9"/>
                  </a:lnTo>
                  <a:lnTo>
                    <a:pt x="0" y="1548"/>
                  </a:lnTo>
                  <a:lnTo>
                    <a:pt x="60" y="1651"/>
                  </a:lnTo>
                  <a:lnTo>
                    <a:pt x="2684" y="112"/>
                  </a:lnTo>
                  <a:lnTo>
                    <a:pt x="2712" y="51"/>
                  </a:lnTo>
                  <a:lnTo>
                    <a:pt x="2684" y="112"/>
                  </a:lnTo>
                  <a:lnTo>
                    <a:pt x="2690" y="108"/>
                  </a:lnTo>
                  <a:lnTo>
                    <a:pt x="2695" y="103"/>
                  </a:lnTo>
                  <a:lnTo>
                    <a:pt x="2699" y="99"/>
                  </a:lnTo>
                  <a:lnTo>
                    <a:pt x="2703" y="94"/>
                  </a:lnTo>
                  <a:lnTo>
                    <a:pt x="2707" y="89"/>
                  </a:lnTo>
                  <a:lnTo>
                    <a:pt x="2709" y="84"/>
                  </a:lnTo>
                  <a:lnTo>
                    <a:pt x="2711" y="79"/>
                  </a:lnTo>
                  <a:lnTo>
                    <a:pt x="2712" y="73"/>
                  </a:lnTo>
                  <a:lnTo>
                    <a:pt x="2713" y="68"/>
                  </a:lnTo>
                  <a:lnTo>
                    <a:pt x="2714" y="61"/>
                  </a:lnTo>
                  <a:lnTo>
                    <a:pt x="2713" y="56"/>
                  </a:lnTo>
                  <a:lnTo>
                    <a:pt x="2712" y="50"/>
                  </a:lnTo>
                  <a:lnTo>
                    <a:pt x="2709" y="40"/>
                  </a:lnTo>
                  <a:lnTo>
                    <a:pt x="2705" y="30"/>
                  </a:lnTo>
                  <a:lnTo>
                    <a:pt x="2698" y="21"/>
                  </a:lnTo>
                  <a:lnTo>
                    <a:pt x="2690" y="13"/>
                  </a:lnTo>
                  <a:lnTo>
                    <a:pt x="2686" y="10"/>
                  </a:lnTo>
                  <a:lnTo>
                    <a:pt x="2681" y="7"/>
                  </a:lnTo>
                  <a:lnTo>
                    <a:pt x="2677" y="4"/>
                  </a:lnTo>
                  <a:lnTo>
                    <a:pt x="2671" y="2"/>
                  </a:lnTo>
                  <a:lnTo>
                    <a:pt x="2666" y="1"/>
                  </a:lnTo>
                  <a:lnTo>
                    <a:pt x="2660" y="0"/>
                  </a:lnTo>
                  <a:lnTo>
                    <a:pt x="2655" y="0"/>
                  </a:lnTo>
                  <a:lnTo>
                    <a:pt x="2649" y="0"/>
                  </a:lnTo>
                  <a:lnTo>
                    <a:pt x="2643" y="1"/>
                  </a:lnTo>
                  <a:lnTo>
                    <a:pt x="2636" y="3"/>
                  </a:lnTo>
                  <a:lnTo>
                    <a:pt x="2629" y="5"/>
                  </a:lnTo>
                  <a:lnTo>
                    <a:pt x="2623" y="9"/>
                  </a:lnTo>
                  <a:lnTo>
                    <a:pt x="2712" y="51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852560" y="5979960"/>
              <a:ext cx="25560" cy="74160"/>
            </a:xfrm>
            <a:custGeom>
              <a:avLst/>
              <a:gdLst/>
              <a:ahLst/>
              <a:rect l="l" t="t" r="r" b="b"/>
              <a:pathLst>
                <a:path w="202" h="609">
                  <a:moveTo>
                    <a:pt x="31" y="8"/>
                  </a:moveTo>
                  <a:lnTo>
                    <a:pt x="1" y="68"/>
                  </a:lnTo>
                  <a:lnTo>
                    <a:pt x="84" y="609"/>
                  </a:lnTo>
                  <a:lnTo>
                    <a:pt x="202" y="591"/>
                  </a:lnTo>
                  <a:lnTo>
                    <a:pt x="119" y="50"/>
                  </a:lnTo>
                  <a:lnTo>
                    <a:pt x="31" y="8"/>
                  </a:lnTo>
                  <a:lnTo>
                    <a:pt x="119" y="50"/>
                  </a:lnTo>
                  <a:lnTo>
                    <a:pt x="118" y="43"/>
                  </a:lnTo>
                  <a:lnTo>
                    <a:pt x="116" y="37"/>
                  </a:lnTo>
                  <a:lnTo>
                    <a:pt x="113" y="31"/>
                  </a:lnTo>
                  <a:lnTo>
                    <a:pt x="110" y="25"/>
                  </a:lnTo>
                  <a:lnTo>
                    <a:pt x="107" y="20"/>
                  </a:lnTo>
                  <a:lnTo>
                    <a:pt x="103" y="16"/>
                  </a:lnTo>
                  <a:lnTo>
                    <a:pt x="99" y="12"/>
                  </a:lnTo>
                  <a:lnTo>
                    <a:pt x="94" y="9"/>
                  </a:lnTo>
                  <a:lnTo>
                    <a:pt x="89" y="6"/>
                  </a:lnTo>
                  <a:lnTo>
                    <a:pt x="84" y="4"/>
                  </a:lnTo>
                  <a:lnTo>
                    <a:pt x="79" y="2"/>
                  </a:lnTo>
                  <a:lnTo>
                    <a:pt x="74" y="1"/>
                  </a:lnTo>
                  <a:lnTo>
                    <a:pt x="63" y="0"/>
                  </a:lnTo>
                  <a:lnTo>
                    <a:pt x="51" y="0"/>
                  </a:lnTo>
                  <a:lnTo>
                    <a:pt x="41" y="3"/>
                  </a:lnTo>
                  <a:lnTo>
                    <a:pt x="31" y="7"/>
                  </a:lnTo>
                  <a:lnTo>
                    <a:pt x="25" y="10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9" y="26"/>
                  </a:lnTo>
                  <a:lnTo>
                    <a:pt x="6" y="30"/>
                  </a:lnTo>
                  <a:lnTo>
                    <a:pt x="4" y="36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944720" y="5621040"/>
              <a:ext cx="266760" cy="479160"/>
            </a:xfrm>
            <a:custGeom>
              <a:avLst/>
              <a:gdLst/>
              <a:ahLst/>
              <a:rect l="l" t="t" r="r" b="b"/>
              <a:pathLst>
                <a:path w="2185" h="3924">
                  <a:moveTo>
                    <a:pt x="1977" y="3924"/>
                  </a:moveTo>
                  <a:lnTo>
                    <a:pt x="2185" y="3467"/>
                  </a:lnTo>
                  <a:lnTo>
                    <a:pt x="145" y="0"/>
                  </a:lnTo>
                  <a:lnTo>
                    <a:pt x="0" y="544"/>
                  </a:lnTo>
                  <a:lnTo>
                    <a:pt x="1977" y="3924"/>
                  </a:lnTo>
                  <a:close/>
                </a:path>
              </a:pathLst>
            </a:custGeom>
            <a:solidFill>
              <a:srgbClr val="6f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179800" y="6037200"/>
              <a:ext cx="39600" cy="66240"/>
            </a:xfrm>
            <a:custGeom>
              <a:avLst/>
              <a:gdLst/>
              <a:ahLst/>
              <a:rect l="l" t="t" r="r" b="b"/>
              <a:pathLst>
                <a:path w="323" h="543">
                  <a:moveTo>
                    <a:pt x="314" y="30"/>
                  </a:moveTo>
                  <a:lnTo>
                    <a:pt x="208" y="37"/>
                  </a:lnTo>
                  <a:lnTo>
                    <a:pt x="0" y="494"/>
                  </a:lnTo>
                  <a:lnTo>
                    <a:pt x="109" y="543"/>
                  </a:lnTo>
                  <a:lnTo>
                    <a:pt x="317" y="85"/>
                  </a:lnTo>
                  <a:lnTo>
                    <a:pt x="314" y="30"/>
                  </a:lnTo>
                  <a:lnTo>
                    <a:pt x="317" y="85"/>
                  </a:lnTo>
                  <a:lnTo>
                    <a:pt x="319" y="79"/>
                  </a:lnTo>
                  <a:lnTo>
                    <a:pt x="321" y="72"/>
                  </a:lnTo>
                  <a:lnTo>
                    <a:pt x="322" y="66"/>
                  </a:lnTo>
                  <a:lnTo>
                    <a:pt x="323" y="60"/>
                  </a:lnTo>
                  <a:lnTo>
                    <a:pt x="323" y="54"/>
                  </a:lnTo>
                  <a:lnTo>
                    <a:pt x="322" y="48"/>
                  </a:lnTo>
                  <a:lnTo>
                    <a:pt x="320" y="42"/>
                  </a:lnTo>
                  <a:lnTo>
                    <a:pt x="318" y="37"/>
                  </a:lnTo>
                  <a:lnTo>
                    <a:pt x="316" y="32"/>
                  </a:lnTo>
                  <a:lnTo>
                    <a:pt x="313" y="27"/>
                  </a:lnTo>
                  <a:lnTo>
                    <a:pt x="309" y="22"/>
                  </a:lnTo>
                  <a:lnTo>
                    <a:pt x="306" y="18"/>
                  </a:lnTo>
                  <a:lnTo>
                    <a:pt x="297" y="11"/>
                  </a:lnTo>
                  <a:lnTo>
                    <a:pt x="287" y="6"/>
                  </a:lnTo>
                  <a:lnTo>
                    <a:pt x="277" y="2"/>
                  </a:lnTo>
                  <a:lnTo>
                    <a:pt x="265" y="0"/>
                  </a:lnTo>
                  <a:lnTo>
                    <a:pt x="259" y="0"/>
                  </a:lnTo>
                  <a:lnTo>
                    <a:pt x="254" y="1"/>
                  </a:lnTo>
                  <a:lnTo>
                    <a:pt x="248" y="1"/>
                  </a:lnTo>
                  <a:lnTo>
                    <a:pt x="243" y="3"/>
                  </a:lnTo>
                  <a:lnTo>
                    <a:pt x="238" y="5"/>
                  </a:lnTo>
                  <a:lnTo>
                    <a:pt x="233" y="7"/>
                  </a:lnTo>
                  <a:lnTo>
                    <a:pt x="228" y="10"/>
                  </a:lnTo>
                  <a:lnTo>
                    <a:pt x="223" y="14"/>
                  </a:lnTo>
                  <a:lnTo>
                    <a:pt x="219" y="18"/>
                  </a:lnTo>
                  <a:lnTo>
                    <a:pt x="215" y="24"/>
                  </a:lnTo>
                  <a:lnTo>
                    <a:pt x="211" y="29"/>
                  </a:lnTo>
                  <a:lnTo>
                    <a:pt x="208" y="37"/>
                  </a:lnTo>
                  <a:lnTo>
                    <a:pt x="314" y="3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1954080" y="5614920"/>
              <a:ext cx="263520" cy="433080"/>
            </a:xfrm>
            <a:custGeom>
              <a:avLst/>
              <a:gdLst/>
              <a:ahLst/>
              <a:rect l="l" t="t" r="r" b="b"/>
              <a:pathLst>
                <a:path w="2153" h="3558">
                  <a:moveTo>
                    <a:pt x="3" y="46"/>
                  </a:moveTo>
                  <a:lnTo>
                    <a:pt x="9" y="91"/>
                  </a:lnTo>
                  <a:lnTo>
                    <a:pt x="2050" y="3558"/>
                  </a:lnTo>
                  <a:lnTo>
                    <a:pt x="2153" y="3497"/>
                  </a:lnTo>
                  <a:lnTo>
                    <a:pt x="112" y="30"/>
                  </a:lnTo>
                  <a:lnTo>
                    <a:pt x="3" y="46"/>
                  </a:lnTo>
                  <a:lnTo>
                    <a:pt x="112" y="30"/>
                  </a:lnTo>
                  <a:lnTo>
                    <a:pt x="108" y="24"/>
                  </a:lnTo>
                  <a:lnTo>
                    <a:pt x="104" y="18"/>
                  </a:lnTo>
                  <a:lnTo>
                    <a:pt x="100" y="14"/>
                  </a:lnTo>
                  <a:lnTo>
                    <a:pt x="95" y="10"/>
                  </a:lnTo>
                  <a:lnTo>
                    <a:pt x="90" y="7"/>
                  </a:lnTo>
                  <a:lnTo>
                    <a:pt x="85" y="4"/>
                  </a:lnTo>
                  <a:lnTo>
                    <a:pt x="79" y="2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0" y="4"/>
                  </a:lnTo>
                  <a:lnTo>
                    <a:pt x="30" y="9"/>
                  </a:lnTo>
                  <a:lnTo>
                    <a:pt x="21" y="15"/>
                  </a:lnTo>
                  <a:lnTo>
                    <a:pt x="13" y="23"/>
                  </a:lnTo>
                  <a:lnTo>
                    <a:pt x="10" y="27"/>
                  </a:lnTo>
                  <a:lnTo>
                    <a:pt x="7" y="32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6" y="84"/>
                  </a:lnTo>
                  <a:lnTo>
                    <a:pt x="9" y="91"/>
                  </a:lnTo>
                  <a:lnTo>
                    <a:pt x="3" y="46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1936800" y="5619600"/>
              <a:ext cx="31680" cy="75960"/>
            </a:xfrm>
            <a:custGeom>
              <a:avLst/>
              <a:gdLst/>
              <a:ahLst/>
              <a:rect l="l" t="t" r="r" b="b"/>
              <a:pathLst>
                <a:path w="261" h="619">
                  <a:moveTo>
                    <a:pt x="8" y="589"/>
                  </a:moveTo>
                  <a:lnTo>
                    <a:pt x="118" y="574"/>
                  </a:lnTo>
                  <a:lnTo>
                    <a:pt x="261" y="30"/>
                  </a:lnTo>
                  <a:lnTo>
                    <a:pt x="146" y="0"/>
                  </a:lnTo>
                  <a:lnTo>
                    <a:pt x="2" y="544"/>
                  </a:lnTo>
                  <a:lnTo>
                    <a:pt x="8" y="589"/>
                  </a:lnTo>
                  <a:lnTo>
                    <a:pt x="2" y="544"/>
                  </a:lnTo>
                  <a:lnTo>
                    <a:pt x="1" y="551"/>
                  </a:lnTo>
                  <a:lnTo>
                    <a:pt x="0" y="558"/>
                  </a:lnTo>
                  <a:lnTo>
                    <a:pt x="0" y="564"/>
                  </a:lnTo>
                  <a:lnTo>
                    <a:pt x="1" y="570"/>
                  </a:lnTo>
                  <a:lnTo>
                    <a:pt x="2" y="576"/>
                  </a:lnTo>
                  <a:lnTo>
                    <a:pt x="4" y="582"/>
                  </a:lnTo>
                  <a:lnTo>
                    <a:pt x="6" y="587"/>
                  </a:lnTo>
                  <a:lnTo>
                    <a:pt x="9" y="592"/>
                  </a:lnTo>
                  <a:lnTo>
                    <a:pt x="12" y="596"/>
                  </a:lnTo>
                  <a:lnTo>
                    <a:pt x="16" y="600"/>
                  </a:lnTo>
                  <a:lnTo>
                    <a:pt x="20" y="604"/>
                  </a:lnTo>
                  <a:lnTo>
                    <a:pt x="24" y="608"/>
                  </a:lnTo>
                  <a:lnTo>
                    <a:pt x="34" y="614"/>
                  </a:lnTo>
                  <a:lnTo>
                    <a:pt x="44" y="617"/>
                  </a:lnTo>
                  <a:lnTo>
                    <a:pt x="55" y="619"/>
                  </a:lnTo>
                  <a:lnTo>
                    <a:pt x="66" y="619"/>
                  </a:lnTo>
                  <a:lnTo>
                    <a:pt x="72" y="619"/>
                  </a:lnTo>
                  <a:lnTo>
                    <a:pt x="77" y="617"/>
                  </a:lnTo>
                  <a:lnTo>
                    <a:pt x="82" y="616"/>
                  </a:lnTo>
                  <a:lnTo>
                    <a:pt x="87" y="613"/>
                  </a:lnTo>
                  <a:lnTo>
                    <a:pt x="93" y="611"/>
                  </a:lnTo>
                  <a:lnTo>
                    <a:pt x="98" y="607"/>
                  </a:lnTo>
                  <a:lnTo>
                    <a:pt x="102" y="602"/>
                  </a:lnTo>
                  <a:lnTo>
                    <a:pt x="106" y="598"/>
                  </a:lnTo>
                  <a:lnTo>
                    <a:pt x="110" y="593"/>
                  </a:lnTo>
                  <a:lnTo>
                    <a:pt x="113" y="587"/>
                  </a:lnTo>
                  <a:lnTo>
                    <a:pt x="116" y="581"/>
                  </a:lnTo>
                  <a:lnTo>
                    <a:pt x="118" y="574"/>
                  </a:lnTo>
                  <a:lnTo>
                    <a:pt x="8" y="589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1938240" y="5684760"/>
              <a:ext cx="255600" cy="423360"/>
            </a:xfrm>
            <a:custGeom>
              <a:avLst/>
              <a:gdLst/>
              <a:ahLst/>
              <a:rect l="l" t="t" r="r" b="b"/>
              <a:pathLst>
                <a:path w="2089" h="3471">
                  <a:moveTo>
                    <a:pt x="2083" y="3435"/>
                  </a:moveTo>
                  <a:lnTo>
                    <a:pt x="2080" y="3380"/>
                  </a:lnTo>
                  <a:lnTo>
                    <a:pt x="104" y="0"/>
                  </a:lnTo>
                  <a:lnTo>
                    <a:pt x="0" y="60"/>
                  </a:lnTo>
                  <a:lnTo>
                    <a:pt x="1977" y="3441"/>
                  </a:lnTo>
                  <a:lnTo>
                    <a:pt x="2083" y="3435"/>
                  </a:lnTo>
                  <a:lnTo>
                    <a:pt x="1977" y="3441"/>
                  </a:lnTo>
                  <a:lnTo>
                    <a:pt x="1981" y="3447"/>
                  </a:lnTo>
                  <a:lnTo>
                    <a:pt x="1985" y="3452"/>
                  </a:lnTo>
                  <a:lnTo>
                    <a:pt x="1989" y="3457"/>
                  </a:lnTo>
                  <a:lnTo>
                    <a:pt x="1994" y="3461"/>
                  </a:lnTo>
                  <a:lnTo>
                    <a:pt x="1999" y="3464"/>
                  </a:lnTo>
                  <a:lnTo>
                    <a:pt x="2004" y="3467"/>
                  </a:lnTo>
                  <a:lnTo>
                    <a:pt x="2010" y="3469"/>
                  </a:lnTo>
                  <a:lnTo>
                    <a:pt x="2015" y="3470"/>
                  </a:lnTo>
                  <a:lnTo>
                    <a:pt x="2021" y="3471"/>
                  </a:lnTo>
                  <a:lnTo>
                    <a:pt x="2026" y="3471"/>
                  </a:lnTo>
                  <a:lnTo>
                    <a:pt x="2032" y="3471"/>
                  </a:lnTo>
                  <a:lnTo>
                    <a:pt x="2037" y="3470"/>
                  </a:lnTo>
                  <a:lnTo>
                    <a:pt x="2048" y="3467"/>
                  </a:lnTo>
                  <a:lnTo>
                    <a:pt x="2059" y="3462"/>
                  </a:lnTo>
                  <a:lnTo>
                    <a:pt x="2068" y="3456"/>
                  </a:lnTo>
                  <a:lnTo>
                    <a:pt x="2076" y="3448"/>
                  </a:lnTo>
                  <a:lnTo>
                    <a:pt x="2079" y="3444"/>
                  </a:lnTo>
                  <a:lnTo>
                    <a:pt x="2082" y="3439"/>
                  </a:lnTo>
                  <a:lnTo>
                    <a:pt x="2085" y="3434"/>
                  </a:lnTo>
                  <a:lnTo>
                    <a:pt x="2087" y="3428"/>
                  </a:lnTo>
                  <a:lnTo>
                    <a:pt x="2088" y="3423"/>
                  </a:lnTo>
                  <a:lnTo>
                    <a:pt x="2089" y="3417"/>
                  </a:lnTo>
                  <a:lnTo>
                    <a:pt x="2089" y="3411"/>
                  </a:lnTo>
                  <a:lnTo>
                    <a:pt x="2089" y="3405"/>
                  </a:lnTo>
                  <a:lnTo>
                    <a:pt x="2088" y="3399"/>
                  </a:lnTo>
                  <a:lnTo>
                    <a:pt x="2086" y="3393"/>
                  </a:lnTo>
                  <a:lnTo>
                    <a:pt x="2083" y="3387"/>
                  </a:lnTo>
                  <a:lnTo>
                    <a:pt x="2080" y="3380"/>
                  </a:lnTo>
                  <a:lnTo>
                    <a:pt x="2083" y="3435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655640" y="5688000"/>
              <a:ext cx="530280" cy="577440"/>
            </a:xfrm>
            <a:custGeom>
              <a:avLst/>
              <a:gdLst/>
              <a:ahLst/>
              <a:rect l="l" t="t" r="r" b="b"/>
              <a:pathLst>
                <a:path w="4344" h="4726">
                  <a:moveTo>
                    <a:pt x="0" y="1328"/>
                  </a:moveTo>
                  <a:lnTo>
                    <a:pt x="1971" y="4726"/>
                  </a:lnTo>
                  <a:lnTo>
                    <a:pt x="4344" y="3380"/>
                  </a:lnTo>
                  <a:lnTo>
                    <a:pt x="2367" y="0"/>
                  </a:lnTo>
                  <a:lnTo>
                    <a:pt x="0" y="1328"/>
                  </a:lnTo>
                  <a:close/>
                </a:path>
              </a:pathLst>
            </a:custGeom>
            <a:solidFill>
              <a:srgbClr val="b3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1649520" y="5846760"/>
              <a:ext cx="253800" cy="424800"/>
            </a:xfrm>
            <a:custGeom>
              <a:avLst/>
              <a:gdLst/>
              <a:ahLst/>
              <a:rect l="l" t="t" r="r" b="b"/>
              <a:pathLst>
                <a:path w="2085" h="3488">
                  <a:moveTo>
                    <a:pt x="2053" y="3480"/>
                  </a:moveTo>
                  <a:lnTo>
                    <a:pt x="2075" y="3398"/>
                  </a:lnTo>
                  <a:lnTo>
                    <a:pt x="105" y="0"/>
                  </a:lnTo>
                  <a:lnTo>
                    <a:pt x="0" y="59"/>
                  </a:lnTo>
                  <a:lnTo>
                    <a:pt x="1971" y="3458"/>
                  </a:lnTo>
                  <a:lnTo>
                    <a:pt x="2053" y="3480"/>
                  </a:lnTo>
                  <a:lnTo>
                    <a:pt x="1971" y="3458"/>
                  </a:lnTo>
                  <a:lnTo>
                    <a:pt x="1975" y="3464"/>
                  </a:lnTo>
                  <a:lnTo>
                    <a:pt x="1980" y="3469"/>
                  </a:lnTo>
                  <a:lnTo>
                    <a:pt x="1985" y="3474"/>
                  </a:lnTo>
                  <a:lnTo>
                    <a:pt x="1990" y="3478"/>
                  </a:lnTo>
                  <a:lnTo>
                    <a:pt x="1995" y="3481"/>
                  </a:lnTo>
                  <a:lnTo>
                    <a:pt x="2000" y="3484"/>
                  </a:lnTo>
                  <a:lnTo>
                    <a:pt x="2005" y="3486"/>
                  </a:lnTo>
                  <a:lnTo>
                    <a:pt x="2011" y="3487"/>
                  </a:lnTo>
                  <a:lnTo>
                    <a:pt x="2016" y="3488"/>
                  </a:lnTo>
                  <a:lnTo>
                    <a:pt x="2022" y="3488"/>
                  </a:lnTo>
                  <a:lnTo>
                    <a:pt x="2027" y="3488"/>
                  </a:lnTo>
                  <a:lnTo>
                    <a:pt x="2033" y="3487"/>
                  </a:lnTo>
                  <a:lnTo>
                    <a:pt x="2043" y="3484"/>
                  </a:lnTo>
                  <a:lnTo>
                    <a:pt x="2053" y="3479"/>
                  </a:lnTo>
                  <a:lnTo>
                    <a:pt x="2062" y="3473"/>
                  </a:lnTo>
                  <a:lnTo>
                    <a:pt x="2070" y="3465"/>
                  </a:lnTo>
                  <a:lnTo>
                    <a:pt x="2074" y="3461"/>
                  </a:lnTo>
                  <a:lnTo>
                    <a:pt x="2078" y="3456"/>
                  </a:lnTo>
                  <a:lnTo>
                    <a:pt x="2080" y="3451"/>
                  </a:lnTo>
                  <a:lnTo>
                    <a:pt x="2082" y="3446"/>
                  </a:lnTo>
                  <a:lnTo>
                    <a:pt x="2084" y="3441"/>
                  </a:lnTo>
                  <a:lnTo>
                    <a:pt x="2084" y="3435"/>
                  </a:lnTo>
                  <a:lnTo>
                    <a:pt x="2085" y="3430"/>
                  </a:lnTo>
                  <a:lnTo>
                    <a:pt x="2084" y="3423"/>
                  </a:lnTo>
                  <a:lnTo>
                    <a:pt x="2083" y="3416"/>
                  </a:lnTo>
                  <a:lnTo>
                    <a:pt x="2082" y="3410"/>
                  </a:lnTo>
                  <a:lnTo>
                    <a:pt x="2079" y="3404"/>
                  </a:lnTo>
                  <a:lnTo>
                    <a:pt x="2075" y="3398"/>
                  </a:lnTo>
                  <a:lnTo>
                    <a:pt x="2053" y="348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892160" y="6092640"/>
              <a:ext cx="301680" cy="178920"/>
            </a:xfrm>
            <a:custGeom>
              <a:avLst/>
              <a:gdLst/>
              <a:ahLst/>
              <a:rect l="l" t="t" r="r" b="b"/>
              <a:pathLst>
                <a:path w="2464" h="1458">
                  <a:moveTo>
                    <a:pt x="2455" y="30"/>
                  </a:moveTo>
                  <a:lnTo>
                    <a:pt x="2374" y="9"/>
                  </a:lnTo>
                  <a:lnTo>
                    <a:pt x="0" y="1354"/>
                  </a:lnTo>
                  <a:lnTo>
                    <a:pt x="59" y="1458"/>
                  </a:lnTo>
                  <a:lnTo>
                    <a:pt x="2432" y="113"/>
                  </a:lnTo>
                  <a:lnTo>
                    <a:pt x="2455" y="30"/>
                  </a:lnTo>
                  <a:lnTo>
                    <a:pt x="2432" y="113"/>
                  </a:lnTo>
                  <a:lnTo>
                    <a:pt x="2439" y="109"/>
                  </a:lnTo>
                  <a:lnTo>
                    <a:pt x="2444" y="105"/>
                  </a:lnTo>
                  <a:lnTo>
                    <a:pt x="2449" y="100"/>
                  </a:lnTo>
                  <a:lnTo>
                    <a:pt x="2453" y="95"/>
                  </a:lnTo>
                  <a:lnTo>
                    <a:pt x="2456" y="90"/>
                  </a:lnTo>
                  <a:lnTo>
                    <a:pt x="2459" y="85"/>
                  </a:lnTo>
                  <a:lnTo>
                    <a:pt x="2461" y="79"/>
                  </a:lnTo>
                  <a:lnTo>
                    <a:pt x="2463" y="74"/>
                  </a:lnTo>
                  <a:lnTo>
                    <a:pt x="2463" y="68"/>
                  </a:lnTo>
                  <a:lnTo>
                    <a:pt x="2464" y="63"/>
                  </a:lnTo>
                  <a:lnTo>
                    <a:pt x="2464" y="57"/>
                  </a:lnTo>
                  <a:lnTo>
                    <a:pt x="2463" y="52"/>
                  </a:lnTo>
                  <a:lnTo>
                    <a:pt x="2460" y="41"/>
                  </a:lnTo>
                  <a:lnTo>
                    <a:pt x="2455" y="31"/>
                  </a:lnTo>
                  <a:lnTo>
                    <a:pt x="2449" y="22"/>
                  </a:lnTo>
                  <a:lnTo>
                    <a:pt x="2441" y="14"/>
                  </a:lnTo>
                  <a:lnTo>
                    <a:pt x="2437" y="11"/>
                  </a:lnTo>
                  <a:lnTo>
                    <a:pt x="2431" y="8"/>
                  </a:lnTo>
                  <a:lnTo>
                    <a:pt x="2427" y="5"/>
                  </a:lnTo>
                  <a:lnTo>
                    <a:pt x="2421" y="3"/>
                  </a:lnTo>
                  <a:lnTo>
                    <a:pt x="2416" y="1"/>
                  </a:lnTo>
                  <a:lnTo>
                    <a:pt x="2410" y="0"/>
                  </a:lnTo>
                  <a:lnTo>
                    <a:pt x="2405" y="0"/>
                  </a:lnTo>
                  <a:lnTo>
                    <a:pt x="2399" y="0"/>
                  </a:lnTo>
                  <a:lnTo>
                    <a:pt x="2393" y="1"/>
                  </a:lnTo>
                  <a:lnTo>
                    <a:pt x="2386" y="3"/>
                  </a:lnTo>
                  <a:lnTo>
                    <a:pt x="2380" y="5"/>
                  </a:lnTo>
                  <a:lnTo>
                    <a:pt x="2374" y="9"/>
                  </a:lnTo>
                  <a:lnTo>
                    <a:pt x="2455" y="3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936800" y="5680080"/>
              <a:ext cx="255600" cy="423360"/>
            </a:xfrm>
            <a:custGeom>
              <a:avLst/>
              <a:gdLst/>
              <a:ahLst/>
              <a:rect l="l" t="t" r="r" b="b"/>
              <a:pathLst>
                <a:path w="2089" h="3472">
                  <a:moveTo>
                    <a:pt x="32" y="10"/>
                  </a:moveTo>
                  <a:lnTo>
                    <a:pt x="9" y="91"/>
                  </a:lnTo>
                  <a:lnTo>
                    <a:pt x="1986" y="3472"/>
                  </a:lnTo>
                  <a:lnTo>
                    <a:pt x="2089" y="3411"/>
                  </a:lnTo>
                  <a:lnTo>
                    <a:pt x="113" y="31"/>
                  </a:lnTo>
                  <a:lnTo>
                    <a:pt x="32" y="10"/>
                  </a:lnTo>
                  <a:lnTo>
                    <a:pt x="113" y="31"/>
                  </a:lnTo>
                  <a:lnTo>
                    <a:pt x="109" y="25"/>
                  </a:lnTo>
                  <a:lnTo>
                    <a:pt x="104" y="20"/>
                  </a:lnTo>
                  <a:lnTo>
                    <a:pt x="100" y="15"/>
                  </a:lnTo>
                  <a:lnTo>
                    <a:pt x="95" y="11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1" y="4"/>
                  </a:lnTo>
                  <a:lnTo>
                    <a:pt x="31" y="10"/>
                  </a:lnTo>
                  <a:lnTo>
                    <a:pt x="21" y="16"/>
                  </a:lnTo>
                  <a:lnTo>
                    <a:pt x="14" y="24"/>
                  </a:lnTo>
                  <a:lnTo>
                    <a:pt x="10" y="29"/>
                  </a:lnTo>
                  <a:lnTo>
                    <a:pt x="7" y="33"/>
                  </a:lnTo>
                  <a:lnTo>
                    <a:pt x="5" y="38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6" y="85"/>
                  </a:lnTo>
                  <a:lnTo>
                    <a:pt x="9" y="91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647720" y="5681520"/>
              <a:ext cx="300240" cy="176040"/>
            </a:xfrm>
            <a:custGeom>
              <a:avLst/>
              <a:gdLst/>
              <a:ahLst/>
              <a:rect l="l" t="t" r="r" b="b"/>
              <a:pathLst>
                <a:path w="2457" h="1440">
                  <a:moveTo>
                    <a:pt x="8" y="1408"/>
                  </a:moveTo>
                  <a:lnTo>
                    <a:pt x="90" y="1431"/>
                  </a:lnTo>
                  <a:lnTo>
                    <a:pt x="2457" y="104"/>
                  </a:lnTo>
                  <a:lnTo>
                    <a:pt x="2400" y="0"/>
                  </a:lnTo>
                  <a:lnTo>
                    <a:pt x="32" y="1327"/>
                  </a:lnTo>
                  <a:lnTo>
                    <a:pt x="8" y="1408"/>
                  </a:lnTo>
                  <a:lnTo>
                    <a:pt x="32" y="1327"/>
                  </a:lnTo>
                  <a:lnTo>
                    <a:pt x="26" y="1331"/>
                  </a:lnTo>
                  <a:lnTo>
                    <a:pt x="20" y="1335"/>
                  </a:lnTo>
                  <a:lnTo>
                    <a:pt x="15" y="1339"/>
                  </a:lnTo>
                  <a:lnTo>
                    <a:pt x="11" y="1344"/>
                  </a:lnTo>
                  <a:lnTo>
                    <a:pt x="7" y="1349"/>
                  </a:lnTo>
                  <a:lnTo>
                    <a:pt x="5" y="1354"/>
                  </a:lnTo>
                  <a:lnTo>
                    <a:pt x="2" y="1359"/>
                  </a:lnTo>
                  <a:lnTo>
                    <a:pt x="1" y="1365"/>
                  </a:lnTo>
                  <a:lnTo>
                    <a:pt x="0" y="1370"/>
                  </a:lnTo>
                  <a:lnTo>
                    <a:pt x="0" y="1376"/>
                  </a:lnTo>
                  <a:lnTo>
                    <a:pt x="0" y="1381"/>
                  </a:lnTo>
                  <a:lnTo>
                    <a:pt x="1" y="1387"/>
                  </a:lnTo>
                  <a:lnTo>
                    <a:pt x="3" y="1398"/>
                  </a:lnTo>
                  <a:lnTo>
                    <a:pt x="8" y="1408"/>
                  </a:lnTo>
                  <a:lnTo>
                    <a:pt x="14" y="1417"/>
                  </a:lnTo>
                  <a:lnTo>
                    <a:pt x="23" y="1426"/>
                  </a:lnTo>
                  <a:lnTo>
                    <a:pt x="27" y="1429"/>
                  </a:lnTo>
                  <a:lnTo>
                    <a:pt x="32" y="1432"/>
                  </a:lnTo>
                  <a:lnTo>
                    <a:pt x="37" y="1435"/>
                  </a:lnTo>
                  <a:lnTo>
                    <a:pt x="42" y="1437"/>
                  </a:lnTo>
                  <a:lnTo>
                    <a:pt x="47" y="1438"/>
                  </a:lnTo>
                  <a:lnTo>
                    <a:pt x="53" y="1439"/>
                  </a:lnTo>
                  <a:lnTo>
                    <a:pt x="59" y="1440"/>
                  </a:lnTo>
                  <a:lnTo>
                    <a:pt x="65" y="1440"/>
                  </a:lnTo>
                  <a:lnTo>
                    <a:pt x="71" y="1439"/>
                  </a:lnTo>
                  <a:lnTo>
                    <a:pt x="77" y="1437"/>
                  </a:lnTo>
                  <a:lnTo>
                    <a:pt x="83" y="1435"/>
                  </a:lnTo>
                  <a:lnTo>
                    <a:pt x="90" y="1431"/>
                  </a:lnTo>
                  <a:lnTo>
                    <a:pt x="8" y="1408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1655640" y="5621040"/>
              <a:ext cx="306360" cy="228240"/>
            </a:xfrm>
            <a:custGeom>
              <a:avLst/>
              <a:gdLst/>
              <a:ahLst/>
              <a:rect l="l" t="t" r="r" b="b"/>
              <a:pathLst>
                <a:path w="2512" h="1872">
                  <a:moveTo>
                    <a:pt x="138" y="1400"/>
                  </a:moveTo>
                  <a:lnTo>
                    <a:pt x="2512" y="0"/>
                  </a:lnTo>
                  <a:lnTo>
                    <a:pt x="2367" y="544"/>
                  </a:lnTo>
                  <a:lnTo>
                    <a:pt x="0" y="1872"/>
                  </a:lnTo>
                  <a:lnTo>
                    <a:pt x="138" y="1400"/>
                  </a:lnTo>
                  <a:close/>
                </a:path>
              </a:pathLst>
            </a:custGeom>
            <a:solidFill>
              <a:srgbClr val="949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668600" y="5613120"/>
              <a:ext cx="301320" cy="185400"/>
            </a:xfrm>
            <a:custGeom>
              <a:avLst/>
              <a:gdLst/>
              <a:ahLst/>
              <a:rect l="l" t="t" r="r" b="b"/>
              <a:pathLst>
                <a:path w="2464" h="1514">
                  <a:moveTo>
                    <a:pt x="2461" y="77"/>
                  </a:moveTo>
                  <a:lnTo>
                    <a:pt x="2373" y="10"/>
                  </a:lnTo>
                  <a:lnTo>
                    <a:pt x="0" y="1411"/>
                  </a:lnTo>
                  <a:lnTo>
                    <a:pt x="61" y="1514"/>
                  </a:lnTo>
                  <a:lnTo>
                    <a:pt x="2434" y="113"/>
                  </a:lnTo>
                  <a:lnTo>
                    <a:pt x="2461" y="77"/>
                  </a:lnTo>
                  <a:lnTo>
                    <a:pt x="2434" y="113"/>
                  </a:lnTo>
                  <a:lnTo>
                    <a:pt x="2440" y="109"/>
                  </a:lnTo>
                  <a:lnTo>
                    <a:pt x="2446" y="104"/>
                  </a:lnTo>
                  <a:lnTo>
                    <a:pt x="2450" y="100"/>
                  </a:lnTo>
                  <a:lnTo>
                    <a:pt x="2454" y="95"/>
                  </a:lnTo>
                  <a:lnTo>
                    <a:pt x="2457" y="90"/>
                  </a:lnTo>
                  <a:lnTo>
                    <a:pt x="2460" y="85"/>
                  </a:lnTo>
                  <a:lnTo>
                    <a:pt x="2462" y="80"/>
                  </a:lnTo>
                  <a:lnTo>
                    <a:pt x="2463" y="74"/>
                  </a:lnTo>
                  <a:lnTo>
                    <a:pt x="2464" y="69"/>
                  </a:lnTo>
                  <a:lnTo>
                    <a:pt x="2464" y="63"/>
                  </a:lnTo>
                  <a:lnTo>
                    <a:pt x="2464" y="58"/>
                  </a:lnTo>
                  <a:lnTo>
                    <a:pt x="2463" y="52"/>
                  </a:lnTo>
                  <a:lnTo>
                    <a:pt x="2460" y="41"/>
                  </a:lnTo>
                  <a:lnTo>
                    <a:pt x="2455" y="31"/>
                  </a:lnTo>
                  <a:lnTo>
                    <a:pt x="2449" y="21"/>
                  </a:lnTo>
                  <a:lnTo>
                    <a:pt x="2441" y="14"/>
                  </a:lnTo>
                  <a:lnTo>
                    <a:pt x="2437" y="10"/>
                  </a:lnTo>
                  <a:lnTo>
                    <a:pt x="2432" y="7"/>
                  </a:lnTo>
                  <a:lnTo>
                    <a:pt x="2427" y="5"/>
                  </a:lnTo>
                  <a:lnTo>
                    <a:pt x="2422" y="3"/>
                  </a:lnTo>
                  <a:lnTo>
                    <a:pt x="2416" y="2"/>
                  </a:lnTo>
                  <a:lnTo>
                    <a:pt x="2411" y="1"/>
                  </a:lnTo>
                  <a:lnTo>
                    <a:pt x="2405" y="0"/>
                  </a:lnTo>
                  <a:lnTo>
                    <a:pt x="2399" y="1"/>
                  </a:lnTo>
                  <a:lnTo>
                    <a:pt x="2393" y="2"/>
                  </a:lnTo>
                  <a:lnTo>
                    <a:pt x="2387" y="4"/>
                  </a:lnTo>
                  <a:lnTo>
                    <a:pt x="2379" y="6"/>
                  </a:lnTo>
                  <a:lnTo>
                    <a:pt x="2373" y="10"/>
                  </a:lnTo>
                  <a:lnTo>
                    <a:pt x="2461" y="77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936800" y="5619600"/>
              <a:ext cx="31680" cy="75960"/>
            </a:xfrm>
            <a:custGeom>
              <a:avLst/>
              <a:gdLst/>
              <a:ahLst/>
              <a:rect l="l" t="t" r="r" b="b"/>
              <a:pathLst>
                <a:path w="261" h="619">
                  <a:moveTo>
                    <a:pt x="88" y="612"/>
                  </a:moveTo>
                  <a:lnTo>
                    <a:pt x="118" y="574"/>
                  </a:lnTo>
                  <a:lnTo>
                    <a:pt x="261" y="30"/>
                  </a:lnTo>
                  <a:lnTo>
                    <a:pt x="146" y="0"/>
                  </a:lnTo>
                  <a:lnTo>
                    <a:pt x="2" y="544"/>
                  </a:lnTo>
                  <a:lnTo>
                    <a:pt x="88" y="612"/>
                  </a:lnTo>
                  <a:lnTo>
                    <a:pt x="2" y="544"/>
                  </a:lnTo>
                  <a:lnTo>
                    <a:pt x="1" y="551"/>
                  </a:lnTo>
                  <a:lnTo>
                    <a:pt x="0" y="558"/>
                  </a:lnTo>
                  <a:lnTo>
                    <a:pt x="0" y="564"/>
                  </a:lnTo>
                  <a:lnTo>
                    <a:pt x="1" y="570"/>
                  </a:lnTo>
                  <a:lnTo>
                    <a:pt x="2" y="576"/>
                  </a:lnTo>
                  <a:lnTo>
                    <a:pt x="4" y="582"/>
                  </a:lnTo>
                  <a:lnTo>
                    <a:pt x="6" y="587"/>
                  </a:lnTo>
                  <a:lnTo>
                    <a:pt x="9" y="592"/>
                  </a:lnTo>
                  <a:lnTo>
                    <a:pt x="12" y="596"/>
                  </a:lnTo>
                  <a:lnTo>
                    <a:pt x="16" y="600"/>
                  </a:lnTo>
                  <a:lnTo>
                    <a:pt x="20" y="604"/>
                  </a:lnTo>
                  <a:lnTo>
                    <a:pt x="24" y="608"/>
                  </a:lnTo>
                  <a:lnTo>
                    <a:pt x="34" y="614"/>
                  </a:lnTo>
                  <a:lnTo>
                    <a:pt x="44" y="617"/>
                  </a:lnTo>
                  <a:lnTo>
                    <a:pt x="55" y="619"/>
                  </a:lnTo>
                  <a:lnTo>
                    <a:pt x="66" y="619"/>
                  </a:lnTo>
                  <a:lnTo>
                    <a:pt x="72" y="619"/>
                  </a:lnTo>
                  <a:lnTo>
                    <a:pt x="77" y="617"/>
                  </a:lnTo>
                  <a:lnTo>
                    <a:pt x="82" y="616"/>
                  </a:lnTo>
                  <a:lnTo>
                    <a:pt x="87" y="613"/>
                  </a:lnTo>
                  <a:lnTo>
                    <a:pt x="93" y="611"/>
                  </a:lnTo>
                  <a:lnTo>
                    <a:pt x="98" y="607"/>
                  </a:lnTo>
                  <a:lnTo>
                    <a:pt x="102" y="602"/>
                  </a:lnTo>
                  <a:lnTo>
                    <a:pt x="106" y="598"/>
                  </a:lnTo>
                  <a:lnTo>
                    <a:pt x="110" y="593"/>
                  </a:lnTo>
                  <a:lnTo>
                    <a:pt x="113" y="587"/>
                  </a:lnTo>
                  <a:lnTo>
                    <a:pt x="116" y="581"/>
                  </a:lnTo>
                  <a:lnTo>
                    <a:pt x="118" y="574"/>
                  </a:lnTo>
                  <a:lnTo>
                    <a:pt x="88" y="612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647720" y="5681520"/>
              <a:ext cx="300240" cy="176040"/>
            </a:xfrm>
            <a:custGeom>
              <a:avLst/>
              <a:gdLst/>
              <a:ahLst/>
              <a:rect l="l" t="t" r="r" b="b"/>
              <a:pathLst>
                <a:path w="2457" h="1440">
                  <a:moveTo>
                    <a:pt x="3" y="1362"/>
                  </a:moveTo>
                  <a:lnTo>
                    <a:pt x="90" y="1431"/>
                  </a:lnTo>
                  <a:lnTo>
                    <a:pt x="2457" y="104"/>
                  </a:lnTo>
                  <a:lnTo>
                    <a:pt x="2400" y="0"/>
                  </a:lnTo>
                  <a:lnTo>
                    <a:pt x="32" y="1327"/>
                  </a:lnTo>
                  <a:lnTo>
                    <a:pt x="3" y="1362"/>
                  </a:lnTo>
                  <a:lnTo>
                    <a:pt x="32" y="1327"/>
                  </a:lnTo>
                  <a:lnTo>
                    <a:pt x="26" y="1331"/>
                  </a:lnTo>
                  <a:lnTo>
                    <a:pt x="20" y="1335"/>
                  </a:lnTo>
                  <a:lnTo>
                    <a:pt x="15" y="1339"/>
                  </a:lnTo>
                  <a:lnTo>
                    <a:pt x="11" y="1344"/>
                  </a:lnTo>
                  <a:lnTo>
                    <a:pt x="7" y="1349"/>
                  </a:lnTo>
                  <a:lnTo>
                    <a:pt x="5" y="1354"/>
                  </a:lnTo>
                  <a:lnTo>
                    <a:pt x="2" y="1359"/>
                  </a:lnTo>
                  <a:lnTo>
                    <a:pt x="1" y="1365"/>
                  </a:lnTo>
                  <a:lnTo>
                    <a:pt x="0" y="1370"/>
                  </a:lnTo>
                  <a:lnTo>
                    <a:pt x="0" y="1376"/>
                  </a:lnTo>
                  <a:lnTo>
                    <a:pt x="0" y="1381"/>
                  </a:lnTo>
                  <a:lnTo>
                    <a:pt x="1" y="1387"/>
                  </a:lnTo>
                  <a:lnTo>
                    <a:pt x="3" y="1398"/>
                  </a:lnTo>
                  <a:lnTo>
                    <a:pt x="8" y="1408"/>
                  </a:lnTo>
                  <a:lnTo>
                    <a:pt x="14" y="1417"/>
                  </a:lnTo>
                  <a:lnTo>
                    <a:pt x="23" y="1426"/>
                  </a:lnTo>
                  <a:lnTo>
                    <a:pt x="27" y="1429"/>
                  </a:lnTo>
                  <a:lnTo>
                    <a:pt x="32" y="1432"/>
                  </a:lnTo>
                  <a:lnTo>
                    <a:pt x="37" y="1435"/>
                  </a:lnTo>
                  <a:lnTo>
                    <a:pt x="42" y="1437"/>
                  </a:lnTo>
                  <a:lnTo>
                    <a:pt x="47" y="1438"/>
                  </a:lnTo>
                  <a:lnTo>
                    <a:pt x="53" y="1439"/>
                  </a:lnTo>
                  <a:lnTo>
                    <a:pt x="59" y="1440"/>
                  </a:lnTo>
                  <a:lnTo>
                    <a:pt x="65" y="1440"/>
                  </a:lnTo>
                  <a:lnTo>
                    <a:pt x="71" y="1439"/>
                  </a:lnTo>
                  <a:lnTo>
                    <a:pt x="77" y="1437"/>
                  </a:lnTo>
                  <a:lnTo>
                    <a:pt x="83" y="1435"/>
                  </a:lnTo>
                  <a:lnTo>
                    <a:pt x="90" y="1431"/>
                  </a:lnTo>
                  <a:lnTo>
                    <a:pt x="3" y="1362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647720" y="5784840"/>
              <a:ext cx="31680" cy="66240"/>
            </a:xfrm>
            <a:custGeom>
              <a:avLst/>
              <a:gdLst/>
              <a:ahLst/>
              <a:rect l="l" t="t" r="r" b="b"/>
              <a:pathLst>
                <a:path w="257" h="548">
                  <a:moveTo>
                    <a:pt x="166" y="9"/>
                  </a:moveTo>
                  <a:lnTo>
                    <a:pt x="139" y="43"/>
                  </a:lnTo>
                  <a:lnTo>
                    <a:pt x="0" y="515"/>
                  </a:lnTo>
                  <a:lnTo>
                    <a:pt x="115" y="548"/>
                  </a:lnTo>
                  <a:lnTo>
                    <a:pt x="254" y="77"/>
                  </a:lnTo>
                  <a:lnTo>
                    <a:pt x="166" y="9"/>
                  </a:lnTo>
                  <a:lnTo>
                    <a:pt x="254" y="77"/>
                  </a:lnTo>
                  <a:lnTo>
                    <a:pt x="255" y="70"/>
                  </a:lnTo>
                  <a:lnTo>
                    <a:pt x="256" y="63"/>
                  </a:lnTo>
                  <a:lnTo>
                    <a:pt x="257" y="56"/>
                  </a:lnTo>
                  <a:lnTo>
                    <a:pt x="256" y="50"/>
                  </a:lnTo>
                  <a:lnTo>
                    <a:pt x="255" y="44"/>
                  </a:lnTo>
                  <a:lnTo>
                    <a:pt x="253" y="39"/>
                  </a:lnTo>
                  <a:lnTo>
                    <a:pt x="251" y="33"/>
                  </a:lnTo>
                  <a:lnTo>
                    <a:pt x="249" y="29"/>
                  </a:lnTo>
                  <a:lnTo>
                    <a:pt x="245" y="24"/>
                  </a:lnTo>
                  <a:lnTo>
                    <a:pt x="242" y="20"/>
                  </a:lnTo>
                  <a:lnTo>
                    <a:pt x="238" y="16"/>
                  </a:lnTo>
                  <a:lnTo>
                    <a:pt x="233" y="13"/>
                  </a:lnTo>
                  <a:lnTo>
                    <a:pt x="224" y="7"/>
                  </a:lnTo>
                  <a:lnTo>
                    <a:pt x="214" y="3"/>
                  </a:lnTo>
                  <a:lnTo>
                    <a:pt x="203" y="1"/>
                  </a:lnTo>
                  <a:lnTo>
                    <a:pt x="191" y="0"/>
                  </a:lnTo>
                  <a:lnTo>
                    <a:pt x="185" y="1"/>
                  </a:lnTo>
                  <a:lnTo>
                    <a:pt x="180" y="2"/>
                  </a:lnTo>
                  <a:lnTo>
                    <a:pt x="175" y="4"/>
                  </a:lnTo>
                  <a:lnTo>
                    <a:pt x="169" y="6"/>
                  </a:lnTo>
                  <a:lnTo>
                    <a:pt x="165" y="8"/>
                  </a:lnTo>
                  <a:lnTo>
                    <a:pt x="160" y="12"/>
                  </a:lnTo>
                  <a:lnTo>
                    <a:pt x="155" y="15"/>
                  </a:lnTo>
                  <a:lnTo>
                    <a:pt x="151" y="20"/>
                  </a:lnTo>
                  <a:lnTo>
                    <a:pt x="148" y="25"/>
                  </a:lnTo>
                  <a:lnTo>
                    <a:pt x="144" y="30"/>
                  </a:lnTo>
                  <a:lnTo>
                    <a:pt x="142" y="36"/>
                  </a:lnTo>
                  <a:lnTo>
                    <a:pt x="139" y="43"/>
                  </a:lnTo>
                  <a:lnTo>
                    <a:pt x="166" y="9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212920" y="5608440"/>
              <a:ext cx="135000" cy="253800"/>
            </a:xfrm>
            <a:custGeom>
              <a:avLst/>
              <a:gdLst/>
              <a:ahLst/>
              <a:rect l="l" t="t" r="r" b="b"/>
              <a:pathLst>
                <a:path w="1107" h="2080">
                  <a:moveTo>
                    <a:pt x="969" y="2080"/>
                  </a:moveTo>
                  <a:lnTo>
                    <a:pt x="1107" y="1705"/>
                  </a:lnTo>
                  <a:lnTo>
                    <a:pt x="122" y="0"/>
                  </a:lnTo>
                  <a:lnTo>
                    <a:pt x="0" y="336"/>
                  </a:lnTo>
                  <a:lnTo>
                    <a:pt x="969" y="2080"/>
                  </a:lnTo>
                  <a:close/>
                </a:path>
              </a:pathLst>
            </a:custGeom>
            <a:solidFill>
              <a:srgbClr val="6f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324160" y="5808600"/>
              <a:ext cx="31680" cy="55080"/>
            </a:xfrm>
            <a:custGeom>
              <a:avLst/>
              <a:gdLst/>
              <a:ahLst/>
              <a:rect l="l" t="t" r="r" b="b"/>
              <a:pathLst>
                <a:path w="256" h="455">
                  <a:moveTo>
                    <a:pt x="247" y="31"/>
                  </a:moveTo>
                  <a:lnTo>
                    <a:pt x="140" y="40"/>
                  </a:lnTo>
                  <a:lnTo>
                    <a:pt x="0" y="414"/>
                  </a:lnTo>
                  <a:lnTo>
                    <a:pt x="113" y="455"/>
                  </a:lnTo>
                  <a:lnTo>
                    <a:pt x="252" y="81"/>
                  </a:lnTo>
                  <a:lnTo>
                    <a:pt x="247" y="31"/>
                  </a:lnTo>
                  <a:lnTo>
                    <a:pt x="252" y="81"/>
                  </a:lnTo>
                  <a:lnTo>
                    <a:pt x="254" y="75"/>
                  </a:lnTo>
                  <a:lnTo>
                    <a:pt x="255" y="67"/>
                  </a:lnTo>
                  <a:lnTo>
                    <a:pt x="256" y="60"/>
                  </a:lnTo>
                  <a:lnTo>
                    <a:pt x="256" y="54"/>
                  </a:lnTo>
                  <a:lnTo>
                    <a:pt x="255" y="48"/>
                  </a:lnTo>
                  <a:lnTo>
                    <a:pt x="254" y="43"/>
                  </a:lnTo>
                  <a:lnTo>
                    <a:pt x="252" y="37"/>
                  </a:lnTo>
                  <a:lnTo>
                    <a:pt x="250" y="32"/>
                  </a:lnTo>
                  <a:lnTo>
                    <a:pt x="247" y="28"/>
                  </a:lnTo>
                  <a:lnTo>
                    <a:pt x="244" y="23"/>
                  </a:lnTo>
                  <a:lnTo>
                    <a:pt x="240" y="19"/>
                  </a:lnTo>
                  <a:lnTo>
                    <a:pt x="236" y="15"/>
                  </a:lnTo>
                  <a:lnTo>
                    <a:pt x="227" y="9"/>
                  </a:lnTo>
                  <a:lnTo>
                    <a:pt x="217" y="4"/>
                  </a:lnTo>
                  <a:lnTo>
                    <a:pt x="205" y="1"/>
                  </a:lnTo>
                  <a:lnTo>
                    <a:pt x="194" y="0"/>
                  </a:lnTo>
                  <a:lnTo>
                    <a:pt x="188" y="1"/>
                  </a:lnTo>
                  <a:lnTo>
                    <a:pt x="183" y="1"/>
                  </a:lnTo>
                  <a:lnTo>
                    <a:pt x="177" y="2"/>
                  </a:lnTo>
                  <a:lnTo>
                    <a:pt x="172" y="4"/>
                  </a:lnTo>
                  <a:lnTo>
                    <a:pt x="167" y="7"/>
                  </a:lnTo>
                  <a:lnTo>
                    <a:pt x="162" y="9"/>
                  </a:lnTo>
                  <a:lnTo>
                    <a:pt x="158" y="13"/>
                  </a:lnTo>
                  <a:lnTo>
                    <a:pt x="153" y="17"/>
                  </a:lnTo>
                  <a:lnTo>
                    <a:pt x="149" y="22"/>
                  </a:lnTo>
                  <a:lnTo>
                    <a:pt x="146" y="27"/>
                  </a:lnTo>
                  <a:lnTo>
                    <a:pt x="142" y="33"/>
                  </a:lnTo>
                  <a:lnTo>
                    <a:pt x="140" y="40"/>
                  </a:lnTo>
                  <a:lnTo>
                    <a:pt x="247" y="31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220840" y="5600880"/>
              <a:ext cx="133560" cy="218880"/>
            </a:xfrm>
            <a:custGeom>
              <a:avLst/>
              <a:gdLst/>
              <a:ahLst/>
              <a:rect l="l" t="t" r="r" b="b"/>
              <a:pathLst>
                <a:path w="1098" h="1796">
                  <a:moveTo>
                    <a:pt x="5" y="40"/>
                  </a:moveTo>
                  <a:lnTo>
                    <a:pt x="9" y="90"/>
                  </a:lnTo>
                  <a:lnTo>
                    <a:pt x="995" y="1796"/>
                  </a:lnTo>
                  <a:lnTo>
                    <a:pt x="1098" y="1737"/>
                  </a:lnTo>
                  <a:lnTo>
                    <a:pt x="112" y="30"/>
                  </a:lnTo>
                  <a:lnTo>
                    <a:pt x="5" y="40"/>
                  </a:lnTo>
                  <a:lnTo>
                    <a:pt x="112" y="30"/>
                  </a:lnTo>
                  <a:lnTo>
                    <a:pt x="109" y="24"/>
                  </a:lnTo>
                  <a:lnTo>
                    <a:pt x="104" y="19"/>
                  </a:lnTo>
                  <a:lnTo>
                    <a:pt x="100" y="14"/>
                  </a:lnTo>
                  <a:lnTo>
                    <a:pt x="95" y="10"/>
                  </a:lnTo>
                  <a:lnTo>
                    <a:pt x="90" y="7"/>
                  </a:lnTo>
                  <a:lnTo>
                    <a:pt x="85" y="5"/>
                  </a:lnTo>
                  <a:lnTo>
                    <a:pt x="80" y="3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2" y="4"/>
                  </a:lnTo>
                  <a:lnTo>
                    <a:pt x="32" y="9"/>
                  </a:lnTo>
                  <a:lnTo>
                    <a:pt x="22" y="15"/>
                  </a:lnTo>
                  <a:lnTo>
                    <a:pt x="14" y="23"/>
                  </a:lnTo>
                  <a:lnTo>
                    <a:pt x="10" y="27"/>
                  </a:lnTo>
                  <a:lnTo>
                    <a:pt x="7" y="32"/>
                  </a:lnTo>
                  <a:lnTo>
                    <a:pt x="5" y="36"/>
                  </a:lnTo>
                  <a:lnTo>
                    <a:pt x="3" y="42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1" y="71"/>
                  </a:lnTo>
                  <a:lnTo>
                    <a:pt x="3" y="78"/>
                  </a:lnTo>
                  <a:lnTo>
                    <a:pt x="6" y="84"/>
                  </a:lnTo>
                  <a:lnTo>
                    <a:pt x="9" y="90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206800" y="5605200"/>
              <a:ext cx="28440" cy="50760"/>
            </a:xfrm>
            <a:custGeom>
              <a:avLst/>
              <a:gdLst/>
              <a:ahLst/>
              <a:rect l="l" t="t" r="r" b="b"/>
              <a:pathLst>
                <a:path w="238" h="418">
                  <a:moveTo>
                    <a:pt x="8" y="386"/>
                  </a:moveTo>
                  <a:lnTo>
                    <a:pt x="116" y="378"/>
                  </a:lnTo>
                  <a:lnTo>
                    <a:pt x="238" y="41"/>
                  </a:lnTo>
                  <a:lnTo>
                    <a:pt x="126" y="0"/>
                  </a:lnTo>
                  <a:lnTo>
                    <a:pt x="4" y="337"/>
                  </a:lnTo>
                  <a:lnTo>
                    <a:pt x="8" y="386"/>
                  </a:lnTo>
                  <a:lnTo>
                    <a:pt x="4" y="337"/>
                  </a:lnTo>
                  <a:lnTo>
                    <a:pt x="2" y="344"/>
                  </a:lnTo>
                  <a:lnTo>
                    <a:pt x="0" y="351"/>
                  </a:lnTo>
                  <a:lnTo>
                    <a:pt x="0" y="357"/>
                  </a:lnTo>
                  <a:lnTo>
                    <a:pt x="0" y="363"/>
                  </a:lnTo>
                  <a:lnTo>
                    <a:pt x="1" y="369"/>
                  </a:lnTo>
                  <a:lnTo>
                    <a:pt x="2" y="375"/>
                  </a:lnTo>
                  <a:lnTo>
                    <a:pt x="4" y="380"/>
                  </a:lnTo>
                  <a:lnTo>
                    <a:pt x="6" y="385"/>
                  </a:lnTo>
                  <a:lnTo>
                    <a:pt x="9" y="390"/>
                  </a:lnTo>
                  <a:lnTo>
                    <a:pt x="12" y="394"/>
                  </a:lnTo>
                  <a:lnTo>
                    <a:pt x="16" y="398"/>
                  </a:lnTo>
                  <a:lnTo>
                    <a:pt x="20" y="402"/>
                  </a:lnTo>
                  <a:lnTo>
                    <a:pt x="29" y="408"/>
                  </a:lnTo>
                  <a:lnTo>
                    <a:pt x="39" y="413"/>
                  </a:lnTo>
                  <a:lnTo>
                    <a:pt x="50" y="416"/>
                  </a:lnTo>
                  <a:lnTo>
                    <a:pt x="62" y="418"/>
                  </a:lnTo>
                  <a:lnTo>
                    <a:pt x="68" y="418"/>
                  </a:lnTo>
                  <a:lnTo>
                    <a:pt x="73" y="416"/>
                  </a:lnTo>
                  <a:lnTo>
                    <a:pt x="78" y="415"/>
                  </a:lnTo>
                  <a:lnTo>
                    <a:pt x="84" y="413"/>
                  </a:lnTo>
                  <a:lnTo>
                    <a:pt x="89" y="411"/>
                  </a:lnTo>
                  <a:lnTo>
                    <a:pt x="94" y="408"/>
                  </a:lnTo>
                  <a:lnTo>
                    <a:pt x="98" y="404"/>
                  </a:lnTo>
                  <a:lnTo>
                    <a:pt x="103" y="400"/>
                  </a:lnTo>
                  <a:lnTo>
                    <a:pt x="106" y="395"/>
                  </a:lnTo>
                  <a:lnTo>
                    <a:pt x="110" y="390"/>
                  </a:lnTo>
                  <a:lnTo>
                    <a:pt x="113" y="384"/>
                  </a:lnTo>
                  <a:lnTo>
                    <a:pt x="116" y="378"/>
                  </a:lnTo>
                  <a:lnTo>
                    <a:pt x="8" y="386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206800" y="5645160"/>
              <a:ext cx="131760" cy="223200"/>
            </a:xfrm>
            <a:custGeom>
              <a:avLst/>
              <a:gdLst/>
              <a:ahLst/>
              <a:rect l="l" t="t" r="r" b="b"/>
              <a:pathLst>
                <a:path w="1082" h="1833">
                  <a:moveTo>
                    <a:pt x="1077" y="1792"/>
                  </a:moveTo>
                  <a:lnTo>
                    <a:pt x="1073" y="1743"/>
                  </a:lnTo>
                  <a:lnTo>
                    <a:pt x="104" y="0"/>
                  </a:lnTo>
                  <a:lnTo>
                    <a:pt x="0" y="57"/>
                  </a:lnTo>
                  <a:lnTo>
                    <a:pt x="968" y="1801"/>
                  </a:lnTo>
                  <a:lnTo>
                    <a:pt x="1077" y="1792"/>
                  </a:lnTo>
                  <a:lnTo>
                    <a:pt x="968" y="1801"/>
                  </a:lnTo>
                  <a:lnTo>
                    <a:pt x="972" y="1807"/>
                  </a:lnTo>
                  <a:lnTo>
                    <a:pt x="976" y="1812"/>
                  </a:lnTo>
                  <a:lnTo>
                    <a:pt x="981" y="1818"/>
                  </a:lnTo>
                  <a:lnTo>
                    <a:pt x="986" y="1822"/>
                  </a:lnTo>
                  <a:lnTo>
                    <a:pt x="991" y="1825"/>
                  </a:lnTo>
                  <a:lnTo>
                    <a:pt x="996" y="1828"/>
                  </a:lnTo>
                  <a:lnTo>
                    <a:pt x="1002" y="1830"/>
                  </a:lnTo>
                  <a:lnTo>
                    <a:pt x="1007" y="1831"/>
                  </a:lnTo>
                  <a:lnTo>
                    <a:pt x="1012" y="1832"/>
                  </a:lnTo>
                  <a:lnTo>
                    <a:pt x="1018" y="1833"/>
                  </a:lnTo>
                  <a:lnTo>
                    <a:pt x="1023" y="1832"/>
                  </a:lnTo>
                  <a:lnTo>
                    <a:pt x="1029" y="1832"/>
                  </a:lnTo>
                  <a:lnTo>
                    <a:pt x="1040" y="1829"/>
                  </a:lnTo>
                  <a:lnTo>
                    <a:pt x="1050" y="1824"/>
                  </a:lnTo>
                  <a:lnTo>
                    <a:pt x="1059" y="1818"/>
                  </a:lnTo>
                  <a:lnTo>
                    <a:pt x="1067" y="1810"/>
                  </a:lnTo>
                  <a:lnTo>
                    <a:pt x="1070" y="1805"/>
                  </a:lnTo>
                  <a:lnTo>
                    <a:pt x="1073" y="1801"/>
                  </a:lnTo>
                  <a:lnTo>
                    <a:pt x="1076" y="1796"/>
                  </a:lnTo>
                  <a:lnTo>
                    <a:pt x="1078" y="1791"/>
                  </a:lnTo>
                  <a:lnTo>
                    <a:pt x="1081" y="1785"/>
                  </a:lnTo>
                  <a:lnTo>
                    <a:pt x="1082" y="1780"/>
                  </a:lnTo>
                  <a:lnTo>
                    <a:pt x="1082" y="1774"/>
                  </a:lnTo>
                  <a:lnTo>
                    <a:pt x="1082" y="1768"/>
                  </a:lnTo>
                  <a:lnTo>
                    <a:pt x="1081" y="1762"/>
                  </a:lnTo>
                  <a:lnTo>
                    <a:pt x="1078" y="1756"/>
                  </a:lnTo>
                  <a:lnTo>
                    <a:pt x="1076" y="1749"/>
                  </a:lnTo>
                  <a:lnTo>
                    <a:pt x="1073" y="1743"/>
                  </a:lnTo>
                  <a:lnTo>
                    <a:pt x="1077" y="1792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989000" y="5649840"/>
              <a:ext cx="343080" cy="363240"/>
            </a:xfrm>
            <a:custGeom>
              <a:avLst/>
              <a:gdLst/>
              <a:ahLst/>
              <a:rect l="l" t="t" r="r" b="b"/>
              <a:pathLst>
                <a:path w="2804" h="2978">
                  <a:moveTo>
                    <a:pt x="0" y="579"/>
                  </a:moveTo>
                  <a:lnTo>
                    <a:pt x="1416" y="2978"/>
                  </a:lnTo>
                  <a:lnTo>
                    <a:pt x="2804" y="1744"/>
                  </a:lnTo>
                  <a:lnTo>
                    <a:pt x="1835" y="0"/>
                  </a:lnTo>
                  <a:lnTo>
                    <a:pt x="0" y="579"/>
                  </a:lnTo>
                  <a:close/>
                </a:path>
              </a:pathLst>
            </a:custGeom>
            <a:solidFill>
              <a:srgbClr val="b3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982880" y="5716440"/>
              <a:ext cx="187200" cy="302760"/>
            </a:xfrm>
            <a:custGeom>
              <a:avLst/>
              <a:gdLst/>
              <a:ahLst/>
              <a:rect l="l" t="t" r="r" b="b"/>
              <a:pathLst>
                <a:path w="1528" h="2491">
                  <a:moveTo>
                    <a:pt x="1507" y="2475"/>
                  </a:moveTo>
                  <a:lnTo>
                    <a:pt x="1519" y="2400"/>
                  </a:lnTo>
                  <a:lnTo>
                    <a:pt x="103" y="0"/>
                  </a:lnTo>
                  <a:lnTo>
                    <a:pt x="0" y="61"/>
                  </a:lnTo>
                  <a:lnTo>
                    <a:pt x="1416" y="2461"/>
                  </a:lnTo>
                  <a:lnTo>
                    <a:pt x="1507" y="2475"/>
                  </a:lnTo>
                  <a:lnTo>
                    <a:pt x="1416" y="2461"/>
                  </a:lnTo>
                  <a:lnTo>
                    <a:pt x="1420" y="2467"/>
                  </a:lnTo>
                  <a:lnTo>
                    <a:pt x="1424" y="2472"/>
                  </a:lnTo>
                  <a:lnTo>
                    <a:pt x="1428" y="2477"/>
                  </a:lnTo>
                  <a:lnTo>
                    <a:pt x="1433" y="2481"/>
                  </a:lnTo>
                  <a:lnTo>
                    <a:pt x="1438" y="2484"/>
                  </a:lnTo>
                  <a:lnTo>
                    <a:pt x="1443" y="2487"/>
                  </a:lnTo>
                  <a:lnTo>
                    <a:pt x="1449" y="2489"/>
                  </a:lnTo>
                  <a:lnTo>
                    <a:pt x="1454" y="2490"/>
                  </a:lnTo>
                  <a:lnTo>
                    <a:pt x="1460" y="2491"/>
                  </a:lnTo>
                  <a:lnTo>
                    <a:pt x="1465" y="2491"/>
                  </a:lnTo>
                  <a:lnTo>
                    <a:pt x="1471" y="2491"/>
                  </a:lnTo>
                  <a:lnTo>
                    <a:pt x="1476" y="2490"/>
                  </a:lnTo>
                  <a:lnTo>
                    <a:pt x="1487" y="2487"/>
                  </a:lnTo>
                  <a:lnTo>
                    <a:pt x="1497" y="2482"/>
                  </a:lnTo>
                  <a:lnTo>
                    <a:pt x="1507" y="2476"/>
                  </a:lnTo>
                  <a:lnTo>
                    <a:pt x="1515" y="2468"/>
                  </a:lnTo>
                  <a:lnTo>
                    <a:pt x="1518" y="2463"/>
                  </a:lnTo>
                  <a:lnTo>
                    <a:pt x="1521" y="2458"/>
                  </a:lnTo>
                  <a:lnTo>
                    <a:pt x="1523" y="2453"/>
                  </a:lnTo>
                  <a:lnTo>
                    <a:pt x="1525" y="2448"/>
                  </a:lnTo>
                  <a:lnTo>
                    <a:pt x="1527" y="2442"/>
                  </a:lnTo>
                  <a:lnTo>
                    <a:pt x="1528" y="2437"/>
                  </a:lnTo>
                  <a:lnTo>
                    <a:pt x="1528" y="2431"/>
                  </a:lnTo>
                  <a:lnTo>
                    <a:pt x="1527" y="2425"/>
                  </a:lnTo>
                  <a:lnTo>
                    <a:pt x="1526" y="2419"/>
                  </a:lnTo>
                  <a:lnTo>
                    <a:pt x="1525" y="2413"/>
                  </a:lnTo>
                  <a:lnTo>
                    <a:pt x="1522" y="2406"/>
                  </a:lnTo>
                  <a:lnTo>
                    <a:pt x="1519" y="2400"/>
                  </a:lnTo>
                  <a:lnTo>
                    <a:pt x="1507" y="2475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2157480" y="5854680"/>
              <a:ext cx="181080" cy="163080"/>
            </a:xfrm>
            <a:custGeom>
              <a:avLst/>
              <a:gdLst/>
              <a:ahLst/>
              <a:rect l="l" t="t" r="r" b="b"/>
              <a:pathLst>
                <a:path w="1489" h="1341">
                  <a:moveTo>
                    <a:pt x="1480" y="33"/>
                  </a:moveTo>
                  <a:lnTo>
                    <a:pt x="1387" y="18"/>
                  </a:lnTo>
                  <a:lnTo>
                    <a:pt x="0" y="1252"/>
                  </a:lnTo>
                  <a:lnTo>
                    <a:pt x="80" y="1341"/>
                  </a:lnTo>
                  <a:lnTo>
                    <a:pt x="1467" y="106"/>
                  </a:lnTo>
                  <a:lnTo>
                    <a:pt x="1480" y="33"/>
                  </a:lnTo>
                  <a:lnTo>
                    <a:pt x="1467" y="106"/>
                  </a:lnTo>
                  <a:lnTo>
                    <a:pt x="1472" y="101"/>
                  </a:lnTo>
                  <a:lnTo>
                    <a:pt x="1477" y="96"/>
                  </a:lnTo>
                  <a:lnTo>
                    <a:pt x="1480" y="90"/>
                  </a:lnTo>
                  <a:lnTo>
                    <a:pt x="1483" y="85"/>
                  </a:lnTo>
                  <a:lnTo>
                    <a:pt x="1485" y="79"/>
                  </a:lnTo>
                  <a:lnTo>
                    <a:pt x="1488" y="74"/>
                  </a:lnTo>
                  <a:lnTo>
                    <a:pt x="1489" y="68"/>
                  </a:lnTo>
                  <a:lnTo>
                    <a:pt x="1489" y="63"/>
                  </a:lnTo>
                  <a:lnTo>
                    <a:pt x="1489" y="57"/>
                  </a:lnTo>
                  <a:lnTo>
                    <a:pt x="1488" y="52"/>
                  </a:lnTo>
                  <a:lnTo>
                    <a:pt x="1487" y="46"/>
                  </a:lnTo>
                  <a:lnTo>
                    <a:pt x="1484" y="41"/>
                  </a:lnTo>
                  <a:lnTo>
                    <a:pt x="1479" y="31"/>
                  </a:lnTo>
                  <a:lnTo>
                    <a:pt x="1472" y="22"/>
                  </a:lnTo>
                  <a:lnTo>
                    <a:pt x="1464" y="15"/>
                  </a:lnTo>
                  <a:lnTo>
                    <a:pt x="1455" y="9"/>
                  </a:lnTo>
                  <a:lnTo>
                    <a:pt x="1450" y="6"/>
                  </a:lnTo>
                  <a:lnTo>
                    <a:pt x="1445" y="3"/>
                  </a:lnTo>
                  <a:lnTo>
                    <a:pt x="1439" y="2"/>
                  </a:lnTo>
                  <a:lnTo>
                    <a:pt x="1434" y="1"/>
                  </a:lnTo>
                  <a:lnTo>
                    <a:pt x="1428" y="0"/>
                  </a:lnTo>
                  <a:lnTo>
                    <a:pt x="1423" y="1"/>
                  </a:lnTo>
                  <a:lnTo>
                    <a:pt x="1417" y="2"/>
                  </a:lnTo>
                  <a:lnTo>
                    <a:pt x="1411" y="3"/>
                  </a:lnTo>
                  <a:lnTo>
                    <a:pt x="1405" y="6"/>
                  </a:lnTo>
                  <a:lnTo>
                    <a:pt x="1400" y="9"/>
                  </a:lnTo>
                  <a:lnTo>
                    <a:pt x="1394" y="13"/>
                  </a:lnTo>
                  <a:lnTo>
                    <a:pt x="1387" y="18"/>
                  </a:lnTo>
                  <a:lnTo>
                    <a:pt x="1480" y="33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2205000" y="5641920"/>
              <a:ext cx="133560" cy="223560"/>
            </a:xfrm>
            <a:custGeom>
              <a:avLst/>
              <a:gdLst/>
              <a:ahLst/>
              <a:rect l="l" t="t" r="r" b="b"/>
              <a:pathLst>
                <a:path w="1082" h="1833">
                  <a:moveTo>
                    <a:pt x="43" y="3"/>
                  </a:moveTo>
                  <a:lnTo>
                    <a:pt x="9" y="89"/>
                  </a:lnTo>
                  <a:lnTo>
                    <a:pt x="977" y="1833"/>
                  </a:lnTo>
                  <a:lnTo>
                    <a:pt x="1082" y="1775"/>
                  </a:lnTo>
                  <a:lnTo>
                    <a:pt x="113" y="32"/>
                  </a:lnTo>
                  <a:lnTo>
                    <a:pt x="43" y="3"/>
                  </a:lnTo>
                  <a:lnTo>
                    <a:pt x="113" y="32"/>
                  </a:lnTo>
                  <a:lnTo>
                    <a:pt x="109" y="26"/>
                  </a:lnTo>
                  <a:lnTo>
                    <a:pt x="105" y="20"/>
                  </a:lnTo>
                  <a:lnTo>
                    <a:pt x="101" y="15"/>
                  </a:lnTo>
                  <a:lnTo>
                    <a:pt x="96" y="10"/>
                  </a:lnTo>
                  <a:lnTo>
                    <a:pt x="91" y="7"/>
                  </a:lnTo>
                  <a:lnTo>
                    <a:pt x="86" y="4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2" y="3"/>
                  </a:lnTo>
                  <a:lnTo>
                    <a:pt x="32" y="8"/>
                  </a:lnTo>
                  <a:lnTo>
                    <a:pt x="23" y="14"/>
                  </a:lnTo>
                  <a:lnTo>
                    <a:pt x="15" y="22"/>
                  </a:lnTo>
                  <a:lnTo>
                    <a:pt x="11" y="27"/>
                  </a:lnTo>
                  <a:lnTo>
                    <a:pt x="8" y="31"/>
                  </a:lnTo>
                  <a:lnTo>
                    <a:pt x="5" y="36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2" y="70"/>
                  </a:lnTo>
                  <a:lnTo>
                    <a:pt x="3" y="76"/>
                  </a:lnTo>
                  <a:lnTo>
                    <a:pt x="6" y="83"/>
                  </a:lnTo>
                  <a:lnTo>
                    <a:pt x="9" y="89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981080" y="5641920"/>
              <a:ext cx="235080" cy="85320"/>
            </a:xfrm>
            <a:custGeom>
              <a:avLst/>
              <a:gdLst/>
              <a:ahLst/>
              <a:rect l="l" t="t" r="r" b="b"/>
              <a:pathLst>
                <a:path w="1914" h="696">
                  <a:moveTo>
                    <a:pt x="10" y="666"/>
                  </a:moveTo>
                  <a:lnTo>
                    <a:pt x="79" y="693"/>
                  </a:lnTo>
                  <a:lnTo>
                    <a:pt x="1914" y="114"/>
                  </a:lnTo>
                  <a:lnTo>
                    <a:pt x="1878" y="0"/>
                  </a:lnTo>
                  <a:lnTo>
                    <a:pt x="43" y="579"/>
                  </a:lnTo>
                  <a:lnTo>
                    <a:pt x="10" y="666"/>
                  </a:lnTo>
                  <a:lnTo>
                    <a:pt x="43" y="579"/>
                  </a:lnTo>
                  <a:lnTo>
                    <a:pt x="36" y="581"/>
                  </a:lnTo>
                  <a:lnTo>
                    <a:pt x="30" y="584"/>
                  </a:lnTo>
                  <a:lnTo>
                    <a:pt x="25" y="588"/>
                  </a:lnTo>
                  <a:lnTo>
                    <a:pt x="20" y="591"/>
                  </a:lnTo>
                  <a:lnTo>
                    <a:pt x="16" y="595"/>
                  </a:lnTo>
                  <a:lnTo>
                    <a:pt x="12" y="600"/>
                  </a:lnTo>
                  <a:lnTo>
                    <a:pt x="9" y="605"/>
                  </a:lnTo>
                  <a:lnTo>
                    <a:pt x="5" y="610"/>
                  </a:lnTo>
                  <a:lnTo>
                    <a:pt x="3" y="615"/>
                  </a:lnTo>
                  <a:lnTo>
                    <a:pt x="2" y="620"/>
                  </a:lnTo>
                  <a:lnTo>
                    <a:pt x="1" y="627"/>
                  </a:lnTo>
                  <a:lnTo>
                    <a:pt x="0" y="632"/>
                  </a:lnTo>
                  <a:lnTo>
                    <a:pt x="1" y="643"/>
                  </a:lnTo>
                  <a:lnTo>
                    <a:pt x="3" y="654"/>
                  </a:lnTo>
                  <a:lnTo>
                    <a:pt x="9" y="664"/>
                  </a:lnTo>
                  <a:lnTo>
                    <a:pt x="14" y="674"/>
                  </a:lnTo>
                  <a:lnTo>
                    <a:pt x="18" y="678"/>
                  </a:lnTo>
                  <a:lnTo>
                    <a:pt x="22" y="682"/>
                  </a:lnTo>
                  <a:lnTo>
                    <a:pt x="26" y="685"/>
                  </a:lnTo>
                  <a:lnTo>
                    <a:pt x="31" y="688"/>
                  </a:lnTo>
                  <a:lnTo>
                    <a:pt x="36" y="691"/>
                  </a:lnTo>
                  <a:lnTo>
                    <a:pt x="41" y="693"/>
                  </a:lnTo>
                  <a:lnTo>
                    <a:pt x="47" y="695"/>
                  </a:lnTo>
                  <a:lnTo>
                    <a:pt x="53" y="696"/>
                  </a:lnTo>
                  <a:lnTo>
                    <a:pt x="59" y="696"/>
                  </a:lnTo>
                  <a:lnTo>
                    <a:pt x="65" y="696"/>
                  </a:lnTo>
                  <a:lnTo>
                    <a:pt x="72" y="695"/>
                  </a:lnTo>
                  <a:lnTo>
                    <a:pt x="79" y="693"/>
                  </a:lnTo>
                  <a:lnTo>
                    <a:pt x="10" y="666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1989000" y="5608440"/>
              <a:ext cx="239760" cy="110880"/>
            </a:xfrm>
            <a:custGeom>
              <a:avLst/>
              <a:gdLst/>
              <a:ahLst/>
              <a:rect l="l" t="t" r="r" b="b"/>
              <a:pathLst>
                <a:path w="1957" h="915">
                  <a:moveTo>
                    <a:pt x="111" y="595"/>
                  </a:moveTo>
                  <a:lnTo>
                    <a:pt x="1957" y="0"/>
                  </a:lnTo>
                  <a:lnTo>
                    <a:pt x="1835" y="336"/>
                  </a:lnTo>
                  <a:lnTo>
                    <a:pt x="0" y="915"/>
                  </a:lnTo>
                  <a:lnTo>
                    <a:pt x="111" y="595"/>
                  </a:lnTo>
                  <a:close/>
                </a:path>
              </a:pathLst>
            </a:custGeom>
            <a:solidFill>
              <a:srgbClr val="949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2000160" y="5600880"/>
              <a:ext cx="235080" cy="87120"/>
            </a:xfrm>
            <a:custGeom>
              <a:avLst/>
              <a:gdLst/>
              <a:ahLst/>
              <a:rect l="l" t="t" r="r" b="b"/>
              <a:pathLst>
                <a:path w="1925" h="714">
                  <a:moveTo>
                    <a:pt x="1920" y="81"/>
                  </a:moveTo>
                  <a:lnTo>
                    <a:pt x="1846" y="3"/>
                  </a:lnTo>
                  <a:lnTo>
                    <a:pt x="0" y="600"/>
                  </a:lnTo>
                  <a:lnTo>
                    <a:pt x="36" y="714"/>
                  </a:lnTo>
                  <a:lnTo>
                    <a:pt x="1882" y="117"/>
                  </a:lnTo>
                  <a:lnTo>
                    <a:pt x="1920" y="81"/>
                  </a:lnTo>
                  <a:lnTo>
                    <a:pt x="1882" y="117"/>
                  </a:lnTo>
                  <a:lnTo>
                    <a:pt x="1889" y="115"/>
                  </a:lnTo>
                  <a:lnTo>
                    <a:pt x="1895" y="112"/>
                  </a:lnTo>
                  <a:lnTo>
                    <a:pt x="1900" y="108"/>
                  </a:lnTo>
                  <a:lnTo>
                    <a:pt x="1905" y="104"/>
                  </a:lnTo>
                  <a:lnTo>
                    <a:pt x="1910" y="100"/>
                  </a:lnTo>
                  <a:lnTo>
                    <a:pt x="1913" y="96"/>
                  </a:lnTo>
                  <a:lnTo>
                    <a:pt x="1916" y="91"/>
                  </a:lnTo>
                  <a:lnTo>
                    <a:pt x="1919" y="86"/>
                  </a:lnTo>
                  <a:lnTo>
                    <a:pt x="1921" y="81"/>
                  </a:lnTo>
                  <a:lnTo>
                    <a:pt x="1922" y="75"/>
                  </a:lnTo>
                  <a:lnTo>
                    <a:pt x="1924" y="70"/>
                  </a:lnTo>
                  <a:lnTo>
                    <a:pt x="1925" y="65"/>
                  </a:lnTo>
                  <a:lnTo>
                    <a:pt x="1924" y="54"/>
                  </a:lnTo>
                  <a:lnTo>
                    <a:pt x="1920" y="42"/>
                  </a:lnTo>
                  <a:lnTo>
                    <a:pt x="1916" y="31"/>
                  </a:lnTo>
                  <a:lnTo>
                    <a:pt x="1910" y="22"/>
                  </a:lnTo>
                  <a:lnTo>
                    <a:pt x="1907" y="18"/>
                  </a:lnTo>
                  <a:lnTo>
                    <a:pt x="1903" y="14"/>
                  </a:lnTo>
                  <a:lnTo>
                    <a:pt x="1899" y="11"/>
                  </a:lnTo>
                  <a:lnTo>
                    <a:pt x="1894" y="8"/>
                  </a:lnTo>
                  <a:lnTo>
                    <a:pt x="1889" y="5"/>
                  </a:lnTo>
                  <a:lnTo>
                    <a:pt x="1884" y="3"/>
                  </a:lnTo>
                  <a:lnTo>
                    <a:pt x="1878" y="1"/>
                  </a:lnTo>
                  <a:lnTo>
                    <a:pt x="1872" y="0"/>
                  </a:lnTo>
                  <a:lnTo>
                    <a:pt x="1866" y="0"/>
                  </a:lnTo>
                  <a:lnTo>
                    <a:pt x="1860" y="1"/>
                  </a:lnTo>
                  <a:lnTo>
                    <a:pt x="1853" y="2"/>
                  </a:lnTo>
                  <a:lnTo>
                    <a:pt x="1846" y="3"/>
                  </a:lnTo>
                  <a:lnTo>
                    <a:pt x="1920" y="81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206800" y="5605200"/>
              <a:ext cx="28440" cy="50760"/>
            </a:xfrm>
            <a:custGeom>
              <a:avLst/>
              <a:gdLst/>
              <a:ahLst/>
              <a:rect l="l" t="t" r="r" b="b"/>
              <a:pathLst>
                <a:path w="238" h="418">
                  <a:moveTo>
                    <a:pt x="78" y="414"/>
                  </a:moveTo>
                  <a:lnTo>
                    <a:pt x="116" y="378"/>
                  </a:lnTo>
                  <a:lnTo>
                    <a:pt x="238" y="41"/>
                  </a:lnTo>
                  <a:lnTo>
                    <a:pt x="126" y="0"/>
                  </a:lnTo>
                  <a:lnTo>
                    <a:pt x="4" y="337"/>
                  </a:lnTo>
                  <a:lnTo>
                    <a:pt x="78" y="414"/>
                  </a:lnTo>
                  <a:lnTo>
                    <a:pt x="4" y="337"/>
                  </a:lnTo>
                  <a:lnTo>
                    <a:pt x="2" y="344"/>
                  </a:lnTo>
                  <a:lnTo>
                    <a:pt x="0" y="351"/>
                  </a:lnTo>
                  <a:lnTo>
                    <a:pt x="0" y="357"/>
                  </a:lnTo>
                  <a:lnTo>
                    <a:pt x="0" y="363"/>
                  </a:lnTo>
                  <a:lnTo>
                    <a:pt x="1" y="369"/>
                  </a:lnTo>
                  <a:lnTo>
                    <a:pt x="2" y="375"/>
                  </a:lnTo>
                  <a:lnTo>
                    <a:pt x="4" y="380"/>
                  </a:lnTo>
                  <a:lnTo>
                    <a:pt x="6" y="385"/>
                  </a:lnTo>
                  <a:lnTo>
                    <a:pt x="9" y="390"/>
                  </a:lnTo>
                  <a:lnTo>
                    <a:pt x="12" y="394"/>
                  </a:lnTo>
                  <a:lnTo>
                    <a:pt x="16" y="398"/>
                  </a:lnTo>
                  <a:lnTo>
                    <a:pt x="20" y="402"/>
                  </a:lnTo>
                  <a:lnTo>
                    <a:pt x="29" y="408"/>
                  </a:lnTo>
                  <a:lnTo>
                    <a:pt x="39" y="413"/>
                  </a:lnTo>
                  <a:lnTo>
                    <a:pt x="50" y="416"/>
                  </a:lnTo>
                  <a:lnTo>
                    <a:pt x="62" y="418"/>
                  </a:lnTo>
                  <a:lnTo>
                    <a:pt x="68" y="418"/>
                  </a:lnTo>
                  <a:lnTo>
                    <a:pt x="73" y="416"/>
                  </a:lnTo>
                  <a:lnTo>
                    <a:pt x="78" y="415"/>
                  </a:lnTo>
                  <a:lnTo>
                    <a:pt x="84" y="413"/>
                  </a:lnTo>
                  <a:lnTo>
                    <a:pt x="89" y="411"/>
                  </a:lnTo>
                  <a:lnTo>
                    <a:pt x="94" y="408"/>
                  </a:lnTo>
                  <a:lnTo>
                    <a:pt x="98" y="404"/>
                  </a:lnTo>
                  <a:lnTo>
                    <a:pt x="103" y="400"/>
                  </a:lnTo>
                  <a:lnTo>
                    <a:pt x="106" y="395"/>
                  </a:lnTo>
                  <a:lnTo>
                    <a:pt x="110" y="390"/>
                  </a:lnTo>
                  <a:lnTo>
                    <a:pt x="113" y="384"/>
                  </a:lnTo>
                  <a:lnTo>
                    <a:pt x="116" y="378"/>
                  </a:lnTo>
                  <a:lnTo>
                    <a:pt x="78" y="414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981080" y="5641920"/>
              <a:ext cx="235080" cy="85320"/>
            </a:xfrm>
            <a:custGeom>
              <a:avLst/>
              <a:gdLst/>
              <a:ahLst/>
              <a:rect l="l" t="t" r="r" b="b"/>
              <a:pathLst>
                <a:path w="1914" h="696">
                  <a:moveTo>
                    <a:pt x="4" y="616"/>
                  </a:moveTo>
                  <a:lnTo>
                    <a:pt x="79" y="693"/>
                  </a:lnTo>
                  <a:lnTo>
                    <a:pt x="1914" y="114"/>
                  </a:lnTo>
                  <a:lnTo>
                    <a:pt x="1878" y="0"/>
                  </a:lnTo>
                  <a:lnTo>
                    <a:pt x="43" y="579"/>
                  </a:lnTo>
                  <a:lnTo>
                    <a:pt x="4" y="616"/>
                  </a:lnTo>
                  <a:lnTo>
                    <a:pt x="43" y="579"/>
                  </a:lnTo>
                  <a:lnTo>
                    <a:pt x="36" y="581"/>
                  </a:lnTo>
                  <a:lnTo>
                    <a:pt x="30" y="584"/>
                  </a:lnTo>
                  <a:lnTo>
                    <a:pt x="25" y="588"/>
                  </a:lnTo>
                  <a:lnTo>
                    <a:pt x="20" y="591"/>
                  </a:lnTo>
                  <a:lnTo>
                    <a:pt x="16" y="595"/>
                  </a:lnTo>
                  <a:lnTo>
                    <a:pt x="12" y="600"/>
                  </a:lnTo>
                  <a:lnTo>
                    <a:pt x="9" y="605"/>
                  </a:lnTo>
                  <a:lnTo>
                    <a:pt x="5" y="610"/>
                  </a:lnTo>
                  <a:lnTo>
                    <a:pt x="3" y="615"/>
                  </a:lnTo>
                  <a:lnTo>
                    <a:pt x="2" y="620"/>
                  </a:lnTo>
                  <a:lnTo>
                    <a:pt x="1" y="627"/>
                  </a:lnTo>
                  <a:lnTo>
                    <a:pt x="0" y="632"/>
                  </a:lnTo>
                  <a:lnTo>
                    <a:pt x="1" y="643"/>
                  </a:lnTo>
                  <a:lnTo>
                    <a:pt x="3" y="654"/>
                  </a:lnTo>
                  <a:lnTo>
                    <a:pt x="9" y="664"/>
                  </a:lnTo>
                  <a:lnTo>
                    <a:pt x="14" y="674"/>
                  </a:lnTo>
                  <a:lnTo>
                    <a:pt x="18" y="678"/>
                  </a:lnTo>
                  <a:lnTo>
                    <a:pt x="22" y="682"/>
                  </a:lnTo>
                  <a:lnTo>
                    <a:pt x="26" y="685"/>
                  </a:lnTo>
                  <a:lnTo>
                    <a:pt x="31" y="688"/>
                  </a:lnTo>
                  <a:lnTo>
                    <a:pt x="36" y="691"/>
                  </a:lnTo>
                  <a:lnTo>
                    <a:pt x="41" y="693"/>
                  </a:lnTo>
                  <a:lnTo>
                    <a:pt x="47" y="695"/>
                  </a:lnTo>
                  <a:lnTo>
                    <a:pt x="53" y="696"/>
                  </a:lnTo>
                  <a:lnTo>
                    <a:pt x="59" y="696"/>
                  </a:lnTo>
                  <a:lnTo>
                    <a:pt x="65" y="696"/>
                  </a:lnTo>
                  <a:lnTo>
                    <a:pt x="72" y="695"/>
                  </a:lnTo>
                  <a:lnTo>
                    <a:pt x="79" y="693"/>
                  </a:lnTo>
                  <a:lnTo>
                    <a:pt x="4" y="616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982880" y="5673600"/>
              <a:ext cx="27000" cy="48960"/>
            </a:xfrm>
            <a:custGeom>
              <a:avLst/>
              <a:gdLst/>
              <a:ahLst/>
              <a:rect l="l" t="t" r="r" b="b"/>
              <a:pathLst>
                <a:path w="228" h="399">
                  <a:moveTo>
                    <a:pt x="150" y="3"/>
                  </a:moveTo>
                  <a:lnTo>
                    <a:pt x="112" y="40"/>
                  </a:lnTo>
                  <a:lnTo>
                    <a:pt x="0" y="359"/>
                  </a:lnTo>
                  <a:lnTo>
                    <a:pt x="114" y="399"/>
                  </a:lnTo>
                  <a:lnTo>
                    <a:pt x="225" y="80"/>
                  </a:lnTo>
                  <a:lnTo>
                    <a:pt x="150" y="3"/>
                  </a:lnTo>
                  <a:lnTo>
                    <a:pt x="225" y="80"/>
                  </a:lnTo>
                  <a:lnTo>
                    <a:pt x="227" y="73"/>
                  </a:lnTo>
                  <a:lnTo>
                    <a:pt x="228" y="66"/>
                  </a:lnTo>
                  <a:lnTo>
                    <a:pt x="228" y="59"/>
                  </a:lnTo>
                  <a:lnTo>
                    <a:pt x="228" y="53"/>
                  </a:lnTo>
                  <a:lnTo>
                    <a:pt x="228" y="47"/>
                  </a:lnTo>
                  <a:lnTo>
                    <a:pt x="226" y="41"/>
                  </a:lnTo>
                  <a:lnTo>
                    <a:pt x="224" y="36"/>
                  </a:lnTo>
                  <a:lnTo>
                    <a:pt x="222" y="31"/>
                  </a:lnTo>
                  <a:lnTo>
                    <a:pt x="219" y="26"/>
                  </a:lnTo>
                  <a:lnTo>
                    <a:pt x="215" y="22"/>
                  </a:lnTo>
                  <a:lnTo>
                    <a:pt x="212" y="18"/>
                  </a:lnTo>
                  <a:lnTo>
                    <a:pt x="208" y="14"/>
                  </a:lnTo>
                  <a:lnTo>
                    <a:pt x="198" y="8"/>
                  </a:lnTo>
                  <a:lnTo>
                    <a:pt x="187" y="3"/>
                  </a:lnTo>
                  <a:lnTo>
                    <a:pt x="177" y="1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55" y="1"/>
                  </a:lnTo>
                  <a:lnTo>
                    <a:pt x="149" y="2"/>
                  </a:lnTo>
                  <a:lnTo>
                    <a:pt x="144" y="4"/>
                  </a:lnTo>
                  <a:lnTo>
                    <a:pt x="139" y="6"/>
                  </a:lnTo>
                  <a:lnTo>
                    <a:pt x="134" y="9"/>
                  </a:lnTo>
                  <a:lnTo>
                    <a:pt x="130" y="13"/>
                  </a:lnTo>
                  <a:lnTo>
                    <a:pt x="125" y="17"/>
                  </a:lnTo>
                  <a:lnTo>
                    <a:pt x="121" y="22"/>
                  </a:lnTo>
                  <a:lnTo>
                    <a:pt x="118" y="27"/>
                  </a:lnTo>
                  <a:lnTo>
                    <a:pt x="115" y="33"/>
                  </a:lnTo>
                  <a:lnTo>
                    <a:pt x="112" y="40"/>
                  </a:lnTo>
                  <a:lnTo>
                    <a:pt x="150" y="3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88800" y="5814720"/>
              <a:ext cx="1204920" cy="55440"/>
            </a:xfrm>
            <a:custGeom>
              <a:avLst/>
              <a:gdLst/>
              <a:ahLst/>
              <a:rect l="l" t="t" r="r" b="b"/>
              <a:pathLst>
                <a:path w="9857" h="450">
                  <a:moveTo>
                    <a:pt x="0" y="448"/>
                  </a:moveTo>
                  <a:lnTo>
                    <a:pt x="448" y="0"/>
                  </a:lnTo>
                  <a:lnTo>
                    <a:pt x="9857" y="0"/>
                  </a:lnTo>
                  <a:lnTo>
                    <a:pt x="9406" y="450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949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84120" y="5808600"/>
              <a:ext cx="68400" cy="66240"/>
            </a:xfrm>
            <a:custGeom>
              <a:avLst/>
              <a:gdLst/>
              <a:ahLst/>
              <a:rect l="l" t="t" r="r" b="b"/>
              <a:pathLst>
                <a:path w="552" h="550">
                  <a:moveTo>
                    <a:pt x="491" y="1"/>
                  </a:moveTo>
                  <a:lnTo>
                    <a:pt x="448" y="18"/>
                  </a:lnTo>
                  <a:lnTo>
                    <a:pt x="0" y="465"/>
                  </a:lnTo>
                  <a:lnTo>
                    <a:pt x="85" y="550"/>
                  </a:lnTo>
                  <a:lnTo>
                    <a:pt x="533" y="103"/>
                  </a:lnTo>
                  <a:lnTo>
                    <a:pt x="491" y="1"/>
                  </a:lnTo>
                  <a:lnTo>
                    <a:pt x="533" y="103"/>
                  </a:lnTo>
                  <a:lnTo>
                    <a:pt x="538" y="98"/>
                  </a:lnTo>
                  <a:lnTo>
                    <a:pt x="542" y="92"/>
                  </a:lnTo>
                  <a:lnTo>
                    <a:pt x="545" y="87"/>
                  </a:lnTo>
                  <a:lnTo>
                    <a:pt x="548" y="80"/>
                  </a:lnTo>
                  <a:lnTo>
                    <a:pt x="550" y="74"/>
                  </a:lnTo>
                  <a:lnTo>
                    <a:pt x="551" y="69"/>
                  </a:lnTo>
                  <a:lnTo>
                    <a:pt x="552" y="63"/>
                  </a:lnTo>
                  <a:lnTo>
                    <a:pt x="552" y="57"/>
                  </a:lnTo>
                  <a:lnTo>
                    <a:pt x="551" y="52"/>
                  </a:lnTo>
                  <a:lnTo>
                    <a:pt x="550" y="46"/>
                  </a:lnTo>
                  <a:lnTo>
                    <a:pt x="548" y="41"/>
                  </a:lnTo>
                  <a:lnTo>
                    <a:pt x="546" y="36"/>
                  </a:lnTo>
                  <a:lnTo>
                    <a:pt x="540" y="27"/>
                  </a:lnTo>
                  <a:lnTo>
                    <a:pt x="533" y="18"/>
                  </a:lnTo>
                  <a:lnTo>
                    <a:pt x="525" y="11"/>
                  </a:lnTo>
                  <a:lnTo>
                    <a:pt x="515" y="5"/>
                  </a:lnTo>
                  <a:lnTo>
                    <a:pt x="510" y="3"/>
                  </a:lnTo>
                  <a:lnTo>
                    <a:pt x="505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7" y="0"/>
                  </a:lnTo>
                  <a:lnTo>
                    <a:pt x="482" y="0"/>
                  </a:lnTo>
                  <a:lnTo>
                    <a:pt x="476" y="1"/>
                  </a:lnTo>
                  <a:lnTo>
                    <a:pt x="470" y="3"/>
                  </a:lnTo>
                  <a:lnTo>
                    <a:pt x="465" y="6"/>
                  </a:lnTo>
                  <a:lnTo>
                    <a:pt x="459" y="9"/>
                  </a:lnTo>
                  <a:lnTo>
                    <a:pt x="454" y="13"/>
                  </a:lnTo>
                  <a:lnTo>
                    <a:pt x="448" y="18"/>
                  </a:lnTo>
                  <a:lnTo>
                    <a:pt x="491" y="1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444600" y="5808600"/>
              <a:ext cx="1155600" cy="14040"/>
            </a:xfrm>
            <a:custGeom>
              <a:avLst/>
              <a:gdLst/>
              <a:ahLst/>
              <a:rect l="l" t="t" r="r" b="b"/>
              <a:pathLst>
                <a:path w="9468" h="119">
                  <a:moveTo>
                    <a:pt x="9451" y="102"/>
                  </a:moveTo>
                  <a:lnTo>
                    <a:pt x="9409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9409" y="119"/>
                  </a:lnTo>
                  <a:lnTo>
                    <a:pt x="9451" y="102"/>
                  </a:lnTo>
                  <a:lnTo>
                    <a:pt x="9409" y="119"/>
                  </a:lnTo>
                  <a:lnTo>
                    <a:pt x="9416" y="119"/>
                  </a:lnTo>
                  <a:lnTo>
                    <a:pt x="9423" y="118"/>
                  </a:lnTo>
                  <a:lnTo>
                    <a:pt x="9429" y="116"/>
                  </a:lnTo>
                  <a:lnTo>
                    <a:pt x="9435" y="114"/>
                  </a:lnTo>
                  <a:lnTo>
                    <a:pt x="9440" y="112"/>
                  </a:lnTo>
                  <a:lnTo>
                    <a:pt x="9445" y="108"/>
                  </a:lnTo>
                  <a:lnTo>
                    <a:pt x="9449" y="105"/>
                  </a:lnTo>
                  <a:lnTo>
                    <a:pt x="9453" y="101"/>
                  </a:lnTo>
                  <a:lnTo>
                    <a:pt x="9457" y="96"/>
                  </a:lnTo>
                  <a:lnTo>
                    <a:pt x="9460" y="92"/>
                  </a:lnTo>
                  <a:lnTo>
                    <a:pt x="9462" y="87"/>
                  </a:lnTo>
                  <a:lnTo>
                    <a:pt x="9464" y="82"/>
                  </a:lnTo>
                  <a:lnTo>
                    <a:pt x="9467" y="70"/>
                  </a:lnTo>
                  <a:lnTo>
                    <a:pt x="9468" y="59"/>
                  </a:lnTo>
                  <a:lnTo>
                    <a:pt x="9467" y="48"/>
                  </a:lnTo>
                  <a:lnTo>
                    <a:pt x="9464" y="37"/>
                  </a:lnTo>
                  <a:lnTo>
                    <a:pt x="9462" y="32"/>
                  </a:lnTo>
                  <a:lnTo>
                    <a:pt x="9460" y="27"/>
                  </a:lnTo>
                  <a:lnTo>
                    <a:pt x="9457" y="23"/>
                  </a:lnTo>
                  <a:lnTo>
                    <a:pt x="9453" y="18"/>
                  </a:lnTo>
                  <a:lnTo>
                    <a:pt x="9449" y="14"/>
                  </a:lnTo>
                  <a:lnTo>
                    <a:pt x="9445" y="11"/>
                  </a:lnTo>
                  <a:lnTo>
                    <a:pt x="9440" y="7"/>
                  </a:lnTo>
                  <a:lnTo>
                    <a:pt x="9435" y="5"/>
                  </a:lnTo>
                  <a:lnTo>
                    <a:pt x="9429" y="3"/>
                  </a:lnTo>
                  <a:lnTo>
                    <a:pt x="9423" y="1"/>
                  </a:lnTo>
                  <a:lnTo>
                    <a:pt x="9416" y="0"/>
                  </a:lnTo>
                  <a:lnTo>
                    <a:pt x="9409" y="0"/>
                  </a:lnTo>
                  <a:lnTo>
                    <a:pt x="9451" y="102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530360" y="5810040"/>
              <a:ext cx="68400" cy="68040"/>
            </a:xfrm>
            <a:custGeom>
              <a:avLst/>
              <a:gdLst/>
              <a:ahLst/>
              <a:rect l="l" t="t" r="r" b="b"/>
              <a:pathLst>
                <a:path w="554" h="553">
                  <a:moveTo>
                    <a:pt x="61" y="552"/>
                  </a:moveTo>
                  <a:lnTo>
                    <a:pt x="103" y="534"/>
                  </a:lnTo>
                  <a:lnTo>
                    <a:pt x="554" y="85"/>
                  </a:lnTo>
                  <a:lnTo>
                    <a:pt x="469" y="0"/>
                  </a:lnTo>
                  <a:lnTo>
                    <a:pt x="18" y="449"/>
                  </a:lnTo>
                  <a:lnTo>
                    <a:pt x="61" y="552"/>
                  </a:lnTo>
                  <a:lnTo>
                    <a:pt x="18" y="449"/>
                  </a:lnTo>
                  <a:lnTo>
                    <a:pt x="14" y="455"/>
                  </a:lnTo>
                  <a:lnTo>
                    <a:pt x="9" y="460"/>
                  </a:lnTo>
                  <a:lnTo>
                    <a:pt x="6" y="466"/>
                  </a:lnTo>
                  <a:lnTo>
                    <a:pt x="4" y="472"/>
                  </a:lnTo>
                  <a:lnTo>
                    <a:pt x="2" y="478"/>
                  </a:lnTo>
                  <a:lnTo>
                    <a:pt x="1" y="484"/>
                  </a:lnTo>
                  <a:lnTo>
                    <a:pt x="0" y="489"/>
                  </a:lnTo>
                  <a:lnTo>
                    <a:pt x="0" y="495"/>
                  </a:lnTo>
                  <a:lnTo>
                    <a:pt x="1" y="501"/>
                  </a:lnTo>
                  <a:lnTo>
                    <a:pt x="2" y="506"/>
                  </a:lnTo>
                  <a:lnTo>
                    <a:pt x="3" y="511"/>
                  </a:lnTo>
                  <a:lnTo>
                    <a:pt x="6" y="516"/>
                  </a:lnTo>
                  <a:lnTo>
                    <a:pt x="11" y="526"/>
                  </a:lnTo>
                  <a:lnTo>
                    <a:pt x="18" y="534"/>
                  </a:lnTo>
                  <a:lnTo>
                    <a:pt x="27" y="541"/>
                  </a:lnTo>
                  <a:lnTo>
                    <a:pt x="37" y="547"/>
                  </a:lnTo>
                  <a:lnTo>
                    <a:pt x="42" y="549"/>
                  </a:lnTo>
                  <a:lnTo>
                    <a:pt x="48" y="551"/>
                  </a:lnTo>
                  <a:lnTo>
                    <a:pt x="53" y="552"/>
                  </a:lnTo>
                  <a:lnTo>
                    <a:pt x="59" y="553"/>
                  </a:lnTo>
                  <a:lnTo>
                    <a:pt x="64" y="553"/>
                  </a:lnTo>
                  <a:lnTo>
                    <a:pt x="70" y="552"/>
                  </a:lnTo>
                  <a:lnTo>
                    <a:pt x="76" y="551"/>
                  </a:lnTo>
                  <a:lnTo>
                    <a:pt x="81" y="549"/>
                  </a:lnTo>
                  <a:lnTo>
                    <a:pt x="87" y="547"/>
                  </a:lnTo>
                  <a:lnTo>
                    <a:pt x="92" y="543"/>
                  </a:lnTo>
                  <a:lnTo>
                    <a:pt x="98" y="539"/>
                  </a:lnTo>
                  <a:lnTo>
                    <a:pt x="103" y="534"/>
                  </a:lnTo>
                  <a:lnTo>
                    <a:pt x="61" y="552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82680" y="5862600"/>
              <a:ext cx="1155600" cy="13680"/>
            </a:xfrm>
            <a:custGeom>
              <a:avLst/>
              <a:gdLst/>
              <a:ahLst/>
              <a:rect l="l" t="t" r="r" b="b"/>
              <a:pathLst>
                <a:path w="9466" h="122">
                  <a:moveTo>
                    <a:pt x="17" y="17"/>
                  </a:moveTo>
                  <a:lnTo>
                    <a:pt x="60" y="120"/>
                  </a:lnTo>
                  <a:lnTo>
                    <a:pt x="9466" y="122"/>
                  </a:lnTo>
                  <a:lnTo>
                    <a:pt x="9466" y="2"/>
                  </a:lnTo>
                  <a:lnTo>
                    <a:pt x="60" y="0"/>
                  </a:lnTo>
                  <a:lnTo>
                    <a:pt x="17" y="17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40" y="3"/>
                  </a:lnTo>
                  <a:lnTo>
                    <a:pt x="33" y="5"/>
                  </a:lnTo>
                  <a:lnTo>
                    <a:pt x="28" y="8"/>
                  </a:lnTo>
                  <a:lnTo>
                    <a:pt x="23" y="11"/>
                  </a:lnTo>
                  <a:lnTo>
                    <a:pt x="18" y="15"/>
                  </a:lnTo>
                  <a:lnTo>
                    <a:pt x="15" y="18"/>
                  </a:lnTo>
                  <a:lnTo>
                    <a:pt x="11" y="23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1"/>
                  </a:lnTo>
                  <a:lnTo>
                    <a:pt x="3" y="82"/>
                  </a:lnTo>
                  <a:lnTo>
                    <a:pt x="5" y="87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5" y="101"/>
                  </a:lnTo>
                  <a:lnTo>
                    <a:pt x="18" y="105"/>
                  </a:lnTo>
                  <a:lnTo>
                    <a:pt x="23" y="109"/>
                  </a:lnTo>
                  <a:lnTo>
                    <a:pt x="28" y="112"/>
                  </a:lnTo>
                  <a:lnTo>
                    <a:pt x="33" y="115"/>
                  </a:lnTo>
                  <a:lnTo>
                    <a:pt x="40" y="117"/>
                  </a:lnTo>
                  <a:lnTo>
                    <a:pt x="46" y="118"/>
                  </a:lnTo>
                  <a:lnTo>
                    <a:pt x="53" y="119"/>
                  </a:lnTo>
                  <a:lnTo>
                    <a:pt x="60" y="120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88800" y="5870520"/>
              <a:ext cx="1149480" cy="479160"/>
            </a:xfrm>
            <a:custGeom>
              <a:avLst/>
              <a:gdLst/>
              <a:ahLst/>
              <a:rect l="l" t="t" r="r" b="b"/>
              <a:pathLst>
                <a:path w="9416" h="3935">
                  <a:moveTo>
                    <a:pt x="10" y="0"/>
                  </a:moveTo>
                  <a:lnTo>
                    <a:pt x="0" y="3935"/>
                  </a:lnTo>
                  <a:lnTo>
                    <a:pt x="9408" y="3935"/>
                  </a:lnTo>
                  <a:lnTo>
                    <a:pt x="9416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3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80880" y="5870520"/>
              <a:ext cx="15840" cy="487080"/>
            </a:xfrm>
            <a:custGeom>
              <a:avLst/>
              <a:gdLst/>
              <a:ahLst/>
              <a:rect l="l" t="t" r="r" b="b"/>
              <a:pathLst>
                <a:path w="129" h="3995">
                  <a:moveTo>
                    <a:pt x="60" y="3995"/>
                  </a:moveTo>
                  <a:lnTo>
                    <a:pt x="119" y="3935"/>
                  </a:lnTo>
                  <a:lnTo>
                    <a:pt x="129" y="0"/>
                  </a:lnTo>
                  <a:lnTo>
                    <a:pt x="10" y="0"/>
                  </a:lnTo>
                  <a:lnTo>
                    <a:pt x="0" y="3935"/>
                  </a:lnTo>
                  <a:lnTo>
                    <a:pt x="60" y="3995"/>
                  </a:lnTo>
                  <a:lnTo>
                    <a:pt x="0" y="3935"/>
                  </a:lnTo>
                  <a:lnTo>
                    <a:pt x="0" y="3942"/>
                  </a:lnTo>
                  <a:lnTo>
                    <a:pt x="1" y="3950"/>
                  </a:lnTo>
                  <a:lnTo>
                    <a:pt x="3" y="3956"/>
                  </a:lnTo>
                  <a:lnTo>
                    <a:pt x="5" y="3962"/>
                  </a:lnTo>
                  <a:lnTo>
                    <a:pt x="8" y="3967"/>
                  </a:lnTo>
                  <a:lnTo>
                    <a:pt x="11" y="3972"/>
                  </a:lnTo>
                  <a:lnTo>
                    <a:pt x="14" y="3976"/>
                  </a:lnTo>
                  <a:lnTo>
                    <a:pt x="18" y="3980"/>
                  </a:lnTo>
                  <a:lnTo>
                    <a:pt x="23" y="3983"/>
                  </a:lnTo>
                  <a:lnTo>
                    <a:pt x="27" y="3986"/>
                  </a:lnTo>
                  <a:lnTo>
                    <a:pt x="32" y="3989"/>
                  </a:lnTo>
                  <a:lnTo>
                    <a:pt x="37" y="3991"/>
                  </a:lnTo>
                  <a:lnTo>
                    <a:pt x="49" y="3994"/>
                  </a:lnTo>
                  <a:lnTo>
                    <a:pt x="60" y="3995"/>
                  </a:lnTo>
                  <a:lnTo>
                    <a:pt x="71" y="3994"/>
                  </a:lnTo>
                  <a:lnTo>
                    <a:pt x="82" y="3991"/>
                  </a:lnTo>
                  <a:lnTo>
                    <a:pt x="87" y="3989"/>
                  </a:lnTo>
                  <a:lnTo>
                    <a:pt x="92" y="3986"/>
                  </a:lnTo>
                  <a:lnTo>
                    <a:pt x="96" y="3983"/>
                  </a:lnTo>
                  <a:lnTo>
                    <a:pt x="101" y="3980"/>
                  </a:lnTo>
                  <a:lnTo>
                    <a:pt x="105" y="3976"/>
                  </a:lnTo>
                  <a:lnTo>
                    <a:pt x="108" y="3972"/>
                  </a:lnTo>
                  <a:lnTo>
                    <a:pt x="111" y="3967"/>
                  </a:lnTo>
                  <a:lnTo>
                    <a:pt x="114" y="3962"/>
                  </a:lnTo>
                  <a:lnTo>
                    <a:pt x="116" y="3956"/>
                  </a:lnTo>
                  <a:lnTo>
                    <a:pt x="118" y="3950"/>
                  </a:lnTo>
                  <a:lnTo>
                    <a:pt x="119" y="3942"/>
                  </a:lnTo>
                  <a:lnTo>
                    <a:pt x="119" y="3935"/>
                  </a:lnTo>
                  <a:lnTo>
                    <a:pt x="60" y="3995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88800" y="6343560"/>
              <a:ext cx="1155960" cy="14040"/>
            </a:xfrm>
            <a:custGeom>
              <a:avLst/>
              <a:gdLst/>
              <a:ahLst/>
              <a:rect l="l" t="t" r="r" b="b"/>
              <a:pathLst>
                <a:path w="9468" h="120">
                  <a:moveTo>
                    <a:pt x="9468" y="60"/>
                  </a:moveTo>
                  <a:lnTo>
                    <a:pt x="9408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9408" y="120"/>
                  </a:lnTo>
                  <a:lnTo>
                    <a:pt x="9468" y="60"/>
                  </a:lnTo>
                  <a:lnTo>
                    <a:pt x="9408" y="120"/>
                  </a:lnTo>
                  <a:lnTo>
                    <a:pt x="9416" y="120"/>
                  </a:lnTo>
                  <a:lnTo>
                    <a:pt x="9422" y="119"/>
                  </a:lnTo>
                  <a:lnTo>
                    <a:pt x="9429" y="117"/>
                  </a:lnTo>
                  <a:lnTo>
                    <a:pt x="9434" y="115"/>
                  </a:lnTo>
                  <a:lnTo>
                    <a:pt x="9440" y="112"/>
                  </a:lnTo>
                  <a:lnTo>
                    <a:pt x="9445" y="109"/>
                  </a:lnTo>
                  <a:lnTo>
                    <a:pt x="9449" y="105"/>
                  </a:lnTo>
                  <a:lnTo>
                    <a:pt x="9453" y="101"/>
                  </a:lnTo>
                  <a:lnTo>
                    <a:pt x="9456" y="97"/>
                  </a:lnTo>
                  <a:lnTo>
                    <a:pt x="9459" y="92"/>
                  </a:lnTo>
                  <a:lnTo>
                    <a:pt x="9462" y="88"/>
                  </a:lnTo>
                  <a:lnTo>
                    <a:pt x="9464" y="82"/>
                  </a:lnTo>
                  <a:lnTo>
                    <a:pt x="9467" y="72"/>
                  </a:lnTo>
                  <a:lnTo>
                    <a:pt x="9468" y="60"/>
                  </a:lnTo>
                  <a:lnTo>
                    <a:pt x="9467" y="49"/>
                  </a:lnTo>
                  <a:lnTo>
                    <a:pt x="9464" y="38"/>
                  </a:lnTo>
                  <a:lnTo>
                    <a:pt x="9462" y="33"/>
                  </a:lnTo>
                  <a:lnTo>
                    <a:pt x="9459" y="28"/>
                  </a:lnTo>
                  <a:lnTo>
                    <a:pt x="9456" y="23"/>
                  </a:lnTo>
                  <a:lnTo>
                    <a:pt x="9453" y="19"/>
                  </a:lnTo>
                  <a:lnTo>
                    <a:pt x="9449" y="15"/>
                  </a:lnTo>
                  <a:lnTo>
                    <a:pt x="9445" y="11"/>
                  </a:lnTo>
                  <a:lnTo>
                    <a:pt x="9440" y="8"/>
                  </a:lnTo>
                  <a:lnTo>
                    <a:pt x="9434" y="5"/>
                  </a:lnTo>
                  <a:lnTo>
                    <a:pt x="9429" y="3"/>
                  </a:lnTo>
                  <a:lnTo>
                    <a:pt x="9422" y="2"/>
                  </a:lnTo>
                  <a:lnTo>
                    <a:pt x="9416" y="1"/>
                  </a:lnTo>
                  <a:lnTo>
                    <a:pt x="9408" y="0"/>
                  </a:lnTo>
                  <a:lnTo>
                    <a:pt x="9468" y="6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1530360" y="5862600"/>
              <a:ext cx="15840" cy="487080"/>
            </a:xfrm>
            <a:custGeom>
              <a:avLst/>
              <a:gdLst/>
              <a:ahLst/>
              <a:rect l="l" t="t" r="r" b="b"/>
              <a:pathLst>
                <a:path w="128" h="3993">
                  <a:moveTo>
                    <a:pt x="68" y="0"/>
                  </a:moveTo>
                  <a:lnTo>
                    <a:pt x="8" y="60"/>
                  </a:lnTo>
                  <a:lnTo>
                    <a:pt x="0" y="3993"/>
                  </a:lnTo>
                  <a:lnTo>
                    <a:pt x="120" y="3993"/>
                  </a:lnTo>
                  <a:lnTo>
                    <a:pt x="128" y="60"/>
                  </a:lnTo>
                  <a:lnTo>
                    <a:pt x="68" y="0"/>
                  </a:lnTo>
                  <a:lnTo>
                    <a:pt x="128" y="60"/>
                  </a:lnTo>
                  <a:lnTo>
                    <a:pt x="127" y="53"/>
                  </a:lnTo>
                  <a:lnTo>
                    <a:pt x="126" y="46"/>
                  </a:lnTo>
                  <a:lnTo>
                    <a:pt x="125" y="40"/>
                  </a:lnTo>
                  <a:lnTo>
                    <a:pt x="123" y="33"/>
                  </a:lnTo>
                  <a:lnTo>
                    <a:pt x="120" y="28"/>
                  </a:lnTo>
                  <a:lnTo>
                    <a:pt x="117" y="23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5" y="11"/>
                  </a:lnTo>
                  <a:lnTo>
                    <a:pt x="100" y="8"/>
                  </a:lnTo>
                  <a:lnTo>
                    <a:pt x="95" y="6"/>
                  </a:lnTo>
                  <a:lnTo>
                    <a:pt x="90" y="4"/>
                  </a:lnTo>
                  <a:lnTo>
                    <a:pt x="79" y="1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31" y="11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19" y="23"/>
                  </a:lnTo>
                  <a:lnTo>
                    <a:pt x="16" y="28"/>
                  </a:lnTo>
                  <a:lnTo>
                    <a:pt x="13" y="33"/>
                  </a:lnTo>
                  <a:lnTo>
                    <a:pt x="11" y="40"/>
                  </a:lnTo>
                  <a:lnTo>
                    <a:pt x="9" y="46"/>
                  </a:lnTo>
                  <a:lnTo>
                    <a:pt x="8" y="53"/>
                  </a:lnTo>
                  <a:lnTo>
                    <a:pt x="8" y="6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82680" y="5862600"/>
              <a:ext cx="1155600" cy="13680"/>
            </a:xfrm>
            <a:custGeom>
              <a:avLst/>
              <a:gdLst/>
              <a:ahLst/>
              <a:rect l="l" t="t" r="r" b="b"/>
              <a:pathLst>
                <a:path w="9466" h="122">
                  <a:moveTo>
                    <a:pt x="0" y="60"/>
                  </a:moveTo>
                  <a:lnTo>
                    <a:pt x="60" y="120"/>
                  </a:lnTo>
                  <a:lnTo>
                    <a:pt x="9466" y="122"/>
                  </a:lnTo>
                  <a:lnTo>
                    <a:pt x="9466" y="2"/>
                  </a:lnTo>
                  <a:lnTo>
                    <a:pt x="60" y="0"/>
                  </a:lnTo>
                  <a:lnTo>
                    <a:pt x="0" y="6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40" y="3"/>
                  </a:lnTo>
                  <a:lnTo>
                    <a:pt x="33" y="5"/>
                  </a:lnTo>
                  <a:lnTo>
                    <a:pt x="28" y="8"/>
                  </a:lnTo>
                  <a:lnTo>
                    <a:pt x="23" y="11"/>
                  </a:lnTo>
                  <a:lnTo>
                    <a:pt x="18" y="15"/>
                  </a:lnTo>
                  <a:lnTo>
                    <a:pt x="15" y="18"/>
                  </a:lnTo>
                  <a:lnTo>
                    <a:pt x="11" y="23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1"/>
                  </a:lnTo>
                  <a:lnTo>
                    <a:pt x="3" y="82"/>
                  </a:lnTo>
                  <a:lnTo>
                    <a:pt x="5" y="87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5" y="101"/>
                  </a:lnTo>
                  <a:lnTo>
                    <a:pt x="18" y="105"/>
                  </a:lnTo>
                  <a:lnTo>
                    <a:pt x="23" y="109"/>
                  </a:lnTo>
                  <a:lnTo>
                    <a:pt x="28" y="112"/>
                  </a:lnTo>
                  <a:lnTo>
                    <a:pt x="33" y="115"/>
                  </a:lnTo>
                  <a:lnTo>
                    <a:pt x="40" y="117"/>
                  </a:lnTo>
                  <a:lnTo>
                    <a:pt x="46" y="118"/>
                  </a:lnTo>
                  <a:lnTo>
                    <a:pt x="53" y="119"/>
                  </a:lnTo>
                  <a:lnTo>
                    <a:pt x="60" y="12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1538280" y="5814720"/>
              <a:ext cx="55440" cy="533160"/>
            </a:xfrm>
            <a:custGeom>
              <a:avLst/>
              <a:gdLst/>
              <a:ahLst/>
              <a:rect l="l" t="t" r="r" b="b"/>
              <a:pathLst>
                <a:path w="453" h="4359">
                  <a:moveTo>
                    <a:pt x="5" y="4359"/>
                  </a:moveTo>
                  <a:lnTo>
                    <a:pt x="453" y="3912"/>
                  </a:lnTo>
                  <a:lnTo>
                    <a:pt x="451" y="0"/>
                  </a:lnTo>
                  <a:lnTo>
                    <a:pt x="0" y="450"/>
                  </a:lnTo>
                  <a:lnTo>
                    <a:pt x="5" y="4359"/>
                  </a:lnTo>
                  <a:close/>
                </a:path>
              </a:pathLst>
            </a:custGeom>
            <a:solidFill>
              <a:srgbClr val="6f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1533600" y="6284880"/>
              <a:ext cx="66600" cy="67680"/>
            </a:xfrm>
            <a:custGeom>
              <a:avLst/>
              <a:gdLst/>
              <a:ahLst/>
              <a:rect l="l" t="t" r="r" b="b"/>
              <a:pathLst>
                <a:path w="551" h="552">
                  <a:moveTo>
                    <a:pt x="550" y="62"/>
                  </a:moveTo>
                  <a:lnTo>
                    <a:pt x="448" y="19"/>
                  </a:lnTo>
                  <a:lnTo>
                    <a:pt x="0" y="467"/>
                  </a:lnTo>
                  <a:lnTo>
                    <a:pt x="84" y="552"/>
                  </a:lnTo>
                  <a:lnTo>
                    <a:pt x="533" y="104"/>
                  </a:lnTo>
                  <a:lnTo>
                    <a:pt x="550" y="62"/>
                  </a:lnTo>
                  <a:lnTo>
                    <a:pt x="533" y="104"/>
                  </a:lnTo>
                  <a:lnTo>
                    <a:pt x="538" y="98"/>
                  </a:lnTo>
                  <a:lnTo>
                    <a:pt x="542" y="93"/>
                  </a:lnTo>
                  <a:lnTo>
                    <a:pt x="545" y="87"/>
                  </a:lnTo>
                  <a:lnTo>
                    <a:pt x="547" y="82"/>
                  </a:lnTo>
                  <a:lnTo>
                    <a:pt x="549" y="76"/>
                  </a:lnTo>
                  <a:lnTo>
                    <a:pt x="550" y="70"/>
                  </a:lnTo>
                  <a:lnTo>
                    <a:pt x="551" y="65"/>
                  </a:lnTo>
                  <a:lnTo>
                    <a:pt x="551" y="59"/>
                  </a:lnTo>
                  <a:lnTo>
                    <a:pt x="550" y="54"/>
                  </a:lnTo>
                  <a:lnTo>
                    <a:pt x="549" y="48"/>
                  </a:lnTo>
                  <a:lnTo>
                    <a:pt x="548" y="43"/>
                  </a:lnTo>
                  <a:lnTo>
                    <a:pt x="545" y="38"/>
                  </a:lnTo>
                  <a:lnTo>
                    <a:pt x="540" y="27"/>
                  </a:lnTo>
                  <a:lnTo>
                    <a:pt x="533" y="19"/>
                  </a:lnTo>
                  <a:lnTo>
                    <a:pt x="524" y="12"/>
                  </a:lnTo>
                  <a:lnTo>
                    <a:pt x="515" y="6"/>
                  </a:lnTo>
                  <a:lnTo>
                    <a:pt x="510" y="4"/>
                  </a:lnTo>
                  <a:lnTo>
                    <a:pt x="504" y="2"/>
                  </a:lnTo>
                  <a:lnTo>
                    <a:pt x="499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482" y="1"/>
                  </a:lnTo>
                  <a:lnTo>
                    <a:pt x="475" y="2"/>
                  </a:lnTo>
                  <a:lnTo>
                    <a:pt x="470" y="4"/>
                  </a:lnTo>
                  <a:lnTo>
                    <a:pt x="464" y="7"/>
                  </a:lnTo>
                  <a:lnTo>
                    <a:pt x="459" y="10"/>
                  </a:lnTo>
                  <a:lnTo>
                    <a:pt x="453" y="14"/>
                  </a:lnTo>
                  <a:lnTo>
                    <a:pt x="448" y="19"/>
                  </a:lnTo>
                  <a:lnTo>
                    <a:pt x="550" y="62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1585800" y="5808600"/>
              <a:ext cx="14400" cy="483840"/>
            </a:xfrm>
            <a:custGeom>
              <a:avLst/>
              <a:gdLst/>
              <a:ahLst/>
              <a:rect l="l" t="t" r="r" b="b"/>
              <a:pathLst>
                <a:path w="122" h="3971">
                  <a:moveTo>
                    <a:pt x="18" y="17"/>
                  </a:moveTo>
                  <a:lnTo>
                    <a:pt x="0" y="59"/>
                  </a:lnTo>
                  <a:lnTo>
                    <a:pt x="2" y="3971"/>
                  </a:lnTo>
                  <a:lnTo>
                    <a:pt x="122" y="3971"/>
                  </a:lnTo>
                  <a:lnTo>
                    <a:pt x="120" y="59"/>
                  </a:lnTo>
                  <a:lnTo>
                    <a:pt x="18" y="17"/>
                  </a:lnTo>
                  <a:lnTo>
                    <a:pt x="120" y="59"/>
                  </a:lnTo>
                  <a:lnTo>
                    <a:pt x="120" y="52"/>
                  </a:lnTo>
                  <a:lnTo>
                    <a:pt x="119" y="45"/>
                  </a:lnTo>
                  <a:lnTo>
                    <a:pt x="117" y="39"/>
                  </a:lnTo>
                  <a:lnTo>
                    <a:pt x="115" y="33"/>
                  </a:lnTo>
                  <a:lnTo>
                    <a:pt x="112" y="28"/>
                  </a:lnTo>
                  <a:lnTo>
                    <a:pt x="109" y="23"/>
                  </a:lnTo>
                  <a:lnTo>
                    <a:pt x="105" y="18"/>
                  </a:lnTo>
                  <a:lnTo>
                    <a:pt x="101" y="15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2" y="1"/>
                  </a:lnTo>
                  <a:lnTo>
                    <a:pt x="61" y="0"/>
                  </a:lnTo>
                  <a:lnTo>
                    <a:pt x="49" y="1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28" y="8"/>
                  </a:lnTo>
                  <a:lnTo>
                    <a:pt x="23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5" y="33"/>
                  </a:lnTo>
                  <a:lnTo>
                    <a:pt x="3" y="39"/>
                  </a:lnTo>
                  <a:lnTo>
                    <a:pt x="2" y="45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1530360" y="5810040"/>
              <a:ext cx="68400" cy="68040"/>
            </a:xfrm>
            <a:custGeom>
              <a:avLst/>
              <a:gdLst/>
              <a:ahLst/>
              <a:rect l="l" t="t" r="r" b="b"/>
              <a:pathLst>
                <a:path w="554" h="553">
                  <a:moveTo>
                    <a:pt x="1" y="492"/>
                  </a:moveTo>
                  <a:lnTo>
                    <a:pt x="103" y="534"/>
                  </a:lnTo>
                  <a:lnTo>
                    <a:pt x="554" y="85"/>
                  </a:lnTo>
                  <a:lnTo>
                    <a:pt x="469" y="0"/>
                  </a:lnTo>
                  <a:lnTo>
                    <a:pt x="18" y="449"/>
                  </a:lnTo>
                  <a:lnTo>
                    <a:pt x="1" y="492"/>
                  </a:lnTo>
                  <a:lnTo>
                    <a:pt x="18" y="449"/>
                  </a:lnTo>
                  <a:lnTo>
                    <a:pt x="14" y="455"/>
                  </a:lnTo>
                  <a:lnTo>
                    <a:pt x="9" y="460"/>
                  </a:lnTo>
                  <a:lnTo>
                    <a:pt x="6" y="466"/>
                  </a:lnTo>
                  <a:lnTo>
                    <a:pt x="4" y="472"/>
                  </a:lnTo>
                  <a:lnTo>
                    <a:pt x="2" y="478"/>
                  </a:lnTo>
                  <a:lnTo>
                    <a:pt x="1" y="484"/>
                  </a:lnTo>
                  <a:lnTo>
                    <a:pt x="0" y="489"/>
                  </a:lnTo>
                  <a:lnTo>
                    <a:pt x="0" y="495"/>
                  </a:lnTo>
                  <a:lnTo>
                    <a:pt x="1" y="501"/>
                  </a:lnTo>
                  <a:lnTo>
                    <a:pt x="2" y="506"/>
                  </a:lnTo>
                  <a:lnTo>
                    <a:pt x="3" y="511"/>
                  </a:lnTo>
                  <a:lnTo>
                    <a:pt x="6" y="516"/>
                  </a:lnTo>
                  <a:lnTo>
                    <a:pt x="11" y="526"/>
                  </a:lnTo>
                  <a:lnTo>
                    <a:pt x="18" y="534"/>
                  </a:lnTo>
                  <a:lnTo>
                    <a:pt x="27" y="542"/>
                  </a:lnTo>
                  <a:lnTo>
                    <a:pt x="37" y="547"/>
                  </a:lnTo>
                  <a:lnTo>
                    <a:pt x="42" y="549"/>
                  </a:lnTo>
                  <a:lnTo>
                    <a:pt x="48" y="551"/>
                  </a:lnTo>
                  <a:lnTo>
                    <a:pt x="53" y="552"/>
                  </a:lnTo>
                  <a:lnTo>
                    <a:pt x="59" y="553"/>
                  </a:lnTo>
                  <a:lnTo>
                    <a:pt x="64" y="553"/>
                  </a:lnTo>
                  <a:lnTo>
                    <a:pt x="70" y="552"/>
                  </a:lnTo>
                  <a:lnTo>
                    <a:pt x="76" y="551"/>
                  </a:lnTo>
                  <a:lnTo>
                    <a:pt x="81" y="549"/>
                  </a:lnTo>
                  <a:lnTo>
                    <a:pt x="87" y="547"/>
                  </a:lnTo>
                  <a:lnTo>
                    <a:pt x="92" y="543"/>
                  </a:lnTo>
                  <a:lnTo>
                    <a:pt x="98" y="539"/>
                  </a:lnTo>
                  <a:lnTo>
                    <a:pt x="103" y="534"/>
                  </a:lnTo>
                  <a:lnTo>
                    <a:pt x="1" y="492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1530360" y="5870520"/>
              <a:ext cx="15840" cy="483840"/>
            </a:xfrm>
            <a:custGeom>
              <a:avLst/>
              <a:gdLst/>
              <a:ahLst/>
              <a:rect l="l" t="t" r="r" b="b"/>
              <a:pathLst>
                <a:path w="124" h="3969">
                  <a:moveTo>
                    <a:pt x="106" y="3952"/>
                  </a:moveTo>
                  <a:lnTo>
                    <a:pt x="124" y="3909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4" y="3909"/>
                  </a:lnTo>
                  <a:lnTo>
                    <a:pt x="106" y="3952"/>
                  </a:lnTo>
                  <a:lnTo>
                    <a:pt x="4" y="3909"/>
                  </a:lnTo>
                  <a:lnTo>
                    <a:pt x="5" y="3916"/>
                  </a:lnTo>
                  <a:lnTo>
                    <a:pt x="6" y="3923"/>
                  </a:lnTo>
                  <a:lnTo>
                    <a:pt x="7" y="3929"/>
                  </a:lnTo>
                  <a:lnTo>
                    <a:pt x="9" y="3935"/>
                  </a:lnTo>
                  <a:lnTo>
                    <a:pt x="12" y="3940"/>
                  </a:lnTo>
                  <a:lnTo>
                    <a:pt x="15" y="3946"/>
                  </a:lnTo>
                  <a:lnTo>
                    <a:pt x="19" y="3951"/>
                  </a:lnTo>
                  <a:lnTo>
                    <a:pt x="23" y="3955"/>
                  </a:lnTo>
                  <a:lnTo>
                    <a:pt x="27" y="3958"/>
                  </a:lnTo>
                  <a:lnTo>
                    <a:pt x="32" y="3961"/>
                  </a:lnTo>
                  <a:lnTo>
                    <a:pt x="38" y="3964"/>
                  </a:lnTo>
                  <a:lnTo>
                    <a:pt x="43" y="3966"/>
                  </a:lnTo>
                  <a:lnTo>
                    <a:pt x="53" y="3968"/>
                  </a:lnTo>
                  <a:lnTo>
                    <a:pt x="65" y="3969"/>
                  </a:lnTo>
                  <a:lnTo>
                    <a:pt x="76" y="3968"/>
                  </a:lnTo>
                  <a:lnTo>
                    <a:pt x="86" y="3966"/>
                  </a:lnTo>
                  <a:lnTo>
                    <a:pt x="91" y="3964"/>
                  </a:lnTo>
                  <a:lnTo>
                    <a:pt x="96" y="3961"/>
                  </a:lnTo>
                  <a:lnTo>
                    <a:pt x="101" y="3958"/>
                  </a:lnTo>
                  <a:lnTo>
                    <a:pt x="105" y="3955"/>
                  </a:lnTo>
                  <a:lnTo>
                    <a:pt x="109" y="3951"/>
                  </a:lnTo>
                  <a:lnTo>
                    <a:pt x="113" y="3946"/>
                  </a:lnTo>
                  <a:lnTo>
                    <a:pt x="116" y="3940"/>
                  </a:lnTo>
                  <a:lnTo>
                    <a:pt x="119" y="3935"/>
                  </a:lnTo>
                  <a:lnTo>
                    <a:pt x="121" y="3929"/>
                  </a:lnTo>
                  <a:lnTo>
                    <a:pt x="122" y="3923"/>
                  </a:lnTo>
                  <a:lnTo>
                    <a:pt x="123" y="3916"/>
                  </a:lnTo>
                  <a:lnTo>
                    <a:pt x="124" y="3909"/>
                  </a:lnTo>
                  <a:lnTo>
                    <a:pt x="106" y="3952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8" name="" descr=""/>
          <p:cNvPicPr/>
          <p:nvPr/>
        </p:nvPicPr>
        <p:blipFill>
          <a:blip r:embed="rId1"/>
          <a:stretch/>
        </p:blipFill>
        <p:spPr>
          <a:xfrm>
            <a:off x="1104840" y="1270080"/>
            <a:ext cx="424080" cy="1004760"/>
          </a:xfrm>
          <a:prstGeom prst="rect">
            <a:avLst/>
          </a:prstGeom>
          <a:ln w="0">
            <a:noFill/>
          </a:ln>
        </p:spPr>
      </p:pic>
      <p:pic>
        <p:nvPicPr>
          <p:cNvPr id="4209" name="" descr=""/>
          <p:cNvPicPr/>
          <p:nvPr/>
        </p:nvPicPr>
        <p:blipFill>
          <a:blip r:embed="rId2"/>
          <a:stretch/>
        </p:blipFill>
        <p:spPr>
          <a:xfrm>
            <a:off x="1096920" y="2305080"/>
            <a:ext cx="750960" cy="946080"/>
          </a:xfrm>
          <a:prstGeom prst="rect">
            <a:avLst/>
          </a:prstGeom>
          <a:ln w="0">
            <a:noFill/>
          </a:ln>
        </p:spPr>
      </p:pic>
      <p:sp>
        <p:nvSpPr>
          <p:cNvPr id="4210" name=""/>
          <p:cNvSpPr/>
          <p:nvPr/>
        </p:nvSpPr>
        <p:spPr>
          <a:xfrm>
            <a:off x="1933560" y="1270080"/>
            <a:ext cx="12668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ewall: Horizontal, Vertical, 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1933560" y="2625840"/>
            <a:ext cx="67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1933560" y="3414600"/>
            <a:ext cx="67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3" name="" descr=""/>
          <p:cNvPicPr/>
          <p:nvPr/>
        </p:nvPicPr>
        <p:blipFill>
          <a:blip r:embed="rId3"/>
          <a:stretch/>
        </p:blipFill>
        <p:spPr>
          <a:xfrm>
            <a:off x="812880" y="3332160"/>
            <a:ext cx="1035000" cy="469800"/>
          </a:xfrm>
          <a:prstGeom prst="rect">
            <a:avLst/>
          </a:prstGeom>
          <a:ln w="0">
            <a:noFill/>
          </a:ln>
        </p:spPr>
      </p:pic>
      <p:sp>
        <p:nvSpPr>
          <p:cNvPr id="4214" name=""/>
          <p:cNvSpPr/>
          <p:nvPr/>
        </p:nvSpPr>
        <p:spPr>
          <a:xfrm>
            <a:off x="1933560" y="424188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5" name="" descr=""/>
          <p:cNvPicPr/>
          <p:nvPr/>
        </p:nvPicPr>
        <p:blipFill>
          <a:blip r:embed="rId4"/>
          <a:stretch/>
        </p:blipFill>
        <p:spPr>
          <a:xfrm>
            <a:off x="979560" y="3905280"/>
            <a:ext cx="990360" cy="946080"/>
          </a:xfrm>
          <a:prstGeom prst="rect">
            <a:avLst/>
          </a:prstGeom>
          <a:ln w="0">
            <a:noFill/>
          </a:ln>
        </p:spPr>
      </p:pic>
      <p:pic>
        <p:nvPicPr>
          <p:cNvPr id="4216" name="" descr=""/>
          <p:cNvPicPr/>
          <p:nvPr/>
        </p:nvPicPr>
        <p:blipFill>
          <a:blip r:embed="rId5"/>
          <a:stretch/>
        </p:blipFill>
        <p:spPr>
          <a:xfrm>
            <a:off x="3605040" y="5094360"/>
            <a:ext cx="766800" cy="444600"/>
          </a:xfrm>
          <a:prstGeom prst="rect">
            <a:avLst/>
          </a:prstGeom>
          <a:ln w="0">
            <a:noFill/>
          </a:ln>
        </p:spPr>
      </p:pic>
      <p:pic>
        <p:nvPicPr>
          <p:cNvPr id="4217" name="" descr=""/>
          <p:cNvPicPr/>
          <p:nvPr/>
        </p:nvPicPr>
        <p:blipFill>
          <a:blip r:embed="rId6"/>
          <a:stretch/>
        </p:blipFill>
        <p:spPr>
          <a:xfrm>
            <a:off x="6510240" y="1295280"/>
            <a:ext cx="895320" cy="587520"/>
          </a:xfrm>
          <a:prstGeom prst="rect">
            <a:avLst/>
          </a:prstGeom>
          <a:ln w="0">
            <a:noFill/>
          </a:ln>
        </p:spPr>
      </p:pic>
      <p:pic>
        <p:nvPicPr>
          <p:cNvPr id="4218" name="" descr=""/>
          <p:cNvPicPr/>
          <p:nvPr/>
        </p:nvPicPr>
        <p:blipFill>
          <a:blip r:embed="rId7"/>
          <a:stretch/>
        </p:blipFill>
        <p:spPr>
          <a:xfrm>
            <a:off x="3276720" y="5656320"/>
            <a:ext cx="1095120" cy="820800"/>
          </a:xfrm>
          <a:prstGeom prst="rect">
            <a:avLst/>
          </a:prstGeom>
          <a:ln w="0">
            <a:noFill/>
          </a:ln>
        </p:spPr>
      </p:pic>
      <p:pic>
        <p:nvPicPr>
          <p:cNvPr id="4219" name="" descr=""/>
          <p:cNvPicPr/>
          <p:nvPr/>
        </p:nvPicPr>
        <p:blipFill>
          <a:blip r:embed="rId8"/>
          <a:stretch/>
        </p:blipFill>
        <p:spPr>
          <a:xfrm>
            <a:off x="3792600" y="2565360"/>
            <a:ext cx="579240" cy="990720"/>
          </a:xfrm>
          <a:prstGeom prst="rect">
            <a:avLst/>
          </a:prstGeom>
          <a:ln w="0">
            <a:noFill/>
          </a:ln>
        </p:spPr>
      </p:pic>
      <p:pic>
        <p:nvPicPr>
          <p:cNvPr id="4220" name="" descr=""/>
          <p:cNvPicPr/>
          <p:nvPr/>
        </p:nvPicPr>
        <p:blipFill>
          <a:blip r:embed="rId9"/>
          <a:stretch/>
        </p:blipFill>
        <p:spPr>
          <a:xfrm>
            <a:off x="3443400" y="4376880"/>
            <a:ext cx="928440" cy="653760"/>
          </a:xfrm>
          <a:prstGeom prst="rect">
            <a:avLst/>
          </a:prstGeom>
          <a:ln w="0">
            <a:noFill/>
          </a:ln>
        </p:spPr>
      </p:pic>
      <p:pic>
        <p:nvPicPr>
          <p:cNvPr id="4221" name="" descr=""/>
          <p:cNvPicPr/>
          <p:nvPr/>
        </p:nvPicPr>
        <p:blipFill>
          <a:blip r:embed="rId10"/>
          <a:stretch/>
        </p:blipFill>
        <p:spPr>
          <a:xfrm>
            <a:off x="6730920" y="4708440"/>
            <a:ext cx="638280" cy="650880"/>
          </a:xfrm>
          <a:prstGeom prst="rect">
            <a:avLst/>
          </a:prstGeom>
          <a:ln w="0">
            <a:noFill/>
          </a:ln>
        </p:spPr>
      </p:pic>
      <p:pic>
        <p:nvPicPr>
          <p:cNvPr id="4222" name="" descr=""/>
          <p:cNvPicPr/>
          <p:nvPr/>
        </p:nvPicPr>
        <p:blipFill>
          <a:blip r:embed="rId11"/>
          <a:stretch/>
        </p:blipFill>
        <p:spPr>
          <a:xfrm>
            <a:off x="3576600" y="3668760"/>
            <a:ext cx="795240" cy="636480"/>
          </a:xfrm>
          <a:prstGeom prst="rect">
            <a:avLst/>
          </a:prstGeom>
          <a:ln w="0">
            <a:noFill/>
          </a:ln>
        </p:spPr>
      </p:pic>
      <p:sp>
        <p:nvSpPr>
          <p:cNvPr id="4223" name=""/>
          <p:cNvSpPr/>
          <p:nvPr/>
        </p:nvSpPr>
        <p:spPr>
          <a:xfrm>
            <a:off x="7493040" y="4782960"/>
            <a:ext cx="1562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skett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3.5-Inch Flopp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4437000" y="302256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eakout Bo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4437000" y="3760920"/>
            <a:ext cx="107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4437000" y="4451400"/>
            <a:ext cx="10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base, Rel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4437000" y="5108400"/>
            <a:ext cx="107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4437000" y="5573880"/>
            <a:ext cx="10764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B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ulleti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ar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7493040" y="1676520"/>
            <a:ext cx="127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ellite and Satellite Dis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0" name="" descr=""/>
          <p:cNvPicPr/>
          <p:nvPr/>
        </p:nvPicPr>
        <p:blipFill>
          <a:blip r:embed="rId12"/>
          <a:stretch/>
        </p:blipFill>
        <p:spPr>
          <a:xfrm>
            <a:off x="5738760" y="1868400"/>
            <a:ext cx="1222560" cy="482760"/>
          </a:xfrm>
          <a:prstGeom prst="rect">
            <a:avLst/>
          </a:prstGeom>
          <a:ln w="0">
            <a:noFill/>
          </a:ln>
        </p:spPr>
      </p:pic>
      <p:pic>
        <p:nvPicPr>
          <p:cNvPr id="4231" name="" descr=""/>
          <p:cNvPicPr/>
          <p:nvPr/>
        </p:nvPicPr>
        <p:blipFill>
          <a:blip r:embed="rId13"/>
          <a:stretch/>
        </p:blipFill>
        <p:spPr>
          <a:xfrm>
            <a:off x="1530360" y="1270080"/>
            <a:ext cx="417600" cy="1004760"/>
          </a:xfrm>
          <a:prstGeom prst="rect">
            <a:avLst/>
          </a:prstGeom>
          <a:ln w="0">
            <a:noFill/>
          </a:ln>
        </p:spPr>
      </p:pic>
      <p:pic>
        <p:nvPicPr>
          <p:cNvPr id="4232" name="" descr=""/>
          <p:cNvPicPr/>
          <p:nvPr/>
        </p:nvPicPr>
        <p:blipFill>
          <a:blip r:embed="rId14"/>
          <a:stretch/>
        </p:blipFill>
        <p:spPr>
          <a:xfrm>
            <a:off x="358920" y="1836720"/>
            <a:ext cx="1004760" cy="417600"/>
          </a:xfrm>
          <a:prstGeom prst="rect">
            <a:avLst/>
          </a:prstGeom>
          <a:ln w="0">
            <a:noFill/>
          </a:ln>
        </p:spPr>
      </p:pic>
      <p:sp>
        <p:nvSpPr>
          <p:cNvPr id="4233" name=""/>
          <p:cNvSpPr/>
          <p:nvPr/>
        </p:nvSpPr>
        <p:spPr>
          <a:xfrm>
            <a:off x="7493040" y="3483000"/>
            <a:ext cx="898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4" name="" descr=""/>
          <p:cNvPicPr/>
          <p:nvPr/>
        </p:nvPicPr>
        <p:blipFill>
          <a:blip r:embed="rId15"/>
          <a:stretch/>
        </p:blipFill>
        <p:spPr>
          <a:xfrm>
            <a:off x="5986440" y="3429000"/>
            <a:ext cx="1457280" cy="412920"/>
          </a:xfrm>
          <a:prstGeom prst="rect">
            <a:avLst/>
          </a:prstGeom>
          <a:ln w="0">
            <a:noFill/>
          </a:ln>
        </p:spPr>
      </p:pic>
      <p:sp>
        <p:nvSpPr>
          <p:cNvPr id="4235" name=""/>
          <p:cNvSpPr/>
          <p:nvPr/>
        </p:nvSpPr>
        <p:spPr>
          <a:xfrm>
            <a:off x="7493040" y="4087800"/>
            <a:ext cx="898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6" name="" descr=""/>
          <p:cNvPicPr/>
          <p:nvPr/>
        </p:nvPicPr>
        <p:blipFill>
          <a:blip r:embed="rId16"/>
          <a:stretch/>
        </p:blipFill>
        <p:spPr>
          <a:xfrm>
            <a:off x="6611760" y="3936960"/>
            <a:ext cx="831960" cy="603360"/>
          </a:xfrm>
          <a:prstGeom prst="rect">
            <a:avLst/>
          </a:prstGeom>
          <a:ln w="0">
            <a:noFill/>
          </a:ln>
        </p:spPr>
      </p:pic>
      <p:sp>
        <p:nvSpPr>
          <p:cNvPr id="4237" name=""/>
          <p:cNvSpPr/>
          <p:nvPr/>
        </p:nvSpPr>
        <p:spPr>
          <a:xfrm>
            <a:off x="7481880" y="2735280"/>
            <a:ext cx="1000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PS, R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8" name=""/>
          <p:cNvGrpSpPr/>
          <p:nvPr/>
        </p:nvGrpSpPr>
        <p:grpSpPr>
          <a:xfrm>
            <a:off x="6486480" y="2716200"/>
            <a:ext cx="802800" cy="544320"/>
            <a:chOff x="6486480" y="2716200"/>
            <a:chExt cx="802800" cy="544320"/>
          </a:xfrm>
        </p:grpSpPr>
        <p:sp>
          <p:nvSpPr>
            <p:cNvPr id="4239" name=""/>
            <p:cNvSpPr/>
            <p:nvPr/>
          </p:nvSpPr>
          <p:spPr>
            <a:xfrm>
              <a:off x="6489000" y="2721600"/>
              <a:ext cx="797760" cy="73800"/>
            </a:xfrm>
            <a:custGeom>
              <a:avLst/>
              <a:gdLst/>
              <a:ahLst/>
              <a:rect l="l" t="t" r="r" b="b"/>
              <a:pathLst>
                <a:path w="16039" h="1509">
                  <a:moveTo>
                    <a:pt x="0" y="1509"/>
                  </a:moveTo>
                  <a:lnTo>
                    <a:pt x="1509" y="0"/>
                  </a:lnTo>
                  <a:lnTo>
                    <a:pt x="16039" y="0"/>
                  </a:lnTo>
                  <a:lnTo>
                    <a:pt x="14533" y="1509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c9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487560" y="2718720"/>
              <a:ext cx="77760" cy="79560"/>
            </a:xfrm>
            <a:custGeom>
              <a:avLst/>
              <a:gdLst/>
              <a:ahLst/>
              <a:rect l="l" t="t" r="r" b="b"/>
              <a:pathLst>
                <a:path w="1572" h="1584">
                  <a:moveTo>
                    <a:pt x="1540" y="0"/>
                  </a:moveTo>
                  <a:lnTo>
                    <a:pt x="1509" y="13"/>
                  </a:lnTo>
                  <a:lnTo>
                    <a:pt x="0" y="1521"/>
                  </a:lnTo>
                  <a:lnTo>
                    <a:pt x="64" y="1584"/>
                  </a:lnTo>
                  <a:lnTo>
                    <a:pt x="1572" y="76"/>
                  </a:lnTo>
                  <a:lnTo>
                    <a:pt x="1540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564240" y="2718720"/>
              <a:ext cx="725040" cy="4320"/>
            </a:xfrm>
            <a:custGeom>
              <a:avLst/>
              <a:gdLst/>
              <a:ahLst/>
              <a:rect l="l" t="t" r="r" b="b"/>
              <a:pathLst>
                <a:path w="14561" h="89">
                  <a:moveTo>
                    <a:pt x="14561" y="76"/>
                  </a:moveTo>
                  <a:lnTo>
                    <a:pt x="14530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14530" y="89"/>
                  </a:lnTo>
                  <a:lnTo>
                    <a:pt x="14561" y="7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7211520" y="2718720"/>
              <a:ext cx="77760" cy="79560"/>
            </a:xfrm>
            <a:custGeom>
              <a:avLst/>
              <a:gdLst/>
              <a:ahLst/>
              <a:rect l="l" t="t" r="r" b="b"/>
              <a:pathLst>
                <a:path w="1569" h="1584">
                  <a:moveTo>
                    <a:pt x="32" y="1584"/>
                  </a:moveTo>
                  <a:lnTo>
                    <a:pt x="63" y="1571"/>
                  </a:lnTo>
                  <a:lnTo>
                    <a:pt x="1569" y="63"/>
                  </a:lnTo>
                  <a:lnTo>
                    <a:pt x="1506" y="0"/>
                  </a:lnTo>
                  <a:lnTo>
                    <a:pt x="0" y="1509"/>
                  </a:lnTo>
                  <a:lnTo>
                    <a:pt x="32" y="1584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6487560" y="2794320"/>
              <a:ext cx="725040" cy="4320"/>
            </a:xfrm>
            <a:custGeom>
              <a:avLst/>
              <a:gdLst/>
              <a:ahLst/>
              <a:rect l="l" t="t" r="r" b="b"/>
              <a:pathLst>
                <a:path w="14564" h="89">
                  <a:moveTo>
                    <a:pt x="0" y="13"/>
                  </a:moveTo>
                  <a:lnTo>
                    <a:pt x="31" y="89"/>
                  </a:lnTo>
                  <a:lnTo>
                    <a:pt x="14564" y="89"/>
                  </a:lnTo>
                  <a:lnTo>
                    <a:pt x="14564" y="0"/>
                  </a:lnTo>
                  <a:lnTo>
                    <a:pt x="3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6489000" y="2795760"/>
              <a:ext cx="723600" cy="459360"/>
            </a:xfrm>
            <a:prstGeom prst="rect">
              <a:avLst/>
            </a:prstGeom>
            <a:solidFill>
              <a:srgbClr val="b7b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489000" y="2794320"/>
              <a:ext cx="725400" cy="4320"/>
            </a:xfrm>
            <a:custGeom>
              <a:avLst/>
              <a:gdLst/>
              <a:ahLst/>
              <a:rect l="l" t="t" r="r" b="b"/>
              <a:pathLst>
                <a:path w="14578" h="88">
                  <a:moveTo>
                    <a:pt x="14578" y="44"/>
                  </a:moveTo>
                  <a:lnTo>
                    <a:pt x="14534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14534" y="88"/>
                  </a:lnTo>
                  <a:lnTo>
                    <a:pt x="14578" y="44"/>
                  </a:lnTo>
                  <a:lnTo>
                    <a:pt x="14578" y="44"/>
                  </a:lnTo>
                  <a:lnTo>
                    <a:pt x="14578" y="0"/>
                  </a:lnTo>
                  <a:lnTo>
                    <a:pt x="14534" y="0"/>
                  </a:lnTo>
                  <a:lnTo>
                    <a:pt x="14578" y="44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209720" y="2795760"/>
              <a:ext cx="4320" cy="461880"/>
            </a:xfrm>
            <a:custGeom>
              <a:avLst/>
              <a:gdLst/>
              <a:ahLst/>
              <a:rect l="l" t="t" r="r" b="b"/>
              <a:pathLst>
                <a:path w="89" h="9258">
                  <a:moveTo>
                    <a:pt x="45" y="9258"/>
                  </a:moveTo>
                  <a:lnTo>
                    <a:pt x="89" y="9214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9214"/>
                  </a:lnTo>
                  <a:lnTo>
                    <a:pt x="45" y="9258"/>
                  </a:lnTo>
                  <a:lnTo>
                    <a:pt x="45" y="9258"/>
                  </a:lnTo>
                  <a:lnTo>
                    <a:pt x="89" y="9258"/>
                  </a:lnTo>
                  <a:lnTo>
                    <a:pt x="89" y="9214"/>
                  </a:lnTo>
                  <a:lnTo>
                    <a:pt x="45" y="925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6486480" y="3253680"/>
              <a:ext cx="726120" cy="3960"/>
            </a:xfrm>
            <a:custGeom>
              <a:avLst/>
              <a:gdLst/>
              <a:ahLst/>
              <a:rect l="l" t="t" r="r" b="b"/>
              <a:pathLst>
                <a:path w="14578" h="89">
                  <a:moveTo>
                    <a:pt x="0" y="45"/>
                  </a:moveTo>
                  <a:lnTo>
                    <a:pt x="44" y="89"/>
                  </a:lnTo>
                  <a:lnTo>
                    <a:pt x="14578" y="89"/>
                  </a:lnTo>
                  <a:lnTo>
                    <a:pt x="14578" y="0"/>
                  </a:lnTo>
                  <a:lnTo>
                    <a:pt x="44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89"/>
                  </a:lnTo>
                  <a:lnTo>
                    <a:pt x="44" y="8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486480" y="2794320"/>
              <a:ext cx="3960" cy="460800"/>
            </a:xfrm>
            <a:custGeom>
              <a:avLst/>
              <a:gdLst/>
              <a:ahLst/>
              <a:rect l="l" t="t" r="r" b="b"/>
              <a:pathLst>
                <a:path w="89" h="9258">
                  <a:moveTo>
                    <a:pt x="44" y="0"/>
                  </a:moveTo>
                  <a:lnTo>
                    <a:pt x="0" y="44"/>
                  </a:lnTo>
                  <a:lnTo>
                    <a:pt x="0" y="9258"/>
                  </a:lnTo>
                  <a:lnTo>
                    <a:pt x="89" y="9258"/>
                  </a:lnTo>
                  <a:lnTo>
                    <a:pt x="89" y="4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7212600" y="2721600"/>
              <a:ext cx="73800" cy="533520"/>
            </a:xfrm>
            <a:custGeom>
              <a:avLst/>
              <a:gdLst/>
              <a:ahLst/>
              <a:rect l="l" t="t" r="r" b="b"/>
              <a:pathLst>
                <a:path w="1506" h="10720">
                  <a:moveTo>
                    <a:pt x="1" y="10720"/>
                  </a:moveTo>
                  <a:lnTo>
                    <a:pt x="1504" y="9211"/>
                  </a:lnTo>
                  <a:lnTo>
                    <a:pt x="1506" y="0"/>
                  </a:lnTo>
                  <a:lnTo>
                    <a:pt x="0" y="1509"/>
                  </a:lnTo>
                  <a:lnTo>
                    <a:pt x="1" y="10720"/>
                  </a:lnTo>
                  <a:close/>
                </a:path>
              </a:pathLst>
            </a:custGeom>
            <a:solidFill>
              <a:srgbClr val="7c7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7211520" y="3178440"/>
              <a:ext cx="77760" cy="79200"/>
            </a:xfrm>
            <a:custGeom>
              <a:avLst/>
              <a:gdLst/>
              <a:ahLst/>
              <a:rect l="l" t="t" r="r" b="b"/>
              <a:pathLst>
                <a:path w="1579" h="1571">
                  <a:moveTo>
                    <a:pt x="1579" y="31"/>
                  </a:moveTo>
                  <a:lnTo>
                    <a:pt x="1503" y="0"/>
                  </a:lnTo>
                  <a:lnTo>
                    <a:pt x="0" y="1508"/>
                  </a:lnTo>
                  <a:lnTo>
                    <a:pt x="63" y="1571"/>
                  </a:lnTo>
                  <a:lnTo>
                    <a:pt x="1566" y="62"/>
                  </a:lnTo>
                  <a:lnTo>
                    <a:pt x="1579" y="31"/>
                  </a:lnTo>
                  <a:lnTo>
                    <a:pt x="1566" y="62"/>
                  </a:lnTo>
                  <a:lnTo>
                    <a:pt x="1579" y="49"/>
                  </a:lnTo>
                  <a:lnTo>
                    <a:pt x="1579" y="3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7284960" y="2716200"/>
              <a:ext cx="4320" cy="465120"/>
            </a:xfrm>
            <a:custGeom>
              <a:avLst/>
              <a:gdLst/>
              <a:ahLst/>
              <a:rect l="l" t="t" r="r" b="b"/>
              <a:pathLst>
                <a:path w="91" h="9317">
                  <a:moveTo>
                    <a:pt x="15" y="75"/>
                  </a:moveTo>
                  <a:lnTo>
                    <a:pt x="2" y="106"/>
                  </a:lnTo>
                  <a:lnTo>
                    <a:pt x="0" y="9317"/>
                  </a:lnTo>
                  <a:lnTo>
                    <a:pt x="89" y="9317"/>
                  </a:lnTo>
                  <a:lnTo>
                    <a:pt x="91" y="106"/>
                  </a:lnTo>
                  <a:lnTo>
                    <a:pt x="15" y="75"/>
                  </a:lnTo>
                  <a:lnTo>
                    <a:pt x="91" y="106"/>
                  </a:lnTo>
                  <a:lnTo>
                    <a:pt x="91" y="0"/>
                  </a:lnTo>
                  <a:lnTo>
                    <a:pt x="15" y="7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7209720" y="2718720"/>
              <a:ext cx="79560" cy="79560"/>
            </a:xfrm>
            <a:custGeom>
              <a:avLst/>
              <a:gdLst/>
              <a:ahLst/>
              <a:rect l="l" t="t" r="r" b="b"/>
              <a:pathLst>
                <a:path w="1582" h="1571">
                  <a:moveTo>
                    <a:pt x="0" y="1540"/>
                  </a:moveTo>
                  <a:lnTo>
                    <a:pt x="76" y="1571"/>
                  </a:lnTo>
                  <a:lnTo>
                    <a:pt x="1582" y="63"/>
                  </a:lnTo>
                  <a:lnTo>
                    <a:pt x="1519" y="0"/>
                  </a:lnTo>
                  <a:lnTo>
                    <a:pt x="13" y="1509"/>
                  </a:lnTo>
                  <a:lnTo>
                    <a:pt x="0" y="1540"/>
                  </a:lnTo>
                  <a:lnTo>
                    <a:pt x="13" y="1509"/>
                  </a:lnTo>
                  <a:lnTo>
                    <a:pt x="0" y="1522"/>
                  </a:lnTo>
                  <a:lnTo>
                    <a:pt x="0" y="154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7209720" y="2795760"/>
              <a:ext cx="4320" cy="464760"/>
            </a:xfrm>
            <a:custGeom>
              <a:avLst/>
              <a:gdLst/>
              <a:ahLst/>
              <a:rect l="l" t="t" r="r" b="b"/>
              <a:pathLst>
                <a:path w="90" h="9317">
                  <a:moveTo>
                    <a:pt x="77" y="9242"/>
                  </a:moveTo>
                  <a:lnTo>
                    <a:pt x="90" y="921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1" y="9211"/>
                  </a:lnTo>
                  <a:lnTo>
                    <a:pt x="77" y="9242"/>
                  </a:lnTo>
                  <a:lnTo>
                    <a:pt x="1" y="9211"/>
                  </a:lnTo>
                  <a:lnTo>
                    <a:pt x="1" y="9317"/>
                  </a:lnTo>
                  <a:lnTo>
                    <a:pt x="77" y="924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592320" y="2959200"/>
              <a:ext cx="538200" cy="253800"/>
            </a:xfrm>
            <a:custGeom>
              <a:avLst/>
              <a:gdLst/>
              <a:ahLst/>
              <a:rect l="l" t="t" r="r" b="b"/>
              <a:pathLst>
                <a:path w="10800" h="5082">
                  <a:moveTo>
                    <a:pt x="5126" y="2953"/>
                  </a:moveTo>
                  <a:lnTo>
                    <a:pt x="5147" y="2952"/>
                  </a:lnTo>
                  <a:lnTo>
                    <a:pt x="5208" y="2949"/>
                  </a:lnTo>
                  <a:lnTo>
                    <a:pt x="5302" y="2944"/>
                  </a:lnTo>
                  <a:lnTo>
                    <a:pt x="5424" y="2937"/>
                  </a:lnTo>
                  <a:lnTo>
                    <a:pt x="5568" y="2929"/>
                  </a:lnTo>
                  <a:lnTo>
                    <a:pt x="5729" y="2919"/>
                  </a:lnTo>
                  <a:lnTo>
                    <a:pt x="5902" y="2910"/>
                  </a:lnTo>
                  <a:lnTo>
                    <a:pt x="6079" y="2900"/>
                  </a:lnTo>
                  <a:lnTo>
                    <a:pt x="6258" y="2891"/>
                  </a:lnTo>
                  <a:lnTo>
                    <a:pt x="6430" y="2881"/>
                  </a:lnTo>
                  <a:lnTo>
                    <a:pt x="6590" y="2873"/>
                  </a:lnTo>
                  <a:lnTo>
                    <a:pt x="6734" y="2865"/>
                  </a:lnTo>
                  <a:lnTo>
                    <a:pt x="6856" y="2858"/>
                  </a:lnTo>
                  <a:lnTo>
                    <a:pt x="6950" y="2853"/>
                  </a:lnTo>
                  <a:lnTo>
                    <a:pt x="7011" y="2850"/>
                  </a:lnTo>
                  <a:lnTo>
                    <a:pt x="7033" y="2849"/>
                  </a:lnTo>
                  <a:lnTo>
                    <a:pt x="7006" y="2839"/>
                  </a:lnTo>
                  <a:lnTo>
                    <a:pt x="6931" y="2810"/>
                  </a:lnTo>
                  <a:lnTo>
                    <a:pt x="6813" y="2765"/>
                  </a:lnTo>
                  <a:lnTo>
                    <a:pt x="6660" y="2707"/>
                  </a:lnTo>
                  <a:lnTo>
                    <a:pt x="6475" y="2637"/>
                  </a:lnTo>
                  <a:lnTo>
                    <a:pt x="6268" y="2558"/>
                  </a:lnTo>
                  <a:lnTo>
                    <a:pt x="6043" y="2473"/>
                  </a:lnTo>
                  <a:lnTo>
                    <a:pt x="5806" y="2383"/>
                  </a:lnTo>
                  <a:lnTo>
                    <a:pt x="5564" y="2292"/>
                  </a:lnTo>
                  <a:lnTo>
                    <a:pt x="5323" y="2201"/>
                  </a:lnTo>
                  <a:lnTo>
                    <a:pt x="5089" y="2112"/>
                  </a:lnTo>
                  <a:lnTo>
                    <a:pt x="4870" y="2030"/>
                  </a:lnTo>
                  <a:lnTo>
                    <a:pt x="4669" y="1955"/>
                  </a:lnTo>
                  <a:lnTo>
                    <a:pt x="4495" y="1890"/>
                  </a:lnTo>
                  <a:lnTo>
                    <a:pt x="4352" y="1838"/>
                  </a:lnTo>
                  <a:lnTo>
                    <a:pt x="4248" y="1800"/>
                  </a:lnTo>
                  <a:lnTo>
                    <a:pt x="4277" y="1798"/>
                  </a:lnTo>
                  <a:lnTo>
                    <a:pt x="4348" y="1795"/>
                  </a:lnTo>
                  <a:lnTo>
                    <a:pt x="4455" y="1792"/>
                  </a:lnTo>
                  <a:lnTo>
                    <a:pt x="4593" y="1789"/>
                  </a:lnTo>
                  <a:lnTo>
                    <a:pt x="4756" y="1786"/>
                  </a:lnTo>
                  <a:lnTo>
                    <a:pt x="4936" y="1783"/>
                  </a:lnTo>
                  <a:lnTo>
                    <a:pt x="5129" y="1780"/>
                  </a:lnTo>
                  <a:lnTo>
                    <a:pt x="5326" y="1777"/>
                  </a:lnTo>
                  <a:lnTo>
                    <a:pt x="5524" y="1774"/>
                  </a:lnTo>
                  <a:lnTo>
                    <a:pt x="5715" y="1771"/>
                  </a:lnTo>
                  <a:lnTo>
                    <a:pt x="5894" y="1768"/>
                  </a:lnTo>
                  <a:lnTo>
                    <a:pt x="6054" y="1766"/>
                  </a:lnTo>
                  <a:lnTo>
                    <a:pt x="6189" y="1764"/>
                  </a:lnTo>
                  <a:lnTo>
                    <a:pt x="6293" y="1763"/>
                  </a:lnTo>
                  <a:lnTo>
                    <a:pt x="6360" y="1762"/>
                  </a:lnTo>
                  <a:lnTo>
                    <a:pt x="6384" y="1762"/>
                  </a:lnTo>
                  <a:lnTo>
                    <a:pt x="0" y="0"/>
                  </a:lnTo>
                  <a:lnTo>
                    <a:pt x="4196" y="1541"/>
                  </a:lnTo>
                  <a:lnTo>
                    <a:pt x="4175" y="1544"/>
                  </a:lnTo>
                  <a:lnTo>
                    <a:pt x="4124" y="1549"/>
                  </a:lnTo>
                  <a:lnTo>
                    <a:pt x="4046" y="1555"/>
                  </a:lnTo>
                  <a:lnTo>
                    <a:pt x="3946" y="1562"/>
                  </a:lnTo>
                  <a:lnTo>
                    <a:pt x="3828" y="1571"/>
                  </a:lnTo>
                  <a:lnTo>
                    <a:pt x="3698" y="1580"/>
                  </a:lnTo>
                  <a:lnTo>
                    <a:pt x="3559" y="1590"/>
                  </a:lnTo>
                  <a:lnTo>
                    <a:pt x="3416" y="1599"/>
                  </a:lnTo>
                  <a:lnTo>
                    <a:pt x="3274" y="1609"/>
                  </a:lnTo>
                  <a:lnTo>
                    <a:pt x="3136" y="1618"/>
                  </a:lnTo>
                  <a:lnTo>
                    <a:pt x="3007" y="1628"/>
                  </a:lnTo>
                  <a:lnTo>
                    <a:pt x="2891" y="1636"/>
                  </a:lnTo>
                  <a:lnTo>
                    <a:pt x="2793" y="1642"/>
                  </a:lnTo>
                  <a:lnTo>
                    <a:pt x="2719" y="1647"/>
                  </a:lnTo>
                  <a:lnTo>
                    <a:pt x="2670" y="1651"/>
                  </a:lnTo>
                  <a:lnTo>
                    <a:pt x="2653" y="1652"/>
                  </a:lnTo>
                  <a:lnTo>
                    <a:pt x="2670" y="1660"/>
                  </a:lnTo>
                  <a:lnTo>
                    <a:pt x="2721" y="1684"/>
                  </a:lnTo>
                  <a:lnTo>
                    <a:pt x="2798" y="1722"/>
                  </a:lnTo>
                  <a:lnTo>
                    <a:pt x="2902" y="1773"/>
                  </a:lnTo>
                  <a:lnTo>
                    <a:pt x="3025" y="1832"/>
                  </a:lnTo>
                  <a:lnTo>
                    <a:pt x="3166" y="1900"/>
                  </a:lnTo>
                  <a:lnTo>
                    <a:pt x="3319" y="1973"/>
                  </a:lnTo>
                  <a:lnTo>
                    <a:pt x="3482" y="2050"/>
                  </a:lnTo>
                  <a:lnTo>
                    <a:pt x="3649" y="2128"/>
                  </a:lnTo>
                  <a:lnTo>
                    <a:pt x="3817" y="2207"/>
                  </a:lnTo>
                  <a:lnTo>
                    <a:pt x="3984" y="2284"/>
                  </a:lnTo>
                  <a:lnTo>
                    <a:pt x="4143" y="2356"/>
                  </a:lnTo>
                  <a:lnTo>
                    <a:pt x="4291" y="2422"/>
                  </a:lnTo>
                  <a:lnTo>
                    <a:pt x="4425" y="2480"/>
                  </a:lnTo>
                  <a:lnTo>
                    <a:pt x="4486" y="2505"/>
                  </a:lnTo>
                  <a:lnTo>
                    <a:pt x="4541" y="2527"/>
                  </a:lnTo>
                  <a:lnTo>
                    <a:pt x="4590" y="2547"/>
                  </a:lnTo>
                  <a:lnTo>
                    <a:pt x="4635" y="2563"/>
                  </a:lnTo>
                  <a:lnTo>
                    <a:pt x="4609" y="2572"/>
                  </a:lnTo>
                  <a:lnTo>
                    <a:pt x="4555" y="2588"/>
                  </a:lnTo>
                  <a:lnTo>
                    <a:pt x="4480" y="2610"/>
                  </a:lnTo>
                  <a:lnTo>
                    <a:pt x="4387" y="2638"/>
                  </a:lnTo>
                  <a:lnTo>
                    <a:pt x="4278" y="2670"/>
                  </a:lnTo>
                  <a:lnTo>
                    <a:pt x="4159" y="2705"/>
                  </a:lnTo>
                  <a:lnTo>
                    <a:pt x="4033" y="2741"/>
                  </a:lnTo>
                  <a:lnTo>
                    <a:pt x="3904" y="2778"/>
                  </a:lnTo>
                  <a:lnTo>
                    <a:pt x="3776" y="2816"/>
                  </a:lnTo>
                  <a:lnTo>
                    <a:pt x="3652" y="2851"/>
                  </a:lnTo>
                  <a:lnTo>
                    <a:pt x="3537" y="2884"/>
                  </a:lnTo>
                  <a:lnTo>
                    <a:pt x="3434" y="2913"/>
                  </a:lnTo>
                  <a:lnTo>
                    <a:pt x="3346" y="2939"/>
                  </a:lnTo>
                  <a:lnTo>
                    <a:pt x="3280" y="2958"/>
                  </a:lnTo>
                  <a:lnTo>
                    <a:pt x="3238" y="2970"/>
                  </a:lnTo>
                  <a:lnTo>
                    <a:pt x="3223" y="2974"/>
                  </a:lnTo>
                  <a:lnTo>
                    <a:pt x="10800" y="5082"/>
                  </a:lnTo>
                  <a:lnTo>
                    <a:pt x="5126" y="29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6588000" y="2952360"/>
              <a:ext cx="538200" cy="253800"/>
            </a:xfrm>
            <a:custGeom>
              <a:avLst/>
              <a:gdLst/>
              <a:ahLst/>
              <a:rect l="l" t="t" r="r" b="b"/>
              <a:pathLst>
                <a:path w="10800" h="5082">
                  <a:moveTo>
                    <a:pt x="5126" y="2953"/>
                  </a:moveTo>
                  <a:lnTo>
                    <a:pt x="5147" y="2952"/>
                  </a:lnTo>
                  <a:lnTo>
                    <a:pt x="5209" y="2949"/>
                  </a:lnTo>
                  <a:lnTo>
                    <a:pt x="5302" y="2944"/>
                  </a:lnTo>
                  <a:lnTo>
                    <a:pt x="5424" y="2937"/>
                  </a:lnTo>
                  <a:lnTo>
                    <a:pt x="5569" y="2928"/>
                  </a:lnTo>
                  <a:lnTo>
                    <a:pt x="5730" y="2919"/>
                  </a:lnTo>
                  <a:lnTo>
                    <a:pt x="5902" y="2910"/>
                  </a:lnTo>
                  <a:lnTo>
                    <a:pt x="6081" y="2900"/>
                  </a:lnTo>
                  <a:lnTo>
                    <a:pt x="6258" y="2891"/>
                  </a:lnTo>
                  <a:lnTo>
                    <a:pt x="6430" y="2881"/>
                  </a:lnTo>
                  <a:lnTo>
                    <a:pt x="6591" y="2873"/>
                  </a:lnTo>
                  <a:lnTo>
                    <a:pt x="6735" y="2865"/>
                  </a:lnTo>
                  <a:lnTo>
                    <a:pt x="6857" y="2858"/>
                  </a:lnTo>
                  <a:lnTo>
                    <a:pt x="6951" y="2853"/>
                  </a:lnTo>
                  <a:lnTo>
                    <a:pt x="7011" y="2850"/>
                  </a:lnTo>
                  <a:lnTo>
                    <a:pt x="7033" y="2849"/>
                  </a:lnTo>
                  <a:lnTo>
                    <a:pt x="7006" y="2839"/>
                  </a:lnTo>
                  <a:lnTo>
                    <a:pt x="6931" y="2810"/>
                  </a:lnTo>
                  <a:lnTo>
                    <a:pt x="6813" y="2765"/>
                  </a:lnTo>
                  <a:lnTo>
                    <a:pt x="6660" y="2707"/>
                  </a:lnTo>
                  <a:lnTo>
                    <a:pt x="6476" y="2637"/>
                  </a:lnTo>
                  <a:lnTo>
                    <a:pt x="6268" y="2558"/>
                  </a:lnTo>
                  <a:lnTo>
                    <a:pt x="6043" y="2473"/>
                  </a:lnTo>
                  <a:lnTo>
                    <a:pt x="5806" y="2383"/>
                  </a:lnTo>
                  <a:lnTo>
                    <a:pt x="5564" y="2292"/>
                  </a:lnTo>
                  <a:lnTo>
                    <a:pt x="5324" y="2201"/>
                  </a:lnTo>
                  <a:lnTo>
                    <a:pt x="5090" y="2112"/>
                  </a:lnTo>
                  <a:lnTo>
                    <a:pt x="4870" y="2030"/>
                  </a:lnTo>
                  <a:lnTo>
                    <a:pt x="4669" y="1955"/>
                  </a:lnTo>
                  <a:lnTo>
                    <a:pt x="4495" y="1891"/>
                  </a:lnTo>
                  <a:lnTo>
                    <a:pt x="4353" y="1838"/>
                  </a:lnTo>
                  <a:lnTo>
                    <a:pt x="4249" y="1800"/>
                  </a:lnTo>
                  <a:lnTo>
                    <a:pt x="4277" y="1798"/>
                  </a:lnTo>
                  <a:lnTo>
                    <a:pt x="4349" y="1795"/>
                  </a:lnTo>
                  <a:lnTo>
                    <a:pt x="4457" y="1792"/>
                  </a:lnTo>
                  <a:lnTo>
                    <a:pt x="4595" y="1789"/>
                  </a:lnTo>
                  <a:lnTo>
                    <a:pt x="4756" y="1786"/>
                  </a:lnTo>
                  <a:lnTo>
                    <a:pt x="4936" y="1783"/>
                  </a:lnTo>
                  <a:lnTo>
                    <a:pt x="5129" y="1780"/>
                  </a:lnTo>
                  <a:lnTo>
                    <a:pt x="5328" y="1777"/>
                  </a:lnTo>
                  <a:lnTo>
                    <a:pt x="5525" y="1774"/>
                  </a:lnTo>
                  <a:lnTo>
                    <a:pt x="5716" y="1771"/>
                  </a:lnTo>
                  <a:lnTo>
                    <a:pt x="5895" y="1769"/>
                  </a:lnTo>
                  <a:lnTo>
                    <a:pt x="6054" y="1766"/>
                  </a:lnTo>
                  <a:lnTo>
                    <a:pt x="6189" y="1765"/>
                  </a:lnTo>
                  <a:lnTo>
                    <a:pt x="6293" y="1763"/>
                  </a:lnTo>
                  <a:lnTo>
                    <a:pt x="6361" y="1762"/>
                  </a:lnTo>
                  <a:lnTo>
                    <a:pt x="6384" y="1762"/>
                  </a:lnTo>
                  <a:lnTo>
                    <a:pt x="0" y="0"/>
                  </a:lnTo>
                  <a:lnTo>
                    <a:pt x="4197" y="1541"/>
                  </a:lnTo>
                  <a:lnTo>
                    <a:pt x="4176" y="1544"/>
                  </a:lnTo>
                  <a:lnTo>
                    <a:pt x="4124" y="1549"/>
                  </a:lnTo>
                  <a:lnTo>
                    <a:pt x="4046" y="1555"/>
                  </a:lnTo>
                  <a:lnTo>
                    <a:pt x="3947" y="1562"/>
                  </a:lnTo>
                  <a:lnTo>
                    <a:pt x="3830" y="1571"/>
                  </a:lnTo>
                  <a:lnTo>
                    <a:pt x="3699" y="1580"/>
                  </a:lnTo>
                  <a:lnTo>
                    <a:pt x="3561" y="1590"/>
                  </a:lnTo>
                  <a:lnTo>
                    <a:pt x="3417" y="1600"/>
                  </a:lnTo>
                  <a:lnTo>
                    <a:pt x="3274" y="1609"/>
                  </a:lnTo>
                  <a:lnTo>
                    <a:pt x="3136" y="1619"/>
                  </a:lnTo>
                  <a:lnTo>
                    <a:pt x="3007" y="1627"/>
                  </a:lnTo>
                  <a:lnTo>
                    <a:pt x="2891" y="1636"/>
                  </a:lnTo>
                  <a:lnTo>
                    <a:pt x="2793" y="1642"/>
                  </a:lnTo>
                  <a:lnTo>
                    <a:pt x="2719" y="1647"/>
                  </a:lnTo>
                  <a:lnTo>
                    <a:pt x="2670" y="1651"/>
                  </a:lnTo>
                  <a:lnTo>
                    <a:pt x="2653" y="1652"/>
                  </a:lnTo>
                  <a:lnTo>
                    <a:pt x="2670" y="1660"/>
                  </a:lnTo>
                  <a:lnTo>
                    <a:pt x="2721" y="1684"/>
                  </a:lnTo>
                  <a:lnTo>
                    <a:pt x="2800" y="1722"/>
                  </a:lnTo>
                  <a:lnTo>
                    <a:pt x="2902" y="1773"/>
                  </a:lnTo>
                  <a:lnTo>
                    <a:pt x="3026" y="1832"/>
                  </a:lnTo>
                  <a:lnTo>
                    <a:pt x="3166" y="1900"/>
                  </a:lnTo>
                  <a:lnTo>
                    <a:pt x="3320" y="1973"/>
                  </a:lnTo>
                  <a:lnTo>
                    <a:pt x="3482" y="2050"/>
                  </a:lnTo>
                  <a:lnTo>
                    <a:pt x="3649" y="2128"/>
                  </a:lnTo>
                  <a:lnTo>
                    <a:pt x="3818" y="2207"/>
                  </a:lnTo>
                  <a:lnTo>
                    <a:pt x="3984" y="2284"/>
                  </a:lnTo>
                  <a:lnTo>
                    <a:pt x="4143" y="2356"/>
                  </a:lnTo>
                  <a:lnTo>
                    <a:pt x="4291" y="2422"/>
                  </a:lnTo>
                  <a:lnTo>
                    <a:pt x="4425" y="2480"/>
                  </a:lnTo>
                  <a:lnTo>
                    <a:pt x="4486" y="2505"/>
                  </a:lnTo>
                  <a:lnTo>
                    <a:pt x="4541" y="2527"/>
                  </a:lnTo>
                  <a:lnTo>
                    <a:pt x="4592" y="2547"/>
                  </a:lnTo>
                  <a:lnTo>
                    <a:pt x="4635" y="2563"/>
                  </a:lnTo>
                  <a:lnTo>
                    <a:pt x="4609" y="2572"/>
                  </a:lnTo>
                  <a:lnTo>
                    <a:pt x="4555" y="2588"/>
                  </a:lnTo>
                  <a:lnTo>
                    <a:pt x="4481" y="2611"/>
                  </a:lnTo>
                  <a:lnTo>
                    <a:pt x="4387" y="2638"/>
                  </a:lnTo>
                  <a:lnTo>
                    <a:pt x="4279" y="2671"/>
                  </a:lnTo>
                  <a:lnTo>
                    <a:pt x="4159" y="2705"/>
                  </a:lnTo>
                  <a:lnTo>
                    <a:pt x="4033" y="2741"/>
                  </a:lnTo>
                  <a:lnTo>
                    <a:pt x="3904" y="2778"/>
                  </a:lnTo>
                  <a:lnTo>
                    <a:pt x="3776" y="2816"/>
                  </a:lnTo>
                  <a:lnTo>
                    <a:pt x="3652" y="2851"/>
                  </a:lnTo>
                  <a:lnTo>
                    <a:pt x="3537" y="2884"/>
                  </a:lnTo>
                  <a:lnTo>
                    <a:pt x="3435" y="2913"/>
                  </a:lnTo>
                  <a:lnTo>
                    <a:pt x="3348" y="2939"/>
                  </a:lnTo>
                  <a:lnTo>
                    <a:pt x="3280" y="2958"/>
                  </a:lnTo>
                  <a:lnTo>
                    <a:pt x="3238" y="2970"/>
                  </a:lnTo>
                  <a:lnTo>
                    <a:pt x="3223" y="2974"/>
                  </a:lnTo>
                  <a:lnTo>
                    <a:pt x="10800" y="5082"/>
                  </a:lnTo>
                  <a:lnTo>
                    <a:pt x="5126" y="29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6706440" y="2864160"/>
              <a:ext cx="91800" cy="108720"/>
            </a:xfrm>
            <a:custGeom>
              <a:avLst/>
              <a:gdLst/>
              <a:ahLst/>
              <a:rect l="l" t="t" r="r" b="b"/>
              <a:pathLst>
                <a:path w="1839" h="2197">
                  <a:moveTo>
                    <a:pt x="0" y="0"/>
                  </a:moveTo>
                  <a:lnTo>
                    <a:pt x="1111" y="0"/>
                  </a:lnTo>
                  <a:lnTo>
                    <a:pt x="1164" y="2"/>
                  </a:lnTo>
                  <a:lnTo>
                    <a:pt x="1215" y="5"/>
                  </a:lnTo>
                  <a:lnTo>
                    <a:pt x="1262" y="11"/>
                  </a:lnTo>
                  <a:lnTo>
                    <a:pt x="1309" y="19"/>
                  </a:lnTo>
                  <a:lnTo>
                    <a:pt x="1351" y="29"/>
                  </a:lnTo>
                  <a:lnTo>
                    <a:pt x="1391" y="42"/>
                  </a:lnTo>
                  <a:lnTo>
                    <a:pt x="1429" y="56"/>
                  </a:lnTo>
                  <a:lnTo>
                    <a:pt x="1465" y="71"/>
                  </a:lnTo>
                  <a:lnTo>
                    <a:pt x="1499" y="88"/>
                  </a:lnTo>
                  <a:lnTo>
                    <a:pt x="1530" y="106"/>
                  </a:lnTo>
                  <a:lnTo>
                    <a:pt x="1560" y="126"/>
                  </a:lnTo>
                  <a:lnTo>
                    <a:pt x="1587" y="147"/>
                  </a:lnTo>
                  <a:lnTo>
                    <a:pt x="1611" y="170"/>
                  </a:lnTo>
                  <a:lnTo>
                    <a:pt x="1634" y="192"/>
                  </a:lnTo>
                  <a:lnTo>
                    <a:pt x="1656" y="216"/>
                  </a:lnTo>
                  <a:lnTo>
                    <a:pt x="1675" y="240"/>
                  </a:lnTo>
                  <a:lnTo>
                    <a:pt x="1694" y="265"/>
                  </a:lnTo>
                  <a:lnTo>
                    <a:pt x="1710" y="290"/>
                  </a:lnTo>
                  <a:lnTo>
                    <a:pt x="1724" y="316"/>
                  </a:lnTo>
                  <a:lnTo>
                    <a:pt x="1738" y="342"/>
                  </a:lnTo>
                  <a:lnTo>
                    <a:pt x="1749" y="368"/>
                  </a:lnTo>
                  <a:lnTo>
                    <a:pt x="1759" y="393"/>
                  </a:lnTo>
                  <a:lnTo>
                    <a:pt x="1768" y="419"/>
                  </a:lnTo>
                  <a:lnTo>
                    <a:pt x="1776" y="445"/>
                  </a:lnTo>
                  <a:lnTo>
                    <a:pt x="1783" y="470"/>
                  </a:lnTo>
                  <a:lnTo>
                    <a:pt x="1788" y="494"/>
                  </a:lnTo>
                  <a:lnTo>
                    <a:pt x="1793" y="517"/>
                  </a:lnTo>
                  <a:lnTo>
                    <a:pt x="1796" y="540"/>
                  </a:lnTo>
                  <a:lnTo>
                    <a:pt x="1799" y="563"/>
                  </a:lnTo>
                  <a:lnTo>
                    <a:pt x="1800" y="584"/>
                  </a:lnTo>
                  <a:lnTo>
                    <a:pt x="1801" y="603"/>
                  </a:lnTo>
                  <a:lnTo>
                    <a:pt x="1802" y="622"/>
                  </a:lnTo>
                  <a:lnTo>
                    <a:pt x="1801" y="644"/>
                  </a:lnTo>
                  <a:lnTo>
                    <a:pt x="1800" y="666"/>
                  </a:lnTo>
                  <a:lnTo>
                    <a:pt x="1799" y="689"/>
                  </a:lnTo>
                  <a:lnTo>
                    <a:pt x="1796" y="711"/>
                  </a:lnTo>
                  <a:lnTo>
                    <a:pt x="1793" y="732"/>
                  </a:lnTo>
                  <a:lnTo>
                    <a:pt x="1789" y="753"/>
                  </a:lnTo>
                  <a:lnTo>
                    <a:pt x="1785" y="774"/>
                  </a:lnTo>
                  <a:lnTo>
                    <a:pt x="1779" y="795"/>
                  </a:lnTo>
                  <a:lnTo>
                    <a:pt x="1773" y="816"/>
                  </a:lnTo>
                  <a:lnTo>
                    <a:pt x="1767" y="836"/>
                  </a:lnTo>
                  <a:lnTo>
                    <a:pt x="1760" y="855"/>
                  </a:lnTo>
                  <a:lnTo>
                    <a:pt x="1752" y="874"/>
                  </a:lnTo>
                  <a:lnTo>
                    <a:pt x="1743" y="893"/>
                  </a:lnTo>
                  <a:lnTo>
                    <a:pt x="1734" y="911"/>
                  </a:lnTo>
                  <a:lnTo>
                    <a:pt x="1724" y="929"/>
                  </a:lnTo>
                  <a:lnTo>
                    <a:pt x="1714" y="947"/>
                  </a:lnTo>
                  <a:lnTo>
                    <a:pt x="1703" y="964"/>
                  </a:lnTo>
                  <a:lnTo>
                    <a:pt x="1691" y="980"/>
                  </a:lnTo>
                  <a:lnTo>
                    <a:pt x="1678" y="996"/>
                  </a:lnTo>
                  <a:lnTo>
                    <a:pt x="1665" y="1011"/>
                  </a:lnTo>
                  <a:lnTo>
                    <a:pt x="1651" y="1025"/>
                  </a:lnTo>
                  <a:lnTo>
                    <a:pt x="1637" y="1039"/>
                  </a:lnTo>
                  <a:lnTo>
                    <a:pt x="1623" y="1053"/>
                  </a:lnTo>
                  <a:lnTo>
                    <a:pt x="1607" y="1066"/>
                  </a:lnTo>
                  <a:lnTo>
                    <a:pt x="1591" y="1079"/>
                  </a:lnTo>
                  <a:lnTo>
                    <a:pt x="1575" y="1090"/>
                  </a:lnTo>
                  <a:lnTo>
                    <a:pt x="1558" y="1101"/>
                  </a:lnTo>
                  <a:lnTo>
                    <a:pt x="1539" y="1111"/>
                  </a:lnTo>
                  <a:lnTo>
                    <a:pt x="1521" y="1121"/>
                  </a:lnTo>
                  <a:lnTo>
                    <a:pt x="1502" y="1130"/>
                  </a:lnTo>
                  <a:lnTo>
                    <a:pt x="1483" y="1138"/>
                  </a:lnTo>
                  <a:lnTo>
                    <a:pt x="1463" y="1145"/>
                  </a:lnTo>
                  <a:lnTo>
                    <a:pt x="1495" y="1159"/>
                  </a:lnTo>
                  <a:lnTo>
                    <a:pt x="1526" y="1174"/>
                  </a:lnTo>
                  <a:lnTo>
                    <a:pt x="1541" y="1182"/>
                  </a:lnTo>
                  <a:lnTo>
                    <a:pt x="1555" y="1190"/>
                  </a:lnTo>
                  <a:lnTo>
                    <a:pt x="1569" y="1199"/>
                  </a:lnTo>
                  <a:lnTo>
                    <a:pt x="1582" y="1208"/>
                  </a:lnTo>
                  <a:lnTo>
                    <a:pt x="1595" y="1217"/>
                  </a:lnTo>
                  <a:lnTo>
                    <a:pt x="1607" y="1227"/>
                  </a:lnTo>
                  <a:lnTo>
                    <a:pt x="1619" y="1237"/>
                  </a:lnTo>
                  <a:lnTo>
                    <a:pt x="1630" y="1248"/>
                  </a:lnTo>
                  <a:lnTo>
                    <a:pt x="1640" y="1260"/>
                  </a:lnTo>
                  <a:lnTo>
                    <a:pt x="1650" y="1272"/>
                  </a:lnTo>
                  <a:lnTo>
                    <a:pt x="1660" y="1285"/>
                  </a:lnTo>
                  <a:lnTo>
                    <a:pt x="1669" y="1299"/>
                  </a:lnTo>
                  <a:lnTo>
                    <a:pt x="1678" y="1314"/>
                  </a:lnTo>
                  <a:lnTo>
                    <a:pt x="1686" y="1330"/>
                  </a:lnTo>
                  <a:lnTo>
                    <a:pt x="1694" y="1348"/>
                  </a:lnTo>
                  <a:lnTo>
                    <a:pt x="1701" y="1367"/>
                  </a:lnTo>
                  <a:lnTo>
                    <a:pt x="1707" y="1386"/>
                  </a:lnTo>
                  <a:lnTo>
                    <a:pt x="1713" y="1407"/>
                  </a:lnTo>
                  <a:lnTo>
                    <a:pt x="1718" y="1429"/>
                  </a:lnTo>
                  <a:lnTo>
                    <a:pt x="1723" y="1452"/>
                  </a:lnTo>
                  <a:lnTo>
                    <a:pt x="1727" y="1478"/>
                  </a:lnTo>
                  <a:lnTo>
                    <a:pt x="1731" y="1505"/>
                  </a:lnTo>
                  <a:lnTo>
                    <a:pt x="1734" y="1533"/>
                  </a:lnTo>
                  <a:lnTo>
                    <a:pt x="1737" y="1563"/>
                  </a:lnTo>
                  <a:lnTo>
                    <a:pt x="1738" y="1596"/>
                  </a:lnTo>
                  <a:lnTo>
                    <a:pt x="1740" y="1629"/>
                  </a:lnTo>
                  <a:lnTo>
                    <a:pt x="1741" y="1664"/>
                  </a:lnTo>
                  <a:lnTo>
                    <a:pt x="1741" y="1701"/>
                  </a:lnTo>
                  <a:lnTo>
                    <a:pt x="1741" y="1811"/>
                  </a:lnTo>
                  <a:lnTo>
                    <a:pt x="1743" y="1901"/>
                  </a:lnTo>
                  <a:lnTo>
                    <a:pt x="1744" y="1938"/>
                  </a:lnTo>
                  <a:lnTo>
                    <a:pt x="1746" y="1971"/>
                  </a:lnTo>
                  <a:lnTo>
                    <a:pt x="1749" y="2002"/>
                  </a:lnTo>
                  <a:lnTo>
                    <a:pt x="1753" y="2027"/>
                  </a:lnTo>
                  <a:lnTo>
                    <a:pt x="1756" y="2039"/>
                  </a:lnTo>
                  <a:lnTo>
                    <a:pt x="1758" y="2050"/>
                  </a:lnTo>
                  <a:lnTo>
                    <a:pt x="1761" y="2060"/>
                  </a:lnTo>
                  <a:lnTo>
                    <a:pt x="1765" y="2069"/>
                  </a:lnTo>
                  <a:lnTo>
                    <a:pt x="1768" y="2078"/>
                  </a:lnTo>
                  <a:lnTo>
                    <a:pt x="1773" y="2086"/>
                  </a:lnTo>
                  <a:lnTo>
                    <a:pt x="1777" y="2093"/>
                  </a:lnTo>
                  <a:lnTo>
                    <a:pt x="1782" y="2100"/>
                  </a:lnTo>
                  <a:lnTo>
                    <a:pt x="1787" y="2106"/>
                  </a:lnTo>
                  <a:lnTo>
                    <a:pt x="1793" y="2112"/>
                  </a:lnTo>
                  <a:lnTo>
                    <a:pt x="1799" y="2119"/>
                  </a:lnTo>
                  <a:lnTo>
                    <a:pt x="1806" y="2123"/>
                  </a:lnTo>
                  <a:lnTo>
                    <a:pt x="1814" y="2128"/>
                  </a:lnTo>
                  <a:lnTo>
                    <a:pt x="1822" y="2132"/>
                  </a:lnTo>
                  <a:lnTo>
                    <a:pt x="1830" y="2136"/>
                  </a:lnTo>
                  <a:lnTo>
                    <a:pt x="1839" y="2139"/>
                  </a:lnTo>
                  <a:lnTo>
                    <a:pt x="1839" y="2197"/>
                  </a:lnTo>
                  <a:lnTo>
                    <a:pt x="1331" y="2197"/>
                  </a:lnTo>
                  <a:lnTo>
                    <a:pt x="1320" y="2158"/>
                  </a:lnTo>
                  <a:lnTo>
                    <a:pt x="1311" y="2116"/>
                  </a:lnTo>
                  <a:lnTo>
                    <a:pt x="1306" y="2094"/>
                  </a:lnTo>
                  <a:lnTo>
                    <a:pt x="1301" y="2071"/>
                  </a:lnTo>
                  <a:lnTo>
                    <a:pt x="1298" y="2047"/>
                  </a:lnTo>
                  <a:lnTo>
                    <a:pt x="1295" y="2022"/>
                  </a:lnTo>
                  <a:lnTo>
                    <a:pt x="1292" y="1995"/>
                  </a:lnTo>
                  <a:lnTo>
                    <a:pt x="1289" y="1966"/>
                  </a:lnTo>
                  <a:lnTo>
                    <a:pt x="1287" y="1936"/>
                  </a:lnTo>
                  <a:lnTo>
                    <a:pt x="1285" y="1904"/>
                  </a:lnTo>
                  <a:lnTo>
                    <a:pt x="1282" y="1833"/>
                  </a:lnTo>
                  <a:lnTo>
                    <a:pt x="1282" y="1754"/>
                  </a:lnTo>
                  <a:lnTo>
                    <a:pt x="1281" y="1699"/>
                  </a:lnTo>
                  <a:lnTo>
                    <a:pt x="1280" y="1650"/>
                  </a:lnTo>
                  <a:lnTo>
                    <a:pt x="1278" y="1604"/>
                  </a:lnTo>
                  <a:lnTo>
                    <a:pt x="1274" y="1562"/>
                  </a:lnTo>
                  <a:lnTo>
                    <a:pt x="1271" y="1543"/>
                  </a:lnTo>
                  <a:lnTo>
                    <a:pt x="1267" y="1524"/>
                  </a:lnTo>
                  <a:lnTo>
                    <a:pt x="1263" y="1507"/>
                  </a:lnTo>
                  <a:lnTo>
                    <a:pt x="1258" y="1491"/>
                  </a:lnTo>
                  <a:lnTo>
                    <a:pt x="1252" y="1475"/>
                  </a:lnTo>
                  <a:lnTo>
                    <a:pt x="1246" y="1459"/>
                  </a:lnTo>
                  <a:lnTo>
                    <a:pt x="1239" y="1446"/>
                  </a:lnTo>
                  <a:lnTo>
                    <a:pt x="1230" y="1433"/>
                  </a:lnTo>
                  <a:lnTo>
                    <a:pt x="1221" y="1421"/>
                  </a:lnTo>
                  <a:lnTo>
                    <a:pt x="1211" y="1410"/>
                  </a:lnTo>
                  <a:lnTo>
                    <a:pt x="1199" y="1400"/>
                  </a:lnTo>
                  <a:lnTo>
                    <a:pt x="1187" y="1390"/>
                  </a:lnTo>
                  <a:lnTo>
                    <a:pt x="1172" y="1382"/>
                  </a:lnTo>
                  <a:lnTo>
                    <a:pt x="1157" y="1374"/>
                  </a:lnTo>
                  <a:lnTo>
                    <a:pt x="1141" y="1367"/>
                  </a:lnTo>
                  <a:lnTo>
                    <a:pt x="1123" y="1361"/>
                  </a:lnTo>
                  <a:lnTo>
                    <a:pt x="1104" y="1355"/>
                  </a:lnTo>
                  <a:lnTo>
                    <a:pt x="1083" y="1351"/>
                  </a:lnTo>
                  <a:lnTo>
                    <a:pt x="1061" y="1347"/>
                  </a:lnTo>
                  <a:lnTo>
                    <a:pt x="1036" y="1344"/>
                  </a:lnTo>
                  <a:lnTo>
                    <a:pt x="1011" y="1341"/>
                  </a:lnTo>
                  <a:lnTo>
                    <a:pt x="984" y="1339"/>
                  </a:lnTo>
                  <a:lnTo>
                    <a:pt x="955" y="1338"/>
                  </a:lnTo>
                  <a:lnTo>
                    <a:pt x="923" y="1338"/>
                  </a:lnTo>
                  <a:lnTo>
                    <a:pt x="450" y="1338"/>
                  </a:lnTo>
                  <a:lnTo>
                    <a:pt x="450" y="2197"/>
                  </a:lnTo>
                  <a:lnTo>
                    <a:pt x="0" y="2197"/>
                  </a:lnTo>
                  <a:lnTo>
                    <a:pt x="0" y="0"/>
                  </a:lnTo>
                  <a:close/>
                  <a:moveTo>
                    <a:pt x="988" y="968"/>
                  </a:moveTo>
                  <a:lnTo>
                    <a:pt x="1010" y="967"/>
                  </a:lnTo>
                  <a:lnTo>
                    <a:pt x="1031" y="967"/>
                  </a:lnTo>
                  <a:lnTo>
                    <a:pt x="1053" y="965"/>
                  </a:lnTo>
                  <a:lnTo>
                    <a:pt x="1072" y="964"/>
                  </a:lnTo>
                  <a:lnTo>
                    <a:pt x="1091" y="961"/>
                  </a:lnTo>
                  <a:lnTo>
                    <a:pt x="1110" y="959"/>
                  </a:lnTo>
                  <a:lnTo>
                    <a:pt x="1127" y="955"/>
                  </a:lnTo>
                  <a:lnTo>
                    <a:pt x="1144" y="952"/>
                  </a:lnTo>
                  <a:lnTo>
                    <a:pt x="1160" y="947"/>
                  </a:lnTo>
                  <a:lnTo>
                    <a:pt x="1176" y="941"/>
                  </a:lnTo>
                  <a:lnTo>
                    <a:pt x="1192" y="936"/>
                  </a:lnTo>
                  <a:lnTo>
                    <a:pt x="1206" y="929"/>
                  </a:lnTo>
                  <a:lnTo>
                    <a:pt x="1219" y="923"/>
                  </a:lnTo>
                  <a:lnTo>
                    <a:pt x="1232" y="915"/>
                  </a:lnTo>
                  <a:lnTo>
                    <a:pt x="1244" y="907"/>
                  </a:lnTo>
                  <a:lnTo>
                    <a:pt x="1255" y="899"/>
                  </a:lnTo>
                  <a:lnTo>
                    <a:pt x="1266" y="890"/>
                  </a:lnTo>
                  <a:lnTo>
                    <a:pt x="1276" y="880"/>
                  </a:lnTo>
                  <a:lnTo>
                    <a:pt x="1285" y="869"/>
                  </a:lnTo>
                  <a:lnTo>
                    <a:pt x="1293" y="858"/>
                  </a:lnTo>
                  <a:lnTo>
                    <a:pt x="1301" y="846"/>
                  </a:lnTo>
                  <a:lnTo>
                    <a:pt x="1309" y="834"/>
                  </a:lnTo>
                  <a:lnTo>
                    <a:pt x="1316" y="821"/>
                  </a:lnTo>
                  <a:lnTo>
                    <a:pt x="1322" y="806"/>
                  </a:lnTo>
                  <a:lnTo>
                    <a:pt x="1327" y="791"/>
                  </a:lnTo>
                  <a:lnTo>
                    <a:pt x="1331" y="776"/>
                  </a:lnTo>
                  <a:lnTo>
                    <a:pt x="1335" y="760"/>
                  </a:lnTo>
                  <a:lnTo>
                    <a:pt x="1338" y="743"/>
                  </a:lnTo>
                  <a:lnTo>
                    <a:pt x="1340" y="725"/>
                  </a:lnTo>
                  <a:lnTo>
                    <a:pt x="1342" y="707"/>
                  </a:lnTo>
                  <a:lnTo>
                    <a:pt x="1343" y="688"/>
                  </a:lnTo>
                  <a:lnTo>
                    <a:pt x="1343" y="667"/>
                  </a:lnTo>
                  <a:lnTo>
                    <a:pt x="1343" y="645"/>
                  </a:lnTo>
                  <a:lnTo>
                    <a:pt x="1341" y="622"/>
                  </a:lnTo>
                  <a:lnTo>
                    <a:pt x="1337" y="598"/>
                  </a:lnTo>
                  <a:lnTo>
                    <a:pt x="1331" y="574"/>
                  </a:lnTo>
                  <a:lnTo>
                    <a:pt x="1327" y="562"/>
                  </a:lnTo>
                  <a:lnTo>
                    <a:pt x="1323" y="549"/>
                  </a:lnTo>
                  <a:lnTo>
                    <a:pt x="1318" y="537"/>
                  </a:lnTo>
                  <a:lnTo>
                    <a:pt x="1313" y="525"/>
                  </a:lnTo>
                  <a:lnTo>
                    <a:pt x="1307" y="514"/>
                  </a:lnTo>
                  <a:lnTo>
                    <a:pt x="1299" y="502"/>
                  </a:lnTo>
                  <a:lnTo>
                    <a:pt x="1291" y="491"/>
                  </a:lnTo>
                  <a:lnTo>
                    <a:pt x="1283" y="480"/>
                  </a:lnTo>
                  <a:lnTo>
                    <a:pt x="1274" y="470"/>
                  </a:lnTo>
                  <a:lnTo>
                    <a:pt x="1264" y="460"/>
                  </a:lnTo>
                  <a:lnTo>
                    <a:pt x="1253" y="450"/>
                  </a:lnTo>
                  <a:lnTo>
                    <a:pt x="1242" y="441"/>
                  </a:lnTo>
                  <a:lnTo>
                    <a:pt x="1229" y="432"/>
                  </a:lnTo>
                  <a:lnTo>
                    <a:pt x="1216" y="424"/>
                  </a:lnTo>
                  <a:lnTo>
                    <a:pt x="1201" y="415"/>
                  </a:lnTo>
                  <a:lnTo>
                    <a:pt x="1186" y="408"/>
                  </a:lnTo>
                  <a:lnTo>
                    <a:pt x="1169" y="402"/>
                  </a:lnTo>
                  <a:lnTo>
                    <a:pt x="1151" y="396"/>
                  </a:lnTo>
                  <a:lnTo>
                    <a:pt x="1133" y="391"/>
                  </a:lnTo>
                  <a:lnTo>
                    <a:pt x="1113" y="387"/>
                  </a:lnTo>
                  <a:lnTo>
                    <a:pt x="1092" y="384"/>
                  </a:lnTo>
                  <a:lnTo>
                    <a:pt x="1070" y="382"/>
                  </a:lnTo>
                  <a:lnTo>
                    <a:pt x="1046" y="380"/>
                  </a:lnTo>
                  <a:lnTo>
                    <a:pt x="1022" y="380"/>
                  </a:lnTo>
                  <a:lnTo>
                    <a:pt x="450" y="380"/>
                  </a:lnTo>
                  <a:lnTo>
                    <a:pt x="450" y="968"/>
                  </a:lnTo>
                  <a:lnTo>
                    <a:pt x="988" y="9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816600" y="2864160"/>
              <a:ext cx="83160" cy="108720"/>
            </a:xfrm>
            <a:custGeom>
              <a:avLst/>
              <a:gdLst/>
              <a:ahLst/>
              <a:rect l="l" t="t" r="r" b="b"/>
              <a:pathLst>
                <a:path w="1685" h="2197">
                  <a:moveTo>
                    <a:pt x="458" y="2197"/>
                  </a:moveTo>
                  <a:lnTo>
                    <a:pt x="0" y="2197"/>
                  </a:lnTo>
                  <a:lnTo>
                    <a:pt x="0" y="0"/>
                  </a:lnTo>
                  <a:lnTo>
                    <a:pt x="1003" y="0"/>
                  </a:lnTo>
                  <a:lnTo>
                    <a:pt x="1042" y="1"/>
                  </a:lnTo>
                  <a:lnTo>
                    <a:pt x="1080" y="3"/>
                  </a:lnTo>
                  <a:lnTo>
                    <a:pt x="1119" y="7"/>
                  </a:lnTo>
                  <a:lnTo>
                    <a:pt x="1155" y="13"/>
                  </a:lnTo>
                  <a:lnTo>
                    <a:pt x="1190" y="20"/>
                  </a:lnTo>
                  <a:lnTo>
                    <a:pt x="1223" y="28"/>
                  </a:lnTo>
                  <a:lnTo>
                    <a:pt x="1257" y="39"/>
                  </a:lnTo>
                  <a:lnTo>
                    <a:pt x="1289" y="50"/>
                  </a:lnTo>
                  <a:lnTo>
                    <a:pt x="1320" y="63"/>
                  </a:lnTo>
                  <a:lnTo>
                    <a:pt x="1349" y="77"/>
                  </a:lnTo>
                  <a:lnTo>
                    <a:pt x="1379" y="93"/>
                  </a:lnTo>
                  <a:lnTo>
                    <a:pt x="1406" y="109"/>
                  </a:lnTo>
                  <a:lnTo>
                    <a:pt x="1432" y="128"/>
                  </a:lnTo>
                  <a:lnTo>
                    <a:pt x="1457" y="147"/>
                  </a:lnTo>
                  <a:lnTo>
                    <a:pt x="1481" y="169"/>
                  </a:lnTo>
                  <a:lnTo>
                    <a:pt x="1504" y="191"/>
                  </a:lnTo>
                  <a:lnTo>
                    <a:pt x="1525" y="214"/>
                  </a:lnTo>
                  <a:lnTo>
                    <a:pt x="1545" y="239"/>
                  </a:lnTo>
                  <a:lnTo>
                    <a:pt x="1564" y="265"/>
                  </a:lnTo>
                  <a:lnTo>
                    <a:pt x="1581" y="293"/>
                  </a:lnTo>
                  <a:lnTo>
                    <a:pt x="1597" y="321"/>
                  </a:lnTo>
                  <a:lnTo>
                    <a:pt x="1612" y="350"/>
                  </a:lnTo>
                  <a:lnTo>
                    <a:pt x="1627" y="380"/>
                  </a:lnTo>
                  <a:lnTo>
                    <a:pt x="1639" y="412"/>
                  </a:lnTo>
                  <a:lnTo>
                    <a:pt x="1650" y="446"/>
                  </a:lnTo>
                  <a:lnTo>
                    <a:pt x="1659" y="479"/>
                  </a:lnTo>
                  <a:lnTo>
                    <a:pt x="1667" y="514"/>
                  </a:lnTo>
                  <a:lnTo>
                    <a:pt x="1673" y="550"/>
                  </a:lnTo>
                  <a:lnTo>
                    <a:pt x="1679" y="588"/>
                  </a:lnTo>
                  <a:lnTo>
                    <a:pt x="1682" y="625"/>
                  </a:lnTo>
                  <a:lnTo>
                    <a:pt x="1685" y="664"/>
                  </a:lnTo>
                  <a:lnTo>
                    <a:pt x="1685" y="705"/>
                  </a:lnTo>
                  <a:lnTo>
                    <a:pt x="1685" y="724"/>
                  </a:lnTo>
                  <a:lnTo>
                    <a:pt x="1684" y="745"/>
                  </a:lnTo>
                  <a:lnTo>
                    <a:pt x="1682" y="767"/>
                  </a:lnTo>
                  <a:lnTo>
                    <a:pt x="1679" y="791"/>
                  </a:lnTo>
                  <a:lnTo>
                    <a:pt x="1676" y="817"/>
                  </a:lnTo>
                  <a:lnTo>
                    <a:pt x="1671" y="843"/>
                  </a:lnTo>
                  <a:lnTo>
                    <a:pt x="1666" y="870"/>
                  </a:lnTo>
                  <a:lnTo>
                    <a:pt x="1659" y="897"/>
                  </a:lnTo>
                  <a:lnTo>
                    <a:pt x="1651" y="926"/>
                  </a:lnTo>
                  <a:lnTo>
                    <a:pt x="1642" y="955"/>
                  </a:lnTo>
                  <a:lnTo>
                    <a:pt x="1632" y="984"/>
                  </a:lnTo>
                  <a:lnTo>
                    <a:pt x="1620" y="1013"/>
                  </a:lnTo>
                  <a:lnTo>
                    <a:pt x="1605" y="1042"/>
                  </a:lnTo>
                  <a:lnTo>
                    <a:pt x="1591" y="1071"/>
                  </a:lnTo>
                  <a:lnTo>
                    <a:pt x="1574" y="1101"/>
                  </a:lnTo>
                  <a:lnTo>
                    <a:pt x="1556" y="1129"/>
                  </a:lnTo>
                  <a:lnTo>
                    <a:pt x="1537" y="1157"/>
                  </a:lnTo>
                  <a:lnTo>
                    <a:pt x="1515" y="1184"/>
                  </a:lnTo>
                  <a:lnTo>
                    <a:pt x="1492" y="1211"/>
                  </a:lnTo>
                  <a:lnTo>
                    <a:pt x="1465" y="1236"/>
                  </a:lnTo>
                  <a:lnTo>
                    <a:pt x="1438" y="1260"/>
                  </a:lnTo>
                  <a:lnTo>
                    <a:pt x="1409" y="1282"/>
                  </a:lnTo>
                  <a:lnTo>
                    <a:pt x="1377" y="1303"/>
                  </a:lnTo>
                  <a:lnTo>
                    <a:pt x="1343" y="1323"/>
                  </a:lnTo>
                  <a:lnTo>
                    <a:pt x="1307" y="1342"/>
                  </a:lnTo>
                  <a:lnTo>
                    <a:pt x="1269" y="1358"/>
                  </a:lnTo>
                  <a:lnTo>
                    <a:pt x="1227" y="1371"/>
                  </a:lnTo>
                  <a:lnTo>
                    <a:pt x="1184" y="1383"/>
                  </a:lnTo>
                  <a:lnTo>
                    <a:pt x="1139" y="1392"/>
                  </a:lnTo>
                  <a:lnTo>
                    <a:pt x="1089" y="1399"/>
                  </a:lnTo>
                  <a:lnTo>
                    <a:pt x="1039" y="1403"/>
                  </a:lnTo>
                  <a:lnTo>
                    <a:pt x="985" y="1405"/>
                  </a:lnTo>
                  <a:lnTo>
                    <a:pt x="458" y="1405"/>
                  </a:lnTo>
                  <a:lnTo>
                    <a:pt x="458" y="2197"/>
                  </a:lnTo>
                  <a:close/>
                  <a:moveTo>
                    <a:pt x="884" y="1025"/>
                  </a:moveTo>
                  <a:lnTo>
                    <a:pt x="915" y="1025"/>
                  </a:lnTo>
                  <a:lnTo>
                    <a:pt x="944" y="1023"/>
                  </a:lnTo>
                  <a:lnTo>
                    <a:pt x="971" y="1019"/>
                  </a:lnTo>
                  <a:lnTo>
                    <a:pt x="997" y="1015"/>
                  </a:lnTo>
                  <a:lnTo>
                    <a:pt x="1021" y="1009"/>
                  </a:lnTo>
                  <a:lnTo>
                    <a:pt x="1042" y="1002"/>
                  </a:lnTo>
                  <a:lnTo>
                    <a:pt x="1063" y="995"/>
                  </a:lnTo>
                  <a:lnTo>
                    <a:pt x="1081" y="986"/>
                  </a:lnTo>
                  <a:lnTo>
                    <a:pt x="1099" y="976"/>
                  </a:lnTo>
                  <a:lnTo>
                    <a:pt x="1115" y="966"/>
                  </a:lnTo>
                  <a:lnTo>
                    <a:pt x="1130" y="955"/>
                  </a:lnTo>
                  <a:lnTo>
                    <a:pt x="1143" y="943"/>
                  </a:lnTo>
                  <a:lnTo>
                    <a:pt x="1155" y="930"/>
                  </a:lnTo>
                  <a:lnTo>
                    <a:pt x="1165" y="917"/>
                  </a:lnTo>
                  <a:lnTo>
                    <a:pt x="1175" y="904"/>
                  </a:lnTo>
                  <a:lnTo>
                    <a:pt x="1183" y="891"/>
                  </a:lnTo>
                  <a:lnTo>
                    <a:pt x="1191" y="877"/>
                  </a:lnTo>
                  <a:lnTo>
                    <a:pt x="1197" y="863"/>
                  </a:lnTo>
                  <a:lnTo>
                    <a:pt x="1203" y="849"/>
                  </a:lnTo>
                  <a:lnTo>
                    <a:pt x="1208" y="835"/>
                  </a:lnTo>
                  <a:lnTo>
                    <a:pt x="1212" y="820"/>
                  </a:lnTo>
                  <a:lnTo>
                    <a:pt x="1215" y="805"/>
                  </a:lnTo>
                  <a:lnTo>
                    <a:pt x="1218" y="791"/>
                  </a:lnTo>
                  <a:lnTo>
                    <a:pt x="1221" y="777"/>
                  </a:lnTo>
                  <a:lnTo>
                    <a:pt x="1224" y="751"/>
                  </a:lnTo>
                  <a:lnTo>
                    <a:pt x="1225" y="726"/>
                  </a:lnTo>
                  <a:lnTo>
                    <a:pt x="1226" y="703"/>
                  </a:lnTo>
                  <a:lnTo>
                    <a:pt x="1226" y="683"/>
                  </a:lnTo>
                  <a:lnTo>
                    <a:pt x="1226" y="663"/>
                  </a:lnTo>
                  <a:lnTo>
                    <a:pt x="1224" y="644"/>
                  </a:lnTo>
                  <a:lnTo>
                    <a:pt x="1223" y="626"/>
                  </a:lnTo>
                  <a:lnTo>
                    <a:pt x="1220" y="608"/>
                  </a:lnTo>
                  <a:lnTo>
                    <a:pt x="1217" y="592"/>
                  </a:lnTo>
                  <a:lnTo>
                    <a:pt x="1213" y="576"/>
                  </a:lnTo>
                  <a:lnTo>
                    <a:pt x="1208" y="560"/>
                  </a:lnTo>
                  <a:lnTo>
                    <a:pt x="1203" y="545"/>
                  </a:lnTo>
                  <a:lnTo>
                    <a:pt x="1197" y="531"/>
                  </a:lnTo>
                  <a:lnTo>
                    <a:pt x="1190" y="517"/>
                  </a:lnTo>
                  <a:lnTo>
                    <a:pt x="1182" y="505"/>
                  </a:lnTo>
                  <a:lnTo>
                    <a:pt x="1174" y="493"/>
                  </a:lnTo>
                  <a:lnTo>
                    <a:pt x="1164" y="482"/>
                  </a:lnTo>
                  <a:lnTo>
                    <a:pt x="1154" y="471"/>
                  </a:lnTo>
                  <a:lnTo>
                    <a:pt x="1143" y="461"/>
                  </a:lnTo>
                  <a:lnTo>
                    <a:pt x="1131" y="451"/>
                  </a:lnTo>
                  <a:lnTo>
                    <a:pt x="1119" y="443"/>
                  </a:lnTo>
                  <a:lnTo>
                    <a:pt x="1104" y="434"/>
                  </a:lnTo>
                  <a:lnTo>
                    <a:pt x="1090" y="427"/>
                  </a:lnTo>
                  <a:lnTo>
                    <a:pt x="1075" y="419"/>
                  </a:lnTo>
                  <a:lnTo>
                    <a:pt x="1059" y="412"/>
                  </a:lnTo>
                  <a:lnTo>
                    <a:pt x="1042" y="407"/>
                  </a:lnTo>
                  <a:lnTo>
                    <a:pt x="1024" y="401"/>
                  </a:lnTo>
                  <a:lnTo>
                    <a:pt x="1006" y="397"/>
                  </a:lnTo>
                  <a:lnTo>
                    <a:pt x="986" y="393"/>
                  </a:lnTo>
                  <a:lnTo>
                    <a:pt x="965" y="389"/>
                  </a:lnTo>
                  <a:lnTo>
                    <a:pt x="944" y="386"/>
                  </a:lnTo>
                  <a:lnTo>
                    <a:pt x="921" y="384"/>
                  </a:lnTo>
                  <a:lnTo>
                    <a:pt x="898" y="382"/>
                  </a:lnTo>
                  <a:lnTo>
                    <a:pt x="874" y="381"/>
                  </a:lnTo>
                  <a:lnTo>
                    <a:pt x="848" y="380"/>
                  </a:lnTo>
                  <a:lnTo>
                    <a:pt x="822" y="380"/>
                  </a:lnTo>
                  <a:lnTo>
                    <a:pt x="458" y="380"/>
                  </a:lnTo>
                  <a:lnTo>
                    <a:pt x="458" y="1025"/>
                  </a:lnTo>
                  <a:lnTo>
                    <a:pt x="884" y="10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6912720" y="2860200"/>
              <a:ext cx="88920" cy="115560"/>
            </a:xfrm>
            <a:custGeom>
              <a:avLst/>
              <a:gdLst/>
              <a:ahLst/>
              <a:rect l="l" t="t" r="r" b="b"/>
              <a:pathLst>
                <a:path w="1805" h="2313">
                  <a:moveTo>
                    <a:pt x="440" y="1578"/>
                  </a:moveTo>
                  <a:lnTo>
                    <a:pt x="442" y="1602"/>
                  </a:lnTo>
                  <a:lnTo>
                    <a:pt x="446" y="1628"/>
                  </a:lnTo>
                  <a:lnTo>
                    <a:pt x="448" y="1642"/>
                  </a:lnTo>
                  <a:lnTo>
                    <a:pt x="451" y="1657"/>
                  </a:lnTo>
                  <a:lnTo>
                    <a:pt x="454" y="1671"/>
                  </a:lnTo>
                  <a:lnTo>
                    <a:pt x="459" y="1685"/>
                  </a:lnTo>
                  <a:lnTo>
                    <a:pt x="464" y="1700"/>
                  </a:lnTo>
                  <a:lnTo>
                    <a:pt x="470" y="1715"/>
                  </a:lnTo>
                  <a:lnTo>
                    <a:pt x="476" y="1729"/>
                  </a:lnTo>
                  <a:lnTo>
                    <a:pt x="484" y="1744"/>
                  </a:lnTo>
                  <a:lnTo>
                    <a:pt x="492" y="1759"/>
                  </a:lnTo>
                  <a:lnTo>
                    <a:pt x="502" y="1773"/>
                  </a:lnTo>
                  <a:lnTo>
                    <a:pt x="512" y="1788"/>
                  </a:lnTo>
                  <a:lnTo>
                    <a:pt x="524" y="1802"/>
                  </a:lnTo>
                  <a:lnTo>
                    <a:pt x="537" y="1815"/>
                  </a:lnTo>
                  <a:lnTo>
                    <a:pt x="551" y="1828"/>
                  </a:lnTo>
                  <a:lnTo>
                    <a:pt x="566" y="1841"/>
                  </a:lnTo>
                  <a:lnTo>
                    <a:pt x="584" y="1853"/>
                  </a:lnTo>
                  <a:lnTo>
                    <a:pt x="602" y="1864"/>
                  </a:lnTo>
                  <a:lnTo>
                    <a:pt x="621" y="1875"/>
                  </a:lnTo>
                  <a:lnTo>
                    <a:pt x="642" y="1885"/>
                  </a:lnTo>
                  <a:lnTo>
                    <a:pt x="664" y="1894"/>
                  </a:lnTo>
                  <a:lnTo>
                    <a:pt x="688" y="1903"/>
                  </a:lnTo>
                  <a:lnTo>
                    <a:pt x="715" y="1910"/>
                  </a:lnTo>
                  <a:lnTo>
                    <a:pt x="742" y="1918"/>
                  </a:lnTo>
                  <a:lnTo>
                    <a:pt x="771" y="1923"/>
                  </a:lnTo>
                  <a:lnTo>
                    <a:pt x="802" y="1928"/>
                  </a:lnTo>
                  <a:lnTo>
                    <a:pt x="835" y="1931"/>
                  </a:lnTo>
                  <a:lnTo>
                    <a:pt x="869" y="1933"/>
                  </a:lnTo>
                  <a:lnTo>
                    <a:pt x="906" y="1933"/>
                  </a:lnTo>
                  <a:lnTo>
                    <a:pt x="946" y="1933"/>
                  </a:lnTo>
                  <a:lnTo>
                    <a:pt x="988" y="1931"/>
                  </a:lnTo>
                  <a:lnTo>
                    <a:pt x="1029" y="1927"/>
                  </a:lnTo>
                  <a:lnTo>
                    <a:pt x="1069" y="1922"/>
                  </a:lnTo>
                  <a:lnTo>
                    <a:pt x="1089" y="1918"/>
                  </a:lnTo>
                  <a:lnTo>
                    <a:pt x="1109" y="1914"/>
                  </a:lnTo>
                  <a:lnTo>
                    <a:pt x="1128" y="1909"/>
                  </a:lnTo>
                  <a:lnTo>
                    <a:pt x="1147" y="1904"/>
                  </a:lnTo>
                  <a:lnTo>
                    <a:pt x="1165" y="1898"/>
                  </a:lnTo>
                  <a:lnTo>
                    <a:pt x="1182" y="1892"/>
                  </a:lnTo>
                  <a:lnTo>
                    <a:pt x="1201" y="1885"/>
                  </a:lnTo>
                  <a:lnTo>
                    <a:pt x="1217" y="1878"/>
                  </a:lnTo>
                  <a:lnTo>
                    <a:pt x="1233" y="1870"/>
                  </a:lnTo>
                  <a:lnTo>
                    <a:pt x="1249" y="1861"/>
                  </a:lnTo>
                  <a:lnTo>
                    <a:pt x="1263" y="1851"/>
                  </a:lnTo>
                  <a:lnTo>
                    <a:pt x="1277" y="1841"/>
                  </a:lnTo>
                  <a:lnTo>
                    <a:pt x="1290" y="1830"/>
                  </a:lnTo>
                  <a:lnTo>
                    <a:pt x="1302" y="1818"/>
                  </a:lnTo>
                  <a:lnTo>
                    <a:pt x="1313" y="1805"/>
                  </a:lnTo>
                  <a:lnTo>
                    <a:pt x="1323" y="1791"/>
                  </a:lnTo>
                  <a:lnTo>
                    <a:pt x="1333" y="1776"/>
                  </a:lnTo>
                  <a:lnTo>
                    <a:pt x="1342" y="1761"/>
                  </a:lnTo>
                  <a:lnTo>
                    <a:pt x="1349" y="1745"/>
                  </a:lnTo>
                  <a:lnTo>
                    <a:pt x="1354" y="1727"/>
                  </a:lnTo>
                  <a:lnTo>
                    <a:pt x="1359" y="1709"/>
                  </a:lnTo>
                  <a:lnTo>
                    <a:pt x="1362" y="1690"/>
                  </a:lnTo>
                  <a:lnTo>
                    <a:pt x="1364" y="1670"/>
                  </a:lnTo>
                  <a:lnTo>
                    <a:pt x="1365" y="1648"/>
                  </a:lnTo>
                  <a:lnTo>
                    <a:pt x="1365" y="1632"/>
                  </a:lnTo>
                  <a:lnTo>
                    <a:pt x="1363" y="1618"/>
                  </a:lnTo>
                  <a:lnTo>
                    <a:pt x="1361" y="1603"/>
                  </a:lnTo>
                  <a:lnTo>
                    <a:pt x="1358" y="1590"/>
                  </a:lnTo>
                  <a:lnTo>
                    <a:pt x="1354" y="1577"/>
                  </a:lnTo>
                  <a:lnTo>
                    <a:pt x="1349" y="1565"/>
                  </a:lnTo>
                  <a:lnTo>
                    <a:pt x="1343" y="1553"/>
                  </a:lnTo>
                  <a:lnTo>
                    <a:pt x="1336" y="1542"/>
                  </a:lnTo>
                  <a:lnTo>
                    <a:pt x="1328" y="1531"/>
                  </a:lnTo>
                  <a:lnTo>
                    <a:pt x="1319" y="1521"/>
                  </a:lnTo>
                  <a:lnTo>
                    <a:pt x="1310" y="1510"/>
                  </a:lnTo>
                  <a:lnTo>
                    <a:pt x="1300" y="1501"/>
                  </a:lnTo>
                  <a:lnTo>
                    <a:pt x="1289" y="1493"/>
                  </a:lnTo>
                  <a:lnTo>
                    <a:pt x="1278" y="1484"/>
                  </a:lnTo>
                  <a:lnTo>
                    <a:pt x="1266" y="1476"/>
                  </a:lnTo>
                  <a:lnTo>
                    <a:pt x="1253" y="1469"/>
                  </a:lnTo>
                  <a:lnTo>
                    <a:pt x="1240" y="1461"/>
                  </a:lnTo>
                  <a:lnTo>
                    <a:pt x="1226" y="1455"/>
                  </a:lnTo>
                  <a:lnTo>
                    <a:pt x="1211" y="1448"/>
                  </a:lnTo>
                  <a:lnTo>
                    <a:pt x="1195" y="1442"/>
                  </a:lnTo>
                  <a:lnTo>
                    <a:pt x="1162" y="1429"/>
                  </a:lnTo>
                  <a:lnTo>
                    <a:pt x="1127" y="1418"/>
                  </a:lnTo>
                  <a:lnTo>
                    <a:pt x="1090" y="1407"/>
                  </a:lnTo>
                  <a:lnTo>
                    <a:pt x="1051" y="1397"/>
                  </a:lnTo>
                  <a:lnTo>
                    <a:pt x="1010" y="1386"/>
                  </a:lnTo>
                  <a:lnTo>
                    <a:pt x="967" y="1376"/>
                  </a:lnTo>
                  <a:lnTo>
                    <a:pt x="732" y="1321"/>
                  </a:lnTo>
                  <a:lnTo>
                    <a:pt x="665" y="1306"/>
                  </a:lnTo>
                  <a:lnTo>
                    <a:pt x="600" y="1290"/>
                  </a:lnTo>
                  <a:lnTo>
                    <a:pt x="567" y="1281"/>
                  </a:lnTo>
                  <a:lnTo>
                    <a:pt x="535" y="1273"/>
                  </a:lnTo>
                  <a:lnTo>
                    <a:pt x="504" y="1264"/>
                  </a:lnTo>
                  <a:lnTo>
                    <a:pt x="473" y="1253"/>
                  </a:lnTo>
                  <a:lnTo>
                    <a:pt x="442" y="1243"/>
                  </a:lnTo>
                  <a:lnTo>
                    <a:pt x="412" y="1232"/>
                  </a:lnTo>
                  <a:lnTo>
                    <a:pt x="383" y="1220"/>
                  </a:lnTo>
                  <a:lnTo>
                    <a:pt x="355" y="1208"/>
                  </a:lnTo>
                  <a:lnTo>
                    <a:pt x="327" y="1195"/>
                  </a:lnTo>
                  <a:lnTo>
                    <a:pt x="300" y="1181"/>
                  </a:lnTo>
                  <a:lnTo>
                    <a:pt x="274" y="1165"/>
                  </a:lnTo>
                  <a:lnTo>
                    <a:pt x="249" y="1149"/>
                  </a:lnTo>
                  <a:lnTo>
                    <a:pt x="226" y="1132"/>
                  </a:lnTo>
                  <a:lnTo>
                    <a:pt x="203" y="1112"/>
                  </a:lnTo>
                  <a:lnTo>
                    <a:pt x="181" y="1092"/>
                  </a:lnTo>
                  <a:lnTo>
                    <a:pt x="161" y="1070"/>
                  </a:lnTo>
                  <a:lnTo>
                    <a:pt x="142" y="1048"/>
                  </a:lnTo>
                  <a:lnTo>
                    <a:pt x="124" y="1023"/>
                  </a:lnTo>
                  <a:lnTo>
                    <a:pt x="108" y="996"/>
                  </a:lnTo>
                  <a:lnTo>
                    <a:pt x="93" y="968"/>
                  </a:lnTo>
                  <a:lnTo>
                    <a:pt x="80" y="939"/>
                  </a:lnTo>
                  <a:lnTo>
                    <a:pt x="68" y="908"/>
                  </a:lnTo>
                  <a:lnTo>
                    <a:pt x="57" y="875"/>
                  </a:lnTo>
                  <a:lnTo>
                    <a:pt x="49" y="838"/>
                  </a:lnTo>
                  <a:lnTo>
                    <a:pt x="42" y="801"/>
                  </a:lnTo>
                  <a:lnTo>
                    <a:pt x="37" y="762"/>
                  </a:lnTo>
                  <a:lnTo>
                    <a:pt x="34" y="719"/>
                  </a:lnTo>
                  <a:lnTo>
                    <a:pt x="33" y="676"/>
                  </a:lnTo>
                  <a:lnTo>
                    <a:pt x="34" y="652"/>
                  </a:lnTo>
                  <a:lnTo>
                    <a:pt x="35" y="628"/>
                  </a:lnTo>
                  <a:lnTo>
                    <a:pt x="37" y="602"/>
                  </a:lnTo>
                  <a:lnTo>
                    <a:pt x="40" y="576"/>
                  </a:lnTo>
                  <a:lnTo>
                    <a:pt x="45" y="550"/>
                  </a:lnTo>
                  <a:lnTo>
                    <a:pt x="50" y="523"/>
                  </a:lnTo>
                  <a:lnTo>
                    <a:pt x="57" y="495"/>
                  </a:lnTo>
                  <a:lnTo>
                    <a:pt x="66" y="466"/>
                  </a:lnTo>
                  <a:lnTo>
                    <a:pt x="75" y="438"/>
                  </a:lnTo>
                  <a:lnTo>
                    <a:pt x="86" y="410"/>
                  </a:lnTo>
                  <a:lnTo>
                    <a:pt x="99" y="382"/>
                  </a:lnTo>
                  <a:lnTo>
                    <a:pt x="113" y="355"/>
                  </a:lnTo>
                  <a:lnTo>
                    <a:pt x="129" y="326"/>
                  </a:lnTo>
                  <a:lnTo>
                    <a:pt x="147" y="299"/>
                  </a:lnTo>
                  <a:lnTo>
                    <a:pt x="166" y="272"/>
                  </a:lnTo>
                  <a:lnTo>
                    <a:pt x="188" y="246"/>
                  </a:lnTo>
                  <a:lnTo>
                    <a:pt x="213" y="221"/>
                  </a:lnTo>
                  <a:lnTo>
                    <a:pt x="239" y="195"/>
                  </a:lnTo>
                  <a:lnTo>
                    <a:pt x="267" y="171"/>
                  </a:lnTo>
                  <a:lnTo>
                    <a:pt x="297" y="149"/>
                  </a:lnTo>
                  <a:lnTo>
                    <a:pt x="331" y="127"/>
                  </a:lnTo>
                  <a:lnTo>
                    <a:pt x="367" y="107"/>
                  </a:lnTo>
                  <a:lnTo>
                    <a:pt x="404" y="89"/>
                  </a:lnTo>
                  <a:lnTo>
                    <a:pt x="446" y="70"/>
                  </a:lnTo>
                  <a:lnTo>
                    <a:pt x="489" y="55"/>
                  </a:lnTo>
                  <a:lnTo>
                    <a:pt x="535" y="41"/>
                  </a:lnTo>
                  <a:lnTo>
                    <a:pt x="585" y="29"/>
                  </a:lnTo>
                  <a:lnTo>
                    <a:pt x="637" y="18"/>
                  </a:lnTo>
                  <a:lnTo>
                    <a:pt x="692" y="10"/>
                  </a:lnTo>
                  <a:lnTo>
                    <a:pt x="751" y="4"/>
                  </a:lnTo>
                  <a:lnTo>
                    <a:pt x="813" y="1"/>
                  </a:lnTo>
                  <a:lnTo>
                    <a:pt x="878" y="0"/>
                  </a:lnTo>
                  <a:lnTo>
                    <a:pt x="940" y="1"/>
                  </a:lnTo>
                  <a:lnTo>
                    <a:pt x="999" y="5"/>
                  </a:lnTo>
                  <a:lnTo>
                    <a:pt x="1055" y="11"/>
                  </a:lnTo>
                  <a:lnTo>
                    <a:pt x="1109" y="19"/>
                  </a:lnTo>
                  <a:lnTo>
                    <a:pt x="1159" y="29"/>
                  </a:lnTo>
                  <a:lnTo>
                    <a:pt x="1208" y="42"/>
                  </a:lnTo>
                  <a:lnTo>
                    <a:pt x="1253" y="56"/>
                  </a:lnTo>
                  <a:lnTo>
                    <a:pt x="1296" y="72"/>
                  </a:lnTo>
                  <a:lnTo>
                    <a:pt x="1337" y="91"/>
                  </a:lnTo>
                  <a:lnTo>
                    <a:pt x="1375" y="110"/>
                  </a:lnTo>
                  <a:lnTo>
                    <a:pt x="1411" y="131"/>
                  </a:lnTo>
                  <a:lnTo>
                    <a:pt x="1444" y="153"/>
                  </a:lnTo>
                  <a:lnTo>
                    <a:pt x="1476" y="176"/>
                  </a:lnTo>
                  <a:lnTo>
                    <a:pt x="1506" y="201"/>
                  </a:lnTo>
                  <a:lnTo>
                    <a:pt x="1533" y="227"/>
                  </a:lnTo>
                  <a:lnTo>
                    <a:pt x="1558" y="254"/>
                  </a:lnTo>
                  <a:lnTo>
                    <a:pt x="1582" y="281"/>
                  </a:lnTo>
                  <a:lnTo>
                    <a:pt x="1603" y="309"/>
                  </a:lnTo>
                  <a:lnTo>
                    <a:pt x="1623" y="337"/>
                  </a:lnTo>
                  <a:lnTo>
                    <a:pt x="1640" y="367"/>
                  </a:lnTo>
                  <a:lnTo>
                    <a:pt x="1656" y="396"/>
                  </a:lnTo>
                  <a:lnTo>
                    <a:pt x="1670" y="425"/>
                  </a:lnTo>
                  <a:lnTo>
                    <a:pt x="1683" y="455"/>
                  </a:lnTo>
                  <a:lnTo>
                    <a:pt x="1694" y="485"/>
                  </a:lnTo>
                  <a:lnTo>
                    <a:pt x="1705" y="515"/>
                  </a:lnTo>
                  <a:lnTo>
                    <a:pt x="1713" y="544"/>
                  </a:lnTo>
                  <a:lnTo>
                    <a:pt x="1720" y="573"/>
                  </a:lnTo>
                  <a:lnTo>
                    <a:pt x="1725" y="601"/>
                  </a:lnTo>
                  <a:lnTo>
                    <a:pt x="1730" y="630"/>
                  </a:lnTo>
                  <a:lnTo>
                    <a:pt x="1733" y="657"/>
                  </a:lnTo>
                  <a:lnTo>
                    <a:pt x="1735" y="684"/>
                  </a:lnTo>
                  <a:lnTo>
                    <a:pt x="1736" y="709"/>
                  </a:lnTo>
                  <a:lnTo>
                    <a:pt x="1294" y="709"/>
                  </a:lnTo>
                  <a:lnTo>
                    <a:pt x="1292" y="689"/>
                  </a:lnTo>
                  <a:lnTo>
                    <a:pt x="1288" y="667"/>
                  </a:lnTo>
                  <a:lnTo>
                    <a:pt x="1283" y="643"/>
                  </a:lnTo>
                  <a:lnTo>
                    <a:pt x="1275" y="617"/>
                  </a:lnTo>
                  <a:lnTo>
                    <a:pt x="1271" y="602"/>
                  </a:lnTo>
                  <a:lnTo>
                    <a:pt x="1265" y="589"/>
                  </a:lnTo>
                  <a:lnTo>
                    <a:pt x="1259" y="575"/>
                  </a:lnTo>
                  <a:lnTo>
                    <a:pt x="1253" y="562"/>
                  </a:lnTo>
                  <a:lnTo>
                    <a:pt x="1245" y="548"/>
                  </a:lnTo>
                  <a:lnTo>
                    <a:pt x="1236" y="534"/>
                  </a:lnTo>
                  <a:lnTo>
                    <a:pt x="1226" y="521"/>
                  </a:lnTo>
                  <a:lnTo>
                    <a:pt x="1216" y="508"/>
                  </a:lnTo>
                  <a:lnTo>
                    <a:pt x="1204" y="495"/>
                  </a:lnTo>
                  <a:lnTo>
                    <a:pt x="1190" y="482"/>
                  </a:lnTo>
                  <a:lnTo>
                    <a:pt x="1175" y="469"/>
                  </a:lnTo>
                  <a:lnTo>
                    <a:pt x="1160" y="457"/>
                  </a:lnTo>
                  <a:lnTo>
                    <a:pt x="1143" y="446"/>
                  </a:lnTo>
                  <a:lnTo>
                    <a:pt x="1124" y="436"/>
                  </a:lnTo>
                  <a:lnTo>
                    <a:pt x="1104" y="426"/>
                  </a:lnTo>
                  <a:lnTo>
                    <a:pt x="1083" y="417"/>
                  </a:lnTo>
                  <a:lnTo>
                    <a:pt x="1059" y="408"/>
                  </a:lnTo>
                  <a:lnTo>
                    <a:pt x="1034" y="401"/>
                  </a:lnTo>
                  <a:lnTo>
                    <a:pt x="1007" y="395"/>
                  </a:lnTo>
                  <a:lnTo>
                    <a:pt x="979" y="389"/>
                  </a:lnTo>
                  <a:lnTo>
                    <a:pt x="949" y="385"/>
                  </a:lnTo>
                  <a:lnTo>
                    <a:pt x="915" y="382"/>
                  </a:lnTo>
                  <a:lnTo>
                    <a:pt x="881" y="380"/>
                  </a:lnTo>
                  <a:lnTo>
                    <a:pt x="845" y="379"/>
                  </a:lnTo>
                  <a:lnTo>
                    <a:pt x="811" y="380"/>
                  </a:lnTo>
                  <a:lnTo>
                    <a:pt x="778" y="382"/>
                  </a:lnTo>
                  <a:lnTo>
                    <a:pt x="745" y="386"/>
                  </a:lnTo>
                  <a:lnTo>
                    <a:pt x="712" y="392"/>
                  </a:lnTo>
                  <a:lnTo>
                    <a:pt x="694" y="396"/>
                  </a:lnTo>
                  <a:lnTo>
                    <a:pt x="678" y="400"/>
                  </a:lnTo>
                  <a:lnTo>
                    <a:pt x="662" y="405"/>
                  </a:lnTo>
                  <a:lnTo>
                    <a:pt x="647" y="410"/>
                  </a:lnTo>
                  <a:lnTo>
                    <a:pt x="632" y="415"/>
                  </a:lnTo>
                  <a:lnTo>
                    <a:pt x="617" y="422"/>
                  </a:lnTo>
                  <a:lnTo>
                    <a:pt x="602" y="428"/>
                  </a:lnTo>
                  <a:lnTo>
                    <a:pt x="588" y="436"/>
                  </a:lnTo>
                  <a:lnTo>
                    <a:pt x="575" y="444"/>
                  </a:lnTo>
                  <a:lnTo>
                    <a:pt x="561" y="452"/>
                  </a:lnTo>
                  <a:lnTo>
                    <a:pt x="549" y="461"/>
                  </a:lnTo>
                  <a:lnTo>
                    <a:pt x="537" y="471"/>
                  </a:lnTo>
                  <a:lnTo>
                    <a:pt x="526" y="482"/>
                  </a:lnTo>
                  <a:lnTo>
                    <a:pt x="516" y="493"/>
                  </a:lnTo>
                  <a:lnTo>
                    <a:pt x="506" y="505"/>
                  </a:lnTo>
                  <a:lnTo>
                    <a:pt x="497" y="517"/>
                  </a:lnTo>
                  <a:lnTo>
                    <a:pt x="490" y="530"/>
                  </a:lnTo>
                  <a:lnTo>
                    <a:pt x="483" y="544"/>
                  </a:lnTo>
                  <a:lnTo>
                    <a:pt x="477" y="558"/>
                  </a:lnTo>
                  <a:lnTo>
                    <a:pt x="472" y="573"/>
                  </a:lnTo>
                  <a:lnTo>
                    <a:pt x="468" y="589"/>
                  </a:lnTo>
                  <a:lnTo>
                    <a:pt x="465" y="606"/>
                  </a:lnTo>
                  <a:lnTo>
                    <a:pt x="463" y="624"/>
                  </a:lnTo>
                  <a:lnTo>
                    <a:pt x="463" y="642"/>
                  </a:lnTo>
                  <a:lnTo>
                    <a:pt x="463" y="658"/>
                  </a:lnTo>
                  <a:lnTo>
                    <a:pt x="464" y="673"/>
                  </a:lnTo>
                  <a:lnTo>
                    <a:pt x="466" y="687"/>
                  </a:lnTo>
                  <a:lnTo>
                    <a:pt x="469" y="700"/>
                  </a:lnTo>
                  <a:lnTo>
                    <a:pt x="472" y="713"/>
                  </a:lnTo>
                  <a:lnTo>
                    <a:pt x="476" y="725"/>
                  </a:lnTo>
                  <a:lnTo>
                    <a:pt x="481" y="736"/>
                  </a:lnTo>
                  <a:lnTo>
                    <a:pt x="486" y="747"/>
                  </a:lnTo>
                  <a:lnTo>
                    <a:pt x="491" y="758"/>
                  </a:lnTo>
                  <a:lnTo>
                    <a:pt x="498" y="767"/>
                  </a:lnTo>
                  <a:lnTo>
                    <a:pt x="504" y="776"/>
                  </a:lnTo>
                  <a:lnTo>
                    <a:pt x="511" y="784"/>
                  </a:lnTo>
                  <a:lnTo>
                    <a:pt x="519" y="792"/>
                  </a:lnTo>
                  <a:lnTo>
                    <a:pt x="527" y="800"/>
                  </a:lnTo>
                  <a:lnTo>
                    <a:pt x="535" y="806"/>
                  </a:lnTo>
                  <a:lnTo>
                    <a:pt x="544" y="813"/>
                  </a:lnTo>
                  <a:lnTo>
                    <a:pt x="562" y="824"/>
                  </a:lnTo>
                  <a:lnTo>
                    <a:pt x="581" y="834"/>
                  </a:lnTo>
                  <a:lnTo>
                    <a:pt x="600" y="843"/>
                  </a:lnTo>
                  <a:lnTo>
                    <a:pt x="620" y="850"/>
                  </a:lnTo>
                  <a:lnTo>
                    <a:pt x="639" y="857"/>
                  </a:lnTo>
                  <a:lnTo>
                    <a:pt x="658" y="862"/>
                  </a:lnTo>
                  <a:lnTo>
                    <a:pt x="677" y="867"/>
                  </a:lnTo>
                  <a:lnTo>
                    <a:pt x="694" y="872"/>
                  </a:lnTo>
                  <a:lnTo>
                    <a:pt x="1231" y="1003"/>
                  </a:lnTo>
                  <a:lnTo>
                    <a:pt x="1286" y="1018"/>
                  </a:lnTo>
                  <a:lnTo>
                    <a:pt x="1341" y="1033"/>
                  </a:lnTo>
                  <a:lnTo>
                    <a:pt x="1368" y="1042"/>
                  </a:lnTo>
                  <a:lnTo>
                    <a:pt x="1395" y="1051"/>
                  </a:lnTo>
                  <a:lnTo>
                    <a:pt x="1421" y="1061"/>
                  </a:lnTo>
                  <a:lnTo>
                    <a:pt x="1446" y="1071"/>
                  </a:lnTo>
                  <a:lnTo>
                    <a:pt x="1472" y="1081"/>
                  </a:lnTo>
                  <a:lnTo>
                    <a:pt x="1497" y="1093"/>
                  </a:lnTo>
                  <a:lnTo>
                    <a:pt x="1521" y="1105"/>
                  </a:lnTo>
                  <a:lnTo>
                    <a:pt x="1544" y="1118"/>
                  </a:lnTo>
                  <a:lnTo>
                    <a:pt x="1566" y="1132"/>
                  </a:lnTo>
                  <a:lnTo>
                    <a:pt x="1589" y="1147"/>
                  </a:lnTo>
                  <a:lnTo>
                    <a:pt x="1610" y="1162"/>
                  </a:lnTo>
                  <a:lnTo>
                    <a:pt x="1631" y="1178"/>
                  </a:lnTo>
                  <a:lnTo>
                    <a:pt x="1650" y="1195"/>
                  </a:lnTo>
                  <a:lnTo>
                    <a:pt x="1668" y="1213"/>
                  </a:lnTo>
                  <a:lnTo>
                    <a:pt x="1686" y="1232"/>
                  </a:lnTo>
                  <a:lnTo>
                    <a:pt x="1702" y="1252"/>
                  </a:lnTo>
                  <a:lnTo>
                    <a:pt x="1718" y="1274"/>
                  </a:lnTo>
                  <a:lnTo>
                    <a:pt x="1733" y="1297"/>
                  </a:lnTo>
                  <a:lnTo>
                    <a:pt x="1746" y="1320"/>
                  </a:lnTo>
                  <a:lnTo>
                    <a:pt x="1758" y="1345"/>
                  </a:lnTo>
                  <a:lnTo>
                    <a:pt x="1769" y="1371"/>
                  </a:lnTo>
                  <a:lnTo>
                    <a:pt x="1778" y="1399"/>
                  </a:lnTo>
                  <a:lnTo>
                    <a:pt x="1786" y="1428"/>
                  </a:lnTo>
                  <a:lnTo>
                    <a:pt x="1793" y="1458"/>
                  </a:lnTo>
                  <a:lnTo>
                    <a:pt x="1798" y="1489"/>
                  </a:lnTo>
                  <a:lnTo>
                    <a:pt x="1802" y="1523"/>
                  </a:lnTo>
                  <a:lnTo>
                    <a:pt x="1804" y="1557"/>
                  </a:lnTo>
                  <a:lnTo>
                    <a:pt x="1805" y="1593"/>
                  </a:lnTo>
                  <a:lnTo>
                    <a:pt x="1803" y="1654"/>
                  </a:lnTo>
                  <a:lnTo>
                    <a:pt x="1798" y="1710"/>
                  </a:lnTo>
                  <a:lnTo>
                    <a:pt x="1789" y="1763"/>
                  </a:lnTo>
                  <a:lnTo>
                    <a:pt x="1776" y="1814"/>
                  </a:lnTo>
                  <a:lnTo>
                    <a:pt x="1761" y="1861"/>
                  </a:lnTo>
                  <a:lnTo>
                    <a:pt x="1742" y="1905"/>
                  </a:lnTo>
                  <a:lnTo>
                    <a:pt x="1721" y="1947"/>
                  </a:lnTo>
                  <a:lnTo>
                    <a:pt x="1697" y="1985"/>
                  </a:lnTo>
                  <a:lnTo>
                    <a:pt x="1671" y="2020"/>
                  </a:lnTo>
                  <a:lnTo>
                    <a:pt x="1643" y="2053"/>
                  </a:lnTo>
                  <a:lnTo>
                    <a:pt x="1614" y="2084"/>
                  </a:lnTo>
                  <a:lnTo>
                    <a:pt x="1583" y="2111"/>
                  </a:lnTo>
                  <a:lnTo>
                    <a:pt x="1549" y="2137"/>
                  </a:lnTo>
                  <a:lnTo>
                    <a:pt x="1516" y="2160"/>
                  </a:lnTo>
                  <a:lnTo>
                    <a:pt x="1481" y="2182"/>
                  </a:lnTo>
                  <a:lnTo>
                    <a:pt x="1444" y="2201"/>
                  </a:lnTo>
                  <a:lnTo>
                    <a:pt x="1408" y="2218"/>
                  </a:lnTo>
                  <a:lnTo>
                    <a:pt x="1372" y="2233"/>
                  </a:lnTo>
                  <a:lnTo>
                    <a:pt x="1335" y="2247"/>
                  </a:lnTo>
                  <a:lnTo>
                    <a:pt x="1298" y="2259"/>
                  </a:lnTo>
                  <a:lnTo>
                    <a:pt x="1262" y="2269"/>
                  </a:lnTo>
                  <a:lnTo>
                    <a:pt x="1226" y="2278"/>
                  </a:lnTo>
                  <a:lnTo>
                    <a:pt x="1190" y="2286"/>
                  </a:lnTo>
                  <a:lnTo>
                    <a:pt x="1156" y="2293"/>
                  </a:lnTo>
                  <a:lnTo>
                    <a:pt x="1123" y="2298"/>
                  </a:lnTo>
                  <a:lnTo>
                    <a:pt x="1091" y="2303"/>
                  </a:lnTo>
                  <a:lnTo>
                    <a:pt x="1060" y="2307"/>
                  </a:lnTo>
                  <a:lnTo>
                    <a:pt x="1032" y="2309"/>
                  </a:lnTo>
                  <a:lnTo>
                    <a:pt x="981" y="2312"/>
                  </a:lnTo>
                  <a:lnTo>
                    <a:pt x="939" y="2313"/>
                  </a:lnTo>
                  <a:lnTo>
                    <a:pt x="866" y="2311"/>
                  </a:lnTo>
                  <a:lnTo>
                    <a:pt x="797" y="2308"/>
                  </a:lnTo>
                  <a:lnTo>
                    <a:pt x="731" y="2300"/>
                  </a:lnTo>
                  <a:lnTo>
                    <a:pt x="669" y="2292"/>
                  </a:lnTo>
                  <a:lnTo>
                    <a:pt x="610" y="2281"/>
                  </a:lnTo>
                  <a:lnTo>
                    <a:pt x="555" y="2268"/>
                  </a:lnTo>
                  <a:lnTo>
                    <a:pt x="503" y="2253"/>
                  </a:lnTo>
                  <a:lnTo>
                    <a:pt x="455" y="2236"/>
                  </a:lnTo>
                  <a:lnTo>
                    <a:pt x="409" y="2217"/>
                  </a:lnTo>
                  <a:lnTo>
                    <a:pt x="366" y="2197"/>
                  </a:lnTo>
                  <a:lnTo>
                    <a:pt x="327" y="2176"/>
                  </a:lnTo>
                  <a:lnTo>
                    <a:pt x="290" y="2152"/>
                  </a:lnTo>
                  <a:lnTo>
                    <a:pt x="256" y="2127"/>
                  </a:lnTo>
                  <a:lnTo>
                    <a:pt x="225" y="2102"/>
                  </a:lnTo>
                  <a:lnTo>
                    <a:pt x="196" y="2075"/>
                  </a:lnTo>
                  <a:lnTo>
                    <a:pt x="169" y="2048"/>
                  </a:lnTo>
                  <a:lnTo>
                    <a:pt x="145" y="2019"/>
                  </a:lnTo>
                  <a:lnTo>
                    <a:pt x="123" y="1990"/>
                  </a:lnTo>
                  <a:lnTo>
                    <a:pt x="104" y="1960"/>
                  </a:lnTo>
                  <a:lnTo>
                    <a:pt x="86" y="1930"/>
                  </a:lnTo>
                  <a:lnTo>
                    <a:pt x="71" y="1899"/>
                  </a:lnTo>
                  <a:lnTo>
                    <a:pt x="56" y="1869"/>
                  </a:lnTo>
                  <a:lnTo>
                    <a:pt x="44" y="1838"/>
                  </a:lnTo>
                  <a:lnTo>
                    <a:pt x="34" y="1808"/>
                  </a:lnTo>
                  <a:lnTo>
                    <a:pt x="25" y="1777"/>
                  </a:lnTo>
                  <a:lnTo>
                    <a:pt x="18" y="1747"/>
                  </a:lnTo>
                  <a:lnTo>
                    <a:pt x="12" y="1717"/>
                  </a:lnTo>
                  <a:lnTo>
                    <a:pt x="8" y="1688"/>
                  </a:lnTo>
                  <a:lnTo>
                    <a:pt x="4" y="1660"/>
                  </a:lnTo>
                  <a:lnTo>
                    <a:pt x="2" y="1631"/>
                  </a:lnTo>
                  <a:lnTo>
                    <a:pt x="1" y="1604"/>
                  </a:lnTo>
                  <a:lnTo>
                    <a:pt x="0" y="1578"/>
                  </a:lnTo>
                  <a:lnTo>
                    <a:pt x="440" y="15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701040" y="2857320"/>
              <a:ext cx="91800" cy="110160"/>
            </a:xfrm>
            <a:custGeom>
              <a:avLst/>
              <a:gdLst/>
              <a:ahLst/>
              <a:rect l="l" t="t" r="r" b="b"/>
              <a:pathLst>
                <a:path w="1859" h="2220">
                  <a:moveTo>
                    <a:pt x="0" y="0"/>
                  </a:moveTo>
                  <a:lnTo>
                    <a:pt x="1123" y="0"/>
                  </a:lnTo>
                  <a:lnTo>
                    <a:pt x="1177" y="1"/>
                  </a:lnTo>
                  <a:lnTo>
                    <a:pt x="1228" y="5"/>
                  </a:lnTo>
                  <a:lnTo>
                    <a:pt x="1277" y="11"/>
                  </a:lnTo>
                  <a:lnTo>
                    <a:pt x="1323" y="19"/>
                  </a:lnTo>
                  <a:lnTo>
                    <a:pt x="1366" y="29"/>
                  </a:lnTo>
                  <a:lnTo>
                    <a:pt x="1407" y="42"/>
                  </a:lnTo>
                  <a:lnTo>
                    <a:pt x="1446" y="56"/>
                  </a:lnTo>
                  <a:lnTo>
                    <a:pt x="1482" y="72"/>
                  </a:lnTo>
                  <a:lnTo>
                    <a:pt x="1515" y="89"/>
                  </a:lnTo>
                  <a:lnTo>
                    <a:pt x="1547" y="107"/>
                  </a:lnTo>
                  <a:lnTo>
                    <a:pt x="1577" y="127"/>
                  </a:lnTo>
                  <a:lnTo>
                    <a:pt x="1604" y="148"/>
                  </a:lnTo>
                  <a:lnTo>
                    <a:pt x="1629" y="171"/>
                  </a:lnTo>
                  <a:lnTo>
                    <a:pt x="1652" y="194"/>
                  </a:lnTo>
                  <a:lnTo>
                    <a:pt x="1674" y="218"/>
                  </a:lnTo>
                  <a:lnTo>
                    <a:pt x="1695" y="242"/>
                  </a:lnTo>
                  <a:lnTo>
                    <a:pt x="1712" y="267"/>
                  </a:lnTo>
                  <a:lnTo>
                    <a:pt x="1729" y="294"/>
                  </a:lnTo>
                  <a:lnTo>
                    <a:pt x="1743" y="319"/>
                  </a:lnTo>
                  <a:lnTo>
                    <a:pt x="1757" y="345"/>
                  </a:lnTo>
                  <a:lnTo>
                    <a:pt x="1768" y="371"/>
                  </a:lnTo>
                  <a:lnTo>
                    <a:pt x="1779" y="397"/>
                  </a:lnTo>
                  <a:lnTo>
                    <a:pt x="1788" y="424"/>
                  </a:lnTo>
                  <a:lnTo>
                    <a:pt x="1796" y="449"/>
                  </a:lnTo>
                  <a:lnTo>
                    <a:pt x="1802" y="474"/>
                  </a:lnTo>
                  <a:lnTo>
                    <a:pt x="1808" y="499"/>
                  </a:lnTo>
                  <a:lnTo>
                    <a:pt x="1813" y="523"/>
                  </a:lnTo>
                  <a:lnTo>
                    <a:pt x="1817" y="545"/>
                  </a:lnTo>
                  <a:lnTo>
                    <a:pt x="1819" y="569"/>
                  </a:lnTo>
                  <a:lnTo>
                    <a:pt x="1821" y="590"/>
                  </a:lnTo>
                  <a:lnTo>
                    <a:pt x="1822" y="609"/>
                  </a:lnTo>
                  <a:lnTo>
                    <a:pt x="1823" y="628"/>
                  </a:lnTo>
                  <a:lnTo>
                    <a:pt x="1822" y="650"/>
                  </a:lnTo>
                  <a:lnTo>
                    <a:pt x="1821" y="673"/>
                  </a:lnTo>
                  <a:lnTo>
                    <a:pt x="1819" y="696"/>
                  </a:lnTo>
                  <a:lnTo>
                    <a:pt x="1817" y="718"/>
                  </a:lnTo>
                  <a:lnTo>
                    <a:pt x="1814" y="740"/>
                  </a:lnTo>
                  <a:lnTo>
                    <a:pt x="1810" y="761"/>
                  </a:lnTo>
                  <a:lnTo>
                    <a:pt x="1804" y="782"/>
                  </a:lnTo>
                  <a:lnTo>
                    <a:pt x="1799" y="803"/>
                  </a:lnTo>
                  <a:lnTo>
                    <a:pt x="1793" y="824"/>
                  </a:lnTo>
                  <a:lnTo>
                    <a:pt x="1786" y="844"/>
                  </a:lnTo>
                  <a:lnTo>
                    <a:pt x="1779" y="864"/>
                  </a:lnTo>
                  <a:lnTo>
                    <a:pt x="1771" y="883"/>
                  </a:lnTo>
                  <a:lnTo>
                    <a:pt x="1763" y="902"/>
                  </a:lnTo>
                  <a:lnTo>
                    <a:pt x="1753" y="920"/>
                  </a:lnTo>
                  <a:lnTo>
                    <a:pt x="1743" y="938"/>
                  </a:lnTo>
                  <a:lnTo>
                    <a:pt x="1733" y="956"/>
                  </a:lnTo>
                  <a:lnTo>
                    <a:pt x="1722" y="973"/>
                  </a:lnTo>
                  <a:lnTo>
                    <a:pt x="1710" y="990"/>
                  </a:lnTo>
                  <a:lnTo>
                    <a:pt x="1697" y="1006"/>
                  </a:lnTo>
                  <a:lnTo>
                    <a:pt x="1684" y="1021"/>
                  </a:lnTo>
                  <a:lnTo>
                    <a:pt x="1670" y="1036"/>
                  </a:lnTo>
                  <a:lnTo>
                    <a:pt x="1655" y="1050"/>
                  </a:lnTo>
                  <a:lnTo>
                    <a:pt x="1640" y="1064"/>
                  </a:lnTo>
                  <a:lnTo>
                    <a:pt x="1625" y="1078"/>
                  </a:lnTo>
                  <a:lnTo>
                    <a:pt x="1609" y="1090"/>
                  </a:lnTo>
                  <a:lnTo>
                    <a:pt x="1592" y="1102"/>
                  </a:lnTo>
                  <a:lnTo>
                    <a:pt x="1575" y="1113"/>
                  </a:lnTo>
                  <a:lnTo>
                    <a:pt x="1556" y="1123"/>
                  </a:lnTo>
                  <a:lnTo>
                    <a:pt x="1538" y="1132"/>
                  </a:lnTo>
                  <a:lnTo>
                    <a:pt x="1519" y="1141"/>
                  </a:lnTo>
                  <a:lnTo>
                    <a:pt x="1499" y="1149"/>
                  </a:lnTo>
                  <a:lnTo>
                    <a:pt x="1479" y="1156"/>
                  </a:lnTo>
                  <a:lnTo>
                    <a:pt x="1512" y="1171"/>
                  </a:lnTo>
                  <a:lnTo>
                    <a:pt x="1543" y="1187"/>
                  </a:lnTo>
                  <a:lnTo>
                    <a:pt x="1559" y="1194"/>
                  </a:lnTo>
                  <a:lnTo>
                    <a:pt x="1573" y="1203"/>
                  </a:lnTo>
                  <a:lnTo>
                    <a:pt x="1587" y="1212"/>
                  </a:lnTo>
                  <a:lnTo>
                    <a:pt x="1600" y="1221"/>
                  </a:lnTo>
                  <a:lnTo>
                    <a:pt x="1613" y="1230"/>
                  </a:lnTo>
                  <a:lnTo>
                    <a:pt x="1625" y="1240"/>
                  </a:lnTo>
                  <a:lnTo>
                    <a:pt x="1637" y="1250"/>
                  </a:lnTo>
                  <a:lnTo>
                    <a:pt x="1648" y="1261"/>
                  </a:lnTo>
                  <a:lnTo>
                    <a:pt x="1658" y="1273"/>
                  </a:lnTo>
                  <a:lnTo>
                    <a:pt x="1669" y="1285"/>
                  </a:lnTo>
                  <a:lnTo>
                    <a:pt x="1678" y="1298"/>
                  </a:lnTo>
                  <a:lnTo>
                    <a:pt x="1688" y="1312"/>
                  </a:lnTo>
                  <a:lnTo>
                    <a:pt x="1697" y="1328"/>
                  </a:lnTo>
                  <a:lnTo>
                    <a:pt x="1705" y="1345"/>
                  </a:lnTo>
                  <a:lnTo>
                    <a:pt x="1712" y="1362"/>
                  </a:lnTo>
                  <a:lnTo>
                    <a:pt x="1719" y="1381"/>
                  </a:lnTo>
                  <a:lnTo>
                    <a:pt x="1726" y="1400"/>
                  </a:lnTo>
                  <a:lnTo>
                    <a:pt x="1732" y="1421"/>
                  </a:lnTo>
                  <a:lnTo>
                    <a:pt x="1737" y="1444"/>
                  </a:lnTo>
                  <a:lnTo>
                    <a:pt x="1742" y="1469"/>
                  </a:lnTo>
                  <a:lnTo>
                    <a:pt x="1746" y="1494"/>
                  </a:lnTo>
                  <a:lnTo>
                    <a:pt x="1750" y="1521"/>
                  </a:lnTo>
                  <a:lnTo>
                    <a:pt x="1753" y="1549"/>
                  </a:lnTo>
                  <a:lnTo>
                    <a:pt x="1756" y="1579"/>
                  </a:lnTo>
                  <a:lnTo>
                    <a:pt x="1758" y="1612"/>
                  </a:lnTo>
                  <a:lnTo>
                    <a:pt x="1759" y="1646"/>
                  </a:lnTo>
                  <a:lnTo>
                    <a:pt x="1760" y="1681"/>
                  </a:lnTo>
                  <a:lnTo>
                    <a:pt x="1760" y="1719"/>
                  </a:lnTo>
                  <a:lnTo>
                    <a:pt x="1760" y="1830"/>
                  </a:lnTo>
                  <a:lnTo>
                    <a:pt x="1762" y="1920"/>
                  </a:lnTo>
                  <a:lnTo>
                    <a:pt x="1763" y="1958"/>
                  </a:lnTo>
                  <a:lnTo>
                    <a:pt x="1765" y="1993"/>
                  </a:lnTo>
                  <a:lnTo>
                    <a:pt x="1768" y="2022"/>
                  </a:lnTo>
                  <a:lnTo>
                    <a:pt x="1772" y="2048"/>
                  </a:lnTo>
                  <a:lnTo>
                    <a:pt x="1775" y="2060"/>
                  </a:lnTo>
                  <a:lnTo>
                    <a:pt x="1778" y="2071"/>
                  </a:lnTo>
                  <a:lnTo>
                    <a:pt x="1781" y="2081"/>
                  </a:lnTo>
                  <a:lnTo>
                    <a:pt x="1784" y="2091"/>
                  </a:lnTo>
                  <a:lnTo>
                    <a:pt x="1788" y="2100"/>
                  </a:lnTo>
                  <a:lnTo>
                    <a:pt x="1792" y="2108"/>
                  </a:lnTo>
                  <a:lnTo>
                    <a:pt x="1797" y="2116"/>
                  </a:lnTo>
                  <a:lnTo>
                    <a:pt x="1802" y="2123"/>
                  </a:lnTo>
                  <a:lnTo>
                    <a:pt x="1807" y="2129"/>
                  </a:lnTo>
                  <a:lnTo>
                    <a:pt x="1814" y="2135"/>
                  </a:lnTo>
                  <a:lnTo>
                    <a:pt x="1820" y="2141"/>
                  </a:lnTo>
                  <a:lnTo>
                    <a:pt x="1827" y="2146"/>
                  </a:lnTo>
                  <a:lnTo>
                    <a:pt x="1834" y="2150"/>
                  </a:lnTo>
                  <a:lnTo>
                    <a:pt x="1842" y="2154"/>
                  </a:lnTo>
                  <a:lnTo>
                    <a:pt x="1850" y="2158"/>
                  </a:lnTo>
                  <a:lnTo>
                    <a:pt x="1859" y="2162"/>
                  </a:lnTo>
                  <a:lnTo>
                    <a:pt x="1859" y="2220"/>
                  </a:lnTo>
                  <a:lnTo>
                    <a:pt x="1346" y="2220"/>
                  </a:lnTo>
                  <a:lnTo>
                    <a:pt x="1335" y="2180"/>
                  </a:lnTo>
                  <a:lnTo>
                    <a:pt x="1325" y="2138"/>
                  </a:lnTo>
                  <a:lnTo>
                    <a:pt x="1321" y="2116"/>
                  </a:lnTo>
                  <a:lnTo>
                    <a:pt x="1317" y="2092"/>
                  </a:lnTo>
                  <a:lnTo>
                    <a:pt x="1313" y="2068"/>
                  </a:lnTo>
                  <a:lnTo>
                    <a:pt x="1310" y="2043"/>
                  </a:lnTo>
                  <a:lnTo>
                    <a:pt x="1307" y="2016"/>
                  </a:lnTo>
                  <a:lnTo>
                    <a:pt x="1303" y="1987"/>
                  </a:lnTo>
                  <a:lnTo>
                    <a:pt x="1301" y="1956"/>
                  </a:lnTo>
                  <a:lnTo>
                    <a:pt x="1299" y="1924"/>
                  </a:lnTo>
                  <a:lnTo>
                    <a:pt x="1297" y="1852"/>
                  </a:lnTo>
                  <a:lnTo>
                    <a:pt x="1296" y="1772"/>
                  </a:lnTo>
                  <a:lnTo>
                    <a:pt x="1295" y="1717"/>
                  </a:lnTo>
                  <a:lnTo>
                    <a:pt x="1294" y="1667"/>
                  </a:lnTo>
                  <a:lnTo>
                    <a:pt x="1293" y="1644"/>
                  </a:lnTo>
                  <a:lnTo>
                    <a:pt x="1292" y="1621"/>
                  </a:lnTo>
                  <a:lnTo>
                    <a:pt x="1290" y="1600"/>
                  </a:lnTo>
                  <a:lnTo>
                    <a:pt x="1288" y="1578"/>
                  </a:lnTo>
                  <a:lnTo>
                    <a:pt x="1285" y="1559"/>
                  </a:lnTo>
                  <a:lnTo>
                    <a:pt x="1281" y="1540"/>
                  </a:lnTo>
                  <a:lnTo>
                    <a:pt x="1277" y="1523"/>
                  </a:lnTo>
                  <a:lnTo>
                    <a:pt x="1272" y="1506"/>
                  </a:lnTo>
                  <a:lnTo>
                    <a:pt x="1266" y="1490"/>
                  </a:lnTo>
                  <a:lnTo>
                    <a:pt x="1260" y="1476"/>
                  </a:lnTo>
                  <a:lnTo>
                    <a:pt x="1252" y="1461"/>
                  </a:lnTo>
                  <a:lnTo>
                    <a:pt x="1244" y="1448"/>
                  </a:lnTo>
                  <a:lnTo>
                    <a:pt x="1235" y="1436"/>
                  </a:lnTo>
                  <a:lnTo>
                    <a:pt x="1224" y="1425"/>
                  </a:lnTo>
                  <a:lnTo>
                    <a:pt x="1213" y="1414"/>
                  </a:lnTo>
                  <a:lnTo>
                    <a:pt x="1200" y="1405"/>
                  </a:lnTo>
                  <a:lnTo>
                    <a:pt x="1186" y="1396"/>
                  </a:lnTo>
                  <a:lnTo>
                    <a:pt x="1170" y="1388"/>
                  </a:lnTo>
                  <a:lnTo>
                    <a:pt x="1153" y="1381"/>
                  </a:lnTo>
                  <a:lnTo>
                    <a:pt x="1136" y="1375"/>
                  </a:lnTo>
                  <a:lnTo>
                    <a:pt x="1116" y="1369"/>
                  </a:lnTo>
                  <a:lnTo>
                    <a:pt x="1095" y="1365"/>
                  </a:lnTo>
                  <a:lnTo>
                    <a:pt x="1073" y="1361"/>
                  </a:lnTo>
                  <a:lnTo>
                    <a:pt x="1048" y="1357"/>
                  </a:lnTo>
                  <a:lnTo>
                    <a:pt x="1022" y="1355"/>
                  </a:lnTo>
                  <a:lnTo>
                    <a:pt x="995" y="1353"/>
                  </a:lnTo>
                  <a:lnTo>
                    <a:pt x="966" y="1352"/>
                  </a:lnTo>
                  <a:lnTo>
                    <a:pt x="935" y="1352"/>
                  </a:lnTo>
                  <a:lnTo>
                    <a:pt x="455" y="1352"/>
                  </a:lnTo>
                  <a:lnTo>
                    <a:pt x="455" y="2220"/>
                  </a:lnTo>
                  <a:lnTo>
                    <a:pt x="0" y="2220"/>
                  </a:lnTo>
                  <a:lnTo>
                    <a:pt x="0" y="0"/>
                  </a:lnTo>
                  <a:close/>
                  <a:moveTo>
                    <a:pt x="999" y="978"/>
                  </a:moveTo>
                  <a:lnTo>
                    <a:pt x="1021" y="977"/>
                  </a:lnTo>
                  <a:lnTo>
                    <a:pt x="1043" y="977"/>
                  </a:lnTo>
                  <a:lnTo>
                    <a:pt x="1064" y="975"/>
                  </a:lnTo>
                  <a:lnTo>
                    <a:pt x="1084" y="974"/>
                  </a:lnTo>
                  <a:lnTo>
                    <a:pt x="1103" y="971"/>
                  </a:lnTo>
                  <a:lnTo>
                    <a:pt x="1122" y="969"/>
                  </a:lnTo>
                  <a:lnTo>
                    <a:pt x="1140" y="965"/>
                  </a:lnTo>
                  <a:lnTo>
                    <a:pt x="1157" y="961"/>
                  </a:lnTo>
                  <a:lnTo>
                    <a:pt x="1173" y="957"/>
                  </a:lnTo>
                  <a:lnTo>
                    <a:pt x="1190" y="952"/>
                  </a:lnTo>
                  <a:lnTo>
                    <a:pt x="1205" y="946"/>
                  </a:lnTo>
                  <a:lnTo>
                    <a:pt x="1219" y="939"/>
                  </a:lnTo>
                  <a:lnTo>
                    <a:pt x="1233" y="932"/>
                  </a:lnTo>
                  <a:lnTo>
                    <a:pt x="1245" y="925"/>
                  </a:lnTo>
                  <a:lnTo>
                    <a:pt x="1258" y="917"/>
                  </a:lnTo>
                  <a:lnTo>
                    <a:pt x="1269" y="908"/>
                  </a:lnTo>
                  <a:lnTo>
                    <a:pt x="1280" y="899"/>
                  </a:lnTo>
                  <a:lnTo>
                    <a:pt x="1290" y="889"/>
                  </a:lnTo>
                  <a:lnTo>
                    <a:pt x="1299" y="878"/>
                  </a:lnTo>
                  <a:lnTo>
                    <a:pt x="1309" y="867"/>
                  </a:lnTo>
                  <a:lnTo>
                    <a:pt x="1317" y="855"/>
                  </a:lnTo>
                  <a:lnTo>
                    <a:pt x="1324" y="842"/>
                  </a:lnTo>
                  <a:lnTo>
                    <a:pt x="1330" y="829"/>
                  </a:lnTo>
                  <a:lnTo>
                    <a:pt x="1336" y="815"/>
                  </a:lnTo>
                  <a:lnTo>
                    <a:pt x="1341" y="799"/>
                  </a:lnTo>
                  <a:lnTo>
                    <a:pt x="1346" y="784"/>
                  </a:lnTo>
                  <a:lnTo>
                    <a:pt x="1350" y="767"/>
                  </a:lnTo>
                  <a:lnTo>
                    <a:pt x="1353" y="750"/>
                  </a:lnTo>
                  <a:lnTo>
                    <a:pt x="1355" y="733"/>
                  </a:lnTo>
                  <a:lnTo>
                    <a:pt x="1357" y="714"/>
                  </a:lnTo>
                  <a:lnTo>
                    <a:pt x="1358" y="695"/>
                  </a:lnTo>
                  <a:lnTo>
                    <a:pt x="1358" y="674"/>
                  </a:lnTo>
                  <a:lnTo>
                    <a:pt x="1358" y="651"/>
                  </a:lnTo>
                  <a:lnTo>
                    <a:pt x="1355" y="628"/>
                  </a:lnTo>
                  <a:lnTo>
                    <a:pt x="1352" y="604"/>
                  </a:lnTo>
                  <a:lnTo>
                    <a:pt x="1346" y="580"/>
                  </a:lnTo>
                  <a:lnTo>
                    <a:pt x="1342" y="568"/>
                  </a:lnTo>
                  <a:lnTo>
                    <a:pt x="1338" y="555"/>
                  </a:lnTo>
                  <a:lnTo>
                    <a:pt x="1333" y="542"/>
                  </a:lnTo>
                  <a:lnTo>
                    <a:pt x="1327" y="530"/>
                  </a:lnTo>
                  <a:lnTo>
                    <a:pt x="1321" y="519"/>
                  </a:lnTo>
                  <a:lnTo>
                    <a:pt x="1314" y="507"/>
                  </a:lnTo>
                  <a:lnTo>
                    <a:pt x="1307" y="496"/>
                  </a:lnTo>
                  <a:lnTo>
                    <a:pt x="1297" y="485"/>
                  </a:lnTo>
                  <a:lnTo>
                    <a:pt x="1288" y="474"/>
                  </a:lnTo>
                  <a:lnTo>
                    <a:pt x="1278" y="464"/>
                  </a:lnTo>
                  <a:lnTo>
                    <a:pt x="1267" y="454"/>
                  </a:lnTo>
                  <a:lnTo>
                    <a:pt x="1256" y="445"/>
                  </a:lnTo>
                  <a:lnTo>
                    <a:pt x="1243" y="436"/>
                  </a:lnTo>
                  <a:lnTo>
                    <a:pt x="1229" y="428"/>
                  </a:lnTo>
                  <a:lnTo>
                    <a:pt x="1215" y="419"/>
                  </a:lnTo>
                  <a:lnTo>
                    <a:pt x="1199" y="412"/>
                  </a:lnTo>
                  <a:lnTo>
                    <a:pt x="1183" y="406"/>
                  </a:lnTo>
                  <a:lnTo>
                    <a:pt x="1164" y="400"/>
                  </a:lnTo>
                  <a:lnTo>
                    <a:pt x="1145" y="395"/>
                  </a:lnTo>
                  <a:lnTo>
                    <a:pt x="1125" y="391"/>
                  </a:lnTo>
                  <a:lnTo>
                    <a:pt x="1104" y="388"/>
                  </a:lnTo>
                  <a:lnTo>
                    <a:pt x="1082" y="385"/>
                  </a:lnTo>
                  <a:lnTo>
                    <a:pt x="1059" y="384"/>
                  </a:lnTo>
                  <a:lnTo>
                    <a:pt x="1033" y="383"/>
                  </a:lnTo>
                  <a:lnTo>
                    <a:pt x="455" y="383"/>
                  </a:lnTo>
                  <a:lnTo>
                    <a:pt x="455" y="978"/>
                  </a:lnTo>
                  <a:lnTo>
                    <a:pt x="999" y="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6811200" y="2857320"/>
              <a:ext cx="84960" cy="110160"/>
            </a:xfrm>
            <a:custGeom>
              <a:avLst/>
              <a:gdLst/>
              <a:ahLst/>
              <a:rect l="l" t="t" r="r" b="b"/>
              <a:pathLst>
                <a:path w="1703" h="2220">
                  <a:moveTo>
                    <a:pt x="464" y="2220"/>
                  </a:moveTo>
                  <a:lnTo>
                    <a:pt x="0" y="2220"/>
                  </a:lnTo>
                  <a:lnTo>
                    <a:pt x="0" y="0"/>
                  </a:lnTo>
                  <a:lnTo>
                    <a:pt x="1014" y="0"/>
                  </a:lnTo>
                  <a:lnTo>
                    <a:pt x="1053" y="1"/>
                  </a:lnTo>
                  <a:lnTo>
                    <a:pt x="1093" y="3"/>
                  </a:lnTo>
                  <a:lnTo>
                    <a:pt x="1130" y="7"/>
                  </a:lnTo>
                  <a:lnTo>
                    <a:pt x="1167" y="13"/>
                  </a:lnTo>
                  <a:lnTo>
                    <a:pt x="1202" y="20"/>
                  </a:lnTo>
                  <a:lnTo>
                    <a:pt x="1237" y="28"/>
                  </a:lnTo>
                  <a:lnTo>
                    <a:pt x="1271" y="39"/>
                  </a:lnTo>
                  <a:lnTo>
                    <a:pt x="1303" y="50"/>
                  </a:lnTo>
                  <a:lnTo>
                    <a:pt x="1334" y="63"/>
                  </a:lnTo>
                  <a:lnTo>
                    <a:pt x="1365" y="78"/>
                  </a:lnTo>
                  <a:lnTo>
                    <a:pt x="1393" y="93"/>
                  </a:lnTo>
                  <a:lnTo>
                    <a:pt x="1421" y="110"/>
                  </a:lnTo>
                  <a:lnTo>
                    <a:pt x="1447" y="129"/>
                  </a:lnTo>
                  <a:lnTo>
                    <a:pt x="1473" y="148"/>
                  </a:lnTo>
                  <a:lnTo>
                    <a:pt x="1497" y="170"/>
                  </a:lnTo>
                  <a:lnTo>
                    <a:pt x="1520" y="193"/>
                  </a:lnTo>
                  <a:lnTo>
                    <a:pt x="1541" y="216"/>
                  </a:lnTo>
                  <a:lnTo>
                    <a:pt x="1562" y="241"/>
                  </a:lnTo>
                  <a:lnTo>
                    <a:pt x="1581" y="267"/>
                  </a:lnTo>
                  <a:lnTo>
                    <a:pt x="1599" y="295"/>
                  </a:lnTo>
                  <a:lnTo>
                    <a:pt x="1615" y="324"/>
                  </a:lnTo>
                  <a:lnTo>
                    <a:pt x="1630" y="353"/>
                  </a:lnTo>
                  <a:lnTo>
                    <a:pt x="1644" y="384"/>
                  </a:lnTo>
                  <a:lnTo>
                    <a:pt x="1656" y="416"/>
                  </a:lnTo>
                  <a:lnTo>
                    <a:pt x="1667" y="450"/>
                  </a:lnTo>
                  <a:lnTo>
                    <a:pt x="1677" y="484"/>
                  </a:lnTo>
                  <a:lnTo>
                    <a:pt x="1685" y="519"/>
                  </a:lnTo>
                  <a:lnTo>
                    <a:pt x="1691" y="556"/>
                  </a:lnTo>
                  <a:lnTo>
                    <a:pt x="1697" y="593"/>
                  </a:lnTo>
                  <a:lnTo>
                    <a:pt x="1700" y="632"/>
                  </a:lnTo>
                  <a:lnTo>
                    <a:pt x="1703" y="671"/>
                  </a:lnTo>
                  <a:lnTo>
                    <a:pt x="1703" y="712"/>
                  </a:lnTo>
                  <a:lnTo>
                    <a:pt x="1703" y="731"/>
                  </a:lnTo>
                  <a:lnTo>
                    <a:pt x="1702" y="753"/>
                  </a:lnTo>
                  <a:lnTo>
                    <a:pt x="1700" y="775"/>
                  </a:lnTo>
                  <a:lnTo>
                    <a:pt x="1697" y="799"/>
                  </a:lnTo>
                  <a:lnTo>
                    <a:pt x="1694" y="825"/>
                  </a:lnTo>
                  <a:lnTo>
                    <a:pt x="1689" y="852"/>
                  </a:lnTo>
                  <a:lnTo>
                    <a:pt x="1683" y="879"/>
                  </a:lnTo>
                  <a:lnTo>
                    <a:pt x="1677" y="907"/>
                  </a:lnTo>
                  <a:lnTo>
                    <a:pt x="1669" y="935"/>
                  </a:lnTo>
                  <a:lnTo>
                    <a:pt x="1660" y="965"/>
                  </a:lnTo>
                  <a:lnTo>
                    <a:pt x="1649" y="994"/>
                  </a:lnTo>
                  <a:lnTo>
                    <a:pt x="1637" y="1024"/>
                  </a:lnTo>
                  <a:lnTo>
                    <a:pt x="1624" y="1053"/>
                  </a:lnTo>
                  <a:lnTo>
                    <a:pt x="1609" y="1083"/>
                  </a:lnTo>
                  <a:lnTo>
                    <a:pt x="1592" y="1112"/>
                  </a:lnTo>
                  <a:lnTo>
                    <a:pt x="1573" y="1141"/>
                  </a:lnTo>
                  <a:lnTo>
                    <a:pt x="1553" y="1169"/>
                  </a:lnTo>
                  <a:lnTo>
                    <a:pt x="1531" y="1196"/>
                  </a:lnTo>
                  <a:lnTo>
                    <a:pt x="1508" y="1223"/>
                  </a:lnTo>
                  <a:lnTo>
                    <a:pt x="1482" y="1249"/>
                  </a:lnTo>
                  <a:lnTo>
                    <a:pt x="1454" y="1273"/>
                  </a:lnTo>
                  <a:lnTo>
                    <a:pt x="1424" y="1296"/>
                  </a:lnTo>
                  <a:lnTo>
                    <a:pt x="1392" y="1317"/>
                  </a:lnTo>
                  <a:lnTo>
                    <a:pt x="1358" y="1338"/>
                  </a:lnTo>
                  <a:lnTo>
                    <a:pt x="1321" y="1356"/>
                  </a:lnTo>
                  <a:lnTo>
                    <a:pt x="1282" y="1372"/>
                  </a:lnTo>
                  <a:lnTo>
                    <a:pt x="1241" y="1386"/>
                  </a:lnTo>
                  <a:lnTo>
                    <a:pt x="1197" y="1397"/>
                  </a:lnTo>
                  <a:lnTo>
                    <a:pt x="1151" y="1407"/>
                  </a:lnTo>
                  <a:lnTo>
                    <a:pt x="1102" y="1414"/>
                  </a:lnTo>
                  <a:lnTo>
                    <a:pt x="1050" y="1418"/>
                  </a:lnTo>
                  <a:lnTo>
                    <a:pt x="996" y="1419"/>
                  </a:lnTo>
                  <a:lnTo>
                    <a:pt x="464" y="1419"/>
                  </a:lnTo>
                  <a:lnTo>
                    <a:pt x="464" y="2220"/>
                  </a:lnTo>
                  <a:close/>
                  <a:moveTo>
                    <a:pt x="893" y="1036"/>
                  </a:moveTo>
                  <a:lnTo>
                    <a:pt x="925" y="1035"/>
                  </a:lnTo>
                  <a:lnTo>
                    <a:pt x="954" y="1033"/>
                  </a:lnTo>
                  <a:lnTo>
                    <a:pt x="982" y="1030"/>
                  </a:lnTo>
                  <a:lnTo>
                    <a:pt x="1008" y="1025"/>
                  </a:lnTo>
                  <a:lnTo>
                    <a:pt x="1032" y="1019"/>
                  </a:lnTo>
                  <a:lnTo>
                    <a:pt x="1054" y="1013"/>
                  </a:lnTo>
                  <a:lnTo>
                    <a:pt x="1074" y="1005"/>
                  </a:lnTo>
                  <a:lnTo>
                    <a:pt x="1094" y="996"/>
                  </a:lnTo>
                  <a:lnTo>
                    <a:pt x="1111" y="986"/>
                  </a:lnTo>
                  <a:lnTo>
                    <a:pt x="1127" y="976"/>
                  </a:lnTo>
                  <a:lnTo>
                    <a:pt x="1142" y="965"/>
                  </a:lnTo>
                  <a:lnTo>
                    <a:pt x="1155" y="953"/>
                  </a:lnTo>
                  <a:lnTo>
                    <a:pt x="1167" y="940"/>
                  </a:lnTo>
                  <a:lnTo>
                    <a:pt x="1178" y="927"/>
                  </a:lnTo>
                  <a:lnTo>
                    <a:pt x="1187" y="914"/>
                  </a:lnTo>
                  <a:lnTo>
                    <a:pt x="1196" y="900"/>
                  </a:lnTo>
                  <a:lnTo>
                    <a:pt x="1204" y="886"/>
                  </a:lnTo>
                  <a:lnTo>
                    <a:pt x="1210" y="872"/>
                  </a:lnTo>
                  <a:lnTo>
                    <a:pt x="1217" y="858"/>
                  </a:lnTo>
                  <a:lnTo>
                    <a:pt x="1222" y="843"/>
                  </a:lnTo>
                  <a:lnTo>
                    <a:pt x="1226" y="829"/>
                  </a:lnTo>
                  <a:lnTo>
                    <a:pt x="1230" y="814"/>
                  </a:lnTo>
                  <a:lnTo>
                    <a:pt x="1232" y="799"/>
                  </a:lnTo>
                  <a:lnTo>
                    <a:pt x="1235" y="785"/>
                  </a:lnTo>
                  <a:lnTo>
                    <a:pt x="1238" y="758"/>
                  </a:lnTo>
                  <a:lnTo>
                    <a:pt x="1239" y="733"/>
                  </a:lnTo>
                  <a:lnTo>
                    <a:pt x="1240" y="710"/>
                  </a:lnTo>
                  <a:lnTo>
                    <a:pt x="1240" y="690"/>
                  </a:lnTo>
                  <a:lnTo>
                    <a:pt x="1240" y="669"/>
                  </a:lnTo>
                  <a:lnTo>
                    <a:pt x="1239" y="650"/>
                  </a:lnTo>
                  <a:lnTo>
                    <a:pt x="1237" y="632"/>
                  </a:lnTo>
                  <a:lnTo>
                    <a:pt x="1234" y="615"/>
                  </a:lnTo>
                  <a:lnTo>
                    <a:pt x="1231" y="598"/>
                  </a:lnTo>
                  <a:lnTo>
                    <a:pt x="1227" y="581"/>
                  </a:lnTo>
                  <a:lnTo>
                    <a:pt x="1222" y="566"/>
                  </a:lnTo>
                  <a:lnTo>
                    <a:pt x="1217" y="550"/>
                  </a:lnTo>
                  <a:lnTo>
                    <a:pt x="1210" y="536"/>
                  </a:lnTo>
                  <a:lnTo>
                    <a:pt x="1203" y="523"/>
                  </a:lnTo>
                  <a:lnTo>
                    <a:pt x="1195" y="510"/>
                  </a:lnTo>
                  <a:lnTo>
                    <a:pt x="1186" y="498"/>
                  </a:lnTo>
                  <a:lnTo>
                    <a:pt x="1177" y="486"/>
                  </a:lnTo>
                  <a:lnTo>
                    <a:pt x="1166" y="475"/>
                  </a:lnTo>
                  <a:lnTo>
                    <a:pt x="1155" y="465"/>
                  </a:lnTo>
                  <a:lnTo>
                    <a:pt x="1143" y="456"/>
                  </a:lnTo>
                  <a:lnTo>
                    <a:pt x="1131" y="447"/>
                  </a:lnTo>
                  <a:lnTo>
                    <a:pt x="1117" y="439"/>
                  </a:lnTo>
                  <a:lnTo>
                    <a:pt x="1103" y="431"/>
                  </a:lnTo>
                  <a:lnTo>
                    <a:pt x="1086" y="424"/>
                  </a:lnTo>
                  <a:lnTo>
                    <a:pt x="1070" y="417"/>
                  </a:lnTo>
                  <a:lnTo>
                    <a:pt x="1053" y="411"/>
                  </a:lnTo>
                  <a:lnTo>
                    <a:pt x="1035" y="405"/>
                  </a:lnTo>
                  <a:lnTo>
                    <a:pt x="1017" y="401"/>
                  </a:lnTo>
                  <a:lnTo>
                    <a:pt x="997" y="397"/>
                  </a:lnTo>
                  <a:lnTo>
                    <a:pt x="976" y="393"/>
                  </a:lnTo>
                  <a:lnTo>
                    <a:pt x="954" y="390"/>
                  </a:lnTo>
                  <a:lnTo>
                    <a:pt x="931" y="388"/>
                  </a:lnTo>
                  <a:lnTo>
                    <a:pt x="908" y="386"/>
                  </a:lnTo>
                  <a:lnTo>
                    <a:pt x="883" y="385"/>
                  </a:lnTo>
                  <a:lnTo>
                    <a:pt x="858" y="384"/>
                  </a:lnTo>
                  <a:lnTo>
                    <a:pt x="831" y="383"/>
                  </a:lnTo>
                  <a:lnTo>
                    <a:pt x="464" y="383"/>
                  </a:lnTo>
                  <a:lnTo>
                    <a:pt x="464" y="1036"/>
                  </a:lnTo>
                  <a:lnTo>
                    <a:pt x="893" y="1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6908760" y="2854440"/>
              <a:ext cx="90360" cy="115560"/>
            </a:xfrm>
            <a:custGeom>
              <a:avLst/>
              <a:gdLst/>
              <a:ahLst/>
              <a:rect l="l" t="t" r="r" b="b"/>
              <a:pathLst>
                <a:path w="1825" h="2337">
                  <a:moveTo>
                    <a:pt x="445" y="1595"/>
                  </a:moveTo>
                  <a:lnTo>
                    <a:pt x="447" y="1619"/>
                  </a:lnTo>
                  <a:lnTo>
                    <a:pt x="450" y="1646"/>
                  </a:lnTo>
                  <a:lnTo>
                    <a:pt x="452" y="1660"/>
                  </a:lnTo>
                  <a:lnTo>
                    <a:pt x="455" y="1674"/>
                  </a:lnTo>
                  <a:lnTo>
                    <a:pt x="459" y="1689"/>
                  </a:lnTo>
                  <a:lnTo>
                    <a:pt x="463" y="1703"/>
                  </a:lnTo>
                  <a:lnTo>
                    <a:pt x="468" y="1718"/>
                  </a:lnTo>
                  <a:lnTo>
                    <a:pt x="474" y="1733"/>
                  </a:lnTo>
                  <a:lnTo>
                    <a:pt x="481" y="1748"/>
                  </a:lnTo>
                  <a:lnTo>
                    <a:pt x="488" y="1763"/>
                  </a:lnTo>
                  <a:lnTo>
                    <a:pt x="497" y="1777"/>
                  </a:lnTo>
                  <a:lnTo>
                    <a:pt x="507" y="1793"/>
                  </a:lnTo>
                  <a:lnTo>
                    <a:pt x="517" y="1807"/>
                  </a:lnTo>
                  <a:lnTo>
                    <a:pt x="530" y="1821"/>
                  </a:lnTo>
                  <a:lnTo>
                    <a:pt x="543" y="1835"/>
                  </a:lnTo>
                  <a:lnTo>
                    <a:pt x="557" y="1848"/>
                  </a:lnTo>
                  <a:lnTo>
                    <a:pt x="573" y="1860"/>
                  </a:lnTo>
                  <a:lnTo>
                    <a:pt x="589" y="1873"/>
                  </a:lnTo>
                  <a:lnTo>
                    <a:pt x="608" y="1884"/>
                  </a:lnTo>
                  <a:lnTo>
                    <a:pt x="627" y="1895"/>
                  </a:lnTo>
                  <a:lnTo>
                    <a:pt x="648" y="1905"/>
                  </a:lnTo>
                  <a:lnTo>
                    <a:pt x="672" y="1916"/>
                  </a:lnTo>
                  <a:lnTo>
                    <a:pt x="696" y="1924"/>
                  </a:lnTo>
                  <a:lnTo>
                    <a:pt x="722" y="1932"/>
                  </a:lnTo>
                  <a:lnTo>
                    <a:pt x="749" y="1938"/>
                  </a:lnTo>
                  <a:lnTo>
                    <a:pt x="779" y="1944"/>
                  </a:lnTo>
                  <a:lnTo>
                    <a:pt x="810" y="1948"/>
                  </a:lnTo>
                  <a:lnTo>
                    <a:pt x="843" y="1951"/>
                  </a:lnTo>
                  <a:lnTo>
                    <a:pt x="878" y="1953"/>
                  </a:lnTo>
                  <a:lnTo>
                    <a:pt x="916" y="1954"/>
                  </a:lnTo>
                  <a:lnTo>
                    <a:pt x="957" y="1953"/>
                  </a:lnTo>
                  <a:lnTo>
                    <a:pt x="998" y="1951"/>
                  </a:lnTo>
                  <a:lnTo>
                    <a:pt x="1040" y="1948"/>
                  </a:lnTo>
                  <a:lnTo>
                    <a:pt x="1081" y="1942"/>
                  </a:lnTo>
                  <a:lnTo>
                    <a:pt x="1100" y="1939"/>
                  </a:lnTo>
                  <a:lnTo>
                    <a:pt x="1120" y="1935"/>
                  </a:lnTo>
                  <a:lnTo>
                    <a:pt x="1139" y="1930"/>
                  </a:lnTo>
                  <a:lnTo>
                    <a:pt x="1159" y="1925"/>
                  </a:lnTo>
                  <a:lnTo>
                    <a:pt x="1178" y="1919"/>
                  </a:lnTo>
                  <a:lnTo>
                    <a:pt x="1195" y="1913"/>
                  </a:lnTo>
                  <a:lnTo>
                    <a:pt x="1213" y="1905"/>
                  </a:lnTo>
                  <a:lnTo>
                    <a:pt x="1230" y="1898"/>
                  </a:lnTo>
                  <a:lnTo>
                    <a:pt x="1246" y="1889"/>
                  </a:lnTo>
                  <a:lnTo>
                    <a:pt x="1261" y="1880"/>
                  </a:lnTo>
                  <a:lnTo>
                    <a:pt x="1276" y="1871"/>
                  </a:lnTo>
                  <a:lnTo>
                    <a:pt x="1291" y="1860"/>
                  </a:lnTo>
                  <a:lnTo>
                    <a:pt x="1304" y="1849"/>
                  </a:lnTo>
                  <a:lnTo>
                    <a:pt x="1316" y="1837"/>
                  </a:lnTo>
                  <a:lnTo>
                    <a:pt x="1327" y="1824"/>
                  </a:lnTo>
                  <a:lnTo>
                    <a:pt x="1338" y="1810"/>
                  </a:lnTo>
                  <a:lnTo>
                    <a:pt x="1347" y="1796"/>
                  </a:lnTo>
                  <a:lnTo>
                    <a:pt x="1355" y="1779"/>
                  </a:lnTo>
                  <a:lnTo>
                    <a:pt x="1362" y="1763"/>
                  </a:lnTo>
                  <a:lnTo>
                    <a:pt x="1368" y="1746"/>
                  </a:lnTo>
                  <a:lnTo>
                    <a:pt x="1373" y="1727"/>
                  </a:lnTo>
                  <a:lnTo>
                    <a:pt x="1376" y="1708"/>
                  </a:lnTo>
                  <a:lnTo>
                    <a:pt x="1378" y="1688"/>
                  </a:lnTo>
                  <a:lnTo>
                    <a:pt x="1379" y="1667"/>
                  </a:lnTo>
                  <a:lnTo>
                    <a:pt x="1379" y="1651"/>
                  </a:lnTo>
                  <a:lnTo>
                    <a:pt x="1377" y="1635"/>
                  </a:lnTo>
                  <a:lnTo>
                    <a:pt x="1375" y="1620"/>
                  </a:lnTo>
                  <a:lnTo>
                    <a:pt x="1371" y="1607"/>
                  </a:lnTo>
                  <a:lnTo>
                    <a:pt x="1367" y="1594"/>
                  </a:lnTo>
                  <a:lnTo>
                    <a:pt x="1362" y="1581"/>
                  </a:lnTo>
                  <a:lnTo>
                    <a:pt x="1356" y="1569"/>
                  </a:lnTo>
                  <a:lnTo>
                    <a:pt x="1350" y="1558"/>
                  </a:lnTo>
                  <a:lnTo>
                    <a:pt x="1342" y="1547"/>
                  </a:lnTo>
                  <a:lnTo>
                    <a:pt x="1333" y="1537"/>
                  </a:lnTo>
                  <a:lnTo>
                    <a:pt x="1324" y="1528"/>
                  </a:lnTo>
                  <a:lnTo>
                    <a:pt x="1314" y="1517"/>
                  </a:lnTo>
                  <a:lnTo>
                    <a:pt x="1304" y="1508"/>
                  </a:lnTo>
                  <a:lnTo>
                    <a:pt x="1292" y="1500"/>
                  </a:lnTo>
                  <a:lnTo>
                    <a:pt x="1279" y="1492"/>
                  </a:lnTo>
                  <a:lnTo>
                    <a:pt x="1266" y="1484"/>
                  </a:lnTo>
                  <a:lnTo>
                    <a:pt x="1252" y="1477"/>
                  </a:lnTo>
                  <a:lnTo>
                    <a:pt x="1238" y="1470"/>
                  </a:lnTo>
                  <a:lnTo>
                    <a:pt x="1223" y="1463"/>
                  </a:lnTo>
                  <a:lnTo>
                    <a:pt x="1208" y="1457"/>
                  </a:lnTo>
                  <a:lnTo>
                    <a:pt x="1175" y="1445"/>
                  </a:lnTo>
                  <a:lnTo>
                    <a:pt x="1139" y="1433"/>
                  </a:lnTo>
                  <a:lnTo>
                    <a:pt x="1102" y="1422"/>
                  </a:lnTo>
                  <a:lnTo>
                    <a:pt x="1062" y="1412"/>
                  </a:lnTo>
                  <a:lnTo>
                    <a:pt x="1020" y="1402"/>
                  </a:lnTo>
                  <a:lnTo>
                    <a:pt x="977" y="1391"/>
                  </a:lnTo>
                  <a:lnTo>
                    <a:pt x="739" y="1335"/>
                  </a:lnTo>
                  <a:lnTo>
                    <a:pt x="672" y="1320"/>
                  </a:lnTo>
                  <a:lnTo>
                    <a:pt x="606" y="1304"/>
                  </a:lnTo>
                  <a:lnTo>
                    <a:pt x="573" y="1295"/>
                  </a:lnTo>
                  <a:lnTo>
                    <a:pt x="541" y="1286"/>
                  </a:lnTo>
                  <a:lnTo>
                    <a:pt x="509" y="1277"/>
                  </a:lnTo>
                  <a:lnTo>
                    <a:pt x="477" y="1267"/>
                  </a:lnTo>
                  <a:lnTo>
                    <a:pt x="447" y="1256"/>
                  </a:lnTo>
                  <a:lnTo>
                    <a:pt x="417" y="1245"/>
                  </a:lnTo>
                  <a:lnTo>
                    <a:pt x="387" y="1233"/>
                  </a:lnTo>
                  <a:lnTo>
                    <a:pt x="358" y="1221"/>
                  </a:lnTo>
                  <a:lnTo>
                    <a:pt x="330" y="1207"/>
                  </a:lnTo>
                  <a:lnTo>
                    <a:pt x="304" y="1193"/>
                  </a:lnTo>
                  <a:lnTo>
                    <a:pt x="278" y="1178"/>
                  </a:lnTo>
                  <a:lnTo>
                    <a:pt x="252" y="1161"/>
                  </a:lnTo>
                  <a:lnTo>
                    <a:pt x="228" y="1144"/>
                  </a:lnTo>
                  <a:lnTo>
                    <a:pt x="205" y="1124"/>
                  </a:lnTo>
                  <a:lnTo>
                    <a:pt x="183" y="1104"/>
                  </a:lnTo>
                  <a:lnTo>
                    <a:pt x="163" y="1082"/>
                  </a:lnTo>
                  <a:lnTo>
                    <a:pt x="143" y="1059"/>
                  </a:lnTo>
                  <a:lnTo>
                    <a:pt x="125" y="1034"/>
                  </a:lnTo>
                  <a:lnTo>
                    <a:pt x="109" y="1008"/>
                  </a:lnTo>
                  <a:lnTo>
                    <a:pt x="94" y="979"/>
                  </a:lnTo>
                  <a:lnTo>
                    <a:pt x="80" y="949"/>
                  </a:lnTo>
                  <a:lnTo>
                    <a:pt x="68" y="917"/>
                  </a:lnTo>
                  <a:lnTo>
                    <a:pt x="58" y="884"/>
                  </a:lnTo>
                  <a:lnTo>
                    <a:pt x="50" y="847"/>
                  </a:lnTo>
                  <a:lnTo>
                    <a:pt x="43" y="810"/>
                  </a:lnTo>
                  <a:lnTo>
                    <a:pt x="38" y="770"/>
                  </a:lnTo>
                  <a:lnTo>
                    <a:pt x="35" y="727"/>
                  </a:lnTo>
                  <a:lnTo>
                    <a:pt x="34" y="683"/>
                  </a:lnTo>
                  <a:lnTo>
                    <a:pt x="35" y="659"/>
                  </a:lnTo>
                  <a:lnTo>
                    <a:pt x="36" y="635"/>
                  </a:lnTo>
                  <a:lnTo>
                    <a:pt x="38" y="608"/>
                  </a:lnTo>
                  <a:lnTo>
                    <a:pt x="41" y="582"/>
                  </a:lnTo>
                  <a:lnTo>
                    <a:pt x="46" y="555"/>
                  </a:lnTo>
                  <a:lnTo>
                    <a:pt x="51" y="528"/>
                  </a:lnTo>
                  <a:lnTo>
                    <a:pt x="58" y="500"/>
                  </a:lnTo>
                  <a:lnTo>
                    <a:pt x="66" y="471"/>
                  </a:lnTo>
                  <a:lnTo>
                    <a:pt x="76" y="443"/>
                  </a:lnTo>
                  <a:lnTo>
                    <a:pt x="87" y="415"/>
                  </a:lnTo>
                  <a:lnTo>
                    <a:pt x="99" y="387"/>
                  </a:lnTo>
                  <a:lnTo>
                    <a:pt x="114" y="358"/>
                  </a:lnTo>
                  <a:lnTo>
                    <a:pt x="130" y="330"/>
                  </a:lnTo>
                  <a:lnTo>
                    <a:pt x="149" y="302"/>
                  </a:lnTo>
                  <a:lnTo>
                    <a:pt x="169" y="275"/>
                  </a:lnTo>
                  <a:lnTo>
                    <a:pt x="191" y="249"/>
                  </a:lnTo>
                  <a:lnTo>
                    <a:pt x="215" y="223"/>
                  </a:lnTo>
                  <a:lnTo>
                    <a:pt x="241" y="197"/>
                  </a:lnTo>
                  <a:lnTo>
                    <a:pt x="269" y="173"/>
                  </a:lnTo>
                  <a:lnTo>
                    <a:pt x="301" y="151"/>
                  </a:lnTo>
                  <a:lnTo>
                    <a:pt x="334" y="129"/>
                  </a:lnTo>
                  <a:lnTo>
                    <a:pt x="370" y="109"/>
                  </a:lnTo>
                  <a:lnTo>
                    <a:pt x="409" y="90"/>
                  </a:lnTo>
                  <a:lnTo>
                    <a:pt x="450" y="71"/>
                  </a:lnTo>
                  <a:lnTo>
                    <a:pt x="494" y="55"/>
                  </a:lnTo>
                  <a:lnTo>
                    <a:pt x="542" y="41"/>
                  </a:lnTo>
                  <a:lnTo>
                    <a:pt x="591" y="29"/>
                  </a:lnTo>
                  <a:lnTo>
                    <a:pt x="644" y="19"/>
                  </a:lnTo>
                  <a:lnTo>
                    <a:pt x="700" y="11"/>
                  </a:lnTo>
                  <a:lnTo>
                    <a:pt x="759" y="5"/>
                  </a:lnTo>
                  <a:lnTo>
                    <a:pt x="822" y="1"/>
                  </a:lnTo>
                  <a:lnTo>
                    <a:pt x="887" y="0"/>
                  </a:lnTo>
                  <a:lnTo>
                    <a:pt x="950" y="1"/>
                  </a:lnTo>
                  <a:lnTo>
                    <a:pt x="1009" y="5"/>
                  </a:lnTo>
                  <a:lnTo>
                    <a:pt x="1066" y="11"/>
                  </a:lnTo>
                  <a:lnTo>
                    <a:pt x="1120" y="19"/>
                  </a:lnTo>
                  <a:lnTo>
                    <a:pt x="1172" y="30"/>
                  </a:lnTo>
                  <a:lnTo>
                    <a:pt x="1220" y="42"/>
                  </a:lnTo>
                  <a:lnTo>
                    <a:pt x="1266" y="57"/>
                  </a:lnTo>
                  <a:lnTo>
                    <a:pt x="1310" y="73"/>
                  </a:lnTo>
                  <a:lnTo>
                    <a:pt x="1351" y="92"/>
                  </a:lnTo>
                  <a:lnTo>
                    <a:pt x="1389" y="111"/>
                  </a:lnTo>
                  <a:lnTo>
                    <a:pt x="1426" y="132"/>
                  </a:lnTo>
                  <a:lnTo>
                    <a:pt x="1460" y="155"/>
                  </a:lnTo>
                  <a:lnTo>
                    <a:pt x="1491" y="178"/>
                  </a:lnTo>
                  <a:lnTo>
                    <a:pt x="1521" y="203"/>
                  </a:lnTo>
                  <a:lnTo>
                    <a:pt x="1549" y="230"/>
                  </a:lnTo>
                  <a:lnTo>
                    <a:pt x="1575" y="256"/>
                  </a:lnTo>
                  <a:lnTo>
                    <a:pt x="1598" y="284"/>
                  </a:lnTo>
                  <a:lnTo>
                    <a:pt x="1620" y="312"/>
                  </a:lnTo>
                  <a:lnTo>
                    <a:pt x="1639" y="341"/>
                  </a:lnTo>
                  <a:lnTo>
                    <a:pt x="1657" y="371"/>
                  </a:lnTo>
                  <a:lnTo>
                    <a:pt x="1674" y="400"/>
                  </a:lnTo>
                  <a:lnTo>
                    <a:pt x="1689" y="430"/>
                  </a:lnTo>
                  <a:lnTo>
                    <a:pt x="1701" y="460"/>
                  </a:lnTo>
                  <a:lnTo>
                    <a:pt x="1713" y="490"/>
                  </a:lnTo>
                  <a:lnTo>
                    <a:pt x="1722" y="520"/>
                  </a:lnTo>
                  <a:lnTo>
                    <a:pt x="1731" y="550"/>
                  </a:lnTo>
                  <a:lnTo>
                    <a:pt x="1738" y="579"/>
                  </a:lnTo>
                  <a:lnTo>
                    <a:pt x="1743" y="607"/>
                  </a:lnTo>
                  <a:lnTo>
                    <a:pt x="1747" y="637"/>
                  </a:lnTo>
                  <a:lnTo>
                    <a:pt x="1751" y="664"/>
                  </a:lnTo>
                  <a:lnTo>
                    <a:pt x="1752" y="691"/>
                  </a:lnTo>
                  <a:lnTo>
                    <a:pt x="1753" y="717"/>
                  </a:lnTo>
                  <a:lnTo>
                    <a:pt x="1309" y="717"/>
                  </a:lnTo>
                  <a:lnTo>
                    <a:pt x="1306" y="697"/>
                  </a:lnTo>
                  <a:lnTo>
                    <a:pt x="1302" y="674"/>
                  </a:lnTo>
                  <a:lnTo>
                    <a:pt x="1297" y="650"/>
                  </a:lnTo>
                  <a:lnTo>
                    <a:pt x="1289" y="623"/>
                  </a:lnTo>
                  <a:lnTo>
                    <a:pt x="1285" y="610"/>
                  </a:lnTo>
                  <a:lnTo>
                    <a:pt x="1278" y="595"/>
                  </a:lnTo>
                  <a:lnTo>
                    <a:pt x="1272" y="581"/>
                  </a:lnTo>
                  <a:lnTo>
                    <a:pt x="1265" y="568"/>
                  </a:lnTo>
                  <a:lnTo>
                    <a:pt x="1258" y="554"/>
                  </a:lnTo>
                  <a:lnTo>
                    <a:pt x="1249" y="540"/>
                  </a:lnTo>
                  <a:lnTo>
                    <a:pt x="1239" y="526"/>
                  </a:lnTo>
                  <a:lnTo>
                    <a:pt x="1228" y="513"/>
                  </a:lnTo>
                  <a:lnTo>
                    <a:pt x="1216" y="500"/>
                  </a:lnTo>
                  <a:lnTo>
                    <a:pt x="1203" y="487"/>
                  </a:lnTo>
                  <a:lnTo>
                    <a:pt x="1188" y="474"/>
                  </a:lnTo>
                  <a:lnTo>
                    <a:pt x="1173" y="462"/>
                  </a:lnTo>
                  <a:lnTo>
                    <a:pt x="1154" y="451"/>
                  </a:lnTo>
                  <a:lnTo>
                    <a:pt x="1136" y="440"/>
                  </a:lnTo>
                  <a:lnTo>
                    <a:pt x="1115" y="430"/>
                  </a:lnTo>
                  <a:lnTo>
                    <a:pt x="1094" y="421"/>
                  </a:lnTo>
                  <a:lnTo>
                    <a:pt x="1070" y="413"/>
                  </a:lnTo>
                  <a:lnTo>
                    <a:pt x="1045" y="405"/>
                  </a:lnTo>
                  <a:lnTo>
                    <a:pt x="1017" y="399"/>
                  </a:lnTo>
                  <a:lnTo>
                    <a:pt x="989" y="393"/>
                  </a:lnTo>
                  <a:lnTo>
                    <a:pt x="958" y="389"/>
                  </a:lnTo>
                  <a:lnTo>
                    <a:pt x="926" y="386"/>
                  </a:lnTo>
                  <a:lnTo>
                    <a:pt x="890" y="384"/>
                  </a:lnTo>
                  <a:lnTo>
                    <a:pt x="853" y="383"/>
                  </a:lnTo>
                  <a:lnTo>
                    <a:pt x="820" y="384"/>
                  </a:lnTo>
                  <a:lnTo>
                    <a:pt x="787" y="386"/>
                  </a:lnTo>
                  <a:lnTo>
                    <a:pt x="752" y="390"/>
                  </a:lnTo>
                  <a:lnTo>
                    <a:pt x="719" y="396"/>
                  </a:lnTo>
                  <a:lnTo>
                    <a:pt x="702" y="400"/>
                  </a:lnTo>
                  <a:lnTo>
                    <a:pt x="686" y="404"/>
                  </a:lnTo>
                  <a:lnTo>
                    <a:pt x="670" y="409"/>
                  </a:lnTo>
                  <a:lnTo>
                    <a:pt x="654" y="414"/>
                  </a:lnTo>
                  <a:lnTo>
                    <a:pt x="638" y="420"/>
                  </a:lnTo>
                  <a:lnTo>
                    <a:pt x="623" y="426"/>
                  </a:lnTo>
                  <a:lnTo>
                    <a:pt x="608" y="433"/>
                  </a:lnTo>
                  <a:lnTo>
                    <a:pt x="594" y="440"/>
                  </a:lnTo>
                  <a:lnTo>
                    <a:pt x="580" y="448"/>
                  </a:lnTo>
                  <a:lnTo>
                    <a:pt x="567" y="457"/>
                  </a:lnTo>
                  <a:lnTo>
                    <a:pt x="555" y="466"/>
                  </a:lnTo>
                  <a:lnTo>
                    <a:pt x="543" y="476"/>
                  </a:lnTo>
                  <a:lnTo>
                    <a:pt x="532" y="487"/>
                  </a:lnTo>
                  <a:lnTo>
                    <a:pt x="521" y="498"/>
                  </a:lnTo>
                  <a:lnTo>
                    <a:pt x="511" y="510"/>
                  </a:lnTo>
                  <a:lnTo>
                    <a:pt x="502" y="523"/>
                  </a:lnTo>
                  <a:lnTo>
                    <a:pt x="494" y="536"/>
                  </a:lnTo>
                  <a:lnTo>
                    <a:pt x="487" y="550"/>
                  </a:lnTo>
                  <a:lnTo>
                    <a:pt x="481" y="564"/>
                  </a:lnTo>
                  <a:lnTo>
                    <a:pt x="476" y="579"/>
                  </a:lnTo>
                  <a:lnTo>
                    <a:pt x="472" y="595"/>
                  </a:lnTo>
                  <a:lnTo>
                    <a:pt x="469" y="613"/>
                  </a:lnTo>
                  <a:lnTo>
                    <a:pt x="467" y="631"/>
                  </a:lnTo>
                  <a:lnTo>
                    <a:pt x="467" y="649"/>
                  </a:lnTo>
                  <a:lnTo>
                    <a:pt x="467" y="665"/>
                  </a:lnTo>
                  <a:lnTo>
                    <a:pt x="469" y="680"/>
                  </a:lnTo>
                  <a:lnTo>
                    <a:pt x="470" y="694"/>
                  </a:lnTo>
                  <a:lnTo>
                    <a:pt x="473" y="707"/>
                  </a:lnTo>
                  <a:lnTo>
                    <a:pt x="476" y="720"/>
                  </a:lnTo>
                  <a:lnTo>
                    <a:pt x="481" y="732"/>
                  </a:lnTo>
                  <a:lnTo>
                    <a:pt x="485" y="745"/>
                  </a:lnTo>
                  <a:lnTo>
                    <a:pt x="490" y="755"/>
                  </a:lnTo>
                  <a:lnTo>
                    <a:pt x="496" y="766"/>
                  </a:lnTo>
                  <a:lnTo>
                    <a:pt x="502" y="775"/>
                  </a:lnTo>
                  <a:lnTo>
                    <a:pt x="509" y="784"/>
                  </a:lnTo>
                  <a:lnTo>
                    <a:pt x="516" y="793"/>
                  </a:lnTo>
                  <a:lnTo>
                    <a:pt x="524" y="801"/>
                  </a:lnTo>
                  <a:lnTo>
                    <a:pt x="533" y="808"/>
                  </a:lnTo>
                  <a:lnTo>
                    <a:pt x="541" y="815"/>
                  </a:lnTo>
                  <a:lnTo>
                    <a:pt x="550" y="821"/>
                  </a:lnTo>
                  <a:lnTo>
                    <a:pt x="568" y="833"/>
                  </a:lnTo>
                  <a:lnTo>
                    <a:pt x="587" y="843"/>
                  </a:lnTo>
                  <a:lnTo>
                    <a:pt x="606" y="852"/>
                  </a:lnTo>
                  <a:lnTo>
                    <a:pt x="626" y="859"/>
                  </a:lnTo>
                  <a:lnTo>
                    <a:pt x="645" y="866"/>
                  </a:lnTo>
                  <a:lnTo>
                    <a:pt x="666" y="872"/>
                  </a:lnTo>
                  <a:lnTo>
                    <a:pt x="684" y="877"/>
                  </a:lnTo>
                  <a:lnTo>
                    <a:pt x="702" y="881"/>
                  </a:lnTo>
                  <a:lnTo>
                    <a:pt x="1243" y="1014"/>
                  </a:lnTo>
                  <a:lnTo>
                    <a:pt x="1300" y="1029"/>
                  </a:lnTo>
                  <a:lnTo>
                    <a:pt x="1355" y="1045"/>
                  </a:lnTo>
                  <a:lnTo>
                    <a:pt x="1382" y="1053"/>
                  </a:lnTo>
                  <a:lnTo>
                    <a:pt x="1410" y="1062"/>
                  </a:lnTo>
                  <a:lnTo>
                    <a:pt x="1436" y="1072"/>
                  </a:lnTo>
                  <a:lnTo>
                    <a:pt x="1462" y="1082"/>
                  </a:lnTo>
                  <a:lnTo>
                    <a:pt x="1487" y="1093"/>
                  </a:lnTo>
                  <a:lnTo>
                    <a:pt x="1512" y="1104"/>
                  </a:lnTo>
                  <a:lnTo>
                    <a:pt x="1537" y="1117"/>
                  </a:lnTo>
                  <a:lnTo>
                    <a:pt x="1561" y="1131"/>
                  </a:lnTo>
                  <a:lnTo>
                    <a:pt x="1584" y="1144"/>
                  </a:lnTo>
                  <a:lnTo>
                    <a:pt x="1606" y="1159"/>
                  </a:lnTo>
                  <a:lnTo>
                    <a:pt x="1627" y="1174"/>
                  </a:lnTo>
                  <a:lnTo>
                    <a:pt x="1647" y="1190"/>
                  </a:lnTo>
                  <a:lnTo>
                    <a:pt x="1668" y="1208"/>
                  </a:lnTo>
                  <a:lnTo>
                    <a:pt x="1686" y="1226"/>
                  </a:lnTo>
                  <a:lnTo>
                    <a:pt x="1704" y="1245"/>
                  </a:lnTo>
                  <a:lnTo>
                    <a:pt x="1721" y="1266"/>
                  </a:lnTo>
                  <a:lnTo>
                    <a:pt x="1736" y="1288"/>
                  </a:lnTo>
                  <a:lnTo>
                    <a:pt x="1751" y="1310"/>
                  </a:lnTo>
                  <a:lnTo>
                    <a:pt x="1764" y="1334"/>
                  </a:lnTo>
                  <a:lnTo>
                    <a:pt x="1776" y="1359"/>
                  </a:lnTo>
                  <a:lnTo>
                    <a:pt x="1788" y="1385"/>
                  </a:lnTo>
                  <a:lnTo>
                    <a:pt x="1797" y="1414"/>
                  </a:lnTo>
                  <a:lnTo>
                    <a:pt x="1806" y="1443"/>
                  </a:lnTo>
                  <a:lnTo>
                    <a:pt x="1813" y="1473"/>
                  </a:lnTo>
                  <a:lnTo>
                    <a:pt x="1818" y="1505"/>
                  </a:lnTo>
                  <a:lnTo>
                    <a:pt x="1822" y="1539"/>
                  </a:lnTo>
                  <a:lnTo>
                    <a:pt x="1824" y="1574"/>
                  </a:lnTo>
                  <a:lnTo>
                    <a:pt x="1825" y="1610"/>
                  </a:lnTo>
                  <a:lnTo>
                    <a:pt x="1823" y="1672"/>
                  </a:lnTo>
                  <a:lnTo>
                    <a:pt x="1817" y="1729"/>
                  </a:lnTo>
                  <a:lnTo>
                    <a:pt x="1808" y="1783"/>
                  </a:lnTo>
                  <a:lnTo>
                    <a:pt x="1796" y="1834"/>
                  </a:lnTo>
                  <a:lnTo>
                    <a:pt x="1779" y="1881"/>
                  </a:lnTo>
                  <a:lnTo>
                    <a:pt x="1760" y="1926"/>
                  </a:lnTo>
                  <a:lnTo>
                    <a:pt x="1739" y="1967"/>
                  </a:lnTo>
                  <a:lnTo>
                    <a:pt x="1715" y="2006"/>
                  </a:lnTo>
                  <a:lnTo>
                    <a:pt x="1689" y="2042"/>
                  </a:lnTo>
                  <a:lnTo>
                    <a:pt x="1661" y="2075"/>
                  </a:lnTo>
                  <a:lnTo>
                    <a:pt x="1631" y="2106"/>
                  </a:lnTo>
                  <a:lnTo>
                    <a:pt x="1599" y="2134"/>
                  </a:lnTo>
                  <a:lnTo>
                    <a:pt x="1566" y="2159"/>
                  </a:lnTo>
                  <a:lnTo>
                    <a:pt x="1531" y="2184"/>
                  </a:lnTo>
                  <a:lnTo>
                    <a:pt x="1496" y="2205"/>
                  </a:lnTo>
                  <a:lnTo>
                    <a:pt x="1460" y="2224"/>
                  </a:lnTo>
                  <a:lnTo>
                    <a:pt x="1424" y="2242"/>
                  </a:lnTo>
                  <a:lnTo>
                    <a:pt x="1386" y="2257"/>
                  </a:lnTo>
                  <a:lnTo>
                    <a:pt x="1349" y="2271"/>
                  </a:lnTo>
                  <a:lnTo>
                    <a:pt x="1312" y="2283"/>
                  </a:lnTo>
                  <a:lnTo>
                    <a:pt x="1275" y="2294"/>
                  </a:lnTo>
                  <a:lnTo>
                    <a:pt x="1239" y="2304"/>
                  </a:lnTo>
                  <a:lnTo>
                    <a:pt x="1203" y="2311"/>
                  </a:lnTo>
                  <a:lnTo>
                    <a:pt x="1169" y="2318"/>
                  </a:lnTo>
                  <a:lnTo>
                    <a:pt x="1134" y="2323"/>
                  </a:lnTo>
                  <a:lnTo>
                    <a:pt x="1102" y="2328"/>
                  </a:lnTo>
                  <a:lnTo>
                    <a:pt x="1072" y="2331"/>
                  </a:lnTo>
                  <a:lnTo>
                    <a:pt x="1043" y="2334"/>
                  </a:lnTo>
                  <a:lnTo>
                    <a:pt x="991" y="2337"/>
                  </a:lnTo>
                  <a:lnTo>
                    <a:pt x="950" y="2337"/>
                  </a:lnTo>
                  <a:lnTo>
                    <a:pt x="875" y="2336"/>
                  </a:lnTo>
                  <a:lnTo>
                    <a:pt x="805" y="2332"/>
                  </a:lnTo>
                  <a:lnTo>
                    <a:pt x="739" y="2326"/>
                  </a:lnTo>
                  <a:lnTo>
                    <a:pt x="676" y="2317"/>
                  </a:lnTo>
                  <a:lnTo>
                    <a:pt x="616" y="2306"/>
                  </a:lnTo>
                  <a:lnTo>
                    <a:pt x="561" y="2292"/>
                  </a:lnTo>
                  <a:lnTo>
                    <a:pt x="508" y="2277"/>
                  </a:lnTo>
                  <a:lnTo>
                    <a:pt x="459" y="2260"/>
                  </a:lnTo>
                  <a:lnTo>
                    <a:pt x="413" y="2241"/>
                  </a:lnTo>
                  <a:lnTo>
                    <a:pt x="370" y="2221"/>
                  </a:lnTo>
                  <a:lnTo>
                    <a:pt x="330" y="2199"/>
                  </a:lnTo>
                  <a:lnTo>
                    <a:pt x="293" y="2175"/>
                  </a:lnTo>
                  <a:lnTo>
                    <a:pt x="258" y="2150"/>
                  </a:lnTo>
                  <a:lnTo>
                    <a:pt x="227" y="2124"/>
                  </a:lnTo>
                  <a:lnTo>
                    <a:pt x="198" y="2097"/>
                  </a:lnTo>
                  <a:lnTo>
                    <a:pt x="171" y="2070"/>
                  </a:lnTo>
                  <a:lnTo>
                    <a:pt x="146" y="2040"/>
                  </a:lnTo>
                  <a:lnTo>
                    <a:pt x="124" y="2011"/>
                  </a:lnTo>
                  <a:lnTo>
                    <a:pt x="104" y="1981"/>
                  </a:lnTo>
                  <a:lnTo>
                    <a:pt x="87" y="1951"/>
                  </a:lnTo>
                  <a:lnTo>
                    <a:pt x="71" y="1920"/>
                  </a:lnTo>
                  <a:lnTo>
                    <a:pt x="57" y="1889"/>
                  </a:lnTo>
                  <a:lnTo>
                    <a:pt x="45" y="1858"/>
                  </a:lnTo>
                  <a:lnTo>
                    <a:pt x="35" y="1827"/>
                  </a:lnTo>
                  <a:lnTo>
                    <a:pt x="26" y="1797"/>
                  </a:lnTo>
                  <a:lnTo>
                    <a:pt x="18" y="1765"/>
                  </a:lnTo>
                  <a:lnTo>
                    <a:pt x="12" y="1735"/>
                  </a:lnTo>
                  <a:lnTo>
                    <a:pt x="7" y="1706"/>
                  </a:lnTo>
                  <a:lnTo>
                    <a:pt x="4" y="1677"/>
                  </a:lnTo>
                  <a:lnTo>
                    <a:pt x="1" y="1648"/>
                  </a:lnTo>
                  <a:lnTo>
                    <a:pt x="0" y="1621"/>
                  </a:lnTo>
                  <a:lnTo>
                    <a:pt x="0" y="1595"/>
                  </a:lnTo>
                  <a:lnTo>
                    <a:pt x="445" y="15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2" name=""/>
          <p:cNvGrpSpPr/>
          <p:nvPr/>
        </p:nvGrpSpPr>
        <p:grpSpPr>
          <a:xfrm>
            <a:off x="5816520" y="2514600"/>
            <a:ext cx="803520" cy="544320"/>
            <a:chOff x="5816520" y="2514600"/>
            <a:chExt cx="803520" cy="544320"/>
          </a:xfrm>
        </p:grpSpPr>
        <p:sp>
          <p:nvSpPr>
            <p:cNvPr id="4263" name=""/>
            <p:cNvSpPr/>
            <p:nvPr/>
          </p:nvSpPr>
          <p:spPr>
            <a:xfrm>
              <a:off x="5819040" y="2520000"/>
              <a:ext cx="797760" cy="73800"/>
            </a:xfrm>
            <a:custGeom>
              <a:avLst/>
              <a:gdLst/>
              <a:ahLst/>
              <a:rect l="l" t="t" r="r" b="b"/>
              <a:pathLst>
                <a:path w="16039" h="1509">
                  <a:moveTo>
                    <a:pt x="0" y="1509"/>
                  </a:moveTo>
                  <a:lnTo>
                    <a:pt x="1509" y="0"/>
                  </a:lnTo>
                  <a:lnTo>
                    <a:pt x="16039" y="0"/>
                  </a:lnTo>
                  <a:lnTo>
                    <a:pt x="14533" y="1509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c9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5817600" y="2517120"/>
              <a:ext cx="78120" cy="79560"/>
            </a:xfrm>
            <a:custGeom>
              <a:avLst/>
              <a:gdLst/>
              <a:ahLst/>
              <a:rect l="l" t="t" r="r" b="b"/>
              <a:pathLst>
                <a:path w="1572" h="1584">
                  <a:moveTo>
                    <a:pt x="1540" y="0"/>
                  </a:moveTo>
                  <a:lnTo>
                    <a:pt x="1509" y="13"/>
                  </a:lnTo>
                  <a:lnTo>
                    <a:pt x="0" y="1521"/>
                  </a:lnTo>
                  <a:lnTo>
                    <a:pt x="64" y="1584"/>
                  </a:lnTo>
                  <a:lnTo>
                    <a:pt x="1572" y="76"/>
                  </a:lnTo>
                  <a:lnTo>
                    <a:pt x="1540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5894640" y="2517120"/>
              <a:ext cx="725400" cy="4320"/>
            </a:xfrm>
            <a:custGeom>
              <a:avLst/>
              <a:gdLst/>
              <a:ahLst/>
              <a:rect l="l" t="t" r="r" b="b"/>
              <a:pathLst>
                <a:path w="14561" h="89">
                  <a:moveTo>
                    <a:pt x="14561" y="76"/>
                  </a:moveTo>
                  <a:lnTo>
                    <a:pt x="14530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14530" y="89"/>
                  </a:lnTo>
                  <a:lnTo>
                    <a:pt x="14561" y="7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541920" y="2517120"/>
              <a:ext cx="78120" cy="79560"/>
            </a:xfrm>
            <a:custGeom>
              <a:avLst/>
              <a:gdLst/>
              <a:ahLst/>
              <a:rect l="l" t="t" r="r" b="b"/>
              <a:pathLst>
                <a:path w="1569" h="1584">
                  <a:moveTo>
                    <a:pt x="32" y="1584"/>
                  </a:moveTo>
                  <a:lnTo>
                    <a:pt x="63" y="1571"/>
                  </a:lnTo>
                  <a:lnTo>
                    <a:pt x="1569" y="63"/>
                  </a:lnTo>
                  <a:lnTo>
                    <a:pt x="1506" y="0"/>
                  </a:lnTo>
                  <a:lnTo>
                    <a:pt x="0" y="1509"/>
                  </a:lnTo>
                  <a:lnTo>
                    <a:pt x="32" y="1584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817600" y="2592720"/>
              <a:ext cx="725400" cy="4320"/>
            </a:xfrm>
            <a:custGeom>
              <a:avLst/>
              <a:gdLst/>
              <a:ahLst/>
              <a:rect l="l" t="t" r="r" b="b"/>
              <a:pathLst>
                <a:path w="14564" h="89">
                  <a:moveTo>
                    <a:pt x="0" y="13"/>
                  </a:moveTo>
                  <a:lnTo>
                    <a:pt x="31" y="89"/>
                  </a:lnTo>
                  <a:lnTo>
                    <a:pt x="14564" y="89"/>
                  </a:lnTo>
                  <a:lnTo>
                    <a:pt x="14564" y="0"/>
                  </a:lnTo>
                  <a:lnTo>
                    <a:pt x="3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819040" y="2594160"/>
              <a:ext cx="723600" cy="459360"/>
            </a:xfrm>
            <a:prstGeom prst="rect">
              <a:avLst/>
            </a:prstGeom>
            <a:solidFill>
              <a:srgbClr val="b7b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819040" y="2592720"/>
              <a:ext cx="725400" cy="4320"/>
            </a:xfrm>
            <a:custGeom>
              <a:avLst/>
              <a:gdLst/>
              <a:ahLst/>
              <a:rect l="l" t="t" r="r" b="b"/>
              <a:pathLst>
                <a:path w="14578" h="88">
                  <a:moveTo>
                    <a:pt x="14578" y="44"/>
                  </a:moveTo>
                  <a:lnTo>
                    <a:pt x="14534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14534" y="88"/>
                  </a:lnTo>
                  <a:lnTo>
                    <a:pt x="14578" y="44"/>
                  </a:lnTo>
                  <a:lnTo>
                    <a:pt x="14578" y="44"/>
                  </a:lnTo>
                  <a:lnTo>
                    <a:pt x="14578" y="0"/>
                  </a:lnTo>
                  <a:lnTo>
                    <a:pt x="14534" y="0"/>
                  </a:lnTo>
                  <a:lnTo>
                    <a:pt x="14578" y="44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540480" y="2594160"/>
              <a:ext cx="3960" cy="461880"/>
            </a:xfrm>
            <a:custGeom>
              <a:avLst/>
              <a:gdLst/>
              <a:ahLst/>
              <a:rect l="l" t="t" r="r" b="b"/>
              <a:pathLst>
                <a:path w="89" h="9258">
                  <a:moveTo>
                    <a:pt x="45" y="9258"/>
                  </a:moveTo>
                  <a:lnTo>
                    <a:pt x="89" y="9214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9214"/>
                  </a:lnTo>
                  <a:lnTo>
                    <a:pt x="45" y="9258"/>
                  </a:lnTo>
                  <a:lnTo>
                    <a:pt x="45" y="9258"/>
                  </a:lnTo>
                  <a:lnTo>
                    <a:pt x="89" y="9258"/>
                  </a:lnTo>
                  <a:lnTo>
                    <a:pt x="89" y="9214"/>
                  </a:lnTo>
                  <a:lnTo>
                    <a:pt x="45" y="925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816520" y="3052080"/>
              <a:ext cx="726480" cy="3960"/>
            </a:xfrm>
            <a:custGeom>
              <a:avLst/>
              <a:gdLst/>
              <a:ahLst/>
              <a:rect l="l" t="t" r="r" b="b"/>
              <a:pathLst>
                <a:path w="14578" h="89">
                  <a:moveTo>
                    <a:pt x="0" y="45"/>
                  </a:moveTo>
                  <a:lnTo>
                    <a:pt x="44" y="89"/>
                  </a:lnTo>
                  <a:lnTo>
                    <a:pt x="14578" y="89"/>
                  </a:lnTo>
                  <a:lnTo>
                    <a:pt x="14578" y="0"/>
                  </a:lnTo>
                  <a:lnTo>
                    <a:pt x="44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89"/>
                  </a:lnTo>
                  <a:lnTo>
                    <a:pt x="44" y="8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816520" y="2592720"/>
              <a:ext cx="3960" cy="460800"/>
            </a:xfrm>
            <a:custGeom>
              <a:avLst/>
              <a:gdLst/>
              <a:ahLst/>
              <a:rect l="l" t="t" r="r" b="b"/>
              <a:pathLst>
                <a:path w="89" h="9258">
                  <a:moveTo>
                    <a:pt x="44" y="0"/>
                  </a:moveTo>
                  <a:lnTo>
                    <a:pt x="0" y="44"/>
                  </a:lnTo>
                  <a:lnTo>
                    <a:pt x="0" y="9258"/>
                  </a:lnTo>
                  <a:lnTo>
                    <a:pt x="89" y="9258"/>
                  </a:lnTo>
                  <a:lnTo>
                    <a:pt x="89" y="4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543000" y="2520000"/>
              <a:ext cx="73800" cy="533520"/>
            </a:xfrm>
            <a:custGeom>
              <a:avLst/>
              <a:gdLst/>
              <a:ahLst/>
              <a:rect l="l" t="t" r="r" b="b"/>
              <a:pathLst>
                <a:path w="1506" h="10720">
                  <a:moveTo>
                    <a:pt x="1" y="10720"/>
                  </a:moveTo>
                  <a:lnTo>
                    <a:pt x="1504" y="9211"/>
                  </a:lnTo>
                  <a:lnTo>
                    <a:pt x="1506" y="0"/>
                  </a:lnTo>
                  <a:lnTo>
                    <a:pt x="0" y="1509"/>
                  </a:lnTo>
                  <a:lnTo>
                    <a:pt x="1" y="10720"/>
                  </a:lnTo>
                  <a:close/>
                </a:path>
              </a:pathLst>
            </a:custGeom>
            <a:solidFill>
              <a:srgbClr val="7c7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6541920" y="2976840"/>
              <a:ext cx="78120" cy="79200"/>
            </a:xfrm>
            <a:custGeom>
              <a:avLst/>
              <a:gdLst/>
              <a:ahLst/>
              <a:rect l="l" t="t" r="r" b="b"/>
              <a:pathLst>
                <a:path w="1579" h="1571">
                  <a:moveTo>
                    <a:pt x="1579" y="31"/>
                  </a:moveTo>
                  <a:lnTo>
                    <a:pt x="1503" y="0"/>
                  </a:lnTo>
                  <a:lnTo>
                    <a:pt x="0" y="1508"/>
                  </a:lnTo>
                  <a:lnTo>
                    <a:pt x="63" y="1571"/>
                  </a:lnTo>
                  <a:lnTo>
                    <a:pt x="1566" y="62"/>
                  </a:lnTo>
                  <a:lnTo>
                    <a:pt x="1579" y="31"/>
                  </a:lnTo>
                  <a:lnTo>
                    <a:pt x="1566" y="62"/>
                  </a:lnTo>
                  <a:lnTo>
                    <a:pt x="1579" y="49"/>
                  </a:lnTo>
                  <a:lnTo>
                    <a:pt x="1579" y="3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6615720" y="2514600"/>
              <a:ext cx="3960" cy="465120"/>
            </a:xfrm>
            <a:custGeom>
              <a:avLst/>
              <a:gdLst/>
              <a:ahLst/>
              <a:rect l="l" t="t" r="r" b="b"/>
              <a:pathLst>
                <a:path w="91" h="9317">
                  <a:moveTo>
                    <a:pt x="15" y="75"/>
                  </a:moveTo>
                  <a:lnTo>
                    <a:pt x="2" y="106"/>
                  </a:lnTo>
                  <a:lnTo>
                    <a:pt x="0" y="9317"/>
                  </a:lnTo>
                  <a:lnTo>
                    <a:pt x="89" y="9317"/>
                  </a:lnTo>
                  <a:lnTo>
                    <a:pt x="91" y="106"/>
                  </a:lnTo>
                  <a:lnTo>
                    <a:pt x="15" y="75"/>
                  </a:lnTo>
                  <a:lnTo>
                    <a:pt x="91" y="106"/>
                  </a:lnTo>
                  <a:lnTo>
                    <a:pt x="91" y="0"/>
                  </a:lnTo>
                  <a:lnTo>
                    <a:pt x="15" y="7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6540480" y="2517120"/>
              <a:ext cx="79200" cy="79560"/>
            </a:xfrm>
            <a:custGeom>
              <a:avLst/>
              <a:gdLst/>
              <a:ahLst/>
              <a:rect l="l" t="t" r="r" b="b"/>
              <a:pathLst>
                <a:path w="1582" h="1571">
                  <a:moveTo>
                    <a:pt x="0" y="1540"/>
                  </a:moveTo>
                  <a:lnTo>
                    <a:pt x="76" y="1571"/>
                  </a:lnTo>
                  <a:lnTo>
                    <a:pt x="1582" y="63"/>
                  </a:lnTo>
                  <a:lnTo>
                    <a:pt x="1519" y="0"/>
                  </a:lnTo>
                  <a:lnTo>
                    <a:pt x="13" y="1509"/>
                  </a:lnTo>
                  <a:lnTo>
                    <a:pt x="0" y="1540"/>
                  </a:lnTo>
                  <a:lnTo>
                    <a:pt x="13" y="1509"/>
                  </a:lnTo>
                  <a:lnTo>
                    <a:pt x="0" y="1522"/>
                  </a:lnTo>
                  <a:lnTo>
                    <a:pt x="0" y="154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6540480" y="2594160"/>
              <a:ext cx="3960" cy="464760"/>
            </a:xfrm>
            <a:custGeom>
              <a:avLst/>
              <a:gdLst/>
              <a:ahLst/>
              <a:rect l="l" t="t" r="r" b="b"/>
              <a:pathLst>
                <a:path w="90" h="9317">
                  <a:moveTo>
                    <a:pt x="77" y="9242"/>
                  </a:moveTo>
                  <a:lnTo>
                    <a:pt x="90" y="9211"/>
                  </a:lnTo>
                  <a:lnTo>
                    <a:pt x="89" y="0"/>
                  </a:lnTo>
                  <a:lnTo>
                    <a:pt x="0" y="0"/>
                  </a:lnTo>
                  <a:lnTo>
                    <a:pt x="1" y="9211"/>
                  </a:lnTo>
                  <a:lnTo>
                    <a:pt x="77" y="9242"/>
                  </a:lnTo>
                  <a:lnTo>
                    <a:pt x="1" y="9211"/>
                  </a:lnTo>
                  <a:lnTo>
                    <a:pt x="1" y="9317"/>
                  </a:lnTo>
                  <a:lnTo>
                    <a:pt x="77" y="924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6036840" y="2662560"/>
              <a:ext cx="88920" cy="113040"/>
            </a:xfrm>
            <a:custGeom>
              <a:avLst/>
              <a:gdLst/>
              <a:ahLst/>
              <a:rect l="l" t="t" r="r" b="b"/>
              <a:pathLst>
                <a:path w="1787" h="2275">
                  <a:moveTo>
                    <a:pt x="1787" y="1441"/>
                  </a:moveTo>
                  <a:lnTo>
                    <a:pt x="1786" y="1495"/>
                  </a:lnTo>
                  <a:lnTo>
                    <a:pt x="1783" y="1547"/>
                  </a:lnTo>
                  <a:lnTo>
                    <a:pt x="1778" y="1597"/>
                  </a:lnTo>
                  <a:lnTo>
                    <a:pt x="1771" y="1645"/>
                  </a:lnTo>
                  <a:lnTo>
                    <a:pt x="1762" y="1690"/>
                  </a:lnTo>
                  <a:lnTo>
                    <a:pt x="1751" y="1735"/>
                  </a:lnTo>
                  <a:lnTo>
                    <a:pt x="1739" y="1777"/>
                  </a:lnTo>
                  <a:lnTo>
                    <a:pt x="1724" y="1817"/>
                  </a:lnTo>
                  <a:lnTo>
                    <a:pt x="1708" y="1857"/>
                  </a:lnTo>
                  <a:lnTo>
                    <a:pt x="1689" y="1893"/>
                  </a:lnTo>
                  <a:lnTo>
                    <a:pt x="1668" y="1928"/>
                  </a:lnTo>
                  <a:lnTo>
                    <a:pt x="1647" y="1961"/>
                  </a:lnTo>
                  <a:lnTo>
                    <a:pt x="1623" y="1993"/>
                  </a:lnTo>
                  <a:lnTo>
                    <a:pt x="1598" y="2023"/>
                  </a:lnTo>
                  <a:lnTo>
                    <a:pt x="1571" y="2051"/>
                  </a:lnTo>
                  <a:lnTo>
                    <a:pt x="1541" y="2077"/>
                  </a:lnTo>
                  <a:lnTo>
                    <a:pt x="1511" y="2102"/>
                  </a:lnTo>
                  <a:lnTo>
                    <a:pt x="1479" y="2125"/>
                  </a:lnTo>
                  <a:lnTo>
                    <a:pt x="1446" y="2146"/>
                  </a:lnTo>
                  <a:lnTo>
                    <a:pt x="1410" y="2165"/>
                  </a:lnTo>
                  <a:lnTo>
                    <a:pt x="1374" y="2183"/>
                  </a:lnTo>
                  <a:lnTo>
                    <a:pt x="1336" y="2199"/>
                  </a:lnTo>
                  <a:lnTo>
                    <a:pt x="1296" y="2213"/>
                  </a:lnTo>
                  <a:lnTo>
                    <a:pt x="1255" y="2226"/>
                  </a:lnTo>
                  <a:lnTo>
                    <a:pt x="1213" y="2239"/>
                  </a:lnTo>
                  <a:lnTo>
                    <a:pt x="1168" y="2248"/>
                  </a:lnTo>
                  <a:lnTo>
                    <a:pt x="1123" y="2257"/>
                  </a:lnTo>
                  <a:lnTo>
                    <a:pt x="1077" y="2263"/>
                  </a:lnTo>
                  <a:lnTo>
                    <a:pt x="1028" y="2268"/>
                  </a:lnTo>
                  <a:lnTo>
                    <a:pt x="979" y="2272"/>
                  </a:lnTo>
                  <a:lnTo>
                    <a:pt x="928" y="2274"/>
                  </a:lnTo>
                  <a:lnTo>
                    <a:pt x="877" y="2275"/>
                  </a:lnTo>
                  <a:lnTo>
                    <a:pt x="838" y="2274"/>
                  </a:lnTo>
                  <a:lnTo>
                    <a:pt x="796" y="2272"/>
                  </a:lnTo>
                  <a:lnTo>
                    <a:pt x="753" y="2269"/>
                  </a:lnTo>
                  <a:lnTo>
                    <a:pt x="709" y="2264"/>
                  </a:lnTo>
                  <a:lnTo>
                    <a:pt x="663" y="2257"/>
                  </a:lnTo>
                  <a:lnTo>
                    <a:pt x="617" y="2248"/>
                  </a:lnTo>
                  <a:lnTo>
                    <a:pt x="593" y="2243"/>
                  </a:lnTo>
                  <a:lnTo>
                    <a:pt x="570" y="2237"/>
                  </a:lnTo>
                  <a:lnTo>
                    <a:pt x="546" y="2229"/>
                  </a:lnTo>
                  <a:lnTo>
                    <a:pt x="522" y="2222"/>
                  </a:lnTo>
                  <a:lnTo>
                    <a:pt x="499" y="2215"/>
                  </a:lnTo>
                  <a:lnTo>
                    <a:pt x="475" y="2206"/>
                  </a:lnTo>
                  <a:lnTo>
                    <a:pt x="452" y="2197"/>
                  </a:lnTo>
                  <a:lnTo>
                    <a:pt x="429" y="2187"/>
                  </a:lnTo>
                  <a:lnTo>
                    <a:pt x="405" y="2177"/>
                  </a:lnTo>
                  <a:lnTo>
                    <a:pt x="382" y="2166"/>
                  </a:lnTo>
                  <a:lnTo>
                    <a:pt x="360" y="2154"/>
                  </a:lnTo>
                  <a:lnTo>
                    <a:pt x="338" y="2141"/>
                  </a:lnTo>
                  <a:lnTo>
                    <a:pt x="316" y="2127"/>
                  </a:lnTo>
                  <a:lnTo>
                    <a:pt x="293" y="2113"/>
                  </a:lnTo>
                  <a:lnTo>
                    <a:pt x="272" y="2097"/>
                  </a:lnTo>
                  <a:lnTo>
                    <a:pt x="251" y="2080"/>
                  </a:lnTo>
                  <a:lnTo>
                    <a:pt x="231" y="2063"/>
                  </a:lnTo>
                  <a:lnTo>
                    <a:pt x="211" y="2045"/>
                  </a:lnTo>
                  <a:lnTo>
                    <a:pt x="192" y="2026"/>
                  </a:lnTo>
                  <a:lnTo>
                    <a:pt x="172" y="2006"/>
                  </a:lnTo>
                  <a:lnTo>
                    <a:pt x="151" y="1981"/>
                  </a:lnTo>
                  <a:lnTo>
                    <a:pt x="131" y="1953"/>
                  </a:lnTo>
                  <a:lnTo>
                    <a:pt x="113" y="1925"/>
                  </a:lnTo>
                  <a:lnTo>
                    <a:pt x="96" y="1896"/>
                  </a:lnTo>
                  <a:lnTo>
                    <a:pt x="81" y="1867"/>
                  </a:lnTo>
                  <a:lnTo>
                    <a:pt x="67" y="1835"/>
                  </a:lnTo>
                  <a:lnTo>
                    <a:pt x="55" y="1803"/>
                  </a:lnTo>
                  <a:lnTo>
                    <a:pt x="43" y="1770"/>
                  </a:lnTo>
                  <a:lnTo>
                    <a:pt x="34" y="1736"/>
                  </a:lnTo>
                  <a:lnTo>
                    <a:pt x="25" y="1701"/>
                  </a:lnTo>
                  <a:lnTo>
                    <a:pt x="18" y="1665"/>
                  </a:lnTo>
                  <a:lnTo>
                    <a:pt x="12" y="1628"/>
                  </a:lnTo>
                  <a:lnTo>
                    <a:pt x="8" y="1590"/>
                  </a:lnTo>
                  <a:lnTo>
                    <a:pt x="4" y="1550"/>
                  </a:lnTo>
                  <a:lnTo>
                    <a:pt x="1" y="1510"/>
                  </a:lnTo>
                  <a:lnTo>
                    <a:pt x="0" y="1470"/>
                  </a:lnTo>
                  <a:lnTo>
                    <a:pt x="0" y="0"/>
                  </a:lnTo>
                  <a:lnTo>
                    <a:pt x="472" y="0"/>
                  </a:lnTo>
                  <a:lnTo>
                    <a:pt x="472" y="1438"/>
                  </a:lnTo>
                  <a:lnTo>
                    <a:pt x="473" y="1467"/>
                  </a:lnTo>
                  <a:lnTo>
                    <a:pt x="475" y="1494"/>
                  </a:lnTo>
                  <a:lnTo>
                    <a:pt x="477" y="1521"/>
                  </a:lnTo>
                  <a:lnTo>
                    <a:pt x="481" y="1546"/>
                  </a:lnTo>
                  <a:lnTo>
                    <a:pt x="485" y="1570"/>
                  </a:lnTo>
                  <a:lnTo>
                    <a:pt x="490" y="1594"/>
                  </a:lnTo>
                  <a:lnTo>
                    <a:pt x="496" y="1617"/>
                  </a:lnTo>
                  <a:lnTo>
                    <a:pt x="504" y="1638"/>
                  </a:lnTo>
                  <a:lnTo>
                    <a:pt x="511" y="1658"/>
                  </a:lnTo>
                  <a:lnTo>
                    <a:pt x="520" y="1678"/>
                  </a:lnTo>
                  <a:lnTo>
                    <a:pt x="530" y="1696"/>
                  </a:lnTo>
                  <a:lnTo>
                    <a:pt x="540" y="1715"/>
                  </a:lnTo>
                  <a:lnTo>
                    <a:pt x="551" y="1732"/>
                  </a:lnTo>
                  <a:lnTo>
                    <a:pt x="564" y="1748"/>
                  </a:lnTo>
                  <a:lnTo>
                    <a:pt x="576" y="1762"/>
                  </a:lnTo>
                  <a:lnTo>
                    <a:pt x="589" y="1776"/>
                  </a:lnTo>
                  <a:lnTo>
                    <a:pt x="603" y="1789"/>
                  </a:lnTo>
                  <a:lnTo>
                    <a:pt x="617" y="1802"/>
                  </a:lnTo>
                  <a:lnTo>
                    <a:pt x="632" y="1813"/>
                  </a:lnTo>
                  <a:lnTo>
                    <a:pt x="647" y="1823"/>
                  </a:lnTo>
                  <a:lnTo>
                    <a:pt x="663" y="1833"/>
                  </a:lnTo>
                  <a:lnTo>
                    <a:pt x="681" y="1842"/>
                  </a:lnTo>
                  <a:lnTo>
                    <a:pt x="697" y="1850"/>
                  </a:lnTo>
                  <a:lnTo>
                    <a:pt x="715" y="1857"/>
                  </a:lnTo>
                  <a:lnTo>
                    <a:pt x="733" y="1863"/>
                  </a:lnTo>
                  <a:lnTo>
                    <a:pt x="751" y="1869"/>
                  </a:lnTo>
                  <a:lnTo>
                    <a:pt x="769" y="1873"/>
                  </a:lnTo>
                  <a:lnTo>
                    <a:pt x="788" y="1877"/>
                  </a:lnTo>
                  <a:lnTo>
                    <a:pt x="808" y="1879"/>
                  </a:lnTo>
                  <a:lnTo>
                    <a:pt x="828" y="1881"/>
                  </a:lnTo>
                  <a:lnTo>
                    <a:pt x="848" y="1883"/>
                  </a:lnTo>
                  <a:lnTo>
                    <a:pt x="868" y="1883"/>
                  </a:lnTo>
                  <a:lnTo>
                    <a:pt x="897" y="1883"/>
                  </a:lnTo>
                  <a:lnTo>
                    <a:pt x="924" y="1881"/>
                  </a:lnTo>
                  <a:lnTo>
                    <a:pt x="952" y="1879"/>
                  </a:lnTo>
                  <a:lnTo>
                    <a:pt x="978" y="1876"/>
                  </a:lnTo>
                  <a:lnTo>
                    <a:pt x="1003" y="1872"/>
                  </a:lnTo>
                  <a:lnTo>
                    <a:pt x="1027" y="1867"/>
                  </a:lnTo>
                  <a:lnTo>
                    <a:pt x="1049" y="1861"/>
                  </a:lnTo>
                  <a:lnTo>
                    <a:pt x="1072" y="1855"/>
                  </a:lnTo>
                  <a:lnTo>
                    <a:pt x="1093" y="1848"/>
                  </a:lnTo>
                  <a:lnTo>
                    <a:pt x="1112" y="1838"/>
                  </a:lnTo>
                  <a:lnTo>
                    <a:pt x="1131" y="1829"/>
                  </a:lnTo>
                  <a:lnTo>
                    <a:pt x="1149" y="1819"/>
                  </a:lnTo>
                  <a:lnTo>
                    <a:pt x="1165" y="1809"/>
                  </a:lnTo>
                  <a:lnTo>
                    <a:pt x="1181" y="1797"/>
                  </a:lnTo>
                  <a:lnTo>
                    <a:pt x="1197" y="1785"/>
                  </a:lnTo>
                  <a:lnTo>
                    <a:pt x="1211" y="1772"/>
                  </a:lnTo>
                  <a:lnTo>
                    <a:pt x="1224" y="1758"/>
                  </a:lnTo>
                  <a:lnTo>
                    <a:pt x="1236" y="1744"/>
                  </a:lnTo>
                  <a:lnTo>
                    <a:pt x="1247" y="1728"/>
                  </a:lnTo>
                  <a:lnTo>
                    <a:pt x="1257" y="1712"/>
                  </a:lnTo>
                  <a:lnTo>
                    <a:pt x="1267" y="1694"/>
                  </a:lnTo>
                  <a:lnTo>
                    <a:pt x="1275" y="1677"/>
                  </a:lnTo>
                  <a:lnTo>
                    <a:pt x="1283" y="1658"/>
                  </a:lnTo>
                  <a:lnTo>
                    <a:pt x="1290" y="1639"/>
                  </a:lnTo>
                  <a:lnTo>
                    <a:pt x="1296" y="1620"/>
                  </a:lnTo>
                  <a:lnTo>
                    <a:pt x="1301" y="1599"/>
                  </a:lnTo>
                  <a:lnTo>
                    <a:pt x="1305" y="1577"/>
                  </a:lnTo>
                  <a:lnTo>
                    <a:pt x="1308" y="1555"/>
                  </a:lnTo>
                  <a:lnTo>
                    <a:pt x="1312" y="1532"/>
                  </a:lnTo>
                  <a:lnTo>
                    <a:pt x="1314" y="1509"/>
                  </a:lnTo>
                  <a:lnTo>
                    <a:pt x="1315" y="1485"/>
                  </a:lnTo>
                  <a:lnTo>
                    <a:pt x="1316" y="1460"/>
                  </a:lnTo>
                  <a:lnTo>
                    <a:pt x="1316" y="0"/>
                  </a:lnTo>
                  <a:lnTo>
                    <a:pt x="1787" y="0"/>
                  </a:lnTo>
                  <a:lnTo>
                    <a:pt x="1787" y="14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6148440" y="2662560"/>
              <a:ext cx="84960" cy="110160"/>
            </a:xfrm>
            <a:custGeom>
              <a:avLst/>
              <a:gdLst/>
              <a:ahLst/>
              <a:rect l="l" t="t" r="r" b="b"/>
              <a:pathLst>
                <a:path w="1700" h="2216">
                  <a:moveTo>
                    <a:pt x="463" y="2216"/>
                  </a:moveTo>
                  <a:lnTo>
                    <a:pt x="0" y="2216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052" y="0"/>
                  </a:lnTo>
                  <a:lnTo>
                    <a:pt x="1091" y="3"/>
                  </a:lnTo>
                  <a:lnTo>
                    <a:pt x="1128" y="7"/>
                  </a:lnTo>
                  <a:lnTo>
                    <a:pt x="1165" y="12"/>
                  </a:lnTo>
                  <a:lnTo>
                    <a:pt x="1200" y="20"/>
                  </a:lnTo>
                  <a:lnTo>
                    <a:pt x="1235" y="29"/>
                  </a:lnTo>
                  <a:lnTo>
                    <a:pt x="1268" y="39"/>
                  </a:lnTo>
                  <a:lnTo>
                    <a:pt x="1300" y="50"/>
                  </a:lnTo>
                  <a:lnTo>
                    <a:pt x="1331" y="63"/>
                  </a:lnTo>
                  <a:lnTo>
                    <a:pt x="1362" y="77"/>
                  </a:lnTo>
                  <a:lnTo>
                    <a:pt x="1391" y="93"/>
                  </a:lnTo>
                  <a:lnTo>
                    <a:pt x="1418" y="110"/>
                  </a:lnTo>
                  <a:lnTo>
                    <a:pt x="1445" y="128"/>
                  </a:lnTo>
                  <a:lnTo>
                    <a:pt x="1471" y="149"/>
                  </a:lnTo>
                  <a:lnTo>
                    <a:pt x="1495" y="170"/>
                  </a:lnTo>
                  <a:lnTo>
                    <a:pt x="1517" y="192"/>
                  </a:lnTo>
                  <a:lnTo>
                    <a:pt x="1539" y="215"/>
                  </a:lnTo>
                  <a:lnTo>
                    <a:pt x="1559" y="240"/>
                  </a:lnTo>
                  <a:lnTo>
                    <a:pt x="1578" y="266"/>
                  </a:lnTo>
                  <a:lnTo>
                    <a:pt x="1596" y="294"/>
                  </a:lnTo>
                  <a:lnTo>
                    <a:pt x="1613" y="323"/>
                  </a:lnTo>
                  <a:lnTo>
                    <a:pt x="1627" y="352"/>
                  </a:lnTo>
                  <a:lnTo>
                    <a:pt x="1641" y="383"/>
                  </a:lnTo>
                  <a:lnTo>
                    <a:pt x="1653" y="416"/>
                  </a:lnTo>
                  <a:lnTo>
                    <a:pt x="1664" y="449"/>
                  </a:lnTo>
                  <a:lnTo>
                    <a:pt x="1674" y="483"/>
                  </a:lnTo>
                  <a:lnTo>
                    <a:pt x="1682" y="518"/>
                  </a:lnTo>
                  <a:lnTo>
                    <a:pt x="1688" y="555"/>
                  </a:lnTo>
                  <a:lnTo>
                    <a:pt x="1693" y="592"/>
                  </a:lnTo>
                  <a:lnTo>
                    <a:pt x="1697" y="630"/>
                  </a:lnTo>
                  <a:lnTo>
                    <a:pt x="1699" y="670"/>
                  </a:lnTo>
                  <a:lnTo>
                    <a:pt x="1700" y="710"/>
                  </a:lnTo>
                  <a:lnTo>
                    <a:pt x="1700" y="730"/>
                  </a:lnTo>
                  <a:lnTo>
                    <a:pt x="1699" y="751"/>
                  </a:lnTo>
                  <a:lnTo>
                    <a:pt x="1697" y="773"/>
                  </a:lnTo>
                  <a:lnTo>
                    <a:pt x="1694" y="798"/>
                  </a:lnTo>
                  <a:lnTo>
                    <a:pt x="1691" y="824"/>
                  </a:lnTo>
                  <a:lnTo>
                    <a:pt x="1686" y="850"/>
                  </a:lnTo>
                  <a:lnTo>
                    <a:pt x="1680" y="877"/>
                  </a:lnTo>
                  <a:lnTo>
                    <a:pt x="1674" y="905"/>
                  </a:lnTo>
                  <a:lnTo>
                    <a:pt x="1666" y="934"/>
                  </a:lnTo>
                  <a:lnTo>
                    <a:pt x="1656" y="963"/>
                  </a:lnTo>
                  <a:lnTo>
                    <a:pt x="1646" y="992"/>
                  </a:lnTo>
                  <a:lnTo>
                    <a:pt x="1634" y="1022"/>
                  </a:lnTo>
                  <a:lnTo>
                    <a:pt x="1621" y="1051"/>
                  </a:lnTo>
                  <a:lnTo>
                    <a:pt x="1606" y="1081"/>
                  </a:lnTo>
                  <a:lnTo>
                    <a:pt x="1589" y="1110"/>
                  </a:lnTo>
                  <a:lnTo>
                    <a:pt x="1570" y="1138"/>
                  </a:lnTo>
                  <a:lnTo>
                    <a:pt x="1550" y="1166"/>
                  </a:lnTo>
                  <a:lnTo>
                    <a:pt x="1529" y="1195"/>
                  </a:lnTo>
                  <a:lnTo>
                    <a:pt x="1505" y="1221"/>
                  </a:lnTo>
                  <a:lnTo>
                    <a:pt x="1479" y="1246"/>
                  </a:lnTo>
                  <a:lnTo>
                    <a:pt x="1451" y="1270"/>
                  </a:lnTo>
                  <a:lnTo>
                    <a:pt x="1421" y="1293"/>
                  </a:lnTo>
                  <a:lnTo>
                    <a:pt x="1390" y="1314"/>
                  </a:lnTo>
                  <a:lnTo>
                    <a:pt x="1356" y="1335"/>
                  </a:lnTo>
                  <a:lnTo>
                    <a:pt x="1318" y="1353"/>
                  </a:lnTo>
                  <a:lnTo>
                    <a:pt x="1280" y="1369"/>
                  </a:lnTo>
                  <a:lnTo>
                    <a:pt x="1239" y="1383"/>
                  </a:lnTo>
                  <a:lnTo>
                    <a:pt x="1195" y="1395"/>
                  </a:lnTo>
                  <a:lnTo>
                    <a:pt x="1149" y="1404"/>
                  </a:lnTo>
                  <a:lnTo>
                    <a:pt x="1100" y="1411"/>
                  </a:lnTo>
                  <a:lnTo>
                    <a:pt x="1048" y="1415"/>
                  </a:lnTo>
                  <a:lnTo>
                    <a:pt x="994" y="1416"/>
                  </a:lnTo>
                  <a:lnTo>
                    <a:pt x="463" y="1416"/>
                  </a:lnTo>
                  <a:lnTo>
                    <a:pt x="463" y="2216"/>
                  </a:lnTo>
                  <a:close/>
                  <a:moveTo>
                    <a:pt x="892" y="1034"/>
                  </a:moveTo>
                  <a:lnTo>
                    <a:pt x="923" y="1033"/>
                  </a:lnTo>
                  <a:lnTo>
                    <a:pt x="952" y="1031"/>
                  </a:lnTo>
                  <a:lnTo>
                    <a:pt x="980" y="1028"/>
                  </a:lnTo>
                  <a:lnTo>
                    <a:pt x="1006" y="1023"/>
                  </a:lnTo>
                  <a:lnTo>
                    <a:pt x="1030" y="1017"/>
                  </a:lnTo>
                  <a:lnTo>
                    <a:pt x="1052" y="1010"/>
                  </a:lnTo>
                  <a:lnTo>
                    <a:pt x="1072" y="1003"/>
                  </a:lnTo>
                  <a:lnTo>
                    <a:pt x="1092" y="994"/>
                  </a:lnTo>
                  <a:lnTo>
                    <a:pt x="1109" y="984"/>
                  </a:lnTo>
                  <a:lnTo>
                    <a:pt x="1125" y="974"/>
                  </a:lnTo>
                  <a:lnTo>
                    <a:pt x="1140" y="963"/>
                  </a:lnTo>
                  <a:lnTo>
                    <a:pt x="1153" y="951"/>
                  </a:lnTo>
                  <a:lnTo>
                    <a:pt x="1165" y="939"/>
                  </a:lnTo>
                  <a:lnTo>
                    <a:pt x="1176" y="925"/>
                  </a:lnTo>
                  <a:lnTo>
                    <a:pt x="1185" y="912"/>
                  </a:lnTo>
                  <a:lnTo>
                    <a:pt x="1194" y="898"/>
                  </a:lnTo>
                  <a:lnTo>
                    <a:pt x="1201" y="884"/>
                  </a:lnTo>
                  <a:lnTo>
                    <a:pt x="1208" y="870"/>
                  </a:lnTo>
                  <a:lnTo>
                    <a:pt x="1215" y="856"/>
                  </a:lnTo>
                  <a:lnTo>
                    <a:pt x="1220" y="841"/>
                  </a:lnTo>
                  <a:lnTo>
                    <a:pt x="1224" y="827"/>
                  </a:lnTo>
                  <a:lnTo>
                    <a:pt x="1227" y="813"/>
                  </a:lnTo>
                  <a:lnTo>
                    <a:pt x="1230" y="799"/>
                  </a:lnTo>
                  <a:lnTo>
                    <a:pt x="1232" y="784"/>
                  </a:lnTo>
                  <a:lnTo>
                    <a:pt x="1235" y="757"/>
                  </a:lnTo>
                  <a:lnTo>
                    <a:pt x="1237" y="732"/>
                  </a:lnTo>
                  <a:lnTo>
                    <a:pt x="1238" y="709"/>
                  </a:lnTo>
                  <a:lnTo>
                    <a:pt x="1238" y="689"/>
                  </a:lnTo>
                  <a:lnTo>
                    <a:pt x="1237" y="669"/>
                  </a:lnTo>
                  <a:lnTo>
                    <a:pt x="1236" y="649"/>
                  </a:lnTo>
                  <a:lnTo>
                    <a:pt x="1234" y="631"/>
                  </a:lnTo>
                  <a:lnTo>
                    <a:pt x="1232" y="613"/>
                  </a:lnTo>
                  <a:lnTo>
                    <a:pt x="1229" y="596"/>
                  </a:lnTo>
                  <a:lnTo>
                    <a:pt x="1225" y="580"/>
                  </a:lnTo>
                  <a:lnTo>
                    <a:pt x="1220" y="565"/>
                  </a:lnTo>
                  <a:lnTo>
                    <a:pt x="1215" y="550"/>
                  </a:lnTo>
                  <a:lnTo>
                    <a:pt x="1207" y="535"/>
                  </a:lnTo>
                  <a:lnTo>
                    <a:pt x="1200" y="521"/>
                  </a:lnTo>
                  <a:lnTo>
                    <a:pt x="1192" y="509"/>
                  </a:lnTo>
                  <a:lnTo>
                    <a:pt x="1184" y="497"/>
                  </a:lnTo>
                  <a:lnTo>
                    <a:pt x="1174" y="485"/>
                  </a:lnTo>
                  <a:lnTo>
                    <a:pt x="1164" y="474"/>
                  </a:lnTo>
                  <a:lnTo>
                    <a:pt x="1153" y="464"/>
                  </a:lnTo>
                  <a:lnTo>
                    <a:pt x="1141" y="455"/>
                  </a:lnTo>
                  <a:lnTo>
                    <a:pt x="1129" y="446"/>
                  </a:lnTo>
                  <a:lnTo>
                    <a:pt x="1115" y="438"/>
                  </a:lnTo>
                  <a:lnTo>
                    <a:pt x="1101" y="430"/>
                  </a:lnTo>
                  <a:lnTo>
                    <a:pt x="1086" y="423"/>
                  </a:lnTo>
                  <a:lnTo>
                    <a:pt x="1068" y="416"/>
                  </a:lnTo>
                  <a:lnTo>
                    <a:pt x="1051" y="411"/>
                  </a:lnTo>
                  <a:lnTo>
                    <a:pt x="1034" y="404"/>
                  </a:lnTo>
                  <a:lnTo>
                    <a:pt x="1015" y="400"/>
                  </a:lnTo>
                  <a:lnTo>
                    <a:pt x="995" y="396"/>
                  </a:lnTo>
                  <a:lnTo>
                    <a:pt x="974" y="392"/>
                  </a:lnTo>
                  <a:lnTo>
                    <a:pt x="952" y="389"/>
                  </a:lnTo>
                  <a:lnTo>
                    <a:pt x="930" y="387"/>
                  </a:lnTo>
                  <a:lnTo>
                    <a:pt x="906" y="385"/>
                  </a:lnTo>
                  <a:lnTo>
                    <a:pt x="882" y="383"/>
                  </a:lnTo>
                  <a:lnTo>
                    <a:pt x="857" y="383"/>
                  </a:lnTo>
                  <a:lnTo>
                    <a:pt x="829" y="382"/>
                  </a:lnTo>
                  <a:lnTo>
                    <a:pt x="463" y="382"/>
                  </a:lnTo>
                  <a:lnTo>
                    <a:pt x="463" y="1034"/>
                  </a:lnTo>
                  <a:lnTo>
                    <a:pt x="892" y="10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244560" y="2659680"/>
              <a:ext cx="91800" cy="115560"/>
            </a:xfrm>
            <a:custGeom>
              <a:avLst/>
              <a:gdLst/>
              <a:ahLst/>
              <a:rect l="l" t="t" r="r" b="b"/>
              <a:pathLst>
                <a:path w="1822" h="2334">
                  <a:moveTo>
                    <a:pt x="445" y="1593"/>
                  </a:moveTo>
                  <a:lnTo>
                    <a:pt x="446" y="1617"/>
                  </a:lnTo>
                  <a:lnTo>
                    <a:pt x="450" y="1644"/>
                  </a:lnTo>
                  <a:lnTo>
                    <a:pt x="452" y="1658"/>
                  </a:lnTo>
                  <a:lnTo>
                    <a:pt x="455" y="1672"/>
                  </a:lnTo>
                  <a:lnTo>
                    <a:pt x="458" y="1687"/>
                  </a:lnTo>
                  <a:lnTo>
                    <a:pt x="463" y="1701"/>
                  </a:lnTo>
                  <a:lnTo>
                    <a:pt x="468" y="1716"/>
                  </a:lnTo>
                  <a:lnTo>
                    <a:pt x="474" y="1731"/>
                  </a:lnTo>
                  <a:lnTo>
                    <a:pt x="480" y="1745"/>
                  </a:lnTo>
                  <a:lnTo>
                    <a:pt x="488" y="1760"/>
                  </a:lnTo>
                  <a:lnTo>
                    <a:pt x="497" y="1776"/>
                  </a:lnTo>
                  <a:lnTo>
                    <a:pt x="506" y="1790"/>
                  </a:lnTo>
                  <a:lnTo>
                    <a:pt x="517" y="1805"/>
                  </a:lnTo>
                  <a:lnTo>
                    <a:pt x="530" y="1818"/>
                  </a:lnTo>
                  <a:lnTo>
                    <a:pt x="543" y="1832"/>
                  </a:lnTo>
                  <a:lnTo>
                    <a:pt x="557" y="1845"/>
                  </a:lnTo>
                  <a:lnTo>
                    <a:pt x="572" y="1858"/>
                  </a:lnTo>
                  <a:lnTo>
                    <a:pt x="589" y="1870"/>
                  </a:lnTo>
                  <a:lnTo>
                    <a:pt x="607" y="1882"/>
                  </a:lnTo>
                  <a:lnTo>
                    <a:pt x="627" y="1892"/>
                  </a:lnTo>
                  <a:lnTo>
                    <a:pt x="648" y="1904"/>
                  </a:lnTo>
                  <a:lnTo>
                    <a:pt x="671" y="1913"/>
                  </a:lnTo>
                  <a:lnTo>
                    <a:pt x="695" y="1921"/>
                  </a:lnTo>
                  <a:lnTo>
                    <a:pt x="721" y="1929"/>
                  </a:lnTo>
                  <a:lnTo>
                    <a:pt x="748" y="1935"/>
                  </a:lnTo>
                  <a:lnTo>
                    <a:pt x="779" y="1941"/>
                  </a:lnTo>
                  <a:lnTo>
                    <a:pt x="810" y="1945"/>
                  </a:lnTo>
                  <a:lnTo>
                    <a:pt x="842" y="1949"/>
                  </a:lnTo>
                  <a:lnTo>
                    <a:pt x="877" y="1951"/>
                  </a:lnTo>
                  <a:lnTo>
                    <a:pt x="915" y="1951"/>
                  </a:lnTo>
                  <a:lnTo>
                    <a:pt x="956" y="1951"/>
                  </a:lnTo>
                  <a:lnTo>
                    <a:pt x="997" y="1948"/>
                  </a:lnTo>
                  <a:lnTo>
                    <a:pt x="1039" y="1945"/>
                  </a:lnTo>
                  <a:lnTo>
                    <a:pt x="1079" y="1939"/>
                  </a:lnTo>
                  <a:lnTo>
                    <a:pt x="1099" y="1936"/>
                  </a:lnTo>
                  <a:lnTo>
                    <a:pt x="1119" y="1932"/>
                  </a:lnTo>
                  <a:lnTo>
                    <a:pt x="1138" y="1928"/>
                  </a:lnTo>
                  <a:lnTo>
                    <a:pt x="1158" y="1922"/>
                  </a:lnTo>
                  <a:lnTo>
                    <a:pt x="1176" y="1917"/>
                  </a:lnTo>
                  <a:lnTo>
                    <a:pt x="1194" y="1911"/>
                  </a:lnTo>
                  <a:lnTo>
                    <a:pt x="1211" y="1904"/>
                  </a:lnTo>
                  <a:lnTo>
                    <a:pt x="1228" y="1895"/>
                  </a:lnTo>
                  <a:lnTo>
                    <a:pt x="1244" y="1887"/>
                  </a:lnTo>
                  <a:lnTo>
                    <a:pt x="1260" y="1878"/>
                  </a:lnTo>
                  <a:lnTo>
                    <a:pt x="1274" y="1868"/>
                  </a:lnTo>
                  <a:lnTo>
                    <a:pt x="1289" y="1858"/>
                  </a:lnTo>
                  <a:lnTo>
                    <a:pt x="1302" y="1847"/>
                  </a:lnTo>
                  <a:lnTo>
                    <a:pt x="1314" y="1835"/>
                  </a:lnTo>
                  <a:lnTo>
                    <a:pt x="1326" y="1822"/>
                  </a:lnTo>
                  <a:lnTo>
                    <a:pt x="1336" y="1808"/>
                  </a:lnTo>
                  <a:lnTo>
                    <a:pt x="1345" y="1794"/>
                  </a:lnTo>
                  <a:lnTo>
                    <a:pt x="1353" y="1778"/>
                  </a:lnTo>
                  <a:lnTo>
                    <a:pt x="1360" y="1761"/>
                  </a:lnTo>
                  <a:lnTo>
                    <a:pt x="1366" y="1743"/>
                  </a:lnTo>
                  <a:lnTo>
                    <a:pt x="1371" y="1725"/>
                  </a:lnTo>
                  <a:lnTo>
                    <a:pt x="1374" y="1706"/>
                  </a:lnTo>
                  <a:lnTo>
                    <a:pt x="1377" y="1686"/>
                  </a:lnTo>
                  <a:lnTo>
                    <a:pt x="1377" y="1664"/>
                  </a:lnTo>
                  <a:lnTo>
                    <a:pt x="1377" y="1649"/>
                  </a:lnTo>
                  <a:lnTo>
                    <a:pt x="1375" y="1633"/>
                  </a:lnTo>
                  <a:lnTo>
                    <a:pt x="1373" y="1618"/>
                  </a:lnTo>
                  <a:lnTo>
                    <a:pt x="1370" y="1605"/>
                  </a:lnTo>
                  <a:lnTo>
                    <a:pt x="1365" y="1592"/>
                  </a:lnTo>
                  <a:lnTo>
                    <a:pt x="1360" y="1579"/>
                  </a:lnTo>
                  <a:lnTo>
                    <a:pt x="1354" y="1567"/>
                  </a:lnTo>
                  <a:lnTo>
                    <a:pt x="1348" y="1556"/>
                  </a:lnTo>
                  <a:lnTo>
                    <a:pt x="1340" y="1545"/>
                  </a:lnTo>
                  <a:lnTo>
                    <a:pt x="1332" y="1535"/>
                  </a:lnTo>
                  <a:lnTo>
                    <a:pt x="1322" y="1526"/>
                  </a:lnTo>
                  <a:lnTo>
                    <a:pt x="1313" y="1516"/>
                  </a:lnTo>
                  <a:lnTo>
                    <a:pt x="1302" y="1506"/>
                  </a:lnTo>
                  <a:lnTo>
                    <a:pt x="1290" y="1498"/>
                  </a:lnTo>
                  <a:lnTo>
                    <a:pt x="1277" y="1490"/>
                  </a:lnTo>
                  <a:lnTo>
                    <a:pt x="1264" y="1482"/>
                  </a:lnTo>
                  <a:lnTo>
                    <a:pt x="1251" y="1475"/>
                  </a:lnTo>
                  <a:lnTo>
                    <a:pt x="1237" y="1468"/>
                  </a:lnTo>
                  <a:lnTo>
                    <a:pt x="1222" y="1461"/>
                  </a:lnTo>
                  <a:lnTo>
                    <a:pt x="1206" y="1455"/>
                  </a:lnTo>
                  <a:lnTo>
                    <a:pt x="1173" y="1443"/>
                  </a:lnTo>
                  <a:lnTo>
                    <a:pt x="1137" y="1431"/>
                  </a:lnTo>
                  <a:lnTo>
                    <a:pt x="1100" y="1421"/>
                  </a:lnTo>
                  <a:lnTo>
                    <a:pt x="1061" y="1410"/>
                  </a:lnTo>
                  <a:lnTo>
                    <a:pt x="1019" y="1400"/>
                  </a:lnTo>
                  <a:lnTo>
                    <a:pt x="976" y="1390"/>
                  </a:lnTo>
                  <a:lnTo>
                    <a:pt x="738" y="1334"/>
                  </a:lnTo>
                  <a:lnTo>
                    <a:pt x="672" y="1318"/>
                  </a:lnTo>
                  <a:lnTo>
                    <a:pt x="605" y="1302"/>
                  </a:lnTo>
                  <a:lnTo>
                    <a:pt x="573" y="1294"/>
                  </a:lnTo>
                  <a:lnTo>
                    <a:pt x="541" y="1285"/>
                  </a:lnTo>
                  <a:lnTo>
                    <a:pt x="508" y="1276"/>
                  </a:lnTo>
                  <a:lnTo>
                    <a:pt x="477" y="1266"/>
                  </a:lnTo>
                  <a:lnTo>
                    <a:pt x="447" y="1256"/>
                  </a:lnTo>
                  <a:lnTo>
                    <a:pt x="417" y="1244"/>
                  </a:lnTo>
                  <a:lnTo>
                    <a:pt x="386" y="1232"/>
                  </a:lnTo>
                  <a:lnTo>
                    <a:pt x="358" y="1219"/>
                  </a:lnTo>
                  <a:lnTo>
                    <a:pt x="330" y="1206"/>
                  </a:lnTo>
                  <a:lnTo>
                    <a:pt x="304" y="1192"/>
                  </a:lnTo>
                  <a:lnTo>
                    <a:pt x="278" y="1176"/>
                  </a:lnTo>
                  <a:lnTo>
                    <a:pt x="252" y="1160"/>
                  </a:lnTo>
                  <a:lnTo>
                    <a:pt x="228" y="1142"/>
                  </a:lnTo>
                  <a:lnTo>
                    <a:pt x="205" y="1123"/>
                  </a:lnTo>
                  <a:lnTo>
                    <a:pt x="183" y="1102"/>
                  </a:lnTo>
                  <a:lnTo>
                    <a:pt x="163" y="1081"/>
                  </a:lnTo>
                  <a:lnTo>
                    <a:pt x="143" y="1058"/>
                  </a:lnTo>
                  <a:lnTo>
                    <a:pt x="125" y="1033"/>
                  </a:lnTo>
                  <a:lnTo>
                    <a:pt x="109" y="1007"/>
                  </a:lnTo>
                  <a:lnTo>
                    <a:pt x="94" y="978"/>
                  </a:lnTo>
                  <a:lnTo>
                    <a:pt x="81" y="948"/>
                  </a:lnTo>
                  <a:lnTo>
                    <a:pt x="69" y="917"/>
                  </a:lnTo>
                  <a:lnTo>
                    <a:pt x="59" y="883"/>
                  </a:lnTo>
                  <a:lnTo>
                    <a:pt x="50" y="847"/>
                  </a:lnTo>
                  <a:lnTo>
                    <a:pt x="44" y="809"/>
                  </a:lnTo>
                  <a:lnTo>
                    <a:pt x="39" y="769"/>
                  </a:lnTo>
                  <a:lnTo>
                    <a:pt x="36" y="728"/>
                  </a:lnTo>
                  <a:lnTo>
                    <a:pt x="35" y="682"/>
                  </a:lnTo>
                  <a:lnTo>
                    <a:pt x="35" y="659"/>
                  </a:lnTo>
                  <a:lnTo>
                    <a:pt x="36" y="634"/>
                  </a:lnTo>
                  <a:lnTo>
                    <a:pt x="39" y="609"/>
                  </a:lnTo>
                  <a:lnTo>
                    <a:pt x="42" y="582"/>
                  </a:lnTo>
                  <a:lnTo>
                    <a:pt x="46" y="555"/>
                  </a:lnTo>
                  <a:lnTo>
                    <a:pt x="52" y="528"/>
                  </a:lnTo>
                  <a:lnTo>
                    <a:pt x="58" y="500"/>
                  </a:lnTo>
                  <a:lnTo>
                    <a:pt x="67" y="472"/>
                  </a:lnTo>
                  <a:lnTo>
                    <a:pt x="76" y="443"/>
                  </a:lnTo>
                  <a:lnTo>
                    <a:pt x="87" y="415"/>
                  </a:lnTo>
                  <a:lnTo>
                    <a:pt x="100" y="387"/>
                  </a:lnTo>
                  <a:lnTo>
                    <a:pt x="114" y="358"/>
                  </a:lnTo>
                  <a:lnTo>
                    <a:pt x="130" y="330"/>
                  </a:lnTo>
                  <a:lnTo>
                    <a:pt x="149" y="302"/>
                  </a:lnTo>
                  <a:lnTo>
                    <a:pt x="169" y="275"/>
                  </a:lnTo>
                  <a:lnTo>
                    <a:pt x="191" y="249"/>
                  </a:lnTo>
                  <a:lnTo>
                    <a:pt x="215" y="223"/>
                  </a:lnTo>
                  <a:lnTo>
                    <a:pt x="241" y="198"/>
                  </a:lnTo>
                  <a:lnTo>
                    <a:pt x="269" y="174"/>
                  </a:lnTo>
                  <a:lnTo>
                    <a:pt x="301" y="151"/>
                  </a:lnTo>
                  <a:lnTo>
                    <a:pt x="334" y="129"/>
                  </a:lnTo>
                  <a:lnTo>
                    <a:pt x="370" y="109"/>
                  </a:lnTo>
                  <a:lnTo>
                    <a:pt x="409" y="90"/>
                  </a:lnTo>
                  <a:lnTo>
                    <a:pt x="450" y="72"/>
                  </a:lnTo>
                  <a:lnTo>
                    <a:pt x="494" y="56"/>
                  </a:lnTo>
                  <a:lnTo>
                    <a:pt x="541" y="42"/>
                  </a:lnTo>
                  <a:lnTo>
                    <a:pt x="591" y="30"/>
                  </a:lnTo>
                  <a:lnTo>
                    <a:pt x="643" y="19"/>
                  </a:lnTo>
                  <a:lnTo>
                    <a:pt x="699" y="11"/>
                  </a:lnTo>
                  <a:lnTo>
                    <a:pt x="758" y="5"/>
                  </a:lnTo>
                  <a:lnTo>
                    <a:pt x="821" y="2"/>
                  </a:lnTo>
                  <a:lnTo>
                    <a:pt x="886" y="0"/>
                  </a:lnTo>
                  <a:lnTo>
                    <a:pt x="949" y="2"/>
                  </a:lnTo>
                  <a:lnTo>
                    <a:pt x="1008" y="5"/>
                  </a:lnTo>
                  <a:lnTo>
                    <a:pt x="1065" y="12"/>
                  </a:lnTo>
                  <a:lnTo>
                    <a:pt x="1118" y="20"/>
                  </a:lnTo>
                  <a:lnTo>
                    <a:pt x="1170" y="30"/>
                  </a:lnTo>
                  <a:lnTo>
                    <a:pt x="1218" y="43"/>
                  </a:lnTo>
                  <a:lnTo>
                    <a:pt x="1264" y="57"/>
                  </a:lnTo>
                  <a:lnTo>
                    <a:pt x="1308" y="74"/>
                  </a:lnTo>
                  <a:lnTo>
                    <a:pt x="1349" y="92"/>
                  </a:lnTo>
                  <a:lnTo>
                    <a:pt x="1387" y="112"/>
                  </a:lnTo>
                  <a:lnTo>
                    <a:pt x="1424" y="133"/>
                  </a:lnTo>
                  <a:lnTo>
                    <a:pt x="1458" y="155"/>
                  </a:lnTo>
                  <a:lnTo>
                    <a:pt x="1489" y="179"/>
                  </a:lnTo>
                  <a:lnTo>
                    <a:pt x="1519" y="203"/>
                  </a:lnTo>
                  <a:lnTo>
                    <a:pt x="1547" y="230"/>
                  </a:lnTo>
                  <a:lnTo>
                    <a:pt x="1573" y="257"/>
                  </a:lnTo>
                  <a:lnTo>
                    <a:pt x="1596" y="284"/>
                  </a:lnTo>
                  <a:lnTo>
                    <a:pt x="1617" y="312"/>
                  </a:lnTo>
                  <a:lnTo>
                    <a:pt x="1637" y="342"/>
                  </a:lnTo>
                  <a:lnTo>
                    <a:pt x="1655" y="371"/>
                  </a:lnTo>
                  <a:lnTo>
                    <a:pt x="1672" y="400"/>
                  </a:lnTo>
                  <a:lnTo>
                    <a:pt x="1686" y="430"/>
                  </a:lnTo>
                  <a:lnTo>
                    <a:pt x="1699" y="460"/>
                  </a:lnTo>
                  <a:lnTo>
                    <a:pt x="1710" y="490"/>
                  </a:lnTo>
                  <a:lnTo>
                    <a:pt x="1720" y="520"/>
                  </a:lnTo>
                  <a:lnTo>
                    <a:pt x="1728" y="549"/>
                  </a:lnTo>
                  <a:lnTo>
                    <a:pt x="1735" y="579"/>
                  </a:lnTo>
                  <a:lnTo>
                    <a:pt x="1741" y="608"/>
                  </a:lnTo>
                  <a:lnTo>
                    <a:pt x="1745" y="636"/>
                  </a:lnTo>
                  <a:lnTo>
                    <a:pt x="1748" y="664"/>
                  </a:lnTo>
                  <a:lnTo>
                    <a:pt x="1750" y="690"/>
                  </a:lnTo>
                  <a:lnTo>
                    <a:pt x="1751" y="716"/>
                  </a:lnTo>
                  <a:lnTo>
                    <a:pt x="1307" y="716"/>
                  </a:lnTo>
                  <a:lnTo>
                    <a:pt x="1304" y="696"/>
                  </a:lnTo>
                  <a:lnTo>
                    <a:pt x="1300" y="674"/>
                  </a:lnTo>
                  <a:lnTo>
                    <a:pt x="1295" y="649"/>
                  </a:lnTo>
                  <a:lnTo>
                    <a:pt x="1288" y="623"/>
                  </a:lnTo>
                  <a:lnTo>
                    <a:pt x="1283" y="610"/>
                  </a:lnTo>
                  <a:lnTo>
                    <a:pt x="1277" y="595"/>
                  </a:lnTo>
                  <a:lnTo>
                    <a:pt x="1271" y="581"/>
                  </a:lnTo>
                  <a:lnTo>
                    <a:pt x="1264" y="567"/>
                  </a:lnTo>
                  <a:lnTo>
                    <a:pt x="1256" y="554"/>
                  </a:lnTo>
                  <a:lnTo>
                    <a:pt x="1247" y="540"/>
                  </a:lnTo>
                  <a:lnTo>
                    <a:pt x="1237" y="526"/>
                  </a:lnTo>
                  <a:lnTo>
                    <a:pt x="1226" y="513"/>
                  </a:lnTo>
                  <a:lnTo>
                    <a:pt x="1214" y="500"/>
                  </a:lnTo>
                  <a:lnTo>
                    <a:pt x="1201" y="487"/>
                  </a:lnTo>
                  <a:lnTo>
                    <a:pt x="1187" y="475"/>
                  </a:lnTo>
                  <a:lnTo>
                    <a:pt x="1171" y="462"/>
                  </a:lnTo>
                  <a:lnTo>
                    <a:pt x="1153" y="451"/>
                  </a:lnTo>
                  <a:lnTo>
                    <a:pt x="1134" y="440"/>
                  </a:lnTo>
                  <a:lnTo>
                    <a:pt x="1114" y="430"/>
                  </a:lnTo>
                  <a:lnTo>
                    <a:pt x="1092" y="421"/>
                  </a:lnTo>
                  <a:lnTo>
                    <a:pt x="1069" y="413"/>
                  </a:lnTo>
                  <a:lnTo>
                    <a:pt x="1044" y="405"/>
                  </a:lnTo>
                  <a:lnTo>
                    <a:pt x="1016" y="399"/>
                  </a:lnTo>
                  <a:lnTo>
                    <a:pt x="988" y="393"/>
                  </a:lnTo>
                  <a:lnTo>
                    <a:pt x="957" y="389"/>
                  </a:lnTo>
                  <a:lnTo>
                    <a:pt x="925" y="386"/>
                  </a:lnTo>
                  <a:lnTo>
                    <a:pt x="889" y="384"/>
                  </a:lnTo>
                  <a:lnTo>
                    <a:pt x="853" y="383"/>
                  </a:lnTo>
                  <a:lnTo>
                    <a:pt x="819" y="384"/>
                  </a:lnTo>
                  <a:lnTo>
                    <a:pt x="786" y="386"/>
                  </a:lnTo>
                  <a:lnTo>
                    <a:pt x="751" y="391"/>
                  </a:lnTo>
                  <a:lnTo>
                    <a:pt x="718" y="396"/>
                  </a:lnTo>
                  <a:lnTo>
                    <a:pt x="702" y="400"/>
                  </a:lnTo>
                  <a:lnTo>
                    <a:pt x="685" y="404"/>
                  </a:lnTo>
                  <a:lnTo>
                    <a:pt x="669" y="409"/>
                  </a:lnTo>
                  <a:lnTo>
                    <a:pt x="654" y="414"/>
                  </a:lnTo>
                  <a:lnTo>
                    <a:pt x="637" y="420"/>
                  </a:lnTo>
                  <a:lnTo>
                    <a:pt x="622" y="426"/>
                  </a:lnTo>
                  <a:lnTo>
                    <a:pt x="608" y="433"/>
                  </a:lnTo>
                  <a:lnTo>
                    <a:pt x="594" y="440"/>
                  </a:lnTo>
                  <a:lnTo>
                    <a:pt x="580" y="448"/>
                  </a:lnTo>
                  <a:lnTo>
                    <a:pt x="567" y="457"/>
                  </a:lnTo>
                  <a:lnTo>
                    <a:pt x="555" y="467"/>
                  </a:lnTo>
                  <a:lnTo>
                    <a:pt x="543" y="477"/>
                  </a:lnTo>
                  <a:lnTo>
                    <a:pt x="532" y="487"/>
                  </a:lnTo>
                  <a:lnTo>
                    <a:pt x="520" y="498"/>
                  </a:lnTo>
                  <a:lnTo>
                    <a:pt x="511" y="510"/>
                  </a:lnTo>
                  <a:lnTo>
                    <a:pt x="502" y="523"/>
                  </a:lnTo>
                  <a:lnTo>
                    <a:pt x="494" y="536"/>
                  </a:lnTo>
                  <a:lnTo>
                    <a:pt x="487" y="549"/>
                  </a:lnTo>
                  <a:lnTo>
                    <a:pt x="481" y="564"/>
                  </a:lnTo>
                  <a:lnTo>
                    <a:pt x="476" y="579"/>
                  </a:lnTo>
                  <a:lnTo>
                    <a:pt x="472" y="595"/>
                  </a:lnTo>
                  <a:lnTo>
                    <a:pt x="469" y="613"/>
                  </a:lnTo>
                  <a:lnTo>
                    <a:pt x="467" y="630"/>
                  </a:lnTo>
                  <a:lnTo>
                    <a:pt x="467" y="649"/>
                  </a:lnTo>
                  <a:lnTo>
                    <a:pt x="467" y="664"/>
                  </a:lnTo>
                  <a:lnTo>
                    <a:pt x="468" y="679"/>
                  </a:lnTo>
                  <a:lnTo>
                    <a:pt x="470" y="693"/>
                  </a:lnTo>
                  <a:lnTo>
                    <a:pt x="473" y="707"/>
                  </a:lnTo>
                  <a:lnTo>
                    <a:pt x="476" y="720"/>
                  </a:lnTo>
                  <a:lnTo>
                    <a:pt x="480" y="733"/>
                  </a:lnTo>
                  <a:lnTo>
                    <a:pt x="485" y="744"/>
                  </a:lnTo>
                  <a:lnTo>
                    <a:pt x="490" y="755"/>
                  </a:lnTo>
                  <a:lnTo>
                    <a:pt x="496" y="765"/>
                  </a:lnTo>
                  <a:lnTo>
                    <a:pt x="502" y="775"/>
                  </a:lnTo>
                  <a:lnTo>
                    <a:pt x="509" y="784"/>
                  </a:lnTo>
                  <a:lnTo>
                    <a:pt x="516" y="792"/>
                  </a:lnTo>
                  <a:lnTo>
                    <a:pt x="524" y="800"/>
                  </a:lnTo>
                  <a:lnTo>
                    <a:pt x="533" y="807"/>
                  </a:lnTo>
                  <a:lnTo>
                    <a:pt x="541" y="814"/>
                  </a:lnTo>
                  <a:lnTo>
                    <a:pt x="550" y="821"/>
                  </a:lnTo>
                  <a:lnTo>
                    <a:pt x="568" y="832"/>
                  </a:lnTo>
                  <a:lnTo>
                    <a:pt x="586" y="843"/>
                  </a:lnTo>
                  <a:lnTo>
                    <a:pt x="606" y="851"/>
                  </a:lnTo>
                  <a:lnTo>
                    <a:pt x="625" y="860"/>
                  </a:lnTo>
                  <a:lnTo>
                    <a:pt x="645" y="866"/>
                  </a:lnTo>
                  <a:lnTo>
                    <a:pt x="665" y="871"/>
                  </a:lnTo>
                  <a:lnTo>
                    <a:pt x="684" y="876"/>
                  </a:lnTo>
                  <a:lnTo>
                    <a:pt x="701" y="880"/>
                  </a:lnTo>
                  <a:lnTo>
                    <a:pt x="1241" y="1013"/>
                  </a:lnTo>
                  <a:lnTo>
                    <a:pt x="1298" y="1027"/>
                  </a:lnTo>
                  <a:lnTo>
                    <a:pt x="1353" y="1043"/>
                  </a:lnTo>
                  <a:lnTo>
                    <a:pt x="1380" y="1052"/>
                  </a:lnTo>
                  <a:lnTo>
                    <a:pt x="1407" y="1061"/>
                  </a:lnTo>
                  <a:lnTo>
                    <a:pt x="1434" y="1071"/>
                  </a:lnTo>
                  <a:lnTo>
                    <a:pt x="1460" y="1081"/>
                  </a:lnTo>
                  <a:lnTo>
                    <a:pt x="1485" y="1092"/>
                  </a:lnTo>
                  <a:lnTo>
                    <a:pt x="1510" y="1103"/>
                  </a:lnTo>
                  <a:lnTo>
                    <a:pt x="1535" y="1115"/>
                  </a:lnTo>
                  <a:lnTo>
                    <a:pt x="1559" y="1129"/>
                  </a:lnTo>
                  <a:lnTo>
                    <a:pt x="1581" y="1143"/>
                  </a:lnTo>
                  <a:lnTo>
                    <a:pt x="1603" y="1157"/>
                  </a:lnTo>
                  <a:lnTo>
                    <a:pt x="1624" y="1173"/>
                  </a:lnTo>
                  <a:lnTo>
                    <a:pt x="1645" y="1189"/>
                  </a:lnTo>
                  <a:lnTo>
                    <a:pt x="1665" y="1206"/>
                  </a:lnTo>
                  <a:lnTo>
                    <a:pt x="1684" y="1224"/>
                  </a:lnTo>
                  <a:lnTo>
                    <a:pt x="1702" y="1244"/>
                  </a:lnTo>
                  <a:lnTo>
                    <a:pt x="1718" y="1265"/>
                  </a:lnTo>
                  <a:lnTo>
                    <a:pt x="1734" y="1286"/>
                  </a:lnTo>
                  <a:lnTo>
                    <a:pt x="1748" y="1309"/>
                  </a:lnTo>
                  <a:lnTo>
                    <a:pt x="1761" y="1333"/>
                  </a:lnTo>
                  <a:lnTo>
                    <a:pt x="1773" y="1357"/>
                  </a:lnTo>
                  <a:lnTo>
                    <a:pt x="1784" y="1385"/>
                  </a:lnTo>
                  <a:lnTo>
                    <a:pt x="1795" y="1412"/>
                  </a:lnTo>
                  <a:lnTo>
                    <a:pt x="1803" y="1441"/>
                  </a:lnTo>
                  <a:lnTo>
                    <a:pt x="1810" y="1471"/>
                  </a:lnTo>
                  <a:lnTo>
                    <a:pt x="1815" y="1503"/>
                  </a:lnTo>
                  <a:lnTo>
                    <a:pt x="1819" y="1537"/>
                  </a:lnTo>
                  <a:lnTo>
                    <a:pt x="1821" y="1572"/>
                  </a:lnTo>
                  <a:lnTo>
                    <a:pt x="1822" y="1608"/>
                  </a:lnTo>
                  <a:lnTo>
                    <a:pt x="1820" y="1669"/>
                  </a:lnTo>
                  <a:lnTo>
                    <a:pt x="1815" y="1726"/>
                  </a:lnTo>
                  <a:lnTo>
                    <a:pt x="1805" y="1781"/>
                  </a:lnTo>
                  <a:lnTo>
                    <a:pt x="1793" y="1831"/>
                  </a:lnTo>
                  <a:lnTo>
                    <a:pt x="1776" y="1878"/>
                  </a:lnTo>
                  <a:lnTo>
                    <a:pt x="1758" y="1923"/>
                  </a:lnTo>
                  <a:lnTo>
                    <a:pt x="1737" y="1964"/>
                  </a:lnTo>
                  <a:lnTo>
                    <a:pt x="1713" y="2003"/>
                  </a:lnTo>
                  <a:lnTo>
                    <a:pt x="1687" y="2039"/>
                  </a:lnTo>
                  <a:lnTo>
                    <a:pt x="1658" y="2072"/>
                  </a:lnTo>
                  <a:lnTo>
                    <a:pt x="1628" y="2103"/>
                  </a:lnTo>
                  <a:lnTo>
                    <a:pt x="1597" y="2131"/>
                  </a:lnTo>
                  <a:lnTo>
                    <a:pt x="1564" y="2156"/>
                  </a:lnTo>
                  <a:lnTo>
                    <a:pt x="1529" y="2181"/>
                  </a:lnTo>
                  <a:lnTo>
                    <a:pt x="1494" y="2202"/>
                  </a:lnTo>
                  <a:lnTo>
                    <a:pt x="1458" y="2221"/>
                  </a:lnTo>
                  <a:lnTo>
                    <a:pt x="1422" y="2238"/>
                  </a:lnTo>
                  <a:lnTo>
                    <a:pt x="1384" y="2254"/>
                  </a:lnTo>
                  <a:lnTo>
                    <a:pt x="1347" y="2268"/>
                  </a:lnTo>
                  <a:lnTo>
                    <a:pt x="1310" y="2280"/>
                  </a:lnTo>
                  <a:lnTo>
                    <a:pt x="1273" y="2291"/>
                  </a:lnTo>
                  <a:lnTo>
                    <a:pt x="1237" y="2300"/>
                  </a:lnTo>
                  <a:lnTo>
                    <a:pt x="1202" y="2308"/>
                  </a:lnTo>
                  <a:lnTo>
                    <a:pt x="1167" y="2315"/>
                  </a:lnTo>
                  <a:lnTo>
                    <a:pt x="1133" y="2320"/>
                  </a:lnTo>
                  <a:lnTo>
                    <a:pt x="1101" y="2324"/>
                  </a:lnTo>
                  <a:lnTo>
                    <a:pt x="1071" y="2328"/>
                  </a:lnTo>
                  <a:lnTo>
                    <a:pt x="1042" y="2330"/>
                  </a:lnTo>
                  <a:lnTo>
                    <a:pt x="990" y="2333"/>
                  </a:lnTo>
                  <a:lnTo>
                    <a:pt x="948" y="2334"/>
                  </a:lnTo>
                  <a:lnTo>
                    <a:pt x="874" y="2333"/>
                  </a:lnTo>
                  <a:lnTo>
                    <a:pt x="805" y="2329"/>
                  </a:lnTo>
                  <a:lnTo>
                    <a:pt x="738" y="2322"/>
                  </a:lnTo>
                  <a:lnTo>
                    <a:pt x="676" y="2314"/>
                  </a:lnTo>
                  <a:lnTo>
                    <a:pt x="616" y="2303"/>
                  </a:lnTo>
                  <a:lnTo>
                    <a:pt x="561" y="2290"/>
                  </a:lnTo>
                  <a:lnTo>
                    <a:pt x="508" y="2273"/>
                  </a:lnTo>
                  <a:lnTo>
                    <a:pt x="459" y="2256"/>
                  </a:lnTo>
                  <a:lnTo>
                    <a:pt x="413" y="2238"/>
                  </a:lnTo>
                  <a:lnTo>
                    <a:pt x="370" y="2217"/>
                  </a:lnTo>
                  <a:lnTo>
                    <a:pt x="330" y="2196"/>
                  </a:lnTo>
                  <a:lnTo>
                    <a:pt x="293" y="2172"/>
                  </a:lnTo>
                  <a:lnTo>
                    <a:pt x="258" y="2147"/>
                  </a:lnTo>
                  <a:lnTo>
                    <a:pt x="227" y="2121"/>
                  </a:lnTo>
                  <a:lnTo>
                    <a:pt x="198" y="2094"/>
                  </a:lnTo>
                  <a:lnTo>
                    <a:pt x="171" y="2067"/>
                  </a:lnTo>
                  <a:lnTo>
                    <a:pt x="146" y="2038"/>
                  </a:lnTo>
                  <a:lnTo>
                    <a:pt x="124" y="2008"/>
                  </a:lnTo>
                  <a:lnTo>
                    <a:pt x="105" y="1978"/>
                  </a:lnTo>
                  <a:lnTo>
                    <a:pt x="87" y="1948"/>
                  </a:lnTo>
                  <a:lnTo>
                    <a:pt x="71" y="1918"/>
                  </a:lnTo>
                  <a:lnTo>
                    <a:pt x="58" y="1886"/>
                  </a:lnTo>
                  <a:lnTo>
                    <a:pt x="46" y="1855"/>
                  </a:lnTo>
                  <a:lnTo>
                    <a:pt x="35" y="1825"/>
                  </a:lnTo>
                  <a:lnTo>
                    <a:pt x="26" y="1794"/>
                  </a:lnTo>
                  <a:lnTo>
                    <a:pt x="18" y="1763"/>
                  </a:lnTo>
                  <a:lnTo>
                    <a:pt x="12" y="1733"/>
                  </a:lnTo>
                  <a:lnTo>
                    <a:pt x="8" y="1704"/>
                  </a:lnTo>
                  <a:lnTo>
                    <a:pt x="4" y="1675"/>
                  </a:lnTo>
                  <a:lnTo>
                    <a:pt x="2" y="1647"/>
                  </a:lnTo>
                  <a:lnTo>
                    <a:pt x="1" y="1619"/>
                  </a:lnTo>
                  <a:lnTo>
                    <a:pt x="0" y="1593"/>
                  </a:lnTo>
                  <a:lnTo>
                    <a:pt x="445" y="15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5922360" y="2757600"/>
              <a:ext cx="538200" cy="253800"/>
            </a:xfrm>
            <a:custGeom>
              <a:avLst/>
              <a:gdLst/>
              <a:ahLst/>
              <a:rect l="l" t="t" r="r" b="b"/>
              <a:pathLst>
                <a:path w="10800" h="5082">
                  <a:moveTo>
                    <a:pt x="5126" y="2953"/>
                  </a:moveTo>
                  <a:lnTo>
                    <a:pt x="5147" y="2952"/>
                  </a:lnTo>
                  <a:lnTo>
                    <a:pt x="5208" y="2949"/>
                  </a:lnTo>
                  <a:lnTo>
                    <a:pt x="5302" y="2944"/>
                  </a:lnTo>
                  <a:lnTo>
                    <a:pt x="5424" y="2937"/>
                  </a:lnTo>
                  <a:lnTo>
                    <a:pt x="5568" y="2929"/>
                  </a:lnTo>
                  <a:lnTo>
                    <a:pt x="5729" y="2919"/>
                  </a:lnTo>
                  <a:lnTo>
                    <a:pt x="5902" y="2910"/>
                  </a:lnTo>
                  <a:lnTo>
                    <a:pt x="6079" y="2900"/>
                  </a:lnTo>
                  <a:lnTo>
                    <a:pt x="6258" y="2891"/>
                  </a:lnTo>
                  <a:lnTo>
                    <a:pt x="6430" y="2881"/>
                  </a:lnTo>
                  <a:lnTo>
                    <a:pt x="6590" y="2873"/>
                  </a:lnTo>
                  <a:lnTo>
                    <a:pt x="6734" y="2865"/>
                  </a:lnTo>
                  <a:lnTo>
                    <a:pt x="6856" y="2858"/>
                  </a:lnTo>
                  <a:lnTo>
                    <a:pt x="6950" y="2853"/>
                  </a:lnTo>
                  <a:lnTo>
                    <a:pt x="7011" y="2850"/>
                  </a:lnTo>
                  <a:lnTo>
                    <a:pt x="7033" y="2849"/>
                  </a:lnTo>
                  <a:lnTo>
                    <a:pt x="7006" y="2839"/>
                  </a:lnTo>
                  <a:lnTo>
                    <a:pt x="6931" y="2810"/>
                  </a:lnTo>
                  <a:lnTo>
                    <a:pt x="6813" y="2765"/>
                  </a:lnTo>
                  <a:lnTo>
                    <a:pt x="6660" y="2707"/>
                  </a:lnTo>
                  <a:lnTo>
                    <a:pt x="6475" y="2637"/>
                  </a:lnTo>
                  <a:lnTo>
                    <a:pt x="6268" y="2558"/>
                  </a:lnTo>
                  <a:lnTo>
                    <a:pt x="6043" y="2473"/>
                  </a:lnTo>
                  <a:lnTo>
                    <a:pt x="5806" y="2383"/>
                  </a:lnTo>
                  <a:lnTo>
                    <a:pt x="5564" y="2292"/>
                  </a:lnTo>
                  <a:lnTo>
                    <a:pt x="5323" y="2201"/>
                  </a:lnTo>
                  <a:lnTo>
                    <a:pt x="5089" y="2112"/>
                  </a:lnTo>
                  <a:lnTo>
                    <a:pt x="4870" y="2030"/>
                  </a:lnTo>
                  <a:lnTo>
                    <a:pt x="4669" y="1955"/>
                  </a:lnTo>
                  <a:lnTo>
                    <a:pt x="4495" y="1890"/>
                  </a:lnTo>
                  <a:lnTo>
                    <a:pt x="4352" y="1838"/>
                  </a:lnTo>
                  <a:lnTo>
                    <a:pt x="4248" y="1800"/>
                  </a:lnTo>
                  <a:lnTo>
                    <a:pt x="4277" y="1798"/>
                  </a:lnTo>
                  <a:lnTo>
                    <a:pt x="4348" y="1795"/>
                  </a:lnTo>
                  <a:lnTo>
                    <a:pt x="4455" y="1792"/>
                  </a:lnTo>
                  <a:lnTo>
                    <a:pt x="4593" y="1789"/>
                  </a:lnTo>
                  <a:lnTo>
                    <a:pt x="4756" y="1786"/>
                  </a:lnTo>
                  <a:lnTo>
                    <a:pt x="4936" y="1783"/>
                  </a:lnTo>
                  <a:lnTo>
                    <a:pt x="5129" y="1780"/>
                  </a:lnTo>
                  <a:lnTo>
                    <a:pt x="5326" y="1777"/>
                  </a:lnTo>
                  <a:lnTo>
                    <a:pt x="5524" y="1774"/>
                  </a:lnTo>
                  <a:lnTo>
                    <a:pt x="5715" y="1771"/>
                  </a:lnTo>
                  <a:lnTo>
                    <a:pt x="5894" y="1768"/>
                  </a:lnTo>
                  <a:lnTo>
                    <a:pt x="6054" y="1766"/>
                  </a:lnTo>
                  <a:lnTo>
                    <a:pt x="6189" y="1764"/>
                  </a:lnTo>
                  <a:lnTo>
                    <a:pt x="6293" y="1763"/>
                  </a:lnTo>
                  <a:lnTo>
                    <a:pt x="6360" y="1762"/>
                  </a:lnTo>
                  <a:lnTo>
                    <a:pt x="6384" y="1762"/>
                  </a:lnTo>
                  <a:lnTo>
                    <a:pt x="0" y="0"/>
                  </a:lnTo>
                  <a:lnTo>
                    <a:pt x="4196" y="1541"/>
                  </a:lnTo>
                  <a:lnTo>
                    <a:pt x="4175" y="1544"/>
                  </a:lnTo>
                  <a:lnTo>
                    <a:pt x="4124" y="1549"/>
                  </a:lnTo>
                  <a:lnTo>
                    <a:pt x="4046" y="1555"/>
                  </a:lnTo>
                  <a:lnTo>
                    <a:pt x="3946" y="1562"/>
                  </a:lnTo>
                  <a:lnTo>
                    <a:pt x="3828" y="1571"/>
                  </a:lnTo>
                  <a:lnTo>
                    <a:pt x="3698" y="1580"/>
                  </a:lnTo>
                  <a:lnTo>
                    <a:pt x="3559" y="1590"/>
                  </a:lnTo>
                  <a:lnTo>
                    <a:pt x="3416" y="1599"/>
                  </a:lnTo>
                  <a:lnTo>
                    <a:pt x="3274" y="1609"/>
                  </a:lnTo>
                  <a:lnTo>
                    <a:pt x="3136" y="1618"/>
                  </a:lnTo>
                  <a:lnTo>
                    <a:pt x="3007" y="1628"/>
                  </a:lnTo>
                  <a:lnTo>
                    <a:pt x="2891" y="1636"/>
                  </a:lnTo>
                  <a:lnTo>
                    <a:pt x="2793" y="1642"/>
                  </a:lnTo>
                  <a:lnTo>
                    <a:pt x="2719" y="1647"/>
                  </a:lnTo>
                  <a:lnTo>
                    <a:pt x="2670" y="1651"/>
                  </a:lnTo>
                  <a:lnTo>
                    <a:pt x="2653" y="1652"/>
                  </a:lnTo>
                  <a:lnTo>
                    <a:pt x="2670" y="1660"/>
                  </a:lnTo>
                  <a:lnTo>
                    <a:pt x="2721" y="1684"/>
                  </a:lnTo>
                  <a:lnTo>
                    <a:pt x="2798" y="1722"/>
                  </a:lnTo>
                  <a:lnTo>
                    <a:pt x="2902" y="1773"/>
                  </a:lnTo>
                  <a:lnTo>
                    <a:pt x="3025" y="1832"/>
                  </a:lnTo>
                  <a:lnTo>
                    <a:pt x="3166" y="1900"/>
                  </a:lnTo>
                  <a:lnTo>
                    <a:pt x="3319" y="1973"/>
                  </a:lnTo>
                  <a:lnTo>
                    <a:pt x="3482" y="2050"/>
                  </a:lnTo>
                  <a:lnTo>
                    <a:pt x="3649" y="2128"/>
                  </a:lnTo>
                  <a:lnTo>
                    <a:pt x="3817" y="2207"/>
                  </a:lnTo>
                  <a:lnTo>
                    <a:pt x="3984" y="2284"/>
                  </a:lnTo>
                  <a:lnTo>
                    <a:pt x="4143" y="2356"/>
                  </a:lnTo>
                  <a:lnTo>
                    <a:pt x="4291" y="2422"/>
                  </a:lnTo>
                  <a:lnTo>
                    <a:pt x="4425" y="2480"/>
                  </a:lnTo>
                  <a:lnTo>
                    <a:pt x="4486" y="2505"/>
                  </a:lnTo>
                  <a:lnTo>
                    <a:pt x="4541" y="2527"/>
                  </a:lnTo>
                  <a:lnTo>
                    <a:pt x="4590" y="2547"/>
                  </a:lnTo>
                  <a:lnTo>
                    <a:pt x="4635" y="2563"/>
                  </a:lnTo>
                  <a:lnTo>
                    <a:pt x="4609" y="2572"/>
                  </a:lnTo>
                  <a:lnTo>
                    <a:pt x="4555" y="2588"/>
                  </a:lnTo>
                  <a:lnTo>
                    <a:pt x="4480" y="2610"/>
                  </a:lnTo>
                  <a:lnTo>
                    <a:pt x="4387" y="2638"/>
                  </a:lnTo>
                  <a:lnTo>
                    <a:pt x="4278" y="2670"/>
                  </a:lnTo>
                  <a:lnTo>
                    <a:pt x="4159" y="2705"/>
                  </a:lnTo>
                  <a:lnTo>
                    <a:pt x="4033" y="2741"/>
                  </a:lnTo>
                  <a:lnTo>
                    <a:pt x="3904" y="2778"/>
                  </a:lnTo>
                  <a:lnTo>
                    <a:pt x="3776" y="2816"/>
                  </a:lnTo>
                  <a:lnTo>
                    <a:pt x="3652" y="2851"/>
                  </a:lnTo>
                  <a:lnTo>
                    <a:pt x="3537" y="2884"/>
                  </a:lnTo>
                  <a:lnTo>
                    <a:pt x="3434" y="2913"/>
                  </a:lnTo>
                  <a:lnTo>
                    <a:pt x="3346" y="2939"/>
                  </a:lnTo>
                  <a:lnTo>
                    <a:pt x="3280" y="2958"/>
                  </a:lnTo>
                  <a:lnTo>
                    <a:pt x="3238" y="2970"/>
                  </a:lnTo>
                  <a:lnTo>
                    <a:pt x="3223" y="2974"/>
                  </a:lnTo>
                  <a:lnTo>
                    <a:pt x="10800" y="5082"/>
                  </a:lnTo>
                  <a:lnTo>
                    <a:pt x="5126" y="29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032880" y="2655720"/>
              <a:ext cx="88920" cy="113040"/>
            </a:xfrm>
            <a:custGeom>
              <a:avLst/>
              <a:gdLst/>
              <a:ahLst/>
              <a:rect l="l" t="t" r="r" b="b"/>
              <a:pathLst>
                <a:path w="1788" h="2275">
                  <a:moveTo>
                    <a:pt x="1788" y="1441"/>
                  </a:moveTo>
                  <a:lnTo>
                    <a:pt x="1787" y="1495"/>
                  </a:lnTo>
                  <a:lnTo>
                    <a:pt x="1784" y="1547"/>
                  </a:lnTo>
                  <a:lnTo>
                    <a:pt x="1779" y="1597"/>
                  </a:lnTo>
                  <a:lnTo>
                    <a:pt x="1772" y="1645"/>
                  </a:lnTo>
                  <a:lnTo>
                    <a:pt x="1762" y="1691"/>
                  </a:lnTo>
                  <a:lnTo>
                    <a:pt x="1752" y="1735"/>
                  </a:lnTo>
                  <a:lnTo>
                    <a:pt x="1739" y="1777"/>
                  </a:lnTo>
                  <a:lnTo>
                    <a:pt x="1724" y="1818"/>
                  </a:lnTo>
                  <a:lnTo>
                    <a:pt x="1708" y="1857"/>
                  </a:lnTo>
                  <a:lnTo>
                    <a:pt x="1689" y="1893"/>
                  </a:lnTo>
                  <a:lnTo>
                    <a:pt x="1669" y="1928"/>
                  </a:lnTo>
                  <a:lnTo>
                    <a:pt x="1648" y="1961"/>
                  </a:lnTo>
                  <a:lnTo>
                    <a:pt x="1623" y="1993"/>
                  </a:lnTo>
                  <a:lnTo>
                    <a:pt x="1598" y="2023"/>
                  </a:lnTo>
                  <a:lnTo>
                    <a:pt x="1571" y="2051"/>
                  </a:lnTo>
                  <a:lnTo>
                    <a:pt x="1543" y="2077"/>
                  </a:lnTo>
                  <a:lnTo>
                    <a:pt x="1511" y="2101"/>
                  </a:lnTo>
                  <a:lnTo>
                    <a:pt x="1480" y="2125"/>
                  </a:lnTo>
                  <a:lnTo>
                    <a:pt x="1446" y="2146"/>
                  </a:lnTo>
                  <a:lnTo>
                    <a:pt x="1411" y="2165"/>
                  </a:lnTo>
                  <a:lnTo>
                    <a:pt x="1374" y="2183"/>
                  </a:lnTo>
                  <a:lnTo>
                    <a:pt x="1336" y="2199"/>
                  </a:lnTo>
                  <a:lnTo>
                    <a:pt x="1297" y="2213"/>
                  </a:lnTo>
                  <a:lnTo>
                    <a:pt x="1255" y="2226"/>
                  </a:lnTo>
                  <a:lnTo>
                    <a:pt x="1213" y="2239"/>
                  </a:lnTo>
                  <a:lnTo>
                    <a:pt x="1169" y="2248"/>
                  </a:lnTo>
                  <a:lnTo>
                    <a:pt x="1123" y="2257"/>
                  </a:lnTo>
                  <a:lnTo>
                    <a:pt x="1077" y="2263"/>
                  </a:lnTo>
                  <a:lnTo>
                    <a:pt x="1029" y="2268"/>
                  </a:lnTo>
                  <a:lnTo>
                    <a:pt x="979" y="2272"/>
                  </a:lnTo>
                  <a:lnTo>
                    <a:pt x="929" y="2274"/>
                  </a:lnTo>
                  <a:lnTo>
                    <a:pt x="877" y="2275"/>
                  </a:lnTo>
                  <a:lnTo>
                    <a:pt x="838" y="2274"/>
                  </a:lnTo>
                  <a:lnTo>
                    <a:pt x="797" y="2273"/>
                  </a:lnTo>
                  <a:lnTo>
                    <a:pt x="753" y="2269"/>
                  </a:lnTo>
                  <a:lnTo>
                    <a:pt x="709" y="2264"/>
                  </a:lnTo>
                  <a:lnTo>
                    <a:pt x="664" y="2257"/>
                  </a:lnTo>
                  <a:lnTo>
                    <a:pt x="617" y="2248"/>
                  </a:lnTo>
                  <a:lnTo>
                    <a:pt x="593" y="2243"/>
                  </a:lnTo>
                  <a:lnTo>
                    <a:pt x="570" y="2237"/>
                  </a:lnTo>
                  <a:lnTo>
                    <a:pt x="547" y="2230"/>
                  </a:lnTo>
                  <a:lnTo>
                    <a:pt x="523" y="2222"/>
                  </a:lnTo>
                  <a:lnTo>
                    <a:pt x="499" y="2215"/>
                  </a:lnTo>
                  <a:lnTo>
                    <a:pt x="476" y="2206"/>
                  </a:lnTo>
                  <a:lnTo>
                    <a:pt x="452" y="2197"/>
                  </a:lnTo>
                  <a:lnTo>
                    <a:pt x="429" y="2188"/>
                  </a:lnTo>
                  <a:lnTo>
                    <a:pt x="406" y="2177"/>
                  </a:lnTo>
                  <a:lnTo>
                    <a:pt x="384" y="2166"/>
                  </a:lnTo>
                  <a:lnTo>
                    <a:pt x="360" y="2154"/>
                  </a:lnTo>
                  <a:lnTo>
                    <a:pt x="338" y="2141"/>
                  </a:lnTo>
                  <a:lnTo>
                    <a:pt x="316" y="2127"/>
                  </a:lnTo>
                  <a:lnTo>
                    <a:pt x="294" y="2113"/>
                  </a:lnTo>
                  <a:lnTo>
                    <a:pt x="273" y="2097"/>
                  </a:lnTo>
                  <a:lnTo>
                    <a:pt x="251" y="2080"/>
                  </a:lnTo>
                  <a:lnTo>
                    <a:pt x="231" y="2063"/>
                  </a:lnTo>
                  <a:lnTo>
                    <a:pt x="211" y="2045"/>
                  </a:lnTo>
                  <a:lnTo>
                    <a:pt x="192" y="2027"/>
                  </a:lnTo>
                  <a:lnTo>
                    <a:pt x="173" y="2007"/>
                  </a:lnTo>
                  <a:lnTo>
                    <a:pt x="152" y="1981"/>
                  </a:lnTo>
                  <a:lnTo>
                    <a:pt x="132" y="1953"/>
                  </a:lnTo>
                  <a:lnTo>
                    <a:pt x="113" y="1925"/>
                  </a:lnTo>
                  <a:lnTo>
                    <a:pt x="96" y="1896"/>
                  </a:lnTo>
                  <a:lnTo>
                    <a:pt x="81" y="1867"/>
                  </a:lnTo>
                  <a:lnTo>
                    <a:pt x="67" y="1835"/>
                  </a:lnTo>
                  <a:lnTo>
                    <a:pt x="55" y="1803"/>
                  </a:lnTo>
                  <a:lnTo>
                    <a:pt x="44" y="1770"/>
                  </a:lnTo>
                  <a:lnTo>
                    <a:pt x="35" y="1736"/>
                  </a:lnTo>
                  <a:lnTo>
                    <a:pt x="26" y="1701"/>
                  </a:lnTo>
                  <a:lnTo>
                    <a:pt x="19" y="1665"/>
                  </a:lnTo>
                  <a:lnTo>
                    <a:pt x="14" y="1628"/>
                  </a:lnTo>
                  <a:lnTo>
                    <a:pt x="9" y="1590"/>
                  </a:lnTo>
                  <a:lnTo>
                    <a:pt x="4" y="1550"/>
                  </a:lnTo>
                  <a:lnTo>
                    <a:pt x="2" y="1510"/>
                  </a:lnTo>
                  <a:lnTo>
                    <a:pt x="0" y="1470"/>
                  </a:lnTo>
                  <a:lnTo>
                    <a:pt x="0" y="0"/>
                  </a:lnTo>
                  <a:lnTo>
                    <a:pt x="473" y="0"/>
                  </a:lnTo>
                  <a:lnTo>
                    <a:pt x="473" y="1438"/>
                  </a:lnTo>
                  <a:lnTo>
                    <a:pt x="473" y="1467"/>
                  </a:lnTo>
                  <a:lnTo>
                    <a:pt x="475" y="1494"/>
                  </a:lnTo>
                  <a:lnTo>
                    <a:pt x="477" y="1521"/>
                  </a:lnTo>
                  <a:lnTo>
                    <a:pt x="481" y="1546"/>
                  </a:lnTo>
                  <a:lnTo>
                    <a:pt x="485" y="1570"/>
                  </a:lnTo>
                  <a:lnTo>
                    <a:pt x="490" y="1594"/>
                  </a:lnTo>
                  <a:lnTo>
                    <a:pt x="497" y="1617"/>
                  </a:lnTo>
                  <a:lnTo>
                    <a:pt x="504" y="1638"/>
                  </a:lnTo>
                  <a:lnTo>
                    <a:pt x="513" y="1659"/>
                  </a:lnTo>
                  <a:lnTo>
                    <a:pt x="521" y="1678"/>
                  </a:lnTo>
                  <a:lnTo>
                    <a:pt x="531" y="1697"/>
                  </a:lnTo>
                  <a:lnTo>
                    <a:pt x="541" y="1715"/>
                  </a:lnTo>
                  <a:lnTo>
                    <a:pt x="552" y="1732"/>
                  </a:lnTo>
                  <a:lnTo>
                    <a:pt x="564" y="1748"/>
                  </a:lnTo>
                  <a:lnTo>
                    <a:pt x="576" y="1762"/>
                  </a:lnTo>
                  <a:lnTo>
                    <a:pt x="589" y="1776"/>
                  </a:lnTo>
                  <a:lnTo>
                    <a:pt x="603" y="1789"/>
                  </a:lnTo>
                  <a:lnTo>
                    <a:pt x="617" y="1802"/>
                  </a:lnTo>
                  <a:lnTo>
                    <a:pt x="632" y="1813"/>
                  </a:lnTo>
                  <a:lnTo>
                    <a:pt x="648" y="1823"/>
                  </a:lnTo>
                  <a:lnTo>
                    <a:pt x="664" y="1833"/>
                  </a:lnTo>
                  <a:lnTo>
                    <a:pt x="681" y="1841"/>
                  </a:lnTo>
                  <a:lnTo>
                    <a:pt x="698" y="1850"/>
                  </a:lnTo>
                  <a:lnTo>
                    <a:pt x="715" y="1857"/>
                  </a:lnTo>
                  <a:lnTo>
                    <a:pt x="733" y="1863"/>
                  </a:lnTo>
                  <a:lnTo>
                    <a:pt x="751" y="1869"/>
                  </a:lnTo>
                  <a:lnTo>
                    <a:pt x="770" y="1873"/>
                  </a:lnTo>
                  <a:lnTo>
                    <a:pt x="789" y="1877"/>
                  </a:lnTo>
                  <a:lnTo>
                    <a:pt x="808" y="1880"/>
                  </a:lnTo>
                  <a:lnTo>
                    <a:pt x="828" y="1881"/>
                  </a:lnTo>
                  <a:lnTo>
                    <a:pt x="848" y="1883"/>
                  </a:lnTo>
                  <a:lnTo>
                    <a:pt x="868" y="1883"/>
                  </a:lnTo>
                  <a:lnTo>
                    <a:pt x="898" y="1883"/>
                  </a:lnTo>
                  <a:lnTo>
                    <a:pt x="926" y="1881"/>
                  </a:lnTo>
                  <a:lnTo>
                    <a:pt x="952" y="1879"/>
                  </a:lnTo>
                  <a:lnTo>
                    <a:pt x="978" y="1876"/>
                  </a:lnTo>
                  <a:lnTo>
                    <a:pt x="1003" y="1872"/>
                  </a:lnTo>
                  <a:lnTo>
                    <a:pt x="1028" y="1867"/>
                  </a:lnTo>
                  <a:lnTo>
                    <a:pt x="1050" y="1862"/>
                  </a:lnTo>
                  <a:lnTo>
                    <a:pt x="1072" y="1855"/>
                  </a:lnTo>
                  <a:lnTo>
                    <a:pt x="1093" y="1848"/>
                  </a:lnTo>
                  <a:lnTo>
                    <a:pt x="1112" y="1838"/>
                  </a:lnTo>
                  <a:lnTo>
                    <a:pt x="1131" y="1829"/>
                  </a:lnTo>
                  <a:lnTo>
                    <a:pt x="1150" y="1820"/>
                  </a:lnTo>
                  <a:lnTo>
                    <a:pt x="1166" y="1809"/>
                  </a:lnTo>
                  <a:lnTo>
                    <a:pt x="1182" y="1798"/>
                  </a:lnTo>
                  <a:lnTo>
                    <a:pt x="1197" y="1785"/>
                  </a:lnTo>
                  <a:lnTo>
                    <a:pt x="1211" y="1772"/>
                  </a:lnTo>
                  <a:lnTo>
                    <a:pt x="1224" y="1758"/>
                  </a:lnTo>
                  <a:lnTo>
                    <a:pt x="1236" y="1744"/>
                  </a:lnTo>
                  <a:lnTo>
                    <a:pt x="1247" y="1729"/>
                  </a:lnTo>
                  <a:lnTo>
                    <a:pt x="1257" y="1711"/>
                  </a:lnTo>
                  <a:lnTo>
                    <a:pt x="1268" y="1695"/>
                  </a:lnTo>
                  <a:lnTo>
                    <a:pt x="1276" y="1677"/>
                  </a:lnTo>
                  <a:lnTo>
                    <a:pt x="1284" y="1659"/>
                  </a:lnTo>
                  <a:lnTo>
                    <a:pt x="1291" y="1639"/>
                  </a:lnTo>
                  <a:lnTo>
                    <a:pt x="1297" y="1620"/>
                  </a:lnTo>
                  <a:lnTo>
                    <a:pt x="1302" y="1599"/>
                  </a:lnTo>
                  <a:lnTo>
                    <a:pt x="1306" y="1577"/>
                  </a:lnTo>
                  <a:lnTo>
                    <a:pt x="1310" y="1555"/>
                  </a:lnTo>
                  <a:lnTo>
                    <a:pt x="1312" y="1532"/>
                  </a:lnTo>
                  <a:lnTo>
                    <a:pt x="1314" y="1509"/>
                  </a:lnTo>
                  <a:lnTo>
                    <a:pt x="1315" y="1485"/>
                  </a:lnTo>
                  <a:lnTo>
                    <a:pt x="1316" y="1460"/>
                  </a:lnTo>
                  <a:lnTo>
                    <a:pt x="1316" y="0"/>
                  </a:lnTo>
                  <a:lnTo>
                    <a:pt x="1788" y="0"/>
                  </a:lnTo>
                  <a:lnTo>
                    <a:pt x="1788" y="1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144120" y="2655720"/>
              <a:ext cx="84960" cy="110160"/>
            </a:xfrm>
            <a:custGeom>
              <a:avLst/>
              <a:gdLst/>
              <a:ahLst/>
              <a:rect l="l" t="t" r="r" b="b"/>
              <a:pathLst>
                <a:path w="1701" h="2216">
                  <a:moveTo>
                    <a:pt x="463" y="2216"/>
                  </a:moveTo>
                  <a:lnTo>
                    <a:pt x="0" y="2216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053" y="1"/>
                  </a:lnTo>
                  <a:lnTo>
                    <a:pt x="1091" y="3"/>
                  </a:lnTo>
                  <a:lnTo>
                    <a:pt x="1128" y="7"/>
                  </a:lnTo>
                  <a:lnTo>
                    <a:pt x="1166" y="12"/>
                  </a:lnTo>
                  <a:lnTo>
                    <a:pt x="1201" y="19"/>
                  </a:lnTo>
                  <a:lnTo>
                    <a:pt x="1235" y="29"/>
                  </a:lnTo>
                  <a:lnTo>
                    <a:pt x="1268" y="39"/>
                  </a:lnTo>
                  <a:lnTo>
                    <a:pt x="1302" y="50"/>
                  </a:lnTo>
                  <a:lnTo>
                    <a:pt x="1332" y="63"/>
                  </a:lnTo>
                  <a:lnTo>
                    <a:pt x="1362" y="77"/>
                  </a:lnTo>
                  <a:lnTo>
                    <a:pt x="1391" y="93"/>
                  </a:lnTo>
                  <a:lnTo>
                    <a:pt x="1419" y="110"/>
                  </a:lnTo>
                  <a:lnTo>
                    <a:pt x="1446" y="128"/>
                  </a:lnTo>
                  <a:lnTo>
                    <a:pt x="1471" y="148"/>
                  </a:lnTo>
                  <a:lnTo>
                    <a:pt x="1495" y="170"/>
                  </a:lnTo>
                  <a:lnTo>
                    <a:pt x="1517" y="192"/>
                  </a:lnTo>
                  <a:lnTo>
                    <a:pt x="1539" y="216"/>
                  </a:lnTo>
                  <a:lnTo>
                    <a:pt x="1560" y="240"/>
                  </a:lnTo>
                  <a:lnTo>
                    <a:pt x="1579" y="266"/>
                  </a:lnTo>
                  <a:lnTo>
                    <a:pt x="1596" y="294"/>
                  </a:lnTo>
                  <a:lnTo>
                    <a:pt x="1613" y="323"/>
                  </a:lnTo>
                  <a:lnTo>
                    <a:pt x="1628" y="352"/>
                  </a:lnTo>
                  <a:lnTo>
                    <a:pt x="1641" y="383"/>
                  </a:lnTo>
                  <a:lnTo>
                    <a:pt x="1653" y="416"/>
                  </a:lnTo>
                  <a:lnTo>
                    <a:pt x="1664" y="449"/>
                  </a:lnTo>
                  <a:lnTo>
                    <a:pt x="1675" y="483"/>
                  </a:lnTo>
                  <a:lnTo>
                    <a:pt x="1683" y="518"/>
                  </a:lnTo>
                  <a:lnTo>
                    <a:pt x="1689" y="555"/>
                  </a:lnTo>
                  <a:lnTo>
                    <a:pt x="1695" y="592"/>
                  </a:lnTo>
                  <a:lnTo>
                    <a:pt x="1698" y="630"/>
                  </a:lnTo>
                  <a:lnTo>
                    <a:pt x="1701" y="669"/>
                  </a:lnTo>
                  <a:lnTo>
                    <a:pt x="1701" y="710"/>
                  </a:lnTo>
                  <a:lnTo>
                    <a:pt x="1701" y="730"/>
                  </a:lnTo>
                  <a:lnTo>
                    <a:pt x="1700" y="751"/>
                  </a:lnTo>
                  <a:lnTo>
                    <a:pt x="1698" y="774"/>
                  </a:lnTo>
                  <a:lnTo>
                    <a:pt x="1695" y="797"/>
                  </a:lnTo>
                  <a:lnTo>
                    <a:pt x="1692" y="824"/>
                  </a:lnTo>
                  <a:lnTo>
                    <a:pt x="1687" y="850"/>
                  </a:lnTo>
                  <a:lnTo>
                    <a:pt x="1682" y="877"/>
                  </a:lnTo>
                  <a:lnTo>
                    <a:pt x="1675" y="905"/>
                  </a:lnTo>
                  <a:lnTo>
                    <a:pt x="1666" y="934"/>
                  </a:lnTo>
                  <a:lnTo>
                    <a:pt x="1657" y="963"/>
                  </a:lnTo>
                  <a:lnTo>
                    <a:pt x="1646" y="992"/>
                  </a:lnTo>
                  <a:lnTo>
                    <a:pt x="1634" y="1022"/>
                  </a:lnTo>
                  <a:lnTo>
                    <a:pt x="1621" y="1051"/>
                  </a:lnTo>
                  <a:lnTo>
                    <a:pt x="1606" y="1081"/>
                  </a:lnTo>
                  <a:lnTo>
                    <a:pt x="1589" y="1110"/>
                  </a:lnTo>
                  <a:lnTo>
                    <a:pt x="1571" y="1139"/>
                  </a:lnTo>
                  <a:lnTo>
                    <a:pt x="1551" y="1166"/>
                  </a:lnTo>
                  <a:lnTo>
                    <a:pt x="1529" y="1195"/>
                  </a:lnTo>
                  <a:lnTo>
                    <a:pt x="1505" y="1221"/>
                  </a:lnTo>
                  <a:lnTo>
                    <a:pt x="1480" y="1246"/>
                  </a:lnTo>
                  <a:lnTo>
                    <a:pt x="1452" y="1270"/>
                  </a:lnTo>
                  <a:lnTo>
                    <a:pt x="1422" y="1293"/>
                  </a:lnTo>
                  <a:lnTo>
                    <a:pt x="1390" y="1314"/>
                  </a:lnTo>
                  <a:lnTo>
                    <a:pt x="1356" y="1335"/>
                  </a:lnTo>
                  <a:lnTo>
                    <a:pt x="1320" y="1353"/>
                  </a:lnTo>
                  <a:lnTo>
                    <a:pt x="1280" y="1369"/>
                  </a:lnTo>
                  <a:lnTo>
                    <a:pt x="1239" y="1383"/>
                  </a:lnTo>
                  <a:lnTo>
                    <a:pt x="1196" y="1395"/>
                  </a:lnTo>
                  <a:lnTo>
                    <a:pt x="1149" y="1404"/>
                  </a:lnTo>
                  <a:lnTo>
                    <a:pt x="1100" y="1411"/>
                  </a:lnTo>
                  <a:lnTo>
                    <a:pt x="1049" y="1415"/>
                  </a:lnTo>
                  <a:lnTo>
                    <a:pt x="994" y="1417"/>
                  </a:lnTo>
                  <a:lnTo>
                    <a:pt x="463" y="1417"/>
                  </a:lnTo>
                  <a:lnTo>
                    <a:pt x="463" y="2216"/>
                  </a:lnTo>
                  <a:close/>
                  <a:moveTo>
                    <a:pt x="892" y="1034"/>
                  </a:moveTo>
                  <a:lnTo>
                    <a:pt x="924" y="1033"/>
                  </a:lnTo>
                  <a:lnTo>
                    <a:pt x="953" y="1031"/>
                  </a:lnTo>
                  <a:lnTo>
                    <a:pt x="980" y="1028"/>
                  </a:lnTo>
                  <a:lnTo>
                    <a:pt x="1006" y="1023"/>
                  </a:lnTo>
                  <a:lnTo>
                    <a:pt x="1030" y="1017"/>
                  </a:lnTo>
                  <a:lnTo>
                    <a:pt x="1053" y="1011"/>
                  </a:lnTo>
                  <a:lnTo>
                    <a:pt x="1073" y="1003"/>
                  </a:lnTo>
                  <a:lnTo>
                    <a:pt x="1092" y="994"/>
                  </a:lnTo>
                  <a:lnTo>
                    <a:pt x="1109" y="984"/>
                  </a:lnTo>
                  <a:lnTo>
                    <a:pt x="1125" y="974"/>
                  </a:lnTo>
                  <a:lnTo>
                    <a:pt x="1140" y="963"/>
                  </a:lnTo>
                  <a:lnTo>
                    <a:pt x="1153" y="951"/>
                  </a:lnTo>
                  <a:lnTo>
                    <a:pt x="1166" y="939"/>
                  </a:lnTo>
                  <a:lnTo>
                    <a:pt x="1177" y="925"/>
                  </a:lnTo>
                  <a:lnTo>
                    <a:pt x="1186" y="912"/>
                  </a:lnTo>
                  <a:lnTo>
                    <a:pt x="1195" y="898"/>
                  </a:lnTo>
                  <a:lnTo>
                    <a:pt x="1202" y="884"/>
                  </a:lnTo>
                  <a:lnTo>
                    <a:pt x="1209" y="870"/>
                  </a:lnTo>
                  <a:lnTo>
                    <a:pt x="1215" y="856"/>
                  </a:lnTo>
                  <a:lnTo>
                    <a:pt x="1220" y="841"/>
                  </a:lnTo>
                  <a:lnTo>
                    <a:pt x="1224" y="827"/>
                  </a:lnTo>
                  <a:lnTo>
                    <a:pt x="1227" y="813"/>
                  </a:lnTo>
                  <a:lnTo>
                    <a:pt x="1230" y="798"/>
                  </a:lnTo>
                  <a:lnTo>
                    <a:pt x="1233" y="784"/>
                  </a:lnTo>
                  <a:lnTo>
                    <a:pt x="1236" y="757"/>
                  </a:lnTo>
                  <a:lnTo>
                    <a:pt x="1237" y="732"/>
                  </a:lnTo>
                  <a:lnTo>
                    <a:pt x="1238" y="709"/>
                  </a:lnTo>
                  <a:lnTo>
                    <a:pt x="1238" y="689"/>
                  </a:lnTo>
                  <a:lnTo>
                    <a:pt x="1237" y="668"/>
                  </a:lnTo>
                  <a:lnTo>
                    <a:pt x="1236" y="649"/>
                  </a:lnTo>
                  <a:lnTo>
                    <a:pt x="1235" y="631"/>
                  </a:lnTo>
                  <a:lnTo>
                    <a:pt x="1232" y="613"/>
                  </a:lnTo>
                  <a:lnTo>
                    <a:pt x="1229" y="596"/>
                  </a:lnTo>
                  <a:lnTo>
                    <a:pt x="1225" y="580"/>
                  </a:lnTo>
                  <a:lnTo>
                    <a:pt x="1220" y="565"/>
                  </a:lnTo>
                  <a:lnTo>
                    <a:pt x="1215" y="550"/>
                  </a:lnTo>
                  <a:lnTo>
                    <a:pt x="1208" y="535"/>
                  </a:lnTo>
                  <a:lnTo>
                    <a:pt x="1201" y="521"/>
                  </a:lnTo>
                  <a:lnTo>
                    <a:pt x="1194" y="509"/>
                  </a:lnTo>
                  <a:lnTo>
                    <a:pt x="1185" y="497"/>
                  </a:lnTo>
                  <a:lnTo>
                    <a:pt x="1176" y="485"/>
                  </a:lnTo>
                  <a:lnTo>
                    <a:pt x="1164" y="474"/>
                  </a:lnTo>
                  <a:lnTo>
                    <a:pt x="1153" y="464"/>
                  </a:lnTo>
                  <a:lnTo>
                    <a:pt x="1142" y="455"/>
                  </a:lnTo>
                  <a:lnTo>
                    <a:pt x="1129" y="446"/>
                  </a:lnTo>
                  <a:lnTo>
                    <a:pt x="1115" y="438"/>
                  </a:lnTo>
                  <a:lnTo>
                    <a:pt x="1101" y="430"/>
                  </a:lnTo>
                  <a:lnTo>
                    <a:pt x="1086" y="423"/>
                  </a:lnTo>
                  <a:lnTo>
                    <a:pt x="1070" y="417"/>
                  </a:lnTo>
                  <a:lnTo>
                    <a:pt x="1053" y="410"/>
                  </a:lnTo>
                  <a:lnTo>
                    <a:pt x="1034" y="404"/>
                  </a:lnTo>
                  <a:lnTo>
                    <a:pt x="1015" y="400"/>
                  </a:lnTo>
                  <a:lnTo>
                    <a:pt x="995" y="396"/>
                  </a:lnTo>
                  <a:lnTo>
                    <a:pt x="975" y="392"/>
                  </a:lnTo>
                  <a:lnTo>
                    <a:pt x="953" y="389"/>
                  </a:lnTo>
                  <a:lnTo>
                    <a:pt x="931" y="387"/>
                  </a:lnTo>
                  <a:lnTo>
                    <a:pt x="906" y="385"/>
                  </a:lnTo>
                  <a:lnTo>
                    <a:pt x="882" y="384"/>
                  </a:lnTo>
                  <a:lnTo>
                    <a:pt x="857" y="383"/>
                  </a:lnTo>
                  <a:lnTo>
                    <a:pt x="831" y="382"/>
                  </a:lnTo>
                  <a:lnTo>
                    <a:pt x="463" y="382"/>
                  </a:lnTo>
                  <a:lnTo>
                    <a:pt x="463" y="1034"/>
                  </a:lnTo>
                  <a:lnTo>
                    <a:pt x="892" y="10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241680" y="2652840"/>
              <a:ext cx="90720" cy="115560"/>
            </a:xfrm>
            <a:custGeom>
              <a:avLst/>
              <a:gdLst/>
              <a:ahLst/>
              <a:rect l="l" t="t" r="r" b="b"/>
              <a:pathLst>
                <a:path w="1821" h="2334">
                  <a:moveTo>
                    <a:pt x="444" y="1593"/>
                  </a:moveTo>
                  <a:lnTo>
                    <a:pt x="446" y="1617"/>
                  </a:lnTo>
                  <a:lnTo>
                    <a:pt x="449" y="1644"/>
                  </a:lnTo>
                  <a:lnTo>
                    <a:pt x="451" y="1658"/>
                  </a:lnTo>
                  <a:lnTo>
                    <a:pt x="454" y="1672"/>
                  </a:lnTo>
                  <a:lnTo>
                    <a:pt x="458" y="1687"/>
                  </a:lnTo>
                  <a:lnTo>
                    <a:pt x="462" y="1701"/>
                  </a:lnTo>
                  <a:lnTo>
                    <a:pt x="467" y="1716"/>
                  </a:lnTo>
                  <a:lnTo>
                    <a:pt x="473" y="1731"/>
                  </a:lnTo>
                  <a:lnTo>
                    <a:pt x="479" y="1746"/>
                  </a:lnTo>
                  <a:lnTo>
                    <a:pt x="488" y="1760"/>
                  </a:lnTo>
                  <a:lnTo>
                    <a:pt x="497" y="1776"/>
                  </a:lnTo>
                  <a:lnTo>
                    <a:pt x="506" y="1790"/>
                  </a:lnTo>
                  <a:lnTo>
                    <a:pt x="517" y="1805"/>
                  </a:lnTo>
                  <a:lnTo>
                    <a:pt x="529" y="1819"/>
                  </a:lnTo>
                  <a:lnTo>
                    <a:pt x="542" y="1832"/>
                  </a:lnTo>
                  <a:lnTo>
                    <a:pt x="556" y="1845"/>
                  </a:lnTo>
                  <a:lnTo>
                    <a:pt x="571" y="1858"/>
                  </a:lnTo>
                  <a:lnTo>
                    <a:pt x="588" y="1870"/>
                  </a:lnTo>
                  <a:lnTo>
                    <a:pt x="607" y="1882"/>
                  </a:lnTo>
                  <a:lnTo>
                    <a:pt x="627" y="1893"/>
                  </a:lnTo>
                  <a:lnTo>
                    <a:pt x="648" y="1903"/>
                  </a:lnTo>
                  <a:lnTo>
                    <a:pt x="670" y="1913"/>
                  </a:lnTo>
                  <a:lnTo>
                    <a:pt x="694" y="1921"/>
                  </a:lnTo>
                  <a:lnTo>
                    <a:pt x="720" y="1929"/>
                  </a:lnTo>
                  <a:lnTo>
                    <a:pt x="749" y="1936"/>
                  </a:lnTo>
                  <a:lnTo>
                    <a:pt x="778" y="1941"/>
                  </a:lnTo>
                  <a:lnTo>
                    <a:pt x="809" y="1945"/>
                  </a:lnTo>
                  <a:lnTo>
                    <a:pt x="842" y="1949"/>
                  </a:lnTo>
                  <a:lnTo>
                    <a:pt x="877" y="1951"/>
                  </a:lnTo>
                  <a:lnTo>
                    <a:pt x="914" y="1951"/>
                  </a:lnTo>
                  <a:lnTo>
                    <a:pt x="955" y="1951"/>
                  </a:lnTo>
                  <a:lnTo>
                    <a:pt x="997" y="1949"/>
                  </a:lnTo>
                  <a:lnTo>
                    <a:pt x="1038" y="1945"/>
                  </a:lnTo>
                  <a:lnTo>
                    <a:pt x="1078" y="1940"/>
                  </a:lnTo>
                  <a:lnTo>
                    <a:pt x="1098" y="1936"/>
                  </a:lnTo>
                  <a:lnTo>
                    <a:pt x="1119" y="1932"/>
                  </a:lnTo>
                  <a:lnTo>
                    <a:pt x="1138" y="1928"/>
                  </a:lnTo>
                  <a:lnTo>
                    <a:pt x="1157" y="1923"/>
                  </a:lnTo>
                  <a:lnTo>
                    <a:pt x="1175" y="1917"/>
                  </a:lnTo>
                  <a:lnTo>
                    <a:pt x="1193" y="1911"/>
                  </a:lnTo>
                  <a:lnTo>
                    <a:pt x="1210" y="1903"/>
                  </a:lnTo>
                  <a:lnTo>
                    <a:pt x="1227" y="1895"/>
                  </a:lnTo>
                  <a:lnTo>
                    <a:pt x="1244" y="1887"/>
                  </a:lnTo>
                  <a:lnTo>
                    <a:pt x="1260" y="1878"/>
                  </a:lnTo>
                  <a:lnTo>
                    <a:pt x="1274" y="1868"/>
                  </a:lnTo>
                  <a:lnTo>
                    <a:pt x="1288" y="1858"/>
                  </a:lnTo>
                  <a:lnTo>
                    <a:pt x="1301" y="1847"/>
                  </a:lnTo>
                  <a:lnTo>
                    <a:pt x="1314" y="1835"/>
                  </a:lnTo>
                  <a:lnTo>
                    <a:pt x="1325" y="1822"/>
                  </a:lnTo>
                  <a:lnTo>
                    <a:pt x="1335" y="1808"/>
                  </a:lnTo>
                  <a:lnTo>
                    <a:pt x="1344" y="1794"/>
                  </a:lnTo>
                  <a:lnTo>
                    <a:pt x="1353" y="1778"/>
                  </a:lnTo>
                  <a:lnTo>
                    <a:pt x="1360" y="1761"/>
                  </a:lnTo>
                  <a:lnTo>
                    <a:pt x="1366" y="1743"/>
                  </a:lnTo>
                  <a:lnTo>
                    <a:pt x="1371" y="1725"/>
                  </a:lnTo>
                  <a:lnTo>
                    <a:pt x="1375" y="1706"/>
                  </a:lnTo>
                  <a:lnTo>
                    <a:pt x="1377" y="1686"/>
                  </a:lnTo>
                  <a:lnTo>
                    <a:pt x="1377" y="1664"/>
                  </a:lnTo>
                  <a:lnTo>
                    <a:pt x="1377" y="1649"/>
                  </a:lnTo>
                  <a:lnTo>
                    <a:pt x="1375" y="1633"/>
                  </a:lnTo>
                  <a:lnTo>
                    <a:pt x="1373" y="1618"/>
                  </a:lnTo>
                  <a:lnTo>
                    <a:pt x="1370" y="1605"/>
                  </a:lnTo>
                  <a:lnTo>
                    <a:pt x="1366" y="1592"/>
                  </a:lnTo>
                  <a:lnTo>
                    <a:pt x="1360" y="1579"/>
                  </a:lnTo>
                  <a:lnTo>
                    <a:pt x="1354" y="1568"/>
                  </a:lnTo>
                  <a:lnTo>
                    <a:pt x="1347" y="1556"/>
                  </a:lnTo>
                  <a:lnTo>
                    <a:pt x="1339" y="1546"/>
                  </a:lnTo>
                  <a:lnTo>
                    <a:pt x="1331" y="1535"/>
                  </a:lnTo>
                  <a:lnTo>
                    <a:pt x="1322" y="1526"/>
                  </a:lnTo>
                  <a:lnTo>
                    <a:pt x="1312" y="1516"/>
                  </a:lnTo>
                  <a:lnTo>
                    <a:pt x="1301" y="1507"/>
                  </a:lnTo>
                  <a:lnTo>
                    <a:pt x="1290" y="1498"/>
                  </a:lnTo>
                  <a:lnTo>
                    <a:pt x="1277" y="1490"/>
                  </a:lnTo>
                  <a:lnTo>
                    <a:pt x="1265" y="1482"/>
                  </a:lnTo>
                  <a:lnTo>
                    <a:pt x="1251" y="1475"/>
                  </a:lnTo>
                  <a:lnTo>
                    <a:pt x="1237" y="1468"/>
                  </a:lnTo>
                  <a:lnTo>
                    <a:pt x="1221" y="1462"/>
                  </a:lnTo>
                  <a:lnTo>
                    <a:pt x="1205" y="1455"/>
                  </a:lnTo>
                  <a:lnTo>
                    <a:pt x="1173" y="1443"/>
                  </a:lnTo>
                  <a:lnTo>
                    <a:pt x="1138" y="1432"/>
                  </a:lnTo>
                  <a:lnTo>
                    <a:pt x="1099" y="1421"/>
                  </a:lnTo>
                  <a:lnTo>
                    <a:pt x="1060" y="1410"/>
                  </a:lnTo>
                  <a:lnTo>
                    <a:pt x="1019" y="1400"/>
                  </a:lnTo>
                  <a:lnTo>
                    <a:pt x="975" y="1390"/>
                  </a:lnTo>
                  <a:lnTo>
                    <a:pt x="738" y="1334"/>
                  </a:lnTo>
                  <a:lnTo>
                    <a:pt x="671" y="1318"/>
                  </a:lnTo>
                  <a:lnTo>
                    <a:pt x="604" y="1302"/>
                  </a:lnTo>
                  <a:lnTo>
                    <a:pt x="572" y="1294"/>
                  </a:lnTo>
                  <a:lnTo>
                    <a:pt x="540" y="1285"/>
                  </a:lnTo>
                  <a:lnTo>
                    <a:pt x="508" y="1276"/>
                  </a:lnTo>
                  <a:lnTo>
                    <a:pt x="476" y="1266"/>
                  </a:lnTo>
                  <a:lnTo>
                    <a:pt x="446" y="1256"/>
                  </a:lnTo>
                  <a:lnTo>
                    <a:pt x="416" y="1244"/>
                  </a:lnTo>
                  <a:lnTo>
                    <a:pt x="387" y="1232"/>
                  </a:lnTo>
                  <a:lnTo>
                    <a:pt x="358" y="1219"/>
                  </a:lnTo>
                  <a:lnTo>
                    <a:pt x="329" y="1206"/>
                  </a:lnTo>
                  <a:lnTo>
                    <a:pt x="303" y="1192"/>
                  </a:lnTo>
                  <a:lnTo>
                    <a:pt x="277" y="1176"/>
                  </a:lnTo>
                  <a:lnTo>
                    <a:pt x="252" y="1160"/>
                  </a:lnTo>
                  <a:lnTo>
                    <a:pt x="227" y="1142"/>
                  </a:lnTo>
                  <a:lnTo>
                    <a:pt x="204" y="1124"/>
                  </a:lnTo>
                  <a:lnTo>
                    <a:pt x="183" y="1102"/>
                  </a:lnTo>
                  <a:lnTo>
                    <a:pt x="162" y="1081"/>
                  </a:lnTo>
                  <a:lnTo>
                    <a:pt x="143" y="1058"/>
                  </a:lnTo>
                  <a:lnTo>
                    <a:pt x="125" y="1033"/>
                  </a:lnTo>
                  <a:lnTo>
                    <a:pt x="109" y="1007"/>
                  </a:lnTo>
                  <a:lnTo>
                    <a:pt x="93" y="978"/>
                  </a:lnTo>
                  <a:lnTo>
                    <a:pt x="80" y="948"/>
                  </a:lnTo>
                  <a:lnTo>
                    <a:pt x="68" y="917"/>
                  </a:lnTo>
                  <a:lnTo>
                    <a:pt x="58" y="883"/>
                  </a:lnTo>
                  <a:lnTo>
                    <a:pt x="49" y="847"/>
                  </a:lnTo>
                  <a:lnTo>
                    <a:pt x="43" y="809"/>
                  </a:lnTo>
                  <a:lnTo>
                    <a:pt x="38" y="770"/>
                  </a:lnTo>
                  <a:lnTo>
                    <a:pt x="35" y="727"/>
                  </a:lnTo>
                  <a:lnTo>
                    <a:pt x="34" y="682"/>
                  </a:lnTo>
                  <a:lnTo>
                    <a:pt x="34" y="659"/>
                  </a:lnTo>
                  <a:lnTo>
                    <a:pt x="36" y="634"/>
                  </a:lnTo>
                  <a:lnTo>
                    <a:pt x="38" y="609"/>
                  </a:lnTo>
                  <a:lnTo>
                    <a:pt x="41" y="582"/>
                  </a:lnTo>
                  <a:lnTo>
                    <a:pt x="45" y="555"/>
                  </a:lnTo>
                  <a:lnTo>
                    <a:pt x="51" y="528"/>
                  </a:lnTo>
                  <a:lnTo>
                    <a:pt x="57" y="500"/>
                  </a:lnTo>
                  <a:lnTo>
                    <a:pt x="66" y="472"/>
                  </a:lnTo>
                  <a:lnTo>
                    <a:pt x="75" y="443"/>
                  </a:lnTo>
                  <a:lnTo>
                    <a:pt x="86" y="415"/>
                  </a:lnTo>
                  <a:lnTo>
                    <a:pt x="99" y="387"/>
                  </a:lnTo>
                  <a:lnTo>
                    <a:pt x="114" y="359"/>
                  </a:lnTo>
                  <a:lnTo>
                    <a:pt x="130" y="330"/>
                  </a:lnTo>
                  <a:lnTo>
                    <a:pt x="148" y="302"/>
                  </a:lnTo>
                  <a:lnTo>
                    <a:pt x="168" y="275"/>
                  </a:lnTo>
                  <a:lnTo>
                    <a:pt x="190" y="249"/>
                  </a:lnTo>
                  <a:lnTo>
                    <a:pt x="214" y="223"/>
                  </a:lnTo>
                  <a:lnTo>
                    <a:pt x="241" y="198"/>
                  </a:lnTo>
                  <a:lnTo>
                    <a:pt x="269" y="174"/>
                  </a:lnTo>
                  <a:lnTo>
                    <a:pt x="300" y="151"/>
                  </a:lnTo>
                  <a:lnTo>
                    <a:pt x="333" y="130"/>
                  </a:lnTo>
                  <a:lnTo>
                    <a:pt x="370" y="109"/>
                  </a:lnTo>
                  <a:lnTo>
                    <a:pt x="408" y="90"/>
                  </a:lnTo>
                  <a:lnTo>
                    <a:pt x="449" y="72"/>
                  </a:lnTo>
                  <a:lnTo>
                    <a:pt x="494" y="56"/>
                  </a:lnTo>
                  <a:lnTo>
                    <a:pt x="540" y="42"/>
                  </a:lnTo>
                  <a:lnTo>
                    <a:pt x="590" y="30"/>
                  </a:lnTo>
                  <a:lnTo>
                    <a:pt x="643" y="20"/>
                  </a:lnTo>
                  <a:lnTo>
                    <a:pt x="698" y="11"/>
                  </a:lnTo>
                  <a:lnTo>
                    <a:pt x="758" y="5"/>
                  </a:lnTo>
                  <a:lnTo>
                    <a:pt x="820" y="2"/>
                  </a:lnTo>
                  <a:lnTo>
                    <a:pt x="886" y="0"/>
                  </a:lnTo>
                  <a:lnTo>
                    <a:pt x="948" y="2"/>
                  </a:lnTo>
                  <a:lnTo>
                    <a:pt x="1008" y="6"/>
                  </a:lnTo>
                  <a:lnTo>
                    <a:pt x="1064" y="12"/>
                  </a:lnTo>
                  <a:lnTo>
                    <a:pt x="1118" y="20"/>
                  </a:lnTo>
                  <a:lnTo>
                    <a:pt x="1169" y="30"/>
                  </a:lnTo>
                  <a:lnTo>
                    <a:pt x="1217" y="43"/>
                  </a:lnTo>
                  <a:lnTo>
                    <a:pt x="1264" y="57"/>
                  </a:lnTo>
                  <a:lnTo>
                    <a:pt x="1307" y="74"/>
                  </a:lnTo>
                  <a:lnTo>
                    <a:pt x="1348" y="93"/>
                  </a:lnTo>
                  <a:lnTo>
                    <a:pt x="1387" y="112"/>
                  </a:lnTo>
                  <a:lnTo>
                    <a:pt x="1423" y="133"/>
                  </a:lnTo>
                  <a:lnTo>
                    <a:pt x="1457" y="155"/>
                  </a:lnTo>
                  <a:lnTo>
                    <a:pt x="1489" y="179"/>
                  </a:lnTo>
                  <a:lnTo>
                    <a:pt x="1519" y="203"/>
                  </a:lnTo>
                  <a:lnTo>
                    <a:pt x="1546" y="230"/>
                  </a:lnTo>
                  <a:lnTo>
                    <a:pt x="1572" y="257"/>
                  </a:lnTo>
                  <a:lnTo>
                    <a:pt x="1595" y="284"/>
                  </a:lnTo>
                  <a:lnTo>
                    <a:pt x="1617" y="312"/>
                  </a:lnTo>
                  <a:lnTo>
                    <a:pt x="1637" y="342"/>
                  </a:lnTo>
                  <a:lnTo>
                    <a:pt x="1655" y="371"/>
                  </a:lnTo>
                  <a:lnTo>
                    <a:pt x="1671" y="400"/>
                  </a:lnTo>
                  <a:lnTo>
                    <a:pt x="1685" y="430"/>
                  </a:lnTo>
                  <a:lnTo>
                    <a:pt x="1698" y="460"/>
                  </a:lnTo>
                  <a:lnTo>
                    <a:pt x="1709" y="490"/>
                  </a:lnTo>
                  <a:lnTo>
                    <a:pt x="1719" y="520"/>
                  </a:lnTo>
                  <a:lnTo>
                    <a:pt x="1727" y="549"/>
                  </a:lnTo>
                  <a:lnTo>
                    <a:pt x="1734" y="579"/>
                  </a:lnTo>
                  <a:lnTo>
                    <a:pt x="1741" y="608"/>
                  </a:lnTo>
                  <a:lnTo>
                    <a:pt x="1745" y="636"/>
                  </a:lnTo>
                  <a:lnTo>
                    <a:pt x="1748" y="664"/>
                  </a:lnTo>
                  <a:lnTo>
                    <a:pt x="1750" y="690"/>
                  </a:lnTo>
                  <a:lnTo>
                    <a:pt x="1751" y="716"/>
                  </a:lnTo>
                  <a:lnTo>
                    <a:pt x="1306" y="716"/>
                  </a:lnTo>
                  <a:lnTo>
                    <a:pt x="1303" y="696"/>
                  </a:lnTo>
                  <a:lnTo>
                    <a:pt x="1299" y="674"/>
                  </a:lnTo>
                  <a:lnTo>
                    <a:pt x="1294" y="649"/>
                  </a:lnTo>
                  <a:lnTo>
                    <a:pt x="1287" y="623"/>
                  </a:lnTo>
                  <a:lnTo>
                    <a:pt x="1282" y="610"/>
                  </a:lnTo>
                  <a:lnTo>
                    <a:pt x="1277" y="595"/>
                  </a:lnTo>
                  <a:lnTo>
                    <a:pt x="1271" y="581"/>
                  </a:lnTo>
                  <a:lnTo>
                    <a:pt x="1264" y="567"/>
                  </a:lnTo>
                  <a:lnTo>
                    <a:pt x="1256" y="554"/>
                  </a:lnTo>
                  <a:lnTo>
                    <a:pt x="1247" y="540"/>
                  </a:lnTo>
                  <a:lnTo>
                    <a:pt x="1237" y="526"/>
                  </a:lnTo>
                  <a:lnTo>
                    <a:pt x="1226" y="513"/>
                  </a:lnTo>
                  <a:lnTo>
                    <a:pt x="1214" y="500"/>
                  </a:lnTo>
                  <a:lnTo>
                    <a:pt x="1200" y="487"/>
                  </a:lnTo>
                  <a:lnTo>
                    <a:pt x="1186" y="475"/>
                  </a:lnTo>
                  <a:lnTo>
                    <a:pt x="1170" y="462"/>
                  </a:lnTo>
                  <a:lnTo>
                    <a:pt x="1153" y="451"/>
                  </a:lnTo>
                  <a:lnTo>
                    <a:pt x="1134" y="440"/>
                  </a:lnTo>
                  <a:lnTo>
                    <a:pt x="1114" y="430"/>
                  </a:lnTo>
                  <a:lnTo>
                    <a:pt x="1092" y="421"/>
                  </a:lnTo>
                  <a:lnTo>
                    <a:pt x="1068" y="413"/>
                  </a:lnTo>
                  <a:lnTo>
                    <a:pt x="1043" y="405"/>
                  </a:lnTo>
                  <a:lnTo>
                    <a:pt x="1016" y="399"/>
                  </a:lnTo>
                  <a:lnTo>
                    <a:pt x="988" y="394"/>
                  </a:lnTo>
                  <a:lnTo>
                    <a:pt x="956" y="389"/>
                  </a:lnTo>
                  <a:lnTo>
                    <a:pt x="924" y="386"/>
                  </a:lnTo>
                  <a:lnTo>
                    <a:pt x="889" y="384"/>
                  </a:lnTo>
                  <a:lnTo>
                    <a:pt x="852" y="383"/>
                  </a:lnTo>
                  <a:lnTo>
                    <a:pt x="819" y="384"/>
                  </a:lnTo>
                  <a:lnTo>
                    <a:pt x="785" y="387"/>
                  </a:lnTo>
                  <a:lnTo>
                    <a:pt x="751" y="391"/>
                  </a:lnTo>
                  <a:lnTo>
                    <a:pt x="717" y="397"/>
                  </a:lnTo>
                  <a:lnTo>
                    <a:pt x="701" y="400"/>
                  </a:lnTo>
                  <a:lnTo>
                    <a:pt x="684" y="404"/>
                  </a:lnTo>
                  <a:lnTo>
                    <a:pt x="668" y="409"/>
                  </a:lnTo>
                  <a:lnTo>
                    <a:pt x="653" y="414"/>
                  </a:lnTo>
                  <a:lnTo>
                    <a:pt x="637" y="420"/>
                  </a:lnTo>
                  <a:lnTo>
                    <a:pt x="622" y="426"/>
                  </a:lnTo>
                  <a:lnTo>
                    <a:pt x="608" y="433"/>
                  </a:lnTo>
                  <a:lnTo>
                    <a:pt x="593" y="440"/>
                  </a:lnTo>
                  <a:lnTo>
                    <a:pt x="579" y="448"/>
                  </a:lnTo>
                  <a:lnTo>
                    <a:pt x="566" y="457"/>
                  </a:lnTo>
                  <a:lnTo>
                    <a:pt x="554" y="466"/>
                  </a:lnTo>
                  <a:lnTo>
                    <a:pt x="542" y="477"/>
                  </a:lnTo>
                  <a:lnTo>
                    <a:pt x="531" y="487"/>
                  </a:lnTo>
                  <a:lnTo>
                    <a:pt x="520" y="498"/>
                  </a:lnTo>
                  <a:lnTo>
                    <a:pt x="511" y="510"/>
                  </a:lnTo>
                  <a:lnTo>
                    <a:pt x="502" y="523"/>
                  </a:lnTo>
                  <a:lnTo>
                    <a:pt x="494" y="536"/>
                  </a:lnTo>
                  <a:lnTo>
                    <a:pt x="487" y="550"/>
                  </a:lnTo>
                  <a:lnTo>
                    <a:pt x="481" y="564"/>
                  </a:lnTo>
                  <a:lnTo>
                    <a:pt x="475" y="579"/>
                  </a:lnTo>
                  <a:lnTo>
                    <a:pt x="471" y="595"/>
                  </a:lnTo>
                  <a:lnTo>
                    <a:pt x="468" y="613"/>
                  </a:lnTo>
                  <a:lnTo>
                    <a:pt x="466" y="630"/>
                  </a:lnTo>
                  <a:lnTo>
                    <a:pt x="466" y="649"/>
                  </a:lnTo>
                  <a:lnTo>
                    <a:pt x="466" y="664"/>
                  </a:lnTo>
                  <a:lnTo>
                    <a:pt x="467" y="679"/>
                  </a:lnTo>
                  <a:lnTo>
                    <a:pt x="469" y="694"/>
                  </a:lnTo>
                  <a:lnTo>
                    <a:pt x="472" y="707"/>
                  </a:lnTo>
                  <a:lnTo>
                    <a:pt x="475" y="720"/>
                  </a:lnTo>
                  <a:lnTo>
                    <a:pt x="479" y="733"/>
                  </a:lnTo>
                  <a:lnTo>
                    <a:pt x="485" y="744"/>
                  </a:lnTo>
                  <a:lnTo>
                    <a:pt x="490" y="755"/>
                  </a:lnTo>
                  <a:lnTo>
                    <a:pt x="496" y="765"/>
                  </a:lnTo>
                  <a:lnTo>
                    <a:pt x="502" y="775"/>
                  </a:lnTo>
                  <a:lnTo>
                    <a:pt x="509" y="784"/>
                  </a:lnTo>
                  <a:lnTo>
                    <a:pt x="516" y="792"/>
                  </a:lnTo>
                  <a:lnTo>
                    <a:pt x="524" y="800"/>
                  </a:lnTo>
                  <a:lnTo>
                    <a:pt x="532" y="808"/>
                  </a:lnTo>
                  <a:lnTo>
                    <a:pt x="540" y="814"/>
                  </a:lnTo>
                  <a:lnTo>
                    <a:pt x="549" y="821"/>
                  </a:lnTo>
                  <a:lnTo>
                    <a:pt x="567" y="833"/>
                  </a:lnTo>
                  <a:lnTo>
                    <a:pt x="585" y="843"/>
                  </a:lnTo>
                  <a:lnTo>
                    <a:pt x="605" y="851"/>
                  </a:lnTo>
                  <a:lnTo>
                    <a:pt x="625" y="859"/>
                  </a:lnTo>
                  <a:lnTo>
                    <a:pt x="645" y="866"/>
                  </a:lnTo>
                  <a:lnTo>
                    <a:pt x="664" y="871"/>
                  </a:lnTo>
                  <a:lnTo>
                    <a:pt x="683" y="876"/>
                  </a:lnTo>
                  <a:lnTo>
                    <a:pt x="701" y="880"/>
                  </a:lnTo>
                  <a:lnTo>
                    <a:pt x="1242" y="1013"/>
                  </a:lnTo>
                  <a:lnTo>
                    <a:pt x="1297" y="1028"/>
                  </a:lnTo>
                  <a:lnTo>
                    <a:pt x="1352" y="1043"/>
                  </a:lnTo>
                  <a:lnTo>
                    <a:pt x="1380" y="1052"/>
                  </a:lnTo>
                  <a:lnTo>
                    <a:pt x="1407" y="1061"/>
                  </a:lnTo>
                  <a:lnTo>
                    <a:pt x="1433" y="1071"/>
                  </a:lnTo>
                  <a:lnTo>
                    <a:pt x="1459" y="1081"/>
                  </a:lnTo>
                  <a:lnTo>
                    <a:pt x="1484" y="1092"/>
                  </a:lnTo>
                  <a:lnTo>
                    <a:pt x="1510" y="1103"/>
                  </a:lnTo>
                  <a:lnTo>
                    <a:pt x="1534" y="1115"/>
                  </a:lnTo>
                  <a:lnTo>
                    <a:pt x="1558" y="1129"/>
                  </a:lnTo>
                  <a:lnTo>
                    <a:pt x="1580" y="1143"/>
                  </a:lnTo>
                  <a:lnTo>
                    <a:pt x="1602" y="1158"/>
                  </a:lnTo>
                  <a:lnTo>
                    <a:pt x="1625" y="1173"/>
                  </a:lnTo>
                  <a:lnTo>
                    <a:pt x="1645" y="1189"/>
                  </a:lnTo>
                  <a:lnTo>
                    <a:pt x="1665" y="1206"/>
                  </a:lnTo>
                  <a:lnTo>
                    <a:pt x="1683" y="1225"/>
                  </a:lnTo>
                  <a:lnTo>
                    <a:pt x="1701" y="1244"/>
                  </a:lnTo>
                  <a:lnTo>
                    <a:pt x="1717" y="1265"/>
                  </a:lnTo>
                  <a:lnTo>
                    <a:pt x="1733" y="1286"/>
                  </a:lnTo>
                  <a:lnTo>
                    <a:pt x="1748" y="1309"/>
                  </a:lnTo>
                  <a:lnTo>
                    <a:pt x="1762" y="1333"/>
                  </a:lnTo>
                  <a:lnTo>
                    <a:pt x="1774" y="1358"/>
                  </a:lnTo>
                  <a:lnTo>
                    <a:pt x="1784" y="1385"/>
                  </a:lnTo>
                  <a:lnTo>
                    <a:pt x="1794" y="1412"/>
                  </a:lnTo>
                  <a:lnTo>
                    <a:pt x="1802" y="1441"/>
                  </a:lnTo>
                  <a:lnTo>
                    <a:pt x="1809" y="1471"/>
                  </a:lnTo>
                  <a:lnTo>
                    <a:pt x="1814" y="1503"/>
                  </a:lnTo>
                  <a:lnTo>
                    <a:pt x="1818" y="1537"/>
                  </a:lnTo>
                  <a:lnTo>
                    <a:pt x="1821" y="1572"/>
                  </a:lnTo>
                  <a:lnTo>
                    <a:pt x="1821" y="1608"/>
                  </a:lnTo>
                  <a:lnTo>
                    <a:pt x="1819" y="1670"/>
                  </a:lnTo>
                  <a:lnTo>
                    <a:pt x="1814" y="1726"/>
                  </a:lnTo>
                  <a:lnTo>
                    <a:pt x="1805" y="1781"/>
                  </a:lnTo>
                  <a:lnTo>
                    <a:pt x="1792" y="1831"/>
                  </a:lnTo>
                  <a:lnTo>
                    <a:pt x="1776" y="1878"/>
                  </a:lnTo>
                  <a:lnTo>
                    <a:pt x="1758" y="1923"/>
                  </a:lnTo>
                  <a:lnTo>
                    <a:pt x="1736" y="1965"/>
                  </a:lnTo>
                  <a:lnTo>
                    <a:pt x="1712" y="2003"/>
                  </a:lnTo>
                  <a:lnTo>
                    <a:pt x="1686" y="2039"/>
                  </a:lnTo>
                  <a:lnTo>
                    <a:pt x="1658" y="2072"/>
                  </a:lnTo>
                  <a:lnTo>
                    <a:pt x="1628" y="2103"/>
                  </a:lnTo>
                  <a:lnTo>
                    <a:pt x="1596" y="2131"/>
                  </a:lnTo>
                  <a:lnTo>
                    <a:pt x="1563" y="2156"/>
                  </a:lnTo>
                  <a:lnTo>
                    <a:pt x="1529" y="2181"/>
                  </a:lnTo>
                  <a:lnTo>
                    <a:pt x="1494" y="2202"/>
                  </a:lnTo>
                  <a:lnTo>
                    <a:pt x="1457" y="2221"/>
                  </a:lnTo>
                  <a:lnTo>
                    <a:pt x="1421" y="2239"/>
                  </a:lnTo>
                  <a:lnTo>
                    <a:pt x="1384" y="2254"/>
                  </a:lnTo>
                  <a:lnTo>
                    <a:pt x="1346" y="2268"/>
                  </a:lnTo>
                  <a:lnTo>
                    <a:pt x="1310" y="2280"/>
                  </a:lnTo>
                  <a:lnTo>
                    <a:pt x="1273" y="2290"/>
                  </a:lnTo>
                  <a:lnTo>
                    <a:pt x="1237" y="2300"/>
                  </a:lnTo>
                  <a:lnTo>
                    <a:pt x="1201" y="2308"/>
                  </a:lnTo>
                  <a:lnTo>
                    <a:pt x="1166" y="2315"/>
                  </a:lnTo>
                  <a:lnTo>
                    <a:pt x="1133" y="2320"/>
                  </a:lnTo>
                  <a:lnTo>
                    <a:pt x="1100" y="2324"/>
                  </a:lnTo>
                  <a:lnTo>
                    <a:pt x="1070" y="2328"/>
                  </a:lnTo>
                  <a:lnTo>
                    <a:pt x="1041" y="2330"/>
                  </a:lnTo>
                  <a:lnTo>
                    <a:pt x="990" y="2333"/>
                  </a:lnTo>
                  <a:lnTo>
                    <a:pt x="948" y="2334"/>
                  </a:lnTo>
                  <a:lnTo>
                    <a:pt x="874" y="2333"/>
                  </a:lnTo>
                  <a:lnTo>
                    <a:pt x="804" y="2329"/>
                  </a:lnTo>
                  <a:lnTo>
                    <a:pt x="738" y="2322"/>
                  </a:lnTo>
                  <a:lnTo>
                    <a:pt x="675" y="2314"/>
                  </a:lnTo>
                  <a:lnTo>
                    <a:pt x="616" y="2303"/>
                  </a:lnTo>
                  <a:lnTo>
                    <a:pt x="560" y="2289"/>
                  </a:lnTo>
                  <a:lnTo>
                    <a:pt x="508" y="2274"/>
                  </a:lnTo>
                  <a:lnTo>
                    <a:pt x="458" y="2257"/>
                  </a:lnTo>
                  <a:lnTo>
                    <a:pt x="412" y="2238"/>
                  </a:lnTo>
                  <a:lnTo>
                    <a:pt x="370" y="2218"/>
                  </a:lnTo>
                  <a:lnTo>
                    <a:pt x="329" y="2196"/>
                  </a:lnTo>
                  <a:lnTo>
                    <a:pt x="292" y="2172"/>
                  </a:lnTo>
                  <a:lnTo>
                    <a:pt x="258" y="2147"/>
                  </a:lnTo>
                  <a:lnTo>
                    <a:pt x="226" y="2121"/>
                  </a:lnTo>
                  <a:lnTo>
                    <a:pt x="197" y="2094"/>
                  </a:lnTo>
                  <a:lnTo>
                    <a:pt x="170" y="2067"/>
                  </a:lnTo>
                  <a:lnTo>
                    <a:pt x="146" y="2038"/>
                  </a:lnTo>
                  <a:lnTo>
                    <a:pt x="124" y="2008"/>
                  </a:lnTo>
                  <a:lnTo>
                    <a:pt x="105" y="1979"/>
                  </a:lnTo>
                  <a:lnTo>
                    <a:pt x="86" y="1948"/>
                  </a:lnTo>
                  <a:lnTo>
                    <a:pt x="70" y="1918"/>
                  </a:lnTo>
                  <a:lnTo>
                    <a:pt x="57" y="1886"/>
                  </a:lnTo>
                  <a:lnTo>
                    <a:pt x="45" y="1856"/>
                  </a:lnTo>
                  <a:lnTo>
                    <a:pt x="34" y="1825"/>
                  </a:lnTo>
                  <a:lnTo>
                    <a:pt x="26" y="1794"/>
                  </a:lnTo>
                  <a:lnTo>
                    <a:pt x="18" y="1763"/>
                  </a:lnTo>
                  <a:lnTo>
                    <a:pt x="12" y="1733"/>
                  </a:lnTo>
                  <a:lnTo>
                    <a:pt x="8" y="1704"/>
                  </a:lnTo>
                  <a:lnTo>
                    <a:pt x="4" y="1675"/>
                  </a:lnTo>
                  <a:lnTo>
                    <a:pt x="2" y="1647"/>
                  </a:lnTo>
                  <a:lnTo>
                    <a:pt x="1" y="1619"/>
                  </a:lnTo>
                  <a:lnTo>
                    <a:pt x="0" y="1593"/>
                  </a:lnTo>
                  <a:lnTo>
                    <a:pt x="444" y="15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5918040" y="2750760"/>
              <a:ext cx="538200" cy="253800"/>
            </a:xfrm>
            <a:custGeom>
              <a:avLst/>
              <a:gdLst/>
              <a:ahLst/>
              <a:rect l="l" t="t" r="r" b="b"/>
              <a:pathLst>
                <a:path w="10800" h="5082">
                  <a:moveTo>
                    <a:pt x="5126" y="2953"/>
                  </a:moveTo>
                  <a:lnTo>
                    <a:pt x="5147" y="2952"/>
                  </a:lnTo>
                  <a:lnTo>
                    <a:pt x="5209" y="2949"/>
                  </a:lnTo>
                  <a:lnTo>
                    <a:pt x="5302" y="2944"/>
                  </a:lnTo>
                  <a:lnTo>
                    <a:pt x="5424" y="2937"/>
                  </a:lnTo>
                  <a:lnTo>
                    <a:pt x="5569" y="2928"/>
                  </a:lnTo>
                  <a:lnTo>
                    <a:pt x="5730" y="2919"/>
                  </a:lnTo>
                  <a:lnTo>
                    <a:pt x="5902" y="2910"/>
                  </a:lnTo>
                  <a:lnTo>
                    <a:pt x="6081" y="2900"/>
                  </a:lnTo>
                  <a:lnTo>
                    <a:pt x="6258" y="2891"/>
                  </a:lnTo>
                  <a:lnTo>
                    <a:pt x="6430" y="2881"/>
                  </a:lnTo>
                  <a:lnTo>
                    <a:pt x="6591" y="2873"/>
                  </a:lnTo>
                  <a:lnTo>
                    <a:pt x="6735" y="2865"/>
                  </a:lnTo>
                  <a:lnTo>
                    <a:pt x="6857" y="2858"/>
                  </a:lnTo>
                  <a:lnTo>
                    <a:pt x="6951" y="2853"/>
                  </a:lnTo>
                  <a:lnTo>
                    <a:pt x="7011" y="2850"/>
                  </a:lnTo>
                  <a:lnTo>
                    <a:pt x="7033" y="2849"/>
                  </a:lnTo>
                  <a:lnTo>
                    <a:pt x="7006" y="2839"/>
                  </a:lnTo>
                  <a:lnTo>
                    <a:pt x="6931" y="2810"/>
                  </a:lnTo>
                  <a:lnTo>
                    <a:pt x="6813" y="2765"/>
                  </a:lnTo>
                  <a:lnTo>
                    <a:pt x="6660" y="2707"/>
                  </a:lnTo>
                  <a:lnTo>
                    <a:pt x="6476" y="2637"/>
                  </a:lnTo>
                  <a:lnTo>
                    <a:pt x="6268" y="2558"/>
                  </a:lnTo>
                  <a:lnTo>
                    <a:pt x="6043" y="2473"/>
                  </a:lnTo>
                  <a:lnTo>
                    <a:pt x="5806" y="2383"/>
                  </a:lnTo>
                  <a:lnTo>
                    <a:pt x="5564" y="2292"/>
                  </a:lnTo>
                  <a:lnTo>
                    <a:pt x="5324" y="2201"/>
                  </a:lnTo>
                  <a:lnTo>
                    <a:pt x="5090" y="2112"/>
                  </a:lnTo>
                  <a:lnTo>
                    <a:pt x="4870" y="2030"/>
                  </a:lnTo>
                  <a:lnTo>
                    <a:pt x="4669" y="1955"/>
                  </a:lnTo>
                  <a:lnTo>
                    <a:pt x="4495" y="1891"/>
                  </a:lnTo>
                  <a:lnTo>
                    <a:pt x="4353" y="1838"/>
                  </a:lnTo>
                  <a:lnTo>
                    <a:pt x="4249" y="1800"/>
                  </a:lnTo>
                  <a:lnTo>
                    <a:pt x="4277" y="1798"/>
                  </a:lnTo>
                  <a:lnTo>
                    <a:pt x="4349" y="1795"/>
                  </a:lnTo>
                  <a:lnTo>
                    <a:pt x="4457" y="1792"/>
                  </a:lnTo>
                  <a:lnTo>
                    <a:pt x="4595" y="1789"/>
                  </a:lnTo>
                  <a:lnTo>
                    <a:pt x="4756" y="1786"/>
                  </a:lnTo>
                  <a:lnTo>
                    <a:pt x="4936" y="1783"/>
                  </a:lnTo>
                  <a:lnTo>
                    <a:pt x="5129" y="1780"/>
                  </a:lnTo>
                  <a:lnTo>
                    <a:pt x="5328" y="1777"/>
                  </a:lnTo>
                  <a:lnTo>
                    <a:pt x="5525" y="1774"/>
                  </a:lnTo>
                  <a:lnTo>
                    <a:pt x="5716" y="1771"/>
                  </a:lnTo>
                  <a:lnTo>
                    <a:pt x="5895" y="1769"/>
                  </a:lnTo>
                  <a:lnTo>
                    <a:pt x="6054" y="1766"/>
                  </a:lnTo>
                  <a:lnTo>
                    <a:pt x="6189" y="1765"/>
                  </a:lnTo>
                  <a:lnTo>
                    <a:pt x="6293" y="1763"/>
                  </a:lnTo>
                  <a:lnTo>
                    <a:pt x="6361" y="1762"/>
                  </a:lnTo>
                  <a:lnTo>
                    <a:pt x="6384" y="1762"/>
                  </a:lnTo>
                  <a:lnTo>
                    <a:pt x="0" y="0"/>
                  </a:lnTo>
                  <a:lnTo>
                    <a:pt x="4197" y="1541"/>
                  </a:lnTo>
                  <a:lnTo>
                    <a:pt x="4176" y="1544"/>
                  </a:lnTo>
                  <a:lnTo>
                    <a:pt x="4124" y="1549"/>
                  </a:lnTo>
                  <a:lnTo>
                    <a:pt x="4046" y="1555"/>
                  </a:lnTo>
                  <a:lnTo>
                    <a:pt x="3947" y="1562"/>
                  </a:lnTo>
                  <a:lnTo>
                    <a:pt x="3830" y="1571"/>
                  </a:lnTo>
                  <a:lnTo>
                    <a:pt x="3699" y="1580"/>
                  </a:lnTo>
                  <a:lnTo>
                    <a:pt x="3561" y="1590"/>
                  </a:lnTo>
                  <a:lnTo>
                    <a:pt x="3417" y="1600"/>
                  </a:lnTo>
                  <a:lnTo>
                    <a:pt x="3274" y="1609"/>
                  </a:lnTo>
                  <a:lnTo>
                    <a:pt x="3136" y="1619"/>
                  </a:lnTo>
                  <a:lnTo>
                    <a:pt x="3007" y="1627"/>
                  </a:lnTo>
                  <a:lnTo>
                    <a:pt x="2891" y="1636"/>
                  </a:lnTo>
                  <a:lnTo>
                    <a:pt x="2793" y="1642"/>
                  </a:lnTo>
                  <a:lnTo>
                    <a:pt x="2719" y="1647"/>
                  </a:lnTo>
                  <a:lnTo>
                    <a:pt x="2670" y="1651"/>
                  </a:lnTo>
                  <a:lnTo>
                    <a:pt x="2653" y="1652"/>
                  </a:lnTo>
                  <a:lnTo>
                    <a:pt x="2670" y="1660"/>
                  </a:lnTo>
                  <a:lnTo>
                    <a:pt x="2721" y="1684"/>
                  </a:lnTo>
                  <a:lnTo>
                    <a:pt x="2800" y="1722"/>
                  </a:lnTo>
                  <a:lnTo>
                    <a:pt x="2902" y="1773"/>
                  </a:lnTo>
                  <a:lnTo>
                    <a:pt x="3026" y="1832"/>
                  </a:lnTo>
                  <a:lnTo>
                    <a:pt x="3166" y="1900"/>
                  </a:lnTo>
                  <a:lnTo>
                    <a:pt x="3320" y="1973"/>
                  </a:lnTo>
                  <a:lnTo>
                    <a:pt x="3482" y="2050"/>
                  </a:lnTo>
                  <a:lnTo>
                    <a:pt x="3649" y="2128"/>
                  </a:lnTo>
                  <a:lnTo>
                    <a:pt x="3818" y="2207"/>
                  </a:lnTo>
                  <a:lnTo>
                    <a:pt x="3984" y="2284"/>
                  </a:lnTo>
                  <a:lnTo>
                    <a:pt x="4143" y="2356"/>
                  </a:lnTo>
                  <a:lnTo>
                    <a:pt x="4291" y="2422"/>
                  </a:lnTo>
                  <a:lnTo>
                    <a:pt x="4425" y="2480"/>
                  </a:lnTo>
                  <a:lnTo>
                    <a:pt x="4486" y="2505"/>
                  </a:lnTo>
                  <a:lnTo>
                    <a:pt x="4541" y="2527"/>
                  </a:lnTo>
                  <a:lnTo>
                    <a:pt x="4592" y="2547"/>
                  </a:lnTo>
                  <a:lnTo>
                    <a:pt x="4635" y="2563"/>
                  </a:lnTo>
                  <a:lnTo>
                    <a:pt x="4609" y="2572"/>
                  </a:lnTo>
                  <a:lnTo>
                    <a:pt x="4555" y="2588"/>
                  </a:lnTo>
                  <a:lnTo>
                    <a:pt x="4481" y="2611"/>
                  </a:lnTo>
                  <a:lnTo>
                    <a:pt x="4387" y="2638"/>
                  </a:lnTo>
                  <a:lnTo>
                    <a:pt x="4279" y="2671"/>
                  </a:lnTo>
                  <a:lnTo>
                    <a:pt x="4159" y="2705"/>
                  </a:lnTo>
                  <a:lnTo>
                    <a:pt x="4033" y="2741"/>
                  </a:lnTo>
                  <a:lnTo>
                    <a:pt x="3904" y="2778"/>
                  </a:lnTo>
                  <a:lnTo>
                    <a:pt x="3776" y="2816"/>
                  </a:lnTo>
                  <a:lnTo>
                    <a:pt x="3652" y="2851"/>
                  </a:lnTo>
                  <a:lnTo>
                    <a:pt x="3537" y="2884"/>
                  </a:lnTo>
                  <a:lnTo>
                    <a:pt x="3435" y="2913"/>
                  </a:lnTo>
                  <a:lnTo>
                    <a:pt x="3348" y="2939"/>
                  </a:lnTo>
                  <a:lnTo>
                    <a:pt x="3280" y="2958"/>
                  </a:lnTo>
                  <a:lnTo>
                    <a:pt x="3238" y="2970"/>
                  </a:lnTo>
                  <a:lnTo>
                    <a:pt x="3223" y="2974"/>
                  </a:lnTo>
                  <a:lnTo>
                    <a:pt x="10800" y="5082"/>
                  </a:lnTo>
                  <a:lnTo>
                    <a:pt x="5126" y="29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6" name=""/>
          <p:cNvSpPr/>
          <p:nvPr/>
        </p:nvSpPr>
        <p:spPr>
          <a:xfrm>
            <a:off x="1905120" y="5081760"/>
            <a:ext cx="80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2039760" y="6148440"/>
            <a:ext cx="716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8" name=""/>
          <p:cNvGrpSpPr/>
          <p:nvPr/>
        </p:nvGrpSpPr>
        <p:grpSpPr>
          <a:xfrm>
            <a:off x="3589200" y="1327320"/>
            <a:ext cx="924120" cy="1134360"/>
            <a:chOff x="3589200" y="1327320"/>
            <a:chExt cx="924120" cy="1134360"/>
          </a:xfrm>
        </p:grpSpPr>
        <p:sp>
          <p:nvSpPr>
            <p:cNvPr id="4289" name=""/>
            <p:cNvSpPr/>
            <p:nvPr/>
          </p:nvSpPr>
          <p:spPr>
            <a:xfrm>
              <a:off x="3605040" y="1888920"/>
              <a:ext cx="714600" cy="123480"/>
            </a:xfrm>
            <a:custGeom>
              <a:avLst/>
              <a:gdLst/>
              <a:ahLst/>
              <a:rect l="l" t="t" r="r" b="b"/>
              <a:pathLst>
                <a:path w="10331" h="1799">
                  <a:moveTo>
                    <a:pt x="0" y="1799"/>
                  </a:moveTo>
                  <a:lnTo>
                    <a:pt x="1800" y="0"/>
                  </a:lnTo>
                  <a:lnTo>
                    <a:pt x="10331" y="0"/>
                  </a:lnTo>
                  <a:lnTo>
                    <a:pt x="8531" y="1799"/>
                  </a:lnTo>
                  <a:lnTo>
                    <a:pt x="0" y="1799"/>
                  </a:lnTo>
                  <a:close/>
                </a:path>
              </a:pathLst>
            </a:custGeom>
            <a:solidFill>
              <a:srgbClr val="424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602160" y="1882800"/>
              <a:ext cx="134640" cy="134280"/>
            </a:xfrm>
            <a:custGeom>
              <a:avLst/>
              <a:gdLst/>
              <a:ahLst/>
              <a:rect l="l" t="t" r="r" b="b"/>
              <a:pathLst>
                <a:path w="1953" h="1951">
                  <a:moveTo>
                    <a:pt x="1863" y="1"/>
                  </a:moveTo>
                  <a:lnTo>
                    <a:pt x="1800" y="27"/>
                  </a:lnTo>
                  <a:lnTo>
                    <a:pt x="0" y="1825"/>
                  </a:lnTo>
                  <a:lnTo>
                    <a:pt x="125" y="1951"/>
                  </a:lnTo>
                  <a:lnTo>
                    <a:pt x="1925" y="152"/>
                  </a:lnTo>
                  <a:lnTo>
                    <a:pt x="1863" y="1"/>
                  </a:lnTo>
                  <a:lnTo>
                    <a:pt x="1925" y="152"/>
                  </a:lnTo>
                  <a:lnTo>
                    <a:pt x="1933" y="144"/>
                  </a:lnTo>
                  <a:lnTo>
                    <a:pt x="1939" y="136"/>
                  </a:lnTo>
                  <a:lnTo>
                    <a:pt x="1944" y="127"/>
                  </a:lnTo>
                  <a:lnTo>
                    <a:pt x="1947" y="119"/>
                  </a:lnTo>
                  <a:lnTo>
                    <a:pt x="1950" y="111"/>
                  </a:lnTo>
                  <a:lnTo>
                    <a:pt x="1952" y="103"/>
                  </a:lnTo>
                  <a:lnTo>
                    <a:pt x="1953" y="95"/>
                  </a:lnTo>
                  <a:lnTo>
                    <a:pt x="1953" y="85"/>
                  </a:lnTo>
                  <a:lnTo>
                    <a:pt x="1952" y="77"/>
                  </a:lnTo>
                  <a:lnTo>
                    <a:pt x="1950" y="69"/>
                  </a:lnTo>
                  <a:lnTo>
                    <a:pt x="1948" y="62"/>
                  </a:lnTo>
                  <a:lnTo>
                    <a:pt x="1944" y="53"/>
                  </a:lnTo>
                  <a:lnTo>
                    <a:pt x="1941" y="46"/>
                  </a:lnTo>
                  <a:lnTo>
                    <a:pt x="1936" y="40"/>
                  </a:lnTo>
                  <a:lnTo>
                    <a:pt x="1931" y="33"/>
                  </a:lnTo>
                  <a:lnTo>
                    <a:pt x="1925" y="27"/>
                  </a:lnTo>
                  <a:lnTo>
                    <a:pt x="1919" y="22"/>
                  </a:lnTo>
                  <a:lnTo>
                    <a:pt x="1913" y="16"/>
                  </a:lnTo>
                  <a:lnTo>
                    <a:pt x="1906" y="11"/>
                  </a:lnTo>
                  <a:lnTo>
                    <a:pt x="1899" y="8"/>
                  </a:lnTo>
                  <a:lnTo>
                    <a:pt x="1890" y="5"/>
                  </a:lnTo>
                  <a:lnTo>
                    <a:pt x="1883" y="2"/>
                  </a:lnTo>
                  <a:lnTo>
                    <a:pt x="1875" y="0"/>
                  </a:lnTo>
                  <a:lnTo>
                    <a:pt x="1867" y="0"/>
                  </a:lnTo>
                  <a:lnTo>
                    <a:pt x="1859" y="0"/>
                  </a:lnTo>
                  <a:lnTo>
                    <a:pt x="1849" y="0"/>
                  </a:lnTo>
                  <a:lnTo>
                    <a:pt x="1841" y="2"/>
                  </a:lnTo>
                  <a:lnTo>
                    <a:pt x="1833" y="5"/>
                  </a:lnTo>
                  <a:lnTo>
                    <a:pt x="1825" y="9"/>
                  </a:lnTo>
                  <a:lnTo>
                    <a:pt x="1816" y="13"/>
                  </a:lnTo>
                  <a:lnTo>
                    <a:pt x="1808" y="20"/>
                  </a:lnTo>
                  <a:lnTo>
                    <a:pt x="1800" y="27"/>
                  </a:lnTo>
                  <a:lnTo>
                    <a:pt x="1863" y="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730680" y="1882800"/>
              <a:ext cx="593640" cy="12240"/>
            </a:xfrm>
            <a:custGeom>
              <a:avLst/>
              <a:gdLst/>
              <a:ahLst/>
              <a:rect l="l" t="t" r="r" b="b"/>
              <a:pathLst>
                <a:path w="8619" h="177">
                  <a:moveTo>
                    <a:pt x="8593" y="151"/>
                  </a:moveTo>
                  <a:lnTo>
                    <a:pt x="8531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8531" y="177"/>
                  </a:lnTo>
                  <a:lnTo>
                    <a:pt x="8593" y="151"/>
                  </a:lnTo>
                  <a:lnTo>
                    <a:pt x="8531" y="177"/>
                  </a:lnTo>
                  <a:lnTo>
                    <a:pt x="8541" y="177"/>
                  </a:lnTo>
                  <a:lnTo>
                    <a:pt x="8551" y="175"/>
                  </a:lnTo>
                  <a:lnTo>
                    <a:pt x="8560" y="173"/>
                  </a:lnTo>
                  <a:lnTo>
                    <a:pt x="8570" y="170"/>
                  </a:lnTo>
                  <a:lnTo>
                    <a:pt x="8577" y="166"/>
                  </a:lnTo>
                  <a:lnTo>
                    <a:pt x="8585" y="160"/>
                  </a:lnTo>
                  <a:lnTo>
                    <a:pt x="8591" y="155"/>
                  </a:lnTo>
                  <a:lnTo>
                    <a:pt x="8597" y="149"/>
                  </a:lnTo>
                  <a:lnTo>
                    <a:pt x="8603" y="143"/>
                  </a:lnTo>
                  <a:lnTo>
                    <a:pt x="8607" y="136"/>
                  </a:lnTo>
                  <a:lnTo>
                    <a:pt x="8611" y="129"/>
                  </a:lnTo>
                  <a:lnTo>
                    <a:pt x="8614" y="121"/>
                  </a:lnTo>
                  <a:lnTo>
                    <a:pt x="8616" y="113"/>
                  </a:lnTo>
                  <a:lnTo>
                    <a:pt x="8618" y="105"/>
                  </a:lnTo>
                  <a:lnTo>
                    <a:pt x="8619" y="97"/>
                  </a:lnTo>
                  <a:lnTo>
                    <a:pt x="8619" y="88"/>
                  </a:lnTo>
                  <a:lnTo>
                    <a:pt x="8619" y="80"/>
                  </a:lnTo>
                  <a:lnTo>
                    <a:pt x="8618" y="72"/>
                  </a:lnTo>
                  <a:lnTo>
                    <a:pt x="8616" y="64"/>
                  </a:lnTo>
                  <a:lnTo>
                    <a:pt x="8614" y="57"/>
                  </a:lnTo>
                  <a:lnTo>
                    <a:pt x="8611" y="48"/>
                  </a:lnTo>
                  <a:lnTo>
                    <a:pt x="8607" y="41"/>
                  </a:lnTo>
                  <a:lnTo>
                    <a:pt x="8603" y="34"/>
                  </a:lnTo>
                  <a:lnTo>
                    <a:pt x="8597" y="28"/>
                  </a:lnTo>
                  <a:lnTo>
                    <a:pt x="8591" y="22"/>
                  </a:lnTo>
                  <a:lnTo>
                    <a:pt x="8585" y="16"/>
                  </a:lnTo>
                  <a:lnTo>
                    <a:pt x="8577" y="11"/>
                  </a:lnTo>
                  <a:lnTo>
                    <a:pt x="8570" y="7"/>
                  </a:lnTo>
                  <a:lnTo>
                    <a:pt x="8560" y="4"/>
                  </a:lnTo>
                  <a:lnTo>
                    <a:pt x="8551" y="2"/>
                  </a:lnTo>
                  <a:lnTo>
                    <a:pt x="8541" y="0"/>
                  </a:lnTo>
                  <a:lnTo>
                    <a:pt x="8531" y="0"/>
                  </a:lnTo>
                  <a:lnTo>
                    <a:pt x="8593" y="15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4187880" y="1884240"/>
              <a:ext cx="135000" cy="134640"/>
            </a:xfrm>
            <a:custGeom>
              <a:avLst/>
              <a:gdLst/>
              <a:ahLst/>
              <a:rect l="l" t="t" r="r" b="b"/>
              <a:pathLst>
                <a:path w="1953" h="1951">
                  <a:moveTo>
                    <a:pt x="91" y="1950"/>
                  </a:moveTo>
                  <a:lnTo>
                    <a:pt x="152" y="1924"/>
                  </a:lnTo>
                  <a:lnTo>
                    <a:pt x="1953" y="125"/>
                  </a:lnTo>
                  <a:lnTo>
                    <a:pt x="1828" y="0"/>
                  </a:lnTo>
                  <a:lnTo>
                    <a:pt x="28" y="1798"/>
                  </a:lnTo>
                  <a:lnTo>
                    <a:pt x="91" y="1950"/>
                  </a:lnTo>
                  <a:lnTo>
                    <a:pt x="28" y="1798"/>
                  </a:lnTo>
                  <a:lnTo>
                    <a:pt x="21" y="1806"/>
                  </a:lnTo>
                  <a:lnTo>
                    <a:pt x="15" y="1814"/>
                  </a:lnTo>
                  <a:lnTo>
                    <a:pt x="9" y="1822"/>
                  </a:lnTo>
                  <a:lnTo>
                    <a:pt x="5" y="1831"/>
                  </a:lnTo>
                  <a:lnTo>
                    <a:pt x="2" y="1840"/>
                  </a:lnTo>
                  <a:lnTo>
                    <a:pt x="1" y="1848"/>
                  </a:lnTo>
                  <a:lnTo>
                    <a:pt x="0" y="1856"/>
                  </a:lnTo>
                  <a:lnTo>
                    <a:pt x="0" y="1864"/>
                  </a:lnTo>
                  <a:lnTo>
                    <a:pt x="1" y="1872"/>
                  </a:lnTo>
                  <a:lnTo>
                    <a:pt x="2" y="1881"/>
                  </a:lnTo>
                  <a:lnTo>
                    <a:pt x="5" y="1889"/>
                  </a:lnTo>
                  <a:lnTo>
                    <a:pt x="8" y="1896"/>
                  </a:lnTo>
                  <a:lnTo>
                    <a:pt x="12" y="1903"/>
                  </a:lnTo>
                  <a:lnTo>
                    <a:pt x="17" y="1910"/>
                  </a:lnTo>
                  <a:lnTo>
                    <a:pt x="22" y="1918"/>
                  </a:lnTo>
                  <a:lnTo>
                    <a:pt x="28" y="1924"/>
                  </a:lnTo>
                  <a:lnTo>
                    <a:pt x="34" y="1929"/>
                  </a:lnTo>
                  <a:lnTo>
                    <a:pt x="40" y="1934"/>
                  </a:lnTo>
                  <a:lnTo>
                    <a:pt x="47" y="1938"/>
                  </a:lnTo>
                  <a:lnTo>
                    <a:pt x="55" y="1942"/>
                  </a:lnTo>
                  <a:lnTo>
                    <a:pt x="62" y="1945"/>
                  </a:lnTo>
                  <a:lnTo>
                    <a:pt x="70" y="1948"/>
                  </a:lnTo>
                  <a:lnTo>
                    <a:pt x="78" y="1950"/>
                  </a:lnTo>
                  <a:lnTo>
                    <a:pt x="87" y="1951"/>
                  </a:lnTo>
                  <a:lnTo>
                    <a:pt x="95" y="1951"/>
                  </a:lnTo>
                  <a:lnTo>
                    <a:pt x="103" y="1950"/>
                  </a:lnTo>
                  <a:lnTo>
                    <a:pt x="111" y="1948"/>
                  </a:lnTo>
                  <a:lnTo>
                    <a:pt x="121" y="1945"/>
                  </a:lnTo>
                  <a:lnTo>
                    <a:pt x="129" y="1941"/>
                  </a:lnTo>
                  <a:lnTo>
                    <a:pt x="137" y="1936"/>
                  </a:lnTo>
                  <a:lnTo>
                    <a:pt x="145" y="1931"/>
                  </a:lnTo>
                  <a:lnTo>
                    <a:pt x="152" y="1924"/>
                  </a:lnTo>
                  <a:lnTo>
                    <a:pt x="91" y="195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600360" y="2008080"/>
              <a:ext cx="593640" cy="10800"/>
            </a:xfrm>
            <a:custGeom>
              <a:avLst/>
              <a:gdLst/>
              <a:ahLst/>
              <a:rect l="l" t="t" r="r" b="b"/>
              <a:pathLst>
                <a:path w="8621" h="178">
                  <a:moveTo>
                    <a:pt x="27" y="26"/>
                  </a:moveTo>
                  <a:lnTo>
                    <a:pt x="90" y="178"/>
                  </a:lnTo>
                  <a:lnTo>
                    <a:pt x="8621" y="178"/>
                  </a:lnTo>
                  <a:lnTo>
                    <a:pt x="8621" y="0"/>
                  </a:lnTo>
                  <a:lnTo>
                    <a:pt x="90" y="0"/>
                  </a:lnTo>
                  <a:lnTo>
                    <a:pt x="27" y="26"/>
                  </a:lnTo>
                  <a:lnTo>
                    <a:pt x="90" y="0"/>
                  </a:lnTo>
                  <a:lnTo>
                    <a:pt x="78" y="1"/>
                  </a:lnTo>
                  <a:lnTo>
                    <a:pt x="68" y="2"/>
                  </a:lnTo>
                  <a:lnTo>
                    <a:pt x="59" y="5"/>
                  </a:lnTo>
                  <a:lnTo>
                    <a:pt x="51" y="8"/>
                  </a:lnTo>
                  <a:lnTo>
                    <a:pt x="42" y="12"/>
                  </a:lnTo>
                  <a:lnTo>
                    <a:pt x="35" y="16"/>
                  </a:lnTo>
                  <a:lnTo>
                    <a:pt x="29" y="22"/>
                  </a:lnTo>
                  <a:lnTo>
                    <a:pt x="23" y="27"/>
                  </a:lnTo>
                  <a:lnTo>
                    <a:pt x="18" y="35"/>
                  </a:lnTo>
                  <a:lnTo>
                    <a:pt x="13" y="41"/>
                  </a:lnTo>
                  <a:lnTo>
                    <a:pt x="10" y="49"/>
                  </a:lnTo>
                  <a:lnTo>
                    <a:pt x="6" y="56"/>
                  </a:lnTo>
                  <a:lnTo>
                    <a:pt x="3" y="64"/>
                  </a:lnTo>
                  <a:lnTo>
                    <a:pt x="2" y="73"/>
                  </a:lnTo>
                  <a:lnTo>
                    <a:pt x="1" y="81"/>
                  </a:lnTo>
                  <a:lnTo>
                    <a:pt x="0" y="89"/>
                  </a:lnTo>
                  <a:lnTo>
                    <a:pt x="1" y="97"/>
                  </a:lnTo>
                  <a:lnTo>
                    <a:pt x="2" y="106"/>
                  </a:lnTo>
                  <a:lnTo>
                    <a:pt x="3" y="114"/>
                  </a:lnTo>
                  <a:lnTo>
                    <a:pt x="6" y="121"/>
                  </a:lnTo>
                  <a:lnTo>
                    <a:pt x="10" y="129"/>
                  </a:lnTo>
                  <a:lnTo>
                    <a:pt x="13" y="136"/>
                  </a:lnTo>
                  <a:lnTo>
                    <a:pt x="18" y="144"/>
                  </a:lnTo>
                  <a:lnTo>
                    <a:pt x="23" y="150"/>
                  </a:lnTo>
                  <a:lnTo>
                    <a:pt x="29" y="156"/>
                  </a:lnTo>
                  <a:lnTo>
                    <a:pt x="35" y="161"/>
                  </a:lnTo>
                  <a:lnTo>
                    <a:pt x="42" y="166"/>
                  </a:lnTo>
                  <a:lnTo>
                    <a:pt x="51" y="169"/>
                  </a:lnTo>
                  <a:lnTo>
                    <a:pt x="59" y="173"/>
                  </a:lnTo>
                  <a:lnTo>
                    <a:pt x="68" y="175"/>
                  </a:lnTo>
                  <a:lnTo>
                    <a:pt x="78" y="176"/>
                  </a:lnTo>
                  <a:lnTo>
                    <a:pt x="90" y="178"/>
                  </a:lnTo>
                  <a:lnTo>
                    <a:pt x="27" y="2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728880" y="2108160"/>
              <a:ext cx="588960" cy="290160"/>
            </a:xfrm>
            <a:custGeom>
              <a:avLst/>
              <a:gdLst/>
              <a:ahLst/>
              <a:rect l="l" t="t" r="r" b="b"/>
              <a:pathLst>
                <a:path w="8533" h="4201">
                  <a:moveTo>
                    <a:pt x="1" y="0"/>
                  </a:moveTo>
                  <a:lnTo>
                    <a:pt x="0" y="4201"/>
                  </a:lnTo>
                  <a:lnTo>
                    <a:pt x="8531" y="4201"/>
                  </a:lnTo>
                  <a:lnTo>
                    <a:pt x="853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722760" y="2108160"/>
              <a:ext cx="12600" cy="294840"/>
            </a:xfrm>
            <a:custGeom>
              <a:avLst/>
              <a:gdLst/>
              <a:ahLst/>
              <a:rect l="l" t="t" r="r" b="b"/>
              <a:pathLst>
                <a:path w="179" h="4289">
                  <a:moveTo>
                    <a:pt x="89" y="4289"/>
                  </a:moveTo>
                  <a:lnTo>
                    <a:pt x="177" y="4201"/>
                  </a:lnTo>
                  <a:lnTo>
                    <a:pt x="179" y="0"/>
                  </a:lnTo>
                  <a:lnTo>
                    <a:pt x="1" y="0"/>
                  </a:lnTo>
                  <a:lnTo>
                    <a:pt x="0" y="4201"/>
                  </a:lnTo>
                  <a:lnTo>
                    <a:pt x="89" y="4289"/>
                  </a:lnTo>
                  <a:lnTo>
                    <a:pt x="0" y="4201"/>
                  </a:lnTo>
                  <a:lnTo>
                    <a:pt x="0" y="4212"/>
                  </a:lnTo>
                  <a:lnTo>
                    <a:pt x="2" y="4221"/>
                  </a:lnTo>
                  <a:lnTo>
                    <a:pt x="5" y="4232"/>
                  </a:lnTo>
                  <a:lnTo>
                    <a:pt x="8" y="4240"/>
                  </a:lnTo>
                  <a:lnTo>
                    <a:pt x="12" y="4248"/>
                  </a:lnTo>
                  <a:lnTo>
                    <a:pt x="17" y="4255"/>
                  </a:lnTo>
                  <a:lnTo>
                    <a:pt x="22" y="4261"/>
                  </a:lnTo>
                  <a:lnTo>
                    <a:pt x="28" y="4268"/>
                  </a:lnTo>
                  <a:lnTo>
                    <a:pt x="34" y="4273"/>
                  </a:lnTo>
                  <a:lnTo>
                    <a:pt x="42" y="4277"/>
                  </a:lnTo>
                  <a:lnTo>
                    <a:pt x="49" y="4281"/>
                  </a:lnTo>
                  <a:lnTo>
                    <a:pt x="56" y="4284"/>
                  </a:lnTo>
                  <a:lnTo>
                    <a:pt x="64" y="4286"/>
                  </a:lnTo>
                  <a:lnTo>
                    <a:pt x="72" y="4288"/>
                  </a:lnTo>
                  <a:lnTo>
                    <a:pt x="81" y="4289"/>
                  </a:lnTo>
                  <a:lnTo>
                    <a:pt x="89" y="4289"/>
                  </a:lnTo>
                  <a:lnTo>
                    <a:pt x="97" y="4289"/>
                  </a:lnTo>
                  <a:lnTo>
                    <a:pt x="105" y="4288"/>
                  </a:lnTo>
                  <a:lnTo>
                    <a:pt x="114" y="4286"/>
                  </a:lnTo>
                  <a:lnTo>
                    <a:pt x="122" y="4284"/>
                  </a:lnTo>
                  <a:lnTo>
                    <a:pt x="129" y="4281"/>
                  </a:lnTo>
                  <a:lnTo>
                    <a:pt x="136" y="4277"/>
                  </a:lnTo>
                  <a:lnTo>
                    <a:pt x="143" y="4273"/>
                  </a:lnTo>
                  <a:lnTo>
                    <a:pt x="150" y="4268"/>
                  </a:lnTo>
                  <a:lnTo>
                    <a:pt x="156" y="4261"/>
                  </a:lnTo>
                  <a:lnTo>
                    <a:pt x="161" y="4255"/>
                  </a:lnTo>
                  <a:lnTo>
                    <a:pt x="166" y="4248"/>
                  </a:lnTo>
                  <a:lnTo>
                    <a:pt x="170" y="4240"/>
                  </a:lnTo>
                  <a:lnTo>
                    <a:pt x="173" y="4232"/>
                  </a:lnTo>
                  <a:lnTo>
                    <a:pt x="175" y="4221"/>
                  </a:lnTo>
                  <a:lnTo>
                    <a:pt x="177" y="4212"/>
                  </a:lnTo>
                  <a:lnTo>
                    <a:pt x="177" y="4201"/>
                  </a:lnTo>
                  <a:lnTo>
                    <a:pt x="89" y="42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728880" y="2392200"/>
              <a:ext cx="594000" cy="10800"/>
            </a:xfrm>
            <a:custGeom>
              <a:avLst/>
              <a:gdLst/>
              <a:ahLst/>
              <a:rect l="l" t="t" r="r" b="b"/>
              <a:pathLst>
                <a:path w="8619" h="177">
                  <a:moveTo>
                    <a:pt x="8619" y="89"/>
                  </a:moveTo>
                  <a:lnTo>
                    <a:pt x="8531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8531" y="177"/>
                  </a:lnTo>
                  <a:lnTo>
                    <a:pt x="8619" y="89"/>
                  </a:lnTo>
                  <a:lnTo>
                    <a:pt x="8531" y="177"/>
                  </a:lnTo>
                  <a:lnTo>
                    <a:pt x="8542" y="177"/>
                  </a:lnTo>
                  <a:lnTo>
                    <a:pt x="8551" y="176"/>
                  </a:lnTo>
                  <a:lnTo>
                    <a:pt x="8561" y="173"/>
                  </a:lnTo>
                  <a:lnTo>
                    <a:pt x="8570" y="170"/>
                  </a:lnTo>
                  <a:lnTo>
                    <a:pt x="8578" y="166"/>
                  </a:lnTo>
                  <a:lnTo>
                    <a:pt x="8585" y="162"/>
                  </a:lnTo>
                  <a:lnTo>
                    <a:pt x="8592" y="156"/>
                  </a:lnTo>
                  <a:lnTo>
                    <a:pt x="8598" y="150"/>
                  </a:lnTo>
                  <a:lnTo>
                    <a:pt x="8603" y="143"/>
                  </a:lnTo>
                  <a:lnTo>
                    <a:pt x="8607" y="137"/>
                  </a:lnTo>
                  <a:lnTo>
                    <a:pt x="8611" y="129"/>
                  </a:lnTo>
                  <a:lnTo>
                    <a:pt x="8614" y="122"/>
                  </a:lnTo>
                  <a:lnTo>
                    <a:pt x="8616" y="113"/>
                  </a:lnTo>
                  <a:lnTo>
                    <a:pt x="8618" y="105"/>
                  </a:lnTo>
                  <a:lnTo>
                    <a:pt x="8619" y="97"/>
                  </a:lnTo>
                  <a:lnTo>
                    <a:pt x="8619" y="89"/>
                  </a:lnTo>
                  <a:lnTo>
                    <a:pt x="8619" y="81"/>
                  </a:lnTo>
                  <a:lnTo>
                    <a:pt x="8618" y="72"/>
                  </a:lnTo>
                  <a:lnTo>
                    <a:pt x="8616" y="64"/>
                  </a:lnTo>
                  <a:lnTo>
                    <a:pt x="8614" y="57"/>
                  </a:lnTo>
                  <a:lnTo>
                    <a:pt x="8611" y="49"/>
                  </a:lnTo>
                  <a:lnTo>
                    <a:pt x="8607" y="42"/>
                  </a:lnTo>
                  <a:lnTo>
                    <a:pt x="8603" y="34"/>
                  </a:lnTo>
                  <a:lnTo>
                    <a:pt x="8598" y="28"/>
                  </a:lnTo>
                  <a:lnTo>
                    <a:pt x="8592" y="22"/>
                  </a:lnTo>
                  <a:lnTo>
                    <a:pt x="8585" y="17"/>
                  </a:lnTo>
                  <a:lnTo>
                    <a:pt x="8578" y="12"/>
                  </a:lnTo>
                  <a:lnTo>
                    <a:pt x="8570" y="8"/>
                  </a:lnTo>
                  <a:lnTo>
                    <a:pt x="8561" y="5"/>
                  </a:lnTo>
                  <a:lnTo>
                    <a:pt x="8551" y="2"/>
                  </a:lnTo>
                  <a:lnTo>
                    <a:pt x="8542" y="1"/>
                  </a:lnTo>
                  <a:lnTo>
                    <a:pt x="8531" y="0"/>
                  </a:lnTo>
                  <a:lnTo>
                    <a:pt x="8619" y="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4311720" y="2101680"/>
              <a:ext cx="11160" cy="296640"/>
            </a:xfrm>
            <a:custGeom>
              <a:avLst/>
              <a:gdLst/>
              <a:ahLst/>
              <a:rect l="l" t="t" r="r" b="b"/>
              <a:pathLst>
                <a:path w="179" h="4289">
                  <a:moveTo>
                    <a:pt x="91" y="0"/>
                  </a:moveTo>
                  <a:lnTo>
                    <a:pt x="1" y="88"/>
                  </a:lnTo>
                  <a:lnTo>
                    <a:pt x="0" y="4289"/>
                  </a:lnTo>
                  <a:lnTo>
                    <a:pt x="177" y="4289"/>
                  </a:lnTo>
                  <a:lnTo>
                    <a:pt x="179" y="88"/>
                  </a:lnTo>
                  <a:lnTo>
                    <a:pt x="91" y="0"/>
                  </a:lnTo>
                  <a:lnTo>
                    <a:pt x="179" y="88"/>
                  </a:lnTo>
                  <a:lnTo>
                    <a:pt x="178" y="78"/>
                  </a:lnTo>
                  <a:lnTo>
                    <a:pt x="177" y="68"/>
                  </a:lnTo>
                  <a:lnTo>
                    <a:pt x="174" y="58"/>
                  </a:lnTo>
                  <a:lnTo>
                    <a:pt x="171" y="50"/>
                  </a:lnTo>
                  <a:lnTo>
                    <a:pt x="167" y="42"/>
                  </a:lnTo>
                  <a:lnTo>
                    <a:pt x="163" y="35"/>
                  </a:lnTo>
                  <a:lnTo>
                    <a:pt x="158" y="29"/>
                  </a:lnTo>
                  <a:lnTo>
                    <a:pt x="152" y="22"/>
                  </a:lnTo>
                  <a:lnTo>
                    <a:pt x="144" y="17"/>
                  </a:lnTo>
                  <a:lnTo>
                    <a:pt x="138" y="12"/>
                  </a:lnTo>
                  <a:lnTo>
                    <a:pt x="131" y="9"/>
                  </a:lnTo>
                  <a:lnTo>
                    <a:pt x="123" y="6"/>
                  </a:lnTo>
                  <a:lnTo>
                    <a:pt x="115" y="3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90" y="0"/>
                  </a:lnTo>
                  <a:lnTo>
                    <a:pt x="82" y="1"/>
                  </a:lnTo>
                  <a:lnTo>
                    <a:pt x="73" y="2"/>
                  </a:lnTo>
                  <a:lnTo>
                    <a:pt x="65" y="3"/>
                  </a:lnTo>
                  <a:lnTo>
                    <a:pt x="58" y="6"/>
                  </a:lnTo>
                  <a:lnTo>
                    <a:pt x="50" y="9"/>
                  </a:lnTo>
                  <a:lnTo>
                    <a:pt x="42" y="12"/>
                  </a:lnTo>
                  <a:lnTo>
                    <a:pt x="35" y="17"/>
                  </a:lnTo>
                  <a:lnTo>
                    <a:pt x="29" y="22"/>
                  </a:lnTo>
                  <a:lnTo>
                    <a:pt x="23" y="29"/>
                  </a:lnTo>
                  <a:lnTo>
                    <a:pt x="18" y="35"/>
                  </a:lnTo>
                  <a:lnTo>
                    <a:pt x="14" y="42"/>
                  </a:lnTo>
                  <a:lnTo>
                    <a:pt x="10" y="50"/>
                  </a:lnTo>
                  <a:lnTo>
                    <a:pt x="6" y="58"/>
                  </a:lnTo>
                  <a:lnTo>
                    <a:pt x="3" y="68"/>
                  </a:lnTo>
                  <a:lnTo>
                    <a:pt x="2" y="78"/>
                  </a:lnTo>
                  <a:lnTo>
                    <a:pt x="1" y="8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722760" y="2101680"/>
              <a:ext cx="595080" cy="12240"/>
            </a:xfrm>
            <a:custGeom>
              <a:avLst/>
              <a:gdLst/>
              <a:ahLst/>
              <a:rect l="l" t="t" r="r" b="b"/>
              <a:pathLst>
                <a:path w="8621" h="178">
                  <a:moveTo>
                    <a:pt x="0" y="88"/>
                  </a:moveTo>
                  <a:lnTo>
                    <a:pt x="89" y="178"/>
                  </a:lnTo>
                  <a:lnTo>
                    <a:pt x="8621" y="178"/>
                  </a:lnTo>
                  <a:lnTo>
                    <a:pt x="8621" y="0"/>
                  </a:lnTo>
                  <a:lnTo>
                    <a:pt x="89" y="0"/>
                  </a:lnTo>
                  <a:lnTo>
                    <a:pt x="0" y="88"/>
                  </a:lnTo>
                  <a:lnTo>
                    <a:pt x="89" y="0"/>
                  </a:lnTo>
                  <a:lnTo>
                    <a:pt x="79" y="1"/>
                  </a:lnTo>
                  <a:lnTo>
                    <a:pt x="68" y="2"/>
                  </a:lnTo>
                  <a:lnTo>
                    <a:pt x="59" y="5"/>
                  </a:lnTo>
                  <a:lnTo>
                    <a:pt x="51" y="8"/>
                  </a:lnTo>
                  <a:lnTo>
                    <a:pt x="43" y="12"/>
                  </a:lnTo>
                  <a:lnTo>
                    <a:pt x="35" y="16"/>
                  </a:lnTo>
                  <a:lnTo>
                    <a:pt x="28" y="21"/>
                  </a:lnTo>
                  <a:lnTo>
                    <a:pt x="23" y="27"/>
                  </a:lnTo>
                  <a:lnTo>
                    <a:pt x="18" y="35"/>
                  </a:lnTo>
                  <a:lnTo>
                    <a:pt x="13" y="41"/>
                  </a:lnTo>
                  <a:lnTo>
                    <a:pt x="10" y="48"/>
                  </a:lnTo>
                  <a:lnTo>
                    <a:pt x="7" y="56"/>
                  </a:lnTo>
                  <a:lnTo>
                    <a:pt x="4" y="64"/>
                  </a:lnTo>
                  <a:lnTo>
                    <a:pt x="2" y="72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1" y="97"/>
                  </a:lnTo>
                  <a:lnTo>
                    <a:pt x="2" y="106"/>
                  </a:lnTo>
                  <a:lnTo>
                    <a:pt x="4" y="113"/>
                  </a:lnTo>
                  <a:lnTo>
                    <a:pt x="7" y="121"/>
                  </a:lnTo>
                  <a:lnTo>
                    <a:pt x="10" y="129"/>
                  </a:lnTo>
                  <a:lnTo>
                    <a:pt x="13" y="136"/>
                  </a:lnTo>
                  <a:lnTo>
                    <a:pt x="18" y="143"/>
                  </a:lnTo>
                  <a:lnTo>
                    <a:pt x="23" y="150"/>
                  </a:lnTo>
                  <a:lnTo>
                    <a:pt x="28" y="156"/>
                  </a:lnTo>
                  <a:lnTo>
                    <a:pt x="35" y="161"/>
                  </a:lnTo>
                  <a:lnTo>
                    <a:pt x="43" y="165"/>
                  </a:lnTo>
                  <a:lnTo>
                    <a:pt x="51" y="169"/>
                  </a:lnTo>
                  <a:lnTo>
                    <a:pt x="59" y="172"/>
                  </a:lnTo>
                  <a:lnTo>
                    <a:pt x="68" y="175"/>
                  </a:lnTo>
                  <a:lnTo>
                    <a:pt x="79" y="177"/>
                  </a:lnTo>
                  <a:lnTo>
                    <a:pt x="89" y="17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730680" y="1333440"/>
              <a:ext cx="776160" cy="186840"/>
            </a:xfrm>
            <a:custGeom>
              <a:avLst/>
              <a:gdLst/>
              <a:ahLst/>
              <a:rect l="l" t="t" r="r" b="b"/>
              <a:pathLst>
                <a:path w="11256" h="2721">
                  <a:moveTo>
                    <a:pt x="0" y="2721"/>
                  </a:moveTo>
                  <a:lnTo>
                    <a:pt x="2725" y="0"/>
                  </a:lnTo>
                  <a:lnTo>
                    <a:pt x="11256" y="0"/>
                  </a:lnTo>
                  <a:lnTo>
                    <a:pt x="8531" y="2721"/>
                  </a:lnTo>
                  <a:lnTo>
                    <a:pt x="0" y="2721"/>
                  </a:lnTo>
                  <a:close/>
                </a:path>
              </a:pathLst>
            </a:custGeom>
            <a:solidFill>
              <a:srgbClr val="c8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726000" y="1327320"/>
              <a:ext cx="198360" cy="198000"/>
            </a:xfrm>
            <a:custGeom>
              <a:avLst/>
              <a:gdLst/>
              <a:ahLst/>
              <a:rect l="l" t="t" r="r" b="b"/>
              <a:pathLst>
                <a:path w="2877" h="2874">
                  <a:moveTo>
                    <a:pt x="2788" y="1"/>
                  </a:moveTo>
                  <a:lnTo>
                    <a:pt x="2725" y="28"/>
                  </a:lnTo>
                  <a:lnTo>
                    <a:pt x="0" y="2748"/>
                  </a:lnTo>
                  <a:lnTo>
                    <a:pt x="125" y="2874"/>
                  </a:lnTo>
                  <a:lnTo>
                    <a:pt x="2850" y="153"/>
                  </a:lnTo>
                  <a:lnTo>
                    <a:pt x="2788" y="1"/>
                  </a:lnTo>
                  <a:lnTo>
                    <a:pt x="2850" y="153"/>
                  </a:lnTo>
                  <a:lnTo>
                    <a:pt x="2858" y="145"/>
                  </a:lnTo>
                  <a:lnTo>
                    <a:pt x="2864" y="137"/>
                  </a:lnTo>
                  <a:lnTo>
                    <a:pt x="2868" y="128"/>
                  </a:lnTo>
                  <a:lnTo>
                    <a:pt x="2872" y="120"/>
                  </a:lnTo>
                  <a:lnTo>
                    <a:pt x="2875" y="111"/>
                  </a:lnTo>
                  <a:lnTo>
                    <a:pt x="2876" y="103"/>
                  </a:lnTo>
                  <a:lnTo>
                    <a:pt x="2877" y="95"/>
                  </a:lnTo>
                  <a:lnTo>
                    <a:pt x="2877" y="86"/>
                  </a:lnTo>
                  <a:lnTo>
                    <a:pt x="2876" y="78"/>
                  </a:lnTo>
                  <a:lnTo>
                    <a:pt x="2875" y="70"/>
                  </a:lnTo>
                  <a:lnTo>
                    <a:pt x="2872" y="62"/>
                  </a:lnTo>
                  <a:lnTo>
                    <a:pt x="2869" y="54"/>
                  </a:lnTo>
                  <a:lnTo>
                    <a:pt x="2865" y="47"/>
                  </a:lnTo>
                  <a:lnTo>
                    <a:pt x="2861" y="40"/>
                  </a:lnTo>
                  <a:lnTo>
                    <a:pt x="2856" y="34"/>
                  </a:lnTo>
                  <a:lnTo>
                    <a:pt x="2850" y="28"/>
                  </a:lnTo>
                  <a:lnTo>
                    <a:pt x="2844" y="22"/>
                  </a:lnTo>
                  <a:lnTo>
                    <a:pt x="2837" y="16"/>
                  </a:lnTo>
                  <a:lnTo>
                    <a:pt x="2831" y="12"/>
                  </a:lnTo>
                  <a:lnTo>
                    <a:pt x="2823" y="8"/>
                  </a:lnTo>
                  <a:lnTo>
                    <a:pt x="2815" y="5"/>
                  </a:lnTo>
                  <a:lnTo>
                    <a:pt x="2807" y="3"/>
                  </a:lnTo>
                  <a:lnTo>
                    <a:pt x="2799" y="1"/>
                  </a:lnTo>
                  <a:lnTo>
                    <a:pt x="2792" y="0"/>
                  </a:lnTo>
                  <a:lnTo>
                    <a:pt x="2782" y="0"/>
                  </a:lnTo>
                  <a:lnTo>
                    <a:pt x="2774" y="1"/>
                  </a:lnTo>
                  <a:lnTo>
                    <a:pt x="2766" y="3"/>
                  </a:lnTo>
                  <a:lnTo>
                    <a:pt x="2758" y="5"/>
                  </a:lnTo>
                  <a:lnTo>
                    <a:pt x="2748" y="9"/>
                  </a:lnTo>
                  <a:lnTo>
                    <a:pt x="2740" y="14"/>
                  </a:lnTo>
                  <a:lnTo>
                    <a:pt x="2732" y="21"/>
                  </a:lnTo>
                  <a:lnTo>
                    <a:pt x="2725" y="28"/>
                  </a:lnTo>
                  <a:lnTo>
                    <a:pt x="2788" y="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917880" y="1327320"/>
              <a:ext cx="595440" cy="12240"/>
            </a:xfrm>
            <a:custGeom>
              <a:avLst/>
              <a:gdLst/>
              <a:ahLst/>
              <a:rect l="l" t="t" r="r" b="b"/>
              <a:pathLst>
                <a:path w="8619" h="178">
                  <a:moveTo>
                    <a:pt x="8593" y="152"/>
                  </a:moveTo>
                  <a:lnTo>
                    <a:pt x="8531" y="0"/>
                  </a:lnTo>
                  <a:lnTo>
                    <a:pt x="0" y="0"/>
                  </a:lnTo>
                  <a:lnTo>
                    <a:pt x="0" y="178"/>
                  </a:lnTo>
                  <a:lnTo>
                    <a:pt x="8531" y="178"/>
                  </a:lnTo>
                  <a:lnTo>
                    <a:pt x="8593" y="152"/>
                  </a:lnTo>
                  <a:lnTo>
                    <a:pt x="8531" y="178"/>
                  </a:lnTo>
                  <a:lnTo>
                    <a:pt x="8541" y="177"/>
                  </a:lnTo>
                  <a:lnTo>
                    <a:pt x="8551" y="176"/>
                  </a:lnTo>
                  <a:lnTo>
                    <a:pt x="8560" y="174"/>
                  </a:lnTo>
                  <a:lnTo>
                    <a:pt x="8569" y="170"/>
                  </a:lnTo>
                  <a:lnTo>
                    <a:pt x="8577" y="167"/>
                  </a:lnTo>
                  <a:lnTo>
                    <a:pt x="8584" y="161"/>
                  </a:lnTo>
                  <a:lnTo>
                    <a:pt x="8591" y="156"/>
                  </a:lnTo>
                  <a:lnTo>
                    <a:pt x="8596" y="150"/>
                  </a:lnTo>
                  <a:lnTo>
                    <a:pt x="8602" y="144"/>
                  </a:lnTo>
                  <a:lnTo>
                    <a:pt x="8607" y="137"/>
                  </a:lnTo>
                  <a:lnTo>
                    <a:pt x="8611" y="130"/>
                  </a:lnTo>
                  <a:lnTo>
                    <a:pt x="8614" y="121"/>
                  </a:lnTo>
                  <a:lnTo>
                    <a:pt x="8616" y="114"/>
                  </a:lnTo>
                  <a:lnTo>
                    <a:pt x="8618" y="106"/>
                  </a:lnTo>
                  <a:lnTo>
                    <a:pt x="8619" y="98"/>
                  </a:lnTo>
                  <a:lnTo>
                    <a:pt x="8619" y="89"/>
                  </a:lnTo>
                  <a:lnTo>
                    <a:pt x="8619" y="81"/>
                  </a:lnTo>
                  <a:lnTo>
                    <a:pt x="8618" y="73"/>
                  </a:lnTo>
                  <a:lnTo>
                    <a:pt x="8616" y="65"/>
                  </a:lnTo>
                  <a:lnTo>
                    <a:pt x="8614" y="57"/>
                  </a:lnTo>
                  <a:lnTo>
                    <a:pt x="8611" y="49"/>
                  </a:lnTo>
                  <a:lnTo>
                    <a:pt x="8607" y="41"/>
                  </a:lnTo>
                  <a:lnTo>
                    <a:pt x="8602" y="35"/>
                  </a:lnTo>
                  <a:lnTo>
                    <a:pt x="8596" y="28"/>
                  </a:lnTo>
                  <a:lnTo>
                    <a:pt x="8591" y="23"/>
                  </a:lnTo>
                  <a:lnTo>
                    <a:pt x="8584" y="16"/>
                  </a:lnTo>
                  <a:lnTo>
                    <a:pt x="8577" y="12"/>
                  </a:lnTo>
                  <a:lnTo>
                    <a:pt x="8569" y="8"/>
                  </a:lnTo>
                  <a:lnTo>
                    <a:pt x="8560" y="5"/>
                  </a:lnTo>
                  <a:lnTo>
                    <a:pt x="8551" y="2"/>
                  </a:lnTo>
                  <a:lnTo>
                    <a:pt x="8541" y="1"/>
                  </a:lnTo>
                  <a:lnTo>
                    <a:pt x="8531" y="0"/>
                  </a:lnTo>
                  <a:lnTo>
                    <a:pt x="8593" y="15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313160" y="1328760"/>
              <a:ext cx="198360" cy="198000"/>
            </a:xfrm>
            <a:custGeom>
              <a:avLst/>
              <a:gdLst/>
              <a:ahLst/>
              <a:rect l="l" t="t" r="r" b="b"/>
              <a:pathLst>
                <a:path w="2877" h="2874">
                  <a:moveTo>
                    <a:pt x="90" y="2871"/>
                  </a:moveTo>
                  <a:lnTo>
                    <a:pt x="152" y="2846"/>
                  </a:lnTo>
                  <a:lnTo>
                    <a:pt x="2877" y="125"/>
                  </a:lnTo>
                  <a:lnTo>
                    <a:pt x="2752" y="0"/>
                  </a:lnTo>
                  <a:lnTo>
                    <a:pt x="28" y="2720"/>
                  </a:lnTo>
                  <a:lnTo>
                    <a:pt x="90" y="2871"/>
                  </a:lnTo>
                  <a:lnTo>
                    <a:pt x="28" y="2720"/>
                  </a:lnTo>
                  <a:lnTo>
                    <a:pt x="20" y="2729"/>
                  </a:lnTo>
                  <a:lnTo>
                    <a:pt x="14" y="2737"/>
                  </a:lnTo>
                  <a:lnTo>
                    <a:pt x="9" y="2745"/>
                  </a:lnTo>
                  <a:lnTo>
                    <a:pt x="5" y="2753"/>
                  </a:lnTo>
                  <a:lnTo>
                    <a:pt x="2" y="2761"/>
                  </a:lnTo>
                  <a:lnTo>
                    <a:pt x="1" y="2770"/>
                  </a:lnTo>
                  <a:lnTo>
                    <a:pt x="0" y="2779"/>
                  </a:lnTo>
                  <a:lnTo>
                    <a:pt x="0" y="2787"/>
                  </a:lnTo>
                  <a:lnTo>
                    <a:pt x="1" y="2795"/>
                  </a:lnTo>
                  <a:lnTo>
                    <a:pt x="2" y="2804"/>
                  </a:lnTo>
                  <a:lnTo>
                    <a:pt x="5" y="2811"/>
                  </a:lnTo>
                  <a:lnTo>
                    <a:pt x="8" y="2819"/>
                  </a:lnTo>
                  <a:lnTo>
                    <a:pt x="12" y="2826"/>
                  </a:lnTo>
                  <a:lnTo>
                    <a:pt x="16" y="2833"/>
                  </a:lnTo>
                  <a:lnTo>
                    <a:pt x="22" y="2840"/>
                  </a:lnTo>
                  <a:lnTo>
                    <a:pt x="28" y="2846"/>
                  </a:lnTo>
                  <a:lnTo>
                    <a:pt x="33" y="2851"/>
                  </a:lnTo>
                  <a:lnTo>
                    <a:pt x="40" y="2856"/>
                  </a:lnTo>
                  <a:lnTo>
                    <a:pt x="47" y="2861"/>
                  </a:lnTo>
                  <a:lnTo>
                    <a:pt x="55" y="2865"/>
                  </a:lnTo>
                  <a:lnTo>
                    <a:pt x="62" y="2868"/>
                  </a:lnTo>
                  <a:lnTo>
                    <a:pt x="70" y="2870"/>
                  </a:lnTo>
                  <a:lnTo>
                    <a:pt x="78" y="2872"/>
                  </a:lnTo>
                  <a:lnTo>
                    <a:pt x="86" y="2874"/>
                  </a:lnTo>
                  <a:lnTo>
                    <a:pt x="95" y="2874"/>
                  </a:lnTo>
                  <a:lnTo>
                    <a:pt x="103" y="2872"/>
                  </a:lnTo>
                  <a:lnTo>
                    <a:pt x="111" y="2870"/>
                  </a:lnTo>
                  <a:lnTo>
                    <a:pt x="119" y="2867"/>
                  </a:lnTo>
                  <a:lnTo>
                    <a:pt x="129" y="2864"/>
                  </a:lnTo>
                  <a:lnTo>
                    <a:pt x="137" y="2859"/>
                  </a:lnTo>
                  <a:lnTo>
                    <a:pt x="145" y="2853"/>
                  </a:lnTo>
                  <a:lnTo>
                    <a:pt x="152" y="2846"/>
                  </a:lnTo>
                  <a:lnTo>
                    <a:pt x="90" y="287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724200" y="1514520"/>
              <a:ext cx="595440" cy="12240"/>
            </a:xfrm>
            <a:custGeom>
              <a:avLst/>
              <a:gdLst/>
              <a:ahLst/>
              <a:rect l="l" t="t" r="r" b="b"/>
              <a:pathLst>
                <a:path w="8620" h="176">
                  <a:moveTo>
                    <a:pt x="26" y="25"/>
                  </a:moveTo>
                  <a:lnTo>
                    <a:pt x="89" y="176"/>
                  </a:lnTo>
                  <a:lnTo>
                    <a:pt x="8620" y="176"/>
                  </a:lnTo>
                  <a:lnTo>
                    <a:pt x="8620" y="0"/>
                  </a:lnTo>
                  <a:lnTo>
                    <a:pt x="89" y="0"/>
                  </a:lnTo>
                  <a:lnTo>
                    <a:pt x="26" y="25"/>
                  </a:lnTo>
                  <a:lnTo>
                    <a:pt x="89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59" y="4"/>
                  </a:lnTo>
                  <a:lnTo>
                    <a:pt x="51" y="7"/>
                  </a:lnTo>
                  <a:lnTo>
                    <a:pt x="42" y="11"/>
                  </a:lnTo>
                  <a:lnTo>
                    <a:pt x="35" y="16"/>
                  </a:lnTo>
                  <a:lnTo>
                    <a:pt x="28" y="21"/>
                  </a:lnTo>
                  <a:lnTo>
                    <a:pt x="23" y="27"/>
                  </a:lnTo>
                  <a:lnTo>
                    <a:pt x="18" y="34"/>
                  </a:lnTo>
                  <a:lnTo>
                    <a:pt x="13" y="41"/>
                  </a:lnTo>
                  <a:lnTo>
                    <a:pt x="9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1" y="105"/>
                  </a:lnTo>
                  <a:lnTo>
                    <a:pt x="3" y="113"/>
                  </a:lnTo>
                  <a:lnTo>
                    <a:pt x="6" y="121"/>
                  </a:lnTo>
                  <a:lnTo>
                    <a:pt x="9" y="128"/>
                  </a:lnTo>
                  <a:lnTo>
                    <a:pt x="13" y="135"/>
                  </a:lnTo>
                  <a:lnTo>
                    <a:pt x="18" y="143"/>
                  </a:lnTo>
                  <a:lnTo>
                    <a:pt x="23" y="149"/>
                  </a:lnTo>
                  <a:lnTo>
                    <a:pt x="28" y="155"/>
                  </a:lnTo>
                  <a:lnTo>
                    <a:pt x="35" y="160"/>
                  </a:lnTo>
                  <a:lnTo>
                    <a:pt x="42" y="165"/>
                  </a:lnTo>
                  <a:lnTo>
                    <a:pt x="51" y="169"/>
                  </a:lnTo>
                  <a:lnTo>
                    <a:pt x="59" y="172"/>
                  </a:lnTo>
                  <a:lnTo>
                    <a:pt x="68" y="174"/>
                  </a:lnTo>
                  <a:lnTo>
                    <a:pt x="78" y="176"/>
                  </a:lnTo>
                  <a:lnTo>
                    <a:pt x="89" y="176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179960" y="1823760"/>
              <a:ext cx="187200" cy="415800"/>
            </a:xfrm>
            <a:custGeom>
              <a:avLst/>
              <a:gdLst/>
              <a:ahLst/>
              <a:rect l="l" t="t" r="r" b="b"/>
              <a:pathLst>
                <a:path w="2730" h="6020">
                  <a:moveTo>
                    <a:pt x="6" y="6020"/>
                  </a:moveTo>
                  <a:lnTo>
                    <a:pt x="2730" y="3299"/>
                  </a:lnTo>
                  <a:lnTo>
                    <a:pt x="2725" y="0"/>
                  </a:lnTo>
                  <a:lnTo>
                    <a:pt x="0" y="2720"/>
                  </a:lnTo>
                  <a:lnTo>
                    <a:pt x="6" y="6020"/>
                  </a:lnTo>
                  <a:close/>
                </a:path>
              </a:pathLst>
            </a:custGeom>
            <a:solidFill>
              <a:srgbClr val="7b7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175280" y="2044440"/>
              <a:ext cx="198360" cy="198360"/>
            </a:xfrm>
            <a:custGeom>
              <a:avLst/>
              <a:gdLst/>
              <a:ahLst/>
              <a:rect l="l" t="t" r="r" b="b"/>
              <a:pathLst>
                <a:path w="2876" h="2873">
                  <a:moveTo>
                    <a:pt x="2875" y="90"/>
                  </a:moveTo>
                  <a:lnTo>
                    <a:pt x="2724" y="27"/>
                  </a:lnTo>
                  <a:lnTo>
                    <a:pt x="0" y="2748"/>
                  </a:lnTo>
                  <a:lnTo>
                    <a:pt x="124" y="2873"/>
                  </a:lnTo>
                  <a:lnTo>
                    <a:pt x="2849" y="153"/>
                  </a:lnTo>
                  <a:lnTo>
                    <a:pt x="2875" y="90"/>
                  </a:lnTo>
                  <a:lnTo>
                    <a:pt x="2849" y="153"/>
                  </a:lnTo>
                  <a:lnTo>
                    <a:pt x="2857" y="144"/>
                  </a:lnTo>
                  <a:lnTo>
                    <a:pt x="2863" y="136"/>
                  </a:lnTo>
                  <a:lnTo>
                    <a:pt x="2867" y="128"/>
                  </a:lnTo>
                  <a:lnTo>
                    <a:pt x="2871" y="120"/>
                  </a:lnTo>
                  <a:lnTo>
                    <a:pt x="2874" y="112"/>
                  </a:lnTo>
                  <a:lnTo>
                    <a:pt x="2876" y="103"/>
                  </a:lnTo>
                  <a:lnTo>
                    <a:pt x="2876" y="94"/>
                  </a:lnTo>
                  <a:lnTo>
                    <a:pt x="2876" y="86"/>
                  </a:lnTo>
                  <a:lnTo>
                    <a:pt x="2876" y="78"/>
                  </a:lnTo>
                  <a:lnTo>
                    <a:pt x="2874" y="69"/>
                  </a:lnTo>
                  <a:lnTo>
                    <a:pt x="2871" y="62"/>
                  </a:lnTo>
                  <a:lnTo>
                    <a:pt x="2868" y="54"/>
                  </a:lnTo>
                  <a:lnTo>
                    <a:pt x="2865" y="47"/>
                  </a:lnTo>
                  <a:lnTo>
                    <a:pt x="2860" y="40"/>
                  </a:lnTo>
                  <a:lnTo>
                    <a:pt x="2854" y="33"/>
                  </a:lnTo>
                  <a:lnTo>
                    <a:pt x="2849" y="27"/>
                  </a:lnTo>
                  <a:lnTo>
                    <a:pt x="2843" y="22"/>
                  </a:lnTo>
                  <a:lnTo>
                    <a:pt x="2836" y="17"/>
                  </a:lnTo>
                  <a:lnTo>
                    <a:pt x="2830" y="12"/>
                  </a:lnTo>
                  <a:lnTo>
                    <a:pt x="2823" y="9"/>
                  </a:lnTo>
                  <a:lnTo>
                    <a:pt x="2814" y="5"/>
                  </a:lnTo>
                  <a:lnTo>
                    <a:pt x="2807" y="3"/>
                  </a:lnTo>
                  <a:lnTo>
                    <a:pt x="2799" y="1"/>
                  </a:lnTo>
                  <a:lnTo>
                    <a:pt x="2791" y="0"/>
                  </a:lnTo>
                  <a:lnTo>
                    <a:pt x="2781" y="0"/>
                  </a:lnTo>
                  <a:lnTo>
                    <a:pt x="2773" y="1"/>
                  </a:lnTo>
                  <a:lnTo>
                    <a:pt x="2765" y="3"/>
                  </a:lnTo>
                  <a:lnTo>
                    <a:pt x="2757" y="6"/>
                  </a:lnTo>
                  <a:lnTo>
                    <a:pt x="2748" y="9"/>
                  </a:lnTo>
                  <a:lnTo>
                    <a:pt x="2740" y="14"/>
                  </a:lnTo>
                  <a:lnTo>
                    <a:pt x="2732" y="20"/>
                  </a:lnTo>
                  <a:lnTo>
                    <a:pt x="2724" y="27"/>
                  </a:lnTo>
                  <a:lnTo>
                    <a:pt x="2875" y="9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361040" y="1817640"/>
              <a:ext cx="12600" cy="232920"/>
            </a:xfrm>
            <a:custGeom>
              <a:avLst/>
              <a:gdLst/>
              <a:ahLst/>
              <a:rect l="l" t="t" r="r" b="b"/>
              <a:pathLst>
                <a:path w="182" h="3388">
                  <a:moveTo>
                    <a:pt x="27" y="26"/>
                  </a:moveTo>
                  <a:lnTo>
                    <a:pt x="0" y="89"/>
                  </a:lnTo>
                  <a:lnTo>
                    <a:pt x="5" y="3388"/>
                  </a:lnTo>
                  <a:lnTo>
                    <a:pt x="182" y="3388"/>
                  </a:lnTo>
                  <a:lnTo>
                    <a:pt x="178" y="89"/>
                  </a:lnTo>
                  <a:lnTo>
                    <a:pt x="27" y="26"/>
                  </a:lnTo>
                  <a:lnTo>
                    <a:pt x="178" y="89"/>
                  </a:lnTo>
                  <a:lnTo>
                    <a:pt x="177" y="78"/>
                  </a:lnTo>
                  <a:lnTo>
                    <a:pt x="176" y="68"/>
                  </a:lnTo>
                  <a:lnTo>
                    <a:pt x="174" y="59"/>
                  </a:lnTo>
                  <a:lnTo>
                    <a:pt x="170" y="50"/>
                  </a:lnTo>
                  <a:lnTo>
                    <a:pt x="167" y="42"/>
                  </a:lnTo>
                  <a:lnTo>
                    <a:pt x="161" y="35"/>
                  </a:lnTo>
                  <a:lnTo>
                    <a:pt x="156" y="28"/>
                  </a:lnTo>
                  <a:lnTo>
                    <a:pt x="150" y="22"/>
                  </a:lnTo>
                  <a:lnTo>
                    <a:pt x="144" y="17"/>
                  </a:lnTo>
                  <a:lnTo>
                    <a:pt x="137" y="13"/>
                  </a:lnTo>
                  <a:lnTo>
                    <a:pt x="130" y="9"/>
                  </a:lnTo>
                  <a:lnTo>
                    <a:pt x="121" y="5"/>
                  </a:lnTo>
                  <a:lnTo>
                    <a:pt x="114" y="3"/>
                  </a:lnTo>
                  <a:lnTo>
                    <a:pt x="106" y="1"/>
                  </a:lnTo>
                  <a:lnTo>
                    <a:pt x="98" y="0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3" y="1"/>
                  </a:lnTo>
                  <a:lnTo>
                    <a:pt x="65" y="3"/>
                  </a:lnTo>
                  <a:lnTo>
                    <a:pt x="56" y="5"/>
                  </a:lnTo>
                  <a:lnTo>
                    <a:pt x="48" y="9"/>
                  </a:lnTo>
                  <a:lnTo>
                    <a:pt x="41" y="13"/>
                  </a:lnTo>
                  <a:lnTo>
                    <a:pt x="35" y="17"/>
                  </a:lnTo>
                  <a:lnTo>
                    <a:pt x="28" y="22"/>
                  </a:lnTo>
                  <a:lnTo>
                    <a:pt x="23" y="28"/>
                  </a:lnTo>
                  <a:lnTo>
                    <a:pt x="16" y="35"/>
                  </a:lnTo>
                  <a:lnTo>
                    <a:pt x="12" y="42"/>
                  </a:lnTo>
                  <a:lnTo>
                    <a:pt x="8" y="50"/>
                  </a:lnTo>
                  <a:lnTo>
                    <a:pt x="5" y="59"/>
                  </a:lnTo>
                  <a:lnTo>
                    <a:pt x="2" y="68"/>
                  </a:lnTo>
                  <a:lnTo>
                    <a:pt x="1" y="78"/>
                  </a:lnTo>
                  <a:lnTo>
                    <a:pt x="0" y="89"/>
                  </a:lnTo>
                  <a:lnTo>
                    <a:pt x="27" y="26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173480" y="1819080"/>
              <a:ext cx="198360" cy="198000"/>
            </a:xfrm>
            <a:custGeom>
              <a:avLst/>
              <a:gdLst/>
              <a:ahLst/>
              <a:rect l="l" t="t" r="r" b="b"/>
              <a:pathLst>
                <a:path w="2877" h="2874">
                  <a:moveTo>
                    <a:pt x="1" y="2783"/>
                  </a:moveTo>
                  <a:lnTo>
                    <a:pt x="152" y="2846"/>
                  </a:lnTo>
                  <a:lnTo>
                    <a:pt x="2877" y="125"/>
                  </a:lnTo>
                  <a:lnTo>
                    <a:pt x="2752" y="0"/>
                  </a:lnTo>
                  <a:lnTo>
                    <a:pt x="27" y="2721"/>
                  </a:lnTo>
                  <a:lnTo>
                    <a:pt x="1" y="2783"/>
                  </a:lnTo>
                  <a:lnTo>
                    <a:pt x="27" y="2721"/>
                  </a:lnTo>
                  <a:lnTo>
                    <a:pt x="20" y="2729"/>
                  </a:lnTo>
                  <a:lnTo>
                    <a:pt x="13" y="2737"/>
                  </a:lnTo>
                  <a:lnTo>
                    <a:pt x="9" y="2745"/>
                  </a:lnTo>
                  <a:lnTo>
                    <a:pt x="5" y="2754"/>
                  </a:lnTo>
                  <a:lnTo>
                    <a:pt x="2" y="2763"/>
                  </a:lnTo>
                  <a:lnTo>
                    <a:pt x="0" y="2771"/>
                  </a:lnTo>
                  <a:lnTo>
                    <a:pt x="0" y="2779"/>
                  </a:lnTo>
                  <a:lnTo>
                    <a:pt x="0" y="2787"/>
                  </a:lnTo>
                  <a:lnTo>
                    <a:pt x="1" y="2796"/>
                  </a:lnTo>
                  <a:lnTo>
                    <a:pt x="2" y="2804"/>
                  </a:lnTo>
                  <a:lnTo>
                    <a:pt x="5" y="2812"/>
                  </a:lnTo>
                  <a:lnTo>
                    <a:pt x="8" y="2819"/>
                  </a:lnTo>
                  <a:lnTo>
                    <a:pt x="12" y="2827"/>
                  </a:lnTo>
                  <a:lnTo>
                    <a:pt x="16" y="2834"/>
                  </a:lnTo>
                  <a:lnTo>
                    <a:pt x="22" y="2840"/>
                  </a:lnTo>
                  <a:lnTo>
                    <a:pt x="27" y="2846"/>
                  </a:lnTo>
                  <a:lnTo>
                    <a:pt x="33" y="2852"/>
                  </a:lnTo>
                  <a:lnTo>
                    <a:pt x="40" y="2857"/>
                  </a:lnTo>
                  <a:lnTo>
                    <a:pt x="46" y="2861"/>
                  </a:lnTo>
                  <a:lnTo>
                    <a:pt x="54" y="2866"/>
                  </a:lnTo>
                  <a:lnTo>
                    <a:pt x="62" y="2869"/>
                  </a:lnTo>
                  <a:lnTo>
                    <a:pt x="70" y="2871"/>
                  </a:lnTo>
                  <a:lnTo>
                    <a:pt x="77" y="2873"/>
                  </a:lnTo>
                  <a:lnTo>
                    <a:pt x="86" y="2874"/>
                  </a:lnTo>
                  <a:lnTo>
                    <a:pt x="95" y="2874"/>
                  </a:lnTo>
                  <a:lnTo>
                    <a:pt x="103" y="2873"/>
                  </a:lnTo>
                  <a:lnTo>
                    <a:pt x="111" y="2871"/>
                  </a:lnTo>
                  <a:lnTo>
                    <a:pt x="119" y="2869"/>
                  </a:lnTo>
                  <a:lnTo>
                    <a:pt x="128" y="2865"/>
                  </a:lnTo>
                  <a:lnTo>
                    <a:pt x="137" y="2859"/>
                  </a:lnTo>
                  <a:lnTo>
                    <a:pt x="144" y="2853"/>
                  </a:lnTo>
                  <a:lnTo>
                    <a:pt x="152" y="2846"/>
                  </a:lnTo>
                  <a:lnTo>
                    <a:pt x="1" y="278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173480" y="2011320"/>
              <a:ext cx="12600" cy="234360"/>
            </a:xfrm>
            <a:custGeom>
              <a:avLst/>
              <a:gdLst/>
              <a:ahLst/>
              <a:rect l="l" t="t" r="r" b="b"/>
              <a:pathLst>
                <a:path w="182" h="3389">
                  <a:moveTo>
                    <a:pt x="155" y="3362"/>
                  </a:moveTo>
                  <a:lnTo>
                    <a:pt x="182" y="3300"/>
                  </a:lnTo>
                  <a:lnTo>
                    <a:pt x="178" y="0"/>
                  </a:lnTo>
                  <a:lnTo>
                    <a:pt x="0" y="0"/>
                  </a:lnTo>
                  <a:lnTo>
                    <a:pt x="4" y="3300"/>
                  </a:lnTo>
                  <a:lnTo>
                    <a:pt x="155" y="3362"/>
                  </a:lnTo>
                  <a:lnTo>
                    <a:pt x="4" y="3300"/>
                  </a:lnTo>
                  <a:lnTo>
                    <a:pt x="5" y="3311"/>
                  </a:lnTo>
                  <a:lnTo>
                    <a:pt x="6" y="3321"/>
                  </a:lnTo>
                  <a:lnTo>
                    <a:pt x="9" y="3330"/>
                  </a:lnTo>
                  <a:lnTo>
                    <a:pt x="12" y="3339"/>
                  </a:lnTo>
                  <a:lnTo>
                    <a:pt x="16" y="3347"/>
                  </a:lnTo>
                  <a:lnTo>
                    <a:pt x="21" y="3354"/>
                  </a:lnTo>
                  <a:lnTo>
                    <a:pt x="26" y="3360"/>
                  </a:lnTo>
                  <a:lnTo>
                    <a:pt x="32" y="3366"/>
                  </a:lnTo>
                  <a:lnTo>
                    <a:pt x="38" y="3372"/>
                  </a:lnTo>
                  <a:lnTo>
                    <a:pt x="45" y="3376"/>
                  </a:lnTo>
                  <a:lnTo>
                    <a:pt x="52" y="3380"/>
                  </a:lnTo>
                  <a:lnTo>
                    <a:pt x="61" y="3383"/>
                  </a:lnTo>
                  <a:lnTo>
                    <a:pt x="68" y="3386"/>
                  </a:lnTo>
                  <a:lnTo>
                    <a:pt x="76" y="3387"/>
                  </a:lnTo>
                  <a:lnTo>
                    <a:pt x="84" y="3388"/>
                  </a:lnTo>
                  <a:lnTo>
                    <a:pt x="93" y="3389"/>
                  </a:lnTo>
                  <a:lnTo>
                    <a:pt x="102" y="3388"/>
                  </a:lnTo>
                  <a:lnTo>
                    <a:pt x="110" y="3387"/>
                  </a:lnTo>
                  <a:lnTo>
                    <a:pt x="117" y="3386"/>
                  </a:lnTo>
                  <a:lnTo>
                    <a:pt x="126" y="3383"/>
                  </a:lnTo>
                  <a:lnTo>
                    <a:pt x="134" y="3380"/>
                  </a:lnTo>
                  <a:lnTo>
                    <a:pt x="141" y="3376"/>
                  </a:lnTo>
                  <a:lnTo>
                    <a:pt x="147" y="3372"/>
                  </a:lnTo>
                  <a:lnTo>
                    <a:pt x="154" y="3366"/>
                  </a:lnTo>
                  <a:lnTo>
                    <a:pt x="161" y="3360"/>
                  </a:lnTo>
                  <a:lnTo>
                    <a:pt x="166" y="3354"/>
                  </a:lnTo>
                  <a:lnTo>
                    <a:pt x="170" y="3347"/>
                  </a:lnTo>
                  <a:lnTo>
                    <a:pt x="174" y="3339"/>
                  </a:lnTo>
                  <a:lnTo>
                    <a:pt x="177" y="3330"/>
                  </a:lnTo>
                  <a:lnTo>
                    <a:pt x="180" y="3321"/>
                  </a:lnTo>
                  <a:lnTo>
                    <a:pt x="181" y="3311"/>
                  </a:lnTo>
                  <a:lnTo>
                    <a:pt x="182" y="3300"/>
                  </a:lnTo>
                  <a:lnTo>
                    <a:pt x="155" y="3362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317840" y="1333440"/>
              <a:ext cx="189000" cy="1120320"/>
            </a:xfrm>
            <a:custGeom>
              <a:avLst/>
              <a:gdLst/>
              <a:ahLst/>
              <a:rect l="l" t="t" r="r" b="b"/>
              <a:pathLst>
                <a:path w="2733" h="16241">
                  <a:moveTo>
                    <a:pt x="0" y="16241"/>
                  </a:moveTo>
                  <a:lnTo>
                    <a:pt x="2725" y="13520"/>
                  </a:lnTo>
                  <a:lnTo>
                    <a:pt x="2733" y="0"/>
                  </a:lnTo>
                  <a:lnTo>
                    <a:pt x="8" y="2721"/>
                  </a:lnTo>
                  <a:lnTo>
                    <a:pt x="0" y="16241"/>
                  </a:lnTo>
                  <a:close/>
                </a:path>
              </a:pathLst>
            </a:custGeom>
            <a:solidFill>
              <a:srgbClr val="7b7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4314960" y="2260440"/>
              <a:ext cx="198360" cy="198000"/>
            </a:xfrm>
            <a:custGeom>
              <a:avLst/>
              <a:gdLst/>
              <a:ahLst/>
              <a:rect l="l" t="t" r="r" b="b"/>
              <a:pathLst>
                <a:path w="2877" h="2874">
                  <a:moveTo>
                    <a:pt x="2876" y="90"/>
                  </a:moveTo>
                  <a:lnTo>
                    <a:pt x="2725" y="28"/>
                  </a:lnTo>
                  <a:lnTo>
                    <a:pt x="0" y="2748"/>
                  </a:lnTo>
                  <a:lnTo>
                    <a:pt x="125" y="2874"/>
                  </a:lnTo>
                  <a:lnTo>
                    <a:pt x="2850" y="153"/>
                  </a:lnTo>
                  <a:lnTo>
                    <a:pt x="2876" y="90"/>
                  </a:lnTo>
                  <a:lnTo>
                    <a:pt x="2850" y="153"/>
                  </a:lnTo>
                  <a:lnTo>
                    <a:pt x="2857" y="145"/>
                  </a:lnTo>
                  <a:lnTo>
                    <a:pt x="2863" y="137"/>
                  </a:lnTo>
                  <a:lnTo>
                    <a:pt x="2868" y="128"/>
                  </a:lnTo>
                  <a:lnTo>
                    <a:pt x="2872" y="120"/>
                  </a:lnTo>
                  <a:lnTo>
                    <a:pt x="2875" y="111"/>
                  </a:lnTo>
                  <a:lnTo>
                    <a:pt x="2876" y="103"/>
                  </a:lnTo>
                  <a:lnTo>
                    <a:pt x="2877" y="94"/>
                  </a:lnTo>
                  <a:lnTo>
                    <a:pt x="2877" y="86"/>
                  </a:lnTo>
                  <a:lnTo>
                    <a:pt x="2876" y="78"/>
                  </a:lnTo>
                  <a:lnTo>
                    <a:pt x="2875" y="70"/>
                  </a:lnTo>
                  <a:lnTo>
                    <a:pt x="2872" y="62"/>
                  </a:lnTo>
                  <a:lnTo>
                    <a:pt x="2869" y="54"/>
                  </a:lnTo>
                  <a:lnTo>
                    <a:pt x="2864" y="47"/>
                  </a:lnTo>
                  <a:lnTo>
                    <a:pt x="2860" y="40"/>
                  </a:lnTo>
                  <a:lnTo>
                    <a:pt x="2855" y="34"/>
                  </a:lnTo>
                  <a:lnTo>
                    <a:pt x="2850" y="28"/>
                  </a:lnTo>
                  <a:lnTo>
                    <a:pt x="2844" y="21"/>
                  </a:lnTo>
                  <a:lnTo>
                    <a:pt x="2837" y="16"/>
                  </a:lnTo>
                  <a:lnTo>
                    <a:pt x="2829" y="12"/>
                  </a:lnTo>
                  <a:lnTo>
                    <a:pt x="2822" y="8"/>
                  </a:lnTo>
                  <a:lnTo>
                    <a:pt x="2815" y="5"/>
                  </a:lnTo>
                  <a:lnTo>
                    <a:pt x="2807" y="3"/>
                  </a:lnTo>
                  <a:lnTo>
                    <a:pt x="2799" y="1"/>
                  </a:lnTo>
                  <a:lnTo>
                    <a:pt x="2790" y="0"/>
                  </a:lnTo>
                  <a:lnTo>
                    <a:pt x="2782" y="0"/>
                  </a:lnTo>
                  <a:lnTo>
                    <a:pt x="2774" y="1"/>
                  </a:lnTo>
                  <a:lnTo>
                    <a:pt x="2766" y="3"/>
                  </a:lnTo>
                  <a:lnTo>
                    <a:pt x="2757" y="5"/>
                  </a:lnTo>
                  <a:lnTo>
                    <a:pt x="2748" y="9"/>
                  </a:lnTo>
                  <a:lnTo>
                    <a:pt x="2740" y="14"/>
                  </a:lnTo>
                  <a:lnTo>
                    <a:pt x="2732" y="20"/>
                  </a:lnTo>
                  <a:lnTo>
                    <a:pt x="2725" y="28"/>
                  </a:lnTo>
                  <a:lnTo>
                    <a:pt x="2876" y="9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500720" y="1327320"/>
              <a:ext cx="12600" cy="939600"/>
            </a:xfrm>
            <a:custGeom>
              <a:avLst/>
              <a:gdLst/>
              <a:ahLst/>
              <a:rect l="l" t="t" r="r" b="b"/>
              <a:pathLst>
                <a:path w="185" h="13609">
                  <a:moveTo>
                    <a:pt x="34" y="27"/>
                  </a:moveTo>
                  <a:lnTo>
                    <a:pt x="8" y="89"/>
                  </a:lnTo>
                  <a:lnTo>
                    <a:pt x="0" y="13609"/>
                  </a:lnTo>
                  <a:lnTo>
                    <a:pt x="178" y="13609"/>
                  </a:lnTo>
                  <a:lnTo>
                    <a:pt x="185" y="89"/>
                  </a:lnTo>
                  <a:lnTo>
                    <a:pt x="34" y="27"/>
                  </a:lnTo>
                  <a:lnTo>
                    <a:pt x="185" y="89"/>
                  </a:lnTo>
                  <a:lnTo>
                    <a:pt x="184" y="78"/>
                  </a:lnTo>
                  <a:lnTo>
                    <a:pt x="183" y="68"/>
                  </a:lnTo>
                  <a:lnTo>
                    <a:pt x="181" y="59"/>
                  </a:lnTo>
                  <a:lnTo>
                    <a:pt x="178" y="50"/>
                  </a:lnTo>
                  <a:lnTo>
                    <a:pt x="174" y="42"/>
                  </a:lnTo>
                  <a:lnTo>
                    <a:pt x="169" y="35"/>
                  </a:lnTo>
                  <a:lnTo>
                    <a:pt x="163" y="29"/>
                  </a:lnTo>
                  <a:lnTo>
                    <a:pt x="157" y="23"/>
                  </a:lnTo>
                  <a:lnTo>
                    <a:pt x="151" y="18"/>
                  </a:lnTo>
                  <a:lnTo>
                    <a:pt x="144" y="13"/>
                  </a:lnTo>
                  <a:lnTo>
                    <a:pt x="137" y="9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3" y="2"/>
                  </a:lnTo>
                  <a:lnTo>
                    <a:pt x="105" y="1"/>
                  </a:lnTo>
                  <a:lnTo>
                    <a:pt x="97" y="0"/>
                  </a:lnTo>
                  <a:lnTo>
                    <a:pt x="88" y="1"/>
                  </a:lnTo>
                  <a:lnTo>
                    <a:pt x="80" y="2"/>
                  </a:lnTo>
                  <a:lnTo>
                    <a:pt x="72" y="4"/>
                  </a:lnTo>
                  <a:lnTo>
                    <a:pt x="64" y="6"/>
                  </a:lnTo>
                  <a:lnTo>
                    <a:pt x="56" y="9"/>
                  </a:lnTo>
                  <a:lnTo>
                    <a:pt x="48" y="13"/>
                  </a:lnTo>
                  <a:lnTo>
                    <a:pt x="42" y="18"/>
                  </a:lnTo>
                  <a:lnTo>
                    <a:pt x="35" y="23"/>
                  </a:lnTo>
                  <a:lnTo>
                    <a:pt x="30" y="29"/>
                  </a:lnTo>
                  <a:lnTo>
                    <a:pt x="23" y="35"/>
                  </a:lnTo>
                  <a:lnTo>
                    <a:pt x="19" y="42"/>
                  </a:lnTo>
                  <a:lnTo>
                    <a:pt x="15" y="50"/>
                  </a:lnTo>
                  <a:lnTo>
                    <a:pt x="12" y="59"/>
                  </a:lnTo>
                  <a:lnTo>
                    <a:pt x="9" y="68"/>
                  </a:lnTo>
                  <a:lnTo>
                    <a:pt x="8" y="78"/>
                  </a:lnTo>
                  <a:lnTo>
                    <a:pt x="8" y="89"/>
                  </a:lnTo>
                  <a:lnTo>
                    <a:pt x="34" y="27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4313160" y="1328760"/>
              <a:ext cx="198360" cy="198000"/>
            </a:xfrm>
            <a:custGeom>
              <a:avLst/>
              <a:gdLst/>
              <a:ahLst/>
              <a:rect l="l" t="t" r="r" b="b"/>
              <a:pathLst>
                <a:path w="2877" h="2874">
                  <a:moveTo>
                    <a:pt x="1" y="2783"/>
                  </a:moveTo>
                  <a:lnTo>
                    <a:pt x="152" y="2846"/>
                  </a:lnTo>
                  <a:lnTo>
                    <a:pt x="2877" y="125"/>
                  </a:lnTo>
                  <a:lnTo>
                    <a:pt x="2752" y="0"/>
                  </a:lnTo>
                  <a:lnTo>
                    <a:pt x="28" y="2720"/>
                  </a:lnTo>
                  <a:lnTo>
                    <a:pt x="1" y="2783"/>
                  </a:lnTo>
                  <a:lnTo>
                    <a:pt x="28" y="2720"/>
                  </a:lnTo>
                  <a:lnTo>
                    <a:pt x="20" y="2729"/>
                  </a:lnTo>
                  <a:lnTo>
                    <a:pt x="14" y="2737"/>
                  </a:lnTo>
                  <a:lnTo>
                    <a:pt x="9" y="2745"/>
                  </a:lnTo>
                  <a:lnTo>
                    <a:pt x="5" y="2753"/>
                  </a:lnTo>
                  <a:lnTo>
                    <a:pt x="2" y="2761"/>
                  </a:lnTo>
                  <a:lnTo>
                    <a:pt x="1" y="2770"/>
                  </a:lnTo>
                  <a:lnTo>
                    <a:pt x="0" y="2779"/>
                  </a:lnTo>
                  <a:lnTo>
                    <a:pt x="0" y="2787"/>
                  </a:lnTo>
                  <a:lnTo>
                    <a:pt x="1" y="2795"/>
                  </a:lnTo>
                  <a:lnTo>
                    <a:pt x="2" y="2804"/>
                  </a:lnTo>
                  <a:lnTo>
                    <a:pt x="5" y="2811"/>
                  </a:lnTo>
                  <a:lnTo>
                    <a:pt x="8" y="2819"/>
                  </a:lnTo>
                  <a:lnTo>
                    <a:pt x="12" y="2826"/>
                  </a:lnTo>
                  <a:lnTo>
                    <a:pt x="16" y="2833"/>
                  </a:lnTo>
                  <a:lnTo>
                    <a:pt x="22" y="2840"/>
                  </a:lnTo>
                  <a:lnTo>
                    <a:pt x="28" y="2846"/>
                  </a:lnTo>
                  <a:lnTo>
                    <a:pt x="33" y="2851"/>
                  </a:lnTo>
                  <a:lnTo>
                    <a:pt x="40" y="2856"/>
                  </a:lnTo>
                  <a:lnTo>
                    <a:pt x="47" y="2861"/>
                  </a:lnTo>
                  <a:lnTo>
                    <a:pt x="55" y="2865"/>
                  </a:lnTo>
                  <a:lnTo>
                    <a:pt x="62" y="2868"/>
                  </a:lnTo>
                  <a:lnTo>
                    <a:pt x="70" y="2870"/>
                  </a:lnTo>
                  <a:lnTo>
                    <a:pt x="78" y="2872"/>
                  </a:lnTo>
                  <a:lnTo>
                    <a:pt x="86" y="2874"/>
                  </a:lnTo>
                  <a:lnTo>
                    <a:pt x="95" y="2874"/>
                  </a:lnTo>
                  <a:lnTo>
                    <a:pt x="103" y="2872"/>
                  </a:lnTo>
                  <a:lnTo>
                    <a:pt x="111" y="2870"/>
                  </a:lnTo>
                  <a:lnTo>
                    <a:pt x="119" y="2867"/>
                  </a:lnTo>
                  <a:lnTo>
                    <a:pt x="129" y="2864"/>
                  </a:lnTo>
                  <a:lnTo>
                    <a:pt x="137" y="2859"/>
                  </a:lnTo>
                  <a:lnTo>
                    <a:pt x="145" y="2853"/>
                  </a:lnTo>
                  <a:lnTo>
                    <a:pt x="152" y="2846"/>
                  </a:lnTo>
                  <a:lnTo>
                    <a:pt x="1" y="278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4313160" y="1520640"/>
              <a:ext cx="12600" cy="939600"/>
            </a:xfrm>
            <a:custGeom>
              <a:avLst/>
              <a:gdLst/>
              <a:ahLst/>
              <a:rect l="l" t="t" r="r" b="b"/>
              <a:pathLst>
                <a:path w="185" h="13608">
                  <a:moveTo>
                    <a:pt x="151" y="13583"/>
                  </a:moveTo>
                  <a:lnTo>
                    <a:pt x="178" y="13520"/>
                  </a:lnTo>
                  <a:lnTo>
                    <a:pt x="185" y="0"/>
                  </a:lnTo>
                  <a:lnTo>
                    <a:pt x="7" y="0"/>
                  </a:lnTo>
                  <a:lnTo>
                    <a:pt x="0" y="13520"/>
                  </a:lnTo>
                  <a:lnTo>
                    <a:pt x="151" y="13583"/>
                  </a:lnTo>
                  <a:lnTo>
                    <a:pt x="0" y="13520"/>
                  </a:lnTo>
                  <a:lnTo>
                    <a:pt x="1" y="13530"/>
                  </a:lnTo>
                  <a:lnTo>
                    <a:pt x="2" y="13540"/>
                  </a:lnTo>
                  <a:lnTo>
                    <a:pt x="4" y="13550"/>
                  </a:lnTo>
                  <a:lnTo>
                    <a:pt x="8" y="13559"/>
                  </a:lnTo>
                  <a:lnTo>
                    <a:pt x="11" y="13566"/>
                  </a:lnTo>
                  <a:lnTo>
                    <a:pt x="16" y="13574"/>
                  </a:lnTo>
                  <a:lnTo>
                    <a:pt x="21" y="13581"/>
                  </a:lnTo>
                  <a:lnTo>
                    <a:pt x="28" y="13587"/>
                  </a:lnTo>
                  <a:lnTo>
                    <a:pt x="34" y="13592"/>
                  </a:lnTo>
                  <a:lnTo>
                    <a:pt x="41" y="13596"/>
                  </a:lnTo>
                  <a:lnTo>
                    <a:pt x="48" y="13600"/>
                  </a:lnTo>
                  <a:lnTo>
                    <a:pt x="56" y="13603"/>
                  </a:lnTo>
                  <a:lnTo>
                    <a:pt x="64" y="13605"/>
                  </a:lnTo>
                  <a:lnTo>
                    <a:pt x="72" y="13607"/>
                  </a:lnTo>
                  <a:lnTo>
                    <a:pt x="80" y="13608"/>
                  </a:lnTo>
                  <a:lnTo>
                    <a:pt x="88" y="13608"/>
                  </a:lnTo>
                  <a:lnTo>
                    <a:pt x="97" y="13608"/>
                  </a:lnTo>
                  <a:lnTo>
                    <a:pt x="105" y="13607"/>
                  </a:lnTo>
                  <a:lnTo>
                    <a:pt x="113" y="13605"/>
                  </a:lnTo>
                  <a:lnTo>
                    <a:pt x="121" y="13603"/>
                  </a:lnTo>
                  <a:lnTo>
                    <a:pt x="128" y="13600"/>
                  </a:lnTo>
                  <a:lnTo>
                    <a:pt x="137" y="13596"/>
                  </a:lnTo>
                  <a:lnTo>
                    <a:pt x="143" y="13592"/>
                  </a:lnTo>
                  <a:lnTo>
                    <a:pt x="150" y="13587"/>
                  </a:lnTo>
                  <a:lnTo>
                    <a:pt x="155" y="13581"/>
                  </a:lnTo>
                  <a:lnTo>
                    <a:pt x="161" y="13574"/>
                  </a:lnTo>
                  <a:lnTo>
                    <a:pt x="166" y="13566"/>
                  </a:lnTo>
                  <a:lnTo>
                    <a:pt x="170" y="13559"/>
                  </a:lnTo>
                  <a:lnTo>
                    <a:pt x="173" y="13550"/>
                  </a:lnTo>
                  <a:lnTo>
                    <a:pt x="176" y="13540"/>
                  </a:lnTo>
                  <a:lnTo>
                    <a:pt x="177" y="13530"/>
                  </a:lnTo>
                  <a:lnTo>
                    <a:pt x="178" y="13520"/>
                  </a:lnTo>
                  <a:lnTo>
                    <a:pt x="151" y="13583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728880" y="2398680"/>
              <a:ext cx="588960" cy="56880"/>
            </a:xfrm>
            <a:custGeom>
              <a:avLst/>
              <a:gdLst/>
              <a:ahLst/>
              <a:rect l="l" t="t" r="r" b="b"/>
              <a:pathLst>
                <a:path w="8533" h="833">
                  <a:moveTo>
                    <a:pt x="1" y="0"/>
                  </a:moveTo>
                  <a:lnTo>
                    <a:pt x="0" y="833"/>
                  </a:lnTo>
                  <a:lnTo>
                    <a:pt x="8531" y="833"/>
                  </a:lnTo>
                  <a:lnTo>
                    <a:pt x="853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722760" y="2398680"/>
              <a:ext cx="12600" cy="63000"/>
            </a:xfrm>
            <a:custGeom>
              <a:avLst/>
              <a:gdLst/>
              <a:ahLst/>
              <a:rect l="l" t="t" r="r" b="b"/>
              <a:pathLst>
                <a:path w="179" h="921">
                  <a:moveTo>
                    <a:pt x="89" y="921"/>
                  </a:moveTo>
                  <a:lnTo>
                    <a:pt x="177" y="833"/>
                  </a:lnTo>
                  <a:lnTo>
                    <a:pt x="179" y="0"/>
                  </a:lnTo>
                  <a:lnTo>
                    <a:pt x="1" y="0"/>
                  </a:lnTo>
                  <a:lnTo>
                    <a:pt x="0" y="833"/>
                  </a:lnTo>
                  <a:lnTo>
                    <a:pt x="89" y="921"/>
                  </a:lnTo>
                  <a:lnTo>
                    <a:pt x="0" y="833"/>
                  </a:lnTo>
                  <a:lnTo>
                    <a:pt x="0" y="843"/>
                  </a:lnTo>
                  <a:lnTo>
                    <a:pt x="2" y="853"/>
                  </a:lnTo>
                  <a:lnTo>
                    <a:pt x="5" y="862"/>
                  </a:lnTo>
                  <a:lnTo>
                    <a:pt x="8" y="872"/>
                  </a:lnTo>
                  <a:lnTo>
                    <a:pt x="12" y="879"/>
                  </a:lnTo>
                  <a:lnTo>
                    <a:pt x="17" y="886"/>
                  </a:lnTo>
                  <a:lnTo>
                    <a:pt x="22" y="893"/>
                  </a:lnTo>
                  <a:lnTo>
                    <a:pt x="28" y="898"/>
                  </a:lnTo>
                  <a:lnTo>
                    <a:pt x="34" y="905"/>
                  </a:lnTo>
                  <a:lnTo>
                    <a:pt x="42" y="909"/>
                  </a:lnTo>
                  <a:lnTo>
                    <a:pt x="49" y="913"/>
                  </a:lnTo>
                  <a:lnTo>
                    <a:pt x="56" y="916"/>
                  </a:lnTo>
                  <a:lnTo>
                    <a:pt x="64" y="918"/>
                  </a:lnTo>
                  <a:lnTo>
                    <a:pt x="72" y="920"/>
                  </a:lnTo>
                  <a:lnTo>
                    <a:pt x="81" y="921"/>
                  </a:lnTo>
                  <a:lnTo>
                    <a:pt x="89" y="921"/>
                  </a:lnTo>
                  <a:lnTo>
                    <a:pt x="97" y="921"/>
                  </a:lnTo>
                  <a:lnTo>
                    <a:pt x="105" y="920"/>
                  </a:lnTo>
                  <a:lnTo>
                    <a:pt x="114" y="918"/>
                  </a:lnTo>
                  <a:lnTo>
                    <a:pt x="122" y="916"/>
                  </a:lnTo>
                  <a:lnTo>
                    <a:pt x="129" y="913"/>
                  </a:lnTo>
                  <a:lnTo>
                    <a:pt x="136" y="909"/>
                  </a:lnTo>
                  <a:lnTo>
                    <a:pt x="143" y="905"/>
                  </a:lnTo>
                  <a:lnTo>
                    <a:pt x="150" y="898"/>
                  </a:lnTo>
                  <a:lnTo>
                    <a:pt x="156" y="893"/>
                  </a:lnTo>
                  <a:lnTo>
                    <a:pt x="161" y="886"/>
                  </a:lnTo>
                  <a:lnTo>
                    <a:pt x="166" y="879"/>
                  </a:lnTo>
                  <a:lnTo>
                    <a:pt x="170" y="872"/>
                  </a:lnTo>
                  <a:lnTo>
                    <a:pt x="173" y="862"/>
                  </a:lnTo>
                  <a:lnTo>
                    <a:pt x="175" y="853"/>
                  </a:lnTo>
                  <a:lnTo>
                    <a:pt x="177" y="843"/>
                  </a:lnTo>
                  <a:lnTo>
                    <a:pt x="177" y="833"/>
                  </a:lnTo>
                  <a:lnTo>
                    <a:pt x="89" y="921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728880" y="2449440"/>
              <a:ext cx="594000" cy="12240"/>
            </a:xfrm>
            <a:custGeom>
              <a:avLst/>
              <a:gdLst/>
              <a:ahLst/>
              <a:rect l="l" t="t" r="r" b="b"/>
              <a:pathLst>
                <a:path w="8619" h="177">
                  <a:moveTo>
                    <a:pt x="8619" y="89"/>
                  </a:moveTo>
                  <a:lnTo>
                    <a:pt x="8531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8531" y="177"/>
                  </a:lnTo>
                  <a:lnTo>
                    <a:pt x="8619" y="89"/>
                  </a:lnTo>
                  <a:lnTo>
                    <a:pt x="8531" y="177"/>
                  </a:lnTo>
                  <a:lnTo>
                    <a:pt x="8542" y="177"/>
                  </a:lnTo>
                  <a:lnTo>
                    <a:pt x="8551" y="175"/>
                  </a:lnTo>
                  <a:lnTo>
                    <a:pt x="8561" y="173"/>
                  </a:lnTo>
                  <a:lnTo>
                    <a:pt x="8570" y="170"/>
                  </a:lnTo>
                  <a:lnTo>
                    <a:pt x="8578" y="166"/>
                  </a:lnTo>
                  <a:lnTo>
                    <a:pt x="8585" y="161"/>
                  </a:lnTo>
                  <a:lnTo>
                    <a:pt x="8592" y="155"/>
                  </a:lnTo>
                  <a:lnTo>
                    <a:pt x="8598" y="149"/>
                  </a:lnTo>
                  <a:lnTo>
                    <a:pt x="8603" y="143"/>
                  </a:lnTo>
                  <a:lnTo>
                    <a:pt x="8607" y="136"/>
                  </a:lnTo>
                  <a:lnTo>
                    <a:pt x="8611" y="129"/>
                  </a:lnTo>
                  <a:lnTo>
                    <a:pt x="8614" y="121"/>
                  </a:lnTo>
                  <a:lnTo>
                    <a:pt x="8616" y="113"/>
                  </a:lnTo>
                  <a:lnTo>
                    <a:pt x="8618" y="105"/>
                  </a:lnTo>
                  <a:lnTo>
                    <a:pt x="8619" y="97"/>
                  </a:lnTo>
                  <a:lnTo>
                    <a:pt x="8619" y="89"/>
                  </a:lnTo>
                  <a:lnTo>
                    <a:pt x="8619" y="80"/>
                  </a:lnTo>
                  <a:lnTo>
                    <a:pt x="8618" y="72"/>
                  </a:lnTo>
                  <a:lnTo>
                    <a:pt x="8616" y="64"/>
                  </a:lnTo>
                  <a:lnTo>
                    <a:pt x="8614" y="56"/>
                  </a:lnTo>
                  <a:lnTo>
                    <a:pt x="8611" y="49"/>
                  </a:lnTo>
                  <a:lnTo>
                    <a:pt x="8607" y="41"/>
                  </a:lnTo>
                  <a:lnTo>
                    <a:pt x="8603" y="34"/>
                  </a:lnTo>
                  <a:lnTo>
                    <a:pt x="8598" y="28"/>
                  </a:lnTo>
                  <a:lnTo>
                    <a:pt x="8592" y="22"/>
                  </a:lnTo>
                  <a:lnTo>
                    <a:pt x="8585" y="17"/>
                  </a:lnTo>
                  <a:lnTo>
                    <a:pt x="8578" y="12"/>
                  </a:lnTo>
                  <a:lnTo>
                    <a:pt x="8570" y="7"/>
                  </a:lnTo>
                  <a:lnTo>
                    <a:pt x="8561" y="4"/>
                  </a:lnTo>
                  <a:lnTo>
                    <a:pt x="8551" y="2"/>
                  </a:lnTo>
                  <a:lnTo>
                    <a:pt x="8542" y="0"/>
                  </a:lnTo>
                  <a:lnTo>
                    <a:pt x="8531" y="0"/>
                  </a:lnTo>
                  <a:lnTo>
                    <a:pt x="8619" y="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311720" y="2392200"/>
              <a:ext cx="11160" cy="63360"/>
            </a:xfrm>
            <a:custGeom>
              <a:avLst/>
              <a:gdLst/>
              <a:ahLst/>
              <a:rect l="l" t="t" r="r" b="b"/>
              <a:pathLst>
                <a:path w="179" h="922">
                  <a:moveTo>
                    <a:pt x="91" y="0"/>
                  </a:moveTo>
                  <a:lnTo>
                    <a:pt x="1" y="89"/>
                  </a:lnTo>
                  <a:lnTo>
                    <a:pt x="0" y="922"/>
                  </a:lnTo>
                  <a:lnTo>
                    <a:pt x="177" y="922"/>
                  </a:lnTo>
                  <a:lnTo>
                    <a:pt x="179" y="89"/>
                  </a:lnTo>
                  <a:lnTo>
                    <a:pt x="91" y="0"/>
                  </a:lnTo>
                  <a:lnTo>
                    <a:pt x="179" y="89"/>
                  </a:lnTo>
                  <a:lnTo>
                    <a:pt x="178" y="78"/>
                  </a:lnTo>
                  <a:lnTo>
                    <a:pt x="177" y="69"/>
                  </a:lnTo>
                  <a:lnTo>
                    <a:pt x="174" y="58"/>
                  </a:lnTo>
                  <a:lnTo>
                    <a:pt x="171" y="50"/>
                  </a:lnTo>
                  <a:lnTo>
                    <a:pt x="167" y="42"/>
                  </a:lnTo>
                  <a:lnTo>
                    <a:pt x="163" y="35"/>
                  </a:lnTo>
                  <a:lnTo>
                    <a:pt x="158" y="28"/>
                  </a:lnTo>
                  <a:lnTo>
                    <a:pt x="152" y="22"/>
                  </a:lnTo>
                  <a:lnTo>
                    <a:pt x="144" y="17"/>
                  </a:lnTo>
                  <a:lnTo>
                    <a:pt x="138" y="13"/>
                  </a:lnTo>
                  <a:lnTo>
                    <a:pt x="131" y="9"/>
                  </a:lnTo>
                  <a:lnTo>
                    <a:pt x="123" y="6"/>
                  </a:lnTo>
                  <a:lnTo>
                    <a:pt x="115" y="4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90" y="0"/>
                  </a:lnTo>
                  <a:lnTo>
                    <a:pt x="82" y="1"/>
                  </a:lnTo>
                  <a:lnTo>
                    <a:pt x="73" y="2"/>
                  </a:lnTo>
                  <a:lnTo>
                    <a:pt x="65" y="4"/>
                  </a:lnTo>
                  <a:lnTo>
                    <a:pt x="58" y="6"/>
                  </a:lnTo>
                  <a:lnTo>
                    <a:pt x="50" y="9"/>
                  </a:lnTo>
                  <a:lnTo>
                    <a:pt x="42" y="13"/>
                  </a:lnTo>
                  <a:lnTo>
                    <a:pt x="35" y="17"/>
                  </a:lnTo>
                  <a:lnTo>
                    <a:pt x="29" y="22"/>
                  </a:lnTo>
                  <a:lnTo>
                    <a:pt x="23" y="28"/>
                  </a:lnTo>
                  <a:lnTo>
                    <a:pt x="18" y="35"/>
                  </a:lnTo>
                  <a:lnTo>
                    <a:pt x="14" y="42"/>
                  </a:lnTo>
                  <a:lnTo>
                    <a:pt x="10" y="50"/>
                  </a:lnTo>
                  <a:lnTo>
                    <a:pt x="6" y="58"/>
                  </a:lnTo>
                  <a:lnTo>
                    <a:pt x="3" y="69"/>
                  </a:lnTo>
                  <a:lnTo>
                    <a:pt x="2" y="78"/>
                  </a:lnTo>
                  <a:lnTo>
                    <a:pt x="1" y="8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722760" y="2392200"/>
              <a:ext cx="595080" cy="12240"/>
            </a:xfrm>
            <a:custGeom>
              <a:avLst/>
              <a:gdLst/>
              <a:ahLst/>
              <a:rect l="l" t="t" r="r" b="b"/>
              <a:pathLst>
                <a:path w="8621" h="177">
                  <a:moveTo>
                    <a:pt x="0" y="89"/>
                  </a:moveTo>
                  <a:lnTo>
                    <a:pt x="89" y="177"/>
                  </a:lnTo>
                  <a:lnTo>
                    <a:pt x="8621" y="177"/>
                  </a:lnTo>
                  <a:lnTo>
                    <a:pt x="8621" y="0"/>
                  </a:lnTo>
                  <a:lnTo>
                    <a:pt x="89" y="0"/>
                  </a:lnTo>
                  <a:lnTo>
                    <a:pt x="0" y="89"/>
                  </a:lnTo>
                  <a:lnTo>
                    <a:pt x="89" y="0"/>
                  </a:lnTo>
                  <a:lnTo>
                    <a:pt x="79" y="1"/>
                  </a:lnTo>
                  <a:lnTo>
                    <a:pt x="68" y="2"/>
                  </a:lnTo>
                  <a:lnTo>
                    <a:pt x="59" y="5"/>
                  </a:lnTo>
                  <a:lnTo>
                    <a:pt x="51" y="8"/>
                  </a:lnTo>
                  <a:lnTo>
                    <a:pt x="43" y="12"/>
                  </a:lnTo>
                  <a:lnTo>
                    <a:pt x="35" y="16"/>
                  </a:lnTo>
                  <a:lnTo>
                    <a:pt x="28" y="22"/>
                  </a:lnTo>
                  <a:lnTo>
                    <a:pt x="23" y="27"/>
                  </a:lnTo>
                  <a:lnTo>
                    <a:pt x="18" y="35"/>
                  </a:lnTo>
                  <a:lnTo>
                    <a:pt x="13" y="42"/>
                  </a:lnTo>
                  <a:lnTo>
                    <a:pt x="10" y="49"/>
                  </a:lnTo>
                  <a:lnTo>
                    <a:pt x="7" y="56"/>
                  </a:lnTo>
                  <a:lnTo>
                    <a:pt x="4" y="64"/>
                  </a:lnTo>
                  <a:lnTo>
                    <a:pt x="2" y="73"/>
                  </a:lnTo>
                  <a:lnTo>
                    <a:pt x="1" y="81"/>
                  </a:lnTo>
                  <a:lnTo>
                    <a:pt x="0" y="89"/>
                  </a:lnTo>
                  <a:lnTo>
                    <a:pt x="1" y="97"/>
                  </a:lnTo>
                  <a:lnTo>
                    <a:pt x="2" y="106"/>
                  </a:lnTo>
                  <a:lnTo>
                    <a:pt x="4" y="114"/>
                  </a:lnTo>
                  <a:lnTo>
                    <a:pt x="7" y="121"/>
                  </a:lnTo>
                  <a:lnTo>
                    <a:pt x="10" y="129"/>
                  </a:lnTo>
                  <a:lnTo>
                    <a:pt x="13" y="136"/>
                  </a:lnTo>
                  <a:lnTo>
                    <a:pt x="18" y="144"/>
                  </a:lnTo>
                  <a:lnTo>
                    <a:pt x="23" y="150"/>
                  </a:lnTo>
                  <a:lnTo>
                    <a:pt x="28" y="156"/>
                  </a:lnTo>
                  <a:lnTo>
                    <a:pt x="35" y="161"/>
                  </a:lnTo>
                  <a:lnTo>
                    <a:pt x="43" y="166"/>
                  </a:lnTo>
                  <a:lnTo>
                    <a:pt x="51" y="170"/>
                  </a:lnTo>
                  <a:lnTo>
                    <a:pt x="59" y="173"/>
                  </a:lnTo>
                  <a:lnTo>
                    <a:pt x="68" y="175"/>
                  </a:lnTo>
                  <a:lnTo>
                    <a:pt x="79" y="176"/>
                  </a:lnTo>
                  <a:lnTo>
                    <a:pt x="89" y="17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728880" y="1520640"/>
              <a:ext cx="588960" cy="290160"/>
            </a:xfrm>
            <a:custGeom>
              <a:avLst/>
              <a:gdLst/>
              <a:ahLst/>
              <a:rect l="l" t="t" r="r" b="b"/>
              <a:pathLst>
                <a:path w="8533" h="4201">
                  <a:moveTo>
                    <a:pt x="1" y="0"/>
                  </a:moveTo>
                  <a:lnTo>
                    <a:pt x="0" y="4201"/>
                  </a:lnTo>
                  <a:lnTo>
                    <a:pt x="8531" y="4201"/>
                  </a:lnTo>
                  <a:lnTo>
                    <a:pt x="853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722760" y="1520640"/>
              <a:ext cx="12600" cy="296640"/>
            </a:xfrm>
            <a:custGeom>
              <a:avLst/>
              <a:gdLst/>
              <a:ahLst/>
              <a:rect l="l" t="t" r="r" b="b"/>
              <a:pathLst>
                <a:path w="179" h="4289">
                  <a:moveTo>
                    <a:pt x="89" y="4289"/>
                  </a:moveTo>
                  <a:lnTo>
                    <a:pt x="177" y="4201"/>
                  </a:lnTo>
                  <a:lnTo>
                    <a:pt x="179" y="0"/>
                  </a:lnTo>
                  <a:lnTo>
                    <a:pt x="1" y="0"/>
                  </a:lnTo>
                  <a:lnTo>
                    <a:pt x="0" y="4201"/>
                  </a:lnTo>
                  <a:lnTo>
                    <a:pt x="89" y="4289"/>
                  </a:lnTo>
                  <a:lnTo>
                    <a:pt x="0" y="4201"/>
                  </a:lnTo>
                  <a:lnTo>
                    <a:pt x="0" y="4211"/>
                  </a:lnTo>
                  <a:lnTo>
                    <a:pt x="2" y="4221"/>
                  </a:lnTo>
                  <a:lnTo>
                    <a:pt x="5" y="4231"/>
                  </a:lnTo>
                  <a:lnTo>
                    <a:pt x="8" y="4240"/>
                  </a:lnTo>
                  <a:lnTo>
                    <a:pt x="12" y="4247"/>
                  </a:lnTo>
                  <a:lnTo>
                    <a:pt x="17" y="4254"/>
                  </a:lnTo>
                  <a:lnTo>
                    <a:pt x="22" y="4261"/>
                  </a:lnTo>
                  <a:lnTo>
                    <a:pt x="28" y="4267"/>
                  </a:lnTo>
                  <a:lnTo>
                    <a:pt x="34" y="4272"/>
                  </a:lnTo>
                  <a:lnTo>
                    <a:pt x="42" y="4277"/>
                  </a:lnTo>
                  <a:lnTo>
                    <a:pt x="49" y="4281"/>
                  </a:lnTo>
                  <a:lnTo>
                    <a:pt x="56" y="4284"/>
                  </a:lnTo>
                  <a:lnTo>
                    <a:pt x="64" y="4286"/>
                  </a:lnTo>
                  <a:lnTo>
                    <a:pt x="72" y="4288"/>
                  </a:lnTo>
                  <a:lnTo>
                    <a:pt x="81" y="4289"/>
                  </a:lnTo>
                  <a:lnTo>
                    <a:pt x="89" y="4289"/>
                  </a:lnTo>
                  <a:lnTo>
                    <a:pt x="97" y="4289"/>
                  </a:lnTo>
                  <a:lnTo>
                    <a:pt x="105" y="4288"/>
                  </a:lnTo>
                  <a:lnTo>
                    <a:pt x="114" y="4286"/>
                  </a:lnTo>
                  <a:lnTo>
                    <a:pt x="122" y="4284"/>
                  </a:lnTo>
                  <a:lnTo>
                    <a:pt x="129" y="4281"/>
                  </a:lnTo>
                  <a:lnTo>
                    <a:pt x="136" y="4277"/>
                  </a:lnTo>
                  <a:lnTo>
                    <a:pt x="143" y="4272"/>
                  </a:lnTo>
                  <a:lnTo>
                    <a:pt x="150" y="4267"/>
                  </a:lnTo>
                  <a:lnTo>
                    <a:pt x="156" y="4261"/>
                  </a:lnTo>
                  <a:lnTo>
                    <a:pt x="161" y="4254"/>
                  </a:lnTo>
                  <a:lnTo>
                    <a:pt x="166" y="4247"/>
                  </a:lnTo>
                  <a:lnTo>
                    <a:pt x="170" y="4240"/>
                  </a:lnTo>
                  <a:lnTo>
                    <a:pt x="173" y="4231"/>
                  </a:lnTo>
                  <a:lnTo>
                    <a:pt x="175" y="4221"/>
                  </a:lnTo>
                  <a:lnTo>
                    <a:pt x="177" y="4211"/>
                  </a:lnTo>
                  <a:lnTo>
                    <a:pt x="177" y="4201"/>
                  </a:lnTo>
                  <a:lnTo>
                    <a:pt x="89" y="42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728880" y="1805040"/>
              <a:ext cx="594000" cy="12240"/>
            </a:xfrm>
            <a:custGeom>
              <a:avLst/>
              <a:gdLst/>
              <a:ahLst/>
              <a:rect l="l" t="t" r="r" b="b"/>
              <a:pathLst>
                <a:path w="8619" h="177">
                  <a:moveTo>
                    <a:pt x="8619" y="89"/>
                  </a:moveTo>
                  <a:lnTo>
                    <a:pt x="8531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8531" y="177"/>
                  </a:lnTo>
                  <a:lnTo>
                    <a:pt x="8619" y="89"/>
                  </a:lnTo>
                  <a:lnTo>
                    <a:pt x="8531" y="177"/>
                  </a:lnTo>
                  <a:lnTo>
                    <a:pt x="8542" y="177"/>
                  </a:lnTo>
                  <a:lnTo>
                    <a:pt x="8551" y="175"/>
                  </a:lnTo>
                  <a:lnTo>
                    <a:pt x="8561" y="173"/>
                  </a:lnTo>
                  <a:lnTo>
                    <a:pt x="8570" y="170"/>
                  </a:lnTo>
                  <a:lnTo>
                    <a:pt x="8578" y="166"/>
                  </a:lnTo>
                  <a:lnTo>
                    <a:pt x="8585" y="161"/>
                  </a:lnTo>
                  <a:lnTo>
                    <a:pt x="8592" y="156"/>
                  </a:lnTo>
                  <a:lnTo>
                    <a:pt x="8598" y="149"/>
                  </a:lnTo>
                  <a:lnTo>
                    <a:pt x="8603" y="143"/>
                  </a:lnTo>
                  <a:lnTo>
                    <a:pt x="8607" y="136"/>
                  </a:lnTo>
                  <a:lnTo>
                    <a:pt x="8611" y="129"/>
                  </a:lnTo>
                  <a:lnTo>
                    <a:pt x="8614" y="121"/>
                  </a:lnTo>
                  <a:lnTo>
                    <a:pt x="8616" y="113"/>
                  </a:lnTo>
                  <a:lnTo>
                    <a:pt x="8618" y="105"/>
                  </a:lnTo>
                  <a:lnTo>
                    <a:pt x="8619" y="97"/>
                  </a:lnTo>
                  <a:lnTo>
                    <a:pt x="8619" y="89"/>
                  </a:lnTo>
                  <a:lnTo>
                    <a:pt x="8619" y="81"/>
                  </a:lnTo>
                  <a:lnTo>
                    <a:pt x="8618" y="72"/>
                  </a:lnTo>
                  <a:lnTo>
                    <a:pt x="8616" y="64"/>
                  </a:lnTo>
                  <a:lnTo>
                    <a:pt x="8614" y="56"/>
                  </a:lnTo>
                  <a:lnTo>
                    <a:pt x="8611" y="49"/>
                  </a:lnTo>
                  <a:lnTo>
                    <a:pt x="8607" y="41"/>
                  </a:lnTo>
                  <a:lnTo>
                    <a:pt x="8603" y="34"/>
                  </a:lnTo>
                  <a:lnTo>
                    <a:pt x="8598" y="28"/>
                  </a:lnTo>
                  <a:lnTo>
                    <a:pt x="8592" y="22"/>
                  </a:lnTo>
                  <a:lnTo>
                    <a:pt x="8585" y="17"/>
                  </a:lnTo>
                  <a:lnTo>
                    <a:pt x="8578" y="12"/>
                  </a:lnTo>
                  <a:lnTo>
                    <a:pt x="8570" y="8"/>
                  </a:lnTo>
                  <a:lnTo>
                    <a:pt x="8561" y="4"/>
                  </a:lnTo>
                  <a:lnTo>
                    <a:pt x="8551" y="2"/>
                  </a:lnTo>
                  <a:lnTo>
                    <a:pt x="8542" y="0"/>
                  </a:lnTo>
                  <a:lnTo>
                    <a:pt x="8531" y="0"/>
                  </a:lnTo>
                  <a:lnTo>
                    <a:pt x="8619" y="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4311720" y="1514520"/>
              <a:ext cx="11160" cy="296280"/>
            </a:xfrm>
            <a:custGeom>
              <a:avLst/>
              <a:gdLst/>
              <a:ahLst/>
              <a:rect l="l" t="t" r="r" b="b"/>
              <a:pathLst>
                <a:path w="179" h="4289">
                  <a:moveTo>
                    <a:pt x="91" y="0"/>
                  </a:moveTo>
                  <a:lnTo>
                    <a:pt x="1" y="88"/>
                  </a:lnTo>
                  <a:lnTo>
                    <a:pt x="0" y="4289"/>
                  </a:lnTo>
                  <a:lnTo>
                    <a:pt x="177" y="4289"/>
                  </a:lnTo>
                  <a:lnTo>
                    <a:pt x="179" y="88"/>
                  </a:lnTo>
                  <a:lnTo>
                    <a:pt x="91" y="0"/>
                  </a:lnTo>
                  <a:lnTo>
                    <a:pt x="179" y="88"/>
                  </a:lnTo>
                  <a:lnTo>
                    <a:pt x="178" y="78"/>
                  </a:lnTo>
                  <a:lnTo>
                    <a:pt x="177" y="68"/>
                  </a:lnTo>
                  <a:lnTo>
                    <a:pt x="174" y="58"/>
                  </a:lnTo>
                  <a:lnTo>
                    <a:pt x="171" y="49"/>
                  </a:lnTo>
                  <a:lnTo>
                    <a:pt x="167" y="42"/>
                  </a:lnTo>
                  <a:lnTo>
                    <a:pt x="163" y="35"/>
                  </a:lnTo>
                  <a:lnTo>
                    <a:pt x="158" y="27"/>
                  </a:lnTo>
                  <a:lnTo>
                    <a:pt x="152" y="21"/>
                  </a:lnTo>
                  <a:lnTo>
                    <a:pt x="144" y="16"/>
                  </a:lnTo>
                  <a:lnTo>
                    <a:pt x="138" y="12"/>
                  </a:lnTo>
                  <a:lnTo>
                    <a:pt x="131" y="8"/>
                  </a:lnTo>
                  <a:lnTo>
                    <a:pt x="123" y="5"/>
                  </a:lnTo>
                  <a:lnTo>
                    <a:pt x="115" y="3"/>
                  </a:lnTo>
                  <a:lnTo>
                    <a:pt x="107" y="1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82" y="0"/>
                  </a:lnTo>
                  <a:lnTo>
                    <a:pt x="73" y="1"/>
                  </a:lnTo>
                  <a:lnTo>
                    <a:pt x="65" y="3"/>
                  </a:lnTo>
                  <a:lnTo>
                    <a:pt x="58" y="5"/>
                  </a:lnTo>
                  <a:lnTo>
                    <a:pt x="50" y="8"/>
                  </a:lnTo>
                  <a:lnTo>
                    <a:pt x="42" y="12"/>
                  </a:lnTo>
                  <a:lnTo>
                    <a:pt x="35" y="16"/>
                  </a:lnTo>
                  <a:lnTo>
                    <a:pt x="29" y="21"/>
                  </a:lnTo>
                  <a:lnTo>
                    <a:pt x="23" y="27"/>
                  </a:lnTo>
                  <a:lnTo>
                    <a:pt x="18" y="35"/>
                  </a:lnTo>
                  <a:lnTo>
                    <a:pt x="14" y="42"/>
                  </a:lnTo>
                  <a:lnTo>
                    <a:pt x="10" y="49"/>
                  </a:lnTo>
                  <a:lnTo>
                    <a:pt x="6" y="58"/>
                  </a:lnTo>
                  <a:lnTo>
                    <a:pt x="3" y="68"/>
                  </a:lnTo>
                  <a:lnTo>
                    <a:pt x="2" y="78"/>
                  </a:lnTo>
                  <a:lnTo>
                    <a:pt x="1" y="8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3722760" y="1514520"/>
              <a:ext cx="595080" cy="12240"/>
            </a:xfrm>
            <a:custGeom>
              <a:avLst/>
              <a:gdLst/>
              <a:ahLst/>
              <a:rect l="l" t="t" r="r" b="b"/>
              <a:pathLst>
                <a:path w="8621" h="176">
                  <a:moveTo>
                    <a:pt x="0" y="88"/>
                  </a:moveTo>
                  <a:lnTo>
                    <a:pt x="89" y="176"/>
                  </a:lnTo>
                  <a:lnTo>
                    <a:pt x="8621" y="176"/>
                  </a:lnTo>
                  <a:lnTo>
                    <a:pt x="8621" y="0"/>
                  </a:lnTo>
                  <a:lnTo>
                    <a:pt x="89" y="0"/>
                  </a:lnTo>
                  <a:lnTo>
                    <a:pt x="0" y="88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8" y="2"/>
                  </a:lnTo>
                  <a:lnTo>
                    <a:pt x="59" y="4"/>
                  </a:lnTo>
                  <a:lnTo>
                    <a:pt x="51" y="7"/>
                  </a:lnTo>
                  <a:lnTo>
                    <a:pt x="43" y="11"/>
                  </a:lnTo>
                  <a:lnTo>
                    <a:pt x="35" y="16"/>
                  </a:lnTo>
                  <a:lnTo>
                    <a:pt x="28" y="21"/>
                  </a:lnTo>
                  <a:lnTo>
                    <a:pt x="23" y="27"/>
                  </a:lnTo>
                  <a:lnTo>
                    <a:pt x="18" y="34"/>
                  </a:lnTo>
                  <a:lnTo>
                    <a:pt x="13" y="41"/>
                  </a:lnTo>
                  <a:lnTo>
                    <a:pt x="10" y="48"/>
                  </a:lnTo>
                  <a:lnTo>
                    <a:pt x="7" y="55"/>
                  </a:lnTo>
                  <a:lnTo>
                    <a:pt x="4" y="63"/>
                  </a:lnTo>
                  <a:lnTo>
                    <a:pt x="2" y="72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2" y="105"/>
                  </a:lnTo>
                  <a:lnTo>
                    <a:pt x="4" y="113"/>
                  </a:lnTo>
                  <a:lnTo>
                    <a:pt x="7" y="121"/>
                  </a:lnTo>
                  <a:lnTo>
                    <a:pt x="10" y="128"/>
                  </a:lnTo>
                  <a:lnTo>
                    <a:pt x="13" y="135"/>
                  </a:lnTo>
                  <a:lnTo>
                    <a:pt x="18" y="143"/>
                  </a:lnTo>
                  <a:lnTo>
                    <a:pt x="23" y="149"/>
                  </a:lnTo>
                  <a:lnTo>
                    <a:pt x="28" y="155"/>
                  </a:lnTo>
                  <a:lnTo>
                    <a:pt x="35" y="160"/>
                  </a:lnTo>
                  <a:lnTo>
                    <a:pt x="43" y="165"/>
                  </a:lnTo>
                  <a:lnTo>
                    <a:pt x="51" y="169"/>
                  </a:lnTo>
                  <a:lnTo>
                    <a:pt x="59" y="172"/>
                  </a:lnTo>
                  <a:lnTo>
                    <a:pt x="68" y="174"/>
                  </a:lnTo>
                  <a:lnTo>
                    <a:pt x="79" y="176"/>
                  </a:lnTo>
                  <a:lnTo>
                    <a:pt x="89" y="176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940200" y="1668240"/>
              <a:ext cx="166680" cy="10800"/>
            </a:xfrm>
            <a:prstGeom prst="rect">
              <a:avLst/>
            </a:pr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4164120" y="1604880"/>
              <a:ext cx="11160" cy="126720"/>
            </a:xfrm>
            <a:custGeom>
              <a:avLst/>
              <a:gdLst/>
              <a:ahLst/>
              <a:rect l="l" t="t" r="r" b="b"/>
              <a:pathLst>
                <a:path w="178" h="1819">
                  <a:moveTo>
                    <a:pt x="88" y="0"/>
                  </a:moveTo>
                  <a:lnTo>
                    <a:pt x="0" y="89"/>
                  </a:lnTo>
                  <a:lnTo>
                    <a:pt x="0" y="1819"/>
                  </a:lnTo>
                  <a:lnTo>
                    <a:pt x="178" y="1819"/>
                  </a:lnTo>
                  <a:lnTo>
                    <a:pt x="178" y="89"/>
                  </a:lnTo>
                  <a:lnTo>
                    <a:pt x="88" y="0"/>
                  </a:lnTo>
                  <a:lnTo>
                    <a:pt x="178" y="89"/>
                  </a:lnTo>
                  <a:lnTo>
                    <a:pt x="177" y="78"/>
                  </a:lnTo>
                  <a:lnTo>
                    <a:pt x="176" y="68"/>
                  </a:lnTo>
                  <a:lnTo>
                    <a:pt x="173" y="59"/>
                  </a:lnTo>
                  <a:lnTo>
                    <a:pt x="170" y="50"/>
                  </a:lnTo>
                  <a:lnTo>
                    <a:pt x="166" y="42"/>
                  </a:lnTo>
                  <a:lnTo>
                    <a:pt x="162" y="35"/>
                  </a:lnTo>
                  <a:lnTo>
                    <a:pt x="155" y="28"/>
                  </a:lnTo>
                  <a:lnTo>
                    <a:pt x="150" y="22"/>
                  </a:lnTo>
                  <a:lnTo>
                    <a:pt x="143" y="17"/>
                  </a:lnTo>
                  <a:lnTo>
                    <a:pt x="137" y="13"/>
                  </a:lnTo>
                  <a:lnTo>
                    <a:pt x="129" y="8"/>
                  </a:lnTo>
                  <a:lnTo>
                    <a:pt x="121" y="5"/>
                  </a:lnTo>
                  <a:lnTo>
                    <a:pt x="113" y="3"/>
                  </a:lnTo>
                  <a:lnTo>
                    <a:pt x="105" y="1"/>
                  </a:lnTo>
                  <a:lnTo>
                    <a:pt x="97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7" y="5"/>
                  </a:lnTo>
                  <a:lnTo>
                    <a:pt x="48" y="8"/>
                  </a:lnTo>
                  <a:lnTo>
                    <a:pt x="41" y="13"/>
                  </a:lnTo>
                  <a:lnTo>
                    <a:pt x="34" y="17"/>
                  </a:lnTo>
                  <a:lnTo>
                    <a:pt x="28" y="22"/>
                  </a:lnTo>
                  <a:lnTo>
                    <a:pt x="22" y="28"/>
                  </a:lnTo>
                  <a:lnTo>
                    <a:pt x="16" y="35"/>
                  </a:lnTo>
                  <a:lnTo>
                    <a:pt x="11" y="42"/>
                  </a:lnTo>
                  <a:lnTo>
                    <a:pt x="8" y="50"/>
                  </a:lnTo>
                  <a:lnTo>
                    <a:pt x="4" y="59"/>
                  </a:lnTo>
                  <a:lnTo>
                    <a:pt x="2" y="68"/>
                  </a:lnTo>
                  <a:lnTo>
                    <a:pt x="1" y="78"/>
                  </a:lnTo>
                  <a:lnTo>
                    <a:pt x="0" y="8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867120" y="1604880"/>
              <a:ext cx="303120" cy="12240"/>
            </a:xfrm>
            <a:custGeom>
              <a:avLst/>
              <a:gdLst/>
              <a:ahLst/>
              <a:rect l="l" t="t" r="r" b="b"/>
              <a:pathLst>
                <a:path w="4384" h="177">
                  <a:moveTo>
                    <a:pt x="0" y="89"/>
                  </a:moveTo>
                  <a:lnTo>
                    <a:pt x="88" y="177"/>
                  </a:lnTo>
                  <a:lnTo>
                    <a:pt x="4384" y="177"/>
                  </a:lnTo>
                  <a:lnTo>
                    <a:pt x="4384" y="0"/>
                  </a:lnTo>
                  <a:lnTo>
                    <a:pt x="88" y="0"/>
                  </a:lnTo>
                  <a:lnTo>
                    <a:pt x="0" y="89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58" y="4"/>
                  </a:lnTo>
                  <a:lnTo>
                    <a:pt x="50" y="7"/>
                  </a:lnTo>
                  <a:lnTo>
                    <a:pt x="42" y="12"/>
                  </a:lnTo>
                  <a:lnTo>
                    <a:pt x="35" y="17"/>
                  </a:lnTo>
                  <a:lnTo>
                    <a:pt x="27" y="22"/>
                  </a:lnTo>
                  <a:lnTo>
                    <a:pt x="22" y="28"/>
                  </a:lnTo>
                  <a:lnTo>
                    <a:pt x="17" y="34"/>
                  </a:lnTo>
                  <a:lnTo>
                    <a:pt x="12" y="41"/>
                  </a:lnTo>
                  <a:lnTo>
                    <a:pt x="8" y="49"/>
                  </a:lnTo>
                  <a:lnTo>
                    <a:pt x="5" y="56"/>
                  </a:lnTo>
                  <a:lnTo>
                    <a:pt x="3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3" y="113"/>
                  </a:lnTo>
                  <a:lnTo>
                    <a:pt x="5" y="122"/>
                  </a:lnTo>
                  <a:lnTo>
                    <a:pt x="8" y="129"/>
                  </a:lnTo>
                  <a:lnTo>
                    <a:pt x="12" y="136"/>
                  </a:lnTo>
                  <a:lnTo>
                    <a:pt x="17" y="143"/>
                  </a:lnTo>
                  <a:lnTo>
                    <a:pt x="22" y="149"/>
                  </a:lnTo>
                  <a:lnTo>
                    <a:pt x="27" y="155"/>
                  </a:lnTo>
                  <a:lnTo>
                    <a:pt x="35" y="161"/>
                  </a:lnTo>
                  <a:lnTo>
                    <a:pt x="42" y="166"/>
                  </a:lnTo>
                  <a:lnTo>
                    <a:pt x="50" y="170"/>
                  </a:lnTo>
                  <a:lnTo>
                    <a:pt x="58" y="173"/>
                  </a:lnTo>
                  <a:lnTo>
                    <a:pt x="68" y="175"/>
                  </a:lnTo>
                  <a:lnTo>
                    <a:pt x="78" y="177"/>
                  </a:lnTo>
                  <a:lnTo>
                    <a:pt x="88" y="17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867120" y="1611360"/>
              <a:ext cx="12600" cy="124920"/>
            </a:xfrm>
            <a:custGeom>
              <a:avLst/>
              <a:gdLst/>
              <a:ahLst/>
              <a:rect l="l" t="t" r="r" b="b"/>
              <a:pathLst>
                <a:path w="177" h="1819">
                  <a:moveTo>
                    <a:pt x="88" y="1819"/>
                  </a:moveTo>
                  <a:lnTo>
                    <a:pt x="177" y="1730"/>
                  </a:lnTo>
                  <a:lnTo>
                    <a:pt x="177" y="0"/>
                  </a:lnTo>
                  <a:lnTo>
                    <a:pt x="0" y="0"/>
                  </a:lnTo>
                  <a:lnTo>
                    <a:pt x="0" y="1730"/>
                  </a:lnTo>
                  <a:lnTo>
                    <a:pt x="88" y="1819"/>
                  </a:lnTo>
                  <a:lnTo>
                    <a:pt x="0" y="1730"/>
                  </a:lnTo>
                  <a:lnTo>
                    <a:pt x="1" y="1741"/>
                  </a:lnTo>
                  <a:lnTo>
                    <a:pt x="2" y="1751"/>
                  </a:lnTo>
                  <a:lnTo>
                    <a:pt x="4" y="1760"/>
                  </a:lnTo>
                  <a:lnTo>
                    <a:pt x="7" y="1768"/>
                  </a:lnTo>
                  <a:lnTo>
                    <a:pt x="11" y="1777"/>
                  </a:lnTo>
                  <a:lnTo>
                    <a:pt x="16" y="1784"/>
                  </a:lnTo>
                  <a:lnTo>
                    <a:pt x="21" y="1791"/>
                  </a:lnTo>
                  <a:lnTo>
                    <a:pt x="27" y="1796"/>
                  </a:lnTo>
                  <a:lnTo>
                    <a:pt x="34" y="1801"/>
                  </a:lnTo>
                  <a:lnTo>
                    <a:pt x="41" y="1807"/>
                  </a:lnTo>
                  <a:lnTo>
                    <a:pt x="48" y="1810"/>
                  </a:lnTo>
                  <a:lnTo>
                    <a:pt x="56" y="1813"/>
                  </a:lnTo>
                  <a:lnTo>
                    <a:pt x="63" y="1816"/>
                  </a:lnTo>
                  <a:lnTo>
                    <a:pt x="72" y="1817"/>
                  </a:lnTo>
                  <a:lnTo>
                    <a:pt x="80" y="1818"/>
                  </a:lnTo>
                  <a:lnTo>
                    <a:pt x="88" y="1819"/>
                  </a:lnTo>
                  <a:lnTo>
                    <a:pt x="96" y="1818"/>
                  </a:lnTo>
                  <a:lnTo>
                    <a:pt x="105" y="1817"/>
                  </a:lnTo>
                  <a:lnTo>
                    <a:pt x="113" y="1816"/>
                  </a:lnTo>
                  <a:lnTo>
                    <a:pt x="121" y="1813"/>
                  </a:lnTo>
                  <a:lnTo>
                    <a:pt x="128" y="1810"/>
                  </a:lnTo>
                  <a:lnTo>
                    <a:pt x="135" y="1807"/>
                  </a:lnTo>
                  <a:lnTo>
                    <a:pt x="143" y="1801"/>
                  </a:lnTo>
                  <a:lnTo>
                    <a:pt x="150" y="1796"/>
                  </a:lnTo>
                  <a:lnTo>
                    <a:pt x="155" y="1791"/>
                  </a:lnTo>
                  <a:lnTo>
                    <a:pt x="161" y="1784"/>
                  </a:lnTo>
                  <a:lnTo>
                    <a:pt x="165" y="1777"/>
                  </a:lnTo>
                  <a:lnTo>
                    <a:pt x="169" y="1768"/>
                  </a:lnTo>
                  <a:lnTo>
                    <a:pt x="173" y="1760"/>
                  </a:lnTo>
                  <a:lnTo>
                    <a:pt x="176" y="1751"/>
                  </a:lnTo>
                  <a:lnTo>
                    <a:pt x="177" y="1741"/>
                  </a:lnTo>
                  <a:lnTo>
                    <a:pt x="177" y="1730"/>
                  </a:lnTo>
                  <a:lnTo>
                    <a:pt x="88" y="181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873600" y="1725480"/>
              <a:ext cx="301680" cy="10800"/>
            </a:xfrm>
            <a:custGeom>
              <a:avLst/>
              <a:gdLst/>
              <a:ahLst/>
              <a:rect l="l" t="t" r="r" b="b"/>
              <a:pathLst>
                <a:path w="4386" h="178">
                  <a:moveTo>
                    <a:pt x="4386" y="89"/>
                  </a:moveTo>
                  <a:lnTo>
                    <a:pt x="4296" y="0"/>
                  </a:lnTo>
                  <a:lnTo>
                    <a:pt x="0" y="0"/>
                  </a:lnTo>
                  <a:lnTo>
                    <a:pt x="0" y="178"/>
                  </a:lnTo>
                  <a:lnTo>
                    <a:pt x="4296" y="178"/>
                  </a:lnTo>
                  <a:lnTo>
                    <a:pt x="4386" y="89"/>
                  </a:lnTo>
                  <a:lnTo>
                    <a:pt x="4296" y="178"/>
                  </a:lnTo>
                  <a:lnTo>
                    <a:pt x="4308" y="177"/>
                  </a:lnTo>
                  <a:lnTo>
                    <a:pt x="4318" y="176"/>
                  </a:lnTo>
                  <a:lnTo>
                    <a:pt x="4327" y="174"/>
                  </a:lnTo>
                  <a:lnTo>
                    <a:pt x="4336" y="170"/>
                  </a:lnTo>
                  <a:lnTo>
                    <a:pt x="4344" y="167"/>
                  </a:lnTo>
                  <a:lnTo>
                    <a:pt x="4351" y="161"/>
                  </a:lnTo>
                  <a:lnTo>
                    <a:pt x="4357" y="156"/>
                  </a:lnTo>
                  <a:lnTo>
                    <a:pt x="4363" y="150"/>
                  </a:lnTo>
                  <a:lnTo>
                    <a:pt x="4368" y="144"/>
                  </a:lnTo>
                  <a:lnTo>
                    <a:pt x="4373" y="137"/>
                  </a:lnTo>
                  <a:lnTo>
                    <a:pt x="4377" y="130"/>
                  </a:lnTo>
                  <a:lnTo>
                    <a:pt x="4380" y="121"/>
                  </a:lnTo>
                  <a:lnTo>
                    <a:pt x="4383" y="114"/>
                  </a:lnTo>
                  <a:lnTo>
                    <a:pt x="4384" y="106"/>
                  </a:lnTo>
                  <a:lnTo>
                    <a:pt x="4385" y="98"/>
                  </a:lnTo>
                  <a:lnTo>
                    <a:pt x="4386" y="89"/>
                  </a:lnTo>
                  <a:lnTo>
                    <a:pt x="4385" y="81"/>
                  </a:lnTo>
                  <a:lnTo>
                    <a:pt x="4384" y="73"/>
                  </a:lnTo>
                  <a:lnTo>
                    <a:pt x="4383" y="65"/>
                  </a:lnTo>
                  <a:lnTo>
                    <a:pt x="4380" y="57"/>
                  </a:lnTo>
                  <a:lnTo>
                    <a:pt x="4377" y="49"/>
                  </a:lnTo>
                  <a:lnTo>
                    <a:pt x="4373" y="41"/>
                  </a:lnTo>
                  <a:lnTo>
                    <a:pt x="4368" y="35"/>
                  </a:lnTo>
                  <a:lnTo>
                    <a:pt x="4363" y="28"/>
                  </a:lnTo>
                  <a:lnTo>
                    <a:pt x="4357" y="23"/>
                  </a:lnTo>
                  <a:lnTo>
                    <a:pt x="4351" y="16"/>
                  </a:lnTo>
                  <a:lnTo>
                    <a:pt x="4344" y="12"/>
                  </a:lnTo>
                  <a:lnTo>
                    <a:pt x="4336" y="8"/>
                  </a:lnTo>
                  <a:lnTo>
                    <a:pt x="4327" y="5"/>
                  </a:lnTo>
                  <a:lnTo>
                    <a:pt x="4318" y="2"/>
                  </a:lnTo>
                  <a:lnTo>
                    <a:pt x="4308" y="1"/>
                  </a:lnTo>
                  <a:lnTo>
                    <a:pt x="4296" y="0"/>
                  </a:lnTo>
                  <a:lnTo>
                    <a:pt x="4386" y="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940200" y="2260440"/>
              <a:ext cx="166680" cy="10800"/>
            </a:xfrm>
            <a:prstGeom prst="rect">
              <a:avLst/>
            </a:pr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4164120" y="2197080"/>
              <a:ext cx="11160" cy="126720"/>
            </a:xfrm>
            <a:custGeom>
              <a:avLst/>
              <a:gdLst/>
              <a:ahLst/>
              <a:rect l="l" t="t" r="r" b="b"/>
              <a:pathLst>
                <a:path w="178" h="1819">
                  <a:moveTo>
                    <a:pt x="88" y="0"/>
                  </a:moveTo>
                  <a:lnTo>
                    <a:pt x="0" y="89"/>
                  </a:lnTo>
                  <a:lnTo>
                    <a:pt x="0" y="1819"/>
                  </a:lnTo>
                  <a:lnTo>
                    <a:pt x="178" y="1819"/>
                  </a:lnTo>
                  <a:lnTo>
                    <a:pt x="178" y="89"/>
                  </a:lnTo>
                  <a:lnTo>
                    <a:pt x="88" y="0"/>
                  </a:lnTo>
                  <a:lnTo>
                    <a:pt x="178" y="89"/>
                  </a:lnTo>
                  <a:lnTo>
                    <a:pt x="177" y="77"/>
                  </a:lnTo>
                  <a:lnTo>
                    <a:pt x="176" y="68"/>
                  </a:lnTo>
                  <a:lnTo>
                    <a:pt x="173" y="58"/>
                  </a:lnTo>
                  <a:lnTo>
                    <a:pt x="170" y="50"/>
                  </a:lnTo>
                  <a:lnTo>
                    <a:pt x="166" y="41"/>
                  </a:lnTo>
                  <a:lnTo>
                    <a:pt x="162" y="34"/>
                  </a:lnTo>
                  <a:lnTo>
                    <a:pt x="155" y="28"/>
                  </a:lnTo>
                  <a:lnTo>
                    <a:pt x="150" y="22"/>
                  </a:lnTo>
                  <a:lnTo>
                    <a:pt x="143" y="17"/>
                  </a:lnTo>
                  <a:lnTo>
                    <a:pt x="137" y="13"/>
                  </a:lnTo>
                  <a:lnTo>
                    <a:pt x="129" y="9"/>
                  </a:lnTo>
                  <a:lnTo>
                    <a:pt x="121" y="5"/>
                  </a:lnTo>
                  <a:lnTo>
                    <a:pt x="113" y="3"/>
                  </a:lnTo>
                  <a:lnTo>
                    <a:pt x="105" y="1"/>
                  </a:lnTo>
                  <a:lnTo>
                    <a:pt x="97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7" y="5"/>
                  </a:lnTo>
                  <a:lnTo>
                    <a:pt x="48" y="9"/>
                  </a:lnTo>
                  <a:lnTo>
                    <a:pt x="41" y="13"/>
                  </a:lnTo>
                  <a:lnTo>
                    <a:pt x="34" y="17"/>
                  </a:lnTo>
                  <a:lnTo>
                    <a:pt x="2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1" y="41"/>
                  </a:lnTo>
                  <a:lnTo>
                    <a:pt x="8" y="50"/>
                  </a:lnTo>
                  <a:lnTo>
                    <a:pt x="4" y="58"/>
                  </a:lnTo>
                  <a:lnTo>
                    <a:pt x="2" y="68"/>
                  </a:lnTo>
                  <a:lnTo>
                    <a:pt x="1" y="77"/>
                  </a:lnTo>
                  <a:lnTo>
                    <a:pt x="0" y="8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867120" y="2197080"/>
              <a:ext cx="303120" cy="12240"/>
            </a:xfrm>
            <a:custGeom>
              <a:avLst/>
              <a:gdLst/>
              <a:ahLst/>
              <a:rect l="l" t="t" r="r" b="b"/>
              <a:pathLst>
                <a:path w="4384" h="177">
                  <a:moveTo>
                    <a:pt x="0" y="89"/>
                  </a:moveTo>
                  <a:lnTo>
                    <a:pt x="88" y="177"/>
                  </a:lnTo>
                  <a:lnTo>
                    <a:pt x="4384" y="177"/>
                  </a:lnTo>
                  <a:lnTo>
                    <a:pt x="4384" y="0"/>
                  </a:lnTo>
                  <a:lnTo>
                    <a:pt x="88" y="0"/>
                  </a:lnTo>
                  <a:lnTo>
                    <a:pt x="0" y="89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8" y="1"/>
                  </a:lnTo>
                  <a:lnTo>
                    <a:pt x="58" y="4"/>
                  </a:lnTo>
                  <a:lnTo>
                    <a:pt x="50" y="8"/>
                  </a:lnTo>
                  <a:lnTo>
                    <a:pt x="42" y="12"/>
                  </a:lnTo>
                  <a:lnTo>
                    <a:pt x="35" y="16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7" y="34"/>
                  </a:lnTo>
                  <a:lnTo>
                    <a:pt x="12" y="41"/>
                  </a:lnTo>
                  <a:lnTo>
                    <a:pt x="8" y="49"/>
                  </a:lnTo>
                  <a:lnTo>
                    <a:pt x="5" y="56"/>
                  </a:lnTo>
                  <a:lnTo>
                    <a:pt x="3" y="64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3" y="113"/>
                  </a:lnTo>
                  <a:lnTo>
                    <a:pt x="5" y="121"/>
                  </a:lnTo>
                  <a:lnTo>
                    <a:pt x="8" y="129"/>
                  </a:lnTo>
                  <a:lnTo>
                    <a:pt x="12" y="136"/>
                  </a:lnTo>
                  <a:lnTo>
                    <a:pt x="17" y="143"/>
                  </a:lnTo>
                  <a:lnTo>
                    <a:pt x="22" y="149"/>
                  </a:lnTo>
                  <a:lnTo>
                    <a:pt x="27" y="156"/>
                  </a:lnTo>
                  <a:lnTo>
                    <a:pt x="35" y="161"/>
                  </a:lnTo>
                  <a:lnTo>
                    <a:pt x="42" y="166"/>
                  </a:lnTo>
                  <a:lnTo>
                    <a:pt x="50" y="170"/>
                  </a:lnTo>
                  <a:lnTo>
                    <a:pt x="58" y="173"/>
                  </a:lnTo>
                  <a:lnTo>
                    <a:pt x="68" y="175"/>
                  </a:lnTo>
                  <a:lnTo>
                    <a:pt x="78" y="176"/>
                  </a:lnTo>
                  <a:lnTo>
                    <a:pt x="88" y="17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867120" y="2203200"/>
              <a:ext cx="12600" cy="125280"/>
            </a:xfrm>
            <a:custGeom>
              <a:avLst/>
              <a:gdLst/>
              <a:ahLst/>
              <a:rect l="l" t="t" r="r" b="b"/>
              <a:pathLst>
                <a:path w="177" h="1818">
                  <a:moveTo>
                    <a:pt x="88" y="1818"/>
                  </a:moveTo>
                  <a:lnTo>
                    <a:pt x="177" y="1730"/>
                  </a:lnTo>
                  <a:lnTo>
                    <a:pt x="177" y="0"/>
                  </a:lnTo>
                  <a:lnTo>
                    <a:pt x="0" y="0"/>
                  </a:lnTo>
                  <a:lnTo>
                    <a:pt x="0" y="1730"/>
                  </a:lnTo>
                  <a:lnTo>
                    <a:pt x="88" y="1818"/>
                  </a:lnTo>
                  <a:lnTo>
                    <a:pt x="0" y="1730"/>
                  </a:lnTo>
                  <a:lnTo>
                    <a:pt x="1" y="1741"/>
                  </a:lnTo>
                  <a:lnTo>
                    <a:pt x="2" y="1751"/>
                  </a:lnTo>
                  <a:lnTo>
                    <a:pt x="4" y="1760"/>
                  </a:lnTo>
                  <a:lnTo>
                    <a:pt x="7" y="1769"/>
                  </a:lnTo>
                  <a:lnTo>
                    <a:pt x="11" y="1777"/>
                  </a:lnTo>
                  <a:lnTo>
                    <a:pt x="16" y="1784"/>
                  </a:lnTo>
                  <a:lnTo>
                    <a:pt x="21" y="1790"/>
                  </a:lnTo>
                  <a:lnTo>
                    <a:pt x="27" y="1796"/>
                  </a:lnTo>
                  <a:lnTo>
                    <a:pt x="34" y="1801"/>
                  </a:lnTo>
                  <a:lnTo>
                    <a:pt x="41" y="1806"/>
                  </a:lnTo>
                  <a:lnTo>
                    <a:pt x="48" y="1810"/>
                  </a:lnTo>
                  <a:lnTo>
                    <a:pt x="56" y="1813"/>
                  </a:lnTo>
                  <a:lnTo>
                    <a:pt x="63" y="1815"/>
                  </a:lnTo>
                  <a:lnTo>
                    <a:pt x="72" y="1817"/>
                  </a:lnTo>
                  <a:lnTo>
                    <a:pt x="80" y="1818"/>
                  </a:lnTo>
                  <a:lnTo>
                    <a:pt x="88" y="1818"/>
                  </a:lnTo>
                  <a:lnTo>
                    <a:pt x="96" y="1818"/>
                  </a:lnTo>
                  <a:lnTo>
                    <a:pt x="105" y="1817"/>
                  </a:lnTo>
                  <a:lnTo>
                    <a:pt x="113" y="1815"/>
                  </a:lnTo>
                  <a:lnTo>
                    <a:pt x="121" y="1813"/>
                  </a:lnTo>
                  <a:lnTo>
                    <a:pt x="128" y="1810"/>
                  </a:lnTo>
                  <a:lnTo>
                    <a:pt x="135" y="1806"/>
                  </a:lnTo>
                  <a:lnTo>
                    <a:pt x="143" y="1801"/>
                  </a:lnTo>
                  <a:lnTo>
                    <a:pt x="150" y="1796"/>
                  </a:lnTo>
                  <a:lnTo>
                    <a:pt x="155" y="1790"/>
                  </a:lnTo>
                  <a:lnTo>
                    <a:pt x="161" y="1784"/>
                  </a:lnTo>
                  <a:lnTo>
                    <a:pt x="165" y="1777"/>
                  </a:lnTo>
                  <a:lnTo>
                    <a:pt x="169" y="1769"/>
                  </a:lnTo>
                  <a:lnTo>
                    <a:pt x="173" y="1760"/>
                  </a:lnTo>
                  <a:lnTo>
                    <a:pt x="176" y="1751"/>
                  </a:lnTo>
                  <a:lnTo>
                    <a:pt x="177" y="1741"/>
                  </a:lnTo>
                  <a:lnTo>
                    <a:pt x="177" y="1730"/>
                  </a:lnTo>
                  <a:lnTo>
                    <a:pt x="88" y="181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873600" y="2317680"/>
              <a:ext cx="301680" cy="10800"/>
            </a:xfrm>
            <a:custGeom>
              <a:avLst/>
              <a:gdLst/>
              <a:ahLst/>
              <a:rect l="l" t="t" r="r" b="b"/>
              <a:pathLst>
                <a:path w="4386" h="177">
                  <a:moveTo>
                    <a:pt x="4386" y="89"/>
                  </a:moveTo>
                  <a:lnTo>
                    <a:pt x="4296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4296" y="177"/>
                  </a:lnTo>
                  <a:lnTo>
                    <a:pt x="4386" y="89"/>
                  </a:lnTo>
                  <a:lnTo>
                    <a:pt x="4296" y="177"/>
                  </a:lnTo>
                  <a:lnTo>
                    <a:pt x="4308" y="177"/>
                  </a:lnTo>
                  <a:lnTo>
                    <a:pt x="4318" y="176"/>
                  </a:lnTo>
                  <a:lnTo>
                    <a:pt x="4327" y="173"/>
                  </a:lnTo>
                  <a:lnTo>
                    <a:pt x="4336" y="170"/>
                  </a:lnTo>
                  <a:lnTo>
                    <a:pt x="4344" y="166"/>
                  </a:lnTo>
                  <a:lnTo>
                    <a:pt x="4351" y="162"/>
                  </a:lnTo>
                  <a:lnTo>
                    <a:pt x="4357" y="155"/>
                  </a:lnTo>
                  <a:lnTo>
                    <a:pt x="4363" y="150"/>
                  </a:lnTo>
                  <a:lnTo>
                    <a:pt x="4368" y="143"/>
                  </a:lnTo>
                  <a:lnTo>
                    <a:pt x="4373" y="137"/>
                  </a:lnTo>
                  <a:lnTo>
                    <a:pt x="4377" y="129"/>
                  </a:lnTo>
                  <a:lnTo>
                    <a:pt x="4380" y="121"/>
                  </a:lnTo>
                  <a:lnTo>
                    <a:pt x="4383" y="113"/>
                  </a:lnTo>
                  <a:lnTo>
                    <a:pt x="4384" y="105"/>
                  </a:lnTo>
                  <a:lnTo>
                    <a:pt x="4385" y="97"/>
                  </a:lnTo>
                  <a:lnTo>
                    <a:pt x="4386" y="89"/>
                  </a:lnTo>
                  <a:lnTo>
                    <a:pt x="4385" y="80"/>
                  </a:lnTo>
                  <a:lnTo>
                    <a:pt x="4384" y="72"/>
                  </a:lnTo>
                  <a:lnTo>
                    <a:pt x="4383" y="64"/>
                  </a:lnTo>
                  <a:lnTo>
                    <a:pt x="4380" y="57"/>
                  </a:lnTo>
                  <a:lnTo>
                    <a:pt x="4377" y="48"/>
                  </a:lnTo>
                  <a:lnTo>
                    <a:pt x="4373" y="41"/>
                  </a:lnTo>
                  <a:lnTo>
                    <a:pt x="4368" y="34"/>
                  </a:lnTo>
                  <a:lnTo>
                    <a:pt x="4363" y="28"/>
                  </a:lnTo>
                  <a:lnTo>
                    <a:pt x="4357" y="22"/>
                  </a:lnTo>
                  <a:lnTo>
                    <a:pt x="4351" y="17"/>
                  </a:lnTo>
                  <a:lnTo>
                    <a:pt x="4344" y="11"/>
                  </a:lnTo>
                  <a:lnTo>
                    <a:pt x="4336" y="7"/>
                  </a:lnTo>
                  <a:lnTo>
                    <a:pt x="4327" y="4"/>
                  </a:lnTo>
                  <a:lnTo>
                    <a:pt x="4318" y="2"/>
                  </a:lnTo>
                  <a:lnTo>
                    <a:pt x="4308" y="1"/>
                  </a:lnTo>
                  <a:lnTo>
                    <a:pt x="4296" y="0"/>
                  </a:lnTo>
                  <a:lnTo>
                    <a:pt x="4386" y="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595680" y="1950840"/>
              <a:ext cx="588960" cy="288720"/>
            </a:xfrm>
            <a:custGeom>
              <a:avLst/>
              <a:gdLst/>
              <a:ahLst/>
              <a:rect l="l" t="t" r="r" b="b"/>
              <a:pathLst>
                <a:path w="8533" h="4201">
                  <a:moveTo>
                    <a:pt x="3" y="0"/>
                  </a:moveTo>
                  <a:lnTo>
                    <a:pt x="0" y="4201"/>
                  </a:lnTo>
                  <a:lnTo>
                    <a:pt x="8531" y="4201"/>
                  </a:lnTo>
                  <a:lnTo>
                    <a:pt x="853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6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589200" y="1950840"/>
              <a:ext cx="12960" cy="294840"/>
            </a:xfrm>
            <a:custGeom>
              <a:avLst/>
              <a:gdLst/>
              <a:ahLst/>
              <a:rect l="l" t="t" r="r" b="b"/>
              <a:pathLst>
                <a:path w="179" h="4289">
                  <a:moveTo>
                    <a:pt x="88" y="4289"/>
                  </a:moveTo>
                  <a:lnTo>
                    <a:pt x="177" y="4201"/>
                  </a:lnTo>
                  <a:lnTo>
                    <a:pt x="179" y="0"/>
                  </a:lnTo>
                  <a:lnTo>
                    <a:pt x="1" y="0"/>
                  </a:lnTo>
                  <a:lnTo>
                    <a:pt x="0" y="4201"/>
                  </a:lnTo>
                  <a:lnTo>
                    <a:pt x="88" y="4289"/>
                  </a:lnTo>
                  <a:lnTo>
                    <a:pt x="0" y="4201"/>
                  </a:lnTo>
                  <a:lnTo>
                    <a:pt x="0" y="4211"/>
                  </a:lnTo>
                  <a:lnTo>
                    <a:pt x="2" y="4222"/>
                  </a:lnTo>
                  <a:lnTo>
                    <a:pt x="4" y="4231"/>
                  </a:lnTo>
                  <a:lnTo>
                    <a:pt x="7" y="4240"/>
                  </a:lnTo>
                  <a:lnTo>
                    <a:pt x="11" y="4247"/>
                  </a:lnTo>
                  <a:lnTo>
                    <a:pt x="16" y="4255"/>
                  </a:lnTo>
                  <a:lnTo>
                    <a:pt x="22" y="4262"/>
                  </a:lnTo>
                  <a:lnTo>
                    <a:pt x="28" y="4268"/>
                  </a:lnTo>
                  <a:lnTo>
                    <a:pt x="34" y="4273"/>
                  </a:lnTo>
                  <a:lnTo>
                    <a:pt x="41" y="4277"/>
                  </a:lnTo>
                  <a:lnTo>
                    <a:pt x="48" y="4281"/>
                  </a:lnTo>
                  <a:lnTo>
                    <a:pt x="56" y="4284"/>
                  </a:lnTo>
                  <a:lnTo>
                    <a:pt x="64" y="4286"/>
                  </a:lnTo>
                  <a:lnTo>
                    <a:pt x="72" y="4288"/>
                  </a:lnTo>
                  <a:lnTo>
                    <a:pt x="80" y="4289"/>
                  </a:lnTo>
                  <a:lnTo>
                    <a:pt x="88" y="4289"/>
                  </a:lnTo>
                  <a:lnTo>
                    <a:pt x="97" y="4289"/>
                  </a:lnTo>
                  <a:lnTo>
                    <a:pt x="105" y="4288"/>
                  </a:lnTo>
                  <a:lnTo>
                    <a:pt x="113" y="4286"/>
                  </a:lnTo>
                  <a:lnTo>
                    <a:pt x="121" y="4284"/>
                  </a:lnTo>
                  <a:lnTo>
                    <a:pt x="129" y="4281"/>
                  </a:lnTo>
                  <a:lnTo>
                    <a:pt x="136" y="4277"/>
                  </a:lnTo>
                  <a:lnTo>
                    <a:pt x="143" y="4273"/>
                  </a:lnTo>
                  <a:lnTo>
                    <a:pt x="149" y="4268"/>
                  </a:lnTo>
                  <a:lnTo>
                    <a:pt x="155" y="4262"/>
                  </a:lnTo>
                  <a:lnTo>
                    <a:pt x="161" y="4255"/>
                  </a:lnTo>
                  <a:lnTo>
                    <a:pt x="166" y="4247"/>
                  </a:lnTo>
                  <a:lnTo>
                    <a:pt x="170" y="4240"/>
                  </a:lnTo>
                  <a:lnTo>
                    <a:pt x="173" y="4231"/>
                  </a:lnTo>
                  <a:lnTo>
                    <a:pt x="175" y="4222"/>
                  </a:lnTo>
                  <a:lnTo>
                    <a:pt x="177" y="4211"/>
                  </a:lnTo>
                  <a:lnTo>
                    <a:pt x="177" y="4201"/>
                  </a:lnTo>
                  <a:lnTo>
                    <a:pt x="88" y="42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595680" y="2233440"/>
              <a:ext cx="595440" cy="12240"/>
            </a:xfrm>
            <a:custGeom>
              <a:avLst/>
              <a:gdLst/>
              <a:ahLst/>
              <a:rect l="l" t="t" r="r" b="b"/>
              <a:pathLst>
                <a:path w="8620" h="176">
                  <a:moveTo>
                    <a:pt x="8620" y="88"/>
                  </a:moveTo>
                  <a:lnTo>
                    <a:pt x="8531" y="0"/>
                  </a:lnTo>
                  <a:lnTo>
                    <a:pt x="0" y="0"/>
                  </a:lnTo>
                  <a:lnTo>
                    <a:pt x="0" y="176"/>
                  </a:lnTo>
                  <a:lnTo>
                    <a:pt x="8531" y="176"/>
                  </a:lnTo>
                  <a:lnTo>
                    <a:pt x="8620" y="88"/>
                  </a:lnTo>
                  <a:lnTo>
                    <a:pt x="8531" y="176"/>
                  </a:lnTo>
                  <a:lnTo>
                    <a:pt x="8543" y="176"/>
                  </a:lnTo>
                  <a:lnTo>
                    <a:pt x="8552" y="174"/>
                  </a:lnTo>
                  <a:lnTo>
                    <a:pt x="8561" y="172"/>
                  </a:lnTo>
                  <a:lnTo>
                    <a:pt x="8571" y="169"/>
                  </a:lnTo>
                  <a:lnTo>
                    <a:pt x="8579" y="165"/>
                  </a:lnTo>
                  <a:lnTo>
                    <a:pt x="8586" y="160"/>
                  </a:lnTo>
                  <a:lnTo>
                    <a:pt x="8592" y="155"/>
                  </a:lnTo>
                  <a:lnTo>
                    <a:pt x="8598" y="149"/>
                  </a:lnTo>
                  <a:lnTo>
                    <a:pt x="8603" y="142"/>
                  </a:lnTo>
                  <a:lnTo>
                    <a:pt x="8608" y="135"/>
                  </a:lnTo>
                  <a:lnTo>
                    <a:pt x="8612" y="128"/>
                  </a:lnTo>
                  <a:lnTo>
                    <a:pt x="8615" y="121"/>
                  </a:lnTo>
                  <a:lnTo>
                    <a:pt x="8617" y="113"/>
                  </a:lnTo>
                  <a:lnTo>
                    <a:pt x="8619" y="104"/>
                  </a:lnTo>
                  <a:lnTo>
                    <a:pt x="8620" y="96"/>
                  </a:lnTo>
                  <a:lnTo>
                    <a:pt x="8620" y="88"/>
                  </a:lnTo>
                  <a:lnTo>
                    <a:pt x="8620" y="80"/>
                  </a:lnTo>
                  <a:lnTo>
                    <a:pt x="8619" y="72"/>
                  </a:lnTo>
                  <a:lnTo>
                    <a:pt x="8617" y="63"/>
                  </a:lnTo>
                  <a:lnTo>
                    <a:pt x="8615" y="55"/>
                  </a:lnTo>
                  <a:lnTo>
                    <a:pt x="8612" y="48"/>
                  </a:lnTo>
                  <a:lnTo>
                    <a:pt x="8608" y="41"/>
                  </a:lnTo>
                  <a:lnTo>
                    <a:pt x="8603" y="34"/>
                  </a:lnTo>
                  <a:lnTo>
                    <a:pt x="8598" y="27"/>
                  </a:lnTo>
                  <a:lnTo>
                    <a:pt x="8592" y="21"/>
                  </a:lnTo>
                  <a:lnTo>
                    <a:pt x="8586" y="16"/>
                  </a:lnTo>
                  <a:lnTo>
                    <a:pt x="8579" y="11"/>
                  </a:lnTo>
                  <a:lnTo>
                    <a:pt x="8571" y="7"/>
                  </a:lnTo>
                  <a:lnTo>
                    <a:pt x="8561" y="4"/>
                  </a:lnTo>
                  <a:lnTo>
                    <a:pt x="8552" y="2"/>
                  </a:lnTo>
                  <a:lnTo>
                    <a:pt x="8543" y="0"/>
                  </a:lnTo>
                  <a:lnTo>
                    <a:pt x="8531" y="0"/>
                  </a:lnTo>
                  <a:lnTo>
                    <a:pt x="8620" y="8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4178160" y="1944720"/>
              <a:ext cx="12960" cy="294840"/>
            </a:xfrm>
            <a:custGeom>
              <a:avLst/>
              <a:gdLst/>
              <a:ahLst/>
              <a:rect l="l" t="t" r="r" b="b"/>
              <a:pathLst>
                <a:path w="179" h="4289">
                  <a:moveTo>
                    <a:pt x="90" y="0"/>
                  </a:moveTo>
                  <a:lnTo>
                    <a:pt x="1" y="88"/>
                  </a:lnTo>
                  <a:lnTo>
                    <a:pt x="0" y="4289"/>
                  </a:lnTo>
                  <a:lnTo>
                    <a:pt x="177" y="4289"/>
                  </a:lnTo>
                  <a:lnTo>
                    <a:pt x="179" y="88"/>
                  </a:lnTo>
                  <a:lnTo>
                    <a:pt x="90" y="0"/>
                  </a:lnTo>
                  <a:lnTo>
                    <a:pt x="179" y="88"/>
                  </a:lnTo>
                  <a:lnTo>
                    <a:pt x="178" y="78"/>
                  </a:lnTo>
                  <a:lnTo>
                    <a:pt x="177" y="68"/>
                  </a:lnTo>
                  <a:lnTo>
                    <a:pt x="175" y="59"/>
                  </a:lnTo>
                  <a:lnTo>
                    <a:pt x="171" y="49"/>
                  </a:lnTo>
                  <a:lnTo>
                    <a:pt x="167" y="42"/>
                  </a:lnTo>
                  <a:lnTo>
                    <a:pt x="162" y="35"/>
                  </a:lnTo>
                  <a:lnTo>
                    <a:pt x="157" y="28"/>
                  </a:lnTo>
                  <a:lnTo>
                    <a:pt x="151" y="23"/>
                  </a:lnTo>
                  <a:lnTo>
                    <a:pt x="145" y="17"/>
                  </a:lnTo>
                  <a:lnTo>
                    <a:pt x="138" y="12"/>
                  </a:lnTo>
                  <a:lnTo>
                    <a:pt x="131" y="8"/>
                  </a:lnTo>
                  <a:lnTo>
                    <a:pt x="122" y="5"/>
                  </a:lnTo>
                  <a:lnTo>
                    <a:pt x="115" y="3"/>
                  </a:lnTo>
                  <a:lnTo>
                    <a:pt x="107" y="1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3"/>
                  </a:lnTo>
                  <a:lnTo>
                    <a:pt x="58" y="5"/>
                  </a:lnTo>
                  <a:lnTo>
                    <a:pt x="49" y="8"/>
                  </a:lnTo>
                  <a:lnTo>
                    <a:pt x="42" y="12"/>
                  </a:lnTo>
                  <a:lnTo>
                    <a:pt x="36" y="17"/>
                  </a:lnTo>
                  <a:lnTo>
                    <a:pt x="29" y="23"/>
                  </a:lnTo>
                  <a:lnTo>
                    <a:pt x="24" y="28"/>
                  </a:lnTo>
                  <a:lnTo>
                    <a:pt x="17" y="35"/>
                  </a:lnTo>
                  <a:lnTo>
                    <a:pt x="13" y="42"/>
                  </a:lnTo>
                  <a:lnTo>
                    <a:pt x="9" y="49"/>
                  </a:lnTo>
                  <a:lnTo>
                    <a:pt x="6" y="59"/>
                  </a:lnTo>
                  <a:lnTo>
                    <a:pt x="3" y="68"/>
                  </a:lnTo>
                  <a:lnTo>
                    <a:pt x="2" y="78"/>
                  </a:lnTo>
                  <a:lnTo>
                    <a:pt x="1" y="8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589200" y="1944720"/>
              <a:ext cx="595440" cy="10440"/>
            </a:xfrm>
            <a:custGeom>
              <a:avLst/>
              <a:gdLst/>
              <a:ahLst/>
              <a:rect l="l" t="t" r="r" b="b"/>
              <a:pathLst>
                <a:path w="8620" h="177">
                  <a:moveTo>
                    <a:pt x="0" y="88"/>
                  </a:moveTo>
                  <a:lnTo>
                    <a:pt x="90" y="177"/>
                  </a:lnTo>
                  <a:lnTo>
                    <a:pt x="8620" y="177"/>
                  </a:lnTo>
                  <a:lnTo>
                    <a:pt x="8620" y="0"/>
                  </a:lnTo>
                  <a:lnTo>
                    <a:pt x="90" y="0"/>
                  </a:lnTo>
                  <a:lnTo>
                    <a:pt x="0" y="88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59" y="4"/>
                  </a:lnTo>
                  <a:lnTo>
                    <a:pt x="50" y="7"/>
                  </a:lnTo>
                  <a:lnTo>
                    <a:pt x="42" y="11"/>
                  </a:lnTo>
                  <a:lnTo>
                    <a:pt x="35" y="16"/>
                  </a:lnTo>
                  <a:lnTo>
                    <a:pt x="29" y="22"/>
                  </a:lnTo>
                  <a:lnTo>
                    <a:pt x="23" y="28"/>
                  </a:lnTo>
                  <a:lnTo>
                    <a:pt x="18" y="34"/>
                  </a:lnTo>
                  <a:lnTo>
                    <a:pt x="13" y="41"/>
                  </a:lnTo>
                  <a:lnTo>
                    <a:pt x="9" y="48"/>
                  </a:lnTo>
                  <a:lnTo>
                    <a:pt x="6" y="56"/>
                  </a:lnTo>
                  <a:lnTo>
                    <a:pt x="3" y="64"/>
                  </a:lnTo>
                  <a:lnTo>
                    <a:pt x="2" y="72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1" y="97"/>
                  </a:lnTo>
                  <a:lnTo>
                    <a:pt x="2" y="105"/>
                  </a:lnTo>
                  <a:lnTo>
                    <a:pt x="3" y="113"/>
                  </a:lnTo>
                  <a:lnTo>
                    <a:pt x="6" y="121"/>
                  </a:lnTo>
                  <a:lnTo>
                    <a:pt x="9" y="128"/>
                  </a:lnTo>
                  <a:lnTo>
                    <a:pt x="13" y="136"/>
                  </a:lnTo>
                  <a:lnTo>
                    <a:pt x="18" y="143"/>
                  </a:lnTo>
                  <a:lnTo>
                    <a:pt x="23" y="149"/>
                  </a:lnTo>
                  <a:lnTo>
                    <a:pt x="29" y="155"/>
                  </a:lnTo>
                  <a:lnTo>
                    <a:pt x="35" y="161"/>
                  </a:lnTo>
                  <a:lnTo>
                    <a:pt x="42" y="165"/>
                  </a:lnTo>
                  <a:lnTo>
                    <a:pt x="50" y="170"/>
                  </a:lnTo>
                  <a:lnTo>
                    <a:pt x="59" y="173"/>
                  </a:lnTo>
                  <a:lnTo>
                    <a:pt x="68" y="175"/>
                  </a:lnTo>
                  <a:lnTo>
                    <a:pt x="78" y="177"/>
                  </a:lnTo>
                  <a:lnTo>
                    <a:pt x="90" y="17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797280" y="2093760"/>
              <a:ext cx="166680" cy="12240"/>
            </a:xfrm>
            <a:prstGeom prst="rect">
              <a:avLst/>
            </a:pr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4019400" y="2031840"/>
              <a:ext cx="12960" cy="124920"/>
            </a:xfrm>
            <a:custGeom>
              <a:avLst/>
              <a:gdLst/>
              <a:ahLst/>
              <a:rect l="l" t="t" r="r" b="b"/>
              <a:pathLst>
                <a:path w="178" h="1820">
                  <a:moveTo>
                    <a:pt x="89" y="0"/>
                  </a:moveTo>
                  <a:lnTo>
                    <a:pt x="0" y="89"/>
                  </a:lnTo>
                  <a:lnTo>
                    <a:pt x="0" y="1820"/>
                  </a:lnTo>
                  <a:lnTo>
                    <a:pt x="178" y="1820"/>
                  </a:lnTo>
                  <a:lnTo>
                    <a:pt x="178" y="89"/>
                  </a:lnTo>
                  <a:lnTo>
                    <a:pt x="89" y="0"/>
                  </a:lnTo>
                  <a:lnTo>
                    <a:pt x="178" y="89"/>
                  </a:lnTo>
                  <a:lnTo>
                    <a:pt x="177" y="78"/>
                  </a:lnTo>
                  <a:lnTo>
                    <a:pt x="176" y="68"/>
                  </a:lnTo>
                  <a:lnTo>
                    <a:pt x="173" y="59"/>
                  </a:lnTo>
                  <a:lnTo>
                    <a:pt x="170" y="51"/>
                  </a:lnTo>
                  <a:lnTo>
                    <a:pt x="166" y="42"/>
                  </a:lnTo>
                  <a:lnTo>
                    <a:pt x="162" y="35"/>
                  </a:lnTo>
                  <a:lnTo>
                    <a:pt x="156" y="28"/>
                  </a:lnTo>
                  <a:lnTo>
                    <a:pt x="150" y="23"/>
                  </a:lnTo>
                  <a:lnTo>
                    <a:pt x="143" y="18"/>
                  </a:lnTo>
                  <a:lnTo>
                    <a:pt x="137" y="13"/>
                  </a:lnTo>
                  <a:lnTo>
                    <a:pt x="129" y="9"/>
                  </a:lnTo>
                  <a:lnTo>
                    <a:pt x="122" y="5"/>
                  </a:lnTo>
                  <a:lnTo>
                    <a:pt x="113" y="3"/>
                  </a:lnTo>
                  <a:lnTo>
                    <a:pt x="105" y="1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7" y="5"/>
                  </a:lnTo>
                  <a:lnTo>
                    <a:pt x="49" y="9"/>
                  </a:lnTo>
                  <a:lnTo>
                    <a:pt x="41" y="13"/>
                  </a:lnTo>
                  <a:lnTo>
                    <a:pt x="34" y="18"/>
                  </a:lnTo>
                  <a:lnTo>
                    <a:pt x="28" y="23"/>
                  </a:lnTo>
                  <a:lnTo>
                    <a:pt x="22" y="28"/>
                  </a:lnTo>
                  <a:lnTo>
                    <a:pt x="17" y="35"/>
                  </a:lnTo>
                  <a:lnTo>
                    <a:pt x="12" y="42"/>
                  </a:lnTo>
                  <a:lnTo>
                    <a:pt x="8" y="51"/>
                  </a:lnTo>
                  <a:lnTo>
                    <a:pt x="4" y="59"/>
                  </a:lnTo>
                  <a:lnTo>
                    <a:pt x="2" y="68"/>
                  </a:lnTo>
                  <a:lnTo>
                    <a:pt x="1" y="78"/>
                  </a:lnTo>
                  <a:lnTo>
                    <a:pt x="0" y="89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724200" y="2031840"/>
              <a:ext cx="301680" cy="12240"/>
            </a:xfrm>
            <a:custGeom>
              <a:avLst/>
              <a:gdLst/>
              <a:ahLst/>
              <a:rect l="l" t="t" r="r" b="b"/>
              <a:pathLst>
                <a:path w="4385" h="177">
                  <a:moveTo>
                    <a:pt x="0" y="89"/>
                  </a:moveTo>
                  <a:lnTo>
                    <a:pt x="88" y="177"/>
                  </a:lnTo>
                  <a:lnTo>
                    <a:pt x="4385" y="177"/>
                  </a:lnTo>
                  <a:lnTo>
                    <a:pt x="4385" y="0"/>
                  </a:lnTo>
                  <a:lnTo>
                    <a:pt x="88" y="0"/>
                  </a:lnTo>
                  <a:lnTo>
                    <a:pt x="0" y="89"/>
                  </a:lnTo>
                  <a:lnTo>
                    <a:pt x="88" y="0"/>
                  </a:lnTo>
                  <a:lnTo>
                    <a:pt x="77" y="1"/>
                  </a:lnTo>
                  <a:lnTo>
                    <a:pt x="68" y="2"/>
                  </a:lnTo>
                  <a:lnTo>
                    <a:pt x="59" y="4"/>
                  </a:lnTo>
                  <a:lnTo>
                    <a:pt x="49" y="8"/>
                  </a:lnTo>
                  <a:lnTo>
                    <a:pt x="41" y="12"/>
                  </a:lnTo>
                  <a:lnTo>
                    <a:pt x="34" y="17"/>
                  </a:lnTo>
                  <a:lnTo>
                    <a:pt x="28" y="22"/>
                  </a:lnTo>
                  <a:lnTo>
                    <a:pt x="22" y="28"/>
                  </a:lnTo>
                  <a:lnTo>
                    <a:pt x="16" y="34"/>
                  </a:lnTo>
                  <a:lnTo>
                    <a:pt x="12" y="41"/>
                  </a:lnTo>
                  <a:lnTo>
                    <a:pt x="8" y="49"/>
                  </a:lnTo>
                  <a:lnTo>
                    <a:pt x="5" y="57"/>
                  </a:lnTo>
                  <a:lnTo>
                    <a:pt x="3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3" y="113"/>
                  </a:lnTo>
                  <a:lnTo>
                    <a:pt x="5" y="122"/>
                  </a:lnTo>
                  <a:lnTo>
                    <a:pt x="8" y="129"/>
                  </a:lnTo>
                  <a:lnTo>
                    <a:pt x="12" y="137"/>
                  </a:lnTo>
                  <a:lnTo>
                    <a:pt x="16" y="143"/>
                  </a:lnTo>
                  <a:lnTo>
                    <a:pt x="22" y="150"/>
                  </a:lnTo>
                  <a:lnTo>
                    <a:pt x="28" y="156"/>
                  </a:lnTo>
                  <a:lnTo>
                    <a:pt x="34" y="162"/>
                  </a:lnTo>
                  <a:lnTo>
                    <a:pt x="41" y="166"/>
                  </a:lnTo>
                  <a:lnTo>
                    <a:pt x="49" y="170"/>
                  </a:lnTo>
                  <a:lnTo>
                    <a:pt x="59" y="173"/>
                  </a:lnTo>
                  <a:lnTo>
                    <a:pt x="68" y="176"/>
                  </a:lnTo>
                  <a:lnTo>
                    <a:pt x="77" y="177"/>
                  </a:lnTo>
                  <a:lnTo>
                    <a:pt x="88" y="17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724200" y="2038320"/>
              <a:ext cx="11160" cy="124920"/>
            </a:xfrm>
            <a:custGeom>
              <a:avLst/>
              <a:gdLst/>
              <a:ahLst/>
              <a:rect l="l" t="t" r="r" b="b"/>
              <a:pathLst>
                <a:path w="177" h="1819">
                  <a:moveTo>
                    <a:pt x="88" y="1819"/>
                  </a:moveTo>
                  <a:lnTo>
                    <a:pt x="177" y="1731"/>
                  </a:lnTo>
                  <a:lnTo>
                    <a:pt x="177" y="0"/>
                  </a:lnTo>
                  <a:lnTo>
                    <a:pt x="0" y="0"/>
                  </a:lnTo>
                  <a:lnTo>
                    <a:pt x="0" y="1731"/>
                  </a:lnTo>
                  <a:lnTo>
                    <a:pt x="88" y="1819"/>
                  </a:lnTo>
                  <a:lnTo>
                    <a:pt x="0" y="1731"/>
                  </a:lnTo>
                  <a:lnTo>
                    <a:pt x="0" y="1741"/>
                  </a:lnTo>
                  <a:lnTo>
                    <a:pt x="2" y="1751"/>
                  </a:lnTo>
                  <a:lnTo>
                    <a:pt x="4" y="1760"/>
                  </a:lnTo>
                  <a:lnTo>
                    <a:pt x="7" y="1769"/>
                  </a:lnTo>
                  <a:lnTo>
                    <a:pt x="11" y="1777"/>
                  </a:lnTo>
                  <a:lnTo>
                    <a:pt x="16" y="1784"/>
                  </a:lnTo>
                  <a:lnTo>
                    <a:pt x="22" y="1791"/>
                  </a:lnTo>
                  <a:lnTo>
                    <a:pt x="28" y="1796"/>
                  </a:lnTo>
                  <a:lnTo>
                    <a:pt x="34" y="1801"/>
                  </a:lnTo>
                  <a:lnTo>
                    <a:pt x="41" y="1807"/>
                  </a:lnTo>
                  <a:lnTo>
                    <a:pt x="48" y="1811"/>
                  </a:lnTo>
                  <a:lnTo>
                    <a:pt x="55" y="1814"/>
                  </a:lnTo>
                  <a:lnTo>
                    <a:pt x="64" y="1816"/>
                  </a:lnTo>
                  <a:lnTo>
                    <a:pt x="72" y="1818"/>
                  </a:lnTo>
                  <a:lnTo>
                    <a:pt x="80" y="1819"/>
                  </a:lnTo>
                  <a:lnTo>
                    <a:pt x="88" y="1819"/>
                  </a:lnTo>
                  <a:lnTo>
                    <a:pt x="97" y="1819"/>
                  </a:lnTo>
                  <a:lnTo>
                    <a:pt x="105" y="1818"/>
                  </a:lnTo>
                  <a:lnTo>
                    <a:pt x="113" y="1816"/>
                  </a:lnTo>
                  <a:lnTo>
                    <a:pt x="121" y="1814"/>
                  </a:lnTo>
                  <a:lnTo>
                    <a:pt x="129" y="1811"/>
                  </a:lnTo>
                  <a:lnTo>
                    <a:pt x="136" y="1807"/>
                  </a:lnTo>
                  <a:lnTo>
                    <a:pt x="143" y="1801"/>
                  </a:lnTo>
                  <a:lnTo>
                    <a:pt x="149" y="1796"/>
                  </a:lnTo>
                  <a:lnTo>
                    <a:pt x="155" y="1791"/>
                  </a:lnTo>
                  <a:lnTo>
                    <a:pt x="160" y="1784"/>
                  </a:lnTo>
                  <a:lnTo>
                    <a:pt x="166" y="1777"/>
                  </a:lnTo>
                  <a:lnTo>
                    <a:pt x="170" y="1769"/>
                  </a:lnTo>
                  <a:lnTo>
                    <a:pt x="173" y="1760"/>
                  </a:lnTo>
                  <a:lnTo>
                    <a:pt x="175" y="1751"/>
                  </a:lnTo>
                  <a:lnTo>
                    <a:pt x="177" y="1741"/>
                  </a:lnTo>
                  <a:lnTo>
                    <a:pt x="177" y="1731"/>
                  </a:lnTo>
                  <a:lnTo>
                    <a:pt x="88" y="181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728880" y="2151000"/>
              <a:ext cx="303480" cy="12240"/>
            </a:xfrm>
            <a:custGeom>
              <a:avLst/>
              <a:gdLst/>
              <a:ahLst/>
              <a:rect l="l" t="t" r="r" b="b"/>
              <a:pathLst>
                <a:path w="4386" h="177">
                  <a:moveTo>
                    <a:pt x="4386" y="89"/>
                  </a:moveTo>
                  <a:lnTo>
                    <a:pt x="4297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4297" y="177"/>
                  </a:lnTo>
                  <a:lnTo>
                    <a:pt x="4386" y="89"/>
                  </a:lnTo>
                  <a:lnTo>
                    <a:pt x="4297" y="177"/>
                  </a:lnTo>
                  <a:lnTo>
                    <a:pt x="4308" y="176"/>
                  </a:lnTo>
                  <a:lnTo>
                    <a:pt x="4318" y="175"/>
                  </a:lnTo>
                  <a:lnTo>
                    <a:pt x="4328" y="173"/>
                  </a:lnTo>
                  <a:lnTo>
                    <a:pt x="4336" y="170"/>
                  </a:lnTo>
                  <a:lnTo>
                    <a:pt x="4344" y="166"/>
                  </a:lnTo>
                  <a:lnTo>
                    <a:pt x="4351" y="160"/>
                  </a:lnTo>
                  <a:lnTo>
                    <a:pt x="4357" y="155"/>
                  </a:lnTo>
                  <a:lnTo>
                    <a:pt x="4364" y="149"/>
                  </a:lnTo>
                  <a:lnTo>
                    <a:pt x="4369" y="143"/>
                  </a:lnTo>
                  <a:lnTo>
                    <a:pt x="4373" y="136"/>
                  </a:lnTo>
                  <a:lnTo>
                    <a:pt x="4377" y="129"/>
                  </a:lnTo>
                  <a:lnTo>
                    <a:pt x="4380" y="120"/>
                  </a:lnTo>
                  <a:lnTo>
                    <a:pt x="4383" y="113"/>
                  </a:lnTo>
                  <a:lnTo>
                    <a:pt x="4384" y="105"/>
                  </a:lnTo>
                  <a:lnTo>
                    <a:pt x="4385" y="97"/>
                  </a:lnTo>
                  <a:lnTo>
                    <a:pt x="4386" y="89"/>
                  </a:lnTo>
                  <a:lnTo>
                    <a:pt x="4385" y="80"/>
                  </a:lnTo>
                  <a:lnTo>
                    <a:pt x="4384" y="72"/>
                  </a:lnTo>
                  <a:lnTo>
                    <a:pt x="4383" y="64"/>
                  </a:lnTo>
                  <a:lnTo>
                    <a:pt x="4380" y="56"/>
                  </a:lnTo>
                  <a:lnTo>
                    <a:pt x="4377" y="48"/>
                  </a:lnTo>
                  <a:lnTo>
                    <a:pt x="4373" y="41"/>
                  </a:lnTo>
                  <a:lnTo>
                    <a:pt x="4369" y="34"/>
                  </a:lnTo>
                  <a:lnTo>
                    <a:pt x="4364" y="27"/>
                  </a:lnTo>
                  <a:lnTo>
                    <a:pt x="4357" y="22"/>
                  </a:lnTo>
                  <a:lnTo>
                    <a:pt x="4351" y="16"/>
                  </a:lnTo>
                  <a:lnTo>
                    <a:pt x="4344" y="11"/>
                  </a:lnTo>
                  <a:lnTo>
                    <a:pt x="4336" y="7"/>
                  </a:lnTo>
                  <a:lnTo>
                    <a:pt x="4328" y="4"/>
                  </a:lnTo>
                  <a:lnTo>
                    <a:pt x="4318" y="2"/>
                  </a:lnTo>
                  <a:lnTo>
                    <a:pt x="4308" y="0"/>
                  </a:lnTo>
                  <a:lnTo>
                    <a:pt x="4297" y="0"/>
                  </a:lnTo>
                  <a:lnTo>
                    <a:pt x="4386" y="89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728880" y="1812960"/>
              <a:ext cx="587520" cy="75600"/>
            </a:xfrm>
            <a:custGeom>
              <a:avLst/>
              <a:gdLst/>
              <a:ahLst/>
              <a:rect l="l" t="t" r="r" b="b"/>
              <a:pathLst>
                <a:path w="8508" h="1105">
                  <a:moveTo>
                    <a:pt x="1" y="0"/>
                  </a:moveTo>
                  <a:lnTo>
                    <a:pt x="0" y="1105"/>
                  </a:lnTo>
                  <a:lnTo>
                    <a:pt x="8507" y="1105"/>
                  </a:lnTo>
                  <a:lnTo>
                    <a:pt x="850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722760" y="1812960"/>
              <a:ext cx="12600" cy="82080"/>
            </a:xfrm>
            <a:custGeom>
              <a:avLst/>
              <a:gdLst/>
              <a:ahLst/>
              <a:rect l="l" t="t" r="r" b="b"/>
              <a:pathLst>
                <a:path w="179" h="1195">
                  <a:moveTo>
                    <a:pt x="90" y="1195"/>
                  </a:moveTo>
                  <a:lnTo>
                    <a:pt x="178" y="1105"/>
                  </a:lnTo>
                  <a:lnTo>
                    <a:pt x="179" y="0"/>
                  </a:lnTo>
                  <a:lnTo>
                    <a:pt x="2" y="0"/>
                  </a:lnTo>
                  <a:lnTo>
                    <a:pt x="0" y="1105"/>
                  </a:lnTo>
                  <a:lnTo>
                    <a:pt x="90" y="1195"/>
                  </a:lnTo>
                  <a:lnTo>
                    <a:pt x="0" y="1105"/>
                  </a:lnTo>
                  <a:lnTo>
                    <a:pt x="1" y="1117"/>
                  </a:lnTo>
                  <a:lnTo>
                    <a:pt x="2" y="1127"/>
                  </a:lnTo>
                  <a:lnTo>
                    <a:pt x="6" y="1136"/>
                  </a:lnTo>
                  <a:lnTo>
                    <a:pt x="9" y="1144"/>
                  </a:lnTo>
                  <a:lnTo>
                    <a:pt x="13" y="1153"/>
                  </a:lnTo>
                  <a:lnTo>
                    <a:pt x="17" y="1160"/>
                  </a:lnTo>
                  <a:lnTo>
                    <a:pt x="22" y="1166"/>
                  </a:lnTo>
                  <a:lnTo>
                    <a:pt x="28" y="1172"/>
                  </a:lnTo>
                  <a:lnTo>
                    <a:pt x="35" y="1177"/>
                  </a:lnTo>
                  <a:lnTo>
                    <a:pt x="42" y="1182"/>
                  </a:lnTo>
                  <a:lnTo>
                    <a:pt x="49" y="1185"/>
                  </a:lnTo>
                  <a:lnTo>
                    <a:pt x="57" y="1189"/>
                  </a:lnTo>
                  <a:lnTo>
                    <a:pt x="64" y="1192"/>
                  </a:lnTo>
                  <a:lnTo>
                    <a:pt x="72" y="1193"/>
                  </a:lnTo>
                  <a:lnTo>
                    <a:pt x="81" y="1194"/>
                  </a:lnTo>
                  <a:lnTo>
                    <a:pt x="90" y="1195"/>
                  </a:lnTo>
                  <a:lnTo>
                    <a:pt x="98" y="1194"/>
                  </a:lnTo>
                  <a:lnTo>
                    <a:pt x="106" y="1193"/>
                  </a:lnTo>
                  <a:lnTo>
                    <a:pt x="114" y="1192"/>
                  </a:lnTo>
                  <a:lnTo>
                    <a:pt x="122" y="1189"/>
                  </a:lnTo>
                  <a:lnTo>
                    <a:pt x="130" y="1185"/>
                  </a:lnTo>
                  <a:lnTo>
                    <a:pt x="137" y="1182"/>
                  </a:lnTo>
                  <a:lnTo>
                    <a:pt x="143" y="1177"/>
                  </a:lnTo>
                  <a:lnTo>
                    <a:pt x="151" y="1172"/>
                  </a:lnTo>
                  <a:lnTo>
                    <a:pt x="157" y="1166"/>
                  </a:lnTo>
                  <a:lnTo>
                    <a:pt x="162" y="1160"/>
                  </a:lnTo>
                  <a:lnTo>
                    <a:pt x="166" y="1153"/>
                  </a:lnTo>
                  <a:lnTo>
                    <a:pt x="170" y="1144"/>
                  </a:lnTo>
                  <a:lnTo>
                    <a:pt x="173" y="1136"/>
                  </a:lnTo>
                  <a:lnTo>
                    <a:pt x="176" y="1127"/>
                  </a:lnTo>
                  <a:lnTo>
                    <a:pt x="177" y="1117"/>
                  </a:lnTo>
                  <a:lnTo>
                    <a:pt x="178" y="1105"/>
                  </a:lnTo>
                  <a:lnTo>
                    <a:pt x="90" y="1195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728880" y="1882800"/>
              <a:ext cx="592200" cy="12240"/>
            </a:xfrm>
            <a:custGeom>
              <a:avLst/>
              <a:gdLst/>
              <a:ahLst/>
              <a:rect l="l" t="t" r="r" b="b"/>
              <a:pathLst>
                <a:path w="8596" h="178">
                  <a:moveTo>
                    <a:pt x="8596" y="88"/>
                  </a:moveTo>
                  <a:lnTo>
                    <a:pt x="8507" y="0"/>
                  </a:lnTo>
                  <a:lnTo>
                    <a:pt x="0" y="0"/>
                  </a:lnTo>
                  <a:lnTo>
                    <a:pt x="0" y="178"/>
                  </a:lnTo>
                  <a:lnTo>
                    <a:pt x="8507" y="178"/>
                  </a:lnTo>
                  <a:lnTo>
                    <a:pt x="8596" y="88"/>
                  </a:lnTo>
                  <a:lnTo>
                    <a:pt x="8507" y="178"/>
                  </a:lnTo>
                  <a:lnTo>
                    <a:pt x="8517" y="177"/>
                  </a:lnTo>
                  <a:lnTo>
                    <a:pt x="8528" y="176"/>
                  </a:lnTo>
                  <a:lnTo>
                    <a:pt x="8537" y="173"/>
                  </a:lnTo>
                  <a:lnTo>
                    <a:pt x="8545" y="169"/>
                  </a:lnTo>
                  <a:lnTo>
                    <a:pt x="8553" y="165"/>
                  </a:lnTo>
                  <a:lnTo>
                    <a:pt x="8561" y="161"/>
                  </a:lnTo>
                  <a:lnTo>
                    <a:pt x="8568" y="156"/>
                  </a:lnTo>
                  <a:lnTo>
                    <a:pt x="8573" y="150"/>
                  </a:lnTo>
                  <a:lnTo>
                    <a:pt x="8578" y="143"/>
                  </a:lnTo>
                  <a:lnTo>
                    <a:pt x="8583" y="137"/>
                  </a:lnTo>
                  <a:lnTo>
                    <a:pt x="8587" y="129"/>
                  </a:lnTo>
                  <a:lnTo>
                    <a:pt x="8591" y="121"/>
                  </a:lnTo>
                  <a:lnTo>
                    <a:pt x="8593" y="113"/>
                  </a:lnTo>
                  <a:lnTo>
                    <a:pt x="8595" y="106"/>
                  </a:lnTo>
                  <a:lnTo>
                    <a:pt x="8596" y="98"/>
                  </a:lnTo>
                  <a:lnTo>
                    <a:pt x="8596" y="88"/>
                  </a:lnTo>
                  <a:lnTo>
                    <a:pt x="8596" y="80"/>
                  </a:lnTo>
                  <a:lnTo>
                    <a:pt x="8595" y="72"/>
                  </a:lnTo>
                  <a:lnTo>
                    <a:pt x="8593" y="65"/>
                  </a:lnTo>
                  <a:lnTo>
                    <a:pt x="8591" y="56"/>
                  </a:lnTo>
                  <a:lnTo>
                    <a:pt x="8587" y="48"/>
                  </a:lnTo>
                  <a:lnTo>
                    <a:pt x="8583" y="41"/>
                  </a:lnTo>
                  <a:lnTo>
                    <a:pt x="8578" y="35"/>
                  </a:lnTo>
                  <a:lnTo>
                    <a:pt x="8573" y="28"/>
                  </a:lnTo>
                  <a:lnTo>
                    <a:pt x="8568" y="21"/>
                  </a:lnTo>
                  <a:lnTo>
                    <a:pt x="8561" y="16"/>
                  </a:lnTo>
                  <a:lnTo>
                    <a:pt x="8553" y="12"/>
                  </a:lnTo>
                  <a:lnTo>
                    <a:pt x="8545" y="8"/>
                  </a:lnTo>
                  <a:lnTo>
                    <a:pt x="8537" y="5"/>
                  </a:lnTo>
                  <a:lnTo>
                    <a:pt x="8528" y="2"/>
                  </a:lnTo>
                  <a:lnTo>
                    <a:pt x="8517" y="1"/>
                  </a:lnTo>
                  <a:lnTo>
                    <a:pt x="8507" y="0"/>
                  </a:lnTo>
                  <a:lnTo>
                    <a:pt x="8596" y="8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4309920" y="1806480"/>
              <a:ext cx="11160" cy="82080"/>
            </a:xfrm>
            <a:custGeom>
              <a:avLst/>
              <a:gdLst/>
              <a:ahLst/>
              <a:rect l="l" t="t" r="r" b="b"/>
              <a:pathLst>
                <a:path w="178" h="1193">
                  <a:moveTo>
                    <a:pt x="89" y="0"/>
                  </a:moveTo>
                  <a:lnTo>
                    <a:pt x="1" y="88"/>
                  </a:lnTo>
                  <a:lnTo>
                    <a:pt x="0" y="1193"/>
                  </a:lnTo>
                  <a:lnTo>
                    <a:pt x="177" y="1193"/>
                  </a:lnTo>
                  <a:lnTo>
                    <a:pt x="178" y="88"/>
                  </a:lnTo>
                  <a:lnTo>
                    <a:pt x="89" y="0"/>
                  </a:lnTo>
                  <a:lnTo>
                    <a:pt x="178" y="88"/>
                  </a:lnTo>
                  <a:lnTo>
                    <a:pt x="178" y="78"/>
                  </a:lnTo>
                  <a:lnTo>
                    <a:pt x="176" y="68"/>
                  </a:lnTo>
                  <a:lnTo>
                    <a:pt x="174" y="59"/>
                  </a:lnTo>
                  <a:lnTo>
                    <a:pt x="170" y="50"/>
                  </a:lnTo>
                  <a:lnTo>
                    <a:pt x="166" y="42"/>
                  </a:lnTo>
                  <a:lnTo>
                    <a:pt x="161" y="35"/>
                  </a:lnTo>
                  <a:lnTo>
                    <a:pt x="156" y="29"/>
                  </a:lnTo>
                  <a:lnTo>
                    <a:pt x="150" y="23"/>
                  </a:lnTo>
                  <a:lnTo>
                    <a:pt x="144" y="17"/>
                  </a:lnTo>
                  <a:lnTo>
                    <a:pt x="137" y="12"/>
                  </a:lnTo>
                  <a:lnTo>
                    <a:pt x="129" y="9"/>
                  </a:lnTo>
                  <a:lnTo>
                    <a:pt x="122" y="6"/>
                  </a:lnTo>
                  <a:lnTo>
                    <a:pt x="114" y="3"/>
                  </a:lnTo>
                  <a:lnTo>
                    <a:pt x="106" y="2"/>
                  </a:lnTo>
                  <a:lnTo>
                    <a:pt x="97" y="1"/>
                  </a:lnTo>
                  <a:lnTo>
                    <a:pt x="89" y="0"/>
                  </a:lnTo>
                  <a:lnTo>
                    <a:pt x="81" y="1"/>
                  </a:lnTo>
                  <a:lnTo>
                    <a:pt x="73" y="2"/>
                  </a:lnTo>
                  <a:lnTo>
                    <a:pt x="64" y="3"/>
                  </a:lnTo>
                  <a:lnTo>
                    <a:pt x="56" y="6"/>
                  </a:lnTo>
                  <a:lnTo>
                    <a:pt x="49" y="9"/>
                  </a:lnTo>
                  <a:lnTo>
                    <a:pt x="42" y="12"/>
                  </a:lnTo>
                  <a:lnTo>
                    <a:pt x="35" y="17"/>
                  </a:lnTo>
                  <a:lnTo>
                    <a:pt x="28" y="23"/>
                  </a:lnTo>
                  <a:lnTo>
                    <a:pt x="22" y="29"/>
                  </a:lnTo>
                  <a:lnTo>
                    <a:pt x="17" y="35"/>
                  </a:lnTo>
                  <a:lnTo>
                    <a:pt x="12" y="42"/>
                  </a:lnTo>
                  <a:lnTo>
                    <a:pt x="8" y="50"/>
                  </a:lnTo>
                  <a:lnTo>
                    <a:pt x="5" y="59"/>
                  </a:lnTo>
                  <a:lnTo>
                    <a:pt x="3" y="68"/>
                  </a:lnTo>
                  <a:lnTo>
                    <a:pt x="1" y="78"/>
                  </a:lnTo>
                  <a:lnTo>
                    <a:pt x="1" y="8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722760" y="1806480"/>
              <a:ext cx="593640" cy="12240"/>
            </a:xfrm>
            <a:custGeom>
              <a:avLst/>
              <a:gdLst/>
              <a:ahLst/>
              <a:rect l="l" t="t" r="r" b="b"/>
              <a:pathLst>
                <a:path w="8596" h="178">
                  <a:moveTo>
                    <a:pt x="0" y="88"/>
                  </a:moveTo>
                  <a:lnTo>
                    <a:pt x="89" y="178"/>
                  </a:lnTo>
                  <a:lnTo>
                    <a:pt x="8596" y="178"/>
                  </a:lnTo>
                  <a:lnTo>
                    <a:pt x="8596" y="0"/>
                  </a:lnTo>
                  <a:lnTo>
                    <a:pt x="89" y="0"/>
                  </a:lnTo>
                  <a:lnTo>
                    <a:pt x="0" y="88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8" y="2"/>
                  </a:lnTo>
                  <a:lnTo>
                    <a:pt x="59" y="5"/>
                  </a:lnTo>
                  <a:lnTo>
                    <a:pt x="50" y="8"/>
                  </a:lnTo>
                  <a:lnTo>
                    <a:pt x="42" y="12"/>
                  </a:lnTo>
                  <a:lnTo>
                    <a:pt x="34" y="16"/>
                  </a:lnTo>
                  <a:lnTo>
                    <a:pt x="28" y="22"/>
                  </a:lnTo>
                  <a:lnTo>
                    <a:pt x="22" y="28"/>
                  </a:lnTo>
                  <a:lnTo>
                    <a:pt x="17" y="35"/>
                  </a:lnTo>
                  <a:lnTo>
                    <a:pt x="13" y="41"/>
                  </a:lnTo>
                  <a:lnTo>
                    <a:pt x="9" y="48"/>
                  </a:lnTo>
                  <a:lnTo>
                    <a:pt x="6" y="57"/>
                  </a:lnTo>
                  <a:lnTo>
                    <a:pt x="4" y="65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8"/>
                  </a:lnTo>
                  <a:lnTo>
                    <a:pt x="1" y="106"/>
                  </a:lnTo>
                  <a:lnTo>
                    <a:pt x="4" y="114"/>
                  </a:lnTo>
                  <a:lnTo>
                    <a:pt x="6" y="121"/>
                  </a:lnTo>
                  <a:lnTo>
                    <a:pt x="9" y="129"/>
                  </a:lnTo>
                  <a:lnTo>
                    <a:pt x="13" y="137"/>
                  </a:lnTo>
                  <a:lnTo>
                    <a:pt x="17" y="143"/>
                  </a:lnTo>
                  <a:lnTo>
                    <a:pt x="22" y="150"/>
                  </a:lnTo>
                  <a:lnTo>
                    <a:pt x="28" y="156"/>
                  </a:lnTo>
                  <a:lnTo>
                    <a:pt x="34" y="161"/>
                  </a:lnTo>
                  <a:lnTo>
                    <a:pt x="42" y="165"/>
                  </a:lnTo>
                  <a:lnTo>
                    <a:pt x="50" y="170"/>
                  </a:lnTo>
                  <a:lnTo>
                    <a:pt x="59" y="173"/>
                  </a:lnTo>
                  <a:lnTo>
                    <a:pt x="68" y="176"/>
                  </a:lnTo>
                  <a:lnTo>
                    <a:pt x="78" y="177"/>
                  </a:lnTo>
                  <a:lnTo>
                    <a:pt x="89" y="17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e50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9" name=""/>
          <p:cNvSpPr/>
          <p:nvPr/>
        </p:nvSpPr>
        <p:spPr>
          <a:xfrm>
            <a:off x="4495680" y="1727280"/>
            <a:ext cx="145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e Cabi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0" name=""/>
          <p:cNvGrpSpPr/>
          <p:nvPr/>
        </p:nvGrpSpPr>
        <p:grpSpPr>
          <a:xfrm>
            <a:off x="792000" y="4984920"/>
            <a:ext cx="1049400" cy="564480"/>
            <a:chOff x="792000" y="4984920"/>
            <a:chExt cx="1049400" cy="564480"/>
          </a:xfrm>
        </p:grpSpPr>
        <p:sp>
          <p:nvSpPr>
            <p:cNvPr id="4351" name=""/>
            <p:cNvSpPr/>
            <p:nvPr/>
          </p:nvSpPr>
          <p:spPr>
            <a:xfrm>
              <a:off x="812880" y="5044680"/>
              <a:ext cx="958680" cy="488520"/>
            </a:xfrm>
            <a:prstGeom prst="rect">
              <a:avLst/>
            </a:prstGeom>
            <a:solidFill>
              <a:srgbClr val="b3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804960" y="5044680"/>
              <a:ext cx="14040" cy="496440"/>
            </a:xfrm>
            <a:custGeom>
              <a:avLst/>
              <a:gdLst/>
              <a:ahLst/>
              <a:rect l="l" t="t" r="r" b="b"/>
              <a:pathLst>
                <a:path w="233" h="7824">
                  <a:moveTo>
                    <a:pt x="117" y="7824"/>
                  </a:moveTo>
                  <a:lnTo>
                    <a:pt x="233" y="7707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7707"/>
                  </a:lnTo>
                  <a:lnTo>
                    <a:pt x="117" y="7824"/>
                  </a:lnTo>
                  <a:lnTo>
                    <a:pt x="0" y="7707"/>
                  </a:lnTo>
                  <a:lnTo>
                    <a:pt x="0" y="7824"/>
                  </a:lnTo>
                  <a:lnTo>
                    <a:pt x="117" y="7824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812880" y="5527440"/>
              <a:ext cx="965160" cy="13680"/>
            </a:xfrm>
            <a:custGeom>
              <a:avLst/>
              <a:gdLst/>
              <a:ahLst/>
              <a:rect l="l" t="t" r="r" b="b"/>
              <a:pathLst>
                <a:path w="15214" h="232">
                  <a:moveTo>
                    <a:pt x="15214" y="115"/>
                  </a:moveTo>
                  <a:lnTo>
                    <a:pt x="15098" y="0"/>
                  </a:lnTo>
                  <a:lnTo>
                    <a:pt x="0" y="0"/>
                  </a:lnTo>
                  <a:lnTo>
                    <a:pt x="0" y="232"/>
                  </a:lnTo>
                  <a:lnTo>
                    <a:pt x="15098" y="232"/>
                  </a:lnTo>
                  <a:lnTo>
                    <a:pt x="15214" y="115"/>
                  </a:lnTo>
                  <a:lnTo>
                    <a:pt x="15098" y="232"/>
                  </a:lnTo>
                  <a:lnTo>
                    <a:pt x="15214" y="232"/>
                  </a:lnTo>
                  <a:lnTo>
                    <a:pt x="15214" y="115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63640" y="5036760"/>
              <a:ext cx="14400" cy="496440"/>
            </a:xfrm>
            <a:custGeom>
              <a:avLst/>
              <a:gdLst/>
              <a:ahLst/>
              <a:rect l="l" t="t" r="r" b="b"/>
              <a:pathLst>
                <a:path w="233" h="7823">
                  <a:moveTo>
                    <a:pt x="117" y="0"/>
                  </a:moveTo>
                  <a:lnTo>
                    <a:pt x="0" y="116"/>
                  </a:lnTo>
                  <a:lnTo>
                    <a:pt x="0" y="7823"/>
                  </a:lnTo>
                  <a:lnTo>
                    <a:pt x="233" y="7823"/>
                  </a:lnTo>
                  <a:lnTo>
                    <a:pt x="233" y="116"/>
                  </a:lnTo>
                  <a:lnTo>
                    <a:pt x="117" y="0"/>
                  </a:lnTo>
                  <a:lnTo>
                    <a:pt x="233" y="116"/>
                  </a:lnTo>
                  <a:lnTo>
                    <a:pt x="233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804960" y="5036760"/>
              <a:ext cx="966600" cy="14040"/>
            </a:xfrm>
            <a:custGeom>
              <a:avLst/>
              <a:gdLst/>
              <a:ahLst/>
              <a:rect l="l" t="t" r="r" b="b"/>
              <a:pathLst>
                <a:path w="15215" h="232">
                  <a:moveTo>
                    <a:pt x="0" y="116"/>
                  </a:moveTo>
                  <a:lnTo>
                    <a:pt x="117" y="232"/>
                  </a:lnTo>
                  <a:lnTo>
                    <a:pt x="15215" y="232"/>
                  </a:lnTo>
                  <a:lnTo>
                    <a:pt x="15215" y="0"/>
                  </a:lnTo>
                  <a:lnTo>
                    <a:pt x="117" y="0"/>
                  </a:lnTo>
                  <a:lnTo>
                    <a:pt x="0" y="116"/>
                  </a:lnTo>
                  <a:lnTo>
                    <a:pt x="117" y="0"/>
                  </a:lnTo>
                  <a:lnTo>
                    <a:pt x="0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812880" y="5000400"/>
              <a:ext cx="1008000" cy="43920"/>
            </a:xfrm>
            <a:custGeom>
              <a:avLst/>
              <a:gdLst/>
              <a:ahLst/>
              <a:rect l="l" t="t" r="r" b="b"/>
              <a:pathLst>
                <a:path w="15891" h="692">
                  <a:moveTo>
                    <a:pt x="0" y="692"/>
                  </a:moveTo>
                  <a:lnTo>
                    <a:pt x="793" y="0"/>
                  </a:lnTo>
                  <a:lnTo>
                    <a:pt x="15891" y="0"/>
                  </a:lnTo>
                  <a:lnTo>
                    <a:pt x="15098" y="692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949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808200" y="4992480"/>
              <a:ext cx="58680" cy="56520"/>
            </a:xfrm>
            <a:custGeom>
              <a:avLst/>
              <a:gdLst/>
              <a:ahLst/>
              <a:rect l="l" t="t" r="r" b="b"/>
              <a:pathLst>
                <a:path w="947" h="896">
                  <a:moveTo>
                    <a:pt x="870" y="0"/>
                  </a:moveTo>
                  <a:lnTo>
                    <a:pt x="793" y="29"/>
                  </a:lnTo>
                  <a:lnTo>
                    <a:pt x="0" y="722"/>
                  </a:lnTo>
                  <a:lnTo>
                    <a:pt x="152" y="896"/>
                  </a:lnTo>
                  <a:lnTo>
                    <a:pt x="947" y="203"/>
                  </a:lnTo>
                  <a:lnTo>
                    <a:pt x="870" y="0"/>
                  </a:lnTo>
                  <a:lnTo>
                    <a:pt x="870" y="0"/>
                  </a:lnTo>
                  <a:lnTo>
                    <a:pt x="827" y="0"/>
                  </a:lnTo>
                  <a:lnTo>
                    <a:pt x="793" y="29"/>
                  </a:lnTo>
                  <a:lnTo>
                    <a:pt x="870" y="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861840" y="4992480"/>
              <a:ext cx="979560" cy="15480"/>
            </a:xfrm>
            <a:custGeom>
              <a:avLst/>
              <a:gdLst/>
              <a:ahLst/>
              <a:rect l="l" t="t" r="r" b="b"/>
              <a:pathLst>
                <a:path w="15404" h="233">
                  <a:moveTo>
                    <a:pt x="15175" y="203"/>
                  </a:moveTo>
                  <a:lnTo>
                    <a:pt x="15098" y="0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15098" y="233"/>
                  </a:lnTo>
                  <a:lnTo>
                    <a:pt x="15175" y="203"/>
                  </a:lnTo>
                  <a:lnTo>
                    <a:pt x="15175" y="203"/>
                  </a:lnTo>
                  <a:lnTo>
                    <a:pt x="15404" y="0"/>
                  </a:lnTo>
                  <a:lnTo>
                    <a:pt x="15098" y="0"/>
                  </a:lnTo>
                  <a:lnTo>
                    <a:pt x="15175" y="203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1766880" y="4995720"/>
              <a:ext cx="58680" cy="55080"/>
            </a:xfrm>
            <a:custGeom>
              <a:avLst/>
              <a:gdLst/>
              <a:ahLst/>
              <a:rect l="l" t="t" r="r" b="b"/>
              <a:pathLst>
                <a:path w="947" h="896">
                  <a:moveTo>
                    <a:pt x="77" y="896"/>
                  </a:moveTo>
                  <a:lnTo>
                    <a:pt x="154" y="867"/>
                  </a:lnTo>
                  <a:lnTo>
                    <a:pt x="947" y="174"/>
                  </a:lnTo>
                  <a:lnTo>
                    <a:pt x="795" y="0"/>
                  </a:lnTo>
                  <a:lnTo>
                    <a:pt x="0" y="693"/>
                  </a:lnTo>
                  <a:lnTo>
                    <a:pt x="77" y="896"/>
                  </a:lnTo>
                  <a:lnTo>
                    <a:pt x="77" y="896"/>
                  </a:lnTo>
                  <a:lnTo>
                    <a:pt x="120" y="896"/>
                  </a:lnTo>
                  <a:lnTo>
                    <a:pt x="154" y="867"/>
                  </a:lnTo>
                  <a:lnTo>
                    <a:pt x="77" y="896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92000" y="5036760"/>
              <a:ext cx="979560" cy="14040"/>
            </a:xfrm>
            <a:custGeom>
              <a:avLst/>
              <a:gdLst/>
              <a:ahLst/>
              <a:rect l="l" t="t" r="r" b="b"/>
              <a:pathLst>
                <a:path w="15404" h="232">
                  <a:moveTo>
                    <a:pt x="229" y="29"/>
                  </a:moveTo>
                  <a:lnTo>
                    <a:pt x="306" y="232"/>
                  </a:lnTo>
                  <a:lnTo>
                    <a:pt x="15404" y="232"/>
                  </a:lnTo>
                  <a:lnTo>
                    <a:pt x="15404" y="0"/>
                  </a:lnTo>
                  <a:lnTo>
                    <a:pt x="306" y="0"/>
                  </a:lnTo>
                  <a:lnTo>
                    <a:pt x="229" y="29"/>
                  </a:lnTo>
                  <a:lnTo>
                    <a:pt x="229" y="29"/>
                  </a:lnTo>
                  <a:lnTo>
                    <a:pt x="0" y="232"/>
                  </a:lnTo>
                  <a:lnTo>
                    <a:pt x="306" y="232"/>
                  </a:lnTo>
                  <a:lnTo>
                    <a:pt x="229" y="29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1771560" y="5000400"/>
              <a:ext cx="49320" cy="532800"/>
            </a:xfrm>
            <a:custGeom>
              <a:avLst/>
              <a:gdLst/>
              <a:ahLst/>
              <a:rect l="l" t="t" r="r" b="b"/>
              <a:pathLst>
                <a:path w="793" h="8399">
                  <a:moveTo>
                    <a:pt x="0" y="692"/>
                  </a:moveTo>
                  <a:lnTo>
                    <a:pt x="793" y="0"/>
                  </a:lnTo>
                  <a:lnTo>
                    <a:pt x="793" y="7732"/>
                  </a:lnTo>
                  <a:lnTo>
                    <a:pt x="0" y="8399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6f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1766880" y="4984920"/>
              <a:ext cx="61920" cy="64440"/>
            </a:xfrm>
            <a:custGeom>
              <a:avLst/>
              <a:gdLst/>
              <a:ahLst/>
              <a:rect l="l" t="t" r="r" b="b"/>
              <a:pathLst>
                <a:path w="987" h="1033">
                  <a:moveTo>
                    <a:pt x="987" y="254"/>
                  </a:moveTo>
                  <a:lnTo>
                    <a:pt x="795" y="166"/>
                  </a:lnTo>
                  <a:lnTo>
                    <a:pt x="0" y="859"/>
                  </a:lnTo>
                  <a:lnTo>
                    <a:pt x="154" y="1033"/>
                  </a:lnTo>
                  <a:lnTo>
                    <a:pt x="947" y="340"/>
                  </a:lnTo>
                  <a:lnTo>
                    <a:pt x="987" y="254"/>
                  </a:lnTo>
                  <a:lnTo>
                    <a:pt x="987" y="254"/>
                  </a:lnTo>
                  <a:lnTo>
                    <a:pt x="987" y="0"/>
                  </a:lnTo>
                  <a:lnTo>
                    <a:pt x="795" y="166"/>
                  </a:lnTo>
                  <a:lnTo>
                    <a:pt x="987" y="254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1814400" y="5000400"/>
              <a:ext cx="14400" cy="496440"/>
            </a:xfrm>
            <a:custGeom>
              <a:avLst/>
              <a:gdLst/>
              <a:ahLst/>
              <a:rect l="l" t="t" r="r" b="b"/>
              <a:pathLst>
                <a:path w="233" h="7820">
                  <a:moveTo>
                    <a:pt x="191" y="7820"/>
                  </a:moveTo>
                  <a:lnTo>
                    <a:pt x="233" y="7732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7732"/>
                  </a:lnTo>
                  <a:lnTo>
                    <a:pt x="191" y="7820"/>
                  </a:lnTo>
                  <a:lnTo>
                    <a:pt x="191" y="7820"/>
                  </a:lnTo>
                  <a:lnTo>
                    <a:pt x="233" y="7785"/>
                  </a:lnTo>
                  <a:lnTo>
                    <a:pt x="233" y="7732"/>
                  </a:lnTo>
                  <a:lnTo>
                    <a:pt x="191" y="782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1763640" y="5486040"/>
              <a:ext cx="61920" cy="63360"/>
            </a:xfrm>
            <a:custGeom>
              <a:avLst/>
              <a:gdLst/>
              <a:ahLst/>
              <a:rect l="l" t="t" r="r" b="b"/>
              <a:pathLst>
                <a:path w="985" h="1003">
                  <a:moveTo>
                    <a:pt x="0" y="756"/>
                  </a:moveTo>
                  <a:lnTo>
                    <a:pt x="192" y="845"/>
                  </a:lnTo>
                  <a:lnTo>
                    <a:pt x="985" y="177"/>
                  </a:lnTo>
                  <a:lnTo>
                    <a:pt x="837" y="0"/>
                  </a:lnTo>
                  <a:lnTo>
                    <a:pt x="42" y="668"/>
                  </a:lnTo>
                  <a:lnTo>
                    <a:pt x="0" y="756"/>
                  </a:lnTo>
                  <a:lnTo>
                    <a:pt x="0" y="756"/>
                  </a:lnTo>
                  <a:lnTo>
                    <a:pt x="0" y="1003"/>
                  </a:lnTo>
                  <a:lnTo>
                    <a:pt x="192" y="845"/>
                  </a:lnTo>
                  <a:lnTo>
                    <a:pt x="0" y="756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1763640" y="5038560"/>
              <a:ext cx="14400" cy="494640"/>
            </a:xfrm>
            <a:custGeom>
              <a:avLst/>
              <a:gdLst/>
              <a:ahLst/>
              <a:rect l="l" t="t" r="r" b="b"/>
              <a:pathLst>
                <a:path w="233" h="7794">
                  <a:moveTo>
                    <a:pt x="40" y="0"/>
                  </a:moveTo>
                  <a:lnTo>
                    <a:pt x="0" y="87"/>
                  </a:lnTo>
                  <a:lnTo>
                    <a:pt x="0" y="7794"/>
                  </a:lnTo>
                  <a:lnTo>
                    <a:pt x="233" y="7794"/>
                  </a:lnTo>
                  <a:lnTo>
                    <a:pt x="233" y="8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35"/>
                  </a:lnTo>
                  <a:lnTo>
                    <a:pt x="0" y="8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1368360" y="5082840"/>
              <a:ext cx="60480" cy="53640"/>
            </a:xfrm>
            <a:custGeom>
              <a:avLst/>
              <a:gdLst/>
              <a:ahLst/>
              <a:rect l="l" t="t" r="r" b="b"/>
              <a:pathLst>
                <a:path w="947" h="867">
                  <a:moveTo>
                    <a:pt x="153" y="867"/>
                  </a:moveTo>
                  <a:lnTo>
                    <a:pt x="947" y="174"/>
                  </a:lnTo>
                  <a:lnTo>
                    <a:pt x="794" y="0"/>
                  </a:lnTo>
                  <a:lnTo>
                    <a:pt x="0" y="692"/>
                  </a:lnTo>
                  <a:lnTo>
                    <a:pt x="153" y="867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1368360" y="5082840"/>
              <a:ext cx="60480" cy="53640"/>
            </a:xfrm>
            <a:custGeom>
              <a:avLst/>
              <a:gdLst/>
              <a:ahLst/>
              <a:rect l="l" t="t" r="r" b="b"/>
              <a:pathLst>
                <a:path w="947" h="867">
                  <a:moveTo>
                    <a:pt x="153" y="867"/>
                  </a:moveTo>
                  <a:lnTo>
                    <a:pt x="947" y="174"/>
                  </a:lnTo>
                  <a:lnTo>
                    <a:pt x="794" y="0"/>
                  </a:lnTo>
                  <a:lnTo>
                    <a:pt x="0" y="692"/>
                  </a:lnTo>
                  <a:lnTo>
                    <a:pt x="153" y="867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938160" y="5076360"/>
              <a:ext cx="60480" cy="55440"/>
            </a:xfrm>
            <a:custGeom>
              <a:avLst/>
              <a:gdLst/>
              <a:ahLst/>
              <a:rect l="l" t="t" r="r" b="b"/>
              <a:pathLst>
                <a:path w="947" h="867">
                  <a:moveTo>
                    <a:pt x="0" y="174"/>
                  </a:moveTo>
                  <a:lnTo>
                    <a:pt x="793" y="867"/>
                  </a:lnTo>
                  <a:lnTo>
                    <a:pt x="947" y="693"/>
                  </a:lnTo>
                  <a:lnTo>
                    <a:pt x="152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938160" y="5076360"/>
              <a:ext cx="60480" cy="55440"/>
            </a:xfrm>
            <a:custGeom>
              <a:avLst/>
              <a:gdLst/>
              <a:ahLst/>
              <a:rect l="l" t="t" r="r" b="b"/>
              <a:pathLst>
                <a:path w="947" h="867">
                  <a:moveTo>
                    <a:pt x="0" y="174"/>
                  </a:moveTo>
                  <a:lnTo>
                    <a:pt x="793" y="867"/>
                  </a:lnTo>
                  <a:lnTo>
                    <a:pt x="947" y="693"/>
                  </a:lnTo>
                  <a:lnTo>
                    <a:pt x="152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992160" y="5125680"/>
              <a:ext cx="412920" cy="352080"/>
            </a:xfrm>
            <a:custGeom>
              <a:avLst/>
              <a:gdLst/>
              <a:ahLst/>
              <a:rect l="l" t="t" r="r" b="b"/>
              <a:pathLst>
                <a:path w="6494" h="5528">
                  <a:moveTo>
                    <a:pt x="0" y="887"/>
                  </a:moveTo>
                  <a:lnTo>
                    <a:pt x="2" y="817"/>
                  </a:lnTo>
                  <a:lnTo>
                    <a:pt x="9" y="750"/>
                  </a:lnTo>
                  <a:lnTo>
                    <a:pt x="20" y="687"/>
                  </a:lnTo>
                  <a:lnTo>
                    <a:pt x="34" y="628"/>
                  </a:lnTo>
                  <a:lnTo>
                    <a:pt x="52" y="571"/>
                  </a:lnTo>
                  <a:lnTo>
                    <a:pt x="75" y="519"/>
                  </a:lnTo>
                  <a:lnTo>
                    <a:pt x="99" y="470"/>
                  </a:lnTo>
                  <a:lnTo>
                    <a:pt x="126" y="423"/>
                  </a:lnTo>
                  <a:lnTo>
                    <a:pt x="155" y="380"/>
                  </a:lnTo>
                  <a:lnTo>
                    <a:pt x="186" y="340"/>
                  </a:lnTo>
                  <a:lnTo>
                    <a:pt x="220" y="302"/>
                  </a:lnTo>
                  <a:lnTo>
                    <a:pt x="254" y="267"/>
                  </a:lnTo>
                  <a:lnTo>
                    <a:pt x="290" y="235"/>
                  </a:lnTo>
                  <a:lnTo>
                    <a:pt x="326" y="206"/>
                  </a:lnTo>
                  <a:lnTo>
                    <a:pt x="364" y="179"/>
                  </a:lnTo>
                  <a:lnTo>
                    <a:pt x="402" y="154"/>
                  </a:lnTo>
                  <a:lnTo>
                    <a:pt x="439" y="132"/>
                  </a:lnTo>
                  <a:lnTo>
                    <a:pt x="477" y="111"/>
                  </a:lnTo>
                  <a:lnTo>
                    <a:pt x="513" y="93"/>
                  </a:lnTo>
                  <a:lnTo>
                    <a:pt x="549" y="77"/>
                  </a:lnTo>
                  <a:lnTo>
                    <a:pt x="583" y="63"/>
                  </a:lnTo>
                  <a:lnTo>
                    <a:pt x="617" y="51"/>
                  </a:lnTo>
                  <a:lnTo>
                    <a:pt x="648" y="40"/>
                  </a:lnTo>
                  <a:lnTo>
                    <a:pt x="678" y="31"/>
                  </a:lnTo>
                  <a:lnTo>
                    <a:pt x="730" y="15"/>
                  </a:lnTo>
                  <a:lnTo>
                    <a:pt x="769" y="6"/>
                  </a:lnTo>
                  <a:lnTo>
                    <a:pt x="794" y="1"/>
                  </a:lnTo>
                  <a:lnTo>
                    <a:pt x="803" y="0"/>
                  </a:lnTo>
                  <a:lnTo>
                    <a:pt x="849" y="0"/>
                  </a:lnTo>
                  <a:lnTo>
                    <a:pt x="977" y="0"/>
                  </a:lnTo>
                  <a:lnTo>
                    <a:pt x="1177" y="0"/>
                  </a:lnTo>
                  <a:lnTo>
                    <a:pt x="1440" y="0"/>
                  </a:lnTo>
                  <a:lnTo>
                    <a:pt x="1754" y="0"/>
                  </a:lnTo>
                  <a:lnTo>
                    <a:pt x="2108" y="0"/>
                  </a:lnTo>
                  <a:lnTo>
                    <a:pt x="2492" y="0"/>
                  </a:lnTo>
                  <a:lnTo>
                    <a:pt x="2896" y="0"/>
                  </a:lnTo>
                  <a:lnTo>
                    <a:pt x="3309" y="0"/>
                  </a:lnTo>
                  <a:lnTo>
                    <a:pt x="3720" y="0"/>
                  </a:lnTo>
                  <a:lnTo>
                    <a:pt x="4118" y="0"/>
                  </a:lnTo>
                  <a:lnTo>
                    <a:pt x="4493" y="0"/>
                  </a:lnTo>
                  <a:lnTo>
                    <a:pt x="4833" y="0"/>
                  </a:lnTo>
                  <a:lnTo>
                    <a:pt x="5131" y="0"/>
                  </a:lnTo>
                  <a:lnTo>
                    <a:pt x="5373" y="0"/>
                  </a:lnTo>
                  <a:lnTo>
                    <a:pt x="5548" y="0"/>
                  </a:lnTo>
                  <a:lnTo>
                    <a:pt x="5637" y="2"/>
                  </a:lnTo>
                  <a:lnTo>
                    <a:pt x="5719" y="10"/>
                  </a:lnTo>
                  <a:lnTo>
                    <a:pt x="5797" y="22"/>
                  </a:lnTo>
                  <a:lnTo>
                    <a:pt x="5868" y="40"/>
                  </a:lnTo>
                  <a:lnTo>
                    <a:pt x="5936" y="61"/>
                  </a:lnTo>
                  <a:lnTo>
                    <a:pt x="5997" y="85"/>
                  </a:lnTo>
                  <a:lnTo>
                    <a:pt x="6055" y="113"/>
                  </a:lnTo>
                  <a:lnTo>
                    <a:pt x="6107" y="143"/>
                  </a:lnTo>
                  <a:lnTo>
                    <a:pt x="6156" y="177"/>
                  </a:lnTo>
                  <a:lnTo>
                    <a:pt x="6199" y="213"/>
                  </a:lnTo>
                  <a:lnTo>
                    <a:pt x="6239" y="251"/>
                  </a:lnTo>
                  <a:lnTo>
                    <a:pt x="6276" y="290"/>
                  </a:lnTo>
                  <a:lnTo>
                    <a:pt x="6309" y="332"/>
                  </a:lnTo>
                  <a:lnTo>
                    <a:pt x="6338" y="373"/>
                  </a:lnTo>
                  <a:lnTo>
                    <a:pt x="6363" y="416"/>
                  </a:lnTo>
                  <a:lnTo>
                    <a:pt x="6386" y="458"/>
                  </a:lnTo>
                  <a:lnTo>
                    <a:pt x="6407" y="502"/>
                  </a:lnTo>
                  <a:lnTo>
                    <a:pt x="6424" y="544"/>
                  </a:lnTo>
                  <a:lnTo>
                    <a:pt x="6439" y="586"/>
                  </a:lnTo>
                  <a:lnTo>
                    <a:pt x="6452" y="627"/>
                  </a:lnTo>
                  <a:lnTo>
                    <a:pt x="6462" y="667"/>
                  </a:lnTo>
                  <a:lnTo>
                    <a:pt x="6471" y="704"/>
                  </a:lnTo>
                  <a:lnTo>
                    <a:pt x="6478" y="740"/>
                  </a:lnTo>
                  <a:lnTo>
                    <a:pt x="6483" y="774"/>
                  </a:lnTo>
                  <a:lnTo>
                    <a:pt x="6487" y="805"/>
                  </a:lnTo>
                  <a:lnTo>
                    <a:pt x="6490" y="833"/>
                  </a:lnTo>
                  <a:lnTo>
                    <a:pt x="6492" y="857"/>
                  </a:lnTo>
                  <a:lnTo>
                    <a:pt x="6493" y="878"/>
                  </a:lnTo>
                  <a:lnTo>
                    <a:pt x="6494" y="907"/>
                  </a:lnTo>
                  <a:lnTo>
                    <a:pt x="6494" y="918"/>
                  </a:lnTo>
                  <a:lnTo>
                    <a:pt x="6494" y="954"/>
                  </a:lnTo>
                  <a:lnTo>
                    <a:pt x="6494" y="1060"/>
                  </a:lnTo>
                  <a:lnTo>
                    <a:pt x="6494" y="1225"/>
                  </a:lnTo>
                  <a:lnTo>
                    <a:pt x="6494" y="1440"/>
                  </a:lnTo>
                  <a:lnTo>
                    <a:pt x="6494" y="1698"/>
                  </a:lnTo>
                  <a:lnTo>
                    <a:pt x="6494" y="1988"/>
                  </a:lnTo>
                  <a:lnTo>
                    <a:pt x="6494" y="2302"/>
                  </a:lnTo>
                  <a:lnTo>
                    <a:pt x="6494" y="2632"/>
                  </a:lnTo>
                  <a:lnTo>
                    <a:pt x="6494" y="2968"/>
                  </a:lnTo>
                  <a:lnTo>
                    <a:pt x="6494" y="3302"/>
                  </a:lnTo>
                  <a:lnTo>
                    <a:pt x="6494" y="3624"/>
                  </a:lnTo>
                  <a:lnTo>
                    <a:pt x="6494" y="3925"/>
                  </a:lnTo>
                  <a:lnTo>
                    <a:pt x="6494" y="4199"/>
                  </a:lnTo>
                  <a:lnTo>
                    <a:pt x="6494" y="4434"/>
                  </a:lnTo>
                  <a:lnTo>
                    <a:pt x="6494" y="4622"/>
                  </a:lnTo>
                  <a:lnTo>
                    <a:pt x="6494" y="4755"/>
                  </a:lnTo>
                  <a:lnTo>
                    <a:pt x="6492" y="4805"/>
                  </a:lnTo>
                  <a:lnTo>
                    <a:pt x="6486" y="4854"/>
                  </a:lnTo>
                  <a:lnTo>
                    <a:pt x="6476" y="4900"/>
                  </a:lnTo>
                  <a:lnTo>
                    <a:pt x="6462" y="4944"/>
                  </a:lnTo>
                  <a:lnTo>
                    <a:pt x="6445" y="4988"/>
                  </a:lnTo>
                  <a:lnTo>
                    <a:pt x="6426" y="5029"/>
                  </a:lnTo>
                  <a:lnTo>
                    <a:pt x="6403" y="5068"/>
                  </a:lnTo>
                  <a:lnTo>
                    <a:pt x="6377" y="5105"/>
                  </a:lnTo>
                  <a:lnTo>
                    <a:pt x="6350" y="5142"/>
                  </a:lnTo>
                  <a:lnTo>
                    <a:pt x="6321" y="5176"/>
                  </a:lnTo>
                  <a:lnTo>
                    <a:pt x="6291" y="5208"/>
                  </a:lnTo>
                  <a:lnTo>
                    <a:pt x="6258" y="5238"/>
                  </a:lnTo>
                  <a:lnTo>
                    <a:pt x="6225" y="5267"/>
                  </a:lnTo>
                  <a:lnTo>
                    <a:pt x="6191" y="5296"/>
                  </a:lnTo>
                  <a:lnTo>
                    <a:pt x="6157" y="5322"/>
                  </a:lnTo>
                  <a:lnTo>
                    <a:pt x="6121" y="5346"/>
                  </a:lnTo>
                  <a:lnTo>
                    <a:pt x="6086" y="5368"/>
                  </a:lnTo>
                  <a:lnTo>
                    <a:pt x="6052" y="5389"/>
                  </a:lnTo>
                  <a:lnTo>
                    <a:pt x="6018" y="5409"/>
                  </a:lnTo>
                  <a:lnTo>
                    <a:pt x="5984" y="5427"/>
                  </a:lnTo>
                  <a:lnTo>
                    <a:pt x="5952" y="5444"/>
                  </a:lnTo>
                  <a:lnTo>
                    <a:pt x="5922" y="5459"/>
                  </a:lnTo>
                  <a:lnTo>
                    <a:pt x="5893" y="5472"/>
                  </a:lnTo>
                  <a:lnTo>
                    <a:pt x="5865" y="5484"/>
                  </a:lnTo>
                  <a:lnTo>
                    <a:pt x="5817" y="5503"/>
                  </a:lnTo>
                  <a:lnTo>
                    <a:pt x="5781" y="5517"/>
                  </a:lnTo>
                  <a:lnTo>
                    <a:pt x="5757" y="5525"/>
                  </a:lnTo>
                  <a:lnTo>
                    <a:pt x="5749" y="5528"/>
                  </a:lnTo>
                  <a:lnTo>
                    <a:pt x="5702" y="5528"/>
                  </a:lnTo>
                  <a:lnTo>
                    <a:pt x="5569" y="5528"/>
                  </a:lnTo>
                  <a:lnTo>
                    <a:pt x="5362" y="5528"/>
                  </a:lnTo>
                  <a:lnTo>
                    <a:pt x="5090" y="5528"/>
                  </a:lnTo>
                  <a:lnTo>
                    <a:pt x="4767" y="5528"/>
                  </a:lnTo>
                  <a:lnTo>
                    <a:pt x="4401" y="5528"/>
                  </a:lnTo>
                  <a:lnTo>
                    <a:pt x="4006" y="5528"/>
                  </a:lnTo>
                  <a:lnTo>
                    <a:pt x="3591" y="5528"/>
                  </a:lnTo>
                  <a:lnTo>
                    <a:pt x="3169" y="5528"/>
                  </a:lnTo>
                  <a:lnTo>
                    <a:pt x="2748" y="5528"/>
                  </a:lnTo>
                  <a:lnTo>
                    <a:pt x="2343" y="5528"/>
                  </a:lnTo>
                  <a:lnTo>
                    <a:pt x="1963" y="5528"/>
                  </a:lnTo>
                  <a:lnTo>
                    <a:pt x="1620" y="5528"/>
                  </a:lnTo>
                  <a:lnTo>
                    <a:pt x="1323" y="5528"/>
                  </a:lnTo>
                  <a:lnTo>
                    <a:pt x="1085" y="5528"/>
                  </a:lnTo>
                  <a:lnTo>
                    <a:pt x="918" y="5528"/>
                  </a:lnTo>
                  <a:lnTo>
                    <a:pt x="855" y="5526"/>
                  </a:lnTo>
                  <a:lnTo>
                    <a:pt x="794" y="5520"/>
                  </a:lnTo>
                  <a:lnTo>
                    <a:pt x="737" y="5510"/>
                  </a:lnTo>
                  <a:lnTo>
                    <a:pt x="681" y="5497"/>
                  </a:lnTo>
                  <a:lnTo>
                    <a:pt x="628" y="5481"/>
                  </a:lnTo>
                  <a:lnTo>
                    <a:pt x="577" y="5462"/>
                  </a:lnTo>
                  <a:lnTo>
                    <a:pt x="530" y="5441"/>
                  </a:lnTo>
                  <a:lnTo>
                    <a:pt x="484" y="5416"/>
                  </a:lnTo>
                  <a:lnTo>
                    <a:pt x="440" y="5390"/>
                  </a:lnTo>
                  <a:lnTo>
                    <a:pt x="400" y="5362"/>
                  </a:lnTo>
                  <a:lnTo>
                    <a:pt x="362" y="5333"/>
                  </a:lnTo>
                  <a:lnTo>
                    <a:pt x="324" y="5302"/>
                  </a:lnTo>
                  <a:lnTo>
                    <a:pt x="290" y="5269"/>
                  </a:lnTo>
                  <a:lnTo>
                    <a:pt x="259" y="5237"/>
                  </a:lnTo>
                  <a:lnTo>
                    <a:pt x="229" y="5204"/>
                  </a:lnTo>
                  <a:lnTo>
                    <a:pt x="201" y="5171"/>
                  </a:lnTo>
                  <a:lnTo>
                    <a:pt x="175" y="5137"/>
                  </a:lnTo>
                  <a:lnTo>
                    <a:pt x="151" y="5103"/>
                  </a:lnTo>
                  <a:lnTo>
                    <a:pt x="129" y="5071"/>
                  </a:lnTo>
                  <a:lnTo>
                    <a:pt x="109" y="5039"/>
                  </a:lnTo>
                  <a:lnTo>
                    <a:pt x="91" y="5009"/>
                  </a:lnTo>
                  <a:lnTo>
                    <a:pt x="75" y="4978"/>
                  </a:lnTo>
                  <a:lnTo>
                    <a:pt x="59" y="4950"/>
                  </a:lnTo>
                  <a:lnTo>
                    <a:pt x="46" y="4924"/>
                  </a:lnTo>
                  <a:lnTo>
                    <a:pt x="26" y="4879"/>
                  </a:lnTo>
                  <a:lnTo>
                    <a:pt x="11" y="4844"/>
                  </a:lnTo>
                  <a:lnTo>
                    <a:pt x="3" y="4820"/>
                  </a:lnTo>
                  <a:lnTo>
                    <a:pt x="0" y="4812"/>
                  </a:lnTo>
                  <a:lnTo>
                    <a:pt x="0" y="887"/>
                  </a:lnTo>
                  <a:close/>
                </a:path>
              </a:pathLst>
            </a:custGeom>
            <a:solidFill>
              <a:srgbClr val="b3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985680" y="5119200"/>
              <a:ext cx="59040" cy="63360"/>
            </a:xfrm>
            <a:custGeom>
              <a:avLst/>
              <a:gdLst/>
              <a:ahLst/>
              <a:rect l="l" t="t" r="r" b="b"/>
              <a:pathLst>
                <a:path w="935" h="1003">
                  <a:moveTo>
                    <a:pt x="919" y="0"/>
                  </a:moveTo>
                  <a:lnTo>
                    <a:pt x="903" y="2"/>
                  </a:lnTo>
                  <a:lnTo>
                    <a:pt x="889" y="4"/>
                  </a:lnTo>
                  <a:lnTo>
                    <a:pt x="861" y="9"/>
                  </a:lnTo>
                  <a:lnTo>
                    <a:pt x="816" y="20"/>
                  </a:lnTo>
                  <a:lnTo>
                    <a:pt x="762" y="35"/>
                  </a:lnTo>
                  <a:lnTo>
                    <a:pt x="728" y="45"/>
                  </a:lnTo>
                  <a:lnTo>
                    <a:pt x="693" y="57"/>
                  </a:lnTo>
                  <a:lnTo>
                    <a:pt x="657" y="71"/>
                  </a:lnTo>
                  <a:lnTo>
                    <a:pt x="619" y="87"/>
                  </a:lnTo>
                  <a:lnTo>
                    <a:pt x="580" y="104"/>
                  </a:lnTo>
                  <a:lnTo>
                    <a:pt x="539" y="124"/>
                  </a:lnTo>
                  <a:lnTo>
                    <a:pt x="498" y="147"/>
                  </a:lnTo>
                  <a:lnTo>
                    <a:pt x="458" y="171"/>
                  </a:lnTo>
                  <a:lnTo>
                    <a:pt x="435" y="185"/>
                  </a:lnTo>
                  <a:lnTo>
                    <a:pt x="414" y="199"/>
                  </a:lnTo>
                  <a:lnTo>
                    <a:pt x="393" y="214"/>
                  </a:lnTo>
                  <a:lnTo>
                    <a:pt x="372" y="229"/>
                  </a:lnTo>
                  <a:lnTo>
                    <a:pt x="352" y="246"/>
                  </a:lnTo>
                  <a:lnTo>
                    <a:pt x="331" y="262"/>
                  </a:lnTo>
                  <a:lnTo>
                    <a:pt x="310" y="280"/>
                  </a:lnTo>
                  <a:lnTo>
                    <a:pt x="290" y="300"/>
                  </a:lnTo>
                  <a:lnTo>
                    <a:pt x="270" y="319"/>
                  </a:lnTo>
                  <a:lnTo>
                    <a:pt x="251" y="339"/>
                  </a:lnTo>
                  <a:lnTo>
                    <a:pt x="232" y="360"/>
                  </a:lnTo>
                  <a:lnTo>
                    <a:pt x="214" y="381"/>
                  </a:lnTo>
                  <a:lnTo>
                    <a:pt x="195" y="404"/>
                  </a:lnTo>
                  <a:lnTo>
                    <a:pt x="176" y="427"/>
                  </a:lnTo>
                  <a:lnTo>
                    <a:pt x="159" y="452"/>
                  </a:lnTo>
                  <a:lnTo>
                    <a:pt x="143" y="477"/>
                  </a:lnTo>
                  <a:lnTo>
                    <a:pt x="127" y="504"/>
                  </a:lnTo>
                  <a:lnTo>
                    <a:pt x="112" y="530"/>
                  </a:lnTo>
                  <a:lnTo>
                    <a:pt x="98" y="558"/>
                  </a:lnTo>
                  <a:lnTo>
                    <a:pt x="85" y="588"/>
                  </a:lnTo>
                  <a:lnTo>
                    <a:pt x="72" y="617"/>
                  </a:lnTo>
                  <a:lnTo>
                    <a:pt x="60" y="648"/>
                  </a:lnTo>
                  <a:lnTo>
                    <a:pt x="48" y="680"/>
                  </a:lnTo>
                  <a:lnTo>
                    <a:pt x="38" y="712"/>
                  </a:lnTo>
                  <a:lnTo>
                    <a:pt x="30" y="746"/>
                  </a:lnTo>
                  <a:lnTo>
                    <a:pt x="22" y="780"/>
                  </a:lnTo>
                  <a:lnTo>
                    <a:pt x="15" y="815"/>
                  </a:lnTo>
                  <a:lnTo>
                    <a:pt x="10" y="851"/>
                  </a:lnTo>
                  <a:lnTo>
                    <a:pt x="6" y="889"/>
                  </a:lnTo>
                  <a:lnTo>
                    <a:pt x="2" y="926"/>
                  </a:lnTo>
                  <a:lnTo>
                    <a:pt x="1" y="964"/>
                  </a:lnTo>
                  <a:lnTo>
                    <a:pt x="0" y="1003"/>
                  </a:lnTo>
                  <a:lnTo>
                    <a:pt x="233" y="1003"/>
                  </a:lnTo>
                  <a:lnTo>
                    <a:pt x="233" y="972"/>
                  </a:lnTo>
                  <a:lnTo>
                    <a:pt x="234" y="941"/>
                  </a:lnTo>
                  <a:lnTo>
                    <a:pt x="237" y="911"/>
                  </a:lnTo>
                  <a:lnTo>
                    <a:pt x="240" y="882"/>
                  </a:lnTo>
                  <a:lnTo>
                    <a:pt x="245" y="854"/>
                  </a:lnTo>
                  <a:lnTo>
                    <a:pt x="250" y="827"/>
                  </a:lnTo>
                  <a:lnTo>
                    <a:pt x="256" y="801"/>
                  </a:lnTo>
                  <a:lnTo>
                    <a:pt x="262" y="775"/>
                  </a:lnTo>
                  <a:lnTo>
                    <a:pt x="270" y="751"/>
                  </a:lnTo>
                  <a:lnTo>
                    <a:pt x="278" y="728"/>
                  </a:lnTo>
                  <a:lnTo>
                    <a:pt x="287" y="704"/>
                  </a:lnTo>
                  <a:lnTo>
                    <a:pt x="296" y="682"/>
                  </a:lnTo>
                  <a:lnTo>
                    <a:pt x="306" y="661"/>
                  </a:lnTo>
                  <a:lnTo>
                    <a:pt x="317" y="640"/>
                  </a:lnTo>
                  <a:lnTo>
                    <a:pt x="329" y="620"/>
                  </a:lnTo>
                  <a:lnTo>
                    <a:pt x="340" y="601"/>
                  </a:lnTo>
                  <a:lnTo>
                    <a:pt x="353" y="582"/>
                  </a:lnTo>
                  <a:lnTo>
                    <a:pt x="365" y="564"/>
                  </a:lnTo>
                  <a:lnTo>
                    <a:pt x="378" y="546"/>
                  </a:lnTo>
                  <a:lnTo>
                    <a:pt x="391" y="529"/>
                  </a:lnTo>
                  <a:lnTo>
                    <a:pt x="405" y="513"/>
                  </a:lnTo>
                  <a:lnTo>
                    <a:pt x="420" y="498"/>
                  </a:lnTo>
                  <a:lnTo>
                    <a:pt x="435" y="482"/>
                  </a:lnTo>
                  <a:lnTo>
                    <a:pt x="450" y="468"/>
                  </a:lnTo>
                  <a:lnTo>
                    <a:pt x="466" y="454"/>
                  </a:lnTo>
                  <a:lnTo>
                    <a:pt x="481" y="440"/>
                  </a:lnTo>
                  <a:lnTo>
                    <a:pt x="497" y="426"/>
                  </a:lnTo>
                  <a:lnTo>
                    <a:pt x="513" y="414"/>
                  </a:lnTo>
                  <a:lnTo>
                    <a:pt x="529" y="402"/>
                  </a:lnTo>
                  <a:lnTo>
                    <a:pt x="546" y="390"/>
                  </a:lnTo>
                  <a:lnTo>
                    <a:pt x="562" y="379"/>
                  </a:lnTo>
                  <a:lnTo>
                    <a:pt x="579" y="369"/>
                  </a:lnTo>
                  <a:lnTo>
                    <a:pt x="613" y="349"/>
                  </a:lnTo>
                  <a:lnTo>
                    <a:pt x="646" y="331"/>
                  </a:lnTo>
                  <a:lnTo>
                    <a:pt x="679" y="315"/>
                  </a:lnTo>
                  <a:lnTo>
                    <a:pt x="712" y="300"/>
                  </a:lnTo>
                  <a:lnTo>
                    <a:pt x="743" y="288"/>
                  </a:lnTo>
                  <a:lnTo>
                    <a:pt x="773" y="275"/>
                  </a:lnTo>
                  <a:lnTo>
                    <a:pt x="801" y="266"/>
                  </a:lnTo>
                  <a:lnTo>
                    <a:pt x="826" y="257"/>
                  </a:lnTo>
                  <a:lnTo>
                    <a:pt x="875" y="244"/>
                  </a:lnTo>
                  <a:lnTo>
                    <a:pt x="909" y="236"/>
                  </a:lnTo>
                  <a:lnTo>
                    <a:pt x="931" y="232"/>
                  </a:lnTo>
                  <a:lnTo>
                    <a:pt x="935" y="231"/>
                  </a:lnTo>
                  <a:lnTo>
                    <a:pt x="919" y="232"/>
                  </a:lnTo>
                  <a:lnTo>
                    <a:pt x="919" y="0"/>
                  </a:lnTo>
                  <a:lnTo>
                    <a:pt x="911" y="1"/>
                  </a:lnTo>
                  <a:lnTo>
                    <a:pt x="903" y="2"/>
                  </a:lnTo>
                  <a:lnTo>
                    <a:pt x="919" y="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044720" y="5119200"/>
              <a:ext cx="299880" cy="14040"/>
            </a:xfrm>
            <a:custGeom>
              <a:avLst/>
              <a:gdLst/>
              <a:ahLst/>
              <a:rect l="l" t="t" r="r" b="b"/>
              <a:pathLst>
                <a:path w="4745" h="232">
                  <a:moveTo>
                    <a:pt x="4745" y="0"/>
                  </a:moveTo>
                  <a:lnTo>
                    <a:pt x="4745" y="0"/>
                  </a:lnTo>
                  <a:lnTo>
                    <a:pt x="4570" y="0"/>
                  </a:lnTo>
                  <a:lnTo>
                    <a:pt x="4328" y="0"/>
                  </a:lnTo>
                  <a:lnTo>
                    <a:pt x="4030" y="0"/>
                  </a:lnTo>
                  <a:lnTo>
                    <a:pt x="3690" y="0"/>
                  </a:lnTo>
                  <a:lnTo>
                    <a:pt x="3315" y="0"/>
                  </a:lnTo>
                  <a:lnTo>
                    <a:pt x="2917" y="0"/>
                  </a:lnTo>
                  <a:lnTo>
                    <a:pt x="2506" y="0"/>
                  </a:lnTo>
                  <a:lnTo>
                    <a:pt x="2093" y="0"/>
                  </a:lnTo>
                  <a:lnTo>
                    <a:pt x="1689" y="0"/>
                  </a:lnTo>
                  <a:lnTo>
                    <a:pt x="1305" y="0"/>
                  </a:lnTo>
                  <a:lnTo>
                    <a:pt x="951" y="0"/>
                  </a:lnTo>
                  <a:lnTo>
                    <a:pt x="637" y="0"/>
                  </a:lnTo>
                  <a:lnTo>
                    <a:pt x="374" y="0"/>
                  </a:lnTo>
                  <a:lnTo>
                    <a:pt x="174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232"/>
                  </a:lnTo>
                  <a:lnTo>
                    <a:pt x="46" y="232"/>
                  </a:lnTo>
                  <a:lnTo>
                    <a:pt x="174" y="232"/>
                  </a:lnTo>
                  <a:lnTo>
                    <a:pt x="374" y="232"/>
                  </a:lnTo>
                  <a:lnTo>
                    <a:pt x="637" y="232"/>
                  </a:lnTo>
                  <a:lnTo>
                    <a:pt x="951" y="232"/>
                  </a:lnTo>
                  <a:lnTo>
                    <a:pt x="1305" y="232"/>
                  </a:lnTo>
                  <a:lnTo>
                    <a:pt x="1689" y="232"/>
                  </a:lnTo>
                  <a:lnTo>
                    <a:pt x="2093" y="232"/>
                  </a:lnTo>
                  <a:lnTo>
                    <a:pt x="2506" y="232"/>
                  </a:lnTo>
                  <a:lnTo>
                    <a:pt x="2917" y="232"/>
                  </a:lnTo>
                  <a:lnTo>
                    <a:pt x="3315" y="232"/>
                  </a:lnTo>
                  <a:lnTo>
                    <a:pt x="3690" y="232"/>
                  </a:lnTo>
                  <a:lnTo>
                    <a:pt x="4030" y="232"/>
                  </a:lnTo>
                  <a:lnTo>
                    <a:pt x="4328" y="232"/>
                  </a:lnTo>
                  <a:lnTo>
                    <a:pt x="4570" y="232"/>
                  </a:lnTo>
                  <a:lnTo>
                    <a:pt x="4745" y="232"/>
                  </a:lnTo>
                  <a:lnTo>
                    <a:pt x="4745" y="232"/>
                  </a:lnTo>
                  <a:lnTo>
                    <a:pt x="4745" y="0"/>
                  </a:lnTo>
                  <a:lnTo>
                    <a:pt x="4745" y="0"/>
                  </a:lnTo>
                  <a:lnTo>
                    <a:pt x="4745" y="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1344600" y="5119200"/>
              <a:ext cx="68400" cy="64800"/>
            </a:xfrm>
            <a:custGeom>
              <a:avLst/>
              <a:gdLst/>
              <a:ahLst/>
              <a:rect l="l" t="t" r="r" b="b"/>
              <a:pathLst>
                <a:path w="1062" h="1037">
                  <a:moveTo>
                    <a:pt x="1062" y="1034"/>
                  </a:moveTo>
                  <a:lnTo>
                    <a:pt x="1062" y="1037"/>
                  </a:lnTo>
                  <a:lnTo>
                    <a:pt x="1062" y="1022"/>
                  </a:lnTo>
                  <a:lnTo>
                    <a:pt x="1061" y="989"/>
                  </a:lnTo>
                  <a:lnTo>
                    <a:pt x="1060" y="965"/>
                  </a:lnTo>
                  <a:lnTo>
                    <a:pt x="1058" y="938"/>
                  </a:lnTo>
                  <a:lnTo>
                    <a:pt x="1055" y="907"/>
                  </a:lnTo>
                  <a:lnTo>
                    <a:pt x="1050" y="874"/>
                  </a:lnTo>
                  <a:lnTo>
                    <a:pt x="1045" y="836"/>
                  </a:lnTo>
                  <a:lnTo>
                    <a:pt x="1037" y="797"/>
                  </a:lnTo>
                  <a:lnTo>
                    <a:pt x="1027" y="755"/>
                  </a:lnTo>
                  <a:lnTo>
                    <a:pt x="1015" y="711"/>
                  </a:lnTo>
                  <a:lnTo>
                    <a:pt x="1001" y="665"/>
                  </a:lnTo>
                  <a:lnTo>
                    <a:pt x="986" y="620"/>
                  </a:lnTo>
                  <a:lnTo>
                    <a:pt x="976" y="596"/>
                  </a:lnTo>
                  <a:lnTo>
                    <a:pt x="965" y="571"/>
                  </a:lnTo>
                  <a:lnTo>
                    <a:pt x="954" y="547"/>
                  </a:lnTo>
                  <a:lnTo>
                    <a:pt x="943" y="523"/>
                  </a:lnTo>
                  <a:lnTo>
                    <a:pt x="930" y="499"/>
                  </a:lnTo>
                  <a:lnTo>
                    <a:pt x="917" y="475"/>
                  </a:lnTo>
                  <a:lnTo>
                    <a:pt x="902" y="450"/>
                  </a:lnTo>
                  <a:lnTo>
                    <a:pt x="887" y="426"/>
                  </a:lnTo>
                  <a:lnTo>
                    <a:pt x="871" y="402"/>
                  </a:lnTo>
                  <a:lnTo>
                    <a:pt x="854" y="378"/>
                  </a:lnTo>
                  <a:lnTo>
                    <a:pt x="835" y="355"/>
                  </a:lnTo>
                  <a:lnTo>
                    <a:pt x="816" y="331"/>
                  </a:lnTo>
                  <a:lnTo>
                    <a:pt x="795" y="309"/>
                  </a:lnTo>
                  <a:lnTo>
                    <a:pt x="774" y="285"/>
                  </a:lnTo>
                  <a:lnTo>
                    <a:pt x="752" y="263"/>
                  </a:lnTo>
                  <a:lnTo>
                    <a:pt x="729" y="241"/>
                  </a:lnTo>
                  <a:lnTo>
                    <a:pt x="703" y="221"/>
                  </a:lnTo>
                  <a:lnTo>
                    <a:pt x="677" y="200"/>
                  </a:lnTo>
                  <a:lnTo>
                    <a:pt x="650" y="181"/>
                  </a:lnTo>
                  <a:lnTo>
                    <a:pt x="622" y="162"/>
                  </a:lnTo>
                  <a:lnTo>
                    <a:pt x="593" y="144"/>
                  </a:lnTo>
                  <a:lnTo>
                    <a:pt x="561" y="126"/>
                  </a:lnTo>
                  <a:lnTo>
                    <a:pt x="529" y="110"/>
                  </a:lnTo>
                  <a:lnTo>
                    <a:pt x="496" y="94"/>
                  </a:lnTo>
                  <a:lnTo>
                    <a:pt x="462" y="80"/>
                  </a:lnTo>
                  <a:lnTo>
                    <a:pt x="426" y="67"/>
                  </a:lnTo>
                  <a:lnTo>
                    <a:pt x="389" y="55"/>
                  </a:lnTo>
                  <a:lnTo>
                    <a:pt x="352" y="44"/>
                  </a:lnTo>
                  <a:lnTo>
                    <a:pt x="311" y="34"/>
                  </a:lnTo>
                  <a:lnTo>
                    <a:pt x="271" y="25"/>
                  </a:lnTo>
                  <a:lnTo>
                    <a:pt x="229" y="18"/>
                  </a:lnTo>
                  <a:lnTo>
                    <a:pt x="186" y="11"/>
                  </a:lnTo>
                  <a:lnTo>
                    <a:pt x="141" y="7"/>
                  </a:lnTo>
                  <a:lnTo>
                    <a:pt x="96" y="3"/>
                  </a:lnTo>
                  <a:lnTo>
                    <a:pt x="48" y="1"/>
                  </a:lnTo>
                  <a:lnTo>
                    <a:pt x="0" y="0"/>
                  </a:lnTo>
                  <a:lnTo>
                    <a:pt x="0" y="232"/>
                  </a:lnTo>
                  <a:lnTo>
                    <a:pt x="42" y="233"/>
                  </a:lnTo>
                  <a:lnTo>
                    <a:pt x="82" y="235"/>
                  </a:lnTo>
                  <a:lnTo>
                    <a:pt x="120" y="237"/>
                  </a:lnTo>
                  <a:lnTo>
                    <a:pt x="157" y="242"/>
                  </a:lnTo>
                  <a:lnTo>
                    <a:pt x="192" y="246"/>
                  </a:lnTo>
                  <a:lnTo>
                    <a:pt x="227" y="253"/>
                  </a:lnTo>
                  <a:lnTo>
                    <a:pt x="259" y="259"/>
                  </a:lnTo>
                  <a:lnTo>
                    <a:pt x="290" y="267"/>
                  </a:lnTo>
                  <a:lnTo>
                    <a:pt x="320" y="276"/>
                  </a:lnTo>
                  <a:lnTo>
                    <a:pt x="349" y="285"/>
                  </a:lnTo>
                  <a:lnTo>
                    <a:pt x="376" y="297"/>
                  </a:lnTo>
                  <a:lnTo>
                    <a:pt x="403" y="307"/>
                  </a:lnTo>
                  <a:lnTo>
                    <a:pt x="427" y="319"/>
                  </a:lnTo>
                  <a:lnTo>
                    <a:pt x="452" y="331"/>
                  </a:lnTo>
                  <a:lnTo>
                    <a:pt x="475" y="344"/>
                  </a:lnTo>
                  <a:lnTo>
                    <a:pt x="497" y="357"/>
                  </a:lnTo>
                  <a:lnTo>
                    <a:pt x="517" y="371"/>
                  </a:lnTo>
                  <a:lnTo>
                    <a:pt x="537" y="386"/>
                  </a:lnTo>
                  <a:lnTo>
                    <a:pt x="556" y="400"/>
                  </a:lnTo>
                  <a:lnTo>
                    <a:pt x="574" y="416"/>
                  </a:lnTo>
                  <a:lnTo>
                    <a:pt x="592" y="431"/>
                  </a:lnTo>
                  <a:lnTo>
                    <a:pt x="609" y="449"/>
                  </a:lnTo>
                  <a:lnTo>
                    <a:pt x="625" y="465"/>
                  </a:lnTo>
                  <a:lnTo>
                    <a:pt x="640" y="482"/>
                  </a:lnTo>
                  <a:lnTo>
                    <a:pt x="654" y="499"/>
                  </a:lnTo>
                  <a:lnTo>
                    <a:pt x="667" y="516"/>
                  </a:lnTo>
                  <a:lnTo>
                    <a:pt x="680" y="534"/>
                  </a:lnTo>
                  <a:lnTo>
                    <a:pt x="692" y="552"/>
                  </a:lnTo>
                  <a:lnTo>
                    <a:pt x="704" y="570"/>
                  </a:lnTo>
                  <a:lnTo>
                    <a:pt x="715" y="589"/>
                  </a:lnTo>
                  <a:lnTo>
                    <a:pt x="726" y="608"/>
                  </a:lnTo>
                  <a:lnTo>
                    <a:pt x="735" y="627"/>
                  </a:lnTo>
                  <a:lnTo>
                    <a:pt x="744" y="645"/>
                  </a:lnTo>
                  <a:lnTo>
                    <a:pt x="753" y="664"/>
                  </a:lnTo>
                  <a:lnTo>
                    <a:pt x="760" y="682"/>
                  </a:lnTo>
                  <a:lnTo>
                    <a:pt x="767" y="700"/>
                  </a:lnTo>
                  <a:lnTo>
                    <a:pt x="781" y="739"/>
                  </a:lnTo>
                  <a:lnTo>
                    <a:pt x="792" y="775"/>
                  </a:lnTo>
                  <a:lnTo>
                    <a:pt x="801" y="810"/>
                  </a:lnTo>
                  <a:lnTo>
                    <a:pt x="809" y="844"/>
                  </a:lnTo>
                  <a:lnTo>
                    <a:pt x="815" y="877"/>
                  </a:lnTo>
                  <a:lnTo>
                    <a:pt x="820" y="907"/>
                  </a:lnTo>
                  <a:lnTo>
                    <a:pt x="824" y="935"/>
                  </a:lnTo>
                  <a:lnTo>
                    <a:pt x="827" y="959"/>
                  </a:lnTo>
                  <a:lnTo>
                    <a:pt x="828" y="981"/>
                  </a:lnTo>
                  <a:lnTo>
                    <a:pt x="829" y="998"/>
                  </a:lnTo>
                  <a:lnTo>
                    <a:pt x="829" y="1025"/>
                  </a:lnTo>
                  <a:lnTo>
                    <a:pt x="830" y="1030"/>
                  </a:lnTo>
                  <a:lnTo>
                    <a:pt x="829" y="1034"/>
                  </a:lnTo>
                  <a:lnTo>
                    <a:pt x="830" y="1030"/>
                  </a:lnTo>
                  <a:lnTo>
                    <a:pt x="829" y="1032"/>
                  </a:lnTo>
                  <a:lnTo>
                    <a:pt x="829" y="1034"/>
                  </a:lnTo>
                  <a:lnTo>
                    <a:pt x="1062" y="1034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1398600" y="5184360"/>
              <a:ext cx="14400" cy="244080"/>
            </a:xfrm>
            <a:custGeom>
              <a:avLst/>
              <a:gdLst/>
              <a:ahLst/>
              <a:rect l="l" t="t" r="r" b="b"/>
              <a:pathLst>
                <a:path w="233" h="3837">
                  <a:moveTo>
                    <a:pt x="233" y="3837"/>
                  </a:moveTo>
                  <a:lnTo>
                    <a:pt x="233" y="3837"/>
                  </a:lnTo>
                  <a:lnTo>
                    <a:pt x="233" y="3704"/>
                  </a:lnTo>
                  <a:lnTo>
                    <a:pt x="233" y="3516"/>
                  </a:lnTo>
                  <a:lnTo>
                    <a:pt x="233" y="3281"/>
                  </a:lnTo>
                  <a:lnTo>
                    <a:pt x="233" y="3007"/>
                  </a:lnTo>
                  <a:lnTo>
                    <a:pt x="233" y="2706"/>
                  </a:lnTo>
                  <a:lnTo>
                    <a:pt x="233" y="2384"/>
                  </a:lnTo>
                  <a:lnTo>
                    <a:pt x="233" y="2050"/>
                  </a:lnTo>
                  <a:lnTo>
                    <a:pt x="233" y="1714"/>
                  </a:lnTo>
                  <a:lnTo>
                    <a:pt x="233" y="1384"/>
                  </a:lnTo>
                  <a:lnTo>
                    <a:pt x="233" y="1070"/>
                  </a:lnTo>
                  <a:lnTo>
                    <a:pt x="233" y="780"/>
                  </a:lnTo>
                  <a:lnTo>
                    <a:pt x="233" y="522"/>
                  </a:lnTo>
                  <a:lnTo>
                    <a:pt x="233" y="307"/>
                  </a:lnTo>
                  <a:lnTo>
                    <a:pt x="233" y="142"/>
                  </a:lnTo>
                  <a:lnTo>
                    <a:pt x="233" y="36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142"/>
                  </a:lnTo>
                  <a:lnTo>
                    <a:pt x="0" y="307"/>
                  </a:lnTo>
                  <a:lnTo>
                    <a:pt x="0" y="522"/>
                  </a:lnTo>
                  <a:lnTo>
                    <a:pt x="0" y="780"/>
                  </a:lnTo>
                  <a:lnTo>
                    <a:pt x="0" y="1070"/>
                  </a:lnTo>
                  <a:lnTo>
                    <a:pt x="0" y="1384"/>
                  </a:lnTo>
                  <a:lnTo>
                    <a:pt x="0" y="1714"/>
                  </a:lnTo>
                  <a:lnTo>
                    <a:pt x="0" y="2050"/>
                  </a:lnTo>
                  <a:lnTo>
                    <a:pt x="0" y="2384"/>
                  </a:lnTo>
                  <a:lnTo>
                    <a:pt x="0" y="2706"/>
                  </a:lnTo>
                  <a:lnTo>
                    <a:pt x="0" y="3007"/>
                  </a:lnTo>
                  <a:lnTo>
                    <a:pt x="0" y="3281"/>
                  </a:lnTo>
                  <a:lnTo>
                    <a:pt x="0" y="3516"/>
                  </a:lnTo>
                  <a:lnTo>
                    <a:pt x="0" y="3704"/>
                  </a:lnTo>
                  <a:lnTo>
                    <a:pt x="0" y="3837"/>
                  </a:lnTo>
                  <a:lnTo>
                    <a:pt x="0" y="3837"/>
                  </a:lnTo>
                  <a:lnTo>
                    <a:pt x="233" y="3837"/>
                  </a:lnTo>
                  <a:lnTo>
                    <a:pt x="233" y="3837"/>
                  </a:lnTo>
                  <a:lnTo>
                    <a:pt x="233" y="3837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1355760" y="5428800"/>
              <a:ext cx="57240" cy="55440"/>
            </a:xfrm>
            <a:custGeom>
              <a:avLst/>
              <a:gdLst/>
              <a:ahLst/>
              <a:rect l="l" t="t" r="r" b="b"/>
              <a:pathLst>
                <a:path w="896" h="889">
                  <a:moveTo>
                    <a:pt x="35" y="889"/>
                  </a:moveTo>
                  <a:lnTo>
                    <a:pt x="69" y="884"/>
                  </a:lnTo>
                  <a:lnTo>
                    <a:pt x="80" y="880"/>
                  </a:lnTo>
                  <a:lnTo>
                    <a:pt x="106" y="871"/>
                  </a:lnTo>
                  <a:lnTo>
                    <a:pt x="146" y="857"/>
                  </a:lnTo>
                  <a:lnTo>
                    <a:pt x="196" y="836"/>
                  </a:lnTo>
                  <a:lnTo>
                    <a:pt x="226" y="823"/>
                  </a:lnTo>
                  <a:lnTo>
                    <a:pt x="257" y="808"/>
                  </a:lnTo>
                  <a:lnTo>
                    <a:pt x="291" y="792"/>
                  </a:lnTo>
                  <a:lnTo>
                    <a:pt x="325" y="774"/>
                  </a:lnTo>
                  <a:lnTo>
                    <a:pt x="360" y="755"/>
                  </a:lnTo>
                  <a:lnTo>
                    <a:pt x="397" y="734"/>
                  </a:lnTo>
                  <a:lnTo>
                    <a:pt x="435" y="712"/>
                  </a:lnTo>
                  <a:lnTo>
                    <a:pt x="473" y="687"/>
                  </a:lnTo>
                  <a:lnTo>
                    <a:pt x="510" y="660"/>
                  </a:lnTo>
                  <a:lnTo>
                    <a:pt x="549" y="632"/>
                  </a:lnTo>
                  <a:lnTo>
                    <a:pt x="586" y="601"/>
                  </a:lnTo>
                  <a:lnTo>
                    <a:pt x="622" y="570"/>
                  </a:lnTo>
                  <a:lnTo>
                    <a:pt x="641" y="552"/>
                  </a:lnTo>
                  <a:lnTo>
                    <a:pt x="658" y="535"/>
                  </a:lnTo>
                  <a:lnTo>
                    <a:pt x="676" y="516"/>
                  </a:lnTo>
                  <a:lnTo>
                    <a:pt x="694" y="498"/>
                  </a:lnTo>
                  <a:lnTo>
                    <a:pt x="711" y="479"/>
                  </a:lnTo>
                  <a:lnTo>
                    <a:pt x="727" y="459"/>
                  </a:lnTo>
                  <a:lnTo>
                    <a:pt x="743" y="439"/>
                  </a:lnTo>
                  <a:lnTo>
                    <a:pt x="758" y="418"/>
                  </a:lnTo>
                  <a:lnTo>
                    <a:pt x="773" y="396"/>
                  </a:lnTo>
                  <a:lnTo>
                    <a:pt x="787" y="373"/>
                  </a:lnTo>
                  <a:lnTo>
                    <a:pt x="801" y="351"/>
                  </a:lnTo>
                  <a:lnTo>
                    <a:pt x="815" y="327"/>
                  </a:lnTo>
                  <a:lnTo>
                    <a:pt x="827" y="303"/>
                  </a:lnTo>
                  <a:lnTo>
                    <a:pt x="838" y="279"/>
                  </a:lnTo>
                  <a:lnTo>
                    <a:pt x="849" y="254"/>
                  </a:lnTo>
                  <a:lnTo>
                    <a:pt x="858" y="227"/>
                  </a:lnTo>
                  <a:lnTo>
                    <a:pt x="866" y="201"/>
                  </a:lnTo>
                  <a:lnTo>
                    <a:pt x="874" y="174"/>
                  </a:lnTo>
                  <a:lnTo>
                    <a:pt x="881" y="146"/>
                  </a:lnTo>
                  <a:lnTo>
                    <a:pt x="886" y="118"/>
                  </a:lnTo>
                  <a:lnTo>
                    <a:pt x="890" y="89"/>
                  </a:lnTo>
                  <a:lnTo>
                    <a:pt x="894" y="60"/>
                  </a:lnTo>
                  <a:lnTo>
                    <a:pt x="895" y="30"/>
                  </a:lnTo>
                  <a:lnTo>
                    <a:pt x="896" y="0"/>
                  </a:lnTo>
                  <a:lnTo>
                    <a:pt x="663" y="0"/>
                  </a:lnTo>
                  <a:lnTo>
                    <a:pt x="663" y="21"/>
                  </a:lnTo>
                  <a:lnTo>
                    <a:pt x="662" y="40"/>
                  </a:lnTo>
                  <a:lnTo>
                    <a:pt x="660" y="60"/>
                  </a:lnTo>
                  <a:lnTo>
                    <a:pt x="657" y="78"/>
                  </a:lnTo>
                  <a:lnTo>
                    <a:pt x="653" y="98"/>
                  </a:lnTo>
                  <a:lnTo>
                    <a:pt x="649" y="116"/>
                  </a:lnTo>
                  <a:lnTo>
                    <a:pt x="644" y="134"/>
                  </a:lnTo>
                  <a:lnTo>
                    <a:pt x="638" y="151"/>
                  </a:lnTo>
                  <a:lnTo>
                    <a:pt x="632" y="169"/>
                  </a:lnTo>
                  <a:lnTo>
                    <a:pt x="625" y="186"/>
                  </a:lnTo>
                  <a:lnTo>
                    <a:pt x="617" y="202"/>
                  </a:lnTo>
                  <a:lnTo>
                    <a:pt x="609" y="219"/>
                  </a:lnTo>
                  <a:lnTo>
                    <a:pt x="600" y="236"/>
                  </a:lnTo>
                  <a:lnTo>
                    <a:pt x="590" y="252"/>
                  </a:lnTo>
                  <a:lnTo>
                    <a:pt x="580" y="268"/>
                  </a:lnTo>
                  <a:lnTo>
                    <a:pt x="570" y="283"/>
                  </a:lnTo>
                  <a:lnTo>
                    <a:pt x="558" y="299"/>
                  </a:lnTo>
                  <a:lnTo>
                    <a:pt x="546" y="313"/>
                  </a:lnTo>
                  <a:lnTo>
                    <a:pt x="533" y="328"/>
                  </a:lnTo>
                  <a:lnTo>
                    <a:pt x="521" y="342"/>
                  </a:lnTo>
                  <a:lnTo>
                    <a:pt x="508" y="357"/>
                  </a:lnTo>
                  <a:lnTo>
                    <a:pt x="494" y="371"/>
                  </a:lnTo>
                  <a:lnTo>
                    <a:pt x="480" y="385"/>
                  </a:lnTo>
                  <a:lnTo>
                    <a:pt x="467" y="398"/>
                  </a:lnTo>
                  <a:lnTo>
                    <a:pt x="436" y="424"/>
                  </a:lnTo>
                  <a:lnTo>
                    <a:pt x="405" y="449"/>
                  </a:lnTo>
                  <a:lnTo>
                    <a:pt x="374" y="472"/>
                  </a:lnTo>
                  <a:lnTo>
                    <a:pt x="343" y="494"/>
                  </a:lnTo>
                  <a:lnTo>
                    <a:pt x="311" y="515"/>
                  </a:lnTo>
                  <a:lnTo>
                    <a:pt x="278" y="535"/>
                  </a:lnTo>
                  <a:lnTo>
                    <a:pt x="247" y="553"/>
                  </a:lnTo>
                  <a:lnTo>
                    <a:pt x="217" y="569"/>
                  </a:lnTo>
                  <a:lnTo>
                    <a:pt x="187" y="585"/>
                  </a:lnTo>
                  <a:lnTo>
                    <a:pt x="158" y="598"/>
                  </a:lnTo>
                  <a:lnTo>
                    <a:pt x="130" y="611"/>
                  </a:lnTo>
                  <a:lnTo>
                    <a:pt x="106" y="622"/>
                  </a:lnTo>
                  <a:lnTo>
                    <a:pt x="61" y="640"/>
                  </a:lnTo>
                  <a:lnTo>
                    <a:pt x="27" y="653"/>
                  </a:lnTo>
                  <a:lnTo>
                    <a:pt x="6" y="660"/>
                  </a:lnTo>
                  <a:lnTo>
                    <a:pt x="0" y="662"/>
                  </a:lnTo>
                  <a:lnTo>
                    <a:pt x="35" y="656"/>
                  </a:lnTo>
                  <a:lnTo>
                    <a:pt x="35" y="889"/>
                  </a:lnTo>
                  <a:lnTo>
                    <a:pt x="52" y="889"/>
                  </a:lnTo>
                  <a:lnTo>
                    <a:pt x="69" y="884"/>
                  </a:lnTo>
                  <a:lnTo>
                    <a:pt x="35" y="889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1050840" y="5470200"/>
              <a:ext cx="306360" cy="14040"/>
            </a:xfrm>
            <a:custGeom>
              <a:avLst/>
              <a:gdLst/>
              <a:ahLst/>
              <a:rect l="l" t="t" r="r" b="b"/>
              <a:pathLst>
                <a:path w="4831" h="233">
                  <a:moveTo>
                    <a:pt x="0" y="233"/>
                  </a:moveTo>
                  <a:lnTo>
                    <a:pt x="0" y="233"/>
                  </a:lnTo>
                  <a:lnTo>
                    <a:pt x="167" y="233"/>
                  </a:lnTo>
                  <a:lnTo>
                    <a:pt x="405" y="233"/>
                  </a:lnTo>
                  <a:lnTo>
                    <a:pt x="702" y="233"/>
                  </a:lnTo>
                  <a:lnTo>
                    <a:pt x="1045" y="233"/>
                  </a:lnTo>
                  <a:lnTo>
                    <a:pt x="1425" y="233"/>
                  </a:lnTo>
                  <a:lnTo>
                    <a:pt x="1830" y="233"/>
                  </a:lnTo>
                  <a:lnTo>
                    <a:pt x="2251" y="233"/>
                  </a:lnTo>
                  <a:lnTo>
                    <a:pt x="2673" y="233"/>
                  </a:lnTo>
                  <a:lnTo>
                    <a:pt x="3088" y="233"/>
                  </a:lnTo>
                  <a:lnTo>
                    <a:pt x="3483" y="233"/>
                  </a:lnTo>
                  <a:lnTo>
                    <a:pt x="3849" y="233"/>
                  </a:lnTo>
                  <a:lnTo>
                    <a:pt x="4172" y="233"/>
                  </a:lnTo>
                  <a:lnTo>
                    <a:pt x="4444" y="233"/>
                  </a:lnTo>
                  <a:lnTo>
                    <a:pt x="4651" y="233"/>
                  </a:lnTo>
                  <a:lnTo>
                    <a:pt x="4784" y="233"/>
                  </a:lnTo>
                  <a:lnTo>
                    <a:pt x="4831" y="233"/>
                  </a:lnTo>
                  <a:lnTo>
                    <a:pt x="4831" y="0"/>
                  </a:lnTo>
                  <a:lnTo>
                    <a:pt x="4784" y="0"/>
                  </a:lnTo>
                  <a:lnTo>
                    <a:pt x="4651" y="0"/>
                  </a:lnTo>
                  <a:lnTo>
                    <a:pt x="4444" y="0"/>
                  </a:lnTo>
                  <a:lnTo>
                    <a:pt x="4172" y="0"/>
                  </a:lnTo>
                  <a:lnTo>
                    <a:pt x="3849" y="0"/>
                  </a:lnTo>
                  <a:lnTo>
                    <a:pt x="3483" y="0"/>
                  </a:lnTo>
                  <a:lnTo>
                    <a:pt x="3088" y="0"/>
                  </a:lnTo>
                  <a:lnTo>
                    <a:pt x="2673" y="0"/>
                  </a:lnTo>
                  <a:lnTo>
                    <a:pt x="2251" y="0"/>
                  </a:lnTo>
                  <a:lnTo>
                    <a:pt x="1830" y="0"/>
                  </a:lnTo>
                  <a:lnTo>
                    <a:pt x="1425" y="0"/>
                  </a:lnTo>
                  <a:lnTo>
                    <a:pt x="1045" y="0"/>
                  </a:lnTo>
                  <a:lnTo>
                    <a:pt x="702" y="0"/>
                  </a:lnTo>
                  <a:lnTo>
                    <a:pt x="405" y="0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985680" y="5430600"/>
              <a:ext cx="65160" cy="53640"/>
            </a:xfrm>
            <a:custGeom>
              <a:avLst/>
              <a:gdLst/>
              <a:ahLst/>
              <a:rect l="l" t="t" r="r" b="b"/>
              <a:pathLst>
                <a:path w="1034" h="867">
                  <a:moveTo>
                    <a:pt x="0" y="35"/>
                  </a:moveTo>
                  <a:lnTo>
                    <a:pt x="6" y="72"/>
                  </a:lnTo>
                  <a:lnTo>
                    <a:pt x="10" y="84"/>
                  </a:lnTo>
                  <a:lnTo>
                    <a:pt x="19" y="109"/>
                  </a:lnTo>
                  <a:lnTo>
                    <a:pt x="35" y="148"/>
                  </a:lnTo>
                  <a:lnTo>
                    <a:pt x="58" y="196"/>
                  </a:lnTo>
                  <a:lnTo>
                    <a:pt x="72" y="227"/>
                  </a:lnTo>
                  <a:lnTo>
                    <a:pt x="88" y="257"/>
                  </a:lnTo>
                  <a:lnTo>
                    <a:pt x="106" y="289"/>
                  </a:lnTo>
                  <a:lnTo>
                    <a:pt x="126" y="322"/>
                  </a:lnTo>
                  <a:lnTo>
                    <a:pt x="147" y="358"/>
                  </a:lnTo>
                  <a:lnTo>
                    <a:pt x="171" y="393"/>
                  </a:lnTo>
                  <a:lnTo>
                    <a:pt x="198" y="429"/>
                  </a:lnTo>
                  <a:lnTo>
                    <a:pt x="227" y="466"/>
                  </a:lnTo>
                  <a:lnTo>
                    <a:pt x="257" y="503"/>
                  </a:lnTo>
                  <a:lnTo>
                    <a:pt x="289" y="539"/>
                  </a:lnTo>
                  <a:lnTo>
                    <a:pt x="307" y="558"/>
                  </a:lnTo>
                  <a:lnTo>
                    <a:pt x="326" y="576"/>
                  </a:lnTo>
                  <a:lnTo>
                    <a:pt x="345" y="594"/>
                  </a:lnTo>
                  <a:lnTo>
                    <a:pt x="364" y="611"/>
                  </a:lnTo>
                  <a:lnTo>
                    <a:pt x="384" y="629"/>
                  </a:lnTo>
                  <a:lnTo>
                    <a:pt x="404" y="647"/>
                  </a:lnTo>
                  <a:lnTo>
                    <a:pt x="425" y="663"/>
                  </a:lnTo>
                  <a:lnTo>
                    <a:pt x="448" y="680"/>
                  </a:lnTo>
                  <a:lnTo>
                    <a:pt x="471" y="695"/>
                  </a:lnTo>
                  <a:lnTo>
                    <a:pt x="494" y="711"/>
                  </a:lnTo>
                  <a:lnTo>
                    <a:pt x="518" y="726"/>
                  </a:lnTo>
                  <a:lnTo>
                    <a:pt x="543" y="740"/>
                  </a:lnTo>
                  <a:lnTo>
                    <a:pt x="568" y="754"/>
                  </a:lnTo>
                  <a:lnTo>
                    <a:pt x="595" y="767"/>
                  </a:lnTo>
                  <a:lnTo>
                    <a:pt x="622" y="780"/>
                  </a:lnTo>
                  <a:lnTo>
                    <a:pt x="649" y="793"/>
                  </a:lnTo>
                  <a:lnTo>
                    <a:pt x="677" y="804"/>
                  </a:lnTo>
                  <a:lnTo>
                    <a:pt x="707" y="815"/>
                  </a:lnTo>
                  <a:lnTo>
                    <a:pt x="737" y="824"/>
                  </a:lnTo>
                  <a:lnTo>
                    <a:pt x="767" y="833"/>
                  </a:lnTo>
                  <a:lnTo>
                    <a:pt x="798" y="841"/>
                  </a:lnTo>
                  <a:lnTo>
                    <a:pt x="829" y="848"/>
                  </a:lnTo>
                  <a:lnTo>
                    <a:pt x="862" y="853"/>
                  </a:lnTo>
                  <a:lnTo>
                    <a:pt x="895" y="858"/>
                  </a:lnTo>
                  <a:lnTo>
                    <a:pt x="929" y="862"/>
                  </a:lnTo>
                  <a:lnTo>
                    <a:pt x="964" y="865"/>
                  </a:lnTo>
                  <a:lnTo>
                    <a:pt x="999" y="866"/>
                  </a:lnTo>
                  <a:lnTo>
                    <a:pt x="1034" y="867"/>
                  </a:lnTo>
                  <a:lnTo>
                    <a:pt x="1034" y="634"/>
                  </a:lnTo>
                  <a:lnTo>
                    <a:pt x="1006" y="634"/>
                  </a:lnTo>
                  <a:lnTo>
                    <a:pt x="978" y="633"/>
                  </a:lnTo>
                  <a:lnTo>
                    <a:pt x="951" y="631"/>
                  </a:lnTo>
                  <a:lnTo>
                    <a:pt x="925" y="628"/>
                  </a:lnTo>
                  <a:lnTo>
                    <a:pt x="900" y="624"/>
                  </a:lnTo>
                  <a:lnTo>
                    <a:pt x="875" y="619"/>
                  </a:lnTo>
                  <a:lnTo>
                    <a:pt x="851" y="614"/>
                  </a:lnTo>
                  <a:lnTo>
                    <a:pt x="826" y="608"/>
                  </a:lnTo>
                  <a:lnTo>
                    <a:pt x="803" y="602"/>
                  </a:lnTo>
                  <a:lnTo>
                    <a:pt x="781" y="594"/>
                  </a:lnTo>
                  <a:lnTo>
                    <a:pt x="759" y="586"/>
                  </a:lnTo>
                  <a:lnTo>
                    <a:pt x="738" y="578"/>
                  </a:lnTo>
                  <a:lnTo>
                    <a:pt x="717" y="569"/>
                  </a:lnTo>
                  <a:lnTo>
                    <a:pt x="696" y="560"/>
                  </a:lnTo>
                  <a:lnTo>
                    <a:pt x="676" y="549"/>
                  </a:lnTo>
                  <a:lnTo>
                    <a:pt x="657" y="539"/>
                  </a:lnTo>
                  <a:lnTo>
                    <a:pt x="638" y="527"/>
                  </a:lnTo>
                  <a:lnTo>
                    <a:pt x="620" y="516"/>
                  </a:lnTo>
                  <a:lnTo>
                    <a:pt x="602" y="504"/>
                  </a:lnTo>
                  <a:lnTo>
                    <a:pt x="585" y="491"/>
                  </a:lnTo>
                  <a:lnTo>
                    <a:pt x="566" y="478"/>
                  </a:lnTo>
                  <a:lnTo>
                    <a:pt x="550" y="465"/>
                  </a:lnTo>
                  <a:lnTo>
                    <a:pt x="534" y="452"/>
                  </a:lnTo>
                  <a:lnTo>
                    <a:pt x="518" y="438"/>
                  </a:lnTo>
                  <a:lnTo>
                    <a:pt x="503" y="424"/>
                  </a:lnTo>
                  <a:lnTo>
                    <a:pt x="488" y="410"/>
                  </a:lnTo>
                  <a:lnTo>
                    <a:pt x="474" y="396"/>
                  </a:lnTo>
                  <a:lnTo>
                    <a:pt x="461" y="382"/>
                  </a:lnTo>
                  <a:lnTo>
                    <a:pt x="432" y="351"/>
                  </a:lnTo>
                  <a:lnTo>
                    <a:pt x="407" y="320"/>
                  </a:lnTo>
                  <a:lnTo>
                    <a:pt x="384" y="290"/>
                  </a:lnTo>
                  <a:lnTo>
                    <a:pt x="363" y="261"/>
                  </a:lnTo>
                  <a:lnTo>
                    <a:pt x="343" y="231"/>
                  </a:lnTo>
                  <a:lnTo>
                    <a:pt x="324" y="201"/>
                  </a:lnTo>
                  <a:lnTo>
                    <a:pt x="307" y="173"/>
                  </a:lnTo>
                  <a:lnTo>
                    <a:pt x="292" y="147"/>
                  </a:lnTo>
                  <a:lnTo>
                    <a:pt x="279" y="121"/>
                  </a:lnTo>
                  <a:lnTo>
                    <a:pt x="268" y="99"/>
                  </a:lnTo>
                  <a:lnTo>
                    <a:pt x="248" y="55"/>
                  </a:lnTo>
                  <a:lnTo>
                    <a:pt x="236" y="23"/>
                  </a:lnTo>
                  <a:lnTo>
                    <a:pt x="228" y="4"/>
                  </a:lnTo>
                  <a:lnTo>
                    <a:pt x="227" y="0"/>
                  </a:lnTo>
                  <a:lnTo>
                    <a:pt x="233" y="35"/>
                  </a:lnTo>
                  <a:lnTo>
                    <a:pt x="0" y="35"/>
                  </a:lnTo>
                  <a:lnTo>
                    <a:pt x="0" y="53"/>
                  </a:lnTo>
                  <a:lnTo>
                    <a:pt x="6" y="7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985680" y="5182920"/>
              <a:ext cx="14400" cy="248760"/>
            </a:xfrm>
            <a:custGeom>
              <a:avLst/>
              <a:gdLst/>
              <a:ahLst/>
              <a:rect l="l" t="t" r="r" b="b"/>
              <a:pathLst>
                <a:path w="233" h="3925">
                  <a:moveTo>
                    <a:pt x="233" y="0"/>
                  </a:moveTo>
                  <a:lnTo>
                    <a:pt x="0" y="0"/>
                  </a:lnTo>
                  <a:lnTo>
                    <a:pt x="0" y="3925"/>
                  </a:lnTo>
                  <a:lnTo>
                    <a:pt x="233" y="3925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1465200" y="5449680"/>
              <a:ext cx="236520" cy="15480"/>
            </a:xfrm>
            <a:prstGeom prst="rect">
              <a:avLst/>
            </a:pr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1465200" y="5449680"/>
              <a:ext cx="236520" cy="15480"/>
            </a:xfrm>
            <a:prstGeom prst="rect">
              <a:avLst/>
            </a:pr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1465200" y="5141520"/>
              <a:ext cx="236520" cy="15480"/>
            </a:xfrm>
            <a:prstGeom prst="rect">
              <a:avLst/>
            </a:pr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1465200" y="5141520"/>
              <a:ext cx="236520" cy="15480"/>
            </a:xfrm>
            <a:prstGeom prst="rect">
              <a:avLst/>
            </a:pr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843120" y="5449680"/>
              <a:ext cx="109440" cy="15480"/>
            </a:xfrm>
            <a:prstGeom prst="rect">
              <a:avLst/>
            </a:pr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843120" y="5449680"/>
              <a:ext cx="109440" cy="15480"/>
            </a:xfrm>
            <a:prstGeom prst="rect">
              <a:avLst/>
            </a:pr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843120" y="5141520"/>
              <a:ext cx="109440" cy="15480"/>
            </a:xfrm>
            <a:prstGeom prst="rect">
              <a:avLst/>
            </a:pr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843120" y="5141520"/>
              <a:ext cx="109440" cy="15480"/>
            </a:xfrm>
            <a:prstGeom prst="rect">
              <a:avLst/>
            </a:prstGeom>
            <a:solidFill>
              <a:srgbClr val="656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7" name=""/>
          <p:cNvSpPr/>
          <p:nvPr/>
        </p:nvSpPr>
        <p:spPr>
          <a:xfrm>
            <a:off x="7493040" y="5792760"/>
            <a:ext cx="982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8" name="" descr=""/>
          <p:cNvPicPr/>
          <p:nvPr/>
        </p:nvPicPr>
        <p:blipFill>
          <a:blip r:embed="rId17"/>
          <a:stretch/>
        </p:blipFill>
        <p:spPr>
          <a:xfrm>
            <a:off x="6491160" y="5564160"/>
            <a:ext cx="878040" cy="9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Miscellaneou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1644480" y="200340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1644480" y="319104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2" name="" descr=""/>
          <p:cNvPicPr/>
          <p:nvPr/>
        </p:nvPicPr>
        <p:blipFill>
          <a:blip r:embed="rId1"/>
          <a:stretch/>
        </p:blipFill>
        <p:spPr>
          <a:xfrm>
            <a:off x="655560" y="1525680"/>
            <a:ext cx="855720" cy="1125360"/>
          </a:xfrm>
          <a:prstGeom prst="rect">
            <a:avLst/>
          </a:prstGeom>
          <a:ln w="0">
            <a:noFill/>
          </a:ln>
        </p:spPr>
      </p:pic>
      <p:pic>
        <p:nvPicPr>
          <p:cNvPr id="4393" name="" descr=""/>
          <p:cNvPicPr/>
          <p:nvPr/>
        </p:nvPicPr>
        <p:blipFill>
          <a:blip r:embed="rId2"/>
          <a:stretch/>
        </p:blipFill>
        <p:spPr>
          <a:xfrm>
            <a:off x="655560" y="2967120"/>
            <a:ext cx="720720" cy="922320"/>
          </a:xfrm>
          <a:prstGeom prst="rect">
            <a:avLst/>
          </a:prstGeom>
          <a:ln w="0">
            <a:noFill/>
          </a:ln>
        </p:spPr>
      </p:pic>
      <p:pic>
        <p:nvPicPr>
          <p:cNvPr id="4394" name="" descr=""/>
          <p:cNvPicPr/>
          <p:nvPr/>
        </p:nvPicPr>
        <p:blipFill>
          <a:blip r:embed="rId3"/>
          <a:stretch/>
        </p:blipFill>
        <p:spPr>
          <a:xfrm>
            <a:off x="3346560" y="2844720"/>
            <a:ext cx="1225440" cy="831960"/>
          </a:xfrm>
          <a:prstGeom prst="rect">
            <a:avLst/>
          </a:prstGeom>
          <a:ln w="0">
            <a:noFill/>
          </a:ln>
        </p:spPr>
      </p:pic>
      <p:pic>
        <p:nvPicPr>
          <p:cNvPr id="4395" name="" descr=""/>
          <p:cNvPicPr/>
          <p:nvPr/>
        </p:nvPicPr>
        <p:blipFill>
          <a:blip r:embed="rId4"/>
          <a:stretch/>
        </p:blipFill>
        <p:spPr>
          <a:xfrm>
            <a:off x="3346560" y="4044960"/>
            <a:ext cx="1225440" cy="831960"/>
          </a:xfrm>
          <a:prstGeom prst="rect">
            <a:avLst/>
          </a:prstGeom>
          <a:ln w="0">
            <a:noFill/>
          </a:ln>
        </p:spPr>
      </p:pic>
      <p:pic>
        <p:nvPicPr>
          <p:cNvPr id="4396" name="" descr=""/>
          <p:cNvPicPr/>
          <p:nvPr/>
        </p:nvPicPr>
        <p:blipFill>
          <a:blip r:embed="rId5"/>
          <a:stretch/>
        </p:blipFill>
        <p:spPr>
          <a:xfrm>
            <a:off x="3346560" y="1644480"/>
            <a:ext cx="1225440" cy="831960"/>
          </a:xfrm>
          <a:prstGeom prst="rect">
            <a:avLst/>
          </a:prstGeom>
          <a:ln w="0">
            <a:noFill/>
          </a:ln>
        </p:spPr>
      </p:pic>
      <p:pic>
        <p:nvPicPr>
          <p:cNvPr id="4397" name="" descr=""/>
          <p:cNvPicPr/>
          <p:nvPr/>
        </p:nvPicPr>
        <p:blipFill>
          <a:blip r:embed="rId6"/>
          <a:stretch/>
        </p:blipFill>
        <p:spPr>
          <a:xfrm>
            <a:off x="6078600" y="5272200"/>
            <a:ext cx="1203120" cy="957240"/>
          </a:xfrm>
          <a:prstGeom prst="rect">
            <a:avLst/>
          </a:prstGeom>
          <a:ln w="0">
            <a:noFill/>
          </a:ln>
        </p:spPr>
      </p:pic>
      <p:pic>
        <p:nvPicPr>
          <p:cNvPr id="4398" name="" descr=""/>
          <p:cNvPicPr/>
          <p:nvPr/>
        </p:nvPicPr>
        <p:blipFill>
          <a:blip r:embed="rId7"/>
          <a:stretch/>
        </p:blipFill>
        <p:spPr>
          <a:xfrm>
            <a:off x="6848640" y="2854440"/>
            <a:ext cx="382320" cy="911160"/>
          </a:xfrm>
          <a:prstGeom prst="rect">
            <a:avLst/>
          </a:prstGeom>
          <a:ln w="0">
            <a:noFill/>
          </a:ln>
        </p:spPr>
      </p:pic>
      <p:pic>
        <p:nvPicPr>
          <p:cNvPr id="4399" name="" descr=""/>
          <p:cNvPicPr/>
          <p:nvPr/>
        </p:nvPicPr>
        <p:blipFill>
          <a:blip r:embed="rId8"/>
          <a:stretch/>
        </p:blipFill>
        <p:spPr>
          <a:xfrm>
            <a:off x="541440" y="5518080"/>
            <a:ext cx="1225440" cy="843120"/>
          </a:xfrm>
          <a:prstGeom prst="rect">
            <a:avLst/>
          </a:prstGeom>
          <a:ln w="0">
            <a:noFill/>
          </a:ln>
        </p:spPr>
      </p:pic>
      <p:pic>
        <p:nvPicPr>
          <p:cNvPr id="4400" name="" descr=""/>
          <p:cNvPicPr/>
          <p:nvPr/>
        </p:nvPicPr>
        <p:blipFill>
          <a:blip r:embed="rId9"/>
          <a:stretch/>
        </p:blipFill>
        <p:spPr>
          <a:xfrm>
            <a:off x="541440" y="4726080"/>
            <a:ext cx="1225440" cy="528480"/>
          </a:xfrm>
          <a:prstGeom prst="rect">
            <a:avLst/>
          </a:prstGeom>
          <a:ln w="0">
            <a:noFill/>
          </a:ln>
        </p:spPr>
      </p:pic>
      <p:pic>
        <p:nvPicPr>
          <p:cNvPr id="4401" name="" descr=""/>
          <p:cNvPicPr/>
          <p:nvPr/>
        </p:nvPicPr>
        <p:blipFill>
          <a:blip r:embed="rId10"/>
          <a:stretch/>
        </p:blipFill>
        <p:spPr>
          <a:xfrm>
            <a:off x="6127920" y="4040280"/>
            <a:ext cx="1103040" cy="957240"/>
          </a:xfrm>
          <a:prstGeom prst="rect">
            <a:avLst/>
          </a:prstGeom>
          <a:ln w="0">
            <a:noFill/>
          </a:ln>
        </p:spPr>
      </p:pic>
      <p:pic>
        <p:nvPicPr>
          <p:cNvPr id="4402" name="" descr=""/>
          <p:cNvPicPr/>
          <p:nvPr/>
        </p:nvPicPr>
        <p:blipFill>
          <a:blip r:embed="rId11"/>
          <a:stretch/>
        </p:blipFill>
        <p:spPr>
          <a:xfrm>
            <a:off x="563400" y="3944880"/>
            <a:ext cx="1203480" cy="517680"/>
          </a:xfrm>
          <a:prstGeom prst="rect">
            <a:avLst/>
          </a:prstGeom>
          <a:ln w="0">
            <a:noFill/>
          </a:ln>
        </p:spPr>
      </p:pic>
      <p:pic>
        <p:nvPicPr>
          <p:cNvPr id="4403" name="" descr=""/>
          <p:cNvPicPr/>
          <p:nvPr/>
        </p:nvPicPr>
        <p:blipFill>
          <a:blip r:embed="rId12"/>
          <a:stretch/>
        </p:blipFill>
        <p:spPr>
          <a:xfrm>
            <a:off x="3346560" y="5245200"/>
            <a:ext cx="1225440" cy="831600"/>
          </a:xfrm>
          <a:prstGeom prst="rect">
            <a:avLst/>
          </a:prstGeom>
          <a:ln w="0">
            <a:noFill/>
          </a:ln>
        </p:spPr>
      </p:pic>
      <p:pic>
        <p:nvPicPr>
          <p:cNvPr id="4404" name="" descr=""/>
          <p:cNvPicPr/>
          <p:nvPr/>
        </p:nvPicPr>
        <p:blipFill>
          <a:blip r:embed="rId13"/>
          <a:stretch/>
        </p:blipFill>
        <p:spPr>
          <a:xfrm>
            <a:off x="6848640" y="1420920"/>
            <a:ext cx="382320" cy="1158840"/>
          </a:xfrm>
          <a:prstGeom prst="rect">
            <a:avLst/>
          </a:prstGeom>
          <a:ln w="0">
            <a:noFill/>
          </a:ln>
        </p:spPr>
      </p:pic>
      <p:sp>
        <p:nvSpPr>
          <p:cNvPr id="4405" name=""/>
          <p:cNvSpPr/>
          <p:nvPr/>
        </p:nvSpPr>
        <p:spPr>
          <a:xfrm>
            <a:off x="1903320" y="401796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-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1903320" y="482904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1903320" y="581652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cry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4667400" y="192240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4667400" y="311148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4667400" y="431316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4667400" y="555156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Q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7315200" y="1673280"/>
            <a:ext cx="9414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Modem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7315200" y="311148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7315200" y="431316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D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7315200" y="5551560"/>
            <a:ext cx="94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D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88920" y="388620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88920" y="4724280"/>
            <a:ext cx="952560" cy="49284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2840"/>
              <a:gd name="textAreaBottom" fmla="*/ 380520 h 49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88920" y="567684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2819520" y="3124080"/>
            <a:ext cx="952560" cy="49284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2840"/>
              <a:gd name="textAreaBottom" fmla="*/ 380520 h 49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2819520" y="4267080"/>
            <a:ext cx="952560" cy="49284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2840"/>
              <a:gd name="textAreaBottom" fmla="*/ 380520 h 49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2819520" y="533412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2819520" y="185436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6095880" y="3124080"/>
            <a:ext cx="952560" cy="49284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2840"/>
              <a:gd name="textAreaBottom" fmla="*/ 380520 h 49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5638680" y="4267080"/>
            <a:ext cx="952560" cy="49284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2840"/>
              <a:gd name="textAreaBottom" fmla="*/ 380520 h 49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5638680" y="533412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6095880" y="185436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Miscellaneou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1487520" y="1500120"/>
            <a:ext cx="1428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Unified Contact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9" name="" descr=""/>
          <p:cNvPicPr/>
          <p:nvPr/>
        </p:nvPicPr>
        <p:blipFill>
          <a:blip r:embed="rId1"/>
          <a:stretch/>
        </p:blipFill>
        <p:spPr>
          <a:xfrm>
            <a:off x="790560" y="4348080"/>
            <a:ext cx="593640" cy="938160"/>
          </a:xfrm>
          <a:prstGeom prst="rect">
            <a:avLst/>
          </a:prstGeom>
          <a:ln w="0">
            <a:noFill/>
          </a:ln>
        </p:spPr>
      </p:pic>
      <p:pic>
        <p:nvPicPr>
          <p:cNvPr id="4430" name="" descr=""/>
          <p:cNvPicPr/>
          <p:nvPr/>
        </p:nvPicPr>
        <p:blipFill>
          <a:blip r:embed="rId2"/>
          <a:stretch/>
        </p:blipFill>
        <p:spPr>
          <a:xfrm>
            <a:off x="690480" y="5452920"/>
            <a:ext cx="795600" cy="938520"/>
          </a:xfrm>
          <a:prstGeom prst="rect">
            <a:avLst/>
          </a:prstGeom>
          <a:ln w="0">
            <a:noFill/>
          </a:ln>
        </p:spPr>
      </p:pic>
      <p:pic>
        <p:nvPicPr>
          <p:cNvPr id="4431" name="" descr=""/>
          <p:cNvPicPr/>
          <p:nvPr/>
        </p:nvPicPr>
        <p:blipFill>
          <a:blip r:embed="rId3"/>
          <a:stretch/>
        </p:blipFill>
        <p:spPr>
          <a:xfrm>
            <a:off x="776160" y="1263600"/>
            <a:ext cx="623880" cy="987480"/>
          </a:xfrm>
          <a:prstGeom prst="rect">
            <a:avLst/>
          </a:prstGeom>
          <a:ln w="0">
            <a:noFill/>
          </a:ln>
        </p:spPr>
      </p:pic>
      <p:pic>
        <p:nvPicPr>
          <p:cNvPr id="4432" name="" descr=""/>
          <p:cNvPicPr/>
          <p:nvPr/>
        </p:nvPicPr>
        <p:blipFill>
          <a:blip r:embed="rId4"/>
          <a:stretch/>
        </p:blipFill>
        <p:spPr>
          <a:xfrm>
            <a:off x="776160" y="2416320"/>
            <a:ext cx="623880" cy="996840"/>
          </a:xfrm>
          <a:prstGeom prst="rect">
            <a:avLst/>
          </a:prstGeom>
          <a:ln w="0">
            <a:noFill/>
          </a:ln>
        </p:spPr>
      </p:pic>
      <p:pic>
        <p:nvPicPr>
          <p:cNvPr id="4433" name="" descr=""/>
          <p:cNvPicPr/>
          <p:nvPr/>
        </p:nvPicPr>
        <p:blipFill>
          <a:blip r:embed="rId5"/>
          <a:stretch/>
        </p:blipFill>
        <p:spPr>
          <a:xfrm>
            <a:off x="781200" y="3578400"/>
            <a:ext cx="614160" cy="604800"/>
          </a:xfrm>
          <a:prstGeom prst="rect">
            <a:avLst/>
          </a:prstGeom>
          <a:ln w="0">
            <a:noFill/>
          </a:ln>
        </p:spPr>
      </p:pic>
      <p:sp>
        <p:nvSpPr>
          <p:cNvPr id="4434" name=""/>
          <p:cNvSpPr/>
          <p:nvPr/>
        </p:nvSpPr>
        <p:spPr>
          <a:xfrm>
            <a:off x="1487520" y="2560680"/>
            <a:ext cx="142884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Unified Contact Cent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1487520" y="3606840"/>
            <a:ext cx="1428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Voice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1487520" y="4460760"/>
            <a:ext cx="142884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and Web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on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1487520" y="5584680"/>
            <a:ext cx="171288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Unified Intelligent Contac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0" y="140976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0" y="259092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0" y="3581280"/>
            <a:ext cx="952560" cy="49284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2840"/>
              <a:gd name="textAreaBottom" fmla="*/ 380520 h 49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0" y="459756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0" y="558792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3" name="" descr=""/>
          <p:cNvPicPr/>
          <p:nvPr/>
        </p:nvPicPr>
        <p:blipFill>
          <a:blip r:embed="rId6"/>
          <a:stretch/>
        </p:blipFill>
        <p:spPr>
          <a:xfrm>
            <a:off x="3178080" y="1386000"/>
            <a:ext cx="1015920" cy="823680"/>
          </a:xfrm>
          <a:prstGeom prst="rect">
            <a:avLst/>
          </a:prstGeom>
          <a:ln w="0">
            <a:noFill/>
          </a:ln>
        </p:spPr>
      </p:pic>
      <p:pic>
        <p:nvPicPr>
          <p:cNvPr id="4444" name="" descr=""/>
          <p:cNvPicPr/>
          <p:nvPr/>
        </p:nvPicPr>
        <p:blipFill>
          <a:blip r:embed="rId7"/>
          <a:stretch/>
        </p:blipFill>
        <p:spPr>
          <a:xfrm>
            <a:off x="3398760" y="2496960"/>
            <a:ext cx="695520" cy="916200"/>
          </a:xfrm>
          <a:prstGeom prst="rect">
            <a:avLst/>
          </a:prstGeom>
          <a:ln w="0">
            <a:noFill/>
          </a:ln>
        </p:spPr>
      </p:pic>
      <p:sp>
        <p:nvSpPr>
          <p:cNvPr id="4445" name=""/>
          <p:cNvSpPr/>
          <p:nvPr/>
        </p:nvSpPr>
        <p:spPr>
          <a:xfrm>
            <a:off x="4249800" y="1500120"/>
            <a:ext cx="1428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WAAS Mobile 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4249800" y="2560680"/>
            <a:ext cx="1428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WAAS Mobil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3276720" y="118116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3276720" y="2362320"/>
            <a:ext cx="952560" cy="493200"/>
          </a:xfrm>
          <a:custGeom>
            <a:avLst/>
            <a:gdLst>
              <a:gd name="textAreaLeft" fmla="*/ 217440 w 952560"/>
              <a:gd name="textAreaRight" fmla="*/ 735120 w 952560"/>
              <a:gd name="textAreaTop" fmla="*/ 112320 h 493200"/>
              <a:gd name="textAreaBottom" fmla="*/ 380880 h 49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3bf2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789440" y="5854680"/>
            <a:ext cx="100476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37960" y="1417680"/>
            <a:ext cx="530280" cy="77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95280" y="1371600"/>
            <a:ext cx="13338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/Switch Processor: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and without S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1389240"/>
            <a:ext cx="1371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 with Router-Based 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639880" y="1295280"/>
            <a:ext cx="835200" cy="887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2565360" y="4978440"/>
            <a:ext cx="892080" cy="522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29000" y="4987800"/>
            <a:ext cx="12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07400" y="5845320"/>
            <a:ext cx="1052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752400" y="1417680"/>
            <a:ext cx="530280" cy="770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907400" y="2286000"/>
            <a:ext cx="11635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GX 8000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ltiservic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7142040" y="2254320"/>
            <a:ext cx="693720" cy="744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429000" y="5746680"/>
            <a:ext cx="121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oadb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2762280" y="5608800"/>
            <a:ext cx="695160" cy="74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65200" y="4803840"/>
            <a:ext cx="857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317520" y="4670280"/>
            <a:ext cx="1152360" cy="781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907400" y="1528920"/>
            <a:ext cx="811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7070760" y="1417680"/>
            <a:ext cx="839880" cy="723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7031160" y="5845320"/>
            <a:ext cx="917280" cy="537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429000" y="2284560"/>
            <a:ext cx="1198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 wit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2685960" y="2305080"/>
            <a:ext cx="789120" cy="836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829480" y="1512720"/>
            <a:ext cx="1064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M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2"/>
          <a:stretch/>
        </p:blipFill>
        <p:spPr>
          <a:xfrm>
            <a:off x="4950000" y="1417680"/>
            <a:ext cx="707760" cy="695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829480" y="2430360"/>
            <a:ext cx="1139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N2L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9480" y="3408480"/>
            <a:ext cx="758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4950000" y="3271680"/>
            <a:ext cx="788760" cy="776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829480" y="4311720"/>
            <a:ext cx="1225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ltiswit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4"/>
          <a:stretch/>
        </p:blipFill>
        <p:spPr>
          <a:xfrm>
            <a:off x="4826160" y="4235400"/>
            <a:ext cx="1036440" cy="655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5"/>
          <a:stretch/>
        </p:blipFill>
        <p:spPr>
          <a:xfrm>
            <a:off x="4937040" y="2284560"/>
            <a:ext cx="812880" cy="793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6"/>
          <a:stretch/>
        </p:blipFill>
        <p:spPr>
          <a:xfrm>
            <a:off x="393840" y="2424240"/>
            <a:ext cx="858600" cy="1245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308240" y="2895480"/>
            <a:ext cx="76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X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241200" y="5502240"/>
            <a:ext cx="1216080" cy="833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60520" y="550224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ment Engin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ME 1100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976480" y="3224160"/>
            <a:ext cx="480600" cy="779040"/>
            <a:chOff x="2976480" y="3224160"/>
            <a:chExt cx="480600" cy="779040"/>
          </a:xfrm>
        </p:grpSpPr>
        <p:sp>
          <p:nvSpPr>
            <p:cNvPr id="211" name=""/>
            <p:cNvSpPr/>
            <p:nvPr/>
          </p:nvSpPr>
          <p:spPr>
            <a:xfrm>
              <a:off x="2977560" y="3481200"/>
              <a:ext cx="475200" cy="58320"/>
            </a:xfrm>
            <a:custGeom>
              <a:avLst/>
              <a:gdLst/>
              <a:ahLst/>
              <a:rect l="l" t="t" r="r" b="b"/>
              <a:pathLst>
                <a:path w="10922" h="1195">
                  <a:moveTo>
                    <a:pt x="0" y="1195"/>
                  </a:moveTo>
                  <a:lnTo>
                    <a:pt x="1198" y="0"/>
                  </a:lnTo>
                  <a:lnTo>
                    <a:pt x="10922" y="0"/>
                  </a:lnTo>
                  <a:lnTo>
                    <a:pt x="9727" y="1195"/>
                  </a:lnTo>
                  <a:lnTo>
                    <a:pt x="0" y="1195"/>
                  </a:lnTo>
                  <a:close/>
                </a:path>
              </a:pathLst>
            </a:custGeom>
            <a:solidFill>
              <a:srgbClr val="b9b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6480" y="3479400"/>
              <a:ext cx="55800" cy="60120"/>
            </a:xfrm>
            <a:custGeom>
              <a:avLst/>
              <a:gdLst/>
              <a:ahLst/>
              <a:rect l="l" t="t" r="r" b="b"/>
              <a:pathLst>
                <a:path w="1261" h="1270">
                  <a:moveTo>
                    <a:pt x="1229" y="0"/>
                  </a:moveTo>
                  <a:lnTo>
                    <a:pt x="1198" y="13"/>
                  </a:lnTo>
                  <a:lnTo>
                    <a:pt x="0" y="1208"/>
                  </a:lnTo>
                  <a:lnTo>
                    <a:pt x="63" y="1270"/>
                  </a:lnTo>
                  <a:lnTo>
                    <a:pt x="1261" y="75"/>
                  </a:lnTo>
                  <a:lnTo>
                    <a:pt x="1229" y="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30840" y="3479400"/>
              <a:ext cx="423000" cy="4680"/>
            </a:xfrm>
            <a:custGeom>
              <a:avLst/>
              <a:gdLst/>
              <a:ahLst/>
              <a:rect l="l" t="t" r="r" b="b"/>
              <a:pathLst>
                <a:path w="9756" h="87">
                  <a:moveTo>
                    <a:pt x="9756" y="75"/>
                  </a:moveTo>
                  <a:lnTo>
                    <a:pt x="9724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9724" y="87"/>
                  </a:lnTo>
                  <a:lnTo>
                    <a:pt x="9756" y="75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99840" y="3479400"/>
              <a:ext cx="54360" cy="61560"/>
            </a:xfrm>
            <a:custGeom>
              <a:avLst/>
              <a:gdLst/>
              <a:ahLst/>
              <a:rect l="l" t="t" r="r" b="b"/>
              <a:pathLst>
                <a:path w="1258" h="1270">
                  <a:moveTo>
                    <a:pt x="31" y="1270"/>
                  </a:moveTo>
                  <a:lnTo>
                    <a:pt x="63" y="1257"/>
                  </a:lnTo>
                  <a:lnTo>
                    <a:pt x="1258" y="62"/>
                  </a:lnTo>
                  <a:lnTo>
                    <a:pt x="1195" y="0"/>
                  </a:lnTo>
                  <a:lnTo>
                    <a:pt x="0" y="1195"/>
                  </a:lnTo>
                  <a:lnTo>
                    <a:pt x="31" y="127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76480" y="3536640"/>
              <a:ext cx="424800" cy="4320"/>
            </a:xfrm>
            <a:custGeom>
              <a:avLst/>
              <a:gdLst/>
              <a:ahLst/>
              <a:rect l="l" t="t" r="r" b="b"/>
              <a:pathLst>
                <a:path w="9758" h="88">
                  <a:moveTo>
                    <a:pt x="0" y="13"/>
                  </a:moveTo>
                  <a:lnTo>
                    <a:pt x="31" y="88"/>
                  </a:lnTo>
                  <a:lnTo>
                    <a:pt x="9758" y="88"/>
                  </a:lnTo>
                  <a:lnTo>
                    <a:pt x="9758" y="0"/>
                  </a:lnTo>
                  <a:lnTo>
                    <a:pt x="3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80440" y="3541320"/>
              <a:ext cx="422280" cy="460080"/>
            </a:xfrm>
            <a:prstGeom prst="rect">
              <a:avLst/>
            </a:prstGeom>
            <a:solidFill>
              <a:srgbClr val="b9b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7560" y="3541320"/>
              <a:ext cx="4320" cy="461880"/>
            </a:xfrm>
            <a:custGeom>
              <a:avLst/>
              <a:gdLst/>
              <a:ahLst/>
              <a:rect l="l" t="t" r="r" b="b"/>
              <a:pathLst>
                <a:path w="89" h="9607">
                  <a:moveTo>
                    <a:pt x="45" y="9607"/>
                  </a:moveTo>
                  <a:lnTo>
                    <a:pt x="89" y="9563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9563"/>
                  </a:lnTo>
                  <a:lnTo>
                    <a:pt x="45" y="9607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80440" y="3998520"/>
              <a:ext cx="425160" cy="4680"/>
            </a:xfrm>
            <a:custGeom>
              <a:avLst/>
              <a:gdLst/>
              <a:ahLst/>
              <a:rect l="l" t="t" r="r" b="b"/>
              <a:pathLst>
                <a:path w="9771" h="89">
                  <a:moveTo>
                    <a:pt x="9771" y="45"/>
                  </a:moveTo>
                  <a:lnTo>
                    <a:pt x="9727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9727" y="89"/>
                  </a:lnTo>
                  <a:lnTo>
                    <a:pt x="9771" y="45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01280" y="3539880"/>
              <a:ext cx="4320" cy="461520"/>
            </a:xfrm>
            <a:custGeom>
              <a:avLst/>
              <a:gdLst/>
              <a:ahLst/>
              <a:rect l="l" t="t" r="r" b="b"/>
              <a:pathLst>
                <a:path w="89" h="9607">
                  <a:moveTo>
                    <a:pt x="45" y="0"/>
                  </a:moveTo>
                  <a:lnTo>
                    <a:pt x="0" y="44"/>
                  </a:lnTo>
                  <a:lnTo>
                    <a:pt x="0" y="9607"/>
                  </a:lnTo>
                  <a:lnTo>
                    <a:pt x="89" y="9607"/>
                  </a:lnTo>
                  <a:lnTo>
                    <a:pt x="89" y="4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77560" y="3539880"/>
              <a:ext cx="425160" cy="2880"/>
            </a:xfrm>
            <a:custGeom>
              <a:avLst/>
              <a:gdLst/>
              <a:ahLst/>
              <a:rect l="l" t="t" r="r" b="b"/>
              <a:pathLst>
                <a:path w="9772" h="89">
                  <a:moveTo>
                    <a:pt x="0" y="44"/>
                  </a:moveTo>
                  <a:lnTo>
                    <a:pt x="45" y="89"/>
                  </a:lnTo>
                  <a:lnTo>
                    <a:pt x="9772" y="89"/>
                  </a:lnTo>
                  <a:lnTo>
                    <a:pt x="9772" y="0"/>
                  </a:lnTo>
                  <a:lnTo>
                    <a:pt x="4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03080" y="3481200"/>
              <a:ext cx="52920" cy="516960"/>
            </a:xfrm>
            <a:custGeom>
              <a:avLst/>
              <a:gdLst/>
              <a:ahLst/>
              <a:rect l="l" t="t" r="r" b="b"/>
              <a:pathLst>
                <a:path w="1195" h="10757">
                  <a:moveTo>
                    <a:pt x="0" y="1195"/>
                  </a:moveTo>
                  <a:lnTo>
                    <a:pt x="1195" y="0"/>
                  </a:lnTo>
                  <a:lnTo>
                    <a:pt x="1195" y="9559"/>
                  </a:lnTo>
                  <a:lnTo>
                    <a:pt x="0" y="10757"/>
                  </a:lnTo>
                  <a:lnTo>
                    <a:pt x="0" y="1195"/>
                  </a:lnTo>
                  <a:close/>
                </a:path>
              </a:pathLst>
            </a:custGeom>
            <a:solidFill>
              <a:srgbClr val="757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01280" y="3479400"/>
              <a:ext cx="55800" cy="60120"/>
            </a:xfrm>
            <a:custGeom>
              <a:avLst/>
              <a:gdLst/>
              <a:ahLst/>
              <a:rect l="l" t="t" r="r" b="b"/>
              <a:pathLst>
                <a:path w="1271" h="1257">
                  <a:moveTo>
                    <a:pt x="1271" y="31"/>
                  </a:moveTo>
                  <a:lnTo>
                    <a:pt x="1195" y="0"/>
                  </a:lnTo>
                  <a:lnTo>
                    <a:pt x="0" y="1195"/>
                  </a:lnTo>
                  <a:lnTo>
                    <a:pt x="63" y="1257"/>
                  </a:lnTo>
                  <a:lnTo>
                    <a:pt x="1258" y="62"/>
                  </a:lnTo>
                  <a:lnTo>
                    <a:pt x="1271" y="31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53120" y="3481200"/>
              <a:ext cx="3960" cy="461520"/>
            </a:xfrm>
            <a:custGeom>
              <a:avLst/>
              <a:gdLst/>
              <a:ahLst/>
              <a:rect l="l" t="t" r="r" b="b"/>
              <a:pathLst>
                <a:path w="89" h="9590">
                  <a:moveTo>
                    <a:pt x="76" y="9590"/>
                  </a:moveTo>
                  <a:lnTo>
                    <a:pt x="89" y="9559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9559"/>
                  </a:lnTo>
                  <a:lnTo>
                    <a:pt x="76" y="959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01280" y="3939840"/>
              <a:ext cx="55800" cy="60120"/>
            </a:xfrm>
            <a:custGeom>
              <a:avLst/>
              <a:gdLst/>
              <a:ahLst/>
              <a:rect l="l" t="t" r="r" b="b"/>
              <a:pathLst>
                <a:path w="1271" h="1261">
                  <a:moveTo>
                    <a:pt x="0" y="1229"/>
                  </a:moveTo>
                  <a:lnTo>
                    <a:pt x="76" y="1261"/>
                  </a:lnTo>
                  <a:lnTo>
                    <a:pt x="1271" y="62"/>
                  </a:lnTo>
                  <a:lnTo>
                    <a:pt x="1208" y="0"/>
                  </a:lnTo>
                  <a:lnTo>
                    <a:pt x="13" y="1198"/>
                  </a:lnTo>
                  <a:lnTo>
                    <a:pt x="0" y="1229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01280" y="3538440"/>
              <a:ext cx="4320" cy="459720"/>
            </a:xfrm>
            <a:custGeom>
              <a:avLst/>
              <a:gdLst/>
              <a:ahLst/>
              <a:rect l="l" t="t" r="r" b="b"/>
              <a:pathLst>
                <a:path w="89" h="9593">
                  <a:moveTo>
                    <a:pt x="13" y="0"/>
                  </a:moveTo>
                  <a:lnTo>
                    <a:pt x="0" y="31"/>
                  </a:lnTo>
                  <a:lnTo>
                    <a:pt x="0" y="9593"/>
                  </a:lnTo>
                  <a:lnTo>
                    <a:pt x="89" y="9593"/>
                  </a:lnTo>
                  <a:lnTo>
                    <a:pt x="89" y="3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77560" y="3287520"/>
              <a:ext cx="425160" cy="250560"/>
            </a:xfrm>
            <a:prstGeom prst="rect">
              <a:avLst/>
            </a:prstGeom>
            <a:solidFill>
              <a:srgbClr val="b73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76480" y="3287520"/>
              <a:ext cx="3960" cy="252000"/>
            </a:xfrm>
            <a:custGeom>
              <a:avLst/>
              <a:gdLst/>
              <a:ahLst/>
              <a:rect l="l" t="t" r="r" b="b"/>
              <a:pathLst>
                <a:path w="89" h="5268">
                  <a:moveTo>
                    <a:pt x="44" y="5268"/>
                  </a:moveTo>
                  <a:lnTo>
                    <a:pt x="89" y="5224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5224"/>
                  </a:lnTo>
                  <a:lnTo>
                    <a:pt x="44" y="5268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77560" y="3536640"/>
              <a:ext cx="425160" cy="2880"/>
            </a:xfrm>
            <a:custGeom>
              <a:avLst/>
              <a:gdLst/>
              <a:ahLst/>
              <a:rect l="l" t="t" r="r" b="b"/>
              <a:pathLst>
                <a:path w="9772" h="88">
                  <a:moveTo>
                    <a:pt x="9772" y="44"/>
                  </a:moveTo>
                  <a:lnTo>
                    <a:pt x="9727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9727" y="88"/>
                  </a:lnTo>
                  <a:lnTo>
                    <a:pt x="9772" y="44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99840" y="3284280"/>
              <a:ext cx="2880" cy="253800"/>
            </a:xfrm>
            <a:custGeom>
              <a:avLst/>
              <a:gdLst/>
              <a:ahLst/>
              <a:rect l="l" t="t" r="r" b="b"/>
              <a:pathLst>
                <a:path w="89" h="5269">
                  <a:moveTo>
                    <a:pt x="44" y="0"/>
                  </a:moveTo>
                  <a:lnTo>
                    <a:pt x="0" y="45"/>
                  </a:lnTo>
                  <a:lnTo>
                    <a:pt x="0" y="5269"/>
                  </a:lnTo>
                  <a:lnTo>
                    <a:pt x="89" y="5269"/>
                  </a:lnTo>
                  <a:lnTo>
                    <a:pt x="89" y="4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6480" y="3284280"/>
              <a:ext cx="424800" cy="4320"/>
            </a:xfrm>
            <a:custGeom>
              <a:avLst/>
              <a:gdLst/>
              <a:ahLst/>
              <a:rect l="l" t="t" r="r" b="b"/>
              <a:pathLst>
                <a:path w="9771" h="89">
                  <a:moveTo>
                    <a:pt x="0" y="45"/>
                  </a:moveTo>
                  <a:lnTo>
                    <a:pt x="44" y="89"/>
                  </a:lnTo>
                  <a:lnTo>
                    <a:pt x="9771" y="89"/>
                  </a:lnTo>
                  <a:lnTo>
                    <a:pt x="9771" y="0"/>
                  </a:lnTo>
                  <a:lnTo>
                    <a:pt x="4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77560" y="3228840"/>
              <a:ext cx="475200" cy="58320"/>
            </a:xfrm>
            <a:custGeom>
              <a:avLst/>
              <a:gdLst/>
              <a:ahLst/>
              <a:rect l="l" t="t" r="r" b="b"/>
              <a:pathLst>
                <a:path w="10922" h="1196">
                  <a:moveTo>
                    <a:pt x="0" y="1196"/>
                  </a:moveTo>
                  <a:lnTo>
                    <a:pt x="1198" y="0"/>
                  </a:lnTo>
                  <a:lnTo>
                    <a:pt x="10922" y="0"/>
                  </a:lnTo>
                  <a:lnTo>
                    <a:pt x="9727" y="1196"/>
                  </a:lnTo>
                  <a:lnTo>
                    <a:pt x="0" y="1196"/>
                  </a:lnTo>
                  <a:close/>
                </a:path>
              </a:pathLst>
            </a:custGeom>
            <a:solidFill>
              <a:srgbClr val="d25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76480" y="3227040"/>
              <a:ext cx="55800" cy="61560"/>
            </a:xfrm>
            <a:custGeom>
              <a:avLst/>
              <a:gdLst/>
              <a:ahLst/>
              <a:rect l="l" t="t" r="r" b="b"/>
              <a:pathLst>
                <a:path w="1261" h="1271">
                  <a:moveTo>
                    <a:pt x="1229" y="0"/>
                  </a:moveTo>
                  <a:lnTo>
                    <a:pt x="1198" y="13"/>
                  </a:lnTo>
                  <a:lnTo>
                    <a:pt x="0" y="1208"/>
                  </a:lnTo>
                  <a:lnTo>
                    <a:pt x="63" y="1271"/>
                  </a:lnTo>
                  <a:lnTo>
                    <a:pt x="1261" y="76"/>
                  </a:lnTo>
                  <a:lnTo>
                    <a:pt x="1229" y="0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30840" y="3227040"/>
              <a:ext cx="423000" cy="4680"/>
            </a:xfrm>
            <a:custGeom>
              <a:avLst/>
              <a:gdLst/>
              <a:ahLst/>
              <a:rect l="l" t="t" r="r" b="b"/>
              <a:pathLst>
                <a:path w="9756" h="89">
                  <a:moveTo>
                    <a:pt x="9756" y="76"/>
                  </a:moveTo>
                  <a:lnTo>
                    <a:pt x="9724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9724" y="89"/>
                  </a:lnTo>
                  <a:lnTo>
                    <a:pt x="9756" y="76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99840" y="3227040"/>
              <a:ext cx="54360" cy="61560"/>
            </a:xfrm>
            <a:custGeom>
              <a:avLst/>
              <a:gdLst/>
              <a:ahLst/>
              <a:rect l="l" t="t" r="r" b="b"/>
              <a:pathLst>
                <a:path w="1258" h="1271">
                  <a:moveTo>
                    <a:pt x="31" y="1271"/>
                  </a:moveTo>
                  <a:lnTo>
                    <a:pt x="63" y="1258"/>
                  </a:lnTo>
                  <a:lnTo>
                    <a:pt x="1258" y="63"/>
                  </a:lnTo>
                  <a:lnTo>
                    <a:pt x="1195" y="0"/>
                  </a:lnTo>
                  <a:lnTo>
                    <a:pt x="0" y="1195"/>
                  </a:lnTo>
                  <a:lnTo>
                    <a:pt x="31" y="1271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76480" y="3284280"/>
              <a:ext cx="424800" cy="4320"/>
            </a:xfrm>
            <a:custGeom>
              <a:avLst/>
              <a:gdLst/>
              <a:ahLst/>
              <a:rect l="l" t="t" r="r" b="b"/>
              <a:pathLst>
                <a:path w="9758" h="89">
                  <a:moveTo>
                    <a:pt x="0" y="13"/>
                  </a:moveTo>
                  <a:lnTo>
                    <a:pt x="31" y="89"/>
                  </a:lnTo>
                  <a:lnTo>
                    <a:pt x="9758" y="89"/>
                  </a:lnTo>
                  <a:lnTo>
                    <a:pt x="9758" y="0"/>
                  </a:lnTo>
                  <a:lnTo>
                    <a:pt x="3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84120" y="3355920"/>
              <a:ext cx="200880" cy="99360"/>
            </a:xfrm>
            <a:custGeom>
              <a:avLst/>
              <a:gdLst/>
              <a:ahLst/>
              <a:rect l="l" t="t" r="r" b="b"/>
              <a:pathLst>
                <a:path w="4614" h="2079">
                  <a:moveTo>
                    <a:pt x="0" y="194"/>
                  </a:moveTo>
                  <a:lnTo>
                    <a:pt x="99" y="0"/>
                  </a:lnTo>
                  <a:lnTo>
                    <a:pt x="4614" y="1885"/>
                  </a:lnTo>
                  <a:lnTo>
                    <a:pt x="4513" y="207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9400" y="3335040"/>
              <a:ext cx="307080" cy="12240"/>
            </a:xfrm>
            <a:custGeom>
              <a:avLst/>
              <a:gdLst/>
              <a:ahLst/>
              <a:rect l="l" t="t" r="r" b="b"/>
              <a:pathLst>
                <a:path w="7059" h="239">
                  <a:moveTo>
                    <a:pt x="6939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7059" y="239"/>
                  </a:lnTo>
                  <a:lnTo>
                    <a:pt x="7059" y="0"/>
                  </a:lnTo>
                  <a:lnTo>
                    <a:pt x="69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29400" y="3463560"/>
              <a:ext cx="307080" cy="10800"/>
            </a:xfrm>
            <a:custGeom>
              <a:avLst/>
              <a:gdLst/>
              <a:ahLst/>
              <a:rect l="l" t="t" r="r" b="b"/>
              <a:pathLst>
                <a:path w="7059" h="238">
                  <a:moveTo>
                    <a:pt x="6939" y="0"/>
                  </a:moveTo>
                  <a:lnTo>
                    <a:pt x="0" y="0"/>
                  </a:lnTo>
                  <a:lnTo>
                    <a:pt x="0" y="238"/>
                  </a:lnTo>
                  <a:lnTo>
                    <a:pt x="7059" y="238"/>
                  </a:lnTo>
                  <a:lnTo>
                    <a:pt x="7059" y="0"/>
                  </a:lnTo>
                  <a:lnTo>
                    <a:pt x="69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04920" y="3314520"/>
              <a:ext cx="90360" cy="53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4920" y="3314520"/>
              <a:ext cx="90360" cy="536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66280" y="3314520"/>
              <a:ext cx="90360" cy="53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66280" y="3314520"/>
              <a:ext cx="90360" cy="536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04920" y="3441600"/>
              <a:ext cx="90360" cy="53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04920" y="3441600"/>
              <a:ext cx="90360" cy="536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66280" y="3441600"/>
              <a:ext cx="90360" cy="53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66280" y="3441600"/>
              <a:ext cx="90360" cy="5364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79800" y="3355920"/>
              <a:ext cx="200880" cy="99360"/>
            </a:xfrm>
            <a:custGeom>
              <a:avLst/>
              <a:gdLst/>
              <a:ahLst/>
              <a:rect l="l" t="t" r="r" b="b"/>
              <a:pathLst>
                <a:path w="4614" h="2079">
                  <a:moveTo>
                    <a:pt x="4513" y="0"/>
                  </a:moveTo>
                  <a:lnTo>
                    <a:pt x="4614" y="194"/>
                  </a:lnTo>
                  <a:lnTo>
                    <a:pt x="101" y="2079"/>
                  </a:lnTo>
                  <a:lnTo>
                    <a:pt x="0" y="1885"/>
                  </a:lnTo>
                  <a:lnTo>
                    <a:pt x="45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88440" y="3360600"/>
              <a:ext cx="199440" cy="99720"/>
            </a:xfrm>
            <a:custGeom>
              <a:avLst/>
              <a:gdLst/>
              <a:ahLst/>
              <a:rect l="l" t="t" r="r" b="b"/>
              <a:pathLst>
                <a:path w="4616" h="2080">
                  <a:moveTo>
                    <a:pt x="0" y="195"/>
                  </a:moveTo>
                  <a:lnTo>
                    <a:pt x="101" y="0"/>
                  </a:lnTo>
                  <a:lnTo>
                    <a:pt x="4616" y="1885"/>
                  </a:lnTo>
                  <a:lnTo>
                    <a:pt x="4515" y="208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33720" y="3339720"/>
              <a:ext cx="307080" cy="10800"/>
            </a:xfrm>
            <a:custGeom>
              <a:avLst/>
              <a:gdLst/>
              <a:ahLst/>
              <a:rect l="l" t="t" r="r" b="b"/>
              <a:pathLst>
                <a:path w="7060" h="239">
                  <a:moveTo>
                    <a:pt x="6940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7060" y="239"/>
                  </a:lnTo>
                  <a:lnTo>
                    <a:pt x="7060" y="0"/>
                  </a:lnTo>
                  <a:lnTo>
                    <a:pt x="69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33720" y="3466800"/>
              <a:ext cx="307080" cy="12240"/>
            </a:xfrm>
            <a:custGeom>
              <a:avLst/>
              <a:gdLst/>
              <a:ahLst/>
              <a:rect l="l" t="t" r="r" b="b"/>
              <a:pathLst>
                <a:path w="7060" h="239">
                  <a:moveTo>
                    <a:pt x="6940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7060" y="239"/>
                  </a:lnTo>
                  <a:lnTo>
                    <a:pt x="7060" y="0"/>
                  </a:lnTo>
                  <a:lnTo>
                    <a:pt x="69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7800" y="3319200"/>
              <a:ext cx="9036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07800" y="3319200"/>
              <a:ext cx="90360" cy="53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70600" y="3319200"/>
              <a:ext cx="9036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70600" y="3319200"/>
              <a:ext cx="90360" cy="53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07800" y="3446280"/>
              <a:ext cx="9036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07800" y="3446280"/>
              <a:ext cx="90360" cy="53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70600" y="3446280"/>
              <a:ext cx="9036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70600" y="3446280"/>
              <a:ext cx="90360" cy="53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84120" y="3360600"/>
              <a:ext cx="200880" cy="99720"/>
            </a:xfrm>
            <a:custGeom>
              <a:avLst/>
              <a:gdLst/>
              <a:ahLst/>
              <a:rect l="l" t="t" r="r" b="b"/>
              <a:pathLst>
                <a:path w="4614" h="2080">
                  <a:moveTo>
                    <a:pt x="4513" y="0"/>
                  </a:moveTo>
                  <a:lnTo>
                    <a:pt x="4614" y="195"/>
                  </a:lnTo>
                  <a:lnTo>
                    <a:pt x="99" y="2080"/>
                  </a:lnTo>
                  <a:lnTo>
                    <a:pt x="0" y="1885"/>
                  </a:lnTo>
                  <a:lnTo>
                    <a:pt x="45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0680" y="3587400"/>
              <a:ext cx="343080" cy="365040"/>
            </a:xfrm>
            <a:prstGeom prst="rect">
              <a:avLst/>
            </a:prstGeom>
            <a:solidFill>
              <a:srgbClr val="757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09240" y="3951000"/>
              <a:ext cx="344520" cy="4320"/>
            </a:xfrm>
            <a:custGeom>
              <a:avLst/>
              <a:gdLst/>
              <a:ahLst/>
              <a:rect l="l" t="t" r="r" b="b"/>
              <a:pathLst>
                <a:path w="7923" h="88">
                  <a:moveTo>
                    <a:pt x="0" y="43"/>
                  </a:moveTo>
                  <a:lnTo>
                    <a:pt x="45" y="88"/>
                  </a:lnTo>
                  <a:lnTo>
                    <a:pt x="7923" y="88"/>
                  </a:lnTo>
                  <a:lnTo>
                    <a:pt x="7923" y="0"/>
                  </a:lnTo>
                  <a:lnTo>
                    <a:pt x="45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09240" y="3584520"/>
              <a:ext cx="4320" cy="367920"/>
            </a:xfrm>
            <a:custGeom>
              <a:avLst/>
              <a:gdLst/>
              <a:ahLst/>
              <a:rect l="l" t="t" r="r" b="b"/>
              <a:pathLst>
                <a:path w="89" h="7659">
                  <a:moveTo>
                    <a:pt x="45" y="0"/>
                  </a:moveTo>
                  <a:lnTo>
                    <a:pt x="0" y="45"/>
                  </a:lnTo>
                  <a:lnTo>
                    <a:pt x="0" y="7659"/>
                  </a:lnTo>
                  <a:lnTo>
                    <a:pt x="89" y="7659"/>
                  </a:lnTo>
                  <a:lnTo>
                    <a:pt x="89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10680" y="3584520"/>
              <a:ext cx="345960" cy="4320"/>
            </a:xfrm>
            <a:custGeom>
              <a:avLst/>
              <a:gdLst/>
              <a:ahLst/>
              <a:rect l="l" t="t" r="r" b="b"/>
              <a:pathLst>
                <a:path w="7923" h="89">
                  <a:moveTo>
                    <a:pt x="7923" y="45"/>
                  </a:moveTo>
                  <a:lnTo>
                    <a:pt x="7878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7878" y="89"/>
                  </a:lnTo>
                  <a:lnTo>
                    <a:pt x="7923" y="45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52320" y="3587400"/>
              <a:ext cx="4320" cy="367920"/>
            </a:xfrm>
            <a:custGeom>
              <a:avLst/>
              <a:gdLst/>
              <a:ahLst/>
              <a:rect l="l" t="t" r="r" b="b"/>
              <a:pathLst>
                <a:path w="88" h="7659">
                  <a:moveTo>
                    <a:pt x="43" y="7659"/>
                  </a:moveTo>
                  <a:lnTo>
                    <a:pt x="88" y="7614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7614"/>
                  </a:lnTo>
                  <a:lnTo>
                    <a:pt x="43" y="7659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56760" y="3635280"/>
              <a:ext cx="252360" cy="26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55320" y="3903480"/>
              <a:ext cx="253800" cy="2880"/>
            </a:xfrm>
            <a:custGeom>
              <a:avLst/>
              <a:gdLst/>
              <a:ahLst/>
              <a:rect l="l" t="t" r="r" b="b"/>
              <a:pathLst>
                <a:path w="5842" h="89">
                  <a:moveTo>
                    <a:pt x="0" y="45"/>
                  </a:moveTo>
                  <a:lnTo>
                    <a:pt x="44" y="89"/>
                  </a:lnTo>
                  <a:lnTo>
                    <a:pt x="5842" y="89"/>
                  </a:lnTo>
                  <a:lnTo>
                    <a:pt x="5842" y="0"/>
                  </a:lnTo>
                  <a:lnTo>
                    <a:pt x="4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55320" y="3633480"/>
              <a:ext cx="2520" cy="271080"/>
            </a:xfrm>
            <a:custGeom>
              <a:avLst/>
              <a:gdLst/>
              <a:ahLst/>
              <a:rect l="l" t="t" r="r" b="b"/>
              <a:pathLst>
                <a:path w="89" h="5647">
                  <a:moveTo>
                    <a:pt x="44" y="0"/>
                  </a:moveTo>
                  <a:lnTo>
                    <a:pt x="0" y="44"/>
                  </a:lnTo>
                  <a:lnTo>
                    <a:pt x="0" y="5647"/>
                  </a:lnTo>
                  <a:lnTo>
                    <a:pt x="89" y="5647"/>
                  </a:lnTo>
                  <a:lnTo>
                    <a:pt x="89" y="4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56760" y="3633480"/>
              <a:ext cx="253800" cy="4320"/>
            </a:xfrm>
            <a:custGeom>
              <a:avLst/>
              <a:gdLst/>
              <a:ahLst/>
              <a:rect l="l" t="t" r="r" b="b"/>
              <a:pathLst>
                <a:path w="5842" h="88">
                  <a:moveTo>
                    <a:pt x="5842" y="44"/>
                  </a:moveTo>
                  <a:lnTo>
                    <a:pt x="5798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5798" y="88"/>
                  </a:lnTo>
                  <a:lnTo>
                    <a:pt x="5842" y="44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06600" y="3635280"/>
              <a:ext cx="3960" cy="271080"/>
            </a:xfrm>
            <a:custGeom>
              <a:avLst/>
              <a:gdLst/>
              <a:ahLst/>
              <a:rect l="l" t="t" r="r" b="b"/>
              <a:pathLst>
                <a:path w="89" h="5647">
                  <a:moveTo>
                    <a:pt x="45" y="5647"/>
                  </a:moveTo>
                  <a:lnTo>
                    <a:pt x="89" y="5603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5603"/>
                  </a:lnTo>
                  <a:lnTo>
                    <a:pt x="45" y="5647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03080" y="3228840"/>
              <a:ext cx="52920" cy="309240"/>
            </a:xfrm>
            <a:custGeom>
              <a:avLst/>
              <a:gdLst/>
              <a:ahLst/>
              <a:rect l="l" t="t" r="r" b="b"/>
              <a:pathLst>
                <a:path w="1195" h="6420">
                  <a:moveTo>
                    <a:pt x="0" y="1196"/>
                  </a:moveTo>
                  <a:lnTo>
                    <a:pt x="1195" y="0"/>
                  </a:lnTo>
                  <a:lnTo>
                    <a:pt x="1195" y="5222"/>
                  </a:lnTo>
                  <a:lnTo>
                    <a:pt x="0" y="6420"/>
                  </a:lnTo>
                  <a:lnTo>
                    <a:pt x="0" y="1196"/>
                  </a:lnTo>
                  <a:close/>
                </a:path>
              </a:pathLst>
            </a:custGeom>
            <a:solidFill>
              <a:srgbClr val="762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01280" y="3224160"/>
              <a:ext cx="55800" cy="64800"/>
            </a:xfrm>
            <a:custGeom>
              <a:avLst/>
              <a:gdLst/>
              <a:ahLst/>
              <a:rect l="l" t="t" r="r" b="b"/>
              <a:pathLst>
                <a:path w="1271" h="1334">
                  <a:moveTo>
                    <a:pt x="1271" y="107"/>
                  </a:moveTo>
                  <a:lnTo>
                    <a:pt x="1195" y="76"/>
                  </a:lnTo>
                  <a:lnTo>
                    <a:pt x="0" y="1271"/>
                  </a:lnTo>
                  <a:lnTo>
                    <a:pt x="63" y="1334"/>
                  </a:lnTo>
                  <a:lnTo>
                    <a:pt x="1258" y="139"/>
                  </a:lnTo>
                  <a:lnTo>
                    <a:pt x="1271" y="107"/>
                  </a:lnTo>
                  <a:lnTo>
                    <a:pt x="1271" y="107"/>
                  </a:lnTo>
                  <a:lnTo>
                    <a:pt x="1271" y="0"/>
                  </a:lnTo>
                  <a:lnTo>
                    <a:pt x="1195" y="76"/>
                  </a:lnTo>
                  <a:lnTo>
                    <a:pt x="1271" y="107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53120" y="3228840"/>
              <a:ext cx="3960" cy="253440"/>
            </a:xfrm>
            <a:custGeom>
              <a:avLst/>
              <a:gdLst/>
              <a:ahLst/>
              <a:rect l="l" t="t" r="r" b="b"/>
              <a:pathLst>
                <a:path w="89" h="5253">
                  <a:moveTo>
                    <a:pt x="76" y="5253"/>
                  </a:moveTo>
                  <a:lnTo>
                    <a:pt x="89" y="5222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5222"/>
                  </a:lnTo>
                  <a:lnTo>
                    <a:pt x="76" y="5253"/>
                  </a:lnTo>
                  <a:lnTo>
                    <a:pt x="76" y="5253"/>
                  </a:lnTo>
                  <a:lnTo>
                    <a:pt x="89" y="5240"/>
                  </a:lnTo>
                  <a:lnTo>
                    <a:pt x="89" y="5222"/>
                  </a:lnTo>
                  <a:lnTo>
                    <a:pt x="76" y="5253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01280" y="3479400"/>
              <a:ext cx="55800" cy="63360"/>
            </a:xfrm>
            <a:custGeom>
              <a:avLst/>
              <a:gdLst/>
              <a:ahLst/>
              <a:rect l="l" t="t" r="r" b="b"/>
              <a:pathLst>
                <a:path w="1271" h="1336">
                  <a:moveTo>
                    <a:pt x="0" y="1230"/>
                  </a:moveTo>
                  <a:lnTo>
                    <a:pt x="76" y="1261"/>
                  </a:lnTo>
                  <a:lnTo>
                    <a:pt x="1271" y="63"/>
                  </a:lnTo>
                  <a:lnTo>
                    <a:pt x="1208" y="0"/>
                  </a:lnTo>
                  <a:lnTo>
                    <a:pt x="13" y="1199"/>
                  </a:lnTo>
                  <a:lnTo>
                    <a:pt x="0" y="1230"/>
                  </a:lnTo>
                  <a:lnTo>
                    <a:pt x="0" y="1230"/>
                  </a:lnTo>
                  <a:lnTo>
                    <a:pt x="0" y="1336"/>
                  </a:lnTo>
                  <a:lnTo>
                    <a:pt x="76" y="1261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01280" y="3285720"/>
              <a:ext cx="4320" cy="252360"/>
            </a:xfrm>
            <a:custGeom>
              <a:avLst/>
              <a:gdLst/>
              <a:ahLst/>
              <a:rect l="l" t="t" r="r" b="b"/>
              <a:pathLst>
                <a:path w="89" h="5256">
                  <a:moveTo>
                    <a:pt x="13" y="0"/>
                  </a:moveTo>
                  <a:lnTo>
                    <a:pt x="0" y="32"/>
                  </a:lnTo>
                  <a:lnTo>
                    <a:pt x="0" y="5256"/>
                  </a:lnTo>
                  <a:lnTo>
                    <a:pt x="89" y="5256"/>
                  </a:lnTo>
                  <a:lnTo>
                    <a:pt x="89" y="3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3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429000" y="3362400"/>
            <a:ext cx="1085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IC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917800" y="4124160"/>
            <a:ext cx="539280" cy="789120"/>
            <a:chOff x="2917800" y="4124160"/>
            <a:chExt cx="539280" cy="789120"/>
          </a:xfrm>
        </p:grpSpPr>
        <p:sp>
          <p:nvSpPr>
            <p:cNvPr id="277" name=""/>
            <p:cNvSpPr/>
            <p:nvPr/>
          </p:nvSpPr>
          <p:spPr>
            <a:xfrm>
              <a:off x="2922480" y="4444920"/>
              <a:ext cx="474120" cy="466560"/>
            </a:xfrm>
            <a:prstGeom prst="rect">
              <a:avLst/>
            </a:prstGeom>
            <a:solidFill>
              <a:srgbClr val="a8a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19240" y="4444920"/>
              <a:ext cx="4320" cy="468360"/>
            </a:xfrm>
            <a:custGeom>
              <a:avLst/>
              <a:gdLst/>
              <a:ahLst/>
              <a:rect l="l" t="t" r="r" b="b"/>
              <a:pathLst>
                <a:path w="90" h="9746">
                  <a:moveTo>
                    <a:pt x="45" y="9746"/>
                  </a:moveTo>
                  <a:lnTo>
                    <a:pt x="90" y="9701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9701"/>
                  </a:lnTo>
                  <a:lnTo>
                    <a:pt x="45" y="9746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22480" y="4908240"/>
              <a:ext cx="475560" cy="5040"/>
            </a:xfrm>
            <a:custGeom>
              <a:avLst/>
              <a:gdLst/>
              <a:ahLst/>
              <a:rect l="l" t="t" r="r" b="b"/>
              <a:pathLst>
                <a:path w="9917" h="90">
                  <a:moveTo>
                    <a:pt x="9917" y="45"/>
                  </a:moveTo>
                  <a:lnTo>
                    <a:pt x="9872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9872" y="90"/>
                  </a:lnTo>
                  <a:lnTo>
                    <a:pt x="9917" y="45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95520" y="4441680"/>
              <a:ext cx="2520" cy="469800"/>
            </a:xfrm>
            <a:custGeom>
              <a:avLst/>
              <a:gdLst/>
              <a:ahLst/>
              <a:rect l="l" t="t" r="r" b="b"/>
              <a:pathLst>
                <a:path w="90" h="9746">
                  <a:moveTo>
                    <a:pt x="45" y="0"/>
                  </a:moveTo>
                  <a:lnTo>
                    <a:pt x="0" y="45"/>
                  </a:lnTo>
                  <a:lnTo>
                    <a:pt x="0" y="9746"/>
                  </a:lnTo>
                  <a:lnTo>
                    <a:pt x="90" y="9746"/>
                  </a:lnTo>
                  <a:lnTo>
                    <a:pt x="9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19240" y="4441680"/>
              <a:ext cx="477360" cy="4680"/>
            </a:xfrm>
            <a:custGeom>
              <a:avLst/>
              <a:gdLst/>
              <a:ahLst/>
              <a:rect l="l" t="t" r="r" b="b"/>
              <a:pathLst>
                <a:path w="9917" h="90">
                  <a:moveTo>
                    <a:pt x="0" y="45"/>
                  </a:moveTo>
                  <a:lnTo>
                    <a:pt x="45" y="90"/>
                  </a:lnTo>
                  <a:lnTo>
                    <a:pt x="9917" y="90"/>
                  </a:lnTo>
                  <a:lnTo>
                    <a:pt x="9917" y="0"/>
                  </a:lnTo>
                  <a:lnTo>
                    <a:pt x="45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66760" y="4492440"/>
              <a:ext cx="38376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65320" y="4860720"/>
              <a:ext cx="385200" cy="4680"/>
            </a:xfrm>
            <a:custGeom>
              <a:avLst/>
              <a:gdLst/>
              <a:ahLst/>
              <a:rect l="l" t="t" r="r" b="b"/>
              <a:pathLst>
                <a:path w="8041" h="90">
                  <a:moveTo>
                    <a:pt x="0" y="45"/>
                  </a:moveTo>
                  <a:lnTo>
                    <a:pt x="44" y="90"/>
                  </a:lnTo>
                  <a:lnTo>
                    <a:pt x="8041" y="90"/>
                  </a:lnTo>
                  <a:lnTo>
                    <a:pt x="8041" y="0"/>
                  </a:lnTo>
                  <a:lnTo>
                    <a:pt x="4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65320" y="4489200"/>
              <a:ext cx="4320" cy="374760"/>
            </a:xfrm>
            <a:custGeom>
              <a:avLst/>
              <a:gdLst/>
              <a:ahLst/>
              <a:rect l="l" t="t" r="r" b="b"/>
              <a:pathLst>
                <a:path w="89" h="7770">
                  <a:moveTo>
                    <a:pt x="44" y="0"/>
                  </a:moveTo>
                  <a:lnTo>
                    <a:pt x="0" y="45"/>
                  </a:lnTo>
                  <a:lnTo>
                    <a:pt x="0" y="7770"/>
                  </a:lnTo>
                  <a:lnTo>
                    <a:pt x="89" y="7770"/>
                  </a:lnTo>
                  <a:lnTo>
                    <a:pt x="89" y="4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66760" y="4489200"/>
              <a:ext cx="387000" cy="5040"/>
            </a:xfrm>
            <a:custGeom>
              <a:avLst/>
              <a:gdLst/>
              <a:ahLst/>
              <a:rect l="l" t="t" r="r" b="b"/>
              <a:pathLst>
                <a:path w="8042" h="90">
                  <a:moveTo>
                    <a:pt x="8042" y="45"/>
                  </a:moveTo>
                  <a:lnTo>
                    <a:pt x="7997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7997" y="90"/>
                  </a:lnTo>
                  <a:lnTo>
                    <a:pt x="8042" y="45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49440" y="4492440"/>
              <a:ext cx="4320" cy="372960"/>
            </a:xfrm>
            <a:custGeom>
              <a:avLst/>
              <a:gdLst/>
              <a:ahLst/>
              <a:rect l="l" t="t" r="r" b="b"/>
              <a:pathLst>
                <a:path w="90" h="7770">
                  <a:moveTo>
                    <a:pt x="45" y="7770"/>
                  </a:moveTo>
                  <a:lnTo>
                    <a:pt x="90" y="7725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7725"/>
                  </a:lnTo>
                  <a:lnTo>
                    <a:pt x="45" y="777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60360" y="4579920"/>
              <a:ext cx="196560" cy="196560"/>
            </a:xfrm>
            <a:custGeom>
              <a:avLst/>
              <a:gdLst/>
              <a:ahLst/>
              <a:rect l="l" t="t" r="r" b="b"/>
              <a:pathLst>
                <a:path w="4088" h="4087">
                  <a:moveTo>
                    <a:pt x="4088" y="2043"/>
                  </a:moveTo>
                  <a:lnTo>
                    <a:pt x="4085" y="2148"/>
                  </a:lnTo>
                  <a:lnTo>
                    <a:pt x="4078" y="2252"/>
                  </a:lnTo>
                  <a:lnTo>
                    <a:pt x="4065" y="2354"/>
                  </a:lnTo>
                  <a:lnTo>
                    <a:pt x="4047" y="2455"/>
                  </a:lnTo>
                  <a:lnTo>
                    <a:pt x="4024" y="2554"/>
                  </a:lnTo>
                  <a:lnTo>
                    <a:pt x="3997" y="2650"/>
                  </a:lnTo>
                  <a:lnTo>
                    <a:pt x="3965" y="2745"/>
                  </a:lnTo>
                  <a:lnTo>
                    <a:pt x="3928" y="2838"/>
                  </a:lnTo>
                  <a:lnTo>
                    <a:pt x="3887" y="2929"/>
                  </a:lnTo>
                  <a:lnTo>
                    <a:pt x="3842" y="3017"/>
                  </a:lnTo>
                  <a:lnTo>
                    <a:pt x="3792" y="3102"/>
                  </a:lnTo>
                  <a:lnTo>
                    <a:pt x="3739" y="3185"/>
                  </a:lnTo>
                  <a:lnTo>
                    <a:pt x="3682" y="3266"/>
                  </a:lnTo>
                  <a:lnTo>
                    <a:pt x="3622" y="3342"/>
                  </a:lnTo>
                  <a:lnTo>
                    <a:pt x="3557" y="3417"/>
                  </a:lnTo>
                  <a:lnTo>
                    <a:pt x="3490" y="3488"/>
                  </a:lnTo>
                  <a:lnTo>
                    <a:pt x="3418" y="3556"/>
                  </a:lnTo>
                  <a:lnTo>
                    <a:pt x="3345" y="3620"/>
                  </a:lnTo>
                  <a:lnTo>
                    <a:pt x="3267" y="3680"/>
                  </a:lnTo>
                  <a:lnTo>
                    <a:pt x="3188" y="3737"/>
                  </a:lnTo>
                  <a:lnTo>
                    <a:pt x="3104" y="3790"/>
                  </a:lnTo>
                  <a:lnTo>
                    <a:pt x="3019" y="3839"/>
                  </a:lnTo>
                  <a:lnTo>
                    <a:pt x="2930" y="3884"/>
                  </a:lnTo>
                  <a:lnTo>
                    <a:pt x="2840" y="3925"/>
                  </a:lnTo>
                  <a:lnTo>
                    <a:pt x="2747" y="3962"/>
                  </a:lnTo>
                  <a:lnTo>
                    <a:pt x="2653" y="3995"/>
                  </a:lnTo>
                  <a:lnTo>
                    <a:pt x="2555" y="4022"/>
                  </a:lnTo>
                  <a:lnTo>
                    <a:pt x="2456" y="4045"/>
                  </a:lnTo>
                  <a:lnTo>
                    <a:pt x="2355" y="4063"/>
                  </a:lnTo>
                  <a:lnTo>
                    <a:pt x="2253" y="4075"/>
                  </a:lnTo>
                  <a:lnTo>
                    <a:pt x="2150" y="4083"/>
                  </a:lnTo>
                  <a:lnTo>
                    <a:pt x="2045" y="4087"/>
                  </a:lnTo>
                  <a:lnTo>
                    <a:pt x="1940" y="4083"/>
                  </a:lnTo>
                  <a:lnTo>
                    <a:pt x="1835" y="4075"/>
                  </a:lnTo>
                  <a:lnTo>
                    <a:pt x="1733" y="4063"/>
                  </a:lnTo>
                  <a:lnTo>
                    <a:pt x="1632" y="4045"/>
                  </a:lnTo>
                  <a:lnTo>
                    <a:pt x="1533" y="4022"/>
                  </a:lnTo>
                  <a:lnTo>
                    <a:pt x="1437" y="3995"/>
                  </a:lnTo>
                  <a:lnTo>
                    <a:pt x="1342" y="3962"/>
                  </a:lnTo>
                  <a:lnTo>
                    <a:pt x="1249" y="3925"/>
                  </a:lnTo>
                  <a:lnTo>
                    <a:pt x="1158" y="3884"/>
                  </a:lnTo>
                  <a:lnTo>
                    <a:pt x="1071" y="3839"/>
                  </a:lnTo>
                  <a:lnTo>
                    <a:pt x="985" y="3790"/>
                  </a:lnTo>
                  <a:lnTo>
                    <a:pt x="902" y="3737"/>
                  </a:lnTo>
                  <a:lnTo>
                    <a:pt x="821" y="3680"/>
                  </a:lnTo>
                  <a:lnTo>
                    <a:pt x="745" y="3620"/>
                  </a:lnTo>
                  <a:lnTo>
                    <a:pt x="670" y="3556"/>
                  </a:lnTo>
                  <a:lnTo>
                    <a:pt x="599" y="3488"/>
                  </a:lnTo>
                  <a:lnTo>
                    <a:pt x="531" y="3417"/>
                  </a:lnTo>
                  <a:lnTo>
                    <a:pt x="467" y="3342"/>
                  </a:lnTo>
                  <a:lnTo>
                    <a:pt x="407" y="3266"/>
                  </a:lnTo>
                  <a:lnTo>
                    <a:pt x="349" y="3185"/>
                  </a:lnTo>
                  <a:lnTo>
                    <a:pt x="296" y="3102"/>
                  </a:lnTo>
                  <a:lnTo>
                    <a:pt x="247" y="3017"/>
                  </a:lnTo>
                  <a:lnTo>
                    <a:pt x="202" y="2929"/>
                  </a:lnTo>
                  <a:lnTo>
                    <a:pt x="162" y="2838"/>
                  </a:lnTo>
                  <a:lnTo>
                    <a:pt x="125" y="2745"/>
                  </a:lnTo>
                  <a:lnTo>
                    <a:pt x="92" y="2650"/>
                  </a:lnTo>
                  <a:lnTo>
                    <a:pt x="65" y="2554"/>
                  </a:lnTo>
                  <a:lnTo>
                    <a:pt x="42" y="2455"/>
                  </a:lnTo>
                  <a:lnTo>
                    <a:pt x="24" y="2354"/>
                  </a:lnTo>
                  <a:lnTo>
                    <a:pt x="11" y="2252"/>
                  </a:lnTo>
                  <a:lnTo>
                    <a:pt x="3" y="2148"/>
                  </a:lnTo>
                  <a:lnTo>
                    <a:pt x="0" y="2043"/>
                  </a:lnTo>
                  <a:lnTo>
                    <a:pt x="3" y="1937"/>
                  </a:lnTo>
                  <a:lnTo>
                    <a:pt x="11" y="1834"/>
                  </a:lnTo>
                  <a:lnTo>
                    <a:pt x="24" y="1732"/>
                  </a:lnTo>
                  <a:lnTo>
                    <a:pt x="42" y="1631"/>
                  </a:lnTo>
                  <a:lnTo>
                    <a:pt x="65" y="1532"/>
                  </a:lnTo>
                  <a:lnTo>
                    <a:pt x="92" y="1435"/>
                  </a:lnTo>
                  <a:lnTo>
                    <a:pt x="125" y="1340"/>
                  </a:lnTo>
                  <a:lnTo>
                    <a:pt x="162" y="1247"/>
                  </a:lnTo>
                  <a:lnTo>
                    <a:pt x="202" y="1157"/>
                  </a:lnTo>
                  <a:lnTo>
                    <a:pt x="247" y="1069"/>
                  </a:lnTo>
                  <a:lnTo>
                    <a:pt x="296" y="983"/>
                  </a:lnTo>
                  <a:lnTo>
                    <a:pt x="349" y="900"/>
                  </a:lnTo>
                  <a:lnTo>
                    <a:pt x="407" y="821"/>
                  </a:lnTo>
                  <a:lnTo>
                    <a:pt x="467" y="743"/>
                  </a:lnTo>
                  <a:lnTo>
                    <a:pt x="531" y="669"/>
                  </a:lnTo>
                  <a:lnTo>
                    <a:pt x="599" y="598"/>
                  </a:lnTo>
                  <a:lnTo>
                    <a:pt x="670" y="531"/>
                  </a:lnTo>
                  <a:lnTo>
                    <a:pt x="745" y="466"/>
                  </a:lnTo>
                  <a:lnTo>
                    <a:pt x="821" y="405"/>
                  </a:lnTo>
                  <a:lnTo>
                    <a:pt x="902" y="349"/>
                  </a:lnTo>
                  <a:lnTo>
                    <a:pt x="985" y="296"/>
                  </a:lnTo>
                  <a:lnTo>
                    <a:pt x="1071" y="246"/>
                  </a:lnTo>
                  <a:lnTo>
                    <a:pt x="1158" y="201"/>
                  </a:lnTo>
                  <a:lnTo>
                    <a:pt x="1249" y="160"/>
                  </a:lnTo>
                  <a:lnTo>
                    <a:pt x="1342" y="123"/>
                  </a:lnTo>
                  <a:lnTo>
                    <a:pt x="1437" y="92"/>
                  </a:lnTo>
                  <a:lnTo>
                    <a:pt x="1533" y="64"/>
                  </a:lnTo>
                  <a:lnTo>
                    <a:pt x="1632" y="41"/>
                  </a:lnTo>
                  <a:lnTo>
                    <a:pt x="1733" y="23"/>
                  </a:lnTo>
                  <a:lnTo>
                    <a:pt x="1835" y="10"/>
                  </a:lnTo>
                  <a:lnTo>
                    <a:pt x="1940" y="2"/>
                  </a:lnTo>
                  <a:lnTo>
                    <a:pt x="2045" y="0"/>
                  </a:lnTo>
                  <a:lnTo>
                    <a:pt x="2150" y="2"/>
                  </a:lnTo>
                  <a:lnTo>
                    <a:pt x="2253" y="10"/>
                  </a:lnTo>
                  <a:lnTo>
                    <a:pt x="2355" y="23"/>
                  </a:lnTo>
                  <a:lnTo>
                    <a:pt x="2456" y="41"/>
                  </a:lnTo>
                  <a:lnTo>
                    <a:pt x="2555" y="64"/>
                  </a:lnTo>
                  <a:lnTo>
                    <a:pt x="2653" y="92"/>
                  </a:lnTo>
                  <a:lnTo>
                    <a:pt x="2747" y="123"/>
                  </a:lnTo>
                  <a:lnTo>
                    <a:pt x="2840" y="160"/>
                  </a:lnTo>
                  <a:lnTo>
                    <a:pt x="2930" y="201"/>
                  </a:lnTo>
                  <a:lnTo>
                    <a:pt x="3019" y="246"/>
                  </a:lnTo>
                  <a:lnTo>
                    <a:pt x="3104" y="296"/>
                  </a:lnTo>
                  <a:lnTo>
                    <a:pt x="3188" y="349"/>
                  </a:lnTo>
                  <a:lnTo>
                    <a:pt x="3267" y="405"/>
                  </a:lnTo>
                  <a:lnTo>
                    <a:pt x="3345" y="466"/>
                  </a:lnTo>
                  <a:lnTo>
                    <a:pt x="3418" y="531"/>
                  </a:lnTo>
                  <a:lnTo>
                    <a:pt x="3490" y="598"/>
                  </a:lnTo>
                  <a:lnTo>
                    <a:pt x="3557" y="669"/>
                  </a:lnTo>
                  <a:lnTo>
                    <a:pt x="3622" y="743"/>
                  </a:lnTo>
                  <a:lnTo>
                    <a:pt x="3682" y="821"/>
                  </a:lnTo>
                  <a:lnTo>
                    <a:pt x="3739" y="900"/>
                  </a:lnTo>
                  <a:lnTo>
                    <a:pt x="3792" y="983"/>
                  </a:lnTo>
                  <a:lnTo>
                    <a:pt x="3842" y="1069"/>
                  </a:lnTo>
                  <a:lnTo>
                    <a:pt x="3887" y="1157"/>
                  </a:lnTo>
                  <a:lnTo>
                    <a:pt x="3928" y="1247"/>
                  </a:lnTo>
                  <a:lnTo>
                    <a:pt x="3965" y="1340"/>
                  </a:lnTo>
                  <a:lnTo>
                    <a:pt x="3997" y="1435"/>
                  </a:lnTo>
                  <a:lnTo>
                    <a:pt x="4024" y="1532"/>
                  </a:lnTo>
                  <a:lnTo>
                    <a:pt x="4047" y="1631"/>
                  </a:lnTo>
                  <a:lnTo>
                    <a:pt x="4065" y="1732"/>
                  </a:lnTo>
                  <a:lnTo>
                    <a:pt x="4078" y="1834"/>
                  </a:lnTo>
                  <a:lnTo>
                    <a:pt x="4085" y="1937"/>
                  </a:lnTo>
                  <a:lnTo>
                    <a:pt x="4088" y="2043"/>
                  </a:lnTo>
                  <a:close/>
                </a:path>
              </a:pathLst>
            </a:custGeom>
            <a:solidFill>
              <a:srgbClr val="a8a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24080" y="4641840"/>
              <a:ext cx="70920" cy="71280"/>
            </a:xfrm>
            <a:custGeom>
              <a:avLst/>
              <a:gdLst/>
              <a:ahLst/>
              <a:rect l="l" t="t" r="r" b="b"/>
              <a:pathLst>
                <a:path w="1477" h="1477">
                  <a:moveTo>
                    <a:pt x="1477" y="739"/>
                  </a:moveTo>
                  <a:lnTo>
                    <a:pt x="1476" y="777"/>
                  </a:lnTo>
                  <a:lnTo>
                    <a:pt x="1473" y="814"/>
                  </a:lnTo>
                  <a:lnTo>
                    <a:pt x="1468" y="851"/>
                  </a:lnTo>
                  <a:lnTo>
                    <a:pt x="1462" y="888"/>
                  </a:lnTo>
                  <a:lnTo>
                    <a:pt x="1454" y="923"/>
                  </a:lnTo>
                  <a:lnTo>
                    <a:pt x="1444" y="958"/>
                  </a:lnTo>
                  <a:lnTo>
                    <a:pt x="1432" y="993"/>
                  </a:lnTo>
                  <a:lnTo>
                    <a:pt x="1419" y="1027"/>
                  </a:lnTo>
                  <a:lnTo>
                    <a:pt x="1404" y="1059"/>
                  </a:lnTo>
                  <a:lnTo>
                    <a:pt x="1387" y="1091"/>
                  </a:lnTo>
                  <a:lnTo>
                    <a:pt x="1370" y="1121"/>
                  </a:lnTo>
                  <a:lnTo>
                    <a:pt x="1351" y="1152"/>
                  </a:lnTo>
                  <a:lnTo>
                    <a:pt x="1330" y="1181"/>
                  </a:lnTo>
                  <a:lnTo>
                    <a:pt x="1309" y="1208"/>
                  </a:lnTo>
                  <a:lnTo>
                    <a:pt x="1285" y="1236"/>
                  </a:lnTo>
                  <a:lnTo>
                    <a:pt x="1261" y="1261"/>
                  </a:lnTo>
                  <a:lnTo>
                    <a:pt x="1235" y="1286"/>
                  </a:lnTo>
                  <a:lnTo>
                    <a:pt x="1209" y="1308"/>
                  </a:lnTo>
                  <a:lnTo>
                    <a:pt x="1180" y="1331"/>
                  </a:lnTo>
                  <a:lnTo>
                    <a:pt x="1151" y="1351"/>
                  </a:lnTo>
                  <a:lnTo>
                    <a:pt x="1122" y="1371"/>
                  </a:lnTo>
                  <a:lnTo>
                    <a:pt x="1090" y="1388"/>
                  </a:lnTo>
                  <a:lnTo>
                    <a:pt x="1059" y="1404"/>
                  </a:lnTo>
                  <a:lnTo>
                    <a:pt x="1026" y="1420"/>
                  </a:lnTo>
                  <a:lnTo>
                    <a:pt x="992" y="1432"/>
                  </a:lnTo>
                  <a:lnTo>
                    <a:pt x="958" y="1444"/>
                  </a:lnTo>
                  <a:lnTo>
                    <a:pt x="923" y="1454"/>
                  </a:lnTo>
                  <a:lnTo>
                    <a:pt x="887" y="1462"/>
                  </a:lnTo>
                  <a:lnTo>
                    <a:pt x="851" y="1469"/>
                  </a:lnTo>
                  <a:lnTo>
                    <a:pt x="814" y="1474"/>
                  </a:lnTo>
                  <a:lnTo>
                    <a:pt x="777" y="1476"/>
                  </a:lnTo>
                  <a:lnTo>
                    <a:pt x="739" y="1477"/>
                  </a:lnTo>
                  <a:lnTo>
                    <a:pt x="700" y="1476"/>
                  </a:lnTo>
                  <a:lnTo>
                    <a:pt x="663" y="1474"/>
                  </a:lnTo>
                  <a:lnTo>
                    <a:pt x="626" y="1469"/>
                  </a:lnTo>
                  <a:lnTo>
                    <a:pt x="590" y="1462"/>
                  </a:lnTo>
                  <a:lnTo>
                    <a:pt x="554" y="1454"/>
                  </a:lnTo>
                  <a:lnTo>
                    <a:pt x="519" y="1444"/>
                  </a:lnTo>
                  <a:lnTo>
                    <a:pt x="485" y="1432"/>
                  </a:lnTo>
                  <a:lnTo>
                    <a:pt x="451" y="1420"/>
                  </a:lnTo>
                  <a:lnTo>
                    <a:pt x="418" y="1404"/>
                  </a:lnTo>
                  <a:lnTo>
                    <a:pt x="386" y="1388"/>
                  </a:lnTo>
                  <a:lnTo>
                    <a:pt x="356" y="1371"/>
                  </a:lnTo>
                  <a:lnTo>
                    <a:pt x="325" y="1351"/>
                  </a:lnTo>
                  <a:lnTo>
                    <a:pt x="297" y="1331"/>
                  </a:lnTo>
                  <a:lnTo>
                    <a:pt x="269" y="1308"/>
                  </a:lnTo>
                  <a:lnTo>
                    <a:pt x="241" y="1286"/>
                  </a:lnTo>
                  <a:lnTo>
                    <a:pt x="216" y="1261"/>
                  </a:lnTo>
                  <a:lnTo>
                    <a:pt x="191" y="1236"/>
                  </a:lnTo>
                  <a:lnTo>
                    <a:pt x="169" y="1208"/>
                  </a:lnTo>
                  <a:lnTo>
                    <a:pt x="146" y="1181"/>
                  </a:lnTo>
                  <a:lnTo>
                    <a:pt x="126" y="1152"/>
                  </a:lnTo>
                  <a:lnTo>
                    <a:pt x="107" y="1121"/>
                  </a:lnTo>
                  <a:lnTo>
                    <a:pt x="89" y="1091"/>
                  </a:lnTo>
                  <a:lnTo>
                    <a:pt x="73" y="1059"/>
                  </a:lnTo>
                  <a:lnTo>
                    <a:pt x="58" y="1027"/>
                  </a:lnTo>
                  <a:lnTo>
                    <a:pt x="44" y="993"/>
                  </a:lnTo>
                  <a:lnTo>
                    <a:pt x="33" y="958"/>
                  </a:lnTo>
                  <a:lnTo>
                    <a:pt x="23" y="923"/>
                  </a:lnTo>
                  <a:lnTo>
                    <a:pt x="15" y="888"/>
                  </a:lnTo>
                  <a:lnTo>
                    <a:pt x="9" y="851"/>
                  </a:lnTo>
                  <a:lnTo>
                    <a:pt x="4" y="814"/>
                  </a:lnTo>
                  <a:lnTo>
                    <a:pt x="1" y="777"/>
                  </a:lnTo>
                  <a:lnTo>
                    <a:pt x="0" y="739"/>
                  </a:lnTo>
                  <a:lnTo>
                    <a:pt x="1" y="701"/>
                  </a:lnTo>
                  <a:lnTo>
                    <a:pt x="4" y="663"/>
                  </a:lnTo>
                  <a:lnTo>
                    <a:pt x="9" y="626"/>
                  </a:lnTo>
                  <a:lnTo>
                    <a:pt x="15" y="591"/>
                  </a:lnTo>
                  <a:lnTo>
                    <a:pt x="23" y="555"/>
                  </a:lnTo>
                  <a:lnTo>
                    <a:pt x="33" y="519"/>
                  </a:lnTo>
                  <a:lnTo>
                    <a:pt x="44" y="485"/>
                  </a:lnTo>
                  <a:lnTo>
                    <a:pt x="58" y="452"/>
                  </a:lnTo>
                  <a:lnTo>
                    <a:pt x="73" y="419"/>
                  </a:lnTo>
                  <a:lnTo>
                    <a:pt x="89" y="387"/>
                  </a:lnTo>
                  <a:lnTo>
                    <a:pt x="107" y="356"/>
                  </a:lnTo>
                  <a:lnTo>
                    <a:pt x="126" y="326"/>
                  </a:lnTo>
                  <a:lnTo>
                    <a:pt x="146" y="298"/>
                  </a:lnTo>
                  <a:lnTo>
                    <a:pt x="169" y="269"/>
                  </a:lnTo>
                  <a:lnTo>
                    <a:pt x="191" y="242"/>
                  </a:lnTo>
                  <a:lnTo>
                    <a:pt x="216" y="217"/>
                  </a:lnTo>
                  <a:lnTo>
                    <a:pt x="241" y="192"/>
                  </a:lnTo>
                  <a:lnTo>
                    <a:pt x="269" y="169"/>
                  </a:lnTo>
                  <a:lnTo>
                    <a:pt x="297" y="147"/>
                  </a:lnTo>
                  <a:lnTo>
                    <a:pt x="325" y="127"/>
                  </a:lnTo>
                  <a:lnTo>
                    <a:pt x="356" y="108"/>
                  </a:lnTo>
                  <a:lnTo>
                    <a:pt x="386" y="89"/>
                  </a:lnTo>
                  <a:lnTo>
                    <a:pt x="418" y="73"/>
                  </a:lnTo>
                  <a:lnTo>
                    <a:pt x="451" y="59"/>
                  </a:lnTo>
                  <a:lnTo>
                    <a:pt x="485" y="45"/>
                  </a:lnTo>
                  <a:lnTo>
                    <a:pt x="519" y="34"/>
                  </a:lnTo>
                  <a:lnTo>
                    <a:pt x="554" y="24"/>
                  </a:lnTo>
                  <a:lnTo>
                    <a:pt x="590" y="16"/>
                  </a:lnTo>
                  <a:lnTo>
                    <a:pt x="626" y="9"/>
                  </a:lnTo>
                  <a:lnTo>
                    <a:pt x="663" y="5"/>
                  </a:lnTo>
                  <a:lnTo>
                    <a:pt x="700" y="1"/>
                  </a:lnTo>
                  <a:lnTo>
                    <a:pt x="739" y="0"/>
                  </a:lnTo>
                  <a:lnTo>
                    <a:pt x="777" y="1"/>
                  </a:lnTo>
                  <a:lnTo>
                    <a:pt x="814" y="5"/>
                  </a:lnTo>
                  <a:lnTo>
                    <a:pt x="851" y="9"/>
                  </a:lnTo>
                  <a:lnTo>
                    <a:pt x="887" y="16"/>
                  </a:lnTo>
                  <a:lnTo>
                    <a:pt x="923" y="24"/>
                  </a:lnTo>
                  <a:lnTo>
                    <a:pt x="958" y="34"/>
                  </a:lnTo>
                  <a:lnTo>
                    <a:pt x="992" y="45"/>
                  </a:lnTo>
                  <a:lnTo>
                    <a:pt x="1026" y="59"/>
                  </a:lnTo>
                  <a:lnTo>
                    <a:pt x="1059" y="73"/>
                  </a:lnTo>
                  <a:lnTo>
                    <a:pt x="1090" y="89"/>
                  </a:lnTo>
                  <a:lnTo>
                    <a:pt x="1122" y="108"/>
                  </a:lnTo>
                  <a:lnTo>
                    <a:pt x="1151" y="127"/>
                  </a:lnTo>
                  <a:lnTo>
                    <a:pt x="1180" y="147"/>
                  </a:lnTo>
                  <a:lnTo>
                    <a:pt x="1209" y="169"/>
                  </a:lnTo>
                  <a:lnTo>
                    <a:pt x="1235" y="192"/>
                  </a:lnTo>
                  <a:lnTo>
                    <a:pt x="1261" y="217"/>
                  </a:lnTo>
                  <a:lnTo>
                    <a:pt x="1285" y="242"/>
                  </a:lnTo>
                  <a:lnTo>
                    <a:pt x="1309" y="269"/>
                  </a:lnTo>
                  <a:lnTo>
                    <a:pt x="1330" y="298"/>
                  </a:lnTo>
                  <a:lnTo>
                    <a:pt x="1351" y="326"/>
                  </a:lnTo>
                  <a:lnTo>
                    <a:pt x="1370" y="356"/>
                  </a:lnTo>
                  <a:lnTo>
                    <a:pt x="1387" y="387"/>
                  </a:lnTo>
                  <a:lnTo>
                    <a:pt x="1404" y="419"/>
                  </a:lnTo>
                  <a:lnTo>
                    <a:pt x="1419" y="452"/>
                  </a:lnTo>
                  <a:lnTo>
                    <a:pt x="1432" y="485"/>
                  </a:lnTo>
                  <a:lnTo>
                    <a:pt x="1444" y="519"/>
                  </a:lnTo>
                  <a:lnTo>
                    <a:pt x="1454" y="555"/>
                  </a:lnTo>
                  <a:lnTo>
                    <a:pt x="1462" y="591"/>
                  </a:lnTo>
                  <a:lnTo>
                    <a:pt x="1468" y="626"/>
                  </a:lnTo>
                  <a:lnTo>
                    <a:pt x="1473" y="663"/>
                  </a:lnTo>
                  <a:lnTo>
                    <a:pt x="1476" y="701"/>
                  </a:lnTo>
                  <a:lnTo>
                    <a:pt x="1477" y="7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19240" y="4386240"/>
              <a:ext cx="532800" cy="56880"/>
            </a:xfrm>
            <a:custGeom>
              <a:avLst/>
              <a:gdLst/>
              <a:ahLst/>
              <a:rect l="l" t="t" r="r" b="b"/>
              <a:pathLst>
                <a:path w="11085" h="1212">
                  <a:moveTo>
                    <a:pt x="0" y="1212"/>
                  </a:moveTo>
                  <a:lnTo>
                    <a:pt x="1215" y="0"/>
                  </a:lnTo>
                  <a:lnTo>
                    <a:pt x="11085" y="0"/>
                  </a:lnTo>
                  <a:lnTo>
                    <a:pt x="9872" y="1212"/>
                  </a:lnTo>
                  <a:lnTo>
                    <a:pt x="0" y="1212"/>
                  </a:lnTo>
                  <a:close/>
                </a:path>
              </a:pathLst>
            </a:custGeom>
            <a:solidFill>
              <a:srgbClr val="b9b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17800" y="4383000"/>
              <a:ext cx="61560" cy="61920"/>
            </a:xfrm>
            <a:custGeom>
              <a:avLst/>
              <a:gdLst/>
              <a:ahLst/>
              <a:rect l="l" t="t" r="r" b="b"/>
              <a:pathLst>
                <a:path w="1279" h="1290">
                  <a:moveTo>
                    <a:pt x="1247" y="0"/>
                  </a:moveTo>
                  <a:lnTo>
                    <a:pt x="1216" y="13"/>
                  </a:lnTo>
                  <a:lnTo>
                    <a:pt x="0" y="1225"/>
                  </a:lnTo>
                  <a:lnTo>
                    <a:pt x="64" y="1290"/>
                  </a:lnTo>
                  <a:lnTo>
                    <a:pt x="1279" y="77"/>
                  </a:lnTo>
                  <a:lnTo>
                    <a:pt x="1247" y="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77920" y="4383000"/>
              <a:ext cx="475920" cy="4680"/>
            </a:xfrm>
            <a:custGeom>
              <a:avLst/>
              <a:gdLst/>
              <a:ahLst/>
              <a:rect l="l" t="t" r="r" b="b"/>
              <a:pathLst>
                <a:path w="9902" h="90">
                  <a:moveTo>
                    <a:pt x="9902" y="77"/>
                  </a:moveTo>
                  <a:lnTo>
                    <a:pt x="9870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9870" y="90"/>
                  </a:lnTo>
                  <a:lnTo>
                    <a:pt x="9902" y="77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93720" y="4384440"/>
              <a:ext cx="60120" cy="61920"/>
            </a:xfrm>
            <a:custGeom>
              <a:avLst/>
              <a:gdLst/>
              <a:ahLst/>
              <a:rect l="l" t="t" r="r" b="b"/>
              <a:pathLst>
                <a:path w="1277" h="1289">
                  <a:moveTo>
                    <a:pt x="32" y="1289"/>
                  </a:moveTo>
                  <a:lnTo>
                    <a:pt x="63" y="1277"/>
                  </a:lnTo>
                  <a:lnTo>
                    <a:pt x="1277" y="64"/>
                  </a:lnTo>
                  <a:lnTo>
                    <a:pt x="1213" y="0"/>
                  </a:lnTo>
                  <a:lnTo>
                    <a:pt x="0" y="1212"/>
                  </a:lnTo>
                  <a:lnTo>
                    <a:pt x="32" y="1289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17800" y="4441680"/>
              <a:ext cx="477720" cy="4680"/>
            </a:xfrm>
            <a:custGeom>
              <a:avLst/>
              <a:gdLst/>
              <a:ahLst/>
              <a:rect l="l" t="t" r="r" b="b"/>
              <a:pathLst>
                <a:path w="9904" h="90">
                  <a:moveTo>
                    <a:pt x="0" y="13"/>
                  </a:moveTo>
                  <a:lnTo>
                    <a:pt x="32" y="90"/>
                  </a:lnTo>
                  <a:lnTo>
                    <a:pt x="9904" y="90"/>
                  </a:lnTo>
                  <a:lnTo>
                    <a:pt x="9904" y="0"/>
                  </a:lnTo>
                  <a:lnTo>
                    <a:pt x="3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96960" y="4386240"/>
              <a:ext cx="58320" cy="525240"/>
            </a:xfrm>
            <a:custGeom>
              <a:avLst/>
              <a:gdLst/>
              <a:ahLst/>
              <a:rect l="l" t="t" r="r" b="b"/>
              <a:pathLst>
                <a:path w="1213" h="10912">
                  <a:moveTo>
                    <a:pt x="0" y="1211"/>
                  </a:moveTo>
                  <a:lnTo>
                    <a:pt x="1213" y="0"/>
                  </a:lnTo>
                  <a:lnTo>
                    <a:pt x="1213" y="9696"/>
                  </a:lnTo>
                  <a:lnTo>
                    <a:pt x="0" y="10912"/>
                  </a:lnTo>
                  <a:lnTo>
                    <a:pt x="0" y="1211"/>
                  </a:lnTo>
                  <a:close/>
                </a:path>
              </a:pathLst>
            </a:custGeom>
            <a:solidFill>
              <a:srgbClr val="757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95520" y="4384440"/>
              <a:ext cx="61560" cy="61920"/>
            </a:xfrm>
            <a:custGeom>
              <a:avLst/>
              <a:gdLst/>
              <a:ahLst/>
              <a:rect l="l" t="t" r="r" b="b"/>
              <a:pathLst>
                <a:path w="1290" h="1276">
                  <a:moveTo>
                    <a:pt x="1290" y="33"/>
                  </a:moveTo>
                  <a:lnTo>
                    <a:pt x="1213" y="0"/>
                  </a:lnTo>
                  <a:lnTo>
                    <a:pt x="0" y="1213"/>
                  </a:lnTo>
                  <a:lnTo>
                    <a:pt x="63" y="1276"/>
                  </a:lnTo>
                  <a:lnTo>
                    <a:pt x="1277" y="64"/>
                  </a:lnTo>
                  <a:lnTo>
                    <a:pt x="1290" y="33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52400" y="4386240"/>
              <a:ext cx="4680" cy="468360"/>
            </a:xfrm>
            <a:custGeom>
              <a:avLst/>
              <a:gdLst/>
              <a:ahLst/>
              <a:rect l="l" t="t" r="r" b="b"/>
              <a:pathLst>
                <a:path w="90" h="9728">
                  <a:moveTo>
                    <a:pt x="77" y="9728"/>
                  </a:moveTo>
                  <a:lnTo>
                    <a:pt x="90" y="9696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9696"/>
                  </a:lnTo>
                  <a:lnTo>
                    <a:pt x="77" y="9728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95520" y="4851360"/>
              <a:ext cx="61560" cy="61920"/>
            </a:xfrm>
            <a:custGeom>
              <a:avLst/>
              <a:gdLst/>
              <a:ahLst/>
              <a:rect l="l" t="t" r="r" b="b"/>
              <a:pathLst>
                <a:path w="1290" h="1279">
                  <a:moveTo>
                    <a:pt x="0" y="1247"/>
                  </a:moveTo>
                  <a:lnTo>
                    <a:pt x="76" y="1279"/>
                  </a:lnTo>
                  <a:lnTo>
                    <a:pt x="1290" y="63"/>
                  </a:lnTo>
                  <a:lnTo>
                    <a:pt x="1226" y="0"/>
                  </a:lnTo>
                  <a:lnTo>
                    <a:pt x="13" y="1216"/>
                  </a:lnTo>
                  <a:lnTo>
                    <a:pt x="0" y="1247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95520" y="4443120"/>
              <a:ext cx="2520" cy="468360"/>
            </a:xfrm>
            <a:custGeom>
              <a:avLst/>
              <a:gdLst/>
              <a:ahLst/>
              <a:rect l="l" t="t" r="r" b="b"/>
              <a:pathLst>
                <a:path w="90" h="9732">
                  <a:moveTo>
                    <a:pt x="13" y="0"/>
                  </a:moveTo>
                  <a:lnTo>
                    <a:pt x="0" y="31"/>
                  </a:lnTo>
                  <a:lnTo>
                    <a:pt x="0" y="9732"/>
                  </a:lnTo>
                  <a:lnTo>
                    <a:pt x="90" y="9732"/>
                  </a:lnTo>
                  <a:lnTo>
                    <a:pt x="90" y="3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525b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19240" y="4187520"/>
              <a:ext cx="477360" cy="255600"/>
            </a:xfrm>
            <a:prstGeom prst="rect">
              <a:avLst/>
            </a:prstGeom>
            <a:solidFill>
              <a:srgbClr val="b73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17800" y="4187520"/>
              <a:ext cx="4680" cy="257400"/>
            </a:xfrm>
            <a:custGeom>
              <a:avLst/>
              <a:gdLst/>
              <a:ahLst/>
              <a:rect l="l" t="t" r="r" b="b"/>
              <a:pathLst>
                <a:path w="90" h="5343">
                  <a:moveTo>
                    <a:pt x="45" y="5343"/>
                  </a:moveTo>
                  <a:lnTo>
                    <a:pt x="90" y="5298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5298"/>
                  </a:lnTo>
                  <a:lnTo>
                    <a:pt x="45" y="5343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19240" y="4440240"/>
              <a:ext cx="477360" cy="4680"/>
            </a:xfrm>
            <a:custGeom>
              <a:avLst/>
              <a:gdLst/>
              <a:ahLst/>
              <a:rect l="l" t="t" r="r" b="b"/>
              <a:pathLst>
                <a:path w="9917" h="89">
                  <a:moveTo>
                    <a:pt x="9917" y="44"/>
                  </a:moveTo>
                  <a:lnTo>
                    <a:pt x="9872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9872" y="89"/>
                  </a:lnTo>
                  <a:lnTo>
                    <a:pt x="9917" y="44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92280" y="4186080"/>
              <a:ext cx="4320" cy="257040"/>
            </a:xfrm>
            <a:custGeom>
              <a:avLst/>
              <a:gdLst/>
              <a:ahLst/>
              <a:rect l="l" t="t" r="r" b="b"/>
              <a:pathLst>
                <a:path w="90" h="5343">
                  <a:moveTo>
                    <a:pt x="45" y="0"/>
                  </a:moveTo>
                  <a:lnTo>
                    <a:pt x="0" y="45"/>
                  </a:lnTo>
                  <a:lnTo>
                    <a:pt x="0" y="5343"/>
                  </a:lnTo>
                  <a:lnTo>
                    <a:pt x="90" y="5343"/>
                  </a:lnTo>
                  <a:lnTo>
                    <a:pt x="9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17800" y="4186080"/>
              <a:ext cx="477720" cy="3240"/>
            </a:xfrm>
            <a:custGeom>
              <a:avLst/>
              <a:gdLst/>
              <a:ahLst/>
              <a:rect l="l" t="t" r="r" b="b"/>
              <a:pathLst>
                <a:path w="9917" h="90">
                  <a:moveTo>
                    <a:pt x="0" y="45"/>
                  </a:moveTo>
                  <a:lnTo>
                    <a:pt x="45" y="90"/>
                  </a:lnTo>
                  <a:lnTo>
                    <a:pt x="9917" y="90"/>
                  </a:lnTo>
                  <a:lnTo>
                    <a:pt x="9917" y="0"/>
                  </a:lnTo>
                  <a:lnTo>
                    <a:pt x="45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9240" y="4128840"/>
              <a:ext cx="532800" cy="58680"/>
            </a:xfrm>
            <a:custGeom>
              <a:avLst/>
              <a:gdLst/>
              <a:ahLst/>
              <a:rect l="l" t="t" r="r" b="b"/>
              <a:pathLst>
                <a:path w="11085" h="1213">
                  <a:moveTo>
                    <a:pt x="0" y="1213"/>
                  </a:moveTo>
                  <a:lnTo>
                    <a:pt x="1215" y="0"/>
                  </a:lnTo>
                  <a:lnTo>
                    <a:pt x="11085" y="0"/>
                  </a:lnTo>
                  <a:lnTo>
                    <a:pt x="9872" y="1213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d25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17800" y="4127400"/>
              <a:ext cx="61560" cy="61920"/>
            </a:xfrm>
            <a:custGeom>
              <a:avLst/>
              <a:gdLst/>
              <a:ahLst/>
              <a:rect l="l" t="t" r="r" b="b"/>
              <a:pathLst>
                <a:path w="1279" h="1289">
                  <a:moveTo>
                    <a:pt x="1247" y="0"/>
                  </a:moveTo>
                  <a:lnTo>
                    <a:pt x="1216" y="13"/>
                  </a:lnTo>
                  <a:lnTo>
                    <a:pt x="0" y="1226"/>
                  </a:lnTo>
                  <a:lnTo>
                    <a:pt x="64" y="1289"/>
                  </a:lnTo>
                  <a:lnTo>
                    <a:pt x="1279" y="77"/>
                  </a:lnTo>
                  <a:lnTo>
                    <a:pt x="1247" y="0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77920" y="4127400"/>
              <a:ext cx="475920" cy="4680"/>
            </a:xfrm>
            <a:custGeom>
              <a:avLst/>
              <a:gdLst/>
              <a:ahLst/>
              <a:rect l="l" t="t" r="r" b="b"/>
              <a:pathLst>
                <a:path w="9902" h="90">
                  <a:moveTo>
                    <a:pt x="9902" y="77"/>
                  </a:moveTo>
                  <a:lnTo>
                    <a:pt x="9870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9870" y="90"/>
                  </a:lnTo>
                  <a:lnTo>
                    <a:pt x="9902" y="77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93720" y="4127400"/>
              <a:ext cx="60120" cy="61920"/>
            </a:xfrm>
            <a:custGeom>
              <a:avLst/>
              <a:gdLst/>
              <a:ahLst/>
              <a:rect l="l" t="t" r="r" b="b"/>
              <a:pathLst>
                <a:path w="1277" h="1290">
                  <a:moveTo>
                    <a:pt x="32" y="1290"/>
                  </a:moveTo>
                  <a:lnTo>
                    <a:pt x="63" y="1276"/>
                  </a:lnTo>
                  <a:lnTo>
                    <a:pt x="1277" y="64"/>
                  </a:lnTo>
                  <a:lnTo>
                    <a:pt x="1213" y="0"/>
                  </a:lnTo>
                  <a:lnTo>
                    <a:pt x="0" y="1213"/>
                  </a:lnTo>
                  <a:lnTo>
                    <a:pt x="32" y="1290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17800" y="4186080"/>
              <a:ext cx="477720" cy="3240"/>
            </a:xfrm>
            <a:custGeom>
              <a:avLst/>
              <a:gdLst/>
              <a:ahLst/>
              <a:rect l="l" t="t" r="r" b="b"/>
              <a:pathLst>
                <a:path w="9904" h="90">
                  <a:moveTo>
                    <a:pt x="0" y="13"/>
                  </a:moveTo>
                  <a:lnTo>
                    <a:pt x="32" y="90"/>
                  </a:lnTo>
                  <a:lnTo>
                    <a:pt x="9904" y="90"/>
                  </a:lnTo>
                  <a:lnTo>
                    <a:pt x="9904" y="0"/>
                  </a:lnTo>
                  <a:lnTo>
                    <a:pt x="3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38040" y="4257360"/>
              <a:ext cx="225360" cy="101880"/>
            </a:xfrm>
            <a:custGeom>
              <a:avLst/>
              <a:gdLst/>
              <a:ahLst/>
              <a:rect l="l" t="t" r="r" b="b"/>
              <a:pathLst>
                <a:path w="4684" h="2109">
                  <a:moveTo>
                    <a:pt x="0" y="197"/>
                  </a:moveTo>
                  <a:lnTo>
                    <a:pt x="102" y="0"/>
                  </a:lnTo>
                  <a:lnTo>
                    <a:pt x="4684" y="1912"/>
                  </a:lnTo>
                  <a:lnTo>
                    <a:pt x="4582" y="210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77920" y="4236840"/>
              <a:ext cx="344160" cy="12600"/>
            </a:xfrm>
            <a:custGeom>
              <a:avLst/>
              <a:gdLst/>
              <a:ahLst/>
              <a:rect l="l" t="t" r="r" b="b"/>
              <a:pathLst>
                <a:path w="7164" h="242">
                  <a:moveTo>
                    <a:pt x="7043" y="0"/>
                  </a:moveTo>
                  <a:lnTo>
                    <a:pt x="0" y="0"/>
                  </a:lnTo>
                  <a:lnTo>
                    <a:pt x="0" y="242"/>
                  </a:lnTo>
                  <a:lnTo>
                    <a:pt x="7164" y="242"/>
                  </a:lnTo>
                  <a:lnTo>
                    <a:pt x="7164" y="0"/>
                  </a:lnTo>
                  <a:lnTo>
                    <a:pt x="70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77920" y="4367160"/>
              <a:ext cx="344160" cy="11160"/>
            </a:xfrm>
            <a:custGeom>
              <a:avLst/>
              <a:gdLst/>
              <a:ahLst/>
              <a:rect l="l" t="t" r="r" b="b"/>
              <a:pathLst>
                <a:path w="7164" h="242">
                  <a:moveTo>
                    <a:pt x="7043" y="0"/>
                  </a:moveTo>
                  <a:lnTo>
                    <a:pt x="0" y="0"/>
                  </a:lnTo>
                  <a:lnTo>
                    <a:pt x="0" y="242"/>
                  </a:lnTo>
                  <a:lnTo>
                    <a:pt x="7164" y="242"/>
                  </a:lnTo>
                  <a:lnTo>
                    <a:pt x="7164" y="0"/>
                  </a:lnTo>
                  <a:lnTo>
                    <a:pt x="70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49480" y="4216320"/>
              <a:ext cx="101160" cy="540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9480" y="4216320"/>
              <a:ext cx="101160" cy="540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42880" y="4216320"/>
              <a:ext cx="101520" cy="540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2880" y="4216320"/>
              <a:ext cx="101520" cy="540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49480" y="4344840"/>
              <a:ext cx="101160" cy="540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49480" y="4344840"/>
              <a:ext cx="101160" cy="540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42880" y="4344840"/>
              <a:ext cx="101520" cy="540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42880" y="4344840"/>
              <a:ext cx="101520" cy="5400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33360" y="4257360"/>
              <a:ext cx="225000" cy="101880"/>
            </a:xfrm>
            <a:custGeom>
              <a:avLst/>
              <a:gdLst/>
              <a:ahLst/>
              <a:rect l="l" t="t" r="r" b="b"/>
              <a:pathLst>
                <a:path w="4684" h="2109">
                  <a:moveTo>
                    <a:pt x="4582" y="0"/>
                  </a:moveTo>
                  <a:lnTo>
                    <a:pt x="4684" y="197"/>
                  </a:lnTo>
                  <a:lnTo>
                    <a:pt x="103" y="2109"/>
                  </a:lnTo>
                  <a:lnTo>
                    <a:pt x="0" y="1912"/>
                  </a:lnTo>
                  <a:lnTo>
                    <a:pt x="45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3080" y="4262400"/>
              <a:ext cx="225000" cy="101520"/>
            </a:xfrm>
            <a:custGeom>
              <a:avLst/>
              <a:gdLst/>
              <a:ahLst/>
              <a:rect l="l" t="t" r="r" b="b"/>
              <a:pathLst>
                <a:path w="4684" h="2110">
                  <a:moveTo>
                    <a:pt x="0" y="197"/>
                  </a:moveTo>
                  <a:lnTo>
                    <a:pt x="102" y="0"/>
                  </a:lnTo>
                  <a:lnTo>
                    <a:pt x="4684" y="1913"/>
                  </a:lnTo>
                  <a:lnTo>
                    <a:pt x="4582" y="2110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81160" y="4241520"/>
              <a:ext cx="344160" cy="12960"/>
            </a:xfrm>
            <a:custGeom>
              <a:avLst/>
              <a:gdLst/>
              <a:ahLst/>
              <a:rect l="l" t="t" r="r" b="b"/>
              <a:pathLst>
                <a:path w="7164" h="242">
                  <a:moveTo>
                    <a:pt x="7043" y="0"/>
                  </a:moveTo>
                  <a:lnTo>
                    <a:pt x="0" y="0"/>
                  </a:lnTo>
                  <a:lnTo>
                    <a:pt x="0" y="242"/>
                  </a:lnTo>
                  <a:lnTo>
                    <a:pt x="7164" y="242"/>
                  </a:lnTo>
                  <a:lnTo>
                    <a:pt x="7164" y="0"/>
                  </a:lnTo>
                  <a:lnTo>
                    <a:pt x="70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81160" y="4370400"/>
              <a:ext cx="344160" cy="12600"/>
            </a:xfrm>
            <a:custGeom>
              <a:avLst/>
              <a:gdLst/>
              <a:ahLst/>
              <a:rect l="l" t="t" r="r" b="b"/>
              <a:pathLst>
                <a:path w="7164" h="242">
                  <a:moveTo>
                    <a:pt x="7043" y="0"/>
                  </a:moveTo>
                  <a:lnTo>
                    <a:pt x="0" y="0"/>
                  </a:lnTo>
                  <a:lnTo>
                    <a:pt x="0" y="242"/>
                  </a:lnTo>
                  <a:lnTo>
                    <a:pt x="7164" y="242"/>
                  </a:lnTo>
                  <a:lnTo>
                    <a:pt x="7164" y="0"/>
                  </a:lnTo>
                  <a:lnTo>
                    <a:pt x="70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54160" y="4221000"/>
              <a:ext cx="101160" cy="5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54160" y="4221000"/>
              <a:ext cx="101160" cy="540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47920" y="4221000"/>
              <a:ext cx="101160" cy="5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47920" y="4221000"/>
              <a:ext cx="101160" cy="540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4160" y="4349520"/>
              <a:ext cx="101160" cy="5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54160" y="4349520"/>
              <a:ext cx="101160" cy="540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47920" y="4349520"/>
              <a:ext cx="101160" cy="5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920" y="4349520"/>
              <a:ext cx="101160" cy="540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38040" y="4262400"/>
              <a:ext cx="225360" cy="101520"/>
            </a:xfrm>
            <a:custGeom>
              <a:avLst/>
              <a:gdLst/>
              <a:ahLst/>
              <a:rect l="l" t="t" r="r" b="b"/>
              <a:pathLst>
                <a:path w="4684" h="2110">
                  <a:moveTo>
                    <a:pt x="4582" y="0"/>
                  </a:moveTo>
                  <a:lnTo>
                    <a:pt x="4684" y="197"/>
                  </a:lnTo>
                  <a:lnTo>
                    <a:pt x="102" y="2110"/>
                  </a:lnTo>
                  <a:lnTo>
                    <a:pt x="0" y="1913"/>
                  </a:lnTo>
                  <a:lnTo>
                    <a:pt x="45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96960" y="4128840"/>
              <a:ext cx="58320" cy="314280"/>
            </a:xfrm>
            <a:custGeom>
              <a:avLst/>
              <a:gdLst/>
              <a:ahLst/>
              <a:rect l="l" t="t" r="r" b="b"/>
              <a:pathLst>
                <a:path w="1213" h="6511">
                  <a:moveTo>
                    <a:pt x="0" y="1213"/>
                  </a:moveTo>
                  <a:lnTo>
                    <a:pt x="1213" y="0"/>
                  </a:lnTo>
                  <a:lnTo>
                    <a:pt x="1213" y="5297"/>
                  </a:lnTo>
                  <a:lnTo>
                    <a:pt x="0" y="6511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762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95520" y="4124160"/>
              <a:ext cx="61560" cy="65160"/>
            </a:xfrm>
            <a:custGeom>
              <a:avLst/>
              <a:gdLst/>
              <a:ahLst/>
              <a:rect l="l" t="t" r="r" b="b"/>
              <a:pathLst>
                <a:path w="1290" h="1352">
                  <a:moveTo>
                    <a:pt x="1290" y="108"/>
                  </a:moveTo>
                  <a:lnTo>
                    <a:pt x="1213" y="76"/>
                  </a:lnTo>
                  <a:lnTo>
                    <a:pt x="0" y="1289"/>
                  </a:lnTo>
                  <a:lnTo>
                    <a:pt x="63" y="1352"/>
                  </a:lnTo>
                  <a:lnTo>
                    <a:pt x="1277" y="140"/>
                  </a:lnTo>
                  <a:lnTo>
                    <a:pt x="1290" y="108"/>
                  </a:lnTo>
                  <a:lnTo>
                    <a:pt x="1290" y="108"/>
                  </a:lnTo>
                  <a:lnTo>
                    <a:pt x="1290" y="0"/>
                  </a:lnTo>
                  <a:lnTo>
                    <a:pt x="1213" y="76"/>
                  </a:lnTo>
                  <a:lnTo>
                    <a:pt x="1290" y="108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52400" y="4128840"/>
              <a:ext cx="4680" cy="257400"/>
            </a:xfrm>
            <a:custGeom>
              <a:avLst/>
              <a:gdLst/>
              <a:ahLst/>
              <a:rect l="l" t="t" r="r" b="b"/>
              <a:pathLst>
                <a:path w="90" h="5328">
                  <a:moveTo>
                    <a:pt x="77" y="5328"/>
                  </a:moveTo>
                  <a:lnTo>
                    <a:pt x="90" y="5297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5297"/>
                  </a:lnTo>
                  <a:lnTo>
                    <a:pt x="77" y="5328"/>
                  </a:lnTo>
                  <a:lnTo>
                    <a:pt x="77" y="5328"/>
                  </a:lnTo>
                  <a:lnTo>
                    <a:pt x="90" y="5315"/>
                  </a:lnTo>
                  <a:lnTo>
                    <a:pt x="90" y="5297"/>
                  </a:lnTo>
                  <a:lnTo>
                    <a:pt x="77" y="5328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95520" y="4383000"/>
              <a:ext cx="61560" cy="65160"/>
            </a:xfrm>
            <a:custGeom>
              <a:avLst/>
              <a:gdLst/>
              <a:ahLst/>
              <a:rect l="l" t="t" r="r" b="b"/>
              <a:pathLst>
                <a:path w="1290" h="1355">
                  <a:moveTo>
                    <a:pt x="0" y="1246"/>
                  </a:moveTo>
                  <a:lnTo>
                    <a:pt x="76" y="1278"/>
                  </a:lnTo>
                  <a:lnTo>
                    <a:pt x="1290" y="63"/>
                  </a:lnTo>
                  <a:lnTo>
                    <a:pt x="1226" y="0"/>
                  </a:lnTo>
                  <a:lnTo>
                    <a:pt x="13" y="1215"/>
                  </a:lnTo>
                  <a:lnTo>
                    <a:pt x="0" y="1246"/>
                  </a:lnTo>
                  <a:lnTo>
                    <a:pt x="0" y="1246"/>
                  </a:lnTo>
                  <a:lnTo>
                    <a:pt x="0" y="1355"/>
                  </a:lnTo>
                  <a:lnTo>
                    <a:pt x="76" y="1278"/>
                  </a:lnTo>
                  <a:lnTo>
                    <a:pt x="0" y="1246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95520" y="4186080"/>
              <a:ext cx="2520" cy="257040"/>
            </a:xfrm>
            <a:custGeom>
              <a:avLst/>
              <a:gdLst/>
              <a:ahLst/>
              <a:rect l="l" t="t" r="r" b="b"/>
              <a:pathLst>
                <a:path w="90" h="5330">
                  <a:moveTo>
                    <a:pt x="13" y="0"/>
                  </a:moveTo>
                  <a:lnTo>
                    <a:pt x="0" y="32"/>
                  </a:lnTo>
                  <a:lnTo>
                    <a:pt x="0" y="5330"/>
                  </a:lnTo>
                  <a:lnTo>
                    <a:pt x="90" y="5330"/>
                  </a:lnTo>
                  <a:lnTo>
                    <a:pt x="90" y="3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3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a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429000" y="4267080"/>
            <a:ext cx="1085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Proces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29480" y="5089680"/>
            <a:ext cx="1447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 Transport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952880" y="5086440"/>
            <a:ext cx="909720" cy="509040"/>
            <a:chOff x="4952880" y="5086440"/>
            <a:chExt cx="909720" cy="509040"/>
          </a:xfrm>
        </p:grpSpPr>
        <p:sp>
          <p:nvSpPr>
            <p:cNvPr id="342" name=""/>
            <p:cNvSpPr/>
            <p:nvPr/>
          </p:nvSpPr>
          <p:spPr>
            <a:xfrm>
              <a:off x="4954320" y="5086440"/>
              <a:ext cx="908280" cy="222120"/>
            </a:xfrm>
            <a:custGeom>
              <a:avLst/>
              <a:gdLst/>
              <a:ahLst/>
              <a:rect l="l" t="t" r="r" b="b"/>
              <a:pathLst>
                <a:path w="16021" h="3922">
                  <a:moveTo>
                    <a:pt x="0" y="3922"/>
                  </a:moveTo>
                  <a:lnTo>
                    <a:pt x="4843" y="0"/>
                  </a:lnTo>
                  <a:lnTo>
                    <a:pt x="16021" y="0"/>
                  </a:lnTo>
                  <a:lnTo>
                    <a:pt x="12014" y="3922"/>
                  </a:lnTo>
                  <a:lnTo>
                    <a:pt x="0" y="3922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54320" y="5086440"/>
              <a:ext cx="908280" cy="222120"/>
            </a:xfrm>
            <a:custGeom>
              <a:avLst/>
              <a:gdLst/>
              <a:ahLst/>
              <a:rect l="l" t="t" r="r" b="b"/>
              <a:pathLst>
                <a:path w="16021" h="3922">
                  <a:moveTo>
                    <a:pt x="0" y="3922"/>
                  </a:moveTo>
                  <a:lnTo>
                    <a:pt x="4843" y="0"/>
                  </a:lnTo>
                  <a:lnTo>
                    <a:pt x="16021" y="0"/>
                  </a:lnTo>
                  <a:lnTo>
                    <a:pt x="12014" y="3922"/>
                  </a:lnTo>
                  <a:lnTo>
                    <a:pt x="0" y="3922"/>
                  </a:lnTo>
                  <a:close/>
                </a:path>
              </a:pathLst>
            </a:custGeom>
            <a:noFill/>
            <a:ln w="648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5440" y="5086440"/>
              <a:ext cx="227160" cy="506160"/>
            </a:xfrm>
            <a:custGeom>
              <a:avLst/>
              <a:gdLst/>
              <a:ahLst/>
              <a:rect l="l" t="t" r="r" b="b"/>
              <a:pathLst>
                <a:path w="4007" h="8922">
                  <a:moveTo>
                    <a:pt x="0" y="8922"/>
                  </a:moveTo>
                  <a:lnTo>
                    <a:pt x="4007" y="4831"/>
                  </a:lnTo>
                  <a:lnTo>
                    <a:pt x="4007" y="0"/>
                  </a:lnTo>
                  <a:lnTo>
                    <a:pt x="0" y="3915"/>
                  </a:lnTo>
                  <a:lnTo>
                    <a:pt x="0" y="8922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35440" y="5086440"/>
              <a:ext cx="227160" cy="506160"/>
            </a:xfrm>
            <a:custGeom>
              <a:avLst/>
              <a:gdLst/>
              <a:ahLst/>
              <a:rect l="l" t="t" r="r" b="b"/>
              <a:pathLst>
                <a:path w="4007" h="8922">
                  <a:moveTo>
                    <a:pt x="0" y="8922"/>
                  </a:moveTo>
                  <a:lnTo>
                    <a:pt x="4007" y="4831"/>
                  </a:lnTo>
                  <a:lnTo>
                    <a:pt x="4007" y="0"/>
                  </a:lnTo>
                  <a:lnTo>
                    <a:pt x="0" y="3915"/>
                  </a:lnTo>
                  <a:lnTo>
                    <a:pt x="0" y="8922"/>
                  </a:lnTo>
                  <a:close/>
                </a:path>
              </a:pathLst>
            </a:custGeom>
            <a:noFill/>
            <a:ln w="648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6120" y="5308560"/>
              <a:ext cx="679320" cy="283680"/>
            </a:xfrm>
            <a:prstGeom prst="rect">
              <a:avLst/>
            </a:prstGeom>
            <a:solidFill>
              <a:srgbClr val="1c9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32200" y="5305320"/>
              <a:ext cx="6480" cy="286920"/>
            </a:xfrm>
            <a:custGeom>
              <a:avLst/>
              <a:gdLst/>
              <a:ahLst/>
              <a:rect l="l" t="t" r="r" b="b"/>
              <a:pathLst>
                <a:path w="112" h="5066">
                  <a:moveTo>
                    <a:pt x="57" y="0"/>
                  </a:moveTo>
                  <a:lnTo>
                    <a:pt x="0" y="55"/>
                  </a:lnTo>
                  <a:lnTo>
                    <a:pt x="0" y="5066"/>
                  </a:lnTo>
                  <a:lnTo>
                    <a:pt x="112" y="5066"/>
                  </a:lnTo>
                  <a:lnTo>
                    <a:pt x="112" y="55"/>
                  </a:lnTo>
                  <a:lnTo>
                    <a:pt x="57" y="0"/>
                  </a:lnTo>
                  <a:lnTo>
                    <a:pt x="112" y="55"/>
                  </a:lnTo>
                  <a:lnTo>
                    <a:pt x="11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2880" y="5305320"/>
              <a:ext cx="682560" cy="6120"/>
            </a:xfrm>
            <a:custGeom>
              <a:avLst/>
              <a:gdLst/>
              <a:ahLst/>
              <a:rect l="l" t="t" r="r" b="b"/>
              <a:pathLst>
                <a:path w="12053" h="112">
                  <a:moveTo>
                    <a:pt x="0" y="55"/>
                  </a:moveTo>
                  <a:lnTo>
                    <a:pt x="57" y="112"/>
                  </a:lnTo>
                  <a:lnTo>
                    <a:pt x="12053" y="112"/>
                  </a:lnTo>
                  <a:lnTo>
                    <a:pt x="12053" y="0"/>
                  </a:lnTo>
                  <a:lnTo>
                    <a:pt x="57" y="0"/>
                  </a:lnTo>
                  <a:lnTo>
                    <a:pt x="0" y="55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52880" y="5308560"/>
              <a:ext cx="6120" cy="286920"/>
            </a:xfrm>
            <a:custGeom>
              <a:avLst/>
              <a:gdLst/>
              <a:ahLst/>
              <a:rect l="l" t="t" r="r" b="b"/>
              <a:pathLst>
                <a:path w="112" h="5067">
                  <a:moveTo>
                    <a:pt x="57" y="5067"/>
                  </a:moveTo>
                  <a:lnTo>
                    <a:pt x="112" y="5011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5011"/>
                  </a:lnTo>
                  <a:lnTo>
                    <a:pt x="57" y="5067"/>
                  </a:lnTo>
                  <a:lnTo>
                    <a:pt x="0" y="5011"/>
                  </a:lnTo>
                  <a:lnTo>
                    <a:pt x="0" y="5067"/>
                  </a:lnTo>
                  <a:lnTo>
                    <a:pt x="57" y="506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56120" y="5589360"/>
              <a:ext cx="682560" cy="6120"/>
            </a:xfrm>
            <a:custGeom>
              <a:avLst/>
              <a:gdLst/>
              <a:ahLst/>
              <a:rect l="l" t="t" r="r" b="b"/>
              <a:pathLst>
                <a:path w="12051" h="112">
                  <a:moveTo>
                    <a:pt x="12051" y="56"/>
                  </a:moveTo>
                  <a:lnTo>
                    <a:pt x="11996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996" y="112"/>
                  </a:lnTo>
                  <a:lnTo>
                    <a:pt x="12051" y="56"/>
                  </a:lnTo>
                  <a:lnTo>
                    <a:pt x="11996" y="112"/>
                  </a:lnTo>
                  <a:lnTo>
                    <a:pt x="12051" y="112"/>
                  </a:lnTo>
                  <a:lnTo>
                    <a:pt x="12051" y="5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71760" y="5110200"/>
              <a:ext cx="312840" cy="118440"/>
            </a:xfrm>
            <a:custGeom>
              <a:avLst/>
              <a:gdLst/>
              <a:ahLst/>
              <a:rect l="l" t="t" r="r" b="b"/>
              <a:pathLst>
                <a:path w="5516" h="2087">
                  <a:moveTo>
                    <a:pt x="3022" y="244"/>
                  </a:moveTo>
                  <a:lnTo>
                    <a:pt x="5516" y="0"/>
                  </a:lnTo>
                  <a:lnTo>
                    <a:pt x="5036" y="799"/>
                  </a:lnTo>
                  <a:lnTo>
                    <a:pt x="4399" y="675"/>
                  </a:lnTo>
                  <a:lnTo>
                    <a:pt x="667" y="2087"/>
                  </a:lnTo>
                  <a:lnTo>
                    <a:pt x="0" y="1904"/>
                  </a:lnTo>
                  <a:lnTo>
                    <a:pt x="3654" y="511"/>
                  </a:lnTo>
                  <a:lnTo>
                    <a:pt x="3022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35200" y="5160960"/>
              <a:ext cx="312840" cy="118440"/>
            </a:xfrm>
            <a:custGeom>
              <a:avLst/>
              <a:gdLst/>
              <a:ahLst/>
              <a:rect l="l" t="t" r="r" b="b"/>
              <a:pathLst>
                <a:path w="5516" h="2087">
                  <a:moveTo>
                    <a:pt x="3023" y="244"/>
                  </a:moveTo>
                  <a:lnTo>
                    <a:pt x="5516" y="0"/>
                  </a:lnTo>
                  <a:lnTo>
                    <a:pt x="5036" y="798"/>
                  </a:lnTo>
                  <a:lnTo>
                    <a:pt x="4399" y="675"/>
                  </a:lnTo>
                  <a:lnTo>
                    <a:pt x="667" y="2087"/>
                  </a:lnTo>
                  <a:lnTo>
                    <a:pt x="0" y="1903"/>
                  </a:lnTo>
                  <a:lnTo>
                    <a:pt x="3654" y="512"/>
                  </a:lnTo>
                  <a:lnTo>
                    <a:pt x="3023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71760" y="5118120"/>
              <a:ext cx="312840" cy="117000"/>
            </a:xfrm>
            <a:custGeom>
              <a:avLst/>
              <a:gdLst/>
              <a:ahLst/>
              <a:rect l="l" t="t" r="r" b="b"/>
              <a:pathLst>
                <a:path w="5516" h="2087">
                  <a:moveTo>
                    <a:pt x="3023" y="243"/>
                  </a:moveTo>
                  <a:lnTo>
                    <a:pt x="5516" y="0"/>
                  </a:lnTo>
                  <a:lnTo>
                    <a:pt x="5036" y="798"/>
                  </a:lnTo>
                  <a:lnTo>
                    <a:pt x="4399" y="675"/>
                  </a:lnTo>
                  <a:lnTo>
                    <a:pt x="667" y="2087"/>
                  </a:lnTo>
                  <a:lnTo>
                    <a:pt x="0" y="1903"/>
                  </a:lnTo>
                  <a:lnTo>
                    <a:pt x="3654" y="511"/>
                  </a:lnTo>
                  <a:lnTo>
                    <a:pt x="3023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5200" y="5167080"/>
              <a:ext cx="314640" cy="118800"/>
            </a:xfrm>
            <a:custGeom>
              <a:avLst/>
              <a:gdLst/>
              <a:ahLst/>
              <a:rect l="l" t="t" r="r" b="b"/>
              <a:pathLst>
                <a:path w="5517" h="2086">
                  <a:moveTo>
                    <a:pt x="3023" y="243"/>
                  </a:moveTo>
                  <a:lnTo>
                    <a:pt x="5517" y="0"/>
                  </a:lnTo>
                  <a:lnTo>
                    <a:pt x="5037" y="798"/>
                  </a:lnTo>
                  <a:lnTo>
                    <a:pt x="4399" y="674"/>
                  </a:lnTo>
                  <a:lnTo>
                    <a:pt x="667" y="2086"/>
                  </a:lnTo>
                  <a:lnTo>
                    <a:pt x="0" y="1902"/>
                  </a:lnTo>
                  <a:lnTo>
                    <a:pt x="3654" y="510"/>
                  </a:lnTo>
                  <a:lnTo>
                    <a:pt x="3023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74920" y="5365800"/>
              <a:ext cx="103320" cy="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3320" y="5365800"/>
              <a:ext cx="102960" cy="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74920" y="5499000"/>
              <a:ext cx="103320" cy="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13320" y="5499000"/>
              <a:ext cx="102960" cy="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44760" y="5521320"/>
              <a:ext cx="31608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25680" y="5389560"/>
              <a:ext cx="336600" cy="140760"/>
            </a:xfrm>
            <a:custGeom>
              <a:avLst/>
              <a:gdLst/>
              <a:ahLst/>
              <a:rect l="l" t="t" r="r" b="b"/>
              <a:pathLst>
                <a:path w="5949" h="2491">
                  <a:moveTo>
                    <a:pt x="5898" y="0"/>
                  </a:moveTo>
                  <a:lnTo>
                    <a:pt x="0" y="2366"/>
                  </a:lnTo>
                  <a:lnTo>
                    <a:pt x="51" y="2491"/>
                  </a:lnTo>
                  <a:lnTo>
                    <a:pt x="5949" y="125"/>
                  </a:lnTo>
                  <a:lnTo>
                    <a:pt x="5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25680" y="5389560"/>
              <a:ext cx="336600" cy="140760"/>
            </a:xfrm>
            <a:custGeom>
              <a:avLst/>
              <a:gdLst/>
              <a:ahLst/>
              <a:rect l="l" t="t" r="r" b="b"/>
              <a:pathLst>
                <a:path w="5949" h="2491">
                  <a:moveTo>
                    <a:pt x="5949" y="2366"/>
                  </a:moveTo>
                  <a:lnTo>
                    <a:pt x="51" y="0"/>
                  </a:lnTo>
                  <a:lnTo>
                    <a:pt x="0" y="125"/>
                  </a:lnTo>
                  <a:lnTo>
                    <a:pt x="5898" y="2491"/>
                  </a:lnTo>
                  <a:lnTo>
                    <a:pt x="5949" y="2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70240" y="5494320"/>
              <a:ext cx="10332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08280" y="5494320"/>
              <a:ext cx="10332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21000" y="5384880"/>
              <a:ext cx="336600" cy="139320"/>
            </a:xfrm>
            <a:custGeom>
              <a:avLst/>
              <a:gdLst/>
              <a:ahLst/>
              <a:rect l="l" t="t" r="r" b="b"/>
              <a:pathLst>
                <a:path w="5947" h="2491">
                  <a:moveTo>
                    <a:pt x="5898" y="0"/>
                  </a:moveTo>
                  <a:lnTo>
                    <a:pt x="0" y="2367"/>
                  </a:lnTo>
                  <a:lnTo>
                    <a:pt x="49" y="2491"/>
                  </a:lnTo>
                  <a:lnTo>
                    <a:pt x="5947" y="124"/>
                  </a:lnTo>
                  <a:lnTo>
                    <a:pt x="58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21000" y="5384880"/>
              <a:ext cx="336600" cy="139320"/>
            </a:xfrm>
            <a:custGeom>
              <a:avLst/>
              <a:gdLst/>
              <a:ahLst/>
              <a:rect l="l" t="t" r="r" b="b"/>
              <a:pathLst>
                <a:path w="5947" h="2491">
                  <a:moveTo>
                    <a:pt x="5947" y="2367"/>
                  </a:moveTo>
                  <a:lnTo>
                    <a:pt x="49" y="0"/>
                  </a:lnTo>
                  <a:lnTo>
                    <a:pt x="0" y="124"/>
                  </a:lnTo>
                  <a:lnTo>
                    <a:pt x="5898" y="2491"/>
                  </a:lnTo>
                  <a:lnTo>
                    <a:pt x="5947" y="23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44760" y="5387760"/>
              <a:ext cx="31608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40080" y="5516640"/>
              <a:ext cx="316080" cy="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40080" y="5383080"/>
              <a:ext cx="316080" cy="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70240" y="5360760"/>
              <a:ext cx="10332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08280" y="5360760"/>
              <a:ext cx="10332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5829480" y="5999040"/>
            <a:ext cx="60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8"/>
          <a:stretch/>
        </p:blipFill>
        <p:spPr>
          <a:xfrm>
            <a:off x="6899400" y="3906720"/>
            <a:ext cx="965160" cy="4129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7907400" y="3962520"/>
            <a:ext cx="76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B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9"/>
          <a:stretch/>
        </p:blipFill>
        <p:spPr>
          <a:xfrm>
            <a:off x="6899400" y="4483080"/>
            <a:ext cx="965160" cy="479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7907400" y="4572000"/>
            <a:ext cx="76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0"/>
          <a:stretch/>
        </p:blipFill>
        <p:spPr>
          <a:xfrm>
            <a:off x="7413480" y="5070600"/>
            <a:ext cx="451080" cy="723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854840" y="5181480"/>
            <a:ext cx="976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P Proxy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1"/>
          <a:stretch/>
        </p:blipFill>
        <p:spPr>
          <a:xfrm>
            <a:off x="303120" y="3797280"/>
            <a:ext cx="1166760" cy="7970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465200" y="3843360"/>
            <a:ext cx="1200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 Velocity 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2"/>
          <a:stretch/>
        </p:blipFill>
        <p:spPr>
          <a:xfrm>
            <a:off x="7140600" y="3073320"/>
            <a:ext cx="695160" cy="7462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907400" y="3195720"/>
            <a:ext cx="100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ice 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356000" y="4711680"/>
            <a:ext cx="981000" cy="9748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5402160" y="4800600"/>
            <a:ext cx="11001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4310 End Office 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90520" y="1504800"/>
            <a:ext cx="561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90520" y="2933640"/>
            <a:ext cx="121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Son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369720" y="140976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339840" y="2820960"/>
            <a:ext cx="893520" cy="5288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392640" y="3581280"/>
            <a:ext cx="1041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5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2379600" y="3473280"/>
            <a:ext cx="920880" cy="7113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392640" y="2838600"/>
            <a:ext cx="1039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5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2378160" y="2835360"/>
            <a:ext cx="920520" cy="609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392640" y="4280040"/>
            <a:ext cx="10396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500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751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2389320" y="4240080"/>
            <a:ext cx="906480" cy="777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90520" y="5408640"/>
            <a:ext cx="14241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dge Labe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NetF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378000" y="5581800"/>
            <a:ext cx="85536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402160" y="1374840"/>
            <a:ext cx="1005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4640400" y="1282680"/>
            <a:ext cx="696600" cy="685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402160" y="3902040"/>
            <a:ext cx="10270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ecto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9"/>
          <a:stretch/>
        </p:blipFill>
        <p:spPr>
          <a:xfrm>
            <a:off x="4441680" y="3865680"/>
            <a:ext cx="895320" cy="7729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159000" y="1467000"/>
            <a:ext cx="13366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ndard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Old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ersion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me pref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0"/>
          <a:stretch/>
        </p:blipFill>
        <p:spPr>
          <a:xfrm>
            <a:off x="2340000" y="1327320"/>
            <a:ext cx="698400" cy="860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1"/>
          <a:stretch/>
        </p:blipFill>
        <p:spPr>
          <a:xfrm>
            <a:off x="2298600" y="2220840"/>
            <a:ext cx="878040" cy="5079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557600" y="5796000"/>
            <a:ext cx="1936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ltilayer Switch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and without Tex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Subdu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2"/>
          <a:stretch/>
        </p:blipFill>
        <p:spPr>
          <a:xfrm>
            <a:off x="2708280" y="5842080"/>
            <a:ext cx="611280" cy="6001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190520" y="4637160"/>
            <a:ext cx="1198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dge Label Swit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353880" y="4740120"/>
            <a:ext cx="879480" cy="5112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3344760" y="5842080"/>
            <a:ext cx="611280" cy="5983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3973680" y="5842080"/>
            <a:ext cx="610920" cy="598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190520" y="3782880"/>
            <a:ext cx="119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1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6"/>
          <a:stretch/>
        </p:blipFill>
        <p:spPr>
          <a:xfrm>
            <a:off x="270000" y="3606840"/>
            <a:ext cx="963360" cy="836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7"/>
          <a:stretch/>
        </p:blipFill>
        <p:spPr>
          <a:xfrm>
            <a:off x="7130880" y="1450800"/>
            <a:ext cx="762120" cy="7495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899480" y="1574640"/>
            <a:ext cx="91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gram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75440" y="239544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T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8"/>
          <a:stretch/>
        </p:blipFill>
        <p:spPr>
          <a:xfrm>
            <a:off x="7015320" y="2386080"/>
            <a:ext cx="877680" cy="519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975440" y="3111480"/>
            <a:ext cx="83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9"/>
          <a:stretch/>
        </p:blipFill>
        <p:spPr>
          <a:xfrm>
            <a:off x="6942240" y="2992320"/>
            <a:ext cx="950760" cy="540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0"/>
          <a:stretch/>
        </p:blipFill>
        <p:spPr>
          <a:xfrm>
            <a:off x="380880" y="2077920"/>
            <a:ext cx="858960" cy="5875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219320" y="2120760"/>
            <a:ext cx="1218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6920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Mu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929720" y="3746520"/>
            <a:ext cx="9601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ewall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ice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1"/>
          <a:stretch/>
        </p:blipFill>
        <p:spPr>
          <a:xfrm>
            <a:off x="7356600" y="3602160"/>
            <a:ext cx="536400" cy="990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2"/>
          <a:stretch/>
        </p:blipFill>
        <p:spPr>
          <a:xfrm>
            <a:off x="4387680" y="2054160"/>
            <a:ext cx="949320" cy="630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402160" y="2019240"/>
            <a:ext cx="11955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 Control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929720" y="4781520"/>
            <a:ext cx="113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Unity Expr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3"/>
          <a:stretch/>
        </p:blipFill>
        <p:spPr>
          <a:xfrm>
            <a:off x="7015320" y="4648320"/>
            <a:ext cx="877680" cy="766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5402160" y="2743200"/>
            <a:ext cx="163044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ice-Enable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Router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 Voice-Enable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unication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4"/>
          <a:stretch/>
        </p:blipFill>
        <p:spPr>
          <a:xfrm>
            <a:off x="4522680" y="2890800"/>
            <a:ext cx="814320" cy="801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5"/>
          <a:stretch/>
        </p:blipFill>
        <p:spPr>
          <a:xfrm>
            <a:off x="2379600" y="5143680"/>
            <a:ext cx="916200" cy="5364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392640" y="5062680"/>
            <a:ext cx="101736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ice-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abled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6"/>
          <a:stretch/>
        </p:blipFill>
        <p:spPr>
          <a:xfrm>
            <a:off x="7397640" y="5499000"/>
            <a:ext cx="495360" cy="7938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7929720" y="5645160"/>
            <a:ext cx="1050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Unity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38280" y="1349280"/>
            <a:ext cx="628560" cy="8352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243080" y="2368440"/>
            <a:ext cx="1297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Security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82760" y="2362320"/>
            <a:ext cx="784080" cy="711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582480" y="3232080"/>
            <a:ext cx="581040" cy="8413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243080" y="3105000"/>
            <a:ext cx="12970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Switch Processor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KA Data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582480" y="4363920"/>
            <a:ext cx="581040" cy="8413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243080" y="4248000"/>
            <a:ext cx="1409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Switch Processor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KA Data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Switch, Rever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6556320" y="4267080"/>
            <a:ext cx="666720" cy="7588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7450200" y="449568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6"/>
          <a:stretch/>
        </p:blipFill>
        <p:spPr>
          <a:xfrm>
            <a:off x="3402000" y="1335240"/>
            <a:ext cx="692280" cy="869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173480" y="1541520"/>
            <a:ext cx="134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IOS 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90920" y="3962520"/>
            <a:ext cx="1473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b21a1a"/>
                </a:solidFill>
                <a:latin typeface="Arial"/>
              </a:rPr>
              <a:t>Cisco Unified</a:t>
            </a:r>
            <a:br>
              <a:rPr sz="1300"/>
            </a:br>
            <a:r>
              <a:rPr b="0" lang="en-US" sz="1300" spc="-1" strike="noStrike">
                <a:solidFill>
                  <a:srgbClr val="b21a1a"/>
                </a:solidFill>
                <a:latin typeface="Arial"/>
              </a:rPr>
              <a:t>Communications</a:t>
            </a:r>
            <a:br>
              <a:rPr sz="1300"/>
            </a:br>
            <a:r>
              <a:rPr b="0" lang="en-US" sz="1300" spc="-1" strike="noStrike">
                <a:solidFill>
                  <a:srgbClr val="b21a1a"/>
                </a:solidFill>
                <a:latin typeface="Arial"/>
              </a:rPr>
              <a:t>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7"/>
          <a:stretch/>
        </p:blipFill>
        <p:spPr>
          <a:xfrm>
            <a:off x="3193920" y="5578560"/>
            <a:ext cx="879480" cy="8794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8"/>
          <a:stretch/>
        </p:blipFill>
        <p:spPr>
          <a:xfrm>
            <a:off x="6286680" y="5116680"/>
            <a:ext cx="990360" cy="7556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4173480" y="5797440"/>
            <a:ext cx="134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6705 Acces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50200" y="5181480"/>
            <a:ext cx="1388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6732 Access 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9"/>
          <a:stretch/>
        </p:blipFill>
        <p:spPr>
          <a:xfrm>
            <a:off x="6330960" y="1371600"/>
            <a:ext cx="892080" cy="5112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0"/>
          <a:stretch/>
        </p:blipFill>
        <p:spPr>
          <a:xfrm>
            <a:off x="6330960" y="2057400"/>
            <a:ext cx="892080" cy="5112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1"/>
          <a:stretch/>
        </p:blipFill>
        <p:spPr>
          <a:xfrm>
            <a:off x="6330960" y="2743200"/>
            <a:ext cx="892080" cy="5112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450200" y="1465200"/>
            <a:ext cx="138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GX 82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450200" y="2151000"/>
            <a:ext cx="138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GX 82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450200" y="2836800"/>
            <a:ext cx="138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GX 82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2"/>
          <a:stretch/>
        </p:blipFill>
        <p:spPr>
          <a:xfrm>
            <a:off x="6216480" y="5962680"/>
            <a:ext cx="1177920" cy="473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7450200" y="6019920"/>
            <a:ext cx="138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67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3"/>
          <a:stretch/>
        </p:blipFill>
        <p:spPr>
          <a:xfrm>
            <a:off x="3170160" y="3932280"/>
            <a:ext cx="1098720" cy="727200"/>
          </a:xfrm>
          <a:prstGeom prst="rect">
            <a:avLst/>
          </a:prstGeom>
          <a:ln w="0">
            <a:noFill/>
          </a:ln>
        </p:spPr>
      </p:pic>
      <p:grpSp>
        <p:nvGrpSpPr>
          <p:cNvPr id="457" name=""/>
          <p:cNvGrpSpPr/>
          <p:nvPr/>
        </p:nvGrpSpPr>
        <p:grpSpPr>
          <a:xfrm>
            <a:off x="3370320" y="4840200"/>
            <a:ext cx="720720" cy="631800"/>
            <a:chOff x="3370320" y="4840200"/>
            <a:chExt cx="720720" cy="631800"/>
          </a:xfrm>
        </p:grpSpPr>
        <p:sp>
          <p:nvSpPr>
            <p:cNvPr id="458" name=""/>
            <p:cNvSpPr/>
            <p:nvPr/>
          </p:nvSpPr>
          <p:spPr>
            <a:xfrm>
              <a:off x="3375000" y="5222880"/>
              <a:ext cx="711360" cy="244440"/>
            </a:xfrm>
            <a:custGeom>
              <a:avLst/>
              <a:gdLst/>
              <a:ahLst/>
              <a:rect l="l" t="t" r="r" b="b"/>
              <a:pathLst>
                <a:path w="16146" h="5544">
                  <a:moveTo>
                    <a:pt x="16146" y="2772"/>
                  </a:moveTo>
                  <a:lnTo>
                    <a:pt x="16136" y="2915"/>
                  </a:lnTo>
                  <a:lnTo>
                    <a:pt x="16105" y="3056"/>
                  </a:lnTo>
                  <a:lnTo>
                    <a:pt x="16053" y="3194"/>
                  </a:lnTo>
                  <a:lnTo>
                    <a:pt x="15982" y="3330"/>
                  </a:lnTo>
                  <a:lnTo>
                    <a:pt x="15892" y="3465"/>
                  </a:lnTo>
                  <a:lnTo>
                    <a:pt x="15783" y="3596"/>
                  </a:lnTo>
                  <a:lnTo>
                    <a:pt x="15657" y="3725"/>
                  </a:lnTo>
                  <a:lnTo>
                    <a:pt x="15512" y="3850"/>
                  </a:lnTo>
                  <a:lnTo>
                    <a:pt x="15350" y="3973"/>
                  </a:lnTo>
                  <a:lnTo>
                    <a:pt x="15171" y="4093"/>
                  </a:lnTo>
                  <a:lnTo>
                    <a:pt x="14977" y="4209"/>
                  </a:lnTo>
                  <a:lnTo>
                    <a:pt x="14767" y="4322"/>
                  </a:lnTo>
                  <a:lnTo>
                    <a:pt x="14542" y="4431"/>
                  </a:lnTo>
                  <a:lnTo>
                    <a:pt x="14302" y="4535"/>
                  </a:lnTo>
                  <a:lnTo>
                    <a:pt x="14048" y="4636"/>
                  </a:lnTo>
                  <a:lnTo>
                    <a:pt x="13781" y="4732"/>
                  </a:lnTo>
                  <a:lnTo>
                    <a:pt x="13500" y="4824"/>
                  </a:lnTo>
                  <a:lnTo>
                    <a:pt x="13207" y="4911"/>
                  </a:lnTo>
                  <a:lnTo>
                    <a:pt x="12903" y="4993"/>
                  </a:lnTo>
                  <a:lnTo>
                    <a:pt x="12586" y="5071"/>
                  </a:lnTo>
                  <a:lnTo>
                    <a:pt x="12258" y="5143"/>
                  </a:lnTo>
                  <a:lnTo>
                    <a:pt x="11920" y="5209"/>
                  </a:lnTo>
                  <a:lnTo>
                    <a:pt x="11572" y="5271"/>
                  </a:lnTo>
                  <a:lnTo>
                    <a:pt x="11214" y="5326"/>
                  </a:lnTo>
                  <a:lnTo>
                    <a:pt x="10848" y="5375"/>
                  </a:lnTo>
                  <a:lnTo>
                    <a:pt x="10473" y="5419"/>
                  </a:lnTo>
                  <a:lnTo>
                    <a:pt x="10089" y="5456"/>
                  </a:lnTo>
                  <a:lnTo>
                    <a:pt x="9699" y="5488"/>
                  </a:lnTo>
                  <a:lnTo>
                    <a:pt x="9302" y="5512"/>
                  </a:lnTo>
                  <a:lnTo>
                    <a:pt x="8898" y="5530"/>
                  </a:lnTo>
                  <a:lnTo>
                    <a:pt x="8489" y="5540"/>
                  </a:lnTo>
                  <a:lnTo>
                    <a:pt x="8073" y="5544"/>
                  </a:lnTo>
                  <a:lnTo>
                    <a:pt x="7658" y="5540"/>
                  </a:lnTo>
                  <a:lnTo>
                    <a:pt x="7248" y="5530"/>
                  </a:lnTo>
                  <a:lnTo>
                    <a:pt x="6844" y="5512"/>
                  </a:lnTo>
                  <a:lnTo>
                    <a:pt x="6447" y="5488"/>
                  </a:lnTo>
                  <a:lnTo>
                    <a:pt x="6057" y="5456"/>
                  </a:lnTo>
                  <a:lnTo>
                    <a:pt x="5673" y="5419"/>
                  </a:lnTo>
                  <a:lnTo>
                    <a:pt x="5298" y="5375"/>
                  </a:lnTo>
                  <a:lnTo>
                    <a:pt x="4932" y="5326"/>
                  </a:lnTo>
                  <a:lnTo>
                    <a:pt x="4573" y="5271"/>
                  </a:lnTo>
                  <a:lnTo>
                    <a:pt x="4226" y="5209"/>
                  </a:lnTo>
                  <a:lnTo>
                    <a:pt x="3888" y="5143"/>
                  </a:lnTo>
                  <a:lnTo>
                    <a:pt x="3560" y="5071"/>
                  </a:lnTo>
                  <a:lnTo>
                    <a:pt x="3243" y="4993"/>
                  </a:lnTo>
                  <a:lnTo>
                    <a:pt x="2939" y="4911"/>
                  </a:lnTo>
                  <a:lnTo>
                    <a:pt x="2646" y="4824"/>
                  </a:lnTo>
                  <a:lnTo>
                    <a:pt x="2365" y="4732"/>
                  </a:lnTo>
                  <a:lnTo>
                    <a:pt x="2097" y="4636"/>
                  </a:lnTo>
                  <a:lnTo>
                    <a:pt x="1844" y="4535"/>
                  </a:lnTo>
                  <a:lnTo>
                    <a:pt x="1604" y="4431"/>
                  </a:lnTo>
                  <a:lnTo>
                    <a:pt x="1379" y="4322"/>
                  </a:lnTo>
                  <a:lnTo>
                    <a:pt x="1169" y="4209"/>
                  </a:lnTo>
                  <a:lnTo>
                    <a:pt x="975" y="4093"/>
                  </a:lnTo>
                  <a:lnTo>
                    <a:pt x="796" y="3973"/>
                  </a:lnTo>
                  <a:lnTo>
                    <a:pt x="634" y="3850"/>
                  </a:lnTo>
                  <a:lnTo>
                    <a:pt x="489" y="3725"/>
                  </a:lnTo>
                  <a:lnTo>
                    <a:pt x="363" y="3596"/>
                  </a:lnTo>
                  <a:lnTo>
                    <a:pt x="253" y="3465"/>
                  </a:lnTo>
                  <a:lnTo>
                    <a:pt x="164" y="3330"/>
                  </a:lnTo>
                  <a:lnTo>
                    <a:pt x="93" y="3194"/>
                  </a:lnTo>
                  <a:lnTo>
                    <a:pt x="41" y="3056"/>
                  </a:lnTo>
                  <a:lnTo>
                    <a:pt x="10" y="2915"/>
                  </a:lnTo>
                  <a:lnTo>
                    <a:pt x="0" y="2772"/>
                  </a:lnTo>
                  <a:lnTo>
                    <a:pt x="10" y="2630"/>
                  </a:lnTo>
                  <a:lnTo>
                    <a:pt x="41" y="2488"/>
                  </a:lnTo>
                  <a:lnTo>
                    <a:pt x="93" y="2350"/>
                  </a:lnTo>
                  <a:lnTo>
                    <a:pt x="164" y="2214"/>
                  </a:lnTo>
                  <a:lnTo>
                    <a:pt x="253" y="2079"/>
                  </a:lnTo>
                  <a:lnTo>
                    <a:pt x="363" y="1948"/>
                  </a:lnTo>
                  <a:lnTo>
                    <a:pt x="489" y="1820"/>
                  </a:lnTo>
                  <a:lnTo>
                    <a:pt x="634" y="1694"/>
                  </a:lnTo>
                  <a:lnTo>
                    <a:pt x="796" y="1571"/>
                  </a:lnTo>
                  <a:lnTo>
                    <a:pt x="975" y="1452"/>
                  </a:lnTo>
                  <a:lnTo>
                    <a:pt x="1169" y="1335"/>
                  </a:lnTo>
                  <a:lnTo>
                    <a:pt x="1379" y="1223"/>
                  </a:lnTo>
                  <a:lnTo>
                    <a:pt x="1604" y="1114"/>
                  </a:lnTo>
                  <a:lnTo>
                    <a:pt x="1844" y="1010"/>
                  </a:lnTo>
                  <a:lnTo>
                    <a:pt x="2097" y="909"/>
                  </a:lnTo>
                  <a:lnTo>
                    <a:pt x="2365" y="813"/>
                  </a:lnTo>
                  <a:lnTo>
                    <a:pt x="2646" y="720"/>
                  </a:lnTo>
                  <a:lnTo>
                    <a:pt x="2939" y="633"/>
                  </a:lnTo>
                  <a:lnTo>
                    <a:pt x="3243" y="551"/>
                  </a:lnTo>
                  <a:lnTo>
                    <a:pt x="3560" y="474"/>
                  </a:lnTo>
                  <a:lnTo>
                    <a:pt x="3888" y="401"/>
                  </a:lnTo>
                  <a:lnTo>
                    <a:pt x="4226" y="335"/>
                  </a:lnTo>
                  <a:lnTo>
                    <a:pt x="4573" y="273"/>
                  </a:lnTo>
                  <a:lnTo>
                    <a:pt x="4932" y="218"/>
                  </a:lnTo>
                  <a:lnTo>
                    <a:pt x="5298" y="169"/>
                  </a:lnTo>
                  <a:lnTo>
                    <a:pt x="5673" y="124"/>
                  </a:lnTo>
                  <a:lnTo>
                    <a:pt x="6057" y="88"/>
                  </a:lnTo>
                  <a:lnTo>
                    <a:pt x="6447" y="57"/>
                  </a:lnTo>
                  <a:lnTo>
                    <a:pt x="6844" y="32"/>
                  </a:lnTo>
                  <a:lnTo>
                    <a:pt x="7248" y="15"/>
                  </a:lnTo>
                  <a:lnTo>
                    <a:pt x="7658" y="3"/>
                  </a:lnTo>
                  <a:lnTo>
                    <a:pt x="8073" y="0"/>
                  </a:lnTo>
                  <a:lnTo>
                    <a:pt x="8489" y="3"/>
                  </a:lnTo>
                  <a:lnTo>
                    <a:pt x="8898" y="15"/>
                  </a:lnTo>
                  <a:lnTo>
                    <a:pt x="9302" y="32"/>
                  </a:lnTo>
                  <a:lnTo>
                    <a:pt x="9699" y="57"/>
                  </a:lnTo>
                  <a:lnTo>
                    <a:pt x="10089" y="88"/>
                  </a:lnTo>
                  <a:lnTo>
                    <a:pt x="10473" y="124"/>
                  </a:lnTo>
                  <a:lnTo>
                    <a:pt x="10848" y="169"/>
                  </a:lnTo>
                  <a:lnTo>
                    <a:pt x="11214" y="218"/>
                  </a:lnTo>
                  <a:lnTo>
                    <a:pt x="11572" y="273"/>
                  </a:lnTo>
                  <a:lnTo>
                    <a:pt x="11920" y="335"/>
                  </a:lnTo>
                  <a:lnTo>
                    <a:pt x="12258" y="401"/>
                  </a:lnTo>
                  <a:lnTo>
                    <a:pt x="12586" y="474"/>
                  </a:lnTo>
                  <a:lnTo>
                    <a:pt x="12903" y="551"/>
                  </a:lnTo>
                  <a:lnTo>
                    <a:pt x="13207" y="633"/>
                  </a:lnTo>
                  <a:lnTo>
                    <a:pt x="13500" y="720"/>
                  </a:lnTo>
                  <a:lnTo>
                    <a:pt x="13781" y="813"/>
                  </a:lnTo>
                  <a:lnTo>
                    <a:pt x="14048" y="909"/>
                  </a:lnTo>
                  <a:lnTo>
                    <a:pt x="14302" y="1010"/>
                  </a:lnTo>
                  <a:lnTo>
                    <a:pt x="14542" y="1114"/>
                  </a:lnTo>
                  <a:lnTo>
                    <a:pt x="14767" y="1223"/>
                  </a:lnTo>
                  <a:lnTo>
                    <a:pt x="14977" y="1335"/>
                  </a:lnTo>
                  <a:lnTo>
                    <a:pt x="15171" y="1452"/>
                  </a:lnTo>
                  <a:lnTo>
                    <a:pt x="15350" y="1571"/>
                  </a:lnTo>
                  <a:lnTo>
                    <a:pt x="15512" y="1694"/>
                  </a:lnTo>
                  <a:lnTo>
                    <a:pt x="15657" y="1820"/>
                  </a:lnTo>
                  <a:lnTo>
                    <a:pt x="15783" y="1948"/>
                  </a:lnTo>
                  <a:lnTo>
                    <a:pt x="15892" y="2079"/>
                  </a:lnTo>
                  <a:lnTo>
                    <a:pt x="15982" y="2214"/>
                  </a:lnTo>
                  <a:lnTo>
                    <a:pt x="16053" y="2350"/>
                  </a:lnTo>
                  <a:lnTo>
                    <a:pt x="16105" y="2488"/>
                  </a:lnTo>
                  <a:lnTo>
                    <a:pt x="16136" y="2630"/>
                  </a:lnTo>
                  <a:lnTo>
                    <a:pt x="16146" y="2772"/>
                  </a:lnTo>
                  <a:close/>
                </a:path>
              </a:pathLst>
            </a:custGeom>
            <a:solidFill>
              <a:srgbClr val="007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30680" y="5344920"/>
              <a:ext cx="360360" cy="127080"/>
            </a:xfrm>
            <a:custGeom>
              <a:avLst/>
              <a:gdLst/>
              <a:ahLst/>
              <a:rect l="l" t="t" r="r" b="b"/>
              <a:pathLst>
                <a:path w="8172" h="2871">
                  <a:moveTo>
                    <a:pt x="0" y="2871"/>
                  </a:moveTo>
                  <a:lnTo>
                    <a:pt x="0" y="2871"/>
                  </a:lnTo>
                  <a:lnTo>
                    <a:pt x="209" y="2870"/>
                  </a:lnTo>
                  <a:lnTo>
                    <a:pt x="417" y="2867"/>
                  </a:lnTo>
                  <a:lnTo>
                    <a:pt x="623" y="2863"/>
                  </a:lnTo>
                  <a:lnTo>
                    <a:pt x="828" y="2857"/>
                  </a:lnTo>
                  <a:lnTo>
                    <a:pt x="1032" y="2848"/>
                  </a:lnTo>
                  <a:lnTo>
                    <a:pt x="1234" y="2838"/>
                  </a:lnTo>
                  <a:lnTo>
                    <a:pt x="1434" y="2827"/>
                  </a:lnTo>
                  <a:lnTo>
                    <a:pt x="1633" y="2815"/>
                  </a:lnTo>
                  <a:lnTo>
                    <a:pt x="1831" y="2799"/>
                  </a:lnTo>
                  <a:lnTo>
                    <a:pt x="2026" y="2784"/>
                  </a:lnTo>
                  <a:lnTo>
                    <a:pt x="2219" y="2765"/>
                  </a:lnTo>
                  <a:lnTo>
                    <a:pt x="2411" y="2746"/>
                  </a:lnTo>
                  <a:lnTo>
                    <a:pt x="2600" y="2724"/>
                  </a:lnTo>
                  <a:lnTo>
                    <a:pt x="2787" y="2702"/>
                  </a:lnTo>
                  <a:lnTo>
                    <a:pt x="2973" y="2677"/>
                  </a:lnTo>
                  <a:lnTo>
                    <a:pt x="3155" y="2652"/>
                  </a:lnTo>
                  <a:lnTo>
                    <a:pt x="3336" y="2625"/>
                  </a:lnTo>
                  <a:lnTo>
                    <a:pt x="3515" y="2596"/>
                  </a:lnTo>
                  <a:lnTo>
                    <a:pt x="3692" y="2566"/>
                  </a:lnTo>
                  <a:lnTo>
                    <a:pt x="3865" y="2535"/>
                  </a:lnTo>
                  <a:lnTo>
                    <a:pt x="4036" y="2502"/>
                  </a:lnTo>
                  <a:lnTo>
                    <a:pt x="4206" y="2467"/>
                  </a:lnTo>
                  <a:lnTo>
                    <a:pt x="4371" y="2432"/>
                  </a:lnTo>
                  <a:lnTo>
                    <a:pt x="4534" y="2395"/>
                  </a:lnTo>
                  <a:lnTo>
                    <a:pt x="4696" y="2356"/>
                  </a:lnTo>
                  <a:lnTo>
                    <a:pt x="4854" y="2317"/>
                  </a:lnTo>
                  <a:lnTo>
                    <a:pt x="5008" y="2276"/>
                  </a:lnTo>
                  <a:lnTo>
                    <a:pt x="5161" y="2234"/>
                  </a:lnTo>
                  <a:lnTo>
                    <a:pt x="5310" y="2191"/>
                  </a:lnTo>
                  <a:lnTo>
                    <a:pt x="5456" y="2146"/>
                  </a:lnTo>
                  <a:lnTo>
                    <a:pt x="5528" y="2123"/>
                  </a:lnTo>
                  <a:lnTo>
                    <a:pt x="5600" y="2101"/>
                  </a:lnTo>
                  <a:lnTo>
                    <a:pt x="5670" y="2077"/>
                  </a:lnTo>
                  <a:lnTo>
                    <a:pt x="5740" y="2054"/>
                  </a:lnTo>
                  <a:lnTo>
                    <a:pt x="5808" y="2029"/>
                  </a:lnTo>
                  <a:lnTo>
                    <a:pt x="5877" y="2005"/>
                  </a:lnTo>
                  <a:lnTo>
                    <a:pt x="5943" y="1981"/>
                  </a:lnTo>
                  <a:lnTo>
                    <a:pt x="6009" y="1956"/>
                  </a:lnTo>
                  <a:lnTo>
                    <a:pt x="6076" y="1931"/>
                  </a:lnTo>
                  <a:lnTo>
                    <a:pt x="6140" y="1906"/>
                  </a:lnTo>
                  <a:lnTo>
                    <a:pt x="6204" y="1880"/>
                  </a:lnTo>
                  <a:lnTo>
                    <a:pt x="6267" y="1855"/>
                  </a:lnTo>
                  <a:lnTo>
                    <a:pt x="6329" y="1828"/>
                  </a:lnTo>
                  <a:lnTo>
                    <a:pt x="6389" y="1801"/>
                  </a:lnTo>
                  <a:lnTo>
                    <a:pt x="6450" y="1775"/>
                  </a:lnTo>
                  <a:lnTo>
                    <a:pt x="6510" y="1748"/>
                  </a:lnTo>
                  <a:lnTo>
                    <a:pt x="6568" y="1720"/>
                  </a:lnTo>
                  <a:lnTo>
                    <a:pt x="6625" y="1694"/>
                  </a:lnTo>
                  <a:lnTo>
                    <a:pt x="6683" y="1666"/>
                  </a:lnTo>
                  <a:lnTo>
                    <a:pt x="6738" y="1638"/>
                  </a:lnTo>
                  <a:lnTo>
                    <a:pt x="6793" y="1610"/>
                  </a:lnTo>
                  <a:lnTo>
                    <a:pt x="6847" y="1581"/>
                  </a:lnTo>
                  <a:lnTo>
                    <a:pt x="6900" y="1552"/>
                  </a:lnTo>
                  <a:lnTo>
                    <a:pt x="6952" y="1523"/>
                  </a:lnTo>
                  <a:lnTo>
                    <a:pt x="7003" y="1494"/>
                  </a:lnTo>
                  <a:lnTo>
                    <a:pt x="7053" y="1465"/>
                  </a:lnTo>
                  <a:lnTo>
                    <a:pt x="7102" y="1435"/>
                  </a:lnTo>
                  <a:lnTo>
                    <a:pt x="7151" y="1404"/>
                  </a:lnTo>
                  <a:lnTo>
                    <a:pt x="7199" y="1375"/>
                  </a:lnTo>
                  <a:lnTo>
                    <a:pt x="7244" y="1344"/>
                  </a:lnTo>
                  <a:lnTo>
                    <a:pt x="7289" y="1313"/>
                  </a:lnTo>
                  <a:lnTo>
                    <a:pt x="7333" y="1282"/>
                  </a:lnTo>
                  <a:lnTo>
                    <a:pt x="7377" y="1251"/>
                  </a:lnTo>
                  <a:lnTo>
                    <a:pt x="7419" y="1220"/>
                  </a:lnTo>
                  <a:lnTo>
                    <a:pt x="7460" y="1187"/>
                  </a:lnTo>
                  <a:lnTo>
                    <a:pt x="7500" y="1155"/>
                  </a:lnTo>
                  <a:lnTo>
                    <a:pt x="7540" y="1123"/>
                  </a:lnTo>
                  <a:lnTo>
                    <a:pt x="7577" y="1091"/>
                  </a:lnTo>
                  <a:lnTo>
                    <a:pt x="7614" y="1058"/>
                  </a:lnTo>
                  <a:lnTo>
                    <a:pt x="7650" y="1025"/>
                  </a:lnTo>
                  <a:lnTo>
                    <a:pt x="7685" y="992"/>
                  </a:lnTo>
                  <a:lnTo>
                    <a:pt x="7718" y="958"/>
                  </a:lnTo>
                  <a:lnTo>
                    <a:pt x="7751" y="925"/>
                  </a:lnTo>
                  <a:lnTo>
                    <a:pt x="7783" y="891"/>
                  </a:lnTo>
                  <a:lnTo>
                    <a:pt x="7813" y="857"/>
                  </a:lnTo>
                  <a:lnTo>
                    <a:pt x="7842" y="822"/>
                  </a:lnTo>
                  <a:lnTo>
                    <a:pt x="7871" y="787"/>
                  </a:lnTo>
                  <a:lnTo>
                    <a:pt x="7897" y="752"/>
                  </a:lnTo>
                  <a:lnTo>
                    <a:pt x="7924" y="716"/>
                  </a:lnTo>
                  <a:lnTo>
                    <a:pt x="7948" y="681"/>
                  </a:lnTo>
                  <a:lnTo>
                    <a:pt x="7972" y="646"/>
                  </a:lnTo>
                  <a:lnTo>
                    <a:pt x="7993" y="610"/>
                  </a:lnTo>
                  <a:lnTo>
                    <a:pt x="8015" y="573"/>
                  </a:lnTo>
                  <a:lnTo>
                    <a:pt x="8034" y="536"/>
                  </a:lnTo>
                  <a:lnTo>
                    <a:pt x="8052" y="499"/>
                  </a:lnTo>
                  <a:lnTo>
                    <a:pt x="8070" y="462"/>
                  </a:lnTo>
                  <a:lnTo>
                    <a:pt x="8086" y="425"/>
                  </a:lnTo>
                  <a:lnTo>
                    <a:pt x="8100" y="387"/>
                  </a:lnTo>
                  <a:lnTo>
                    <a:pt x="8114" y="349"/>
                  </a:lnTo>
                  <a:lnTo>
                    <a:pt x="8126" y="311"/>
                  </a:lnTo>
                  <a:lnTo>
                    <a:pt x="8136" y="273"/>
                  </a:lnTo>
                  <a:lnTo>
                    <a:pt x="8145" y="234"/>
                  </a:lnTo>
                  <a:lnTo>
                    <a:pt x="8154" y="196"/>
                  </a:lnTo>
                  <a:lnTo>
                    <a:pt x="8161" y="157"/>
                  </a:lnTo>
                  <a:lnTo>
                    <a:pt x="8165" y="118"/>
                  </a:lnTo>
                  <a:lnTo>
                    <a:pt x="8169" y="78"/>
                  </a:lnTo>
                  <a:lnTo>
                    <a:pt x="8171" y="39"/>
                  </a:lnTo>
                  <a:lnTo>
                    <a:pt x="8172" y="0"/>
                  </a:lnTo>
                  <a:lnTo>
                    <a:pt x="7975" y="0"/>
                  </a:lnTo>
                  <a:lnTo>
                    <a:pt x="7975" y="32"/>
                  </a:lnTo>
                  <a:lnTo>
                    <a:pt x="7973" y="65"/>
                  </a:lnTo>
                  <a:lnTo>
                    <a:pt x="7970" y="97"/>
                  </a:lnTo>
                  <a:lnTo>
                    <a:pt x="7966" y="129"/>
                  </a:lnTo>
                  <a:lnTo>
                    <a:pt x="7961" y="160"/>
                  </a:lnTo>
                  <a:lnTo>
                    <a:pt x="7953" y="192"/>
                  </a:lnTo>
                  <a:lnTo>
                    <a:pt x="7946" y="224"/>
                  </a:lnTo>
                  <a:lnTo>
                    <a:pt x="7937" y="256"/>
                  </a:lnTo>
                  <a:lnTo>
                    <a:pt x="7928" y="287"/>
                  </a:lnTo>
                  <a:lnTo>
                    <a:pt x="7917" y="318"/>
                  </a:lnTo>
                  <a:lnTo>
                    <a:pt x="7903" y="350"/>
                  </a:lnTo>
                  <a:lnTo>
                    <a:pt x="7890" y="382"/>
                  </a:lnTo>
                  <a:lnTo>
                    <a:pt x="7876" y="414"/>
                  </a:lnTo>
                  <a:lnTo>
                    <a:pt x="7860" y="445"/>
                  </a:lnTo>
                  <a:lnTo>
                    <a:pt x="7843" y="476"/>
                  </a:lnTo>
                  <a:lnTo>
                    <a:pt x="7825" y="508"/>
                  </a:lnTo>
                  <a:lnTo>
                    <a:pt x="7805" y="539"/>
                  </a:lnTo>
                  <a:lnTo>
                    <a:pt x="7785" y="571"/>
                  </a:lnTo>
                  <a:lnTo>
                    <a:pt x="7763" y="602"/>
                  </a:lnTo>
                  <a:lnTo>
                    <a:pt x="7741" y="633"/>
                  </a:lnTo>
                  <a:lnTo>
                    <a:pt x="7716" y="665"/>
                  </a:lnTo>
                  <a:lnTo>
                    <a:pt x="7691" y="696"/>
                  </a:lnTo>
                  <a:lnTo>
                    <a:pt x="7664" y="727"/>
                  </a:lnTo>
                  <a:lnTo>
                    <a:pt x="7638" y="757"/>
                  </a:lnTo>
                  <a:lnTo>
                    <a:pt x="7609" y="788"/>
                  </a:lnTo>
                  <a:lnTo>
                    <a:pt x="7580" y="819"/>
                  </a:lnTo>
                  <a:lnTo>
                    <a:pt x="7548" y="851"/>
                  </a:lnTo>
                  <a:lnTo>
                    <a:pt x="7516" y="880"/>
                  </a:lnTo>
                  <a:lnTo>
                    <a:pt x="7482" y="911"/>
                  </a:lnTo>
                  <a:lnTo>
                    <a:pt x="7449" y="942"/>
                  </a:lnTo>
                  <a:lnTo>
                    <a:pt x="7413" y="972"/>
                  </a:lnTo>
                  <a:lnTo>
                    <a:pt x="7377" y="1001"/>
                  </a:lnTo>
                  <a:lnTo>
                    <a:pt x="7339" y="1032"/>
                  </a:lnTo>
                  <a:lnTo>
                    <a:pt x="7301" y="1062"/>
                  </a:lnTo>
                  <a:lnTo>
                    <a:pt x="7261" y="1092"/>
                  </a:lnTo>
                  <a:lnTo>
                    <a:pt x="7220" y="1121"/>
                  </a:lnTo>
                  <a:lnTo>
                    <a:pt x="7178" y="1150"/>
                  </a:lnTo>
                  <a:lnTo>
                    <a:pt x="7135" y="1180"/>
                  </a:lnTo>
                  <a:lnTo>
                    <a:pt x="7091" y="1209"/>
                  </a:lnTo>
                  <a:lnTo>
                    <a:pt x="7046" y="1237"/>
                  </a:lnTo>
                  <a:lnTo>
                    <a:pt x="7000" y="1266"/>
                  </a:lnTo>
                  <a:lnTo>
                    <a:pt x="6953" y="1295"/>
                  </a:lnTo>
                  <a:lnTo>
                    <a:pt x="6904" y="1323"/>
                  </a:lnTo>
                  <a:lnTo>
                    <a:pt x="6856" y="1351"/>
                  </a:lnTo>
                  <a:lnTo>
                    <a:pt x="6806" y="1379"/>
                  </a:lnTo>
                  <a:lnTo>
                    <a:pt x="6754" y="1407"/>
                  </a:lnTo>
                  <a:lnTo>
                    <a:pt x="6702" y="1434"/>
                  </a:lnTo>
                  <a:lnTo>
                    <a:pt x="6650" y="1462"/>
                  </a:lnTo>
                  <a:lnTo>
                    <a:pt x="6596" y="1489"/>
                  </a:lnTo>
                  <a:lnTo>
                    <a:pt x="6541" y="1515"/>
                  </a:lnTo>
                  <a:lnTo>
                    <a:pt x="6484" y="1542"/>
                  </a:lnTo>
                  <a:lnTo>
                    <a:pt x="6428" y="1569"/>
                  </a:lnTo>
                  <a:lnTo>
                    <a:pt x="6370" y="1595"/>
                  </a:lnTo>
                  <a:lnTo>
                    <a:pt x="6312" y="1621"/>
                  </a:lnTo>
                  <a:lnTo>
                    <a:pt x="6252" y="1646"/>
                  </a:lnTo>
                  <a:lnTo>
                    <a:pt x="6191" y="1672"/>
                  </a:lnTo>
                  <a:lnTo>
                    <a:pt x="6130" y="1697"/>
                  </a:lnTo>
                  <a:lnTo>
                    <a:pt x="6068" y="1721"/>
                  </a:lnTo>
                  <a:lnTo>
                    <a:pt x="6004" y="1747"/>
                  </a:lnTo>
                  <a:lnTo>
                    <a:pt x="5941" y="1772"/>
                  </a:lnTo>
                  <a:lnTo>
                    <a:pt x="5876" y="1795"/>
                  </a:lnTo>
                  <a:lnTo>
                    <a:pt x="5810" y="1820"/>
                  </a:lnTo>
                  <a:lnTo>
                    <a:pt x="5744" y="1843"/>
                  </a:lnTo>
                  <a:lnTo>
                    <a:pt x="5676" y="1866"/>
                  </a:lnTo>
                  <a:lnTo>
                    <a:pt x="5608" y="1890"/>
                  </a:lnTo>
                  <a:lnTo>
                    <a:pt x="5539" y="1912"/>
                  </a:lnTo>
                  <a:lnTo>
                    <a:pt x="5469" y="1936"/>
                  </a:lnTo>
                  <a:lnTo>
                    <a:pt x="5399" y="1957"/>
                  </a:lnTo>
                  <a:lnTo>
                    <a:pt x="5255" y="2001"/>
                  </a:lnTo>
                  <a:lnTo>
                    <a:pt x="5108" y="2043"/>
                  </a:lnTo>
                  <a:lnTo>
                    <a:pt x="4958" y="2085"/>
                  </a:lnTo>
                  <a:lnTo>
                    <a:pt x="4805" y="2125"/>
                  </a:lnTo>
                  <a:lnTo>
                    <a:pt x="4650" y="2164"/>
                  </a:lnTo>
                  <a:lnTo>
                    <a:pt x="4491" y="2202"/>
                  </a:lnTo>
                  <a:lnTo>
                    <a:pt x="4329" y="2238"/>
                  </a:lnTo>
                  <a:lnTo>
                    <a:pt x="4166" y="2274"/>
                  </a:lnTo>
                  <a:lnTo>
                    <a:pt x="3998" y="2308"/>
                  </a:lnTo>
                  <a:lnTo>
                    <a:pt x="3830" y="2341"/>
                  </a:lnTo>
                  <a:lnTo>
                    <a:pt x="3657" y="2372"/>
                  </a:lnTo>
                  <a:lnTo>
                    <a:pt x="3483" y="2401"/>
                  </a:lnTo>
                  <a:lnTo>
                    <a:pt x="3307" y="2429"/>
                  </a:lnTo>
                  <a:lnTo>
                    <a:pt x="3128" y="2457"/>
                  </a:lnTo>
                  <a:lnTo>
                    <a:pt x="2946" y="2482"/>
                  </a:lnTo>
                  <a:lnTo>
                    <a:pt x="2763" y="2506"/>
                  </a:lnTo>
                  <a:lnTo>
                    <a:pt x="2577" y="2528"/>
                  </a:lnTo>
                  <a:lnTo>
                    <a:pt x="2389" y="2549"/>
                  </a:lnTo>
                  <a:lnTo>
                    <a:pt x="2200" y="2568"/>
                  </a:lnTo>
                  <a:lnTo>
                    <a:pt x="2008" y="2586"/>
                  </a:lnTo>
                  <a:lnTo>
                    <a:pt x="1815" y="2602"/>
                  </a:lnTo>
                  <a:lnTo>
                    <a:pt x="1620" y="2617"/>
                  </a:lnTo>
                  <a:lnTo>
                    <a:pt x="1423" y="2630"/>
                  </a:lnTo>
                  <a:lnTo>
                    <a:pt x="1224" y="2641"/>
                  </a:lnTo>
                  <a:lnTo>
                    <a:pt x="1024" y="2652"/>
                  </a:lnTo>
                  <a:lnTo>
                    <a:pt x="822" y="2659"/>
                  </a:lnTo>
                  <a:lnTo>
                    <a:pt x="619" y="2665"/>
                  </a:lnTo>
                  <a:lnTo>
                    <a:pt x="414" y="2670"/>
                  </a:lnTo>
                  <a:lnTo>
                    <a:pt x="207" y="2672"/>
                  </a:lnTo>
                  <a:lnTo>
                    <a:pt x="0" y="2673"/>
                  </a:lnTo>
                  <a:lnTo>
                    <a:pt x="0" y="2673"/>
                  </a:lnTo>
                  <a:lnTo>
                    <a:pt x="0" y="2871"/>
                  </a:lnTo>
                  <a:lnTo>
                    <a:pt x="0" y="2871"/>
                  </a:lnTo>
                  <a:lnTo>
                    <a:pt x="0" y="287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70320" y="5344920"/>
              <a:ext cx="360360" cy="127080"/>
            </a:xfrm>
            <a:custGeom>
              <a:avLst/>
              <a:gdLst/>
              <a:ahLst/>
              <a:rect l="l" t="t" r="r" b="b"/>
              <a:pathLst>
                <a:path w="8172" h="2871">
                  <a:moveTo>
                    <a:pt x="0" y="0"/>
                  </a:moveTo>
                  <a:lnTo>
                    <a:pt x="0" y="0"/>
                  </a:lnTo>
                  <a:lnTo>
                    <a:pt x="1" y="39"/>
                  </a:lnTo>
                  <a:lnTo>
                    <a:pt x="3" y="78"/>
                  </a:lnTo>
                  <a:lnTo>
                    <a:pt x="7" y="118"/>
                  </a:lnTo>
                  <a:lnTo>
                    <a:pt x="11" y="157"/>
                  </a:lnTo>
                  <a:lnTo>
                    <a:pt x="18" y="196"/>
                  </a:lnTo>
                  <a:lnTo>
                    <a:pt x="27" y="234"/>
                  </a:lnTo>
                  <a:lnTo>
                    <a:pt x="36" y="273"/>
                  </a:lnTo>
                  <a:lnTo>
                    <a:pt x="46" y="311"/>
                  </a:lnTo>
                  <a:lnTo>
                    <a:pt x="58" y="349"/>
                  </a:lnTo>
                  <a:lnTo>
                    <a:pt x="72" y="387"/>
                  </a:lnTo>
                  <a:lnTo>
                    <a:pt x="86" y="425"/>
                  </a:lnTo>
                  <a:lnTo>
                    <a:pt x="102" y="462"/>
                  </a:lnTo>
                  <a:lnTo>
                    <a:pt x="118" y="499"/>
                  </a:lnTo>
                  <a:lnTo>
                    <a:pt x="138" y="536"/>
                  </a:lnTo>
                  <a:lnTo>
                    <a:pt x="157" y="573"/>
                  </a:lnTo>
                  <a:lnTo>
                    <a:pt x="179" y="610"/>
                  </a:lnTo>
                  <a:lnTo>
                    <a:pt x="200" y="646"/>
                  </a:lnTo>
                  <a:lnTo>
                    <a:pt x="224" y="681"/>
                  </a:lnTo>
                  <a:lnTo>
                    <a:pt x="248" y="716"/>
                  </a:lnTo>
                  <a:lnTo>
                    <a:pt x="275" y="752"/>
                  </a:lnTo>
                  <a:lnTo>
                    <a:pt x="301" y="787"/>
                  </a:lnTo>
                  <a:lnTo>
                    <a:pt x="330" y="822"/>
                  </a:lnTo>
                  <a:lnTo>
                    <a:pt x="359" y="857"/>
                  </a:lnTo>
                  <a:lnTo>
                    <a:pt x="389" y="891"/>
                  </a:lnTo>
                  <a:lnTo>
                    <a:pt x="421" y="925"/>
                  </a:lnTo>
                  <a:lnTo>
                    <a:pt x="454" y="958"/>
                  </a:lnTo>
                  <a:lnTo>
                    <a:pt x="486" y="992"/>
                  </a:lnTo>
                  <a:lnTo>
                    <a:pt x="522" y="1025"/>
                  </a:lnTo>
                  <a:lnTo>
                    <a:pt x="558" y="1058"/>
                  </a:lnTo>
                  <a:lnTo>
                    <a:pt x="595" y="1091"/>
                  </a:lnTo>
                  <a:lnTo>
                    <a:pt x="632" y="1123"/>
                  </a:lnTo>
                  <a:lnTo>
                    <a:pt x="672" y="1155"/>
                  </a:lnTo>
                  <a:lnTo>
                    <a:pt x="712" y="1187"/>
                  </a:lnTo>
                  <a:lnTo>
                    <a:pt x="753" y="1220"/>
                  </a:lnTo>
                  <a:lnTo>
                    <a:pt x="795" y="1251"/>
                  </a:lnTo>
                  <a:lnTo>
                    <a:pt x="838" y="1282"/>
                  </a:lnTo>
                  <a:lnTo>
                    <a:pt x="883" y="1313"/>
                  </a:lnTo>
                  <a:lnTo>
                    <a:pt x="928" y="1344"/>
                  </a:lnTo>
                  <a:lnTo>
                    <a:pt x="973" y="1375"/>
                  </a:lnTo>
                  <a:lnTo>
                    <a:pt x="1022" y="1404"/>
                  </a:lnTo>
                  <a:lnTo>
                    <a:pt x="1070" y="1435"/>
                  </a:lnTo>
                  <a:lnTo>
                    <a:pt x="1119" y="1465"/>
                  </a:lnTo>
                  <a:lnTo>
                    <a:pt x="1169" y="1494"/>
                  </a:lnTo>
                  <a:lnTo>
                    <a:pt x="1220" y="1523"/>
                  </a:lnTo>
                  <a:lnTo>
                    <a:pt x="1272" y="1552"/>
                  </a:lnTo>
                  <a:lnTo>
                    <a:pt x="1325" y="1581"/>
                  </a:lnTo>
                  <a:lnTo>
                    <a:pt x="1379" y="1610"/>
                  </a:lnTo>
                  <a:lnTo>
                    <a:pt x="1433" y="1638"/>
                  </a:lnTo>
                  <a:lnTo>
                    <a:pt x="1489" y="1666"/>
                  </a:lnTo>
                  <a:lnTo>
                    <a:pt x="1547" y="1694"/>
                  </a:lnTo>
                  <a:lnTo>
                    <a:pt x="1604" y="1720"/>
                  </a:lnTo>
                  <a:lnTo>
                    <a:pt x="1662" y="1748"/>
                  </a:lnTo>
                  <a:lnTo>
                    <a:pt x="1721" y="1775"/>
                  </a:lnTo>
                  <a:lnTo>
                    <a:pt x="1781" y="1801"/>
                  </a:lnTo>
                  <a:lnTo>
                    <a:pt x="1843" y="1828"/>
                  </a:lnTo>
                  <a:lnTo>
                    <a:pt x="1905" y="1855"/>
                  </a:lnTo>
                  <a:lnTo>
                    <a:pt x="1968" y="1880"/>
                  </a:lnTo>
                  <a:lnTo>
                    <a:pt x="2032" y="1906"/>
                  </a:lnTo>
                  <a:lnTo>
                    <a:pt x="2096" y="1931"/>
                  </a:lnTo>
                  <a:lnTo>
                    <a:pt x="2163" y="1956"/>
                  </a:lnTo>
                  <a:lnTo>
                    <a:pt x="2228" y="1981"/>
                  </a:lnTo>
                  <a:lnTo>
                    <a:pt x="2295" y="2005"/>
                  </a:lnTo>
                  <a:lnTo>
                    <a:pt x="2364" y="2029"/>
                  </a:lnTo>
                  <a:lnTo>
                    <a:pt x="2432" y="2054"/>
                  </a:lnTo>
                  <a:lnTo>
                    <a:pt x="2502" y="2077"/>
                  </a:lnTo>
                  <a:lnTo>
                    <a:pt x="2572" y="2101"/>
                  </a:lnTo>
                  <a:lnTo>
                    <a:pt x="2644" y="2123"/>
                  </a:lnTo>
                  <a:lnTo>
                    <a:pt x="2715" y="2146"/>
                  </a:lnTo>
                  <a:lnTo>
                    <a:pt x="2788" y="2168"/>
                  </a:lnTo>
                  <a:lnTo>
                    <a:pt x="2861" y="2191"/>
                  </a:lnTo>
                  <a:lnTo>
                    <a:pt x="2936" y="2213"/>
                  </a:lnTo>
                  <a:lnTo>
                    <a:pt x="3011" y="2234"/>
                  </a:lnTo>
                  <a:lnTo>
                    <a:pt x="3163" y="2276"/>
                  </a:lnTo>
                  <a:lnTo>
                    <a:pt x="3318" y="2317"/>
                  </a:lnTo>
                  <a:lnTo>
                    <a:pt x="3476" y="2356"/>
                  </a:lnTo>
                  <a:lnTo>
                    <a:pt x="3638" y="2395"/>
                  </a:lnTo>
                  <a:lnTo>
                    <a:pt x="3801" y="2432"/>
                  </a:lnTo>
                  <a:lnTo>
                    <a:pt x="3966" y="2467"/>
                  </a:lnTo>
                  <a:lnTo>
                    <a:pt x="4135" y="2502"/>
                  </a:lnTo>
                  <a:lnTo>
                    <a:pt x="4307" y="2535"/>
                  </a:lnTo>
                  <a:lnTo>
                    <a:pt x="4480" y="2566"/>
                  </a:lnTo>
                  <a:lnTo>
                    <a:pt x="4657" y="2596"/>
                  </a:lnTo>
                  <a:lnTo>
                    <a:pt x="4836" y="2625"/>
                  </a:lnTo>
                  <a:lnTo>
                    <a:pt x="5017" y="2652"/>
                  </a:lnTo>
                  <a:lnTo>
                    <a:pt x="5199" y="2677"/>
                  </a:lnTo>
                  <a:lnTo>
                    <a:pt x="5385" y="2702"/>
                  </a:lnTo>
                  <a:lnTo>
                    <a:pt x="5572" y="2724"/>
                  </a:lnTo>
                  <a:lnTo>
                    <a:pt x="5761" y="2746"/>
                  </a:lnTo>
                  <a:lnTo>
                    <a:pt x="5953" y="2765"/>
                  </a:lnTo>
                  <a:lnTo>
                    <a:pt x="6146" y="2784"/>
                  </a:lnTo>
                  <a:lnTo>
                    <a:pt x="6341" y="2799"/>
                  </a:lnTo>
                  <a:lnTo>
                    <a:pt x="6539" y="2815"/>
                  </a:lnTo>
                  <a:lnTo>
                    <a:pt x="6738" y="2827"/>
                  </a:lnTo>
                  <a:lnTo>
                    <a:pt x="6938" y="2838"/>
                  </a:lnTo>
                  <a:lnTo>
                    <a:pt x="7140" y="2848"/>
                  </a:lnTo>
                  <a:lnTo>
                    <a:pt x="7344" y="2857"/>
                  </a:lnTo>
                  <a:lnTo>
                    <a:pt x="7549" y="2863"/>
                  </a:lnTo>
                  <a:lnTo>
                    <a:pt x="7755" y="2867"/>
                  </a:lnTo>
                  <a:lnTo>
                    <a:pt x="7963" y="2870"/>
                  </a:lnTo>
                  <a:lnTo>
                    <a:pt x="8172" y="2871"/>
                  </a:lnTo>
                  <a:lnTo>
                    <a:pt x="8172" y="2673"/>
                  </a:lnTo>
                  <a:lnTo>
                    <a:pt x="7965" y="2672"/>
                  </a:lnTo>
                  <a:lnTo>
                    <a:pt x="7758" y="2670"/>
                  </a:lnTo>
                  <a:lnTo>
                    <a:pt x="7553" y="2665"/>
                  </a:lnTo>
                  <a:lnTo>
                    <a:pt x="7350" y="2659"/>
                  </a:lnTo>
                  <a:lnTo>
                    <a:pt x="7148" y="2652"/>
                  </a:lnTo>
                  <a:lnTo>
                    <a:pt x="6948" y="2641"/>
                  </a:lnTo>
                  <a:lnTo>
                    <a:pt x="6749" y="2630"/>
                  </a:lnTo>
                  <a:lnTo>
                    <a:pt x="6552" y="2617"/>
                  </a:lnTo>
                  <a:lnTo>
                    <a:pt x="6357" y="2602"/>
                  </a:lnTo>
                  <a:lnTo>
                    <a:pt x="6164" y="2586"/>
                  </a:lnTo>
                  <a:lnTo>
                    <a:pt x="5972" y="2568"/>
                  </a:lnTo>
                  <a:lnTo>
                    <a:pt x="5783" y="2549"/>
                  </a:lnTo>
                  <a:lnTo>
                    <a:pt x="5595" y="2528"/>
                  </a:lnTo>
                  <a:lnTo>
                    <a:pt x="5409" y="2506"/>
                  </a:lnTo>
                  <a:lnTo>
                    <a:pt x="5226" y="2482"/>
                  </a:lnTo>
                  <a:lnTo>
                    <a:pt x="5044" y="2457"/>
                  </a:lnTo>
                  <a:lnTo>
                    <a:pt x="4865" y="2429"/>
                  </a:lnTo>
                  <a:lnTo>
                    <a:pt x="4689" y="2401"/>
                  </a:lnTo>
                  <a:lnTo>
                    <a:pt x="4514" y="2372"/>
                  </a:lnTo>
                  <a:lnTo>
                    <a:pt x="4342" y="2341"/>
                  </a:lnTo>
                  <a:lnTo>
                    <a:pt x="4173" y="2308"/>
                  </a:lnTo>
                  <a:lnTo>
                    <a:pt x="4006" y="2274"/>
                  </a:lnTo>
                  <a:lnTo>
                    <a:pt x="3842" y="2238"/>
                  </a:lnTo>
                  <a:lnTo>
                    <a:pt x="3681" y="2202"/>
                  </a:lnTo>
                  <a:lnTo>
                    <a:pt x="3522" y="2164"/>
                  </a:lnTo>
                  <a:lnTo>
                    <a:pt x="3367" y="2125"/>
                  </a:lnTo>
                  <a:lnTo>
                    <a:pt x="3214" y="2085"/>
                  </a:lnTo>
                  <a:lnTo>
                    <a:pt x="3063" y="2043"/>
                  </a:lnTo>
                  <a:lnTo>
                    <a:pt x="2990" y="2023"/>
                  </a:lnTo>
                  <a:lnTo>
                    <a:pt x="2917" y="2001"/>
                  </a:lnTo>
                  <a:lnTo>
                    <a:pt x="2845" y="1980"/>
                  </a:lnTo>
                  <a:lnTo>
                    <a:pt x="2773" y="1957"/>
                  </a:lnTo>
                  <a:lnTo>
                    <a:pt x="2703" y="1936"/>
                  </a:lnTo>
                  <a:lnTo>
                    <a:pt x="2633" y="1912"/>
                  </a:lnTo>
                  <a:lnTo>
                    <a:pt x="2564" y="1890"/>
                  </a:lnTo>
                  <a:lnTo>
                    <a:pt x="2496" y="1866"/>
                  </a:lnTo>
                  <a:lnTo>
                    <a:pt x="2428" y="1843"/>
                  </a:lnTo>
                  <a:lnTo>
                    <a:pt x="2362" y="1820"/>
                  </a:lnTo>
                  <a:lnTo>
                    <a:pt x="2296" y="1795"/>
                  </a:lnTo>
                  <a:lnTo>
                    <a:pt x="2231" y="1772"/>
                  </a:lnTo>
                  <a:lnTo>
                    <a:pt x="2168" y="1747"/>
                  </a:lnTo>
                  <a:lnTo>
                    <a:pt x="2104" y="1721"/>
                  </a:lnTo>
                  <a:lnTo>
                    <a:pt x="2042" y="1697"/>
                  </a:lnTo>
                  <a:lnTo>
                    <a:pt x="1981" y="1672"/>
                  </a:lnTo>
                  <a:lnTo>
                    <a:pt x="1920" y="1646"/>
                  </a:lnTo>
                  <a:lnTo>
                    <a:pt x="1860" y="1621"/>
                  </a:lnTo>
                  <a:lnTo>
                    <a:pt x="1802" y="1595"/>
                  </a:lnTo>
                  <a:lnTo>
                    <a:pt x="1744" y="1569"/>
                  </a:lnTo>
                  <a:lnTo>
                    <a:pt x="1686" y="1542"/>
                  </a:lnTo>
                  <a:lnTo>
                    <a:pt x="1631" y="1515"/>
                  </a:lnTo>
                  <a:lnTo>
                    <a:pt x="1576" y="1489"/>
                  </a:lnTo>
                  <a:lnTo>
                    <a:pt x="1522" y="1462"/>
                  </a:lnTo>
                  <a:lnTo>
                    <a:pt x="1469" y="1434"/>
                  </a:lnTo>
                  <a:lnTo>
                    <a:pt x="1417" y="1407"/>
                  </a:lnTo>
                  <a:lnTo>
                    <a:pt x="1367" y="1379"/>
                  </a:lnTo>
                  <a:lnTo>
                    <a:pt x="1316" y="1351"/>
                  </a:lnTo>
                  <a:lnTo>
                    <a:pt x="1267" y="1323"/>
                  </a:lnTo>
                  <a:lnTo>
                    <a:pt x="1219" y="1295"/>
                  </a:lnTo>
                  <a:lnTo>
                    <a:pt x="1172" y="1266"/>
                  </a:lnTo>
                  <a:lnTo>
                    <a:pt x="1126" y="1237"/>
                  </a:lnTo>
                  <a:lnTo>
                    <a:pt x="1081" y="1209"/>
                  </a:lnTo>
                  <a:lnTo>
                    <a:pt x="1037" y="1180"/>
                  </a:lnTo>
                  <a:lnTo>
                    <a:pt x="994" y="1150"/>
                  </a:lnTo>
                  <a:lnTo>
                    <a:pt x="952" y="1121"/>
                  </a:lnTo>
                  <a:lnTo>
                    <a:pt x="911" y="1092"/>
                  </a:lnTo>
                  <a:lnTo>
                    <a:pt x="871" y="1062"/>
                  </a:lnTo>
                  <a:lnTo>
                    <a:pt x="833" y="1032"/>
                  </a:lnTo>
                  <a:lnTo>
                    <a:pt x="795" y="1001"/>
                  </a:lnTo>
                  <a:lnTo>
                    <a:pt x="759" y="972"/>
                  </a:lnTo>
                  <a:lnTo>
                    <a:pt x="723" y="942"/>
                  </a:lnTo>
                  <a:lnTo>
                    <a:pt x="690" y="911"/>
                  </a:lnTo>
                  <a:lnTo>
                    <a:pt x="656" y="880"/>
                  </a:lnTo>
                  <a:lnTo>
                    <a:pt x="624" y="851"/>
                  </a:lnTo>
                  <a:lnTo>
                    <a:pt x="592" y="819"/>
                  </a:lnTo>
                  <a:lnTo>
                    <a:pt x="563" y="788"/>
                  </a:lnTo>
                  <a:lnTo>
                    <a:pt x="534" y="757"/>
                  </a:lnTo>
                  <a:lnTo>
                    <a:pt x="507" y="727"/>
                  </a:lnTo>
                  <a:lnTo>
                    <a:pt x="480" y="696"/>
                  </a:lnTo>
                  <a:lnTo>
                    <a:pt x="456" y="665"/>
                  </a:lnTo>
                  <a:lnTo>
                    <a:pt x="431" y="633"/>
                  </a:lnTo>
                  <a:lnTo>
                    <a:pt x="409" y="602"/>
                  </a:lnTo>
                  <a:lnTo>
                    <a:pt x="387" y="571"/>
                  </a:lnTo>
                  <a:lnTo>
                    <a:pt x="367" y="539"/>
                  </a:lnTo>
                  <a:lnTo>
                    <a:pt x="347" y="508"/>
                  </a:lnTo>
                  <a:lnTo>
                    <a:pt x="329" y="476"/>
                  </a:lnTo>
                  <a:lnTo>
                    <a:pt x="312" y="445"/>
                  </a:lnTo>
                  <a:lnTo>
                    <a:pt x="296" y="414"/>
                  </a:lnTo>
                  <a:lnTo>
                    <a:pt x="281" y="382"/>
                  </a:lnTo>
                  <a:lnTo>
                    <a:pt x="268" y="350"/>
                  </a:lnTo>
                  <a:lnTo>
                    <a:pt x="255" y="318"/>
                  </a:lnTo>
                  <a:lnTo>
                    <a:pt x="244" y="287"/>
                  </a:lnTo>
                  <a:lnTo>
                    <a:pt x="235" y="256"/>
                  </a:lnTo>
                  <a:lnTo>
                    <a:pt x="226" y="224"/>
                  </a:lnTo>
                  <a:lnTo>
                    <a:pt x="218" y="192"/>
                  </a:lnTo>
                  <a:lnTo>
                    <a:pt x="211" y="160"/>
                  </a:lnTo>
                  <a:lnTo>
                    <a:pt x="206" y="129"/>
                  </a:lnTo>
                  <a:lnTo>
                    <a:pt x="202" y="97"/>
                  </a:lnTo>
                  <a:lnTo>
                    <a:pt x="199" y="65"/>
                  </a:lnTo>
                  <a:lnTo>
                    <a:pt x="197" y="32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70320" y="5217840"/>
              <a:ext cx="360360" cy="127080"/>
            </a:xfrm>
            <a:custGeom>
              <a:avLst/>
              <a:gdLst/>
              <a:ahLst/>
              <a:rect l="l" t="t" r="r" b="b"/>
              <a:pathLst>
                <a:path w="8172" h="2871">
                  <a:moveTo>
                    <a:pt x="8172" y="0"/>
                  </a:moveTo>
                  <a:lnTo>
                    <a:pt x="8172" y="0"/>
                  </a:lnTo>
                  <a:lnTo>
                    <a:pt x="7963" y="1"/>
                  </a:lnTo>
                  <a:lnTo>
                    <a:pt x="7755" y="4"/>
                  </a:lnTo>
                  <a:lnTo>
                    <a:pt x="7549" y="9"/>
                  </a:lnTo>
                  <a:lnTo>
                    <a:pt x="7344" y="15"/>
                  </a:lnTo>
                  <a:lnTo>
                    <a:pt x="7140" y="22"/>
                  </a:lnTo>
                  <a:lnTo>
                    <a:pt x="6938" y="33"/>
                  </a:lnTo>
                  <a:lnTo>
                    <a:pt x="6738" y="44"/>
                  </a:lnTo>
                  <a:lnTo>
                    <a:pt x="6539" y="57"/>
                  </a:lnTo>
                  <a:lnTo>
                    <a:pt x="6341" y="72"/>
                  </a:lnTo>
                  <a:lnTo>
                    <a:pt x="6146" y="88"/>
                  </a:lnTo>
                  <a:lnTo>
                    <a:pt x="5953" y="107"/>
                  </a:lnTo>
                  <a:lnTo>
                    <a:pt x="5761" y="126"/>
                  </a:lnTo>
                  <a:lnTo>
                    <a:pt x="5572" y="147"/>
                  </a:lnTo>
                  <a:lnTo>
                    <a:pt x="5385" y="169"/>
                  </a:lnTo>
                  <a:lnTo>
                    <a:pt x="5199" y="194"/>
                  </a:lnTo>
                  <a:lnTo>
                    <a:pt x="5017" y="219"/>
                  </a:lnTo>
                  <a:lnTo>
                    <a:pt x="4836" y="247"/>
                  </a:lnTo>
                  <a:lnTo>
                    <a:pt x="4657" y="275"/>
                  </a:lnTo>
                  <a:lnTo>
                    <a:pt x="4480" y="306"/>
                  </a:lnTo>
                  <a:lnTo>
                    <a:pt x="4307" y="337"/>
                  </a:lnTo>
                  <a:lnTo>
                    <a:pt x="4135" y="369"/>
                  </a:lnTo>
                  <a:lnTo>
                    <a:pt x="3966" y="404"/>
                  </a:lnTo>
                  <a:lnTo>
                    <a:pt x="3801" y="440"/>
                  </a:lnTo>
                  <a:lnTo>
                    <a:pt x="3638" y="477"/>
                  </a:lnTo>
                  <a:lnTo>
                    <a:pt x="3476" y="515"/>
                  </a:lnTo>
                  <a:lnTo>
                    <a:pt x="3318" y="555"/>
                  </a:lnTo>
                  <a:lnTo>
                    <a:pt x="3163" y="595"/>
                  </a:lnTo>
                  <a:lnTo>
                    <a:pt x="3011" y="637"/>
                  </a:lnTo>
                  <a:lnTo>
                    <a:pt x="2861" y="681"/>
                  </a:lnTo>
                  <a:lnTo>
                    <a:pt x="2715" y="725"/>
                  </a:lnTo>
                  <a:lnTo>
                    <a:pt x="2572" y="771"/>
                  </a:lnTo>
                  <a:lnTo>
                    <a:pt x="2433" y="817"/>
                  </a:lnTo>
                  <a:lnTo>
                    <a:pt x="2364" y="842"/>
                  </a:lnTo>
                  <a:lnTo>
                    <a:pt x="2295" y="867"/>
                  </a:lnTo>
                  <a:lnTo>
                    <a:pt x="2228" y="890"/>
                  </a:lnTo>
                  <a:lnTo>
                    <a:pt x="2163" y="915"/>
                  </a:lnTo>
                  <a:lnTo>
                    <a:pt x="2096" y="940"/>
                  </a:lnTo>
                  <a:lnTo>
                    <a:pt x="2032" y="965"/>
                  </a:lnTo>
                  <a:lnTo>
                    <a:pt x="1968" y="991"/>
                  </a:lnTo>
                  <a:lnTo>
                    <a:pt x="1905" y="1017"/>
                  </a:lnTo>
                  <a:lnTo>
                    <a:pt x="1843" y="1043"/>
                  </a:lnTo>
                  <a:lnTo>
                    <a:pt x="1781" y="1070"/>
                  </a:lnTo>
                  <a:lnTo>
                    <a:pt x="1721" y="1096"/>
                  </a:lnTo>
                  <a:lnTo>
                    <a:pt x="1662" y="1123"/>
                  </a:lnTo>
                  <a:lnTo>
                    <a:pt x="1604" y="1151"/>
                  </a:lnTo>
                  <a:lnTo>
                    <a:pt x="1547" y="1178"/>
                  </a:lnTo>
                  <a:lnTo>
                    <a:pt x="1489" y="1206"/>
                  </a:lnTo>
                  <a:lnTo>
                    <a:pt x="1433" y="1234"/>
                  </a:lnTo>
                  <a:lnTo>
                    <a:pt x="1379" y="1261"/>
                  </a:lnTo>
                  <a:lnTo>
                    <a:pt x="1325" y="1290"/>
                  </a:lnTo>
                  <a:lnTo>
                    <a:pt x="1272" y="1319"/>
                  </a:lnTo>
                  <a:lnTo>
                    <a:pt x="1220" y="1348"/>
                  </a:lnTo>
                  <a:lnTo>
                    <a:pt x="1169" y="1377"/>
                  </a:lnTo>
                  <a:lnTo>
                    <a:pt x="1119" y="1407"/>
                  </a:lnTo>
                  <a:lnTo>
                    <a:pt x="1070" y="1437"/>
                  </a:lnTo>
                  <a:lnTo>
                    <a:pt x="1022" y="1466"/>
                  </a:lnTo>
                  <a:lnTo>
                    <a:pt x="973" y="1497"/>
                  </a:lnTo>
                  <a:lnTo>
                    <a:pt x="928" y="1528"/>
                  </a:lnTo>
                  <a:lnTo>
                    <a:pt x="883" y="1559"/>
                  </a:lnTo>
                  <a:lnTo>
                    <a:pt x="838" y="1590"/>
                  </a:lnTo>
                  <a:lnTo>
                    <a:pt x="795" y="1620"/>
                  </a:lnTo>
                  <a:lnTo>
                    <a:pt x="753" y="1652"/>
                  </a:lnTo>
                  <a:lnTo>
                    <a:pt x="712" y="1684"/>
                  </a:lnTo>
                  <a:lnTo>
                    <a:pt x="672" y="1716"/>
                  </a:lnTo>
                  <a:lnTo>
                    <a:pt x="632" y="1747"/>
                  </a:lnTo>
                  <a:lnTo>
                    <a:pt x="595" y="1780"/>
                  </a:lnTo>
                  <a:lnTo>
                    <a:pt x="558" y="1813"/>
                  </a:lnTo>
                  <a:lnTo>
                    <a:pt x="522" y="1846"/>
                  </a:lnTo>
                  <a:lnTo>
                    <a:pt x="486" y="1880"/>
                  </a:lnTo>
                  <a:lnTo>
                    <a:pt x="454" y="1913"/>
                  </a:lnTo>
                  <a:lnTo>
                    <a:pt x="421" y="1946"/>
                  </a:lnTo>
                  <a:lnTo>
                    <a:pt x="389" y="1980"/>
                  </a:lnTo>
                  <a:lnTo>
                    <a:pt x="359" y="2015"/>
                  </a:lnTo>
                  <a:lnTo>
                    <a:pt x="330" y="2050"/>
                  </a:lnTo>
                  <a:lnTo>
                    <a:pt x="301" y="2085"/>
                  </a:lnTo>
                  <a:lnTo>
                    <a:pt x="275" y="2119"/>
                  </a:lnTo>
                  <a:lnTo>
                    <a:pt x="248" y="2155"/>
                  </a:lnTo>
                  <a:lnTo>
                    <a:pt x="224" y="2191"/>
                  </a:lnTo>
                  <a:lnTo>
                    <a:pt x="200" y="2226"/>
                  </a:lnTo>
                  <a:lnTo>
                    <a:pt x="179" y="2262"/>
                  </a:lnTo>
                  <a:lnTo>
                    <a:pt x="157" y="2298"/>
                  </a:lnTo>
                  <a:lnTo>
                    <a:pt x="138" y="2335"/>
                  </a:lnTo>
                  <a:lnTo>
                    <a:pt x="118" y="2372"/>
                  </a:lnTo>
                  <a:lnTo>
                    <a:pt x="102" y="2409"/>
                  </a:lnTo>
                  <a:lnTo>
                    <a:pt x="86" y="2446"/>
                  </a:lnTo>
                  <a:lnTo>
                    <a:pt x="72" y="2484"/>
                  </a:lnTo>
                  <a:lnTo>
                    <a:pt x="58" y="2522"/>
                  </a:lnTo>
                  <a:lnTo>
                    <a:pt x="46" y="2560"/>
                  </a:lnTo>
                  <a:lnTo>
                    <a:pt x="36" y="2598"/>
                  </a:lnTo>
                  <a:lnTo>
                    <a:pt x="27" y="2637"/>
                  </a:lnTo>
                  <a:lnTo>
                    <a:pt x="18" y="2676"/>
                  </a:lnTo>
                  <a:lnTo>
                    <a:pt x="11" y="2715"/>
                  </a:lnTo>
                  <a:lnTo>
                    <a:pt x="7" y="2754"/>
                  </a:lnTo>
                  <a:lnTo>
                    <a:pt x="3" y="2793"/>
                  </a:lnTo>
                  <a:lnTo>
                    <a:pt x="1" y="2831"/>
                  </a:lnTo>
                  <a:lnTo>
                    <a:pt x="0" y="2871"/>
                  </a:lnTo>
                  <a:lnTo>
                    <a:pt x="197" y="2871"/>
                  </a:lnTo>
                  <a:lnTo>
                    <a:pt x="197" y="2839"/>
                  </a:lnTo>
                  <a:lnTo>
                    <a:pt x="199" y="2807"/>
                  </a:lnTo>
                  <a:lnTo>
                    <a:pt x="202" y="2775"/>
                  </a:lnTo>
                  <a:lnTo>
                    <a:pt x="206" y="2743"/>
                  </a:lnTo>
                  <a:lnTo>
                    <a:pt x="211" y="2711"/>
                  </a:lnTo>
                  <a:lnTo>
                    <a:pt x="218" y="2680"/>
                  </a:lnTo>
                  <a:lnTo>
                    <a:pt x="226" y="2648"/>
                  </a:lnTo>
                  <a:lnTo>
                    <a:pt x="235" y="2616"/>
                  </a:lnTo>
                  <a:lnTo>
                    <a:pt x="244" y="2584"/>
                  </a:lnTo>
                  <a:lnTo>
                    <a:pt x="255" y="2553"/>
                  </a:lnTo>
                  <a:lnTo>
                    <a:pt x="268" y="2521"/>
                  </a:lnTo>
                  <a:lnTo>
                    <a:pt x="281" y="2489"/>
                  </a:lnTo>
                  <a:lnTo>
                    <a:pt x="296" y="2458"/>
                  </a:lnTo>
                  <a:lnTo>
                    <a:pt x="312" y="2426"/>
                  </a:lnTo>
                  <a:lnTo>
                    <a:pt x="329" y="2395"/>
                  </a:lnTo>
                  <a:lnTo>
                    <a:pt x="347" y="2364"/>
                  </a:lnTo>
                  <a:lnTo>
                    <a:pt x="367" y="2332"/>
                  </a:lnTo>
                  <a:lnTo>
                    <a:pt x="387" y="2300"/>
                  </a:lnTo>
                  <a:lnTo>
                    <a:pt x="409" y="2269"/>
                  </a:lnTo>
                  <a:lnTo>
                    <a:pt x="431" y="2239"/>
                  </a:lnTo>
                  <a:lnTo>
                    <a:pt x="456" y="2207"/>
                  </a:lnTo>
                  <a:lnTo>
                    <a:pt x="480" y="2175"/>
                  </a:lnTo>
                  <a:lnTo>
                    <a:pt x="507" y="2144"/>
                  </a:lnTo>
                  <a:lnTo>
                    <a:pt x="534" y="2114"/>
                  </a:lnTo>
                  <a:lnTo>
                    <a:pt x="563" y="2083"/>
                  </a:lnTo>
                  <a:lnTo>
                    <a:pt x="592" y="2052"/>
                  </a:lnTo>
                  <a:lnTo>
                    <a:pt x="624" y="2021"/>
                  </a:lnTo>
                  <a:lnTo>
                    <a:pt x="656" y="1991"/>
                  </a:lnTo>
                  <a:lnTo>
                    <a:pt x="690" y="1960"/>
                  </a:lnTo>
                  <a:lnTo>
                    <a:pt x="723" y="1930"/>
                  </a:lnTo>
                  <a:lnTo>
                    <a:pt x="759" y="1899"/>
                  </a:lnTo>
                  <a:lnTo>
                    <a:pt x="795" y="1870"/>
                  </a:lnTo>
                  <a:lnTo>
                    <a:pt x="833" y="1839"/>
                  </a:lnTo>
                  <a:lnTo>
                    <a:pt x="871" y="1810"/>
                  </a:lnTo>
                  <a:lnTo>
                    <a:pt x="911" y="1780"/>
                  </a:lnTo>
                  <a:lnTo>
                    <a:pt x="952" y="1751"/>
                  </a:lnTo>
                  <a:lnTo>
                    <a:pt x="994" y="1721"/>
                  </a:lnTo>
                  <a:lnTo>
                    <a:pt x="1037" y="1691"/>
                  </a:lnTo>
                  <a:lnTo>
                    <a:pt x="1081" y="1662"/>
                  </a:lnTo>
                  <a:lnTo>
                    <a:pt x="1126" y="1634"/>
                  </a:lnTo>
                  <a:lnTo>
                    <a:pt x="1172" y="1605"/>
                  </a:lnTo>
                  <a:lnTo>
                    <a:pt x="1219" y="1577"/>
                  </a:lnTo>
                  <a:lnTo>
                    <a:pt x="1267" y="1549"/>
                  </a:lnTo>
                  <a:lnTo>
                    <a:pt x="1316" y="1521"/>
                  </a:lnTo>
                  <a:lnTo>
                    <a:pt x="1367" y="1492"/>
                  </a:lnTo>
                  <a:lnTo>
                    <a:pt x="1417" y="1464"/>
                  </a:lnTo>
                  <a:lnTo>
                    <a:pt x="1470" y="1438"/>
                  </a:lnTo>
                  <a:lnTo>
                    <a:pt x="1522" y="1410"/>
                  </a:lnTo>
                  <a:lnTo>
                    <a:pt x="1576" y="1382"/>
                  </a:lnTo>
                  <a:lnTo>
                    <a:pt x="1631" y="1356"/>
                  </a:lnTo>
                  <a:lnTo>
                    <a:pt x="1686" y="1329"/>
                  </a:lnTo>
                  <a:lnTo>
                    <a:pt x="1744" y="1302"/>
                  </a:lnTo>
                  <a:lnTo>
                    <a:pt x="1802" y="1277"/>
                  </a:lnTo>
                  <a:lnTo>
                    <a:pt x="1860" y="1251"/>
                  </a:lnTo>
                  <a:lnTo>
                    <a:pt x="1920" y="1225"/>
                  </a:lnTo>
                  <a:lnTo>
                    <a:pt x="1981" y="1200"/>
                  </a:lnTo>
                  <a:lnTo>
                    <a:pt x="2042" y="1174"/>
                  </a:lnTo>
                  <a:lnTo>
                    <a:pt x="2104" y="1150"/>
                  </a:lnTo>
                  <a:lnTo>
                    <a:pt x="2168" y="1125"/>
                  </a:lnTo>
                  <a:lnTo>
                    <a:pt x="2231" y="1100"/>
                  </a:lnTo>
                  <a:lnTo>
                    <a:pt x="2296" y="1076"/>
                  </a:lnTo>
                  <a:lnTo>
                    <a:pt x="2362" y="1052"/>
                  </a:lnTo>
                  <a:lnTo>
                    <a:pt x="2428" y="1029"/>
                  </a:lnTo>
                  <a:lnTo>
                    <a:pt x="2496" y="1005"/>
                  </a:lnTo>
                  <a:lnTo>
                    <a:pt x="2633" y="959"/>
                  </a:lnTo>
                  <a:lnTo>
                    <a:pt x="2773" y="914"/>
                  </a:lnTo>
                  <a:lnTo>
                    <a:pt x="2917" y="871"/>
                  </a:lnTo>
                  <a:lnTo>
                    <a:pt x="3065" y="828"/>
                  </a:lnTo>
                  <a:lnTo>
                    <a:pt x="3214" y="787"/>
                  </a:lnTo>
                  <a:lnTo>
                    <a:pt x="3367" y="747"/>
                  </a:lnTo>
                  <a:lnTo>
                    <a:pt x="3522" y="707"/>
                  </a:lnTo>
                  <a:lnTo>
                    <a:pt x="3681" y="670"/>
                  </a:lnTo>
                  <a:lnTo>
                    <a:pt x="3842" y="633"/>
                  </a:lnTo>
                  <a:lnTo>
                    <a:pt x="4006" y="598"/>
                  </a:lnTo>
                  <a:lnTo>
                    <a:pt x="4173" y="564"/>
                  </a:lnTo>
                  <a:lnTo>
                    <a:pt x="4342" y="531"/>
                  </a:lnTo>
                  <a:lnTo>
                    <a:pt x="4514" y="500"/>
                  </a:lnTo>
                  <a:lnTo>
                    <a:pt x="4689" y="470"/>
                  </a:lnTo>
                  <a:lnTo>
                    <a:pt x="4865" y="442"/>
                  </a:lnTo>
                  <a:lnTo>
                    <a:pt x="5044" y="415"/>
                  </a:lnTo>
                  <a:lnTo>
                    <a:pt x="5226" y="390"/>
                  </a:lnTo>
                  <a:lnTo>
                    <a:pt x="5409" y="366"/>
                  </a:lnTo>
                  <a:lnTo>
                    <a:pt x="5595" y="343"/>
                  </a:lnTo>
                  <a:lnTo>
                    <a:pt x="5783" y="322"/>
                  </a:lnTo>
                  <a:lnTo>
                    <a:pt x="5972" y="302"/>
                  </a:lnTo>
                  <a:lnTo>
                    <a:pt x="6164" y="285"/>
                  </a:lnTo>
                  <a:lnTo>
                    <a:pt x="6357" y="269"/>
                  </a:lnTo>
                  <a:lnTo>
                    <a:pt x="6552" y="254"/>
                  </a:lnTo>
                  <a:lnTo>
                    <a:pt x="6749" y="241"/>
                  </a:lnTo>
                  <a:lnTo>
                    <a:pt x="6948" y="230"/>
                  </a:lnTo>
                  <a:lnTo>
                    <a:pt x="7148" y="220"/>
                  </a:lnTo>
                  <a:lnTo>
                    <a:pt x="7350" y="212"/>
                  </a:lnTo>
                  <a:lnTo>
                    <a:pt x="7553" y="206"/>
                  </a:lnTo>
                  <a:lnTo>
                    <a:pt x="7758" y="201"/>
                  </a:lnTo>
                  <a:lnTo>
                    <a:pt x="7965" y="199"/>
                  </a:lnTo>
                  <a:lnTo>
                    <a:pt x="8172" y="198"/>
                  </a:lnTo>
                  <a:lnTo>
                    <a:pt x="8172" y="198"/>
                  </a:lnTo>
                  <a:lnTo>
                    <a:pt x="8172" y="0"/>
                  </a:lnTo>
                  <a:lnTo>
                    <a:pt x="8172" y="0"/>
                  </a:lnTo>
                  <a:lnTo>
                    <a:pt x="8172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30680" y="5217840"/>
              <a:ext cx="360360" cy="127080"/>
            </a:xfrm>
            <a:custGeom>
              <a:avLst/>
              <a:gdLst/>
              <a:ahLst/>
              <a:rect l="l" t="t" r="r" b="b"/>
              <a:pathLst>
                <a:path w="8172" h="2871">
                  <a:moveTo>
                    <a:pt x="8172" y="2871"/>
                  </a:moveTo>
                  <a:lnTo>
                    <a:pt x="8172" y="2871"/>
                  </a:lnTo>
                  <a:lnTo>
                    <a:pt x="8171" y="2831"/>
                  </a:lnTo>
                  <a:lnTo>
                    <a:pt x="8169" y="2793"/>
                  </a:lnTo>
                  <a:lnTo>
                    <a:pt x="8165" y="2754"/>
                  </a:lnTo>
                  <a:lnTo>
                    <a:pt x="8161" y="2715"/>
                  </a:lnTo>
                  <a:lnTo>
                    <a:pt x="8154" y="2676"/>
                  </a:lnTo>
                  <a:lnTo>
                    <a:pt x="8145" y="2637"/>
                  </a:lnTo>
                  <a:lnTo>
                    <a:pt x="8136" y="2598"/>
                  </a:lnTo>
                  <a:lnTo>
                    <a:pt x="8126" y="2560"/>
                  </a:lnTo>
                  <a:lnTo>
                    <a:pt x="8114" y="2522"/>
                  </a:lnTo>
                  <a:lnTo>
                    <a:pt x="8100" y="2484"/>
                  </a:lnTo>
                  <a:lnTo>
                    <a:pt x="8086" y="2447"/>
                  </a:lnTo>
                  <a:lnTo>
                    <a:pt x="8070" y="2409"/>
                  </a:lnTo>
                  <a:lnTo>
                    <a:pt x="8052" y="2372"/>
                  </a:lnTo>
                  <a:lnTo>
                    <a:pt x="8034" y="2335"/>
                  </a:lnTo>
                  <a:lnTo>
                    <a:pt x="8015" y="2298"/>
                  </a:lnTo>
                  <a:lnTo>
                    <a:pt x="7993" y="2262"/>
                  </a:lnTo>
                  <a:lnTo>
                    <a:pt x="7972" y="2226"/>
                  </a:lnTo>
                  <a:lnTo>
                    <a:pt x="7948" y="2191"/>
                  </a:lnTo>
                  <a:lnTo>
                    <a:pt x="7924" y="2155"/>
                  </a:lnTo>
                  <a:lnTo>
                    <a:pt x="7897" y="2119"/>
                  </a:lnTo>
                  <a:lnTo>
                    <a:pt x="7871" y="2084"/>
                  </a:lnTo>
                  <a:lnTo>
                    <a:pt x="7842" y="2050"/>
                  </a:lnTo>
                  <a:lnTo>
                    <a:pt x="7813" y="2015"/>
                  </a:lnTo>
                  <a:lnTo>
                    <a:pt x="7783" y="1980"/>
                  </a:lnTo>
                  <a:lnTo>
                    <a:pt x="7751" y="1946"/>
                  </a:lnTo>
                  <a:lnTo>
                    <a:pt x="7718" y="1913"/>
                  </a:lnTo>
                  <a:lnTo>
                    <a:pt x="7685" y="1880"/>
                  </a:lnTo>
                  <a:lnTo>
                    <a:pt x="7650" y="1846"/>
                  </a:lnTo>
                  <a:lnTo>
                    <a:pt x="7614" y="1813"/>
                  </a:lnTo>
                  <a:lnTo>
                    <a:pt x="7577" y="1780"/>
                  </a:lnTo>
                  <a:lnTo>
                    <a:pt x="7540" y="1747"/>
                  </a:lnTo>
                  <a:lnTo>
                    <a:pt x="7500" y="1716"/>
                  </a:lnTo>
                  <a:lnTo>
                    <a:pt x="7460" y="1684"/>
                  </a:lnTo>
                  <a:lnTo>
                    <a:pt x="7419" y="1652"/>
                  </a:lnTo>
                  <a:lnTo>
                    <a:pt x="7377" y="1620"/>
                  </a:lnTo>
                  <a:lnTo>
                    <a:pt x="7333" y="1590"/>
                  </a:lnTo>
                  <a:lnTo>
                    <a:pt x="7289" y="1559"/>
                  </a:lnTo>
                  <a:lnTo>
                    <a:pt x="7244" y="1528"/>
                  </a:lnTo>
                  <a:lnTo>
                    <a:pt x="7199" y="1497"/>
                  </a:lnTo>
                  <a:lnTo>
                    <a:pt x="7151" y="1466"/>
                  </a:lnTo>
                  <a:lnTo>
                    <a:pt x="7102" y="1437"/>
                  </a:lnTo>
                  <a:lnTo>
                    <a:pt x="7053" y="1407"/>
                  </a:lnTo>
                  <a:lnTo>
                    <a:pt x="7003" y="1377"/>
                  </a:lnTo>
                  <a:lnTo>
                    <a:pt x="6952" y="1348"/>
                  </a:lnTo>
                  <a:lnTo>
                    <a:pt x="6900" y="1319"/>
                  </a:lnTo>
                  <a:lnTo>
                    <a:pt x="6847" y="1290"/>
                  </a:lnTo>
                  <a:lnTo>
                    <a:pt x="6793" y="1261"/>
                  </a:lnTo>
                  <a:lnTo>
                    <a:pt x="6738" y="1234"/>
                  </a:lnTo>
                  <a:lnTo>
                    <a:pt x="6683" y="1206"/>
                  </a:lnTo>
                  <a:lnTo>
                    <a:pt x="6625" y="1178"/>
                  </a:lnTo>
                  <a:lnTo>
                    <a:pt x="6568" y="1151"/>
                  </a:lnTo>
                  <a:lnTo>
                    <a:pt x="6510" y="1123"/>
                  </a:lnTo>
                  <a:lnTo>
                    <a:pt x="6450" y="1096"/>
                  </a:lnTo>
                  <a:lnTo>
                    <a:pt x="6389" y="1070"/>
                  </a:lnTo>
                  <a:lnTo>
                    <a:pt x="6329" y="1043"/>
                  </a:lnTo>
                  <a:lnTo>
                    <a:pt x="6267" y="1017"/>
                  </a:lnTo>
                  <a:lnTo>
                    <a:pt x="6204" y="991"/>
                  </a:lnTo>
                  <a:lnTo>
                    <a:pt x="6140" y="965"/>
                  </a:lnTo>
                  <a:lnTo>
                    <a:pt x="6076" y="940"/>
                  </a:lnTo>
                  <a:lnTo>
                    <a:pt x="6009" y="915"/>
                  </a:lnTo>
                  <a:lnTo>
                    <a:pt x="5943" y="890"/>
                  </a:lnTo>
                  <a:lnTo>
                    <a:pt x="5877" y="867"/>
                  </a:lnTo>
                  <a:lnTo>
                    <a:pt x="5808" y="842"/>
                  </a:lnTo>
                  <a:lnTo>
                    <a:pt x="5739" y="817"/>
                  </a:lnTo>
                  <a:lnTo>
                    <a:pt x="5600" y="771"/>
                  </a:lnTo>
                  <a:lnTo>
                    <a:pt x="5456" y="725"/>
                  </a:lnTo>
                  <a:lnTo>
                    <a:pt x="5310" y="681"/>
                  </a:lnTo>
                  <a:lnTo>
                    <a:pt x="5161" y="637"/>
                  </a:lnTo>
                  <a:lnTo>
                    <a:pt x="5008" y="595"/>
                  </a:lnTo>
                  <a:lnTo>
                    <a:pt x="4854" y="555"/>
                  </a:lnTo>
                  <a:lnTo>
                    <a:pt x="4696" y="515"/>
                  </a:lnTo>
                  <a:lnTo>
                    <a:pt x="4534" y="477"/>
                  </a:lnTo>
                  <a:lnTo>
                    <a:pt x="4371" y="440"/>
                  </a:lnTo>
                  <a:lnTo>
                    <a:pt x="4206" y="404"/>
                  </a:lnTo>
                  <a:lnTo>
                    <a:pt x="4036" y="369"/>
                  </a:lnTo>
                  <a:lnTo>
                    <a:pt x="3865" y="337"/>
                  </a:lnTo>
                  <a:lnTo>
                    <a:pt x="3692" y="306"/>
                  </a:lnTo>
                  <a:lnTo>
                    <a:pt x="3515" y="275"/>
                  </a:lnTo>
                  <a:lnTo>
                    <a:pt x="3336" y="247"/>
                  </a:lnTo>
                  <a:lnTo>
                    <a:pt x="3155" y="219"/>
                  </a:lnTo>
                  <a:lnTo>
                    <a:pt x="2973" y="194"/>
                  </a:lnTo>
                  <a:lnTo>
                    <a:pt x="2787" y="169"/>
                  </a:lnTo>
                  <a:lnTo>
                    <a:pt x="2600" y="147"/>
                  </a:lnTo>
                  <a:lnTo>
                    <a:pt x="2411" y="126"/>
                  </a:lnTo>
                  <a:lnTo>
                    <a:pt x="2219" y="107"/>
                  </a:lnTo>
                  <a:lnTo>
                    <a:pt x="2026" y="88"/>
                  </a:lnTo>
                  <a:lnTo>
                    <a:pt x="1831" y="72"/>
                  </a:lnTo>
                  <a:lnTo>
                    <a:pt x="1633" y="57"/>
                  </a:lnTo>
                  <a:lnTo>
                    <a:pt x="1434" y="44"/>
                  </a:lnTo>
                  <a:lnTo>
                    <a:pt x="1234" y="33"/>
                  </a:lnTo>
                  <a:lnTo>
                    <a:pt x="1032" y="22"/>
                  </a:lnTo>
                  <a:lnTo>
                    <a:pt x="828" y="15"/>
                  </a:lnTo>
                  <a:lnTo>
                    <a:pt x="623" y="9"/>
                  </a:lnTo>
                  <a:lnTo>
                    <a:pt x="417" y="4"/>
                  </a:lnTo>
                  <a:lnTo>
                    <a:pt x="209" y="1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07" y="199"/>
                  </a:lnTo>
                  <a:lnTo>
                    <a:pt x="414" y="201"/>
                  </a:lnTo>
                  <a:lnTo>
                    <a:pt x="619" y="206"/>
                  </a:lnTo>
                  <a:lnTo>
                    <a:pt x="822" y="212"/>
                  </a:lnTo>
                  <a:lnTo>
                    <a:pt x="1024" y="220"/>
                  </a:lnTo>
                  <a:lnTo>
                    <a:pt x="1224" y="230"/>
                  </a:lnTo>
                  <a:lnTo>
                    <a:pt x="1423" y="241"/>
                  </a:lnTo>
                  <a:lnTo>
                    <a:pt x="1620" y="254"/>
                  </a:lnTo>
                  <a:lnTo>
                    <a:pt x="1815" y="269"/>
                  </a:lnTo>
                  <a:lnTo>
                    <a:pt x="2008" y="285"/>
                  </a:lnTo>
                  <a:lnTo>
                    <a:pt x="2200" y="302"/>
                  </a:lnTo>
                  <a:lnTo>
                    <a:pt x="2389" y="322"/>
                  </a:lnTo>
                  <a:lnTo>
                    <a:pt x="2577" y="343"/>
                  </a:lnTo>
                  <a:lnTo>
                    <a:pt x="2763" y="366"/>
                  </a:lnTo>
                  <a:lnTo>
                    <a:pt x="2946" y="390"/>
                  </a:lnTo>
                  <a:lnTo>
                    <a:pt x="3128" y="415"/>
                  </a:lnTo>
                  <a:lnTo>
                    <a:pt x="3307" y="442"/>
                  </a:lnTo>
                  <a:lnTo>
                    <a:pt x="3483" y="470"/>
                  </a:lnTo>
                  <a:lnTo>
                    <a:pt x="3657" y="500"/>
                  </a:lnTo>
                  <a:lnTo>
                    <a:pt x="3830" y="531"/>
                  </a:lnTo>
                  <a:lnTo>
                    <a:pt x="3998" y="564"/>
                  </a:lnTo>
                  <a:lnTo>
                    <a:pt x="4166" y="598"/>
                  </a:lnTo>
                  <a:lnTo>
                    <a:pt x="4329" y="633"/>
                  </a:lnTo>
                  <a:lnTo>
                    <a:pt x="4491" y="670"/>
                  </a:lnTo>
                  <a:lnTo>
                    <a:pt x="4650" y="707"/>
                  </a:lnTo>
                  <a:lnTo>
                    <a:pt x="4805" y="747"/>
                  </a:lnTo>
                  <a:lnTo>
                    <a:pt x="4958" y="787"/>
                  </a:lnTo>
                  <a:lnTo>
                    <a:pt x="5108" y="828"/>
                  </a:lnTo>
                  <a:lnTo>
                    <a:pt x="5255" y="871"/>
                  </a:lnTo>
                  <a:lnTo>
                    <a:pt x="5399" y="914"/>
                  </a:lnTo>
                  <a:lnTo>
                    <a:pt x="5539" y="959"/>
                  </a:lnTo>
                  <a:lnTo>
                    <a:pt x="5676" y="1005"/>
                  </a:lnTo>
                  <a:lnTo>
                    <a:pt x="5744" y="1029"/>
                  </a:lnTo>
                  <a:lnTo>
                    <a:pt x="5810" y="1052"/>
                  </a:lnTo>
                  <a:lnTo>
                    <a:pt x="5876" y="1076"/>
                  </a:lnTo>
                  <a:lnTo>
                    <a:pt x="5941" y="1100"/>
                  </a:lnTo>
                  <a:lnTo>
                    <a:pt x="6004" y="1125"/>
                  </a:lnTo>
                  <a:lnTo>
                    <a:pt x="6068" y="1150"/>
                  </a:lnTo>
                  <a:lnTo>
                    <a:pt x="6130" y="1174"/>
                  </a:lnTo>
                  <a:lnTo>
                    <a:pt x="6191" y="1200"/>
                  </a:lnTo>
                  <a:lnTo>
                    <a:pt x="6252" y="1225"/>
                  </a:lnTo>
                  <a:lnTo>
                    <a:pt x="6312" y="1251"/>
                  </a:lnTo>
                  <a:lnTo>
                    <a:pt x="6370" y="1277"/>
                  </a:lnTo>
                  <a:lnTo>
                    <a:pt x="6428" y="1302"/>
                  </a:lnTo>
                  <a:lnTo>
                    <a:pt x="6484" y="1329"/>
                  </a:lnTo>
                  <a:lnTo>
                    <a:pt x="6541" y="1356"/>
                  </a:lnTo>
                  <a:lnTo>
                    <a:pt x="6596" y="1382"/>
                  </a:lnTo>
                  <a:lnTo>
                    <a:pt x="6650" y="1410"/>
                  </a:lnTo>
                  <a:lnTo>
                    <a:pt x="6702" y="1438"/>
                  </a:lnTo>
                  <a:lnTo>
                    <a:pt x="6754" y="1464"/>
                  </a:lnTo>
                  <a:lnTo>
                    <a:pt x="6806" y="1492"/>
                  </a:lnTo>
                  <a:lnTo>
                    <a:pt x="6856" y="1521"/>
                  </a:lnTo>
                  <a:lnTo>
                    <a:pt x="6904" y="1549"/>
                  </a:lnTo>
                  <a:lnTo>
                    <a:pt x="6953" y="1577"/>
                  </a:lnTo>
                  <a:lnTo>
                    <a:pt x="7000" y="1605"/>
                  </a:lnTo>
                  <a:lnTo>
                    <a:pt x="7046" y="1634"/>
                  </a:lnTo>
                  <a:lnTo>
                    <a:pt x="7091" y="1662"/>
                  </a:lnTo>
                  <a:lnTo>
                    <a:pt x="7135" y="1691"/>
                  </a:lnTo>
                  <a:lnTo>
                    <a:pt x="7178" y="1721"/>
                  </a:lnTo>
                  <a:lnTo>
                    <a:pt x="7220" y="1751"/>
                  </a:lnTo>
                  <a:lnTo>
                    <a:pt x="7261" y="1780"/>
                  </a:lnTo>
                  <a:lnTo>
                    <a:pt x="7301" y="1810"/>
                  </a:lnTo>
                  <a:lnTo>
                    <a:pt x="7339" y="1839"/>
                  </a:lnTo>
                  <a:lnTo>
                    <a:pt x="7377" y="1870"/>
                  </a:lnTo>
                  <a:lnTo>
                    <a:pt x="7413" y="1899"/>
                  </a:lnTo>
                  <a:lnTo>
                    <a:pt x="7449" y="1930"/>
                  </a:lnTo>
                  <a:lnTo>
                    <a:pt x="7482" y="1960"/>
                  </a:lnTo>
                  <a:lnTo>
                    <a:pt x="7516" y="1991"/>
                  </a:lnTo>
                  <a:lnTo>
                    <a:pt x="7548" y="2021"/>
                  </a:lnTo>
                  <a:lnTo>
                    <a:pt x="7580" y="2052"/>
                  </a:lnTo>
                  <a:lnTo>
                    <a:pt x="7609" y="2083"/>
                  </a:lnTo>
                  <a:lnTo>
                    <a:pt x="7638" y="2114"/>
                  </a:lnTo>
                  <a:lnTo>
                    <a:pt x="7664" y="2144"/>
                  </a:lnTo>
                  <a:lnTo>
                    <a:pt x="7691" y="2175"/>
                  </a:lnTo>
                  <a:lnTo>
                    <a:pt x="7716" y="2207"/>
                  </a:lnTo>
                  <a:lnTo>
                    <a:pt x="7741" y="2239"/>
                  </a:lnTo>
                  <a:lnTo>
                    <a:pt x="7763" y="2269"/>
                  </a:lnTo>
                  <a:lnTo>
                    <a:pt x="7785" y="2300"/>
                  </a:lnTo>
                  <a:lnTo>
                    <a:pt x="7805" y="2332"/>
                  </a:lnTo>
                  <a:lnTo>
                    <a:pt x="7825" y="2364"/>
                  </a:lnTo>
                  <a:lnTo>
                    <a:pt x="7843" y="2395"/>
                  </a:lnTo>
                  <a:lnTo>
                    <a:pt x="7860" y="2426"/>
                  </a:lnTo>
                  <a:lnTo>
                    <a:pt x="7876" y="2458"/>
                  </a:lnTo>
                  <a:lnTo>
                    <a:pt x="7890" y="2489"/>
                  </a:lnTo>
                  <a:lnTo>
                    <a:pt x="7903" y="2521"/>
                  </a:lnTo>
                  <a:lnTo>
                    <a:pt x="7917" y="2553"/>
                  </a:lnTo>
                  <a:lnTo>
                    <a:pt x="7928" y="2584"/>
                  </a:lnTo>
                  <a:lnTo>
                    <a:pt x="7937" y="2616"/>
                  </a:lnTo>
                  <a:lnTo>
                    <a:pt x="7946" y="2648"/>
                  </a:lnTo>
                  <a:lnTo>
                    <a:pt x="7953" y="2680"/>
                  </a:lnTo>
                  <a:lnTo>
                    <a:pt x="7961" y="2711"/>
                  </a:lnTo>
                  <a:lnTo>
                    <a:pt x="7966" y="2743"/>
                  </a:lnTo>
                  <a:lnTo>
                    <a:pt x="7970" y="2775"/>
                  </a:lnTo>
                  <a:lnTo>
                    <a:pt x="7973" y="2807"/>
                  </a:lnTo>
                  <a:lnTo>
                    <a:pt x="7975" y="2839"/>
                  </a:lnTo>
                  <a:lnTo>
                    <a:pt x="7975" y="2871"/>
                  </a:lnTo>
                  <a:lnTo>
                    <a:pt x="7975" y="2871"/>
                  </a:lnTo>
                  <a:lnTo>
                    <a:pt x="8172" y="2871"/>
                  </a:lnTo>
                  <a:lnTo>
                    <a:pt x="8172" y="2871"/>
                  </a:lnTo>
                  <a:lnTo>
                    <a:pt x="8172" y="287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73560" y="4965480"/>
              <a:ext cx="712800" cy="371520"/>
            </a:xfrm>
            <a:custGeom>
              <a:avLst/>
              <a:gdLst/>
              <a:ahLst/>
              <a:rect l="l" t="t" r="r" b="b"/>
              <a:pathLst>
                <a:path w="16174" h="8440">
                  <a:moveTo>
                    <a:pt x="0" y="0"/>
                  </a:moveTo>
                  <a:lnTo>
                    <a:pt x="0" y="8440"/>
                  </a:lnTo>
                  <a:lnTo>
                    <a:pt x="16171" y="8440"/>
                  </a:lnTo>
                  <a:lnTo>
                    <a:pt x="1617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70320" y="4970520"/>
              <a:ext cx="9360" cy="384120"/>
            </a:xfrm>
            <a:custGeom>
              <a:avLst/>
              <a:gdLst/>
              <a:ahLst/>
              <a:rect l="l" t="t" r="r" b="b"/>
              <a:pathLst>
                <a:path w="211" h="8730">
                  <a:moveTo>
                    <a:pt x="197" y="8730"/>
                  </a:moveTo>
                  <a:lnTo>
                    <a:pt x="211" y="0"/>
                  </a:lnTo>
                  <a:lnTo>
                    <a:pt x="13" y="0"/>
                  </a:lnTo>
                  <a:lnTo>
                    <a:pt x="0" y="8730"/>
                  </a:lnTo>
                  <a:lnTo>
                    <a:pt x="197" y="873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0320" y="5354640"/>
              <a:ext cx="9360" cy="468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81320" y="4970520"/>
              <a:ext cx="9720" cy="38556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81320" y="5356080"/>
              <a:ext cx="9720" cy="468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91000" y="5121000"/>
              <a:ext cx="295200" cy="82800"/>
            </a:xfrm>
            <a:custGeom>
              <a:avLst/>
              <a:gdLst/>
              <a:ahLst/>
              <a:rect l="l" t="t" r="r" b="b"/>
              <a:pathLst>
                <a:path w="6695" h="1868">
                  <a:moveTo>
                    <a:pt x="456" y="442"/>
                  </a:moveTo>
                  <a:lnTo>
                    <a:pt x="0" y="1524"/>
                  </a:lnTo>
                  <a:lnTo>
                    <a:pt x="220" y="1868"/>
                  </a:lnTo>
                  <a:lnTo>
                    <a:pt x="1928" y="1559"/>
                  </a:lnTo>
                  <a:lnTo>
                    <a:pt x="1952" y="818"/>
                  </a:lnTo>
                  <a:lnTo>
                    <a:pt x="1968" y="747"/>
                  </a:lnTo>
                  <a:lnTo>
                    <a:pt x="1988" y="676"/>
                  </a:lnTo>
                  <a:lnTo>
                    <a:pt x="2034" y="606"/>
                  </a:lnTo>
                  <a:lnTo>
                    <a:pt x="2109" y="550"/>
                  </a:lnTo>
                  <a:lnTo>
                    <a:pt x="2188" y="507"/>
                  </a:lnTo>
                  <a:lnTo>
                    <a:pt x="2275" y="489"/>
                  </a:lnTo>
                  <a:lnTo>
                    <a:pt x="2263" y="496"/>
                  </a:lnTo>
                  <a:lnTo>
                    <a:pt x="4387" y="496"/>
                  </a:lnTo>
                  <a:lnTo>
                    <a:pt x="4475" y="500"/>
                  </a:lnTo>
                  <a:lnTo>
                    <a:pt x="4526" y="515"/>
                  </a:lnTo>
                  <a:lnTo>
                    <a:pt x="4585" y="538"/>
                  </a:lnTo>
                  <a:lnTo>
                    <a:pt x="4664" y="590"/>
                  </a:lnTo>
                  <a:lnTo>
                    <a:pt x="4706" y="650"/>
                  </a:lnTo>
                  <a:lnTo>
                    <a:pt x="4741" y="727"/>
                  </a:lnTo>
                  <a:lnTo>
                    <a:pt x="4754" y="786"/>
                  </a:lnTo>
                  <a:lnTo>
                    <a:pt x="4804" y="1577"/>
                  </a:lnTo>
                  <a:lnTo>
                    <a:pt x="6510" y="1859"/>
                  </a:lnTo>
                  <a:lnTo>
                    <a:pt x="6695" y="1455"/>
                  </a:lnTo>
                  <a:lnTo>
                    <a:pt x="6291" y="442"/>
                  </a:lnTo>
                  <a:lnTo>
                    <a:pt x="6142" y="370"/>
                  </a:lnTo>
                  <a:lnTo>
                    <a:pt x="5850" y="294"/>
                  </a:lnTo>
                  <a:lnTo>
                    <a:pt x="5540" y="217"/>
                  </a:lnTo>
                  <a:lnTo>
                    <a:pt x="5228" y="159"/>
                  </a:lnTo>
                  <a:lnTo>
                    <a:pt x="4873" y="102"/>
                  </a:lnTo>
                  <a:lnTo>
                    <a:pt x="4520" y="55"/>
                  </a:lnTo>
                  <a:lnTo>
                    <a:pt x="4150" y="20"/>
                  </a:lnTo>
                  <a:lnTo>
                    <a:pt x="3795" y="4"/>
                  </a:lnTo>
                  <a:lnTo>
                    <a:pt x="3483" y="0"/>
                  </a:lnTo>
                  <a:lnTo>
                    <a:pt x="3200" y="8"/>
                  </a:lnTo>
                  <a:lnTo>
                    <a:pt x="2913" y="6"/>
                  </a:lnTo>
                  <a:lnTo>
                    <a:pt x="2635" y="18"/>
                  </a:lnTo>
                  <a:lnTo>
                    <a:pt x="2193" y="47"/>
                  </a:lnTo>
                  <a:lnTo>
                    <a:pt x="1814" y="109"/>
                  </a:lnTo>
                  <a:lnTo>
                    <a:pt x="1493" y="167"/>
                  </a:lnTo>
                  <a:lnTo>
                    <a:pt x="1219" y="226"/>
                  </a:lnTo>
                  <a:lnTo>
                    <a:pt x="945" y="288"/>
                  </a:lnTo>
                  <a:lnTo>
                    <a:pt x="655" y="371"/>
                  </a:lnTo>
                  <a:lnTo>
                    <a:pt x="456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86240" y="5167080"/>
              <a:ext cx="92160" cy="109800"/>
            </a:xfrm>
            <a:custGeom>
              <a:avLst/>
              <a:gdLst/>
              <a:ahLst/>
              <a:rect l="l" t="t" r="r" b="b"/>
              <a:pathLst>
                <a:path w="2075" h="2486">
                  <a:moveTo>
                    <a:pt x="1443" y="0"/>
                  </a:moveTo>
                  <a:lnTo>
                    <a:pt x="1443" y="1121"/>
                  </a:lnTo>
                  <a:lnTo>
                    <a:pt x="2075" y="1121"/>
                  </a:lnTo>
                  <a:lnTo>
                    <a:pt x="2075" y="1456"/>
                  </a:lnTo>
                  <a:lnTo>
                    <a:pt x="1455" y="1456"/>
                  </a:lnTo>
                  <a:lnTo>
                    <a:pt x="1455" y="2486"/>
                  </a:lnTo>
                  <a:lnTo>
                    <a:pt x="0" y="1289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79760" y="5273640"/>
              <a:ext cx="90360" cy="109440"/>
            </a:xfrm>
            <a:custGeom>
              <a:avLst/>
              <a:gdLst/>
              <a:ahLst/>
              <a:rect l="l" t="t" r="r" b="b"/>
              <a:pathLst>
                <a:path w="2075" h="2486">
                  <a:moveTo>
                    <a:pt x="632" y="2486"/>
                  </a:moveTo>
                  <a:lnTo>
                    <a:pt x="632" y="1365"/>
                  </a:lnTo>
                  <a:lnTo>
                    <a:pt x="0" y="1365"/>
                  </a:lnTo>
                  <a:lnTo>
                    <a:pt x="0" y="1030"/>
                  </a:lnTo>
                  <a:lnTo>
                    <a:pt x="620" y="1030"/>
                  </a:lnTo>
                  <a:lnTo>
                    <a:pt x="620" y="0"/>
                  </a:lnTo>
                  <a:lnTo>
                    <a:pt x="2075" y="1198"/>
                  </a:lnTo>
                  <a:lnTo>
                    <a:pt x="632" y="2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94120" y="5167080"/>
              <a:ext cx="90360" cy="109800"/>
            </a:xfrm>
            <a:custGeom>
              <a:avLst/>
              <a:gdLst/>
              <a:ahLst/>
              <a:rect l="l" t="t" r="r" b="b"/>
              <a:pathLst>
                <a:path w="2073" h="2486">
                  <a:moveTo>
                    <a:pt x="632" y="0"/>
                  </a:moveTo>
                  <a:lnTo>
                    <a:pt x="632" y="1121"/>
                  </a:lnTo>
                  <a:lnTo>
                    <a:pt x="0" y="1121"/>
                  </a:lnTo>
                  <a:lnTo>
                    <a:pt x="0" y="1456"/>
                  </a:lnTo>
                  <a:lnTo>
                    <a:pt x="619" y="1456"/>
                  </a:lnTo>
                  <a:lnTo>
                    <a:pt x="619" y="2486"/>
                  </a:lnTo>
                  <a:lnTo>
                    <a:pt x="2073" y="1289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00600" y="5273640"/>
              <a:ext cx="91800" cy="109440"/>
            </a:xfrm>
            <a:custGeom>
              <a:avLst/>
              <a:gdLst/>
              <a:ahLst/>
              <a:rect l="l" t="t" r="r" b="b"/>
              <a:pathLst>
                <a:path w="2074" h="2486">
                  <a:moveTo>
                    <a:pt x="1442" y="2486"/>
                  </a:moveTo>
                  <a:lnTo>
                    <a:pt x="1442" y="1365"/>
                  </a:lnTo>
                  <a:lnTo>
                    <a:pt x="2074" y="1365"/>
                  </a:lnTo>
                  <a:lnTo>
                    <a:pt x="2074" y="1030"/>
                  </a:lnTo>
                  <a:lnTo>
                    <a:pt x="1454" y="1030"/>
                  </a:lnTo>
                  <a:lnTo>
                    <a:pt x="1454" y="0"/>
                  </a:lnTo>
                  <a:lnTo>
                    <a:pt x="0" y="1198"/>
                  </a:lnTo>
                  <a:lnTo>
                    <a:pt x="1442" y="2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25920" y="5213160"/>
              <a:ext cx="226800" cy="2016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86320" y="5118120"/>
              <a:ext cx="295200" cy="81000"/>
            </a:xfrm>
            <a:custGeom>
              <a:avLst/>
              <a:gdLst/>
              <a:ahLst/>
              <a:rect l="l" t="t" r="r" b="b"/>
              <a:pathLst>
                <a:path w="6695" h="1867">
                  <a:moveTo>
                    <a:pt x="456" y="442"/>
                  </a:moveTo>
                  <a:lnTo>
                    <a:pt x="0" y="1524"/>
                  </a:lnTo>
                  <a:lnTo>
                    <a:pt x="220" y="1867"/>
                  </a:lnTo>
                  <a:lnTo>
                    <a:pt x="1927" y="1557"/>
                  </a:lnTo>
                  <a:lnTo>
                    <a:pt x="1952" y="817"/>
                  </a:lnTo>
                  <a:lnTo>
                    <a:pt x="1966" y="746"/>
                  </a:lnTo>
                  <a:lnTo>
                    <a:pt x="1988" y="675"/>
                  </a:lnTo>
                  <a:lnTo>
                    <a:pt x="2033" y="605"/>
                  </a:lnTo>
                  <a:lnTo>
                    <a:pt x="2107" y="548"/>
                  </a:lnTo>
                  <a:lnTo>
                    <a:pt x="2188" y="506"/>
                  </a:lnTo>
                  <a:lnTo>
                    <a:pt x="2274" y="489"/>
                  </a:lnTo>
                  <a:lnTo>
                    <a:pt x="2262" y="495"/>
                  </a:lnTo>
                  <a:lnTo>
                    <a:pt x="4386" y="495"/>
                  </a:lnTo>
                  <a:lnTo>
                    <a:pt x="4474" y="498"/>
                  </a:lnTo>
                  <a:lnTo>
                    <a:pt x="4525" y="514"/>
                  </a:lnTo>
                  <a:lnTo>
                    <a:pt x="4584" y="538"/>
                  </a:lnTo>
                  <a:lnTo>
                    <a:pt x="4664" y="589"/>
                  </a:lnTo>
                  <a:lnTo>
                    <a:pt x="4706" y="649"/>
                  </a:lnTo>
                  <a:lnTo>
                    <a:pt x="4741" y="727"/>
                  </a:lnTo>
                  <a:lnTo>
                    <a:pt x="4753" y="785"/>
                  </a:lnTo>
                  <a:lnTo>
                    <a:pt x="4804" y="1577"/>
                  </a:lnTo>
                  <a:lnTo>
                    <a:pt x="6509" y="1858"/>
                  </a:lnTo>
                  <a:lnTo>
                    <a:pt x="6695" y="1455"/>
                  </a:lnTo>
                  <a:lnTo>
                    <a:pt x="6290" y="442"/>
                  </a:lnTo>
                  <a:lnTo>
                    <a:pt x="6141" y="369"/>
                  </a:lnTo>
                  <a:lnTo>
                    <a:pt x="5850" y="293"/>
                  </a:lnTo>
                  <a:lnTo>
                    <a:pt x="5539" y="217"/>
                  </a:lnTo>
                  <a:lnTo>
                    <a:pt x="5227" y="158"/>
                  </a:lnTo>
                  <a:lnTo>
                    <a:pt x="4873" y="101"/>
                  </a:lnTo>
                  <a:lnTo>
                    <a:pt x="4519" y="55"/>
                  </a:lnTo>
                  <a:lnTo>
                    <a:pt x="4149" y="18"/>
                  </a:lnTo>
                  <a:lnTo>
                    <a:pt x="3794" y="4"/>
                  </a:lnTo>
                  <a:lnTo>
                    <a:pt x="3483" y="0"/>
                  </a:lnTo>
                  <a:lnTo>
                    <a:pt x="3199" y="8"/>
                  </a:lnTo>
                  <a:lnTo>
                    <a:pt x="2913" y="5"/>
                  </a:lnTo>
                  <a:lnTo>
                    <a:pt x="2633" y="16"/>
                  </a:lnTo>
                  <a:lnTo>
                    <a:pt x="2192" y="47"/>
                  </a:lnTo>
                  <a:lnTo>
                    <a:pt x="1813" y="107"/>
                  </a:lnTo>
                  <a:lnTo>
                    <a:pt x="1492" y="167"/>
                  </a:lnTo>
                  <a:lnTo>
                    <a:pt x="1219" y="225"/>
                  </a:lnTo>
                  <a:lnTo>
                    <a:pt x="944" y="287"/>
                  </a:lnTo>
                  <a:lnTo>
                    <a:pt x="654" y="370"/>
                  </a:lnTo>
                  <a:lnTo>
                    <a:pt x="456" y="4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81560" y="5162400"/>
              <a:ext cx="91800" cy="109440"/>
            </a:xfrm>
            <a:custGeom>
              <a:avLst/>
              <a:gdLst/>
              <a:ahLst/>
              <a:rect l="l" t="t" r="r" b="b"/>
              <a:pathLst>
                <a:path w="2074" h="2485">
                  <a:moveTo>
                    <a:pt x="1442" y="0"/>
                  </a:moveTo>
                  <a:lnTo>
                    <a:pt x="1442" y="1120"/>
                  </a:lnTo>
                  <a:lnTo>
                    <a:pt x="2074" y="1120"/>
                  </a:lnTo>
                  <a:lnTo>
                    <a:pt x="2074" y="1455"/>
                  </a:lnTo>
                  <a:lnTo>
                    <a:pt x="1455" y="1455"/>
                  </a:lnTo>
                  <a:lnTo>
                    <a:pt x="1455" y="2485"/>
                  </a:lnTo>
                  <a:lnTo>
                    <a:pt x="0" y="1287"/>
                  </a:lnTo>
                  <a:lnTo>
                    <a:pt x="14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75080" y="5268960"/>
              <a:ext cx="90360" cy="110880"/>
            </a:xfrm>
            <a:custGeom>
              <a:avLst/>
              <a:gdLst/>
              <a:ahLst/>
              <a:rect l="l" t="t" r="r" b="b"/>
              <a:pathLst>
                <a:path w="2074" h="2486">
                  <a:moveTo>
                    <a:pt x="632" y="2486"/>
                  </a:moveTo>
                  <a:lnTo>
                    <a:pt x="632" y="1365"/>
                  </a:lnTo>
                  <a:lnTo>
                    <a:pt x="0" y="1365"/>
                  </a:lnTo>
                  <a:lnTo>
                    <a:pt x="0" y="1030"/>
                  </a:lnTo>
                  <a:lnTo>
                    <a:pt x="620" y="1030"/>
                  </a:lnTo>
                  <a:lnTo>
                    <a:pt x="620" y="0"/>
                  </a:lnTo>
                  <a:lnTo>
                    <a:pt x="2074" y="1197"/>
                  </a:lnTo>
                  <a:lnTo>
                    <a:pt x="632" y="24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89440" y="5162400"/>
              <a:ext cx="92160" cy="109440"/>
            </a:xfrm>
            <a:custGeom>
              <a:avLst/>
              <a:gdLst/>
              <a:ahLst/>
              <a:rect l="l" t="t" r="r" b="b"/>
              <a:pathLst>
                <a:path w="2074" h="2485">
                  <a:moveTo>
                    <a:pt x="632" y="0"/>
                  </a:moveTo>
                  <a:lnTo>
                    <a:pt x="632" y="1120"/>
                  </a:lnTo>
                  <a:lnTo>
                    <a:pt x="0" y="1120"/>
                  </a:lnTo>
                  <a:lnTo>
                    <a:pt x="0" y="1455"/>
                  </a:lnTo>
                  <a:lnTo>
                    <a:pt x="620" y="1455"/>
                  </a:lnTo>
                  <a:lnTo>
                    <a:pt x="620" y="2485"/>
                  </a:lnTo>
                  <a:lnTo>
                    <a:pt x="2074" y="1287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95560" y="5268960"/>
              <a:ext cx="92160" cy="110880"/>
            </a:xfrm>
            <a:custGeom>
              <a:avLst/>
              <a:gdLst/>
              <a:ahLst/>
              <a:rect l="l" t="t" r="r" b="b"/>
              <a:pathLst>
                <a:path w="2074" h="2486">
                  <a:moveTo>
                    <a:pt x="1443" y="2486"/>
                  </a:moveTo>
                  <a:lnTo>
                    <a:pt x="1443" y="1365"/>
                  </a:lnTo>
                  <a:lnTo>
                    <a:pt x="2074" y="1365"/>
                  </a:lnTo>
                  <a:lnTo>
                    <a:pt x="2074" y="1030"/>
                  </a:lnTo>
                  <a:lnTo>
                    <a:pt x="1455" y="1030"/>
                  </a:lnTo>
                  <a:lnTo>
                    <a:pt x="1455" y="0"/>
                  </a:lnTo>
                  <a:lnTo>
                    <a:pt x="0" y="1197"/>
                  </a:lnTo>
                  <a:lnTo>
                    <a:pt x="1443" y="24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21240" y="5208480"/>
              <a:ext cx="22860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46440" y="5227560"/>
              <a:ext cx="184320" cy="7920"/>
            </a:xfrm>
            <a:custGeom>
              <a:avLst/>
              <a:gdLst/>
              <a:ahLst/>
              <a:rect l="l" t="t" r="r" b="b"/>
              <a:pathLst>
                <a:path w="4145" h="198">
                  <a:moveTo>
                    <a:pt x="4145" y="99"/>
                  </a:moveTo>
                  <a:lnTo>
                    <a:pt x="4047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4047" y="198"/>
                  </a:lnTo>
                  <a:lnTo>
                    <a:pt x="4145" y="99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821040" y="5232240"/>
              <a:ext cx="9720" cy="39600"/>
            </a:xfrm>
            <a:custGeom>
              <a:avLst/>
              <a:gdLst/>
              <a:ahLst/>
              <a:rect l="l" t="t" r="r" b="b"/>
              <a:pathLst>
                <a:path w="197" h="923">
                  <a:moveTo>
                    <a:pt x="99" y="923"/>
                  </a:moveTo>
                  <a:lnTo>
                    <a:pt x="197" y="825"/>
                  </a:lnTo>
                  <a:lnTo>
                    <a:pt x="197" y="0"/>
                  </a:lnTo>
                  <a:lnTo>
                    <a:pt x="0" y="0"/>
                  </a:lnTo>
                  <a:lnTo>
                    <a:pt x="0" y="825"/>
                  </a:lnTo>
                  <a:lnTo>
                    <a:pt x="99" y="923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43200" y="5263920"/>
              <a:ext cx="182520" cy="7920"/>
            </a:xfrm>
            <a:custGeom>
              <a:avLst/>
              <a:gdLst/>
              <a:ahLst/>
              <a:rect l="l" t="t" r="r" b="b"/>
              <a:pathLst>
                <a:path w="4146" h="198">
                  <a:moveTo>
                    <a:pt x="0" y="100"/>
                  </a:moveTo>
                  <a:lnTo>
                    <a:pt x="99" y="198"/>
                  </a:lnTo>
                  <a:lnTo>
                    <a:pt x="4146" y="198"/>
                  </a:lnTo>
                  <a:lnTo>
                    <a:pt x="4146" y="0"/>
                  </a:lnTo>
                  <a:lnTo>
                    <a:pt x="99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43200" y="5227560"/>
              <a:ext cx="7920" cy="39600"/>
            </a:xfrm>
            <a:custGeom>
              <a:avLst/>
              <a:gdLst/>
              <a:ahLst/>
              <a:rect l="l" t="t" r="r" b="b"/>
              <a:pathLst>
                <a:path w="197" h="924">
                  <a:moveTo>
                    <a:pt x="99" y="0"/>
                  </a:moveTo>
                  <a:lnTo>
                    <a:pt x="0" y="99"/>
                  </a:lnTo>
                  <a:lnTo>
                    <a:pt x="0" y="924"/>
                  </a:lnTo>
                  <a:lnTo>
                    <a:pt x="197" y="924"/>
                  </a:lnTo>
                  <a:lnTo>
                    <a:pt x="197" y="99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46440" y="5295960"/>
              <a:ext cx="184320" cy="7920"/>
            </a:xfrm>
            <a:custGeom>
              <a:avLst/>
              <a:gdLst/>
              <a:ahLst/>
              <a:rect l="l" t="t" r="r" b="b"/>
              <a:pathLst>
                <a:path w="4145" h="198">
                  <a:moveTo>
                    <a:pt x="4145" y="100"/>
                  </a:moveTo>
                  <a:lnTo>
                    <a:pt x="4047" y="0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4047" y="198"/>
                  </a:lnTo>
                  <a:lnTo>
                    <a:pt x="4145" y="100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21040" y="5298840"/>
              <a:ext cx="9720" cy="95400"/>
            </a:xfrm>
            <a:custGeom>
              <a:avLst/>
              <a:gdLst/>
              <a:ahLst/>
              <a:rect l="l" t="t" r="r" b="b"/>
              <a:pathLst>
                <a:path w="197" h="2159">
                  <a:moveTo>
                    <a:pt x="99" y="2159"/>
                  </a:moveTo>
                  <a:lnTo>
                    <a:pt x="197" y="2060"/>
                  </a:lnTo>
                  <a:lnTo>
                    <a:pt x="197" y="0"/>
                  </a:lnTo>
                  <a:lnTo>
                    <a:pt x="0" y="0"/>
                  </a:lnTo>
                  <a:lnTo>
                    <a:pt x="0" y="2060"/>
                  </a:lnTo>
                  <a:lnTo>
                    <a:pt x="99" y="2159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43200" y="5386320"/>
              <a:ext cx="182520" cy="7920"/>
            </a:xfrm>
            <a:custGeom>
              <a:avLst/>
              <a:gdLst/>
              <a:ahLst/>
              <a:rect l="l" t="t" r="r" b="b"/>
              <a:pathLst>
                <a:path w="4146" h="197">
                  <a:moveTo>
                    <a:pt x="0" y="98"/>
                  </a:moveTo>
                  <a:lnTo>
                    <a:pt x="99" y="197"/>
                  </a:lnTo>
                  <a:lnTo>
                    <a:pt x="4146" y="197"/>
                  </a:lnTo>
                  <a:lnTo>
                    <a:pt x="4146" y="0"/>
                  </a:lnTo>
                  <a:lnTo>
                    <a:pt x="99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43200" y="5295960"/>
              <a:ext cx="7920" cy="95040"/>
            </a:xfrm>
            <a:custGeom>
              <a:avLst/>
              <a:gdLst/>
              <a:ahLst/>
              <a:rect l="l" t="t" r="r" b="b"/>
              <a:pathLst>
                <a:path w="197" h="2160">
                  <a:moveTo>
                    <a:pt x="99" y="0"/>
                  </a:moveTo>
                  <a:lnTo>
                    <a:pt x="0" y="100"/>
                  </a:lnTo>
                  <a:lnTo>
                    <a:pt x="0" y="2160"/>
                  </a:lnTo>
                  <a:lnTo>
                    <a:pt x="197" y="2160"/>
                  </a:lnTo>
                  <a:lnTo>
                    <a:pt x="197" y="10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25720" y="5279760"/>
              <a:ext cx="3240" cy="8280"/>
            </a:xfrm>
            <a:prstGeom prst="rect">
              <a:avLst/>
            </a:pr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46440" y="5279760"/>
              <a:ext cx="179280" cy="8280"/>
            </a:xfrm>
            <a:prstGeom prst="rect">
              <a:avLst/>
            </a:pr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5000" y="4844880"/>
              <a:ext cx="711360" cy="244440"/>
            </a:xfrm>
            <a:custGeom>
              <a:avLst/>
              <a:gdLst/>
              <a:ahLst/>
              <a:rect l="l" t="t" r="r" b="b"/>
              <a:pathLst>
                <a:path w="16146" h="5544">
                  <a:moveTo>
                    <a:pt x="16146" y="2772"/>
                  </a:moveTo>
                  <a:lnTo>
                    <a:pt x="16136" y="2914"/>
                  </a:lnTo>
                  <a:lnTo>
                    <a:pt x="16105" y="3056"/>
                  </a:lnTo>
                  <a:lnTo>
                    <a:pt x="16053" y="3194"/>
                  </a:lnTo>
                  <a:lnTo>
                    <a:pt x="15982" y="3330"/>
                  </a:lnTo>
                  <a:lnTo>
                    <a:pt x="15892" y="3465"/>
                  </a:lnTo>
                  <a:lnTo>
                    <a:pt x="15783" y="3596"/>
                  </a:lnTo>
                  <a:lnTo>
                    <a:pt x="15657" y="3724"/>
                  </a:lnTo>
                  <a:lnTo>
                    <a:pt x="15512" y="3850"/>
                  </a:lnTo>
                  <a:lnTo>
                    <a:pt x="15350" y="3973"/>
                  </a:lnTo>
                  <a:lnTo>
                    <a:pt x="15171" y="4092"/>
                  </a:lnTo>
                  <a:lnTo>
                    <a:pt x="14977" y="4209"/>
                  </a:lnTo>
                  <a:lnTo>
                    <a:pt x="14767" y="4321"/>
                  </a:lnTo>
                  <a:lnTo>
                    <a:pt x="14542" y="4430"/>
                  </a:lnTo>
                  <a:lnTo>
                    <a:pt x="14302" y="4534"/>
                  </a:lnTo>
                  <a:lnTo>
                    <a:pt x="14048" y="4636"/>
                  </a:lnTo>
                  <a:lnTo>
                    <a:pt x="13781" y="4731"/>
                  </a:lnTo>
                  <a:lnTo>
                    <a:pt x="13500" y="4824"/>
                  </a:lnTo>
                  <a:lnTo>
                    <a:pt x="13207" y="4911"/>
                  </a:lnTo>
                  <a:lnTo>
                    <a:pt x="12903" y="4993"/>
                  </a:lnTo>
                  <a:lnTo>
                    <a:pt x="12586" y="5070"/>
                  </a:lnTo>
                  <a:lnTo>
                    <a:pt x="12258" y="5143"/>
                  </a:lnTo>
                  <a:lnTo>
                    <a:pt x="11920" y="5209"/>
                  </a:lnTo>
                  <a:lnTo>
                    <a:pt x="11572" y="5271"/>
                  </a:lnTo>
                  <a:lnTo>
                    <a:pt x="11214" y="5326"/>
                  </a:lnTo>
                  <a:lnTo>
                    <a:pt x="10848" y="5375"/>
                  </a:lnTo>
                  <a:lnTo>
                    <a:pt x="10473" y="5420"/>
                  </a:lnTo>
                  <a:lnTo>
                    <a:pt x="10089" y="5456"/>
                  </a:lnTo>
                  <a:lnTo>
                    <a:pt x="9699" y="5487"/>
                  </a:lnTo>
                  <a:lnTo>
                    <a:pt x="9302" y="5512"/>
                  </a:lnTo>
                  <a:lnTo>
                    <a:pt x="8898" y="5529"/>
                  </a:lnTo>
                  <a:lnTo>
                    <a:pt x="8489" y="5541"/>
                  </a:lnTo>
                  <a:lnTo>
                    <a:pt x="8073" y="5544"/>
                  </a:lnTo>
                  <a:lnTo>
                    <a:pt x="7658" y="5541"/>
                  </a:lnTo>
                  <a:lnTo>
                    <a:pt x="7248" y="5529"/>
                  </a:lnTo>
                  <a:lnTo>
                    <a:pt x="6844" y="5512"/>
                  </a:lnTo>
                  <a:lnTo>
                    <a:pt x="6447" y="5487"/>
                  </a:lnTo>
                  <a:lnTo>
                    <a:pt x="6057" y="5456"/>
                  </a:lnTo>
                  <a:lnTo>
                    <a:pt x="5673" y="5420"/>
                  </a:lnTo>
                  <a:lnTo>
                    <a:pt x="5298" y="5375"/>
                  </a:lnTo>
                  <a:lnTo>
                    <a:pt x="4932" y="5326"/>
                  </a:lnTo>
                  <a:lnTo>
                    <a:pt x="4573" y="5271"/>
                  </a:lnTo>
                  <a:lnTo>
                    <a:pt x="4226" y="5209"/>
                  </a:lnTo>
                  <a:lnTo>
                    <a:pt x="3888" y="5143"/>
                  </a:lnTo>
                  <a:lnTo>
                    <a:pt x="3560" y="5070"/>
                  </a:lnTo>
                  <a:lnTo>
                    <a:pt x="3243" y="4993"/>
                  </a:lnTo>
                  <a:lnTo>
                    <a:pt x="2939" y="4911"/>
                  </a:lnTo>
                  <a:lnTo>
                    <a:pt x="2646" y="4824"/>
                  </a:lnTo>
                  <a:lnTo>
                    <a:pt x="2365" y="4731"/>
                  </a:lnTo>
                  <a:lnTo>
                    <a:pt x="2097" y="4636"/>
                  </a:lnTo>
                  <a:lnTo>
                    <a:pt x="1844" y="4534"/>
                  </a:lnTo>
                  <a:lnTo>
                    <a:pt x="1604" y="4430"/>
                  </a:lnTo>
                  <a:lnTo>
                    <a:pt x="1379" y="4321"/>
                  </a:lnTo>
                  <a:lnTo>
                    <a:pt x="1169" y="4209"/>
                  </a:lnTo>
                  <a:lnTo>
                    <a:pt x="975" y="4092"/>
                  </a:lnTo>
                  <a:lnTo>
                    <a:pt x="796" y="3973"/>
                  </a:lnTo>
                  <a:lnTo>
                    <a:pt x="634" y="3850"/>
                  </a:lnTo>
                  <a:lnTo>
                    <a:pt x="489" y="3724"/>
                  </a:lnTo>
                  <a:lnTo>
                    <a:pt x="363" y="3596"/>
                  </a:lnTo>
                  <a:lnTo>
                    <a:pt x="253" y="3465"/>
                  </a:lnTo>
                  <a:lnTo>
                    <a:pt x="164" y="3330"/>
                  </a:lnTo>
                  <a:lnTo>
                    <a:pt x="93" y="3194"/>
                  </a:lnTo>
                  <a:lnTo>
                    <a:pt x="41" y="3056"/>
                  </a:lnTo>
                  <a:lnTo>
                    <a:pt x="10" y="2914"/>
                  </a:lnTo>
                  <a:lnTo>
                    <a:pt x="0" y="2772"/>
                  </a:lnTo>
                  <a:lnTo>
                    <a:pt x="10" y="2629"/>
                  </a:lnTo>
                  <a:lnTo>
                    <a:pt x="41" y="2488"/>
                  </a:lnTo>
                  <a:lnTo>
                    <a:pt x="93" y="2350"/>
                  </a:lnTo>
                  <a:lnTo>
                    <a:pt x="164" y="2214"/>
                  </a:lnTo>
                  <a:lnTo>
                    <a:pt x="253" y="2079"/>
                  </a:lnTo>
                  <a:lnTo>
                    <a:pt x="363" y="1948"/>
                  </a:lnTo>
                  <a:lnTo>
                    <a:pt x="489" y="1819"/>
                  </a:lnTo>
                  <a:lnTo>
                    <a:pt x="634" y="1694"/>
                  </a:lnTo>
                  <a:lnTo>
                    <a:pt x="796" y="1571"/>
                  </a:lnTo>
                  <a:lnTo>
                    <a:pt x="975" y="1451"/>
                  </a:lnTo>
                  <a:lnTo>
                    <a:pt x="1169" y="1335"/>
                  </a:lnTo>
                  <a:lnTo>
                    <a:pt x="1379" y="1223"/>
                  </a:lnTo>
                  <a:lnTo>
                    <a:pt x="1604" y="1114"/>
                  </a:lnTo>
                  <a:lnTo>
                    <a:pt x="1844" y="1010"/>
                  </a:lnTo>
                  <a:lnTo>
                    <a:pt x="2097" y="908"/>
                  </a:lnTo>
                  <a:lnTo>
                    <a:pt x="2365" y="813"/>
                  </a:lnTo>
                  <a:lnTo>
                    <a:pt x="2646" y="720"/>
                  </a:lnTo>
                  <a:lnTo>
                    <a:pt x="2939" y="633"/>
                  </a:lnTo>
                  <a:lnTo>
                    <a:pt x="3243" y="551"/>
                  </a:lnTo>
                  <a:lnTo>
                    <a:pt x="3560" y="473"/>
                  </a:lnTo>
                  <a:lnTo>
                    <a:pt x="3888" y="401"/>
                  </a:lnTo>
                  <a:lnTo>
                    <a:pt x="4226" y="335"/>
                  </a:lnTo>
                  <a:lnTo>
                    <a:pt x="4573" y="273"/>
                  </a:lnTo>
                  <a:lnTo>
                    <a:pt x="4932" y="218"/>
                  </a:lnTo>
                  <a:lnTo>
                    <a:pt x="5298" y="169"/>
                  </a:lnTo>
                  <a:lnTo>
                    <a:pt x="5673" y="125"/>
                  </a:lnTo>
                  <a:lnTo>
                    <a:pt x="6057" y="88"/>
                  </a:lnTo>
                  <a:lnTo>
                    <a:pt x="6447" y="57"/>
                  </a:lnTo>
                  <a:lnTo>
                    <a:pt x="6844" y="32"/>
                  </a:lnTo>
                  <a:lnTo>
                    <a:pt x="7248" y="15"/>
                  </a:lnTo>
                  <a:lnTo>
                    <a:pt x="7658" y="4"/>
                  </a:lnTo>
                  <a:lnTo>
                    <a:pt x="8073" y="0"/>
                  </a:lnTo>
                  <a:lnTo>
                    <a:pt x="8489" y="4"/>
                  </a:lnTo>
                  <a:lnTo>
                    <a:pt x="8898" y="15"/>
                  </a:lnTo>
                  <a:lnTo>
                    <a:pt x="9302" y="32"/>
                  </a:lnTo>
                  <a:lnTo>
                    <a:pt x="9699" y="57"/>
                  </a:lnTo>
                  <a:lnTo>
                    <a:pt x="10089" y="88"/>
                  </a:lnTo>
                  <a:lnTo>
                    <a:pt x="10473" y="125"/>
                  </a:lnTo>
                  <a:lnTo>
                    <a:pt x="10848" y="169"/>
                  </a:lnTo>
                  <a:lnTo>
                    <a:pt x="11214" y="218"/>
                  </a:lnTo>
                  <a:lnTo>
                    <a:pt x="11572" y="273"/>
                  </a:lnTo>
                  <a:lnTo>
                    <a:pt x="11920" y="335"/>
                  </a:lnTo>
                  <a:lnTo>
                    <a:pt x="12258" y="401"/>
                  </a:lnTo>
                  <a:lnTo>
                    <a:pt x="12586" y="473"/>
                  </a:lnTo>
                  <a:lnTo>
                    <a:pt x="12903" y="551"/>
                  </a:lnTo>
                  <a:lnTo>
                    <a:pt x="13207" y="633"/>
                  </a:lnTo>
                  <a:lnTo>
                    <a:pt x="13500" y="720"/>
                  </a:lnTo>
                  <a:lnTo>
                    <a:pt x="13781" y="813"/>
                  </a:lnTo>
                  <a:lnTo>
                    <a:pt x="14048" y="908"/>
                  </a:lnTo>
                  <a:lnTo>
                    <a:pt x="14302" y="1010"/>
                  </a:lnTo>
                  <a:lnTo>
                    <a:pt x="14542" y="1114"/>
                  </a:lnTo>
                  <a:lnTo>
                    <a:pt x="14767" y="1223"/>
                  </a:lnTo>
                  <a:lnTo>
                    <a:pt x="14977" y="1335"/>
                  </a:lnTo>
                  <a:lnTo>
                    <a:pt x="15171" y="1451"/>
                  </a:lnTo>
                  <a:lnTo>
                    <a:pt x="15350" y="1571"/>
                  </a:lnTo>
                  <a:lnTo>
                    <a:pt x="15512" y="1694"/>
                  </a:lnTo>
                  <a:lnTo>
                    <a:pt x="15657" y="1819"/>
                  </a:lnTo>
                  <a:lnTo>
                    <a:pt x="15783" y="1948"/>
                  </a:lnTo>
                  <a:lnTo>
                    <a:pt x="15892" y="2079"/>
                  </a:lnTo>
                  <a:lnTo>
                    <a:pt x="15982" y="2214"/>
                  </a:lnTo>
                  <a:lnTo>
                    <a:pt x="16053" y="2350"/>
                  </a:lnTo>
                  <a:lnTo>
                    <a:pt x="16105" y="2488"/>
                  </a:lnTo>
                  <a:lnTo>
                    <a:pt x="16136" y="2629"/>
                  </a:lnTo>
                  <a:lnTo>
                    <a:pt x="16146" y="2772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30680" y="4967280"/>
              <a:ext cx="360360" cy="127080"/>
            </a:xfrm>
            <a:custGeom>
              <a:avLst/>
              <a:gdLst/>
              <a:ahLst/>
              <a:rect l="l" t="t" r="r" b="b"/>
              <a:pathLst>
                <a:path w="8172" h="2871">
                  <a:moveTo>
                    <a:pt x="0" y="2871"/>
                  </a:moveTo>
                  <a:lnTo>
                    <a:pt x="0" y="2871"/>
                  </a:lnTo>
                  <a:lnTo>
                    <a:pt x="209" y="2870"/>
                  </a:lnTo>
                  <a:lnTo>
                    <a:pt x="417" y="2867"/>
                  </a:lnTo>
                  <a:lnTo>
                    <a:pt x="623" y="2863"/>
                  </a:lnTo>
                  <a:lnTo>
                    <a:pt x="828" y="2856"/>
                  </a:lnTo>
                  <a:lnTo>
                    <a:pt x="1032" y="2849"/>
                  </a:lnTo>
                  <a:lnTo>
                    <a:pt x="1234" y="2838"/>
                  </a:lnTo>
                  <a:lnTo>
                    <a:pt x="1434" y="2827"/>
                  </a:lnTo>
                  <a:lnTo>
                    <a:pt x="1633" y="2814"/>
                  </a:lnTo>
                  <a:lnTo>
                    <a:pt x="1831" y="2799"/>
                  </a:lnTo>
                  <a:lnTo>
                    <a:pt x="2026" y="2783"/>
                  </a:lnTo>
                  <a:lnTo>
                    <a:pt x="2219" y="2764"/>
                  </a:lnTo>
                  <a:lnTo>
                    <a:pt x="2411" y="2745"/>
                  </a:lnTo>
                  <a:lnTo>
                    <a:pt x="2600" y="2724"/>
                  </a:lnTo>
                  <a:lnTo>
                    <a:pt x="2787" y="2702"/>
                  </a:lnTo>
                  <a:lnTo>
                    <a:pt x="2973" y="2677"/>
                  </a:lnTo>
                  <a:lnTo>
                    <a:pt x="3155" y="2652"/>
                  </a:lnTo>
                  <a:lnTo>
                    <a:pt x="3336" y="2625"/>
                  </a:lnTo>
                  <a:lnTo>
                    <a:pt x="3515" y="2596"/>
                  </a:lnTo>
                  <a:lnTo>
                    <a:pt x="3692" y="2566"/>
                  </a:lnTo>
                  <a:lnTo>
                    <a:pt x="3865" y="2535"/>
                  </a:lnTo>
                  <a:lnTo>
                    <a:pt x="4036" y="2502"/>
                  </a:lnTo>
                  <a:lnTo>
                    <a:pt x="4206" y="2467"/>
                  </a:lnTo>
                  <a:lnTo>
                    <a:pt x="4371" y="2432"/>
                  </a:lnTo>
                  <a:lnTo>
                    <a:pt x="4534" y="2394"/>
                  </a:lnTo>
                  <a:lnTo>
                    <a:pt x="4696" y="2356"/>
                  </a:lnTo>
                  <a:lnTo>
                    <a:pt x="4854" y="2317"/>
                  </a:lnTo>
                  <a:lnTo>
                    <a:pt x="5008" y="2276"/>
                  </a:lnTo>
                  <a:lnTo>
                    <a:pt x="5161" y="2234"/>
                  </a:lnTo>
                  <a:lnTo>
                    <a:pt x="5310" y="2190"/>
                  </a:lnTo>
                  <a:lnTo>
                    <a:pt x="5456" y="2146"/>
                  </a:lnTo>
                  <a:lnTo>
                    <a:pt x="5528" y="2123"/>
                  </a:lnTo>
                  <a:lnTo>
                    <a:pt x="5600" y="2100"/>
                  </a:lnTo>
                  <a:lnTo>
                    <a:pt x="5670" y="2076"/>
                  </a:lnTo>
                  <a:lnTo>
                    <a:pt x="5740" y="2054"/>
                  </a:lnTo>
                  <a:lnTo>
                    <a:pt x="5808" y="2029"/>
                  </a:lnTo>
                  <a:lnTo>
                    <a:pt x="5877" y="2004"/>
                  </a:lnTo>
                  <a:lnTo>
                    <a:pt x="5943" y="1981"/>
                  </a:lnTo>
                  <a:lnTo>
                    <a:pt x="6009" y="1956"/>
                  </a:lnTo>
                  <a:lnTo>
                    <a:pt x="6076" y="1931"/>
                  </a:lnTo>
                  <a:lnTo>
                    <a:pt x="6140" y="1906"/>
                  </a:lnTo>
                  <a:lnTo>
                    <a:pt x="6204" y="1880"/>
                  </a:lnTo>
                  <a:lnTo>
                    <a:pt x="6267" y="1854"/>
                  </a:lnTo>
                  <a:lnTo>
                    <a:pt x="6329" y="1828"/>
                  </a:lnTo>
                  <a:lnTo>
                    <a:pt x="6389" y="1801"/>
                  </a:lnTo>
                  <a:lnTo>
                    <a:pt x="6450" y="1775"/>
                  </a:lnTo>
                  <a:lnTo>
                    <a:pt x="6510" y="1748"/>
                  </a:lnTo>
                  <a:lnTo>
                    <a:pt x="6568" y="1720"/>
                  </a:lnTo>
                  <a:lnTo>
                    <a:pt x="6625" y="1694"/>
                  </a:lnTo>
                  <a:lnTo>
                    <a:pt x="6683" y="1666"/>
                  </a:lnTo>
                  <a:lnTo>
                    <a:pt x="6738" y="1637"/>
                  </a:lnTo>
                  <a:lnTo>
                    <a:pt x="6793" y="1610"/>
                  </a:lnTo>
                  <a:lnTo>
                    <a:pt x="6847" y="1581"/>
                  </a:lnTo>
                  <a:lnTo>
                    <a:pt x="6900" y="1552"/>
                  </a:lnTo>
                  <a:lnTo>
                    <a:pt x="6952" y="1523"/>
                  </a:lnTo>
                  <a:lnTo>
                    <a:pt x="7003" y="1494"/>
                  </a:lnTo>
                  <a:lnTo>
                    <a:pt x="7053" y="1464"/>
                  </a:lnTo>
                  <a:lnTo>
                    <a:pt x="7102" y="1434"/>
                  </a:lnTo>
                  <a:lnTo>
                    <a:pt x="7151" y="1405"/>
                  </a:lnTo>
                  <a:lnTo>
                    <a:pt x="7199" y="1374"/>
                  </a:lnTo>
                  <a:lnTo>
                    <a:pt x="7244" y="1344"/>
                  </a:lnTo>
                  <a:lnTo>
                    <a:pt x="7289" y="1313"/>
                  </a:lnTo>
                  <a:lnTo>
                    <a:pt x="7333" y="1281"/>
                  </a:lnTo>
                  <a:lnTo>
                    <a:pt x="7377" y="1251"/>
                  </a:lnTo>
                  <a:lnTo>
                    <a:pt x="7419" y="1219"/>
                  </a:lnTo>
                  <a:lnTo>
                    <a:pt x="7460" y="1187"/>
                  </a:lnTo>
                  <a:lnTo>
                    <a:pt x="7500" y="1155"/>
                  </a:lnTo>
                  <a:lnTo>
                    <a:pt x="7540" y="1124"/>
                  </a:lnTo>
                  <a:lnTo>
                    <a:pt x="7577" y="1091"/>
                  </a:lnTo>
                  <a:lnTo>
                    <a:pt x="7614" y="1058"/>
                  </a:lnTo>
                  <a:lnTo>
                    <a:pt x="7650" y="1025"/>
                  </a:lnTo>
                  <a:lnTo>
                    <a:pt x="7685" y="991"/>
                  </a:lnTo>
                  <a:lnTo>
                    <a:pt x="7718" y="958"/>
                  </a:lnTo>
                  <a:lnTo>
                    <a:pt x="7751" y="925"/>
                  </a:lnTo>
                  <a:lnTo>
                    <a:pt x="7783" y="891"/>
                  </a:lnTo>
                  <a:lnTo>
                    <a:pt x="7813" y="856"/>
                  </a:lnTo>
                  <a:lnTo>
                    <a:pt x="7842" y="822"/>
                  </a:lnTo>
                  <a:lnTo>
                    <a:pt x="7871" y="787"/>
                  </a:lnTo>
                  <a:lnTo>
                    <a:pt x="7897" y="752"/>
                  </a:lnTo>
                  <a:lnTo>
                    <a:pt x="7924" y="716"/>
                  </a:lnTo>
                  <a:lnTo>
                    <a:pt x="7948" y="682"/>
                  </a:lnTo>
                  <a:lnTo>
                    <a:pt x="7972" y="646"/>
                  </a:lnTo>
                  <a:lnTo>
                    <a:pt x="7993" y="609"/>
                  </a:lnTo>
                  <a:lnTo>
                    <a:pt x="8015" y="573"/>
                  </a:lnTo>
                  <a:lnTo>
                    <a:pt x="8034" y="536"/>
                  </a:lnTo>
                  <a:lnTo>
                    <a:pt x="8052" y="499"/>
                  </a:lnTo>
                  <a:lnTo>
                    <a:pt x="8070" y="462"/>
                  </a:lnTo>
                  <a:lnTo>
                    <a:pt x="8086" y="425"/>
                  </a:lnTo>
                  <a:lnTo>
                    <a:pt x="8100" y="387"/>
                  </a:lnTo>
                  <a:lnTo>
                    <a:pt x="8114" y="349"/>
                  </a:lnTo>
                  <a:lnTo>
                    <a:pt x="8126" y="311"/>
                  </a:lnTo>
                  <a:lnTo>
                    <a:pt x="8136" y="273"/>
                  </a:lnTo>
                  <a:lnTo>
                    <a:pt x="8145" y="234"/>
                  </a:lnTo>
                  <a:lnTo>
                    <a:pt x="8154" y="195"/>
                  </a:lnTo>
                  <a:lnTo>
                    <a:pt x="8161" y="156"/>
                  </a:lnTo>
                  <a:lnTo>
                    <a:pt x="8165" y="117"/>
                  </a:lnTo>
                  <a:lnTo>
                    <a:pt x="8169" y="78"/>
                  </a:lnTo>
                  <a:lnTo>
                    <a:pt x="8171" y="40"/>
                  </a:lnTo>
                  <a:lnTo>
                    <a:pt x="8172" y="0"/>
                  </a:lnTo>
                  <a:lnTo>
                    <a:pt x="7975" y="0"/>
                  </a:lnTo>
                  <a:lnTo>
                    <a:pt x="7975" y="32"/>
                  </a:lnTo>
                  <a:lnTo>
                    <a:pt x="7973" y="64"/>
                  </a:lnTo>
                  <a:lnTo>
                    <a:pt x="7970" y="96"/>
                  </a:lnTo>
                  <a:lnTo>
                    <a:pt x="7966" y="128"/>
                  </a:lnTo>
                  <a:lnTo>
                    <a:pt x="7961" y="161"/>
                  </a:lnTo>
                  <a:lnTo>
                    <a:pt x="7953" y="192"/>
                  </a:lnTo>
                  <a:lnTo>
                    <a:pt x="7946" y="223"/>
                  </a:lnTo>
                  <a:lnTo>
                    <a:pt x="7937" y="255"/>
                  </a:lnTo>
                  <a:lnTo>
                    <a:pt x="7928" y="287"/>
                  </a:lnTo>
                  <a:lnTo>
                    <a:pt x="7917" y="318"/>
                  </a:lnTo>
                  <a:lnTo>
                    <a:pt x="7903" y="350"/>
                  </a:lnTo>
                  <a:lnTo>
                    <a:pt x="7890" y="382"/>
                  </a:lnTo>
                  <a:lnTo>
                    <a:pt x="7876" y="414"/>
                  </a:lnTo>
                  <a:lnTo>
                    <a:pt x="7860" y="445"/>
                  </a:lnTo>
                  <a:lnTo>
                    <a:pt x="7843" y="476"/>
                  </a:lnTo>
                  <a:lnTo>
                    <a:pt x="7825" y="508"/>
                  </a:lnTo>
                  <a:lnTo>
                    <a:pt x="7805" y="539"/>
                  </a:lnTo>
                  <a:lnTo>
                    <a:pt x="7785" y="571"/>
                  </a:lnTo>
                  <a:lnTo>
                    <a:pt x="7763" y="602"/>
                  </a:lnTo>
                  <a:lnTo>
                    <a:pt x="7741" y="633"/>
                  </a:lnTo>
                  <a:lnTo>
                    <a:pt x="7716" y="664"/>
                  </a:lnTo>
                  <a:lnTo>
                    <a:pt x="7691" y="696"/>
                  </a:lnTo>
                  <a:lnTo>
                    <a:pt x="7664" y="727"/>
                  </a:lnTo>
                  <a:lnTo>
                    <a:pt x="7638" y="757"/>
                  </a:lnTo>
                  <a:lnTo>
                    <a:pt x="7609" y="788"/>
                  </a:lnTo>
                  <a:lnTo>
                    <a:pt x="7580" y="819"/>
                  </a:lnTo>
                  <a:lnTo>
                    <a:pt x="7548" y="850"/>
                  </a:lnTo>
                  <a:lnTo>
                    <a:pt x="7516" y="880"/>
                  </a:lnTo>
                  <a:lnTo>
                    <a:pt x="7482" y="911"/>
                  </a:lnTo>
                  <a:lnTo>
                    <a:pt x="7449" y="941"/>
                  </a:lnTo>
                  <a:lnTo>
                    <a:pt x="7413" y="972"/>
                  </a:lnTo>
                  <a:lnTo>
                    <a:pt x="7377" y="1001"/>
                  </a:lnTo>
                  <a:lnTo>
                    <a:pt x="7339" y="1032"/>
                  </a:lnTo>
                  <a:lnTo>
                    <a:pt x="7301" y="1062"/>
                  </a:lnTo>
                  <a:lnTo>
                    <a:pt x="7261" y="1092"/>
                  </a:lnTo>
                  <a:lnTo>
                    <a:pt x="7220" y="1120"/>
                  </a:lnTo>
                  <a:lnTo>
                    <a:pt x="7178" y="1150"/>
                  </a:lnTo>
                  <a:lnTo>
                    <a:pt x="7135" y="1180"/>
                  </a:lnTo>
                  <a:lnTo>
                    <a:pt x="7091" y="1209"/>
                  </a:lnTo>
                  <a:lnTo>
                    <a:pt x="7046" y="1237"/>
                  </a:lnTo>
                  <a:lnTo>
                    <a:pt x="7000" y="1266"/>
                  </a:lnTo>
                  <a:lnTo>
                    <a:pt x="6953" y="1295"/>
                  </a:lnTo>
                  <a:lnTo>
                    <a:pt x="6904" y="1322"/>
                  </a:lnTo>
                  <a:lnTo>
                    <a:pt x="6856" y="1351"/>
                  </a:lnTo>
                  <a:lnTo>
                    <a:pt x="6806" y="1379"/>
                  </a:lnTo>
                  <a:lnTo>
                    <a:pt x="6754" y="1407"/>
                  </a:lnTo>
                  <a:lnTo>
                    <a:pt x="6702" y="1434"/>
                  </a:lnTo>
                  <a:lnTo>
                    <a:pt x="6650" y="1461"/>
                  </a:lnTo>
                  <a:lnTo>
                    <a:pt x="6596" y="1489"/>
                  </a:lnTo>
                  <a:lnTo>
                    <a:pt x="6541" y="1515"/>
                  </a:lnTo>
                  <a:lnTo>
                    <a:pt x="6484" y="1542"/>
                  </a:lnTo>
                  <a:lnTo>
                    <a:pt x="6428" y="1569"/>
                  </a:lnTo>
                  <a:lnTo>
                    <a:pt x="6370" y="1594"/>
                  </a:lnTo>
                  <a:lnTo>
                    <a:pt x="6312" y="1621"/>
                  </a:lnTo>
                  <a:lnTo>
                    <a:pt x="6252" y="1647"/>
                  </a:lnTo>
                  <a:lnTo>
                    <a:pt x="6191" y="1671"/>
                  </a:lnTo>
                  <a:lnTo>
                    <a:pt x="6130" y="1697"/>
                  </a:lnTo>
                  <a:lnTo>
                    <a:pt x="6068" y="1721"/>
                  </a:lnTo>
                  <a:lnTo>
                    <a:pt x="6004" y="1747"/>
                  </a:lnTo>
                  <a:lnTo>
                    <a:pt x="5941" y="1771"/>
                  </a:lnTo>
                  <a:lnTo>
                    <a:pt x="5876" y="1795"/>
                  </a:lnTo>
                  <a:lnTo>
                    <a:pt x="5810" y="1819"/>
                  </a:lnTo>
                  <a:lnTo>
                    <a:pt x="5744" y="1842"/>
                  </a:lnTo>
                  <a:lnTo>
                    <a:pt x="5676" y="1866"/>
                  </a:lnTo>
                  <a:lnTo>
                    <a:pt x="5608" y="1890"/>
                  </a:lnTo>
                  <a:lnTo>
                    <a:pt x="5539" y="1912"/>
                  </a:lnTo>
                  <a:lnTo>
                    <a:pt x="5469" y="1935"/>
                  </a:lnTo>
                  <a:lnTo>
                    <a:pt x="5399" y="1957"/>
                  </a:lnTo>
                  <a:lnTo>
                    <a:pt x="5255" y="2001"/>
                  </a:lnTo>
                  <a:lnTo>
                    <a:pt x="5108" y="2043"/>
                  </a:lnTo>
                  <a:lnTo>
                    <a:pt x="4958" y="2084"/>
                  </a:lnTo>
                  <a:lnTo>
                    <a:pt x="4805" y="2125"/>
                  </a:lnTo>
                  <a:lnTo>
                    <a:pt x="4650" y="2164"/>
                  </a:lnTo>
                  <a:lnTo>
                    <a:pt x="4491" y="2202"/>
                  </a:lnTo>
                  <a:lnTo>
                    <a:pt x="4329" y="2238"/>
                  </a:lnTo>
                  <a:lnTo>
                    <a:pt x="4166" y="2274"/>
                  </a:lnTo>
                  <a:lnTo>
                    <a:pt x="3998" y="2307"/>
                  </a:lnTo>
                  <a:lnTo>
                    <a:pt x="3830" y="2340"/>
                  </a:lnTo>
                  <a:lnTo>
                    <a:pt x="3657" y="2371"/>
                  </a:lnTo>
                  <a:lnTo>
                    <a:pt x="3483" y="2401"/>
                  </a:lnTo>
                  <a:lnTo>
                    <a:pt x="3307" y="2429"/>
                  </a:lnTo>
                  <a:lnTo>
                    <a:pt x="3128" y="2456"/>
                  </a:lnTo>
                  <a:lnTo>
                    <a:pt x="2946" y="2481"/>
                  </a:lnTo>
                  <a:lnTo>
                    <a:pt x="2763" y="2505"/>
                  </a:lnTo>
                  <a:lnTo>
                    <a:pt x="2577" y="2528"/>
                  </a:lnTo>
                  <a:lnTo>
                    <a:pt x="2389" y="2549"/>
                  </a:lnTo>
                  <a:lnTo>
                    <a:pt x="2200" y="2569"/>
                  </a:lnTo>
                  <a:lnTo>
                    <a:pt x="2008" y="2586"/>
                  </a:lnTo>
                  <a:lnTo>
                    <a:pt x="1815" y="2602"/>
                  </a:lnTo>
                  <a:lnTo>
                    <a:pt x="1620" y="2617"/>
                  </a:lnTo>
                  <a:lnTo>
                    <a:pt x="1423" y="2630"/>
                  </a:lnTo>
                  <a:lnTo>
                    <a:pt x="1224" y="2641"/>
                  </a:lnTo>
                  <a:lnTo>
                    <a:pt x="1024" y="2651"/>
                  </a:lnTo>
                  <a:lnTo>
                    <a:pt x="822" y="2659"/>
                  </a:lnTo>
                  <a:lnTo>
                    <a:pt x="619" y="2665"/>
                  </a:lnTo>
                  <a:lnTo>
                    <a:pt x="414" y="2670"/>
                  </a:lnTo>
                  <a:lnTo>
                    <a:pt x="207" y="2672"/>
                  </a:lnTo>
                  <a:lnTo>
                    <a:pt x="0" y="2673"/>
                  </a:lnTo>
                  <a:lnTo>
                    <a:pt x="0" y="2673"/>
                  </a:lnTo>
                  <a:lnTo>
                    <a:pt x="0" y="2871"/>
                  </a:lnTo>
                  <a:lnTo>
                    <a:pt x="0" y="2871"/>
                  </a:lnTo>
                  <a:lnTo>
                    <a:pt x="0" y="287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70320" y="4967280"/>
              <a:ext cx="360360" cy="127080"/>
            </a:xfrm>
            <a:custGeom>
              <a:avLst/>
              <a:gdLst/>
              <a:ahLst/>
              <a:rect l="l" t="t" r="r" b="b"/>
              <a:pathLst>
                <a:path w="8172" h="2871">
                  <a:moveTo>
                    <a:pt x="0" y="0"/>
                  </a:moveTo>
                  <a:lnTo>
                    <a:pt x="0" y="0"/>
                  </a:lnTo>
                  <a:lnTo>
                    <a:pt x="1" y="40"/>
                  </a:lnTo>
                  <a:lnTo>
                    <a:pt x="3" y="78"/>
                  </a:lnTo>
                  <a:lnTo>
                    <a:pt x="7" y="117"/>
                  </a:lnTo>
                  <a:lnTo>
                    <a:pt x="11" y="156"/>
                  </a:lnTo>
                  <a:lnTo>
                    <a:pt x="18" y="195"/>
                  </a:lnTo>
                  <a:lnTo>
                    <a:pt x="27" y="234"/>
                  </a:lnTo>
                  <a:lnTo>
                    <a:pt x="36" y="273"/>
                  </a:lnTo>
                  <a:lnTo>
                    <a:pt x="46" y="311"/>
                  </a:lnTo>
                  <a:lnTo>
                    <a:pt x="58" y="349"/>
                  </a:lnTo>
                  <a:lnTo>
                    <a:pt x="72" y="387"/>
                  </a:lnTo>
                  <a:lnTo>
                    <a:pt x="86" y="425"/>
                  </a:lnTo>
                  <a:lnTo>
                    <a:pt x="102" y="462"/>
                  </a:lnTo>
                  <a:lnTo>
                    <a:pt x="118" y="499"/>
                  </a:lnTo>
                  <a:lnTo>
                    <a:pt x="138" y="536"/>
                  </a:lnTo>
                  <a:lnTo>
                    <a:pt x="157" y="573"/>
                  </a:lnTo>
                  <a:lnTo>
                    <a:pt x="179" y="609"/>
                  </a:lnTo>
                  <a:lnTo>
                    <a:pt x="200" y="646"/>
                  </a:lnTo>
                  <a:lnTo>
                    <a:pt x="224" y="682"/>
                  </a:lnTo>
                  <a:lnTo>
                    <a:pt x="248" y="716"/>
                  </a:lnTo>
                  <a:lnTo>
                    <a:pt x="275" y="751"/>
                  </a:lnTo>
                  <a:lnTo>
                    <a:pt x="301" y="787"/>
                  </a:lnTo>
                  <a:lnTo>
                    <a:pt x="330" y="822"/>
                  </a:lnTo>
                  <a:lnTo>
                    <a:pt x="359" y="856"/>
                  </a:lnTo>
                  <a:lnTo>
                    <a:pt x="389" y="891"/>
                  </a:lnTo>
                  <a:lnTo>
                    <a:pt x="421" y="925"/>
                  </a:lnTo>
                  <a:lnTo>
                    <a:pt x="454" y="958"/>
                  </a:lnTo>
                  <a:lnTo>
                    <a:pt x="486" y="991"/>
                  </a:lnTo>
                  <a:lnTo>
                    <a:pt x="522" y="1025"/>
                  </a:lnTo>
                  <a:lnTo>
                    <a:pt x="558" y="1058"/>
                  </a:lnTo>
                  <a:lnTo>
                    <a:pt x="595" y="1091"/>
                  </a:lnTo>
                  <a:lnTo>
                    <a:pt x="632" y="1124"/>
                  </a:lnTo>
                  <a:lnTo>
                    <a:pt x="672" y="1155"/>
                  </a:lnTo>
                  <a:lnTo>
                    <a:pt x="712" y="1187"/>
                  </a:lnTo>
                  <a:lnTo>
                    <a:pt x="753" y="1219"/>
                  </a:lnTo>
                  <a:lnTo>
                    <a:pt x="795" y="1251"/>
                  </a:lnTo>
                  <a:lnTo>
                    <a:pt x="838" y="1281"/>
                  </a:lnTo>
                  <a:lnTo>
                    <a:pt x="883" y="1313"/>
                  </a:lnTo>
                  <a:lnTo>
                    <a:pt x="928" y="1344"/>
                  </a:lnTo>
                  <a:lnTo>
                    <a:pt x="973" y="1374"/>
                  </a:lnTo>
                  <a:lnTo>
                    <a:pt x="1022" y="1405"/>
                  </a:lnTo>
                  <a:lnTo>
                    <a:pt x="1070" y="1434"/>
                  </a:lnTo>
                  <a:lnTo>
                    <a:pt x="1119" y="1464"/>
                  </a:lnTo>
                  <a:lnTo>
                    <a:pt x="1169" y="1494"/>
                  </a:lnTo>
                  <a:lnTo>
                    <a:pt x="1220" y="1523"/>
                  </a:lnTo>
                  <a:lnTo>
                    <a:pt x="1272" y="1552"/>
                  </a:lnTo>
                  <a:lnTo>
                    <a:pt x="1325" y="1581"/>
                  </a:lnTo>
                  <a:lnTo>
                    <a:pt x="1379" y="1610"/>
                  </a:lnTo>
                  <a:lnTo>
                    <a:pt x="1433" y="1637"/>
                  </a:lnTo>
                  <a:lnTo>
                    <a:pt x="1489" y="1666"/>
                  </a:lnTo>
                  <a:lnTo>
                    <a:pt x="1547" y="1694"/>
                  </a:lnTo>
                  <a:lnTo>
                    <a:pt x="1604" y="1720"/>
                  </a:lnTo>
                  <a:lnTo>
                    <a:pt x="1662" y="1748"/>
                  </a:lnTo>
                  <a:lnTo>
                    <a:pt x="1721" y="1775"/>
                  </a:lnTo>
                  <a:lnTo>
                    <a:pt x="1781" y="1801"/>
                  </a:lnTo>
                  <a:lnTo>
                    <a:pt x="1843" y="1828"/>
                  </a:lnTo>
                  <a:lnTo>
                    <a:pt x="1905" y="1854"/>
                  </a:lnTo>
                  <a:lnTo>
                    <a:pt x="1968" y="1880"/>
                  </a:lnTo>
                  <a:lnTo>
                    <a:pt x="2032" y="1906"/>
                  </a:lnTo>
                  <a:lnTo>
                    <a:pt x="2096" y="1931"/>
                  </a:lnTo>
                  <a:lnTo>
                    <a:pt x="2163" y="1956"/>
                  </a:lnTo>
                  <a:lnTo>
                    <a:pt x="2228" y="1981"/>
                  </a:lnTo>
                  <a:lnTo>
                    <a:pt x="2295" y="2004"/>
                  </a:lnTo>
                  <a:lnTo>
                    <a:pt x="2364" y="2029"/>
                  </a:lnTo>
                  <a:lnTo>
                    <a:pt x="2432" y="2054"/>
                  </a:lnTo>
                  <a:lnTo>
                    <a:pt x="2502" y="2076"/>
                  </a:lnTo>
                  <a:lnTo>
                    <a:pt x="2572" y="2100"/>
                  </a:lnTo>
                  <a:lnTo>
                    <a:pt x="2644" y="2123"/>
                  </a:lnTo>
                  <a:lnTo>
                    <a:pt x="2715" y="2146"/>
                  </a:lnTo>
                  <a:lnTo>
                    <a:pt x="2788" y="2169"/>
                  </a:lnTo>
                  <a:lnTo>
                    <a:pt x="2861" y="2190"/>
                  </a:lnTo>
                  <a:lnTo>
                    <a:pt x="2936" y="2212"/>
                  </a:lnTo>
                  <a:lnTo>
                    <a:pt x="3011" y="2234"/>
                  </a:lnTo>
                  <a:lnTo>
                    <a:pt x="3163" y="2276"/>
                  </a:lnTo>
                  <a:lnTo>
                    <a:pt x="3318" y="2317"/>
                  </a:lnTo>
                  <a:lnTo>
                    <a:pt x="3476" y="2356"/>
                  </a:lnTo>
                  <a:lnTo>
                    <a:pt x="3638" y="2394"/>
                  </a:lnTo>
                  <a:lnTo>
                    <a:pt x="3801" y="2432"/>
                  </a:lnTo>
                  <a:lnTo>
                    <a:pt x="3966" y="2467"/>
                  </a:lnTo>
                  <a:lnTo>
                    <a:pt x="4135" y="2502"/>
                  </a:lnTo>
                  <a:lnTo>
                    <a:pt x="4307" y="2535"/>
                  </a:lnTo>
                  <a:lnTo>
                    <a:pt x="4480" y="2566"/>
                  </a:lnTo>
                  <a:lnTo>
                    <a:pt x="4657" y="2596"/>
                  </a:lnTo>
                  <a:lnTo>
                    <a:pt x="4836" y="2625"/>
                  </a:lnTo>
                  <a:lnTo>
                    <a:pt x="5017" y="2652"/>
                  </a:lnTo>
                  <a:lnTo>
                    <a:pt x="5199" y="2677"/>
                  </a:lnTo>
                  <a:lnTo>
                    <a:pt x="5385" y="2702"/>
                  </a:lnTo>
                  <a:lnTo>
                    <a:pt x="5572" y="2724"/>
                  </a:lnTo>
                  <a:lnTo>
                    <a:pt x="5761" y="2745"/>
                  </a:lnTo>
                  <a:lnTo>
                    <a:pt x="5953" y="2764"/>
                  </a:lnTo>
                  <a:lnTo>
                    <a:pt x="6146" y="2783"/>
                  </a:lnTo>
                  <a:lnTo>
                    <a:pt x="6341" y="2799"/>
                  </a:lnTo>
                  <a:lnTo>
                    <a:pt x="6539" y="2814"/>
                  </a:lnTo>
                  <a:lnTo>
                    <a:pt x="6738" y="2827"/>
                  </a:lnTo>
                  <a:lnTo>
                    <a:pt x="6938" y="2838"/>
                  </a:lnTo>
                  <a:lnTo>
                    <a:pt x="7140" y="2849"/>
                  </a:lnTo>
                  <a:lnTo>
                    <a:pt x="7344" y="2856"/>
                  </a:lnTo>
                  <a:lnTo>
                    <a:pt x="7549" y="2863"/>
                  </a:lnTo>
                  <a:lnTo>
                    <a:pt x="7755" y="2867"/>
                  </a:lnTo>
                  <a:lnTo>
                    <a:pt x="7963" y="2870"/>
                  </a:lnTo>
                  <a:lnTo>
                    <a:pt x="8172" y="2871"/>
                  </a:lnTo>
                  <a:lnTo>
                    <a:pt x="8172" y="2673"/>
                  </a:lnTo>
                  <a:lnTo>
                    <a:pt x="7965" y="2672"/>
                  </a:lnTo>
                  <a:lnTo>
                    <a:pt x="7758" y="2670"/>
                  </a:lnTo>
                  <a:lnTo>
                    <a:pt x="7553" y="2665"/>
                  </a:lnTo>
                  <a:lnTo>
                    <a:pt x="7350" y="2659"/>
                  </a:lnTo>
                  <a:lnTo>
                    <a:pt x="7148" y="2651"/>
                  </a:lnTo>
                  <a:lnTo>
                    <a:pt x="6948" y="2641"/>
                  </a:lnTo>
                  <a:lnTo>
                    <a:pt x="6749" y="2630"/>
                  </a:lnTo>
                  <a:lnTo>
                    <a:pt x="6552" y="2617"/>
                  </a:lnTo>
                  <a:lnTo>
                    <a:pt x="6357" y="2602"/>
                  </a:lnTo>
                  <a:lnTo>
                    <a:pt x="6164" y="2586"/>
                  </a:lnTo>
                  <a:lnTo>
                    <a:pt x="5972" y="2569"/>
                  </a:lnTo>
                  <a:lnTo>
                    <a:pt x="5783" y="2549"/>
                  </a:lnTo>
                  <a:lnTo>
                    <a:pt x="5595" y="2528"/>
                  </a:lnTo>
                  <a:lnTo>
                    <a:pt x="5409" y="2505"/>
                  </a:lnTo>
                  <a:lnTo>
                    <a:pt x="5226" y="2481"/>
                  </a:lnTo>
                  <a:lnTo>
                    <a:pt x="5044" y="2456"/>
                  </a:lnTo>
                  <a:lnTo>
                    <a:pt x="4865" y="2429"/>
                  </a:lnTo>
                  <a:lnTo>
                    <a:pt x="4689" y="2401"/>
                  </a:lnTo>
                  <a:lnTo>
                    <a:pt x="4514" y="2371"/>
                  </a:lnTo>
                  <a:lnTo>
                    <a:pt x="4342" y="2340"/>
                  </a:lnTo>
                  <a:lnTo>
                    <a:pt x="4173" y="2307"/>
                  </a:lnTo>
                  <a:lnTo>
                    <a:pt x="4006" y="2274"/>
                  </a:lnTo>
                  <a:lnTo>
                    <a:pt x="3842" y="2238"/>
                  </a:lnTo>
                  <a:lnTo>
                    <a:pt x="3681" y="2202"/>
                  </a:lnTo>
                  <a:lnTo>
                    <a:pt x="3522" y="2164"/>
                  </a:lnTo>
                  <a:lnTo>
                    <a:pt x="3367" y="2125"/>
                  </a:lnTo>
                  <a:lnTo>
                    <a:pt x="3214" y="2084"/>
                  </a:lnTo>
                  <a:lnTo>
                    <a:pt x="3063" y="2043"/>
                  </a:lnTo>
                  <a:lnTo>
                    <a:pt x="2990" y="2023"/>
                  </a:lnTo>
                  <a:lnTo>
                    <a:pt x="2917" y="2001"/>
                  </a:lnTo>
                  <a:lnTo>
                    <a:pt x="2845" y="1980"/>
                  </a:lnTo>
                  <a:lnTo>
                    <a:pt x="2773" y="1957"/>
                  </a:lnTo>
                  <a:lnTo>
                    <a:pt x="2703" y="1935"/>
                  </a:lnTo>
                  <a:lnTo>
                    <a:pt x="2633" y="1912"/>
                  </a:lnTo>
                  <a:lnTo>
                    <a:pt x="2564" y="1890"/>
                  </a:lnTo>
                  <a:lnTo>
                    <a:pt x="2496" y="1866"/>
                  </a:lnTo>
                  <a:lnTo>
                    <a:pt x="2428" y="1842"/>
                  </a:lnTo>
                  <a:lnTo>
                    <a:pt x="2362" y="1819"/>
                  </a:lnTo>
                  <a:lnTo>
                    <a:pt x="2296" y="1795"/>
                  </a:lnTo>
                  <a:lnTo>
                    <a:pt x="2231" y="1771"/>
                  </a:lnTo>
                  <a:lnTo>
                    <a:pt x="2168" y="1747"/>
                  </a:lnTo>
                  <a:lnTo>
                    <a:pt x="2104" y="1721"/>
                  </a:lnTo>
                  <a:lnTo>
                    <a:pt x="2042" y="1697"/>
                  </a:lnTo>
                  <a:lnTo>
                    <a:pt x="1981" y="1671"/>
                  </a:lnTo>
                  <a:lnTo>
                    <a:pt x="1920" y="1647"/>
                  </a:lnTo>
                  <a:lnTo>
                    <a:pt x="1860" y="1621"/>
                  </a:lnTo>
                  <a:lnTo>
                    <a:pt x="1802" y="1594"/>
                  </a:lnTo>
                  <a:lnTo>
                    <a:pt x="1744" y="1569"/>
                  </a:lnTo>
                  <a:lnTo>
                    <a:pt x="1686" y="1542"/>
                  </a:lnTo>
                  <a:lnTo>
                    <a:pt x="1631" y="1515"/>
                  </a:lnTo>
                  <a:lnTo>
                    <a:pt x="1576" y="1489"/>
                  </a:lnTo>
                  <a:lnTo>
                    <a:pt x="1522" y="1461"/>
                  </a:lnTo>
                  <a:lnTo>
                    <a:pt x="1469" y="1434"/>
                  </a:lnTo>
                  <a:lnTo>
                    <a:pt x="1417" y="1407"/>
                  </a:lnTo>
                  <a:lnTo>
                    <a:pt x="1367" y="1379"/>
                  </a:lnTo>
                  <a:lnTo>
                    <a:pt x="1316" y="1351"/>
                  </a:lnTo>
                  <a:lnTo>
                    <a:pt x="1267" y="1322"/>
                  </a:lnTo>
                  <a:lnTo>
                    <a:pt x="1219" y="1295"/>
                  </a:lnTo>
                  <a:lnTo>
                    <a:pt x="1172" y="1266"/>
                  </a:lnTo>
                  <a:lnTo>
                    <a:pt x="1126" y="1237"/>
                  </a:lnTo>
                  <a:lnTo>
                    <a:pt x="1081" y="1209"/>
                  </a:lnTo>
                  <a:lnTo>
                    <a:pt x="1037" y="1179"/>
                  </a:lnTo>
                  <a:lnTo>
                    <a:pt x="994" y="1150"/>
                  </a:lnTo>
                  <a:lnTo>
                    <a:pt x="952" y="1120"/>
                  </a:lnTo>
                  <a:lnTo>
                    <a:pt x="911" y="1092"/>
                  </a:lnTo>
                  <a:lnTo>
                    <a:pt x="871" y="1062"/>
                  </a:lnTo>
                  <a:lnTo>
                    <a:pt x="833" y="1032"/>
                  </a:lnTo>
                  <a:lnTo>
                    <a:pt x="795" y="1001"/>
                  </a:lnTo>
                  <a:lnTo>
                    <a:pt x="759" y="972"/>
                  </a:lnTo>
                  <a:lnTo>
                    <a:pt x="723" y="941"/>
                  </a:lnTo>
                  <a:lnTo>
                    <a:pt x="690" y="911"/>
                  </a:lnTo>
                  <a:lnTo>
                    <a:pt x="656" y="880"/>
                  </a:lnTo>
                  <a:lnTo>
                    <a:pt x="624" y="850"/>
                  </a:lnTo>
                  <a:lnTo>
                    <a:pt x="592" y="819"/>
                  </a:lnTo>
                  <a:lnTo>
                    <a:pt x="563" y="788"/>
                  </a:lnTo>
                  <a:lnTo>
                    <a:pt x="534" y="757"/>
                  </a:lnTo>
                  <a:lnTo>
                    <a:pt x="507" y="727"/>
                  </a:lnTo>
                  <a:lnTo>
                    <a:pt x="480" y="696"/>
                  </a:lnTo>
                  <a:lnTo>
                    <a:pt x="456" y="664"/>
                  </a:lnTo>
                  <a:lnTo>
                    <a:pt x="431" y="633"/>
                  </a:lnTo>
                  <a:lnTo>
                    <a:pt x="409" y="602"/>
                  </a:lnTo>
                  <a:lnTo>
                    <a:pt x="387" y="571"/>
                  </a:lnTo>
                  <a:lnTo>
                    <a:pt x="367" y="539"/>
                  </a:lnTo>
                  <a:lnTo>
                    <a:pt x="347" y="508"/>
                  </a:lnTo>
                  <a:lnTo>
                    <a:pt x="329" y="476"/>
                  </a:lnTo>
                  <a:lnTo>
                    <a:pt x="312" y="445"/>
                  </a:lnTo>
                  <a:lnTo>
                    <a:pt x="296" y="414"/>
                  </a:lnTo>
                  <a:lnTo>
                    <a:pt x="281" y="382"/>
                  </a:lnTo>
                  <a:lnTo>
                    <a:pt x="268" y="350"/>
                  </a:lnTo>
                  <a:lnTo>
                    <a:pt x="255" y="318"/>
                  </a:lnTo>
                  <a:lnTo>
                    <a:pt x="244" y="287"/>
                  </a:lnTo>
                  <a:lnTo>
                    <a:pt x="235" y="255"/>
                  </a:lnTo>
                  <a:lnTo>
                    <a:pt x="226" y="223"/>
                  </a:lnTo>
                  <a:lnTo>
                    <a:pt x="218" y="192"/>
                  </a:lnTo>
                  <a:lnTo>
                    <a:pt x="211" y="161"/>
                  </a:lnTo>
                  <a:lnTo>
                    <a:pt x="206" y="128"/>
                  </a:lnTo>
                  <a:lnTo>
                    <a:pt x="202" y="96"/>
                  </a:lnTo>
                  <a:lnTo>
                    <a:pt x="199" y="64"/>
                  </a:lnTo>
                  <a:lnTo>
                    <a:pt x="197" y="32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70320" y="4840200"/>
              <a:ext cx="360360" cy="127080"/>
            </a:xfrm>
            <a:custGeom>
              <a:avLst/>
              <a:gdLst/>
              <a:ahLst/>
              <a:rect l="l" t="t" r="r" b="b"/>
              <a:pathLst>
                <a:path w="8172" h="2871">
                  <a:moveTo>
                    <a:pt x="8172" y="0"/>
                  </a:moveTo>
                  <a:lnTo>
                    <a:pt x="8172" y="0"/>
                  </a:lnTo>
                  <a:lnTo>
                    <a:pt x="7963" y="1"/>
                  </a:lnTo>
                  <a:lnTo>
                    <a:pt x="7755" y="4"/>
                  </a:lnTo>
                  <a:lnTo>
                    <a:pt x="7549" y="8"/>
                  </a:lnTo>
                  <a:lnTo>
                    <a:pt x="7344" y="14"/>
                  </a:lnTo>
                  <a:lnTo>
                    <a:pt x="7140" y="23"/>
                  </a:lnTo>
                  <a:lnTo>
                    <a:pt x="6938" y="33"/>
                  </a:lnTo>
                  <a:lnTo>
                    <a:pt x="6738" y="44"/>
                  </a:lnTo>
                  <a:lnTo>
                    <a:pt x="6539" y="56"/>
                  </a:lnTo>
                  <a:lnTo>
                    <a:pt x="6341" y="72"/>
                  </a:lnTo>
                  <a:lnTo>
                    <a:pt x="6146" y="88"/>
                  </a:lnTo>
                  <a:lnTo>
                    <a:pt x="5953" y="106"/>
                  </a:lnTo>
                  <a:lnTo>
                    <a:pt x="5761" y="125"/>
                  </a:lnTo>
                  <a:lnTo>
                    <a:pt x="5572" y="147"/>
                  </a:lnTo>
                  <a:lnTo>
                    <a:pt x="5385" y="169"/>
                  </a:lnTo>
                  <a:lnTo>
                    <a:pt x="5199" y="194"/>
                  </a:lnTo>
                  <a:lnTo>
                    <a:pt x="5017" y="219"/>
                  </a:lnTo>
                  <a:lnTo>
                    <a:pt x="4836" y="246"/>
                  </a:lnTo>
                  <a:lnTo>
                    <a:pt x="4657" y="275"/>
                  </a:lnTo>
                  <a:lnTo>
                    <a:pt x="4480" y="305"/>
                  </a:lnTo>
                  <a:lnTo>
                    <a:pt x="4307" y="336"/>
                  </a:lnTo>
                  <a:lnTo>
                    <a:pt x="4135" y="369"/>
                  </a:lnTo>
                  <a:lnTo>
                    <a:pt x="3966" y="404"/>
                  </a:lnTo>
                  <a:lnTo>
                    <a:pt x="3801" y="439"/>
                  </a:lnTo>
                  <a:lnTo>
                    <a:pt x="3638" y="476"/>
                  </a:lnTo>
                  <a:lnTo>
                    <a:pt x="3476" y="515"/>
                  </a:lnTo>
                  <a:lnTo>
                    <a:pt x="3318" y="554"/>
                  </a:lnTo>
                  <a:lnTo>
                    <a:pt x="3163" y="595"/>
                  </a:lnTo>
                  <a:lnTo>
                    <a:pt x="3011" y="637"/>
                  </a:lnTo>
                  <a:lnTo>
                    <a:pt x="2861" y="681"/>
                  </a:lnTo>
                  <a:lnTo>
                    <a:pt x="2715" y="725"/>
                  </a:lnTo>
                  <a:lnTo>
                    <a:pt x="2572" y="771"/>
                  </a:lnTo>
                  <a:lnTo>
                    <a:pt x="2433" y="817"/>
                  </a:lnTo>
                  <a:lnTo>
                    <a:pt x="2364" y="842"/>
                  </a:lnTo>
                  <a:lnTo>
                    <a:pt x="2295" y="866"/>
                  </a:lnTo>
                  <a:lnTo>
                    <a:pt x="2228" y="890"/>
                  </a:lnTo>
                  <a:lnTo>
                    <a:pt x="2163" y="915"/>
                  </a:lnTo>
                  <a:lnTo>
                    <a:pt x="2096" y="940"/>
                  </a:lnTo>
                  <a:lnTo>
                    <a:pt x="2032" y="965"/>
                  </a:lnTo>
                  <a:lnTo>
                    <a:pt x="1968" y="991"/>
                  </a:lnTo>
                  <a:lnTo>
                    <a:pt x="1905" y="1017"/>
                  </a:lnTo>
                  <a:lnTo>
                    <a:pt x="1843" y="1043"/>
                  </a:lnTo>
                  <a:lnTo>
                    <a:pt x="1781" y="1070"/>
                  </a:lnTo>
                  <a:lnTo>
                    <a:pt x="1721" y="1096"/>
                  </a:lnTo>
                  <a:lnTo>
                    <a:pt x="1662" y="1123"/>
                  </a:lnTo>
                  <a:lnTo>
                    <a:pt x="1604" y="1151"/>
                  </a:lnTo>
                  <a:lnTo>
                    <a:pt x="1547" y="1177"/>
                  </a:lnTo>
                  <a:lnTo>
                    <a:pt x="1489" y="1205"/>
                  </a:lnTo>
                  <a:lnTo>
                    <a:pt x="1433" y="1234"/>
                  </a:lnTo>
                  <a:lnTo>
                    <a:pt x="1379" y="1261"/>
                  </a:lnTo>
                  <a:lnTo>
                    <a:pt x="1325" y="1290"/>
                  </a:lnTo>
                  <a:lnTo>
                    <a:pt x="1272" y="1319"/>
                  </a:lnTo>
                  <a:lnTo>
                    <a:pt x="1220" y="1348"/>
                  </a:lnTo>
                  <a:lnTo>
                    <a:pt x="1169" y="1377"/>
                  </a:lnTo>
                  <a:lnTo>
                    <a:pt x="1119" y="1406"/>
                  </a:lnTo>
                  <a:lnTo>
                    <a:pt x="1070" y="1437"/>
                  </a:lnTo>
                  <a:lnTo>
                    <a:pt x="1022" y="1467"/>
                  </a:lnTo>
                  <a:lnTo>
                    <a:pt x="973" y="1497"/>
                  </a:lnTo>
                  <a:lnTo>
                    <a:pt x="928" y="1527"/>
                  </a:lnTo>
                  <a:lnTo>
                    <a:pt x="883" y="1558"/>
                  </a:lnTo>
                  <a:lnTo>
                    <a:pt x="838" y="1590"/>
                  </a:lnTo>
                  <a:lnTo>
                    <a:pt x="795" y="1620"/>
                  </a:lnTo>
                  <a:lnTo>
                    <a:pt x="753" y="1652"/>
                  </a:lnTo>
                  <a:lnTo>
                    <a:pt x="712" y="1684"/>
                  </a:lnTo>
                  <a:lnTo>
                    <a:pt x="672" y="1716"/>
                  </a:lnTo>
                  <a:lnTo>
                    <a:pt x="632" y="1748"/>
                  </a:lnTo>
                  <a:lnTo>
                    <a:pt x="595" y="1780"/>
                  </a:lnTo>
                  <a:lnTo>
                    <a:pt x="558" y="1813"/>
                  </a:lnTo>
                  <a:lnTo>
                    <a:pt x="522" y="1846"/>
                  </a:lnTo>
                  <a:lnTo>
                    <a:pt x="486" y="1880"/>
                  </a:lnTo>
                  <a:lnTo>
                    <a:pt x="454" y="1913"/>
                  </a:lnTo>
                  <a:lnTo>
                    <a:pt x="421" y="1946"/>
                  </a:lnTo>
                  <a:lnTo>
                    <a:pt x="389" y="1980"/>
                  </a:lnTo>
                  <a:lnTo>
                    <a:pt x="359" y="2014"/>
                  </a:lnTo>
                  <a:lnTo>
                    <a:pt x="330" y="2049"/>
                  </a:lnTo>
                  <a:lnTo>
                    <a:pt x="301" y="2084"/>
                  </a:lnTo>
                  <a:lnTo>
                    <a:pt x="275" y="2119"/>
                  </a:lnTo>
                  <a:lnTo>
                    <a:pt x="248" y="2155"/>
                  </a:lnTo>
                  <a:lnTo>
                    <a:pt x="224" y="2190"/>
                  </a:lnTo>
                  <a:lnTo>
                    <a:pt x="200" y="2225"/>
                  </a:lnTo>
                  <a:lnTo>
                    <a:pt x="179" y="2262"/>
                  </a:lnTo>
                  <a:lnTo>
                    <a:pt x="157" y="2298"/>
                  </a:lnTo>
                  <a:lnTo>
                    <a:pt x="138" y="2335"/>
                  </a:lnTo>
                  <a:lnTo>
                    <a:pt x="118" y="2372"/>
                  </a:lnTo>
                  <a:lnTo>
                    <a:pt x="102" y="2409"/>
                  </a:lnTo>
                  <a:lnTo>
                    <a:pt x="86" y="2446"/>
                  </a:lnTo>
                  <a:lnTo>
                    <a:pt x="72" y="2484"/>
                  </a:lnTo>
                  <a:lnTo>
                    <a:pt x="58" y="2522"/>
                  </a:lnTo>
                  <a:lnTo>
                    <a:pt x="46" y="2560"/>
                  </a:lnTo>
                  <a:lnTo>
                    <a:pt x="36" y="2598"/>
                  </a:lnTo>
                  <a:lnTo>
                    <a:pt x="27" y="2637"/>
                  </a:lnTo>
                  <a:lnTo>
                    <a:pt x="18" y="2676"/>
                  </a:lnTo>
                  <a:lnTo>
                    <a:pt x="11" y="2714"/>
                  </a:lnTo>
                  <a:lnTo>
                    <a:pt x="7" y="2753"/>
                  </a:lnTo>
                  <a:lnTo>
                    <a:pt x="3" y="2793"/>
                  </a:lnTo>
                  <a:lnTo>
                    <a:pt x="1" y="2832"/>
                  </a:lnTo>
                  <a:lnTo>
                    <a:pt x="0" y="2871"/>
                  </a:lnTo>
                  <a:lnTo>
                    <a:pt x="197" y="2871"/>
                  </a:lnTo>
                  <a:lnTo>
                    <a:pt x="197" y="2839"/>
                  </a:lnTo>
                  <a:lnTo>
                    <a:pt x="199" y="2806"/>
                  </a:lnTo>
                  <a:lnTo>
                    <a:pt x="202" y="2775"/>
                  </a:lnTo>
                  <a:lnTo>
                    <a:pt x="206" y="2742"/>
                  </a:lnTo>
                  <a:lnTo>
                    <a:pt x="211" y="2711"/>
                  </a:lnTo>
                  <a:lnTo>
                    <a:pt x="218" y="2679"/>
                  </a:lnTo>
                  <a:lnTo>
                    <a:pt x="226" y="2647"/>
                  </a:lnTo>
                  <a:lnTo>
                    <a:pt x="235" y="2615"/>
                  </a:lnTo>
                  <a:lnTo>
                    <a:pt x="244" y="2584"/>
                  </a:lnTo>
                  <a:lnTo>
                    <a:pt x="255" y="2553"/>
                  </a:lnTo>
                  <a:lnTo>
                    <a:pt x="268" y="2521"/>
                  </a:lnTo>
                  <a:lnTo>
                    <a:pt x="281" y="2489"/>
                  </a:lnTo>
                  <a:lnTo>
                    <a:pt x="296" y="2457"/>
                  </a:lnTo>
                  <a:lnTo>
                    <a:pt x="312" y="2426"/>
                  </a:lnTo>
                  <a:lnTo>
                    <a:pt x="329" y="2395"/>
                  </a:lnTo>
                  <a:lnTo>
                    <a:pt x="347" y="2363"/>
                  </a:lnTo>
                  <a:lnTo>
                    <a:pt x="367" y="2332"/>
                  </a:lnTo>
                  <a:lnTo>
                    <a:pt x="387" y="2300"/>
                  </a:lnTo>
                  <a:lnTo>
                    <a:pt x="409" y="2269"/>
                  </a:lnTo>
                  <a:lnTo>
                    <a:pt x="431" y="2238"/>
                  </a:lnTo>
                  <a:lnTo>
                    <a:pt x="456" y="2207"/>
                  </a:lnTo>
                  <a:lnTo>
                    <a:pt x="480" y="2175"/>
                  </a:lnTo>
                  <a:lnTo>
                    <a:pt x="507" y="2144"/>
                  </a:lnTo>
                  <a:lnTo>
                    <a:pt x="534" y="2114"/>
                  </a:lnTo>
                  <a:lnTo>
                    <a:pt x="563" y="2083"/>
                  </a:lnTo>
                  <a:lnTo>
                    <a:pt x="592" y="2052"/>
                  </a:lnTo>
                  <a:lnTo>
                    <a:pt x="624" y="2021"/>
                  </a:lnTo>
                  <a:lnTo>
                    <a:pt x="656" y="1991"/>
                  </a:lnTo>
                  <a:lnTo>
                    <a:pt x="690" y="1960"/>
                  </a:lnTo>
                  <a:lnTo>
                    <a:pt x="723" y="1929"/>
                  </a:lnTo>
                  <a:lnTo>
                    <a:pt x="759" y="1899"/>
                  </a:lnTo>
                  <a:lnTo>
                    <a:pt x="795" y="1870"/>
                  </a:lnTo>
                  <a:lnTo>
                    <a:pt x="833" y="1839"/>
                  </a:lnTo>
                  <a:lnTo>
                    <a:pt x="871" y="1809"/>
                  </a:lnTo>
                  <a:lnTo>
                    <a:pt x="911" y="1779"/>
                  </a:lnTo>
                  <a:lnTo>
                    <a:pt x="952" y="1750"/>
                  </a:lnTo>
                  <a:lnTo>
                    <a:pt x="994" y="1721"/>
                  </a:lnTo>
                  <a:lnTo>
                    <a:pt x="1037" y="1691"/>
                  </a:lnTo>
                  <a:lnTo>
                    <a:pt x="1081" y="1662"/>
                  </a:lnTo>
                  <a:lnTo>
                    <a:pt x="1126" y="1634"/>
                  </a:lnTo>
                  <a:lnTo>
                    <a:pt x="1172" y="1605"/>
                  </a:lnTo>
                  <a:lnTo>
                    <a:pt x="1219" y="1576"/>
                  </a:lnTo>
                  <a:lnTo>
                    <a:pt x="1267" y="1549"/>
                  </a:lnTo>
                  <a:lnTo>
                    <a:pt x="1316" y="1520"/>
                  </a:lnTo>
                  <a:lnTo>
                    <a:pt x="1367" y="1492"/>
                  </a:lnTo>
                  <a:lnTo>
                    <a:pt x="1417" y="1464"/>
                  </a:lnTo>
                  <a:lnTo>
                    <a:pt x="1470" y="1437"/>
                  </a:lnTo>
                  <a:lnTo>
                    <a:pt x="1522" y="1410"/>
                  </a:lnTo>
                  <a:lnTo>
                    <a:pt x="1576" y="1382"/>
                  </a:lnTo>
                  <a:lnTo>
                    <a:pt x="1631" y="1356"/>
                  </a:lnTo>
                  <a:lnTo>
                    <a:pt x="1686" y="1329"/>
                  </a:lnTo>
                  <a:lnTo>
                    <a:pt x="1744" y="1302"/>
                  </a:lnTo>
                  <a:lnTo>
                    <a:pt x="1802" y="1277"/>
                  </a:lnTo>
                  <a:lnTo>
                    <a:pt x="1860" y="1250"/>
                  </a:lnTo>
                  <a:lnTo>
                    <a:pt x="1920" y="1225"/>
                  </a:lnTo>
                  <a:lnTo>
                    <a:pt x="1981" y="1199"/>
                  </a:lnTo>
                  <a:lnTo>
                    <a:pt x="2042" y="1174"/>
                  </a:lnTo>
                  <a:lnTo>
                    <a:pt x="2104" y="1150"/>
                  </a:lnTo>
                  <a:lnTo>
                    <a:pt x="2168" y="1124"/>
                  </a:lnTo>
                  <a:lnTo>
                    <a:pt x="2231" y="1100"/>
                  </a:lnTo>
                  <a:lnTo>
                    <a:pt x="2296" y="1076"/>
                  </a:lnTo>
                  <a:lnTo>
                    <a:pt x="2362" y="1051"/>
                  </a:lnTo>
                  <a:lnTo>
                    <a:pt x="2428" y="1028"/>
                  </a:lnTo>
                  <a:lnTo>
                    <a:pt x="2496" y="1005"/>
                  </a:lnTo>
                  <a:lnTo>
                    <a:pt x="2633" y="959"/>
                  </a:lnTo>
                  <a:lnTo>
                    <a:pt x="2773" y="914"/>
                  </a:lnTo>
                  <a:lnTo>
                    <a:pt x="2917" y="870"/>
                  </a:lnTo>
                  <a:lnTo>
                    <a:pt x="3065" y="828"/>
                  </a:lnTo>
                  <a:lnTo>
                    <a:pt x="3214" y="786"/>
                  </a:lnTo>
                  <a:lnTo>
                    <a:pt x="3367" y="746"/>
                  </a:lnTo>
                  <a:lnTo>
                    <a:pt x="3522" y="707"/>
                  </a:lnTo>
                  <a:lnTo>
                    <a:pt x="3681" y="669"/>
                  </a:lnTo>
                  <a:lnTo>
                    <a:pt x="3842" y="633"/>
                  </a:lnTo>
                  <a:lnTo>
                    <a:pt x="4006" y="597"/>
                  </a:lnTo>
                  <a:lnTo>
                    <a:pt x="4173" y="564"/>
                  </a:lnTo>
                  <a:lnTo>
                    <a:pt x="4342" y="531"/>
                  </a:lnTo>
                  <a:lnTo>
                    <a:pt x="4514" y="499"/>
                  </a:lnTo>
                  <a:lnTo>
                    <a:pt x="4689" y="470"/>
                  </a:lnTo>
                  <a:lnTo>
                    <a:pt x="4865" y="442"/>
                  </a:lnTo>
                  <a:lnTo>
                    <a:pt x="5044" y="414"/>
                  </a:lnTo>
                  <a:lnTo>
                    <a:pt x="5226" y="390"/>
                  </a:lnTo>
                  <a:lnTo>
                    <a:pt x="5409" y="365"/>
                  </a:lnTo>
                  <a:lnTo>
                    <a:pt x="5595" y="343"/>
                  </a:lnTo>
                  <a:lnTo>
                    <a:pt x="5783" y="322"/>
                  </a:lnTo>
                  <a:lnTo>
                    <a:pt x="5972" y="303"/>
                  </a:lnTo>
                  <a:lnTo>
                    <a:pt x="6164" y="285"/>
                  </a:lnTo>
                  <a:lnTo>
                    <a:pt x="6357" y="269"/>
                  </a:lnTo>
                  <a:lnTo>
                    <a:pt x="6552" y="254"/>
                  </a:lnTo>
                  <a:lnTo>
                    <a:pt x="6749" y="241"/>
                  </a:lnTo>
                  <a:lnTo>
                    <a:pt x="6948" y="230"/>
                  </a:lnTo>
                  <a:lnTo>
                    <a:pt x="7148" y="219"/>
                  </a:lnTo>
                  <a:lnTo>
                    <a:pt x="7350" y="212"/>
                  </a:lnTo>
                  <a:lnTo>
                    <a:pt x="7553" y="206"/>
                  </a:lnTo>
                  <a:lnTo>
                    <a:pt x="7758" y="201"/>
                  </a:lnTo>
                  <a:lnTo>
                    <a:pt x="7965" y="199"/>
                  </a:lnTo>
                  <a:lnTo>
                    <a:pt x="8172" y="198"/>
                  </a:lnTo>
                  <a:lnTo>
                    <a:pt x="8172" y="198"/>
                  </a:lnTo>
                  <a:lnTo>
                    <a:pt x="8172" y="0"/>
                  </a:lnTo>
                  <a:lnTo>
                    <a:pt x="8172" y="0"/>
                  </a:lnTo>
                  <a:lnTo>
                    <a:pt x="8172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30680" y="4840200"/>
              <a:ext cx="360360" cy="127080"/>
            </a:xfrm>
            <a:custGeom>
              <a:avLst/>
              <a:gdLst/>
              <a:ahLst/>
              <a:rect l="l" t="t" r="r" b="b"/>
              <a:pathLst>
                <a:path w="8172" h="2871">
                  <a:moveTo>
                    <a:pt x="8172" y="2871"/>
                  </a:moveTo>
                  <a:lnTo>
                    <a:pt x="8172" y="2871"/>
                  </a:lnTo>
                  <a:lnTo>
                    <a:pt x="8171" y="2832"/>
                  </a:lnTo>
                  <a:lnTo>
                    <a:pt x="8169" y="2793"/>
                  </a:lnTo>
                  <a:lnTo>
                    <a:pt x="8165" y="2753"/>
                  </a:lnTo>
                  <a:lnTo>
                    <a:pt x="8161" y="2714"/>
                  </a:lnTo>
                  <a:lnTo>
                    <a:pt x="8154" y="2676"/>
                  </a:lnTo>
                  <a:lnTo>
                    <a:pt x="8145" y="2637"/>
                  </a:lnTo>
                  <a:lnTo>
                    <a:pt x="8136" y="2598"/>
                  </a:lnTo>
                  <a:lnTo>
                    <a:pt x="8126" y="2560"/>
                  </a:lnTo>
                  <a:lnTo>
                    <a:pt x="8114" y="2522"/>
                  </a:lnTo>
                  <a:lnTo>
                    <a:pt x="8100" y="2484"/>
                  </a:lnTo>
                  <a:lnTo>
                    <a:pt x="8086" y="2446"/>
                  </a:lnTo>
                  <a:lnTo>
                    <a:pt x="8070" y="2409"/>
                  </a:lnTo>
                  <a:lnTo>
                    <a:pt x="8052" y="2372"/>
                  </a:lnTo>
                  <a:lnTo>
                    <a:pt x="8034" y="2335"/>
                  </a:lnTo>
                  <a:lnTo>
                    <a:pt x="8015" y="2298"/>
                  </a:lnTo>
                  <a:lnTo>
                    <a:pt x="7993" y="2262"/>
                  </a:lnTo>
                  <a:lnTo>
                    <a:pt x="7972" y="2225"/>
                  </a:lnTo>
                  <a:lnTo>
                    <a:pt x="7948" y="2190"/>
                  </a:lnTo>
                  <a:lnTo>
                    <a:pt x="7924" y="2155"/>
                  </a:lnTo>
                  <a:lnTo>
                    <a:pt x="7897" y="2119"/>
                  </a:lnTo>
                  <a:lnTo>
                    <a:pt x="7871" y="2084"/>
                  </a:lnTo>
                  <a:lnTo>
                    <a:pt x="7842" y="2049"/>
                  </a:lnTo>
                  <a:lnTo>
                    <a:pt x="7813" y="2014"/>
                  </a:lnTo>
                  <a:lnTo>
                    <a:pt x="7783" y="1980"/>
                  </a:lnTo>
                  <a:lnTo>
                    <a:pt x="7751" y="1946"/>
                  </a:lnTo>
                  <a:lnTo>
                    <a:pt x="7718" y="1913"/>
                  </a:lnTo>
                  <a:lnTo>
                    <a:pt x="7685" y="1880"/>
                  </a:lnTo>
                  <a:lnTo>
                    <a:pt x="7650" y="1846"/>
                  </a:lnTo>
                  <a:lnTo>
                    <a:pt x="7614" y="1813"/>
                  </a:lnTo>
                  <a:lnTo>
                    <a:pt x="7577" y="1780"/>
                  </a:lnTo>
                  <a:lnTo>
                    <a:pt x="7540" y="1748"/>
                  </a:lnTo>
                  <a:lnTo>
                    <a:pt x="7500" y="1716"/>
                  </a:lnTo>
                  <a:lnTo>
                    <a:pt x="7460" y="1684"/>
                  </a:lnTo>
                  <a:lnTo>
                    <a:pt x="7419" y="1652"/>
                  </a:lnTo>
                  <a:lnTo>
                    <a:pt x="7377" y="1620"/>
                  </a:lnTo>
                  <a:lnTo>
                    <a:pt x="7333" y="1590"/>
                  </a:lnTo>
                  <a:lnTo>
                    <a:pt x="7289" y="1558"/>
                  </a:lnTo>
                  <a:lnTo>
                    <a:pt x="7244" y="1527"/>
                  </a:lnTo>
                  <a:lnTo>
                    <a:pt x="7199" y="1497"/>
                  </a:lnTo>
                  <a:lnTo>
                    <a:pt x="7151" y="1467"/>
                  </a:lnTo>
                  <a:lnTo>
                    <a:pt x="7102" y="1437"/>
                  </a:lnTo>
                  <a:lnTo>
                    <a:pt x="7053" y="1406"/>
                  </a:lnTo>
                  <a:lnTo>
                    <a:pt x="7003" y="1377"/>
                  </a:lnTo>
                  <a:lnTo>
                    <a:pt x="6952" y="1348"/>
                  </a:lnTo>
                  <a:lnTo>
                    <a:pt x="6900" y="1319"/>
                  </a:lnTo>
                  <a:lnTo>
                    <a:pt x="6847" y="1290"/>
                  </a:lnTo>
                  <a:lnTo>
                    <a:pt x="6793" y="1261"/>
                  </a:lnTo>
                  <a:lnTo>
                    <a:pt x="6738" y="1234"/>
                  </a:lnTo>
                  <a:lnTo>
                    <a:pt x="6683" y="1205"/>
                  </a:lnTo>
                  <a:lnTo>
                    <a:pt x="6625" y="1177"/>
                  </a:lnTo>
                  <a:lnTo>
                    <a:pt x="6568" y="1151"/>
                  </a:lnTo>
                  <a:lnTo>
                    <a:pt x="6510" y="1123"/>
                  </a:lnTo>
                  <a:lnTo>
                    <a:pt x="6450" y="1096"/>
                  </a:lnTo>
                  <a:lnTo>
                    <a:pt x="6389" y="1070"/>
                  </a:lnTo>
                  <a:lnTo>
                    <a:pt x="6329" y="1043"/>
                  </a:lnTo>
                  <a:lnTo>
                    <a:pt x="6267" y="1017"/>
                  </a:lnTo>
                  <a:lnTo>
                    <a:pt x="6204" y="991"/>
                  </a:lnTo>
                  <a:lnTo>
                    <a:pt x="6140" y="965"/>
                  </a:lnTo>
                  <a:lnTo>
                    <a:pt x="6076" y="940"/>
                  </a:lnTo>
                  <a:lnTo>
                    <a:pt x="6009" y="915"/>
                  </a:lnTo>
                  <a:lnTo>
                    <a:pt x="5943" y="890"/>
                  </a:lnTo>
                  <a:lnTo>
                    <a:pt x="5877" y="866"/>
                  </a:lnTo>
                  <a:lnTo>
                    <a:pt x="5808" y="842"/>
                  </a:lnTo>
                  <a:lnTo>
                    <a:pt x="5739" y="817"/>
                  </a:lnTo>
                  <a:lnTo>
                    <a:pt x="5600" y="771"/>
                  </a:lnTo>
                  <a:lnTo>
                    <a:pt x="5456" y="725"/>
                  </a:lnTo>
                  <a:lnTo>
                    <a:pt x="5310" y="681"/>
                  </a:lnTo>
                  <a:lnTo>
                    <a:pt x="5161" y="637"/>
                  </a:lnTo>
                  <a:lnTo>
                    <a:pt x="5008" y="595"/>
                  </a:lnTo>
                  <a:lnTo>
                    <a:pt x="4854" y="554"/>
                  </a:lnTo>
                  <a:lnTo>
                    <a:pt x="4696" y="515"/>
                  </a:lnTo>
                  <a:lnTo>
                    <a:pt x="4534" y="476"/>
                  </a:lnTo>
                  <a:lnTo>
                    <a:pt x="4371" y="439"/>
                  </a:lnTo>
                  <a:lnTo>
                    <a:pt x="4206" y="404"/>
                  </a:lnTo>
                  <a:lnTo>
                    <a:pt x="4036" y="369"/>
                  </a:lnTo>
                  <a:lnTo>
                    <a:pt x="3865" y="336"/>
                  </a:lnTo>
                  <a:lnTo>
                    <a:pt x="3692" y="305"/>
                  </a:lnTo>
                  <a:lnTo>
                    <a:pt x="3515" y="275"/>
                  </a:lnTo>
                  <a:lnTo>
                    <a:pt x="3336" y="246"/>
                  </a:lnTo>
                  <a:lnTo>
                    <a:pt x="3155" y="219"/>
                  </a:lnTo>
                  <a:lnTo>
                    <a:pt x="2973" y="194"/>
                  </a:lnTo>
                  <a:lnTo>
                    <a:pt x="2787" y="169"/>
                  </a:lnTo>
                  <a:lnTo>
                    <a:pt x="2600" y="147"/>
                  </a:lnTo>
                  <a:lnTo>
                    <a:pt x="2411" y="125"/>
                  </a:lnTo>
                  <a:lnTo>
                    <a:pt x="2219" y="106"/>
                  </a:lnTo>
                  <a:lnTo>
                    <a:pt x="2026" y="88"/>
                  </a:lnTo>
                  <a:lnTo>
                    <a:pt x="1831" y="72"/>
                  </a:lnTo>
                  <a:lnTo>
                    <a:pt x="1633" y="56"/>
                  </a:lnTo>
                  <a:lnTo>
                    <a:pt x="1434" y="44"/>
                  </a:lnTo>
                  <a:lnTo>
                    <a:pt x="1234" y="33"/>
                  </a:lnTo>
                  <a:lnTo>
                    <a:pt x="1032" y="23"/>
                  </a:lnTo>
                  <a:lnTo>
                    <a:pt x="828" y="14"/>
                  </a:lnTo>
                  <a:lnTo>
                    <a:pt x="623" y="8"/>
                  </a:lnTo>
                  <a:lnTo>
                    <a:pt x="417" y="4"/>
                  </a:lnTo>
                  <a:lnTo>
                    <a:pt x="209" y="1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07" y="199"/>
                  </a:lnTo>
                  <a:lnTo>
                    <a:pt x="414" y="201"/>
                  </a:lnTo>
                  <a:lnTo>
                    <a:pt x="619" y="206"/>
                  </a:lnTo>
                  <a:lnTo>
                    <a:pt x="822" y="212"/>
                  </a:lnTo>
                  <a:lnTo>
                    <a:pt x="1024" y="219"/>
                  </a:lnTo>
                  <a:lnTo>
                    <a:pt x="1224" y="230"/>
                  </a:lnTo>
                  <a:lnTo>
                    <a:pt x="1423" y="241"/>
                  </a:lnTo>
                  <a:lnTo>
                    <a:pt x="1620" y="254"/>
                  </a:lnTo>
                  <a:lnTo>
                    <a:pt x="1815" y="269"/>
                  </a:lnTo>
                  <a:lnTo>
                    <a:pt x="2008" y="285"/>
                  </a:lnTo>
                  <a:lnTo>
                    <a:pt x="2200" y="303"/>
                  </a:lnTo>
                  <a:lnTo>
                    <a:pt x="2389" y="322"/>
                  </a:lnTo>
                  <a:lnTo>
                    <a:pt x="2577" y="343"/>
                  </a:lnTo>
                  <a:lnTo>
                    <a:pt x="2763" y="365"/>
                  </a:lnTo>
                  <a:lnTo>
                    <a:pt x="2946" y="390"/>
                  </a:lnTo>
                  <a:lnTo>
                    <a:pt x="3128" y="414"/>
                  </a:lnTo>
                  <a:lnTo>
                    <a:pt x="3307" y="442"/>
                  </a:lnTo>
                  <a:lnTo>
                    <a:pt x="3483" y="470"/>
                  </a:lnTo>
                  <a:lnTo>
                    <a:pt x="3657" y="499"/>
                  </a:lnTo>
                  <a:lnTo>
                    <a:pt x="3830" y="531"/>
                  </a:lnTo>
                  <a:lnTo>
                    <a:pt x="3998" y="564"/>
                  </a:lnTo>
                  <a:lnTo>
                    <a:pt x="4166" y="597"/>
                  </a:lnTo>
                  <a:lnTo>
                    <a:pt x="4329" y="633"/>
                  </a:lnTo>
                  <a:lnTo>
                    <a:pt x="4491" y="669"/>
                  </a:lnTo>
                  <a:lnTo>
                    <a:pt x="4650" y="707"/>
                  </a:lnTo>
                  <a:lnTo>
                    <a:pt x="4805" y="746"/>
                  </a:lnTo>
                  <a:lnTo>
                    <a:pt x="4958" y="786"/>
                  </a:lnTo>
                  <a:lnTo>
                    <a:pt x="5108" y="828"/>
                  </a:lnTo>
                  <a:lnTo>
                    <a:pt x="5255" y="870"/>
                  </a:lnTo>
                  <a:lnTo>
                    <a:pt x="5399" y="914"/>
                  </a:lnTo>
                  <a:lnTo>
                    <a:pt x="5539" y="959"/>
                  </a:lnTo>
                  <a:lnTo>
                    <a:pt x="5676" y="1005"/>
                  </a:lnTo>
                  <a:lnTo>
                    <a:pt x="5744" y="1028"/>
                  </a:lnTo>
                  <a:lnTo>
                    <a:pt x="5810" y="1051"/>
                  </a:lnTo>
                  <a:lnTo>
                    <a:pt x="5876" y="1076"/>
                  </a:lnTo>
                  <a:lnTo>
                    <a:pt x="5941" y="1100"/>
                  </a:lnTo>
                  <a:lnTo>
                    <a:pt x="6004" y="1124"/>
                  </a:lnTo>
                  <a:lnTo>
                    <a:pt x="6068" y="1150"/>
                  </a:lnTo>
                  <a:lnTo>
                    <a:pt x="6130" y="1174"/>
                  </a:lnTo>
                  <a:lnTo>
                    <a:pt x="6191" y="1199"/>
                  </a:lnTo>
                  <a:lnTo>
                    <a:pt x="6252" y="1225"/>
                  </a:lnTo>
                  <a:lnTo>
                    <a:pt x="6312" y="1250"/>
                  </a:lnTo>
                  <a:lnTo>
                    <a:pt x="6370" y="1277"/>
                  </a:lnTo>
                  <a:lnTo>
                    <a:pt x="6428" y="1302"/>
                  </a:lnTo>
                  <a:lnTo>
                    <a:pt x="6484" y="1329"/>
                  </a:lnTo>
                  <a:lnTo>
                    <a:pt x="6541" y="1356"/>
                  </a:lnTo>
                  <a:lnTo>
                    <a:pt x="6596" y="1382"/>
                  </a:lnTo>
                  <a:lnTo>
                    <a:pt x="6650" y="1410"/>
                  </a:lnTo>
                  <a:lnTo>
                    <a:pt x="6702" y="1437"/>
                  </a:lnTo>
                  <a:lnTo>
                    <a:pt x="6754" y="1464"/>
                  </a:lnTo>
                  <a:lnTo>
                    <a:pt x="6806" y="1492"/>
                  </a:lnTo>
                  <a:lnTo>
                    <a:pt x="6856" y="1520"/>
                  </a:lnTo>
                  <a:lnTo>
                    <a:pt x="6904" y="1549"/>
                  </a:lnTo>
                  <a:lnTo>
                    <a:pt x="6953" y="1576"/>
                  </a:lnTo>
                  <a:lnTo>
                    <a:pt x="7000" y="1605"/>
                  </a:lnTo>
                  <a:lnTo>
                    <a:pt x="7046" y="1634"/>
                  </a:lnTo>
                  <a:lnTo>
                    <a:pt x="7091" y="1662"/>
                  </a:lnTo>
                  <a:lnTo>
                    <a:pt x="7135" y="1691"/>
                  </a:lnTo>
                  <a:lnTo>
                    <a:pt x="7178" y="1721"/>
                  </a:lnTo>
                  <a:lnTo>
                    <a:pt x="7220" y="1750"/>
                  </a:lnTo>
                  <a:lnTo>
                    <a:pt x="7261" y="1779"/>
                  </a:lnTo>
                  <a:lnTo>
                    <a:pt x="7301" y="1809"/>
                  </a:lnTo>
                  <a:lnTo>
                    <a:pt x="7339" y="1839"/>
                  </a:lnTo>
                  <a:lnTo>
                    <a:pt x="7377" y="1870"/>
                  </a:lnTo>
                  <a:lnTo>
                    <a:pt x="7413" y="1899"/>
                  </a:lnTo>
                  <a:lnTo>
                    <a:pt x="7449" y="1929"/>
                  </a:lnTo>
                  <a:lnTo>
                    <a:pt x="7482" y="1960"/>
                  </a:lnTo>
                  <a:lnTo>
                    <a:pt x="7516" y="1991"/>
                  </a:lnTo>
                  <a:lnTo>
                    <a:pt x="7548" y="2021"/>
                  </a:lnTo>
                  <a:lnTo>
                    <a:pt x="7580" y="2052"/>
                  </a:lnTo>
                  <a:lnTo>
                    <a:pt x="7609" y="2083"/>
                  </a:lnTo>
                  <a:lnTo>
                    <a:pt x="7638" y="2114"/>
                  </a:lnTo>
                  <a:lnTo>
                    <a:pt x="7664" y="2144"/>
                  </a:lnTo>
                  <a:lnTo>
                    <a:pt x="7691" y="2175"/>
                  </a:lnTo>
                  <a:lnTo>
                    <a:pt x="7716" y="2207"/>
                  </a:lnTo>
                  <a:lnTo>
                    <a:pt x="7741" y="2238"/>
                  </a:lnTo>
                  <a:lnTo>
                    <a:pt x="7763" y="2269"/>
                  </a:lnTo>
                  <a:lnTo>
                    <a:pt x="7785" y="2300"/>
                  </a:lnTo>
                  <a:lnTo>
                    <a:pt x="7805" y="2332"/>
                  </a:lnTo>
                  <a:lnTo>
                    <a:pt x="7825" y="2363"/>
                  </a:lnTo>
                  <a:lnTo>
                    <a:pt x="7843" y="2395"/>
                  </a:lnTo>
                  <a:lnTo>
                    <a:pt x="7860" y="2426"/>
                  </a:lnTo>
                  <a:lnTo>
                    <a:pt x="7876" y="2457"/>
                  </a:lnTo>
                  <a:lnTo>
                    <a:pt x="7890" y="2489"/>
                  </a:lnTo>
                  <a:lnTo>
                    <a:pt x="7903" y="2521"/>
                  </a:lnTo>
                  <a:lnTo>
                    <a:pt x="7917" y="2553"/>
                  </a:lnTo>
                  <a:lnTo>
                    <a:pt x="7928" y="2584"/>
                  </a:lnTo>
                  <a:lnTo>
                    <a:pt x="7937" y="2615"/>
                  </a:lnTo>
                  <a:lnTo>
                    <a:pt x="7946" y="2647"/>
                  </a:lnTo>
                  <a:lnTo>
                    <a:pt x="7953" y="2679"/>
                  </a:lnTo>
                  <a:lnTo>
                    <a:pt x="7961" y="2711"/>
                  </a:lnTo>
                  <a:lnTo>
                    <a:pt x="7966" y="2742"/>
                  </a:lnTo>
                  <a:lnTo>
                    <a:pt x="7970" y="2775"/>
                  </a:lnTo>
                  <a:lnTo>
                    <a:pt x="7973" y="2806"/>
                  </a:lnTo>
                  <a:lnTo>
                    <a:pt x="7975" y="2839"/>
                  </a:lnTo>
                  <a:lnTo>
                    <a:pt x="7975" y="2871"/>
                  </a:lnTo>
                  <a:lnTo>
                    <a:pt x="7975" y="2871"/>
                  </a:lnTo>
                  <a:lnTo>
                    <a:pt x="8172" y="2871"/>
                  </a:lnTo>
                  <a:lnTo>
                    <a:pt x="8172" y="2871"/>
                  </a:lnTo>
                  <a:lnTo>
                    <a:pt x="8172" y="287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40040" y="4878360"/>
              <a:ext cx="233640" cy="79200"/>
            </a:xfrm>
            <a:custGeom>
              <a:avLst/>
              <a:gdLst/>
              <a:ahLst/>
              <a:rect l="l" t="t" r="r" b="b"/>
              <a:pathLst>
                <a:path w="5313" h="1800">
                  <a:moveTo>
                    <a:pt x="0" y="1404"/>
                  </a:moveTo>
                  <a:lnTo>
                    <a:pt x="1189" y="1800"/>
                  </a:lnTo>
                  <a:lnTo>
                    <a:pt x="4001" y="676"/>
                  </a:lnTo>
                  <a:lnTo>
                    <a:pt x="5313" y="997"/>
                  </a:lnTo>
                  <a:lnTo>
                    <a:pt x="4621" y="0"/>
                  </a:lnTo>
                  <a:lnTo>
                    <a:pt x="1235" y="0"/>
                  </a:lnTo>
                  <a:lnTo>
                    <a:pt x="2650" y="346"/>
                  </a:lnTo>
                  <a:lnTo>
                    <a:pt x="0" y="14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84440" y="4973400"/>
              <a:ext cx="233640" cy="79560"/>
            </a:xfrm>
            <a:custGeom>
              <a:avLst/>
              <a:gdLst/>
              <a:ahLst/>
              <a:rect l="l" t="t" r="r" b="b"/>
              <a:pathLst>
                <a:path w="5313" h="1800">
                  <a:moveTo>
                    <a:pt x="5313" y="395"/>
                  </a:moveTo>
                  <a:lnTo>
                    <a:pt x="4124" y="0"/>
                  </a:lnTo>
                  <a:lnTo>
                    <a:pt x="1313" y="1123"/>
                  </a:lnTo>
                  <a:lnTo>
                    <a:pt x="0" y="802"/>
                  </a:lnTo>
                  <a:lnTo>
                    <a:pt x="693" y="1800"/>
                  </a:lnTo>
                  <a:lnTo>
                    <a:pt x="4078" y="1800"/>
                  </a:lnTo>
                  <a:lnTo>
                    <a:pt x="2663" y="1453"/>
                  </a:lnTo>
                  <a:lnTo>
                    <a:pt x="5313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97400" y="4875120"/>
              <a:ext cx="233280" cy="79200"/>
            </a:xfrm>
            <a:custGeom>
              <a:avLst/>
              <a:gdLst/>
              <a:ahLst/>
              <a:rect l="l" t="t" r="r" b="b"/>
              <a:pathLst>
                <a:path w="5313" h="1800">
                  <a:moveTo>
                    <a:pt x="0" y="396"/>
                  </a:moveTo>
                  <a:lnTo>
                    <a:pt x="1189" y="0"/>
                  </a:lnTo>
                  <a:lnTo>
                    <a:pt x="4002" y="1123"/>
                  </a:lnTo>
                  <a:lnTo>
                    <a:pt x="5313" y="803"/>
                  </a:lnTo>
                  <a:lnTo>
                    <a:pt x="4621" y="1800"/>
                  </a:lnTo>
                  <a:lnTo>
                    <a:pt x="1235" y="1800"/>
                  </a:lnTo>
                  <a:lnTo>
                    <a:pt x="2650" y="1453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32120" y="4978440"/>
              <a:ext cx="235080" cy="79200"/>
            </a:xfrm>
            <a:custGeom>
              <a:avLst/>
              <a:gdLst/>
              <a:ahLst/>
              <a:rect l="l" t="t" r="r" b="b"/>
              <a:pathLst>
                <a:path w="5313" h="1800">
                  <a:moveTo>
                    <a:pt x="5313" y="1405"/>
                  </a:moveTo>
                  <a:lnTo>
                    <a:pt x="4124" y="1800"/>
                  </a:lnTo>
                  <a:lnTo>
                    <a:pt x="1312" y="677"/>
                  </a:lnTo>
                  <a:lnTo>
                    <a:pt x="0" y="998"/>
                  </a:lnTo>
                  <a:lnTo>
                    <a:pt x="692" y="0"/>
                  </a:lnTo>
                  <a:lnTo>
                    <a:pt x="4079" y="0"/>
                  </a:lnTo>
                  <a:lnTo>
                    <a:pt x="2663" y="347"/>
                  </a:lnTo>
                  <a:lnTo>
                    <a:pt x="5313" y="1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45080" y="4881600"/>
              <a:ext cx="233280" cy="79200"/>
            </a:xfrm>
            <a:custGeom>
              <a:avLst/>
              <a:gdLst/>
              <a:ahLst/>
              <a:rect l="l" t="t" r="r" b="b"/>
              <a:pathLst>
                <a:path w="5313" h="1800">
                  <a:moveTo>
                    <a:pt x="0" y="1405"/>
                  </a:moveTo>
                  <a:lnTo>
                    <a:pt x="1190" y="1800"/>
                  </a:lnTo>
                  <a:lnTo>
                    <a:pt x="4002" y="677"/>
                  </a:lnTo>
                  <a:lnTo>
                    <a:pt x="5313" y="998"/>
                  </a:lnTo>
                  <a:lnTo>
                    <a:pt x="4622" y="0"/>
                  </a:lnTo>
                  <a:lnTo>
                    <a:pt x="1235" y="0"/>
                  </a:lnTo>
                  <a:lnTo>
                    <a:pt x="2650" y="346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87680" y="4976640"/>
              <a:ext cx="235080" cy="79560"/>
            </a:xfrm>
            <a:custGeom>
              <a:avLst/>
              <a:gdLst/>
              <a:ahLst/>
              <a:rect l="l" t="t" r="r" b="b"/>
              <a:pathLst>
                <a:path w="5313" h="1800">
                  <a:moveTo>
                    <a:pt x="5313" y="395"/>
                  </a:moveTo>
                  <a:lnTo>
                    <a:pt x="4124" y="0"/>
                  </a:lnTo>
                  <a:lnTo>
                    <a:pt x="1312" y="1123"/>
                  </a:lnTo>
                  <a:lnTo>
                    <a:pt x="0" y="802"/>
                  </a:lnTo>
                  <a:lnTo>
                    <a:pt x="692" y="1800"/>
                  </a:lnTo>
                  <a:lnTo>
                    <a:pt x="4078" y="1800"/>
                  </a:lnTo>
                  <a:lnTo>
                    <a:pt x="2663" y="1454"/>
                  </a:lnTo>
                  <a:lnTo>
                    <a:pt x="5313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00280" y="4879800"/>
              <a:ext cx="235080" cy="79560"/>
            </a:xfrm>
            <a:custGeom>
              <a:avLst/>
              <a:gdLst/>
              <a:ahLst/>
              <a:rect l="l" t="t" r="r" b="b"/>
              <a:pathLst>
                <a:path w="5314" h="1799">
                  <a:moveTo>
                    <a:pt x="0" y="394"/>
                  </a:moveTo>
                  <a:lnTo>
                    <a:pt x="1190" y="0"/>
                  </a:lnTo>
                  <a:lnTo>
                    <a:pt x="4002" y="1122"/>
                  </a:lnTo>
                  <a:lnTo>
                    <a:pt x="5314" y="801"/>
                  </a:lnTo>
                  <a:lnTo>
                    <a:pt x="4622" y="1799"/>
                  </a:lnTo>
                  <a:lnTo>
                    <a:pt x="1235" y="1799"/>
                  </a:lnTo>
                  <a:lnTo>
                    <a:pt x="2650" y="1453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36800" y="4983120"/>
              <a:ext cx="233640" cy="79200"/>
            </a:xfrm>
            <a:custGeom>
              <a:avLst/>
              <a:gdLst/>
              <a:ahLst/>
              <a:rect l="l" t="t" r="r" b="b"/>
              <a:pathLst>
                <a:path w="5313" h="1800">
                  <a:moveTo>
                    <a:pt x="5313" y="1405"/>
                  </a:moveTo>
                  <a:lnTo>
                    <a:pt x="4124" y="1800"/>
                  </a:lnTo>
                  <a:lnTo>
                    <a:pt x="1311" y="677"/>
                  </a:lnTo>
                  <a:lnTo>
                    <a:pt x="0" y="998"/>
                  </a:lnTo>
                  <a:lnTo>
                    <a:pt x="691" y="0"/>
                  </a:lnTo>
                  <a:lnTo>
                    <a:pt x="4078" y="0"/>
                  </a:lnTo>
                  <a:lnTo>
                    <a:pt x="2663" y="347"/>
                  </a:lnTo>
                  <a:lnTo>
                    <a:pt x="5313" y="14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173480" y="4849920"/>
            <a:ext cx="134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 Telephony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648320" y="3208320"/>
            <a:ext cx="139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 Firewall: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ht and Lef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4"/>
          <a:stretch/>
        </p:blipFill>
        <p:spPr>
          <a:xfrm>
            <a:off x="2828880" y="3240000"/>
            <a:ext cx="755640" cy="441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15"/>
          <a:stretch/>
        </p:blipFill>
        <p:spPr>
          <a:xfrm>
            <a:off x="3821040" y="3240000"/>
            <a:ext cx="755640" cy="44136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3368520" y="2379600"/>
            <a:ext cx="806760" cy="679320"/>
            <a:chOff x="3368520" y="2379600"/>
            <a:chExt cx="806760" cy="679320"/>
          </a:xfrm>
        </p:grpSpPr>
        <p:sp>
          <p:nvSpPr>
            <p:cNvPr id="508" name=""/>
            <p:cNvSpPr/>
            <p:nvPr/>
          </p:nvSpPr>
          <p:spPr>
            <a:xfrm>
              <a:off x="3371760" y="2781000"/>
              <a:ext cx="800280" cy="274680"/>
            </a:xfrm>
            <a:custGeom>
              <a:avLst/>
              <a:gdLst/>
              <a:ahLst/>
              <a:rect l="l" t="t" r="r" b="b"/>
              <a:pathLst>
                <a:path w="16156" h="5544">
                  <a:moveTo>
                    <a:pt x="16156" y="2772"/>
                  </a:moveTo>
                  <a:lnTo>
                    <a:pt x="16146" y="2915"/>
                  </a:lnTo>
                  <a:lnTo>
                    <a:pt x="16115" y="3056"/>
                  </a:lnTo>
                  <a:lnTo>
                    <a:pt x="16064" y="3194"/>
                  </a:lnTo>
                  <a:lnTo>
                    <a:pt x="15993" y="3331"/>
                  </a:lnTo>
                  <a:lnTo>
                    <a:pt x="15902" y="3464"/>
                  </a:lnTo>
                  <a:lnTo>
                    <a:pt x="15794" y="3597"/>
                  </a:lnTo>
                  <a:lnTo>
                    <a:pt x="15667" y="3725"/>
                  </a:lnTo>
                  <a:lnTo>
                    <a:pt x="15521" y="3851"/>
                  </a:lnTo>
                  <a:lnTo>
                    <a:pt x="15360" y="3974"/>
                  </a:lnTo>
                  <a:lnTo>
                    <a:pt x="15181" y="4093"/>
                  </a:lnTo>
                  <a:lnTo>
                    <a:pt x="14987" y="4210"/>
                  </a:lnTo>
                  <a:lnTo>
                    <a:pt x="14776" y="4322"/>
                  </a:lnTo>
                  <a:lnTo>
                    <a:pt x="14551" y="4431"/>
                  </a:lnTo>
                  <a:lnTo>
                    <a:pt x="14311" y="4536"/>
                  </a:lnTo>
                  <a:lnTo>
                    <a:pt x="14057" y="4636"/>
                  </a:lnTo>
                  <a:lnTo>
                    <a:pt x="13790" y="4733"/>
                  </a:lnTo>
                  <a:lnTo>
                    <a:pt x="13509" y="4824"/>
                  </a:lnTo>
                  <a:lnTo>
                    <a:pt x="13216" y="4911"/>
                  </a:lnTo>
                  <a:lnTo>
                    <a:pt x="12910" y="4994"/>
                  </a:lnTo>
                  <a:lnTo>
                    <a:pt x="12594" y="5071"/>
                  </a:lnTo>
                  <a:lnTo>
                    <a:pt x="12266" y="5143"/>
                  </a:lnTo>
                  <a:lnTo>
                    <a:pt x="11928" y="5210"/>
                  </a:lnTo>
                  <a:lnTo>
                    <a:pt x="11579" y="5271"/>
                  </a:lnTo>
                  <a:lnTo>
                    <a:pt x="11222" y="5327"/>
                  </a:lnTo>
                  <a:lnTo>
                    <a:pt x="10855" y="5376"/>
                  </a:lnTo>
                  <a:lnTo>
                    <a:pt x="10480" y="5420"/>
                  </a:lnTo>
                  <a:lnTo>
                    <a:pt x="10096" y="5457"/>
                  </a:lnTo>
                  <a:lnTo>
                    <a:pt x="9706" y="5488"/>
                  </a:lnTo>
                  <a:lnTo>
                    <a:pt x="9307" y="5512"/>
                  </a:lnTo>
                  <a:lnTo>
                    <a:pt x="8904" y="5530"/>
                  </a:lnTo>
                  <a:lnTo>
                    <a:pt x="8494" y="5541"/>
                  </a:lnTo>
                  <a:lnTo>
                    <a:pt x="8078" y="5544"/>
                  </a:lnTo>
                  <a:lnTo>
                    <a:pt x="7662" y="5541"/>
                  </a:lnTo>
                  <a:lnTo>
                    <a:pt x="7252" y="5530"/>
                  </a:lnTo>
                  <a:lnTo>
                    <a:pt x="6849" y="5512"/>
                  </a:lnTo>
                  <a:lnTo>
                    <a:pt x="6450" y="5488"/>
                  </a:lnTo>
                  <a:lnTo>
                    <a:pt x="6060" y="5457"/>
                  </a:lnTo>
                  <a:lnTo>
                    <a:pt x="5676" y="5420"/>
                  </a:lnTo>
                  <a:lnTo>
                    <a:pt x="5301" y="5376"/>
                  </a:lnTo>
                  <a:lnTo>
                    <a:pt x="4934" y="5327"/>
                  </a:lnTo>
                  <a:lnTo>
                    <a:pt x="4577" y="5271"/>
                  </a:lnTo>
                  <a:lnTo>
                    <a:pt x="4228" y="5210"/>
                  </a:lnTo>
                  <a:lnTo>
                    <a:pt x="3890" y="5143"/>
                  </a:lnTo>
                  <a:lnTo>
                    <a:pt x="3562" y="5071"/>
                  </a:lnTo>
                  <a:lnTo>
                    <a:pt x="3245" y="4994"/>
                  </a:lnTo>
                  <a:lnTo>
                    <a:pt x="2940" y="4911"/>
                  </a:lnTo>
                  <a:lnTo>
                    <a:pt x="2647" y="4824"/>
                  </a:lnTo>
                  <a:lnTo>
                    <a:pt x="2366" y="4733"/>
                  </a:lnTo>
                  <a:lnTo>
                    <a:pt x="2099" y="4636"/>
                  </a:lnTo>
                  <a:lnTo>
                    <a:pt x="1845" y="4536"/>
                  </a:lnTo>
                  <a:lnTo>
                    <a:pt x="1605" y="4431"/>
                  </a:lnTo>
                  <a:lnTo>
                    <a:pt x="1380" y="4322"/>
                  </a:lnTo>
                  <a:lnTo>
                    <a:pt x="1169" y="4210"/>
                  </a:lnTo>
                  <a:lnTo>
                    <a:pt x="975" y="4093"/>
                  </a:lnTo>
                  <a:lnTo>
                    <a:pt x="796" y="3974"/>
                  </a:lnTo>
                  <a:lnTo>
                    <a:pt x="635" y="3851"/>
                  </a:lnTo>
                  <a:lnTo>
                    <a:pt x="489" y="3725"/>
                  </a:lnTo>
                  <a:lnTo>
                    <a:pt x="362" y="3597"/>
                  </a:lnTo>
                  <a:lnTo>
                    <a:pt x="254" y="3464"/>
                  </a:lnTo>
                  <a:lnTo>
                    <a:pt x="163" y="3331"/>
                  </a:lnTo>
                  <a:lnTo>
                    <a:pt x="92" y="3194"/>
                  </a:lnTo>
                  <a:lnTo>
                    <a:pt x="41" y="3056"/>
                  </a:lnTo>
                  <a:lnTo>
                    <a:pt x="10" y="2915"/>
                  </a:lnTo>
                  <a:lnTo>
                    <a:pt x="0" y="2772"/>
                  </a:lnTo>
                  <a:lnTo>
                    <a:pt x="10" y="2630"/>
                  </a:lnTo>
                  <a:lnTo>
                    <a:pt x="41" y="2489"/>
                  </a:lnTo>
                  <a:lnTo>
                    <a:pt x="92" y="2350"/>
                  </a:lnTo>
                  <a:lnTo>
                    <a:pt x="163" y="2214"/>
                  </a:lnTo>
                  <a:lnTo>
                    <a:pt x="254" y="2080"/>
                  </a:lnTo>
                  <a:lnTo>
                    <a:pt x="362" y="1949"/>
                  </a:lnTo>
                  <a:lnTo>
                    <a:pt x="489" y="1819"/>
                  </a:lnTo>
                  <a:lnTo>
                    <a:pt x="635" y="1694"/>
                  </a:lnTo>
                  <a:lnTo>
                    <a:pt x="796" y="1571"/>
                  </a:lnTo>
                  <a:lnTo>
                    <a:pt x="975" y="1451"/>
                  </a:lnTo>
                  <a:lnTo>
                    <a:pt x="1169" y="1335"/>
                  </a:lnTo>
                  <a:lnTo>
                    <a:pt x="1380" y="1223"/>
                  </a:lnTo>
                  <a:lnTo>
                    <a:pt x="1605" y="1114"/>
                  </a:lnTo>
                  <a:lnTo>
                    <a:pt x="1845" y="1010"/>
                  </a:lnTo>
                  <a:lnTo>
                    <a:pt x="2099" y="909"/>
                  </a:lnTo>
                  <a:lnTo>
                    <a:pt x="2366" y="813"/>
                  </a:lnTo>
                  <a:lnTo>
                    <a:pt x="2647" y="720"/>
                  </a:lnTo>
                  <a:lnTo>
                    <a:pt x="2940" y="633"/>
                  </a:lnTo>
                  <a:lnTo>
                    <a:pt x="3245" y="551"/>
                  </a:lnTo>
                  <a:lnTo>
                    <a:pt x="3562" y="473"/>
                  </a:lnTo>
                  <a:lnTo>
                    <a:pt x="3890" y="402"/>
                  </a:lnTo>
                  <a:lnTo>
                    <a:pt x="4228" y="335"/>
                  </a:lnTo>
                  <a:lnTo>
                    <a:pt x="4577" y="274"/>
                  </a:lnTo>
                  <a:lnTo>
                    <a:pt x="4934" y="219"/>
                  </a:lnTo>
                  <a:lnTo>
                    <a:pt x="5301" y="169"/>
                  </a:lnTo>
                  <a:lnTo>
                    <a:pt x="5676" y="125"/>
                  </a:lnTo>
                  <a:lnTo>
                    <a:pt x="6060" y="87"/>
                  </a:lnTo>
                  <a:lnTo>
                    <a:pt x="6450" y="56"/>
                  </a:lnTo>
                  <a:lnTo>
                    <a:pt x="6849" y="32"/>
                  </a:lnTo>
                  <a:lnTo>
                    <a:pt x="7252" y="15"/>
                  </a:lnTo>
                  <a:lnTo>
                    <a:pt x="7662" y="3"/>
                  </a:lnTo>
                  <a:lnTo>
                    <a:pt x="8078" y="0"/>
                  </a:lnTo>
                  <a:lnTo>
                    <a:pt x="8494" y="3"/>
                  </a:lnTo>
                  <a:lnTo>
                    <a:pt x="8904" y="15"/>
                  </a:lnTo>
                  <a:lnTo>
                    <a:pt x="9307" y="32"/>
                  </a:lnTo>
                  <a:lnTo>
                    <a:pt x="9706" y="56"/>
                  </a:lnTo>
                  <a:lnTo>
                    <a:pt x="10096" y="87"/>
                  </a:lnTo>
                  <a:lnTo>
                    <a:pt x="10480" y="125"/>
                  </a:lnTo>
                  <a:lnTo>
                    <a:pt x="10855" y="169"/>
                  </a:lnTo>
                  <a:lnTo>
                    <a:pt x="11222" y="219"/>
                  </a:lnTo>
                  <a:lnTo>
                    <a:pt x="11579" y="274"/>
                  </a:lnTo>
                  <a:lnTo>
                    <a:pt x="11928" y="335"/>
                  </a:lnTo>
                  <a:lnTo>
                    <a:pt x="12266" y="402"/>
                  </a:lnTo>
                  <a:lnTo>
                    <a:pt x="12594" y="473"/>
                  </a:lnTo>
                  <a:lnTo>
                    <a:pt x="12910" y="551"/>
                  </a:lnTo>
                  <a:lnTo>
                    <a:pt x="13216" y="633"/>
                  </a:lnTo>
                  <a:lnTo>
                    <a:pt x="13509" y="720"/>
                  </a:lnTo>
                  <a:lnTo>
                    <a:pt x="13790" y="813"/>
                  </a:lnTo>
                  <a:lnTo>
                    <a:pt x="14057" y="909"/>
                  </a:lnTo>
                  <a:lnTo>
                    <a:pt x="14311" y="1010"/>
                  </a:lnTo>
                  <a:lnTo>
                    <a:pt x="14551" y="1114"/>
                  </a:lnTo>
                  <a:lnTo>
                    <a:pt x="14776" y="1223"/>
                  </a:lnTo>
                  <a:lnTo>
                    <a:pt x="14987" y="1335"/>
                  </a:lnTo>
                  <a:lnTo>
                    <a:pt x="15181" y="1451"/>
                  </a:lnTo>
                  <a:lnTo>
                    <a:pt x="15360" y="1571"/>
                  </a:lnTo>
                  <a:lnTo>
                    <a:pt x="15521" y="1694"/>
                  </a:lnTo>
                  <a:lnTo>
                    <a:pt x="15667" y="1819"/>
                  </a:lnTo>
                  <a:lnTo>
                    <a:pt x="15794" y="1949"/>
                  </a:lnTo>
                  <a:lnTo>
                    <a:pt x="15902" y="2080"/>
                  </a:lnTo>
                  <a:lnTo>
                    <a:pt x="15993" y="2214"/>
                  </a:lnTo>
                  <a:lnTo>
                    <a:pt x="16064" y="2350"/>
                  </a:lnTo>
                  <a:lnTo>
                    <a:pt x="16115" y="2489"/>
                  </a:lnTo>
                  <a:lnTo>
                    <a:pt x="16146" y="2630"/>
                  </a:lnTo>
                  <a:lnTo>
                    <a:pt x="16156" y="2772"/>
                  </a:lnTo>
                  <a:close/>
                </a:path>
              </a:pathLst>
            </a:custGeom>
            <a:solidFill>
              <a:srgbClr val="00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68840" y="2919240"/>
              <a:ext cx="406440" cy="139680"/>
            </a:xfrm>
            <a:custGeom>
              <a:avLst/>
              <a:gdLst/>
              <a:ahLst/>
              <a:rect l="l" t="t" r="r" b="b"/>
              <a:pathLst>
                <a:path w="8177" h="2822">
                  <a:moveTo>
                    <a:pt x="49" y="2822"/>
                  </a:moveTo>
                  <a:lnTo>
                    <a:pt x="49" y="2822"/>
                  </a:lnTo>
                  <a:lnTo>
                    <a:pt x="258" y="2821"/>
                  </a:lnTo>
                  <a:lnTo>
                    <a:pt x="466" y="2818"/>
                  </a:lnTo>
                  <a:lnTo>
                    <a:pt x="672" y="2814"/>
                  </a:lnTo>
                  <a:lnTo>
                    <a:pt x="876" y="2808"/>
                  </a:lnTo>
                  <a:lnTo>
                    <a:pt x="1079" y="2800"/>
                  </a:lnTo>
                  <a:lnTo>
                    <a:pt x="1281" y="2789"/>
                  </a:lnTo>
                  <a:lnTo>
                    <a:pt x="1482" y="2778"/>
                  </a:lnTo>
                  <a:lnTo>
                    <a:pt x="1680" y="2766"/>
                  </a:lnTo>
                  <a:lnTo>
                    <a:pt x="1877" y="2751"/>
                  </a:lnTo>
                  <a:lnTo>
                    <a:pt x="2072" y="2734"/>
                  </a:lnTo>
                  <a:lnTo>
                    <a:pt x="2265" y="2716"/>
                  </a:lnTo>
                  <a:lnTo>
                    <a:pt x="2456" y="2697"/>
                  </a:lnTo>
                  <a:lnTo>
                    <a:pt x="2645" y="2676"/>
                  </a:lnTo>
                  <a:lnTo>
                    <a:pt x="2832" y="2654"/>
                  </a:lnTo>
                  <a:lnTo>
                    <a:pt x="3017" y="2629"/>
                  </a:lnTo>
                  <a:lnTo>
                    <a:pt x="3200" y="2604"/>
                  </a:lnTo>
                  <a:lnTo>
                    <a:pt x="3380" y="2576"/>
                  </a:lnTo>
                  <a:lnTo>
                    <a:pt x="3558" y="2548"/>
                  </a:lnTo>
                  <a:lnTo>
                    <a:pt x="3734" y="2518"/>
                  </a:lnTo>
                  <a:lnTo>
                    <a:pt x="3908" y="2487"/>
                  </a:lnTo>
                  <a:lnTo>
                    <a:pt x="4078" y="2454"/>
                  </a:lnTo>
                  <a:lnTo>
                    <a:pt x="4247" y="2419"/>
                  </a:lnTo>
                  <a:lnTo>
                    <a:pt x="4413" y="2384"/>
                  </a:lnTo>
                  <a:lnTo>
                    <a:pt x="4576" y="2347"/>
                  </a:lnTo>
                  <a:lnTo>
                    <a:pt x="4736" y="2309"/>
                  </a:lnTo>
                  <a:lnTo>
                    <a:pt x="4893" y="2269"/>
                  </a:lnTo>
                  <a:lnTo>
                    <a:pt x="5049" y="2229"/>
                  </a:lnTo>
                  <a:lnTo>
                    <a:pt x="5200" y="2187"/>
                  </a:lnTo>
                  <a:lnTo>
                    <a:pt x="5275" y="2165"/>
                  </a:lnTo>
                  <a:lnTo>
                    <a:pt x="5348" y="2144"/>
                  </a:lnTo>
                  <a:lnTo>
                    <a:pt x="5422" y="2122"/>
                  </a:lnTo>
                  <a:lnTo>
                    <a:pt x="5495" y="2099"/>
                  </a:lnTo>
                  <a:lnTo>
                    <a:pt x="5566" y="2077"/>
                  </a:lnTo>
                  <a:lnTo>
                    <a:pt x="5637" y="2053"/>
                  </a:lnTo>
                  <a:lnTo>
                    <a:pt x="5707" y="2031"/>
                  </a:lnTo>
                  <a:lnTo>
                    <a:pt x="5776" y="2007"/>
                  </a:lnTo>
                  <a:lnTo>
                    <a:pt x="5845" y="1983"/>
                  </a:lnTo>
                  <a:lnTo>
                    <a:pt x="5912" y="1960"/>
                  </a:lnTo>
                  <a:lnTo>
                    <a:pt x="5979" y="1935"/>
                  </a:lnTo>
                  <a:lnTo>
                    <a:pt x="6045" y="1911"/>
                  </a:lnTo>
                  <a:lnTo>
                    <a:pt x="6110" y="1885"/>
                  </a:lnTo>
                  <a:lnTo>
                    <a:pt x="6174" y="1861"/>
                  </a:lnTo>
                  <a:lnTo>
                    <a:pt x="6238" y="1835"/>
                  </a:lnTo>
                  <a:lnTo>
                    <a:pt x="6300" y="1809"/>
                  </a:lnTo>
                  <a:lnTo>
                    <a:pt x="6362" y="1783"/>
                  </a:lnTo>
                  <a:lnTo>
                    <a:pt x="6423" y="1757"/>
                  </a:lnTo>
                  <a:lnTo>
                    <a:pt x="6483" y="1730"/>
                  </a:lnTo>
                  <a:lnTo>
                    <a:pt x="6542" y="1704"/>
                  </a:lnTo>
                  <a:lnTo>
                    <a:pt x="6600" y="1676"/>
                  </a:lnTo>
                  <a:lnTo>
                    <a:pt x="6658" y="1650"/>
                  </a:lnTo>
                  <a:lnTo>
                    <a:pt x="6714" y="1622"/>
                  </a:lnTo>
                  <a:lnTo>
                    <a:pt x="6770" y="1594"/>
                  </a:lnTo>
                  <a:lnTo>
                    <a:pt x="6824" y="1566"/>
                  </a:lnTo>
                  <a:lnTo>
                    <a:pt x="6878" y="1538"/>
                  </a:lnTo>
                  <a:lnTo>
                    <a:pt x="6930" y="1509"/>
                  </a:lnTo>
                  <a:lnTo>
                    <a:pt x="6981" y="1480"/>
                  </a:lnTo>
                  <a:lnTo>
                    <a:pt x="7032" y="1452"/>
                  </a:lnTo>
                  <a:lnTo>
                    <a:pt x="7082" y="1422"/>
                  </a:lnTo>
                  <a:lnTo>
                    <a:pt x="7131" y="1393"/>
                  </a:lnTo>
                  <a:lnTo>
                    <a:pt x="7178" y="1363"/>
                  </a:lnTo>
                  <a:lnTo>
                    <a:pt x="7225" y="1334"/>
                  </a:lnTo>
                  <a:lnTo>
                    <a:pt x="7271" y="1303"/>
                  </a:lnTo>
                  <a:lnTo>
                    <a:pt x="7315" y="1272"/>
                  </a:lnTo>
                  <a:lnTo>
                    <a:pt x="7359" y="1242"/>
                  </a:lnTo>
                  <a:lnTo>
                    <a:pt x="7402" y="1211"/>
                  </a:lnTo>
                  <a:lnTo>
                    <a:pt x="7443" y="1181"/>
                  </a:lnTo>
                  <a:lnTo>
                    <a:pt x="7484" y="1149"/>
                  </a:lnTo>
                  <a:lnTo>
                    <a:pt x="7524" y="1118"/>
                  </a:lnTo>
                  <a:lnTo>
                    <a:pt x="7561" y="1086"/>
                  </a:lnTo>
                  <a:lnTo>
                    <a:pt x="7599" y="1054"/>
                  </a:lnTo>
                  <a:lnTo>
                    <a:pt x="7635" y="1022"/>
                  </a:lnTo>
                  <a:lnTo>
                    <a:pt x="7671" y="989"/>
                  </a:lnTo>
                  <a:lnTo>
                    <a:pt x="7705" y="956"/>
                  </a:lnTo>
                  <a:lnTo>
                    <a:pt x="7738" y="924"/>
                  </a:lnTo>
                  <a:lnTo>
                    <a:pt x="7770" y="891"/>
                  </a:lnTo>
                  <a:lnTo>
                    <a:pt x="7801" y="858"/>
                  </a:lnTo>
                  <a:lnTo>
                    <a:pt x="7831" y="824"/>
                  </a:lnTo>
                  <a:lnTo>
                    <a:pt x="7859" y="790"/>
                  </a:lnTo>
                  <a:lnTo>
                    <a:pt x="7886" y="757"/>
                  </a:lnTo>
                  <a:lnTo>
                    <a:pt x="7913" y="723"/>
                  </a:lnTo>
                  <a:lnTo>
                    <a:pt x="7937" y="688"/>
                  </a:lnTo>
                  <a:lnTo>
                    <a:pt x="7962" y="654"/>
                  </a:lnTo>
                  <a:lnTo>
                    <a:pt x="7984" y="619"/>
                  </a:lnTo>
                  <a:lnTo>
                    <a:pt x="8005" y="584"/>
                  </a:lnTo>
                  <a:lnTo>
                    <a:pt x="8026" y="549"/>
                  </a:lnTo>
                  <a:lnTo>
                    <a:pt x="8045" y="514"/>
                  </a:lnTo>
                  <a:lnTo>
                    <a:pt x="8063" y="478"/>
                  </a:lnTo>
                  <a:lnTo>
                    <a:pt x="8079" y="443"/>
                  </a:lnTo>
                  <a:lnTo>
                    <a:pt x="8095" y="407"/>
                  </a:lnTo>
                  <a:lnTo>
                    <a:pt x="8109" y="370"/>
                  </a:lnTo>
                  <a:lnTo>
                    <a:pt x="8121" y="335"/>
                  </a:lnTo>
                  <a:lnTo>
                    <a:pt x="8133" y="298"/>
                  </a:lnTo>
                  <a:lnTo>
                    <a:pt x="8143" y="261"/>
                  </a:lnTo>
                  <a:lnTo>
                    <a:pt x="8152" y="225"/>
                  </a:lnTo>
                  <a:lnTo>
                    <a:pt x="8160" y="187"/>
                  </a:lnTo>
                  <a:lnTo>
                    <a:pt x="8166" y="150"/>
                  </a:lnTo>
                  <a:lnTo>
                    <a:pt x="8171" y="112"/>
                  </a:lnTo>
                  <a:lnTo>
                    <a:pt x="8174" y="76"/>
                  </a:lnTo>
                  <a:lnTo>
                    <a:pt x="8176" y="38"/>
                  </a:lnTo>
                  <a:lnTo>
                    <a:pt x="8177" y="0"/>
                  </a:lnTo>
                  <a:lnTo>
                    <a:pt x="8078" y="0"/>
                  </a:lnTo>
                  <a:lnTo>
                    <a:pt x="8077" y="35"/>
                  </a:lnTo>
                  <a:lnTo>
                    <a:pt x="8075" y="69"/>
                  </a:lnTo>
                  <a:lnTo>
                    <a:pt x="8072" y="102"/>
                  </a:lnTo>
                  <a:lnTo>
                    <a:pt x="8068" y="136"/>
                  </a:lnTo>
                  <a:lnTo>
                    <a:pt x="8063" y="169"/>
                  </a:lnTo>
                  <a:lnTo>
                    <a:pt x="8056" y="203"/>
                  </a:lnTo>
                  <a:lnTo>
                    <a:pt x="8048" y="237"/>
                  </a:lnTo>
                  <a:lnTo>
                    <a:pt x="8039" y="269"/>
                  </a:lnTo>
                  <a:lnTo>
                    <a:pt x="8029" y="303"/>
                  </a:lnTo>
                  <a:lnTo>
                    <a:pt x="8016" y="336"/>
                  </a:lnTo>
                  <a:lnTo>
                    <a:pt x="8003" y="369"/>
                  </a:lnTo>
                  <a:lnTo>
                    <a:pt x="7990" y="402"/>
                  </a:lnTo>
                  <a:lnTo>
                    <a:pt x="7974" y="436"/>
                  </a:lnTo>
                  <a:lnTo>
                    <a:pt x="7958" y="468"/>
                  </a:lnTo>
                  <a:lnTo>
                    <a:pt x="7940" y="501"/>
                  </a:lnTo>
                  <a:lnTo>
                    <a:pt x="7921" y="533"/>
                  </a:lnTo>
                  <a:lnTo>
                    <a:pt x="7902" y="566"/>
                  </a:lnTo>
                  <a:lnTo>
                    <a:pt x="7879" y="599"/>
                  </a:lnTo>
                  <a:lnTo>
                    <a:pt x="7857" y="631"/>
                  </a:lnTo>
                  <a:lnTo>
                    <a:pt x="7834" y="663"/>
                  </a:lnTo>
                  <a:lnTo>
                    <a:pt x="7809" y="695"/>
                  </a:lnTo>
                  <a:lnTo>
                    <a:pt x="7783" y="727"/>
                  </a:lnTo>
                  <a:lnTo>
                    <a:pt x="7756" y="760"/>
                  </a:lnTo>
                  <a:lnTo>
                    <a:pt x="7728" y="791"/>
                  </a:lnTo>
                  <a:lnTo>
                    <a:pt x="7698" y="823"/>
                  </a:lnTo>
                  <a:lnTo>
                    <a:pt x="7668" y="855"/>
                  </a:lnTo>
                  <a:lnTo>
                    <a:pt x="7636" y="886"/>
                  </a:lnTo>
                  <a:lnTo>
                    <a:pt x="7604" y="917"/>
                  </a:lnTo>
                  <a:lnTo>
                    <a:pt x="7569" y="948"/>
                  </a:lnTo>
                  <a:lnTo>
                    <a:pt x="7535" y="979"/>
                  </a:lnTo>
                  <a:lnTo>
                    <a:pt x="7498" y="1010"/>
                  </a:lnTo>
                  <a:lnTo>
                    <a:pt x="7462" y="1041"/>
                  </a:lnTo>
                  <a:lnTo>
                    <a:pt x="7423" y="1072"/>
                  </a:lnTo>
                  <a:lnTo>
                    <a:pt x="7384" y="1101"/>
                  </a:lnTo>
                  <a:lnTo>
                    <a:pt x="7344" y="1132"/>
                  </a:lnTo>
                  <a:lnTo>
                    <a:pt x="7302" y="1161"/>
                  </a:lnTo>
                  <a:lnTo>
                    <a:pt x="7260" y="1192"/>
                  </a:lnTo>
                  <a:lnTo>
                    <a:pt x="7216" y="1221"/>
                  </a:lnTo>
                  <a:lnTo>
                    <a:pt x="7171" y="1250"/>
                  </a:lnTo>
                  <a:lnTo>
                    <a:pt x="7125" y="1280"/>
                  </a:lnTo>
                  <a:lnTo>
                    <a:pt x="7080" y="1308"/>
                  </a:lnTo>
                  <a:lnTo>
                    <a:pt x="7032" y="1338"/>
                  </a:lnTo>
                  <a:lnTo>
                    <a:pt x="6983" y="1366"/>
                  </a:lnTo>
                  <a:lnTo>
                    <a:pt x="6933" y="1395"/>
                  </a:lnTo>
                  <a:lnTo>
                    <a:pt x="6883" y="1422"/>
                  </a:lnTo>
                  <a:lnTo>
                    <a:pt x="6831" y="1451"/>
                  </a:lnTo>
                  <a:lnTo>
                    <a:pt x="6779" y="1478"/>
                  </a:lnTo>
                  <a:lnTo>
                    <a:pt x="6725" y="1506"/>
                  </a:lnTo>
                  <a:lnTo>
                    <a:pt x="6670" y="1533"/>
                  </a:lnTo>
                  <a:lnTo>
                    <a:pt x="6615" y="1560"/>
                  </a:lnTo>
                  <a:lnTo>
                    <a:pt x="6559" y="1587"/>
                  </a:lnTo>
                  <a:lnTo>
                    <a:pt x="6502" y="1614"/>
                  </a:lnTo>
                  <a:lnTo>
                    <a:pt x="6444" y="1640"/>
                  </a:lnTo>
                  <a:lnTo>
                    <a:pt x="6384" y="1666"/>
                  </a:lnTo>
                  <a:lnTo>
                    <a:pt x="6324" y="1692"/>
                  </a:lnTo>
                  <a:lnTo>
                    <a:pt x="6264" y="1718"/>
                  </a:lnTo>
                  <a:lnTo>
                    <a:pt x="6201" y="1743"/>
                  </a:lnTo>
                  <a:lnTo>
                    <a:pt x="6139" y="1768"/>
                  </a:lnTo>
                  <a:lnTo>
                    <a:pt x="6075" y="1793"/>
                  </a:lnTo>
                  <a:lnTo>
                    <a:pt x="6011" y="1818"/>
                  </a:lnTo>
                  <a:lnTo>
                    <a:pt x="5946" y="1842"/>
                  </a:lnTo>
                  <a:lnTo>
                    <a:pt x="5880" y="1867"/>
                  </a:lnTo>
                  <a:lnTo>
                    <a:pt x="5813" y="1890"/>
                  </a:lnTo>
                  <a:lnTo>
                    <a:pt x="5745" y="1914"/>
                  </a:lnTo>
                  <a:lnTo>
                    <a:pt x="5676" y="1937"/>
                  </a:lnTo>
                  <a:lnTo>
                    <a:pt x="5607" y="1960"/>
                  </a:lnTo>
                  <a:lnTo>
                    <a:pt x="5536" y="1983"/>
                  </a:lnTo>
                  <a:lnTo>
                    <a:pt x="5465" y="2005"/>
                  </a:lnTo>
                  <a:lnTo>
                    <a:pt x="5393" y="2027"/>
                  </a:lnTo>
                  <a:lnTo>
                    <a:pt x="5321" y="2049"/>
                  </a:lnTo>
                  <a:lnTo>
                    <a:pt x="5248" y="2071"/>
                  </a:lnTo>
                  <a:lnTo>
                    <a:pt x="5174" y="2092"/>
                  </a:lnTo>
                  <a:lnTo>
                    <a:pt x="5023" y="2133"/>
                  </a:lnTo>
                  <a:lnTo>
                    <a:pt x="4870" y="2174"/>
                  </a:lnTo>
                  <a:lnTo>
                    <a:pt x="4713" y="2213"/>
                  </a:lnTo>
                  <a:lnTo>
                    <a:pt x="4554" y="2251"/>
                  </a:lnTo>
                  <a:lnTo>
                    <a:pt x="4391" y="2287"/>
                  </a:lnTo>
                  <a:lnTo>
                    <a:pt x="4227" y="2322"/>
                  </a:lnTo>
                  <a:lnTo>
                    <a:pt x="4060" y="2356"/>
                  </a:lnTo>
                  <a:lnTo>
                    <a:pt x="3889" y="2390"/>
                  </a:lnTo>
                  <a:lnTo>
                    <a:pt x="3718" y="2420"/>
                  </a:lnTo>
                  <a:lnTo>
                    <a:pt x="3542" y="2450"/>
                  </a:lnTo>
                  <a:lnTo>
                    <a:pt x="3365" y="2478"/>
                  </a:lnTo>
                  <a:lnTo>
                    <a:pt x="3185" y="2506"/>
                  </a:lnTo>
                  <a:lnTo>
                    <a:pt x="3004" y="2531"/>
                  </a:lnTo>
                  <a:lnTo>
                    <a:pt x="2820" y="2555"/>
                  </a:lnTo>
                  <a:lnTo>
                    <a:pt x="2634" y="2577"/>
                  </a:lnTo>
                  <a:lnTo>
                    <a:pt x="2446" y="2599"/>
                  </a:lnTo>
                  <a:lnTo>
                    <a:pt x="2255" y="2618"/>
                  </a:lnTo>
                  <a:lnTo>
                    <a:pt x="2063" y="2635"/>
                  </a:lnTo>
                  <a:lnTo>
                    <a:pt x="1869" y="2652"/>
                  </a:lnTo>
                  <a:lnTo>
                    <a:pt x="1674" y="2667"/>
                  </a:lnTo>
                  <a:lnTo>
                    <a:pt x="1475" y="2680"/>
                  </a:lnTo>
                  <a:lnTo>
                    <a:pt x="1276" y="2692"/>
                  </a:lnTo>
                  <a:lnTo>
                    <a:pt x="1075" y="2701"/>
                  </a:lnTo>
                  <a:lnTo>
                    <a:pt x="873" y="2709"/>
                  </a:lnTo>
                  <a:lnTo>
                    <a:pt x="669" y="2715"/>
                  </a:lnTo>
                  <a:lnTo>
                    <a:pt x="464" y="2720"/>
                  </a:lnTo>
                  <a:lnTo>
                    <a:pt x="257" y="2722"/>
                  </a:lnTo>
                  <a:lnTo>
                    <a:pt x="49" y="2723"/>
                  </a:lnTo>
                  <a:lnTo>
                    <a:pt x="49" y="2723"/>
                  </a:lnTo>
                  <a:lnTo>
                    <a:pt x="49" y="2723"/>
                  </a:lnTo>
                  <a:lnTo>
                    <a:pt x="43" y="2723"/>
                  </a:lnTo>
                  <a:lnTo>
                    <a:pt x="38" y="2724"/>
                  </a:lnTo>
                  <a:lnTo>
                    <a:pt x="33" y="2725"/>
                  </a:lnTo>
                  <a:lnTo>
                    <a:pt x="28" y="2727"/>
                  </a:lnTo>
                  <a:lnTo>
                    <a:pt x="23" y="2729"/>
                  </a:lnTo>
                  <a:lnTo>
                    <a:pt x="19" y="2732"/>
                  </a:lnTo>
                  <a:lnTo>
                    <a:pt x="15" y="2735"/>
                  </a:lnTo>
                  <a:lnTo>
                    <a:pt x="12" y="2738"/>
                  </a:lnTo>
                  <a:lnTo>
                    <a:pt x="6" y="2746"/>
                  </a:lnTo>
                  <a:lnTo>
                    <a:pt x="3" y="2755"/>
                  </a:lnTo>
                  <a:lnTo>
                    <a:pt x="0" y="2763"/>
                  </a:lnTo>
                  <a:lnTo>
                    <a:pt x="0" y="2772"/>
                  </a:lnTo>
                  <a:lnTo>
                    <a:pt x="0" y="2782"/>
                  </a:lnTo>
                  <a:lnTo>
                    <a:pt x="3" y="2790"/>
                  </a:lnTo>
                  <a:lnTo>
                    <a:pt x="6" y="2800"/>
                  </a:lnTo>
                  <a:lnTo>
                    <a:pt x="12" y="2807"/>
                  </a:lnTo>
                  <a:lnTo>
                    <a:pt x="15" y="2810"/>
                  </a:lnTo>
                  <a:lnTo>
                    <a:pt x="19" y="2813"/>
                  </a:lnTo>
                  <a:lnTo>
                    <a:pt x="23" y="2816"/>
                  </a:lnTo>
                  <a:lnTo>
                    <a:pt x="28" y="2818"/>
                  </a:lnTo>
                  <a:lnTo>
                    <a:pt x="33" y="2820"/>
                  </a:lnTo>
                  <a:lnTo>
                    <a:pt x="38" y="2821"/>
                  </a:lnTo>
                  <a:lnTo>
                    <a:pt x="43" y="2822"/>
                  </a:lnTo>
                  <a:lnTo>
                    <a:pt x="49" y="282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68520" y="2916000"/>
              <a:ext cx="403560" cy="142920"/>
            </a:xfrm>
            <a:custGeom>
              <a:avLst/>
              <a:gdLst/>
              <a:ahLst/>
              <a:rect l="l" t="t" r="r" b="b"/>
              <a:pathLst>
                <a:path w="8128" h="2871">
                  <a:moveTo>
                    <a:pt x="0" y="49"/>
                  </a:moveTo>
                  <a:lnTo>
                    <a:pt x="0" y="49"/>
                  </a:lnTo>
                  <a:lnTo>
                    <a:pt x="1" y="87"/>
                  </a:lnTo>
                  <a:lnTo>
                    <a:pt x="3" y="125"/>
                  </a:lnTo>
                  <a:lnTo>
                    <a:pt x="6" y="161"/>
                  </a:lnTo>
                  <a:lnTo>
                    <a:pt x="11" y="199"/>
                  </a:lnTo>
                  <a:lnTo>
                    <a:pt x="17" y="236"/>
                  </a:lnTo>
                  <a:lnTo>
                    <a:pt x="24" y="274"/>
                  </a:lnTo>
                  <a:lnTo>
                    <a:pt x="34" y="310"/>
                  </a:lnTo>
                  <a:lnTo>
                    <a:pt x="44" y="347"/>
                  </a:lnTo>
                  <a:lnTo>
                    <a:pt x="55" y="384"/>
                  </a:lnTo>
                  <a:lnTo>
                    <a:pt x="68" y="419"/>
                  </a:lnTo>
                  <a:lnTo>
                    <a:pt x="82" y="456"/>
                  </a:lnTo>
                  <a:lnTo>
                    <a:pt x="98" y="492"/>
                  </a:lnTo>
                  <a:lnTo>
                    <a:pt x="114" y="527"/>
                  </a:lnTo>
                  <a:lnTo>
                    <a:pt x="132" y="563"/>
                  </a:lnTo>
                  <a:lnTo>
                    <a:pt x="151" y="598"/>
                  </a:lnTo>
                  <a:lnTo>
                    <a:pt x="172" y="633"/>
                  </a:lnTo>
                  <a:lnTo>
                    <a:pt x="193" y="668"/>
                  </a:lnTo>
                  <a:lnTo>
                    <a:pt x="215" y="703"/>
                  </a:lnTo>
                  <a:lnTo>
                    <a:pt x="240" y="737"/>
                  </a:lnTo>
                  <a:lnTo>
                    <a:pt x="264" y="771"/>
                  </a:lnTo>
                  <a:lnTo>
                    <a:pt x="291" y="806"/>
                  </a:lnTo>
                  <a:lnTo>
                    <a:pt x="318" y="839"/>
                  </a:lnTo>
                  <a:lnTo>
                    <a:pt x="346" y="873"/>
                  </a:lnTo>
                  <a:lnTo>
                    <a:pt x="376" y="907"/>
                  </a:lnTo>
                  <a:lnTo>
                    <a:pt x="407" y="940"/>
                  </a:lnTo>
                  <a:lnTo>
                    <a:pt x="439" y="973"/>
                  </a:lnTo>
                  <a:lnTo>
                    <a:pt x="472" y="1005"/>
                  </a:lnTo>
                  <a:lnTo>
                    <a:pt x="506" y="1038"/>
                  </a:lnTo>
                  <a:lnTo>
                    <a:pt x="542" y="1071"/>
                  </a:lnTo>
                  <a:lnTo>
                    <a:pt x="578" y="1103"/>
                  </a:lnTo>
                  <a:lnTo>
                    <a:pt x="615" y="1135"/>
                  </a:lnTo>
                  <a:lnTo>
                    <a:pt x="653" y="1167"/>
                  </a:lnTo>
                  <a:lnTo>
                    <a:pt x="693" y="1198"/>
                  </a:lnTo>
                  <a:lnTo>
                    <a:pt x="734" y="1230"/>
                  </a:lnTo>
                  <a:lnTo>
                    <a:pt x="775" y="1260"/>
                  </a:lnTo>
                  <a:lnTo>
                    <a:pt x="818" y="1291"/>
                  </a:lnTo>
                  <a:lnTo>
                    <a:pt x="862" y="1321"/>
                  </a:lnTo>
                  <a:lnTo>
                    <a:pt x="906" y="1352"/>
                  </a:lnTo>
                  <a:lnTo>
                    <a:pt x="952" y="1383"/>
                  </a:lnTo>
                  <a:lnTo>
                    <a:pt x="999" y="1412"/>
                  </a:lnTo>
                  <a:lnTo>
                    <a:pt x="1046" y="1442"/>
                  </a:lnTo>
                  <a:lnTo>
                    <a:pt x="1095" y="1471"/>
                  </a:lnTo>
                  <a:lnTo>
                    <a:pt x="1145" y="1501"/>
                  </a:lnTo>
                  <a:lnTo>
                    <a:pt x="1195" y="1529"/>
                  </a:lnTo>
                  <a:lnTo>
                    <a:pt x="1247" y="1558"/>
                  </a:lnTo>
                  <a:lnTo>
                    <a:pt x="1299" y="1587"/>
                  </a:lnTo>
                  <a:lnTo>
                    <a:pt x="1353" y="1615"/>
                  </a:lnTo>
                  <a:lnTo>
                    <a:pt x="1407" y="1643"/>
                  </a:lnTo>
                  <a:lnTo>
                    <a:pt x="1463" y="1671"/>
                  </a:lnTo>
                  <a:lnTo>
                    <a:pt x="1519" y="1699"/>
                  </a:lnTo>
                  <a:lnTo>
                    <a:pt x="1577" y="1725"/>
                  </a:lnTo>
                  <a:lnTo>
                    <a:pt x="1635" y="1753"/>
                  </a:lnTo>
                  <a:lnTo>
                    <a:pt x="1694" y="1779"/>
                  </a:lnTo>
                  <a:lnTo>
                    <a:pt x="1754" y="1806"/>
                  </a:lnTo>
                  <a:lnTo>
                    <a:pt x="1815" y="1832"/>
                  </a:lnTo>
                  <a:lnTo>
                    <a:pt x="1877" y="1858"/>
                  </a:lnTo>
                  <a:lnTo>
                    <a:pt x="1939" y="1884"/>
                  </a:lnTo>
                  <a:lnTo>
                    <a:pt x="2002" y="1910"/>
                  </a:lnTo>
                  <a:lnTo>
                    <a:pt x="2067" y="1934"/>
                  </a:lnTo>
                  <a:lnTo>
                    <a:pt x="2132" y="1960"/>
                  </a:lnTo>
                  <a:lnTo>
                    <a:pt x="2198" y="1984"/>
                  </a:lnTo>
                  <a:lnTo>
                    <a:pt x="2265" y="2009"/>
                  </a:lnTo>
                  <a:lnTo>
                    <a:pt x="2332" y="2032"/>
                  </a:lnTo>
                  <a:lnTo>
                    <a:pt x="2401" y="2056"/>
                  </a:lnTo>
                  <a:lnTo>
                    <a:pt x="2470" y="2080"/>
                  </a:lnTo>
                  <a:lnTo>
                    <a:pt x="2540" y="2102"/>
                  </a:lnTo>
                  <a:lnTo>
                    <a:pt x="2611" y="2126"/>
                  </a:lnTo>
                  <a:lnTo>
                    <a:pt x="2682" y="2148"/>
                  </a:lnTo>
                  <a:lnTo>
                    <a:pt x="2754" y="2171"/>
                  </a:lnTo>
                  <a:lnTo>
                    <a:pt x="2829" y="2193"/>
                  </a:lnTo>
                  <a:lnTo>
                    <a:pt x="2902" y="2214"/>
                  </a:lnTo>
                  <a:lnTo>
                    <a:pt x="2977" y="2236"/>
                  </a:lnTo>
                  <a:lnTo>
                    <a:pt x="3128" y="2278"/>
                  </a:lnTo>
                  <a:lnTo>
                    <a:pt x="3284" y="2318"/>
                  </a:lnTo>
                  <a:lnTo>
                    <a:pt x="3441" y="2358"/>
                  </a:lnTo>
                  <a:lnTo>
                    <a:pt x="3601" y="2396"/>
                  </a:lnTo>
                  <a:lnTo>
                    <a:pt x="3764" y="2433"/>
                  </a:lnTo>
                  <a:lnTo>
                    <a:pt x="3930" y="2468"/>
                  </a:lnTo>
                  <a:lnTo>
                    <a:pt x="4099" y="2503"/>
                  </a:lnTo>
                  <a:lnTo>
                    <a:pt x="4269" y="2536"/>
                  </a:lnTo>
                  <a:lnTo>
                    <a:pt x="4443" y="2567"/>
                  </a:lnTo>
                  <a:lnTo>
                    <a:pt x="4619" y="2597"/>
                  </a:lnTo>
                  <a:lnTo>
                    <a:pt x="4797" y="2625"/>
                  </a:lnTo>
                  <a:lnTo>
                    <a:pt x="4977" y="2653"/>
                  </a:lnTo>
                  <a:lnTo>
                    <a:pt x="5160" y="2678"/>
                  </a:lnTo>
                  <a:lnTo>
                    <a:pt x="5345" y="2703"/>
                  </a:lnTo>
                  <a:lnTo>
                    <a:pt x="5532" y="2725"/>
                  </a:lnTo>
                  <a:lnTo>
                    <a:pt x="5721" y="2746"/>
                  </a:lnTo>
                  <a:lnTo>
                    <a:pt x="5912" y="2765"/>
                  </a:lnTo>
                  <a:lnTo>
                    <a:pt x="6105" y="2783"/>
                  </a:lnTo>
                  <a:lnTo>
                    <a:pt x="6300" y="2800"/>
                  </a:lnTo>
                  <a:lnTo>
                    <a:pt x="6497" y="2815"/>
                  </a:lnTo>
                  <a:lnTo>
                    <a:pt x="6695" y="2827"/>
                  </a:lnTo>
                  <a:lnTo>
                    <a:pt x="6896" y="2838"/>
                  </a:lnTo>
                  <a:lnTo>
                    <a:pt x="7098" y="2849"/>
                  </a:lnTo>
                  <a:lnTo>
                    <a:pt x="7301" y="2857"/>
                  </a:lnTo>
                  <a:lnTo>
                    <a:pt x="7505" y="2863"/>
                  </a:lnTo>
                  <a:lnTo>
                    <a:pt x="7711" y="2867"/>
                  </a:lnTo>
                  <a:lnTo>
                    <a:pt x="7920" y="2870"/>
                  </a:lnTo>
                  <a:lnTo>
                    <a:pt x="8128" y="2871"/>
                  </a:lnTo>
                  <a:lnTo>
                    <a:pt x="8128" y="2772"/>
                  </a:lnTo>
                  <a:lnTo>
                    <a:pt x="7920" y="2771"/>
                  </a:lnTo>
                  <a:lnTo>
                    <a:pt x="7713" y="2769"/>
                  </a:lnTo>
                  <a:lnTo>
                    <a:pt x="7508" y="2764"/>
                  </a:lnTo>
                  <a:lnTo>
                    <a:pt x="7304" y="2758"/>
                  </a:lnTo>
                  <a:lnTo>
                    <a:pt x="7102" y="2750"/>
                  </a:lnTo>
                  <a:lnTo>
                    <a:pt x="6901" y="2741"/>
                  </a:lnTo>
                  <a:lnTo>
                    <a:pt x="6702" y="2729"/>
                  </a:lnTo>
                  <a:lnTo>
                    <a:pt x="6503" y="2716"/>
                  </a:lnTo>
                  <a:lnTo>
                    <a:pt x="6308" y="2701"/>
                  </a:lnTo>
                  <a:lnTo>
                    <a:pt x="6114" y="2684"/>
                  </a:lnTo>
                  <a:lnTo>
                    <a:pt x="5922" y="2667"/>
                  </a:lnTo>
                  <a:lnTo>
                    <a:pt x="5731" y="2648"/>
                  </a:lnTo>
                  <a:lnTo>
                    <a:pt x="5543" y="2626"/>
                  </a:lnTo>
                  <a:lnTo>
                    <a:pt x="5357" y="2604"/>
                  </a:lnTo>
                  <a:lnTo>
                    <a:pt x="5173" y="2580"/>
                  </a:lnTo>
                  <a:lnTo>
                    <a:pt x="4992" y="2555"/>
                  </a:lnTo>
                  <a:lnTo>
                    <a:pt x="4812" y="2527"/>
                  </a:lnTo>
                  <a:lnTo>
                    <a:pt x="4635" y="2499"/>
                  </a:lnTo>
                  <a:lnTo>
                    <a:pt x="4459" y="2469"/>
                  </a:lnTo>
                  <a:lnTo>
                    <a:pt x="4288" y="2439"/>
                  </a:lnTo>
                  <a:lnTo>
                    <a:pt x="4117" y="2405"/>
                  </a:lnTo>
                  <a:lnTo>
                    <a:pt x="3950" y="2371"/>
                  </a:lnTo>
                  <a:lnTo>
                    <a:pt x="3785" y="2336"/>
                  </a:lnTo>
                  <a:lnTo>
                    <a:pt x="3623" y="2300"/>
                  </a:lnTo>
                  <a:lnTo>
                    <a:pt x="3464" y="2262"/>
                  </a:lnTo>
                  <a:lnTo>
                    <a:pt x="3307" y="2223"/>
                  </a:lnTo>
                  <a:lnTo>
                    <a:pt x="3154" y="2182"/>
                  </a:lnTo>
                  <a:lnTo>
                    <a:pt x="3003" y="2141"/>
                  </a:lnTo>
                  <a:lnTo>
                    <a:pt x="2929" y="2120"/>
                  </a:lnTo>
                  <a:lnTo>
                    <a:pt x="2856" y="2098"/>
                  </a:lnTo>
                  <a:lnTo>
                    <a:pt x="2784" y="2076"/>
                  </a:lnTo>
                  <a:lnTo>
                    <a:pt x="2712" y="2054"/>
                  </a:lnTo>
                  <a:lnTo>
                    <a:pt x="2641" y="2032"/>
                  </a:lnTo>
                  <a:lnTo>
                    <a:pt x="2570" y="2009"/>
                  </a:lnTo>
                  <a:lnTo>
                    <a:pt x="2501" y="1986"/>
                  </a:lnTo>
                  <a:lnTo>
                    <a:pt x="2432" y="1963"/>
                  </a:lnTo>
                  <a:lnTo>
                    <a:pt x="2364" y="1939"/>
                  </a:lnTo>
                  <a:lnTo>
                    <a:pt x="2297" y="1916"/>
                  </a:lnTo>
                  <a:lnTo>
                    <a:pt x="2231" y="1891"/>
                  </a:lnTo>
                  <a:lnTo>
                    <a:pt x="2166" y="1867"/>
                  </a:lnTo>
                  <a:lnTo>
                    <a:pt x="2102" y="1842"/>
                  </a:lnTo>
                  <a:lnTo>
                    <a:pt x="2038" y="1817"/>
                  </a:lnTo>
                  <a:lnTo>
                    <a:pt x="1975" y="1792"/>
                  </a:lnTo>
                  <a:lnTo>
                    <a:pt x="1913" y="1767"/>
                  </a:lnTo>
                  <a:lnTo>
                    <a:pt x="1853" y="1741"/>
                  </a:lnTo>
                  <a:lnTo>
                    <a:pt x="1793" y="1715"/>
                  </a:lnTo>
                  <a:lnTo>
                    <a:pt x="1733" y="1689"/>
                  </a:lnTo>
                  <a:lnTo>
                    <a:pt x="1675" y="1663"/>
                  </a:lnTo>
                  <a:lnTo>
                    <a:pt x="1618" y="1636"/>
                  </a:lnTo>
                  <a:lnTo>
                    <a:pt x="1562" y="1609"/>
                  </a:lnTo>
                  <a:lnTo>
                    <a:pt x="1507" y="1582"/>
                  </a:lnTo>
                  <a:lnTo>
                    <a:pt x="1452" y="1555"/>
                  </a:lnTo>
                  <a:lnTo>
                    <a:pt x="1398" y="1527"/>
                  </a:lnTo>
                  <a:lnTo>
                    <a:pt x="1346" y="1500"/>
                  </a:lnTo>
                  <a:lnTo>
                    <a:pt x="1294" y="1471"/>
                  </a:lnTo>
                  <a:lnTo>
                    <a:pt x="1244" y="1444"/>
                  </a:lnTo>
                  <a:lnTo>
                    <a:pt x="1194" y="1415"/>
                  </a:lnTo>
                  <a:lnTo>
                    <a:pt x="1145" y="1387"/>
                  </a:lnTo>
                  <a:lnTo>
                    <a:pt x="1097" y="1357"/>
                  </a:lnTo>
                  <a:lnTo>
                    <a:pt x="1051" y="1329"/>
                  </a:lnTo>
                  <a:lnTo>
                    <a:pt x="1006" y="1299"/>
                  </a:lnTo>
                  <a:lnTo>
                    <a:pt x="961" y="1269"/>
                  </a:lnTo>
                  <a:lnTo>
                    <a:pt x="917" y="1241"/>
                  </a:lnTo>
                  <a:lnTo>
                    <a:pt x="875" y="1210"/>
                  </a:lnTo>
                  <a:lnTo>
                    <a:pt x="833" y="1181"/>
                  </a:lnTo>
                  <a:lnTo>
                    <a:pt x="792" y="1150"/>
                  </a:lnTo>
                  <a:lnTo>
                    <a:pt x="754" y="1121"/>
                  </a:lnTo>
                  <a:lnTo>
                    <a:pt x="715" y="1090"/>
                  </a:lnTo>
                  <a:lnTo>
                    <a:pt x="679" y="1059"/>
                  </a:lnTo>
                  <a:lnTo>
                    <a:pt x="642" y="1028"/>
                  </a:lnTo>
                  <a:lnTo>
                    <a:pt x="608" y="997"/>
                  </a:lnTo>
                  <a:lnTo>
                    <a:pt x="573" y="966"/>
                  </a:lnTo>
                  <a:lnTo>
                    <a:pt x="541" y="935"/>
                  </a:lnTo>
                  <a:lnTo>
                    <a:pt x="509" y="904"/>
                  </a:lnTo>
                  <a:lnTo>
                    <a:pt x="479" y="872"/>
                  </a:lnTo>
                  <a:lnTo>
                    <a:pt x="449" y="840"/>
                  </a:lnTo>
                  <a:lnTo>
                    <a:pt x="421" y="809"/>
                  </a:lnTo>
                  <a:lnTo>
                    <a:pt x="394" y="776"/>
                  </a:lnTo>
                  <a:lnTo>
                    <a:pt x="368" y="744"/>
                  </a:lnTo>
                  <a:lnTo>
                    <a:pt x="343" y="712"/>
                  </a:lnTo>
                  <a:lnTo>
                    <a:pt x="319" y="680"/>
                  </a:lnTo>
                  <a:lnTo>
                    <a:pt x="297" y="648"/>
                  </a:lnTo>
                  <a:lnTo>
                    <a:pt x="276" y="615"/>
                  </a:lnTo>
                  <a:lnTo>
                    <a:pt x="256" y="582"/>
                  </a:lnTo>
                  <a:lnTo>
                    <a:pt x="237" y="550"/>
                  </a:lnTo>
                  <a:lnTo>
                    <a:pt x="219" y="517"/>
                  </a:lnTo>
                  <a:lnTo>
                    <a:pt x="202" y="485"/>
                  </a:lnTo>
                  <a:lnTo>
                    <a:pt x="187" y="451"/>
                  </a:lnTo>
                  <a:lnTo>
                    <a:pt x="173" y="418"/>
                  </a:lnTo>
                  <a:lnTo>
                    <a:pt x="161" y="385"/>
                  </a:lnTo>
                  <a:lnTo>
                    <a:pt x="148" y="352"/>
                  </a:lnTo>
                  <a:lnTo>
                    <a:pt x="138" y="318"/>
                  </a:lnTo>
                  <a:lnTo>
                    <a:pt x="129" y="286"/>
                  </a:lnTo>
                  <a:lnTo>
                    <a:pt x="121" y="252"/>
                  </a:lnTo>
                  <a:lnTo>
                    <a:pt x="114" y="218"/>
                  </a:lnTo>
                  <a:lnTo>
                    <a:pt x="109" y="185"/>
                  </a:lnTo>
                  <a:lnTo>
                    <a:pt x="105" y="151"/>
                  </a:lnTo>
                  <a:lnTo>
                    <a:pt x="101" y="118"/>
                  </a:lnTo>
                  <a:lnTo>
                    <a:pt x="100" y="84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99" y="43"/>
                  </a:lnTo>
                  <a:lnTo>
                    <a:pt x="98" y="38"/>
                  </a:lnTo>
                  <a:lnTo>
                    <a:pt x="97" y="33"/>
                  </a:lnTo>
                  <a:lnTo>
                    <a:pt x="94" y="28"/>
                  </a:lnTo>
                  <a:lnTo>
                    <a:pt x="92" y="24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3" y="13"/>
                  </a:lnTo>
                  <a:lnTo>
                    <a:pt x="76" y="6"/>
                  </a:lnTo>
                  <a:lnTo>
                    <a:pt x="67" y="3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5" y="13"/>
                  </a:lnTo>
                  <a:lnTo>
                    <a:pt x="12" y="16"/>
                  </a:lnTo>
                  <a:lnTo>
                    <a:pt x="9" y="19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68520" y="2779560"/>
              <a:ext cx="406440" cy="139680"/>
            </a:xfrm>
            <a:custGeom>
              <a:avLst/>
              <a:gdLst/>
              <a:ahLst/>
              <a:rect l="l" t="t" r="r" b="b"/>
              <a:pathLst>
                <a:path w="8178" h="2822">
                  <a:moveTo>
                    <a:pt x="8128" y="0"/>
                  </a:moveTo>
                  <a:lnTo>
                    <a:pt x="8128" y="0"/>
                  </a:lnTo>
                  <a:lnTo>
                    <a:pt x="7920" y="1"/>
                  </a:lnTo>
                  <a:lnTo>
                    <a:pt x="7711" y="5"/>
                  </a:lnTo>
                  <a:lnTo>
                    <a:pt x="7505" y="9"/>
                  </a:lnTo>
                  <a:lnTo>
                    <a:pt x="7301" y="15"/>
                  </a:lnTo>
                  <a:lnTo>
                    <a:pt x="7098" y="23"/>
                  </a:lnTo>
                  <a:lnTo>
                    <a:pt x="6896" y="33"/>
                  </a:lnTo>
                  <a:lnTo>
                    <a:pt x="6695" y="44"/>
                  </a:lnTo>
                  <a:lnTo>
                    <a:pt x="6497" y="58"/>
                  </a:lnTo>
                  <a:lnTo>
                    <a:pt x="6300" y="72"/>
                  </a:lnTo>
                  <a:lnTo>
                    <a:pt x="6105" y="88"/>
                  </a:lnTo>
                  <a:lnTo>
                    <a:pt x="5912" y="106"/>
                  </a:lnTo>
                  <a:lnTo>
                    <a:pt x="5721" y="126"/>
                  </a:lnTo>
                  <a:lnTo>
                    <a:pt x="5532" y="147"/>
                  </a:lnTo>
                  <a:lnTo>
                    <a:pt x="5345" y="170"/>
                  </a:lnTo>
                  <a:lnTo>
                    <a:pt x="5160" y="193"/>
                  </a:lnTo>
                  <a:lnTo>
                    <a:pt x="4977" y="220"/>
                  </a:lnTo>
                  <a:lnTo>
                    <a:pt x="4797" y="246"/>
                  </a:lnTo>
                  <a:lnTo>
                    <a:pt x="4619" y="275"/>
                  </a:lnTo>
                  <a:lnTo>
                    <a:pt x="4443" y="305"/>
                  </a:lnTo>
                  <a:lnTo>
                    <a:pt x="4269" y="337"/>
                  </a:lnTo>
                  <a:lnTo>
                    <a:pt x="4099" y="369"/>
                  </a:lnTo>
                  <a:lnTo>
                    <a:pt x="3930" y="403"/>
                  </a:lnTo>
                  <a:lnTo>
                    <a:pt x="3764" y="439"/>
                  </a:lnTo>
                  <a:lnTo>
                    <a:pt x="3601" y="476"/>
                  </a:lnTo>
                  <a:lnTo>
                    <a:pt x="3441" y="514"/>
                  </a:lnTo>
                  <a:lnTo>
                    <a:pt x="3284" y="553"/>
                  </a:lnTo>
                  <a:lnTo>
                    <a:pt x="3128" y="594"/>
                  </a:lnTo>
                  <a:lnTo>
                    <a:pt x="2977" y="636"/>
                  </a:lnTo>
                  <a:lnTo>
                    <a:pt x="2829" y="679"/>
                  </a:lnTo>
                  <a:lnTo>
                    <a:pt x="2682" y="723"/>
                  </a:lnTo>
                  <a:lnTo>
                    <a:pt x="2611" y="746"/>
                  </a:lnTo>
                  <a:lnTo>
                    <a:pt x="2540" y="769"/>
                  </a:lnTo>
                  <a:lnTo>
                    <a:pt x="2470" y="793"/>
                  </a:lnTo>
                  <a:lnTo>
                    <a:pt x="2401" y="816"/>
                  </a:lnTo>
                  <a:lnTo>
                    <a:pt x="2332" y="839"/>
                  </a:lnTo>
                  <a:lnTo>
                    <a:pt x="2265" y="864"/>
                  </a:lnTo>
                  <a:lnTo>
                    <a:pt x="2198" y="887"/>
                  </a:lnTo>
                  <a:lnTo>
                    <a:pt x="2132" y="913"/>
                  </a:lnTo>
                  <a:lnTo>
                    <a:pt x="2067" y="937"/>
                  </a:lnTo>
                  <a:lnTo>
                    <a:pt x="2002" y="963"/>
                  </a:lnTo>
                  <a:lnTo>
                    <a:pt x="1939" y="988"/>
                  </a:lnTo>
                  <a:lnTo>
                    <a:pt x="1877" y="1014"/>
                  </a:lnTo>
                  <a:lnTo>
                    <a:pt x="1815" y="1039"/>
                  </a:lnTo>
                  <a:lnTo>
                    <a:pt x="1754" y="1066"/>
                  </a:lnTo>
                  <a:lnTo>
                    <a:pt x="1694" y="1092"/>
                  </a:lnTo>
                  <a:lnTo>
                    <a:pt x="1635" y="1119"/>
                  </a:lnTo>
                  <a:lnTo>
                    <a:pt x="1577" y="1146"/>
                  </a:lnTo>
                  <a:lnTo>
                    <a:pt x="1519" y="1174"/>
                  </a:lnTo>
                  <a:lnTo>
                    <a:pt x="1463" y="1201"/>
                  </a:lnTo>
                  <a:lnTo>
                    <a:pt x="1407" y="1229"/>
                  </a:lnTo>
                  <a:lnTo>
                    <a:pt x="1353" y="1256"/>
                  </a:lnTo>
                  <a:lnTo>
                    <a:pt x="1299" y="1285"/>
                  </a:lnTo>
                  <a:lnTo>
                    <a:pt x="1247" y="1313"/>
                  </a:lnTo>
                  <a:lnTo>
                    <a:pt x="1195" y="1342"/>
                  </a:lnTo>
                  <a:lnTo>
                    <a:pt x="1145" y="1372"/>
                  </a:lnTo>
                  <a:lnTo>
                    <a:pt x="1095" y="1400"/>
                  </a:lnTo>
                  <a:lnTo>
                    <a:pt x="1046" y="1430"/>
                  </a:lnTo>
                  <a:lnTo>
                    <a:pt x="999" y="1459"/>
                  </a:lnTo>
                  <a:lnTo>
                    <a:pt x="952" y="1490"/>
                  </a:lnTo>
                  <a:lnTo>
                    <a:pt x="906" y="1519"/>
                  </a:lnTo>
                  <a:lnTo>
                    <a:pt x="862" y="1550"/>
                  </a:lnTo>
                  <a:lnTo>
                    <a:pt x="818" y="1581"/>
                  </a:lnTo>
                  <a:lnTo>
                    <a:pt x="775" y="1611"/>
                  </a:lnTo>
                  <a:lnTo>
                    <a:pt x="734" y="1643"/>
                  </a:lnTo>
                  <a:lnTo>
                    <a:pt x="693" y="1673"/>
                  </a:lnTo>
                  <a:lnTo>
                    <a:pt x="653" y="1705"/>
                  </a:lnTo>
                  <a:lnTo>
                    <a:pt x="615" y="1737"/>
                  </a:lnTo>
                  <a:lnTo>
                    <a:pt x="578" y="1769"/>
                  </a:lnTo>
                  <a:lnTo>
                    <a:pt x="542" y="1801"/>
                  </a:lnTo>
                  <a:lnTo>
                    <a:pt x="506" y="1833"/>
                  </a:lnTo>
                  <a:lnTo>
                    <a:pt x="472" y="1866"/>
                  </a:lnTo>
                  <a:lnTo>
                    <a:pt x="439" y="1899"/>
                  </a:lnTo>
                  <a:lnTo>
                    <a:pt x="407" y="1932"/>
                  </a:lnTo>
                  <a:lnTo>
                    <a:pt x="376" y="1965"/>
                  </a:lnTo>
                  <a:lnTo>
                    <a:pt x="346" y="1999"/>
                  </a:lnTo>
                  <a:lnTo>
                    <a:pt x="318" y="2032"/>
                  </a:lnTo>
                  <a:lnTo>
                    <a:pt x="291" y="2066"/>
                  </a:lnTo>
                  <a:lnTo>
                    <a:pt x="264" y="2100"/>
                  </a:lnTo>
                  <a:lnTo>
                    <a:pt x="240" y="2134"/>
                  </a:lnTo>
                  <a:lnTo>
                    <a:pt x="215" y="2169"/>
                  </a:lnTo>
                  <a:lnTo>
                    <a:pt x="193" y="2203"/>
                  </a:lnTo>
                  <a:lnTo>
                    <a:pt x="172" y="2238"/>
                  </a:lnTo>
                  <a:lnTo>
                    <a:pt x="151" y="2274"/>
                  </a:lnTo>
                  <a:lnTo>
                    <a:pt x="132" y="2309"/>
                  </a:lnTo>
                  <a:lnTo>
                    <a:pt x="114" y="2344"/>
                  </a:lnTo>
                  <a:lnTo>
                    <a:pt x="98" y="2380"/>
                  </a:lnTo>
                  <a:lnTo>
                    <a:pt x="82" y="2416"/>
                  </a:lnTo>
                  <a:lnTo>
                    <a:pt x="68" y="2452"/>
                  </a:lnTo>
                  <a:lnTo>
                    <a:pt x="55" y="2489"/>
                  </a:lnTo>
                  <a:lnTo>
                    <a:pt x="44" y="2526"/>
                  </a:lnTo>
                  <a:lnTo>
                    <a:pt x="34" y="2561"/>
                  </a:lnTo>
                  <a:lnTo>
                    <a:pt x="24" y="2599"/>
                  </a:lnTo>
                  <a:lnTo>
                    <a:pt x="17" y="2636"/>
                  </a:lnTo>
                  <a:lnTo>
                    <a:pt x="11" y="2672"/>
                  </a:lnTo>
                  <a:lnTo>
                    <a:pt x="6" y="2710"/>
                  </a:lnTo>
                  <a:lnTo>
                    <a:pt x="3" y="2748"/>
                  </a:lnTo>
                  <a:lnTo>
                    <a:pt x="1" y="2785"/>
                  </a:lnTo>
                  <a:lnTo>
                    <a:pt x="0" y="2822"/>
                  </a:lnTo>
                  <a:lnTo>
                    <a:pt x="99" y="2822"/>
                  </a:lnTo>
                  <a:lnTo>
                    <a:pt x="100" y="2789"/>
                  </a:lnTo>
                  <a:lnTo>
                    <a:pt x="101" y="2754"/>
                  </a:lnTo>
                  <a:lnTo>
                    <a:pt x="105" y="2720"/>
                  </a:lnTo>
                  <a:lnTo>
                    <a:pt x="109" y="2687"/>
                  </a:lnTo>
                  <a:lnTo>
                    <a:pt x="114" y="2653"/>
                  </a:lnTo>
                  <a:lnTo>
                    <a:pt x="121" y="2619"/>
                  </a:lnTo>
                  <a:lnTo>
                    <a:pt x="129" y="2587"/>
                  </a:lnTo>
                  <a:lnTo>
                    <a:pt x="138" y="2553"/>
                  </a:lnTo>
                  <a:lnTo>
                    <a:pt x="148" y="2519"/>
                  </a:lnTo>
                  <a:lnTo>
                    <a:pt x="161" y="2487"/>
                  </a:lnTo>
                  <a:lnTo>
                    <a:pt x="173" y="2453"/>
                  </a:lnTo>
                  <a:lnTo>
                    <a:pt x="187" y="2421"/>
                  </a:lnTo>
                  <a:lnTo>
                    <a:pt x="202" y="2388"/>
                  </a:lnTo>
                  <a:lnTo>
                    <a:pt x="219" y="2354"/>
                  </a:lnTo>
                  <a:lnTo>
                    <a:pt x="237" y="2322"/>
                  </a:lnTo>
                  <a:lnTo>
                    <a:pt x="256" y="2289"/>
                  </a:lnTo>
                  <a:lnTo>
                    <a:pt x="275" y="2256"/>
                  </a:lnTo>
                  <a:lnTo>
                    <a:pt x="297" y="2224"/>
                  </a:lnTo>
                  <a:lnTo>
                    <a:pt x="319" y="2192"/>
                  </a:lnTo>
                  <a:lnTo>
                    <a:pt x="343" y="2160"/>
                  </a:lnTo>
                  <a:lnTo>
                    <a:pt x="368" y="2127"/>
                  </a:lnTo>
                  <a:lnTo>
                    <a:pt x="394" y="2095"/>
                  </a:lnTo>
                  <a:lnTo>
                    <a:pt x="421" y="2064"/>
                  </a:lnTo>
                  <a:lnTo>
                    <a:pt x="449" y="2031"/>
                  </a:lnTo>
                  <a:lnTo>
                    <a:pt x="479" y="2000"/>
                  </a:lnTo>
                  <a:lnTo>
                    <a:pt x="509" y="1968"/>
                  </a:lnTo>
                  <a:lnTo>
                    <a:pt x="541" y="1937"/>
                  </a:lnTo>
                  <a:lnTo>
                    <a:pt x="573" y="1906"/>
                  </a:lnTo>
                  <a:lnTo>
                    <a:pt x="608" y="1874"/>
                  </a:lnTo>
                  <a:lnTo>
                    <a:pt x="642" y="1844"/>
                  </a:lnTo>
                  <a:lnTo>
                    <a:pt x="679" y="1813"/>
                  </a:lnTo>
                  <a:lnTo>
                    <a:pt x="715" y="1782"/>
                  </a:lnTo>
                  <a:lnTo>
                    <a:pt x="754" y="1752"/>
                  </a:lnTo>
                  <a:lnTo>
                    <a:pt x="792" y="1721"/>
                  </a:lnTo>
                  <a:lnTo>
                    <a:pt x="833" y="1691"/>
                  </a:lnTo>
                  <a:lnTo>
                    <a:pt x="875" y="1661"/>
                  </a:lnTo>
                  <a:lnTo>
                    <a:pt x="917" y="1632"/>
                  </a:lnTo>
                  <a:lnTo>
                    <a:pt x="961" y="1602"/>
                  </a:lnTo>
                  <a:lnTo>
                    <a:pt x="1006" y="1572"/>
                  </a:lnTo>
                  <a:lnTo>
                    <a:pt x="1051" y="1543"/>
                  </a:lnTo>
                  <a:lnTo>
                    <a:pt x="1097" y="1514"/>
                  </a:lnTo>
                  <a:lnTo>
                    <a:pt x="1145" y="1486"/>
                  </a:lnTo>
                  <a:lnTo>
                    <a:pt x="1194" y="1457"/>
                  </a:lnTo>
                  <a:lnTo>
                    <a:pt x="1244" y="1429"/>
                  </a:lnTo>
                  <a:lnTo>
                    <a:pt x="1294" y="1400"/>
                  </a:lnTo>
                  <a:lnTo>
                    <a:pt x="1346" y="1372"/>
                  </a:lnTo>
                  <a:lnTo>
                    <a:pt x="1398" y="1344"/>
                  </a:lnTo>
                  <a:lnTo>
                    <a:pt x="1452" y="1317"/>
                  </a:lnTo>
                  <a:lnTo>
                    <a:pt x="1507" y="1290"/>
                  </a:lnTo>
                  <a:lnTo>
                    <a:pt x="1562" y="1263"/>
                  </a:lnTo>
                  <a:lnTo>
                    <a:pt x="1618" y="1236"/>
                  </a:lnTo>
                  <a:lnTo>
                    <a:pt x="1675" y="1208"/>
                  </a:lnTo>
                  <a:lnTo>
                    <a:pt x="1733" y="1183"/>
                  </a:lnTo>
                  <a:lnTo>
                    <a:pt x="1793" y="1156"/>
                  </a:lnTo>
                  <a:lnTo>
                    <a:pt x="1853" y="1131"/>
                  </a:lnTo>
                  <a:lnTo>
                    <a:pt x="1913" y="1104"/>
                  </a:lnTo>
                  <a:lnTo>
                    <a:pt x="1975" y="1080"/>
                  </a:lnTo>
                  <a:lnTo>
                    <a:pt x="2038" y="1055"/>
                  </a:lnTo>
                  <a:lnTo>
                    <a:pt x="2102" y="1029"/>
                  </a:lnTo>
                  <a:lnTo>
                    <a:pt x="2166" y="1005"/>
                  </a:lnTo>
                  <a:lnTo>
                    <a:pt x="2231" y="981"/>
                  </a:lnTo>
                  <a:lnTo>
                    <a:pt x="2297" y="957"/>
                  </a:lnTo>
                  <a:lnTo>
                    <a:pt x="2364" y="932"/>
                  </a:lnTo>
                  <a:lnTo>
                    <a:pt x="2432" y="909"/>
                  </a:lnTo>
                  <a:lnTo>
                    <a:pt x="2501" y="886"/>
                  </a:lnTo>
                  <a:lnTo>
                    <a:pt x="2570" y="863"/>
                  </a:lnTo>
                  <a:lnTo>
                    <a:pt x="2641" y="840"/>
                  </a:lnTo>
                  <a:lnTo>
                    <a:pt x="2712" y="818"/>
                  </a:lnTo>
                  <a:lnTo>
                    <a:pt x="2856" y="774"/>
                  </a:lnTo>
                  <a:lnTo>
                    <a:pt x="3003" y="731"/>
                  </a:lnTo>
                  <a:lnTo>
                    <a:pt x="3154" y="690"/>
                  </a:lnTo>
                  <a:lnTo>
                    <a:pt x="3307" y="649"/>
                  </a:lnTo>
                  <a:lnTo>
                    <a:pt x="3464" y="610"/>
                  </a:lnTo>
                  <a:lnTo>
                    <a:pt x="3623" y="572"/>
                  </a:lnTo>
                  <a:lnTo>
                    <a:pt x="3785" y="536"/>
                  </a:lnTo>
                  <a:lnTo>
                    <a:pt x="3950" y="500"/>
                  </a:lnTo>
                  <a:lnTo>
                    <a:pt x="4117" y="466"/>
                  </a:lnTo>
                  <a:lnTo>
                    <a:pt x="4288" y="434"/>
                  </a:lnTo>
                  <a:lnTo>
                    <a:pt x="4459" y="402"/>
                  </a:lnTo>
                  <a:lnTo>
                    <a:pt x="4635" y="373"/>
                  </a:lnTo>
                  <a:lnTo>
                    <a:pt x="4812" y="344"/>
                  </a:lnTo>
                  <a:lnTo>
                    <a:pt x="4992" y="317"/>
                  </a:lnTo>
                  <a:lnTo>
                    <a:pt x="5173" y="291"/>
                  </a:lnTo>
                  <a:lnTo>
                    <a:pt x="5357" y="268"/>
                  </a:lnTo>
                  <a:lnTo>
                    <a:pt x="5543" y="245"/>
                  </a:lnTo>
                  <a:lnTo>
                    <a:pt x="5731" y="224"/>
                  </a:lnTo>
                  <a:lnTo>
                    <a:pt x="5922" y="204"/>
                  </a:lnTo>
                  <a:lnTo>
                    <a:pt x="6114" y="187"/>
                  </a:lnTo>
                  <a:lnTo>
                    <a:pt x="6308" y="171"/>
                  </a:lnTo>
                  <a:lnTo>
                    <a:pt x="6503" y="155"/>
                  </a:lnTo>
                  <a:lnTo>
                    <a:pt x="6702" y="143"/>
                  </a:lnTo>
                  <a:lnTo>
                    <a:pt x="6901" y="131"/>
                  </a:lnTo>
                  <a:lnTo>
                    <a:pt x="7102" y="122"/>
                  </a:lnTo>
                  <a:lnTo>
                    <a:pt x="7304" y="114"/>
                  </a:lnTo>
                  <a:lnTo>
                    <a:pt x="7508" y="107"/>
                  </a:lnTo>
                  <a:lnTo>
                    <a:pt x="7713" y="103"/>
                  </a:lnTo>
                  <a:lnTo>
                    <a:pt x="7920" y="100"/>
                  </a:lnTo>
                  <a:lnTo>
                    <a:pt x="8128" y="99"/>
                  </a:lnTo>
                  <a:lnTo>
                    <a:pt x="8128" y="99"/>
                  </a:lnTo>
                  <a:lnTo>
                    <a:pt x="8128" y="99"/>
                  </a:lnTo>
                  <a:lnTo>
                    <a:pt x="8134" y="99"/>
                  </a:lnTo>
                  <a:lnTo>
                    <a:pt x="8139" y="98"/>
                  </a:lnTo>
                  <a:lnTo>
                    <a:pt x="8145" y="97"/>
                  </a:lnTo>
                  <a:lnTo>
                    <a:pt x="8149" y="95"/>
                  </a:lnTo>
                  <a:lnTo>
                    <a:pt x="8154" y="93"/>
                  </a:lnTo>
                  <a:lnTo>
                    <a:pt x="8158" y="90"/>
                  </a:lnTo>
                  <a:lnTo>
                    <a:pt x="8162" y="87"/>
                  </a:lnTo>
                  <a:lnTo>
                    <a:pt x="8166" y="84"/>
                  </a:lnTo>
                  <a:lnTo>
                    <a:pt x="8171" y="77"/>
                  </a:lnTo>
                  <a:lnTo>
                    <a:pt x="8175" y="69"/>
                  </a:lnTo>
                  <a:lnTo>
                    <a:pt x="8177" y="60"/>
                  </a:lnTo>
                  <a:lnTo>
                    <a:pt x="8178" y="50"/>
                  </a:lnTo>
                  <a:lnTo>
                    <a:pt x="8177" y="41"/>
                  </a:lnTo>
                  <a:lnTo>
                    <a:pt x="8175" y="32"/>
                  </a:lnTo>
                  <a:lnTo>
                    <a:pt x="8171" y="24"/>
                  </a:lnTo>
                  <a:lnTo>
                    <a:pt x="8166" y="16"/>
                  </a:lnTo>
                  <a:lnTo>
                    <a:pt x="8162" y="13"/>
                  </a:lnTo>
                  <a:lnTo>
                    <a:pt x="8158" y="10"/>
                  </a:lnTo>
                  <a:lnTo>
                    <a:pt x="8154" y="8"/>
                  </a:lnTo>
                  <a:lnTo>
                    <a:pt x="8149" y="5"/>
                  </a:lnTo>
                  <a:lnTo>
                    <a:pt x="8145" y="4"/>
                  </a:lnTo>
                  <a:lnTo>
                    <a:pt x="8139" y="1"/>
                  </a:lnTo>
                  <a:lnTo>
                    <a:pt x="8134" y="0"/>
                  </a:lnTo>
                  <a:lnTo>
                    <a:pt x="8128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72080" y="2779560"/>
              <a:ext cx="403200" cy="1396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8128" y="2822"/>
                  </a:moveTo>
                  <a:lnTo>
                    <a:pt x="8127" y="2785"/>
                  </a:lnTo>
                  <a:lnTo>
                    <a:pt x="8125" y="2748"/>
                  </a:lnTo>
                  <a:lnTo>
                    <a:pt x="8122" y="2710"/>
                  </a:lnTo>
                  <a:lnTo>
                    <a:pt x="8117" y="2672"/>
                  </a:lnTo>
                  <a:lnTo>
                    <a:pt x="8111" y="2636"/>
                  </a:lnTo>
                  <a:lnTo>
                    <a:pt x="8103" y="2599"/>
                  </a:lnTo>
                  <a:lnTo>
                    <a:pt x="8094" y="2561"/>
                  </a:lnTo>
                  <a:lnTo>
                    <a:pt x="8084" y="2526"/>
                  </a:lnTo>
                  <a:lnTo>
                    <a:pt x="8072" y="2489"/>
                  </a:lnTo>
                  <a:lnTo>
                    <a:pt x="8060" y="2452"/>
                  </a:lnTo>
                  <a:lnTo>
                    <a:pt x="8046" y="2416"/>
                  </a:lnTo>
                  <a:lnTo>
                    <a:pt x="8030" y="2380"/>
                  </a:lnTo>
                  <a:lnTo>
                    <a:pt x="8014" y="2344"/>
                  </a:lnTo>
                  <a:lnTo>
                    <a:pt x="7996" y="2309"/>
                  </a:lnTo>
                  <a:lnTo>
                    <a:pt x="7977" y="2274"/>
                  </a:lnTo>
                  <a:lnTo>
                    <a:pt x="7956" y="2238"/>
                  </a:lnTo>
                  <a:lnTo>
                    <a:pt x="7935" y="2203"/>
                  </a:lnTo>
                  <a:lnTo>
                    <a:pt x="7913" y="2169"/>
                  </a:lnTo>
                  <a:lnTo>
                    <a:pt x="7888" y="2134"/>
                  </a:lnTo>
                  <a:lnTo>
                    <a:pt x="7864" y="2100"/>
                  </a:lnTo>
                  <a:lnTo>
                    <a:pt x="7837" y="2066"/>
                  </a:lnTo>
                  <a:lnTo>
                    <a:pt x="7810" y="2032"/>
                  </a:lnTo>
                  <a:lnTo>
                    <a:pt x="7782" y="1999"/>
                  </a:lnTo>
                  <a:lnTo>
                    <a:pt x="7752" y="1965"/>
                  </a:lnTo>
                  <a:lnTo>
                    <a:pt x="7721" y="1932"/>
                  </a:lnTo>
                  <a:lnTo>
                    <a:pt x="7689" y="1899"/>
                  </a:lnTo>
                  <a:lnTo>
                    <a:pt x="7656" y="1866"/>
                  </a:lnTo>
                  <a:lnTo>
                    <a:pt x="7622" y="1833"/>
                  </a:lnTo>
                  <a:lnTo>
                    <a:pt x="7586" y="1801"/>
                  </a:lnTo>
                  <a:lnTo>
                    <a:pt x="7550" y="1769"/>
                  </a:lnTo>
                  <a:lnTo>
                    <a:pt x="7512" y="1737"/>
                  </a:lnTo>
                  <a:lnTo>
                    <a:pt x="7475" y="1705"/>
                  </a:lnTo>
                  <a:lnTo>
                    <a:pt x="7435" y="1673"/>
                  </a:lnTo>
                  <a:lnTo>
                    <a:pt x="7394" y="1643"/>
                  </a:lnTo>
                  <a:lnTo>
                    <a:pt x="7353" y="1611"/>
                  </a:lnTo>
                  <a:lnTo>
                    <a:pt x="7310" y="1581"/>
                  </a:lnTo>
                  <a:lnTo>
                    <a:pt x="7266" y="1550"/>
                  </a:lnTo>
                  <a:lnTo>
                    <a:pt x="7222" y="1519"/>
                  </a:lnTo>
                  <a:lnTo>
                    <a:pt x="7176" y="1490"/>
                  </a:lnTo>
                  <a:lnTo>
                    <a:pt x="7129" y="1459"/>
                  </a:lnTo>
                  <a:lnTo>
                    <a:pt x="7082" y="1430"/>
                  </a:lnTo>
                  <a:lnTo>
                    <a:pt x="7033" y="1400"/>
                  </a:lnTo>
                  <a:lnTo>
                    <a:pt x="6983" y="1372"/>
                  </a:lnTo>
                  <a:lnTo>
                    <a:pt x="6932" y="1342"/>
                  </a:lnTo>
                  <a:lnTo>
                    <a:pt x="6881" y="1313"/>
                  </a:lnTo>
                  <a:lnTo>
                    <a:pt x="6829" y="1285"/>
                  </a:lnTo>
                  <a:lnTo>
                    <a:pt x="6775" y="1256"/>
                  </a:lnTo>
                  <a:lnTo>
                    <a:pt x="6721" y="1229"/>
                  </a:lnTo>
                  <a:lnTo>
                    <a:pt x="6665" y="1201"/>
                  </a:lnTo>
                  <a:lnTo>
                    <a:pt x="6609" y="1174"/>
                  </a:lnTo>
                  <a:lnTo>
                    <a:pt x="6551" y="1146"/>
                  </a:lnTo>
                  <a:lnTo>
                    <a:pt x="6493" y="1119"/>
                  </a:lnTo>
                  <a:lnTo>
                    <a:pt x="6434" y="1092"/>
                  </a:lnTo>
                  <a:lnTo>
                    <a:pt x="6374" y="1066"/>
                  </a:lnTo>
                  <a:lnTo>
                    <a:pt x="6313" y="1039"/>
                  </a:lnTo>
                  <a:lnTo>
                    <a:pt x="6251" y="1014"/>
                  </a:lnTo>
                  <a:lnTo>
                    <a:pt x="6189" y="988"/>
                  </a:lnTo>
                  <a:lnTo>
                    <a:pt x="6125" y="963"/>
                  </a:lnTo>
                  <a:lnTo>
                    <a:pt x="6061" y="937"/>
                  </a:lnTo>
                  <a:lnTo>
                    <a:pt x="5996" y="913"/>
                  </a:lnTo>
                  <a:lnTo>
                    <a:pt x="5930" y="887"/>
                  </a:lnTo>
                  <a:lnTo>
                    <a:pt x="5863" y="864"/>
                  </a:lnTo>
                  <a:lnTo>
                    <a:pt x="5796" y="839"/>
                  </a:lnTo>
                  <a:lnTo>
                    <a:pt x="5727" y="816"/>
                  </a:lnTo>
                  <a:lnTo>
                    <a:pt x="5658" y="793"/>
                  </a:lnTo>
                  <a:lnTo>
                    <a:pt x="5588" y="769"/>
                  </a:lnTo>
                  <a:lnTo>
                    <a:pt x="5517" y="746"/>
                  </a:lnTo>
                  <a:lnTo>
                    <a:pt x="5446" y="723"/>
                  </a:lnTo>
                  <a:lnTo>
                    <a:pt x="5299" y="679"/>
                  </a:lnTo>
                  <a:lnTo>
                    <a:pt x="5151" y="636"/>
                  </a:lnTo>
                  <a:lnTo>
                    <a:pt x="5000" y="594"/>
                  </a:lnTo>
                  <a:lnTo>
                    <a:pt x="4844" y="553"/>
                  </a:lnTo>
                  <a:lnTo>
                    <a:pt x="4687" y="514"/>
                  </a:lnTo>
                  <a:lnTo>
                    <a:pt x="4527" y="476"/>
                  </a:lnTo>
                  <a:lnTo>
                    <a:pt x="4364" y="439"/>
                  </a:lnTo>
                  <a:lnTo>
                    <a:pt x="4198" y="403"/>
                  </a:lnTo>
                  <a:lnTo>
                    <a:pt x="4029" y="369"/>
                  </a:lnTo>
                  <a:lnTo>
                    <a:pt x="3859" y="337"/>
                  </a:lnTo>
                  <a:lnTo>
                    <a:pt x="3685" y="305"/>
                  </a:lnTo>
                  <a:lnTo>
                    <a:pt x="3509" y="275"/>
                  </a:lnTo>
                  <a:lnTo>
                    <a:pt x="3331" y="246"/>
                  </a:lnTo>
                  <a:lnTo>
                    <a:pt x="3151" y="220"/>
                  </a:lnTo>
                  <a:lnTo>
                    <a:pt x="2968" y="193"/>
                  </a:lnTo>
                  <a:lnTo>
                    <a:pt x="2783" y="170"/>
                  </a:lnTo>
                  <a:lnTo>
                    <a:pt x="2596" y="147"/>
                  </a:lnTo>
                  <a:lnTo>
                    <a:pt x="2407" y="126"/>
                  </a:lnTo>
                  <a:lnTo>
                    <a:pt x="2216" y="106"/>
                  </a:lnTo>
                  <a:lnTo>
                    <a:pt x="2023" y="88"/>
                  </a:lnTo>
                  <a:lnTo>
                    <a:pt x="1828" y="72"/>
                  </a:lnTo>
                  <a:lnTo>
                    <a:pt x="1631" y="58"/>
                  </a:lnTo>
                  <a:lnTo>
                    <a:pt x="1433" y="44"/>
                  </a:lnTo>
                  <a:lnTo>
                    <a:pt x="1232" y="33"/>
                  </a:lnTo>
                  <a:lnTo>
                    <a:pt x="1030" y="23"/>
                  </a:lnTo>
                  <a:lnTo>
                    <a:pt x="827" y="15"/>
                  </a:lnTo>
                  <a:lnTo>
                    <a:pt x="623" y="9"/>
                  </a:lnTo>
                  <a:lnTo>
                    <a:pt x="417" y="5"/>
                  </a:lnTo>
                  <a:lnTo>
                    <a:pt x="209" y="1"/>
                  </a:lnTo>
                  <a:lnTo>
                    <a:pt x="0" y="0"/>
                  </a:lnTo>
                  <a:lnTo>
                    <a:pt x="0" y="99"/>
                  </a:lnTo>
                  <a:lnTo>
                    <a:pt x="208" y="100"/>
                  </a:lnTo>
                  <a:lnTo>
                    <a:pt x="415" y="103"/>
                  </a:lnTo>
                  <a:lnTo>
                    <a:pt x="620" y="107"/>
                  </a:lnTo>
                  <a:lnTo>
                    <a:pt x="824" y="114"/>
                  </a:lnTo>
                  <a:lnTo>
                    <a:pt x="1026" y="122"/>
                  </a:lnTo>
                  <a:lnTo>
                    <a:pt x="1227" y="131"/>
                  </a:lnTo>
                  <a:lnTo>
                    <a:pt x="1426" y="143"/>
                  </a:lnTo>
                  <a:lnTo>
                    <a:pt x="1625" y="155"/>
                  </a:lnTo>
                  <a:lnTo>
                    <a:pt x="1820" y="171"/>
                  </a:lnTo>
                  <a:lnTo>
                    <a:pt x="2014" y="187"/>
                  </a:lnTo>
                  <a:lnTo>
                    <a:pt x="2206" y="204"/>
                  </a:lnTo>
                  <a:lnTo>
                    <a:pt x="2397" y="224"/>
                  </a:lnTo>
                  <a:lnTo>
                    <a:pt x="2585" y="245"/>
                  </a:lnTo>
                  <a:lnTo>
                    <a:pt x="2771" y="268"/>
                  </a:lnTo>
                  <a:lnTo>
                    <a:pt x="2955" y="291"/>
                  </a:lnTo>
                  <a:lnTo>
                    <a:pt x="3136" y="317"/>
                  </a:lnTo>
                  <a:lnTo>
                    <a:pt x="3316" y="344"/>
                  </a:lnTo>
                  <a:lnTo>
                    <a:pt x="3493" y="373"/>
                  </a:lnTo>
                  <a:lnTo>
                    <a:pt x="3669" y="402"/>
                  </a:lnTo>
                  <a:lnTo>
                    <a:pt x="3840" y="434"/>
                  </a:lnTo>
                  <a:lnTo>
                    <a:pt x="4011" y="466"/>
                  </a:lnTo>
                  <a:lnTo>
                    <a:pt x="4178" y="500"/>
                  </a:lnTo>
                  <a:lnTo>
                    <a:pt x="4342" y="536"/>
                  </a:lnTo>
                  <a:lnTo>
                    <a:pt x="4505" y="572"/>
                  </a:lnTo>
                  <a:lnTo>
                    <a:pt x="4664" y="610"/>
                  </a:lnTo>
                  <a:lnTo>
                    <a:pt x="4821" y="649"/>
                  </a:lnTo>
                  <a:lnTo>
                    <a:pt x="4974" y="690"/>
                  </a:lnTo>
                  <a:lnTo>
                    <a:pt x="5125" y="731"/>
                  </a:lnTo>
                  <a:lnTo>
                    <a:pt x="5272" y="774"/>
                  </a:lnTo>
                  <a:lnTo>
                    <a:pt x="5416" y="818"/>
                  </a:lnTo>
                  <a:lnTo>
                    <a:pt x="5487" y="840"/>
                  </a:lnTo>
                  <a:lnTo>
                    <a:pt x="5558" y="863"/>
                  </a:lnTo>
                  <a:lnTo>
                    <a:pt x="5627" y="886"/>
                  </a:lnTo>
                  <a:lnTo>
                    <a:pt x="5696" y="909"/>
                  </a:lnTo>
                  <a:lnTo>
                    <a:pt x="5764" y="932"/>
                  </a:lnTo>
                  <a:lnTo>
                    <a:pt x="5831" y="957"/>
                  </a:lnTo>
                  <a:lnTo>
                    <a:pt x="5897" y="981"/>
                  </a:lnTo>
                  <a:lnTo>
                    <a:pt x="5962" y="1005"/>
                  </a:lnTo>
                  <a:lnTo>
                    <a:pt x="6026" y="1029"/>
                  </a:lnTo>
                  <a:lnTo>
                    <a:pt x="6090" y="1055"/>
                  </a:lnTo>
                  <a:lnTo>
                    <a:pt x="6153" y="1080"/>
                  </a:lnTo>
                  <a:lnTo>
                    <a:pt x="6215" y="1104"/>
                  </a:lnTo>
                  <a:lnTo>
                    <a:pt x="6275" y="1131"/>
                  </a:lnTo>
                  <a:lnTo>
                    <a:pt x="6335" y="1156"/>
                  </a:lnTo>
                  <a:lnTo>
                    <a:pt x="6395" y="1183"/>
                  </a:lnTo>
                  <a:lnTo>
                    <a:pt x="6453" y="1208"/>
                  </a:lnTo>
                  <a:lnTo>
                    <a:pt x="6510" y="1236"/>
                  </a:lnTo>
                  <a:lnTo>
                    <a:pt x="6566" y="1263"/>
                  </a:lnTo>
                  <a:lnTo>
                    <a:pt x="6621" y="1290"/>
                  </a:lnTo>
                  <a:lnTo>
                    <a:pt x="6676" y="1317"/>
                  </a:lnTo>
                  <a:lnTo>
                    <a:pt x="6730" y="1344"/>
                  </a:lnTo>
                  <a:lnTo>
                    <a:pt x="6782" y="1372"/>
                  </a:lnTo>
                  <a:lnTo>
                    <a:pt x="6834" y="1400"/>
                  </a:lnTo>
                  <a:lnTo>
                    <a:pt x="6884" y="1429"/>
                  </a:lnTo>
                  <a:lnTo>
                    <a:pt x="6934" y="1457"/>
                  </a:lnTo>
                  <a:lnTo>
                    <a:pt x="6983" y="1486"/>
                  </a:lnTo>
                  <a:lnTo>
                    <a:pt x="7031" y="1514"/>
                  </a:lnTo>
                  <a:lnTo>
                    <a:pt x="7076" y="1543"/>
                  </a:lnTo>
                  <a:lnTo>
                    <a:pt x="7122" y="1572"/>
                  </a:lnTo>
                  <a:lnTo>
                    <a:pt x="7167" y="1602"/>
                  </a:lnTo>
                  <a:lnTo>
                    <a:pt x="7211" y="1632"/>
                  </a:lnTo>
                  <a:lnTo>
                    <a:pt x="7253" y="1661"/>
                  </a:lnTo>
                  <a:lnTo>
                    <a:pt x="7295" y="1691"/>
                  </a:lnTo>
                  <a:lnTo>
                    <a:pt x="7335" y="1721"/>
                  </a:lnTo>
                  <a:lnTo>
                    <a:pt x="7374" y="1752"/>
                  </a:lnTo>
                  <a:lnTo>
                    <a:pt x="7413" y="1782"/>
                  </a:lnTo>
                  <a:lnTo>
                    <a:pt x="7449" y="1813"/>
                  </a:lnTo>
                  <a:lnTo>
                    <a:pt x="7486" y="1844"/>
                  </a:lnTo>
                  <a:lnTo>
                    <a:pt x="7520" y="1874"/>
                  </a:lnTo>
                  <a:lnTo>
                    <a:pt x="7555" y="1906"/>
                  </a:lnTo>
                  <a:lnTo>
                    <a:pt x="7587" y="1937"/>
                  </a:lnTo>
                  <a:lnTo>
                    <a:pt x="7619" y="1968"/>
                  </a:lnTo>
                  <a:lnTo>
                    <a:pt x="7649" y="2000"/>
                  </a:lnTo>
                  <a:lnTo>
                    <a:pt x="7679" y="2031"/>
                  </a:lnTo>
                  <a:lnTo>
                    <a:pt x="7707" y="2064"/>
                  </a:lnTo>
                  <a:lnTo>
                    <a:pt x="7734" y="2095"/>
                  </a:lnTo>
                  <a:lnTo>
                    <a:pt x="7760" y="2128"/>
                  </a:lnTo>
                  <a:lnTo>
                    <a:pt x="7785" y="2160"/>
                  </a:lnTo>
                  <a:lnTo>
                    <a:pt x="7808" y="2192"/>
                  </a:lnTo>
                  <a:lnTo>
                    <a:pt x="7830" y="2224"/>
                  </a:lnTo>
                  <a:lnTo>
                    <a:pt x="7853" y="2256"/>
                  </a:lnTo>
                  <a:lnTo>
                    <a:pt x="7872" y="2289"/>
                  </a:lnTo>
                  <a:lnTo>
                    <a:pt x="7891" y="2322"/>
                  </a:lnTo>
                  <a:lnTo>
                    <a:pt x="7909" y="2354"/>
                  </a:lnTo>
                  <a:lnTo>
                    <a:pt x="7925" y="2388"/>
                  </a:lnTo>
                  <a:lnTo>
                    <a:pt x="7941" y="2421"/>
                  </a:lnTo>
                  <a:lnTo>
                    <a:pt x="7954" y="2453"/>
                  </a:lnTo>
                  <a:lnTo>
                    <a:pt x="7967" y="2487"/>
                  </a:lnTo>
                  <a:lnTo>
                    <a:pt x="7980" y="2519"/>
                  </a:lnTo>
                  <a:lnTo>
                    <a:pt x="7990" y="2553"/>
                  </a:lnTo>
                  <a:lnTo>
                    <a:pt x="7999" y="2587"/>
                  </a:lnTo>
                  <a:lnTo>
                    <a:pt x="8007" y="2619"/>
                  </a:lnTo>
                  <a:lnTo>
                    <a:pt x="8014" y="2653"/>
                  </a:lnTo>
                  <a:lnTo>
                    <a:pt x="8019" y="2687"/>
                  </a:lnTo>
                  <a:lnTo>
                    <a:pt x="8023" y="2720"/>
                  </a:lnTo>
                  <a:lnTo>
                    <a:pt x="8026" y="2754"/>
                  </a:lnTo>
                  <a:lnTo>
                    <a:pt x="8028" y="2789"/>
                  </a:lnTo>
                  <a:lnTo>
                    <a:pt x="8029" y="2822"/>
                  </a:lnTo>
                  <a:lnTo>
                    <a:pt x="8128" y="282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70320" y="2638080"/>
              <a:ext cx="803160" cy="284400"/>
            </a:xfrm>
            <a:custGeom>
              <a:avLst/>
              <a:gdLst/>
              <a:ahLst/>
              <a:rect l="l" t="t" r="r" b="b"/>
              <a:pathLst>
                <a:path w="16185" h="5743">
                  <a:moveTo>
                    <a:pt x="0" y="0"/>
                  </a:moveTo>
                  <a:lnTo>
                    <a:pt x="0" y="5743"/>
                  </a:lnTo>
                  <a:lnTo>
                    <a:pt x="16182" y="5743"/>
                  </a:lnTo>
                  <a:lnTo>
                    <a:pt x="1618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71760" y="2492280"/>
              <a:ext cx="800280" cy="274680"/>
            </a:xfrm>
            <a:custGeom>
              <a:avLst/>
              <a:gdLst/>
              <a:ahLst/>
              <a:rect l="l" t="t" r="r" b="b"/>
              <a:pathLst>
                <a:path w="16156" h="5544">
                  <a:moveTo>
                    <a:pt x="16156" y="2772"/>
                  </a:moveTo>
                  <a:lnTo>
                    <a:pt x="16146" y="2915"/>
                  </a:lnTo>
                  <a:lnTo>
                    <a:pt x="16115" y="3055"/>
                  </a:lnTo>
                  <a:lnTo>
                    <a:pt x="16064" y="3194"/>
                  </a:lnTo>
                  <a:lnTo>
                    <a:pt x="15993" y="3331"/>
                  </a:lnTo>
                  <a:lnTo>
                    <a:pt x="15902" y="3464"/>
                  </a:lnTo>
                  <a:lnTo>
                    <a:pt x="15794" y="3596"/>
                  </a:lnTo>
                  <a:lnTo>
                    <a:pt x="15667" y="3725"/>
                  </a:lnTo>
                  <a:lnTo>
                    <a:pt x="15521" y="3850"/>
                  </a:lnTo>
                  <a:lnTo>
                    <a:pt x="15360" y="3974"/>
                  </a:lnTo>
                  <a:lnTo>
                    <a:pt x="15181" y="4093"/>
                  </a:lnTo>
                  <a:lnTo>
                    <a:pt x="14987" y="4209"/>
                  </a:lnTo>
                  <a:lnTo>
                    <a:pt x="14776" y="4321"/>
                  </a:lnTo>
                  <a:lnTo>
                    <a:pt x="14551" y="4431"/>
                  </a:lnTo>
                  <a:lnTo>
                    <a:pt x="14311" y="4536"/>
                  </a:lnTo>
                  <a:lnTo>
                    <a:pt x="14057" y="4635"/>
                  </a:lnTo>
                  <a:lnTo>
                    <a:pt x="13790" y="4732"/>
                  </a:lnTo>
                  <a:lnTo>
                    <a:pt x="13509" y="4824"/>
                  </a:lnTo>
                  <a:lnTo>
                    <a:pt x="13216" y="4911"/>
                  </a:lnTo>
                  <a:lnTo>
                    <a:pt x="12910" y="4993"/>
                  </a:lnTo>
                  <a:lnTo>
                    <a:pt x="12594" y="5071"/>
                  </a:lnTo>
                  <a:lnTo>
                    <a:pt x="12266" y="5143"/>
                  </a:lnTo>
                  <a:lnTo>
                    <a:pt x="11928" y="5209"/>
                  </a:lnTo>
                  <a:lnTo>
                    <a:pt x="11579" y="5271"/>
                  </a:lnTo>
                  <a:lnTo>
                    <a:pt x="11222" y="5327"/>
                  </a:lnTo>
                  <a:lnTo>
                    <a:pt x="10855" y="5376"/>
                  </a:lnTo>
                  <a:lnTo>
                    <a:pt x="10480" y="5419"/>
                  </a:lnTo>
                  <a:lnTo>
                    <a:pt x="10096" y="5457"/>
                  </a:lnTo>
                  <a:lnTo>
                    <a:pt x="9706" y="5488"/>
                  </a:lnTo>
                  <a:lnTo>
                    <a:pt x="9307" y="5512"/>
                  </a:lnTo>
                  <a:lnTo>
                    <a:pt x="8904" y="5529"/>
                  </a:lnTo>
                  <a:lnTo>
                    <a:pt x="8494" y="5541"/>
                  </a:lnTo>
                  <a:lnTo>
                    <a:pt x="8078" y="5544"/>
                  </a:lnTo>
                  <a:lnTo>
                    <a:pt x="7662" y="5541"/>
                  </a:lnTo>
                  <a:lnTo>
                    <a:pt x="7252" y="5529"/>
                  </a:lnTo>
                  <a:lnTo>
                    <a:pt x="6849" y="5512"/>
                  </a:lnTo>
                  <a:lnTo>
                    <a:pt x="6450" y="5488"/>
                  </a:lnTo>
                  <a:lnTo>
                    <a:pt x="6060" y="5457"/>
                  </a:lnTo>
                  <a:lnTo>
                    <a:pt x="5676" y="5419"/>
                  </a:lnTo>
                  <a:lnTo>
                    <a:pt x="5301" y="5376"/>
                  </a:lnTo>
                  <a:lnTo>
                    <a:pt x="4934" y="5327"/>
                  </a:lnTo>
                  <a:lnTo>
                    <a:pt x="4577" y="5271"/>
                  </a:lnTo>
                  <a:lnTo>
                    <a:pt x="4228" y="5209"/>
                  </a:lnTo>
                  <a:lnTo>
                    <a:pt x="3890" y="5143"/>
                  </a:lnTo>
                  <a:lnTo>
                    <a:pt x="3562" y="5071"/>
                  </a:lnTo>
                  <a:lnTo>
                    <a:pt x="3245" y="4993"/>
                  </a:lnTo>
                  <a:lnTo>
                    <a:pt x="2940" y="4911"/>
                  </a:lnTo>
                  <a:lnTo>
                    <a:pt x="2647" y="4824"/>
                  </a:lnTo>
                  <a:lnTo>
                    <a:pt x="2366" y="4732"/>
                  </a:lnTo>
                  <a:lnTo>
                    <a:pt x="2099" y="4635"/>
                  </a:lnTo>
                  <a:lnTo>
                    <a:pt x="1845" y="4536"/>
                  </a:lnTo>
                  <a:lnTo>
                    <a:pt x="1605" y="4431"/>
                  </a:lnTo>
                  <a:lnTo>
                    <a:pt x="1380" y="4321"/>
                  </a:lnTo>
                  <a:lnTo>
                    <a:pt x="1169" y="4209"/>
                  </a:lnTo>
                  <a:lnTo>
                    <a:pt x="975" y="4093"/>
                  </a:lnTo>
                  <a:lnTo>
                    <a:pt x="796" y="3974"/>
                  </a:lnTo>
                  <a:lnTo>
                    <a:pt x="635" y="3850"/>
                  </a:lnTo>
                  <a:lnTo>
                    <a:pt x="489" y="3725"/>
                  </a:lnTo>
                  <a:lnTo>
                    <a:pt x="362" y="3596"/>
                  </a:lnTo>
                  <a:lnTo>
                    <a:pt x="254" y="3464"/>
                  </a:lnTo>
                  <a:lnTo>
                    <a:pt x="163" y="3331"/>
                  </a:lnTo>
                  <a:lnTo>
                    <a:pt x="92" y="3194"/>
                  </a:lnTo>
                  <a:lnTo>
                    <a:pt x="41" y="3055"/>
                  </a:lnTo>
                  <a:lnTo>
                    <a:pt x="10" y="2915"/>
                  </a:lnTo>
                  <a:lnTo>
                    <a:pt x="0" y="2772"/>
                  </a:lnTo>
                  <a:lnTo>
                    <a:pt x="10" y="2629"/>
                  </a:lnTo>
                  <a:lnTo>
                    <a:pt x="41" y="2489"/>
                  </a:lnTo>
                  <a:lnTo>
                    <a:pt x="92" y="2350"/>
                  </a:lnTo>
                  <a:lnTo>
                    <a:pt x="163" y="2213"/>
                  </a:lnTo>
                  <a:lnTo>
                    <a:pt x="254" y="2080"/>
                  </a:lnTo>
                  <a:lnTo>
                    <a:pt x="362" y="1948"/>
                  </a:lnTo>
                  <a:lnTo>
                    <a:pt x="489" y="1819"/>
                  </a:lnTo>
                  <a:lnTo>
                    <a:pt x="635" y="1693"/>
                  </a:lnTo>
                  <a:lnTo>
                    <a:pt x="796" y="1570"/>
                  </a:lnTo>
                  <a:lnTo>
                    <a:pt x="975" y="1451"/>
                  </a:lnTo>
                  <a:lnTo>
                    <a:pt x="1169" y="1335"/>
                  </a:lnTo>
                  <a:lnTo>
                    <a:pt x="1380" y="1222"/>
                  </a:lnTo>
                  <a:lnTo>
                    <a:pt x="1605" y="1113"/>
                  </a:lnTo>
                  <a:lnTo>
                    <a:pt x="1845" y="1009"/>
                  </a:lnTo>
                  <a:lnTo>
                    <a:pt x="2099" y="908"/>
                  </a:lnTo>
                  <a:lnTo>
                    <a:pt x="2366" y="812"/>
                  </a:lnTo>
                  <a:lnTo>
                    <a:pt x="2647" y="720"/>
                  </a:lnTo>
                  <a:lnTo>
                    <a:pt x="2940" y="633"/>
                  </a:lnTo>
                  <a:lnTo>
                    <a:pt x="3245" y="551"/>
                  </a:lnTo>
                  <a:lnTo>
                    <a:pt x="3562" y="473"/>
                  </a:lnTo>
                  <a:lnTo>
                    <a:pt x="3890" y="402"/>
                  </a:lnTo>
                  <a:lnTo>
                    <a:pt x="4228" y="334"/>
                  </a:lnTo>
                  <a:lnTo>
                    <a:pt x="4577" y="273"/>
                  </a:lnTo>
                  <a:lnTo>
                    <a:pt x="4934" y="217"/>
                  </a:lnTo>
                  <a:lnTo>
                    <a:pt x="5301" y="168"/>
                  </a:lnTo>
                  <a:lnTo>
                    <a:pt x="5676" y="124"/>
                  </a:lnTo>
                  <a:lnTo>
                    <a:pt x="6060" y="87"/>
                  </a:lnTo>
                  <a:lnTo>
                    <a:pt x="6450" y="56"/>
                  </a:lnTo>
                  <a:lnTo>
                    <a:pt x="6849" y="32"/>
                  </a:lnTo>
                  <a:lnTo>
                    <a:pt x="7252" y="14"/>
                  </a:lnTo>
                  <a:lnTo>
                    <a:pt x="7662" y="3"/>
                  </a:lnTo>
                  <a:lnTo>
                    <a:pt x="8078" y="0"/>
                  </a:lnTo>
                  <a:lnTo>
                    <a:pt x="8494" y="3"/>
                  </a:lnTo>
                  <a:lnTo>
                    <a:pt x="8904" y="14"/>
                  </a:lnTo>
                  <a:lnTo>
                    <a:pt x="9307" y="32"/>
                  </a:lnTo>
                  <a:lnTo>
                    <a:pt x="9706" y="56"/>
                  </a:lnTo>
                  <a:lnTo>
                    <a:pt x="10096" y="87"/>
                  </a:lnTo>
                  <a:lnTo>
                    <a:pt x="10480" y="124"/>
                  </a:lnTo>
                  <a:lnTo>
                    <a:pt x="10855" y="168"/>
                  </a:lnTo>
                  <a:lnTo>
                    <a:pt x="11222" y="217"/>
                  </a:lnTo>
                  <a:lnTo>
                    <a:pt x="11579" y="273"/>
                  </a:lnTo>
                  <a:lnTo>
                    <a:pt x="11928" y="334"/>
                  </a:lnTo>
                  <a:lnTo>
                    <a:pt x="12266" y="402"/>
                  </a:lnTo>
                  <a:lnTo>
                    <a:pt x="12594" y="473"/>
                  </a:lnTo>
                  <a:lnTo>
                    <a:pt x="12910" y="551"/>
                  </a:lnTo>
                  <a:lnTo>
                    <a:pt x="13216" y="633"/>
                  </a:lnTo>
                  <a:lnTo>
                    <a:pt x="13509" y="720"/>
                  </a:lnTo>
                  <a:lnTo>
                    <a:pt x="13790" y="812"/>
                  </a:lnTo>
                  <a:lnTo>
                    <a:pt x="14057" y="908"/>
                  </a:lnTo>
                  <a:lnTo>
                    <a:pt x="14311" y="1009"/>
                  </a:lnTo>
                  <a:lnTo>
                    <a:pt x="14551" y="1113"/>
                  </a:lnTo>
                  <a:lnTo>
                    <a:pt x="14776" y="1222"/>
                  </a:lnTo>
                  <a:lnTo>
                    <a:pt x="14987" y="1335"/>
                  </a:lnTo>
                  <a:lnTo>
                    <a:pt x="15181" y="1451"/>
                  </a:lnTo>
                  <a:lnTo>
                    <a:pt x="15360" y="1570"/>
                  </a:lnTo>
                  <a:lnTo>
                    <a:pt x="15521" y="1693"/>
                  </a:lnTo>
                  <a:lnTo>
                    <a:pt x="15667" y="1819"/>
                  </a:lnTo>
                  <a:lnTo>
                    <a:pt x="15794" y="1948"/>
                  </a:lnTo>
                  <a:lnTo>
                    <a:pt x="15902" y="2080"/>
                  </a:lnTo>
                  <a:lnTo>
                    <a:pt x="15993" y="2213"/>
                  </a:lnTo>
                  <a:lnTo>
                    <a:pt x="16064" y="2350"/>
                  </a:lnTo>
                  <a:lnTo>
                    <a:pt x="16115" y="2489"/>
                  </a:lnTo>
                  <a:lnTo>
                    <a:pt x="16146" y="2629"/>
                  </a:lnTo>
                  <a:lnTo>
                    <a:pt x="16156" y="2772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72080" y="2628720"/>
              <a:ext cx="403200" cy="1396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0" y="2822"/>
                  </a:moveTo>
                  <a:lnTo>
                    <a:pt x="0" y="2822"/>
                  </a:lnTo>
                  <a:lnTo>
                    <a:pt x="209" y="2821"/>
                  </a:lnTo>
                  <a:lnTo>
                    <a:pt x="417" y="2818"/>
                  </a:lnTo>
                  <a:lnTo>
                    <a:pt x="623" y="2814"/>
                  </a:lnTo>
                  <a:lnTo>
                    <a:pt x="827" y="2807"/>
                  </a:lnTo>
                  <a:lnTo>
                    <a:pt x="1030" y="2799"/>
                  </a:lnTo>
                  <a:lnTo>
                    <a:pt x="1232" y="2789"/>
                  </a:lnTo>
                  <a:lnTo>
                    <a:pt x="1433" y="2778"/>
                  </a:lnTo>
                  <a:lnTo>
                    <a:pt x="1631" y="2765"/>
                  </a:lnTo>
                  <a:lnTo>
                    <a:pt x="1828" y="2750"/>
                  </a:lnTo>
                  <a:lnTo>
                    <a:pt x="2023" y="2734"/>
                  </a:lnTo>
                  <a:lnTo>
                    <a:pt x="2216" y="2716"/>
                  </a:lnTo>
                  <a:lnTo>
                    <a:pt x="2407" y="2696"/>
                  </a:lnTo>
                  <a:lnTo>
                    <a:pt x="2596" y="2676"/>
                  </a:lnTo>
                  <a:lnTo>
                    <a:pt x="2783" y="2653"/>
                  </a:lnTo>
                  <a:lnTo>
                    <a:pt x="2968" y="2629"/>
                  </a:lnTo>
                  <a:lnTo>
                    <a:pt x="3151" y="2604"/>
                  </a:lnTo>
                  <a:lnTo>
                    <a:pt x="3331" y="2576"/>
                  </a:lnTo>
                  <a:lnTo>
                    <a:pt x="3509" y="2547"/>
                  </a:lnTo>
                  <a:lnTo>
                    <a:pt x="3685" y="2518"/>
                  </a:lnTo>
                  <a:lnTo>
                    <a:pt x="3859" y="2486"/>
                  </a:lnTo>
                  <a:lnTo>
                    <a:pt x="4029" y="2454"/>
                  </a:lnTo>
                  <a:lnTo>
                    <a:pt x="4198" y="2419"/>
                  </a:lnTo>
                  <a:lnTo>
                    <a:pt x="4364" y="2383"/>
                  </a:lnTo>
                  <a:lnTo>
                    <a:pt x="4527" y="2347"/>
                  </a:lnTo>
                  <a:lnTo>
                    <a:pt x="4687" y="2309"/>
                  </a:lnTo>
                  <a:lnTo>
                    <a:pt x="4844" y="2269"/>
                  </a:lnTo>
                  <a:lnTo>
                    <a:pt x="5000" y="2228"/>
                  </a:lnTo>
                  <a:lnTo>
                    <a:pt x="5151" y="2187"/>
                  </a:lnTo>
                  <a:lnTo>
                    <a:pt x="5226" y="2165"/>
                  </a:lnTo>
                  <a:lnTo>
                    <a:pt x="5299" y="2144"/>
                  </a:lnTo>
                  <a:lnTo>
                    <a:pt x="5373" y="2121"/>
                  </a:lnTo>
                  <a:lnTo>
                    <a:pt x="5446" y="2099"/>
                  </a:lnTo>
                  <a:lnTo>
                    <a:pt x="5517" y="2076"/>
                  </a:lnTo>
                  <a:lnTo>
                    <a:pt x="5588" y="2053"/>
                  </a:lnTo>
                  <a:lnTo>
                    <a:pt x="5658" y="2031"/>
                  </a:lnTo>
                  <a:lnTo>
                    <a:pt x="5727" y="2007"/>
                  </a:lnTo>
                  <a:lnTo>
                    <a:pt x="5796" y="1983"/>
                  </a:lnTo>
                  <a:lnTo>
                    <a:pt x="5863" y="1959"/>
                  </a:lnTo>
                  <a:lnTo>
                    <a:pt x="5930" y="1935"/>
                  </a:lnTo>
                  <a:lnTo>
                    <a:pt x="5996" y="1910"/>
                  </a:lnTo>
                  <a:lnTo>
                    <a:pt x="6061" y="1885"/>
                  </a:lnTo>
                  <a:lnTo>
                    <a:pt x="6125" y="1860"/>
                  </a:lnTo>
                  <a:lnTo>
                    <a:pt x="6189" y="1835"/>
                  </a:lnTo>
                  <a:lnTo>
                    <a:pt x="6251" y="1808"/>
                  </a:lnTo>
                  <a:lnTo>
                    <a:pt x="6313" y="1783"/>
                  </a:lnTo>
                  <a:lnTo>
                    <a:pt x="6374" y="1756"/>
                  </a:lnTo>
                  <a:lnTo>
                    <a:pt x="6434" y="1730"/>
                  </a:lnTo>
                  <a:lnTo>
                    <a:pt x="6493" y="1703"/>
                  </a:lnTo>
                  <a:lnTo>
                    <a:pt x="6551" y="1676"/>
                  </a:lnTo>
                  <a:lnTo>
                    <a:pt x="6609" y="1649"/>
                  </a:lnTo>
                  <a:lnTo>
                    <a:pt x="6665" y="1622"/>
                  </a:lnTo>
                  <a:lnTo>
                    <a:pt x="6721" y="1593"/>
                  </a:lnTo>
                  <a:lnTo>
                    <a:pt x="6775" y="1566"/>
                  </a:lnTo>
                  <a:lnTo>
                    <a:pt x="6829" y="1537"/>
                  </a:lnTo>
                  <a:lnTo>
                    <a:pt x="6881" y="1509"/>
                  </a:lnTo>
                  <a:lnTo>
                    <a:pt x="6932" y="1480"/>
                  </a:lnTo>
                  <a:lnTo>
                    <a:pt x="6983" y="1452"/>
                  </a:lnTo>
                  <a:lnTo>
                    <a:pt x="7033" y="1422"/>
                  </a:lnTo>
                  <a:lnTo>
                    <a:pt x="7082" y="1392"/>
                  </a:lnTo>
                  <a:lnTo>
                    <a:pt x="7129" y="1363"/>
                  </a:lnTo>
                  <a:lnTo>
                    <a:pt x="7176" y="1333"/>
                  </a:lnTo>
                  <a:lnTo>
                    <a:pt x="7222" y="1303"/>
                  </a:lnTo>
                  <a:lnTo>
                    <a:pt x="7266" y="1272"/>
                  </a:lnTo>
                  <a:lnTo>
                    <a:pt x="7310" y="1242"/>
                  </a:lnTo>
                  <a:lnTo>
                    <a:pt x="7353" y="1211"/>
                  </a:lnTo>
                  <a:lnTo>
                    <a:pt x="7394" y="1180"/>
                  </a:lnTo>
                  <a:lnTo>
                    <a:pt x="7435" y="1149"/>
                  </a:lnTo>
                  <a:lnTo>
                    <a:pt x="7475" y="1117"/>
                  </a:lnTo>
                  <a:lnTo>
                    <a:pt x="7512" y="1086"/>
                  </a:lnTo>
                  <a:lnTo>
                    <a:pt x="7550" y="1054"/>
                  </a:lnTo>
                  <a:lnTo>
                    <a:pt x="7586" y="1021"/>
                  </a:lnTo>
                  <a:lnTo>
                    <a:pt x="7622" y="989"/>
                  </a:lnTo>
                  <a:lnTo>
                    <a:pt x="7656" y="956"/>
                  </a:lnTo>
                  <a:lnTo>
                    <a:pt x="7689" y="924"/>
                  </a:lnTo>
                  <a:lnTo>
                    <a:pt x="7721" y="891"/>
                  </a:lnTo>
                  <a:lnTo>
                    <a:pt x="7752" y="857"/>
                  </a:lnTo>
                  <a:lnTo>
                    <a:pt x="7782" y="824"/>
                  </a:lnTo>
                  <a:lnTo>
                    <a:pt x="7810" y="790"/>
                  </a:lnTo>
                  <a:lnTo>
                    <a:pt x="7837" y="756"/>
                  </a:lnTo>
                  <a:lnTo>
                    <a:pt x="7864" y="723"/>
                  </a:lnTo>
                  <a:lnTo>
                    <a:pt x="7888" y="688"/>
                  </a:lnTo>
                  <a:lnTo>
                    <a:pt x="7913" y="653"/>
                  </a:lnTo>
                  <a:lnTo>
                    <a:pt x="7935" y="619"/>
                  </a:lnTo>
                  <a:lnTo>
                    <a:pt x="7956" y="584"/>
                  </a:lnTo>
                  <a:lnTo>
                    <a:pt x="7977" y="548"/>
                  </a:lnTo>
                  <a:lnTo>
                    <a:pt x="7996" y="514"/>
                  </a:lnTo>
                  <a:lnTo>
                    <a:pt x="8014" y="478"/>
                  </a:lnTo>
                  <a:lnTo>
                    <a:pt x="8030" y="442"/>
                  </a:lnTo>
                  <a:lnTo>
                    <a:pt x="8046" y="406"/>
                  </a:lnTo>
                  <a:lnTo>
                    <a:pt x="8060" y="370"/>
                  </a:lnTo>
                  <a:lnTo>
                    <a:pt x="8072" y="334"/>
                  </a:lnTo>
                  <a:lnTo>
                    <a:pt x="8084" y="298"/>
                  </a:lnTo>
                  <a:lnTo>
                    <a:pt x="8094" y="261"/>
                  </a:lnTo>
                  <a:lnTo>
                    <a:pt x="8103" y="224"/>
                  </a:lnTo>
                  <a:lnTo>
                    <a:pt x="8111" y="186"/>
                  </a:lnTo>
                  <a:lnTo>
                    <a:pt x="8117" y="150"/>
                  </a:lnTo>
                  <a:lnTo>
                    <a:pt x="8122" y="112"/>
                  </a:lnTo>
                  <a:lnTo>
                    <a:pt x="8125" y="75"/>
                  </a:lnTo>
                  <a:lnTo>
                    <a:pt x="8127" y="38"/>
                  </a:lnTo>
                  <a:lnTo>
                    <a:pt x="8128" y="0"/>
                  </a:lnTo>
                  <a:lnTo>
                    <a:pt x="8029" y="0"/>
                  </a:lnTo>
                  <a:lnTo>
                    <a:pt x="8028" y="34"/>
                  </a:lnTo>
                  <a:lnTo>
                    <a:pt x="8026" y="68"/>
                  </a:lnTo>
                  <a:lnTo>
                    <a:pt x="8023" y="102"/>
                  </a:lnTo>
                  <a:lnTo>
                    <a:pt x="8019" y="135"/>
                  </a:lnTo>
                  <a:lnTo>
                    <a:pt x="8014" y="169"/>
                  </a:lnTo>
                  <a:lnTo>
                    <a:pt x="8007" y="203"/>
                  </a:lnTo>
                  <a:lnTo>
                    <a:pt x="7999" y="236"/>
                  </a:lnTo>
                  <a:lnTo>
                    <a:pt x="7990" y="269"/>
                  </a:lnTo>
                  <a:lnTo>
                    <a:pt x="7980" y="303"/>
                  </a:lnTo>
                  <a:lnTo>
                    <a:pt x="7967" y="335"/>
                  </a:lnTo>
                  <a:lnTo>
                    <a:pt x="7954" y="369"/>
                  </a:lnTo>
                  <a:lnTo>
                    <a:pt x="7941" y="402"/>
                  </a:lnTo>
                  <a:lnTo>
                    <a:pt x="7925" y="435"/>
                  </a:lnTo>
                  <a:lnTo>
                    <a:pt x="7909" y="468"/>
                  </a:lnTo>
                  <a:lnTo>
                    <a:pt x="7891" y="500"/>
                  </a:lnTo>
                  <a:lnTo>
                    <a:pt x="7872" y="533"/>
                  </a:lnTo>
                  <a:lnTo>
                    <a:pt x="7853" y="566"/>
                  </a:lnTo>
                  <a:lnTo>
                    <a:pt x="7830" y="598"/>
                  </a:lnTo>
                  <a:lnTo>
                    <a:pt x="7808" y="631"/>
                  </a:lnTo>
                  <a:lnTo>
                    <a:pt x="7785" y="663"/>
                  </a:lnTo>
                  <a:lnTo>
                    <a:pt x="7760" y="695"/>
                  </a:lnTo>
                  <a:lnTo>
                    <a:pt x="7734" y="727"/>
                  </a:lnTo>
                  <a:lnTo>
                    <a:pt x="7707" y="759"/>
                  </a:lnTo>
                  <a:lnTo>
                    <a:pt x="7679" y="791"/>
                  </a:lnTo>
                  <a:lnTo>
                    <a:pt x="7649" y="823"/>
                  </a:lnTo>
                  <a:lnTo>
                    <a:pt x="7619" y="854"/>
                  </a:lnTo>
                  <a:lnTo>
                    <a:pt x="7587" y="886"/>
                  </a:lnTo>
                  <a:lnTo>
                    <a:pt x="7555" y="916"/>
                  </a:lnTo>
                  <a:lnTo>
                    <a:pt x="7520" y="948"/>
                  </a:lnTo>
                  <a:lnTo>
                    <a:pt x="7486" y="979"/>
                  </a:lnTo>
                  <a:lnTo>
                    <a:pt x="7449" y="1009"/>
                  </a:lnTo>
                  <a:lnTo>
                    <a:pt x="7413" y="1040"/>
                  </a:lnTo>
                  <a:lnTo>
                    <a:pt x="7374" y="1071"/>
                  </a:lnTo>
                  <a:lnTo>
                    <a:pt x="7335" y="1101"/>
                  </a:lnTo>
                  <a:lnTo>
                    <a:pt x="7295" y="1131"/>
                  </a:lnTo>
                  <a:lnTo>
                    <a:pt x="7253" y="1161"/>
                  </a:lnTo>
                  <a:lnTo>
                    <a:pt x="7211" y="1192"/>
                  </a:lnTo>
                  <a:lnTo>
                    <a:pt x="7167" y="1221"/>
                  </a:lnTo>
                  <a:lnTo>
                    <a:pt x="7122" y="1250"/>
                  </a:lnTo>
                  <a:lnTo>
                    <a:pt x="7076" y="1279"/>
                  </a:lnTo>
                  <a:lnTo>
                    <a:pt x="7031" y="1308"/>
                  </a:lnTo>
                  <a:lnTo>
                    <a:pt x="6983" y="1337"/>
                  </a:lnTo>
                  <a:lnTo>
                    <a:pt x="6934" y="1366"/>
                  </a:lnTo>
                  <a:lnTo>
                    <a:pt x="6884" y="1394"/>
                  </a:lnTo>
                  <a:lnTo>
                    <a:pt x="6834" y="1422"/>
                  </a:lnTo>
                  <a:lnTo>
                    <a:pt x="6782" y="1451"/>
                  </a:lnTo>
                  <a:lnTo>
                    <a:pt x="6730" y="1478"/>
                  </a:lnTo>
                  <a:lnTo>
                    <a:pt x="6676" y="1506"/>
                  </a:lnTo>
                  <a:lnTo>
                    <a:pt x="6621" y="1533"/>
                  </a:lnTo>
                  <a:lnTo>
                    <a:pt x="6566" y="1560"/>
                  </a:lnTo>
                  <a:lnTo>
                    <a:pt x="6510" y="1587"/>
                  </a:lnTo>
                  <a:lnTo>
                    <a:pt x="6453" y="1614"/>
                  </a:lnTo>
                  <a:lnTo>
                    <a:pt x="6395" y="1640"/>
                  </a:lnTo>
                  <a:lnTo>
                    <a:pt x="6335" y="1666"/>
                  </a:lnTo>
                  <a:lnTo>
                    <a:pt x="6275" y="1692"/>
                  </a:lnTo>
                  <a:lnTo>
                    <a:pt x="6215" y="1718"/>
                  </a:lnTo>
                  <a:lnTo>
                    <a:pt x="6152" y="1743"/>
                  </a:lnTo>
                  <a:lnTo>
                    <a:pt x="6090" y="1768"/>
                  </a:lnTo>
                  <a:lnTo>
                    <a:pt x="6026" y="1793"/>
                  </a:lnTo>
                  <a:lnTo>
                    <a:pt x="5962" y="1818"/>
                  </a:lnTo>
                  <a:lnTo>
                    <a:pt x="5897" y="1842"/>
                  </a:lnTo>
                  <a:lnTo>
                    <a:pt x="5831" y="1865"/>
                  </a:lnTo>
                  <a:lnTo>
                    <a:pt x="5764" y="1890"/>
                  </a:lnTo>
                  <a:lnTo>
                    <a:pt x="5696" y="1913"/>
                  </a:lnTo>
                  <a:lnTo>
                    <a:pt x="5627" y="1937"/>
                  </a:lnTo>
                  <a:lnTo>
                    <a:pt x="5558" y="1959"/>
                  </a:lnTo>
                  <a:lnTo>
                    <a:pt x="5487" y="1983"/>
                  </a:lnTo>
                  <a:lnTo>
                    <a:pt x="5416" y="2004"/>
                  </a:lnTo>
                  <a:lnTo>
                    <a:pt x="5344" y="2027"/>
                  </a:lnTo>
                  <a:lnTo>
                    <a:pt x="5272" y="2049"/>
                  </a:lnTo>
                  <a:lnTo>
                    <a:pt x="5199" y="2070"/>
                  </a:lnTo>
                  <a:lnTo>
                    <a:pt x="5125" y="2092"/>
                  </a:lnTo>
                  <a:lnTo>
                    <a:pt x="4974" y="2133"/>
                  </a:lnTo>
                  <a:lnTo>
                    <a:pt x="4821" y="2173"/>
                  </a:lnTo>
                  <a:lnTo>
                    <a:pt x="4664" y="2212"/>
                  </a:lnTo>
                  <a:lnTo>
                    <a:pt x="4505" y="2251"/>
                  </a:lnTo>
                  <a:lnTo>
                    <a:pt x="4342" y="2286"/>
                  </a:lnTo>
                  <a:lnTo>
                    <a:pt x="4178" y="2322"/>
                  </a:lnTo>
                  <a:lnTo>
                    <a:pt x="4011" y="2356"/>
                  </a:lnTo>
                  <a:lnTo>
                    <a:pt x="3840" y="2388"/>
                  </a:lnTo>
                  <a:lnTo>
                    <a:pt x="3669" y="2420"/>
                  </a:lnTo>
                  <a:lnTo>
                    <a:pt x="3493" y="2450"/>
                  </a:lnTo>
                  <a:lnTo>
                    <a:pt x="3316" y="2478"/>
                  </a:lnTo>
                  <a:lnTo>
                    <a:pt x="3136" y="2506"/>
                  </a:lnTo>
                  <a:lnTo>
                    <a:pt x="2955" y="2531"/>
                  </a:lnTo>
                  <a:lnTo>
                    <a:pt x="2771" y="2555"/>
                  </a:lnTo>
                  <a:lnTo>
                    <a:pt x="2585" y="2577"/>
                  </a:lnTo>
                  <a:lnTo>
                    <a:pt x="2397" y="2598"/>
                  </a:lnTo>
                  <a:lnTo>
                    <a:pt x="2206" y="2618"/>
                  </a:lnTo>
                  <a:lnTo>
                    <a:pt x="2014" y="2635"/>
                  </a:lnTo>
                  <a:lnTo>
                    <a:pt x="1820" y="2651"/>
                  </a:lnTo>
                  <a:lnTo>
                    <a:pt x="1625" y="2667"/>
                  </a:lnTo>
                  <a:lnTo>
                    <a:pt x="1426" y="2680"/>
                  </a:lnTo>
                  <a:lnTo>
                    <a:pt x="1227" y="2691"/>
                  </a:lnTo>
                  <a:lnTo>
                    <a:pt x="1026" y="2700"/>
                  </a:lnTo>
                  <a:lnTo>
                    <a:pt x="824" y="2709"/>
                  </a:lnTo>
                  <a:lnTo>
                    <a:pt x="620" y="2715"/>
                  </a:lnTo>
                  <a:lnTo>
                    <a:pt x="415" y="2719"/>
                  </a:lnTo>
                  <a:lnTo>
                    <a:pt x="208" y="2722"/>
                  </a:lnTo>
                  <a:lnTo>
                    <a:pt x="0" y="2723"/>
                  </a:lnTo>
                  <a:lnTo>
                    <a:pt x="0" y="2723"/>
                  </a:lnTo>
                  <a:lnTo>
                    <a:pt x="0" y="2822"/>
                  </a:lnTo>
                  <a:lnTo>
                    <a:pt x="0" y="2822"/>
                  </a:lnTo>
                  <a:lnTo>
                    <a:pt x="0" y="282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68520" y="2628720"/>
              <a:ext cx="403560" cy="1396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0" y="0"/>
                  </a:moveTo>
                  <a:lnTo>
                    <a:pt x="0" y="0"/>
                  </a:lnTo>
                  <a:lnTo>
                    <a:pt x="1" y="38"/>
                  </a:lnTo>
                  <a:lnTo>
                    <a:pt x="3" y="75"/>
                  </a:lnTo>
                  <a:lnTo>
                    <a:pt x="6" y="112"/>
                  </a:lnTo>
                  <a:lnTo>
                    <a:pt x="11" y="150"/>
                  </a:lnTo>
                  <a:lnTo>
                    <a:pt x="17" y="186"/>
                  </a:lnTo>
                  <a:lnTo>
                    <a:pt x="24" y="224"/>
                  </a:lnTo>
                  <a:lnTo>
                    <a:pt x="34" y="261"/>
                  </a:lnTo>
                  <a:lnTo>
                    <a:pt x="44" y="298"/>
                  </a:lnTo>
                  <a:lnTo>
                    <a:pt x="55" y="334"/>
                  </a:lnTo>
                  <a:lnTo>
                    <a:pt x="68" y="370"/>
                  </a:lnTo>
                  <a:lnTo>
                    <a:pt x="82" y="407"/>
                  </a:lnTo>
                  <a:lnTo>
                    <a:pt x="98" y="442"/>
                  </a:lnTo>
                  <a:lnTo>
                    <a:pt x="114" y="478"/>
                  </a:lnTo>
                  <a:lnTo>
                    <a:pt x="132" y="514"/>
                  </a:lnTo>
                  <a:lnTo>
                    <a:pt x="151" y="548"/>
                  </a:lnTo>
                  <a:lnTo>
                    <a:pt x="172" y="584"/>
                  </a:lnTo>
                  <a:lnTo>
                    <a:pt x="193" y="619"/>
                  </a:lnTo>
                  <a:lnTo>
                    <a:pt x="215" y="653"/>
                  </a:lnTo>
                  <a:lnTo>
                    <a:pt x="240" y="688"/>
                  </a:lnTo>
                  <a:lnTo>
                    <a:pt x="264" y="722"/>
                  </a:lnTo>
                  <a:lnTo>
                    <a:pt x="291" y="756"/>
                  </a:lnTo>
                  <a:lnTo>
                    <a:pt x="318" y="790"/>
                  </a:lnTo>
                  <a:lnTo>
                    <a:pt x="346" y="824"/>
                  </a:lnTo>
                  <a:lnTo>
                    <a:pt x="376" y="857"/>
                  </a:lnTo>
                  <a:lnTo>
                    <a:pt x="407" y="891"/>
                  </a:lnTo>
                  <a:lnTo>
                    <a:pt x="439" y="924"/>
                  </a:lnTo>
                  <a:lnTo>
                    <a:pt x="472" y="956"/>
                  </a:lnTo>
                  <a:lnTo>
                    <a:pt x="506" y="989"/>
                  </a:lnTo>
                  <a:lnTo>
                    <a:pt x="542" y="1021"/>
                  </a:lnTo>
                  <a:lnTo>
                    <a:pt x="578" y="1054"/>
                  </a:lnTo>
                  <a:lnTo>
                    <a:pt x="615" y="1086"/>
                  </a:lnTo>
                  <a:lnTo>
                    <a:pt x="653" y="1117"/>
                  </a:lnTo>
                  <a:lnTo>
                    <a:pt x="693" y="1149"/>
                  </a:lnTo>
                  <a:lnTo>
                    <a:pt x="734" y="1180"/>
                  </a:lnTo>
                  <a:lnTo>
                    <a:pt x="775" y="1211"/>
                  </a:lnTo>
                  <a:lnTo>
                    <a:pt x="818" y="1242"/>
                  </a:lnTo>
                  <a:lnTo>
                    <a:pt x="862" y="1272"/>
                  </a:lnTo>
                  <a:lnTo>
                    <a:pt x="906" y="1303"/>
                  </a:lnTo>
                  <a:lnTo>
                    <a:pt x="952" y="1333"/>
                  </a:lnTo>
                  <a:lnTo>
                    <a:pt x="999" y="1363"/>
                  </a:lnTo>
                  <a:lnTo>
                    <a:pt x="1046" y="1392"/>
                  </a:lnTo>
                  <a:lnTo>
                    <a:pt x="1095" y="1422"/>
                  </a:lnTo>
                  <a:lnTo>
                    <a:pt x="1145" y="1452"/>
                  </a:lnTo>
                  <a:lnTo>
                    <a:pt x="1195" y="1480"/>
                  </a:lnTo>
                  <a:lnTo>
                    <a:pt x="1247" y="1509"/>
                  </a:lnTo>
                  <a:lnTo>
                    <a:pt x="1299" y="1537"/>
                  </a:lnTo>
                  <a:lnTo>
                    <a:pt x="1353" y="1566"/>
                  </a:lnTo>
                  <a:lnTo>
                    <a:pt x="1407" y="1593"/>
                  </a:lnTo>
                  <a:lnTo>
                    <a:pt x="1463" y="1622"/>
                  </a:lnTo>
                  <a:lnTo>
                    <a:pt x="1519" y="1649"/>
                  </a:lnTo>
                  <a:lnTo>
                    <a:pt x="1577" y="1676"/>
                  </a:lnTo>
                  <a:lnTo>
                    <a:pt x="1635" y="1703"/>
                  </a:lnTo>
                  <a:lnTo>
                    <a:pt x="1694" y="1730"/>
                  </a:lnTo>
                  <a:lnTo>
                    <a:pt x="1754" y="1756"/>
                  </a:lnTo>
                  <a:lnTo>
                    <a:pt x="1815" y="1783"/>
                  </a:lnTo>
                  <a:lnTo>
                    <a:pt x="1877" y="1808"/>
                  </a:lnTo>
                  <a:lnTo>
                    <a:pt x="1939" y="1835"/>
                  </a:lnTo>
                  <a:lnTo>
                    <a:pt x="2002" y="1860"/>
                  </a:lnTo>
                  <a:lnTo>
                    <a:pt x="2067" y="1885"/>
                  </a:lnTo>
                  <a:lnTo>
                    <a:pt x="2132" y="1910"/>
                  </a:lnTo>
                  <a:lnTo>
                    <a:pt x="2198" y="1935"/>
                  </a:lnTo>
                  <a:lnTo>
                    <a:pt x="2265" y="1959"/>
                  </a:lnTo>
                  <a:lnTo>
                    <a:pt x="2332" y="1983"/>
                  </a:lnTo>
                  <a:lnTo>
                    <a:pt x="2401" y="2007"/>
                  </a:lnTo>
                  <a:lnTo>
                    <a:pt x="2470" y="2031"/>
                  </a:lnTo>
                  <a:lnTo>
                    <a:pt x="2540" y="2053"/>
                  </a:lnTo>
                  <a:lnTo>
                    <a:pt x="2611" y="2076"/>
                  </a:lnTo>
                  <a:lnTo>
                    <a:pt x="2682" y="2099"/>
                  </a:lnTo>
                  <a:lnTo>
                    <a:pt x="2754" y="2121"/>
                  </a:lnTo>
                  <a:lnTo>
                    <a:pt x="2829" y="2144"/>
                  </a:lnTo>
                  <a:lnTo>
                    <a:pt x="2902" y="2165"/>
                  </a:lnTo>
                  <a:lnTo>
                    <a:pt x="2977" y="2187"/>
                  </a:lnTo>
                  <a:lnTo>
                    <a:pt x="3128" y="2228"/>
                  </a:lnTo>
                  <a:lnTo>
                    <a:pt x="3284" y="2269"/>
                  </a:lnTo>
                  <a:lnTo>
                    <a:pt x="3441" y="2309"/>
                  </a:lnTo>
                  <a:lnTo>
                    <a:pt x="3601" y="2347"/>
                  </a:lnTo>
                  <a:lnTo>
                    <a:pt x="3764" y="2383"/>
                  </a:lnTo>
                  <a:lnTo>
                    <a:pt x="3930" y="2419"/>
                  </a:lnTo>
                  <a:lnTo>
                    <a:pt x="4099" y="2454"/>
                  </a:lnTo>
                  <a:lnTo>
                    <a:pt x="4269" y="2486"/>
                  </a:lnTo>
                  <a:lnTo>
                    <a:pt x="4443" y="2518"/>
                  </a:lnTo>
                  <a:lnTo>
                    <a:pt x="4619" y="2547"/>
                  </a:lnTo>
                  <a:lnTo>
                    <a:pt x="4797" y="2576"/>
                  </a:lnTo>
                  <a:lnTo>
                    <a:pt x="4977" y="2604"/>
                  </a:lnTo>
                  <a:lnTo>
                    <a:pt x="5160" y="2629"/>
                  </a:lnTo>
                  <a:lnTo>
                    <a:pt x="5345" y="2653"/>
                  </a:lnTo>
                  <a:lnTo>
                    <a:pt x="5532" y="2676"/>
                  </a:lnTo>
                  <a:lnTo>
                    <a:pt x="5721" y="2696"/>
                  </a:lnTo>
                  <a:lnTo>
                    <a:pt x="5912" y="2716"/>
                  </a:lnTo>
                  <a:lnTo>
                    <a:pt x="6105" y="2734"/>
                  </a:lnTo>
                  <a:lnTo>
                    <a:pt x="6300" y="2750"/>
                  </a:lnTo>
                  <a:lnTo>
                    <a:pt x="6497" y="2765"/>
                  </a:lnTo>
                  <a:lnTo>
                    <a:pt x="6695" y="2778"/>
                  </a:lnTo>
                  <a:lnTo>
                    <a:pt x="6896" y="2789"/>
                  </a:lnTo>
                  <a:lnTo>
                    <a:pt x="7098" y="2799"/>
                  </a:lnTo>
                  <a:lnTo>
                    <a:pt x="7301" y="2807"/>
                  </a:lnTo>
                  <a:lnTo>
                    <a:pt x="7505" y="2814"/>
                  </a:lnTo>
                  <a:lnTo>
                    <a:pt x="7711" y="2818"/>
                  </a:lnTo>
                  <a:lnTo>
                    <a:pt x="7920" y="2821"/>
                  </a:lnTo>
                  <a:lnTo>
                    <a:pt x="8128" y="2822"/>
                  </a:lnTo>
                  <a:lnTo>
                    <a:pt x="8128" y="2723"/>
                  </a:lnTo>
                  <a:lnTo>
                    <a:pt x="7920" y="2722"/>
                  </a:lnTo>
                  <a:lnTo>
                    <a:pt x="7713" y="2719"/>
                  </a:lnTo>
                  <a:lnTo>
                    <a:pt x="7508" y="2715"/>
                  </a:lnTo>
                  <a:lnTo>
                    <a:pt x="7304" y="2709"/>
                  </a:lnTo>
                  <a:lnTo>
                    <a:pt x="7102" y="2700"/>
                  </a:lnTo>
                  <a:lnTo>
                    <a:pt x="6901" y="2691"/>
                  </a:lnTo>
                  <a:lnTo>
                    <a:pt x="6702" y="2680"/>
                  </a:lnTo>
                  <a:lnTo>
                    <a:pt x="6503" y="2667"/>
                  </a:lnTo>
                  <a:lnTo>
                    <a:pt x="6308" y="2651"/>
                  </a:lnTo>
                  <a:lnTo>
                    <a:pt x="6114" y="2635"/>
                  </a:lnTo>
                  <a:lnTo>
                    <a:pt x="5922" y="2618"/>
                  </a:lnTo>
                  <a:lnTo>
                    <a:pt x="5731" y="2598"/>
                  </a:lnTo>
                  <a:lnTo>
                    <a:pt x="5543" y="2577"/>
                  </a:lnTo>
                  <a:lnTo>
                    <a:pt x="5357" y="2555"/>
                  </a:lnTo>
                  <a:lnTo>
                    <a:pt x="5173" y="2531"/>
                  </a:lnTo>
                  <a:lnTo>
                    <a:pt x="4992" y="2506"/>
                  </a:lnTo>
                  <a:lnTo>
                    <a:pt x="4812" y="2478"/>
                  </a:lnTo>
                  <a:lnTo>
                    <a:pt x="4635" y="2450"/>
                  </a:lnTo>
                  <a:lnTo>
                    <a:pt x="4459" y="2420"/>
                  </a:lnTo>
                  <a:lnTo>
                    <a:pt x="4288" y="2388"/>
                  </a:lnTo>
                  <a:lnTo>
                    <a:pt x="4117" y="2356"/>
                  </a:lnTo>
                  <a:lnTo>
                    <a:pt x="3950" y="2322"/>
                  </a:lnTo>
                  <a:lnTo>
                    <a:pt x="3785" y="2286"/>
                  </a:lnTo>
                  <a:lnTo>
                    <a:pt x="3623" y="2251"/>
                  </a:lnTo>
                  <a:lnTo>
                    <a:pt x="3464" y="2212"/>
                  </a:lnTo>
                  <a:lnTo>
                    <a:pt x="3307" y="2173"/>
                  </a:lnTo>
                  <a:lnTo>
                    <a:pt x="3154" y="2133"/>
                  </a:lnTo>
                  <a:lnTo>
                    <a:pt x="3003" y="2092"/>
                  </a:lnTo>
                  <a:lnTo>
                    <a:pt x="2929" y="2070"/>
                  </a:lnTo>
                  <a:lnTo>
                    <a:pt x="2856" y="2049"/>
                  </a:lnTo>
                  <a:lnTo>
                    <a:pt x="2784" y="2027"/>
                  </a:lnTo>
                  <a:lnTo>
                    <a:pt x="2712" y="2004"/>
                  </a:lnTo>
                  <a:lnTo>
                    <a:pt x="2641" y="1983"/>
                  </a:lnTo>
                  <a:lnTo>
                    <a:pt x="2570" y="1959"/>
                  </a:lnTo>
                  <a:lnTo>
                    <a:pt x="2501" y="1937"/>
                  </a:lnTo>
                  <a:lnTo>
                    <a:pt x="2432" y="1913"/>
                  </a:lnTo>
                  <a:lnTo>
                    <a:pt x="2364" y="1890"/>
                  </a:lnTo>
                  <a:lnTo>
                    <a:pt x="2297" y="1865"/>
                  </a:lnTo>
                  <a:lnTo>
                    <a:pt x="2231" y="1842"/>
                  </a:lnTo>
                  <a:lnTo>
                    <a:pt x="2166" y="1818"/>
                  </a:lnTo>
                  <a:lnTo>
                    <a:pt x="2102" y="1793"/>
                  </a:lnTo>
                  <a:lnTo>
                    <a:pt x="2038" y="1768"/>
                  </a:lnTo>
                  <a:lnTo>
                    <a:pt x="1975" y="1743"/>
                  </a:lnTo>
                  <a:lnTo>
                    <a:pt x="1913" y="1718"/>
                  </a:lnTo>
                  <a:lnTo>
                    <a:pt x="1853" y="1692"/>
                  </a:lnTo>
                  <a:lnTo>
                    <a:pt x="1793" y="1666"/>
                  </a:lnTo>
                  <a:lnTo>
                    <a:pt x="1733" y="1640"/>
                  </a:lnTo>
                  <a:lnTo>
                    <a:pt x="1675" y="1614"/>
                  </a:lnTo>
                  <a:lnTo>
                    <a:pt x="1618" y="1587"/>
                  </a:lnTo>
                  <a:lnTo>
                    <a:pt x="1562" y="1560"/>
                  </a:lnTo>
                  <a:lnTo>
                    <a:pt x="1507" y="1533"/>
                  </a:lnTo>
                  <a:lnTo>
                    <a:pt x="1452" y="1506"/>
                  </a:lnTo>
                  <a:lnTo>
                    <a:pt x="1398" y="1478"/>
                  </a:lnTo>
                  <a:lnTo>
                    <a:pt x="1346" y="1451"/>
                  </a:lnTo>
                  <a:lnTo>
                    <a:pt x="1294" y="1422"/>
                  </a:lnTo>
                  <a:lnTo>
                    <a:pt x="1244" y="1394"/>
                  </a:lnTo>
                  <a:lnTo>
                    <a:pt x="1194" y="1366"/>
                  </a:lnTo>
                  <a:lnTo>
                    <a:pt x="1145" y="1337"/>
                  </a:lnTo>
                  <a:lnTo>
                    <a:pt x="1097" y="1308"/>
                  </a:lnTo>
                  <a:lnTo>
                    <a:pt x="1051" y="1279"/>
                  </a:lnTo>
                  <a:lnTo>
                    <a:pt x="1006" y="1250"/>
                  </a:lnTo>
                  <a:lnTo>
                    <a:pt x="961" y="1220"/>
                  </a:lnTo>
                  <a:lnTo>
                    <a:pt x="917" y="1192"/>
                  </a:lnTo>
                  <a:lnTo>
                    <a:pt x="875" y="1161"/>
                  </a:lnTo>
                  <a:lnTo>
                    <a:pt x="833" y="1131"/>
                  </a:lnTo>
                  <a:lnTo>
                    <a:pt x="792" y="1101"/>
                  </a:lnTo>
                  <a:lnTo>
                    <a:pt x="754" y="1071"/>
                  </a:lnTo>
                  <a:lnTo>
                    <a:pt x="715" y="1040"/>
                  </a:lnTo>
                  <a:lnTo>
                    <a:pt x="679" y="1009"/>
                  </a:lnTo>
                  <a:lnTo>
                    <a:pt x="642" y="979"/>
                  </a:lnTo>
                  <a:lnTo>
                    <a:pt x="608" y="948"/>
                  </a:lnTo>
                  <a:lnTo>
                    <a:pt x="573" y="916"/>
                  </a:lnTo>
                  <a:lnTo>
                    <a:pt x="541" y="886"/>
                  </a:lnTo>
                  <a:lnTo>
                    <a:pt x="509" y="854"/>
                  </a:lnTo>
                  <a:lnTo>
                    <a:pt x="479" y="823"/>
                  </a:lnTo>
                  <a:lnTo>
                    <a:pt x="449" y="791"/>
                  </a:lnTo>
                  <a:lnTo>
                    <a:pt x="421" y="759"/>
                  </a:lnTo>
                  <a:lnTo>
                    <a:pt x="394" y="727"/>
                  </a:lnTo>
                  <a:lnTo>
                    <a:pt x="368" y="695"/>
                  </a:lnTo>
                  <a:lnTo>
                    <a:pt x="343" y="663"/>
                  </a:lnTo>
                  <a:lnTo>
                    <a:pt x="319" y="631"/>
                  </a:lnTo>
                  <a:lnTo>
                    <a:pt x="297" y="598"/>
                  </a:lnTo>
                  <a:lnTo>
                    <a:pt x="276" y="566"/>
                  </a:lnTo>
                  <a:lnTo>
                    <a:pt x="256" y="533"/>
                  </a:lnTo>
                  <a:lnTo>
                    <a:pt x="237" y="500"/>
                  </a:lnTo>
                  <a:lnTo>
                    <a:pt x="219" y="468"/>
                  </a:lnTo>
                  <a:lnTo>
                    <a:pt x="202" y="435"/>
                  </a:lnTo>
                  <a:lnTo>
                    <a:pt x="187" y="402"/>
                  </a:lnTo>
                  <a:lnTo>
                    <a:pt x="173" y="369"/>
                  </a:lnTo>
                  <a:lnTo>
                    <a:pt x="161" y="335"/>
                  </a:lnTo>
                  <a:lnTo>
                    <a:pt x="148" y="303"/>
                  </a:lnTo>
                  <a:lnTo>
                    <a:pt x="138" y="269"/>
                  </a:lnTo>
                  <a:lnTo>
                    <a:pt x="129" y="236"/>
                  </a:lnTo>
                  <a:lnTo>
                    <a:pt x="121" y="203"/>
                  </a:lnTo>
                  <a:lnTo>
                    <a:pt x="114" y="169"/>
                  </a:lnTo>
                  <a:lnTo>
                    <a:pt x="109" y="135"/>
                  </a:lnTo>
                  <a:lnTo>
                    <a:pt x="105" y="102"/>
                  </a:lnTo>
                  <a:lnTo>
                    <a:pt x="101" y="68"/>
                  </a:lnTo>
                  <a:lnTo>
                    <a:pt x="100" y="34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368520" y="2489040"/>
              <a:ext cx="403560" cy="1396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8128" y="0"/>
                  </a:moveTo>
                  <a:lnTo>
                    <a:pt x="8128" y="0"/>
                  </a:lnTo>
                  <a:lnTo>
                    <a:pt x="7920" y="1"/>
                  </a:lnTo>
                  <a:lnTo>
                    <a:pt x="7711" y="4"/>
                  </a:lnTo>
                  <a:lnTo>
                    <a:pt x="7505" y="8"/>
                  </a:lnTo>
                  <a:lnTo>
                    <a:pt x="7301" y="14"/>
                  </a:lnTo>
                  <a:lnTo>
                    <a:pt x="7098" y="23"/>
                  </a:lnTo>
                  <a:lnTo>
                    <a:pt x="6896" y="33"/>
                  </a:lnTo>
                  <a:lnTo>
                    <a:pt x="6695" y="44"/>
                  </a:lnTo>
                  <a:lnTo>
                    <a:pt x="6497" y="57"/>
                  </a:lnTo>
                  <a:lnTo>
                    <a:pt x="6300" y="71"/>
                  </a:lnTo>
                  <a:lnTo>
                    <a:pt x="6105" y="88"/>
                  </a:lnTo>
                  <a:lnTo>
                    <a:pt x="5912" y="106"/>
                  </a:lnTo>
                  <a:lnTo>
                    <a:pt x="5721" y="126"/>
                  </a:lnTo>
                  <a:lnTo>
                    <a:pt x="5532" y="146"/>
                  </a:lnTo>
                  <a:lnTo>
                    <a:pt x="5345" y="169"/>
                  </a:lnTo>
                  <a:lnTo>
                    <a:pt x="5160" y="193"/>
                  </a:lnTo>
                  <a:lnTo>
                    <a:pt x="4977" y="218"/>
                  </a:lnTo>
                  <a:lnTo>
                    <a:pt x="4797" y="246"/>
                  </a:lnTo>
                  <a:lnTo>
                    <a:pt x="4619" y="274"/>
                  </a:lnTo>
                  <a:lnTo>
                    <a:pt x="4443" y="305"/>
                  </a:lnTo>
                  <a:lnTo>
                    <a:pt x="4269" y="336"/>
                  </a:lnTo>
                  <a:lnTo>
                    <a:pt x="4099" y="369"/>
                  </a:lnTo>
                  <a:lnTo>
                    <a:pt x="3930" y="403"/>
                  </a:lnTo>
                  <a:lnTo>
                    <a:pt x="3764" y="438"/>
                  </a:lnTo>
                  <a:lnTo>
                    <a:pt x="3601" y="475"/>
                  </a:lnTo>
                  <a:lnTo>
                    <a:pt x="3441" y="514"/>
                  </a:lnTo>
                  <a:lnTo>
                    <a:pt x="3284" y="553"/>
                  </a:lnTo>
                  <a:lnTo>
                    <a:pt x="3128" y="593"/>
                  </a:lnTo>
                  <a:lnTo>
                    <a:pt x="2977" y="635"/>
                  </a:lnTo>
                  <a:lnTo>
                    <a:pt x="2829" y="679"/>
                  </a:lnTo>
                  <a:lnTo>
                    <a:pt x="2682" y="723"/>
                  </a:lnTo>
                  <a:lnTo>
                    <a:pt x="2611" y="745"/>
                  </a:lnTo>
                  <a:lnTo>
                    <a:pt x="2540" y="769"/>
                  </a:lnTo>
                  <a:lnTo>
                    <a:pt x="2470" y="792"/>
                  </a:lnTo>
                  <a:lnTo>
                    <a:pt x="2401" y="816"/>
                  </a:lnTo>
                  <a:lnTo>
                    <a:pt x="2332" y="839"/>
                  </a:lnTo>
                  <a:lnTo>
                    <a:pt x="2265" y="864"/>
                  </a:lnTo>
                  <a:lnTo>
                    <a:pt x="2198" y="887"/>
                  </a:lnTo>
                  <a:lnTo>
                    <a:pt x="2132" y="913"/>
                  </a:lnTo>
                  <a:lnTo>
                    <a:pt x="2067" y="937"/>
                  </a:lnTo>
                  <a:lnTo>
                    <a:pt x="2002" y="962"/>
                  </a:lnTo>
                  <a:lnTo>
                    <a:pt x="1939" y="988"/>
                  </a:lnTo>
                  <a:lnTo>
                    <a:pt x="1877" y="1013"/>
                  </a:lnTo>
                  <a:lnTo>
                    <a:pt x="1815" y="1039"/>
                  </a:lnTo>
                  <a:lnTo>
                    <a:pt x="1754" y="1065"/>
                  </a:lnTo>
                  <a:lnTo>
                    <a:pt x="1694" y="1092"/>
                  </a:lnTo>
                  <a:lnTo>
                    <a:pt x="1635" y="1118"/>
                  </a:lnTo>
                  <a:lnTo>
                    <a:pt x="1577" y="1146"/>
                  </a:lnTo>
                  <a:lnTo>
                    <a:pt x="1519" y="1173"/>
                  </a:lnTo>
                  <a:lnTo>
                    <a:pt x="1463" y="1201"/>
                  </a:lnTo>
                  <a:lnTo>
                    <a:pt x="1407" y="1229"/>
                  </a:lnTo>
                  <a:lnTo>
                    <a:pt x="1353" y="1256"/>
                  </a:lnTo>
                  <a:lnTo>
                    <a:pt x="1299" y="1285"/>
                  </a:lnTo>
                  <a:lnTo>
                    <a:pt x="1247" y="1313"/>
                  </a:lnTo>
                  <a:lnTo>
                    <a:pt x="1195" y="1342"/>
                  </a:lnTo>
                  <a:lnTo>
                    <a:pt x="1145" y="1371"/>
                  </a:lnTo>
                  <a:lnTo>
                    <a:pt x="1095" y="1400"/>
                  </a:lnTo>
                  <a:lnTo>
                    <a:pt x="1046" y="1429"/>
                  </a:lnTo>
                  <a:lnTo>
                    <a:pt x="999" y="1459"/>
                  </a:lnTo>
                  <a:lnTo>
                    <a:pt x="952" y="1490"/>
                  </a:lnTo>
                  <a:lnTo>
                    <a:pt x="906" y="1519"/>
                  </a:lnTo>
                  <a:lnTo>
                    <a:pt x="862" y="1550"/>
                  </a:lnTo>
                  <a:lnTo>
                    <a:pt x="818" y="1580"/>
                  </a:lnTo>
                  <a:lnTo>
                    <a:pt x="775" y="1611"/>
                  </a:lnTo>
                  <a:lnTo>
                    <a:pt x="734" y="1642"/>
                  </a:lnTo>
                  <a:lnTo>
                    <a:pt x="693" y="1673"/>
                  </a:lnTo>
                  <a:lnTo>
                    <a:pt x="653" y="1705"/>
                  </a:lnTo>
                  <a:lnTo>
                    <a:pt x="615" y="1736"/>
                  </a:lnTo>
                  <a:lnTo>
                    <a:pt x="578" y="1769"/>
                  </a:lnTo>
                  <a:lnTo>
                    <a:pt x="542" y="1800"/>
                  </a:lnTo>
                  <a:lnTo>
                    <a:pt x="506" y="1833"/>
                  </a:lnTo>
                  <a:lnTo>
                    <a:pt x="472" y="1866"/>
                  </a:lnTo>
                  <a:lnTo>
                    <a:pt x="439" y="1898"/>
                  </a:lnTo>
                  <a:lnTo>
                    <a:pt x="407" y="1932"/>
                  </a:lnTo>
                  <a:lnTo>
                    <a:pt x="376" y="1965"/>
                  </a:lnTo>
                  <a:lnTo>
                    <a:pt x="346" y="1998"/>
                  </a:lnTo>
                  <a:lnTo>
                    <a:pt x="318" y="2032"/>
                  </a:lnTo>
                  <a:lnTo>
                    <a:pt x="291" y="2065"/>
                  </a:lnTo>
                  <a:lnTo>
                    <a:pt x="264" y="2100"/>
                  </a:lnTo>
                  <a:lnTo>
                    <a:pt x="240" y="2134"/>
                  </a:lnTo>
                  <a:lnTo>
                    <a:pt x="215" y="2168"/>
                  </a:lnTo>
                  <a:lnTo>
                    <a:pt x="193" y="2203"/>
                  </a:lnTo>
                  <a:lnTo>
                    <a:pt x="172" y="2238"/>
                  </a:lnTo>
                  <a:lnTo>
                    <a:pt x="151" y="2273"/>
                  </a:lnTo>
                  <a:lnTo>
                    <a:pt x="132" y="2309"/>
                  </a:lnTo>
                  <a:lnTo>
                    <a:pt x="114" y="2344"/>
                  </a:lnTo>
                  <a:lnTo>
                    <a:pt x="98" y="2379"/>
                  </a:lnTo>
                  <a:lnTo>
                    <a:pt x="82" y="2416"/>
                  </a:lnTo>
                  <a:lnTo>
                    <a:pt x="68" y="2452"/>
                  </a:lnTo>
                  <a:lnTo>
                    <a:pt x="55" y="2489"/>
                  </a:lnTo>
                  <a:lnTo>
                    <a:pt x="44" y="2524"/>
                  </a:lnTo>
                  <a:lnTo>
                    <a:pt x="34" y="2561"/>
                  </a:lnTo>
                  <a:lnTo>
                    <a:pt x="24" y="2599"/>
                  </a:lnTo>
                  <a:lnTo>
                    <a:pt x="17" y="2635"/>
                  </a:lnTo>
                  <a:lnTo>
                    <a:pt x="11" y="2672"/>
                  </a:lnTo>
                  <a:lnTo>
                    <a:pt x="6" y="2710"/>
                  </a:lnTo>
                  <a:lnTo>
                    <a:pt x="3" y="2746"/>
                  </a:lnTo>
                  <a:lnTo>
                    <a:pt x="1" y="2784"/>
                  </a:lnTo>
                  <a:lnTo>
                    <a:pt x="0" y="2822"/>
                  </a:lnTo>
                  <a:lnTo>
                    <a:pt x="99" y="2822"/>
                  </a:lnTo>
                  <a:lnTo>
                    <a:pt x="100" y="2788"/>
                  </a:lnTo>
                  <a:lnTo>
                    <a:pt x="101" y="2754"/>
                  </a:lnTo>
                  <a:lnTo>
                    <a:pt x="105" y="2720"/>
                  </a:lnTo>
                  <a:lnTo>
                    <a:pt x="109" y="2686"/>
                  </a:lnTo>
                  <a:lnTo>
                    <a:pt x="114" y="2653"/>
                  </a:lnTo>
                  <a:lnTo>
                    <a:pt x="121" y="2619"/>
                  </a:lnTo>
                  <a:lnTo>
                    <a:pt x="129" y="2586"/>
                  </a:lnTo>
                  <a:lnTo>
                    <a:pt x="138" y="2553"/>
                  </a:lnTo>
                  <a:lnTo>
                    <a:pt x="148" y="2519"/>
                  </a:lnTo>
                  <a:lnTo>
                    <a:pt x="161" y="2487"/>
                  </a:lnTo>
                  <a:lnTo>
                    <a:pt x="173" y="2453"/>
                  </a:lnTo>
                  <a:lnTo>
                    <a:pt x="187" y="2420"/>
                  </a:lnTo>
                  <a:lnTo>
                    <a:pt x="202" y="2388"/>
                  </a:lnTo>
                  <a:lnTo>
                    <a:pt x="219" y="2354"/>
                  </a:lnTo>
                  <a:lnTo>
                    <a:pt x="237" y="2321"/>
                  </a:lnTo>
                  <a:lnTo>
                    <a:pt x="256" y="2289"/>
                  </a:lnTo>
                  <a:lnTo>
                    <a:pt x="275" y="2256"/>
                  </a:lnTo>
                  <a:lnTo>
                    <a:pt x="297" y="2224"/>
                  </a:lnTo>
                  <a:lnTo>
                    <a:pt x="319" y="2191"/>
                  </a:lnTo>
                  <a:lnTo>
                    <a:pt x="343" y="2159"/>
                  </a:lnTo>
                  <a:lnTo>
                    <a:pt x="368" y="2127"/>
                  </a:lnTo>
                  <a:lnTo>
                    <a:pt x="394" y="2095"/>
                  </a:lnTo>
                  <a:lnTo>
                    <a:pt x="421" y="2063"/>
                  </a:lnTo>
                  <a:lnTo>
                    <a:pt x="449" y="2031"/>
                  </a:lnTo>
                  <a:lnTo>
                    <a:pt x="479" y="1999"/>
                  </a:lnTo>
                  <a:lnTo>
                    <a:pt x="509" y="1968"/>
                  </a:lnTo>
                  <a:lnTo>
                    <a:pt x="541" y="1936"/>
                  </a:lnTo>
                  <a:lnTo>
                    <a:pt x="573" y="1905"/>
                  </a:lnTo>
                  <a:lnTo>
                    <a:pt x="608" y="1874"/>
                  </a:lnTo>
                  <a:lnTo>
                    <a:pt x="642" y="1843"/>
                  </a:lnTo>
                  <a:lnTo>
                    <a:pt x="679" y="1813"/>
                  </a:lnTo>
                  <a:lnTo>
                    <a:pt x="715" y="1782"/>
                  </a:lnTo>
                  <a:lnTo>
                    <a:pt x="754" y="1752"/>
                  </a:lnTo>
                  <a:lnTo>
                    <a:pt x="792" y="1721"/>
                  </a:lnTo>
                  <a:lnTo>
                    <a:pt x="833" y="1690"/>
                  </a:lnTo>
                  <a:lnTo>
                    <a:pt x="875" y="1661"/>
                  </a:lnTo>
                  <a:lnTo>
                    <a:pt x="917" y="1631"/>
                  </a:lnTo>
                  <a:lnTo>
                    <a:pt x="961" y="1602"/>
                  </a:lnTo>
                  <a:lnTo>
                    <a:pt x="1006" y="1572"/>
                  </a:lnTo>
                  <a:lnTo>
                    <a:pt x="1051" y="1543"/>
                  </a:lnTo>
                  <a:lnTo>
                    <a:pt x="1097" y="1514"/>
                  </a:lnTo>
                  <a:lnTo>
                    <a:pt x="1145" y="1485"/>
                  </a:lnTo>
                  <a:lnTo>
                    <a:pt x="1194" y="1456"/>
                  </a:lnTo>
                  <a:lnTo>
                    <a:pt x="1244" y="1428"/>
                  </a:lnTo>
                  <a:lnTo>
                    <a:pt x="1294" y="1400"/>
                  </a:lnTo>
                  <a:lnTo>
                    <a:pt x="1346" y="1371"/>
                  </a:lnTo>
                  <a:lnTo>
                    <a:pt x="1398" y="1344"/>
                  </a:lnTo>
                  <a:lnTo>
                    <a:pt x="1452" y="1316"/>
                  </a:lnTo>
                  <a:lnTo>
                    <a:pt x="1507" y="1289"/>
                  </a:lnTo>
                  <a:lnTo>
                    <a:pt x="1562" y="1262"/>
                  </a:lnTo>
                  <a:lnTo>
                    <a:pt x="1618" y="1236"/>
                  </a:lnTo>
                  <a:lnTo>
                    <a:pt x="1675" y="1208"/>
                  </a:lnTo>
                  <a:lnTo>
                    <a:pt x="1733" y="1183"/>
                  </a:lnTo>
                  <a:lnTo>
                    <a:pt x="1793" y="1156"/>
                  </a:lnTo>
                  <a:lnTo>
                    <a:pt x="1853" y="1131"/>
                  </a:lnTo>
                  <a:lnTo>
                    <a:pt x="1913" y="1104"/>
                  </a:lnTo>
                  <a:lnTo>
                    <a:pt x="1975" y="1080"/>
                  </a:lnTo>
                  <a:lnTo>
                    <a:pt x="2038" y="1054"/>
                  </a:lnTo>
                  <a:lnTo>
                    <a:pt x="2102" y="1029"/>
                  </a:lnTo>
                  <a:lnTo>
                    <a:pt x="2166" y="1004"/>
                  </a:lnTo>
                  <a:lnTo>
                    <a:pt x="2231" y="980"/>
                  </a:lnTo>
                  <a:lnTo>
                    <a:pt x="2297" y="956"/>
                  </a:lnTo>
                  <a:lnTo>
                    <a:pt x="2364" y="932"/>
                  </a:lnTo>
                  <a:lnTo>
                    <a:pt x="2432" y="908"/>
                  </a:lnTo>
                  <a:lnTo>
                    <a:pt x="2501" y="885"/>
                  </a:lnTo>
                  <a:lnTo>
                    <a:pt x="2570" y="863"/>
                  </a:lnTo>
                  <a:lnTo>
                    <a:pt x="2641" y="840"/>
                  </a:lnTo>
                  <a:lnTo>
                    <a:pt x="2712" y="818"/>
                  </a:lnTo>
                  <a:lnTo>
                    <a:pt x="2856" y="774"/>
                  </a:lnTo>
                  <a:lnTo>
                    <a:pt x="3003" y="731"/>
                  </a:lnTo>
                  <a:lnTo>
                    <a:pt x="3154" y="689"/>
                  </a:lnTo>
                  <a:lnTo>
                    <a:pt x="3307" y="648"/>
                  </a:lnTo>
                  <a:lnTo>
                    <a:pt x="3464" y="610"/>
                  </a:lnTo>
                  <a:lnTo>
                    <a:pt x="3623" y="572"/>
                  </a:lnTo>
                  <a:lnTo>
                    <a:pt x="3785" y="535"/>
                  </a:lnTo>
                  <a:lnTo>
                    <a:pt x="3950" y="500"/>
                  </a:lnTo>
                  <a:lnTo>
                    <a:pt x="4117" y="466"/>
                  </a:lnTo>
                  <a:lnTo>
                    <a:pt x="4288" y="433"/>
                  </a:lnTo>
                  <a:lnTo>
                    <a:pt x="4459" y="402"/>
                  </a:lnTo>
                  <a:lnTo>
                    <a:pt x="4635" y="372"/>
                  </a:lnTo>
                  <a:lnTo>
                    <a:pt x="4812" y="344"/>
                  </a:lnTo>
                  <a:lnTo>
                    <a:pt x="4992" y="316"/>
                  </a:lnTo>
                  <a:lnTo>
                    <a:pt x="5173" y="291"/>
                  </a:lnTo>
                  <a:lnTo>
                    <a:pt x="5357" y="267"/>
                  </a:lnTo>
                  <a:lnTo>
                    <a:pt x="5543" y="245"/>
                  </a:lnTo>
                  <a:lnTo>
                    <a:pt x="5731" y="223"/>
                  </a:lnTo>
                  <a:lnTo>
                    <a:pt x="5922" y="204"/>
                  </a:lnTo>
                  <a:lnTo>
                    <a:pt x="6114" y="187"/>
                  </a:lnTo>
                  <a:lnTo>
                    <a:pt x="6308" y="170"/>
                  </a:lnTo>
                  <a:lnTo>
                    <a:pt x="6503" y="155"/>
                  </a:lnTo>
                  <a:lnTo>
                    <a:pt x="6702" y="143"/>
                  </a:lnTo>
                  <a:lnTo>
                    <a:pt x="6901" y="131"/>
                  </a:lnTo>
                  <a:lnTo>
                    <a:pt x="7102" y="121"/>
                  </a:lnTo>
                  <a:lnTo>
                    <a:pt x="7304" y="113"/>
                  </a:lnTo>
                  <a:lnTo>
                    <a:pt x="7508" y="107"/>
                  </a:lnTo>
                  <a:lnTo>
                    <a:pt x="7713" y="103"/>
                  </a:lnTo>
                  <a:lnTo>
                    <a:pt x="7920" y="100"/>
                  </a:lnTo>
                  <a:lnTo>
                    <a:pt x="8128" y="99"/>
                  </a:lnTo>
                  <a:lnTo>
                    <a:pt x="8128" y="99"/>
                  </a:lnTo>
                  <a:lnTo>
                    <a:pt x="8128" y="0"/>
                  </a:lnTo>
                  <a:lnTo>
                    <a:pt x="8128" y="0"/>
                  </a:lnTo>
                  <a:lnTo>
                    <a:pt x="8128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72080" y="2489040"/>
              <a:ext cx="403200" cy="1396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8128" y="2822"/>
                  </a:moveTo>
                  <a:lnTo>
                    <a:pt x="8128" y="2822"/>
                  </a:lnTo>
                  <a:lnTo>
                    <a:pt x="8127" y="2784"/>
                  </a:lnTo>
                  <a:lnTo>
                    <a:pt x="8125" y="2746"/>
                  </a:lnTo>
                  <a:lnTo>
                    <a:pt x="8122" y="2710"/>
                  </a:lnTo>
                  <a:lnTo>
                    <a:pt x="8117" y="2672"/>
                  </a:lnTo>
                  <a:lnTo>
                    <a:pt x="8111" y="2635"/>
                  </a:lnTo>
                  <a:lnTo>
                    <a:pt x="8103" y="2599"/>
                  </a:lnTo>
                  <a:lnTo>
                    <a:pt x="8094" y="2561"/>
                  </a:lnTo>
                  <a:lnTo>
                    <a:pt x="8084" y="2524"/>
                  </a:lnTo>
                  <a:lnTo>
                    <a:pt x="8072" y="2489"/>
                  </a:lnTo>
                  <a:lnTo>
                    <a:pt x="8060" y="2452"/>
                  </a:lnTo>
                  <a:lnTo>
                    <a:pt x="8046" y="2416"/>
                  </a:lnTo>
                  <a:lnTo>
                    <a:pt x="8030" y="2379"/>
                  </a:lnTo>
                  <a:lnTo>
                    <a:pt x="8014" y="2344"/>
                  </a:lnTo>
                  <a:lnTo>
                    <a:pt x="7996" y="2309"/>
                  </a:lnTo>
                  <a:lnTo>
                    <a:pt x="7977" y="2273"/>
                  </a:lnTo>
                  <a:lnTo>
                    <a:pt x="7956" y="2238"/>
                  </a:lnTo>
                  <a:lnTo>
                    <a:pt x="7935" y="2203"/>
                  </a:lnTo>
                  <a:lnTo>
                    <a:pt x="7913" y="2168"/>
                  </a:lnTo>
                  <a:lnTo>
                    <a:pt x="7888" y="2134"/>
                  </a:lnTo>
                  <a:lnTo>
                    <a:pt x="7864" y="2100"/>
                  </a:lnTo>
                  <a:lnTo>
                    <a:pt x="7837" y="2065"/>
                  </a:lnTo>
                  <a:lnTo>
                    <a:pt x="7810" y="2032"/>
                  </a:lnTo>
                  <a:lnTo>
                    <a:pt x="7782" y="1998"/>
                  </a:lnTo>
                  <a:lnTo>
                    <a:pt x="7752" y="1965"/>
                  </a:lnTo>
                  <a:lnTo>
                    <a:pt x="7721" y="1932"/>
                  </a:lnTo>
                  <a:lnTo>
                    <a:pt x="7689" y="1898"/>
                  </a:lnTo>
                  <a:lnTo>
                    <a:pt x="7656" y="1866"/>
                  </a:lnTo>
                  <a:lnTo>
                    <a:pt x="7622" y="1833"/>
                  </a:lnTo>
                  <a:lnTo>
                    <a:pt x="7586" y="1800"/>
                  </a:lnTo>
                  <a:lnTo>
                    <a:pt x="7550" y="1769"/>
                  </a:lnTo>
                  <a:lnTo>
                    <a:pt x="7512" y="1736"/>
                  </a:lnTo>
                  <a:lnTo>
                    <a:pt x="7475" y="1705"/>
                  </a:lnTo>
                  <a:lnTo>
                    <a:pt x="7435" y="1673"/>
                  </a:lnTo>
                  <a:lnTo>
                    <a:pt x="7394" y="1642"/>
                  </a:lnTo>
                  <a:lnTo>
                    <a:pt x="7353" y="1611"/>
                  </a:lnTo>
                  <a:lnTo>
                    <a:pt x="7310" y="1580"/>
                  </a:lnTo>
                  <a:lnTo>
                    <a:pt x="7266" y="1550"/>
                  </a:lnTo>
                  <a:lnTo>
                    <a:pt x="7222" y="1519"/>
                  </a:lnTo>
                  <a:lnTo>
                    <a:pt x="7176" y="1490"/>
                  </a:lnTo>
                  <a:lnTo>
                    <a:pt x="7129" y="1459"/>
                  </a:lnTo>
                  <a:lnTo>
                    <a:pt x="7082" y="1429"/>
                  </a:lnTo>
                  <a:lnTo>
                    <a:pt x="7033" y="1400"/>
                  </a:lnTo>
                  <a:lnTo>
                    <a:pt x="6983" y="1371"/>
                  </a:lnTo>
                  <a:lnTo>
                    <a:pt x="6932" y="1342"/>
                  </a:lnTo>
                  <a:lnTo>
                    <a:pt x="6881" y="1313"/>
                  </a:lnTo>
                  <a:lnTo>
                    <a:pt x="6829" y="1285"/>
                  </a:lnTo>
                  <a:lnTo>
                    <a:pt x="6775" y="1256"/>
                  </a:lnTo>
                  <a:lnTo>
                    <a:pt x="6721" y="1229"/>
                  </a:lnTo>
                  <a:lnTo>
                    <a:pt x="6665" y="1201"/>
                  </a:lnTo>
                  <a:lnTo>
                    <a:pt x="6609" y="1173"/>
                  </a:lnTo>
                  <a:lnTo>
                    <a:pt x="6551" y="1146"/>
                  </a:lnTo>
                  <a:lnTo>
                    <a:pt x="6493" y="1118"/>
                  </a:lnTo>
                  <a:lnTo>
                    <a:pt x="6434" y="1092"/>
                  </a:lnTo>
                  <a:lnTo>
                    <a:pt x="6374" y="1065"/>
                  </a:lnTo>
                  <a:lnTo>
                    <a:pt x="6313" y="1039"/>
                  </a:lnTo>
                  <a:lnTo>
                    <a:pt x="6251" y="1013"/>
                  </a:lnTo>
                  <a:lnTo>
                    <a:pt x="6189" y="988"/>
                  </a:lnTo>
                  <a:lnTo>
                    <a:pt x="6125" y="962"/>
                  </a:lnTo>
                  <a:lnTo>
                    <a:pt x="6061" y="937"/>
                  </a:lnTo>
                  <a:lnTo>
                    <a:pt x="5996" y="913"/>
                  </a:lnTo>
                  <a:lnTo>
                    <a:pt x="5930" y="887"/>
                  </a:lnTo>
                  <a:lnTo>
                    <a:pt x="5863" y="864"/>
                  </a:lnTo>
                  <a:lnTo>
                    <a:pt x="5796" y="839"/>
                  </a:lnTo>
                  <a:lnTo>
                    <a:pt x="5727" y="816"/>
                  </a:lnTo>
                  <a:lnTo>
                    <a:pt x="5658" y="792"/>
                  </a:lnTo>
                  <a:lnTo>
                    <a:pt x="5588" y="769"/>
                  </a:lnTo>
                  <a:lnTo>
                    <a:pt x="5517" y="745"/>
                  </a:lnTo>
                  <a:lnTo>
                    <a:pt x="5446" y="723"/>
                  </a:lnTo>
                  <a:lnTo>
                    <a:pt x="5299" y="679"/>
                  </a:lnTo>
                  <a:lnTo>
                    <a:pt x="5151" y="635"/>
                  </a:lnTo>
                  <a:lnTo>
                    <a:pt x="5000" y="593"/>
                  </a:lnTo>
                  <a:lnTo>
                    <a:pt x="4844" y="553"/>
                  </a:lnTo>
                  <a:lnTo>
                    <a:pt x="4687" y="514"/>
                  </a:lnTo>
                  <a:lnTo>
                    <a:pt x="4527" y="475"/>
                  </a:lnTo>
                  <a:lnTo>
                    <a:pt x="4364" y="438"/>
                  </a:lnTo>
                  <a:lnTo>
                    <a:pt x="4198" y="403"/>
                  </a:lnTo>
                  <a:lnTo>
                    <a:pt x="4029" y="369"/>
                  </a:lnTo>
                  <a:lnTo>
                    <a:pt x="3859" y="336"/>
                  </a:lnTo>
                  <a:lnTo>
                    <a:pt x="3685" y="305"/>
                  </a:lnTo>
                  <a:lnTo>
                    <a:pt x="3509" y="274"/>
                  </a:lnTo>
                  <a:lnTo>
                    <a:pt x="3331" y="246"/>
                  </a:lnTo>
                  <a:lnTo>
                    <a:pt x="3151" y="218"/>
                  </a:lnTo>
                  <a:lnTo>
                    <a:pt x="2968" y="193"/>
                  </a:lnTo>
                  <a:lnTo>
                    <a:pt x="2783" y="169"/>
                  </a:lnTo>
                  <a:lnTo>
                    <a:pt x="2596" y="146"/>
                  </a:lnTo>
                  <a:lnTo>
                    <a:pt x="2407" y="126"/>
                  </a:lnTo>
                  <a:lnTo>
                    <a:pt x="2216" y="106"/>
                  </a:lnTo>
                  <a:lnTo>
                    <a:pt x="2023" y="88"/>
                  </a:lnTo>
                  <a:lnTo>
                    <a:pt x="1828" y="71"/>
                  </a:lnTo>
                  <a:lnTo>
                    <a:pt x="1631" y="57"/>
                  </a:lnTo>
                  <a:lnTo>
                    <a:pt x="1433" y="44"/>
                  </a:lnTo>
                  <a:lnTo>
                    <a:pt x="1232" y="33"/>
                  </a:lnTo>
                  <a:lnTo>
                    <a:pt x="1030" y="23"/>
                  </a:lnTo>
                  <a:lnTo>
                    <a:pt x="827" y="14"/>
                  </a:lnTo>
                  <a:lnTo>
                    <a:pt x="623" y="8"/>
                  </a:lnTo>
                  <a:lnTo>
                    <a:pt x="417" y="4"/>
                  </a:lnTo>
                  <a:lnTo>
                    <a:pt x="209" y="1"/>
                  </a:lnTo>
                  <a:lnTo>
                    <a:pt x="0" y="0"/>
                  </a:lnTo>
                  <a:lnTo>
                    <a:pt x="0" y="99"/>
                  </a:lnTo>
                  <a:lnTo>
                    <a:pt x="208" y="100"/>
                  </a:lnTo>
                  <a:lnTo>
                    <a:pt x="415" y="103"/>
                  </a:lnTo>
                  <a:lnTo>
                    <a:pt x="620" y="107"/>
                  </a:lnTo>
                  <a:lnTo>
                    <a:pt x="824" y="113"/>
                  </a:lnTo>
                  <a:lnTo>
                    <a:pt x="1026" y="121"/>
                  </a:lnTo>
                  <a:lnTo>
                    <a:pt x="1227" y="131"/>
                  </a:lnTo>
                  <a:lnTo>
                    <a:pt x="1426" y="143"/>
                  </a:lnTo>
                  <a:lnTo>
                    <a:pt x="1625" y="155"/>
                  </a:lnTo>
                  <a:lnTo>
                    <a:pt x="1820" y="170"/>
                  </a:lnTo>
                  <a:lnTo>
                    <a:pt x="2014" y="187"/>
                  </a:lnTo>
                  <a:lnTo>
                    <a:pt x="2206" y="204"/>
                  </a:lnTo>
                  <a:lnTo>
                    <a:pt x="2397" y="223"/>
                  </a:lnTo>
                  <a:lnTo>
                    <a:pt x="2585" y="245"/>
                  </a:lnTo>
                  <a:lnTo>
                    <a:pt x="2771" y="267"/>
                  </a:lnTo>
                  <a:lnTo>
                    <a:pt x="2955" y="291"/>
                  </a:lnTo>
                  <a:lnTo>
                    <a:pt x="3136" y="316"/>
                  </a:lnTo>
                  <a:lnTo>
                    <a:pt x="3316" y="344"/>
                  </a:lnTo>
                  <a:lnTo>
                    <a:pt x="3493" y="372"/>
                  </a:lnTo>
                  <a:lnTo>
                    <a:pt x="3669" y="402"/>
                  </a:lnTo>
                  <a:lnTo>
                    <a:pt x="3840" y="433"/>
                  </a:lnTo>
                  <a:lnTo>
                    <a:pt x="4011" y="466"/>
                  </a:lnTo>
                  <a:lnTo>
                    <a:pt x="4178" y="500"/>
                  </a:lnTo>
                  <a:lnTo>
                    <a:pt x="4342" y="535"/>
                  </a:lnTo>
                  <a:lnTo>
                    <a:pt x="4505" y="572"/>
                  </a:lnTo>
                  <a:lnTo>
                    <a:pt x="4664" y="610"/>
                  </a:lnTo>
                  <a:lnTo>
                    <a:pt x="4821" y="648"/>
                  </a:lnTo>
                  <a:lnTo>
                    <a:pt x="4974" y="689"/>
                  </a:lnTo>
                  <a:lnTo>
                    <a:pt x="5125" y="731"/>
                  </a:lnTo>
                  <a:lnTo>
                    <a:pt x="5272" y="774"/>
                  </a:lnTo>
                  <a:lnTo>
                    <a:pt x="5416" y="818"/>
                  </a:lnTo>
                  <a:lnTo>
                    <a:pt x="5487" y="840"/>
                  </a:lnTo>
                  <a:lnTo>
                    <a:pt x="5558" y="863"/>
                  </a:lnTo>
                  <a:lnTo>
                    <a:pt x="5627" y="885"/>
                  </a:lnTo>
                  <a:lnTo>
                    <a:pt x="5696" y="908"/>
                  </a:lnTo>
                  <a:lnTo>
                    <a:pt x="5764" y="932"/>
                  </a:lnTo>
                  <a:lnTo>
                    <a:pt x="5831" y="956"/>
                  </a:lnTo>
                  <a:lnTo>
                    <a:pt x="5897" y="980"/>
                  </a:lnTo>
                  <a:lnTo>
                    <a:pt x="5962" y="1004"/>
                  </a:lnTo>
                  <a:lnTo>
                    <a:pt x="6026" y="1029"/>
                  </a:lnTo>
                  <a:lnTo>
                    <a:pt x="6090" y="1054"/>
                  </a:lnTo>
                  <a:lnTo>
                    <a:pt x="6153" y="1080"/>
                  </a:lnTo>
                  <a:lnTo>
                    <a:pt x="6215" y="1104"/>
                  </a:lnTo>
                  <a:lnTo>
                    <a:pt x="6275" y="1131"/>
                  </a:lnTo>
                  <a:lnTo>
                    <a:pt x="6335" y="1156"/>
                  </a:lnTo>
                  <a:lnTo>
                    <a:pt x="6395" y="1183"/>
                  </a:lnTo>
                  <a:lnTo>
                    <a:pt x="6453" y="1208"/>
                  </a:lnTo>
                  <a:lnTo>
                    <a:pt x="6510" y="1236"/>
                  </a:lnTo>
                  <a:lnTo>
                    <a:pt x="6566" y="1262"/>
                  </a:lnTo>
                  <a:lnTo>
                    <a:pt x="6621" y="1289"/>
                  </a:lnTo>
                  <a:lnTo>
                    <a:pt x="6676" y="1316"/>
                  </a:lnTo>
                  <a:lnTo>
                    <a:pt x="6730" y="1344"/>
                  </a:lnTo>
                  <a:lnTo>
                    <a:pt x="6782" y="1371"/>
                  </a:lnTo>
                  <a:lnTo>
                    <a:pt x="6834" y="1400"/>
                  </a:lnTo>
                  <a:lnTo>
                    <a:pt x="6884" y="1428"/>
                  </a:lnTo>
                  <a:lnTo>
                    <a:pt x="6934" y="1456"/>
                  </a:lnTo>
                  <a:lnTo>
                    <a:pt x="6983" y="1485"/>
                  </a:lnTo>
                  <a:lnTo>
                    <a:pt x="7031" y="1514"/>
                  </a:lnTo>
                  <a:lnTo>
                    <a:pt x="7076" y="1543"/>
                  </a:lnTo>
                  <a:lnTo>
                    <a:pt x="7122" y="1572"/>
                  </a:lnTo>
                  <a:lnTo>
                    <a:pt x="7167" y="1602"/>
                  </a:lnTo>
                  <a:lnTo>
                    <a:pt x="7211" y="1631"/>
                  </a:lnTo>
                  <a:lnTo>
                    <a:pt x="7253" y="1661"/>
                  </a:lnTo>
                  <a:lnTo>
                    <a:pt x="7295" y="1690"/>
                  </a:lnTo>
                  <a:lnTo>
                    <a:pt x="7335" y="1721"/>
                  </a:lnTo>
                  <a:lnTo>
                    <a:pt x="7374" y="1752"/>
                  </a:lnTo>
                  <a:lnTo>
                    <a:pt x="7413" y="1782"/>
                  </a:lnTo>
                  <a:lnTo>
                    <a:pt x="7449" y="1813"/>
                  </a:lnTo>
                  <a:lnTo>
                    <a:pt x="7486" y="1843"/>
                  </a:lnTo>
                  <a:lnTo>
                    <a:pt x="7520" y="1874"/>
                  </a:lnTo>
                  <a:lnTo>
                    <a:pt x="7555" y="1905"/>
                  </a:lnTo>
                  <a:lnTo>
                    <a:pt x="7587" y="1936"/>
                  </a:lnTo>
                  <a:lnTo>
                    <a:pt x="7619" y="1968"/>
                  </a:lnTo>
                  <a:lnTo>
                    <a:pt x="7649" y="1999"/>
                  </a:lnTo>
                  <a:lnTo>
                    <a:pt x="7679" y="2031"/>
                  </a:lnTo>
                  <a:lnTo>
                    <a:pt x="7707" y="2063"/>
                  </a:lnTo>
                  <a:lnTo>
                    <a:pt x="7734" y="2095"/>
                  </a:lnTo>
                  <a:lnTo>
                    <a:pt x="7760" y="2127"/>
                  </a:lnTo>
                  <a:lnTo>
                    <a:pt x="7785" y="2159"/>
                  </a:lnTo>
                  <a:lnTo>
                    <a:pt x="7808" y="2191"/>
                  </a:lnTo>
                  <a:lnTo>
                    <a:pt x="7830" y="2224"/>
                  </a:lnTo>
                  <a:lnTo>
                    <a:pt x="7853" y="2256"/>
                  </a:lnTo>
                  <a:lnTo>
                    <a:pt x="7872" y="2289"/>
                  </a:lnTo>
                  <a:lnTo>
                    <a:pt x="7891" y="2321"/>
                  </a:lnTo>
                  <a:lnTo>
                    <a:pt x="7909" y="2354"/>
                  </a:lnTo>
                  <a:lnTo>
                    <a:pt x="7925" y="2388"/>
                  </a:lnTo>
                  <a:lnTo>
                    <a:pt x="7941" y="2420"/>
                  </a:lnTo>
                  <a:lnTo>
                    <a:pt x="7954" y="2453"/>
                  </a:lnTo>
                  <a:lnTo>
                    <a:pt x="7967" y="2487"/>
                  </a:lnTo>
                  <a:lnTo>
                    <a:pt x="7980" y="2519"/>
                  </a:lnTo>
                  <a:lnTo>
                    <a:pt x="7990" y="2553"/>
                  </a:lnTo>
                  <a:lnTo>
                    <a:pt x="7999" y="2586"/>
                  </a:lnTo>
                  <a:lnTo>
                    <a:pt x="8007" y="2619"/>
                  </a:lnTo>
                  <a:lnTo>
                    <a:pt x="8014" y="2653"/>
                  </a:lnTo>
                  <a:lnTo>
                    <a:pt x="8019" y="2686"/>
                  </a:lnTo>
                  <a:lnTo>
                    <a:pt x="8023" y="2720"/>
                  </a:lnTo>
                  <a:lnTo>
                    <a:pt x="8026" y="2754"/>
                  </a:lnTo>
                  <a:lnTo>
                    <a:pt x="8028" y="2788"/>
                  </a:lnTo>
                  <a:lnTo>
                    <a:pt x="8029" y="2822"/>
                  </a:lnTo>
                  <a:lnTo>
                    <a:pt x="8029" y="2822"/>
                  </a:lnTo>
                  <a:lnTo>
                    <a:pt x="8128" y="2822"/>
                  </a:lnTo>
                  <a:lnTo>
                    <a:pt x="8128" y="2822"/>
                  </a:lnTo>
                  <a:lnTo>
                    <a:pt x="8128" y="282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68520" y="2638080"/>
              <a:ext cx="5040" cy="282600"/>
            </a:xfrm>
            <a:prstGeom prst="rect">
              <a:avLst/>
            </a:pr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70240" y="2638080"/>
              <a:ext cx="5040" cy="282600"/>
            </a:xfrm>
            <a:prstGeom prst="rect">
              <a:avLst/>
            </a:pr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71760" y="2474640"/>
              <a:ext cx="800280" cy="274680"/>
            </a:xfrm>
            <a:custGeom>
              <a:avLst/>
              <a:gdLst/>
              <a:ahLst/>
              <a:rect l="l" t="t" r="r" b="b"/>
              <a:pathLst>
                <a:path w="16156" h="5548">
                  <a:moveTo>
                    <a:pt x="16156" y="2776"/>
                  </a:moveTo>
                  <a:lnTo>
                    <a:pt x="16146" y="2919"/>
                  </a:lnTo>
                  <a:lnTo>
                    <a:pt x="16115" y="3060"/>
                  </a:lnTo>
                  <a:lnTo>
                    <a:pt x="16064" y="3198"/>
                  </a:lnTo>
                  <a:lnTo>
                    <a:pt x="15993" y="3335"/>
                  </a:lnTo>
                  <a:lnTo>
                    <a:pt x="15902" y="3468"/>
                  </a:lnTo>
                  <a:lnTo>
                    <a:pt x="15794" y="3600"/>
                  </a:lnTo>
                  <a:lnTo>
                    <a:pt x="15667" y="3729"/>
                  </a:lnTo>
                  <a:lnTo>
                    <a:pt x="15521" y="3855"/>
                  </a:lnTo>
                  <a:lnTo>
                    <a:pt x="15360" y="3978"/>
                  </a:lnTo>
                  <a:lnTo>
                    <a:pt x="15181" y="4097"/>
                  </a:lnTo>
                  <a:lnTo>
                    <a:pt x="14987" y="4214"/>
                  </a:lnTo>
                  <a:lnTo>
                    <a:pt x="14776" y="4326"/>
                  </a:lnTo>
                  <a:lnTo>
                    <a:pt x="14551" y="4435"/>
                  </a:lnTo>
                  <a:lnTo>
                    <a:pt x="14311" y="4539"/>
                  </a:lnTo>
                  <a:lnTo>
                    <a:pt x="14057" y="4640"/>
                  </a:lnTo>
                  <a:lnTo>
                    <a:pt x="13790" y="4737"/>
                  </a:lnTo>
                  <a:lnTo>
                    <a:pt x="13509" y="4828"/>
                  </a:lnTo>
                  <a:lnTo>
                    <a:pt x="13216" y="4915"/>
                  </a:lnTo>
                  <a:lnTo>
                    <a:pt x="12910" y="4998"/>
                  </a:lnTo>
                  <a:lnTo>
                    <a:pt x="12594" y="5075"/>
                  </a:lnTo>
                  <a:lnTo>
                    <a:pt x="12266" y="5146"/>
                  </a:lnTo>
                  <a:lnTo>
                    <a:pt x="11928" y="5214"/>
                  </a:lnTo>
                  <a:lnTo>
                    <a:pt x="11579" y="5275"/>
                  </a:lnTo>
                  <a:lnTo>
                    <a:pt x="11222" y="5330"/>
                  </a:lnTo>
                  <a:lnTo>
                    <a:pt x="10855" y="5380"/>
                  </a:lnTo>
                  <a:lnTo>
                    <a:pt x="10480" y="5424"/>
                  </a:lnTo>
                  <a:lnTo>
                    <a:pt x="10096" y="5461"/>
                  </a:lnTo>
                  <a:lnTo>
                    <a:pt x="9706" y="5492"/>
                  </a:lnTo>
                  <a:lnTo>
                    <a:pt x="9307" y="5517"/>
                  </a:lnTo>
                  <a:lnTo>
                    <a:pt x="8904" y="5534"/>
                  </a:lnTo>
                  <a:lnTo>
                    <a:pt x="8494" y="5545"/>
                  </a:lnTo>
                  <a:lnTo>
                    <a:pt x="8078" y="5548"/>
                  </a:lnTo>
                  <a:lnTo>
                    <a:pt x="7662" y="5545"/>
                  </a:lnTo>
                  <a:lnTo>
                    <a:pt x="7252" y="5534"/>
                  </a:lnTo>
                  <a:lnTo>
                    <a:pt x="6849" y="5517"/>
                  </a:lnTo>
                  <a:lnTo>
                    <a:pt x="6450" y="5492"/>
                  </a:lnTo>
                  <a:lnTo>
                    <a:pt x="6060" y="5461"/>
                  </a:lnTo>
                  <a:lnTo>
                    <a:pt x="5676" y="5424"/>
                  </a:lnTo>
                  <a:lnTo>
                    <a:pt x="5301" y="5380"/>
                  </a:lnTo>
                  <a:lnTo>
                    <a:pt x="4934" y="5330"/>
                  </a:lnTo>
                  <a:lnTo>
                    <a:pt x="4577" y="5275"/>
                  </a:lnTo>
                  <a:lnTo>
                    <a:pt x="4228" y="5214"/>
                  </a:lnTo>
                  <a:lnTo>
                    <a:pt x="3890" y="5146"/>
                  </a:lnTo>
                  <a:lnTo>
                    <a:pt x="3562" y="5075"/>
                  </a:lnTo>
                  <a:lnTo>
                    <a:pt x="3245" y="4998"/>
                  </a:lnTo>
                  <a:lnTo>
                    <a:pt x="2940" y="4915"/>
                  </a:lnTo>
                  <a:lnTo>
                    <a:pt x="2647" y="4828"/>
                  </a:lnTo>
                  <a:lnTo>
                    <a:pt x="2366" y="4737"/>
                  </a:lnTo>
                  <a:lnTo>
                    <a:pt x="2099" y="4640"/>
                  </a:lnTo>
                  <a:lnTo>
                    <a:pt x="1845" y="4539"/>
                  </a:lnTo>
                  <a:lnTo>
                    <a:pt x="1605" y="4435"/>
                  </a:lnTo>
                  <a:lnTo>
                    <a:pt x="1380" y="4326"/>
                  </a:lnTo>
                  <a:lnTo>
                    <a:pt x="1169" y="4214"/>
                  </a:lnTo>
                  <a:lnTo>
                    <a:pt x="975" y="4097"/>
                  </a:lnTo>
                  <a:lnTo>
                    <a:pt x="796" y="3978"/>
                  </a:lnTo>
                  <a:lnTo>
                    <a:pt x="635" y="3855"/>
                  </a:lnTo>
                  <a:lnTo>
                    <a:pt x="489" y="3729"/>
                  </a:lnTo>
                  <a:lnTo>
                    <a:pt x="362" y="3600"/>
                  </a:lnTo>
                  <a:lnTo>
                    <a:pt x="254" y="3468"/>
                  </a:lnTo>
                  <a:lnTo>
                    <a:pt x="163" y="3335"/>
                  </a:lnTo>
                  <a:lnTo>
                    <a:pt x="92" y="3198"/>
                  </a:lnTo>
                  <a:lnTo>
                    <a:pt x="41" y="3060"/>
                  </a:lnTo>
                  <a:lnTo>
                    <a:pt x="10" y="2919"/>
                  </a:lnTo>
                  <a:lnTo>
                    <a:pt x="0" y="2776"/>
                  </a:lnTo>
                  <a:lnTo>
                    <a:pt x="10" y="2634"/>
                  </a:lnTo>
                  <a:lnTo>
                    <a:pt x="41" y="2492"/>
                  </a:lnTo>
                  <a:lnTo>
                    <a:pt x="92" y="2353"/>
                  </a:lnTo>
                  <a:lnTo>
                    <a:pt x="163" y="2217"/>
                  </a:lnTo>
                  <a:lnTo>
                    <a:pt x="254" y="2082"/>
                  </a:lnTo>
                  <a:lnTo>
                    <a:pt x="362" y="1951"/>
                  </a:lnTo>
                  <a:lnTo>
                    <a:pt x="489" y="1821"/>
                  </a:lnTo>
                  <a:lnTo>
                    <a:pt x="635" y="1695"/>
                  </a:lnTo>
                  <a:lnTo>
                    <a:pt x="796" y="1572"/>
                  </a:lnTo>
                  <a:lnTo>
                    <a:pt x="975" y="1452"/>
                  </a:lnTo>
                  <a:lnTo>
                    <a:pt x="1169" y="1336"/>
                  </a:lnTo>
                  <a:lnTo>
                    <a:pt x="1380" y="1224"/>
                  </a:lnTo>
                  <a:lnTo>
                    <a:pt x="1605" y="1115"/>
                  </a:lnTo>
                  <a:lnTo>
                    <a:pt x="1845" y="1010"/>
                  </a:lnTo>
                  <a:lnTo>
                    <a:pt x="2099" y="909"/>
                  </a:lnTo>
                  <a:lnTo>
                    <a:pt x="2366" y="813"/>
                  </a:lnTo>
                  <a:lnTo>
                    <a:pt x="2647" y="721"/>
                  </a:lnTo>
                  <a:lnTo>
                    <a:pt x="2940" y="633"/>
                  </a:lnTo>
                  <a:lnTo>
                    <a:pt x="3245" y="551"/>
                  </a:lnTo>
                  <a:lnTo>
                    <a:pt x="3562" y="474"/>
                  </a:lnTo>
                  <a:lnTo>
                    <a:pt x="3890" y="402"/>
                  </a:lnTo>
                  <a:lnTo>
                    <a:pt x="4228" y="335"/>
                  </a:lnTo>
                  <a:lnTo>
                    <a:pt x="4577" y="274"/>
                  </a:lnTo>
                  <a:lnTo>
                    <a:pt x="4934" y="219"/>
                  </a:lnTo>
                  <a:lnTo>
                    <a:pt x="5301" y="169"/>
                  </a:lnTo>
                  <a:lnTo>
                    <a:pt x="5676" y="125"/>
                  </a:lnTo>
                  <a:lnTo>
                    <a:pt x="6060" y="87"/>
                  </a:lnTo>
                  <a:lnTo>
                    <a:pt x="6450" y="56"/>
                  </a:lnTo>
                  <a:lnTo>
                    <a:pt x="6849" y="32"/>
                  </a:lnTo>
                  <a:lnTo>
                    <a:pt x="7252" y="15"/>
                  </a:lnTo>
                  <a:lnTo>
                    <a:pt x="7662" y="3"/>
                  </a:lnTo>
                  <a:lnTo>
                    <a:pt x="8078" y="0"/>
                  </a:lnTo>
                  <a:lnTo>
                    <a:pt x="8494" y="3"/>
                  </a:lnTo>
                  <a:lnTo>
                    <a:pt x="8904" y="15"/>
                  </a:lnTo>
                  <a:lnTo>
                    <a:pt x="9307" y="32"/>
                  </a:lnTo>
                  <a:lnTo>
                    <a:pt x="9706" y="56"/>
                  </a:lnTo>
                  <a:lnTo>
                    <a:pt x="10096" y="87"/>
                  </a:lnTo>
                  <a:lnTo>
                    <a:pt x="10480" y="125"/>
                  </a:lnTo>
                  <a:lnTo>
                    <a:pt x="10855" y="169"/>
                  </a:lnTo>
                  <a:lnTo>
                    <a:pt x="11222" y="219"/>
                  </a:lnTo>
                  <a:lnTo>
                    <a:pt x="11579" y="274"/>
                  </a:lnTo>
                  <a:lnTo>
                    <a:pt x="11928" y="335"/>
                  </a:lnTo>
                  <a:lnTo>
                    <a:pt x="12266" y="402"/>
                  </a:lnTo>
                  <a:lnTo>
                    <a:pt x="12594" y="474"/>
                  </a:lnTo>
                  <a:lnTo>
                    <a:pt x="12910" y="551"/>
                  </a:lnTo>
                  <a:lnTo>
                    <a:pt x="13216" y="633"/>
                  </a:lnTo>
                  <a:lnTo>
                    <a:pt x="13509" y="721"/>
                  </a:lnTo>
                  <a:lnTo>
                    <a:pt x="13790" y="813"/>
                  </a:lnTo>
                  <a:lnTo>
                    <a:pt x="14057" y="909"/>
                  </a:lnTo>
                  <a:lnTo>
                    <a:pt x="14311" y="1010"/>
                  </a:lnTo>
                  <a:lnTo>
                    <a:pt x="14551" y="1115"/>
                  </a:lnTo>
                  <a:lnTo>
                    <a:pt x="14776" y="1224"/>
                  </a:lnTo>
                  <a:lnTo>
                    <a:pt x="14987" y="1336"/>
                  </a:lnTo>
                  <a:lnTo>
                    <a:pt x="15181" y="1452"/>
                  </a:lnTo>
                  <a:lnTo>
                    <a:pt x="15360" y="1572"/>
                  </a:lnTo>
                  <a:lnTo>
                    <a:pt x="15521" y="1695"/>
                  </a:lnTo>
                  <a:lnTo>
                    <a:pt x="15667" y="1821"/>
                  </a:lnTo>
                  <a:lnTo>
                    <a:pt x="15794" y="1951"/>
                  </a:lnTo>
                  <a:lnTo>
                    <a:pt x="15902" y="2082"/>
                  </a:lnTo>
                  <a:lnTo>
                    <a:pt x="15993" y="2217"/>
                  </a:lnTo>
                  <a:lnTo>
                    <a:pt x="16064" y="2353"/>
                  </a:lnTo>
                  <a:lnTo>
                    <a:pt x="16115" y="2492"/>
                  </a:lnTo>
                  <a:lnTo>
                    <a:pt x="16146" y="2634"/>
                  </a:lnTo>
                  <a:lnTo>
                    <a:pt x="16156" y="2776"/>
                  </a:lnTo>
                  <a:close/>
                </a:path>
              </a:pathLst>
            </a:custGeom>
            <a:solidFill>
              <a:srgbClr val="a04f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72080" y="2611080"/>
              <a:ext cx="403200" cy="1414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0" y="2822"/>
                  </a:moveTo>
                  <a:lnTo>
                    <a:pt x="0" y="2822"/>
                  </a:lnTo>
                  <a:lnTo>
                    <a:pt x="209" y="2821"/>
                  </a:lnTo>
                  <a:lnTo>
                    <a:pt x="417" y="2818"/>
                  </a:lnTo>
                  <a:lnTo>
                    <a:pt x="623" y="2814"/>
                  </a:lnTo>
                  <a:lnTo>
                    <a:pt x="827" y="2808"/>
                  </a:lnTo>
                  <a:lnTo>
                    <a:pt x="1030" y="2800"/>
                  </a:lnTo>
                  <a:lnTo>
                    <a:pt x="1232" y="2789"/>
                  </a:lnTo>
                  <a:lnTo>
                    <a:pt x="1433" y="2778"/>
                  </a:lnTo>
                  <a:lnTo>
                    <a:pt x="1631" y="2765"/>
                  </a:lnTo>
                  <a:lnTo>
                    <a:pt x="1828" y="2751"/>
                  </a:lnTo>
                  <a:lnTo>
                    <a:pt x="2023" y="2734"/>
                  </a:lnTo>
                  <a:lnTo>
                    <a:pt x="2216" y="2716"/>
                  </a:lnTo>
                  <a:lnTo>
                    <a:pt x="2407" y="2697"/>
                  </a:lnTo>
                  <a:lnTo>
                    <a:pt x="2596" y="2676"/>
                  </a:lnTo>
                  <a:lnTo>
                    <a:pt x="2783" y="2653"/>
                  </a:lnTo>
                  <a:lnTo>
                    <a:pt x="2968" y="2629"/>
                  </a:lnTo>
                  <a:lnTo>
                    <a:pt x="3151" y="2603"/>
                  </a:lnTo>
                  <a:lnTo>
                    <a:pt x="3331" y="2576"/>
                  </a:lnTo>
                  <a:lnTo>
                    <a:pt x="3509" y="2548"/>
                  </a:lnTo>
                  <a:lnTo>
                    <a:pt x="3685" y="2517"/>
                  </a:lnTo>
                  <a:lnTo>
                    <a:pt x="3859" y="2487"/>
                  </a:lnTo>
                  <a:lnTo>
                    <a:pt x="4029" y="2454"/>
                  </a:lnTo>
                  <a:lnTo>
                    <a:pt x="4198" y="2419"/>
                  </a:lnTo>
                  <a:lnTo>
                    <a:pt x="4364" y="2384"/>
                  </a:lnTo>
                  <a:lnTo>
                    <a:pt x="4527" y="2347"/>
                  </a:lnTo>
                  <a:lnTo>
                    <a:pt x="4687" y="2308"/>
                  </a:lnTo>
                  <a:lnTo>
                    <a:pt x="4844" y="2270"/>
                  </a:lnTo>
                  <a:lnTo>
                    <a:pt x="5000" y="2229"/>
                  </a:lnTo>
                  <a:lnTo>
                    <a:pt x="5151" y="2187"/>
                  </a:lnTo>
                  <a:lnTo>
                    <a:pt x="5226" y="2166"/>
                  </a:lnTo>
                  <a:lnTo>
                    <a:pt x="5299" y="2143"/>
                  </a:lnTo>
                  <a:lnTo>
                    <a:pt x="5373" y="2122"/>
                  </a:lnTo>
                  <a:lnTo>
                    <a:pt x="5446" y="2099"/>
                  </a:lnTo>
                  <a:lnTo>
                    <a:pt x="5517" y="2077"/>
                  </a:lnTo>
                  <a:lnTo>
                    <a:pt x="5588" y="2053"/>
                  </a:lnTo>
                  <a:lnTo>
                    <a:pt x="5658" y="2030"/>
                  </a:lnTo>
                  <a:lnTo>
                    <a:pt x="5727" y="2007"/>
                  </a:lnTo>
                  <a:lnTo>
                    <a:pt x="5796" y="1983"/>
                  </a:lnTo>
                  <a:lnTo>
                    <a:pt x="5863" y="1959"/>
                  </a:lnTo>
                  <a:lnTo>
                    <a:pt x="5930" y="1935"/>
                  </a:lnTo>
                  <a:lnTo>
                    <a:pt x="5996" y="1910"/>
                  </a:lnTo>
                  <a:lnTo>
                    <a:pt x="6061" y="1885"/>
                  </a:lnTo>
                  <a:lnTo>
                    <a:pt x="6125" y="1860"/>
                  </a:lnTo>
                  <a:lnTo>
                    <a:pt x="6189" y="1834"/>
                  </a:lnTo>
                  <a:lnTo>
                    <a:pt x="6251" y="1809"/>
                  </a:lnTo>
                  <a:lnTo>
                    <a:pt x="6313" y="1783"/>
                  </a:lnTo>
                  <a:lnTo>
                    <a:pt x="6374" y="1757"/>
                  </a:lnTo>
                  <a:lnTo>
                    <a:pt x="6434" y="1730"/>
                  </a:lnTo>
                  <a:lnTo>
                    <a:pt x="6493" y="1704"/>
                  </a:lnTo>
                  <a:lnTo>
                    <a:pt x="6551" y="1676"/>
                  </a:lnTo>
                  <a:lnTo>
                    <a:pt x="6609" y="1650"/>
                  </a:lnTo>
                  <a:lnTo>
                    <a:pt x="6665" y="1622"/>
                  </a:lnTo>
                  <a:lnTo>
                    <a:pt x="6721" y="1594"/>
                  </a:lnTo>
                  <a:lnTo>
                    <a:pt x="6775" y="1566"/>
                  </a:lnTo>
                  <a:lnTo>
                    <a:pt x="6829" y="1538"/>
                  </a:lnTo>
                  <a:lnTo>
                    <a:pt x="6881" y="1509"/>
                  </a:lnTo>
                  <a:lnTo>
                    <a:pt x="6932" y="1481"/>
                  </a:lnTo>
                  <a:lnTo>
                    <a:pt x="6983" y="1452"/>
                  </a:lnTo>
                  <a:lnTo>
                    <a:pt x="7033" y="1422"/>
                  </a:lnTo>
                  <a:lnTo>
                    <a:pt x="7082" y="1393"/>
                  </a:lnTo>
                  <a:lnTo>
                    <a:pt x="7129" y="1363"/>
                  </a:lnTo>
                  <a:lnTo>
                    <a:pt x="7176" y="1333"/>
                  </a:lnTo>
                  <a:lnTo>
                    <a:pt x="7222" y="1303"/>
                  </a:lnTo>
                  <a:lnTo>
                    <a:pt x="7266" y="1273"/>
                  </a:lnTo>
                  <a:lnTo>
                    <a:pt x="7310" y="1242"/>
                  </a:lnTo>
                  <a:lnTo>
                    <a:pt x="7353" y="1211"/>
                  </a:lnTo>
                  <a:lnTo>
                    <a:pt x="7394" y="1180"/>
                  </a:lnTo>
                  <a:lnTo>
                    <a:pt x="7435" y="1149"/>
                  </a:lnTo>
                  <a:lnTo>
                    <a:pt x="7475" y="1118"/>
                  </a:lnTo>
                  <a:lnTo>
                    <a:pt x="7512" y="1086"/>
                  </a:lnTo>
                  <a:lnTo>
                    <a:pt x="7550" y="1053"/>
                  </a:lnTo>
                  <a:lnTo>
                    <a:pt x="7586" y="1022"/>
                  </a:lnTo>
                  <a:lnTo>
                    <a:pt x="7622" y="989"/>
                  </a:lnTo>
                  <a:lnTo>
                    <a:pt x="7656" y="957"/>
                  </a:lnTo>
                  <a:lnTo>
                    <a:pt x="7689" y="924"/>
                  </a:lnTo>
                  <a:lnTo>
                    <a:pt x="7721" y="891"/>
                  </a:lnTo>
                  <a:lnTo>
                    <a:pt x="7752" y="858"/>
                  </a:lnTo>
                  <a:lnTo>
                    <a:pt x="7782" y="824"/>
                  </a:lnTo>
                  <a:lnTo>
                    <a:pt x="7810" y="790"/>
                  </a:lnTo>
                  <a:lnTo>
                    <a:pt x="7837" y="757"/>
                  </a:lnTo>
                  <a:lnTo>
                    <a:pt x="7864" y="723"/>
                  </a:lnTo>
                  <a:lnTo>
                    <a:pt x="7888" y="688"/>
                  </a:lnTo>
                  <a:lnTo>
                    <a:pt x="7913" y="654"/>
                  </a:lnTo>
                  <a:lnTo>
                    <a:pt x="7935" y="619"/>
                  </a:lnTo>
                  <a:lnTo>
                    <a:pt x="7956" y="584"/>
                  </a:lnTo>
                  <a:lnTo>
                    <a:pt x="7977" y="549"/>
                  </a:lnTo>
                  <a:lnTo>
                    <a:pt x="7996" y="514"/>
                  </a:lnTo>
                  <a:lnTo>
                    <a:pt x="8014" y="478"/>
                  </a:lnTo>
                  <a:lnTo>
                    <a:pt x="8030" y="443"/>
                  </a:lnTo>
                  <a:lnTo>
                    <a:pt x="8046" y="406"/>
                  </a:lnTo>
                  <a:lnTo>
                    <a:pt x="8060" y="370"/>
                  </a:lnTo>
                  <a:lnTo>
                    <a:pt x="8072" y="334"/>
                  </a:lnTo>
                  <a:lnTo>
                    <a:pt x="8084" y="297"/>
                  </a:lnTo>
                  <a:lnTo>
                    <a:pt x="8094" y="261"/>
                  </a:lnTo>
                  <a:lnTo>
                    <a:pt x="8103" y="225"/>
                  </a:lnTo>
                  <a:lnTo>
                    <a:pt x="8111" y="187"/>
                  </a:lnTo>
                  <a:lnTo>
                    <a:pt x="8117" y="150"/>
                  </a:lnTo>
                  <a:lnTo>
                    <a:pt x="8122" y="112"/>
                  </a:lnTo>
                  <a:lnTo>
                    <a:pt x="8125" y="75"/>
                  </a:lnTo>
                  <a:lnTo>
                    <a:pt x="8127" y="38"/>
                  </a:lnTo>
                  <a:lnTo>
                    <a:pt x="8128" y="0"/>
                  </a:lnTo>
                  <a:lnTo>
                    <a:pt x="8029" y="0"/>
                  </a:lnTo>
                  <a:lnTo>
                    <a:pt x="8028" y="34"/>
                  </a:lnTo>
                  <a:lnTo>
                    <a:pt x="8026" y="69"/>
                  </a:lnTo>
                  <a:lnTo>
                    <a:pt x="8023" y="102"/>
                  </a:lnTo>
                  <a:lnTo>
                    <a:pt x="8019" y="136"/>
                  </a:lnTo>
                  <a:lnTo>
                    <a:pt x="8014" y="170"/>
                  </a:lnTo>
                  <a:lnTo>
                    <a:pt x="8007" y="203"/>
                  </a:lnTo>
                  <a:lnTo>
                    <a:pt x="7999" y="236"/>
                  </a:lnTo>
                  <a:lnTo>
                    <a:pt x="7990" y="269"/>
                  </a:lnTo>
                  <a:lnTo>
                    <a:pt x="7980" y="303"/>
                  </a:lnTo>
                  <a:lnTo>
                    <a:pt x="7967" y="336"/>
                  </a:lnTo>
                  <a:lnTo>
                    <a:pt x="7954" y="369"/>
                  </a:lnTo>
                  <a:lnTo>
                    <a:pt x="7941" y="402"/>
                  </a:lnTo>
                  <a:lnTo>
                    <a:pt x="7925" y="436"/>
                  </a:lnTo>
                  <a:lnTo>
                    <a:pt x="7909" y="468"/>
                  </a:lnTo>
                  <a:lnTo>
                    <a:pt x="7891" y="501"/>
                  </a:lnTo>
                  <a:lnTo>
                    <a:pt x="7872" y="533"/>
                  </a:lnTo>
                  <a:lnTo>
                    <a:pt x="7853" y="566"/>
                  </a:lnTo>
                  <a:lnTo>
                    <a:pt x="7830" y="599"/>
                  </a:lnTo>
                  <a:lnTo>
                    <a:pt x="7808" y="631"/>
                  </a:lnTo>
                  <a:lnTo>
                    <a:pt x="7785" y="663"/>
                  </a:lnTo>
                  <a:lnTo>
                    <a:pt x="7760" y="696"/>
                  </a:lnTo>
                  <a:lnTo>
                    <a:pt x="7734" y="727"/>
                  </a:lnTo>
                  <a:lnTo>
                    <a:pt x="7707" y="760"/>
                  </a:lnTo>
                  <a:lnTo>
                    <a:pt x="7679" y="791"/>
                  </a:lnTo>
                  <a:lnTo>
                    <a:pt x="7649" y="823"/>
                  </a:lnTo>
                  <a:lnTo>
                    <a:pt x="7619" y="855"/>
                  </a:lnTo>
                  <a:lnTo>
                    <a:pt x="7587" y="886"/>
                  </a:lnTo>
                  <a:lnTo>
                    <a:pt x="7555" y="917"/>
                  </a:lnTo>
                  <a:lnTo>
                    <a:pt x="7520" y="948"/>
                  </a:lnTo>
                  <a:lnTo>
                    <a:pt x="7486" y="979"/>
                  </a:lnTo>
                  <a:lnTo>
                    <a:pt x="7449" y="1010"/>
                  </a:lnTo>
                  <a:lnTo>
                    <a:pt x="7413" y="1040"/>
                  </a:lnTo>
                  <a:lnTo>
                    <a:pt x="7374" y="1071"/>
                  </a:lnTo>
                  <a:lnTo>
                    <a:pt x="7335" y="1101"/>
                  </a:lnTo>
                  <a:lnTo>
                    <a:pt x="7295" y="1132"/>
                  </a:lnTo>
                  <a:lnTo>
                    <a:pt x="7253" y="1161"/>
                  </a:lnTo>
                  <a:lnTo>
                    <a:pt x="7211" y="1191"/>
                  </a:lnTo>
                  <a:lnTo>
                    <a:pt x="7167" y="1221"/>
                  </a:lnTo>
                  <a:lnTo>
                    <a:pt x="7122" y="1250"/>
                  </a:lnTo>
                  <a:lnTo>
                    <a:pt x="7076" y="1280"/>
                  </a:lnTo>
                  <a:lnTo>
                    <a:pt x="7031" y="1308"/>
                  </a:lnTo>
                  <a:lnTo>
                    <a:pt x="6983" y="1338"/>
                  </a:lnTo>
                  <a:lnTo>
                    <a:pt x="6934" y="1366"/>
                  </a:lnTo>
                  <a:lnTo>
                    <a:pt x="6884" y="1394"/>
                  </a:lnTo>
                  <a:lnTo>
                    <a:pt x="6834" y="1422"/>
                  </a:lnTo>
                  <a:lnTo>
                    <a:pt x="6782" y="1451"/>
                  </a:lnTo>
                  <a:lnTo>
                    <a:pt x="6730" y="1478"/>
                  </a:lnTo>
                  <a:lnTo>
                    <a:pt x="6676" y="1506"/>
                  </a:lnTo>
                  <a:lnTo>
                    <a:pt x="6621" y="1534"/>
                  </a:lnTo>
                  <a:lnTo>
                    <a:pt x="6566" y="1560"/>
                  </a:lnTo>
                  <a:lnTo>
                    <a:pt x="6510" y="1588"/>
                  </a:lnTo>
                  <a:lnTo>
                    <a:pt x="6453" y="1614"/>
                  </a:lnTo>
                  <a:lnTo>
                    <a:pt x="6395" y="1641"/>
                  </a:lnTo>
                  <a:lnTo>
                    <a:pt x="6335" y="1666"/>
                  </a:lnTo>
                  <a:lnTo>
                    <a:pt x="6275" y="1693"/>
                  </a:lnTo>
                  <a:lnTo>
                    <a:pt x="6215" y="1718"/>
                  </a:lnTo>
                  <a:lnTo>
                    <a:pt x="6152" y="1744"/>
                  </a:lnTo>
                  <a:lnTo>
                    <a:pt x="6090" y="1768"/>
                  </a:lnTo>
                  <a:lnTo>
                    <a:pt x="6026" y="1793"/>
                  </a:lnTo>
                  <a:lnTo>
                    <a:pt x="5962" y="1818"/>
                  </a:lnTo>
                  <a:lnTo>
                    <a:pt x="5897" y="1842"/>
                  </a:lnTo>
                  <a:lnTo>
                    <a:pt x="5831" y="1866"/>
                  </a:lnTo>
                  <a:lnTo>
                    <a:pt x="5764" y="1890"/>
                  </a:lnTo>
                  <a:lnTo>
                    <a:pt x="5696" y="1914"/>
                  </a:lnTo>
                  <a:lnTo>
                    <a:pt x="5627" y="1937"/>
                  </a:lnTo>
                  <a:lnTo>
                    <a:pt x="5558" y="1960"/>
                  </a:lnTo>
                  <a:lnTo>
                    <a:pt x="5487" y="1982"/>
                  </a:lnTo>
                  <a:lnTo>
                    <a:pt x="5416" y="2004"/>
                  </a:lnTo>
                  <a:lnTo>
                    <a:pt x="5344" y="2027"/>
                  </a:lnTo>
                  <a:lnTo>
                    <a:pt x="5272" y="2049"/>
                  </a:lnTo>
                  <a:lnTo>
                    <a:pt x="5199" y="2071"/>
                  </a:lnTo>
                  <a:lnTo>
                    <a:pt x="5125" y="2091"/>
                  </a:lnTo>
                  <a:lnTo>
                    <a:pt x="4974" y="2133"/>
                  </a:lnTo>
                  <a:lnTo>
                    <a:pt x="4821" y="2174"/>
                  </a:lnTo>
                  <a:lnTo>
                    <a:pt x="4664" y="2212"/>
                  </a:lnTo>
                  <a:lnTo>
                    <a:pt x="4505" y="2250"/>
                  </a:lnTo>
                  <a:lnTo>
                    <a:pt x="4342" y="2287"/>
                  </a:lnTo>
                  <a:lnTo>
                    <a:pt x="4178" y="2323"/>
                  </a:lnTo>
                  <a:lnTo>
                    <a:pt x="4011" y="2356"/>
                  </a:lnTo>
                  <a:lnTo>
                    <a:pt x="3840" y="2389"/>
                  </a:lnTo>
                  <a:lnTo>
                    <a:pt x="3669" y="2420"/>
                  </a:lnTo>
                  <a:lnTo>
                    <a:pt x="3493" y="2450"/>
                  </a:lnTo>
                  <a:lnTo>
                    <a:pt x="3316" y="2479"/>
                  </a:lnTo>
                  <a:lnTo>
                    <a:pt x="3136" y="2505"/>
                  </a:lnTo>
                  <a:lnTo>
                    <a:pt x="2955" y="2532"/>
                  </a:lnTo>
                  <a:lnTo>
                    <a:pt x="2771" y="2555"/>
                  </a:lnTo>
                  <a:lnTo>
                    <a:pt x="2585" y="2577"/>
                  </a:lnTo>
                  <a:lnTo>
                    <a:pt x="2397" y="2599"/>
                  </a:lnTo>
                  <a:lnTo>
                    <a:pt x="2206" y="2618"/>
                  </a:lnTo>
                  <a:lnTo>
                    <a:pt x="2014" y="2636"/>
                  </a:lnTo>
                  <a:lnTo>
                    <a:pt x="1820" y="2652"/>
                  </a:lnTo>
                  <a:lnTo>
                    <a:pt x="1625" y="2667"/>
                  </a:lnTo>
                  <a:lnTo>
                    <a:pt x="1426" y="2679"/>
                  </a:lnTo>
                  <a:lnTo>
                    <a:pt x="1227" y="2692"/>
                  </a:lnTo>
                  <a:lnTo>
                    <a:pt x="1026" y="2701"/>
                  </a:lnTo>
                  <a:lnTo>
                    <a:pt x="824" y="2709"/>
                  </a:lnTo>
                  <a:lnTo>
                    <a:pt x="620" y="2715"/>
                  </a:lnTo>
                  <a:lnTo>
                    <a:pt x="415" y="2719"/>
                  </a:lnTo>
                  <a:lnTo>
                    <a:pt x="208" y="2722"/>
                  </a:lnTo>
                  <a:lnTo>
                    <a:pt x="0" y="2723"/>
                  </a:lnTo>
                  <a:lnTo>
                    <a:pt x="0" y="2723"/>
                  </a:lnTo>
                  <a:lnTo>
                    <a:pt x="0" y="2822"/>
                  </a:lnTo>
                  <a:lnTo>
                    <a:pt x="0" y="2822"/>
                  </a:lnTo>
                  <a:lnTo>
                    <a:pt x="0" y="2822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68520" y="2611080"/>
              <a:ext cx="403560" cy="1414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0" y="0"/>
                  </a:moveTo>
                  <a:lnTo>
                    <a:pt x="0" y="0"/>
                  </a:lnTo>
                  <a:lnTo>
                    <a:pt x="1" y="38"/>
                  </a:lnTo>
                  <a:lnTo>
                    <a:pt x="3" y="75"/>
                  </a:lnTo>
                  <a:lnTo>
                    <a:pt x="6" y="112"/>
                  </a:lnTo>
                  <a:lnTo>
                    <a:pt x="11" y="150"/>
                  </a:lnTo>
                  <a:lnTo>
                    <a:pt x="17" y="187"/>
                  </a:lnTo>
                  <a:lnTo>
                    <a:pt x="24" y="225"/>
                  </a:lnTo>
                  <a:lnTo>
                    <a:pt x="34" y="261"/>
                  </a:lnTo>
                  <a:lnTo>
                    <a:pt x="44" y="297"/>
                  </a:lnTo>
                  <a:lnTo>
                    <a:pt x="55" y="334"/>
                  </a:lnTo>
                  <a:lnTo>
                    <a:pt x="68" y="370"/>
                  </a:lnTo>
                  <a:lnTo>
                    <a:pt x="82" y="407"/>
                  </a:lnTo>
                  <a:lnTo>
                    <a:pt x="98" y="443"/>
                  </a:lnTo>
                  <a:lnTo>
                    <a:pt x="114" y="478"/>
                  </a:lnTo>
                  <a:lnTo>
                    <a:pt x="132" y="514"/>
                  </a:lnTo>
                  <a:lnTo>
                    <a:pt x="151" y="549"/>
                  </a:lnTo>
                  <a:lnTo>
                    <a:pt x="172" y="584"/>
                  </a:lnTo>
                  <a:lnTo>
                    <a:pt x="193" y="619"/>
                  </a:lnTo>
                  <a:lnTo>
                    <a:pt x="215" y="654"/>
                  </a:lnTo>
                  <a:lnTo>
                    <a:pt x="240" y="688"/>
                  </a:lnTo>
                  <a:lnTo>
                    <a:pt x="264" y="722"/>
                  </a:lnTo>
                  <a:lnTo>
                    <a:pt x="291" y="757"/>
                  </a:lnTo>
                  <a:lnTo>
                    <a:pt x="318" y="790"/>
                  </a:lnTo>
                  <a:lnTo>
                    <a:pt x="346" y="824"/>
                  </a:lnTo>
                  <a:lnTo>
                    <a:pt x="376" y="858"/>
                  </a:lnTo>
                  <a:lnTo>
                    <a:pt x="407" y="891"/>
                  </a:lnTo>
                  <a:lnTo>
                    <a:pt x="439" y="924"/>
                  </a:lnTo>
                  <a:lnTo>
                    <a:pt x="472" y="957"/>
                  </a:lnTo>
                  <a:lnTo>
                    <a:pt x="506" y="989"/>
                  </a:lnTo>
                  <a:lnTo>
                    <a:pt x="542" y="1022"/>
                  </a:lnTo>
                  <a:lnTo>
                    <a:pt x="578" y="1053"/>
                  </a:lnTo>
                  <a:lnTo>
                    <a:pt x="615" y="1086"/>
                  </a:lnTo>
                  <a:lnTo>
                    <a:pt x="653" y="1118"/>
                  </a:lnTo>
                  <a:lnTo>
                    <a:pt x="693" y="1149"/>
                  </a:lnTo>
                  <a:lnTo>
                    <a:pt x="734" y="1180"/>
                  </a:lnTo>
                  <a:lnTo>
                    <a:pt x="775" y="1211"/>
                  </a:lnTo>
                  <a:lnTo>
                    <a:pt x="818" y="1242"/>
                  </a:lnTo>
                  <a:lnTo>
                    <a:pt x="862" y="1273"/>
                  </a:lnTo>
                  <a:lnTo>
                    <a:pt x="906" y="1303"/>
                  </a:lnTo>
                  <a:lnTo>
                    <a:pt x="952" y="1333"/>
                  </a:lnTo>
                  <a:lnTo>
                    <a:pt x="999" y="1363"/>
                  </a:lnTo>
                  <a:lnTo>
                    <a:pt x="1046" y="1393"/>
                  </a:lnTo>
                  <a:lnTo>
                    <a:pt x="1095" y="1422"/>
                  </a:lnTo>
                  <a:lnTo>
                    <a:pt x="1145" y="1452"/>
                  </a:lnTo>
                  <a:lnTo>
                    <a:pt x="1195" y="1481"/>
                  </a:lnTo>
                  <a:lnTo>
                    <a:pt x="1247" y="1509"/>
                  </a:lnTo>
                  <a:lnTo>
                    <a:pt x="1299" y="1538"/>
                  </a:lnTo>
                  <a:lnTo>
                    <a:pt x="1353" y="1566"/>
                  </a:lnTo>
                  <a:lnTo>
                    <a:pt x="1407" y="1594"/>
                  </a:lnTo>
                  <a:lnTo>
                    <a:pt x="1463" y="1622"/>
                  </a:lnTo>
                  <a:lnTo>
                    <a:pt x="1519" y="1650"/>
                  </a:lnTo>
                  <a:lnTo>
                    <a:pt x="1577" y="1676"/>
                  </a:lnTo>
                  <a:lnTo>
                    <a:pt x="1635" y="1704"/>
                  </a:lnTo>
                  <a:lnTo>
                    <a:pt x="1694" y="1730"/>
                  </a:lnTo>
                  <a:lnTo>
                    <a:pt x="1754" y="1757"/>
                  </a:lnTo>
                  <a:lnTo>
                    <a:pt x="1815" y="1783"/>
                  </a:lnTo>
                  <a:lnTo>
                    <a:pt x="1877" y="1809"/>
                  </a:lnTo>
                  <a:lnTo>
                    <a:pt x="1939" y="1834"/>
                  </a:lnTo>
                  <a:lnTo>
                    <a:pt x="2002" y="1860"/>
                  </a:lnTo>
                  <a:lnTo>
                    <a:pt x="2067" y="1885"/>
                  </a:lnTo>
                  <a:lnTo>
                    <a:pt x="2132" y="1910"/>
                  </a:lnTo>
                  <a:lnTo>
                    <a:pt x="2198" y="1935"/>
                  </a:lnTo>
                  <a:lnTo>
                    <a:pt x="2265" y="1959"/>
                  </a:lnTo>
                  <a:lnTo>
                    <a:pt x="2332" y="1983"/>
                  </a:lnTo>
                  <a:lnTo>
                    <a:pt x="2401" y="2007"/>
                  </a:lnTo>
                  <a:lnTo>
                    <a:pt x="2470" y="2030"/>
                  </a:lnTo>
                  <a:lnTo>
                    <a:pt x="2540" y="2053"/>
                  </a:lnTo>
                  <a:lnTo>
                    <a:pt x="2611" y="2077"/>
                  </a:lnTo>
                  <a:lnTo>
                    <a:pt x="2682" y="2099"/>
                  </a:lnTo>
                  <a:lnTo>
                    <a:pt x="2754" y="2122"/>
                  </a:lnTo>
                  <a:lnTo>
                    <a:pt x="2829" y="2143"/>
                  </a:lnTo>
                  <a:lnTo>
                    <a:pt x="2902" y="2166"/>
                  </a:lnTo>
                  <a:lnTo>
                    <a:pt x="2977" y="2187"/>
                  </a:lnTo>
                  <a:lnTo>
                    <a:pt x="3128" y="2229"/>
                  </a:lnTo>
                  <a:lnTo>
                    <a:pt x="3284" y="2270"/>
                  </a:lnTo>
                  <a:lnTo>
                    <a:pt x="3441" y="2308"/>
                  </a:lnTo>
                  <a:lnTo>
                    <a:pt x="3601" y="2347"/>
                  </a:lnTo>
                  <a:lnTo>
                    <a:pt x="3764" y="2384"/>
                  </a:lnTo>
                  <a:lnTo>
                    <a:pt x="3930" y="2419"/>
                  </a:lnTo>
                  <a:lnTo>
                    <a:pt x="4099" y="2454"/>
                  </a:lnTo>
                  <a:lnTo>
                    <a:pt x="4269" y="2487"/>
                  </a:lnTo>
                  <a:lnTo>
                    <a:pt x="4443" y="2517"/>
                  </a:lnTo>
                  <a:lnTo>
                    <a:pt x="4619" y="2548"/>
                  </a:lnTo>
                  <a:lnTo>
                    <a:pt x="4797" y="2576"/>
                  </a:lnTo>
                  <a:lnTo>
                    <a:pt x="4977" y="2603"/>
                  </a:lnTo>
                  <a:lnTo>
                    <a:pt x="5160" y="2629"/>
                  </a:lnTo>
                  <a:lnTo>
                    <a:pt x="5345" y="2653"/>
                  </a:lnTo>
                  <a:lnTo>
                    <a:pt x="5532" y="2676"/>
                  </a:lnTo>
                  <a:lnTo>
                    <a:pt x="5721" y="2697"/>
                  </a:lnTo>
                  <a:lnTo>
                    <a:pt x="5912" y="2716"/>
                  </a:lnTo>
                  <a:lnTo>
                    <a:pt x="6105" y="2734"/>
                  </a:lnTo>
                  <a:lnTo>
                    <a:pt x="6300" y="2751"/>
                  </a:lnTo>
                  <a:lnTo>
                    <a:pt x="6497" y="2765"/>
                  </a:lnTo>
                  <a:lnTo>
                    <a:pt x="6695" y="2778"/>
                  </a:lnTo>
                  <a:lnTo>
                    <a:pt x="6896" y="2789"/>
                  </a:lnTo>
                  <a:lnTo>
                    <a:pt x="7098" y="2800"/>
                  </a:lnTo>
                  <a:lnTo>
                    <a:pt x="7301" y="2808"/>
                  </a:lnTo>
                  <a:lnTo>
                    <a:pt x="7505" y="2814"/>
                  </a:lnTo>
                  <a:lnTo>
                    <a:pt x="7711" y="2818"/>
                  </a:lnTo>
                  <a:lnTo>
                    <a:pt x="7920" y="2821"/>
                  </a:lnTo>
                  <a:lnTo>
                    <a:pt x="8128" y="2822"/>
                  </a:lnTo>
                  <a:lnTo>
                    <a:pt x="8128" y="2723"/>
                  </a:lnTo>
                  <a:lnTo>
                    <a:pt x="7920" y="2722"/>
                  </a:lnTo>
                  <a:lnTo>
                    <a:pt x="7713" y="2719"/>
                  </a:lnTo>
                  <a:lnTo>
                    <a:pt x="7508" y="2715"/>
                  </a:lnTo>
                  <a:lnTo>
                    <a:pt x="7304" y="2709"/>
                  </a:lnTo>
                  <a:lnTo>
                    <a:pt x="7102" y="2701"/>
                  </a:lnTo>
                  <a:lnTo>
                    <a:pt x="6901" y="2692"/>
                  </a:lnTo>
                  <a:lnTo>
                    <a:pt x="6702" y="2679"/>
                  </a:lnTo>
                  <a:lnTo>
                    <a:pt x="6503" y="2667"/>
                  </a:lnTo>
                  <a:lnTo>
                    <a:pt x="6308" y="2652"/>
                  </a:lnTo>
                  <a:lnTo>
                    <a:pt x="6114" y="2636"/>
                  </a:lnTo>
                  <a:lnTo>
                    <a:pt x="5922" y="2618"/>
                  </a:lnTo>
                  <a:lnTo>
                    <a:pt x="5731" y="2599"/>
                  </a:lnTo>
                  <a:lnTo>
                    <a:pt x="5543" y="2577"/>
                  </a:lnTo>
                  <a:lnTo>
                    <a:pt x="5357" y="2555"/>
                  </a:lnTo>
                  <a:lnTo>
                    <a:pt x="5173" y="2532"/>
                  </a:lnTo>
                  <a:lnTo>
                    <a:pt x="4992" y="2505"/>
                  </a:lnTo>
                  <a:lnTo>
                    <a:pt x="4812" y="2479"/>
                  </a:lnTo>
                  <a:lnTo>
                    <a:pt x="4635" y="2450"/>
                  </a:lnTo>
                  <a:lnTo>
                    <a:pt x="4459" y="2420"/>
                  </a:lnTo>
                  <a:lnTo>
                    <a:pt x="4288" y="2389"/>
                  </a:lnTo>
                  <a:lnTo>
                    <a:pt x="4117" y="2356"/>
                  </a:lnTo>
                  <a:lnTo>
                    <a:pt x="3950" y="2323"/>
                  </a:lnTo>
                  <a:lnTo>
                    <a:pt x="3785" y="2287"/>
                  </a:lnTo>
                  <a:lnTo>
                    <a:pt x="3623" y="2250"/>
                  </a:lnTo>
                  <a:lnTo>
                    <a:pt x="3464" y="2212"/>
                  </a:lnTo>
                  <a:lnTo>
                    <a:pt x="3307" y="2174"/>
                  </a:lnTo>
                  <a:lnTo>
                    <a:pt x="3154" y="2133"/>
                  </a:lnTo>
                  <a:lnTo>
                    <a:pt x="3003" y="2091"/>
                  </a:lnTo>
                  <a:lnTo>
                    <a:pt x="2929" y="2071"/>
                  </a:lnTo>
                  <a:lnTo>
                    <a:pt x="2856" y="2049"/>
                  </a:lnTo>
                  <a:lnTo>
                    <a:pt x="2784" y="2027"/>
                  </a:lnTo>
                  <a:lnTo>
                    <a:pt x="2712" y="2004"/>
                  </a:lnTo>
                  <a:lnTo>
                    <a:pt x="2641" y="1982"/>
                  </a:lnTo>
                  <a:lnTo>
                    <a:pt x="2570" y="1960"/>
                  </a:lnTo>
                  <a:lnTo>
                    <a:pt x="2501" y="1937"/>
                  </a:lnTo>
                  <a:lnTo>
                    <a:pt x="2432" y="1914"/>
                  </a:lnTo>
                  <a:lnTo>
                    <a:pt x="2364" y="1890"/>
                  </a:lnTo>
                  <a:lnTo>
                    <a:pt x="2297" y="1866"/>
                  </a:lnTo>
                  <a:lnTo>
                    <a:pt x="2231" y="1842"/>
                  </a:lnTo>
                  <a:lnTo>
                    <a:pt x="2166" y="1818"/>
                  </a:lnTo>
                  <a:lnTo>
                    <a:pt x="2102" y="1793"/>
                  </a:lnTo>
                  <a:lnTo>
                    <a:pt x="2038" y="1768"/>
                  </a:lnTo>
                  <a:lnTo>
                    <a:pt x="1975" y="1744"/>
                  </a:lnTo>
                  <a:lnTo>
                    <a:pt x="1913" y="1718"/>
                  </a:lnTo>
                  <a:lnTo>
                    <a:pt x="1853" y="1693"/>
                  </a:lnTo>
                  <a:lnTo>
                    <a:pt x="1793" y="1666"/>
                  </a:lnTo>
                  <a:lnTo>
                    <a:pt x="1733" y="1641"/>
                  </a:lnTo>
                  <a:lnTo>
                    <a:pt x="1675" y="1614"/>
                  </a:lnTo>
                  <a:lnTo>
                    <a:pt x="1618" y="1588"/>
                  </a:lnTo>
                  <a:lnTo>
                    <a:pt x="1562" y="1560"/>
                  </a:lnTo>
                  <a:lnTo>
                    <a:pt x="1507" y="1534"/>
                  </a:lnTo>
                  <a:lnTo>
                    <a:pt x="1452" y="1506"/>
                  </a:lnTo>
                  <a:lnTo>
                    <a:pt x="1398" y="1478"/>
                  </a:lnTo>
                  <a:lnTo>
                    <a:pt x="1346" y="1451"/>
                  </a:lnTo>
                  <a:lnTo>
                    <a:pt x="1294" y="1422"/>
                  </a:lnTo>
                  <a:lnTo>
                    <a:pt x="1244" y="1394"/>
                  </a:lnTo>
                  <a:lnTo>
                    <a:pt x="1194" y="1366"/>
                  </a:lnTo>
                  <a:lnTo>
                    <a:pt x="1145" y="1338"/>
                  </a:lnTo>
                  <a:lnTo>
                    <a:pt x="1097" y="1308"/>
                  </a:lnTo>
                  <a:lnTo>
                    <a:pt x="1051" y="1280"/>
                  </a:lnTo>
                  <a:lnTo>
                    <a:pt x="1006" y="1250"/>
                  </a:lnTo>
                  <a:lnTo>
                    <a:pt x="961" y="1221"/>
                  </a:lnTo>
                  <a:lnTo>
                    <a:pt x="917" y="1191"/>
                  </a:lnTo>
                  <a:lnTo>
                    <a:pt x="875" y="1161"/>
                  </a:lnTo>
                  <a:lnTo>
                    <a:pt x="833" y="1132"/>
                  </a:lnTo>
                  <a:lnTo>
                    <a:pt x="792" y="1101"/>
                  </a:lnTo>
                  <a:lnTo>
                    <a:pt x="754" y="1071"/>
                  </a:lnTo>
                  <a:lnTo>
                    <a:pt x="715" y="1040"/>
                  </a:lnTo>
                  <a:lnTo>
                    <a:pt x="679" y="1010"/>
                  </a:lnTo>
                  <a:lnTo>
                    <a:pt x="642" y="979"/>
                  </a:lnTo>
                  <a:lnTo>
                    <a:pt x="608" y="948"/>
                  </a:lnTo>
                  <a:lnTo>
                    <a:pt x="573" y="917"/>
                  </a:lnTo>
                  <a:lnTo>
                    <a:pt x="541" y="886"/>
                  </a:lnTo>
                  <a:lnTo>
                    <a:pt x="509" y="855"/>
                  </a:lnTo>
                  <a:lnTo>
                    <a:pt x="479" y="823"/>
                  </a:lnTo>
                  <a:lnTo>
                    <a:pt x="449" y="791"/>
                  </a:lnTo>
                  <a:lnTo>
                    <a:pt x="421" y="760"/>
                  </a:lnTo>
                  <a:lnTo>
                    <a:pt x="394" y="727"/>
                  </a:lnTo>
                  <a:lnTo>
                    <a:pt x="368" y="696"/>
                  </a:lnTo>
                  <a:lnTo>
                    <a:pt x="343" y="663"/>
                  </a:lnTo>
                  <a:lnTo>
                    <a:pt x="319" y="631"/>
                  </a:lnTo>
                  <a:lnTo>
                    <a:pt x="297" y="599"/>
                  </a:lnTo>
                  <a:lnTo>
                    <a:pt x="276" y="566"/>
                  </a:lnTo>
                  <a:lnTo>
                    <a:pt x="256" y="533"/>
                  </a:lnTo>
                  <a:lnTo>
                    <a:pt x="237" y="501"/>
                  </a:lnTo>
                  <a:lnTo>
                    <a:pt x="219" y="468"/>
                  </a:lnTo>
                  <a:lnTo>
                    <a:pt x="202" y="436"/>
                  </a:lnTo>
                  <a:lnTo>
                    <a:pt x="187" y="402"/>
                  </a:lnTo>
                  <a:lnTo>
                    <a:pt x="173" y="369"/>
                  </a:lnTo>
                  <a:lnTo>
                    <a:pt x="161" y="336"/>
                  </a:lnTo>
                  <a:lnTo>
                    <a:pt x="148" y="303"/>
                  </a:lnTo>
                  <a:lnTo>
                    <a:pt x="138" y="269"/>
                  </a:lnTo>
                  <a:lnTo>
                    <a:pt x="129" y="236"/>
                  </a:lnTo>
                  <a:lnTo>
                    <a:pt x="121" y="203"/>
                  </a:lnTo>
                  <a:lnTo>
                    <a:pt x="114" y="170"/>
                  </a:lnTo>
                  <a:lnTo>
                    <a:pt x="109" y="136"/>
                  </a:lnTo>
                  <a:lnTo>
                    <a:pt x="105" y="102"/>
                  </a:lnTo>
                  <a:lnTo>
                    <a:pt x="101" y="69"/>
                  </a:lnTo>
                  <a:lnTo>
                    <a:pt x="100" y="34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68520" y="2471400"/>
              <a:ext cx="403560" cy="139680"/>
            </a:xfrm>
            <a:custGeom>
              <a:avLst/>
              <a:gdLst/>
              <a:ahLst/>
              <a:rect l="l" t="t" r="r" b="b"/>
              <a:pathLst>
                <a:path w="8128" h="2826">
                  <a:moveTo>
                    <a:pt x="8128" y="0"/>
                  </a:moveTo>
                  <a:lnTo>
                    <a:pt x="8128" y="0"/>
                  </a:lnTo>
                  <a:lnTo>
                    <a:pt x="7920" y="1"/>
                  </a:lnTo>
                  <a:lnTo>
                    <a:pt x="7711" y="5"/>
                  </a:lnTo>
                  <a:lnTo>
                    <a:pt x="7505" y="9"/>
                  </a:lnTo>
                  <a:lnTo>
                    <a:pt x="7301" y="15"/>
                  </a:lnTo>
                  <a:lnTo>
                    <a:pt x="7098" y="23"/>
                  </a:lnTo>
                  <a:lnTo>
                    <a:pt x="6896" y="33"/>
                  </a:lnTo>
                  <a:lnTo>
                    <a:pt x="6695" y="44"/>
                  </a:lnTo>
                  <a:lnTo>
                    <a:pt x="6497" y="58"/>
                  </a:lnTo>
                  <a:lnTo>
                    <a:pt x="6300" y="72"/>
                  </a:lnTo>
                  <a:lnTo>
                    <a:pt x="6105" y="88"/>
                  </a:lnTo>
                  <a:lnTo>
                    <a:pt x="5912" y="106"/>
                  </a:lnTo>
                  <a:lnTo>
                    <a:pt x="5721" y="126"/>
                  </a:lnTo>
                  <a:lnTo>
                    <a:pt x="5532" y="147"/>
                  </a:lnTo>
                  <a:lnTo>
                    <a:pt x="5345" y="170"/>
                  </a:lnTo>
                  <a:lnTo>
                    <a:pt x="5160" y="193"/>
                  </a:lnTo>
                  <a:lnTo>
                    <a:pt x="4977" y="220"/>
                  </a:lnTo>
                  <a:lnTo>
                    <a:pt x="4797" y="246"/>
                  </a:lnTo>
                  <a:lnTo>
                    <a:pt x="4619" y="275"/>
                  </a:lnTo>
                  <a:lnTo>
                    <a:pt x="4443" y="305"/>
                  </a:lnTo>
                  <a:lnTo>
                    <a:pt x="4269" y="337"/>
                  </a:lnTo>
                  <a:lnTo>
                    <a:pt x="4099" y="369"/>
                  </a:lnTo>
                  <a:lnTo>
                    <a:pt x="3930" y="403"/>
                  </a:lnTo>
                  <a:lnTo>
                    <a:pt x="3764" y="439"/>
                  </a:lnTo>
                  <a:lnTo>
                    <a:pt x="3601" y="476"/>
                  </a:lnTo>
                  <a:lnTo>
                    <a:pt x="3441" y="514"/>
                  </a:lnTo>
                  <a:lnTo>
                    <a:pt x="3284" y="553"/>
                  </a:lnTo>
                  <a:lnTo>
                    <a:pt x="3128" y="594"/>
                  </a:lnTo>
                  <a:lnTo>
                    <a:pt x="2977" y="637"/>
                  </a:lnTo>
                  <a:lnTo>
                    <a:pt x="2902" y="658"/>
                  </a:lnTo>
                  <a:lnTo>
                    <a:pt x="2829" y="679"/>
                  </a:lnTo>
                  <a:lnTo>
                    <a:pt x="2754" y="702"/>
                  </a:lnTo>
                  <a:lnTo>
                    <a:pt x="2682" y="724"/>
                  </a:lnTo>
                  <a:lnTo>
                    <a:pt x="2611" y="747"/>
                  </a:lnTo>
                  <a:lnTo>
                    <a:pt x="2540" y="769"/>
                  </a:lnTo>
                  <a:lnTo>
                    <a:pt x="2470" y="793"/>
                  </a:lnTo>
                  <a:lnTo>
                    <a:pt x="2401" y="816"/>
                  </a:lnTo>
                  <a:lnTo>
                    <a:pt x="2332" y="839"/>
                  </a:lnTo>
                  <a:lnTo>
                    <a:pt x="2265" y="864"/>
                  </a:lnTo>
                  <a:lnTo>
                    <a:pt x="2198" y="888"/>
                  </a:lnTo>
                  <a:lnTo>
                    <a:pt x="2132" y="913"/>
                  </a:lnTo>
                  <a:lnTo>
                    <a:pt x="2067" y="938"/>
                  </a:lnTo>
                  <a:lnTo>
                    <a:pt x="2002" y="963"/>
                  </a:lnTo>
                  <a:lnTo>
                    <a:pt x="1939" y="988"/>
                  </a:lnTo>
                  <a:lnTo>
                    <a:pt x="1876" y="1015"/>
                  </a:lnTo>
                  <a:lnTo>
                    <a:pt x="1815" y="1040"/>
                  </a:lnTo>
                  <a:lnTo>
                    <a:pt x="1754" y="1067"/>
                  </a:lnTo>
                  <a:lnTo>
                    <a:pt x="1694" y="1093"/>
                  </a:lnTo>
                  <a:lnTo>
                    <a:pt x="1635" y="1120"/>
                  </a:lnTo>
                  <a:lnTo>
                    <a:pt x="1577" y="1147"/>
                  </a:lnTo>
                  <a:lnTo>
                    <a:pt x="1519" y="1174"/>
                  </a:lnTo>
                  <a:lnTo>
                    <a:pt x="1463" y="1201"/>
                  </a:lnTo>
                  <a:lnTo>
                    <a:pt x="1407" y="1230"/>
                  </a:lnTo>
                  <a:lnTo>
                    <a:pt x="1353" y="1257"/>
                  </a:lnTo>
                  <a:lnTo>
                    <a:pt x="1299" y="1286"/>
                  </a:lnTo>
                  <a:lnTo>
                    <a:pt x="1247" y="1314"/>
                  </a:lnTo>
                  <a:lnTo>
                    <a:pt x="1195" y="1343"/>
                  </a:lnTo>
                  <a:lnTo>
                    <a:pt x="1145" y="1373"/>
                  </a:lnTo>
                  <a:lnTo>
                    <a:pt x="1095" y="1401"/>
                  </a:lnTo>
                  <a:lnTo>
                    <a:pt x="1046" y="1431"/>
                  </a:lnTo>
                  <a:lnTo>
                    <a:pt x="999" y="1460"/>
                  </a:lnTo>
                  <a:lnTo>
                    <a:pt x="952" y="1491"/>
                  </a:lnTo>
                  <a:lnTo>
                    <a:pt x="906" y="1521"/>
                  </a:lnTo>
                  <a:lnTo>
                    <a:pt x="862" y="1551"/>
                  </a:lnTo>
                  <a:lnTo>
                    <a:pt x="818" y="1582"/>
                  </a:lnTo>
                  <a:lnTo>
                    <a:pt x="775" y="1613"/>
                  </a:lnTo>
                  <a:lnTo>
                    <a:pt x="734" y="1644"/>
                  </a:lnTo>
                  <a:lnTo>
                    <a:pt x="693" y="1675"/>
                  </a:lnTo>
                  <a:lnTo>
                    <a:pt x="653" y="1707"/>
                  </a:lnTo>
                  <a:lnTo>
                    <a:pt x="615" y="1739"/>
                  </a:lnTo>
                  <a:lnTo>
                    <a:pt x="578" y="1770"/>
                  </a:lnTo>
                  <a:lnTo>
                    <a:pt x="542" y="1803"/>
                  </a:lnTo>
                  <a:lnTo>
                    <a:pt x="506" y="1835"/>
                  </a:lnTo>
                  <a:lnTo>
                    <a:pt x="472" y="1868"/>
                  </a:lnTo>
                  <a:lnTo>
                    <a:pt x="439" y="1901"/>
                  </a:lnTo>
                  <a:lnTo>
                    <a:pt x="407" y="1933"/>
                  </a:lnTo>
                  <a:lnTo>
                    <a:pt x="376" y="1967"/>
                  </a:lnTo>
                  <a:lnTo>
                    <a:pt x="346" y="2001"/>
                  </a:lnTo>
                  <a:lnTo>
                    <a:pt x="318" y="2034"/>
                  </a:lnTo>
                  <a:lnTo>
                    <a:pt x="291" y="2069"/>
                  </a:lnTo>
                  <a:lnTo>
                    <a:pt x="264" y="2103"/>
                  </a:lnTo>
                  <a:lnTo>
                    <a:pt x="240" y="2137"/>
                  </a:lnTo>
                  <a:lnTo>
                    <a:pt x="215" y="2172"/>
                  </a:lnTo>
                  <a:lnTo>
                    <a:pt x="193" y="2206"/>
                  </a:lnTo>
                  <a:lnTo>
                    <a:pt x="172" y="2241"/>
                  </a:lnTo>
                  <a:lnTo>
                    <a:pt x="151" y="2276"/>
                  </a:lnTo>
                  <a:lnTo>
                    <a:pt x="132" y="2311"/>
                  </a:lnTo>
                  <a:lnTo>
                    <a:pt x="114" y="2347"/>
                  </a:lnTo>
                  <a:lnTo>
                    <a:pt x="98" y="2383"/>
                  </a:lnTo>
                  <a:lnTo>
                    <a:pt x="82" y="2420"/>
                  </a:lnTo>
                  <a:lnTo>
                    <a:pt x="68" y="2455"/>
                  </a:lnTo>
                  <a:lnTo>
                    <a:pt x="55" y="2492"/>
                  </a:lnTo>
                  <a:lnTo>
                    <a:pt x="44" y="2529"/>
                  </a:lnTo>
                  <a:lnTo>
                    <a:pt x="34" y="2565"/>
                  </a:lnTo>
                  <a:lnTo>
                    <a:pt x="24" y="2602"/>
                  </a:lnTo>
                  <a:lnTo>
                    <a:pt x="17" y="2639"/>
                  </a:lnTo>
                  <a:lnTo>
                    <a:pt x="11" y="2676"/>
                  </a:lnTo>
                  <a:lnTo>
                    <a:pt x="6" y="2713"/>
                  </a:lnTo>
                  <a:lnTo>
                    <a:pt x="3" y="2751"/>
                  </a:lnTo>
                  <a:lnTo>
                    <a:pt x="1" y="2789"/>
                  </a:lnTo>
                  <a:lnTo>
                    <a:pt x="0" y="2826"/>
                  </a:lnTo>
                  <a:lnTo>
                    <a:pt x="99" y="2826"/>
                  </a:lnTo>
                  <a:lnTo>
                    <a:pt x="100" y="2792"/>
                  </a:lnTo>
                  <a:lnTo>
                    <a:pt x="101" y="2758"/>
                  </a:lnTo>
                  <a:lnTo>
                    <a:pt x="105" y="2724"/>
                  </a:lnTo>
                  <a:lnTo>
                    <a:pt x="109" y="2691"/>
                  </a:lnTo>
                  <a:lnTo>
                    <a:pt x="114" y="2657"/>
                  </a:lnTo>
                  <a:lnTo>
                    <a:pt x="121" y="2623"/>
                  </a:lnTo>
                  <a:lnTo>
                    <a:pt x="129" y="2590"/>
                  </a:lnTo>
                  <a:lnTo>
                    <a:pt x="138" y="2556"/>
                  </a:lnTo>
                  <a:lnTo>
                    <a:pt x="148" y="2523"/>
                  </a:lnTo>
                  <a:lnTo>
                    <a:pt x="161" y="2490"/>
                  </a:lnTo>
                  <a:lnTo>
                    <a:pt x="173" y="2456"/>
                  </a:lnTo>
                  <a:lnTo>
                    <a:pt x="187" y="2424"/>
                  </a:lnTo>
                  <a:lnTo>
                    <a:pt x="202" y="2390"/>
                  </a:lnTo>
                  <a:lnTo>
                    <a:pt x="219" y="2357"/>
                  </a:lnTo>
                  <a:lnTo>
                    <a:pt x="237" y="2325"/>
                  </a:lnTo>
                  <a:lnTo>
                    <a:pt x="256" y="2292"/>
                  </a:lnTo>
                  <a:lnTo>
                    <a:pt x="276" y="2260"/>
                  </a:lnTo>
                  <a:lnTo>
                    <a:pt x="297" y="2227"/>
                  </a:lnTo>
                  <a:lnTo>
                    <a:pt x="319" y="2194"/>
                  </a:lnTo>
                  <a:lnTo>
                    <a:pt x="343" y="2162"/>
                  </a:lnTo>
                  <a:lnTo>
                    <a:pt x="368" y="2129"/>
                  </a:lnTo>
                  <a:lnTo>
                    <a:pt x="394" y="2097"/>
                  </a:lnTo>
                  <a:lnTo>
                    <a:pt x="421" y="2066"/>
                  </a:lnTo>
                  <a:lnTo>
                    <a:pt x="449" y="2033"/>
                  </a:lnTo>
                  <a:lnTo>
                    <a:pt x="479" y="2002"/>
                  </a:lnTo>
                  <a:lnTo>
                    <a:pt x="509" y="1970"/>
                  </a:lnTo>
                  <a:lnTo>
                    <a:pt x="541" y="1938"/>
                  </a:lnTo>
                  <a:lnTo>
                    <a:pt x="573" y="1908"/>
                  </a:lnTo>
                  <a:lnTo>
                    <a:pt x="608" y="1876"/>
                  </a:lnTo>
                  <a:lnTo>
                    <a:pt x="642" y="1846"/>
                  </a:lnTo>
                  <a:lnTo>
                    <a:pt x="679" y="1814"/>
                  </a:lnTo>
                  <a:lnTo>
                    <a:pt x="715" y="1783"/>
                  </a:lnTo>
                  <a:lnTo>
                    <a:pt x="754" y="1753"/>
                  </a:lnTo>
                  <a:lnTo>
                    <a:pt x="792" y="1723"/>
                  </a:lnTo>
                  <a:lnTo>
                    <a:pt x="833" y="1693"/>
                  </a:lnTo>
                  <a:lnTo>
                    <a:pt x="875" y="1662"/>
                  </a:lnTo>
                  <a:lnTo>
                    <a:pt x="917" y="1633"/>
                  </a:lnTo>
                  <a:lnTo>
                    <a:pt x="961" y="1603"/>
                  </a:lnTo>
                  <a:lnTo>
                    <a:pt x="1006" y="1573"/>
                  </a:lnTo>
                  <a:lnTo>
                    <a:pt x="1051" y="1544"/>
                  </a:lnTo>
                  <a:lnTo>
                    <a:pt x="1097" y="1515"/>
                  </a:lnTo>
                  <a:lnTo>
                    <a:pt x="1145" y="1487"/>
                  </a:lnTo>
                  <a:lnTo>
                    <a:pt x="1194" y="1458"/>
                  </a:lnTo>
                  <a:lnTo>
                    <a:pt x="1244" y="1430"/>
                  </a:lnTo>
                  <a:lnTo>
                    <a:pt x="1294" y="1401"/>
                  </a:lnTo>
                  <a:lnTo>
                    <a:pt x="1346" y="1373"/>
                  </a:lnTo>
                  <a:lnTo>
                    <a:pt x="1398" y="1345"/>
                  </a:lnTo>
                  <a:lnTo>
                    <a:pt x="1452" y="1318"/>
                  </a:lnTo>
                  <a:lnTo>
                    <a:pt x="1507" y="1290"/>
                  </a:lnTo>
                  <a:lnTo>
                    <a:pt x="1562" y="1264"/>
                  </a:lnTo>
                  <a:lnTo>
                    <a:pt x="1618" y="1236"/>
                  </a:lnTo>
                  <a:lnTo>
                    <a:pt x="1675" y="1209"/>
                  </a:lnTo>
                  <a:lnTo>
                    <a:pt x="1733" y="1183"/>
                  </a:lnTo>
                  <a:lnTo>
                    <a:pt x="1793" y="1158"/>
                  </a:lnTo>
                  <a:lnTo>
                    <a:pt x="1853" y="1131"/>
                  </a:lnTo>
                  <a:lnTo>
                    <a:pt x="1914" y="1106"/>
                  </a:lnTo>
                  <a:lnTo>
                    <a:pt x="1975" y="1080"/>
                  </a:lnTo>
                  <a:lnTo>
                    <a:pt x="2038" y="1056"/>
                  </a:lnTo>
                  <a:lnTo>
                    <a:pt x="2102" y="1030"/>
                  </a:lnTo>
                  <a:lnTo>
                    <a:pt x="2166" y="1006"/>
                  </a:lnTo>
                  <a:lnTo>
                    <a:pt x="2231" y="981"/>
                  </a:lnTo>
                  <a:lnTo>
                    <a:pt x="2297" y="957"/>
                  </a:lnTo>
                  <a:lnTo>
                    <a:pt x="2364" y="933"/>
                  </a:lnTo>
                  <a:lnTo>
                    <a:pt x="2432" y="910"/>
                  </a:lnTo>
                  <a:lnTo>
                    <a:pt x="2501" y="886"/>
                  </a:lnTo>
                  <a:lnTo>
                    <a:pt x="2570" y="863"/>
                  </a:lnTo>
                  <a:lnTo>
                    <a:pt x="2641" y="840"/>
                  </a:lnTo>
                  <a:lnTo>
                    <a:pt x="2712" y="818"/>
                  </a:lnTo>
                  <a:lnTo>
                    <a:pt x="2784" y="796"/>
                  </a:lnTo>
                  <a:lnTo>
                    <a:pt x="2856" y="774"/>
                  </a:lnTo>
                  <a:lnTo>
                    <a:pt x="2929" y="753"/>
                  </a:lnTo>
                  <a:lnTo>
                    <a:pt x="3003" y="731"/>
                  </a:lnTo>
                  <a:lnTo>
                    <a:pt x="3154" y="690"/>
                  </a:lnTo>
                  <a:lnTo>
                    <a:pt x="3307" y="649"/>
                  </a:lnTo>
                  <a:lnTo>
                    <a:pt x="3464" y="610"/>
                  </a:lnTo>
                  <a:lnTo>
                    <a:pt x="3623" y="572"/>
                  </a:lnTo>
                  <a:lnTo>
                    <a:pt x="3785" y="536"/>
                  </a:lnTo>
                  <a:lnTo>
                    <a:pt x="3950" y="500"/>
                  </a:lnTo>
                  <a:lnTo>
                    <a:pt x="4117" y="466"/>
                  </a:lnTo>
                  <a:lnTo>
                    <a:pt x="4288" y="434"/>
                  </a:lnTo>
                  <a:lnTo>
                    <a:pt x="4459" y="402"/>
                  </a:lnTo>
                  <a:lnTo>
                    <a:pt x="4635" y="373"/>
                  </a:lnTo>
                  <a:lnTo>
                    <a:pt x="4812" y="344"/>
                  </a:lnTo>
                  <a:lnTo>
                    <a:pt x="4992" y="317"/>
                  </a:lnTo>
                  <a:lnTo>
                    <a:pt x="5173" y="291"/>
                  </a:lnTo>
                  <a:lnTo>
                    <a:pt x="5357" y="268"/>
                  </a:lnTo>
                  <a:lnTo>
                    <a:pt x="5543" y="245"/>
                  </a:lnTo>
                  <a:lnTo>
                    <a:pt x="5731" y="224"/>
                  </a:lnTo>
                  <a:lnTo>
                    <a:pt x="5922" y="204"/>
                  </a:lnTo>
                  <a:lnTo>
                    <a:pt x="6114" y="187"/>
                  </a:lnTo>
                  <a:lnTo>
                    <a:pt x="6308" y="171"/>
                  </a:lnTo>
                  <a:lnTo>
                    <a:pt x="6503" y="155"/>
                  </a:lnTo>
                  <a:lnTo>
                    <a:pt x="6702" y="143"/>
                  </a:lnTo>
                  <a:lnTo>
                    <a:pt x="6901" y="131"/>
                  </a:lnTo>
                  <a:lnTo>
                    <a:pt x="7102" y="122"/>
                  </a:lnTo>
                  <a:lnTo>
                    <a:pt x="7304" y="114"/>
                  </a:lnTo>
                  <a:lnTo>
                    <a:pt x="7508" y="107"/>
                  </a:lnTo>
                  <a:lnTo>
                    <a:pt x="7713" y="103"/>
                  </a:lnTo>
                  <a:lnTo>
                    <a:pt x="7920" y="100"/>
                  </a:lnTo>
                  <a:lnTo>
                    <a:pt x="8128" y="99"/>
                  </a:lnTo>
                  <a:lnTo>
                    <a:pt x="8128" y="99"/>
                  </a:lnTo>
                  <a:lnTo>
                    <a:pt x="8128" y="0"/>
                  </a:lnTo>
                  <a:lnTo>
                    <a:pt x="8128" y="0"/>
                  </a:lnTo>
                  <a:lnTo>
                    <a:pt x="8128" y="0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2080" y="2471400"/>
              <a:ext cx="403200" cy="139680"/>
            </a:xfrm>
            <a:custGeom>
              <a:avLst/>
              <a:gdLst/>
              <a:ahLst/>
              <a:rect l="l" t="t" r="r" b="b"/>
              <a:pathLst>
                <a:path w="8128" h="2826">
                  <a:moveTo>
                    <a:pt x="8128" y="2826"/>
                  </a:moveTo>
                  <a:lnTo>
                    <a:pt x="8128" y="2826"/>
                  </a:lnTo>
                  <a:lnTo>
                    <a:pt x="8127" y="2789"/>
                  </a:lnTo>
                  <a:lnTo>
                    <a:pt x="8125" y="2751"/>
                  </a:lnTo>
                  <a:lnTo>
                    <a:pt x="8122" y="2713"/>
                  </a:lnTo>
                  <a:lnTo>
                    <a:pt x="8117" y="2676"/>
                  </a:lnTo>
                  <a:lnTo>
                    <a:pt x="8111" y="2639"/>
                  </a:lnTo>
                  <a:lnTo>
                    <a:pt x="8103" y="2602"/>
                  </a:lnTo>
                  <a:lnTo>
                    <a:pt x="8094" y="2565"/>
                  </a:lnTo>
                  <a:lnTo>
                    <a:pt x="8084" y="2529"/>
                  </a:lnTo>
                  <a:lnTo>
                    <a:pt x="8072" y="2492"/>
                  </a:lnTo>
                  <a:lnTo>
                    <a:pt x="8060" y="2455"/>
                  </a:lnTo>
                  <a:lnTo>
                    <a:pt x="8046" y="2420"/>
                  </a:lnTo>
                  <a:lnTo>
                    <a:pt x="8030" y="2383"/>
                  </a:lnTo>
                  <a:lnTo>
                    <a:pt x="8014" y="2347"/>
                  </a:lnTo>
                  <a:lnTo>
                    <a:pt x="7996" y="2311"/>
                  </a:lnTo>
                  <a:lnTo>
                    <a:pt x="7977" y="2277"/>
                  </a:lnTo>
                  <a:lnTo>
                    <a:pt x="7956" y="2241"/>
                  </a:lnTo>
                  <a:lnTo>
                    <a:pt x="7935" y="2206"/>
                  </a:lnTo>
                  <a:lnTo>
                    <a:pt x="7913" y="2172"/>
                  </a:lnTo>
                  <a:lnTo>
                    <a:pt x="7888" y="2137"/>
                  </a:lnTo>
                  <a:lnTo>
                    <a:pt x="7864" y="2103"/>
                  </a:lnTo>
                  <a:lnTo>
                    <a:pt x="7837" y="2069"/>
                  </a:lnTo>
                  <a:lnTo>
                    <a:pt x="7810" y="2034"/>
                  </a:lnTo>
                  <a:lnTo>
                    <a:pt x="7782" y="2001"/>
                  </a:lnTo>
                  <a:lnTo>
                    <a:pt x="7752" y="1967"/>
                  </a:lnTo>
                  <a:lnTo>
                    <a:pt x="7721" y="1933"/>
                  </a:lnTo>
                  <a:lnTo>
                    <a:pt x="7689" y="1901"/>
                  </a:lnTo>
                  <a:lnTo>
                    <a:pt x="7656" y="1868"/>
                  </a:lnTo>
                  <a:lnTo>
                    <a:pt x="7622" y="1835"/>
                  </a:lnTo>
                  <a:lnTo>
                    <a:pt x="7586" y="1803"/>
                  </a:lnTo>
                  <a:lnTo>
                    <a:pt x="7550" y="1770"/>
                  </a:lnTo>
                  <a:lnTo>
                    <a:pt x="7512" y="1739"/>
                  </a:lnTo>
                  <a:lnTo>
                    <a:pt x="7475" y="1707"/>
                  </a:lnTo>
                  <a:lnTo>
                    <a:pt x="7435" y="1675"/>
                  </a:lnTo>
                  <a:lnTo>
                    <a:pt x="7394" y="1644"/>
                  </a:lnTo>
                  <a:lnTo>
                    <a:pt x="7353" y="1613"/>
                  </a:lnTo>
                  <a:lnTo>
                    <a:pt x="7310" y="1582"/>
                  </a:lnTo>
                  <a:lnTo>
                    <a:pt x="7266" y="1551"/>
                  </a:lnTo>
                  <a:lnTo>
                    <a:pt x="7222" y="1521"/>
                  </a:lnTo>
                  <a:lnTo>
                    <a:pt x="7176" y="1491"/>
                  </a:lnTo>
                  <a:lnTo>
                    <a:pt x="7129" y="1460"/>
                  </a:lnTo>
                  <a:lnTo>
                    <a:pt x="7082" y="1431"/>
                  </a:lnTo>
                  <a:lnTo>
                    <a:pt x="7033" y="1401"/>
                  </a:lnTo>
                  <a:lnTo>
                    <a:pt x="6983" y="1373"/>
                  </a:lnTo>
                  <a:lnTo>
                    <a:pt x="6932" y="1343"/>
                  </a:lnTo>
                  <a:lnTo>
                    <a:pt x="6881" y="1314"/>
                  </a:lnTo>
                  <a:lnTo>
                    <a:pt x="6829" y="1286"/>
                  </a:lnTo>
                  <a:lnTo>
                    <a:pt x="6775" y="1257"/>
                  </a:lnTo>
                  <a:lnTo>
                    <a:pt x="6721" y="1230"/>
                  </a:lnTo>
                  <a:lnTo>
                    <a:pt x="6665" y="1201"/>
                  </a:lnTo>
                  <a:lnTo>
                    <a:pt x="6609" y="1174"/>
                  </a:lnTo>
                  <a:lnTo>
                    <a:pt x="6551" y="1147"/>
                  </a:lnTo>
                  <a:lnTo>
                    <a:pt x="6493" y="1120"/>
                  </a:lnTo>
                  <a:lnTo>
                    <a:pt x="6434" y="1093"/>
                  </a:lnTo>
                  <a:lnTo>
                    <a:pt x="6374" y="1067"/>
                  </a:lnTo>
                  <a:lnTo>
                    <a:pt x="6313" y="1040"/>
                  </a:lnTo>
                  <a:lnTo>
                    <a:pt x="6252" y="1015"/>
                  </a:lnTo>
                  <a:lnTo>
                    <a:pt x="6189" y="988"/>
                  </a:lnTo>
                  <a:lnTo>
                    <a:pt x="6125" y="963"/>
                  </a:lnTo>
                  <a:lnTo>
                    <a:pt x="6061" y="938"/>
                  </a:lnTo>
                  <a:lnTo>
                    <a:pt x="5996" y="913"/>
                  </a:lnTo>
                  <a:lnTo>
                    <a:pt x="5930" y="888"/>
                  </a:lnTo>
                  <a:lnTo>
                    <a:pt x="5863" y="864"/>
                  </a:lnTo>
                  <a:lnTo>
                    <a:pt x="5796" y="839"/>
                  </a:lnTo>
                  <a:lnTo>
                    <a:pt x="5727" y="816"/>
                  </a:lnTo>
                  <a:lnTo>
                    <a:pt x="5658" y="793"/>
                  </a:lnTo>
                  <a:lnTo>
                    <a:pt x="5588" y="769"/>
                  </a:lnTo>
                  <a:lnTo>
                    <a:pt x="5517" y="747"/>
                  </a:lnTo>
                  <a:lnTo>
                    <a:pt x="5446" y="724"/>
                  </a:lnTo>
                  <a:lnTo>
                    <a:pt x="5299" y="679"/>
                  </a:lnTo>
                  <a:lnTo>
                    <a:pt x="5151" y="637"/>
                  </a:lnTo>
                  <a:lnTo>
                    <a:pt x="5000" y="594"/>
                  </a:lnTo>
                  <a:lnTo>
                    <a:pt x="4844" y="553"/>
                  </a:lnTo>
                  <a:lnTo>
                    <a:pt x="4687" y="514"/>
                  </a:lnTo>
                  <a:lnTo>
                    <a:pt x="4527" y="476"/>
                  </a:lnTo>
                  <a:lnTo>
                    <a:pt x="4364" y="439"/>
                  </a:lnTo>
                  <a:lnTo>
                    <a:pt x="4198" y="403"/>
                  </a:lnTo>
                  <a:lnTo>
                    <a:pt x="4029" y="369"/>
                  </a:lnTo>
                  <a:lnTo>
                    <a:pt x="3859" y="337"/>
                  </a:lnTo>
                  <a:lnTo>
                    <a:pt x="3685" y="305"/>
                  </a:lnTo>
                  <a:lnTo>
                    <a:pt x="3509" y="275"/>
                  </a:lnTo>
                  <a:lnTo>
                    <a:pt x="3331" y="246"/>
                  </a:lnTo>
                  <a:lnTo>
                    <a:pt x="3151" y="220"/>
                  </a:lnTo>
                  <a:lnTo>
                    <a:pt x="2968" y="193"/>
                  </a:lnTo>
                  <a:lnTo>
                    <a:pt x="2783" y="170"/>
                  </a:lnTo>
                  <a:lnTo>
                    <a:pt x="2596" y="147"/>
                  </a:lnTo>
                  <a:lnTo>
                    <a:pt x="2407" y="126"/>
                  </a:lnTo>
                  <a:lnTo>
                    <a:pt x="2216" y="106"/>
                  </a:lnTo>
                  <a:lnTo>
                    <a:pt x="2023" y="88"/>
                  </a:lnTo>
                  <a:lnTo>
                    <a:pt x="1828" y="72"/>
                  </a:lnTo>
                  <a:lnTo>
                    <a:pt x="1631" y="58"/>
                  </a:lnTo>
                  <a:lnTo>
                    <a:pt x="1433" y="44"/>
                  </a:lnTo>
                  <a:lnTo>
                    <a:pt x="1232" y="33"/>
                  </a:lnTo>
                  <a:lnTo>
                    <a:pt x="1030" y="23"/>
                  </a:lnTo>
                  <a:lnTo>
                    <a:pt x="827" y="15"/>
                  </a:lnTo>
                  <a:lnTo>
                    <a:pt x="623" y="9"/>
                  </a:lnTo>
                  <a:lnTo>
                    <a:pt x="417" y="5"/>
                  </a:lnTo>
                  <a:lnTo>
                    <a:pt x="209" y="1"/>
                  </a:lnTo>
                  <a:lnTo>
                    <a:pt x="0" y="0"/>
                  </a:lnTo>
                  <a:lnTo>
                    <a:pt x="0" y="99"/>
                  </a:lnTo>
                  <a:lnTo>
                    <a:pt x="208" y="100"/>
                  </a:lnTo>
                  <a:lnTo>
                    <a:pt x="415" y="103"/>
                  </a:lnTo>
                  <a:lnTo>
                    <a:pt x="620" y="107"/>
                  </a:lnTo>
                  <a:lnTo>
                    <a:pt x="824" y="114"/>
                  </a:lnTo>
                  <a:lnTo>
                    <a:pt x="1026" y="122"/>
                  </a:lnTo>
                  <a:lnTo>
                    <a:pt x="1227" y="131"/>
                  </a:lnTo>
                  <a:lnTo>
                    <a:pt x="1426" y="143"/>
                  </a:lnTo>
                  <a:lnTo>
                    <a:pt x="1625" y="155"/>
                  </a:lnTo>
                  <a:lnTo>
                    <a:pt x="1820" y="171"/>
                  </a:lnTo>
                  <a:lnTo>
                    <a:pt x="2014" y="187"/>
                  </a:lnTo>
                  <a:lnTo>
                    <a:pt x="2206" y="204"/>
                  </a:lnTo>
                  <a:lnTo>
                    <a:pt x="2397" y="224"/>
                  </a:lnTo>
                  <a:lnTo>
                    <a:pt x="2585" y="245"/>
                  </a:lnTo>
                  <a:lnTo>
                    <a:pt x="2771" y="268"/>
                  </a:lnTo>
                  <a:lnTo>
                    <a:pt x="2955" y="291"/>
                  </a:lnTo>
                  <a:lnTo>
                    <a:pt x="3136" y="317"/>
                  </a:lnTo>
                  <a:lnTo>
                    <a:pt x="3316" y="344"/>
                  </a:lnTo>
                  <a:lnTo>
                    <a:pt x="3493" y="373"/>
                  </a:lnTo>
                  <a:lnTo>
                    <a:pt x="3669" y="402"/>
                  </a:lnTo>
                  <a:lnTo>
                    <a:pt x="3840" y="434"/>
                  </a:lnTo>
                  <a:lnTo>
                    <a:pt x="4011" y="466"/>
                  </a:lnTo>
                  <a:lnTo>
                    <a:pt x="4178" y="500"/>
                  </a:lnTo>
                  <a:lnTo>
                    <a:pt x="4342" y="536"/>
                  </a:lnTo>
                  <a:lnTo>
                    <a:pt x="4505" y="572"/>
                  </a:lnTo>
                  <a:lnTo>
                    <a:pt x="4664" y="610"/>
                  </a:lnTo>
                  <a:lnTo>
                    <a:pt x="4821" y="649"/>
                  </a:lnTo>
                  <a:lnTo>
                    <a:pt x="4974" y="690"/>
                  </a:lnTo>
                  <a:lnTo>
                    <a:pt x="5125" y="731"/>
                  </a:lnTo>
                  <a:lnTo>
                    <a:pt x="5272" y="774"/>
                  </a:lnTo>
                  <a:lnTo>
                    <a:pt x="5416" y="818"/>
                  </a:lnTo>
                  <a:lnTo>
                    <a:pt x="5487" y="840"/>
                  </a:lnTo>
                  <a:lnTo>
                    <a:pt x="5558" y="863"/>
                  </a:lnTo>
                  <a:lnTo>
                    <a:pt x="5627" y="886"/>
                  </a:lnTo>
                  <a:lnTo>
                    <a:pt x="5696" y="910"/>
                  </a:lnTo>
                  <a:lnTo>
                    <a:pt x="5764" y="933"/>
                  </a:lnTo>
                  <a:lnTo>
                    <a:pt x="5831" y="957"/>
                  </a:lnTo>
                  <a:lnTo>
                    <a:pt x="5897" y="981"/>
                  </a:lnTo>
                  <a:lnTo>
                    <a:pt x="5962" y="1006"/>
                  </a:lnTo>
                  <a:lnTo>
                    <a:pt x="6026" y="1030"/>
                  </a:lnTo>
                  <a:lnTo>
                    <a:pt x="6090" y="1056"/>
                  </a:lnTo>
                  <a:lnTo>
                    <a:pt x="6152" y="1080"/>
                  </a:lnTo>
                  <a:lnTo>
                    <a:pt x="6214" y="1106"/>
                  </a:lnTo>
                  <a:lnTo>
                    <a:pt x="6275" y="1131"/>
                  </a:lnTo>
                  <a:lnTo>
                    <a:pt x="6335" y="1158"/>
                  </a:lnTo>
                  <a:lnTo>
                    <a:pt x="6395" y="1183"/>
                  </a:lnTo>
                  <a:lnTo>
                    <a:pt x="6453" y="1209"/>
                  </a:lnTo>
                  <a:lnTo>
                    <a:pt x="6510" y="1236"/>
                  </a:lnTo>
                  <a:lnTo>
                    <a:pt x="6566" y="1264"/>
                  </a:lnTo>
                  <a:lnTo>
                    <a:pt x="6621" y="1290"/>
                  </a:lnTo>
                  <a:lnTo>
                    <a:pt x="6676" y="1318"/>
                  </a:lnTo>
                  <a:lnTo>
                    <a:pt x="6730" y="1345"/>
                  </a:lnTo>
                  <a:lnTo>
                    <a:pt x="6782" y="1373"/>
                  </a:lnTo>
                  <a:lnTo>
                    <a:pt x="6834" y="1401"/>
                  </a:lnTo>
                  <a:lnTo>
                    <a:pt x="6884" y="1430"/>
                  </a:lnTo>
                  <a:lnTo>
                    <a:pt x="6934" y="1458"/>
                  </a:lnTo>
                  <a:lnTo>
                    <a:pt x="6983" y="1487"/>
                  </a:lnTo>
                  <a:lnTo>
                    <a:pt x="7031" y="1515"/>
                  </a:lnTo>
                  <a:lnTo>
                    <a:pt x="7076" y="1544"/>
                  </a:lnTo>
                  <a:lnTo>
                    <a:pt x="7122" y="1573"/>
                  </a:lnTo>
                  <a:lnTo>
                    <a:pt x="7167" y="1603"/>
                  </a:lnTo>
                  <a:lnTo>
                    <a:pt x="7211" y="1633"/>
                  </a:lnTo>
                  <a:lnTo>
                    <a:pt x="7253" y="1662"/>
                  </a:lnTo>
                  <a:lnTo>
                    <a:pt x="7295" y="1693"/>
                  </a:lnTo>
                  <a:lnTo>
                    <a:pt x="7335" y="1723"/>
                  </a:lnTo>
                  <a:lnTo>
                    <a:pt x="7374" y="1753"/>
                  </a:lnTo>
                  <a:lnTo>
                    <a:pt x="7413" y="1783"/>
                  </a:lnTo>
                  <a:lnTo>
                    <a:pt x="7449" y="1814"/>
                  </a:lnTo>
                  <a:lnTo>
                    <a:pt x="7486" y="1846"/>
                  </a:lnTo>
                  <a:lnTo>
                    <a:pt x="7520" y="1876"/>
                  </a:lnTo>
                  <a:lnTo>
                    <a:pt x="7555" y="1908"/>
                  </a:lnTo>
                  <a:lnTo>
                    <a:pt x="7587" y="1938"/>
                  </a:lnTo>
                  <a:lnTo>
                    <a:pt x="7619" y="1970"/>
                  </a:lnTo>
                  <a:lnTo>
                    <a:pt x="7649" y="2002"/>
                  </a:lnTo>
                  <a:lnTo>
                    <a:pt x="7679" y="2033"/>
                  </a:lnTo>
                  <a:lnTo>
                    <a:pt x="7707" y="2066"/>
                  </a:lnTo>
                  <a:lnTo>
                    <a:pt x="7734" y="2097"/>
                  </a:lnTo>
                  <a:lnTo>
                    <a:pt x="7760" y="2129"/>
                  </a:lnTo>
                  <a:lnTo>
                    <a:pt x="7785" y="2162"/>
                  </a:lnTo>
                  <a:lnTo>
                    <a:pt x="7808" y="2194"/>
                  </a:lnTo>
                  <a:lnTo>
                    <a:pt x="7830" y="2227"/>
                  </a:lnTo>
                  <a:lnTo>
                    <a:pt x="7852" y="2260"/>
                  </a:lnTo>
                  <a:lnTo>
                    <a:pt x="7872" y="2292"/>
                  </a:lnTo>
                  <a:lnTo>
                    <a:pt x="7891" y="2325"/>
                  </a:lnTo>
                  <a:lnTo>
                    <a:pt x="7909" y="2357"/>
                  </a:lnTo>
                  <a:lnTo>
                    <a:pt x="7925" y="2390"/>
                  </a:lnTo>
                  <a:lnTo>
                    <a:pt x="7941" y="2424"/>
                  </a:lnTo>
                  <a:lnTo>
                    <a:pt x="7954" y="2456"/>
                  </a:lnTo>
                  <a:lnTo>
                    <a:pt x="7967" y="2490"/>
                  </a:lnTo>
                  <a:lnTo>
                    <a:pt x="7980" y="2523"/>
                  </a:lnTo>
                  <a:lnTo>
                    <a:pt x="7990" y="2556"/>
                  </a:lnTo>
                  <a:lnTo>
                    <a:pt x="7999" y="2590"/>
                  </a:lnTo>
                  <a:lnTo>
                    <a:pt x="8007" y="2623"/>
                  </a:lnTo>
                  <a:lnTo>
                    <a:pt x="8014" y="2657"/>
                  </a:lnTo>
                  <a:lnTo>
                    <a:pt x="8019" y="2691"/>
                  </a:lnTo>
                  <a:lnTo>
                    <a:pt x="8023" y="2724"/>
                  </a:lnTo>
                  <a:lnTo>
                    <a:pt x="8026" y="2758"/>
                  </a:lnTo>
                  <a:lnTo>
                    <a:pt x="8028" y="2792"/>
                  </a:lnTo>
                  <a:lnTo>
                    <a:pt x="8029" y="2826"/>
                  </a:lnTo>
                  <a:lnTo>
                    <a:pt x="8029" y="2826"/>
                  </a:lnTo>
                  <a:lnTo>
                    <a:pt x="8128" y="2826"/>
                  </a:lnTo>
                  <a:lnTo>
                    <a:pt x="8128" y="2826"/>
                  </a:lnTo>
                  <a:lnTo>
                    <a:pt x="8128" y="2826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70320" y="2523960"/>
              <a:ext cx="803160" cy="92160"/>
            </a:xfrm>
            <a:custGeom>
              <a:avLst/>
              <a:gdLst/>
              <a:ahLst/>
              <a:rect l="l" t="t" r="r" b="b"/>
              <a:pathLst>
                <a:path w="16185" h="1881">
                  <a:moveTo>
                    <a:pt x="0" y="0"/>
                  </a:moveTo>
                  <a:lnTo>
                    <a:pt x="0" y="1881"/>
                  </a:lnTo>
                  <a:lnTo>
                    <a:pt x="16182" y="1881"/>
                  </a:lnTo>
                  <a:lnTo>
                    <a:pt x="1618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4f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1760" y="2382480"/>
              <a:ext cx="800280" cy="274680"/>
            </a:xfrm>
            <a:custGeom>
              <a:avLst/>
              <a:gdLst/>
              <a:ahLst/>
              <a:rect l="l" t="t" r="r" b="b"/>
              <a:pathLst>
                <a:path w="16156" h="5544">
                  <a:moveTo>
                    <a:pt x="16156" y="2772"/>
                  </a:moveTo>
                  <a:lnTo>
                    <a:pt x="16146" y="2914"/>
                  </a:lnTo>
                  <a:lnTo>
                    <a:pt x="16115" y="3055"/>
                  </a:lnTo>
                  <a:lnTo>
                    <a:pt x="16064" y="3194"/>
                  </a:lnTo>
                  <a:lnTo>
                    <a:pt x="15993" y="3330"/>
                  </a:lnTo>
                  <a:lnTo>
                    <a:pt x="15902" y="3464"/>
                  </a:lnTo>
                  <a:lnTo>
                    <a:pt x="15794" y="3595"/>
                  </a:lnTo>
                  <a:lnTo>
                    <a:pt x="15667" y="3725"/>
                  </a:lnTo>
                  <a:lnTo>
                    <a:pt x="15521" y="3850"/>
                  </a:lnTo>
                  <a:lnTo>
                    <a:pt x="15360" y="3974"/>
                  </a:lnTo>
                  <a:lnTo>
                    <a:pt x="15181" y="4093"/>
                  </a:lnTo>
                  <a:lnTo>
                    <a:pt x="14987" y="4209"/>
                  </a:lnTo>
                  <a:lnTo>
                    <a:pt x="14776" y="4321"/>
                  </a:lnTo>
                  <a:lnTo>
                    <a:pt x="14551" y="4430"/>
                  </a:lnTo>
                  <a:lnTo>
                    <a:pt x="14311" y="4534"/>
                  </a:lnTo>
                  <a:lnTo>
                    <a:pt x="14057" y="4635"/>
                  </a:lnTo>
                  <a:lnTo>
                    <a:pt x="13790" y="4732"/>
                  </a:lnTo>
                  <a:lnTo>
                    <a:pt x="13509" y="4824"/>
                  </a:lnTo>
                  <a:lnTo>
                    <a:pt x="13216" y="4911"/>
                  </a:lnTo>
                  <a:lnTo>
                    <a:pt x="12910" y="4993"/>
                  </a:lnTo>
                  <a:lnTo>
                    <a:pt x="12594" y="5071"/>
                  </a:lnTo>
                  <a:lnTo>
                    <a:pt x="12266" y="5143"/>
                  </a:lnTo>
                  <a:lnTo>
                    <a:pt x="11928" y="5209"/>
                  </a:lnTo>
                  <a:lnTo>
                    <a:pt x="11579" y="5270"/>
                  </a:lnTo>
                  <a:lnTo>
                    <a:pt x="11222" y="5326"/>
                  </a:lnTo>
                  <a:lnTo>
                    <a:pt x="10855" y="5375"/>
                  </a:lnTo>
                  <a:lnTo>
                    <a:pt x="10480" y="5419"/>
                  </a:lnTo>
                  <a:lnTo>
                    <a:pt x="10096" y="5457"/>
                  </a:lnTo>
                  <a:lnTo>
                    <a:pt x="9706" y="5488"/>
                  </a:lnTo>
                  <a:lnTo>
                    <a:pt x="9307" y="5512"/>
                  </a:lnTo>
                  <a:lnTo>
                    <a:pt x="8904" y="5529"/>
                  </a:lnTo>
                  <a:lnTo>
                    <a:pt x="8494" y="5541"/>
                  </a:lnTo>
                  <a:lnTo>
                    <a:pt x="8078" y="5544"/>
                  </a:lnTo>
                  <a:lnTo>
                    <a:pt x="7662" y="5541"/>
                  </a:lnTo>
                  <a:lnTo>
                    <a:pt x="7252" y="5529"/>
                  </a:lnTo>
                  <a:lnTo>
                    <a:pt x="6849" y="5512"/>
                  </a:lnTo>
                  <a:lnTo>
                    <a:pt x="6450" y="5488"/>
                  </a:lnTo>
                  <a:lnTo>
                    <a:pt x="6060" y="5457"/>
                  </a:lnTo>
                  <a:lnTo>
                    <a:pt x="5676" y="5419"/>
                  </a:lnTo>
                  <a:lnTo>
                    <a:pt x="5301" y="5375"/>
                  </a:lnTo>
                  <a:lnTo>
                    <a:pt x="4934" y="5326"/>
                  </a:lnTo>
                  <a:lnTo>
                    <a:pt x="4577" y="5270"/>
                  </a:lnTo>
                  <a:lnTo>
                    <a:pt x="4228" y="5209"/>
                  </a:lnTo>
                  <a:lnTo>
                    <a:pt x="3890" y="5143"/>
                  </a:lnTo>
                  <a:lnTo>
                    <a:pt x="3562" y="5071"/>
                  </a:lnTo>
                  <a:lnTo>
                    <a:pt x="3245" y="4993"/>
                  </a:lnTo>
                  <a:lnTo>
                    <a:pt x="2940" y="4911"/>
                  </a:lnTo>
                  <a:lnTo>
                    <a:pt x="2647" y="4824"/>
                  </a:lnTo>
                  <a:lnTo>
                    <a:pt x="2366" y="4732"/>
                  </a:lnTo>
                  <a:lnTo>
                    <a:pt x="2099" y="4635"/>
                  </a:lnTo>
                  <a:lnTo>
                    <a:pt x="1845" y="4534"/>
                  </a:lnTo>
                  <a:lnTo>
                    <a:pt x="1605" y="4430"/>
                  </a:lnTo>
                  <a:lnTo>
                    <a:pt x="1380" y="4321"/>
                  </a:lnTo>
                  <a:lnTo>
                    <a:pt x="1169" y="4209"/>
                  </a:lnTo>
                  <a:lnTo>
                    <a:pt x="975" y="4093"/>
                  </a:lnTo>
                  <a:lnTo>
                    <a:pt x="796" y="3974"/>
                  </a:lnTo>
                  <a:lnTo>
                    <a:pt x="635" y="3850"/>
                  </a:lnTo>
                  <a:lnTo>
                    <a:pt x="489" y="3725"/>
                  </a:lnTo>
                  <a:lnTo>
                    <a:pt x="362" y="3595"/>
                  </a:lnTo>
                  <a:lnTo>
                    <a:pt x="254" y="3464"/>
                  </a:lnTo>
                  <a:lnTo>
                    <a:pt x="163" y="3330"/>
                  </a:lnTo>
                  <a:lnTo>
                    <a:pt x="92" y="3194"/>
                  </a:lnTo>
                  <a:lnTo>
                    <a:pt x="41" y="3055"/>
                  </a:lnTo>
                  <a:lnTo>
                    <a:pt x="10" y="2914"/>
                  </a:lnTo>
                  <a:lnTo>
                    <a:pt x="0" y="2772"/>
                  </a:lnTo>
                  <a:lnTo>
                    <a:pt x="10" y="2629"/>
                  </a:lnTo>
                  <a:lnTo>
                    <a:pt x="41" y="2488"/>
                  </a:lnTo>
                  <a:lnTo>
                    <a:pt x="92" y="2350"/>
                  </a:lnTo>
                  <a:lnTo>
                    <a:pt x="163" y="2213"/>
                  </a:lnTo>
                  <a:lnTo>
                    <a:pt x="254" y="2080"/>
                  </a:lnTo>
                  <a:lnTo>
                    <a:pt x="362" y="1948"/>
                  </a:lnTo>
                  <a:lnTo>
                    <a:pt x="489" y="1819"/>
                  </a:lnTo>
                  <a:lnTo>
                    <a:pt x="635" y="1693"/>
                  </a:lnTo>
                  <a:lnTo>
                    <a:pt x="796" y="1570"/>
                  </a:lnTo>
                  <a:lnTo>
                    <a:pt x="975" y="1451"/>
                  </a:lnTo>
                  <a:lnTo>
                    <a:pt x="1169" y="1334"/>
                  </a:lnTo>
                  <a:lnTo>
                    <a:pt x="1380" y="1222"/>
                  </a:lnTo>
                  <a:lnTo>
                    <a:pt x="1605" y="1113"/>
                  </a:lnTo>
                  <a:lnTo>
                    <a:pt x="1845" y="1009"/>
                  </a:lnTo>
                  <a:lnTo>
                    <a:pt x="2099" y="908"/>
                  </a:lnTo>
                  <a:lnTo>
                    <a:pt x="2366" y="811"/>
                  </a:lnTo>
                  <a:lnTo>
                    <a:pt x="2647" y="720"/>
                  </a:lnTo>
                  <a:lnTo>
                    <a:pt x="2940" y="633"/>
                  </a:lnTo>
                  <a:lnTo>
                    <a:pt x="3245" y="550"/>
                  </a:lnTo>
                  <a:lnTo>
                    <a:pt x="3562" y="473"/>
                  </a:lnTo>
                  <a:lnTo>
                    <a:pt x="3890" y="401"/>
                  </a:lnTo>
                  <a:lnTo>
                    <a:pt x="4228" y="334"/>
                  </a:lnTo>
                  <a:lnTo>
                    <a:pt x="4577" y="273"/>
                  </a:lnTo>
                  <a:lnTo>
                    <a:pt x="4934" y="217"/>
                  </a:lnTo>
                  <a:lnTo>
                    <a:pt x="5301" y="168"/>
                  </a:lnTo>
                  <a:lnTo>
                    <a:pt x="5676" y="124"/>
                  </a:lnTo>
                  <a:lnTo>
                    <a:pt x="6060" y="87"/>
                  </a:lnTo>
                  <a:lnTo>
                    <a:pt x="6450" y="56"/>
                  </a:lnTo>
                  <a:lnTo>
                    <a:pt x="6849" y="32"/>
                  </a:lnTo>
                  <a:lnTo>
                    <a:pt x="7252" y="14"/>
                  </a:lnTo>
                  <a:lnTo>
                    <a:pt x="7662" y="3"/>
                  </a:lnTo>
                  <a:lnTo>
                    <a:pt x="8078" y="0"/>
                  </a:lnTo>
                  <a:lnTo>
                    <a:pt x="8494" y="3"/>
                  </a:lnTo>
                  <a:lnTo>
                    <a:pt x="8904" y="14"/>
                  </a:lnTo>
                  <a:lnTo>
                    <a:pt x="9307" y="32"/>
                  </a:lnTo>
                  <a:lnTo>
                    <a:pt x="9706" y="56"/>
                  </a:lnTo>
                  <a:lnTo>
                    <a:pt x="10096" y="87"/>
                  </a:lnTo>
                  <a:lnTo>
                    <a:pt x="10480" y="124"/>
                  </a:lnTo>
                  <a:lnTo>
                    <a:pt x="10855" y="168"/>
                  </a:lnTo>
                  <a:lnTo>
                    <a:pt x="11222" y="217"/>
                  </a:lnTo>
                  <a:lnTo>
                    <a:pt x="11579" y="273"/>
                  </a:lnTo>
                  <a:lnTo>
                    <a:pt x="11928" y="334"/>
                  </a:lnTo>
                  <a:lnTo>
                    <a:pt x="12266" y="401"/>
                  </a:lnTo>
                  <a:lnTo>
                    <a:pt x="12594" y="473"/>
                  </a:lnTo>
                  <a:lnTo>
                    <a:pt x="12910" y="550"/>
                  </a:lnTo>
                  <a:lnTo>
                    <a:pt x="13216" y="633"/>
                  </a:lnTo>
                  <a:lnTo>
                    <a:pt x="13509" y="720"/>
                  </a:lnTo>
                  <a:lnTo>
                    <a:pt x="13790" y="811"/>
                  </a:lnTo>
                  <a:lnTo>
                    <a:pt x="14057" y="908"/>
                  </a:lnTo>
                  <a:lnTo>
                    <a:pt x="14311" y="1009"/>
                  </a:lnTo>
                  <a:lnTo>
                    <a:pt x="14551" y="1113"/>
                  </a:lnTo>
                  <a:lnTo>
                    <a:pt x="14776" y="1222"/>
                  </a:lnTo>
                  <a:lnTo>
                    <a:pt x="14987" y="1334"/>
                  </a:lnTo>
                  <a:lnTo>
                    <a:pt x="15181" y="1451"/>
                  </a:lnTo>
                  <a:lnTo>
                    <a:pt x="15360" y="1570"/>
                  </a:lnTo>
                  <a:lnTo>
                    <a:pt x="15521" y="1693"/>
                  </a:lnTo>
                  <a:lnTo>
                    <a:pt x="15667" y="1819"/>
                  </a:lnTo>
                  <a:lnTo>
                    <a:pt x="15794" y="1948"/>
                  </a:lnTo>
                  <a:lnTo>
                    <a:pt x="15902" y="2080"/>
                  </a:lnTo>
                  <a:lnTo>
                    <a:pt x="15993" y="2213"/>
                  </a:lnTo>
                  <a:lnTo>
                    <a:pt x="16064" y="2350"/>
                  </a:lnTo>
                  <a:lnTo>
                    <a:pt x="16115" y="2488"/>
                  </a:lnTo>
                  <a:lnTo>
                    <a:pt x="16146" y="2629"/>
                  </a:lnTo>
                  <a:lnTo>
                    <a:pt x="16156" y="2772"/>
                  </a:lnTo>
                  <a:close/>
                </a:path>
              </a:pathLst>
            </a:custGeom>
            <a:solidFill>
              <a:srgbClr val="d25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68840" y="2519280"/>
              <a:ext cx="406440" cy="139680"/>
            </a:xfrm>
            <a:custGeom>
              <a:avLst/>
              <a:gdLst/>
              <a:ahLst/>
              <a:rect l="l" t="t" r="r" b="b"/>
              <a:pathLst>
                <a:path w="8177" h="2822">
                  <a:moveTo>
                    <a:pt x="49" y="2822"/>
                  </a:moveTo>
                  <a:lnTo>
                    <a:pt x="49" y="2822"/>
                  </a:lnTo>
                  <a:lnTo>
                    <a:pt x="258" y="2821"/>
                  </a:lnTo>
                  <a:lnTo>
                    <a:pt x="466" y="2817"/>
                  </a:lnTo>
                  <a:lnTo>
                    <a:pt x="672" y="2813"/>
                  </a:lnTo>
                  <a:lnTo>
                    <a:pt x="876" y="2807"/>
                  </a:lnTo>
                  <a:lnTo>
                    <a:pt x="1079" y="2799"/>
                  </a:lnTo>
                  <a:lnTo>
                    <a:pt x="1281" y="2789"/>
                  </a:lnTo>
                  <a:lnTo>
                    <a:pt x="1482" y="2778"/>
                  </a:lnTo>
                  <a:lnTo>
                    <a:pt x="1680" y="2764"/>
                  </a:lnTo>
                  <a:lnTo>
                    <a:pt x="1877" y="2750"/>
                  </a:lnTo>
                  <a:lnTo>
                    <a:pt x="2072" y="2734"/>
                  </a:lnTo>
                  <a:lnTo>
                    <a:pt x="2265" y="2716"/>
                  </a:lnTo>
                  <a:lnTo>
                    <a:pt x="2456" y="2696"/>
                  </a:lnTo>
                  <a:lnTo>
                    <a:pt x="2645" y="2676"/>
                  </a:lnTo>
                  <a:lnTo>
                    <a:pt x="2832" y="2652"/>
                  </a:lnTo>
                  <a:lnTo>
                    <a:pt x="3017" y="2629"/>
                  </a:lnTo>
                  <a:lnTo>
                    <a:pt x="3200" y="2603"/>
                  </a:lnTo>
                  <a:lnTo>
                    <a:pt x="3380" y="2576"/>
                  </a:lnTo>
                  <a:lnTo>
                    <a:pt x="3558" y="2547"/>
                  </a:lnTo>
                  <a:lnTo>
                    <a:pt x="3734" y="2518"/>
                  </a:lnTo>
                  <a:lnTo>
                    <a:pt x="3908" y="2486"/>
                  </a:lnTo>
                  <a:lnTo>
                    <a:pt x="4078" y="2454"/>
                  </a:lnTo>
                  <a:lnTo>
                    <a:pt x="4247" y="2419"/>
                  </a:lnTo>
                  <a:lnTo>
                    <a:pt x="4413" y="2383"/>
                  </a:lnTo>
                  <a:lnTo>
                    <a:pt x="4576" y="2346"/>
                  </a:lnTo>
                  <a:lnTo>
                    <a:pt x="4736" y="2309"/>
                  </a:lnTo>
                  <a:lnTo>
                    <a:pt x="4893" y="2269"/>
                  </a:lnTo>
                  <a:lnTo>
                    <a:pt x="5049" y="2228"/>
                  </a:lnTo>
                  <a:lnTo>
                    <a:pt x="5200" y="2186"/>
                  </a:lnTo>
                  <a:lnTo>
                    <a:pt x="5275" y="2165"/>
                  </a:lnTo>
                  <a:lnTo>
                    <a:pt x="5348" y="2143"/>
                  </a:lnTo>
                  <a:lnTo>
                    <a:pt x="5422" y="2121"/>
                  </a:lnTo>
                  <a:lnTo>
                    <a:pt x="5495" y="2099"/>
                  </a:lnTo>
                  <a:lnTo>
                    <a:pt x="5566" y="2076"/>
                  </a:lnTo>
                  <a:lnTo>
                    <a:pt x="5637" y="2053"/>
                  </a:lnTo>
                  <a:lnTo>
                    <a:pt x="5707" y="2029"/>
                  </a:lnTo>
                  <a:lnTo>
                    <a:pt x="5776" y="2006"/>
                  </a:lnTo>
                  <a:lnTo>
                    <a:pt x="5845" y="1983"/>
                  </a:lnTo>
                  <a:lnTo>
                    <a:pt x="5912" y="1958"/>
                  </a:lnTo>
                  <a:lnTo>
                    <a:pt x="5979" y="1935"/>
                  </a:lnTo>
                  <a:lnTo>
                    <a:pt x="6045" y="1909"/>
                  </a:lnTo>
                  <a:lnTo>
                    <a:pt x="6110" y="1885"/>
                  </a:lnTo>
                  <a:lnTo>
                    <a:pt x="6174" y="1859"/>
                  </a:lnTo>
                  <a:lnTo>
                    <a:pt x="6238" y="1834"/>
                  </a:lnTo>
                  <a:lnTo>
                    <a:pt x="6300" y="1808"/>
                  </a:lnTo>
                  <a:lnTo>
                    <a:pt x="6362" y="1783"/>
                  </a:lnTo>
                  <a:lnTo>
                    <a:pt x="6423" y="1756"/>
                  </a:lnTo>
                  <a:lnTo>
                    <a:pt x="6483" y="1730"/>
                  </a:lnTo>
                  <a:lnTo>
                    <a:pt x="6542" y="1703"/>
                  </a:lnTo>
                  <a:lnTo>
                    <a:pt x="6600" y="1676"/>
                  </a:lnTo>
                  <a:lnTo>
                    <a:pt x="6658" y="1649"/>
                  </a:lnTo>
                  <a:lnTo>
                    <a:pt x="6714" y="1622"/>
                  </a:lnTo>
                  <a:lnTo>
                    <a:pt x="6770" y="1593"/>
                  </a:lnTo>
                  <a:lnTo>
                    <a:pt x="6824" y="1566"/>
                  </a:lnTo>
                  <a:lnTo>
                    <a:pt x="6878" y="1537"/>
                  </a:lnTo>
                  <a:lnTo>
                    <a:pt x="6930" y="1509"/>
                  </a:lnTo>
                  <a:lnTo>
                    <a:pt x="6981" y="1480"/>
                  </a:lnTo>
                  <a:lnTo>
                    <a:pt x="7032" y="1451"/>
                  </a:lnTo>
                  <a:lnTo>
                    <a:pt x="7082" y="1422"/>
                  </a:lnTo>
                  <a:lnTo>
                    <a:pt x="7131" y="1392"/>
                  </a:lnTo>
                  <a:lnTo>
                    <a:pt x="7178" y="1363"/>
                  </a:lnTo>
                  <a:lnTo>
                    <a:pt x="7225" y="1333"/>
                  </a:lnTo>
                  <a:lnTo>
                    <a:pt x="7271" y="1303"/>
                  </a:lnTo>
                  <a:lnTo>
                    <a:pt x="7315" y="1272"/>
                  </a:lnTo>
                  <a:lnTo>
                    <a:pt x="7359" y="1241"/>
                  </a:lnTo>
                  <a:lnTo>
                    <a:pt x="7402" y="1211"/>
                  </a:lnTo>
                  <a:lnTo>
                    <a:pt x="7443" y="1180"/>
                  </a:lnTo>
                  <a:lnTo>
                    <a:pt x="7484" y="1149"/>
                  </a:lnTo>
                  <a:lnTo>
                    <a:pt x="7524" y="1117"/>
                  </a:lnTo>
                  <a:lnTo>
                    <a:pt x="7561" y="1085"/>
                  </a:lnTo>
                  <a:lnTo>
                    <a:pt x="7599" y="1053"/>
                  </a:lnTo>
                  <a:lnTo>
                    <a:pt x="7635" y="1021"/>
                  </a:lnTo>
                  <a:lnTo>
                    <a:pt x="7671" y="989"/>
                  </a:lnTo>
                  <a:lnTo>
                    <a:pt x="7705" y="956"/>
                  </a:lnTo>
                  <a:lnTo>
                    <a:pt x="7738" y="923"/>
                  </a:lnTo>
                  <a:lnTo>
                    <a:pt x="7770" y="891"/>
                  </a:lnTo>
                  <a:lnTo>
                    <a:pt x="7801" y="857"/>
                  </a:lnTo>
                  <a:lnTo>
                    <a:pt x="7831" y="823"/>
                  </a:lnTo>
                  <a:lnTo>
                    <a:pt x="7859" y="790"/>
                  </a:lnTo>
                  <a:lnTo>
                    <a:pt x="7886" y="756"/>
                  </a:lnTo>
                  <a:lnTo>
                    <a:pt x="7913" y="723"/>
                  </a:lnTo>
                  <a:lnTo>
                    <a:pt x="7937" y="688"/>
                  </a:lnTo>
                  <a:lnTo>
                    <a:pt x="7962" y="653"/>
                  </a:lnTo>
                  <a:lnTo>
                    <a:pt x="7984" y="619"/>
                  </a:lnTo>
                  <a:lnTo>
                    <a:pt x="8005" y="584"/>
                  </a:lnTo>
                  <a:lnTo>
                    <a:pt x="8026" y="548"/>
                  </a:lnTo>
                  <a:lnTo>
                    <a:pt x="8045" y="514"/>
                  </a:lnTo>
                  <a:lnTo>
                    <a:pt x="8063" y="478"/>
                  </a:lnTo>
                  <a:lnTo>
                    <a:pt x="8079" y="442"/>
                  </a:lnTo>
                  <a:lnTo>
                    <a:pt x="8095" y="406"/>
                  </a:lnTo>
                  <a:lnTo>
                    <a:pt x="8109" y="370"/>
                  </a:lnTo>
                  <a:lnTo>
                    <a:pt x="8121" y="333"/>
                  </a:lnTo>
                  <a:lnTo>
                    <a:pt x="8133" y="297"/>
                  </a:lnTo>
                  <a:lnTo>
                    <a:pt x="8143" y="261"/>
                  </a:lnTo>
                  <a:lnTo>
                    <a:pt x="8152" y="224"/>
                  </a:lnTo>
                  <a:lnTo>
                    <a:pt x="8160" y="186"/>
                  </a:lnTo>
                  <a:lnTo>
                    <a:pt x="8166" y="150"/>
                  </a:lnTo>
                  <a:lnTo>
                    <a:pt x="8171" y="112"/>
                  </a:lnTo>
                  <a:lnTo>
                    <a:pt x="8174" y="75"/>
                  </a:lnTo>
                  <a:lnTo>
                    <a:pt x="8176" y="37"/>
                  </a:lnTo>
                  <a:lnTo>
                    <a:pt x="8177" y="0"/>
                  </a:lnTo>
                  <a:lnTo>
                    <a:pt x="8078" y="0"/>
                  </a:lnTo>
                  <a:lnTo>
                    <a:pt x="8077" y="33"/>
                  </a:lnTo>
                  <a:lnTo>
                    <a:pt x="8075" y="68"/>
                  </a:lnTo>
                  <a:lnTo>
                    <a:pt x="8072" y="102"/>
                  </a:lnTo>
                  <a:lnTo>
                    <a:pt x="8068" y="135"/>
                  </a:lnTo>
                  <a:lnTo>
                    <a:pt x="8063" y="169"/>
                  </a:lnTo>
                  <a:lnTo>
                    <a:pt x="8056" y="203"/>
                  </a:lnTo>
                  <a:lnTo>
                    <a:pt x="8048" y="235"/>
                  </a:lnTo>
                  <a:lnTo>
                    <a:pt x="8039" y="269"/>
                  </a:lnTo>
                  <a:lnTo>
                    <a:pt x="8029" y="303"/>
                  </a:lnTo>
                  <a:lnTo>
                    <a:pt x="8016" y="335"/>
                  </a:lnTo>
                  <a:lnTo>
                    <a:pt x="8003" y="369"/>
                  </a:lnTo>
                  <a:lnTo>
                    <a:pt x="7990" y="401"/>
                  </a:lnTo>
                  <a:lnTo>
                    <a:pt x="7974" y="435"/>
                  </a:lnTo>
                  <a:lnTo>
                    <a:pt x="7958" y="468"/>
                  </a:lnTo>
                  <a:lnTo>
                    <a:pt x="7940" y="500"/>
                  </a:lnTo>
                  <a:lnTo>
                    <a:pt x="7921" y="533"/>
                  </a:lnTo>
                  <a:lnTo>
                    <a:pt x="7902" y="566"/>
                  </a:lnTo>
                  <a:lnTo>
                    <a:pt x="7879" y="598"/>
                  </a:lnTo>
                  <a:lnTo>
                    <a:pt x="7857" y="631"/>
                  </a:lnTo>
                  <a:lnTo>
                    <a:pt x="7834" y="662"/>
                  </a:lnTo>
                  <a:lnTo>
                    <a:pt x="7809" y="695"/>
                  </a:lnTo>
                  <a:lnTo>
                    <a:pt x="7783" y="727"/>
                  </a:lnTo>
                  <a:lnTo>
                    <a:pt x="7756" y="759"/>
                  </a:lnTo>
                  <a:lnTo>
                    <a:pt x="7728" y="791"/>
                  </a:lnTo>
                  <a:lnTo>
                    <a:pt x="7698" y="822"/>
                  </a:lnTo>
                  <a:lnTo>
                    <a:pt x="7668" y="854"/>
                  </a:lnTo>
                  <a:lnTo>
                    <a:pt x="7636" y="886"/>
                  </a:lnTo>
                  <a:lnTo>
                    <a:pt x="7604" y="916"/>
                  </a:lnTo>
                  <a:lnTo>
                    <a:pt x="7569" y="948"/>
                  </a:lnTo>
                  <a:lnTo>
                    <a:pt x="7535" y="978"/>
                  </a:lnTo>
                  <a:lnTo>
                    <a:pt x="7498" y="1009"/>
                  </a:lnTo>
                  <a:lnTo>
                    <a:pt x="7462" y="1040"/>
                  </a:lnTo>
                  <a:lnTo>
                    <a:pt x="7423" y="1070"/>
                  </a:lnTo>
                  <a:lnTo>
                    <a:pt x="7384" y="1101"/>
                  </a:lnTo>
                  <a:lnTo>
                    <a:pt x="7344" y="1131"/>
                  </a:lnTo>
                  <a:lnTo>
                    <a:pt x="7302" y="1161"/>
                  </a:lnTo>
                  <a:lnTo>
                    <a:pt x="7260" y="1190"/>
                  </a:lnTo>
                  <a:lnTo>
                    <a:pt x="7216" y="1220"/>
                  </a:lnTo>
                  <a:lnTo>
                    <a:pt x="7171" y="1250"/>
                  </a:lnTo>
                  <a:lnTo>
                    <a:pt x="7125" y="1279"/>
                  </a:lnTo>
                  <a:lnTo>
                    <a:pt x="7080" y="1308"/>
                  </a:lnTo>
                  <a:lnTo>
                    <a:pt x="7032" y="1337"/>
                  </a:lnTo>
                  <a:lnTo>
                    <a:pt x="6983" y="1366"/>
                  </a:lnTo>
                  <a:lnTo>
                    <a:pt x="6933" y="1393"/>
                  </a:lnTo>
                  <a:lnTo>
                    <a:pt x="6883" y="1422"/>
                  </a:lnTo>
                  <a:lnTo>
                    <a:pt x="6831" y="1450"/>
                  </a:lnTo>
                  <a:lnTo>
                    <a:pt x="6779" y="1478"/>
                  </a:lnTo>
                  <a:lnTo>
                    <a:pt x="6725" y="1505"/>
                  </a:lnTo>
                  <a:lnTo>
                    <a:pt x="6670" y="1533"/>
                  </a:lnTo>
                  <a:lnTo>
                    <a:pt x="6615" y="1559"/>
                  </a:lnTo>
                  <a:lnTo>
                    <a:pt x="6559" y="1587"/>
                  </a:lnTo>
                  <a:lnTo>
                    <a:pt x="6502" y="1614"/>
                  </a:lnTo>
                  <a:lnTo>
                    <a:pt x="6444" y="1640"/>
                  </a:lnTo>
                  <a:lnTo>
                    <a:pt x="6384" y="1666"/>
                  </a:lnTo>
                  <a:lnTo>
                    <a:pt x="6324" y="1692"/>
                  </a:lnTo>
                  <a:lnTo>
                    <a:pt x="6264" y="1718"/>
                  </a:lnTo>
                  <a:lnTo>
                    <a:pt x="6201" y="1743"/>
                  </a:lnTo>
                  <a:lnTo>
                    <a:pt x="6139" y="1767"/>
                  </a:lnTo>
                  <a:lnTo>
                    <a:pt x="6075" y="1793"/>
                  </a:lnTo>
                  <a:lnTo>
                    <a:pt x="6011" y="1817"/>
                  </a:lnTo>
                  <a:lnTo>
                    <a:pt x="5946" y="1842"/>
                  </a:lnTo>
                  <a:lnTo>
                    <a:pt x="5880" y="1865"/>
                  </a:lnTo>
                  <a:lnTo>
                    <a:pt x="5813" y="1890"/>
                  </a:lnTo>
                  <a:lnTo>
                    <a:pt x="5745" y="1913"/>
                  </a:lnTo>
                  <a:lnTo>
                    <a:pt x="5676" y="1937"/>
                  </a:lnTo>
                  <a:lnTo>
                    <a:pt x="5607" y="1959"/>
                  </a:lnTo>
                  <a:lnTo>
                    <a:pt x="5536" y="1982"/>
                  </a:lnTo>
                  <a:lnTo>
                    <a:pt x="5465" y="2004"/>
                  </a:lnTo>
                  <a:lnTo>
                    <a:pt x="5393" y="2026"/>
                  </a:lnTo>
                  <a:lnTo>
                    <a:pt x="5321" y="2049"/>
                  </a:lnTo>
                  <a:lnTo>
                    <a:pt x="5248" y="2070"/>
                  </a:lnTo>
                  <a:lnTo>
                    <a:pt x="5174" y="2091"/>
                  </a:lnTo>
                  <a:lnTo>
                    <a:pt x="5023" y="2132"/>
                  </a:lnTo>
                  <a:lnTo>
                    <a:pt x="4870" y="2173"/>
                  </a:lnTo>
                  <a:lnTo>
                    <a:pt x="4713" y="2212"/>
                  </a:lnTo>
                  <a:lnTo>
                    <a:pt x="4554" y="2250"/>
                  </a:lnTo>
                  <a:lnTo>
                    <a:pt x="4391" y="2286"/>
                  </a:lnTo>
                  <a:lnTo>
                    <a:pt x="4227" y="2322"/>
                  </a:lnTo>
                  <a:lnTo>
                    <a:pt x="4060" y="2356"/>
                  </a:lnTo>
                  <a:lnTo>
                    <a:pt x="3889" y="2388"/>
                  </a:lnTo>
                  <a:lnTo>
                    <a:pt x="3718" y="2420"/>
                  </a:lnTo>
                  <a:lnTo>
                    <a:pt x="3542" y="2449"/>
                  </a:lnTo>
                  <a:lnTo>
                    <a:pt x="3365" y="2478"/>
                  </a:lnTo>
                  <a:lnTo>
                    <a:pt x="3185" y="2506"/>
                  </a:lnTo>
                  <a:lnTo>
                    <a:pt x="3004" y="2531"/>
                  </a:lnTo>
                  <a:lnTo>
                    <a:pt x="2820" y="2554"/>
                  </a:lnTo>
                  <a:lnTo>
                    <a:pt x="2634" y="2577"/>
                  </a:lnTo>
                  <a:lnTo>
                    <a:pt x="2446" y="2598"/>
                  </a:lnTo>
                  <a:lnTo>
                    <a:pt x="2255" y="2618"/>
                  </a:lnTo>
                  <a:lnTo>
                    <a:pt x="2063" y="2635"/>
                  </a:lnTo>
                  <a:lnTo>
                    <a:pt x="1869" y="2651"/>
                  </a:lnTo>
                  <a:lnTo>
                    <a:pt x="1674" y="2667"/>
                  </a:lnTo>
                  <a:lnTo>
                    <a:pt x="1475" y="2679"/>
                  </a:lnTo>
                  <a:lnTo>
                    <a:pt x="1276" y="2691"/>
                  </a:lnTo>
                  <a:lnTo>
                    <a:pt x="1075" y="2700"/>
                  </a:lnTo>
                  <a:lnTo>
                    <a:pt x="873" y="2708"/>
                  </a:lnTo>
                  <a:lnTo>
                    <a:pt x="669" y="2715"/>
                  </a:lnTo>
                  <a:lnTo>
                    <a:pt x="464" y="2719"/>
                  </a:lnTo>
                  <a:lnTo>
                    <a:pt x="257" y="2722"/>
                  </a:lnTo>
                  <a:lnTo>
                    <a:pt x="49" y="2723"/>
                  </a:lnTo>
                  <a:lnTo>
                    <a:pt x="49" y="2723"/>
                  </a:lnTo>
                  <a:lnTo>
                    <a:pt x="49" y="2723"/>
                  </a:lnTo>
                  <a:lnTo>
                    <a:pt x="43" y="2723"/>
                  </a:lnTo>
                  <a:lnTo>
                    <a:pt x="38" y="2724"/>
                  </a:lnTo>
                  <a:lnTo>
                    <a:pt x="33" y="2725"/>
                  </a:lnTo>
                  <a:lnTo>
                    <a:pt x="28" y="2727"/>
                  </a:lnTo>
                  <a:lnTo>
                    <a:pt x="23" y="2729"/>
                  </a:lnTo>
                  <a:lnTo>
                    <a:pt x="19" y="2732"/>
                  </a:lnTo>
                  <a:lnTo>
                    <a:pt x="15" y="2735"/>
                  </a:lnTo>
                  <a:lnTo>
                    <a:pt x="12" y="2738"/>
                  </a:lnTo>
                  <a:lnTo>
                    <a:pt x="6" y="2745"/>
                  </a:lnTo>
                  <a:lnTo>
                    <a:pt x="3" y="2753"/>
                  </a:lnTo>
                  <a:lnTo>
                    <a:pt x="0" y="2762"/>
                  </a:lnTo>
                  <a:lnTo>
                    <a:pt x="0" y="2772"/>
                  </a:lnTo>
                  <a:lnTo>
                    <a:pt x="0" y="2781"/>
                  </a:lnTo>
                  <a:lnTo>
                    <a:pt x="3" y="2790"/>
                  </a:lnTo>
                  <a:lnTo>
                    <a:pt x="6" y="2798"/>
                  </a:lnTo>
                  <a:lnTo>
                    <a:pt x="12" y="2806"/>
                  </a:lnTo>
                  <a:lnTo>
                    <a:pt x="15" y="2809"/>
                  </a:lnTo>
                  <a:lnTo>
                    <a:pt x="19" y="2812"/>
                  </a:lnTo>
                  <a:lnTo>
                    <a:pt x="23" y="2815"/>
                  </a:lnTo>
                  <a:lnTo>
                    <a:pt x="28" y="2817"/>
                  </a:lnTo>
                  <a:lnTo>
                    <a:pt x="33" y="2818"/>
                  </a:lnTo>
                  <a:lnTo>
                    <a:pt x="38" y="2821"/>
                  </a:lnTo>
                  <a:lnTo>
                    <a:pt x="43" y="2822"/>
                  </a:lnTo>
                  <a:lnTo>
                    <a:pt x="49" y="2822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68520" y="2517480"/>
              <a:ext cx="403560" cy="141480"/>
            </a:xfrm>
            <a:custGeom>
              <a:avLst/>
              <a:gdLst/>
              <a:ahLst/>
              <a:rect l="l" t="t" r="r" b="b"/>
              <a:pathLst>
                <a:path w="8128" h="2872">
                  <a:moveTo>
                    <a:pt x="0" y="50"/>
                  </a:moveTo>
                  <a:lnTo>
                    <a:pt x="0" y="50"/>
                  </a:lnTo>
                  <a:lnTo>
                    <a:pt x="1" y="87"/>
                  </a:lnTo>
                  <a:lnTo>
                    <a:pt x="3" y="125"/>
                  </a:lnTo>
                  <a:lnTo>
                    <a:pt x="6" y="162"/>
                  </a:lnTo>
                  <a:lnTo>
                    <a:pt x="11" y="200"/>
                  </a:lnTo>
                  <a:lnTo>
                    <a:pt x="17" y="236"/>
                  </a:lnTo>
                  <a:lnTo>
                    <a:pt x="24" y="274"/>
                  </a:lnTo>
                  <a:lnTo>
                    <a:pt x="34" y="311"/>
                  </a:lnTo>
                  <a:lnTo>
                    <a:pt x="44" y="347"/>
                  </a:lnTo>
                  <a:lnTo>
                    <a:pt x="55" y="383"/>
                  </a:lnTo>
                  <a:lnTo>
                    <a:pt x="68" y="420"/>
                  </a:lnTo>
                  <a:lnTo>
                    <a:pt x="82" y="457"/>
                  </a:lnTo>
                  <a:lnTo>
                    <a:pt x="98" y="492"/>
                  </a:lnTo>
                  <a:lnTo>
                    <a:pt x="114" y="528"/>
                  </a:lnTo>
                  <a:lnTo>
                    <a:pt x="132" y="564"/>
                  </a:lnTo>
                  <a:lnTo>
                    <a:pt x="151" y="598"/>
                  </a:lnTo>
                  <a:lnTo>
                    <a:pt x="172" y="634"/>
                  </a:lnTo>
                  <a:lnTo>
                    <a:pt x="193" y="669"/>
                  </a:lnTo>
                  <a:lnTo>
                    <a:pt x="215" y="703"/>
                  </a:lnTo>
                  <a:lnTo>
                    <a:pt x="240" y="738"/>
                  </a:lnTo>
                  <a:lnTo>
                    <a:pt x="264" y="772"/>
                  </a:lnTo>
                  <a:lnTo>
                    <a:pt x="291" y="806"/>
                  </a:lnTo>
                  <a:lnTo>
                    <a:pt x="318" y="840"/>
                  </a:lnTo>
                  <a:lnTo>
                    <a:pt x="346" y="873"/>
                  </a:lnTo>
                  <a:lnTo>
                    <a:pt x="376" y="907"/>
                  </a:lnTo>
                  <a:lnTo>
                    <a:pt x="407" y="941"/>
                  </a:lnTo>
                  <a:lnTo>
                    <a:pt x="439" y="973"/>
                  </a:lnTo>
                  <a:lnTo>
                    <a:pt x="472" y="1006"/>
                  </a:lnTo>
                  <a:lnTo>
                    <a:pt x="506" y="1039"/>
                  </a:lnTo>
                  <a:lnTo>
                    <a:pt x="542" y="1071"/>
                  </a:lnTo>
                  <a:lnTo>
                    <a:pt x="578" y="1103"/>
                  </a:lnTo>
                  <a:lnTo>
                    <a:pt x="615" y="1135"/>
                  </a:lnTo>
                  <a:lnTo>
                    <a:pt x="653" y="1167"/>
                  </a:lnTo>
                  <a:lnTo>
                    <a:pt x="693" y="1199"/>
                  </a:lnTo>
                  <a:lnTo>
                    <a:pt x="734" y="1230"/>
                  </a:lnTo>
                  <a:lnTo>
                    <a:pt x="775" y="1261"/>
                  </a:lnTo>
                  <a:lnTo>
                    <a:pt x="818" y="1291"/>
                  </a:lnTo>
                  <a:lnTo>
                    <a:pt x="862" y="1322"/>
                  </a:lnTo>
                  <a:lnTo>
                    <a:pt x="906" y="1353"/>
                  </a:lnTo>
                  <a:lnTo>
                    <a:pt x="952" y="1383"/>
                  </a:lnTo>
                  <a:lnTo>
                    <a:pt x="999" y="1413"/>
                  </a:lnTo>
                  <a:lnTo>
                    <a:pt x="1046" y="1442"/>
                  </a:lnTo>
                  <a:lnTo>
                    <a:pt x="1095" y="1472"/>
                  </a:lnTo>
                  <a:lnTo>
                    <a:pt x="1145" y="1501"/>
                  </a:lnTo>
                  <a:lnTo>
                    <a:pt x="1195" y="1530"/>
                  </a:lnTo>
                  <a:lnTo>
                    <a:pt x="1247" y="1559"/>
                  </a:lnTo>
                  <a:lnTo>
                    <a:pt x="1299" y="1587"/>
                  </a:lnTo>
                  <a:lnTo>
                    <a:pt x="1353" y="1616"/>
                  </a:lnTo>
                  <a:lnTo>
                    <a:pt x="1407" y="1643"/>
                  </a:lnTo>
                  <a:lnTo>
                    <a:pt x="1463" y="1672"/>
                  </a:lnTo>
                  <a:lnTo>
                    <a:pt x="1519" y="1699"/>
                  </a:lnTo>
                  <a:lnTo>
                    <a:pt x="1577" y="1726"/>
                  </a:lnTo>
                  <a:lnTo>
                    <a:pt x="1635" y="1753"/>
                  </a:lnTo>
                  <a:lnTo>
                    <a:pt x="1694" y="1780"/>
                  </a:lnTo>
                  <a:lnTo>
                    <a:pt x="1754" y="1806"/>
                  </a:lnTo>
                  <a:lnTo>
                    <a:pt x="1815" y="1833"/>
                  </a:lnTo>
                  <a:lnTo>
                    <a:pt x="1877" y="1858"/>
                  </a:lnTo>
                  <a:lnTo>
                    <a:pt x="1939" y="1884"/>
                  </a:lnTo>
                  <a:lnTo>
                    <a:pt x="2002" y="1909"/>
                  </a:lnTo>
                  <a:lnTo>
                    <a:pt x="2067" y="1935"/>
                  </a:lnTo>
                  <a:lnTo>
                    <a:pt x="2132" y="1959"/>
                  </a:lnTo>
                  <a:lnTo>
                    <a:pt x="2198" y="1985"/>
                  </a:lnTo>
                  <a:lnTo>
                    <a:pt x="2265" y="2008"/>
                  </a:lnTo>
                  <a:lnTo>
                    <a:pt x="2332" y="2033"/>
                  </a:lnTo>
                  <a:lnTo>
                    <a:pt x="2401" y="2056"/>
                  </a:lnTo>
                  <a:lnTo>
                    <a:pt x="2470" y="2079"/>
                  </a:lnTo>
                  <a:lnTo>
                    <a:pt x="2540" y="2103"/>
                  </a:lnTo>
                  <a:lnTo>
                    <a:pt x="2611" y="2126"/>
                  </a:lnTo>
                  <a:lnTo>
                    <a:pt x="2682" y="2149"/>
                  </a:lnTo>
                  <a:lnTo>
                    <a:pt x="2754" y="2171"/>
                  </a:lnTo>
                  <a:lnTo>
                    <a:pt x="2829" y="2193"/>
                  </a:lnTo>
                  <a:lnTo>
                    <a:pt x="2902" y="2215"/>
                  </a:lnTo>
                  <a:lnTo>
                    <a:pt x="2977" y="2236"/>
                  </a:lnTo>
                  <a:lnTo>
                    <a:pt x="3128" y="2278"/>
                  </a:lnTo>
                  <a:lnTo>
                    <a:pt x="3284" y="2319"/>
                  </a:lnTo>
                  <a:lnTo>
                    <a:pt x="3441" y="2359"/>
                  </a:lnTo>
                  <a:lnTo>
                    <a:pt x="3601" y="2396"/>
                  </a:lnTo>
                  <a:lnTo>
                    <a:pt x="3764" y="2433"/>
                  </a:lnTo>
                  <a:lnTo>
                    <a:pt x="3930" y="2469"/>
                  </a:lnTo>
                  <a:lnTo>
                    <a:pt x="4099" y="2504"/>
                  </a:lnTo>
                  <a:lnTo>
                    <a:pt x="4269" y="2536"/>
                  </a:lnTo>
                  <a:lnTo>
                    <a:pt x="4443" y="2568"/>
                  </a:lnTo>
                  <a:lnTo>
                    <a:pt x="4619" y="2597"/>
                  </a:lnTo>
                  <a:lnTo>
                    <a:pt x="4797" y="2626"/>
                  </a:lnTo>
                  <a:lnTo>
                    <a:pt x="4977" y="2653"/>
                  </a:lnTo>
                  <a:lnTo>
                    <a:pt x="5160" y="2679"/>
                  </a:lnTo>
                  <a:lnTo>
                    <a:pt x="5345" y="2702"/>
                  </a:lnTo>
                  <a:lnTo>
                    <a:pt x="5532" y="2726"/>
                  </a:lnTo>
                  <a:lnTo>
                    <a:pt x="5721" y="2746"/>
                  </a:lnTo>
                  <a:lnTo>
                    <a:pt x="5912" y="2766"/>
                  </a:lnTo>
                  <a:lnTo>
                    <a:pt x="6105" y="2784"/>
                  </a:lnTo>
                  <a:lnTo>
                    <a:pt x="6300" y="2800"/>
                  </a:lnTo>
                  <a:lnTo>
                    <a:pt x="6497" y="2814"/>
                  </a:lnTo>
                  <a:lnTo>
                    <a:pt x="6695" y="2828"/>
                  </a:lnTo>
                  <a:lnTo>
                    <a:pt x="6896" y="2839"/>
                  </a:lnTo>
                  <a:lnTo>
                    <a:pt x="7098" y="2849"/>
                  </a:lnTo>
                  <a:lnTo>
                    <a:pt x="7301" y="2857"/>
                  </a:lnTo>
                  <a:lnTo>
                    <a:pt x="7505" y="2863"/>
                  </a:lnTo>
                  <a:lnTo>
                    <a:pt x="7711" y="2867"/>
                  </a:lnTo>
                  <a:lnTo>
                    <a:pt x="7920" y="2871"/>
                  </a:lnTo>
                  <a:lnTo>
                    <a:pt x="8128" y="2872"/>
                  </a:lnTo>
                  <a:lnTo>
                    <a:pt x="8128" y="2773"/>
                  </a:lnTo>
                  <a:lnTo>
                    <a:pt x="7920" y="2772"/>
                  </a:lnTo>
                  <a:lnTo>
                    <a:pt x="7713" y="2769"/>
                  </a:lnTo>
                  <a:lnTo>
                    <a:pt x="7508" y="2765"/>
                  </a:lnTo>
                  <a:lnTo>
                    <a:pt x="7304" y="2758"/>
                  </a:lnTo>
                  <a:lnTo>
                    <a:pt x="7102" y="2750"/>
                  </a:lnTo>
                  <a:lnTo>
                    <a:pt x="6901" y="2741"/>
                  </a:lnTo>
                  <a:lnTo>
                    <a:pt x="6702" y="2729"/>
                  </a:lnTo>
                  <a:lnTo>
                    <a:pt x="6503" y="2717"/>
                  </a:lnTo>
                  <a:lnTo>
                    <a:pt x="6308" y="2701"/>
                  </a:lnTo>
                  <a:lnTo>
                    <a:pt x="6114" y="2685"/>
                  </a:lnTo>
                  <a:lnTo>
                    <a:pt x="5922" y="2668"/>
                  </a:lnTo>
                  <a:lnTo>
                    <a:pt x="5731" y="2648"/>
                  </a:lnTo>
                  <a:lnTo>
                    <a:pt x="5543" y="2627"/>
                  </a:lnTo>
                  <a:lnTo>
                    <a:pt x="5357" y="2604"/>
                  </a:lnTo>
                  <a:lnTo>
                    <a:pt x="5173" y="2581"/>
                  </a:lnTo>
                  <a:lnTo>
                    <a:pt x="4992" y="2556"/>
                  </a:lnTo>
                  <a:lnTo>
                    <a:pt x="4812" y="2528"/>
                  </a:lnTo>
                  <a:lnTo>
                    <a:pt x="4635" y="2499"/>
                  </a:lnTo>
                  <a:lnTo>
                    <a:pt x="4459" y="2470"/>
                  </a:lnTo>
                  <a:lnTo>
                    <a:pt x="4288" y="2438"/>
                  </a:lnTo>
                  <a:lnTo>
                    <a:pt x="4117" y="2406"/>
                  </a:lnTo>
                  <a:lnTo>
                    <a:pt x="3950" y="2372"/>
                  </a:lnTo>
                  <a:lnTo>
                    <a:pt x="3785" y="2336"/>
                  </a:lnTo>
                  <a:lnTo>
                    <a:pt x="3623" y="2300"/>
                  </a:lnTo>
                  <a:lnTo>
                    <a:pt x="3464" y="2262"/>
                  </a:lnTo>
                  <a:lnTo>
                    <a:pt x="3307" y="2223"/>
                  </a:lnTo>
                  <a:lnTo>
                    <a:pt x="3154" y="2182"/>
                  </a:lnTo>
                  <a:lnTo>
                    <a:pt x="3003" y="2141"/>
                  </a:lnTo>
                  <a:lnTo>
                    <a:pt x="2929" y="2120"/>
                  </a:lnTo>
                  <a:lnTo>
                    <a:pt x="2856" y="2099"/>
                  </a:lnTo>
                  <a:lnTo>
                    <a:pt x="2784" y="2076"/>
                  </a:lnTo>
                  <a:lnTo>
                    <a:pt x="2712" y="2054"/>
                  </a:lnTo>
                  <a:lnTo>
                    <a:pt x="2641" y="2032"/>
                  </a:lnTo>
                  <a:lnTo>
                    <a:pt x="2570" y="2009"/>
                  </a:lnTo>
                  <a:lnTo>
                    <a:pt x="2501" y="1987"/>
                  </a:lnTo>
                  <a:lnTo>
                    <a:pt x="2432" y="1963"/>
                  </a:lnTo>
                  <a:lnTo>
                    <a:pt x="2364" y="1940"/>
                  </a:lnTo>
                  <a:lnTo>
                    <a:pt x="2297" y="1915"/>
                  </a:lnTo>
                  <a:lnTo>
                    <a:pt x="2231" y="1892"/>
                  </a:lnTo>
                  <a:lnTo>
                    <a:pt x="2166" y="1867"/>
                  </a:lnTo>
                  <a:lnTo>
                    <a:pt x="2102" y="1843"/>
                  </a:lnTo>
                  <a:lnTo>
                    <a:pt x="2038" y="1817"/>
                  </a:lnTo>
                  <a:lnTo>
                    <a:pt x="1975" y="1793"/>
                  </a:lnTo>
                  <a:lnTo>
                    <a:pt x="1913" y="1768"/>
                  </a:lnTo>
                  <a:lnTo>
                    <a:pt x="1853" y="1742"/>
                  </a:lnTo>
                  <a:lnTo>
                    <a:pt x="1793" y="1716"/>
                  </a:lnTo>
                  <a:lnTo>
                    <a:pt x="1733" y="1690"/>
                  </a:lnTo>
                  <a:lnTo>
                    <a:pt x="1675" y="1664"/>
                  </a:lnTo>
                  <a:lnTo>
                    <a:pt x="1618" y="1637"/>
                  </a:lnTo>
                  <a:lnTo>
                    <a:pt x="1562" y="1609"/>
                  </a:lnTo>
                  <a:lnTo>
                    <a:pt x="1507" y="1583"/>
                  </a:lnTo>
                  <a:lnTo>
                    <a:pt x="1452" y="1555"/>
                  </a:lnTo>
                  <a:lnTo>
                    <a:pt x="1398" y="1528"/>
                  </a:lnTo>
                  <a:lnTo>
                    <a:pt x="1346" y="1500"/>
                  </a:lnTo>
                  <a:lnTo>
                    <a:pt x="1294" y="1472"/>
                  </a:lnTo>
                  <a:lnTo>
                    <a:pt x="1244" y="1443"/>
                  </a:lnTo>
                  <a:lnTo>
                    <a:pt x="1194" y="1416"/>
                  </a:lnTo>
                  <a:lnTo>
                    <a:pt x="1145" y="1387"/>
                  </a:lnTo>
                  <a:lnTo>
                    <a:pt x="1097" y="1358"/>
                  </a:lnTo>
                  <a:lnTo>
                    <a:pt x="1051" y="1329"/>
                  </a:lnTo>
                  <a:lnTo>
                    <a:pt x="1006" y="1300"/>
                  </a:lnTo>
                  <a:lnTo>
                    <a:pt x="961" y="1270"/>
                  </a:lnTo>
                  <a:lnTo>
                    <a:pt x="917" y="1240"/>
                  </a:lnTo>
                  <a:lnTo>
                    <a:pt x="875" y="1211"/>
                  </a:lnTo>
                  <a:lnTo>
                    <a:pt x="833" y="1181"/>
                  </a:lnTo>
                  <a:lnTo>
                    <a:pt x="792" y="1151"/>
                  </a:lnTo>
                  <a:lnTo>
                    <a:pt x="754" y="1120"/>
                  </a:lnTo>
                  <a:lnTo>
                    <a:pt x="715" y="1090"/>
                  </a:lnTo>
                  <a:lnTo>
                    <a:pt x="679" y="1059"/>
                  </a:lnTo>
                  <a:lnTo>
                    <a:pt x="642" y="1028"/>
                  </a:lnTo>
                  <a:lnTo>
                    <a:pt x="608" y="998"/>
                  </a:lnTo>
                  <a:lnTo>
                    <a:pt x="573" y="966"/>
                  </a:lnTo>
                  <a:lnTo>
                    <a:pt x="541" y="936"/>
                  </a:lnTo>
                  <a:lnTo>
                    <a:pt x="509" y="904"/>
                  </a:lnTo>
                  <a:lnTo>
                    <a:pt x="479" y="872"/>
                  </a:lnTo>
                  <a:lnTo>
                    <a:pt x="449" y="841"/>
                  </a:lnTo>
                  <a:lnTo>
                    <a:pt x="421" y="809"/>
                  </a:lnTo>
                  <a:lnTo>
                    <a:pt x="394" y="777"/>
                  </a:lnTo>
                  <a:lnTo>
                    <a:pt x="368" y="745"/>
                  </a:lnTo>
                  <a:lnTo>
                    <a:pt x="343" y="712"/>
                  </a:lnTo>
                  <a:lnTo>
                    <a:pt x="319" y="681"/>
                  </a:lnTo>
                  <a:lnTo>
                    <a:pt x="297" y="648"/>
                  </a:lnTo>
                  <a:lnTo>
                    <a:pt x="276" y="616"/>
                  </a:lnTo>
                  <a:lnTo>
                    <a:pt x="256" y="583"/>
                  </a:lnTo>
                  <a:lnTo>
                    <a:pt x="237" y="550"/>
                  </a:lnTo>
                  <a:lnTo>
                    <a:pt x="219" y="518"/>
                  </a:lnTo>
                  <a:lnTo>
                    <a:pt x="202" y="485"/>
                  </a:lnTo>
                  <a:lnTo>
                    <a:pt x="187" y="451"/>
                  </a:lnTo>
                  <a:lnTo>
                    <a:pt x="173" y="419"/>
                  </a:lnTo>
                  <a:lnTo>
                    <a:pt x="161" y="385"/>
                  </a:lnTo>
                  <a:lnTo>
                    <a:pt x="148" y="353"/>
                  </a:lnTo>
                  <a:lnTo>
                    <a:pt x="138" y="319"/>
                  </a:lnTo>
                  <a:lnTo>
                    <a:pt x="129" y="285"/>
                  </a:lnTo>
                  <a:lnTo>
                    <a:pt x="121" y="253"/>
                  </a:lnTo>
                  <a:lnTo>
                    <a:pt x="114" y="219"/>
                  </a:lnTo>
                  <a:lnTo>
                    <a:pt x="109" y="185"/>
                  </a:lnTo>
                  <a:lnTo>
                    <a:pt x="105" y="152"/>
                  </a:lnTo>
                  <a:lnTo>
                    <a:pt x="101" y="118"/>
                  </a:lnTo>
                  <a:lnTo>
                    <a:pt x="100" y="83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44"/>
                  </a:lnTo>
                  <a:lnTo>
                    <a:pt x="98" y="39"/>
                  </a:lnTo>
                  <a:lnTo>
                    <a:pt x="97" y="32"/>
                  </a:lnTo>
                  <a:lnTo>
                    <a:pt x="94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3" y="13"/>
                  </a:lnTo>
                  <a:lnTo>
                    <a:pt x="76" y="7"/>
                  </a:lnTo>
                  <a:lnTo>
                    <a:pt x="67" y="3"/>
                  </a:lnTo>
                  <a:lnTo>
                    <a:pt x="59" y="1"/>
                  </a:lnTo>
                  <a:lnTo>
                    <a:pt x="50" y="0"/>
                  </a:lnTo>
                  <a:lnTo>
                    <a:pt x="40" y="1"/>
                  </a:lnTo>
                  <a:lnTo>
                    <a:pt x="31" y="3"/>
                  </a:lnTo>
                  <a:lnTo>
                    <a:pt x="22" y="7"/>
                  </a:lnTo>
                  <a:lnTo>
                    <a:pt x="15" y="13"/>
                  </a:lnTo>
                  <a:lnTo>
                    <a:pt x="12" y="16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68520" y="2379600"/>
              <a:ext cx="406440" cy="139680"/>
            </a:xfrm>
            <a:custGeom>
              <a:avLst/>
              <a:gdLst/>
              <a:ahLst/>
              <a:rect l="l" t="t" r="r" b="b"/>
              <a:pathLst>
                <a:path w="8178" h="2822">
                  <a:moveTo>
                    <a:pt x="8128" y="0"/>
                  </a:moveTo>
                  <a:lnTo>
                    <a:pt x="8128" y="0"/>
                  </a:lnTo>
                  <a:lnTo>
                    <a:pt x="7920" y="1"/>
                  </a:lnTo>
                  <a:lnTo>
                    <a:pt x="7711" y="4"/>
                  </a:lnTo>
                  <a:lnTo>
                    <a:pt x="7505" y="8"/>
                  </a:lnTo>
                  <a:lnTo>
                    <a:pt x="7301" y="14"/>
                  </a:lnTo>
                  <a:lnTo>
                    <a:pt x="7098" y="22"/>
                  </a:lnTo>
                  <a:lnTo>
                    <a:pt x="6896" y="33"/>
                  </a:lnTo>
                  <a:lnTo>
                    <a:pt x="6695" y="44"/>
                  </a:lnTo>
                  <a:lnTo>
                    <a:pt x="6497" y="57"/>
                  </a:lnTo>
                  <a:lnTo>
                    <a:pt x="6300" y="71"/>
                  </a:lnTo>
                  <a:lnTo>
                    <a:pt x="6105" y="88"/>
                  </a:lnTo>
                  <a:lnTo>
                    <a:pt x="5912" y="106"/>
                  </a:lnTo>
                  <a:lnTo>
                    <a:pt x="5721" y="125"/>
                  </a:lnTo>
                  <a:lnTo>
                    <a:pt x="5532" y="146"/>
                  </a:lnTo>
                  <a:lnTo>
                    <a:pt x="5345" y="169"/>
                  </a:lnTo>
                  <a:lnTo>
                    <a:pt x="5160" y="193"/>
                  </a:lnTo>
                  <a:lnTo>
                    <a:pt x="4977" y="218"/>
                  </a:lnTo>
                  <a:lnTo>
                    <a:pt x="4797" y="246"/>
                  </a:lnTo>
                  <a:lnTo>
                    <a:pt x="4619" y="274"/>
                  </a:lnTo>
                  <a:lnTo>
                    <a:pt x="4443" y="304"/>
                  </a:lnTo>
                  <a:lnTo>
                    <a:pt x="4269" y="335"/>
                  </a:lnTo>
                  <a:lnTo>
                    <a:pt x="4099" y="368"/>
                  </a:lnTo>
                  <a:lnTo>
                    <a:pt x="3930" y="403"/>
                  </a:lnTo>
                  <a:lnTo>
                    <a:pt x="3764" y="438"/>
                  </a:lnTo>
                  <a:lnTo>
                    <a:pt x="3601" y="475"/>
                  </a:lnTo>
                  <a:lnTo>
                    <a:pt x="3441" y="514"/>
                  </a:lnTo>
                  <a:lnTo>
                    <a:pt x="3284" y="553"/>
                  </a:lnTo>
                  <a:lnTo>
                    <a:pt x="3128" y="593"/>
                  </a:lnTo>
                  <a:lnTo>
                    <a:pt x="2977" y="635"/>
                  </a:lnTo>
                  <a:lnTo>
                    <a:pt x="2829" y="679"/>
                  </a:lnTo>
                  <a:lnTo>
                    <a:pt x="2682" y="723"/>
                  </a:lnTo>
                  <a:lnTo>
                    <a:pt x="2611" y="745"/>
                  </a:lnTo>
                  <a:lnTo>
                    <a:pt x="2540" y="769"/>
                  </a:lnTo>
                  <a:lnTo>
                    <a:pt x="2470" y="792"/>
                  </a:lnTo>
                  <a:lnTo>
                    <a:pt x="2401" y="815"/>
                  </a:lnTo>
                  <a:lnTo>
                    <a:pt x="2332" y="839"/>
                  </a:lnTo>
                  <a:lnTo>
                    <a:pt x="2265" y="863"/>
                  </a:lnTo>
                  <a:lnTo>
                    <a:pt x="2198" y="887"/>
                  </a:lnTo>
                  <a:lnTo>
                    <a:pt x="2132" y="911"/>
                  </a:lnTo>
                  <a:lnTo>
                    <a:pt x="2067" y="937"/>
                  </a:lnTo>
                  <a:lnTo>
                    <a:pt x="2002" y="962"/>
                  </a:lnTo>
                  <a:lnTo>
                    <a:pt x="1939" y="988"/>
                  </a:lnTo>
                  <a:lnTo>
                    <a:pt x="1877" y="1013"/>
                  </a:lnTo>
                  <a:lnTo>
                    <a:pt x="1815" y="1039"/>
                  </a:lnTo>
                  <a:lnTo>
                    <a:pt x="1754" y="1065"/>
                  </a:lnTo>
                  <a:lnTo>
                    <a:pt x="1694" y="1092"/>
                  </a:lnTo>
                  <a:lnTo>
                    <a:pt x="1635" y="1118"/>
                  </a:lnTo>
                  <a:lnTo>
                    <a:pt x="1577" y="1146"/>
                  </a:lnTo>
                  <a:lnTo>
                    <a:pt x="1519" y="1172"/>
                  </a:lnTo>
                  <a:lnTo>
                    <a:pt x="1463" y="1200"/>
                  </a:lnTo>
                  <a:lnTo>
                    <a:pt x="1407" y="1228"/>
                  </a:lnTo>
                  <a:lnTo>
                    <a:pt x="1353" y="1256"/>
                  </a:lnTo>
                  <a:lnTo>
                    <a:pt x="1299" y="1284"/>
                  </a:lnTo>
                  <a:lnTo>
                    <a:pt x="1247" y="1313"/>
                  </a:lnTo>
                  <a:lnTo>
                    <a:pt x="1195" y="1342"/>
                  </a:lnTo>
                  <a:lnTo>
                    <a:pt x="1145" y="1371"/>
                  </a:lnTo>
                  <a:lnTo>
                    <a:pt x="1095" y="1400"/>
                  </a:lnTo>
                  <a:lnTo>
                    <a:pt x="1046" y="1429"/>
                  </a:lnTo>
                  <a:lnTo>
                    <a:pt x="999" y="1459"/>
                  </a:lnTo>
                  <a:lnTo>
                    <a:pt x="952" y="1489"/>
                  </a:lnTo>
                  <a:lnTo>
                    <a:pt x="906" y="1519"/>
                  </a:lnTo>
                  <a:lnTo>
                    <a:pt x="862" y="1550"/>
                  </a:lnTo>
                  <a:lnTo>
                    <a:pt x="818" y="1580"/>
                  </a:lnTo>
                  <a:lnTo>
                    <a:pt x="775" y="1611"/>
                  </a:lnTo>
                  <a:lnTo>
                    <a:pt x="734" y="1641"/>
                  </a:lnTo>
                  <a:lnTo>
                    <a:pt x="693" y="1673"/>
                  </a:lnTo>
                  <a:lnTo>
                    <a:pt x="653" y="1704"/>
                  </a:lnTo>
                  <a:lnTo>
                    <a:pt x="615" y="1736"/>
                  </a:lnTo>
                  <a:lnTo>
                    <a:pt x="578" y="1769"/>
                  </a:lnTo>
                  <a:lnTo>
                    <a:pt x="542" y="1800"/>
                  </a:lnTo>
                  <a:lnTo>
                    <a:pt x="506" y="1833"/>
                  </a:lnTo>
                  <a:lnTo>
                    <a:pt x="472" y="1866"/>
                  </a:lnTo>
                  <a:lnTo>
                    <a:pt x="439" y="1898"/>
                  </a:lnTo>
                  <a:lnTo>
                    <a:pt x="407" y="1931"/>
                  </a:lnTo>
                  <a:lnTo>
                    <a:pt x="376" y="1964"/>
                  </a:lnTo>
                  <a:lnTo>
                    <a:pt x="346" y="1998"/>
                  </a:lnTo>
                  <a:lnTo>
                    <a:pt x="318" y="2032"/>
                  </a:lnTo>
                  <a:lnTo>
                    <a:pt x="291" y="2065"/>
                  </a:lnTo>
                  <a:lnTo>
                    <a:pt x="264" y="2099"/>
                  </a:lnTo>
                  <a:lnTo>
                    <a:pt x="240" y="2134"/>
                  </a:lnTo>
                  <a:lnTo>
                    <a:pt x="215" y="2168"/>
                  </a:lnTo>
                  <a:lnTo>
                    <a:pt x="193" y="2203"/>
                  </a:lnTo>
                  <a:lnTo>
                    <a:pt x="172" y="2238"/>
                  </a:lnTo>
                  <a:lnTo>
                    <a:pt x="151" y="2273"/>
                  </a:lnTo>
                  <a:lnTo>
                    <a:pt x="132" y="2308"/>
                  </a:lnTo>
                  <a:lnTo>
                    <a:pt x="114" y="2344"/>
                  </a:lnTo>
                  <a:lnTo>
                    <a:pt x="98" y="2379"/>
                  </a:lnTo>
                  <a:lnTo>
                    <a:pt x="82" y="2415"/>
                  </a:lnTo>
                  <a:lnTo>
                    <a:pt x="68" y="2452"/>
                  </a:lnTo>
                  <a:lnTo>
                    <a:pt x="55" y="2488"/>
                  </a:lnTo>
                  <a:lnTo>
                    <a:pt x="44" y="2524"/>
                  </a:lnTo>
                  <a:lnTo>
                    <a:pt x="34" y="2561"/>
                  </a:lnTo>
                  <a:lnTo>
                    <a:pt x="24" y="2597"/>
                  </a:lnTo>
                  <a:lnTo>
                    <a:pt x="17" y="2635"/>
                  </a:lnTo>
                  <a:lnTo>
                    <a:pt x="11" y="2672"/>
                  </a:lnTo>
                  <a:lnTo>
                    <a:pt x="6" y="2710"/>
                  </a:lnTo>
                  <a:lnTo>
                    <a:pt x="3" y="2746"/>
                  </a:lnTo>
                  <a:lnTo>
                    <a:pt x="1" y="2784"/>
                  </a:lnTo>
                  <a:lnTo>
                    <a:pt x="0" y="2822"/>
                  </a:lnTo>
                  <a:lnTo>
                    <a:pt x="99" y="2822"/>
                  </a:lnTo>
                  <a:lnTo>
                    <a:pt x="100" y="2788"/>
                  </a:lnTo>
                  <a:lnTo>
                    <a:pt x="101" y="2753"/>
                  </a:lnTo>
                  <a:lnTo>
                    <a:pt x="105" y="2720"/>
                  </a:lnTo>
                  <a:lnTo>
                    <a:pt x="109" y="2686"/>
                  </a:lnTo>
                  <a:lnTo>
                    <a:pt x="114" y="2653"/>
                  </a:lnTo>
                  <a:lnTo>
                    <a:pt x="121" y="2619"/>
                  </a:lnTo>
                  <a:lnTo>
                    <a:pt x="129" y="2586"/>
                  </a:lnTo>
                  <a:lnTo>
                    <a:pt x="138" y="2553"/>
                  </a:lnTo>
                  <a:lnTo>
                    <a:pt x="148" y="2519"/>
                  </a:lnTo>
                  <a:lnTo>
                    <a:pt x="161" y="2486"/>
                  </a:lnTo>
                  <a:lnTo>
                    <a:pt x="173" y="2453"/>
                  </a:lnTo>
                  <a:lnTo>
                    <a:pt x="187" y="2420"/>
                  </a:lnTo>
                  <a:lnTo>
                    <a:pt x="202" y="2386"/>
                  </a:lnTo>
                  <a:lnTo>
                    <a:pt x="219" y="2354"/>
                  </a:lnTo>
                  <a:lnTo>
                    <a:pt x="237" y="2321"/>
                  </a:lnTo>
                  <a:lnTo>
                    <a:pt x="256" y="2289"/>
                  </a:lnTo>
                  <a:lnTo>
                    <a:pt x="275" y="2256"/>
                  </a:lnTo>
                  <a:lnTo>
                    <a:pt x="297" y="2223"/>
                  </a:lnTo>
                  <a:lnTo>
                    <a:pt x="319" y="2191"/>
                  </a:lnTo>
                  <a:lnTo>
                    <a:pt x="343" y="2159"/>
                  </a:lnTo>
                  <a:lnTo>
                    <a:pt x="368" y="2127"/>
                  </a:lnTo>
                  <a:lnTo>
                    <a:pt x="394" y="2095"/>
                  </a:lnTo>
                  <a:lnTo>
                    <a:pt x="421" y="2063"/>
                  </a:lnTo>
                  <a:lnTo>
                    <a:pt x="449" y="2031"/>
                  </a:lnTo>
                  <a:lnTo>
                    <a:pt x="479" y="1999"/>
                  </a:lnTo>
                  <a:lnTo>
                    <a:pt x="509" y="1967"/>
                  </a:lnTo>
                  <a:lnTo>
                    <a:pt x="541" y="1936"/>
                  </a:lnTo>
                  <a:lnTo>
                    <a:pt x="573" y="1905"/>
                  </a:lnTo>
                  <a:lnTo>
                    <a:pt x="608" y="1874"/>
                  </a:lnTo>
                  <a:lnTo>
                    <a:pt x="642" y="1843"/>
                  </a:lnTo>
                  <a:lnTo>
                    <a:pt x="679" y="1813"/>
                  </a:lnTo>
                  <a:lnTo>
                    <a:pt x="715" y="1782"/>
                  </a:lnTo>
                  <a:lnTo>
                    <a:pt x="754" y="1751"/>
                  </a:lnTo>
                  <a:lnTo>
                    <a:pt x="792" y="1721"/>
                  </a:lnTo>
                  <a:lnTo>
                    <a:pt x="833" y="1690"/>
                  </a:lnTo>
                  <a:lnTo>
                    <a:pt x="875" y="1661"/>
                  </a:lnTo>
                  <a:lnTo>
                    <a:pt x="917" y="1631"/>
                  </a:lnTo>
                  <a:lnTo>
                    <a:pt x="961" y="1602"/>
                  </a:lnTo>
                  <a:lnTo>
                    <a:pt x="1006" y="1572"/>
                  </a:lnTo>
                  <a:lnTo>
                    <a:pt x="1051" y="1542"/>
                  </a:lnTo>
                  <a:lnTo>
                    <a:pt x="1097" y="1514"/>
                  </a:lnTo>
                  <a:lnTo>
                    <a:pt x="1145" y="1485"/>
                  </a:lnTo>
                  <a:lnTo>
                    <a:pt x="1194" y="1456"/>
                  </a:lnTo>
                  <a:lnTo>
                    <a:pt x="1244" y="1428"/>
                  </a:lnTo>
                  <a:lnTo>
                    <a:pt x="1294" y="1400"/>
                  </a:lnTo>
                  <a:lnTo>
                    <a:pt x="1346" y="1371"/>
                  </a:lnTo>
                  <a:lnTo>
                    <a:pt x="1398" y="1344"/>
                  </a:lnTo>
                  <a:lnTo>
                    <a:pt x="1452" y="1316"/>
                  </a:lnTo>
                  <a:lnTo>
                    <a:pt x="1507" y="1289"/>
                  </a:lnTo>
                  <a:lnTo>
                    <a:pt x="1562" y="1262"/>
                  </a:lnTo>
                  <a:lnTo>
                    <a:pt x="1618" y="1235"/>
                  </a:lnTo>
                  <a:lnTo>
                    <a:pt x="1675" y="1208"/>
                  </a:lnTo>
                  <a:lnTo>
                    <a:pt x="1733" y="1182"/>
                  </a:lnTo>
                  <a:lnTo>
                    <a:pt x="1793" y="1156"/>
                  </a:lnTo>
                  <a:lnTo>
                    <a:pt x="1853" y="1130"/>
                  </a:lnTo>
                  <a:lnTo>
                    <a:pt x="1913" y="1104"/>
                  </a:lnTo>
                  <a:lnTo>
                    <a:pt x="1975" y="1079"/>
                  </a:lnTo>
                  <a:lnTo>
                    <a:pt x="2038" y="1054"/>
                  </a:lnTo>
                  <a:lnTo>
                    <a:pt x="2102" y="1029"/>
                  </a:lnTo>
                  <a:lnTo>
                    <a:pt x="2166" y="1004"/>
                  </a:lnTo>
                  <a:lnTo>
                    <a:pt x="2231" y="980"/>
                  </a:lnTo>
                  <a:lnTo>
                    <a:pt x="2297" y="956"/>
                  </a:lnTo>
                  <a:lnTo>
                    <a:pt x="2364" y="932"/>
                  </a:lnTo>
                  <a:lnTo>
                    <a:pt x="2432" y="908"/>
                  </a:lnTo>
                  <a:lnTo>
                    <a:pt x="2501" y="885"/>
                  </a:lnTo>
                  <a:lnTo>
                    <a:pt x="2570" y="862"/>
                  </a:lnTo>
                  <a:lnTo>
                    <a:pt x="2641" y="840"/>
                  </a:lnTo>
                  <a:lnTo>
                    <a:pt x="2712" y="818"/>
                  </a:lnTo>
                  <a:lnTo>
                    <a:pt x="2856" y="774"/>
                  </a:lnTo>
                  <a:lnTo>
                    <a:pt x="3003" y="730"/>
                  </a:lnTo>
                  <a:lnTo>
                    <a:pt x="3154" y="689"/>
                  </a:lnTo>
                  <a:lnTo>
                    <a:pt x="3307" y="648"/>
                  </a:lnTo>
                  <a:lnTo>
                    <a:pt x="3464" y="610"/>
                  </a:lnTo>
                  <a:lnTo>
                    <a:pt x="3623" y="571"/>
                  </a:lnTo>
                  <a:lnTo>
                    <a:pt x="3785" y="535"/>
                  </a:lnTo>
                  <a:lnTo>
                    <a:pt x="3950" y="500"/>
                  </a:lnTo>
                  <a:lnTo>
                    <a:pt x="4117" y="466"/>
                  </a:lnTo>
                  <a:lnTo>
                    <a:pt x="4288" y="433"/>
                  </a:lnTo>
                  <a:lnTo>
                    <a:pt x="4459" y="402"/>
                  </a:lnTo>
                  <a:lnTo>
                    <a:pt x="4635" y="372"/>
                  </a:lnTo>
                  <a:lnTo>
                    <a:pt x="4812" y="344"/>
                  </a:lnTo>
                  <a:lnTo>
                    <a:pt x="4992" y="316"/>
                  </a:lnTo>
                  <a:lnTo>
                    <a:pt x="5173" y="291"/>
                  </a:lnTo>
                  <a:lnTo>
                    <a:pt x="5357" y="267"/>
                  </a:lnTo>
                  <a:lnTo>
                    <a:pt x="5543" y="245"/>
                  </a:lnTo>
                  <a:lnTo>
                    <a:pt x="5731" y="223"/>
                  </a:lnTo>
                  <a:lnTo>
                    <a:pt x="5922" y="204"/>
                  </a:lnTo>
                  <a:lnTo>
                    <a:pt x="6114" y="187"/>
                  </a:lnTo>
                  <a:lnTo>
                    <a:pt x="6308" y="170"/>
                  </a:lnTo>
                  <a:lnTo>
                    <a:pt x="6503" y="155"/>
                  </a:lnTo>
                  <a:lnTo>
                    <a:pt x="6702" y="142"/>
                  </a:lnTo>
                  <a:lnTo>
                    <a:pt x="6901" y="130"/>
                  </a:lnTo>
                  <a:lnTo>
                    <a:pt x="7102" y="121"/>
                  </a:lnTo>
                  <a:lnTo>
                    <a:pt x="7304" y="113"/>
                  </a:lnTo>
                  <a:lnTo>
                    <a:pt x="7508" y="107"/>
                  </a:lnTo>
                  <a:lnTo>
                    <a:pt x="7713" y="103"/>
                  </a:lnTo>
                  <a:lnTo>
                    <a:pt x="7920" y="100"/>
                  </a:lnTo>
                  <a:lnTo>
                    <a:pt x="8128" y="99"/>
                  </a:lnTo>
                  <a:lnTo>
                    <a:pt x="8128" y="99"/>
                  </a:lnTo>
                  <a:lnTo>
                    <a:pt x="8128" y="99"/>
                  </a:lnTo>
                  <a:lnTo>
                    <a:pt x="8134" y="99"/>
                  </a:lnTo>
                  <a:lnTo>
                    <a:pt x="8139" y="98"/>
                  </a:lnTo>
                  <a:lnTo>
                    <a:pt x="8145" y="97"/>
                  </a:lnTo>
                  <a:lnTo>
                    <a:pt x="8149" y="95"/>
                  </a:lnTo>
                  <a:lnTo>
                    <a:pt x="8154" y="93"/>
                  </a:lnTo>
                  <a:lnTo>
                    <a:pt x="8158" y="90"/>
                  </a:lnTo>
                  <a:lnTo>
                    <a:pt x="8162" y="87"/>
                  </a:lnTo>
                  <a:lnTo>
                    <a:pt x="8166" y="84"/>
                  </a:lnTo>
                  <a:lnTo>
                    <a:pt x="8171" y="76"/>
                  </a:lnTo>
                  <a:lnTo>
                    <a:pt x="8175" y="67"/>
                  </a:lnTo>
                  <a:lnTo>
                    <a:pt x="8177" y="59"/>
                  </a:lnTo>
                  <a:lnTo>
                    <a:pt x="8178" y="50"/>
                  </a:lnTo>
                  <a:lnTo>
                    <a:pt x="8177" y="41"/>
                  </a:lnTo>
                  <a:lnTo>
                    <a:pt x="8175" y="32"/>
                  </a:lnTo>
                  <a:lnTo>
                    <a:pt x="8171" y="23"/>
                  </a:lnTo>
                  <a:lnTo>
                    <a:pt x="8166" y="15"/>
                  </a:lnTo>
                  <a:lnTo>
                    <a:pt x="8162" y="12"/>
                  </a:lnTo>
                  <a:lnTo>
                    <a:pt x="8158" y="9"/>
                  </a:lnTo>
                  <a:lnTo>
                    <a:pt x="8154" y="6"/>
                  </a:lnTo>
                  <a:lnTo>
                    <a:pt x="8149" y="4"/>
                  </a:lnTo>
                  <a:lnTo>
                    <a:pt x="8145" y="2"/>
                  </a:lnTo>
                  <a:lnTo>
                    <a:pt x="8139" y="1"/>
                  </a:lnTo>
                  <a:lnTo>
                    <a:pt x="8134" y="0"/>
                  </a:lnTo>
                  <a:lnTo>
                    <a:pt x="8128" y="0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72080" y="2379600"/>
              <a:ext cx="403200" cy="1396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8128" y="2822"/>
                  </a:moveTo>
                  <a:lnTo>
                    <a:pt x="8127" y="2784"/>
                  </a:lnTo>
                  <a:lnTo>
                    <a:pt x="8125" y="2746"/>
                  </a:lnTo>
                  <a:lnTo>
                    <a:pt x="8122" y="2710"/>
                  </a:lnTo>
                  <a:lnTo>
                    <a:pt x="8117" y="2672"/>
                  </a:lnTo>
                  <a:lnTo>
                    <a:pt x="8111" y="2635"/>
                  </a:lnTo>
                  <a:lnTo>
                    <a:pt x="8103" y="2597"/>
                  </a:lnTo>
                  <a:lnTo>
                    <a:pt x="8094" y="2561"/>
                  </a:lnTo>
                  <a:lnTo>
                    <a:pt x="8084" y="2524"/>
                  </a:lnTo>
                  <a:lnTo>
                    <a:pt x="8072" y="2488"/>
                  </a:lnTo>
                  <a:lnTo>
                    <a:pt x="8060" y="2452"/>
                  </a:lnTo>
                  <a:lnTo>
                    <a:pt x="8046" y="2416"/>
                  </a:lnTo>
                  <a:lnTo>
                    <a:pt x="8030" y="2379"/>
                  </a:lnTo>
                  <a:lnTo>
                    <a:pt x="8014" y="2344"/>
                  </a:lnTo>
                  <a:lnTo>
                    <a:pt x="7996" y="2308"/>
                  </a:lnTo>
                  <a:lnTo>
                    <a:pt x="7977" y="2273"/>
                  </a:lnTo>
                  <a:lnTo>
                    <a:pt x="7956" y="2238"/>
                  </a:lnTo>
                  <a:lnTo>
                    <a:pt x="7935" y="2203"/>
                  </a:lnTo>
                  <a:lnTo>
                    <a:pt x="7913" y="2168"/>
                  </a:lnTo>
                  <a:lnTo>
                    <a:pt x="7888" y="2134"/>
                  </a:lnTo>
                  <a:lnTo>
                    <a:pt x="7864" y="2099"/>
                  </a:lnTo>
                  <a:lnTo>
                    <a:pt x="7837" y="2065"/>
                  </a:lnTo>
                  <a:lnTo>
                    <a:pt x="7810" y="2032"/>
                  </a:lnTo>
                  <a:lnTo>
                    <a:pt x="7782" y="1998"/>
                  </a:lnTo>
                  <a:lnTo>
                    <a:pt x="7752" y="1964"/>
                  </a:lnTo>
                  <a:lnTo>
                    <a:pt x="7721" y="1931"/>
                  </a:lnTo>
                  <a:lnTo>
                    <a:pt x="7689" y="1898"/>
                  </a:lnTo>
                  <a:lnTo>
                    <a:pt x="7656" y="1866"/>
                  </a:lnTo>
                  <a:lnTo>
                    <a:pt x="7622" y="1833"/>
                  </a:lnTo>
                  <a:lnTo>
                    <a:pt x="7586" y="1800"/>
                  </a:lnTo>
                  <a:lnTo>
                    <a:pt x="7550" y="1769"/>
                  </a:lnTo>
                  <a:lnTo>
                    <a:pt x="7512" y="1736"/>
                  </a:lnTo>
                  <a:lnTo>
                    <a:pt x="7475" y="1704"/>
                  </a:lnTo>
                  <a:lnTo>
                    <a:pt x="7435" y="1673"/>
                  </a:lnTo>
                  <a:lnTo>
                    <a:pt x="7394" y="1641"/>
                  </a:lnTo>
                  <a:lnTo>
                    <a:pt x="7353" y="1611"/>
                  </a:lnTo>
                  <a:lnTo>
                    <a:pt x="7310" y="1580"/>
                  </a:lnTo>
                  <a:lnTo>
                    <a:pt x="7266" y="1550"/>
                  </a:lnTo>
                  <a:lnTo>
                    <a:pt x="7222" y="1519"/>
                  </a:lnTo>
                  <a:lnTo>
                    <a:pt x="7176" y="1489"/>
                  </a:lnTo>
                  <a:lnTo>
                    <a:pt x="7129" y="1459"/>
                  </a:lnTo>
                  <a:lnTo>
                    <a:pt x="7082" y="1429"/>
                  </a:lnTo>
                  <a:lnTo>
                    <a:pt x="7033" y="1400"/>
                  </a:lnTo>
                  <a:lnTo>
                    <a:pt x="6983" y="1371"/>
                  </a:lnTo>
                  <a:lnTo>
                    <a:pt x="6932" y="1342"/>
                  </a:lnTo>
                  <a:lnTo>
                    <a:pt x="6881" y="1313"/>
                  </a:lnTo>
                  <a:lnTo>
                    <a:pt x="6829" y="1284"/>
                  </a:lnTo>
                  <a:lnTo>
                    <a:pt x="6775" y="1256"/>
                  </a:lnTo>
                  <a:lnTo>
                    <a:pt x="6721" y="1228"/>
                  </a:lnTo>
                  <a:lnTo>
                    <a:pt x="6665" y="1200"/>
                  </a:lnTo>
                  <a:lnTo>
                    <a:pt x="6609" y="1172"/>
                  </a:lnTo>
                  <a:lnTo>
                    <a:pt x="6551" y="1146"/>
                  </a:lnTo>
                  <a:lnTo>
                    <a:pt x="6493" y="1118"/>
                  </a:lnTo>
                  <a:lnTo>
                    <a:pt x="6434" y="1092"/>
                  </a:lnTo>
                  <a:lnTo>
                    <a:pt x="6374" y="1065"/>
                  </a:lnTo>
                  <a:lnTo>
                    <a:pt x="6313" y="1039"/>
                  </a:lnTo>
                  <a:lnTo>
                    <a:pt x="6251" y="1013"/>
                  </a:lnTo>
                  <a:lnTo>
                    <a:pt x="6189" y="988"/>
                  </a:lnTo>
                  <a:lnTo>
                    <a:pt x="6125" y="962"/>
                  </a:lnTo>
                  <a:lnTo>
                    <a:pt x="6061" y="937"/>
                  </a:lnTo>
                  <a:lnTo>
                    <a:pt x="5996" y="911"/>
                  </a:lnTo>
                  <a:lnTo>
                    <a:pt x="5930" y="887"/>
                  </a:lnTo>
                  <a:lnTo>
                    <a:pt x="5863" y="863"/>
                  </a:lnTo>
                  <a:lnTo>
                    <a:pt x="5796" y="839"/>
                  </a:lnTo>
                  <a:lnTo>
                    <a:pt x="5727" y="815"/>
                  </a:lnTo>
                  <a:lnTo>
                    <a:pt x="5658" y="792"/>
                  </a:lnTo>
                  <a:lnTo>
                    <a:pt x="5588" y="769"/>
                  </a:lnTo>
                  <a:lnTo>
                    <a:pt x="5517" y="745"/>
                  </a:lnTo>
                  <a:lnTo>
                    <a:pt x="5446" y="723"/>
                  </a:lnTo>
                  <a:lnTo>
                    <a:pt x="5299" y="679"/>
                  </a:lnTo>
                  <a:lnTo>
                    <a:pt x="5151" y="635"/>
                  </a:lnTo>
                  <a:lnTo>
                    <a:pt x="5000" y="593"/>
                  </a:lnTo>
                  <a:lnTo>
                    <a:pt x="4844" y="553"/>
                  </a:lnTo>
                  <a:lnTo>
                    <a:pt x="4687" y="514"/>
                  </a:lnTo>
                  <a:lnTo>
                    <a:pt x="4527" y="475"/>
                  </a:lnTo>
                  <a:lnTo>
                    <a:pt x="4364" y="438"/>
                  </a:lnTo>
                  <a:lnTo>
                    <a:pt x="4198" y="403"/>
                  </a:lnTo>
                  <a:lnTo>
                    <a:pt x="4029" y="368"/>
                  </a:lnTo>
                  <a:lnTo>
                    <a:pt x="3859" y="335"/>
                  </a:lnTo>
                  <a:lnTo>
                    <a:pt x="3685" y="304"/>
                  </a:lnTo>
                  <a:lnTo>
                    <a:pt x="3509" y="274"/>
                  </a:lnTo>
                  <a:lnTo>
                    <a:pt x="3331" y="246"/>
                  </a:lnTo>
                  <a:lnTo>
                    <a:pt x="3151" y="218"/>
                  </a:lnTo>
                  <a:lnTo>
                    <a:pt x="2968" y="193"/>
                  </a:lnTo>
                  <a:lnTo>
                    <a:pt x="2783" y="169"/>
                  </a:lnTo>
                  <a:lnTo>
                    <a:pt x="2596" y="146"/>
                  </a:lnTo>
                  <a:lnTo>
                    <a:pt x="2407" y="125"/>
                  </a:lnTo>
                  <a:lnTo>
                    <a:pt x="2216" y="106"/>
                  </a:lnTo>
                  <a:lnTo>
                    <a:pt x="2023" y="88"/>
                  </a:lnTo>
                  <a:lnTo>
                    <a:pt x="1828" y="71"/>
                  </a:lnTo>
                  <a:lnTo>
                    <a:pt x="1631" y="57"/>
                  </a:lnTo>
                  <a:lnTo>
                    <a:pt x="1433" y="44"/>
                  </a:lnTo>
                  <a:lnTo>
                    <a:pt x="1232" y="33"/>
                  </a:lnTo>
                  <a:lnTo>
                    <a:pt x="1030" y="22"/>
                  </a:lnTo>
                  <a:lnTo>
                    <a:pt x="827" y="14"/>
                  </a:lnTo>
                  <a:lnTo>
                    <a:pt x="623" y="8"/>
                  </a:lnTo>
                  <a:lnTo>
                    <a:pt x="417" y="4"/>
                  </a:lnTo>
                  <a:lnTo>
                    <a:pt x="209" y="1"/>
                  </a:lnTo>
                  <a:lnTo>
                    <a:pt x="0" y="0"/>
                  </a:lnTo>
                  <a:lnTo>
                    <a:pt x="0" y="99"/>
                  </a:lnTo>
                  <a:lnTo>
                    <a:pt x="208" y="100"/>
                  </a:lnTo>
                  <a:lnTo>
                    <a:pt x="415" y="103"/>
                  </a:lnTo>
                  <a:lnTo>
                    <a:pt x="620" y="107"/>
                  </a:lnTo>
                  <a:lnTo>
                    <a:pt x="824" y="113"/>
                  </a:lnTo>
                  <a:lnTo>
                    <a:pt x="1026" y="121"/>
                  </a:lnTo>
                  <a:lnTo>
                    <a:pt x="1227" y="130"/>
                  </a:lnTo>
                  <a:lnTo>
                    <a:pt x="1426" y="142"/>
                  </a:lnTo>
                  <a:lnTo>
                    <a:pt x="1625" y="155"/>
                  </a:lnTo>
                  <a:lnTo>
                    <a:pt x="1820" y="170"/>
                  </a:lnTo>
                  <a:lnTo>
                    <a:pt x="2014" y="187"/>
                  </a:lnTo>
                  <a:lnTo>
                    <a:pt x="2206" y="204"/>
                  </a:lnTo>
                  <a:lnTo>
                    <a:pt x="2397" y="223"/>
                  </a:lnTo>
                  <a:lnTo>
                    <a:pt x="2585" y="245"/>
                  </a:lnTo>
                  <a:lnTo>
                    <a:pt x="2771" y="267"/>
                  </a:lnTo>
                  <a:lnTo>
                    <a:pt x="2955" y="291"/>
                  </a:lnTo>
                  <a:lnTo>
                    <a:pt x="3136" y="316"/>
                  </a:lnTo>
                  <a:lnTo>
                    <a:pt x="3316" y="344"/>
                  </a:lnTo>
                  <a:lnTo>
                    <a:pt x="3493" y="372"/>
                  </a:lnTo>
                  <a:lnTo>
                    <a:pt x="3669" y="402"/>
                  </a:lnTo>
                  <a:lnTo>
                    <a:pt x="3840" y="433"/>
                  </a:lnTo>
                  <a:lnTo>
                    <a:pt x="4011" y="466"/>
                  </a:lnTo>
                  <a:lnTo>
                    <a:pt x="4178" y="500"/>
                  </a:lnTo>
                  <a:lnTo>
                    <a:pt x="4342" y="535"/>
                  </a:lnTo>
                  <a:lnTo>
                    <a:pt x="4505" y="571"/>
                  </a:lnTo>
                  <a:lnTo>
                    <a:pt x="4664" y="610"/>
                  </a:lnTo>
                  <a:lnTo>
                    <a:pt x="4821" y="648"/>
                  </a:lnTo>
                  <a:lnTo>
                    <a:pt x="4974" y="689"/>
                  </a:lnTo>
                  <a:lnTo>
                    <a:pt x="5125" y="730"/>
                  </a:lnTo>
                  <a:lnTo>
                    <a:pt x="5272" y="774"/>
                  </a:lnTo>
                  <a:lnTo>
                    <a:pt x="5416" y="818"/>
                  </a:lnTo>
                  <a:lnTo>
                    <a:pt x="5487" y="840"/>
                  </a:lnTo>
                  <a:lnTo>
                    <a:pt x="5558" y="862"/>
                  </a:lnTo>
                  <a:lnTo>
                    <a:pt x="5627" y="885"/>
                  </a:lnTo>
                  <a:lnTo>
                    <a:pt x="5696" y="908"/>
                  </a:lnTo>
                  <a:lnTo>
                    <a:pt x="5764" y="932"/>
                  </a:lnTo>
                  <a:lnTo>
                    <a:pt x="5831" y="956"/>
                  </a:lnTo>
                  <a:lnTo>
                    <a:pt x="5897" y="980"/>
                  </a:lnTo>
                  <a:lnTo>
                    <a:pt x="5962" y="1004"/>
                  </a:lnTo>
                  <a:lnTo>
                    <a:pt x="6026" y="1029"/>
                  </a:lnTo>
                  <a:lnTo>
                    <a:pt x="6090" y="1054"/>
                  </a:lnTo>
                  <a:lnTo>
                    <a:pt x="6153" y="1079"/>
                  </a:lnTo>
                  <a:lnTo>
                    <a:pt x="6215" y="1104"/>
                  </a:lnTo>
                  <a:lnTo>
                    <a:pt x="6275" y="1130"/>
                  </a:lnTo>
                  <a:lnTo>
                    <a:pt x="6335" y="1156"/>
                  </a:lnTo>
                  <a:lnTo>
                    <a:pt x="6395" y="1182"/>
                  </a:lnTo>
                  <a:lnTo>
                    <a:pt x="6453" y="1208"/>
                  </a:lnTo>
                  <a:lnTo>
                    <a:pt x="6510" y="1235"/>
                  </a:lnTo>
                  <a:lnTo>
                    <a:pt x="6566" y="1262"/>
                  </a:lnTo>
                  <a:lnTo>
                    <a:pt x="6621" y="1289"/>
                  </a:lnTo>
                  <a:lnTo>
                    <a:pt x="6676" y="1316"/>
                  </a:lnTo>
                  <a:lnTo>
                    <a:pt x="6730" y="1344"/>
                  </a:lnTo>
                  <a:lnTo>
                    <a:pt x="6782" y="1371"/>
                  </a:lnTo>
                  <a:lnTo>
                    <a:pt x="6834" y="1400"/>
                  </a:lnTo>
                  <a:lnTo>
                    <a:pt x="6884" y="1428"/>
                  </a:lnTo>
                  <a:lnTo>
                    <a:pt x="6934" y="1456"/>
                  </a:lnTo>
                  <a:lnTo>
                    <a:pt x="6983" y="1485"/>
                  </a:lnTo>
                  <a:lnTo>
                    <a:pt x="7031" y="1514"/>
                  </a:lnTo>
                  <a:lnTo>
                    <a:pt x="7076" y="1542"/>
                  </a:lnTo>
                  <a:lnTo>
                    <a:pt x="7122" y="1572"/>
                  </a:lnTo>
                  <a:lnTo>
                    <a:pt x="7167" y="1602"/>
                  </a:lnTo>
                  <a:lnTo>
                    <a:pt x="7211" y="1631"/>
                  </a:lnTo>
                  <a:lnTo>
                    <a:pt x="7253" y="1661"/>
                  </a:lnTo>
                  <a:lnTo>
                    <a:pt x="7295" y="1690"/>
                  </a:lnTo>
                  <a:lnTo>
                    <a:pt x="7335" y="1721"/>
                  </a:lnTo>
                  <a:lnTo>
                    <a:pt x="7374" y="1751"/>
                  </a:lnTo>
                  <a:lnTo>
                    <a:pt x="7413" y="1782"/>
                  </a:lnTo>
                  <a:lnTo>
                    <a:pt x="7449" y="1813"/>
                  </a:lnTo>
                  <a:lnTo>
                    <a:pt x="7486" y="1843"/>
                  </a:lnTo>
                  <a:lnTo>
                    <a:pt x="7520" y="1874"/>
                  </a:lnTo>
                  <a:lnTo>
                    <a:pt x="7555" y="1905"/>
                  </a:lnTo>
                  <a:lnTo>
                    <a:pt x="7587" y="1936"/>
                  </a:lnTo>
                  <a:lnTo>
                    <a:pt x="7619" y="1967"/>
                  </a:lnTo>
                  <a:lnTo>
                    <a:pt x="7649" y="1999"/>
                  </a:lnTo>
                  <a:lnTo>
                    <a:pt x="7679" y="2031"/>
                  </a:lnTo>
                  <a:lnTo>
                    <a:pt x="7707" y="2063"/>
                  </a:lnTo>
                  <a:lnTo>
                    <a:pt x="7734" y="2095"/>
                  </a:lnTo>
                  <a:lnTo>
                    <a:pt x="7760" y="2127"/>
                  </a:lnTo>
                  <a:lnTo>
                    <a:pt x="7785" y="2159"/>
                  </a:lnTo>
                  <a:lnTo>
                    <a:pt x="7808" y="2191"/>
                  </a:lnTo>
                  <a:lnTo>
                    <a:pt x="7830" y="2223"/>
                  </a:lnTo>
                  <a:lnTo>
                    <a:pt x="7853" y="2256"/>
                  </a:lnTo>
                  <a:lnTo>
                    <a:pt x="7872" y="2289"/>
                  </a:lnTo>
                  <a:lnTo>
                    <a:pt x="7891" y="2321"/>
                  </a:lnTo>
                  <a:lnTo>
                    <a:pt x="7909" y="2354"/>
                  </a:lnTo>
                  <a:lnTo>
                    <a:pt x="7925" y="2386"/>
                  </a:lnTo>
                  <a:lnTo>
                    <a:pt x="7941" y="2420"/>
                  </a:lnTo>
                  <a:lnTo>
                    <a:pt x="7954" y="2453"/>
                  </a:lnTo>
                  <a:lnTo>
                    <a:pt x="7967" y="2486"/>
                  </a:lnTo>
                  <a:lnTo>
                    <a:pt x="7980" y="2519"/>
                  </a:lnTo>
                  <a:lnTo>
                    <a:pt x="7990" y="2553"/>
                  </a:lnTo>
                  <a:lnTo>
                    <a:pt x="7999" y="2586"/>
                  </a:lnTo>
                  <a:lnTo>
                    <a:pt x="8007" y="2619"/>
                  </a:lnTo>
                  <a:lnTo>
                    <a:pt x="8014" y="2653"/>
                  </a:lnTo>
                  <a:lnTo>
                    <a:pt x="8019" y="2686"/>
                  </a:lnTo>
                  <a:lnTo>
                    <a:pt x="8023" y="2720"/>
                  </a:lnTo>
                  <a:lnTo>
                    <a:pt x="8026" y="2753"/>
                  </a:lnTo>
                  <a:lnTo>
                    <a:pt x="8028" y="2788"/>
                  </a:lnTo>
                  <a:lnTo>
                    <a:pt x="8029" y="2822"/>
                  </a:lnTo>
                  <a:lnTo>
                    <a:pt x="8128" y="2822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68520" y="2520720"/>
              <a:ext cx="5040" cy="96840"/>
            </a:xfrm>
            <a:prstGeom prst="rect">
              <a:avLst/>
            </a:pr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70240" y="2520720"/>
              <a:ext cx="5040" cy="96840"/>
            </a:xfrm>
            <a:prstGeom prst="rect">
              <a:avLst/>
            </a:pr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87760" y="246672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69" y="5"/>
                  </a:moveTo>
                  <a:lnTo>
                    <a:pt x="64" y="3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1" y="3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3" y="70"/>
                  </a:lnTo>
                  <a:lnTo>
                    <a:pt x="5" y="75"/>
                  </a:lnTo>
                  <a:lnTo>
                    <a:pt x="8" y="79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89200" y="2466720"/>
              <a:ext cx="88920" cy="42840"/>
            </a:xfrm>
            <a:custGeom>
              <a:avLst/>
              <a:gdLst/>
              <a:ahLst/>
              <a:rect l="l" t="t" r="r" b="b"/>
              <a:pathLst>
                <a:path w="1780" h="860">
                  <a:moveTo>
                    <a:pt x="1780" y="769"/>
                  </a:moveTo>
                  <a:lnTo>
                    <a:pt x="40" y="0"/>
                  </a:lnTo>
                  <a:lnTo>
                    <a:pt x="0" y="91"/>
                  </a:lnTo>
                  <a:lnTo>
                    <a:pt x="1739" y="860"/>
                  </a:lnTo>
                  <a:lnTo>
                    <a:pt x="1780" y="7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675240" y="2504880"/>
              <a:ext cx="4680" cy="4680"/>
            </a:xfrm>
            <a:custGeom>
              <a:avLst/>
              <a:gdLst/>
              <a:ahLst/>
              <a:rect l="l" t="t" r="r" b="b"/>
              <a:pathLst>
                <a:path w="71" h="96">
                  <a:moveTo>
                    <a:pt x="0" y="91"/>
                  </a:moveTo>
                  <a:lnTo>
                    <a:pt x="7" y="93"/>
                  </a:lnTo>
                  <a:lnTo>
                    <a:pt x="12" y="95"/>
                  </a:lnTo>
                  <a:lnTo>
                    <a:pt x="17" y="96"/>
                  </a:lnTo>
                  <a:lnTo>
                    <a:pt x="22" y="96"/>
                  </a:lnTo>
                  <a:lnTo>
                    <a:pt x="27" y="96"/>
                  </a:lnTo>
                  <a:lnTo>
                    <a:pt x="32" y="95"/>
                  </a:lnTo>
                  <a:lnTo>
                    <a:pt x="36" y="94"/>
                  </a:lnTo>
                  <a:lnTo>
                    <a:pt x="41" y="92"/>
                  </a:lnTo>
                  <a:lnTo>
                    <a:pt x="49" y="87"/>
                  </a:lnTo>
                  <a:lnTo>
                    <a:pt x="55" y="81"/>
                  </a:lnTo>
                  <a:lnTo>
                    <a:pt x="61" y="74"/>
                  </a:lnTo>
                  <a:lnTo>
                    <a:pt x="66" y="66"/>
                  </a:lnTo>
                  <a:lnTo>
                    <a:pt x="69" y="58"/>
                  </a:lnTo>
                  <a:lnTo>
                    <a:pt x="71" y="48"/>
                  </a:lnTo>
                  <a:lnTo>
                    <a:pt x="71" y="39"/>
                  </a:lnTo>
                  <a:lnTo>
                    <a:pt x="69" y="30"/>
                  </a:lnTo>
                  <a:lnTo>
                    <a:pt x="67" y="26"/>
                  </a:lnTo>
                  <a:lnTo>
                    <a:pt x="64" y="21"/>
                  </a:lnTo>
                  <a:lnTo>
                    <a:pt x="61" y="17"/>
                  </a:lnTo>
                  <a:lnTo>
                    <a:pt x="58" y="14"/>
                  </a:lnTo>
                  <a:lnTo>
                    <a:pt x="55" y="10"/>
                  </a:lnTo>
                  <a:lnTo>
                    <a:pt x="50" y="7"/>
                  </a:lnTo>
                  <a:lnTo>
                    <a:pt x="46" y="4"/>
                  </a:lnTo>
                  <a:lnTo>
                    <a:pt x="41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72080" y="2558880"/>
              <a:ext cx="4680" cy="4680"/>
            </a:xfrm>
            <a:custGeom>
              <a:avLst/>
              <a:gdLst/>
              <a:ahLst/>
              <a:rect l="l" t="t" r="r" b="b"/>
              <a:pathLst>
                <a:path w="85" h="110">
                  <a:moveTo>
                    <a:pt x="85" y="19"/>
                  </a:moveTo>
                  <a:lnTo>
                    <a:pt x="41" y="0"/>
                  </a:lnTo>
                  <a:lnTo>
                    <a:pt x="0" y="90"/>
                  </a:lnTo>
                  <a:lnTo>
                    <a:pt x="46" y="11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74960" y="2558880"/>
              <a:ext cx="87480" cy="42840"/>
            </a:xfrm>
            <a:custGeom>
              <a:avLst/>
              <a:gdLst/>
              <a:ahLst/>
              <a:rect l="l" t="t" r="r" b="b"/>
              <a:pathLst>
                <a:path w="1765" h="854">
                  <a:moveTo>
                    <a:pt x="1765" y="765"/>
                  </a:moveTo>
                  <a:lnTo>
                    <a:pt x="39" y="0"/>
                  </a:lnTo>
                  <a:lnTo>
                    <a:pt x="0" y="91"/>
                  </a:lnTo>
                  <a:lnTo>
                    <a:pt x="1725" y="854"/>
                  </a:lnTo>
                  <a:lnTo>
                    <a:pt x="1765" y="76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60640" y="2597040"/>
              <a:ext cx="3240" cy="4680"/>
            </a:xfrm>
            <a:custGeom>
              <a:avLst/>
              <a:gdLst/>
              <a:ahLst/>
              <a:rect l="l" t="t" r="r" b="b"/>
              <a:pathLst>
                <a:path w="84" h="110">
                  <a:moveTo>
                    <a:pt x="0" y="89"/>
                  </a:moveTo>
                  <a:lnTo>
                    <a:pt x="45" y="110"/>
                  </a:lnTo>
                  <a:lnTo>
                    <a:pt x="84" y="19"/>
                  </a:lnTo>
                  <a:lnTo>
                    <a:pt x="40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86160" y="2552400"/>
              <a:ext cx="3240" cy="468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30" y="0"/>
                  </a:moveTo>
                  <a:lnTo>
                    <a:pt x="25" y="2"/>
                  </a:lnTo>
                  <a:lnTo>
                    <a:pt x="20" y="5"/>
                  </a:lnTo>
                  <a:lnTo>
                    <a:pt x="16" y="8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4" y="23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3" y="79"/>
                  </a:lnTo>
                  <a:lnTo>
                    <a:pt x="20" y="86"/>
                  </a:lnTo>
                  <a:lnTo>
                    <a:pt x="27" y="90"/>
                  </a:lnTo>
                  <a:lnTo>
                    <a:pt x="31" y="92"/>
                  </a:lnTo>
                  <a:lnTo>
                    <a:pt x="36" y="94"/>
                  </a:lnTo>
                  <a:lnTo>
                    <a:pt x="41" y="94"/>
                  </a:lnTo>
                  <a:lnTo>
                    <a:pt x="45" y="95"/>
                  </a:lnTo>
                  <a:lnTo>
                    <a:pt x="50" y="95"/>
                  </a:lnTo>
                  <a:lnTo>
                    <a:pt x="57" y="94"/>
                  </a:lnTo>
                  <a:lnTo>
                    <a:pt x="62" y="93"/>
                  </a:lnTo>
                  <a:lnTo>
                    <a:pt x="68" y="9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87600" y="2382480"/>
              <a:ext cx="417600" cy="174600"/>
            </a:xfrm>
            <a:custGeom>
              <a:avLst/>
              <a:gdLst/>
              <a:ahLst/>
              <a:rect l="l" t="t" r="r" b="b"/>
              <a:pathLst>
                <a:path w="8421" h="3513">
                  <a:moveTo>
                    <a:pt x="8384" y="0"/>
                  </a:moveTo>
                  <a:lnTo>
                    <a:pt x="0" y="3422"/>
                  </a:lnTo>
                  <a:lnTo>
                    <a:pt x="38" y="3513"/>
                  </a:lnTo>
                  <a:lnTo>
                    <a:pt x="8421" y="92"/>
                  </a:lnTo>
                  <a:lnTo>
                    <a:pt x="8384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03760" y="2382480"/>
              <a:ext cx="3240" cy="504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7" y="96"/>
                  </a:moveTo>
                  <a:lnTo>
                    <a:pt x="43" y="93"/>
                  </a:lnTo>
                  <a:lnTo>
                    <a:pt x="47" y="90"/>
                  </a:lnTo>
                  <a:lnTo>
                    <a:pt x="52" y="87"/>
                  </a:lnTo>
                  <a:lnTo>
                    <a:pt x="55" y="84"/>
                  </a:lnTo>
                  <a:lnTo>
                    <a:pt x="58" y="80"/>
                  </a:lnTo>
                  <a:lnTo>
                    <a:pt x="61" y="76"/>
                  </a:lnTo>
                  <a:lnTo>
                    <a:pt x="63" y="72"/>
                  </a:lnTo>
                  <a:lnTo>
                    <a:pt x="65" y="68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7" y="40"/>
                  </a:lnTo>
                  <a:lnTo>
                    <a:pt x="64" y="32"/>
                  </a:lnTo>
                  <a:lnTo>
                    <a:pt x="60" y="23"/>
                  </a:lnTo>
                  <a:lnTo>
                    <a:pt x="54" y="16"/>
                  </a:lnTo>
                  <a:lnTo>
                    <a:pt x="48" y="9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5" y="2"/>
                  </a:lnTo>
                  <a:lnTo>
                    <a:pt x="0" y="4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459240" y="2604960"/>
              <a:ext cx="3240" cy="468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32" y="0"/>
                  </a:moveTo>
                  <a:lnTo>
                    <a:pt x="27" y="2"/>
                  </a:lnTo>
                  <a:lnTo>
                    <a:pt x="22" y="5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3" y="55"/>
                  </a:lnTo>
                  <a:lnTo>
                    <a:pt x="5" y="64"/>
                  </a:lnTo>
                  <a:lnTo>
                    <a:pt x="9" y="72"/>
                  </a:lnTo>
                  <a:lnTo>
                    <a:pt x="15" y="79"/>
                  </a:lnTo>
                  <a:lnTo>
                    <a:pt x="21" y="86"/>
                  </a:lnTo>
                  <a:lnTo>
                    <a:pt x="29" y="90"/>
                  </a:lnTo>
                  <a:lnTo>
                    <a:pt x="33" y="92"/>
                  </a:lnTo>
                  <a:lnTo>
                    <a:pt x="38" y="94"/>
                  </a:lnTo>
                  <a:lnTo>
                    <a:pt x="42" y="95"/>
                  </a:lnTo>
                  <a:lnTo>
                    <a:pt x="47" y="95"/>
                  </a:lnTo>
                  <a:lnTo>
                    <a:pt x="52" y="95"/>
                  </a:lnTo>
                  <a:lnTo>
                    <a:pt x="58" y="94"/>
                  </a:lnTo>
                  <a:lnTo>
                    <a:pt x="63" y="93"/>
                  </a:lnTo>
                  <a:lnTo>
                    <a:pt x="70" y="9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60680" y="2400120"/>
              <a:ext cx="504720" cy="209520"/>
            </a:xfrm>
            <a:custGeom>
              <a:avLst/>
              <a:gdLst/>
              <a:ahLst/>
              <a:rect l="l" t="t" r="r" b="b"/>
              <a:pathLst>
                <a:path w="10181" h="4231">
                  <a:moveTo>
                    <a:pt x="10145" y="0"/>
                  </a:moveTo>
                  <a:lnTo>
                    <a:pt x="0" y="4140"/>
                  </a:lnTo>
                  <a:lnTo>
                    <a:pt x="38" y="4231"/>
                  </a:lnTo>
                  <a:lnTo>
                    <a:pt x="10181" y="91"/>
                  </a:lnTo>
                  <a:lnTo>
                    <a:pt x="10145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63960" y="2398320"/>
              <a:ext cx="3240" cy="504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36" y="95"/>
                  </a:moveTo>
                  <a:lnTo>
                    <a:pt x="41" y="92"/>
                  </a:lnTo>
                  <a:lnTo>
                    <a:pt x="46" y="90"/>
                  </a:lnTo>
                  <a:lnTo>
                    <a:pt x="51" y="87"/>
                  </a:lnTo>
                  <a:lnTo>
                    <a:pt x="55" y="83"/>
                  </a:lnTo>
                  <a:lnTo>
                    <a:pt x="58" y="79"/>
                  </a:lnTo>
                  <a:lnTo>
                    <a:pt x="61" y="76"/>
                  </a:lnTo>
                  <a:lnTo>
                    <a:pt x="63" y="71"/>
                  </a:lnTo>
                  <a:lnTo>
                    <a:pt x="65" y="67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7" y="39"/>
                  </a:lnTo>
                  <a:lnTo>
                    <a:pt x="64" y="31"/>
                  </a:lnTo>
                  <a:lnTo>
                    <a:pt x="60" y="23"/>
                  </a:lnTo>
                  <a:lnTo>
                    <a:pt x="54" y="15"/>
                  </a:lnTo>
                  <a:lnTo>
                    <a:pt x="48" y="9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5" y="2"/>
                  </a:lnTo>
                  <a:lnTo>
                    <a:pt x="0" y="4"/>
                  </a:lnTo>
                  <a:lnTo>
                    <a:pt x="36" y="9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73360" y="2638080"/>
              <a:ext cx="3240" cy="504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1" y="0"/>
                  </a:moveTo>
                  <a:lnTo>
                    <a:pt x="25" y="3"/>
                  </a:lnTo>
                  <a:lnTo>
                    <a:pt x="20" y="7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4" y="66"/>
                  </a:lnTo>
                  <a:lnTo>
                    <a:pt x="8" y="74"/>
                  </a:lnTo>
                  <a:lnTo>
                    <a:pt x="13" y="81"/>
                  </a:lnTo>
                  <a:lnTo>
                    <a:pt x="20" y="87"/>
                  </a:lnTo>
                  <a:lnTo>
                    <a:pt x="28" y="92"/>
                  </a:lnTo>
                  <a:lnTo>
                    <a:pt x="33" y="94"/>
                  </a:lnTo>
                  <a:lnTo>
                    <a:pt x="37" y="95"/>
                  </a:lnTo>
                  <a:lnTo>
                    <a:pt x="42" y="96"/>
                  </a:lnTo>
                  <a:lnTo>
                    <a:pt x="47" y="96"/>
                  </a:lnTo>
                  <a:lnTo>
                    <a:pt x="52" y="96"/>
                  </a:lnTo>
                  <a:lnTo>
                    <a:pt x="57" y="96"/>
                  </a:lnTo>
                  <a:lnTo>
                    <a:pt x="62" y="94"/>
                  </a:lnTo>
                  <a:lnTo>
                    <a:pt x="68" y="9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75160" y="2431800"/>
              <a:ext cx="507960" cy="211320"/>
            </a:xfrm>
            <a:custGeom>
              <a:avLst/>
              <a:gdLst/>
              <a:ahLst/>
              <a:rect l="l" t="t" r="r" b="b"/>
              <a:pathLst>
                <a:path w="10246" h="4257">
                  <a:moveTo>
                    <a:pt x="10209" y="0"/>
                  </a:moveTo>
                  <a:lnTo>
                    <a:pt x="0" y="4165"/>
                  </a:lnTo>
                  <a:lnTo>
                    <a:pt x="37" y="4257"/>
                  </a:lnTo>
                  <a:lnTo>
                    <a:pt x="10246" y="92"/>
                  </a:lnTo>
                  <a:lnTo>
                    <a:pt x="10209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81320" y="2431800"/>
              <a:ext cx="3240" cy="46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7" y="96"/>
                  </a:moveTo>
                  <a:lnTo>
                    <a:pt x="43" y="93"/>
                  </a:lnTo>
                  <a:lnTo>
                    <a:pt x="47" y="90"/>
                  </a:lnTo>
                  <a:lnTo>
                    <a:pt x="52" y="87"/>
                  </a:lnTo>
                  <a:lnTo>
                    <a:pt x="55" y="84"/>
                  </a:lnTo>
                  <a:lnTo>
                    <a:pt x="59" y="79"/>
                  </a:lnTo>
                  <a:lnTo>
                    <a:pt x="61" y="75"/>
                  </a:lnTo>
                  <a:lnTo>
                    <a:pt x="63" y="71"/>
                  </a:lnTo>
                  <a:lnTo>
                    <a:pt x="65" y="67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7" y="40"/>
                  </a:lnTo>
                  <a:lnTo>
                    <a:pt x="64" y="31"/>
                  </a:lnTo>
                  <a:lnTo>
                    <a:pt x="60" y="22"/>
                  </a:lnTo>
                  <a:lnTo>
                    <a:pt x="54" y="15"/>
                  </a:lnTo>
                  <a:lnTo>
                    <a:pt x="48" y="9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4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90840" y="2479320"/>
              <a:ext cx="3240" cy="504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2" y="0"/>
                  </a:moveTo>
                  <a:lnTo>
                    <a:pt x="27" y="2"/>
                  </a:lnTo>
                  <a:lnTo>
                    <a:pt x="21" y="5"/>
                  </a:lnTo>
                  <a:lnTo>
                    <a:pt x="17" y="8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2" y="96"/>
                  </a:lnTo>
                  <a:lnTo>
                    <a:pt x="47" y="96"/>
                  </a:lnTo>
                  <a:lnTo>
                    <a:pt x="52" y="96"/>
                  </a:lnTo>
                  <a:lnTo>
                    <a:pt x="57" y="95"/>
                  </a:lnTo>
                  <a:lnTo>
                    <a:pt x="63" y="94"/>
                  </a:lnTo>
                  <a:lnTo>
                    <a:pt x="68" y="9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92640" y="2398320"/>
              <a:ext cx="201600" cy="86040"/>
            </a:xfrm>
            <a:custGeom>
              <a:avLst/>
              <a:gdLst/>
              <a:ahLst/>
              <a:rect l="l" t="t" r="r" b="b"/>
              <a:pathLst>
                <a:path w="4051" h="1730">
                  <a:moveTo>
                    <a:pt x="4015" y="0"/>
                  </a:moveTo>
                  <a:lnTo>
                    <a:pt x="0" y="1638"/>
                  </a:lnTo>
                  <a:lnTo>
                    <a:pt x="36" y="1730"/>
                  </a:lnTo>
                  <a:lnTo>
                    <a:pt x="4051" y="92"/>
                  </a:lnTo>
                  <a:lnTo>
                    <a:pt x="4015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92440" y="2398320"/>
              <a:ext cx="3240" cy="324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6" y="96"/>
                  </a:moveTo>
                  <a:lnTo>
                    <a:pt x="43" y="93"/>
                  </a:lnTo>
                  <a:lnTo>
                    <a:pt x="47" y="90"/>
                  </a:lnTo>
                  <a:lnTo>
                    <a:pt x="52" y="87"/>
                  </a:lnTo>
                  <a:lnTo>
                    <a:pt x="55" y="84"/>
                  </a:lnTo>
                  <a:lnTo>
                    <a:pt x="58" y="80"/>
                  </a:lnTo>
                  <a:lnTo>
                    <a:pt x="61" y="75"/>
                  </a:lnTo>
                  <a:lnTo>
                    <a:pt x="63" y="71"/>
                  </a:lnTo>
                  <a:lnTo>
                    <a:pt x="65" y="67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7" y="40"/>
                  </a:lnTo>
                  <a:lnTo>
                    <a:pt x="64" y="31"/>
                  </a:lnTo>
                  <a:lnTo>
                    <a:pt x="60" y="22"/>
                  </a:lnTo>
                  <a:lnTo>
                    <a:pt x="54" y="15"/>
                  </a:lnTo>
                  <a:lnTo>
                    <a:pt x="48" y="9"/>
                  </a:lnTo>
                  <a:lnTo>
                    <a:pt x="39" y="4"/>
                  </a:lnTo>
                  <a:lnTo>
                    <a:pt x="35" y="2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4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28880" y="2652480"/>
              <a:ext cx="3240" cy="46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2" y="0"/>
                  </a:moveTo>
                  <a:lnTo>
                    <a:pt x="27" y="3"/>
                  </a:lnTo>
                  <a:lnTo>
                    <a:pt x="21" y="5"/>
                  </a:lnTo>
                  <a:lnTo>
                    <a:pt x="17" y="8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9" y="92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2" y="96"/>
                  </a:lnTo>
                  <a:lnTo>
                    <a:pt x="47" y="96"/>
                  </a:lnTo>
                  <a:lnTo>
                    <a:pt x="52" y="96"/>
                  </a:lnTo>
                  <a:lnTo>
                    <a:pt x="57" y="95"/>
                  </a:lnTo>
                  <a:lnTo>
                    <a:pt x="63" y="94"/>
                  </a:lnTo>
                  <a:lnTo>
                    <a:pt x="68" y="9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28880" y="2479320"/>
              <a:ext cx="427320" cy="177840"/>
            </a:xfrm>
            <a:custGeom>
              <a:avLst/>
              <a:gdLst/>
              <a:ahLst/>
              <a:rect l="l" t="t" r="r" b="b"/>
              <a:pathLst>
                <a:path w="8601" h="3588">
                  <a:moveTo>
                    <a:pt x="8565" y="0"/>
                  </a:moveTo>
                  <a:lnTo>
                    <a:pt x="0" y="3496"/>
                  </a:lnTo>
                  <a:lnTo>
                    <a:pt x="36" y="3588"/>
                  </a:lnTo>
                  <a:lnTo>
                    <a:pt x="8601" y="92"/>
                  </a:lnTo>
                  <a:lnTo>
                    <a:pt x="8565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54400" y="2479320"/>
              <a:ext cx="3240" cy="504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6" y="96"/>
                  </a:moveTo>
                  <a:lnTo>
                    <a:pt x="42" y="94"/>
                  </a:lnTo>
                  <a:lnTo>
                    <a:pt x="46" y="91"/>
                  </a:lnTo>
                  <a:lnTo>
                    <a:pt x="51" y="88"/>
                  </a:lnTo>
                  <a:lnTo>
                    <a:pt x="54" y="85"/>
                  </a:lnTo>
                  <a:lnTo>
                    <a:pt x="58" y="81"/>
                  </a:lnTo>
                  <a:lnTo>
                    <a:pt x="60" y="77"/>
                  </a:lnTo>
                  <a:lnTo>
                    <a:pt x="63" y="73"/>
                  </a:lnTo>
                  <a:lnTo>
                    <a:pt x="65" y="69"/>
                  </a:lnTo>
                  <a:lnTo>
                    <a:pt x="67" y="59"/>
                  </a:lnTo>
                  <a:lnTo>
                    <a:pt x="68" y="50"/>
                  </a:lnTo>
                  <a:lnTo>
                    <a:pt x="67" y="41"/>
                  </a:lnTo>
                  <a:lnTo>
                    <a:pt x="64" y="32"/>
                  </a:lnTo>
                  <a:lnTo>
                    <a:pt x="59" y="24"/>
                  </a:lnTo>
                  <a:lnTo>
                    <a:pt x="53" y="17"/>
                  </a:lnTo>
                  <a:lnTo>
                    <a:pt x="47" y="10"/>
                  </a:lnTo>
                  <a:lnTo>
                    <a:pt x="39" y="5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5" y="3"/>
                  </a:lnTo>
                  <a:lnTo>
                    <a:pt x="0" y="4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06800" y="2626920"/>
              <a:ext cx="4680" cy="504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29" y="0"/>
                  </a:moveTo>
                  <a:lnTo>
                    <a:pt x="24" y="3"/>
                  </a:lnTo>
                  <a:lnTo>
                    <a:pt x="19" y="5"/>
                  </a:lnTo>
                  <a:lnTo>
                    <a:pt x="15" y="9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4"/>
                  </a:lnTo>
                  <a:lnTo>
                    <a:pt x="2" y="29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1"/>
                  </a:lnTo>
                  <a:lnTo>
                    <a:pt x="21" y="87"/>
                  </a:lnTo>
                  <a:lnTo>
                    <a:pt x="28" y="91"/>
                  </a:lnTo>
                  <a:lnTo>
                    <a:pt x="33" y="93"/>
                  </a:lnTo>
                  <a:lnTo>
                    <a:pt x="37" y="94"/>
                  </a:lnTo>
                  <a:lnTo>
                    <a:pt x="43" y="95"/>
                  </a:lnTo>
                  <a:lnTo>
                    <a:pt x="48" y="95"/>
                  </a:lnTo>
                  <a:lnTo>
                    <a:pt x="53" y="95"/>
                  </a:lnTo>
                  <a:lnTo>
                    <a:pt x="58" y="94"/>
                  </a:lnTo>
                  <a:lnTo>
                    <a:pt x="63" y="93"/>
                  </a:lnTo>
                  <a:lnTo>
                    <a:pt x="69" y="9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08600" y="2568240"/>
              <a:ext cx="136440" cy="63720"/>
            </a:xfrm>
            <a:custGeom>
              <a:avLst/>
              <a:gdLst/>
              <a:ahLst/>
              <a:rect l="l" t="t" r="r" b="b"/>
              <a:pathLst>
                <a:path w="2742" h="1273">
                  <a:moveTo>
                    <a:pt x="2703" y="0"/>
                  </a:moveTo>
                  <a:lnTo>
                    <a:pt x="0" y="1182"/>
                  </a:lnTo>
                  <a:lnTo>
                    <a:pt x="40" y="1273"/>
                  </a:lnTo>
                  <a:lnTo>
                    <a:pt x="2742" y="91"/>
                  </a:lnTo>
                  <a:lnTo>
                    <a:pt x="2703" y="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43240" y="2568240"/>
              <a:ext cx="3240" cy="504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39" y="95"/>
                  </a:moveTo>
                  <a:lnTo>
                    <a:pt x="45" y="93"/>
                  </a:lnTo>
                  <a:lnTo>
                    <a:pt x="49" y="90"/>
                  </a:lnTo>
                  <a:lnTo>
                    <a:pt x="54" y="87"/>
                  </a:lnTo>
                  <a:lnTo>
                    <a:pt x="57" y="83"/>
                  </a:lnTo>
                  <a:lnTo>
                    <a:pt x="60" y="79"/>
                  </a:lnTo>
                  <a:lnTo>
                    <a:pt x="63" y="75"/>
                  </a:lnTo>
                  <a:lnTo>
                    <a:pt x="65" y="71"/>
                  </a:lnTo>
                  <a:lnTo>
                    <a:pt x="67" y="67"/>
                  </a:lnTo>
                  <a:lnTo>
                    <a:pt x="69" y="57"/>
                  </a:lnTo>
                  <a:lnTo>
                    <a:pt x="69" y="48"/>
                  </a:lnTo>
                  <a:lnTo>
                    <a:pt x="67" y="39"/>
                  </a:lnTo>
                  <a:lnTo>
                    <a:pt x="65" y="31"/>
                  </a:lnTo>
                  <a:lnTo>
                    <a:pt x="60" y="23"/>
                  </a:lnTo>
                  <a:lnTo>
                    <a:pt x="55" y="15"/>
                  </a:lnTo>
                  <a:lnTo>
                    <a:pt x="48" y="10"/>
                  </a:lnTo>
                  <a:lnTo>
                    <a:pt x="39" y="4"/>
                  </a:lnTo>
                  <a:lnTo>
                    <a:pt x="35" y="2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5" y="2"/>
                  </a:lnTo>
                  <a:lnTo>
                    <a:pt x="0" y="4"/>
                  </a:lnTo>
                  <a:lnTo>
                    <a:pt x="39" y="9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427560" y="2465280"/>
              <a:ext cx="2880" cy="468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70" y="5"/>
                  </a:moveTo>
                  <a:lnTo>
                    <a:pt x="64" y="3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5" y="16"/>
                  </a:lnTo>
                  <a:lnTo>
                    <a:pt x="9" y="23"/>
                  </a:lnTo>
                  <a:lnTo>
                    <a:pt x="5" y="31"/>
                  </a:lnTo>
                  <a:lnTo>
                    <a:pt x="2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6" y="76"/>
                  </a:lnTo>
                  <a:lnTo>
                    <a:pt x="9" y="80"/>
                  </a:lnTo>
                  <a:lnTo>
                    <a:pt x="12" y="83"/>
                  </a:lnTo>
                  <a:lnTo>
                    <a:pt x="15" y="87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30" y="96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29000" y="2466720"/>
              <a:ext cx="82440" cy="39600"/>
            </a:xfrm>
            <a:custGeom>
              <a:avLst/>
              <a:gdLst/>
              <a:ahLst/>
              <a:rect l="l" t="t" r="r" b="b"/>
              <a:pathLst>
                <a:path w="1680" h="817">
                  <a:moveTo>
                    <a:pt x="1680" y="726"/>
                  </a:moveTo>
                  <a:lnTo>
                    <a:pt x="40" y="0"/>
                  </a:lnTo>
                  <a:lnTo>
                    <a:pt x="0" y="91"/>
                  </a:lnTo>
                  <a:lnTo>
                    <a:pt x="1640" y="817"/>
                  </a:lnTo>
                  <a:lnTo>
                    <a:pt x="1680" y="726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10000" y="250164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0" y="91"/>
                  </a:moveTo>
                  <a:lnTo>
                    <a:pt x="5" y="93"/>
                  </a:lnTo>
                  <a:lnTo>
                    <a:pt x="10" y="94"/>
                  </a:lnTo>
                  <a:lnTo>
                    <a:pt x="16" y="95"/>
                  </a:lnTo>
                  <a:lnTo>
                    <a:pt x="21" y="96"/>
                  </a:lnTo>
                  <a:lnTo>
                    <a:pt x="25" y="95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0" y="92"/>
                  </a:lnTo>
                  <a:lnTo>
                    <a:pt x="48" y="87"/>
                  </a:lnTo>
                  <a:lnTo>
                    <a:pt x="55" y="81"/>
                  </a:lnTo>
                  <a:lnTo>
                    <a:pt x="60" y="74"/>
                  </a:lnTo>
                  <a:lnTo>
                    <a:pt x="64" y="65"/>
                  </a:lnTo>
                  <a:lnTo>
                    <a:pt x="67" y="56"/>
                  </a:lnTo>
                  <a:lnTo>
                    <a:pt x="69" y="48"/>
                  </a:lnTo>
                  <a:lnTo>
                    <a:pt x="69" y="38"/>
                  </a:lnTo>
                  <a:lnTo>
                    <a:pt x="67" y="30"/>
                  </a:lnTo>
                  <a:lnTo>
                    <a:pt x="65" y="25"/>
                  </a:lnTo>
                  <a:lnTo>
                    <a:pt x="63" y="21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50" y="6"/>
                  </a:lnTo>
                  <a:lnTo>
                    <a:pt x="45" y="3"/>
                  </a:lnTo>
                  <a:lnTo>
                    <a:pt x="4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91000" y="2398320"/>
              <a:ext cx="3240" cy="504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70" y="6"/>
                  </a:moveTo>
                  <a:lnTo>
                    <a:pt x="64" y="4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0"/>
                  </a:lnTo>
                  <a:lnTo>
                    <a:pt x="2" y="39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2" y="67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9"/>
                  </a:lnTo>
                  <a:lnTo>
                    <a:pt x="12" y="83"/>
                  </a:lnTo>
                  <a:lnTo>
                    <a:pt x="15" y="87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30" y="95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92440" y="2398320"/>
              <a:ext cx="81000" cy="39960"/>
            </a:xfrm>
            <a:custGeom>
              <a:avLst/>
              <a:gdLst/>
              <a:ahLst/>
              <a:rect l="l" t="t" r="r" b="b"/>
              <a:pathLst>
                <a:path w="1634" h="795">
                  <a:moveTo>
                    <a:pt x="1634" y="705"/>
                  </a:moveTo>
                  <a:lnTo>
                    <a:pt x="40" y="0"/>
                  </a:lnTo>
                  <a:lnTo>
                    <a:pt x="0" y="89"/>
                  </a:lnTo>
                  <a:lnTo>
                    <a:pt x="1594" y="795"/>
                  </a:lnTo>
                  <a:lnTo>
                    <a:pt x="1634" y="70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72000" y="2435040"/>
              <a:ext cx="3240" cy="324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0" y="90"/>
                  </a:moveTo>
                  <a:lnTo>
                    <a:pt x="5" y="93"/>
                  </a:lnTo>
                  <a:lnTo>
                    <a:pt x="10" y="94"/>
                  </a:lnTo>
                  <a:lnTo>
                    <a:pt x="17" y="95"/>
                  </a:lnTo>
                  <a:lnTo>
                    <a:pt x="22" y="95"/>
                  </a:lnTo>
                  <a:lnTo>
                    <a:pt x="26" y="95"/>
                  </a:lnTo>
                  <a:lnTo>
                    <a:pt x="31" y="94"/>
                  </a:lnTo>
                  <a:lnTo>
                    <a:pt x="36" y="93"/>
                  </a:lnTo>
                  <a:lnTo>
                    <a:pt x="40" y="91"/>
                  </a:lnTo>
                  <a:lnTo>
                    <a:pt x="48" y="87"/>
                  </a:lnTo>
                  <a:lnTo>
                    <a:pt x="55" y="81"/>
                  </a:lnTo>
                  <a:lnTo>
                    <a:pt x="60" y="73"/>
                  </a:lnTo>
                  <a:lnTo>
                    <a:pt x="64" y="65"/>
                  </a:lnTo>
                  <a:lnTo>
                    <a:pt x="67" y="56"/>
                  </a:lnTo>
                  <a:lnTo>
                    <a:pt x="69" y="47"/>
                  </a:lnTo>
                  <a:lnTo>
                    <a:pt x="69" y="38"/>
                  </a:lnTo>
                  <a:lnTo>
                    <a:pt x="67" y="29"/>
                  </a:lnTo>
                  <a:lnTo>
                    <a:pt x="65" y="25"/>
                  </a:lnTo>
                  <a:lnTo>
                    <a:pt x="63" y="20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25760" y="253836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69" y="5"/>
                  </a:moveTo>
                  <a:lnTo>
                    <a:pt x="64" y="3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2" y="9"/>
                  </a:lnTo>
                  <a:lnTo>
                    <a:pt x="14" y="15"/>
                  </a:lnTo>
                  <a:lnTo>
                    <a:pt x="9" y="22"/>
                  </a:lnTo>
                  <a:lnTo>
                    <a:pt x="4" y="30"/>
                  </a:lnTo>
                  <a:lnTo>
                    <a:pt x="1" y="4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8" y="79"/>
                  </a:lnTo>
                  <a:lnTo>
                    <a:pt x="11" y="83"/>
                  </a:lnTo>
                  <a:lnTo>
                    <a:pt x="15" y="87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30" y="96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27560" y="2538360"/>
              <a:ext cx="96840" cy="45720"/>
            </a:xfrm>
            <a:custGeom>
              <a:avLst/>
              <a:gdLst/>
              <a:ahLst/>
              <a:rect l="l" t="t" r="r" b="b"/>
              <a:pathLst>
                <a:path w="1939" h="932">
                  <a:moveTo>
                    <a:pt x="1939" y="841"/>
                  </a:moveTo>
                  <a:lnTo>
                    <a:pt x="39" y="0"/>
                  </a:lnTo>
                  <a:lnTo>
                    <a:pt x="0" y="91"/>
                  </a:lnTo>
                  <a:lnTo>
                    <a:pt x="1900" y="932"/>
                  </a:lnTo>
                  <a:lnTo>
                    <a:pt x="1939" y="841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21160" y="2579400"/>
              <a:ext cx="4680" cy="468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0" y="91"/>
                  </a:moveTo>
                  <a:lnTo>
                    <a:pt x="5" y="93"/>
                  </a:lnTo>
                  <a:lnTo>
                    <a:pt x="10" y="94"/>
                  </a:lnTo>
                  <a:lnTo>
                    <a:pt x="16" y="95"/>
                  </a:lnTo>
                  <a:lnTo>
                    <a:pt x="21" y="95"/>
                  </a:lnTo>
                  <a:lnTo>
                    <a:pt x="26" y="95"/>
                  </a:lnTo>
                  <a:lnTo>
                    <a:pt x="30" y="94"/>
                  </a:lnTo>
                  <a:lnTo>
                    <a:pt x="35" y="93"/>
                  </a:lnTo>
                  <a:lnTo>
                    <a:pt x="39" y="91"/>
                  </a:lnTo>
                  <a:lnTo>
                    <a:pt x="47" y="87"/>
                  </a:lnTo>
                  <a:lnTo>
                    <a:pt x="54" y="81"/>
                  </a:lnTo>
                  <a:lnTo>
                    <a:pt x="60" y="73"/>
                  </a:lnTo>
                  <a:lnTo>
                    <a:pt x="65" y="65"/>
                  </a:lnTo>
                  <a:lnTo>
                    <a:pt x="68" y="56"/>
                  </a:lnTo>
                  <a:lnTo>
                    <a:pt x="69" y="47"/>
                  </a:lnTo>
                  <a:lnTo>
                    <a:pt x="69" y="38"/>
                  </a:lnTo>
                  <a:lnTo>
                    <a:pt x="67" y="29"/>
                  </a:lnTo>
                  <a:lnTo>
                    <a:pt x="65" y="24"/>
                  </a:lnTo>
                  <a:lnTo>
                    <a:pt x="63" y="20"/>
                  </a:lnTo>
                  <a:lnTo>
                    <a:pt x="61" y="16"/>
                  </a:lnTo>
                  <a:lnTo>
                    <a:pt x="56" y="12"/>
                  </a:lnTo>
                  <a:lnTo>
                    <a:pt x="53" y="9"/>
                  </a:lnTo>
                  <a:lnTo>
                    <a:pt x="49" y="6"/>
                  </a:lnTo>
                  <a:lnTo>
                    <a:pt x="44" y="3"/>
                  </a:lnTo>
                  <a:lnTo>
                    <a:pt x="3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92440" y="246996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69" y="5"/>
                  </a:moveTo>
                  <a:lnTo>
                    <a:pt x="64" y="3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3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1" y="83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92440" y="2471400"/>
              <a:ext cx="95400" cy="44640"/>
            </a:xfrm>
            <a:custGeom>
              <a:avLst/>
              <a:gdLst/>
              <a:ahLst/>
              <a:rect l="l" t="t" r="r" b="b"/>
              <a:pathLst>
                <a:path w="1911" h="919">
                  <a:moveTo>
                    <a:pt x="1911" y="828"/>
                  </a:moveTo>
                  <a:lnTo>
                    <a:pt x="40" y="0"/>
                  </a:lnTo>
                  <a:lnTo>
                    <a:pt x="0" y="91"/>
                  </a:lnTo>
                  <a:lnTo>
                    <a:pt x="1872" y="919"/>
                  </a:lnTo>
                  <a:lnTo>
                    <a:pt x="1911" y="828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86040" y="251136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0" y="91"/>
                  </a:moveTo>
                  <a:lnTo>
                    <a:pt x="5" y="93"/>
                  </a:lnTo>
                  <a:lnTo>
                    <a:pt x="11" y="95"/>
                  </a:lnTo>
                  <a:lnTo>
                    <a:pt x="16" y="96"/>
                  </a:lnTo>
                  <a:lnTo>
                    <a:pt x="21" y="96"/>
                  </a:lnTo>
                  <a:lnTo>
                    <a:pt x="26" y="96"/>
                  </a:lnTo>
                  <a:lnTo>
                    <a:pt x="30" y="95"/>
                  </a:lnTo>
                  <a:lnTo>
                    <a:pt x="35" y="94"/>
                  </a:lnTo>
                  <a:lnTo>
                    <a:pt x="39" y="92"/>
                  </a:lnTo>
                  <a:lnTo>
                    <a:pt x="48" y="87"/>
                  </a:lnTo>
                  <a:lnTo>
                    <a:pt x="55" y="80"/>
                  </a:lnTo>
                  <a:lnTo>
                    <a:pt x="60" y="73"/>
                  </a:lnTo>
                  <a:lnTo>
                    <a:pt x="65" y="65"/>
                  </a:lnTo>
                  <a:lnTo>
                    <a:pt x="68" y="57"/>
                  </a:lnTo>
                  <a:lnTo>
                    <a:pt x="69" y="48"/>
                  </a:lnTo>
                  <a:lnTo>
                    <a:pt x="69" y="39"/>
                  </a:lnTo>
                  <a:lnTo>
                    <a:pt x="67" y="29"/>
                  </a:lnTo>
                  <a:lnTo>
                    <a:pt x="65" y="25"/>
                  </a:lnTo>
                  <a:lnTo>
                    <a:pt x="63" y="21"/>
                  </a:lnTo>
                  <a:lnTo>
                    <a:pt x="61" y="17"/>
                  </a:lnTo>
                  <a:lnTo>
                    <a:pt x="58" y="13"/>
                  </a:lnTo>
                  <a:lnTo>
                    <a:pt x="54" y="9"/>
                  </a:lnTo>
                  <a:lnTo>
                    <a:pt x="50" y="6"/>
                  </a:lnTo>
                  <a:lnTo>
                    <a:pt x="44" y="3"/>
                  </a:lnTo>
                  <a:lnTo>
                    <a:pt x="3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59120" y="2401560"/>
              <a:ext cx="3240" cy="504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69" y="5"/>
                  </a:moveTo>
                  <a:lnTo>
                    <a:pt x="64" y="3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9" y="22"/>
                  </a:lnTo>
                  <a:lnTo>
                    <a:pt x="4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8" y="79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5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60920" y="2401560"/>
              <a:ext cx="93600" cy="46080"/>
            </a:xfrm>
            <a:custGeom>
              <a:avLst/>
              <a:gdLst/>
              <a:ahLst/>
              <a:rect l="l" t="t" r="r" b="b"/>
              <a:pathLst>
                <a:path w="1903" h="915">
                  <a:moveTo>
                    <a:pt x="1903" y="824"/>
                  </a:moveTo>
                  <a:lnTo>
                    <a:pt x="40" y="0"/>
                  </a:lnTo>
                  <a:lnTo>
                    <a:pt x="0" y="90"/>
                  </a:lnTo>
                  <a:lnTo>
                    <a:pt x="1864" y="915"/>
                  </a:lnTo>
                  <a:lnTo>
                    <a:pt x="1903" y="824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2720" y="2442960"/>
              <a:ext cx="3240" cy="468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0" y="91"/>
                  </a:moveTo>
                  <a:lnTo>
                    <a:pt x="6" y="93"/>
                  </a:lnTo>
                  <a:lnTo>
                    <a:pt x="11" y="95"/>
                  </a:lnTo>
                  <a:lnTo>
                    <a:pt x="16" y="96"/>
                  </a:lnTo>
                  <a:lnTo>
                    <a:pt x="21" y="96"/>
                  </a:lnTo>
                  <a:lnTo>
                    <a:pt x="26" y="96"/>
                  </a:lnTo>
                  <a:lnTo>
                    <a:pt x="31" y="95"/>
                  </a:lnTo>
                  <a:lnTo>
                    <a:pt x="35" y="93"/>
                  </a:lnTo>
                  <a:lnTo>
                    <a:pt x="40" y="92"/>
                  </a:lnTo>
                  <a:lnTo>
                    <a:pt x="48" y="87"/>
                  </a:lnTo>
                  <a:lnTo>
                    <a:pt x="55" y="81"/>
                  </a:lnTo>
                  <a:lnTo>
                    <a:pt x="61" y="74"/>
                  </a:lnTo>
                  <a:lnTo>
                    <a:pt x="65" y="66"/>
                  </a:lnTo>
                  <a:lnTo>
                    <a:pt x="68" y="57"/>
                  </a:lnTo>
                  <a:lnTo>
                    <a:pt x="70" y="48"/>
                  </a:lnTo>
                  <a:lnTo>
                    <a:pt x="69" y="39"/>
                  </a:lnTo>
                  <a:lnTo>
                    <a:pt x="68" y="30"/>
                  </a:lnTo>
                  <a:lnTo>
                    <a:pt x="66" y="26"/>
                  </a:lnTo>
                  <a:lnTo>
                    <a:pt x="64" y="21"/>
                  </a:lnTo>
                  <a:lnTo>
                    <a:pt x="61" y="17"/>
                  </a:lnTo>
                  <a:lnTo>
                    <a:pt x="58" y="14"/>
                  </a:lnTo>
                  <a:lnTo>
                    <a:pt x="55" y="10"/>
                  </a:lnTo>
                  <a:lnTo>
                    <a:pt x="50" y="6"/>
                  </a:lnTo>
                  <a:lnTo>
                    <a:pt x="46" y="3"/>
                  </a:lnTo>
                  <a:lnTo>
                    <a:pt x="3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03600" y="254628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69" y="5"/>
                  </a:moveTo>
                  <a:lnTo>
                    <a:pt x="64" y="3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9" y="23"/>
                  </a:lnTo>
                  <a:lnTo>
                    <a:pt x="4" y="31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8" y="80"/>
                  </a:lnTo>
                  <a:lnTo>
                    <a:pt x="12" y="83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05040" y="2546280"/>
              <a:ext cx="92160" cy="44280"/>
            </a:xfrm>
            <a:custGeom>
              <a:avLst/>
              <a:gdLst/>
              <a:ahLst/>
              <a:rect l="l" t="t" r="r" b="b"/>
              <a:pathLst>
                <a:path w="1860" h="896">
                  <a:moveTo>
                    <a:pt x="1860" y="806"/>
                  </a:moveTo>
                  <a:lnTo>
                    <a:pt x="40" y="0"/>
                  </a:lnTo>
                  <a:lnTo>
                    <a:pt x="0" y="91"/>
                  </a:lnTo>
                  <a:lnTo>
                    <a:pt x="1821" y="896"/>
                  </a:lnTo>
                  <a:lnTo>
                    <a:pt x="1860" y="806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95760" y="2587320"/>
              <a:ext cx="3240" cy="468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0" y="90"/>
                  </a:moveTo>
                  <a:lnTo>
                    <a:pt x="5" y="92"/>
                  </a:lnTo>
                  <a:lnTo>
                    <a:pt x="11" y="94"/>
                  </a:lnTo>
                  <a:lnTo>
                    <a:pt x="16" y="95"/>
                  </a:lnTo>
                  <a:lnTo>
                    <a:pt x="21" y="95"/>
                  </a:lnTo>
                  <a:lnTo>
                    <a:pt x="26" y="95"/>
                  </a:lnTo>
                  <a:lnTo>
                    <a:pt x="31" y="94"/>
                  </a:lnTo>
                  <a:lnTo>
                    <a:pt x="35" y="93"/>
                  </a:lnTo>
                  <a:lnTo>
                    <a:pt x="39" y="91"/>
                  </a:lnTo>
                  <a:lnTo>
                    <a:pt x="47" y="86"/>
                  </a:lnTo>
                  <a:lnTo>
                    <a:pt x="55" y="80"/>
                  </a:lnTo>
                  <a:lnTo>
                    <a:pt x="61" y="73"/>
                  </a:lnTo>
                  <a:lnTo>
                    <a:pt x="65" y="65"/>
                  </a:lnTo>
                  <a:lnTo>
                    <a:pt x="68" y="57"/>
                  </a:lnTo>
                  <a:lnTo>
                    <a:pt x="69" y="48"/>
                  </a:lnTo>
                  <a:lnTo>
                    <a:pt x="69" y="38"/>
                  </a:lnTo>
                  <a:lnTo>
                    <a:pt x="67" y="29"/>
                  </a:lnTo>
                  <a:lnTo>
                    <a:pt x="66" y="25"/>
                  </a:lnTo>
                  <a:lnTo>
                    <a:pt x="64" y="21"/>
                  </a:lnTo>
                  <a:lnTo>
                    <a:pt x="61" y="17"/>
                  </a:lnTo>
                  <a:lnTo>
                    <a:pt x="58" y="13"/>
                  </a:lnTo>
                  <a:lnTo>
                    <a:pt x="54" y="9"/>
                  </a:lnTo>
                  <a:lnTo>
                    <a:pt x="49" y="6"/>
                  </a:lnTo>
                  <a:lnTo>
                    <a:pt x="44" y="3"/>
                  </a:lnTo>
                  <a:lnTo>
                    <a:pt x="39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770280" y="2479320"/>
              <a:ext cx="4680" cy="504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70" y="5"/>
                  </a:moveTo>
                  <a:lnTo>
                    <a:pt x="64" y="3"/>
                  </a:lnTo>
                  <a:lnTo>
                    <a:pt x="59" y="2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43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1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9" y="80"/>
                  </a:lnTo>
                  <a:lnTo>
                    <a:pt x="12" y="84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72080" y="2479320"/>
              <a:ext cx="93600" cy="44640"/>
            </a:xfrm>
            <a:custGeom>
              <a:avLst/>
              <a:gdLst/>
              <a:ahLst/>
              <a:rect l="l" t="t" r="r" b="b"/>
              <a:pathLst>
                <a:path w="1870" h="900">
                  <a:moveTo>
                    <a:pt x="1870" y="810"/>
                  </a:moveTo>
                  <a:lnTo>
                    <a:pt x="41" y="0"/>
                  </a:lnTo>
                  <a:lnTo>
                    <a:pt x="0" y="91"/>
                  </a:lnTo>
                  <a:lnTo>
                    <a:pt x="1830" y="900"/>
                  </a:lnTo>
                  <a:lnTo>
                    <a:pt x="1870" y="81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63880" y="251928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0" y="90"/>
                  </a:moveTo>
                  <a:lnTo>
                    <a:pt x="6" y="92"/>
                  </a:lnTo>
                  <a:lnTo>
                    <a:pt x="11" y="95"/>
                  </a:lnTo>
                  <a:lnTo>
                    <a:pt x="16" y="96"/>
                  </a:lnTo>
                  <a:lnTo>
                    <a:pt x="21" y="96"/>
                  </a:lnTo>
                  <a:lnTo>
                    <a:pt x="26" y="96"/>
                  </a:lnTo>
                  <a:lnTo>
                    <a:pt x="31" y="95"/>
                  </a:lnTo>
                  <a:lnTo>
                    <a:pt x="36" y="94"/>
                  </a:lnTo>
                  <a:lnTo>
                    <a:pt x="40" y="91"/>
                  </a:lnTo>
                  <a:lnTo>
                    <a:pt x="48" y="86"/>
                  </a:lnTo>
                  <a:lnTo>
                    <a:pt x="55" y="80"/>
                  </a:lnTo>
                  <a:lnTo>
                    <a:pt x="61" y="73"/>
                  </a:lnTo>
                  <a:lnTo>
                    <a:pt x="65" y="65"/>
                  </a:lnTo>
                  <a:lnTo>
                    <a:pt x="68" y="57"/>
                  </a:lnTo>
                  <a:lnTo>
                    <a:pt x="69" y="48"/>
                  </a:lnTo>
                  <a:lnTo>
                    <a:pt x="69" y="38"/>
                  </a:lnTo>
                  <a:lnTo>
                    <a:pt x="67" y="29"/>
                  </a:lnTo>
                  <a:lnTo>
                    <a:pt x="66" y="25"/>
                  </a:lnTo>
                  <a:lnTo>
                    <a:pt x="64" y="21"/>
                  </a:lnTo>
                  <a:lnTo>
                    <a:pt x="61" y="17"/>
                  </a:lnTo>
                  <a:lnTo>
                    <a:pt x="58" y="13"/>
                  </a:lnTo>
                  <a:lnTo>
                    <a:pt x="54" y="9"/>
                  </a:lnTo>
                  <a:lnTo>
                    <a:pt x="50" y="6"/>
                  </a:lnTo>
                  <a:lnTo>
                    <a:pt x="45" y="3"/>
                  </a:lnTo>
                  <a:lnTo>
                    <a:pt x="40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36960" y="2409480"/>
              <a:ext cx="3240" cy="504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70" y="6"/>
                  </a:moveTo>
                  <a:lnTo>
                    <a:pt x="65" y="4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5"/>
                  </a:lnTo>
                  <a:lnTo>
                    <a:pt x="22" y="10"/>
                  </a:lnTo>
                  <a:lnTo>
                    <a:pt x="15" y="16"/>
                  </a:lnTo>
                  <a:lnTo>
                    <a:pt x="10" y="23"/>
                  </a:lnTo>
                  <a:lnTo>
                    <a:pt x="6" y="31"/>
                  </a:lnTo>
                  <a:lnTo>
                    <a:pt x="3" y="39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3" y="67"/>
                  </a:lnTo>
                  <a:lnTo>
                    <a:pt x="5" y="71"/>
                  </a:lnTo>
                  <a:lnTo>
                    <a:pt x="7" y="75"/>
                  </a:lnTo>
                  <a:lnTo>
                    <a:pt x="9" y="79"/>
                  </a:lnTo>
                  <a:lnTo>
                    <a:pt x="13" y="83"/>
                  </a:lnTo>
                  <a:lnTo>
                    <a:pt x="16" y="87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30" y="96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38760" y="2409480"/>
              <a:ext cx="93600" cy="44640"/>
            </a:xfrm>
            <a:custGeom>
              <a:avLst/>
              <a:gdLst/>
              <a:ahLst/>
              <a:rect l="l" t="t" r="r" b="b"/>
              <a:pathLst>
                <a:path w="1881" h="905">
                  <a:moveTo>
                    <a:pt x="1881" y="814"/>
                  </a:moveTo>
                  <a:lnTo>
                    <a:pt x="40" y="0"/>
                  </a:lnTo>
                  <a:lnTo>
                    <a:pt x="0" y="90"/>
                  </a:lnTo>
                  <a:lnTo>
                    <a:pt x="1841" y="905"/>
                  </a:lnTo>
                  <a:lnTo>
                    <a:pt x="1881" y="814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30560" y="2449440"/>
              <a:ext cx="3240" cy="468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0" y="91"/>
                  </a:moveTo>
                  <a:lnTo>
                    <a:pt x="5" y="93"/>
                  </a:lnTo>
                  <a:lnTo>
                    <a:pt x="11" y="94"/>
                  </a:lnTo>
                  <a:lnTo>
                    <a:pt x="16" y="95"/>
                  </a:lnTo>
                  <a:lnTo>
                    <a:pt x="21" y="95"/>
                  </a:lnTo>
                  <a:lnTo>
                    <a:pt x="26" y="95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0" y="91"/>
                  </a:lnTo>
                  <a:lnTo>
                    <a:pt x="48" y="87"/>
                  </a:lnTo>
                  <a:lnTo>
                    <a:pt x="55" y="81"/>
                  </a:lnTo>
                  <a:lnTo>
                    <a:pt x="60" y="73"/>
                  </a:lnTo>
                  <a:lnTo>
                    <a:pt x="65" y="65"/>
                  </a:lnTo>
                  <a:lnTo>
                    <a:pt x="68" y="56"/>
                  </a:lnTo>
                  <a:lnTo>
                    <a:pt x="69" y="47"/>
                  </a:lnTo>
                  <a:lnTo>
                    <a:pt x="69" y="38"/>
                  </a:lnTo>
                  <a:lnTo>
                    <a:pt x="67" y="29"/>
                  </a:lnTo>
                  <a:lnTo>
                    <a:pt x="65" y="25"/>
                  </a:lnTo>
                  <a:lnTo>
                    <a:pt x="63" y="20"/>
                  </a:lnTo>
                  <a:lnTo>
                    <a:pt x="61" y="16"/>
                  </a:lnTo>
                  <a:lnTo>
                    <a:pt x="58" y="12"/>
                  </a:lnTo>
                  <a:lnTo>
                    <a:pt x="54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52800" y="2487240"/>
              <a:ext cx="3240" cy="504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70" y="5"/>
                  </a:moveTo>
                  <a:lnTo>
                    <a:pt x="64" y="3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9" y="22"/>
                  </a:lnTo>
                  <a:lnTo>
                    <a:pt x="5" y="30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9"/>
                  </a:lnTo>
                  <a:lnTo>
                    <a:pt x="12" y="82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4" y="92"/>
                  </a:lnTo>
                  <a:lnTo>
                    <a:pt x="30" y="96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54600" y="2489040"/>
              <a:ext cx="85680" cy="41040"/>
            </a:xfrm>
            <a:custGeom>
              <a:avLst/>
              <a:gdLst/>
              <a:ahLst/>
              <a:rect l="l" t="t" r="r" b="b"/>
              <a:pathLst>
                <a:path w="1710" h="830">
                  <a:moveTo>
                    <a:pt x="1710" y="740"/>
                  </a:moveTo>
                  <a:lnTo>
                    <a:pt x="40" y="0"/>
                  </a:lnTo>
                  <a:lnTo>
                    <a:pt x="0" y="91"/>
                  </a:lnTo>
                  <a:lnTo>
                    <a:pt x="1670" y="830"/>
                  </a:lnTo>
                  <a:lnTo>
                    <a:pt x="1710" y="74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37040" y="2525400"/>
              <a:ext cx="4680" cy="468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0" y="90"/>
                  </a:moveTo>
                  <a:lnTo>
                    <a:pt x="6" y="93"/>
                  </a:lnTo>
                  <a:lnTo>
                    <a:pt x="12" y="94"/>
                  </a:lnTo>
                  <a:lnTo>
                    <a:pt x="17" y="95"/>
                  </a:lnTo>
                  <a:lnTo>
                    <a:pt x="22" y="95"/>
                  </a:lnTo>
                  <a:lnTo>
                    <a:pt x="27" y="95"/>
                  </a:lnTo>
                  <a:lnTo>
                    <a:pt x="32" y="94"/>
                  </a:lnTo>
                  <a:lnTo>
                    <a:pt x="36" y="93"/>
                  </a:lnTo>
                  <a:lnTo>
                    <a:pt x="41" y="91"/>
                  </a:lnTo>
                  <a:lnTo>
                    <a:pt x="48" y="87"/>
                  </a:lnTo>
                  <a:lnTo>
                    <a:pt x="55" y="80"/>
                  </a:lnTo>
                  <a:lnTo>
                    <a:pt x="61" y="73"/>
                  </a:lnTo>
                  <a:lnTo>
                    <a:pt x="65" y="65"/>
                  </a:lnTo>
                  <a:lnTo>
                    <a:pt x="68" y="56"/>
                  </a:lnTo>
                  <a:lnTo>
                    <a:pt x="70" y="47"/>
                  </a:lnTo>
                  <a:lnTo>
                    <a:pt x="69" y="38"/>
                  </a:lnTo>
                  <a:lnTo>
                    <a:pt x="68" y="28"/>
                  </a:lnTo>
                  <a:lnTo>
                    <a:pt x="66" y="24"/>
                  </a:lnTo>
                  <a:lnTo>
                    <a:pt x="64" y="20"/>
                  </a:lnTo>
                  <a:lnTo>
                    <a:pt x="61" y="16"/>
                  </a:lnTo>
                  <a:lnTo>
                    <a:pt x="58" y="12"/>
                  </a:lnTo>
                  <a:lnTo>
                    <a:pt x="55" y="9"/>
                  </a:lnTo>
                  <a:lnTo>
                    <a:pt x="50" y="5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789360" y="2626920"/>
              <a:ext cx="3240" cy="504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69" y="5"/>
                  </a:moveTo>
                  <a:lnTo>
                    <a:pt x="64" y="3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9" y="23"/>
                  </a:lnTo>
                  <a:lnTo>
                    <a:pt x="5" y="31"/>
                  </a:lnTo>
                  <a:lnTo>
                    <a:pt x="2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7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8" y="79"/>
                  </a:lnTo>
                  <a:lnTo>
                    <a:pt x="12" y="83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5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790800" y="2628720"/>
              <a:ext cx="59040" cy="28440"/>
            </a:xfrm>
            <a:custGeom>
              <a:avLst/>
              <a:gdLst/>
              <a:ahLst/>
              <a:rect l="l" t="t" r="r" b="b"/>
              <a:pathLst>
                <a:path w="1178" h="595">
                  <a:moveTo>
                    <a:pt x="1178" y="504"/>
                  </a:moveTo>
                  <a:lnTo>
                    <a:pt x="40" y="0"/>
                  </a:lnTo>
                  <a:lnTo>
                    <a:pt x="0" y="90"/>
                  </a:lnTo>
                  <a:lnTo>
                    <a:pt x="1138" y="595"/>
                  </a:lnTo>
                  <a:lnTo>
                    <a:pt x="1178" y="504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48040" y="2652480"/>
              <a:ext cx="3240" cy="468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0" y="91"/>
                  </a:moveTo>
                  <a:lnTo>
                    <a:pt x="6" y="93"/>
                  </a:lnTo>
                  <a:lnTo>
                    <a:pt x="11" y="94"/>
                  </a:lnTo>
                  <a:lnTo>
                    <a:pt x="16" y="95"/>
                  </a:lnTo>
                  <a:lnTo>
                    <a:pt x="21" y="95"/>
                  </a:lnTo>
                  <a:lnTo>
                    <a:pt x="26" y="95"/>
                  </a:lnTo>
                  <a:lnTo>
                    <a:pt x="32" y="94"/>
                  </a:lnTo>
                  <a:lnTo>
                    <a:pt x="36" y="93"/>
                  </a:lnTo>
                  <a:lnTo>
                    <a:pt x="41" y="91"/>
                  </a:lnTo>
                  <a:lnTo>
                    <a:pt x="48" y="87"/>
                  </a:lnTo>
                  <a:lnTo>
                    <a:pt x="55" y="81"/>
                  </a:lnTo>
                  <a:lnTo>
                    <a:pt x="61" y="73"/>
                  </a:lnTo>
                  <a:lnTo>
                    <a:pt x="65" y="65"/>
                  </a:lnTo>
                  <a:lnTo>
                    <a:pt x="68" y="56"/>
                  </a:lnTo>
                  <a:lnTo>
                    <a:pt x="70" y="47"/>
                  </a:lnTo>
                  <a:lnTo>
                    <a:pt x="69" y="38"/>
                  </a:lnTo>
                  <a:lnTo>
                    <a:pt x="67" y="29"/>
                  </a:lnTo>
                  <a:lnTo>
                    <a:pt x="66" y="25"/>
                  </a:lnTo>
                  <a:lnTo>
                    <a:pt x="64" y="20"/>
                  </a:lnTo>
                  <a:lnTo>
                    <a:pt x="61" y="16"/>
                  </a:lnTo>
                  <a:lnTo>
                    <a:pt x="58" y="12"/>
                  </a:lnTo>
                  <a:lnTo>
                    <a:pt x="54" y="9"/>
                  </a:lnTo>
                  <a:lnTo>
                    <a:pt x="50" y="5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956040" y="2560320"/>
              <a:ext cx="3240" cy="468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70" y="6"/>
                  </a:moveTo>
                  <a:lnTo>
                    <a:pt x="64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9" y="22"/>
                  </a:lnTo>
                  <a:lnTo>
                    <a:pt x="5" y="30"/>
                  </a:lnTo>
                  <a:lnTo>
                    <a:pt x="2" y="39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2" y="67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9"/>
                  </a:lnTo>
                  <a:lnTo>
                    <a:pt x="12" y="83"/>
                  </a:lnTo>
                  <a:lnTo>
                    <a:pt x="15" y="87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30" y="95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957480" y="2560320"/>
              <a:ext cx="100080" cy="47880"/>
            </a:xfrm>
            <a:custGeom>
              <a:avLst/>
              <a:gdLst/>
              <a:ahLst/>
              <a:rect l="l" t="t" r="r" b="b"/>
              <a:pathLst>
                <a:path w="2018" h="965">
                  <a:moveTo>
                    <a:pt x="2018" y="875"/>
                  </a:moveTo>
                  <a:lnTo>
                    <a:pt x="40" y="0"/>
                  </a:lnTo>
                  <a:lnTo>
                    <a:pt x="0" y="89"/>
                  </a:lnTo>
                  <a:lnTo>
                    <a:pt x="1977" y="965"/>
                  </a:lnTo>
                  <a:lnTo>
                    <a:pt x="2018" y="87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56120" y="2603160"/>
              <a:ext cx="3240" cy="504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0" y="90"/>
                  </a:moveTo>
                  <a:lnTo>
                    <a:pt x="6" y="93"/>
                  </a:lnTo>
                  <a:lnTo>
                    <a:pt x="11" y="94"/>
                  </a:lnTo>
                  <a:lnTo>
                    <a:pt x="16" y="95"/>
                  </a:lnTo>
                  <a:lnTo>
                    <a:pt x="21" y="95"/>
                  </a:lnTo>
                  <a:lnTo>
                    <a:pt x="27" y="95"/>
                  </a:lnTo>
                  <a:lnTo>
                    <a:pt x="32" y="94"/>
                  </a:lnTo>
                  <a:lnTo>
                    <a:pt x="36" y="93"/>
                  </a:lnTo>
                  <a:lnTo>
                    <a:pt x="41" y="91"/>
                  </a:lnTo>
                  <a:lnTo>
                    <a:pt x="49" y="87"/>
                  </a:lnTo>
                  <a:lnTo>
                    <a:pt x="55" y="81"/>
                  </a:lnTo>
                  <a:lnTo>
                    <a:pt x="61" y="74"/>
                  </a:lnTo>
                  <a:lnTo>
                    <a:pt x="65" y="65"/>
                  </a:lnTo>
                  <a:lnTo>
                    <a:pt x="68" y="56"/>
                  </a:lnTo>
                  <a:lnTo>
                    <a:pt x="70" y="47"/>
                  </a:lnTo>
                  <a:lnTo>
                    <a:pt x="70" y="38"/>
                  </a:lnTo>
                  <a:lnTo>
                    <a:pt x="68" y="29"/>
                  </a:lnTo>
                  <a:lnTo>
                    <a:pt x="66" y="25"/>
                  </a:lnTo>
                  <a:lnTo>
                    <a:pt x="64" y="21"/>
                  </a:lnTo>
                  <a:lnTo>
                    <a:pt x="61" y="17"/>
                  </a:lnTo>
                  <a:lnTo>
                    <a:pt x="58" y="12"/>
                  </a:lnTo>
                  <a:lnTo>
                    <a:pt x="55" y="9"/>
                  </a:lnTo>
                  <a:lnTo>
                    <a:pt x="50" y="5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25960" y="249228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69" y="5"/>
                  </a:moveTo>
                  <a:lnTo>
                    <a:pt x="64" y="3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9" y="23"/>
                  </a:lnTo>
                  <a:lnTo>
                    <a:pt x="4" y="31"/>
                  </a:lnTo>
                  <a:lnTo>
                    <a:pt x="1" y="4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8" y="80"/>
                  </a:lnTo>
                  <a:lnTo>
                    <a:pt x="11" y="84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30" y="96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25960" y="2492280"/>
              <a:ext cx="44280" cy="23760"/>
            </a:xfrm>
            <a:custGeom>
              <a:avLst/>
              <a:gdLst/>
              <a:ahLst/>
              <a:rect l="l" t="t" r="r" b="b"/>
              <a:pathLst>
                <a:path w="895" h="469">
                  <a:moveTo>
                    <a:pt x="895" y="380"/>
                  </a:moveTo>
                  <a:lnTo>
                    <a:pt x="39" y="0"/>
                  </a:lnTo>
                  <a:lnTo>
                    <a:pt x="0" y="91"/>
                  </a:lnTo>
                  <a:lnTo>
                    <a:pt x="855" y="469"/>
                  </a:lnTo>
                  <a:lnTo>
                    <a:pt x="895" y="380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68800" y="2511360"/>
              <a:ext cx="3240" cy="468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0" y="89"/>
                  </a:moveTo>
                  <a:lnTo>
                    <a:pt x="6" y="92"/>
                  </a:lnTo>
                  <a:lnTo>
                    <a:pt x="11" y="93"/>
                  </a:lnTo>
                  <a:lnTo>
                    <a:pt x="16" y="94"/>
                  </a:lnTo>
                  <a:lnTo>
                    <a:pt x="21" y="94"/>
                  </a:lnTo>
                  <a:lnTo>
                    <a:pt x="26" y="94"/>
                  </a:lnTo>
                  <a:lnTo>
                    <a:pt x="32" y="93"/>
                  </a:lnTo>
                  <a:lnTo>
                    <a:pt x="36" y="92"/>
                  </a:lnTo>
                  <a:lnTo>
                    <a:pt x="41" y="90"/>
                  </a:lnTo>
                  <a:lnTo>
                    <a:pt x="48" y="86"/>
                  </a:lnTo>
                  <a:lnTo>
                    <a:pt x="55" y="80"/>
                  </a:lnTo>
                  <a:lnTo>
                    <a:pt x="61" y="73"/>
                  </a:lnTo>
                  <a:lnTo>
                    <a:pt x="65" y="65"/>
                  </a:lnTo>
                  <a:lnTo>
                    <a:pt x="68" y="56"/>
                  </a:lnTo>
                  <a:lnTo>
                    <a:pt x="70" y="46"/>
                  </a:lnTo>
                  <a:lnTo>
                    <a:pt x="69" y="37"/>
                  </a:lnTo>
                  <a:lnTo>
                    <a:pt x="67" y="28"/>
                  </a:lnTo>
                  <a:lnTo>
                    <a:pt x="66" y="24"/>
                  </a:lnTo>
                  <a:lnTo>
                    <a:pt x="64" y="20"/>
                  </a:lnTo>
                  <a:lnTo>
                    <a:pt x="61" y="16"/>
                  </a:lnTo>
                  <a:lnTo>
                    <a:pt x="58" y="12"/>
                  </a:lnTo>
                  <a:lnTo>
                    <a:pt x="54" y="9"/>
                  </a:lnTo>
                  <a:lnTo>
                    <a:pt x="50" y="5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714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768840" y="2555640"/>
              <a:ext cx="4680" cy="6480"/>
            </a:xfrm>
            <a:custGeom>
              <a:avLst/>
              <a:gdLst/>
              <a:ahLst/>
              <a:rect l="l" t="t" r="r" b="b"/>
              <a:pathLst>
                <a:path w="85" h="110">
                  <a:moveTo>
                    <a:pt x="85" y="19"/>
                  </a:moveTo>
                  <a:lnTo>
                    <a:pt x="40" y="0"/>
                  </a:lnTo>
                  <a:lnTo>
                    <a:pt x="0" y="90"/>
                  </a:lnTo>
                  <a:lnTo>
                    <a:pt x="46" y="11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772080" y="2557080"/>
              <a:ext cx="87120" cy="41400"/>
            </a:xfrm>
            <a:custGeom>
              <a:avLst/>
              <a:gdLst/>
              <a:ahLst/>
              <a:rect l="l" t="t" r="r" b="b"/>
              <a:pathLst>
                <a:path w="1765" h="854">
                  <a:moveTo>
                    <a:pt x="1765" y="765"/>
                  </a:moveTo>
                  <a:lnTo>
                    <a:pt x="39" y="0"/>
                  </a:lnTo>
                  <a:lnTo>
                    <a:pt x="0" y="91"/>
                  </a:lnTo>
                  <a:lnTo>
                    <a:pt x="1725" y="854"/>
                  </a:lnTo>
                  <a:lnTo>
                    <a:pt x="1765" y="76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57760" y="2595240"/>
              <a:ext cx="2880" cy="5040"/>
            </a:xfrm>
            <a:custGeom>
              <a:avLst/>
              <a:gdLst/>
              <a:ahLst/>
              <a:rect l="l" t="t" r="r" b="b"/>
              <a:pathLst>
                <a:path w="84" h="110">
                  <a:moveTo>
                    <a:pt x="0" y="89"/>
                  </a:moveTo>
                  <a:lnTo>
                    <a:pt x="45" y="110"/>
                  </a:lnTo>
                  <a:lnTo>
                    <a:pt x="84" y="19"/>
                  </a:lnTo>
                  <a:lnTo>
                    <a:pt x="40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82920" y="2550960"/>
              <a:ext cx="3240" cy="468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30" y="0"/>
                  </a:moveTo>
                  <a:lnTo>
                    <a:pt x="25" y="2"/>
                  </a:lnTo>
                  <a:lnTo>
                    <a:pt x="20" y="5"/>
                  </a:lnTo>
                  <a:lnTo>
                    <a:pt x="16" y="8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4" y="23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3" y="64"/>
                  </a:lnTo>
                  <a:lnTo>
                    <a:pt x="7" y="72"/>
                  </a:lnTo>
                  <a:lnTo>
                    <a:pt x="13" y="79"/>
                  </a:lnTo>
                  <a:lnTo>
                    <a:pt x="19" y="86"/>
                  </a:lnTo>
                  <a:lnTo>
                    <a:pt x="27" y="90"/>
                  </a:lnTo>
                  <a:lnTo>
                    <a:pt x="31" y="92"/>
                  </a:lnTo>
                  <a:lnTo>
                    <a:pt x="36" y="94"/>
                  </a:lnTo>
                  <a:lnTo>
                    <a:pt x="40" y="95"/>
                  </a:lnTo>
                  <a:lnTo>
                    <a:pt x="45" y="95"/>
                  </a:lnTo>
                  <a:lnTo>
                    <a:pt x="50" y="95"/>
                  </a:lnTo>
                  <a:lnTo>
                    <a:pt x="57" y="94"/>
                  </a:lnTo>
                  <a:lnTo>
                    <a:pt x="62" y="93"/>
                  </a:lnTo>
                  <a:lnTo>
                    <a:pt x="68" y="9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84720" y="2381040"/>
              <a:ext cx="417240" cy="174600"/>
            </a:xfrm>
            <a:custGeom>
              <a:avLst/>
              <a:gdLst/>
              <a:ahLst/>
              <a:rect l="l" t="t" r="r" b="b"/>
              <a:pathLst>
                <a:path w="8421" h="3513">
                  <a:moveTo>
                    <a:pt x="8384" y="0"/>
                  </a:moveTo>
                  <a:lnTo>
                    <a:pt x="0" y="3422"/>
                  </a:lnTo>
                  <a:lnTo>
                    <a:pt x="38" y="3513"/>
                  </a:lnTo>
                  <a:lnTo>
                    <a:pt x="8421" y="92"/>
                  </a:lnTo>
                  <a:lnTo>
                    <a:pt x="8384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00520" y="2381040"/>
              <a:ext cx="3240" cy="46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7" y="96"/>
                  </a:moveTo>
                  <a:lnTo>
                    <a:pt x="42" y="93"/>
                  </a:lnTo>
                  <a:lnTo>
                    <a:pt x="47" y="91"/>
                  </a:lnTo>
                  <a:lnTo>
                    <a:pt x="51" y="87"/>
                  </a:lnTo>
                  <a:lnTo>
                    <a:pt x="55" y="84"/>
                  </a:lnTo>
                  <a:lnTo>
                    <a:pt x="58" y="80"/>
                  </a:lnTo>
                  <a:lnTo>
                    <a:pt x="61" y="76"/>
                  </a:lnTo>
                  <a:lnTo>
                    <a:pt x="63" y="72"/>
                  </a:lnTo>
                  <a:lnTo>
                    <a:pt x="65" y="68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6" y="40"/>
                  </a:lnTo>
                  <a:lnTo>
                    <a:pt x="64" y="32"/>
                  </a:lnTo>
                  <a:lnTo>
                    <a:pt x="60" y="24"/>
                  </a:lnTo>
                  <a:lnTo>
                    <a:pt x="54" y="16"/>
                  </a:lnTo>
                  <a:lnTo>
                    <a:pt x="48" y="10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5" y="2"/>
                  </a:lnTo>
                  <a:lnTo>
                    <a:pt x="0" y="4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54560" y="2603160"/>
              <a:ext cx="4680" cy="504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32" y="0"/>
                  </a:moveTo>
                  <a:lnTo>
                    <a:pt x="27" y="3"/>
                  </a:lnTo>
                  <a:lnTo>
                    <a:pt x="22" y="5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19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5" y="64"/>
                  </a:lnTo>
                  <a:lnTo>
                    <a:pt x="9" y="72"/>
                  </a:lnTo>
                  <a:lnTo>
                    <a:pt x="15" y="80"/>
                  </a:lnTo>
                  <a:lnTo>
                    <a:pt x="21" y="86"/>
                  </a:lnTo>
                  <a:lnTo>
                    <a:pt x="29" y="91"/>
                  </a:lnTo>
                  <a:lnTo>
                    <a:pt x="33" y="92"/>
                  </a:lnTo>
                  <a:lnTo>
                    <a:pt x="38" y="95"/>
                  </a:lnTo>
                  <a:lnTo>
                    <a:pt x="42" y="96"/>
                  </a:lnTo>
                  <a:lnTo>
                    <a:pt x="47" y="96"/>
                  </a:lnTo>
                  <a:lnTo>
                    <a:pt x="52" y="96"/>
                  </a:lnTo>
                  <a:lnTo>
                    <a:pt x="57" y="95"/>
                  </a:lnTo>
                  <a:lnTo>
                    <a:pt x="63" y="93"/>
                  </a:lnTo>
                  <a:lnTo>
                    <a:pt x="69" y="9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56000" y="2396880"/>
              <a:ext cx="506520" cy="209520"/>
            </a:xfrm>
            <a:custGeom>
              <a:avLst/>
              <a:gdLst/>
              <a:ahLst/>
              <a:rect l="l" t="t" r="r" b="b"/>
              <a:pathLst>
                <a:path w="10181" h="4231">
                  <a:moveTo>
                    <a:pt x="10145" y="0"/>
                  </a:moveTo>
                  <a:lnTo>
                    <a:pt x="0" y="4140"/>
                  </a:lnTo>
                  <a:lnTo>
                    <a:pt x="37" y="4231"/>
                  </a:lnTo>
                  <a:lnTo>
                    <a:pt x="10181" y="92"/>
                  </a:lnTo>
                  <a:lnTo>
                    <a:pt x="10145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59280" y="2396880"/>
              <a:ext cx="4680" cy="46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6" y="96"/>
                  </a:moveTo>
                  <a:lnTo>
                    <a:pt x="41" y="94"/>
                  </a:lnTo>
                  <a:lnTo>
                    <a:pt x="46" y="90"/>
                  </a:lnTo>
                  <a:lnTo>
                    <a:pt x="51" y="87"/>
                  </a:lnTo>
                  <a:lnTo>
                    <a:pt x="55" y="83"/>
                  </a:lnTo>
                  <a:lnTo>
                    <a:pt x="58" y="80"/>
                  </a:lnTo>
                  <a:lnTo>
                    <a:pt x="61" y="76"/>
                  </a:lnTo>
                  <a:lnTo>
                    <a:pt x="63" y="72"/>
                  </a:lnTo>
                  <a:lnTo>
                    <a:pt x="65" y="67"/>
                  </a:lnTo>
                  <a:lnTo>
                    <a:pt x="67" y="59"/>
                  </a:lnTo>
                  <a:lnTo>
                    <a:pt x="68" y="49"/>
                  </a:lnTo>
                  <a:lnTo>
                    <a:pt x="66" y="39"/>
                  </a:lnTo>
                  <a:lnTo>
                    <a:pt x="64" y="31"/>
                  </a:lnTo>
                  <a:lnTo>
                    <a:pt x="60" y="23"/>
                  </a:lnTo>
                  <a:lnTo>
                    <a:pt x="54" y="15"/>
                  </a:lnTo>
                  <a:lnTo>
                    <a:pt x="47" y="9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5" y="2"/>
                  </a:lnTo>
                  <a:lnTo>
                    <a:pt x="0" y="4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70120" y="2636640"/>
              <a:ext cx="3240" cy="46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0" y="0"/>
                  </a:moveTo>
                  <a:lnTo>
                    <a:pt x="25" y="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2" y="12"/>
                  </a:lnTo>
                  <a:lnTo>
                    <a:pt x="9" y="16"/>
                  </a:lnTo>
                  <a:lnTo>
                    <a:pt x="6" y="20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1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3" y="80"/>
                  </a:lnTo>
                  <a:lnTo>
                    <a:pt x="20" y="86"/>
                  </a:lnTo>
                  <a:lnTo>
                    <a:pt x="27" y="91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2" y="95"/>
                  </a:lnTo>
                  <a:lnTo>
                    <a:pt x="47" y="96"/>
                  </a:lnTo>
                  <a:lnTo>
                    <a:pt x="52" y="95"/>
                  </a:lnTo>
                  <a:lnTo>
                    <a:pt x="57" y="95"/>
                  </a:lnTo>
                  <a:lnTo>
                    <a:pt x="62" y="93"/>
                  </a:lnTo>
                  <a:lnTo>
                    <a:pt x="68" y="9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571920" y="2430360"/>
              <a:ext cx="507960" cy="209520"/>
            </a:xfrm>
            <a:custGeom>
              <a:avLst/>
              <a:gdLst/>
              <a:ahLst/>
              <a:rect l="l" t="t" r="r" b="b"/>
              <a:pathLst>
                <a:path w="10230" h="4250">
                  <a:moveTo>
                    <a:pt x="10193" y="0"/>
                  </a:moveTo>
                  <a:lnTo>
                    <a:pt x="0" y="4159"/>
                  </a:lnTo>
                  <a:lnTo>
                    <a:pt x="38" y="4250"/>
                  </a:lnTo>
                  <a:lnTo>
                    <a:pt x="10230" y="92"/>
                  </a:lnTo>
                  <a:lnTo>
                    <a:pt x="10193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76640" y="2428560"/>
              <a:ext cx="4680" cy="46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7" y="96"/>
                  </a:moveTo>
                  <a:lnTo>
                    <a:pt x="43" y="93"/>
                  </a:lnTo>
                  <a:lnTo>
                    <a:pt x="47" y="90"/>
                  </a:lnTo>
                  <a:lnTo>
                    <a:pt x="52" y="87"/>
                  </a:lnTo>
                  <a:lnTo>
                    <a:pt x="55" y="84"/>
                  </a:lnTo>
                  <a:lnTo>
                    <a:pt x="59" y="80"/>
                  </a:lnTo>
                  <a:lnTo>
                    <a:pt x="61" y="76"/>
                  </a:lnTo>
                  <a:lnTo>
                    <a:pt x="64" y="72"/>
                  </a:lnTo>
                  <a:lnTo>
                    <a:pt x="65" y="67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7" y="40"/>
                  </a:lnTo>
                  <a:lnTo>
                    <a:pt x="64" y="31"/>
                  </a:lnTo>
                  <a:lnTo>
                    <a:pt x="60" y="23"/>
                  </a:lnTo>
                  <a:lnTo>
                    <a:pt x="55" y="15"/>
                  </a:lnTo>
                  <a:lnTo>
                    <a:pt x="48" y="9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4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87600" y="2476440"/>
              <a:ext cx="3240" cy="46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2" y="0"/>
                  </a:moveTo>
                  <a:lnTo>
                    <a:pt x="25" y="3"/>
                  </a:lnTo>
                  <a:lnTo>
                    <a:pt x="21" y="6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1" y="57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1"/>
                  </a:lnTo>
                  <a:lnTo>
                    <a:pt x="20" y="87"/>
                  </a:lnTo>
                  <a:lnTo>
                    <a:pt x="29" y="92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2" y="96"/>
                  </a:lnTo>
                  <a:lnTo>
                    <a:pt x="47" y="96"/>
                  </a:lnTo>
                  <a:lnTo>
                    <a:pt x="52" y="96"/>
                  </a:lnTo>
                  <a:lnTo>
                    <a:pt x="57" y="95"/>
                  </a:lnTo>
                  <a:lnTo>
                    <a:pt x="63" y="94"/>
                  </a:lnTo>
                  <a:lnTo>
                    <a:pt x="68" y="9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89400" y="2395440"/>
              <a:ext cx="201600" cy="85680"/>
            </a:xfrm>
            <a:custGeom>
              <a:avLst/>
              <a:gdLst/>
              <a:ahLst/>
              <a:rect l="l" t="t" r="r" b="b"/>
              <a:pathLst>
                <a:path w="4051" h="1730">
                  <a:moveTo>
                    <a:pt x="4015" y="0"/>
                  </a:moveTo>
                  <a:lnTo>
                    <a:pt x="0" y="1638"/>
                  </a:lnTo>
                  <a:lnTo>
                    <a:pt x="36" y="1730"/>
                  </a:lnTo>
                  <a:lnTo>
                    <a:pt x="4051" y="92"/>
                  </a:lnTo>
                  <a:lnTo>
                    <a:pt x="4015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89200" y="2395440"/>
              <a:ext cx="3240" cy="46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6" y="96"/>
                  </a:moveTo>
                  <a:lnTo>
                    <a:pt x="41" y="93"/>
                  </a:lnTo>
                  <a:lnTo>
                    <a:pt x="47" y="90"/>
                  </a:lnTo>
                  <a:lnTo>
                    <a:pt x="51" y="87"/>
                  </a:lnTo>
                  <a:lnTo>
                    <a:pt x="55" y="84"/>
                  </a:lnTo>
                  <a:lnTo>
                    <a:pt x="58" y="80"/>
                  </a:lnTo>
                  <a:lnTo>
                    <a:pt x="61" y="76"/>
                  </a:lnTo>
                  <a:lnTo>
                    <a:pt x="63" y="71"/>
                  </a:lnTo>
                  <a:lnTo>
                    <a:pt x="65" y="67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6" y="40"/>
                  </a:lnTo>
                  <a:lnTo>
                    <a:pt x="64" y="31"/>
                  </a:lnTo>
                  <a:lnTo>
                    <a:pt x="60" y="23"/>
                  </a:lnTo>
                  <a:lnTo>
                    <a:pt x="54" y="15"/>
                  </a:lnTo>
                  <a:lnTo>
                    <a:pt x="48" y="9"/>
                  </a:lnTo>
                  <a:lnTo>
                    <a:pt x="39" y="4"/>
                  </a:lnTo>
                  <a:lnTo>
                    <a:pt x="35" y="2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5" y="2"/>
                  </a:lnTo>
                  <a:lnTo>
                    <a:pt x="0" y="4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19520" y="2652480"/>
              <a:ext cx="3240" cy="4680"/>
            </a:xfrm>
            <a:custGeom>
              <a:avLst/>
              <a:gdLst/>
              <a:ahLst/>
              <a:rect l="l" t="t" r="r" b="b"/>
              <a:pathLst>
                <a:path w="68" h="96">
                  <a:moveTo>
                    <a:pt x="31" y="0"/>
                  </a:moveTo>
                  <a:lnTo>
                    <a:pt x="26" y="2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4" y="23"/>
                  </a:lnTo>
                  <a:lnTo>
                    <a:pt x="2" y="2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3" y="64"/>
                  </a:lnTo>
                  <a:lnTo>
                    <a:pt x="8" y="72"/>
                  </a:lnTo>
                  <a:lnTo>
                    <a:pt x="13" y="80"/>
                  </a:lnTo>
                  <a:lnTo>
                    <a:pt x="21" y="86"/>
                  </a:lnTo>
                  <a:lnTo>
                    <a:pt x="28" y="91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2" y="95"/>
                  </a:lnTo>
                  <a:lnTo>
                    <a:pt x="46" y="96"/>
                  </a:lnTo>
                  <a:lnTo>
                    <a:pt x="51" y="96"/>
                  </a:lnTo>
                  <a:lnTo>
                    <a:pt x="57" y="95"/>
                  </a:lnTo>
                  <a:lnTo>
                    <a:pt x="62" y="94"/>
                  </a:lnTo>
                  <a:lnTo>
                    <a:pt x="68" y="9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20960" y="2476440"/>
              <a:ext cx="432000" cy="180720"/>
            </a:xfrm>
            <a:custGeom>
              <a:avLst/>
              <a:gdLst/>
              <a:ahLst/>
              <a:rect l="l" t="t" r="r" b="b"/>
              <a:pathLst>
                <a:path w="8723" h="3638">
                  <a:moveTo>
                    <a:pt x="8686" y="0"/>
                  </a:moveTo>
                  <a:lnTo>
                    <a:pt x="0" y="3546"/>
                  </a:lnTo>
                  <a:lnTo>
                    <a:pt x="37" y="3638"/>
                  </a:lnTo>
                  <a:lnTo>
                    <a:pt x="8723" y="92"/>
                  </a:lnTo>
                  <a:lnTo>
                    <a:pt x="8686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51160" y="247644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37" y="96"/>
                  </a:moveTo>
                  <a:lnTo>
                    <a:pt x="43" y="94"/>
                  </a:lnTo>
                  <a:lnTo>
                    <a:pt x="48" y="91"/>
                  </a:lnTo>
                  <a:lnTo>
                    <a:pt x="52" y="88"/>
                  </a:lnTo>
                  <a:lnTo>
                    <a:pt x="56" y="84"/>
                  </a:lnTo>
                  <a:lnTo>
                    <a:pt x="59" y="81"/>
                  </a:lnTo>
                  <a:lnTo>
                    <a:pt x="61" y="77"/>
                  </a:lnTo>
                  <a:lnTo>
                    <a:pt x="64" y="73"/>
                  </a:lnTo>
                  <a:lnTo>
                    <a:pt x="65" y="68"/>
                  </a:lnTo>
                  <a:lnTo>
                    <a:pt x="69" y="60"/>
                  </a:lnTo>
                  <a:lnTo>
                    <a:pt x="69" y="50"/>
                  </a:lnTo>
                  <a:lnTo>
                    <a:pt x="68" y="41"/>
                  </a:lnTo>
                  <a:lnTo>
                    <a:pt x="64" y="32"/>
                  </a:lnTo>
                  <a:lnTo>
                    <a:pt x="60" y="24"/>
                  </a:lnTo>
                  <a:lnTo>
                    <a:pt x="55" y="17"/>
                  </a:lnTo>
                  <a:lnTo>
                    <a:pt x="48" y="10"/>
                  </a:lnTo>
                  <a:lnTo>
                    <a:pt x="40" y="5"/>
                  </a:lnTo>
                  <a:lnTo>
                    <a:pt x="36" y="3"/>
                  </a:lnTo>
                  <a:lnTo>
                    <a:pt x="32" y="1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7" y="2"/>
                  </a:lnTo>
                  <a:lnTo>
                    <a:pt x="0" y="4"/>
                  </a:lnTo>
                  <a:lnTo>
                    <a:pt x="37" y="96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87720" y="2631960"/>
              <a:ext cx="468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29" y="0"/>
                  </a:moveTo>
                  <a:lnTo>
                    <a:pt x="24" y="3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3"/>
                  </a:lnTo>
                  <a:lnTo>
                    <a:pt x="8" y="16"/>
                  </a:lnTo>
                  <a:lnTo>
                    <a:pt x="5" y="20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9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1" y="86"/>
                  </a:lnTo>
                  <a:lnTo>
                    <a:pt x="28" y="92"/>
                  </a:lnTo>
                  <a:lnTo>
                    <a:pt x="33" y="94"/>
                  </a:lnTo>
                  <a:lnTo>
                    <a:pt x="37" y="95"/>
                  </a:lnTo>
                  <a:lnTo>
                    <a:pt x="42" y="96"/>
                  </a:lnTo>
                  <a:lnTo>
                    <a:pt x="48" y="96"/>
                  </a:lnTo>
                  <a:lnTo>
                    <a:pt x="53" y="96"/>
                  </a:lnTo>
                  <a:lnTo>
                    <a:pt x="58" y="95"/>
                  </a:lnTo>
                  <a:lnTo>
                    <a:pt x="63" y="93"/>
                  </a:lnTo>
                  <a:lnTo>
                    <a:pt x="69" y="9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89520" y="2562120"/>
              <a:ext cx="163440" cy="74520"/>
            </a:xfrm>
            <a:custGeom>
              <a:avLst/>
              <a:gdLst/>
              <a:ahLst/>
              <a:rect l="l" t="t" r="r" b="b"/>
              <a:pathLst>
                <a:path w="3270" h="1501">
                  <a:moveTo>
                    <a:pt x="3230" y="0"/>
                  </a:moveTo>
                  <a:lnTo>
                    <a:pt x="0" y="1411"/>
                  </a:lnTo>
                  <a:lnTo>
                    <a:pt x="40" y="1501"/>
                  </a:lnTo>
                  <a:lnTo>
                    <a:pt x="3270" y="90"/>
                  </a:lnTo>
                  <a:lnTo>
                    <a:pt x="3230" y="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49720" y="2560320"/>
              <a:ext cx="4680" cy="468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40" y="95"/>
                  </a:moveTo>
                  <a:lnTo>
                    <a:pt x="45" y="93"/>
                  </a:lnTo>
                  <a:lnTo>
                    <a:pt x="50" y="89"/>
                  </a:lnTo>
                  <a:lnTo>
                    <a:pt x="54" y="86"/>
                  </a:lnTo>
                  <a:lnTo>
                    <a:pt x="57" y="82"/>
                  </a:lnTo>
                  <a:lnTo>
                    <a:pt x="60" y="79"/>
                  </a:lnTo>
                  <a:lnTo>
                    <a:pt x="63" y="75"/>
                  </a:lnTo>
                  <a:lnTo>
                    <a:pt x="65" y="70"/>
                  </a:lnTo>
                  <a:lnTo>
                    <a:pt x="67" y="66"/>
                  </a:lnTo>
                  <a:lnTo>
                    <a:pt x="69" y="57"/>
                  </a:lnTo>
                  <a:lnTo>
                    <a:pt x="69" y="48"/>
                  </a:lnTo>
                  <a:lnTo>
                    <a:pt x="68" y="39"/>
                  </a:lnTo>
                  <a:lnTo>
                    <a:pt x="65" y="30"/>
                  </a:lnTo>
                  <a:lnTo>
                    <a:pt x="60" y="22"/>
                  </a:lnTo>
                  <a:lnTo>
                    <a:pt x="55" y="15"/>
                  </a:lnTo>
                  <a:lnTo>
                    <a:pt x="48" y="9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5" y="3"/>
                  </a:lnTo>
                  <a:lnTo>
                    <a:pt x="0" y="5"/>
                  </a:lnTo>
                  <a:lnTo>
                    <a:pt x="40" y="9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24320" y="2463480"/>
              <a:ext cx="3240" cy="504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70" y="5"/>
                  </a:moveTo>
                  <a:lnTo>
                    <a:pt x="64" y="3"/>
                  </a:lnTo>
                  <a:lnTo>
                    <a:pt x="59" y="1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3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1" y="10"/>
                  </a:lnTo>
                  <a:lnTo>
                    <a:pt x="15" y="16"/>
                  </a:lnTo>
                  <a:lnTo>
                    <a:pt x="9" y="23"/>
                  </a:lnTo>
                  <a:lnTo>
                    <a:pt x="5" y="31"/>
                  </a:lnTo>
                  <a:lnTo>
                    <a:pt x="2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9" y="80"/>
                  </a:lnTo>
                  <a:lnTo>
                    <a:pt x="12" y="83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25760" y="2463480"/>
              <a:ext cx="82440" cy="41400"/>
            </a:xfrm>
            <a:custGeom>
              <a:avLst/>
              <a:gdLst/>
              <a:ahLst/>
              <a:rect l="l" t="t" r="r" b="b"/>
              <a:pathLst>
                <a:path w="1681" h="817">
                  <a:moveTo>
                    <a:pt x="1681" y="726"/>
                  </a:moveTo>
                  <a:lnTo>
                    <a:pt x="41" y="0"/>
                  </a:lnTo>
                  <a:lnTo>
                    <a:pt x="0" y="91"/>
                  </a:lnTo>
                  <a:lnTo>
                    <a:pt x="1641" y="817"/>
                  </a:lnTo>
                  <a:lnTo>
                    <a:pt x="1681" y="726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506760" y="250020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0" y="91"/>
                  </a:moveTo>
                  <a:lnTo>
                    <a:pt x="5" y="93"/>
                  </a:lnTo>
                  <a:lnTo>
                    <a:pt x="10" y="95"/>
                  </a:lnTo>
                  <a:lnTo>
                    <a:pt x="16" y="95"/>
                  </a:lnTo>
                  <a:lnTo>
                    <a:pt x="21" y="96"/>
                  </a:lnTo>
                  <a:lnTo>
                    <a:pt x="25" y="95"/>
                  </a:lnTo>
                  <a:lnTo>
                    <a:pt x="30" y="95"/>
                  </a:lnTo>
                  <a:lnTo>
                    <a:pt x="35" y="93"/>
                  </a:lnTo>
                  <a:lnTo>
                    <a:pt x="40" y="92"/>
                  </a:lnTo>
                  <a:lnTo>
                    <a:pt x="48" y="87"/>
                  </a:lnTo>
                  <a:lnTo>
                    <a:pt x="54" y="81"/>
                  </a:lnTo>
                  <a:lnTo>
                    <a:pt x="60" y="74"/>
                  </a:lnTo>
                  <a:lnTo>
                    <a:pt x="64" y="66"/>
                  </a:lnTo>
                  <a:lnTo>
                    <a:pt x="67" y="57"/>
                  </a:lnTo>
                  <a:lnTo>
                    <a:pt x="69" y="48"/>
                  </a:lnTo>
                  <a:lnTo>
                    <a:pt x="69" y="39"/>
                  </a:lnTo>
                  <a:lnTo>
                    <a:pt x="67" y="30"/>
                  </a:lnTo>
                  <a:lnTo>
                    <a:pt x="65" y="25"/>
                  </a:lnTo>
                  <a:lnTo>
                    <a:pt x="63" y="21"/>
                  </a:lnTo>
                  <a:lnTo>
                    <a:pt x="60" y="17"/>
                  </a:lnTo>
                  <a:lnTo>
                    <a:pt x="57" y="14"/>
                  </a:lnTo>
                  <a:lnTo>
                    <a:pt x="54" y="9"/>
                  </a:lnTo>
                  <a:lnTo>
                    <a:pt x="50" y="6"/>
                  </a:lnTo>
                  <a:lnTo>
                    <a:pt x="45" y="3"/>
                  </a:lnTo>
                  <a:lnTo>
                    <a:pt x="4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587760" y="2396880"/>
              <a:ext cx="3240" cy="468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5"/>
                  </a:moveTo>
                  <a:lnTo>
                    <a:pt x="64" y="3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9" y="22"/>
                  </a:lnTo>
                  <a:lnTo>
                    <a:pt x="5" y="30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9" y="78"/>
                  </a:lnTo>
                  <a:lnTo>
                    <a:pt x="12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4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89200" y="2396880"/>
              <a:ext cx="81000" cy="39600"/>
            </a:xfrm>
            <a:custGeom>
              <a:avLst/>
              <a:gdLst/>
              <a:ahLst/>
              <a:rect l="l" t="t" r="r" b="b"/>
              <a:pathLst>
                <a:path w="1635" h="796">
                  <a:moveTo>
                    <a:pt x="1635" y="705"/>
                  </a:moveTo>
                  <a:lnTo>
                    <a:pt x="41" y="0"/>
                  </a:lnTo>
                  <a:lnTo>
                    <a:pt x="0" y="89"/>
                  </a:lnTo>
                  <a:lnTo>
                    <a:pt x="1595" y="796"/>
                  </a:lnTo>
                  <a:lnTo>
                    <a:pt x="1635" y="70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68760" y="2431800"/>
              <a:ext cx="3240" cy="468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0" y="91"/>
                  </a:moveTo>
                  <a:lnTo>
                    <a:pt x="5" y="93"/>
                  </a:lnTo>
                  <a:lnTo>
                    <a:pt x="10" y="94"/>
                  </a:lnTo>
                  <a:lnTo>
                    <a:pt x="16" y="95"/>
                  </a:lnTo>
                  <a:lnTo>
                    <a:pt x="22" y="95"/>
                  </a:lnTo>
                  <a:lnTo>
                    <a:pt x="26" y="95"/>
                  </a:lnTo>
                  <a:lnTo>
                    <a:pt x="31" y="94"/>
                  </a:lnTo>
                  <a:lnTo>
                    <a:pt x="36" y="93"/>
                  </a:lnTo>
                  <a:lnTo>
                    <a:pt x="40" y="91"/>
                  </a:lnTo>
                  <a:lnTo>
                    <a:pt x="48" y="87"/>
                  </a:lnTo>
                  <a:lnTo>
                    <a:pt x="54" y="81"/>
                  </a:lnTo>
                  <a:lnTo>
                    <a:pt x="60" y="74"/>
                  </a:lnTo>
                  <a:lnTo>
                    <a:pt x="64" y="65"/>
                  </a:lnTo>
                  <a:lnTo>
                    <a:pt x="67" y="56"/>
                  </a:lnTo>
                  <a:lnTo>
                    <a:pt x="69" y="47"/>
                  </a:lnTo>
                  <a:lnTo>
                    <a:pt x="69" y="38"/>
                  </a:lnTo>
                  <a:lnTo>
                    <a:pt x="67" y="29"/>
                  </a:lnTo>
                  <a:lnTo>
                    <a:pt x="65" y="25"/>
                  </a:lnTo>
                  <a:lnTo>
                    <a:pt x="63" y="21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22520" y="2535120"/>
              <a:ext cx="3240" cy="468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69" y="4"/>
                  </a:moveTo>
                  <a:lnTo>
                    <a:pt x="64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9" y="21"/>
                  </a:lnTo>
                  <a:lnTo>
                    <a:pt x="4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8" y="79"/>
                  </a:lnTo>
                  <a:lnTo>
                    <a:pt x="11" y="83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5" y="92"/>
                  </a:lnTo>
                  <a:lnTo>
                    <a:pt x="30" y="95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24320" y="2536560"/>
              <a:ext cx="96840" cy="46080"/>
            </a:xfrm>
            <a:custGeom>
              <a:avLst/>
              <a:gdLst/>
              <a:ahLst/>
              <a:rect l="l" t="t" r="r" b="b"/>
              <a:pathLst>
                <a:path w="1939" h="932">
                  <a:moveTo>
                    <a:pt x="1939" y="841"/>
                  </a:moveTo>
                  <a:lnTo>
                    <a:pt x="39" y="0"/>
                  </a:lnTo>
                  <a:lnTo>
                    <a:pt x="0" y="91"/>
                  </a:lnTo>
                  <a:lnTo>
                    <a:pt x="1900" y="932"/>
                  </a:lnTo>
                  <a:lnTo>
                    <a:pt x="1939" y="841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17920" y="2577960"/>
              <a:ext cx="468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0" y="91"/>
                  </a:moveTo>
                  <a:lnTo>
                    <a:pt x="5" y="93"/>
                  </a:lnTo>
                  <a:lnTo>
                    <a:pt x="10" y="94"/>
                  </a:lnTo>
                  <a:lnTo>
                    <a:pt x="16" y="95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30" y="95"/>
                  </a:lnTo>
                  <a:lnTo>
                    <a:pt x="35" y="93"/>
                  </a:lnTo>
                  <a:lnTo>
                    <a:pt x="39" y="92"/>
                  </a:lnTo>
                  <a:lnTo>
                    <a:pt x="47" y="87"/>
                  </a:lnTo>
                  <a:lnTo>
                    <a:pt x="54" y="81"/>
                  </a:lnTo>
                  <a:lnTo>
                    <a:pt x="59" y="74"/>
                  </a:lnTo>
                  <a:lnTo>
                    <a:pt x="65" y="65"/>
                  </a:lnTo>
                  <a:lnTo>
                    <a:pt x="67" y="56"/>
                  </a:lnTo>
                  <a:lnTo>
                    <a:pt x="69" y="47"/>
                  </a:lnTo>
                  <a:lnTo>
                    <a:pt x="69" y="38"/>
                  </a:lnTo>
                  <a:lnTo>
                    <a:pt x="67" y="30"/>
                  </a:lnTo>
                  <a:lnTo>
                    <a:pt x="65" y="25"/>
                  </a:lnTo>
                  <a:lnTo>
                    <a:pt x="63" y="21"/>
                  </a:lnTo>
                  <a:lnTo>
                    <a:pt x="59" y="16"/>
                  </a:lnTo>
                  <a:lnTo>
                    <a:pt x="56" y="12"/>
                  </a:lnTo>
                  <a:lnTo>
                    <a:pt x="53" y="9"/>
                  </a:lnTo>
                  <a:lnTo>
                    <a:pt x="49" y="6"/>
                  </a:lnTo>
                  <a:lnTo>
                    <a:pt x="44" y="3"/>
                  </a:lnTo>
                  <a:lnTo>
                    <a:pt x="3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87760" y="2468520"/>
              <a:ext cx="468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69" y="5"/>
                  </a:moveTo>
                  <a:lnTo>
                    <a:pt x="64" y="3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8" y="23"/>
                  </a:lnTo>
                  <a:lnTo>
                    <a:pt x="4" y="31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3" y="72"/>
                  </a:lnTo>
                  <a:lnTo>
                    <a:pt x="6" y="76"/>
                  </a:lnTo>
                  <a:lnTo>
                    <a:pt x="8" y="80"/>
                  </a:lnTo>
                  <a:lnTo>
                    <a:pt x="11" y="83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89200" y="2468520"/>
              <a:ext cx="95400" cy="45720"/>
            </a:xfrm>
            <a:custGeom>
              <a:avLst/>
              <a:gdLst/>
              <a:ahLst/>
              <a:rect l="l" t="t" r="r" b="b"/>
              <a:pathLst>
                <a:path w="1911" h="919">
                  <a:moveTo>
                    <a:pt x="1911" y="828"/>
                  </a:moveTo>
                  <a:lnTo>
                    <a:pt x="40" y="0"/>
                  </a:lnTo>
                  <a:lnTo>
                    <a:pt x="0" y="91"/>
                  </a:lnTo>
                  <a:lnTo>
                    <a:pt x="1872" y="919"/>
                  </a:lnTo>
                  <a:lnTo>
                    <a:pt x="1911" y="828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83160" y="2509560"/>
              <a:ext cx="288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0" y="91"/>
                  </a:moveTo>
                  <a:lnTo>
                    <a:pt x="5" y="93"/>
                  </a:lnTo>
                  <a:lnTo>
                    <a:pt x="11" y="95"/>
                  </a:lnTo>
                  <a:lnTo>
                    <a:pt x="16" y="96"/>
                  </a:lnTo>
                  <a:lnTo>
                    <a:pt x="21" y="96"/>
                  </a:lnTo>
                  <a:lnTo>
                    <a:pt x="26" y="96"/>
                  </a:lnTo>
                  <a:lnTo>
                    <a:pt x="30" y="95"/>
                  </a:lnTo>
                  <a:lnTo>
                    <a:pt x="35" y="94"/>
                  </a:lnTo>
                  <a:lnTo>
                    <a:pt x="39" y="92"/>
                  </a:lnTo>
                  <a:lnTo>
                    <a:pt x="47" y="87"/>
                  </a:lnTo>
                  <a:lnTo>
                    <a:pt x="55" y="82"/>
                  </a:lnTo>
                  <a:lnTo>
                    <a:pt x="60" y="73"/>
                  </a:lnTo>
                  <a:lnTo>
                    <a:pt x="65" y="65"/>
                  </a:lnTo>
                  <a:lnTo>
                    <a:pt x="68" y="57"/>
                  </a:lnTo>
                  <a:lnTo>
                    <a:pt x="69" y="48"/>
                  </a:lnTo>
                  <a:lnTo>
                    <a:pt x="69" y="39"/>
                  </a:lnTo>
                  <a:lnTo>
                    <a:pt x="67" y="30"/>
                  </a:lnTo>
                  <a:lnTo>
                    <a:pt x="65" y="26"/>
                  </a:lnTo>
                  <a:lnTo>
                    <a:pt x="63" y="21"/>
                  </a:lnTo>
                  <a:lnTo>
                    <a:pt x="61" y="17"/>
                  </a:lnTo>
                  <a:lnTo>
                    <a:pt x="58" y="13"/>
                  </a:lnTo>
                  <a:lnTo>
                    <a:pt x="54" y="9"/>
                  </a:lnTo>
                  <a:lnTo>
                    <a:pt x="50" y="6"/>
                  </a:lnTo>
                  <a:lnTo>
                    <a:pt x="44" y="3"/>
                  </a:lnTo>
                  <a:lnTo>
                    <a:pt x="3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55880" y="240012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69" y="5"/>
                  </a:moveTo>
                  <a:lnTo>
                    <a:pt x="64" y="3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4" y="15"/>
                  </a:lnTo>
                  <a:lnTo>
                    <a:pt x="9" y="22"/>
                  </a:lnTo>
                  <a:lnTo>
                    <a:pt x="4" y="30"/>
                  </a:lnTo>
                  <a:lnTo>
                    <a:pt x="1" y="3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8" y="79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57680" y="2400120"/>
              <a:ext cx="93600" cy="44280"/>
            </a:xfrm>
            <a:custGeom>
              <a:avLst/>
              <a:gdLst/>
              <a:ahLst/>
              <a:rect l="l" t="t" r="r" b="b"/>
              <a:pathLst>
                <a:path w="1903" h="915">
                  <a:moveTo>
                    <a:pt x="1903" y="825"/>
                  </a:moveTo>
                  <a:lnTo>
                    <a:pt x="40" y="0"/>
                  </a:lnTo>
                  <a:lnTo>
                    <a:pt x="0" y="91"/>
                  </a:lnTo>
                  <a:lnTo>
                    <a:pt x="1864" y="915"/>
                  </a:lnTo>
                  <a:lnTo>
                    <a:pt x="1903" y="82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49840" y="2441520"/>
              <a:ext cx="2880" cy="468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0" y="90"/>
                  </a:moveTo>
                  <a:lnTo>
                    <a:pt x="6" y="92"/>
                  </a:lnTo>
                  <a:lnTo>
                    <a:pt x="11" y="94"/>
                  </a:lnTo>
                  <a:lnTo>
                    <a:pt x="16" y="95"/>
                  </a:lnTo>
                  <a:lnTo>
                    <a:pt x="21" y="95"/>
                  </a:lnTo>
                  <a:lnTo>
                    <a:pt x="26" y="95"/>
                  </a:lnTo>
                  <a:lnTo>
                    <a:pt x="31" y="94"/>
                  </a:lnTo>
                  <a:lnTo>
                    <a:pt x="35" y="93"/>
                  </a:lnTo>
                  <a:lnTo>
                    <a:pt x="40" y="91"/>
                  </a:lnTo>
                  <a:lnTo>
                    <a:pt x="48" y="86"/>
                  </a:lnTo>
                  <a:lnTo>
                    <a:pt x="55" y="80"/>
                  </a:lnTo>
                  <a:lnTo>
                    <a:pt x="61" y="73"/>
                  </a:lnTo>
                  <a:lnTo>
                    <a:pt x="65" y="65"/>
                  </a:lnTo>
                  <a:lnTo>
                    <a:pt x="68" y="57"/>
                  </a:lnTo>
                  <a:lnTo>
                    <a:pt x="70" y="47"/>
                  </a:lnTo>
                  <a:lnTo>
                    <a:pt x="69" y="38"/>
                  </a:lnTo>
                  <a:lnTo>
                    <a:pt x="68" y="29"/>
                  </a:lnTo>
                  <a:lnTo>
                    <a:pt x="66" y="25"/>
                  </a:lnTo>
                  <a:lnTo>
                    <a:pt x="64" y="20"/>
                  </a:lnTo>
                  <a:lnTo>
                    <a:pt x="61" y="16"/>
                  </a:lnTo>
                  <a:lnTo>
                    <a:pt x="58" y="13"/>
                  </a:lnTo>
                  <a:lnTo>
                    <a:pt x="54" y="9"/>
                  </a:lnTo>
                  <a:lnTo>
                    <a:pt x="50" y="6"/>
                  </a:lnTo>
                  <a:lnTo>
                    <a:pt x="45" y="3"/>
                  </a:lnTo>
                  <a:lnTo>
                    <a:pt x="39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00360" y="2544480"/>
              <a:ext cx="3240" cy="468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70" y="5"/>
                  </a:moveTo>
                  <a:lnTo>
                    <a:pt x="64" y="3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2" y="9"/>
                  </a:lnTo>
                  <a:lnTo>
                    <a:pt x="15" y="16"/>
                  </a:lnTo>
                  <a:lnTo>
                    <a:pt x="10" y="23"/>
                  </a:lnTo>
                  <a:lnTo>
                    <a:pt x="5" y="31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0"/>
                  </a:lnTo>
                  <a:lnTo>
                    <a:pt x="12" y="83"/>
                  </a:lnTo>
                  <a:lnTo>
                    <a:pt x="16" y="87"/>
                  </a:lnTo>
                  <a:lnTo>
                    <a:pt x="20" y="90"/>
                  </a:lnTo>
                  <a:lnTo>
                    <a:pt x="25" y="93"/>
                  </a:lnTo>
                  <a:lnTo>
                    <a:pt x="30" y="96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02160" y="2544480"/>
              <a:ext cx="91800" cy="44640"/>
            </a:xfrm>
            <a:custGeom>
              <a:avLst/>
              <a:gdLst/>
              <a:ahLst/>
              <a:rect l="l" t="t" r="r" b="b"/>
              <a:pathLst>
                <a:path w="1860" h="896">
                  <a:moveTo>
                    <a:pt x="1860" y="807"/>
                  </a:moveTo>
                  <a:lnTo>
                    <a:pt x="40" y="0"/>
                  </a:lnTo>
                  <a:lnTo>
                    <a:pt x="0" y="91"/>
                  </a:lnTo>
                  <a:lnTo>
                    <a:pt x="1821" y="896"/>
                  </a:lnTo>
                  <a:lnTo>
                    <a:pt x="1860" y="807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92520" y="2584080"/>
              <a:ext cx="3240" cy="504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0" y="89"/>
                  </a:moveTo>
                  <a:lnTo>
                    <a:pt x="5" y="91"/>
                  </a:lnTo>
                  <a:lnTo>
                    <a:pt x="11" y="94"/>
                  </a:lnTo>
                  <a:lnTo>
                    <a:pt x="16" y="95"/>
                  </a:lnTo>
                  <a:lnTo>
                    <a:pt x="21" y="95"/>
                  </a:lnTo>
                  <a:lnTo>
                    <a:pt x="26" y="95"/>
                  </a:lnTo>
                  <a:lnTo>
                    <a:pt x="31" y="94"/>
                  </a:lnTo>
                  <a:lnTo>
                    <a:pt x="35" y="93"/>
                  </a:lnTo>
                  <a:lnTo>
                    <a:pt x="39" y="90"/>
                  </a:lnTo>
                  <a:lnTo>
                    <a:pt x="47" y="86"/>
                  </a:lnTo>
                  <a:lnTo>
                    <a:pt x="54" y="80"/>
                  </a:lnTo>
                  <a:lnTo>
                    <a:pt x="61" y="72"/>
                  </a:lnTo>
                  <a:lnTo>
                    <a:pt x="65" y="64"/>
                  </a:lnTo>
                  <a:lnTo>
                    <a:pt x="68" y="56"/>
                  </a:lnTo>
                  <a:lnTo>
                    <a:pt x="69" y="47"/>
                  </a:lnTo>
                  <a:lnTo>
                    <a:pt x="69" y="37"/>
                  </a:lnTo>
                  <a:lnTo>
                    <a:pt x="67" y="28"/>
                  </a:lnTo>
                  <a:lnTo>
                    <a:pt x="66" y="24"/>
                  </a:lnTo>
                  <a:lnTo>
                    <a:pt x="63" y="20"/>
                  </a:lnTo>
                  <a:lnTo>
                    <a:pt x="61" y="16"/>
                  </a:lnTo>
                  <a:lnTo>
                    <a:pt x="58" y="12"/>
                  </a:lnTo>
                  <a:lnTo>
                    <a:pt x="53" y="8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67040" y="2476440"/>
              <a:ext cx="5040" cy="468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70" y="5"/>
                  </a:moveTo>
                  <a:lnTo>
                    <a:pt x="64" y="3"/>
                  </a:lnTo>
                  <a:lnTo>
                    <a:pt x="59" y="2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5" y="16"/>
                  </a:lnTo>
                  <a:lnTo>
                    <a:pt x="9" y="23"/>
                  </a:lnTo>
                  <a:lnTo>
                    <a:pt x="5" y="31"/>
                  </a:lnTo>
                  <a:lnTo>
                    <a:pt x="2" y="40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9" y="80"/>
                  </a:lnTo>
                  <a:lnTo>
                    <a:pt x="12" y="84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29" y="96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768840" y="2476440"/>
              <a:ext cx="93600" cy="44280"/>
            </a:xfrm>
            <a:custGeom>
              <a:avLst/>
              <a:gdLst/>
              <a:ahLst/>
              <a:rect l="l" t="t" r="r" b="b"/>
              <a:pathLst>
                <a:path w="1870" h="901">
                  <a:moveTo>
                    <a:pt x="1870" y="810"/>
                  </a:moveTo>
                  <a:lnTo>
                    <a:pt x="41" y="0"/>
                  </a:lnTo>
                  <a:lnTo>
                    <a:pt x="0" y="91"/>
                  </a:lnTo>
                  <a:lnTo>
                    <a:pt x="1830" y="901"/>
                  </a:lnTo>
                  <a:lnTo>
                    <a:pt x="1870" y="81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59200" y="2517480"/>
              <a:ext cx="468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0" y="91"/>
                  </a:moveTo>
                  <a:lnTo>
                    <a:pt x="5" y="93"/>
                  </a:lnTo>
                  <a:lnTo>
                    <a:pt x="11" y="95"/>
                  </a:lnTo>
                  <a:lnTo>
                    <a:pt x="16" y="96"/>
                  </a:lnTo>
                  <a:lnTo>
                    <a:pt x="21" y="96"/>
                  </a:lnTo>
                  <a:lnTo>
                    <a:pt x="26" y="96"/>
                  </a:lnTo>
                  <a:lnTo>
                    <a:pt x="31" y="95"/>
                  </a:lnTo>
                  <a:lnTo>
                    <a:pt x="36" y="94"/>
                  </a:lnTo>
                  <a:lnTo>
                    <a:pt x="40" y="92"/>
                  </a:lnTo>
                  <a:lnTo>
                    <a:pt x="48" y="86"/>
                  </a:lnTo>
                  <a:lnTo>
                    <a:pt x="55" y="80"/>
                  </a:lnTo>
                  <a:lnTo>
                    <a:pt x="60" y="73"/>
                  </a:lnTo>
                  <a:lnTo>
                    <a:pt x="65" y="65"/>
                  </a:lnTo>
                  <a:lnTo>
                    <a:pt x="68" y="57"/>
                  </a:lnTo>
                  <a:lnTo>
                    <a:pt x="69" y="48"/>
                  </a:lnTo>
                  <a:lnTo>
                    <a:pt x="69" y="39"/>
                  </a:lnTo>
                  <a:lnTo>
                    <a:pt x="67" y="29"/>
                  </a:lnTo>
                  <a:lnTo>
                    <a:pt x="66" y="25"/>
                  </a:lnTo>
                  <a:lnTo>
                    <a:pt x="63" y="21"/>
                  </a:lnTo>
                  <a:lnTo>
                    <a:pt x="61" y="17"/>
                  </a:lnTo>
                  <a:lnTo>
                    <a:pt x="58" y="13"/>
                  </a:lnTo>
                  <a:lnTo>
                    <a:pt x="54" y="9"/>
                  </a:lnTo>
                  <a:lnTo>
                    <a:pt x="50" y="6"/>
                  </a:lnTo>
                  <a:lnTo>
                    <a:pt x="45" y="3"/>
                  </a:lnTo>
                  <a:lnTo>
                    <a:pt x="4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933720" y="2406600"/>
              <a:ext cx="3240" cy="468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70" y="5"/>
                  </a:moveTo>
                  <a:lnTo>
                    <a:pt x="64" y="3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2" y="9"/>
                  </a:lnTo>
                  <a:lnTo>
                    <a:pt x="15" y="15"/>
                  </a:lnTo>
                  <a:lnTo>
                    <a:pt x="10" y="22"/>
                  </a:lnTo>
                  <a:lnTo>
                    <a:pt x="5" y="30"/>
                  </a:lnTo>
                  <a:lnTo>
                    <a:pt x="1" y="3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9" y="79"/>
                  </a:lnTo>
                  <a:lnTo>
                    <a:pt x="12" y="82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30" y="95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35520" y="2408040"/>
              <a:ext cx="93600" cy="44280"/>
            </a:xfrm>
            <a:custGeom>
              <a:avLst/>
              <a:gdLst/>
              <a:ahLst/>
              <a:rect l="l" t="t" r="r" b="b"/>
              <a:pathLst>
                <a:path w="1881" h="905">
                  <a:moveTo>
                    <a:pt x="1881" y="814"/>
                  </a:moveTo>
                  <a:lnTo>
                    <a:pt x="40" y="0"/>
                  </a:lnTo>
                  <a:lnTo>
                    <a:pt x="0" y="90"/>
                  </a:lnTo>
                  <a:lnTo>
                    <a:pt x="1841" y="905"/>
                  </a:lnTo>
                  <a:lnTo>
                    <a:pt x="1881" y="814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27320" y="2447640"/>
              <a:ext cx="3240" cy="468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0" y="91"/>
                  </a:moveTo>
                  <a:lnTo>
                    <a:pt x="5" y="93"/>
                  </a:lnTo>
                  <a:lnTo>
                    <a:pt x="11" y="94"/>
                  </a:lnTo>
                  <a:lnTo>
                    <a:pt x="16" y="95"/>
                  </a:lnTo>
                  <a:lnTo>
                    <a:pt x="21" y="95"/>
                  </a:lnTo>
                  <a:lnTo>
                    <a:pt x="26" y="95"/>
                  </a:lnTo>
                  <a:lnTo>
                    <a:pt x="30" y="94"/>
                  </a:lnTo>
                  <a:lnTo>
                    <a:pt x="35" y="93"/>
                  </a:lnTo>
                  <a:lnTo>
                    <a:pt x="40" y="91"/>
                  </a:lnTo>
                  <a:lnTo>
                    <a:pt x="48" y="87"/>
                  </a:lnTo>
                  <a:lnTo>
                    <a:pt x="55" y="81"/>
                  </a:lnTo>
                  <a:lnTo>
                    <a:pt x="60" y="74"/>
                  </a:lnTo>
                  <a:lnTo>
                    <a:pt x="65" y="65"/>
                  </a:lnTo>
                  <a:lnTo>
                    <a:pt x="68" y="56"/>
                  </a:lnTo>
                  <a:lnTo>
                    <a:pt x="69" y="47"/>
                  </a:lnTo>
                  <a:lnTo>
                    <a:pt x="69" y="38"/>
                  </a:lnTo>
                  <a:lnTo>
                    <a:pt x="67" y="29"/>
                  </a:lnTo>
                  <a:lnTo>
                    <a:pt x="65" y="25"/>
                  </a:lnTo>
                  <a:lnTo>
                    <a:pt x="63" y="21"/>
                  </a:lnTo>
                  <a:lnTo>
                    <a:pt x="61" y="17"/>
                  </a:lnTo>
                  <a:lnTo>
                    <a:pt x="58" y="12"/>
                  </a:lnTo>
                  <a:lnTo>
                    <a:pt x="54" y="9"/>
                  </a:lnTo>
                  <a:lnTo>
                    <a:pt x="50" y="6"/>
                  </a:lnTo>
                  <a:lnTo>
                    <a:pt x="45" y="3"/>
                  </a:lnTo>
                  <a:lnTo>
                    <a:pt x="4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49560" y="2485800"/>
              <a:ext cx="3240" cy="4680"/>
            </a:xfrm>
            <a:custGeom>
              <a:avLst/>
              <a:gdLst/>
              <a:ahLst/>
              <a:rect l="l" t="t" r="r" b="b"/>
              <a:pathLst>
                <a:path w="70" h="96">
                  <a:moveTo>
                    <a:pt x="70" y="5"/>
                  </a:moveTo>
                  <a:lnTo>
                    <a:pt x="64" y="3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9" y="22"/>
                  </a:lnTo>
                  <a:lnTo>
                    <a:pt x="5" y="30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9"/>
                  </a:lnTo>
                  <a:lnTo>
                    <a:pt x="12" y="82"/>
                  </a:lnTo>
                  <a:lnTo>
                    <a:pt x="15" y="87"/>
                  </a:lnTo>
                  <a:lnTo>
                    <a:pt x="20" y="90"/>
                  </a:lnTo>
                  <a:lnTo>
                    <a:pt x="24" y="93"/>
                  </a:lnTo>
                  <a:lnTo>
                    <a:pt x="30" y="96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51360" y="2485800"/>
              <a:ext cx="85680" cy="41400"/>
            </a:xfrm>
            <a:custGeom>
              <a:avLst/>
              <a:gdLst/>
              <a:ahLst/>
              <a:rect l="l" t="t" r="r" b="b"/>
              <a:pathLst>
                <a:path w="1710" h="831">
                  <a:moveTo>
                    <a:pt x="1710" y="740"/>
                  </a:moveTo>
                  <a:lnTo>
                    <a:pt x="40" y="0"/>
                  </a:lnTo>
                  <a:lnTo>
                    <a:pt x="0" y="91"/>
                  </a:lnTo>
                  <a:lnTo>
                    <a:pt x="1670" y="831"/>
                  </a:lnTo>
                  <a:lnTo>
                    <a:pt x="1710" y="740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033800" y="2522160"/>
              <a:ext cx="4680" cy="504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0" y="91"/>
                  </a:moveTo>
                  <a:lnTo>
                    <a:pt x="6" y="93"/>
                  </a:lnTo>
                  <a:lnTo>
                    <a:pt x="12" y="94"/>
                  </a:lnTo>
                  <a:lnTo>
                    <a:pt x="17" y="95"/>
                  </a:lnTo>
                  <a:lnTo>
                    <a:pt x="22" y="95"/>
                  </a:lnTo>
                  <a:lnTo>
                    <a:pt x="27" y="95"/>
                  </a:lnTo>
                  <a:lnTo>
                    <a:pt x="32" y="94"/>
                  </a:lnTo>
                  <a:lnTo>
                    <a:pt x="36" y="93"/>
                  </a:lnTo>
                  <a:lnTo>
                    <a:pt x="41" y="91"/>
                  </a:lnTo>
                  <a:lnTo>
                    <a:pt x="48" y="87"/>
                  </a:lnTo>
                  <a:lnTo>
                    <a:pt x="55" y="81"/>
                  </a:lnTo>
                  <a:lnTo>
                    <a:pt x="61" y="73"/>
                  </a:lnTo>
                  <a:lnTo>
                    <a:pt x="65" y="65"/>
                  </a:lnTo>
                  <a:lnTo>
                    <a:pt x="68" y="56"/>
                  </a:lnTo>
                  <a:lnTo>
                    <a:pt x="70" y="47"/>
                  </a:lnTo>
                  <a:lnTo>
                    <a:pt x="69" y="38"/>
                  </a:lnTo>
                  <a:lnTo>
                    <a:pt x="68" y="29"/>
                  </a:lnTo>
                  <a:lnTo>
                    <a:pt x="66" y="25"/>
                  </a:lnTo>
                  <a:lnTo>
                    <a:pt x="64" y="20"/>
                  </a:lnTo>
                  <a:lnTo>
                    <a:pt x="61" y="16"/>
                  </a:lnTo>
                  <a:lnTo>
                    <a:pt x="58" y="12"/>
                  </a:lnTo>
                  <a:lnTo>
                    <a:pt x="54" y="9"/>
                  </a:lnTo>
                  <a:lnTo>
                    <a:pt x="50" y="5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86120" y="2625480"/>
              <a:ext cx="3240" cy="4680"/>
            </a:xfrm>
            <a:custGeom>
              <a:avLst/>
              <a:gdLst/>
              <a:ahLst/>
              <a:rect l="l" t="t" r="r" b="b"/>
              <a:pathLst>
                <a:path w="69" h="94">
                  <a:moveTo>
                    <a:pt x="69" y="5"/>
                  </a:moveTo>
                  <a:lnTo>
                    <a:pt x="64" y="3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1" y="9"/>
                  </a:lnTo>
                  <a:lnTo>
                    <a:pt x="14" y="14"/>
                  </a:lnTo>
                  <a:lnTo>
                    <a:pt x="9" y="22"/>
                  </a:lnTo>
                  <a:lnTo>
                    <a:pt x="4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4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87920" y="2625480"/>
              <a:ext cx="58680" cy="30240"/>
            </a:xfrm>
            <a:custGeom>
              <a:avLst/>
              <a:gdLst/>
              <a:ahLst/>
              <a:rect l="l" t="t" r="r" b="b"/>
              <a:pathLst>
                <a:path w="1178" h="594">
                  <a:moveTo>
                    <a:pt x="1178" y="503"/>
                  </a:moveTo>
                  <a:lnTo>
                    <a:pt x="40" y="0"/>
                  </a:lnTo>
                  <a:lnTo>
                    <a:pt x="0" y="89"/>
                  </a:lnTo>
                  <a:lnTo>
                    <a:pt x="1138" y="594"/>
                  </a:lnTo>
                  <a:lnTo>
                    <a:pt x="1178" y="503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44800" y="2651040"/>
              <a:ext cx="3240" cy="468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0" y="91"/>
                  </a:moveTo>
                  <a:lnTo>
                    <a:pt x="6" y="93"/>
                  </a:lnTo>
                  <a:lnTo>
                    <a:pt x="11" y="94"/>
                  </a:lnTo>
                  <a:lnTo>
                    <a:pt x="16" y="95"/>
                  </a:lnTo>
                  <a:lnTo>
                    <a:pt x="21" y="95"/>
                  </a:lnTo>
                  <a:lnTo>
                    <a:pt x="26" y="95"/>
                  </a:lnTo>
                  <a:lnTo>
                    <a:pt x="32" y="94"/>
                  </a:lnTo>
                  <a:lnTo>
                    <a:pt x="36" y="93"/>
                  </a:lnTo>
                  <a:lnTo>
                    <a:pt x="41" y="91"/>
                  </a:lnTo>
                  <a:lnTo>
                    <a:pt x="48" y="87"/>
                  </a:lnTo>
                  <a:lnTo>
                    <a:pt x="55" y="81"/>
                  </a:lnTo>
                  <a:lnTo>
                    <a:pt x="61" y="74"/>
                  </a:lnTo>
                  <a:lnTo>
                    <a:pt x="65" y="65"/>
                  </a:lnTo>
                  <a:lnTo>
                    <a:pt x="68" y="56"/>
                  </a:lnTo>
                  <a:lnTo>
                    <a:pt x="69" y="47"/>
                  </a:lnTo>
                  <a:lnTo>
                    <a:pt x="69" y="38"/>
                  </a:lnTo>
                  <a:lnTo>
                    <a:pt x="67" y="29"/>
                  </a:lnTo>
                  <a:lnTo>
                    <a:pt x="66" y="25"/>
                  </a:lnTo>
                  <a:lnTo>
                    <a:pt x="64" y="21"/>
                  </a:lnTo>
                  <a:lnTo>
                    <a:pt x="61" y="17"/>
                  </a:lnTo>
                  <a:lnTo>
                    <a:pt x="58" y="12"/>
                  </a:lnTo>
                  <a:lnTo>
                    <a:pt x="54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2800" y="2557080"/>
              <a:ext cx="3240" cy="504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1" y="5"/>
                  </a:moveTo>
                  <a:lnTo>
                    <a:pt x="64" y="3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22"/>
                  </a:lnTo>
                  <a:lnTo>
                    <a:pt x="6" y="30"/>
                  </a:lnTo>
                  <a:lnTo>
                    <a:pt x="3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6" y="86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30" y="94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54600" y="2558880"/>
              <a:ext cx="99720" cy="47520"/>
            </a:xfrm>
            <a:custGeom>
              <a:avLst/>
              <a:gdLst/>
              <a:ahLst/>
              <a:rect l="l" t="t" r="r" b="b"/>
              <a:pathLst>
                <a:path w="2018" h="966">
                  <a:moveTo>
                    <a:pt x="2018" y="875"/>
                  </a:moveTo>
                  <a:lnTo>
                    <a:pt x="41" y="0"/>
                  </a:lnTo>
                  <a:lnTo>
                    <a:pt x="0" y="89"/>
                  </a:lnTo>
                  <a:lnTo>
                    <a:pt x="1978" y="966"/>
                  </a:lnTo>
                  <a:lnTo>
                    <a:pt x="2018" y="875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52880" y="2601720"/>
              <a:ext cx="3240" cy="468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0" y="91"/>
                  </a:moveTo>
                  <a:lnTo>
                    <a:pt x="6" y="93"/>
                  </a:lnTo>
                  <a:lnTo>
                    <a:pt x="11" y="94"/>
                  </a:lnTo>
                  <a:lnTo>
                    <a:pt x="16" y="95"/>
                  </a:lnTo>
                  <a:lnTo>
                    <a:pt x="21" y="95"/>
                  </a:lnTo>
                  <a:lnTo>
                    <a:pt x="27" y="95"/>
                  </a:lnTo>
                  <a:lnTo>
                    <a:pt x="32" y="94"/>
                  </a:lnTo>
                  <a:lnTo>
                    <a:pt x="36" y="93"/>
                  </a:lnTo>
                  <a:lnTo>
                    <a:pt x="41" y="91"/>
                  </a:lnTo>
                  <a:lnTo>
                    <a:pt x="48" y="87"/>
                  </a:lnTo>
                  <a:lnTo>
                    <a:pt x="55" y="81"/>
                  </a:lnTo>
                  <a:lnTo>
                    <a:pt x="61" y="74"/>
                  </a:lnTo>
                  <a:lnTo>
                    <a:pt x="65" y="66"/>
                  </a:lnTo>
                  <a:lnTo>
                    <a:pt x="68" y="56"/>
                  </a:lnTo>
                  <a:lnTo>
                    <a:pt x="70" y="47"/>
                  </a:lnTo>
                  <a:lnTo>
                    <a:pt x="69" y="38"/>
                  </a:lnTo>
                  <a:lnTo>
                    <a:pt x="68" y="29"/>
                  </a:lnTo>
                  <a:lnTo>
                    <a:pt x="66" y="25"/>
                  </a:lnTo>
                  <a:lnTo>
                    <a:pt x="64" y="21"/>
                  </a:lnTo>
                  <a:lnTo>
                    <a:pt x="61" y="17"/>
                  </a:lnTo>
                  <a:lnTo>
                    <a:pt x="58" y="13"/>
                  </a:lnTo>
                  <a:lnTo>
                    <a:pt x="55" y="10"/>
                  </a:lnTo>
                  <a:lnTo>
                    <a:pt x="50" y="5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22720" y="2490480"/>
              <a:ext cx="3240" cy="468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69" y="6"/>
                  </a:moveTo>
                  <a:lnTo>
                    <a:pt x="63" y="3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5"/>
                  </a:lnTo>
                  <a:lnTo>
                    <a:pt x="22" y="10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4" y="31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2" y="67"/>
                  </a:lnTo>
                  <a:lnTo>
                    <a:pt x="3" y="71"/>
                  </a:lnTo>
                  <a:lnTo>
                    <a:pt x="5" y="76"/>
                  </a:lnTo>
                  <a:lnTo>
                    <a:pt x="8" y="80"/>
                  </a:lnTo>
                  <a:lnTo>
                    <a:pt x="11" y="83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30" y="96"/>
                  </a:lnTo>
                  <a:lnTo>
                    <a:pt x="69" y="6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24160" y="2490480"/>
              <a:ext cx="47880" cy="25560"/>
            </a:xfrm>
            <a:custGeom>
              <a:avLst/>
              <a:gdLst/>
              <a:ahLst/>
              <a:rect l="l" t="t" r="r" b="b"/>
              <a:pathLst>
                <a:path w="985" h="508">
                  <a:moveTo>
                    <a:pt x="985" y="419"/>
                  </a:moveTo>
                  <a:lnTo>
                    <a:pt x="39" y="0"/>
                  </a:lnTo>
                  <a:lnTo>
                    <a:pt x="0" y="90"/>
                  </a:lnTo>
                  <a:lnTo>
                    <a:pt x="946" y="508"/>
                  </a:lnTo>
                  <a:lnTo>
                    <a:pt x="985" y="419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70240" y="2511360"/>
              <a:ext cx="3240" cy="4680"/>
            </a:xfrm>
            <a:custGeom>
              <a:avLst/>
              <a:gdLst/>
              <a:ahLst/>
              <a:rect l="l" t="t" r="r" b="b"/>
              <a:pathLst>
                <a:path w="69" h="94">
                  <a:moveTo>
                    <a:pt x="0" y="89"/>
                  </a:moveTo>
                  <a:lnTo>
                    <a:pt x="5" y="92"/>
                  </a:lnTo>
                  <a:lnTo>
                    <a:pt x="11" y="93"/>
                  </a:lnTo>
                  <a:lnTo>
                    <a:pt x="16" y="94"/>
                  </a:lnTo>
                  <a:lnTo>
                    <a:pt x="21" y="94"/>
                  </a:lnTo>
                  <a:lnTo>
                    <a:pt x="26" y="94"/>
                  </a:lnTo>
                  <a:lnTo>
                    <a:pt x="30" y="93"/>
                  </a:lnTo>
                  <a:lnTo>
                    <a:pt x="35" y="92"/>
                  </a:lnTo>
                  <a:lnTo>
                    <a:pt x="39" y="90"/>
                  </a:lnTo>
                  <a:lnTo>
                    <a:pt x="47" y="86"/>
                  </a:lnTo>
                  <a:lnTo>
                    <a:pt x="54" y="80"/>
                  </a:lnTo>
                  <a:lnTo>
                    <a:pt x="59" y="73"/>
                  </a:lnTo>
                  <a:lnTo>
                    <a:pt x="65" y="65"/>
                  </a:lnTo>
                  <a:lnTo>
                    <a:pt x="68" y="56"/>
                  </a:lnTo>
                  <a:lnTo>
                    <a:pt x="69" y="46"/>
                  </a:lnTo>
                  <a:lnTo>
                    <a:pt x="69" y="37"/>
                  </a:lnTo>
                  <a:lnTo>
                    <a:pt x="67" y="28"/>
                  </a:lnTo>
                  <a:lnTo>
                    <a:pt x="65" y="24"/>
                  </a:lnTo>
                  <a:lnTo>
                    <a:pt x="63" y="20"/>
                  </a:lnTo>
                  <a:lnTo>
                    <a:pt x="60" y="16"/>
                  </a:lnTo>
                  <a:lnTo>
                    <a:pt x="57" y="12"/>
                  </a:lnTo>
                  <a:lnTo>
                    <a:pt x="53" y="9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eda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72080" y="2519280"/>
              <a:ext cx="403200" cy="1396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0" y="2822"/>
                  </a:moveTo>
                  <a:lnTo>
                    <a:pt x="0" y="2822"/>
                  </a:lnTo>
                  <a:lnTo>
                    <a:pt x="208" y="2821"/>
                  </a:lnTo>
                  <a:lnTo>
                    <a:pt x="417" y="2817"/>
                  </a:lnTo>
                  <a:lnTo>
                    <a:pt x="623" y="2813"/>
                  </a:lnTo>
                  <a:lnTo>
                    <a:pt x="827" y="2807"/>
                  </a:lnTo>
                  <a:lnTo>
                    <a:pt x="1030" y="2799"/>
                  </a:lnTo>
                  <a:lnTo>
                    <a:pt x="1232" y="2789"/>
                  </a:lnTo>
                  <a:lnTo>
                    <a:pt x="1433" y="2778"/>
                  </a:lnTo>
                  <a:lnTo>
                    <a:pt x="1631" y="2764"/>
                  </a:lnTo>
                  <a:lnTo>
                    <a:pt x="1828" y="2750"/>
                  </a:lnTo>
                  <a:lnTo>
                    <a:pt x="2023" y="2734"/>
                  </a:lnTo>
                  <a:lnTo>
                    <a:pt x="2215" y="2716"/>
                  </a:lnTo>
                  <a:lnTo>
                    <a:pt x="2407" y="2696"/>
                  </a:lnTo>
                  <a:lnTo>
                    <a:pt x="2596" y="2676"/>
                  </a:lnTo>
                  <a:lnTo>
                    <a:pt x="2783" y="2652"/>
                  </a:lnTo>
                  <a:lnTo>
                    <a:pt x="2968" y="2629"/>
                  </a:lnTo>
                  <a:lnTo>
                    <a:pt x="3151" y="2603"/>
                  </a:lnTo>
                  <a:lnTo>
                    <a:pt x="3331" y="2576"/>
                  </a:lnTo>
                  <a:lnTo>
                    <a:pt x="3509" y="2547"/>
                  </a:lnTo>
                  <a:lnTo>
                    <a:pt x="3685" y="2518"/>
                  </a:lnTo>
                  <a:lnTo>
                    <a:pt x="3859" y="2486"/>
                  </a:lnTo>
                  <a:lnTo>
                    <a:pt x="4029" y="2454"/>
                  </a:lnTo>
                  <a:lnTo>
                    <a:pt x="4198" y="2419"/>
                  </a:lnTo>
                  <a:lnTo>
                    <a:pt x="4364" y="2383"/>
                  </a:lnTo>
                  <a:lnTo>
                    <a:pt x="4527" y="2346"/>
                  </a:lnTo>
                  <a:lnTo>
                    <a:pt x="4687" y="2309"/>
                  </a:lnTo>
                  <a:lnTo>
                    <a:pt x="4844" y="2269"/>
                  </a:lnTo>
                  <a:lnTo>
                    <a:pt x="5000" y="2228"/>
                  </a:lnTo>
                  <a:lnTo>
                    <a:pt x="5151" y="2186"/>
                  </a:lnTo>
                  <a:lnTo>
                    <a:pt x="5226" y="2165"/>
                  </a:lnTo>
                  <a:lnTo>
                    <a:pt x="5299" y="2143"/>
                  </a:lnTo>
                  <a:lnTo>
                    <a:pt x="5373" y="2121"/>
                  </a:lnTo>
                  <a:lnTo>
                    <a:pt x="5446" y="2099"/>
                  </a:lnTo>
                  <a:lnTo>
                    <a:pt x="5517" y="2076"/>
                  </a:lnTo>
                  <a:lnTo>
                    <a:pt x="5588" y="2053"/>
                  </a:lnTo>
                  <a:lnTo>
                    <a:pt x="5658" y="2029"/>
                  </a:lnTo>
                  <a:lnTo>
                    <a:pt x="5727" y="2006"/>
                  </a:lnTo>
                  <a:lnTo>
                    <a:pt x="5796" y="1983"/>
                  </a:lnTo>
                  <a:lnTo>
                    <a:pt x="5863" y="1958"/>
                  </a:lnTo>
                  <a:lnTo>
                    <a:pt x="5930" y="1935"/>
                  </a:lnTo>
                  <a:lnTo>
                    <a:pt x="5996" y="1909"/>
                  </a:lnTo>
                  <a:lnTo>
                    <a:pt x="6061" y="1885"/>
                  </a:lnTo>
                  <a:lnTo>
                    <a:pt x="6125" y="1859"/>
                  </a:lnTo>
                  <a:lnTo>
                    <a:pt x="6189" y="1834"/>
                  </a:lnTo>
                  <a:lnTo>
                    <a:pt x="6251" y="1808"/>
                  </a:lnTo>
                  <a:lnTo>
                    <a:pt x="6313" y="1783"/>
                  </a:lnTo>
                  <a:lnTo>
                    <a:pt x="6374" y="1756"/>
                  </a:lnTo>
                  <a:lnTo>
                    <a:pt x="6434" y="1730"/>
                  </a:lnTo>
                  <a:lnTo>
                    <a:pt x="6493" y="1703"/>
                  </a:lnTo>
                  <a:lnTo>
                    <a:pt x="6551" y="1676"/>
                  </a:lnTo>
                  <a:lnTo>
                    <a:pt x="6609" y="1649"/>
                  </a:lnTo>
                  <a:lnTo>
                    <a:pt x="6665" y="1622"/>
                  </a:lnTo>
                  <a:lnTo>
                    <a:pt x="6721" y="1593"/>
                  </a:lnTo>
                  <a:lnTo>
                    <a:pt x="6775" y="1566"/>
                  </a:lnTo>
                  <a:lnTo>
                    <a:pt x="6829" y="1537"/>
                  </a:lnTo>
                  <a:lnTo>
                    <a:pt x="6881" y="1509"/>
                  </a:lnTo>
                  <a:lnTo>
                    <a:pt x="6932" y="1480"/>
                  </a:lnTo>
                  <a:lnTo>
                    <a:pt x="6983" y="1451"/>
                  </a:lnTo>
                  <a:lnTo>
                    <a:pt x="7033" y="1422"/>
                  </a:lnTo>
                  <a:lnTo>
                    <a:pt x="7082" y="1392"/>
                  </a:lnTo>
                  <a:lnTo>
                    <a:pt x="7129" y="1363"/>
                  </a:lnTo>
                  <a:lnTo>
                    <a:pt x="7176" y="1333"/>
                  </a:lnTo>
                  <a:lnTo>
                    <a:pt x="7222" y="1303"/>
                  </a:lnTo>
                  <a:lnTo>
                    <a:pt x="7266" y="1272"/>
                  </a:lnTo>
                  <a:lnTo>
                    <a:pt x="7310" y="1241"/>
                  </a:lnTo>
                  <a:lnTo>
                    <a:pt x="7353" y="1211"/>
                  </a:lnTo>
                  <a:lnTo>
                    <a:pt x="7394" y="1180"/>
                  </a:lnTo>
                  <a:lnTo>
                    <a:pt x="7435" y="1149"/>
                  </a:lnTo>
                  <a:lnTo>
                    <a:pt x="7475" y="1117"/>
                  </a:lnTo>
                  <a:lnTo>
                    <a:pt x="7512" y="1085"/>
                  </a:lnTo>
                  <a:lnTo>
                    <a:pt x="7550" y="1053"/>
                  </a:lnTo>
                  <a:lnTo>
                    <a:pt x="7586" y="1021"/>
                  </a:lnTo>
                  <a:lnTo>
                    <a:pt x="7622" y="989"/>
                  </a:lnTo>
                  <a:lnTo>
                    <a:pt x="7656" y="956"/>
                  </a:lnTo>
                  <a:lnTo>
                    <a:pt x="7689" y="923"/>
                  </a:lnTo>
                  <a:lnTo>
                    <a:pt x="7721" y="891"/>
                  </a:lnTo>
                  <a:lnTo>
                    <a:pt x="7752" y="857"/>
                  </a:lnTo>
                  <a:lnTo>
                    <a:pt x="7782" y="823"/>
                  </a:lnTo>
                  <a:lnTo>
                    <a:pt x="7810" y="790"/>
                  </a:lnTo>
                  <a:lnTo>
                    <a:pt x="7837" y="756"/>
                  </a:lnTo>
                  <a:lnTo>
                    <a:pt x="7864" y="723"/>
                  </a:lnTo>
                  <a:lnTo>
                    <a:pt x="7888" y="688"/>
                  </a:lnTo>
                  <a:lnTo>
                    <a:pt x="7913" y="653"/>
                  </a:lnTo>
                  <a:lnTo>
                    <a:pt x="7935" y="619"/>
                  </a:lnTo>
                  <a:lnTo>
                    <a:pt x="7956" y="584"/>
                  </a:lnTo>
                  <a:lnTo>
                    <a:pt x="7977" y="548"/>
                  </a:lnTo>
                  <a:lnTo>
                    <a:pt x="7996" y="514"/>
                  </a:lnTo>
                  <a:lnTo>
                    <a:pt x="8014" y="478"/>
                  </a:lnTo>
                  <a:lnTo>
                    <a:pt x="8030" y="442"/>
                  </a:lnTo>
                  <a:lnTo>
                    <a:pt x="8046" y="406"/>
                  </a:lnTo>
                  <a:lnTo>
                    <a:pt x="8060" y="370"/>
                  </a:lnTo>
                  <a:lnTo>
                    <a:pt x="8072" y="333"/>
                  </a:lnTo>
                  <a:lnTo>
                    <a:pt x="8084" y="297"/>
                  </a:lnTo>
                  <a:lnTo>
                    <a:pt x="8094" y="261"/>
                  </a:lnTo>
                  <a:lnTo>
                    <a:pt x="8103" y="224"/>
                  </a:lnTo>
                  <a:lnTo>
                    <a:pt x="8111" y="186"/>
                  </a:lnTo>
                  <a:lnTo>
                    <a:pt x="8117" y="150"/>
                  </a:lnTo>
                  <a:lnTo>
                    <a:pt x="8122" y="112"/>
                  </a:lnTo>
                  <a:lnTo>
                    <a:pt x="8125" y="75"/>
                  </a:lnTo>
                  <a:lnTo>
                    <a:pt x="8127" y="37"/>
                  </a:lnTo>
                  <a:lnTo>
                    <a:pt x="8128" y="0"/>
                  </a:lnTo>
                  <a:lnTo>
                    <a:pt x="8029" y="0"/>
                  </a:lnTo>
                  <a:lnTo>
                    <a:pt x="8028" y="33"/>
                  </a:lnTo>
                  <a:lnTo>
                    <a:pt x="8026" y="68"/>
                  </a:lnTo>
                  <a:lnTo>
                    <a:pt x="8023" y="102"/>
                  </a:lnTo>
                  <a:lnTo>
                    <a:pt x="8019" y="135"/>
                  </a:lnTo>
                  <a:lnTo>
                    <a:pt x="8014" y="169"/>
                  </a:lnTo>
                  <a:lnTo>
                    <a:pt x="8007" y="203"/>
                  </a:lnTo>
                  <a:lnTo>
                    <a:pt x="7999" y="235"/>
                  </a:lnTo>
                  <a:lnTo>
                    <a:pt x="7990" y="269"/>
                  </a:lnTo>
                  <a:lnTo>
                    <a:pt x="7980" y="303"/>
                  </a:lnTo>
                  <a:lnTo>
                    <a:pt x="7967" y="335"/>
                  </a:lnTo>
                  <a:lnTo>
                    <a:pt x="7954" y="369"/>
                  </a:lnTo>
                  <a:lnTo>
                    <a:pt x="7941" y="401"/>
                  </a:lnTo>
                  <a:lnTo>
                    <a:pt x="7925" y="435"/>
                  </a:lnTo>
                  <a:lnTo>
                    <a:pt x="7909" y="468"/>
                  </a:lnTo>
                  <a:lnTo>
                    <a:pt x="7891" y="500"/>
                  </a:lnTo>
                  <a:lnTo>
                    <a:pt x="7872" y="533"/>
                  </a:lnTo>
                  <a:lnTo>
                    <a:pt x="7853" y="566"/>
                  </a:lnTo>
                  <a:lnTo>
                    <a:pt x="7830" y="598"/>
                  </a:lnTo>
                  <a:lnTo>
                    <a:pt x="7808" y="631"/>
                  </a:lnTo>
                  <a:lnTo>
                    <a:pt x="7785" y="662"/>
                  </a:lnTo>
                  <a:lnTo>
                    <a:pt x="7760" y="695"/>
                  </a:lnTo>
                  <a:lnTo>
                    <a:pt x="7734" y="727"/>
                  </a:lnTo>
                  <a:lnTo>
                    <a:pt x="7707" y="759"/>
                  </a:lnTo>
                  <a:lnTo>
                    <a:pt x="7679" y="791"/>
                  </a:lnTo>
                  <a:lnTo>
                    <a:pt x="7649" y="822"/>
                  </a:lnTo>
                  <a:lnTo>
                    <a:pt x="7619" y="854"/>
                  </a:lnTo>
                  <a:lnTo>
                    <a:pt x="7587" y="886"/>
                  </a:lnTo>
                  <a:lnTo>
                    <a:pt x="7555" y="916"/>
                  </a:lnTo>
                  <a:lnTo>
                    <a:pt x="7520" y="948"/>
                  </a:lnTo>
                  <a:lnTo>
                    <a:pt x="7486" y="978"/>
                  </a:lnTo>
                  <a:lnTo>
                    <a:pt x="7449" y="1009"/>
                  </a:lnTo>
                  <a:lnTo>
                    <a:pt x="7413" y="1040"/>
                  </a:lnTo>
                  <a:lnTo>
                    <a:pt x="7374" y="1070"/>
                  </a:lnTo>
                  <a:lnTo>
                    <a:pt x="7335" y="1101"/>
                  </a:lnTo>
                  <a:lnTo>
                    <a:pt x="7295" y="1131"/>
                  </a:lnTo>
                  <a:lnTo>
                    <a:pt x="7253" y="1161"/>
                  </a:lnTo>
                  <a:lnTo>
                    <a:pt x="7211" y="1190"/>
                  </a:lnTo>
                  <a:lnTo>
                    <a:pt x="7167" y="1220"/>
                  </a:lnTo>
                  <a:lnTo>
                    <a:pt x="7122" y="1250"/>
                  </a:lnTo>
                  <a:lnTo>
                    <a:pt x="7076" y="1279"/>
                  </a:lnTo>
                  <a:lnTo>
                    <a:pt x="7031" y="1308"/>
                  </a:lnTo>
                  <a:lnTo>
                    <a:pt x="6983" y="1337"/>
                  </a:lnTo>
                  <a:lnTo>
                    <a:pt x="6934" y="1366"/>
                  </a:lnTo>
                  <a:lnTo>
                    <a:pt x="6884" y="1393"/>
                  </a:lnTo>
                  <a:lnTo>
                    <a:pt x="6834" y="1422"/>
                  </a:lnTo>
                  <a:lnTo>
                    <a:pt x="6782" y="1450"/>
                  </a:lnTo>
                  <a:lnTo>
                    <a:pt x="6730" y="1478"/>
                  </a:lnTo>
                  <a:lnTo>
                    <a:pt x="6676" y="1505"/>
                  </a:lnTo>
                  <a:lnTo>
                    <a:pt x="6621" y="1533"/>
                  </a:lnTo>
                  <a:lnTo>
                    <a:pt x="6566" y="1559"/>
                  </a:lnTo>
                  <a:lnTo>
                    <a:pt x="6510" y="1587"/>
                  </a:lnTo>
                  <a:lnTo>
                    <a:pt x="6453" y="1614"/>
                  </a:lnTo>
                  <a:lnTo>
                    <a:pt x="6395" y="1640"/>
                  </a:lnTo>
                  <a:lnTo>
                    <a:pt x="6335" y="1666"/>
                  </a:lnTo>
                  <a:lnTo>
                    <a:pt x="6275" y="1692"/>
                  </a:lnTo>
                  <a:lnTo>
                    <a:pt x="6215" y="1718"/>
                  </a:lnTo>
                  <a:lnTo>
                    <a:pt x="6152" y="1743"/>
                  </a:lnTo>
                  <a:lnTo>
                    <a:pt x="6090" y="1767"/>
                  </a:lnTo>
                  <a:lnTo>
                    <a:pt x="6026" y="1793"/>
                  </a:lnTo>
                  <a:lnTo>
                    <a:pt x="5962" y="1817"/>
                  </a:lnTo>
                  <a:lnTo>
                    <a:pt x="5897" y="1842"/>
                  </a:lnTo>
                  <a:lnTo>
                    <a:pt x="5831" y="1865"/>
                  </a:lnTo>
                  <a:lnTo>
                    <a:pt x="5764" y="1890"/>
                  </a:lnTo>
                  <a:lnTo>
                    <a:pt x="5696" y="1913"/>
                  </a:lnTo>
                  <a:lnTo>
                    <a:pt x="5627" y="1937"/>
                  </a:lnTo>
                  <a:lnTo>
                    <a:pt x="5558" y="1959"/>
                  </a:lnTo>
                  <a:lnTo>
                    <a:pt x="5487" y="1982"/>
                  </a:lnTo>
                  <a:lnTo>
                    <a:pt x="5416" y="2004"/>
                  </a:lnTo>
                  <a:lnTo>
                    <a:pt x="5344" y="2026"/>
                  </a:lnTo>
                  <a:lnTo>
                    <a:pt x="5272" y="2049"/>
                  </a:lnTo>
                  <a:lnTo>
                    <a:pt x="5199" y="2070"/>
                  </a:lnTo>
                  <a:lnTo>
                    <a:pt x="5125" y="2091"/>
                  </a:lnTo>
                  <a:lnTo>
                    <a:pt x="4974" y="2132"/>
                  </a:lnTo>
                  <a:lnTo>
                    <a:pt x="4821" y="2173"/>
                  </a:lnTo>
                  <a:lnTo>
                    <a:pt x="4664" y="2212"/>
                  </a:lnTo>
                  <a:lnTo>
                    <a:pt x="4505" y="2250"/>
                  </a:lnTo>
                  <a:lnTo>
                    <a:pt x="4342" y="2286"/>
                  </a:lnTo>
                  <a:lnTo>
                    <a:pt x="4178" y="2322"/>
                  </a:lnTo>
                  <a:lnTo>
                    <a:pt x="4011" y="2356"/>
                  </a:lnTo>
                  <a:lnTo>
                    <a:pt x="3840" y="2388"/>
                  </a:lnTo>
                  <a:lnTo>
                    <a:pt x="3669" y="2420"/>
                  </a:lnTo>
                  <a:lnTo>
                    <a:pt x="3493" y="2449"/>
                  </a:lnTo>
                  <a:lnTo>
                    <a:pt x="3316" y="2478"/>
                  </a:lnTo>
                  <a:lnTo>
                    <a:pt x="3136" y="2506"/>
                  </a:lnTo>
                  <a:lnTo>
                    <a:pt x="2955" y="2531"/>
                  </a:lnTo>
                  <a:lnTo>
                    <a:pt x="2771" y="2554"/>
                  </a:lnTo>
                  <a:lnTo>
                    <a:pt x="2585" y="2577"/>
                  </a:lnTo>
                  <a:lnTo>
                    <a:pt x="2397" y="2598"/>
                  </a:lnTo>
                  <a:lnTo>
                    <a:pt x="2206" y="2618"/>
                  </a:lnTo>
                  <a:lnTo>
                    <a:pt x="2014" y="2635"/>
                  </a:lnTo>
                  <a:lnTo>
                    <a:pt x="1820" y="2651"/>
                  </a:lnTo>
                  <a:lnTo>
                    <a:pt x="1625" y="2667"/>
                  </a:lnTo>
                  <a:lnTo>
                    <a:pt x="1426" y="2679"/>
                  </a:lnTo>
                  <a:lnTo>
                    <a:pt x="1227" y="2691"/>
                  </a:lnTo>
                  <a:lnTo>
                    <a:pt x="1026" y="2700"/>
                  </a:lnTo>
                  <a:lnTo>
                    <a:pt x="824" y="2708"/>
                  </a:lnTo>
                  <a:lnTo>
                    <a:pt x="620" y="2715"/>
                  </a:lnTo>
                  <a:lnTo>
                    <a:pt x="415" y="2719"/>
                  </a:lnTo>
                  <a:lnTo>
                    <a:pt x="208" y="2722"/>
                  </a:lnTo>
                  <a:lnTo>
                    <a:pt x="0" y="2723"/>
                  </a:lnTo>
                  <a:lnTo>
                    <a:pt x="0" y="2723"/>
                  </a:lnTo>
                  <a:lnTo>
                    <a:pt x="0" y="2822"/>
                  </a:lnTo>
                  <a:lnTo>
                    <a:pt x="0" y="2822"/>
                  </a:lnTo>
                  <a:lnTo>
                    <a:pt x="0" y="2822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68520" y="2519280"/>
              <a:ext cx="403560" cy="1396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0" y="0"/>
                  </a:moveTo>
                  <a:lnTo>
                    <a:pt x="0" y="0"/>
                  </a:lnTo>
                  <a:lnTo>
                    <a:pt x="1" y="37"/>
                  </a:lnTo>
                  <a:lnTo>
                    <a:pt x="3" y="75"/>
                  </a:lnTo>
                  <a:lnTo>
                    <a:pt x="6" y="112"/>
                  </a:lnTo>
                  <a:lnTo>
                    <a:pt x="11" y="150"/>
                  </a:lnTo>
                  <a:lnTo>
                    <a:pt x="17" y="186"/>
                  </a:lnTo>
                  <a:lnTo>
                    <a:pt x="24" y="224"/>
                  </a:lnTo>
                  <a:lnTo>
                    <a:pt x="34" y="261"/>
                  </a:lnTo>
                  <a:lnTo>
                    <a:pt x="44" y="297"/>
                  </a:lnTo>
                  <a:lnTo>
                    <a:pt x="55" y="333"/>
                  </a:lnTo>
                  <a:lnTo>
                    <a:pt x="68" y="370"/>
                  </a:lnTo>
                  <a:lnTo>
                    <a:pt x="82" y="407"/>
                  </a:lnTo>
                  <a:lnTo>
                    <a:pt x="98" y="442"/>
                  </a:lnTo>
                  <a:lnTo>
                    <a:pt x="114" y="478"/>
                  </a:lnTo>
                  <a:lnTo>
                    <a:pt x="132" y="514"/>
                  </a:lnTo>
                  <a:lnTo>
                    <a:pt x="151" y="548"/>
                  </a:lnTo>
                  <a:lnTo>
                    <a:pt x="172" y="584"/>
                  </a:lnTo>
                  <a:lnTo>
                    <a:pt x="193" y="619"/>
                  </a:lnTo>
                  <a:lnTo>
                    <a:pt x="215" y="653"/>
                  </a:lnTo>
                  <a:lnTo>
                    <a:pt x="240" y="688"/>
                  </a:lnTo>
                  <a:lnTo>
                    <a:pt x="264" y="722"/>
                  </a:lnTo>
                  <a:lnTo>
                    <a:pt x="291" y="756"/>
                  </a:lnTo>
                  <a:lnTo>
                    <a:pt x="318" y="790"/>
                  </a:lnTo>
                  <a:lnTo>
                    <a:pt x="346" y="823"/>
                  </a:lnTo>
                  <a:lnTo>
                    <a:pt x="376" y="857"/>
                  </a:lnTo>
                  <a:lnTo>
                    <a:pt x="407" y="891"/>
                  </a:lnTo>
                  <a:lnTo>
                    <a:pt x="439" y="923"/>
                  </a:lnTo>
                  <a:lnTo>
                    <a:pt x="472" y="956"/>
                  </a:lnTo>
                  <a:lnTo>
                    <a:pt x="506" y="989"/>
                  </a:lnTo>
                  <a:lnTo>
                    <a:pt x="542" y="1021"/>
                  </a:lnTo>
                  <a:lnTo>
                    <a:pt x="578" y="1053"/>
                  </a:lnTo>
                  <a:lnTo>
                    <a:pt x="615" y="1085"/>
                  </a:lnTo>
                  <a:lnTo>
                    <a:pt x="653" y="1117"/>
                  </a:lnTo>
                  <a:lnTo>
                    <a:pt x="693" y="1149"/>
                  </a:lnTo>
                  <a:lnTo>
                    <a:pt x="734" y="1180"/>
                  </a:lnTo>
                  <a:lnTo>
                    <a:pt x="775" y="1211"/>
                  </a:lnTo>
                  <a:lnTo>
                    <a:pt x="818" y="1241"/>
                  </a:lnTo>
                  <a:lnTo>
                    <a:pt x="862" y="1272"/>
                  </a:lnTo>
                  <a:lnTo>
                    <a:pt x="906" y="1303"/>
                  </a:lnTo>
                  <a:lnTo>
                    <a:pt x="952" y="1333"/>
                  </a:lnTo>
                  <a:lnTo>
                    <a:pt x="999" y="1363"/>
                  </a:lnTo>
                  <a:lnTo>
                    <a:pt x="1046" y="1392"/>
                  </a:lnTo>
                  <a:lnTo>
                    <a:pt x="1095" y="1422"/>
                  </a:lnTo>
                  <a:lnTo>
                    <a:pt x="1145" y="1451"/>
                  </a:lnTo>
                  <a:lnTo>
                    <a:pt x="1195" y="1480"/>
                  </a:lnTo>
                  <a:lnTo>
                    <a:pt x="1247" y="1509"/>
                  </a:lnTo>
                  <a:lnTo>
                    <a:pt x="1299" y="1537"/>
                  </a:lnTo>
                  <a:lnTo>
                    <a:pt x="1353" y="1566"/>
                  </a:lnTo>
                  <a:lnTo>
                    <a:pt x="1407" y="1593"/>
                  </a:lnTo>
                  <a:lnTo>
                    <a:pt x="1463" y="1622"/>
                  </a:lnTo>
                  <a:lnTo>
                    <a:pt x="1519" y="1649"/>
                  </a:lnTo>
                  <a:lnTo>
                    <a:pt x="1576" y="1676"/>
                  </a:lnTo>
                  <a:lnTo>
                    <a:pt x="1635" y="1703"/>
                  </a:lnTo>
                  <a:lnTo>
                    <a:pt x="1694" y="1730"/>
                  </a:lnTo>
                  <a:lnTo>
                    <a:pt x="1754" y="1756"/>
                  </a:lnTo>
                  <a:lnTo>
                    <a:pt x="1815" y="1783"/>
                  </a:lnTo>
                  <a:lnTo>
                    <a:pt x="1877" y="1808"/>
                  </a:lnTo>
                  <a:lnTo>
                    <a:pt x="1939" y="1834"/>
                  </a:lnTo>
                  <a:lnTo>
                    <a:pt x="2002" y="1859"/>
                  </a:lnTo>
                  <a:lnTo>
                    <a:pt x="2067" y="1885"/>
                  </a:lnTo>
                  <a:lnTo>
                    <a:pt x="2132" y="1909"/>
                  </a:lnTo>
                  <a:lnTo>
                    <a:pt x="2198" y="1935"/>
                  </a:lnTo>
                  <a:lnTo>
                    <a:pt x="2265" y="1958"/>
                  </a:lnTo>
                  <a:lnTo>
                    <a:pt x="2332" y="1983"/>
                  </a:lnTo>
                  <a:lnTo>
                    <a:pt x="2401" y="2006"/>
                  </a:lnTo>
                  <a:lnTo>
                    <a:pt x="2470" y="2029"/>
                  </a:lnTo>
                  <a:lnTo>
                    <a:pt x="2540" y="2053"/>
                  </a:lnTo>
                  <a:lnTo>
                    <a:pt x="2611" y="2076"/>
                  </a:lnTo>
                  <a:lnTo>
                    <a:pt x="2682" y="2099"/>
                  </a:lnTo>
                  <a:lnTo>
                    <a:pt x="2754" y="2121"/>
                  </a:lnTo>
                  <a:lnTo>
                    <a:pt x="2829" y="2143"/>
                  </a:lnTo>
                  <a:lnTo>
                    <a:pt x="2902" y="2165"/>
                  </a:lnTo>
                  <a:lnTo>
                    <a:pt x="2977" y="2186"/>
                  </a:lnTo>
                  <a:lnTo>
                    <a:pt x="3128" y="2228"/>
                  </a:lnTo>
                  <a:lnTo>
                    <a:pt x="3283" y="2269"/>
                  </a:lnTo>
                  <a:lnTo>
                    <a:pt x="3441" y="2309"/>
                  </a:lnTo>
                  <a:lnTo>
                    <a:pt x="3601" y="2346"/>
                  </a:lnTo>
                  <a:lnTo>
                    <a:pt x="3764" y="2383"/>
                  </a:lnTo>
                  <a:lnTo>
                    <a:pt x="3930" y="2419"/>
                  </a:lnTo>
                  <a:lnTo>
                    <a:pt x="4099" y="2454"/>
                  </a:lnTo>
                  <a:lnTo>
                    <a:pt x="4269" y="2486"/>
                  </a:lnTo>
                  <a:lnTo>
                    <a:pt x="4443" y="2518"/>
                  </a:lnTo>
                  <a:lnTo>
                    <a:pt x="4619" y="2547"/>
                  </a:lnTo>
                  <a:lnTo>
                    <a:pt x="4797" y="2576"/>
                  </a:lnTo>
                  <a:lnTo>
                    <a:pt x="4977" y="2603"/>
                  </a:lnTo>
                  <a:lnTo>
                    <a:pt x="5160" y="2629"/>
                  </a:lnTo>
                  <a:lnTo>
                    <a:pt x="5345" y="2652"/>
                  </a:lnTo>
                  <a:lnTo>
                    <a:pt x="5532" y="2676"/>
                  </a:lnTo>
                  <a:lnTo>
                    <a:pt x="5721" y="2696"/>
                  </a:lnTo>
                  <a:lnTo>
                    <a:pt x="5912" y="2716"/>
                  </a:lnTo>
                  <a:lnTo>
                    <a:pt x="6105" y="2734"/>
                  </a:lnTo>
                  <a:lnTo>
                    <a:pt x="6300" y="2750"/>
                  </a:lnTo>
                  <a:lnTo>
                    <a:pt x="6497" y="2764"/>
                  </a:lnTo>
                  <a:lnTo>
                    <a:pt x="6695" y="2778"/>
                  </a:lnTo>
                  <a:lnTo>
                    <a:pt x="6896" y="2789"/>
                  </a:lnTo>
                  <a:lnTo>
                    <a:pt x="7098" y="2799"/>
                  </a:lnTo>
                  <a:lnTo>
                    <a:pt x="7301" y="2807"/>
                  </a:lnTo>
                  <a:lnTo>
                    <a:pt x="7505" y="2813"/>
                  </a:lnTo>
                  <a:lnTo>
                    <a:pt x="7711" y="2817"/>
                  </a:lnTo>
                  <a:lnTo>
                    <a:pt x="7919" y="2821"/>
                  </a:lnTo>
                  <a:lnTo>
                    <a:pt x="8128" y="2822"/>
                  </a:lnTo>
                  <a:lnTo>
                    <a:pt x="8128" y="2723"/>
                  </a:lnTo>
                  <a:lnTo>
                    <a:pt x="7920" y="2722"/>
                  </a:lnTo>
                  <a:lnTo>
                    <a:pt x="7713" y="2719"/>
                  </a:lnTo>
                  <a:lnTo>
                    <a:pt x="7508" y="2715"/>
                  </a:lnTo>
                  <a:lnTo>
                    <a:pt x="7304" y="2708"/>
                  </a:lnTo>
                  <a:lnTo>
                    <a:pt x="7102" y="2700"/>
                  </a:lnTo>
                  <a:lnTo>
                    <a:pt x="6901" y="2691"/>
                  </a:lnTo>
                  <a:lnTo>
                    <a:pt x="6702" y="2679"/>
                  </a:lnTo>
                  <a:lnTo>
                    <a:pt x="6503" y="2667"/>
                  </a:lnTo>
                  <a:lnTo>
                    <a:pt x="6308" y="2651"/>
                  </a:lnTo>
                  <a:lnTo>
                    <a:pt x="6114" y="2635"/>
                  </a:lnTo>
                  <a:lnTo>
                    <a:pt x="5921" y="2618"/>
                  </a:lnTo>
                  <a:lnTo>
                    <a:pt x="5731" y="2598"/>
                  </a:lnTo>
                  <a:lnTo>
                    <a:pt x="5543" y="2577"/>
                  </a:lnTo>
                  <a:lnTo>
                    <a:pt x="5357" y="2554"/>
                  </a:lnTo>
                  <a:lnTo>
                    <a:pt x="5173" y="2531"/>
                  </a:lnTo>
                  <a:lnTo>
                    <a:pt x="4992" y="2506"/>
                  </a:lnTo>
                  <a:lnTo>
                    <a:pt x="4812" y="2478"/>
                  </a:lnTo>
                  <a:lnTo>
                    <a:pt x="4634" y="2449"/>
                  </a:lnTo>
                  <a:lnTo>
                    <a:pt x="4459" y="2420"/>
                  </a:lnTo>
                  <a:lnTo>
                    <a:pt x="4288" y="2388"/>
                  </a:lnTo>
                  <a:lnTo>
                    <a:pt x="4117" y="2356"/>
                  </a:lnTo>
                  <a:lnTo>
                    <a:pt x="3950" y="2322"/>
                  </a:lnTo>
                  <a:lnTo>
                    <a:pt x="3785" y="2286"/>
                  </a:lnTo>
                  <a:lnTo>
                    <a:pt x="3623" y="2250"/>
                  </a:lnTo>
                  <a:lnTo>
                    <a:pt x="3464" y="2212"/>
                  </a:lnTo>
                  <a:lnTo>
                    <a:pt x="3307" y="2173"/>
                  </a:lnTo>
                  <a:lnTo>
                    <a:pt x="3154" y="2132"/>
                  </a:lnTo>
                  <a:lnTo>
                    <a:pt x="3003" y="2091"/>
                  </a:lnTo>
                  <a:lnTo>
                    <a:pt x="2929" y="2070"/>
                  </a:lnTo>
                  <a:lnTo>
                    <a:pt x="2856" y="2049"/>
                  </a:lnTo>
                  <a:lnTo>
                    <a:pt x="2783" y="2026"/>
                  </a:lnTo>
                  <a:lnTo>
                    <a:pt x="2712" y="2004"/>
                  </a:lnTo>
                  <a:lnTo>
                    <a:pt x="2641" y="1982"/>
                  </a:lnTo>
                  <a:lnTo>
                    <a:pt x="2570" y="1959"/>
                  </a:lnTo>
                  <a:lnTo>
                    <a:pt x="2500" y="1937"/>
                  </a:lnTo>
                  <a:lnTo>
                    <a:pt x="2432" y="1913"/>
                  </a:lnTo>
                  <a:lnTo>
                    <a:pt x="2364" y="1890"/>
                  </a:lnTo>
                  <a:lnTo>
                    <a:pt x="2297" y="1865"/>
                  </a:lnTo>
                  <a:lnTo>
                    <a:pt x="2231" y="1842"/>
                  </a:lnTo>
                  <a:lnTo>
                    <a:pt x="2166" y="1817"/>
                  </a:lnTo>
                  <a:lnTo>
                    <a:pt x="2102" y="1793"/>
                  </a:lnTo>
                  <a:lnTo>
                    <a:pt x="2038" y="1767"/>
                  </a:lnTo>
                  <a:lnTo>
                    <a:pt x="1975" y="1743"/>
                  </a:lnTo>
                  <a:lnTo>
                    <a:pt x="1913" y="1718"/>
                  </a:lnTo>
                  <a:lnTo>
                    <a:pt x="1853" y="1692"/>
                  </a:lnTo>
                  <a:lnTo>
                    <a:pt x="1792" y="1666"/>
                  </a:lnTo>
                  <a:lnTo>
                    <a:pt x="1733" y="1640"/>
                  </a:lnTo>
                  <a:lnTo>
                    <a:pt x="1675" y="1614"/>
                  </a:lnTo>
                  <a:lnTo>
                    <a:pt x="1617" y="1587"/>
                  </a:lnTo>
                  <a:lnTo>
                    <a:pt x="1562" y="1559"/>
                  </a:lnTo>
                  <a:lnTo>
                    <a:pt x="1507" y="1533"/>
                  </a:lnTo>
                  <a:lnTo>
                    <a:pt x="1452" y="1505"/>
                  </a:lnTo>
                  <a:lnTo>
                    <a:pt x="1398" y="1478"/>
                  </a:lnTo>
                  <a:lnTo>
                    <a:pt x="1345" y="1450"/>
                  </a:lnTo>
                  <a:lnTo>
                    <a:pt x="1294" y="1422"/>
                  </a:lnTo>
                  <a:lnTo>
                    <a:pt x="1244" y="1393"/>
                  </a:lnTo>
                  <a:lnTo>
                    <a:pt x="1194" y="1366"/>
                  </a:lnTo>
                  <a:lnTo>
                    <a:pt x="1145" y="1337"/>
                  </a:lnTo>
                  <a:lnTo>
                    <a:pt x="1097" y="1308"/>
                  </a:lnTo>
                  <a:lnTo>
                    <a:pt x="1051" y="1279"/>
                  </a:lnTo>
                  <a:lnTo>
                    <a:pt x="1006" y="1250"/>
                  </a:lnTo>
                  <a:lnTo>
                    <a:pt x="961" y="1220"/>
                  </a:lnTo>
                  <a:lnTo>
                    <a:pt x="917" y="1190"/>
                  </a:lnTo>
                  <a:lnTo>
                    <a:pt x="875" y="1161"/>
                  </a:lnTo>
                  <a:lnTo>
                    <a:pt x="833" y="1131"/>
                  </a:lnTo>
                  <a:lnTo>
                    <a:pt x="792" y="1101"/>
                  </a:lnTo>
                  <a:lnTo>
                    <a:pt x="754" y="1070"/>
                  </a:lnTo>
                  <a:lnTo>
                    <a:pt x="715" y="1040"/>
                  </a:lnTo>
                  <a:lnTo>
                    <a:pt x="679" y="1009"/>
                  </a:lnTo>
                  <a:lnTo>
                    <a:pt x="642" y="978"/>
                  </a:lnTo>
                  <a:lnTo>
                    <a:pt x="608" y="948"/>
                  </a:lnTo>
                  <a:lnTo>
                    <a:pt x="573" y="916"/>
                  </a:lnTo>
                  <a:lnTo>
                    <a:pt x="541" y="886"/>
                  </a:lnTo>
                  <a:lnTo>
                    <a:pt x="509" y="854"/>
                  </a:lnTo>
                  <a:lnTo>
                    <a:pt x="479" y="822"/>
                  </a:lnTo>
                  <a:lnTo>
                    <a:pt x="449" y="791"/>
                  </a:lnTo>
                  <a:lnTo>
                    <a:pt x="421" y="759"/>
                  </a:lnTo>
                  <a:lnTo>
                    <a:pt x="394" y="727"/>
                  </a:lnTo>
                  <a:lnTo>
                    <a:pt x="368" y="695"/>
                  </a:lnTo>
                  <a:lnTo>
                    <a:pt x="343" y="662"/>
                  </a:lnTo>
                  <a:lnTo>
                    <a:pt x="319" y="631"/>
                  </a:lnTo>
                  <a:lnTo>
                    <a:pt x="297" y="598"/>
                  </a:lnTo>
                  <a:lnTo>
                    <a:pt x="276" y="566"/>
                  </a:lnTo>
                  <a:lnTo>
                    <a:pt x="256" y="533"/>
                  </a:lnTo>
                  <a:lnTo>
                    <a:pt x="237" y="500"/>
                  </a:lnTo>
                  <a:lnTo>
                    <a:pt x="219" y="468"/>
                  </a:lnTo>
                  <a:lnTo>
                    <a:pt x="202" y="435"/>
                  </a:lnTo>
                  <a:lnTo>
                    <a:pt x="187" y="401"/>
                  </a:lnTo>
                  <a:lnTo>
                    <a:pt x="173" y="369"/>
                  </a:lnTo>
                  <a:lnTo>
                    <a:pt x="161" y="335"/>
                  </a:lnTo>
                  <a:lnTo>
                    <a:pt x="148" y="303"/>
                  </a:lnTo>
                  <a:lnTo>
                    <a:pt x="138" y="269"/>
                  </a:lnTo>
                  <a:lnTo>
                    <a:pt x="129" y="235"/>
                  </a:lnTo>
                  <a:lnTo>
                    <a:pt x="121" y="203"/>
                  </a:lnTo>
                  <a:lnTo>
                    <a:pt x="114" y="169"/>
                  </a:lnTo>
                  <a:lnTo>
                    <a:pt x="109" y="135"/>
                  </a:lnTo>
                  <a:lnTo>
                    <a:pt x="105" y="102"/>
                  </a:lnTo>
                  <a:lnTo>
                    <a:pt x="101" y="68"/>
                  </a:lnTo>
                  <a:lnTo>
                    <a:pt x="100" y="33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68520" y="2379600"/>
              <a:ext cx="403560" cy="1396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8128" y="0"/>
                  </a:moveTo>
                  <a:lnTo>
                    <a:pt x="8128" y="0"/>
                  </a:lnTo>
                  <a:lnTo>
                    <a:pt x="7919" y="1"/>
                  </a:lnTo>
                  <a:lnTo>
                    <a:pt x="7711" y="4"/>
                  </a:lnTo>
                  <a:lnTo>
                    <a:pt x="7505" y="8"/>
                  </a:lnTo>
                  <a:lnTo>
                    <a:pt x="7301" y="14"/>
                  </a:lnTo>
                  <a:lnTo>
                    <a:pt x="7098" y="22"/>
                  </a:lnTo>
                  <a:lnTo>
                    <a:pt x="6896" y="33"/>
                  </a:lnTo>
                  <a:lnTo>
                    <a:pt x="6695" y="44"/>
                  </a:lnTo>
                  <a:lnTo>
                    <a:pt x="6497" y="57"/>
                  </a:lnTo>
                  <a:lnTo>
                    <a:pt x="6300" y="71"/>
                  </a:lnTo>
                  <a:lnTo>
                    <a:pt x="6105" y="88"/>
                  </a:lnTo>
                  <a:lnTo>
                    <a:pt x="5912" y="106"/>
                  </a:lnTo>
                  <a:lnTo>
                    <a:pt x="5721" y="125"/>
                  </a:lnTo>
                  <a:lnTo>
                    <a:pt x="5532" y="146"/>
                  </a:lnTo>
                  <a:lnTo>
                    <a:pt x="5345" y="169"/>
                  </a:lnTo>
                  <a:lnTo>
                    <a:pt x="5160" y="193"/>
                  </a:lnTo>
                  <a:lnTo>
                    <a:pt x="4977" y="218"/>
                  </a:lnTo>
                  <a:lnTo>
                    <a:pt x="4797" y="246"/>
                  </a:lnTo>
                  <a:lnTo>
                    <a:pt x="4619" y="274"/>
                  </a:lnTo>
                  <a:lnTo>
                    <a:pt x="4443" y="304"/>
                  </a:lnTo>
                  <a:lnTo>
                    <a:pt x="4269" y="335"/>
                  </a:lnTo>
                  <a:lnTo>
                    <a:pt x="4099" y="368"/>
                  </a:lnTo>
                  <a:lnTo>
                    <a:pt x="3930" y="403"/>
                  </a:lnTo>
                  <a:lnTo>
                    <a:pt x="3764" y="438"/>
                  </a:lnTo>
                  <a:lnTo>
                    <a:pt x="3601" y="475"/>
                  </a:lnTo>
                  <a:lnTo>
                    <a:pt x="3441" y="514"/>
                  </a:lnTo>
                  <a:lnTo>
                    <a:pt x="3283" y="553"/>
                  </a:lnTo>
                  <a:lnTo>
                    <a:pt x="3128" y="593"/>
                  </a:lnTo>
                  <a:lnTo>
                    <a:pt x="2977" y="635"/>
                  </a:lnTo>
                  <a:lnTo>
                    <a:pt x="2829" y="679"/>
                  </a:lnTo>
                  <a:lnTo>
                    <a:pt x="2682" y="723"/>
                  </a:lnTo>
                  <a:lnTo>
                    <a:pt x="2611" y="745"/>
                  </a:lnTo>
                  <a:lnTo>
                    <a:pt x="2540" y="769"/>
                  </a:lnTo>
                  <a:lnTo>
                    <a:pt x="2470" y="792"/>
                  </a:lnTo>
                  <a:lnTo>
                    <a:pt x="2401" y="815"/>
                  </a:lnTo>
                  <a:lnTo>
                    <a:pt x="2332" y="839"/>
                  </a:lnTo>
                  <a:lnTo>
                    <a:pt x="2265" y="863"/>
                  </a:lnTo>
                  <a:lnTo>
                    <a:pt x="2198" y="887"/>
                  </a:lnTo>
                  <a:lnTo>
                    <a:pt x="2132" y="911"/>
                  </a:lnTo>
                  <a:lnTo>
                    <a:pt x="2067" y="937"/>
                  </a:lnTo>
                  <a:lnTo>
                    <a:pt x="2002" y="962"/>
                  </a:lnTo>
                  <a:lnTo>
                    <a:pt x="1939" y="988"/>
                  </a:lnTo>
                  <a:lnTo>
                    <a:pt x="1877" y="1013"/>
                  </a:lnTo>
                  <a:lnTo>
                    <a:pt x="1815" y="1039"/>
                  </a:lnTo>
                  <a:lnTo>
                    <a:pt x="1754" y="1065"/>
                  </a:lnTo>
                  <a:lnTo>
                    <a:pt x="1694" y="1092"/>
                  </a:lnTo>
                  <a:lnTo>
                    <a:pt x="1635" y="1118"/>
                  </a:lnTo>
                  <a:lnTo>
                    <a:pt x="1576" y="1146"/>
                  </a:lnTo>
                  <a:lnTo>
                    <a:pt x="1519" y="1172"/>
                  </a:lnTo>
                  <a:lnTo>
                    <a:pt x="1463" y="1200"/>
                  </a:lnTo>
                  <a:lnTo>
                    <a:pt x="1407" y="1228"/>
                  </a:lnTo>
                  <a:lnTo>
                    <a:pt x="1353" y="1256"/>
                  </a:lnTo>
                  <a:lnTo>
                    <a:pt x="1299" y="1284"/>
                  </a:lnTo>
                  <a:lnTo>
                    <a:pt x="1247" y="1313"/>
                  </a:lnTo>
                  <a:lnTo>
                    <a:pt x="1195" y="1342"/>
                  </a:lnTo>
                  <a:lnTo>
                    <a:pt x="1145" y="1371"/>
                  </a:lnTo>
                  <a:lnTo>
                    <a:pt x="1095" y="1400"/>
                  </a:lnTo>
                  <a:lnTo>
                    <a:pt x="1046" y="1429"/>
                  </a:lnTo>
                  <a:lnTo>
                    <a:pt x="999" y="1459"/>
                  </a:lnTo>
                  <a:lnTo>
                    <a:pt x="952" y="1489"/>
                  </a:lnTo>
                  <a:lnTo>
                    <a:pt x="906" y="1519"/>
                  </a:lnTo>
                  <a:lnTo>
                    <a:pt x="862" y="1550"/>
                  </a:lnTo>
                  <a:lnTo>
                    <a:pt x="818" y="1580"/>
                  </a:lnTo>
                  <a:lnTo>
                    <a:pt x="775" y="1611"/>
                  </a:lnTo>
                  <a:lnTo>
                    <a:pt x="734" y="1641"/>
                  </a:lnTo>
                  <a:lnTo>
                    <a:pt x="693" y="1673"/>
                  </a:lnTo>
                  <a:lnTo>
                    <a:pt x="653" y="1704"/>
                  </a:lnTo>
                  <a:lnTo>
                    <a:pt x="615" y="1736"/>
                  </a:lnTo>
                  <a:lnTo>
                    <a:pt x="578" y="1769"/>
                  </a:lnTo>
                  <a:lnTo>
                    <a:pt x="542" y="1800"/>
                  </a:lnTo>
                  <a:lnTo>
                    <a:pt x="506" y="1833"/>
                  </a:lnTo>
                  <a:lnTo>
                    <a:pt x="472" y="1866"/>
                  </a:lnTo>
                  <a:lnTo>
                    <a:pt x="439" y="1898"/>
                  </a:lnTo>
                  <a:lnTo>
                    <a:pt x="407" y="1931"/>
                  </a:lnTo>
                  <a:lnTo>
                    <a:pt x="376" y="1964"/>
                  </a:lnTo>
                  <a:lnTo>
                    <a:pt x="346" y="1998"/>
                  </a:lnTo>
                  <a:lnTo>
                    <a:pt x="318" y="2032"/>
                  </a:lnTo>
                  <a:lnTo>
                    <a:pt x="291" y="2065"/>
                  </a:lnTo>
                  <a:lnTo>
                    <a:pt x="264" y="2099"/>
                  </a:lnTo>
                  <a:lnTo>
                    <a:pt x="240" y="2134"/>
                  </a:lnTo>
                  <a:lnTo>
                    <a:pt x="215" y="2168"/>
                  </a:lnTo>
                  <a:lnTo>
                    <a:pt x="193" y="2203"/>
                  </a:lnTo>
                  <a:lnTo>
                    <a:pt x="172" y="2238"/>
                  </a:lnTo>
                  <a:lnTo>
                    <a:pt x="151" y="2273"/>
                  </a:lnTo>
                  <a:lnTo>
                    <a:pt x="132" y="2308"/>
                  </a:lnTo>
                  <a:lnTo>
                    <a:pt x="114" y="2344"/>
                  </a:lnTo>
                  <a:lnTo>
                    <a:pt x="98" y="2379"/>
                  </a:lnTo>
                  <a:lnTo>
                    <a:pt x="82" y="2415"/>
                  </a:lnTo>
                  <a:lnTo>
                    <a:pt x="68" y="2452"/>
                  </a:lnTo>
                  <a:lnTo>
                    <a:pt x="55" y="2488"/>
                  </a:lnTo>
                  <a:lnTo>
                    <a:pt x="44" y="2524"/>
                  </a:lnTo>
                  <a:lnTo>
                    <a:pt x="34" y="2561"/>
                  </a:lnTo>
                  <a:lnTo>
                    <a:pt x="24" y="2597"/>
                  </a:lnTo>
                  <a:lnTo>
                    <a:pt x="17" y="2635"/>
                  </a:lnTo>
                  <a:lnTo>
                    <a:pt x="11" y="2672"/>
                  </a:lnTo>
                  <a:lnTo>
                    <a:pt x="6" y="2710"/>
                  </a:lnTo>
                  <a:lnTo>
                    <a:pt x="3" y="2746"/>
                  </a:lnTo>
                  <a:lnTo>
                    <a:pt x="1" y="2784"/>
                  </a:lnTo>
                  <a:lnTo>
                    <a:pt x="0" y="2822"/>
                  </a:lnTo>
                  <a:lnTo>
                    <a:pt x="99" y="2822"/>
                  </a:lnTo>
                  <a:lnTo>
                    <a:pt x="100" y="2788"/>
                  </a:lnTo>
                  <a:lnTo>
                    <a:pt x="101" y="2753"/>
                  </a:lnTo>
                  <a:lnTo>
                    <a:pt x="105" y="2720"/>
                  </a:lnTo>
                  <a:lnTo>
                    <a:pt x="109" y="2686"/>
                  </a:lnTo>
                  <a:lnTo>
                    <a:pt x="114" y="2653"/>
                  </a:lnTo>
                  <a:lnTo>
                    <a:pt x="121" y="2619"/>
                  </a:lnTo>
                  <a:lnTo>
                    <a:pt x="129" y="2586"/>
                  </a:lnTo>
                  <a:lnTo>
                    <a:pt x="138" y="2553"/>
                  </a:lnTo>
                  <a:lnTo>
                    <a:pt x="148" y="2519"/>
                  </a:lnTo>
                  <a:lnTo>
                    <a:pt x="161" y="2486"/>
                  </a:lnTo>
                  <a:lnTo>
                    <a:pt x="173" y="2453"/>
                  </a:lnTo>
                  <a:lnTo>
                    <a:pt x="187" y="2420"/>
                  </a:lnTo>
                  <a:lnTo>
                    <a:pt x="202" y="2386"/>
                  </a:lnTo>
                  <a:lnTo>
                    <a:pt x="219" y="2354"/>
                  </a:lnTo>
                  <a:lnTo>
                    <a:pt x="237" y="2321"/>
                  </a:lnTo>
                  <a:lnTo>
                    <a:pt x="256" y="2289"/>
                  </a:lnTo>
                  <a:lnTo>
                    <a:pt x="275" y="2256"/>
                  </a:lnTo>
                  <a:lnTo>
                    <a:pt x="297" y="2223"/>
                  </a:lnTo>
                  <a:lnTo>
                    <a:pt x="319" y="2191"/>
                  </a:lnTo>
                  <a:lnTo>
                    <a:pt x="343" y="2159"/>
                  </a:lnTo>
                  <a:lnTo>
                    <a:pt x="368" y="2127"/>
                  </a:lnTo>
                  <a:lnTo>
                    <a:pt x="394" y="2095"/>
                  </a:lnTo>
                  <a:lnTo>
                    <a:pt x="421" y="2063"/>
                  </a:lnTo>
                  <a:lnTo>
                    <a:pt x="449" y="2031"/>
                  </a:lnTo>
                  <a:lnTo>
                    <a:pt x="479" y="1999"/>
                  </a:lnTo>
                  <a:lnTo>
                    <a:pt x="509" y="1967"/>
                  </a:lnTo>
                  <a:lnTo>
                    <a:pt x="541" y="1936"/>
                  </a:lnTo>
                  <a:lnTo>
                    <a:pt x="573" y="1905"/>
                  </a:lnTo>
                  <a:lnTo>
                    <a:pt x="608" y="1874"/>
                  </a:lnTo>
                  <a:lnTo>
                    <a:pt x="642" y="1843"/>
                  </a:lnTo>
                  <a:lnTo>
                    <a:pt x="679" y="1813"/>
                  </a:lnTo>
                  <a:lnTo>
                    <a:pt x="715" y="1782"/>
                  </a:lnTo>
                  <a:lnTo>
                    <a:pt x="754" y="1751"/>
                  </a:lnTo>
                  <a:lnTo>
                    <a:pt x="792" y="1721"/>
                  </a:lnTo>
                  <a:lnTo>
                    <a:pt x="833" y="1690"/>
                  </a:lnTo>
                  <a:lnTo>
                    <a:pt x="875" y="1661"/>
                  </a:lnTo>
                  <a:lnTo>
                    <a:pt x="917" y="1631"/>
                  </a:lnTo>
                  <a:lnTo>
                    <a:pt x="961" y="1602"/>
                  </a:lnTo>
                  <a:lnTo>
                    <a:pt x="1006" y="1572"/>
                  </a:lnTo>
                  <a:lnTo>
                    <a:pt x="1051" y="1542"/>
                  </a:lnTo>
                  <a:lnTo>
                    <a:pt x="1097" y="1514"/>
                  </a:lnTo>
                  <a:lnTo>
                    <a:pt x="1145" y="1485"/>
                  </a:lnTo>
                  <a:lnTo>
                    <a:pt x="1194" y="1456"/>
                  </a:lnTo>
                  <a:lnTo>
                    <a:pt x="1244" y="1428"/>
                  </a:lnTo>
                  <a:lnTo>
                    <a:pt x="1294" y="1400"/>
                  </a:lnTo>
                  <a:lnTo>
                    <a:pt x="1345" y="1371"/>
                  </a:lnTo>
                  <a:lnTo>
                    <a:pt x="1398" y="1344"/>
                  </a:lnTo>
                  <a:lnTo>
                    <a:pt x="1452" y="1316"/>
                  </a:lnTo>
                  <a:lnTo>
                    <a:pt x="1507" y="1289"/>
                  </a:lnTo>
                  <a:lnTo>
                    <a:pt x="1562" y="1262"/>
                  </a:lnTo>
                  <a:lnTo>
                    <a:pt x="1617" y="1235"/>
                  </a:lnTo>
                  <a:lnTo>
                    <a:pt x="1675" y="1208"/>
                  </a:lnTo>
                  <a:lnTo>
                    <a:pt x="1733" y="1182"/>
                  </a:lnTo>
                  <a:lnTo>
                    <a:pt x="1792" y="1156"/>
                  </a:lnTo>
                  <a:lnTo>
                    <a:pt x="1853" y="1130"/>
                  </a:lnTo>
                  <a:lnTo>
                    <a:pt x="1913" y="1104"/>
                  </a:lnTo>
                  <a:lnTo>
                    <a:pt x="1975" y="1079"/>
                  </a:lnTo>
                  <a:lnTo>
                    <a:pt x="2038" y="1054"/>
                  </a:lnTo>
                  <a:lnTo>
                    <a:pt x="2102" y="1029"/>
                  </a:lnTo>
                  <a:lnTo>
                    <a:pt x="2166" y="1004"/>
                  </a:lnTo>
                  <a:lnTo>
                    <a:pt x="2231" y="980"/>
                  </a:lnTo>
                  <a:lnTo>
                    <a:pt x="2297" y="956"/>
                  </a:lnTo>
                  <a:lnTo>
                    <a:pt x="2364" y="932"/>
                  </a:lnTo>
                  <a:lnTo>
                    <a:pt x="2432" y="908"/>
                  </a:lnTo>
                  <a:lnTo>
                    <a:pt x="2500" y="885"/>
                  </a:lnTo>
                  <a:lnTo>
                    <a:pt x="2570" y="862"/>
                  </a:lnTo>
                  <a:lnTo>
                    <a:pt x="2641" y="840"/>
                  </a:lnTo>
                  <a:lnTo>
                    <a:pt x="2712" y="818"/>
                  </a:lnTo>
                  <a:lnTo>
                    <a:pt x="2856" y="774"/>
                  </a:lnTo>
                  <a:lnTo>
                    <a:pt x="3003" y="730"/>
                  </a:lnTo>
                  <a:lnTo>
                    <a:pt x="3154" y="689"/>
                  </a:lnTo>
                  <a:lnTo>
                    <a:pt x="3307" y="648"/>
                  </a:lnTo>
                  <a:lnTo>
                    <a:pt x="3464" y="610"/>
                  </a:lnTo>
                  <a:lnTo>
                    <a:pt x="3623" y="571"/>
                  </a:lnTo>
                  <a:lnTo>
                    <a:pt x="3785" y="535"/>
                  </a:lnTo>
                  <a:lnTo>
                    <a:pt x="3950" y="500"/>
                  </a:lnTo>
                  <a:lnTo>
                    <a:pt x="4117" y="466"/>
                  </a:lnTo>
                  <a:lnTo>
                    <a:pt x="4288" y="433"/>
                  </a:lnTo>
                  <a:lnTo>
                    <a:pt x="4459" y="402"/>
                  </a:lnTo>
                  <a:lnTo>
                    <a:pt x="4634" y="372"/>
                  </a:lnTo>
                  <a:lnTo>
                    <a:pt x="4812" y="344"/>
                  </a:lnTo>
                  <a:lnTo>
                    <a:pt x="4992" y="316"/>
                  </a:lnTo>
                  <a:lnTo>
                    <a:pt x="5173" y="291"/>
                  </a:lnTo>
                  <a:lnTo>
                    <a:pt x="5357" y="267"/>
                  </a:lnTo>
                  <a:lnTo>
                    <a:pt x="5543" y="245"/>
                  </a:lnTo>
                  <a:lnTo>
                    <a:pt x="5731" y="223"/>
                  </a:lnTo>
                  <a:lnTo>
                    <a:pt x="5921" y="204"/>
                  </a:lnTo>
                  <a:lnTo>
                    <a:pt x="6114" y="187"/>
                  </a:lnTo>
                  <a:lnTo>
                    <a:pt x="6308" y="170"/>
                  </a:lnTo>
                  <a:lnTo>
                    <a:pt x="6503" y="155"/>
                  </a:lnTo>
                  <a:lnTo>
                    <a:pt x="6702" y="142"/>
                  </a:lnTo>
                  <a:lnTo>
                    <a:pt x="6901" y="130"/>
                  </a:lnTo>
                  <a:lnTo>
                    <a:pt x="7102" y="121"/>
                  </a:lnTo>
                  <a:lnTo>
                    <a:pt x="7304" y="113"/>
                  </a:lnTo>
                  <a:lnTo>
                    <a:pt x="7508" y="107"/>
                  </a:lnTo>
                  <a:lnTo>
                    <a:pt x="7713" y="103"/>
                  </a:lnTo>
                  <a:lnTo>
                    <a:pt x="7920" y="100"/>
                  </a:lnTo>
                  <a:lnTo>
                    <a:pt x="8128" y="99"/>
                  </a:lnTo>
                  <a:lnTo>
                    <a:pt x="8128" y="99"/>
                  </a:lnTo>
                  <a:lnTo>
                    <a:pt x="8128" y="0"/>
                  </a:lnTo>
                  <a:lnTo>
                    <a:pt x="8128" y="0"/>
                  </a:lnTo>
                  <a:lnTo>
                    <a:pt x="8128" y="0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72080" y="2379600"/>
              <a:ext cx="403200" cy="139680"/>
            </a:xfrm>
            <a:custGeom>
              <a:avLst/>
              <a:gdLst/>
              <a:ahLst/>
              <a:rect l="l" t="t" r="r" b="b"/>
              <a:pathLst>
                <a:path w="8128" h="2822">
                  <a:moveTo>
                    <a:pt x="8128" y="2822"/>
                  </a:moveTo>
                  <a:lnTo>
                    <a:pt x="8127" y="2784"/>
                  </a:lnTo>
                  <a:lnTo>
                    <a:pt x="8125" y="2746"/>
                  </a:lnTo>
                  <a:lnTo>
                    <a:pt x="8122" y="2710"/>
                  </a:lnTo>
                  <a:lnTo>
                    <a:pt x="8117" y="2672"/>
                  </a:lnTo>
                  <a:lnTo>
                    <a:pt x="8111" y="2635"/>
                  </a:lnTo>
                  <a:lnTo>
                    <a:pt x="8103" y="2597"/>
                  </a:lnTo>
                  <a:lnTo>
                    <a:pt x="8094" y="2561"/>
                  </a:lnTo>
                  <a:lnTo>
                    <a:pt x="8084" y="2524"/>
                  </a:lnTo>
                  <a:lnTo>
                    <a:pt x="8072" y="2488"/>
                  </a:lnTo>
                  <a:lnTo>
                    <a:pt x="8060" y="2452"/>
                  </a:lnTo>
                  <a:lnTo>
                    <a:pt x="8046" y="2416"/>
                  </a:lnTo>
                  <a:lnTo>
                    <a:pt x="8030" y="2379"/>
                  </a:lnTo>
                  <a:lnTo>
                    <a:pt x="8014" y="2344"/>
                  </a:lnTo>
                  <a:lnTo>
                    <a:pt x="7996" y="2308"/>
                  </a:lnTo>
                  <a:lnTo>
                    <a:pt x="7977" y="2273"/>
                  </a:lnTo>
                  <a:lnTo>
                    <a:pt x="7956" y="2238"/>
                  </a:lnTo>
                  <a:lnTo>
                    <a:pt x="7935" y="2203"/>
                  </a:lnTo>
                  <a:lnTo>
                    <a:pt x="7913" y="2168"/>
                  </a:lnTo>
                  <a:lnTo>
                    <a:pt x="7888" y="2134"/>
                  </a:lnTo>
                  <a:lnTo>
                    <a:pt x="7864" y="2099"/>
                  </a:lnTo>
                  <a:lnTo>
                    <a:pt x="7837" y="2065"/>
                  </a:lnTo>
                  <a:lnTo>
                    <a:pt x="7810" y="2032"/>
                  </a:lnTo>
                  <a:lnTo>
                    <a:pt x="7782" y="1998"/>
                  </a:lnTo>
                  <a:lnTo>
                    <a:pt x="7752" y="1964"/>
                  </a:lnTo>
                  <a:lnTo>
                    <a:pt x="7721" y="1931"/>
                  </a:lnTo>
                  <a:lnTo>
                    <a:pt x="7689" y="1898"/>
                  </a:lnTo>
                  <a:lnTo>
                    <a:pt x="7656" y="1866"/>
                  </a:lnTo>
                  <a:lnTo>
                    <a:pt x="7622" y="1833"/>
                  </a:lnTo>
                  <a:lnTo>
                    <a:pt x="7586" y="1800"/>
                  </a:lnTo>
                  <a:lnTo>
                    <a:pt x="7550" y="1769"/>
                  </a:lnTo>
                  <a:lnTo>
                    <a:pt x="7512" y="1736"/>
                  </a:lnTo>
                  <a:lnTo>
                    <a:pt x="7475" y="1704"/>
                  </a:lnTo>
                  <a:lnTo>
                    <a:pt x="7435" y="1673"/>
                  </a:lnTo>
                  <a:lnTo>
                    <a:pt x="7394" y="1641"/>
                  </a:lnTo>
                  <a:lnTo>
                    <a:pt x="7353" y="1611"/>
                  </a:lnTo>
                  <a:lnTo>
                    <a:pt x="7310" y="1580"/>
                  </a:lnTo>
                  <a:lnTo>
                    <a:pt x="7266" y="1550"/>
                  </a:lnTo>
                  <a:lnTo>
                    <a:pt x="7222" y="1519"/>
                  </a:lnTo>
                  <a:lnTo>
                    <a:pt x="7176" y="1489"/>
                  </a:lnTo>
                  <a:lnTo>
                    <a:pt x="7129" y="1459"/>
                  </a:lnTo>
                  <a:lnTo>
                    <a:pt x="7082" y="1429"/>
                  </a:lnTo>
                  <a:lnTo>
                    <a:pt x="7033" y="1400"/>
                  </a:lnTo>
                  <a:lnTo>
                    <a:pt x="6983" y="1371"/>
                  </a:lnTo>
                  <a:lnTo>
                    <a:pt x="6932" y="1342"/>
                  </a:lnTo>
                  <a:lnTo>
                    <a:pt x="6881" y="1313"/>
                  </a:lnTo>
                  <a:lnTo>
                    <a:pt x="6829" y="1284"/>
                  </a:lnTo>
                  <a:lnTo>
                    <a:pt x="6775" y="1256"/>
                  </a:lnTo>
                  <a:lnTo>
                    <a:pt x="6721" y="1228"/>
                  </a:lnTo>
                  <a:lnTo>
                    <a:pt x="6665" y="1200"/>
                  </a:lnTo>
                  <a:lnTo>
                    <a:pt x="6609" y="1172"/>
                  </a:lnTo>
                  <a:lnTo>
                    <a:pt x="6551" y="1146"/>
                  </a:lnTo>
                  <a:lnTo>
                    <a:pt x="6493" y="1118"/>
                  </a:lnTo>
                  <a:lnTo>
                    <a:pt x="6434" y="1092"/>
                  </a:lnTo>
                  <a:lnTo>
                    <a:pt x="6374" y="1065"/>
                  </a:lnTo>
                  <a:lnTo>
                    <a:pt x="6313" y="1039"/>
                  </a:lnTo>
                  <a:lnTo>
                    <a:pt x="6251" y="1013"/>
                  </a:lnTo>
                  <a:lnTo>
                    <a:pt x="6189" y="988"/>
                  </a:lnTo>
                  <a:lnTo>
                    <a:pt x="6125" y="962"/>
                  </a:lnTo>
                  <a:lnTo>
                    <a:pt x="6061" y="937"/>
                  </a:lnTo>
                  <a:lnTo>
                    <a:pt x="5996" y="911"/>
                  </a:lnTo>
                  <a:lnTo>
                    <a:pt x="5930" y="887"/>
                  </a:lnTo>
                  <a:lnTo>
                    <a:pt x="5863" y="863"/>
                  </a:lnTo>
                  <a:lnTo>
                    <a:pt x="5796" y="839"/>
                  </a:lnTo>
                  <a:lnTo>
                    <a:pt x="5727" y="815"/>
                  </a:lnTo>
                  <a:lnTo>
                    <a:pt x="5658" y="792"/>
                  </a:lnTo>
                  <a:lnTo>
                    <a:pt x="5588" y="769"/>
                  </a:lnTo>
                  <a:lnTo>
                    <a:pt x="5517" y="745"/>
                  </a:lnTo>
                  <a:lnTo>
                    <a:pt x="5446" y="723"/>
                  </a:lnTo>
                  <a:lnTo>
                    <a:pt x="5299" y="679"/>
                  </a:lnTo>
                  <a:lnTo>
                    <a:pt x="5151" y="635"/>
                  </a:lnTo>
                  <a:lnTo>
                    <a:pt x="5000" y="593"/>
                  </a:lnTo>
                  <a:lnTo>
                    <a:pt x="4844" y="553"/>
                  </a:lnTo>
                  <a:lnTo>
                    <a:pt x="4687" y="514"/>
                  </a:lnTo>
                  <a:lnTo>
                    <a:pt x="4527" y="475"/>
                  </a:lnTo>
                  <a:lnTo>
                    <a:pt x="4364" y="438"/>
                  </a:lnTo>
                  <a:lnTo>
                    <a:pt x="4198" y="403"/>
                  </a:lnTo>
                  <a:lnTo>
                    <a:pt x="4029" y="368"/>
                  </a:lnTo>
                  <a:lnTo>
                    <a:pt x="3859" y="335"/>
                  </a:lnTo>
                  <a:lnTo>
                    <a:pt x="3685" y="304"/>
                  </a:lnTo>
                  <a:lnTo>
                    <a:pt x="3509" y="274"/>
                  </a:lnTo>
                  <a:lnTo>
                    <a:pt x="3331" y="246"/>
                  </a:lnTo>
                  <a:lnTo>
                    <a:pt x="3151" y="218"/>
                  </a:lnTo>
                  <a:lnTo>
                    <a:pt x="2968" y="193"/>
                  </a:lnTo>
                  <a:lnTo>
                    <a:pt x="2783" y="169"/>
                  </a:lnTo>
                  <a:lnTo>
                    <a:pt x="2596" y="146"/>
                  </a:lnTo>
                  <a:lnTo>
                    <a:pt x="2407" y="125"/>
                  </a:lnTo>
                  <a:lnTo>
                    <a:pt x="2215" y="106"/>
                  </a:lnTo>
                  <a:lnTo>
                    <a:pt x="2023" y="88"/>
                  </a:lnTo>
                  <a:lnTo>
                    <a:pt x="1828" y="71"/>
                  </a:lnTo>
                  <a:lnTo>
                    <a:pt x="1631" y="57"/>
                  </a:lnTo>
                  <a:lnTo>
                    <a:pt x="1433" y="44"/>
                  </a:lnTo>
                  <a:lnTo>
                    <a:pt x="1232" y="33"/>
                  </a:lnTo>
                  <a:lnTo>
                    <a:pt x="1030" y="22"/>
                  </a:lnTo>
                  <a:lnTo>
                    <a:pt x="827" y="14"/>
                  </a:lnTo>
                  <a:lnTo>
                    <a:pt x="623" y="8"/>
                  </a:lnTo>
                  <a:lnTo>
                    <a:pt x="417" y="4"/>
                  </a:lnTo>
                  <a:lnTo>
                    <a:pt x="208" y="1"/>
                  </a:lnTo>
                  <a:lnTo>
                    <a:pt x="0" y="0"/>
                  </a:lnTo>
                  <a:lnTo>
                    <a:pt x="0" y="99"/>
                  </a:lnTo>
                  <a:lnTo>
                    <a:pt x="208" y="100"/>
                  </a:lnTo>
                  <a:lnTo>
                    <a:pt x="415" y="103"/>
                  </a:lnTo>
                  <a:lnTo>
                    <a:pt x="620" y="107"/>
                  </a:lnTo>
                  <a:lnTo>
                    <a:pt x="824" y="113"/>
                  </a:lnTo>
                  <a:lnTo>
                    <a:pt x="1026" y="121"/>
                  </a:lnTo>
                  <a:lnTo>
                    <a:pt x="1227" y="130"/>
                  </a:lnTo>
                  <a:lnTo>
                    <a:pt x="1426" y="142"/>
                  </a:lnTo>
                  <a:lnTo>
                    <a:pt x="1625" y="155"/>
                  </a:lnTo>
                  <a:lnTo>
                    <a:pt x="1820" y="170"/>
                  </a:lnTo>
                  <a:lnTo>
                    <a:pt x="2014" y="187"/>
                  </a:lnTo>
                  <a:lnTo>
                    <a:pt x="2206" y="204"/>
                  </a:lnTo>
                  <a:lnTo>
                    <a:pt x="2397" y="223"/>
                  </a:lnTo>
                  <a:lnTo>
                    <a:pt x="2585" y="245"/>
                  </a:lnTo>
                  <a:lnTo>
                    <a:pt x="2771" y="267"/>
                  </a:lnTo>
                  <a:lnTo>
                    <a:pt x="2955" y="291"/>
                  </a:lnTo>
                  <a:lnTo>
                    <a:pt x="3136" y="316"/>
                  </a:lnTo>
                  <a:lnTo>
                    <a:pt x="3316" y="344"/>
                  </a:lnTo>
                  <a:lnTo>
                    <a:pt x="3493" y="372"/>
                  </a:lnTo>
                  <a:lnTo>
                    <a:pt x="3669" y="402"/>
                  </a:lnTo>
                  <a:lnTo>
                    <a:pt x="3840" y="433"/>
                  </a:lnTo>
                  <a:lnTo>
                    <a:pt x="4011" y="466"/>
                  </a:lnTo>
                  <a:lnTo>
                    <a:pt x="4178" y="500"/>
                  </a:lnTo>
                  <a:lnTo>
                    <a:pt x="4342" y="535"/>
                  </a:lnTo>
                  <a:lnTo>
                    <a:pt x="4505" y="571"/>
                  </a:lnTo>
                  <a:lnTo>
                    <a:pt x="4664" y="610"/>
                  </a:lnTo>
                  <a:lnTo>
                    <a:pt x="4821" y="648"/>
                  </a:lnTo>
                  <a:lnTo>
                    <a:pt x="4974" y="689"/>
                  </a:lnTo>
                  <a:lnTo>
                    <a:pt x="5125" y="730"/>
                  </a:lnTo>
                  <a:lnTo>
                    <a:pt x="5272" y="774"/>
                  </a:lnTo>
                  <a:lnTo>
                    <a:pt x="5416" y="818"/>
                  </a:lnTo>
                  <a:lnTo>
                    <a:pt x="5487" y="840"/>
                  </a:lnTo>
                  <a:lnTo>
                    <a:pt x="5558" y="862"/>
                  </a:lnTo>
                  <a:lnTo>
                    <a:pt x="5627" y="885"/>
                  </a:lnTo>
                  <a:lnTo>
                    <a:pt x="5696" y="908"/>
                  </a:lnTo>
                  <a:lnTo>
                    <a:pt x="5764" y="932"/>
                  </a:lnTo>
                  <a:lnTo>
                    <a:pt x="5831" y="956"/>
                  </a:lnTo>
                  <a:lnTo>
                    <a:pt x="5897" y="980"/>
                  </a:lnTo>
                  <a:lnTo>
                    <a:pt x="5962" y="1004"/>
                  </a:lnTo>
                  <a:lnTo>
                    <a:pt x="6026" y="1029"/>
                  </a:lnTo>
                  <a:lnTo>
                    <a:pt x="6090" y="1054"/>
                  </a:lnTo>
                  <a:lnTo>
                    <a:pt x="6153" y="1079"/>
                  </a:lnTo>
                  <a:lnTo>
                    <a:pt x="6215" y="1104"/>
                  </a:lnTo>
                  <a:lnTo>
                    <a:pt x="6275" y="1130"/>
                  </a:lnTo>
                  <a:lnTo>
                    <a:pt x="6335" y="1156"/>
                  </a:lnTo>
                  <a:lnTo>
                    <a:pt x="6395" y="1182"/>
                  </a:lnTo>
                  <a:lnTo>
                    <a:pt x="6453" y="1208"/>
                  </a:lnTo>
                  <a:lnTo>
                    <a:pt x="6510" y="1235"/>
                  </a:lnTo>
                  <a:lnTo>
                    <a:pt x="6566" y="1262"/>
                  </a:lnTo>
                  <a:lnTo>
                    <a:pt x="6621" y="1289"/>
                  </a:lnTo>
                  <a:lnTo>
                    <a:pt x="6676" y="1316"/>
                  </a:lnTo>
                  <a:lnTo>
                    <a:pt x="6730" y="1344"/>
                  </a:lnTo>
                  <a:lnTo>
                    <a:pt x="6782" y="1371"/>
                  </a:lnTo>
                  <a:lnTo>
                    <a:pt x="6834" y="1400"/>
                  </a:lnTo>
                  <a:lnTo>
                    <a:pt x="6884" y="1428"/>
                  </a:lnTo>
                  <a:lnTo>
                    <a:pt x="6934" y="1456"/>
                  </a:lnTo>
                  <a:lnTo>
                    <a:pt x="6983" y="1485"/>
                  </a:lnTo>
                  <a:lnTo>
                    <a:pt x="7031" y="1514"/>
                  </a:lnTo>
                  <a:lnTo>
                    <a:pt x="7076" y="1542"/>
                  </a:lnTo>
                  <a:lnTo>
                    <a:pt x="7122" y="1572"/>
                  </a:lnTo>
                  <a:lnTo>
                    <a:pt x="7167" y="1602"/>
                  </a:lnTo>
                  <a:lnTo>
                    <a:pt x="7211" y="1631"/>
                  </a:lnTo>
                  <a:lnTo>
                    <a:pt x="7253" y="1661"/>
                  </a:lnTo>
                  <a:lnTo>
                    <a:pt x="7295" y="1690"/>
                  </a:lnTo>
                  <a:lnTo>
                    <a:pt x="7335" y="1721"/>
                  </a:lnTo>
                  <a:lnTo>
                    <a:pt x="7374" y="1751"/>
                  </a:lnTo>
                  <a:lnTo>
                    <a:pt x="7413" y="1782"/>
                  </a:lnTo>
                  <a:lnTo>
                    <a:pt x="7449" y="1813"/>
                  </a:lnTo>
                  <a:lnTo>
                    <a:pt x="7486" y="1843"/>
                  </a:lnTo>
                  <a:lnTo>
                    <a:pt x="7520" y="1874"/>
                  </a:lnTo>
                  <a:lnTo>
                    <a:pt x="7555" y="1905"/>
                  </a:lnTo>
                  <a:lnTo>
                    <a:pt x="7587" y="1936"/>
                  </a:lnTo>
                  <a:lnTo>
                    <a:pt x="7619" y="1967"/>
                  </a:lnTo>
                  <a:lnTo>
                    <a:pt x="7649" y="1999"/>
                  </a:lnTo>
                  <a:lnTo>
                    <a:pt x="7679" y="2031"/>
                  </a:lnTo>
                  <a:lnTo>
                    <a:pt x="7707" y="2063"/>
                  </a:lnTo>
                  <a:lnTo>
                    <a:pt x="7734" y="2095"/>
                  </a:lnTo>
                  <a:lnTo>
                    <a:pt x="7760" y="2127"/>
                  </a:lnTo>
                  <a:lnTo>
                    <a:pt x="7785" y="2159"/>
                  </a:lnTo>
                  <a:lnTo>
                    <a:pt x="7808" y="2191"/>
                  </a:lnTo>
                  <a:lnTo>
                    <a:pt x="7830" y="2223"/>
                  </a:lnTo>
                  <a:lnTo>
                    <a:pt x="7853" y="2256"/>
                  </a:lnTo>
                  <a:lnTo>
                    <a:pt x="7872" y="2289"/>
                  </a:lnTo>
                  <a:lnTo>
                    <a:pt x="7891" y="2321"/>
                  </a:lnTo>
                  <a:lnTo>
                    <a:pt x="7909" y="2354"/>
                  </a:lnTo>
                  <a:lnTo>
                    <a:pt x="7925" y="2386"/>
                  </a:lnTo>
                  <a:lnTo>
                    <a:pt x="7941" y="2420"/>
                  </a:lnTo>
                  <a:lnTo>
                    <a:pt x="7954" y="2453"/>
                  </a:lnTo>
                  <a:lnTo>
                    <a:pt x="7967" y="2486"/>
                  </a:lnTo>
                  <a:lnTo>
                    <a:pt x="7980" y="2519"/>
                  </a:lnTo>
                  <a:lnTo>
                    <a:pt x="7990" y="2553"/>
                  </a:lnTo>
                  <a:lnTo>
                    <a:pt x="7999" y="2586"/>
                  </a:lnTo>
                  <a:lnTo>
                    <a:pt x="8007" y="2619"/>
                  </a:lnTo>
                  <a:lnTo>
                    <a:pt x="8014" y="2653"/>
                  </a:lnTo>
                  <a:lnTo>
                    <a:pt x="8019" y="2686"/>
                  </a:lnTo>
                  <a:lnTo>
                    <a:pt x="8023" y="2720"/>
                  </a:lnTo>
                  <a:lnTo>
                    <a:pt x="8026" y="2753"/>
                  </a:lnTo>
                  <a:lnTo>
                    <a:pt x="8028" y="2788"/>
                  </a:lnTo>
                  <a:lnTo>
                    <a:pt x="8029" y="2822"/>
                  </a:lnTo>
                  <a:lnTo>
                    <a:pt x="8128" y="2822"/>
                  </a:lnTo>
                  <a:close/>
                </a:path>
              </a:pathLst>
            </a:custGeom>
            <a:solidFill>
              <a:srgbClr val="d98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2880" y="2419200"/>
              <a:ext cx="263520" cy="88920"/>
            </a:xfrm>
            <a:custGeom>
              <a:avLst/>
              <a:gdLst/>
              <a:ahLst/>
              <a:rect l="l" t="t" r="r" b="b"/>
              <a:pathLst>
                <a:path w="5317" h="1801">
                  <a:moveTo>
                    <a:pt x="0" y="1405"/>
                  </a:moveTo>
                  <a:lnTo>
                    <a:pt x="1190" y="1801"/>
                  </a:lnTo>
                  <a:lnTo>
                    <a:pt x="4003" y="677"/>
                  </a:lnTo>
                  <a:lnTo>
                    <a:pt x="5317" y="998"/>
                  </a:lnTo>
                  <a:lnTo>
                    <a:pt x="4624" y="0"/>
                  </a:lnTo>
                  <a:lnTo>
                    <a:pt x="1236" y="0"/>
                  </a:lnTo>
                  <a:lnTo>
                    <a:pt x="2652" y="347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94160" y="2525400"/>
              <a:ext cx="263520" cy="90720"/>
            </a:xfrm>
            <a:custGeom>
              <a:avLst/>
              <a:gdLst/>
              <a:ahLst/>
              <a:rect l="l" t="t" r="r" b="b"/>
              <a:pathLst>
                <a:path w="5317" h="1801">
                  <a:moveTo>
                    <a:pt x="5317" y="396"/>
                  </a:moveTo>
                  <a:lnTo>
                    <a:pt x="4126" y="0"/>
                  </a:lnTo>
                  <a:lnTo>
                    <a:pt x="1312" y="1124"/>
                  </a:lnTo>
                  <a:lnTo>
                    <a:pt x="0" y="803"/>
                  </a:lnTo>
                  <a:lnTo>
                    <a:pt x="692" y="1801"/>
                  </a:lnTo>
                  <a:lnTo>
                    <a:pt x="4080" y="1801"/>
                  </a:lnTo>
                  <a:lnTo>
                    <a:pt x="2665" y="1454"/>
                  </a:lnTo>
                  <a:lnTo>
                    <a:pt x="5317" y="3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08200" y="2417400"/>
              <a:ext cx="263880" cy="88920"/>
            </a:xfrm>
            <a:custGeom>
              <a:avLst/>
              <a:gdLst/>
              <a:ahLst/>
              <a:rect l="l" t="t" r="r" b="b"/>
              <a:pathLst>
                <a:path w="5317" h="1800">
                  <a:moveTo>
                    <a:pt x="0" y="395"/>
                  </a:moveTo>
                  <a:lnTo>
                    <a:pt x="1191" y="0"/>
                  </a:lnTo>
                  <a:lnTo>
                    <a:pt x="4004" y="1123"/>
                  </a:lnTo>
                  <a:lnTo>
                    <a:pt x="5317" y="803"/>
                  </a:lnTo>
                  <a:lnTo>
                    <a:pt x="4624" y="1800"/>
                  </a:lnTo>
                  <a:lnTo>
                    <a:pt x="1236" y="1800"/>
                  </a:lnTo>
                  <a:lnTo>
                    <a:pt x="2652" y="1453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87920" y="2423880"/>
              <a:ext cx="263520" cy="88920"/>
            </a:xfrm>
            <a:custGeom>
              <a:avLst/>
              <a:gdLst/>
              <a:ahLst/>
              <a:rect l="l" t="t" r="r" b="b"/>
              <a:pathLst>
                <a:path w="5317" h="1801">
                  <a:moveTo>
                    <a:pt x="0" y="1405"/>
                  </a:moveTo>
                  <a:lnTo>
                    <a:pt x="1190" y="1801"/>
                  </a:lnTo>
                  <a:lnTo>
                    <a:pt x="4004" y="677"/>
                  </a:lnTo>
                  <a:lnTo>
                    <a:pt x="5317" y="998"/>
                  </a:lnTo>
                  <a:lnTo>
                    <a:pt x="4624" y="0"/>
                  </a:lnTo>
                  <a:lnTo>
                    <a:pt x="1235" y="0"/>
                  </a:lnTo>
                  <a:lnTo>
                    <a:pt x="2652" y="347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98840" y="2531880"/>
              <a:ext cx="263520" cy="88920"/>
            </a:xfrm>
            <a:custGeom>
              <a:avLst/>
              <a:gdLst/>
              <a:ahLst/>
              <a:rect l="l" t="t" r="r" b="b"/>
              <a:pathLst>
                <a:path w="5317" h="1800">
                  <a:moveTo>
                    <a:pt x="5317" y="395"/>
                  </a:moveTo>
                  <a:lnTo>
                    <a:pt x="4126" y="0"/>
                  </a:lnTo>
                  <a:lnTo>
                    <a:pt x="1313" y="1123"/>
                  </a:lnTo>
                  <a:lnTo>
                    <a:pt x="0" y="803"/>
                  </a:lnTo>
                  <a:lnTo>
                    <a:pt x="693" y="1800"/>
                  </a:lnTo>
                  <a:lnTo>
                    <a:pt x="4082" y="1800"/>
                  </a:lnTo>
                  <a:lnTo>
                    <a:pt x="2665" y="1453"/>
                  </a:lnTo>
                  <a:lnTo>
                    <a:pt x="5317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13240" y="2422440"/>
              <a:ext cx="263520" cy="88920"/>
            </a:xfrm>
            <a:custGeom>
              <a:avLst/>
              <a:gdLst/>
              <a:ahLst/>
              <a:rect l="l" t="t" r="r" b="b"/>
              <a:pathLst>
                <a:path w="5317" h="1800">
                  <a:moveTo>
                    <a:pt x="0" y="395"/>
                  </a:moveTo>
                  <a:lnTo>
                    <a:pt x="1191" y="0"/>
                  </a:lnTo>
                  <a:lnTo>
                    <a:pt x="4004" y="1123"/>
                  </a:lnTo>
                  <a:lnTo>
                    <a:pt x="5317" y="803"/>
                  </a:lnTo>
                  <a:lnTo>
                    <a:pt x="4624" y="1800"/>
                  </a:lnTo>
                  <a:lnTo>
                    <a:pt x="1235" y="1800"/>
                  </a:lnTo>
                  <a:lnTo>
                    <a:pt x="2652" y="1453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70280" y="2538360"/>
              <a:ext cx="260280" cy="88560"/>
            </a:xfrm>
            <a:custGeom>
              <a:avLst/>
              <a:gdLst/>
              <a:ahLst/>
              <a:rect l="l" t="t" r="r" b="b"/>
              <a:pathLst>
                <a:path w="5255" h="1779">
                  <a:moveTo>
                    <a:pt x="5255" y="1389"/>
                  </a:moveTo>
                  <a:lnTo>
                    <a:pt x="4080" y="1779"/>
                  </a:lnTo>
                  <a:lnTo>
                    <a:pt x="1298" y="669"/>
                  </a:lnTo>
                  <a:lnTo>
                    <a:pt x="0" y="986"/>
                  </a:lnTo>
                  <a:lnTo>
                    <a:pt x="685" y="0"/>
                  </a:lnTo>
                  <a:lnTo>
                    <a:pt x="4034" y="0"/>
                  </a:lnTo>
                  <a:lnTo>
                    <a:pt x="2635" y="343"/>
                  </a:lnTo>
                  <a:lnTo>
                    <a:pt x="5255" y="13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74960" y="2544480"/>
              <a:ext cx="260640" cy="88920"/>
            </a:xfrm>
            <a:custGeom>
              <a:avLst/>
              <a:gdLst/>
              <a:ahLst/>
              <a:rect l="l" t="t" r="r" b="b"/>
              <a:pathLst>
                <a:path w="5255" h="1780">
                  <a:moveTo>
                    <a:pt x="5255" y="1390"/>
                  </a:moveTo>
                  <a:lnTo>
                    <a:pt x="4079" y="1780"/>
                  </a:lnTo>
                  <a:lnTo>
                    <a:pt x="1298" y="670"/>
                  </a:lnTo>
                  <a:lnTo>
                    <a:pt x="0" y="987"/>
                  </a:lnTo>
                  <a:lnTo>
                    <a:pt x="685" y="0"/>
                  </a:lnTo>
                  <a:lnTo>
                    <a:pt x="4033" y="0"/>
                  </a:lnTo>
                  <a:lnTo>
                    <a:pt x="2634" y="343"/>
                  </a:lnTo>
                  <a:lnTo>
                    <a:pt x="5255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267080" y="2468520"/>
            <a:ext cx="134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 with 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243080" y="1407960"/>
            <a:ext cx="10094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Centri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43080" y="5880240"/>
            <a:ext cx="107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6"/>
          <a:stretch/>
        </p:blipFill>
        <p:spPr>
          <a:xfrm>
            <a:off x="415800" y="5342040"/>
            <a:ext cx="735120" cy="11793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17"/>
          <a:stretch/>
        </p:blipFill>
        <p:spPr>
          <a:xfrm>
            <a:off x="6477120" y="3429000"/>
            <a:ext cx="745920" cy="7333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7450200" y="3544920"/>
            <a:ext cx="1388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oice-Enabled ATM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2324160" y="1309680"/>
            <a:ext cx="917640" cy="831960"/>
            <a:chOff x="2324160" y="1309680"/>
            <a:chExt cx="917640" cy="831960"/>
          </a:xfrm>
        </p:grpSpPr>
        <p:sp>
          <p:nvSpPr>
            <p:cNvPr id="671" name=""/>
            <p:cNvSpPr/>
            <p:nvPr/>
          </p:nvSpPr>
          <p:spPr>
            <a:xfrm>
              <a:off x="2324160" y="2038320"/>
              <a:ext cx="917640" cy="103320"/>
            </a:xfrm>
            <a:custGeom>
              <a:avLst/>
              <a:gdLst/>
              <a:ahLst/>
              <a:rect l="l" t="t" r="r" b="b"/>
              <a:pathLst>
                <a:path w="16178" h="1836">
                  <a:moveTo>
                    <a:pt x="0" y="1836"/>
                  </a:moveTo>
                  <a:lnTo>
                    <a:pt x="4044" y="0"/>
                  </a:lnTo>
                  <a:lnTo>
                    <a:pt x="16178" y="0"/>
                  </a:lnTo>
                  <a:lnTo>
                    <a:pt x="12134" y="1836"/>
                  </a:lnTo>
                  <a:lnTo>
                    <a:pt x="0" y="1836"/>
                  </a:ln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24160" y="2038320"/>
              <a:ext cx="917640" cy="103320"/>
            </a:xfrm>
            <a:custGeom>
              <a:avLst/>
              <a:gdLst/>
              <a:ahLst/>
              <a:rect l="l" t="t" r="r" b="b"/>
              <a:pathLst>
                <a:path w="16178" h="1836">
                  <a:moveTo>
                    <a:pt x="0" y="1836"/>
                  </a:moveTo>
                  <a:lnTo>
                    <a:pt x="4044" y="0"/>
                  </a:lnTo>
                  <a:lnTo>
                    <a:pt x="16178" y="0"/>
                  </a:lnTo>
                  <a:lnTo>
                    <a:pt x="12134" y="1836"/>
                  </a:lnTo>
                  <a:lnTo>
                    <a:pt x="0" y="1836"/>
                  </a:lnTo>
                  <a:close/>
                </a:path>
              </a:pathLst>
            </a:custGeom>
            <a:noFill/>
            <a:ln w="936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24160" y="1309680"/>
              <a:ext cx="230040" cy="831960"/>
            </a:xfrm>
            <a:custGeom>
              <a:avLst/>
              <a:gdLst/>
              <a:ahLst/>
              <a:rect l="l" t="t" r="r" b="b"/>
              <a:pathLst>
                <a:path w="4044" h="14686">
                  <a:moveTo>
                    <a:pt x="0" y="1836"/>
                  </a:moveTo>
                  <a:lnTo>
                    <a:pt x="4044" y="0"/>
                  </a:lnTo>
                  <a:lnTo>
                    <a:pt x="4044" y="12850"/>
                  </a:lnTo>
                  <a:lnTo>
                    <a:pt x="0" y="14686"/>
                  </a:lnTo>
                  <a:lnTo>
                    <a:pt x="0" y="1836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24160" y="1309680"/>
              <a:ext cx="230040" cy="831960"/>
            </a:xfrm>
            <a:custGeom>
              <a:avLst/>
              <a:gdLst/>
              <a:ahLst/>
              <a:rect l="l" t="t" r="r" b="b"/>
              <a:pathLst>
                <a:path w="4044" h="14686">
                  <a:moveTo>
                    <a:pt x="0" y="1836"/>
                  </a:moveTo>
                  <a:lnTo>
                    <a:pt x="4044" y="0"/>
                  </a:lnTo>
                  <a:lnTo>
                    <a:pt x="4044" y="12850"/>
                  </a:lnTo>
                  <a:lnTo>
                    <a:pt x="0" y="14686"/>
                  </a:lnTo>
                  <a:lnTo>
                    <a:pt x="0" y="1836"/>
                  </a:lnTo>
                  <a:close/>
                </a:path>
              </a:pathLst>
            </a:custGeom>
            <a:noFill/>
            <a:ln w="936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54200" y="1309680"/>
              <a:ext cx="687600" cy="728640"/>
            </a:xfrm>
            <a:prstGeom prst="rect">
              <a:avLst/>
            </a:prstGeom>
            <a:solidFill>
              <a:srgbClr val="008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54200" y="1309680"/>
              <a:ext cx="687600" cy="728640"/>
            </a:xfrm>
            <a:prstGeom prst="rect">
              <a:avLst/>
            </a:prstGeom>
            <a:noFill/>
            <a:ln w="936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24160" y="1309680"/>
              <a:ext cx="917640" cy="103320"/>
            </a:xfrm>
            <a:custGeom>
              <a:avLst/>
              <a:gdLst/>
              <a:ahLst/>
              <a:rect l="l" t="t" r="r" b="b"/>
              <a:pathLst>
                <a:path w="16178" h="1836">
                  <a:moveTo>
                    <a:pt x="0" y="1836"/>
                  </a:moveTo>
                  <a:lnTo>
                    <a:pt x="4044" y="0"/>
                  </a:lnTo>
                  <a:lnTo>
                    <a:pt x="16178" y="0"/>
                  </a:lnTo>
                  <a:lnTo>
                    <a:pt x="12134" y="1836"/>
                  </a:lnTo>
                  <a:lnTo>
                    <a:pt x="0" y="1836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24160" y="1309680"/>
              <a:ext cx="917640" cy="103320"/>
            </a:xfrm>
            <a:custGeom>
              <a:avLst/>
              <a:gdLst/>
              <a:ahLst/>
              <a:rect l="l" t="t" r="r" b="b"/>
              <a:pathLst>
                <a:path w="16178" h="1836">
                  <a:moveTo>
                    <a:pt x="0" y="1836"/>
                  </a:moveTo>
                  <a:lnTo>
                    <a:pt x="4044" y="0"/>
                  </a:lnTo>
                  <a:lnTo>
                    <a:pt x="16178" y="0"/>
                  </a:lnTo>
                  <a:lnTo>
                    <a:pt x="12134" y="1836"/>
                  </a:lnTo>
                  <a:lnTo>
                    <a:pt x="0" y="1836"/>
                  </a:lnTo>
                  <a:close/>
                </a:path>
              </a:pathLst>
            </a:custGeom>
            <a:noFill/>
            <a:ln w="936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08400" y="1517760"/>
              <a:ext cx="82440" cy="187200"/>
            </a:xfrm>
            <a:custGeom>
              <a:avLst/>
              <a:gdLst/>
              <a:ahLst/>
              <a:rect l="l" t="t" r="r" b="b"/>
              <a:pathLst>
                <a:path w="1470" h="3305">
                  <a:moveTo>
                    <a:pt x="734" y="0"/>
                  </a:moveTo>
                  <a:lnTo>
                    <a:pt x="773" y="2"/>
                  </a:lnTo>
                  <a:lnTo>
                    <a:pt x="811" y="9"/>
                  </a:lnTo>
                  <a:lnTo>
                    <a:pt x="849" y="19"/>
                  </a:lnTo>
                  <a:lnTo>
                    <a:pt x="885" y="32"/>
                  </a:lnTo>
                  <a:lnTo>
                    <a:pt x="921" y="49"/>
                  </a:lnTo>
                  <a:lnTo>
                    <a:pt x="956" y="71"/>
                  </a:lnTo>
                  <a:lnTo>
                    <a:pt x="991" y="95"/>
                  </a:lnTo>
                  <a:lnTo>
                    <a:pt x="1025" y="123"/>
                  </a:lnTo>
                  <a:lnTo>
                    <a:pt x="1056" y="155"/>
                  </a:lnTo>
                  <a:lnTo>
                    <a:pt x="1089" y="189"/>
                  </a:lnTo>
                  <a:lnTo>
                    <a:pt x="1120" y="228"/>
                  </a:lnTo>
                  <a:lnTo>
                    <a:pt x="1149" y="269"/>
                  </a:lnTo>
                  <a:lnTo>
                    <a:pt x="1178" y="314"/>
                  </a:lnTo>
                  <a:lnTo>
                    <a:pt x="1205" y="361"/>
                  </a:lnTo>
                  <a:lnTo>
                    <a:pt x="1232" y="412"/>
                  </a:lnTo>
                  <a:lnTo>
                    <a:pt x="1258" y="465"/>
                  </a:lnTo>
                  <a:lnTo>
                    <a:pt x="1281" y="521"/>
                  </a:lnTo>
                  <a:lnTo>
                    <a:pt x="1305" y="580"/>
                  </a:lnTo>
                  <a:lnTo>
                    <a:pt x="1326" y="643"/>
                  </a:lnTo>
                  <a:lnTo>
                    <a:pt x="1347" y="706"/>
                  </a:lnTo>
                  <a:lnTo>
                    <a:pt x="1365" y="774"/>
                  </a:lnTo>
                  <a:lnTo>
                    <a:pt x="1382" y="843"/>
                  </a:lnTo>
                  <a:lnTo>
                    <a:pt x="1399" y="914"/>
                  </a:lnTo>
                  <a:lnTo>
                    <a:pt x="1413" y="988"/>
                  </a:lnTo>
                  <a:lnTo>
                    <a:pt x="1426" y="1065"/>
                  </a:lnTo>
                  <a:lnTo>
                    <a:pt x="1437" y="1142"/>
                  </a:lnTo>
                  <a:lnTo>
                    <a:pt x="1448" y="1223"/>
                  </a:lnTo>
                  <a:lnTo>
                    <a:pt x="1456" y="1306"/>
                  </a:lnTo>
                  <a:lnTo>
                    <a:pt x="1462" y="1389"/>
                  </a:lnTo>
                  <a:lnTo>
                    <a:pt x="1466" y="1475"/>
                  </a:lnTo>
                  <a:lnTo>
                    <a:pt x="1469" y="1563"/>
                  </a:lnTo>
                  <a:lnTo>
                    <a:pt x="1470" y="1653"/>
                  </a:lnTo>
                  <a:lnTo>
                    <a:pt x="1469" y="1739"/>
                  </a:lnTo>
                  <a:lnTo>
                    <a:pt x="1466" y="1822"/>
                  </a:lnTo>
                  <a:lnTo>
                    <a:pt x="1462" y="1906"/>
                  </a:lnTo>
                  <a:lnTo>
                    <a:pt x="1456" y="1987"/>
                  </a:lnTo>
                  <a:lnTo>
                    <a:pt x="1448" y="2068"/>
                  </a:lnTo>
                  <a:lnTo>
                    <a:pt x="1437" y="2146"/>
                  </a:lnTo>
                  <a:lnTo>
                    <a:pt x="1426" y="2223"/>
                  </a:lnTo>
                  <a:lnTo>
                    <a:pt x="1413" y="2298"/>
                  </a:lnTo>
                  <a:lnTo>
                    <a:pt x="1399" y="2372"/>
                  </a:lnTo>
                  <a:lnTo>
                    <a:pt x="1382" y="2442"/>
                  </a:lnTo>
                  <a:lnTo>
                    <a:pt x="1365" y="2512"/>
                  </a:lnTo>
                  <a:lnTo>
                    <a:pt x="1347" y="2579"/>
                  </a:lnTo>
                  <a:lnTo>
                    <a:pt x="1326" y="2644"/>
                  </a:lnTo>
                  <a:lnTo>
                    <a:pt x="1305" y="2706"/>
                  </a:lnTo>
                  <a:lnTo>
                    <a:pt x="1281" y="2766"/>
                  </a:lnTo>
                  <a:lnTo>
                    <a:pt x="1258" y="2823"/>
                  </a:lnTo>
                  <a:lnTo>
                    <a:pt x="1232" y="2877"/>
                  </a:lnTo>
                  <a:lnTo>
                    <a:pt x="1205" y="2930"/>
                  </a:lnTo>
                  <a:lnTo>
                    <a:pt x="1178" y="2979"/>
                  </a:lnTo>
                  <a:lnTo>
                    <a:pt x="1149" y="3024"/>
                  </a:lnTo>
                  <a:lnTo>
                    <a:pt x="1120" y="3067"/>
                  </a:lnTo>
                  <a:lnTo>
                    <a:pt x="1089" y="3106"/>
                  </a:lnTo>
                  <a:lnTo>
                    <a:pt x="1056" y="3143"/>
                  </a:lnTo>
                  <a:lnTo>
                    <a:pt x="1025" y="3176"/>
                  </a:lnTo>
                  <a:lnTo>
                    <a:pt x="991" y="3205"/>
                  </a:lnTo>
                  <a:lnTo>
                    <a:pt x="956" y="3231"/>
                  </a:lnTo>
                  <a:lnTo>
                    <a:pt x="921" y="3253"/>
                  </a:lnTo>
                  <a:lnTo>
                    <a:pt x="885" y="3272"/>
                  </a:lnTo>
                  <a:lnTo>
                    <a:pt x="849" y="3286"/>
                  </a:lnTo>
                  <a:lnTo>
                    <a:pt x="811" y="3296"/>
                  </a:lnTo>
                  <a:lnTo>
                    <a:pt x="773" y="3302"/>
                  </a:lnTo>
                  <a:lnTo>
                    <a:pt x="734" y="3305"/>
                  </a:lnTo>
                  <a:lnTo>
                    <a:pt x="692" y="3302"/>
                  </a:lnTo>
                  <a:lnTo>
                    <a:pt x="651" y="3296"/>
                  </a:lnTo>
                  <a:lnTo>
                    <a:pt x="611" y="3286"/>
                  </a:lnTo>
                  <a:lnTo>
                    <a:pt x="571" y="3272"/>
                  </a:lnTo>
                  <a:lnTo>
                    <a:pt x="533" y="3253"/>
                  </a:lnTo>
                  <a:lnTo>
                    <a:pt x="496" y="3231"/>
                  </a:lnTo>
                  <a:lnTo>
                    <a:pt x="460" y="3205"/>
                  </a:lnTo>
                  <a:lnTo>
                    <a:pt x="426" y="3176"/>
                  </a:lnTo>
                  <a:lnTo>
                    <a:pt x="392" y="3143"/>
                  </a:lnTo>
                  <a:lnTo>
                    <a:pt x="360" y="3106"/>
                  </a:lnTo>
                  <a:lnTo>
                    <a:pt x="330" y="3067"/>
                  </a:lnTo>
                  <a:lnTo>
                    <a:pt x="300" y="3024"/>
                  </a:lnTo>
                  <a:lnTo>
                    <a:pt x="271" y="2979"/>
                  </a:lnTo>
                  <a:lnTo>
                    <a:pt x="245" y="2930"/>
                  </a:lnTo>
                  <a:lnTo>
                    <a:pt x="219" y="2877"/>
                  </a:lnTo>
                  <a:lnTo>
                    <a:pt x="195" y="2823"/>
                  </a:lnTo>
                  <a:lnTo>
                    <a:pt x="171" y="2766"/>
                  </a:lnTo>
                  <a:lnTo>
                    <a:pt x="150" y="2706"/>
                  </a:lnTo>
                  <a:lnTo>
                    <a:pt x="129" y="2644"/>
                  </a:lnTo>
                  <a:lnTo>
                    <a:pt x="111" y="2579"/>
                  </a:lnTo>
                  <a:lnTo>
                    <a:pt x="94" y="2512"/>
                  </a:lnTo>
                  <a:lnTo>
                    <a:pt x="77" y="2442"/>
                  </a:lnTo>
                  <a:lnTo>
                    <a:pt x="63" y="2372"/>
                  </a:lnTo>
                  <a:lnTo>
                    <a:pt x="50" y="2298"/>
                  </a:lnTo>
                  <a:lnTo>
                    <a:pt x="37" y="2223"/>
                  </a:lnTo>
                  <a:lnTo>
                    <a:pt x="28" y="2146"/>
                  </a:lnTo>
                  <a:lnTo>
                    <a:pt x="19" y="2068"/>
                  </a:lnTo>
                  <a:lnTo>
                    <a:pt x="12" y="1987"/>
                  </a:lnTo>
                  <a:lnTo>
                    <a:pt x="7" y="1906"/>
                  </a:lnTo>
                  <a:lnTo>
                    <a:pt x="3" y="1822"/>
                  </a:lnTo>
                  <a:lnTo>
                    <a:pt x="1" y="1739"/>
                  </a:lnTo>
                  <a:lnTo>
                    <a:pt x="0" y="1653"/>
                  </a:lnTo>
                  <a:lnTo>
                    <a:pt x="1" y="1563"/>
                  </a:lnTo>
                  <a:lnTo>
                    <a:pt x="3" y="1475"/>
                  </a:lnTo>
                  <a:lnTo>
                    <a:pt x="7" y="1389"/>
                  </a:lnTo>
                  <a:lnTo>
                    <a:pt x="12" y="1306"/>
                  </a:lnTo>
                  <a:lnTo>
                    <a:pt x="19" y="1223"/>
                  </a:lnTo>
                  <a:lnTo>
                    <a:pt x="28" y="1142"/>
                  </a:lnTo>
                  <a:lnTo>
                    <a:pt x="37" y="1065"/>
                  </a:lnTo>
                  <a:lnTo>
                    <a:pt x="50" y="988"/>
                  </a:lnTo>
                  <a:lnTo>
                    <a:pt x="63" y="914"/>
                  </a:lnTo>
                  <a:lnTo>
                    <a:pt x="77" y="843"/>
                  </a:lnTo>
                  <a:lnTo>
                    <a:pt x="94" y="774"/>
                  </a:lnTo>
                  <a:lnTo>
                    <a:pt x="111" y="706"/>
                  </a:lnTo>
                  <a:lnTo>
                    <a:pt x="129" y="643"/>
                  </a:lnTo>
                  <a:lnTo>
                    <a:pt x="150" y="580"/>
                  </a:lnTo>
                  <a:lnTo>
                    <a:pt x="171" y="521"/>
                  </a:lnTo>
                  <a:lnTo>
                    <a:pt x="195" y="465"/>
                  </a:lnTo>
                  <a:lnTo>
                    <a:pt x="219" y="412"/>
                  </a:lnTo>
                  <a:lnTo>
                    <a:pt x="245" y="361"/>
                  </a:lnTo>
                  <a:lnTo>
                    <a:pt x="271" y="314"/>
                  </a:lnTo>
                  <a:lnTo>
                    <a:pt x="300" y="269"/>
                  </a:lnTo>
                  <a:lnTo>
                    <a:pt x="330" y="228"/>
                  </a:lnTo>
                  <a:lnTo>
                    <a:pt x="360" y="189"/>
                  </a:lnTo>
                  <a:lnTo>
                    <a:pt x="392" y="155"/>
                  </a:lnTo>
                  <a:lnTo>
                    <a:pt x="426" y="123"/>
                  </a:lnTo>
                  <a:lnTo>
                    <a:pt x="460" y="95"/>
                  </a:lnTo>
                  <a:lnTo>
                    <a:pt x="496" y="71"/>
                  </a:lnTo>
                  <a:lnTo>
                    <a:pt x="533" y="49"/>
                  </a:lnTo>
                  <a:lnTo>
                    <a:pt x="571" y="32"/>
                  </a:lnTo>
                  <a:lnTo>
                    <a:pt x="611" y="19"/>
                  </a:lnTo>
                  <a:lnTo>
                    <a:pt x="651" y="9"/>
                  </a:lnTo>
                  <a:lnTo>
                    <a:pt x="692" y="2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329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08400" y="1517760"/>
              <a:ext cx="82440" cy="187200"/>
            </a:xfrm>
            <a:custGeom>
              <a:avLst/>
              <a:gdLst/>
              <a:ahLst/>
              <a:rect l="l" t="t" r="r" b="b"/>
              <a:pathLst>
                <a:path w="1470" h="3305">
                  <a:moveTo>
                    <a:pt x="734" y="0"/>
                  </a:moveTo>
                  <a:lnTo>
                    <a:pt x="773" y="2"/>
                  </a:lnTo>
                  <a:lnTo>
                    <a:pt x="811" y="9"/>
                  </a:lnTo>
                  <a:lnTo>
                    <a:pt x="849" y="19"/>
                  </a:lnTo>
                  <a:lnTo>
                    <a:pt x="885" y="32"/>
                  </a:lnTo>
                  <a:lnTo>
                    <a:pt x="921" y="49"/>
                  </a:lnTo>
                  <a:lnTo>
                    <a:pt x="956" y="71"/>
                  </a:lnTo>
                  <a:lnTo>
                    <a:pt x="991" y="95"/>
                  </a:lnTo>
                  <a:lnTo>
                    <a:pt x="1025" y="123"/>
                  </a:lnTo>
                  <a:lnTo>
                    <a:pt x="1056" y="155"/>
                  </a:lnTo>
                  <a:lnTo>
                    <a:pt x="1089" y="189"/>
                  </a:lnTo>
                  <a:lnTo>
                    <a:pt x="1120" y="228"/>
                  </a:lnTo>
                  <a:lnTo>
                    <a:pt x="1149" y="269"/>
                  </a:lnTo>
                  <a:lnTo>
                    <a:pt x="1178" y="314"/>
                  </a:lnTo>
                  <a:lnTo>
                    <a:pt x="1205" y="361"/>
                  </a:lnTo>
                  <a:lnTo>
                    <a:pt x="1232" y="412"/>
                  </a:lnTo>
                  <a:lnTo>
                    <a:pt x="1258" y="465"/>
                  </a:lnTo>
                  <a:lnTo>
                    <a:pt x="1281" y="521"/>
                  </a:lnTo>
                  <a:lnTo>
                    <a:pt x="1305" y="580"/>
                  </a:lnTo>
                  <a:lnTo>
                    <a:pt x="1326" y="643"/>
                  </a:lnTo>
                  <a:lnTo>
                    <a:pt x="1347" y="706"/>
                  </a:lnTo>
                  <a:lnTo>
                    <a:pt x="1365" y="774"/>
                  </a:lnTo>
                  <a:lnTo>
                    <a:pt x="1382" y="843"/>
                  </a:lnTo>
                  <a:lnTo>
                    <a:pt x="1399" y="914"/>
                  </a:lnTo>
                  <a:lnTo>
                    <a:pt x="1413" y="988"/>
                  </a:lnTo>
                  <a:lnTo>
                    <a:pt x="1426" y="1065"/>
                  </a:lnTo>
                  <a:lnTo>
                    <a:pt x="1437" y="1142"/>
                  </a:lnTo>
                  <a:lnTo>
                    <a:pt x="1448" y="1223"/>
                  </a:lnTo>
                  <a:lnTo>
                    <a:pt x="1456" y="1306"/>
                  </a:lnTo>
                  <a:lnTo>
                    <a:pt x="1462" y="1389"/>
                  </a:lnTo>
                  <a:lnTo>
                    <a:pt x="1466" y="1475"/>
                  </a:lnTo>
                  <a:lnTo>
                    <a:pt x="1469" y="1563"/>
                  </a:lnTo>
                  <a:lnTo>
                    <a:pt x="1470" y="1653"/>
                  </a:lnTo>
                  <a:lnTo>
                    <a:pt x="1469" y="1739"/>
                  </a:lnTo>
                  <a:lnTo>
                    <a:pt x="1466" y="1822"/>
                  </a:lnTo>
                  <a:lnTo>
                    <a:pt x="1462" y="1906"/>
                  </a:lnTo>
                  <a:lnTo>
                    <a:pt x="1456" y="1987"/>
                  </a:lnTo>
                  <a:lnTo>
                    <a:pt x="1448" y="2068"/>
                  </a:lnTo>
                  <a:lnTo>
                    <a:pt x="1437" y="2146"/>
                  </a:lnTo>
                  <a:lnTo>
                    <a:pt x="1426" y="2223"/>
                  </a:lnTo>
                  <a:lnTo>
                    <a:pt x="1413" y="2298"/>
                  </a:lnTo>
                  <a:lnTo>
                    <a:pt x="1399" y="2372"/>
                  </a:lnTo>
                  <a:lnTo>
                    <a:pt x="1382" y="2442"/>
                  </a:lnTo>
                  <a:lnTo>
                    <a:pt x="1365" y="2512"/>
                  </a:lnTo>
                  <a:lnTo>
                    <a:pt x="1347" y="2579"/>
                  </a:lnTo>
                  <a:lnTo>
                    <a:pt x="1326" y="2644"/>
                  </a:lnTo>
                  <a:lnTo>
                    <a:pt x="1305" y="2706"/>
                  </a:lnTo>
                  <a:lnTo>
                    <a:pt x="1281" y="2766"/>
                  </a:lnTo>
                  <a:lnTo>
                    <a:pt x="1258" y="2823"/>
                  </a:lnTo>
                  <a:lnTo>
                    <a:pt x="1232" y="2877"/>
                  </a:lnTo>
                  <a:lnTo>
                    <a:pt x="1205" y="2930"/>
                  </a:lnTo>
                  <a:lnTo>
                    <a:pt x="1178" y="2979"/>
                  </a:lnTo>
                  <a:lnTo>
                    <a:pt x="1149" y="3024"/>
                  </a:lnTo>
                  <a:lnTo>
                    <a:pt x="1120" y="3067"/>
                  </a:lnTo>
                  <a:lnTo>
                    <a:pt x="1089" y="3106"/>
                  </a:lnTo>
                  <a:lnTo>
                    <a:pt x="1056" y="3143"/>
                  </a:lnTo>
                  <a:lnTo>
                    <a:pt x="1025" y="3176"/>
                  </a:lnTo>
                  <a:lnTo>
                    <a:pt x="991" y="3205"/>
                  </a:lnTo>
                  <a:lnTo>
                    <a:pt x="956" y="3231"/>
                  </a:lnTo>
                  <a:lnTo>
                    <a:pt x="921" y="3253"/>
                  </a:lnTo>
                  <a:lnTo>
                    <a:pt x="885" y="3272"/>
                  </a:lnTo>
                  <a:lnTo>
                    <a:pt x="849" y="3286"/>
                  </a:lnTo>
                  <a:lnTo>
                    <a:pt x="811" y="3296"/>
                  </a:lnTo>
                  <a:lnTo>
                    <a:pt x="773" y="3302"/>
                  </a:lnTo>
                  <a:lnTo>
                    <a:pt x="734" y="3305"/>
                  </a:lnTo>
                  <a:lnTo>
                    <a:pt x="692" y="3302"/>
                  </a:lnTo>
                  <a:lnTo>
                    <a:pt x="651" y="3296"/>
                  </a:lnTo>
                  <a:lnTo>
                    <a:pt x="611" y="3286"/>
                  </a:lnTo>
                  <a:lnTo>
                    <a:pt x="571" y="3272"/>
                  </a:lnTo>
                  <a:lnTo>
                    <a:pt x="533" y="3253"/>
                  </a:lnTo>
                  <a:lnTo>
                    <a:pt x="496" y="3231"/>
                  </a:lnTo>
                  <a:lnTo>
                    <a:pt x="460" y="3205"/>
                  </a:lnTo>
                  <a:lnTo>
                    <a:pt x="426" y="3176"/>
                  </a:lnTo>
                  <a:lnTo>
                    <a:pt x="392" y="3143"/>
                  </a:lnTo>
                  <a:lnTo>
                    <a:pt x="360" y="3106"/>
                  </a:lnTo>
                  <a:lnTo>
                    <a:pt x="330" y="3067"/>
                  </a:lnTo>
                  <a:lnTo>
                    <a:pt x="300" y="3024"/>
                  </a:lnTo>
                  <a:lnTo>
                    <a:pt x="271" y="2979"/>
                  </a:lnTo>
                  <a:lnTo>
                    <a:pt x="245" y="2930"/>
                  </a:lnTo>
                  <a:lnTo>
                    <a:pt x="219" y="2877"/>
                  </a:lnTo>
                  <a:lnTo>
                    <a:pt x="195" y="2823"/>
                  </a:lnTo>
                  <a:lnTo>
                    <a:pt x="171" y="2766"/>
                  </a:lnTo>
                  <a:lnTo>
                    <a:pt x="150" y="2706"/>
                  </a:lnTo>
                  <a:lnTo>
                    <a:pt x="129" y="2644"/>
                  </a:lnTo>
                  <a:lnTo>
                    <a:pt x="111" y="2579"/>
                  </a:lnTo>
                  <a:lnTo>
                    <a:pt x="94" y="2512"/>
                  </a:lnTo>
                  <a:lnTo>
                    <a:pt x="77" y="2442"/>
                  </a:lnTo>
                  <a:lnTo>
                    <a:pt x="63" y="2372"/>
                  </a:lnTo>
                  <a:lnTo>
                    <a:pt x="50" y="2298"/>
                  </a:lnTo>
                  <a:lnTo>
                    <a:pt x="37" y="2223"/>
                  </a:lnTo>
                  <a:lnTo>
                    <a:pt x="28" y="2146"/>
                  </a:lnTo>
                  <a:lnTo>
                    <a:pt x="19" y="2068"/>
                  </a:lnTo>
                  <a:lnTo>
                    <a:pt x="12" y="1987"/>
                  </a:lnTo>
                  <a:lnTo>
                    <a:pt x="7" y="1906"/>
                  </a:lnTo>
                  <a:lnTo>
                    <a:pt x="3" y="1822"/>
                  </a:lnTo>
                  <a:lnTo>
                    <a:pt x="1" y="1739"/>
                  </a:lnTo>
                  <a:lnTo>
                    <a:pt x="0" y="1653"/>
                  </a:lnTo>
                  <a:lnTo>
                    <a:pt x="1" y="1563"/>
                  </a:lnTo>
                  <a:lnTo>
                    <a:pt x="3" y="1475"/>
                  </a:lnTo>
                  <a:lnTo>
                    <a:pt x="7" y="1389"/>
                  </a:lnTo>
                  <a:lnTo>
                    <a:pt x="12" y="1306"/>
                  </a:lnTo>
                  <a:lnTo>
                    <a:pt x="19" y="1223"/>
                  </a:lnTo>
                  <a:lnTo>
                    <a:pt x="28" y="1142"/>
                  </a:lnTo>
                  <a:lnTo>
                    <a:pt x="37" y="1065"/>
                  </a:lnTo>
                  <a:lnTo>
                    <a:pt x="50" y="988"/>
                  </a:lnTo>
                  <a:lnTo>
                    <a:pt x="63" y="914"/>
                  </a:lnTo>
                  <a:lnTo>
                    <a:pt x="77" y="843"/>
                  </a:lnTo>
                  <a:lnTo>
                    <a:pt x="94" y="774"/>
                  </a:lnTo>
                  <a:lnTo>
                    <a:pt x="111" y="706"/>
                  </a:lnTo>
                  <a:lnTo>
                    <a:pt x="129" y="643"/>
                  </a:lnTo>
                  <a:lnTo>
                    <a:pt x="150" y="580"/>
                  </a:lnTo>
                  <a:lnTo>
                    <a:pt x="171" y="521"/>
                  </a:lnTo>
                  <a:lnTo>
                    <a:pt x="195" y="465"/>
                  </a:lnTo>
                  <a:lnTo>
                    <a:pt x="219" y="412"/>
                  </a:lnTo>
                  <a:lnTo>
                    <a:pt x="245" y="361"/>
                  </a:lnTo>
                  <a:lnTo>
                    <a:pt x="271" y="314"/>
                  </a:lnTo>
                  <a:lnTo>
                    <a:pt x="300" y="269"/>
                  </a:lnTo>
                  <a:lnTo>
                    <a:pt x="330" y="228"/>
                  </a:lnTo>
                  <a:lnTo>
                    <a:pt x="360" y="189"/>
                  </a:lnTo>
                  <a:lnTo>
                    <a:pt x="392" y="155"/>
                  </a:lnTo>
                  <a:lnTo>
                    <a:pt x="426" y="123"/>
                  </a:lnTo>
                  <a:lnTo>
                    <a:pt x="460" y="95"/>
                  </a:lnTo>
                  <a:lnTo>
                    <a:pt x="496" y="71"/>
                  </a:lnTo>
                  <a:lnTo>
                    <a:pt x="533" y="49"/>
                  </a:lnTo>
                  <a:lnTo>
                    <a:pt x="571" y="32"/>
                  </a:lnTo>
                  <a:lnTo>
                    <a:pt x="611" y="19"/>
                  </a:lnTo>
                  <a:lnTo>
                    <a:pt x="651" y="9"/>
                  </a:lnTo>
                  <a:lnTo>
                    <a:pt x="692" y="2"/>
                  </a:lnTo>
                  <a:lnTo>
                    <a:pt x="734" y="0"/>
                  </a:lnTo>
                </a:path>
              </a:pathLst>
            </a:custGeom>
            <a:noFill/>
            <a:ln w="936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9440" y="1517760"/>
              <a:ext cx="561960" cy="187200"/>
            </a:xfrm>
            <a:prstGeom prst="rect">
              <a:avLst/>
            </a:prstGeom>
            <a:solidFill>
              <a:srgbClr val="329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08400" y="1787400"/>
              <a:ext cx="82440" cy="187560"/>
            </a:xfrm>
            <a:custGeom>
              <a:avLst/>
              <a:gdLst/>
              <a:ahLst/>
              <a:rect l="l" t="t" r="r" b="b"/>
              <a:pathLst>
                <a:path w="1470" h="3305">
                  <a:moveTo>
                    <a:pt x="734" y="0"/>
                  </a:moveTo>
                  <a:lnTo>
                    <a:pt x="773" y="2"/>
                  </a:lnTo>
                  <a:lnTo>
                    <a:pt x="811" y="8"/>
                  </a:lnTo>
                  <a:lnTo>
                    <a:pt x="849" y="18"/>
                  </a:lnTo>
                  <a:lnTo>
                    <a:pt x="885" y="32"/>
                  </a:lnTo>
                  <a:lnTo>
                    <a:pt x="921" y="49"/>
                  </a:lnTo>
                  <a:lnTo>
                    <a:pt x="956" y="70"/>
                  </a:lnTo>
                  <a:lnTo>
                    <a:pt x="991" y="95"/>
                  </a:lnTo>
                  <a:lnTo>
                    <a:pt x="1025" y="124"/>
                  </a:lnTo>
                  <a:lnTo>
                    <a:pt x="1056" y="154"/>
                  </a:lnTo>
                  <a:lnTo>
                    <a:pt x="1089" y="190"/>
                  </a:lnTo>
                  <a:lnTo>
                    <a:pt x="1120" y="228"/>
                  </a:lnTo>
                  <a:lnTo>
                    <a:pt x="1149" y="270"/>
                  </a:lnTo>
                  <a:lnTo>
                    <a:pt x="1178" y="314"/>
                  </a:lnTo>
                  <a:lnTo>
                    <a:pt x="1205" y="362"/>
                  </a:lnTo>
                  <a:lnTo>
                    <a:pt x="1232" y="412"/>
                  </a:lnTo>
                  <a:lnTo>
                    <a:pt x="1258" y="465"/>
                  </a:lnTo>
                  <a:lnTo>
                    <a:pt x="1281" y="522"/>
                  </a:lnTo>
                  <a:lnTo>
                    <a:pt x="1305" y="580"/>
                  </a:lnTo>
                  <a:lnTo>
                    <a:pt x="1326" y="642"/>
                  </a:lnTo>
                  <a:lnTo>
                    <a:pt x="1347" y="707"/>
                  </a:lnTo>
                  <a:lnTo>
                    <a:pt x="1365" y="773"/>
                  </a:lnTo>
                  <a:lnTo>
                    <a:pt x="1382" y="843"/>
                  </a:lnTo>
                  <a:lnTo>
                    <a:pt x="1399" y="914"/>
                  </a:lnTo>
                  <a:lnTo>
                    <a:pt x="1413" y="988"/>
                  </a:lnTo>
                  <a:lnTo>
                    <a:pt x="1426" y="1064"/>
                  </a:lnTo>
                  <a:lnTo>
                    <a:pt x="1437" y="1142"/>
                  </a:lnTo>
                  <a:lnTo>
                    <a:pt x="1448" y="1222"/>
                  </a:lnTo>
                  <a:lnTo>
                    <a:pt x="1456" y="1305"/>
                  </a:lnTo>
                  <a:lnTo>
                    <a:pt x="1462" y="1389"/>
                  </a:lnTo>
                  <a:lnTo>
                    <a:pt x="1466" y="1476"/>
                  </a:lnTo>
                  <a:lnTo>
                    <a:pt x="1469" y="1563"/>
                  </a:lnTo>
                  <a:lnTo>
                    <a:pt x="1470" y="1652"/>
                  </a:lnTo>
                  <a:lnTo>
                    <a:pt x="1469" y="1738"/>
                  </a:lnTo>
                  <a:lnTo>
                    <a:pt x="1466" y="1822"/>
                  </a:lnTo>
                  <a:lnTo>
                    <a:pt x="1462" y="1906"/>
                  </a:lnTo>
                  <a:lnTo>
                    <a:pt x="1456" y="1987"/>
                  </a:lnTo>
                  <a:lnTo>
                    <a:pt x="1448" y="2067"/>
                  </a:lnTo>
                  <a:lnTo>
                    <a:pt x="1437" y="2146"/>
                  </a:lnTo>
                  <a:lnTo>
                    <a:pt x="1426" y="2223"/>
                  </a:lnTo>
                  <a:lnTo>
                    <a:pt x="1413" y="2298"/>
                  </a:lnTo>
                  <a:lnTo>
                    <a:pt x="1399" y="2371"/>
                  </a:lnTo>
                  <a:lnTo>
                    <a:pt x="1382" y="2443"/>
                  </a:lnTo>
                  <a:lnTo>
                    <a:pt x="1365" y="2511"/>
                  </a:lnTo>
                  <a:lnTo>
                    <a:pt x="1347" y="2579"/>
                  </a:lnTo>
                  <a:lnTo>
                    <a:pt x="1326" y="2643"/>
                  </a:lnTo>
                  <a:lnTo>
                    <a:pt x="1305" y="2705"/>
                  </a:lnTo>
                  <a:lnTo>
                    <a:pt x="1281" y="2766"/>
                  </a:lnTo>
                  <a:lnTo>
                    <a:pt x="1258" y="2823"/>
                  </a:lnTo>
                  <a:lnTo>
                    <a:pt x="1232" y="2877"/>
                  </a:lnTo>
                  <a:lnTo>
                    <a:pt x="1205" y="2929"/>
                  </a:lnTo>
                  <a:lnTo>
                    <a:pt x="1178" y="2978"/>
                  </a:lnTo>
                  <a:lnTo>
                    <a:pt x="1149" y="3024"/>
                  </a:lnTo>
                  <a:lnTo>
                    <a:pt x="1120" y="3067"/>
                  </a:lnTo>
                  <a:lnTo>
                    <a:pt x="1089" y="3107"/>
                  </a:lnTo>
                  <a:lnTo>
                    <a:pt x="1056" y="3143"/>
                  </a:lnTo>
                  <a:lnTo>
                    <a:pt x="1025" y="3175"/>
                  </a:lnTo>
                  <a:lnTo>
                    <a:pt x="991" y="3205"/>
                  </a:lnTo>
                  <a:lnTo>
                    <a:pt x="956" y="3231"/>
                  </a:lnTo>
                  <a:lnTo>
                    <a:pt x="921" y="3253"/>
                  </a:lnTo>
                  <a:lnTo>
                    <a:pt x="885" y="3271"/>
                  </a:lnTo>
                  <a:lnTo>
                    <a:pt x="849" y="3286"/>
                  </a:lnTo>
                  <a:lnTo>
                    <a:pt x="811" y="3296"/>
                  </a:lnTo>
                  <a:lnTo>
                    <a:pt x="773" y="3303"/>
                  </a:lnTo>
                  <a:lnTo>
                    <a:pt x="734" y="3305"/>
                  </a:lnTo>
                  <a:lnTo>
                    <a:pt x="692" y="3303"/>
                  </a:lnTo>
                  <a:lnTo>
                    <a:pt x="651" y="3296"/>
                  </a:lnTo>
                  <a:lnTo>
                    <a:pt x="611" y="3286"/>
                  </a:lnTo>
                  <a:lnTo>
                    <a:pt x="571" y="3271"/>
                  </a:lnTo>
                  <a:lnTo>
                    <a:pt x="533" y="3253"/>
                  </a:lnTo>
                  <a:lnTo>
                    <a:pt x="496" y="3231"/>
                  </a:lnTo>
                  <a:lnTo>
                    <a:pt x="460" y="3205"/>
                  </a:lnTo>
                  <a:lnTo>
                    <a:pt x="426" y="3175"/>
                  </a:lnTo>
                  <a:lnTo>
                    <a:pt x="392" y="3143"/>
                  </a:lnTo>
                  <a:lnTo>
                    <a:pt x="360" y="3107"/>
                  </a:lnTo>
                  <a:lnTo>
                    <a:pt x="330" y="3067"/>
                  </a:lnTo>
                  <a:lnTo>
                    <a:pt x="300" y="3024"/>
                  </a:lnTo>
                  <a:lnTo>
                    <a:pt x="271" y="2978"/>
                  </a:lnTo>
                  <a:lnTo>
                    <a:pt x="245" y="2929"/>
                  </a:lnTo>
                  <a:lnTo>
                    <a:pt x="219" y="2877"/>
                  </a:lnTo>
                  <a:lnTo>
                    <a:pt x="195" y="2823"/>
                  </a:lnTo>
                  <a:lnTo>
                    <a:pt x="171" y="2766"/>
                  </a:lnTo>
                  <a:lnTo>
                    <a:pt x="150" y="2705"/>
                  </a:lnTo>
                  <a:lnTo>
                    <a:pt x="129" y="2643"/>
                  </a:lnTo>
                  <a:lnTo>
                    <a:pt x="111" y="2579"/>
                  </a:lnTo>
                  <a:lnTo>
                    <a:pt x="94" y="2511"/>
                  </a:lnTo>
                  <a:lnTo>
                    <a:pt x="77" y="2443"/>
                  </a:lnTo>
                  <a:lnTo>
                    <a:pt x="63" y="2371"/>
                  </a:lnTo>
                  <a:lnTo>
                    <a:pt x="50" y="2298"/>
                  </a:lnTo>
                  <a:lnTo>
                    <a:pt x="37" y="2223"/>
                  </a:lnTo>
                  <a:lnTo>
                    <a:pt x="28" y="2146"/>
                  </a:lnTo>
                  <a:lnTo>
                    <a:pt x="19" y="2067"/>
                  </a:lnTo>
                  <a:lnTo>
                    <a:pt x="12" y="1987"/>
                  </a:lnTo>
                  <a:lnTo>
                    <a:pt x="7" y="1906"/>
                  </a:lnTo>
                  <a:lnTo>
                    <a:pt x="3" y="1822"/>
                  </a:lnTo>
                  <a:lnTo>
                    <a:pt x="1" y="1738"/>
                  </a:lnTo>
                  <a:lnTo>
                    <a:pt x="0" y="1652"/>
                  </a:lnTo>
                  <a:lnTo>
                    <a:pt x="1" y="1563"/>
                  </a:lnTo>
                  <a:lnTo>
                    <a:pt x="3" y="1476"/>
                  </a:lnTo>
                  <a:lnTo>
                    <a:pt x="7" y="1389"/>
                  </a:lnTo>
                  <a:lnTo>
                    <a:pt x="12" y="1305"/>
                  </a:lnTo>
                  <a:lnTo>
                    <a:pt x="19" y="1222"/>
                  </a:lnTo>
                  <a:lnTo>
                    <a:pt x="28" y="1142"/>
                  </a:lnTo>
                  <a:lnTo>
                    <a:pt x="37" y="1064"/>
                  </a:lnTo>
                  <a:lnTo>
                    <a:pt x="50" y="988"/>
                  </a:lnTo>
                  <a:lnTo>
                    <a:pt x="63" y="914"/>
                  </a:lnTo>
                  <a:lnTo>
                    <a:pt x="77" y="843"/>
                  </a:lnTo>
                  <a:lnTo>
                    <a:pt x="94" y="773"/>
                  </a:lnTo>
                  <a:lnTo>
                    <a:pt x="111" y="707"/>
                  </a:lnTo>
                  <a:lnTo>
                    <a:pt x="129" y="642"/>
                  </a:lnTo>
                  <a:lnTo>
                    <a:pt x="150" y="580"/>
                  </a:lnTo>
                  <a:lnTo>
                    <a:pt x="171" y="522"/>
                  </a:lnTo>
                  <a:lnTo>
                    <a:pt x="195" y="465"/>
                  </a:lnTo>
                  <a:lnTo>
                    <a:pt x="219" y="412"/>
                  </a:lnTo>
                  <a:lnTo>
                    <a:pt x="245" y="362"/>
                  </a:lnTo>
                  <a:lnTo>
                    <a:pt x="271" y="314"/>
                  </a:lnTo>
                  <a:lnTo>
                    <a:pt x="300" y="270"/>
                  </a:lnTo>
                  <a:lnTo>
                    <a:pt x="330" y="228"/>
                  </a:lnTo>
                  <a:lnTo>
                    <a:pt x="360" y="190"/>
                  </a:lnTo>
                  <a:lnTo>
                    <a:pt x="392" y="154"/>
                  </a:lnTo>
                  <a:lnTo>
                    <a:pt x="426" y="124"/>
                  </a:lnTo>
                  <a:lnTo>
                    <a:pt x="460" y="95"/>
                  </a:lnTo>
                  <a:lnTo>
                    <a:pt x="496" y="70"/>
                  </a:lnTo>
                  <a:lnTo>
                    <a:pt x="533" y="49"/>
                  </a:lnTo>
                  <a:lnTo>
                    <a:pt x="571" y="32"/>
                  </a:lnTo>
                  <a:lnTo>
                    <a:pt x="611" y="18"/>
                  </a:lnTo>
                  <a:lnTo>
                    <a:pt x="651" y="8"/>
                  </a:lnTo>
                  <a:lnTo>
                    <a:pt x="692" y="2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329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08400" y="1787400"/>
              <a:ext cx="82440" cy="187560"/>
            </a:xfrm>
            <a:custGeom>
              <a:avLst/>
              <a:gdLst/>
              <a:ahLst/>
              <a:rect l="l" t="t" r="r" b="b"/>
              <a:pathLst>
                <a:path w="1470" h="3305">
                  <a:moveTo>
                    <a:pt x="734" y="0"/>
                  </a:moveTo>
                  <a:lnTo>
                    <a:pt x="773" y="2"/>
                  </a:lnTo>
                  <a:lnTo>
                    <a:pt x="811" y="8"/>
                  </a:lnTo>
                  <a:lnTo>
                    <a:pt x="849" y="18"/>
                  </a:lnTo>
                  <a:lnTo>
                    <a:pt x="885" y="32"/>
                  </a:lnTo>
                  <a:lnTo>
                    <a:pt x="921" y="49"/>
                  </a:lnTo>
                  <a:lnTo>
                    <a:pt x="956" y="70"/>
                  </a:lnTo>
                  <a:lnTo>
                    <a:pt x="991" y="95"/>
                  </a:lnTo>
                  <a:lnTo>
                    <a:pt x="1025" y="124"/>
                  </a:lnTo>
                  <a:lnTo>
                    <a:pt x="1056" y="154"/>
                  </a:lnTo>
                  <a:lnTo>
                    <a:pt x="1089" y="190"/>
                  </a:lnTo>
                  <a:lnTo>
                    <a:pt x="1120" y="228"/>
                  </a:lnTo>
                  <a:lnTo>
                    <a:pt x="1149" y="270"/>
                  </a:lnTo>
                  <a:lnTo>
                    <a:pt x="1178" y="314"/>
                  </a:lnTo>
                  <a:lnTo>
                    <a:pt x="1205" y="362"/>
                  </a:lnTo>
                  <a:lnTo>
                    <a:pt x="1232" y="412"/>
                  </a:lnTo>
                  <a:lnTo>
                    <a:pt x="1258" y="465"/>
                  </a:lnTo>
                  <a:lnTo>
                    <a:pt x="1281" y="522"/>
                  </a:lnTo>
                  <a:lnTo>
                    <a:pt x="1305" y="580"/>
                  </a:lnTo>
                  <a:lnTo>
                    <a:pt x="1326" y="642"/>
                  </a:lnTo>
                  <a:lnTo>
                    <a:pt x="1347" y="707"/>
                  </a:lnTo>
                  <a:lnTo>
                    <a:pt x="1365" y="773"/>
                  </a:lnTo>
                  <a:lnTo>
                    <a:pt x="1382" y="843"/>
                  </a:lnTo>
                  <a:lnTo>
                    <a:pt x="1399" y="914"/>
                  </a:lnTo>
                  <a:lnTo>
                    <a:pt x="1413" y="988"/>
                  </a:lnTo>
                  <a:lnTo>
                    <a:pt x="1426" y="1064"/>
                  </a:lnTo>
                  <a:lnTo>
                    <a:pt x="1437" y="1142"/>
                  </a:lnTo>
                  <a:lnTo>
                    <a:pt x="1448" y="1222"/>
                  </a:lnTo>
                  <a:lnTo>
                    <a:pt x="1456" y="1305"/>
                  </a:lnTo>
                  <a:lnTo>
                    <a:pt x="1462" y="1389"/>
                  </a:lnTo>
                  <a:lnTo>
                    <a:pt x="1466" y="1476"/>
                  </a:lnTo>
                  <a:lnTo>
                    <a:pt x="1469" y="1563"/>
                  </a:lnTo>
                  <a:lnTo>
                    <a:pt x="1470" y="1652"/>
                  </a:lnTo>
                  <a:lnTo>
                    <a:pt x="1469" y="1738"/>
                  </a:lnTo>
                  <a:lnTo>
                    <a:pt x="1466" y="1822"/>
                  </a:lnTo>
                  <a:lnTo>
                    <a:pt x="1462" y="1906"/>
                  </a:lnTo>
                  <a:lnTo>
                    <a:pt x="1456" y="1987"/>
                  </a:lnTo>
                  <a:lnTo>
                    <a:pt x="1448" y="2067"/>
                  </a:lnTo>
                  <a:lnTo>
                    <a:pt x="1437" y="2146"/>
                  </a:lnTo>
                  <a:lnTo>
                    <a:pt x="1426" y="2223"/>
                  </a:lnTo>
                  <a:lnTo>
                    <a:pt x="1413" y="2298"/>
                  </a:lnTo>
                  <a:lnTo>
                    <a:pt x="1399" y="2371"/>
                  </a:lnTo>
                  <a:lnTo>
                    <a:pt x="1382" y="2443"/>
                  </a:lnTo>
                  <a:lnTo>
                    <a:pt x="1365" y="2511"/>
                  </a:lnTo>
                  <a:lnTo>
                    <a:pt x="1347" y="2579"/>
                  </a:lnTo>
                  <a:lnTo>
                    <a:pt x="1326" y="2643"/>
                  </a:lnTo>
                  <a:lnTo>
                    <a:pt x="1305" y="2705"/>
                  </a:lnTo>
                  <a:lnTo>
                    <a:pt x="1281" y="2766"/>
                  </a:lnTo>
                  <a:lnTo>
                    <a:pt x="1258" y="2823"/>
                  </a:lnTo>
                  <a:lnTo>
                    <a:pt x="1232" y="2877"/>
                  </a:lnTo>
                  <a:lnTo>
                    <a:pt x="1205" y="2929"/>
                  </a:lnTo>
                  <a:lnTo>
                    <a:pt x="1178" y="2978"/>
                  </a:lnTo>
                  <a:lnTo>
                    <a:pt x="1149" y="3024"/>
                  </a:lnTo>
                  <a:lnTo>
                    <a:pt x="1120" y="3067"/>
                  </a:lnTo>
                  <a:lnTo>
                    <a:pt x="1089" y="3107"/>
                  </a:lnTo>
                  <a:lnTo>
                    <a:pt x="1056" y="3143"/>
                  </a:lnTo>
                  <a:lnTo>
                    <a:pt x="1025" y="3175"/>
                  </a:lnTo>
                  <a:lnTo>
                    <a:pt x="991" y="3205"/>
                  </a:lnTo>
                  <a:lnTo>
                    <a:pt x="956" y="3231"/>
                  </a:lnTo>
                  <a:lnTo>
                    <a:pt x="921" y="3253"/>
                  </a:lnTo>
                  <a:lnTo>
                    <a:pt x="885" y="3271"/>
                  </a:lnTo>
                  <a:lnTo>
                    <a:pt x="849" y="3286"/>
                  </a:lnTo>
                  <a:lnTo>
                    <a:pt x="811" y="3296"/>
                  </a:lnTo>
                  <a:lnTo>
                    <a:pt x="773" y="3303"/>
                  </a:lnTo>
                  <a:lnTo>
                    <a:pt x="734" y="3305"/>
                  </a:lnTo>
                  <a:lnTo>
                    <a:pt x="692" y="3303"/>
                  </a:lnTo>
                  <a:lnTo>
                    <a:pt x="651" y="3296"/>
                  </a:lnTo>
                  <a:lnTo>
                    <a:pt x="611" y="3286"/>
                  </a:lnTo>
                  <a:lnTo>
                    <a:pt x="571" y="3271"/>
                  </a:lnTo>
                  <a:lnTo>
                    <a:pt x="533" y="3253"/>
                  </a:lnTo>
                  <a:lnTo>
                    <a:pt x="496" y="3231"/>
                  </a:lnTo>
                  <a:lnTo>
                    <a:pt x="460" y="3205"/>
                  </a:lnTo>
                  <a:lnTo>
                    <a:pt x="426" y="3175"/>
                  </a:lnTo>
                  <a:lnTo>
                    <a:pt x="392" y="3143"/>
                  </a:lnTo>
                  <a:lnTo>
                    <a:pt x="360" y="3107"/>
                  </a:lnTo>
                  <a:lnTo>
                    <a:pt x="330" y="3067"/>
                  </a:lnTo>
                  <a:lnTo>
                    <a:pt x="300" y="3024"/>
                  </a:lnTo>
                  <a:lnTo>
                    <a:pt x="271" y="2978"/>
                  </a:lnTo>
                  <a:lnTo>
                    <a:pt x="245" y="2929"/>
                  </a:lnTo>
                  <a:lnTo>
                    <a:pt x="219" y="2877"/>
                  </a:lnTo>
                  <a:lnTo>
                    <a:pt x="195" y="2823"/>
                  </a:lnTo>
                  <a:lnTo>
                    <a:pt x="171" y="2766"/>
                  </a:lnTo>
                  <a:lnTo>
                    <a:pt x="150" y="2705"/>
                  </a:lnTo>
                  <a:lnTo>
                    <a:pt x="129" y="2643"/>
                  </a:lnTo>
                  <a:lnTo>
                    <a:pt x="111" y="2579"/>
                  </a:lnTo>
                  <a:lnTo>
                    <a:pt x="94" y="2511"/>
                  </a:lnTo>
                  <a:lnTo>
                    <a:pt x="77" y="2443"/>
                  </a:lnTo>
                  <a:lnTo>
                    <a:pt x="63" y="2371"/>
                  </a:lnTo>
                  <a:lnTo>
                    <a:pt x="50" y="2298"/>
                  </a:lnTo>
                  <a:lnTo>
                    <a:pt x="37" y="2223"/>
                  </a:lnTo>
                  <a:lnTo>
                    <a:pt x="28" y="2146"/>
                  </a:lnTo>
                  <a:lnTo>
                    <a:pt x="19" y="2067"/>
                  </a:lnTo>
                  <a:lnTo>
                    <a:pt x="12" y="1987"/>
                  </a:lnTo>
                  <a:lnTo>
                    <a:pt x="7" y="1906"/>
                  </a:lnTo>
                  <a:lnTo>
                    <a:pt x="3" y="1822"/>
                  </a:lnTo>
                  <a:lnTo>
                    <a:pt x="1" y="1738"/>
                  </a:lnTo>
                  <a:lnTo>
                    <a:pt x="0" y="1652"/>
                  </a:lnTo>
                  <a:lnTo>
                    <a:pt x="1" y="1563"/>
                  </a:lnTo>
                  <a:lnTo>
                    <a:pt x="3" y="1476"/>
                  </a:lnTo>
                  <a:lnTo>
                    <a:pt x="7" y="1389"/>
                  </a:lnTo>
                  <a:lnTo>
                    <a:pt x="12" y="1305"/>
                  </a:lnTo>
                  <a:lnTo>
                    <a:pt x="19" y="1222"/>
                  </a:lnTo>
                  <a:lnTo>
                    <a:pt x="28" y="1142"/>
                  </a:lnTo>
                  <a:lnTo>
                    <a:pt x="37" y="1064"/>
                  </a:lnTo>
                  <a:lnTo>
                    <a:pt x="50" y="988"/>
                  </a:lnTo>
                  <a:lnTo>
                    <a:pt x="63" y="914"/>
                  </a:lnTo>
                  <a:lnTo>
                    <a:pt x="77" y="843"/>
                  </a:lnTo>
                  <a:lnTo>
                    <a:pt x="94" y="773"/>
                  </a:lnTo>
                  <a:lnTo>
                    <a:pt x="111" y="707"/>
                  </a:lnTo>
                  <a:lnTo>
                    <a:pt x="129" y="642"/>
                  </a:lnTo>
                  <a:lnTo>
                    <a:pt x="150" y="580"/>
                  </a:lnTo>
                  <a:lnTo>
                    <a:pt x="171" y="522"/>
                  </a:lnTo>
                  <a:lnTo>
                    <a:pt x="195" y="465"/>
                  </a:lnTo>
                  <a:lnTo>
                    <a:pt x="219" y="412"/>
                  </a:lnTo>
                  <a:lnTo>
                    <a:pt x="245" y="362"/>
                  </a:lnTo>
                  <a:lnTo>
                    <a:pt x="271" y="314"/>
                  </a:lnTo>
                  <a:lnTo>
                    <a:pt x="300" y="270"/>
                  </a:lnTo>
                  <a:lnTo>
                    <a:pt x="330" y="228"/>
                  </a:lnTo>
                  <a:lnTo>
                    <a:pt x="360" y="190"/>
                  </a:lnTo>
                  <a:lnTo>
                    <a:pt x="392" y="154"/>
                  </a:lnTo>
                  <a:lnTo>
                    <a:pt x="426" y="124"/>
                  </a:lnTo>
                  <a:lnTo>
                    <a:pt x="460" y="95"/>
                  </a:lnTo>
                  <a:lnTo>
                    <a:pt x="496" y="70"/>
                  </a:lnTo>
                  <a:lnTo>
                    <a:pt x="533" y="49"/>
                  </a:lnTo>
                  <a:lnTo>
                    <a:pt x="571" y="32"/>
                  </a:lnTo>
                  <a:lnTo>
                    <a:pt x="611" y="18"/>
                  </a:lnTo>
                  <a:lnTo>
                    <a:pt x="651" y="8"/>
                  </a:lnTo>
                  <a:lnTo>
                    <a:pt x="692" y="2"/>
                  </a:lnTo>
                  <a:lnTo>
                    <a:pt x="734" y="0"/>
                  </a:lnTo>
                </a:path>
              </a:pathLst>
            </a:custGeom>
            <a:noFill/>
            <a:ln w="936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49440" y="1787400"/>
              <a:ext cx="561960" cy="187560"/>
            </a:xfrm>
            <a:prstGeom prst="rect">
              <a:avLst/>
            </a:prstGeom>
            <a:solidFill>
              <a:srgbClr val="329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49440" y="1517760"/>
              <a:ext cx="584280" cy="1440"/>
            </a:xfrm>
            <a:prstGeom prst="line">
              <a:avLst/>
            </a:prstGeom>
            <a:ln w="936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49440" y="1704960"/>
              <a:ext cx="584280" cy="1440"/>
            </a:xfrm>
            <a:prstGeom prst="line">
              <a:avLst/>
            </a:prstGeom>
            <a:ln w="936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49440" y="1787400"/>
              <a:ext cx="584280" cy="1800"/>
            </a:xfrm>
            <a:prstGeom prst="line">
              <a:avLst/>
            </a:prstGeom>
            <a:ln w="936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49440" y="1974960"/>
              <a:ext cx="584280" cy="1440"/>
            </a:xfrm>
            <a:prstGeom prst="line">
              <a:avLst/>
            </a:prstGeom>
            <a:ln w="936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81480" y="1598760"/>
              <a:ext cx="353880" cy="284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30680" y="1566720"/>
              <a:ext cx="150840" cy="90720"/>
            </a:xfrm>
            <a:custGeom>
              <a:avLst/>
              <a:gdLst/>
              <a:ahLst/>
              <a:rect l="l" t="t" r="r" b="b"/>
              <a:pathLst>
                <a:path w="2665" h="1606">
                  <a:moveTo>
                    <a:pt x="0" y="1606"/>
                  </a:moveTo>
                  <a:lnTo>
                    <a:pt x="2665" y="780"/>
                  </a:lnTo>
                  <a:lnTo>
                    <a:pt x="0" y="0"/>
                  </a:lnTo>
                  <a:lnTo>
                    <a:pt x="0" y="16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30680" y="1566720"/>
              <a:ext cx="150840" cy="90720"/>
            </a:xfrm>
            <a:custGeom>
              <a:avLst/>
              <a:gdLst/>
              <a:ahLst/>
              <a:rect l="l" t="t" r="r" b="b"/>
              <a:pathLst>
                <a:path w="2665" h="1606">
                  <a:moveTo>
                    <a:pt x="0" y="1606"/>
                  </a:moveTo>
                  <a:lnTo>
                    <a:pt x="2665" y="780"/>
                  </a:lnTo>
                  <a:lnTo>
                    <a:pt x="0" y="0"/>
                  </a:lnTo>
                  <a:lnTo>
                    <a:pt x="0" y="1606"/>
                  </a:lnTo>
                  <a:close/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27280" y="1881000"/>
              <a:ext cx="354240" cy="288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482920" y="1847880"/>
              <a:ext cx="150840" cy="90360"/>
            </a:xfrm>
            <a:custGeom>
              <a:avLst/>
              <a:gdLst/>
              <a:ahLst/>
              <a:rect l="l" t="t" r="r" b="b"/>
              <a:pathLst>
                <a:path w="2666" h="1607">
                  <a:moveTo>
                    <a:pt x="2666" y="0"/>
                  </a:moveTo>
                  <a:lnTo>
                    <a:pt x="0" y="826"/>
                  </a:lnTo>
                  <a:lnTo>
                    <a:pt x="2666" y="1607"/>
                  </a:lnTo>
                  <a:lnTo>
                    <a:pt x="266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24040" y="1878120"/>
              <a:ext cx="354240" cy="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78240" y="1844640"/>
              <a:ext cx="150840" cy="92160"/>
            </a:xfrm>
            <a:custGeom>
              <a:avLst/>
              <a:gdLst/>
              <a:ahLst/>
              <a:rect l="l" t="t" r="r" b="b"/>
              <a:pathLst>
                <a:path w="2667" h="1607">
                  <a:moveTo>
                    <a:pt x="2667" y="0"/>
                  </a:moveTo>
                  <a:lnTo>
                    <a:pt x="0" y="826"/>
                  </a:lnTo>
                  <a:lnTo>
                    <a:pt x="2667" y="1607"/>
                  </a:lnTo>
                  <a:lnTo>
                    <a:pt x="26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78240" y="1595520"/>
              <a:ext cx="353880" cy="2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27440" y="1563840"/>
              <a:ext cx="150840" cy="91800"/>
            </a:xfrm>
            <a:custGeom>
              <a:avLst/>
              <a:gdLst/>
              <a:ahLst/>
              <a:rect l="l" t="t" r="r" b="b"/>
              <a:pathLst>
                <a:path w="2665" h="1607">
                  <a:moveTo>
                    <a:pt x="0" y="1607"/>
                  </a:moveTo>
                  <a:lnTo>
                    <a:pt x="2665" y="781"/>
                  </a:lnTo>
                  <a:lnTo>
                    <a:pt x="0" y="0"/>
                  </a:lnTo>
                  <a:lnTo>
                    <a:pt x="0" y="16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49440" y="1531800"/>
              <a:ext cx="584280" cy="20880"/>
            </a:xfrm>
            <a:prstGeom prst="rect">
              <a:avLst/>
            </a:pr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49440" y="1801800"/>
              <a:ext cx="584280" cy="20520"/>
            </a:xfrm>
            <a:prstGeom prst="rect">
              <a:avLst/>
            </a:pr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11400" y="1309680"/>
              <a:ext cx="230400" cy="831960"/>
            </a:xfrm>
            <a:custGeom>
              <a:avLst/>
              <a:gdLst/>
              <a:ahLst/>
              <a:rect l="l" t="t" r="r" b="b"/>
              <a:pathLst>
                <a:path w="4044" h="14686">
                  <a:moveTo>
                    <a:pt x="0" y="1836"/>
                  </a:moveTo>
                  <a:lnTo>
                    <a:pt x="4044" y="0"/>
                  </a:lnTo>
                  <a:lnTo>
                    <a:pt x="4044" y="12850"/>
                  </a:lnTo>
                  <a:lnTo>
                    <a:pt x="0" y="14686"/>
                  </a:lnTo>
                  <a:lnTo>
                    <a:pt x="0" y="1836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11400" y="1309680"/>
              <a:ext cx="230400" cy="831960"/>
            </a:xfrm>
            <a:custGeom>
              <a:avLst/>
              <a:gdLst/>
              <a:ahLst/>
              <a:rect l="l" t="t" r="r" b="b"/>
              <a:pathLst>
                <a:path w="4044" h="14686">
                  <a:moveTo>
                    <a:pt x="0" y="1836"/>
                  </a:moveTo>
                  <a:lnTo>
                    <a:pt x="4044" y="0"/>
                  </a:lnTo>
                  <a:lnTo>
                    <a:pt x="4044" y="12850"/>
                  </a:lnTo>
                  <a:lnTo>
                    <a:pt x="0" y="14686"/>
                  </a:lnTo>
                  <a:lnTo>
                    <a:pt x="0" y="1836"/>
                  </a:lnTo>
                  <a:close/>
                </a:path>
              </a:pathLst>
            </a:custGeom>
            <a:noFill/>
            <a:ln w="936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95640" y="1517760"/>
              <a:ext cx="84240" cy="187200"/>
            </a:xfrm>
            <a:custGeom>
              <a:avLst/>
              <a:gdLst/>
              <a:ahLst/>
              <a:rect l="l" t="t" r="r" b="b"/>
              <a:pathLst>
                <a:path w="1470" h="3305">
                  <a:moveTo>
                    <a:pt x="735" y="0"/>
                  </a:moveTo>
                  <a:lnTo>
                    <a:pt x="773" y="2"/>
                  </a:lnTo>
                  <a:lnTo>
                    <a:pt x="811" y="9"/>
                  </a:lnTo>
                  <a:lnTo>
                    <a:pt x="849" y="19"/>
                  </a:lnTo>
                  <a:lnTo>
                    <a:pt x="885" y="32"/>
                  </a:lnTo>
                  <a:lnTo>
                    <a:pt x="922" y="49"/>
                  </a:lnTo>
                  <a:lnTo>
                    <a:pt x="956" y="71"/>
                  </a:lnTo>
                  <a:lnTo>
                    <a:pt x="991" y="95"/>
                  </a:lnTo>
                  <a:lnTo>
                    <a:pt x="1025" y="123"/>
                  </a:lnTo>
                  <a:lnTo>
                    <a:pt x="1056" y="155"/>
                  </a:lnTo>
                  <a:lnTo>
                    <a:pt x="1089" y="189"/>
                  </a:lnTo>
                  <a:lnTo>
                    <a:pt x="1120" y="228"/>
                  </a:lnTo>
                  <a:lnTo>
                    <a:pt x="1149" y="269"/>
                  </a:lnTo>
                  <a:lnTo>
                    <a:pt x="1178" y="314"/>
                  </a:lnTo>
                  <a:lnTo>
                    <a:pt x="1206" y="361"/>
                  </a:lnTo>
                  <a:lnTo>
                    <a:pt x="1232" y="412"/>
                  </a:lnTo>
                  <a:lnTo>
                    <a:pt x="1258" y="465"/>
                  </a:lnTo>
                  <a:lnTo>
                    <a:pt x="1282" y="521"/>
                  </a:lnTo>
                  <a:lnTo>
                    <a:pt x="1305" y="580"/>
                  </a:lnTo>
                  <a:lnTo>
                    <a:pt x="1326" y="643"/>
                  </a:lnTo>
                  <a:lnTo>
                    <a:pt x="1347" y="706"/>
                  </a:lnTo>
                  <a:lnTo>
                    <a:pt x="1365" y="774"/>
                  </a:lnTo>
                  <a:lnTo>
                    <a:pt x="1384" y="843"/>
                  </a:lnTo>
                  <a:lnTo>
                    <a:pt x="1399" y="914"/>
                  </a:lnTo>
                  <a:lnTo>
                    <a:pt x="1413" y="988"/>
                  </a:lnTo>
                  <a:lnTo>
                    <a:pt x="1426" y="1065"/>
                  </a:lnTo>
                  <a:lnTo>
                    <a:pt x="1438" y="1142"/>
                  </a:lnTo>
                  <a:lnTo>
                    <a:pt x="1448" y="1223"/>
                  </a:lnTo>
                  <a:lnTo>
                    <a:pt x="1456" y="1306"/>
                  </a:lnTo>
                  <a:lnTo>
                    <a:pt x="1462" y="1389"/>
                  </a:lnTo>
                  <a:lnTo>
                    <a:pt x="1466" y="1475"/>
                  </a:lnTo>
                  <a:lnTo>
                    <a:pt x="1469" y="1563"/>
                  </a:lnTo>
                  <a:lnTo>
                    <a:pt x="1470" y="1653"/>
                  </a:lnTo>
                  <a:lnTo>
                    <a:pt x="1469" y="1739"/>
                  </a:lnTo>
                  <a:lnTo>
                    <a:pt x="1466" y="1822"/>
                  </a:lnTo>
                  <a:lnTo>
                    <a:pt x="1462" y="1906"/>
                  </a:lnTo>
                  <a:lnTo>
                    <a:pt x="1456" y="1987"/>
                  </a:lnTo>
                  <a:lnTo>
                    <a:pt x="1448" y="2068"/>
                  </a:lnTo>
                  <a:lnTo>
                    <a:pt x="1438" y="2146"/>
                  </a:lnTo>
                  <a:lnTo>
                    <a:pt x="1426" y="2223"/>
                  </a:lnTo>
                  <a:lnTo>
                    <a:pt x="1413" y="2298"/>
                  </a:lnTo>
                  <a:lnTo>
                    <a:pt x="1399" y="2372"/>
                  </a:lnTo>
                  <a:lnTo>
                    <a:pt x="1384" y="2442"/>
                  </a:lnTo>
                  <a:lnTo>
                    <a:pt x="1365" y="2512"/>
                  </a:lnTo>
                  <a:lnTo>
                    <a:pt x="1347" y="2579"/>
                  </a:lnTo>
                  <a:lnTo>
                    <a:pt x="1326" y="2644"/>
                  </a:lnTo>
                  <a:lnTo>
                    <a:pt x="1305" y="2706"/>
                  </a:lnTo>
                  <a:lnTo>
                    <a:pt x="1282" y="2766"/>
                  </a:lnTo>
                  <a:lnTo>
                    <a:pt x="1258" y="2823"/>
                  </a:lnTo>
                  <a:lnTo>
                    <a:pt x="1232" y="2877"/>
                  </a:lnTo>
                  <a:lnTo>
                    <a:pt x="1206" y="2930"/>
                  </a:lnTo>
                  <a:lnTo>
                    <a:pt x="1178" y="2979"/>
                  </a:lnTo>
                  <a:lnTo>
                    <a:pt x="1149" y="3024"/>
                  </a:lnTo>
                  <a:lnTo>
                    <a:pt x="1120" y="3067"/>
                  </a:lnTo>
                  <a:lnTo>
                    <a:pt x="1089" y="3106"/>
                  </a:lnTo>
                  <a:lnTo>
                    <a:pt x="1056" y="3143"/>
                  </a:lnTo>
                  <a:lnTo>
                    <a:pt x="1025" y="3176"/>
                  </a:lnTo>
                  <a:lnTo>
                    <a:pt x="991" y="3205"/>
                  </a:lnTo>
                  <a:lnTo>
                    <a:pt x="956" y="3231"/>
                  </a:lnTo>
                  <a:lnTo>
                    <a:pt x="922" y="3253"/>
                  </a:lnTo>
                  <a:lnTo>
                    <a:pt x="885" y="3272"/>
                  </a:lnTo>
                  <a:lnTo>
                    <a:pt x="849" y="3286"/>
                  </a:lnTo>
                  <a:lnTo>
                    <a:pt x="811" y="3296"/>
                  </a:lnTo>
                  <a:lnTo>
                    <a:pt x="773" y="3302"/>
                  </a:lnTo>
                  <a:lnTo>
                    <a:pt x="735" y="3305"/>
                  </a:lnTo>
                  <a:lnTo>
                    <a:pt x="693" y="3302"/>
                  </a:lnTo>
                  <a:lnTo>
                    <a:pt x="651" y="3296"/>
                  </a:lnTo>
                  <a:lnTo>
                    <a:pt x="611" y="3286"/>
                  </a:lnTo>
                  <a:lnTo>
                    <a:pt x="571" y="3272"/>
                  </a:lnTo>
                  <a:lnTo>
                    <a:pt x="533" y="3253"/>
                  </a:lnTo>
                  <a:lnTo>
                    <a:pt x="496" y="3231"/>
                  </a:lnTo>
                  <a:lnTo>
                    <a:pt x="461" y="3205"/>
                  </a:lnTo>
                  <a:lnTo>
                    <a:pt x="426" y="3176"/>
                  </a:lnTo>
                  <a:lnTo>
                    <a:pt x="393" y="3143"/>
                  </a:lnTo>
                  <a:lnTo>
                    <a:pt x="361" y="3106"/>
                  </a:lnTo>
                  <a:lnTo>
                    <a:pt x="330" y="3067"/>
                  </a:lnTo>
                  <a:lnTo>
                    <a:pt x="300" y="3024"/>
                  </a:lnTo>
                  <a:lnTo>
                    <a:pt x="272" y="2979"/>
                  </a:lnTo>
                  <a:lnTo>
                    <a:pt x="245" y="2930"/>
                  </a:lnTo>
                  <a:lnTo>
                    <a:pt x="219" y="2877"/>
                  </a:lnTo>
                  <a:lnTo>
                    <a:pt x="195" y="2823"/>
                  </a:lnTo>
                  <a:lnTo>
                    <a:pt x="171" y="2766"/>
                  </a:lnTo>
                  <a:lnTo>
                    <a:pt x="150" y="2706"/>
                  </a:lnTo>
                  <a:lnTo>
                    <a:pt x="130" y="2644"/>
                  </a:lnTo>
                  <a:lnTo>
                    <a:pt x="111" y="2579"/>
                  </a:lnTo>
                  <a:lnTo>
                    <a:pt x="94" y="2512"/>
                  </a:lnTo>
                  <a:lnTo>
                    <a:pt x="77" y="2442"/>
                  </a:lnTo>
                  <a:lnTo>
                    <a:pt x="63" y="2372"/>
                  </a:lnTo>
                  <a:lnTo>
                    <a:pt x="50" y="2298"/>
                  </a:lnTo>
                  <a:lnTo>
                    <a:pt x="38" y="2223"/>
                  </a:lnTo>
                  <a:lnTo>
                    <a:pt x="28" y="2146"/>
                  </a:lnTo>
                  <a:lnTo>
                    <a:pt x="19" y="2068"/>
                  </a:lnTo>
                  <a:lnTo>
                    <a:pt x="12" y="1987"/>
                  </a:lnTo>
                  <a:lnTo>
                    <a:pt x="7" y="1906"/>
                  </a:lnTo>
                  <a:lnTo>
                    <a:pt x="3" y="1822"/>
                  </a:lnTo>
                  <a:lnTo>
                    <a:pt x="1" y="1739"/>
                  </a:lnTo>
                  <a:lnTo>
                    <a:pt x="0" y="1653"/>
                  </a:lnTo>
                  <a:lnTo>
                    <a:pt x="1" y="1563"/>
                  </a:lnTo>
                  <a:lnTo>
                    <a:pt x="3" y="1475"/>
                  </a:lnTo>
                  <a:lnTo>
                    <a:pt x="7" y="1389"/>
                  </a:lnTo>
                  <a:lnTo>
                    <a:pt x="12" y="1306"/>
                  </a:lnTo>
                  <a:lnTo>
                    <a:pt x="19" y="1223"/>
                  </a:lnTo>
                  <a:lnTo>
                    <a:pt x="28" y="1142"/>
                  </a:lnTo>
                  <a:lnTo>
                    <a:pt x="38" y="1065"/>
                  </a:lnTo>
                  <a:lnTo>
                    <a:pt x="50" y="988"/>
                  </a:lnTo>
                  <a:lnTo>
                    <a:pt x="63" y="914"/>
                  </a:lnTo>
                  <a:lnTo>
                    <a:pt x="77" y="843"/>
                  </a:lnTo>
                  <a:lnTo>
                    <a:pt x="94" y="774"/>
                  </a:lnTo>
                  <a:lnTo>
                    <a:pt x="111" y="706"/>
                  </a:lnTo>
                  <a:lnTo>
                    <a:pt x="130" y="643"/>
                  </a:lnTo>
                  <a:lnTo>
                    <a:pt x="150" y="580"/>
                  </a:lnTo>
                  <a:lnTo>
                    <a:pt x="171" y="521"/>
                  </a:lnTo>
                  <a:lnTo>
                    <a:pt x="195" y="465"/>
                  </a:lnTo>
                  <a:lnTo>
                    <a:pt x="219" y="412"/>
                  </a:lnTo>
                  <a:lnTo>
                    <a:pt x="245" y="361"/>
                  </a:lnTo>
                  <a:lnTo>
                    <a:pt x="272" y="314"/>
                  </a:lnTo>
                  <a:lnTo>
                    <a:pt x="300" y="269"/>
                  </a:lnTo>
                  <a:lnTo>
                    <a:pt x="330" y="228"/>
                  </a:lnTo>
                  <a:lnTo>
                    <a:pt x="361" y="189"/>
                  </a:lnTo>
                  <a:lnTo>
                    <a:pt x="393" y="155"/>
                  </a:lnTo>
                  <a:lnTo>
                    <a:pt x="426" y="123"/>
                  </a:lnTo>
                  <a:lnTo>
                    <a:pt x="461" y="95"/>
                  </a:lnTo>
                  <a:lnTo>
                    <a:pt x="496" y="71"/>
                  </a:lnTo>
                  <a:lnTo>
                    <a:pt x="533" y="49"/>
                  </a:lnTo>
                  <a:lnTo>
                    <a:pt x="571" y="32"/>
                  </a:lnTo>
                  <a:lnTo>
                    <a:pt x="611" y="19"/>
                  </a:lnTo>
                  <a:lnTo>
                    <a:pt x="651" y="9"/>
                  </a:lnTo>
                  <a:lnTo>
                    <a:pt x="693" y="2"/>
                  </a:lnTo>
                  <a:lnTo>
                    <a:pt x="73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95640" y="1517760"/>
              <a:ext cx="84240" cy="187200"/>
            </a:xfrm>
            <a:custGeom>
              <a:avLst/>
              <a:gdLst/>
              <a:ahLst/>
              <a:rect l="l" t="t" r="r" b="b"/>
              <a:pathLst>
                <a:path w="1470" h="3305">
                  <a:moveTo>
                    <a:pt x="735" y="0"/>
                  </a:moveTo>
                  <a:lnTo>
                    <a:pt x="773" y="2"/>
                  </a:lnTo>
                  <a:lnTo>
                    <a:pt x="811" y="9"/>
                  </a:lnTo>
                  <a:lnTo>
                    <a:pt x="849" y="19"/>
                  </a:lnTo>
                  <a:lnTo>
                    <a:pt x="885" y="32"/>
                  </a:lnTo>
                  <a:lnTo>
                    <a:pt x="922" y="49"/>
                  </a:lnTo>
                  <a:lnTo>
                    <a:pt x="956" y="71"/>
                  </a:lnTo>
                  <a:lnTo>
                    <a:pt x="991" y="95"/>
                  </a:lnTo>
                  <a:lnTo>
                    <a:pt x="1025" y="123"/>
                  </a:lnTo>
                  <a:lnTo>
                    <a:pt x="1056" y="155"/>
                  </a:lnTo>
                  <a:lnTo>
                    <a:pt x="1089" y="189"/>
                  </a:lnTo>
                  <a:lnTo>
                    <a:pt x="1120" y="228"/>
                  </a:lnTo>
                  <a:lnTo>
                    <a:pt x="1149" y="269"/>
                  </a:lnTo>
                  <a:lnTo>
                    <a:pt x="1178" y="314"/>
                  </a:lnTo>
                  <a:lnTo>
                    <a:pt x="1206" y="361"/>
                  </a:lnTo>
                  <a:lnTo>
                    <a:pt x="1232" y="412"/>
                  </a:lnTo>
                  <a:lnTo>
                    <a:pt x="1258" y="465"/>
                  </a:lnTo>
                  <a:lnTo>
                    <a:pt x="1282" y="521"/>
                  </a:lnTo>
                  <a:lnTo>
                    <a:pt x="1305" y="580"/>
                  </a:lnTo>
                  <a:lnTo>
                    <a:pt x="1326" y="643"/>
                  </a:lnTo>
                  <a:lnTo>
                    <a:pt x="1347" y="706"/>
                  </a:lnTo>
                  <a:lnTo>
                    <a:pt x="1365" y="774"/>
                  </a:lnTo>
                  <a:lnTo>
                    <a:pt x="1384" y="843"/>
                  </a:lnTo>
                  <a:lnTo>
                    <a:pt x="1399" y="914"/>
                  </a:lnTo>
                  <a:lnTo>
                    <a:pt x="1413" y="988"/>
                  </a:lnTo>
                  <a:lnTo>
                    <a:pt x="1426" y="1065"/>
                  </a:lnTo>
                  <a:lnTo>
                    <a:pt x="1438" y="1142"/>
                  </a:lnTo>
                  <a:lnTo>
                    <a:pt x="1448" y="1223"/>
                  </a:lnTo>
                  <a:lnTo>
                    <a:pt x="1456" y="1306"/>
                  </a:lnTo>
                  <a:lnTo>
                    <a:pt x="1462" y="1389"/>
                  </a:lnTo>
                  <a:lnTo>
                    <a:pt x="1466" y="1475"/>
                  </a:lnTo>
                  <a:lnTo>
                    <a:pt x="1469" y="1563"/>
                  </a:lnTo>
                  <a:lnTo>
                    <a:pt x="1470" y="1653"/>
                  </a:lnTo>
                  <a:lnTo>
                    <a:pt x="1469" y="1739"/>
                  </a:lnTo>
                  <a:lnTo>
                    <a:pt x="1466" y="1822"/>
                  </a:lnTo>
                  <a:lnTo>
                    <a:pt x="1462" y="1906"/>
                  </a:lnTo>
                  <a:lnTo>
                    <a:pt x="1456" y="1987"/>
                  </a:lnTo>
                  <a:lnTo>
                    <a:pt x="1448" y="2068"/>
                  </a:lnTo>
                  <a:lnTo>
                    <a:pt x="1438" y="2146"/>
                  </a:lnTo>
                  <a:lnTo>
                    <a:pt x="1426" y="2223"/>
                  </a:lnTo>
                  <a:lnTo>
                    <a:pt x="1413" y="2298"/>
                  </a:lnTo>
                  <a:lnTo>
                    <a:pt x="1399" y="2372"/>
                  </a:lnTo>
                  <a:lnTo>
                    <a:pt x="1384" y="2442"/>
                  </a:lnTo>
                  <a:lnTo>
                    <a:pt x="1365" y="2512"/>
                  </a:lnTo>
                  <a:lnTo>
                    <a:pt x="1347" y="2579"/>
                  </a:lnTo>
                  <a:lnTo>
                    <a:pt x="1326" y="2644"/>
                  </a:lnTo>
                  <a:lnTo>
                    <a:pt x="1305" y="2706"/>
                  </a:lnTo>
                  <a:lnTo>
                    <a:pt x="1282" y="2766"/>
                  </a:lnTo>
                  <a:lnTo>
                    <a:pt x="1258" y="2823"/>
                  </a:lnTo>
                  <a:lnTo>
                    <a:pt x="1232" y="2877"/>
                  </a:lnTo>
                  <a:lnTo>
                    <a:pt x="1206" y="2930"/>
                  </a:lnTo>
                  <a:lnTo>
                    <a:pt x="1178" y="2979"/>
                  </a:lnTo>
                  <a:lnTo>
                    <a:pt x="1149" y="3024"/>
                  </a:lnTo>
                  <a:lnTo>
                    <a:pt x="1120" y="3067"/>
                  </a:lnTo>
                  <a:lnTo>
                    <a:pt x="1089" y="3106"/>
                  </a:lnTo>
                  <a:lnTo>
                    <a:pt x="1056" y="3143"/>
                  </a:lnTo>
                  <a:lnTo>
                    <a:pt x="1025" y="3176"/>
                  </a:lnTo>
                  <a:lnTo>
                    <a:pt x="991" y="3205"/>
                  </a:lnTo>
                  <a:lnTo>
                    <a:pt x="956" y="3231"/>
                  </a:lnTo>
                  <a:lnTo>
                    <a:pt x="922" y="3253"/>
                  </a:lnTo>
                  <a:lnTo>
                    <a:pt x="885" y="3272"/>
                  </a:lnTo>
                  <a:lnTo>
                    <a:pt x="849" y="3286"/>
                  </a:lnTo>
                  <a:lnTo>
                    <a:pt x="811" y="3296"/>
                  </a:lnTo>
                  <a:lnTo>
                    <a:pt x="773" y="3302"/>
                  </a:lnTo>
                  <a:lnTo>
                    <a:pt x="735" y="3305"/>
                  </a:lnTo>
                  <a:lnTo>
                    <a:pt x="693" y="3302"/>
                  </a:lnTo>
                  <a:lnTo>
                    <a:pt x="651" y="3296"/>
                  </a:lnTo>
                  <a:lnTo>
                    <a:pt x="611" y="3286"/>
                  </a:lnTo>
                  <a:lnTo>
                    <a:pt x="571" y="3272"/>
                  </a:lnTo>
                  <a:lnTo>
                    <a:pt x="533" y="3253"/>
                  </a:lnTo>
                  <a:lnTo>
                    <a:pt x="496" y="3231"/>
                  </a:lnTo>
                  <a:lnTo>
                    <a:pt x="461" y="3205"/>
                  </a:lnTo>
                  <a:lnTo>
                    <a:pt x="426" y="3176"/>
                  </a:lnTo>
                  <a:lnTo>
                    <a:pt x="393" y="3143"/>
                  </a:lnTo>
                  <a:lnTo>
                    <a:pt x="361" y="3106"/>
                  </a:lnTo>
                  <a:lnTo>
                    <a:pt x="330" y="3067"/>
                  </a:lnTo>
                  <a:lnTo>
                    <a:pt x="300" y="3024"/>
                  </a:lnTo>
                  <a:lnTo>
                    <a:pt x="272" y="2979"/>
                  </a:lnTo>
                  <a:lnTo>
                    <a:pt x="245" y="2930"/>
                  </a:lnTo>
                  <a:lnTo>
                    <a:pt x="219" y="2877"/>
                  </a:lnTo>
                  <a:lnTo>
                    <a:pt x="195" y="2823"/>
                  </a:lnTo>
                  <a:lnTo>
                    <a:pt x="171" y="2766"/>
                  </a:lnTo>
                  <a:lnTo>
                    <a:pt x="150" y="2706"/>
                  </a:lnTo>
                  <a:lnTo>
                    <a:pt x="130" y="2644"/>
                  </a:lnTo>
                  <a:lnTo>
                    <a:pt x="111" y="2579"/>
                  </a:lnTo>
                  <a:lnTo>
                    <a:pt x="94" y="2512"/>
                  </a:lnTo>
                  <a:lnTo>
                    <a:pt x="77" y="2442"/>
                  </a:lnTo>
                  <a:lnTo>
                    <a:pt x="63" y="2372"/>
                  </a:lnTo>
                  <a:lnTo>
                    <a:pt x="50" y="2298"/>
                  </a:lnTo>
                  <a:lnTo>
                    <a:pt x="38" y="2223"/>
                  </a:lnTo>
                  <a:lnTo>
                    <a:pt x="28" y="2146"/>
                  </a:lnTo>
                  <a:lnTo>
                    <a:pt x="19" y="2068"/>
                  </a:lnTo>
                  <a:lnTo>
                    <a:pt x="12" y="1987"/>
                  </a:lnTo>
                  <a:lnTo>
                    <a:pt x="7" y="1906"/>
                  </a:lnTo>
                  <a:lnTo>
                    <a:pt x="3" y="1822"/>
                  </a:lnTo>
                  <a:lnTo>
                    <a:pt x="1" y="1739"/>
                  </a:lnTo>
                  <a:lnTo>
                    <a:pt x="0" y="1653"/>
                  </a:lnTo>
                  <a:lnTo>
                    <a:pt x="1" y="1563"/>
                  </a:lnTo>
                  <a:lnTo>
                    <a:pt x="3" y="1475"/>
                  </a:lnTo>
                  <a:lnTo>
                    <a:pt x="7" y="1389"/>
                  </a:lnTo>
                  <a:lnTo>
                    <a:pt x="12" y="1306"/>
                  </a:lnTo>
                  <a:lnTo>
                    <a:pt x="19" y="1223"/>
                  </a:lnTo>
                  <a:lnTo>
                    <a:pt x="28" y="1142"/>
                  </a:lnTo>
                  <a:lnTo>
                    <a:pt x="38" y="1065"/>
                  </a:lnTo>
                  <a:lnTo>
                    <a:pt x="50" y="988"/>
                  </a:lnTo>
                  <a:lnTo>
                    <a:pt x="63" y="914"/>
                  </a:lnTo>
                  <a:lnTo>
                    <a:pt x="77" y="843"/>
                  </a:lnTo>
                  <a:lnTo>
                    <a:pt x="94" y="774"/>
                  </a:lnTo>
                  <a:lnTo>
                    <a:pt x="111" y="706"/>
                  </a:lnTo>
                  <a:lnTo>
                    <a:pt x="130" y="643"/>
                  </a:lnTo>
                  <a:lnTo>
                    <a:pt x="150" y="580"/>
                  </a:lnTo>
                  <a:lnTo>
                    <a:pt x="171" y="521"/>
                  </a:lnTo>
                  <a:lnTo>
                    <a:pt x="195" y="465"/>
                  </a:lnTo>
                  <a:lnTo>
                    <a:pt x="219" y="412"/>
                  </a:lnTo>
                  <a:lnTo>
                    <a:pt x="245" y="361"/>
                  </a:lnTo>
                  <a:lnTo>
                    <a:pt x="272" y="314"/>
                  </a:lnTo>
                  <a:lnTo>
                    <a:pt x="300" y="269"/>
                  </a:lnTo>
                  <a:lnTo>
                    <a:pt x="330" y="228"/>
                  </a:lnTo>
                  <a:lnTo>
                    <a:pt x="361" y="189"/>
                  </a:lnTo>
                  <a:lnTo>
                    <a:pt x="393" y="155"/>
                  </a:lnTo>
                  <a:lnTo>
                    <a:pt x="426" y="123"/>
                  </a:lnTo>
                  <a:lnTo>
                    <a:pt x="461" y="95"/>
                  </a:lnTo>
                  <a:lnTo>
                    <a:pt x="496" y="71"/>
                  </a:lnTo>
                  <a:lnTo>
                    <a:pt x="533" y="49"/>
                  </a:lnTo>
                  <a:lnTo>
                    <a:pt x="571" y="32"/>
                  </a:lnTo>
                  <a:lnTo>
                    <a:pt x="611" y="19"/>
                  </a:lnTo>
                  <a:lnTo>
                    <a:pt x="651" y="9"/>
                  </a:lnTo>
                  <a:lnTo>
                    <a:pt x="693" y="2"/>
                  </a:lnTo>
                  <a:lnTo>
                    <a:pt x="735" y="0"/>
                  </a:lnTo>
                </a:path>
              </a:pathLst>
            </a:custGeom>
            <a:noFill/>
            <a:ln w="936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095640" y="1787400"/>
              <a:ext cx="84240" cy="187560"/>
            </a:xfrm>
            <a:custGeom>
              <a:avLst/>
              <a:gdLst/>
              <a:ahLst/>
              <a:rect l="l" t="t" r="r" b="b"/>
              <a:pathLst>
                <a:path w="1470" h="3305">
                  <a:moveTo>
                    <a:pt x="735" y="0"/>
                  </a:moveTo>
                  <a:lnTo>
                    <a:pt x="773" y="2"/>
                  </a:lnTo>
                  <a:lnTo>
                    <a:pt x="811" y="8"/>
                  </a:lnTo>
                  <a:lnTo>
                    <a:pt x="849" y="18"/>
                  </a:lnTo>
                  <a:lnTo>
                    <a:pt x="885" y="32"/>
                  </a:lnTo>
                  <a:lnTo>
                    <a:pt x="922" y="49"/>
                  </a:lnTo>
                  <a:lnTo>
                    <a:pt x="956" y="70"/>
                  </a:lnTo>
                  <a:lnTo>
                    <a:pt x="991" y="95"/>
                  </a:lnTo>
                  <a:lnTo>
                    <a:pt x="1025" y="124"/>
                  </a:lnTo>
                  <a:lnTo>
                    <a:pt x="1056" y="154"/>
                  </a:lnTo>
                  <a:lnTo>
                    <a:pt x="1089" y="190"/>
                  </a:lnTo>
                  <a:lnTo>
                    <a:pt x="1120" y="228"/>
                  </a:lnTo>
                  <a:lnTo>
                    <a:pt x="1149" y="270"/>
                  </a:lnTo>
                  <a:lnTo>
                    <a:pt x="1178" y="314"/>
                  </a:lnTo>
                  <a:lnTo>
                    <a:pt x="1206" y="362"/>
                  </a:lnTo>
                  <a:lnTo>
                    <a:pt x="1232" y="412"/>
                  </a:lnTo>
                  <a:lnTo>
                    <a:pt x="1258" y="465"/>
                  </a:lnTo>
                  <a:lnTo>
                    <a:pt x="1282" y="522"/>
                  </a:lnTo>
                  <a:lnTo>
                    <a:pt x="1305" y="580"/>
                  </a:lnTo>
                  <a:lnTo>
                    <a:pt x="1326" y="642"/>
                  </a:lnTo>
                  <a:lnTo>
                    <a:pt x="1347" y="707"/>
                  </a:lnTo>
                  <a:lnTo>
                    <a:pt x="1365" y="773"/>
                  </a:lnTo>
                  <a:lnTo>
                    <a:pt x="1384" y="843"/>
                  </a:lnTo>
                  <a:lnTo>
                    <a:pt x="1399" y="914"/>
                  </a:lnTo>
                  <a:lnTo>
                    <a:pt x="1413" y="988"/>
                  </a:lnTo>
                  <a:lnTo>
                    <a:pt x="1426" y="1064"/>
                  </a:lnTo>
                  <a:lnTo>
                    <a:pt x="1438" y="1142"/>
                  </a:lnTo>
                  <a:lnTo>
                    <a:pt x="1448" y="1222"/>
                  </a:lnTo>
                  <a:lnTo>
                    <a:pt x="1456" y="1305"/>
                  </a:lnTo>
                  <a:lnTo>
                    <a:pt x="1462" y="1389"/>
                  </a:lnTo>
                  <a:lnTo>
                    <a:pt x="1466" y="1476"/>
                  </a:lnTo>
                  <a:lnTo>
                    <a:pt x="1469" y="1563"/>
                  </a:lnTo>
                  <a:lnTo>
                    <a:pt x="1470" y="1652"/>
                  </a:lnTo>
                  <a:lnTo>
                    <a:pt x="1469" y="1738"/>
                  </a:lnTo>
                  <a:lnTo>
                    <a:pt x="1466" y="1822"/>
                  </a:lnTo>
                  <a:lnTo>
                    <a:pt x="1462" y="1906"/>
                  </a:lnTo>
                  <a:lnTo>
                    <a:pt x="1456" y="1987"/>
                  </a:lnTo>
                  <a:lnTo>
                    <a:pt x="1448" y="2067"/>
                  </a:lnTo>
                  <a:lnTo>
                    <a:pt x="1438" y="2146"/>
                  </a:lnTo>
                  <a:lnTo>
                    <a:pt x="1426" y="2223"/>
                  </a:lnTo>
                  <a:lnTo>
                    <a:pt x="1413" y="2298"/>
                  </a:lnTo>
                  <a:lnTo>
                    <a:pt x="1399" y="2371"/>
                  </a:lnTo>
                  <a:lnTo>
                    <a:pt x="1384" y="2443"/>
                  </a:lnTo>
                  <a:lnTo>
                    <a:pt x="1365" y="2511"/>
                  </a:lnTo>
                  <a:lnTo>
                    <a:pt x="1347" y="2579"/>
                  </a:lnTo>
                  <a:lnTo>
                    <a:pt x="1326" y="2643"/>
                  </a:lnTo>
                  <a:lnTo>
                    <a:pt x="1305" y="2705"/>
                  </a:lnTo>
                  <a:lnTo>
                    <a:pt x="1282" y="2766"/>
                  </a:lnTo>
                  <a:lnTo>
                    <a:pt x="1258" y="2823"/>
                  </a:lnTo>
                  <a:lnTo>
                    <a:pt x="1232" y="2877"/>
                  </a:lnTo>
                  <a:lnTo>
                    <a:pt x="1206" y="2929"/>
                  </a:lnTo>
                  <a:lnTo>
                    <a:pt x="1178" y="2978"/>
                  </a:lnTo>
                  <a:lnTo>
                    <a:pt x="1149" y="3024"/>
                  </a:lnTo>
                  <a:lnTo>
                    <a:pt x="1120" y="3067"/>
                  </a:lnTo>
                  <a:lnTo>
                    <a:pt x="1089" y="3107"/>
                  </a:lnTo>
                  <a:lnTo>
                    <a:pt x="1056" y="3143"/>
                  </a:lnTo>
                  <a:lnTo>
                    <a:pt x="1025" y="3175"/>
                  </a:lnTo>
                  <a:lnTo>
                    <a:pt x="991" y="3205"/>
                  </a:lnTo>
                  <a:lnTo>
                    <a:pt x="956" y="3231"/>
                  </a:lnTo>
                  <a:lnTo>
                    <a:pt x="922" y="3253"/>
                  </a:lnTo>
                  <a:lnTo>
                    <a:pt x="885" y="3271"/>
                  </a:lnTo>
                  <a:lnTo>
                    <a:pt x="849" y="3286"/>
                  </a:lnTo>
                  <a:lnTo>
                    <a:pt x="811" y="3296"/>
                  </a:lnTo>
                  <a:lnTo>
                    <a:pt x="773" y="3303"/>
                  </a:lnTo>
                  <a:lnTo>
                    <a:pt x="735" y="3305"/>
                  </a:lnTo>
                  <a:lnTo>
                    <a:pt x="693" y="3303"/>
                  </a:lnTo>
                  <a:lnTo>
                    <a:pt x="651" y="3296"/>
                  </a:lnTo>
                  <a:lnTo>
                    <a:pt x="611" y="3286"/>
                  </a:lnTo>
                  <a:lnTo>
                    <a:pt x="571" y="3271"/>
                  </a:lnTo>
                  <a:lnTo>
                    <a:pt x="533" y="3253"/>
                  </a:lnTo>
                  <a:lnTo>
                    <a:pt x="496" y="3231"/>
                  </a:lnTo>
                  <a:lnTo>
                    <a:pt x="461" y="3205"/>
                  </a:lnTo>
                  <a:lnTo>
                    <a:pt x="426" y="3175"/>
                  </a:lnTo>
                  <a:lnTo>
                    <a:pt x="393" y="3143"/>
                  </a:lnTo>
                  <a:lnTo>
                    <a:pt x="361" y="3107"/>
                  </a:lnTo>
                  <a:lnTo>
                    <a:pt x="330" y="3067"/>
                  </a:lnTo>
                  <a:lnTo>
                    <a:pt x="300" y="3024"/>
                  </a:lnTo>
                  <a:lnTo>
                    <a:pt x="272" y="2978"/>
                  </a:lnTo>
                  <a:lnTo>
                    <a:pt x="245" y="2929"/>
                  </a:lnTo>
                  <a:lnTo>
                    <a:pt x="219" y="2877"/>
                  </a:lnTo>
                  <a:lnTo>
                    <a:pt x="195" y="2823"/>
                  </a:lnTo>
                  <a:lnTo>
                    <a:pt x="171" y="2766"/>
                  </a:lnTo>
                  <a:lnTo>
                    <a:pt x="150" y="2705"/>
                  </a:lnTo>
                  <a:lnTo>
                    <a:pt x="130" y="2643"/>
                  </a:lnTo>
                  <a:lnTo>
                    <a:pt x="111" y="2579"/>
                  </a:lnTo>
                  <a:lnTo>
                    <a:pt x="94" y="2511"/>
                  </a:lnTo>
                  <a:lnTo>
                    <a:pt x="77" y="2443"/>
                  </a:lnTo>
                  <a:lnTo>
                    <a:pt x="63" y="2371"/>
                  </a:lnTo>
                  <a:lnTo>
                    <a:pt x="50" y="2298"/>
                  </a:lnTo>
                  <a:lnTo>
                    <a:pt x="38" y="2223"/>
                  </a:lnTo>
                  <a:lnTo>
                    <a:pt x="28" y="2146"/>
                  </a:lnTo>
                  <a:lnTo>
                    <a:pt x="19" y="2067"/>
                  </a:lnTo>
                  <a:lnTo>
                    <a:pt x="12" y="1987"/>
                  </a:lnTo>
                  <a:lnTo>
                    <a:pt x="7" y="1906"/>
                  </a:lnTo>
                  <a:lnTo>
                    <a:pt x="3" y="1822"/>
                  </a:lnTo>
                  <a:lnTo>
                    <a:pt x="1" y="1738"/>
                  </a:lnTo>
                  <a:lnTo>
                    <a:pt x="0" y="1652"/>
                  </a:lnTo>
                  <a:lnTo>
                    <a:pt x="1" y="1563"/>
                  </a:lnTo>
                  <a:lnTo>
                    <a:pt x="3" y="1476"/>
                  </a:lnTo>
                  <a:lnTo>
                    <a:pt x="7" y="1389"/>
                  </a:lnTo>
                  <a:lnTo>
                    <a:pt x="12" y="1305"/>
                  </a:lnTo>
                  <a:lnTo>
                    <a:pt x="19" y="1222"/>
                  </a:lnTo>
                  <a:lnTo>
                    <a:pt x="28" y="1142"/>
                  </a:lnTo>
                  <a:lnTo>
                    <a:pt x="38" y="1064"/>
                  </a:lnTo>
                  <a:lnTo>
                    <a:pt x="50" y="988"/>
                  </a:lnTo>
                  <a:lnTo>
                    <a:pt x="63" y="914"/>
                  </a:lnTo>
                  <a:lnTo>
                    <a:pt x="77" y="843"/>
                  </a:lnTo>
                  <a:lnTo>
                    <a:pt x="94" y="773"/>
                  </a:lnTo>
                  <a:lnTo>
                    <a:pt x="111" y="707"/>
                  </a:lnTo>
                  <a:lnTo>
                    <a:pt x="130" y="642"/>
                  </a:lnTo>
                  <a:lnTo>
                    <a:pt x="150" y="580"/>
                  </a:lnTo>
                  <a:lnTo>
                    <a:pt x="171" y="522"/>
                  </a:lnTo>
                  <a:lnTo>
                    <a:pt x="195" y="465"/>
                  </a:lnTo>
                  <a:lnTo>
                    <a:pt x="219" y="412"/>
                  </a:lnTo>
                  <a:lnTo>
                    <a:pt x="245" y="362"/>
                  </a:lnTo>
                  <a:lnTo>
                    <a:pt x="272" y="314"/>
                  </a:lnTo>
                  <a:lnTo>
                    <a:pt x="300" y="270"/>
                  </a:lnTo>
                  <a:lnTo>
                    <a:pt x="330" y="228"/>
                  </a:lnTo>
                  <a:lnTo>
                    <a:pt x="361" y="190"/>
                  </a:lnTo>
                  <a:lnTo>
                    <a:pt x="393" y="154"/>
                  </a:lnTo>
                  <a:lnTo>
                    <a:pt x="426" y="124"/>
                  </a:lnTo>
                  <a:lnTo>
                    <a:pt x="461" y="95"/>
                  </a:lnTo>
                  <a:lnTo>
                    <a:pt x="496" y="70"/>
                  </a:lnTo>
                  <a:lnTo>
                    <a:pt x="533" y="49"/>
                  </a:lnTo>
                  <a:lnTo>
                    <a:pt x="571" y="32"/>
                  </a:lnTo>
                  <a:lnTo>
                    <a:pt x="611" y="18"/>
                  </a:lnTo>
                  <a:lnTo>
                    <a:pt x="651" y="8"/>
                  </a:lnTo>
                  <a:lnTo>
                    <a:pt x="693" y="2"/>
                  </a:lnTo>
                  <a:lnTo>
                    <a:pt x="73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95640" y="1787400"/>
              <a:ext cx="84240" cy="187560"/>
            </a:xfrm>
            <a:custGeom>
              <a:avLst/>
              <a:gdLst/>
              <a:ahLst/>
              <a:rect l="l" t="t" r="r" b="b"/>
              <a:pathLst>
                <a:path w="1470" h="3305">
                  <a:moveTo>
                    <a:pt x="735" y="0"/>
                  </a:moveTo>
                  <a:lnTo>
                    <a:pt x="773" y="2"/>
                  </a:lnTo>
                  <a:lnTo>
                    <a:pt x="811" y="8"/>
                  </a:lnTo>
                  <a:lnTo>
                    <a:pt x="849" y="18"/>
                  </a:lnTo>
                  <a:lnTo>
                    <a:pt x="885" y="32"/>
                  </a:lnTo>
                  <a:lnTo>
                    <a:pt x="922" y="49"/>
                  </a:lnTo>
                  <a:lnTo>
                    <a:pt x="956" y="70"/>
                  </a:lnTo>
                  <a:lnTo>
                    <a:pt x="991" y="95"/>
                  </a:lnTo>
                  <a:lnTo>
                    <a:pt x="1025" y="124"/>
                  </a:lnTo>
                  <a:lnTo>
                    <a:pt x="1056" y="154"/>
                  </a:lnTo>
                  <a:lnTo>
                    <a:pt x="1089" y="190"/>
                  </a:lnTo>
                  <a:lnTo>
                    <a:pt x="1120" y="228"/>
                  </a:lnTo>
                  <a:lnTo>
                    <a:pt x="1149" y="270"/>
                  </a:lnTo>
                  <a:lnTo>
                    <a:pt x="1178" y="314"/>
                  </a:lnTo>
                  <a:lnTo>
                    <a:pt x="1206" y="362"/>
                  </a:lnTo>
                  <a:lnTo>
                    <a:pt x="1232" y="412"/>
                  </a:lnTo>
                  <a:lnTo>
                    <a:pt x="1258" y="465"/>
                  </a:lnTo>
                  <a:lnTo>
                    <a:pt x="1282" y="522"/>
                  </a:lnTo>
                  <a:lnTo>
                    <a:pt x="1305" y="580"/>
                  </a:lnTo>
                  <a:lnTo>
                    <a:pt x="1326" y="642"/>
                  </a:lnTo>
                  <a:lnTo>
                    <a:pt x="1347" y="707"/>
                  </a:lnTo>
                  <a:lnTo>
                    <a:pt x="1365" y="773"/>
                  </a:lnTo>
                  <a:lnTo>
                    <a:pt x="1384" y="843"/>
                  </a:lnTo>
                  <a:lnTo>
                    <a:pt x="1399" y="914"/>
                  </a:lnTo>
                  <a:lnTo>
                    <a:pt x="1413" y="988"/>
                  </a:lnTo>
                  <a:lnTo>
                    <a:pt x="1426" y="1064"/>
                  </a:lnTo>
                  <a:lnTo>
                    <a:pt x="1438" y="1142"/>
                  </a:lnTo>
                  <a:lnTo>
                    <a:pt x="1448" y="1222"/>
                  </a:lnTo>
                  <a:lnTo>
                    <a:pt x="1456" y="1305"/>
                  </a:lnTo>
                  <a:lnTo>
                    <a:pt x="1462" y="1389"/>
                  </a:lnTo>
                  <a:lnTo>
                    <a:pt x="1466" y="1476"/>
                  </a:lnTo>
                  <a:lnTo>
                    <a:pt x="1469" y="1563"/>
                  </a:lnTo>
                  <a:lnTo>
                    <a:pt x="1470" y="1652"/>
                  </a:lnTo>
                  <a:lnTo>
                    <a:pt x="1469" y="1738"/>
                  </a:lnTo>
                  <a:lnTo>
                    <a:pt x="1466" y="1822"/>
                  </a:lnTo>
                  <a:lnTo>
                    <a:pt x="1462" y="1906"/>
                  </a:lnTo>
                  <a:lnTo>
                    <a:pt x="1456" y="1987"/>
                  </a:lnTo>
                  <a:lnTo>
                    <a:pt x="1448" y="2067"/>
                  </a:lnTo>
                  <a:lnTo>
                    <a:pt x="1438" y="2146"/>
                  </a:lnTo>
                  <a:lnTo>
                    <a:pt x="1426" y="2223"/>
                  </a:lnTo>
                  <a:lnTo>
                    <a:pt x="1413" y="2298"/>
                  </a:lnTo>
                  <a:lnTo>
                    <a:pt x="1399" y="2371"/>
                  </a:lnTo>
                  <a:lnTo>
                    <a:pt x="1384" y="2443"/>
                  </a:lnTo>
                  <a:lnTo>
                    <a:pt x="1365" y="2511"/>
                  </a:lnTo>
                  <a:lnTo>
                    <a:pt x="1347" y="2579"/>
                  </a:lnTo>
                  <a:lnTo>
                    <a:pt x="1326" y="2643"/>
                  </a:lnTo>
                  <a:lnTo>
                    <a:pt x="1305" y="2705"/>
                  </a:lnTo>
                  <a:lnTo>
                    <a:pt x="1282" y="2766"/>
                  </a:lnTo>
                  <a:lnTo>
                    <a:pt x="1258" y="2823"/>
                  </a:lnTo>
                  <a:lnTo>
                    <a:pt x="1232" y="2877"/>
                  </a:lnTo>
                  <a:lnTo>
                    <a:pt x="1206" y="2929"/>
                  </a:lnTo>
                  <a:lnTo>
                    <a:pt x="1178" y="2978"/>
                  </a:lnTo>
                  <a:lnTo>
                    <a:pt x="1149" y="3024"/>
                  </a:lnTo>
                  <a:lnTo>
                    <a:pt x="1120" y="3067"/>
                  </a:lnTo>
                  <a:lnTo>
                    <a:pt x="1089" y="3107"/>
                  </a:lnTo>
                  <a:lnTo>
                    <a:pt x="1056" y="3143"/>
                  </a:lnTo>
                  <a:lnTo>
                    <a:pt x="1025" y="3175"/>
                  </a:lnTo>
                  <a:lnTo>
                    <a:pt x="991" y="3205"/>
                  </a:lnTo>
                  <a:lnTo>
                    <a:pt x="956" y="3231"/>
                  </a:lnTo>
                  <a:lnTo>
                    <a:pt x="922" y="3253"/>
                  </a:lnTo>
                  <a:lnTo>
                    <a:pt x="885" y="3271"/>
                  </a:lnTo>
                  <a:lnTo>
                    <a:pt x="849" y="3286"/>
                  </a:lnTo>
                  <a:lnTo>
                    <a:pt x="811" y="3296"/>
                  </a:lnTo>
                  <a:lnTo>
                    <a:pt x="773" y="3303"/>
                  </a:lnTo>
                  <a:lnTo>
                    <a:pt x="735" y="3305"/>
                  </a:lnTo>
                  <a:lnTo>
                    <a:pt x="693" y="3303"/>
                  </a:lnTo>
                  <a:lnTo>
                    <a:pt x="651" y="3296"/>
                  </a:lnTo>
                  <a:lnTo>
                    <a:pt x="611" y="3286"/>
                  </a:lnTo>
                  <a:lnTo>
                    <a:pt x="571" y="3271"/>
                  </a:lnTo>
                  <a:lnTo>
                    <a:pt x="533" y="3253"/>
                  </a:lnTo>
                  <a:lnTo>
                    <a:pt x="496" y="3231"/>
                  </a:lnTo>
                  <a:lnTo>
                    <a:pt x="461" y="3205"/>
                  </a:lnTo>
                  <a:lnTo>
                    <a:pt x="426" y="3175"/>
                  </a:lnTo>
                  <a:lnTo>
                    <a:pt x="393" y="3143"/>
                  </a:lnTo>
                  <a:lnTo>
                    <a:pt x="361" y="3107"/>
                  </a:lnTo>
                  <a:lnTo>
                    <a:pt x="330" y="3067"/>
                  </a:lnTo>
                  <a:lnTo>
                    <a:pt x="300" y="3024"/>
                  </a:lnTo>
                  <a:lnTo>
                    <a:pt x="272" y="2978"/>
                  </a:lnTo>
                  <a:lnTo>
                    <a:pt x="245" y="2929"/>
                  </a:lnTo>
                  <a:lnTo>
                    <a:pt x="219" y="2877"/>
                  </a:lnTo>
                  <a:lnTo>
                    <a:pt x="195" y="2823"/>
                  </a:lnTo>
                  <a:lnTo>
                    <a:pt x="171" y="2766"/>
                  </a:lnTo>
                  <a:lnTo>
                    <a:pt x="150" y="2705"/>
                  </a:lnTo>
                  <a:lnTo>
                    <a:pt x="130" y="2643"/>
                  </a:lnTo>
                  <a:lnTo>
                    <a:pt x="111" y="2579"/>
                  </a:lnTo>
                  <a:lnTo>
                    <a:pt x="94" y="2511"/>
                  </a:lnTo>
                  <a:lnTo>
                    <a:pt x="77" y="2443"/>
                  </a:lnTo>
                  <a:lnTo>
                    <a:pt x="63" y="2371"/>
                  </a:lnTo>
                  <a:lnTo>
                    <a:pt x="50" y="2298"/>
                  </a:lnTo>
                  <a:lnTo>
                    <a:pt x="38" y="2223"/>
                  </a:lnTo>
                  <a:lnTo>
                    <a:pt x="28" y="2146"/>
                  </a:lnTo>
                  <a:lnTo>
                    <a:pt x="19" y="2067"/>
                  </a:lnTo>
                  <a:lnTo>
                    <a:pt x="12" y="1987"/>
                  </a:lnTo>
                  <a:lnTo>
                    <a:pt x="7" y="1906"/>
                  </a:lnTo>
                  <a:lnTo>
                    <a:pt x="3" y="1822"/>
                  </a:lnTo>
                  <a:lnTo>
                    <a:pt x="1" y="1738"/>
                  </a:lnTo>
                  <a:lnTo>
                    <a:pt x="0" y="1652"/>
                  </a:lnTo>
                  <a:lnTo>
                    <a:pt x="1" y="1563"/>
                  </a:lnTo>
                  <a:lnTo>
                    <a:pt x="3" y="1476"/>
                  </a:lnTo>
                  <a:lnTo>
                    <a:pt x="7" y="1389"/>
                  </a:lnTo>
                  <a:lnTo>
                    <a:pt x="12" y="1305"/>
                  </a:lnTo>
                  <a:lnTo>
                    <a:pt x="19" y="1222"/>
                  </a:lnTo>
                  <a:lnTo>
                    <a:pt x="28" y="1142"/>
                  </a:lnTo>
                  <a:lnTo>
                    <a:pt x="38" y="1064"/>
                  </a:lnTo>
                  <a:lnTo>
                    <a:pt x="50" y="988"/>
                  </a:lnTo>
                  <a:lnTo>
                    <a:pt x="63" y="914"/>
                  </a:lnTo>
                  <a:lnTo>
                    <a:pt x="77" y="843"/>
                  </a:lnTo>
                  <a:lnTo>
                    <a:pt x="94" y="773"/>
                  </a:lnTo>
                  <a:lnTo>
                    <a:pt x="111" y="707"/>
                  </a:lnTo>
                  <a:lnTo>
                    <a:pt x="130" y="642"/>
                  </a:lnTo>
                  <a:lnTo>
                    <a:pt x="150" y="580"/>
                  </a:lnTo>
                  <a:lnTo>
                    <a:pt x="171" y="522"/>
                  </a:lnTo>
                  <a:lnTo>
                    <a:pt x="195" y="465"/>
                  </a:lnTo>
                  <a:lnTo>
                    <a:pt x="219" y="412"/>
                  </a:lnTo>
                  <a:lnTo>
                    <a:pt x="245" y="362"/>
                  </a:lnTo>
                  <a:lnTo>
                    <a:pt x="272" y="314"/>
                  </a:lnTo>
                  <a:lnTo>
                    <a:pt x="300" y="270"/>
                  </a:lnTo>
                  <a:lnTo>
                    <a:pt x="330" y="228"/>
                  </a:lnTo>
                  <a:lnTo>
                    <a:pt x="361" y="190"/>
                  </a:lnTo>
                  <a:lnTo>
                    <a:pt x="393" y="154"/>
                  </a:lnTo>
                  <a:lnTo>
                    <a:pt x="426" y="124"/>
                  </a:lnTo>
                  <a:lnTo>
                    <a:pt x="461" y="95"/>
                  </a:lnTo>
                  <a:lnTo>
                    <a:pt x="496" y="70"/>
                  </a:lnTo>
                  <a:lnTo>
                    <a:pt x="533" y="49"/>
                  </a:lnTo>
                  <a:lnTo>
                    <a:pt x="571" y="32"/>
                  </a:lnTo>
                  <a:lnTo>
                    <a:pt x="611" y="18"/>
                  </a:lnTo>
                  <a:lnTo>
                    <a:pt x="651" y="8"/>
                  </a:lnTo>
                  <a:lnTo>
                    <a:pt x="693" y="2"/>
                  </a:lnTo>
                  <a:lnTo>
                    <a:pt x="735" y="0"/>
                  </a:lnTo>
                </a:path>
              </a:pathLst>
            </a:custGeom>
            <a:noFill/>
            <a:ln w="936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82680" y="1676520"/>
            <a:ext cx="932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 DSL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97000" y="1496880"/>
            <a:ext cx="965160" cy="860400"/>
            <a:chOff x="297000" y="1496880"/>
            <a:chExt cx="965160" cy="860400"/>
          </a:xfrm>
        </p:grpSpPr>
        <p:sp>
          <p:nvSpPr>
            <p:cNvPr id="709" name=""/>
            <p:cNvSpPr/>
            <p:nvPr/>
          </p:nvSpPr>
          <p:spPr>
            <a:xfrm>
              <a:off x="987480" y="1665360"/>
              <a:ext cx="258840" cy="523800"/>
            </a:xfrm>
            <a:custGeom>
              <a:avLst/>
              <a:gdLst/>
              <a:ahLst/>
              <a:rect l="l" t="t" r="r" b="b"/>
              <a:pathLst>
                <a:path w="4411" h="8927">
                  <a:moveTo>
                    <a:pt x="4411" y="0"/>
                  </a:moveTo>
                  <a:lnTo>
                    <a:pt x="4411" y="4891"/>
                  </a:lnTo>
                  <a:lnTo>
                    <a:pt x="0" y="8927"/>
                  </a:lnTo>
                  <a:lnTo>
                    <a:pt x="0" y="4036"/>
                  </a:lnTo>
                  <a:lnTo>
                    <a:pt x="4411" y="0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41640" y="1665360"/>
              <a:ext cx="11160" cy="290520"/>
            </a:xfrm>
            <a:custGeom>
              <a:avLst/>
              <a:gdLst/>
              <a:ahLst/>
              <a:rect l="l" t="t" r="r" b="b"/>
              <a:pathLst>
                <a:path w="192" h="4961">
                  <a:moveTo>
                    <a:pt x="161" y="4961"/>
                  </a:moveTo>
                  <a:lnTo>
                    <a:pt x="192" y="4891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0" y="4891"/>
                  </a:lnTo>
                  <a:lnTo>
                    <a:pt x="161" y="4961"/>
                  </a:lnTo>
                  <a:lnTo>
                    <a:pt x="161" y="4961"/>
                  </a:lnTo>
                  <a:lnTo>
                    <a:pt x="192" y="4933"/>
                  </a:lnTo>
                  <a:lnTo>
                    <a:pt x="192" y="4891"/>
                  </a:lnTo>
                  <a:lnTo>
                    <a:pt x="161" y="496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81360" y="1947960"/>
              <a:ext cx="269640" cy="253800"/>
            </a:xfrm>
            <a:custGeom>
              <a:avLst/>
              <a:gdLst/>
              <a:ahLst/>
              <a:rect l="l" t="t" r="r" b="b"/>
              <a:pathLst>
                <a:path w="4573" h="4326">
                  <a:moveTo>
                    <a:pt x="0" y="4108"/>
                  </a:moveTo>
                  <a:lnTo>
                    <a:pt x="162" y="4178"/>
                  </a:lnTo>
                  <a:lnTo>
                    <a:pt x="4573" y="142"/>
                  </a:lnTo>
                  <a:lnTo>
                    <a:pt x="4443" y="0"/>
                  </a:lnTo>
                  <a:lnTo>
                    <a:pt x="31" y="4038"/>
                  </a:lnTo>
                  <a:lnTo>
                    <a:pt x="0" y="4108"/>
                  </a:lnTo>
                  <a:lnTo>
                    <a:pt x="0" y="4108"/>
                  </a:lnTo>
                  <a:lnTo>
                    <a:pt x="0" y="4326"/>
                  </a:lnTo>
                  <a:lnTo>
                    <a:pt x="162" y="4178"/>
                  </a:lnTo>
                  <a:lnTo>
                    <a:pt x="0" y="4108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81360" y="1897200"/>
              <a:ext cx="12600" cy="291960"/>
            </a:xfrm>
            <a:custGeom>
              <a:avLst/>
              <a:gdLst/>
              <a:ahLst/>
              <a:rect l="l" t="t" r="r" b="b"/>
              <a:pathLst>
                <a:path w="193" h="4961">
                  <a:moveTo>
                    <a:pt x="31" y="0"/>
                  </a:moveTo>
                  <a:lnTo>
                    <a:pt x="0" y="70"/>
                  </a:lnTo>
                  <a:lnTo>
                    <a:pt x="0" y="4961"/>
                  </a:lnTo>
                  <a:lnTo>
                    <a:pt x="193" y="4961"/>
                  </a:lnTo>
                  <a:lnTo>
                    <a:pt x="193" y="7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0" y="28"/>
                  </a:lnTo>
                  <a:lnTo>
                    <a:pt x="0" y="7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84240" y="1650960"/>
              <a:ext cx="268560" cy="255600"/>
            </a:xfrm>
            <a:custGeom>
              <a:avLst/>
              <a:gdLst/>
              <a:ahLst/>
              <a:rect l="l" t="t" r="r" b="b"/>
              <a:pathLst>
                <a:path w="4573" h="4325">
                  <a:moveTo>
                    <a:pt x="4573" y="218"/>
                  </a:moveTo>
                  <a:lnTo>
                    <a:pt x="4412" y="148"/>
                  </a:lnTo>
                  <a:lnTo>
                    <a:pt x="0" y="4184"/>
                  </a:lnTo>
                  <a:lnTo>
                    <a:pt x="131" y="4325"/>
                  </a:lnTo>
                  <a:lnTo>
                    <a:pt x="4542" y="288"/>
                  </a:lnTo>
                  <a:lnTo>
                    <a:pt x="4573" y="218"/>
                  </a:lnTo>
                  <a:lnTo>
                    <a:pt x="4573" y="218"/>
                  </a:lnTo>
                  <a:lnTo>
                    <a:pt x="4573" y="0"/>
                  </a:lnTo>
                  <a:lnTo>
                    <a:pt x="4412" y="148"/>
                  </a:lnTo>
                  <a:lnTo>
                    <a:pt x="4573" y="218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2840" y="1503360"/>
              <a:ext cx="933480" cy="398520"/>
            </a:xfrm>
            <a:custGeom>
              <a:avLst/>
              <a:gdLst/>
              <a:ahLst/>
              <a:rect l="l" t="t" r="r" b="b"/>
              <a:pathLst>
                <a:path w="15898" h="6789">
                  <a:moveTo>
                    <a:pt x="3919" y="3957"/>
                  </a:moveTo>
                  <a:lnTo>
                    <a:pt x="0" y="3957"/>
                  </a:lnTo>
                  <a:lnTo>
                    <a:pt x="4411" y="0"/>
                  </a:lnTo>
                  <a:lnTo>
                    <a:pt x="8330" y="0"/>
                  </a:lnTo>
                  <a:lnTo>
                    <a:pt x="13737" y="2753"/>
                  </a:lnTo>
                  <a:lnTo>
                    <a:pt x="15898" y="2753"/>
                  </a:lnTo>
                  <a:lnTo>
                    <a:pt x="11487" y="6789"/>
                  </a:lnTo>
                  <a:lnTo>
                    <a:pt x="9325" y="6789"/>
                  </a:lnTo>
                  <a:lnTo>
                    <a:pt x="3919" y="3957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7000" y="1730160"/>
              <a:ext cx="245880" cy="11160"/>
            </a:xfrm>
            <a:custGeom>
              <a:avLst/>
              <a:gdLst/>
              <a:ahLst/>
              <a:rect l="l" t="t" r="r" b="b"/>
              <a:pathLst>
                <a:path w="4169" h="192">
                  <a:moveTo>
                    <a:pt x="185" y="26"/>
                  </a:moveTo>
                  <a:lnTo>
                    <a:pt x="250" y="192"/>
                  </a:lnTo>
                  <a:lnTo>
                    <a:pt x="4169" y="192"/>
                  </a:lnTo>
                  <a:lnTo>
                    <a:pt x="4169" y="0"/>
                  </a:lnTo>
                  <a:lnTo>
                    <a:pt x="250" y="0"/>
                  </a:lnTo>
                  <a:lnTo>
                    <a:pt x="185" y="26"/>
                  </a:lnTo>
                  <a:lnTo>
                    <a:pt x="185" y="26"/>
                  </a:lnTo>
                  <a:lnTo>
                    <a:pt x="0" y="192"/>
                  </a:lnTo>
                  <a:lnTo>
                    <a:pt x="250" y="19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8160" y="1496880"/>
              <a:ext cx="266760" cy="243000"/>
            </a:xfrm>
            <a:custGeom>
              <a:avLst/>
              <a:gdLst/>
              <a:ahLst/>
              <a:rect l="l" t="t" r="r" b="b"/>
              <a:pathLst>
                <a:path w="4540" h="4124">
                  <a:moveTo>
                    <a:pt x="4476" y="0"/>
                  </a:moveTo>
                  <a:lnTo>
                    <a:pt x="4411" y="25"/>
                  </a:lnTo>
                  <a:lnTo>
                    <a:pt x="0" y="3982"/>
                  </a:lnTo>
                  <a:lnTo>
                    <a:pt x="129" y="4124"/>
                  </a:lnTo>
                  <a:lnTo>
                    <a:pt x="4540" y="167"/>
                  </a:lnTo>
                  <a:lnTo>
                    <a:pt x="4476" y="0"/>
                  </a:lnTo>
                  <a:lnTo>
                    <a:pt x="4476" y="0"/>
                  </a:lnTo>
                  <a:lnTo>
                    <a:pt x="4439" y="0"/>
                  </a:lnTo>
                  <a:lnTo>
                    <a:pt x="4411" y="25"/>
                  </a:lnTo>
                  <a:lnTo>
                    <a:pt x="4476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1680" y="1496880"/>
              <a:ext cx="233280" cy="11160"/>
            </a:xfrm>
            <a:custGeom>
              <a:avLst/>
              <a:gdLst/>
              <a:ahLst/>
              <a:rect l="l" t="t" r="r" b="b"/>
              <a:pathLst>
                <a:path w="3963" h="191">
                  <a:moveTo>
                    <a:pt x="3963" y="11"/>
                  </a:moveTo>
                  <a:lnTo>
                    <a:pt x="3919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3919" y="191"/>
                  </a:lnTo>
                  <a:lnTo>
                    <a:pt x="3963" y="11"/>
                  </a:lnTo>
                  <a:lnTo>
                    <a:pt x="3963" y="11"/>
                  </a:lnTo>
                  <a:lnTo>
                    <a:pt x="3942" y="0"/>
                  </a:lnTo>
                  <a:lnTo>
                    <a:pt x="3919" y="0"/>
                  </a:lnTo>
                  <a:lnTo>
                    <a:pt x="3963" y="1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00280" y="1496880"/>
              <a:ext cx="322200" cy="173160"/>
            </a:xfrm>
            <a:custGeom>
              <a:avLst/>
              <a:gdLst/>
              <a:ahLst/>
              <a:rect l="l" t="t" r="r" b="b"/>
              <a:pathLst>
                <a:path w="5493" h="2934">
                  <a:moveTo>
                    <a:pt x="5450" y="2934"/>
                  </a:moveTo>
                  <a:lnTo>
                    <a:pt x="5493" y="2753"/>
                  </a:lnTo>
                  <a:lnTo>
                    <a:pt x="87" y="0"/>
                  </a:lnTo>
                  <a:lnTo>
                    <a:pt x="0" y="170"/>
                  </a:lnTo>
                  <a:lnTo>
                    <a:pt x="5406" y="2923"/>
                  </a:lnTo>
                  <a:lnTo>
                    <a:pt x="5450" y="2934"/>
                  </a:lnTo>
                  <a:lnTo>
                    <a:pt x="5406" y="2923"/>
                  </a:lnTo>
                  <a:lnTo>
                    <a:pt x="5427" y="2934"/>
                  </a:lnTo>
                  <a:lnTo>
                    <a:pt x="5450" y="2934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119240" y="1658880"/>
              <a:ext cx="142920" cy="11160"/>
            </a:xfrm>
            <a:custGeom>
              <a:avLst/>
              <a:gdLst/>
              <a:ahLst/>
              <a:rect l="l" t="t" r="r" b="b"/>
              <a:pathLst>
                <a:path w="2407" h="192">
                  <a:moveTo>
                    <a:pt x="2227" y="166"/>
                  </a:moveTo>
                  <a:lnTo>
                    <a:pt x="2161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161" y="192"/>
                  </a:lnTo>
                  <a:lnTo>
                    <a:pt x="2227" y="166"/>
                  </a:lnTo>
                  <a:lnTo>
                    <a:pt x="2227" y="166"/>
                  </a:lnTo>
                  <a:lnTo>
                    <a:pt x="2407" y="0"/>
                  </a:lnTo>
                  <a:lnTo>
                    <a:pt x="2161" y="0"/>
                  </a:lnTo>
                  <a:lnTo>
                    <a:pt x="2227" y="166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84240" y="1660320"/>
              <a:ext cx="266760" cy="247680"/>
            </a:xfrm>
            <a:custGeom>
              <a:avLst/>
              <a:gdLst/>
              <a:ahLst/>
              <a:rect l="l" t="t" r="r" b="b"/>
              <a:pathLst>
                <a:path w="4542" h="4203">
                  <a:moveTo>
                    <a:pt x="65" y="4203"/>
                  </a:moveTo>
                  <a:lnTo>
                    <a:pt x="131" y="4177"/>
                  </a:lnTo>
                  <a:lnTo>
                    <a:pt x="4542" y="140"/>
                  </a:lnTo>
                  <a:lnTo>
                    <a:pt x="4412" y="0"/>
                  </a:lnTo>
                  <a:lnTo>
                    <a:pt x="0" y="4036"/>
                  </a:lnTo>
                  <a:lnTo>
                    <a:pt x="65" y="4203"/>
                  </a:lnTo>
                  <a:lnTo>
                    <a:pt x="65" y="4203"/>
                  </a:lnTo>
                  <a:lnTo>
                    <a:pt x="102" y="4203"/>
                  </a:lnTo>
                  <a:lnTo>
                    <a:pt x="131" y="4177"/>
                  </a:lnTo>
                  <a:lnTo>
                    <a:pt x="65" y="4203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60400" y="1895400"/>
              <a:ext cx="127080" cy="12600"/>
            </a:xfrm>
            <a:prstGeom prst="rect">
              <a:avLst/>
            </a:pr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12840" y="1735200"/>
              <a:ext cx="674640" cy="614160"/>
            </a:xfrm>
            <a:custGeom>
              <a:avLst/>
              <a:gdLst/>
              <a:ahLst/>
              <a:rect l="l" t="t" r="r" b="b"/>
              <a:pathLst>
                <a:path w="11487" h="10465">
                  <a:moveTo>
                    <a:pt x="3925" y="11"/>
                  </a:moveTo>
                  <a:lnTo>
                    <a:pt x="9331" y="2838"/>
                  </a:lnTo>
                  <a:lnTo>
                    <a:pt x="9325" y="2838"/>
                  </a:lnTo>
                  <a:lnTo>
                    <a:pt x="11487" y="2838"/>
                  </a:lnTo>
                  <a:lnTo>
                    <a:pt x="11487" y="7729"/>
                  </a:lnTo>
                  <a:lnTo>
                    <a:pt x="9325" y="7729"/>
                  </a:lnTo>
                  <a:lnTo>
                    <a:pt x="9331" y="7729"/>
                  </a:lnTo>
                  <a:lnTo>
                    <a:pt x="3925" y="10465"/>
                  </a:lnTo>
                  <a:lnTo>
                    <a:pt x="3919" y="10457"/>
                  </a:lnTo>
                  <a:lnTo>
                    <a:pt x="0" y="10457"/>
                  </a:lnTo>
                  <a:lnTo>
                    <a:pt x="0" y="0"/>
                  </a:lnTo>
                  <a:lnTo>
                    <a:pt x="3919" y="0"/>
                  </a:lnTo>
                  <a:lnTo>
                    <a:pt x="3925" y="11"/>
                  </a:ln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40000" y="1730160"/>
              <a:ext cx="342720" cy="177840"/>
            </a:xfrm>
            <a:custGeom>
              <a:avLst/>
              <a:gdLst/>
              <a:ahLst/>
              <a:rect l="l" t="t" r="r" b="b"/>
              <a:pathLst>
                <a:path w="5828" h="3008">
                  <a:moveTo>
                    <a:pt x="5450" y="3008"/>
                  </a:moveTo>
                  <a:lnTo>
                    <a:pt x="5494" y="2827"/>
                  </a:lnTo>
                  <a:lnTo>
                    <a:pt x="88" y="0"/>
                  </a:lnTo>
                  <a:lnTo>
                    <a:pt x="0" y="169"/>
                  </a:lnTo>
                  <a:lnTo>
                    <a:pt x="5406" y="2997"/>
                  </a:lnTo>
                  <a:lnTo>
                    <a:pt x="5450" y="3008"/>
                  </a:lnTo>
                  <a:lnTo>
                    <a:pt x="5450" y="3008"/>
                  </a:lnTo>
                  <a:lnTo>
                    <a:pt x="5828" y="3008"/>
                  </a:lnTo>
                  <a:lnTo>
                    <a:pt x="5494" y="2827"/>
                  </a:lnTo>
                  <a:lnTo>
                    <a:pt x="5450" y="3008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60400" y="1895400"/>
              <a:ext cx="1800" cy="1260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0" y="193"/>
                  </a:moveTo>
                  <a:lnTo>
                    <a:pt x="0" y="193"/>
                  </a:lnTo>
                  <a:lnTo>
                    <a:pt x="6" y="19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93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60400" y="1895400"/>
              <a:ext cx="133560" cy="12600"/>
            </a:xfrm>
            <a:custGeom>
              <a:avLst/>
              <a:gdLst/>
              <a:ahLst/>
              <a:rect l="l" t="t" r="r" b="b"/>
              <a:pathLst>
                <a:path w="2259" h="193">
                  <a:moveTo>
                    <a:pt x="2259" y="96"/>
                  </a:moveTo>
                  <a:lnTo>
                    <a:pt x="2162" y="0"/>
                  </a:lnTo>
                  <a:lnTo>
                    <a:pt x="0" y="0"/>
                  </a:lnTo>
                  <a:lnTo>
                    <a:pt x="0" y="193"/>
                  </a:lnTo>
                  <a:lnTo>
                    <a:pt x="2162" y="193"/>
                  </a:lnTo>
                  <a:lnTo>
                    <a:pt x="2259" y="96"/>
                  </a:lnTo>
                  <a:lnTo>
                    <a:pt x="2259" y="96"/>
                  </a:lnTo>
                  <a:lnTo>
                    <a:pt x="2259" y="0"/>
                  </a:lnTo>
                  <a:lnTo>
                    <a:pt x="2162" y="0"/>
                  </a:lnTo>
                  <a:lnTo>
                    <a:pt x="2259" y="96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81360" y="1901880"/>
              <a:ext cx="12600" cy="293760"/>
            </a:xfrm>
            <a:custGeom>
              <a:avLst/>
              <a:gdLst/>
              <a:ahLst/>
              <a:rect l="l" t="t" r="r" b="b"/>
              <a:pathLst>
                <a:path w="193" h="4987">
                  <a:moveTo>
                    <a:pt x="96" y="4987"/>
                  </a:moveTo>
                  <a:lnTo>
                    <a:pt x="193" y="4891"/>
                  </a:lnTo>
                  <a:lnTo>
                    <a:pt x="193" y="0"/>
                  </a:lnTo>
                  <a:lnTo>
                    <a:pt x="0" y="0"/>
                  </a:lnTo>
                  <a:lnTo>
                    <a:pt x="0" y="4891"/>
                  </a:lnTo>
                  <a:lnTo>
                    <a:pt x="96" y="4987"/>
                  </a:lnTo>
                  <a:lnTo>
                    <a:pt x="96" y="4987"/>
                  </a:lnTo>
                  <a:lnTo>
                    <a:pt x="193" y="4987"/>
                  </a:lnTo>
                  <a:lnTo>
                    <a:pt x="193" y="4891"/>
                  </a:lnTo>
                  <a:lnTo>
                    <a:pt x="96" y="498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60400" y="2184480"/>
              <a:ext cx="127080" cy="11160"/>
            </a:xfrm>
            <a:custGeom>
              <a:avLst/>
              <a:gdLst/>
              <a:ahLst/>
              <a:rect l="l" t="t" r="r" b="b"/>
              <a:pathLst>
                <a:path w="2162" h="192">
                  <a:moveTo>
                    <a:pt x="0" y="192"/>
                  </a:moveTo>
                  <a:lnTo>
                    <a:pt x="0" y="192"/>
                  </a:lnTo>
                  <a:lnTo>
                    <a:pt x="2162" y="192"/>
                  </a:lnTo>
                  <a:lnTo>
                    <a:pt x="2162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60400" y="2184480"/>
              <a:ext cx="24120" cy="11160"/>
            </a:xfrm>
            <a:custGeom>
              <a:avLst/>
              <a:gdLst/>
              <a:ahLst/>
              <a:rect l="l" t="t" r="r" b="b"/>
              <a:pathLst>
                <a:path w="401" h="192">
                  <a:moveTo>
                    <a:pt x="49" y="181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6" y="192"/>
                  </a:lnTo>
                  <a:lnTo>
                    <a:pt x="49" y="181"/>
                  </a:lnTo>
                  <a:lnTo>
                    <a:pt x="49" y="181"/>
                  </a:lnTo>
                  <a:lnTo>
                    <a:pt x="401" y="0"/>
                  </a:lnTo>
                  <a:lnTo>
                    <a:pt x="6" y="0"/>
                  </a:lnTo>
                  <a:lnTo>
                    <a:pt x="49" y="18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8200" y="2184480"/>
              <a:ext cx="325440" cy="172800"/>
            </a:xfrm>
            <a:custGeom>
              <a:avLst/>
              <a:gdLst/>
              <a:ahLst/>
              <a:rect l="l" t="t" r="r" b="b"/>
              <a:pathLst>
                <a:path w="5527" h="2943">
                  <a:moveTo>
                    <a:pt x="0" y="2877"/>
                  </a:moveTo>
                  <a:lnTo>
                    <a:pt x="121" y="2906"/>
                  </a:lnTo>
                  <a:lnTo>
                    <a:pt x="5527" y="170"/>
                  </a:lnTo>
                  <a:lnTo>
                    <a:pt x="5441" y="0"/>
                  </a:lnTo>
                  <a:lnTo>
                    <a:pt x="35" y="2736"/>
                  </a:lnTo>
                  <a:lnTo>
                    <a:pt x="0" y="2877"/>
                  </a:lnTo>
                  <a:lnTo>
                    <a:pt x="0" y="2877"/>
                  </a:lnTo>
                  <a:lnTo>
                    <a:pt x="48" y="2943"/>
                  </a:lnTo>
                  <a:lnTo>
                    <a:pt x="121" y="2906"/>
                  </a:lnTo>
                  <a:lnTo>
                    <a:pt x="0" y="287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8200" y="2344680"/>
              <a:ext cx="9720" cy="9720"/>
            </a:xfrm>
            <a:custGeom>
              <a:avLst/>
              <a:gdLst/>
              <a:ahLst/>
              <a:rect l="l" t="t" r="r" b="b"/>
              <a:pathLst>
                <a:path w="162" h="161">
                  <a:moveTo>
                    <a:pt x="78" y="0"/>
                  </a:moveTo>
                  <a:lnTo>
                    <a:pt x="0" y="152"/>
                  </a:lnTo>
                  <a:lnTo>
                    <a:pt x="6" y="161"/>
                  </a:lnTo>
                  <a:lnTo>
                    <a:pt x="162" y="49"/>
                  </a:lnTo>
                  <a:lnTo>
                    <a:pt x="156" y="41"/>
                  </a:lnTo>
                  <a:lnTo>
                    <a:pt x="78" y="0"/>
                  </a:lnTo>
                  <a:lnTo>
                    <a:pt x="156" y="41"/>
                  </a:lnTo>
                  <a:lnTo>
                    <a:pt x="127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6360" y="2344680"/>
              <a:ext cx="236520" cy="11160"/>
            </a:xfrm>
            <a:custGeom>
              <a:avLst/>
              <a:gdLst/>
              <a:ahLst/>
              <a:rect l="l" t="t" r="r" b="b"/>
              <a:pathLst>
                <a:path w="4016" h="192">
                  <a:moveTo>
                    <a:pt x="0" y="97"/>
                  </a:moveTo>
                  <a:lnTo>
                    <a:pt x="97" y="192"/>
                  </a:lnTo>
                  <a:lnTo>
                    <a:pt x="4016" y="192"/>
                  </a:lnTo>
                  <a:lnTo>
                    <a:pt x="4016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0" y="192"/>
                  </a:lnTo>
                  <a:lnTo>
                    <a:pt x="97" y="19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6360" y="1728720"/>
              <a:ext cx="11160" cy="620640"/>
            </a:xfrm>
            <a:custGeom>
              <a:avLst/>
              <a:gdLst/>
              <a:ahLst/>
              <a:rect l="l" t="t" r="r" b="b"/>
              <a:pathLst>
                <a:path w="192" h="10553">
                  <a:moveTo>
                    <a:pt x="97" y="0"/>
                  </a:moveTo>
                  <a:lnTo>
                    <a:pt x="0" y="96"/>
                  </a:lnTo>
                  <a:lnTo>
                    <a:pt x="0" y="10553"/>
                  </a:lnTo>
                  <a:lnTo>
                    <a:pt x="192" y="10553"/>
                  </a:lnTo>
                  <a:lnTo>
                    <a:pt x="192" y="96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12840" y="1728720"/>
              <a:ext cx="235080" cy="11160"/>
            </a:xfrm>
            <a:custGeom>
              <a:avLst/>
              <a:gdLst/>
              <a:ahLst/>
              <a:rect l="l" t="t" r="r" b="b"/>
              <a:pathLst>
                <a:path w="4003" h="192">
                  <a:moveTo>
                    <a:pt x="4003" y="51"/>
                  </a:moveTo>
                  <a:lnTo>
                    <a:pt x="3919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3919" y="192"/>
                  </a:lnTo>
                  <a:lnTo>
                    <a:pt x="4003" y="51"/>
                  </a:lnTo>
                  <a:lnTo>
                    <a:pt x="4003" y="51"/>
                  </a:lnTo>
                  <a:lnTo>
                    <a:pt x="3976" y="0"/>
                  </a:lnTo>
                  <a:lnTo>
                    <a:pt x="3919" y="0"/>
                  </a:lnTo>
                  <a:lnTo>
                    <a:pt x="4003" y="5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8200" y="1731960"/>
              <a:ext cx="9720" cy="792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48" y="141"/>
                  </a:moveTo>
                  <a:lnTo>
                    <a:pt x="176" y="11"/>
                  </a:lnTo>
                  <a:lnTo>
                    <a:pt x="170" y="0"/>
                  </a:lnTo>
                  <a:lnTo>
                    <a:pt x="0" y="91"/>
                  </a:lnTo>
                  <a:lnTo>
                    <a:pt x="7" y="102"/>
                  </a:lnTo>
                  <a:lnTo>
                    <a:pt x="48" y="141"/>
                  </a:lnTo>
                  <a:lnTo>
                    <a:pt x="7" y="102"/>
                  </a:lnTo>
                  <a:lnTo>
                    <a:pt x="22" y="128"/>
                  </a:lnTo>
                  <a:lnTo>
                    <a:pt x="48" y="14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57520" y="1701720"/>
              <a:ext cx="102960" cy="69840"/>
            </a:xfrm>
            <a:custGeom>
              <a:avLst/>
              <a:gdLst/>
              <a:ahLst/>
              <a:rect l="l" t="t" r="r" b="b"/>
              <a:pathLst>
                <a:path w="1742" h="1192">
                  <a:moveTo>
                    <a:pt x="183" y="1192"/>
                  </a:moveTo>
                  <a:lnTo>
                    <a:pt x="1742" y="0"/>
                  </a:lnTo>
                  <a:lnTo>
                    <a:pt x="0" y="38"/>
                  </a:lnTo>
                  <a:lnTo>
                    <a:pt x="183" y="1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0720" y="1612800"/>
              <a:ext cx="106560" cy="69840"/>
            </a:xfrm>
            <a:custGeom>
              <a:avLst/>
              <a:gdLst/>
              <a:ahLst/>
              <a:rect l="l" t="t" r="r" b="b"/>
              <a:pathLst>
                <a:path w="1812" h="1191">
                  <a:moveTo>
                    <a:pt x="0" y="1191"/>
                  </a:moveTo>
                  <a:lnTo>
                    <a:pt x="1559" y="0"/>
                  </a:lnTo>
                  <a:lnTo>
                    <a:pt x="1812" y="1172"/>
                  </a:lnTo>
                  <a:lnTo>
                    <a:pt x="0" y="11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28640" y="1712880"/>
              <a:ext cx="103320" cy="68400"/>
            </a:xfrm>
            <a:custGeom>
              <a:avLst/>
              <a:gdLst/>
              <a:ahLst/>
              <a:rect l="l" t="t" r="r" b="b"/>
              <a:pathLst>
                <a:path w="1730" h="1179">
                  <a:moveTo>
                    <a:pt x="82" y="0"/>
                  </a:moveTo>
                  <a:lnTo>
                    <a:pt x="1730" y="886"/>
                  </a:lnTo>
                  <a:lnTo>
                    <a:pt x="0" y="117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63640" y="1604880"/>
              <a:ext cx="96840" cy="58680"/>
            </a:xfrm>
            <a:custGeom>
              <a:avLst/>
              <a:gdLst/>
              <a:ahLst/>
              <a:rect l="l" t="t" r="r" b="b"/>
              <a:pathLst>
                <a:path w="1649" h="1009">
                  <a:moveTo>
                    <a:pt x="0" y="123"/>
                  </a:moveTo>
                  <a:lnTo>
                    <a:pt x="1649" y="1009"/>
                  </a:lnTo>
                  <a:lnTo>
                    <a:pt x="1533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8600" y="1697040"/>
              <a:ext cx="63360" cy="47520"/>
            </a:xfrm>
            <a:custGeom>
              <a:avLst/>
              <a:gdLst/>
              <a:ahLst/>
              <a:rect l="l" t="t" r="r" b="b"/>
              <a:pathLst>
                <a:path w="1091" h="799">
                  <a:moveTo>
                    <a:pt x="0" y="576"/>
                  </a:moveTo>
                  <a:lnTo>
                    <a:pt x="738" y="0"/>
                  </a:lnTo>
                  <a:lnTo>
                    <a:pt x="1091" y="256"/>
                  </a:lnTo>
                  <a:lnTo>
                    <a:pt x="385" y="799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7800" y="1622520"/>
              <a:ext cx="87480" cy="58680"/>
            </a:xfrm>
            <a:custGeom>
              <a:avLst/>
              <a:gdLst/>
              <a:ahLst/>
              <a:rect l="l" t="t" r="r" b="b"/>
              <a:pathLst>
                <a:path w="1476" h="990">
                  <a:moveTo>
                    <a:pt x="0" y="767"/>
                  </a:moveTo>
                  <a:lnTo>
                    <a:pt x="1123" y="0"/>
                  </a:lnTo>
                  <a:lnTo>
                    <a:pt x="1476" y="256"/>
                  </a:lnTo>
                  <a:lnTo>
                    <a:pt x="385" y="990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4880" y="1609560"/>
              <a:ext cx="85680" cy="47880"/>
            </a:xfrm>
            <a:custGeom>
              <a:avLst/>
              <a:gdLst/>
              <a:ahLst/>
              <a:rect l="l" t="t" r="r" b="b"/>
              <a:pathLst>
                <a:path w="1476" h="800">
                  <a:moveTo>
                    <a:pt x="1476" y="575"/>
                  </a:moveTo>
                  <a:lnTo>
                    <a:pt x="354" y="0"/>
                  </a:lnTo>
                  <a:lnTo>
                    <a:pt x="0" y="255"/>
                  </a:lnTo>
                  <a:lnTo>
                    <a:pt x="1091" y="800"/>
                  </a:lnTo>
                  <a:lnTo>
                    <a:pt x="1476" y="5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95320" y="1719360"/>
              <a:ext cx="86040" cy="46080"/>
            </a:xfrm>
            <a:custGeom>
              <a:avLst/>
              <a:gdLst/>
              <a:ahLst/>
              <a:rect l="l" t="t" r="r" b="b"/>
              <a:pathLst>
                <a:path w="1476" h="799">
                  <a:moveTo>
                    <a:pt x="1476" y="575"/>
                  </a:moveTo>
                  <a:lnTo>
                    <a:pt x="353" y="0"/>
                  </a:lnTo>
                  <a:lnTo>
                    <a:pt x="0" y="256"/>
                  </a:lnTo>
                  <a:lnTo>
                    <a:pt x="1091" y="799"/>
                  </a:lnTo>
                  <a:lnTo>
                    <a:pt x="1476" y="5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52480" y="1697040"/>
              <a:ext cx="103320" cy="69840"/>
            </a:xfrm>
            <a:custGeom>
              <a:avLst/>
              <a:gdLst/>
              <a:ahLst/>
              <a:rect l="l" t="t" r="r" b="b"/>
              <a:pathLst>
                <a:path w="1741" h="1191">
                  <a:moveTo>
                    <a:pt x="183" y="1191"/>
                  </a:moveTo>
                  <a:lnTo>
                    <a:pt x="1741" y="0"/>
                  </a:lnTo>
                  <a:lnTo>
                    <a:pt x="0" y="37"/>
                  </a:lnTo>
                  <a:lnTo>
                    <a:pt x="183" y="11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4600" y="1608120"/>
              <a:ext cx="108000" cy="69840"/>
            </a:xfrm>
            <a:custGeom>
              <a:avLst/>
              <a:gdLst/>
              <a:ahLst/>
              <a:rect l="l" t="t" r="r" b="b"/>
              <a:pathLst>
                <a:path w="1811" h="1190">
                  <a:moveTo>
                    <a:pt x="0" y="1190"/>
                  </a:moveTo>
                  <a:lnTo>
                    <a:pt x="1558" y="0"/>
                  </a:lnTo>
                  <a:lnTo>
                    <a:pt x="1811" y="117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3960" y="1708200"/>
              <a:ext cx="101520" cy="69840"/>
            </a:xfrm>
            <a:custGeom>
              <a:avLst/>
              <a:gdLst/>
              <a:ahLst/>
              <a:rect l="l" t="t" r="r" b="b"/>
              <a:pathLst>
                <a:path w="1730" h="1177">
                  <a:moveTo>
                    <a:pt x="81" y="0"/>
                  </a:moveTo>
                  <a:lnTo>
                    <a:pt x="1730" y="885"/>
                  </a:lnTo>
                  <a:lnTo>
                    <a:pt x="0" y="117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58960" y="1600200"/>
              <a:ext cx="96840" cy="58680"/>
            </a:xfrm>
            <a:custGeom>
              <a:avLst/>
              <a:gdLst/>
              <a:ahLst/>
              <a:rect l="l" t="t" r="r" b="b"/>
              <a:pathLst>
                <a:path w="1647" h="1008">
                  <a:moveTo>
                    <a:pt x="0" y="121"/>
                  </a:moveTo>
                  <a:lnTo>
                    <a:pt x="1647" y="1008"/>
                  </a:lnTo>
                  <a:lnTo>
                    <a:pt x="1532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63560" y="1693800"/>
              <a:ext cx="63720" cy="46080"/>
            </a:xfrm>
            <a:custGeom>
              <a:avLst/>
              <a:gdLst/>
              <a:ahLst/>
              <a:rect l="l" t="t" r="r" b="b"/>
              <a:pathLst>
                <a:path w="1092" h="800">
                  <a:moveTo>
                    <a:pt x="0" y="575"/>
                  </a:moveTo>
                  <a:lnTo>
                    <a:pt x="739" y="0"/>
                  </a:lnTo>
                  <a:lnTo>
                    <a:pt x="1092" y="256"/>
                  </a:lnTo>
                  <a:lnTo>
                    <a:pt x="386" y="800"/>
                  </a:lnTo>
                  <a:lnTo>
                    <a:pt x="0" y="5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3120" y="1619280"/>
              <a:ext cx="85680" cy="57240"/>
            </a:xfrm>
            <a:custGeom>
              <a:avLst/>
              <a:gdLst/>
              <a:ahLst/>
              <a:rect l="l" t="t" r="r" b="b"/>
              <a:pathLst>
                <a:path w="1477" h="991">
                  <a:moveTo>
                    <a:pt x="0" y="768"/>
                  </a:moveTo>
                  <a:lnTo>
                    <a:pt x="1123" y="0"/>
                  </a:lnTo>
                  <a:lnTo>
                    <a:pt x="1477" y="256"/>
                  </a:lnTo>
                  <a:lnTo>
                    <a:pt x="385" y="991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8760" y="1604880"/>
              <a:ext cx="87120" cy="47520"/>
            </a:xfrm>
            <a:custGeom>
              <a:avLst/>
              <a:gdLst/>
              <a:ahLst/>
              <a:rect l="l" t="t" r="r" b="b"/>
              <a:pathLst>
                <a:path w="1477" h="799">
                  <a:moveTo>
                    <a:pt x="1477" y="576"/>
                  </a:moveTo>
                  <a:lnTo>
                    <a:pt x="353" y="0"/>
                  </a:lnTo>
                  <a:lnTo>
                    <a:pt x="0" y="256"/>
                  </a:lnTo>
                  <a:lnTo>
                    <a:pt x="1091" y="799"/>
                  </a:lnTo>
                  <a:lnTo>
                    <a:pt x="1477" y="5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89200" y="1714320"/>
              <a:ext cx="87120" cy="47880"/>
            </a:xfrm>
            <a:custGeom>
              <a:avLst/>
              <a:gdLst/>
              <a:ahLst/>
              <a:rect l="l" t="t" r="r" b="b"/>
              <a:pathLst>
                <a:path w="1476" h="800">
                  <a:moveTo>
                    <a:pt x="1476" y="575"/>
                  </a:moveTo>
                  <a:lnTo>
                    <a:pt x="354" y="0"/>
                  </a:lnTo>
                  <a:lnTo>
                    <a:pt x="0" y="255"/>
                  </a:lnTo>
                  <a:lnTo>
                    <a:pt x="1091" y="800"/>
                  </a:lnTo>
                  <a:lnTo>
                    <a:pt x="1476" y="5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6040" y="1860480"/>
              <a:ext cx="57240" cy="95400"/>
            </a:xfrm>
            <a:custGeom>
              <a:avLst/>
              <a:gdLst/>
              <a:ahLst/>
              <a:rect l="l" t="t" r="r" b="b"/>
              <a:pathLst>
                <a:path w="973" h="1610">
                  <a:moveTo>
                    <a:pt x="0" y="0"/>
                  </a:moveTo>
                  <a:lnTo>
                    <a:pt x="0" y="1610"/>
                  </a:lnTo>
                  <a:lnTo>
                    <a:pt x="973" y="8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6040" y="2116080"/>
              <a:ext cx="57240" cy="95400"/>
            </a:xfrm>
            <a:custGeom>
              <a:avLst/>
              <a:gdLst/>
              <a:ahLst/>
              <a:rect l="l" t="t" r="r" b="b"/>
              <a:pathLst>
                <a:path w="973" h="1610">
                  <a:moveTo>
                    <a:pt x="0" y="0"/>
                  </a:moveTo>
                  <a:lnTo>
                    <a:pt x="0" y="1610"/>
                  </a:lnTo>
                  <a:lnTo>
                    <a:pt x="973" y="8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2680" y="1862280"/>
              <a:ext cx="57240" cy="95040"/>
            </a:xfrm>
            <a:custGeom>
              <a:avLst/>
              <a:gdLst/>
              <a:ahLst/>
              <a:rect l="l" t="t" r="r" b="b"/>
              <a:pathLst>
                <a:path w="974" h="1611">
                  <a:moveTo>
                    <a:pt x="974" y="1611"/>
                  </a:moveTo>
                  <a:lnTo>
                    <a:pt x="974" y="0"/>
                  </a:lnTo>
                  <a:lnTo>
                    <a:pt x="0" y="774"/>
                  </a:lnTo>
                  <a:lnTo>
                    <a:pt x="974" y="16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2680" y="2119320"/>
              <a:ext cx="57240" cy="95040"/>
            </a:xfrm>
            <a:custGeom>
              <a:avLst/>
              <a:gdLst/>
              <a:ahLst/>
              <a:rect l="l" t="t" r="r" b="b"/>
              <a:pathLst>
                <a:path w="974" h="1611">
                  <a:moveTo>
                    <a:pt x="974" y="1611"/>
                  </a:moveTo>
                  <a:lnTo>
                    <a:pt x="974" y="0"/>
                  </a:lnTo>
                  <a:lnTo>
                    <a:pt x="0" y="774"/>
                  </a:lnTo>
                  <a:lnTo>
                    <a:pt x="974" y="16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35240" y="1890720"/>
              <a:ext cx="291960" cy="295200"/>
            </a:xfrm>
            <a:custGeom>
              <a:avLst/>
              <a:gdLst/>
              <a:ahLst/>
              <a:rect l="l" t="t" r="r" b="b"/>
              <a:pathLst>
                <a:path w="4974" h="5034">
                  <a:moveTo>
                    <a:pt x="65" y="0"/>
                  </a:moveTo>
                  <a:lnTo>
                    <a:pt x="1572" y="0"/>
                  </a:lnTo>
                  <a:lnTo>
                    <a:pt x="3755" y="4333"/>
                  </a:lnTo>
                  <a:lnTo>
                    <a:pt x="4974" y="4333"/>
                  </a:lnTo>
                  <a:lnTo>
                    <a:pt x="4937" y="5034"/>
                  </a:lnTo>
                  <a:lnTo>
                    <a:pt x="3300" y="5034"/>
                  </a:lnTo>
                  <a:lnTo>
                    <a:pt x="995" y="672"/>
                  </a:lnTo>
                  <a:lnTo>
                    <a:pt x="0" y="67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22280" y="1888920"/>
              <a:ext cx="300240" cy="295560"/>
            </a:xfrm>
            <a:custGeom>
              <a:avLst/>
              <a:gdLst/>
              <a:ahLst/>
              <a:rect l="l" t="t" r="r" b="b"/>
              <a:pathLst>
                <a:path w="5103" h="5034">
                  <a:moveTo>
                    <a:pt x="0" y="5034"/>
                  </a:moveTo>
                  <a:lnTo>
                    <a:pt x="1894" y="5034"/>
                  </a:lnTo>
                  <a:lnTo>
                    <a:pt x="4076" y="701"/>
                  </a:lnTo>
                  <a:lnTo>
                    <a:pt x="5103" y="701"/>
                  </a:lnTo>
                  <a:lnTo>
                    <a:pt x="5065" y="0"/>
                  </a:lnTo>
                  <a:lnTo>
                    <a:pt x="3621" y="0"/>
                  </a:lnTo>
                  <a:lnTo>
                    <a:pt x="1316" y="4362"/>
                  </a:lnTo>
                  <a:lnTo>
                    <a:pt x="129" y="4362"/>
                  </a:lnTo>
                  <a:lnTo>
                    <a:pt x="0" y="50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1360" y="1857240"/>
              <a:ext cx="57240" cy="93600"/>
            </a:xfrm>
            <a:custGeom>
              <a:avLst/>
              <a:gdLst/>
              <a:ahLst/>
              <a:rect l="l" t="t" r="r" b="b"/>
              <a:pathLst>
                <a:path w="973" h="1610">
                  <a:moveTo>
                    <a:pt x="0" y="0"/>
                  </a:moveTo>
                  <a:lnTo>
                    <a:pt x="0" y="1610"/>
                  </a:lnTo>
                  <a:lnTo>
                    <a:pt x="973" y="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1360" y="2112840"/>
              <a:ext cx="57240" cy="93600"/>
            </a:xfrm>
            <a:custGeom>
              <a:avLst/>
              <a:gdLst/>
              <a:ahLst/>
              <a:rect l="l" t="t" r="r" b="b"/>
              <a:pathLst>
                <a:path w="973" h="1610">
                  <a:moveTo>
                    <a:pt x="0" y="0"/>
                  </a:moveTo>
                  <a:lnTo>
                    <a:pt x="0" y="1610"/>
                  </a:lnTo>
                  <a:lnTo>
                    <a:pt x="973" y="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8000" y="1859040"/>
              <a:ext cx="57240" cy="93600"/>
            </a:xfrm>
            <a:custGeom>
              <a:avLst/>
              <a:gdLst/>
              <a:ahLst/>
              <a:rect l="l" t="t" r="r" b="b"/>
              <a:pathLst>
                <a:path w="973" h="1610">
                  <a:moveTo>
                    <a:pt x="973" y="1610"/>
                  </a:moveTo>
                  <a:lnTo>
                    <a:pt x="973" y="0"/>
                  </a:lnTo>
                  <a:lnTo>
                    <a:pt x="0" y="774"/>
                  </a:lnTo>
                  <a:lnTo>
                    <a:pt x="973" y="16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78000" y="2116080"/>
              <a:ext cx="57240" cy="93600"/>
            </a:xfrm>
            <a:custGeom>
              <a:avLst/>
              <a:gdLst/>
              <a:ahLst/>
              <a:rect l="l" t="t" r="r" b="b"/>
              <a:pathLst>
                <a:path w="973" h="1610">
                  <a:moveTo>
                    <a:pt x="973" y="1610"/>
                  </a:moveTo>
                  <a:lnTo>
                    <a:pt x="973" y="0"/>
                  </a:lnTo>
                  <a:lnTo>
                    <a:pt x="0" y="773"/>
                  </a:lnTo>
                  <a:lnTo>
                    <a:pt x="973" y="16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30200" y="1886040"/>
              <a:ext cx="292320" cy="296640"/>
            </a:xfrm>
            <a:custGeom>
              <a:avLst/>
              <a:gdLst/>
              <a:ahLst/>
              <a:rect l="l" t="t" r="r" b="b"/>
              <a:pathLst>
                <a:path w="4973" h="5034">
                  <a:moveTo>
                    <a:pt x="63" y="0"/>
                  </a:moveTo>
                  <a:lnTo>
                    <a:pt x="1572" y="0"/>
                  </a:lnTo>
                  <a:lnTo>
                    <a:pt x="3753" y="4332"/>
                  </a:lnTo>
                  <a:lnTo>
                    <a:pt x="4973" y="4332"/>
                  </a:lnTo>
                  <a:lnTo>
                    <a:pt x="4935" y="5034"/>
                  </a:lnTo>
                  <a:lnTo>
                    <a:pt x="3299" y="5034"/>
                  </a:lnTo>
                  <a:lnTo>
                    <a:pt x="995" y="671"/>
                  </a:lnTo>
                  <a:lnTo>
                    <a:pt x="0" y="67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17600" y="1884240"/>
              <a:ext cx="300240" cy="297000"/>
            </a:xfrm>
            <a:custGeom>
              <a:avLst/>
              <a:gdLst/>
              <a:ahLst/>
              <a:rect l="l" t="t" r="r" b="b"/>
              <a:pathLst>
                <a:path w="5101" h="5034">
                  <a:moveTo>
                    <a:pt x="0" y="5034"/>
                  </a:moveTo>
                  <a:lnTo>
                    <a:pt x="1893" y="5034"/>
                  </a:lnTo>
                  <a:lnTo>
                    <a:pt x="4075" y="701"/>
                  </a:lnTo>
                  <a:lnTo>
                    <a:pt x="5101" y="701"/>
                  </a:lnTo>
                  <a:lnTo>
                    <a:pt x="5064" y="0"/>
                  </a:lnTo>
                  <a:lnTo>
                    <a:pt x="3621" y="0"/>
                  </a:lnTo>
                  <a:lnTo>
                    <a:pt x="1315" y="4362"/>
                  </a:lnTo>
                  <a:lnTo>
                    <a:pt x="129" y="4362"/>
                  </a:lnTo>
                  <a:lnTo>
                    <a:pt x="0" y="50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292400" y="2819520"/>
            <a:ext cx="931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92400" y="4038480"/>
            <a:ext cx="931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249120" y="2433600"/>
            <a:ext cx="1090440" cy="1074600"/>
            <a:chOff x="249120" y="2433600"/>
            <a:chExt cx="1090440" cy="1074600"/>
          </a:xfrm>
        </p:grpSpPr>
        <p:sp>
          <p:nvSpPr>
            <p:cNvPr id="766" name=""/>
            <p:cNvSpPr/>
            <p:nvPr/>
          </p:nvSpPr>
          <p:spPr>
            <a:xfrm>
              <a:off x="1179360" y="2649240"/>
              <a:ext cx="156960" cy="851040"/>
            </a:xfrm>
            <a:custGeom>
              <a:avLst/>
              <a:gdLst/>
              <a:ahLst/>
              <a:rect l="l" t="t" r="r" b="b"/>
              <a:pathLst>
                <a:path w="2379" h="12853">
                  <a:moveTo>
                    <a:pt x="0" y="2371"/>
                  </a:moveTo>
                  <a:lnTo>
                    <a:pt x="0" y="12853"/>
                  </a:lnTo>
                  <a:lnTo>
                    <a:pt x="2379" y="10480"/>
                  </a:lnTo>
                  <a:lnTo>
                    <a:pt x="2379" y="0"/>
                  </a:lnTo>
                  <a:lnTo>
                    <a:pt x="2191" y="0"/>
                  </a:lnTo>
                  <a:lnTo>
                    <a:pt x="0" y="2371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76120" y="2806560"/>
              <a:ext cx="6480" cy="701640"/>
            </a:xfrm>
            <a:custGeom>
              <a:avLst/>
              <a:gdLst/>
              <a:ahLst/>
              <a:rect l="l" t="t" r="r" b="b"/>
              <a:pathLst>
                <a:path w="104" h="10606">
                  <a:moveTo>
                    <a:pt x="88" y="10518"/>
                  </a:moveTo>
                  <a:lnTo>
                    <a:pt x="104" y="10482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10482"/>
                  </a:lnTo>
                  <a:lnTo>
                    <a:pt x="88" y="10518"/>
                  </a:lnTo>
                  <a:lnTo>
                    <a:pt x="0" y="10482"/>
                  </a:lnTo>
                  <a:lnTo>
                    <a:pt x="0" y="10606"/>
                  </a:lnTo>
                  <a:lnTo>
                    <a:pt x="88" y="1051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76120" y="3341520"/>
              <a:ext cx="163440" cy="160560"/>
            </a:xfrm>
            <a:custGeom>
              <a:avLst/>
              <a:gdLst/>
              <a:ahLst/>
              <a:rect l="l" t="t" r="r" b="b"/>
              <a:pathLst>
                <a:path w="2465" h="2444">
                  <a:moveTo>
                    <a:pt x="2465" y="35"/>
                  </a:moveTo>
                  <a:lnTo>
                    <a:pt x="2377" y="0"/>
                  </a:lnTo>
                  <a:lnTo>
                    <a:pt x="0" y="2371"/>
                  </a:lnTo>
                  <a:lnTo>
                    <a:pt x="72" y="2444"/>
                  </a:lnTo>
                  <a:lnTo>
                    <a:pt x="2450" y="72"/>
                  </a:lnTo>
                  <a:lnTo>
                    <a:pt x="2465" y="35"/>
                  </a:lnTo>
                  <a:lnTo>
                    <a:pt x="2450" y="72"/>
                  </a:lnTo>
                  <a:lnTo>
                    <a:pt x="2465" y="57"/>
                  </a:lnTo>
                  <a:lnTo>
                    <a:pt x="2465" y="3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33440" y="2646360"/>
              <a:ext cx="6120" cy="696960"/>
            </a:xfrm>
            <a:custGeom>
              <a:avLst/>
              <a:gdLst/>
              <a:ahLst/>
              <a:rect l="l" t="t" r="r" b="b"/>
              <a:pathLst>
                <a:path w="104" h="10531">
                  <a:moveTo>
                    <a:pt x="53" y="0"/>
                  </a:moveTo>
                  <a:lnTo>
                    <a:pt x="0" y="51"/>
                  </a:lnTo>
                  <a:lnTo>
                    <a:pt x="0" y="10531"/>
                  </a:lnTo>
                  <a:lnTo>
                    <a:pt x="104" y="10531"/>
                  </a:lnTo>
                  <a:lnTo>
                    <a:pt x="104" y="51"/>
                  </a:lnTo>
                  <a:lnTo>
                    <a:pt x="53" y="0"/>
                  </a:lnTo>
                  <a:lnTo>
                    <a:pt x="104" y="51"/>
                  </a:lnTo>
                  <a:lnTo>
                    <a:pt x="104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7040" y="2806560"/>
              <a:ext cx="922320" cy="69372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76120" y="2803320"/>
              <a:ext cx="6480" cy="696960"/>
            </a:xfrm>
            <a:custGeom>
              <a:avLst/>
              <a:gdLst/>
              <a:ahLst/>
              <a:rect l="l" t="t" r="r" b="b"/>
              <a:pathLst>
                <a:path w="104" h="10533">
                  <a:moveTo>
                    <a:pt x="51" y="0"/>
                  </a:moveTo>
                  <a:lnTo>
                    <a:pt x="0" y="51"/>
                  </a:lnTo>
                  <a:lnTo>
                    <a:pt x="0" y="10533"/>
                  </a:lnTo>
                  <a:lnTo>
                    <a:pt x="104" y="10533"/>
                  </a:lnTo>
                  <a:lnTo>
                    <a:pt x="104" y="51"/>
                  </a:lnTo>
                  <a:lnTo>
                    <a:pt x="51" y="0"/>
                  </a:lnTo>
                  <a:lnTo>
                    <a:pt x="104" y="51"/>
                  </a:lnTo>
                  <a:lnTo>
                    <a:pt x="104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53800" y="2803320"/>
              <a:ext cx="925560" cy="6480"/>
            </a:xfrm>
            <a:custGeom>
              <a:avLst/>
              <a:gdLst/>
              <a:ahLst/>
              <a:rect l="l" t="t" r="r" b="b"/>
              <a:pathLst>
                <a:path w="13986" h="104">
                  <a:moveTo>
                    <a:pt x="0" y="51"/>
                  </a:moveTo>
                  <a:lnTo>
                    <a:pt x="51" y="104"/>
                  </a:lnTo>
                  <a:lnTo>
                    <a:pt x="13986" y="104"/>
                  </a:lnTo>
                  <a:lnTo>
                    <a:pt x="13986" y="0"/>
                  </a:lnTo>
                  <a:lnTo>
                    <a:pt x="51" y="0"/>
                  </a:lnTo>
                  <a:lnTo>
                    <a:pt x="0" y="51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53800" y="2806560"/>
              <a:ext cx="6480" cy="696960"/>
            </a:xfrm>
            <a:custGeom>
              <a:avLst/>
              <a:gdLst/>
              <a:ahLst/>
              <a:rect l="l" t="t" r="r" b="b"/>
              <a:pathLst>
                <a:path w="104" h="10533">
                  <a:moveTo>
                    <a:pt x="51" y="10533"/>
                  </a:moveTo>
                  <a:lnTo>
                    <a:pt x="104" y="10482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10482"/>
                  </a:lnTo>
                  <a:lnTo>
                    <a:pt x="51" y="10533"/>
                  </a:lnTo>
                  <a:lnTo>
                    <a:pt x="0" y="10482"/>
                  </a:lnTo>
                  <a:lnTo>
                    <a:pt x="0" y="10533"/>
                  </a:lnTo>
                  <a:lnTo>
                    <a:pt x="51" y="1053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7040" y="3497040"/>
              <a:ext cx="925560" cy="6480"/>
            </a:xfrm>
            <a:custGeom>
              <a:avLst/>
              <a:gdLst/>
              <a:ahLst/>
              <a:rect l="l" t="t" r="r" b="b"/>
              <a:pathLst>
                <a:path w="13988" h="103">
                  <a:moveTo>
                    <a:pt x="13988" y="52"/>
                  </a:moveTo>
                  <a:lnTo>
                    <a:pt x="13935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3935" y="103"/>
                  </a:lnTo>
                  <a:lnTo>
                    <a:pt x="13988" y="52"/>
                  </a:lnTo>
                  <a:lnTo>
                    <a:pt x="13935" y="103"/>
                  </a:lnTo>
                  <a:lnTo>
                    <a:pt x="13988" y="103"/>
                  </a:lnTo>
                  <a:lnTo>
                    <a:pt x="13988" y="5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57040" y="2649240"/>
              <a:ext cx="1066680" cy="157320"/>
            </a:xfrm>
            <a:custGeom>
              <a:avLst/>
              <a:gdLst/>
              <a:ahLst/>
              <a:rect l="l" t="t" r="r" b="b"/>
              <a:pathLst>
                <a:path w="16126" h="2371">
                  <a:moveTo>
                    <a:pt x="16126" y="0"/>
                  </a:moveTo>
                  <a:lnTo>
                    <a:pt x="2379" y="0"/>
                  </a:lnTo>
                  <a:lnTo>
                    <a:pt x="0" y="2371"/>
                  </a:lnTo>
                  <a:lnTo>
                    <a:pt x="13935" y="2371"/>
                  </a:lnTo>
                  <a:lnTo>
                    <a:pt x="16126" y="0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12560" y="2646360"/>
              <a:ext cx="911160" cy="6120"/>
            </a:xfrm>
            <a:custGeom>
              <a:avLst/>
              <a:gdLst/>
              <a:ahLst/>
              <a:rect l="l" t="t" r="r" b="b"/>
              <a:pathLst>
                <a:path w="13784" h="102">
                  <a:moveTo>
                    <a:pt x="0" y="14"/>
                  </a:moveTo>
                  <a:lnTo>
                    <a:pt x="37" y="102"/>
                  </a:lnTo>
                  <a:lnTo>
                    <a:pt x="13784" y="102"/>
                  </a:lnTo>
                  <a:lnTo>
                    <a:pt x="13784" y="0"/>
                  </a:lnTo>
                  <a:lnTo>
                    <a:pt x="37" y="0"/>
                  </a:lnTo>
                  <a:lnTo>
                    <a:pt x="0" y="14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9120" y="2647800"/>
              <a:ext cx="168120" cy="162000"/>
            </a:xfrm>
            <a:custGeom>
              <a:avLst/>
              <a:gdLst/>
              <a:ahLst/>
              <a:rect l="l" t="t" r="r" b="b"/>
              <a:pathLst>
                <a:path w="2538" h="2461">
                  <a:moveTo>
                    <a:pt x="124" y="2461"/>
                  </a:moveTo>
                  <a:lnTo>
                    <a:pt x="161" y="2445"/>
                  </a:lnTo>
                  <a:lnTo>
                    <a:pt x="2538" y="73"/>
                  </a:lnTo>
                  <a:lnTo>
                    <a:pt x="2466" y="0"/>
                  </a:lnTo>
                  <a:lnTo>
                    <a:pt x="88" y="2373"/>
                  </a:lnTo>
                  <a:lnTo>
                    <a:pt x="124" y="2461"/>
                  </a:lnTo>
                  <a:lnTo>
                    <a:pt x="88" y="2373"/>
                  </a:lnTo>
                  <a:lnTo>
                    <a:pt x="0" y="2461"/>
                  </a:lnTo>
                  <a:lnTo>
                    <a:pt x="124" y="246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57040" y="2803320"/>
              <a:ext cx="923760" cy="6480"/>
            </a:xfrm>
            <a:custGeom>
              <a:avLst/>
              <a:gdLst/>
              <a:ahLst/>
              <a:rect l="l" t="t" r="r" b="b"/>
              <a:pathLst>
                <a:path w="13973" h="104">
                  <a:moveTo>
                    <a:pt x="13973" y="86"/>
                  </a:moveTo>
                  <a:lnTo>
                    <a:pt x="13935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3935" y="104"/>
                  </a:lnTo>
                  <a:lnTo>
                    <a:pt x="13973" y="86"/>
                  </a:lnTo>
                  <a:lnTo>
                    <a:pt x="13935" y="104"/>
                  </a:lnTo>
                  <a:lnTo>
                    <a:pt x="13958" y="104"/>
                  </a:lnTo>
                  <a:lnTo>
                    <a:pt x="13973" y="8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76120" y="2646360"/>
              <a:ext cx="155520" cy="163440"/>
            </a:xfrm>
            <a:custGeom>
              <a:avLst/>
              <a:gdLst/>
              <a:ahLst/>
              <a:rect l="l" t="t" r="r" b="b"/>
              <a:pathLst>
                <a:path w="2346" h="2457">
                  <a:moveTo>
                    <a:pt x="2229" y="0"/>
                  </a:moveTo>
                  <a:lnTo>
                    <a:pt x="2191" y="16"/>
                  </a:lnTo>
                  <a:lnTo>
                    <a:pt x="0" y="2388"/>
                  </a:lnTo>
                  <a:lnTo>
                    <a:pt x="76" y="2457"/>
                  </a:lnTo>
                  <a:lnTo>
                    <a:pt x="2267" y="86"/>
                  </a:lnTo>
                  <a:lnTo>
                    <a:pt x="2229" y="0"/>
                  </a:lnTo>
                  <a:lnTo>
                    <a:pt x="2267" y="86"/>
                  </a:lnTo>
                  <a:lnTo>
                    <a:pt x="2346" y="0"/>
                  </a:lnTo>
                  <a:lnTo>
                    <a:pt x="2229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8040" y="2887560"/>
              <a:ext cx="760320" cy="53172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95120" y="2884320"/>
              <a:ext cx="6480" cy="534960"/>
            </a:xfrm>
            <a:custGeom>
              <a:avLst/>
              <a:gdLst/>
              <a:ahLst/>
              <a:rect l="l" t="t" r="r" b="b"/>
              <a:pathLst>
                <a:path w="104" h="8105">
                  <a:moveTo>
                    <a:pt x="52" y="0"/>
                  </a:moveTo>
                  <a:lnTo>
                    <a:pt x="0" y="51"/>
                  </a:lnTo>
                  <a:lnTo>
                    <a:pt x="0" y="8105"/>
                  </a:lnTo>
                  <a:lnTo>
                    <a:pt x="104" y="8105"/>
                  </a:lnTo>
                  <a:lnTo>
                    <a:pt x="104" y="51"/>
                  </a:lnTo>
                  <a:lnTo>
                    <a:pt x="52" y="0"/>
                  </a:lnTo>
                  <a:lnTo>
                    <a:pt x="104" y="51"/>
                  </a:lnTo>
                  <a:lnTo>
                    <a:pt x="104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4800" y="2884320"/>
              <a:ext cx="763560" cy="6480"/>
            </a:xfrm>
            <a:custGeom>
              <a:avLst/>
              <a:gdLst/>
              <a:ahLst/>
              <a:rect l="l" t="t" r="r" b="b"/>
              <a:pathLst>
                <a:path w="11553" h="102">
                  <a:moveTo>
                    <a:pt x="0" y="51"/>
                  </a:moveTo>
                  <a:lnTo>
                    <a:pt x="51" y="102"/>
                  </a:lnTo>
                  <a:lnTo>
                    <a:pt x="11553" y="102"/>
                  </a:lnTo>
                  <a:lnTo>
                    <a:pt x="11553" y="0"/>
                  </a:lnTo>
                  <a:lnTo>
                    <a:pt x="51" y="0"/>
                  </a:lnTo>
                  <a:lnTo>
                    <a:pt x="0" y="51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4800" y="2887560"/>
              <a:ext cx="6120" cy="534960"/>
            </a:xfrm>
            <a:custGeom>
              <a:avLst/>
              <a:gdLst/>
              <a:ahLst/>
              <a:rect l="l" t="t" r="r" b="b"/>
              <a:pathLst>
                <a:path w="103" h="8105">
                  <a:moveTo>
                    <a:pt x="51" y="8105"/>
                  </a:moveTo>
                  <a:lnTo>
                    <a:pt x="103" y="8054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8054"/>
                  </a:lnTo>
                  <a:lnTo>
                    <a:pt x="51" y="8105"/>
                  </a:lnTo>
                  <a:lnTo>
                    <a:pt x="0" y="8054"/>
                  </a:lnTo>
                  <a:lnTo>
                    <a:pt x="0" y="8105"/>
                  </a:lnTo>
                  <a:lnTo>
                    <a:pt x="51" y="810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38040" y="3416040"/>
              <a:ext cx="763560" cy="6480"/>
            </a:xfrm>
            <a:custGeom>
              <a:avLst/>
              <a:gdLst/>
              <a:ahLst/>
              <a:rect l="l" t="t" r="r" b="b"/>
              <a:pathLst>
                <a:path w="11554" h="102">
                  <a:moveTo>
                    <a:pt x="11554" y="51"/>
                  </a:moveTo>
                  <a:lnTo>
                    <a:pt x="11502" y="0"/>
                  </a:lnTo>
                  <a:lnTo>
                    <a:pt x="0" y="0"/>
                  </a:lnTo>
                  <a:lnTo>
                    <a:pt x="0" y="102"/>
                  </a:lnTo>
                  <a:lnTo>
                    <a:pt x="11502" y="102"/>
                  </a:lnTo>
                  <a:lnTo>
                    <a:pt x="11554" y="51"/>
                  </a:lnTo>
                  <a:lnTo>
                    <a:pt x="11502" y="102"/>
                  </a:lnTo>
                  <a:lnTo>
                    <a:pt x="11554" y="102"/>
                  </a:lnTo>
                  <a:lnTo>
                    <a:pt x="11554" y="5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8040" y="3416040"/>
              <a:ext cx="763560" cy="6480"/>
            </a:xfrm>
            <a:custGeom>
              <a:avLst/>
              <a:gdLst/>
              <a:ahLst/>
              <a:rect l="l" t="t" r="r" b="b"/>
              <a:pathLst>
                <a:path w="11554" h="102">
                  <a:moveTo>
                    <a:pt x="11554" y="51"/>
                  </a:moveTo>
                  <a:lnTo>
                    <a:pt x="11502" y="0"/>
                  </a:lnTo>
                  <a:lnTo>
                    <a:pt x="0" y="0"/>
                  </a:lnTo>
                  <a:lnTo>
                    <a:pt x="0" y="102"/>
                  </a:lnTo>
                  <a:lnTo>
                    <a:pt x="11502" y="102"/>
                  </a:lnTo>
                  <a:lnTo>
                    <a:pt x="11554" y="51"/>
                  </a:lnTo>
                  <a:lnTo>
                    <a:pt x="11502" y="102"/>
                  </a:lnTo>
                  <a:lnTo>
                    <a:pt x="11554" y="102"/>
                  </a:lnTo>
                  <a:lnTo>
                    <a:pt x="11554" y="5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95120" y="2887560"/>
              <a:ext cx="6480" cy="53172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571480"/>
              <a:ext cx="244440" cy="22068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50680" y="2566800"/>
              <a:ext cx="7920" cy="225360"/>
            </a:xfrm>
            <a:custGeom>
              <a:avLst/>
              <a:gdLst/>
              <a:ahLst/>
              <a:rect l="l" t="t" r="r" b="b"/>
              <a:pathLst>
                <a:path w="103" h="3399">
                  <a:moveTo>
                    <a:pt x="52" y="0"/>
                  </a:moveTo>
                  <a:lnTo>
                    <a:pt x="0" y="52"/>
                  </a:lnTo>
                  <a:lnTo>
                    <a:pt x="0" y="3399"/>
                  </a:lnTo>
                  <a:lnTo>
                    <a:pt x="103" y="3399"/>
                  </a:lnTo>
                  <a:lnTo>
                    <a:pt x="103" y="52"/>
                  </a:lnTo>
                  <a:lnTo>
                    <a:pt x="52" y="0"/>
                  </a:lnTo>
                  <a:lnTo>
                    <a:pt x="103" y="52"/>
                  </a:lnTo>
                  <a:lnTo>
                    <a:pt x="10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6240" y="2566800"/>
              <a:ext cx="247680" cy="7920"/>
            </a:xfrm>
            <a:custGeom>
              <a:avLst/>
              <a:gdLst/>
              <a:ahLst/>
              <a:rect l="l" t="t" r="r" b="b"/>
              <a:pathLst>
                <a:path w="3759" h="103">
                  <a:moveTo>
                    <a:pt x="0" y="52"/>
                  </a:moveTo>
                  <a:lnTo>
                    <a:pt x="51" y="103"/>
                  </a:lnTo>
                  <a:lnTo>
                    <a:pt x="3759" y="103"/>
                  </a:lnTo>
                  <a:lnTo>
                    <a:pt x="3759" y="0"/>
                  </a:lnTo>
                  <a:lnTo>
                    <a:pt x="51" y="0"/>
                  </a:lnTo>
                  <a:lnTo>
                    <a:pt x="0" y="52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6240" y="2571480"/>
              <a:ext cx="6120" cy="223920"/>
            </a:xfrm>
            <a:custGeom>
              <a:avLst/>
              <a:gdLst/>
              <a:ahLst/>
              <a:rect l="l" t="t" r="r" b="b"/>
              <a:pathLst>
                <a:path w="102" h="3399">
                  <a:moveTo>
                    <a:pt x="51" y="3399"/>
                  </a:moveTo>
                  <a:lnTo>
                    <a:pt x="102" y="3347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3347"/>
                  </a:lnTo>
                  <a:lnTo>
                    <a:pt x="51" y="3399"/>
                  </a:lnTo>
                  <a:lnTo>
                    <a:pt x="0" y="3347"/>
                  </a:lnTo>
                  <a:lnTo>
                    <a:pt x="0" y="3399"/>
                  </a:lnTo>
                  <a:lnTo>
                    <a:pt x="51" y="339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2789280"/>
              <a:ext cx="249120" cy="6120"/>
            </a:xfrm>
            <a:custGeom>
              <a:avLst/>
              <a:gdLst/>
              <a:ahLst/>
              <a:rect l="l" t="t" r="r" b="b"/>
              <a:pathLst>
                <a:path w="3759" h="104">
                  <a:moveTo>
                    <a:pt x="3759" y="52"/>
                  </a:moveTo>
                  <a:lnTo>
                    <a:pt x="3708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3708" y="104"/>
                  </a:lnTo>
                  <a:lnTo>
                    <a:pt x="3759" y="52"/>
                  </a:lnTo>
                  <a:lnTo>
                    <a:pt x="3708" y="104"/>
                  </a:lnTo>
                  <a:lnTo>
                    <a:pt x="3759" y="104"/>
                  </a:lnTo>
                  <a:lnTo>
                    <a:pt x="3759" y="5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2441520"/>
              <a:ext cx="380880" cy="129960"/>
            </a:xfrm>
            <a:custGeom>
              <a:avLst/>
              <a:gdLst/>
              <a:ahLst/>
              <a:rect l="l" t="t" r="r" b="b"/>
              <a:pathLst>
                <a:path w="5753" h="1957">
                  <a:moveTo>
                    <a:pt x="5753" y="0"/>
                  </a:moveTo>
                  <a:lnTo>
                    <a:pt x="2045" y="0"/>
                  </a:lnTo>
                  <a:lnTo>
                    <a:pt x="0" y="1957"/>
                  </a:lnTo>
                  <a:lnTo>
                    <a:pt x="3708" y="1957"/>
                  </a:lnTo>
                  <a:lnTo>
                    <a:pt x="5753" y="0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2680" y="2438280"/>
              <a:ext cx="247680" cy="6480"/>
            </a:xfrm>
            <a:custGeom>
              <a:avLst/>
              <a:gdLst/>
              <a:ahLst/>
              <a:rect l="l" t="t" r="r" b="b"/>
              <a:pathLst>
                <a:path w="3743" h="102">
                  <a:moveTo>
                    <a:pt x="0" y="14"/>
                  </a:moveTo>
                  <a:lnTo>
                    <a:pt x="35" y="102"/>
                  </a:lnTo>
                  <a:lnTo>
                    <a:pt x="3743" y="102"/>
                  </a:lnTo>
                  <a:lnTo>
                    <a:pt x="3743" y="0"/>
                  </a:lnTo>
                  <a:lnTo>
                    <a:pt x="35" y="0"/>
                  </a:lnTo>
                  <a:lnTo>
                    <a:pt x="0" y="14"/>
                  </a:lnTo>
                  <a:lnTo>
                    <a:pt x="35" y="0"/>
                  </a:lnTo>
                  <a:lnTo>
                    <a:pt x="1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01560" y="2438280"/>
              <a:ext cx="145800" cy="136440"/>
            </a:xfrm>
            <a:custGeom>
              <a:avLst/>
              <a:gdLst/>
              <a:ahLst/>
              <a:rect l="l" t="t" r="r" b="b"/>
              <a:pathLst>
                <a:path w="2207" h="2045">
                  <a:moveTo>
                    <a:pt x="126" y="2045"/>
                  </a:moveTo>
                  <a:lnTo>
                    <a:pt x="162" y="2030"/>
                  </a:lnTo>
                  <a:lnTo>
                    <a:pt x="2207" y="74"/>
                  </a:lnTo>
                  <a:lnTo>
                    <a:pt x="2136" y="0"/>
                  </a:lnTo>
                  <a:lnTo>
                    <a:pt x="90" y="1957"/>
                  </a:lnTo>
                  <a:lnTo>
                    <a:pt x="126" y="2045"/>
                  </a:lnTo>
                  <a:lnTo>
                    <a:pt x="90" y="1957"/>
                  </a:lnTo>
                  <a:lnTo>
                    <a:pt x="0" y="2045"/>
                  </a:lnTo>
                  <a:lnTo>
                    <a:pt x="126" y="204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9480" y="2566800"/>
              <a:ext cx="247680" cy="7920"/>
            </a:xfrm>
            <a:custGeom>
              <a:avLst/>
              <a:gdLst/>
              <a:ahLst/>
              <a:rect l="l" t="t" r="r" b="b"/>
              <a:pathLst>
                <a:path w="3743" h="103">
                  <a:moveTo>
                    <a:pt x="3743" y="88"/>
                  </a:moveTo>
                  <a:lnTo>
                    <a:pt x="3708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3708" y="103"/>
                  </a:lnTo>
                  <a:lnTo>
                    <a:pt x="3743" y="88"/>
                  </a:lnTo>
                  <a:lnTo>
                    <a:pt x="3708" y="103"/>
                  </a:lnTo>
                  <a:lnTo>
                    <a:pt x="3729" y="103"/>
                  </a:lnTo>
                  <a:lnTo>
                    <a:pt x="3743" y="8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52120" y="2438280"/>
              <a:ext cx="146160" cy="135000"/>
            </a:xfrm>
            <a:custGeom>
              <a:avLst/>
              <a:gdLst/>
              <a:ahLst/>
              <a:rect l="l" t="t" r="r" b="b"/>
              <a:pathLst>
                <a:path w="2207" h="2044">
                  <a:moveTo>
                    <a:pt x="2081" y="0"/>
                  </a:moveTo>
                  <a:lnTo>
                    <a:pt x="2045" y="14"/>
                  </a:lnTo>
                  <a:lnTo>
                    <a:pt x="0" y="1971"/>
                  </a:lnTo>
                  <a:lnTo>
                    <a:pt x="71" y="2044"/>
                  </a:lnTo>
                  <a:lnTo>
                    <a:pt x="2117" y="88"/>
                  </a:lnTo>
                  <a:lnTo>
                    <a:pt x="2081" y="0"/>
                  </a:lnTo>
                  <a:lnTo>
                    <a:pt x="2117" y="88"/>
                  </a:lnTo>
                  <a:lnTo>
                    <a:pt x="2207" y="0"/>
                  </a:lnTo>
                  <a:lnTo>
                    <a:pt x="2081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53920" y="2441520"/>
              <a:ext cx="136440" cy="350640"/>
            </a:xfrm>
            <a:custGeom>
              <a:avLst/>
              <a:gdLst/>
              <a:ahLst/>
              <a:rect l="l" t="t" r="r" b="b"/>
              <a:pathLst>
                <a:path w="2045" h="5304">
                  <a:moveTo>
                    <a:pt x="0" y="1957"/>
                  </a:moveTo>
                  <a:lnTo>
                    <a:pt x="0" y="5304"/>
                  </a:lnTo>
                  <a:lnTo>
                    <a:pt x="2045" y="3347"/>
                  </a:lnTo>
                  <a:lnTo>
                    <a:pt x="2045" y="0"/>
                  </a:lnTo>
                  <a:lnTo>
                    <a:pt x="0" y="1957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0680" y="2571480"/>
              <a:ext cx="7920" cy="228600"/>
            </a:xfrm>
            <a:custGeom>
              <a:avLst/>
              <a:gdLst/>
              <a:ahLst/>
              <a:rect l="l" t="t" r="r" b="b"/>
              <a:pathLst>
                <a:path w="103" h="3467">
                  <a:moveTo>
                    <a:pt x="87" y="3384"/>
                  </a:moveTo>
                  <a:lnTo>
                    <a:pt x="103" y="3347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3347"/>
                  </a:lnTo>
                  <a:lnTo>
                    <a:pt x="87" y="3384"/>
                  </a:lnTo>
                  <a:lnTo>
                    <a:pt x="0" y="3347"/>
                  </a:lnTo>
                  <a:lnTo>
                    <a:pt x="0" y="3467"/>
                  </a:lnTo>
                  <a:lnTo>
                    <a:pt x="87" y="338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52120" y="2660400"/>
              <a:ext cx="141480" cy="135000"/>
            </a:xfrm>
            <a:custGeom>
              <a:avLst/>
              <a:gdLst/>
              <a:ahLst/>
              <a:rect l="l" t="t" r="r" b="b"/>
              <a:pathLst>
                <a:path w="2132" h="2031">
                  <a:moveTo>
                    <a:pt x="2132" y="37"/>
                  </a:moveTo>
                  <a:lnTo>
                    <a:pt x="2045" y="0"/>
                  </a:lnTo>
                  <a:lnTo>
                    <a:pt x="0" y="1958"/>
                  </a:lnTo>
                  <a:lnTo>
                    <a:pt x="71" y="2031"/>
                  </a:lnTo>
                  <a:lnTo>
                    <a:pt x="2117" y="74"/>
                  </a:lnTo>
                  <a:lnTo>
                    <a:pt x="2132" y="37"/>
                  </a:lnTo>
                  <a:lnTo>
                    <a:pt x="2117" y="74"/>
                  </a:lnTo>
                  <a:lnTo>
                    <a:pt x="2132" y="59"/>
                  </a:lnTo>
                  <a:lnTo>
                    <a:pt x="2132" y="3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85680" y="2433600"/>
              <a:ext cx="7920" cy="228600"/>
            </a:xfrm>
            <a:custGeom>
              <a:avLst/>
              <a:gdLst/>
              <a:ahLst/>
              <a:rect l="l" t="t" r="r" b="b"/>
              <a:pathLst>
                <a:path w="102" h="3467">
                  <a:moveTo>
                    <a:pt x="15" y="83"/>
                  </a:moveTo>
                  <a:lnTo>
                    <a:pt x="0" y="120"/>
                  </a:lnTo>
                  <a:lnTo>
                    <a:pt x="0" y="3467"/>
                  </a:lnTo>
                  <a:lnTo>
                    <a:pt x="102" y="3467"/>
                  </a:lnTo>
                  <a:lnTo>
                    <a:pt x="102" y="120"/>
                  </a:lnTo>
                  <a:lnTo>
                    <a:pt x="15" y="83"/>
                  </a:lnTo>
                  <a:lnTo>
                    <a:pt x="102" y="120"/>
                  </a:lnTo>
                  <a:lnTo>
                    <a:pt x="102" y="0"/>
                  </a:lnTo>
                  <a:lnTo>
                    <a:pt x="15" y="8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50680" y="2438280"/>
              <a:ext cx="141120" cy="135000"/>
            </a:xfrm>
            <a:custGeom>
              <a:avLst/>
              <a:gdLst/>
              <a:ahLst/>
              <a:rect l="l" t="t" r="r" b="b"/>
              <a:pathLst>
                <a:path w="2133" h="2030">
                  <a:moveTo>
                    <a:pt x="0" y="1994"/>
                  </a:moveTo>
                  <a:lnTo>
                    <a:pt x="87" y="2030"/>
                  </a:lnTo>
                  <a:lnTo>
                    <a:pt x="2133" y="74"/>
                  </a:lnTo>
                  <a:lnTo>
                    <a:pt x="2061" y="0"/>
                  </a:lnTo>
                  <a:lnTo>
                    <a:pt x="16" y="1957"/>
                  </a:lnTo>
                  <a:lnTo>
                    <a:pt x="0" y="1994"/>
                  </a:lnTo>
                  <a:lnTo>
                    <a:pt x="16" y="1957"/>
                  </a:lnTo>
                  <a:lnTo>
                    <a:pt x="0" y="1972"/>
                  </a:lnTo>
                  <a:lnTo>
                    <a:pt x="0" y="199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4280" y="2611440"/>
              <a:ext cx="127080" cy="125280"/>
            </a:xfrm>
            <a:custGeom>
              <a:avLst/>
              <a:gdLst/>
              <a:ahLst/>
              <a:rect l="l" t="t" r="r" b="b"/>
              <a:pathLst>
                <a:path w="1913" h="1908">
                  <a:moveTo>
                    <a:pt x="1913" y="953"/>
                  </a:moveTo>
                  <a:lnTo>
                    <a:pt x="1912" y="1003"/>
                  </a:lnTo>
                  <a:lnTo>
                    <a:pt x="1909" y="1052"/>
                  </a:lnTo>
                  <a:lnTo>
                    <a:pt x="1902" y="1099"/>
                  </a:lnTo>
                  <a:lnTo>
                    <a:pt x="1893" y="1146"/>
                  </a:lnTo>
                  <a:lnTo>
                    <a:pt x="1883" y="1192"/>
                  </a:lnTo>
                  <a:lnTo>
                    <a:pt x="1870" y="1238"/>
                  </a:lnTo>
                  <a:lnTo>
                    <a:pt x="1855" y="1282"/>
                  </a:lnTo>
                  <a:lnTo>
                    <a:pt x="1838" y="1325"/>
                  </a:lnTo>
                  <a:lnTo>
                    <a:pt x="1818" y="1368"/>
                  </a:lnTo>
                  <a:lnTo>
                    <a:pt x="1798" y="1409"/>
                  </a:lnTo>
                  <a:lnTo>
                    <a:pt x="1774" y="1449"/>
                  </a:lnTo>
                  <a:lnTo>
                    <a:pt x="1750" y="1488"/>
                  </a:lnTo>
                  <a:lnTo>
                    <a:pt x="1723" y="1525"/>
                  </a:lnTo>
                  <a:lnTo>
                    <a:pt x="1695" y="1560"/>
                  </a:lnTo>
                  <a:lnTo>
                    <a:pt x="1664" y="1595"/>
                  </a:lnTo>
                  <a:lnTo>
                    <a:pt x="1633" y="1629"/>
                  </a:lnTo>
                  <a:lnTo>
                    <a:pt x="1600" y="1660"/>
                  </a:lnTo>
                  <a:lnTo>
                    <a:pt x="1565" y="1690"/>
                  </a:lnTo>
                  <a:lnTo>
                    <a:pt x="1529" y="1718"/>
                  </a:lnTo>
                  <a:lnTo>
                    <a:pt x="1491" y="1745"/>
                  </a:lnTo>
                  <a:lnTo>
                    <a:pt x="1453" y="1770"/>
                  </a:lnTo>
                  <a:lnTo>
                    <a:pt x="1413" y="1793"/>
                  </a:lnTo>
                  <a:lnTo>
                    <a:pt x="1371" y="1814"/>
                  </a:lnTo>
                  <a:lnTo>
                    <a:pt x="1329" y="1833"/>
                  </a:lnTo>
                  <a:lnTo>
                    <a:pt x="1286" y="1850"/>
                  </a:lnTo>
                  <a:lnTo>
                    <a:pt x="1242" y="1865"/>
                  </a:lnTo>
                  <a:lnTo>
                    <a:pt x="1196" y="1878"/>
                  </a:lnTo>
                  <a:lnTo>
                    <a:pt x="1149" y="1889"/>
                  </a:lnTo>
                  <a:lnTo>
                    <a:pt x="1102" y="1897"/>
                  </a:lnTo>
                  <a:lnTo>
                    <a:pt x="1055" y="1903"/>
                  </a:lnTo>
                  <a:lnTo>
                    <a:pt x="1006" y="1906"/>
                  </a:lnTo>
                  <a:lnTo>
                    <a:pt x="957" y="1908"/>
                  </a:lnTo>
                  <a:lnTo>
                    <a:pt x="907" y="1906"/>
                  </a:lnTo>
                  <a:lnTo>
                    <a:pt x="859" y="1903"/>
                  </a:lnTo>
                  <a:lnTo>
                    <a:pt x="811" y="1897"/>
                  </a:lnTo>
                  <a:lnTo>
                    <a:pt x="765" y="1889"/>
                  </a:lnTo>
                  <a:lnTo>
                    <a:pt x="717" y="1878"/>
                  </a:lnTo>
                  <a:lnTo>
                    <a:pt x="672" y="1865"/>
                  </a:lnTo>
                  <a:lnTo>
                    <a:pt x="628" y="1850"/>
                  </a:lnTo>
                  <a:lnTo>
                    <a:pt x="585" y="1833"/>
                  </a:lnTo>
                  <a:lnTo>
                    <a:pt x="542" y="1814"/>
                  </a:lnTo>
                  <a:lnTo>
                    <a:pt x="501" y="1793"/>
                  </a:lnTo>
                  <a:lnTo>
                    <a:pt x="461" y="1770"/>
                  </a:lnTo>
                  <a:lnTo>
                    <a:pt x="422" y="1745"/>
                  </a:lnTo>
                  <a:lnTo>
                    <a:pt x="385" y="1718"/>
                  </a:lnTo>
                  <a:lnTo>
                    <a:pt x="349" y="1690"/>
                  </a:lnTo>
                  <a:lnTo>
                    <a:pt x="314" y="1660"/>
                  </a:lnTo>
                  <a:lnTo>
                    <a:pt x="280" y="1629"/>
                  </a:lnTo>
                  <a:lnTo>
                    <a:pt x="250" y="1595"/>
                  </a:lnTo>
                  <a:lnTo>
                    <a:pt x="219" y="1560"/>
                  </a:lnTo>
                  <a:lnTo>
                    <a:pt x="191" y="1525"/>
                  </a:lnTo>
                  <a:lnTo>
                    <a:pt x="164" y="1488"/>
                  </a:lnTo>
                  <a:lnTo>
                    <a:pt x="139" y="1449"/>
                  </a:lnTo>
                  <a:lnTo>
                    <a:pt x="116" y="1409"/>
                  </a:lnTo>
                  <a:lnTo>
                    <a:pt x="95" y="1368"/>
                  </a:lnTo>
                  <a:lnTo>
                    <a:pt x="76" y="1325"/>
                  </a:lnTo>
                  <a:lnTo>
                    <a:pt x="59" y="1282"/>
                  </a:lnTo>
                  <a:lnTo>
                    <a:pt x="43" y="1238"/>
                  </a:lnTo>
                  <a:lnTo>
                    <a:pt x="31" y="1192"/>
                  </a:lnTo>
                  <a:lnTo>
                    <a:pt x="20" y="1146"/>
                  </a:lnTo>
                  <a:lnTo>
                    <a:pt x="12" y="1099"/>
                  </a:lnTo>
                  <a:lnTo>
                    <a:pt x="5" y="1052"/>
                  </a:lnTo>
                  <a:lnTo>
                    <a:pt x="2" y="1003"/>
                  </a:lnTo>
                  <a:lnTo>
                    <a:pt x="0" y="953"/>
                  </a:lnTo>
                  <a:lnTo>
                    <a:pt x="2" y="905"/>
                  </a:lnTo>
                  <a:lnTo>
                    <a:pt x="5" y="856"/>
                  </a:lnTo>
                  <a:lnTo>
                    <a:pt x="12" y="809"/>
                  </a:lnTo>
                  <a:lnTo>
                    <a:pt x="20" y="762"/>
                  </a:lnTo>
                  <a:lnTo>
                    <a:pt x="31" y="716"/>
                  </a:lnTo>
                  <a:lnTo>
                    <a:pt x="43" y="670"/>
                  </a:lnTo>
                  <a:lnTo>
                    <a:pt x="59" y="626"/>
                  </a:lnTo>
                  <a:lnTo>
                    <a:pt x="76" y="583"/>
                  </a:lnTo>
                  <a:lnTo>
                    <a:pt x="95" y="540"/>
                  </a:lnTo>
                  <a:lnTo>
                    <a:pt x="116" y="499"/>
                  </a:lnTo>
                  <a:lnTo>
                    <a:pt x="139" y="459"/>
                  </a:lnTo>
                  <a:lnTo>
                    <a:pt x="164" y="420"/>
                  </a:lnTo>
                  <a:lnTo>
                    <a:pt x="191" y="383"/>
                  </a:lnTo>
                  <a:lnTo>
                    <a:pt x="219" y="348"/>
                  </a:lnTo>
                  <a:lnTo>
                    <a:pt x="250" y="313"/>
                  </a:lnTo>
                  <a:lnTo>
                    <a:pt x="280" y="279"/>
                  </a:lnTo>
                  <a:lnTo>
                    <a:pt x="314" y="248"/>
                  </a:lnTo>
                  <a:lnTo>
                    <a:pt x="349" y="218"/>
                  </a:lnTo>
                  <a:lnTo>
                    <a:pt x="385" y="190"/>
                  </a:lnTo>
                  <a:lnTo>
                    <a:pt x="422" y="163"/>
                  </a:lnTo>
                  <a:lnTo>
                    <a:pt x="461" y="138"/>
                  </a:lnTo>
                  <a:lnTo>
                    <a:pt x="501" y="115"/>
                  </a:lnTo>
                  <a:lnTo>
                    <a:pt x="542" y="94"/>
                  </a:lnTo>
                  <a:lnTo>
                    <a:pt x="585" y="75"/>
                  </a:lnTo>
                  <a:lnTo>
                    <a:pt x="628" y="58"/>
                  </a:lnTo>
                  <a:lnTo>
                    <a:pt x="672" y="43"/>
                  </a:lnTo>
                  <a:lnTo>
                    <a:pt x="717" y="30"/>
                  </a:lnTo>
                  <a:lnTo>
                    <a:pt x="765" y="19"/>
                  </a:lnTo>
                  <a:lnTo>
                    <a:pt x="811" y="11"/>
                  </a:lnTo>
                  <a:lnTo>
                    <a:pt x="859" y="5"/>
                  </a:lnTo>
                  <a:lnTo>
                    <a:pt x="907" y="2"/>
                  </a:lnTo>
                  <a:lnTo>
                    <a:pt x="957" y="0"/>
                  </a:lnTo>
                  <a:lnTo>
                    <a:pt x="1006" y="2"/>
                  </a:lnTo>
                  <a:lnTo>
                    <a:pt x="1055" y="5"/>
                  </a:lnTo>
                  <a:lnTo>
                    <a:pt x="1102" y="11"/>
                  </a:lnTo>
                  <a:lnTo>
                    <a:pt x="1149" y="19"/>
                  </a:lnTo>
                  <a:lnTo>
                    <a:pt x="1196" y="30"/>
                  </a:lnTo>
                  <a:lnTo>
                    <a:pt x="1242" y="43"/>
                  </a:lnTo>
                  <a:lnTo>
                    <a:pt x="1286" y="58"/>
                  </a:lnTo>
                  <a:lnTo>
                    <a:pt x="1329" y="75"/>
                  </a:lnTo>
                  <a:lnTo>
                    <a:pt x="1371" y="94"/>
                  </a:lnTo>
                  <a:lnTo>
                    <a:pt x="1413" y="115"/>
                  </a:lnTo>
                  <a:lnTo>
                    <a:pt x="1453" y="138"/>
                  </a:lnTo>
                  <a:lnTo>
                    <a:pt x="1491" y="163"/>
                  </a:lnTo>
                  <a:lnTo>
                    <a:pt x="1529" y="190"/>
                  </a:lnTo>
                  <a:lnTo>
                    <a:pt x="1565" y="218"/>
                  </a:lnTo>
                  <a:lnTo>
                    <a:pt x="1600" y="248"/>
                  </a:lnTo>
                  <a:lnTo>
                    <a:pt x="1633" y="279"/>
                  </a:lnTo>
                  <a:lnTo>
                    <a:pt x="1664" y="313"/>
                  </a:lnTo>
                  <a:lnTo>
                    <a:pt x="1695" y="348"/>
                  </a:lnTo>
                  <a:lnTo>
                    <a:pt x="1723" y="383"/>
                  </a:lnTo>
                  <a:lnTo>
                    <a:pt x="1750" y="420"/>
                  </a:lnTo>
                  <a:lnTo>
                    <a:pt x="1774" y="459"/>
                  </a:lnTo>
                  <a:lnTo>
                    <a:pt x="1798" y="499"/>
                  </a:lnTo>
                  <a:lnTo>
                    <a:pt x="1818" y="540"/>
                  </a:lnTo>
                  <a:lnTo>
                    <a:pt x="1838" y="583"/>
                  </a:lnTo>
                  <a:lnTo>
                    <a:pt x="1855" y="626"/>
                  </a:lnTo>
                  <a:lnTo>
                    <a:pt x="1870" y="670"/>
                  </a:lnTo>
                  <a:lnTo>
                    <a:pt x="1883" y="716"/>
                  </a:lnTo>
                  <a:lnTo>
                    <a:pt x="1893" y="762"/>
                  </a:lnTo>
                  <a:lnTo>
                    <a:pt x="1902" y="809"/>
                  </a:lnTo>
                  <a:lnTo>
                    <a:pt x="1909" y="856"/>
                  </a:lnTo>
                  <a:lnTo>
                    <a:pt x="1912" y="905"/>
                  </a:lnTo>
                  <a:lnTo>
                    <a:pt x="1913" y="953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1160" y="2644560"/>
              <a:ext cx="127080" cy="125640"/>
            </a:xfrm>
            <a:custGeom>
              <a:avLst/>
              <a:gdLst/>
              <a:ahLst/>
              <a:rect l="l" t="t" r="r" b="b"/>
              <a:pathLst>
                <a:path w="1912" h="1908">
                  <a:moveTo>
                    <a:pt x="1912" y="954"/>
                  </a:moveTo>
                  <a:lnTo>
                    <a:pt x="1911" y="1003"/>
                  </a:lnTo>
                  <a:lnTo>
                    <a:pt x="1907" y="1051"/>
                  </a:lnTo>
                  <a:lnTo>
                    <a:pt x="1901" y="1099"/>
                  </a:lnTo>
                  <a:lnTo>
                    <a:pt x="1893" y="1146"/>
                  </a:lnTo>
                  <a:lnTo>
                    <a:pt x="1882" y="1192"/>
                  </a:lnTo>
                  <a:lnTo>
                    <a:pt x="1869" y="1237"/>
                  </a:lnTo>
                  <a:lnTo>
                    <a:pt x="1855" y="1281"/>
                  </a:lnTo>
                  <a:lnTo>
                    <a:pt x="1837" y="1325"/>
                  </a:lnTo>
                  <a:lnTo>
                    <a:pt x="1818" y="1367"/>
                  </a:lnTo>
                  <a:lnTo>
                    <a:pt x="1797" y="1408"/>
                  </a:lnTo>
                  <a:lnTo>
                    <a:pt x="1774" y="1448"/>
                  </a:lnTo>
                  <a:lnTo>
                    <a:pt x="1749" y="1487"/>
                  </a:lnTo>
                  <a:lnTo>
                    <a:pt x="1722" y="1524"/>
                  </a:lnTo>
                  <a:lnTo>
                    <a:pt x="1694" y="1561"/>
                  </a:lnTo>
                  <a:lnTo>
                    <a:pt x="1664" y="1596"/>
                  </a:lnTo>
                  <a:lnTo>
                    <a:pt x="1632" y="1628"/>
                  </a:lnTo>
                  <a:lnTo>
                    <a:pt x="1599" y="1660"/>
                  </a:lnTo>
                  <a:lnTo>
                    <a:pt x="1564" y="1690"/>
                  </a:lnTo>
                  <a:lnTo>
                    <a:pt x="1528" y="1718"/>
                  </a:lnTo>
                  <a:lnTo>
                    <a:pt x="1490" y="1745"/>
                  </a:lnTo>
                  <a:lnTo>
                    <a:pt x="1451" y="1770"/>
                  </a:lnTo>
                  <a:lnTo>
                    <a:pt x="1411" y="1792"/>
                  </a:lnTo>
                  <a:lnTo>
                    <a:pt x="1370" y="1814"/>
                  </a:lnTo>
                  <a:lnTo>
                    <a:pt x="1328" y="1833"/>
                  </a:lnTo>
                  <a:lnTo>
                    <a:pt x="1285" y="1849"/>
                  </a:lnTo>
                  <a:lnTo>
                    <a:pt x="1240" y="1865"/>
                  </a:lnTo>
                  <a:lnTo>
                    <a:pt x="1195" y="1878"/>
                  </a:lnTo>
                  <a:lnTo>
                    <a:pt x="1149" y="1888"/>
                  </a:lnTo>
                  <a:lnTo>
                    <a:pt x="1102" y="1897"/>
                  </a:lnTo>
                  <a:lnTo>
                    <a:pt x="1053" y="1903"/>
                  </a:lnTo>
                  <a:lnTo>
                    <a:pt x="1005" y="1907"/>
                  </a:lnTo>
                  <a:lnTo>
                    <a:pt x="956" y="1908"/>
                  </a:lnTo>
                  <a:lnTo>
                    <a:pt x="907" y="1907"/>
                  </a:lnTo>
                  <a:lnTo>
                    <a:pt x="858" y="1903"/>
                  </a:lnTo>
                  <a:lnTo>
                    <a:pt x="810" y="1897"/>
                  </a:lnTo>
                  <a:lnTo>
                    <a:pt x="763" y="1888"/>
                  </a:lnTo>
                  <a:lnTo>
                    <a:pt x="717" y="1878"/>
                  </a:lnTo>
                  <a:lnTo>
                    <a:pt x="672" y="1865"/>
                  </a:lnTo>
                  <a:lnTo>
                    <a:pt x="628" y="1849"/>
                  </a:lnTo>
                  <a:lnTo>
                    <a:pt x="583" y="1833"/>
                  </a:lnTo>
                  <a:lnTo>
                    <a:pt x="541" y="1814"/>
                  </a:lnTo>
                  <a:lnTo>
                    <a:pt x="500" y="1792"/>
                  </a:lnTo>
                  <a:lnTo>
                    <a:pt x="460" y="1770"/>
                  </a:lnTo>
                  <a:lnTo>
                    <a:pt x="421" y="1745"/>
                  </a:lnTo>
                  <a:lnTo>
                    <a:pt x="384" y="1718"/>
                  </a:lnTo>
                  <a:lnTo>
                    <a:pt x="347" y="1690"/>
                  </a:lnTo>
                  <a:lnTo>
                    <a:pt x="314" y="1660"/>
                  </a:lnTo>
                  <a:lnTo>
                    <a:pt x="280" y="1628"/>
                  </a:lnTo>
                  <a:lnTo>
                    <a:pt x="248" y="1596"/>
                  </a:lnTo>
                  <a:lnTo>
                    <a:pt x="218" y="1561"/>
                  </a:lnTo>
                  <a:lnTo>
                    <a:pt x="189" y="1524"/>
                  </a:lnTo>
                  <a:lnTo>
                    <a:pt x="163" y="1487"/>
                  </a:lnTo>
                  <a:lnTo>
                    <a:pt x="138" y="1448"/>
                  </a:lnTo>
                  <a:lnTo>
                    <a:pt x="116" y="1408"/>
                  </a:lnTo>
                  <a:lnTo>
                    <a:pt x="94" y="1367"/>
                  </a:lnTo>
                  <a:lnTo>
                    <a:pt x="75" y="1325"/>
                  </a:lnTo>
                  <a:lnTo>
                    <a:pt x="58" y="1281"/>
                  </a:lnTo>
                  <a:lnTo>
                    <a:pt x="43" y="1237"/>
                  </a:lnTo>
                  <a:lnTo>
                    <a:pt x="29" y="1192"/>
                  </a:lnTo>
                  <a:lnTo>
                    <a:pt x="19" y="1146"/>
                  </a:lnTo>
                  <a:lnTo>
                    <a:pt x="11" y="1099"/>
                  </a:lnTo>
                  <a:lnTo>
                    <a:pt x="5" y="1051"/>
                  </a:lnTo>
                  <a:lnTo>
                    <a:pt x="1" y="1003"/>
                  </a:lnTo>
                  <a:lnTo>
                    <a:pt x="0" y="954"/>
                  </a:lnTo>
                  <a:lnTo>
                    <a:pt x="1" y="905"/>
                  </a:lnTo>
                  <a:lnTo>
                    <a:pt x="5" y="857"/>
                  </a:lnTo>
                  <a:lnTo>
                    <a:pt x="11" y="809"/>
                  </a:lnTo>
                  <a:lnTo>
                    <a:pt x="19" y="761"/>
                  </a:lnTo>
                  <a:lnTo>
                    <a:pt x="29" y="715"/>
                  </a:lnTo>
                  <a:lnTo>
                    <a:pt x="43" y="670"/>
                  </a:lnTo>
                  <a:lnTo>
                    <a:pt x="58" y="625"/>
                  </a:lnTo>
                  <a:lnTo>
                    <a:pt x="75" y="582"/>
                  </a:lnTo>
                  <a:lnTo>
                    <a:pt x="94" y="540"/>
                  </a:lnTo>
                  <a:lnTo>
                    <a:pt x="116" y="499"/>
                  </a:lnTo>
                  <a:lnTo>
                    <a:pt x="138" y="460"/>
                  </a:lnTo>
                  <a:lnTo>
                    <a:pt x="163" y="421"/>
                  </a:lnTo>
                  <a:lnTo>
                    <a:pt x="189" y="383"/>
                  </a:lnTo>
                  <a:lnTo>
                    <a:pt x="218" y="347"/>
                  </a:lnTo>
                  <a:lnTo>
                    <a:pt x="248" y="312"/>
                  </a:lnTo>
                  <a:lnTo>
                    <a:pt x="280" y="279"/>
                  </a:lnTo>
                  <a:lnTo>
                    <a:pt x="314" y="248"/>
                  </a:lnTo>
                  <a:lnTo>
                    <a:pt x="347" y="218"/>
                  </a:lnTo>
                  <a:lnTo>
                    <a:pt x="384" y="189"/>
                  </a:lnTo>
                  <a:lnTo>
                    <a:pt x="421" y="163"/>
                  </a:lnTo>
                  <a:lnTo>
                    <a:pt x="460" y="138"/>
                  </a:lnTo>
                  <a:lnTo>
                    <a:pt x="500" y="115"/>
                  </a:lnTo>
                  <a:lnTo>
                    <a:pt x="541" y="94"/>
                  </a:lnTo>
                  <a:lnTo>
                    <a:pt x="583" y="75"/>
                  </a:lnTo>
                  <a:lnTo>
                    <a:pt x="628" y="57"/>
                  </a:lnTo>
                  <a:lnTo>
                    <a:pt x="672" y="43"/>
                  </a:lnTo>
                  <a:lnTo>
                    <a:pt x="717" y="30"/>
                  </a:lnTo>
                  <a:lnTo>
                    <a:pt x="763" y="19"/>
                  </a:lnTo>
                  <a:lnTo>
                    <a:pt x="810" y="10"/>
                  </a:lnTo>
                  <a:lnTo>
                    <a:pt x="858" y="5"/>
                  </a:lnTo>
                  <a:lnTo>
                    <a:pt x="907" y="1"/>
                  </a:lnTo>
                  <a:lnTo>
                    <a:pt x="956" y="0"/>
                  </a:lnTo>
                  <a:lnTo>
                    <a:pt x="1005" y="1"/>
                  </a:lnTo>
                  <a:lnTo>
                    <a:pt x="1053" y="5"/>
                  </a:lnTo>
                  <a:lnTo>
                    <a:pt x="1102" y="10"/>
                  </a:lnTo>
                  <a:lnTo>
                    <a:pt x="1149" y="19"/>
                  </a:lnTo>
                  <a:lnTo>
                    <a:pt x="1195" y="30"/>
                  </a:lnTo>
                  <a:lnTo>
                    <a:pt x="1240" y="43"/>
                  </a:lnTo>
                  <a:lnTo>
                    <a:pt x="1285" y="57"/>
                  </a:lnTo>
                  <a:lnTo>
                    <a:pt x="1328" y="75"/>
                  </a:lnTo>
                  <a:lnTo>
                    <a:pt x="1370" y="94"/>
                  </a:lnTo>
                  <a:lnTo>
                    <a:pt x="1411" y="115"/>
                  </a:lnTo>
                  <a:lnTo>
                    <a:pt x="1451" y="138"/>
                  </a:lnTo>
                  <a:lnTo>
                    <a:pt x="1490" y="163"/>
                  </a:lnTo>
                  <a:lnTo>
                    <a:pt x="1528" y="189"/>
                  </a:lnTo>
                  <a:lnTo>
                    <a:pt x="1564" y="218"/>
                  </a:lnTo>
                  <a:lnTo>
                    <a:pt x="1599" y="248"/>
                  </a:lnTo>
                  <a:lnTo>
                    <a:pt x="1632" y="279"/>
                  </a:lnTo>
                  <a:lnTo>
                    <a:pt x="1664" y="312"/>
                  </a:lnTo>
                  <a:lnTo>
                    <a:pt x="1694" y="347"/>
                  </a:lnTo>
                  <a:lnTo>
                    <a:pt x="1722" y="383"/>
                  </a:lnTo>
                  <a:lnTo>
                    <a:pt x="1749" y="421"/>
                  </a:lnTo>
                  <a:lnTo>
                    <a:pt x="1774" y="460"/>
                  </a:lnTo>
                  <a:lnTo>
                    <a:pt x="1797" y="499"/>
                  </a:lnTo>
                  <a:lnTo>
                    <a:pt x="1818" y="540"/>
                  </a:lnTo>
                  <a:lnTo>
                    <a:pt x="1837" y="582"/>
                  </a:lnTo>
                  <a:lnTo>
                    <a:pt x="1855" y="625"/>
                  </a:lnTo>
                  <a:lnTo>
                    <a:pt x="1869" y="670"/>
                  </a:lnTo>
                  <a:lnTo>
                    <a:pt x="1882" y="715"/>
                  </a:lnTo>
                  <a:lnTo>
                    <a:pt x="1893" y="761"/>
                  </a:lnTo>
                  <a:lnTo>
                    <a:pt x="1901" y="809"/>
                  </a:lnTo>
                  <a:lnTo>
                    <a:pt x="1907" y="857"/>
                  </a:lnTo>
                  <a:lnTo>
                    <a:pt x="1911" y="905"/>
                  </a:lnTo>
                  <a:lnTo>
                    <a:pt x="1912" y="9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4520" y="2706480"/>
              <a:ext cx="66600" cy="66600"/>
            </a:xfrm>
            <a:custGeom>
              <a:avLst/>
              <a:gdLst/>
              <a:ahLst/>
              <a:rect l="l" t="t" r="r" b="b"/>
              <a:pathLst>
                <a:path w="1007" h="1005">
                  <a:moveTo>
                    <a:pt x="0" y="1005"/>
                  </a:moveTo>
                  <a:lnTo>
                    <a:pt x="0" y="1005"/>
                  </a:lnTo>
                  <a:lnTo>
                    <a:pt x="26" y="1005"/>
                  </a:lnTo>
                  <a:lnTo>
                    <a:pt x="51" y="1004"/>
                  </a:lnTo>
                  <a:lnTo>
                    <a:pt x="78" y="1002"/>
                  </a:lnTo>
                  <a:lnTo>
                    <a:pt x="102" y="1000"/>
                  </a:lnTo>
                  <a:lnTo>
                    <a:pt x="128" y="997"/>
                  </a:lnTo>
                  <a:lnTo>
                    <a:pt x="153" y="994"/>
                  </a:lnTo>
                  <a:lnTo>
                    <a:pt x="178" y="990"/>
                  </a:lnTo>
                  <a:lnTo>
                    <a:pt x="203" y="984"/>
                  </a:lnTo>
                  <a:lnTo>
                    <a:pt x="228" y="979"/>
                  </a:lnTo>
                  <a:lnTo>
                    <a:pt x="251" y="973"/>
                  </a:lnTo>
                  <a:lnTo>
                    <a:pt x="276" y="967"/>
                  </a:lnTo>
                  <a:lnTo>
                    <a:pt x="299" y="960"/>
                  </a:lnTo>
                  <a:lnTo>
                    <a:pt x="323" y="952"/>
                  </a:lnTo>
                  <a:lnTo>
                    <a:pt x="347" y="944"/>
                  </a:lnTo>
                  <a:lnTo>
                    <a:pt x="369" y="935"/>
                  </a:lnTo>
                  <a:lnTo>
                    <a:pt x="392" y="926"/>
                  </a:lnTo>
                  <a:lnTo>
                    <a:pt x="414" y="916"/>
                  </a:lnTo>
                  <a:lnTo>
                    <a:pt x="437" y="906"/>
                  </a:lnTo>
                  <a:lnTo>
                    <a:pt x="458" y="895"/>
                  </a:lnTo>
                  <a:lnTo>
                    <a:pt x="480" y="883"/>
                  </a:lnTo>
                  <a:lnTo>
                    <a:pt x="502" y="872"/>
                  </a:lnTo>
                  <a:lnTo>
                    <a:pt x="522" y="860"/>
                  </a:lnTo>
                  <a:lnTo>
                    <a:pt x="543" y="846"/>
                  </a:lnTo>
                  <a:lnTo>
                    <a:pt x="563" y="833"/>
                  </a:lnTo>
                  <a:lnTo>
                    <a:pt x="584" y="820"/>
                  </a:lnTo>
                  <a:lnTo>
                    <a:pt x="603" y="805"/>
                  </a:lnTo>
                  <a:lnTo>
                    <a:pt x="623" y="791"/>
                  </a:lnTo>
                  <a:lnTo>
                    <a:pt x="641" y="776"/>
                  </a:lnTo>
                  <a:lnTo>
                    <a:pt x="660" y="760"/>
                  </a:lnTo>
                  <a:lnTo>
                    <a:pt x="678" y="744"/>
                  </a:lnTo>
                  <a:lnTo>
                    <a:pt x="696" y="728"/>
                  </a:lnTo>
                  <a:lnTo>
                    <a:pt x="713" y="710"/>
                  </a:lnTo>
                  <a:lnTo>
                    <a:pt x="729" y="693"/>
                  </a:lnTo>
                  <a:lnTo>
                    <a:pt x="746" y="675"/>
                  </a:lnTo>
                  <a:lnTo>
                    <a:pt x="762" y="658"/>
                  </a:lnTo>
                  <a:lnTo>
                    <a:pt x="778" y="639"/>
                  </a:lnTo>
                  <a:lnTo>
                    <a:pt x="793" y="620"/>
                  </a:lnTo>
                  <a:lnTo>
                    <a:pt x="807" y="602"/>
                  </a:lnTo>
                  <a:lnTo>
                    <a:pt x="822" y="581"/>
                  </a:lnTo>
                  <a:lnTo>
                    <a:pt x="836" y="562"/>
                  </a:lnTo>
                  <a:lnTo>
                    <a:pt x="848" y="541"/>
                  </a:lnTo>
                  <a:lnTo>
                    <a:pt x="862" y="521"/>
                  </a:lnTo>
                  <a:lnTo>
                    <a:pt x="874" y="500"/>
                  </a:lnTo>
                  <a:lnTo>
                    <a:pt x="886" y="479"/>
                  </a:lnTo>
                  <a:lnTo>
                    <a:pt x="898" y="457"/>
                  </a:lnTo>
                  <a:lnTo>
                    <a:pt x="908" y="436"/>
                  </a:lnTo>
                  <a:lnTo>
                    <a:pt x="919" y="413"/>
                  </a:lnTo>
                  <a:lnTo>
                    <a:pt x="928" y="391"/>
                  </a:lnTo>
                  <a:lnTo>
                    <a:pt x="938" y="368"/>
                  </a:lnTo>
                  <a:lnTo>
                    <a:pt x="947" y="346"/>
                  </a:lnTo>
                  <a:lnTo>
                    <a:pt x="955" y="322"/>
                  </a:lnTo>
                  <a:lnTo>
                    <a:pt x="962" y="299"/>
                  </a:lnTo>
                  <a:lnTo>
                    <a:pt x="969" y="275"/>
                  </a:lnTo>
                  <a:lnTo>
                    <a:pt x="976" y="251"/>
                  </a:lnTo>
                  <a:lnTo>
                    <a:pt x="982" y="227"/>
                  </a:lnTo>
                  <a:lnTo>
                    <a:pt x="987" y="203"/>
                  </a:lnTo>
                  <a:lnTo>
                    <a:pt x="992" y="177"/>
                  </a:lnTo>
                  <a:lnTo>
                    <a:pt x="996" y="152"/>
                  </a:lnTo>
                  <a:lnTo>
                    <a:pt x="999" y="128"/>
                  </a:lnTo>
                  <a:lnTo>
                    <a:pt x="1002" y="102"/>
                  </a:lnTo>
                  <a:lnTo>
                    <a:pt x="1004" y="77"/>
                  </a:lnTo>
                  <a:lnTo>
                    <a:pt x="1006" y="51"/>
                  </a:lnTo>
                  <a:lnTo>
                    <a:pt x="1007" y="25"/>
                  </a:lnTo>
                  <a:lnTo>
                    <a:pt x="1007" y="0"/>
                  </a:lnTo>
                  <a:lnTo>
                    <a:pt x="905" y="0"/>
                  </a:lnTo>
                  <a:lnTo>
                    <a:pt x="905" y="23"/>
                  </a:lnTo>
                  <a:lnTo>
                    <a:pt x="904" y="46"/>
                  </a:lnTo>
                  <a:lnTo>
                    <a:pt x="902" y="69"/>
                  </a:lnTo>
                  <a:lnTo>
                    <a:pt x="900" y="92"/>
                  </a:lnTo>
                  <a:lnTo>
                    <a:pt x="898" y="115"/>
                  </a:lnTo>
                  <a:lnTo>
                    <a:pt x="895" y="137"/>
                  </a:lnTo>
                  <a:lnTo>
                    <a:pt x="890" y="160"/>
                  </a:lnTo>
                  <a:lnTo>
                    <a:pt x="886" y="182"/>
                  </a:lnTo>
                  <a:lnTo>
                    <a:pt x="881" y="204"/>
                  </a:lnTo>
                  <a:lnTo>
                    <a:pt x="876" y="225"/>
                  </a:lnTo>
                  <a:lnTo>
                    <a:pt x="870" y="247"/>
                  </a:lnTo>
                  <a:lnTo>
                    <a:pt x="864" y="268"/>
                  </a:lnTo>
                  <a:lnTo>
                    <a:pt x="858" y="290"/>
                  </a:lnTo>
                  <a:lnTo>
                    <a:pt x="849" y="310"/>
                  </a:lnTo>
                  <a:lnTo>
                    <a:pt x="842" y="330"/>
                  </a:lnTo>
                  <a:lnTo>
                    <a:pt x="834" y="351"/>
                  </a:lnTo>
                  <a:lnTo>
                    <a:pt x="825" y="371"/>
                  </a:lnTo>
                  <a:lnTo>
                    <a:pt x="816" y="391"/>
                  </a:lnTo>
                  <a:lnTo>
                    <a:pt x="806" y="410"/>
                  </a:lnTo>
                  <a:lnTo>
                    <a:pt x="796" y="430"/>
                  </a:lnTo>
                  <a:lnTo>
                    <a:pt x="785" y="449"/>
                  </a:lnTo>
                  <a:lnTo>
                    <a:pt x="773" y="468"/>
                  </a:lnTo>
                  <a:lnTo>
                    <a:pt x="762" y="486"/>
                  </a:lnTo>
                  <a:lnTo>
                    <a:pt x="750" y="504"/>
                  </a:lnTo>
                  <a:lnTo>
                    <a:pt x="738" y="522"/>
                  </a:lnTo>
                  <a:lnTo>
                    <a:pt x="725" y="539"/>
                  </a:lnTo>
                  <a:lnTo>
                    <a:pt x="712" y="557"/>
                  </a:lnTo>
                  <a:lnTo>
                    <a:pt x="699" y="574"/>
                  </a:lnTo>
                  <a:lnTo>
                    <a:pt x="684" y="590"/>
                  </a:lnTo>
                  <a:lnTo>
                    <a:pt x="670" y="607"/>
                  </a:lnTo>
                  <a:lnTo>
                    <a:pt x="654" y="622"/>
                  </a:lnTo>
                  <a:lnTo>
                    <a:pt x="640" y="638"/>
                  </a:lnTo>
                  <a:lnTo>
                    <a:pt x="625" y="653"/>
                  </a:lnTo>
                  <a:lnTo>
                    <a:pt x="608" y="668"/>
                  </a:lnTo>
                  <a:lnTo>
                    <a:pt x="592" y="683"/>
                  </a:lnTo>
                  <a:lnTo>
                    <a:pt x="575" y="696"/>
                  </a:lnTo>
                  <a:lnTo>
                    <a:pt x="558" y="710"/>
                  </a:lnTo>
                  <a:lnTo>
                    <a:pt x="542" y="722"/>
                  </a:lnTo>
                  <a:lnTo>
                    <a:pt x="524" y="736"/>
                  </a:lnTo>
                  <a:lnTo>
                    <a:pt x="506" y="748"/>
                  </a:lnTo>
                  <a:lnTo>
                    <a:pt x="487" y="760"/>
                  </a:lnTo>
                  <a:lnTo>
                    <a:pt x="469" y="772"/>
                  </a:lnTo>
                  <a:lnTo>
                    <a:pt x="450" y="783"/>
                  </a:lnTo>
                  <a:lnTo>
                    <a:pt x="431" y="793"/>
                  </a:lnTo>
                  <a:lnTo>
                    <a:pt x="412" y="803"/>
                  </a:lnTo>
                  <a:lnTo>
                    <a:pt x="392" y="814"/>
                  </a:lnTo>
                  <a:lnTo>
                    <a:pt x="372" y="823"/>
                  </a:lnTo>
                  <a:lnTo>
                    <a:pt x="352" y="831"/>
                  </a:lnTo>
                  <a:lnTo>
                    <a:pt x="331" y="839"/>
                  </a:lnTo>
                  <a:lnTo>
                    <a:pt x="311" y="847"/>
                  </a:lnTo>
                  <a:lnTo>
                    <a:pt x="290" y="855"/>
                  </a:lnTo>
                  <a:lnTo>
                    <a:pt x="269" y="862"/>
                  </a:lnTo>
                  <a:lnTo>
                    <a:pt x="247" y="868"/>
                  </a:lnTo>
                  <a:lnTo>
                    <a:pt x="227" y="874"/>
                  </a:lnTo>
                  <a:lnTo>
                    <a:pt x="204" y="879"/>
                  </a:lnTo>
                  <a:lnTo>
                    <a:pt x="183" y="884"/>
                  </a:lnTo>
                  <a:lnTo>
                    <a:pt x="160" y="888"/>
                  </a:lnTo>
                  <a:lnTo>
                    <a:pt x="138" y="891"/>
                  </a:lnTo>
                  <a:lnTo>
                    <a:pt x="115" y="895"/>
                  </a:lnTo>
                  <a:lnTo>
                    <a:pt x="92" y="897"/>
                  </a:lnTo>
                  <a:lnTo>
                    <a:pt x="70" y="900"/>
                  </a:lnTo>
                  <a:lnTo>
                    <a:pt x="47" y="902"/>
                  </a:lnTo>
                  <a:lnTo>
                    <a:pt x="23" y="902"/>
                  </a:lnTo>
                  <a:lnTo>
                    <a:pt x="0" y="903"/>
                  </a:lnTo>
                  <a:lnTo>
                    <a:pt x="0" y="903"/>
                  </a:lnTo>
                  <a:lnTo>
                    <a:pt x="0" y="1005"/>
                  </a:lnTo>
                  <a:lnTo>
                    <a:pt x="0" y="1005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7920" y="2706480"/>
              <a:ext cx="66600" cy="66600"/>
            </a:xfrm>
            <a:custGeom>
              <a:avLst/>
              <a:gdLst/>
              <a:ahLst/>
              <a:rect l="l" t="t" r="r" b="b"/>
              <a:pathLst>
                <a:path w="1008" h="1005">
                  <a:moveTo>
                    <a:pt x="0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" y="51"/>
                  </a:lnTo>
                  <a:lnTo>
                    <a:pt x="3" y="77"/>
                  </a:lnTo>
                  <a:lnTo>
                    <a:pt x="5" y="102"/>
                  </a:lnTo>
                  <a:lnTo>
                    <a:pt x="9" y="128"/>
                  </a:lnTo>
                  <a:lnTo>
                    <a:pt x="12" y="152"/>
                  </a:lnTo>
                  <a:lnTo>
                    <a:pt x="16" y="178"/>
                  </a:lnTo>
                  <a:lnTo>
                    <a:pt x="21" y="203"/>
                  </a:lnTo>
                  <a:lnTo>
                    <a:pt x="26" y="227"/>
                  </a:lnTo>
                  <a:lnTo>
                    <a:pt x="32" y="251"/>
                  </a:lnTo>
                  <a:lnTo>
                    <a:pt x="38" y="275"/>
                  </a:lnTo>
                  <a:lnTo>
                    <a:pt x="45" y="299"/>
                  </a:lnTo>
                  <a:lnTo>
                    <a:pt x="54" y="322"/>
                  </a:lnTo>
                  <a:lnTo>
                    <a:pt x="62" y="346"/>
                  </a:lnTo>
                  <a:lnTo>
                    <a:pt x="70" y="368"/>
                  </a:lnTo>
                  <a:lnTo>
                    <a:pt x="79" y="391"/>
                  </a:lnTo>
                  <a:lnTo>
                    <a:pt x="90" y="413"/>
                  </a:lnTo>
                  <a:lnTo>
                    <a:pt x="100" y="436"/>
                  </a:lnTo>
                  <a:lnTo>
                    <a:pt x="111" y="457"/>
                  </a:lnTo>
                  <a:lnTo>
                    <a:pt x="122" y="479"/>
                  </a:lnTo>
                  <a:lnTo>
                    <a:pt x="134" y="500"/>
                  </a:lnTo>
                  <a:lnTo>
                    <a:pt x="146" y="521"/>
                  </a:lnTo>
                  <a:lnTo>
                    <a:pt x="159" y="541"/>
                  </a:lnTo>
                  <a:lnTo>
                    <a:pt x="173" y="562"/>
                  </a:lnTo>
                  <a:lnTo>
                    <a:pt x="186" y="581"/>
                  </a:lnTo>
                  <a:lnTo>
                    <a:pt x="200" y="602"/>
                  </a:lnTo>
                  <a:lnTo>
                    <a:pt x="215" y="620"/>
                  </a:lnTo>
                  <a:lnTo>
                    <a:pt x="230" y="639"/>
                  </a:lnTo>
                  <a:lnTo>
                    <a:pt x="247" y="658"/>
                  </a:lnTo>
                  <a:lnTo>
                    <a:pt x="262" y="675"/>
                  </a:lnTo>
                  <a:lnTo>
                    <a:pt x="278" y="693"/>
                  </a:lnTo>
                  <a:lnTo>
                    <a:pt x="296" y="710"/>
                  </a:lnTo>
                  <a:lnTo>
                    <a:pt x="313" y="728"/>
                  </a:lnTo>
                  <a:lnTo>
                    <a:pt x="331" y="744"/>
                  </a:lnTo>
                  <a:lnTo>
                    <a:pt x="348" y="760"/>
                  </a:lnTo>
                  <a:lnTo>
                    <a:pt x="368" y="776"/>
                  </a:lnTo>
                  <a:lnTo>
                    <a:pt x="386" y="791"/>
                  </a:lnTo>
                  <a:lnTo>
                    <a:pt x="406" y="805"/>
                  </a:lnTo>
                  <a:lnTo>
                    <a:pt x="425" y="820"/>
                  </a:lnTo>
                  <a:lnTo>
                    <a:pt x="445" y="833"/>
                  </a:lnTo>
                  <a:lnTo>
                    <a:pt x="465" y="846"/>
                  </a:lnTo>
                  <a:lnTo>
                    <a:pt x="486" y="860"/>
                  </a:lnTo>
                  <a:lnTo>
                    <a:pt x="506" y="872"/>
                  </a:lnTo>
                  <a:lnTo>
                    <a:pt x="528" y="883"/>
                  </a:lnTo>
                  <a:lnTo>
                    <a:pt x="549" y="895"/>
                  </a:lnTo>
                  <a:lnTo>
                    <a:pt x="571" y="906"/>
                  </a:lnTo>
                  <a:lnTo>
                    <a:pt x="593" y="916"/>
                  </a:lnTo>
                  <a:lnTo>
                    <a:pt x="616" y="926"/>
                  </a:lnTo>
                  <a:lnTo>
                    <a:pt x="639" y="935"/>
                  </a:lnTo>
                  <a:lnTo>
                    <a:pt x="661" y="944"/>
                  </a:lnTo>
                  <a:lnTo>
                    <a:pt x="685" y="952"/>
                  </a:lnTo>
                  <a:lnTo>
                    <a:pt x="708" y="960"/>
                  </a:lnTo>
                  <a:lnTo>
                    <a:pt x="732" y="967"/>
                  </a:lnTo>
                  <a:lnTo>
                    <a:pt x="757" y="973"/>
                  </a:lnTo>
                  <a:lnTo>
                    <a:pt x="780" y="979"/>
                  </a:lnTo>
                  <a:lnTo>
                    <a:pt x="805" y="984"/>
                  </a:lnTo>
                  <a:lnTo>
                    <a:pt x="829" y="990"/>
                  </a:lnTo>
                  <a:lnTo>
                    <a:pt x="855" y="994"/>
                  </a:lnTo>
                  <a:lnTo>
                    <a:pt x="880" y="997"/>
                  </a:lnTo>
                  <a:lnTo>
                    <a:pt x="905" y="1000"/>
                  </a:lnTo>
                  <a:lnTo>
                    <a:pt x="931" y="1002"/>
                  </a:lnTo>
                  <a:lnTo>
                    <a:pt x="957" y="1004"/>
                  </a:lnTo>
                  <a:lnTo>
                    <a:pt x="982" y="1005"/>
                  </a:lnTo>
                  <a:lnTo>
                    <a:pt x="1008" y="1005"/>
                  </a:lnTo>
                  <a:lnTo>
                    <a:pt x="1008" y="903"/>
                  </a:lnTo>
                  <a:lnTo>
                    <a:pt x="984" y="902"/>
                  </a:lnTo>
                  <a:lnTo>
                    <a:pt x="962" y="902"/>
                  </a:lnTo>
                  <a:lnTo>
                    <a:pt x="938" y="900"/>
                  </a:lnTo>
                  <a:lnTo>
                    <a:pt x="916" y="897"/>
                  </a:lnTo>
                  <a:lnTo>
                    <a:pt x="893" y="895"/>
                  </a:lnTo>
                  <a:lnTo>
                    <a:pt x="870" y="891"/>
                  </a:lnTo>
                  <a:lnTo>
                    <a:pt x="848" y="888"/>
                  </a:lnTo>
                  <a:lnTo>
                    <a:pt x="825" y="884"/>
                  </a:lnTo>
                  <a:lnTo>
                    <a:pt x="804" y="879"/>
                  </a:lnTo>
                  <a:lnTo>
                    <a:pt x="782" y="874"/>
                  </a:lnTo>
                  <a:lnTo>
                    <a:pt x="761" y="868"/>
                  </a:lnTo>
                  <a:lnTo>
                    <a:pt x="739" y="862"/>
                  </a:lnTo>
                  <a:lnTo>
                    <a:pt x="718" y="855"/>
                  </a:lnTo>
                  <a:lnTo>
                    <a:pt x="697" y="847"/>
                  </a:lnTo>
                  <a:lnTo>
                    <a:pt x="676" y="839"/>
                  </a:lnTo>
                  <a:lnTo>
                    <a:pt x="656" y="831"/>
                  </a:lnTo>
                  <a:lnTo>
                    <a:pt x="635" y="823"/>
                  </a:lnTo>
                  <a:lnTo>
                    <a:pt x="616" y="814"/>
                  </a:lnTo>
                  <a:lnTo>
                    <a:pt x="596" y="803"/>
                  </a:lnTo>
                  <a:lnTo>
                    <a:pt x="577" y="793"/>
                  </a:lnTo>
                  <a:lnTo>
                    <a:pt x="557" y="783"/>
                  </a:lnTo>
                  <a:lnTo>
                    <a:pt x="539" y="772"/>
                  </a:lnTo>
                  <a:lnTo>
                    <a:pt x="521" y="760"/>
                  </a:lnTo>
                  <a:lnTo>
                    <a:pt x="502" y="748"/>
                  </a:lnTo>
                  <a:lnTo>
                    <a:pt x="485" y="736"/>
                  </a:lnTo>
                  <a:lnTo>
                    <a:pt x="467" y="722"/>
                  </a:lnTo>
                  <a:lnTo>
                    <a:pt x="450" y="710"/>
                  </a:lnTo>
                  <a:lnTo>
                    <a:pt x="432" y="696"/>
                  </a:lnTo>
                  <a:lnTo>
                    <a:pt x="416" y="683"/>
                  </a:lnTo>
                  <a:lnTo>
                    <a:pt x="399" y="668"/>
                  </a:lnTo>
                  <a:lnTo>
                    <a:pt x="384" y="653"/>
                  </a:lnTo>
                  <a:lnTo>
                    <a:pt x="369" y="638"/>
                  </a:lnTo>
                  <a:lnTo>
                    <a:pt x="353" y="622"/>
                  </a:lnTo>
                  <a:lnTo>
                    <a:pt x="338" y="607"/>
                  </a:lnTo>
                  <a:lnTo>
                    <a:pt x="324" y="590"/>
                  </a:lnTo>
                  <a:lnTo>
                    <a:pt x="310" y="574"/>
                  </a:lnTo>
                  <a:lnTo>
                    <a:pt x="296" y="557"/>
                  </a:lnTo>
                  <a:lnTo>
                    <a:pt x="284" y="539"/>
                  </a:lnTo>
                  <a:lnTo>
                    <a:pt x="270" y="522"/>
                  </a:lnTo>
                  <a:lnTo>
                    <a:pt x="258" y="504"/>
                  </a:lnTo>
                  <a:lnTo>
                    <a:pt x="246" y="486"/>
                  </a:lnTo>
                  <a:lnTo>
                    <a:pt x="234" y="468"/>
                  </a:lnTo>
                  <a:lnTo>
                    <a:pt x="223" y="449"/>
                  </a:lnTo>
                  <a:lnTo>
                    <a:pt x="213" y="430"/>
                  </a:lnTo>
                  <a:lnTo>
                    <a:pt x="202" y="410"/>
                  </a:lnTo>
                  <a:lnTo>
                    <a:pt x="192" y="391"/>
                  </a:lnTo>
                  <a:lnTo>
                    <a:pt x="183" y="371"/>
                  </a:lnTo>
                  <a:lnTo>
                    <a:pt x="175" y="351"/>
                  </a:lnTo>
                  <a:lnTo>
                    <a:pt x="167" y="330"/>
                  </a:lnTo>
                  <a:lnTo>
                    <a:pt x="158" y="310"/>
                  </a:lnTo>
                  <a:lnTo>
                    <a:pt x="151" y="290"/>
                  </a:lnTo>
                  <a:lnTo>
                    <a:pt x="144" y="268"/>
                  </a:lnTo>
                  <a:lnTo>
                    <a:pt x="138" y="247"/>
                  </a:lnTo>
                  <a:lnTo>
                    <a:pt x="132" y="225"/>
                  </a:lnTo>
                  <a:lnTo>
                    <a:pt x="127" y="204"/>
                  </a:lnTo>
                  <a:lnTo>
                    <a:pt x="121" y="182"/>
                  </a:lnTo>
                  <a:lnTo>
                    <a:pt x="117" y="160"/>
                  </a:lnTo>
                  <a:lnTo>
                    <a:pt x="114" y="137"/>
                  </a:lnTo>
                  <a:lnTo>
                    <a:pt x="110" y="115"/>
                  </a:lnTo>
                  <a:lnTo>
                    <a:pt x="108" y="92"/>
                  </a:lnTo>
                  <a:lnTo>
                    <a:pt x="106" y="69"/>
                  </a:lnTo>
                  <a:lnTo>
                    <a:pt x="104" y="46"/>
                  </a:lnTo>
                  <a:lnTo>
                    <a:pt x="104" y="23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7920" y="2639880"/>
              <a:ext cx="66600" cy="66600"/>
            </a:xfrm>
            <a:custGeom>
              <a:avLst/>
              <a:gdLst/>
              <a:ahLst/>
              <a:rect l="l" t="t" r="r" b="b"/>
              <a:pathLst>
                <a:path w="1008" h="1006">
                  <a:moveTo>
                    <a:pt x="1008" y="0"/>
                  </a:moveTo>
                  <a:lnTo>
                    <a:pt x="1008" y="0"/>
                  </a:lnTo>
                  <a:lnTo>
                    <a:pt x="982" y="1"/>
                  </a:lnTo>
                  <a:lnTo>
                    <a:pt x="957" y="2"/>
                  </a:lnTo>
                  <a:lnTo>
                    <a:pt x="931" y="3"/>
                  </a:lnTo>
                  <a:lnTo>
                    <a:pt x="905" y="6"/>
                  </a:lnTo>
                  <a:lnTo>
                    <a:pt x="880" y="9"/>
                  </a:lnTo>
                  <a:lnTo>
                    <a:pt x="855" y="12"/>
                  </a:lnTo>
                  <a:lnTo>
                    <a:pt x="830" y="16"/>
                  </a:lnTo>
                  <a:lnTo>
                    <a:pt x="805" y="21"/>
                  </a:lnTo>
                  <a:lnTo>
                    <a:pt x="780" y="26"/>
                  </a:lnTo>
                  <a:lnTo>
                    <a:pt x="757" y="33"/>
                  </a:lnTo>
                  <a:lnTo>
                    <a:pt x="732" y="39"/>
                  </a:lnTo>
                  <a:lnTo>
                    <a:pt x="708" y="46"/>
                  </a:lnTo>
                  <a:lnTo>
                    <a:pt x="685" y="53"/>
                  </a:lnTo>
                  <a:lnTo>
                    <a:pt x="661" y="61"/>
                  </a:lnTo>
                  <a:lnTo>
                    <a:pt x="639" y="70"/>
                  </a:lnTo>
                  <a:lnTo>
                    <a:pt x="616" y="80"/>
                  </a:lnTo>
                  <a:lnTo>
                    <a:pt x="593" y="89"/>
                  </a:lnTo>
                  <a:lnTo>
                    <a:pt x="571" y="100"/>
                  </a:lnTo>
                  <a:lnTo>
                    <a:pt x="549" y="110"/>
                  </a:lnTo>
                  <a:lnTo>
                    <a:pt x="528" y="122"/>
                  </a:lnTo>
                  <a:lnTo>
                    <a:pt x="506" y="134"/>
                  </a:lnTo>
                  <a:lnTo>
                    <a:pt x="486" y="146"/>
                  </a:lnTo>
                  <a:lnTo>
                    <a:pt x="465" y="158"/>
                  </a:lnTo>
                  <a:lnTo>
                    <a:pt x="445" y="172"/>
                  </a:lnTo>
                  <a:lnTo>
                    <a:pt x="425" y="186"/>
                  </a:lnTo>
                  <a:lnTo>
                    <a:pt x="406" y="200"/>
                  </a:lnTo>
                  <a:lnTo>
                    <a:pt x="386" y="215"/>
                  </a:lnTo>
                  <a:lnTo>
                    <a:pt x="368" y="230"/>
                  </a:lnTo>
                  <a:lnTo>
                    <a:pt x="348" y="245"/>
                  </a:lnTo>
                  <a:lnTo>
                    <a:pt x="331" y="262"/>
                  </a:lnTo>
                  <a:lnTo>
                    <a:pt x="313" y="278"/>
                  </a:lnTo>
                  <a:lnTo>
                    <a:pt x="296" y="295"/>
                  </a:lnTo>
                  <a:lnTo>
                    <a:pt x="278" y="312"/>
                  </a:lnTo>
                  <a:lnTo>
                    <a:pt x="262" y="329"/>
                  </a:lnTo>
                  <a:lnTo>
                    <a:pt x="247" y="348"/>
                  </a:lnTo>
                  <a:lnTo>
                    <a:pt x="230" y="366"/>
                  </a:lnTo>
                  <a:lnTo>
                    <a:pt x="215" y="385"/>
                  </a:lnTo>
                  <a:lnTo>
                    <a:pt x="200" y="404"/>
                  </a:lnTo>
                  <a:lnTo>
                    <a:pt x="186" y="424"/>
                  </a:lnTo>
                  <a:lnTo>
                    <a:pt x="173" y="444"/>
                  </a:lnTo>
                  <a:lnTo>
                    <a:pt x="159" y="463"/>
                  </a:lnTo>
                  <a:lnTo>
                    <a:pt x="146" y="484"/>
                  </a:lnTo>
                  <a:lnTo>
                    <a:pt x="134" y="505"/>
                  </a:lnTo>
                  <a:lnTo>
                    <a:pt x="122" y="527"/>
                  </a:lnTo>
                  <a:lnTo>
                    <a:pt x="111" y="548"/>
                  </a:lnTo>
                  <a:lnTo>
                    <a:pt x="100" y="570"/>
                  </a:lnTo>
                  <a:lnTo>
                    <a:pt x="90" y="592"/>
                  </a:lnTo>
                  <a:lnTo>
                    <a:pt x="79" y="615"/>
                  </a:lnTo>
                  <a:lnTo>
                    <a:pt x="70" y="637"/>
                  </a:lnTo>
                  <a:lnTo>
                    <a:pt x="62" y="660"/>
                  </a:lnTo>
                  <a:lnTo>
                    <a:pt x="54" y="684"/>
                  </a:lnTo>
                  <a:lnTo>
                    <a:pt x="45" y="707"/>
                  </a:lnTo>
                  <a:lnTo>
                    <a:pt x="38" y="731"/>
                  </a:lnTo>
                  <a:lnTo>
                    <a:pt x="32" y="755"/>
                  </a:lnTo>
                  <a:lnTo>
                    <a:pt x="26" y="779"/>
                  </a:lnTo>
                  <a:lnTo>
                    <a:pt x="21" y="803"/>
                  </a:lnTo>
                  <a:lnTo>
                    <a:pt x="16" y="828"/>
                  </a:lnTo>
                  <a:lnTo>
                    <a:pt x="12" y="852"/>
                  </a:lnTo>
                  <a:lnTo>
                    <a:pt x="9" y="878"/>
                  </a:lnTo>
                  <a:lnTo>
                    <a:pt x="5" y="904"/>
                  </a:lnTo>
                  <a:lnTo>
                    <a:pt x="3" y="928"/>
                  </a:lnTo>
                  <a:lnTo>
                    <a:pt x="1" y="954"/>
                  </a:lnTo>
                  <a:lnTo>
                    <a:pt x="0" y="980"/>
                  </a:lnTo>
                  <a:lnTo>
                    <a:pt x="0" y="1006"/>
                  </a:lnTo>
                  <a:lnTo>
                    <a:pt x="103" y="1006"/>
                  </a:lnTo>
                  <a:lnTo>
                    <a:pt x="104" y="982"/>
                  </a:lnTo>
                  <a:lnTo>
                    <a:pt x="104" y="959"/>
                  </a:lnTo>
                  <a:lnTo>
                    <a:pt x="106" y="936"/>
                  </a:lnTo>
                  <a:lnTo>
                    <a:pt x="108" y="913"/>
                  </a:lnTo>
                  <a:lnTo>
                    <a:pt x="110" y="890"/>
                  </a:lnTo>
                  <a:lnTo>
                    <a:pt x="114" y="868"/>
                  </a:lnTo>
                  <a:lnTo>
                    <a:pt x="117" y="846"/>
                  </a:lnTo>
                  <a:lnTo>
                    <a:pt x="121" y="824"/>
                  </a:lnTo>
                  <a:lnTo>
                    <a:pt x="127" y="802"/>
                  </a:lnTo>
                  <a:lnTo>
                    <a:pt x="132" y="780"/>
                  </a:lnTo>
                  <a:lnTo>
                    <a:pt x="138" y="758"/>
                  </a:lnTo>
                  <a:lnTo>
                    <a:pt x="144" y="738"/>
                  </a:lnTo>
                  <a:lnTo>
                    <a:pt x="151" y="716"/>
                  </a:lnTo>
                  <a:lnTo>
                    <a:pt x="158" y="696"/>
                  </a:lnTo>
                  <a:lnTo>
                    <a:pt x="167" y="675"/>
                  </a:lnTo>
                  <a:lnTo>
                    <a:pt x="175" y="654"/>
                  </a:lnTo>
                  <a:lnTo>
                    <a:pt x="183" y="634"/>
                  </a:lnTo>
                  <a:lnTo>
                    <a:pt x="192" y="615"/>
                  </a:lnTo>
                  <a:lnTo>
                    <a:pt x="202" y="594"/>
                  </a:lnTo>
                  <a:lnTo>
                    <a:pt x="213" y="575"/>
                  </a:lnTo>
                  <a:lnTo>
                    <a:pt x="223" y="557"/>
                  </a:lnTo>
                  <a:lnTo>
                    <a:pt x="234" y="538"/>
                  </a:lnTo>
                  <a:lnTo>
                    <a:pt x="246" y="520"/>
                  </a:lnTo>
                  <a:lnTo>
                    <a:pt x="258" y="501"/>
                  </a:lnTo>
                  <a:lnTo>
                    <a:pt x="270" y="483"/>
                  </a:lnTo>
                  <a:lnTo>
                    <a:pt x="284" y="466"/>
                  </a:lnTo>
                  <a:lnTo>
                    <a:pt x="296" y="448"/>
                  </a:lnTo>
                  <a:lnTo>
                    <a:pt x="310" y="432"/>
                  </a:lnTo>
                  <a:lnTo>
                    <a:pt x="324" y="415"/>
                  </a:lnTo>
                  <a:lnTo>
                    <a:pt x="338" y="399"/>
                  </a:lnTo>
                  <a:lnTo>
                    <a:pt x="353" y="383"/>
                  </a:lnTo>
                  <a:lnTo>
                    <a:pt x="369" y="367"/>
                  </a:lnTo>
                  <a:lnTo>
                    <a:pt x="384" y="352"/>
                  </a:lnTo>
                  <a:lnTo>
                    <a:pt x="399" y="338"/>
                  </a:lnTo>
                  <a:lnTo>
                    <a:pt x="416" y="323"/>
                  </a:lnTo>
                  <a:lnTo>
                    <a:pt x="432" y="309"/>
                  </a:lnTo>
                  <a:lnTo>
                    <a:pt x="450" y="296"/>
                  </a:lnTo>
                  <a:lnTo>
                    <a:pt x="467" y="282"/>
                  </a:lnTo>
                  <a:lnTo>
                    <a:pt x="485" y="270"/>
                  </a:lnTo>
                  <a:lnTo>
                    <a:pt x="502" y="258"/>
                  </a:lnTo>
                  <a:lnTo>
                    <a:pt x="521" y="245"/>
                  </a:lnTo>
                  <a:lnTo>
                    <a:pt x="539" y="234"/>
                  </a:lnTo>
                  <a:lnTo>
                    <a:pt x="557" y="223"/>
                  </a:lnTo>
                  <a:lnTo>
                    <a:pt x="577" y="212"/>
                  </a:lnTo>
                  <a:lnTo>
                    <a:pt x="596" y="201"/>
                  </a:lnTo>
                  <a:lnTo>
                    <a:pt x="616" y="192"/>
                  </a:lnTo>
                  <a:lnTo>
                    <a:pt x="635" y="183"/>
                  </a:lnTo>
                  <a:lnTo>
                    <a:pt x="656" y="174"/>
                  </a:lnTo>
                  <a:lnTo>
                    <a:pt x="676" y="166"/>
                  </a:lnTo>
                  <a:lnTo>
                    <a:pt x="697" y="157"/>
                  </a:lnTo>
                  <a:lnTo>
                    <a:pt x="718" y="150"/>
                  </a:lnTo>
                  <a:lnTo>
                    <a:pt x="739" y="144"/>
                  </a:lnTo>
                  <a:lnTo>
                    <a:pt x="761" y="137"/>
                  </a:lnTo>
                  <a:lnTo>
                    <a:pt x="782" y="132"/>
                  </a:lnTo>
                  <a:lnTo>
                    <a:pt x="804" y="127"/>
                  </a:lnTo>
                  <a:lnTo>
                    <a:pt x="825" y="122"/>
                  </a:lnTo>
                  <a:lnTo>
                    <a:pt x="848" y="118"/>
                  </a:lnTo>
                  <a:lnTo>
                    <a:pt x="870" y="113"/>
                  </a:lnTo>
                  <a:lnTo>
                    <a:pt x="893" y="110"/>
                  </a:lnTo>
                  <a:lnTo>
                    <a:pt x="916" y="107"/>
                  </a:lnTo>
                  <a:lnTo>
                    <a:pt x="938" y="106"/>
                  </a:lnTo>
                  <a:lnTo>
                    <a:pt x="962" y="104"/>
                  </a:lnTo>
                  <a:lnTo>
                    <a:pt x="984" y="103"/>
                  </a:lnTo>
                  <a:lnTo>
                    <a:pt x="1008" y="103"/>
                  </a:lnTo>
                  <a:lnTo>
                    <a:pt x="1008" y="103"/>
                  </a:lnTo>
                  <a:lnTo>
                    <a:pt x="1008" y="0"/>
                  </a:lnTo>
                  <a:lnTo>
                    <a:pt x="1008" y="0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4520" y="2639880"/>
              <a:ext cx="66600" cy="66600"/>
            </a:xfrm>
            <a:custGeom>
              <a:avLst/>
              <a:gdLst/>
              <a:ahLst/>
              <a:rect l="l" t="t" r="r" b="b"/>
              <a:pathLst>
                <a:path w="1007" h="1006">
                  <a:moveTo>
                    <a:pt x="1007" y="1006"/>
                  </a:moveTo>
                  <a:lnTo>
                    <a:pt x="1007" y="1006"/>
                  </a:lnTo>
                  <a:lnTo>
                    <a:pt x="1007" y="980"/>
                  </a:lnTo>
                  <a:lnTo>
                    <a:pt x="1006" y="954"/>
                  </a:lnTo>
                  <a:lnTo>
                    <a:pt x="1004" y="928"/>
                  </a:lnTo>
                  <a:lnTo>
                    <a:pt x="1002" y="904"/>
                  </a:lnTo>
                  <a:lnTo>
                    <a:pt x="999" y="878"/>
                  </a:lnTo>
                  <a:lnTo>
                    <a:pt x="996" y="852"/>
                  </a:lnTo>
                  <a:lnTo>
                    <a:pt x="992" y="828"/>
                  </a:lnTo>
                  <a:lnTo>
                    <a:pt x="987" y="803"/>
                  </a:lnTo>
                  <a:lnTo>
                    <a:pt x="982" y="779"/>
                  </a:lnTo>
                  <a:lnTo>
                    <a:pt x="976" y="754"/>
                  </a:lnTo>
                  <a:lnTo>
                    <a:pt x="969" y="731"/>
                  </a:lnTo>
                  <a:lnTo>
                    <a:pt x="962" y="707"/>
                  </a:lnTo>
                  <a:lnTo>
                    <a:pt x="955" y="684"/>
                  </a:lnTo>
                  <a:lnTo>
                    <a:pt x="947" y="660"/>
                  </a:lnTo>
                  <a:lnTo>
                    <a:pt x="938" y="637"/>
                  </a:lnTo>
                  <a:lnTo>
                    <a:pt x="928" y="615"/>
                  </a:lnTo>
                  <a:lnTo>
                    <a:pt x="919" y="592"/>
                  </a:lnTo>
                  <a:lnTo>
                    <a:pt x="908" y="570"/>
                  </a:lnTo>
                  <a:lnTo>
                    <a:pt x="898" y="548"/>
                  </a:lnTo>
                  <a:lnTo>
                    <a:pt x="886" y="527"/>
                  </a:lnTo>
                  <a:lnTo>
                    <a:pt x="874" y="505"/>
                  </a:lnTo>
                  <a:lnTo>
                    <a:pt x="862" y="485"/>
                  </a:lnTo>
                  <a:lnTo>
                    <a:pt x="848" y="463"/>
                  </a:lnTo>
                  <a:lnTo>
                    <a:pt x="836" y="444"/>
                  </a:lnTo>
                  <a:lnTo>
                    <a:pt x="822" y="424"/>
                  </a:lnTo>
                  <a:lnTo>
                    <a:pt x="807" y="404"/>
                  </a:lnTo>
                  <a:lnTo>
                    <a:pt x="793" y="385"/>
                  </a:lnTo>
                  <a:lnTo>
                    <a:pt x="778" y="366"/>
                  </a:lnTo>
                  <a:lnTo>
                    <a:pt x="762" y="348"/>
                  </a:lnTo>
                  <a:lnTo>
                    <a:pt x="746" y="329"/>
                  </a:lnTo>
                  <a:lnTo>
                    <a:pt x="729" y="312"/>
                  </a:lnTo>
                  <a:lnTo>
                    <a:pt x="713" y="295"/>
                  </a:lnTo>
                  <a:lnTo>
                    <a:pt x="696" y="278"/>
                  </a:lnTo>
                  <a:lnTo>
                    <a:pt x="678" y="262"/>
                  </a:lnTo>
                  <a:lnTo>
                    <a:pt x="660" y="245"/>
                  </a:lnTo>
                  <a:lnTo>
                    <a:pt x="641" y="230"/>
                  </a:lnTo>
                  <a:lnTo>
                    <a:pt x="623" y="215"/>
                  </a:lnTo>
                  <a:lnTo>
                    <a:pt x="603" y="200"/>
                  </a:lnTo>
                  <a:lnTo>
                    <a:pt x="584" y="186"/>
                  </a:lnTo>
                  <a:lnTo>
                    <a:pt x="563" y="172"/>
                  </a:lnTo>
                  <a:lnTo>
                    <a:pt x="543" y="158"/>
                  </a:lnTo>
                  <a:lnTo>
                    <a:pt x="522" y="146"/>
                  </a:lnTo>
                  <a:lnTo>
                    <a:pt x="502" y="134"/>
                  </a:lnTo>
                  <a:lnTo>
                    <a:pt x="480" y="122"/>
                  </a:lnTo>
                  <a:lnTo>
                    <a:pt x="458" y="110"/>
                  </a:lnTo>
                  <a:lnTo>
                    <a:pt x="437" y="100"/>
                  </a:lnTo>
                  <a:lnTo>
                    <a:pt x="414" y="89"/>
                  </a:lnTo>
                  <a:lnTo>
                    <a:pt x="392" y="80"/>
                  </a:lnTo>
                  <a:lnTo>
                    <a:pt x="369" y="70"/>
                  </a:lnTo>
                  <a:lnTo>
                    <a:pt x="347" y="61"/>
                  </a:lnTo>
                  <a:lnTo>
                    <a:pt x="323" y="53"/>
                  </a:lnTo>
                  <a:lnTo>
                    <a:pt x="299" y="46"/>
                  </a:lnTo>
                  <a:lnTo>
                    <a:pt x="276" y="39"/>
                  </a:lnTo>
                  <a:lnTo>
                    <a:pt x="252" y="33"/>
                  </a:lnTo>
                  <a:lnTo>
                    <a:pt x="228" y="26"/>
                  </a:lnTo>
                  <a:lnTo>
                    <a:pt x="203" y="21"/>
                  </a:lnTo>
                  <a:lnTo>
                    <a:pt x="178" y="16"/>
                  </a:lnTo>
                  <a:lnTo>
                    <a:pt x="153" y="12"/>
                  </a:lnTo>
                  <a:lnTo>
                    <a:pt x="128" y="9"/>
                  </a:lnTo>
                  <a:lnTo>
                    <a:pt x="102" y="6"/>
                  </a:lnTo>
                  <a:lnTo>
                    <a:pt x="78" y="3"/>
                  </a:lnTo>
                  <a:lnTo>
                    <a:pt x="52" y="2"/>
                  </a:lnTo>
                  <a:lnTo>
                    <a:pt x="26" y="1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23" y="103"/>
                  </a:lnTo>
                  <a:lnTo>
                    <a:pt x="46" y="104"/>
                  </a:lnTo>
                  <a:lnTo>
                    <a:pt x="70" y="106"/>
                  </a:lnTo>
                  <a:lnTo>
                    <a:pt x="92" y="107"/>
                  </a:lnTo>
                  <a:lnTo>
                    <a:pt x="115" y="110"/>
                  </a:lnTo>
                  <a:lnTo>
                    <a:pt x="138" y="113"/>
                  </a:lnTo>
                  <a:lnTo>
                    <a:pt x="160" y="118"/>
                  </a:lnTo>
                  <a:lnTo>
                    <a:pt x="183" y="122"/>
                  </a:lnTo>
                  <a:lnTo>
                    <a:pt x="204" y="127"/>
                  </a:lnTo>
                  <a:lnTo>
                    <a:pt x="226" y="132"/>
                  </a:lnTo>
                  <a:lnTo>
                    <a:pt x="248" y="137"/>
                  </a:lnTo>
                  <a:lnTo>
                    <a:pt x="269" y="144"/>
                  </a:lnTo>
                  <a:lnTo>
                    <a:pt x="290" y="150"/>
                  </a:lnTo>
                  <a:lnTo>
                    <a:pt x="311" y="157"/>
                  </a:lnTo>
                  <a:lnTo>
                    <a:pt x="332" y="166"/>
                  </a:lnTo>
                  <a:lnTo>
                    <a:pt x="352" y="174"/>
                  </a:lnTo>
                  <a:lnTo>
                    <a:pt x="372" y="183"/>
                  </a:lnTo>
                  <a:lnTo>
                    <a:pt x="392" y="192"/>
                  </a:lnTo>
                  <a:lnTo>
                    <a:pt x="412" y="201"/>
                  </a:lnTo>
                  <a:lnTo>
                    <a:pt x="431" y="212"/>
                  </a:lnTo>
                  <a:lnTo>
                    <a:pt x="450" y="223"/>
                  </a:lnTo>
                  <a:lnTo>
                    <a:pt x="469" y="234"/>
                  </a:lnTo>
                  <a:lnTo>
                    <a:pt x="487" y="245"/>
                  </a:lnTo>
                  <a:lnTo>
                    <a:pt x="506" y="258"/>
                  </a:lnTo>
                  <a:lnTo>
                    <a:pt x="524" y="270"/>
                  </a:lnTo>
                  <a:lnTo>
                    <a:pt x="542" y="282"/>
                  </a:lnTo>
                  <a:lnTo>
                    <a:pt x="558" y="296"/>
                  </a:lnTo>
                  <a:lnTo>
                    <a:pt x="575" y="309"/>
                  </a:lnTo>
                  <a:lnTo>
                    <a:pt x="592" y="323"/>
                  </a:lnTo>
                  <a:lnTo>
                    <a:pt x="608" y="338"/>
                  </a:lnTo>
                  <a:lnTo>
                    <a:pt x="625" y="352"/>
                  </a:lnTo>
                  <a:lnTo>
                    <a:pt x="640" y="367"/>
                  </a:lnTo>
                  <a:lnTo>
                    <a:pt x="654" y="383"/>
                  </a:lnTo>
                  <a:lnTo>
                    <a:pt x="670" y="399"/>
                  </a:lnTo>
                  <a:lnTo>
                    <a:pt x="684" y="415"/>
                  </a:lnTo>
                  <a:lnTo>
                    <a:pt x="699" y="432"/>
                  </a:lnTo>
                  <a:lnTo>
                    <a:pt x="712" y="448"/>
                  </a:lnTo>
                  <a:lnTo>
                    <a:pt x="725" y="466"/>
                  </a:lnTo>
                  <a:lnTo>
                    <a:pt x="738" y="483"/>
                  </a:lnTo>
                  <a:lnTo>
                    <a:pt x="750" y="501"/>
                  </a:lnTo>
                  <a:lnTo>
                    <a:pt x="762" y="520"/>
                  </a:lnTo>
                  <a:lnTo>
                    <a:pt x="773" y="537"/>
                  </a:lnTo>
                  <a:lnTo>
                    <a:pt x="785" y="557"/>
                  </a:lnTo>
                  <a:lnTo>
                    <a:pt x="796" y="575"/>
                  </a:lnTo>
                  <a:lnTo>
                    <a:pt x="806" y="594"/>
                  </a:lnTo>
                  <a:lnTo>
                    <a:pt x="816" y="615"/>
                  </a:lnTo>
                  <a:lnTo>
                    <a:pt x="825" y="634"/>
                  </a:lnTo>
                  <a:lnTo>
                    <a:pt x="834" y="654"/>
                  </a:lnTo>
                  <a:lnTo>
                    <a:pt x="842" y="674"/>
                  </a:lnTo>
                  <a:lnTo>
                    <a:pt x="849" y="696"/>
                  </a:lnTo>
                  <a:lnTo>
                    <a:pt x="858" y="716"/>
                  </a:lnTo>
                  <a:lnTo>
                    <a:pt x="864" y="737"/>
                  </a:lnTo>
                  <a:lnTo>
                    <a:pt x="870" y="758"/>
                  </a:lnTo>
                  <a:lnTo>
                    <a:pt x="876" y="780"/>
                  </a:lnTo>
                  <a:lnTo>
                    <a:pt x="881" y="802"/>
                  </a:lnTo>
                  <a:lnTo>
                    <a:pt x="886" y="824"/>
                  </a:lnTo>
                  <a:lnTo>
                    <a:pt x="890" y="846"/>
                  </a:lnTo>
                  <a:lnTo>
                    <a:pt x="895" y="868"/>
                  </a:lnTo>
                  <a:lnTo>
                    <a:pt x="898" y="890"/>
                  </a:lnTo>
                  <a:lnTo>
                    <a:pt x="900" y="913"/>
                  </a:lnTo>
                  <a:lnTo>
                    <a:pt x="902" y="936"/>
                  </a:lnTo>
                  <a:lnTo>
                    <a:pt x="904" y="959"/>
                  </a:lnTo>
                  <a:lnTo>
                    <a:pt x="905" y="982"/>
                  </a:lnTo>
                  <a:lnTo>
                    <a:pt x="905" y="1006"/>
                  </a:lnTo>
                  <a:lnTo>
                    <a:pt x="905" y="1006"/>
                  </a:lnTo>
                  <a:lnTo>
                    <a:pt x="1007" y="1006"/>
                  </a:lnTo>
                  <a:lnTo>
                    <a:pt x="1007" y="1006"/>
                  </a:lnTo>
                  <a:lnTo>
                    <a:pt x="1007" y="100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4800" y="2884320"/>
              <a:ext cx="763560" cy="6480"/>
            </a:xfrm>
            <a:custGeom>
              <a:avLst/>
              <a:gdLst/>
              <a:ahLst/>
              <a:rect l="l" t="t" r="r" b="b"/>
              <a:pathLst>
                <a:path w="11553" h="102">
                  <a:moveTo>
                    <a:pt x="0" y="51"/>
                  </a:moveTo>
                  <a:lnTo>
                    <a:pt x="51" y="102"/>
                  </a:lnTo>
                  <a:lnTo>
                    <a:pt x="11553" y="102"/>
                  </a:lnTo>
                  <a:lnTo>
                    <a:pt x="11553" y="0"/>
                  </a:lnTo>
                  <a:lnTo>
                    <a:pt x="51" y="0"/>
                  </a:lnTo>
                  <a:lnTo>
                    <a:pt x="0" y="51"/>
                  </a:lnTo>
                  <a:lnTo>
                    <a:pt x="51" y="0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34800" y="2887560"/>
              <a:ext cx="6120" cy="531720"/>
            </a:xfrm>
            <a:prstGeom prst="rect">
              <a:avLst/>
            </a:pr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292400" y="5486400"/>
            <a:ext cx="91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CS 77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40000" y="1474920"/>
            <a:ext cx="15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PN Concent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314280" y="3727440"/>
            <a:ext cx="936720" cy="1123920"/>
            <a:chOff x="314280" y="3727440"/>
            <a:chExt cx="936720" cy="1123920"/>
          </a:xfrm>
        </p:grpSpPr>
        <p:sp>
          <p:nvSpPr>
            <p:cNvPr id="813" name=""/>
            <p:cNvSpPr/>
            <p:nvPr/>
          </p:nvSpPr>
          <p:spPr>
            <a:xfrm>
              <a:off x="471600" y="4233600"/>
              <a:ext cx="623880" cy="614520"/>
            </a:xfrm>
            <a:prstGeom prst="rect">
              <a:avLst/>
            </a:pr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360" y="4233600"/>
              <a:ext cx="6480" cy="617760"/>
            </a:xfrm>
            <a:custGeom>
              <a:avLst/>
              <a:gdLst/>
              <a:ahLst/>
              <a:rect l="l" t="t" r="r" b="b"/>
              <a:pathLst>
                <a:path w="82" h="8940">
                  <a:moveTo>
                    <a:pt x="41" y="8940"/>
                  </a:moveTo>
                  <a:lnTo>
                    <a:pt x="82" y="8899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8899"/>
                  </a:lnTo>
                  <a:lnTo>
                    <a:pt x="41" y="894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1600" y="4844880"/>
              <a:ext cx="627120" cy="6480"/>
            </a:xfrm>
            <a:custGeom>
              <a:avLst/>
              <a:gdLst/>
              <a:ahLst/>
              <a:rect l="l" t="t" r="r" b="b"/>
              <a:pathLst>
                <a:path w="9091" h="82">
                  <a:moveTo>
                    <a:pt x="9091" y="41"/>
                  </a:moveTo>
                  <a:lnTo>
                    <a:pt x="9050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9050" y="82"/>
                  </a:lnTo>
                  <a:lnTo>
                    <a:pt x="9091" y="4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4040" y="4230360"/>
              <a:ext cx="4680" cy="617760"/>
            </a:xfrm>
            <a:custGeom>
              <a:avLst/>
              <a:gdLst/>
              <a:ahLst/>
              <a:rect l="l" t="t" r="r" b="b"/>
              <a:pathLst>
                <a:path w="82" h="8941">
                  <a:moveTo>
                    <a:pt x="41" y="0"/>
                  </a:moveTo>
                  <a:lnTo>
                    <a:pt x="0" y="42"/>
                  </a:lnTo>
                  <a:lnTo>
                    <a:pt x="0" y="8941"/>
                  </a:lnTo>
                  <a:lnTo>
                    <a:pt x="82" y="8941"/>
                  </a:lnTo>
                  <a:lnTo>
                    <a:pt x="82" y="4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8360" y="4230360"/>
              <a:ext cx="627120" cy="6480"/>
            </a:xfrm>
            <a:custGeom>
              <a:avLst/>
              <a:gdLst/>
              <a:ahLst/>
              <a:rect l="l" t="t" r="r" b="b"/>
              <a:pathLst>
                <a:path w="9091" h="83">
                  <a:moveTo>
                    <a:pt x="0" y="42"/>
                  </a:moveTo>
                  <a:lnTo>
                    <a:pt x="41" y="83"/>
                  </a:lnTo>
                  <a:lnTo>
                    <a:pt x="9091" y="83"/>
                  </a:lnTo>
                  <a:lnTo>
                    <a:pt x="9091" y="0"/>
                  </a:lnTo>
                  <a:lnTo>
                    <a:pt x="4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1600" y="4157640"/>
              <a:ext cx="701640" cy="75960"/>
            </a:xfrm>
            <a:custGeom>
              <a:avLst/>
              <a:gdLst/>
              <a:ahLst/>
              <a:rect l="l" t="t" r="r" b="b"/>
              <a:pathLst>
                <a:path w="10162" h="1112">
                  <a:moveTo>
                    <a:pt x="0" y="1112"/>
                  </a:moveTo>
                  <a:lnTo>
                    <a:pt x="1115" y="0"/>
                  </a:lnTo>
                  <a:lnTo>
                    <a:pt x="10162" y="0"/>
                  </a:lnTo>
                  <a:lnTo>
                    <a:pt x="9050" y="1112"/>
                  </a:lnTo>
                  <a:lnTo>
                    <a:pt x="0" y="1112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0160" y="4154400"/>
              <a:ext cx="81000" cy="82440"/>
            </a:xfrm>
            <a:custGeom>
              <a:avLst/>
              <a:gdLst/>
              <a:ahLst/>
              <a:rect l="l" t="t" r="r" b="b"/>
              <a:pathLst>
                <a:path w="1172" h="1183">
                  <a:moveTo>
                    <a:pt x="1144" y="0"/>
                  </a:moveTo>
                  <a:lnTo>
                    <a:pt x="1114" y="12"/>
                  </a:lnTo>
                  <a:lnTo>
                    <a:pt x="0" y="1125"/>
                  </a:lnTo>
                  <a:lnTo>
                    <a:pt x="58" y="1183"/>
                  </a:lnTo>
                  <a:lnTo>
                    <a:pt x="1172" y="7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7920" y="4154400"/>
              <a:ext cx="627120" cy="6120"/>
            </a:xfrm>
            <a:custGeom>
              <a:avLst/>
              <a:gdLst/>
              <a:ahLst/>
              <a:rect l="l" t="t" r="r" b="b"/>
              <a:pathLst>
                <a:path w="9076" h="82">
                  <a:moveTo>
                    <a:pt x="9076" y="70"/>
                  </a:moveTo>
                  <a:lnTo>
                    <a:pt x="9047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9047" y="82"/>
                  </a:lnTo>
                  <a:lnTo>
                    <a:pt x="9076" y="7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94040" y="4155840"/>
              <a:ext cx="81000" cy="81000"/>
            </a:xfrm>
            <a:custGeom>
              <a:avLst/>
              <a:gdLst/>
              <a:ahLst/>
              <a:rect l="l" t="t" r="r" b="b"/>
              <a:pathLst>
                <a:path w="1171" h="1183">
                  <a:moveTo>
                    <a:pt x="30" y="1183"/>
                  </a:moveTo>
                  <a:lnTo>
                    <a:pt x="59" y="1171"/>
                  </a:lnTo>
                  <a:lnTo>
                    <a:pt x="1171" y="58"/>
                  </a:lnTo>
                  <a:lnTo>
                    <a:pt x="1112" y="0"/>
                  </a:lnTo>
                  <a:lnTo>
                    <a:pt x="0" y="1113"/>
                  </a:lnTo>
                  <a:lnTo>
                    <a:pt x="30" y="1183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0160" y="4230360"/>
              <a:ext cx="625320" cy="6480"/>
            </a:xfrm>
            <a:custGeom>
              <a:avLst/>
              <a:gdLst/>
              <a:ahLst/>
              <a:rect l="l" t="t" r="r" b="b"/>
              <a:pathLst>
                <a:path w="9079" h="83">
                  <a:moveTo>
                    <a:pt x="0" y="13"/>
                  </a:moveTo>
                  <a:lnTo>
                    <a:pt x="29" y="83"/>
                  </a:lnTo>
                  <a:lnTo>
                    <a:pt x="9079" y="83"/>
                  </a:lnTo>
                  <a:lnTo>
                    <a:pt x="9079" y="0"/>
                  </a:lnTo>
                  <a:lnTo>
                    <a:pt x="2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95480" y="4157640"/>
              <a:ext cx="77760" cy="690480"/>
            </a:xfrm>
            <a:custGeom>
              <a:avLst/>
              <a:gdLst/>
              <a:ahLst/>
              <a:rect l="l" t="t" r="r" b="b"/>
              <a:pathLst>
                <a:path w="1112" h="10010">
                  <a:moveTo>
                    <a:pt x="0" y="1112"/>
                  </a:moveTo>
                  <a:lnTo>
                    <a:pt x="1112" y="0"/>
                  </a:lnTo>
                  <a:lnTo>
                    <a:pt x="1112" y="8896"/>
                  </a:lnTo>
                  <a:lnTo>
                    <a:pt x="0" y="10010"/>
                  </a:lnTo>
                  <a:lnTo>
                    <a:pt x="0" y="1112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94040" y="4155840"/>
              <a:ext cx="81000" cy="81000"/>
            </a:xfrm>
            <a:custGeom>
              <a:avLst/>
              <a:gdLst/>
              <a:ahLst/>
              <a:rect l="l" t="t" r="r" b="b"/>
              <a:pathLst>
                <a:path w="1183" h="1171">
                  <a:moveTo>
                    <a:pt x="1183" y="30"/>
                  </a:moveTo>
                  <a:lnTo>
                    <a:pt x="1112" y="0"/>
                  </a:lnTo>
                  <a:lnTo>
                    <a:pt x="0" y="1113"/>
                  </a:lnTo>
                  <a:lnTo>
                    <a:pt x="59" y="1171"/>
                  </a:lnTo>
                  <a:lnTo>
                    <a:pt x="1171" y="58"/>
                  </a:lnTo>
                  <a:lnTo>
                    <a:pt x="1183" y="3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70000" y="4157640"/>
              <a:ext cx="5040" cy="615960"/>
            </a:xfrm>
            <a:custGeom>
              <a:avLst/>
              <a:gdLst/>
              <a:ahLst/>
              <a:rect l="l" t="t" r="r" b="b"/>
              <a:pathLst>
                <a:path w="82" h="8924">
                  <a:moveTo>
                    <a:pt x="70" y="8924"/>
                  </a:moveTo>
                  <a:lnTo>
                    <a:pt x="82" y="8896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8896"/>
                  </a:lnTo>
                  <a:lnTo>
                    <a:pt x="70" y="8924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94040" y="4768560"/>
              <a:ext cx="81000" cy="81000"/>
            </a:xfrm>
            <a:custGeom>
              <a:avLst/>
              <a:gdLst/>
              <a:ahLst/>
              <a:rect l="l" t="t" r="r" b="b"/>
              <a:pathLst>
                <a:path w="1182" h="1174">
                  <a:moveTo>
                    <a:pt x="0" y="1144"/>
                  </a:moveTo>
                  <a:lnTo>
                    <a:pt x="70" y="1174"/>
                  </a:lnTo>
                  <a:lnTo>
                    <a:pt x="1182" y="58"/>
                  </a:lnTo>
                  <a:lnTo>
                    <a:pt x="1123" y="0"/>
                  </a:lnTo>
                  <a:lnTo>
                    <a:pt x="11" y="1116"/>
                  </a:lnTo>
                  <a:lnTo>
                    <a:pt x="0" y="1144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94040" y="4232160"/>
              <a:ext cx="4680" cy="615960"/>
            </a:xfrm>
            <a:custGeom>
              <a:avLst/>
              <a:gdLst/>
              <a:ahLst/>
              <a:rect l="l" t="t" r="r" b="b"/>
              <a:pathLst>
                <a:path w="82" h="8927">
                  <a:moveTo>
                    <a:pt x="11" y="0"/>
                  </a:moveTo>
                  <a:lnTo>
                    <a:pt x="0" y="29"/>
                  </a:lnTo>
                  <a:lnTo>
                    <a:pt x="0" y="8927"/>
                  </a:lnTo>
                  <a:lnTo>
                    <a:pt x="82" y="8927"/>
                  </a:lnTo>
                  <a:lnTo>
                    <a:pt x="82" y="2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5360" y="4484520"/>
              <a:ext cx="217440" cy="95400"/>
            </a:xfrm>
            <a:custGeom>
              <a:avLst/>
              <a:gdLst/>
              <a:ahLst/>
              <a:rect l="l" t="t" r="r" b="b"/>
              <a:pathLst>
                <a:path w="3160" h="1390">
                  <a:moveTo>
                    <a:pt x="3160" y="340"/>
                  </a:moveTo>
                  <a:lnTo>
                    <a:pt x="700" y="340"/>
                  </a:lnTo>
                  <a:lnTo>
                    <a:pt x="700" y="0"/>
                  </a:lnTo>
                  <a:lnTo>
                    <a:pt x="0" y="690"/>
                  </a:lnTo>
                  <a:lnTo>
                    <a:pt x="700" y="1390"/>
                  </a:lnTo>
                  <a:lnTo>
                    <a:pt x="700" y="1040"/>
                  </a:lnTo>
                  <a:lnTo>
                    <a:pt x="3160" y="1040"/>
                  </a:lnTo>
                  <a:lnTo>
                    <a:pt x="3160" y="3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6360" y="4336920"/>
              <a:ext cx="171360" cy="171360"/>
            </a:xfrm>
            <a:custGeom>
              <a:avLst/>
              <a:gdLst/>
              <a:ahLst/>
              <a:rect l="l" t="t" r="r" b="b"/>
              <a:pathLst>
                <a:path w="2482" h="2473">
                  <a:moveTo>
                    <a:pt x="2482" y="1979"/>
                  </a:moveTo>
                  <a:lnTo>
                    <a:pt x="742" y="237"/>
                  </a:lnTo>
                  <a:lnTo>
                    <a:pt x="982" y="17"/>
                  </a:lnTo>
                  <a:lnTo>
                    <a:pt x="0" y="0"/>
                  </a:lnTo>
                  <a:lnTo>
                    <a:pt x="0" y="980"/>
                  </a:lnTo>
                  <a:lnTo>
                    <a:pt x="247" y="733"/>
                  </a:lnTo>
                  <a:lnTo>
                    <a:pt x="1988" y="2473"/>
                  </a:lnTo>
                  <a:lnTo>
                    <a:pt x="2482" y="19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3960" y="4255920"/>
              <a:ext cx="95400" cy="217440"/>
            </a:xfrm>
            <a:custGeom>
              <a:avLst/>
              <a:gdLst/>
              <a:ahLst/>
              <a:rect l="l" t="t" r="r" b="b"/>
              <a:pathLst>
                <a:path w="1390" h="3163">
                  <a:moveTo>
                    <a:pt x="1050" y="3163"/>
                  </a:moveTo>
                  <a:lnTo>
                    <a:pt x="1050" y="701"/>
                  </a:lnTo>
                  <a:lnTo>
                    <a:pt x="1390" y="701"/>
                  </a:lnTo>
                  <a:lnTo>
                    <a:pt x="700" y="0"/>
                  </a:lnTo>
                  <a:lnTo>
                    <a:pt x="0" y="701"/>
                  </a:lnTo>
                  <a:lnTo>
                    <a:pt x="350" y="701"/>
                  </a:lnTo>
                  <a:lnTo>
                    <a:pt x="350" y="3163"/>
                  </a:lnTo>
                  <a:lnTo>
                    <a:pt x="1050" y="3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95600" y="4336920"/>
              <a:ext cx="171360" cy="171360"/>
            </a:xfrm>
            <a:custGeom>
              <a:avLst/>
              <a:gdLst/>
              <a:ahLst/>
              <a:rect l="l" t="t" r="r" b="b"/>
              <a:pathLst>
                <a:path w="2472" h="2484">
                  <a:moveTo>
                    <a:pt x="494" y="2484"/>
                  </a:moveTo>
                  <a:lnTo>
                    <a:pt x="2235" y="743"/>
                  </a:lnTo>
                  <a:lnTo>
                    <a:pt x="2465" y="984"/>
                  </a:lnTo>
                  <a:lnTo>
                    <a:pt x="2472" y="0"/>
                  </a:lnTo>
                  <a:lnTo>
                    <a:pt x="1492" y="0"/>
                  </a:lnTo>
                  <a:lnTo>
                    <a:pt x="1739" y="248"/>
                  </a:lnTo>
                  <a:lnTo>
                    <a:pt x="0" y="1989"/>
                  </a:lnTo>
                  <a:lnTo>
                    <a:pt x="494" y="24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30520" y="4484520"/>
              <a:ext cx="217440" cy="95400"/>
            </a:xfrm>
            <a:custGeom>
              <a:avLst/>
              <a:gdLst/>
              <a:ahLst/>
              <a:rect l="l" t="t" r="r" b="b"/>
              <a:pathLst>
                <a:path w="3161" h="1392">
                  <a:moveTo>
                    <a:pt x="0" y="1052"/>
                  </a:moveTo>
                  <a:lnTo>
                    <a:pt x="2460" y="1052"/>
                  </a:lnTo>
                  <a:lnTo>
                    <a:pt x="2460" y="1392"/>
                  </a:lnTo>
                  <a:lnTo>
                    <a:pt x="3161" y="701"/>
                  </a:lnTo>
                  <a:lnTo>
                    <a:pt x="2460" y="0"/>
                  </a:lnTo>
                  <a:lnTo>
                    <a:pt x="2460" y="350"/>
                  </a:lnTo>
                  <a:lnTo>
                    <a:pt x="0" y="350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95600" y="4555800"/>
              <a:ext cx="171360" cy="169920"/>
            </a:xfrm>
            <a:custGeom>
              <a:avLst/>
              <a:gdLst/>
              <a:ahLst/>
              <a:rect l="l" t="t" r="r" b="b"/>
              <a:pathLst>
                <a:path w="2483" h="2466">
                  <a:moveTo>
                    <a:pt x="0" y="496"/>
                  </a:moveTo>
                  <a:lnTo>
                    <a:pt x="1740" y="2236"/>
                  </a:lnTo>
                  <a:lnTo>
                    <a:pt x="1500" y="2466"/>
                  </a:lnTo>
                  <a:lnTo>
                    <a:pt x="2483" y="2453"/>
                  </a:lnTo>
                  <a:lnTo>
                    <a:pt x="2483" y="1494"/>
                  </a:lnTo>
                  <a:lnTo>
                    <a:pt x="2235" y="1741"/>
                  </a:lnTo>
                  <a:lnTo>
                    <a:pt x="495" y="0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3960" y="4590720"/>
              <a:ext cx="95400" cy="217800"/>
            </a:xfrm>
            <a:custGeom>
              <a:avLst/>
              <a:gdLst/>
              <a:ahLst/>
              <a:rect l="l" t="t" r="r" b="b"/>
              <a:pathLst>
                <a:path w="1390" h="3162">
                  <a:moveTo>
                    <a:pt x="340" y="0"/>
                  </a:moveTo>
                  <a:lnTo>
                    <a:pt x="340" y="2462"/>
                  </a:lnTo>
                  <a:lnTo>
                    <a:pt x="0" y="2462"/>
                  </a:lnTo>
                  <a:lnTo>
                    <a:pt x="690" y="3162"/>
                  </a:lnTo>
                  <a:lnTo>
                    <a:pt x="1390" y="2462"/>
                  </a:lnTo>
                  <a:lnTo>
                    <a:pt x="1040" y="2462"/>
                  </a:lnTo>
                  <a:lnTo>
                    <a:pt x="1040" y="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77800" y="4555800"/>
              <a:ext cx="169920" cy="171720"/>
            </a:xfrm>
            <a:custGeom>
              <a:avLst/>
              <a:gdLst/>
              <a:ahLst/>
              <a:rect l="l" t="t" r="r" b="b"/>
              <a:pathLst>
                <a:path w="2475" h="2484">
                  <a:moveTo>
                    <a:pt x="1981" y="0"/>
                  </a:moveTo>
                  <a:lnTo>
                    <a:pt x="240" y="1741"/>
                  </a:lnTo>
                  <a:lnTo>
                    <a:pt x="0" y="1501"/>
                  </a:lnTo>
                  <a:lnTo>
                    <a:pt x="3" y="2484"/>
                  </a:lnTo>
                  <a:lnTo>
                    <a:pt x="983" y="2484"/>
                  </a:lnTo>
                  <a:lnTo>
                    <a:pt x="735" y="2236"/>
                  </a:lnTo>
                  <a:lnTo>
                    <a:pt x="2475" y="495"/>
                  </a:lnTo>
                  <a:lnTo>
                    <a:pt x="198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01840" y="4489200"/>
              <a:ext cx="217440" cy="96840"/>
            </a:xfrm>
            <a:custGeom>
              <a:avLst/>
              <a:gdLst/>
              <a:ahLst/>
              <a:rect l="l" t="t" r="r" b="b"/>
              <a:pathLst>
                <a:path w="3161" h="1390">
                  <a:moveTo>
                    <a:pt x="3161" y="340"/>
                  </a:moveTo>
                  <a:lnTo>
                    <a:pt x="700" y="340"/>
                  </a:lnTo>
                  <a:lnTo>
                    <a:pt x="700" y="0"/>
                  </a:lnTo>
                  <a:lnTo>
                    <a:pt x="0" y="690"/>
                  </a:lnTo>
                  <a:lnTo>
                    <a:pt x="700" y="1390"/>
                  </a:lnTo>
                  <a:lnTo>
                    <a:pt x="700" y="1040"/>
                  </a:lnTo>
                  <a:lnTo>
                    <a:pt x="3161" y="1040"/>
                  </a:lnTo>
                  <a:lnTo>
                    <a:pt x="3161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2840" y="4343040"/>
              <a:ext cx="171360" cy="169920"/>
            </a:xfrm>
            <a:custGeom>
              <a:avLst/>
              <a:gdLst/>
              <a:ahLst/>
              <a:rect l="l" t="t" r="r" b="b"/>
              <a:pathLst>
                <a:path w="2482" h="2473">
                  <a:moveTo>
                    <a:pt x="2482" y="1978"/>
                  </a:moveTo>
                  <a:lnTo>
                    <a:pt x="743" y="237"/>
                  </a:lnTo>
                  <a:lnTo>
                    <a:pt x="983" y="17"/>
                  </a:lnTo>
                  <a:lnTo>
                    <a:pt x="0" y="0"/>
                  </a:lnTo>
                  <a:lnTo>
                    <a:pt x="0" y="980"/>
                  </a:lnTo>
                  <a:lnTo>
                    <a:pt x="247" y="732"/>
                  </a:lnTo>
                  <a:lnTo>
                    <a:pt x="1988" y="2473"/>
                  </a:lnTo>
                  <a:lnTo>
                    <a:pt x="2482" y="1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28640" y="4260600"/>
              <a:ext cx="96840" cy="219240"/>
            </a:xfrm>
            <a:custGeom>
              <a:avLst/>
              <a:gdLst/>
              <a:ahLst/>
              <a:rect l="l" t="t" r="r" b="b"/>
              <a:pathLst>
                <a:path w="1390" h="3161">
                  <a:moveTo>
                    <a:pt x="1050" y="3161"/>
                  </a:moveTo>
                  <a:lnTo>
                    <a:pt x="1050" y="700"/>
                  </a:lnTo>
                  <a:lnTo>
                    <a:pt x="1390" y="700"/>
                  </a:lnTo>
                  <a:lnTo>
                    <a:pt x="700" y="0"/>
                  </a:lnTo>
                  <a:lnTo>
                    <a:pt x="0" y="700"/>
                  </a:lnTo>
                  <a:lnTo>
                    <a:pt x="350" y="700"/>
                  </a:lnTo>
                  <a:lnTo>
                    <a:pt x="350" y="3161"/>
                  </a:lnTo>
                  <a:lnTo>
                    <a:pt x="1050" y="31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01720" y="4341600"/>
              <a:ext cx="169920" cy="171360"/>
            </a:xfrm>
            <a:custGeom>
              <a:avLst/>
              <a:gdLst/>
              <a:ahLst/>
              <a:rect l="l" t="t" r="r" b="b"/>
              <a:pathLst>
                <a:path w="2472" h="2485">
                  <a:moveTo>
                    <a:pt x="494" y="2485"/>
                  </a:moveTo>
                  <a:lnTo>
                    <a:pt x="2235" y="743"/>
                  </a:lnTo>
                  <a:lnTo>
                    <a:pt x="2465" y="985"/>
                  </a:lnTo>
                  <a:lnTo>
                    <a:pt x="2472" y="0"/>
                  </a:lnTo>
                  <a:lnTo>
                    <a:pt x="1492" y="0"/>
                  </a:lnTo>
                  <a:lnTo>
                    <a:pt x="1740" y="249"/>
                  </a:lnTo>
                  <a:lnTo>
                    <a:pt x="0" y="1989"/>
                  </a:lnTo>
                  <a:lnTo>
                    <a:pt x="494" y="24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35200" y="4489200"/>
              <a:ext cx="218880" cy="96840"/>
            </a:xfrm>
            <a:custGeom>
              <a:avLst/>
              <a:gdLst/>
              <a:ahLst/>
              <a:rect l="l" t="t" r="r" b="b"/>
              <a:pathLst>
                <a:path w="3161" h="1391">
                  <a:moveTo>
                    <a:pt x="0" y="1051"/>
                  </a:moveTo>
                  <a:lnTo>
                    <a:pt x="2460" y="1051"/>
                  </a:lnTo>
                  <a:lnTo>
                    <a:pt x="2460" y="1391"/>
                  </a:lnTo>
                  <a:lnTo>
                    <a:pt x="3161" y="700"/>
                  </a:lnTo>
                  <a:lnTo>
                    <a:pt x="2460" y="0"/>
                  </a:lnTo>
                  <a:lnTo>
                    <a:pt x="2460" y="350"/>
                  </a:lnTo>
                  <a:lnTo>
                    <a:pt x="0" y="350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01720" y="4562280"/>
              <a:ext cx="171360" cy="169920"/>
            </a:xfrm>
            <a:custGeom>
              <a:avLst/>
              <a:gdLst/>
              <a:ahLst/>
              <a:rect l="l" t="t" r="r" b="b"/>
              <a:pathLst>
                <a:path w="2483" h="2466">
                  <a:moveTo>
                    <a:pt x="0" y="496"/>
                  </a:moveTo>
                  <a:lnTo>
                    <a:pt x="1741" y="2236"/>
                  </a:lnTo>
                  <a:lnTo>
                    <a:pt x="1501" y="2466"/>
                  </a:lnTo>
                  <a:lnTo>
                    <a:pt x="2483" y="2453"/>
                  </a:lnTo>
                  <a:lnTo>
                    <a:pt x="2483" y="1493"/>
                  </a:lnTo>
                  <a:lnTo>
                    <a:pt x="2235" y="1740"/>
                  </a:lnTo>
                  <a:lnTo>
                    <a:pt x="495" y="0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0440" y="4595760"/>
              <a:ext cx="95040" cy="218880"/>
            </a:xfrm>
            <a:custGeom>
              <a:avLst/>
              <a:gdLst/>
              <a:ahLst/>
              <a:rect l="l" t="t" r="r" b="b"/>
              <a:pathLst>
                <a:path w="1390" h="3162">
                  <a:moveTo>
                    <a:pt x="340" y="0"/>
                  </a:moveTo>
                  <a:lnTo>
                    <a:pt x="340" y="2462"/>
                  </a:lnTo>
                  <a:lnTo>
                    <a:pt x="0" y="2462"/>
                  </a:lnTo>
                  <a:lnTo>
                    <a:pt x="690" y="3162"/>
                  </a:lnTo>
                  <a:lnTo>
                    <a:pt x="1390" y="2462"/>
                  </a:lnTo>
                  <a:lnTo>
                    <a:pt x="1040" y="2462"/>
                  </a:lnTo>
                  <a:lnTo>
                    <a:pt x="1040" y="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2840" y="4562280"/>
              <a:ext cx="171360" cy="171360"/>
            </a:xfrm>
            <a:custGeom>
              <a:avLst/>
              <a:gdLst/>
              <a:ahLst/>
              <a:rect l="l" t="t" r="r" b="b"/>
              <a:pathLst>
                <a:path w="2475" h="2483">
                  <a:moveTo>
                    <a:pt x="1981" y="0"/>
                  </a:moveTo>
                  <a:lnTo>
                    <a:pt x="240" y="1740"/>
                  </a:lnTo>
                  <a:lnTo>
                    <a:pt x="0" y="1500"/>
                  </a:lnTo>
                  <a:lnTo>
                    <a:pt x="3" y="2483"/>
                  </a:lnTo>
                  <a:lnTo>
                    <a:pt x="983" y="2483"/>
                  </a:lnTo>
                  <a:lnTo>
                    <a:pt x="736" y="2236"/>
                  </a:lnTo>
                  <a:lnTo>
                    <a:pt x="2475" y="495"/>
                  </a:lnTo>
                  <a:lnTo>
                    <a:pt x="19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7880" y="4448160"/>
              <a:ext cx="187560" cy="187200"/>
            </a:xfrm>
            <a:custGeom>
              <a:avLst/>
              <a:gdLst/>
              <a:ahLst/>
              <a:rect l="l" t="t" r="r" b="b"/>
              <a:pathLst>
                <a:path w="2718" h="2718">
                  <a:moveTo>
                    <a:pt x="2718" y="1359"/>
                  </a:moveTo>
                  <a:lnTo>
                    <a:pt x="2716" y="1429"/>
                  </a:lnTo>
                  <a:lnTo>
                    <a:pt x="2711" y="1498"/>
                  </a:lnTo>
                  <a:lnTo>
                    <a:pt x="2703" y="1566"/>
                  </a:lnTo>
                  <a:lnTo>
                    <a:pt x="2691" y="1633"/>
                  </a:lnTo>
                  <a:lnTo>
                    <a:pt x="2675" y="1699"/>
                  </a:lnTo>
                  <a:lnTo>
                    <a:pt x="2657" y="1764"/>
                  </a:lnTo>
                  <a:lnTo>
                    <a:pt x="2636" y="1827"/>
                  </a:lnTo>
                  <a:lnTo>
                    <a:pt x="2611" y="1888"/>
                  </a:lnTo>
                  <a:lnTo>
                    <a:pt x="2584" y="1949"/>
                  </a:lnTo>
                  <a:lnTo>
                    <a:pt x="2554" y="2007"/>
                  </a:lnTo>
                  <a:lnTo>
                    <a:pt x="2522" y="2064"/>
                  </a:lnTo>
                  <a:lnTo>
                    <a:pt x="2486" y="2119"/>
                  </a:lnTo>
                  <a:lnTo>
                    <a:pt x="2448" y="2173"/>
                  </a:lnTo>
                  <a:lnTo>
                    <a:pt x="2408" y="2224"/>
                  </a:lnTo>
                  <a:lnTo>
                    <a:pt x="2365" y="2274"/>
                  </a:lnTo>
                  <a:lnTo>
                    <a:pt x="2320" y="2320"/>
                  </a:lnTo>
                  <a:lnTo>
                    <a:pt x="2272" y="2365"/>
                  </a:lnTo>
                  <a:lnTo>
                    <a:pt x="2224" y="2408"/>
                  </a:lnTo>
                  <a:lnTo>
                    <a:pt x="2172" y="2449"/>
                  </a:lnTo>
                  <a:lnTo>
                    <a:pt x="2119" y="2486"/>
                  </a:lnTo>
                  <a:lnTo>
                    <a:pt x="2064" y="2522"/>
                  </a:lnTo>
                  <a:lnTo>
                    <a:pt x="2007" y="2555"/>
                  </a:lnTo>
                  <a:lnTo>
                    <a:pt x="1948" y="2585"/>
                  </a:lnTo>
                  <a:lnTo>
                    <a:pt x="1888" y="2612"/>
                  </a:lnTo>
                  <a:lnTo>
                    <a:pt x="1826" y="2636"/>
                  </a:lnTo>
                  <a:lnTo>
                    <a:pt x="1763" y="2657"/>
                  </a:lnTo>
                  <a:lnTo>
                    <a:pt x="1699" y="2676"/>
                  </a:lnTo>
                  <a:lnTo>
                    <a:pt x="1633" y="2691"/>
                  </a:lnTo>
                  <a:lnTo>
                    <a:pt x="1565" y="2703"/>
                  </a:lnTo>
                  <a:lnTo>
                    <a:pt x="1498" y="2711"/>
                  </a:lnTo>
                  <a:lnTo>
                    <a:pt x="1429" y="2717"/>
                  </a:lnTo>
                  <a:lnTo>
                    <a:pt x="1359" y="2718"/>
                  </a:lnTo>
                  <a:lnTo>
                    <a:pt x="1289" y="2717"/>
                  </a:lnTo>
                  <a:lnTo>
                    <a:pt x="1221" y="2711"/>
                  </a:lnTo>
                  <a:lnTo>
                    <a:pt x="1152" y="2703"/>
                  </a:lnTo>
                  <a:lnTo>
                    <a:pt x="1085" y="2691"/>
                  </a:lnTo>
                  <a:lnTo>
                    <a:pt x="1019" y="2676"/>
                  </a:lnTo>
                  <a:lnTo>
                    <a:pt x="955" y="2657"/>
                  </a:lnTo>
                  <a:lnTo>
                    <a:pt x="892" y="2636"/>
                  </a:lnTo>
                  <a:lnTo>
                    <a:pt x="830" y="2612"/>
                  </a:lnTo>
                  <a:lnTo>
                    <a:pt x="770" y="2585"/>
                  </a:lnTo>
                  <a:lnTo>
                    <a:pt x="712" y="2555"/>
                  </a:lnTo>
                  <a:lnTo>
                    <a:pt x="655" y="2522"/>
                  </a:lnTo>
                  <a:lnTo>
                    <a:pt x="599" y="2486"/>
                  </a:lnTo>
                  <a:lnTo>
                    <a:pt x="546" y="2449"/>
                  </a:lnTo>
                  <a:lnTo>
                    <a:pt x="495" y="2408"/>
                  </a:lnTo>
                  <a:lnTo>
                    <a:pt x="445" y="2365"/>
                  </a:lnTo>
                  <a:lnTo>
                    <a:pt x="399" y="2320"/>
                  </a:lnTo>
                  <a:lnTo>
                    <a:pt x="353" y="2274"/>
                  </a:lnTo>
                  <a:lnTo>
                    <a:pt x="310" y="2224"/>
                  </a:lnTo>
                  <a:lnTo>
                    <a:pt x="270" y="2173"/>
                  </a:lnTo>
                  <a:lnTo>
                    <a:pt x="232" y="2119"/>
                  </a:lnTo>
                  <a:lnTo>
                    <a:pt x="197" y="2064"/>
                  </a:lnTo>
                  <a:lnTo>
                    <a:pt x="165" y="2007"/>
                  </a:lnTo>
                  <a:lnTo>
                    <a:pt x="134" y="1949"/>
                  </a:lnTo>
                  <a:lnTo>
                    <a:pt x="107" y="1888"/>
                  </a:lnTo>
                  <a:lnTo>
                    <a:pt x="82" y="1827"/>
                  </a:lnTo>
                  <a:lnTo>
                    <a:pt x="61" y="1764"/>
                  </a:lnTo>
                  <a:lnTo>
                    <a:pt x="43" y="1699"/>
                  </a:lnTo>
                  <a:lnTo>
                    <a:pt x="27" y="1633"/>
                  </a:lnTo>
                  <a:lnTo>
                    <a:pt x="16" y="1566"/>
                  </a:lnTo>
                  <a:lnTo>
                    <a:pt x="7" y="1498"/>
                  </a:lnTo>
                  <a:lnTo>
                    <a:pt x="2" y="1429"/>
                  </a:lnTo>
                  <a:lnTo>
                    <a:pt x="0" y="1359"/>
                  </a:lnTo>
                  <a:lnTo>
                    <a:pt x="2" y="1289"/>
                  </a:lnTo>
                  <a:lnTo>
                    <a:pt x="7" y="1220"/>
                  </a:lnTo>
                  <a:lnTo>
                    <a:pt x="16" y="1152"/>
                  </a:lnTo>
                  <a:lnTo>
                    <a:pt x="27" y="1085"/>
                  </a:lnTo>
                  <a:lnTo>
                    <a:pt x="43" y="1020"/>
                  </a:lnTo>
                  <a:lnTo>
                    <a:pt x="61" y="955"/>
                  </a:lnTo>
                  <a:lnTo>
                    <a:pt x="82" y="892"/>
                  </a:lnTo>
                  <a:lnTo>
                    <a:pt x="107" y="830"/>
                  </a:lnTo>
                  <a:lnTo>
                    <a:pt x="134" y="770"/>
                  </a:lnTo>
                  <a:lnTo>
                    <a:pt x="165" y="711"/>
                  </a:lnTo>
                  <a:lnTo>
                    <a:pt x="197" y="654"/>
                  </a:lnTo>
                  <a:lnTo>
                    <a:pt x="232" y="599"/>
                  </a:lnTo>
                  <a:lnTo>
                    <a:pt x="270" y="545"/>
                  </a:lnTo>
                  <a:lnTo>
                    <a:pt x="310" y="495"/>
                  </a:lnTo>
                  <a:lnTo>
                    <a:pt x="353" y="446"/>
                  </a:lnTo>
                  <a:lnTo>
                    <a:pt x="399" y="398"/>
                  </a:lnTo>
                  <a:lnTo>
                    <a:pt x="445" y="353"/>
                  </a:lnTo>
                  <a:lnTo>
                    <a:pt x="495" y="310"/>
                  </a:lnTo>
                  <a:lnTo>
                    <a:pt x="546" y="270"/>
                  </a:lnTo>
                  <a:lnTo>
                    <a:pt x="599" y="232"/>
                  </a:lnTo>
                  <a:lnTo>
                    <a:pt x="655" y="196"/>
                  </a:lnTo>
                  <a:lnTo>
                    <a:pt x="712" y="164"/>
                  </a:lnTo>
                  <a:lnTo>
                    <a:pt x="770" y="134"/>
                  </a:lnTo>
                  <a:lnTo>
                    <a:pt x="830" y="107"/>
                  </a:lnTo>
                  <a:lnTo>
                    <a:pt x="892" y="82"/>
                  </a:lnTo>
                  <a:lnTo>
                    <a:pt x="955" y="61"/>
                  </a:lnTo>
                  <a:lnTo>
                    <a:pt x="1019" y="43"/>
                  </a:lnTo>
                  <a:lnTo>
                    <a:pt x="1085" y="27"/>
                  </a:lnTo>
                  <a:lnTo>
                    <a:pt x="1152" y="15"/>
                  </a:lnTo>
                  <a:lnTo>
                    <a:pt x="1221" y="7"/>
                  </a:lnTo>
                  <a:lnTo>
                    <a:pt x="1289" y="1"/>
                  </a:lnTo>
                  <a:lnTo>
                    <a:pt x="1359" y="0"/>
                  </a:lnTo>
                  <a:lnTo>
                    <a:pt x="1429" y="1"/>
                  </a:lnTo>
                  <a:lnTo>
                    <a:pt x="1498" y="7"/>
                  </a:lnTo>
                  <a:lnTo>
                    <a:pt x="1565" y="15"/>
                  </a:lnTo>
                  <a:lnTo>
                    <a:pt x="1633" y="27"/>
                  </a:lnTo>
                  <a:lnTo>
                    <a:pt x="1699" y="43"/>
                  </a:lnTo>
                  <a:lnTo>
                    <a:pt x="1763" y="61"/>
                  </a:lnTo>
                  <a:lnTo>
                    <a:pt x="1826" y="82"/>
                  </a:lnTo>
                  <a:lnTo>
                    <a:pt x="1888" y="107"/>
                  </a:lnTo>
                  <a:lnTo>
                    <a:pt x="1948" y="134"/>
                  </a:lnTo>
                  <a:lnTo>
                    <a:pt x="2007" y="164"/>
                  </a:lnTo>
                  <a:lnTo>
                    <a:pt x="2064" y="196"/>
                  </a:lnTo>
                  <a:lnTo>
                    <a:pt x="2119" y="232"/>
                  </a:lnTo>
                  <a:lnTo>
                    <a:pt x="2172" y="270"/>
                  </a:lnTo>
                  <a:lnTo>
                    <a:pt x="2224" y="310"/>
                  </a:lnTo>
                  <a:lnTo>
                    <a:pt x="2272" y="353"/>
                  </a:lnTo>
                  <a:lnTo>
                    <a:pt x="2320" y="398"/>
                  </a:lnTo>
                  <a:lnTo>
                    <a:pt x="2365" y="446"/>
                  </a:lnTo>
                  <a:lnTo>
                    <a:pt x="2408" y="495"/>
                  </a:lnTo>
                  <a:lnTo>
                    <a:pt x="2448" y="545"/>
                  </a:lnTo>
                  <a:lnTo>
                    <a:pt x="2486" y="599"/>
                  </a:lnTo>
                  <a:lnTo>
                    <a:pt x="2522" y="654"/>
                  </a:lnTo>
                  <a:lnTo>
                    <a:pt x="2554" y="711"/>
                  </a:lnTo>
                  <a:lnTo>
                    <a:pt x="2584" y="770"/>
                  </a:lnTo>
                  <a:lnTo>
                    <a:pt x="2611" y="830"/>
                  </a:lnTo>
                  <a:lnTo>
                    <a:pt x="2636" y="892"/>
                  </a:lnTo>
                  <a:lnTo>
                    <a:pt x="2657" y="955"/>
                  </a:lnTo>
                  <a:lnTo>
                    <a:pt x="2675" y="1020"/>
                  </a:lnTo>
                  <a:lnTo>
                    <a:pt x="2691" y="1085"/>
                  </a:lnTo>
                  <a:lnTo>
                    <a:pt x="2703" y="1152"/>
                  </a:lnTo>
                  <a:lnTo>
                    <a:pt x="2711" y="1220"/>
                  </a:lnTo>
                  <a:lnTo>
                    <a:pt x="2716" y="1289"/>
                  </a:lnTo>
                  <a:lnTo>
                    <a:pt x="2718" y="1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7880" y="4448160"/>
              <a:ext cx="187560" cy="187200"/>
            </a:xfrm>
            <a:custGeom>
              <a:avLst/>
              <a:gdLst/>
              <a:ahLst/>
              <a:rect l="l" t="t" r="r" b="b"/>
              <a:pathLst>
                <a:path w="2718" h="2718">
                  <a:moveTo>
                    <a:pt x="2718" y="1359"/>
                  </a:moveTo>
                  <a:lnTo>
                    <a:pt x="2716" y="1429"/>
                  </a:lnTo>
                  <a:lnTo>
                    <a:pt x="2711" y="1498"/>
                  </a:lnTo>
                  <a:lnTo>
                    <a:pt x="2703" y="1566"/>
                  </a:lnTo>
                  <a:lnTo>
                    <a:pt x="2691" y="1633"/>
                  </a:lnTo>
                  <a:lnTo>
                    <a:pt x="2675" y="1699"/>
                  </a:lnTo>
                  <a:lnTo>
                    <a:pt x="2657" y="1764"/>
                  </a:lnTo>
                  <a:lnTo>
                    <a:pt x="2636" y="1827"/>
                  </a:lnTo>
                  <a:lnTo>
                    <a:pt x="2611" y="1888"/>
                  </a:lnTo>
                  <a:lnTo>
                    <a:pt x="2584" y="1949"/>
                  </a:lnTo>
                  <a:lnTo>
                    <a:pt x="2554" y="2007"/>
                  </a:lnTo>
                  <a:lnTo>
                    <a:pt x="2522" y="2064"/>
                  </a:lnTo>
                  <a:lnTo>
                    <a:pt x="2486" y="2119"/>
                  </a:lnTo>
                  <a:lnTo>
                    <a:pt x="2448" y="2173"/>
                  </a:lnTo>
                  <a:lnTo>
                    <a:pt x="2408" y="2224"/>
                  </a:lnTo>
                  <a:lnTo>
                    <a:pt x="2365" y="2274"/>
                  </a:lnTo>
                  <a:lnTo>
                    <a:pt x="2320" y="2320"/>
                  </a:lnTo>
                  <a:lnTo>
                    <a:pt x="2272" y="2365"/>
                  </a:lnTo>
                  <a:lnTo>
                    <a:pt x="2224" y="2408"/>
                  </a:lnTo>
                  <a:lnTo>
                    <a:pt x="2172" y="2449"/>
                  </a:lnTo>
                  <a:lnTo>
                    <a:pt x="2119" y="2486"/>
                  </a:lnTo>
                  <a:lnTo>
                    <a:pt x="2064" y="2522"/>
                  </a:lnTo>
                  <a:lnTo>
                    <a:pt x="2007" y="2555"/>
                  </a:lnTo>
                  <a:lnTo>
                    <a:pt x="1948" y="2585"/>
                  </a:lnTo>
                  <a:lnTo>
                    <a:pt x="1888" y="2612"/>
                  </a:lnTo>
                  <a:lnTo>
                    <a:pt x="1826" y="2636"/>
                  </a:lnTo>
                  <a:lnTo>
                    <a:pt x="1763" y="2657"/>
                  </a:lnTo>
                  <a:lnTo>
                    <a:pt x="1699" y="2676"/>
                  </a:lnTo>
                  <a:lnTo>
                    <a:pt x="1633" y="2691"/>
                  </a:lnTo>
                  <a:lnTo>
                    <a:pt x="1565" y="2703"/>
                  </a:lnTo>
                  <a:lnTo>
                    <a:pt x="1498" y="2711"/>
                  </a:lnTo>
                  <a:lnTo>
                    <a:pt x="1429" y="2717"/>
                  </a:lnTo>
                  <a:lnTo>
                    <a:pt x="1359" y="2718"/>
                  </a:lnTo>
                  <a:lnTo>
                    <a:pt x="1289" y="2717"/>
                  </a:lnTo>
                  <a:lnTo>
                    <a:pt x="1221" y="2711"/>
                  </a:lnTo>
                  <a:lnTo>
                    <a:pt x="1152" y="2703"/>
                  </a:lnTo>
                  <a:lnTo>
                    <a:pt x="1085" y="2691"/>
                  </a:lnTo>
                  <a:lnTo>
                    <a:pt x="1019" y="2676"/>
                  </a:lnTo>
                  <a:lnTo>
                    <a:pt x="955" y="2657"/>
                  </a:lnTo>
                  <a:lnTo>
                    <a:pt x="892" y="2636"/>
                  </a:lnTo>
                  <a:lnTo>
                    <a:pt x="830" y="2612"/>
                  </a:lnTo>
                  <a:lnTo>
                    <a:pt x="770" y="2585"/>
                  </a:lnTo>
                  <a:lnTo>
                    <a:pt x="712" y="2555"/>
                  </a:lnTo>
                  <a:lnTo>
                    <a:pt x="655" y="2522"/>
                  </a:lnTo>
                  <a:lnTo>
                    <a:pt x="599" y="2486"/>
                  </a:lnTo>
                  <a:lnTo>
                    <a:pt x="546" y="2449"/>
                  </a:lnTo>
                  <a:lnTo>
                    <a:pt x="495" y="2408"/>
                  </a:lnTo>
                  <a:lnTo>
                    <a:pt x="445" y="2365"/>
                  </a:lnTo>
                  <a:lnTo>
                    <a:pt x="399" y="2320"/>
                  </a:lnTo>
                  <a:lnTo>
                    <a:pt x="353" y="2274"/>
                  </a:lnTo>
                  <a:lnTo>
                    <a:pt x="310" y="2224"/>
                  </a:lnTo>
                  <a:lnTo>
                    <a:pt x="270" y="2173"/>
                  </a:lnTo>
                  <a:lnTo>
                    <a:pt x="232" y="2119"/>
                  </a:lnTo>
                  <a:lnTo>
                    <a:pt x="197" y="2064"/>
                  </a:lnTo>
                  <a:lnTo>
                    <a:pt x="165" y="2007"/>
                  </a:lnTo>
                  <a:lnTo>
                    <a:pt x="134" y="1949"/>
                  </a:lnTo>
                  <a:lnTo>
                    <a:pt x="107" y="1888"/>
                  </a:lnTo>
                  <a:lnTo>
                    <a:pt x="82" y="1827"/>
                  </a:lnTo>
                  <a:lnTo>
                    <a:pt x="61" y="1764"/>
                  </a:lnTo>
                  <a:lnTo>
                    <a:pt x="43" y="1699"/>
                  </a:lnTo>
                  <a:lnTo>
                    <a:pt x="27" y="1633"/>
                  </a:lnTo>
                  <a:lnTo>
                    <a:pt x="16" y="1566"/>
                  </a:lnTo>
                  <a:lnTo>
                    <a:pt x="7" y="1498"/>
                  </a:lnTo>
                  <a:lnTo>
                    <a:pt x="2" y="1429"/>
                  </a:lnTo>
                  <a:lnTo>
                    <a:pt x="0" y="1359"/>
                  </a:lnTo>
                  <a:lnTo>
                    <a:pt x="2" y="1289"/>
                  </a:lnTo>
                  <a:lnTo>
                    <a:pt x="7" y="1220"/>
                  </a:lnTo>
                  <a:lnTo>
                    <a:pt x="16" y="1152"/>
                  </a:lnTo>
                  <a:lnTo>
                    <a:pt x="27" y="1085"/>
                  </a:lnTo>
                  <a:lnTo>
                    <a:pt x="43" y="1020"/>
                  </a:lnTo>
                  <a:lnTo>
                    <a:pt x="61" y="955"/>
                  </a:lnTo>
                  <a:lnTo>
                    <a:pt x="82" y="892"/>
                  </a:lnTo>
                  <a:lnTo>
                    <a:pt x="107" y="830"/>
                  </a:lnTo>
                  <a:lnTo>
                    <a:pt x="134" y="770"/>
                  </a:lnTo>
                  <a:lnTo>
                    <a:pt x="165" y="711"/>
                  </a:lnTo>
                  <a:lnTo>
                    <a:pt x="197" y="654"/>
                  </a:lnTo>
                  <a:lnTo>
                    <a:pt x="232" y="599"/>
                  </a:lnTo>
                  <a:lnTo>
                    <a:pt x="270" y="545"/>
                  </a:lnTo>
                  <a:lnTo>
                    <a:pt x="310" y="495"/>
                  </a:lnTo>
                  <a:lnTo>
                    <a:pt x="353" y="446"/>
                  </a:lnTo>
                  <a:lnTo>
                    <a:pt x="399" y="398"/>
                  </a:lnTo>
                  <a:lnTo>
                    <a:pt x="445" y="353"/>
                  </a:lnTo>
                  <a:lnTo>
                    <a:pt x="495" y="310"/>
                  </a:lnTo>
                  <a:lnTo>
                    <a:pt x="546" y="270"/>
                  </a:lnTo>
                  <a:lnTo>
                    <a:pt x="599" y="232"/>
                  </a:lnTo>
                  <a:lnTo>
                    <a:pt x="655" y="196"/>
                  </a:lnTo>
                  <a:lnTo>
                    <a:pt x="712" y="164"/>
                  </a:lnTo>
                  <a:lnTo>
                    <a:pt x="770" y="134"/>
                  </a:lnTo>
                  <a:lnTo>
                    <a:pt x="830" y="107"/>
                  </a:lnTo>
                  <a:lnTo>
                    <a:pt x="892" y="82"/>
                  </a:lnTo>
                  <a:lnTo>
                    <a:pt x="955" y="61"/>
                  </a:lnTo>
                  <a:lnTo>
                    <a:pt x="1019" y="43"/>
                  </a:lnTo>
                  <a:lnTo>
                    <a:pt x="1085" y="27"/>
                  </a:lnTo>
                  <a:lnTo>
                    <a:pt x="1152" y="15"/>
                  </a:lnTo>
                  <a:lnTo>
                    <a:pt x="1221" y="7"/>
                  </a:lnTo>
                  <a:lnTo>
                    <a:pt x="1289" y="1"/>
                  </a:lnTo>
                  <a:lnTo>
                    <a:pt x="1359" y="0"/>
                  </a:lnTo>
                  <a:lnTo>
                    <a:pt x="1429" y="1"/>
                  </a:lnTo>
                  <a:lnTo>
                    <a:pt x="1498" y="7"/>
                  </a:lnTo>
                  <a:lnTo>
                    <a:pt x="1565" y="15"/>
                  </a:lnTo>
                  <a:lnTo>
                    <a:pt x="1633" y="27"/>
                  </a:lnTo>
                  <a:lnTo>
                    <a:pt x="1699" y="43"/>
                  </a:lnTo>
                  <a:lnTo>
                    <a:pt x="1763" y="61"/>
                  </a:lnTo>
                  <a:lnTo>
                    <a:pt x="1826" y="82"/>
                  </a:lnTo>
                  <a:lnTo>
                    <a:pt x="1888" y="107"/>
                  </a:lnTo>
                  <a:lnTo>
                    <a:pt x="1948" y="134"/>
                  </a:lnTo>
                  <a:lnTo>
                    <a:pt x="2007" y="164"/>
                  </a:lnTo>
                  <a:lnTo>
                    <a:pt x="2064" y="196"/>
                  </a:lnTo>
                  <a:lnTo>
                    <a:pt x="2119" y="232"/>
                  </a:lnTo>
                  <a:lnTo>
                    <a:pt x="2172" y="270"/>
                  </a:lnTo>
                  <a:lnTo>
                    <a:pt x="2224" y="310"/>
                  </a:lnTo>
                  <a:lnTo>
                    <a:pt x="2272" y="353"/>
                  </a:lnTo>
                  <a:lnTo>
                    <a:pt x="2320" y="398"/>
                  </a:lnTo>
                  <a:lnTo>
                    <a:pt x="2365" y="446"/>
                  </a:lnTo>
                  <a:lnTo>
                    <a:pt x="2408" y="495"/>
                  </a:lnTo>
                  <a:lnTo>
                    <a:pt x="2448" y="545"/>
                  </a:lnTo>
                  <a:lnTo>
                    <a:pt x="2486" y="599"/>
                  </a:lnTo>
                  <a:lnTo>
                    <a:pt x="2522" y="654"/>
                  </a:lnTo>
                  <a:lnTo>
                    <a:pt x="2554" y="711"/>
                  </a:lnTo>
                  <a:lnTo>
                    <a:pt x="2584" y="770"/>
                  </a:lnTo>
                  <a:lnTo>
                    <a:pt x="2611" y="830"/>
                  </a:lnTo>
                  <a:lnTo>
                    <a:pt x="2636" y="892"/>
                  </a:lnTo>
                  <a:lnTo>
                    <a:pt x="2657" y="955"/>
                  </a:lnTo>
                  <a:lnTo>
                    <a:pt x="2675" y="1020"/>
                  </a:lnTo>
                  <a:lnTo>
                    <a:pt x="2691" y="1085"/>
                  </a:lnTo>
                  <a:lnTo>
                    <a:pt x="2703" y="1152"/>
                  </a:lnTo>
                  <a:lnTo>
                    <a:pt x="2711" y="1220"/>
                  </a:lnTo>
                  <a:lnTo>
                    <a:pt x="2716" y="1289"/>
                  </a:lnTo>
                  <a:lnTo>
                    <a:pt x="2718" y="1359"/>
                  </a:lnTo>
                </a:path>
              </a:pathLst>
            </a:custGeom>
            <a:noFill/>
            <a:ln w="1440">
              <a:solidFill>
                <a:srgbClr val="9b32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9040" y="4458960"/>
              <a:ext cx="189000" cy="187560"/>
            </a:xfrm>
            <a:custGeom>
              <a:avLst/>
              <a:gdLst/>
              <a:ahLst/>
              <a:rect l="l" t="t" r="r" b="b"/>
              <a:pathLst>
                <a:path w="2718" h="2718">
                  <a:moveTo>
                    <a:pt x="2718" y="1359"/>
                  </a:moveTo>
                  <a:lnTo>
                    <a:pt x="2716" y="1429"/>
                  </a:lnTo>
                  <a:lnTo>
                    <a:pt x="2711" y="1498"/>
                  </a:lnTo>
                  <a:lnTo>
                    <a:pt x="2703" y="1566"/>
                  </a:lnTo>
                  <a:lnTo>
                    <a:pt x="2690" y="1633"/>
                  </a:lnTo>
                  <a:lnTo>
                    <a:pt x="2675" y="1698"/>
                  </a:lnTo>
                  <a:lnTo>
                    <a:pt x="2657" y="1764"/>
                  </a:lnTo>
                  <a:lnTo>
                    <a:pt x="2635" y="1827"/>
                  </a:lnTo>
                  <a:lnTo>
                    <a:pt x="2611" y="1888"/>
                  </a:lnTo>
                  <a:lnTo>
                    <a:pt x="2584" y="1948"/>
                  </a:lnTo>
                  <a:lnTo>
                    <a:pt x="2554" y="2007"/>
                  </a:lnTo>
                  <a:lnTo>
                    <a:pt x="2520" y="2064"/>
                  </a:lnTo>
                  <a:lnTo>
                    <a:pt x="2486" y="2119"/>
                  </a:lnTo>
                  <a:lnTo>
                    <a:pt x="2447" y="2173"/>
                  </a:lnTo>
                  <a:lnTo>
                    <a:pt x="2408" y="2224"/>
                  </a:lnTo>
                  <a:lnTo>
                    <a:pt x="2365" y="2274"/>
                  </a:lnTo>
                  <a:lnTo>
                    <a:pt x="2320" y="2320"/>
                  </a:lnTo>
                  <a:lnTo>
                    <a:pt x="2272" y="2365"/>
                  </a:lnTo>
                  <a:lnTo>
                    <a:pt x="2223" y="2408"/>
                  </a:lnTo>
                  <a:lnTo>
                    <a:pt x="2172" y="2449"/>
                  </a:lnTo>
                  <a:lnTo>
                    <a:pt x="2119" y="2486"/>
                  </a:lnTo>
                  <a:lnTo>
                    <a:pt x="2064" y="2522"/>
                  </a:lnTo>
                  <a:lnTo>
                    <a:pt x="2007" y="2554"/>
                  </a:lnTo>
                  <a:lnTo>
                    <a:pt x="1948" y="2585"/>
                  </a:lnTo>
                  <a:lnTo>
                    <a:pt x="1888" y="2611"/>
                  </a:lnTo>
                  <a:lnTo>
                    <a:pt x="1826" y="2636"/>
                  </a:lnTo>
                  <a:lnTo>
                    <a:pt x="1763" y="2657"/>
                  </a:lnTo>
                  <a:lnTo>
                    <a:pt x="1699" y="2676"/>
                  </a:lnTo>
                  <a:lnTo>
                    <a:pt x="1632" y="2691"/>
                  </a:lnTo>
                  <a:lnTo>
                    <a:pt x="1565" y="2703"/>
                  </a:lnTo>
                  <a:lnTo>
                    <a:pt x="1498" y="2712"/>
                  </a:lnTo>
                  <a:lnTo>
                    <a:pt x="1429" y="2717"/>
                  </a:lnTo>
                  <a:lnTo>
                    <a:pt x="1359" y="2718"/>
                  </a:lnTo>
                  <a:lnTo>
                    <a:pt x="1289" y="2717"/>
                  </a:lnTo>
                  <a:lnTo>
                    <a:pt x="1220" y="2712"/>
                  </a:lnTo>
                  <a:lnTo>
                    <a:pt x="1152" y="2703"/>
                  </a:lnTo>
                  <a:lnTo>
                    <a:pt x="1085" y="2691"/>
                  </a:lnTo>
                  <a:lnTo>
                    <a:pt x="1019" y="2676"/>
                  </a:lnTo>
                  <a:lnTo>
                    <a:pt x="955" y="2657"/>
                  </a:lnTo>
                  <a:lnTo>
                    <a:pt x="892" y="2636"/>
                  </a:lnTo>
                  <a:lnTo>
                    <a:pt x="830" y="2611"/>
                  </a:lnTo>
                  <a:lnTo>
                    <a:pt x="770" y="2585"/>
                  </a:lnTo>
                  <a:lnTo>
                    <a:pt x="711" y="2554"/>
                  </a:lnTo>
                  <a:lnTo>
                    <a:pt x="654" y="2522"/>
                  </a:lnTo>
                  <a:lnTo>
                    <a:pt x="599" y="2486"/>
                  </a:lnTo>
                  <a:lnTo>
                    <a:pt x="546" y="2449"/>
                  </a:lnTo>
                  <a:lnTo>
                    <a:pt x="494" y="2408"/>
                  </a:lnTo>
                  <a:lnTo>
                    <a:pt x="445" y="2365"/>
                  </a:lnTo>
                  <a:lnTo>
                    <a:pt x="398" y="2320"/>
                  </a:lnTo>
                  <a:lnTo>
                    <a:pt x="353" y="2274"/>
                  </a:lnTo>
                  <a:lnTo>
                    <a:pt x="310" y="2224"/>
                  </a:lnTo>
                  <a:lnTo>
                    <a:pt x="270" y="2173"/>
                  </a:lnTo>
                  <a:lnTo>
                    <a:pt x="232" y="2119"/>
                  </a:lnTo>
                  <a:lnTo>
                    <a:pt x="197" y="2064"/>
                  </a:lnTo>
                  <a:lnTo>
                    <a:pt x="163" y="2007"/>
                  </a:lnTo>
                  <a:lnTo>
                    <a:pt x="134" y="1948"/>
                  </a:lnTo>
                  <a:lnTo>
                    <a:pt x="106" y="1888"/>
                  </a:lnTo>
                  <a:lnTo>
                    <a:pt x="82" y="1827"/>
                  </a:lnTo>
                  <a:lnTo>
                    <a:pt x="61" y="1764"/>
                  </a:lnTo>
                  <a:lnTo>
                    <a:pt x="42" y="1698"/>
                  </a:lnTo>
                  <a:lnTo>
                    <a:pt x="27" y="1633"/>
                  </a:lnTo>
                  <a:lnTo>
                    <a:pt x="16" y="1566"/>
                  </a:lnTo>
                  <a:lnTo>
                    <a:pt x="7" y="1498"/>
                  </a:lnTo>
                  <a:lnTo>
                    <a:pt x="2" y="1429"/>
                  </a:lnTo>
                  <a:lnTo>
                    <a:pt x="0" y="1359"/>
                  </a:lnTo>
                  <a:lnTo>
                    <a:pt x="2" y="1289"/>
                  </a:lnTo>
                  <a:lnTo>
                    <a:pt x="7" y="1220"/>
                  </a:lnTo>
                  <a:lnTo>
                    <a:pt x="16" y="1152"/>
                  </a:lnTo>
                  <a:lnTo>
                    <a:pt x="27" y="1085"/>
                  </a:lnTo>
                  <a:lnTo>
                    <a:pt x="42" y="1020"/>
                  </a:lnTo>
                  <a:lnTo>
                    <a:pt x="61" y="954"/>
                  </a:lnTo>
                  <a:lnTo>
                    <a:pt x="82" y="891"/>
                  </a:lnTo>
                  <a:lnTo>
                    <a:pt x="106" y="830"/>
                  </a:lnTo>
                  <a:lnTo>
                    <a:pt x="134" y="770"/>
                  </a:lnTo>
                  <a:lnTo>
                    <a:pt x="163" y="711"/>
                  </a:lnTo>
                  <a:lnTo>
                    <a:pt x="197" y="654"/>
                  </a:lnTo>
                  <a:lnTo>
                    <a:pt x="232" y="599"/>
                  </a:lnTo>
                  <a:lnTo>
                    <a:pt x="270" y="545"/>
                  </a:lnTo>
                  <a:lnTo>
                    <a:pt x="310" y="494"/>
                  </a:lnTo>
                  <a:lnTo>
                    <a:pt x="353" y="445"/>
                  </a:lnTo>
                  <a:lnTo>
                    <a:pt x="398" y="398"/>
                  </a:lnTo>
                  <a:lnTo>
                    <a:pt x="445" y="353"/>
                  </a:lnTo>
                  <a:lnTo>
                    <a:pt x="494" y="310"/>
                  </a:lnTo>
                  <a:lnTo>
                    <a:pt x="546" y="270"/>
                  </a:lnTo>
                  <a:lnTo>
                    <a:pt x="599" y="232"/>
                  </a:lnTo>
                  <a:lnTo>
                    <a:pt x="654" y="196"/>
                  </a:lnTo>
                  <a:lnTo>
                    <a:pt x="711" y="164"/>
                  </a:lnTo>
                  <a:lnTo>
                    <a:pt x="770" y="133"/>
                  </a:lnTo>
                  <a:lnTo>
                    <a:pt x="830" y="107"/>
                  </a:lnTo>
                  <a:lnTo>
                    <a:pt x="892" y="82"/>
                  </a:lnTo>
                  <a:lnTo>
                    <a:pt x="955" y="61"/>
                  </a:lnTo>
                  <a:lnTo>
                    <a:pt x="1019" y="43"/>
                  </a:lnTo>
                  <a:lnTo>
                    <a:pt x="1085" y="27"/>
                  </a:lnTo>
                  <a:lnTo>
                    <a:pt x="1152" y="15"/>
                  </a:lnTo>
                  <a:lnTo>
                    <a:pt x="1220" y="7"/>
                  </a:lnTo>
                  <a:lnTo>
                    <a:pt x="1289" y="1"/>
                  </a:lnTo>
                  <a:lnTo>
                    <a:pt x="1359" y="0"/>
                  </a:lnTo>
                  <a:lnTo>
                    <a:pt x="1429" y="1"/>
                  </a:lnTo>
                  <a:lnTo>
                    <a:pt x="1498" y="7"/>
                  </a:lnTo>
                  <a:lnTo>
                    <a:pt x="1565" y="15"/>
                  </a:lnTo>
                  <a:lnTo>
                    <a:pt x="1632" y="27"/>
                  </a:lnTo>
                  <a:lnTo>
                    <a:pt x="1699" y="43"/>
                  </a:lnTo>
                  <a:lnTo>
                    <a:pt x="1763" y="61"/>
                  </a:lnTo>
                  <a:lnTo>
                    <a:pt x="1826" y="82"/>
                  </a:lnTo>
                  <a:lnTo>
                    <a:pt x="1888" y="107"/>
                  </a:lnTo>
                  <a:lnTo>
                    <a:pt x="1948" y="133"/>
                  </a:lnTo>
                  <a:lnTo>
                    <a:pt x="2007" y="164"/>
                  </a:lnTo>
                  <a:lnTo>
                    <a:pt x="2064" y="196"/>
                  </a:lnTo>
                  <a:lnTo>
                    <a:pt x="2119" y="232"/>
                  </a:lnTo>
                  <a:lnTo>
                    <a:pt x="2172" y="270"/>
                  </a:lnTo>
                  <a:lnTo>
                    <a:pt x="2223" y="310"/>
                  </a:lnTo>
                  <a:lnTo>
                    <a:pt x="2272" y="353"/>
                  </a:lnTo>
                  <a:lnTo>
                    <a:pt x="2320" y="398"/>
                  </a:lnTo>
                  <a:lnTo>
                    <a:pt x="2365" y="445"/>
                  </a:lnTo>
                  <a:lnTo>
                    <a:pt x="2408" y="494"/>
                  </a:lnTo>
                  <a:lnTo>
                    <a:pt x="2447" y="545"/>
                  </a:lnTo>
                  <a:lnTo>
                    <a:pt x="2486" y="599"/>
                  </a:lnTo>
                  <a:lnTo>
                    <a:pt x="2520" y="654"/>
                  </a:lnTo>
                  <a:lnTo>
                    <a:pt x="2554" y="711"/>
                  </a:lnTo>
                  <a:lnTo>
                    <a:pt x="2584" y="770"/>
                  </a:lnTo>
                  <a:lnTo>
                    <a:pt x="2611" y="830"/>
                  </a:lnTo>
                  <a:lnTo>
                    <a:pt x="2635" y="891"/>
                  </a:lnTo>
                  <a:lnTo>
                    <a:pt x="2657" y="954"/>
                  </a:lnTo>
                  <a:lnTo>
                    <a:pt x="2675" y="1020"/>
                  </a:lnTo>
                  <a:lnTo>
                    <a:pt x="2690" y="1085"/>
                  </a:lnTo>
                  <a:lnTo>
                    <a:pt x="2703" y="1152"/>
                  </a:lnTo>
                  <a:lnTo>
                    <a:pt x="2711" y="1220"/>
                  </a:lnTo>
                  <a:lnTo>
                    <a:pt x="2716" y="1289"/>
                  </a:lnTo>
                  <a:lnTo>
                    <a:pt x="2718" y="1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4360" y="4452840"/>
              <a:ext cx="187200" cy="187200"/>
            </a:xfrm>
            <a:custGeom>
              <a:avLst/>
              <a:gdLst/>
              <a:ahLst/>
              <a:rect l="l" t="t" r="r" b="b"/>
              <a:pathLst>
                <a:path w="2718" h="2719">
                  <a:moveTo>
                    <a:pt x="2718" y="1359"/>
                  </a:moveTo>
                  <a:lnTo>
                    <a:pt x="2716" y="1429"/>
                  </a:lnTo>
                  <a:lnTo>
                    <a:pt x="2711" y="1499"/>
                  </a:lnTo>
                  <a:lnTo>
                    <a:pt x="2703" y="1567"/>
                  </a:lnTo>
                  <a:lnTo>
                    <a:pt x="2691" y="1634"/>
                  </a:lnTo>
                  <a:lnTo>
                    <a:pt x="2676" y="1699"/>
                  </a:lnTo>
                  <a:lnTo>
                    <a:pt x="2657" y="1764"/>
                  </a:lnTo>
                  <a:lnTo>
                    <a:pt x="2636" y="1827"/>
                  </a:lnTo>
                  <a:lnTo>
                    <a:pt x="2612" y="1888"/>
                  </a:lnTo>
                  <a:lnTo>
                    <a:pt x="2584" y="1949"/>
                  </a:lnTo>
                  <a:lnTo>
                    <a:pt x="2555" y="2007"/>
                  </a:lnTo>
                  <a:lnTo>
                    <a:pt x="2521" y="2064"/>
                  </a:lnTo>
                  <a:lnTo>
                    <a:pt x="2487" y="2119"/>
                  </a:lnTo>
                  <a:lnTo>
                    <a:pt x="2448" y="2173"/>
                  </a:lnTo>
                  <a:lnTo>
                    <a:pt x="2408" y="2224"/>
                  </a:lnTo>
                  <a:lnTo>
                    <a:pt x="2365" y="2274"/>
                  </a:lnTo>
                  <a:lnTo>
                    <a:pt x="2321" y="2321"/>
                  </a:lnTo>
                  <a:lnTo>
                    <a:pt x="2273" y="2366"/>
                  </a:lnTo>
                  <a:lnTo>
                    <a:pt x="2224" y="2408"/>
                  </a:lnTo>
                  <a:lnTo>
                    <a:pt x="2172" y="2449"/>
                  </a:lnTo>
                  <a:lnTo>
                    <a:pt x="2119" y="2487"/>
                  </a:lnTo>
                  <a:lnTo>
                    <a:pt x="2064" y="2522"/>
                  </a:lnTo>
                  <a:lnTo>
                    <a:pt x="2007" y="2555"/>
                  </a:lnTo>
                  <a:lnTo>
                    <a:pt x="1948" y="2585"/>
                  </a:lnTo>
                  <a:lnTo>
                    <a:pt x="1888" y="2612"/>
                  </a:lnTo>
                  <a:lnTo>
                    <a:pt x="1826" y="2636"/>
                  </a:lnTo>
                  <a:lnTo>
                    <a:pt x="1763" y="2658"/>
                  </a:lnTo>
                  <a:lnTo>
                    <a:pt x="1699" y="2676"/>
                  </a:lnTo>
                  <a:lnTo>
                    <a:pt x="1633" y="2691"/>
                  </a:lnTo>
                  <a:lnTo>
                    <a:pt x="1566" y="2704"/>
                  </a:lnTo>
                  <a:lnTo>
                    <a:pt x="1499" y="2713"/>
                  </a:lnTo>
                  <a:lnTo>
                    <a:pt x="1430" y="2718"/>
                  </a:lnTo>
                  <a:lnTo>
                    <a:pt x="1359" y="2719"/>
                  </a:lnTo>
                  <a:lnTo>
                    <a:pt x="1289" y="2718"/>
                  </a:lnTo>
                  <a:lnTo>
                    <a:pt x="1221" y="2713"/>
                  </a:lnTo>
                  <a:lnTo>
                    <a:pt x="1153" y="2704"/>
                  </a:lnTo>
                  <a:lnTo>
                    <a:pt x="1086" y="2691"/>
                  </a:lnTo>
                  <a:lnTo>
                    <a:pt x="1020" y="2676"/>
                  </a:lnTo>
                  <a:lnTo>
                    <a:pt x="955" y="2658"/>
                  </a:lnTo>
                  <a:lnTo>
                    <a:pt x="892" y="2636"/>
                  </a:lnTo>
                  <a:lnTo>
                    <a:pt x="830" y="2612"/>
                  </a:lnTo>
                  <a:lnTo>
                    <a:pt x="770" y="2585"/>
                  </a:lnTo>
                  <a:lnTo>
                    <a:pt x="711" y="2555"/>
                  </a:lnTo>
                  <a:lnTo>
                    <a:pt x="655" y="2522"/>
                  </a:lnTo>
                  <a:lnTo>
                    <a:pt x="599" y="2487"/>
                  </a:lnTo>
                  <a:lnTo>
                    <a:pt x="546" y="2449"/>
                  </a:lnTo>
                  <a:lnTo>
                    <a:pt x="495" y="2408"/>
                  </a:lnTo>
                  <a:lnTo>
                    <a:pt x="446" y="2366"/>
                  </a:lnTo>
                  <a:lnTo>
                    <a:pt x="399" y="2321"/>
                  </a:lnTo>
                  <a:lnTo>
                    <a:pt x="353" y="2274"/>
                  </a:lnTo>
                  <a:lnTo>
                    <a:pt x="310" y="2224"/>
                  </a:lnTo>
                  <a:lnTo>
                    <a:pt x="271" y="2173"/>
                  </a:lnTo>
                  <a:lnTo>
                    <a:pt x="232" y="2119"/>
                  </a:lnTo>
                  <a:lnTo>
                    <a:pt x="198" y="2064"/>
                  </a:lnTo>
                  <a:lnTo>
                    <a:pt x="164" y="2007"/>
                  </a:lnTo>
                  <a:lnTo>
                    <a:pt x="134" y="1949"/>
                  </a:lnTo>
                  <a:lnTo>
                    <a:pt x="107" y="1888"/>
                  </a:lnTo>
                  <a:lnTo>
                    <a:pt x="83" y="1827"/>
                  </a:lnTo>
                  <a:lnTo>
                    <a:pt x="61" y="1764"/>
                  </a:lnTo>
                  <a:lnTo>
                    <a:pt x="43" y="1699"/>
                  </a:lnTo>
                  <a:lnTo>
                    <a:pt x="28" y="1634"/>
                  </a:lnTo>
                  <a:lnTo>
                    <a:pt x="16" y="1567"/>
                  </a:lnTo>
                  <a:lnTo>
                    <a:pt x="7" y="1499"/>
                  </a:lnTo>
                  <a:lnTo>
                    <a:pt x="2" y="1429"/>
                  </a:lnTo>
                  <a:lnTo>
                    <a:pt x="0" y="1359"/>
                  </a:lnTo>
                  <a:lnTo>
                    <a:pt x="2" y="1290"/>
                  </a:lnTo>
                  <a:lnTo>
                    <a:pt x="7" y="1221"/>
                  </a:lnTo>
                  <a:lnTo>
                    <a:pt x="16" y="1153"/>
                  </a:lnTo>
                  <a:lnTo>
                    <a:pt x="28" y="1085"/>
                  </a:lnTo>
                  <a:lnTo>
                    <a:pt x="43" y="1020"/>
                  </a:lnTo>
                  <a:lnTo>
                    <a:pt x="61" y="955"/>
                  </a:lnTo>
                  <a:lnTo>
                    <a:pt x="83" y="892"/>
                  </a:lnTo>
                  <a:lnTo>
                    <a:pt x="107" y="831"/>
                  </a:lnTo>
                  <a:lnTo>
                    <a:pt x="134" y="771"/>
                  </a:lnTo>
                  <a:lnTo>
                    <a:pt x="164" y="712"/>
                  </a:lnTo>
                  <a:lnTo>
                    <a:pt x="198" y="655"/>
                  </a:lnTo>
                  <a:lnTo>
                    <a:pt x="232" y="600"/>
                  </a:lnTo>
                  <a:lnTo>
                    <a:pt x="271" y="546"/>
                  </a:lnTo>
                  <a:lnTo>
                    <a:pt x="310" y="495"/>
                  </a:lnTo>
                  <a:lnTo>
                    <a:pt x="353" y="445"/>
                  </a:lnTo>
                  <a:lnTo>
                    <a:pt x="399" y="398"/>
                  </a:lnTo>
                  <a:lnTo>
                    <a:pt x="446" y="354"/>
                  </a:lnTo>
                  <a:lnTo>
                    <a:pt x="495" y="311"/>
                  </a:lnTo>
                  <a:lnTo>
                    <a:pt x="546" y="270"/>
                  </a:lnTo>
                  <a:lnTo>
                    <a:pt x="599" y="232"/>
                  </a:lnTo>
                  <a:lnTo>
                    <a:pt x="655" y="197"/>
                  </a:lnTo>
                  <a:lnTo>
                    <a:pt x="711" y="164"/>
                  </a:lnTo>
                  <a:lnTo>
                    <a:pt x="770" y="135"/>
                  </a:lnTo>
                  <a:lnTo>
                    <a:pt x="830" y="107"/>
                  </a:lnTo>
                  <a:lnTo>
                    <a:pt x="892" y="83"/>
                  </a:lnTo>
                  <a:lnTo>
                    <a:pt x="955" y="61"/>
                  </a:lnTo>
                  <a:lnTo>
                    <a:pt x="1020" y="43"/>
                  </a:lnTo>
                  <a:lnTo>
                    <a:pt x="1086" y="28"/>
                  </a:lnTo>
                  <a:lnTo>
                    <a:pt x="1153" y="16"/>
                  </a:lnTo>
                  <a:lnTo>
                    <a:pt x="1221" y="8"/>
                  </a:lnTo>
                  <a:lnTo>
                    <a:pt x="1289" y="1"/>
                  </a:lnTo>
                  <a:lnTo>
                    <a:pt x="1359" y="0"/>
                  </a:lnTo>
                  <a:lnTo>
                    <a:pt x="1430" y="1"/>
                  </a:lnTo>
                  <a:lnTo>
                    <a:pt x="1499" y="8"/>
                  </a:lnTo>
                  <a:lnTo>
                    <a:pt x="1566" y="16"/>
                  </a:lnTo>
                  <a:lnTo>
                    <a:pt x="1633" y="28"/>
                  </a:lnTo>
                  <a:lnTo>
                    <a:pt x="1699" y="43"/>
                  </a:lnTo>
                  <a:lnTo>
                    <a:pt x="1763" y="61"/>
                  </a:lnTo>
                  <a:lnTo>
                    <a:pt x="1826" y="83"/>
                  </a:lnTo>
                  <a:lnTo>
                    <a:pt x="1888" y="107"/>
                  </a:lnTo>
                  <a:lnTo>
                    <a:pt x="1948" y="135"/>
                  </a:lnTo>
                  <a:lnTo>
                    <a:pt x="2007" y="164"/>
                  </a:lnTo>
                  <a:lnTo>
                    <a:pt x="2064" y="197"/>
                  </a:lnTo>
                  <a:lnTo>
                    <a:pt x="2119" y="232"/>
                  </a:lnTo>
                  <a:lnTo>
                    <a:pt x="2172" y="270"/>
                  </a:lnTo>
                  <a:lnTo>
                    <a:pt x="2224" y="311"/>
                  </a:lnTo>
                  <a:lnTo>
                    <a:pt x="2273" y="354"/>
                  </a:lnTo>
                  <a:lnTo>
                    <a:pt x="2321" y="398"/>
                  </a:lnTo>
                  <a:lnTo>
                    <a:pt x="2365" y="445"/>
                  </a:lnTo>
                  <a:lnTo>
                    <a:pt x="2408" y="495"/>
                  </a:lnTo>
                  <a:lnTo>
                    <a:pt x="2448" y="546"/>
                  </a:lnTo>
                  <a:lnTo>
                    <a:pt x="2487" y="600"/>
                  </a:lnTo>
                  <a:lnTo>
                    <a:pt x="2521" y="655"/>
                  </a:lnTo>
                  <a:lnTo>
                    <a:pt x="2555" y="712"/>
                  </a:lnTo>
                  <a:lnTo>
                    <a:pt x="2584" y="771"/>
                  </a:lnTo>
                  <a:lnTo>
                    <a:pt x="2612" y="831"/>
                  </a:lnTo>
                  <a:lnTo>
                    <a:pt x="2636" y="892"/>
                  </a:lnTo>
                  <a:lnTo>
                    <a:pt x="2657" y="955"/>
                  </a:lnTo>
                  <a:lnTo>
                    <a:pt x="2676" y="1020"/>
                  </a:lnTo>
                  <a:lnTo>
                    <a:pt x="2691" y="1085"/>
                  </a:lnTo>
                  <a:lnTo>
                    <a:pt x="2703" y="1153"/>
                  </a:lnTo>
                  <a:lnTo>
                    <a:pt x="2711" y="1221"/>
                  </a:lnTo>
                  <a:lnTo>
                    <a:pt x="2716" y="1290"/>
                  </a:lnTo>
                  <a:lnTo>
                    <a:pt x="2718" y="1359"/>
                  </a:lnTo>
                  <a:close/>
                </a:path>
              </a:pathLst>
            </a:custGeom>
            <a:solidFill>
              <a:srgbClr val="d25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4360" y="4452840"/>
              <a:ext cx="187200" cy="187200"/>
            </a:xfrm>
            <a:custGeom>
              <a:avLst/>
              <a:gdLst/>
              <a:ahLst/>
              <a:rect l="l" t="t" r="r" b="b"/>
              <a:pathLst>
                <a:path w="2718" h="2719">
                  <a:moveTo>
                    <a:pt x="2718" y="1359"/>
                  </a:moveTo>
                  <a:lnTo>
                    <a:pt x="2716" y="1429"/>
                  </a:lnTo>
                  <a:lnTo>
                    <a:pt x="2711" y="1499"/>
                  </a:lnTo>
                  <a:lnTo>
                    <a:pt x="2703" y="1567"/>
                  </a:lnTo>
                  <a:lnTo>
                    <a:pt x="2691" y="1634"/>
                  </a:lnTo>
                  <a:lnTo>
                    <a:pt x="2676" y="1699"/>
                  </a:lnTo>
                  <a:lnTo>
                    <a:pt x="2657" y="1764"/>
                  </a:lnTo>
                  <a:lnTo>
                    <a:pt x="2636" y="1827"/>
                  </a:lnTo>
                  <a:lnTo>
                    <a:pt x="2612" y="1888"/>
                  </a:lnTo>
                  <a:lnTo>
                    <a:pt x="2584" y="1949"/>
                  </a:lnTo>
                  <a:lnTo>
                    <a:pt x="2555" y="2007"/>
                  </a:lnTo>
                  <a:lnTo>
                    <a:pt x="2521" y="2064"/>
                  </a:lnTo>
                  <a:lnTo>
                    <a:pt x="2487" y="2119"/>
                  </a:lnTo>
                  <a:lnTo>
                    <a:pt x="2448" y="2173"/>
                  </a:lnTo>
                  <a:lnTo>
                    <a:pt x="2408" y="2224"/>
                  </a:lnTo>
                  <a:lnTo>
                    <a:pt x="2365" y="2274"/>
                  </a:lnTo>
                  <a:lnTo>
                    <a:pt x="2321" y="2321"/>
                  </a:lnTo>
                  <a:lnTo>
                    <a:pt x="2273" y="2366"/>
                  </a:lnTo>
                  <a:lnTo>
                    <a:pt x="2224" y="2408"/>
                  </a:lnTo>
                  <a:lnTo>
                    <a:pt x="2172" y="2449"/>
                  </a:lnTo>
                  <a:lnTo>
                    <a:pt x="2119" y="2487"/>
                  </a:lnTo>
                  <a:lnTo>
                    <a:pt x="2064" y="2522"/>
                  </a:lnTo>
                  <a:lnTo>
                    <a:pt x="2007" y="2555"/>
                  </a:lnTo>
                  <a:lnTo>
                    <a:pt x="1948" y="2585"/>
                  </a:lnTo>
                  <a:lnTo>
                    <a:pt x="1888" y="2612"/>
                  </a:lnTo>
                  <a:lnTo>
                    <a:pt x="1826" y="2636"/>
                  </a:lnTo>
                  <a:lnTo>
                    <a:pt x="1763" y="2658"/>
                  </a:lnTo>
                  <a:lnTo>
                    <a:pt x="1699" y="2676"/>
                  </a:lnTo>
                  <a:lnTo>
                    <a:pt x="1633" y="2691"/>
                  </a:lnTo>
                  <a:lnTo>
                    <a:pt x="1566" y="2704"/>
                  </a:lnTo>
                  <a:lnTo>
                    <a:pt x="1499" y="2713"/>
                  </a:lnTo>
                  <a:lnTo>
                    <a:pt x="1430" y="2718"/>
                  </a:lnTo>
                  <a:lnTo>
                    <a:pt x="1359" y="2719"/>
                  </a:lnTo>
                  <a:lnTo>
                    <a:pt x="1289" y="2718"/>
                  </a:lnTo>
                  <a:lnTo>
                    <a:pt x="1221" y="2713"/>
                  </a:lnTo>
                  <a:lnTo>
                    <a:pt x="1153" y="2704"/>
                  </a:lnTo>
                  <a:lnTo>
                    <a:pt x="1086" y="2691"/>
                  </a:lnTo>
                  <a:lnTo>
                    <a:pt x="1020" y="2676"/>
                  </a:lnTo>
                  <a:lnTo>
                    <a:pt x="955" y="2658"/>
                  </a:lnTo>
                  <a:lnTo>
                    <a:pt x="892" y="2636"/>
                  </a:lnTo>
                  <a:lnTo>
                    <a:pt x="830" y="2612"/>
                  </a:lnTo>
                  <a:lnTo>
                    <a:pt x="770" y="2585"/>
                  </a:lnTo>
                  <a:lnTo>
                    <a:pt x="711" y="2555"/>
                  </a:lnTo>
                  <a:lnTo>
                    <a:pt x="655" y="2522"/>
                  </a:lnTo>
                  <a:lnTo>
                    <a:pt x="599" y="2487"/>
                  </a:lnTo>
                  <a:lnTo>
                    <a:pt x="546" y="2449"/>
                  </a:lnTo>
                  <a:lnTo>
                    <a:pt x="495" y="2408"/>
                  </a:lnTo>
                  <a:lnTo>
                    <a:pt x="446" y="2366"/>
                  </a:lnTo>
                  <a:lnTo>
                    <a:pt x="399" y="2321"/>
                  </a:lnTo>
                  <a:lnTo>
                    <a:pt x="353" y="2274"/>
                  </a:lnTo>
                  <a:lnTo>
                    <a:pt x="310" y="2224"/>
                  </a:lnTo>
                  <a:lnTo>
                    <a:pt x="271" y="2173"/>
                  </a:lnTo>
                  <a:lnTo>
                    <a:pt x="232" y="2119"/>
                  </a:lnTo>
                  <a:lnTo>
                    <a:pt x="198" y="2064"/>
                  </a:lnTo>
                  <a:lnTo>
                    <a:pt x="164" y="2007"/>
                  </a:lnTo>
                  <a:lnTo>
                    <a:pt x="134" y="1949"/>
                  </a:lnTo>
                  <a:lnTo>
                    <a:pt x="107" y="1888"/>
                  </a:lnTo>
                  <a:lnTo>
                    <a:pt x="83" y="1827"/>
                  </a:lnTo>
                  <a:lnTo>
                    <a:pt x="61" y="1764"/>
                  </a:lnTo>
                  <a:lnTo>
                    <a:pt x="43" y="1699"/>
                  </a:lnTo>
                  <a:lnTo>
                    <a:pt x="28" y="1634"/>
                  </a:lnTo>
                  <a:lnTo>
                    <a:pt x="16" y="1567"/>
                  </a:lnTo>
                  <a:lnTo>
                    <a:pt x="7" y="1499"/>
                  </a:lnTo>
                  <a:lnTo>
                    <a:pt x="2" y="1429"/>
                  </a:lnTo>
                  <a:lnTo>
                    <a:pt x="0" y="1359"/>
                  </a:lnTo>
                  <a:lnTo>
                    <a:pt x="2" y="1290"/>
                  </a:lnTo>
                  <a:lnTo>
                    <a:pt x="7" y="1221"/>
                  </a:lnTo>
                  <a:lnTo>
                    <a:pt x="16" y="1153"/>
                  </a:lnTo>
                  <a:lnTo>
                    <a:pt x="28" y="1085"/>
                  </a:lnTo>
                  <a:lnTo>
                    <a:pt x="43" y="1020"/>
                  </a:lnTo>
                  <a:lnTo>
                    <a:pt x="61" y="955"/>
                  </a:lnTo>
                  <a:lnTo>
                    <a:pt x="83" y="892"/>
                  </a:lnTo>
                  <a:lnTo>
                    <a:pt x="107" y="831"/>
                  </a:lnTo>
                  <a:lnTo>
                    <a:pt x="134" y="771"/>
                  </a:lnTo>
                  <a:lnTo>
                    <a:pt x="164" y="712"/>
                  </a:lnTo>
                  <a:lnTo>
                    <a:pt x="198" y="655"/>
                  </a:lnTo>
                  <a:lnTo>
                    <a:pt x="232" y="600"/>
                  </a:lnTo>
                  <a:lnTo>
                    <a:pt x="271" y="546"/>
                  </a:lnTo>
                  <a:lnTo>
                    <a:pt x="310" y="495"/>
                  </a:lnTo>
                  <a:lnTo>
                    <a:pt x="353" y="445"/>
                  </a:lnTo>
                  <a:lnTo>
                    <a:pt x="399" y="398"/>
                  </a:lnTo>
                  <a:lnTo>
                    <a:pt x="446" y="354"/>
                  </a:lnTo>
                  <a:lnTo>
                    <a:pt x="495" y="311"/>
                  </a:lnTo>
                  <a:lnTo>
                    <a:pt x="546" y="270"/>
                  </a:lnTo>
                  <a:lnTo>
                    <a:pt x="599" y="232"/>
                  </a:lnTo>
                  <a:lnTo>
                    <a:pt x="655" y="197"/>
                  </a:lnTo>
                  <a:lnTo>
                    <a:pt x="711" y="164"/>
                  </a:lnTo>
                  <a:lnTo>
                    <a:pt x="770" y="135"/>
                  </a:lnTo>
                  <a:lnTo>
                    <a:pt x="830" y="107"/>
                  </a:lnTo>
                  <a:lnTo>
                    <a:pt x="892" y="83"/>
                  </a:lnTo>
                  <a:lnTo>
                    <a:pt x="955" y="61"/>
                  </a:lnTo>
                  <a:lnTo>
                    <a:pt x="1020" y="43"/>
                  </a:lnTo>
                  <a:lnTo>
                    <a:pt x="1086" y="28"/>
                  </a:lnTo>
                  <a:lnTo>
                    <a:pt x="1153" y="16"/>
                  </a:lnTo>
                  <a:lnTo>
                    <a:pt x="1221" y="8"/>
                  </a:lnTo>
                  <a:lnTo>
                    <a:pt x="1289" y="1"/>
                  </a:lnTo>
                  <a:lnTo>
                    <a:pt x="1359" y="0"/>
                  </a:lnTo>
                  <a:lnTo>
                    <a:pt x="1430" y="1"/>
                  </a:lnTo>
                  <a:lnTo>
                    <a:pt x="1499" y="8"/>
                  </a:lnTo>
                  <a:lnTo>
                    <a:pt x="1566" y="16"/>
                  </a:lnTo>
                  <a:lnTo>
                    <a:pt x="1633" y="28"/>
                  </a:lnTo>
                  <a:lnTo>
                    <a:pt x="1699" y="43"/>
                  </a:lnTo>
                  <a:lnTo>
                    <a:pt x="1763" y="61"/>
                  </a:lnTo>
                  <a:lnTo>
                    <a:pt x="1826" y="83"/>
                  </a:lnTo>
                  <a:lnTo>
                    <a:pt x="1888" y="107"/>
                  </a:lnTo>
                  <a:lnTo>
                    <a:pt x="1948" y="135"/>
                  </a:lnTo>
                  <a:lnTo>
                    <a:pt x="2007" y="164"/>
                  </a:lnTo>
                  <a:lnTo>
                    <a:pt x="2064" y="197"/>
                  </a:lnTo>
                  <a:lnTo>
                    <a:pt x="2119" y="232"/>
                  </a:lnTo>
                  <a:lnTo>
                    <a:pt x="2172" y="270"/>
                  </a:lnTo>
                  <a:lnTo>
                    <a:pt x="2224" y="311"/>
                  </a:lnTo>
                  <a:lnTo>
                    <a:pt x="2273" y="354"/>
                  </a:lnTo>
                  <a:lnTo>
                    <a:pt x="2321" y="398"/>
                  </a:lnTo>
                  <a:lnTo>
                    <a:pt x="2365" y="445"/>
                  </a:lnTo>
                  <a:lnTo>
                    <a:pt x="2408" y="495"/>
                  </a:lnTo>
                  <a:lnTo>
                    <a:pt x="2448" y="546"/>
                  </a:lnTo>
                  <a:lnTo>
                    <a:pt x="2487" y="600"/>
                  </a:lnTo>
                  <a:lnTo>
                    <a:pt x="2521" y="655"/>
                  </a:lnTo>
                  <a:lnTo>
                    <a:pt x="2555" y="712"/>
                  </a:lnTo>
                  <a:lnTo>
                    <a:pt x="2584" y="771"/>
                  </a:lnTo>
                  <a:lnTo>
                    <a:pt x="2612" y="831"/>
                  </a:lnTo>
                  <a:lnTo>
                    <a:pt x="2636" y="892"/>
                  </a:lnTo>
                  <a:lnTo>
                    <a:pt x="2657" y="955"/>
                  </a:lnTo>
                  <a:lnTo>
                    <a:pt x="2676" y="1020"/>
                  </a:lnTo>
                  <a:lnTo>
                    <a:pt x="2691" y="1085"/>
                  </a:lnTo>
                  <a:lnTo>
                    <a:pt x="2703" y="1153"/>
                  </a:lnTo>
                  <a:lnTo>
                    <a:pt x="2711" y="1221"/>
                  </a:lnTo>
                  <a:lnTo>
                    <a:pt x="2716" y="1290"/>
                  </a:lnTo>
                  <a:lnTo>
                    <a:pt x="2718" y="1359"/>
                  </a:lnTo>
                </a:path>
              </a:pathLst>
            </a:custGeom>
            <a:noFill/>
            <a:ln w="1440">
              <a:solidFill>
                <a:srgbClr val="9b322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7520" y="3957480"/>
              <a:ext cx="930240" cy="318960"/>
            </a:xfrm>
            <a:custGeom>
              <a:avLst/>
              <a:gdLst/>
              <a:ahLst/>
              <a:rect l="l" t="t" r="r" b="b"/>
              <a:pathLst>
                <a:path w="13488" h="4615">
                  <a:moveTo>
                    <a:pt x="13488" y="2307"/>
                  </a:moveTo>
                  <a:lnTo>
                    <a:pt x="13479" y="2427"/>
                  </a:lnTo>
                  <a:lnTo>
                    <a:pt x="13453" y="2544"/>
                  </a:lnTo>
                  <a:lnTo>
                    <a:pt x="13410" y="2659"/>
                  </a:lnTo>
                  <a:lnTo>
                    <a:pt x="13351" y="2773"/>
                  </a:lnTo>
                  <a:lnTo>
                    <a:pt x="13276" y="2883"/>
                  </a:lnTo>
                  <a:lnTo>
                    <a:pt x="13184" y="2993"/>
                  </a:lnTo>
                  <a:lnTo>
                    <a:pt x="13078" y="3100"/>
                  </a:lnTo>
                  <a:lnTo>
                    <a:pt x="12957" y="3205"/>
                  </a:lnTo>
                  <a:lnTo>
                    <a:pt x="12822" y="3308"/>
                  </a:lnTo>
                  <a:lnTo>
                    <a:pt x="12673" y="3407"/>
                  </a:lnTo>
                  <a:lnTo>
                    <a:pt x="12511" y="3503"/>
                  </a:lnTo>
                  <a:lnTo>
                    <a:pt x="12336" y="3597"/>
                  </a:lnTo>
                  <a:lnTo>
                    <a:pt x="12147" y="3688"/>
                  </a:lnTo>
                  <a:lnTo>
                    <a:pt x="11947" y="3775"/>
                  </a:lnTo>
                  <a:lnTo>
                    <a:pt x="11735" y="3858"/>
                  </a:lnTo>
                  <a:lnTo>
                    <a:pt x="11512" y="3939"/>
                  </a:lnTo>
                  <a:lnTo>
                    <a:pt x="11278" y="4015"/>
                  </a:lnTo>
                  <a:lnTo>
                    <a:pt x="11033" y="4087"/>
                  </a:lnTo>
                  <a:lnTo>
                    <a:pt x="10778" y="4156"/>
                  </a:lnTo>
                  <a:lnTo>
                    <a:pt x="10514" y="4221"/>
                  </a:lnTo>
                  <a:lnTo>
                    <a:pt x="10240" y="4281"/>
                  </a:lnTo>
                  <a:lnTo>
                    <a:pt x="9957" y="4336"/>
                  </a:lnTo>
                  <a:lnTo>
                    <a:pt x="9667" y="4387"/>
                  </a:lnTo>
                  <a:lnTo>
                    <a:pt x="9368" y="4434"/>
                  </a:lnTo>
                  <a:lnTo>
                    <a:pt x="9062" y="4474"/>
                  </a:lnTo>
                  <a:lnTo>
                    <a:pt x="8749" y="4511"/>
                  </a:lnTo>
                  <a:lnTo>
                    <a:pt x="8429" y="4541"/>
                  </a:lnTo>
                  <a:lnTo>
                    <a:pt x="8103" y="4568"/>
                  </a:lnTo>
                  <a:lnTo>
                    <a:pt x="7771" y="4588"/>
                  </a:lnTo>
                  <a:lnTo>
                    <a:pt x="7433" y="4602"/>
                  </a:lnTo>
                  <a:lnTo>
                    <a:pt x="7090" y="4612"/>
                  </a:lnTo>
                  <a:lnTo>
                    <a:pt x="6743" y="4615"/>
                  </a:lnTo>
                  <a:lnTo>
                    <a:pt x="6398" y="4612"/>
                  </a:lnTo>
                  <a:lnTo>
                    <a:pt x="6055" y="4602"/>
                  </a:lnTo>
                  <a:lnTo>
                    <a:pt x="5717" y="4588"/>
                  </a:lnTo>
                  <a:lnTo>
                    <a:pt x="5385" y="4568"/>
                  </a:lnTo>
                  <a:lnTo>
                    <a:pt x="5059" y="4541"/>
                  </a:lnTo>
                  <a:lnTo>
                    <a:pt x="4739" y="4511"/>
                  </a:lnTo>
                  <a:lnTo>
                    <a:pt x="4426" y="4474"/>
                  </a:lnTo>
                  <a:lnTo>
                    <a:pt x="4120" y="4434"/>
                  </a:lnTo>
                  <a:lnTo>
                    <a:pt x="3821" y="4387"/>
                  </a:lnTo>
                  <a:lnTo>
                    <a:pt x="3531" y="4336"/>
                  </a:lnTo>
                  <a:lnTo>
                    <a:pt x="3248" y="4281"/>
                  </a:lnTo>
                  <a:lnTo>
                    <a:pt x="2974" y="4221"/>
                  </a:lnTo>
                  <a:lnTo>
                    <a:pt x="2710" y="4156"/>
                  </a:lnTo>
                  <a:lnTo>
                    <a:pt x="2455" y="4087"/>
                  </a:lnTo>
                  <a:lnTo>
                    <a:pt x="2210" y="4015"/>
                  </a:lnTo>
                  <a:lnTo>
                    <a:pt x="1976" y="3939"/>
                  </a:lnTo>
                  <a:lnTo>
                    <a:pt x="1753" y="3858"/>
                  </a:lnTo>
                  <a:lnTo>
                    <a:pt x="1541" y="3775"/>
                  </a:lnTo>
                  <a:lnTo>
                    <a:pt x="1341" y="3688"/>
                  </a:lnTo>
                  <a:lnTo>
                    <a:pt x="1152" y="3597"/>
                  </a:lnTo>
                  <a:lnTo>
                    <a:pt x="977" y="3503"/>
                  </a:lnTo>
                  <a:lnTo>
                    <a:pt x="815" y="3407"/>
                  </a:lnTo>
                  <a:lnTo>
                    <a:pt x="665" y="3308"/>
                  </a:lnTo>
                  <a:lnTo>
                    <a:pt x="531" y="3205"/>
                  </a:lnTo>
                  <a:lnTo>
                    <a:pt x="410" y="3100"/>
                  </a:lnTo>
                  <a:lnTo>
                    <a:pt x="304" y="2993"/>
                  </a:lnTo>
                  <a:lnTo>
                    <a:pt x="212" y="2883"/>
                  </a:lnTo>
                  <a:lnTo>
                    <a:pt x="137" y="2773"/>
                  </a:lnTo>
                  <a:lnTo>
                    <a:pt x="78" y="2659"/>
                  </a:lnTo>
                  <a:lnTo>
                    <a:pt x="35" y="2544"/>
                  </a:lnTo>
                  <a:lnTo>
                    <a:pt x="9" y="2427"/>
                  </a:lnTo>
                  <a:lnTo>
                    <a:pt x="0" y="2307"/>
                  </a:lnTo>
                  <a:lnTo>
                    <a:pt x="9" y="2188"/>
                  </a:lnTo>
                  <a:lnTo>
                    <a:pt x="35" y="2071"/>
                  </a:lnTo>
                  <a:lnTo>
                    <a:pt x="78" y="1956"/>
                  </a:lnTo>
                  <a:lnTo>
                    <a:pt x="137" y="1842"/>
                  </a:lnTo>
                  <a:lnTo>
                    <a:pt x="212" y="1731"/>
                  </a:lnTo>
                  <a:lnTo>
                    <a:pt x="304" y="1621"/>
                  </a:lnTo>
                  <a:lnTo>
                    <a:pt x="410" y="1515"/>
                  </a:lnTo>
                  <a:lnTo>
                    <a:pt x="531" y="1410"/>
                  </a:lnTo>
                  <a:lnTo>
                    <a:pt x="665" y="1307"/>
                  </a:lnTo>
                  <a:lnTo>
                    <a:pt x="815" y="1208"/>
                  </a:lnTo>
                  <a:lnTo>
                    <a:pt x="977" y="1112"/>
                  </a:lnTo>
                  <a:lnTo>
                    <a:pt x="1152" y="1018"/>
                  </a:lnTo>
                  <a:lnTo>
                    <a:pt x="1341" y="927"/>
                  </a:lnTo>
                  <a:lnTo>
                    <a:pt x="1541" y="840"/>
                  </a:lnTo>
                  <a:lnTo>
                    <a:pt x="1753" y="756"/>
                  </a:lnTo>
                  <a:lnTo>
                    <a:pt x="1976" y="676"/>
                  </a:lnTo>
                  <a:lnTo>
                    <a:pt x="2210" y="600"/>
                  </a:lnTo>
                  <a:lnTo>
                    <a:pt x="2455" y="527"/>
                  </a:lnTo>
                  <a:lnTo>
                    <a:pt x="2710" y="459"/>
                  </a:lnTo>
                  <a:lnTo>
                    <a:pt x="2974" y="394"/>
                  </a:lnTo>
                  <a:lnTo>
                    <a:pt x="3248" y="334"/>
                  </a:lnTo>
                  <a:lnTo>
                    <a:pt x="3531" y="279"/>
                  </a:lnTo>
                  <a:lnTo>
                    <a:pt x="3821" y="228"/>
                  </a:lnTo>
                  <a:lnTo>
                    <a:pt x="4120" y="181"/>
                  </a:lnTo>
                  <a:lnTo>
                    <a:pt x="4426" y="141"/>
                  </a:lnTo>
                  <a:lnTo>
                    <a:pt x="4739" y="104"/>
                  </a:lnTo>
                  <a:lnTo>
                    <a:pt x="5059" y="72"/>
                  </a:lnTo>
                  <a:lnTo>
                    <a:pt x="5385" y="47"/>
                  </a:lnTo>
                  <a:lnTo>
                    <a:pt x="5717" y="27"/>
                  </a:lnTo>
                  <a:lnTo>
                    <a:pt x="6055" y="12"/>
                  </a:lnTo>
                  <a:lnTo>
                    <a:pt x="6398" y="3"/>
                  </a:lnTo>
                  <a:lnTo>
                    <a:pt x="6743" y="0"/>
                  </a:lnTo>
                  <a:lnTo>
                    <a:pt x="7090" y="3"/>
                  </a:lnTo>
                  <a:lnTo>
                    <a:pt x="7433" y="12"/>
                  </a:lnTo>
                  <a:lnTo>
                    <a:pt x="7771" y="27"/>
                  </a:lnTo>
                  <a:lnTo>
                    <a:pt x="8103" y="47"/>
                  </a:lnTo>
                  <a:lnTo>
                    <a:pt x="8429" y="72"/>
                  </a:lnTo>
                  <a:lnTo>
                    <a:pt x="8749" y="104"/>
                  </a:lnTo>
                  <a:lnTo>
                    <a:pt x="9062" y="141"/>
                  </a:lnTo>
                  <a:lnTo>
                    <a:pt x="9368" y="181"/>
                  </a:lnTo>
                  <a:lnTo>
                    <a:pt x="9667" y="228"/>
                  </a:lnTo>
                  <a:lnTo>
                    <a:pt x="9957" y="279"/>
                  </a:lnTo>
                  <a:lnTo>
                    <a:pt x="10240" y="334"/>
                  </a:lnTo>
                  <a:lnTo>
                    <a:pt x="10514" y="394"/>
                  </a:lnTo>
                  <a:lnTo>
                    <a:pt x="10778" y="459"/>
                  </a:lnTo>
                  <a:lnTo>
                    <a:pt x="11033" y="527"/>
                  </a:lnTo>
                  <a:lnTo>
                    <a:pt x="11278" y="600"/>
                  </a:lnTo>
                  <a:lnTo>
                    <a:pt x="11512" y="676"/>
                  </a:lnTo>
                  <a:lnTo>
                    <a:pt x="11735" y="756"/>
                  </a:lnTo>
                  <a:lnTo>
                    <a:pt x="11947" y="840"/>
                  </a:lnTo>
                  <a:lnTo>
                    <a:pt x="12147" y="927"/>
                  </a:lnTo>
                  <a:lnTo>
                    <a:pt x="12336" y="1018"/>
                  </a:lnTo>
                  <a:lnTo>
                    <a:pt x="12511" y="1112"/>
                  </a:lnTo>
                  <a:lnTo>
                    <a:pt x="12673" y="1208"/>
                  </a:lnTo>
                  <a:lnTo>
                    <a:pt x="12822" y="1307"/>
                  </a:lnTo>
                  <a:lnTo>
                    <a:pt x="12957" y="1410"/>
                  </a:lnTo>
                  <a:lnTo>
                    <a:pt x="13078" y="1515"/>
                  </a:lnTo>
                  <a:lnTo>
                    <a:pt x="13184" y="1621"/>
                  </a:lnTo>
                  <a:lnTo>
                    <a:pt x="13276" y="1731"/>
                  </a:lnTo>
                  <a:lnTo>
                    <a:pt x="13351" y="1842"/>
                  </a:lnTo>
                  <a:lnTo>
                    <a:pt x="13410" y="1956"/>
                  </a:lnTo>
                  <a:lnTo>
                    <a:pt x="13453" y="2071"/>
                  </a:lnTo>
                  <a:lnTo>
                    <a:pt x="13479" y="2188"/>
                  </a:lnTo>
                  <a:lnTo>
                    <a:pt x="13488" y="2307"/>
                  </a:lnTo>
                  <a:close/>
                </a:path>
              </a:pathLst>
            </a:custGeom>
            <a:solidFill>
              <a:srgbClr val="00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79760" y="4116240"/>
              <a:ext cx="471240" cy="162000"/>
            </a:xfrm>
            <a:custGeom>
              <a:avLst/>
              <a:gdLst/>
              <a:ahLst/>
              <a:rect l="l" t="t" r="r" b="b"/>
              <a:pathLst>
                <a:path w="6826" h="2348">
                  <a:moveTo>
                    <a:pt x="40" y="2348"/>
                  </a:moveTo>
                  <a:lnTo>
                    <a:pt x="40" y="2348"/>
                  </a:lnTo>
                  <a:lnTo>
                    <a:pt x="215" y="2348"/>
                  </a:lnTo>
                  <a:lnTo>
                    <a:pt x="388" y="2345"/>
                  </a:lnTo>
                  <a:lnTo>
                    <a:pt x="560" y="2342"/>
                  </a:lnTo>
                  <a:lnTo>
                    <a:pt x="731" y="2336"/>
                  </a:lnTo>
                  <a:lnTo>
                    <a:pt x="901" y="2330"/>
                  </a:lnTo>
                  <a:lnTo>
                    <a:pt x="1070" y="2322"/>
                  </a:lnTo>
                  <a:lnTo>
                    <a:pt x="1237" y="2313"/>
                  </a:lnTo>
                  <a:lnTo>
                    <a:pt x="1403" y="2302"/>
                  </a:lnTo>
                  <a:lnTo>
                    <a:pt x="1566" y="2289"/>
                  </a:lnTo>
                  <a:lnTo>
                    <a:pt x="1729" y="2276"/>
                  </a:lnTo>
                  <a:lnTo>
                    <a:pt x="1890" y="2261"/>
                  </a:lnTo>
                  <a:lnTo>
                    <a:pt x="2050" y="2245"/>
                  </a:lnTo>
                  <a:lnTo>
                    <a:pt x="2207" y="2227"/>
                  </a:lnTo>
                  <a:lnTo>
                    <a:pt x="2364" y="2208"/>
                  </a:lnTo>
                  <a:lnTo>
                    <a:pt x="2519" y="2189"/>
                  </a:lnTo>
                  <a:lnTo>
                    <a:pt x="2671" y="2167"/>
                  </a:lnTo>
                  <a:lnTo>
                    <a:pt x="2822" y="2145"/>
                  </a:lnTo>
                  <a:lnTo>
                    <a:pt x="2970" y="2120"/>
                  </a:lnTo>
                  <a:lnTo>
                    <a:pt x="3117" y="2096"/>
                  </a:lnTo>
                  <a:lnTo>
                    <a:pt x="3262" y="2070"/>
                  </a:lnTo>
                  <a:lnTo>
                    <a:pt x="3405" y="2042"/>
                  </a:lnTo>
                  <a:lnTo>
                    <a:pt x="3545" y="2014"/>
                  </a:lnTo>
                  <a:lnTo>
                    <a:pt x="3684" y="1984"/>
                  </a:lnTo>
                  <a:lnTo>
                    <a:pt x="3820" y="1954"/>
                  </a:lnTo>
                  <a:lnTo>
                    <a:pt x="3954" y="1922"/>
                  </a:lnTo>
                  <a:lnTo>
                    <a:pt x="4085" y="1889"/>
                  </a:lnTo>
                  <a:lnTo>
                    <a:pt x="4215" y="1855"/>
                  </a:lnTo>
                  <a:lnTo>
                    <a:pt x="4341" y="1820"/>
                  </a:lnTo>
                  <a:lnTo>
                    <a:pt x="4465" y="1785"/>
                  </a:lnTo>
                  <a:lnTo>
                    <a:pt x="4587" y="1747"/>
                  </a:lnTo>
                  <a:lnTo>
                    <a:pt x="4706" y="1709"/>
                  </a:lnTo>
                  <a:lnTo>
                    <a:pt x="4822" y="1671"/>
                  </a:lnTo>
                  <a:lnTo>
                    <a:pt x="4936" y="1631"/>
                  </a:lnTo>
                  <a:lnTo>
                    <a:pt x="5047" y="1590"/>
                  </a:lnTo>
                  <a:lnTo>
                    <a:pt x="5155" y="1548"/>
                  </a:lnTo>
                  <a:lnTo>
                    <a:pt x="5259" y="1506"/>
                  </a:lnTo>
                  <a:lnTo>
                    <a:pt x="5362" y="1462"/>
                  </a:lnTo>
                  <a:lnTo>
                    <a:pt x="5462" y="1418"/>
                  </a:lnTo>
                  <a:lnTo>
                    <a:pt x="5510" y="1396"/>
                  </a:lnTo>
                  <a:lnTo>
                    <a:pt x="5557" y="1372"/>
                  </a:lnTo>
                  <a:lnTo>
                    <a:pt x="5605" y="1350"/>
                  </a:lnTo>
                  <a:lnTo>
                    <a:pt x="5651" y="1327"/>
                  </a:lnTo>
                  <a:lnTo>
                    <a:pt x="5697" y="1303"/>
                  </a:lnTo>
                  <a:lnTo>
                    <a:pt x="5742" y="1280"/>
                  </a:lnTo>
                  <a:lnTo>
                    <a:pt x="5785" y="1256"/>
                  </a:lnTo>
                  <a:lnTo>
                    <a:pt x="5828" y="1232"/>
                  </a:lnTo>
                  <a:lnTo>
                    <a:pt x="5871" y="1209"/>
                  </a:lnTo>
                  <a:lnTo>
                    <a:pt x="5911" y="1184"/>
                  </a:lnTo>
                  <a:lnTo>
                    <a:pt x="5952" y="1160"/>
                  </a:lnTo>
                  <a:lnTo>
                    <a:pt x="5992" y="1134"/>
                  </a:lnTo>
                  <a:lnTo>
                    <a:pt x="6031" y="1110"/>
                  </a:lnTo>
                  <a:lnTo>
                    <a:pt x="6069" y="1084"/>
                  </a:lnTo>
                  <a:lnTo>
                    <a:pt x="6107" y="1059"/>
                  </a:lnTo>
                  <a:lnTo>
                    <a:pt x="6143" y="1033"/>
                  </a:lnTo>
                  <a:lnTo>
                    <a:pt x="6179" y="1008"/>
                  </a:lnTo>
                  <a:lnTo>
                    <a:pt x="6214" y="983"/>
                  </a:lnTo>
                  <a:lnTo>
                    <a:pt x="6247" y="956"/>
                  </a:lnTo>
                  <a:lnTo>
                    <a:pt x="6281" y="931"/>
                  </a:lnTo>
                  <a:lnTo>
                    <a:pt x="6312" y="904"/>
                  </a:lnTo>
                  <a:lnTo>
                    <a:pt x="6344" y="877"/>
                  </a:lnTo>
                  <a:lnTo>
                    <a:pt x="6374" y="850"/>
                  </a:lnTo>
                  <a:lnTo>
                    <a:pt x="6403" y="824"/>
                  </a:lnTo>
                  <a:lnTo>
                    <a:pt x="6432" y="796"/>
                  </a:lnTo>
                  <a:lnTo>
                    <a:pt x="6460" y="769"/>
                  </a:lnTo>
                  <a:lnTo>
                    <a:pt x="6486" y="741"/>
                  </a:lnTo>
                  <a:lnTo>
                    <a:pt x="6512" y="714"/>
                  </a:lnTo>
                  <a:lnTo>
                    <a:pt x="6537" y="686"/>
                  </a:lnTo>
                  <a:lnTo>
                    <a:pt x="6560" y="658"/>
                  </a:lnTo>
                  <a:lnTo>
                    <a:pt x="6583" y="629"/>
                  </a:lnTo>
                  <a:lnTo>
                    <a:pt x="6605" y="602"/>
                  </a:lnTo>
                  <a:lnTo>
                    <a:pt x="6627" y="573"/>
                  </a:lnTo>
                  <a:lnTo>
                    <a:pt x="6646" y="544"/>
                  </a:lnTo>
                  <a:lnTo>
                    <a:pt x="6665" y="515"/>
                  </a:lnTo>
                  <a:lnTo>
                    <a:pt x="6683" y="486"/>
                  </a:lnTo>
                  <a:lnTo>
                    <a:pt x="6700" y="457"/>
                  </a:lnTo>
                  <a:lnTo>
                    <a:pt x="6716" y="428"/>
                  </a:lnTo>
                  <a:lnTo>
                    <a:pt x="6730" y="398"/>
                  </a:lnTo>
                  <a:lnTo>
                    <a:pt x="6745" y="369"/>
                  </a:lnTo>
                  <a:lnTo>
                    <a:pt x="6758" y="338"/>
                  </a:lnTo>
                  <a:lnTo>
                    <a:pt x="6769" y="309"/>
                  </a:lnTo>
                  <a:lnTo>
                    <a:pt x="6779" y="278"/>
                  </a:lnTo>
                  <a:lnTo>
                    <a:pt x="6789" y="248"/>
                  </a:lnTo>
                  <a:lnTo>
                    <a:pt x="6798" y="217"/>
                  </a:lnTo>
                  <a:lnTo>
                    <a:pt x="6806" y="187"/>
                  </a:lnTo>
                  <a:lnTo>
                    <a:pt x="6812" y="156"/>
                  </a:lnTo>
                  <a:lnTo>
                    <a:pt x="6817" y="125"/>
                  </a:lnTo>
                  <a:lnTo>
                    <a:pt x="6821" y="94"/>
                  </a:lnTo>
                  <a:lnTo>
                    <a:pt x="6824" y="63"/>
                  </a:lnTo>
                  <a:lnTo>
                    <a:pt x="6825" y="32"/>
                  </a:lnTo>
                  <a:lnTo>
                    <a:pt x="6826" y="0"/>
                  </a:lnTo>
                  <a:lnTo>
                    <a:pt x="6744" y="0"/>
                  </a:lnTo>
                  <a:lnTo>
                    <a:pt x="6744" y="29"/>
                  </a:lnTo>
                  <a:lnTo>
                    <a:pt x="6742" y="57"/>
                  </a:lnTo>
                  <a:lnTo>
                    <a:pt x="6739" y="85"/>
                  </a:lnTo>
                  <a:lnTo>
                    <a:pt x="6735" y="113"/>
                  </a:lnTo>
                  <a:lnTo>
                    <a:pt x="6730" y="141"/>
                  </a:lnTo>
                  <a:lnTo>
                    <a:pt x="6725" y="169"/>
                  </a:lnTo>
                  <a:lnTo>
                    <a:pt x="6718" y="197"/>
                  </a:lnTo>
                  <a:lnTo>
                    <a:pt x="6711" y="224"/>
                  </a:lnTo>
                  <a:lnTo>
                    <a:pt x="6702" y="252"/>
                  </a:lnTo>
                  <a:lnTo>
                    <a:pt x="6692" y="279"/>
                  </a:lnTo>
                  <a:lnTo>
                    <a:pt x="6682" y="308"/>
                  </a:lnTo>
                  <a:lnTo>
                    <a:pt x="6669" y="335"/>
                  </a:lnTo>
                  <a:lnTo>
                    <a:pt x="6657" y="363"/>
                  </a:lnTo>
                  <a:lnTo>
                    <a:pt x="6643" y="389"/>
                  </a:lnTo>
                  <a:lnTo>
                    <a:pt x="6629" y="417"/>
                  </a:lnTo>
                  <a:lnTo>
                    <a:pt x="6612" y="444"/>
                  </a:lnTo>
                  <a:lnTo>
                    <a:pt x="6596" y="472"/>
                  </a:lnTo>
                  <a:lnTo>
                    <a:pt x="6578" y="498"/>
                  </a:lnTo>
                  <a:lnTo>
                    <a:pt x="6559" y="526"/>
                  </a:lnTo>
                  <a:lnTo>
                    <a:pt x="6539" y="552"/>
                  </a:lnTo>
                  <a:lnTo>
                    <a:pt x="6519" y="579"/>
                  </a:lnTo>
                  <a:lnTo>
                    <a:pt x="6497" y="606"/>
                  </a:lnTo>
                  <a:lnTo>
                    <a:pt x="6474" y="632"/>
                  </a:lnTo>
                  <a:lnTo>
                    <a:pt x="6451" y="659"/>
                  </a:lnTo>
                  <a:lnTo>
                    <a:pt x="6426" y="685"/>
                  </a:lnTo>
                  <a:lnTo>
                    <a:pt x="6401" y="711"/>
                  </a:lnTo>
                  <a:lnTo>
                    <a:pt x="6374" y="737"/>
                  </a:lnTo>
                  <a:lnTo>
                    <a:pt x="6347" y="764"/>
                  </a:lnTo>
                  <a:lnTo>
                    <a:pt x="6319" y="789"/>
                  </a:lnTo>
                  <a:lnTo>
                    <a:pt x="6290" y="815"/>
                  </a:lnTo>
                  <a:lnTo>
                    <a:pt x="6259" y="841"/>
                  </a:lnTo>
                  <a:lnTo>
                    <a:pt x="6229" y="867"/>
                  </a:lnTo>
                  <a:lnTo>
                    <a:pt x="6197" y="892"/>
                  </a:lnTo>
                  <a:lnTo>
                    <a:pt x="6164" y="916"/>
                  </a:lnTo>
                  <a:lnTo>
                    <a:pt x="6130" y="942"/>
                  </a:lnTo>
                  <a:lnTo>
                    <a:pt x="6096" y="967"/>
                  </a:lnTo>
                  <a:lnTo>
                    <a:pt x="6060" y="992"/>
                  </a:lnTo>
                  <a:lnTo>
                    <a:pt x="6023" y="1016"/>
                  </a:lnTo>
                  <a:lnTo>
                    <a:pt x="5987" y="1041"/>
                  </a:lnTo>
                  <a:lnTo>
                    <a:pt x="5948" y="1065"/>
                  </a:lnTo>
                  <a:lnTo>
                    <a:pt x="5909" y="1089"/>
                  </a:lnTo>
                  <a:lnTo>
                    <a:pt x="5870" y="1113"/>
                  </a:lnTo>
                  <a:lnTo>
                    <a:pt x="5829" y="1137"/>
                  </a:lnTo>
                  <a:lnTo>
                    <a:pt x="5788" y="1161"/>
                  </a:lnTo>
                  <a:lnTo>
                    <a:pt x="5746" y="1184"/>
                  </a:lnTo>
                  <a:lnTo>
                    <a:pt x="5703" y="1207"/>
                  </a:lnTo>
                  <a:lnTo>
                    <a:pt x="5658" y="1231"/>
                  </a:lnTo>
                  <a:lnTo>
                    <a:pt x="5614" y="1253"/>
                  </a:lnTo>
                  <a:lnTo>
                    <a:pt x="5569" y="1276"/>
                  </a:lnTo>
                  <a:lnTo>
                    <a:pt x="5523" y="1299"/>
                  </a:lnTo>
                  <a:lnTo>
                    <a:pt x="5475" y="1321"/>
                  </a:lnTo>
                  <a:lnTo>
                    <a:pt x="5427" y="1343"/>
                  </a:lnTo>
                  <a:lnTo>
                    <a:pt x="5330" y="1387"/>
                  </a:lnTo>
                  <a:lnTo>
                    <a:pt x="5229" y="1429"/>
                  </a:lnTo>
                  <a:lnTo>
                    <a:pt x="5124" y="1472"/>
                  </a:lnTo>
                  <a:lnTo>
                    <a:pt x="5017" y="1513"/>
                  </a:lnTo>
                  <a:lnTo>
                    <a:pt x="4908" y="1554"/>
                  </a:lnTo>
                  <a:lnTo>
                    <a:pt x="4795" y="1592"/>
                  </a:lnTo>
                  <a:lnTo>
                    <a:pt x="4680" y="1631"/>
                  </a:lnTo>
                  <a:lnTo>
                    <a:pt x="4562" y="1669"/>
                  </a:lnTo>
                  <a:lnTo>
                    <a:pt x="4441" y="1705"/>
                  </a:lnTo>
                  <a:lnTo>
                    <a:pt x="4318" y="1741"/>
                  </a:lnTo>
                  <a:lnTo>
                    <a:pt x="4193" y="1775"/>
                  </a:lnTo>
                  <a:lnTo>
                    <a:pt x="4065" y="1809"/>
                  </a:lnTo>
                  <a:lnTo>
                    <a:pt x="3935" y="1842"/>
                  </a:lnTo>
                  <a:lnTo>
                    <a:pt x="3802" y="1873"/>
                  </a:lnTo>
                  <a:lnTo>
                    <a:pt x="3666" y="1904"/>
                  </a:lnTo>
                  <a:lnTo>
                    <a:pt x="3529" y="1933"/>
                  </a:lnTo>
                  <a:lnTo>
                    <a:pt x="3388" y="1962"/>
                  </a:lnTo>
                  <a:lnTo>
                    <a:pt x="3247" y="1988"/>
                  </a:lnTo>
                  <a:lnTo>
                    <a:pt x="3104" y="2015"/>
                  </a:lnTo>
                  <a:lnTo>
                    <a:pt x="2957" y="2039"/>
                  </a:lnTo>
                  <a:lnTo>
                    <a:pt x="2810" y="2063"/>
                  </a:lnTo>
                  <a:lnTo>
                    <a:pt x="2659" y="2086"/>
                  </a:lnTo>
                  <a:lnTo>
                    <a:pt x="2507" y="2107"/>
                  </a:lnTo>
                  <a:lnTo>
                    <a:pt x="2354" y="2127"/>
                  </a:lnTo>
                  <a:lnTo>
                    <a:pt x="2198" y="2146"/>
                  </a:lnTo>
                  <a:lnTo>
                    <a:pt x="2042" y="2163"/>
                  </a:lnTo>
                  <a:lnTo>
                    <a:pt x="1883" y="2179"/>
                  </a:lnTo>
                  <a:lnTo>
                    <a:pt x="1722" y="2194"/>
                  </a:lnTo>
                  <a:lnTo>
                    <a:pt x="1560" y="2207"/>
                  </a:lnTo>
                  <a:lnTo>
                    <a:pt x="1397" y="2219"/>
                  </a:lnTo>
                  <a:lnTo>
                    <a:pt x="1232" y="2230"/>
                  </a:lnTo>
                  <a:lnTo>
                    <a:pt x="1065" y="2239"/>
                  </a:lnTo>
                  <a:lnTo>
                    <a:pt x="898" y="2248"/>
                  </a:lnTo>
                  <a:lnTo>
                    <a:pt x="729" y="2255"/>
                  </a:lnTo>
                  <a:lnTo>
                    <a:pt x="558" y="2260"/>
                  </a:lnTo>
                  <a:lnTo>
                    <a:pt x="387" y="2264"/>
                  </a:lnTo>
                  <a:lnTo>
                    <a:pt x="214" y="2266"/>
                  </a:lnTo>
                  <a:lnTo>
                    <a:pt x="40" y="2266"/>
                  </a:lnTo>
                  <a:lnTo>
                    <a:pt x="40" y="2266"/>
                  </a:lnTo>
                  <a:lnTo>
                    <a:pt x="40" y="2266"/>
                  </a:lnTo>
                  <a:lnTo>
                    <a:pt x="31" y="2267"/>
                  </a:lnTo>
                  <a:lnTo>
                    <a:pt x="23" y="2270"/>
                  </a:lnTo>
                  <a:lnTo>
                    <a:pt x="16" y="2274"/>
                  </a:lnTo>
                  <a:lnTo>
                    <a:pt x="10" y="2279"/>
                  </a:lnTo>
                  <a:lnTo>
                    <a:pt x="6" y="2285"/>
                  </a:lnTo>
                  <a:lnTo>
                    <a:pt x="3" y="2292"/>
                  </a:lnTo>
                  <a:lnTo>
                    <a:pt x="1" y="2300"/>
                  </a:lnTo>
                  <a:lnTo>
                    <a:pt x="0" y="2308"/>
                  </a:lnTo>
                  <a:lnTo>
                    <a:pt x="1" y="2315"/>
                  </a:lnTo>
                  <a:lnTo>
                    <a:pt x="3" y="2323"/>
                  </a:lnTo>
                  <a:lnTo>
                    <a:pt x="6" y="2330"/>
                  </a:lnTo>
                  <a:lnTo>
                    <a:pt x="10" y="2336"/>
                  </a:lnTo>
                  <a:lnTo>
                    <a:pt x="16" y="2341"/>
                  </a:lnTo>
                  <a:lnTo>
                    <a:pt x="23" y="2345"/>
                  </a:lnTo>
                  <a:lnTo>
                    <a:pt x="31" y="2347"/>
                  </a:lnTo>
                  <a:lnTo>
                    <a:pt x="40" y="2348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4280" y="4114440"/>
              <a:ext cx="468360" cy="163800"/>
            </a:xfrm>
            <a:custGeom>
              <a:avLst/>
              <a:gdLst/>
              <a:ahLst/>
              <a:rect l="l" t="t" r="r" b="b"/>
              <a:pathLst>
                <a:path w="6784" h="2389">
                  <a:moveTo>
                    <a:pt x="0" y="41"/>
                  </a:moveTo>
                  <a:lnTo>
                    <a:pt x="0" y="41"/>
                  </a:lnTo>
                  <a:lnTo>
                    <a:pt x="1" y="73"/>
                  </a:lnTo>
                  <a:lnTo>
                    <a:pt x="2" y="104"/>
                  </a:lnTo>
                  <a:lnTo>
                    <a:pt x="5" y="135"/>
                  </a:lnTo>
                  <a:lnTo>
                    <a:pt x="9" y="166"/>
                  </a:lnTo>
                  <a:lnTo>
                    <a:pt x="14" y="197"/>
                  </a:lnTo>
                  <a:lnTo>
                    <a:pt x="20" y="228"/>
                  </a:lnTo>
                  <a:lnTo>
                    <a:pt x="28" y="258"/>
                  </a:lnTo>
                  <a:lnTo>
                    <a:pt x="37" y="289"/>
                  </a:lnTo>
                  <a:lnTo>
                    <a:pt x="46" y="319"/>
                  </a:lnTo>
                  <a:lnTo>
                    <a:pt x="57" y="350"/>
                  </a:lnTo>
                  <a:lnTo>
                    <a:pt x="68" y="379"/>
                  </a:lnTo>
                  <a:lnTo>
                    <a:pt x="81" y="410"/>
                  </a:lnTo>
                  <a:lnTo>
                    <a:pt x="96" y="439"/>
                  </a:lnTo>
                  <a:lnTo>
                    <a:pt x="110" y="469"/>
                  </a:lnTo>
                  <a:lnTo>
                    <a:pt x="126" y="498"/>
                  </a:lnTo>
                  <a:lnTo>
                    <a:pt x="143" y="527"/>
                  </a:lnTo>
                  <a:lnTo>
                    <a:pt x="161" y="556"/>
                  </a:lnTo>
                  <a:lnTo>
                    <a:pt x="180" y="585"/>
                  </a:lnTo>
                  <a:lnTo>
                    <a:pt x="199" y="614"/>
                  </a:lnTo>
                  <a:lnTo>
                    <a:pt x="221" y="642"/>
                  </a:lnTo>
                  <a:lnTo>
                    <a:pt x="243" y="670"/>
                  </a:lnTo>
                  <a:lnTo>
                    <a:pt x="266" y="699"/>
                  </a:lnTo>
                  <a:lnTo>
                    <a:pt x="289" y="727"/>
                  </a:lnTo>
                  <a:lnTo>
                    <a:pt x="314" y="755"/>
                  </a:lnTo>
                  <a:lnTo>
                    <a:pt x="340" y="782"/>
                  </a:lnTo>
                  <a:lnTo>
                    <a:pt x="366" y="810"/>
                  </a:lnTo>
                  <a:lnTo>
                    <a:pt x="394" y="837"/>
                  </a:lnTo>
                  <a:lnTo>
                    <a:pt x="422" y="865"/>
                  </a:lnTo>
                  <a:lnTo>
                    <a:pt x="452" y="891"/>
                  </a:lnTo>
                  <a:lnTo>
                    <a:pt x="482" y="918"/>
                  </a:lnTo>
                  <a:lnTo>
                    <a:pt x="514" y="945"/>
                  </a:lnTo>
                  <a:lnTo>
                    <a:pt x="545" y="972"/>
                  </a:lnTo>
                  <a:lnTo>
                    <a:pt x="579" y="997"/>
                  </a:lnTo>
                  <a:lnTo>
                    <a:pt x="612" y="1024"/>
                  </a:lnTo>
                  <a:lnTo>
                    <a:pt x="647" y="1049"/>
                  </a:lnTo>
                  <a:lnTo>
                    <a:pt x="683" y="1074"/>
                  </a:lnTo>
                  <a:lnTo>
                    <a:pt x="719" y="1100"/>
                  </a:lnTo>
                  <a:lnTo>
                    <a:pt x="757" y="1125"/>
                  </a:lnTo>
                  <a:lnTo>
                    <a:pt x="795" y="1151"/>
                  </a:lnTo>
                  <a:lnTo>
                    <a:pt x="833" y="1175"/>
                  </a:lnTo>
                  <a:lnTo>
                    <a:pt x="874" y="1201"/>
                  </a:lnTo>
                  <a:lnTo>
                    <a:pt x="915" y="1225"/>
                  </a:lnTo>
                  <a:lnTo>
                    <a:pt x="955" y="1250"/>
                  </a:lnTo>
                  <a:lnTo>
                    <a:pt x="998" y="1273"/>
                  </a:lnTo>
                  <a:lnTo>
                    <a:pt x="1041" y="1297"/>
                  </a:lnTo>
                  <a:lnTo>
                    <a:pt x="1084" y="1321"/>
                  </a:lnTo>
                  <a:lnTo>
                    <a:pt x="1129" y="1344"/>
                  </a:lnTo>
                  <a:lnTo>
                    <a:pt x="1175" y="1368"/>
                  </a:lnTo>
                  <a:lnTo>
                    <a:pt x="1221" y="1391"/>
                  </a:lnTo>
                  <a:lnTo>
                    <a:pt x="1269" y="1413"/>
                  </a:lnTo>
                  <a:lnTo>
                    <a:pt x="1315" y="1437"/>
                  </a:lnTo>
                  <a:lnTo>
                    <a:pt x="1364" y="1459"/>
                  </a:lnTo>
                  <a:lnTo>
                    <a:pt x="1464" y="1503"/>
                  </a:lnTo>
                  <a:lnTo>
                    <a:pt x="1566" y="1547"/>
                  </a:lnTo>
                  <a:lnTo>
                    <a:pt x="1671" y="1589"/>
                  </a:lnTo>
                  <a:lnTo>
                    <a:pt x="1779" y="1631"/>
                  </a:lnTo>
                  <a:lnTo>
                    <a:pt x="1890" y="1672"/>
                  </a:lnTo>
                  <a:lnTo>
                    <a:pt x="2004" y="1712"/>
                  </a:lnTo>
                  <a:lnTo>
                    <a:pt x="2120" y="1750"/>
                  </a:lnTo>
                  <a:lnTo>
                    <a:pt x="2239" y="1788"/>
                  </a:lnTo>
                  <a:lnTo>
                    <a:pt x="2361" y="1826"/>
                  </a:lnTo>
                  <a:lnTo>
                    <a:pt x="2485" y="1861"/>
                  </a:lnTo>
                  <a:lnTo>
                    <a:pt x="2611" y="1896"/>
                  </a:lnTo>
                  <a:lnTo>
                    <a:pt x="2741" y="1930"/>
                  </a:lnTo>
                  <a:lnTo>
                    <a:pt x="2872" y="1963"/>
                  </a:lnTo>
                  <a:lnTo>
                    <a:pt x="3006" y="1995"/>
                  </a:lnTo>
                  <a:lnTo>
                    <a:pt x="3142" y="2025"/>
                  </a:lnTo>
                  <a:lnTo>
                    <a:pt x="3281" y="2055"/>
                  </a:lnTo>
                  <a:lnTo>
                    <a:pt x="3421" y="2083"/>
                  </a:lnTo>
                  <a:lnTo>
                    <a:pt x="3564" y="2111"/>
                  </a:lnTo>
                  <a:lnTo>
                    <a:pt x="3708" y="2137"/>
                  </a:lnTo>
                  <a:lnTo>
                    <a:pt x="3856" y="2161"/>
                  </a:lnTo>
                  <a:lnTo>
                    <a:pt x="4004" y="2186"/>
                  </a:lnTo>
                  <a:lnTo>
                    <a:pt x="4155" y="2208"/>
                  </a:lnTo>
                  <a:lnTo>
                    <a:pt x="4307" y="2230"/>
                  </a:lnTo>
                  <a:lnTo>
                    <a:pt x="4462" y="2249"/>
                  </a:lnTo>
                  <a:lnTo>
                    <a:pt x="4618" y="2268"/>
                  </a:lnTo>
                  <a:lnTo>
                    <a:pt x="4776" y="2286"/>
                  </a:lnTo>
                  <a:lnTo>
                    <a:pt x="4936" y="2302"/>
                  </a:lnTo>
                  <a:lnTo>
                    <a:pt x="5097" y="2317"/>
                  </a:lnTo>
                  <a:lnTo>
                    <a:pt x="5260" y="2330"/>
                  </a:lnTo>
                  <a:lnTo>
                    <a:pt x="5423" y="2343"/>
                  </a:lnTo>
                  <a:lnTo>
                    <a:pt x="5589" y="2354"/>
                  </a:lnTo>
                  <a:lnTo>
                    <a:pt x="5756" y="2363"/>
                  </a:lnTo>
                  <a:lnTo>
                    <a:pt x="5925" y="2371"/>
                  </a:lnTo>
                  <a:lnTo>
                    <a:pt x="6095" y="2377"/>
                  </a:lnTo>
                  <a:lnTo>
                    <a:pt x="6266" y="2383"/>
                  </a:lnTo>
                  <a:lnTo>
                    <a:pt x="6438" y="2386"/>
                  </a:lnTo>
                  <a:lnTo>
                    <a:pt x="6611" y="2389"/>
                  </a:lnTo>
                  <a:lnTo>
                    <a:pt x="6784" y="2389"/>
                  </a:lnTo>
                  <a:lnTo>
                    <a:pt x="6784" y="2307"/>
                  </a:lnTo>
                  <a:lnTo>
                    <a:pt x="6612" y="2307"/>
                  </a:lnTo>
                  <a:lnTo>
                    <a:pt x="6439" y="2305"/>
                  </a:lnTo>
                  <a:lnTo>
                    <a:pt x="6268" y="2301"/>
                  </a:lnTo>
                  <a:lnTo>
                    <a:pt x="6097" y="2296"/>
                  </a:lnTo>
                  <a:lnTo>
                    <a:pt x="5928" y="2289"/>
                  </a:lnTo>
                  <a:lnTo>
                    <a:pt x="5760" y="2280"/>
                  </a:lnTo>
                  <a:lnTo>
                    <a:pt x="5594" y="2271"/>
                  </a:lnTo>
                  <a:lnTo>
                    <a:pt x="5429" y="2260"/>
                  </a:lnTo>
                  <a:lnTo>
                    <a:pt x="5266" y="2248"/>
                  </a:lnTo>
                  <a:lnTo>
                    <a:pt x="5104" y="2235"/>
                  </a:lnTo>
                  <a:lnTo>
                    <a:pt x="4943" y="2220"/>
                  </a:lnTo>
                  <a:lnTo>
                    <a:pt x="4784" y="2204"/>
                  </a:lnTo>
                  <a:lnTo>
                    <a:pt x="4628" y="2187"/>
                  </a:lnTo>
                  <a:lnTo>
                    <a:pt x="4472" y="2168"/>
                  </a:lnTo>
                  <a:lnTo>
                    <a:pt x="4319" y="2148"/>
                  </a:lnTo>
                  <a:lnTo>
                    <a:pt x="4167" y="2127"/>
                  </a:lnTo>
                  <a:lnTo>
                    <a:pt x="4016" y="2104"/>
                  </a:lnTo>
                  <a:lnTo>
                    <a:pt x="3869" y="2080"/>
                  </a:lnTo>
                  <a:lnTo>
                    <a:pt x="3722" y="2056"/>
                  </a:lnTo>
                  <a:lnTo>
                    <a:pt x="3579" y="2029"/>
                  </a:lnTo>
                  <a:lnTo>
                    <a:pt x="3436" y="2003"/>
                  </a:lnTo>
                  <a:lnTo>
                    <a:pt x="3297" y="1974"/>
                  </a:lnTo>
                  <a:lnTo>
                    <a:pt x="3160" y="1945"/>
                  </a:lnTo>
                  <a:lnTo>
                    <a:pt x="3024" y="1914"/>
                  </a:lnTo>
                  <a:lnTo>
                    <a:pt x="2891" y="1883"/>
                  </a:lnTo>
                  <a:lnTo>
                    <a:pt x="2761" y="1850"/>
                  </a:lnTo>
                  <a:lnTo>
                    <a:pt x="2633" y="1816"/>
                  </a:lnTo>
                  <a:lnTo>
                    <a:pt x="2507" y="1782"/>
                  </a:lnTo>
                  <a:lnTo>
                    <a:pt x="2384" y="1746"/>
                  </a:lnTo>
                  <a:lnTo>
                    <a:pt x="2264" y="1710"/>
                  </a:lnTo>
                  <a:lnTo>
                    <a:pt x="2146" y="1672"/>
                  </a:lnTo>
                  <a:lnTo>
                    <a:pt x="2031" y="1633"/>
                  </a:lnTo>
                  <a:lnTo>
                    <a:pt x="1918" y="1595"/>
                  </a:lnTo>
                  <a:lnTo>
                    <a:pt x="1808" y="1554"/>
                  </a:lnTo>
                  <a:lnTo>
                    <a:pt x="1701" y="1513"/>
                  </a:lnTo>
                  <a:lnTo>
                    <a:pt x="1597" y="1470"/>
                  </a:lnTo>
                  <a:lnTo>
                    <a:pt x="1496" y="1428"/>
                  </a:lnTo>
                  <a:lnTo>
                    <a:pt x="1399" y="1384"/>
                  </a:lnTo>
                  <a:lnTo>
                    <a:pt x="1351" y="1362"/>
                  </a:lnTo>
                  <a:lnTo>
                    <a:pt x="1303" y="1340"/>
                  </a:lnTo>
                  <a:lnTo>
                    <a:pt x="1257" y="1317"/>
                  </a:lnTo>
                  <a:lnTo>
                    <a:pt x="1212" y="1294"/>
                  </a:lnTo>
                  <a:lnTo>
                    <a:pt x="1167" y="1272"/>
                  </a:lnTo>
                  <a:lnTo>
                    <a:pt x="1123" y="1248"/>
                  </a:lnTo>
                  <a:lnTo>
                    <a:pt x="1080" y="1225"/>
                  </a:lnTo>
                  <a:lnTo>
                    <a:pt x="1038" y="1202"/>
                  </a:lnTo>
                  <a:lnTo>
                    <a:pt x="997" y="1178"/>
                  </a:lnTo>
                  <a:lnTo>
                    <a:pt x="956" y="1154"/>
                  </a:lnTo>
                  <a:lnTo>
                    <a:pt x="917" y="1130"/>
                  </a:lnTo>
                  <a:lnTo>
                    <a:pt x="877" y="1106"/>
                  </a:lnTo>
                  <a:lnTo>
                    <a:pt x="839" y="1082"/>
                  </a:lnTo>
                  <a:lnTo>
                    <a:pt x="802" y="1057"/>
                  </a:lnTo>
                  <a:lnTo>
                    <a:pt x="766" y="1033"/>
                  </a:lnTo>
                  <a:lnTo>
                    <a:pt x="730" y="1008"/>
                  </a:lnTo>
                  <a:lnTo>
                    <a:pt x="696" y="983"/>
                  </a:lnTo>
                  <a:lnTo>
                    <a:pt x="662" y="957"/>
                  </a:lnTo>
                  <a:lnTo>
                    <a:pt x="629" y="933"/>
                  </a:lnTo>
                  <a:lnTo>
                    <a:pt x="597" y="908"/>
                  </a:lnTo>
                  <a:lnTo>
                    <a:pt x="567" y="882"/>
                  </a:lnTo>
                  <a:lnTo>
                    <a:pt x="536" y="856"/>
                  </a:lnTo>
                  <a:lnTo>
                    <a:pt x="507" y="830"/>
                  </a:lnTo>
                  <a:lnTo>
                    <a:pt x="478" y="805"/>
                  </a:lnTo>
                  <a:lnTo>
                    <a:pt x="452" y="778"/>
                  </a:lnTo>
                  <a:lnTo>
                    <a:pt x="425" y="752"/>
                  </a:lnTo>
                  <a:lnTo>
                    <a:pt x="400" y="726"/>
                  </a:lnTo>
                  <a:lnTo>
                    <a:pt x="375" y="700"/>
                  </a:lnTo>
                  <a:lnTo>
                    <a:pt x="351" y="673"/>
                  </a:lnTo>
                  <a:lnTo>
                    <a:pt x="329" y="647"/>
                  </a:lnTo>
                  <a:lnTo>
                    <a:pt x="307" y="620"/>
                  </a:lnTo>
                  <a:lnTo>
                    <a:pt x="287" y="593"/>
                  </a:lnTo>
                  <a:lnTo>
                    <a:pt x="267" y="567"/>
                  </a:lnTo>
                  <a:lnTo>
                    <a:pt x="248" y="539"/>
                  </a:lnTo>
                  <a:lnTo>
                    <a:pt x="230" y="513"/>
                  </a:lnTo>
                  <a:lnTo>
                    <a:pt x="214" y="485"/>
                  </a:lnTo>
                  <a:lnTo>
                    <a:pt x="197" y="458"/>
                  </a:lnTo>
                  <a:lnTo>
                    <a:pt x="183" y="430"/>
                  </a:lnTo>
                  <a:lnTo>
                    <a:pt x="169" y="404"/>
                  </a:lnTo>
                  <a:lnTo>
                    <a:pt x="157" y="376"/>
                  </a:lnTo>
                  <a:lnTo>
                    <a:pt x="144" y="349"/>
                  </a:lnTo>
                  <a:lnTo>
                    <a:pt x="134" y="320"/>
                  </a:lnTo>
                  <a:lnTo>
                    <a:pt x="124" y="293"/>
                  </a:lnTo>
                  <a:lnTo>
                    <a:pt x="115" y="265"/>
                  </a:lnTo>
                  <a:lnTo>
                    <a:pt x="108" y="238"/>
                  </a:lnTo>
                  <a:lnTo>
                    <a:pt x="101" y="210"/>
                  </a:lnTo>
                  <a:lnTo>
                    <a:pt x="96" y="182"/>
                  </a:lnTo>
                  <a:lnTo>
                    <a:pt x="91" y="154"/>
                  </a:lnTo>
                  <a:lnTo>
                    <a:pt x="86" y="126"/>
                  </a:lnTo>
                  <a:lnTo>
                    <a:pt x="84" y="98"/>
                  </a:lnTo>
                  <a:lnTo>
                    <a:pt x="82" y="70"/>
                  </a:lnTo>
                  <a:lnTo>
                    <a:pt x="82" y="41"/>
                  </a:lnTo>
                  <a:lnTo>
                    <a:pt x="82" y="41"/>
                  </a:lnTo>
                  <a:lnTo>
                    <a:pt x="82" y="41"/>
                  </a:lnTo>
                  <a:lnTo>
                    <a:pt x="81" y="31"/>
                  </a:lnTo>
                  <a:lnTo>
                    <a:pt x="78" y="23"/>
                  </a:lnTo>
                  <a:lnTo>
                    <a:pt x="74" y="16"/>
                  </a:lnTo>
                  <a:lnTo>
                    <a:pt x="69" y="11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9" y="6"/>
                  </a:lnTo>
                  <a:lnTo>
                    <a:pt x="13" y="11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1" y="3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4280" y="3954240"/>
              <a:ext cx="471600" cy="162000"/>
            </a:xfrm>
            <a:custGeom>
              <a:avLst/>
              <a:gdLst/>
              <a:ahLst/>
              <a:rect l="l" t="t" r="r" b="b"/>
              <a:pathLst>
                <a:path w="6826" h="2349">
                  <a:moveTo>
                    <a:pt x="6784" y="0"/>
                  </a:moveTo>
                  <a:lnTo>
                    <a:pt x="6784" y="0"/>
                  </a:lnTo>
                  <a:lnTo>
                    <a:pt x="6611" y="1"/>
                  </a:lnTo>
                  <a:lnTo>
                    <a:pt x="6438" y="5"/>
                  </a:lnTo>
                  <a:lnTo>
                    <a:pt x="6266" y="8"/>
                  </a:lnTo>
                  <a:lnTo>
                    <a:pt x="6095" y="13"/>
                  </a:lnTo>
                  <a:lnTo>
                    <a:pt x="5925" y="20"/>
                  </a:lnTo>
                  <a:lnTo>
                    <a:pt x="5756" y="28"/>
                  </a:lnTo>
                  <a:lnTo>
                    <a:pt x="5589" y="37"/>
                  </a:lnTo>
                  <a:lnTo>
                    <a:pt x="5423" y="48"/>
                  </a:lnTo>
                  <a:lnTo>
                    <a:pt x="5260" y="61"/>
                  </a:lnTo>
                  <a:lnTo>
                    <a:pt x="5097" y="74"/>
                  </a:lnTo>
                  <a:lnTo>
                    <a:pt x="4936" y="89"/>
                  </a:lnTo>
                  <a:lnTo>
                    <a:pt x="4776" y="105"/>
                  </a:lnTo>
                  <a:lnTo>
                    <a:pt x="4618" y="123"/>
                  </a:lnTo>
                  <a:lnTo>
                    <a:pt x="4462" y="141"/>
                  </a:lnTo>
                  <a:lnTo>
                    <a:pt x="4307" y="161"/>
                  </a:lnTo>
                  <a:lnTo>
                    <a:pt x="4155" y="183"/>
                  </a:lnTo>
                  <a:lnTo>
                    <a:pt x="4004" y="206"/>
                  </a:lnTo>
                  <a:lnTo>
                    <a:pt x="3856" y="229"/>
                  </a:lnTo>
                  <a:lnTo>
                    <a:pt x="3708" y="254"/>
                  </a:lnTo>
                  <a:lnTo>
                    <a:pt x="3564" y="280"/>
                  </a:lnTo>
                  <a:lnTo>
                    <a:pt x="3421" y="308"/>
                  </a:lnTo>
                  <a:lnTo>
                    <a:pt x="3281" y="336"/>
                  </a:lnTo>
                  <a:lnTo>
                    <a:pt x="3142" y="366"/>
                  </a:lnTo>
                  <a:lnTo>
                    <a:pt x="3006" y="396"/>
                  </a:lnTo>
                  <a:lnTo>
                    <a:pt x="2872" y="428"/>
                  </a:lnTo>
                  <a:lnTo>
                    <a:pt x="2741" y="460"/>
                  </a:lnTo>
                  <a:lnTo>
                    <a:pt x="2611" y="495"/>
                  </a:lnTo>
                  <a:lnTo>
                    <a:pt x="2485" y="530"/>
                  </a:lnTo>
                  <a:lnTo>
                    <a:pt x="2361" y="565"/>
                  </a:lnTo>
                  <a:lnTo>
                    <a:pt x="2239" y="603"/>
                  </a:lnTo>
                  <a:lnTo>
                    <a:pt x="2120" y="641"/>
                  </a:lnTo>
                  <a:lnTo>
                    <a:pt x="2004" y="679"/>
                  </a:lnTo>
                  <a:lnTo>
                    <a:pt x="1890" y="719"/>
                  </a:lnTo>
                  <a:lnTo>
                    <a:pt x="1779" y="760"/>
                  </a:lnTo>
                  <a:lnTo>
                    <a:pt x="1671" y="801"/>
                  </a:lnTo>
                  <a:lnTo>
                    <a:pt x="1566" y="844"/>
                  </a:lnTo>
                  <a:lnTo>
                    <a:pt x="1464" y="888"/>
                  </a:lnTo>
                  <a:lnTo>
                    <a:pt x="1364" y="932"/>
                  </a:lnTo>
                  <a:lnTo>
                    <a:pt x="1315" y="954"/>
                  </a:lnTo>
                  <a:lnTo>
                    <a:pt x="1269" y="978"/>
                  </a:lnTo>
                  <a:lnTo>
                    <a:pt x="1221" y="1000"/>
                  </a:lnTo>
                  <a:lnTo>
                    <a:pt x="1175" y="1023"/>
                  </a:lnTo>
                  <a:lnTo>
                    <a:pt x="1129" y="1047"/>
                  </a:lnTo>
                  <a:lnTo>
                    <a:pt x="1084" y="1070"/>
                  </a:lnTo>
                  <a:lnTo>
                    <a:pt x="1041" y="1094"/>
                  </a:lnTo>
                  <a:lnTo>
                    <a:pt x="998" y="1117"/>
                  </a:lnTo>
                  <a:lnTo>
                    <a:pt x="955" y="1141"/>
                  </a:lnTo>
                  <a:lnTo>
                    <a:pt x="915" y="1166"/>
                  </a:lnTo>
                  <a:lnTo>
                    <a:pt x="874" y="1190"/>
                  </a:lnTo>
                  <a:lnTo>
                    <a:pt x="833" y="1216"/>
                  </a:lnTo>
                  <a:lnTo>
                    <a:pt x="795" y="1240"/>
                  </a:lnTo>
                  <a:lnTo>
                    <a:pt x="757" y="1266"/>
                  </a:lnTo>
                  <a:lnTo>
                    <a:pt x="719" y="1291"/>
                  </a:lnTo>
                  <a:lnTo>
                    <a:pt x="683" y="1316"/>
                  </a:lnTo>
                  <a:lnTo>
                    <a:pt x="647" y="1342"/>
                  </a:lnTo>
                  <a:lnTo>
                    <a:pt x="612" y="1367"/>
                  </a:lnTo>
                  <a:lnTo>
                    <a:pt x="579" y="1394"/>
                  </a:lnTo>
                  <a:lnTo>
                    <a:pt x="545" y="1419"/>
                  </a:lnTo>
                  <a:lnTo>
                    <a:pt x="514" y="1446"/>
                  </a:lnTo>
                  <a:lnTo>
                    <a:pt x="482" y="1472"/>
                  </a:lnTo>
                  <a:lnTo>
                    <a:pt x="452" y="1500"/>
                  </a:lnTo>
                  <a:lnTo>
                    <a:pt x="422" y="1526"/>
                  </a:lnTo>
                  <a:lnTo>
                    <a:pt x="394" y="1554"/>
                  </a:lnTo>
                  <a:lnTo>
                    <a:pt x="366" y="1581"/>
                  </a:lnTo>
                  <a:lnTo>
                    <a:pt x="340" y="1609"/>
                  </a:lnTo>
                  <a:lnTo>
                    <a:pt x="314" y="1636"/>
                  </a:lnTo>
                  <a:lnTo>
                    <a:pt x="289" y="1663"/>
                  </a:lnTo>
                  <a:lnTo>
                    <a:pt x="266" y="1692"/>
                  </a:lnTo>
                  <a:lnTo>
                    <a:pt x="243" y="1720"/>
                  </a:lnTo>
                  <a:lnTo>
                    <a:pt x="221" y="1748"/>
                  </a:lnTo>
                  <a:lnTo>
                    <a:pt x="199" y="1776"/>
                  </a:lnTo>
                  <a:lnTo>
                    <a:pt x="180" y="1806"/>
                  </a:lnTo>
                  <a:lnTo>
                    <a:pt x="161" y="1834"/>
                  </a:lnTo>
                  <a:lnTo>
                    <a:pt x="143" y="1864"/>
                  </a:lnTo>
                  <a:lnTo>
                    <a:pt x="126" y="1892"/>
                  </a:lnTo>
                  <a:lnTo>
                    <a:pt x="110" y="1922"/>
                  </a:lnTo>
                  <a:lnTo>
                    <a:pt x="96" y="1952"/>
                  </a:lnTo>
                  <a:lnTo>
                    <a:pt x="81" y="1981"/>
                  </a:lnTo>
                  <a:lnTo>
                    <a:pt x="68" y="2012"/>
                  </a:lnTo>
                  <a:lnTo>
                    <a:pt x="57" y="2041"/>
                  </a:lnTo>
                  <a:lnTo>
                    <a:pt x="46" y="2072"/>
                  </a:lnTo>
                  <a:lnTo>
                    <a:pt x="37" y="2102"/>
                  </a:lnTo>
                  <a:lnTo>
                    <a:pt x="28" y="2133"/>
                  </a:lnTo>
                  <a:lnTo>
                    <a:pt x="20" y="2163"/>
                  </a:lnTo>
                  <a:lnTo>
                    <a:pt x="14" y="2194"/>
                  </a:lnTo>
                  <a:lnTo>
                    <a:pt x="9" y="2225"/>
                  </a:lnTo>
                  <a:lnTo>
                    <a:pt x="5" y="2256"/>
                  </a:lnTo>
                  <a:lnTo>
                    <a:pt x="2" y="2287"/>
                  </a:lnTo>
                  <a:lnTo>
                    <a:pt x="1" y="2318"/>
                  </a:lnTo>
                  <a:lnTo>
                    <a:pt x="0" y="2349"/>
                  </a:lnTo>
                  <a:lnTo>
                    <a:pt x="82" y="2349"/>
                  </a:lnTo>
                  <a:lnTo>
                    <a:pt x="82" y="2321"/>
                  </a:lnTo>
                  <a:lnTo>
                    <a:pt x="84" y="2292"/>
                  </a:lnTo>
                  <a:lnTo>
                    <a:pt x="86" y="2265"/>
                  </a:lnTo>
                  <a:lnTo>
                    <a:pt x="91" y="2236"/>
                  </a:lnTo>
                  <a:lnTo>
                    <a:pt x="96" y="2209"/>
                  </a:lnTo>
                  <a:lnTo>
                    <a:pt x="101" y="2180"/>
                  </a:lnTo>
                  <a:lnTo>
                    <a:pt x="108" y="2153"/>
                  </a:lnTo>
                  <a:lnTo>
                    <a:pt x="115" y="2126"/>
                  </a:lnTo>
                  <a:lnTo>
                    <a:pt x="124" y="2098"/>
                  </a:lnTo>
                  <a:lnTo>
                    <a:pt x="134" y="2070"/>
                  </a:lnTo>
                  <a:lnTo>
                    <a:pt x="144" y="2042"/>
                  </a:lnTo>
                  <a:lnTo>
                    <a:pt x="157" y="2015"/>
                  </a:lnTo>
                  <a:lnTo>
                    <a:pt x="169" y="1987"/>
                  </a:lnTo>
                  <a:lnTo>
                    <a:pt x="183" y="1960"/>
                  </a:lnTo>
                  <a:lnTo>
                    <a:pt x="197" y="1933"/>
                  </a:lnTo>
                  <a:lnTo>
                    <a:pt x="214" y="1906"/>
                  </a:lnTo>
                  <a:lnTo>
                    <a:pt x="230" y="1878"/>
                  </a:lnTo>
                  <a:lnTo>
                    <a:pt x="248" y="1852"/>
                  </a:lnTo>
                  <a:lnTo>
                    <a:pt x="267" y="1824"/>
                  </a:lnTo>
                  <a:lnTo>
                    <a:pt x="287" y="1798"/>
                  </a:lnTo>
                  <a:lnTo>
                    <a:pt x="307" y="1771"/>
                  </a:lnTo>
                  <a:lnTo>
                    <a:pt x="329" y="1744"/>
                  </a:lnTo>
                  <a:lnTo>
                    <a:pt x="351" y="1717"/>
                  </a:lnTo>
                  <a:lnTo>
                    <a:pt x="375" y="1691"/>
                  </a:lnTo>
                  <a:lnTo>
                    <a:pt x="400" y="1664"/>
                  </a:lnTo>
                  <a:lnTo>
                    <a:pt x="425" y="1639"/>
                  </a:lnTo>
                  <a:lnTo>
                    <a:pt x="452" y="1613"/>
                  </a:lnTo>
                  <a:lnTo>
                    <a:pt x="478" y="1586"/>
                  </a:lnTo>
                  <a:lnTo>
                    <a:pt x="507" y="1561"/>
                  </a:lnTo>
                  <a:lnTo>
                    <a:pt x="536" y="1535"/>
                  </a:lnTo>
                  <a:lnTo>
                    <a:pt x="567" y="1509"/>
                  </a:lnTo>
                  <a:lnTo>
                    <a:pt x="597" y="1483"/>
                  </a:lnTo>
                  <a:lnTo>
                    <a:pt x="629" y="1458"/>
                  </a:lnTo>
                  <a:lnTo>
                    <a:pt x="662" y="1433"/>
                  </a:lnTo>
                  <a:lnTo>
                    <a:pt x="696" y="1408"/>
                  </a:lnTo>
                  <a:lnTo>
                    <a:pt x="730" y="1383"/>
                  </a:lnTo>
                  <a:lnTo>
                    <a:pt x="766" y="1358"/>
                  </a:lnTo>
                  <a:lnTo>
                    <a:pt x="802" y="1334"/>
                  </a:lnTo>
                  <a:lnTo>
                    <a:pt x="839" y="1309"/>
                  </a:lnTo>
                  <a:lnTo>
                    <a:pt x="877" y="1285"/>
                  </a:lnTo>
                  <a:lnTo>
                    <a:pt x="917" y="1260"/>
                  </a:lnTo>
                  <a:lnTo>
                    <a:pt x="956" y="1237"/>
                  </a:lnTo>
                  <a:lnTo>
                    <a:pt x="997" y="1213"/>
                  </a:lnTo>
                  <a:lnTo>
                    <a:pt x="1038" y="1189"/>
                  </a:lnTo>
                  <a:lnTo>
                    <a:pt x="1080" y="1166"/>
                  </a:lnTo>
                  <a:lnTo>
                    <a:pt x="1123" y="1142"/>
                  </a:lnTo>
                  <a:lnTo>
                    <a:pt x="1167" y="1119"/>
                  </a:lnTo>
                  <a:lnTo>
                    <a:pt x="1212" y="1097"/>
                  </a:lnTo>
                  <a:lnTo>
                    <a:pt x="1257" y="1073"/>
                  </a:lnTo>
                  <a:lnTo>
                    <a:pt x="1303" y="1051"/>
                  </a:lnTo>
                  <a:lnTo>
                    <a:pt x="1351" y="1028"/>
                  </a:lnTo>
                  <a:lnTo>
                    <a:pt x="1399" y="1007"/>
                  </a:lnTo>
                  <a:lnTo>
                    <a:pt x="1496" y="963"/>
                  </a:lnTo>
                  <a:lnTo>
                    <a:pt x="1597" y="921"/>
                  </a:lnTo>
                  <a:lnTo>
                    <a:pt x="1701" y="878"/>
                  </a:lnTo>
                  <a:lnTo>
                    <a:pt x="1808" y="837"/>
                  </a:lnTo>
                  <a:lnTo>
                    <a:pt x="1918" y="796"/>
                  </a:lnTo>
                  <a:lnTo>
                    <a:pt x="2031" y="757"/>
                  </a:lnTo>
                  <a:lnTo>
                    <a:pt x="2146" y="719"/>
                  </a:lnTo>
                  <a:lnTo>
                    <a:pt x="2264" y="681"/>
                  </a:lnTo>
                  <a:lnTo>
                    <a:pt x="2384" y="645"/>
                  </a:lnTo>
                  <a:lnTo>
                    <a:pt x="2507" y="609"/>
                  </a:lnTo>
                  <a:lnTo>
                    <a:pt x="2633" y="574"/>
                  </a:lnTo>
                  <a:lnTo>
                    <a:pt x="2761" y="541"/>
                  </a:lnTo>
                  <a:lnTo>
                    <a:pt x="2891" y="508"/>
                  </a:lnTo>
                  <a:lnTo>
                    <a:pt x="3024" y="477"/>
                  </a:lnTo>
                  <a:lnTo>
                    <a:pt x="3160" y="446"/>
                  </a:lnTo>
                  <a:lnTo>
                    <a:pt x="3297" y="417"/>
                  </a:lnTo>
                  <a:lnTo>
                    <a:pt x="3436" y="388"/>
                  </a:lnTo>
                  <a:lnTo>
                    <a:pt x="3579" y="361"/>
                  </a:lnTo>
                  <a:lnTo>
                    <a:pt x="3722" y="335"/>
                  </a:lnTo>
                  <a:lnTo>
                    <a:pt x="3869" y="310"/>
                  </a:lnTo>
                  <a:lnTo>
                    <a:pt x="4016" y="286"/>
                  </a:lnTo>
                  <a:lnTo>
                    <a:pt x="4167" y="264"/>
                  </a:lnTo>
                  <a:lnTo>
                    <a:pt x="4319" y="243"/>
                  </a:lnTo>
                  <a:lnTo>
                    <a:pt x="4472" y="223"/>
                  </a:lnTo>
                  <a:lnTo>
                    <a:pt x="4628" y="204"/>
                  </a:lnTo>
                  <a:lnTo>
                    <a:pt x="4784" y="187"/>
                  </a:lnTo>
                  <a:lnTo>
                    <a:pt x="4943" y="170"/>
                  </a:lnTo>
                  <a:lnTo>
                    <a:pt x="5104" y="156"/>
                  </a:lnTo>
                  <a:lnTo>
                    <a:pt x="5266" y="142"/>
                  </a:lnTo>
                  <a:lnTo>
                    <a:pt x="5429" y="130"/>
                  </a:lnTo>
                  <a:lnTo>
                    <a:pt x="5594" y="120"/>
                  </a:lnTo>
                  <a:lnTo>
                    <a:pt x="5760" y="109"/>
                  </a:lnTo>
                  <a:lnTo>
                    <a:pt x="5928" y="102"/>
                  </a:lnTo>
                  <a:lnTo>
                    <a:pt x="6097" y="95"/>
                  </a:lnTo>
                  <a:lnTo>
                    <a:pt x="6268" y="90"/>
                  </a:lnTo>
                  <a:lnTo>
                    <a:pt x="6439" y="86"/>
                  </a:lnTo>
                  <a:lnTo>
                    <a:pt x="6612" y="84"/>
                  </a:lnTo>
                  <a:lnTo>
                    <a:pt x="6784" y="83"/>
                  </a:lnTo>
                  <a:lnTo>
                    <a:pt x="6784" y="83"/>
                  </a:lnTo>
                  <a:lnTo>
                    <a:pt x="6784" y="83"/>
                  </a:lnTo>
                  <a:lnTo>
                    <a:pt x="6795" y="83"/>
                  </a:lnTo>
                  <a:lnTo>
                    <a:pt x="6803" y="80"/>
                  </a:lnTo>
                  <a:lnTo>
                    <a:pt x="6810" y="76"/>
                  </a:lnTo>
                  <a:lnTo>
                    <a:pt x="6816" y="71"/>
                  </a:lnTo>
                  <a:lnTo>
                    <a:pt x="6820" y="65"/>
                  </a:lnTo>
                  <a:lnTo>
                    <a:pt x="6823" y="57"/>
                  </a:lnTo>
                  <a:lnTo>
                    <a:pt x="6825" y="50"/>
                  </a:lnTo>
                  <a:lnTo>
                    <a:pt x="6826" y="42"/>
                  </a:lnTo>
                  <a:lnTo>
                    <a:pt x="6825" y="34"/>
                  </a:lnTo>
                  <a:lnTo>
                    <a:pt x="6823" y="27"/>
                  </a:lnTo>
                  <a:lnTo>
                    <a:pt x="6820" y="20"/>
                  </a:lnTo>
                  <a:lnTo>
                    <a:pt x="6816" y="14"/>
                  </a:lnTo>
                  <a:lnTo>
                    <a:pt x="6810" y="9"/>
                  </a:lnTo>
                  <a:lnTo>
                    <a:pt x="6803" y="5"/>
                  </a:lnTo>
                  <a:lnTo>
                    <a:pt x="6795" y="1"/>
                  </a:lnTo>
                  <a:lnTo>
                    <a:pt x="6784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2640" y="3954240"/>
              <a:ext cx="468360" cy="162000"/>
            </a:xfrm>
            <a:custGeom>
              <a:avLst/>
              <a:gdLst/>
              <a:ahLst/>
              <a:rect l="l" t="t" r="r" b="b"/>
              <a:pathLst>
                <a:path w="6786" h="2349">
                  <a:moveTo>
                    <a:pt x="6786" y="2349"/>
                  </a:moveTo>
                  <a:lnTo>
                    <a:pt x="6785" y="2318"/>
                  </a:lnTo>
                  <a:lnTo>
                    <a:pt x="6784" y="2287"/>
                  </a:lnTo>
                  <a:lnTo>
                    <a:pt x="6781" y="2256"/>
                  </a:lnTo>
                  <a:lnTo>
                    <a:pt x="6777" y="2225"/>
                  </a:lnTo>
                  <a:lnTo>
                    <a:pt x="6772" y="2194"/>
                  </a:lnTo>
                  <a:lnTo>
                    <a:pt x="6766" y="2163"/>
                  </a:lnTo>
                  <a:lnTo>
                    <a:pt x="6758" y="2133"/>
                  </a:lnTo>
                  <a:lnTo>
                    <a:pt x="6749" y="2102"/>
                  </a:lnTo>
                  <a:lnTo>
                    <a:pt x="6739" y="2072"/>
                  </a:lnTo>
                  <a:lnTo>
                    <a:pt x="6729" y="2041"/>
                  </a:lnTo>
                  <a:lnTo>
                    <a:pt x="6718" y="2012"/>
                  </a:lnTo>
                  <a:lnTo>
                    <a:pt x="6705" y="1981"/>
                  </a:lnTo>
                  <a:lnTo>
                    <a:pt x="6690" y="1952"/>
                  </a:lnTo>
                  <a:lnTo>
                    <a:pt x="6676" y="1922"/>
                  </a:lnTo>
                  <a:lnTo>
                    <a:pt x="6660" y="1892"/>
                  </a:lnTo>
                  <a:lnTo>
                    <a:pt x="6643" y="1864"/>
                  </a:lnTo>
                  <a:lnTo>
                    <a:pt x="6625" y="1834"/>
                  </a:lnTo>
                  <a:lnTo>
                    <a:pt x="6606" y="1806"/>
                  </a:lnTo>
                  <a:lnTo>
                    <a:pt x="6587" y="1776"/>
                  </a:lnTo>
                  <a:lnTo>
                    <a:pt x="6565" y="1748"/>
                  </a:lnTo>
                  <a:lnTo>
                    <a:pt x="6543" y="1719"/>
                  </a:lnTo>
                  <a:lnTo>
                    <a:pt x="6520" y="1692"/>
                  </a:lnTo>
                  <a:lnTo>
                    <a:pt x="6497" y="1663"/>
                  </a:lnTo>
                  <a:lnTo>
                    <a:pt x="6472" y="1636"/>
                  </a:lnTo>
                  <a:lnTo>
                    <a:pt x="6446" y="1609"/>
                  </a:lnTo>
                  <a:lnTo>
                    <a:pt x="6420" y="1581"/>
                  </a:lnTo>
                  <a:lnTo>
                    <a:pt x="6392" y="1554"/>
                  </a:lnTo>
                  <a:lnTo>
                    <a:pt x="6363" y="1526"/>
                  </a:lnTo>
                  <a:lnTo>
                    <a:pt x="6334" y="1500"/>
                  </a:lnTo>
                  <a:lnTo>
                    <a:pt x="6304" y="1472"/>
                  </a:lnTo>
                  <a:lnTo>
                    <a:pt x="6272" y="1446"/>
                  </a:lnTo>
                  <a:lnTo>
                    <a:pt x="6241" y="1419"/>
                  </a:lnTo>
                  <a:lnTo>
                    <a:pt x="6207" y="1394"/>
                  </a:lnTo>
                  <a:lnTo>
                    <a:pt x="6174" y="1367"/>
                  </a:lnTo>
                  <a:lnTo>
                    <a:pt x="6139" y="1342"/>
                  </a:lnTo>
                  <a:lnTo>
                    <a:pt x="6103" y="1316"/>
                  </a:lnTo>
                  <a:lnTo>
                    <a:pt x="6067" y="1291"/>
                  </a:lnTo>
                  <a:lnTo>
                    <a:pt x="6029" y="1266"/>
                  </a:lnTo>
                  <a:lnTo>
                    <a:pt x="5991" y="1240"/>
                  </a:lnTo>
                  <a:lnTo>
                    <a:pt x="5952" y="1216"/>
                  </a:lnTo>
                  <a:lnTo>
                    <a:pt x="5912" y="1190"/>
                  </a:lnTo>
                  <a:lnTo>
                    <a:pt x="5871" y="1166"/>
                  </a:lnTo>
                  <a:lnTo>
                    <a:pt x="5831" y="1141"/>
                  </a:lnTo>
                  <a:lnTo>
                    <a:pt x="5788" y="1117"/>
                  </a:lnTo>
                  <a:lnTo>
                    <a:pt x="5745" y="1094"/>
                  </a:lnTo>
                  <a:lnTo>
                    <a:pt x="5702" y="1070"/>
                  </a:lnTo>
                  <a:lnTo>
                    <a:pt x="5657" y="1047"/>
                  </a:lnTo>
                  <a:lnTo>
                    <a:pt x="5611" y="1023"/>
                  </a:lnTo>
                  <a:lnTo>
                    <a:pt x="5517" y="978"/>
                  </a:lnTo>
                  <a:lnTo>
                    <a:pt x="5422" y="932"/>
                  </a:lnTo>
                  <a:lnTo>
                    <a:pt x="5322" y="888"/>
                  </a:lnTo>
                  <a:lnTo>
                    <a:pt x="5219" y="844"/>
                  </a:lnTo>
                  <a:lnTo>
                    <a:pt x="5115" y="801"/>
                  </a:lnTo>
                  <a:lnTo>
                    <a:pt x="5007" y="760"/>
                  </a:lnTo>
                  <a:lnTo>
                    <a:pt x="4896" y="719"/>
                  </a:lnTo>
                  <a:lnTo>
                    <a:pt x="4782" y="679"/>
                  </a:lnTo>
                  <a:lnTo>
                    <a:pt x="4666" y="641"/>
                  </a:lnTo>
                  <a:lnTo>
                    <a:pt x="4547" y="603"/>
                  </a:lnTo>
                  <a:lnTo>
                    <a:pt x="4425" y="565"/>
                  </a:lnTo>
                  <a:lnTo>
                    <a:pt x="4301" y="530"/>
                  </a:lnTo>
                  <a:lnTo>
                    <a:pt x="4175" y="495"/>
                  </a:lnTo>
                  <a:lnTo>
                    <a:pt x="4045" y="460"/>
                  </a:lnTo>
                  <a:lnTo>
                    <a:pt x="3914" y="428"/>
                  </a:lnTo>
                  <a:lnTo>
                    <a:pt x="3780" y="396"/>
                  </a:lnTo>
                  <a:lnTo>
                    <a:pt x="3644" y="366"/>
                  </a:lnTo>
                  <a:lnTo>
                    <a:pt x="3505" y="336"/>
                  </a:lnTo>
                  <a:lnTo>
                    <a:pt x="3365" y="308"/>
                  </a:lnTo>
                  <a:lnTo>
                    <a:pt x="3222" y="280"/>
                  </a:lnTo>
                  <a:lnTo>
                    <a:pt x="3077" y="254"/>
                  </a:lnTo>
                  <a:lnTo>
                    <a:pt x="2930" y="229"/>
                  </a:lnTo>
                  <a:lnTo>
                    <a:pt x="2782" y="206"/>
                  </a:lnTo>
                  <a:lnTo>
                    <a:pt x="2631" y="183"/>
                  </a:lnTo>
                  <a:lnTo>
                    <a:pt x="2479" y="161"/>
                  </a:lnTo>
                  <a:lnTo>
                    <a:pt x="2324" y="141"/>
                  </a:lnTo>
                  <a:lnTo>
                    <a:pt x="2167" y="123"/>
                  </a:lnTo>
                  <a:lnTo>
                    <a:pt x="2010" y="105"/>
                  </a:lnTo>
                  <a:lnTo>
                    <a:pt x="1850" y="89"/>
                  </a:lnTo>
                  <a:lnTo>
                    <a:pt x="1689" y="74"/>
                  </a:lnTo>
                  <a:lnTo>
                    <a:pt x="1526" y="61"/>
                  </a:lnTo>
                  <a:lnTo>
                    <a:pt x="1363" y="48"/>
                  </a:lnTo>
                  <a:lnTo>
                    <a:pt x="1197" y="37"/>
                  </a:lnTo>
                  <a:lnTo>
                    <a:pt x="1030" y="28"/>
                  </a:lnTo>
                  <a:lnTo>
                    <a:pt x="861" y="20"/>
                  </a:lnTo>
                  <a:lnTo>
                    <a:pt x="691" y="13"/>
                  </a:lnTo>
                  <a:lnTo>
                    <a:pt x="520" y="8"/>
                  </a:lnTo>
                  <a:lnTo>
                    <a:pt x="348" y="5"/>
                  </a:lnTo>
                  <a:lnTo>
                    <a:pt x="175" y="1"/>
                  </a:lnTo>
                  <a:lnTo>
                    <a:pt x="0" y="0"/>
                  </a:lnTo>
                  <a:lnTo>
                    <a:pt x="0" y="83"/>
                  </a:lnTo>
                  <a:lnTo>
                    <a:pt x="174" y="84"/>
                  </a:lnTo>
                  <a:lnTo>
                    <a:pt x="347" y="86"/>
                  </a:lnTo>
                  <a:lnTo>
                    <a:pt x="518" y="90"/>
                  </a:lnTo>
                  <a:lnTo>
                    <a:pt x="689" y="95"/>
                  </a:lnTo>
                  <a:lnTo>
                    <a:pt x="858" y="102"/>
                  </a:lnTo>
                  <a:lnTo>
                    <a:pt x="1025" y="109"/>
                  </a:lnTo>
                  <a:lnTo>
                    <a:pt x="1192" y="120"/>
                  </a:lnTo>
                  <a:lnTo>
                    <a:pt x="1357" y="130"/>
                  </a:lnTo>
                  <a:lnTo>
                    <a:pt x="1520" y="142"/>
                  </a:lnTo>
                  <a:lnTo>
                    <a:pt x="1682" y="156"/>
                  </a:lnTo>
                  <a:lnTo>
                    <a:pt x="1843" y="170"/>
                  </a:lnTo>
                  <a:lnTo>
                    <a:pt x="2002" y="187"/>
                  </a:lnTo>
                  <a:lnTo>
                    <a:pt x="2158" y="204"/>
                  </a:lnTo>
                  <a:lnTo>
                    <a:pt x="2314" y="223"/>
                  </a:lnTo>
                  <a:lnTo>
                    <a:pt x="2467" y="243"/>
                  </a:lnTo>
                  <a:lnTo>
                    <a:pt x="2619" y="264"/>
                  </a:lnTo>
                  <a:lnTo>
                    <a:pt x="2770" y="286"/>
                  </a:lnTo>
                  <a:lnTo>
                    <a:pt x="2917" y="310"/>
                  </a:lnTo>
                  <a:lnTo>
                    <a:pt x="3064" y="335"/>
                  </a:lnTo>
                  <a:lnTo>
                    <a:pt x="3207" y="361"/>
                  </a:lnTo>
                  <a:lnTo>
                    <a:pt x="3348" y="388"/>
                  </a:lnTo>
                  <a:lnTo>
                    <a:pt x="3489" y="417"/>
                  </a:lnTo>
                  <a:lnTo>
                    <a:pt x="3626" y="446"/>
                  </a:lnTo>
                  <a:lnTo>
                    <a:pt x="3762" y="477"/>
                  </a:lnTo>
                  <a:lnTo>
                    <a:pt x="3895" y="508"/>
                  </a:lnTo>
                  <a:lnTo>
                    <a:pt x="4025" y="541"/>
                  </a:lnTo>
                  <a:lnTo>
                    <a:pt x="4153" y="574"/>
                  </a:lnTo>
                  <a:lnTo>
                    <a:pt x="4278" y="609"/>
                  </a:lnTo>
                  <a:lnTo>
                    <a:pt x="4401" y="645"/>
                  </a:lnTo>
                  <a:lnTo>
                    <a:pt x="4522" y="681"/>
                  </a:lnTo>
                  <a:lnTo>
                    <a:pt x="4640" y="719"/>
                  </a:lnTo>
                  <a:lnTo>
                    <a:pt x="4755" y="757"/>
                  </a:lnTo>
                  <a:lnTo>
                    <a:pt x="4868" y="796"/>
                  </a:lnTo>
                  <a:lnTo>
                    <a:pt x="4977" y="837"/>
                  </a:lnTo>
                  <a:lnTo>
                    <a:pt x="5084" y="878"/>
                  </a:lnTo>
                  <a:lnTo>
                    <a:pt x="5189" y="921"/>
                  </a:lnTo>
                  <a:lnTo>
                    <a:pt x="5290" y="963"/>
                  </a:lnTo>
                  <a:lnTo>
                    <a:pt x="5387" y="1007"/>
                  </a:lnTo>
                  <a:lnTo>
                    <a:pt x="5483" y="1051"/>
                  </a:lnTo>
                  <a:lnTo>
                    <a:pt x="5574" y="1097"/>
                  </a:lnTo>
                  <a:lnTo>
                    <a:pt x="5618" y="1119"/>
                  </a:lnTo>
                  <a:lnTo>
                    <a:pt x="5663" y="1142"/>
                  </a:lnTo>
                  <a:lnTo>
                    <a:pt x="5706" y="1166"/>
                  </a:lnTo>
                  <a:lnTo>
                    <a:pt x="5748" y="1189"/>
                  </a:lnTo>
                  <a:lnTo>
                    <a:pt x="5789" y="1213"/>
                  </a:lnTo>
                  <a:lnTo>
                    <a:pt x="5830" y="1237"/>
                  </a:lnTo>
                  <a:lnTo>
                    <a:pt x="5869" y="1260"/>
                  </a:lnTo>
                  <a:lnTo>
                    <a:pt x="5908" y="1285"/>
                  </a:lnTo>
                  <a:lnTo>
                    <a:pt x="5947" y="1309"/>
                  </a:lnTo>
                  <a:lnTo>
                    <a:pt x="5983" y="1334"/>
                  </a:lnTo>
                  <a:lnTo>
                    <a:pt x="6020" y="1358"/>
                  </a:lnTo>
                  <a:lnTo>
                    <a:pt x="6056" y="1383"/>
                  </a:lnTo>
                  <a:lnTo>
                    <a:pt x="6090" y="1408"/>
                  </a:lnTo>
                  <a:lnTo>
                    <a:pt x="6124" y="1433"/>
                  </a:lnTo>
                  <a:lnTo>
                    <a:pt x="6157" y="1458"/>
                  </a:lnTo>
                  <a:lnTo>
                    <a:pt x="6189" y="1483"/>
                  </a:lnTo>
                  <a:lnTo>
                    <a:pt x="6219" y="1509"/>
                  </a:lnTo>
                  <a:lnTo>
                    <a:pt x="6250" y="1535"/>
                  </a:lnTo>
                  <a:lnTo>
                    <a:pt x="6279" y="1561"/>
                  </a:lnTo>
                  <a:lnTo>
                    <a:pt x="6307" y="1586"/>
                  </a:lnTo>
                  <a:lnTo>
                    <a:pt x="6334" y="1613"/>
                  </a:lnTo>
                  <a:lnTo>
                    <a:pt x="6361" y="1639"/>
                  </a:lnTo>
                  <a:lnTo>
                    <a:pt x="6386" y="1664"/>
                  </a:lnTo>
                  <a:lnTo>
                    <a:pt x="6411" y="1691"/>
                  </a:lnTo>
                  <a:lnTo>
                    <a:pt x="6434" y="1717"/>
                  </a:lnTo>
                  <a:lnTo>
                    <a:pt x="6457" y="1744"/>
                  </a:lnTo>
                  <a:lnTo>
                    <a:pt x="6479" y="1771"/>
                  </a:lnTo>
                  <a:lnTo>
                    <a:pt x="6499" y="1798"/>
                  </a:lnTo>
                  <a:lnTo>
                    <a:pt x="6519" y="1824"/>
                  </a:lnTo>
                  <a:lnTo>
                    <a:pt x="6538" y="1852"/>
                  </a:lnTo>
                  <a:lnTo>
                    <a:pt x="6556" y="1878"/>
                  </a:lnTo>
                  <a:lnTo>
                    <a:pt x="6572" y="1906"/>
                  </a:lnTo>
                  <a:lnTo>
                    <a:pt x="6589" y="1933"/>
                  </a:lnTo>
                  <a:lnTo>
                    <a:pt x="6603" y="1960"/>
                  </a:lnTo>
                  <a:lnTo>
                    <a:pt x="6617" y="1987"/>
                  </a:lnTo>
                  <a:lnTo>
                    <a:pt x="6629" y="2015"/>
                  </a:lnTo>
                  <a:lnTo>
                    <a:pt x="6642" y="2042"/>
                  </a:lnTo>
                  <a:lnTo>
                    <a:pt x="6652" y="2070"/>
                  </a:lnTo>
                  <a:lnTo>
                    <a:pt x="6662" y="2098"/>
                  </a:lnTo>
                  <a:lnTo>
                    <a:pt x="6671" y="2126"/>
                  </a:lnTo>
                  <a:lnTo>
                    <a:pt x="6678" y="2153"/>
                  </a:lnTo>
                  <a:lnTo>
                    <a:pt x="6685" y="2180"/>
                  </a:lnTo>
                  <a:lnTo>
                    <a:pt x="6690" y="2209"/>
                  </a:lnTo>
                  <a:lnTo>
                    <a:pt x="6695" y="2236"/>
                  </a:lnTo>
                  <a:lnTo>
                    <a:pt x="6699" y="2265"/>
                  </a:lnTo>
                  <a:lnTo>
                    <a:pt x="6702" y="2292"/>
                  </a:lnTo>
                  <a:lnTo>
                    <a:pt x="6704" y="2321"/>
                  </a:lnTo>
                  <a:lnTo>
                    <a:pt x="6704" y="2349"/>
                  </a:lnTo>
                  <a:lnTo>
                    <a:pt x="6786" y="2349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6080" y="3894120"/>
              <a:ext cx="931680" cy="226800"/>
            </a:xfrm>
            <a:custGeom>
              <a:avLst/>
              <a:gdLst/>
              <a:ahLst/>
              <a:rect l="l" t="t" r="r" b="b"/>
              <a:pathLst>
                <a:path w="13511" h="3297">
                  <a:moveTo>
                    <a:pt x="0" y="0"/>
                  </a:moveTo>
                  <a:lnTo>
                    <a:pt x="0" y="3297"/>
                  </a:lnTo>
                  <a:lnTo>
                    <a:pt x="13509" y="3297"/>
                  </a:lnTo>
                  <a:lnTo>
                    <a:pt x="135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7520" y="3730320"/>
              <a:ext cx="930240" cy="317520"/>
            </a:xfrm>
            <a:custGeom>
              <a:avLst/>
              <a:gdLst/>
              <a:ahLst/>
              <a:rect l="l" t="t" r="r" b="b"/>
              <a:pathLst>
                <a:path w="13488" h="4614">
                  <a:moveTo>
                    <a:pt x="13488" y="2307"/>
                  </a:moveTo>
                  <a:lnTo>
                    <a:pt x="13479" y="2426"/>
                  </a:lnTo>
                  <a:lnTo>
                    <a:pt x="13453" y="2543"/>
                  </a:lnTo>
                  <a:lnTo>
                    <a:pt x="13410" y="2659"/>
                  </a:lnTo>
                  <a:lnTo>
                    <a:pt x="13351" y="2772"/>
                  </a:lnTo>
                  <a:lnTo>
                    <a:pt x="13276" y="2884"/>
                  </a:lnTo>
                  <a:lnTo>
                    <a:pt x="13184" y="2993"/>
                  </a:lnTo>
                  <a:lnTo>
                    <a:pt x="13078" y="3101"/>
                  </a:lnTo>
                  <a:lnTo>
                    <a:pt x="12957" y="3206"/>
                  </a:lnTo>
                  <a:lnTo>
                    <a:pt x="12822" y="3307"/>
                  </a:lnTo>
                  <a:lnTo>
                    <a:pt x="12673" y="3407"/>
                  </a:lnTo>
                  <a:lnTo>
                    <a:pt x="12511" y="3504"/>
                  </a:lnTo>
                  <a:lnTo>
                    <a:pt x="12336" y="3597"/>
                  </a:lnTo>
                  <a:lnTo>
                    <a:pt x="12147" y="3688"/>
                  </a:lnTo>
                  <a:lnTo>
                    <a:pt x="11947" y="3775"/>
                  </a:lnTo>
                  <a:lnTo>
                    <a:pt x="11735" y="3858"/>
                  </a:lnTo>
                  <a:lnTo>
                    <a:pt x="11512" y="3938"/>
                  </a:lnTo>
                  <a:lnTo>
                    <a:pt x="11278" y="4015"/>
                  </a:lnTo>
                  <a:lnTo>
                    <a:pt x="11033" y="4088"/>
                  </a:lnTo>
                  <a:lnTo>
                    <a:pt x="10778" y="4156"/>
                  </a:lnTo>
                  <a:lnTo>
                    <a:pt x="10514" y="4220"/>
                  </a:lnTo>
                  <a:lnTo>
                    <a:pt x="10240" y="4280"/>
                  </a:lnTo>
                  <a:lnTo>
                    <a:pt x="9957" y="4336"/>
                  </a:lnTo>
                  <a:lnTo>
                    <a:pt x="9667" y="4387"/>
                  </a:lnTo>
                  <a:lnTo>
                    <a:pt x="9368" y="4433"/>
                  </a:lnTo>
                  <a:lnTo>
                    <a:pt x="9062" y="4475"/>
                  </a:lnTo>
                  <a:lnTo>
                    <a:pt x="8749" y="4510"/>
                  </a:lnTo>
                  <a:lnTo>
                    <a:pt x="8429" y="4542"/>
                  </a:lnTo>
                  <a:lnTo>
                    <a:pt x="8103" y="4567"/>
                  </a:lnTo>
                  <a:lnTo>
                    <a:pt x="7771" y="4588"/>
                  </a:lnTo>
                  <a:lnTo>
                    <a:pt x="7433" y="4603"/>
                  </a:lnTo>
                  <a:lnTo>
                    <a:pt x="7090" y="4611"/>
                  </a:lnTo>
                  <a:lnTo>
                    <a:pt x="6743" y="4614"/>
                  </a:lnTo>
                  <a:lnTo>
                    <a:pt x="6398" y="4611"/>
                  </a:lnTo>
                  <a:lnTo>
                    <a:pt x="6055" y="4603"/>
                  </a:lnTo>
                  <a:lnTo>
                    <a:pt x="5717" y="4588"/>
                  </a:lnTo>
                  <a:lnTo>
                    <a:pt x="5385" y="4567"/>
                  </a:lnTo>
                  <a:lnTo>
                    <a:pt x="5059" y="4542"/>
                  </a:lnTo>
                  <a:lnTo>
                    <a:pt x="4739" y="4510"/>
                  </a:lnTo>
                  <a:lnTo>
                    <a:pt x="4426" y="4475"/>
                  </a:lnTo>
                  <a:lnTo>
                    <a:pt x="4120" y="4433"/>
                  </a:lnTo>
                  <a:lnTo>
                    <a:pt x="3821" y="4387"/>
                  </a:lnTo>
                  <a:lnTo>
                    <a:pt x="3531" y="4336"/>
                  </a:lnTo>
                  <a:lnTo>
                    <a:pt x="3248" y="4280"/>
                  </a:lnTo>
                  <a:lnTo>
                    <a:pt x="2974" y="4220"/>
                  </a:lnTo>
                  <a:lnTo>
                    <a:pt x="2710" y="4156"/>
                  </a:lnTo>
                  <a:lnTo>
                    <a:pt x="2455" y="4088"/>
                  </a:lnTo>
                  <a:lnTo>
                    <a:pt x="2210" y="4015"/>
                  </a:lnTo>
                  <a:lnTo>
                    <a:pt x="1976" y="3938"/>
                  </a:lnTo>
                  <a:lnTo>
                    <a:pt x="1753" y="3858"/>
                  </a:lnTo>
                  <a:lnTo>
                    <a:pt x="1541" y="3775"/>
                  </a:lnTo>
                  <a:lnTo>
                    <a:pt x="1341" y="3688"/>
                  </a:lnTo>
                  <a:lnTo>
                    <a:pt x="1152" y="3597"/>
                  </a:lnTo>
                  <a:lnTo>
                    <a:pt x="977" y="3504"/>
                  </a:lnTo>
                  <a:lnTo>
                    <a:pt x="815" y="3407"/>
                  </a:lnTo>
                  <a:lnTo>
                    <a:pt x="665" y="3307"/>
                  </a:lnTo>
                  <a:lnTo>
                    <a:pt x="531" y="3206"/>
                  </a:lnTo>
                  <a:lnTo>
                    <a:pt x="410" y="3101"/>
                  </a:lnTo>
                  <a:lnTo>
                    <a:pt x="304" y="2993"/>
                  </a:lnTo>
                  <a:lnTo>
                    <a:pt x="212" y="2884"/>
                  </a:lnTo>
                  <a:lnTo>
                    <a:pt x="137" y="2772"/>
                  </a:lnTo>
                  <a:lnTo>
                    <a:pt x="78" y="2659"/>
                  </a:lnTo>
                  <a:lnTo>
                    <a:pt x="35" y="2543"/>
                  </a:lnTo>
                  <a:lnTo>
                    <a:pt x="9" y="2426"/>
                  </a:lnTo>
                  <a:lnTo>
                    <a:pt x="0" y="2307"/>
                  </a:lnTo>
                  <a:lnTo>
                    <a:pt x="9" y="2189"/>
                  </a:lnTo>
                  <a:lnTo>
                    <a:pt x="35" y="2072"/>
                  </a:lnTo>
                  <a:lnTo>
                    <a:pt x="78" y="1956"/>
                  </a:lnTo>
                  <a:lnTo>
                    <a:pt x="137" y="1843"/>
                  </a:lnTo>
                  <a:lnTo>
                    <a:pt x="212" y="1731"/>
                  </a:lnTo>
                  <a:lnTo>
                    <a:pt x="304" y="1622"/>
                  </a:lnTo>
                  <a:lnTo>
                    <a:pt x="410" y="1514"/>
                  </a:lnTo>
                  <a:lnTo>
                    <a:pt x="531" y="1409"/>
                  </a:lnTo>
                  <a:lnTo>
                    <a:pt x="665" y="1308"/>
                  </a:lnTo>
                  <a:lnTo>
                    <a:pt x="815" y="1208"/>
                  </a:lnTo>
                  <a:lnTo>
                    <a:pt x="977" y="1111"/>
                  </a:lnTo>
                  <a:lnTo>
                    <a:pt x="1152" y="1017"/>
                  </a:lnTo>
                  <a:lnTo>
                    <a:pt x="1341" y="927"/>
                  </a:lnTo>
                  <a:lnTo>
                    <a:pt x="1541" y="840"/>
                  </a:lnTo>
                  <a:lnTo>
                    <a:pt x="1753" y="756"/>
                  </a:lnTo>
                  <a:lnTo>
                    <a:pt x="1976" y="677"/>
                  </a:lnTo>
                  <a:lnTo>
                    <a:pt x="2210" y="600"/>
                  </a:lnTo>
                  <a:lnTo>
                    <a:pt x="2455" y="527"/>
                  </a:lnTo>
                  <a:lnTo>
                    <a:pt x="2710" y="459"/>
                  </a:lnTo>
                  <a:lnTo>
                    <a:pt x="2974" y="395"/>
                  </a:lnTo>
                  <a:lnTo>
                    <a:pt x="3248" y="335"/>
                  </a:lnTo>
                  <a:lnTo>
                    <a:pt x="3531" y="279"/>
                  </a:lnTo>
                  <a:lnTo>
                    <a:pt x="3821" y="228"/>
                  </a:lnTo>
                  <a:lnTo>
                    <a:pt x="4120" y="182"/>
                  </a:lnTo>
                  <a:lnTo>
                    <a:pt x="4426" y="140"/>
                  </a:lnTo>
                  <a:lnTo>
                    <a:pt x="4739" y="104"/>
                  </a:lnTo>
                  <a:lnTo>
                    <a:pt x="5059" y="73"/>
                  </a:lnTo>
                  <a:lnTo>
                    <a:pt x="5385" y="48"/>
                  </a:lnTo>
                  <a:lnTo>
                    <a:pt x="5717" y="27"/>
                  </a:lnTo>
                  <a:lnTo>
                    <a:pt x="6055" y="12"/>
                  </a:lnTo>
                  <a:lnTo>
                    <a:pt x="6398" y="3"/>
                  </a:lnTo>
                  <a:lnTo>
                    <a:pt x="6743" y="0"/>
                  </a:lnTo>
                  <a:lnTo>
                    <a:pt x="7090" y="3"/>
                  </a:lnTo>
                  <a:lnTo>
                    <a:pt x="7433" y="12"/>
                  </a:lnTo>
                  <a:lnTo>
                    <a:pt x="7771" y="27"/>
                  </a:lnTo>
                  <a:lnTo>
                    <a:pt x="8103" y="48"/>
                  </a:lnTo>
                  <a:lnTo>
                    <a:pt x="8429" y="73"/>
                  </a:lnTo>
                  <a:lnTo>
                    <a:pt x="8749" y="104"/>
                  </a:lnTo>
                  <a:lnTo>
                    <a:pt x="9062" y="140"/>
                  </a:lnTo>
                  <a:lnTo>
                    <a:pt x="9368" y="182"/>
                  </a:lnTo>
                  <a:lnTo>
                    <a:pt x="9667" y="228"/>
                  </a:lnTo>
                  <a:lnTo>
                    <a:pt x="9957" y="279"/>
                  </a:lnTo>
                  <a:lnTo>
                    <a:pt x="10240" y="335"/>
                  </a:lnTo>
                  <a:lnTo>
                    <a:pt x="10514" y="395"/>
                  </a:lnTo>
                  <a:lnTo>
                    <a:pt x="10778" y="459"/>
                  </a:lnTo>
                  <a:lnTo>
                    <a:pt x="11033" y="527"/>
                  </a:lnTo>
                  <a:lnTo>
                    <a:pt x="11278" y="600"/>
                  </a:lnTo>
                  <a:lnTo>
                    <a:pt x="11512" y="677"/>
                  </a:lnTo>
                  <a:lnTo>
                    <a:pt x="11735" y="756"/>
                  </a:lnTo>
                  <a:lnTo>
                    <a:pt x="11947" y="840"/>
                  </a:lnTo>
                  <a:lnTo>
                    <a:pt x="12147" y="927"/>
                  </a:lnTo>
                  <a:lnTo>
                    <a:pt x="12336" y="1017"/>
                  </a:lnTo>
                  <a:lnTo>
                    <a:pt x="12511" y="1111"/>
                  </a:lnTo>
                  <a:lnTo>
                    <a:pt x="12673" y="1208"/>
                  </a:lnTo>
                  <a:lnTo>
                    <a:pt x="12822" y="1308"/>
                  </a:lnTo>
                  <a:lnTo>
                    <a:pt x="12957" y="1409"/>
                  </a:lnTo>
                  <a:lnTo>
                    <a:pt x="13078" y="1514"/>
                  </a:lnTo>
                  <a:lnTo>
                    <a:pt x="13184" y="1622"/>
                  </a:lnTo>
                  <a:lnTo>
                    <a:pt x="13276" y="1731"/>
                  </a:lnTo>
                  <a:lnTo>
                    <a:pt x="13351" y="1843"/>
                  </a:lnTo>
                  <a:lnTo>
                    <a:pt x="13410" y="1956"/>
                  </a:lnTo>
                  <a:lnTo>
                    <a:pt x="13453" y="2072"/>
                  </a:lnTo>
                  <a:lnTo>
                    <a:pt x="13479" y="2189"/>
                  </a:lnTo>
                  <a:lnTo>
                    <a:pt x="13488" y="2307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79760" y="3889080"/>
              <a:ext cx="471240" cy="162000"/>
            </a:xfrm>
            <a:custGeom>
              <a:avLst/>
              <a:gdLst/>
              <a:ahLst/>
              <a:rect l="l" t="t" r="r" b="b"/>
              <a:pathLst>
                <a:path w="6826" h="2349">
                  <a:moveTo>
                    <a:pt x="40" y="2349"/>
                  </a:moveTo>
                  <a:lnTo>
                    <a:pt x="40" y="2349"/>
                  </a:lnTo>
                  <a:lnTo>
                    <a:pt x="215" y="2348"/>
                  </a:lnTo>
                  <a:lnTo>
                    <a:pt x="388" y="2346"/>
                  </a:lnTo>
                  <a:lnTo>
                    <a:pt x="560" y="2342"/>
                  </a:lnTo>
                  <a:lnTo>
                    <a:pt x="731" y="2337"/>
                  </a:lnTo>
                  <a:lnTo>
                    <a:pt x="901" y="2330"/>
                  </a:lnTo>
                  <a:lnTo>
                    <a:pt x="1070" y="2322"/>
                  </a:lnTo>
                  <a:lnTo>
                    <a:pt x="1237" y="2312"/>
                  </a:lnTo>
                  <a:lnTo>
                    <a:pt x="1403" y="2302"/>
                  </a:lnTo>
                  <a:lnTo>
                    <a:pt x="1566" y="2290"/>
                  </a:lnTo>
                  <a:lnTo>
                    <a:pt x="1729" y="2276"/>
                  </a:lnTo>
                  <a:lnTo>
                    <a:pt x="1890" y="2261"/>
                  </a:lnTo>
                  <a:lnTo>
                    <a:pt x="2050" y="2245"/>
                  </a:lnTo>
                  <a:lnTo>
                    <a:pt x="2207" y="2227"/>
                  </a:lnTo>
                  <a:lnTo>
                    <a:pt x="2364" y="2208"/>
                  </a:lnTo>
                  <a:lnTo>
                    <a:pt x="2519" y="2188"/>
                  </a:lnTo>
                  <a:lnTo>
                    <a:pt x="2671" y="2167"/>
                  </a:lnTo>
                  <a:lnTo>
                    <a:pt x="2822" y="2144"/>
                  </a:lnTo>
                  <a:lnTo>
                    <a:pt x="2970" y="2121"/>
                  </a:lnTo>
                  <a:lnTo>
                    <a:pt x="3117" y="2095"/>
                  </a:lnTo>
                  <a:lnTo>
                    <a:pt x="3262" y="2069"/>
                  </a:lnTo>
                  <a:lnTo>
                    <a:pt x="3405" y="2043"/>
                  </a:lnTo>
                  <a:lnTo>
                    <a:pt x="3545" y="2014"/>
                  </a:lnTo>
                  <a:lnTo>
                    <a:pt x="3684" y="1985"/>
                  </a:lnTo>
                  <a:lnTo>
                    <a:pt x="3820" y="1953"/>
                  </a:lnTo>
                  <a:lnTo>
                    <a:pt x="3954" y="1921"/>
                  </a:lnTo>
                  <a:lnTo>
                    <a:pt x="4085" y="1889"/>
                  </a:lnTo>
                  <a:lnTo>
                    <a:pt x="4215" y="1855"/>
                  </a:lnTo>
                  <a:lnTo>
                    <a:pt x="4341" y="1820"/>
                  </a:lnTo>
                  <a:lnTo>
                    <a:pt x="4465" y="1784"/>
                  </a:lnTo>
                  <a:lnTo>
                    <a:pt x="4587" y="1747"/>
                  </a:lnTo>
                  <a:lnTo>
                    <a:pt x="4706" y="1710"/>
                  </a:lnTo>
                  <a:lnTo>
                    <a:pt x="4822" y="1670"/>
                  </a:lnTo>
                  <a:lnTo>
                    <a:pt x="4936" y="1630"/>
                  </a:lnTo>
                  <a:lnTo>
                    <a:pt x="5047" y="1590"/>
                  </a:lnTo>
                  <a:lnTo>
                    <a:pt x="5155" y="1548"/>
                  </a:lnTo>
                  <a:lnTo>
                    <a:pt x="5259" y="1506"/>
                  </a:lnTo>
                  <a:lnTo>
                    <a:pt x="5362" y="1462"/>
                  </a:lnTo>
                  <a:lnTo>
                    <a:pt x="5462" y="1418"/>
                  </a:lnTo>
                  <a:lnTo>
                    <a:pt x="5510" y="1395"/>
                  </a:lnTo>
                  <a:lnTo>
                    <a:pt x="5557" y="1373"/>
                  </a:lnTo>
                  <a:lnTo>
                    <a:pt x="5605" y="1349"/>
                  </a:lnTo>
                  <a:lnTo>
                    <a:pt x="5651" y="1327"/>
                  </a:lnTo>
                  <a:lnTo>
                    <a:pt x="5697" y="1304"/>
                  </a:lnTo>
                  <a:lnTo>
                    <a:pt x="5742" y="1280"/>
                  </a:lnTo>
                  <a:lnTo>
                    <a:pt x="5785" y="1256"/>
                  </a:lnTo>
                  <a:lnTo>
                    <a:pt x="5828" y="1232"/>
                  </a:lnTo>
                  <a:lnTo>
                    <a:pt x="5871" y="1208"/>
                  </a:lnTo>
                  <a:lnTo>
                    <a:pt x="5911" y="1184"/>
                  </a:lnTo>
                  <a:lnTo>
                    <a:pt x="5952" y="1159"/>
                  </a:lnTo>
                  <a:lnTo>
                    <a:pt x="5992" y="1135"/>
                  </a:lnTo>
                  <a:lnTo>
                    <a:pt x="6031" y="1109"/>
                  </a:lnTo>
                  <a:lnTo>
                    <a:pt x="6069" y="1085"/>
                  </a:lnTo>
                  <a:lnTo>
                    <a:pt x="6107" y="1059"/>
                  </a:lnTo>
                  <a:lnTo>
                    <a:pt x="6143" y="1034"/>
                  </a:lnTo>
                  <a:lnTo>
                    <a:pt x="6179" y="1009"/>
                  </a:lnTo>
                  <a:lnTo>
                    <a:pt x="6214" y="982"/>
                  </a:lnTo>
                  <a:lnTo>
                    <a:pt x="6247" y="957"/>
                  </a:lnTo>
                  <a:lnTo>
                    <a:pt x="6281" y="930"/>
                  </a:lnTo>
                  <a:lnTo>
                    <a:pt x="6312" y="904"/>
                  </a:lnTo>
                  <a:lnTo>
                    <a:pt x="6344" y="877"/>
                  </a:lnTo>
                  <a:lnTo>
                    <a:pt x="6374" y="851"/>
                  </a:lnTo>
                  <a:lnTo>
                    <a:pt x="6403" y="823"/>
                  </a:lnTo>
                  <a:lnTo>
                    <a:pt x="6432" y="797"/>
                  </a:lnTo>
                  <a:lnTo>
                    <a:pt x="6460" y="769"/>
                  </a:lnTo>
                  <a:lnTo>
                    <a:pt x="6486" y="742"/>
                  </a:lnTo>
                  <a:lnTo>
                    <a:pt x="6512" y="714"/>
                  </a:lnTo>
                  <a:lnTo>
                    <a:pt x="6537" y="686"/>
                  </a:lnTo>
                  <a:lnTo>
                    <a:pt x="6560" y="658"/>
                  </a:lnTo>
                  <a:lnTo>
                    <a:pt x="6583" y="630"/>
                  </a:lnTo>
                  <a:lnTo>
                    <a:pt x="6605" y="601"/>
                  </a:lnTo>
                  <a:lnTo>
                    <a:pt x="6627" y="573"/>
                  </a:lnTo>
                  <a:lnTo>
                    <a:pt x="6646" y="544"/>
                  </a:lnTo>
                  <a:lnTo>
                    <a:pt x="6665" y="515"/>
                  </a:lnTo>
                  <a:lnTo>
                    <a:pt x="6683" y="486"/>
                  </a:lnTo>
                  <a:lnTo>
                    <a:pt x="6700" y="457"/>
                  </a:lnTo>
                  <a:lnTo>
                    <a:pt x="6716" y="427"/>
                  </a:lnTo>
                  <a:lnTo>
                    <a:pt x="6730" y="398"/>
                  </a:lnTo>
                  <a:lnTo>
                    <a:pt x="6745" y="368"/>
                  </a:lnTo>
                  <a:lnTo>
                    <a:pt x="6758" y="339"/>
                  </a:lnTo>
                  <a:lnTo>
                    <a:pt x="6769" y="308"/>
                  </a:lnTo>
                  <a:lnTo>
                    <a:pt x="6779" y="278"/>
                  </a:lnTo>
                  <a:lnTo>
                    <a:pt x="6789" y="248"/>
                  </a:lnTo>
                  <a:lnTo>
                    <a:pt x="6798" y="218"/>
                  </a:lnTo>
                  <a:lnTo>
                    <a:pt x="6806" y="186"/>
                  </a:lnTo>
                  <a:lnTo>
                    <a:pt x="6812" y="156"/>
                  </a:lnTo>
                  <a:lnTo>
                    <a:pt x="6817" y="125"/>
                  </a:lnTo>
                  <a:lnTo>
                    <a:pt x="6821" y="94"/>
                  </a:lnTo>
                  <a:lnTo>
                    <a:pt x="6824" y="63"/>
                  </a:lnTo>
                  <a:lnTo>
                    <a:pt x="6825" y="31"/>
                  </a:lnTo>
                  <a:lnTo>
                    <a:pt x="6826" y="0"/>
                  </a:lnTo>
                  <a:lnTo>
                    <a:pt x="6744" y="0"/>
                  </a:lnTo>
                  <a:lnTo>
                    <a:pt x="6744" y="28"/>
                  </a:lnTo>
                  <a:lnTo>
                    <a:pt x="6742" y="57"/>
                  </a:lnTo>
                  <a:lnTo>
                    <a:pt x="6739" y="85"/>
                  </a:lnTo>
                  <a:lnTo>
                    <a:pt x="6735" y="113"/>
                  </a:lnTo>
                  <a:lnTo>
                    <a:pt x="6730" y="141"/>
                  </a:lnTo>
                  <a:lnTo>
                    <a:pt x="6725" y="169"/>
                  </a:lnTo>
                  <a:lnTo>
                    <a:pt x="6718" y="196"/>
                  </a:lnTo>
                  <a:lnTo>
                    <a:pt x="6711" y="225"/>
                  </a:lnTo>
                  <a:lnTo>
                    <a:pt x="6702" y="252"/>
                  </a:lnTo>
                  <a:lnTo>
                    <a:pt x="6692" y="280"/>
                  </a:lnTo>
                  <a:lnTo>
                    <a:pt x="6682" y="307"/>
                  </a:lnTo>
                  <a:lnTo>
                    <a:pt x="6669" y="335"/>
                  </a:lnTo>
                  <a:lnTo>
                    <a:pt x="6657" y="362"/>
                  </a:lnTo>
                  <a:lnTo>
                    <a:pt x="6643" y="390"/>
                  </a:lnTo>
                  <a:lnTo>
                    <a:pt x="6629" y="417"/>
                  </a:lnTo>
                  <a:lnTo>
                    <a:pt x="6612" y="444"/>
                  </a:lnTo>
                  <a:lnTo>
                    <a:pt x="6596" y="471"/>
                  </a:lnTo>
                  <a:lnTo>
                    <a:pt x="6578" y="499"/>
                  </a:lnTo>
                  <a:lnTo>
                    <a:pt x="6559" y="525"/>
                  </a:lnTo>
                  <a:lnTo>
                    <a:pt x="6539" y="552"/>
                  </a:lnTo>
                  <a:lnTo>
                    <a:pt x="6519" y="579"/>
                  </a:lnTo>
                  <a:lnTo>
                    <a:pt x="6497" y="606"/>
                  </a:lnTo>
                  <a:lnTo>
                    <a:pt x="6474" y="632"/>
                  </a:lnTo>
                  <a:lnTo>
                    <a:pt x="6451" y="658"/>
                  </a:lnTo>
                  <a:lnTo>
                    <a:pt x="6426" y="685"/>
                  </a:lnTo>
                  <a:lnTo>
                    <a:pt x="6401" y="711"/>
                  </a:lnTo>
                  <a:lnTo>
                    <a:pt x="6374" y="738"/>
                  </a:lnTo>
                  <a:lnTo>
                    <a:pt x="6347" y="763"/>
                  </a:lnTo>
                  <a:lnTo>
                    <a:pt x="6319" y="790"/>
                  </a:lnTo>
                  <a:lnTo>
                    <a:pt x="6290" y="815"/>
                  </a:lnTo>
                  <a:lnTo>
                    <a:pt x="6259" y="841"/>
                  </a:lnTo>
                  <a:lnTo>
                    <a:pt x="6229" y="866"/>
                  </a:lnTo>
                  <a:lnTo>
                    <a:pt x="6197" y="891"/>
                  </a:lnTo>
                  <a:lnTo>
                    <a:pt x="6164" y="917"/>
                  </a:lnTo>
                  <a:lnTo>
                    <a:pt x="6130" y="942"/>
                  </a:lnTo>
                  <a:lnTo>
                    <a:pt x="6096" y="967"/>
                  </a:lnTo>
                  <a:lnTo>
                    <a:pt x="6060" y="992"/>
                  </a:lnTo>
                  <a:lnTo>
                    <a:pt x="6023" y="1017"/>
                  </a:lnTo>
                  <a:lnTo>
                    <a:pt x="5987" y="1041"/>
                  </a:lnTo>
                  <a:lnTo>
                    <a:pt x="5948" y="1066"/>
                  </a:lnTo>
                  <a:lnTo>
                    <a:pt x="5909" y="1089"/>
                  </a:lnTo>
                  <a:lnTo>
                    <a:pt x="5870" y="1113"/>
                  </a:lnTo>
                  <a:lnTo>
                    <a:pt x="5829" y="1137"/>
                  </a:lnTo>
                  <a:lnTo>
                    <a:pt x="5788" y="1160"/>
                  </a:lnTo>
                  <a:lnTo>
                    <a:pt x="5746" y="1185"/>
                  </a:lnTo>
                  <a:lnTo>
                    <a:pt x="5703" y="1208"/>
                  </a:lnTo>
                  <a:lnTo>
                    <a:pt x="5658" y="1230"/>
                  </a:lnTo>
                  <a:lnTo>
                    <a:pt x="5614" y="1254"/>
                  </a:lnTo>
                  <a:lnTo>
                    <a:pt x="5569" y="1276"/>
                  </a:lnTo>
                  <a:lnTo>
                    <a:pt x="5523" y="1299"/>
                  </a:lnTo>
                  <a:lnTo>
                    <a:pt x="5475" y="1321"/>
                  </a:lnTo>
                  <a:lnTo>
                    <a:pt x="5427" y="1343"/>
                  </a:lnTo>
                  <a:lnTo>
                    <a:pt x="5330" y="1387"/>
                  </a:lnTo>
                  <a:lnTo>
                    <a:pt x="5229" y="1430"/>
                  </a:lnTo>
                  <a:lnTo>
                    <a:pt x="5124" y="1472"/>
                  </a:lnTo>
                  <a:lnTo>
                    <a:pt x="5017" y="1513"/>
                  </a:lnTo>
                  <a:lnTo>
                    <a:pt x="4908" y="1553"/>
                  </a:lnTo>
                  <a:lnTo>
                    <a:pt x="4795" y="1593"/>
                  </a:lnTo>
                  <a:lnTo>
                    <a:pt x="4680" y="1631"/>
                  </a:lnTo>
                  <a:lnTo>
                    <a:pt x="4562" y="1669"/>
                  </a:lnTo>
                  <a:lnTo>
                    <a:pt x="4441" y="1706"/>
                  </a:lnTo>
                  <a:lnTo>
                    <a:pt x="4318" y="1741"/>
                  </a:lnTo>
                  <a:lnTo>
                    <a:pt x="4193" y="1776"/>
                  </a:lnTo>
                  <a:lnTo>
                    <a:pt x="4065" y="1810"/>
                  </a:lnTo>
                  <a:lnTo>
                    <a:pt x="3935" y="1842"/>
                  </a:lnTo>
                  <a:lnTo>
                    <a:pt x="3802" y="1874"/>
                  </a:lnTo>
                  <a:lnTo>
                    <a:pt x="3666" y="1904"/>
                  </a:lnTo>
                  <a:lnTo>
                    <a:pt x="3529" y="1934"/>
                  </a:lnTo>
                  <a:lnTo>
                    <a:pt x="3388" y="1961"/>
                  </a:lnTo>
                  <a:lnTo>
                    <a:pt x="3247" y="1989"/>
                  </a:lnTo>
                  <a:lnTo>
                    <a:pt x="3104" y="2014"/>
                  </a:lnTo>
                  <a:lnTo>
                    <a:pt x="2957" y="2040"/>
                  </a:lnTo>
                  <a:lnTo>
                    <a:pt x="2810" y="2063"/>
                  </a:lnTo>
                  <a:lnTo>
                    <a:pt x="2659" y="2085"/>
                  </a:lnTo>
                  <a:lnTo>
                    <a:pt x="2507" y="2107"/>
                  </a:lnTo>
                  <a:lnTo>
                    <a:pt x="2354" y="2127"/>
                  </a:lnTo>
                  <a:lnTo>
                    <a:pt x="2198" y="2145"/>
                  </a:lnTo>
                  <a:lnTo>
                    <a:pt x="2042" y="2163"/>
                  </a:lnTo>
                  <a:lnTo>
                    <a:pt x="1883" y="2179"/>
                  </a:lnTo>
                  <a:lnTo>
                    <a:pt x="1722" y="2194"/>
                  </a:lnTo>
                  <a:lnTo>
                    <a:pt x="1560" y="2207"/>
                  </a:lnTo>
                  <a:lnTo>
                    <a:pt x="1397" y="2220"/>
                  </a:lnTo>
                  <a:lnTo>
                    <a:pt x="1232" y="2231"/>
                  </a:lnTo>
                  <a:lnTo>
                    <a:pt x="1065" y="2240"/>
                  </a:lnTo>
                  <a:lnTo>
                    <a:pt x="898" y="2248"/>
                  </a:lnTo>
                  <a:lnTo>
                    <a:pt x="729" y="2254"/>
                  </a:lnTo>
                  <a:lnTo>
                    <a:pt x="558" y="2259"/>
                  </a:lnTo>
                  <a:lnTo>
                    <a:pt x="387" y="2263"/>
                  </a:lnTo>
                  <a:lnTo>
                    <a:pt x="214" y="2265"/>
                  </a:lnTo>
                  <a:lnTo>
                    <a:pt x="40" y="2266"/>
                  </a:lnTo>
                  <a:lnTo>
                    <a:pt x="40" y="2266"/>
                  </a:lnTo>
                  <a:lnTo>
                    <a:pt x="40" y="2266"/>
                  </a:lnTo>
                  <a:lnTo>
                    <a:pt x="31" y="2267"/>
                  </a:lnTo>
                  <a:lnTo>
                    <a:pt x="23" y="2270"/>
                  </a:lnTo>
                  <a:lnTo>
                    <a:pt x="16" y="2274"/>
                  </a:lnTo>
                  <a:lnTo>
                    <a:pt x="10" y="2280"/>
                  </a:lnTo>
                  <a:lnTo>
                    <a:pt x="6" y="2286"/>
                  </a:lnTo>
                  <a:lnTo>
                    <a:pt x="3" y="2293"/>
                  </a:lnTo>
                  <a:lnTo>
                    <a:pt x="1" y="2300"/>
                  </a:lnTo>
                  <a:lnTo>
                    <a:pt x="0" y="2307"/>
                  </a:lnTo>
                  <a:lnTo>
                    <a:pt x="1" y="2315"/>
                  </a:lnTo>
                  <a:lnTo>
                    <a:pt x="3" y="2322"/>
                  </a:lnTo>
                  <a:lnTo>
                    <a:pt x="6" y="2330"/>
                  </a:lnTo>
                  <a:lnTo>
                    <a:pt x="10" y="2336"/>
                  </a:lnTo>
                  <a:lnTo>
                    <a:pt x="16" y="2341"/>
                  </a:lnTo>
                  <a:lnTo>
                    <a:pt x="23" y="2345"/>
                  </a:lnTo>
                  <a:lnTo>
                    <a:pt x="31" y="2348"/>
                  </a:lnTo>
                  <a:lnTo>
                    <a:pt x="40" y="2349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4280" y="3885840"/>
              <a:ext cx="468360" cy="165240"/>
            </a:xfrm>
            <a:custGeom>
              <a:avLst/>
              <a:gdLst/>
              <a:ahLst/>
              <a:rect l="l" t="t" r="r" b="b"/>
              <a:pathLst>
                <a:path w="6784" h="2390">
                  <a:moveTo>
                    <a:pt x="0" y="41"/>
                  </a:moveTo>
                  <a:lnTo>
                    <a:pt x="0" y="41"/>
                  </a:lnTo>
                  <a:lnTo>
                    <a:pt x="1" y="72"/>
                  </a:lnTo>
                  <a:lnTo>
                    <a:pt x="2" y="104"/>
                  </a:lnTo>
                  <a:lnTo>
                    <a:pt x="5" y="135"/>
                  </a:lnTo>
                  <a:lnTo>
                    <a:pt x="9" y="166"/>
                  </a:lnTo>
                  <a:lnTo>
                    <a:pt x="14" y="197"/>
                  </a:lnTo>
                  <a:lnTo>
                    <a:pt x="20" y="227"/>
                  </a:lnTo>
                  <a:lnTo>
                    <a:pt x="28" y="259"/>
                  </a:lnTo>
                  <a:lnTo>
                    <a:pt x="37" y="289"/>
                  </a:lnTo>
                  <a:lnTo>
                    <a:pt x="46" y="319"/>
                  </a:lnTo>
                  <a:lnTo>
                    <a:pt x="57" y="349"/>
                  </a:lnTo>
                  <a:lnTo>
                    <a:pt x="68" y="380"/>
                  </a:lnTo>
                  <a:lnTo>
                    <a:pt x="81" y="409"/>
                  </a:lnTo>
                  <a:lnTo>
                    <a:pt x="96" y="439"/>
                  </a:lnTo>
                  <a:lnTo>
                    <a:pt x="110" y="468"/>
                  </a:lnTo>
                  <a:lnTo>
                    <a:pt x="126" y="498"/>
                  </a:lnTo>
                  <a:lnTo>
                    <a:pt x="143" y="527"/>
                  </a:lnTo>
                  <a:lnTo>
                    <a:pt x="161" y="556"/>
                  </a:lnTo>
                  <a:lnTo>
                    <a:pt x="180" y="585"/>
                  </a:lnTo>
                  <a:lnTo>
                    <a:pt x="199" y="614"/>
                  </a:lnTo>
                  <a:lnTo>
                    <a:pt x="221" y="642"/>
                  </a:lnTo>
                  <a:lnTo>
                    <a:pt x="243" y="671"/>
                  </a:lnTo>
                  <a:lnTo>
                    <a:pt x="266" y="699"/>
                  </a:lnTo>
                  <a:lnTo>
                    <a:pt x="289" y="727"/>
                  </a:lnTo>
                  <a:lnTo>
                    <a:pt x="314" y="755"/>
                  </a:lnTo>
                  <a:lnTo>
                    <a:pt x="340" y="783"/>
                  </a:lnTo>
                  <a:lnTo>
                    <a:pt x="366" y="810"/>
                  </a:lnTo>
                  <a:lnTo>
                    <a:pt x="394" y="838"/>
                  </a:lnTo>
                  <a:lnTo>
                    <a:pt x="422" y="864"/>
                  </a:lnTo>
                  <a:lnTo>
                    <a:pt x="452" y="892"/>
                  </a:lnTo>
                  <a:lnTo>
                    <a:pt x="482" y="918"/>
                  </a:lnTo>
                  <a:lnTo>
                    <a:pt x="514" y="945"/>
                  </a:lnTo>
                  <a:lnTo>
                    <a:pt x="545" y="971"/>
                  </a:lnTo>
                  <a:lnTo>
                    <a:pt x="579" y="998"/>
                  </a:lnTo>
                  <a:lnTo>
                    <a:pt x="612" y="1023"/>
                  </a:lnTo>
                  <a:lnTo>
                    <a:pt x="647" y="1050"/>
                  </a:lnTo>
                  <a:lnTo>
                    <a:pt x="683" y="1075"/>
                  </a:lnTo>
                  <a:lnTo>
                    <a:pt x="719" y="1100"/>
                  </a:lnTo>
                  <a:lnTo>
                    <a:pt x="757" y="1126"/>
                  </a:lnTo>
                  <a:lnTo>
                    <a:pt x="795" y="1150"/>
                  </a:lnTo>
                  <a:lnTo>
                    <a:pt x="833" y="1176"/>
                  </a:lnTo>
                  <a:lnTo>
                    <a:pt x="874" y="1200"/>
                  </a:lnTo>
                  <a:lnTo>
                    <a:pt x="915" y="1225"/>
                  </a:lnTo>
                  <a:lnTo>
                    <a:pt x="955" y="1249"/>
                  </a:lnTo>
                  <a:lnTo>
                    <a:pt x="998" y="1273"/>
                  </a:lnTo>
                  <a:lnTo>
                    <a:pt x="1041" y="1297"/>
                  </a:lnTo>
                  <a:lnTo>
                    <a:pt x="1084" y="1321"/>
                  </a:lnTo>
                  <a:lnTo>
                    <a:pt x="1129" y="1345"/>
                  </a:lnTo>
                  <a:lnTo>
                    <a:pt x="1175" y="1368"/>
                  </a:lnTo>
                  <a:lnTo>
                    <a:pt x="1221" y="1390"/>
                  </a:lnTo>
                  <a:lnTo>
                    <a:pt x="1269" y="1414"/>
                  </a:lnTo>
                  <a:lnTo>
                    <a:pt x="1315" y="1436"/>
                  </a:lnTo>
                  <a:lnTo>
                    <a:pt x="1364" y="1459"/>
                  </a:lnTo>
                  <a:lnTo>
                    <a:pt x="1464" y="1503"/>
                  </a:lnTo>
                  <a:lnTo>
                    <a:pt x="1566" y="1547"/>
                  </a:lnTo>
                  <a:lnTo>
                    <a:pt x="1671" y="1589"/>
                  </a:lnTo>
                  <a:lnTo>
                    <a:pt x="1779" y="1631"/>
                  </a:lnTo>
                  <a:lnTo>
                    <a:pt x="1890" y="1671"/>
                  </a:lnTo>
                  <a:lnTo>
                    <a:pt x="2004" y="1711"/>
                  </a:lnTo>
                  <a:lnTo>
                    <a:pt x="2120" y="1751"/>
                  </a:lnTo>
                  <a:lnTo>
                    <a:pt x="2239" y="1788"/>
                  </a:lnTo>
                  <a:lnTo>
                    <a:pt x="2361" y="1825"/>
                  </a:lnTo>
                  <a:lnTo>
                    <a:pt x="2485" y="1861"/>
                  </a:lnTo>
                  <a:lnTo>
                    <a:pt x="2611" y="1896"/>
                  </a:lnTo>
                  <a:lnTo>
                    <a:pt x="2741" y="1930"/>
                  </a:lnTo>
                  <a:lnTo>
                    <a:pt x="2872" y="1962"/>
                  </a:lnTo>
                  <a:lnTo>
                    <a:pt x="3006" y="1994"/>
                  </a:lnTo>
                  <a:lnTo>
                    <a:pt x="3142" y="2026"/>
                  </a:lnTo>
                  <a:lnTo>
                    <a:pt x="3281" y="2055"/>
                  </a:lnTo>
                  <a:lnTo>
                    <a:pt x="3421" y="2084"/>
                  </a:lnTo>
                  <a:lnTo>
                    <a:pt x="3564" y="2110"/>
                  </a:lnTo>
                  <a:lnTo>
                    <a:pt x="3708" y="2136"/>
                  </a:lnTo>
                  <a:lnTo>
                    <a:pt x="3856" y="2162"/>
                  </a:lnTo>
                  <a:lnTo>
                    <a:pt x="4004" y="2185"/>
                  </a:lnTo>
                  <a:lnTo>
                    <a:pt x="4155" y="2208"/>
                  </a:lnTo>
                  <a:lnTo>
                    <a:pt x="4307" y="2229"/>
                  </a:lnTo>
                  <a:lnTo>
                    <a:pt x="4462" y="2249"/>
                  </a:lnTo>
                  <a:lnTo>
                    <a:pt x="4618" y="2268"/>
                  </a:lnTo>
                  <a:lnTo>
                    <a:pt x="4776" y="2286"/>
                  </a:lnTo>
                  <a:lnTo>
                    <a:pt x="4936" y="2302"/>
                  </a:lnTo>
                  <a:lnTo>
                    <a:pt x="5097" y="2317"/>
                  </a:lnTo>
                  <a:lnTo>
                    <a:pt x="5260" y="2331"/>
                  </a:lnTo>
                  <a:lnTo>
                    <a:pt x="5423" y="2343"/>
                  </a:lnTo>
                  <a:lnTo>
                    <a:pt x="5589" y="2353"/>
                  </a:lnTo>
                  <a:lnTo>
                    <a:pt x="5756" y="2363"/>
                  </a:lnTo>
                  <a:lnTo>
                    <a:pt x="5925" y="2371"/>
                  </a:lnTo>
                  <a:lnTo>
                    <a:pt x="6095" y="2378"/>
                  </a:lnTo>
                  <a:lnTo>
                    <a:pt x="6266" y="2383"/>
                  </a:lnTo>
                  <a:lnTo>
                    <a:pt x="6438" y="2387"/>
                  </a:lnTo>
                  <a:lnTo>
                    <a:pt x="6611" y="2389"/>
                  </a:lnTo>
                  <a:lnTo>
                    <a:pt x="6784" y="2390"/>
                  </a:lnTo>
                  <a:lnTo>
                    <a:pt x="6784" y="2307"/>
                  </a:lnTo>
                  <a:lnTo>
                    <a:pt x="6612" y="2306"/>
                  </a:lnTo>
                  <a:lnTo>
                    <a:pt x="6439" y="2304"/>
                  </a:lnTo>
                  <a:lnTo>
                    <a:pt x="6268" y="2300"/>
                  </a:lnTo>
                  <a:lnTo>
                    <a:pt x="6097" y="2295"/>
                  </a:lnTo>
                  <a:lnTo>
                    <a:pt x="5928" y="2289"/>
                  </a:lnTo>
                  <a:lnTo>
                    <a:pt x="5760" y="2281"/>
                  </a:lnTo>
                  <a:lnTo>
                    <a:pt x="5594" y="2272"/>
                  </a:lnTo>
                  <a:lnTo>
                    <a:pt x="5429" y="2261"/>
                  </a:lnTo>
                  <a:lnTo>
                    <a:pt x="5266" y="2248"/>
                  </a:lnTo>
                  <a:lnTo>
                    <a:pt x="5104" y="2235"/>
                  </a:lnTo>
                  <a:lnTo>
                    <a:pt x="4943" y="2220"/>
                  </a:lnTo>
                  <a:lnTo>
                    <a:pt x="4784" y="2204"/>
                  </a:lnTo>
                  <a:lnTo>
                    <a:pt x="4628" y="2186"/>
                  </a:lnTo>
                  <a:lnTo>
                    <a:pt x="4472" y="2168"/>
                  </a:lnTo>
                  <a:lnTo>
                    <a:pt x="4319" y="2148"/>
                  </a:lnTo>
                  <a:lnTo>
                    <a:pt x="4167" y="2126"/>
                  </a:lnTo>
                  <a:lnTo>
                    <a:pt x="4016" y="2104"/>
                  </a:lnTo>
                  <a:lnTo>
                    <a:pt x="3869" y="2081"/>
                  </a:lnTo>
                  <a:lnTo>
                    <a:pt x="3722" y="2055"/>
                  </a:lnTo>
                  <a:lnTo>
                    <a:pt x="3579" y="2030"/>
                  </a:lnTo>
                  <a:lnTo>
                    <a:pt x="3436" y="2002"/>
                  </a:lnTo>
                  <a:lnTo>
                    <a:pt x="3297" y="1975"/>
                  </a:lnTo>
                  <a:lnTo>
                    <a:pt x="3160" y="1945"/>
                  </a:lnTo>
                  <a:lnTo>
                    <a:pt x="3024" y="1915"/>
                  </a:lnTo>
                  <a:lnTo>
                    <a:pt x="2891" y="1883"/>
                  </a:lnTo>
                  <a:lnTo>
                    <a:pt x="2761" y="1851"/>
                  </a:lnTo>
                  <a:lnTo>
                    <a:pt x="2633" y="1817"/>
                  </a:lnTo>
                  <a:lnTo>
                    <a:pt x="2507" y="1782"/>
                  </a:lnTo>
                  <a:lnTo>
                    <a:pt x="2384" y="1747"/>
                  </a:lnTo>
                  <a:lnTo>
                    <a:pt x="2264" y="1710"/>
                  </a:lnTo>
                  <a:lnTo>
                    <a:pt x="2146" y="1672"/>
                  </a:lnTo>
                  <a:lnTo>
                    <a:pt x="2031" y="1634"/>
                  </a:lnTo>
                  <a:lnTo>
                    <a:pt x="1918" y="1594"/>
                  </a:lnTo>
                  <a:lnTo>
                    <a:pt x="1808" y="1554"/>
                  </a:lnTo>
                  <a:lnTo>
                    <a:pt x="1701" y="1513"/>
                  </a:lnTo>
                  <a:lnTo>
                    <a:pt x="1597" y="1471"/>
                  </a:lnTo>
                  <a:lnTo>
                    <a:pt x="1496" y="1428"/>
                  </a:lnTo>
                  <a:lnTo>
                    <a:pt x="1399" y="1384"/>
                  </a:lnTo>
                  <a:lnTo>
                    <a:pt x="1351" y="1362"/>
                  </a:lnTo>
                  <a:lnTo>
                    <a:pt x="1303" y="1340"/>
                  </a:lnTo>
                  <a:lnTo>
                    <a:pt x="1257" y="1317"/>
                  </a:lnTo>
                  <a:lnTo>
                    <a:pt x="1212" y="1295"/>
                  </a:lnTo>
                  <a:lnTo>
                    <a:pt x="1167" y="1271"/>
                  </a:lnTo>
                  <a:lnTo>
                    <a:pt x="1123" y="1249"/>
                  </a:lnTo>
                  <a:lnTo>
                    <a:pt x="1080" y="1226"/>
                  </a:lnTo>
                  <a:lnTo>
                    <a:pt x="1038" y="1201"/>
                  </a:lnTo>
                  <a:lnTo>
                    <a:pt x="997" y="1178"/>
                  </a:lnTo>
                  <a:lnTo>
                    <a:pt x="956" y="1154"/>
                  </a:lnTo>
                  <a:lnTo>
                    <a:pt x="917" y="1130"/>
                  </a:lnTo>
                  <a:lnTo>
                    <a:pt x="877" y="1107"/>
                  </a:lnTo>
                  <a:lnTo>
                    <a:pt x="839" y="1082"/>
                  </a:lnTo>
                  <a:lnTo>
                    <a:pt x="802" y="1058"/>
                  </a:lnTo>
                  <a:lnTo>
                    <a:pt x="766" y="1033"/>
                  </a:lnTo>
                  <a:lnTo>
                    <a:pt x="730" y="1008"/>
                  </a:lnTo>
                  <a:lnTo>
                    <a:pt x="696" y="983"/>
                  </a:lnTo>
                  <a:lnTo>
                    <a:pt x="662" y="958"/>
                  </a:lnTo>
                  <a:lnTo>
                    <a:pt x="629" y="932"/>
                  </a:lnTo>
                  <a:lnTo>
                    <a:pt x="597" y="907"/>
                  </a:lnTo>
                  <a:lnTo>
                    <a:pt x="567" y="882"/>
                  </a:lnTo>
                  <a:lnTo>
                    <a:pt x="536" y="856"/>
                  </a:lnTo>
                  <a:lnTo>
                    <a:pt x="507" y="831"/>
                  </a:lnTo>
                  <a:lnTo>
                    <a:pt x="478" y="804"/>
                  </a:lnTo>
                  <a:lnTo>
                    <a:pt x="452" y="779"/>
                  </a:lnTo>
                  <a:lnTo>
                    <a:pt x="425" y="752"/>
                  </a:lnTo>
                  <a:lnTo>
                    <a:pt x="400" y="726"/>
                  </a:lnTo>
                  <a:lnTo>
                    <a:pt x="375" y="699"/>
                  </a:lnTo>
                  <a:lnTo>
                    <a:pt x="351" y="673"/>
                  </a:lnTo>
                  <a:lnTo>
                    <a:pt x="329" y="647"/>
                  </a:lnTo>
                  <a:lnTo>
                    <a:pt x="307" y="620"/>
                  </a:lnTo>
                  <a:lnTo>
                    <a:pt x="287" y="594"/>
                  </a:lnTo>
                  <a:lnTo>
                    <a:pt x="267" y="566"/>
                  </a:lnTo>
                  <a:lnTo>
                    <a:pt x="248" y="540"/>
                  </a:lnTo>
                  <a:lnTo>
                    <a:pt x="230" y="512"/>
                  </a:lnTo>
                  <a:lnTo>
                    <a:pt x="214" y="485"/>
                  </a:lnTo>
                  <a:lnTo>
                    <a:pt x="197" y="458"/>
                  </a:lnTo>
                  <a:lnTo>
                    <a:pt x="183" y="431"/>
                  </a:lnTo>
                  <a:lnTo>
                    <a:pt x="169" y="403"/>
                  </a:lnTo>
                  <a:lnTo>
                    <a:pt x="157" y="376"/>
                  </a:lnTo>
                  <a:lnTo>
                    <a:pt x="144" y="348"/>
                  </a:lnTo>
                  <a:lnTo>
                    <a:pt x="134" y="321"/>
                  </a:lnTo>
                  <a:lnTo>
                    <a:pt x="124" y="293"/>
                  </a:lnTo>
                  <a:lnTo>
                    <a:pt x="115" y="266"/>
                  </a:lnTo>
                  <a:lnTo>
                    <a:pt x="108" y="237"/>
                  </a:lnTo>
                  <a:lnTo>
                    <a:pt x="101" y="210"/>
                  </a:lnTo>
                  <a:lnTo>
                    <a:pt x="96" y="182"/>
                  </a:lnTo>
                  <a:lnTo>
                    <a:pt x="91" y="154"/>
                  </a:lnTo>
                  <a:lnTo>
                    <a:pt x="86" y="126"/>
                  </a:lnTo>
                  <a:lnTo>
                    <a:pt x="84" y="98"/>
                  </a:lnTo>
                  <a:lnTo>
                    <a:pt x="82" y="69"/>
                  </a:lnTo>
                  <a:lnTo>
                    <a:pt x="82" y="41"/>
                  </a:lnTo>
                  <a:lnTo>
                    <a:pt x="82" y="41"/>
                  </a:lnTo>
                  <a:lnTo>
                    <a:pt x="82" y="41"/>
                  </a:lnTo>
                  <a:lnTo>
                    <a:pt x="81" y="32"/>
                  </a:lnTo>
                  <a:lnTo>
                    <a:pt x="78" y="24"/>
                  </a:lnTo>
                  <a:lnTo>
                    <a:pt x="74" y="17"/>
                  </a:lnTo>
                  <a:lnTo>
                    <a:pt x="69" y="10"/>
                  </a:lnTo>
                  <a:lnTo>
                    <a:pt x="63" y="6"/>
                  </a:lnTo>
                  <a:lnTo>
                    <a:pt x="56" y="2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6" y="2"/>
                  </a:lnTo>
                  <a:lnTo>
                    <a:pt x="19" y="6"/>
                  </a:lnTo>
                  <a:lnTo>
                    <a:pt x="13" y="10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1" y="3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4280" y="3727440"/>
              <a:ext cx="471600" cy="161640"/>
            </a:xfrm>
            <a:custGeom>
              <a:avLst/>
              <a:gdLst/>
              <a:ahLst/>
              <a:rect l="l" t="t" r="r" b="b"/>
              <a:pathLst>
                <a:path w="6826" h="2348">
                  <a:moveTo>
                    <a:pt x="6784" y="0"/>
                  </a:moveTo>
                  <a:lnTo>
                    <a:pt x="6784" y="0"/>
                  </a:lnTo>
                  <a:lnTo>
                    <a:pt x="6611" y="1"/>
                  </a:lnTo>
                  <a:lnTo>
                    <a:pt x="6438" y="3"/>
                  </a:lnTo>
                  <a:lnTo>
                    <a:pt x="6266" y="7"/>
                  </a:lnTo>
                  <a:lnTo>
                    <a:pt x="6095" y="12"/>
                  </a:lnTo>
                  <a:lnTo>
                    <a:pt x="5925" y="18"/>
                  </a:lnTo>
                  <a:lnTo>
                    <a:pt x="5756" y="26"/>
                  </a:lnTo>
                  <a:lnTo>
                    <a:pt x="5589" y="37"/>
                  </a:lnTo>
                  <a:lnTo>
                    <a:pt x="5423" y="47"/>
                  </a:lnTo>
                  <a:lnTo>
                    <a:pt x="5260" y="59"/>
                  </a:lnTo>
                  <a:lnTo>
                    <a:pt x="5097" y="73"/>
                  </a:lnTo>
                  <a:lnTo>
                    <a:pt x="4936" y="88"/>
                  </a:lnTo>
                  <a:lnTo>
                    <a:pt x="4776" y="104"/>
                  </a:lnTo>
                  <a:lnTo>
                    <a:pt x="4618" y="122"/>
                  </a:lnTo>
                  <a:lnTo>
                    <a:pt x="4462" y="140"/>
                  </a:lnTo>
                  <a:lnTo>
                    <a:pt x="4307" y="161"/>
                  </a:lnTo>
                  <a:lnTo>
                    <a:pt x="4155" y="182"/>
                  </a:lnTo>
                  <a:lnTo>
                    <a:pt x="4004" y="205"/>
                  </a:lnTo>
                  <a:lnTo>
                    <a:pt x="3856" y="228"/>
                  </a:lnTo>
                  <a:lnTo>
                    <a:pt x="3708" y="253"/>
                  </a:lnTo>
                  <a:lnTo>
                    <a:pt x="3564" y="280"/>
                  </a:lnTo>
                  <a:lnTo>
                    <a:pt x="3421" y="306"/>
                  </a:lnTo>
                  <a:lnTo>
                    <a:pt x="3281" y="335"/>
                  </a:lnTo>
                  <a:lnTo>
                    <a:pt x="3142" y="364"/>
                  </a:lnTo>
                  <a:lnTo>
                    <a:pt x="3006" y="395"/>
                  </a:lnTo>
                  <a:lnTo>
                    <a:pt x="2872" y="427"/>
                  </a:lnTo>
                  <a:lnTo>
                    <a:pt x="2741" y="460"/>
                  </a:lnTo>
                  <a:lnTo>
                    <a:pt x="2611" y="494"/>
                  </a:lnTo>
                  <a:lnTo>
                    <a:pt x="2485" y="528"/>
                  </a:lnTo>
                  <a:lnTo>
                    <a:pt x="2361" y="565"/>
                  </a:lnTo>
                  <a:lnTo>
                    <a:pt x="2239" y="601"/>
                  </a:lnTo>
                  <a:lnTo>
                    <a:pt x="2120" y="639"/>
                  </a:lnTo>
                  <a:lnTo>
                    <a:pt x="2004" y="678"/>
                  </a:lnTo>
                  <a:lnTo>
                    <a:pt x="1890" y="719"/>
                  </a:lnTo>
                  <a:lnTo>
                    <a:pt x="1779" y="759"/>
                  </a:lnTo>
                  <a:lnTo>
                    <a:pt x="1671" y="801"/>
                  </a:lnTo>
                  <a:lnTo>
                    <a:pt x="1566" y="843"/>
                  </a:lnTo>
                  <a:lnTo>
                    <a:pt x="1464" y="886"/>
                  </a:lnTo>
                  <a:lnTo>
                    <a:pt x="1364" y="931"/>
                  </a:lnTo>
                  <a:lnTo>
                    <a:pt x="1315" y="954"/>
                  </a:lnTo>
                  <a:lnTo>
                    <a:pt x="1269" y="976"/>
                  </a:lnTo>
                  <a:lnTo>
                    <a:pt x="1221" y="999"/>
                  </a:lnTo>
                  <a:lnTo>
                    <a:pt x="1175" y="1022"/>
                  </a:lnTo>
                  <a:lnTo>
                    <a:pt x="1129" y="1045"/>
                  </a:lnTo>
                  <a:lnTo>
                    <a:pt x="1084" y="1069"/>
                  </a:lnTo>
                  <a:lnTo>
                    <a:pt x="1041" y="1093"/>
                  </a:lnTo>
                  <a:lnTo>
                    <a:pt x="998" y="1116"/>
                  </a:lnTo>
                  <a:lnTo>
                    <a:pt x="955" y="1141"/>
                  </a:lnTo>
                  <a:lnTo>
                    <a:pt x="915" y="1165"/>
                  </a:lnTo>
                  <a:lnTo>
                    <a:pt x="874" y="1190"/>
                  </a:lnTo>
                  <a:lnTo>
                    <a:pt x="833" y="1214"/>
                  </a:lnTo>
                  <a:lnTo>
                    <a:pt x="795" y="1240"/>
                  </a:lnTo>
                  <a:lnTo>
                    <a:pt x="757" y="1264"/>
                  </a:lnTo>
                  <a:lnTo>
                    <a:pt x="719" y="1289"/>
                  </a:lnTo>
                  <a:lnTo>
                    <a:pt x="683" y="1315"/>
                  </a:lnTo>
                  <a:lnTo>
                    <a:pt x="647" y="1340"/>
                  </a:lnTo>
                  <a:lnTo>
                    <a:pt x="612" y="1367"/>
                  </a:lnTo>
                  <a:lnTo>
                    <a:pt x="579" y="1392"/>
                  </a:lnTo>
                  <a:lnTo>
                    <a:pt x="545" y="1419"/>
                  </a:lnTo>
                  <a:lnTo>
                    <a:pt x="514" y="1445"/>
                  </a:lnTo>
                  <a:lnTo>
                    <a:pt x="482" y="1472"/>
                  </a:lnTo>
                  <a:lnTo>
                    <a:pt x="452" y="1498"/>
                  </a:lnTo>
                  <a:lnTo>
                    <a:pt x="422" y="1526"/>
                  </a:lnTo>
                  <a:lnTo>
                    <a:pt x="394" y="1553"/>
                  </a:lnTo>
                  <a:lnTo>
                    <a:pt x="366" y="1580"/>
                  </a:lnTo>
                  <a:lnTo>
                    <a:pt x="340" y="1607"/>
                  </a:lnTo>
                  <a:lnTo>
                    <a:pt x="314" y="1635"/>
                  </a:lnTo>
                  <a:lnTo>
                    <a:pt x="289" y="1663"/>
                  </a:lnTo>
                  <a:lnTo>
                    <a:pt x="266" y="1690"/>
                  </a:lnTo>
                  <a:lnTo>
                    <a:pt x="243" y="1719"/>
                  </a:lnTo>
                  <a:lnTo>
                    <a:pt x="221" y="1747"/>
                  </a:lnTo>
                  <a:lnTo>
                    <a:pt x="199" y="1776"/>
                  </a:lnTo>
                  <a:lnTo>
                    <a:pt x="180" y="1804"/>
                  </a:lnTo>
                  <a:lnTo>
                    <a:pt x="161" y="1834"/>
                  </a:lnTo>
                  <a:lnTo>
                    <a:pt x="143" y="1862"/>
                  </a:lnTo>
                  <a:lnTo>
                    <a:pt x="126" y="1892"/>
                  </a:lnTo>
                  <a:lnTo>
                    <a:pt x="110" y="1922"/>
                  </a:lnTo>
                  <a:lnTo>
                    <a:pt x="96" y="1951"/>
                  </a:lnTo>
                  <a:lnTo>
                    <a:pt x="81" y="1981"/>
                  </a:lnTo>
                  <a:lnTo>
                    <a:pt x="68" y="2010"/>
                  </a:lnTo>
                  <a:lnTo>
                    <a:pt x="57" y="2041"/>
                  </a:lnTo>
                  <a:lnTo>
                    <a:pt x="46" y="2070"/>
                  </a:lnTo>
                  <a:lnTo>
                    <a:pt x="37" y="2101"/>
                  </a:lnTo>
                  <a:lnTo>
                    <a:pt x="28" y="2131"/>
                  </a:lnTo>
                  <a:lnTo>
                    <a:pt x="20" y="2162"/>
                  </a:lnTo>
                  <a:lnTo>
                    <a:pt x="14" y="2193"/>
                  </a:lnTo>
                  <a:lnTo>
                    <a:pt x="9" y="2224"/>
                  </a:lnTo>
                  <a:lnTo>
                    <a:pt x="5" y="2254"/>
                  </a:lnTo>
                  <a:lnTo>
                    <a:pt x="2" y="2286"/>
                  </a:lnTo>
                  <a:lnTo>
                    <a:pt x="1" y="2317"/>
                  </a:lnTo>
                  <a:lnTo>
                    <a:pt x="0" y="2348"/>
                  </a:lnTo>
                  <a:lnTo>
                    <a:pt x="82" y="2348"/>
                  </a:lnTo>
                  <a:lnTo>
                    <a:pt x="82" y="2320"/>
                  </a:lnTo>
                  <a:lnTo>
                    <a:pt x="84" y="2292"/>
                  </a:lnTo>
                  <a:lnTo>
                    <a:pt x="86" y="2263"/>
                  </a:lnTo>
                  <a:lnTo>
                    <a:pt x="91" y="2236"/>
                  </a:lnTo>
                  <a:lnTo>
                    <a:pt x="96" y="2207"/>
                  </a:lnTo>
                  <a:lnTo>
                    <a:pt x="101" y="2180"/>
                  </a:lnTo>
                  <a:lnTo>
                    <a:pt x="108" y="2153"/>
                  </a:lnTo>
                  <a:lnTo>
                    <a:pt x="115" y="2124"/>
                  </a:lnTo>
                  <a:lnTo>
                    <a:pt x="124" y="2097"/>
                  </a:lnTo>
                  <a:lnTo>
                    <a:pt x="134" y="2069"/>
                  </a:lnTo>
                  <a:lnTo>
                    <a:pt x="144" y="2042"/>
                  </a:lnTo>
                  <a:lnTo>
                    <a:pt x="157" y="2014"/>
                  </a:lnTo>
                  <a:lnTo>
                    <a:pt x="169" y="1987"/>
                  </a:lnTo>
                  <a:lnTo>
                    <a:pt x="183" y="1959"/>
                  </a:lnTo>
                  <a:lnTo>
                    <a:pt x="197" y="1932"/>
                  </a:lnTo>
                  <a:lnTo>
                    <a:pt x="214" y="1904"/>
                  </a:lnTo>
                  <a:lnTo>
                    <a:pt x="230" y="1878"/>
                  </a:lnTo>
                  <a:lnTo>
                    <a:pt x="248" y="1850"/>
                  </a:lnTo>
                  <a:lnTo>
                    <a:pt x="267" y="1824"/>
                  </a:lnTo>
                  <a:lnTo>
                    <a:pt x="287" y="1797"/>
                  </a:lnTo>
                  <a:lnTo>
                    <a:pt x="307" y="1770"/>
                  </a:lnTo>
                  <a:lnTo>
                    <a:pt x="329" y="1743"/>
                  </a:lnTo>
                  <a:lnTo>
                    <a:pt x="351" y="1717"/>
                  </a:lnTo>
                  <a:lnTo>
                    <a:pt x="375" y="1690"/>
                  </a:lnTo>
                  <a:lnTo>
                    <a:pt x="400" y="1664"/>
                  </a:lnTo>
                  <a:lnTo>
                    <a:pt x="425" y="1638"/>
                  </a:lnTo>
                  <a:lnTo>
                    <a:pt x="452" y="1611"/>
                  </a:lnTo>
                  <a:lnTo>
                    <a:pt x="478" y="1586"/>
                  </a:lnTo>
                  <a:lnTo>
                    <a:pt x="507" y="1559"/>
                  </a:lnTo>
                  <a:lnTo>
                    <a:pt x="536" y="1534"/>
                  </a:lnTo>
                  <a:lnTo>
                    <a:pt x="567" y="1508"/>
                  </a:lnTo>
                  <a:lnTo>
                    <a:pt x="597" y="1483"/>
                  </a:lnTo>
                  <a:lnTo>
                    <a:pt x="629" y="1457"/>
                  </a:lnTo>
                  <a:lnTo>
                    <a:pt x="662" y="1432"/>
                  </a:lnTo>
                  <a:lnTo>
                    <a:pt x="696" y="1407"/>
                  </a:lnTo>
                  <a:lnTo>
                    <a:pt x="730" y="1382"/>
                  </a:lnTo>
                  <a:lnTo>
                    <a:pt x="766" y="1358"/>
                  </a:lnTo>
                  <a:lnTo>
                    <a:pt x="802" y="1332"/>
                  </a:lnTo>
                  <a:lnTo>
                    <a:pt x="839" y="1308"/>
                  </a:lnTo>
                  <a:lnTo>
                    <a:pt x="877" y="1283"/>
                  </a:lnTo>
                  <a:lnTo>
                    <a:pt x="917" y="1260"/>
                  </a:lnTo>
                  <a:lnTo>
                    <a:pt x="956" y="1236"/>
                  </a:lnTo>
                  <a:lnTo>
                    <a:pt x="997" y="1212"/>
                  </a:lnTo>
                  <a:lnTo>
                    <a:pt x="1038" y="1189"/>
                  </a:lnTo>
                  <a:lnTo>
                    <a:pt x="1080" y="1164"/>
                  </a:lnTo>
                  <a:lnTo>
                    <a:pt x="1123" y="1141"/>
                  </a:lnTo>
                  <a:lnTo>
                    <a:pt x="1167" y="1119"/>
                  </a:lnTo>
                  <a:lnTo>
                    <a:pt x="1212" y="1095"/>
                  </a:lnTo>
                  <a:lnTo>
                    <a:pt x="1257" y="1073"/>
                  </a:lnTo>
                  <a:lnTo>
                    <a:pt x="1303" y="1050"/>
                  </a:lnTo>
                  <a:lnTo>
                    <a:pt x="1351" y="1028"/>
                  </a:lnTo>
                  <a:lnTo>
                    <a:pt x="1399" y="1006"/>
                  </a:lnTo>
                  <a:lnTo>
                    <a:pt x="1496" y="962"/>
                  </a:lnTo>
                  <a:lnTo>
                    <a:pt x="1597" y="919"/>
                  </a:lnTo>
                  <a:lnTo>
                    <a:pt x="1701" y="877"/>
                  </a:lnTo>
                  <a:lnTo>
                    <a:pt x="1808" y="836"/>
                  </a:lnTo>
                  <a:lnTo>
                    <a:pt x="1918" y="796"/>
                  </a:lnTo>
                  <a:lnTo>
                    <a:pt x="2031" y="756"/>
                  </a:lnTo>
                  <a:lnTo>
                    <a:pt x="2146" y="718"/>
                  </a:lnTo>
                  <a:lnTo>
                    <a:pt x="2264" y="680"/>
                  </a:lnTo>
                  <a:lnTo>
                    <a:pt x="2384" y="643"/>
                  </a:lnTo>
                  <a:lnTo>
                    <a:pt x="2507" y="608"/>
                  </a:lnTo>
                  <a:lnTo>
                    <a:pt x="2633" y="573"/>
                  </a:lnTo>
                  <a:lnTo>
                    <a:pt x="2761" y="539"/>
                  </a:lnTo>
                  <a:lnTo>
                    <a:pt x="2891" y="507"/>
                  </a:lnTo>
                  <a:lnTo>
                    <a:pt x="3024" y="475"/>
                  </a:lnTo>
                  <a:lnTo>
                    <a:pt x="3160" y="445"/>
                  </a:lnTo>
                  <a:lnTo>
                    <a:pt x="3297" y="415"/>
                  </a:lnTo>
                  <a:lnTo>
                    <a:pt x="3436" y="388"/>
                  </a:lnTo>
                  <a:lnTo>
                    <a:pt x="3579" y="360"/>
                  </a:lnTo>
                  <a:lnTo>
                    <a:pt x="3722" y="335"/>
                  </a:lnTo>
                  <a:lnTo>
                    <a:pt x="3869" y="309"/>
                  </a:lnTo>
                  <a:lnTo>
                    <a:pt x="4016" y="286"/>
                  </a:lnTo>
                  <a:lnTo>
                    <a:pt x="4167" y="264"/>
                  </a:lnTo>
                  <a:lnTo>
                    <a:pt x="4319" y="242"/>
                  </a:lnTo>
                  <a:lnTo>
                    <a:pt x="4472" y="222"/>
                  </a:lnTo>
                  <a:lnTo>
                    <a:pt x="4628" y="204"/>
                  </a:lnTo>
                  <a:lnTo>
                    <a:pt x="4784" y="186"/>
                  </a:lnTo>
                  <a:lnTo>
                    <a:pt x="4943" y="170"/>
                  </a:lnTo>
                  <a:lnTo>
                    <a:pt x="5104" y="155"/>
                  </a:lnTo>
                  <a:lnTo>
                    <a:pt x="5266" y="141"/>
                  </a:lnTo>
                  <a:lnTo>
                    <a:pt x="5429" y="129"/>
                  </a:lnTo>
                  <a:lnTo>
                    <a:pt x="5594" y="118"/>
                  </a:lnTo>
                  <a:lnTo>
                    <a:pt x="5760" y="109"/>
                  </a:lnTo>
                  <a:lnTo>
                    <a:pt x="5928" y="101"/>
                  </a:lnTo>
                  <a:lnTo>
                    <a:pt x="6097" y="95"/>
                  </a:lnTo>
                  <a:lnTo>
                    <a:pt x="6268" y="89"/>
                  </a:lnTo>
                  <a:lnTo>
                    <a:pt x="6439" y="85"/>
                  </a:lnTo>
                  <a:lnTo>
                    <a:pt x="6612" y="83"/>
                  </a:lnTo>
                  <a:lnTo>
                    <a:pt x="6784" y="82"/>
                  </a:lnTo>
                  <a:lnTo>
                    <a:pt x="6784" y="82"/>
                  </a:lnTo>
                  <a:lnTo>
                    <a:pt x="6784" y="82"/>
                  </a:lnTo>
                  <a:lnTo>
                    <a:pt x="6795" y="81"/>
                  </a:lnTo>
                  <a:lnTo>
                    <a:pt x="6803" y="79"/>
                  </a:lnTo>
                  <a:lnTo>
                    <a:pt x="6810" y="75"/>
                  </a:lnTo>
                  <a:lnTo>
                    <a:pt x="6816" y="69"/>
                  </a:lnTo>
                  <a:lnTo>
                    <a:pt x="6820" y="63"/>
                  </a:lnTo>
                  <a:lnTo>
                    <a:pt x="6823" y="56"/>
                  </a:lnTo>
                  <a:lnTo>
                    <a:pt x="6825" y="49"/>
                  </a:lnTo>
                  <a:lnTo>
                    <a:pt x="6826" y="41"/>
                  </a:lnTo>
                  <a:lnTo>
                    <a:pt x="6825" y="34"/>
                  </a:lnTo>
                  <a:lnTo>
                    <a:pt x="6823" y="26"/>
                  </a:lnTo>
                  <a:lnTo>
                    <a:pt x="6820" y="19"/>
                  </a:lnTo>
                  <a:lnTo>
                    <a:pt x="6816" y="13"/>
                  </a:lnTo>
                  <a:lnTo>
                    <a:pt x="6810" y="8"/>
                  </a:lnTo>
                  <a:lnTo>
                    <a:pt x="6803" y="4"/>
                  </a:lnTo>
                  <a:lnTo>
                    <a:pt x="6795" y="1"/>
                  </a:lnTo>
                  <a:lnTo>
                    <a:pt x="6784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82640" y="3727440"/>
              <a:ext cx="468360" cy="161640"/>
            </a:xfrm>
            <a:custGeom>
              <a:avLst/>
              <a:gdLst/>
              <a:ahLst/>
              <a:rect l="l" t="t" r="r" b="b"/>
              <a:pathLst>
                <a:path w="6786" h="2348">
                  <a:moveTo>
                    <a:pt x="6786" y="2348"/>
                  </a:moveTo>
                  <a:lnTo>
                    <a:pt x="6785" y="2317"/>
                  </a:lnTo>
                  <a:lnTo>
                    <a:pt x="6784" y="2286"/>
                  </a:lnTo>
                  <a:lnTo>
                    <a:pt x="6781" y="2254"/>
                  </a:lnTo>
                  <a:lnTo>
                    <a:pt x="6777" y="2224"/>
                  </a:lnTo>
                  <a:lnTo>
                    <a:pt x="6772" y="2193"/>
                  </a:lnTo>
                  <a:lnTo>
                    <a:pt x="6766" y="2162"/>
                  </a:lnTo>
                  <a:lnTo>
                    <a:pt x="6758" y="2131"/>
                  </a:lnTo>
                  <a:lnTo>
                    <a:pt x="6749" y="2101"/>
                  </a:lnTo>
                  <a:lnTo>
                    <a:pt x="6739" y="2070"/>
                  </a:lnTo>
                  <a:lnTo>
                    <a:pt x="6729" y="2041"/>
                  </a:lnTo>
                  <a:lnTo>
                    <a:pt x="6718" y="2010"/>
                  </a:lnTo>
                  <a:lnTo>
                    <a:pt x="6705" y="1981"/>
                  </a:lnTo>
                  <a:lnTo>
                    <a:pt x="6690" y="1951"/>
                  </a:lnTo>
                  <a:lnTo>
                    <a:pt x="6676" y="1922"/>
                  </a:lnTo>
                  <a:lnTo>
                    <a:pt x="6660" y="1892"/>
                  </a:lnTo>
                  <a:lnTo>
                    <a:pt x="6643" y="1862"/>
                  </a:lnTo>
                  <a:lnTo>
                    <a:pt x="6625" y="1834"/>
                  </a:lnTo>
                  <a:lnTo>
                    <a:pt x="6606" y="1804"/>
                  </a:lnTo>
                  <a:lnTo>
                    <a:pt x="6587" y="1776"/>
                  </a:lnTo>
                  <a:lnTo>
                    <a:pt x="6565" y="1747"/>
                  </a:lnTo>
                  <a:lnTo>
                    <a:pt x="6543" y="1719"/>
                  </a:lnTo>
                  <a:lnTo>
                    <a:pt x="6520" y="1690"/>
                  </a:lnTo>
                  <a:lnTo>
                    <a:pt x="6497" y="1663"/>
                  </a:lnTo>
                  <a:lnTo>
                    <a:pt x="6472" y="1635"/>
                  </a:lnTo>
                  <a:lnTo>
                    <a:pt x="6446" y="1607"/>
                  </a:lnTo>
                  <a:lnTo>
                    <a:pt x="6420" y="1580"/>
                  </a:lnTo>
                  <a:lnTo>
                    <a:pt x="6392" y="1553"/>
                  </a:lnTo>
                  <a:lnTo>
                    <a:pt x="6363" y="1526"/>
                  </a:lnTo>
                  <a:lnTo>
                    <a:pt x="6334" y="1498"/>
                  </a:lnTo>
                  <a:lnTo>
                    <a:pt x="6304" y="1472"/>
                  </a:lnTo>
                  <a:lnTo>
                    <a:pt x="6272" y="1445"/>
                  </a:lnTo>
                  <a:lnTo>
                    <a:pt x="6241" y="1419"/>
                  </a:lnTo>
                  <a:lnTo>
                    <a:pt x="6207" y="1392"/>
                  </a:lnTo>
                  <a:lnTo>
                    <a:pt x="6174" y="1367"/>
                  </a:lnTo>
                  <a:lnTo>
                    <a:pt x="6139" y="1340"/>
                  </a:lnTo>
                  <a:lnTo>
                    <a:pt x="6103" y="1315"/>
                  </a:lnTo>
                  <a:lnTo>
                    <a:pt x="6067" y="1289"/>
                  </a:lnTo>
                  <a:lnTo>
                    <a:pt x="6029" y="1264"/>
                  </a:lnTo>
                  <a:lnTo>
                    <a:pt x="5991" y="1240"/>
                  </a:lnTo>
                  <a:lnTo>
                    <a:pt x="5952" y="1214"/>
                  </a:lnTo>
                  <a:lnTo>
                    <a:pt x="5912" y="1190"/>
                  </a:lnTo>
                  <a:lnTo>
                    <a:pt x="5871" y="1165"/>
                  </a:lnTo>
                  <a:lnTo>
                    <a:pt x="5831" y="1141"/>
                  </a:lnTo>
                  <a:lnTo>
                    <a:pt x="5788" y="1116"/>
                  </a:lnTo>
                  <a:lnTo>
                    <a:pt x="5745" y="1093"/>
                  </a:lnTo>
                  <a:lnTo>
                    <a:pt x="5702" y="1069"/>
                  </a:lnTo>
                  <a:lnTo>
                    <a:pt x="5657" y="1045"/>
                  </a:lnTo>
                  <a:lnTo>
                    <a:pt x="5611" y="1022"/>
                  </a:lnTo>
                  <a:lnTo>
                    <a:pt x="5517" y="976"/>
                  </a:lnTo>
                  <a:lnTo>
                    <a:pt x="5422" y="931"/>
                  </a:lnTo>
                  <a:lnTo>
                    <a:pt x="5322" y="886"/>
                  </a:lnTo>
                  <a:lnTo>
                    <a:pt x="5219" y="843"/>
                  </a:lnTo>
                  <a:lnTo>
                    <a:pt x="5115" y="801"/>
                  </a:lnTo>
                  <a:lnTo>
                    <a:pt x="5007" y="759"/>
                  </a:lnTo>
                  <a:lnTo>
                    <a:pt x="4896" y="719"/>
                  </a:lnTo>
                  <a:lnTo>
                    <a:pt x="4782" y="678"/>
                  </a:lnTo>
                  <a:lnTo>
                    <a:pt x="4666" y="639"/>
                  </a:lnTo>
                  <a:lnTo>
                    <a:pt x="4547" y="601"/>
                  </a:lnTo>
                  <a:lnTo>
                    <a:pt x="4425" y="565"/>
                  </a:lnTo>
                  <a:lnTo>
                    <a:pt x="4301" y="528"/>
                  </a:lnTo>
                  <a:lnTo>
                    <a:pt x="4175" y="494"/>
                  </a:lnTo>
                  <a:lnTo>
                    <a:pt x="4045" y="460"/>
                  </a:lnTo>
                  <a:lnTo>
                    <a:pt x="3914" y="427"/>
                  </a:lnTo>
                  <a:lnTo>
                    <a:pt x="3780" y="395"/>
                  </a:lnTo>
                  <a:lnTo>
                    <a:pt x="3644" y="364"/>
                  </a:lnTo>
                  <a:lnTo>
                    <a:pt x="3505" y="335"/>
                  </a:lnTo>
                  <a:lnTo>
                    <a:pt x="3365" y="306"/>
                  </a:lnTo>
                  <a:lnTo>
                    <a:pt x="3222" y="280"/>
                  </a:lnTo>
                  <a:lnTo>
                    <a:pt x="3077" y="253"/>
                  </a:lnTo>
                  <a:lnTo>
                    <a:pt x="2930" y="228"/>
                  </a:lnTo>
                  <a:lnTo>
                    <a:pt x="2782" y="205"/>
                  </a:lnTo>
                  <a:lnTo>
                    <a:pt x="2631" y="182"/>
                  </a:lnTo>
                  <a:lnTo>
                    <a:pt x="2479" y="161"/>
                  </a:lnTo>
                  <a:lnTo>
                    <a:pt x="2324" y="140"/>
                  </a:lnTo>
                  <a:lnTo>
                    <a:pt x="2167" y="122"/>
                  </a:lnTo>
                  <a:lnTo>
                    <a:pt x="2010" y="104"/>
                  </a:lnTo>
                  <a:lnTo>
                    <a:pt x="1850" y="88"/>
                  </a:lnTo>
                  <a:lnTo>
                    <a:pt x="1689" y="73"/>
                  </a:lnTo>
                  <a:lnTo>
                    <a:pt x="1526" y="59"/>
                  </a:lnTo>
                  <a:lnTo>
                    <a:pt x="1363" y="47"/>
                  </a:lnTo>
                  <a:lnTo>
                    <a:pt x="1197" y="37"/>
                  </a:lnTo>
                  <a:lnTo>
                    <a:pt x="1030" y="26"/>
                  </a:lnTo>
                  <a:lnTo>
                    <a:pt x="861" y="18"/>
                  </a:lnTo>
                  <a:lnTo>
                    <a:pt x="691" y="12"/>
                  </a:lnTo>
                  <a:lnTo>
                    <a:pt x="520" y="7"/>
                  </a:lnTo>
                  <a:lnTo>
                    <a:pt x="348" y="3"/>
                  </a:lnTo>
                  <a:lnTo>
                    <a:pt x="175" y="1"/>
                  </a:lnTo>
                  <a:lnTo>
                    <a:pt x="0" y="0"/>
                  </a:lnTo>
                  <a:lnTo>
                    <a:pt x="0" y="82"/>
                  </a:lnTo>
                  <a:lnTo>
                    <a:pt x="174" y="83"/>
                  </a:lnTo>
                  <a:lnTo>
                    <a:pt x="347" y="85"/>
                  </a:lnTo>
                  <a:lnTo>
                    <a:pt x="518" y="89"/>
                  </a:lnTo>
                  <a:lnTo>
                    <a:pt x="689" y="95"/>
                  </a:lnTo>
                  <a:lnTo>
                    <a:pt x="858" y="101"/>
                  </a:lnTo>
                  <a:lnTo>
                    <a:pt x="1025" y="109"/>
                  </a:lnTo>
                  <a:lnTo>
                    <a:pt x="1192" y="118"/>
                  </a:lnTo>
                  <a:lnTo>
                    <a:pt x="1357" y="129"/>
                  </a:lnTo>
                  <a:lnTo>
                    <a:pt x="1520" y="141"/>
                  </a:lnTo>
                  <a:lnTo>
                    <a:pt x="1682" y="155"/>
                  </a:lnTo>
                  <a:lnTo>
                    <a:pt x="1843" y="170"/>
                  </a:lnTo>
                  <a:lnTo>
                    <a:pt x="2002" y="186"/>
                  </a:lnTo>
                  <a:lnTo>
                    <a:pt x="2158" y="204"/>
                  </a:lnTo>
                  <a:lnTo>
                    <a:pt x="2314" y="222"/>
                  </a:lnTo>
                  <a:lnTo>
                    <a:pt x="2467" y="242"/>
                  </a:lnTo>
                  <a:lnTo>
                    <a:pt x="2619" y="264"/>
                  </a:lnTo>
                  <a:lnTo>
                    <a:pt x="2770" y="286"/>
                  </a:lnTo>
                  <a:lnTo>
                    <a:pt x="2917" y="309"/>
                  </a:lnTo>
                  <a:lnTo>
                    <a:pt x="3064" y="335"/>
                  </a:lnTo>
                  <a:lnTo>
                    <a:pt x="3207" y="360"/>
                  </a:lnTo>
                  <a:lnTo>
                    <a:pt x="3348" y="388"/>
                  </a:lnTo>
                  <a:lnTo>
                    <a:pt x="3489" y="415"/>
                  </a:lnTo>
                  <a:lnTo>
                    <a:pt x="3626" y="445"/>
                  </a:lnTo>
                  <a:lnTo>
                    <a:pt x="3762" y="475"/>
                  </a:lnTo>
                  <a:lnTo>
                    <a:pt x="3895" y="507"/>
                  </a:lnTo>
                  <a:lnTo>
                    <a:pt x="4025" y="539"/>
                  </a:lnTo>
                  <a:lnTo>
                    <a:pt x="4153" y="573"/>
                  </a:lnTo>
                  <a:lnTo>
                    <a:pt x="4278" y="608"/>
                  </a:lnTo>
                  <a:lnTo>
                    <a:pt x="4401" y="643"/>
                  </a:lnTo>
                  <a:lnTo>
                    <a:pt x="4522" y="680"/>
                  </a:lnTo>
                  <a:lnTo>
                    <a:pt x="4640" y="718"/>
                  </a:lnTo>
                  <a:lnTo>
                    <a:pt x="4755" y="756"/>
                  </a:lnTo>
                  <a:lnTo>
                    <a:pt x="4868" y="796"/>
                  </a:lnTo>
                  <a:lnTo>
                    <a:pt x="4977" y="836"/>
                  </a:lnTo>
                  <a:lnTo>
                    <a:pt x="5084" y="877"/>
                  </a:lnTo>
                  <a:lnTo>
                    <a:pt x="5189" y="919"/>
                  </a:lnTo>
                  <a:lnTo>
                    <a:pt x="5290" y="962"/>
                  </a:lnTo>
                  <a:lnTo>
                    <a:pt x="5387" y="1006"/>
                  </a:lnTo>
                  <a:lnTo>
                    <a:pt x="5483" y="1050"/>
                  </a:lnTo>
                  <a:lnTo>
                    <a:pt x="5574" y="1095"/>
                  </a:lnTo>
                  <a:lnTo>
                    <a:pt x="5618" y="1119"/>
                  </a:lnTo>
                  <a:lnTo>
                    <a:pt x="5663" y="1141"/>
                  </a:lnTo>
                  <a:lnTo>
                    <a:pt x="5706" y="1164"/>
                  </a:lnTo>
                  <a:lnTo>
                    <a:pt x="5748" y="1189"/>
                  </a:lnTo>
                  <a:lnTo>
                    <a:pt x="5789" y="1212"/>
                  </a:lnTo>
                  <a:lnTo>
                    <a:pt x="5830" y="1236"/>
                  </a:lnTo>
                  <a:lnTo>
                    <a:pt x="5869" y="1260"/>
                  </a:lnTo>
                  <a:lnTo>
                    <a:pt x="5908" y="1283"/>
                  </a:lnTo>
                  <a:lnTo>
                    <a:pt x="5947" y="1308"/>
                  </a:lnTo>
                  <a:lnTo>
                    <a:pt x="5983" y="1332"/>
                  </a:lnTo>
                  <a:lnTo>
                    <a:pt x="6020" y="1358"/>
                  </a:lnTo>
                  <a:lnTo>
                    <a:pt x="6056" y="1382"/>
                  </a:lnTo>
                  <a:lnTo>
                    <a:pt x="6090" y="1407"/>
                  </a:lnTo>
                  <a:lnTo>
                    <a:pt x="6124" y="1432"/>
                  </a:lnTo>
                  <a:lnTo>
                    <a:pt x="6157" y="1457"/>
                  </a:lnTo>
                  <a:lnTo>
                    <a:pt x="6189" y="1483"/>
                  </a:lnTo>
                  <a:lnTo>
                    <a:pt x="6219" y="1508"/>
                  </a:lnTo>
                  <a:lnTo>
                    <a:pt x="6250" y="1534"/>
                  </a:lnTo>
                  <a:lnTo>
                    <a:pt x="6279" y="1559"/>
                  </a:lnTo>
                  <a:lnTo>
                    <a:pt x="6307" y="1586"/>
                  </a:lnTo>
                  <a:lnTo>
                    <a:pt x="6334" y="1611"/>
                  </a:lnTo>
                  <a:lnTo>
                    <a:pt x="6361" y="1638"/>
                  </a:lnTo>
                  <a:lnTo>
                    <a:pt x="6386" y="1664"/>
                  </a:lnTo>
                  <a:lnTo>
                    <a:pt x="6411" y="1690"/>
                  </a:lnTo>
                  <a:lnTo>
                    <a:pt x="6434" y="1717"/>
                  </a:lnTo>
                  <a:lnTo>
                    <a:pt x="6457" y="1743"/>
                  </a:lnTo>
                  <a:lnTo>
                    <a:pt x="6479" y="1770"/>
                  </a:lnTo>
                  <a:lnTo>
                    <a:pt x="6499" y="1797"/>
                  </a:lnTo>
                  <a:lnTo>
                    <a:pt x="6519" y="1824"/>
                  </a:lnTo>
                  <a:lnTo>
                    <a:pt x="6538" y="1850"/>
                  </a:lnTo>
                  <a:lnTo>
                    <a:pt x="6556" y="1878"/>
                  </a:lnTo>
                  <a:lnTo>
                    <a:pt x="6572" y="1904"/>
                  </a:lnTo>
                  <a:lnTo>
                    <a:pt x="6589" y="1932"/>
                  </a:lnTo>
                  <a:lnTo>
                    <a:pt x="6603" y="1959"/>
                  </a:lnTo>
                  <a:lnTo>
                    <a:pt x="6617" y="1987"/>
                  </a:lnTo>
                  <a:lnTo>
                    <a:pt x="6629" y="2014"/>
                  </a:lnTo>
                  <a:lnTo>
                    <a:pt x="6642" y="2042"/>
                  </a:lnTo>
                  <a:lnTo>
                    <a:pt x="6652" y="2069"/>
                  </a:lnTo>
                  <a:lnTo>
                    <a:pt x="6662" y="2097"/>
                  </a:lnTo>
                  <a:lnTo>
                    <a:pt x="6671" y="2124"/>
                  </a:lnTo>
                  <a:lnTo>
                    <a:pt x="6678" y="2153"/>
                  </a:lnTo>
                  <a:lnTo>
                    <a:pt x="6685" y="2180"/>
                  </a:lnTo>
                  <a:lnTo>
                    <a:pt x="6690" y="2207"/>
                  </a:lnTo>
                  <a:lnTo>
                    <a:pt x="6695" y="2236"/>
                  </a:lnTo>
                  <a:lnTo>
                    <a:pt x="6699" y="2263"/>
                  </a:lnTo>
                  <a:lnTo>
                    <a:pt x="6702" y="2292"/>
                  </a:lnTo>
                  <a:lnTo>
                    <a:pt x="6704" y="2320"/>
                  </a:lnTo>
                  <a:lnTo>
                    <a:pt x="6704" y="2348"/>
                  </a:lnTo>
                  <a:lnTo>
                    <a:pt x="6786" y="2348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95600" y="3773160"/>
              <a:ext cx="306360" cy="103320"/>
            </a:xfrm>
            <a:custGeom>
              <a:avLst/>
              <a:gdLst/>
              <a:ahLst/>
              <a:rect l="l" t="t" r="r" b="b"/>
              <a:pathLst>
                <a:path w="4439" h="1498">
                  <a:moveTo>
                    <a:pt x="0" y="1169"/>
                  </a:moveTo>
                  <a:lnTo>
                    <a:pt x="994" y="1498"/>
                  </a:lnTo>
                  <a:lnTo>
                    <a:pt x="3343" y="562"/>
                  </a:lnTo>
                  <a:lnTo>
                    <a:pt x="4439" y="830"/>
                  </a:lnTo>
                  <a:lnTo>
                    <a:pt x="3861" y="0"/>
                  </a:lnTo>
                  <a:lnTo>
                    <a:pt x="1032" y="0"/>
                  </a:lnTo>
                  <a:lnTo>
                    <a:pt x="2214" y="288"/>
                  </a:lnTo>
                  <a:lnTo>
                    <a:pt x="0" y="11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60440" y="3897000"/>
              <a:ext cx="306360" cy="103320"/>
            </a:xfrm>
            <a:custGeom>
              <a:avLst/>
              <a:gdLst/>
              <a:ahLst/>
              <a:rect l="l" t="t" r="r" b="b"/>
              <a:pathLst>
                <a:path w="4438" h="1498">
                  <a:moveTo>
                    <a:pt x="4438" y="329"/>
                  </a:moveTo>
                  <a:lnTo>
                    <a:pt x="3445" y="0"/>
                  </a:lnTo>
                  <a:lnTo>
                    <a:pt x="1096" y="934"/>
                  </a:lnTo>
                  <a:lnTo>
                    <a:pt x="0" y="668"/>
                  </a:lnTo>
                  <a:lnTo>
                    <a:pt x="578" y="1498"/>
                  </a:lnTo>
                  <a:lnTo>
                    <a:pt x="3407" y="1498"/>
                  </a:lnTo>
                  <a:lnTo>
                    <a:pt x="2225" y="1209"/>
                  </a:lnTo>
                  <a:lnTo>
                    <a:pt x="443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6280" y="3770280"/>
              <a:ext cx="306360" cy="102960"/>
            </a:xfrm>
            <a:custGeom>
              <a:avLst/>
              <a:gdLst/>
              <a:ahLst/>
              <a:rect l="l" t="t" r="r" b="b"/>
              <a:pathLst>
                <a:path w="4439" h="1498">
                  <a:moveTo>
                    <a:pt x="0" y="329"/>
                  </a:moveTo>
                  <a:lnTo>
                    <a:pt x="994" y="0"/>
                  </a:lnTo>
                  <a:lnTo>
                    <a:pt x="3342" y="935"/>
                  </a:lnTo>
                  <a:lnTo>
                    <a:pt x="4439" y="668"/>
                  </a:lnTo>
                  <a:lnTo>
                    <a:pt x="3860" y="1498"/>
                  </a:lnTo>
                  <a:lnTo>
                    <a:pt x="1032" y="1498"/>
                  </a:lnTo>
                  <a:lnTo>
                    <a:pt x="2214" y="1210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84440" y="3904920"/>
              <a:ext cx="306360" cy="103320"/>
            </a:xfrm>
            <a:custGeom>
              <a:avLst/>
              <a:gdLst/>
              <a:ahLst/>
              <a:rect l="l" t="t" r="r" b="b"/>
              <a:pathLst>
                <a:path w="4439" h="1498">
                  <a:moveTo>
                    <a:pt x="4439" y="1169"/>
                  </a:moveTo>
                  <a:lnTo>
                    <a:pt x="3445" y="1498"/>
                  </a:lnTo>
                  <a:lnTo>
                    <a:pt x="1096" y="563"/>
                  </a:lnTo>
                  <a:lnTo>
                    <a:pt x="0" y="830"/>
                  </a:lnTo>
                  <a:lnTo>
                    <a:pt x="578" y="0"/>
                  </a:lnTo>
                  <a:lnTo>
                    <a:pt x="3407" y="0"/>
                  </a:lnTo>
                  <a:lnTo>
                    <a:pt x="2225" y="288"/>
                  </a:lnTo>
                  <a:lnTo>
                    <a:pt x="4439" y="11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00280" y="3779640"/>
              <a:ext cx="306360" cy="103320"/>
            </a:xfrm>
            <a:custGeom>
              <a:avLst/>
              <a:gdLst/>
              <a:ahLst/>
              <a:rect l="l" t="t" r="r" b="b"/>
              <a:pathLst>
                <a:path w="4438" h="1498">
                  <a:moveTo>
                    <a:pt x="0" y="1170"/>
                  </a:moveTo>
                  <a:lnTo>
                    <a:pt x="994" y="1498"/>
                  </a:lnTo>
                  <a:lnTo>
                    <a:pt x="3342" y="563"/>
                  </a:lnTo>
                  <a:lnTo>
                    <a:pt x="4438" y="831"/>
                  </a:lnTo>
                  <a:lnTo>
                    <a:pt x="3861" y="0"/>
                  </a:lnTo>
                  <a:lnTo>
                    <a:pt x="1031" y="0"/>
                  </a:lnTo>
                  <a:lnTo>
                    <a:pt x="2214" y="288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65120" y="3903480"/>
              <a:ext cx="306360" cy="103320"/>
            </a:xfrm>
            <a:custGeom>
              <a:avLst/>
              <a:gdLst/>
              <a:ahLst/>
              <a:rect l="l" t="t" r="r" b="b"/>
              <a:pathLst>
                <a:path w="4439" h="1499">
                  <a:moveTo>
                    <a:pt x="4439" y="329"/>
                  </a:moveTo>
                  <a:lnTo>
                    <a:pt x="3445" y="0"/>
                  </a:lnTo>
                  <a:lnTo>
                    <a:pt x="1096" y="935"/>
                  </a:lnTo>
                  <a:lnTo>
                    <a:pt x="0" y="668"/>
                  </a:lnTo>
                  <a:lnTo>
                    <a:pt x="578" y="1499"/>
                  </a:lnTo>
                  <a:lnTo>
                    <a:pt x="3407" y="1499"/>
                  </a:lnTo>
                  <a:lnTo>
                    <a:pt x="2225" y="1209"/>
                  </a:lnTo>
                  <a:lnTo>
                    <a:pt x="4439" y="3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2760" y="3776400"/>
              <a:ext cx="306360" cy="103320"/>
            </a:xfrm>
            <a:custGeom>
              <a:avLst/>
              <a:gdLst/>
              <a:ahLst/>
              <a:rect l="l" t="t" r="r" b="b"/>
              <a:pathLst>
                <a:path w="4439" h="1499">
                  <a:moveTo>
                    <a:pt x="0" y="329"/>
                  </a:moveTo>
                  <a:lnTo>
                    <a:pt x="994" y="0"/>
                  </a:lnTo>
                  <a:lnTo>
                    <a:pt x="3342" y="936"/>
                  </a:lnTo>
                  <a:lnTo>
                    <a:pt x="4439" y="668"/>
                  </a:lnTo>
                  <a:lnTo>
                    <a:pt x="3860" y="1499"/>
                  </a:lnTo>
                  <a:lnTo>
                    <a:pt x="1032" y="1499"/>
                  </a:lnTo>
                  <a:lnTo>
                    <a:pt x="2214" y="1210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0560" y="3909960"/>
              <a:ext cx="306360" cy="102960"/>
            </a:xfrm>
            <a:custGeom>
              <a:avLst/>
              <a:gdLst/>
              <a:ahLst/>
              <a:rect l="l" t="t" r="r" b="b"/>
              <a:pathLst>
                <a:path w="4439" h="1498">
                  <a:moveTo>
                    <a:pt x="4439" y="1170"/>
                  </a:moveTo>
                  <a:lnTo>
                    <a:pt x="3445" y="1498"/>
                  </a:lnTo>
                  <a:lnTo>
                    <a:pt x="1096" y="563"/>
                  </a:lnTo>
                  <a:lnTo>
                    <a:pt x="0" y="831"/>
                  </a:lnTo>
                  <a:lnTo>
                    <a:pt x="578" y="0"/>
                  </a:lnTo>
                  <a:lnTo>
                    <a:pt x="3407" y="0"/>
                  </a:lnTo>
                  <a:lnTo>
                    <a:pt x="2225" y="288"/>
                  </a:lnTo>
                  <a:lnTo>
                    <a:pt x="4439" y="1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244880" y="3892320"/>
              <a:ext cx="6120" cy="228600"/>
            </a:xfrm>
            <a:prstGeom prst="rect">
              <a:avLst/>
            </a:pr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44880" y="4120920"/>
              <a:ext cx="6120" cy="3240"/>
            </a:xfrm>
            <a:prstGeom prst="rect">
              <a:avLst/>
            </a:pr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2920" y="4065480"/>
              <a:ext cx="210960" cy="203040"/>
            </a:xfrm>
            <a:custGeom>
              <a:avLst/>
              <a:gdLst/>
              <a:ahLst/>
              <a:rect l="l" t="t" r="r" b="b"/>
              <a:pathLst>
                <a:path w="3048" h="2939">
                  <a:moveTo>
                    <a:pt x="0" y="0"/>
                  </a:moveTo>
                  <a:lnTo>
                    <a:pt x="737" y="0"/>
                  </a:lnTo>
                  <a:lnTo>
                    <a:pt x="1522" y="1833"/>
                  </a:lnTo>
                  <a:lnTo>
                    <a:pt x="2261" y="0"/>
                  </a:lnTo>
                  <a:lnTo>
                    <a:pt x="3048" y="0"/>
                  </a:lnTo>
                  <a:lnTo>
                    <a:pt x="1854" y="2939"/>
                  </a:lnTo>
                  <a:lnTo>
                    <a:pt x="1193" y="29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9680" y="4062240"/>
              <a:ext cx="210960" cy="203040"/>
            </a:xfrm>
            <a:custGeom>
              <a:avLst/>
              <a:gdLst/>
              <a:ahLst/>
              <a:rect l="l" t="t" r="r" b="b"/>
              <a:pathLst>
                <a:path w="3048" h="2939">
                  <a:moveTo>
                    <a:pt x="0" y="0"/>
                  </a:moveTo>
                  <a:lnTo>
                    <a:pt x="737" y="0"/>
                  </a:lnTo>
                  <a:lnTo>
                    <a:pt x="1522" y="1834"/>
                  </a:lnTo>
                  <a:lnTo>
                    <a:pt x="2261" y="0"/>
                  </a:lnTo>
                  <a:lnTo>
                    <a:pt x="3048" y="0"/>
                  </a:lnTo>
                  <a:lnTo>
                    <a:pt x="1854" y="2939"/>
                  </a:lnTo>
                  <a:lnTo>
                    <a:pt x="1193" y="29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240000" y="3052800"/>
            <a:ext cx="116064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DM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ontent Distribution Manag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2305080" y="4027320"/>
            <a:ext cx="936720" cy="552240"/>
            <a:chOff x="2305080" y="4027320"/>
            <a:chExt cx="936720" cy="552240"/>
          </a:xfrm>
        </p:grpSpPr>
        <p:sp>
          <p:nvSpPr>
            <p:cNvPr id="874" name=""/>
            <p:cNvSpPr/>
            <p:nvPr/>
          </p:nvSpPr>
          <p:spPr>
            <a:xfrm>
              <a:off x="2308320" y="4257360"/>
              <a:ext cx="930240" cy="318960"/>
            </a:xfrm>
            <a:custGeom>
              <a:avLst/>
              <a:gdLst/>
              <a:ahLst/>
              <a:rect l="l" t="t" r="r" b="b"/>
              <a:pathLst>
                <a:path w="16418" h="5625">
                  <a:moveTo>
                    <a:pt x="16418" y="2813"/>
                  </a:moveTo>
                  <a:lnTo>
                    <a:pt x="16408" y="2958"/>
                  </a:lnTo>
                  <a:lnTo>
                    <a:pt x="16376" y="3100"/>
                  </a:lnTo>
                  <a:lnTo>
                    <a:pt x="16324" y="3241"/>
                  </a:lnTo>
                  <a:lnTo>
                    <a:pt x="16252" y="3380"/>
                  </a:lnTo>
                  <a:lnTo>
                    <a:pt x="16160" y="3516"/>
                  </a:lnTo>
                  <a:lnTo>
                    <a:pt x="16050" y="3650"/>
                  </a:lnTo>
                  <a:lnTo>
                    <a:pt x="15921" y="3780"/>
                  </a:lnTo>
                  <a:lnTo>
                    <a:pt x="15773" y="3907"/>
                  </a:lnTo>
                  <a:lnTo>
                    <a:pt x="15609" y="4032"/>
                  </a:lnTo>
                  <a:lnTo>
                    <a:pt x="15427" y="4153"/>
                  </a:lnTo>
                  <a:lnTo>
                    <a:pt x="15230" y="4271"/>
                  </a:lnTo>
                  <a:lnTo>
                    <a:pt x="15016" y="4385"/>
                  </a:lnTo>
                  <a:lnTo>
                    <a:pt x="14787" y="4496"/>
                  </a:lnTo>
                  <a:lnTo>
                    <a:pt x="14543" y="4602"/>
                  </a:lnTo>
                  <a:lnTo>
                    <a:pt x="14285" y="4704"/>
                  </a:lnTo>
                  <a:lnTo>
                    <a:pt x="14014" y="4802"/>
                  </a:lnTo>
                  <a:lnTo>
                    <a:pt x="13728" y="4895"/>
                  </a:lnTo>
                  <a:lnTo>
                    <a:pt x="13430" y="4983"/>
                  </a:lnTo>
                  <a:lnTo>
                    <a:pt x="13120" y="5067"/>
                  </a:lnTo>
                  <a:lnTo>
                    <a:pt x="12798" y="5145"/>
                  </a:lnTo>
                  <a:lnTo>
                    <a:pt x="12465" y="5219"/>
                  </a:lnTo>
                  <a:lnTo>
                    <a:pt x="12121" y="5286"/>
                  </a:lnTo>
                  <a:lnTo>
                    <a:pt x="11767" y="5348"/>
                  </a:lnTo>
                  <a:lnTo>
                    <a:pt x="11404" y="5405"/>
                  </a:lnTo>
                  <a:lnTo>
                    <a:pt x="11031" y="5455"/>
                  </a:lnTo>
                  <a:lnTo>
                    <a:pt x="10650" y="5499"/>
                  </a:lnTo>
                  <a:lnTo>
                    <a:pt x="10260" y="5537"/>
                  </a:lnTo>
                  <a:lnTo>
                    <a:pt x="9863" y="5568"/>
                  </a:lnTo>
                  <a:lnTo>
                    <a:pt x="9458" y="5593"/>
                  </a:lnTo>
                  <a:lnTo>
                    <a:pt x="9048" y="5611"/>
                  </a:lnTo>
                  <a:lnTo>
                    <a:pt x="8631" y="5622"/>
                  </a:lnTo>
                  <a:lnTo>
                    <a:pt x="8209" y="5625"/>
                  </a:lnTo>
                  <a:lnTo>
                    <a:pt x="7787" y="5622"/>
                  </a:lnTo>
                  <a:lnTo>
                    <a:pt x="7370" y="5611"/>
                  </a:lnTo>
                  <a:lnTo>
                    <a:pt x="6960" y="5593"/>
                  </a:lnTo>
                  <a:lnTo>
                    <a:pt x="6555" y="5568"/>
                  </a:lnTo>
                  <a:lnTo>
                    <a:pt x="6158" y="5537"/>
                  </a:lnTo>
                  <a:lnTo>
                    <a:pt x="5768" y="5499"/>
                  </a:lnTo>
                  <a:lnTo>
                    <a:pt x="5387" y="5455"/>
                  </a:lnTo>
                  <a:lnTo>
                    <a:pt x="5014" y="5405"/>
                  </a:lnTo>
                  <a:lnTo>
                    <a:pt x="4651" y="5348"/>
                  </a:lnTo>
                  <a:lnTo>
                    <a:pt x="4297" y="5286"/>
                  </a:lnTo>
                  <a:lnTo>
                    <a:pt x="3953" y="5219"/>
                  </a:lnTo>
                  <a:lnTo>
                    <a:pt x="3620" y="5145"/>
                  </a:lnTo>
                  <a:lnTo>
                    <a:pt x="3297" y="5067"/>
                  </a:lnTo>
                  <a:lnTo>
                    <a:pt x="2988" y="4983"/>
                  </a:lnTo>
                  <a:lnTo>
                    <a:pt x="2690" y="4895"/>
                  </a:lnTo>
                  <a:lnTo>
                    <a:pt x="2404" y="4802"/>
                  </a:lnTo>
                  <a:lnTo>
                    <a:pt x="2133" y="4704"/>
                  </a:lnTo>
                  <a:lnTo>
                    <a:pt x="1875" y="4602"/>
                  </a:lnTo>
                  <a:lnTo>
                    <a:pt x="1631" y="4496"/>
                  </a:lnTo>
                  <a:lnTo>
                    <a:pt x="1402" y="4385"/>
                  </a:lnTo>
                  <a:lnTo>
                    <a:pt x="1188" y="4271"/>
                  </a:lnTo>
                  <a:lnTo>
                    <a:pt x="991" y="4153"/>
                  </a:lnTo>
                  <a:lnTo>
                    <a:pt x="809" y="4032"/>
                  </a:lnTo>
                  <a:lnTo>
                    <a:pt x="645" y="3907"/>
                  </a:lnTo>
                  <a:lnTo>
                    <a:pt x="497" y="3780"/>
                  </a:lnTo>
                  <a:lnTo>
                    <a:pt x="368" y="3650"/>
                  </a:lnTo>
                  <a:lnTo>
                    <a:pt x="258" y="3516"/>
                  </a:lnTo>
                  <a:lnTo>
                    <a:pt x="166" y="3380"/>
                  </a:lnTo>
                  <a:lnTo>
                    <a:pt x="94" y="3241"/>
                  </a:lnTo>
                  <a:lnTo>
                    <a:pt x="42" y="3100"/>
                  </a:lnTo>
                  <a:lnTo>
                    <a:pt x="10" y="2958"/>
                  </a:lnTo>
                  <a:lnTo>
                    <a:pt x="0" y="2813"/>
                  </a:lnTo>
                  <a:lnTo>
                    <a:pt x="10" y="2668"/>
                  </a:lnTo>
                  <a:lnTo>
                    <a:pt x="42" y="2525"/>
                  </a:lnTo>
                  <a:lnTo>
                    <a:pt x="94" y="2385"/>
                  </a:lnTo>
                  <a:lnTo>
                    <a:pt x="166" y="2246"/>
                  </a:lnTo>
                  <a:lnTo>
                    <a:pt x="258" y="2110"/>
                  </a:lnTo>
                  <a:lnTo>
                    <a:pt x="368" y="1977"/>
                  </a:lnTo>
                  <a:lnTo>
                    <a:pt x="497" y="1847"/>
                  </a:lnTo>
                  <a:lnTo>
                    <a:pt x="645" y="1718"/>
                  </a:lnTo>
                  <a:lnTo>
                    <a:pt x="809" y="1594"/>
                  </a:lnTo>
                  <a:lnTo>
                    <a:pt x="991" y="1473"/>
                  </a:lnTo>
                  <a:lnTo>
                    <a:pt x="1188" y="1355"/>
                  </a:lnTo>
                  <a:lnTo>
                    <a:pt x="1402" y="1241"/>
                  </a:lnTo>
                  <a:lnTo>
                    <a:pt x="1631" y="1131"/>
                  </a:lnTo>
                  <a:lnTo>
                    <a:pt x="1875" y="1024"/>
                  </a:lnTo>
                  <a:lnTo>
                    <a:pt x="2133" y="922"/>
                  </a:lnTo>
                  <a:lnTo>
                    <a:pt x="2404" y="825"/>
                  </a:lnTo>
                  <a:lnTo>
                    <a:pt x="2690" y="732"/>
                  </a:lnTo>
                  <a:lnTo>
                    <a:pt x="2988" y="643"/>
                  </a:lnTo>
                  <a:lnTo>
                    <a:pt x="3297" y="560"/>
                  </a:lnTo>
                  <a:lnTo>
                    <a:pt x="3620" y="481"/>
                  </a:lnTo>
                  <a:lnTo>
                    <a:pt x="3953" y="408"/>
                  </a:lnTo>
                  <a:lnTo>
                    <a:pt x="4297" y="341"/>
                  </a:lnTo>
                  <a:lnTo>
                    <a:pt x="4651" y="277"/>
                  </a:lnTo>
                  <a:lnTo>
                    <a:pt x="5014" y="222"/>
                  </a:lnTo>
                  <a:lnTo>
                    <a:pt x="5387" y="171"/>
                  </a:lnTo>
                  <a:lnTo>
                    <a:pt x="5768" y="126"/>
                  </a:lnTo>
                  <a:lnTo>
                    <a:pt x="6158" y="89"/>
                  </a:lnTo>
                  <a:lnTo>
                    <a:pt x="6555" y="57"/>
                  </a:lnTo>
                  <a:lnTo>
                    <a:pt x="6960" y="32"/>
                  </a:lnTo>
                  <a:lnTo>
                    <a:pt x="7370" y="15"/>
                  </a:lnTo>
                  <a:lnTo>
                    <a:pt x="7787" y="4"/>
                  </a:lnTo>
                  <a:lnTo>
                    <a:pt x="8209" y="0"/>
                  </a:lnTo>
                  <a:lnTo>
                    <a:pt x="8631" y="4"/>
                  </a:lnTo>
                  <a:lnTo>
                    <a:pt x="9048" y="15"/>
                  </a:lnTo>
                  <a:lnTo>
                    <a:pt x="9458" y="32"/>
                  </a:lnTo>
                  <a:lnTo>
                    <a:pt x="9863" y="57"/>
                  </a:lnTo>
                  <a:lnTo>
                    <a:pt x="10260" y="89"/>
                  </a:lnTo>
                  <a:lnTo>
                    <a:pt x="10650" y="126"/>
                  </a:lnTo>
                  <a:lnTo>
                    <a:pt x="11031" y="171"/>
                  </a:lnTo>
                  <a:lnTo>
                    <a:pt x="11404" y="222"/>
                  </a:lnTo>
                  <a:lnTo>
                    <a:pt x="11767" y="277"/>
                  </a:lnTo>
                  <a:lnTo>
                    <a:pt x="12121" y="341"/>
                  </a:lnTo>
                  <a:lnTo>
                    <a:pt x="12465" y="408"/>
                  </a:lnTo>
                  <a:lnTo>
                    <a:pt x="12798" y="481"/>
                  </a:lnTo>
                  <a:lnTo>
                    <a:pt x="13120" y="560"/>
                  </a:lnTo>
                  <a:lnTo>
                    <a:pt x="13430" y="643"/>
                  </a:lnTo>
                  <a:lnTo>
                    <a:pt x="13728" y="732"/>
                  </a:lnTo>
                  <a:lnTo>
                    <a:pt x="14014" y="825"/>
                  </a:lnTo>
                  <a:lnTo>
                    <a:pt x="14285" y="922"/>
                  </a:lnTo>
                  <a:lnTo>
                    <a:pt x="14543" y="1024"/>
                  </a:lnTo>
                  <a:lnTo>
                    <a:pt x="14787" y="1131"/>
                  </a:lnTo>
                  <a:lnTo>
                    <a:pt x="15016" y="1241"/>
                  </a:lnTo>
                  <a:lnTo>
                    <a:pt x="15230" y="1355"/>
                  </a:lnTo>
                  <a:lnTo>
                    <a:pt x="15427" y="1473"/>
                  </a:lnTo>
                  <a:lnTo>
                    <a:pt x="15609" y="1594"/>
                  </a:lnTo>
                  <a:lnTo>
                    <a:pt x="15773" y="1718"/>
                  </a:lnTo>
                  <a:lnTo>
                    <a:pt x="15921" y="1847"/>
                  </a:lnTo>
                  <a:lnTo>
                    <a:pt x="16050" y="1977"/>
                  </a:lnTo>
                  <a:lnTo>
                    <a:pt x="16160" y="2110"/>
                  </a:lnTo>
                  <a:lnTo>
                    <a:pt x="16252" y="2246"/>
                  </a:lnTo>
                  <a:lnTo>
                    <a:pt x="16324" y="2385"/>
                  </a:lnTo>
                  <a:lnTo>
                    <a:pt x="16376" y="2525"/>
                  </a:lnTo>
                  <a:lnTo>
                    <a:pt x="16408" y="2668"/>
                  </a:lnTo>
                  <a:lnTo>
                    <a:pt x="16418" y="2813"/>
                  </a:lnTo>
                  <a:close/>
                </a:path>
              </a:pathLst>
            </a:custGeom>
            <a:solidFill>
              <a:srgbClr val="077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70200" y="4417560"/>
              <a:ext cx="471600" cy="162000"/>
            </a:xfrm>
            <a:custGeom>
              <a:avLst/>
              <a:gdLst/>
              <a:ahLst/>
              <a:rect l="l" t="t" r="r" b="b"/>
              <a:pathLst>
                <a:path w="8310" h="2863">
                  <a:moveTo>
                    <a:pt x="50" y="2863"/>
                  </a:moveTo>
                  <a:lnTo>
                    <a:pt x="50" y="2863"/>
                  </a:lnTo>
                  <a:lnTo>
                    <a:pt x="263" y="2862"/>
                  </a:lnTo>
                  <a:lnTo>
                    <a:pt x="473" y="2859"/>
                  </a:lnTo>
                  <a:lnTo>
                    <a:pt x="683" y="2855"/>
                  </a:lnTo>
                  <a:lnTo>
                    <a:pt x="890" y="2849"/>
                  </a:lnTo>
                  <a:lnTo>
                    <a:pt x="1097" y="2840"/>
                  </a:lnTo>
                  <a:lnTo>
                    <a:pt x="1302" y="2830"/>
                  </a:lnTo>
                  <a:lnTo>
                    <a:pt x="1506" y="2819"/>
                  </a:lnTo>
                  <a:lnTo>
                    <a:pt x="1707" y="2806"/>
                  </a:lnTo>
                  <a:lnTo>
                    <a:pt x="1907" y="2791"/>
                  </a:lnTo>
                  <a:lnTo>
                    <a:pt x="2106" y="2774"/>
                  </a:lnTo>
                  <a:lnTo>
                    <a:pt x="2301" y="2755"/>
                  </a:lnTo>
                  <a:lnTo>
                    <a:pt x="2496" y="2736"/>
                  </a:lnTo>
                  <a:lnTo>
                    <a:pt x="2688" y="2715"/>
                  </a:lnTo>
                  <a:lnTo>
                    <a:pt x="2878" y="2692"/>
                  </a:lnTo>
                  <a:lnTo>
                    <a:pt x="3066" y="2667"/>
                  </a:lnTo>
                  <a:lnTo>
                    <a:pt x="3252" y="2642"/>
                  </a:lnTo>
                  <a:lnTo>
                    <a:pt x="3436" y="2614"/>
                  </a:lnTo>
                  <a:lnTo>
                    <a:pt x="3616" y="2585"/>
                  </a:lnTo>
                  <a:lnTo>
                    <a:pt x="3795" y="2555"/>
                  </a:lnTo>
                  <a:lnTo>
                    <a:pt x="3971" y="2523"/>
                  </a:lnTo>
                  <a:lnTo>
                    <a:pt x="4145" y="2490"/>
                  </a:lnTo>
                  <a:lnTo>
                    <a:pt x="4316" y="2454"/>
                  </a:lnTo>
                  <a:lnTo>
                    <a:pt x="4485" y="2418"/>
                  </a:lnTo>
                  <a:lnTo>
                    <a:pt x="4651" y="2381"/>
                  </a:lnTo>
                  <a:lnTo>
                    <a:pt x="4813" y="2343"/>
                  </a:lnTo>
                  <a:lnTo>
                    <a:pt x="4973" y="2302"/>
                  </a:lnTo>
                  <a:lnTo>
                    <a:pt x="5131" y="2261"/>
                  </a:lnTo>
                  <a:lnTo>
                    <a:pt x="5285" y="2219"/>
                  </a:lnTo>
                  <a:lnTo>
                    <a:pt x="5361" y="2197"/>
                  </a:lnTo>
                  <a:lnTo>
                    <a:pt x="5436" y="2175"/>
                  </a:lnTo>
                  <a:lnTo>
                    <a:pt x="5510" y="2152"/>
                  </a:lnTo>
                  <a:lnTo>
                    <a:pt x="5584" y="2130"/>
                  </a:lnTo>
                  <a:lnTo>
                    <a:pt x="5656" y="2107"/>
                  </a:lnTo>
                  <a:lnTo>
                    <a:pt x="5729" y="2083"/>
                  </a:lnTo>
                  <a:lnTo>
                    <a:pt x="5800" y="2060"/>
                  </a:lnTo>
                  <a:lnTo>
                    <a:pt x="5870" y="2037"/>
                  </a:lnTo>
                  <a:lnTo>
                    <a:pt x="5940" y="2012"/>
                  </a:lnTo>
                  <a:lnTo>
                    <a:pt x="6009" y="1988"/>
                  </a:lnTo>
                  <a:lnTo>
                    <a:pt x="6077" y="1963"/>
                  </a:lnTo>
                  <a:lnTo>
                    <a:pt x="6144" y="1938"/>
                  </a:lnTo>
                  <a:lnTo>
                    <a:pt x="6210" y="1912"/>
                  </a:lnTo>
                  <a:lnTo>
                    <a:pt x="6275" y="1888"/>
                  </a:lnTo>
                  <a:lnTo>
                    <a:pt x="6340" y="1862"/>
                  </a:lnTo>
                  <a:lnTo>
                    <a:pt x="6403" y="1835"/>
                  </a:lnTo>
                  <a:lnTo>
                    <a:pt x="6466" y="1809"/>
                  </a:lnTo>
                  <a:lnTo>
                    <a:pt x="6528" y="1782"/>
                  </a:lnTo>
                  <a:lnTo>
                    <a:pt x="6589" y="1755"/>
                  </a:lnTo>
                  <a:lnTo>
                    <a:pt x="6649" y="1728"/>
                  </a:lnTo>
                  <a:lnTo>
                    <a:pt x="6708" y="1700"/>
                  </a:lnTo>
                  <a:lnTo>
                    <a:pt x="6766" y="1673"/>
                  </a:lnTo>
                  <a:lnTo>
                    <a:pt x="6823" y="1646"/>
                  </a:lnTo>
                  <a:lnTo>
                    <a:pt x="6880" y="1618"/>
                  </a:lnTo>
                  <a:lnTo>
                    <a:pt x="6935" y="1589"/>
                  </a:lnTo>
                  <a:lnTo>
                    <a:pt x="6989" y="1560"/>
                  </a:lnTo>
                  <a:lnTo>
                    <a:pt x="7043" y="1531"/>
                  </a:lnTo>
                  <a:lnTo>
                    <a:pt x="7095" y="1502"/>
                  </a:lnTo>
                  <a:lnTo>
                    <a:pt x="7146" y="1473"/>
                  </a:lnTo>
                  <a:lnTo>
                    <a:pt x="7197" y="1443"/>
                  </a:lnTo>
                  <a:lnTo>
                    <a:pt x="7247" y="1413"/>
                  </a:lnTo>
                  <a:lnTo>
                    <a:pt x="7295" y="1383"/>
                  </a:lnTo>
                  <a:lnTo>
                    <a:pt x="7343" y="1353"/>
                  </a:lnTo>
                  <a:lnTo>
                    <a:pt x="7389" y="1322"/>
                  </a:lnTo>
                  <a:lnTo>
                    <a:pt x="7434" y="1291"/>
                  </a:lnTo>
                  <a:lnTo>
                    <a:pt x="7479" y="1260"/>
                  </a:lnTo>
                  <a:lnTo>
                    <a:pt x="7522" y="1229"/>
                  </a:lnTo>
                  <a:lnTo>
                    <a:pt x="7565" y="1198"/>
                  </a:lnTo>
                  <a:lnTo>
                    <a:pt x="7606" y="1166"/>
                  </a:lnTo>
                  <a:lnTo>
                    <a:pt x="7646" y="1133"/>
                  </a:lnTo>
                  <a:lnTo>
                    <a:pt x="7684" y="1101"/>
                  </a:lnTo>
                  <a:lnTo>
                    <a:pt x="7723" y="1069"/>
                  </a:lnTo>
                  <a:lnTo>
                    <a:pt x="7760" y="1036"/>
                  </a:lnTo>
                  <a:lnTo>
                    <a:pt x="7796" y="1003"/>
                  </a:lnTo>
                  <a:lnTo>
                    <a:pt x="7830" y="970"/>
                  </a:lnTo>
                  <a:lnTo>
                    <a:pt x="7864" y="937"/>
                  </a:lnTo>
                  <a:lnTo>
                    <a:pt x="7896" y="904"/>
                  </a:lnTo>
                  <a:lnTo>
                    <a:pt x="7928" y="870"/>
                  </a:lnTo>
                  <a:lnTo>
                    <a:pt x="7958" y="837"/>
                  </a:lnTo>
                  <a:lnTo>
                    <a:pt x="7987" y="801"/>
                  </a:lnTo>
                  <a:lnTo>
                    <a:pt x="8015" y="767"/>
                  </a:lnTo>
                  <a:lnTo>
                    <a:pt x="8042" y="733"/>
                  </a:lnTo>
                  <a:lnTo>
                    <a:pt x="8066" y="698"/>
                  </a:lnTo>
                  <a:lnTo>
                    <a:pt x="8091" y="663"/>
                  </a:lnTo>
                  <a:lnTo>
                    <a:pt x="8114" y="628"/>
                  </a:lnTo>
                  <a:lnTo>
                    <a:pt x="8136" y="593"/>
                  </a:lnTo>
                  <a:lnTo>
                    <a:pt x="8156" y="557"/>
                  </a:lnTo>
                  <a:lnTo>
                    <a:pt x="8176" y="521"/>
                  </a:lnTo>
                  <a:lnTo>
                    <a:pt x="8194" y="485"/>
                  </a:lnTo>
                  <a:lnTo>
                    <a:pt x="8211" y="449"/>
                  </a:lnTo>
                  <a:lnTo>
                    <a:pt x="8226" y="413"/>
                  </a:lnTo>
                  <a:lnTo>
                    <a:pt x="8241" y="375"/>
                  </a:lnTo>
                  <a:lnTo>
                    <a:pt x="8253" y="339"/>
                  </a:lnTo>
                  <a:lnTo>
                    <a:pt x="8266" y="302"/>
                  </a:lnTo>
                  <a:lnTo>
                    <a:pt x="8276" y="265"/>
                  </a:lnTo>
                  <a:lnTo>
                    <a:pt x="8284" y="227"/>
                  </a:lnTo>
                  <a:lnTo>
                    <a:pt x="8292" y="190"/>
                  </a:lnTo>
                  <a:lnTo>
                    <a:pt x="8299" y="152"/>
                  </a:lnTo>
                  <a:lnTo>
                    <a:pt x="8304" y="115"/>
                  </a:lnTo>
                  <a:lnTo>
                    <a:pt x="8307" y="76"/>
                  </a:lnTo>
                  <a:lnTo>
                    <a:pt x="8309" y="38"/>
                  </a:lnTo>
                  <a:lnTo>
                    <a:pt x="8310" y="0"/>
                  </a:lnTo>
                  <a:lnTo>
                    <a:pt x="8210" y="0"/>
                  </a:lnTo>
                  <a:lnTo>
                    <a:pt x="8209" y="35"/>
                  </a:lnTo>
                  <a:lnTo>
                    <a:pt x="8207" y="69"/>
                  </a:lnTo>
                  <a:lnTo>
                    <a:pt x="8204" y="103"/>
                  </a:lnTo>
                  <a:lnTo>
                    <a:pt x="8200" y="137"/>
                  </a:lnTo>
                  <a:lnTo>
                    <a:pt x="8194" y="172"/>
                  </a:lnTo>
                  <a:lnTo>
                    <a:pt x="8187" y="206"/>
                  </a:lnTo>
                  <a:lnTo>
                    <a:pt x="8179" y="240"/>
                  </a:lnTo>
                  <a:lnTo>
                    <a:pt x="8170" y="274"/>
                  </a:lnTo>
                  <a:lnTo>
                    <a:pt x="8159" y="307"/>
                  </a:lnTo>
                  <a:lnTo>
                    <a:pt x="8147" y="341"/>
                  </a:lnTo>
                  <a:lnTo>
                    <a:pt x="8133" y="374"/>
                  </a:lnTo>
                  <a:lnTo>
                    <a:pt x="8120" y="408"/>
                  </a:lnTo>
                  <a:lnTo>
                    <a:pt x="8104" y="441"/>
                  </a:lnTo>
                  <a:lnTo>
                    <a:pt x="8087" y="475"/>
                  </a:lnTo>
                  <a:lnTo>
                    <a:pt x="8069" y="508"/>
                  </a:lnTo>
                  <a:lnTo>
                    <a:pt x="8050" y="541"/>
                  </a:lnTo>
                  <a:lnTo>
                    <a:pt x="8030" y="574"/>
                  </a:lnTo>
                  <a:lnTo>
                    <a:pt x="8007" y="607"/>
                  </a:lnTo>
                  <a:lnTo>
                    <a:pt x="7985" y="640"/>
                  </a:lnTo>
                  <a:lnTo>
                    <a:pt x="7961" y="672"/>
                  </a:lnTo>
                  <a:lnTo>
                    <a:pt x="7936" y="705"/>
                  </a:lnTo>
                  <a:lnTo>
                    <a:pt x="7909" y="738"/>
                  </a:lnTo>
                  <a:lnTo>
                    <a:pt x="7883" y="770"/>
                  </a:lnTo>
                  <a:lnTo>
                    <a:pt x="7854" y="802"/>
                  </a:lnTo>
                  <a:lnTo>
                    <a:pt x="7824" y="835"/>
                  </a:lnTo>
                  <a:lnTo>
                    <a:pt x="7793" y="867"/>
                  </a:lnTo>
                  <a:lnTo>
                    <a:pt x="7761" y="899"/>
                  </a:lnTo>
                  <a:lnTo>
                    <a:pt x="7728" y="930"/>
                  </a:lnTo>
                  <a:lnTo>
                    <a:pt x="7693" y="962"/>
                  </a:lnTo>
                  <a:lnTo>
                    <a:pt x="7657" y="993"/>
                  </a:lnTo>
                  <a:lnTo>
                    <a:pt x="7620" y="1025"/>
                  </a:lnTo>
                  <a:lnTo>
                    <a:pt x="7583" y="1056"/>
                  </a:lnTo>
                  <a:lnTo>
                    <a:pt x="7544" y="1087"/>
                  </a:lnTo>
                  <a:lnTo>
                    <a:pt x="7504" y="1117"/>
                  </a:lnTo>
                  <a:lnTo>
                    <a:pt x="7463" y="1148"/>
                  </a:lnTo>
                  <a:lnTo>
                    <a:pt x="7421" y="1178"/>
                  </a:lnTo>
                  <a:lnTo>
                    <a:pt x="7378" y="1209"/>
                  </a:lnTo>
                  <a:lnTo>
                    <a:pt x="7333" y="1239"/>
                  </a:lnTo>
                  <a:lnTo>
                    <a:pt x="7288" y="1269"/>
                  </a:lnTo>
                  <a:lnTo>
                    <a:pt x="7241" y="1298"/>
                  </a:lnTo>
                  <a:lnTo>
                    <a:pt x="7195" y="1328"/>
                  </a:lnTo>
                  <a:lnTo>
                    <a:pt x="7146" y="1357"/>
                  </a:lnTo>
                  <a:lnTo>
                    <a:pt x="7097" y="1386"/>
                  </a:lnTo>
                  <a:lnTo>
                    <a:pt x="7046" y="1415"/>
                  </a:lnTo>
                  <a:lnTo>
                    <a:pt x="6995" y="1443"/>
                  </a:lnTo>
                  <a:lnTo>
                    <a:pt x="6942" y="1472"/>
                  </a:lnTo>
                  <a:lnTo>
                    <a:pt x="6889" y="1500"/>
                  </a:lnTo>
                  <a:lnTo>
                    <a:pt x="6835" y="1528"/>
                  </a:lnTo>
                  <a:lnTo>
                    <a:pt x="6779" y="1556"/>
                  </a:lnTo>
                  <a:lnTo>
                    <a:pt x="6723" y="1582"/>
                  </a:lnTo>
                  <a:lnTo>
                    <a:pt x="6665" y="1610"/>
                  </a:lnTo>
                  <a:lnTo>
                    <a:pt x="6607" y="1637"/>
                  </a:lnTo>
                  <a:lnTo>
                    <a:pt x="6549" y="1664"/>
                  </a:lnTo>
                  <a:lnTo>
                    <a:pt x="6488" y="1690"/>
                  </a:lnTo>
                  <a:lnTo>
                    <a:pt x="6427" y="1717"/>
                  </a:lnTo>
                  <a:lnTo>
                    <a:pt x="6366" y="1743"/>
                  </a:lnTo>
                  <a:lnTo>
                    <a:pt x="6302" y="1769"/>
                  </a:lnTo>
                  <a:lnTo>
                    <a:pt x="6239" y="1793"/>
                  </a:lnTo>
                  <a:lnTo>
                    <a:pt x="6174" y="1819"/>
                  </a:lnTo>
                  <a:lnTo>
                    <a:pt x="6109" y="1844"/>
                  </a:lnTo>
                  <a:lnTo>
                    <a:pt x="6043" y="1869"/>
                  </a:lnTo>
                  <a:lnTo>
                    <a:pt x="5976" y="1894"/>
                  </a:lnTo>
                  <a:lnTo>
                    <a:pt x="5907" y="1918"/>
                  </a:lnTo>
                  <a:lnTo>
                    <a:pt x="5838" y="1941"/>
                  </a:lnTo>
                  <a:lnTo>
                    <a:pt x="5768" y="1965"/>
                  </a:lnTo>
                  <a:lnTo>
                    <a:pt x="5698" y="1988"/>
                  </a:lnTo>
                  <a:lnTo>
                    <a:pt x="5627" y="2012"/>
                  </a:lnTo>
                  <a:lnTo>
                    <a:pt x="5554" y="2034"/>
                  </a:lnTo>
                  <a:lnTo>
                    <a:pt x="5481" y="2056"/>
                  </a:lnTo>
                  <a:lnTo>
                    <a:pt x="5408" y="2079"/>
                  </a:lnTo>
                  <a:lnTo>
                    <a:pt x="5333" y="2101"/>
                  </a:lnTo>
                  <a:lnTo>
                    <a:pt x="5258" y="2122"/>
                  </a:lnTo>
                  <a:lnTo>
                    <a:pt x="5105" y="2164"/>
                  </a:lnTo>
                  <a:lnTo>
                    <a:pt x="4949" y="2205"/>
                  </a:lnTo>
                  <a:lnTo>
                    <a:pt x="4790" y="2245"/>
                  </a:lnTo>
                  <a:lnTo>
                    <a:pt x="4628" y="2284"/>
                  </a:lnTo>
                  <a:lnTo>
                    <a:pt x="4463" y="2321"/>
                  </a:lnTo>
                  <a:lnTo>
                    <a:pt x="4296" y="2356"/>
                  </a:lnTo>
                  <a:lnTo>
                    <a:pt x="4126" y="2390"/>
                  </a:lnTo>
                  <a:lnTo>
                    <a:pt x="3953" y="2424"/>
                  </a:lnTo>
                  <a:lnTo>
                    <a:pt x="3778" y="2455"/>
                  </a:lnTo>
                  <a:lnTo>
                    <a:pt x="3600" y="2485"/>
                  </a:lnTo>
                  <a:lnTo>
                    <a:pt x="3420" y="2514"/>
                  </a:lnTo>
                  <a:lnTo>
                    <a:pt x="3237" y="2542"/>
                  </a:lnTo>
                  <a:lnTo>
                    <a:pt x="3053" y="2568"/>
                  </a:lnTo>
                  <a:lnTo>
                    <a:pt x="2866" y="2592"/>
                  </a:lnTo>
                  <a:lnTo>
                    <a:pt x="2677" y="2615"/>
                  </a:lnTo>
                  <a:lnTo>
                    <a:pt x="2486" y="2636"/>
                  </a:lnTo>
                  <a:lnTo>
                    <a:pt x="2292" y="2656"/>
                  </a:lnTo>
                  <a:lnTo>
                    <a:pt x="2096" y="2674"/>
                  </a:lnTo>
                  <a:lnTo>
                    <a:pt x="1899" y="2690"/>
                  </a:lnTo>
                  <a:lnTo>
                    <a:pt x="1701" y="2706"/>
                  </a:lnTo>
                  <a:lnTo>
                    <a:pt x="1500" y="2719"/>
                  </a:lnTo>
                  <a:lnTo>
                    <a:pt x="1297" y="2731"/>
                  </a:lnTo>
                  <a:lnTo>
                    <a:pt x="1093" y="2740"/>
                  </a:lnTo>
                  <a:lnTo>
                    <a:pt x="887" y="2748"/>
                  </a:lnTo>
                  <a:lnTo>
                    <a:pt x="680" y="2754"/>
                  </a:lnTo>
                  <a:lnTo>
                    <a:pt x="471" y="2760"/>
                  </a:lnTo>
                  <a:lnTo>
                    <a:pt x="262" y="2762"/>
                  </a:lnTo>
                  <a:lnTo>
                    <a:pt x="50" y="2763"/>
                  </a:lnTo>
                  <a:lnTo>
                    <a:pt x="50" y="2763"/>
                  </a:lnTo>
                  <a:lnTo>
                    <a:pt x="50" y="2763"/>
                  </a:lnTo>
                  <a:lnTo>
                    <a:pt x="44" y="2763"/>
                  </a:lnTo>
                  <a:lnTo>
                    <a:pt x="39" y="2764"/>
                  </a:lnTo>
                  <a:lnTo>
                    <a:pt x="33" y="2765"/>
                  </a:lnTo>
                  <a:lnTo>
                    <a:pt x="28" y="2767"/>
                  </a:lnTo>
                  <a:lnTo>
                    <a:pt x="23" y="2769"/>
                  </a:lnTo>
                  <a:lnTo>
                    <a:pt x="19" y="2772"/>
                  </a:lnTo>
                  <a:lnTo>
                    <a:pt x="16" y="2775"/>
                  </a:lnTo>
                  <a:lnTo>
                    <a:pt x="13" y="2778"/>
                  </a:lnTo>
                  <a:lnTo>
                    <a:pt x="7" y="2785"/>
                  </a:lnTo>
                  <a:lnTo>
                    <a:pt x="4" y="2795"/>
                  </a:lnTo>
                  <a:lnTo>
                    <a:pt x="0" y="2803"/>
                  </a:lnTo>
                  <a:lnTo>
                    <a:pt x="0" y="2812"/>
                  </a:lnTo>
                  <a:lnTo>
                    <a:pt x="0" y="2823"/>
                  </a:lnTo>
                  <a:lnTo>
                    <a:pt x="4" y="2831"/>
                  </a:lnTo>
                  <a:lnTo>
                    <a:pt x="7" y="2840"/>
                  </a:lnTo>
                  <a:lnTo>
                    <a:pt x="13" y="2847"/>
                  </a:lnTo>
                  <a:lnTo>
                    <a:pt x="16" y="2851"/>
                  </a:lnTo>
                  <a:lnTo>
                    <a:pt x="19" y="2854"/>
                  </a:lnTo>
                  <a:lnTo>
                    <a:pt x="23" y="2857"/>
                  </a:lnTo>
                  <a:lnTo>
                    <a:pt x="28" y="2859"/>
                  </a:lnTo>
                  <a:lnTo>
                    <a:pt x="33" y="2861"/>
                  </a:lnTo>
                  <a:lnTo>
                    <a:pt x="39" y="2862"/>
                  </a:lnTo>
                  <a:lnTo>
                    <a:pt x="44" y="2863"/>
                  </a:lnTo>
                  <a:lnTo>
                    <a:pt x="50" y="286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05080" y="4414680"/>
              <a:ext cx="468360" cy="164880"/>
            </a:xfrm>
            <a:custGeom>
              <a:avLst/>
              <a:gdLst/>
              <a:ahLst/>
              <a:rect l="l" t="t" r="r" b="b"/>
              <a:pathLst>
                <a:path w="8260" h="2913">
                  <a:moveTo>
                    <a:pt x="0" y="50"/>
                  </a:moveTo>
                  <a:lnTo>
                    <a:pt x="0" y="50"/>
                  </a:lnTo>
                  <a:lnTo>
                    <a:pt x="1" y="88"/>
                  </a:lnTo>
                  <a:lnTo>
                    <a:pt x="3" y="126"/>
                  </a:lnTo>
                  <a:lnTo>
                    <a:pt x="6" y="165"/>
                  </a:lnTo>
                  <a:lnTo>
                    <a:pt x="11" y="202"/>
                  </a:lnTo>
                  <a:lnTo>
                    <a:pt x="18" y="240"/>
                  </a:lnTo>
                  <a:lnTo>
                    <a:pt x="25" y="277"/>
                  </a:lnTo>
                  <a:lnTo>
                    <a:pt x="34" y="315"/>
                  </a:lnTo>
                  <a:lnTo>
                    <a:pt x="44" y="352"/>
                  </a:lnTo>
                  <a:lnTo>
                    <a:pt x="56" y="389"/>
                  </a:lnTo>
                  <a:lnTo>
                    <a:pt x="69" y="425"/>
                  </a:lnTo>
                  <a:lnTo>
                    <a:pt x="84" y="463"/>
                  </a:lnTo>
                  <a:lnTo>
                    <a:pt x="99" y="499"/>
                  </a:lnTo>
                  <a:lnTo>
                    <a:pt x="116" y="535"/>
                  </a:lnTo>
                  <a:lnTo>
                    <a:pt x="134" y="571"/>
                  </a:lnTo>
                  <a:lnTo>
                    <a:pt x="154" y="607"/>
                  </a:lnTo>
                  <a:lnTo>
                    <a:pt x="174" y="643"/>
                  </a:lnTo>
                  <a:lnTo>
                    <a:pt x="196" y="678"/>
                  </a:lnTo>
                  <a:lnTo>
                    <a:pt x="219" y="713"/>
                  </a:lnTo>
                  <a:lnTo>
                    <a:pt x="244" y="748"/>
                  </a:lnTo>
                  <a:lnTo>
                    <a:pt x="268" y="783"/>
                  </a:lnTo>
                  <a:lnTo>
                    <a:pt x="295" y="817"/>
                  </a:lnTo>
                  <a:lnTo>
                    <a:pt x="323" y="851"/>
                  </a:lnTo>
                  <a:lnTo>
                    <a:pt x="352" y="887"/>
                  </a:lnTo>
                  <a:lnTo>
                    <a:pt x="382" y="920"/>
                  </a:lnTo>
                  <a:lnTo>
                    <a:pt x="414" y="954"/>
                  </a:lnTo>
                  <a:lnTo>
                    <a:pt x="446" y="987"/>
                  </a:lnTo>
                  <a:lnTo>
                    <a:pt x="480" y="1020"/>
                  </a:lnTo>
                  <a:lnTo>
                    <a:pt x="514" y="1053"/>
                  </a:lnTo>
                  <a:lnTo>
                    <a:pt x="550" y="1086"/>
                  </a:lnTo>
                  <a:lnTo>
                    <a:pt x="587" y="1119"/>
                  </a:lnTo>
                  <a:lnTo>
                    <a:pt x="625" y="1151"/>
                  </a:lnTo>
                  <a:lnTo>
                    <a:pt x="664" y="1183"/>
                  </a:lnTo>
                  <a:lnTo>
                    <a:pt x="704" y="1216"/>
                  </a:lnTo>
                  <a:lnTo>
                    <a:pt x="745" y="1248"/>
                  </a:lnTo>
                  <a:lnTo>
                    <a:pt x="788" y="1279"/>
                  </a:lnTo>
                  <a:lnTo>
                    <a:pt x="831" y="1310"/>
                  </a:lnTo>
                  <a:lnTo>
                    <a:pt x="876" y="1341"/>
                  </a:lnTo>
                  <a:lnTo>
                    <a:pt x="921" y="1372"/>
                  </a:lnTo>
                  <a:lnTo>
                    <a:pt x="967" y="1403"/>
                  </a:lnTo>
                  <a:lnTo>
                    <a:pt x="1015" y="1433"/>
                  </a:lnTo>
                  <a:lnTo>
                    <a:pt x="1063" y="1463"/>
                  </a:lnTo>
                  <a:lnTo>
                    <a:pt x="1113" y="1493"/>
                  </a:lnTo>
                  <a:lnTo>
                    <a:pt x="1164" y="1523"/>
                  </a:lnTo>
                  <a:lnTo>
                    <a:pt x="1214" y="1552"/>
                  </a:lnTo>
                  <a:lnTo>
                    <a:pt x="1267" y="1581"/>
                  </a:lnTo>
                  <a:lnTo>
                    <a:pt x="1321" y="1610"/>
                  </a:lnTo>
                  <a:lnTo>
                    <a:pt x="1375" y="1639"/>
                  </a:lnTo>
                  <a:lnTo>
                    <a:pt x="1430" y="1668"/>
                  </a:lnTo>
                  <a:lnTo>
                    <a:pt x="1487" y="1696"/>
                  </a:lnTo>
                  <a:lnTo>
                    <a:pt x="1544" y="1723"/>
                  </a:lnTo>
                  <a:lnTo>
                    <a:pt x="1602" y="1750"/>
                  </a:lnTo>
                  <a:lnTo>
                    <a:pt x="1661" y="1778"/>
                  </a:lnTo>
                  <a:lnTo>
                    <a:pt x="1721" y="1805"/>
                  </a:lnTo>
                  <a:lnTo>
                    <a:pt x="1782" y="1832"/>
                  </a:lnTo>
                  <a:lnTo>
                    <a:pt x="1844" y="1859"/>
                  </a:lnTo>
                  <a:lnTo>
                    <a:pt x="1907" y="1885"/>
                  </a:lnTo>
                  <a:lnTo>
                    <a:pt x="1970" y="1912"/>
                  </a:lnTo>
                  <a:lnTo>
                    <a:pt x="2034" y="1938"/>
                  </a:lnTo>
                  <a:lnTo>
                    <a:pt x="2100" y="1962"/>
                  </a:lnTo>
                  <a:lnTo>
                    <a:pt x="2166" y="1988"/>
                  </a:lnTo>
                  <a:lnTo>
                    <a:pt x="2233" y="2013"/>
                  </a:lnTo>
                  <a:lnTo>
                    <a:pt x="2301" y="2038"/>
                  </a:lnTo>
                  <a:lnTo>
                    <a:pt x="2370" y="2062"/>
                  </a:lnTo>
                  <a:lnTo>
                    <a:pt x="2440" y="2087"/>
                  </a:lnTo>
                  <a:lnTo>
                    <a:pt x="2510" y="2110"/>
                  </a:lnTo>
                  <a:lnTo>
                    <a:pt x="2581" y="2133"/>
                  </a:lnTo>
                  <a:lnTo>
                    <a:pt x="2654" y="2157"/>
                  </a:lnTo>
                  <a:lnTo>
                    <a:pt x="2726" y="2180"/>
                  </a:lnTo>
                  <a:lnTo>
                    <a:pt x="2799" y="2202"/>
                  </a:lnTo>
                  <a:lnTo>
                    <a:pt x="2874" y="2225"/>
                  </a:lnTo>
                  <a:lnTo>
                    <a:pt x="2949" y="2247"/>
                  </a:lnTo>
                  <a:lnTo>
                    <a:pt x="3025" y="2269"/>
                  </a:lnTo>
                  <a:lnTo>
                    <a:pt x="3179" y="2311"/>
                  </a:lnTo>
                  <a:lnTo>
                    <a:pt x="3337" y="2352"/>
                  </a:lnTo>
                  <a:lnTo>
                    <a:pt x="3497" y="2393"/>
                  </a:lnTo>
                  <a:lnTo>
                    <a:pt x="3659" y="2431"/>
                  </a:lnTo>
                  <a:lnTo>
                    <a:pt x="3825" y="2468"/>
                  </a:lnTo>
                  <a:lnTo>
                    <a:pt x="3994" y="2504"/>
                  </a:lnTo>
                  <a:lnTo>
                    <a:pt x="4165" y="2540"/>
                  </a:lnTo>
                  <a:lnTo>
                    <a:pt x="4339" y="2573"/>
                  </a:lnTo>
                  <a:lnTo>
                    <a:pt x="4515" y="2605"/>
                  </a:lnTo>
                  <a:lnTo>
                    <a:pt x="4694" y="2635"/>
                  </a:lnTo>
                  <a:lnTo>
                    <a:pt x="4874" y="2664"/>
                  </a:lnTo>
                  <a:lnTo>
                    <a:pt x="5058" y="2692"/>
                  </a:lnTo>
                  <a:lnTo>
                    <a:pt x="5244" y="2717"/>
                  </a:lnTo>
                  <a:lnTo>
                    <a:pt x="5432" y="2742"/>
                  </a:lnTo>
                  <a:lnTo>
                    <a:pt x="5622" y="2765"/>
                  </a:lnTo>
                  <a:lnTo>
                    <a:pt x="5814" y="2786"/>
                  </a:lnTo>
                  <a:lnTo>
                    <a:pt x="6008" y="2805"/>
                  </a:lnTo>
                  <a:lnTo>
                    <a:pt x="6204" y="2824"/>
                  </a:lnTo>
                  <a:lnTo>
                    <a:pt x="6403" y="2841"/>
                  </a:lnTo>
                  <a:lnTo>
                    <a:pt x="6603" y="2856"/>
                  </a:lnTo>
                  <a:lnTo>
                    <a:pt x="6804" y="2869"/>
                  </a:lnTo>
                  <a:lnTo>
                    <a:pt x="7008" y="2880"/>
                  </a:lnTo>
                  <a:lnTo>
                    <a:pt x="7213" y="2890"/>
                  </a:lnTo>
                  <a:lnTo>
                    <a:pt x="7420" y="2899"/>
                  </a:lnTo>
                  <a:lnTo>
                    <a:pt x="7627" y="2905"/>
                  </a:lnTo>
                  <a:lnTo>
                    <a:pt x="7837" y="2909"/>
                  </a:lnTo>
                  <a:lnTo>
                    <a:pt x="8048" y="2912"/>
                  </a:lnTo>
                  <a:lnTo>
                    <a:pt x="8260" y="2913"/>
                  </a:lnTo>
                  <a:lnTo>
                    <a:pt x="8260" y="2813"/>
                  </a:lnTo>
                  <a:lnTo>
                    <a:pt x="8048" y="2812"/>
                  </a:lnTo>
                  <a:lnTo>
                    <a:pt x="7839" y="2810"/>
                  </a:lnTo>
                  <a:lnTo>
                    <a:pt x="7630" y="2804"/>
                  </a:lnTo>
                  <a:lnTo>
                    <a:pt x="7423" y="2798"/>
                  </a:lnTo>
                  <a:lnTo>
                    <a:pt x="7217" y="2790"/>
                  </a:lnTo>
                  <a:lnTo>
                    <a:pt x="7013" y="2781"/>
                  </a:lnTo>
                  <a:lnTo>
                    <a:pt x="6810" y="2769"/>
                  </a:lnTo>
                  <a:lnTo>
                    <a:pt x="6609" y="2756"/>
                  </a:lnTo>
                  <a:lnTo>
                    <a:pt x="6411" y="2740"/>
                  </a:lnTo>
                  <a:lnTo>
                    <a:pt x="6214" y="2724"/>
                  </a:lnTo>
                  <a:lnTo>
                    <a:pt x="6018" y="2706"/>
                  </a:lnTo>
                  <a:lnTo>
                    <a:pt x="5824" y="2686"/>
                  </a:lnTo>
                  <a:lnTo>
                    <a:pt x="5633" y="2665"/>
                  </a:lnTo>
                  <a:lnTo>
                    <a:pt x="5444" y="2642"/>
                  </a:lnTo>
                  <a:lnTo>
                    <a:pt x="5257" y="2618"/>
                  </a:lnTo>
                  <a:lnTo>
                    <a:pt x="5073" y="2592"/>
                  </a:lnTo>
                  <a:lnTo>
                    <a:pt x="4890" y="2564"/>
                  </a:lnTo>
                  <a:lnTo>
                    <a:pt x="4710" y="2535"/>
                  </a:lnTo>
                  <a:lnTo>
                    <a:pt x="4532" y="2505"/>
                  </a:lnTo>
                  <a:lnTo>
                    <a:pt x="4357" y="2474"/>
                  </a:lnTo>
                  <a:lnTo>
                    <a:pt x="4184" y="2440"/>
                  </a:lnTo>
                  <a:lnTo>
                    <a:pt x="4014" y="2406"/>
                  </a:lnTo>
                  <a:lnTo>
                    <a:pt x="3846" y="2371"/>
                  </a:lnTo>
                  <a:lnTo>
                    <a:pt x="3682" y="2334"/>
                  </a:lnTo>
                  <a:lnTo>
                    <a:pt x="3520" y="2295"/>
                  </a:lnTo>
                  <a:lnTo>
                    <a:pt x="3361" y="2255"/>
                  </a:lnTo>
                  <a:lnTo>
                    <a:pt x="3205" y="2214"/>
                  </a:lnTo>
                  <a:lnTo>
                    <a:pt x="3052" y="2172"/>
                  </a:lnTo>
                  <a:lnTo>
                    <a:pt x="2977" y="2151"/>
                  </a:lnTo>
                  <a:lnTo>
                    <a:pt x="2902" y="2129"/>
                  </a:lnTo>
                  <a:lnTo>
                    <a:pt x="2829" y="2106"/>
                  </a:lnTo>
                  <a:lnTo>
                    <a:pt x="2756" y="2084"/>
                  </a:lnTo>
                  <a:lnTo>
                    <a:pt x="2683" y="2062"/>
                  </a:lnTo>
                  <a:lnTo>
                    <a:pt x="2612" y="2038"/>
                  </a:lnTo>
                  <a:lnTo>
                    <a:pt x="2542" y="2015"/>
                  </a:lnTo>
                  <a:lnTo>
                    <a:pt x="2472" y="1991"/>
                  </a:lnTo>
                  <a:lnTo>
                    <a:pt x="2403" y="1968"/>
                  </a:lnTo>
                  <a:lnTo>
                    <a:pt x="2334" y="1944"/>
                  </a:lnTo>
                  <a:lnTo>
                    <a:pt x="2267" y="1919"/>
                  </a:lnTo>
                  <a:lnTo>
                    <a:pt x="2201" y="1894"/>
                  </a:lnTo>
                  <a:lnTo>
                    <a:pt x="2136" y="1869"/>
                  </a:lnTo>
                  <a:lnTo>
                    <a:pt x="2071" y="1843"/>
                  </a:lnTo>
                  <a:lnTo>
                    <a:pt x="2007" y="1819"/>
                  </a:lnTo>
                  <a:lnTo>
                    <a:pt x="1944" y="1793"/>
                  </a:lnTo>
                  <a:lnTo>
                    <a:pt x="1883" y="1767"/>
                  </a:lnTo>
                  <a:lnTo>
                    <a:pt x="1822" y="1740"/>
                  </a:lnTo>
                  <a:lnTo>
                    <a:pt x="1761" y="1714"/>
                  </a:lnTo>
                  <a:lnTo>
                    <a:pt x="1703" y="1687"/>
                  </a:lnTo>
                  <a:lnTo>
                    <a:pt x="1645" y="1660"/>
                  </a:lnTo>
                  <a:lnTo>
                    <a:pt x="1587" y="1632"/>
                  </a:lnTo>
                  <a:lnTo>
                    <a:pt x="1531" y="1606"/>
                  </a:lnTo>
                  <a:lnTo>
                    <a:pt x="1475" y="1578"/>
                  </a:lnTo>
                  <a:lnTo>
                    <a:pt x="1421" y="1550"/>
                  </a:lnTo>
                  <a:lnTo>
                    <a:pt x="1368" y="1522"/>
                  </a:lnTo>
                  <a:lnTo>
                    <a:pt x="1315" y="1493"/>
                  </a:lnTo>
                  <a:lnTo>
                    <a:pt x="1264" y="1465"/>
                  </a:lnTo>
                  <a:lnTo>
                    <a:pt x="1213" y="1436"/>
                  </a:lnTo>
                  <a:lnTo>
                    <a:pt x="1164" y="1407"/>
                  </a:lnTo>
                  <a:lnTo>
                    <a:pt x="1115" y="1378"/>
                  </a:lnTo>
                  <a:lnTo>
                    <a:pt x="1068" y="1348"/>
                  </a:lnTo>
                  <a:lnTo>
                    <a:pt x="1022" y="1319"/>
                  </a:lnTo>
                  <a:lnTo>
                    <a:pt x="977" y="1289"/>
                  </a:lnTo>
                  <a:lnTo>
                    <a:pt x="932" y="1259"/>
                  </a:lnTo>
                  <a:lnTo>
                    <a:pt x="889" y="1228"/>
                  </a:lnTo>
                  <a:lnTo>
                    <a:pt x="847" y="1198"/>
                  </a:lnTo>
                  <a:lnTo>
                    <a:pt x="805" y="1167"/>
                  </a:lnTo>
                  <a:lnTo>
                    <a:pt x="766" y="1137"/>
                  </a:lnTo>
                  <a:lnTo>
                    <a:pt x="727" y="1106"/>
                  </a:lnTo>
                  <a:lnTo>
                    <a:pt x="690" y="1075"/>
                  </a:lnTo>
                  <a:lnTo>
                    <a:pt x="653" y="1043"/>
                  </a:lnTo>
                  <a:lnTo>
                    <a:pt x="617" y="1012"/>
                  </a:lnTo>
                  <a:lnTo>
                    <a:pt x="582" y="980"/>
                  </a:lnTo>
                  <a:lnTo>
                    <a:pt x="549" y="949"/>
                  </a:lnTo>
                  <a:lnTo>
                    <a:pt x="517" y="917"/>
                  </a:lnTo>
                  <a:lnTo>
                    <a:pt x="486" y="885"/>
                  </a:lnTo>
                  <a:lnTo>
                    <a:pt x="456" y="852"/>
                  </a:lnTo>
                  <a:lnTo>
                    <a:pt x="427" y="820"/>
                  </a:lnTo>
                  <a:lnTo>
                    <a:pt x="401" y="788"/>
                  </a:lnTo>
                  <a:lnTo>
                    <a:pt x="374" y="755"/>
                  </a:lnTo>
                  <a:lnTo>
                    <a:pt x="349" y="723"/>
                  </a:lnTo>
                  <a:lnTo>
                    <a:pt x="324" y="690"/>
                  </a:lnTo>
                  <a:lnTo>
                    <a:pt x="301" y="657"/>
                  </a:lnTo>
                  <a:lnTo>
                    <a:pt x="281" y="624"/>
                  </a:lnTo>
                  <a:lnTo>
                    <a:pt x="260" y="591"/>
                  </a:lnTo>
                  <a:lnTo>
                    <a:pt x="241" y="558"/>
                  </a:lnTo>
                  <a:lnTo>
                    <a:pt x="223" y="525"/>
                  </a:lnTo>
                  <a:lnTo>
                    <a:pt x="205" y="491"/>
                  </a:lnTo>
                  <a:lnTo>
                    <a:pt x="190" y="458"/>
                  </a:lnTo>
                  <a:lnTo>
                    <a:pt x="176" y="424"/>
                  </a:lnTo>
                  <a:lnTo>
                    <a:pt x="163" y="391"/>
                  </a:lnTo>
                  <a:lnTo>
                    <a:pt x="151" y="357"/>
                  </a:lnTo>
                  <a:lnTo>
                    <a:pt x="140" y="324"/>
                  </a:lnTo>
                  <a:lnTo>
                    <a:pt x="131" y="290"/>
                  </a:lnTo>
                  <a:lnTo>
                    <a:pt x="123" y="256"/>
                  </a:lnTo>
                  <a:lnTo>
                    <a:pt x="116" y="222"/>
                  </a:lnTo>
                  <a:lnTo>
                    <a:pt x="110" y="187"/>
                  </a:lnTo>
                  <a:lnTo>
                    <a:pt x="106" y="153"/>
                  </a:lnTo>
                  <a:lnTo>
                    <a:pt x="102" y="119"/>
                  </a:lnTo>
                  <a:lnTo>
                    <a:pt x="101" y="85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4" y="24"/>
                  </a:lnTo>
                  <a:lnTo>
                    <a:pt x="91" y="20"/>
                  </a:lnTo>
                  <a:lnTo>
                    <a:pt x="88" y="16"/>
                  </a:lnTo>
                  <a:lnTo>
                    <a:pt x="85" y="13"/>
                  </a:lnTo>
                  <a:lnTo>
                    <a:pt x="77" y="7"/>
                  </a:lnTo>
                  <a:lnTo>
                    <a:pt x="68" y="3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32" y="3"/>
                  </a:lnTo>
                  <a:lnTo>
                    <a:pt x="23" y="7"/>
                  </a:lnTo>
                  <a:lnTo>
                    <a:pt x="15" y="13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05080" y="4255920"/>
              <a:ext cx="471600" cy="161640"/>
            </a:xfrm>
            <a:custGeom>
              <a:avLst/>
              <a:gdLst/>
              <a:ahLst/>
              <a:rect l="l" t="t" r="r" b="b"/>
              <a:pathLst>
                <a:path w="8311" h="2862">
                  <a:moveTo>
                    <a:pt x="8260" y="0"/>
                  </a:moveTo>
                  <a:lnTo>
                    <a:pt x="8260" y="0"/>
                  </a:lnTo>
                  <a:lnTo>
                    <a:pt x="8048" y="0"/>
                  </a:lnTo>
                  <a:lnTo>
                    <a:pt x="7837" y="3"/>
                  </a:lnTo>
                  <a:lnTo>
                    <a:pt x="7627" y="8"/>
                  </a:lnTo>
                  <a:lnTo>
                    <a:pt x="7420" y="14"/>
                  </a:lnTo>
                  <a:lnTo>
                    <a:pt x="7213" y="22"/>
                  </a:lnTo>
                  <a:lnTo>
                    <a:pt x="7008" y="32"/>
                  </a:lnTo>
                  <a:lnTo>
                    <a:pt x="6804" y="43"/>
                  </a:lnTo>
                  <a:lnTo>
                    <a:pt x="6603" y="57"/>
                  </a:lnTo>
                  <a:lnTo>
                    <a:pt x="6403" y="71"/>
                  </a:lnTo>
                  <a:lnTo>
                    <a:pt x="6204" y="88"/>
                  </a:lnTo>
                  <a:lnTo>
                    <a:pt x="6008" y="106"/>
                  </a:lnTo>
                  <a:lnTo>
                    <a:pt x="5814" y="126"/>
                  </a:lnTo>
                  <a:lnTo>
                    <a:pt x="5622" y="148"/>
                  </a:lnTo>
                  <a:lnTo>
                    <a:pt x="5432" y="170"/>
                  </a:lnTo>
                  <a:lnTo>
                    <a:pt x="5244" y="195"/>
                  </a:lnTo>
                  <a:lnTo>
                    <a:pt x="5058" y="221"/>
                  </a:lnTo>
                  <a:lnTo>
                    <a:pt x="4874" y="249"/>
                  </a:lnTo>
                  <a:lnTo>
                    <a:pt x="4694" y="278"/>
                  </a:lnTo>
                  <a:lnTo>
                    <a:pt x="4515" y="308"/>
                  </a:lnTo>
                  <a:lnTo>
                    <a:pt x="4339" y="340"/>
                  </a:lnTo>
                  <a:lnTo>
                    <a:pt x="4165" y="373"/>
                  </a:lnTo>
                  <a:lnTo>
                    <a:pt x="3994" y="408"/>
                  </a:lnTo>
                  <a:lnTo>
                    <a:pt x="3825" y="443"/>
                  </a:lnTo>
                  <a:lnTo>
                    <a:pt x="3659" y="482"/>
                  </a:lnTo>
                  <a:lnTo>
                    <a:pt x="3497" y="520"/>
                  </a:lnTo>
                  <a:lnTo>
                    <a:pt x="3337" y="560"/>
                  </a:lnTo>
                  <a:lnTo>
                    <a:pt x="3179" y="602"/>
                  </a:lnTo>
                  <a:lnTo>
                    <a:pt x="3025" y="644"/>
                  </a:lnTo>
                  <a:lnTo>
                    <a:pt x="2874" y="687"/>
                  </a:lnTo>
                  <a:lnTo>
                    <a:pt x="2726" y="733"/>
                  </a:lnTo>
                  <a:lnTo>
                    <a:pt x="2654" y="756"/>
                  </a:lnTo>
                  <a:lnTo>
                    <a:pt x="2581" y="779"/>
                  </a:lnTo>
                  <a:lnTo>
                    <a:pt x="2510" y="802"/>
                  </a:lnTo>
                  <a:lnTo>
                    <a:pt x="2440" y="826"/>
                  </a:lnTo>
                  <a:lnTo>
                    <a:pt x="2370" y="850"/>
                  </a:lnTo>
                  <a:lnTo>
                    <a:pt x="2301" y="875"/>
                  </a:lnTo>
                  <a:lnTo>
                    <a:pt x="2233" y="900"/>
                  </a:lnTo>
                  <a:lnTo>
                    <a:pt x="2166" y="924"/>
                  </a:lnTo>
                  <a:lnTo>
                    <a:pt x="2100" y="949"/>
                  </a:lnTo>
                  <a:lnTo>
                    <a:pt x="2034" y="975"/>
                  </a:lnTo>
                  <a:lnTo>
                    <a:pt x="1970" y="1001"/>
                  </a:lnTo>
                  <a:lnTo>
                    <a:pt x="1907" y="1027"/>
                  </a:lnTo>
                  <a:lnTo>
                    <a:pt x="1844" y="1054"/>
                  </a:lnTo>
                  <a:lnTo>
                    <a:pt x="1782" y="1080"/>
                  </a:lnTo>
                  <a:lnTo>
                    <a:pt x="1721" y="1106"/>
                  </a:lnTo>
                  <a:lnTo>
                    <a:pt x="1661" y="1134"/>
                  </a:lnTo>
                  <a:lnTo>
                    <a:pt x="1602" y="1161"/>
                  </a:lnTo>
                  <a:lnTo>
                    <a:pt x="1544" y="1189"/>
                  </a:lnTo>
                  <a:lnTo>
                    <a:pt x="1487" y="1217"/>
                  </a:lnTo>
                  <a:lnTo>
                    <a:pt x="1430" y="1245"/>
                  </a:lnTo>
                  <a:lnTo>
                    <a:pt x="1375" y="1274"/>
                  </a:lnTo>
                  <a:lnTo>
                    <a:pt x="1321" y="1302"/>
                  </a:lnTo>
                  <a:lnTo>
                    <a:pt x="1267" y="1331"/>
                  </a:lnTo>
                  <a:lnTo>
                    <a:pt x="1214" y="1360"/>
                  </a:lnTo>
                  <a:lnTo>
                    <a:pt x="1164" y="1390"/>
                  </a:lnTo>
                  <a:lnTo>
                    <a:pt x="1113" y="1419"/>
                  </a:lnTo>
                  <a:lnTo>
                    <a:pt x="1063" y="1449"/>
                  </a:lnTo>
                  <a:lnTo>
                    <a:pt x="1015" y="1480"/>
                  </a:lnTo>
                  <a:lnTo>
                    <a:pt x="967" y="1510"/>
                  </a:lnTo>
                  <a:lnTo>
                    <a:pt x="921" y="1541"/>
                  </a:lnTo>
                  <a:lnTo>
                    <a:pt x="876" y="1571"/>
                  </a:lnTo>
                  <a:lnTo>
                    <a:pt x="831" y="1602"/>
                  </a:lnTo>
                  <a:lnTo>
                    <a:pt x="788" y="1634"/>
                  </a:lnTo>
                  <a:lnTo>
                    <a:pt x="745" y="1665"/>
                  </a:lnTo>
                  <a:lnTo>
                    <a:pt x="704" y="1697"/>
                  </a:lnTo>
                  <a:lnTo>
                    <a:pt x="664" y="1728"/>
                  </a:lnTo>
                  <a:lnTo>
                    <a:pt x="625" y="1761"/>
                  </a:lnTo>
                  <a:lnTo>
                    <a:pt x="587" y="1793"/>
                  </a:lnTo>
                  <a:lnTo>
                    <a:pt x="550" y="1826"/>
                  </a:lnTo>
                  <a:lnTo>
                    <a:pt x="514" y="1858"/>
                  </a:lnTo>
                  <a:lnTo>
                    <a:pt x="480" y="1892"/>
                  </a:lnTo>
                  <a:lnTo>
                    <a:pt x="446" y="1925"/>
                  </a:lnTo>
                  <a:lnTo>
                    <a:pt x="414" y="1959"/>
                  </a:lnTo>
                  <a:lnTo>
                    <a:pt x="382" y="1992"/>
                  </a:lnTo>
                  <a:lnTo>
                    <a:pt x="352" y="2026"/>
                  </a:lnTo>
                  <a:lnTo>
                    <a:pt x="323" y="2060"/>
                  </a:lnTo>
                  <a:lnTo>
                    <a:pt x="295" y="2095"/>
                  </a:lnTo>
                  <a:lnTo>
                    <a:pt x="268" y="2129"/>
                  </a:lnTo>
                  <a:lnTo>
                    <a:pt x="244" y="2165"/>
                  </a:lnTo>
                  <a:lnTo>
                    <a:pt x="219" y="2199"/>
                  </a:lnTo>
                  <a:lnTo>
                    <a:pt x="196" y="2234"/>
                  </a:lnTo>
                  <a:lnTo>
                    <a:pt x="174" y="2270"/>
                  </a:lnTo>
                  <a:lnTo>
                    <a:pt x="154" y="2305"/>
                  </a:lnTo>
                  <a:lnTo>
                    <a:pt x="134" y="2341"/>
                  </a:lnTo>
                  <a:lnTo>
                    <a:pt x="116" y="2378"/>
                  </a:lnTo>
                  <a:lnTo>
                    <a:pt x="99" y="2414"/>
                  </a:lnTo>
                  <a:lnTo>
                    <a:pt x="84" y="2450"/>
                  </a:lnTo>
                  <a:lnTo>
                    <a:pt x="69" y="2486"/>
                  </a:lnTo>
                  <a:lnTo>
                    <a:pt x="56" y="2524"/>
                  </a:lnTo>
                  <a:lnTo>
                    <a:pt x="44" y="2561"/>
                  </a:lnTo>
                  <a:lnTo>
                    <a:pt x="34" y="2598"/>
                  </a:lnTo>
                  <a:lnTo>
                    <a:pt x="25" y="2635"/>
                  </a:lnTo>
                  <a:lnTo>
                    <a:pt x="18" y="2673"/>
                  </a:lnTo>
                  <a:lnTo>
                    <a:pt x="11" y="2710"/>
                  </a:lnTo>
                  <a:lnTo>
                    <a:pt x="6" y="2748"/>
                  </a:lnTo>
                  <a:lnTo>
                    <a:pt x="3" y="2786"/>
                  </a:lnTo>
                  <a:lnTo>
                    <a:pt x="1" y="2824"/>
                  </a:lnTo>
                  <a:lnTo>
                    <a:pt x="0" y="2862"/>
                  </a:lnTo>
                  <a:lnTo>
                    <a:pt x="100" y="2862"/>
                  </a:lnTo>
                  <a:lnTo>
                    <a:pt x="101" y="2828"/>
                  </a:lnTo>
                  <a:lnTo>
                    <a:pt x="102" y="2794"/>
                  </a:lnTo>
                  <a:lnTo>
                    <a:pt x="106" y="2759"/>
                  </a:lnTo>
                  <a:lnTo>
                    <a:pt x="110" y="2724"/>
                  </a:lnTo>
                  <a:lnTo>
                    <a:pt x="116" y="2691"/>
                  </a:lnTo>
                  <a:lnTo>
                    <a:pt x="123" y="2657"/>
                  </a:lnTo>
                  <a:lnTo>
                    <a:pt x="131" y="2623"/>
                  </a:lnTo>
                  <a:lnTo>
                    <a:pt x="140" y="2589"/>
                  </a:lnTo>
                  <a:lnTo>
                    <a:pt x="151" y="2556"/>
                  </a:lnTo>
                  <a:lnTo>
                    <a:pt x="163" y="2521"/>
                  </a:lnTo>
                  <a:lnTo>
                    <a:pt x="176" y="2488"/>
                  </a:lnTo>
                  <a:lnTo>
                    <a:pt x="190" y="2454"/>
                  </a:lnTo>
                  <a:lnTo>
                    <a:pt x="205" y="2421"/>
                  </a:lnTo>
                  <a:lnTo>
                    <a:pt x="223" y="2388"/>
                  </a:lnTo>
                  <a:lnTo>
                    <a:pt x="241" y="2354"/>
                  </a:lnTo>
                  <a:lnTo>
                    <a:pt x="260" y="2321"/>
                  </a:lnTo>
                  <a:lnTo>
                    <a:pt x="280" y="2288"/>
                  </a:lnTo>
                  <a:lnTo>
                    <a:pt x="301" y="2256"/>
                  </a:lnTo>
                  <a:lnTo>
                    <a:pt x="324" y="2223"/>
                  </a:lnTo>
                  <a:lnTo>
                    <a:pt x="349" y="2189"/>
                  </a:lnTo>
                  <a:lnTo>
                    <a:pt x="374" y="2157"/>
                  </a:lnTo>
                  <a:lnTo>
                    <a:pt x="401" y="2124"/>
                  </a:lnTo>
                  <a:lnTo>
                    <a:pt x="427" y="2092"/>
                  </a:lnTo>
                  <a:lnTo>
                    <a:pt x="456" y="2060"/>
                  </a:lnTo>
                  <a:lnTo>
                    <a:pt x="486" y="2028"/>
                  </a:lnTo>
                  <a:lnTo>
                    <a:pt x="517" y="1996"/>
                  </a:lnTo>
                  <a:lnTo>
                    <a:pt x="549" y="1964"/>
                  </a:lnTo>
                  <a:lnTo>
                    <a:pt x="582" y="1932"/>
                  </a:lnTo>
                  <a:lnTo>
                    <a:pt x="617" y="1901"/>
                  </a:lnTo>
                  <a:lnTo>
                    <a:pt x="653" y="1869"/>
                  </a:lnTo>
                  <a:lnTo>
                    <a:pt x="690" y="1838"/>
                  </a:lnTo>
                  <a:lnTo>
                    <a:pt x="727" y="1807"/>
                  </a:lnTo>
                  <a:lnTo>
                    <a:pt x="766" y="1776"/>
                  </a:lnTo>
                  <a:lnTo>
                    <a:pt x="805" y="1745"/>
                  </a:lnTo>
                  <a:lnTo>
                    <a:pt x="847" y="1715"/>
                  </a:lnTo>
                  <a:lnTo>
                    <a:pt x="889" y="1684"/>
                  </a:lnTo>
                  <a:lnTo>
                    <a:pt x="932" y="1654"/>
                  </a:lnTo>
                  <a:lnTo>
                    <a:pt x="977" y="1624"/>
                  </a:lnTo>
                  <a:lnTo>
                    <a:pt x="1022" y="1594"/>
                  </a:lnTo>
                  <a:lnTo>
                    <a:pt x="1068" y="1564"/>
                  </a:lnTo>
                  <a:lnTo>
                    <a:pt x="1115" y="1535"/>
                  </a:lnTo>
                  <a:lnTo>
                    <a:pt x="1164" y="1506"/>
                  </a:lnTo>
                  <a:lnTo>
                    <a:pt x="1213" y="1477"/>
                  </a:lnTo>
                  <a:lnTo>
                    <a:pt x="1264" y="1448"/>
                  </a:lnTo>
                  <a:lnTo>
                    <a:pt x="1315" y="1419"/>
                  </a:lnTo>
                  <a:lnTo>
                    <a:pt x="1368" y="1391"/>
                  </a:lnTo>
                  <a:lnTo>
                    <a:pt x="1421" y="1363"/>
                  </a:lnTo>
                  <a:lnTo>
                    <a:pt x="1475" y="1335"/>
                  </a:lnTo>
                  <a:lnTo>
                    <a:pt x="1531" y="1307"/>
                  </a:lnTo>
                  <a:lnTo>
                    <a:pt x="1587" y="1279"/>
                  </a:lnTo>
                  <a:lnTo>
                    <a:pt x="1645" y="1252"/>
                  </a:lnTo>
                  <a:lnTo>
                    <a:pt x="1703" y="1225"/>
                  </a:lnTo>
                  <a:lnTo>
                    <a:pt x="1761" y="1198"/>
                  </a:lnTo>
                  <a:lnTo>
                    <a:pt x="1822" y="1172"/>
                  </a:lnTo>
                  <a:lnTo>
                    <a:pt x="1883" y="1146"/>
                  </a:lnTo>
                  <a:lnTo>
                    <a:pt x="1944" y="1120"/>
                  </a:lnTo>
                  <a:lnTo>
                    <a:pt x="2007" y="1094"/>
                  </a:lnTo>
                  <a:lnTo>
                    <a:pt x="2071" y="1068"/>
                  </a:lnTo>
                  <a:lnTo>
                    <a:pt x="2136" y="1043"/>
                  </a:lnTo>
                  <a:lnTo>
                    <a:pt x="2201" y="1019"/>
                  </a:lnTo>
                  <a:lnTo>
                    <a:pt x="2267" y="994"/>
                  </a:lnTo>
                  <a:lnTo>
                    <a:pt x="2334" y="969"/>
                  </a:lnTo>
                  <a:lnTo>
                    <a:pt x="2403" y="945"/>
                  </a:lnTo>
                  <a:lnTo>
                    <a:pt x="2472" y="921"/>
                  </a:lnTo>
                  <a:lnTo>
                    <a:pt x="2542" y="897"/>
                  </a:lnTo>
                  <a:lnTo>
                    <a:pt x="2612" y="874"/>
                  </a:lnTo>
                  <a:lnTo>
                    <a:pt x="2683" y="851"/>
                  </a:lnTo>
                  <a:lnTo>
                    <a:pt x="2756" y="828"/>
                  </a:lnTo>
                  <a:lnTo>
                    <a:pt x="2902" y="784"/>
                  </a:lnTo>
                  <a:lnTo>
                    <a:pt x="3052" y="740"/>
                  </a:lnTo>
                  <a:lnTo>
                    <a:pt x="3205" y="698"/>
                  </a:lnTo>
                  <a:lnTo>
                    <a:pt x="3361" y="657"/>
                  </a:lnTo>
                  <a:lnTo>
                    <a:pt x="3520" y="617"/>
                  </a:lnTo>
                  <a:lnTo>
                    <a:pt x="3682" y="579"/>
                  </a:lnTo>
                  <a:lnTo>
                    <a:pt x="3846" y="542"/>
                  </a:lnTo>
                  <a:lnTo>
                    <a:pt x="4014" y="505"/>
                  </a:lnTo>
                  <a:lnTo>
                    <a:pt x="4184" y="471"/>
                  </a:lnTo>
                  <a:lnTo>
                    <a:pt x="4357" y="438"/>
                  </a:lnTo>
                  <a:lnTo>
                    <a:pt x="4532" y="407"/>
                  </a:lnTo>
                  <a:lnTo>
                    <a:pt x="4710" y="376"/>
                  </a:lnTo>
                  <a:lnTo>
                    <a:pt x="4890" y="347"/>
                  </a:lnTo>
                  <a:lnTo>
                    <a:pt x="5073" y="320"/>
                  </a:lnTo>
                  <a:lnTo>
                    <a:pt x="5257" y="294"/>
                  </a:lnTo>
                  <a:lnTo>
                    <a:pt x="5444" y="270"/>
                  </a:lnTo>
                  <a:lnTo>
                    <a:pt x="5633" y="247"/>
                  </a:lnTo>
                  <a:lnTo>
                    <a:pt x="5824" y="226"/>
                  </a:lnTo>
                  <a:lnTo>
                    <a:pt x="6018" y="207"/>
                  </a:lnTo>
                  <a:lnTo>
                    <a:pt x="6214" y="188"/>
                  </a:lnTo>
                  <a:lnTo>
                    <a:pt x="6411" y="171"/>
                  </a:lnTo>
                  <a:lnTo>
                    <a:pt x="6609" y="157"/>
                  </a:lnTo>
                  <a:lnTo>
                    <a:pt x="6810" y="143"/>
                  </a:lnTo>
                  <a:lnTo>
                    <a:pt x="7013" y="132"/>
                  </a:lnTo>
                  <a:lnTo>
                    <a:pt x="7217" y="122"/>
                  </a:lnTo>
                  <a:lnTo>
                    <a:pt x="7423" y="114"/>
                  </a:lnTo>
                  <a:lnTo>
                    <a:pt x="7630" y="107"/>
                  </a:lnTo>
                  <a:lnTo>
                    <a:pt x="7839" y="103"/>
                  </a:lnTo>
                  <a:lnTo>
                    <a:pt x="8048" y="101"/>
                  </a:lnTo>
                  <a:lnTo>
                    <a:pt x="8260" y="100"/>
                  </a:lnTo>
                  <a:lnTo>
                    <a:pt x="8260" y="100"/>
                  </a:lnTo>
                  <a:lnTo>
                    <a:pt x="8260" y="100"/>
                  </a:lnTo>
                  <a:lnTo>
                    <a:pt x="8266" y="99"/>
                  </a:lnTo>
                  <a:lnTo>
                    <a:pt x="8271" y="99"/>
                  </a:lnTo>
                  <a:lnTo>
                    <a:pt x="8278" y="97"/>
                  </a:lnTo>
                  <a:lnTo>
                    <a:pt x="8282" y="96"/>
                  </a:lnTo>
                  <a:lnTo>
                    <a:pt x="8287" y="93"/>
                  </a:lnTo>
                  <a:lnTo>
                    <a:pt x="8291" y="91"/>
                  </a:lnTo>
                  <a:lnTo>
                    <a:pt x="8294" y="88"/>
                  </a:lnTo>
                  <a:lnTo>
                    <a:pt x="8298" y="83"/>
                  </a:lnTo>
                  <a:lnTo>
                    <a:pt x="8303" y="76"/>
                  </a:lnTo>
                  <a:lnTo>
                    <a:pt x="8307" y="68"/>
                  </a:lnTo>
                  <a:lnTo>
                    <a:pt x="8310" y="59"/>
                  </a:lnTo>
                  <a:lnTo>
                    <a:pt x="8311" y="49"/>
                  </a:lnTo>
                  <a:lnTo>
                    <a:pt x="8310" y="40"/>
                  </a:lnTo>
                  <a:lnTo>
                    <a:pt x="8307" y="31"/>
                  </a:lnTo>
                  <a:lnTo>
                    <a:pt x="8303" y="22"/>
                  </a:lnTo>
                  <a:lnTo>
                    <a:pt x="8298" y="15"/>
                  </a:lnTo>
                  <a:lnTo>
                    <a:pt x="8294" y="12"/>
                  </a:lnTo>
                  <a:lnTo>
                    <a:pt x="8291" y="9"/>
                  </a:lnTo>
                  <a:lnTo>
                    <a:pt x="8287" y="6"/>
                  </a:lnTo>
                  <a:lnTo>
                    <a:pt x="8282" y="4"/>
                  </a:lnTo>
                  <a:lnTo>
                    <a:pt x="8278" y="2"/>
                  </a:lnTo>
                  <a:lnTo>
                    <a:pt x="8271" y="1"/>
                  </a:lnTo>
                  <a:lnTo>
                    <a:pt x="8266" y="0"/>
                  </a:lnTo>
                  <a:lnTo>
                    <a:pt x="8260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773440" y="4255920"/>
              <a:ext cx="468360" cy="161640"/>
            </a:xfrm>
            <a:custGeom>
              <a:avLst/>
              <a:gdLst/>
              <a:ahLst/>
              <a:rect l="l" t="t" r="r" b="b"/>
              <a:pathLst>
                <a:path w="8260" h="2862">
                  <a:moveTo>
                    <a:pt x="8260" y="2862"/>
                  </a:moveTo>
                  <a:lnTo>
                    <a:pt x="8259" y="2824"/>
                  </a:lnTo>
                  <a:lnTo>
                    <a:pt x="8257" y="2786"/>
                  </a:lnTo>
                  <a:lnTo>
                    <a:pt x="8254" y="2748"/>
                  </a:lnTo>
                  <a:lnTo>
                    <a:pt x="8249" y="2710"/>
                  </a:lnTo>
                  <a:lnTo>
                    <a:pt x="8242" y="2673"/>
                  </a:lnTo>
                  <a:lnTo>
                    <a:pt x="8234" y="2635"/>
                  </a:lnTo>
                  <a:lnTo>
                    <a:pt x="8226" y="2598"/>
                  </a:lnTo>
                  <a:lnTo>
                    <a:pt x="8216" y="2561"/>
                  </a:lnTo>
                  <a:lnTo>
                    <a:pt x="8203" y="2524"/>
                  </a:lnTo>
                  <a:lnTo>
                    <a:pt x="8191" y="2486"/>
                  </a:lnTo>
                  <a:lnTo>
                    <a:pt x="8176" y="2450"/>
                  </a:lnTo>
                  <a:lnTo>
                    <a:pt x="8161" y="2414"/>
                  </a:lnTo>
                  <a:lnTo>
                    <a:pt x="8144" y="2378"/>
                  </a:lnTo>
                  <a:lnTo>
                    <a:pt x="8126" y="2341"/>
                  </a:lnTo>
                  <a:lnTo>
                    <a:pt x="8106" y="2305"/>
                  </a:lnTo>
                  <a:lnTo>
                    <a:pt x="8086" y="2270"/>
                  </a:lnTo>
                  <a:lnTo>
                    <a:pt x="8064" y="2234"/>
                  </a:lnTo>
                  <a:lnTo>
                    <a:pt x="8041" y="2199"/>
                  </a:lnTo>
                  <a:lnTo>
                    <a:pt x="8016" y="2165"/>
                  </a:lnTo>
                  <a:lnTo>
                    <a:pt x="7992" y="2129"/>
                  </a:lnTo>
                  <a:lnTo>
                    <a:pt x="7965" y="2094"/>
                  </a:lnTo>
                  <a:lnTo>
                    <a:pt x="7937" y="2060"/>
                  </a:lnTo>
                  <a:lnTo>
                    <a:pt x="7908" y="2026"/>
                  </a:lnTo>
                  <a:lnTo>
                    <a:pt x="7878" y="1992"/>
                  </a:lnTo>
                  <a:lnTo>
                    <a:pt x="7846" y="1959"/>
                  </a:lnTo>
                  <a:lnTo>
                    <a:pt x="7814" y="1925"/>
                  </a:lnTo>
                  <a:lnTo>
                    <a:pt x="7780" y="1892"/>
                  </a:lnTo>
                  <a:lnTo>
                    <a:pt x="7746" y="1858"/>
                  </a:lnTo>
                  <a:lnTo>
                    <a:pt x="7710" y="1826"/>
                  </a:lnTo>
                  <a:lnTo>
                    <a:pt x="7673" y="1793"/>
                  </a:lnTo>
                  <a:lnTo>
                    <a:pt x="7634" y="1761"/>
                  </a:lnTo>
                  <a:lnTo>
                    <a:pt x="7596" y="1728"/>
                  </a:lnTo>
                  <a:lnTo>
                    <a:pt x="7556" y="1697"/>
                  </a:lnTo>
                  <a:lnTo>
                    <a:pt x="7515" y="1665"/>
                  </a:lnTo>
                  <a:lnTo>
                    <a:pt x="7472" y="1634"/>
                  </a:lnTo>
                  <a:lnTo>
                    <a:pt x="7429" y="1602"/>
                  </a:lnTo>
                  <a:lnTo>
                    <a:pt x="7384" y="1571"/>
                  </a:lnTo>
                  <a:lnTo>
                    <a:pt x="7339" y="1541"/>
                  </a:lnTo>
                  <a:lnTo>
                    <a:pt x="7293" y="1510"/>
                  </a:lnTo>
                  <a:lnTo>
                    <a:pt x="7245" y="1480"/>
                  </a:lnTo>
                  <a:lnTo>
                    <a:pt x="7197" y="1449"/>
                  </a:lnTo>
                  <a:lnTo>
                    <a:pt x="7147" y="1419"/>
                  </a:lnTo>
                  <a:lnTo>
                    <a:pt x="7096" y="1390"/>
                  </a:lnTo>
                  <a:lnTo>
                    <a:pt x="7045" y="1360"/>
                  </a:lnTo>
                  <a:lnTo>
                    <a:pt x="6993" y="1331"/>
                  </a:lnTo>
                  <a:lnTo>
                    <a:pt x="6939" y="1302"/>
                  </a:lnTo>
                  <a:lnTo>
                    <a:pt x="6885" y="1274"/>
                  </a:lnTo>
                  <a:lnTo>
                    <a:pt x="6830" y="1245"/>
                  </a:lnTo>
                  <a:lnTo>
                    <a:pt x="6773" y="1217"/>
                  </a:lnTo>
                  <a:lnTo>
                    <a:pt x="6716" y="1189"/>
                  </a:lnTo>
                  <a:lnTo>
                    <a:pt x="6658" y="1161"/>
                  </a:lnTo>
                  <a:lnTo>
                    <a:pt x="6599" y="1134"/>
                  </a:lnTo>
                  <a:lnTo>
                    <a:pt x="6539" y="1106"/>
                  </a:lnTo>
                  <a:lnTo>
                    <a:pt x="6478" y="1080"/>
                  </a:lnTo>
                  <a:lnTo>
                    <a:pt x="6416" y="1054"/>
                  </a:lnTo>
                  <a:lnTo>
                    <a:pt x="6353" y="1027"/>
                  </a:lnTo>
                  <a:lnTo>
                    <a:pt x="6290" y="1001"/>
                  </a:lnTo>
                  <a:lnTo>
                    <a:pt x="6225" y="975"/>
                  </a:lnTo>
                  <a:lnTo>
                    <a:pt x="6160" y="949"/>
                  </a:lnTo>
                  <a:lnTo>
                    <a:pt x="6094" y="924"/>
                  </a:lnTo>
                  <a:lnTo>
                    <a:pt x="6027" y="900"/>
                  </a:lnTo>
                  <a:lnTo>
                    <a:pt x="5959" y="875"/>
                  </a:lnTo>
                  <a:lnTo>
                    <a:pt x="5890" y="850"/>
                  </a:lnTo>
                  <a:lnTo>
                    <a:pt x="5820" y="826"/>
                  </a:lnTo>
                  <a:lnTo>
                    <a:pt x="5750" y="802"/>
                  </a:lnTo>
                  <a:lnTo>
                    <a:pt x="5679" y="779"/>
                  </a:lnTo>
                  <a:lnTo>
                    <a:pt x="5606" y="756"/>
                  </a:lnTo>
                  <a:lnTo>
                    <a:pt x="5534" y="733"/>
                  </a:lnTo>
                  <a:lnTo>
                    <a:pt x="5386" y="687"/>
                  </a:lnTo>
                  <a:lnTo>
                    <a:pt x="5235" y="644"/>
                  </a:lnTo>
                  <a:lnTo>
                    <a:pt x="5081" y="602"/>
                  </a:lnTo>
                  <a:lnTo>
                    <a:pt x="4923" y="560"/>
                  </a:lnTo>
                  <a:lnTo>
                    <a:pt x="4763" y="520"/>
                  </a:lnTo>
                  <a:lnTo>
                    <a:pt x="4601" y="482"/>
                  </a:lnTo>
                  <a:lnTo>
                    <a:pt x="4435" y="443"/>
                  </a:lnTo>
                  <a:lnTo>
                    <a:pt x="4266" y="408"/>
                  </a:lnTo>
                  <a:lnTo>
                    <a:pt x="4095" y="373"/>
                  </a:lnTo>
                  <a:lnTo>
                    <a:pt x="3921" y="340"/>
                  </a:lnTo>
                  <a:lnTo>
                    <a:pt x="3745" y="308"/>
                  </a:lnTo>
                  <a:lnTo>
                    <a:pt x="3566" y="278"/>
                  </a:lnTo>
                  <a:lnTo>
                    <a:pt x="3386" y="249"/>
                  </a:lnTo>
                  <a:lnTo>
                    <a:pt x="3202" y="221"/>
                  </a:lnTo>
                  <a:lnTo>
                    <a:pt x="3016" y="195"/>
                  </a:lnTo>
                  <a:lnTo>
                    <a:pt x="2828" y="170"/>
                  </a:lnTo>
                  <a:lnTo>
                    <a:pt x="2638" y="148"/>
                  </a:lnTo>
                  <a:lnTo>
                    <a:pt x="2446" y="126"/>
                  </a:lnTo>
                  <a:lnTo>
                    <a:pt x="2251" y="106"/>
                  </a:lnTo>
                  <a:lnTo>
                    <a:pt x="2056" y="88"/>
                  </a:lnTo>
                  <a:lnTo>
                    <a:pt x="1857" y="71"/>
                  </a:lnTo>
                  <a:lnTo>
                    <a:pt x="1657" y="57"/>
                  </a:lnTo>
                  <a:lnTo>
                    <a:pt x="1456" y="43"/>
                  </a:lnTo>
                  <a:lnTo>
                    <a:pt x="1252" y="32"/>
                  </a:lnTo>
                  <a:lnTo>
                    <a:pt x="1047" y="22"/>
                  </a:lnTo>
                  <a:lnTo>
                    <a:pt x="840" y="14"/>
                  </a:lnTo>
                  <a:lnTo>
                    <a:pt x="633" y="8"/>
                  </a:lnTo>
                  <a:lnTo>
                    <a:pt x="423" y="3"/>
                  </a:lnTo>
                  <a:lnTo>
                    <a:pt x="213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212" y="101"/>
                  </a:lnTo>
                  <a:lnTo>
                    <a:pt x="421" y="103"/>
                  </a:lnTo>
                  <a:lnTo>
                    <a:pt x="630" y="107"/>
                  </a:lnTo>
                  <a:lnTo>
                    <a:pt x="837" y="114"/>
                  </a:lnTo>
                  <a:lnTo>
                    <a:pt x="1043" y="122"/>
                  </a:lnTo>
                  <a:lnTo>
                    <a:pt x="1247" y="132"/>
                  </a:lnTo>
                  <a:lnTo>
                    <a:pt x="1450" y="143"/>
                  </a:lnTo>
                  <a:lnTo>
                    <a:pt x="1651" y="157"/>
                  </a:lnTo>
                  <a:lnTo>
                    <a:pt x="1849" y="171"/>
                  </a:lnTo>
                  <a:lnTo>
                    <a:pt x="2046" y="188"/>
                  </a:lnTo>
                  <a:lnTo>
                    <a:pt x="2242" y="207"/>
                  </a:lnTo>
                  <a:lnTo>
                    <a:pt x="2436" y="226"/>
                  </a:lnTo>
                  <a:lnTo>
                    <a:pt x="2627" y="247"/>
                  </a:lnTo>
                  <a:lnTo>
                    <a:pt x="2816" y="270"/>
                  </a:lnTo>
                  <a:lnTo>
                    <a:pt x="3003" y="294"/>
                  </a:lnTo>
                  <a:lnTo>
                    <a:pt x="3187" y="320"/>
                  </a:lnTo>
                  <a:lnTo>
                    <a:pt x="3370" y="347"/>
                  </a:lnTo>
                  <a:lnTo>
                    <a:pt x="3550" y="376"/>
                  </a:lnTo>
                  <a:lnTo>
                    <a:pt x="3728" y="407"/>
                  </a:lnTo>
                  <a:lnTo>
                    <a:pt x="3903" y="438"/>
                  </a:lnTo>
                  <a:lnTo>
                    <a:pt x="4076" y="471"/>
                  </a:lnTo>
                  <a:lnTo>
                    <a:pt x="4246" y="505"/>
                  </a:lnTo>
                  <a:lnTo>
                    <a:pt x="4413" y="542"/>
                  </a:lnTo>
                  <a:lnTo>
                    <a:pt x="4578" y="579"/>
                  </a:lnTo>
                  <a:lnTo>
                    <a:pt x="4740" y="617"/>
                  </a:lnTo>
                  <a:lnTo>
                    <a:pt x="4899" y="657"/>
                  </a:lnTo>
                  <a:lnTo>
                    <a:pt x="5055" y="698"/>
                  </a:lnTo>
                  <a:lnTo>
                    <a:pt x="5208" y="740"/>
                  </a:lnTo>
                  <a:lnTo>
                    <a:pt x="5358" y="784"/>
                  </a:lnTo>
                  <a:lnTo>
                    <a:pt x="5504" y="828"/>
                  </a:lnTo>
                  <a:lnTo>
                    <a:pt x="5577" y="851"/>
                  </a:lnTo>
                  <a:lnTo>
                    <a:pt x="5648" y="874"/>
                  </a:lnTo>
                  <a:lnTo>
                    <a:pt x="5718" y="897"/>
                  </a:lnTo>
                  <a:lnTo>
                    <a:pt x="5788" y="921"/>
                  </a:lnTo>
                  <a:lnTo>
                    <a:pt x="5857" y="945"/>
                  </a:lnTo>
                  <a:lnTo>
                    <a:pt x="5926" y="969"/>
                  </a:lnTo>
                  <a:lnTo>
                    <a:pt x="5993" y="994"/>
                  </a:lnTo>
                  <a:lnTo>
                    <a:pt x="6059" y="1019"/>
                  </a:lnTo>
                  <a:lnTo>
                    <a:pt x="6124" y="1043"/>
                  </a:lnTo>
                  <a:lnTo>
                    <a:pt x="6189" y="1068"/>
                  </a:lnTo>
                  <a:lnTo>
                    <a:pt x="6253" y="1094"/>
                  </a:lnTo>
                  <a:lnTo>
                    <a:pt x="6316" y="1120"/>
                  </a:lnTo>
                  <a:lnTo>
                    <a:pt x="6377" y="1146"/>
                  </a:lnTo>
                  <a:lnTo>
                    <a:pt x="6438" y="1172"/>
                  </a:lnTo>
                  <a:lnTo>
                    <a:pt x="6499" y="1198"/>
                  </a:lnTo>
                  <a:lnTo>
                    <a:pt x="6557" y="1225"/>
                  </a:lnTo>
                  <a:lnTo>
                    <a:pt x="6615" y="1252"/>
                  </a:lnTo>
                  <a:lnTo>
                    <a:pt x="6673" y="1279"/>
                  </a:lnTo>
                  <a:lnTo>
                    <a:pt x="6729" y="1307"/>
                  </a:lnTo>
                  <a:lnTo>
                    <a:pt x="6785" y="1335"/>
                  </a:lnTo>
                  <a:lnTo>
                    <a:pt x="6839" y="1363"/>
                  </a:lnTo>
                  <a:lnTo>
                    <a:pt x="6892" y="1391"/>
                  </a:lnTo>
                  <a:lnTo>
                    <a:pt x="6945" y="1419"/>
                  </a:lnTo>
                  <a:lnTo>
                    <a:pt x="6996" y="1448"/>
                  </a:lnTo>
                  <a:lnTo>
                    <a:pt x="7047" y="1477"/>
                  </a:lnTo>
                  <a:lnTo>
                    <a:pt x="7096" y="1506"/>
                  </a:lnTo>
                  <a:lnTo>
                    <a:pt x="7145" y="1535"/>
                  </a:lnTo>
                  <a:lnTo>
                    <a:pt x="7191" y="1564"/>
                  </a:lnTo>
                  <a:lnTo>
                    <a:pt x="7238" y="1594"/>
                  </a:lnTo>
                  <a:lnTo>
                    <a:pt x="7283" y="1624"/>
                  </a:lnTo>
                  <a:lnTo>
                    <a:pt x="7328" y="1654"/>
                  </a:lnTo>
                  <a:lnTo>
                    <a:pt x="7371" y="1684"/>
                  </a:lnTo>
                  <a:lnTo>
                    <a:pt x="7413" y="1715"/>
                  </a:lnTo>
                  <a:lnTo>
                    <a:pt x="7454" y="1745"/>
                  </a:lnTo>
                  <a:lnTo>
                    <a:pt x="7494" y="1776"/>
                  </a:lnTo>
                  <a:lnTo>
                    <a:pt x="7533" y="1807"/>
                  </a:lnTo>
                  <a:lnTo>
                    <a:pt x="7570" y="1838"/>
                  </a:lnTo>
                  <a:lnTo>
                    <a:pt x="7607" y="1869"/>
                  </a:lnTo>
                  <a:lnTo>
                    <a:pt x="7643" y="1901"/>
                  </a:lnTo>
                  <a:lnTo>
                    <a:pt x="7678" y="1932"/>
                  </a:lnTo>
                  <a:lnTo>
                    <a:pt x="7711" y="1964"/>
                  </a:lnTo>
                  <a:lnTo>
                    <a:pt x="7743" y="1996"/>
                  </a:lnTo>
                  <a:lnTo>
                    <a:pt x="7774" y="2028"/>
                  </a:lnTo>
                  <a:lnTo>
                    <a:pt x="7804" y="2060"/>
                  </a:lnTo>
                  <a:lnTo>
                    <a:pt x="7833" y="2092"/>
                  </a:lnTo>
                  <a:lnTo>
                    <a:pt x="7859" y="2124"/>
                  </a:lnTo>
                  <a:lnTo>
                    <a:pt x="7886" y="2157"/>
                  </a:lnTo>
                  <a:lnTo>
                    <a:pt x="7911" y="2189"/>
                  </a:lnTo>
                  <a:lnTo>
                    <a:pt x="7935" y="2223"/>
                  </a:lnTo>
                  <a:lnTo>
                    <a:pt x="7957" y="2256"/>
                  </a:lnTo>
                  <a:lnTo>
                    <a:pt x="7980" y="2288"/>
                  </a:lnTo>
                  <a:lnTo>
                    <a:pt x="8000" y="2321"/>
                  </a:lnTo>
                  <a:lnTo>
                    <a:pt x="8019" y="2354"/>
                  </a:lnTo>
                  <a:lnTo>
                    <a:pt x="8037" y="2388"/>
                  </a:lnTo>
                  <a:lnTo>
                    <a:pt x="8054" y="2421"/>
                  </a:lnTo>
                  <a:lnTo>
                    <a:pt x="8070" y="2454"/>
                  </a:lnTo>
                  <a:lnTo>
                    <a:pt x="8083" y="2487"/>
                  </a:lnTo>
                  <a:lnTo>
                    <a:pt x="8097" y="2521"/>
                  </a:lnTo>
                  <a:lnTo>
                    <a:pt x="8109" y="2556"/>
                  </a:lnTo>
                  <a:lnTo>
                    <a:pt x="8120" y="2589"/>
                  </a:lnTo>
                  <a:lnTo>
                    <a:pt x="8129" y="2623"/>
                  </a:lnTo>
                  <a:lnTo>
                    <a:pt x="8137" y="2657"/>
                  </a:lnTo>
                  <a:lnTo>
                    <a:pt x="8144" y="2691"/>
                  </a:lnTo>
                  <a:lnTo>
                    <a:pt x="8150" y="2724"/>
                  </a:lnTo>
                  <a:lnTo>
                    <a:pt x="8154" y="2759"/>
                  </a:lnTo>
                  <a:lnTo>
                    <a:pt x="8157" y="2794"/>
                  </a:lnTo>
                  <a:lnTo>
                    <a:pt x="8159" y="2828"/>
                  </a:lnTo>
                  <a:lnTo>
                    <a:pt x="8160" y="2862"/>
                  </a:lnTo>
                  <a:lnTo>
                    <a:pt x="8260" y="286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06880" y="4194000"/>
              <a:ext cx="931680" cy="226800"/>
            </a:xfrm>
            <a:custGeom>
              <a:avLst/>
              <a:gdLst/>
              <a:ahLst/>
              <a:rect l="l" t="t" r="r" b="b"/>
              <a:pathLst>
                <a:path w="16448" h="4017">
                  <a:moveTo>
                    <a:pt x="0" y="0"/>
                  </a:moveTo>
                  <a:lnTo>
                    <a:pt x="0" y="4017"/>
                  </a:lnTo>
                  <a:lnTo>
                    <a:pt x="16444" y="4017"/>
                  </a:lnTo>
                  <a:lnTo>
                    <a:pt x="1644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7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08320" y="4030200"/>
              <a:ext cx="930240" cy="319320"/>
            </a:xfrm>
            <a:custGeom>
              <a:avLst/>
              <a:gdLst/>
              <a:ahLst/>
              <a:rect l="l" t="t" r="r" b="b"/>
              <a:pathLst>
                <a:path w="16418" h="5625">
                  <a:moveTo>
                    <a:pt x="16418" y="2812"/>
                  </a:moveTo>
                  <a:lnTo>
                    <a:pt x="16408" y="2957"/>
                  </a:lnTo>
                  <a:lnTo>
                    <a:pt x="16376" y="3100"/>
                  </a:lnTo>
                  <a:lnTo>
                    <a:pt x="16324" y="3240"/>
                  </a:lnTo>
                  <a:lnTo>
                    <a:pt x="16252" y="3379"/>
                  </a:lnTo>
                  <a:lnTo>
                    <a:pt x="16160" y="3515"/>
                  </a:lnTo>
                  <a:lnTo>
                    <a:pt x="16050" y="3648"/>
                  </a:lnTo>
                  <a:lnTo>
                    <a:pt x="15921" y="3778"/>
                  </a:lnTo>
                  <a:lnTo>
                    <a:pt x="15773" y="3907"/>
                  </a:lnTo>
                  <a:lnTo>
                    <a:pt x="15609" y="4031"/>
                  </a:lnTo>
                  <a:lnTo>
                    <a:pt x="15427" y="4153"/>
                  </a:lnTo>
                  <a:lnTo>
                    <a:pt x="15230" y="4270"/>
                  </a:lnTo>
                  <a:lnTo>
                    <a:pt x="15016" y="4384"/>
                  </a:lnTo>
                  <a:lnTo>
                    <a:pt x="14787" y="4494"/>
                  </a:lnTo>
                  <a:lnTo>
                    <a:pt x="14543" y="4601"/>
                  </a:lnTo>
                  <a:lnTo>
                    <a:pt x="14285" y="4703"/>
                  </a:lnTo>
                  <a:lnTo>
                    <a:pt x="14014" y="4800"/>
                  </a:lnTo>
                  <a:lnTo>
                    <a:pt x="13728" y="4893"/>
                  </a:lnTo>
                  <a:lnTo>
                    <a:pt x="13430" y="4982"/>
                  </a:lnTo>
                  <a:lnTo>
                    <a:pt x="13120" y="5066"/>
                  </a:lnTo>
                  <a:lnTo>
                    <a:pt x="12798" y="5144"/>
                  </a:lnTo>
                  <a:lnTo>
                    <a:pt x="12465" y="5217"/>
                  </a:lnTo>
                  <a:lnTo>
                    <a:pt x="12121" y="5285"/>
                  </a:lnTo>
                  <a:lnTo>
                    <a:pt x="11767" y="5348"/>
                  </a:lnTo>
                  <a:lnTo>
                    <a:pt x="11404" y="5403"/>
                  </a:lnTo>
                  <a:lnTo>
                    <a:pt x="11031" y="5454"/>
                  </a:lnTo>
                  <a:lnTo>
                    <a:pt x="10650" y="5499"/>
                  </a:lnTo>
                  <a:lnTo>
                    <a:pt x="10260" y="5536"/>
                  </a:lnTo>
                  <a:lnTo>
                    <a:pt x="9863" y="5568"/>
                  </a:lnTo>
                  <a:lnTo>
                    <a:pt x="9458" y="5593"/>
                  </a:lnTo>
                  <a:lnTo>
                    <a:pt x="9048" y="5610"/>
                  </a:lnTo>
                  <a:lnTo>
                    <a:pt x="8631" y="5621"/>
                  </a:lnTo>
                  <a:lnTo>
                    <a:pt x="8209" y="5625"/>
                  </a:lnTo>
                  <a:lnTo>
                    <a:pt x="7787" y="5621"/>
                  </a:lnTo>
                  <a:lnTo>
                    <a:pt x="7370" y="5610"/>
                  </a:lnTo>
                  <a:lnTo>
                    <a:pt x="6960" y="5593"/>
                  </a:lnTo>
                  <a:lnTo>
                    <a:pt x="6555" y="5568"/>
                  </a:lnTo>
                  <a:lnTo>
                    <a:pt x="6158" y="5536"/>
                  </a:lnTo>
                  <a:lnTo>
                    <a:pt x="5768" y="5499"/>
                  </a:lnTo>
                  <a:lnTo>
                    <a:pt x="5387" y="5454"/>
                  </a:lnTo>
                  <a:lnTo>
                    <a:pt x="5014" y="5403"/>
                  </a:lnTo>
                  <a:lnTo>
                    <a:pt x="4651" y="5348"/>
                  </a:lnTo>
                  <a:lnTo>
                    <a:pt x="4297" y="5285"/>
                  </a:lnTo>
                  <a:lnTo>
                    <a:pt x="3953" y="5217"/>
                  </a:lnTo>
                  <a:lnTo>
                    <a:pt x="3620" y="5144"/>
                  </a:lnTo>
                  <a:lnTo>
                    <a:pt x="3297" y="5066"/>
                  </a:lnTo>
                  <a:lnTo>
                    <a:pt x="2988" y="4982"/>
                  </a:lnTo>
                  <a:lnTo>
                    <a:pt x="2690" y="4893"/>
                  </a:lnTo>
                  <a:lnTo>
                    <a:pt x="2404" y="4800"/>
                  </a:lnTo>
                  <a:lnTo>
                    <a:pt x="2133" y="4703"/>
                  </a:lnTo>
                  <a:lnTo>
                    <a:pt x="1875" y="4601"/>
                  </a:lnTo>
                  <a:lnTo>
                    <a:pt x="1631" y="4494"/>
                  </a:lnTo>
                  <a:lnTo>
                    <a:pt x="1402" y="4384"/>
                  </a:lnTo>
                  <a:lnTo>
                    <a:pt x="1188" y="4270"/>
                  </a:lnTo>
                  <a:lnTo>
                    <a:pt x="991" y="4153"/>
                  </a:lnTo>
                  <a:lnTo>
                    <a:pt x="809" y="4031"/>
                  </a:lnTo>
                  <a:lnTo>
                    <a:pt x="645" y="3907"/>
                  </a:lnTo>
                  <a:lnTo>
                    <a:pt x="497" y="3778"/>
                  </a:lnTo>
                  <a:lnTo>
                    <a:pt x="368" y="3648"/>
                  </a:lnTo>
                  <a:lnTo>
                    <a:pt x="258" y="3515"/>
                  </a:lnTo>
                  <a:lnTo>
                    <a:pt x="166" y="3379"/>
                  </a:lnTo>
                  <a:lnTo>
                    <a:pt x="94" y="3240"/>
                  </a:lnTo>
                  <a:lnTo>
                    <a:pt x="42" y="3100"/>
                  </a:lnTo>
                  <a:lnTo>
                    <a:pt x="10" y="2957"/>
                  </a:lnTo>
                  <a:lnTo>
                    <a:pt x="0" y="2812"/>
                  </a:lnTo>
                  <a:lnTo>
                    <a:pt x="10" y="2667"/>
                  </a:lnTo>
                  <a:lnTo>
                    <a:pt x="42" y="2525"/>
                  </a:lnTo>
                  <a:lnTo>
                    <a:pt x="94" y="2384"/>
                  </a:lnTo>
                  <a:lnTo>
                    <a:pt x="166" y="2245"/>
                  </a:lnTo>
                  <a:lnTo>
                    <a:pt x="258" y="2110"/>
                  </a:lnTo>
                  <a:lnTo>
                    <a:pt x="368" y="1975"/>
                  </a:lnTo>
                  <a:lnTo>
                    <a:pt x="497" y="1845"/>
                  </a:lnTo>
                  <a:lnTo>
                    <a:pt x="645" y="1718"/>
                  </a:lnTo>
                  <a:lnTo>
                    <a:pt x="809" y="1593"/>
                  </a:lnTo>
                  <a:lnTo>
                    <a:pt x="991" y="1472"/>
                  </a:lnTo>
                  <a:lnTo>
                    <a:pt x="1188" y="1354"/>
                  </a:lnTo>
                  <a:lnTo>
                    <a:pt x="1402" y="1240"/>
                  </a:lnTo>
                  <a:lnTo>
                    <a:pt x="1631" y="1129"/>
                  </a:lnTo>
                  <a:lnTo>
                    <a:pt x="1875" y="1023"/>
                  </a:lnTo>
                  <a:lnTo>
                    <a:pt x="2133" y="921"/>
                  </a:lnTo>
                  <a:lnTo>
                    <a:pt x="2404" y="823"/>
                  </a:lnTo>
                  <a:lnTo>
                    <a:pt x="2690" y="730"/>
                  </a:lnTo>
                  <a:lnTo>
                    <a:pt x="2988" y="642"/>
                  </a:lnTo>
                  <a:lnTo>
                    <a:pt x="3297" y="558"/>
                  </a:lnTo>
                  <a:lnTo>
                    <a:pt x="3620" y="480"/>
                  </a:lnTo>
                  <a:lnTo>
                    <a:pt x="3953" y="406"/>
                  </a:lnTo>
                  <a:lnTo>
                    <a:pt x="4297" y="339"/>
                  </a:lnTo>
                  <a:lnTo>
                    <a:pt x="4651" y="277"/>
                  </a:lnTo>
                  <a:lnTo>
                    <a:pt x="5014" y="220"/>
                  </a:lnTo>
                  <a:lnTo>
                    <a:pt x="5387" y="170"/>
                  </a:lnTo>
                  <a:lnTo>
                    <a:pt x="5768" y="126"/>
                  </a:lnTo>
                  <a:lnTo>
                    <a:pt x="6158" y="88"/>
                  </a:lnTo>
                  <a:lnTo>
                    <a:pt x="6555" y="57"/>
                  </a:lnTo>
                  <a:lnTo>
                    <a:pt x="6960" y="32"/>
                  </a:lnTo>
                  <a:lnTo>
                    <a:pt x="7370" y="14"/>
                  </a:lnTo>
                  <a:lnTo>
                    <a:pt x="7787" y="3"/>
                  </a:lnTo>
                  <a:lnTo>
                    <a:pt x="8209" y="0"/>
                  </a:lnTo>
                  <a:lnTo>
                    <a:pt x="8631" y="3"/>
                  </a:lnTo>
                  <a:lnTo>
                    <a:pt x="9048" y="14"/>
                  </a:lnTo>
                  <a:lnTo>
                    <a:pt x="9458" y="32"/>
                  </a:lnTo>
                  <a:lnTo>
                    <a:pt x="9863" y="57"/>
                  </a:lnTo>
                  <a:lnTo>
                    <a:pt x="10260" y="88"/>
                  </a:lnTo>
                  <a:lnTo>
                    <a:pt x="10650" y="126"/>
                  </a:lnTo>
                  <a:lnTo>
                    <a:pt x="11031" y="170"/>
                  </a:lnTo>
                  <a:lnTo>
                    <a:pt x="11404" y="220"/>
                  </a:lnTo>
                  <a:lnTo>
                    <a:pt x="11767" y="277"/>
                  </a:lnTo>
                  <a:lnTo>
                    <a:pt x="12121" y="339"/>
                  </a:lnTo>
                  <a:lnTo>
                    <a:pt x="12465" y="406"/>
                  </a:lnTo>
                  <a:lnTo>
                    <a:pt x="12798" y="480"/>
                  </a:lnTo>
                  <a:lnTo>
                    <a:pt x="13120" y="558"/>
                  </a:lnTo>
                  <a:lnTo>
                    <a:pt x="13430" y="642"/>
                  </a:lnTo>
                  <a:lnTo>
                    <a:pt x="13728" y="730"/>
                  </a:lnTo>
                  <a:lnTo>
                    <a:pt x="14014" y="823"/>
                  </a:lnTo>
                  <a:lnTo>
                    <a:pt x="14285" y="921"/>
                  </a:lnTo>
                  <a:lnTo>
                    <a:pt x="14543" y="1023"/>
                  </a:lnTo>
                  <a:lnTo>
                    <a:pt x="14787" y="1129"/>
                  </a:lnTo>
                  <a:lnTo>
                    <a:pt x="15016" y="1240"/>
                  </a:lnTo>
                  <a:lnTo>
                    <a:pt x="15230" y="1354"/>
                  </a:lnTo>
                  <a:lnTo>
                    <a:pt x="15427" y="1472"/>
                  </a:lnTo>
                  <a:lnTo>
                    <a:pt x="15609" y="1593"/>
                  </a:lnTo>
                  <a:lnTo>
                    <a:pt x="15773" y="1718"/>
                  </a:lnTo>
                  <a:lnTo>
                    <a:pt x="15921" y="1845"/>
                  </a:lnTo>
                  <a:lnTo>
                    <a:pt x="16050" y="1975"/>
                  </a:lnTo>
                  <a:lnTo>
                    <a:pt x="16160" y="2110"/>
                  </a:lnTo>
                  <a:lnTo>
                    <a:pt x="16252" y="2245"/>
                  </a:lnTo>
                  <a:lnTo>
                    <a:pt x="16324" y="2384"/>
                  </a:lnTo>
                  <a:lnTo>
                    <a:pt x="16376" y="2525"/>
                  </a:lnTo>
                  <a:lnTo>
                    <a:pt x="16408" y="2667"/>
                  </a:lnTo>
                  <a:lnTo>
                    <a:pt x="16418" y="2812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770200" y="4188960"/>
              <a:ext cx="471600" cy="162000"/>
            </a:xfrm>
            <a:custGeom>
              <a:avLst/>
              <a:gdLst/>
              <a:ahLst/>
              <a:rect l="l" t="t" r="r" b="b"/>
              <a:pathLst>
                <a:path w="8310" h="2862">
                  <a:moveTo>
                    <a:pt x="50" y="2862"/>
                  </a:moveTo>
                  <a:lnTo>
                    <a:pt x="50" y="2862"/>
                  </a:lnTo>
                  <a:lnTo>
                    <a:pt x="263" y="2862"/>
                  </a:lnTo>
                  <a:lnTo>
                    <a:pt x="473" y="2859"/>
                  </a:lnTo>
                  <a:lnTo>
                    <a:pt x="683" y="2854"/>
                  </a:lnTo>
                  <a:lnTo>
                    <a:pt x="890" y="2848"/>
                  </a:lnTo>
                  <a:lnTo>
                    <a:pt x="1097" y="2840"/>
                  </a:lnTo>
                  <a:lnTo>
                    <a:pt x="1302" y="2830"/>
                  </a:lnTo>
                  <a:lnTo>
                    <a:pt x="1506" y="2819"/>
                  </a:lnTo>
                  <a:lnTo>
                    <a:pt x="1707" y="2805"/>
                  </a:lnTo>
                  <a:lnTo>
                    <a:pt x="1907" y="2791"/>
                  </a:lnTo>
                  <a:lnTo>
                    <a:pt x="2106" y="2774"/>
                  </a:lnTo>
                  <a:lnTo>
                    <a:pt x="2301" y="2756"/>
                  </a:lnTo>
                  <a:lnTo>
                    <a:pt x="2496" y="2736"/>
                  </a:lnTo>
                  <a:lnTo>
                    <a:pt x="2688" y="2714"/>
                  </a:lnTo>
                  <a:lnTo>
                    <a:pt x="2878" y="2692"/>
                  </a:lnTo>
                  <a:lnTo>
                    <a:pt x="3066" y="2667"/>
                  </a:lnTo>
                  <a:lnTo>
                    <a:pt x="3252" y="2641"/>
                  </a:lnTo>
                  <a:lnTo>
                    <a:pt x="3436" y="2614"/>
                  </a:lnTo>
                  <a:lnTo>
                    <a:pt x="3616" y="2585"/>
                  </a:lnTo>
                  <a:lnTo>
                    <a:pt x="3795" y="2554"/>
                  </a:lnTo>
                  <a:lnTo>
                    <a:pt x="3971" y="2522"/>
                  </a:lnTo>
                  <a:lnTo>
                    <a:pt x="4145" y="2489"/>
                  </a:lnTo>
                  <a:lnTo>
                    <a:pt x="4316" y="2455"/>
                  </a:lnTo>
                  <a:lnTo>
                    <a:pt x="4485" y="2419"/>
                  </a:lnTo>
                  <a:lnTo>
                    <a:pt x="4651" y="2381"/>
                  </a:lnTo>
                  <a:lnTo>
                    <a:pt x="4813" y="2342"/>
                  </a:lnTo>
                  <a:lnTo>
                    <a:pt x="4973" y="2303"/>
                  </a:lnTo>
                  <a:lnTo>
                    <a:pt x="5131" y="2261"/>
                  </a:lnTo>
                  <a:lnTo>
                    <a:pt x="5285" y="2218"/>
                  </a:lnTo>
                  <a:lnTo>
                    <a:pt x="5361" y="2196"/>
                  </a:lnTo>
                  <a:lnTo>
                    <a:pt x="5436" y="2175"/>
                  </a:lnTo>
                  <a:lnTo>
                    <a:pt x="5510" y="2152"/>
                  </a:lnTo>
                  <a:lnTo>
                    <a:pt x="5584" y="2130"/>
                  </a:lnTo>
                  <a:lnTo>
                    <a:pt x="5656" y="2106"/>
                  </a:lnTo>
                  <a:lnTo>
                    <a:pt x="5729" y="2083"/>
                  </a:lnTo>
                  <a:lnTo>
                    <a:pt x="5800" y="2060"/>
                  </a:lnTo>
                  <a:lnTo>
                    <a:pt x="5870" y="2036"/>
                  </a:lnTo>
                  <a:lnTo>
                    <a:pt x="5940" y="2012"/>
                  </a:lnTo>
                  <a:lnTo>
                    <a:pt x="6009" y="1987"/>
                  </a:lnTo>
                  <a:lnTo>
                    <a:pt x="6077" y="1962"/>
                  </a:lnTo>
                  <a:lnTo>
                    <a:pt x="6144" y="1938"/>
                  </a:lnTo>
                  <a:lnTo>
                    <a:pt x="6210" y="1913"/>
                  </a:lnTo>
                  <a:lnTo>
                    <a:pt x="6275" y="1887"/>
                  </a:lnTo>
                  <a:lnTo>
                    <a:pt x="6340" y="1861"/>
                  </a:lnTo>
                  <a:lnTo>
                    <a:pt x="6403" y="1835"/>
                  </a:lnTo>
                  <a:lnTo>
                    <a:pt x="6466" y="1808"/>
                  </a:lnTo>
                  <a:lnTo>
                    <a:pt x="6528" y="1782"/>
                  </a:lnTo>
                  <a:lnTo>
                    <a:pt x="6589" y="1756"/>
                  </a:lnTo>
                  <a:lnTo>
                    <a:pt x="6649" y="1728"/>
                  </a:lnTo>
                  <a:lnTo>
                    <a:pt x="6708" y="1701"/>
                  </a:lnTo>
                  <a:lnTo>
                    <a:pt x="6766" y="1673"/>
                  </a:lnTo>
                  <a:lnTo>
                    <a:pt x="6823" y="1645"/>
                  </a:lnTo>
                  <a:lnTo>
                    <a:pt x="6880" y="1617"/>
                  </a:lnTo>
                  <a:lnTo>
                    <a:pt x="6935" y="1589"/>
                  </a:lnTo>
                  <a:lnTo>
                    <a:pt x="6989" y="1560"/>
                  </a:lnTo>
                  <a:lnTo>
                    <a:pt x="7043" y="1531"/>
                  </a:lnTo>
                  <a:lnTo>
                    <a:pt x="7095" y="1502"/>
                  </a:lnTo>
                  <a:lnTo>
                    <a:pt x="7146" y="1472"/>
                  </a:lnTo>
                  <a:lnTo>
                    <a:pt x="7197" y="1443"/>
                  </a:lnTo>
                  <a:lnTo>
                    <a:pt x="7247" y="1413"/>
                  </a:lnTo>
                  <a:lnTo>
                    <a:pt x="7295" y="1383"/>
                  </a:lnTo>
                  <a:lnTo>
                    <a:pt x="7343" y="1352"/>
                  </a:lnTo>
                  <a:lnTo>
                    <a:pt x="7389" y="1322"/>
                  </a:lnTo>
                  <a:lnTo>
                    <a:pt x="7434" y="1291"/>
                  </a:lnTo>
                  <a:lnTo>
                    <a:pt x="7479" y="1260"/>
                  </a:lnTo>
                  <a:lnTo>
                    <a:pt x="7522" y="1229"/>
                  </a:lnTo>
                  <a:lnTo>
                    <a:pt x="7565" y="1197"/>
                  </a:lnTo>
                  <a:lnTo>
                    <a:pt x="7606" y="1165"/>
                  </a:lnTo>
                  <a:lnTo>
                    <a:pt x="7646" y="1134"/>
                  </a:lnTo>
                  <a:lnTo>
                    <a:pt x="7684" y="1102"/>
                  </a:lnTo>
                  <a:lnTo>
                    <a:pt x="7723" y="1069"/>
                  </a:lnTo>
                  <a:lnTo>
                    <a:pt x="7760" y="1037"/>
                  </a:lnTo>
                  <a:lnTo>
                    <a:pt x="7796" y="1004"/>
                  </a:lnTo>
                  <a:lnTo>
                    <a:pt x="7830" y="970"/>
                  </a:lnTo>
                  <a:lnTo>
                    <a:pt x="7864" y="937"/>
                  </a:lnTo>
                  <a:lnTo>
                    <a:pt x="7896" y="903"/>
                  </a:lnTo>
                  <a:lnTo>
                    <a:pt x="7928" y="870"/>
                  </a:lnTo>
                  <a:lnTo>
                    <a:pt x="7958" y="836"/>
                  </a:lnTo>
                  <a:lnTo>
                    <a:pt x="7987" y="802"/>
                  </a:lnTo>
                  <a:lnTo>
                    <a:pt x="8015" y="768"/>
                  </a:lnTo>
                  <a:lnTo>
                    <a:pt x="8042" y="733"/>
                  </a:lnTo>
                  <a:lnTo>
                    <a:pt x="8066" y="698"/>
                  </a:lnTo>
                  <a:lnTo>
                    <a:pt x="8091" y="663"/>
                  </a:lnTo>
                  <a:lnTo>
                    <a:pt x="8114" y="628"/>
                  </a:lnTo>
                  <a:lnTo>
                    <a:pt x="8136" y="592"/>
                  </a:lnTo>
                  <a:lnTo>
                    <a:pt x="8156" y="557"/>
                  </a:lnTo>
                  <a:lnTo>
                    <a:pt x="8176" y="521"/>
                  </a:lnTo>
                  <a:lnTo>
                    <a:pt x="8194" y="484"/>
                  </a:lnTo>
                  <a:lnTo>
                    <a:pt x="8211" y="448"/>
                  </a:lnTo>
                  <a:lnTo>
                    <a:pt x="8226" y="412"/>
                  </a:lnTo>
                  <a:lnTo>
                    <a:pt x="8241" y="376"/>
                  </a:lnTo>
                  <a:lnTo>
                    <a:pt x="8253" y="338"/>
                  </a:lnTo>
                  <a:lnTo>
                    <a:pt x="8266" y="301"/>
                  </a:lnTo>
                  <a:lnTo>
                    <a:pt x="8276" y="265"/>
                  </a:lnTo>
                  <a:lnTo>
                    <a:pt x="8284" y="227"/>
                  </a:lnTo>
                  <a:lnTo>
                    <a:pt x="8292" y="189"/>
                  </a:lnTo>
                  <a:lnTo>
                    <a:pt x="8299" y="152"/>
                  </a:lnTo>
                  <a:lnTo>
                    <a:pt x="8304" y="114"/>
                  </a:lnTo>
                  <a:lnTo>
                    <a:pt x="8307" y="76"/>
                  </a:lnTo>
                  <a:lnTo>
                    <a:pt x="8309" y="38"/>
                  </a:lnTo>
                  <a:lnTo>
                    <a:pt x="8310" y="0"/>
                  </a:lnTo>
                  <a:lnTo>
                    <a:pt x="8210" y="0"/>
                  </a:lnTo>
                  <a:lnTo>
                    <a:pt x="8209" y="34"/>
                  </a:lnTo>
                  <a:lnTo>
                    <a:pt x="8207" y="70"/>
                  </a:lnTo>
                  <a:lnTo>
                    <a:pt x="8204" y="104"/>
                  </a:lnTo>
                  <a:lnTo>
                    <a:pt x="8200" y="138"/>
                  </a:lnTo>
                  <a:lnTo>
                    <a:pt x="8194" y="172"/>
                  </a:lnTo>
                  <a:lnTo>
                    <a:pt x="8187" y="205"/>
                  </a:lnTo>
                  <a:lnTo>
                    <a:pt x="8179" y="239"/>
                  </a:lnTo>
                  <a:lnTo>
                    <a:pt x="8170" y="273"/>
                  </a:lnTo>
                  <a:lnTo>
                    <a:pt x="8159" y="307"/>
                  </a:lnTo>
                  <a:lnTo>
                    <a:pt x="8147" y="341"/>
                  </a:lnTo>
                  <a:lnTo>
                    <a:pt x="8133" y="375"/>
                  </a:lnTo>
                  <a:lnTo>
                    <a:pt x="8120" y="408"/>
                  </a:lnTo>
                  <a:lnTo>
                    <a:pt x="8104" y="441"/>
                  </a:lnTo>
                  <a:lnTo>
                    <a:pt x="8087" y="475"/>
                  </a:lnTo>
                  <a:lnTo>
                    <a:pt x="8069" y="508"/>
                  </a:lnTo>
                  <a:lnTo>
                    <a:pt x="8050" y="541"/>
                  </a:lnTo>
                  <a:lnTo>
                    <a:pt x="8030" y="574"/>
                  </a:lnTo>
                  <a:lnTo>
                    <a:pt x="8007" y="607"/>
                  </a:lnTo>
                  <a:lnTo>
                    <a:pt x="7985" y="639"/>
                  </a:lnTo>
                  <a:lnTo>
                    <a:pt x="7961" y="673"/>
                  </a:lnTo>
                  <a:lnTo>
                    <a:pt x="7936" y="706"/>
                  </a:lnTo>
                  <a:lnTo>
                    <a:pt x="7909" y="738"/>
                  </a:lnTo>
                  <a:lnTo>
                    <a:pt x="7883" y="770"/>
                  </a:lnTo>
                  <a:lnTo>
                    <a:pt x="7854" y="803"/>
                  </a:lnTo>
                  <a:lnTo>
                    <a:pt x="7824" y="835"/>
                  </a:lnTo>
                  <a:lnTo>
                    <a:pt x="7793" y="867"/>
                  </a:lnTo>
                  <a:lnTo>
                    <a:pt x="7761" y="898"/>
                  </a:lnTo>
                  <a:lnTo>
                    <a:pt x="7728" y="930"/>
                  </a:lnTo>
                  <a:lnTo>
                    <a:pt x="7693" y="962"/>
                  </a:lnTo>
                  <a:lnTo>
                    <a:pt x="7657" y="993"/>
                  </a:lnTo>
                  <a:lnTo>
                    <a:pt x="7620" y="1024"/>
                  </a:lnTo>
                  <a:lnTo>
                    <a:pt x="7583" y="1055"/>
                  </a:lnTo>
                  <a:lnTo>
                    <a:pt x="7544" y="1086"/>
                  </a:lnTo>
                  <a:lnTo>
                    <a:pt x="7504" y="1117"/>
                  </a:lnTo>
                  <a:lnTo>
                    <a:pt x="7463" y="1147"/>
                  </a:lnTo>
                  <a:lnTo>
                    <a:pt x="7421" y="1178"/>
                  </a:lnTo>
                  <a:lnTo>
                    <a:pt x="7378" y="1208"/>
                  </a:lnTo>
                  <a:lnTo>
                    <a:pt x="7333" y="1238"/>
                  </a:lnTo>
                  <a:lnTo>
                    <a:pt x="7288" y="1268"/>
                  </a:lnTo>
                  <a:lnTo>
                    <a:pt x="7241" y="1298"/>
                  </a:lnTo>
                  <a:lnTo>
                    <a:pt x="7195" y="1327"/>
                  </a:lnTo>
                  <a:lnTo>
                    <a:pt x="7146" y="1356"/>
                  </a:lnTo>
                  <a:lnTo>
                    <a:pt x="7097" y="1385"/>
                  </a:lnTo>
                  <a:lnTo>
                    <a:pt x="7046" y="1414"/>
                  </a:lnTo>
                  <a:lnTo>
                    <a:pt x="6995" y="1443"/>
                  </a:lnTo>
                  <a:lnTo>
                    <a:pt x="6942" y="1471"/>
                  </a:lnTo>
                  <a:lnTo>
                    <a:pt x="6889" y="1500"/>
                  </a:lnTo>
                  <a:lnTo>
                    <a:pt x="6835" y="1528"/>
                  </a:lnTo>
                  <a:lnTo>
                    <a:pt x="6779" y="1555"/>
                  </a:lnTo>
                  <a:lnTo>
                    <a:pt x="6723" y="1583"/>
                  </a:lnTo>
                  <a:lnTo>
                    <a:pt x="6665" y="1610"/>
                  </a:lnTo>
                  <a:lnTo>
                    <a:pt x="6607" y="1637"/>
                  </a:lnTo>
                  <a:lnTo>
                    <a:pt x="6549" y="1664"/>
                  </a:lnTo>
                  <a:lnTo>
                    <a:pt x="6488" y="1690"/>
                  </a:lnTo>
                  <a:lnTo>
                    <a:pt x="6427" y="1716"/>
                  </a:lnTo>
                  <a:lnTo>
                    <a:pt x="6366" y="1742"/>
                  </a:lnTo>
                  <a:lnTo>
                    <a:pt x="6302" y="1768"/>
                  </a:lnTo>
                  <a:lnTo>
                    <a:pt x="6239" y="1794"/>
                  </a:lnTo>
                  <a:lnTo>
                    <a:pt x="6174" y="1819"/>
                  </a:lnTo>
                  <a:lnTo>
                    <a:pt x="6109" y="1845"/>
                  </a:lnTo>
                  <a:lnTo>
                    <a:pt x="6043" y="1868"/>
                  </a:lnTo>
                  <a:lnTo>
                    <a:pt x="5976" y="1893"/>
                  </a:lnTo>
                  <a:lnTo>
                    <a:pt x="5907" y="1917"/>
                  </a:lnTo>
                  <a:lnTo>
                    <a:pt x="5838" y="1941"/>
                  </a:lnTo>
                  <a:lnTo>
                    <a:pt x="5768" y="1965"/>
                  </a:lnTo>
                  <a:lnTo>
                    <a:pt x="5698" y="1988"/>
                  </a:lnTo>
                  <a:lnTo>
                    <a:pt x="5627" y="2011"/>
                  </a:lnTo>
                  <a:lnTo>
                    <a:pt x="5554" y="2034"/>
                  </a:lnTo>
                  <a:lnTo>
                    <a:pt x="5481" y="2057"/>
                  </a:lnTo>
                  <a:lnTo>
                    <a:pt x="5408" y="2078"/>
                  </a:lnTo>
                  <a:lnTo>
                    <a:pt x="5333" y="2100"/>
                  </a:lnTo>
                  <a:lnTo>
                    <a:pt x="5258" y="2122"/>
                  </a:lnTo>
                  <a:lnTo>
                    <a:pt x="5105" y="2164"/>
                  </a:lnTo>
                  <a:lnTo>
                    <a:pt x="4949" y="2206"/>
                  </a:lnTo>
                  <a:lnTo>
                    <a:pt x="4790" y="2245"/>
                  </a:lnTo>
                  <a:lnTo>
                    <a:pt x="4628" y="2283"/>
                  </a:lnTo>
                  <a:lnTo>
                    <a:pt x="4463" y="2320"/>
                  </a:lnTo>
                  <a:lnTo>
                    <a:pt x="4296" y="2357"/>
                  </a:lnTo>
                  <a:lnTo>
                    <a:pt x="4126" y="2391"/>
                  </a:lnTo>
                  <a:lnTo>
                    <a:pt x="3953" y="2424"/>
                  </a:lnTo>
                  <a:lnTo>
                    <a:pt x="3778" y="2456"/>
                  </a:lnTo>
                  <a:lnTo>
                    <a:pt x="3600" y="2486"/>
                  </a:lnTo>
                  <a:lnTo>
                    <a:pt x="3420" y="2515"/>
                  </a:lnTo>
                  <a:lnTo>
                    <a:pt x="3237" y="2542"/>
                  </a:lnTo>
                  <a:lnTo>
                    <a:pt x="3053" y="2568"/>
                  </a:lnTo>
                  <a:lnTo>
                    <a:pt x="2866" y="2592"/>
                  </a:lnTo>
                  <a:lnTo>
                    <a:pt x="2677" y="2615"/>
                  </a:lnTo>
                  <a:lnTo>
                    <a:pt x="2486" y="2636"/>
                  </a:lnTo>
                  <a:lnTo>
                    <a:pt x="2292" y="2657"/>
                  </a:lnTo>
                  <a:lnTo>
                    <a:pt x="2096" y="2674"/>
                  </a:lnTo>
                  <a:lnTo>
                    <a:pt x="1899" y="2691"/>
                  </a:lnTo>
                  <a:lnTo>
                    <a:pt x="1701" y="2705"/>
                  </a:lnTo>
                  <a:lnTo>
                    <a:pt x="1500" y="2719"/>
                  </a:lnTo>
                  <a:lnTo>
                    <a:pt x="1297" y="2730"/>
                  </a:lnTo>
                  <a:lnTo>
                    <a:pt x="1093" y="2740"/>
                  </a:lnTo>
                  <a:lnTo>
                    <a:pt x="887" y="2749"/>
                  </a:lnTo>
                  <a:lnTo>
                    <a:pt x="680" y="2755"/>
                  </a:lnTo>
                  <a:lnTo>
                    <a:pt x="471" y="2759"/>
                  </a:lnTo>
                  <a:lnTo>
                    <a:pt x="262" y="2761"/>
                  </a:lnTo>
                  <a:lnTo>
                    <a:pt x="50" y="2762"/>
                  </a:lnTo>
                  <a:lnTo>
                    <a:pt x="50" y="2762"/>
                  </a:lnTo>
                  <a:lnTo>
                    <a:pt x="50" y="2762"/>
                  </a:lnTo>
                  <a:lnTo>
                    <a:pt x="44" y="2763"/>
                  </a:lnTo>
                  <a:lnTo>
                    <a:pt x="39" y="2763"/>
                  </a:lnTo>
                  <a:lnTo>
                    <a:pt x="33" y="2765"/>
                  </a:lnTo>
                  <a:lnTo>
                    <a:pt x="28" y="2767"/>
                  </a:lnTo>
                  <a:lnTo>
                    <a:pt x="23" y="2769"/>
                  </a:lnTo>
                  <a:lnTo>
                    <a:pt x="19" y="2771"/>
                  </a:lnTo>
                  <a:lnTo>
                    <a:pt x="16" y="2774"/>
                  </a:lnTo>
                  <a:lnTo>
                    <a:pt x="13" y="2779"/>
                  </a:lnTo>
                  <a:lnTo>
                    <a:pt x="7" y="2786"/>
                  </a:lnTo>
                  <a:lnTo>
                    <a:pt x="4" y="2794"/>
                  </a:lnTo>
                  <a:lnTo>
                    <a:pt x="0" y="2803"/>
                  </a:lnTo>
                  <a:lnTo>
                    <a:pt x="0" y="2813"/>
                  </a:lnTo>
                  <a:lnTo>
                    <a:pt x="0" y="2822"/>
                  </a:lnTo>
                  <a:lnTo>
                    <a:pt x="4" y="2831"/>
                  </a:lnTo>
                  <a:lnTo>
                    <a:pt x="7" y="2840"/>
                  </a:lnTo>
                  <a:lnTo>
                    <a:pt x="13" y="2847"/>
                  </a:lnTo>
                  <a:lnTo>
                    <a:pt x="16" y="2851"/>
                  </a:lnTo>
                  <a:lnTo>
                    <a:pt x="19" y="2854"/>
                  </a:lnTo>
                  <a:lnTo>
                    <a:pt x="23" y="2856"/>
                  </a:lnTo>
                  <a:lnTo>
                    <a:pt x="28" y="2858"/>
                  </a:lnTo>
                  <a:lnTo>
                    <a:pt x="33" y="2860"/>
                  </a:lnTo>
                  <a:lnTo>
                    <a:pt x="39" y="2861"/>
                  </a:lnTo>
                  <a:lnTo>
                    <a:pt x="44" y="2862"/>
                  </a:lnTo>
                  <a:lnTo>
                    <a:pt x="50" y="286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305080" y="4186080"/>
              <a:ext cx="468360" cy="164880"/>
            </a:xfrm>
            <a:custGeom>
              <a:avLst/>
              <a:gdLst/>
              <a:ahLst/>
              <a:rect l="l" t="t" r="r" b="b"/>
              <a:pathLst>
                <a:path w="8260" h="2912">
                  <a:moveTo>
                    <a:pt x="0" y="50"/>
                  </a:moveTo>
                  <a:lnTo>
                    <a:pt x="0" y="50"/>
                  </a:lnTo>
                  <a:lnTo>
                    <a:pt x="1" y="88"/>
                  </a:lnTo>
                  <a:lnTo>
                    <a:pt x="3" y="126"/>
                  </a:lnTo>
                  <a:lnTo>
                    <a:pt x="6" y="164"/>
                  </a:lnTo>
                  <a:lnTo>
                    <a:pt x="11" y="202"/>
                  </a:lnTo>
                  <a:lnTo>
                    <a:pt x="18" y="239"/>
                  </a:lnTo>
                  <a:lnTo>
                    <a:pt x="25" y="277"/>
                  </a:lnTo>
                  <a:lnTo>
                    <a:pt x="34" y="315"/>
                  </a:lnTo>
                  <a:lnTo>
                    <a:pt x="44" y="351"/>
                  </a:lnTo>
                  <a:lnTo>
                    <a:pt x="56" y="388"/>
                  </a:lnTo>
                  <a:lnTo>
                    <a:pt x="69" y="426"/>
                  </a:lnTo>
                  <a:lnTo>
                    <a:pt x="84" y="462"/>
                  </a:lnTo>
                  <a:lnTo>
                    <a:pt x="99" y="498"/>
                  </a:lnTo>
                  <a:lnTo>
                    <a:pt x="116" y="534"/>
                  </a:lnTo>
                  <a:lnTo>
                    <a:pt x="134" y="571"/>
                  </a:lnTo>
                  <a:lnTo>
                    <a:pt x="154" y="607"/>
                  </a:lnTo>
                  <a:lnTo>
                    <a:pt x="174" y="642"/>
                  </a:lnTo>
                  <a:lnTo>
                    <a:pt x="196" y="678"/>
                  </a:lnTo>
                  <a:lnTo>
                    <a:pt x="219" y="713"/>
                  </a:lnTo>
                  <a:lnTo>
                    <a:pt x="244" y="748"/>
                  </a:lnTo>
                  <a:lnTo>
                    <a:pt x="268" y="783"/>
                  </a:lnTo>
                  <a:lnTo>
                    <a:pt x="295" y="818"/>
                  </a:lnTo>
                  <a:lnTo>
                    <a:pt x="323" y="852"/>
                  </a:lnTo>
                  <a:lnTo>
                    <a:pt x="352" y="886"/>
                  </a:lnTo>
                  <a:lnTo>
                    <a:pt x="382" y="920"/>
                  </a:lnTo>
                  <a:lnTo>
                    <a:pt x="414" y="953"/>
                  </a:lnTo>
                  <a:lnTo>
                    <a:pt x="446" y="987"/>
                  </a:lnTo>
                  <a:lnTo>
                    <a:pt x="480" y="1020"/>
                  </a:lnTo>
                  <a:lnTo>
                    <a:pt x="514" y="1054"/>
                  </a:lnTo>
                  <a:lnTo>
                    <a:pt x="550" y="1087"/>
                  </a:lnTo>
                  <a:lnTo>
                    <a:pt x="587" y="1119"/>
                  </a:lnTo>
                  <a:lnTo>
                    <a:pt x="625" y="1152"/>
                  </a:lnTo>
                  <a:lnTo>
                    <a:pt x="664" y="1184"/>
                  </a:lnTo>
                  <a:lnTo>
                    <a:pt x="704" y="1215"/>
                  </a:lnTo>
                  <a:lnTo>
                    <a:pt x="745" y="1247"/>
                  </a:lnTo>
                  <a:lnTo>
                    <a:pt x="788" y="1279"/>
                  </a:lnTo>
                  <a:lnTo>
                    <a:pt x="831" y="1310"/>
                  </a:lnTo>
                  <a:lnTo>
                    <a:pt x="876" y="1341"/>
                  </a:lnTo>
                  <a:lnTo>
                    <a:pt x="921" y="1372"/>
                  </a:lnTo>
                  <a:lnTo>
                    <a:pt x="967" y="1402"/>
                  </a:lnTo>
                  <a:lnTo>
                    <a:pt x="1015" y="1433"/>
                  </a:lnTo>
                  <a:lnTo>
                    <a:pt x="1063" y="1463"/>
                  </a:lnTo>
                  <a:lnTo>
                    <a:pt x="1113" y="1493"/>
                  </a:lnTo>
                  <a:lnTo>
                    <a:pt x="1164" y="1522"/>
                  </a:lnTo>
                  <a:lnTo>
                    <a:pt x="1214" y="1552"/>
                  </a:lnTo>
                  <a:lnTo>
                    <a:pt x="1267" y="1581"/>
                  </a:lnTo>
                  <a:lnTo>
                    <a:pt x="1321" y="1610"/>
                  </a:lnTo>
                  <a:lnTo>
                    <a:pt x="1375" y="1639"/>
                  </a:lnTo>
                  <a:lnTo>
                    <a:pt x="1430" y="1667"/>
                  </a:lnTo>
                  <a:lnTo>
                    <a:pt x="1487" y="1695"/>
                  </a:lnTo>
                  <a:lnTo>
                    <a:pt x="1544" y="1723"/>
                  </a:lnTo>
                  <a:lnTo>
                    <a:pt x="1602" y="1751"/>
                  </a:lnTo>
                  <a:lnTo>
                    <a:pt x="1661" y="1778"/>
                  </a:lnTo>
                  <a:lnTo>
                    <a:pt x="1721" y="1806"/>
                  </a:lnTo>
                  <a:lnTo>
                    <a:pt x="1782" y="1832"/>
                  </a:lnTo>
                  <a:lnTo>
                    <a:pt x="1844" y="1858"/>
                  </a:lnTo>
                  <a:lnTo>
                    <a:pt x="1907" y="1885"/>
                  </a:lnTo>
                  <a:lnTo>
                    <a:pt x="1970" y="1911"/>
                  </a:lnTo>
                  <a:lnTo>
                    <a:pt x="2034" y="1937"/>
                  </a:lnTo>
                  <a:lnTo>
                    <a:pt x="2100" y="1963"/>
                  </a:lnTo>
                  <a:lnTo>
                    <a:pt x="2166" y="1988"/>
                  </a:lnTo>
                  <a:lnTo>
                    <a:pt x="2233" y="2012"/>
                  </a:lnTo>
                  <a:lnTo>
                    <a:pt x="2301" y="2037"/>
                  </a:lnTo>
                  <a:lnTo>
                    <a:pt x="2370" y="2062"/>
                  </a:lnTo>
                  <a:lnTo>
                    <a:pt x="2440" y="2086"/>
                  </a:lnTo>
                  <a:lnTo>
                    <a:pt x="2510" y="2110"/>
                  </a:lnTo>
                  <a:lnTo>
                    <a:pt x="2581" y="2133"/>
                  </a:lnTo>
                  <a:lnTo>
                    <a:pt x="2654" y="2156"/>
                  </a:lnTo>
                  <a:lnTo>
                    <a:pt x="2726" y="2180"/>
                  </a:lnTo>
                  <a:lnTo>
                    <a:pt x="2799" y="2202"/>
                  </a:lnTo>
                  <a:lnTo>
                    <a:pt x="2874" y="2225"/>
                  </a:lnTo>
                  <a:lnTo>
                    <a:pt x="2949" y="2246"/>
                  </a:lnTo>
                  <a:lnTo>
                    <a:pt x="3025" y="2268"/>
                  </a:lnTo>
                  <a:lnTo>
                    <a:pt x="3179" y="2311"/>
                  </a:lnTo>
                  <a:lnTo>
                    <a:pt x="3337" y="2353"/>
                  </a:lnTo>
                  <a:lnTo>
                    <a:pt x="3497" y="2392"/>
                  </a:lnTo>
                  <a:lnTo>
                    <a:pt x="3659" y="2431"/>
                  </a:lnTo>
                  <a:lnTo>
                    <a:pt x="3825" y="2469"/>
                  </a:lnTo>
                  <a:lnTo>
                    <a:pt x="3994" y="2505"/>
                  </a:lnTo>
                  <a:lnTo>
                    <a:pt x="4165" y="2539"/>
                  </a:lnTo>
                  <a:lnTo>
                    <a:pt x="4339" y="2572"/>
                  </a:lnTo>
                  <a:lnTo>
                    <a:pt x="4515" y="2604"/>
                  </a:lnTo>
                  <a:lnTo>
                    <a:pt x="4694" y="2635"/>
                  </a:lnTo>
                  <a:lnTo>
                    <a:pt x="4874" y="2664"/>
                  </a:lnTo>
                  <a:lnTo>
                    <a:pt x="5058" y="2691"/>
                  </a:lnTo>
                  <a:lnTo>
                    <a:pt x="5244" y="2717"/>
                  </a:lnTo>
                  <a:lnTo>
                    <a:pt x="5432" y="2742"/>
                  </a:lnTo>
                  <a:lnTo>
                    <a:pt x="5622" y="2764"/>
                  </a:lnTo>
                  <a:lnTo>
                    <a:pt x="5814" y="2786"/>
                  </a:lnTo>
                  <a:lnTo>
                    <a:pt x="6008" y="2806"/>
                  </a:lnTo>
                  <a:lnTo>
                    <a:pt x="6204" y="2824"/>
                  </a:lnTo>
                  <a:lnTo>
                    <a:pt x="6403" y="2841"/>
                  </a:lnTo>
                  <a:lnTo>
                    <a:pt x="6603" y="2855"/>
                  </a:lnTo>
                  <a:lnTo>
                    <a:pt x="6804" y="2869"/>
                  </a:lnTo>
                  <a:lnTo>
                    <a:pt x="7008" y="2880"/>
                  </a:lnTo>
                  <a:lnTo>
                    <a:pt x="7213" y="2890"/>
                  </a:lnTo>
                  <a:lnTo>
                    <a:pt x="7420" y="2898"/>
                  </a:lnTo>
                  <a:lnTo>
                    <a:pt x="7627" y="2904"/>
                  </a:lnTo>
                  <a:lnTo>
                    <a:pt x="7837" y="2909"/>
                  </a:lnTo>
                  <a:lnTo>
                    <a:pt x="8048" y="2912"/>
                  </a:lnTo>
                  <a:lnTo>
                    <a:pt x="8260" y="2912"/>
                  </a:lnTo>
                  <a:lnTo>
                    <a:pt x="8260" y="2812"/>
                  </a:lnTo>
                  <a:lnTo>
                    <a:pt x="8048" y="2811"/>
                  </a:lnTo>
                  <a:lnTo>
                    <a:pt x="7839" y="2809"/>
                  </a:lnTo>
                  <a:lnTo>
                    <a:pt x="7630" y="2805"/>
                  </a:lnTo>
                  <a:lnTo>
                    <a:pt x="7423" y="2799"/>
                  </a:lnTo>
                  <a:lnTo>
                    <a:pt x="7217" y="2790"/>
                  </a:lnTo>
                  <a:lnTo>
                    <a:pt x="7013" y="2780"/>
                  </a:lnTo>
                  <a:lnTo>
                    <a:pt x="6810" y="2769"/>
                  </a:lnTo>
                  <a:lnTo>
                    <a:pt x="6609" y="2755"/>
                  </a:lnTo>
                  <a:lnTo>
                    <a:pt x="6411" y="2741"/>
                  </a:lnTo>
                  <a:lnTo>
                    <a:pt x="6214" y="2724"/>
                  </a:lnTo>
                  <a:lnTo>
                    <a:pt x="6018" y="2707"/>
                  </a:lnTo>
                  <a:lnTo>
                    <a:pt x="5824" y="2686"/>
                  </a:lnTo>
                  <a:lnTo>
                    <a:pt x="5633" y="2665"/>
                  </a:lnTo>
                  <a:lnTo>
                    <a:pt x="5444" y="2642"/>
                  </a:lnTo>
                  <a:lnTo>
                    <a:pt x="5257" y="2618"/>
                  </a:lnTo>
                  <a:lnTo>
                    <a:pt x="5073" y="2592"/>
                  </a:lnTo>
                  <a:lnTo>
                    <a:pt x="4890" y="2565"/>
                  </a:lnTo>
                  <a:lnTo>
                    <a:pt x="4710" y="2536"/>
                  </a:lnTo>
                  <a:lnTo>
                    <a:pt x="4532" y="2506"/>
                  </a:lnTo>
                  <a:lnTo>
                    <a:pt x="4357" y="2474"/>
                  </a:lnTo>
                  <a:lnTo>
                    <a:pt x="4184" y="2441"/>
                  </a:lnTo>
                  <a:lnTo>
                    <a:pt x="4014" y="2407"/>
                  </a:lnTo>
                  <a:lnTo>
                    <a:pt x="3846" y="2370"/>
                  </a:lnTo>
                  <a:lnTo>
                    <a:pt x="3682" y="2333"/>
                  </a:lnTo>
                  <a:lnTo>
                    <a:pt x="3520" y="2295"/>
                  </a:lnTo>
                  <a:lnTo>
                    <a:pt x="3361" y="2256"/>
                  </a:lnTo>
                  <a:lnTo>
                    <a:pt x="3205" y="2214"/>
                  </a:lnTo>
                  <a:lnTo>
                    <a:pt x="3052" y="2172"/>
                  </a:lnTo>
                  <a:lnTo>
                    <a:pt x="2977" y="2150"/>
                  </a:lnTo>
                  <a:lnTo>
                    <a:pt x="2902" y="2128"/>
                  </a:lnTo>
                  <a:lnTo>
                    <a:pt x="2829" y="2107"/>
                  </a:lnTo>
                  <a:lnTo>
                    <a:pt x="2756" y="2084"/>
                  </a:lnTo>
                  <a:lnTo>
                    <a:pt x="2683" y="2061"/>
                  </a:lnTo>
                  <a:lnTo>
                    <a:pt x="2612" y="2038"/>
                  </a:lnTo>
                  <a:lnTo>
                    <a:pt x="2542" y="2015"/>
                  </a:lnTo>
                  <a:lnTo>
                    <a:pt x="2472" y="1991"/>
                  </a:lnTo>
                  <a:lnTo>
                    <a:pt x="2403" y="1967"/>
                  </a:lnTo>
                  <a:lnTo>
                    <a:pt x="2334" y="1943"/>
                  </a:lnTo>
                  <a:lnTo>
                    <a:pt x="2267" y="1918"/>
                  </a:lnTo>
                  <a:lnTo>
                    <a:pt x="2201" y="1895"/>
                  </a:lnTo>
                  <a:lnTo>
                    <a:pt x="2136" y="1869"/>
                  </a:lnTo>
                  <a:lnTo>
                    <a:pt x="2071" y="1844"/>
                  </a:lnTo>
                  <a:lnTo>
                    <a:pt x="2007" y="1818"/>
                  </a:lnTo>
                  <a:lnTo>
                    <a:pt x="1944" y="1792"/>
                  </a:lnTo>
                  <a:lnTo>
                    <a:pt x="1883" y="1766"/>
                  </a:lnTo>
                  <a:lnTo>
                    <a:pt x="1822" y="1740"/>
                  </a:lnTo>
                  <a:lnTo>
                    <a:pt x="1761" y="1714"/>
                  </a:lnTo>
                  <a:lnTo>
                    <a:pt x="1703" y="1687"/>
                  </a:lnTo>
                  <a:lnTo>
                    <a:pt x="1645" y="1660"/>
                  </a:lnTo>
                  <a:lnTo>
                    <a:pt x="1587" y="1633"/>
                  </a:lnTo>
                  <a:lnTo>
                    <a:pt x="1531" y="1605"/>
                  </a:lnTo>
                  <a:lnTo>
                    <a:pt x="1475" y="1578"/>
                  </a:lnTo>
                  <a:lnTo>
                    <a:pt x="1421" y="1550"/>
                  </a:lnTo>
                  <a:lnTo>
                    <a:pt x="1368" y="1521"/>
                  </a:lnTo>
                  <a:lnTo>
                    <a:pt x="1315" y="1493"/>
                  </a:lnTo>
                  <a:lnTo>
                    <a:pt x="1264" y="1464"/>
                  </a:lnTo>
                  <a:lnTo>
                    <a:pt x="1213" y="1435"/>
                  </a:lnTo>
                  <a:lnTo>
                    <a:pt x="1164" y="1406"/>
                  </a:lnTo>
                  <a:lnTo>
                    <a:pt x="1115" y="1377"/>
                  </a:lnTo>
                  <a:lnTo>
                    <a:pt x="1068" y="1348"/>
                  </a:lnTo>
                  <a:lnTo>
                    <a:pt x="1022" y="1318"/>
                  </a:lnTo>
                  <a:lnTo>
                    <a:pt x="977" y="1288"/>
                  </a:lnTo>
                  <a:lnTo>
                    <a:pt x="932" y="1258"/>
                  </a:lnTo>
                  <a:lnTo>
                    <a:pt x="889" y="1228"/>
                  </a:lnTo>
                  <a:lnTo>
                    <a:pt x="847" y="1197"/>
                  </a:lnTo>
                  <a:lnTo>
                    <a:pt x="805" y="1167"/>
                  </a:lnTo>
                  <a:lnTo>
                    <a:pt x="766" y="1136"/>
                  </a:lnTo>
                  <a:lnTo>
                    <a:pt x="727" y="1105"/>
                  </a:lnTo>
                  <a:lnTo>
                    <a:pt x="690" y="1074"/>
                  </a:lnTo>
                  <a:lnTo>
                    <a:pt x="653" y="1043"/>
                  </a:lnTo>
                  <a:lnTo>
                    <a:pt x="617" y="1012"/>
                  </a:lnTo>
                  <a:lnTo>
                    <a:pt x="582" y="980"/>
                  </a:lnTo>
                  <a:lnTo>
                    <a:pt x="549" y="948"/>
                  </a:lnTo>
                  <a:lnTo>
                    <a:pt x="517" y="917"/>
                  </a:lnTo>
                  <a:lnTo>
                    <a:pt x="486" y="885"/>
                  </a:lnTo>
                  <a:lnTo>
                    <a:pt x="456" y="853"/>
                  </a:lnTo>
                  <a:lnTo>
                    <a:pt x="427" y="820"/>
                  </a:lnTo>
                  <a:lnTo>
                    <a:pt x="401" y="788"/>
                  </a:lnTo>
                  <a:lnTo>
                    <a:pt x="374" y="756"/>
                  </a:lnTo>
                  <a:lnTo>
                    <a:pt x="349" y="723"/>
                  </a:lnTo>
                  <a:lnTo>
                    <a:pt x="324" y="689"/>
                  </a:lnTo>
                  <a:lnTo>
                    <a:pt x="301" y="657"/>
                  </a:lnTo>
                  <a:lnTo>
                    <a:pt x="281" y="624"/>
                  </a:lnTo>
                  <a:lnTo>
                    <a:pt x="260" y="591"/>
                  </a:lnTo>
                  <a:lnTo>
                    <a:pt x="241" y="558"/>
                  </a:lnTo>
                  <a:lnTo>
                    <a:pt x="223" y="525"/>
                  </a:lnTo>
                  <a:lnTo>
                    <a:pt x="205" y="491"/>
                  </a:lnTo>
                  <a:lnTo>
                    <a:pt x="190" y="458"/>
                  </a:lnTo>
                  <a:lnTo>
                    <a:pt x="176" y="425"/>
                  </a:lnTo>
                  <a:lnTo>
                    <a:pt x="163" y="391"/>
                  </a:lnTo>
                  <a:lnTo>
                    <a:pt x="151" y="357"/>
                  </a:lnTo>
                  <a:lnTo>
                    <a:pt x="140" y="323"/>
                  </a:lnTo>
                  <a:lnTo>
                    <a:pt x="131" y="289"/>
                  </a:lnTo>
                  <a:lnTo>
                    <a:pt x="123" y="255"/>
                  </a:lnTo>
                  <a:lnTo>
                    <a:pt x="116" y="222"/>
                  </a:lnTo>
                  <a:lnTo>
                    <a:pt x="110" y="188"/>
                  </a:lnTo>
                  <a:lnTo>
                    <a:pt x="106" y="154"/>
                  </a:lnTo>
                  <a:lnTo>
                    <a:pt x="102" y="120"/>
                  </a:lnTo>
                  <a:lnTo>
                    <a:pt x="101" y="84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4" y="23"/>
                  </a:lnTo>
                  <a:lnTo>
                    <a:pt x="91" y="19"/>
                  </a:lnTo>
                  <a:lnTo>
                    <a:pt x="88" y="16"/>
                  </a:lnTo>
                  <a:lnTo>
                    <a:pt x="85" y="12"/>
                  </a:lnTo>
                  <a:lnTo>
                    <a:pt x="77" y="7"/>
                  </a:lnTo>
                  <a:lnTo>
                    <a:pt x="68" y="3"/>
                  </a:lnTo>
                  <a:lnTo>
                    <a:pt x="60" y="1"/>
                  </a:lnTo>
                  <a:lnTo>
                    <a:pt x="51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3" y="7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05080" y="4027320"/>
              <a:ext cx="471600" cy="161640"/>
            </a:xfrm>
            <a:custGeom>
              <a:avLst/>
              <a:gdLst/>
              <a:ahLst/>
              <a:rect l="l" t="t" r="r" b="b"/>
              <a:pathLst>
                <a:path w="8311" h="2863">
                  <a:moveTo>
                    <a:pt x="8260" y="0"/>
                  </a:moveTo>
                  <a:lnTo>
                    <a:pt x="8260" y="0"/>
                  </a:lnTo>
                  <a:lnTo>
                    <a:pt x="8048" y="1"/>
                  </a:lnTo>
                  <a:lnTo>
                    <a:pt x="7837" y="4"/>
                  </a:lnTo>
                  <a:lnTo>
                    <a:pt x="7627" y="8"/>
                  </a:lnTo>
                  <a:lnTo>
                    <a:pt x="7420" y="14"/>
                  </a:lnTo>
                  <a:lnTo>
                    <a:pt x="7213" y="23"/>
                  </a:lnTo>
                  <a:lnTo>
                    <a:pt x="7008" y="33"/>
                  </a:lnTo>
                  <a:lnTo>
                    <a:pt x="6804" y="44"/>
                  </a:lnTo>
                  <a:lnTo>
                    <a:pt x="6603" y="57"/>
                  </a:lnTo>
                  <a:lnTo>
                    <a:pt x="6403" y="72"/>
                  </a:lnTo>
                  <a:lnTo>
                    <a:pt x="6204" y="89"/>
                  </a:lnTo>
                  <a:lnTo>
                    <a:pt x="6008" y="108"/>
                  </a:lnTo>
                  <a:lnTo>
                    <a:pt x="5814" y="127"/>
                  </a:lnTo>
                  <a:lnTo>
                    <a:pt x="5622" y="148"/>
                  </a:lnTo>
                  <a:lnTo>
                    <a:pt x="5432" y="171"/>
                  </a:lnTo>
                  <a:lnTo>
                    <a:pt x="5244" y="196"/>
                  </a:lnTo>
                  <a:lnTo>
                    <a:pt x="5058" y="221"/>
                  </a:lnTo>
                  <a:lnTo>
                    <a:pt x="4874" y="249"/>
                  </a:lnTo>
                  <a:lnTo>
                    <a:pt x="4694" y="278"/>
                  </a:lnTo>
                  <a:lnTo>
                    <a:pt x="4515" y="308"/>
                  </a:lnTo>
                  <a:lnTo>
                    <a:pt x="4339" y="340"/>
                  </a:lnTo>
                  <a:lnTo>
                    <a:pt x="4165" y="373"/>
                  </a:lnTo>
                  <a:lnTo>
                    <a:pt x="3994" y="409"/>
                  </a:lnTo>
                  <a:lnTo>
                    <a:pt x="3825" y="445"/>
                  </a:lnTo>
                  <a:lnTo>
                    <a:pt x="3659" y="482"/>
                  </a:lnTo>
                  <a:lnTo>
                    <a:pt x="3497" y="520"/>
                  </a:lnTo>
                  <a:lnTo>
                    <a:pt x="3337" y="561"/>
                  </a:lnTo>
                  <a:lnTo>
                    <a:pt x="3179" y="602"/>
                  </a:lnTo>
                  <a:lnTo>
                    <a:pt x="3025" y="644"/>
                  </a:lnTo>
                  <a:lnTo>
                    <a:pt x="2874" y="689"/>
                  </a:lnTo>
                  <a:lnTo>
                    <a:pt x="2726" y="733"/>
                  </a:lnTo>
                  <a:lnTo>
                    <a:pt x="2654" y="756"/>
                  </a:lnTo>
                  <a:lnTo>
                    <a:pt x="2581" y="780"/>
                  </a:lnTo>
                  <a:lnTo>
                    <a:pt x="2510" y="803"/>
                  </a:lnTo>
                  <a:lnTo>
                    <a:pt x="2440" y="826"/>
                  </a:lnTo>
                  <a:lnTo>
                    <a:pt x="2370" y="851"/>
                  </a:lnTo>
                  <a:lnTo>
                    <a:pt x="2301" y="875"/>
                  </a:lnTo>
                  <a:lnTo>
                    <a:pt x="2233" y="900"/>
                  </a:lnTo>
                  <a:lnTo>
                    <a:pt x="2166" y="925"/>
                  </a:lnTo>
                  <a:lnTo>
                    <a:pt x="2100" y="951"/>
                  </a:lnTo>
                  <a:lnTo>
                    <a:pt x="2034" y="975"/>
                  </a:lnTo>
                  <a:lnTo>
                    <a:pt x="1970" y="1001"/>
                  </a:lnTo>
                  <a:lnTo>
                    <a:pt x="1907" y="1028"/>
                  </a:lnTo>
                  <a:lnTo>
                    <a:pt x="1844" y="1054"/>
                  </a:lnTo>
                  <a:lnTo>
                    <a:pt x="1782" y="1081"/>
                  </a:lnTo>
                  <a:lnTo>
                    <a:pt x="1721" y="1108"/>
                  </a:lnTo>
                  <a:lnTo>
                    <a:pt x="1661" y="1135"/>
                  </a:lnTo>
                  <a:lnTo>
                    <a:pt x="1602" y="1163"/>
                  </a:lnTo>
                  <a:lnTo>
                    <a:pt x="1544" y="1190"/>
                  </a:lnTo>
                  <a:lnTo>
                    <a:pt x="1487" y="1217"/>
                  </a:lnTo>
                  <a:lnTo>
                    <a:pt x="1430" y="1246"/>
                  </a:lnTo>
                  <a:lnTo>
                    <a:pt x="1375" y="1274"/>
                  </a:lnTo>
                  <a:lnTo>
                    <a:pt x="1321" y="1303"/>
                  </a:lnTo>
                  <a:lnTo>
                    <a:pt x="1267" y="1332"/>
                  </a:lnTo>
                  <a:lnTo>
                    <a:pt x="1214" y="1361"/>
                  </a:lnTo>
                  <a:lnTo>
                    <a:pt x="1164" y="1390"/>
                  </a:lnTo>
                  <a:lnTo>
                    <a:pt x="1113" y="1420"/>
                  </a:lnTo>
                  <a:lnTo>
                    <a:pt x="1063" y="1450"/>
                  </a:lnTo>
                  <a:lnTo>
                    <a:pt x="1015" y="1480"/>
                  </a:lnTo>
                  <a:lnTo>
                    <a:pt x="967" y="1510"/>
                  </a:lnTo>
                  <a:lnTo>
                    <a:pt x="921" y="1541"/>
                  </a:lnTo>
                  <a:lnTo>
                    <a:pt x="876" y="1572"/>
                  </a:lnTo>
                  <a:lnTo>
                    <a:pt x="831" y="1603"/>
                  </a:lnTo>
                  <a:lnTo>
                    <a:pt x="788" y="1634"/>
                  </a:lnTo>
                  <a:lnTo>
                    <a:pt x="745" y="1665"/>
                  </a:lnTo>
                  <a:lnTo>
                    <a:pt x="704" y="1697"/>
                  </a:lnTo>
                  <a:lnTo>
                    <a:pt x="664" y="1730"/>
                  </a:lnTo>
                  <a:lnTo>
                    <a:pt x="625" y="1762"/>
                  </a:lnTo>
                  <a:lnTo>
                    <a:pt x="587" y="1794"/>
                  </a:lnTo>
                  <a:lnTo>
                    <a:pt x="550" y="1827"/>
                  </a:lnTo>
                  <a:lnTo>
                    <a:pt x="514" y="1860"/>
                  </a:lnTo>
                  <a:lnTo>
                    <a:pt x="480" y="1893"/>
                  </a:lnTo>
                  <a:lnTo>
                    <a:pt x="446" y="1926"/>
                  </a:lnTo>
                  <a:lnTo>
                    <a:pt x="414" y="1959"/>
                  </a:lnTo>
                  <a:lnTo>
                    <a:pt x="382" y="1993"/>
                  </a:lnTo>
                  <a:lnTo>
                    <a:pt x="352" y="2027"/>
                  </a:lnTo>
                  <a:lnTo>
                    <a:pt x="323" y="2062"/>
                  </a:lnTo>
                  <a:lnTo>
                    <a:pt x="295" y="2096"/>
                  </a:lnTo>
                  <a:lnTo>
                    <a:pt x="268" y="2130"/>
                  </a:lnTo>
                  <a:lnTo>
                    <a:pt x="244" y="2165"/>
                  </a:lnTo>
                  <a:lnTo>
                    <a:pt x="219" y="2200"/>
                  </a:lnTo>
                  <a:lnTo>
                    <a:pt x="196" y="2235"/>
                  </a:lnTo>
                  <a:lnTo>
                    <a:pt x="174" y="2270"/>
                  </a:lnTo>
                  <a:lnTo>
                    <a:pt x="154" y="2307"/>
                  </a:lnTo>
                  <a:lnTo>
                    <a:pt x="134" y="2342"/>
                  </a:lnTo>
                  <a:lnTo>
                    <a:pt x="116" y="2378"/>
                  </a:lnTo>
                  <a:lnTo>
                    <a:pt x="99" y="2414"/>
                  </a:lnTo>
                  <a:lnTo>
                    <a:pt x="84" y="2450"/>
                  </a:lnTo>
                  <a:lnTo>
                    <a:pt x="69" y="2488"/>
                  </a:lnTo>
                  <a:lnTo>
                    <a:pt x="56" y="2524"/>
                  </a:lnTo>
                  <a:lnTo>
                    <a:pt x="44" y="2561"/>
                  </a:lnTo>
                  <a:lnTo>
                    <a:pt x="34" y="2598"/>
                  </a:lnTo>
                  <a:lnTo>
                    <a:pt x="25" y="2636"/>
                  </a:lnTo>
                  <a:lnTo>
                    <a:pt x="18" y="2674"/>
                  </a:lnTo>
                  <a:lnTo>
                    <a:pt x="11" y="2711"/>
                  </a:lnTo>
                  <a:lnTo>
                    <a:pt x="6" y="2748"/>
                  </a:lnTo>
                  <a:lnTo>
                    <a:pt x="3" y="2787"/>
                  </a:lnTo>
                  <a:lnTo>
                    <a:pt x="1" y="2825"/>
                  </a:lnTo>
                  <a:lnTo>
                    <a:pt x="0" y="2863"/>
                  </a:lnTo>
                  <a:lnTo>
                    <a:pt x="100" y="2863"/>
                  </a:lnTo>
                  <a:lnTo>
                    <a:pt x="101" y="2828"/>
                  </a:lnTo>
                  <a:lnTo>
                    <a:pt x="102" y="2794"/>
                  </a:lnTo>
                  <a:lnTo>
                    <a:pt x="106" y="2760"/>
                  </a:lnTo>
                  <a:lnTo>
                    <a:pt x="110" y="2726"/>
                  </a:lnTo>
                  <a:lnTo>
                    <a:pt x="116" y="2691"/>
                  </a:lnTo>
                  <a:lnTo>
                    <a:pt x="123" y="2657"/>
                  </a:lnTo>
                  <a:lnTo>
                    <a:pt x="131" y="2623"/>
                  </a:lnTo>
                  <a:lnTo>
                    <a:pt x="140" y="2590"/>
                  </a:lnTo>
                  <a:lnTo>
                    <a:pt x="151" y="2556"/>
                  </a:lnTo>
                  <a:lnTo>
                    <a:pt x="163" y="2523"/>
                  </a:lnTo>
                  <a:lnTo>
                    <a:pt x="176" y="2489"/>
                  </a:lnTo>
                  <a:lnTo>
                    <a:pt x="190" y="2456"/>
                  </a:lnTo>
                  <a:lnTo>
                    <a:pt x="205" y="2422"/>
                  </a:lnTo>
                  <a:lnTo>
                    <a:pt x="223" y="2388"/>
                  </a:lnTo>
                  <a:lnTo>
                    <a:pt x="241" y="2355"/>
                  </a:lnTo>
                  <a:lnTo>
                    <a:pt x="260" y="2322"/>
                  </a:lnTo>
                  <a:lnTo>
                    <a:pt x="280" y="2289"/>
                  </a:lnTo>
                  <a:lnTo>
                    <a:pt x="301" y="2256"/>
                  </a:lnTo>
                  <a:lnTo>
                    <a:pt x="324" y="2223"/>
                  </a:lnTo>
                  <a:lnTo>
                    <a:pt x="349" y="2191"/>
                  </a:lnTo>
                  <a:lnTo>
                    <a:pt x="374" y="2158"/>
                  </a:lnTo>
                  <a:lnTo>
                    <a:pt x="401" y="2126"/>
                  </a:lnTo>
                  <a:lnTo>
                    <a:pt x="427" y="2093"/>
                  </a:lnTo>
                  <a:lnTo>
                    <a:pt x="456" y="2061"/>
                  </a:lnTo>
                  <a:lnTo>
                    <a:pt x="486" y="2028"/>
                  </a:lnTo>
                  <a:lnTo>
                    <a:pt x="517" y="1996"/>
                  </a:lnTo>
                  <a:lnTo>
                    <a:pt x="549" y="1964"/>
                  </a:lnTo>
                  <a:lnTo>
                    <a:pt x="582" y="1933"/>
                  </a:lnTo>
                  <a:lnTo>
                    <a:pt x="617" y="1901"/>
                  </a:lnTo>
                  <a:lnTo>
                    <a:pt x="653" y="1870"/>
                  </a:lnTo>
                  <a:lnTo>
                    <a:pt x="690" y="1838"/>
                  </a:lnTo>
                  <a:lnTo>
                    <a:pt x="727" y="1807"/>
                  </a:lnTo>
                  <a:lnTo>
                    <a:pt x="766" y="1776"/>
                  </a:lnTo>
                  <a:lnTo>
                    <a:pt x="805" y="1746"/>
                  </a:lnTo>
                  <a:lnTo>
                    <a:pt x="847" y="1715"/>
                  </a:lnTo>
                  <a:lnTo>
                    <a:pt x="889" y="1685"/>
                  </a:lnTo>
                  <a:lnTo>
                    <a:pt x="932" y="1655"/>
                  </a:lnTo>
                  <a:lnTo>
                    <a:pt x="977" y="1624"/>
                  </a:lnTo>
                  <a:lnTo>
                    <a:pt x="1022" y="1595"/>
                  </a:lnTo>
                  <a:lnTo>
                    <a:pt x="1068" y="1565"/>
                  </a:lnTo>
                  <a:lnTo>
                    <a:pt x="1115" y="1536"/>
                  </a:lnTo>
                  <a:lnTo>
                    <a:pt x="1164" y="1506"/>
                  </a:lnTo>
                  <a:lnTo>
                    <a:pt x="1213" y="1477"/>
                  </a:lnTo>
                  <a:lnTo>
                    <a:pt x="1264" y="1448"/>
                  </a:lnTo>
                  <a:lnTo>
                    <a:pt x="1315" y="1420"/>
                  </a:lnTo>
                  <a:lnTo>
                    <a:pt x="1368" y="1391"/>
                  </a:lnTo>
                  <a:lnTo>
                    <a:pt x="1421" y="1363"/>
                  </a:lnTo>
                  <a:lnTo>
                    <a:pt x="1475" y="1335"/>
                  </a:lnTo>
                  <a:lnTo>
                    <a:pt x="1531" y="1307"/>
                  </a:lnTo>
                  <a:lnTo>
                    <a:pt x="1587" y="1281"/>
                  </a:lnTo>
                  <a:lnTo>
                    <a:pt x="1645" y="1253"/>
                  </a:lnTo>
                  <a:lnTo>
                    <a:pt x="1703" y="1226"/>
                  </a:lnTo>
                  <a:lnTo>
                    <a:pt x="1761" y="1199"/>
                  </a:lnTo>
                  <a:lnTo>
                    <a:pt x="1822" y="1173"/>
                  </a:lnTo>
                  <a:lnTo>
                    <a:pt x="1883" y="1146"/>
                  </a:lnTo>
                  <a:lnTo>
                    <a:pt x="1944" y="1120"/>
                  </a:lnTo>
                  <a:lnTo>
                    <a:pt x="2007" y="1094"/>
                  </a:lnTo>
                  <a:lnTo>
                    <a:pt x="2071" y="1070"/>
                  </a:lnTo>
                  <a:lnTo>
                    <a:pt x="2136" y="1044"/>
                  </a:lnTo>
                  <a:lnTo>
                    <a:pt x="2201" y="1019"/>
                  </a:lnTo>
                  <a:lnTo>
                    <a:pt x="2267" y="994"/>
                  </a:lnTo>
                  <a:lnTo>
                    <a:pt x="2334" y="970"/>
                  </a:lnTo>
                  <a:lnTo>
                    <a:pt x="2403" y="945"/>
                  </a:lnTo>
                  <a:lnTo>
                    <a:pt x="2472" y="922"/>
                  </a:lnTo>
                  <a:lnTo>
                    <a:pt x="2542" y="898"/>
                  </a:lnTo>
                  <a:lnTo>
                    <a:pt x="2612" y="875"/>
                  </a:lnTo>
                  <a:lnTo>
                    <a:pt x="2683" y="851"/>
                  </a:lnTo>
                  <a:lnTo>
                    <a:pt x="2756" y="830"/>
                  </a:lnTo>
                  <a:lnTo>
                    <a:pt x="2902" y="784"/>
                  </a:lnTo>
                  <a:lnTo>
                    <a:pt x="3052" y="741"/>
                  </a:lnTo>
                  <a:lnTo>
                    <a:pt x="3205" y="699"/>
                  </a:lnTo>
                  <a:lnTo>
                    <a:pt x="3361" y="658"/>
                  </a:lnTo>
                  <a:lnTo>
                    <a:pt x="3520" y="619"/>
                  </a:lnTo>
                  <a:lnTo>
                    <a:pt x="3682" y="579"/>
                  </a:lnTo>
                  <a:lnTo>
                    <a:pt x="3846" y="543"/>
                  </a:lnTo>
                  <a:lnTo>
                    <a:pt x="4014" y="507"/>
                  </a:lnTo>
                  <a:lnTo>
                    <a:pt x="4184" y="473"/>
                  </a:lnTo>
                  <a:lnTo>
                    <a:pt x="4357" y="440"/>
                  </a:lnTo>
                  <a:lnTo>
                    <a:pt x="4532" y="408"/>
                  </a:lnTo>
                  <a:lnTo>
                    <a:pt x="4710" y="378"/>
                  </a:lnTo>
                  <a:lnTo>
                    <a:pt x="4890" y="349"/>
                  </a:lnTo>
                  <a:lnTo>
                    <a:pt x="5073" y="321"/>
                  </a:lnTo>
                  <a:lnTo>
                    <a:pt x="5257" y="295"/>
                  </a:lnTo>
                  <a:lnTo>
                    <a:pt x="5444" y="271"/>
                  </a:lnTo>
                  <a:lnTo>
                    <a:pt x="5633" y="248"/>
                  </a:lnTo>
                  <a:lnTo>
                    <a:pt x="5824" y="227"/>
                  </a:lnTo>
                  <a:lnTo>
                    <a:pt x="6018" y="207"/>
                  </a:lnTo>
                  <a:lnTo>
                    <a:pt x="6214" y="189"/>
                  </a:lnTo>
                  <a:lnTo>
                    <a:pt x="6411" y="173"/>
                  </a:lnTo>
                  <a:lnTo>
                    <a:pt x="6609" y="157"/>
                  </a:lnTo>
                  <a:lnTo>
                    <a:pt x="6810" y="144"/>
                  </a:lnTo>
                  <a:lnTo>
                    <a:pt x="7013" y="132"/>
                  </a:lnTo>
                  <a:lnTo>
                    <a:pt x="7217" y="123"/>
                  </a:lnTo>
                  <a:lnTo>
                    <a:pt x="7423" y="115"/>
                  </a:lnTo>
                  <a:lnTo>
                    <a:pt x="7630" y="109"/>
                  </a:lnTo>
                  <a:lnTo>
                    <a:pt x="7839" y="104"/>
                  </a:lnTo>
                  <a:lnTo>
                    <a:pt x="8048" y="101"/>
                  </a:lnTo>
                  <a:lnTo>
                    <a:pt x="8260" y="100"/>
                  </a:lnTo>
                  <a:lnTo>
                    <a:pt x="8260" y="100"/>
                  </a:lnTo>
                  <a:lnTo>
                    <a:pt x="8260" y="100"/>
                  </a:lnTo>
                  <a:lnTo>
                    <a:pt x="8266" y="100"/>
                  </a:lnTo>
                  <a:lnTo>
                    <a:pt x="8271" y="99"/>
                  </a:lnTo>
                  <a:lnTo>
                    <a:pt x="8278" y="98"/>
                  </a:lnTo>
                  <a:lnTo>
                    <a:pt x="8282" y="96"/>
                  </a:lnTo>
                  <a:lnTo>
                    <a:pt x="8287" y="94"/>
                  </a:lnTo>
                  <a:lnTo>
                    <a:pt x="8291" y="91"/>
                  </a:lnTo>
                  <a:lnTo>
                    <a:pt x="8294" y="88"/>
                  </a:lnTo>
                  <a:lnTo>
                    <a:pt x="8298" y="85"/>
                  </a:lnTo>
                  <a:lnTo>
                    <a:pt x="8303" y="78"/>
                  </a:lnTo>
                  <a:lnTo>
                    <a:pt x="8307" y="68"/>
                  </a:lnTo>
                  <a:lnTo>
                    <a:pt x="8310" y="60"/>
                  </a:lnTo>
                  <a:lnTo>
                    <a:pt x="8311" y="51"/>
                  </a:lnTo>
                  <a:lnTo>
                    <a:pt x="8310" y="41"/>
                  </a:lnTo>
                  <a:lnTo>
                    <a:pt x="8307" y="32"/>
                  </a:lnTo>
                  <a:lnTo>
                    <a:pt x="8303" y="24"/>
                  </a:lnTo>
                  <a:lnTo>
                    <a:pt x="8298" y="16"/>
                  </a:lnTo>
                  <a:lnTo>
                    <a:pt x="8294" y="12"/>
                  </a:lnTo>
                  <a:lnTo>
                    <a:pt x="8291" y="9"/>
                  </a:lnTo>
                  <a:lnTo>
                    <a:pt x="8287" y="6"/>
                  </a:lnTo>
                  <a:lnTo>
                    <a:pt x="8282" y="4"/>
                  </a:lnTo>
                  <a:lnTo>
                    <a:pt x="8278" y="2"/>
                  </a:lnTo>
                  <a:lnTo>
                    <a:pt x="8271" y="1"/>
                  </a:lnTo>
                  <a:lnTo>
                    <a:pt x="8266" y="0"/>
                  </a:lnTo>
                  <a:lnTo>
                    <a:pt x="8260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73440" y="4027320"/>
              <a:ext cx="468360" cy="161640"/>
            </a:xfrm>
            <a:custGeom>
              <a:avLst/>
              <a:gdLst/>
              <a:ahLst/>
              <a:rect l="l" t="t" r="r" b="b"/>
              <a:pathLst>
                <a:path w="8260" h="2863">
                  <a:moveTo>
                    <a:pt x="8260" y="2863"/>
                  </a:moveTo>
                  <a:lnTo>
                    <a:pt x="8259" y="2825"/>
                  </a:lnTo>
                  <a:lnTo>
                    <a:pt x="8257" y="2787"/>
                  </a:lnTo>
                  <a:lnTo>
                    <a:pt x="8254" y="2748"/>
                  </a:lnTo>
                  <a:lnTo>
                    <a:pt x="8249" y="2711"/>
                  </a:lnTo>
                  <a:lnTo>
                    <a:pt x="8242" y="2674"/>
                  </a:lnTo>
                  <a:lnTo>
                    <a:pt x="8234" y="2636"/>
                  </a:lnTo>
                  <a:lnTo>
                    <a:pt x="8226" y="2598"/>
                  </a:lnTo>
                  <a:lnTo>
                    <a:pt x="8216" y="2561"/>
                  </a:lnTo>
                  <a:lnTo>
                    <a:pt x="8203" y="2524"/>
                  </a:lnTo>
                  <a:lnTo>
                    <a:pt x="8191" y="2488"/>
                  </a:lnTo>
                  <a:lnTo>
                    <a:pt x="8176" y="2450"/>
                  </a:lnTo>
                  <a:lnTo>
                    <a:pt x="8161" y="2414"/>
                  </a:lnTo>
                  <a:lnTo>
                    <a:pt x="8144" y="2378"/>
                  </a:lnTo>
                  <a:lnTo>
                    <a:pt x="8126" y="2342"/>
                  </a:lnTo>
                  <a:lnTo>
                    <a:pt x="8106" y="2307"/>
                  </a:lnTo>
                  <a:lnTo>
                    <a:pt x="8086" y="2270"/>
                  </a:lnTo>
                  <a:lnTo>
                    <a:pt x="8064" y="2235"/>
                  </a:lnTo>
                  <a:lnTo>
                    <a:pt x="8041" y="2200"/>
                  </a:lnTo>
                  <a:lnTo>
                    <a:pt x="8016" y="2165"/>
                  </a:lnTo>
                  <a:lnTo>
                    <a:pt x="7992" y="2130"/>
                  </a:lnTo>
                  <a:lnTo>
                    <a:pt x="7965" y="2096"/>
                  </a:lnTo>
                  <a:lnTo>
                    <a:pt x="7937" y="2062"/>
                  </a:lnTo>
                  <a:lnTo>
                    <a:pt x="7908" y="2027"/>
                  </a:lnTo>
                  <a:lnTo>
                    <a:pt x="7878" y="1993"/>
                  </a:lnTo>
                  <a:lnTo>
                    <a:pt x="7846" y="1959"/>
                  </a:lnTo>
                  <a:lnTo>
                    <a:pt x="7814" y="1926"/>
                  </a:lnTo>
                  <a:lnTo>
                    <a:pt x="7780" y="1893"/>
                  </a:lnTo>
                  <a:lnTo>
                    <a:pt x="7746" y="1860"/>
                  </a:lnTo>
                  <a:lnTo>
                    <a:pt x="7710" y="1827"/>
                  </a:lnTo>
                  <a:lnTo>
                    <a:pt x="7673" y="1794"/>
                  </a:lnTo>
                  <a:lnTo>
                    <a:pt x="7634" y="1762"/>
                  </a:lnTo>
                  <a:lnTo>
                    <a:pt x="7596" y="1730"/>
                  </a:lnTo>
                  <a:lnTo>
                    <a:pt x="7556" y="1697"/>
                  </a:lnTo>
                  <a:lnTo>
                    <a:pt x="7515" y="1665"/>
                  </a:lnTo>
                  <a:lnTo>
                    <a:pt x="7472" y="1634"/>
                  </a:lnTo>
                  <a:lnTo>
                    <a:pt x="7429" y="1603"/>
                  </a:lnTo>
                  <a:lnTo>
                    <a:pt x="7384" y="1572"/>
                  </a:lnTo>
                  <a:lnTo>
                    <a:pt x="7339" y="1541"/>
                  </a:lnTo>
                  <a:lnTo>
                    <a:pt x="7293" y="1510"/>
                  </a:lnTo>
                  <a:lnTo>
                    <a:pt x="7245" y="1480"/>
                  </a:lnTo>
                  <a:lnTo>
                    <a:pt x="7197" y="1450"/>
                  </a:lnTo>
                  <a:lnTo>
                    <a:pt x="7147" y="1420"/>
                  </a:lnTo>
                  <a:lnTo>
                    <a:pt x="7096" y="1390"/>
                  </a:lnTo>
                  <a:lnTo>
                    <a:pt x="7045" y="1361"/>
                  </a:lnTo>
                  <a:lnTo>
                    <a:pt x="6993" y="1332"/>
                  </a:lnTo>
                  <a:lnTo>
                    <a:pt x="6939" y="1303"/>
                  </a:lnTo>
                  <a:lnTo>
                    <a:pt x="6885" y="1274"/>
                  </a:lnTo>
                  <a:lnTo>
                    <a:pt x="6830" y="1246"/>
                  </a:lnTo>
                  <a:lnTo>
                    <a:pt x="6773" y="1217"/>
                  </a:lnTo>
                  <a:lnTo>
                    <a:pt x="6716" y="1190"/>
                  </a:lnTo>
                  <a:lnTo>
                    <a:pt x="6658" y="1163"/>
                  </a:lnTo>
                  <a:lnTo>
                    <a:pt x="6599" y="1135"/>
                  </a:lnTo>
                  <a:lnTo>
                    <a:pt x="6539" y="1108"/>
                  </a:lnTo>
                  <a:lnTo>
                    <a:pt x="6478" y="1081"/>
                  </a:lnTo>
                  <a:lnTo>
                    <a:pt x="6416" y="1054"/>
                  </a:lnTo>
                  <a:lnTo>
                    <a:pt x="6353" y="1028"/>
                  </a:lnTo>
                  <a:lnTo>
                    <a:pt x="6290" y="1001"/>
                  </a:lnTo>
                  <a:lnTo>
                    <a:pt x="6225" y="975"/>
                  </a:lnTo>
                  <a:lnTo>
                    <a:pt x="6160" y="951"/>
                  </a:lnTo>
                  <a:lnTo>
                    <a:pt x="6094" y="925"/>
                  </a:lnTo>
                  <a:lnTo>
                    <a:pt x="6027" y="900"/>
                  </a:lnTo>
                  <a:lnTo>
                    <a:pt x="5959" y="875"/>
                  </a:lnTo>
                  <a:lnTo>
                    <a:pt x="5890" y="851"/>
                  </a:lnTo>
                  <a:lnTo>
                    <a:pt x="5820" y="826"/>
                  </a:lnTo>
                  <a:lnTo>
                    <a:pt x="5750" y="803"/>
                  </a:lnTo>
                  <a:lnTo>
                    <a:pt x="5679" y="780"/>
                  </a:lnTo>
                  <a:lnTo>
                    <a:pt x="5606" y="756"/>
                  </a:lnTo>
                  <a:lnTo>
                    <a:pt x="5534" y="733"/>
                  </a:lnTo>
                  <a:lnTo>
                    <a:pt x="5386" y="689"/>
                  </a:lnTo>
                  <a:lnTo>
                    <a:pt x="5235" y="644"/>
                  </a:lnTo>
                  <a:lnTo>
                    <a:pt x="5081" y="602"/>
                  </a:lnTo>
                  <a:lnTo>
                    <a:pt x="4923" y="561"/>
                  </a:lnTo>
                  <a:lnTo>
                    <a:pt x="4763" y="520"/>
                  </a:lnTo>
                  <a:lnTo>
                    <a:pt x="4601" y="482"/>
                  </a:lnTo>
                  <a:lnTo>
                    <a:pt x="4435" y="445"/>
                  </a:lnTo>
                  <a:lnTo>
                    <a:pt x="4266" y="409"/>
                  </a:lnTo>
                  <a:lnTo>
                    <a:pt x="4095" y="373"/>
                  </a:lnTo>
                  <a:lnTo>
                    <a:pt x="3921" y="340"/>
                  </a:lnTo>
                  <a:lnTo>
                    <a:pt x="3745" y="308"/>
                  </a:lnTo>
                  <a:lnTo>
                    <a:pt x="3566" y="278"/>
                  </a:lnTo>
                  <a:lnTo>
                    <a:pt x="3386" y="249"/>
                  </a:lnTo>
                  <a:lnTo>
                    <a:pt x="3202" y="221"/>
                  </a:lnTo>
                  <a:lnTo>
                    <a:pt x="3016" y="196"/>
                  </a:lnTo>
                  <a:lnTo>
                    <a:pt x="2828" y="171"/>
                  </a:lnTo>
                  <a:lnTo>
                    <a:pt x="2638" y="148"/>
                  </a:lnTo>
                  <a:lnTo>
                    <a:pt x="2446" y="127"/>
                  </a:lnTo>
                  <a:lnTo>
                    <a:pt x="2251" y="108"/>
                  </a:lnTo>
                  <a:lnTo>
                    <a:pt x="2056" y="89"/>
                  </a:lnTo>
                  <a:lnTo>
                    <a:pt x="1857" y="72"/>
                  </a:lnTo>
                  <a:lnTo>
                    <a:pt x="1657" y="57"/>
                  </a:lnTo>
                  <a:lnTo>
                    <a:pt x="1456" y="44"/>
                  </a:lnTo>
                  <a:lnTo>
                    <a:pt x="1252" y="33"/>
                  </a:lnTo>
                  <a:lnTo>
                    <a:pt x="1047" y="23"/>
                  </a:lnTo>
                  <a:lnTo>
                    <a:pt x="840" y="14"/>
                  </a:lnTo>
                  <a:lnTo>
                    <a:pt x="633" y="8"/>
                  </a:lnTo>
                  <a:lnTo>
                    <a:pt x="423" y="4"/>
                  </a:lnTo>
                  <a:lnTo>
                    <a:pt x="213" y="1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212" y="101"/>
                  </a:lnTo>
                  <a:lnTo>
                    <a:pt x="421" y="104"/>
                  </a:lnTo>
                  <a:lnTo>
                    <a:pt x="630" y="109"/>
                  </a:lnTo>
                  <a:lnTo>
                    <a:pt x="837" y="115"/>
                  </a:lnTo>
                  <a:lnTo>
                    <a:pt x="1043" y="123"/>
                  </a:lnTo>
                  <a:lnTo>
                    <a:pt x="1247" y="132"/>
                  </a:lnTo>
                  <a:lnTo>
                    <a:pt x="1450" y="144"/>
                  </a:lnTo>
                  <a:lnTo>
                    <a:pt x="1651" y="157"/>
                  </a:lnTo>
                  <a:lnTo>
                    <a:pt x="1849" y="173"/>
                  </a:lnTo>
                  <a:lnTo>
                    <a:pt x="2046" y="189"/>
                  </a:lnTo>
                  <a:lnTo>
                    <a:pt x="2242" y="207"/>
                  </a:lnTo>
                  <a:lnTo>
                    <a:pt x="2436" y="227"/>
                  </a:lnTo>
                  <a:lnTo>
                    <a:pt x="2627" y="248"/>
                  </a:lnTo>
                  <a:lnTo>
                    <a:pt x="2816" y="271"/>
                  </a:lnTo>
                  <a:lnTo>
                    <a:pt x="3003" y="295"/>
                  </a:lnTo>
                  <a:lnTo>
                    <a:pt x="3187" y="321"/>
                  </a:lnTo>
                  <a:lnTo>
                    <a:pt x="3370" y="349"/>
                  </a:lnTo>
                  <a:lnTo>
                    <a:pt x="3550" y="378"/>
                  </a:lnTo>
                  <a:lnTo>
                    <a:pt x="3728" y="408"/>
                  </a:lnTo>
                  <a:lnTo>
                    <a:pt x="3903" y="440"/>
                  </a:lnTo>
                  <a:lnTo>
                    <a:pt x="4076" y="473"/>
                  </a:lnTo>
                  <a:lnTo>
                    <a:pt x="4246" y="507"/>
                  </a:lnTo>
                  <a:lnTo>
                    <a:pt x="4413" y="543"/>
                  </a:lnTo>
                  <a:lnTo>
                    <a:pt x="4578" y="579"/>
                  </a:lnTo>
                  <a:lnTo>
                    <a:pt x="4740" y="619"/>
                  </a:lnTo>
                  <a:lnTo>
                    <a:pt x="4899" y="658"/>
                  </a:lnTo>
                  <a:lnTo>
                    <a:pt x="5055" y="699"/>
                  </a:lnTo>
                  <a:lnTo>
                    <a:pt x="5208" y="741"/>
                  </a:lnTo>
                  <a:lnTo>
                    <a:pt x="5358" y="784"/>
                  </a:lnTo>
                  <a:lnTo>
                    <a:pt x="5504" y="830"/>
                  </a:lnTo>
                  <a:lnTo>
                    <a:pt x="5577" y="851"/>
                  </a:lnTo>
                  <a:lnTo>
                    <a:pt x="5648" y="875"/>
                  </a:lnTo>
                  <a:lnTo>
                    <a:pt x="5718" y="898"/>
                  </a:lnTo>
                  <a:lnTo>
                    <a:pt x="5788" y="922"/>
                  </a:lnTo>
                  <a:lnTo>
                    <a:pt x="5857" y="945"/>
                  </a:lnTo>
                  <a:lnTo>
                    <a:pt x="5926" y="970"/>
                  </a:lnTo>
                  <a:lnTo>
                    <a:pt x="5993" y="994"/>
                  </a:lnTo>
                  <a:lnTo>
                    <a:pt x="6059" y="1019"/>
                  </a:lnTo>
                  <a:lnTo>
                    <a:pt x="6124" y="1044"/>
                  </a:lnTo>
                  <a:lnTo>
                    <a:pt x="6189" y="1070"/>
                  </a:lnTo>
                  <a:lnTo>
                    <a:pt x="6253" y="1094"/>
                  </a:lnTo>
                  <a:lnTo>
                    <a:pt x="6316" y="1120"/>
                  </a:lnTo>
                  <a:lnTo>
                    <a:pt x="6377" y="1146"/>
                  </a:lnTo>
                  <a:lnTo>
                    <a:pt x="6438" y="1173"/>
                  </a:lnTo>
                  <a:lnTo>
                    <a:pt x="6499" y="1199"/>
                  </a:lnTo>
                  <a:lnTo>
                    <a:pt x="6557" y="1226"/>
                  </a:lnTo>
                  <a:lnTo>
                    <a:pt x="6615" y="1253"/>
                  </a:lnTo>
                  <a:lnTo>
                    <a:pt x="6673" y="1281"/>
                  </a:lnTo>
                  <a:lnTo>
                    <a:pt x="6729" y="1307"/>
                  </a:lnTo>
                  <a:lnTo>
                    <a:pt x="6785" y="1335"/>
                  </a:lnTo>
                  <a:lnTo>
                    <a:pt x="6839" y="1363"/>
                  </a:lnTo>
                  <a:lnTo>
                    <a:pt x="6892" y="1391"/>
                  </a:lnTo>
                  <a:lnTo>
                    <a:pt x="6945" y="1420"/>
                  </a:lnTo>
                  <a:lnTo>
                    <a:pt x="6996" y="1448"/>
                  </a:lnTo>
                  <a:lnTo>
                    <a:pt x="7047" y="1477"/>
                  </a:lnTo>
                  <a:lnTo>
                    <a:pt x="7096" y="1506"/>
                  </a:lnTo>
                  <a:lnTo>
                    <a:pt x="7145" y="1536"/>
                  </a:lnTo>
                  <a:lnTo>
                    <a:pt x="7191" y="1565"/>
                  </a:lnTo>
                  <a:lnTo>
                    <a:pt x="7238" y="1595"/>
                  </a:lnTo>
                  <a:lnTo>
                    <a:pt x="7283" y="1624"/>
                  </a:lnTo>
                  <a:lnTo>
                    <a:pt x="7328" y="1655"/>
                  </a:lnTo>
                  <a:lnTo>
                    <a:pt x="7371" y="1685"/>
                  </a:lnTo>
                  <a:lnTo>
                    <a:pt x="7413" y="1715"/>
                  </a:lnTo>
                  <a:lnTo>
                    <a:pt x="7454" y="1746"/>
                  </a:lnTo>
                  <a:lnTo>
                    <a:pt x="7494" y="1776"/>
                  </a:lnTo>
                  <a:lnTo>
                    <a:pt x="7533" y="1807"/>
                  </a:lnTo>
                  <a:lnTo>
                    <a:pt x="7570" y="1838"/>
                  </a:lnTo>
                  <a:lnTo>
                    <a:pt x="7607" y="1870"/>
                  </a:lnTo>
                  <a:lnTo>
                    <a:pt x="7643" y="1901"/>
                  </a:lnTo>
                  <a:lnTo>
                    <a:pt x="7678" y="1933"/>
                  </a:lnTo>
                  <a:lnTo>
                    <a:pt x="7711" y="1964"/>
                  </a:lnTo>
                  <a:lnTo>
                    <a:pt x="7743" y="1996"/>
                  </a:lnTo>
                  <a:lnTo>
                    <a:pt x="7774" y="2028"/>
                  </a:lnTo>
                  <a:lnTo>
                    <a:pt x="7804" y="2061"/>
                  </a:lnTo>
                  <a:lnTo>
                    <a:pt x="7833" y="2093"/>
                  </a:lnTo>
                  <a:lnTo>
                    <a:pt x="7859" y="2126"/>
                  </a:lnTo>
                  <a:lnTo>
                    <a:pt x="7886" y="2158"/>
                  </a:lnTo>
                  <a:lnTo>
                    <a:pt x="7911" y="2191"/>
                  </a:lnTo>
                  <a:lnTo>
                    <a:pt x="7935" y="2223"/>
                  </a:lnTo>
                  <a:lnTo>
                    <a:pt x="7957" y="2256"/>
                  </a:lnTo>
                  <a:lnTo>
                    <a:pt x="7980" y="2289"/>
                  </a:lnTo>
                  <a:lnTo>
                    <a:pt x="8000" y="2322"/>
                  </a:lnTo>
                  <a:lnTo>
                    <a:pt x="8019" y="2355"/>
                  </a:lnTo>
                  <a:lnTo>
                    <a:pt x="8037" y="2388"/>
                  </a:lnTo>
                  <a:lnTo>
                    <a:pt x="8054" y="2422"/>
                  </a:lnTo>
                  <a:lnTo>
                    <a:pt x="8070" y="2456"/>
                  </a:lnTo>
                  <a:lnTo>
                    <a:pt x="8083" y="2489"/>
                  </a:lnTo>
                  <a:lnTo>
                    <a:pt x="8097" y="2523"/>
                  </a:lnTo>
                  <a:lnTo>
                    <a:pt x="8109" y="2556"/>
                  </a:lnTo>
                  <a:lnTo>
                    <a:pt x="8120" y="2590"/>
                  </a:lnTo>
                  <a:lnTo>
                    <a:pt x="8129" y="2623"/>
                  </a:lnTo>
                  <a:lnTo>
                    <a:pt x="8137" y="2657"/>
                  </a:lnTo>
                  <a:lnTo>
                    <a:pt x="8144" y="2691"/>
                  </a:lnTo>
                  <a:lnTo>
                    <a:pt x="8150" y="2726"/>
                  </a:lnTo>
                  <a:lnTo>
                    <a:pt x="8154" y="2760"/>
                  </a:lnTo>
                  <a:lnTo>
                    <a:pt x="8157" y="2794"/>
                  </a:lnTo>
                  <a:lnTo>
                    <a:pt x="8159" y="2828"/>
                  </a:lnTo>
                  <a:lnTo>
                    <a:pt x="8160" y="2863"/>
                  </a:lnTo>
                  <a:lnTo>
                    <a:pt x="8260" y="286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86040" y="4073040"/>
              <a:ext cx="306360" cy="103320"/>
            </a:xfrm>
            <a:custGeom>
              <a:avLst/>
              <a:gdLst/>
              <a:ahLst/>
              <a:rect l="l" t="t" r="r" b="b"/>
              <a:pathLst>
                <a:path w="5403" h="1827">
                  <a:moveTo>
                    <a:pt x="0" y="1426"/>
                  </a:moveTo>
                  <a:lnTo>
                    <a:pt x="1209" y="1827"/>
                  </a:lnTo>
                  <a:lnTo>
                    <a:pt x="4068" y="687"/>
                  </a:lnTo>
                  <a:lnTo>
                    <a:pt x="5403" y="1013"/>
                  </a:lnTo>
                  <a:lnTo>
                    <a:pt x="4699" y="0"/>
                  </a:lnTo>
                  <a:lnTo>
                    <a:pt x="1255" y="0"/>
                  </a:lnTo>
                  <a:lnTo>
                    <a:pt x="2694" y="352"/>
                  </a:lnTo>
                  <a:lnTo>
                    <a:pt x="0" y="14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51240" y="4196880"/>
              <a:ext cx="306360" cy="103320"/>
            </a:xfrm>
            <a:custGeom>
              <a:avLst/>
              <a:gdLst/>
              <a:ahLst/>
              <a:rect l="l" t="t" r="r" b="b"/>
              <a:pathLst>
                <a:path w="5403" h="1827">
                  <a:moveTo>
                    <a:pt x="5403" y="401"/>
                  </a:moveTo>
                  <a:lnTo>
                    <a:pt x="4193" y="0"/>
                  </a:lnTo>
                  <a:lnTo>
                    <a:pt x="1334" y="1140"/>
                  </a:lnTo>
                  <a:lnTo>
                    <a:pt x="0" y="814"/>
                  </a:lnTo>
                  <a:lnTo>
                    <a:pt x="703" y="1827"/>
                  </a:lnTo>
                  <a:lnTo>
                    <a:pt x="4146" y="1827"/>
                  </a:lnTo>
                  <a:lnTo>
                    <a:pt x="2708" y="1475"/>
                  </a:lnTo>
                  <a:lnTo>
                    <a:pt x="5403" y="4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467080" y="4070160"/>
              <a:ext cx="306360" cy="104760"/>
            </a:xfrm>
            <a:custGeom>
              <a:avLst/>
              <a:gdLst/>
              <a:ahLst/>
              <a:rect l="l" t="t" r="r" b="b"/>
              <a:pathLst>
                <a:path w="5403" h="1826">
                  <a:moveTo>
                    <a:pt x="0" y="401"/>
                  </a:moveTo>
                  <a:lnTo>
                    <a:pt x="1210" y="0"/>
                  </a:lnTo>
                  <a:lnTo>
                    <a:pt x="4069" y="1139"/>
                  </a:lnTo>
                  <a:lnTo>
                    <a:pt x="5403" y="814"/>
                  </a:lnTo>
                  <a:lnTo>
                    <a:pt x="4699" y="1826"/>
                  </a:lnTo>
                  <a:lnTo>
                    <a:pt x="1256" y="1826"/>
                  </a:lnTo>
                  <a:lnTo>
                    <a:pt x="2695" y="1474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74880" y="4204800"/>
              <a:ext cx="306720" cy="103320"/>
            </a:xfrm>
            <a:custGeom>
              <a:avLst/>
              <a:gdLst/>
              <a:ahLst/>
              <a:rect l="l" t="t" r="r" b="b"/>
              <a:pathLst>
                <a:path w="5403" h="1826">
                  <a:moveTo>
                    <a:pt x="5403" y="1425"/>
                  </a:moveTo>
                  <a:lnTo>
                    <a:pt x="4194" y="1826"/>
                  </a:lnTo>
                  <a:lnTo>
                    <a:pt x="1335" y="687"/>
                  </a:lnTo>
                  <a:lnTo>
                    <a:pt x="0" y="1012"/>
                  </a:lnTo>
                  <a:lnTo>
                    <a:pt x="704" y="0"/>
                  </a:lnTo>
                  <a:lnTo>
                    <a:pt x="4148" y="0"/>
                  </a:lnTo>
                  <a:lnTo>
                    <a:pt x="2708" y="352"/>
                  </a:lnTo>
                  <a:lnTo>
                    <a:pt x="5403" y="14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791080" y="4079520"/>
              <a:ext cx="306360" cy="103320"/>
            </a:xfrm>
            <a:custGeom>
              <a:avLst/>
              <a:gdLst/>
              <a:ahLst/>
              <a:rect l="l" t="t" r="r" b="b"/>
              <a:pathLst>
                <a:path w="5403" h="1827">
                  <a:moveTo>
                    <a:pt x="0" y="1426"/>
                  </a:moveTo>
                  <a:lnTo>
                    <a:pt x="1209" y="1827"/>
                  </a:lnTo>
                  <a:lnTo>
                    <a:pt x="4069" y="687"/>
                  </a:lnTo>
                  <a:lnTo>
                    <a:pt x="5403" y="1013"/>
                  </a:lnTo>
                  <a:lnTo>
                    <a:pt x="4699" y="0"/>
                  </a:lnTo>
                  <a:lnTo>
                    <a:pt x="1255" y="0"/>
                  </a:lnTo>
                  <a:lnTo>
                    <a:pt x="2695" y="352"/>
                  </a:lnTo>
                  <a:lnTo>
                    <a:pt x="0" y="14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455920" y="4203360"/>
              <a:ext cx="306360" cy="103320"/>
            </a:xfrm>
            <a:custGeom>
              <a:avLst/>
              <a:gdLst/>
              <a:ahLst/>
              <a:rect l="l" t="t" r="r" b="b"/>
              <a:pathLst>
                <a:path w="5403" h="1827">
                  <a:moveTo>
                    <a:pt x="5403" y="401"/>
                  </a:moveTo>
                  <a:lnTo>
                    <a:pt x="4193" y="0"/>
                  </a:lnTo>
                  <a:lnTo>
                    <a:pt x="1334" y="1140"/>
                  </a:lnTo>
                  <a:lnTo>
                    <a:pt x="0" y="814"/>
                  </a:lnTo>
                  <a:lnTo>
                    <a:pt x="704" y="1827"/>
                  </a:lnTo>
                  <a:lnTo>
                    <a:pt x="4148" y="1827"/>
                  </a:lnTo>
                  <a:lnTo>
                    <a:pt x="2708" y="1475"/>
                  </a:lnTo>
                  <a:lnTo>
                    <a:pt x="5403" y="4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73560" y="4076280"/>
              <a:ext cx="306360" cy="103320"/>
            </a:xfrm>
            <a:custGeom>
              <a:avLst/>
              <a:gdLst/>
              <a:ahLst/>
              <a:rect l="l" t="t" r="r" b="b"/>
              <a:pathLst>
                <a:path w="5403" h="1826">
                  <a:moveTo>
                    <a:pt x="0" y="400"/>
                  </a:moveTo>
                  <a:lnTo>
                    <a:pt x="1210" y="0"/>
                  </a:lnTo>
                  <a:lnTo>
                    <a:pt x="4069" y="1139"/>
                  </a:lnTo>
                  <a:lnTo>
                    <a:pt x="5403" y="814"/>
                  </a:lnTo>
                  <a:lnTo>
                    <a:pt x="4699" y="1826"/>
                  </a:lnTo>
                  <a:lnTo>
                    <a:pt x="1256" y="1826"/>
                  </a:lnTo>
                  <a:lnTo>
                    <a:pt x="2695" y="1474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781360" y="4209840"/>
              <a:ext cx="306360" cy="102960"/>
            </a:xfrm>
            <a:custGeom>
              <a:avLst/>
              <a:gdLst/>
              <a:ahLst/>
              <a:rect l="l" t="t" r="r" b="b"/>
              <a:pathLst>
                <a:path w="5403" h="1826">
                  <a:moveTo>
                    <a:pt x="5403" y="1426"/>
                  </a:moveTo>
                  <a:lnTo>
                    <a:pt x="4194" y="1826"/>
                  </a:lnTo>
                  <a:lnTo>
                    <a:pt x="1335" y="687"/>
                  </a:lnTo>
                  <a:lnTo>
                    <a:pt x="0" y="1012"/>
                  </a:lnTo>
                  <a:lnTo>
                    <a:pt x="704" y="0"/>
                  </a:lnTo>
                  <a:lnTo>
                    <a:pt x="4148" y="0"/>
                  </a:lnTo>
                  <a:lnTo>
                    <a:pt x="2709" y="352"/>
                  </a:lnTo>
                  <a:lnTo>
                    <a:pt x="5403" y="14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05080" y="4192200"/>
              <a:ext cx="6480" cy="22860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35320" y="4192200"/>
              <a:ext cx="6480" cy="22860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632320" y="4408200"/>
              <a:ext cx="27000" cy="1317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675160" y="4408200"/>
              <a:ext cx="125280" cy="131760"/>
            </a:xfrm>
            <a:custGeom>
              <a:avLst/>
              <a:gdLst/>
              <a:ahLst/>
              <a:rect l="l" t="t" r="r" b="b"/>
              <a:pathLst>
                <a:path w="2212" h="2334">
                  <a:moveTo>
                    <a:pt x="1103" y="527"/>
                  </a:moveTo>
                  <a:lnTo>
                    <a:pt x="1109" y="527"/>
                  </a:lnTo>
                  <a:lnTo>
                    <a:pt x="1398" y="1449"/>
                  </a:lnTo>
                  <a:lnTo>
                    <a:pt x="804" y="1449"/>
                  </a:lnTo>
                  <a:lnTo>
                    <a:pt x="1103" y="527"/>
                  </a:lnTo>
                  <a:close/>
                  <a:moveTo>
                    <a:pt x="674" y="1853"/>
                  </a:moveTo>
                  <a:lnTo>
                    <a:pt x="1534" y="1853"/>
                  </a:lnTo>
                  <a:lnTo>
                    <a:pt x="1683" y="2334"/>
                  </a:lnTo>
                  <a:lnTo>
                    <a:pt x="2212" y="2334"/>
                  </a:lnTo>
                  <a:lnTo>
                    <a:pt x="1392" y="0"/>
                  </a:lnTo>
                  <a:lnTo>
                    <a:pt x="830" y="0"/>
                  </a:lnTo>
                  <a:lnTo>
                    <a:pt x="0" y="2334"/>
                  </a:lnTo>
                  <a:lnTo>
                    <a:pt x="512" y="2334"/>
                  </a:lnTo>
                  <a:lnTo>
                    <a:pt x="674" y="185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818080" y="4408200"/>
              <a:ext cx="110880" cy="131760"/>
            </a:xfrm>
            <a:custGeom>
              <a:avLst/>
              <a:gdLst/>
              <a:ahLst/>
              <a:rect l="l" t="t" r="r" b="b"/>
              <a:pathLst>
                <a:path w="1975" h="2334">
                  <a:moveTo>
                    <a:pt x="477" y="403"/>
                  </a:moveTo>
                  <a:lnTo>
                    <a:pt x="943" y="403"/>
                  </a:lnTo>
                  <a:lnTo>
                    <a:pt x="984" y="405"/>
                  </a:lnTo>
                  <a:lnTo>
                    <a:pt x="1026" y="408"/>
                  </a:lnTo>
                  <a:lnTo>
                    <a:pt x="1048" y="410"/>
                  </a:lnTo>
                  <a:lnTo>
                    <a:pt x="1070" y="413"/>
                  </a:lnTo>
                  <a:lnTo>
                    <a:pt x="1092" y="417"/>
                  </a:lnTo>
                  <a:lnTo>
                    <a:pt x="1115" y="423"/>
                  </a:lnTo>
                  <a:lnTo>
                    <a:pt x="1137" y="429"/>
                  </a:lnTo>
                  <a:lnTo>
                    <a:pt x="1159" y="438"/>
                  </a:lnTo>
                  <a:lnTo>
                    <a:pt x="1182" y="447"/>
                  </a:lnTo>
                  <a:lnTo>
                    <a:pt x="1203" y="457"/>
                  </a:lnTo>
                  <a:lnTo>
                    <a:pt x="1226" y="470"/>
                  </a:lnTo>
                  <a:lnTo>
                    <a:pt x="1247" y="483"/>
                  </a:lnTo>
                  <a:lnTo>
                    <a:pt x="1269" y="500"/>
                  </a:lnTo>
                  <a:lnTo>
                    <a:pt x="1289" y="517"/>
                  </a:lnTo>
                  <a:lnTo>
                    <a:pt x="1309" y="537"/>
                  </a:lnTo>
                  <a:lnTo>
                    <a:pt x="1328" y="559"/>
                  </a:lnTo>
                  <a:lnTo>
                    <a:pt x="1346" y="582"/>
                  </a:lnTo>
                  <a:lnTo>
                    <a:pt x="1364" y="609"/>
                  </a:lnTo>
                  <a:lnTo>
                    <a:pt x="1380" y="638"/>
                  </a:lnTo>
                  <a:lnTo>
                    <a:pt x="1397" y="669"/>
                  </a:lnTo>
                  <a:lnTo>
                    <a:pt x="1411" y="703"/>
                  </a:lnTo>
                  <a:lnTo>
                    <a:pt x="1424" y="741"/>
                  </a:lnTo>
                  <a:lnTo>
                    <a:pt x="1436" y="780"/>
                  </a:lnTo>
                  <a:lnTo>
                    <a:pt x="1447" y="823"/>
                  </a:lnTo>
                  <a:lnTo>
                    <a:pt x="1456" y="869"/>
                  </a:lnTo>
                  <a:lnTo>
                    <a:pt x="1464" y="918"/>
                  </a:lnTo>
                  <a:lnTo>
                    <a:pt x="1470" y="970"/>
                  </a:lnTo>
                  <a:lnTo>
                    <a:pt x="1475" y="1025"/>
                  </a:lnTo>
                  <a:lnTo>
                    <a:pt x="1477" y="1085"/>
                  </a:lnTo>
                  <a:lnTo>
                    <a:pt x="1478" y="1147"/>
                  </a:lnTo>
                  <a:lnTo>
                    <a:pt x="1478" y="1183"/>
                  </a:lnTo>
                  <a:lnTo>
                    <a:pt x="1477" y="1220"/>
                  </a:lnTo>
                  <a:lnTo>
                    <a:pt x="1475" y="1256"/>
                  </a:lnTo>
                  <a:lnTo>
                    <a:pt x="1472" y="1291"/>
                  </a:lnTo>
                  <a:lnTo>
                    <a:pt x="1468" y="1327"/>
                  </a:lnTo>
                  <a:lnTo>
                    <a:pt x="1464" y="1362"/>
                  </a:lnTo>
                  <a:lnTo>
                    <a:pt x="1459" y="1398"/>
                  </a:lnTo>
                  <a:lnTo>
                    <a:pt x="1451" y="1432"/>
                  </a:lnTo>
                  <a:lnTo>
                    <a:pt x="1444" y="1466"/>
                  </a:lnTo>
                  <a:lnTo>
                    <a:pt x="1436" y="1499"/>
                  </a:lnTo>
                  <a:lnTo>
                    <a:pt x="1427" y="1532"/>
                  </a:lnTo>
                  <a:lnTo>
                    <a:pt x="1415" y="1564"/>
                  </a:lnTo>
                  <a:lnTo>
                    <a:pt x="1404" y="1595"/>
                  </a:lnTo>
                  <a:lnTo>
                    <a:pt x="1391" y="1625"/>
                  </a:lnTo>
                  <a:lnTo>
                    <a:pt x="1378" y="1655"/>
                  </a:lnTo>
                  <a:lnTo>
                    <a:pt x="1363" y="1683"/>
                  </a:lnTo>
                  <a:lnTo>
                    <a:pt x="1346" y="1710"/>
                  </a:lnTo>
                  <a:lnTo>
                    <a:pt x="1329" y="1736"/>
                  </a:lnTo>
                  <a:lnTo>
                    <a:pt x="1311" y="1761"/>
                  </a:lnTo>
                  <a:lnTo>
                    <a:pt x="1291" y="1784"/>
                  </a:lnTo>
                  <a:lnTo>
                    <a:pt x="1270" y="1806"/>
                  </a:lnTo>
                  <a:lnTo>
                    <a:pt x="1248" y="1826"/>
                  </a:lnTo>
                  <a:lnTo>
                    <a:pt x="1224" y="1845"/>
                  </a:lnTo>
                  <a:lnTo>
                    <a:pt x="1199" y="1862"/>
                  </a:lnTo>
                  <a:lnTo>
                    <a:pt x="1174" y="1878"/>
                  </a:lnTo>
                  <a:lnTo>
                    <a:pt x="1146" y="1891"/>
                  </a:lnTo>
                  <a:lnTo>
                    <a:pt x="1117" y="1903"/>
                  </a:lnTo>
                  <a:lnTo>
                    <a:pt x="1086" y="1913"/>
                  </a:lnTo>
                  <a:lnTo>
                    <a:pt x="1055" y="1920"/>
                  </a:lnTo>
                  <a:lnTo>
                    <a:pt x="1021" y="1926"/>
                  </a:lnTo>
                  <a:lnTo>
                    <a:pt x="987" y="1929"/>
                  </a:lnTo>
                  <a:lnTo>
                    <a:pt x="950" y="1930"/>
                  </a:lnTo>
                  <a:lnTo>
                    <a:pt x="477" y="1930"/>
                  </a:lnTo>
                  <a:lnTo>
                    <a:pt x="477" y="403"/>
                  </a:lnTo>
                  <a:close/>
                  <a:moveTo>
                    <a:pt x="0" y="2334"/>
                  </a:moveTo>
                  <a:lnTo>
                    <a:pt x="1008" y="2334"/>
                  </a:lnTo>
                  <a:lnTo>
                    <a:pt x="1079" y="2332"/>
                  </a:lnTo>
                  <a:lnTo>
                    <a:pt x="1146" y="2325"/>
                  </a:lnTo>
                  <a:lnTo>
                    <a:pt x="1210" y="2315"/>
                  </a:lnTo>
                  <a:lnTo>
                    <a:pt x="1271" y="2302"/>
                  </a:lnTo>
                  <a:lnTo>
                    <a:pt x="1328" y="2284"/>
                  </a:lnTo>
                  <a:lnTo>
                    <a:pt x="1383" y="2263"/>
                  </a:lnTo>
                  <a:lnTo>
                    <a:pt x="1435" y="2240"/>
                  </a:lnTo>
                  <a:lnTo>
                    <a:pt x="1483" y="2213"/>
                  </a:lnTo>
                  <a:lnTo>
                    <a:pt x="1530" y="2184"/>
                  </a:lnTo>
                  <a:lnTo>
                    <a:pt x="1573" y="2151"/>
                  </a:lnTo>
                  <a:lnTo>
                    <a:pt x="1613" y="2116"/>
                  </a:lnTo>
                  <a:lnTo>
                    <a:pt x="1652" y="2079"/>
                  </a:lnTo>
                  <a:lnTo>
                    <a:pt x="1688" y="2040"/>
                  </a:lnTo>
                  <a:lnTo>
                    <a:pt x="1721" y="1999"/>
                  </a:lnTo>
                  <a:lnTo>
                    <a:pt x="1752" y="1955"/>
                  </a:lnTo>
                  <a:lnTo>
                    <a:pt x="1780" y="1911"/>
                  </a:lnTo>
                  <a:lnTo>
                    <a:pt x="1805" y="1864"/>
                  </a:lnTo>
                  <a:lnTo>
                    <a:pt x="1830" y="1816"/>
                  </a:lnTo>
                  <a:lnTo>
                    <a:pt x="1852" y="1768"/>
                  </a:lnTo>
                  <a:lnTo>
                    <a:pt x="1872" y="1718"/>
                  </a:lnTo>
                  <a:lnTo>
                    <a:pt x="1889" y="1668"/>
                  </a:lnTo>
                  <a:lnTo>
                    <a:pt x="1906" y="1617"/>
                  </a:lnTo>
                  <a:lnTo>
                    <a:pt x="1919" y="1565"/>
                  </a:lnTo>
                  <a:lnTo>
                    <a:pt x="1931" y="1513"/>
                  </a:lnTo>
                  <a:lnTo>
                    <a:pt x="1943" y="1462"/>
                  </a:lnTo>
                  <a:lnTo>
                    <a:pt x="1951" y="1410"/>
                  </a:lnTo>
                  <a:lnTo>
                    <a:pt x="1959" y="1359"/>
                  </a:lnTo>
                  <a:lnTo>
                    <a:pt x="1964" y="1308"/>
                  </a:lnTo>
                  <a:lnTo>
                    <a:pt x="1970" y="1258"/>
                  </a:lnTo>
                  <a:lnTo>
                    <a:pt x="1973" y="1208"/>
                  </a:lnTo>
                  <a:lnTo>
                    <a:pt x="1974" y="1160"/>
                  </a:lnTo>
                  <a:lnTo>
                    <a:pt x="1975" y="1112"/>
                  </a:lnTo>
                  <a:lnTo>
                    <a:pt x="1975" y="1070"/>
                  </a:lnTo>
                  <a:lnTo>
                    <a:pt x="1973" y="1026"/>
                  </a:lnTo>
                  <a:lnTo>
                    <a:pt x="1971" y="982"/>
                  </a:lnTo>
                  <a:lnTo>
                    <a:pt x="1967" y="937"/>
                  </a:lnTo>
                  <a:lnTo>
                    <a:pt x="1961" y="892"/>
                  </a:lnTo>
                  <a:lnTo>
                    <a:pt x="1954" y="845"/>
                  </a:lnTo>
                  <a:lnTo>
                    <a:pt x="1947" y="799"/>
                  </a:lnTo>
                  <a:lnTo>
                    <a:pt x="1938" y="752"/>
                  </a:lnTo>
                  <a:lnTo>
                    <a:pt x="1926" y="705"/>
                  </a:lnTo>
                  <a:lnTo>
                    <a:pt x="1913" y="658"/>
                  </a:lnTo>
                  <a:lnTo>
                    <a:pt x="1898" y="611"/>
                  </a:lnTo>
                  <a:lnTo>
                    <a:pt x="1882" y="566"/>
                  </a:lnTo>
                  <a:lnTo>
                    <a:pt x="1863" y="520"/>
                  </a:lnTo>
                  <a:lnTo>
                    <a:pt x="1843" y="476"/>
                  </a:lnTo>
                  <a:lnTo>
                    <a:pt x="1821" y="432"/>
                  </a:lnTo>
                  <a:lnTo>
                    <a:pt x="1795" y="390"/>
                  </a:lnTo>
                  <a:lnTo>
                    <a:pt x="1768" y="350"/>
                  </a:lnTo>
                  <a:lnTo>
                    <a:pt x="1739" y="309"/>
                  </a:lnTo>
                  <a:lnTo>
                    <a:pt x="1706" y="272"/>
                  </a:lnTo>
                  <a:lnTo>
                    <a:pt x="1672" y="236"/>
                  </a:lnTo>
                  <a:lnTo>
                    <a:pt x="1635" y="202"/>
                  </a:lnTo>
                  <a:lnTo>
                    <a:pt x="1595" y="169"/>
                  </a:lnTo>
                  <a:lnTo>
                    <a:pt x="1552" y="140"/>
                  </a:lnTo>
                  <a:lnTo>
                    <a:pt x="1507" y="112"/>
                  </a:lnTo>
                  <a:lnTo>
                    <a:pt x="1459" y="87"/>
                  </a:lnTo>
                  <a:lnTo>
                    <a:pt x="1407" y="65"/>
                  </a:lnTo>
                  <a:lnTo>
                    <a:pt x="1352" y="46"/>
                  </a:lnTo>
                  <a:lnTo>
                    <a:pt x="1293" y="30"/>
                  </a:lnTo>
                  <a:lnTo>
                    <a:pt x="1232" y="18"/>
                  </a:lnTo>
                  <a:lnTo>
                    <a:pt x="1167" y="8"/>
                  </a:lnTo>
                  <a:lnTo>
                    <a:pt x="1099" y="2"/>
                  </a:lnTo>
                  <a:lnTo>
                    <a:pt x="1028" y="0"/>
                  </a:lnTo>
                  <a:lnTo>
                    <a:pt x="0" y="0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627280" y="4401720"/>
              <a:ext cx="2700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70120" y="4401720"/>
              <a:ext cx="125640" cy="131760"/>
            </a:xfrm>
            <a:custGeom>
              <a:avLst/>
              <a:gdLst/>
              <a:ahLst/>
              <a:rect l="l" t="t" r="r" b="b"/>
              <a:pathLst>
                <a:path w="2212" h="2333">
                  <a:moveTo>
                    <a:pt x="1102" y="526"/>
                  </a:moveTo>
                  <a:lnTo>
                    <a:pt x="1109" y="526"/>
                  </a:lnTo>
                  <a:lnTo>
                    <a:pt x="1398" y="1449"/>
                  </a:lnTo>
                  <a:lnTo>
                    <a:pt x="804" y="1449"/>
                  </a:lnTo>
                  <a:lnTo>
                    <a:pt x="1102" y="526"/>
                  </a:lnTo>
                  <a:close/>
                  <a:moveTo>
                    <a:pt x="675" y="1852"/>
                  </a:moveTo>
                  <a:lnTo>
                    <a:pt x="1534" y="1852"/>
                  </a:lnTo>
                  <a:lnTo>
                    <a:pt x="1684" y="2333"/>
                  </a:lnTo>
                  <a:lnTo>
                    <a:pt x="2212" y="2333"/>
                  </a:lnTo>
                  <a:lnTo>
                    <a:pt x="1391" y="0"/>
                  </a:lnTo>
                  <a:lnTo>
                    <a:pt x="831" y="0"/>
                  </a:lnTo>
                  <a:lnTo>
                    <a:pt x="0" y="2333"/>
                  </a:lnTo>
                  <a:lnTo>
                    <a:pt x="513" y="2333"/>
                  </a:lnTo>
                  <a:lnTo>
                    <a:pt x="675" y="18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13040" y="4401720"/>
              <a:ext cx="111240" cy="131760"/>
            </a:xfrm>
            <a:custGeom>
              <a:avLst/>
              <a:gdLst/>
              <a:ahLst/>
              <a:rect l="l" t="t" r="r" b="b"/>
              <a:pathLst>
                <a:path w="1976" h="2333">
                  <a:moveTo>
                    <a:pt x="477" y="403"/>
                  </a:moveTo>
                  <a:lnTo>
                    <a:pt x="945" y="403"/>
                  </a:lnTo>
                  <a:lnTo>
                    <a:pt x="985" y="404"/>
                  </a:lnTo>
                  <a:lnTo>
                    <a:pt x="1027" y="406"/>
                  </a:lnTo>
                  <a:lnTo>
                    <a:pt x="1049" y="409"/>
                  </a:lnTo>
                  <a:lnTo>
                    <a:pt x="1071" y="412"/>
                  </a:lnTo>
                  <a:lnTo>
                    <a:pt x="1093" y="416"/>
                  </a:lnTo>
                  <a:lnTo>
                    <a:pt x="1115" y="423"/>
                  </a:lnTo>
                  <a:lnTo>
                    <a:pt x="1138" y="429"/>
                  </a:lnTo>
                  <a:lnTo>
                    <a:pt x="1160" y="436"/>
                  </a:lnTo>
                  <a:lnTo>
                    <a:pt x="1182" y="445"/>
                  </a:lnTo>
                  <a:lnTo>
                    <a:pt x="1205" y="457"/>
                  </a:lnTo>
                  <a:lnTo>
                    <a:pt x="1227" y="469"/>
                  </a:lnTo>
                  <a:lnTo>
                    <a:pt x="1248" y="483"/>
                  </a:lnTo>
                  <a:lnTo>
                    <a:pt x="1269" y="499"/>
                  </a:lnTo>
                  <a:lnTo>
                    <a:pt x="1290" y="517"/>
                  </a:lnTo>
                  <a:lnTo>
                    <a:pt x="1309" y="536"/>
                  </a:lnTo>
                  <a:lnTo>
                    <a:pt x="1329" y="558"/>
                  </a:lnTo>
                  <a:lnTo>
                    <a:pt x="1347" y="582"/>
                  </a:lnTo>
                  <a:lnTo>
                    <a:pt x="1365" y="609"/>
                  </a:lnTo>
                  <a:lnTo>
                    <a:pt x="1381" y="638"/>
                  </a:lnTo>
                  <a:lnTo>
                    <a:pt x="1397" y="669"/>
                  </a:lnTo>
                  <a:lnTo>
                    <a:pt x="1411" y="703"/>
                  </a:lnTo>
                  <a:lnTo>
                    <a:pt x="1425" y="740"/>
                  </a:lnTo>
                  <a:lnTo>
                    <a:pt x="1437" y="780"/>
                  </a:lnTo>
                  <a:lnTo>
                    <a:pt x="1448" y="823"/>
                  </a:lnTo>
                  <a:lnTo>
                    <a:pt x="1457" y="868"/>
                  </a:lnTo>
                  <a:lnTo>
                    <a:pt x="1465" y="917"/>
                  </a:lnTo>
                  <a:lnTo>
                    <a:pt x="1471" y="970"/>
                  </a:lnTo>
                  <a:lnTo>
                    <a:pt x="1475" y="1025"/>
                  </a:lnTo>
                  <a:lnTo>
                    <a:pt x="1478" y="1085"/>
                  </a:lnTo>
                  <a:lnTo>
                    <a:pt x="1480" y="1147"/>
                  </a:lnTo>
                  <a:lnTo>
                    <a:pt x="1480" y="1183"/>
                  </a:lnTo>
                  <a:lnTo>
                    <a:pt x="1477" y="1219"/>
                  </a:lnTo>
                  <a:lnTo>
                    <a:pt x="1475" y="1255"/>
                  </a:lnTo>
                  <a:lnTo>
                    <a:pt x="1473" y="1291"/>
                  </a:lnTo>
                  <a:lnTo>
                    <a:pt x="1469" y="1327"/>
                  </a:lnTo>
                  <a:lnTo>
                    <a:pt x="1464" y="1362"/>
                  </a:lnTo>
                  <a:lnTo>
                    <a:pt x="1459" y="1397"/>
                  </a:lnTo>
                  <a:lnTo>
                    <a:pt x="1453" y="1431"/>
                  </a:lnTo>
                  <a:lnTo>
                    <a:pt x="1445" y="1465"/>
                  </a:lnTo>
                  <a:lnTo>
                    <a:pt x="1436" y="1498"/>
                  </a:lnTo>
                  <a:lnTo>
                    <a:pt x="1427" y="1532"/>
                  </a:lnTo>
                  <a:lnTo>
                    <a:pt x="1417" y="1564"/>
                  </a:lnTo>
                  <a:lnTo>
                    <a:pt x="1405" y="1595"/>
                  </a:lnTo>
                  <a:lnTo>
                    <a:pt x="1392" y="1625"/>
                  </a:lnTo>
                  <a:lnTo>
                    <a:pt x="1378" y="1654"/>
                  </a:lnTo>
                  <a:lnTo>
                    <a:pt x="1364" y="1683"/>
                  </a:lnTo>
                  <a:lnTo>
                    <a:pt x="1347" y="1709"/>
                  </a:lnTo>
                  <a:lnTo>
                    <a:pt x="1330" y="1735"/>
                  </a:lnTo>
                  <a:lnTo>
                    <a:pt x="1311" y="1760"/>
                  </a:lnTo>
                  <a:lnTo>
                    <a:pt x="1292" y="1783"/>
                  </a:lnTo>
                  <a:lnTo>
                    <a:pt x="1271" y="1806"/>
                  </a:lnTo>
                  <a:lnTo>
                    <a:pt x="1248" y="1825"/>
                  </a:lnTo>
                  <a:lnTo>
                    <a:pt x="1226" y="1845"/>
                  </a:lnTo>
                  <a:lnTo>
                    <a:pt x="1201" y="1861"/>
                  </a:lnTo>
                  <a:lnTo>
                    <a:pt x="1174" y="1877"/>
                  </a:lnTo>
                  <a:lnTo>
                    <a:pt x="1146" y="1890"/>
                  </a:lnTo>
                  <a:lnTo>
                    <a:pt x="1117" y="1903"/>
                  </a:lnTo>
                  <a:lnTo>
                    <a:pt x="1087" y="1912"/>
                  </a:lnTo>
                  <a:lnTo>
                    <a:pt x="1055" y="1919"/>
                  </a:lnTo>
                  <a:lnTo>
                    <a:pt x="1022" y="1926"/>
                  </a:lnTo>
                  <a:lnTo>
                    <a:pt x="987" y="1929"/>
                  </a:lnTo>
                  <a:lnTo>
                    <a:pt x="951" y="1930"/>
                  </a:lnTo>
                  <a:lnTo>
                    <a:pt x="477" y="1930"/>
                  </a:lnTo>
                  <a:lnTo>
                    <a:pt x="477" y="403"/>
                  </a:lnTo>
                  <a:close/>
                  <a:moveTo>
                    <a:pt x="0" y="2333"/>
                  </a:moveTo>
                  <a:lnTo>
                    <a:pt x="1009" y="2333"/>
                  </a:lnTo>
                  <a:lnTo>
                    <a:pt x="1080" y="2331"/>
                  </a:lnTo>
                  <a:lnTo>
                    <a:pt x="1147" y="2325"/>
                  </a:lnTo>
                  <a:lnTo>
                    <a:pt x="1210" y="2315"/>
                  </a:lnTo>
                  <a:lnTo>
                    <a:pt x="1271" y="2301"/>
                  </a:lnTo>
                  <a:lnTo>
                    <a:pt x="1329" y="2284"/>
                  </a:lnTo>
                  <a:lnTo>
                    <a:pt x="1383" y="2263"/>
                  </a:lnTo>
                  <a:lnTo>
                    <a:pt x="1435" y="2239"/>
                  </a:lnTo>
                  <a:lnTo>
                    <a:pt x="1485" y="2212"/>
                  </a:lnTo>
                  <a:lnTo>
                    <a:pt x="1530" y="2183"/>
                  </a:lnTo>
                  <a:lnTo>
                    <a:pt x="1573" y="2150"/>
                  </a:lnTo>
                  <a:lnTo>
                    <a:pt x="1615" y="2116"/>
                  </a:lnTo>
                  <a:lnTo>
                    <a:pt x="1653" y="2079"/>
                  </a:lnTo>
                  <a:lnTo>
                    <a:pt x="1688" y="2039"/>
                  </a:lnTo>
                  <a:lnTo>
                    <a:pt x="1721" y="1998"/>
                  </a:lnTo>
                  <a:lnTo>
                    <a:pt x="1752" y="1955"/>
                  </a:lnTo>
                  <a:lnTo>
                    <a:pt x="1781" y="1910"/>
                  </a:lnTo>
                  <a:lnTo>
                    <a:pt x="1807" y="1864"/>
                  </a:lnTo>
                  <a:lnTo>
                    <a:pt x="1831" y="1816"/>
                  </a:lnTo>
                  <a:lnTo>
                    <a:pt x="1852" y="1767"/>
                  </a:lnTo>
                  <a:lnTo>
                    <a:pt x="1873" y="1718"/>
                  </a:lnTo>
                  <a:lnTo>
                    <a:pt x="1890" y="1667"/>
                  </a:lnTo>
                  <a:lnTo>
                    <a:pt x="1906" y="1616"/>
                  </a:lnTo>
                  <a:lnTo>
                    <a:pt x="1920" y="1565"/>
                  </a:lnTo>
                  <a:lnTo>
                    <a:pt x="1933" y="1513"/>
                  </a:lnTo>
                  <a:lnTo>
                    <a:pt x="1943" y="1461"/>
                  </a:lnTo>
                  <a:lnTo>
                    <a:pt x="1952" y="1409"/>
                  </a:lnTo>
                  <a:lnTo>
                    <a:pt x="1960" y="1359"/>
                  </a:lnTo>
                  <a:lnTo>
                    <a:pt x="1966" y="1307"/>
                  </a:lnTo>
                  <a:lnTo>
                    <a:pt x="1970" y="1257"/>
                  </a:lnTo>
                  <a:lnTo>
                    <a:pt x="1973" y="1208"/>
                  </a:lnTo>
                  <a:lnTo>
                    <a:pt x="1975" y="1159"/>
                  </a:lnTo>
                  <a:lnTo>
                    <a:pt x="1976" y="1112"/>
                  </a:lnTo>
                  <a:lnTo>
                    <a:pt x="1975" y="1069"/>
                  </a:lnTo>
                  <a:lnTo>
                    <a:pt x="1974" y="1026"/>
                  </a:lnTo>
                  <a:lnTo>
                    <a:pt x="1971" y="981"/>
                  </a:lnTo>
                  <a:lnTo>
                    <a:pt x="1967" y="937"/>
                  </a:lnTo>
                  <a:lnTo>
                    <a:pt x="1962" y="891"/>
                  </a:lnTo>
                  <a:lnTo>
                    <a:pt x="1955" y="845"/>
                  </a:lnTo>
                  <a:lnTo>
                    <a:pt x="1947" y="798"/>
                  </a:lnTo>
                  <a:lnTo>
                    <a:pt x="1938" y="752"/>
                  </a:lnTo>
                  <a:lnTo>
                    <a:pt x="1927" y="704"/>
                  </a:lnTo>
                  <a:lnTo>
                    <a:pt x="1914" y="657"/>
                  </a:lnTo>
                  <a:lnTo>
                    <a:pt x="1900" y="611"/>
                  </a:lnTo>
                  <a:lnTo>
                    <a:pt x="1883" y="565"/>
                  </a:lnTo>
                  <a:lnTo>
                    <a:pt x="1865" y="520"/>
                  </a:lnTo>
                  <a:lnTo>
                    <a:pt x="1844" y="475"/>
                  </a:lnTo>
                  <a:lnTo>
                    <a:pt x="1821" y="432"/>
                  </a:lnTo>
                  <a:lnTo>
                    <a:pt x="1796" y="390"/>
                  </a:lnTo>
                  <a:lnTo>
                    <a:pt x="1770" y="349"/>
                  </a:lnTo>
                  <a:lnTo>
                    <a:pt x="1740" y="309"/>
                  </a:lnTo>
                  <a:lnTo>
                    <a:pt x="1708" y="272"/>
                  </a:lnTo>
                  <a:lnTo>
                    <a:pt x="1674" y="235"/>
                  </a:lnTo>
                  <a:lnTo>
                    <a:pt x="1636" y="201"/>
                  </a:lnTo>
                  <a:lnTo>
                    <a:pt x="1596" y="168"/>
                  </a:lnTo>
                  <a:lnTo>
                    <a:pt x="1553" y="139"/>
                  </a:lnTo>
                  <a:lnTo>
                    <a:pt x="1507" y="111"/>
                  </a:lnTo>
                  <a:lnTo>
                    <a:pt x="1459" y="86"/>
                  </a:lnTo>
                  <a:lnTo>
                    <a:pt x="1407" y="65"/>
                  </a:lnTo>
                  <a:lnTo>
                    <a:pt x="1353" y="45"/>
                  </a:lnTo>
                  <a:lnTo>
                    <a:pt x="1295" y="30"/>
                  </a:lnTo>
                  <a:lnTo>
                    <a:pt x="1233" y="17"/>
                  </a:lnTo>
                  <a:lnTo>
                    <a:pt x="1169" y="8"/>
                  </a:lnTo>
                  <a:lnTo>
                    <a:pt x="1101" y="2"/>
                  </a:lnTo>
                  <a:lnTo>
                    <a:pt x="1028" y="0"/>
                  </a:lnTo>
                  <a:lnTo>
                    <a:pt x="0" y="0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3240000" y="4060800"/>
            <a:ext cx="116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AD 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4511520" y="1353960"/>
            <a:ext cx="961920" cy="590760"/>
            <a:chOff x="4511520" y="1353960"/>
            <a:chExt cx="961920" cy="590760"/>
          </a:xfrm>
        </p:grpSpPr>
        <p:sp>
          <p:nvSpPr>
            <p:cNvPr id="903" name=""/>
            <p:cNvSpPr/>
            <p:nvPr/>
          </p:nvSpPr>
          <p:spPr>
            <a:xfrm>
              <a:off x="4978080" y="1671480"/>
              <a:ext cx="12600" cy="25560"/>
            </a:xfrm>
            <a:custGeom>
              <a:avLst/>
              <a:gdLst/>
              <a:ahLst/>
              <a:rect l="l" t="t" r="r" b="b"/>
              <a:pathLst>
                <a:path w="216" h="432">
                  <a:moveTo>
                    <a:pt x="0" y="432"/>
                  </a:moveTo>
                  <a:lnTo>
                    <a:pt x="26" y="432"/>
                  </a:lnTo>
                  <a:lnTo>
                    <a:pt x="52" y="427"/>
                  </a:lnTo>
                  <a:lnTo>
                    <a:pt x="74" y="422"/>
                  </a:lnTo>
                  <a:lnTo>
                    <a:pt x="95" y="414"/>
                  </a:lnTo>
                  <a:lnTo>
                    <a:pt x="114" y="403"/>
                  </a:lnTo>
                  <a:lnTo>
                    <a:pt x="132" y="392"/>
                  </a:lnTo>
                  <a:lnTo>
                    <a:pt x="148" y="379"/>
                  </a:lnTo>
                  <a:lnTo>
                    <a:pt x="163" y="366"/>
                  </a:lnTo>
                  <a:lnTo>
                    <a:pt x="176" y="349"/>
                  </a:lnTo>
                  <a:lnTo>
                    <a:pt x="186" y="332"/>
                  </a:lnTo>
                  <a:lnTo>
                    <a:pt x="196" y="315"/>
                  </a:lnTo>
                  <a:lnTo>
                    <a:pt x="203" y="296"/>
                  </a:lnTo>
                  <a:lnTo>
                    <a:pt x="209" y="276"/>
                  </a:lnTo>
                  <a:lnTo>
                    <a:pt x="212" y="257"/>
                  </a:lnTo>
                  <a:lnTo>
                    <a:pt x="216" y="238"/>
                  </a:lnTo>
                  <a:lnTo>
                    <a:pt x="216" y="217"/>
                  </a:lnTo>
                  <a:lnTo>
                    <a:pt x="216" y="196"/>
                  </a:lnTo>
                  <a:lnTo>
                    <a:pt x="212" y="176"/>
                  </a:lnTo>
                  <a:lnTo>
                    <a:pt x="209" y="156"/>
                  </a:lnTo>
                  <a:lnTo>
                    <a:pt x="203" y="138"/>
                  </a:lnTo>
                  <a:lnTo>
                    <a:pt x="196" y="118"/>
                  </a:lnTo>
                  <a:lnTo>
                    <a:pt x="186" y="101"/>
                  </a:lnTo>
                  <a:lnTo>
                    <a:pt x="176" y="83"/>
                  </a:lnTo>
                  <a:lnTo>
                    <a:pt x="163" y="68"/>
                  </a:lnTo>
                  <a:lnTo>
                    <a:pt x="148" y="53"/>
                  </a:lnTo>
                  <a:lnTo>
                    <a:pt x="132" y="40"/>
                  </a:lnTo>
                  <a:lnTo>
                    <a:pt x="114" y="29"/>
                  </a:lnTo>
                  <a:lnTo>
                    <a:pt x="95" y="18"/>
                  </a:lnTo>
                  <a:lnTo>
                    <a:pt x="74" y="11"/>
                  </a:lnTo>
                  <a:lnTo>
                    <a:pt x="52" y="5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63880" y="1492200"/>
              <a:ext cx="214200" cy="204840"/>
            </a:xfrm>
            <a:custGeom>
              <a:avLst/>
              <a:gdLst/>
              <a:ahLst/>
              <a:rect l="l" t="t" r="r" b="b"/>
              <a:pathLst>
                <a:path w="3645" h="3467">
                  <a:moveTo>
                    <a:pt x="0" y="0"/>
                  </a:moveTo>
                  <a:lnTo>
                    <a:pt x="2" y="90"/>
                  </a:lnTo>
                  <a:lnTo>
                    <a:pt x="5" y="182"/>
                  </a:lnTo>
                  <a:lnTo>
                    <a:pt x="12" y="270"/>
                  </a:lnTo>
                  <a:lnTo>
                    <a:pt x="20" y="360"/>
                  </a:lnTo>
                  <a:lnTo>
                    <a:pt x="31" y="448"/>
                  </a:lnTo>
                  <a:lnTo>
                    <a:pt x="44" y="536"/>
                  </a:lnTo>
                  <a:lnTo>
                    <a:pt x="57" y="622"/>
                  </a:lnTo>
                  <a:lnTo>
                    <a:pt x="74" y="709"/>
                  </a:lnTo>
                  <a:lnTo>
                    <a:pt x="92" y="794"/>
                  </a:lnTo>
                  <a:lnTo>
                    <a:pt x="113" y="879"/>
                  </a:lnTo>
                  <a:lnTo>
                    <a:pt x="137" y="961"/>
                  </a:lnTo>
                  <a:lnTo>
                    <a:pt x="164" y="1044"/>
                  </a:lnTo>
                  <a:lnTo>
                    <a:pt x="190" y="1128"/>
                  </a:lnTo>
                  <a:lnTo>
                    <a:pt x="220" y="1207"/>
                  </a:lnTo>
                  <a:lnTo>
                    <a:pt x="249" y="1287"/>
                  </a:lnTo>
                  <a:lnTo>
                    <a:pt x="283" y="1366"/>
                  </a:lnTo>
                  <a:lnTo>
                    <a:pt x="318" y="1443"/>
                  </a:lnTo>
                  <a:lnTo>
                    <a:pt x="357" y="1520"/>
                  </a:lnTo>
                  <a:lnTo>
                    <a:pt x="395" y="1596"/>
                  </a:lnTo>
                  <a:lnTo>
                    <a:pt x="435" y="1671"/>
                  </a:lnTo>
                  <a:lnTo>
                    <a:pt x="477" y="1744"/>
                  </a:lnTo>
                  <a:lnTo>
                    <a:pt x="522" y="1816"/>
                  </a:lnTo>
                  <a:lnTo>
                    <a:pt x="570" y="1886"/>
                  </a:lnTo>
                  <a:lnTo>
                    <a:pt x="616" y="1957"/>
                  </a:lnTo>
                  <a:lnTo>
                    <a:pt x="666" y="2025"/>
                  </a:lnTo>
                  <a:lnTo>
                    <a:pt x="718" y="2093"/>
                  </a:lnTo>
                  <a:lnTo>
                    <a:pt x="771" y="2158"/>
                  </a:lnTo>
                  <a:lnTo>
                    <a:pt x="825" y="2222"/>
                  </a:lnTo>
                  <a:lnTo>
                    <a:pt x="880" y="2288"/>
                  </a:lnTo>
                  <a:lnTo>
                    <a:pt x="939" y="2349"/>
                  </a:lnTo>
                  <a:lnTo>
                    <a:pt x="999" y="2408"/>
                  </a:lnTo>
                  <a:lnTo>
                    <a:pt x="1058" y="2468"/>
                  </a:lnTo>
                  <a:lnTo>
                    <a:pt x="1122" y="2525"/>
                  </a:lnTo>
                  <a:lnTo>
                    <a:pt x="1185" y="2582"/>
                  </a:lnTo>
                  <a:lnTo>
                    <a:pt x="1250" y="2636"/>
                  </a:lnTo>
                  <a:lnTo>
                    <a:pt x="1316" y="2689"/>
                  </a:lnTo>
                  <a:lnTo>
                    <a:pt x="1385" y="2741"/>
                  </a:lnTo>
                  <a:lnTo>
                    <a:pt x="1455" y="2792"/>
                  </a:lnTo>
                  <a:lnTo>
                    <a:pt x="1525" y="2841"/>
                  </a:lnTo>
                  <a:lnTo>
                    <a:pt x="1598" y="2887"/>
                  </a:lnTo>
                  <a:lnTo>
                    <a:pt x="1671" y="2932"/>
                  </a:lnTo>
                  <a:lnTo>
                    <a:pt x="1746" y="2975"/>
                  </a:lnTo>
                  <a:lnTo>
                    <a:pt x="1821" y="3019"/>
                  </a:lnTo>
                  <a:lnTo>
                    <a:pt x="1897" y="3059"/>
                  </a:lnTo>
                  <a:lnTo>
                    <a:pt x="1976" y="3096"/>
                  </a:lnTo>
                  <a:lnTo>
                    <a:pt x="2055" y="3133"/>
                  </a:lnTo>
                  <a:lnTo>
                    <a:pt x="2135" y="3168"/>
                  </a:lnTo>
                  <a:lnTo>
                    <a:pt x="2217" y="3202"/>
                  </a:lnTo>
                  <a:lnTo>
                    <a:pt x="2300" y="3233"/>
                  </a:lnTo>
                  <a:lnTo>
                    <a:pt x="2384" y="3263"/>
                  </a:lnTo>
                  <a:lnTo>
                    <a:pt x="2469" y="3289"/>
                  </a:lnTo>
                  <a:lnTo>
                    <a:pt x="2553" y="3316"/>
                  </a:lnTo>
                  <a:lnTo>
                    <a:pt x="2639" y="3339"/>
                  </a:lnTo>
                  <a:lnTo>
                    <a:pt x="2726" y="3361"/>
                  </a:lnTo>
                  <a:lnTo>
                    <a:pt x="2816" y="3380"/>
                  </a:lnTo>
                  <a:lnTo>
                    <a:pt x="2904" y="3399"/>
                  </a:lnTo>
                  <a:lnTo>
                    <a:pt x="2994" y="3414"/>
                  </a:lnTo>
                  <a:lnTo>
                    <a:pt x="3085" y="3429"/>
                  </a:lnTo>
                  <a:lnTo>
                    <a:pt x="3177" y="3440"/>
                  </a:lnTo>
                  <a:lnTo>
                    <a:pt x="3270" y="3449"/>
                  </a:lnTo>
                  <a:lnTo>
                    <a:pt x="3363" y="3457"/>
                  </a:lnTo>
                  <a:lnTo>
                    <a:pt x="3456" y="3462"/>
                  </a:lnTo>
                  <a:lnTo>
                    <a:pt x="3551" y="3465"/>
                  </a:lnTo>
                  <a:lnTo>
                    <a:pt x="3645" y="3467"/>
                  </a:lnTo>
                  <a:lnTo>
                    <a:pt x="3645" y="3035"/>
                  </a:lnTo>
                  <a:lnTo>
                    <a:pt x="3560" y="3035"/>
                  </a:lnTo>
                  <a:lnTo>
                    <a:pt x="3475" y="3032"/>
                  </a:lnTo>
                  <a:lnTo>
                    <a:pt x="3392" y="3027"/>
                  </a:lnTo>
                  <a:lnTo>
                    <a:pt x="3308" y="3020"/>
                  </a:lnTo>
                  <a:lnTo>
                    <a:pt x="3227" y="3012"/>
                  </a:lnTo>
                  <a:lnTo>
                    <a:pt x="3146" y="3001"/>
                  </a:lnTo>
                  <a:lnTo>
                    <a:pt x="3064" y="2988"/>
                  </a:lnTo>
                  <a:lnTo>
                    <a:pt x="2984" y="2975"/>
                  </a:lnTo>
                  <a:lnTo>
                    <a:pt x="2904" y="2959"/>
                  </a:lnTo>
                  <a:lnTo>
                    <a:pt x="2825" y="2942"/>
                  </a:lnTo>
                  <a:lnTo>
                    <a:pt x="2750" y="2922"/>
                  </a:lnTo>
                  <a:lnTo>
                    <a:pt x="2671" y="2900"/>
                  </a:lnTo>
                  <a:lnTo>
                    <a:pt x="2596" y="2879"/>
                  </a:lnTo>
                  <a:lnTo>
                    <a:pt x="2522" y="2854"/>
                  </a:lnTo>
                  <a:lnTo>
                    <a:pt x="2448" y="2828"/>
                  </a:lnTo>
                  <a:lnTo>
                    <a:pt x="2375" y="2800"/>
                  </a:lnTo>
                  <a:lnTo>
                    <a:pt x="2304" y="2771"/>
                  </a:lnTo>
                  <a:lnTo>
                    <a:pt x="2232" y="2739"/>
                  </a:lnTo>
                  <a:lnTo>
                    <a:pt x="2162" y="2707"/>
                  </a:lnTo>
                  <a:lnTo>
                    <a:pt x="2093" y="2673"/>
                  </a:lnTo>
                  <a:lnTo>
                    <a:pt x="2026" y="2638"/>
                  </a:lnTo>
                  <a:lnTo>
                    <a:pt x="1959" y="2601"/>
                  </a:lnTo>
                  <a:lnTo>
                    <a:pt x="1894" y="2563"/>
                  </a:lnTo>
                  <a:lnTo>
                    <a:pt x="1829" y="2524"/>
                  </a:lnTo>
                  <a:lnTo>
                    <a:pt x="1766" y="2482"/>
                  </a:lnTo>
                  <a:lnTo>
                    <a:pt x="1703" y="2439"/>
                  </a:lnTo>
                  <a:lnTo>
                    <a:pt x="1642" y="2395"/>
                  </a:lnTo>
                  <a:lnTo>
                    <a:pt x="1583" y="2351"/>
                  </a:lnTo>
                  <a:lnTo>
                    <a:pt x="1525" y="2304"/>
                  </a:lnTo>
                  <a:lnTo>
                    <a:pt x="1468" y="2256"/>
                  </a:lnTo>
                  <a:lnTo>
                    <a:pt x="1411" y="2206"/>
                  </a:lnTo>
                  <a:lnTo>
                    <a:pt x="1357" y="2156"/>
                  </a:lnTo>
                  <a:lnTo>
                    <a:pt x="1303" y="2103"/>
                  </a:lnTo>
                  <a:lnTo>
                    <a:pt x="1252" y="2052"/>
                  </a:lnTo>
                  <a:lnTo>
                    <a:pt x="1200" y="1997"/>
                  </a:lnTo>
                  <a:lnTo>
                    <a:pt x="1151" y="1942"/>
                  </a:lnTo>
                  <a:lnTo>
                    <a:pt x="1103" y="1885"/>
                  </a:lnTo>
                  <a:lnTo>
                    <a:pt x="1057" y="1827"/>
                  </a:lnTo>
                  <a:lnTo>
                    <a:pt x="1013" y="1769"/>
                  </a:lnTo>
                  <a:lnTo>
                    <a:pt x="970" y="1709"/>
                  </a:lnTo>
                  <a:lnTo>
                    <a:pt x="927" y="1647"/>
                  </a:lnTo>
                  <a:lnTo>
                    <a:pt x="888" y="1586"/>
                  </a:lnTo>
                  <a:lnTo>
                    <a:pt x="849" y="1523"/>
                  </a:lnTo>
                  <a:lnTo>
                    <a:pt x="812" y="1460"/>
                  </a:lnTo>
                  <a:lnTo>
                    <a:pt x="776" y="1393"/>
                  </a:lnTo>
                  <a:lnTo>
                    <a:pt x="742" y="1329"/>
                  </a:lnTo>
                  <a:lnTo>
                    <a:pt x="711" y="1263"/>
                  </a:lnTo>
                  <a:lnTo>
                    <a:pt x="679" y="1194"/>
                  </a:lnTo>
                  <a:lnTo>
                    <a:pt x="651" y="1126"/>
                  </a:lnTo>
                  <a:lnTo>
                    <a:pt x="623" y="1056"/>
                  </a:lnTo>
                  <a:lnTo>
                    <a:pt x="597" y="985"/>
                  </a:lnTo>
                  <a:lnTo>
                    <a:pt x="575" y="915"/>
                  </a:lnTo>
                  <a:lnTo>
                    <a:pt x="551" y="842"/>
                  </a:lnTo>
                  <a:lnTo>
                    <a:pt x="531" y="768"/>
                  </a:lnTo>
                  <a:lnTo>
                    <a:pt x="512" y="696"/>
                  </a:lnTo>
                  <a:lnTo>
                    <a:pt x="496" y="620"/>
                  </a:lnTo>
                  <a:lnTo>
                    <a:pt x="482" y="546"/>
                  </a:lnTo>
                  <a:lnTo>
                    <a:pt x="469" y="469"/>
                  </a:lnTo>
                  <a:lnTo>
                    <a:pt x="458" y="395"/>
                  </a:lnTo>
                  <a:lnTo>
                    <a:pt x="450" y="317"/>
                  </a:lnTo>
                  <a:lnTo>
                    <a:pt x="443" y="238"/>
                  </a:lnTo>
                  <a:lnTo>
                    <a:pt x="437" y="159"/>
                  </a:lnTo>
                  <a:lnTo>
                    <a:pt x="432" y="81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63880" y="1479240"/>
              <a:ext cx="25200" cy="129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432" y="217"/>
                  </a:moveTo>
                  <a:lnTo>
                    <a:pt x="432" y="191"/>
                  </a:lnTo>
                  <a:lnTo>
                    <a:pt x="428" y="166"/>
                  </a:lnTo>
                  <a:lnTo>
                    <a:pt x="423" y="143"/>
                  </a:lnTo>
                  <a:lnTo>
                    <a:pt x="414" y="124"/>
                  </a:lnTo>
                  <a:lnTo>
                    <a:pt x="405" y="103"/>
                  </a:lnTo>
                  <a:lnTo>
                    <a:pt x="393" y="85"/>
                  </a:lnTo>
                  <a:lnTo>
                    <a:pt x="379" y="71"/>
                  </a:lnTo>
                  <a:lnTo>
                    <a:pt x="366" y="55"/>
                  </a:lnTo>
                  <a:lnTo>
                    <a:pt x="350" y="42"/>
                  </a:lnTo>
                  <a:lnTo>
                    <a:pt x="333" y="32"/>
                  </a:lnTo>
                  <a:lnTo>
                    <a:pt x="315" y="22"/>
                  </a:lnTo>
                  <a:lnTo>
                    <a:pt x="296" y="15"/>
                  </a:lnTo>
                  <a:lnTo>
                    <a:pt x="276" y="8"/>
                  </a:lnTo>
                  <a:lnTo>
                    <a:pt x="259" y="5"/>
                  </a:lnTo>
                  <a:lnTo>
                    <a:pt x="236" y="2"/>
                  </a:lnTo>
                  <a:lnTo>
                    <a:pt x="217" y="0"/>
                  </a:lnTo>
                  <a:lnTo>
                    <a:pt x="196" y="2"/>
                  </a:lnTo>
                  <a:lnTo>
                    <a:pt x="177" y="5"/>
                  </a:lnTo>
                  <a:lnTo>
                    <a:pt x="156" y="8"/>
                  </a:lnTo>
                  <a:lnTo>
                    <a:pt x="138" y="15"/>
                  </a:lnTo>
                  <a:lnTo>
                    <a:pt x="119" y="22"/>
                  </a:lnTo>
                  <a:lnTo>
                    <a:pt x="102" y="32"/>
                  </a:lnTo>
                  <a:lnTo>
                    <a:pt x="84" y="42"/>
                  </a:lnTo>
                  <a:lnTo>
                    <a:pt x="68" y="55"/>
                  </a:lnTo>
                  <a:lnTo>
                    <a:pt x="53" y="71"/>
                  </a:lnTo>
                  <a:lnTo>
                    <a:pt x="40" y="85"/>
                  </a:lnTo>
                  <a:lnTo>
                    <a:pt x="29" y="103"/>
                  </a:lnTo>
                  <a:lnTo>
                    <a:pt x="18" y="124"/>
                  </a:lnTo>
                  <a:lnTo>
                    <a:pt x="12" y="143"/>
                  </a:lnTo>
                  <a:lnTo>
                    <a:pt x="5" y="166"/>
                  </a:lnTo>
                  <a:lnTo>
                    <a:pt x="2" y="191"/>
                  </a:lnTo>
                  <a:lnTo>
                    <a:pt x="0" y="217"/>
                  </a:lnTo>
                  <a:lnTo>
                    <a:pt x="43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978080" y="1658880"/>
              <a:ext cx="12600" cy="25200"/>
            </a:xfrm>
            <a:custGeom>
              <a:avLst/>
              <a:gdLst/>
              <a:ahLst/>
              <a:rect l="l" t="t" r="r" b="b"/>
              <a:pathLst>
                <a:path w="216" h="432">
                  <a:moveTo>
                    <a:pt x="0" y="432"/>
                  </a:moveTo>
                  <a:lnTo>
                    <a:pt x="26" y="432"/>
                  </a:lnTo>
                  <a:lnTo>
                    <a:pt x="52" y="427"/>
                  </a:lnTo>
                  <a:lnTo>
                    <a:pt x="74" y="421"/>
                  </a:lnTo>
                  <a:lnTo>
                    <a:pt x="95" y="413"/>
                  </a:lnTo>
                  <a:lnTo>
                    <a:pt x="114" y="403"/>
                  </a:lnTo>
                  <a:lnTo>
                    <a:pt x="132" y="392"/>
                  </a:lnTo>
                  <a:lnTo>
                    <a:pt x="148" y="379"/>
                  </a:lnTo>
                  <a:lnTo>
                    <a:pt x="163" y="365"/>
                  </a:lnTo>
                  <a:lnTo>
                    <a:pt x="176" y="348"/>
                  </a:lnTo>
                  <a:lnTo>
                    <a:pt x="186" y="332"/>
                  </a:lnTo>
                  <a:lnTo>
                    <a:pt x="196" y="313"/>
                  </a:lnTo>
                  <a:lnTo>
                    <a:pt x="203" y="295"/>
                  </a:lnTo>
                  <a:lnTo>
                    <a:pt x="209" y="275"/>
                  </a:lnTo>
                  <a:lnTo>
                    <a:pt x="212" y="257"/>
                  </a:lnTo>
                  <a:lnTo>
                    <a:pt x="216" y="237"/>
                  </a:lnTo>
                  <a:lnTo>
                    <a:pt x="216" y="215"/>
                  </a:lnTo>
                  <a:lnTo>
                    <a:pt x="216" y="196"/>
                  </a:lnTo>
                  <a:lnTo>
                    <a:pt x="212" y="175"/>
                  </a:lnTo>
                  <a:lnTo>
                    <a:pt x="209" y="156"/>
                  </a:lnTo>
                  <a:lnTo>
                    <a:pt x="203" y="138"/>
                  </a:lnTo>
                  <a:lnTo>
                    <a:pt x="196" y="117"/>
                  </a:lnTo>
                  <a:lnTo>
                    <a:pt x="186" y="101"/>
                  </a:lnTo>
                  <a:lnTo>
                    <a:pt x="176" y="82"/>
                  </a:lnTo>
                  <a:lnTo>
                    <a:pt x="163" y="67"/>
                  </a:lnTo>
                  <a:lnTo>
                    <a:pt x="148" y="53"/>
                  </a:lnTo>
                  <a:lnTo>
                    <a:pt x="132" y="40"/>
                  </a:lnTo>
                  <a:lnTo>
                    <a:pt x="114" y="27"/>
                  </a:lnTo>
                  <a:lnTo>
                    <a:pt x="95" y="18"/>
                  </a:lnTo>
                  <a:lnTo>
                    <a:pt x="74" y="11"/>
                  </a:lnTo>
                  <a:lnTo>
                    <a:pt x="52" y="5"/>
                  </a:lnTo>
                  <a:lnTo>
                    <a:pt x="26" y="1"/>
                  </a:lnTo>
                  <a:lnTo>
                    <a:pt x="0" y="0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63880" y="1492200"/>
              <a:ext cx="214200" cy="191880"/>
            </a:xfrm>
            <a:custGeom>
              <a:avLst/>
              <a:gdLst/>
              <a:ahLst/>
              <a:rect l="l" t="t" r="r" b="b"/>
              <a:pathLst>
                <a:path w="3645" h="3255">
                  <a:moveTo>
                    <a:pt x="0" y="0"/>
                  </a:moveTo>
                  <a:lnTo>
                    <a:pt x="2" y="90"/>
                  </a:lnTo>
                  <a:lnTo>
                    <a:pt x="5" y="180"/>
                  </a:lnTo>
                  <a:lnTo>
                    <a:pt x="12" y="269"/>
                  </a:lnTo>
                  <a:lnTo>
                    <a:pt x="20" y="358"/>
                  </a:lnTo>
                  <a:lnTo>
                    <a:pt x="31" y="445"/>
                  </a:lnTo>
                  <a:lnTo>
                    <a:pt x="44" y="531"/>
                  </a:lnTo>
                  <a:lnTo>
                    <a:pt x="57" y="617"/>
                  </a:lnTo>
                  <a:lnTo>
                    <a:pt x="74" y="701"/>
                  </a:lnTo>
                  <a:lnTo>
                    <a:pt x="93" y="784"/>
                  </a:lnTo>
                  <a:lnTo>
                    <a:pt x="113" y="866"/>
                  </a:lnTo>
                  <a:lnTo>
                    <a:pt x="137" y="948"/>
                  </a:lnTo>
                  <a:lnTo>
                    <a:pt x="164" y="1028"/>
                  </a:lnTo>
                  <a:lnTo>
                    <a:pt x="191" y="1106"/>
                  </a:lnTo>
                  <a:lnTo>
                    <a:pt x="220" y="1184"/>
                  </a:lnTo>
                  <a:lnTo>
                    <a:pt x="251" y="1261"/>
                  </a:lnTo>
                  <a:lnTo>
                    <a:pt x="285" y="1335"/>
                  </a:lnTo>
                  <a:lnTo>
                    <a:pt x="321" y="1412"/>
                  </a:lnTo>
                  <a:lnTo>
                    <a:pt x="358" y="1483"/>
                  </a:lnTo>
                  <a:lnTo>
                    <a:pt x="397" y="1557"/>
                  </a:lnTo>
                  <a:lnTo>
                    <a:pt x="438" y="1626"/>
                  </a:lnTo>
                  <a:lnTo>
                    <a:pt x="482" y="1695"/>
                  </a:lnTo>
                  <a:lnTo>
                    <a:pt x="527" y="1764"/>
                  </a:lnTo>
                  <a:lnTo>
                    <a:pt x="573" y="1830"/>
                  </a:lnTo>
                  <a:lnTo>
                    <a:pt x="621" y="1896"/>
                  </a:lnTo>
                  <a:lnTo>
                    <a:pt x="671" y="1960"/>
                  </a:lnTo>
                  <a:lnTo>
                    <a:pt x="723" y="2023"/>
                  </a:lnTo>
                  <a:lnTo>
                    <a:pt x="777" y="2082"/>
                  </a:lnTo>
                  <a:lnTo>
                    <a:pt x="830" y="2143"/>
                  </a:lnTo>
                  <a:lnTo>
                    <a:pt x="889" y="2203"/>
                  </a:lnTo>
                  <a:lnTo>
                    <a:pt x="946" y="2259"/>
                  </a:lnTo>
                  <a:lnTo>
                    <a:pt x="1005" y="2314"/>
                  </a:lnTo>
                  <a:lnTo>
                    <a:pt x="1067" y="2368"/>
                  </a:lnTo>
                  <a:lnTo>
                    <a:pt x="1130" y="2420"/>
                  </a:lnTo>
                  <a:lnTo>
                    <a:pt x="1193" y="2471"/>
                  </a:lnTo>
                  <a:lnTo>
                    <a:pt x="1259" y="2522"/>
                  </a:lnTo>
                  <a:lnTo>
                    <a:pt x="1326" y="2569"/>
                  </a:lnTo>
                  <a:lnTo>
                    <a:pt x="1393" y="2616"/>
                  </a:lnTo>
                  <a:lnTo>
                    <a:pt x="1464" y="2661"/>
                  </a:lnTo>
                  <a:lnTo>
                    <a:pt x="1535" y="2704"/>
                  </a:lnTo>
                  <a:lnTo>
                    <a:pt x="1606" y="2747"/>
                  </a:lnTo>
                  <a:lnTo>
                    <a:pt x="1679" y="2787"/>
                  </a:lnTo>
                  <a:lnTo>
                    <a:pt x="1755" y="2828"/>
                  </a:lnTo>
                  <a:lnTo>
                    <a:pt x="1830" y="2864"/>
                  </a:lnTo>
                  <a:lnTo>
                    <a:pt x="1907" y="2899"/>
                  </a:lnTo>
                  <a:lnTo>
                    <a:pt x="1986" y="2932"/>
                  </a:lnTo>
                  <a:lnTo>
                    <a:pt x="2064" y="2966"/>
                  </a:lnTo>
                  <a:lnTo>
                    <a:pt x="2145" y="2997"/>
                  </a:lnTo>
                  <a:lnTo>
                    <a:pt x="2225" y="3025"/>
                  </a:lnTo>
                  <a:lnTo>
                    <a:pt x="2308" y="3051"/>
                  </a:lnTo>
                  <a:lnTo>
                    <a:pt x="2392" y="3078"/>
                  </a:lnTo>
                  <a:lnTo>
                    <a:pt x="2475" y="3101"/>
                  </a:lnTo>
                  <a:lnTo>
                    <a:pt x="2560" y="3125"/>
                  </a:lnTo>
                  <a:lnTo>
                    <a:pt x="2646" y="3144"/>
                  </a:lnTo>
                  <a:lnTo>
                    <a:pt x="2734" y="3163"/>
                  </a:lnTo>
                  <a:lnTo>
                    <a:pt x="2821" y="3181"/>
                  </a:lnTo>
                  <a:lnTo>
                    <a:pt x="2909" y="3196"/>
                  </a:lnTo>
                  <a:lnTo>
                    <a:pt x="2999" y="3210"/>
                  </a:lnTo>
                  <a:lnTo>
                    <a:pt x="3090" y="3221"/>
                  </a:lnTo>
                  <a:lnTo>
                    <a:pt x="3180" y="3231"/>
                  </a:lnTo>
                  <a:lnTo>
                    <a:pt x="3272" y="3239"/>
                  </a:lnTo>
                  <a:lnTo>
                    <a:pt x="3365" y="3246"/>
                  </a:lnTo>
                  <a:lnTo>
                    <a:pt x="3456" y="3252"/>
                  </a:lnTo>
                  <a:lnTo>
                    <a:pt x="3551" y="3255"/>
                  </a:lnTo>
                  <a:lnTo>
                    <a:pt x="3645" y="3255"/>
                  </a:lnTo>
                  <a:lnTo>
                    <a:pt x="3645" y="2823"/>
                  </a:lnTo>
                  <a:lnTo>
                    <a:pt x="3559" y="2823"/>
                  </a:lnTo>
                  <a:lnTo>
                    <a:pt x="3475" y="2821"/>
                  </a:lnTo>
                  <a:lnTo>
                    <a:pt x="3390" y="2816"/>
                  </a:lnTo>
                  <a:lnTo>
                    <a:pt x="3305" y="2809"/>
                  </a:lnTo>
                  <a:lnTo>
                    <a:pt x="3222" y="2802"/>
                  </a:lnTo>
                  <a:lnTo>
                    <a:pt x="3140" y="2792"/>
                  </a:lnTo>
                  <a:lnTo>
                    <a:pt x="3059" y="2783"/>
                  </a:lnTo>
                  <a:lnTo>
                    <a:pt x="2979" y="2771"/>
                  </a:lnTo>
                  <a:lnTo>
                    <a:pt x="2899" y="2757"/>
                  </a:lnTo>
                  <a:lnTo>
                    <a:pt x="2819" y="2741"/>
                  </a:lnTo>
                  <a:lnTo>
                    <a:pt x="2742" y="2725"/>
                  </a:lnTo>
                  <a:lnTo>
                    <a:pt x="2665" y="2706"/>
                  </a:lnTo>
                  <a:lnTo>
                    <a:pt x="2588" y="2686"/>
                  </a:lnTo>
                  <a:lnTo>
                    <a:pt x="2514" y="2664"/>
                  </a:lnTo>
                  <a:lnTo>
                    <a:pt x="2440" y="2643"/>
                  </a:lnTo>
                  <a:lnTo>
                    <a:pt x="2366" y="2616"/>
                  </a:lnTo>
                  <a:lnTo>
                    <a:pt x="2294" y="2591"/>
                  </a:lnTo>
                  <a:lnTo>
                    <a:pt x="2223" y="2564"/>
                  </a:lnTo>
                  <a:lnTo>
                    <a:pt x="2152" y="2537"/>
                  </a:lnTo>
                  <a:lnTo>
                    <a:pt x="2084" y="2506"/>
                  </a:lnTo>
                  <a:lnTo>
                    <a:pt x="2016" y="2474"/>
                  </a:lnTo>
                  <a:lnTo>
                    <a:pt x="1949" y="2442"/>
                  </a:lnTo>
                  <a:lnTo>
                    <a:pt x="1884" y="2408"/>
                  </a:lnTo>
                  <a:lnTo>
                    <a:pt x="1819" y="2372"/>
                  </a:lnTo>
                  <a:lnTo>
                    <a:pt x="1756" y="2336"/>
                  </a:lnTo>
                  <a:lnTo>
                    <a:pt x="1694" y="2297"/>
                  </a:lnTo>
                  <a:lnTo>
                    <a:pt x="1634" y="2257"/>
                  </a:lnTo>
                  <a:lnTo>
                    <a:pt x="1575" y="2217"/>
                  </a:lnTo>
                  <a:lnTo>
                    <a:pt x="1516" y="2176"/>
                  </a:lnTo>
                  <a:lnTo>
                    <a:pt x="1459" y="2132"/>
                  </a:lnTo>
                  <a:lnTo>
                    <a:pt x="1403" y="2088"/>
                  </a:lnTo>
                  <a:lnTo>
                    <a:pt x="1350" y="2043"/>
                  </a:lnTo>
                  <a:lnTo>
                    <a:pt x="1297" y="1995"/>
                  </a:lnTo>
                  <a:lnTo>
                    <a:pt x="1245" y="1947"/>
                  </a:lnTo>
                  <a:lnTo>
                    <a:pt x="1193" y="1899"/>
                  </a:lnTo>
                  <a:lnTo>
                    <a:pt x="1145" y="1849"/>
                  </a:lnTo>
                  <a:lnTo>
                    <a:pt x="1098" y="1798"/>
                  </a:lnTo>
                  <a:lnTo>
                    <a:pt x="1052" y="1744"/>
                  </a:lnTo>
                  <a:lnTo>
                    <a:pt x="1007" y="1689"/>
                  </a:lnTo>
                  <a:lnTo>
                    <a:pt x="965" y="1636"/>
                  </a:lnTo>
                  <a:lnTo>
                    <a:pt x="923" y="1579"/>
                  </a:lnTo>
                  <a:lnTo>
                    <a:pt x="883" y="1521"/>
                  </a:lnTo>
                  <a:lnTo>
                    <a:pt x="846" y="1465"/>
                  </a:lnTo>
                  <a:lnTo>
                    <a:pt x="809" y="1406"/>
                  </a:lnTo>
                  <a:lnTo>
                    <a:pt x="774" y="1345"/>
                  </a:lnTo>
                  <a:lnTo>
                    <a:pt x="740" y="1282"/>
                  </a:lnTo>
                  <a:lnTo>
                    <a:pt x="708" y="1221"/>
                  </a:lnTo>
                  <a:lnTo>
                    <a:pt x="678" y="1157"/>
                  </a:lnTo>
                  <a:lnTo>
                    <a:pt x="649" y="1093"/>
                  </a:lnTo>
                  <a:lnTo>
                    <a:pt x="623" y="1027"/>
                  </a:lnTo>
                  <a:lnTo>
                    <a:pt x="596" y="959"/>
                  </a:lnTo>
                  <a:lnTo>
                    <a:pt x="573" y="892"/>
                  </a:lnTo>
                  <a:lnTo>
                    <a:pt x="551" y="824"/>
                  </a:lnTo>
                  <a:lnTo>
                    <a:pt x="531" y="754"/>
                  </a:lnTo>
                  <a:lnTo>
                    <a:pt x="512" y="683"/>
                  </a:lnTo>
                  <a:lnTo>
                    <a:pt x="496" y="611"/>
                  </a:lnTo>
                  <a:lnTo>
                    <a:pt x="482" y="538"/>
                  </a:lnTo>
                  <a:lnTo>
                    <a:pt x="469" y="465"/>
                  </a:lnTo>
                  <a:lnTo>
                    <a:pt x="458" y="390"/>
                  </a:lnTo>
                  <a:lnTo>
                    <a:pt x="450" y="313"/>
                  </a:lnTo>
                  <a:lnTo>
                    <a:pt x="443" y="237"/>
                  </a:lnTo>
                  <a:lnTo>
                    <a:pt x="437" y="159"/>
                  </a:lnTo>
                  <a:lnTo>
                    <a:pt x="432" y="81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63880" y="1479240"/>
              <a:ext cx="25200" cy="129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432" y="217"/>
                  </a:moveTo>
                  <a:lnTo>
                    <a:pt x="432" y="191"/>
                  </a:lnTo>
                  <a:lnTo>
                    <a:pt x="428" y="166"/>
                  </a:lnTo>
                  <a:lnTo>
                    <a:pt x="423" y="143"/>
                  </a:lnTo>
                  <a:lnTo>
                    <a:pt x="414" y="124"/>
                  </a:lnTo>
                  <a:lnTo>
                    <a:pt x="405" y="103"/>
                  </a:lnTo>
                  <a:lnTo>
                    <a:pt x="393" y="85"/>
                  </a:lnTo>
                  <a:lnTo>
                    <a:pt x="379" y="71"/>
                  </a:lnTo>
                  <a:lnTo>
                    <a:pt x="366" y="55"/>
                  </a:lnTo>
                  <a:lnTo>
                    <a:pt x="350" y="42"/>
                  </a:lnTo>
                  <a:lnTo>
                    <a:pt x="333" y="32"/>
                  </a:lnTo>
                  <a:lnTo>
                    <a:pt x="315" y="22"/>
                  </a:lnTo>
                  <a:lnTo>
                    <a:pt x="296" y="15"/>
                  </a:lnTo>
                  <a:lnTo>
                    <a:pt x="276" y="8"/>
                  </a:lnTo>
                  <a:lnTo>
                    <a:pt x="259" y="5"/>
                  </a:lnTo>
                  <a:lnTo>
                    <a:pt x="236" y="2"/>
                  </a:lnTo>
                  <a:lnTo>
                    <a:pt x="217" y="0"/>
                  </a:lnTo>
                  <a:lnTo>
                    <a:pt x="196" y="2"/>
                  </a:lnTo>
                  <a:lnTo>
                    <a:pt x="177" y="5"/>
                  </a:lnTo>
                  <a:lnTo>
                    <a:pt x="156" y="8"/>
                  </a:lnTo>
                  <a:lnTo>
                    <a:pt x="138" y="15"/>
                  </a:lnTo>
                  <a:lnTo>
                    <a:pt x="119" y="22"/>
                  </a:lnTo>
                  <a:lnTo>
                    <a:pt x="102" y="32"/>
                  </a:lnTo>
                  <a:lnTo>
                    <a:pt x="84" y="42"/>
                  </a:lnTo>
                  <a:lnTo>
                    <a:pt x="68" y="55"/>
                  </a:lnTo>
                  <a:lnTo>
                    <a:pt x="53" y="71"/>
                  </a:lnTo>
                  <a:lnTo>
                    <a:pt x="40" y="85"/>
                  </a:lnTo>
                  <a:lnTo>
                    <a:pt x="29" y="103"/>
                  </a:lnTo>
                  <a:lnTo>
                    <a:pt x="18" y="124"/>
                  </a:lnTo>
                  <a:lnTo>
                    <a:pt x="12" y="143"/>
                  </a:lnTo>
                  <a:lnTo>
                    <a:pt x="5" y="166"/>
                  </a:lnTo>
                  <a:lnTo>
                    <a:pt x="2" y="191"/>
                  </a:lnTo>
                  <a:lnTo>
                    <a:pt x="0" y="217"/>
                  </a:lnTo>
                  <a:lnTo>
                    <a:pt x="43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11520" y="1658880"/>
              <a:ext cx="12600" cy="25200"/>
            </a:xfrm>
            <a:custGeom>
              <a:avLst/>
              <a:gdLst/>
              <a:ahLst/>
              <a:rect l="l" t="t" r="r" b="b"/>
              <a:pathLst>
                <a:path w="216" h="432">
                  <a:moveTo>
                    <a:pt x="216" y="0"/>
                  </a:moveTo>
                  <a:lnTo>
                    <a:pt x="189" y="1"/>
                  </a:lnTo>
                  <a:lnTo>
                    <a:pt x="167" y="5"/>
                  </a:lnTo>
                  <a:lnTo>
                    <a:pt x="143" y="11"/>
                  </a:lnTo>
                  <a:lnTo>
                    <a:pt x="122" y="18"/>
                  </a:lnTo>
                  <a:lnTo>
                    <a:pt x="101" y="27"/>
                  </a:lnTo>
                  <a:lnTo>
                    <a:pt x="85" y="40"/>
                  </a:lnTo>
                  <a:lnTo>
                    <a:pt x="69" y="53"/>
                  </a:lnTo>
                  <a:lnTo>
                    <a:pt x="53" y="67"/>
                  </a:lnTo>
                  <a:lnTo>
                    <a:pt x="42" y="82"/>
                  </a:lnTo>
                  <a:lnTo>
                    <a:pt x="30" y="101"/>
                  </a:lnTo>
                  <a:lnTo>
                    <a:pt x="22" y="117"/>
                  </a:lnTo>
                  <a:lnTo>
                    <a:pt x="13" y="138"/>
                  </a:lnTo>
                  <a:lnTo>
                    <a:pt x="6" y="156"/>
                  </a:lnTo>
                  <a:lnTo>
                    <a:pt x="3" y="175"/>
                  </a:lnTo>
                  <a:lnTo>
                    <a:pt x="0" y="196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3" y="257"/>
                  </a:lnTo>
                  <a:lnTo>
                    <a:pt x="6" y="275"/>
                  </a:lnTo>
                  <a:lnTo>
                    <a:pt x="13" y="295"/>
                  </a:lnTo>
                  <a:lnTo>
                    <a:pt x="22" y="313"/>
                  </a:lnTo>
                  <a:lnTo>
                    <a:pt x="30" y="332"/>
                  </a:lnTo>
                  <a:lnTo>
                    <a:pt x="42" y="348"/>
                  </a:lnTo>
                  <a:lnTo>
                    <a:pt x="53" y="365"/>
                  </a:lnTo>
                  <a:lnTo>
                    <a:pt x="69" y="379"/>
                  </a:lnTo>
                  <a:lnTo>
                    <a:pt x="85" y="392"/>
                  </a:lnTo>
                  <a:lnTo>
                    <a:pt x="101" y="403"/>
                  </a:lnTo>
                  <a:lnTo>
                    <a:pt x="122" y="413"/>
                  </a:lnTo>
                  <a:lnTo>
                    <a:pt x="143" y="421"/>
                  </a:lnTo>
                  <a:lnTo>
                    <a:pt x="167" y="427"/>
                  </a:lnTo>
                  <a:lnTo>
                    <a:pt x="189" y="432"/>
                  </a:lnTo>
                  <a:lnTo>
                    <a:pt x="216" y="432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24120" y="1492200"/>
              <a:ext cx="214200" cy="191880"/>
            </a:xfrm>
            <a:custGeom>
              <a:avLst/>
              <a:gdLst/>
              <a:ahLst/>
              <a:rect l="l" t="t" r="r" b="b"/>
              <a:pathLst>
                <a:path w="3645" h="3255">
                  <a:moveTo>
                    <a:pt x="3212" y="0"/>
                  </a:moveTo>
                  <a:lnTo>
                    <a:pt x="3212" y="81"/>
                  </a:lnTo>
                  <a:lnTo>
                    <a:pt x="3209" y="159"/>
                  </a:lnTo>
                  <a:lnTo>
                    <a:pt x="3204" y="237"/>
                  </a:lnTo>
                  <a:lnTo>
                    <a:pt x="3198" y="313"/>
                  </a:lnTo>
                  <a:lnTo>
                    <a:pt x="3188" y="390"/>
                  </a:lnTo>
                  <a:lnTo>
                    <a:pt x="3177" y="465"/>
                  </a:lnTo>
                  <a:lnTo>
                    <a:pt x="3164" y="538"/>
                  </a:lnTo>
                  <a:lnTo>
                    <a:pt x="3149" y="611"/>
                  </a:lnTo>
                  <a:lnTo>
                    <a:pt x="3134" y="683"/>
                  </a:lnTo>
                  <a:lnTo>
                    <a:pt x="3114" y="754"/>
                  </a:lnTo>
                  <a:lnTo>
                    <a:pt x="3094" y="824"/>
                  </a:lnTo>
                  <a:lnTo>
                    <a:pt x="3073" y="892"/>
                  </a:lnTo>
                  <a:lnTo>
                    <a:pt x="3049" y="959"/>
                  </a:lnTo>
                  <a:lnTo>
                    <a:pt x="3024" y="1027"/>
                  </a:lnTo>
                  <a:lnTo>
                    <a:pt x="2997" y="1093"/>
                  </a:lnTo>
                  <a:lnTo>
                    <a:pt x="2968" y="1155"/>
                  </a:lnTo>
                  <a:lnTo>
                    <a:pt x="2938" y="1221"/>
                  </a:lnTo>
                  <a:lnTo>
                    <a:pt x="2906" y="1282"/>
                  </a:lnTo>
                  <a:lnTo>
                    <a:pt x="2871" y="1345"/>
                  </a:lnTo>
                  <a:lnTo>
                    <a:pt x="2838" y="1406"/>
                  </a:lnTo>
                  <a:lnTo>
                    <a:pt x="2801" y="1465"/>
                  </a:lnTo>
                  <a:lnTo>
                    <a:pt x="2763" y="1521"/>
                  </a:lnTo>
                  <a:lnTo>
                    <a:pt x="2721" y="1579"/>
                  </a:lnTo>
                  <a:lnTo>
                    <a:pt x="2681" y="1636"/>
                  </a:lnTo>
                  <a:lnTo>
                    <a:pt x="2638" y="1689"/>
                  </a:lnTo>
                  <a:lnTo>
                    <a:pt x="2593" y="1744"/>
                  </a:lnTo>
                  <a:lnTo>
                    <a:pt x="2548" y="1798"/>
                  </a:lnTo>
                  <a:lnTo>
                    <a:pt x="2500" y="1849"/>
                  </a:lnTo>
                  <a:lnTo>
                    <a:pt x="2452" y="1899"/>
                  </a:lnTo>
                  <a:lnTo>
                    <a:pt x="2400" y="1949"/>
                  </a:lnTo>
                  <a:lnTo>
                    <a:pt x="2350" y="1995"/>
                  </a:lnTo>
                  <a:lnTo>
                    <a:pt x="2297" y="2043"/>
                  </a:lnTo>
                  <a:lnTo>
                    <a:pt x="2241" y="2088"/>
                  </a:lnTo>
                  <a:lnTo>
                    <a:pt x="2187" y="2132"/>
                  </a:lnTo>
                  <a:lnTo>
                    <a:pt x="2130" y="2176"/>
                  </a:lnTo>
                  <a:lnTo>
                    <a:pt x="2072" y="2217"/>
                  </a:lnTo>
                  <a:lnTo>
                    <a:pt x="2012" y="2257"/>
                  </a:lnTo>
                  <a:lnTo>
                    <a:pt x="1952" y="2297"/>
                  </a:lnTo>
                  <a:lnTo>
                    <a:pt x="1889" y="2336"/>
                  </a:lnTo>
                  <a:lnTo>
                    <a:pt x="1826" y="2372"/>
                  </a:lnTo>
                  <a:lnTo>
                    <a:pt x="1763" y="2408"/>
                  </a:lnTo>
                  <a:lnTo>
                    <a:pt x="1696" y="2442"/>
                  </a:lnTo>
                  <a:lnTo>
                    <a:pt x="1630" y="2474"/>
                  </a:lnTo>
                  <a:lnTo>
                    <a:pt x="1561" y="2506"/>
                  </a:lnTo>
                  <a:lnTo>
                    <a:pt x="1493" y="2537"/>
                  </a:lnTo>
                  <a:lnTo>
                    <a:pt x="1423" y="2564"/>
                  </a:lnTo>
                  <a:lnTo>
                    <a:pt x="1352" y="2591"/>
                  </a:lnTo>
                  <a:lnTo>
                    <a:pt x="1280" y="2616"/>
                  </a:lnTo>
                  <a:lnTo>
                    <a:pt x="1206" y="2643"/>
                  </a:lnTo>
                  <a:lnTo>
                    <a:pt x="1132" y="2664"/>
                  </a:lnTo>
                  <a:lnTo>
                    <a:pt x="1057" y="2686"/>
                  </a:lnTo>
                  <a:lnTo>
                    <a:pt x="981" y="2706"/>
                  </a:lnTo>
                  <a:lnTo>
                    <a:pt x="904" y="2725"/>
                  </a:lnTo>
                  <a:lnTo>
                    <a:pt x="826" y="2741"/>
                  </a:lnTo>
                  <a:lnTo>
                    <a:pt x="745" y="2757"/>
                  </a:lnTo>
                  <a:lnTo>
                    <a:pt x="666" y="2771"/>
                  </a:lnTo>
                  <a:lnTo>
                    <a:pt x="586" y="2783"/>
                  </a:lnTo>
                  <a:lnTo>
                    <a:pt x="505" y="2792"/>
                  </a:lnTo>
                  <a:lnTo>
                    <a:pt x="423" y="2802"/>
                  </a:lnTo>
                  <a:lnTo>
                    <a:pt x="339" y="2809"/>
                  </a:lnTo>
                  <a:lnTo>
                    <a:pt x="257" y="2816"/>
                  </a:lnTo>
                  <a:lnTo>
                    <a:pt x="172" y="2821"/>
                  </a:lnTo>
                  <a:lnTo>
                    <a:pt x="87" y="2823"/>
                  </a:lnTo>
                  <a:lnTo>
                    <a:pt x="0" y="2823"/>
                  </a:lnTo>
                  <a:lnTo>
                    <a:pt x="0" y="3255"/>
                  </a:lnTo>
                  <a:lnTo>
                    <a:pt x="94" y="3255"/>
                  </a:lnTo>
                  <a:lnTo>
                    <a:pt x="188" y="3252"/>
                  </a:lnTo>
                  <a:lnTo>
                    <a:pt x="281" y="3246"/>
                  </a:lnTo>
                  <a:lnTo>
                    <a:pt x="373" y="3239"/>
                  </a:lnTo>
                  <a:lnTo>
                    <a:pt x="464" y="3231"/>
                  </a:lnTo>
                  <a:lnTo>
                    <a:pt x="556" y="3221"/>
                  </a:lnTo>
                  <a:lnTo>
                    <a:pt x="646" y="3210"/>
                  </a:lnTo>
                  <a:lnTo>
                    <a:pt x="736" y="3196"/>
                  </a:lnTo>
                  <a:lnTo>
                    <a:pt x="824" y="3181"/>
                  </a:lnTo>
                  <a:lnTo>
                    <a:pt x="912" y="3163"/>
                  </a:lnTo>
                  <a:lnTo>
                    <a:pt x="999" y="3144"/>
                  </a:lnTo>
                  <a:lnTo>
                    <a:pt x="1085" y="3125"/>
                  </a:lnTo>
                  <a:lnTo>
                    <a:pt x="1170" y="3101"/>
                  </a:lnTo>
                  <a:lnTo>
                    <a:pt x="1254" y="3078"/>
                  </a:lnTo>
                  <a:lnTo>
                    <a:pt x="1339" y="3051"/>
                  </a:lnTo>
                  <a:lnTo>
                    <a:pt x="1420" y="3025"/>
                  </a:lnTo>
                  <a:lnTo>
                    <a:pt x="1501" y="2997"/>
                  </a:lnTo>
                  <a:lnTo>
                    <a:pt x="1581" y="2966"/>
                  </a:lnTo>
                  <a:lnTo>
                    <a:pt x="1660" y="2932"/>
                  </a:lnTo>
                  <a:lnTo>
                    <a:pt x="1737" y="2899"/>
                  </a:lnTo>
                  <a:lnTo>
                    <a:pt x="1816" y="2864"/>
                  </a:lnTo>
                  <a:lnTo>
                    <a:pt x="1891" y="2828"/>
                  </a:lnTo>
                  <a:lnTo>
                    <a:pt x="1965" y="2787"/>
                  </a:lnTo>
                  <a:lnTo>
                    <a:pt x="2039" y="2747"/>
                  </a:lnTo>
                  <a:lnTo>
                    <a:pt x="2111" y="2704"/>
                  </a:lnTo>
                  <a:lnTo>
                    <a:pt x="2182" y="2661"/>
                  </a:lnTo>
                  <a:lnTo>
                    <a:pt x="2251" y="2616"/>
                  </a:lnTo>
                  <a:lnTo>
                    <a:pt x="2320" y="2569"/>
                  </a:lnTo>
                  <a:lnTo>
                    <a:pt x="2387" y="2522"/>
                  </a:lnTo>
                  <a:lnTo>
                    <a:pt x="2452" y="2471"/>
                  </a:lnTo>
                  <a:lnTo>
                    <a:pt x="2517" y="2420"/>
                  </a:lnTo>
                  <a:lnTo>
                    <a:pt x="2578" y="2368"/>
                  </a:lnTo>
                  <a:lnTo>
                    <a:pt x="2639" y="2314"/>
                  </a:lnTo>
                  <a:lnTo>
                    <a:pt x="2700" y="2259"/>
                  </a:lnTo>
                  <a:lnTo>
                    <a:pt x="2758" y="2203"/>
                  </a:lnTo>
                  <a:lnTo>
                    <a:pt x="2814" y="2143"/>
                  </a:lnTo>
                  <a:lnTo>
                    <a:pt x="2869" y="2082"/>
                  </a:lnTo>
                  <a:lnTo>
                    <a:pt x="2923" y="2023"/>
                  </a:lnTo>
                  <a:lnTo>
                    <a:pt x="2974" y="1960"/>
                  </a:lnTo>
                  <a:lnTo>
                    <a:pt x="3024" y="1896"/>
                  </a:lnTo>
                  <a:lnTo>
                    <a:pt x="3073" y="1830"/>
                  </a:lnTo>
                  <a:lnTo>
                    <a:pt x="3119" y="1764"/>
                  </a:lnTo>
                  <a:lnTo>
                    <a:pt x="3164" y="1695"/>
                  </a:lnTo>
                  <a:lnTo>
                    <a:pt x="3207" y="1626"/>
                  </a:lnTo>
                  <a:lnTo>
                    <a:pt x="3249" y="1557"/>
                  </a:lnTo>
                  <a:lnTo>
                    <a:pt x="3287" y="1483"/>
                  </a:lnTo>
                  <a:lnTo>
                    <a:pt x="3325" y="1412"/>
                  </a:lnTo>
                  <a:lnTo>
                    <a:pt x="3360" y="1337"/>
                  </a:lnTo>
                  <a:lnTo>
                    <a:pt x="3394" y="1261"/>
                  </a:lnTo>
                  <a:lnTo>
                    <a:pt x="3426" y="1184"/>
                  </a:lnTo>
                  <a:lnTo>
                    <a:pt x="3455" y="1106"/>
                  </a:lnTo>
                  <a:lnTo>
                    <a:pt x="3482" y="1028"/>
                  </a:lnTo>
                  <a:lnTo>
                    <a:pt x="3509" y="948"/>
                  </a:lnTo>
                  <a:lnTo>
                    <a:pt x="3532" y="866"/>
                  </a:lnTo>
                  <a:lnTo>
                    <a:pt x="3551" y="784"/>
                  </a:lnTo>
                  <a:lnTo>
                    <a:pt x="3572" y="701"/>
                  </a:lnTo>
                  <a:lnTo>
                    <a:pt x="3588" y="616"/>
                  </a:lnTo>
                  <a:lnTo>
                    <a:pt x="3604" y="531"/>
                  </a:lnTo>
                  <a:lnTo>
                    <a:pt x="3615" y="445"/>
                  </a:lnTo>
                  <a:lnTo>
                    <a:pt x="3626" y="358"/>
                  </a:lnTo>
                  <a:lnTo>
                    <a:pt x="3635" y="269"/>
                  </a:lnTo>
                  <a:lnTo>
                    <a:pt x="3639" y="180"/>
                  </a:lnTo>
                  <a:lnTo>
                    <a:pt x="3643" y="90"/>
                  </a:lnTo>
                  <a:lnTo>
                    <a:pt x="3645" y="0"/>
                  </a:lnTo>
                  <a:lnTo>
                    <a:pt x="32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713120" y="1479240"/>
              <a:ext cx="25200" cy="12960"/>
            </a:xfrm>
            <a:custGeom>
              <a:avLst/>
              <a:gdLst/>
              <a:ahLst/>
              <a:rect l="l" t="t" r="r" b="b"/>
              <a:pathLst>
                <a:path w="433" h="217">
                  <a:moveTo>
                    <a:pt x="433" y="217"/>
                  </a:moveTo>
                  <a:lnTo>
                    <a:pt x="433" y="191"/>
                  </a:lnTo>
                  <a:lnTo>
                    <a:pt x="427" y="166"/>
                  </a:lnTo>
                  <a:lnTo>
                    <a:pt x="423" y="143"/>
                  </a:lnTo>
                  <a:lnTo>
                    <a:pt x="414" y="124"/>
                  </a:lnTo>
                  <a:lnTo>
                    <a:pt x="405" y="103"/>
                  </a:lnTo>
                  <a:lnTo>
                    <a:pt x="393" y="85"/>
                  </a:lnTo>
                  <a:lnTo>
                    <a:pt x="379" y="71"/>
                  </a:lnTo>
                  <a:lnTo>
                    <a:pt x="366" y="55"/>
                  </a:lnTo>
                  <a:lnTo>
                    <a:pt x="350" y="42"/>
                  </a:lnTo>
                  <a:lnTo>
                    <a:pt x="333" y="32"/>
                  </a:lnTo>
                  <a:lnTo>
                    <a:pt x="315" y="22"/>
                  </a:lnTo>
                  <a:lnTo>
                    <a:pt x="297" y="15"/>
                  </a:lnTo>
                  <a:lnTo>
                    <a:pt x="276" y="8"/>
                  </a:lnTo>
                  <a:lnTo>
                    <a:pt x="257" y="5"/>
                  </a:lnTo>
                  <a:lnTo>
                    <a:pt x="236" y="2"/>
                  </a:lnTo>
                  <a:lnTo>
                    <a:pt x="217" y="0"/>
                  </a:lnTo>
                  <a:lnTo>
                    <a:pt x="196" y="2"/>
                  </a:lnTo>
                  <a:lnTo>
                    <a:pt x="177" y="5"/>
                  </a:lnTo>
                  <a:lnTo>
                    <a:pt x="156" y="8"/>
                  </a:lnTo>
                  <a:lnTo>
                    <a:pt x="138" y="15"/>
                  </a:lnTo>
                  <a:lnTo>
                    <a:pt x="119" y="22"/>
                  </a:lnTo>
                  <a:lnTo>
                    <a:pt x="101" y="32"/>
                  </a:lnTo>
                  <a:lnTo>
                    <a:pt x="84" y="42"/>
                  </a:lnTo>
                  <a:lnTo>
                    <a:pt x="68" y="55"/>
                  </a:lnTo>
                  <a:lnTo>
                    <a:pt x="53" y="71"/>
                  </a:lnTo>
                  <a:lnTo>
                    <a:pt x="40" y="85"/>
                  </a:lnTo>
                  <a:lnTo>
                    <a:pt x="29" y="103"/>
                  </a:lnTo>
                  <a:lnTo>
                    <a:pt x="18" y="124"/>
                  </a:lnTo>
                  <a:lnTo>
                    <a:pt x="12" y="143"/>
                  </a:lnTo>
                  <a:lnTo>
                    <a:pt x="5" y="166"/>
                  </a:lnTo>
                  <a:lnTo>
                    <a:pt x="2" y="191"/>
                  </a:lnTo>
                  <a:lnTo>
                    <a:pt x="0" y="217"/>
                  </a:lnTo>
                  <a:lnTo>
                    <a:pt x="433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79760" y="1658880"/>
              <a:ext cx="12600" cy="25200"/>
            </a:xfrm>
            <a:custGeom>
              <a:avLst/>
              <a:gdLst/>
              <a:ahLst/>
              <a:rect l="l" t="t" r="r" b="b"/>
              <a:pathLst>
                <a:path w="216" h="432">
                  <a:moveTo>
                    <a:pt x="0" y="432"/>
                  </a:moveTo>
                  <a:lnTo>
                    <a:pt x="27" y="432"/>
                  </a:lnTo>
                  <a:lnTo>
                    <a:pt x="51" y="427"/>
                  </a:lnTo>
                  <a:lnTo>
                    <a:pt x="73" y="421"/>
                  </a:lnTo>
                  <a:lnTo>
                    <a:pt x="94" y="413"/>
                  </a:lnTo>
                  <a:lnTo>
                    <a:pt x="115" y="403"/>
                  </a:lnTo>
                  <a:lnTo>
                    <a:pt x="133" y="392"/>
                  </a:lnTo>
                  <a:lnTo>
                    <a:pt x="148" y="379"/>
                  </a:lnTo>
                  <a:lnTo>
                    <a:pt x="163" y="365"/>
                  </a:lnTo>
                  <a:lnTo>
                    <a:pt x="175" y="348"/>
                  </a:lnTo>
                  <a:lnTo>
                    <a:pt x="186" y="332"/>
                  </a:lnTo>
                  <a:lnTo>
                    <a:pt x="197" y="313"/>
                  </a:lnTo>
                  <a:lnTo>
                    <a:pt x="203" y="295"/>
                  </a:lnTo>
                  <a:lnTo>
                    <a:pt x="210" y="275"/>
                  </a:lnTo>
                  <a:lnTo>
                    <a:pt x="213" y="257"/>
                  </a:lnTo>
                  <a:lnTo>
                    <a:pt x="216" y="237"/>
                  </a:lnTo>
                  <a:lnTo>
                    <a:pt x="216" y="215"/>
                  </a:lnTo>
                  <a:lnTo>
                    <a:pt x="216" y="196"/>
                  </a:lnTo>
                  <a:lnTo>
                    <a:pt x="213" y="175"/>
                  </a:lnTo>
                  <a:lnTo>
                    <a:pt x="210" y="156"/>
                  </a:lnTo>
                  <a:lnTo>
                    <a:pt x="203" y="138"/>
                  </a:lnTo>
                  <a:lnTo>
                    <a:pt x="197" y="117"/>
                  </a:lnTo>
                  <a:lnTo>
                    <a:pt x="186" y="101"/>
                  </a:lnTo>
                  <a:lnTo>
                    <a:pt x="175" y="82"/>
                  </a:lnTo>
                  <a:lnTo>
                    <a:pt x="163" y="67"/>
                  </a:lnTo>
                  <a:lnTo>
                    <a:pt x="148" y="53"/>
                  </a:lnTo>
                  <a:lnTo>
                    <a:pt x="133" y="40"/>
                  </a:lnTo>
                  <a:lnTo>
                    <a:pt x="115" y="27"/>
                  </a:lnTo>
                  <a:lnTo>
                    <a:pt x="94" y="18"/>
                  </a:lnTo>
                  <a:lnTo>
                    <a:pt x="73" y="11"/>
                  </a:lnTo>
                  <a:lnTo>
                    <a:pt x="51" y="5"/>
                  </a:lnTo>
                  <a:lnTo>
                    <a:pt x="27" y="1"/>
                  </a:lnTo>
                  <a:lnTo>
                    <a:pt x="0" y="0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65560" y="1492200"/>
              <a:ext cx="214200" cy="191880"/>
            </a:xfrm>
            <a:custGeom>
              <a:avLst/>
              <a:gdLst/>
              <a:ahLst/>
              <a:rect l="l" t="t" r="r" b="b"/>
              <a:pathLst>
                <a:path w="3643" h="3255">
                  <a:moveTo>
                    <a:pt x="0" y="0"/>
                  </a:moveTo>
                  <a:lnTo>
                    <a:pt x="2" y="90"/>
                  </a:lnTo>
                  <a:lnTo>
                    <a:pt x="5" y="180"/>
                  </a:lnTo>
                  <a:lnTo>
                    <a:pt x="10" y="269"/>
                  </a:lnTo>
                  <a:lnTo>
                    <a:pt x="18" y="358"/>
                  </a:lnTo>
                  <a:lnTo>
                    <a:pt x="28" y="445"/>
                  </a:lnTo>
                  <a:lnTo>
                    <a:pt x="42" y="531"/>
                  </a:lnTo>
                  <a:lnTo>
                    <a:pt x="57" y="617"/>
                  </a:lnTo>
                  <a:lnTo>
                    <a:pt x="73" y="701"/>
                  </a:lnTo>
                  <a:lnTo>
                    <a:pt x="92" y="784"/>
                  </a:lnTo>
                  <a:lnTo>
                    <a:pt x="113" y="866"/>
                  </a:lnTo>
                  <a:lnTo>
                    <a:pt x="137" y="948"/>
                  </a:lnTo>
                  <a:lnTo>
                    <a:pt x="161" y="1028"/>
                  </a:lnTo>
                  <a:lnTo>
                    <a:pt x="190" y="1106"/>
                  </a:lnTo>
                  <a:lnTo>
                    <a:pt x="219" y="1184"/>
                  </a:lnTo>
                  <a:lnTo>
                    <a:pt x="249" y="1261"/>
                  </a:lnTo>
                  <a:lnTo>
                    <a:pt x="285" y="1335"/>
                  </a:lnTo>
                  <a:lnTo>
                    <a:pt x="320" y="1412"/>
                  </a:lnTo>
                  <a:lnTo>
                    <a:pt x="357" y="1483"/>
                  </a:lnTo>
                  <a:lnTo>
                    <a:pt x="396" y="1557"/>
                  </a:lnTo>
                  <a:lnTo>
                    <a:pt x="437" y="1626"/>
                  </a:lnTo>
                  <a:lnTo>
                    <a:pt x="481" y="1695"/>
                  </a:lnTo>
                  <a:lnTo>
                    <a:pt x="526" y="1764"/>
                  </a:lnTo>
                  <a:lnTo>
                    <a:pt x="572" y="1830"/>
                  </a:lnTo>
                  <a:lnTo>
                    <a:pt x="620" y="1896"/>
                  </a:lnTo>
                  <a:lnTo>
                    <a:pt x="671" y="1960"/>
                  </a:lnTo>
                  <a:lnTo>
                    <a:pt x="721" y="2023"/>
                  </a:lnTo>
                  <a:lnTo>
                    <a:pt x="776" y="2082"/>
                  </a:lnTo>
                  <a:lnTo>
                    <a:pt x="830" y="2143"/>
                  </a:lnTo>
                  <a:lnTo>
                    <a:pt x="887" y="2203"/>
                  </a:lnTo>
                  <a:lnTo>
                    <a:pt x="944" y="2259"/>
                  </a:lnTo>
                  <a:lnTo>
                    <a:pt x="1004" y="2314"/>
                  </a:lnTo>
                  <a:lnTo>
                    <a:pt x="1065" y="2368"/>
                  </a:lnTo>
                  <a:lnTo>
                    <a:pt x="1129" y="2420"/>
                  </a:lnTo>
                  <a:lnTo>
                    <a:pt x="1192" y="2471"/>
                  </a:lnTo>
                  <a:lnTo>
                    <a:pt x="1257" y="2522"/>
                  </a:lnTo>
                  <a:lnTo>
                    <a:pt x="1325" y="2569"/>
                  </a:lnTo>
                  <a:lnTo>
                    <a:pt x="1392" y="2616"/>
                  </a:lnTo>
                  <a:lnTo>
                    <a:pt x="1463" y="2661"/>
                  </a:lnTo>
                  <a:lnTo>
                    <a:pt x="1533" y="2704"/>
                  </a:lnTo>
                  <a:lnTo>
                    <a:pt x="1604" y="2747"/>
                  </a:lnTo>
                  <a:lnTo>
                    <a:pt x="1678" y="2787"/>
                  </a:lnTo>
                  <a:lnTo>
                    <a:pt x="1752" y="2828"/>
                  </a:lnTo>
                  <a:lnTo>
                    <a:pt x="1829" y="2864"/>
                  </a:lnTo>
                  <a:lnTo>
                    <a:pt x="1906" y="2899"/>
                  </a:lnTo>
                  <a:lnTo>
                    <a:pt x="1984" y="2932"/>
                  </a:lnTo>
                  <a:lnTo>
                    <a:pt x="2062" y="2966"/>
                  </a:lnTo>
                  <a:lnTo>
                    <a:pt x="2143" y="2997"/>
                  </a:lnTo>
                  <a:lnTo>
                    <a:pt x="2224" y="3025"/>
                  </a:lnTo>
                  <a:lnTo>
                    <a:pt x="2307" y="3051"/>
                  </a:lnTo>
                  <a:lnTo>
                    <a:pt x="2390" y="3078"/>
                  </a:lnTo>
                  <a:lnTo>
                    <a:pt x="2473" y="3101"/>
                  </a:lnTo>
                  <a:lnTo>
                    <a:pt x="2558" y="3125"/>
                  </a:lnTo>
                  <a:lnTo>
                    <a:pt x="2644" y="3144"/>
                  </a:lnTo>
                  <a:lnTo>
                    <a:pt x="2732" y="3163"/>
                  </a:lnTo>
                  <a:lnTo>
                    <a:pt x="2819" y="3181"/>
                  </a:lnTo>
                  <a:lnTo>
                    <a:pt x="2907" y="3196"/>
                  </a:lnTo>
                  <a:lnTo>
                    <a:pt x="2997" y="3210"/>
                  </a:lnTo>
                  <a:lnTo>
                    <a:pt x="3087" y="3221"/>
                  </a:lnTo>
                  <a:lnTo>
                    <a:pt x="3179" y="3231"/>
                  </a:lnTo>
                  <a:lnTo>
                    <a:pt x="3270" y="3239"/>
                  </a:lnTo>
                  <a:lnTo>
                    <a:pt x="3362" y="3246"/>
                  </a:lnTo>
                  <a:lnTo>
                    <a:pt x="3455" y="3252"/>
                  </a:lnTo>
                  <a:lnTo>
                    <a:pt x="3550" y="3255"/>
                  </a:lnTo>
                  <a:lnTo>
                    <a:pt x="3643" y="3255"/>
                  </a:lnTo>
                  <a:lnTo>
                    <a:pt x="3643" y="2823"/>
                  </a:lnTo>
                  <a:lnTo>
                    <a:pt x="3556" y="2823"/>
                  </a:lnTo>
                  <a:lnTo>
                    <a:pt x="3474" y="2821"/>
                  </a:lnTo>
                  <a:lnTo>
                    <a:pt x="3389" y="2816"/>
                  </a:lnTo>
                  <a:lnTo>
                    <a:pt x="3304" y="2809"/>
                  </a:lnTo>
                  <a:lnTo>
                    <a:pt x="3220" y="2802"/>
                  </a:lnTo>
                  <a:lnTo>
                    <a:pt x="3139" y="2792"/>
                  </a:lnTo>
                  <a:lnTo>
                    <a:pt x="3057" y="2783"/>
                  </a:lnTo>
                  <a:lnTo>
                    <a:pt x="2978" y="2771"/>
                  </a:lnTo>
                  <a:lnTo>
                    <a:pt x="2898" y="2757"/>
                  </a:lnTo>
                  <a:lnTo>
                    <a:pt x="2817" y="2741"/>
                  </a:lnTo>
                  <a:lnTo>
                    <a:pt x="2739" y="2725"/>
                  </a:lnTo>
                  <a:lnTo>
                    <a:pt x="2663" y="2706"/>
                  </a:lnTo>
                  <a:lnTo>
                    <a:pt x="2586" y="2686"/>
                  </a:lnTo>
                  <a:lnTo>
                    <a:pt x="2511" y="2664"/>
                  </a:lnTo>
                  <a:lnTo>
                    <a:pt x="2438" y="2643"/>
                  </a:lnTo>
                  <a:lnTo>
                    <a:pt x="2365" y="2616"/>
                  </a:lnTo>
                  <a:lnTo>
                    <a:pt x="2291" y="2591"/>
                  </a:lnTo>
                  <a:lnTo>
                    <a:pt x="2222" y="2564"/>
                  </a:lnTo>
                  <a:lnTo>
                    <a:pt x="2150" y="2537"/>
                  </a:lnTo>
                  <a:lnTo>
                    <a:pt x="2082" y="2506"/>
                  </a:lnTo>
                  <a:lnTo>
                    <a:pt x="2013" y="2474"/>
                  </a:lnTo>
                  <a:lnTo>
                    <a:pt x="1947" y="2442"/>
                  </a:lnTo>
                  <a:lnTo>
                    <a:pt x="1882" y="2408"/>
                  </a:lnTo>
                  <a:lnTo>
                    <a:pt x="1817" y="2372"/>
                  </a:lnTo>
                  <a:lnTo>
                    <a:pt x="1755" y="2336"/>
                  </a:lnTo>
                  <a:lnTo>
                    <a:pt x="1692" y="2297"/>
                  </a:lnTo>
                  <a:lnTo>
                    <a:pt x="1633" y="2257"/>
                  </a:lnTo>
                  <a:lnTo>
                    <a:pt x="1573" y="2217"/>
                  </a:lnTo>
                  <a:lnTo>
                    <a:pt x="1514" y="2176"/>
                  </a:lnTo>
                  <a:lnTo>
                    <a:pt x="1458" y="2132"/>
                  </a:lnTo>
                  <a:lnTo>
                    <a:pt x="1402" y="2088"/>
                  </a:lnTo>
                  <a:lnTo>
                    <a:pt x="1349" y="2043"/>
                  </a:lnTo>
                  <a:lnTo>
                    <a:pt x="1294" y="1995"/>
                  </a:lnTo>
                  <a:lnTo>
                    <a:pt x="1243" y="1949"/>
                  </a:lnTo>
                  <a:lnTo>
                    <a:pt x="1193" y="1899"/>
                  </a:lnTo>
                  <a:lnTo>
                    <a:pt x="1143" y="1849"/>
                  </a:lnTo>
                  <a:lnTo>
                    <a:pt x="1097" y="1798"/>
                  </a:lnTo>
                  <a:lnTo>
                    <a:pt x="1052" y="1744"/>
                  </a:lnTo>
                  <a:lnTo>
                    <a:pt x="1007" y="1689"/>
                  </a:lnTo>
                  <a:lnTo>
                    <a:pt x="964" y="1636"/>
                  </a:lnTo>
                  <a:lnTo>
                    <a:pt x="922" y="1579"/>
                  </a:lnTo>
                  <a:lnTo>
                    <a:pt x="882" y="1521"/>
                  </a:lnTo>
                  <a:lnTo>
                    <a:pt x="843" y="1465"/>
                  </a:lnTo>
                  <a:lnTo>
                    <a:pt x="808" y="1406"/>
                  </a:lnTo>
                  <a:lnTo>
                    <a:pt x="772" y="1345"/>
                  </a:lnTo>
                  <a:lnTo>
                    <a:pt x="739" y="1282"/>
                  </a:lnTo>
                  <a:lnTo>
                    <a:pt x="705" y="1221"/>
                  </a:lnTo>
                  <a:lnTo>
                    <a:pt x="676" y="1157"/>
                  </a:lnTo>
                  <a:lnTo>
                    <a:pt x="647" y="1093"/>
                  </a:lnTo>
                  <a:lnTo>
                    <a:pt x="620" y="1027"/>
                  </a:lnTo>
                  <a:lnTo>
                    <a:pt x="596" y="959"/>
                  </a:lnTo>
                  <a:lnTo>
                    <a:pt x="571" y="892"/>
                  </a:lnTo>
                  <a:lnTo>
                    <a:pt x="549" y="824"/>
                  </a:lnTo>
                  <a:lnTo>
                    <a:pt x="529" y="754"/>
                  </a:lnTo>
                  <a:lnTo>
                    <a:pt x="511" y="683"/>
                  </a:lnTo>
                  <a:lnTo>
                    <a:pt x="495" y="611"/>
                  </a:lnTo>
                  <a:lnTo>
                    <a:pt x="479" y="538"/>
                  </a:lnTo>
                  <a:lnTo>
                    <a:pt x="468" y="465"/>
                  </a:lnTo>
                  <a:lnTo>
                    <a:pt x="456" y="390"/>
                  </a:lnTo>
                  <a:lnTo>
                    <a:pt x="448" y="313"/>
                  </a:lnTo>
                  <a:lnTo>
                    <a:pt x="441" y="237"/>
                  </a:lnTo>
                  <a:lnTo>
                    <a:pt x="436" y="159"/>
                  </a:lnTo>
                  <a:lnTo>
                    <a:pt x="432" y="81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065560" y="1479240"/>
              <a:ext cx="25200" cy="129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432" y="217"/>
                  </a:moveTo>
                  <a:lnTo>
                    <a:pt x="431" y="191"/>
                  </a:lnTo>
                  <a:lnTo>
                    <a:pt x="428" y="166"/>
                  </a:lnTo>
                  <a:lnTo>
                    <a:pt x="421" y="143"/>
                  </a:lnTo>
                  <a:lnTo>
                    <a:pt x="413" y="124"/>
                  </a:lnTo>
                  <a:lnTo>
                    <a:pt x="403" y="103"/>
                  </a:lnTo>
                  <a:lnTo>
                    <a:pt x="392" y="85"/>
                  </a:lnTo>
                  <a:lnTo>
                    <a:pt x="379" y="71"/>
                  </a:lnTo>
                  <a:lnTo>
                    <a:pt x="365" y="55"/>
                  </a:lnTo>
                  <a:lnTo>
                    <a:pt x="348" y="42"/>
                  </a:lnTo>
                  <a:lnTo>
                    <a:pt x="331" y="32"/>
                  </a:lnTo>
                  <a:lnTo>
                    <a:pt x="313" y="22"/>
                  </a:lnTo>
                  <a:lnTo>
                    <a:pt x="294" y="15"/>
                  </a:lnTo>
                  <a:lnTo>
                    <a:pt x="277" y="8"/>
                  </a:lnTo>
                  <a:lnTo>
                    <a:pt x="256" y="5"/>
                  </a:lnTo>
                  <a:lnTo>
                    <a:pt x="236" y="2"/>
                  </a:lnTo>
                  <a:lnTo>
                    <a:pt x="217" y="0"/>
                  </a:lnTo>
                  <a:lnTo>
                    <a:pt x="195" y="2"/>
                  </a:lnTo>
                  <a:lnTo>
                    <a:pt x="175" y="5"/>
                  </a:lnTo>
                  <a:lnTo>
                    <a:pt x="155" y="8"/>
                  </a:lnTo>
                  <a:lnTo>
                    <a:pt x="137" y="15"/>
                  </a:lnTo>
                  <a:lnTo>
                    <a:pt x="118" y="22"/>
                  </a:lnTo>
                  <a:lnTo>
                    <a:pt x="100" y="32"/>
                  </a:lnTo>
                  <a:lnTo>
                    <a:pt x="84" y="42"/>
                  </a:lnTo>
                  <a:lnTo>
                    <a:pt x="66" y="55"/>
                  </a:lnTo>
                  <a:lnTo>
                    <a:pt x="52" y="71"/>
                  </a:lnTo>
                  <a:lnTo>
                    <a:pt x="39" y="85"/>
                  </a:lnTo>
                  <a:lnTo>
                    <a:pt x="28" y="103"/>
                  </a:lnTo>
                  <a:lnTo>
                    <a:pt x="18" y="124"/>
                  </a:lnTo>
                  <a:lnTo>
                    <a:pt x="10" y="143"/>
                  </a:lnTo>
                  <a:lnTo>
                    <a:pt x="4" y="166"/>
                  </a:lnTo>
                  <a:lnTo>
                    <a:pt x="0" y="191"/>
                  </a:lnTo>
                  <a:lnTo>
                    <a:pt x="0" y="217"/>
                  </a:lnTo>
                  <a:lnTo>
                    <a:pt x="43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814640" y="1658880"/>
              <a:ext cx="12600" cy="25200"/>
            </a:xfrm>
            <a:custGeom>
              <a:avLst/>
              <a:gdLst/>
              <a:ahLst/>
              <a:rect l="l" t="t" r="r" b="b"/>
              <a:pathLst>
                <a:path w="217" h="432">
                  <a:moveTo>
                    <a:pt x="217" y="0"/>
                  </a:moveTo>
                  <a:lnTo>
                    <a:pt x="190" y="1"/>
                  </a:lnTo>
                  <a:lnTo>
                    <a:pt x="167" y="5"/>
                  </a:lnTo>
                  <a:lnTo>
                    <a:pt x="143" y="11"/>
                  </a:lnTo>
                  <a:lnTo>
                    <a:pt x="122" y="18"/>
                  </a:lnTo>
                  <a:lnTo>
                    <a:pt x="103" y="27"/>
                  </a:lnTo>
                  <a:lnTo>
                    <a:pt x="85" y="40"/>
                  </a:lnTo>
                  <a:lnTo>
                    <a:pt x="68" y="53"/>
                  </a:lnTo>
                  <a:lnTo>
                    <a:pt x="55" y="67"/>
                  </a:lnTo>
                  <a:lnTo>
                    <a:pt x="42" y="82"/>
                  </a:lnTo>
                  <a:lnTo>
                    <a:pt x="31" y="101"/>
                  </a:lnTo>
                  <a:lnTo>
                    <a:pt x="22" y="117"/>
                  </a:lnTo>
                  <a:lnTo>
                    <a:pt x="13" y="138"/>
                  </a:lnTo>
                  <a:lnTo>
                    <a:pt x="9" y="156"/>
                  </a:lnTo>
                  <a:lnTo>
                    <a:pt x="4" y="175"/>
                  </a:lnTo>
                  <a:lnTo>
                    <a:pt x="2" y="196"/>
                  </a:lnTo>
                  <a:lnTo>
                    <a:pt x="0" y="215"/>
                  </a:lnTo>
                  <a:lnTo>
                    <a:pt x="2" y="237"/>
                  </a:lnTo>
                  <a:lnTo>
                    <a:pt x="4" y="257"/>
                  </a:lnTo>
                  <a:lnTo>
                    <a:pt x="9" y="275"/>
                  </a:lnTo>
                  <a:lnTo>
                    <a:pt x="13" y="295"/>
                  </a:lnTo>
                  <a:lnTo>
                    <a:pt x="22" y="313"/>
                  </a:lnTo>
                  <a:lnTo>
                    <a:pt x="31" y="332"/>
                  </a:lnTo>
                  <a:lnTo>
                    <a:pt x="42" y="348"/>
                  </a:lnTo>
                  <a:lnTo>
                    <a:pt x="55" y="365"/>
                  </a:lnTo>
                  <a:lnTo>
                    <a:pt x="68" y="379"/>
                  </a:lnTo>
                  <a:lnTo>
                    <a:pt x="85" y="392"/>
                  </a:lnTo>
                  <a:lnTo>
                    <a:pt x="103" y="403"/>
                  </a:lnTo>
                  <a:lnTo>
                    <a:pt x="122" y="413"/>
                  </a:lnTo>
                  <a:lnTo>
                    <a:pt x="143" y="421"/>
                  </a:lnTo>
                  <a:lnTo>
                    <a:pt x="167" y="427"/>
                  </a:lnTo>
                  <a:lnTo>
                    <a:pt x="190" y="432"/>
                  </a:lnTo>
                  <a:lnTo>
                    <a:pt x="217" y="432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27240" y="1492200"/>
              <a:ext cx="214200" cy="191880"/>
            </a:xfrm>
            <a:custGeom>
              <a:avLst/>
              <a:gdLst/>
              <a:ahLst/>
              <a:rect l="l" t="t" r="r" b="b"/>
              <a:pathLst>
                <a:path w="3644" h="3255">
                  <a:moveTo>
                    <a:pt x="3212" y="0"/>
                  </a:moveTo>
                  <a:lnTo>
                    <a:pt x="3212" y="81"/>
                  </a:lnTo>
                  <a:lnTo>
                    <a:pt x="3208" y="159"/>
                  </a:lnTo>
                  <a:lnTo>
                    <a:pt x="3204" y="237"/>
                  </a:lnTo>
                  <a:lnTo>
                    <a:pt x="3196" y="313"/>
                  </a:lnTo>
                  <a:lnTo>
                    <a:pt x="3188" y="390"/>
                  </a:lnTo>
                  <a:lnTo>
                    <a:pt x="3177" y="465"/>
                  </a:lnTo>
                  <a:lnTo>
                    <a:pt x="3164" y="538"/>
                  </a:lnTo>
                  <a:lnTo>
                    <a:pt x="3148" y="611"/>
                  </a:lnTo>
                  <a:lnTo>
                    <a:pt x="3133" y="683"/>
                  </a:lnTo>
                  <a:lnTo>
                    <a:pt x="3114" y="754"/>
                  </a:lnTo>
                  <a:lnTo>
                    <a:pt x="3093" y="824"/>
                  </a:lnTo>
                  <a:lnTo>
                    <a:pt x="3074" y="892"/>
                  </a:lnTo>
                  <a:lnTo>
                    <a:pt x="3048" y="959"/>
                  </a:lnTo>
                  <a:lnTo>
                    <a:pt x="3024" y="1027"/>
                  </a:lnTo>
                  <a:lnTo>
                    <a:pt x="2997" y="1093"/>
                  </a:lnTo>
                  <a:lnTo>
                    <a:pt x="2968" y="1155"/>
                  </a:lnTo>
                  <a:lnTo>
                    <a:pt x="2937" y="1221"/>
                  </a:lnTo>
                  <a:lnTo>
                    <a:pt x="2905" y="1282"/>
                  </a:lnTo>
                  <a:lnTo>
                    <a:pt x="2872" y="1345"/>
                  </a:lnTo>
                  <a:lnTo>
                    <a:pt x="2837" y="1406"/>
                  </a:lnTo>
                  <a:lnTo>
                    <a:pt x="2801" y="1465"/>
                  </a:lnTo>
                  <a:lnTo>
                    <a:pt x="2762" y="1521"/>
                  </a:lnTo>
                  <a:lnTo>
                    <a:pt x="2721" y="1579"/>
                  </a:lnTo>
                  <a:lnTo>
                    <a:pt x="2681" y="1636"/>
                  </a:lnTo>
                  <a:lnTo>
                    <a:pt x="2637" y="1689"/>
                  </a:lnTo>
                  <a:lnTo>
                    <a:pt x="2592" y="1744"/>
                  </a:lnTo>
                  <a:lnTo>
                    <a:pt x="2547" y="1798"/>
                  </a:lnTo>
                  <a:lnTo>
                    <a:pt x="2499" y="1849"/>
                  </a:lnTo>
                  <a:lnTo>
                    <a:pt x="2451" y="1899"/>
                  </a:lnTo>
                  <a:lnTo>
                    <a:pt x="2401" y="1949"/>
                  </a:lnTo>
                  <a:lnTo>
                    <a:pt x="2350" y="1995"/>
                  </a:lnTo>
                  <a:lnTo>
                    <a:pt x="2296" y="2043"/>
                  </a:lnTo>
                  <a:lnTo>
                    <a:pt x="2241" y="2088"/>
                  </a:lnTo>
                  <a:lnTo>
                    <a:pt x="2186" y="2132"/>
                  </a:lnTo>
                  <a:lnTo>
                    <a:pt x="2130" y="2176"/>
                  </a:lnTo>
                  <a:lnTo>
                    <a:pt x="2072" y="2217"/>
                  </a:lnTo>
                  <a:lnTo>
                    <a:pt x="2011" y="2257"/>
                  </a:lnTo>
                  <a:lnTo>
                    <a:pt x="1952" y="2297"/>
                  </a:lnTo>
                  <a:lnTo>
                    <a:pt x="1888" y="2336"/>
                  </a:lnTo>
                  <a:lnTo>
                    <a:pt x="1825" y="2372"/>
                  </a:lnTo>
                  <a:lnTo>
                    <a:pt x="1762" y="2408"/>
                  </a:lnTo>
                  <a:lnTo>
                    <a:pt x="1695" y="2442"/>
                  </a:lnTo>
                  <a:lnTo>
                    <a:pt x="1629" y="2474"/>
                  </a:lnTo>
                  <a:lnTo>
                    <a:pt x="1562" y="2506"/>
                  </a:lnTo>
                  <a:lnTo>
                    <a:pt x="1493" y="2537"/>
                  </a:lnTo>
                  <a:lnTo>
                    <a:pt x="1422" y="2564"/>
                  </a:lnTo>
                  <a:lnTo>
                    <a:pt x="1351" y="2591"/>
                  </a:lnTo>
                  <a:lnTo>
                    <a:pt x="1279" y="2616"/>
                  </a:lnTo>
                  <a:lnTo>
                    <a:pt x="1206" y="2643"/>
                  </a:lnTo>
                  <a:lnTo>
                    <a:pt x="1132" y="2664"/>
                  </a:lnTo>
                  <a:lnTo>
                    <a:pt x="1056" y="2686"/>
                  </a:lnTo>
                  <a:lnTo>
                    <a:pt x="979" y="2706"/>
                  </a:lnTo>
                  <a:lnTo>
                    <a:pt x="904" y="2725"/>
                  </a:lnTo>
                  <a:lnTo>
                    <a:pt x="825" y="2741"/>
                  </a:lnTo>
                  <a:lnTo>
                    <a:pt x="747" y="2757"/>
                  </a:lnTo>
                  <a:lnTo>
                    <a:pt x="666" y="2771"/>
                  </a:lnTo>
                  <a:lnTo>
                    <a:pt x="586" y="2783"/>
                  </a:lnTo>
                  <a:lnTo>
                    <a:pt x="504" y="2792"/>
                  </a:lnTo>
                  <a:lnTo>
                    <a:pt x="422" y="2802"/>
                  </a:lnTo>
                  <a:lnTo>
                    <a:pt x="339" y="2809"/>
                  </a:lnTo>
                  <a:lnTo>
                    <a:pt x="256" y="2816"/>
                  </a:lnTo>
                  <a:lnTo>
                    <a:pt x="171" y="2821"/>
                  </a:lnTo>
                  <a:lnTo>
                    <a:pt x="87" y="2823"/>
                  </a:lnTo>
                  <a:lnTo>
                    <a:pt x="0" y="2823"/>
                  </a:lnTo>
                  <a:lnTo>
                    <a:pt x="0" y="3255"/>
                  </a:lnTo>
                  <a:lnTo>
                    <a:pt x="93" y="3255"/>
                  </a:lnTo>
                  <a:lnTo>
                    <a:pt x="188" y="3252"/>
                  </a:lnTo>
                  <a:lnTo>
                    <a:pt x="281" y="3246"/>
                  </a:lnTo>
                  <a:lnTo>
                    <a:pt x="372" y="3239"/>
                  </a:lnTo>
                  <a:lnTo>
                    <a:pt x="464" y="3231"/>
                  </a:lnTo>
                  <a:lnTo>
                    <a:pt x="555" y="3221"/>
                  </a:lnTo>
                  <a:lnTo>
                    <a:pt x="645" y="3210"/>
                  </a:lnTo>
                  <a:lnTo>
                    <a:pt x="735" y="3196"/>
                  </a:lnTo>
                  <a:lnTo>
                    <a:pt x="823" y="3181"/>
                  </a:lnTo>
                  <a:lnTo>
                    <a:pt x="912" y="3163"/>
                  </a:lnTo>
                  <a:lnTo>
                    <a:pt x="998" y="3144"/>
                  </a:lnTo>
                  <a:lnTo>
                    <a:pt x="1085" y="3125"/>
                  </a:lnTo>
                  <a:lnTo>
                    <a:pt x="1170" y="3101"/>
                  </a:lnTo>
                  <a:lnTo>
                    <a:pt x="1252" y="3078"/>
                  </a:lnTo>
                  <a:lnTo>
                    <a:pt x="1337" y="3051"/>
                  </a:lnTo>
                  <a:lnTo>
                    <a:pt x="1419" y="3025"/>
                  </a:lnTo>
                  <a:lnTo>
                    <a:pt x="1501" y="2997"/>
                  </a:lnTo>
                  <a:lnTo>
                    <a:pt x="1581" y="2966"/>
                  </a:lnTo>
                  <a:lnTo>
                    <a:pt x="1660" y="2932"/>
                  </a:lnTo>
                  <a:lnTo>
                    <a:pt x="1737" y="2899"/>
                  </a:lnTo>
                  <a:lnTo>
                    <a:pt x="1815" y="2864"/>
                  </a:lnTo>
                  <a:lnTo>
                    <a:pt x="1891" y="2828"/>
                  </a:lnTo>
                  <a:lnTo>
                    <a:pt x="1965" y="2787"/>
                  </a:lnTo>
                  <a:lnTo>
                    <a:pt x="2038" y="2747"/>
                  </a:lnTo>
                  <a:lnTo>
                    <a:pt x="2109" y="2704"/>
                  </a:lnTo>
                  <a:lnTo>
                    <a:pt x="2181" y="2661"/>
                  </a:lnTo>
                  <a:lnTo>
                    <a:pt x="2251" y="2616"/>
                  </a:lnTo>
                  <a:lnTo>
                    <a:pt x="2319" y="2569"/>
                  </a:lnTo>
                  <a:lnTo>
                    <a:pt x="2386" y="2522"/>
                  </a:lnTo>
                  <a:lnTo>
                    <a:pt x="2451" y="2471"/>
                  </a:lnTo>
                  <a:lnTo>
                    <a:pt x="2515" y="2420"/>
                  </a:lnTo>
                  <a:lnTo>
                    <a:pt x="2579" y="2368"/>
                  </a:lnTo>
                  <a:lnTo>
                    <a:pt x="2639" y="2314"/>
                  </a:lnTo>
                  <a:lnTo>
                    <a:pt x="2698" y="2259"/>
                  </a:lnTo>
                  <a:lnTo>
                    <a:pt x="2757" y="2203"/>
                  </a:lnTo>
                  <a:lnTo>
                    <a:pt x="2814" y="2143"/>
                  </a:lnTo>
                  <a:lnTo>
                    <a:pt x="2868" y="2082"/>
                  </a:lnTo>
                  <a:lnTo>
                    <a:pt x="2922" y="2023"/>
                  </a:lnTo>
                  <a:lnTo>
                    <a:pt x="2973" y="1960"/>
                  </a:lnTo>
                  <a:lnTo>
                    <a:pt x="3024" y="1896"/>
                  </a:lnTo>
                  <a:lnTo>
                    <a:pt x="3074" y="1830"/>
                  </a:lnTo>
                  <a:lnTo>
                    <a:pt x="3119" y="1764"/>
                  </a:lnTo>
                  <a:lnTo>
                    <a:pt x="3164" y="1695"/>
                  </a:lnTo>
                  <a:lnTo>
                    <a:pt x="3207" y="1626"/>
                  </a:lnTo>
                  <a:lnTo>
                    <a:pt x="3248" y="1557"/>
                  </a:lnTo>
                  <a:lnTo>
                    <a:pt x="3288" y="1483"/>
                  </a:lnTo>
                  <a:lnTo>
                    <a:pt x="3324" y="1412"/>
                  </a:lnTo>
                  <a:lnTo>
                    <a:pt x="3360" y="1337"/>
                  </a:lnTo>
                  <a:lnTo>
                    <a:pt x="3393" y="1261"/>
                  </a:lnTo>
                  <a:lnTo>
                    <a:pt x="3426" y="1184"/>
                  </a:lnTo>
                  <a:lnTo>
                    <a:pt x="3454" y="1106"/>
                  </a:lnTo>
                  <a:lnTo>
                    <a:pt x="3481" y="1028"/>
                  </a:lnTo>
                  <a:lnTo>
                    <a:pt x="3507" y="948"/>
                  </a:lnTo>
                  <a:lnTo>
                    <a:pt x="3531" y="866"/>
                  </a:lnTo>
                  <a:lnTo>
                    <a:pt x="3552" y="784"/>
                  </a:lnTo>
                  <a:lnTo>
                    <a:pt x="3571" y="701"/>
                  </a:lnTo>
                  <a:lnTo>
                    <a:pt x="3587" y="616"/>
                  </a:lnTo>
                  <a:lnTo>
                    <a:pt x="3602" y="531"/>
                  </a:lnTo>
                  <a:lnTo>
                    <a:pt x="3616" y="445"/>
                  </a:lnTo>
                  <a:lnTo>
                    <a:pt x="3626" y="358"/>
                  </a:lnTo>
                  <a:lnTo>
                    <a:pt x="3634" y="269"/>
                  </a:lnTo>
                  <a:lnTo>
                    <a:pt x="3639" y="180"/>
                  </a:lnTo>
                  <a:lnTo>
                    <a:pt x="3642" y="90"/>
                  </a:lnTo>
                  <a:lnTo>
                    <a:pt x="3644" y="0"/>
                  </a:lnTo>
                  <a:lnTo>
                    <a:pt x="32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016240" y="1479240"/>
              <a:ext cx="25200" cy="129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432" y="217"/>
                  </a:moveTo>
                  <a:lnTo>
                    <a:pt x="432" y="191"/>
                  </a:lnTo>
                  <a:lnTo>
                    <a:pt x="427" y="166"/>
                  </a:lnTo>
                  <a:lnTo>
                    <a:pt x="422" y="143"/>
                  </a:lnTo>
                  <a:lnTo>
                    <a:pt x="414" y="124"/>
                  </a:lnTo>
                  <a:lnTo>
                    <a:pt x="404" y="103"/>
                  </a:lnTo>
                  <a:lnTo>
                    <a:pt x="392" y="85"/>
                  </a:lnTo>
                  <a:lnTo>
                    <a:pt x="380" y="71"/>
                  </a:lnTo>
                  <a:lnTo>
                    <a:pt x="366" y="55"/>
                  </a:lnTo>
                  <a:lnTo>
                    <a:pt x="348" y="42"/>
                  </a:lnTo>
                  <a:lnTo>
                    <a:pt x="332" y="32"/>
                  </a:lnTo>
                  <a:lnTo>
                    <a:pt x="314" y="22"/>
                  </a:lnTo>
                  <a:lnTo>
                    <a:pt x="295" y="15"/>
                  </a:lnTo>
                  <a:lnTo>
                    <a:pt x="277" y="8"/>
                  </a:lnTo>
                  <a:lnTo>
                    <a:pt x="257" y="5"/>
                  </a:lnTo>
                  <a:lnTo>
                    <a:pt x="237" y="2"/>
                  </a:lnTo>
                  <a:lnTo>
                    <a:pt x="216" y="0"/>
                  </a:lnTo>
                  <a:lnTo>
                    <a:pt x="196" y="2"/>
                  </a:lnTo>
                  <a:lnTo>
                    <a:pt x="176" y="5"/>
                  </a:lnTo>
                  <a:lnTo>
                    <a:pt x="156" y="8"/>
                  </a:lnTo>
                  <a:lnTo>
                    <a:pt x="138" y="15"/>
                  </a:lnTo>
                  <a:lnTo>
                    <a:pt x="117" y="22"/>
                  </a:lnTo>
                  <a:lnTo>
                    <a:pt x="101" y="32"/>
                  </a:lnTo>
                  <a:lnTo>
                    <a:pt x="83" y="42"/>
                  </a:lnTo>
                  <a:lnTo>
                    <a:pt x="67" y="55"/>
                  </a:lnTo>
                  <a:lnTo>
                    <a:pt x="53" y="71"/>
                  </a:lnTo>
                  <a:lnTo>
                    <a:pt x="40" y="85"/>
                  </a:lnTo>
                  <a:lnTo>
                    <a:pt x="27" y="103"/>
                  </a:lnTo>
                  <a:lnTo>
                    <a:pt x="19" y="124"/>
                  </a:lnTo>
                  <a:lnTo>
                    <a:pt x="11" y="143"/>
                  </a:lnTo>
                  <a:lnTo>
                    <a:pt x="5" y="166"/>
                  </a:lnTo>
                  <a:lnTo>
                    <a:pt x="1" y="191"/>
                  </a:lnTo>
                  <a:lnTo>
                    <a:pt x="0" y="217"/>
                  </a:lnTo>
                  <a:lnTo>
                    <a:pt x="432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16200" y="1471320"/>
              <a:ext cx="847800" cy="468360"/>
            </a:xfrm>
            <a:custGeom>
              <a:avLst/>
              <a:gdLst/>
              <a:ahLst/>
              <a:rect l="l" t="t" r="r" b="b"/>
              <a:pathLst>
                <a:path w="14424" h="7960">
                  <a:moveTo>
                    <a:pt x="1237" y="0"/>
                  </a:moveTo>
                  <a:lnTo>
                    <a:pt x="13076" y="0"/>
                  </a:lnTo>
                  <a:lnTo>
                    <a:pt x="14424" y="1237"/>
                  </a:lnTo>
                  <a:lnTo>
                    <a:pt x="14424" y="6818"/>
                  </a:lnTo>
                  <a:lnTo>
                    <a:pt x="13076" y="7960"/>
                  </a:lnTo>
                  <a:lnTo>
                    <a:pt x="1178" y="7960"/>
                  </a:lnTo>
                  <a:lnTo>
                    <a:pt x="0" y="6818"/>
                  </a:lnTo>
                  <a:lnTo>
                    <a:pt x="0" y="1237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21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89280" y="1468440"/>
              <a:ext cx="699840" cy="7920"/>
            </a:xfrm>
            <a:custGeom>
              <a:avLst/>
              <a:gdLst/>
              <a:ahLst/>
              <a:rect l="l" t="t" r="r" b="b"/>
              <a:pathLst>
                <a:path w="11913" h="145">
                  <a:moveTo>
                    <a:pt x="11889" y="20"/>
                  </a:moveTo>
                  <a:lnTo>
                    <a:pt x="11839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11839" y="145"/>
                  </a:lnTo>
                  <a:lnTo>
                    <a:pt x="11889" y="20"/>
                  </a:lnTo>
                  <a:lnTo>
                    <a:pt x="11839" y="145"/>
                  </a:lnTo>
                  <a:lnTo>
                    <a:pt x="11857" y="143"/>
                  </a:lnTo>
                  <a:lnTo>
                    <a:pt x="11871" y="138"/>
                  </a:lnTo>
                  <a:lnTo>
                    <a:pt x="11884" y="132"/>
                  </a:lnTo>
                  <a:lnTo>
                    <a:pt x="11894" y="121"/>
                  </a:lnTo>
                  <a:lnTo>
                    <a:pt x="11902" y="111"/>
                  </a:lnTo>
                  <a:lnTo>
                    <a:pt x="11907" y="100"/>
                  </a:lnTo>
                  <a:lnTo>
                    <a:pt x="11911" y="87"/>
                  </a:lnTo>
                  <a:lnTo>
                    <a:pt x="11913" y="73"/>
                  </a:lnTo>
                  <a:lnTo>
                    <a:pt x="11911" y="60"/>
                  </a:lnTo>
                  <a:lnTo>
                    <a:pt x="11907" y="47"/>
                  </a:lnTo>
                  <a:lnTo>
                    <a:pt x="11902" y="34"/>
                  </a:lnTo>
                  <a:lnTo>
                    <a:pt x="11894" y="23"/>
                  </a:lnTo>
                  <a:lnTo>
                    <a:pt x="11884" y="13"/>
                  </a:lnTo>
                  <a:lnTo>
                    <a:pt x="11871" y="7"/>
                  </a:lnTo>
                  <a:lnTo>
                    <a:pt x="11857" y="2"/>
                  </a:lnTo>
                  <a:lnTo>
                    <a:pt x="11839" y="0"/>
                  </a:lnTo>
                  <a:lnTo>
                    <a:pt x="11889" y="20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281200" y="1468440"/>
              <a:ext cx="87480" cy="80640"/>
            </a:xfrm>
            <a:custGeom>
              <a:avLst/>
              <a:gdLst/>
              <a:ahLst/>
              <a:rect l="l" t="t" r="r" b="b"/>
              <a:pathLst>
                <a:path w="1469" h="1362">
                  <a:moveTo>
                    <a:pt x="1467" y="1290"/>
                  </a:moveTo>
                  <a:lnTo>
                    <a:pt x="1445" y="1237"/>
                  </a:lnTo>
                  <a:lnTo>
                    <a:pt x="98" y="0"/>
                  </a:lnTo>
                  <a:lnTo>
                    <a:pt x="0" y="104"/>
                  </a:lnTo>
                  <a:lnTo>
                    <a:pt x="1347" y="1343"/>
                  </a:lnTo>
                  <a:lnTo>
                    <a:pt x="1467" y="1290"/>
                  </a:lnTo>
                  <a:lnTo>
                    <a:pt x="1347" y="1343"/>
                  </a:lnTo>
                  <a:lnTo>
                    <a:pt x="1353" y="1348"/>
                  </a:lnTo>
                  <a:lnTo>
                    <a:pt x="1360" y="1353"/>
                  </a:lnTo>
                  <a:lnTo>
                    <a:pt x="1368" y="1357"/>
                  </a:lnTo>
                  <a:lnTo>
                    <a:pt x="1374" y="1359"/>
                  </a:lnTo>
                  <a:lnTo>
                    <a:pt x="1388" y="1362"/>
                  </a:lnTo>
                  <a:lnTo>
                    <a:pt x="1401" y="1362"/>
                  </a:lnTo>
                  <a:lnTo>
                    <a:pt x="1414" y="1361"/>
                  </a:lnTo>
                  <a:lnTo>
                    <a:pt x="1427" y="1354"/>
                  </a:lnTo>
                  <a:lnTo>
                    <a:pt x="1438" y="1348"/>
                  </a:lnTo>
                  <a:lnTo>
                    <a:pt x="1448" y="1340"/>
                  </a:lnTo>
                  <a:lnTo>
                    <a:pt x="1456" y="1328"/>
                  </a:lnTo>
                  <a:lnTo>
                    <a:pt x="1462" y="1316"/>
                  </a:lnTo>
                  <a:lnTo>
                    <a:pt x="1467" y="1303"/>
                  </a:lnTo>
                  <a:lnTo>
                    <a:pt x="1469" y="1290"/>
                  </a:lnTo>
                  <a:lnTo>
                    <a:pt x="1467" y="1277"/>
                  </a:lnTo>
                  <a:lnTo>
                    <a:pt x="1462" y="1263"/>
                  </a:lnTo>
                  <a:lnTo>
                    <a:pt x="1456" y="1250"/>
                  </a:lnTo>
                  <a:lnTo>
                    <a:pt x="1445" y="1237"/>
                  </a:lnTo>
                  <a:lnTo>
                    <a:pt x="1467" y="1290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58960" y="1544400"/>
              <a:ext cx="9720" cy="333360"/>
            </a:xfrm>
            <a:custGeom>
              <a:avLst/>
              <a:gdLst/>
              <a:ahLst/>
              <a:rect l="l" t="t" r="r" b="b"/>
              <a:pathLst>
                <a:path w="144" h="5652">
                  <a:moveTo>
                    <a:pt x="120" y="5636"/>
                  </a:moveTo>
                  <a:lnTo>
                    <a:pt x="144" y="5581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5581"/>
                  </a:lnTo>
                  <a:lnTo>
                    <a:pt x="120" y="5636"/>
                  </a:lnTo>
                  <a:lnTo>
                    <a:pt x="0" y="5581"/>
                  </a:lnTo>
                  <a:lnTo>
                    <a:pt x="0" y="5589"/>
                  </a:lnTo>
                  <a:lnTo>
                    <a:pt x="1" y="5597"/>
                  </a:lnTo>
                  <a:lnTo>
                    <a:pt x="3" y="5605"/>
                  </a:lnTo>
                  <a:lnTo>
                    <a:pt x="6" y="5613"/>
                  </a:lnTo>
                  <a:lnTo>
                    <a:pt x="13" y="5624"/>
                  </a:lnTo>
                  <a:lnTo>
                    <a:pt x="24" y="5634"/>
                  </a:lnTo>
                  <a:lnTo>
                    <a:pt x="33" y="5642"/>
                  </a:lnTo>
                  <a:lnTo>
                    <a:pt x="46" y="5647"/>
                  </a:lnTo>
                  <a:lnTo>
                    <a:pt x="58" y="5650"/>
                  </a:lnTo>
                  <a:lnTo>
                    <a:pt x="73" y="5652"/>
                  </a:lnTo>
                  <a:lnTo>
                    <a:pt x="86" y="5650"/>
                  </a:lnTo>
                  <a:lnTo>
                    <a:pt x="99" y="5647"/>
                  </a:lnTo>
                  <a:lnTo>
                    <a:pt x="112" y="5642"/>
                  </a:lnTo>
                  <a:lnTo>
                    <a:pt x="122" y="5634"/>
                  </a:lnTo>
                  <a:lnTo>
                    <a:pt x="131" y="5624"/>
                  </a:lnTo>
                  <a:lnTo>
                    <a:pt x="138" y="5613"/>
                  </a:lnTo>
                  <a:lnTo>
                    <a:pt x="143" y="5597"/>
                  </a:lnTo>
                  <a:lnTo>
                    <a:pt x="144" y="5581"/>
                  </a:lnTo>
                  <a:lnTo>
                    <a:pt x="120" y="5636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279760" y="1869840"/>
              <a:ext cx="87120" cy="74880"/>
            </a:xfrm>
            <a:custGeom>
              <a:avLst/>
              <a:gdLst/>
              <a:ahLst/>
              <a:rect l="l" t="t" r="r" b="b"/>
              <a:pathLst>
                <a:path w="1467" h="1271">
                  <a:moveTo>
                    <a:pt x="72" y="1269"/>
                  </a:moveTo>
                  <a:lnTo>
                    <a:pt x="119" y="1253"/>
                  </a:lnTo>
                  <a:lnTo>
                    <a:pt x="1467" y="110"/>
                  </a:lnTo>
                  <a:lnTo>
                    <a:pt x="1374" y="0"/>
                  </a:lnTo>
                  <a:lnTo>
                    <a:pt x="26" y="1143"/>
                  </a:lnTo>
                  <a:lnTo>
                    <a:pt x="72" y="1269"/>
                  </a:lnTo>
                  <a:lnTo>
                    <a:pt x="26" y="1143"/>
                  </a:lnTo>
                  <a:lnTo>
                    <a:pt x="14" y="1157"/>
                  </a:lnTo>
                  <a:lnTo>
                    <a:pt x="8" y="1168"/>
                  </a:lnTo>
                  <a:lnTo>
                    <a:pt x="2" y="1181"/>
                  </a:lnTo>
                  <a:lnTo>
                    <a:pt x="0" y="1196"/>
                  </a:lnTo>
                  <a:lnTo>
                    <a:pt x="0" y="1210"/>
                  </a:lnTo>
                  <a:lnTo>
                    <a:pt x="4" y="1221"/>
                  </a:lnTo>
                  <a:lnTo>
                    <a:pt x="11" y="1234"/>
                  </a:lnTo>
                  <a:lnTo>
                    <a:pt x="19" y="1244"/>
                  </a:lnTo>
                  <a:lnTo>
                    <a:pt x="27" y="1255"/>
                  </a:lnTo>
                  <a:lnTo>
                    <a:pt x="39" y="1261"/>
                  </a:lnTo>
                  <a:lnTo>
                    <a:pt x="50" y="1268"/>
                  </a:lnTo>
                  <a:lnTo>
                    <a:pt x="64" y="1271"/>
                  </a:lnTo>
                  <a:lnTo>
                    <a:pt x="77" y="1271"/>
                  </a:lnTo>
                  <a:lnTo>
                    <a:pt x="92" y="1268"/>
                  </a:lnTo>
                  <a:lnTo>
                    <a:pt x="106" y="1263"/>
                  </a:lnTo>
                  <a:lnTo>
                    <a:pt x="119" y="1253"/>
                  </a:lnTo>
                  <a:lnTo>
                    <a:pt x="72" y="1269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81360" y="1936440"/>
              <a:ext cx="703080" cy="8280"/>
            </a:xfrm>
            <a:custGeom>
              <a:avLst/>
              <a:gdLst/>
              <a:ahLst/>
              <a:rect l="l" t="t" r="r" b="b"/>
              <a:pathLst>
                <a:path w="11972" h="143">
                  <a:moveTo>
                    <a:pt x="22" y="124"/>
                  </a:moveTo>
                  <a:lnTo>
                    <a:pt x="74" y="143"/>
                  </a:lnTo>
                  <a:lnTo>
                    <a:pt x="11972" y="143"/>
                  </a:lnTo>
                  <a:lnTo>
                    <a:pt x="11972" y="0"/>
                  </a:lnTo>
                  <a:lnTo>
                    <a:pt x="74" y="0"/>
                  </a:lnTo>
                  <a:lnTo>
                    <a:pt x="22" y="124"/>
                  </a:lnTo>
                  <a:lnTo>
                    <a:pt x="74" y="0"/>
                  </a:lnTo>
                  <a:lnTo>
                    <a:pt x="55" y="2"/>
                  </a:lnTo>
                  <a:lnTo>
                    <a:pt x="42" y="7"/>
                  </a:lnTo>
                  <a:lnTo>
                    <a:pt x="29" y="13"/>
                  </a:lnTo>
                  <a:lnTo>
                    <a:pt x="18" y="22"/>
                  </a:lnTo>
                  <a:lnTo>
                    <a:pt x="10" y="34"/>
                  </a:lnTo>
                  <a:lnTo>
                    <a:pt x="5" y="45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2" y="85"/>
                  </a:lnTo>
                  <a:lnTo>
                    <a:pt x="5" y="98"/>
                  </a:lnTo>
                  <a:lnTo>
                    <a:pt x="10" y="110"/>
                  </a:lnTo>
                  <a:lnTo>
                    <a:pt x="18" y="122"/>
                  </a:lnTo>
                  <a:lnTo>
                    <a:pt x="29" y="130"/>
                  </a:lnTo>
                  <a:lnTo>
                    <a:pt x="42" y="138"/>
                  </a:lnTo>
                  <a:lnTo>
                    <a:pt x="48" y="140"/>
                  </a:lnTo>
                  <a:lnTo>
                    <a:pt x="55" y="143"/>
                  </a:lnTo>
                  <a:lnTo>
                    <a:pt x="63" y="143"/>
                  </a:lnTo>
                  <a:lnTo>
                    <a:pt x="74" y="143"/>
                  </a:lnTo>
                  <a:lnTo>
                    <a:pt x="22" y="124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11520" y="1868400"/>
              <a:ext cx="75960" cy="74520"/>
            </a:xfrm>
            <a:custGeom>
              <a:avLst/>
              <a:gdLst/>
              <a:ahLst/>
              <a:rect l="l" t="t" r="r" b="b"/>
              <a:pathLst>
                <a:path w="1302" h="1269">
                  <a:moveTo>
                    <a:pt x="2" y="74"/>
                  </a:moveTo>
                  <a:lnTo>
                    <a:pt x="24" y="125"/>
                  </a:lnTo>
                  <a:lnTo>
                    <a:pt x="1200" y="1269"/>
                  </a:lnTo>
                  <a:lnTo>
                    <a:pt x="1302" y="1165"/>
                  </a:lnTo>
                  <a:lnTo>
                    <a:pt x="123" y="22"/>
                  </a:lnTo>
                  <a:lnTo>
                    <a:pt x="2" y="74"/>
                  </a:lnTo>
                  <a:lnTo>
                    <a:pt x="123" y="22"/>
                  </a:lnTo>
                  <a:lnTo>
                    <a:pt x="109" y="11"/>
                  </a:lnTo>
                  <a:lnTo>
                    <a:pt x="96" y="3"/>
                  </a:lnTo>
                  <a:lnTo>
                    <a:pt x="83" y="0"/>
                  </a:lnTo>
                  <a:lnTo>
                    <a:pt x="69" y="0"/>
                  </a:lnTo>
                  <a:lnTo>
                    <a:pt x="55" y="2"/>
                  </a:lnTo>
                  <a:lnTo>
                    <a:pt x="43" y="8"/>
                  </a:lnTo>
                  <a:lnTo>
                    <a:pt x="32" y="14"/>
                  </a:lnTo>
                  <a:lnTo>
                    <a:pt x="21" y="24"/>
                  </a:lnTo>
                  <a:lnTo>
                    <a:pt x="13" y="34"/>
                  </a:lnTo>
                  <a:lnTo>
                    <a:pt x="7" y="45"/>
                  </a:lnTo>
                  <a:lnTo>
                    <a:pt x="2" y="59"/>
                  </a:lnTo>
                  <a:lnTo>
                    <a:pt x="0" y="72"/>
                  </a:lnTo>
                  <a:lnTo>
                    <a:pt x="0" y="85"/>
                  </a:lnTo>
                  <a:lnTo>
                    <a:pt x="5" y="98"/>
                  </a:lnTo>
                  <a:lnTo>
                    <a:pt x="8" y="106"/>
                  </a:lnTo>
                  <a:lnTo>
                    <a:pt x="11" y="112"/>
                  </a:lnTo>
                  <a:lnTo>
                    <a:pt x="16" y="119"/>
                  </a:lnTo>
                  <a:lnTo>
                    <a:pt x="24" y="125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11520" y="1541160"/>
              <a:ext cx="7920" cy="331920"/>
            </a:xfrm>
            <a:custGeom>
              <a:avLst/>
              <a:gdLst/>
              <a:ahLst/>
              <a:rect l="l" t="t" r="r" b="b"/>
              <a:pathLst>
                <a:path w="143" h="5653">
                  <a:moveTo>
                    <a:pt x="19" y="22"/>
                  </a:moveTo>
                  <a:lnTo>
                    <a:pt x="0" y="72"/>
                  </a:lnTo>
                  <a:lnTo>
                    <a:pt x="0" y="5653"/>
                  </a:lnTo>
                  <a:lnTo>
                    <a:pt x="143" y="5653"/>
                  </a:lnTo>
                  <a:lnTo>
                    <a:pt x="143" y="72"/>
                  </a:lnTo>
                  <a:lnTo>
                    <a:pt x="19" y="22"/>
                  </a:lnTo>
                  <a:lnTo>
                    <a:pt x="143" y="72"/>
                  </a:lnTo>
                  <a:lnTo>
                    <a:pt x="141" y="55"/>
                  </a:lnTo>
                  <a:lnTo>
                    <a:pt x="138" y="40"/>
                  </a:lnTo>
                  <a:lnTo>
                    <a:pt x="130" y="28"/>
                  </a:lnTo>
                  <a:lnTo>
                    <a:pt x="121" y="19"/>
                  </a:lnTo>
                  <a:lnTo>
                    <a:pt x="109" y="11"/>
                  </a:lnTo>
                  <a:lnTo>
                    <a:pt x="98" y="6"/>
                  </a:lnTo>
                  <a:lnTo>
                    <a:pt x="85" y="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6"/>
                  </a:lnTo>
                  <a:lnTo>
                    <a:pt x="33" y="11"/>
                  </a:lnTo>
                  <a:lnTo>
                    <a:pt x="22" y="19"/>
                  </a:lnTo>
                  <a:lnTo>
                    <a:pt x="13" y="28"/>
                  </a:lnTo>
                  <a:lnTo>
                    <a:pt x="5" y="40"/>
                  </a:lnTo>
                  <a:lnTo>
                    <a:pt x="1" y="55"/>
                  </a:lnTo>
                  <a:lnTo>
                    <a:pt x="0" y="72"/>
                  </a:lnTo>
                  <a:lnTo>
                    <a:pt x="19" y="22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12960" y="1468440"/>
              <a:ext cx="79200" cy="79200"/>
            </a:xfrm>
            <a:custGeom>
              <a:avLst/>
              <a:gdLst/>
              <a:ahLst/>
              <a:rect l="l" t="t" r="r" b="b"/>
              <a:pathLst>
                <a:path w="1362" h="1361">
                  <a:moveTo>
                    <a:pt x="1290" y="0"/>
                  </a:moveTo>
                  <a:lnTo>
                    <a:pt x="1239" y="22"/>
                  </a:lnTo>
                  <a:lnTo>
                    <a:pt x="0" y="1260"/>
                  </a:lnTo>
                  <a:lnTo>
                    <a:pt x="104" y="1361"/>
                  </a:lnTo>
                  <a:lnTo>
                    <a:pt x="1340" y="123"/>
                  </a:lnTo>
                  <a:lnTo>
                    <a:pt x="1290" y="0"/>
                  </a:lnTo>
                  <a:lnTo>
                    <a:pt x="1340" y="123"/>
                  </a:lnTo>
                  <a:lnTo>
                    <a:pt x="1347" y="116"/>
                  </a:lnTo>
                  <a:lnTo>
                    <a:pt x="1352" y="110"/>
                  </a:lnTo>
                  <a:lnTo>
                    <a:pt x="1355" y="103"/>
                  </a:lnTo>
                  <a:lnTo>
                    <a:pt x="1359" y="97"/>
                  </a:lnTo>
                  <a:lnTo>
                    <a:pt x="1362" y="84"/>
                  </a:lnTo>
                  <a:lnTo>
                    <a:pt x="1362" y="70"/>
                  </a:lnTo>
                  <a:lnTo>
                    <a:pt x="1361" y="57"/>
                  </a:lnTo>
                  <a:lnTo>
                    <a:pt x="1355" y="44"/>
                  </a:lnTo>
                  <a:lnTo>
                    <a:pt x="1348" y="32"/>
                  </a:lnTo>
                  <a:lnTo>
                    <a:pt x="1340" y="22"/>
                  </a:lnTo>
                  <a:lnTo>
                    <a:pt x="1330" y="13"/>
                  </a:lnTo>
                  <a:lnTo>
                    <a:pt x="1319" y="7"/>
                  </a:lnTo>
                  <a:lnTo>
                    <a:pt x="1305" y="2"/>
                  </a:lnTo>
                  <a:lnTo>
                    <a:pt x="1292" y="0"/>
                  </a:lnTo>
                  <a:lnTo>
                    <a:pt x="1279" y="0"/>
                  </a:lnTo>
                  <a:lnTo>
                    <a:pt x="1265" y="4"/>
                  </a:lnTo>
                  <a:lnTo>
                    <a:pt x="1252" y="12"/>
                  </a:lnTo>
                  <a:lnTo>
                    <a:pt x="1239" y="22"/>
                  </a:lnTo>
                  <a:lnTo>
                    <a:pt x="1290" y="0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89280" y="1358640"/>
              <a:ext cx="807840" cy="112680"/>
            </a:xfrm>
            <a:custGeom>
              <a:avLst/>
              <a:gdLst/>
              <a:ahLst/>
              <a:rect l="l" t="t" r="r" b="b"/>
              <a:pathLst>
                <a:path w="13762" h="1921">
                  <a:moveTo>
                    <a:pt x="0" y="1921"/>
                  </a:moveTo>
                  <a:lnTo>
                    <a:pt x="11839" y="1921"/>
                  </a:lnTo>
                  <a:lnTo>
                    <a:pt x="13762" y="0"/>
                  </a:lnTo>
                  <a:lnTo>
                    <a:pt x="1936" y="0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47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89280" y="1466640"/>
              <a:ext cx="698400" cy="7920"/>
            </a:xfrm>
            <a:custGeom>
              <a:avLst/>
              <a:gdLst/>
              <a:ahLst/>
              <a:rect l="l" t="t" r="r" b="b"/>
              <a:pathLst>
                <a:path w="11891" h="143">
                  <a:moveTo>
                    <a:pt x="11891" y="123"/>
                  </a:moveTo>
                  <a:lnTo>
                    <a:pt x="11839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11839" y="143"/>
                  </a:lnTo>
                  <a:lnTo>
                    <a:pt x="11891" y="123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81200" y="1353960"/>
              <a:ext cx="119160" cy="120600"/>
            </a:xfrm>
            <a:custGeom>
              <a:avLst/>
              <a:gdLst/>
              <a:ahLst/>
              <a:rect l="l" t="t" r="r" b="b"/>
              <a:pathLst>
                <a:path w="2026" h="2044">
                  <a:moveTo>
                    <a:pt x="1973" y="0"/>
                  </a:moveTo>
                  <a:lnTo>
                    <a:pt x="1922" y="21"/>
                  </a:lnTo>
                  <a:lnTo>
                    <a:pt x="0" y="1941"/>
                  </a:lnTo>
                  <a:lnTo>
                    <a:pt x="102" y="2044"/>
                  </a:lnTo>
                  <a:lnTo>
                    <a:pt x="2026" y="123"/>
                  </a:lnTo>
                  <a:lnTo>
                    <a:pt x="1973" y="0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698720" y="1353960"/>
              <a:ext cx="698400" cy="7920"/>
            </a:xfrm>
            <a:custGeom>
              <a:avLst/>
              <a:gdLst/>
              <a:ahLst/>
              <a:rect l="l" t="t" r="r" b="b"/>
              <a:pathLst>
                <a:path w="11878" h="145">
                  <a:moveTo>
                    <a:pt x="0" y="21"/>
                  </a:moveTo>
                  <a:lnTo>
                    <a:pt x="52" y="145"/>
                  </a:lnTo>
                  <a:lnTo>
                    <a:pt x="11878" y="145"/>
                  </a:lnTo>
                  <a:lnTo>
                    <a:pt x="11878" y="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586040" y="1355760"/>
              <a:ext cx="119160" cy="118800"/>
            </a:xfrm>
            <a:custGeom>
              <a:avLst/>
              <a:gdLst/>
              <a:ahLst/>
              <a:rect l="l" t="t" r="r" b="b"/>
              <a:pathLst>
                <a:path w="2037" h="2043">
                  <a:moveTo>
                    <a:pt x="51" y="2043"/>
                  </a:moveTo>
                  <a:lnTo>
                    <a:pt x="101" y="2023"/>
                  </a:lnTo>
                  <a:lnTo>
                    <a:pt x="2037" y="102"/>
                  </a:lnTo>
                  <a:lnTo>
                    <a:pt x="1935" y="0"/>
                  </a:lnTo>
                  <a:lnTo>
                    <a:pt x="0" y="1920"/>
                  </a:lnTo>
                  <a:lnTo>
                    <a:pt x="51" y="2043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81200" y="1358640"/>
              <a:ext cx="189000" cy="185760"/>
            </a:xfrm>
            <a:custGeom>
              <a:avLst/>
              <a:gdLst/>
              <a:ahLst/>
              <a:rect l="l" t="t" r="r" b="b"/>
              <a:pathLst>
                <a:path w="3221" h="3169">
                  <a:moveTo>
                    <a:pt x="0" y="1932"/>
                  </a:moveTo>
                  <a:lnTo>
                    <a:pt x="1345" y="3169"/>
                  </a:lnTo>
                  <a:lnTo>
                    <a:pt x="3221" y="1284"/>
                  </a:lnTo>
                  <a:lnTo>
                    <a:pt x="1921" y="0"/>
                  </a:lnTo>
                  <a:lnTo>
                    <a:pt x="0" y="1932"/>
                  </a:lnTo>
                  <a:close/>
                </a:path>
              </a:pathLst>
            </a:custGeom>
            <a:solidFill>
              <a:srgbClr val="329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77960" y="1468440"/>
              <a:ext cx="86040" cy="79200"/>
            </a:xfrm>
            <a:custGeom>
              <a:avLst/>
              <a:gdLst/>
              <a:ahLst/>
              <a:rect l="l" t="t" r="r" b="b"/>
              <a:pathLst>
                <a:path w="1447" h="1343">
                  <a:moveTo>
                    <a:pt x="1447" y="1341"/>
                  </a:moveTo>
                  <a:lnTo>
                    <a:pt x="1445" y="1237"/>
                  </a:lnTo>
                  <a:lnTo>
                    <a:pt x="98" y="0"/>
                  </a:lnTo>
                  <a:lnTo>
                    <a:pt x="0" y="104"/>
                  </a:lnTo>
                  <a:lnTo>
                    <a:pt x="1346" y="1343"/>
                  </a:lnTo>
                  <a:lnTo>
                    <a:pt x="1447" y="1341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57520" y="1431720"/>
              <a:ext cx="115920" cy="115920"/>
            </a:xfrm>
            <a:custGeom>
              <a:avLst/>
              <a:gdLst/>
              <a:ahLst/>
              <a:rect l="l" t="t" r="r" b="b"/>
              <a:pathLst>
                <a:path w="1976" h="1985">
                  <a:moveTo>
                    <a:pt x="1976" y="0"/>
                  </a:moveTo>
                  <a:lnTo>
                    <a:pt x="1875" y="0"/>
                  </a:lnTo>
                  <a:lnTo>
                    <a:pt x="0" y="1884"/>
                  </a:lnTo>
                  <a:lnTo>
                    <a:pt x="103" y="1985"/>
                  </a:lnTo>
                  <a:lnTo>
                    <a:pt x="1976" y="101"/>
                  </a:lnTo>
                  <a:lnTo>
                    <a:pt x="1976" y="0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91000" y="1355760"/>
              <a:ext cx="82440" cy="80640"/>
            </a:xfrm>
            <a:custGeom>
              <a:avLst/>
              <a:gdLst/>
              <a:ahLst/>
              <a:rect l="l" t="t" r="r" b="b"/>
              <a:pathLst>
                <a:path w="1400" h="1385">
                  <a:moveTo>
                    <a:pt x="0" y="0"/>
                  </a:moveTo>
                  <a:lnTo>
                    <a:pt x="0" y="101"/>
                  </a:lnTo>
                  <a:lnTo>
                    <a:pt x="1299" y="1385"/>
                  </a:lnTo>
                  <a:lnTo>
                    <a:pt x="1400" y="128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77960" y="1355760"/>
              <a:ext cx="119160" cy="118800"/>
            </a:xfrm>
            <a:custGeom>
              <a:avLst/>
              <a:gdLst/>
              <a:ahLst/>
              <a:rect l="l" t="t" r="r" b="b"/>
              <a:pathLst>
                <a:path w="2023" h="2032">
                  <a:moveTo>
                    <a:pt x="1" y="2032"/>
                  </a:moveTo>
                  <a:lnTo>
                    <a:pt x="101" y="2031"/>
                  </a:lnTo>
                  <a:lnTo>
                    <a:pt x="2023" y="101"/>
                  </a:lnTo>
                  <a:lnTo>
                    <a:pt x="1921" y="0"/>
                  </a:lnTo>
                  <a:lnTo>
                    <a:pt x="0" y="1930"/>
                  </a:lnTo>
                  <a:lnTo>
                    <a:pt x="1" y="2032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44640" y="1665000"/>
              <a:ext cx="7938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544640" y="1660320"/>
              <a:ext cx="797040" cy="7920"/>
            </a:xfrm>
            <a:custGeom>
              <a:avLst/>
              <a:gdLst/>
              <a:ahLst/>
              <a:rect l="l" t="t" r="r" b="b"/>
              <a:pathLst>
                <a:path w="13559" h="144">
                  <a:moveTo>
                    <a:pt x="13559" y="73"/>
                  </a:moveTo>
                  <a:lnTo>
                    <a:pt x="13487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3487" y="144"/>
                  </a:lnTo>
                  <a:lnTo>
                    <a:pt x="13559" y="73"/>
                  </a:lnTo>
                  <a:lnTo>
                    <a:pt x="13559" y="0"/>
                  </a:lnTo>
                  <a:lnTo>
                    <a:pt x="13487" y="0"/>
                  </a:lnTo>
                  <a:lnTo>
                    <a:pt x="13559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33760" y="1665000"/>
              <a:ext cx="7920" cy="84240"/>
            </a:xfrm>
            <a:custGeom>
              <a:avLst/>
              <a:gdLst/>
              <a:ahLst/>
              <a:rect l="l" t="t" r="r" b="b"/>
              <a:pathLst>
                <a:path w="144" h="1454">
                  <a:moveTo>
                    <a:pt x="72" y="1454"/>
                  </a:moveTo>
                  <a:lnTo>
                    <a:pt x="144" y="1382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382"/>
                  </a:lnTo>
                  <a:lnTo>
                    <a:pt x="72" y="1454"/>
                  </a:lnTo>
                  <a:lnTo>
                    <a:pt x="144" y="1454"/>
                  </a:lnTo>
                  <a:lnTo>
                    <a:pt x="144" y="1382"/>
                  </a:lnTo>
                  <a:lnTo>
                    <a:pt x="72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39960" y="1741320"/>
              <a:ext cx="798480" cy="7920"/>
            </a:xfrm>
            <a:custGeom>
              <a:avLst/>
              <a:gdLst/>
              <a:ahLst/>
              <a:rect l="l" t="t" r="r" b="b"/>
              <a:pathLst>
                <a:path w="13559" h="145">
                  <a:moveTo>
                    <a:pt x="0" y="73"/>
                  </a:moveTo>
                  <a:lnTo>
                    <a:pt x="72" y="145"/>
                  </a:lnTo>
                  <a:lnTo>
                    <a:pt x="13559" y="145"/>
                  </a:lnTo>
                  <a:lnTo>
                    <a:pt x="13559" y="0"/>
                  </a:lnTo>
                  <a:lnTo>
                    <a:pt x="72" y="0"/>
                  </a:lnTo>
                  <a:lnTo>
                    <a:pt x="0" y="73"/>
                  </a:lnTo>
                  <a:lnTo>
                    <a:pt x="0" y="145"/>
                  </a:lnTo>
                  <a:lnTo>
                    <a:pt x="72" y="14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39960" y="1660320"/>
              <a:ext cx="9360" cy="85680"/>
            </a:xfrm>
            <a:custGeom>
              <a:avLst/>
              <a:gdLst/>
              <a:ahLst/>
              <a:rect l="l" t="t" r="r" b="b"/>
              <a:pathLst>
                <a:path w="144" h="1455">
                  <a:moveTo>
                    <a:pt x="72" y="0"/>
                  </a:moveTo>
                  <a:lnTo>
                    <a:pt x="0" y="73"/>
                  </a:lnTo>
                  <a:lnTo>
                    <a:pt x="0" y="1455"/>
                  </a:lnTo>
                  <a:lnTo>
                    <a:pt x="144" y="1455"/>
                  </a:lnTo>
                  <a:lnTo>
                    <a:pt x="144" y="73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6720" y="1514160"/>
              <a:ext cx="212760" cy="203400"/>
            </a:xfrm>
            <a:custGeom>
              <a:avLst/>
              <a:gdLst/>
              <a:ahLst/>
              <a:rect l="l" t="t" r="r" b="b"/>
              <a:pathLst>
                <a:path w="3636" h="3459">
                  <a:moveTo>
                    <a:pt x="0" y="0"/>
                  </a:moveTo>
                  <a:lnTo>
                    <a:pt x="2" y="92"/>
                  </a:lnTo>
                  <a:lnTo>
                    <a:pt x="5" y="181"/>
                  </a:lnTo>
                  <a:lnTo>
                    <a:pt x="10" y="271"/>
                  </a:lnTo>
                  <a:lnTo>
                    <a:pt x="18" y="358"/>
                  </a:lnTo>
                  <a:lnTo>
                    <a:pt x="28" y="447"/>
                  </a:lnTo>
                  <a:lnTo>
                    <a:pt x="42" y="535"/>
                  </a:lnTo>
                  <a:lnTo>
                    <a:pt x="57" y="622"/>
                  </a:lnTo>
                  <a:lnTo>
                    <a:pt x="73" y="708"/>
                  </a:lnTo>
                  <a:lnTo>
                    <a:pt x="92" y="792"/>
                  </a:lnTo>
                  <a:lnTo>
                    <a:pt x="113" y="877"/>
                  </a:lnTo>
                  <a:lnTo>
                    <a:pt x="137" y="961"/>
                  </a:lnTo>
                  <a:lnTo>
                    <a:pt x="161" y="1041"/>
                  </a:lnTo>
                  <a:lnTo>
                    <a:pt x="188" y="1123"/>
                  </a:lnTo>
                  <a:lnTo>
                    <a:pt x="218" y="1205"/>
                  </a:lnTo>
                  <a:lnTo>
                    <a:pt x="248" y="1284"/>
                  </a:lnTo>
                  <a:lnTo>
                    <a:pt x="281" y="1362"/>
                  </a:lnTo>
                  <a:lnTo>
                    <a:pt x="317" y="1441"/>
                  </a:lnTo>
                  <a:lnTo>
                    <a:pt x="353" y="1517"/>
                  </a:lnTo>
                  <a:lnTo>
                    <a:pt x="393" y="1592"/>
                  </a:lnTo>
                  <a:lnTo>
                    <a:pt x="432" y="1666"/>
                  </a:lnTo>
                  <a:lnTo>
                    <a:pt x="476" y="1740"/>
                  </a:lnTo>
                  <a:lnTo>
                    <a:pt x="521" y="1811"/>
                  </a:lnTo>
                  <a:lnTo>
                    <a:pt x="566" y="1883"/>
                  </a:lnTo>
                  <a:lnTo>
                    <a:pt x="614" y="1952"/>
                  </a:lnTo>
                  <a:lnTo>
                    <a:pt x="665" y="2021"/>
                  </a:lnTo>
                  <a:lnTo>
                    <a:pt x="716" y="2087"/>
                  </a:lnTo>
                  <a:lnTo>
                    <a:pt x="767" y="2153"/>
                  </a:lnTo>
                  <a:lnTo>
                    <a:pt x="822" y="2218"/>
                  </a:lnTo>
                  <a:lnTo>
                    <a:pt x="879" y="2281"/>
                  </a:lnTo>
                  <a:lnTo>
                    <a:pt x="936" y="2342"/>
                  </a:lnTo>
                  <a:lnTo>
                    <a:pt x="995" y="2402"/>
                  </a:lnTo>
                  <a:lnTo>
                    <a:pt x="1055" y="2463"/>
                  </a:lnTo>
                  <a:lnTo>
                    <a:pt x="1119" y="2519"/>
                  </a:lnTo>
                  <a:lnTo>
                    <a:pt x="1182" y="2575"/>
                  </a:lnTo>
                  <a:lnTo>
                    <a:pt x="1246" y="2630"/>
                  </a:lnTo>
                  <a:lnTo>
                    <a:pt x="1313" y="2683"/>
                  </a:lnTo>
                  <a:lnTo>
                    <a:pt x="1381" y="2735"/>
                  </a:lnTo>
                  <a:lnTo>
                    <a:pt x="1450" y="2784"/>
                  </a:lnTo>
                  <a:lnTo>
                    <a:pt x="1521" y="2833"/>
                  </a:lnTo>
                  <a:lnTo>
                    <a:pt x="1593" y="2879"/>
                  </a:lnTo>
                  <a:lnTo>
                    <a:pt x="1665" y="2926"/>
                  </a:lnTo>
                  <a:lnTo>
                    <a:pt x="1739" y="2969"/>
                  </a:lnTo>
                  <a:lnTo>
                    <a:pt x="1816" y="3011"/>
                  </a:lnTo>
                  <a:lnTo>
                    <a:pt x="1893" y="3051"/>
                  </a:lnTo>
                  <a:lnTo>
                    <a:pt x="1970" y="3089"/>
                  </a:lnTo>
                  <a:lnTo>
                    <a:pt x="2049" y="3125"/>
                  </a:lnTo>
                  <a:lnTo>
                    <a:pt x="2129" y="3160"/>
                  </a:lnTo>
                  <a:lnTo>
                    <a:pt x="2210" y="3194"/>
                  </a:lnTo>
                  <a:lnTo>
                    <a:pt x="2292" y="3225"/>
                  </a:lnTo>
                  <a:lnTo>
                    <a:pt x="2376" y="3255"/>
                  </a:lnTo>
                  <a:lnTo>
                    <a:pt x="2461" y="3282"/>
                  </a:lnTo>
                  <a:lnTo>
                    <a:pt x="2546" y="3308"/>
                  </a:lnTo>
                  <a:lnTo>
                    <a:pt x="2631" y="3332"/>
                  </a:lnTo>
                  <a:lnTo>
                    <a:pt x="2719" y="3353"/>
                  </a:lnTo>
                  <a:lnTo>
                    <a:pt x="2808" y="3372"/>
                  </a:lnTo>
                  <a:lnTo>
                    <a:pt x="2896" y="3390"/>
                  </a:lnTo>
                  <a:lnTo>
                    <a:pt x="2986" y="3406"/>
                  </a:lnTo>
                  <a:lnTo>
                    <a:pt x="3077" y="3419"/>
                  </a:lnTo>
                  <a:lnTo>
                    <a:pt x="3169" y="3431"/>
                  </a:lnTo>
                  <a:lnTo>
                    <a:pt x="3260" y="3441"/>
                  </a:lnTo>
                  <a:lnTo>
                    <a:pt x="3353" y="3449"/>
                  </a:lnTo>
                  <a:lnTo>
                    <a:pt x="3447" y="3454"/>
                  </a:lnTo>
                  <a:lnTo>
                    <a:pt x="3541" y="3457"/>
                  </a:lnTo>
                  <a:lnTo>
                    <a:pt x="3636" y="3459"/>
                  </a:lnTo>
                  <a:lnTo>
                    <a:pt x="3636" y="3044"/>
                  </a:lnTo>
                  <a:lnTo>
                    <a:pt x="3549" y="3044"/>
                  </a:lnTo>
                  <a:lnTo>
                    <a:pt x="3464" y="3041"/>
                  </a:lnTo>
                  <a:lnTo>
                    <a:pt x="3382" y="3036"/>
                  </a:lnTo>
                  <a:lnTo>
                    <a:pt x="3299" y="3029"/>
                  </a:lnTo>
                  <a:lnTo>
                    <a:pt x="3215" y="3020"/>
                  </a:lnTo>
                  <a:lnTo>
                    <a:pt x="3134" y="3011"/>
                  </a:lnTo>
                  <a:lnTo>
                    <a:pt x="3052" y="2998"/>
                  </a:lnTo>
                  <a:lnTo>
                    <a:pt x="2973" y="2984"/>
                  </a:lnTo>
                  <a:lnTo>
                    <a:pt x="2894" y="2967"/>
                  </a:lnTo>
                  <a:lnTo>
                    <a:pt x="2814" y="2949"/>
                  </a:lnTo>
                  <a:lnTo>
                    <a:pt x="2737" y="2931"/>
                  </a:lnTo>
                  <a:lnTo>
                    <a:pt x="2660" y="2909"/>
                  </a:lnTo>
                  <a:lnTo>
                    <a:pt x="2585" y="2886"/>
                  </a:lnTo>
                  <a:lnTo>
                    <a:pt x="2509" y="2863"/>
                  </a:lnTo>
                  <a:lnTo>
                    <a:pt x="2435" y="2836"/>
                  </a:lnTo>
                  <a:lnTo>
                    <a:pt x="2361" y="2808"/>
                  </a:lnTo>
                  <a:lnTo>
                    <a:pt x="2289" y="2779"/>
                  </a:lnTo>
                  <a:lnTo>
                    <a:pt x="2219" y="2749"/>
                  </a:lnTo>
                  <a:lnTo>
                    <a:pt x="2148" y="2717"/>
                  </a:lnTo>
                  <a:lnTo>
                    <a:pt x="2080" y="2681"/>
                  </a:lnTo>
                  <a:lnTo>
                    <a:pt x="2012" y="2645"/>
                  </a:lnTo>
                  <a:lnTo>
                    <a:pt x="1944" y="2609"/>
                  </a:lnTo>
                  <a:lnTo>
                    <a:pt x="1879" y="2570"/>
                  </a:lnTo>
                  <a:lnTo>
                    <a:pt x="1814" y="2530"/>
                  </a:lnTo>
                  <a:lnTo>
                    <a:pt x="1751" y="2489"/>
                  </a:lnTo>
                  <a:lnTo>
                    <a:pt x="1689" y="2445"/>
                  </a:lnTo>
                  <a:lnTo>
                    <a:pt x="1628" y="2402"/>
                  </a:lnTo>
                  <a:lnTo>
                    <a:pt x="1568" y="2358"/>
                  </a:lnTo>
                  <a:lnTo>
                    <a:pt x="1509" y="2312"/>
                  </a:lnTo>
                  <a:lnTo>
                    <a:pt x="1451" y="2263"/>
                  </a:lnTo>
                  <a:lnTo>
                    <a:pt x="1395" y="2214"/>
                  </a:lnTo>
                  <a:lnTo>
                    <a:pt x="1342" y="2162"/>
                  </a:lnTo>
                  <a:lnTo>
                    <a:pt x="1286" y="2110"/>
                  </a:lnTo>
                  <a:lnTo>
                    <a:pt x="1235" y="2057"/>
                  </a:lnTo>
                  <a:lnTo>
                    <a:pt x="1185" y="2002"/>
                  </a:lnTo>
                  <a:lnTo>
                    <a:pt x="1135" y="1947"/>
                  </a:lnTo>
                  <a:lnTo>
                    <a:pt x="1087" y="1891"/>
                  </a:lnTo>
                  <a:lnTo>
                    <a:pt x="1042" y="1833"/>
                  </a:lnTo>
                  <a:lnTo>
                    <a:pt x="997" y="1775"/>
                  </a:lnTo>
                  <a:lnTo>
                    <a:pt x="954" y="1713"/>
                  </a:lnTo>
                  <a:lnTo>
                    <a:pt x="910" y="1653"/>
                  </a:lnTo>
                  <a:lnTo>
                    <a:pt x="870" y="1590"/>
                  </a:lnTo>
                  <a:lnTo>
                    <a:pt x="832" y="1526"/>
                  </a:lnTo>
                  <a:lnTo>
                    <a:pt x="795" y="1464"/>
                  </a:lnTo>
                  <a:lnTo>
                    <a:pt x="759" y="1398"/>
                  </a:lnTo>
                  <a:lnTo>
                    <a:pt x="726" y="1332"/>
                  </a:lnTo>
                  <a:lnTo>
                    <a:pt x="692" y="1264"/>
                  </a:lnTo>
                  <a:lnTo>
                    <a:pt x="662" y="1198"/>
                  </a:lnTo>
                  <a:lnTo>
                    <a:pt x="633" y="1128"/>
                  </a:lnTo>
                  <a:lnTo>
                    <a:pt x="606" y="1059"/>
                  </a:lnTo>
                  <a:lnTo>
                    <a:pt x="580" y="988"/>
                  </a:lnTo>
                  <a:lnTo>
                    <a:pt x="556" y="917"/>
                  </a:lnTo>
                  <a:lnTo>
                    <a:pt x="535" y="844"/>
                  </a:lnTo>
                  <a:lnTo>
                    <a:pt x="513" y="771"/>
                  </a:lnTo>
                  <a:lnTo>
                    <a:pt x="496" y="697"/>
                  </a:lnTo>
                  <a:lnTo>
                    <a:pt x="477" y="623"/>
                  </a:lnTo>
                  <a:lnTo>
                    <a:pt x="463" y="548"/>
                  </a:lnTo>
                  <a:lnTo>
                    <a:pt x="451" y="472"/>
                  </a:lnTo>
                  <a:lnTo>
                    <a:pt x="440" y="395"/>
                  </a:lnTo>
                  <a:lnTo>
                    <a:pt x="431" y="317"/>
                  </a:lnTo>
                  <a:lnTo>
                    <a:pt x="424" y="239"/>
                  </a:lnTo>
                  <a:lnTo>
                    <a:pt x="419" y="159"/>
                  </a:lnTo>
                  <a:lnTo>
                    <a:pt x="416" y="82"/>
                  </a:lnTo>
                  <a:lnTo>
                    <a:pt x="4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565520" y="1514160"/>
              <a:ext cx="214200" cy="190800"/>
            </a:xfrm>
            <a:custGeom>
              <a:avLst/>
              <a:gdLst/>
              <a:ahLst/>
              <a:rect l="l" t="t" r="r" b="b"/>
              <a:pathLst>
                <a:path w="3635" h="3247">
                  <a:moveTo>
                    <a:pt x="3221" y="0"/>
                  </a:moveTo>
                  <a:lnTo>
                    <a:pt x="3220" y="82"/>
                  </a:lnTo>
                  <a:lnTo>
                    <a:pt x="3216" y="159"/>
                  </a:lnTo>
                  <a:lnTo>
                    <a:pt x="3211" y="238"/>
                  </a:lnTo>
                  <a:lnTo>
                    <a:pt x="3204" y="314"/>
                  </a:lnTo>
                  <a:lnTo>
                    <a:pt x="3196" y="390"/>
                  </a:lnTo>
                  <a:lnTo>
                    <a:pt x="3184" y="466"/>
                  </a:lnTo>
                  <a:lnTo>
                    <a:pt x="3173" y="540"/>
                  </a:lnTo>
                  <a:lnTo>
                    <a:pt x="3157" y="613"/>
                  </a:lnTo>
                  <a:lnTo>
                    <a:pt x="3141" y="684"/>
                  </a:lnTo>
                  <a:lnTo>
                    <a:pt x="3122" y="756"/>
                  </a:lnTo>
                  <a:lnTo>
                    <a:pt x="3101" y="826"/>
                  </a:lnTo>
                  <a:lnTo>
                    <a:pt x="3082" y="895"/>
                  </a:lnTo>
                  <a:lnTo>
                    <a:pt x="3056" y="962"/>
                  </a:lnTo>
                  <a:lnTo>
                    <a:pt x="3032" y="1030"/>
                  </a:lnTo>
                  <a:lnTo>
                    <a:pt x="3005" y="1095"/>
                  </a:lnTo>
                  <a:lnTo>
                    <a:pt x="2974" y="1160"/>
                  </a:lnTo>
                  <a:lnTo>
                    <a:pt x="2945" y="1224"/>
                  </a:lnTo>
                  <a:lnTo>
                    <a:pt x="2913" y="1287"/>
                  </a:lnTo>
                  <a:lnTo>
                    <a:pt x="2878" y="1349"/>
                  </a:lnTo>
                  <a:lnTo>
                    <a:pt x="2844" y="1409"/>
                  </a:lnTo>
                  <a:lnTo>
                    <a:pt x="2807" y="1469"/>
                  </a:lnTo>
                  <a:lnTo>
                    <a:pt x="2769" y="1526"/>
                  </a:lnTo>
                  <a:lnTo>
                    <a:pt x="2729" y="1584"/>
                  </a:lnTo>
                  <a:lnTo>
                    <a:pt x="2687" y="1640"/>
                  </a:lnTo>
                  <a:lnTo>
                    <a:pt x="2644" y="1695"/>
                  </a:lnTo>
                  <a:lnTo>
                    <a:pt x="2599" y="1750"/>
                  </a:lnTo>
                  <a:lnTo>
                    <a:pt x="2554" y="1803"/>
                  </a:lnTo>
                  <a:lnTo>
                    <a:pt x="2505" y="1854"/>
                  </a:lnTo>
                  <a:lnTo>
                    <a:pt x="2457" y="1904"/>
                  </a:lnTo>
                  <a:lnTo>
                    <a:pt x="2406" y="1954"/>
                  </a:lnTo>
                  <a:lnTo>
                    <a:pt x="2354" y="2002"/>
                  </a:lnTo>
                  <a:lnTo>
                    <a:pt x="2300" y="2048"/>
                  </a:lnTo>
                  <a:lnTo>
                    <a:pt x="2247" y="2095"/>
                  </a:lnTo>
                  <a:lnTo>
                    <a:pt x="2191" y="2140"/>
                  </a:lnTo>
                  <a:lnTo>
                    <a:pt x="2135" y="2183"/>
                  </a:lnTo>
                  <a:lnTo>
                    <a:pt x="2077" y="2225"/>
                  </a:lnTo>
                  <a:lnTo>
                    <a:pt x="2016" y="2265"/>
                  </a:lnTo>
                  <a:lnTo>
                    <a:pt x="1955" y="2304"/>
                  </a:lnTo>
                  <a:lnTo>
                    <a:pt x="1893" y="2342"/>
                  </a:lnTo>
                  <a:lnTo>
                    <a:pt x="1830" y="2379"/>
                  </a:lnTo>
                  <a:lnTo>
                    <a:pt x="1765" y="2416"/>
                  </a:lnTo>
                  <a:lnTo>
                    <a:pt x="1700" y="2449"/>
                  </a:lnTo>
                  <a:lnTo>
                    <a:pt x="1632" y="2482"/>
                  </a:lnTo>
                  <a:lnTo>
                    <a:pt x="1565" y="2514"/>
                  </a:lnTo>
                  <a:lnTo>
                    <a:pt x="1496" y="2543"/>
                  </a:lnTo>
                  <a:lnTo>
                    <a:pt x="1425" y="2572"/>
                  </a:lnTo>
                  <a:lnTo>
                    <a:pt x="1354" y="2601"/>
                  </a:lnTo>
                  <a:lnTo>
                    <a:pt x="1281" y="2625"/>
                  </a:lnTo>
                  <a:lnTo>
                    <a:pt x="1207" y="2651"/>
                  </a:lnTo>
                  <a:lnTo>
                    <a:pt x="1135" y="2673"/>
                  </a:lnTo>
                  <a:lnTo>
                    <a:pt x="1058" y="2694"/>
                  </a:lnTo>
                  <a:lnTo>
                    <a:pt x="981" y="2715"/>
                  </a:lnTo>
                  <a:lnTo>
                    <a:pt x="905" y="2733"/>
                  </a:lnTo>
                  <a:lnTo>
                    <a:pt x="826" y="2750"/>
                  </a:lnTo>
                  <a:lnTo>
                    <a:pt x="746" y="2765"/>
                  </a:lnTo>
                  <a:lnTo>
                    <a:pt x="666" y="2779"/>
                  </a:lnTo>
                  <a:lnTo>
                    <a:pt x="587" y="2791"/>
                  </a:lnTo>
                  <a:lnTo>
                    <a:pt x="505" y="2802"/>
                  </a:lnTo>
                  <a:lnTo>
                    <a:pt x="424" y="2811"/>
                  </a:lnTo>
                  <a:lnTo>
                    <a:pt x="339" y="2818"/>
                  </a:lnTo>
                  <a:lnTo>
                    <a:pt x="255" y="2824"/>
                  </a:lnTo>
                  <a:lnTo>
                    <a:pt x="170" y="2829"/>
                  </a:lnTo>
                  <a:lnTo>
                    <a:pt x="85" y="2831"/>
                  </a:lnTo>
                  <a:lnTo>
                    <a:pt x="0" y="2831"/>
                  </a:lnTo>
                  <a:lnTo>
                    <a:pt x="0" y="3247"/>
                  </a:lnTo>
                  <a:lnTo>
                    <a:pt x="93" y="3245"/>
                  </a:lnTo>
                  <a:lnTo>
                    <a:pt x="188" y="3242"/>
                  </a:lnTo>
                  <a:lnTo>
                    <a:pt x="281" y="3239"/>
                  </a:lnTo>
                  <a:lnTo>
                    <a:pt x="372" y="3232"/>
                  </a:lnTo>
                  <a:lnTo>
                    <a:pt x="464" y="3223"/>
                  </a:lnTo>
                  <a:lnTo>
                    <a:pt x="554" y="3213"/>
                  </a:lnTo>
                  <a:lnTo>
                    <a:pt x="643" y="3202"/>
                  </a:lnTo>
                  <a:lnTo>
                    <a:pt x="733" y="3187"/>
                  </a:lnTo>
                  <a:lnTo>
                    <a:pt x="822" y="3172"/>
                  </a:lnTo>
                  <a:lnTo>
                    <a:pt x="910" y="3155"/>
                  </a:lnTo>
                  <a:lnTo>
                    <a:pt x="996" y="3137"/>
                  </a:lnTo>
                  <a:lnTo>
                    <a:pt x="1083" y="3115"/>
                  </a:lnTo>
                  <a:lnTo>
                    <a:pt x="1167" y="3094"/>
                  </a:lnTo>
                  <a:lnTo>
                    <a:pt x="1250" y="3070"/>
                  </a:lnTo>
                  <a:lnTo>
                    <a:pt x="1334" y="3044"/>
                  </a:lnTo>
                  <a:lnTo>
                    <a:pt x="1416" y="3017"/>
                  </a:lnTo>
                  <a:lnTo>
                    <a:pt x="1497" y="2990"/>
                  </a:lnTo>
                  <a:lnTo>
                    <a:pt x="1576" y="2958"/>
                  </a:lnTo>
                  <a:lnTo>
                    <a:pt x="1656" y="2924"/>
                  </a:lnTo>
                  <a:lnTo>
                    <a:pt x="1733" y="2892"/>
                  </a:lnTo>
                  <a:lnTo>
                    <a:pt x="1812" y="2856"/>
                  </a:lnTo>
                  <a:lnTo>
                    <a:pt x="1886" y="2820"/>
                  </a:lnTo>
                  <a:lnTo>
                    <a:pt x="1960" y="2779"/>
                  </a:lnTo>
                  <a:lnTo>
                    <a:pt x="2035" y="2739"/>
                  </a:lnTo>
                  <a:lnTo>
                    <a:pt x="2106" y="2699"/>
                  </a:lnTo>
                  <a:lnTo>
                    <a:pt x="2176" y="2655"/>
                  </a:lnTo>
                  <a:lnTo>
                    <a:pt x="2246" y="2610"/>
                  </a:lnTo>
                  <a:lnTo>
                    <a:pt x="2314" y="2564"/>
                  </a:lnTo>
                  <a:lnTo>
                    <a:pt x="2380" y="2516"/>
                  </a:lnTo>
                  <a:lnTo>
                    <a:pt x="2446" y="2466"/>
                  </a:lnTo>
                  <a:lnTo>
                    <a:pt x="2510" y="2414"/>
                  </a:lnTo>
                  <a:lnTo>
                    <a:pt x="2573" y="2361"/>
                  </a:lnTo>
                  <a:lnTo>
                    <a:pt x="2634" y="2308"/>
                  </a:lnTo>
                  <a:lnTo>
                    <a:pt x="2693" y="2253"/>
                  </a:lnTo>
                  <a:lnTo>
                    <a:pt x="2750" y="2196"/>
                  </a:lnTo>
                  <a:lnTo>
                    <a:pt x="2807" y="2138"/>
                  </a:lnTo>
                  <a:lnTo>
                    <a:pt x="2862" y="2079"/>
                  </a:lnTo>
                  <a:lnTo>
                    <a:pt x="2915" y="2018"/>
                  </a:lnTo>
                  <a:lnTo>
                    <a:pt x="2966" y="1954"/>
                  </a:lnTo>
                  <a:lnTo>
                    <a:pt x="3016" y="1891"/>
                  </a:lnTo>
                  <a:lnTo>
                    <a:pt x="3064" y="1826"/>
                  </a:lnTo>
                  <a:lnTo>
                    <a:pt x="3111" y="1759"/>
                  </a:lnTo>
                  <a:lnTo>
                    <a:pt x="3156" y="1692"/>
                  </a:lnTo>
                  <a:lnTo>
                    <a:pt x="3199" y="1621"/>
                  </a:lnTo>
                  <a:lnTo>
                    <a:pt x="3241" y="1552"/>
                  </a:lnTo>
                  <a:lnTo>
                    <a:pt x="3279" y="1480"/>
                  </a:lnTo>
                  <a:lnTo>
                    <a:pt x="3316" y="1407"/>
                  </a:lnTo>
                  <a:lnTo>
                    <a:pt x="3353" y="1332"/>
                  </a:lnTo>
                  <a:lnTo>
                    <a:pt x="3386" y="1258"/>
                  </a:lnTo>
                  <a:lnTo>
                    <a:pt x="3417" y="1181"/>
                  </a:lnTo>
                  <a:lnTo>
                    <a:pt x="3446" y="1104"/>
                  </a:lnTo>
                  <a:lnTo>
                    <a:pt x="3474" y="1025"/>
                  </a:lnTo>
                  <a:lnTo>
                    <a:pt x="3499" y="945"/>
                  </a:lnTo>
                  <a:lnTo>
                    <a:pt x="3523" y="864"/>
                  </a:lnTo>
                  <a:lnTo>
                    <a:pt x="3544" y="782"/>
                  </a:lnTo>
                  <a:lnTo>
                    <a:pt x="3562" y="699"/>
                  </a:lnTo>
                  <a:lnTo>
                    <a:pt x="3579" y="615"/>
                  </a:lnTo>
                  <a:lnTo>
                    <a:pt x="3594" y="530"/>
                  </a:lnTo>
                  <a:lnTo>
                    <a:pt x="3607" y="444"/>
                  </a:lnTo>
                  <a:lnTo>
                    <a:pt x="3618" y="357"/>
                  </a:lnTo>
                  <a:lnTo>
                    <a:pt x="3626" y="270"/>
                  </a:lnTo>
                  <a:lnTo>
                    <a:pt x="3631" y="181"/>
                  </a:lnTo>
                  <a:lnTo>
                    <a:pt x="3634" y="90"/>
                  </a:lnTo>
                  <a:lnTo>
                    <a:pt x="3635" y="0"/>
                  </a:lnTo>
                  <a:lnTo>
                    <a:pt x="32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08400" y="1514160"/>
              <a:ext cx="214200" cy="190800"/>
            </a:xfrm>
            <a:custGeom>
              <a:avLst/>
              <a:gdLst/>
              <a:ahLst/>
              <a:rect l="l" t="t" r="r" b="b"/>
              <a:pathLst>
                <a:path w="3636" h="3247">
                  <a:moveTo>
                    <a:pt x="0" y="0"/>
                  </a:moveTo>
                  <a:lnTo>
                    <a:pt x="1" y="90"/>
                  </a:lnTo>
                  <a:lnTo>
                    <a:pt x="5" y="181"/>
                  </a:lnTo>
                  <a:lnTo>
                    <a:pt x="10" y="270"/>
                  </a:lnTo>
                  <a:lnTo>
                    <a:pt x="18" y="357"/>
                  </a:lnTo>
                  <a:lnTo>
                    <a:pt x="29" y="444"/>
                  </a:lnTo>
                  <a:lnTo>
                    <a:pt x="41" y="530"/>
                  </a:lnTo>
                  <a:lnTo>
                    <a:pt x="56" y="615"/>
                  </a:lnTo>
                  <a:lnTo>
                    <a:pt x="72" y="699"/>
                  </a:lnTo>
                  <a:lnTo>
                    <a:pt x="91" y="782"/>
                  </a:lnTo>
                  <a:lnTo>
                    <a:pt x="112" y="864"/>
                  </a:lnTo>
                  <a:lnTo>
                    <a:pt x="136" y="945"/>
                  </a:lnTo>
                  <a:lnTo>
                    <a:pt x="162" y="1025"/>
                  </a:lnTo>
                  <a:lnTo>
                    <a:pt x="189" y="1104"/>
                  </a:lnTo>
                  <a:lnTo>
                    <a:pt x="217" y="1181"/>
                  </a:lnTo>
                  <a:lnTo>
                    <a:pt x="249" y="1258"/>
                  </a:lnTo>
                  <a:lnTo>
                    <a:pt x="284" y="1332"/>
                  </a:lnTo>
                  <a:lnTo>
                    <a:pt x="319" y="1407"/>
                  </a:lnTo>
                  <a:lnTo>
                    <a:pt x="355" y="1480"/>
                  </a:lnTo>
                  <a:lnTo>
                    <a:pt x="393" y="1552"/>
                  </a:lnTo>
                  <a:lnTo>
                    <a:pt x="435" y="1621"/>
                  </a:lnTo>
                  <a:lnTo>
                    <a:pt x="478" y="1692"/>
                  </a:lnTo>
                  <a:lnTo>
                    <a:pt x="523" y="1759"/>
                  </a:lnTo>
                  <a:lnTo>
                    <a:pt x="570" y="1826"/>
                  </a:lnTo>
                  <a:lnTo>
                    <a:pt x="618" y="1891"/>
                  </a:lnTo>
                  <a:lnTo>
                    <a:pt x="668" y="1954"/>
                  </a:lnTo>
                  <a:lnTo>
                    <a:pt x="720" y="2018"/>
                  </a:lnTo>
                  <a:lnTo>
                    <a:pt x="773" y="2079"/>
                  </a:lnTo>
                  <a:lnTo>
                    <a:pt x="828" y="2138"/>
                  </a:lnTo>
                  <a:lnTo>
                    <a:pt x="884" y="2196"/>
                  </a:lnTo>
                  <a:lnTo>
                    <a:pt x="941" y="2253"/>
                  </a:lnTo>
                  <a:lnTo>
                    <a:pt x="1001" y="2308"/>
                  </a:lnTo>
                  <a:lnTo>
                    <a:pt x="1063" y="2361"/>
                  </a:lnTo>
                  <a:lnTo>
                    <a:pt x="1124" y="2414"/>
                  </a:lnTo>
                  <a:lnTo>
                    <a:pt x="1189" y="2466"/>
                  </a:lnTo>
                  <a:lnTo>
                    <a:pt x="1254" y="2516"/>
                  </a:lnTo>
                  <a:lnTo>
                    <a:pt x="1321" y="2564"/>
                  </a:lnTo>
                  <a:lnTo>
                    <a:pt x="1389" y="2610"/>
                  </a:lnTo>
                  <a:lnTo>
                    <a:pt x="1459" y="2655"/>
                  </a:lnTo>
                  <a:lnTo>
                    <a:pt x="1528" y="2699"/>
                  </a:lnTo>
                  <a:lnTo>
                    <a:pt x="1600" y="2739"/>
                  </a:lnTo>
                  <a:lnTo>
                    <a:pt x="1674" y="2779"/>
                  </a:lnTo>
                  <a:lnTo>
                    <a:pt x="1748" y="2820"/>
                  </a:lnTo>
                  <a:lnTo>
                    <a:pt x="1823" y="2856"/>
                  </a:lnTo>
                  <a:lnTo>
                    <a:pt x="1902" y="2892"/>
                  </a:lnTo>
                  <a:lnTo>
                    <a:pt x="1978" y="2924"/>
                  </a:lnTo>
                  <a:lnTo>
                    <a:pt x="2056" y="2958"/>
                  </a:lnTo>
                  <a:lnTo>
                    <a:pt x="2138" y="2990"/>
                  </a:lnTo>
                  <a:lnTo>
                    <a:pt x="2218" y="3017"/>
                  </a:lnTo>
                  <a:lnTo>
                    <a:pt x="2299" y="3044"/>
                  </a:lnTo>
                  <a:lnTo>
                    <a:pt x="2384" y="3070"/>
                  </a:lnTo>
                  <a:lnTo>
                    <a:pt x="2467" y="3094"/>
                  </a:lnTo>
                  <a:lnTo>
                    <a:pt x="2552" y="3115"/>
                  </a:lnTo>
                  <a:lnTo>
                    <a:pt x="2639" y="3137"/>
                  </a:lnTo>
                  <a:lnTo>
                    <a:pt x="2725" y="3155"/>
                  </a:lnTo>
                  <a:lnTo>
                    <a:pt x="2812" y="3172"/>
                  </a:lnTo>
                  <a:lnTo>
                    <a:pt x="2900" y="3187"/>
                  </a:lnTo>
                  <a:lnTo>
                    <a:pt x="2990" y="3202"/>
                  </a:lnTo>
                  <a:lnTo>
                    <a:pt x="3080" y="3213"/>
                  </a:lnTo>
                  <a:lnTo>
                    <a:pt x="3171" y="3223"/>
                  </a:lnTo>
                  <a:lnTo>
                    <a:pt x="3263" y="3232"/>
                  </a:lnTo>
                  <a:lnTo>
                    <a:pt x="3354" y="3239"/>
                  </a:lnTo>
                  <a:lnTo>
                    <a:pt x="3448" y="3242"/>
                  </a:lnTo>
                  <a:lnTo>
                    <a:pt x="3541" y="3245"/>
                  </a:lnTo>
                  <a:lnTo>
                    <a:pt x="3636" y="3247"/>
                  </a:lnTo>
                  <a:lnTo>
                    <a:pt x="3636" y="2831"/>
                  </a:lnTo>
                  <a:lnTo>
                    <a:pt x="3547" y="2831"/>
                  </a:lnTo>
                  <a:lnTo>
                    <a:pt x="3464" y="2829"/>
                  </a:lnTo>
                  <a:lnTo>
                    <a:pt x="3379" y="2824"/>
                  </a:lnTo>
                  <a:lnTo>
                    <a:pt x="3294" y="2818"/>
                  </a:lnTo>
                  <a:lnTo>
                    <a:pt x="3212" y="2811"/>
                  </a:lnTo>
                  <a:lnTo>
                    <a:pt x="3130" y="2802"/>
                  </a:lnTo>
                  <a:lnTo>
                    <a:pt x="3046" y="2791"/>
                  </a:lnTo>
                  <a:lnTo>
                    <a:pt x="2966" y="2779"/>
                  </a:lnTo>
                  <a:lnTo>
                    <a:pt x="2886" y="2765"/>
                  </a:lnTo>
                  <a:lnTo>
                    <a:pt x="2809" y="2750"/>
                  </a:lnTo>
                  <a:lnTo>
                    <a:pt x="2729" y="2733"/>
                  </a:lnTo>
                  <a:lnTo>
                    <a:pt x="2652" y="2715"/>
                  </a:lnTo>
                  <a:lnTo>
                    <a:pt x="2576" y="2694"/>
                  </a:lnTo>
                  <a:lnTo>
                    <a:pt x="2501" y="2673"/>
                  </a:lnTo>
                  <a:lnTo>
                    <a:pt x="2427" y="2651"/>
                  </a:lnTo>
                  <a:lnTo>
                    <a:pt x="2353" y="2625"/>
                  </a:lnTo>
                  <a:lnTo>
                    <a:pt x="2281" y="2601"/>
                  </a:lnTo>
                  <a:lnTo>
                    <a:pt x="2209" y="2572"/>
                  </a:lnTo>
                  <a:lnTo>
                    <a:pt x="2140" y="2543"/>
                  </a:lnTo>
                  <a:lnTo>
                    <a:pt x="2069" y="2514"/>
                  </a:lnTo>
                  <a:lnTo>
                    <a:pt x="2001" y="2482"/>
                  </a:lnTo>
                  <a:lnTo>
                    <a:pt x="1934" y="2449"/>
                  </a:lnTo>
                  <a:lnTo>
                    <a:pt x="1870" y="2416"/>
                  </a:lnTo>
                  <a:lnTo>
                    <a:pt x="1805" y="2379"/>
                  </a:lnTo>
                  <a:lnTo>
                    <a:pt x="1742" y="2342"/>
                  </a:lnTo>
                  <a:lnTo>
                    <a:pt x="1679" y="2304"/>
                  </a:lnTo>
                  <a:lnTo>
                    <a:pt x="1618" y="2265"/>
                  </a:lnTo>
                  <a:lnTo>
                    <a:pt x="1559" y="2225"/>
                  </a:lnTo>
                  <a:lnTo>
                    <a:pt x="1501" y="2183"/>
                  </a:lnTo>
                  <a:lnTo>
                    <a:pt x="1444" y="2140"/>
                  </a:lnTo>
                  <a:lnTo>
                    <a:pt x="1387" y="2095"/>
                  </a:lnTo>
                  <a:lnTo>
                    <a:pt x="1334" y="2048"/>
                  </a:lnTo>
                  <a:lnTo>
                    <a:pt x="1281" y="2002"/>
                  </a:lnTo>
                  <a:lnTo>
                    <a:pt x="1229" y="1954"/>
                  </a:lnTo>
                  <a:lnTo>
                    <a:pt x="1178" y="1904"/>
                  </a:lnTo>
                  <a:lnTo>
                    <a:pt x="1130" y="1854"/>
                  </a:lnTo>
                  <a:lnTo>
                    <a:pt x="1082" y="1803"/>
                  </a:lnTo>
                  <a:lnTo>
                    <a:pt x="1037" y="1750"/>
                  </a:lnTo>
                  <a:lnTo>
                    <a:pt x="992" y="1695"/>
                  </a:lnTo>
                  <a:lnTo>
                    <a:pt x="948" y="1640"/>
                  </a:lnTo>
                  <a:lnTo>
                    <a:pt x="907" y="1584"/>
                  </a:lnTo>
                  <a:lnTo>
                    <a:pt x="867" y="1526"/>
                  </a:lnTo>
                  <a:lnTo>
                    <a:pt x="828" y="1469"/>
                  </a:lnTo>
                  <a:lnTo>
                    <a:pt x="791" y="1409"/>
                  </a:lnTo>
                  <a:lnTo>
                    <a:pt x="756" y="1349"/>
                  </a:lnTo>
                  <a:lnTo>
                    <a:pt x="722" y="1287"/>
                  </a:lnTo>
                  <a:lnTo>
                    <a:pt x="690" y="1224"/>
                  </a:lnTo>
                  <a:lnTo>
                    <a:pt x="660" y="1161"/>
                  </a:lnTo>
                  <a:lnTo>
                    <a:pt x="631" y="1095"/>
                  </a:lnTo>
                  <a:lnTo>
                    <a:pt x="604" y="1030"/>
                  </a:lnTo>
                  <a:lnTo>
                    <a:pt x="578" y="962"/>
                  </a:lnTo>
                  <a:lnTo>
                    <a:pt x="554" y="895"/>
                  </a:lnTo>
                  <a:lnTo>
                    <a:pt x="533" y="826"/>
                  </a:lnTo>
                  <a:lnTo>
                    <a:pt x="514" y="756"/>
                  </a:lnTo>
                  <a:lnTo>
                    <a:pt x="494" y="684"/>
                  </a:lnTo>
                  <a:lnTo>
                    <a:pt x="478" y="613"/>
                  </a:lnTo>
                  <a:lnTo>
                    <a:pt x="464" y="540"/>
                  </a:lnTo>
                  <a:lnTo>
                    <a:pt x="451" y="466"/>
                  </a:lnTo>
                  <a:lnTo>
                    <a:pt x="438" y="390"/>
                  </a:lnTo>
                  <a:lnTo>
                    <a:pt x="430" y="314"/>
                  </a:lnTo>
                  <a:lnTo>
                    <a:pt x="424" y="238"/>
                  </a:lnTo>
                  <a:lnTo>
                    <a:pt x="419" y="159"/>
                  </a:lnTo>
                  <a:lnTo>
                    <a:pt x="416" y="82"/>
                  </a:lnTo>
                  <a:lnTo>
                    <a:pt x="4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68640" y="1514160"/>
              <a:ext cx="214200" cy="190800"/>
            </a:xfrm>
            <a:custGeom>
              <a:avLst/>
              <a:gdLst/>
              <a:ahLst/>
              <a:rect l="l" t="t" r="r" b="b"/>
              <a:pathLst>
                <a:path w="3637" h="3247">
                  <a:moveTo>
                    <a:pt x="3223" y="0"/>
                  </a:moveTo>
                  <a:lnTo>
                    <a:pt x="3223" y="82"/>
                  </a:lnTo>
                  <a:lnTo>
                    <a:pt x="3219" y="159"/>
                  </a:lnTo>
                  <a:lnTo>
                    <a:pt x="3212" y="238"/>
                  </a:lnTo>
                  <a:lnTo>
                    <a:pt x="3205" y="314"/>
                  </a:lnTo>
                  <a:lnTo>
                    <a:pt x="3197" y="390"/>
                  </a:lnTo>
                  <a:lnTo>
                    <a:pt x="3188" y="466"/>
                  </a:lnTo>
                  <a:lnTo>
                    <a:pt x="3175" y="540"/>
                  </a:lnTo>
                  <a:lnTo>
                    <a:pt x="3159" y="613"/>
                  </a:lnTo>
                  <a:lnTo>
                    <a:pt x="3143" y="684"/>
                  </a:lnTo>
                  <a:lnTo>
                    <a:pt x="3124" y="756"/>
                  </a:lnTo>
                  <a:lnTo>
                    <a:pt x="3104" y="826"/>
                  </a:lnTo>
                  <a:lnTo>
                    <a:pt x="3083" y="895"/>
                  </a:lnTo>
                  <a:lnTo>
                    <a:pt x="3058" y="962"/>
                  </a:lnTo>
                  <a:lnTo>
                    <a:pt x="3032" y="1030"/>
                  </a:lnTo>
                  <a:lnTo>
                    <a:pt x="3006" y="1095"/>
                  </a:lnTo>
                  <a:lnTo>
                    <a:pt x="2977" y="1160"/>
                  </a:lnTo>
                  <a:lnTo>
                    <a:pt x="2947" y="1224"/>
                  </a:lnTo>
                  <a:lnTo>
                    <a:pt x="2915" y="1287"/>
                  </a:lnTo>
                  <a:lnTo>
                    <a:pt x="2879" y="1349"/>
                  </a:lnTo>
                  <a:lnTo>
                    <a:pt x="2844" y="1409"/>
                  </a:lnTo>
                  <a:lnTo>
                    <a:pt x="2807" y="1469"/>
                  </a:lnTo>
                  <a:lnTo>
                    <a:pt x="2770" y="1526"/>
                  </a:lnTo>
                  <a:lnTo>
                    <a:pt x="2730" y="1584"/>
                  </a:lnTo>
                  <a:lnTo>
                    <a:pt x="2688" y="1640"/>
                  </a:lnTo>
                  <a:lnTo>
                    <a:pt x="2645" y="1695"/>
                  </a:lnTo>
                  <a:lnTo>
                    <a:pt x="2600" y="1750"/>
                  </a:lnTo>
                  <a:lnTo>
                    <a:pt x="2555" y="1803"/>
                  </a:lnTo>
                  <a:lnTo>
                    <a:pt x="2507" y="1854"/>
                  </a:lnTo>
                  <a:lnTo>
                    <a:pt x="2459" y="1904"/>
                  </a:lnTo>
                  <a:lnTo>
                    <a:pt x="2407" y="1954"/>
                  </a:lnTo>
                  <a:lnTo>
                    <a:pt x="2355" y="2002"/>
                  </a:lnTo>
                  <a:lnTo>
                    <a:pt x="2303" y="2048"/>
                  </a:lnTo>
                  <a:lnTo>
                    <a:pt x="2249" y="2095"/>
                  </a:lnTo>
                  <a:lnTo>
                    <a:pt x="2192" y="2140"/>
                  </a:lnTo>
                  <a:lnTo>
                    <a:pt x="2136" y="2183"/>
                  </a:lnTo>
                  <a:lnTo>
                    <a:pt x="2077" y="2225"/>
                  </a:lnTo>
                  <a:lnTo>
                    <a:pt x="2017" y="2265"/>
                  </a:lnTo>
                  <a:lnTo>
                    <a:pt x="1958" y="2304"/>
                  </a:lnTo>
                  <a:lnTo>
                    <a:pt x="1894" y="2342"/>
                  </a:lnTo>
                  <a:lnTo>
                    <a:pt x="1831" y="2379"/>
                  </a:lnTo>
                  <a:lnTo>
                    <a:pt x="1767" y="2416"/>
                  </a:lnTo>
                  <a:lnTo>
                    <a:pt x="1701" y="2449"/>
                  </a:lnTo>
                  <a:lnTo>
                    <a:pt x="1635" y="2482"/>
                  </a:lnTo>
                  <a:lnTo>
                    <a:pt x="1566" y="2514"/>
                  </a:lnTo>
                  <a:lnTo>
                    <a:pt x="1496" y="2543"/>
                  </a:lnTo>
                  <a:lnTo>
                    <a:pt x="1427" y="2572"/>
                  </a:lnTo>
                  <a:lnTo>
                    <a:pt x="1355" y="2601"/>
                  </a:lnTo>
                  <a:lnTo>
                    <a:pt x="1284" y="2625"/>
                  </a:lnTo>
                  <a:lnTo>
                    <a:pt x="1209" y="2651"/>
                  </a:lnTo>
                  <a:lnTo>
                    <a:pt x="1135" y="2673"/>
                  </a:lnTo>
                  <a:lnTo>
                    <a:pt x="1061" y="2694"/>
                  </a:lnTo>
                  <a:lnTo>
                    <a:pt x="984" y="2715"/>
                  </a:lnTo>
                  <a:lnTo>
                    <a:pt x="905" y="2733"/>
                  </a:lnTo>
                  <a:lnTo>
                    <a:pt x="828" y="2750"/>
                  </a:lnTo>
                  <a:lnTo>
                    <a:pt x="749" y="2765"/>
                  </a:lnTo>
                  <a:lnTo>
                    <a:pt x="669" y="2779"/>
                  </a:lnTo>
                  <a:lnTo>
                    <a:pt x="588" y="2791"/>
                  </a:lnTo>
                  <a:lnTo>
                    <a:pt x="507" y="2802"/>
                  </a:lnTo>
                  <a:lnTo>
                    <a:pt x="425" y="2811"/>
                  </a:lnTo>
                  <a:lnTo>
                    <a:pt x="342" y="2818"/>
                  </a:lnTo>
                  <a:lnTo>
                    <a:pt x="257" y="2824"/>
                  </a:lnTo>
                  <a:lnTo>
                    <a:pt x="172" y="2829"/>
                  </a:lnTo>
                  <a:lnTo>
                    <a:pt x="88" y="2831"/>
                  </a:lnTo>
                  <a:lnTo>
                    <a:pt x="0" y="2831"/>
                  </a:lnTo>
                  <a:lnTo>
                    <a:pt x="0" y="3247"/>
                  </a:lnTo>
                  <a:lnTo>
                    <a:pt x="93" y="3245"/>
                  </a:lnTo>
                  <a:lnTo>
                    <a:pt x="189" y="3242"/>
                  </a:lnTo>
                  <a:lnTo>
                    <a:pt x="282" y="3239"/>
                  </a:lnTo>
                  <a:lnTo>
                    <a:pt x="374" y="3232"/>
                  </a:lnTo>
                  <a:lnTo>
                    <a:pt x="465" y="3223"/>
                  </a:lnTo>
                  <a:lnTo>
                    <a:pt x="557" y="3213"/>
                  </a:lnTo>
                  <a:lnTo>
                    <a:pt x="647" y="3202"/>
                  </a:lnTo>
                  <a:lnTo>
                    <a:pt x="736" y="3187"/>
                  </a:lnTo>
                  <a:lnTo>
                    <a:pt x="825" y="3172"/>
                  </a:lnTo>
                  <a:lnTo>
                    <a:pt x="910" y="3155"/>
                  </a:lnTo>
                  <a:lnTo>
                    <a:pt x="997" y="3137"/>
                  </a:lnTo>
                  <a:lnTo>
                    <a:pt x="1084" y="3115"/>
                  </a:lnTo>
                  <a:lnTo>
                    <a:pt x="1169" y="3094"/>
                  </a:lnTo>
                  <a:lnTo>
                    <a:pt x="1252" y="3070"/>
                  </a:lnTo>
                  <a:lnTo>
                    <a:pt x="1335" y="3044"/>
                  </a:lnTo>
                  <a:lnTo>
                    <a:pt x="1419" y="3017"/>
                  </a:lnTo>
                  <a:lnTo>
                    <a:pt x="1498" y="2990"/>
                  </a:lnTo>
                  <a:lnTo>
                    <a:pt x="1579" y="2958"/>
                  </a:lnTo>
                  <a:lnTo>
                    <a:pt x="1658" y="2924"/>
                  </a:lnTo>
                  <a:lnTo>
                    <a:pt x="1735" y="2892"/>
                  </a:lnTo>
                  <a:lnTo>
                    <a:pt x="1812" y="2856"/>
                  </a:lnTo>
                  <a:lnTo>
                    <a:pt x="1888" y="2820"/>
                  </a:lnTo>
                  <a:lnTo>
                    <a:pt x="1963" y="2779"/>
                  </a:lnTo>
                  <a:lnTo>
                    <a:pt x="2035" y="2739"/>
                  </a:lnTo>
                  <a:lnTo>
                    <a:pt x="2107" y="2699"/>
                  </a:lnTo>
                  <a:lnTo>
                    <a:pt x="2178" y="2655"/>
                  </a:lnTo>
                  <a:lnTo>
                    <a:pt x="2247" y="2610"/>
                  </a:lnTo>
                  <a:lnTo>
                    <a:pt x="2316" y="2564"/>
                  </a:lnTo>
                  <a:lnTo>
                    <a:pt x="2382" y="2516"/>
                  </a:lnTo>
                  <a:lnTo>
                    <a:pt x="2446" y="2466"/>
                  </a:lnTo>
                  <a:lnTo>
                    <a:pt x="2512" y="2414"/>
                  </a:lnTo>
                  <a:lnTo>
                    <a:pt x="2573" y="2361"/>
                  </a:lnTo>
                  <a:lnTo>
                    <a:pt x="2635" y="2308"/>
                  </a:lnTo>
                  <a:lnTo>
                    <a:pt x="2695" y="2253"/>
                  </a:lnTo>
                  <a:lnTo>
                    <a:pt x="2751" y="2196"/>
                  </a:lnTo>
                  <a:lnTo>
                    <a:pt x="2809" y="2138"/>
                  </a:lnTo>
                  <a:lnTo>
                    <a:pt x="2863" y="2079"/>
                  </a:lnTo>
                  <a:lnTo>
                    <a:pt x="2918" y="2018"/>
                  </a:lnTo>
                  <a:lnTo>
                    <a:pt x="2968" y="1954"/>
                  </a:lnTo>
                  <a:lnTo>
                    <a:pt x="3018" y="1891"/>
                  </a:lnTo>
                  <a:lnTo>
                    <a:pt x="3067" y="1826"/>
                  </a:lnTo>
                  <a:lnTo>
                    <a:pt x="3112" y="1759"/>
                  </a:lnTo>
                  <a:lnTo>
                    <a:pt x="3157" y="1692"/>
                  </a:lnTo>
                  <a:lnTo>
                    <a:pt x="3201" y="1621"/>
                  </a:lnTo>
                  <a:lnTo>
                    <a:pt x="3242" y="1552"/>
                  </a:lnTo>
                  <a:lnTo>
                    <a:pt x="3281" y="1480"/>
                  </a:lnTo>
                  <a:lnTo>
                    <a:pt x="3319" y="1407"/>
                  </a:lnTo>
                  <a:lnTo>
                    <a:pt x="3354" y="1332"/>
                  </a:lnTo>
                  <a:lnTo>
                    <a:pt x="3387" y="1258"/>
                  </a:lnTo>
                  <a:lnTo>
                    <a:pt x="3419" y="1181"/>
                  </a:lnTo>
                  <a:lnTo>
                    <a:pt x="3447" y="1104"/>
                  </a:lnTo>
                  <a:lnTo>
                    <a:pt x="3475" y="1025"/>
                  </a:lnTo>
                  <a:lnTo>
                    <a:pt x="3500" y="945"/>
                  </a:lnTo>
                  <a:lnTo>
                    <a:pt x="3523" y="864"/>
                  </a:lnTo>
                  <a:lnTo>
                    <a:pt x="3545" y="782"/>
                  </a:lnTo>
                  <a:lnTo>
                    <a:pt x="3565" y="699"/>
                  </a:lnTo>
                  <a:lnTo>
                    <a:pt x="3581" y="615"/>
                  </a:lnTo>
                  <a:lnTo>
                    <a:pt x="3595" y="530"/>
                  </a:lnTo>
                  <a:lnTo>
                    <a:pt x="3608" y="444"/>
                  </a:lnTo>
                  <a:lnTo>
                    <a:pt x="3618" y="357"/>
                  </a:lnTo>
                  <a:lnTo>
                    <a:pt x="3627" y="270"/>
                  </a:lnTo>
                  <a:lnTo>
                    <a:pt x="3632" y="181"/>
                  </a:lnTo>
                  <a:lnTo>
                    <a:pt x="3635" y="90"/>
                  </a:lnTo>
                  <a:lnTo>
                    <a:pt x="3637" y="0"/>
                  </a:lnTo>
                  <a:lnTo>
                    <a:pt x="32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06720" y="1706400"/>
              <a:ext cx="212760" cy="189000"/>
            </a:xfrm>
            <a:custGeom>
              <a:avLst/>
              <a:gdLst/>
              <a:ahLst/>
              <a:rect l="l" t="t" r="r" b="b"/>
              <a:pathLst>
                <a:path w="3636" h="3227">
                  <a:moveTo>
                    <a:pt x="414" y="3227"/>
                  </a:moveTo>
                  <a:lnTo>
                    <a:pt x="416" y="3145"/>
                  </a:lnTo>
                  <a:lnTo>
                    <a:pt x="419" y="3068"/>
                  </a:lnTo>
                  <a:lnTo>
                    <a:pt x="424" y="2990"/>
                  </a:lnTo>
                  <a:lnTo>
                    <a:pt x="431" y="2914"/>
                  </a:lnTo>
                  <a:lnTo>
                    <a:pt x="440" y="2837"/>
                  </a:lnTo>
                  <a:lnTo>
                    <a:pt x="451" y="2762"/>
                  </a:lnTo>
                  <a:lnTo>
                    <a:pt x="463" y="2689"/>
                  </a:lnTo>
                  <a:lnTo>
                    <a:pt x="477" y="2615"/>
                  </a:lnTo>
                  <a:lnTo>
                    <a:pt x="495" y="2544"/>
                  </a:lnTo>
                  <a:lnTo>
                    <a:pt x="513" y="2472"/>
                  </a:lnTo>
                  <a:lnTo>
                    <a:pt x="535" y="2403"/>
                  </a:lnTo>
                  <a:lnTo>
                    <a:pt x="554" y="2335"/>
                  </a:lnTo>
                  <a:lnTo>
                    <a:pt x="580" y="2267"/>
                  </a:lnTo>
                  <a:lnTo>
                    <a:pt x="604" y="2201"/>
                  </a:lnTo>
                  <a:lnTo>
                    <a:pt x="631" y="2135"/>
                  </a:lnTo>
                  <a:lnTo>
                    <a:pt x="660" y="2071"/>
                  </a:lnTo>
                  <a:lnTo>
                    <a:pt x="691" y="2008"/>
                  </a:lnTo>
                  <a:lnTo>
                    <a:pt x="723" y="1945"/>
                  </a:lnTo>
                  <a:lnTo>
                    <a:pt x="756" y="1883"/>
                  </a:lnTo>
                  <a:lnTo>
                    <a:pt x="792" y="1823"/>
                  </a:lnTo>
                  <a:lnTo>
                    <a:pt x="829" y="1765"/>
                  </a:lnTo>
                  <a:lnTo>
                    <a:pt x="867" y="1707"/>
                  </a:lnTo>
                  <a:lnTo>
                    <a:pt x="907" y="1648"/>
                  </a:lnTo>
                  <a:lnTo>
                    <a:pt x="949" y="1594"/>
                  </a:lnTo>
                  <a:lnTo>
                    <a:pt x="992" y="1539"/>
                  </a:lnTo>
                  <a:lnTo>
                    <a:pt x="1036" y="1486"/>
                  </a:lnTo>
                  <a:lnTo>
                    <a:pt x="1082" y="1434"/>
                  </a:lnTo>
                  <a:lnTo>
                    <a:pt x="1129" y="1383"/>
                  </a:lnTo>
                  <a:lnTo>
                    <a:pt x="1178" y="1333"/>
                  </a:lnTo>
                  <a:lnTo>
                    <a:pt x="1228" y="1283"/>
                  </a:lnTo>
                  <a:lnTo>
                    <a:pt x="1280" y="1237"/>
                  </a:lnTo>
                  <a:lnTo>
                    <a:pt x="1333" y="1189"/>
                  </a:lnTo>
                  <a:lnTo>
                    <a:pt x="1388" y="1144"/>
                  </a:lnTo>
                  <a:lnTo>
                    <a:pt x="1443" y="1100"/>
                  </a:lnTo>
                  <a:lnTo>
                    <a:pt x="1500" y="1057"/>
                  </a:lnTo>
                  <a:lnTo>
                    <a:pt x="1559" y="1015"/>
                  </a:lnTo>
                  <a:lnTo>
                    <a:pt x="1618" y="976"/>
                  </a:lnTo>
                  <a:lnTo>
                    <a:pt x="1679" y="936"/>
                  </a:lnTo>
                  <a:lnTo>
                    <a:pt x="1740" y="899"/>
                  </a:lnTo>
                  <a:lnTo>
                    <a:pt x="1804" y="863"/>
                  </a:lnTo>
                  <a:lnTo>
                    <a:pt x="1869" y="828"/>
                  </a:lnTo>
                  <a:lnTo>
                    <a:pt x="1934" y="793"/>
                  </a:lnTo>
                  <a:lnTo>
                    <a:pt x="2002" y="761"/>
                  </a:lnTo>
                  <a:lnTo>
                    <a:pt x="2069" y="730"/>
                  </a:lnTo>
                  <a:lnTo>
                    <a:pt x="2138" y="700"/>
                  </a:lnTo>
                  <a:lnTo>
                    <a:pt x="2209" y="671"/>
                  </a:lnTo>
                  <a:lnTo>
                    <a:pt x="2280" y="645"/>
                  </a:lnTo>
                  <a:lnTo>
                    <a:pt x="2353" y="618"/>
                  </a:lnTo>
                  <a:lnTo>
                    <a:pt x="2427" y="596"/>
                  </a:lnTo>
                  <a:lnTo>
                    <a:pt x="2500" y="572"/>
                  </a:lnTo>
                  <a:lnTo>
                    <a:pt x="2576" y="552"/>
                  </a:lnTo>
                  <a:lnTo>
                    <a:pt x="2653" y="532"/>
                  </a:lnTo>
                  <a:lnTo>
                    <a:pt x="2729" y="514"/>
                  </a:lnTo>
                  <a:lnTo>
                    <a:pt x="2808" y="496"/>
                  </a:lnTo>
                  <a:lnTo>
                    <a:pt x="2888" y="480"/>
                  </a:lnTo>
                  <a:lnTo>
                    <a:pt x="2967" y="467"/>
                  </a:lnTo>
                  <a:lnTo>
                    <a:pt x="3047" y="456"/>
                  </a:lnTo>
                  <a:lnTo>
                    <a:pt x="3130" y="446"/>
                  </a:lnTo>
                  <a:lnTo>
                    <a:pt x="3212" y="435"/>
                  </a:lnTo>
                  <a:lnTo>
                    <a:pt x="3295" y="429"/>
                  </a:lnTo>
                  <a:lnTo>
                    <a:pt x="3379" y="422"/>
                  </a:lnTo>
                  <a:lnTo>
                    <a:pt x="3463" y="419"/>
                  </a:lnTo>
                  <a:lnTo>
                    <a:pt x="3549" y="417"/>
                  </a:lnTo>
                  <a:lnTo>
                    <a:pt x="3636" y="416"/>
                  </a:lnTo>
                  <a:lnTo>
                    <a:pt x="3636" y="0"/>
                  </a:lnTo>
                  <a:lnTo>
                    <a:pt x="3541" y="3"/>
                  </a:lnTo>
                  <a:lnTo>
                    <a:pt x="3448" y="6"/>
                  </a:lnTo>
                  <a:lnTo>
                    <a:pt x="3357" y="11"/>
                  </a:lnTo>
                  <a:lnTo>
                    <a:pt x="3264" y="16"/>
                  </a:lnTo>
                  <a:lnTo>
                    <a:pt x="3172" y="24"/>
                  </a:lnTo>
                  <a:lnTo>
                    <a:pt x="3080" y="34"/>
                  </a:lnTo>
                  <a:lnTo>
                    <a:pt x="2991" y="45"/>
                  </a:lnTo>
                  <a:lnTo>
                    <a:pt x="2902" y="59"/>
                  </a:lnTo>
                  <a:lnTo>
                    <a:pt x="2814" y="75"/>
                  </a:lnTo>
                  <a:lnTo>
                    <a:pt x="2726" y="92"/>
                  </a:lnTo>
                  <a:lnTo>
                    <a:pt x="2639" y="110"/>
                  </a:lnTo>
                  <a:lnTo>
                    <a:pt x="2553" y="130"/>
                  </a:lnTo>
                  <a:lnTo>
                    <a:pt x="2468" y="152"/>
                  </a:lnTo>
                  <a:lnTo>
                    <a:pt x="2385" y="175"/>
                  </a:lnTo>
                  <a:lnTo>
                    <a:pt x="2302" y="200"/>
                  </a:lnTo>
                  <a:lnTo>
                    <a:pt x="2220" y="226"/>
                  </a:lnTo>
                  <a:lnTo>
                    <a:pt x="2138" y="257"/>
                  </a:lnTo>
                  <a:lnTo>
                    <a:pt x="2058" y="286"/>
                  </a:lnTo>
                  <a:lnTo>
                    <a:pt x="1981" y="318"/>
                  </a:lnTo>
                  <a:lnTo>
                    <a:pt x="1902" y="351"/>
                  </a:lnTo>
                  <a:lnTo>
                    <a:pt x="1826" y="386"/>
                  </a:lnTo>
                  <a:lnTo>
                    <a:pt x="1750" y="424"/>
                  </a:lnTo>
                  <a:lnTo>
                    <a:pt x="1676" y="461"/>
                  </a:lnTo>
                  <a:lnTo>
                    <a:pt x="1602" y="501"/>
                  </a:lnTo>
                  <a:lnTo>
                    <a:pt x="1530" y="543"/>
                  </a:lnTo>
                  <a:lnTo>
                    <a:pt x="1459" y="586"/>
                  </a:lnTo>
                  <a:lnTo>
                    <a:pt x="1390" y="630"/>
                  </a:lnTo>
                  <a:lnTo>
                    <a:pt x="1321" y="675"/>
                  </a:lnTo>
                  <a:lnTo>
                    <a:pt x="1255" y="723"/>
                  </a:lnTo>
                  <a:lnTo>
                    <a:pt x="1190" y="773"/>
                  </a:lnTo>
                  <a:lnTo>
                    <a:pt x="1127" y="823"/>
                  </a:lnTo>
                  <a:lnTo>
                    <a:pt x="1063" y="874"/>
                  </a:lnTo>
                  <a:lnTo>
                    <a:pt x="1002" y="928"/>
                  </a:lnTo>
                  <a:lnTo>
                    <a:pt x="942" y="984"/>
                  </a:lnTo>
                  <a:lnTo>
                    <a:pt x="883" y="1039"/>
                  </a:lnTo>
                  <a:lnTo>
                    <a:pt x="829" y="1097"/>
                  </a:lnTo>
                  <a:lnTo>
                    <a:pt x="774" y="1157"/>
                  </a:lnTo>
                  <a:lnTo>
                    <a:pt x="721" y="1217"/>
                  </a:lnTo>
                  <a:lnTo>
                    <a:pt x="669" y="1280"/>
                  </a:lnTo>
                  <a:lnTo>
                    <a:pt x="620" y="1343"/>
                  </a:lnTo>
                  <a:lnTo>
                    <a:pt x="570" y="1407"/>
                  </a:lnTo>
                  <a:lnTo>
                    <a:pt x="524" y="1473"/>
                  </a:lnTo>
                  <a:lnTo>
                    <a:pt x="479" y="1541"/>
                  </a:lnTo>
                  <a:lnTo>
                    <a:pt x="436" y="1609"/>
                  </a:lnTo>
                  <a:lnTo>
                    <a:pt x="397" y="1680"/>
                  </a:lnTo>
                  <a:lnTo>
                    <a:pt x="357" y="1751"/>
                  </a:lnTo>
                  <a:lnTo>
                    <a:pt x="320" y="1823"/>
                  </a:lnTo>
                  <a:lnTo>
                    <a:pt x="283" y="1898"/>
                  </a:lnTo>
                  <a:lnTo>
                    <a:pt x="249" y="1971"/>
                  </a:lnTo>
                  <a:lnTo>
                    <a:pt x="218" y="2048"/>
                  </a:lnTo>
                  <a:lnTo>
                    <a:pt x="190" y="2125"/>
                  </a:lnTo>
                  <a:lnTo>
                    <a:pt x="161" y="2204"/>
                  </a:lnTo>
                  <a:lnTo>
                    <a:pt x="137" y="2284"/>
                  </a:lnTo>
                  <a:lnTo>
                    <a:pt x="113" y="2365"/>
                  </a:lnTo>
                  <a:lnTo>
                    <a:pt x="92" y="2446"/>
                  </a:lnTo>
                  <a:lnTo>
                    <a:pt x="73" y="2530"/>
                  </a:lnTo>
                  <a:lnTo>
                    <a:pt x="57" y="2612"/>
                  </a:lnTo>
                  <a:lnTo>
                    <a:pt x="42" y="2697"/>
                  </a:lnTo>
                  <a:lnTo>
                    <a:pt x="28" y="2784"/>
                  </a:lnTo>
                  <a:lnTo>
                    <a:pt x="18" y="2870"/>
                  </a:lnTo>
                  <a:lnTo>
                    <a:pt x="10" y="2958"/>
                  </a:lnTo>
                  <a:lnTo>
                    <a:pt x="5" y="3046"/>
                  </a:lnTo>
                  <a:lnTo>
                    <a:pt x="2" y="3137"/>
                  </a:lnTo>
                  <a:lnTo>
                    <a:pt x="0" y="3227"/>
                  </a:lnTo>
                  <a:lnTo>
                    <a:pt x="414" y="3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65520" y="1706400"/>
              <a:ext cx="214200" cy="189000"/>
            </a:xfrm>
            <a:custGeom>
              <a:avLst/>
              <a:gdLst/>
              <a:ahLst/>
              <a:rect l="l" t="t" r="r" b="b"/>
              <a:pathLst>
                <a:path w="3635" h="3227">
                  <a:moveTo>
                    <a:pt x="3635" y="3227"/>
                  </a:moveTo>
                  <a:lnTo>
                    <a:pt x="3634" y="3137"/>
                  </a:lnTo>
                  <a:lnTo>
                    <a:pt x="3631" y="3046"/>
                  </a:lnTo>
                  <a:lnTo>
                    <a:pt x="3626" y="2958"/>
                  </a:lnTo>
                  <a:lnTo>
                    <a:pt x="3618" y="2870"/>
                  </a:lnTo>
                  <a:lnTo>
                    <a:pt x="3607" y="2784"/>
                  </a:lnTo>
                  <a:lnTo>
                    <a:pt x="3594" y="2697"/>
                  </a:lnTo>
                  <a:lnTo>
                    <a:pt x="3579" y="2612"/>
                  </a:lnTo>
                  <a:lnTo>
                    <a:pt x="3562" y="2530"/>
                  </a:lnTo>
                  <a:lnTo>
                    <a:pt x="3544" y="2446"/>
                  </a:lnTo>
                  <a:lnTo>
                    <a:pt x="3523" y="2365"/>
                  </a:lnTo>
                  <a:lnTo>
                    <a:pt x="3499" y="2284"/>
                  </a:lnTo>
                  <a:lnTo>
                    <a:pt x="3474" y="2204"/>
                  </a:lnTo>
                  <a:lnTo>
                    <a:pt x="3446" y="2125"/>
                  </a:lnTo>
                  <a:lnTo>
                    <a:pt x="3417" y="2048"/>
                  </a:lnTo>
                  <a:lnTo>
                    <a:pt x="3386" y="1973"/>
                  </a:lnTo>
                  <a:lnTo>
                    <a:pt x="3353" y="1898"/>
                  </a:lnTo>
                  <a:lnTo>
                    <a:pt x="3316" y="1823"/>
                  </a:lnTo>
                  <a:lnTo>
                    <a:pt x="3279" y="1751"/>
                  </a:lnTo>
                  <a:lnTo>
                    <a:pt x="3239" y="1680"/>
                  </a:lnTo>
                  <a:lnTo>
                    <a:pt x="3199" y="1609"/>
                  </a:lnTo>
                  <a:lnTo>
                    <a:pt x="3156" y="1541"/>
                  </a:lnTo>
                  <a:lnTo>
                    <a:pt x="3111" y="1473"/>
                  </a:lnTo>
                  <a:lnTo>
                    <a:pt x="3064" y="1407"/>
                  </a:lnTo>
                  <a:lnTo>
                    <a:pt x="3016" y="1343"/>
                  </a:lnTo>
                  <a:lnTo>
                    <a:pt x="2966" y="1278"/>
                  </a:lnTo>
                  <a:lnTo>
                    <a:pt x="2915" y="1217"/>
                  </a:lnTo>
                  <a:lnTo>
                    <a:pt x="2862" y="1157"/>
                  </a:lnTo>
                  <a:lnTo>
                    <a:pt x="2807" y="1097"/>
                  </a:lnTo>
                  <a:lnTo>
                    <a:pt x="2750" y="1039"/>
                  </a:lnTo>
                  <a:lnTo>
                    <a:pt x="2692" y="984"/>
                  </a:lnTo>
                  <a:lnTo>
                    <a:pt x="2632" y="928"/>
                  </a:lnTo>
                  <a:lnTo>
                    <a:pt x="2573" y="874"/>
                  </a:lnTo>
                  <a:lnTo>
                    <a:pt x="2509" y="823"/>
                  </a:lnTo>
                  <a:lnTo>
                    <a:pt x="2446" y="773"/>
                  </a:lnTo>
                  <a:lnTo>
                    <a:pt x="2380" y="723"/>
                  </a:lnTo>
                  <a:lnTo>
                    <a:pt x="2314" y="675"/>
                  </a:lnTo>
                  <a:lnTo>
                    <a:pt x="2244" y="630"/>
                  </a:lnTo>
                  <a:lnTo>
                    <a:pt x="2176" y="586"/>
                  </a:lnTo>
                  <a:lnTo>
                    <a:pt x="2104" y="543"/>
                  </a:lnTo>
                  <a:lnTo>
                    <a:pt x="2033" y="501"/>
                  </a:lnTo>
                  <a:lnTo>
                    <a:pt x="1960" y="461"/>
                  </a:lnTo>
                  <a:lnTo>
                    <a:pt x="1884" y="422"/>
                  </a:lnTo>
                  <a:lnTo>
                    <a:pt x="1810" y="386"/>
                  </a:lnTo>
                  <a:lnTo>
                    <a:pt x="1733" y="351"/>
                  </a:lnTo>
                  <a:lnTo>
                    <a:pt x="1655" y="318"/>
                  </a:lnTo>
                  <a:lnTo>
                    <a:pt x="1576" y="286"/>
                  </a:lnTo>
                  <a:lnTo>
                    <a:pt x="1496" y="257"/>
                  </a:lnTo>
                  <a:lnTo>
                    <a:pt x="1416" y="226"/>
                  </a:lnTo>
                  <a:lnTo>
                    <a:pt x="1334" y="200"/>
                  </a:lnTo>
                  <a:lnTo>
                    <a:pt x="1250" y="175"/>
                  </a:lnTo>
                  <a:lnTo>
                    <a:pt x="1165" y="152"/>
                  </a:lnTo>
                  <a:lnTo>
                    <a:pt x="1081" y="130"/>
                  </a:lnTo>
                  <a:lnTo>
                    <a:pt x="996" y="110"/>
                  </a:lnTo>
                  <a:lnTo>
                    <a:pt x="908" y="92"/>
                  </a:lnTo>
                  <a:lnTo>
                    <a:pt x="822" y="75"/>
                  </a:lnTo>
                  <a:lnTo>
                    <a:pt x="733" y="59"/>
                  </a:lnTo>
                  <a:lnTo>
                    <a:pt x="643" y="45"/>
                  </a:lnTo>
                  <a:lnTo>
                    <a:pt x="554" y="34"/>
                  </a:lnTo>
                  <a:lnTo>
                    <a:pt x="464" y="24"/>
                  </a:lnTo>
                  <a:lnTo>
                    <a:pt x="372" y="16"/>
                  </a:lnTo>
                  <a:lnTo>
                    <a:pt x="279" y="11"/>
                  </a:lnTo>
                  <a:lnTo>
                    <a:pt x="186" y="6"/>
                  </a:lnTo>
                  <a:lnTo>
                    <a:pt x="94" y="3"/>
                  </a:lnTo>
                  <a:lnTo>
                    <a:pt x="0" y="0"/>
                  </a:lnTo>
                  <a:lnTo>
                    <a:pt x="0" y="416"/>
                  </a:lnTo>
                  <a:lnTo>
                    <a:pt x="85" y="417"/>
                  </a:lnTo>
                  <a:lnTo>
                    <a:pt x="172" y="419"/>
                  </a:lnTo>
                  <a:lnTo>
                    <a:pt x="255" y="422"/>
                  </a:lnTo>
                  <a:lnTo>
                    <a:pt x="339" y="429"/>
                  </a:lnTo>
                  <a:lnTo>
                    <a:pt x="424" y="435"/>
                  </a:lnTo>
                  <a:lnTo>
                    <a:pt x="505" y="446"/>
                  </a:lnTo>
                  <a:lnTo>
                    <a:pt x="587" y="456"/>
                  </a:lnTo>
                  <a:lnTo>
                    <a:pt x="668" y="467"/>
                  </a:lnTo>
                  <a:lnTo>
                    <a:pt x="748" y="480"/>
                  </a:lnTo>
                  <a:lnTo>
                    <a:pt x="828" y="496"/>
                  </a:lnTo>
                  <a:lnTo>
                    <a:pt x="905" y="514"/>
                  </a:lnTo>
                  <a:lnTo>
                    <a:pt x="982" y="532"/>
                  </a:lnTo>
                  <a:lnTo>
                    <a:pt x="1059" y="552"/>
                  </a:lnTo>
                  <a:lnTo>
                    <a:pt x="1135" y="572"/>
                  </a:lnTo>
                  <a:lnTo>
                    <a:pt x="1209" y="596"/>
                  </a:lnTo>
                  <a:lnTo>
                    <a:pt x="1282" y="618"/>
                  </a:lnTo>
                  <a:lnTo>
                    <a:pt x="1356" y="645"/>
                  </a:lnTo>
                  <a:lnTo>
                    <a:pt x="1425" y="671"/>
                  </a:lnTo>
                  <a:lnTo>
                    <a:pt x="1496" y="700"/>
                  </a:lnTo>
                  <a:lnTo>
                    <a:pt x="1565" y="730"/>
                  </a:lnTo>
                  <a:lnTo>
                    <a:pt x="1634" y="761"/>
                  </a:lnTo>
                  <a:lnTo>
                    <a:pt x="1700" y="793"/>
                  </a:lnTo>
                  <a:lnTo>
                    <a:pt x="1767" y="828"/>
                  </a:lnTo>
                  <a:lnTo>
                    <a:pt x="1830" y="863"/>
                  </a:lnTo>
                  <a:lnTo>
                    <a:pt x="1893" y="899"/>
                  </a:lnTo>
                  <a:lnTo>
                    <a:pt x="1956" y="936"/>
                  </a:lnTo>
                  <a:lnTo>
                    <a:pt x="2018" y="976"/>
                  </a:lnTo>
                  <a:lnTo>
                    <a:pt x="2077" y="1015"/>
                  </a:lnTo>
                  <a:lnTo>
                    <a:pt x="2135" y="1057"/>
                  </a:lnTo>
                  <a:lnTo>
                    <a:pt x="2193" y="1100"/>
                  </a:lnTo>
                  <a:lnTo>
                    <a:pt x="2247" y="1144"/>
                  </a:lnTo>
                  <a:lnTo>
                    <a:pt x="2303" y="1189"/>
                  </a:lnTo>
                  <a:lnTo>
                    <a:pt x="2356" y="1237"/>
                  </a:lnTo>
                  <a:lnTo>
                    <a:pt x="2407" y="1283"/>
                  </a:lnTo>
                  <a:lnTo>
                    <a:pt x="2457" y="1333"/>
                  </a:lnTo>
                  <a:lnTo>
                    <a:pt x="2507" y="1383"/>
                  </a:lnTo>
                  <a:lnTo>
                    <a:pt x="2554" y="1434"/>
                  </a:lnTo>
                  <a:lnTo>
                    <a:pt x="2600" y="1486"/>
                  </a:lnTo>
                  <a:lnTo>
                    <a:pt x="2644" y="1539"/>
                  </a:lnTo>
                  <a:lnTo>
                    <a:pt x="2687" y="1594"/>
                  </a:lnTo>
                  <a:lnTo>
                    <a:pt x="2729" y="1648"/>
                  </a:lnTo>
                  <a:lnTo>
                    <a:pt x="2769" y="1707"/>
                  </a:lnTo>
                  <a:lnTo>
                    <a:pt x="2807" y="1765"/>
                  </a:lnTo>
                  <a:lnTo>
                    <a:pt x="2844" y="1823"/>
                  </a:lnTo>
                  <a:lnTo>
                    <a:pt x="2880" y="1883"/>
                  </a:lnTo>
                  <a:lnTo>
                    <a:pt x="2913" y="1945"/>
                  </a:lnTo>
                  <a:lnTo>
                    <a:pt x="2945" y="2008"/>
                  </a:lnTo>
                  <a:lnTo>
                    <a:pt x="2974" y="2071"/>
                  </a:lnTo>
                  <a:lnTo>
                    <a:pt x="3005" y="2133"/>
                  </a:lnTo>
                  <a:lnTo>
                    <a:pt x="3032" y="2201"/>
                  </a:lnTo>
                  <a:lnTo>
                    <a:pt x="3056" y="2267"/>
                  </a:lnTo>
                  <a:lnTo>
                    <a:pt x="3082" y="2335"/>
                  </a:lnTo>
                  <a:lnTo>
                    <a:pt x="3101" y="2403"/>
                  </a:lnTo>
                  <a:lnTo>
                    <a:pt x="3123" y="2472"/>
                  </a:lnTo>
                  <a:lnTo>
                    <a:pt x="3141" y="2544"/>
                  </a:lnTo>
                  <a:lnTo>
                    <a:pt x="3157" y="2615"/>
                  </a:lnTo>
                  <a:lnTo>
                    <a:pt x="3173" y="2689"/>
                  </a:lnTo>
                  <a:lnTo>
                    <a:pt x="3184" y="2762"/>
                  </a:lnTo>
                  <a:lnTo>
                    <a:pt x="3196" y="2837"/>
                  </a:lnTo>
                  <a:lnTo>
                    <a:pt x="3204" y="2914"/>
                  </a:lnTo>
                  <a:lnTo>
                    <a:pt x="3211" y="2990"/>
                  </a:lnTo>
                  <a:lnTo>
                    <a:pt x="3216" y="3068"/>
                  </a:lnTo>
                  <a:lnTo>
                    <a:pt x="3220" y="3145"/>
                  </a:lnTo>
                  <a:lnTo>
                    <a:pt x="3221" y="3227"/>
                  </a:lnTo>
                  <a:lnTo>
                    <a:pt x="3635" y="3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08400" y="1706400"/>
              <a:ext cx="214200" cy="189000"/>
            </a:xfrm>
            <a:custGeom>
              <a:avLst/>
              <a:gdLst/>
              <a:ahLst/>
              <a:rect l="l" t="t" r="r" b="b"/>
              <a:pathLst>
                <a:path w="3636" h="3227">
                  <a:moveTo>
                    <a:pt x="416" y="3227"/>
                  </a:moveTo>
                  <a:lnTo>
                    <a:pt x="416" y="3145"/>
                  </a:lnTo>
                  <a:lnTo>
                    <a:pt x="419" y="3068"/>
                  </a:lnTo>
                  <a:lnTo>
                    <a:pt x="424" y="2990"/>
                  </a:lnTo>
                  <a:lnTo>
                    <a:pt x="430" y="2914"/>
                  </a:lnTo>
                  <a:lnTo>
                    <a:pt x="438" y="2837"/>
                  </a:lnTo>
                  <a:lnTo>
                    <a:pt x="451" y="2762"/>
                  </a:lnTo>
                  <a:lnTo>
                    <a:pt x="464" y="2689"/>
                  </a:lnTo>
                  <a:lnTo>
                    <a:pt x="478" y="2615"/>
                  </a:lnTo>
                  <a:lnTo>
                    <a:pt x="494" y="2544"/>
                  </a:lnTo>
                  <a:lnTo>
                    <a:pt x="512" y="2472"/>
                  </a:lnTo>
                  <a:lnTo>
                    <a:pt x="533" y="2403"/>
                  </a:lnTo>
                  <a:lnTo>
                    <a:pt x="554" y="2335"/>
                  </a:lnTo>
                  <a:lnTo>
                    <a:pt x="578" y="2267"/>
                  </a:lnTo>
                  <a:lnTo>
                    <a:pt x="604" y="2201"/>
                  </a:lnTo>
                  <a:lnTo>
                    <a:pt x="631" y="2133"/>
                  </a:lnTo>
                  <a:lnTo>
                    <a:pt x="660" y="2071"/>
                  </a:lnTo>
                  <a:lnTo>
                    <a:pt x="690" y="2008"/>
                  </a:lnTo>
                  <a:lnTo>
                    <a:pt x="722" y="1945"/>
                  </a:lnTo>
                  <a:lnTo>
                    <a:pt x="755" y="1883"/>
                  </a:lnTo>
                  <a:lnTo>
                    <a:pt x="791" y="1823"/>
                  </a:lnTo>
                  <a:lnTo>
                    <a:pt x="828" y="1765"/>
                  </a:lnTo>
                  <a:lnTo>
                    <a:pt x="867" y="1707"/>
                  </a:lnTo>
                  <a:lnTo>
                    <a:pt x="907" y="1648"/>
                  </a:lnTo>
                  <a:lnTo>
                    <a:pt x="948" y="1594"/>
                  </a:lnTo>
                  <a:lnTo>
                    <a:pt x="992" y="1539"/>
                  </a:lnTo>
                  <a:lnTo>
                    <a:pt x="1034" y="1486"/>
                  </a:lnTo>
                  <a:lnTo>
                    <a:pt x="1082" y="1434"/>
                  </a:lnTo>
                  <a:lnTo>
                    <a:pt x="1128" y="1383"/>
                  </a:lnTo>
                  <a:lnTo>
                    <a:pt x="1178" y="1333"/>
                  </a:lnTo>
                  <a:lnTo>
                    <a:pt x="1228" y="1283"/>
                  </a:lnTo>
                  <a:lnTo>
                    <a:pt x="1279" y="1237"/>
                  </a:lnTo>
                  <a:lnTo>
                    <a:pt x="1332" y="1189"/>
                  </a:lnTo>
                  <a:lnTo>
                    <a:pt x="1387" y="1144"/>
                  </a:lnTo>
                  <a:lnTo>
                    <a:pt x="1443" y="1100"/>
                  </a:lnTo>
                  <a:lnTo>
                    <a:pt x="1501" y="1057"/>
                  </a:lnTo>
                  <a:lnTo>
                    <a:pt x="1559" y="1015"/>
                  </a:lnTo>
                  <a:lnTo>
                    <a:pt x="1617" y="976"/>
                  </a:lnTo>
                  <a:lnTo>
                    <a:pt x="1679" y="936"/>
                  </a:lnTo>
                  <a:lnTo>
                    <a:pt x="1740" y="899"/>
                  </a:lnTo>
                  <a:lnTo>
                    <a:pt x="1805" y="863"/>
                  </a:lnTo>
                  <a:lnTo>
                    <a:pt x="1868" y="828"/>
                  </a:lnTo>
                  <a:lnTo>
                    <a:pt x="1934" y="793"/>
                  </a:lnTo>
                  <a:lnTo>
                    <a:pt x="2001" y="761"/>
                  </a:lnTo>
                  <a:lnTo>
                    <a:pt x="2069" y="730"/>
                  </a:lnTo>
                  <a:lnTo>
                    <a:pt x="2138" y="700"/>
                  </a:lnTo>
                  <a:lnTo>
                    <a:pt x="2209" y="671"/>
                  </a:lnTo>
                  <a:lnTo>
                    <a:pt x="2279" y="645"/>
                  </a:lnTo>
                  <a:lnTo>
                    <a:pt x="2353" y="618"/>
                  </a:lnTo>
                  <a:lnTo>
                    <a:pt x="2425" y="596"/>
                  </a:lnTo>
                  <a:lnTo>
                    <a:pt x="2499" y="572"/>
                  </a:lnTo>
                  <a:lnTo>
                    <a:pt x="2576" y="552"/>
                  </a:lnTo>
                  <a:lnTo>
                    <a:pt x="2652" y="532"/>
                  </a:lnTo>
                  <a:lnTo>
                    <a:pt x="2729" y="514"/>
                  </a:lnTo>
                  <a:lnTo>
                    <a:pt x="2807" y="496"/>
                  </a:lnTo>
                  <a:lnTo>
                    <a:pt x="2886" y="480"/>
                  </a:lnTo>
                  <a:lnTo>
                    <a:pt x="2966" y="467"/>
                  </a:lnTo>
                  <a:lnTo>
                    <a:pt x="3046" y="456"/>
                  </a:lnTo>
                  <a:lnTo>
                    <a:pt x="3130" y="446"/>
                  </a:lnTo>
                  <a:lnTo>
                    <a:pt x="3212" y="435"/>
                  </a:lnTo>
                  <a:lnTo>
                    <a:pt x="3294" y="429"/>
                  </a:lnTo>
                  <a:lnTo>
                    <a:pt x="3377" y="422"/>
                  </a:lnTo>
                  <a:lnTo>
                    <a:pt x="3462" y="419"/>
                  </a:lnTo>
                  <a:lnTo>
                    <a:pt x="3549" y="417"/>
                  </a:lnTo>
                  <a:lnTo>
                    <a:pt x="3636" y="416"/>
                  </a:lnTo>
                  <a:lnTo>
                    <a:pt x="3636" y="0"/>
                  </a:lnTo>
                  <a:lnTo>
                    <a:pt x="3541" y="3"/>
                  </a:lnTo>
                  <a:lnTo>
                    <a:pt x="3448" y="6"/>
                  </a:lnTo>
                  <a:lnTo>
                    <a:pt x="3356" y="11"/>
                  </a:lnTo>
                  <a:lnTo>
                    <a:pt x="3263" y="16"/>
                  </a:lnTo>
                  <a:lnTo>
                    <a:pt x="3171" y="24"/>
                  </a:lnTo>
                  <a:lnTo>
                    <a:pt x="3080" y="34"/>
                  </a:lnTo>
                  <a:lnTo>
                    <a:pt x="2990" y="45"/>
                  </a:lnTo>
                  <a:lnTo>
                    <a:pt x="2902" y="59"/>
                  </a:lnTo>
                  <a:lnTo>
                    <a:pt x="2814" y="75"/>
                  </a:lnTo>
                  <a:lnTo>
                    <a:pt x="2725" y="92"/>
                  </a:lnTo>
                  <a:lnTo>
                    <a:pt x="2639" y="110"/>
                  </a:lnTo>
                  <a:lnTo>
                    <a:pt x="2552" y="130"/>
                  </a:lnTo>
                  <a:lnTo>
                    <a:pt x="2467" y="152"/>
                  </a:lnTo>
                  <a:lnTo>
                    <a:pt x="2384" y="175"/>
                  </a:lnTo>
                  <a:lnTo>
                    <a:pt x="2301" y="200"/>
                  </a:lnTo>
                  <a:lnTo>
                    <a:pt x="2220" y="226"/>
                  </a:lnTo>
                  <a:lnTo>
                    <a:pt x="2138" y="257"/>
                  </a:lnTo>
                  <a:lnTo>
                    <a:pt x="2058" y="286"/>
                  </a:lnTo>
                  <a:lnTo>
                    <a:pt x="1979" y="318"/>
                  </a:lnTo>
                  <a:lnTo>
                    <a:pt x="1902" y="351"/>
                  </a:lnTo>
                  <a:lnTo>
                    <a:pt x="1825" y="386"/>
                  </a:lnTo>
                  <a:lnTo>
                    <a:pt x="1748" y="424"/>
                  </a:lnTo>
                  <a:lnTo>
                    <a:pt x="1675" y="461"/>
                  </a:lnTo>
                  <a:lnTo>
                    <a:pt x="1602" y="501"/>
                  </a:lnTo>
                  <a:lnTo>
                    <a:pt x="1528" y="543"/>
                  </a:lnTo>
                  <a:lnTo>
                    <a:pt x="1459" y="586"/>
                  </a:lnTo>
                  <a:lnTo>
                    <a:pt x="1390" y="630"/>
                  </a:lnTo>
                  <a:lnTo>
                    <a:pt x="1321" y="675"/>
                  </a:lnTo>
                  <a:lnTo>
                    <a:pt x="1254" y="723"/>
                  </a:lnTo>
                  <a:lnTo>
                    <a:pt x="1189" y="773"/>
                  </a:lnTo>
                  <a:lnTo>
                    <a:pt x="1126" y="823"/>
                  </a:lnTo>
                  <a:lnTo>
                    <a:pt x="1063" y="874"/>
                  </a:lnTo>
                  <a:lnTo>
                    <a:pt x="1001" y="928"/>
                  </a:lnTo>
                  <a:lnTo>
                    <a:pt x="942" y="984"/>
                  </a:lnTo>
                  <a:lnTo>
                    <a:pt x="884" y="1039"/>
                  </a:lnTo>
                  <a:lnTo>
                    <a:pt x="828" y="1097"/>
                  </a:lnTo>
                  <a:lnTo>
                    <a:pt x="773" y="1157"/>
                  </a:lnTo>
                  <a:lnTo>
                    <a:pt x="720" y="1217"/>
                  </a:lnTo>
                  <a:lnTo>
                    <a:pt x="668" y="1280"/>
                  </a:lnTo>
                  <a:lnTo>
                    <a:pt x="618" y="1343"/>
                  </a:lnTo>
                  <a:lnTo>
                    <a:pt x="570" y="1407"/>
                  </a:lnTo>
                  <a:lnTo>
                    <a:pt x="523" y="1473"/>
                  </a:lnTo>
                  <a:lnTo>
                    <a:pt x="478" y="1541"/>
                  </a:lnTo>
                  <a:lnTo>
                    <a:pt x="435" y="1609"/>
                  </a:lnTo>
                  <a:lnTo>
                    <a:pt x="395" y="1680"/>
                  </a:lnTo>
                  <a:lnTo>
                    <a:pt x="355" y="1751"/>
                  </a:lnTo>
                  <a:lnTo>
                    <a:pt x="319" y="1823"/>
                  </a:lnTo>
                  <a:lnTo>
                    <a:pt x="284" y="1898"/>
                  </a:lnTo>
                  <a:lnTo>
                    <a:pt x="249" y="1973"/>
                  </a:lnTo>
                  <a:lnTo>
                    <a:pt x="217" y="2048"/>
                  </a:lnTo>
                  <a:lnTo>
                    <a:pt x="189" y="2125"/>
                  </a:lnTo>
                  <a:lnTo>
                    <a:pt x="162" y="2204"/>
                  </a:lnTo>
                  <a:lnTo>
                    <a:pt x="136" y="2284"/>
                  </a:lnTo>
                  <a:lnTo>
                    <a:pt x="112" y="2365"/>
                  </a:lnTo>
                  <a:lnTo>
                    <a:pt x="91" y="2446"/>
                  </a:lnTo>
                  <a:lnTo>
                    <a:pt x="72" y="2530"/>
                  </a:lnTo>
                  <a:lnTo>
                    <a:pt x="56" y="2612"/>
                  </a:lnTo>
                  <a:lnTo>
                    <a:pt x="41" y="2697"/>
                  </a:lnTo>
                  <a:lnTo>
                    <a:pt x="29" y="2784"/>
                  </a:lnTo>
                  <a:lnTo>
                    <a:pt x="18" y="2870"/>
                  </a:lnTo>
                  <a:lnTo>
                    <a:pt x="10" y="2958"/>
                  </a:lnTo>
                  <a:lnTo>
                    <a:pt x="5" y="3046"/>
                  </a:lnTo>
                  <a:lnTo>
                    <a:pt x="1" y="3137"/>
                  </a:lnTo>
                  <a:lnTo>
                    <a:pt x="0" y="3227"/>
                  </a:lnTo>
                  <a:lnTo>
                    <a:pt x="416" y="3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868640" y="1706400"/>
              <a:ext cx="214200" cy="189000"/>
            </a:xfrm>
            <a:custGeom>
              <a:avLst/>
              <a:gdLst/>
              <a:ahLst/>
              <a:rect l="l" t="t" r="r" b="b"/>
              <a:pathLst>
                <a:path w="3637" h="3227">
                  <a:moveTo>
                    <a:pt x="3637" y="3227"/>
                  </a:moveTo>
                  <a:lnTo>
                    <a:pt x="3635" y="3137"/>
                  </a:lnTo>
                  <a:lnTo>
                    <a:pt x="3632" y="3046"/>
                  </a:lnTo>
                  <a:lnTo>
                    <a:pt x="3627" y="2958"/>
                  </a:lnTo>
                  <a:lnTo>
                    <a:pt x="3618" y="2870"/>
                  </a:lnTo>
                  <a:lnTo>
                    <a:pt x="3608" y="2784"/>
                  </a:lnTo>
                  <a:lnTo>
                    <a:pt x="3595" y="2697"/>
                  </a:lnTo>
                  <a:lnTo>
                    <a:pt x="3581" y="2612"/>
                  </a:lnTo>
                  <a:lnTo>
                    <a:pt x="3565" y="2530"/>
                  </a:lnTo>
                  <a:lnTo>
                    <a:pt x="3545" y="2446"/>
                  </a:lnTo>
                  <a:lnTo>
                    <a:pt x="3523" y="2365"/>
                  </a:lnTo>
                  <a:lnTo>
                    <a:pt x="3500" y="2284"/>
                  </a:lnTo>
                  <a:lnTo>
                    <a:pt x="3475" y="2204"/>
                  </a:lnTo>
                  <a:lnTo>
                    <a:pt x="3447" y="2125"/>
                  </a:lnTo>
                  <a:lnTo>
                    <a:pt x="3419" y="2048"/>
                  </a:lnTo>
                  <a:lnTo>
                    <a:pt x="3387" y="1973"/>
                  </a:lnTo>
                  <a:lnTo>
                    <a:pt x="3354" y="1898"/>
                  </a:lnTo>
                  <a:lnTo>
                    <a:pt x="3319" y="1823"/>
                  </a:lnTo>
                  <a:lnTo>
                    <a:pt x="3281" y="1751"/>
                  </a:lnTo>
                  <a:lnTo>
                    <a:pt x="3241" y="1680"/>
                  </a:lnTo>
                  <a:lnTo>
                    <a:pt x="3201" y="1609"/>
                  </a:lnTo>
                  <a:lnTo>
                    <a:pt x="3157" y="1541"/>
                  </a:lnTo>
                  <a:lnTo>
                    <a:pt x="3112" y="1473"/>
                  </a:lnTo>
                  <a:lnTo>
                    <a:pt x="3066" y="1407"/>
                  </a:lnTo>
                  <a:lnTo>
                    <a:pt x="3018" y="1343"/>
                  </a:lnTo>
                  <a:lnTo>
                    <a:pt x="2968" y="1278"/>
                  </a:lnTo>
                  <a:lnTo>
                    <a:pt x="2916" y="1217"/>
                  </a:lnTo>
                  <a:lnTo>
                    <a:pt x="2863" y="1157"/>
                  </a:lnTo>
                  <a:lnTo>
                    <a:pt x="2807" y="1097"/>
                  </a:lnTo>
                  <a:lnTo>
                    <a:pt x="2751" y="1039"/>
                  </a:lnTo>
                  <a:lnTo>
                    <a:pt x="2695" y="984"/>
                  </a:lnTo>
                  <a:lnTo>
                    <a:pt x="2635" y="928"/>
                  </a:lnTo>
                  <a:lnTo>
                    <a:pt x="2573" y="874"/>
                  </a:lnTo>
                  <a:lnTo>
                    <a:pt x="2510" y="823"/>
                  </a:lnTo>
                  <a:lnTo>
                    <a:pt x="2446" y="773"/>
                  </a:lnTo>
                  <a:lnTo>
                    <a:pt x="2382" y="723"/>
                  </a:lnTo>
                  <a:lnTo>
                    <a:pt x="2316" y="675"/>
                  </a:lnTo>
                  <a:lnTo>
                    <a:pt x="2245" y="630"/>
                  </a:lnTo>
                  <a:lnTo>
                    <a:pt x="2178" y="586"/>
                  </a:lnTo>
                  <a:lnTo>
                    <a:pt x="2106" y="543"/>
                  </a:lnTo>
                  <a:lnTo>
                    <a:pt x="2034" y="501"/>
                  </a:lnTo>
                  <a:lnTo>
                    <a:pt x="1961" y="461"/>
                  </a:lnTo>
                  <a:lnTo>
                    <a:pt x="1888" y="422"/>
                  </a:lnTo>
                  <a:lnTo>
                    <a:pt x="1811" y="386"/>
                  </a:lnTo>
                  <a:lnTo>
                    <a:pt x="1735" y="351"/>
                  </a:lnTo>
                  <a:lnTo>
                    <a:pt x="1656" y="318"/>
                  </a:lnTo>
                  <a:lnTo>
                    <a:pt x="1578" y="286"/>
                  </a:lnTo>
                  <a:lnTo>
                    <a:pt x="1498" y="257"/>
                  </a:lnTo>
                  <a:lnTo>
                    <a:pt x="1417" y="226"/>
                  </a:lnTo>
                  <a:lnTo>
                    <a:pt x="1335" y="200"/>
                  </a:lnTo>
                  <a:lnTo>
                    <a:pt x="1252" y="175"/>
                  </a:lnTo>
                  <a:lnTo>
                    <a:pt x="1167" y="152"/>
                  </a:lnTo>
                  <a:lnTo>
                    <a:pt x="1084" y="130"/>
                  </a:lnTo>
                  <a:lnTo>
                    <a:pt x="997" y="110"/>
                  </a:lnTo>
                  <a:lnTo>
                    <a:pt x="910" y="92"/>
                  </a:lnTo>
                  <a:lnTo>
                    <a:pt x="823" y="75"/>
                  </a:lnTo>
                  <a:lnTo>
                    <a:pt x="735" y="59"/>
                  </a:lnTo>
                  <a:lnTo>
                    <a:pt x="647" y="45"/>
                  </a:lnTo>
                  <a:lnTo>
                    <a:pt x="557" y="34"/>
                  </a:lnTo>
                  <a:lnTo>
                    <a:pt x="465" y="24"/>
                  </a:lnTo>
                  <a:lnTo>
                    <a:pt x="374" y="16"/>
                  </a:lnTo>
                  <a:lnTo>
                    <a:pt x="281" y="11"/>
                  </a:lnTo>
                  <a:lnTo>
                    <a:pt x="189" y="6"/>
                  </a:lnTo>
                  <a:lnTo>
                    <a:pt x="95" y="3"/>
                  </a:lnTo>
                  <a:lnTo>
                    <a:pt x="0" y="0"/>
                  </a:lnTo>
                  <a:lnTo>
                    <a:pt x="0" y="416"/>
                  </a:lnTo>
                  <a:lnTo>
                    <a:pt x="87" y="417"/>
                  </a:lnTo>
                  <a:lnTo>
                    <a:pt x="173" y="419"/>
                  </a:lnTo>
                  <a:lnTo>
                    <a:pt x="258" y="422"/>
                  </a:lnTo>
                  <a:lnTo>
                    <a:pt x="342" y="429"/>
                  </a:lnTo>
                  <a:lnTo>
                    <a:pt x="425" y="435"/>
                  </a:lnTo>
                  <a:lnTo>
                    <a:pt x="507" y="446"/>
                  </a:lnTo>
                  <a:lnTo>
                    <a:pt x="588" y="456"/>
                  </a:lnTo>
                  <a:lnTo>
                    <a:pt x="669" y="467"/>
                  </a:lnTo>
                  <a:lnTo>
                    <a:pt x="749" y="480"/>
                  </a:lnTo>
                  <a:lnTo>
                    <a:pt x="830" y="496"/>
                  </a:lnTo>
                  <a:lnTo>
                    <a:pt x="905" y="514"/>
                  </a:lnTo>
                  <a:lnTo>
                    <a:pt x="984" y="532"/>
                  </a:lnTo>
                  <a:lnTo>
                    <a:pt x="1061" y="552"/>
                  </a:lnTo>
                  <a:lnTo>
                    <a:pt x="1138" y="572"/>
                  </a:lnTo>
                  <a:lnTo>
                    <a:pt x="1210" y="596"/>
                  </a:lnTo>
                  <a:lnTo>
                    <a:pt x="1284" y="618"/>
                  </a:lnTo>
                  <a:lnTo>
                    <a:pt x="1356" y="645"/>
                  </a:lnTo>
                  <a:lnTo>
                    <a:pt x="1427" y="671"/>
                  </a:lnTo>
                  <a:lnTo>
                    <a:pt x="1498" y="700"/>
                  </a:lnTo>
                  <a:lnTo>
                    <a:pt x="1566" y="730"/>
                  </a:lnTo>
                  <a:lnTo>
                    <a:pt x="1635" y="761"/>
                  </a:lnTo>
                  <a:lnTo>
                    <a:pt x="1701" y="793"/>
                  </a:lnTo>
                  <a:lnTo>
                    <a:pt x="1767" y="828"/>
                  </a:lnTo>
                  <a:lnTo>
                    <a:pt x="1833" y="863"/>
                  </a:lnTo>
                  <a:lnTo>
                    <a:pt x="1896" y="899"/>
                  </a:lnTo>
                  <a:lnTo>
                    <a:pt x="1958" y="936"/>
                  </a:lnTo>
                  <a:lnTo>
                    <a:pt x="2019" y="976"/>
                  </a:lnTo>
                  <a:lnTo>
                    <a:pt x="2077" y="1015"/>
                  </a:lnTo>
                  <a:lnTo>
                    <a:pt x="2138" y="1057"/>
                  </a:lnTo>
                  <a:lnTo>
                    <a:pt x="2194" y="1100"/>
                  </a:lnTo>
                  <a:lnTo>
                    <a:pt x="2249" y="1144"/>
                  </a:lnTo>
                  <a:lnTo>
                    <a:pt x="2303" y="1189"/>
                  </a:lnTo>
                  <a:lnTo>
                    <a:pt x="2356" y="1237"/>
                  </a:lnTo>
                  <a:lnTo>
                    <a:pt x="2409" y="1283"/>
                  </a:lnTo>
                  <a:lnTo>
                    <a:pt x="2459" y="1333"/>
                  </a:lnTo>
                  <a:lnTo>
                    <a:pt x="2509" y="1383"/>
                  </a:lnTo>
                  <a:lnTo>
                    <a:pt x="2555" y="1434"/>
                  </a:lnTo>
                  <a:lnTo>
                    <a:pt x="2602" y="1486"/>
                  </a:lnTo>
                  <a:lnTo>
                    <a:pt x="2645" y="1539"/>
                  </a:lnTo>
                  <a:lnTo>
                    <a:pt x="2688" y="1594"/>
                  </a:lnTo>
                  <a:lnTo>
                    <a:pt x="2730" y="1648"/>
                  </a:lnTo>
                  <a:lnTo>
                    <a:pt x="2770" y="1707"/>
                  </a:lnTo>
                  <a:lnTo>
                    <a:pt x="2807" y="1765"/>
                  </a:lnTo>
                  <a:lnTo>
                    <a:pt x="2844" y="1823"/>
                  </a:lnTo>
                  <a:lnTo>
                    <a:pt x="2881" y="1883"/>
                  </a:lnTo>
                  <a:lnTo>
                    <a:pt x="2915" y="1945"/>
                  </a:lnTo>
                  <a:lnTo>
                    <a:pt x="2947" y="2008"/>
                  </a:lnTo>
                  <a:lnTo>
                    <a:pt x="2977" y="2071"/>
                  </a:lnTo>
                  <a:lnTo>
                    <a:pt x="3006" y="2133"/>
                  </a:lnTo>
                  <a:lnTo>
                    <a:pt x="3032" y="2201"/>
                  </a:lnTo>
                  <a:lnTo>
                    <a:pt x="3058" y="2267"/>
                  </a:lnTo>
                  <a:lnTo>
                    <a:pt x="3083" y="2335"/>
                  </a:lnTo>
                  <a:lnTo>
                    <a:pt x="3104" y="2403"/>
                  </a:lnTo>
                  <a:lnTo>
                    <a:pt x="3124" y="2472"/>
                  </a:lnTo>
                  <a:lnTo>
                    <a:pt x="3143" y="2544"/>
                  </a:lnTo>
                  <a:lnTo>
                    <a:pt x="3159" y="2615"/>
                  </a:lnTo>
                  <a:lnTo>
                    <a:pt x="3175" y="2689"/>
                  </a:lnTo>
                  <a:lnTo>
                    <a:pt x="3188" y="2762"/>
                  </a:lnTo>
                  <a:lnTo>
                    <a:pt x="3197" y="2837"/>
                  </a:lnTo>
                  <a:lnTo>
                    <a:pt x="3205" y="2914"/>
                  </a:lnTo>
                  <a:lnTo>
                    <a:pt x="3212" y="2990"/>
                  </a:lnTo>
                  <a:lnTo>
                    <a:pt x="3219" y="3068"/>
                  </a:lnTo>
                  <a:lnTo>
                    <a:pt x="3223" y="3145"/>
                  </a:lnTo>
                  <a:lnTo>
                    <a:pt x="3223" y="3227"/>
                  </a:lnTo>
                  <a:lnTo>
                    <a:pt x="3637" y="3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60760" y="1434960"/>
              <a:ext cx="108000" cy="439560"/>
            </a:xfrm>
            <a:custGeom>
              <a:avLst/>
              <a:gdLst/>
              <a:ahLst/>
              <a:rect l="l" t="t" r="r" b="b"/>
              <a:pathLst>
                <a:path w="1846" h="7479">
                  <a:moveTo>
                    <a:pt x="0" y="1858"/>
                  </a:moveTo>
                  <a:lnTo>
                    <a:pt x="0" y="7479"/>
                  </a:lnTo>
                  <a:lnTo>
                    <a:pt x="1846" y="5625"/>
                  </a:lnTo>
                  <a:lnTo>
                    <a:pt x="1846" y="0"/>
                  </a:lnTo>
                  <a:lnTo>
                    <a:pt x="0" y="1858"/>
                  </a:lnTo>
                  <a:close/>
                </a:path>
              </a:pathLst>
            </a:custGeom>
            <a:solidFill>
              <a:srgbClr val="0e6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56080" y="1544400"/>
              <a:ext cx="7920" cy="341280"/>
            </a:xfrm>
            <a:custGeom>
              <a:avLst/>
              <a:gdLst/>
              <a:ahLst/>
              <a:rect l="l" t="t" r="r" b="b"/>
              <a:pathLst>
                <a:path w="145" h="5793">
                  <a:moveTo>
                    <a:pt x="124" y="5672"/>
                  </a:moveTo>
                  <a:lnTo>
                    <a:pt x="145" y="5621"/>
                  </a:lnTo>
                  <a:lnTo>
                    <a:pt x="145" y="0"/>
                  </a:lnTo>
                  <a:lnTo>
                    <a:pt x="0" y="0"/>
                  </a:lnTo>
                  <a:lnTo>
                    <a:pt x="0" y="5621"/>
                  </a:lnTo>
                  <a:lnTo>
                    <a:pt x="124" y="5672"/>
                  </a:lnTo>
                  <a:lnTo>
                    <a:pt x="0" y="5621"/>
                  </a:lnTo>
                  <a:lnTo>
                    <a:pt x="0" y="5793"/>
                  </a:lnTo>
                  <a:lnTo>
                    <a:pt x="124" y="5672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57520" y="1763640"/>
              <a:ext cx="115920" cy="114120"/>
            </a:xfrm>
            <a:custGeom>
              <a:avLst/>
              <a:gdLst/>
              <a:ahLst/>
              <a:rect l="l" t="t" r="r" b="b"/>
              <a:pathLst>
                <a:path w="1969" h="1958">
                  <a:moveTo>
                    <a:pt x="1969" y="53"/>
                  </a:moveTo>
                  <a:lnTo>
                    <a:pt x="1846" y="0"/>
                  </a:lnTo>
                  <a:lnTo>
                    <a:pt x="0" y="1857"/>
                  </a:lnTo>
                  <a:lnTo>
                    <a:pt x="103" y="1958"/>
                  </a:lnTo>
                  <a:lnTo>
                    <a:pt x="1949" y="103"/>
                  </a:lnTo>
                  <a:lnTo>
                    <a:pt x="1969" y="53"/>
                  </a:lnTo>
                  <a:lnTo>
                    <a:pt x="1949" y="103"/>
                  </a:lnTo>
                  <a:lnTo>
                    <a:pt x="1969" y="80"/>
                  </a:lnTo>
                  <a:lnTo>
                    <a:pt x="1969" y="53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463720" y="1425600"/>
              <a:ext cx="9720" cy="341280"/>
            </a:xfrm>
            <a:custGeom>
              <a:avLst/>
              <a:gdLst/>
              <a:ahLst/>
              <a:rect l="l" t="t" r="r" b="b"/>
              <a:pathLst>
                <a:path w="142" h="5798">
                  <a:moveTo>
                    <a:pt x="19" y="124"/>
                  </a:moveTo>
                  <a:lnTo>
                    <a:pt x="0" y="173"/>
                  </a:lnTo>
                  <a:lnTo>
                    <a:pt x="0" y="5798"/>
                  </a:lnTo>
                  <a:lnTo>
                    <a:pt x="142" y="5798"/>
                  </a:lnTo>
                  <a:lnTo>
                    <a:pt x="142" y="173"/>
                  </a:lnTo>
                  <a:lnTo>
                    <a:pt x="19" y="124"/>
                  </a:lnTo>
                  <a:lnTo>
                    <a:pt x="142" y="173"/>
                  </a:lnTo>
                  <a:lnTo>
                    <a:pt x="142" y="0"/>
                  </a:lnTo>
                  <a:lnTo>
                    <a:pt x="19" y="124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56080" y="1433520"/>
              <a:ext cx="115560" cy="114120"/>
            </a:xfrm>
            <a:custGeom>
              <a:avLst/>
              <a:gdLst/>
              <a:ahLst/>
              <a:rect l="l" t="t" r="r" b="b"/>
              <a:pathLst>
                <a:path w="1970" h="1958">
                  <a:moveTo>
                    <a:pt x="0" y="1907"/>
                  </a:moveTo>
                  <a:lnTo>
                    <a:pt x="124" y="1958"/>
                  </a:lnTo>
                  <a:lnTo>
                    <a:pt x="1970" y="99"/>
                  </a:lnTo>
                  <a:lnTo>
                    <a:pt x="1867" y="0"/>
                  </a:lnTo>
                  <a:lnTo>
                    <a:pt x="21" y="1857"/>
                  </a:lnTo>
                  <a:lnTo>
                    <a:pt x="0" y="1907"/>
                  </a:lnTo>
                  <a:lnTo>
                    <a:pt x="21" y="1857"/>
                  </a:lnTo>
                  <a:lnTo>
                    <a:pt x="0" y="1876"/>
                  </a:lnTo>
                  <a:lnTo>
                    <a:pt x="0" y="1907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5526000" y="149688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15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2305080" y="4691160"/>
            <a:ext cx="936720" cy="551880"/>
            <a:chOff x="2305080" y="4691160"/>
            <a:chExt cx="936720" cy="551880"/>
          </a:xfrm>
        </p:grpSpPr>
        <p:sp>
          <p:nvSpPr>
            <p:cNvPr id="957" name=""/>
            <p:cNvSpPr/>
            <p:nvPr/>
          </p:nvSpPr>
          <p:spPr>
            <a:xfrm>
              <a:off x="2308320" y="4921200"/>
              <a:ext cx="930240" cy="318600"/>
            </a:xfrm>
            <a:custGeom>
              <a:avLst/>
              <a:gdLst/>
              <a:ahLst/>
              <a:rect l="l" t="t" r="r" b="b"/>
              <a:pathLst>
                <a:path w="16418" h="5625">
                  <a:moveTo>
                    <a:pt x="16418" y="2813"/>
                  </a:moveTo>
                  <a:lnTo>
                    <a:pt x="16408" y="2958"/>
                  </a:lnTo>
                  <a:lnTo>
                    <a:pt x="16376" y="3100"/>
                  </a:lnTo>
                  <a:lnTo>
                    <a:pt x="16324" y="3241"/>
                  </a:lnTo>
                  <a:lnTo>
                    <a:pt x="16252" y="3380"/>
                  </a:lnTo>
                  <a:lnTo>
                    <a:pt x="16160" y="3516"/>
                  </a:lnTo>
                  <a:lnTo>
                    <a:pt x="16050" y="3650"/>
                  </a:lnTo>
                  <a:lnTo>
                    <a:pt x="15921" y="3780"/>
                  </a:lnTo>
                  <a:lnTo>
                    <a:pt x="15773" y="3907"/>
                  </a:lnTo>
                  <a:lnTo>
                    <a:pt x="15609" y="4032"/>
                  </a:lnTo>
                  <a:lnTo>
                    <a:pt x="15427" y="4153"/>
                  </a:lnTo>
                  <a:lnTo>
                    <a:pt x="15230" y="4271"/>
                  </a:lnTo>
                  <a:lnTo>
                    <a:pt x="15016" y="4385"/>
                  </a:lnTo>
                  <a:lnTo>
                    <a:pt x="14787" y="4496"/>
                  </a:lnTo>
                  <a:lnTo>
                    <a:pt x="14543" y="4602"/>
                  </a:lnTo>
                  <a:lnTo>
                    <a:pt x="14285" y="4704"/>
                  </a:lnTo>
                  <a:lnTo>
                    <a:pt x="14014" y="4802"/>
                  </a:lnTo>
                  <a:lnTo>
                    <a:pt x="13728" y="4895"/>
                  </a:lnTo>
                  <a:lnTo>
                    <a:pt x="13430" y="4983"/>
                  </a:lnTo>
                  <a:lnTo>
                    <a:pt x="13120" y="5067"/>
                  </a:lnTo>
                  <a:lnTo>
                    <a:pt x="12798" y="5145"/>
                  </a:lnTo>
                  <a:lnTo>
                    <a:pt x="12465" y="5219"/>
                  </a:lnTo>
                  <a:lnTo>
                    <a:pt x="12121" y="5286"/>
                  </a:lnTo>
                  <a:lnTo>
                    <a:pt x="11767" y="5348"/>
                  </a:lnTo>
                  <a:lnTo>
                    <a:pt x="11404" y="5405"/>
                  </a:lnTo>
                  <a:lnTo>
                    <a:pt x="11031" y="5455"/>
                  </a:lnTo>
                  <a:lnTo>
                    <a:pt x="10650" y="5499"/>
                  </a:lnTo>
                  <a:lnTo>
                    <a:pt x="10260" y="5537"/>
                  </a:lnTo>
                  <a:lnTo>
                    <a:pt x="9863" y="5568"/>
                  </a:lnTo>
                  <a:lnTo>
                    <a:pt x="9458" y="5593"/>
                  </a:lnTo>
                  <a:lnTo>
                    <a:pt x="9048" y="5611"/>
                  </a:lnTo>
                  <a:lnTo>
                    <a:pt x="8631" y="5622"/>
                  </a:lnTo>
                  <a:lnTo>
                    <a:pt x="8209" y="5625"/>
                  </a:lnTo>
                  <a:lnTo>
                    <a:pt x="7787" y="5622"/>
                  </a:lnTo>
                  <a:lnTo>
                    <a:pt x="7370" y="5611"/>
                  </a:lnTo>
                  <a:lnTo>
                    <a:pt x="6960" y="5593"/>
                  </a:lnTo>
                  <a:lnTo>
                    <a:pt x="6555" y="5568"/>
                  </a:lnTo>
                  <a:lnTo>
                    <a:pt x="6158" y="5537"/>
                  </a:lnTo>
                  <a:lnTo>
                    <a:pt x="5768" y="5499"/>
                  </a:lnTo>
                  <a:lnTo>
                    <a:pt x="5387" y="5455"/>
                  </a:lnTo>
                  <a:lnTo>
                    <a:pt x="5014" y="5405"/>
                  </a:lnTo>
                  <a:lnTo>
                    <a:pt x="4651" y="5348"/>
                  </a:lnTo>
                  <a:lnTo>
                    <a:pt x="4297" y="5286"/>
                  </a:lnTo>
                  <a:lnTo>
                    <a:pt x="3953" y="5219"/>
                  </a:lnTo>
                  <a:lnTo>
                    <a:pt x="3620" y="5145"/>
                  </a:lnTo>
                  <a:lnTo>
                    <a:pt x="3297" y="5067"/>
                  </a:lnTo>
                  <a:lnTo>
                    <a:pt x="2988" y="4983"/>
                  </a:lnTo>
                  <a:lnTo>
                    <a:pt x="2690" y="4895"/>
                  </a:lnTo>
                  <a:lnTo>
                    <a:pt x="2404" y="4802"/>
                  </a:lnTo>
                  <a:lnTo>
                    <a:pt x="2133" y="4704"/>
                  </a:lnTo>
                  <a:lnTo>
                    <a:pt x="1875" y="4602"/>
                  </a:lnTo>
                  <a:lnTo>
                    <a:pt x="1631" y="4496"/>
                  </a:lnTo>
                  <a:lnTo>
                    <a:pt x="1402" y="4385"/>
                  </a:lnTo>
                  <a:lnTo>
                    <a:pt x="1188" y="4271"/>
                  </a:lnTo>
                  <a:lnTo>
                    <a:pt x="991" y="4153"/>
                  </a:lnTo>
                  <a:lnTo>
                    <a:pt x="809" y="4032"/>
                  </a:lnTo>
                  <a:lnTo>
                    <a:pt x="645" y="3907"/>
                  </a:lnTo>
                  <a:lnTo>
                    <a:pt x="497" y="3780"/>
                  </a:lnTo>
                  <a:lnTo>
                    <a:pt x="368" y="3650"/>
                  </a:lnTo>
                  <a:lnTo>
                    <a:pt x="258" y="3516"/>
                  </a:lnTo>
                  <a:lnTo>
                    <a:pt x="166" y="3380"/>
                  </a:lnTo>
                  <a:lnTo>
                    <a:pt x="94" y="3241"/>
                  </a:lnTo>
                  <a:lnTo>
                    <a:pt x="42" y="3100"/>
                  </a:lnTo>
                  <a:lnTo>
                    <a:pt x="10" y="2958"/>
                  </a:lnTo>
                  <a:lnTo>
                    <a:pt x="0" y="2813"/>
                  </a:lnTo>
                  <a:lnTo>
                    <a:pt x="10" y="2668"/>
                  </a:lnTo>
                  <a:lnTo>
                    <a:pt x="42" y="2525"/>
                  </a:lnTo>
                  <a:lnTo>
                    <a:pt x="94" y="2385"/>
                  </a:lnTo>
                  <a:lnTo>
                    <a:pt x="166" y="2247"/>
                  </a:lnTo>
                  <a:lnTo>
                    <a:pt x="258" y="2110"/>
                  </a:lnTo>
                  <a:lnTo>
                    <a:pt x="368" y="1977"/>
                  </a:lnTo>
                  <a:lnTo>
                    <a:pt x="497" y="1847"/>
                  </a:lnTo>
                  <a:lnTo>
                    <a:pt x="645" y="1718"/>
                  </a:lnTo>
                  <a:lnTo>
                    <a:pt x="809" y="1594"/>
                  </a:lnTo>
                  <a:lnTo>
                    <a:pt x="991" y="1473"/>
                  </a:lnTo>
                  <a:lnTo>
                    <a:pt x="1188" y="1355"/>
                  </a:lnTo>
                  <a:lnTo>
                    <a:pt x="1402" y="1241"/>
                  </a:lnTo>
                  <a:lnTo>
                    <a:pt x="1631" y="1131"/>
                  </a:lnTo>
                  <a:lnTo>
                    <a:pt x="1875" y="1024"/>
                  </a:lnTo>
                  <a:lnTo>
                    <a:pt x="2133" y="922"/>
                  </a:lnTo>
                  <a:lnTo>
                    <a:pt x="2404" y="825"/>
                  </a:lnTo>
                  <a:lnTo>
                    <a:pt x="2690" y="732"/>
                  </a:lnTo>
                  <a:lnTo>
                    <a:pt x="2988" y="643"/>
                  </a:lnTo>
                  <a:lnTo>
                    <a:pt x="3297" y="560"/>
                  </a:lnTo>
                  <a:lnTo>
                    <a:pt x="3620" y="481"/>
                  </a:lnTo>
                  <a:lnTo>
                    <a:pt x="3953" y="408"/>
                  </a:lnTo>
                  <a:lnTo>
                    <a:pt x="4297" y="341"/>
                  </a:lnTo>
                  <a:lnTo>
                    <a:pt x="4651" y="277"/>
                  </a:lnTo>
                  <a:lnTo>
                    <a:pt x="5014" y="222"/>
                  </a:lnTo>
                  <a:lnTo>
                    <a:pt x="5387" y="171"/>
                  </a:lnTo>
                  <a:lnTo>
                    <a:pt x="5768" y="126"/>
                  </a:lnTo>
                  <a:lnTo>
                    <a:pt x="6158" y="89"/>
                  </a:lnTo>
                  <a:lnTo>
                    <a:pt x="6555" y="57"/>
                  </a:lnTo>
                  <a:lnTo>
                    <a:pt x="6960" y="32"/>
                  </a:lnTo>
                  <a:lnTo>
                    <a:pt x="7370" y="15"/>
                  </a:lnTo>
                  <a:lnTo>
                    <a:pt x="7787" y="4"/>
                  </a:lnTo>
                  <a:lnTo>
                    <a:pt x="8209" y="0"/>
                  </a:lnTo>
                  <a:lnTo>
                    <a:pt x="8631" y="4"/>
                  </a:lnTo>
                  <a:lnTo>
                    <a:pt x="9048" y="15"/>
                  </a:lnTo>
                  <a:lnTo>
                    <a:pt x="9458" y="32"/>
                  </a:lnTo>
                  <a:lnTo>
                    <a:pt x="9863" y="57"/>
                  </a:lnTo>
                  <a:lnTo>
                    <a:pt x="10260" y="89"/>
                  </a:lnTo>
                  <a:lnTo>
                    <a:pt x="10650" y="126"/>
                  </a:lnTo>
                  <a:lnTo>
                    <a:pt x="11031" y="171"/>
                  </a:lnTo>
                  <a:lnTo>
                    <a:pt x="11404" y="222"/>
                  </a:lnTo>
                  <a:lnTo>
                    <a:pt x="11767" y="277"/>
                  </a:lnTo>
                  <a:lnTo>
                    <a:pt x="12121" y="341"/>
                  </a:lnTo>
                  <a:lnTo>
                    <a:pt x="12465" y="408"/>
                  </a:lnTo>
                  <a:lnTo>
                    <a:pt x="12798" y="481"/>
                  </a:lnTo>
                  <a:lnTo>
                    <a:pt x="13120" y="560"/>
                  </a:lnTo>
                  <a:lnTo>
                    <a:pt x="13430" y="643"/>
                  </a:lnTo>
                  <a:lnTo>
                    <a:pt x="13728" y="732"/>
                  </a:lnTo>
                  <a:lnTo>
                    <a:pt x="14014" y="825"/>
                  </a:lnTo>
                  <a:lnTo>
                    <a:pt x="14285" y="922"/>
                  </a:lnTo>
                  <a:lnTo>
                    <a:pt x="14543" y="1024"/>
                  </a:lnTo>
                  <a:lnTo>
                    <a:pt x="14787" y="1131"/>
                  </a:lnTo>
                  <a:lnTo>
                    <a:pt x="15016" y="1241"/>
                  </a:lnTo>
                  <a:lnTo>
                    <a:pt x="15230" y="1355"/>
                  </a:lnTo>
                  <a:lnTo>
                    <a:pt x="15427" y="1473"/>
                  </a:lnTo>
                  <a:lnTo>
                    <a:pt x="15609" y="1594"/>
                  </a:lnTo>
                  <a:lnTo>
                    <a:pt x="15773" y="1718"/>
                  </a:lnTo>
                  <a:lnTo>
                    <a:pt x="15921" y="1847"/>
                  </a:lnTo>
                  <a:lnTo>
                    <a:pt x="16050" y="1977"/>
                  </a:lnTo>
                  <a:lnTo>
                    <a:pt x="16160" y="2110"/>
                  </a:lnTo>
                  <a:lnTo>
                    <a:pt x="16252" y="2247"/>
                  </a:lnTo>
                  <a:lnTo>
                    <a:pt x="16324" y="2385"/>
                  </a:lnTo>
                  <a:lnTo>
                    <a:pt x="16376" y="2525"/>
                  </a:lnTo>
                  <a:lnTo>
                    <a:pt x="16408" y="2668"/>
                  </a:lnTo>
                  <a:lnTo>
                    <a:pt x="16418" y="2813"/>
                  </a:lnTo>
                  <a:close/>
                </a:path>
              </a:pathLst>
            </a:custGeom>
            <a:solidFill>
              <a:srgbClr val="077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70200" y="5081400"/>
              <a:ext cx="471600" cy="161640"/>
            </a:xfrm>
            <a:custGeom>
              <a:avLst/>
              <a:gdLst/>
              <a:ahLst/>
              <a:rect l="l" t="t" r="r" b="b"/>
              <a:pathLst>
                <a:path w="8311" h="2863">
                  <a:moveTo>
                    <a:pt x="51" y="2863"/>
                  </a:moveTo>
                  <a:lnTo>
                    <a:pt x="51" y="2863"/>
                  </a:lnTo>
                  <a:lnTo>
                    <a:pt x="263" y="2862"/>
                  </a:lnTo>
                  <a:lnTo>
                    <a:pt x="474" y="2859"/>
                  </a:lnTo>
                  <a:lnTo>
                    <a:pt x="684" y="2855"/>
                  </a:lnTo>
                  <a:lnTo>
                    <a:pt x="891" y="2849"/>
                  </a:lnTo>
                  <a:lnTo>
                    <a:pt x="1098" y="2840"/>
                  </a:lnTo>
                  <a:lnTo>
                    <a:pt x="1303" y="2830"/>
                  </a:lnTo>
                  <a:lnTo>
                    <a:pt x="1507" y="2819"/>
                  </a:lnTo>
                  <a:lnTo>
                    <a:pt x="1708" y="2806"/>
                  </a:lnTo>
                  <a:lnTo>
                    <a:pt x="1908" y="2791"/>
                  </a:lnTo>
                  <a:lnTo>
                    <a:pt x="2107" y="2774"/>
                  </a:lnTo>
                  <a:lnTo>
                    <a:pt x="2302" y="2755"/>
                  </a:lnTo>
                  <a:lnTo>
                    <a:pt x="2497" y="2736"/>
                  </a:lnTo>
                  <a:lnTo>
                    <a:pt x="2689" y="2715"/>
                  </a:lnTo>
                  <a:lnTo>
                    <a:pt x="2879" y="2692"/>
                  </a:lnTo>
                  <a:lnTo>
                    <a:pt x="3067" y="2667"/>
                  </a:lnTo>
                  <a:lnTo>
                    <a:pt x="3253" y="2642"/>
                  </a:lnTo>
                  <a:lnTo>
                    <a:pt x="3437" y="2614"/>
                  </a:lnTo>
                  <a:lnTo>
                    <a:pt x="3617" y="2585"/>
                  </a:lnTo>
                  <a:lnTo>
                    <a:pt x="3796" y="2555"/>
                  </a:lnTo>
                  <a:lnTo>
                    <a:pt x="3972" y="2523"/>
                  </a:lnTo>
                  <a:lnTo>
                    <a:pt x="4146" y="2490"/>
                  </a:lnTo>
                  <a:lnTo>
                    <a:pt x="4317" y="2454"/>
                  </a:lnTo>
                  <a:lnTo>
                    <a:pt x="4486" y="2418"/>
                  </a:lnTo>
                  <a:lnTo>
                    <a:pt x="4652" y="2381"/>
                  </a:lnTo>
                  <a:lnTo>
                    <a:pt x="4814" y="2343"/>
                  </a:lnTo>
                  <a:lnTo>
                    <a:pt x="4974" y="2302"/>
                  </a:lnTo>
                  <a:lnTo>
                    <a:pt x="5132" y="2261"/>
                  </a:lnTo>
                  <a:lnTo>
                    <a:pt x="5286" y="2219"/>
                  </a:lnTo>
                  <a:lnTo>
                    <a:pt x="5362" y="2197"/>
                  </a:lnTo>
                  <a:lnTo>
                    <a:pt x="5437" y="2175"/>
                  </a:lnTo>
                  <a:lnTo>
                    <a:pt x="5511" y="2152"/>
                  </a:lnTo>
                  <a:lnTo>
                    <a:pt x="5585" y="2130"/>
                  </a:lnTo>
                  <a:lnTo>
                    <a:pt x="5657" y="2107"/>
                  </a:lnTo>
                  <a:lnTo>
                    <a:pt x="5730" y="2083"/>
                  </a:lnTo>
                  <a:lnTo>
                    <a:pt x="5801" y="2060"/>
                  </a:lnTo>
                  <a:lnTo>
                    <a:pt x="5871" y="2037"/>
                  </a:lnTo>
                  <a:lnTo>
                    <a:pt x="5941" y="2012"/>
                  </a:lnTo>
                  <a:lnTo>
                    <a:pt x="6010" y="1988"/>
                  </a:lnTo>
                  <a:lnTo>
                    <a:pt x="6078" y="1963"/>
                  </a:lnTo>
                  <a:lnTo>
                    <a:pt x="6145" y="1938"/>
                  </a:lnTo>
                  <a:lnTo>
                    <a:pt x="6211" y="1912"/>
                  </a:lnTo>
                  <a:lnTo>
                    <a:pt x="6276" y="1888"/>
                  </a:lnTo>
                  <a:lnTo>
                    <a:pt x="6341" y="1862"/>
                  </a:lnTo>
                  <a:lnTo>
                    <a:pt x="6404" y="1835"/>
                  </a:lnTo>
                  <a:lnTo>
                    <a:pt x="6467" y="1809"/>
                  </a:lnTo>
                  <a:lnTo>
                    <a:pt x="6529" y="1782"/>
                  </a:lnTo>
                  <a:lnTo>
                    <a:pt x="6590" y="1755"/>
                  </a:lnTo>
                  <a:lnTo>
                    <a:pt x="6650" y="1728"/>
                  </a:lnTo>
                  <a:lnTo>
                    <a:pt x="6709" y="1700"/>
                  </a:lnTo>
                  <a:lnTo>
                    <a:pt x="6767" y="1673"/>
                  </a:lnTo>
                  <a:lnTo>
                    <a:pt x="6824" y="1646"/>
                  </a:lnTo>
                  <a:lnTo>
                    <a:pt x="6881" y="1618"/>
                  </a:lnTo>
                  <a:lnTo>
                    <a:pt x="6936" y="1589"/>
                  </a:lnTo>
                  <a:lnTo>
                    <a:pt x="6990" y="1560"/>
                  </a:lnTo>
                  <a:lnTo>
                    <a:pt x="7044" y="1531"/>
                  </a:lnTo>
                  <a:lnTo>
                    <a:pt x="7096" y="1502"/>
                  </a:lnTo>
                  <a:lnTo>
                    <a:pt x="7147" y="1473"/>
                  </a:lnTo>
                  <a:lnTo>
                    <a:pt x="7198" y="1443"/>
                  </a:lnTo>
                  <a:lnTo>
                    <a:pt x="7248" y="1413"/>
                  </a:lnTo>
                  <a:lnTo>
                    <a:pt x="7296" y="1383"/>
                  </a:lnTo>
                  <a:lnTo>
                    <a:pt x="7344" y="1353"/>
                  </a:lnTo>
                  <a:lnTo>
                    <a:pt x="7390" y="1322"/>
                  </a:lnTo>
                  <a:lnTo>
                    <a:pt x="7435" y="1291"/>
                  </a:lnTo>
                  <a:lnTo>
                    <a:pt x="7480" y="1260"/>
                  </a:lnTo>
                  <a:lnTo>
                    <a:pt x="7523" y="1229"/>
                  </a:lnTo>
                  <a:lnTo>
                    <a:pt x="7566" y="1198"/>
                  </a:lnTo>
                  <a:lnTo>
                    <a:pt x="7607" y="1166"/>
                  </a:lnTo>
                  <a:lnTo>
                    <a:pt x="7647" y="1133"/>
                  </a:lnTo>
                  <a:lnTo>
                    <a:pt x="7685" y="1101"/>
                  </a:lnTo>
                  <a:lnTo>
                    <a:pt x="7724" y="1069"/>
                  </a:lnTo>
                  <a:lnTo>
                    <a:pt x="7761" y="1036"/>
                  </a:lnTo>
                  <a:lnTo>
                    <a:pt x="7797" y="1003"/>
                  </a:lnTo>
                  <a:lnTo>
                    <a:pt x="7831" y="970"/>
                  </a:lnTo>
                  <a:lnTo>
                    <a:pt x="7865" y="937"/>
                  </a:lnTo>
                  <a:lnTo>
                    <a:pt x="7897" y="904"/>
                  </a:lnTo>
                  <a:lnTo>
                    <a:pt x="7929" y="870"/>
                  </a:lnTo>
                  <a:lnTo>
                    <a:pt x="7959" y="837"/>
                  </a:lnTo>
                  <a:lnTo>
                    <a:pt x="7988" y="801"/>
                  </a:lnTo>
                  <a:lnTo>
                    <a:pt x="8016" y="767"/>
                  </a:lnTo>
                  <a:lnTo>
                    <a:pt x="8043" y="733"/>
                  </a:lnTo>
                  <a:lnTo>
                    <a:pt x="8067" y="698"/>
                  </a:lnTo>
                  <a:lnTo>
                    <a:pt x="8092" y="663"/>
                  </a:lnTo>
                  <a:lnTo>
                    <a:pt x="8115" y="628"/>
                  </a:lnTo>
                  <a:lnTo>
                    <a:pt x="8137" y="593"/>
                  </a:lnTo>
                  <a:lnTo>
                    <a:pt x="8157" y="557"/>
                  </a:lnTo>
                  <a:lnTo>
                    <a:pt x="8177" y="521"/>
                  </a:lnTo>
                  <a:lnTo>
                    <a:pt x="8195" y="485"/>
                  </a:lnTo>
                  <a:lnTo>
                    <a:pt x="8212" y="449"/>
                  </a:lnTo>
                  <a:lnTo>
                    <a:pt x="8227" y="413"/>
                  </a:lnTo>
                  <a:lnTo>
                    <a:pt x="8242" y="375"/>
                  </a:lnTo>
                  <a:lnTo>
                    <a:pt x="8254" y="339"/>
                  </a:lnTo>
                  <a:lnTo>
                    <a:pt x="8267" y="302"/>
                  </a:lnTo>
                  <a:lnTo>
                    <a:pt x="8277" y="265"/>
                  </a:lnTo>
                  <a:lnTo>
                    <a:pt x="8285" y="227"/>
                  </a:lnTo>
                  <a:lnTo>
                    <a:pt x="8293" y="190"/>
                  </a:lnTo>
                  <a:lnTo>
                    <a:pt x="8300" y="152"/>
                  </a:lnTo>
                  <a:lnTo>
                    <a:pt x="8305" y="115"/>
                  </a:lnTo>
                  <a:lnTo>
                    <a:pt x="8308" y="76"/>
                  </a:lnTo>
                  <a:lnTo>
                    <a:pt x="8310" y="38"/>
                  </a:lnTo>
                  <a:lnTo>
                    <a:pt x="8311" y="0"/>
                  </a:lnTo>
                  <a:lnTo>
                    <a:pt x="8211" y="0"/>
                  </a:lnTo>
                  <a:lnTo>
                    <a:pt x="8210" y="35"/>
                  </a:lnTo>
                  <a:lnTo>
                    <a:pt x="8208" y="69"/>
                  </a:lnTo>
                  <a:lnTo>
                    <a:pt x="8205" y="103"/>
                  </a:lnTo>
                  <a:lnTo>
                    <a:pt x="8201" y="137"/>
                  </a:lnTo>
                  <a:lnTo>
                    <a:pt x="8195" y="172"/>
                  </a:lnTo>
                  <a:lnTo>
                    <a:pt x="8188" y="206"/>
                  </a:lnTo>
                  <a:lnTo>
                    <a:pt x="8180" y="240"/>
                  </a:lnTo>
                  <a:lnTo>
                    <a:pt x="8171" y="274"/>
                  </a:lnTo>
                  <a:lnTo>
                    <a:pt x="8160" y="307"/>
                  </a:lnTo>
                  <a:lnTo>
                    <a:pt x="8148" y="341"/>
                  </a:lnTo>
                  <a:lnTo>
                    <a:pt x="8134" y="374"/>
                  </a:lnTo>
                  <a:lnTo>
                    <a:pt x="8121" y="408"/>
                  </a:lnTo>
                  <a:lnTo>
                    <a:pt x="8105" y="441"/>
                  </a:lnTo>
                  <a:lnTo>
                    <a:pt x="8088" y="475"/>
                  </a:lnTo>
                  <a:lnTo>
                    <a:pt x="8070" y="508"/>
                  </a:lnTo>
                  <a:lnTo>
                    <a:pt x="8051" y="541"/>
                  </a:lnTo>
                  <a:lnTo>
                    <a:pt x="8031" y="574"/>
                  </a:lnTo>
                  <a:lnTo>
                    <a:pt x="8008" y="607"/>
                  </a:lnTo>
                  <a:lnTo>
                    <a:pt x="7986" y="640"/>
                  </a:lnTo>
                  <a:lnTo>
                    <a:pt x="7962" y="672"/>
                  </a:lnTo>
                  <a:lnTo>
                    <a:pt x="7937" y="705"/>
                  </a:lnTo>
                  <a:lnTo>
                    <a:pt x="7910" y="738"/>
                  </a:lnTo>
                  <a:lnTo>
                    <a:pt x="7884" y="770"/>
                  </a:lnTo>
                  <a:lnTo>
                    <a:pt x="7855" y="802"/>
                  </a:lnTo>
                  <a:lnTo>
                    <a:pt x="7825" y="835"/>
                  </a:lnTo>
                  <a:lnTo>
                    <a:pt x="7794" y="867"/>
                  </a:lnTo>
                  <a:lnTo>
                    <a:pt x="7762" y="899"/>
                  </a:lnTo>
                  <a:lnTo>
                    <a:pt x="7729" y="930"/>
                  </a:lnTo>
                  <a:lnTo>
                    <a:pt x="7694" y="962"/>
                  </a:lnTo>
                  <a:lnTo>
                    <a:pt x="7658" y="993"/>
                  </a:lnTo>
                  <a:lnTo>
                    <a:pt x="7621" y="1025"/>
                  </a:lnTo>
                  <a:lnTo>
                    <a:pt x="7584" y="1056"/>
                  </a:lnTo>
                  <a:lnTo>
                    <a:pt x="7545" y="1087"/>
                  </a:lnTo>
                  <a:lnTo>
                    <a:pt x="7505" y="1117"/>
                  </a:lnTo>
                  <a:lnTo>
                    <a:pt x="7464" y="1148"/>
                  </a:lnTo>
                  <a:lnTo>
                    <a:pt x="7422" y="1178"/>
                  </a:lnTo>
                  <a:lnTo>
                    <a:pt x="7379" y="1209"/>
                  </a:lnTo>
                  <a:lnTo>
                    <a:pt x="7334" y="1239"/>
                  </a:lnTo>
                  <a:lnTo>
                    <a:pt x="7289" y="1269"/>
                  </a:lnTo>
                  <a:lnTo>
                    <a:pt x="7242" y="1298"/>
                  </a:lnTo>
                  <a:lnTo>
                    <a:pt x="7196" y="1328"/>
                  </a:lnTo>
                  <a:lnTo>
                    <a:pt x="7147" y="1357"/>
                  </a:lnTo>
                  <a:lnTo>
                    <a:pt x="7098" y="1386"/>
                  </a:lnTo>
                  <a:lnTo>
                    <a:pt x="7047" y="1415"/>
                  </a:lnTo>
                  <a:lnTo>
                    <a:pt x="6996" y="1443"/>
                  </a:lnTo>
                  <a:lnTo>
                    <a:pt x="6943" y="1472"/>
                  </a:lnTo>
                  <a:lnTo>
                    <a:pt x="6890" y="1500"/>
                  </a:lnTo>
                  <a:lnTo>
                    <a:pt x="6836" y="1528"/>
                  </a:lnTo>
                  <a:lnTo>
                    <a:pt x="6780" y="1556"/>
                  </a:lnTo>
                  <a:lnTo>
                    <a:pt x="6724" y="1582"/>
                  </a:lnTo>
                  <a:lnTo>
                    <a:pt x="6666" y="1610"/>
                  </a:lnTo>
                  <a:lnTo>
                    <a:pt x="6608" y="1637"/>
                  </a:lnTo>
                  <a:lnTo>
                    <a:pt x="6550" y="1664"/>
                  </a:lnTo>
                  <a:lnTo>
                    <a:pt x="6489" y="1690"/>
                  </a:lnTo>
                  <a:lnTo>
                    <a:pt x="6428" y="1717"/>
                  </a:lnTo>
                  <a:lnTo>
                    <a:pt x="6367" y="1743"/>
                  </a:lnTo>
                  <a:lnTo>
                    <a:pt x="6303" y="1769"/>
                  </a:lnTo>
                  <a:lnTo>
                    <a:pt x="6240" y="1793"/>
                  </a:lnTo>
                  <a:lnTo>
                    <a:pt x="6175" y="1819"/>
                  </a:lnTo>
                  <a:lnTo>
                    <a:pt x="6110" y="1844"/>
                  </a:lnTo>
                  <a:lnTo>
                    <a:pt x="6044" y="1869"/>
                  </a:lnTo>
                  <a:lnTo>
                    <a:pt x="5977" y="1894"/>
                  </a:lnTo>
                  <a:lnTo>
                    <a:pt x="5908" y="1918"/>
                  </a:lnTo>
                  <a:lnTo>
                    <a:pt x="5839" y="1941"/>
                  </a:lnTo>
                  <a:lnTo>
                    <a:pt x="5769" y="1965"/>
                  </a:lnTo>
                  <a:lnTo>
                    <a:pt x="5699" y="1988"/>
                  </a:lnTo>
                  <a:lnTo>
                    <a:pt x="5628" y="2012"/>
                  </a:lnTo>
                  <a:lnTo>
                    <a:pt x="5555" y="2034"/>
                  </a:lnTo>
                  <a:lnTo>
                    <a:pt x="5482" y="2056"/>
                  </a:lnTo>
                  <a:lnTo>
                    <a:pt x="5409" y="2079"/>
                  </a:lnTo>
                  <a:lnTo>
                    <a:pt x="5334" y="2101"/>
                  </a:lnTo>
                  <a:lnTo>
                    <a:pt x="5259" y="2122"/>
                  </a:lnTo>
                  <a:lnTo>
                    <a:pt x="5106" y="2164"/>
                  </a:lnTo>
                  <a:lnTo>
                    <a:pt x="4949" y="2205"/>
                  </a:lnTo>
                  <a:lnTo>
                    <a:pt x="4791" y="2245"/>
                  </a:lnTo>
                  <a:lnTo>
                    <a:pt x="4629" y="2284"/>
                  </a:lnTo>
                  <a:lnTo>
                    <a:pt x="4464" y="2321"/>
                  </a:lnTo>
                  <a:lnTo>
                    <a:pt x="4297" y="2356"/>
                  </a:lnTo>
                  <a:lnTo>
                    <a:pt x="4127" y="2390"/>
                  </a:lnTo>
                  <a:lnTo>
                    <a:pt x="3954" y="2424"/>
                  </a:lnTo>
                  <a:lnTo>
                    <a:pt x="3778" y="2455"/>
                  </a:lnTo>
                  <a:lnTo>
                    <a:pt x="3601" y="2485"/>
                  </a:lnTo>
                  <a:lnTo>
                    <a:pt x="3421" y="2514"/>
                  </a:lnTo>
                  <a:lnTo>
                    <a:pt x="3238" y="2542"/>
                  </a:lnTo>
                  <a:lnTo>
                    <a:pt x="3054" y="2568"/>
                  </a:lnTo>
                  <a:lnTo>
                    <a:pt x="2867" y="2592"/>
                  </a:lnTo>
                  <a:lnTo>
                    <a:pt x="2678" y="2615"/>
                  </a:lnTo>
                  <a:lnTo>
                    <a:pt x="2486" y="2636"/>
                  </a:lnTo>
                  <a:lnTo>
                    <a:pt x="2293" y="2656"/>
                  </a:lnTo>
                  <a:lnTo>
                    <a:pt x="2097" y="2674"/>
                  </a:lnTo>
                  <a:lnTo>
                    <a:pt x="1900" y="2690"/>
                  </a:lnTo>
                  <a:lnTo>
                    <a:pt x="1702" y="2706"/>
                  </a:lnTo>
                  <a:lnTo>
                    <a:pt x="1501" y="2719"/>
                  </a:lnTo>
                  <a:lnTo>
                    <a:pt x="1298" y="2731"/>
                  </a:lnTo>
                  <a:lnTo>
                    <a:pt x="1094" y="2740"/>
                  </a:lnTo>
                  <a:lnTo>
                    <a:pt x="888" y="2748"/>
                  </a:lnTo>
                  <a:lnTo>
                    <a:pt x="681" y="2754"/>
                  </a:lnTo>
                  <a:lnTo>
                    <a:pt x="472" y="2760"/>
                  </a:lnTo>
                  <a:lnTo>
                    <a:pt x="263" y="2762"/>
                  </a:lnTo>
                  <a:lnTo>
                    <a:pt x="51" y="2763"/>
                  </a:lnTo>
                  <a:lnTo>
                    <a:pt x="51" y="2763"/>
                  </a:lnTo>
                  <a:lnTo>
                    <a:pt x="51" y="2763"/>
                  </a:lnTo>
                  <a:lnTo>
                    <a:pt x="45" y="2763"/>
                  </a:lnTo>
                  <a:lnTo>
                    <a:pt x="40" y="2764"/>
                  </a:lnTo>
                  <a:lnTo>
                    <a:pt x="33" y="2765"/>
                  </a:lnTo>
                  <a:lnTo>
                    <a:pt x="29" y="2767"/>
                  </a:lnTo>
                  <a:lnTo>
                    <a:pt x="24" y="2769"/>
                  </a:lnTo>
                  <a:lnTo>
                    <a:pt x="20" y="2772"/>
                  </a:lnTo>
                  <a:lnTo>
                    <a:pt x="17" y="2775"/>
                  </a:lnTo>
                  <a:lnTo>
                    <a:pt x="14" y="2778"/>
                  </a:lnTo>
                  <a:lnTo>
                    <a:pt x="8" y="2785"/>
                  </a:lnTo>
                  <a:lnTo>
                    <a:pt x="4" y="2795"/>
                  </a:lnTo>
                  <a:lnTo>
                    <a:pt x="1" y="2803"/>
                  </a:lnTo>
                  <a:lnTo>
                    <a:pt x="0" y="2812"/>
                  </a:lnTo>
                  <a:lnTo>
                    <a:pt x="1" y="2823"/>
                  </a:lnTo>
                  <a:lnTo>
                    <a:pt x="4" y="2831"/>
                  </a:lnTo>
                  <a:lnTo>
                    <a:pt x="8" y="2840"/>
                  </a:lnTo>
                  <a:lnTo>
                    <a:pt x="14" y="2847"/>
                  </a:lnTo>
                  <a:lnTo>
                    <a:pt x="17" y="2851"/>
                  </a:lnTo>
                  <a:lnTo>
                    <a:pt x="20" y="2854"/>
                  </a:lnTo>
                  <a:lnTo>
                    <a:pt x="24" y="2857"/>
                  </a:lnTo>
                  <a:lnTo>
                    <a:pt x="29" y="2859"/>
                  </a:lnTo>
                  <a:lnTo>
                    <a:pt x="33" y="2861"/>
                  </a:lnTo>
                  <a:lnTo>
                    <a:pt x="40" y="2862"/>
                  </a:lnTo>
                  <a:lnTo>
                    <a:pt x="45" y="2863"/>
                  </a:lnTo>
                  <a:lnTo>
                    <a:pt x="51" y="286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05080" y="5078160"/>
              <a:ext cx="468360" cy="164880"/>
            </a:xfrm>
            <a:custGeom>
              <a:avLst/>
              <a:gdLst/>
              <a:ahLst/>
              <a:rect l="l" t="t" r="r" b="b"/>
              <a:pathLst>
                <a:path w="8260" h="2913">
                  <a:moveTo>
                    <a:pt x="0" y="50"/>
                  </a:moveTo>
                  <a:lnTo>
                    <a:pt x="0" y="50"/>
                  </a:lnTo>
                  <a:lnTo>
                    <a:pt x="1" y="88"/>
                  </a:lnTo>
                  <a:lnTo>
                    <a:pt x="3" y="126"/>
                  </a:lnTo>
                  <a:lnTo>
                    <a:pt x="6" y="165"/>
                  </a:lnTo>
                  <a:lnTo>
                    <a:pt x="11" y="202"/>
                  </a:lnTo>
                  <a:lnTo>
                    <a:pt x="18" y="240"/>
                  </a:lnTo>
                  <a:lnTo>
                    <a:pt x="25" y="277"/>
                  </a:lnTo>
                  <a:lnTo>
                    <a:pt x="34" y="315"/>
                  </a:lnTo>
                  <a:lnTo>
                    <a:pt x="44" y="352"/>
                  </a:lnTo>
                  <a:lnTo>
                    <a:pt x="56" y="389"/>
                  </a:lnTo>
                  <a:lnTo>
                    <a:pt x="69" y="425"/>
                  </a:lnTo>
                  <a:lnTo>
                    <a:pt x="84" y="463"/>
                  </a:lnTo>
                  <a:lnTo>
                    <a:pt x="99" y="499"/>
                  </a:lnTo>
                  <a:lnTo>
                    <a:pt x="116" y="535"/>
                  </a:lnTo>
                  <a:lnTo>
                    <a:pt x="134" y="571"/>
                  </a:lnTo>
                  <a:lnTo>
                    <a:pt x="154" y="607"/>
                  </a:lnTo>
                  <a:lnTo>
                    <a:pt x="174" y="643"/>
                  </a:lnTo>
                  <a:lnTo>
                    <a:pt x="196" y="678"/>
                  </a:lnTo>
                  <a:lnTo>
                    <a:pt x="219" y="713"/>
                  </a:lnTo>
                  <a:lnTo>
                    <a:pt x="244" y="748"/>
                  </a:lnTo>
                  <a:lnTo>
                    <a:pt x="268" y="783"/>
                  </a:lnTo>
                  <a:lnTo>
                    <a:pt x="295" y="817"/>
                  </a:lnTo>
                  <a:lnTo>
                    <a:pt x="323" y="851"/>
                  </a:lnTo>
                  <a:lnTo>
                    <a:pt x="352" y="887"/>
                  </a:lnTo>
                  <a:lnTo>
                    <a:pt x="382" y="920"/>
                  </a:lnTo>
                  <a:lnTo>
                    <a:pt x="414" y="954"/>
                  </a:lnTo>
                  <a:lnTo>
                    <a:pt x="446" y="987"/>
                  </a:lnTo>
                  <a:lnTo>
                    <a:pt x="480" y="1020"/>
                  </a:lnTo>
                  <a:lnTo>
                    <a:pt x="514" y="1053"/>
                  </a:lnTo>
                  <a:lnTo>
                    <a:pt x="550" y="1086"/>
                  </a:lnTo>
                  <a:lnTo>
                    <a:pt x="587" y="1119"/>
                  </a:lnTo>
                  <a:lnTo>
                    <a:pt x="625" y="1151"/>
                  </a:lnTo>
                  <a:lnTo>
                    <a:pt x="664" y="1183"/>
                  </a:lnTo>
                  <a:lnTo>
                    <a:pt x="704" y="1216"/>
                  </a:lnTo>
                  <a:lnTo>
                    <a:pt x="745" y="1248"/>
                  </a:lnTo>
                  <a:lnTo>
                    <a:pt x="788" y="1279"/>
                  </a:lnTo>
                  <a:lnTo>
                    <a:pt x="831" y="1310"/>
                  </a:lnTo>
                  <a:lnTo>
                    <a:pt x="876" y="1341"/>
                  </a:lnTo>
                  <a:lnTo>
                    <a:pt x="921" y="1372"/>
                  </a:lnTo>
                  <a:lnTo>
                    <a:pt x="967" y="1403"/>
                  </a:lnTo>
                  <a:lnTo>
                    <a:pt x="1015" y="1433"/>
                  </a:lnTo>
                  <a:lnTo>
                    <a:pt x="1063" y="1463"/>
                  </a:lnTo>
                  <a:lnTo>
                    <a:pt x="1113" y="1493"/>
                  </a:lnTo>
                  <a:lnTo>
                    <a:pt x="1164" y="1523"/>
                  </a:lnTo>
                  <a:lnTo>
                    <a:pt x="1214" y="1552"/>
                  </a:lnTo>
                  <a:lnTo>
                    <a:pt x="1267" y="1581"/>
                  </a:lnTo>
                  <a:lnTo>
                    <a:pt x="1321" y="1610"/>
                  </a:lnTo>
                  <a:lnTo>
                    <a:pt x="1375" y="1639"/>
                  </a:lnTo>
                  <a:lnTo>
                    <a:pt x="1430" y="1668"/>
                  </a:lnTo>
                  <a:lnTo>
                    <a:pt x="1487" y="1696"/>
                  </a:lnTo>
                  <a:lnTo>
                    <a:pt x="1544" y="1723"/>
                  </a:lnTo>
                  <a:lnTo>
                    <a:pt x="1602" y="1750"/>
                  </a:lnTo>
                  <a:lnTo>
                    <a:pt x="1661" y="1778"/>
                  </a:lnTo>
                  <a:lnTo>
                    <a:pt x="1721" y="1805"/>
                  </a:lnTo>
                  <a:lnTo>
                    <a:pt x="1782" y="1832"/>
                  </a:lnTo>
                  <a:lnTo>
                    <a:pt x="1844" y="1859"/>
                  </a:lnTo>
                  <a:lnTo>
                    <a:pt x="1907" y="1885"/>
                  </a:lnTo>
                  <a:lnTo>
                    <a:pt x="1970" y="1912"/>
                  </a:lnTo>
                  <a:lnTo>
                    <a:pt x="2034" y="1938"/>
                  </a:lnTo>
                  <a:lnTo>
                    <a:pt x="2100" y="1962"/>
                  </a:lnTo>
                  <a:lnTo>
                    <a:pt x="2166" y="1988"/>
                  </a:lnTo>
                  <a:lnTo>
                    <a:pt x="2233" y="2013"/>
                  </a:lnTo>
                  <a:lnTo>
                    <a:pt x="2301" y="2038"/>
                  </a:lnTo>
                  <a:lnTo>
                    <a:pt x="2370" y="2062"/>
                  </a:lnTo>
                  <a:lnTo>
                    <a:pt x="2440" y="2087"/>
                  </a:lnTo>
                  <a:lnTo>
                    <a:pt x="2510" y="2110"/>
                  </a:lnTo>
                  <a:lnTo>
                    <a:pt x="2581" y="2133"/>
                  </a:lnTo>
                  <a:lnTo>
                    <a:pt x="2654" y="2157"/>
                  </a:lnTo>
                  <a:lnTo>
                    <a:pt x="2726" y="2180"/>
                  </a:lnTo>
                  <a:lnTo>
                    <a:pt x="2799" y="2202"/>
                  </a:lnTo>
                  <a:lnTo>
                    <a:pt x="2874" y="2225"/>
                  </a:lnTo>
                  <a:lnTo>
                    <a:pt x="2949" y="2247"/>
                  </a:lnTo>
                  <a:lnTo>
                    <a:pt x="3025" y="2269"/>
                  </a:lnTo>
                  <a:lnTo>
                    <a:pt x="3179" y="2311"/>
                  </a:lnTo>
                  <a:lnTo>
                    <a:pt x="3336" y="2352"/>
                  </a:lnTo>
                  <a:lnTo>
                    <a:pt x="3497" y="2393"/>
                  </a:lnTo>
                  <a:lnTo>
                    <a:pt x="3659" y="2431"/>
                  </a:lnTo>
                  <a:lnTo>
                    <a:pt x="3825" y="2468"/>
                  </a:lnTo>
                  <a:lnTo>
                    <a:pt x="3994" y="2504"/>
                  </a:lnTo>
                  <a:lnTo>
                    <a:pt x="4165" y="2540"/>
                  </a:lnTo>
                  <a:lnTo>
                    <a:pt x="4339" y="2573"/>
                  </a:lnTo>
                  <a:lnTo>
                    <a:pt x="4515" y="2605"/>
                  </a:lnTo>
                  <a:lnTo>
                    <a:pt x="4694" y="2635"/>
                  </a:lnTo>
                  <a:lnTo>
                    <a:pt x="4874" y="2664"/>
                  </a:lnTo>
                  <a:lnTo>
                    <a:pt x="5058" y="2692"/>
                  </a:lnTo>
                  <a:lnTo>
                    <a:pt x="5244" y="2717"/>
                  </a:lnTo>
                  <a:lnTo>
                    <a:pt x="5432" y="2742"/>
                  </a:lnTo>
                  <a:lnTo>
                    <a:pt x="5622" y="2765"/>
                  </a:lnTo>
                  <a:lnTo>
                    <a:pt x="5814" y="2786"/>
                  </a:lnTo>
                  <a:lnTo>
                    <a:pt x="6008" y="2805"/>
                  </a:lnTo>
                  <a:lnTo>
                    <a:pt x="6204" y="2824"/>
                  </a:lnTo>
                  <a:lnTo>
                    <a:pt x="6403" y="2841"/>
                  </a:lnTo>
                  <a:lnTo>
                    <a:pt x="6603" y="2856"/>
                  </a:lnTo>
                  <a:lnTo>
                    <a:pt x="6804" y="2869"/>
                  </a:lnTo>
                  <a:lnTo>
                    <a:pt x="7008" y="2880"/>
                  </a:lnTo>
                  <a:lnTo>
                    <a:pt x="7213" y="2890"/>
                  </a:lnTo>
                  <a:lnTo>
                    <a:pt x="7420" y="2899"/>
                  </a:lnTo>
                  <a:lnTo>
                    <a:pt x="7627" y="2905"/>
                  </a:lnTo>
                  <a:lnTo>
                    <a:pt x="7837" y="2909"/>
                  </a:lnTo>
                  <a:lnTo>
                    <a:pt x="8047" y="2912"/>
                  </a:lnTo>
                  <a:lnTo>
                    <a:pt x="8260" y="2913"/>
                  </a:lnTo>
                  <a:lnTo>
                    <a:pt x="8260" y="2813"/>
                  </a:lnTo>
                  <a:lnTo>
                    <a:pt x="8048" y="2812"/>
                  </a:lnTo>
                  <a:lnTo>
                    <a:pt x="7839" y="2810"/>
                  </a:lnTo>
                  <a:lnTo>
                    <a:pt x="7630" y="2804"/>
                  </a:lnTo>
                  <a:lnTo>
                    <a:pt x="7423" y="2798"/>
                  </a:lnTo>
                  <a:lnTo>
                    <a:pt x="7217" y="2790"/>
                  </a:lnTo>
                  <a:lnTo>
                    <a:pt x="7013" y="2781"/>
                  </a:lnTo>
                  <a:lnTo>
                    <a:pt x="6810" y="2769"/>
                  </a:lnTo>
                  <a:lnTo>
                    <a:pt x="6609" y="2756"/>
                  </a:lnTo>
                  <a:lnTo>
                    <a:pt x="6411" y="2740"/>
                  </a:lnTo>
                  <a:lnTo>
                    <a:pt x="6214" y="2724"/>
                  </a:lnTo>
                  <a:lnTo>
                    <a:pt x="6017" y="2706"/>
                  </a:lnTo>
                  <a:lnTo>
                    <a:pt x="5824" y="2686"/>
                  </a:lnTo>
                  <a:lnTo>
                    <a:pt x="5633" y="2665"/>
                  </a:lnTo>
                  <a:lnTo>
                    <a:pt x="5444" y="2642"/>
                  </a:lnTo>
                  <a:lnTo>
                    <a:pt x="5257" y="2618"/>
                  </a:lnTo>
                  <a:lnTo>
                    <a:pt x="5073" y="2592"/>
                  </a:lnTo>
                  <a:lnTo>
                    <a:pt x="4890" y="2564"/>
                  </a:lnTo>
                  <a:lnTo>
                    <a:pt x="4709" y="2535"/>
                  </a:lnTo>
                  <a:lnTo>
                    <a:pt x="4532" y="2505"/>
                  </a:lnTo>
                  <a:lnTo>
                    <a:pt x="4357" y="2474"/>
                  </a:lnTo>
                  <a:lnTo>
                    <a:pt x="4184" y="2440"/>
                  </a:lnTo>
                  <a:lnTo>
                    <a:pt x="4014" y="2406"/>
                  </a:lnTo>
                  <a:lnTo>
                    <a:pt x="3846" y="2371"/>
                  </a:lnTo>
                  <a:lnTo>
                    <a:pt x="3682" y="2334"/>
                  </a:lnTo>
                  <a:lnTo>
                    <a:pt x="3520" y="2295"/>
                  </a:lnTo>
                  <a:lnTo>
                    <a:pt x="3361" y="2255"/>
                  </a:lnTo>
                  <a:lnTo>
                    <a:pt x="3205" y="2214"/>
                  </a:lnTo>
                  <a:lnTo>
                    <a:pt x="3052" y="2172"/>
                  </a:lnTo>
                  <a:lnTo>
                    <a:pt x="2977" y="2151"/>
                  </a:lnTo>
                  <a:lnTo>
                    <a:pt x="2902" y="2129"/>
                  </a:lnTo>
                  <a:lnTo>
                    <a:pt x="2829" y="2106"/>
                  </a:lnTo>
                  <a:lnTo>
                    <a:pt x="2756" y="2084"/>
                  </a:lnTo>
                  <a:lnTo>
                    <a:pt x="2683" y="2062"/>
                  </a:lnTo>
                  <a:lnTo>
                    <a:pt x="2612" y="2038"/>
                  </a:lnTo>
                  <a:lnTo>
                    <a:pt x="2541" y="2015"/>
                  </a:lnTo>
                  <a:lnTo>
                    <a:pt x="2472" y="1991"/>
                  </a:lnTo>
                  <a:lnTo>
                    <a:pt x="2403" y="1968"/>
                  </a:lnTo>
                  <a:lnTo>
                    <a:pt x="2334" y="1944"/>
                  </a:lnTo>
                  <a:lnTo>
                    <a:pt x="2267" y="1919"/>
                  </a:lnTo>
                  <a:lnTo>
                    <a:pt x="2201" y="1894"/>
                  </a:lnTo>
                  <a:lnTo>
                    <a:pt x="2136" y="1869"/>
                  </a:lnTo>
                  <a:lnTo>
                    <a:pt x="2071" y="1843"/>
                  </a:lnTo>
                  <a:lnTo>
                    <a:pt x="2007" y="1819"/>
                  </a:lnTo>
                  <a:lnTo>
                    <a:pt x="1944" y="1793"/>
                  </a:lnTo>
                  <a:lnTo>
                    <a:pt x="1883" y="1767"/>
                  </a:lnTo>
                  <a:lnTo>
                    <a:pt x="1821" y="1740"/>
                  </a:lnTo>
                  <a:lnTo>
                    <a:pt x="1761" y="1714"/>
                  </a:lnTo>
                  <a:lnTo>
                    <a:pt x="1703" y="1687"/>
                  </a:lnTo>
                  <a:lnTo>
                    <a:pt x="1644" y="1660"/>
                  </a:lnTo>
                  <a:lnTo>
                    <a:pt x="1587" y="1632"/>
                  </a:lnTo>
                  <a:lnTo>
                    <a:pt x="1531" y="1606"/>
                  </a:lnTo>
                  <a:lnTo>
                    <a:pt x="1475" y="1578"/>
                  </a:lnTo>
                  <a:lnTo>
                    <a:pt x="1421" y="1550"/>
                  </a:lnTo>
                  <a:lnTo>
                    <a:pt x="1368" y="1522"/>
                  </a:lnTo>
                  <a:lnTo>
                    <a:pt x="1315" y="1493"/>
                  </a:lnTo>
                  <a:lnTo>
                    <a:pt x="1264" y="1465"/>
                  </a:lnTo>
                  <a:lnTo>
                    <a:pt x="1213" y="1436"/>
                  </a:lnTo>
                  <a:lnTo>
                    <a:pt x="1164" y="1407"/>
                  </a:lnTo>
                  <a:lnTo>
                    <a:pt x="1115" y="1378"/>
                  </a:lnTo>
                  <a:lnTo>
                    <a:pt x="1068" y="1348"/>
                  </a:lnTo>
                  <a:lnTo>
                    <a:pt x="1022" y="1319"/>
                  </a:lnTo>
                  <a:lnTo>
                    <a:pt x="977" y="1289"/>
                  </a:lnTo>
                  <a:lnTo>
                    <a:pt x="932" y="1259"/>
                  </a:lnTo>
                  <a:lnTo>
                    <a:pt x="889" y="1228"/>
                  </a:lnTo>
                  <a:lnTo>
                    <a:pt x="847" y="1198"/>
                  </a:lnTo>
                  <a:lnTo>
                    <a:pt x="805" y="1167"/>
                  </a:lnTo>
                  <a:lnTo>
                    <a:pt x="766" y="1137"/>
                  </a:lnTo>
                  <a:lnTo>
                    <a:pt x="727" y="1106"/>
                  </a:lnTo>
                  <a:lnTo>
                    <a:pt x="690" y="1075"/>
                  </a:lnTo>
                  <a:lnTo>
                    <a:pt x="653" y="1043"/>
                  </a:lnTo>
                  <a:lnTo>
                    <a:pt x="617" y="1012"/>
                  </a:lnTo>
                  <a:lnTo>
                    <a:pt x="582" y="980"/>
                  </a:lnTo>
                  <a:lnTo>
                    <a:pt x="549" y="949"/>
                  </a:lnTo>
                  <a:lnTo>
                    <a:pt x="517" y="917"/>
                  </a:lnTo>
                  <a:lnTo>
                    <a:pt x="486" y="885"/>
                  </a:lnTo>
                  <a:lnTo>
                    <a:pt x="456" y="852"/>
                  </a:lnTo>
                  <a:lnTo>
                    <a:pt x="427" y="820"/>
                  </a:lnTo>
                  <a:lnTo>
                    <a:pt x="401" y="788"/>
                  </a:lnTo>
                  <a:lnTo>
                    <a:pt x="374" y="755"/>
                  </a:lnTo>
                  <a:lnTo>
                    <a:pt x="349" y="723"/>
                  </a:lnTo>
                  <a:lnTo>
                    <a:pt x="324" y="690"/>
                  </a:lnTo>
                  <a:lnTo>
                    <a:pt x="301" y="657"/>
                  </a:lnTo>
                  <a:lnTo>
                    <a:pt x="281" y="624"/>
                  </a:lnTo>
                  <a:lnTo>
                    <a:pt x="260" y="591"/>
                  </a:lnTo>
                  <a:lnTo>
                    <a:pt x="241" y="558"/>
                  </a:lnTo>
                  <a:lnTo>
                    <a:pt x="223" y="525"/>
                  </a:lnTo>
                  <a:lnTo>
                    <a:pt x="205" y="491"/>
                  </a:lnTo>
                  <a:lnTo>
                    <a:pt x="190" y="458"/>
                  </a:lnTo>
                  <a:lnTo>
                    <a:pt x="176" y="424"/>
                  </a:lnTo>
                  <a:lnTo>
                    <a:pt x="163" y="391"/>
                  </a:lnTo>
                  <a:lnTo>
                    <a:pt x="151" y="357"/>
                  </a:lnTo>
                  <a:lnTo>
                    <a:pt x="140" y="324"/>
                  </a:lnTo>
                  <a:lnTo>
                    <a:pt x="131" y="290"/>
                  </a:lnTo>
                  <a:lnTo>
                    <a:pt x="123" y="256"/>
                  </a:lnTo>
                  <a:lnTo>
                    <a:pt x="116" y="222"/>
                  </a:lnTo>
                  <a:lnTo>
                    <a:pt x="110" y="187"/>
                  </a:lnTo>
                  <a:lnTo>
                    <a:pt x="106" y="153"/>
                  </a:lnTo>
                  <a:lnTo>
                    <a:pt x="102" y="119"/>
                  </a:lnTo>
                  <a:lnTo>
                    <a:pt x="101" y="85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4" y="24"/>
                  </a:lnTo>
                  <a:lnTo>
                    <a:pt x="91" y="20"/>
                  </a:lnTo>
                  <a:lnTo>
                    <a:pt x="88" y="16"/>
                  </a:lnTo>
                  <a:lnTo>
                    <a:pt x="85" y="13"/>
                  </a:lnTo>
                  <a:lnTo>
                    <a:pt x="77" y="7"/>
                  </a:lnTo>
                  <a:lnTo>
                    <a:pt x="68" y="3"/>
                  </a:lnTo>
                  <a:lnTo>
                    <a:pt x="60" y="1"/>
                  </a:lnTo>
                  <a:lnTo>
                    <a:pt x="51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3" y="7"/>
                  </a:lnTo>
                  <a:lnTo>
                    <a:pt x="15" y="13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5080" y="4919400"/>
              <a:ext cx="471600" cy="161640"/>
            </a:xfrm>
            <a:custGeom>
              <a:avLst/>
              <a:gdLst/>
              <a:ahLst/>
              <a:rect l="l" t="t" r="r" b="b"/>
              <a:pathLst>
                <a:path w="8311" h="2862">
                  <a:moveTo>
                    <a:pt x="8260" y="0"/>
                  </a:moveTo>
                  <a:lnTo>
                    <a:pt x="8260" y="0"/>
                  </a:lnTo>
                  <a:lnTo>
                    <a:pt x="8047" y="0"/>
                  </a:lnTo>
                  <a:lnTo>
                    <a:pt x="7837" y="3"/>
                  </a:lnTo>
                  <a:lnTo>
                    <a:pt x="7627" y="8"/>
                  </a:lnTo>
                  <a:lnTo>
                    <a:pt x="7420" y="14"/>
                  </a:lnTo>
                  <a:lnTo>
                    <a:pt x="7213" y="22"/>
                  </a:lnTo>
                  <a:lnTo>
                    <a:pt x="7008" y="32"/>
                  </a:lnTo>
                  <a:lnTo>
                    <a:pt x="6804" y="43"/>
                  </a:lnTo>
                  <a:lnTo>
                    <a:pt x="6603" y="57"/>
                  </a:lnTo>
                  <a:lnTo>
                    <a:pt x="6403" y="71"/>
                  </a:lnTo>
                  <a:lnTo>
                    <a:pt x="6204" y="88"/>
                  </a:lnTo>
                  <a:lnTo>
                    <a:pt x="6008" y="106"/>
                  </a:lnTo>
                  <a:lnTo>
                    <a:pt x="5814" y="126"/>
                  </a:lnTo>
                  <a:lnTo>
                    <a:pt x="5622" y="148"/>
                  </a:lnTo>
                  <a:lnTo>
                    <a:pt x="5432" y="170"/>
                  </a:lnTo>
                  <a:lnTo>
                    <a:pt x="5244" y="195"/>
                  </a:lnTo>
                  <a:lnTo>
                    <a:pt x="5058" y="221"/>
                  </a:lnTo>
                  <a:lnTo>
                    <a:pt x="4874" y="249"/>
                  </a:lnTo>
                  <a:lnTo>
                    <a:pt x="4694" y="278"/>
                  </a:lnTo>
                  <a:lnTo>
                    <a:pt x="4515" y="308"/>
                  </a:lnTo>
                  <a:lnTo>
                    <a:pt x="4339" y="340"/>
                  </a:lnTo>
                  <a:lnTo>
                    <a:pt x="4165" y="373"/>
                  </a:lnTo>
                  <a:lnTo>
                    <a:pt x="3994" y="408"/>
                  </a:lnTo>
                  <a:lnTo>
                    <a:pt x="3825" y="443"/>
                  </a:lnTo>
                  <a:lnTo>
                    <a:pt x="3659" y="482"/>
                  </a:lnTo>
                  <a:lnTo>
                    <a:pt x="3497" y="520"/>
                  </a:lnTo>
                  <a:lnTo>
                    <a:pt x="3336" y="560"/>
                  </a:lnTo>
                  <a:lnTo>
                    <a:pt x="3179" y="602"/>
                  </a:lnTo>
                  <a:lnTo>
                    <a:pt x="3025" y="644"/>
                  </a:lnTo>
                  <a:lnTo>
                    <a:pt x="2874" y="687"/>
                  </a:lnTo>
                  <a:lnTo>
                    <a:pt x="2726" y="733"/>
                  </a:lnTo>
                  <a:lnTo>
                    <a:pt x="2654" y="756"/>
                  </a:lnTo>
                  <a:lnTo>
                    <a:pt x="2581" y="779"/>
                  </a:lnTo>
                  <a:lnTo>
                    <a:pt x="2510" y="802"/>
                  </a:lnTo>
                  <a:lnTo>
                    <a:pt x="2440" y="826"/>
                  </a:lnTo>
                  <a:lnTo>
                    <a:pt x="2370" y="850"/>
                  </a:lnTo>
                  <a:lnTo>
                    <a:pt x="2301" y="875"/>
                  </a:lnTo>
                  <a:lnTo>
                    <a:pt x="2233" y="900"/>
                  </a:lnTo>
                  <a:lnTo>
                    <a:pt x="2166" y="924"/>
                  </a:lnTo>
                  <a:lnTo>
                    <a:pt x="2100" y="949"/>
                  </a:lnTo>
                  <a:lnTo>
                    <a:pt x="2034" y="975"/>
                  </a:lnTo>
                  <a:lnTo>
                    <a:pt x="1970" y="1001"/>
                  </a:lnTo>
                  <a:lnTo>
                    <a:pt x="1907" y="1027"/>
                  </a:lnTo>
                  <a:lnTo>
                    <a:pt x="1844" y="1054"/>
                  </a:lnTo>
                  <a:lnTo>
                    <a:pt x="1782" y="1080"/>
                  </a:lnTo>
                  <a:lnTo>
                    <a:pt x="1721" y="1106"/>
                  </a:lnTo>
                  <a:lnTo>
                    <a:pt x="1661" y="1134"/>
                  </a:lnTo>
                  <a:lnTo>
                    <a:pt x="1602" y="1161"/>
                  </a:lnTo>
                  <a:lnTo>
                    <a:pt x="1544" y="1189"/>
                  </a:lnTo>
                  <a:lnTo>
                    <a:pt x="1487" y="1217"/>
                  </a:lnTo>
                  <a:lnTo>
                    <a:pt x="1430" y="1245"/>
                  </a:lnTo>
                  <a:lnTo>
                    <a:pt x="1375" y="1274"/>
                  </a:lnTo>
                  <a:lnTo>
                    <a:pt x="1321" y="1302"/>
                  </a:lnTo>
                  <a:lnTo>
                    <a:pt x="1267" y="1331"/>
                  </a:lnTo>
                  <a:lnTo>
                    <a:pt x="1214" y="1360"/>
                  </a:lnTo>
                  <a:lnTo>
                    <a:pt x="1164" y="1390"/>
                  </a:lnTo>
                  <a:lnTo>
                    <a:pt x="1113" y="1419"/>
                  </a:lnTo>
                  <a:lnTo>
                    <a:pt x="1063" y="1449"/>
                  </a:lnTo>
                  <a:lnTo>
                    <a:pt x="1015" y="1480"/>
                  </a:lnTo>
                  <a:lnTo>
                    <a:pt x="967" y="1510"/>
                  </a:lnTo>
                  <a:lnTo>
                    <a:pt x="921" y="1541"/>
                  </a:lnTo>
                  <a:lnTo>
                    <a:pt x="876" y="1571"/>
                  </a:lnTo>
                  <a:lnTo>
                    <a:pt x="831" y="1602"/>
                  </a:lnTo>
                  <a:lnTo>
                    <a:pt x="788" y="1634"/>
                  </a:lnTo>
                  <a:lnTo>
                    <a:pt x="745" y="1665"/>
                  </a:lnTo>
                  <a:lnTo>
                    <a:pt x="704" y="1697"/>
                  </a:lnTo>
                  <a:lnTo>
                    <a:pt x="664" y="1728"/>
                  </a:lnTo>
                  <a:lnTo>
                    <a:pt x="625" y="1761"/>
                  </a:lnTo>
                  <a:lnTo>
                    <a:pt x="587" y="1793"/>
                  </a:lnTo>
                  <a:lnTo>
                    <a:pt x="550" y="1826"/>
                  </a:lnTo>
                  <a:lnTo>
                    <a:pt x="514" y="1858"/>
                  </a:lnTo>
                  <a:lnTo>
                    <a:pt x="480" y="1892"/>
                  </a:lnTo>
                  <a:lnTo>
                    <a:pt x="446" y="1925"/>
                  </a:lnTo>
                  <a:lnTo>
                    <a:pt x="414" y="1959"/>
                  </a:lnTo>
                  <a:lnTo>
                    <a:pt x="382" y="1992"/>
                  </a:lnTo>
                  <a:lnTo>
                    <a:pt x="352" y="2026"/>
                  </a:lnTo>
                  <a:lnTo>
                    <a:pt x="323" y="2060"/>
                  </a:lnTo>
                  <a:lnTo>
                    <a:pt x="295" y="2095"/>
                  </a:lnTo>
                  <a:lnTo>
                    <a:pt x="268" y="2129"/>
                  </a:lnTo>
                  <a:lnTo>
                    <a:pt x="244" y="2165"/>
                  </a:lnTo>
                  <a:lnTo>
                    <a:pt x="219" y="2199"/>
                  </a:lnTo>
                  <a:lnTo>
                    <a:pt x="196" y="2234"/>
                  </a:lnTo>
                  <a:lnTo>
                    <a:pt x="174" y="2270"/>
                  </a:lnTo>
                  <a:lnTo>
                    <a:pt x="154" y="2305"/>
                  </a:lnTo>
                  <a:lnTo>
                    <a:pt x="134" y="2341"/>
                  </a:lnTo>
                  <a:lnTo>
                    <a:pt x="116" y="2378"/>
                  </a:lnTo>
                  <a:lnTo>
                    <a:pt x="99" y="2414"/>
                  </a:lnTo>
                  <a:lnTo>
                    <a:pt x="84" y="2450"/>
                  </a:lnTo>
                  <a:lnTo>
                    <a:pt x="69" y="2486"/>
                  </a:lnTo>
                  <a:lnTo>
                    <a:pt x="56" y="2524"/>
                  </a:lnTo>
                  <a:lnTo>
                    <a:pt x="44" y="2561"/>
                  </a:lnTo>
                  <a:lnTo>
                    <a:pt x="34" y="2598"/>
                  </a:lnTo>
                  <a:lnTo>
                    <a:pt x="25" y="2635"/>
                  </a:lnTo>
                  <a:lnTo>
                    <a:pt x="18" y="2673"/>
                  </a:lnTo>
                  <a:lnTo>
                    <a:pt x="11" y="2710"/>
                  </a:lnTo>
                  <a:lnTo>
                    <a:pt x="6" y="2748"/>
                  </a:lnTo>
                  <a:lnTo>
                    <a:pt x="3" y="2786"/>
                  </a:lnTo>
                  <a:lnTo>
                    <a:pt x="1" y="2824"/>
                  </a:lnTo>
                  <a:lnTo>
                    <a:pt x="0" y="2862"/>
                  </a:lnTo>
                  <a:lnTo>
                    <a:pt x="100" y="2862"/>
                  </a:lnTo>
                  <a:lnTo>
                    <a:pt x="101" y="2828"/>
                  </a:lnTo>
                  <a:lnTo>
                    <a:pt x="102" y="2794"/>
                  </a:lnTo>
                  <a:lnTo>
                    <a:pt x="106" y="2759"/>
                  </a:lnTo>
                  <a:lnTo>
                    <a:pt x="110" y="2725"/>
                  </a:lnTo>
                  <a:lnTo>
                    <a:pt x="116" y="2691"/>
                  </a:lnTo>
                  <a:lnTo>
                    <a:pt x="123" y="2657"/>
                  </a:lnTo>
                  <a:lnTo>
                    <a:pt x="131" y="2623"/>
                  </a:lnTo>
                  <a:lnTo>
                    <a:pt x="140" y="2589"/>
                  </a:lnTo>
                  <a:lnTo>
                    <a:pt x="151" y="2556"/>
                  </a:lnTo>
                  <a:lnTo>
                    <a:pt x="163" y="2521"/>
                  </a:lnTo>
                  <a:lnTo>
                    <a:pt x="176" y="2488"/>
                  </a:lnTo>
                  <a:lnTo>
                    <a:pt x="190" y="2454"/>
                  </a:lnTo>
                  <a:lnTo>
                    <a:pt x="205" y="2421"/>
                  </a:lnTo>
                  <a:lnTo>
                    <a:pt x="223" y="2388"/>
                  </a:lnTo>
                  <a:lnTo>
                    <a:pt x="241" y="2354"/>
                  </a:lnTo>
                  <a:lnTo>
                    <a:pt x="260" y="2321"/>
                  </a:lnTo>
                  <a:lnTo>
                    <a:pt x="280" y="2288"/>
                  </a:lnTo>
                  <a:lnTo>
                    <a:pt x="301" y="2256"/>
                  </a:lnTo>
                  <a:lnTo>
                    <a:pt x="324" y="2223"/>
                  </a:lnTo>
                  <a:lnTo>
                    <a:pt x="349" y="2189"/>
                  </a:lnTo>
                  <a:lnTo>
                    <a:pt x="374" y="2157"/>
                  </a:lnTo>
                  <a:lnTo>
                    <a:pt x="401" y="2124"/>
                  </a:lnTo>
                  <a:lnTo>
                    <a:pt x="427" y="2092"/>
                  </a:lnTo>
                  <a:lnTo>
                    <a:pt x="456" y="2060"/>
                  </a:lnTo>
                  <a:lnTo>
                    <a:pt x="486" y="2028"/>
                  </a:lnTo>
                  <a:lnTo>
                    <a:pt x="517" y="1996"/>
                  </a:lnTo>
                  <a:lnTo>
                    <a:pt x="549" y="1964"/>
                  </a:lnTo>
                  <a:lnTo>
                    <a:pt x="582" y="1932"/>
                  </a:lnTo>
                  <a:lnTo>
                    <a:pt x="617" y="1901"/>
                  </a:lnTo>
                  <a:lnTo>
                    <a:pt x="653" y="1869"/>
                  </a:lnTo>
                  <a:lnTo>
                    <a:pt x="690" y="1838"/>
                  </a:lnTo>
                  <a:lnTo>
                    <a:pt x="727" y="1807"/>
                  </a:lnTo>
                  <a:lnTo>
                    <a:pt x="766" y="1776"/>
                  </a:lnTo>
                  <a:lnTo>
                    <a:pt x="805" y="1745"/>
                  </a:lnTo>
                  <a:lnTo>
                    <a:pt x="847" y="1715"/>
                  </a:lnTo>
                  <a:lnTo>
                    <a:pt x="889" y="1684"/>
                  </a:lnTo>
                  <a:lnTo>
                    <a:pt x="932" y="1654"/>
                  </a:lnTo>
                  <a:lnTo>
                    <a:pt x="977" y="1624"/>
                  </a:lnTo>
                  <a:lnTo>
                    <a:pt x="1022" y="1594"/>
                  </a:lnTo>
                  <a:lnTo>
                    <a:pt x="1068" y="1565"/>
                  </a:lnTo>
                  <a:lnTo>
                    <a:pt x="1115" y="1535"/>
                  </a:lnTo>
                  <a:lnTo>
                    <a:pt x="1164" y="1506"/>
                  </a:lnTo>
                  <a:lnTo>
                    <a:pt x="1213" y="1477"/>
                  </a:lnTo>
                  <a:lnTo>
                    <a:pt x="1264" y="1448"/>
                  </a:lnTo>
                  <a:lnTo>
                    <a:pt x="1315" y="1419"/>
                  </a:lnTo>
                  <a:lnTo>
                    <a:pt x="1368" y="1391"/>
                  </a:lnTo>
                  <a:lnTo>
                    <a:pt x="1421" y="1363"/>
                  </a:lnTo>
                  <a:lnTo>
                    <a:pt x="1475" y="1335"/>
                  </a:lnTo>
                  <a:lnTo>
                    <a:pt x="1531" y="1307"/>
                  </a:lnTo>
                  <a:lnTo>
                    <a:pt x="1587" y="1279"/>
                  </a:lnTo>
                  <a:lnTo>
                    <a:pt x="1644" y="1252"/>
                  </a:lnTo>
                  <a:lnTo>
                    <a:pt x="1703" y="1225"/>
                  </a:lnTo>
                  <a:lnTo>
                    <a:pt x="1761" y="1198"/>
                  </a:lnTo>
                  <a:lnTo>
                    <a:pt x="1821" y="1172"/>
                  </a:lnTo>
                  <a:lnTo>
                    <a:pt x="1883" y="1146"/>
                  </a:lnTo>
                  <a:lnTo>
                    <a:pt x="1944" y="1120"/>
                  </a:lnTo>
                  <a:lnTo>
                    <a:pt x="2007" y="1094"/>
                  </a:lnTo>
                  <a:lnTo>
                    <a:pt x="2071" y="1068"/>
                  </a:lnTo>
                  <a:lnTo>
                    <a:pt x="2136" y="1043"/>
                  </a:lnTo>
                  <a:lnTo>
                    <a:pt x="2201" y="1019"/>
                  </a:lnTo>
                  <a:lnTo>
                    <a:pt x="2267" y="994"/>
                  </a:lnTo>
                  <a:lnTo>
                    <a:pt x="2334" y="969"/>
                  </a:lnTo>
                  <a:lnTo>
                    <a:pt x="2403" y="945"/>
                  </a:lnTo>
                  <a:lnTo>
                    <a:pt x="2472" y="921"/>
                  </a:lnTo>
                  <a:lnTo>
                    <a:pt x="2541" y="897"/>
                  </a:lnTo>
                  <a:lnTo>
                    <a:pt x="2612" y="874"/>
                  </a:lnTo>
                  <a:lnTo>
                    <a:pt x="2683" y="851"/>
                  </a:lnTo>
                  <a:lnTo>
                    <a:pt x="2756" y="828"/>
                  </a:lnTo>
                  <a:lnTo>
                    <a:pt x="2902" y="784"/>
                  </a:lnTo>
                  <a:lnTo>
                    <a:pt x="3052" y="740"/>
                  </a:lnTo>
                  <a:lnTo>
                    <a:pt x="3205" y="698"/>
                  </a:lnTo>
                  <a:lnTo>
                    <a:pt x="3361" y="657"/>
                  </a:lnTo>
                  <a:lnTo>
                    <a:pt x="3520" y="617"/>
                  </a:lnTo>
                  <a:lnTo>
                    <a:pt x="3682" y="579"/>
                  </a:lnTo>
                  <a:lnTo>
                    <a:pt x="3846" y="542"/>
                  </a:lnTo>
                  <a:lnTo>
                    <a:pt x="4014" y="505"/>
                  </a:lnTo>
                  <a:lnTo>
                    <a:pt x="4184" y="471"/>
                  </a:lnTo>
                  <a:lnTo>
                    <a:pt x="4357" y="438"/>
                  </a:lnTo>
                  <a:lnTo>
                    <a:pt x="4532" y="407"/>
                  </a:lnTo>
                  <a:lnTo>
                    <a:pt x="4709" y="376"/>
                  </a:lnTo>
                  <a:lnTo>
                    <a:pt x="4890" y="347"/>
                  </a:lnTo>
                  <a:lnTo>
                    <a:pt x="5073" y="320"/>
                  </a:lnTo>
                  <a:lnTo>
                    <a:pt x="5257" y="294"/>
                  </a:lnTo>
                  <a:lnTo>
                    <a:pt x="5444" y="270"/>
                  </a:lnTo>
                  <a:lnTo>
                    <a:pt x="5633" y="247"/>
                  </a:lnTo>
                  <a:lnTo>
                    <a:pt x="5824" y="226"/>
                  </a:lnTo>
                  <a:lnTo>
                    <a:pt x="6017" y="207"/>
                  </a:lnTo>
                  <a:lnTo>
                    <a:pt x="6214" y="188"/>
                  </a:lnTo>
                  <a:lnTo>
                    <a:pt x="6411" y="171"/>
                  </a:lnTo>
                  <a:lnTo>
                    <a:pt x="6609" y="157"/>
                  </a:lnTo>
                  <a:lnTo>
                    <a:pt x="6810" y="143"/>
                  </a:lnTo>
                  <a:lnTo>
                    <a:pt x="7013" y="132"/>
                  </a:lnTo>
                  <a:lnTo>
                    <a:pt x="7217" y="122"/>
                  </a:lnTo>
                  <a:lnTo>
                    <a:pt x="7423" y="114"/>
                  </a:lnTo>
                  <a:lnTo>
                    <a:pt x="7630" y="107"/>
                  </a:lnTo>
                  <a:lnTo>
                    <a:pt x="7839" y="103"/>
                  </a:lnTo>
                  <a:lnTo>
                    <a:pt x="8048" y="101"/>
                  </a:lnTo>
                  <a:lnTo>
                    <a:pt x="8260" y="100"/>
                  </a:lnTo>
                  <a:lnTo>
                    <a:pt x="8260" y="100"/>
                  </a:lnTo>
                  <a:lnTo>
                    <a:pt x="8260" y="100"/>
                  </a:lnTo>
                  <a:lnTo>
                    <a:pt x="8266" y="99"/>
                  </a:lnTo>
                  <a:lnTo>
                    <a:pt x="8271" y="99"/>
                  </a:lnTo>
                  <a:lnTo>
                    <a:pt x="8277" y="97"/>
                  </a:lnTo>
                  <a:lnTo>
                    <a:pt x="8282" y="96"/>
                  </a:lnTo>
                  <a:lnTo>
                    <a:pt x="8287" y="93"/>
                  </a:lnTo>
                  <a:lnTo>
                    <a:pt x="8291" y="91"/>
                  </a:lnTo>
                  <a:lnTo>
                    <a:pt x="8294" y="88"/>
                  </a:lnTo>
                  <a:lnTo>
                    <a:pt x="8297" y="84"/>
                  </a:lnTo>
                  <a:lnTo>
                    <a:pt x="8303" y="76"/>
                  </a:lnTo>
                  <a:lnTo>
                    <a:pt x="8306" y="68"/>
                  </a:lnTo>
                  <a:lnTo>
                    <a:pt x="8310" y="59"/>
                  </a:lnTo>
                  <a:lnTo>
                    <a:pt x="8311" y="49"/>
                  </a:lnTo>
                  <a:lnTo>
                    <a:pt x="8310" y="40"/>
                  </a:lnTo>
                  <a:lnTo>
                    <a:pt x="8306" y="31"/>
                  </a:lnTo>
                  <a:lnTo>
                    <a:pt x="8303" y="22"/>
                  </a:lnTo>
                  <a:lnTo>
                    <a:pt x="8297" y="15"/>
                  </a:lnTo>
                  <a:lnTo>
                    <a:pt x="8294" y="12"/>
                  </a:lnTo>
                  <a:lnTo>
                    <a:pt x="8291" y="9"/>
                  </a:lnTo>
                  <a:lnTo>
                    <a:pt x="8287" y="6"/>
                  </a:lnTo>
                  <a:lnTo>
                    <a:pt x="8282" y="4"/>
                  </a:lnTo>
                  <a:lnTo>
                    <a:pt x="8277" y="2"/>
                  </a:lnTo>
                  <a:lnTo>
                    <a:pt x="8271" y="1"/>
                  </a:lnTo>
                  <a:lnTo>
                    <a:pt x="8266" y="0"/>
                  </a:lnTo>
                  <a:lnTo>
                    <a:pt x="8260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773440" y="4919400"/>
              <a:ext cx="468360" cy="161640"/>
            </a:xfrm>
            <a:custGeom>
              <a:avLst/>
              <a:gdLst/>
              <a:ahLst/>
              <a:rect l="l" t="t" r="r" b="b"/>
              <a:pathLst>
                <a:path w="8260" h="2862">
                  <a:moveTo>
                    <a:pt x="8260" y="2862"/>
                  </a:moveTo>
                  <a:lnTo>
                    <a:pt x="8259" y="2824"/>
                  </a:lnTo>
                  <a:lnTo>
                    <a:pt x="8257" y="2786"/>
                  </a:lnTo>
                  <a:lnTo>
                    <a:pt x="8254" y="2748"/>
                  </a:lnTo>
                  <a:lnTo>
                    <a:pt x="8249" y="2710"/>
                  </a:lnTo>
                  <a:lnTo>
                    <a:pt x="8242" y="2673"/>
                  </a:lnTo>
                  <a:lnTo>
                    <a:pt x="8234" y="2635"/>
                  </a:lnTo>
                  <a:lnTo>
                    <a:pt x="8226" y="2598"/>
                  </a:lnTo>
                  <a:lnTo>
                    <a:pt x="8216" y="2561"/>
                  </a:lnTo>
                  <a:lnTo>
                    <a:pt x="8203" y="2524"/>
                  </a:lnTo>
                  <a:lnTo>
                    <a:pt x="8191" y="2486"/>
                  </a:lnTo>
                  <a:lnTo>
                    <a:pt x="8176" y="2450"/>
                  </a:lnTo>
                  <a:lnTo>
                    <a:pt x="8161" y="2414"/>
                  </a:lnTo>
                  <a:lnTo>
                    <a:pt x="8144" y="2378"/>
                  </a:lnTo>
                  <a:lnTo>
                    <a:pt x="8126" y="2341"/>
                  </a:lnTo>
                  <a:lnTo>
                    <a:pt x="8106" y="2305"/>
                  </a:lnTo>
                  <a:lnTo>
                    <a:pt x="8086" y="2270"/>
                  </a:lnTo>
                  <a:lnTo>
                    <a:pt x="8064" y="2234"/>
                  </a:lnTo>
                  <a:lnTo>
                    <a:pt x="8041" y="2199"/>
                  </a:lnTo>
                  <a:lnTo>
                    <a:pt x="8016" y="2165"/>
                  </a:lnTo>
                  <a:lnTo>
                    <a:pt x="7992" y="2129"/>
                  </a:lnTo>
                  <a:lnTo>
                    <a:pt x="7965" y="2094"/>
                  </a:lnTo>
                  <a:lnTo>
                    <a:pt x="7937" y="2060"/>
                  </a:lnTo>
                  <a:lnTo>
                    <a:pt x="7908" y="2026"/>
                  </a:lnTo>
                  <a:lnTo>
                    <a:pt x="7878" y="1992"/>
                  </a:lnTo>
                  <a:lnTo>
                    <a:pt x="7846" y="1959"/>
                  </a:lnTo>
                  <a:lnTo>
                    <a:pt x="7814" y="1925"/>
                  </a:lnTo>
                  <a:lnTo>
                    <a:pt x="7780" y="1892"/>
                  </a:lnTo>
                  <a:lnTo>
                    <a:pt x="7746" y="1858"/>
                  </a:lnTo>
                  <a:lnTo>
                    <a:pt x="7710" y="1826"/>
                  </a:lnTo>
                  <a:lnTo>
                    <a:pt x="7673" y="1793"/>
                  </a:lnTo>
                  <a:lnTo>
                    <a:pt x="7634" y="1761"/>
                  </a:lnTo>
                  <a:lnTo>
                    <a:pt x="7596" y="1728"/>
                  </a:lnTo>
                  <a:lnTo>
                    <a:pt x="7556" y="1697"/>
                  </a:lnTo>
                  <a:lnTo>
                    <a:pt x="7515" y="1665"/>
                  </a:lnTo>
                  <a:lnTo>
                    <a:pt x="7472" y="1634"/>
                  </a:lnTo>
                  <a:lnTo>
                    <a:pt x="7429" y="1602"/>
                  </a:lnTo>
                  <a:lnTo>
                    <a:pt x="7384" y="1571"/>
                  </a:lnTo>
                  <a:lnTo>
                    <a:pt x="7339" y="1541"/>
                  </a:lnTo>
                  <a:lnTo>
                    <a:pt x="7293" y="1510"/>
                  </a:lnTo>
                  <a:lnTo>
                    <a:pt x="7245" y="1480"/>
                  </a:lnTo>
                  <a:lnTo>
                    <a:pt x="7197" y="1449"/>
                  </a:lnTo>
                  <a:lnTo>
                    <a:pt x="7147" y="1419"/>
                  </a:lnTo>
                  <a:lnTo>
                    <a:pt x="7096" y="1390"/>
                  </a:lnTo>
                  <a:lnTo>
                    <a:pt x="7045" y="1360"/>
                  </a:lnTo>
                  <a:lnTo>
                    <a:pt x="6993" y="1331"/>
                  </a:lnTo>
                  <a:lnTo>
                    <a:pt x="6939" y="1302"/>
                  </a:lnTo>
                  <a:lnTo>
                    <a:pt x="6885" y="1274"/>
                  </a:lnTo>
                  <a:lnTo>
                    <a:pt x="6830" y="1245"/>
                  </a:lnTo>
                  <a:lnTo>
                    <a:pt x="6773" y="1217"/>
                  </a:lnTo>
                  <a:lnTo>
                    <a:pt x="6716" y="1189"/>
                  </a:lnTo>
                  <a:lnTo>
                    <a:pt x="6658" y="1161"/>
                  </a:lnTo>
                  <a:lnTo>
                    <a:pt x="6599" y="1134"/>
                  </a:lnTo>
                  <a:lnTo>
                    <a:pt x="6539" y="1106"/>
                  </a:lnTo>
                  <a:lnTo>
                    <a:pt x="6478" y="1080"/>
                  </a:lnTo>
                  <a:lnTo>
                    <a:pt x="6416" y="1054"/>
                  </a:lnTo>
                  <a:lnTo>
                    <a:pt x="6353" y="1027"/>
                  </a:lnTo>
                  <a:lnTo>
                    <a:pt x="6290" y="1001"/>
                  </a:lnTo>
                  <a:lnTo>
                    <a:pt x="6225" y="975"/>
                  </a:lnTo>
                  <a:lnTo>
                    <a:pt x="6160" y="949"/>
                  </a:lnTo>
                  <a:lnTo>
                    <a:pt x="6094" y="924"/>
                  </a:lnTo>
                  <a:lnTo>
                    <a:pt x="6027" y="900"/>
                  </a:lnTo>
                  <a:lnTo>
                    <a:pt x="5959" y="875"/>
                  </a:lnTo>
                  <a:lnTo>
                    <a:pt x="5890" y="850"/>
                  </a:lnTo>
                  <a:lnTo>
                    <a:pt x="5820" y="826"/>
                  </a:lnTo>
                  <a:lnTo>
                    <a:pt x="5750" y="802"/>
                  </a:lnTo>
                  <a:lnTo>
                    <a:pt x="5679" y="779"/>
                  </a:lnTo>
                  <a:lnTo>
                    <a:pt x="5606" y="756"/>
                  </a:lnTo>
                  <a:lnTo>
                    <a:pt x="5534" y="733"/>
                  </a:lnTo>
                  <a:lnTo>
                    <a:pt x="5386" y="687"/>
                  </a:lnTo>
                  <a:lnTo>
                    <a:pt x="5235" y="644"/>
                  </a:lnTo>
                  <a:lnTo>
                    <a:pt x="5081" y="602"/>
                  </a:lnTo>
                  <a:lnTo>
                    <a:pt x="4923" y="560"/>
                  </a:lnTo>
                  <a:lnTo>
                    <a:pt x="4763" y="520"/>
                  </a:lnTo>
                  <a:lnTo>
                    <a:pt x="4601" y="482"/>
                  </a:lnTo>
                  <a:lnTo>
                    <a:pt x="4435" y="443"/>
                  </a:lnTo>
                  <a:lnTo>
                    <a:pt x="4266" y="408"/>
                  </a:lnTo>
                  <a:lnTo>
                    <a:pt x="4095" y="373"/>
                  </a:lnTo>
                  <a:lnTo>
                    <a:pt x="3921" y="340"/>
                  </a:lnTo>
                  <a:lnTo>
                    <a:pt x="3745" y="308"/>
                  </a:lnTo>
                  <a:lnTo>
                    <a:pt x="3566" y="278"/>
                  </a:lnTo>
                  <a:lnTo>
                    <a:pt x="3386" y="249"/>
                  </a:lnTo>
                  <a:lnTo>
                    <a:pt x="3202" y="221"/>
                  </a:lnTo>
                  <a:lnTo>
                    <a:pt x="3016" y="195"/>
                  </a:lnTo>
                  <a:lnTo>
                    <a:pt x="2828" y="170"/>
                  </a:lnTo>
                  <a:lnTo>
                    <a:pt x="2638" y="148"/>
                  </a:lnTo>
                  <a:lnTo>
                    <a:pt x="2446" y="126"/>
                  </a:lnTo>
                  <a:lnTo>
                    <a:pt x="2251" y="106"/>
                  </a:lnTo>
                  <a:lnTo>
                    <a:pt x="2056" y="88"/>
                  </a:lnTo>
                  <a:lnTo>
                    <a:pt x="1857" y="71"/>
                  </a:lnTo>
                  <a:lnTo>
                    <a:pt x="1657" y="57"/>
                  </a:lnTo>
                  <a:lnTo>
                    <a:pt x="1456" y="43"/>
                  </a:lnTo>
                  <a:lnTo>
                    <a:pt x="1252" y="32"/>
                  </a:lnTo>
                  <a:lnTo>
                    <a:pt x="1047" y="22"/>
                  </a:lnTo>
                  <a:lnTo>
                    <a:pt x="840" y="14"/>
                  </a:lnTo>
                  <a:lnTo>
                    <a:pt x="633" y="8"/>
                  </a:lnTo>
                  <a:lnTo>
                    <a:pt x="423" y="3"/>
                  </a:lnTo>
                  <a:lnTo>
                    <a:pt x="212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212" y="101"/>
                  </a:lnTo>
                  <a:lnTo>
                    <a:pt x="421" y="103"/>
                  </a:lnTo>
                  <a:lnTo>
                    <a:pt x="630" y="107"/>
                  </a:lnTo>
                  <a:lnTo>
                    <a:pt x="837" y="114"/>
                  </a:lnTo>
                  <a:lnTo>
                    <a:pt x="1043" y="122"/>
                  </a:lnTo>
                  <a:lnTo>
                    <a:pt x="1247" y="132"/>
                  </a:lnTo>
                  <a:lnTo>
                    <a:pt x="1450" y="143"/>
                  </a:lnTo>
                  <a:lnTo>
                    <a:pt x="1651" y="157"/>
                  </a:lnTo>
                  <a:lnTo>
                    <a:pt x="1849" y="171"/>
                  </a:lnTo>
                  <a:lnTo>
                    <a:pt x="2046" y="188"/>
                  </a:lnTo>
                  <a:lnTo>
                    <a:pt x="2242" y="207"/>
                  </a:lnTo>
                  <a:lnTo>
                    <a:pt x="2435" y="226"/>
                  </a:lnTo>
                  <a:lnTo>
                    <a:pt x="2627" y="247"/>
                  </a:lnTo>
                  <a:lnTo>
                    <a:pt x="2816" y="270"/>
                  </a:lnTo>
                  <a:lnTo>
                    <a:pt x="3003" y="294"/>
                  </a:lnTo>
                  <a:lnTo>
                    <a:pt x="3187" y="320"/>
                  </a:lnTo>
                  <a:lnTo>
                    <a:pt x="3370" y="347"/>
                  </a:lnTo>
                  <a:lnTo>
                    <a:pt x="3550" y="376"/>
                  </a:lnTo>
                  <a:lnTo>
                    <a:pt x="3727" y="407"/>
                  </a:lnTo>
                  <a:lnTo>
                    <a:pt x="3903" y="438"/>
                  </a:lnTo>
                  <a:lnTo>
                    <a:pt x="4076" y="471"/>
                  </a:lnTo>
                  <a:lnTo>
                    <a:pt x="4246" y="505"/>
                  </a:lnTo>
                  <a:lnTo>
                    <a:pt x="4413" y="542"/>
                  </a:lnTo>
                  <a:lnTo>
                    <a:pt x="4578" y="579"/>
                  </a:lnTo>
                  <a:lnTo>
                    <a:pt x="4740" y="617"/>
                  </a:lnTo>
                  <a:lnTo>
                    <a:pt x="4898" y="657"/>
                  </a:lnTo>
                  <a:lnTo>
                    <a:pt x="5055" y="698"/>
                  </a:lnTo>
                  <a:lnTo>
                    <a:pt x="5208" y="740"/>
                  </a:lnTo>
                  <a:lnTo>
                    <a:pt x="5358" y="784"/>
                  </a:lnTo>
                  <a:lnTo>
                    <a:pt x="5504" y="828"/>
                  </a:lnTo>
                  <a:lnTo>
                    <a:pt x="5577" y="851"/>
                  </a:lnTo>
                  <a:lnTo>
                    <a:pt x="5648" y="874"/>
                  </a:lnTo>
                  <a:lnTo>
                    <a:pt x="5718" y="897"/>
                  </a:lnTo>
                  <a:lnTo>
                    <a:pt x="5788" y="921"/>
                  </a:lnTo>
                  <a:lnTo>
                    <a:pt x="5857" y="945"/>
                  </a:lnTo>
                  <a:lnTo>
                    <a:pt x="5926" y="969"/>
                  </a:lnTo>
                  <a:lnTo>
                    <a:pt x="5993" y="994"/>
                  </a:lnTo>
                  <a:lnTo>
                    <a:pt x="6059" y="1019"/>
                  </a:lnTo>
                  <a:lnTo>
                    <a:pt x="6124" y="1043"/>
                  </a:lnTo>
                  <a:lnTo>
                    <a:pt x="6189" y="1068"/>
                  </a:lnTo>
                  <a:lnTo>
                    <a:pt x="6253" y="1094"/>
                  </a:lnTo>
                  <a:lnTo>
                    <a:pt x="6316" y="1120"/>
                  </a:lnTo>
                  <a:lnTo>
                    <a:pt x="6377" y="1146"/>
                  </a:lnTo>
                  <a:lnTo>
                    <a:pt x="6438" y="1172"/>
                  </a:lnTo>
                  <a:lnTo>
                    <a:pt x="6499" y="1198"/>
                  </a:lnTo>
                  <a:lnTo>
                    <a:pt x="6557" y="1225"/>
                  </a:lnTo>
                  <a:lnTo>
                    <a:pt x="6615" y="1252"/>
                  </a:lnTo>
                  <a:lnTo>
                    <a:pt x="6673" y="1279"/>
                  </a:lnTo>
                  <a:lnTo>
                    <a:pt x="6729" y="1307"/>
                  </a:lnTo>
                  <a:lnTo>
                    <a:pt x="6785" y="1335"/>
                  </a:lnTo>
                  <a:lnTo>
                    <a:pt x="6839" y="1363"/>
                  </a:lnTo>
                  <a:lnTo>
                    <a:pt x="6892" y="1391"/>
                  </a:lnTo>
                  <a:lnTo>
                    <a:pt x="6945" y="1419"/>
                  </a:lnTo>
                  <a:lnTo>
                    <a:pt x="6996" y="1448"/>
                  </a:lnTo>
                  <a:lnTo>
                    <a:pt x="7047" y="1477"/>
                  </a:lnTo>
                  <a:lnTo>
                    <a:pt x="7096" y="1506"/>
                  </a:lnTo>
                  <a:lnTo>
                    <a:pt x="7145" y="1535"/>
                  </a:lnTo>
                  <a:lnTo>
                    <a:pt x="7191" y="1565"/>
                  </a:lnTo>
                  <a:lnTo>
                    <a:pt x="7238" y="1594"/>
                  </a:lnTo>
                  <a:lnTo>
                    <a:pt x="7283" y="1624"/>
                  </a:lnTo>
                  <a:lnTo>
                    <a:pt x="7328" y="1654"/>
                  </a:lnTo>
                  <a:lnTo>
                    <a:pt x="7371" y="1684"/>
                  </a:lnTo>
                  <a:lnTo>
                    <a:pt x="7413" y="1715"/>
                  </a:lnTo>
                  <a:lnTo>
                    <a:pt x="7454" y="1745"/>
                  </a:lnTo>
                  <a:lnTo>
                    <a:pt x="7494" y="1776"/>
                  </a:lnTo>
                  <a:lnTo>
                    <a:pt x="7533" y="1807"/>
                  </a:lnTo>
                  <a:lnTo>
                    <a:pt x="7570" y="1838"/>
                  </a:lnTo>
                  <a:lnTo>
                    <a:pt x="7607" y="1869"/>
                  </a:lnTo>
                  <a:lnTo>
                    <a:pt x="7643" y="1901"/>
                  </a:lnTo>
                  <a:lnTo>
                    <a:pt x="7678" y="1932"/>
                  </a:lnTo>
                  <a:lnTo>
                    <a:pt x="7711" y="1964"/>
                  </a:lnTo>
                  <a:lnTo>
                    <a:pt x="7743" y="1996"/>
                  </a:lnTo>
                  <a:lnTo>
                    <a:pt x="7774" y="2028"/>
                  </a:lnTo>
                  <a:lnTo>
                    <a:pt x="7804" y="2060"/>
                  </a:lnTo>
                  <a:lnTo>
                    <a:pt x="7833" y="2092"/>
                  </a:lnTo>
                  <a:lnTo>
                    <a:pt x="7859" y="2124"/>
                  </a:lnTo>
                  <a:lnTo>
                    <a:pt x="7886" y="2157"/>
                  </a:lnTo>
                  <a:lnTo>
                    <a:pt x="7911" y="2189"/>
                  </a:lnTo>
                  <a:lnTo>
                    <a:pt x="7935" y="2223"/>
                  </a:lnTo>
                  <a:lnTo>
                    <a:pt x="7957" y="2256"/>
                  </a:lnTo>
                  <a:lnTo>
                    <a:pt x="7980" y="2288"/>
                  </a:lnTo>
                  <a:lnTo>
                    <a:pt x="8000" y="2321"/>
                  </a:lnTo>
                  <a:lnTo>
                    <a:pt x="8019" y="2354"/>
                  </a:lnTo>
                  <a:lnTo>
                    <a:pt x="8037" y="2388"/>
                  </a:lnTo>
                  <a:lnTo>
                    <a:pt x="8054" y="2421"/>
                  </a:lnTo>
                  <a:lnTo>
                    <a:pt x="8070" y="2454"/>
                  </a:lnTo>
                  <a:lnTo>
                    <a:pt x="8083" y="2487"/>
                  </a:lnTo>
                  <a:lnTo>
                    <a:pt x="8097" y="2521"/>
                  </a:lnTo>
                  <a:lnTo>
                    <a:pt x="8109" y="2556"/>
                  </a:lnTo>
                  <a:lnTo>
                    <a:pt x="8120" y="2589"/>
                  </a:lnTo>
                  <a:lnTo>
                    <a:pt x="8129" y="2623"/>
                  </a:lnTo>
                  <a:lnTo>
                    <a:pt x="8137" y="2657"/>
                  </a:lnTo>
                  <a:lnTo>
                    <a:pt x="8144" y="2691"/>
                  </a:lnTo>
                  <a:lnTo>
                    <a:pt x="8150" y="2725"/>
                  </a:lnTo>
                  <a:lnTo>
                    <a:pt x="8154" y="2759"/>
                  </a:lnTo>
                  <a:lnTo>
                    <a:pt x="8157" y="2794"/>
                  </a:lnTo>
                  <a:lnTo>
                    <a:pt x="8159" y="2828"/>
                  </a:lnTo>
                  <a:lnTo>
                    <a:pt x="8160" y="2862"/>
                  </a:lnTo>
                  <a:lnTo>
                    <a:pt x="8260" y="286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06880" y="4857480"/>
              <a:ext cx="931680" cy="226800"/>
            </a:xfrm>
            <a:custGeom>
              <a:avLst/>
              <a:gdLst/>
              <a:ahLst/>
              <a:rect l="l" t="t" r="r" b="b"/>
              <a:pathLst>
                <a:path w="16448" h="4017">
                  <a:moveTo>
                    <a:pt x="0" y="0"/>
                  </a:moveTo>
                  <a:lnTo>
                    <a:pt x="0" y="4017"/>
                  </a:lnTo>
                  <a:lnTo>
                    <a:pt x="16444" y="4017"/>
                  </a:lnTo>
                  <a:lnTo>
                    <a:pt x="1644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7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08320" y="4694040"/>
              <a:ext cx="930240" cy="318960"/>
            </a:xfrm>
            <a:custGeom>
              <a:avLst/>
              <a:gdLst/>
              <a:ahLst/>
              <a:rect l="l" t="t" r="r" b="b"/>
              <a:pathLst>
                <a:path w="16418" h="5625">
                  <a:moveTo>
                    <a:pt x="16418" y="2812"/>
                  </a:moveTo>
                  <a:lnTo>
                    <a:pt x="16408" y="2957"/>
                  </a:lnTo>
                  <a:lnTo>
                    <a:pt x="16376" y="3100"/>
                  </a:lnTo>
                  <a:lnTo>
                    <a:pt x="16324" y="3240"/>
                  </a:lnTo>
                  <a:lnTo>
                    <a:pt x="16252" y="3379"/>
                  </a:lnTo>
                  <a:lnTo>
                    <a:pt x="16160" y="3515"/>
                  </a:lnTo>
                  <a:lnTo>
                    <a:pt x="16050" y="3648"/>
                  </a:lnTo>
                  <a:lnTo>
                    <a:pt x="15921" y="3778"/>
                  </a:lnTo>
                  <a:lnTo>
                    <a:pt x="15773" y="3907"/>
                  </a:lnTo>
                  <a:lnTo>
                    <a:pt x="15609" y="4031"/>
                  </a:lnTo>
                  <a:lnTo>
                    <a:pt x="15427" y="4153"/>
                  </a:lnTo>
                  <a:lnTo>
                    <a:pt x="15230" y="4270"/>
                  </a:lnTo>
                  <a:lnTo>
                    <a:pt x="15016" y="4384"/>
                  </a:lnTo>
                  <a:lnTo>
                    <a:pt x="14787" y="4494"/>
                  </a:lnTo>
                  <a:lnTo>
                    <a:pt x="14543" y="4601"/>
                  </a:lnTo>
                  <a:lnTo>
                    <a:pt x="14285" y="4703"/>
                  </a:lnTo>
                  <a:lnTo>
                    <a:pt x="14014" y="4800"/>
                  </a:lnTo>
                  <a:lnTo>
                    <a:pt x="13728" y="4893"/>
                  </a:lnTo>
                  <a:lnTo>
                    <a:pt x="13430" y="4982"/>
                  </a:lnTo>
                  <a:lnTo>
                    <a:pt x="13120" y="5066"/>
                  </a:lnTo>
                  <a:lnTo>
                    <a:pt x="12798" y="5144"/>
                  </a:lnTo>
                  <a:lnTo>
                    <a:pt x="12465" y="5217"/>
                  </a:lnTo>
                  <a:lnTo>
                    <a:pt x="12121" y="5285"/>
                  </a:lnTo>
                  <a:lnTo>
                    <a:pt x="11767" y="5348"/>
                  </a:lnTo>
                  <a:lnTo>
                    <a:pt x="11404" y="5403"/>
                  </a:lnTo>
                  <a:lnTo>
                    <a:pt x="11031" y="5454"/>
                  </a:lnTo>
                  <a:lnTo>
                    <a:pt x="10650" y="5499"/>
                  </a:lnTo>
                  <a:lnTo>
                    <a:pt x="10260" y="5536"/>
                  </a:lnTo>
                  <a:lnTo>
                    <a:pt x="9863" y="5568"/>
                  </a:lnTo>
                  <a:lnTo>
                    <a:pt x="9458" y="5593"/>
                  </a:lnTo>
                  <a:lnTo>
                    <a:pt x="9048" y="5610"/>
                  </a:lnTo>
                  <a:lnTo>
                    <a:pt x="8631" y="5621"/>
                  </a:lnTo>
                  <a:lnTo>
                    <a:pt x="8209" y="5625"/>
                  </a:lnTo>
                  <a:lnTo>
                    <a:pt x="7787" y="5621"/>
                  </a:lnTo>
                  <a:lnTo>
                    <a:pt x="7370" y="5610"/>
                  </a:lnTo>
                  <a:lnTo>
                    <a:pt x="6960" y="5593"/>
                  </a:lnTo>
                  <a:lnTo>
                    <a:pt x="6555" y="5568"/>
                  </a:lnTo>
                  <a:lnTo>
                    <a:pt x="6158" y="5536"/>
                  </a:lnTo>
                  <a:lnTo>
                    <a:pt x="5768" y="5499"/>
                  </a:lnTo>
                  <a:lnTo>
                    <a:pt x="5387" y="5454"/>
                  </a:lnTo>
                  <a:lnTo>
                    <a:pt x="5014" y="5403"/>
                  </a:lnTo>
                  <a:lnTo>
                    <a:pt x="4651" y="5348"/>
                  </a:lnTo>
                  <a:lnTo>
                    <a:pt x="4297" y="5285"/>
                  </a:lnTo>
                  <a:lnTo>
                    <a:pt x="3953" y="5217"/>
                  </a:lnTo>
                  <a:lnTo>
                    <a:pt x="3620" y="5144"/>
                  </a:lnTo>
                  <a:lnTo>
                    <a:pt x="3297" y="5066"/>
                  </a:lnTo>
                  <a:lnTo>
                    <a:pt x="2988" y="4982"/>
                  </a:lnTo>
                  <a:lnTo>
                    <a:pt x="2690" y="4893"/>
                  </a:lnTo>
                  <a:lnTo>
                    <a:pt x="2404" y="4800"/>
                  </a:lnTo>
                  <a:lnTo>
                    <a:pt x="2133" y="4703"/>
                  </a:lnTo>
                  <a:lnTo>
                    <a:pt x="1875" y="4601"/>
                  </a:lnTo>
                  <a:lnTo>
                    <a:pt x="1631" y="4494"/>
                  </a:lnTo>
                  <a:lnTo>
                    <a:pt x="1402" y="4384"/>
                  </a:lnTo>
                  <a:lnTo>
                    <a:pt x="1188" y="4270"/>
                  </a:lnTo>
                  <a:lnTo>
                    <a:pt x="991" y="4153"/>
                  </a:lnTo>
                  <a:lnTo>
                    <a:pt x="809" y="4031"/>
                  </a:lnTo>
                  <a:lnTo>
                    <a:pt x="645" y="3907"/>
                  </a:lnTo>
                  <a:lnTo>
                    <a:pt x="497" y="3778"/>
                  </a:lnTo>
                  <a:lnTo>
                    <a:pt x="368" y="3648"/>
                  </a:lnTo>
                  <a:lnTo>
                    <a:pt x="258" y="3515"/>
                  </a:lnTo>
                  <a:lnTo>
                    <a:pt x="166" y="3379"/>
                  </a:lnTo>
                  <a:lnTo>
                    <a:pt x="94" y="3240"/>
                  </a:lnTo>
                  <a:lnTo>
                    <a:pt x="42" y="3100"/>
                  </a:lnTo>
                  <a:lnTo>
                    <a:pt x="10" y="2957"/>
                  </a:lnTo>
                  <a:lnTo>
                    <a:pt x="0" y="2812"/>
                  </a:lnTo>
                  <a:lnTo>
                    <a:pt x="10" y="2667"/>
                  </a:lnTo>
                  <a:lnTo>
                    <a:pt x="42" y="2525"/>
                  </a:lnTo>
                  <a:lnTo>
                    <a:pt x="94" y="2384"/>
                  </a:lnTo>
                  <a:lnTo>
                    <a:pt x="166" y="2245"/>
                  </a:lnTo>
                  <a:lnTo>
                    <a:pt x="258" y="2110"/>
                  </a:lnTo>
                  <a:lnTo>
                    <a:pt x="368" y="1975"/>
                  </a:lnTo>
                  <a:lnTo>
                    <a:pt x="497" y="1845"/>
                  </a:lnTo>
                  <a:lnTo>
                    <a:pt x="645" y="1718"/>
                  </a:lnTo>
                  <a:lnTo>
                    <a:pt x="809" y="1593"/>
                  </a:lnTo>
                  <a:lnTo>
                    <a:pt x="991" y="1472"/>
                  </a:lnTo>
                  <a:lnTo>
                    <a:pt x="1188" y="1354"/>
                  </a:lnTo>
                  <a:lnTo>
                    <a:pt x="1402" y="1240"/>
                  </a:lnTo>
                  <a:lnTo>
                    <a:pt x="1631" y="1129"/>
                  </a:lnTo>
                  <a:lnTo>
                    <a:pt x="1875" y="1023"/>
                  </a:lnTo>
                  <a:lnTo>
                    <a:pt x="2133" y="921"/>
                  </a:lnTo>
                  <a:lnTo>
                    <a:pt x="2404" y="823"/>
                  </a:lnTo>
                  <a:lnTo>
                    <a:pt x="2690" y="730"/>
                  </a:lnTo>
                  <a:lnTo>
                    <a:pt x="2988" y="642"/>
                  </a:lnTo>
                  <a:lnTo>
                    <a:pt x="3297" y="558"/>
                  </a:lnTo>
                  <a:lnTo>
                    <a:pt x="3620" y="480"/>
                  </a:lnTo>
                  <a:lnTo>
                    <a:pt x="3953" y="406"/>
                  </a:lnTo>
                  <a:lnTo>
                    <a:pt x="4297" y="339"/>
                  </a:lnTo>
                  <a:lnTo>
                    <a:pt x="4651" y="277"/>
                  </a:lnTo>
                  <a:lnTo>
                    <a:pt x="5014" y="220"/>
                  </a:lnTo>
                  <a:lnTo>
                    <a:pt x="5387" y="170"/>
                  </a:lnTo>
                  <a:lnTo>
                    <a:pt x="5768" y="126"/>
                  </a:lnTo>
                  <a:lnTo>
                    <a:pt x="6158" y="88"/>
                  </a:lnTo>
                  <a:lnTo>
                    <a:pt x="6555" y="57"/>
                  </a:lnTo>
                  <a:lnTo>
                    <a:pt x="6960" y="32"/>
                  </a:lnTo>
                  <a:lnTo>
                    <a:pt x="7370" y="14"/>
                  </a:lnTo>
                  <a:lnTo>
                    <a:pt x="7787" y="3"/>
                  </a:lnTo>
                  <a:lnTo>
                    <a:pt x="8209" y="0"/>
                  </a:lnTo>
                  <a:lnTo>
                    <a:pt x="8631" y="3"/>
                  </a:lnTo>
                  <a:lnTo>
                    <a:pt x="9048" y="14"/>
                  </a:lnTo>
                  <a:lnTo>
                    <a:pt x="9458" y="32"/>
                  </a:lnTo>
                  <a:lnTo>
                    <a:pt x="9863" y="57"/>
                  </a:lnTo>
                  <a:lnTo>
                    <a:pt x="10260" y="88"/>
                  </a:lnTo>
                  <a:lnTo>
                    <a:pt x="10650" y="126"/>
                  </a:lnTo>
                  <a:lnTo>
                    <a:pt x="11031" y="170"/>
                  </a:lnTo>
                  <a:lnTo>
                    <a:pt x="11404" y="220"/>
                  </a:lnTo>
                  <a:lnTo>
                    <a:pt x="11767" y="277"/>
                  </a:lnTo>
                  <a:lnTo>
                    <a:pt x="12121" y="339"/>
                  </a:lnTo>
                  <a:lnTo>
                    <a:pt x="12465" y="406"/>
                  </a:lnTo>
                  <a:lnTo>
                    <a:pt x="12798" y="480"/>
                  </a:lnTo>
                  <a:lnTo>
                    <a:pt x="13120" y="558"/>
                  </a:lnTo>
                  <a:lnTo>
                    <a:pt x="13430" y="642"/>
                  </a:lnTo>
                  <a:lnTo>
                    <a:pt x="13728" y="730"/>
                  </a:lnTo>
                  <a:lnTo>
                    <a:pt x="14014" y="823"/>
                  </a:lnTo>
                  <a:lnTo>
                    <a:pt x="14285" y="921"/>
                  </a:lnTo>
                  <a:lnTo>
                    <a:pt x="14543" y="1023"/>
                  </a:lnTo>
                  <a:lnTo>
                    <a:pt x="14787" y="1129"/>
                  </a:lnTo>
                  <a:lnTo>
                    <a:pt x="15016" y="1240"/>
                  </a:lnTo>
                  <a:lnTo>
                    <a:pt x="15230" y="1354"/>
                  </a:lnTo>
                  <a:lnTo>
                    <a:pt x="15427" y="1472"/>
                  </a:lnTo>
                  <a:lnTo>
                    <a:pt x="15609" y="1593"/>
                  </a:lnTo>
                  <a:lnTo>
                    <a:pt x="15773" y="1718"/>
                  </a:lnTo>
                  <a:lnTo>
                    <a:pt x="15921" y="1845"/>
                  </a:lnTo>
                  <a:lnTo>
                    <a:pt x="16050" y="1975"/>
                  </a:lnTo>
                  <a:lnTo>
                    <a:pt x="16160" y="2110"/>
                  </a:lnTo>
                  <a:lnTo>
                    <a:pt x="16252" y="2245"/>
                  </a:lnTo>
                  <a:lnTo>
                    <a:pt x="16324" y="2384"/>
                  </a:lnTo>
                  <a:lnTo>
                    <a:pt x="16376" y="2525"/>
                  </a:lnTo>
                  <a:lnTo>
                    <a:pt x="16408" y="2667"/>
                  </a:lnTo>
                  <a:lnTo>
                    <a:pt x="16418" y="2812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770200" y="4852800"/>
              <a:ext cx="471600" cy="161640"/>
            </a:xfrm>
            <a:custGeom>
              <a:avLst/>
              <a:gdLst/>
              <a:ahLst/>
              <a:rect l="l" t="t" r="r" b="b"/>
              <a:pathLst>
                <a:path w="8311" h="2862">
                  <a:moveTo>
                    <a:pt x="51" y="2862"/>
                  </a:moveTo>
                  <a:lnTo>
                    <a:pt x="51" y="2862"/>
                  </a:lnTo>
                  <a:lnTo>
                    <a:pt x="263" y="2862"/>
                  </a:lnTo>
                  <a:lnTo>
                    <a:pt x="474" y="2859"/>
                  </a:lnTo>
                  <a:lnTo>
                    <a:pt x="684" y="2854"/>
                  </a:lnTo>
                  <a:lnTo>
                    <a:pt x="891" y="2848"/>
                  </a:lnTo>
                  <a:lnTo>
                    <a:pt x="1098" y="2840"/>
                  </a:lnTo>
                  <a:lnTo>
                    <a:pt x="1303" y="2830"/>
                  </a:lnTo>
                  <a:lnTo>
                    <a:pt x="1507" y="2819"/>
                  </a:lnTo>
                  <a:lnTo>
                    <a:pt x="1708" y="2805"/>
                  </a:lnTo>
                  <a:lnTo>
                    <a:pt x="1908" y="2791"/>
                  </a:lnTo>
                  <a:lnTo>
                    <a:pt x="2107" y="2774"/>
                  </a:lnTo>
                  <a:lnTo>
                    <a:pt x="2302" y="2756"/>
                  </a:lnTo>
                  <a:lnTo>
                    <a:pt x="2497" y="2736"/>
                  </a:lnTo>
                  <a:lnTo>
                    <a:pt x="2689" y="2714"/>
                  </a:lnTo>
                  <a:lnTo>
                    <a:pt x="2879" y="2692"/>
                  </a:lnTo>
                  <a:lnTo>
                    <a:pt x="3067" y="2667"/>
                  </a:lnTo>
                  <a:lnTo>
                    <a:pt x="3253" y="2641"/>
                  </a:lnTo>
                  <a:lnTo>
                    <a:pt x="3437" y="2614"/>
                  </a:lnTo>
                  <a:lnTo>
                    <a:pt x="3617" y="2584"/>
                  </a:lnTo>
                  <a:lnTo>
                    <a:pt x="3796" y="2554"/>
                  </a:lnTo>
                  <a:lnTo>
                    <a:pt x="3972" y="2522"/>
                  </a:lnTo>
                  <a:lnTo>
                    <a:pt x="4146" y="2489"/>
                  </a:lnTo>
                  <a:lnTo>
                    <a:pt x="4317" y="2455"/>
                  </a:lnTo>
                  <a:lnTo>
                    <a:pt x="4486" y="2419"/>
                  </a:lnTo>
                  <a:lnTo>
                    <a:pt x="4652" y="2381"/>
                  </a:lnTo>
                  <a:lnTo>
                    <a:pt x="4814" y="2342"/>
                  </a:lnTo>
                  <a:lnTo>
                    <a:pt x="4974" y="2303"/>
                  </a:lnTo>
                  <a:lnTo>
                    <a:pt x="5132" y="2261"/>
                  </a:lnTo>
                  <a:lnTo>
                    <a:pt x="5286" y="2218"/>
                  </a:lnTo>
                  <a:lnTo>
                    <a:pt x="5362" y="2196"/>
                  </a:lnTo>
                  <a:lnTo>
                    <a:pt x="5437" y="2175"/>
                  </a:lnTo>
                  <a:lnTo>
                    <a:pt x="5511" y="2152"/>
                  </a:lnTo>
                  <a:lnTo>
                    <a:pt x="5585" y="2130"/>
                  </a:lnTo>
                  <a:lnTo>
                    <a:pt x="5657" y="2106"/>
                  </a:lnTo>
                  <a:lnTo>
                    <a:pt x="5730" y="2083"/>
                  </a:lnTo>
                  <a:lnTo>
                    <a:pt x="5801" y="2060"/>
                  </a:lnTo>
                  <a:lnTo>
                    <a:pt x="5871" y="2036"/>
                  </a:lnTo>
                  <a:lnTo>
                    <a:pt x="5941" y="2012"/>
                  </a:lnTo>
                  <a:lnTo>
                    <a:pt x="6010" y="1987"/>
                  </a:lnTo>
                  <a:lnTo>
                    <a:pt x="6078" y="1962"/>
                  </a:lnTo>
                  <a:lnTo>
                    <a:pt x="6145" y="1938"/>
                  </a:lnTo>
                  <a:lnTo>
                    <a:pt x="6211" y="1913"/>
                  </a:lnTo>
                  <a:lnTo>
                    <a:pt x="6276" y="1887"/>
                  </a:lnTo>
                  <a:lnTo>
                    <a:pt x="6341" y="1861"/>
                  </a:lnTo>
                  <a:lnTo>
                    <a:pt x="6404" y="1835"/>
                  </a:lnTo>
                  <a:lnTo>
                    <a:pt x="6467" y="1808"/>
                  </a:lnTo>
                  <a:lnTo>
                    <a:pt x="6529" y="1782"/>
                  </a:lnTo>
                  <a:lnTo>
                    <a:pt x="6590" y="1756"/>
                  </a:lnTo>
                  <a:lnTo>
                    <a:pt x="6650" y="1728"/>
                  </a:lnTo>
                  <a:lnTo>
                    <a:pt x="6709" y="1701"/>
                  </a:lnTo>
                  <a:lnTo>
                    <a:pt x="6767" y="1673"/>
                  </a:lnTo>
                  <a:lnTo>
                    <a:pt x="6824" y="1645"/>
                  </a:lnTo>
                  <a:lnTo>
                    <a:pt x="6881" y="1617"/>
                  </a:lnTo>
                  <a:lnTo>
                    <a:pt x="6936" y="1589"/>
                  </a:lnTo>
                  <a:lnTo>
                    <a:pt x="6990" y="1560"/>
                  </a:lnTo>
                  <a:lnTo>
                    <a:pt x="7044" y="1531"/>
                  </a:lnTo>
                  <a:lnTo>
                    <a:pt x="7096" y="1502"/>
                  </a:lnTo>
                  <a:lnTo>
                    <a:pt x="7147" y="1472"/>
                  </a:lnTo>
                  <a:lnTo>
                    <a:pt x="7198" y="1443"/>
                  </a:lnTo>
                  <a:lnTo>
                    <a:pt x="7248" y="1413"/>
                  </a:lnTo>
                  <a:lnTo>
                    <a:pt x="7296" y="1383"/>
                  </a:lnTo>
                  <a:lnTo>
                    <a:pt x="7344" y="1352"/>
                  </a:lnTo>
                  <a:lnTo>
                    <a:pt x="7390" y="1322"/>
                  </a:lnTo>
                  <a:lnTo>
                    <a:pt x="7435" y="1291"/>
                  </a:lnTo>
                  <a:lnTo>
                    <a:pt x="7480" y="1260"/>
                  </a:lnTo>
                  <a:lnTo>
                    <a:pt x="7523" y="1229"/>
                  </a:lnTo>
                  <a:lnTo>
                    <a:pt x="7566" y="1197"/>
                  </a:lnTo>
                  <a:lnTo>
                    <a:pt x="7607" y="1165"/>
                  </a:lnTo>
                  <a:lnTo>
                    <a:pt x="7647" y="1134"/>
                  </a:lnTo>
                  <a:lnTo>
                    <a:pt x="7685" y="1102"/>
                  </a:lnTo>
                  <a:lnTo>
                    <a:pt x="7724" y="1069"/>
                  </a:lnTo>
                  <a:lnTo>
                    <a:pt x="7761" y="1037"/>
                  </a:lnTo>
                  <a:lnTo>
                    <a:pt x="7797" y="1004"/>
                  </a:lnTo>
                  <a:lnTo>
                    <a:pt x="7831" y="970"/>
                  </a:lnTo>
                  <a:lnTo>
                    <a:pt x="7865" y="937"/>
                  </a:lnTo>
                  <a:lnTo>
                    <a:pt x="7897" y="903"/>
                  </a:lnTo>
                  <a:lnTo>
                    <a:pt x="7929" y="870"/>
                  </a:lnTo>
                  <a:lnTo>
                    <a:pt x="7959" y="836"/>
                  </a:lnTo>
                  <a:lnTo>
                    <a:pt x="7988" y="802"/>
                  </a:lnTo>
                  <a:lnTo>
                    <a:pt x="8016" y="768"/>
                  </a:lnTo>
                  <a:lnTo>
                    <a:pt x="8043" y="733"/>
                  </a:lnTo>
                  <a:lnTo>
                    <a:pt x="8067" y="698"/>
                  </a:lnTo>
                  <a:lnTo>
                    <a:pt x="8092" y="663"/>
                  </a:lnTo>
                  <a:lnTo>
                    <a:pt x="8115" y="628"/>
                  </a:lnTo>
                  <a:lnTo>
                    <a:pt x="8137" y="592"/>
                  </a:lnTo>
                  <a:lnTo>
                    <a:pt x="8157" y="557"/>
                  </a:lnTo>
                  <a:lnTo>
                    <a:pt x="8177" y="521"/>
                  </a:lnTo>
                  <a:lnTo>
                    <a:pt x="8195" y="485"/>
                  </a:lnTo>
                  <a:lnTo>
                    <a:pt x="8212" y="448"/>
                  </a:lnTo>
                  <a:lnTo>
                    <a:pt x="8227" y="412"/>
                  </a:lnTo>
                  <a:lnTo>
                    <a:pt x="8242" y="376"/>
                  </a:lnTo>
                  <a:lnTo>
                    <a:pt x="8254" y="338"/>
                  </a:lnTo>
                  <a:lnTo>
                    <a:pt x="8267" y="301"/>
                  </a:lnTo>
                  <a:lnTo>
                    <a:pt x="8277" y="265"/>
                  </a:lnTo>
                  <a:lnTo>
                    <a:pt x="8285" y="227"/>
                  </a:lnTo>
                  <a:lnTo>
                    <a:pt x="8293" y="189"/>
                  </a:lnTo>
                  <a:lnTo>
                    <a:pt x="8300" y="152"/>
                  </a:lnTo>
                  <a:lnTo>
                    <a:pt x="8305" y="114"/>
                  </a:lnTo>
                  <a:lnTo>
                    <a:pt x="8308" y="76"/>
                  </a:lnTo>
                  <a:lnTo>
                    <a:pt x="8310" y="38"/>
                  </a:lnTo>
                  <a:lnTo>
                    <a:pt x="8311" y="0"/>
                  </a:lnTo>
                  <a:lnTo>
                    <a:pt x="8211" y="0"/>
                  </a:lnTo>
                  <a:lnTo>
                    <a:pt x="8210" y="34"/>
                  </a:lnTo>
                  <a:lnTo>
                    <a:pt x="8208" y="70"/>
                  </a:lnTo>
                  <a:lnTo>
                    <a:pt x="8205" y="104"/>
                  </a:lnTo>
                  <a:lnTo>
                    <a:pt x="8201" y="138"/>
                  </a:lnTo>
                  <a:lnTo>
                    <a:pt x="8195" y="172"/>
                  </a:lnTo>
                  <a:lnTo>
                    <a:pt x="8188" y="205"/>
                  </a:lnTo>
                  <a:lnTo>
                    <a:pt x="8180" y="239"/>
                  </a:lnTo>
                  <a:lnTo>
                    <a:pt x="8171" y="273"/>
                  </a:lnTo>
                  <a:lnTo>
                    <a:pt x="8160" y="307"/>
                  </a:lnTo>
                  <a:lnTo>
                    <a:pt x="8148" y="341"/>
                  </a:lnTo>
                  <a:lnTo>
                    <a:pt x="8134" y="375"/>
                  </a:lnTo>
                  <a:lnTo>
                    <a:pt x="8121" y="408"/>
                  </a:lnTo>
                  <a:lnTo>
                    <a:pt x="8105" y="441"/>
                  </a:lnTo>
                  <a:lnTo>
                    <a:pt x="8088" y="475"/>
                  </a:lnTo>
                  <a:lnTo>
                    <a:pt x="8070" y="508"/>
                  </a:lnTo>
                  <a:lnTo>
                    <a:pt x="8051" y="541"/>
                  </a:lnTo>
                  <a:lnTo>
                    <a:pt x="8031" y="574"/>
                  </a:lnTo>
                  <a:lnTo>
                    <a:pt x="8008" y="607"/>
                  </a:lnTo>
                  <a:lnTo>
                    <a:pt x="7986" y="639"/>
                  </a:lnTo>
                  <a:lnTo>
                    <a:pt x="7962" y="673"/>
                  </a:lnTo>
                  <a:lnTo>
                    <a:pt x="7937" y="705"/>
                  </a:lnTo>
                  <a:lnTo>
                    <a:pt x="7910" y="738"/>
                  </a:lnTo>
                  <a:lnTo>
                    <a:pt x="7884" y="770"/>
                  </a:lnTo>
                  <a:lnTo>
                    <a:pt x="7855" y="803"/>
                  </a:lnTo>
                  <a:lnTo>
                    <a:pt x="7825" y="835"/>
                  </a:lnTo>
                  <a:lnTo>
                    <a:pt x="7794" y="866"/>
                  </a:lnTo>
                  <a:lnTo>
                    <a:pt x="7762" y="898"/>
                  </a:lnTo>
                  <a:lnTo>
                    <a:pt x="7729" y="930"/>
                  </a:lnTo>
                  <a:lnTo>
                    <a:pt x="7694" y="962"/>
                  </a:lnTo>
                  <a:lnTo>
                    <a:pt x="7658" y="993"/>
                  </a:lnTo>
                  <a:lnTo>
                    <a:pt x="7621" y="1024"/>
                  </a:lnTo>
                  <a:lnTo>
                    <a:pt x="7584" y="1055"/>
                  </a:lnTo>
                  <a:lnTo>
                    <a:pt x="7545" y="1086"/>
                  </a:lnTo>
                  <a:lnTo>
                    <a:pt x="7505" y="1117"/>
                  </a:lnTo>
                  <a:lnTo>
                    <a:pt x="7464" y="1147"/>
                  </a:lnTo>
                  <a:lnTo>
                    <a:pt x="7422" y="1178"/>
                  </a:lnTo>
                  <a:lnTo>
                    <a:pt x="7379" y="1208"/>
                  </a:lnTo>
                  <a:lnTo>
                    <a:pt x="7334" y="1238"/>
                  </a:lnTo>
                  <a:lnTo>
                    <a:pt x="7289" y="1268"/>
                  </a:lnTo>
                  <a:lnTo>
                    <a:pt x="7242" y="1298"/>
                  </a:lnTo>
                  <a:lnTo>
                    <a:pt x="7196" y="1327"/>
                  </a:lnTo>
                  <a:lnTo>
                    <a:pt x="7147" y="1356"/>
                  </a:lnTo>
                  <a:lnTo>
                    <a:pt x="7098" y="1385"/>
                  </a:lnTo>
                  <a:lnTo>
                    <a:pt x="7047" y="1414"/>
                  </a:lnTo>
                  <a:lnTo>
                    <a:pt x="6996" y="1443"/>
                  </a:lnTo>
                  <a:lnTo>
                    <a:pt x="6943" y="1471"/>
                  </a:lnTo>
                  <a:lnTo>
                    <a:pt x="6890" y="1500"/>
                  </a:lnTo>
                  <a:lnTo>
                    <a:pt x="6836" y="1528"/>
                  </a:lnTo>
                  <a:lnTo>
                    <a:pt x="6780" y="1555"/>
                  </a:lnTo>
                  <a:lnTo>
                    <a:pt x="6724" y="1583"/>
                  </a:lnTo>
                  <a:lnTo>
                    <a:pt x="6666" y="1610"/>
                  </a:lnTo>
                  <a:lnTo>
                    <a:pt x="6608" y="1637"/>
                  </a:lnTo>
                  <a:lnTo>
                    <a:pt x="6550" y="1664"/>
                  </a:lnTo>
                  <a:lnTo>
                    <a:pt x="6489" y="1690"/>
                  </a:lnTo>
                  <a:lnTo>
                    <a:pt x="6428" y="1716"/>
                  </a:lnTo>
                  <a:lnTo>
                    <a:pt x="6367" y="1742"/>
                  </a:lnTo>
                  <a:lnTo>
                    <a:pt x="6303" y="1768"/>
                  </a:lnTo>
                  <a:lnTo>
                    <a:pt x="6240" y="1794"/>
                  </a:lnTo>
                  <a:lnTo>
                    <a:pt x="6175" y="1819"/>
                  </a:lnTo>
                  <a:lnTo>
                    <a:pt x="6110" y="1843"/>
                  </a:lnTo>
                  <a:lnTo>
                    <a:pt x="6044" y="1868"/>
                  </a:lnTo>
                  <a:lnTo>
                    <a:pt x="5977" y="1893"/>
                  </a:lnTo>
                  <a:lnTo>
                    <a:pt x="5908" y="1917"/>
                  </a:lnTo>
                  <a:lnTo>
                    <a:pt x="5839" y="1941"/>
                  </a:lnTo>
                  <a:lnTo>
                    <a:pt x="5769" y="1965"/>
                  </a:lnTo>
                  <a:lnTo>
                    <a:pt x="5699" y="1988"/>
                  </a:lnTo>
                  <a:lnTo>
                    <a:pt x="5628" y="2011"/>
                  </a:lnTo>
                  <a:lnTo>
                    <a:pt x="5555" y="2034"/>
                  </a:lnTo>
                  <a:lnTo>
                    <a:pt x="5482" y="2057"/>
                  </a:lnTo>
                  <a:lnTo>
                    <a:pt x="5409" y="2078"/>
                  </a:lnTo>
                  <a:lnTo>
                    <a:pt x="5334" y="2100"/>
                  </a:lnTo>
                  <a:lnTo>
                    <a:pt x="5259" y="2122"/>
                  </a:lnTo>
                  <a:lnTo>
                    <a:pt x="5106" y="2164"/>
                  </a:lnTo>
                  <a:lnTo>
                    <a:pt x="4949" y="2206"/>
                  </a:lnTo>
                  <a:lnTo>
                    <a:pt x="4791" y="2245"/>
                  </a:lnTo>
                  <a:lnTo>
                    <a:pt x="4629" y="2283"/>
                  </a:lnTo>
                  <a:lnTo>
                    <a:pt x="4464" y="2320"/>
                  </a:lnTo>
                  <a:lnTo>
                    <a:pt x="4297" y="2357"/>
                  </a:lnTo>
                  <a:lnTo>
                    <a:pt x="4127" y="2391"/>
                  </a:lnTo>
                  <a:lnTo>
                    <a:pt x="3954" y="2424"/>
                  </a:lnTo>
                  <a:lnTo>
                    <a:pt x="3778" y="2456"/>
                  </a:lnTo>
                  <a:lnTo>
                    <a:pt x="3601" y="2486"/>
                  </a:lnTo>
                  <a:lnTo>
                    <a:pt x="3421" y="2515"/>
                  </a:lnTo>
                  <a:lnTo>
                    <a:pt x="3238" y="2542"/>
                  </a:lnTo>
                  <a:lnTo>
                    <a:pt x="3054" y="2568"/>
                  </a:lnTo>
                  <a:lnTo>
                    <a:pt x="2867" y="2592"/>
                  </a:lnTo>
                  <a:lnTo>
                    <a:pt x="2678" y="2615"/>
                  </a:lnTo>
                  <a:lnTo>
                    <a:pt x="2486" y="2636"/>
                  </a:lnTo>
                  <a:lnTo>
                    <a:pt x="2293" y="2657"/>
                  </a:lnTo>
                  <a:lnTo>
                    <a:pt x="2097" y="2674"/>
                  </a:lnTo>
                  <a:lnTo>
                    <a:pt x="1900" y="2691"/>
                  </a:lnTo>
                  <a:lnTo>
                    <a:pt x="1702" y="2705"/>
                  </a:lnTo>
                  <a:lnTo>
                    <a:pt x="1501" y="2719"/>
                  </a:lnTo>
                  <a:lnTo>
                    <a:pt x="1298" y="2730"/>
                  </a:lnTo>
                  <a:lnTo>
                    <a:pt x="1094" y="2740"/>
                  </a:lnTo>
                  <a:lnTo>
                    <a:pt x="888" y="2749"/>
                  </a:lnTo>
                  <a:lnTo>
                    <a:pt x="681" y="2755"/>
                  </a:lnTo>
                  <a:lnTo>
                    <a:pt x="472" y="2759"/>
                  </a:lnTo>
                  <a:lnTo>
                    <a:pt x="263" y="2761"/>
                  </a:lnTo>
                  <a:lnTo>
                    <a:pt x="51" y="2762"/>
                  </a:lnTo>
                  <a:lnTo>
                    <a:pt x="51" y="2762"/>
                  </a:lnTo>
                  <a:lnTo>
                    <a:pt x="51" y="2762"/>
                  </a:lnTo>
                  <a:lnTo>
                    <a:pt x="45" y="2763"/>
                  </a:lnTo>
                  <a:lnTo>
                    <a:pt x="40" y="2763"/>
                  </a:lnTo>
                  <a:lnTo>
                    <a:pt x="33" y="2765"/>
                  </a:lnTo>
                  <a:lnTo>
                    <a:pt x="29" y="2767"/>
                  </a:lnTo>
                  <a:lnTo>
                    <a:pt x="24" y="2769"/>
                  </a:lnTo>
                  <a:lnTo>
                    <a:pt x="20" y="2771"/>
                  </a:lnTo>
                  <a:lnTo>
                    <a:pt x="17" y="2774"/>
                  </a:lnTo>
                  <a:lnTo>
                    <a:pt x="14" y="2779"/>
                  </a:lnTo>
                  <a:lnTo>
                    <a:pt x="8" y="2786"/>
                  </a:lnTo>
                  <a:lnTo>
                    <a:pt x="4" y="2794"/>
                  </a:lnTo>
                  <a:lnTo>
                    <a:pt x="1" y="2803"/>
                  </a:lnTo>
                  <a:lnTo>
                    <a:pt x="0" y="2813"/>
                  </a:lnTo>
                  <a:lnTo>
                    <a:pt x="1" y="2822"/>
                  </a:lnTo>
                  <a:lnTo>
                    <a:pt x="4" y="2831"/>
                  </a:lnTo>
                  <a:lnTo>
                    <a:pt x="8" y="2840"/>
                  </a:lnTo>
                  <a:lnTo>
                    <a:pt x="14" y="2847"/>
                  </a:lnTo>
                  <a:lnTo>
                    <a:pt x="17" y="2851"/>
                  </a:lnTo>
                  <a:lnTo>
                    <a:pt x="20" y="2854"/>
                  </a:lnTo>
                  <a:lnTo>
                    <a:pt x="24" y="2856"/>
                  </a:lnTo>
                  <a:lnTo>
                    <a:pt x="29" y="2858"/>
                  </a:lnTo>
                  <a:lnTo>
                    <a:pt x="33" y="2860"/>
                  </a:lnTo>
                  <a:lnTo>
                    <a:pt x="40" y="2861"/>
                  </a:lnTo>
                  <a:lnTo>
                    <a:pt x="45" y="2862"/>
                  </a:lnTo>
                  <a:lnTo>
                    <a:pt x="51" y="286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05080" y="4849560"/>
              <a:ext cx="468360" cy="164880"/>
            </a:xfrm>
            <a:custGeom>
              <a:avLst/>
              <a:gdLst/>
              <a:ahLst/>
              <a:rect l="l" t="t" r="r" b="b"/>
              <a:pathLst>
                <a:path w="8260" h="2912">
                  <a:moveTo>
                    <a:pt x="0" y="50"/>
                  </a:moveTo>
                  <a:lnTo>
                    <a:pt x="0" y="50"/>
                  </a:lnTo>
                  <a:lnTo>
                    <a:pt x="1" y="88"/>
                  </a:lnTo>
                  <a:lnTo>
                    <a:pt x="3" y="126"/>
                  </a:lnTo>
                  <a:lnTo>
                    <a:pt x="6" y="164"/>
                  </a:lnTo>
                  <a:lnTo>
                    <a:pt x="11" y="202"/>
                  </a:lnTo>
                  <a:lnTo>
                    <a:pt x="18" y="239"/>
                  </a:lnTo>
                  <a:lnTo>
                    <a:pt x="25" y="277"/>
                  </a:lnTo>
                  <a:lnTo>
                    <a:pt x="34" y="315"/>
                  </a:lnTo>
                  <a:lnTo>
                    <a:pt x="44" y="351"/>
                  </a:lnTo>
                  <a:lnTo>
                    <a:pt x="56" y="388"/>
                  </a:lnTo>
                  <a:lnTo>
                    <a:pt x="69" y="426"/>
                  </a:lnTo>
                  <a:lnTo>
                    <a:pt x="84" y="462"/>
                  </a:lnTo>
                  <a:lnTo>
                    <a:pt x="99" y="498"/>
                  </a:lnTo>
                  <a:lnTo>
                    <a:pt x="116" y="535"/>
                  </a:lnTo>
                  <a:lnTo>
                    <a:pt x="134" y="571"/>
                  </a:lnTo>
                  <a:lnTo>
                    <a:pt x="154" y="607"/>
                  </a:lnTo>
                  <a:lnTo>
                    <a:pt x="174" y="642"/>
                  </a:lnTo>
                  <a:lnTo>
                    <a:pt x="196" y="678"/>
                  </a:lnTo>
                  <a:lnTo>
                    <a:pt x="219" y="713"/>
                  </a:lnTo>
                  <a:lnTo>
                    <a:pt x="244" y="748"/>
                  </a:lnTo>
                  <a:lnTo>
                    <a:pt x="268" y="783"/>
                  </a:lnTo>
                  <a:lnTo>
                    <a:pt x="295" y="818"/>
                  </a:lnTo>
                  <a:lnTo>
                    <a:pt x="323" y="852"/>
                  </a:lnTo>
                  <a:lnTo>
                    <a:pt x="352" y="886"/>
                  </a:lnTo>
                  <a:lnTo>
                    <a:pt x="382" y="920"/>
                  </a:lnTo>
                  <a:lnTo>
                    <a:pt x="414" y="953"/>
                  </a:lnTo>
                  <a:lnTo>
                    <a:pt x="446" y="987"/>
                  </a:lnTo>
                  <a:lnTo>
                    <a:pt x="480" y="1020"/>
                  </a:lnTo>
                  <a:lnTo>
                    <a:pt x="514" y="1054"/>
                  </a:lnTo>
                  <a:lnTo>
                    <a:pt x="550" y="1087"/>
                  </a:lnTo>
                  <a:lnTo>
                    <a:pt x="587" y="1119"/>
                  </a:lnTo>
                  <a:lnTo>
                    <a:pt x="625" y="1152"/>
                  </a:lnTo>
                  <a:lnTo>
                    <a:pt x="664" y="1184"/>
                  </a:lnTo>
                  <a:lnTo>
                    <a:pt x="704" y="1215"/>
                  </a:lnTo>
                  <a:lnTo>
                    <a:pt x="745" y="1247"/>
                  </a:lnTo>
                  <a:lnTo>
                    <a:pt x="788" y="1279"/>
                  </a:lnTo>
                  <a:lnTo>
                    <a:pt x="831" y="1310"/>
                  </a:lnTo>
                  <a:lnTo>
                    <a:pt x="876" y="1341"/>
                  </a:lnTo>
                  <a:lnTo>
                    <a:pt x="921" y="1372"/>
                  </a:lnTo>
                  <a:lnTo>
                    <a:pt x="967" y="1402"/>
                  </a:lnTo>
                  <a:lnTo>
                    <a:pt x="1015" y="1433"/>
                  </a:lnTo>
                  <a:lnTo>
                    <a:pt x="1063" y="1463"/>
                  </a:lnTo>
                  <a:lnTo>
                    <a:pt x="1113" y="1493"/>
                  </a:lnTo>
                  <a:lnTo>
                    <a:pt x="1164" y="1522"/>
                  </a:lnTo>
                  <a:lnTo>
                    <a:pt x="1214" y="1552"/>
                  </a:lnTo>
                  <a:lnTo>
                    <a:pt x="1267" y="1581"/>
                  </a:lnTo>
                  <a:lnTo>
                    <a:pt x="1321" y="1610"/>
                  </a:lnTo>
                  <a:lnTo>
                    <a:pt x="1375" y="1639"/>
                  </a:lnTo>
                  <a:lnTo>
                    <a:pt x="1430" y="1667"/>
                  </a:lnTo>
                  <a:lnTo>
                    <a:pt x="1487" y="1695"/>
                  </a:lnTo>
                  <a:lnTo>
                    <a:pt x="1544" y="1723"/>
                  </a:lnTo>
                  <a:lnTo>
                    <a:pt x="1602" y="1751"/>
                  </a:lnTo>
                  <a:lnTo>
                    <a:pt x="1661" y="1778"/>
                  </a:lnTo>
                  <a:lnTo>
                    <a:pt x="1721" y="1806"/>
                  </a:lnTo>
                  <a:lnTo>
                    <a:pt x="1782" y="1832"/>
                  </a:lnTo>
                  <a:lnTo>
                    <a:pt x="1844" y="1858"/>
                  </a:lnTo>
                  <a:lnTo>
                    <a:pt x="1907" y="1885"/>
                  </a:lnTo>
                  <a:lnTo>
                    <a:pt x="1970" y="1911"/>
                  </a:lnTo>
                  <a:lnTo>
                    <a:pt x="2034" y="1937"/>
                  </a:lnTo>
                  <a:lnTo>
                    <a:pt x="2100" y="1963"/>
                  </a:lnTo>
                  <a:lnTo>
                    <a:pt x="2166" y="1988"/>
                  </a:lnTo>
                  <a:lnTo>
                    <a:pt x="2233" y="2012"/>
                  </a:lnTo>
                  <a:lnTo>
                    <a:pt x="2301" y="2037"/>
                  </a:lnTo>
                  <a:lnTo>
                    <a:pt x="2370" y="2062"/>
                  </a:lnTo>
                  <a:lnTo>
                    <a:pt x="2440" y="2086"/>
                  </a:lnTo>
                  <a:lnTo>
                    <a:pt x="2510" y="2110"/>
                  </a:lnTo>
                  <a:lnTo>
                    <a:pt x="2581" y="2133"/>
                  </a:lnTo>
                  <a:lnTo>
                    <a:pt x="2654" y="2156"/>
                  </a:lnTo>
                  <a:lnTo>
                    <a:pt x="2726" y="2180"/>
                  </a:lnTo>
                  <a:lnTo>
                    <a:pt x="2799" y="2202"/>
                  </a:lnTo>
                  <a:lnTo>
                    <a:pt x="2874" y="2225"/>
                  </a:lnTo>
                  <a:lnTo>
                    <a:pt x="2949" y="2246"/>
                  </a:lnTo>
                  <a:lnTo>
                    <a:pt x="3025" y="2268"/>
                  </a:lnTo>
                  <a:lnTo>
                    <a:pt x="3179" y="2311"/>
                  </a:lnTo>
                  <a:lnTo>
                    <a:pt x="3336" y="2353"/>
                  </a:lnTo>
                  <a:lnTo>
                    <a:pt x="3497" y="2392"/>
                  </a:lnTo>
                  <a:lnTo>
                    <a:pt x="3659" y="2431"/>
                  </a:lnTo>
                  <a:lnTo>
                    <a:pt x="3825" y="2469"/>
                  </a:lnTo>
                  <a:lnTo>
                    <a:pt x="3994" y="2505"/>
                  </a:lnTo>
                  <a:lnTo>
                    <a:pt x="4165" y="2539"/>
                  </a:lnTo>
                  <a:lnTo>
                    <a:pt x="4339" y="2572"/>
                  </a:lnTo>
                  <a:lnTo>
                    <a:pt x="4515" y="2604"/>
                  </a:lnTo>
                  <a:lnTo>
                    <a:pt x="4694" y="2634"/>
                  </a:lnTo>
                  <a:lnTo>
                    <a:pt x="4874" y="2664"/>
                  </a:lnTo>
                  <a:lnTo>
                    <a:pt x="5058" y="2691"/>
                  </a:lnTo>
                  <a:lnTo>
                    <a:pt x="5244" y="2717"/>
                  </a:lnTo>
                  <a:lnTo>
                    <a:pt x="5432" y="2742"/>
                  </a:lnTo>
                  <a:lnTo>
                    <a:pt x="5622" y="2764"/>
                  </a:lnTo>
                  <a:lnTo>
                    <a:pt x="5814" y="2786"/>
                  </a:lnTo>
                  <a:lnTo>
                    <a:pt x="6008" y="2806"/>
                  </a:lnTo>
                  <a:lnTo>
                    <a:pt x="6204" y="2824"/>
                  </a:lnTo>
                  <a:lnTo>
                    <a:pt x="6403" y="2841"/>
                  </a:lnTo>
                  <a:lnTo>
                    <a:pt x="6603" y="2855"/>
                  </a:lnTo>
                  <a:lnTo>
                    <a:pt x="6804" y="2869"/>
                  </a:lnTo>
                  <a:lnTo>
                    <a:pt x="7008" y="2880"/>
                  </a:lnTo>
                  <a:lnTo>
                    <a:pt x="7213" y="2890"/>
                  </a:lnTo>
                  <a:lnTo>
                    <a:pt x="7420" y="2898"/>
                  </a:lnTo>
                  <a:lnTo>
                    <a:pt x="7627" y="2904"/>
                  </a:lnTo>
                  <a:lnTo>
                    <a:pt x="7837" y="2909"/>
                  </a:lnTo>
                  <a:lnTo>
                    <a:pt x="8047" y="2912"/>
                  </a:lnTo>
                  <a:lnTo>
                    <a:pt x="8260" y="2912"/>
                  </a:lnTo>
                  <a:lnTo>
                    <a:pt x="8260" y="2812"/>
                  </a:lnTo>
                  <a:lnTo>
                    <a:pt x="8048" y="2811"/>
                  </a:lnTo>
                  <a:lnTo>
                    <a:pt x="7839" y="2809"/>
                  </a:lnTo>
                  <a:lnTo>
                    <a:pt x="7630" y="2805"/>
                  </a:lnTo>
                  <a:lnTo>
                    <a:pt x="7423" y="2799"/>
                  </a:lnTo>
                  <a:lnTo>
                    <a:pt x="7217" y="2790"/>
                  </a:lnTo>
                  <a:lnTo>
                    <a:pt x="7013" y="2780"/>
                  </a:lnTo>
                  <a:lnTo>
                    <a:pt x="6810" y="2769"/>
                  </a:lnTo>
                  <a:lnTo>
                    <a:pt x="6609" y="2755"/>
                  </a:lnTo>
                  <a:lnTo>
                    <a:pt x="6411" y="2741"/>
                  </a:lnTo>
                  <a:lnTo>
                    <a:pt x="6214" y="2724"/>
                  </a:lnTo>
                  <a:lnTo>
                    <a:pt x="6017" y="2707"/>
                  </a:lnTo>
                  <a:lnTo>
                    <a:pt x="5824" y="2686"/>
                  </a:lnTo>
                  <a:lnTo>
                    <a:pt x="5633" y="2665"/>
                  </a:lnTo>
                  <a:lnTo>
                    <a:pt x="5444" y="2642"/>
                  </a:lnTo>
                  <a:lnTo>
                    <a:pt x="5257" y="2618"/>
                  </a:lnTo>
                  <a:lnTo>
                    <a:pt x="5073" y="2592"/>
                  </a:lnTo>
                  <a:lnTo>
                    <a:pt x="4890" y="2565"/>
                  </a:lnTo>
                  <a:lnTo>
                    <a:pt x="4709" y="2536"/>
                  </a:lnTo>
                  <a:lnTo>
                    <a:pt x="4532" y="2506"/>
                  </a:lnTo>
                  <a:lnTo>
                    <a:pt x="4357" y="2474"/>
                  </a:lnTo>
                  <a:lnTo>
                    <a:pt x="4184" y="2441"/>
                  </a:lnTo>
                  <a:lnTo>
                    <a:pt x="4014" y="2407"/>
                  </a:lnTo>
                  <a:lnTo>
                    <a:pt x="3846" y="2370"/>
                  </a:lnTo>
                  <a:lnTo>
                    <a:pt x="3682" y="2333"/>
                  </a:lnTo>
                  <a:lnTo>
                    <a:pt x="3520" y="2295"/>
                  </a:lnTo>
                  <a:lnTo>
                    <a:pt x="3361" y="2256"/>
                  </a:lnTo>
                  <a:lnTo>
                    <a:pt x="3205" y="2214"/>
                  </a:lnTo>
                  <a:lnTo>
                    <a:pt x="3052" y="2172"/>
                  </a:lnTo>
                  <a:lnTo>
                    <a:pt x="2977" y="2150"/>
                  </a:lnTo>
                  <a:lnTo>
                    <a:pt x="2902" y="2128"/>
                  </a:lnTo>
                  <a:lnTo>
                    <a:pt x="2829" y="2107"/>
                  </a:lnTo>
                  <a:lnTo>
                    <a:pt x="2756" y="2084"/>
                  </a:lnTo>
                  <a:lnTo>
                    <a:pt x="2683" y="2061"/>
                  </a:lnTo>
                  <a:lnTo>
                    <a:pt x="2612" y="2038"/>
                  </a:lnTo>
                  <a:lnTo>
                    <a:pt x="2541" y="2015"/>
                  </a:lnTo>
                  <a:lnTo>
                    <a:pt x="2472" y="1991"/>
                  </a:lnTo>
                  <a:lnTo>
                    <a:pt x="2403" y="1967"/>
                  </a:lnTo>
                  <a:lnTo>
                    <a:pt x="2334" y="1943"/>
                  </a:lnTo>
                  <a:lnTo>
                    <a:pt x="2267" y="1918"/>
                  </a:lnTo>
                  <a:lnTo>
                    <a:pt x="2201" y="1893"/>
                  </a:lnTo>
                  <a:lnTo>
                    <a:pt x="2136" y="1869"/>
                  </a:lnTo>
                  <a:lnTo>
                    <a:pt x="2071" y="1844"/>
                  </a:lnTo>
                  <a:lnTo>
                    <a:pt x="2007" y="1818"/>
                  </a:lnTo>
                  <a:lnTo>
                    <a:pt x="1944" y="1792"/>
                  </a:lnTo>
                  <a:lnTo>
                    <a:pt x="1883" y="1766"/>
                  </a:lnTo>
                  <a:lnTo>
                    <a:pt x="1821" y="1740"/>
                  </a:lnTo>
                  <a:lnTo>
                    <a:pt x="1761" y="1714"/>
                  </a:lnTo>
                  <a:lnTo>
                    <a:pt x="1703" y="1687"/>
                  </a:lnTo>
                  <a:lnTo>
                    <a:pt x="1644" y="1660"/>
                  </a:lnTo>
                  <a:lnTo>
                    <a:pt x="1587" y="1633"/>
                  </a:lnTo>
                  <a:lnTo>
                    <a:pt x="1531" y="1605"/>
                  </a:lnTo>
                  <a:lnTo>
                    <a:pt x="1475" y="1578"/>
                  </a:lnTo>
                  <a:lnTo>
                    <a:pt x="1421" y="1550"/>
                  </a:lnTo>
                  <a:lnTo>
                    <a:pt x="1368" y="1521"/>
                  </a:lnTo>
                  <a:lnTo>
                    <a:pt x="1315" y="1493"/>
                  </a:lnTo>
                  <a:lnTo>
                    <a:pt x="1264" y="1464"/>
                  </a:lnTo>
                  <a:lnTo>
                    <a:pt x="1213" y="1435"/>
                  </a:lnTo>
                  <a:lnTo>
                    <a:pt x="1164" y="1406"/>
                  </a:lnTo>
                  <a:lnTo>
                    <a:pt x="1115" y="1377"/>
                  </a:lnTo>
                  <a:lnTo>
                    <a:pt x="1068" y="1348"/>
                  </a:lnTo>
                  <a:lnTo>
                    <a:pt x="1022" y="1318"/>
                  </a:lnTo>
                  <a:lnTo>
                    <a:pt x="977" y="1288"/>
                  </a:lnTo>
                  <a:lnTo>
                    <a:pt x="932" y="1258"/>
                  </a:lnTo>
                  <a:lnTo>
                    <a:pt x="889" y="1228"/>
                  </a:lnTo>
                  <a:lnTo>
                    <a:pt x="847" y="1197"/>
                  </a:lnTo>
                  <a:lnTo>
                    <a:pt x="805" y="1167"/>
                  </a:lnTo>
                  <a:lnTo>
                    <a:pt x="766" y="1136"/>
                  </a:lnTo>
                  <a:lnTo>
                    <a:pt x="727" y="1105"/>
                  </a:lnTo>
                  <a:lnTo>
                    <a:pt x="690" y="1074"/>
                  </a:lnTo>
                  <a:lnTo>
                    <a:pt x="653" y="1043"/>
                  </a:lnTo>
                  <a:lnTo>
                    <a:pt x="617" y="1012"/>
                  </a:lnTo>
                  <a:lnTo>
                    <a:pt x="582" y="980"/>
                  </a:lnTo>
                  <a:lnTo>
                    <a:pt x="549" y="948"/>
                  </a:lnTo>
                  <a:lnTo>
                    <a:pt x="517" y="916"/>
                  </a:lnTo>
                  <a:lnTo>
                    <a:pt x="486" y="885"/>
                  </a:lnTo>
                  <a:lnTo>
                    <a:pt x="456" y="853"/>
                  </a:lnTo>
                  <a:lnTo>
                    <a:pt x="427" y="820"/>
                  </a:lnTo>
                  <a:lnTo>
                    <a:pt x="401" y="788"/>
                  </a:lnTo>
                  <a:lnTo>
                    <a:pt x="374" y="756"/>
                  </a:lnTo>
                  <a:lnTo>
                    <a:pt x="349" y="723"/>
                  </a:lnTo>
                  <a:lnTo>
                    <a:pt x="324" y="689"/>
                  </a:lnTo>
                  <a:lnTo>
                    <a:pt x="301" y="657"/>
                  </a:lnTo>
                  <a:lnTo>
                    <a:pt x="281" y="624"/>
                  </a:lnTo>
                  <a:lnTo>
                    <a:pt x="260" y="591"/>
                  </a:lnTo>
                  <a:lnTo>
                    <a:pt x="241" y="558"/>
                  </a:lnTo>
                  <a:lnTo>
                    <a:pt x="223" y="525"/>
                  </a:lnTo>
                  <a:lnTo>
                    <a:pt x="205" y="491"/>
                  </a:lnTo>
                  <a:lnTo>
                    <a:pt x="190" y="458"/>
                  </a:lnTo>
                  <a:lnTo>
                    <a:pt x="176" y="425"/>
                  </a:lnTo>
                  <a:lnTo>
                    <a:pt x="163" y="391"/>
                  </a:lnTo>
                  <a:lnTo>
                    <a:pt x="151" y="357"/>
                  </a:lnTo>
                  <a:lnTo>
                    <a:pt x="140" y="323"/>
                  </a:lnTo>
                  <a:lnTo>
                    <a:pt x="131" y="289"/>
                  </a:lnTo>
                  <a:lnTo>
                    <a:pt x="123" y="255"/>
                  </a:lnTo>
                  <a:lnTo>
                    <a:pt x="116" y="222"/>
                  </a:lnTo>
                  <a:lnTo>
                    <a:pt x="110" y="188"/>
                  </a:lnTo>
                  <a:lnTo>
                    <a:pt x="106" y="154"/>
                  </a:lnTo>
                  <a:lnTo>
                    <a:pt x="102" y="120"/>
                  </a:lnTo>
                  <a:lnTo>
                    <a:pt x="101" y="84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44"/>
                  </a:lnTo>
                  <a:lnTo>
                    <a:pt x="99" y="38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4" y="23"/>
                  </a:lnTo>
                  <a:lnTo>
                    <a:pt x="91" y="19"/>
                  </a:lnTo>
                  <a:lnTo>
                    <a:pt x="88" y="16"/>
                  </a:lnTo>
                  <a:lnTo>
                    <a:pt x="85" y="12"/>
                  </a:lnTo>
                  <a:lnTo>
                    <a:pt x="77" y="7"/>
                  </a:lnTo>
                  <a:lnTo>
                    <a:pt x="68" y="3"/>
                  </a:lnTo>
                  <a:lnTo>
                    <a:pt x="60" y="1"/>
                  </a:lnTo>
                  <a:lnTo>
                    <a:pt x="51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3" y="7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05080" y="4691160"/>
              <a:ext cx="471600" cy="161640"/>
            </a:xfrm>
            <a:custGeom>
              <a:avLst/>
              <a:gdLst/>
              <a:ahLst/>
              <a:rect l="l" t="t" r="r" b="b"/>
              <a:pathLst>
                <a:path w="8311" h="2863">
                  <a:moveTo>
                    <a:pt x="8260" y="0"/>
                  </a:moveTo>
                  <a:lnTo>
                    <a:pt x="8260" y="0"/>
                  </a:lnTo>
                  <a:lnTo>
                    <a:pt x="8047" y="1"/>
                  </a:lnTo>
                  <a:lnTo>
                    <a:pt x="7837" y="4"/>
                  </a:lnTo>
                  <a:lnTo>
                    <a:pt x="7627" y="8"/>
                  </a:lnTo>
                  <a:lnTo>
                    <a:pt x="7420" y="14"/>
                  </a:lnTo>
                  <a:lnTo>
                    <a:pt x="7213" y="23"/>
                  </a:lnTo>
                  <a:lnTo>
                    <a:pt x="7008" y="33"/>
                  </a:lnTo>
                  <a:lnTo>
                    <a:pt x="6804" y="44"/>
                  </a:lnTo>
                  <a:lnTo>
                    <a:pt x="6603" y="57"/>
                  </a:lnTo>
                  <a:lnTo>
                    <a:pt x="6403" y="72"/>
                  </a:lnTo>
                  <a:lnTo>
                    <a:pt x="6204" y="89"/>
                  </a:lnTo>
                  <a:lnTo>
                    <a:pt x="6008" y="108"/>
                  </a:lnTo>
                  <a:lnTo>
                    <a:pt x="5814" y="127"/>
                  </a:lnTo>
                  <a:lnTo>
                    <a:pt x="5622" y="148"/>
                  </a:lnTo>
                  <a:lnTo>
                    <a:pt x="5432" y="172"/>
                  </a:lnTo>
                  <a:lnTo>
                    <a:pt x="5244" y="196"/>
                  </a:lnTo>
                  <a:lnTo>
                    <a:pt x="5058" y="221"/>
                  </a:lnTo>
                  <a:lnTo>
                    <a:pt x="4874" y="249"/>
                  </a:lnTo>
                  <a:lnTo>
                    <a:pt x="4694" y="278"/>
                  </a:lnTo>
                  <a:lnTo>
                    <a:pt x="4515" y="308"/>
                  </a:lnTo>
                  <a:lnTo>
                    <a:pt x="4339" y="340"/>
                  </a:lnTo>
                  <a:lnTo>
                    <a:pt x="4165" y="373"/>
                  </a:lnTo>
                  <a:lnTo>
                    <a:pt x="3994" y="409"/>
                  </a:lnTo>
                  <a:lnTo>
                    <a:pt x="3825" y="445"/>
                  </a:lnTo>
                  <a:lnTo>
                    <a:pt x="3659" y="482"/>
                  </a:lnTo>
                  <a:lnTo>
                    <a:pt x="3497" y="520"/>
                  </a:lnTo>
                  <a:lnTo>
                    <a:pt x="3336" y="561"/>
                  </a:lnTo>
                  <a:lnTo>
                    <a:pt x="3179" y="602"/>
                  </a:lnTo>
                  <a:lnTo>
                    <a:pt x="3025" y="644"/>
                  </a:lnTo>
                  <a:lnTo>
                    <a:pt x="2874" y="689"/>
                  </a:lnTo>
                  <a:lnTo>
                    <a:pt x="2726" y="733"/>
                  </a:lnTo>
                  <a:lnTo>
                    <a:pt x="2654" y="756"/>
                  </a:lnTo>
                  <a:lnTo>
                    <a:pt x="2581" y="780"/>
                  </a:lnTo>
                  <a:lnTo>
                    <a:pt x="2510" y="803"/>
                  </a:lnTo>
                  <a:lnTo>
                    <a:pt x="2440" y="826"/>
                  </a:lnTo>
                  <a:lnTo>
                    <a:pt x="2370" y="851"/>
                  </a:lnTo>
                  <a:lnTo>
                    <a:pt x="2301" y="875"/>
                  </a:lnTo>
                  <a:lnTo>
                    <a:pt x="2233" y="900"/>
                  </a:lnTo>
                  <a:lnTo>
                    <a:pt x="2166" y="925"/>
                  </a:lnTo>
                  <a:lnTo>
                    <a:pt x="2100" y="951"/>
                  </a:lnTo>
                  <a:lnTo>
                    <a:pt x="2034" y="975"/>
                  </a:lnTo>
                  <a:lnTo>
                    <a:pt x="1970" y="1001"/>
                  </a:lnTo>
                  <a:lnTo>
                    <a:pt x="1907" y="1028"/>
                  </a:lnTo>
                  <a:lnTo>
                    <a:pt x="1844" y="1054"/>
                  </a:lnTo>
                  <a:lnTo>
                    <a:pt x="1782" y="1081"/>
                  </a:lnTo>
                  <a:lnTo>
                    <a:pt x="1721" y="1108"/>
                  </a:lnTo>
                  <a:lnTo>
                    <a:pt x="1661" y="1135"/>
                  </a:lnTo>
                  <a:lnTo>
                    <a:pt x="1602" y="1163"/>
                  </a:lnTo>
                  <a:lnTo>
                    <a:pt x="1544" y="1190"/>
                  </a:lnTo>
                  <a:lnTo>
                    <a:pt x="1487" y="1217"/>
                  </a:lnTo>
                  <a:lnTo>
                    <a:pt x="1430" y="1246"/>
                  </a:lnTo>
                  <a:lnTo>
                    <a:pt x="1375" y="1274"/>
                  </a:lnTo>
                  <a:lnTo>
                    <a:pt x="1321" y="1303"/>
                  </a:lnTo>
                  <a:lnTo>
                    <a:pt x="1267" y="1332"/>
                  </a:lnTo>
                  <a:lnTo>
                    <a:pt x="1214" y="1361"/>
                  </a:lnTo>
                  <a:lnTo>
                    <a:pt x="1164" y="1390"/>
                  </a:lnTo>
                  <a:lnTo>
                    <a:pt x="1113" y="1420"/>
                  </a:lnTo>
                  <a:lnTo>
                    <a:pt x="1063" y="1450"/>
                  </a:lnTo>
                  <a:lnTo>
                    <a:pt x="1015" y="1480"/>
                  </a:lnTo>
                  <a:lnTo>
                    <a:pt x="967" y="1510"/>
                  </a:lnTo>
                  <a:lnTo>
                    <a:pt x="921" y="1541"/>
                  </a:lnTo>
                  <a:lnTo>
                    <a:pt x="876" y="1572"/>
                  </a:lnTo>
                  <a:lnTo>
                    <a:pt x="831" y="1603"/>
                  </a:lnTo>
                  <a:lnTo>
                    <a:pt x="788" y="1634"/>
                  </a:lnTo>
                  <a:lnTo>
                    <a:pt x="745" y="1665"/>
                  </a:lnTo>
                  <a:lnTo>
                    <a:pt x="704" y="1697"/>
                  </a:lnTo>
                  <a:lnTo>
                    <a:pt x="664" y="1730"/>
                  </a:lnTo>
                  <a:lnTo>
                    <a:pt x="625" y="1762"/>
                  </a:lnTo>
                  <a:lnTo>
                    <a:pt x="587" y="1794"/>
                  </a:lnTo>
                  <a:lnTo>
                    <a:pt x="550" y="1827"/>
                  </a:lnTo>
                  <a:lnTo>
                    <a:pt x="514" y="1860"/>
                  </a:lnTo>
                  <a:lnTo>
                    <a:pt x="480" y="1893"/>
                  </a:lnTo>
                  <a:lnTo>
                    <a:pt x="446" y="1926"/>
                  </a:lnTo>
                  <a:lnTo>
                    <a:pt x="414" y="1959"/>
                  </a:lnTo>
                  <a:lnTo>
                    <a:pt x="382" y="1993"/>
                  </a:lnTo>
                  <a:lnTo>
                    <a:pt x="352" y="2027"/>
                  </a:lnTo>
                  <a:lnTo>
                    <a:pt x="323" y="2062"/>
                  </a:lnTo>
                  <a:lnTo>
                    <a:pt x="295" y="2096"/>
                  </a:lnTo>
                  <a:lnTo>
                    <a:pt x="268" y="2130"/>
                  </a:lnTo>
                  <a:lnTo>
                    <a:pt x="244" y="2165"/>
                  </a:lnTo>
                  <a:lnTo>
                    <a:pt x="219" y="2200"/>
                  </a:lnTo>
                  <a:lnTo>
                    <a:pt x="196" y="2235"/>
                  </a:lnTo>
                  <a:lnTo>
                    <a:pt x="174" y="2270"/>
                  </a:lnTo>
                  <a:lnTo>
                    <a:pt x="154" y="2307"/>
                  </a:lnTo>
                  <a:lnTo>
                    <a:pt x="134" y="2342"/>
                  </a:lnTo>
                  <a:lnTo>
                    <a:pt x="116" y="2378"/>
                  </a:lnTo>
                  <a:lnTo>
                    <a:pt x="99" y="2414"/>
                  </a:lnTo>
                  <a:lnTo>
                    <a:pt x="84" y="2450"/>
                  </a:lnTo>
                  <a:lnTo>
                    <a:pt x="69" y="2488"/>
                  </a:lnTo>
                  <a:lnTo>
                    <a:pt x="56" y="2524"/>
                  </a:lnTo>
                  <a:lnTo>
                    <a:pt x="44" y="2561"/>
                  </a:lnTo>
                  <a:lnTo>
                    <a:pt x="34" y="2598"/>
                  </a:lnTo>
                  <a:lnTo>
                    <a:pt x="25" y="2636"/>
                  </a:lnTo>
                  <a:lnTo>
                    <a:pt x="18" y="2674"/>
                  </a:lnTo>
                  <a:lnTo>
                    <a:pt x="11" y="2711"/>
                  </a:lnTo>
                  <a:lnTo>
                    <a:pt x="6" y="2748"/>
                  </a:lnTo>
                  <a:lnTo>
                    <a:pt x="3" y="2787"/>
                  </a:lnTo>
                  <a:lnTo>
                    <a:pt x="1" y="2825"/>
                  </a:lnTo>
                  <a:lnTo>
                    <a:pt x="0" y="2863"/>
                  </a:lnTo>
                  <a:lnTo>
                    <a:pt x="100" y="2863"/>
                  </a:lnTo>
                  <a:lnTo>
                    <a:pt x="101" y="2828"/>
                  </a:lnTo>
                  <a:lnTo>
                    <a:pt x="102" y="2794"/>
                  </a:lnTo>
                  <a:lnTo>
                    <a:pt x="106" y="2760"/>
                  </a:lnTo>
                  <a:lnTo>
                    <a:pt x="110" y="2726"/>
                  </a:lnTo>
                  <a:lnTo>
                    <a:pt x="116" y="2691"/>
                  </a:lnTo>
                  <a:lnTo>
                    <a:pt x="123" y="2657"/>
                  </a:lnTo>
                  <a:lnTo>
                    <a:pt x="131" y="2623"/>
                  </a:lnTo>
                  <a:lnTo>
                    <a:pt x="140" y="2590"/>
                  </a:lnTo>
                  <a:lnTo>
                    <a:pt x="151" y="2556"/>
                  </a:lnTo>
                  <a:lnTo>
                    <a:pt x="163" y="2523"/>
                  </a:lnTo>
                  <a:lnTo>
                    <a:pt x="176" y="2489"/>
                  </a:lnTo>
                  <a:lnTo>
                    <a:pt x="190" y="2456"/>
                  </a:lnTo>
                  <a:lnTo>
                    <a:pt x="205" y="2422"/>
                  </a:lnTo>
                  <a:lnTo>
                    <a:pt x="223" y="2388"/>
                  </a:lnTo>
                  <a:lnTo>
                    <a:pt x="241" y="2355"/>
                  </a:lnTo>
                  <a:lnTo>
                    <a:pt x="260" y="2322"/>
                  </a:lnTo>
                  <a:lnTo>
                    <a:pt x="280" y="2289"/>
                  </a:lnTo>
                  <a:lnTo>
                    <a:pt x="301" y="2256"/>
                  </a:lnTo>
                  <a:lnTo>
                    <a:pt x="324" y="2223"/>
                  </a:lnTo>
                  <a:lnTo>
                    <a:pt x="349" y="2191"/>
                  </a:lnTo>
                  <a:lnTo>
                    <a:pt x="374" y="2158"/>
                  </a:lnTo>
                  <a:lnTo>
                    <a:pt x="401" y="2126"/>
                  </a:lnTo>
                  <a:lnTo>
                    <a:pt x="427" y="2093"/>
                  </a:lnTo>
                  <a:lnTo>
                    <a:pt x="456" y="2061"/>
                  </a:lnTo>
                  <a:lnTo>
                    <a:pt x="486" y="2028"/>
                  </a:lnTo>
                  <a:lnTo>
                    <a:pt x="517" y="1996"/>
                  </a:lnTo>
                  <a:lnTo>
                    <a:pt x="549" y="1964"/>
                  </a:lnTo>
                  <a:lnTo>
                    <a:pt x="582" y="1933"/>
                  </a:lnTo>
                  <a:lnTo>
                    <a:pt x="617" y="1901"/>
                  </a:lnTo>
                  <a:lnTo>
                    <a:pt x="653" y="1870"/>
                  </a:lnTo>
                  <a:lnTo>
                    <a:pt x="690" y="1839"/>
                  </a:lnTo>
                  <a:lnTo>
                    <a:pt x="727" y="1807"/>
                  </a:lnTo>
                  <a:lnTo>
                    <a:pt x="766" y="1776"/>
                  </a:lnTo>
                  <a:lnTo>
                    <a:pt x="805" y="1746"/>
                  </a:lnTo>
                  <a:lnTo>
                    <a:pt x="847" y="1715"/>
                  </a:lnTo>
                  <a:lnTo>
                    <a:pt x="889" y="1685"/>
                  </a:lnTo>
                  <a:lnTo>
                    <a:pt x="932" y="1655"/>
                  </a:lnTo>
                  <a:lnTo>
                    <a:pt x="977" y="1624"/>
                  </a:lnTo>
                  <a:lnTo>
                    <a:pt x="1022" y="1595"/>
                  </a:lnTo>
                  <a:lnTo>
                    <a:pt x="1068" y="1565"/>
                  </a:lnTo>
                  <a:lnTo>
                    <a:pt x="1115" y="1536"/>
                  </a:lnTo>
                  <a:lnTo>
                    <a:pt x="1164" y="1506"/>
                  </a:lnTo>
                  <a:lnTo>
                    <a:pt x="1213" y="1477"/>
                  </a:lnTo>
                  <a:lnTo>
                    <a:pt x="1264" y="1448"/>
                  </a:lnTo>
                  <a:lnTo>
                    <a:pt x="1315" y="1420"/>
                  </a:lnTo>
                  <a:lnTo>
                    <a:pt x="1368" y="1391"/>
                  </a:lnTo>
                  <a:lnTo>
                    <a:pt x="1421" y="1363"/>
                  </a:lnTo>
                  <a:lnTo>
                    <a:pt x="1475" y="1335"/>
                  </a:lnTo>
                  <a:lnTo>
                    <a:pt x="1531" y="1307"/>
                  </a:lnTo>
                  <a:lnTo>
                    <a:pt x="1587" y="1281"/>
                  </a:lnTo>
                  <a:lnTo>
                    <a:pt x="1644" y="1253"/>
                  </a:lnTo>
                  <a:lnTo>
                    <a:pt x="1703" y="1226"/>
                  </a:lnTo>
                  <a:lnTo>
                    <a:pt x="1761" y="1199"/>
                  </a:lnTo>
                  <a:lnTo>
                    <a:pt x="1821" y="1173"/>
                  </a:lnTo>
                  <a:lnTo>
                    <a:pt x="1883" y="1146"/>
                  </a:lnTo>
                  <a:lnTo>
                    <a:pt x="1944" y="1120"/>
                  </a:lnTo>
                  <a:lnTo>
                    <a:pt x="2007" y="1094"/>
                  </a:lnTo>
                  <a:lnTo>
                    <a:pt x="2071" y="1070"/>
                  </a:lnTo>
                  <a:lnTo>
                    <a:pt x="2136" y="1044"/>
                  </a:lnTo>
                  <a:lnTo>
                    <a:pt x="2201" y="1019"/>
                  </a:lnTo>
                  <a:lnTo>
                    <a:pt x="2267" y="994"/>
                  </a:lnTo>
                  <a:lnTo>
                    <a:pt x="2334" y="970"/>
                  </a:lnTo>
                  <a:lnTo>
                    <a:pt x="2403" y="945"/>
                  </a:lnTo>
                  <a:lnTo>
                    <a:pt x="2472" y="922"/>
                  </a:lnTo>
                  <a:lnTo>
                    <a:pt x="2541" y="898"/>
                  </a:lnTo>
                  <a:lnTo>
                    <a:pt x="2612" y="875"/>
                  </a:lnTo>
                  <a:lnTo>
                    <a:pt x="2683" y="851"/>
                  </a:lnTo>
                  <a:lnTo>
                    <a:pt x="2756" y="830"/>
                  </a:lnTo>
                  <a:lnTo>
                    <a:pt x="2902" y="784"/>
                  </a:lnTo>
                  <a:lnTo>
                    <a:pt x="3052" y="741"/>
                  </a:lnTo>
                  <a:lnTo>
                    <a:pt x="3205" y="699"/>
                  </a:lnTo>
                  <a:lnTo>
                    <a:pt x="3361" y="658"/>
                  </a:lnTo>
                  <a:lnTo>
                    <a:pt x="3520" y="619"/>
                  </a:lnTo>
                  <a:lnTo>
                    <a:pt x="3682" y="579"/>
                  </a:lnTo>
                  <a:lnTo>
                    <a:pt x="3846" y="543"/>
                  </a:lnTo>
                  <a:lnTo>
                    <a:pt x="4014" y="507"/>
                  </a:lnTo>
                  <a:lnTo>
                    <a:pt x="4184" y="473"/>
                  </a:lnTo>
                  <a:lnTo>
                    <a:pt x="4357" y="440"/>
                  </a:lnTo>
                  <a:lnTo>
                    <a:pt x="4532" y="408"/>
                  </a:lnTo>
                  <a:lnTo>
                    <a:pt x="4709" y="378"/>
                  </a:lnTo>
                  <a:lnTo>
                    <a:pt x="4890" y="349"/>
                  </a:lnTo>
                  <a:lnTo>
                    <a:pt x="5073" y="321"/>
                  </a:lnTo>
                  <a:lnTo>
                    <a:pt x="5257" y="295"/>
                  </a:lnTo>
                  <a:lnTo>
                    <a:pt x="5444" y="271"/>
                  </a:lnTo>
                  <a:lnTo>
                    <a:pt x="5633" y="248"/>
                  </a:lnTo>
                  <a:lnTo>
                    <a:pt x="5824" y="227"/>
                  </a:lnTo>
                  <a:lnTo>
                    <a:pt x="6017" y="207"/>
                  </a:lnTo>
                  <a:lnTo>
                    <a:pt x="6214" y="189"/>
                  </a:lnTo>
                  <a:lnTo>
                    <a:pt x="6411" y="173"/>
                  </a:lnTo>
                  <a:lnTo>
                    <a:pt x="6609" y="157"/>
                  </a:lnTo>
                  <a:lnTo>
                    <a:pt x="6810" y="144"/>
                  </a:lnTo>
                  <a:lnTo>
                    <a:pt x="7013" y="132"/>
                  </a:lnTo>
                  <a:lnTo>
                    <a:pt x="7217" y="123"/>
                  </a:lnTo>
                  <a:lnTo>
                    <a:pt x="7423" y="115"/>
                  </a:lnTo>
                  <a:lnTo>
                    <a:pt x="7630" y="109"/>
                  </a:lnTo>
                  <a:lnTo>
                    <a:pt x="7839" y="104"/>
                  </a:lnTo>
                  <a:lnTo>
                    <a:pt x="8048" y="101"/>
                  </a:lnTo>
                  <a:lnTo>
                    <a:pt x="8260" y="100"/>
                  </a:lnTo>
                  <a:lnTo>
                    <a:pt x="8260" y="100"/>
                  </a:lnTo>
                  <a:lnTo>
                    <a:pt x="8260" y="100"/>
                  </a:lnTo>
                  <a:lnTo>
                    <a:pt x="8266" y="100"/>
                  </a:lnTo>
                  <a:lnTo>
                    <a:pt x="8271" y="99"/>
                  </a:lnTo>
                  <a:lnTo>
                    <a:pt x="8277" y="98"/>
                  </a:lnTo>
                  <a:lnTo>
                    <a:pt x="8282" y="96"/>
                  </a:lnTo>
                  <a:lnTo>
                    <a:pt x="8287" y="94"/>
                  </a:lnTo>
                  <a:lnTo>
                    <a:pt x="8291" y="91"/>
                  </a:lnTo>
                  <a:lnTo>
                    <a:pt x="8294" y="88"/>
                  </a:lnTo>
                  <a:lnTo>
                    <a:pt x="8297" y="85"/>
                  </a:lnTo>
                  <a:lnTo>
                    <a:pt x="8303" y="78"/>
                  </a:lnTo>
                  <a:lnTo>
                    <a:pt x="8306" y="68"/>
                  </a:lnTo>
                  <a:lnTo>
                    <a:pt x="8310" y="60"/>
                  </a:lnTo>
                  <a:lnTo>
                    <a:pt x="8311" y="51"/>
                  </a:lnTo>
                  <a:lnTo>
                    <a:pt x="8310" y="41"/>
                  </a:lnTo>
                  <a:lnTo>
                    <a:pt x="8306" y="32"/>
                  </a:lnTo>
                  <a:lnTo>
                    <a:pt x="8303" y="24"/>
                  </a:lnTo>
                  <a:lnTo>
                    <a:pt x="8297" y="16"/>
                  </a:lnTo>
                  <a:lnTo>
                    <a:pt x="8294" y="12"/>
                  </a:lnTo>
                  <a:lnTo>
                    <a:pt x="8291" y="9"/>
                  </a:lnTo>
                  <a:lnTo>
                    <a:pt x="8287" y="6"/>
                  </a:lnTo>
                  <a:lnTo>
                    <a:pt x="8282" y="4"/>
                  </a:lnTo>
                  <a:lnTo>
                    <a:pt x="8277" y="2"/>
                  </a:lnTo>
                  <a:lnTo>
                    <a:pt x="8271" y="1"/>
                  </a:lnTo>
                  <a:lnTo>
                    <a:pt x="8266" y="0"/>
                  </a:lnTo>
                  <a:lnTo>
                    <a:pt x="8260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73440" y="4691160"/>
              <a:ext cx="468360" cy="161640"/>
            </a:xfrm>
            <a:custGeom>
              <a:avLst/>
              <a:gdLst/>
              <a:ahLst/>
              <a:rect l="l" t="t" r="r" b="b"/>
              <a:pathLst>
                <a:path w="8260" h="2863">
                  <a:moveTo>
                    <a:pt x="8260" y="2863"/>
                  </a:moveTo>
                  <a:lnTo>
                    <a:pt x="8259" y="2825"/>
                  </a:lnTo>
                  <a:lnTo>
                    <a:pt x="8257" y="2787"/>
                  </a:lnTo>
                  <a:lnTo>
                    <a:pt x="8254" y="2748"/>
                  </a:lnTo>
                  <a:lnTo>
                    <a:pt x="8249" y="2711"/>
                  </a:lnTo>
                  <a:lnTo>
                    <a:pt x="8242" y="2674"/>
                  </a:lnTo>
                  <a:lnTo>
                    <a:pt x="8234" y="2636"/>
                  </a:lnTo>
                  <a:lnTo>
                    <a:pt x="8226" y="2598"/>
                  </a:lnTo>
                  <a:lnTo>
                    <a:pt x="8216" y="2561"/>
                  </a:lnTo>
                  <a:lnTo>
                    <a:pt x="8203" y="2524"/>
                  </a:lnTo>
                  <a:lnTo>
                    <a:pt x="8191" y="2488"/>
                  </a:lnTo>
                  <a:lnTo>
                    <a:pt x="8176" y="2452"/>
                  </a:lnTo>
                  <a:lnTo>
                    <a:pt x="8161" y="2414"/>
                  </a:lnTo>
                  <a:lnTo>
                    <a:pt x="8144" y="2378"/>
                  </a:lnTo>
                  <a:lnTo>
                    <a:pt x="8126" y="2342"/>
                  </a:lnTo>
                  <a:lnTo>
                    <a:pt x="8106" y="2307"/>
                  </a:lnTo>
                  <a:lnTo>
                    <a:pt x="8086" y="2270"/>
                  </a:lnTo>
                  <a:lnTo>
                    <a:pt x="8064" y="2235"/>
                  </a:lnTo>
                  <a:lnTo>
                    <a:pt x="8041" y="2200"/>
                  </a:lnTo>
                  <a:lnTo>
                    <a:pt x="8016" y="2165"/>
                  </a:lnTo>
                  <a:lnTo>
                    <a:pt x="7992" y="2130"/>
                  </a:lnTo>
                  <a:lnTo>
                    <a:pt x="7965" y="2096"/>
                  </a:lnTo>
                  <a:lnTo>
                    <a:pt x="7937" y="2062"/>
                  </a:lnTo>
                  <a:lnTo>
                    <a:pt x="7908" y="2027"/>
                  </a:lnTo>
                  <a:lnTo>
                    <a:pt x="7878" y="1993"/>
                  </a:lnTo>
                  <a:lnTo>
                    <a:pt x="7846" y="1959"/>
                  </a:lnTo>
                  <a:lnTo>
                    <a:pt x="7814" y="1926"/>
                  </a:lnTo>
                  <a:lnTo>
                    <a:pt x="7780" y="1893"/>
                  </a:lnTo>
                  <a:lnTo>
                    <a:pt x="7746" y="1860"/>
                  </a:lnTo>
                  <a:lnTo>
                    <a:pt x="7710" y="1827"/>
                  </a:lnTo>
                  <a:lnTo>
                    <a:pt x="7673" y="1794"/>
                  </a:lnTo>
                  <a:lnTo>
                    <a:pt x="7634" y="1762"/>
                  </a:lnTo>
                  <a:lnTo>
                    <a:pt x="7596" y="1730"/>
                  </a:lnTo>
                  <a:lnTo>
                    <a:pt x="7556" y="1697"/>
                  </a:lnTo>
                  <a:lnTo>
                    <a:pt x="7515" y="1665"/>
                  </a:lnTo>
                  <a:lnTo>
                    <a:pt x="7472" y="1634"/>
                  </a:lnTo>
                  <a:lnTo>
                    <a:pt x="7429" y="1603"/>
                  </a:lnTo>
                  <a:lnTo>
                    <a:pt x="7384" y="1572"/>
                  </a:lnTo>
                  <a:lnTo>
                    <a:pt x="7339" y="1541"/>
                  </a:lnTo>
                  <a:lnTo>
                    <a:pt x="7293" y="1510"/>
                  </a:lnTo>
                  <a:lnTo>
                    <a:pt x="7245" y="1480"/>
                  </a:lnTo>
                  <a:lnTo>
                    <a:pt x="7197" y="1450"/>
                  </a:lnTo>
                  <a:lnTo>
                    <a:pt x="7147" y="1420"/>
                  </a:lnTo>
                  <a:lnTo>
                    <a:pt x="7096" y="1390"/>
                  </a:lnTo>
                  <a:lnTo>
                    <a:pt x="7045" y="1361"/>
                  </a:lnTo>
                  <a:lnTo>
                    <a:pt x="6993" y="1332"/>
                  </a:lnTo>
                  <a:lnTo>
                    <a:pt x="6939" y="1303"/>
                  </a:lnTo>
                  <a:lnTo>
                    <a:pt x="6885" y="1274"/>
                  </a:lnTo>
                  <a:lnTo>
                    <a:pt x="6830" y="1246"/>
                  </a:lnTo>
                  <a:lnTo>
                    <a:pt x="6773" y="1217"/>
                  </a:lnTo>
                  <a:lnTo>
                    <a:pt x="6716" y="1190"/>
                  </a:lnTo>
                  <a:lnTo>
                    <a:pt x="6658" y="1163"/>
                  </a:lnTo>
                  <a:lnTo>
                    <a:pt x="6599" y="1135"/>
                  </a:lnTo>
                  <a:lnTo>
                    <a:pt x="6539" y="1108"/>
                  </a:lnTo>
                  <a:lnTo>
                    <a:pt x="6478" y="1081"/>
                  </a:lnTo>
                  <a:lnTo>
                    <a:pt x="6416" y="1054"/>
                  </a:lnTo>
                  <a:lnTo>
                    <a:pt x="6353" y="1028"/>
                  </a:lnTo>
                  <a:lnTo>
                    <a:pt x="6290" y="1001"/>
                  </a:lnTo>
                  <a:lnTo>
                    <a:pt x="6225" y="975"/>
                  </a:lnTo>
                  <a:lnTo>
                    <a:pt x="6160" y="951"/>
                  </a:lnTo>
                  <a:lnTo>
                    <a:pt x="6094" y="925"/>
                  </a:lnTo>
                  <a:lnTo>
                    <a:pt x="6027" y="900"/>
                  </a:lnTo>
                  <a:lnTo>
                    <a:pt x="5959" y="875"/>
                  </a:lnTo>
                  <a:lnTo>
                    <a:pt x="5890" y="851"/>
                  </a:lnTo>
                  <a:lnTo>
                    <a:pt x="5820" y="826"/>
                  </a:lnTo>
                  <a:lnTo>
                    <a:pt x="5750" y="803"/>
                  </a:lnTo>
                  <a:lnTo>
                    <a:pt x="5679" y="780"/>
                  </a:lnTo>
                  <a:lnTo>
                    <a:pt x="5606" y="756"/>
                  </a:lnTo>
                  <a:lnTo>
                    <a:pt x="5534" y="733"/>
                  </a:lnTo>
                  <a:lnTo>
                    <a:pt x="5386" y="689"/>
                  </a:lnTo>
                  <a:lnTo>
                    <a:pt x="5235" y="644"/>
                  </a:lnTo>
                  <a:lnTo>
                    <a:pt x="5081" y="602"/>
                  </a:lnTo>
                  <a:lnTo>
                    <a:pt x="4923" y="561"/>
                  </a:lnTo>
                  <a:lnTo>
                    <a:pt x="4763" y="520"/>
                  </a:lnTo>
                  <a:lnTo>
                    <a:pt x="4601" y="482"/>
                  </a:lnTo>
                  <a:lnTo>
                    <a:pt x="4435" y="445"/>
                  </a:lnTo>
                  <a:lnTo>
                    <a:pt x="4266" y="409"/>
                  </a:lnTo>
                  <a:lnTo>
                    <a:pt x="4095" y="373"/>
                  </a:lnTo>
                  <a:lnTo>
                    <a:pt x="3921" y="340"/>
                  </a:lnTo>
                  <a:lnTo>
                    <a:pt x="3745" y="308"/>
                  </a:lnTo>
                  <a:lnTo>
                    <a:pt x="3566" y="278"/>
                  </a:lnTo>
                  <a:lnTo>
                    <a:pt x="3386" y="249"/>
                  </a:lnTo>
                  <a:lnTo>
                    <a:pt x="3202" y="221"/>
                  </a:lnTo>
                  <a:lnTo>
                    <a:pt x="3016" y="196"/>
                  </a:lnTo>
                  <a:lnTo>
                    <a:pt x="2828" y="172"/>
                  </a:lnTo>
                  <a:lnTo>
                    <a:pt x="2638" y="148"/>
                  </a:lnTo>
                  <a:lnTo>
                    <a:pt x="2446" y="127"/>
                  </a:lnTo>
                  <a:lnTo>
                    <a:pt x="2251" y="108"/>
                  </a:lnTo>
                  <a:lnTo>
                    <a:pt x="2056" y="89"/>
                  </a:lnTo>
                  <a:lnTo>
                    <a:pt x="1857" y="72"/>
                  </a:lnTo>
                  <a:lnTo>
                    <a:pt x="1657" y="57"/>
                  </a:lnTo>
                  <a:lnTo>
                    <a:pt x="1456" y="44"/>
                  </a:lnTo>
                  <a:lnTo>
                    <a:pt x="1252" y="33"/>
                  </a:lnTo>
                  <a:lnTo>
                    <a:pt x="1047" y="23"/>
                  </a:lnTo>
                  <a:lnTo>
                    <a:pt x="840" y="14"/>
                  </a:lnTo>
                  <a:lnTo>
                    <a:pt x="633" y="8"/>
                  </a:lnTo>
                  <a:lnTo>
                    <a:pt x="423" y="4"/>
                  </a:lnTo>
                  <a:lnTo>
                    <a:pt x="212" y="1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212" y="101"/>
                  </a:lnTo>
                  <a:lnTo>
                    <a:pt x="421" y="104"/>
                  </a:lnTo>
                  <a:lnTo>
                    <a:pt x="630" y="109"/>
                  </a:lnTo>
                  <a:lnTo>
                    <a:pt x="837" y="115"/>
                  </a:lnTo>
                  <a:lnTo>
                    <a:pt x="1043" y="123"/>
                  </a:lnTo>
                  <a:lnTo>
                    <a:pt x="1247" y="132"/>
                  </a:lnTo>
                  <a:lnTo>
                    <a:pt x="1450" y="144"/>
                  </a:lnTo>
                  <a:lnTo>
                    <a:pt x="1651" y="157"/>
                  </a:lnTo>
                  <a:lnTo>
                    <a:pt x="1849" y="173"/>
                  </a:lnTo>
                  <a:lnTo>
                    <a:pt x="2046" y="189"/>
                  </a:lnTo>
                  <a:lnTo>
                    <a:pt x="2242" y="207"/>
                  </a:lnTo>
                  <a:lnTo>
                    <a:pt x="2435" y="227"/>
                  </a:lnTo>
                  <a:lnTo>
                    <a:pt x="2627" y="248"/>
                  </a:lnTo>
                  <a:lnTo>
                    <a:pt x="2816" y="271"/>
                  </a:lnTo>
                  <a:lnTo>
                    <a:pt x="3003" y="295"/>
                  </a:lnTo>
                  <a:lnTo>
                    <a:pt x="3187" y="321"/>
                  </a:lnTo>
                  <a:lnTo>
                    <a:pt x="3370" y="349"/>
                  </a:lnTo>
                  <a:lnTo>
                    <a:pt x="3550" y="378"/>
                  </a:lnTo>
                  <a:lnTo>
                    <a:pt x="3727" y="408"/>
                  </a:lnTo>
                  <a:lnTo>
                    <a:pt x="3903" y="440"/>
                  </a:lnTo>
                  <a:lnTo>
                    <a:pt x="4076" y="473"/>
                  </a:lnTo>
                  <a:lnTo>
                    <a:pt x="4246" y="507"/>
                  </a:lnTo>
                  <a:lnTo>
                    <a:pt x="4413" y="543"/>
                  </a:lnTo>
                  <a:lnTo>
                    <a:pt x="4578" y="579"/>
                  </a:lnTo>
                  <a:lnTo>
                    <a:pt x="4740" y="619"/>
                  </a:lnTo>
                  <a:lnTo>
                    <a:pt x="4898" y="658"/>
                  </a:lnTo>
                  <a:lnTo>
                    <a:pt x="5055" y="699"/>
                  </a:lnTo>
                  <a:lnTo>
                    <a:pt x="5208" y="741"/>
                  </a:lnTo>
                  <a:lnTo>
                    <a:pt x="5358" y="784"/>
                  </a:lnTo>
                  <a:lnTo>
                    <a:pt x="5504" y="830"/>
                  </a:lnTo>
                  <a:lnTo>
                    <a:pt x="5577" y="851"/>
                  </a:lnTo>
                  <a:lnTo>
                    <a:pt x="5648" y="875"/>
                  </a:lnTo>
                  <a:lnTo>
                    <a:pt x="5718" y="898"/>
                  </a:lnTo>
                  <a:lnTo>
                    <a:pt x="5788" y="922"/>
                  </a:lnTo>
                  <a:lnTo>
                    <a:pt x="5857" y="945"/>
                  </a:lnTo>
                  <a:lnTo>
                    <a:pt x="5926" y="970"/>
                  </a:lnTo>
                  <a:lnTo>
                    <a:pt x="5993" y="994"/>
                  </a:lnTo>
                  <a:lnTo>
                    <a:pt x="6059" y="1019"/>
                  </a:lnTo>
                  <a:lnTo>
                    <a:pt x="6124" y="1044"/>
                  </a:lnTo>
                  <a:lnTo>
                    <a:pt x="6189" y="1070"/>
                  </a:lnTo>
                  <a:lnTo>
                    <a:pt x="6253" y="1094"/>
                  </a:lnTo>
                  <a:lnTo>
                    <a:pt x="6316" y="1120"/>
                  </a:lnTo>
                  <a:lnTo>
                    <a:pt x="6377" y="1146"/>
                  </a:lnTo>
                  <a:lnTo>
                    <a:pt x="6438" y="1173"/>
                  </a:lnTo>
                  <a:lnTo>
                    <a:pt x="6499" y="1199"/>
                  </a:lnTo>
                  <a:lnTo>
                    <a:pt x="6557" y="1226"/>
                  </a:lnTo>
                  <a:lnTo>
                    <a:pt x="6615" y="1253"/>
                  </a:lnTo>
                  <a:lnTo>
                    <a:pt x="6673" y="1281"/>
                  </a:lnTo>
                  <a:lnTo>
                    <a:pt x="6729" y="1307"/>
                  </a:lnTo>
                  <a:lnTo>
                    <a:pt x="6785" y="1335"/>
                  </a:lnTo>
                  <a:lnTo>
                    <a:pt x="6839" y="1363"/>
                  </a:lnTo>
                  <a:lnTo>
                    <a:pt x="6892" y="1391"/>
                  </a:lnTo>
                  <a:lnTo>
                    <a:pt x="6945" y="1420"/>
                  </a:lnTo>
                  <a:lnTo>
                    <a:pt x="6996" y="1448"/>
                  </a:lnTo>
                  <a:lnTo>
                    <a:pt x="7047" y="1477"/>
                  </a:lnTo>
                  <a:lnTo>
                    <a:pt x="7096" y="1506"/>
                  </a:lnTo>
                  <a:lnTo>
                    <a:pt x="7145" y="1536"/>
                  </a:lnTo>
                  <a:lnTo>
                    <a:pt x="7191" y="1565"/>
                  </a:lnTo>
                  <a:lnTo>
                    <a:pt x="7238" y="1595"/>
                  </a:lnTo>
                  <a:lnTo>
                    <a:pt x="7283" y="1624"/>
                  </a:lnTo>
                  <a:lnTo>
                    <a:pt x="7328" y="1655"/>
                  </a:lnTo>
                  <a:lnTo>
                    <a:pt x="7371" y="1685"/>
                  </a:lnTo>
                  <a:lnTo>
                    <a:pt x="7413" y="1715"/>
                  </a:lnTo>
                  <a:lnTo>
                    <a:pt x="7454" y="1746"/>
                  </a:lnTo>
                  <a:lnTo>
                    <a:pt x="7494" y="1776"/>
                  </a:lnTo>
                  <a:lnTo>
                    <a:pt x="7533" y="1807"/>
                  </a:lnTo>
                  <a:lnTo>
                    <a:pt x="7570" y="1839"/>
                  </a:lnTo>
                  <a:lnTo>
                    <a:pt x="7607" y="1870"/>
                  </a:lnTo>
                  <a:lnTo>
                    <a:pt x="7643" y="1901"/>
                  </a:lnTo>
                  <a:lnTo>
                    <a:pt x="7678" y="1933"/>
                  </a:lnTo>
                  <a:lnTo>
                    <a:pt x="7711" y="1964"/>
                  </a:lnTo>
                  <a:lnTo>
                    <a:pt x="7743" y="1996"/>
                  </a:lnTo>
                  <a:lnTo>
                    <a:pt x="7774" y="2028"/>
                  </a:lnTo>
                  <a:lnTo>
                    <a:pt x="7804" y="2061"/>
                  </a:lnTo>
                  <a:lnTo>
                    <a:pt x="7833" y="2093"/>
                  </a:lnTo>
                  <a:lnTo>
                    <a:pt x="7859" y="2126"/>
                  </a:lnTo>
                  <a:lnTo>
                    <a:pt x="7886" y="2158"/>
                  </a:lnTo>
                  <a:lnTo>
                    <a:pt x="7911" y="2191"/>
                  </a:lnTo>
                  <a:lnTo>
                    <a:pt x="7935" y="2223"/>
                  </a:lnTo>
                  <a:lnTo>
                    <a:pt x="7957" y="2256"/>
                  </a:lnTo>
                  <a:lnTo>
                    <a:pt x="7980" y="2289"/>
                  </a:lnTo>
                  <a:lnTo>
                    <a:pt x="8000" y="2322"/>
                  </a:lnTo>
                  <a:lnTo>
                    <a:pt x="8019" y="2355"/>
                  </a:lnTo>
                  <a:lnTo>
                    <a:pt x="8037" y="2388"/>
                  </a:lnTo>
                  <a:lnTo>
                    <a:pt x="8054" y="2422"/>
                  </a:lnTo>
                  <a:lnTo>
                    <a:pt x="8070" y="2456"/>
                  </a:lnTo>
                  <a:lnTo>
                    <a:pt x="8083" y="2489"/>
                  </a:lnTo>
                  <a:lnTo>
                    <a:pt x="8097" y="2523"/>
                  </a:lnTo>
                  <a:lnTo>
                    <a:pt x="8109" y="2556"/>
                  </a:lnTo>
                  <a:lnTo>
                    <a:pt x="8120" y="2590"/>
                  </a:lnTo>
                  <a:lnTo>
                    <a:pt x="8129" y="2623"/>
                  </a:lnTo>
                  <a:lnTo>
                    <a:pt x="8137" y="2657"/>
                  </a:lnTo>
                  <a:lnTo>
                    <a:pt x="8144" y="2691"/>
                  </a:lnTo>
                  <a:lnTo>
                    <a:pt x="8150" y="2726"/>
                  </a:lnTo>
                  <a:lnTo>
                    <a:pt x="8154" y="2760"/>
                  </a:lnTo>
                  <a:lnTo>
                    <a:pt x="8157" y="2794"/>
                  </a:lnTo>
                  <a:lnTo>
                    <a:pt x="8159" y="2828"/>
                  </a:lnTo>
                  <a:lnTo>
                    <a:pt x="8160" y="2863"/>
                  </a:lnTo>
                  <a:lnTo>
                    <a:pt x="8260" y="286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786040" y="4736880"/>
              <a:ext cx="306360" cy="102960"/>
            </a:xfrm>
            <a:custGeom>
              <a:avLst/>
              <a:gdLst/>
              <a:ahLst/>
              <a:rect l="l" t="t" r="r" b="b"/>
              <a:pathLst>
                <a:path w="5403" h="1827">
                  <a:moveTo>
                    <a:pt x="0" y="1426"/>
                  </a:moveTo>
                  <a:lnTo>
                    <a:pt x="1209" y="1827"/>
                  </a:lnTo>
                  <a:lnTo>
                    <a:pt x="4068" y="687"/>
                  </a:lnTo>
                  <a:lnTo>
                    <a:pt x="5403" y="1013"/>
                  </a:lnTo>
                  <a:lnTo>
                    <a:pt x="4699" y="0"/>
                  </a:lnTo>
                  <a:lnTo>
                    <a:pt x="1255" y="0"/>
                  </a:lnTo>
                  <a:lnTo>
                    <a:pt x="2694" y="352"/>
                  </a:lnTo>
                  <a:lnTo>
                    <a:pt x="0" y="14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51240" y="4860720"/>
              <a:ext cx="306360" cy="102960"/>
            </a:xfrm>
            <a:custGeom>
              <a:avLst/>
              <a:gdLst/>
              <a:ahLst/>
              <a:rect l="l" t="t" r="r" b="b"/>
              <a:pathLst>
                <a:path w="5403" h="1827">
                  <a:moveTo>
                    <a:pt x="5403" y="401"/>
                  </a:moveTo>
                  <a:lnTo>
                    <a:pt x="4193" y="0"/>
                  </a:lnTo>
                  <a:lnTo>
                    <a:pt x="1334" y="1140"/>
                  </a:lnTo>
                  <a:lnTo>
                    <a:pt x="0" y="814"/>
                  </a:lnTo>
                  <a:lnTo>
                    <a:pt x="703" y="1827"/>
                  </a:lnTo>
                  <a:lnTo>
                    <a:pt x="4146" y="1827"/>
                  </a:lnTo>
                  <a:lnTo>
                    <a:pt x="2708" y="1475"/>
                  </a:lnTo>
                  <a:lnTo>
                    <a:pt x="5403" y="4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67080" y="4734000"/>
              <a:ext cx="306360" cy="104400"/>
            </a:xfrm>
            <a:custGeom>
              <a:avLst/>
              <a:gdLst/>
              <a:ahLst/>
              <a:rect l="l" t="t" r="r" b="b"/>
              <a:pathLst>
                <a:path w="5403" h="1827">
                  <a:moveTo>
                    <a:pt x="0" y="402"/>
                  </a:moveTo>
                  <a:lnTo>
                    <a:pt x="1210" y="0"/>
                  </a:lnTo>
                  <a:lnTo>
                    <a:pt x="4069" y="1140"/>
                  </a:lnTo>
                  <a:lnTo>
                    <a:pt x="5403" y="815"/>
                  </a:lnTo>
                  <a:lnTo>
                    <a:pt x="4699" y="1827"/>
                  </a:lnTo>
                  <a:lnTo>
                    <a:pt x="1256" y="1827"/>
                  </a:lnTo>
                  <a:lnTo>
                    <a:pt x="2695" y="1475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74880" y="4868640"/>
              <a:ext cx="306720" cy="102960"/>
            </a:xfrm>
            <a:custGeom>
              <a:avLst/>
              <a:gdLst/>
              <a:ahLst/>
              <a:rect l="l" t="t" r="r" b="b"/>
              <a:pathLst>
                <a:path w="5403" h="1826">
                  <a:moveTo>
                    <a:pt x="5403" y="1425"/>
                  </a:moveTo>
                  <a:lnTo>
                    <a:pt x="4194" y="1826"/>
                  </a:lnTo>
                  <a:lnTo>
                    <a:pt x="1335" y="687"/>
                  </a:lnTo>
                  <a:lnTo>
                    <a:pt x="0" y="1012"/>
                  </a:lnTo>
                  <a:lnTo>
                    <a:pt x="704" y="0"/>
                  </a:lnTo>
                  <a:lnTo>
                    <a:pt x="4148" y="0"/>
                  </a:lnTo>
                  <a:lnTo>
                    <a:pt x="2708" y="352"/>
                  </a:lnTo>
                  <a:lnTo>
                    <a:pt x="5403" y="14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791080" y="4743360"/>
              <a:ext cx="306360" cy="102960"/>
            </a:xfrm>
            <a:custGeom>
              <a:avLst/>
              <a:gdLst/>
              <a:ahLst/>
              <a:rect l="l" t="t" r="r" b="b"/>
              <a:pathLst>
                <a:path w="5403" h="1827">
                  <a:moveTo>
                    <a:pt x="0" y="1426"/>
                  </a:moveTo>
                  <a:lnTo>
                    <a:pt x="1209" y="1827"/>
                  </a:lnTo>
                  <a:lnTo>
                    <a:pt x="4069" y="687"/>
                  </a:lnTo>
                  <a:lnTo>
                    <a:pt x="5403" y="1013"/>
                  </a:lnTo>
                  <a:lnTo>
                    <a:pt x="4699" y="0"/>
                  </a:lnTo>
                  <a:lnTo>
                    <a:pt x="1255" y="0"/>
                  </a:lnTo>
                  <a:lnTo>
                    <a:pt x="2695" y="352"/>
                  </a:lnTo>
                  <a:lnTo>
                    <a:pt x="0" y="14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55920" y="4867200"/>
              <a:ext cx="306360" cy="102960"/>
            </a:xfrm>
            <a:custGeom>
              <a:avLst/>
              <a:gdLst/>
              <a:ahLst/>
              <a:rect l="l" t="t" r="r" b="b"/>
              <a:pathLst>
                <a:path w="5403" h="1827">
                  <a:moveTo>
                    <a:pt x="5403" y="401"/>
                  </a:moveTo>
                  <a:lnTo>
                    <a:pt x="4193" y="0"/>
                  </a:lnTo>
                  <a:lnTo>
                    <a:pt x="1334" y="1140"/>
                  </a:lnTo>
                  <a:lnTo>
                    <a:pt x="0" y="814"/>
                  </a:lnTo>
                  <a:lnTo>
                    <a:pt x="704" y="1827"/>
                  </a:lnTo>
                  <a:lnTo>
                    <a:pt x="4148" y="1827"/>
                  </a:lnTo>
                  <a:lnTo>
                    <a:pt x="2708" y="1475"/>
                  </a:lnTo>
                  <a:lnTo>
                    <a:pt x="5403" y="4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73560" y="4740120"/>
              <a:ext cx="306360" cy="102960"/>
            </a:xfrm>
            <a:custGeom>
              <a:avLst/>
              <a:gdLst/>
              <a:ahLst/>
              <a:rect l="l" t="t" r="r" b="b"/>
              <a:pathLst>
                <a:path w="5403" h="1826">
                  <a:moveTo>
                    <a:pt x="0" y="400"/>
                  </a:moveTo>
                  <a:lnTo>
                    <a:pt x="1210" y="0"/>
                  </a:lnTo>
                  <a:lnTo>
                    <a:pt x="4069" y="1139"/>
                  </a:lnTo>
                  <a:lnTo>
                    <a:pt x="5403" y="814"/>
                  </a:lnTo>
                  <a:lnTo>
                    <a:pt x="4699" y="1826"/>
                  </a:lnTo>
                  <a:lnTo>
                    <a:pt x="1256" y="1826"/>
                  </a:lnTo>
                  <a:lnTo>
                    <a:pt x="2695" y="1474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81360" y="4873680"/>
              <a:ext cx="306360" cy="102600"/>
            </a:xfrm>
            <a:custGeom>
              <a:avLst/>
              <a:gdLst/>
              <a:ahLst/>
              <a:rect l="l" t="t" r="r" b="b"/>
              <a:pathLst>
                <a:path w="5403" h="1826">
                  <a:moveTo>
                    <a:pt x="5403" y="1426"/>
                  </a:moveTo>
                  <a:lnTo>
                    <a:pt x="4194" y="1826"/>
                  </a:lnTo>
                  <a:lnTo>
                    <a:pt x="1335" y="687"/>
                  </a:lnTo>
                  <a:lnTo>
                    <a:pt x="0" y="1012"/>
                  </a:lnTo>
                  <a:lnTo>
                    <a:pt x="704" y="0"/>
                  </a:lnTo>
                  <a:lnTo>
                    <a:pt x="4148" y="0"/>
                  </a:lnTo>
                  <a:lnTo>
                    <a:pt x="2709" y="352"/>
                  </a:lnTo>
                  <a:lnTo>
                    <a:pt x="5403" y="14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05080" y="4856040"/>
              <a:ext cx="6480" cy="22824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05080" y="5084640"/>
              <a:ext cx="6480" cy="288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235320" y="4856040"/>
              <a:ext cx="6480" cy="22824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35320" y="5084640"/>
              <a:ext cx="6480" cy="288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30520" y="5095800"/>
              <a:ext cx="142920" cy="50400"/>
            </a:xfrm>
            <a:custGeom>
              <a:avLst/>
              <a:gdLst/>
              <a:ahLst/>
              <a:rect l="l" t="t" r="r" b="b"/>
              <a:pathLst>
                <a:path w="2533" h="881">
                  <a:moveTo>
                    <a:pt x="0" y="244"/>
                  </a:moveTo>
                  <a:lnTo>
                    <a:pt x="0" y="639"/>
                  </a:lnTo>
                  <a:lnTo>
                    <a:pt x="2095" y="639"/>
                  </a:lnTo>
                  <a:lnTo>
                    <a:pt x="2095" y="881"/>
                  </a:lnTo>
                  <a:lnTo>
                    <a:pt x="2533" y="447"/>
                  </a:lnTo>
                  <a:lnTo>
                    <a:pt x="2095" y="0"/>
                  </a:lnTo>
                  <a:lnTo>
                    <a:pt x="2095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799000" y="5095800"/>
              <a:ext cx="144360" cy="50400"/>
            </a:xfrm>
            <a:custGeom>
              <a:avLst/>
              <a:gdLst/>
              <a:ahLst/>
              <a:rect l="l" t="t" r="r" b="b"/>
              <a:pathLst>
                <a:path w="2533" h="881">
                  <a:moveTo>
                    <a:pt x="0" y="244"/>
                  </a:moveTo>
                  <a:lnTo>
                    <a:pt x="0" y="639"/>
                  </a:lnTo>
                  <a:lnTo>
                    <a:pt x="2095" y="639"/>
                  </a:lnTo>
                  <a:lnTo>
                    <a:pt x="2095" y="881"/>
                  </a:lnTo>
                  <a:lnTo>
                    <a:pt x="2533" y="447"/>
                  </a:lnTo>
                  <a:lnTo>
                    <a:pt x="2095" y="0"/>
                  </a:lnTo>
                  <a:lnTo>
                    <a:pt x="2095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89280" y="5019480"/>
              <a:ext cx="136440" cy="80640"/>
            </a:xfrm>
            <a:custGeom>
              <a:avLst/>
              <a:gdLst/>
              <a:ahLst/>
              <a:rect l="l" t="t" r="r" b="b"/>
              <a:pathLst>
                <a:path w="2395" h="1438">
                  <a:moveTo>
                    <a:pt x="0" y="1077"/>
                  </a:moveTo>
                  <a:lnTo>
                    <a:pt x="160" y="1438"/>
                  </a:lnTo>
                  <a:lnTo>
                    <a:pt x="2074" y="583"/>
                  </a:lnTo>
                  <a:lnTo>
                    <a:pt x="2172" y="805"/>
                  </a:lnTo>
                  <a:lnTo>
                    <a:pt x="2395" y="229"/>
                  </a:lnTo>
                  <a:lnTo>
                    <a:pt x="1814" y="0"/>
                  </a:lnTo>
                  <a:lnTo>
                    <a:pt x="1913" y="223"/>
                  </a:lnTo>
                  <a:lnTo>
                    <a:pt x="0" y="107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89280" y="5141880"/>
              <a:ext cx="136440" cy="80640"/>
            </a:xfrm>
            <a:custGeom>
              <a:avLst/>
              <a:gdLst/>
              <a:ahLst/>
              <a:rect l="l" t="t" r="r" b="b"/>
              <a:pathLst>
                <a:path w="2395" h="1437">
                  <a:moveTo>
                    <a:pt x="0" y="361"/>
                  </a:moveTo>
                  <a:lnTo>
                    <a:pt x="160" y="0"/>
                  </a:lnTo>
                  <a:lnTo>
                    <a:pt x="2074" y="854"/>
                  </a:lnTo>
                  <a:lnTo>
                    <a:pt x="2172" y="632"/>
                  </a:lnTo>
                  <a:lnTo>
                    <a:pt x="2395" y="1207"/>
                  </a:lnTo>
                  <a:lnTo>
                    <a:pt x="1814" y="1437"/>
                  </a:lnTo>
                  <a:lnTo>
                    <a:pt x="1913" y="1215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33760" y="5100480"/>
              <a:ext cx="142920" cy="48960"/>
            </a:xfrm>
            <a:custGeom>
              <a:avLst/>
              <a:gdLst/>
              <a:ahLst/>
              <a:rect l="l" t="t" r="r" b="b"/>
              <a:pathLst>
                <a:path w="2532" h="881">
                  <a:moveTo>
                    <a:pt x="0" y="244"/>
                  </a:moveTo>
                  <a:lnTo>
                    <a:pt x="0" y="639"/>
                  </a:lnTo>
                  <a:lnTo>
                    <a:pt x="2094" y="639"/>
                  </a:lnTo>
                  <a:lnTo>
                    <a:pt x="2094" y="881"/>
                  </a:lnTo>
                  <a:lnTo>
                    <a:pt x="2532" y="447"/>
                  </a:lnTo>
                  <a:lnTo>
                    <a:pt x="2094" y="0"/>
                  </a:lnTo>
                  <a:lnTo>
                    <a:pt x="2094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01880" y="5100480"/>
              <a:ext cx="144720" cy="48960"/>
            </a:xfrm>
            <a:custGeom>
              <a:avLst/>
              <a:gdLst/>
              <a:ahLst/>
              <a:rect l="l" t="t" r="r" b="b"/>
              <a:pathLst>
                <a:path w="2532" h="881">
                  <a:moveTo>
                    <a:pt x="0" y="244"/>
                  </a:moveTo>
                  <a:lnTo>
                    <a:pt x="0" y="639"/>
                  </a:lnTo>
                  <a:lnTo>
                    <a:pt x="2094" y="639"/>
                  </a:lnTo>
                  <a:lnTo>
                    <a:pt x="2094" y="881"/>
                  </a:lnTo>
                  <a:lnTo>
                    <a:pt x="2532" y="447"/>
                  </a:lnTo>
                  <a:lnTo>
                    <a:pt x="2094" y="0"/>
                  </a:lnTo>
                  <a:lnTo>
                    <a:pt x="2094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92520" y="5022720"/>
              <a:ext cx="136440" cy="82080"/>
            </a:xfrm>
            <a:custGeom>
              <a:avLst/>
              <a:gdLst/>
              <a:ahLst/>
              <a:rect l="l" t="t" r="r" b="b"/>
              <a:pathLst>
                <a:path w="2396" h="1438">
                  <a:moveTo>
                    <a:pt x="0" y="1077"/>
                  </a:moveTo>
                  <a:lnTo>
                    <a:pt x="161" y="1438"/>
                  </a:lnTo>
                  <a:lnTo>
                    <a:pt x="2074" y="584"/>
                  </a:lnTo>
                  <a:lnTo>
                    <a:pt x="2172" y="806"/>
                  </a:lnTo>
                  <a:lnTo>
                    <a:pt x="2396" y="230"/>
                  </a:lnTo>
                  <a:lnTo>
                    <a:pt x="1815" y="0"/>
                  </a:lnTo>
                  <a:lnTo>
                    <a:pt x="1914" y="223"/>
                  </a:lnTo>
                  <a:lnTo>
                    <a:pt x="0" y="10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792520" y="5145120"/>
              <a:ext cx="136440" cy="80640"/>
            </a:xfrm>
            <a:custGeom>
              <a:avLst/>
              <a:gdLst/>
              <a:ahLst/>
              <a:rect l="l" t="t" r="r" b="b"/>
              <a:pathLst>
                <a:path w="2396" h="1438">
                  <a:moveTo>
                    <a:pt x="0" y="361"/>
                  </a:moveTo>
                  <a:lnTo>
                    <a:pt x="161" y="0"/>
                  </a:lnTo>
                  <a:lnTo>
                    <a:pt x="2074" y="854"/>
                  </a:lnTo>
                  <a:lnTo>
                    <a:pt x="2172" y="633"/>
                  </a:lnTo>
                  <a:lnTo>
                    <a:pt x="2396" y="1208"/>
                  </a:lnTo>
                  <a:lnTo>
                    <a:pt x="1815" y="1438"/>
                  </a:lnTo>
                  <a:lnTo>
                    <a:pt x="1914" y="1215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3240000" y="4746600"/>
            <a:ext cx="11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4537080" y="2079720"/>
            <a:ext cx="911160" cy="527040"/>
            <a:chOff x="4537080" y="2079720"/>
            <a:chExt cx="911160" cy="527040"/>
          </a:xfrm>
        </p:grpSpPr>
        <p:sp>
          <p:nvSpPr>
            <p:cNvPr id="990" name=""/>
            <p:cNvSpPr/>
            <p:nvPr/>
          </p:nvSpPr>
          <p:spPr>
            <a:xfrm>
              <a:off x="4537080" y="2157480"/>
              <a:ext cx="828720" cy="44928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537080" y="2157480"/>
              <a:ext cx="828720" cy="449280"/>
            </a:xfrm>
            <a:prstGeom prst="rect">
              <a:avLst/>
            </a:prstGeom>
            <a:noFill/>
            <a:ln w="7920">
              <a:solidFill>
                <a:srgbClr val="add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957920" y="2198520"/>
              <a:ext cx="365040" cy="387360"/>
            </a:xfrm>
            <a:custGeom>
              <a:avLst/>
              <a:gdLst/>
              <a:ahLst/>
              <a:rect l="l" t="t" r="r" b="b"/>
              <a:pathLst>
                <a:path w="6445" h="6837">
                  <a:moveTo>
                    <a:pt x="6008" y="2443"/>
                  </a:moveTo>
                  <a:lnTo>
                    <a:pt x="6020" y="2420"/>
                  </a:lnTo>
                  <a:lnTo>
                    <a:pt x="6032" y="2398"/>
                  </a:lnTo>
                  <a:lnTo>
                    <a:pt x="6043" y="2376"/>
                  </a:lnTo>
                  <a:lnTo>
                    <a:pt x="6053" y="2353"/>
                  </a:lnTo>
                  <a:lnTo>
                    <a:pt x="6064" y="2330"/>
                  </a:lnTo>
                  <a:lnTo>
                    <a:pt x="6074" y="2308"/>
                  </a:lnTo>
                  <a:lnTo>
                    <a:pt x="6082" y="2284"/>
                  </a:lnTo>
                  <a:lnTo>
                    <a:pt x="6091" y="2261"/>
                  </a:lnTo>
                  <a:lnTo>
                    <a:pt x="6098" y="2239"/>
                  </a:lnTo>
                  <a:lnTo>
                    <a:pt x="6106" y="2215"/>
                  </a:lnTo>
                  <a:lnTo>
                    <a:pt x="6112" y="2192"/>
                  </a:lnTo>
                  <a:lnTo>
                    <a:pt x="6119" y="2168"/>
                  </a:lnTo>
                  <a:lnTo>
                    <a:pt x="6124" y="2144"/>
                  </a:lnTo>
                  <a:lnTo>
                    <a:pt x="6130" y="2121"/>
                  </a:lnTo>
                  <a:lnTo>
                    <a:pt x="6135" y="2098"/>
                  </a:lnTo>
                  <a:lnTo>
                    <a:pt x="6139" y="2073"/>
                  </a:lnTo>
                  <a:lnTo>
                    <a:pt x="6142" y="2050"/>
                  </a:lnTo>
                  <a:lnTo>
                    <a:pt x="6145" y="2026"/>
                  </a:lnTo>
                  <a:lnTo>
                    <a:pt x="6147" y="2001"/>
                  </a:lnTo>
                  <a:lnTo>
                    <a:pt x="6149" y="1977"/>
                  </a:lnTo>
                  <a:lnTo>
                    <a:pt x="6150" y="1953"/>
                  </a:lnTo>
                  <a:lnTo>
                    <a:pt x="6151" y="1928"/>
                  </a:lnTo>
                  <a:lnTo>
                    <a:pt x="6151" y="1904"/>
                  </a:lnTo>
                  <a:lnTo>
                    <a:pt x="6150" y="1879"/>
                  </a:lnTo>
                  <a:lnTo>
                    <a:pt x="6149" y="1854"/>
                  </a:lnTo>
                  <a:lnTo>
                    <a:pt x="6148" y="1830"/>
                  </a:lnTo>
                  <a:lnTo>
                    <a:pt x="6146" y="1805"/>
                  </a:lnTo>
                  <a:lnTo>
                    <a:pt x="6143" y="1780"/>
                  </a:lnTo>
                  <a:lnTo>
                    <a:pt x="6140" y="1755"/>
                  </a:lnTo>
                  <a:lnTo>
                    <a:pt x="6136" y="1729"/>
                  </a:lnTo>
                  <a:lnTo>
                    <a:pt x="6132" y="1705"/>
                  </a:lnTo>
                  <a:lnTo>
                    <a:pt x="6126" y="1680"/>
                  </a:lnTo>
                  <a:lnTo>
                    <a:pt x="6114" y="1626"/>
                  </a:lnTo>
                  <a:lnTo>
                    <a:pt x="6099" y="1574"/>
                  </a:lnTo>
                  <a:lnTo>
                    <a:pt x="6083" y="1524"/>
                  </a:lnTo>
                  <a:lnTo>
                    <a:pt x="6064" y="1475"/>
                  </a:lnTo>
                  <a:lnTo>
                    <a:pt x="6041" y="1427"/>
                  </a:lnTo>
                  <a:lnTo>
                    <a:pt x="6018" y="1381"/>
                  </a:lnTo>
                  <a:lnTo>
                    <a:pt x="5993" y="1336"/>
                  </a:lnTo>
                  <a:lnTo>
                    <a:pt x="5965" y="1293"/>
                  </a:lnTo>
                  <a:lnTo>
                    <a:pt x="5935" y="1251"/>
                  </a:lnTo>
                  <a:lnTo>
                    <a:pt x="5903" y="1211"/>
                  </a:lnTo>
                  <a:lnTo>
                    <a:pt x="5871" y="1172"/>
                  </a:lnTo>
                  <a:lnTo>
                    <a:pt x="5835" y="1136"/>
                  </a:lnTo>
                  <a:lnTo>
                    <a:pt x="5800" y="1101"/>
                  </a:lnTo>
                  <a:lnTo>
                    <a:pt x="5761" y="1068"/>
                  </a:lnTo>
                  <a:lnTo>
                    <a:pt x="5722" y="1037"/>
                  </a:lnTo>
                  <a:lnTo>
                    <a:pt x="5681" y="1008"/>
                  </a:lnTo>
                  <a:lnTo>
                    <a:pt x="5639" y="981"/>
                  </a:lnTo>
                  <a:lnTo>
                    <a:pt x="5597" y="956"/>
                  </a:lnTo>
                  <a:lnTo>
                    <a:pt x="5552" y="933"/>
                  </a:lnTo>
                  <a:lnTo>
                    <a:pt x="5506" y="912"/>
                  </a:lnTo>
                  <a:lnTo>
                    <a:pt x="5461" y="894"/>
                  </a:lnTo>
                  <a:lnTo>
                    <a:pt x="5413" y="878"/>
                  </a:lnTo>
                  <a:lnTo>
                    <a:pt x="5365" y="864"/>
                  </a:lnTo>
                  <a:lnTo>
                    <a:pt x="5317" y="852"/>
                  </a:lnTo>
                  <a:lnTo>
                    <a:pt x="5267" y="843"/>
                  </a:lnTo>
                  <a:lnTo>
                    <a:pt x="5217" y="836"/>
                  </a:lnTo>
                  <a:lnTo>
                    <a:pt x="5167" y="832"/>
                  </a:lnTo>
                  <a:lnTo>
                    <a:pt x="5117" y="831"/>
                  </a:lnTo>
                  <a:lnTo>
                    <a:pt x="5065" y="832"/>
                  </a:lnTo>
                  <a:lnTo>
                    <a:pt x="5014" y="836"/>
                  </a:lnTo>
                  <a:lnTo>
                    <a:pt x="4962" y="843"/>
                  </a:lnTo>
                  <a:lnTo>
                    <a:pt x="4911" y="852"/>
                  </a:lnTo>
                  <a:lnTo>
                    <a:pt x="4895" y="817"/>
                  </a:lnTo>
                  <a:lnTo>
                    <a:pt x="4879" y="783"/>
                  </a:lnTo>
                  <a:lnTo>
                    <a:pt x="4863" y="749"/>
                  </a:lnTo>
                  <a:lnTo>
                    <a:pt x="4845" y="716"/>
                  </a:lnTo>
                  <a:lnTo>
                    <a:pt x="4826" y="684"/>
                  </a:lnTo>
                  <a:lnTo>
                    <a:pt x="4808" y="652"/>
                  </a:lnTo>
                  <a:lnTo>
                    <a:pt x="4788" y="621"/>
                  </a:lnTo>
                  <a:lnTo>
                    <a:pt x="4767" y="591"/>
                  </a:lnTo>
                  <a:lnTo>
                    <a:pt x="4746" y="561"/>
                  </a:lnTo>
                  <a:lnTo>
                    <a:pt x="4725" y="532"/>
                  </a:lnTo>
                  <a:lnTo>
                    <a:pt x="4701" y="503"/>
                  </a:lnTo>
                  <a:lnTo>
                    <a:pt x="4678" y="476"/>
                  </a:lnTo>
                  <a:lnTo>
                    <a:pt x="4655" y="449"/>
                  </a:lnTo>
                  <a:lnTo>
                    <a:pt x="4629" y="423"/>
                  </a:lnTo>
                  <a:lnTo>
                    <a:pt x="4604" y="398"/>
                  </a:lnTo>
                  <a:lnTo>
                    <a:pt x="4579" y="372"/>
                  </a:lnTo>
                  <a:lnTo>
                    <a:pt x="4551" y="348"/>
                  </a:lnTo>
                  <a:lnTo>
                    <a:pt x="4524" y="325"/>
                  </a:lnTo>
                  <a:lnTo>
                    <a:pt x="4496" y="302"/>
                  </a:lnTo>
                  <a:lnTo>
                    <a:pt x="4467" y="280"/>
                  </a:lnTo>
                  <a:lnTo>
                    <a:pt x="4438" y="259"/>
                  </a:lnTo>
                  <a:lnTo>
                    <a:pt x="4408" y="238"/>
                  </a:lnTo>
                  <a:lnTo>
                    <a:pt x="4377" y="218"/>
                  </a:lnTo>
                  <a:lnTo>
                    <a:pt x="4346" y="200"/>
                  </a:lnTo>
                  <a:lnTo>
                    <a:pt x="4314" y="182"/>
                  </a:lnTo>
                  <a:lnTo>
                    <a:pt x="4281" y="163"/>
                  </a:lnTo>
                  <a:lnTo>
                    <a:pt x="4248" y="147"/>
                  </a:lnTo>
                  <a:lnTo>
                    <a:pt x="4214" y="131"/>
                  </a:lnTo>
                  <a:lnTo>
                    <a:pt x="4180" y="116"/>
                  </a:lnTo>
                  <a:lnTo>
                    <a:pt x="4144" y="101"/>
                  </a:lnTo>
                  <a:lnTo>
                    <a:pt x="4109" y="87"/>
                  </a:lnTo>
                  <a:lnTo>
                    <a:pt x="4072" y="74"/>
                  </a:lnTo>
                  <a:lnTo>
                    <a:pt x="4004" y="53"/>
                  </a:lnTo>
                  <a:lnTo>
                    <a:pt x="3935" y="35"/>
                  </a:lnTo>
                  <a:lnTo>
                    <a:pt x="3866" y="21"/>
                  </a:lnTo>
                  <a:lnTo>
                    <a:pt x="3796" y="10"/>
                  </a:lnTo>
                  <a:lnTo>
                    <a:pt x="3727" y="3"/>
                  </a:lnTo>
                  <a:lnTo>
                    <a:pt x="3658" y="0"/>
                  </a:lnTo>
                  <a:lnTo>
                    <a:pt x="3589" y="0"/>
                  </a:lnTo>
                  <a:lnTo>
                    <a:pt x="3521" y="3"/>
                  </a:lnTo>
                  <a:lnTo>
                    <a:pt x="3453" y="9"/>
                  </a:lnTo>
                  <a:lnTo>
                    <a:pt x="3385" y="19"/>
                  </a:lnTo>
                  <a:lnTo>
                    <a:pt x="3318" y="31"/>
                  </a:lnTo>
                  <a:lnTo>
                    <a:pt x="3252" y="48"/>
                  </a:lnTo>
                  <a:lnTo>
                    <a:pt x="3187" y="67"/>
                  </a:lnTo>
                  <a:lnTo>
                    <a:pt x="3123" y="89"/>
                  </a:lnTo>
                  <a:lnTo>
                    <a:pt x="3060" y="114"/>
                  </a:lnTo>
                  <a:lnTo>
                    <a:pt x="2999" y="142"/>
                  </a:lnTo>
                  <a:lnTo>
                    <a:pt x="2938" y="172"/>
                  </a:lnTo>
                  <a:lnTo>
                    <a:pt x="2881" y="206"/>
                  </a:lnTo>
                  <a:lnTo>
                    <a:pt x="2823" y="242"/>
                  </a:lnTo>
                  <a:lnTo>
                    <a:pt x="2768" y="282"/>
                  </a:lnTo>
                  <a:lnTo>
                    <a:pt x="2714" y="324"/>
                  </a:lnTo>
                  <a:lnTo>
                    <a:pt x="2663" y="367"/>
                  </a:lnTo>
                  <a:lnTo>
                    <a:pt x="2614" y="414"/>
                  </a:lnTo>
                  <a:lnTo>
                    <a:pt x="2567" y="464"/>
                  </a:lnTo>
                  <a:lnTo>
                    <a:pt x="2522" y="515"/>
                  </a:lnTo>
                  <a:lnTo>
                    <a:pt x="2480" y="569"/>
                  </a:lnTo>
                  <a:lnTo>
                    <a:pt x="2440" y="625"/>
                  </a:lnTo>
                  <a:lnTo>
                    <a:pt x="2402" y="684"/>
                  </a:lnTo>
                  <a:lnTo>
                    <a:pt x="2368" y="745"/>
                  </a:lnTo>
                  <a:lnTo>
                    <a:pt x="2336" y="808"/>
                  </a:lnTo>
                  <a:lnTo>
                    <a:pt x="2308" y="872"/>
                  </a:lnTo>
                  <a:lnTo>
                    <a:pt x="2283" y="939"/>
                  </a:lnTo>
                  <a:lnTo>
                    <a:pt x="2260" y="921"/>
                  </a:lnTo>
                  <a:lnTo>
                    <a:pt x="2237" y="904"/>
                  </a:lnTo>
                  <a:lnTo>
                    <a:pt x="2214" y="888"/>
                  </a:lnTo>
                  <a:lnTo>
                    <a:pt x="2190" y="873"/>
                  </a:lnTo>
                  <a:lnTo>
                    <a:pt x="2166" y="858"/>
                  </a:lnTo>
                  <a:lnTo>
                    <a:pt x="2143" y="845"/>
                  </a:lnTo>
                  <a:lnTo>
                    <a:pt x="2119" y="832"/>
                  </a:lnTo>
                  <a:lnTo>
                    <a:pt x="2095" y="820"/>
                  </a:lnTo>
                  <a:lnTo>
                    <a:pt x="2071" y="809"/>
                  </a:lnTo>
                  <a:lnTo>
                    <a:pt x="2046" y="799"/>
                  </a:lnTo>
                  <a:lnTo>
                    <a:pt x="2022" y="788"/>
                  </a:lnTo>
                  <a:lnTo>
                    <a:pt x="1997" y="779"/>
                  </a:lnTo>
                  <a:lnTo>
                    <a:pt x="1973" y="772"/>
                  </a:lnTo>
                  <a:lnTo>
                    <a:pt x="1949" y="764"/>
                  </a:lnTo>
                  <a:lnTo>
                    <a:pt x="1924" y="758"/>
                  </a:lnTo>
                  <a:lnTo>
                    <a:pt x="1899" y="753"/>
                  </a:lnTo>
                  <a:lnTo>
                    <a:pt x="1874" y="748"/>
                  </a:lnTo>
                  <a:lnTo>
                    <a:pt x="1849" y="744"/>
                  </a:lnTo>
                  <a:lnTo>
                    <a:pt x="1824" y="741"/>
                  </a:lnTo>
                  <a:lnTo>
                    <a:pt x="1799" y="739"/>
                  </a:lnTo>
                  <a:lnTo>
                    <a:pt x="1773" y="737"/>
                  </a:lnTo>
                  <a:lnTo>
                    <a:pt x="1748" y="737"/>
                  </a:lnTo>
                  <a:lnTo>
                    <a:pt x="1722" y="737"/>
                  </a:lnTo>
                  <a:lnTo>
                    <a:pt x="1697" y="738"/>
                  </a:lnTo>
                  <a:lnTo>
                    <a:pt x="1671" y="740"/>
                  </a:lnTo>
                  <a:lnTo>
                    <a:pt x="1645" y="742"/>
                  </a:lnTo>
                  <a:lnTo>
                    <a:pt x="1619" y="745"/>
                  </a:lnTo>
                  <a:lnTo>
                    <a:pt x="1594" y="750"/>
                  </a:lnTo>
                  <a:lnTo>
                    <a:pt x="1567" y="755"/>
                  </a:lnTo>
                  <a:lnTo>
                    <a:pt x="1541" y="760"/>
                  </a:lnTo>
                  <a:lnTo>
                    <a:pt x="1515" y="767"/>
                  </a:lnTo>
                  <a:lnTo>
                    <a:pt x="1489" y="774"/>
                  </a:lnTo>
                  <a:lnTo>
                    <a:pt x="1436" y="793"/>
                  </a:lnTo>
                  <a:lnTo>
                    <a:pt x="1384" y="814"/>
                  </a:lnTo>
                  <a:lnTo>
                    <a:pt x="1334" y="838"/>
                  </a:lnTo>
                  <a:lnTo>
                    <a:pt x="1285" y="866"/>
                  </a:lnTo>
                  <a:lnTo>
                    <a:pt x="1237" y="895"/>
                  </a:lnTo>
                  <a:lnTo>
                    <a:pt x="1192" y="929"/>
                  </a:lnTo>
                  <a:lnTo>
                    <a:pt x="1147" y="965"/>
                  </a:lnTo>
                  <a:lnTo>
                    <a:pt x="1104" y="1003"/>
                  </a:lnTo>
                  <a:lnTo>
                    <a:pt x="1063" y="1044"/>
                  </a:lnTo>
                  <a:lnTo>
                    <a:pt x="1023" y="1088"/>
                  </a:lnTo>
                  <a:lnTo>
                    <a:pt x="986" y="1134"/>
                  </a:lnTo>
                  <a:lnTo>
                    <a:pt x="949" y="1181"/>
                  </a:lnTo>
                  <a:lnTo>
                    <a:pt x="915" y="1232"/>
                  </a:lnTo>
                  <a:lnTo>
                    <a:pt x="883" y="1284"/>
                  </a:lnTo>
                  <a:lnTo>
                    <a:pt x="853" y="1339"/>
                  </a:lnTo>
                  <a:lnTo>
                    <a:pt x="824" y="1394"/>
                  </a:lnTo>
                  <a:lnTo>
                    <a:pt x="798" y="1451"/>
                  </a:lnTo>
                  <a:lnTo>
                    <a:pt x="773" y="1511"/>
                  </a:lnTo>
                  <a:lnTo>
                    <a:pt x="751" y="1571"/>
                  </a:lnTo>
                  <a:lnTo>
                    <a:pt x="732" y="1633"/>
                  </a:lnTo>
                  <a:lnTo>
                    <a:pt x="714" y="1697"/>
                  </a:lnTo>
                  <a:lnTo>
                    <a:pt x="698" y="1761"/>
                  </a:lnTo>
                  <a:lnTo>
                    <a:pt x="685" y="1826"/>
                  </a:lnTo>
                  <a:lnTo>
                    <a:pt x="675" y="1893"/>
                  </a:lnTo>
                  <a:lnTo>
                    <a:pt x="666" y="1960"/>
                  </a:lnTo>
                  <a:lnTo>
                    <a:pt x="661" y="2028"/>
                  </a:lnTo>
                  <a:lnTo>
                    <a:pt x="658" y="2096"/>
                  </a:lnTo>
                  <a:lnTo>
                    <a:pt x="657" y="2165"/>
                  </a:lnTo>
                  <a:lnTo>
                    <a:pt x="659" y="2234"/>
                  </a:lnTo>
                  <a:lnTo>
                    <a:pt x="664" y="2304"/>
                  </a:lnTo>
                  <a:lnTo>
                    <a:pt x="671" y="2374"/>
                  </a:lnTo>
                  <a:lnTo>
                    <a:pt x="681" y="2443"/>
                  </a:lnTo>
                  <a:lnTo>
                    <a:pt x="656" y="2447"/>
                  </a:lnTo>
                  <a:lnTo>
                    <a:pt x="630" y="2453"/>
                  </a:lnTo>
                  <a:lnTo>
                    <a:pt x="605" y="2459"/>
                  </a:lnTo>
                  <a:lnTo>
                    <a:pt x="581" y="2467"/>
                  </a:lnTo>
                  <a:lnTo>
                    <a:pt x="556" y="2475"/>
                  </a:lnTo>
                  <a:lnTo>
                    <a:pt x="532" y="2485"/>
                  </a:lnTo>
                  <a:lnTo>
                    <a:pt x="507" y="2497"/>
                  </a:lnTo>
                  <a:lnTo>
                    <a:pt x="484" y="2509"/>
                  </a:lnTo>
                  <a:lnTo>
                    <a:pt x="461" y="2523"/>
                  </a:lnTo>
                  <a:lnTo>
                    <a:pt x="438" y="2537"/>
                  </a:lnTo>
                  <a:lnTo>
                    <a:pt x="416" y="2553"/>
                  </a:lnTo>
                  <a:lnTo>
                    <a:pt x="395" y="2570"/>
                  </a:lnTo>
                  <a:lnTo>
                    <a:pt x="372" y="2588"/>
                  </a:lnTo>
                  <a:lnTo>
                    <a:pt x="352" y="2607"/>
                  </a:lnTo>
                  <a:lnTo>
                    <a:pt x="331" y="2627"/>
                  </a:lnTo>
                  <a:lnTo>
                    <a:pt x="312" y="2648"/>
                  </a:lnTo>
                  <a:lnTo>
                    <a:pt x="291" y="2670"/>
                  </a:lnTo>
                  <a:lnTo>
                    <a:pt x="273" y="2693"/>
                  </a:lnTo>
                  <a:lnTo>
                    <a:pt x="254" y="2718"/>
                  </a:lnTo>
                  <a:lnTo>
                    <a:pt x="235" y="2743"/>
                  </a:lnTo>
                  <a:lnTo>
                    <a:pt x="218" y="2769"/>
                  </a:lnTo>
                  <a:lnTo>
                    <a:pt x="201" y="2796"/>
                  </a:lnTo>
                  <a:lnTo>
                    <a:pt x="185" y="2824"/>
                  </a:lnTo>
                  <a:lnTo>
                    <a:pt x="168" y="2853"/>
                  </a:lnTo>
                  <a:lnTo>
                    <a:pt x="153" y="2883"/>
                  </a:lnTo>
                  <a:lnTo>
                    <a:pt x="139" y="2914"/>
                  </a:lnTo>
                  <a:lnTo>
                    <a:pt x="125" y="2946"/>
                  </a:lnTo>
                  <a:lnTo>
                    <a:pt x="112" y="2979"/>
                  </a:lnTo>
                  <a:lnTo>
                    <a:pt x="98" y="3012"/>
                  </a:lnTo>
                  <a:lnTo>
                    <a:pt x="86" y="3047"/>
                  </a:lnTo>
                  <a:lnTo>
                    <a:pt x="74" y="3081"/>
                  </a:lnTo>
                  <a:lnTo>
                    <a:pt x="64" y="3118"/>
                  </a:lnTo>
                  <a:lnTo>
                    <a:pt x="49" y="3170"/>
                  </a:lnTo>
                  <a:lnTo>
                    <a:pt x="36" y="3224"/>
                  </a:lnTo>
                  <a:lnTo>
                    <a:pt x="25" y="3279"/>
                  </a:lnTo>
                  <a:lnTo>
                    <a:pt x="17" y="3334"/>
                  </a:lnTo>
                  <a:lnTo>
                    <a:pt x="10" y="3389"/>
                  </a:lnTo>
                  <a:lnTo>
                    <a:pt x="5" y="3443"/>
                  </a:lnTo>
                  <a:lnTo>
                    <a:pt x="1" y="3498"/>
                  </a:lnTo>
                  <a:lnTo>
                    <a:pt x="0" y="3553"/>
                  </a:lnTo>
                  <a:lnTo>
                    <a:pt x="0" y="3608"/>
                  </a:lnTo>
                  <a:lnTo>
                    <a:pt x="2" y="3663"/>
                  </a:lnTo>
                  <a:lnTo>
                    <a:pt x="5" y="3716"/>
                  </a:lnTo>
                  <a:lnTo>
                    <a:pt x="10" y="3770"/>
                  </a:lnTo>
                  <a:lnTo>
                    <a:pt x="17" y="3824"/>
                  </a:lnTo>
                  <a:lnTo>
                    <a:pt x="25" y="3877"/>
                  </a:lnTo>
                  <a:lnTo>
                    <a:pt x="35" y="3929"/>
                  </a:lnTo>
                  <a:lnTo>
                    <a:pt x="47" y="3980"/>
                  </a:lnTo>
                  <a:lnTo>
                    <a:pt x="60" y="4030"/>
                  </a:lnTo>
                  <a:lnTo>
                    <a:pt x="74" y="4080"/>
                  </a:lnTo>
                  <a:lnTo>
                    <a:pt x="90" y="4129"/>
                  </a:lnTo>
                  <a:lnTo>
                    <a:pt x="109" y="4175"/>
                  </a:lnTo>
                  <a:lnTo>
                    <a:pt x="127" y="4221"/>
                  </a:lnTo>
                  <a:lnTo>
                    <a:pt x="147" y="4266"/>
                  </a:lnTo>
                  <a:lnTo>
                    <a:pt x="169" y="4309"/>
                  </a:lnTo>
                  <a:lnTo>
                    <a:pt x="193" y="4351"/>
                  </a:lnTo>
                  <a:lnTo>
                    <a:pt x="217" y="4390"/>
                  </a:lnTo>
                  <a:lnTo>
                    <a:pt x="244" y="4429"/>
                  </a:lnTo>
                  <a:lnTo>
                    <a:pt x="270" y="4465"/>
                  </a:lnTo>
                  <a:lnTo>
                    <a:pt x="298" y="4500"/>
                  </a:lnTo>
                  <a:lnTo>
                    <a:pt x="329" y="4532"/>
                  </a:lnTo>
                  <a:lnTo>
                    <a:pt x="359" y="4563"/>
                  </a:lnTo>
                  <a:lnTo>
                    <a:pt x="392" y="4591"/>
                  </a:lnTo>
                  <a:lnTo>
                    <a:pt x="425" y="4617"/>
                  </a:lnTo>
                  <a:lnTo>
                    <a:pt x="423" y="4617"/>
                  </a:lnTo>
                  <a:lnTo>
                    <a:pt x="421" y="4662"/>
                  </a:lnTo>
                  <a:lnTo>
                    <a:pt x="421" y="4708"/>
                  </a:lnTo>
                  <a:lnTo>
                    <a:pt x="422" y="4753"/>
                  </a:lnTo>
                  <a:lnTo>
                    <a:pt x="425" y="4796"/>
                  </a:lnTo>
                  <a:lnTo>
                    <a:pt x="428" y="4840"/>
                  </a:lnTo>
                  <a:lnTo>
                    <a:pt x="433" y="4884"/>
                  </a:lnTo>
                  <a:lnTo>
                    <a:pt x="440" y="4926"/>
                  </a:lnTo>
                  <a:lnTo>
                    <a:pt x="449" y="4968"/>
                  </a:lnTo>
                  <a:lnTo>
                    <a:pt x="458" y="5010"/>
                  </a:lnTo>
                  <a:lnTo>
                    <a:pt x="468" y="5052"/>
                  </a:lnTo>
                  <a:lnTo>
                    <a:pt x="480" y="5093"/>
                  </a:lnTo>
                  <a:lnTo>
                    <a:pt x="493" y="5134"/>
                  </a:lnTo>
                  <a:lnTo>
                    <a:pt x="507" y="5175"/>
                  </a:lnTo>
                  <a:lnTo>
                    <a:pt x="524" y="5215"/>
                  </a:lnTo>
                  <a:lnTo>
                    <a:pt x="541" y="5256"/>
                  </a:lnTo>
                  <a:lnTo>
                    <a:pt x="560" y="5297"/>
                  </a:lnTo>
                  <a:lnTo>
                    <a:pt x="589" y="5351"/>
                  </a:lnTo>
                  <a:lnTo>
                    <a:pt x="619" y="5404"/>
                  </a:lnTo>
                  <a:lnTo>
                    <a:pt x="652" y="5455"/>
                  </a:lnTo>
                  <a:lnTo>
                    <a:pt x="685" y="5503"/>
                  </a:lnTo>
                  <a:lnTo>
                    <a:pt x="722" y="5548"/>
                  </a:lnTo>
                  <a:lnTo>
                    <a:pt x="759" y="5592"/>
                  </a:lnTo>
                  <a:lnTo>
                    <a:pt x="799" y="5634"/>
                  </a:lnTo>
                  <a:lnTo>
                    <a:pt x="839" y="5672"/>
                  </a:lnTo>
                  <a:lnTo>
                    <a:pt x="882" y="5709"/>
                  </a:lnTo>
                  <a:lnTo>
                    <a:pt x="926" y="5742"/>
                  </a:lnTo>
                  <a:lnTo>
                    <a:pt x="970" y="5774"/>
                  </a:lnTo>
                  <a:lnTo>
                    <a:pt x="1017" y="5803"/>
                  </a:lnTo>
                  <a:lnTo>
                    <a:pt x="1064" y="5830"/>
                  </a:lnTo>
                  <a:lnTo>
                    <a:pt x="1112" y="5853"/>
                  </a:lnTo>
                  <a:lnTo>
                    <a:pt x="1161" y="5874"/>
                  </a:lnTo>
                  <a:lnTo>
                    <a:pt x="1211" y="5892"/>
                  </a:lnTo>
                  <a:lnTo>
                    <a:pt x="1262" y="5909"/>
                  </a:lnTo>
                  <a:lnTo>
                    <a:pt x="1312" y="5922"/>
                  </a:lnTo>
                  <a:lnTo>
                    <a:pt x="1364" y="5932"/>
                  </a:lnTo>
                  <a:lnTo>
                    <a:pt x="1417" y="5939"/>
                  </a:lnTo>
                  <a:lnTo>
                    <a:pt x="1469" y="5944"/>
                  </a:lnTo>
                  <a:lnTo>
                    <a:pt x="1521" y="5946"/>
                  </a:lnTo>
                  <a:lnTo>
                    <a:pt x="1574" y="5946"/>
                  </a:lnTo>
                  <a:lnTo>
                    <a:pt x="1627" y="5942"/>
                  </a:lnTo>
                  <a:lnTo>
                    <a:pt x="1680" y="5935"/>
                  </a:lnTo>
                  <a:lnTo>
                    <a:pt x="1733" y="5926"/>
                  </a:lnTo>
                  <a:lnTo>
                    <a:pt x="1784" y="5914"/>
                  </a:lnTo>
                  <a:lnTo>
                    <a:pt x="1837" y="5898"/>
                  </a:lnTo>
                  <a:lnTo>
                    <a:pt x="1889" y="5879"/>
                  </a:lnTo>
                  <a:lnTo>
                    <a:pt x="1940" y="5858"/>
                  </a:lnTo>
                  <a:lnTo>
                    <a:pt x="1990" y="5833"/>
                  </a:lnTo>
                  <a:lnTo>
                    <a:pt x="2040" y="5805"/>
                  </a:lnTo>
                  <a:lnTo>
                    <a:pt x="2049" y="5836"/>
                  </a:lnTo>
                  <a:lnTo>
                    <a:pt x="2059" y="5866"/>
                  </a:lnTo>
                  <a:lnTo>
                    <a:pt x="2070" y="5896"/>
                  </a:lnTo>
                  <a:lnTo>
                    <a:pt x="2081" y="5926"/>
                  </a:lnTo>
                  <a:lnTo>
                    <a:pt x="2093" y="5955"/>
                  </a:lnTo>
                  <a:lnTo>
                    <a:pt x="2105" y="5984"/>
                  </a:lnTo>
                  <a:lnTo>
                    <a:pt x="2118" y="6012"/>
                  </a:lnTo>
                  <a:lnTo>
                    <a:pt x="2132" y="6041"/>
                  </a:lnTo>
                  <a:lnTo>
                    <a:pt x="2147" y="6068"/>
                  </a:lnTo>
                  <a:lnTo>
                    <a:pt x="2162" y="6095"/>
                  </a:lnTo>
                  <a:lnTo>
                    <a:pt x="2178" y="6122"/>
                  </a:lnTo>
                  <a:lnTo>
                    <a:pt x="2194" y="6148"/>
                  </a:lnTo>
                  <a:lnTo>
                    <a:pt x="2212" y="6175"/>
                  </a:lnTo>
                  <a:lnTo>
                    <a:pt x="2230" y="6200"/>
                  </a:lnTo>
                  <a:lnTo>
                    <a:pt x="2249" y="6225"/>
                  </a:lnTo>
                  <a:lnTo>
                    <a:pt x="2268" y="6250"/>
                  </a:lnTo>
                  <a:lnTo>
                    <a:pt x="2288" y="6274"/>
                  </a:lnTo>
                  <a:lnTo>
                    <a:pt x="2309" y="6298"/>
                  </a:lnTo>
                  <a:lnTo>
                    <a:pt x="2330" y="6323"/>
                  </a:lnTo>
                  <a:lnTo>
                    <a:pt x="2353" y="6345"/>
                  </a:lnTo>
                  <a:lnTo>
                    <a:pt x="2375" y="6368"/>
                  </a:lnTo>
                  <a:lnTo>
                    <a:pt x="2398" y="6391"/>
                  </a:lnTo>
                  <a:lnTo>
                    <a:pt x="2423" y="6413"/>
                  </a:lnTo>
                  <a:lnTo>
                    <a:pt x="2448" y="6434"/>
                  </a:lnTo>
                  <a:lnTo>
                    <a:pt x="2474" y="6456"/>
                  </a:lnTo>
                  <a:lnTo>
                    <a:pt x="2500" y="6477"/>
                  </a:lnTo>
                  <a:lnTo>
                    <a:pt x="2526" y="6497"/>
                  </a:lnTo>
                  <a:lnTo>
                    <a:pt x="2555" y="6518"/>
                  </a:lnTo>
                  <a:lnTo>
                    <a:pt x="2582" y="6537"/>
                  </a:lnTo>
                  <a:lnTo>
                    <a:pt x="2612" y="6556"/>
                  </a:lnTo>
                  <a:lnTo>
                    <a:pt x="2641" y="6575"/>
                  </a:lnTo>
                  <a:lnTo>
                    <a:pt x="2671" y="6594"/>
                  </a:lnTo>
                  <a:lnTo>
                    <a:pt x="2738" y="6632"/>
                  </a:lnTo>
                  <a:lnTo>
                    <a:pt x="2807" y="6667"/>
                  </a:lnTo>
                  <a:lnTo>
                    <a:pt x="2877" y="6698"/>
                  </a:lnTo>
                  <a:lnTo>
                    <a:pt x="2949" y="6727"/>
                  </a:lnTo>
                  <a:lnTo>
                    <a:pt x="3021" y="6751"/>
                  </a:lnTo>
                  <a:lnTo>
                    <a:pt x="3094" y="6773"/>
                  </a:lnTo>
                  <a:lnTo>
                    <a:pt x="3168" y="6792"/>
                  </a:lnTo>
                  <a:lnTo>
                    <a:pt x="3243" y="6807"/>
                  </a:lnTo>
                  <a:lnTo>
                    <a:pt x="3318" y="6819"/>
                  </a:lnTo>
                  <a:lnTo>
                    <a:pt x="3393" y="6828"/>
                  </a:lnTo>
                  <a:lnTo>
                    <a:pt x="3469" y="6834"/>
                  </a:lnTo>
                  <a:lnTo>
                    <a:pt x="3545" y="6837"/>
                  </a:lnTo>
                  <a:lnTo>
                    <a:pt x="3620" y="6836"/>
                  </a:lnTo>
                  <a:lnTo>
                    <a:pt x="3697" y="6833"/>
                  </a:lnTo>
                  <a:lnTo>
                    <a:pt x="3772" y="6827"/>
                  </a:lnTo>
                  <a:lnTo>
                    <a:pt x="3847" y="6818"/>
                  </a:lnTo>
                  <a:lnTo>
                    <a:pt x="3921" y="6806"/>
                  </a:lnTo>
                  <a:lnTo>
                    <a:pt x="3995" y="6791"/>
                  </a:lnTo>
                  <a:lnTo>
                    <a:pt x="4067" y="6772"/>
                  </a:lnTo>
                  <a:lnTo>
                    <a:pt x="4139" y="6751"/>
                  </a:lnTo>
                  <a:lnTo>
                    <a:pt x="4210" y="6727"/>
                  </a:lnTo>
                  <a:lnTo>
                    <a:pt x="4279" y="6700"/>
                  </a:lnTo>
                  <a:lnTo>
                    <a:pt x="4347" y="6670"/>
                  </a:lnTo>
                  <a:lnTo>
                    <a:pt x="4413" y="6637"/>
                  </a:lnTo>
                  <a:lnTo>
                    <a:pt x="4477" y="6602"/>
                  </a:lnTo>
                  <a:lnTo>
                    <a:pt x="4540" y="6564"/>
                  </a:lnTo>
                  <a:lnTo>
                    <a:pt x="4601" y="6523"/>
                  </a:lnTo>
                  <a:lnTo>
                    <a:pt x="4660" y="6479"/>
                  </a:lnTo>
                  <a:lnTo>
                    <a:pt x="4716" y="6432"/>
                  </a:lnTo>
                  <a:lnTo>
                    <a:pt x="4769" y="6384"/>
                  </a:lnTo>
                  <a:lnTo>
                    <a:pt x="4821" y="6332"/>
                  </a:lnTo>
                  <a:lnTo>
                    <a:pt x="4870" y="6277"/>
                  </a:lnTo>
                  <a:lnTo>
                    <a:pt x="4868" y="6288"/>
                  </a:lnTo>
                  <a:lnTo>
                    <a:pt x="4888" y="6300"/>
                  </a:lnTo>
                  <a:lnTo>
                    <a:pt x="4908" y="6312"/>
                  </a:lnTo>
                  <a:lnTo>
                    <a:pt x="4929" y="6322"/>
                  </a:lnTo>
                  <a:lnTo>
                    <a:pt x="4949" y="6331"/>
                  </a:lnTo>
                  <a:lnTo>
                    <a:pt x="4969" y="6340"/>
                  </a:lnTo>
                  <a:lnTo>
                    <a:pt x="4989" y="6348"/>
                  </a:lnTo>
                  <a:lnTo>
                    <a:pt x="5009" y="6356"/>
                  </a:lnTo>
                  <a:lnTo>
                    <a:pt x="5029" y="6362"/>
                  </a:lnTo>
                  <a:lnTo>
                    <a:pt x="5050" y="6368"/>
                  </a:lnTo>
                  <a:lnTo>
                    <a:pt x="5070" y="6373"/>
                  </a:lnTo>
                  <a:lnTo>
                    <a:pt x="5090" y="6379"/>
                  </a:lnTo>
                  <a:lnTo>
                    <a:pt x="5110" y="6383"/>
                  </a:lnTo>
                  <a:lnTo>
                    <a:pt x="5131" y="6386"/>
                  </a:lnTo>
                  <a:lnTo>
                    <a:pt x="5150" y="6388"/>
                  </a:lnTo>
                  <a:lnTo>
                    <a:pt x="5170" y="6390"/>
                  </a:lnTo>
                  <a:lnTo>
                    <a:pt x="5191" y="6391"/>
                  </a:lnTo>
                  <a:lnTo>
                    <a:pt x="5211" y="6391"/>
                  </a:lnTo>
                  <a:lnTo>
                    <a:pt x="5231" y="6390"/>
                  </a:lnTo>
                  <a:lnTo>
                    <a:pt x="5252" y="6389"/>
                  </a:lnTo>
                  <a:lnTo>
                    <a:pt x="5271" y="6387"/>
                  </a:lnTo>
                  <a:lnTo>
                    <a:pt x="5291" y="6385"/>
                  </a:lnTo>
                  <a:lnTo>
                    <a:pt x="5311" y="6382"/>
                  </a:lnTo>
                  <a:lnTo>
                    <a:pt x="5332" y="6378"/>
                  </a:lnTo>
                  <a:lnTo>
                    <a:pt x="5352" y="6372"/>
                  </a:lnTo>
                  <a:lnTo>
                    <a:pt x="5372" y="6366"/>
                  </a:lnTo>
                  <a:lnTo>
                    <a:pt x="5393" y="6360"/>
                  </a:lnTo>
                  <a:lnTo>
                    <a:pt x="5413" y="6353"/>
                  </a:lnTo>
                  <a:lnTo>
                    <a:pt x="5434" y="6346"/>
                  </a:lnTo>
                  <a:lnTo>
                    <a:pt x="5455" y="6338"/>
                  </a:lnTo>
                  <a:lnTo>
                    <a:pt x="5475" y="6329"/>
                  </a:lnTo>
                  <a:lnTo>
                    <a:pt x="5495" y="6319"/>
                  </a:lnTo>
                  <a:lnTo>
                    <a:pt x="5516" y="6309"/>
                  </a:lnTo>
                  <a:lnTo>
                    <a:pt x="5567" y="6279"/>
                  </a:lnTo>
                  <a:lnTo>
                    <a:pt x="5616" y="6246"/>
                  </a:lnTo>
                  <a:lnTo>
                    <a:pt x="5664" y="6208"/>
                  </a:lnTo>
                  <a:lnTo>
                    <a:pt x="5710" y="6167"/>
                  </a:lnTo>
                  <a:lnTo>
                    <a:pt x="5755" y="6123"/>
                  </a:lnTo>
                  <a:lnTo>
                    <a:pt x="5799" y="6074"/>
                  </a:lnTo>
                  <a:lnTo>
                    <a:pt x="5840" y="6022"/>
                  </a:lnTo>
                  <a:lnTo>
                    <a:pt x="5880" y="5968"/>
                  </a:lnTo>
                  <a:lnTo>
                    <a:pt x="5918" y="5910"/>
                  </a:lnTo>
                  <a:lnTo>
                    <a:pt x="5954" y="5849"/>
                  </a:lnTo>
                  <a:lnTo>
                    <a:pt x="5988" y="5785"/>
                  </a:lnTo>
                  <a:lnTo>
                    <a:pt x="6022" y="5719"/>
                  </a:lnTo>
                  <a:lnTo>
                    <a:pt x="6052" y="5650"/>
                  </a:lnTo>
                  <a:lnTo>
                    <a:pt x="6081" y="5579"/>
                  </a:lnTo>
                  <a:lnTo>
                    <a:pt x="6108" y="5505"/>
                  </a:lnTo>
                  <a:lnTo>
                    <a:pt x="6133" y="5430"/>
                  </a:lnTo>
                  <a:lnTo>
                    <a:pt x="6155" y="5351"/>
                  </a:lnTo>
                  <a:lnTo>
                    <a:pt x="6176" y="5272"/>
                  </a:lnTo>
                  <a:lnTo>
                    <a:pt x="6195" y="5192"/>
                  </a:lnTo>
                  <a:lnTo>
                    <a:pt x="6211" y="5109"/>
                  </a:lnTo>
                  <a:lnTo>
                    <a:pt x="6224" y="5026"/>
                  </a:lnTo>
                  <a:lnTo>
                    <a:pt x="6236" y="4940"/>
                  </a:lnTo>
                  <a:lnTo>
                    <a:pt x="6245" y="4854"/>
                  </a:lnTo>
                  <a:lnTo>
                    <a:pt x="6252" y="4768"/>
                  </a:lnTo>
                  <a:lnTo>
                    <a:pt x="6256" y="4681"/>
                  </a:lnTo>
                  <a:lnTo>
                    <a:pt x="6258" y="4592"/>
                  </a:lnTo>
                  <a:lnTo>
                    <a:pt x="6257" y="4503"/>
                  </a:lnTo>
                  <a:lnTo>
                    <a:pt x="6254" y="4414"/>
                  </a:lnTo>
                  <a:lnTo>
                    <a:pt x="6248" y="4324"/>
                  </a:lnTo>
                  <a:lnTo>
                    <a:pt x="6239" y="4235"/>
                  </a:lnTo>
                  <a:lnTo>
                    <a:pt x="6228" y="4147"/>
                  </a:lnTo>
                  <a:lnTo>
                    <a:pt x="6214" y="4057"/>
                  </a:lnTo>
                  <a:lnTo>
                    <a:pt x="6220" y="4062"/>
                  </a:lnTo>
                  <a:lnTo>
                    <a:pt x="6253" y="4013"/>
                  </a:lnTo>
                  <a:lnTo>
                    <a:pt x="6284" y="3964"/>
                  </a:lnTo>
                  <a:lnTo>
                    <a:pt x="6311" y="3913"/>
                  </a:lnTo>
                  <a:lnTo>
                    <a:pt x="6337" y="3862"/>
                  </a:lnTo>
                  <a:lnTo>
                    <a:pt x="6359" y="3810"/>
                  </a:lnTo>
                  <a:lnTo>
                    <a:pt x="6379" y="3757"/>
                  </a:lnTo>
                  <a:lnTo>
                    <a:pt x="6396" y="3703"/>
                  </a:lnTo>
                  <a:lnTo>
                    <a:pt x="6411" y="3649"/>
                  </a:lnTo>
                  <a:lnTo>
                    <a:pt x="6423" y="3595"/>
                  </a:lnTo>
                  <a:lnTo>
                    <a:pt x="6433" y="3540"/>
                  </a:lnTo>
                  <a:lnTo>
                    <a:pt x="6439" y="3485"/>
                  </a:lnTo>
                  <a:lnTo>
                    <a:pt x="6444" y="3430"/>
                  </a:lnTo>
                  <a:lnTo>
                    <a:pt x="6445" y="3374"/>
                  </a:lnTo>
                  <a:lnTo>
                    <a:pt x="6444" y="3320"/>
                  </a:lnTo>
                  <a:lnTo>
                    <a:pt x="6441" y="3265"/>
                  </a:lnTo>
                  <a:lnTo>
                    <a:pt x="6435" y="3210"/>
                  </a:lnTo>
                  <a:lnTo>
                    <a:pt x="6427" y="3155"/>
                  </a:lnTo>
                  <a:lnTo>
                    <a:pt x="6416" y="3101"/>
                  </a:lnTo>
                  <a:lnTo>
                    <a:pt x="6403" y="3048"/>
                  </a:lnTo>
                  <a:lnTo>
                    <a:pt x="6386" y="2995"/>
                  </a:lnTo>
                  <a:lnTo>
                    <a:pt x="6368" y="2943"/>
                  </a:lnTo>
                  <a:lnTo>
                    <a:pt x="6348" y="2891"/>
                  </a:lnTo>
                  <a:lnTo>
                    <a:pt x="6324" y="2841"/>
                  </a:lnTo>
                  <a:lnTo>
                    <a:pt x="6299" y="2791"/>
                  </a:lnTo>
                  <a:lnTo>
                    <a:pt x="6271" y="2743"/>
                  </a:lnTo>
                  <a:lnTo>
                    <a:pt x="6240" y="2695"/>
                  </a:lnTo>
                  <a:lnTo>
                    <a:pt x="6207" y="2650"/>
                  </a:lnTo>
                  <a:lnTo>
                    <a:pt x="6172" y="2605"/>
                  </a:lnTo>
                  <a:lnTo>
                    <a:pt x="6135" y="2563"/>
                  </a:lnTo>
                  <a:lnTo>
                    <a:pt x="6094" y="2521"/>
                  </a:lnTo>
                  <a:lnTo>
                    <a:pt x="6052" y="2481"/>
                  </a:lnTo>
                  <a:lnTo>
                    <a:pt x="6008" y="2443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957920" y="2198520"/>
              <a:ext cx="365040" cy="387360"/>
            </a:xfrm>
            <a:custGeom>
              <a:avLst/>
              <a:gdLst/>
              <a:ahLst/>
              <a:rect l="l" t="t" r="r" b="b"/>
              <a:pathLst>
                <a:path w="6445" h="6837">
                  <a:moveTo>
                    <a:pt x="6008" y="2443"/>
                  </a:moveTo>
                  <a:lnTo>
                    <a:pt x="6020" y="2420"/>
                  </a:lnTo>
                  <a:lnTo>
                    <a:pt x="6032" y="2398"/>
                  </a:lnTo>
                  <a:lnTo>
                    <a:pt x="6043" y="2376"/>
                  </a:lnTo>
                  <a:lnTo>
                    <a:pt x="6053" y="2353"/>
                  </a:lnTo>
                  <a:lnTo>
                    <a:pt x="6064" y="2330"/>
                  </a:lnTo>
                  <a:lnTo>
                    <a:pt x="6074" y="2308"/>
                  </a:lnTo>
                  <a:lnTo>
                    <a:pt x="6082" y="2284"/>
                  </a:lnTo>
                  <a:lnTo>
                    <a:pt x="6091" y="2261"/>
                  </a:lnTo>
                  <a:lnTo>
                    <a:pt x="6098" y="2239"/>
                  </a:lnTo>
                  <a:lnTo>
                    <a:pt x="6106" y="2215"/>
                  </a:lnTo>
                  <a:lnTo>
                    <a:pt x="6112" y="2192"/>
                  </a:lnTo>
                  <a:lnTo>
                    <a:pt x="6119" y="2168"/>
                  </a:lnTo>
                  <a:lnTo>
                    <a:pt x="6124" y="2144"/>
                  </a:lnTo>
                  <a:lnTo>
                    <a:pt x="6130" y="2121"/>
                  </a:lnTo>
                  <a:lnTo>
                    <a:pt x="6135" y="2098"/>
                  </a:lnTo>
                  <a:lnTo>
                    <a:pt x="6139" y="2073"/>
                  </a:lnTo>
                  <a:lnTo>
                    <a:pt x="6142" y="2050"/>
                  </a:lnTo>
                  <a:lnTo>
                    <a:pt x="6145" y="2026"/>
                  </a:lnTo>
                  <a:lnTo>
                    <a:pt x="6147" y="2001"/>
                  </a:lnTo>
                  <a:lnTo>
                    <a:pt x="6149" y="1977"/>
                  </a:lnTo>
                  <a:lnTo>
                    <a:pt x="6150" y="1953"/>
                  </a:lnTo>
                  <a:lnTo>
                    <a:pt x="6151" y="1928"/>
                  </a:lnTo>
                  <a:lnTo>
                    <a:pt x="6151" y="1904"/>
                  </a:lnTo>
                  <a:lnTo>
                    <a:pt x="6150" y="1879"/>
                  </a:lnTo>
                  <a:lnTo>
                    <a:pt x="6149" y="1854"/>
                  </a:lnTo>
                  <a:lnTo>
                    <a:pt x="6148" y="1830"/>
                  </a:lnTo>
                  <a:lnTo>
                    <a:pt x="6146" y="1805"/>
                  </a:lnTo>
                  <a:lnTo>
                    <a:pt x="6143" y="1780"/>
                  </a:lnTo>
                  <a:lnTo>
                    <a:pt x="6140" y="1755"/>
                  </a:lnTo>
                  <a:lnTo>
                    <a:pt x="6136" y="1729"/>
                  </a:lnTo>
                  <a:lnTo>
                    <a:pt x="6132" y="1705"/>
                  </a:lnTo>
                  <a:lnTo>
                    <a:pt x="6126" y="1680"/>
                  </a:lnTo>
                  <a:lnTo>
                    <a:pt x="6114" y="1626"/>
                  </a:lnTo>
                  <a:lnTo>
                    <a:pt x="6099" y="1574"/>
                  </a:lnTo>
                  <a:lnTo>
                    <a:pt x="6083" y="1524"/>
                  </a:lnTo>
                  <a:lnTo>
                    <a:pt x="6064" y="1475"/>
                  </a:lnTo>
                  <a:lnTo>
                    <a:pt x="6041" y="1427"/>
                  </a:lnTo>
                  <a:lnTo>
                    <a:pt x="6018" y="1381"/>
                  </a:lnTo>
                  <a:lnTo>
                    <a:pt x="5993" y="1336"/>
                  </a:lnTo>
                  <a:lnTo>
                    <a:pt x="5965" y="1293"/>
                  </a:lnTo>
                  <a:lnTo>
                    <a:pt x="5935" y="1251"/>
                  </a:lnTo>
                  <a:lnTo>
                    <a:pt x="5903" y="1211"/>
                  </a:lnTo>
                  <a:lnTo>
                    <a:pt x="5871" y="1172"/>
                  </a:lnTo>
                  <a:lnTo>
                    <a:pt x="5835" y="1136"/>
                  </a:lnTo>
                  <a:lnTo>
                    <a:pt x="5800" y="1101"/>
                  </a:lnTo>
                  <a:lnTo>
                    <a:pt x="5761" y="1068"/>
                  </a:lnTo>
                  <a:lnTo>
                    <a:pt x="5722" y="1037"/>
                  </a:lnTo>
                  <a:lnTo>
                    <a:pt x="5681" y="1008"/>
                  </a:lnTo>
                  <a:lnTo>
                    <a:pt x="5639" y="981"/>
                  </a:lnTo>
                  <a:lnTo>
                    <a:pt x="5597" y="956"/>
                  </a:lnTo>
                  <a:lnTo>
                    <a:pt x="5552" y="933"/>
                  </a:lnTo>
                  <a:lnTo>
                    <a:pt x="5506" y="912"/>
                  </a:lnTo>
                  <a:lnTo>
                    <a:pt x="5461" y="894"/>
                  </a:lnTo>
                  <a:lnTo>
                    <a:pt x="5413" y="878"/>
                  </a:lnTo>
                  <a:lnTo>
                    <a:pt x="5365" y="864"/>
                  </a:lnTo>
                  <a:lnTo>
                    <a:pt x="5317" y="852"/>
                  </a:lnTo>
                  <a:lnTo>
                    <a:pt x="5267" y="843"/>
                  </a:lnTo>
                  <a:lnTo>
                    <a:pt x="5217" y="836"/>
                  </a:lnTo>
                  <a:lnTo>
                    <a:pt x="5167" y="832"/>
                  </a:lnTo>
                  <a:lnTo>
                    <a:pt x="5117" y="831"/>
                  </a:lnTo>
                  <a:lnTo>
                    <a:pt x="5065" y="832"/>
                  </a:lnTo>
                  <a:lnTo>
                    <a:pt x="5014" y="836"/>
                  </a:lnTo>
                  <a:lnTo>
                    <a:pt x="4962" y="843"/>
                  </a:lnTo>
                  <a:lnTo>
                    <a:pt x="4911" y="852"/>
                  </a:lnTo>
                  <a:lnTo>
                    <a:pt x="4895" y="817"/>
                  </a:lnTo>
                  <a:lnTo>
                    <a:pt x="4879" y="783"/>
                  </a:lnTo>
                  <a:lnTo>
                    <a:pt x="4863" y="749"/>
                  </a:lnTo>
                  <a:lnTo>
                    <a:pt x="4845" y="716"/>
                  </a:lnTo>
                  <a:lnTo>
                    <a:pt x="4826" y="684"/>
                  </a:lnTo>
                  <a:lnTo>
                    <a:pt x="4808" y="652"/>
                  </a:lnTo>
                  <a:lnTo>
                    <a:pt x="4788" y="621"/>
                  </a:lnTo>
                  <a:lnTo>
                    <a:pt x="4767" y="591"/>
                  </a:lnTo>
                  <a:lnTo>
                    <a:pt x="4746" y="561"/>
                  </a:lnTo>
                  <a:lnTo>
                    <a:pt x="4725" y="532"/>
                  </a:lnTo>
                  <a:lnTo>
                    <a:pt x="4701" y="503"/>
                  </a:lnTo>
                  <a:lnTo>
                    <a:pt x="4678" y="476"/>
                  </a:lnTo>
                  <a:lnTo>
                    <a:pt x="4655" y="449"/>
                  </a:lnTo>
                  <a:lnTo>
                    <a:pt x="4629" y="423"/>
                  </a:lnTo>
                  <a:lnTo>
                    <a:pt x="4604" y="398"/>
                  </a:lnTo>
                  <a:lnTo>
                    <a:pt x="4579" y="372"/>
                  </a:lnTo>
                  <a:lnTo>
                    <a:pt x="4551" y="348"/>
                  </a:lnTo>
                  <a:lnTo>
                    <a:pt x="4524" y="325"/>
                  </a:lnTo>
                  <a:lnTo>
                    <a:pt x="4496" y="302"/>
                  </a:lnTo>
                  <a:lnTo>
                    <a:pt x="4467" y="280"/>
                  </a:lnTo>
                  <a:lnTo>
                    <a:pt x="4438" y="259"/>
                  </a:lnTo>
                  <a:lnTo>
                    <a:pt x="4408" y="238"/>
                  </a:lnTo>
                  <a:lnTo>
                    <a:pt x="4377" y="218"/>
                  </a:lnTo>
                  <a:lnTo>
                    <a:pt x="4346" y="200"/>
                  </a:lnTo>
                  <a:lnTo>
                    <a:pt x="4314" y="182"/>
                  </a:lnTo>
                  <a:lnTo>
                    <a:pt x="4281" y="163"/>
                  </a:lnTo>
                  <a:lnTo>
                    <a:pt x="4248" y="147"/>
                  </a:lnTo>
                  <a:lnTo>
                    <a:pt x="4214" y="131"/>
                  </a:lnTo>
                  <a:lnTo>
                    <a:pt x="4180" y="116"/>
                  </a:lnTo>
                  <a:lnTo>
                    <a:pt x="4144" y="101"/>
                  </a:lnTo>
                  <a:lnTo>
                    <a:pt x="4109" y="87"/>
                  </a:lnTo>
                  <a:lnTo>
                    <a:pt x="4072" y="74"/>
                  </a:lnTo>
                  <a:lnTo>
                    <a:pt x="4004" y="53"/>
                  </a:lnTo>
                  <a:lnTo>
                    <a:pt x="3935" y="35"/>
                  </a:lnTo>
                  <a:lnTo>
                    <a:pt x="3866" y="21"/>
                  </a:lnTo>
                  <a:lnTo>
                    <a:pt x="3796" y="10"/>
                  </a:lnTo>
                  <a:lnTo>
                    <a:pt x="3727" y="3"/>
                  </a:lnTo>
                  <a:lnTo>
                    <a:pt x="3658" y="0"/>
                  </a:lnTo>
                  <a:lnTo>
                    <a:pt x="3589" y="0"/>
                  </a:lnTo>
                  <a:lnTo>
                    <a:pt x="3521" y="3"/>
                  </a:lnTo>
                  <a:lnTo>
                    <a:pt x="3453" y="9"/>
                  </a:lnTo>
                  <a:lnTo>
                    <a:pt x="3385" y="19"/>
                  </a:lnTo>
                  <a:lnTo>
                    <a:pt x="3318" y="31"/>
                  </a:lnTo>
                  <a:lnTo>
                    <a:pt x="3252" y="48"/>
                  </a:lnTo>
                  <a:lnTo>
                    <a:pt x="3187" y="67"/>
                  </a:lnTo>
                  <a:lnTo>
                    <a:pt x="3123" y="89"/>
                  </a:lnTo>
                  <a:lnTo>
                    <a:pt x="3060" y="114"/>
                  </a:lnTo>
                  <a:lnTo>
                    <a:pt x="2999" y="142"/>
                  </a:lnTo>
                  <a:lnTo>
                    <a:pt x="2938" y="172"/>
                  </a:lnTo>
                  <a:lnTo>
                    <a:pt x="2881" y="206"/>
                  </a:lnTo>
                  <a:lnTo>
                    <a:pt x="2823" y="242"/>
                  </a:lnTo>
                  <a:lnTo>
                    <a:pt x="2768" y="282"/>
                  </a:lnTo>
                  <a:lnTo>
                    <a:pt x="2714" y="324"/>
                  </a:lnTo>
                  <a:lnTo>
                    <a:pt x="2663" y="367"/>
                  </a:lnTo>
                  <a:lnTo>
                    <a:pt x="2614" y="414"/>
                  </a:lnTo>
                  <a:lnTo>
                    <a:pt x="2567" y="464"/>
                  </a:lnTo>
                  <a:lnTo>
                    <a:pt x="2522" y="515"/>
                  </a:lnTo>
                  <a:lnTo>
                    <a:pt x="2480" y="569"/>
                  </a:lnTo>
                  <a:lnTo>
                    <a:pt x="2440" y="625"/>
                  </a:lnTo>
                  <a:lnTo>
                    <a:pt x="2402" y="684"/>
                  </a:lnTo>
                  <a:lnTo>
                    <a:pt x="2368" y="745"/>
                  </a:lnTo>
                  <a:lnTo>
                    <a:pt x="2336" y="808"/>
                  </a:lnTo>
                  <a:lnTo>
                    <a:pt x="2308" y="872"/>
                  </a:lnTo>
                  <a:lnTo>
                    <a:pt x="2283" y="939"/>
                  </a:lnTo>
                  <a:lnTo>
                    <a:pt x="2260" y="921"/>
                  </a:lnTo>
                  <a:lnTo>
                    <a:pt x="2237" y="904"/>
                  </a:lnTo>
                  <a:lnTo>
                    <a:pt x="2214" y="888"/>
                  </a:lnTo>
                  <a:lnTo>
                    <a:pt x="2190" y="873"/>
                  </a:lnTo>
                  <a:lnTo>
                    <a:pt x="2166" y="858"/>
                  </a:lnTo>
                  <a:lnTo>
                    <a:pt x="2143" y="845"/>
                  </a:lnTo>
                  <a:lnTo>
                    <a:pt x="2119" y="832"/>
                  </a:lnTo>
                  <a:lnTo>
                    <a:pt x="2095" y="820"/>
                  </a:lnTo>
                  <a:lnTo>
                    <a:pt x="2071" y="809"/>
                  </a:lnTo>
                  <a:lnTo>
                    <a:pt x="2046" y="799"/>
                  </a:lnTo>
                  <a:lnTo>
                    <a:pt x="2022" y="788"/>
                  </a:lnTo>
                  <a:lnTo>
                    <a:pt x="1997" y="779"/>
                  </a:lnTo>
                  <a:lnTo>
                    <a:pt x="1973" y="772"/>
                  </a:lnTo>
                  <a:lnTo>
                    <a:pt x="1949" y="764"/>
                  </a:lnTo>
                  <a:lnTo>
                    <a:pt x="1924" y="758"/>
                  </a:lnTo>
                  <a:lnTo>
                    <a:pt x="1899" y="753"/>
                  </a:lnTo>
                  <a:lnTo>
                    <a:pt x="1874" y="748"/>
                  </a:lnTo>
                  <a:lnTo>
                    <a:pt x="1849" y="744"/>
                  </a:lnTo>
                  <a:lnTo>
                    <a:pt x="1824" y="741"/>
                  </a:lnTo>
                  <a:lnTo>
                    <a:pt x="1799" y="739"/>
                  </a:lnTo>
                  <a:lnTo>
                    <a:pt x="1773" y="737"/>
                  </a:lnTo>
                  <a:lnTo>
                    <a:pt x="1748" y="737"/>
                  </a:lnTo>
                  <a:lnTo>
                    <a:pt x="1722" y="737"/>
                  </a:lnTo>
                  <a:lnTo>
                    <a:pt x="1697" y="738"/>
                  </a:lnTo>
                  <a:lnTo>
                    <a:pt x="1671" y="740"/>
                  </a:lnTo>
                  <a:lnTo>
                    <a:pt x="1645" y="742"/>
                  </a:lnTo>
                  <a:lnTo>
                    <a:pt x="1619" y="745"/>
                  </a:lnTo>
                  <a:lnTo>
                    <a:pt x="1594" y="750"/>
                  </a:lnTo>
                  <a:lnTo>
                    <a:pt x="1567" y="755"/>
                  </a:lnTo>
                  <a:lnTo>
                    <a:pt x="1541" y="760"/>
                  </a:lnTo>
                  <a:lnTo>
                    <a:pt x="1515" y="767"/>
                  </a:lnTo>
                  <a:lnTo>
                    <a:pt x="1489" y="774"/>
                  </a:lnTo>
                  <a:lnTo>
                    <a:pt x="1436" y="793"/>
                  </a:lnTo>
                  <a:lnTo>
                    <a:pt x="1384" y="814"/>
                  </a:lnTo>
                  <a:lnTo>
                    <a:pt x="1334" y="838"/>
                  </a:lnTo>
                  <a:lnTo>
                    <a:pt x="1285" y="866"/>
                  </a:lnTo>
                  <a:lnTo>
                    <a:pt x="1237" y="895"/>
                  </a:lnTo>
                  <a:lnTo>
                    <a:pt x="1192" y="929"/>
                  </a:lnTo>
                  <a:lnTo>
                    <a:pt x="1147" y="965"/>
                  </a:lnTo>
                  <a:lnTo>
                    <a:pt x="1104" y="1003"/>
                  </a:lnTo>
                  <a:lnTo>
                    <a:pt x="1063" y="1044"/>
                  </a:lnTo>
                  <a:lnTo>
                    <a:pt x="1023" y="1088"/>
                  </a:lnTo>
                  <a:lnTo>
                    <a:pt x="986" y="1134"/>
                  </a:lnTo>
                  <a:lnTo>
                    <a:pt x="949" y="1181"/>
                  </a:lnTo>
                  <a:lnTo>
                    <a:pt x="915" y="1232"/>
                  </a:lnTo>
                  <a:lnTo>
                    <a:pt x="883" y="1284"/>
                  </a:lnTo>
                  <a:lnTo>
                    <a:pt x="853" y="1339"/>
                  </a:lnTo>
                  <a:lnTo>
                    <a:pt x="824" y="1394"/>
                  </a:lnTo>
                  <a:lnTo>
                    <a:pt x="798" y="1451"/>
                  </a:lnTo>
                  <a:lnTo>
                    <a:pt x="773" y="1511"/>
                  </a:lnTo>
                  <a:lnTo>
                    <a:pt x="751" y="1571"/>
                  </a:lnTo>
                  <a:lnTo>
                    <a:pt x="732" y="1633"/>
                  </a:lnTo>
                  <a:lnTo>
                    <a:pt x="714" y="1697"/>
                  </a:lnTo>
                  <a:lnTo>
                    <a:pt x="698" y="1761"/>
                  </a:lnTo>
                  <a:lnTo>
                    <a:pt x="685" y="1826"/>
                  </a:lnTo>
                  <a:lnTo>
                    <a:pt x="675" y="1893"/>
                  </a:lnTo>
                  <a:lnTo>
                    <a:pt x="666" y="1960"/>
                  </a:lnTo>
                  <a:lnTo>
                    <a:pt x="661" y="2028"/>
                  </a:lnTo>
                  <a:lnTo>
                    <a:pt x="658" y="2096"/>
                  </a:lnTo>
                  <a:lnTo>
                    <a:pt x="657" y="2165"/>
                  </a:lnTo>
                  <a:lnTo>
                    <a:pt x="659" y="2234"/>
                  </a:lnTo>
                  <a:lnTo>
                    <a:pt x="664" y="2304"/>
                  </a:lnTo>
                  <a:lnTo>
                    <a:pt x="671" y="2374"/>
                  </a:lnTo>
                  <a:lnTo>
                    <a:pt x="681" y="2443"/>
                  </a:lnTo>
                  <a:lnTo>
                    <a:pt x="656" y="2447"/>
                  </a:lnTo>
                  <a:lnTo>
                    <a:pt x="630" y="2453"/>
                  </a:lnTo>
                  <a:lnTo>
                    <a:pt x="605" y="2459"/>
                  </a:lnTo>
                  <a:lnTo>
                    <a:pt x="581" y="2467"/>
                  </a:lnTo>
                  <a:lnTo>
                    <a:pt x="556" y="2475"/>
                  </a:lnTo>
                  <a:lnTo>
                    <a:pt x="532" y="2485"/>
                  </a:lnTo>
                  <a:lnTo>
                    <a:pt x="507" y="2497"/>
                  </a:lnTo>
                  <a:lnTo>
                    <a:pt x="484" y="2509"/>
                  </a:lnTo>
                  <a:lnTo>
                    <a:pt x="461" y="2523"/>
                  </a:lnTo>
                  <a:lnTo>
                    <a:pt x="438" y="2537"/>
                  </a:lnTo>
                  <a:lnTo>
                    <a:pt x="416" y="2553"/>
                  </a:lnTo>
                  <a:lnTo>
                    <a:pt x="395" y="2570"/>
                  </a:lnTo>
                  <a:lnTo>
                    <a:pt x="372" y="2588"/>
                  </a:lnTo>
                  <a:lnTo>
                    <a:pt x="352" y="2607"/>
                  </a:lnTo>
                  <a:lnTo>
                    <a:pt x="331" y="2627"/>
                  </a:lnTo>
                  <a:lnTo>
                    <a:pt x="312" y="2648"/>
                  </a:lnTo>
                  <a:lnTo>
                    <a:pt x="291" y="2670"/>
                  </a:lnTo>
                  <a:lnTo>
                    <a:pt x="273" y="2693"/>
                  </a:lnTo>
                  <a:lnTo>
                    <a:pt x="254" y="2718"/>
                  </a:lnTo>
                  <a:lnTo>
                    <a:pt x="235" y="2743"/>
                  </a:lnTo>
                  <a:lnTo>
                    <a:pt x="218" y="2769"/>
                  </a:lnTo>
                  <a:lnTo>
                    <a:pt x="201" y="2796"/>
                  </a:lnTo>
                  <a:lnTo>
                    <a:pt x="185" y="2824"/>
                  </a:lnTo>
                  <a:lnTo>
                    <a:pt x="168" y="2853"/>
                  </a:lnTo>
                  <a:lnTo>
                    <a:pt x="153" y="2883"/>
                  </a:lnTo>
                  <a:lnTo>
                    <a:pt x="139" y="2914"/>
                  </a:lnTo>
                  <a:lnTo>
                    <a:pt x="125" y="2946"/>
                  </a:lnTo>
                  <a:lnTo>
                    <a:pt x="112" y="2979"/>
                  </a:lnTo>
                  <a:lnTo>
                    <a:pt x="98" y="3012"/>
                  </a:lnTo>
                  <a:lnTo>
                    <a:pt x="86" y="3047"/>
                  </a:lnTo>
                  <a:lnTo>
                    <a:pt x="74" y="3081"/>
                  </a:lnTo>
                  <a:lnTo>
                    <a:pt x="64" y="3118"/>
                  </a:lnTo>
                  <a:lnTo>
                    <a:pt x="49" y="3170"/>
                  </a:lnTo>
                  <a:lnTo>
                    <a:pt x="36" y="3224"/>
                  </a:lnTo>
                  <a:lnTo>
                    <a:pt x="25" y="3279"/>
                  </a:lnTo>
                  <a:lnTo>
                    <a:pt x="17" y="3334"/>
                  </a:lnTo>
                  <a:lnTo>
                    <a:pt x="10" y="3389"/>
                  </a:lnTo>
                  <a:lnTo>
                    <a:pt x="5" y="3443"/>
                  </a:lnTo>
                  <a:lnTo>
                    <a:pt x="1" y="3498"/>
                  </a:lnTo>
                  <a:lnTo>
                    <a:pt x="0" y="3553"/>
                  </a:lnTo>
                  <a:lnTo>
                    <a:pt x="0" y="3608"/>
                  </a:lnTo>
                  <a:lnTo>
                    <a:pt x="2" y="3663"/>
                  </a:lnTo>
                  <a:lnTo>
                    <a:pt x="5" y="3716"/>
                  </a:lnTo>
                  <a:lnTo>
                    <a:pt x="10" y="3770"/>
                  </a:lnTo>
                  <a:lnTo>
                    <a:pt x="17" y="3824"/>
                  </a:lnTo>
                  <a:lnTo>
                    <a:pt x="25" y="3877"/>
                  </a:lnTo>
                  <a:lnTo>
                    <a:pt x="35" y="3929"/>
                  </a:lnTo>
                  <a:lnTo>
                    <a:pt x="47" y="3980"/>
                  </a:lnTo>
                  <a:lnTo>
                    <a:pt x="60" y="4030"/>
                  </a:lnTo>
                  <a:lnTo>
                    <a:pt x="74" y="4080"/>
                  </a:lnTo>
                  <a:lnTo>
                    <a:pt x="90" y="4129"/>
                  </a:lnTo>
                  <a:lnTo>
                    <a:pt x="109" y="4175"/>
                  </a:lnTo>
                  <a:lnTo>
                    <a:pt x="127" y="4221"/>
                  </a:lnTo>
                  <a:lnTo>
                    <a:pt x="147" y="4266"/>
                  </a:lnTo>
                  <a:lnTo>
                    <a:pt x="169" y="4309"/>
                  </a:lnTo>
                  <a:lnTo>
                    <a:pt x="193" y="4351"/>
                  </a:lnTo>
                  <a:lnTo>
                    <a:pt x="217" y="4390"/>
                  </a:lnTo>
                  <a:lnTo>
                    <a:pt x="244" y="4429"/>
                  </a:lnTo>
                  <a:lnTo>
                    <a:pt x="270" y="4465"/>
                  </a:lnTo>
                  <a:lnTo>
                    <a:pt x="298" y="4500"/>
                  </a:lnTo>
                  <a:lnTo>
                    <a:pt x="329" y="4532"/>
                  </a:lnTo>
                  <a:lnTo>
                    <a:pt x="359" y="4563"/>
                  </a:lnTo>
                  <a:lnTo>
                    <a:pt x="392" y="4591"/>
                  </a:lnTo>
                  <a:lnTo>
                    <a:pt x="425" y="4617"/>
                  </a:lnTo>
                  <a:lnTo>
                    <a:pt x="423" y="4617"/>
                  </a:lnTo>
                  <a:lnTo>
                    <a:pt x="421" y="4662"/>
                  </a:lnTo>
                  <a:lnTo>
                    <a:pt x="421" y="4708"/>
                  </a:lnTo>
                  <a:lnTo>
                    <a:pt x="422" y="4753"/>
                  </a:lnTo>
                  <a:lnTo>
                    <a:pt x="425" y="4796"/>
                  </a:lnTo>
                  <a:lnTo>
                    <a:pt x="428" y="4840"/>
                  </a:lnTo>
                  <a:lnTo>
                    <a:pt x="433" y="4884"/>
                  </a:lnTo>
                  <a:lnTo>
                    <a:pt x="440" y="4926"/>
                  </a:lnTo>
                  <a:lnTo>
                    <a:pt x="449" y="4968"/>
                  </a:lnTo>
                  <a:lnTo>
                    <a:pt x="458" y="5010"/>
                  </a:lnTo>
                  <a:lnTo>
                    <a:pt x="468" y="5052"/>
                  </a:lnTo>
                  <a:lnTo>
                    <a:pt x="480" y="5093"/>
                  </a:lnTo>
                  <a:lnTo>
                    <a:pt x="493" y="5134"/>
                  </a:lnTo>
                  <a:lnTo>
                    <a:pt x="507" y="5175"/>
                  </a:lnTo>
                  <a:lnTo>
                    <a:pt x="524" y="5215"/>
                  </a:lnTo>
                  <a:lnTo>
                    <a:pt x="541" y="5256"/>
                  </a:lnTo>
                  <a:lnTo>
                    <a:pt x="560" y="5297"/>
                  </a:lnTo>
                  <a:lnTo>
                    <a:pt x="589" y="5351"/>
                  </a:lnTo>
                  <a:lnTo>
                    <a:pt x="619" y="5404"/>
                  </a:lnTo>
                  <a:lnTo>
                    <a:pt x="652" y="5455"/>
                  </a:lnTo>
                  <a:lnTo>
                    <a:pt x="685" y="5503"/>
                  </a:lnTo>
                  <a:lnTo>
                    <a:pt x="722" y="5548"/>
                  </a:lnTo>
                  <a:lnTo>
                    <a:pt x="759" y="5592"/>
                  </a:lnTo>
                  <a:lnTo>
                    <a:pt x="799" y="5634"/>
                  </a:lnTo>
                  <a:lnTo>
                    <a:pt x="839" y="5672"/>
                  </a:lnTo>
                  <a:lnTo>
                    <a:pt x="882" y="5709"/>
                  </a:lnTo>
                  <a:lnTo>
                    <a:pt x="926" y="5742"/>
                  </a:lnTo>
                  <a:lnTo>
                    <a:pt x="970" y="5774"/>
                  </a:lnTo>
                  <a:lnTo>
                    <a:pt x="1017" y="5803"/>
                  </a:lnTo>
                  <a:lnTo>
                    <a:pt x="1064" y="5830"/>
                  </a:lnTo>
                  <a:lnTo>
                    <a:pt x="1112" y="5853"/>
                  </a:lnTo>
                  <a:lnTo>
                    <a:pt x="1161" y="5874"/>
                  </a:lnTo>
                  <a:lnTo>
                    <a:pt x="1211" y="5892"/>
                  </a:lnTo>
                  <a:lnTo>
                    <a:pt x="1262" y="5909"/>
                  </a:lnTo>
                  <a:lnTo>
                    <a:pt x="1312" y="5922"/>
                  </a:lnTo>
                  <a:lnTo>
                    <a:pt x="1364" y="5932"/>
                  </a:lnTo>
                  <a:lnTo>
                    <a:pt x="1417" y="5939"/>
                  </a:lnTo>
                  <a:lnTo>
                    <a:pt x="1469" y="5944"/>
                  </a:lnTo>
                  <a:lnTo>
                    <a:pt x="1521" y="5946"/>
                  </a:lnTo>
                  <a:lnTo>
                    <a:pt x="1574" y="5946"/>
                  </a:lnTo>
                  <a:lnTo>
                    <a:pt x="1627" y="5942"/>
                  </a:lnTo>
                  <a:lnTo>
                    <a:pt x="1680" y="5935"/>
                  </a:lnTo>
                  <a:lnTo>
                    <a:pt x="1733" y="5926"/>
                  </a:lnTo>
                  <a:lnTo>
                    <a:pt x="1784" y="5914"/>
                  </a:lnTo>
                  <a:lnTo>
                    <a:pt x="1837" y="5898"/>
                  </a:lnTo>
                  <a:lnTo>
                    <a:pt x="1889" y="5879"/>
                  </a:lnTo>
                  <a:lnTo>
                    <a:pt x="1940" y="5858"/>
                  </a:lnTo>
                  <a:lnTo>
                    <a:pt x="1990" y="5833"/>
                  </a:lnTo>
                  <a:lnTo>
                    <a:pt x="2040" y="5805"/>
                  </a:lnTo>
                  <a:lnTo>
                    <a:pt x="2049" y="5836"/>
                  </a:lnTo>
                  <a:lnTo>
                    <a:pt x="2059" y="5866"/>
                  </a:lnTo>
                  <a:lnTo>
                    <a:pt x="2070" y="5896"/>
                  </a:lnTo>
                  <a:lnTo>
                    <a:pt x="2081" y="5926"/>
                  </a:lnTo>
                  <a:lnTo>
                    <a:pt x="2093" y="5955"/>
                  </a:lnTo>
                  <a:lnTo>
                    <a:pt x="2105" y="5984"/>
                  </a:lnTo>
                  <a:lnTo>
                    <a:pt x="2118" y="6012"/>
                  </a:lnTo>
                  <a:lnTo>
                    <a:pt x="2132" y="6041"/>
                  </a:lnTo>
                  <a:lnTo>
                    <a:pt x="2147" y="6068"/>
                  </a:lnTo>
                  <a:lnTo>
                    <a:pt x="2162" y="6095"/>
                  </a:lnTo>
                  <a:lnTo>
                    <a:pt x="2178" y="6122"/>
                  </a:lnTo>
                  <a:lnTo>
                    <a:pt x="2194" y="6148"/>
                  </a:lnTo>
                  <a:lnTo>
                    <a:pt x="2212" y="6175"/>
                  </a:lnTo>
                  <a:lnTo>
                    <a:pt x="2230" y="6200"/>
                  </a:lnTo>
                  <a:lnTo>
                    <a:pt x="2249" y="6225"/>
                  </a:lnTo>
                  <a:lnTo>
                    <a:pt x="2268" y="6250"/>
                  </a:lnTo>
                  <a:lnTo>
                    <a:pt x="2288" y="6274"/>
                  </a:lnTo>
                  <a:lnTo>
                    <a:pt x="2309" y="6298"/>
                  </a:lnTo>
                  <a:lnTo>
                    <a:pt x="2330" y="6323"/>
                  </a:lnTo>
                  <a:lnTo>
                    <a:pt x="2353" y="6345"/>
                  </a:lnTo>
                  <a:lnTo>
                    <a:pt x="2375" y="6368"/>
                  </a:lnTo>
                  <a:lnTo>
                    <a:pt x="2398" y="6391"/>
                  </a:lnTo>
                  <a:lnTo>
                    <a:pt x="2423" y="6413"/>
                  </a:lnTo>
                  <a:lnTo>
                    <a:pt x="2448" y="6434"/>
                  </a:lnTo>
                  <a:lnTo>
                    <a:pt x="2474" y="6456"/>
                  </a:lnTo>
                  <a:lnTo>
                    <a:pt x="2500" y="6477"/>
                  </a:lnTo>
                  <a:lnTo>
                    <a:pt x="2526" y="6497"/>
                  </a:lnTo>
                  <a:lnTo>
                    <a:pt x="2555" y="6518"/>
                  </a:lnTo>
                  <a:lnTo>
                    <a:pt x="2582" y="6537"/>
                  </a:lnTo>
                  <a:lnTo>
                    <a:pt x="2612" y="6556"/>
                  </a:lnTo>
                  <a:lnTo>
                    <a:pt x="2641" y="6575"/>
                  </a:lnTo>
                  <a:lnTo>
                    <a:pt x="2671" y="6594"/>
                  </a:lnTo>
                  <a:lnTo>
                    <a:pt x="2738" y="6632"/>
                  </a:lnTo>
                  <a:lnTo>
                    <a:pt x="2807" y="6667"/>
                  </a:lnTo>
                  <a:lnTo>
                    <a:pt x="2877" y="6698"/>
                  </a:lnTo>
                  <a:lnTo>
                    <a:pt x="2949" y="6727"/>
                  </a:lnTo>
                  <a:lnTo>
                    <a:pt x="3021" y="6751"/>
                  </a:lnTo>
                  <a:lnTo>
                    <a:pt x="3094" y="6773"/>
                  </a:lnTo>
                  <a:lnTo>
                    <a:pt x="3168" y="6792"/>
                  </a:lnTo>
                  <a:lnTo>
                    <a:pt x="3243" y="6807"/>
                  </a:lnTo>
                  <a:lnTo>
                    <a:pt x="3318" y="6819"/>
                  </a:lnTo>
                  <a:lnTo>
                    <a:pt x="3393" y="6828"/>
                  </a:lnTo>
                  <a:lnTo>
                    <a:pt x="3469" y="6834"/>
                  </a:lnTo>
                  <a:lnTo>
                    <a:pt x="3545" y="6837"/>
                  </a:lnTo>
                  <a:lnTo>
                    <a:pt x="3620" y="6836"/>
                  </a:lnTo>
                  <a:lnTo>
                    <a:pt x="3697" y="6833"/>
                  </a:lnTo>
                  <a:lnTo>
                    <a:pt x="3772" y="6827"/>
                  </a:lnTo>
                  <a:lnTo>
                    <a:pt x="3847" y="6818"/>
                  </a:lnTo>
                  <a:lnTo>
                    <a:pt x="3921" y="6806"/>
                  </a:lnTo>
                  <a:lnTo>
                    <a:pt x="3995" y="6791"/>
                  </a:lnTo>
                  <a:lnTo>
                    <a:pt x="4067" y="6772"/>
                  </a:lnTo>
                  <a:lnTo>
                    <a:pt x="4139" y="6751"/>
                  </a:lnTo>
                  <a:lnTo>
                    <a:pt x="4210" y="6727"/>
                  </a:lnTo>
                  <a:lnTo>
                    <a:pt x="4279" y="6700"/>
                  </a:lnTo>
                  <a:lnTo>
                    <a:pt x="4347" y="6670"/>
                  </a:lnTo>
                  <a:lnTo>
                    <a:pt x="4413" y="6637"/>
                  </a:lnTo>
                  <a:lnTo>
                    <a:pt x="4477" y="6602"/>
                  </a:lnTo>
                  <a:lnTo>
                    <a:pt x="4540" y="6564"/>
                  </a:lnTo>
                  <a:lnTo>
                    <a:pt x="4601" y="6523"/>
                  </a:lnTo>
                  <a:lnTo>
                    <a:pt x="4660" y="6479"/>
                  </a:lnTo>
                  <a:lnTo>
                    <a:pt x="4716" y="6432"/>
                  </a:lnTo>
                  <a:lnTo>
                    <a:pt x="4769" y="6384"/>
                  </a:lnTo>
                  <a:lnTo>
                    <a:pt x="4821" y="6332"/>
                  </a:lnTo>
                  <a:lnTo>
                    <a:pt x="4870" y="6277"/>
                  </a:lnTo>
                  <a:lnTo>
                    <a:pt x="4868" y="6288"/>
                  </a:lnTo>
                  <a:lnTo>
                    <a:pt x="4888" y="6300"/>
                  </a:lnTo>
                  <a:lnTo>
                    <a:pt x="4908" y="6312"/>
                  </a:lnTo>
                  <a:lnTo>
                    <a:pt x="4929" y="6322"/>
                  </a:lnTo>
                  <a:lnTo>
                    <a:pt x="4949" y="6331"/>
                  </a:lnTo>
                  <a:lnTo>
                    <a:pt x="4969" y="6340"/>
                  </a:lnTo>
                  <a:lnTo>
                    <a:pt x="4989" y="6348"/>
                  </a:lnTo>
                  <a:lnTo>
                    <a:pt x="5009" y="6356"/>
                  </a:lnTo>
                  <a:lnTo>
                    <a:pt x="5029" y="6362"/>
                  </a:lnTo>
                  <a:lnTo>
                    <a:pt x="5050" y="6368"/>
                  </a:lnTo>
                  <a:lnTo>
                    <a:pt x="5070" y="6373"/>
                  </a:lnTo>
                  <a:lnTo>
                    <a:pt x="5090" y="6379"/>
                  </a:lnTo>
                  <a:lnTo>
                    <a:pt x="5110" y="6383"/>
                  </a:lnTo>
                  <a:lnTo>
                    <a:pt x="5131" y="6386"/>
                  </a:lnTo>
                  <a:lnTo>
                    <a:pt x="5150" y="6388"/>
                  </a:lnTo>
                  <a:lnTo>
                    <a:pt x="5170" y="6390"/>
                  </a:lnTo>
                  <a:lnTo>
                    <a:pt x="5191" y="6391"/>
                  </a:lnTo>
                  <a:lnTo>
                    <a:pt x="5211" y="6391"/>
                  </a:lnTo>
                  <a:lnTo>
                    <a:pt x="5231" y="6390"/>
                  </a:lnTo>
                  <a:lnTo>
                    <a:pt x="5252" y="6389"/>
                  </a:lnTo>
                  <a:lnTo>
                    <a:pt x="5271" y="6387"/>
                  </a:lnTo>
                  <a:lnTo>
                    <a:pt x="5291" y="6385"/>
                  </a:lnTo>
                  <a:lnTo>
                    <a:pt x="5311" y="6382"/>
                  </a:lnTo>
                  <a:lnTo>
                    <a:pt x="5332" y="6378"/>
                  </a:lnTo>
                  <a:lnTo>
                    <a:pt x="5352" y="6372"/>
                  </a:lnTo>
                  <a:lnTo>
                    <a:pt x="5372" y="6366"/>
                  </a:lnTo>
                  <a:lnTo>
                    <a:pt x="5393" y="6360"/>
                  </a:lnTo>
                  <a:lnTo>
                    <a:pt x="5413" y="6353"/>
                  </a:lnTo>
                  <a:lnTo>
                    <a:pt x="5434" y="6346"/>
                  </a:lnTo>
                  <a:lnTo>
                    <a:pt x="5455" y="6338"/>
                  </a:lnTo>
                  <a:lnTo>
                    <a:pt x="5475" y="6329"/>
                  </a:lnTo>
                  <a:lnTo>
                    <a:pt x="5495" y="6319"/>
                  </a:lnTo>
                  <a:lnTo>
                    <a:pt x="5516" y="6309"/>
                  </a:lnTo>
                  <a:lnTo>
                    <a:pt x="5567" y="6279"/>
                  </a:lnTo>
                  <a:lnTo>
                    <a:pt x="5616" y="6246"/>
                  </a:lnTo>
                  <a:lnTo>
                    <a:pt x="5664" y="6208"/>
                  </a:lnTo>
                  <a:lnTo>
                    <a:pt x="5710" y="6167"/>
                  </a:lnTo>
                  <a:lnTo>
                    <a:pt x="5755" y="6123"/>
                  </a:lnTo>
                  <a:lnTo>
                    <a:pt x="5799" y="6074"/>
                  </a:lnTo>
                  <a:lnTo>
                    <a:pt x="5840" y="6022"/>
                  </a:lnTo>
                  <a:lnTo>
                    <a:pt x="5880" y="5968"/>
                  </a:lnTo>
                  <a:lnTo>
                    <a:pt x="5918" y="5910"/>
                  </a:lnTo>
                  <a:lnTo>
                    <a:pt x="5954" y="5849"/>
                  </a:lnTo>
                  <a:lnTo>
                    <a:pt x="5988" y="5785"/>
                  </a:lnTo>
                  <a:lnTo>
                    <a:pt x="6022" y="5719"/>
                  </a:lnTo>
                  <a:lnTo>
                    <a:pt x="6052" y="5650"/>
                  </a:lnTo>
                  <a:lnTo>
                    <a:pt x="6081" y="5579"/>
                  </a:lnTo>
                  <a:lnTo>
                    <a:pt x="6108" y="5505"/>
                  </a:lnTo>
                  <a:lnTo>
                    <a:pt x="6133" y="5430"/>
                  </a:lnTo>
                  <a:lnTo>
                    <a:pt x="6155" y="5351"/>
                  </a:lnTo>
                  <a:lnTo>
                    <a:pt x="6176" y="5272"/>
                  </a:lnTo>
                  <a:lnTo>
                    <a:pt x="6195" y="5192"/>
                  </a:lnTo>
                  <a:lnTo>
                    <a:pt x="6211" y="5109"/>
                  </a:lnTo>
                  <a:lnTo>
                    <a:pt x="6224" y="5026"/>
                  </a:lnTo>
                  <a:lnTo>
                    <a:pt x="6236" y="4940"/>
                  </a:lnTo>
                  <a:lnTo>
                    <a:pt x="6245" y="4854"/>
                  </a:lnTo>
                  <a:lnTo>
                    <a:pt x="6252" y="4768"/>
                  </a:lnTo>
                  <a:lnTo>
                    <a:pt x="6256" y="4681"/>
                  </a:lnTo>
                  <a:lnTo>
                    <a:pt x="6258" y="4592"/>
                  </a:lnTo>
                  <a:lnTo>
                    <a:pt x="6257" y="4503"/>
                  </a:lnTo>
                  <a:lnTo>
                    <a:pt x="6254" y="4414"/>
                  </a:lnTo>
                  <a:lnTo>
                    <a:pt x="6248" y="4324"/>
                  </a:lnTo>
                  <a:lnTo>
                    <a:pt x="6239" y="4235"/>
                  </a:lnTo>
                  <a:lnTo>
                    <a:pt x="6228" y="4147"/>
                  </a:lnTo>
                  <a:lnTo>
                    <a:pt x="6214" y="4057"/>
                  </a:lnTo>
                  <a:lnTo>
                    <a:pt x="6220" y="4062"/>
                  </a:lnTo>
                  <a:lnTo>
                    <a:pt x="6253" y="4013"/>
                  </a:lnTo>
                  <a:lnTo>
                    <a:pt x="6284" y="3964"/>
                  </a:lnTo>
                  <a:lnTo>
                    <a:pt x="6311" y="3913"/>
                  </a:lnTo>
                  <a:lnTo>
                    <a:pt x="6337" y="3862"/>
                  </a:lnTo>
                  <a:lnTo>
                    <a:pt x="6359" y="3810"/>
                  </a:lnTo>
                  <a:lnTo>
                    <a:pt x="6379" y="3757"/>
                  </a:lnTo>
                  <a:lnTo>
                    <a:pt x="6396" y="3703"/>
                  </a:lnTo>
                  <a:lnTo>
                    <a:pt x="6411" y="3649"/>
                  </a:lnTo>
                  <a:lnTo>
                    <a:pt x="6423" y="3595"/>
                  </a:lnTo>
                  <a:lnTo>
                    <a:pt x="6433" y="3540"/>
                  </a:lnTo>
                  <a:lnTo>
                    <a:pt x="6439" y="3485"/>
                  </a:lnTo>
                  <a:lnTo>
                    <a:pt x="6444" y="3430"/>
                  </a:lnTo>
                  <a:lnTo>
                    <a:pt x="6445" y="3374"/>
                  </a:lnTo>
                  <a:lnTo>
                    <a:pt x="6444" y="3320"/>
                  </a:lnTo>
                  <a:lnTo>
                    <a:pt x="6441" y="3265"/>
                  </a:lnTo>
                  <a:lnTo>
                    <a:pt x="6435" y="3210"/>
                  </a:lnTo>
                  <a:lnTo>
                    <a:pt x="6427" y="3155"/>
                  </a:lnTo>
                  <a:lnTo>
                    <a:pt x="6416" y="3101"/>
                  </a:lnTo>
                  <a:lnTo>
                    <a:pt x="6403" y="3048"/>
                  </a:lnTo>
                  <a:lnTo>
                    <a:pt x="6386" y="2995"/>
                  </a:lnTo>
                  <a:lnTo>
                    <a:pt x="6368" y="2943"/>
                  </a:lnTo>
                  <a:lnTo>
                    <a:pt x="6348" y="2891"/>
                  </a:lnTo>
                  <a:lnTo>
                    <a:pt x="6324" y="2841"/>
                  </a:lnTo>
                  <a:lnTo>
                    <a:pt x="6299" y="2791"/>
                  </a:lnTo>
                  <a:lnTo>
                    <a:pt x="6271" y="2743"/>
                  </a:lnTo>
                  <a:lnTo>
                    <a:pt x="6240" y="2695"/>
                  </a:lnTo>
                  <a:lnTo>
                    <a:pt x="6207" y="2650"/>
                  </a:lnTo>
                  <a:lnTo>
                    <a:pt x="6172" y="2605"/>
                  </a:lnTo>
                  <a:lnTo>
                    <a:pt x="6135" y="2563"/>
                  </a:lnTo>
                  <a:lnTo>
                    <a:pt x="6094" y="2521"/>
                  </a:lnTo>
                  <a:lnTo>
                    <a:pt x="6052" y="2481"/>
                  </a:lnTo>
                  <a:lnTo>
                    <a:pt x="6008" y="2443"/>
                  </a:lnTo>
                </a:path>
              </a:pathLst>
            </a:custGeom>
            <a:noFill/>
            <a:ln w="792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365800" y="2079720"/>
              <a:ext cx="82440" cy="527040"/>
            </a:xfrm>
            <a:custGeom>
              <a:avLst/>
              <a:gdLst/>
              <a:ahLst/>
              <a:rect l="l" t="t" r="r" b="b"/>
              <a:pathLst>
                <a:path w="1472" h="9308">
                  <a:moveTo>
                    <a:pt x="0" y="1363"/>
                  </a:moveTo>
                  <a:lnTo>
                    <a:pt x="0" y="9308"/>
                  </a:lnTo>
                  <a:lnTo>
                    <a:pt x="1472" y="7614"/>
                  </a:lnTo>
                  <a:lnTo>
                    <a:pt x="1472" y="0"/>
                  </a:lnTo>
                  <a:lnTo>
                    <a:pt x="0" y="1363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365800" y="2079720"/>
              <a:ext cx="82440" cy="527040"/>
            </a:xfrm>
            <a:custGeom>
              <a:avLst/>
              <a:gdLst/>
              <a:ahLst/>
              <a:rect l="l" t="t" r="r" b="b"/>
              <a:pathLst>
                <a:path w="1472" h="9308">
                  <a:moveTo>
                    <a:pt x="0" y="1363"/>
                  </a:moveTo>
                  <a:lnTo>
                    <a:pt x="0" y="9308"/>
                  </a:lnTo>
                  <a:lnTo>
                    <a:pt x="1472" y="7614"/>
                  </a:lnTo>
                  <a:lnTo>
                    <a:pt x="1472" y="0"/>
                  </a:lnTo>
                </a:path>
              </a:pathLst>
            </a:custGeom>
            <a:noFill/>
            <a:ln w="792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537080" y="2079720"/>
              <a:ext cx="907920" cy="77760"/>
            </a:xfrm>
            <a:custGeom>
              <a:avLst/>
              <a:gdLst/>
              <a:ahLst/>
              <a:rect l="l" t="t" r="r" b="b"/>
              <a:pathLst>
                <a:path w="16021" h="1370">
                  <a:moveTo>
                    <a:pt x="0" y="1370"/>
                  </a:moveTo>
                  <a:lnTo>
                    <a:pt x="1400" y="0"/>
                  </a:lnTo>
                  <a:lnTo>
                    <a:pt x="16021" y="0"/>
                  </a:lnTo>
                  <a:lnTo>
                    <a:pt x="14623" y="1370"/>
                  </a:lnTo>
                  <a:lnTo>
                    <a:pt x="0" y="1370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37080" y="2079720"/>
              <a:ext cx="907920" cy="77760"/>
            </a:xfrm>
            <a:custGeom>
              <a:avLst/>
              <a:gdLst/>
              <a:ahLst/>
              <a:rect l="l" t="t" r="r" b="b"/>
              <a:pathLst>
                <a:path w="16021" h="1370">
                  <a:moveTo>
                    <a:pt x="0" y="1370"/>
                  </a:moveTo>
                  <a:lnTo>
                    <a:pt x="1400" y="0"/>
                  </a:lnTo>
                  <a:lnTo>
                    <a:pt x="16021" y="0"/>
                  </a:lnTo>
                  <a:lnTo>
                    <a:pt x="14623" y="1370"/>
                  </a:lnTo>
                  <a:lnTo>
                    <a:pt x="0" y="1370"/>
                  </a:lnTo>
                  <a:close/>
                </a:path>
              </a:pathLst>
            </a:custGeom>
            <a:noFill/>
            <a:ln w="792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60840" y="2193840"/>
              <a:ext cx="374760" cy="389160"/>
            </a:xfrm>
            <a:custGeom>
              <a:avLst/>
              <a:gdLst/>
              <a:ahLst/>
              <a:rect l="l" t="t" r="r" b="b"/>
              <a:pathLst>
                <a:path w="6597" h="6837">
                  <a:moveTo>
                    <a:pt x="6148" y="2443"/>
                  </a:moveTo>
                  <a:lnTo>
                    <a:pt x="6162" y="2421"/>
                  </a:lnTo>
                  <a:lnTo>
                    <a:pt x="6174" y="2398"/>
                  </a:lnTo>
                  <a:lnTo>
                    <a:pt x="6185" y="2376"/>
                  </a:lnTo>
                  <a:lnTo>
                    <a:pt x="6196" y="2354"/>
                  </a:lnTo>
                  <a:lnTo>
                    <a:pt x="6206" y="2330"/>
                  </a:lnTo>
                  <a:lnTo>
                    <a:pt x="6216" y="2308"/>
                  </a:lnTo>
                  <a:lnTo>
                    <a:pt x="6226" y="2285"/>
                  </a:lnTo>
                  <a:lnTo>
                    <a:pt x="6234" y="2261"/>
                  </a:lnTo>
                  <a:lnTo>
                    <a:pt x="6242" y="2239"/>
                  </a:lnTo>
                  <a:lnTo>
                    <a:pt x="6250" y="2216"/>
                  </a:lnTo>
                  <a:lnTo>
                    <a:pt x="6257" y="2192"/>
                  </a:lnTo>
                  <a:lnTo>
                    <a:pt x="6263" y="2169"/>
                  </a:lnTo>
                  <a:lnTo>
                    <a:pt x="6269" y="2145"/>
                  </a:lnTo>
                  <a:lnTo>
                    <a:pt x="6274" y="2121"/>
                  </a:lnTo>
                  <a:lnTo>
                    <a:pt x="6278" y="2098"/>
                  </a:lnTo>
                  <a:lnTo>
                    <a:pt x="6282" y="2073"/>
                  </a:lnTo>
                  <a:lnTo>
                    <a:pt x="6286" y="2050"/>
                  </a:lnTo>
                  <a:lnTo>
                    <a:pt x="6289" y="2026"/>
                  </a:lnTo>
                  <a:lnTo>
                    <a:pt x="6292" y="2001"/>
                  </a:lnTo>
                  <a:lnTo>
                    <a:pt x="6294" y="1977"/>
                  </a:lnTo>
                  <a:lnTo>
                    <a:pt x="6295" y="1953"/>
                  </a:lnTo>
                  <a:lnTo>
                    <a:pt x="6296" y="1928"/>
                  </a:lnTo>
                  <a:lnTo>
                    <a:pt x="6296" y="1904"/>
                  </a:lnTo>
                  <a:lnTo>
                    <a:pt x="6295" y="1880"/>
                  </a:lnTo>
                  <a:lnTo>
                    <a:pt x="6294" y="1855"/>
                  </a:lnTo>
                  <a:lnTo>
                    <a:pt x="6293" y="1830"/>
                  </a:lnTo>
                  <a:lnTo>
                    <a:pt x="6290" y="1806"/>
                  </a:lnTo>
                  <a:lnTo>
                    <a:pt x="6287" y="1780"/>
                  </a:lnTo>
                  <a:lnTo>
                    <a:pt x="6284" y="1755"/>
                  </a:lnTo>
                  <a:lnTo>
                    <a:pt x="6280" y="1730"/>
                  </a:lnTo>
                  <a:lnTo>
                    <a:pt x="6275" y="1705"/>
                  </a:lnTo>
                  <a:lnTo>
                    <a:pt x="6271" y="1680"/>
                  </a:lnTo>
                  <a:lnTo>
                    <a:pt x="6258" y="1626"/>
                  </a:lnTo>
                  <a:lnTo>
                    <a:pt x="6243" y="1574"/>
                  </a:lnTo>
                  <a:lnTo>
                    <a:pt x="6226" y="1524"/>
                  </a:lnTo>
                  <a:lnTo>
                    <a:pt x="6206" y="1475"/>
                  </a:lnTo>
                  <a:lnTo>
                    <a:pt x="6184" y="1427"/>
                  </a:lnTo>
                  <a:lnTo>
                    <a:pt x="6160" y="1381"/>
                  </a:lnTo>
                  <a:lnTo>
                    <a:pt x="6133" y="1336"/>
                  </a:lnTo>
                  <a:lnTo>
                    <a:pt x="6105" y="1293"/>
                  </a:lnTo>
                  <a:lnTo>
                    <a:pt x="6074" y="1251"/>
                  </a:lnTo>
                  <a:lnTo>
                    <a:pt x="6043" y="1211"/>
                  </a:lnTo>
                  <a:lnTo>
                    <a:pt x="6008" y="1172"/>
                  </a:lnTo>
                  <a:lnTo>
                    <a:pt x="5973" y="1136"/>
                  </a:lnTo>
                  <a:lnTo>
                    <a:pt x="5935" y="1101"/>
                  </a:lnTo>
                  <a:lnTo>
                    <a:pt x="5897" y="1069"/>
                  </a:lnTo>
                  <a:lnTo>
                    <a:pt x="5857" y="1037"/>
                  </a:lnTo>
                  <a:lnTo>
                    <a:pt x="5815" y="1008"/>
                  </a:lnTo>
                  <a:lnTo>
                    <a:pt x="5772" y="981"/>
                  </a:lnTo>
                  <a:lnTo>
                    <a:pt x="5728" y="956"/>
                  </a:lnTo>
                  <a:lnTo>
                    <a:pt x="5683" y="934"/>
                  </a:lnTo>
                  <a:lnTo>
                    <a:pt x="5637" y="912"/>
                  </a:lnTo>
                  <a:lnTo>
                    <a:pt x="5589" y="894"/>
                  </a:lnTo>
                  <a:lnTo>
                    <a:pt x="5540" y="878"/>
                  </a:lnTo>
                  <a:lnTo>
                    <a:pt x="5492" y="864"/>
                  </a:lnTo>
                  <a:lnTo>
                    <a:pt x="5442" y="853"/>
                  </a:lnTo>
                  <a:lnTo>
                    <a:pt x="5391" y="843"/>
                  </a:lnTo>
                  <a:lnTo>
                    <a:pt x="5340" y="837"/>
                  </a:lnTo>
                  <a:lnTo>
                    <a:pt x="5289" y="833"/>
                  </a:lnTo>
                  <a:lnTo>
                    <a:pt x="5237" y="831"/>
                  </a:lnTo>
                  <a:lnTo>
                    <a:pt x="5184" y="832"/>
                  </a:lnTo>
                  <a:lnTo>
                    <a:pt x="5132" y="836"/>
                  </a:lnTo>
                  <a:lnTo>
                    <a:pt x="5080" y="843"/>
                  </a:lnTo>
                  <a:lnTo>
                    <a:pt x="5027" y="853"/>
                  </a:lnTo>
                  <a:lnTo>
                    <a:pt x="5011" y="818"/>
                  </a:lnTo>
                  <a:lnTo>
                    <a:pt x="4994" y="784"/>
                  </a:lnTo>
                  <a:lnTo>
                    <a:pt x="4977" y="750"/>
                  </a:lnTo>
                  <a:lnTo>
                    <a:pt x="4959" y="717"/>
                  </a:lnTo>
                  <a:lnTo>
                    <a:pt x="4941" y="684"/>
                  </a:lnTo>
                  <a:lnTo>
                    <a:pt x="4921" y="653"/>
                  </a:lnTo>
                  <a:lnTo>
                    <a:pt x="4901" y="621"/>
                  </a:lnTo>
                  <a:lnTo>
                    <a:pt x="4880" y="591"/>
                  </a:lnTo>
                  <a:lnTo>
                    <a:pt x="4858" y="561"/>
                  </a:lnTo>
                  <a:lnTo>
                    <a:pt x="4835" y="533"/>
                  </a:lnTo>
                  <a:lnTo>
                    <a:pt x="4813" y="504"/>
                  </a:lnTo>
                  <a:lnTo>
                    <a:pt x="4788" y="476"/>
                  </a:lnTo>
                  <a:lnTo>
                    <a:pt x="4764" y="450"/>
                  </a:lnTo>
                  <a:lnTo>
                    <a:pt x="4739" y="423"/>
                  </a:lnTo>
                  <a:lnTo>
                    <a:pt x="4713" y="398"/>
                  </a:lnTo>
                  <a:lnTo>
                    <a:pt x="4686" y="372"/>
                  </a:lnTo>
                  <a:lnTo>
                    <a:pt x="4658" y="348"/>
                  </a:lnTo>
                  <a:lnTo>
                    <a:pt x="4631" y="325"/>
                  </a:lnTo>
                  <a:lnTo>
                    <a:pt x="4602" y="302"/>
                  </a:lnTo>
                  <a:lnTo>
                    <a:pt x="4572" y="280"/>
                  </a:lnTo>
                  <a:lnTo>
                    <a:pt x="4543" y="259"/>
                  </a:lnTo>
                  <a:lnTo>
                    <a:pt x="4511" y="239"/>
                  </a:lnTo>
                  <a:lnTo>
                    <a:pt x="4480" y="218"/>
                  </a:lnTo>
                  <a:lnTo>
                    <a:pt x="4448" y="200"/>
                  </a:lnTo>
                  <a:lnTo>
                    <a:pt x="4415" y="182"/>
                  </a:lnTo>
                  <a:lnTo>
                    <a:pt x="4382" y="163"/>
                  </a:lnTo>
                  <a:lnTo>
                    <a:pt x="4348" y="147"/>
                  </a:lnTo>
                  <a:lnTo>
                    <a:pt x="4313" y="131"/>
                  </a:lnTo>
                  <a:lnTo>
                    <a:pt x="4278" y="116"/>
                  </a:lnTo>
                  <a:lnTo>
                    <a:pt x="4242" y="101"/>
                  </a:lnTo>
                  <a:lnTo>
                    <a:pt x="4206" y="87"/>
                  </a:lnTo>
                  <a:lnTo>
                    <a:pt x="4168" y="75"/>
                  </a:lnTo>
                  <a:lnTo>
                    <a:pt x="4098" y="53"/>
                  </a:lnTo>
                  <a:lnTo>
                    <a:pt x="4027" y="36"/>
                  </a:lnTo>
                  <a:lnTo>
                    <a:pt x="3957" y="21"/>
                  </a:lnTo>
                  <a:lnTo>
                    <a:pt x="3886" y="10"/>
                  </a:lnTo>
                  <a:lnTo>
                    <a:pt x="3815" y="3"/>
                  </a:lnTo>
                  <a:lnTo>
                    <a:pt x="3744" y="0"/>
                  </a:lnTo>
                  <a:lnTo>
                    <a:pt x="3674" y="0"/>
                  </a:lnTo>
                  <a:lnTo>
                    <a:pt x="3604" y="3"/>
                  </a:lnTo>
                  <a:lnTo>
                    <a:pt x="3534" y="9"/>
                  </a:lnTo>
                  <a:lnTo>
                    <a:pt x="3465" y="19"/>
                  </a:lnTo>
                  <a:lnTo>
                    <a:pt x="3396" y="31"/>
                  </a:lnTo>
                  <a:lnTo>
                    <a:pt x="3329" y="48"/>
                  </a:lnTo>
                  <a:lnTo>
                    <a:pt x="3262" y="67"/>
                  </a:lnTo>
                  <a:lnTo>
                    <a:pt x="3197" y="89"/>
                  </a:lnTo>
                  <a:lnTo>
                    <a:pt x="3132" y="114"/>
                  </a:lnTo>
                  <a:lnTo>
                    <a:pt x="3069" y="142"/>
                  </a:lnTo>
                  <a:lnTo>
                    <a:pt x="3008" y="173"/>
                  </a:lnTo>
                  <a:lnTo>
                    <a:pt x="2948" y="206"/>
                  </a:lnTo>
                  <a:lnTo>
                    <a:pt x="2889" y="243"/>
                  </a:lnTo>
                  <a:lnTo>
                    <a:pt x="2832" y="282"/>
                  </a:lnTo>
                  <a:lnTo>
                    <a:pt x="2779" y="324"/>
                  </a:lnTo>
                  <a:lnTo>
                    <a:pt x="2726" y="367"/>
                  </a:lnTo>
                  <a:lnTo>
                    <a:pt x="2675" y="415"/>
                  </a:lnTo>
                  <a:lnTo>
                    <a:pt x="2627" y="464"/>
                  </a:lnTo>
                  <a:lnTo>
                    <a:pt x="2581" y="516"/>
                  </a:lnTo>
                  <a:lnTo>
                    <a:pt x="2538" y="569"/>
                  </a:lnTo>
                  <a:lnTo>
                    <a:pt x="2496" y="625"/>
                  </a:lnTo>
                  <a:lnTo>
                    <a:pt x="2459" y="684"/>
                  </a:lnTo>
                  <a:lnTo>
                    <a:pt x="2423" y="745"/>
                  </a:lnTo>
                  <a:lnTo>
                    <a:pt x="2392" y="808"/>
                  </a:lnTo>
                  <a:lnTo>
                    <a:pt x="2362" y="873"/>
                  </a:lnTo>
                  <a:lnTo>
                    <a:pt x="2337" y="939"/>
                  </a:lnTo>
                  <a:lnTo>
                    <a:pt x="2313" y="922"/>
                  </a:lnTo>
                  <a:lnTo>
                    <a:pt x="2289" y="904"/>
                  </a:lnTo>
                  <a:lnTo>
                    <a:pt x="2265" y="888"/>
                  </a:lnTo>
                  <a:lnTo>
                    <a:pt x="2242" y="873"/>
                  </a:lnTo>
                  <a:lnTo>
                    <a:pt x="2217" y="859"/>
                  </a:lnTo>
                  <a:lnTo>
                    <a:pt x="2193" y="845"/>
                  </a:lnTo>
                  <a:lnTo>
                    <a:pt x="2169" y="832"/>
                  </a:lnTo>
                  <a:lnTo>
                    <a:pt x="2144" y="820"/>
                  </a:lnTo>
                  <a:lnTo>
                    <a:pt x="2120" y="809"/>
                  </a:lnTo>
                  <a:lnTo>
                    <a:pt x="2094" y="799"/>
                  </a:lnTo>
                  <a:lnTo>
                    <a:pt x="2070" y="789"/>
                  </a:lnTo>
                  <a:lnTo>
                    <a:pt x="2045" y="780"/>
                  </a:lnTo>
                  <a:lnTo>
                    <a:pt x="2019" y="772"/>
                  </a:lnTo>
                  <a:lnTo>
                    <a:pt x="1994" y="765"/>
                  </a:lnTo>
                  <a:lnTo>
                    <a:pt x="1970" y="758"/>
                  </a:lnTo>
                  <a:lnTo>
                    <a:pt x="1944" y="753"/>
                  </a:lnTo>
                  <a:lnTo>
                    <a:pt x="1918" y="748"/>
                  </a:lnTo>
                  <a:lnTo>
                    <a:pt x="1892" y="744"/>
                  </a:lnTo>
                  <a:lnTo>
                    <a:pt x="1867" y="741"/>
                  </a:lnTo>
                  <a:lnTo>
                    <a:pt x="1841" y="739"/>
                  </a:lnTo>
                  <a:lnTo>
                    <a:pt x="1815" y="737"/>
                  </a:lnTo>
                  <a:lnTo>
                    <a:pt x="1789" y="737"/>
                  </a:lnTo>
                  <a:lnTo>
                    <a:pt x="1763" y="737"/>
                  </a:lnTo>
                  <a:lnTo>
                    <a:pt x="1736" y="738"/>
                  </a:lnTo>
                  <a:lnTo>
                    <a:pt x="1710" y="740"/>
                  </a:lnTo>
                  <a:lnTo>
                    <a:pt x="1683" y="742"/>
                  </a:lnTo>
                  <a:lnTo>
                    <a:pt x="1657" y="746"/>
                  </a:lnTo>
                  <a:lnTo>
                    <a:pt x="1631" y="750"/>
                  </a:lnTo>
                  <a:lnTo>
                    <a:pt x="1604" y="755"/>
                  </a:lnTo>
                  <a:lnTo>
                    <a:pt x="1578" y="760"/>
                  </a:lnTo>
                  <a:lnTo>
                    <a:pt x="1550" y="767"/>
                  </a:lnTo>
                  <a:lnTo>
                    <a:pt x="1524" y="774"/>
                  </a:lnTo>
                  <a:lnTo>
                    <a:pt x="1469" y="793"/>
                  </a:lnTo>
                  <a:lnTo>
                    <a:pt x="1416" y="814"/>
                  </a:lnTo>
                  <a:lnTo>
                    <a:pt x="1366" y="838"/>
                  </a:lnTo>
                  <a:lnTo>
                    <a:pt x="1315" y="866"/>
                  </a:lnTo>
                  <a:lnTo>
                    <a:pt x="1266" y="896"/>
                  </a:lnTo>
                  <a:lnTo>
                    <a:pt x="1220" y="929"/>
                  </a:lnTo>
                  <a:lnTo>
                    <a:pt x="1174" y="965"/>
                  </a:lnTo>
                  <a:lnTo>
                    <a:pt x="1130" y="1004"/>
                  </a:lnTo>
                  <a:lnTo>
                    <a:pt x="1088" y="1044"/>
                  </a:lnTo>
                  <a:lnTo>
                    <a:pt x="1047" y="1088"/>
                  </a:lnTo>
                  <a:lnTo>
                    <a:pt x="1008" y="1134"/>
                  </a:lnTo>
                  <a:lnTo>
                    <a:pt x="972" y="1182"/>
                  </a:lnTo>
                  <a:lnTo>
                    <a:pt x="936" y="1232"/>
                  </a:lnTo>
                  <a:lnTo>
                    <a:pt x="904" y="1284"/>
                  </a:lnTo>
                  <a:lnTo>
                    <a:pt x="872" y="1339"/>
                  </a:lnTo>
                  <a:lnTo>
                    <a:pt x="843" y="1394"/>
                  </a:lnTo>
                  <a:lnTo>
                    <a:pt x="817" y="1451"/>
                  </a:lnTo>
                  <a:lnTo>
                    <a:pt x="791" y="1511"/>
                  </a:lnTo>
                  <a:lnTo>
                    <a:pt x="769" y="1571"/>
                  </a:lnTo>
                  <a:lnTo>
                    <a:pt x="749" y="1633"/>
                  </a:lnTo>
                  <a:lnTo>
                    <a:pt x="730" y="1697"/>
                  </a:lnTo>
                  <a:lnTo>
                    <a:pt x="714" y="1761"/>
                  </a:lnTo>
                  <a:lnTo>
                    <a:pt x="701" y="1826"/>
                  </a:lnTo>
                  <a:lnTo>
                    <a:pt x="690" y="1893"/>
                  </a:lnTo>
                  <a:lnTo>
                    <a:pt x="682" y="1960"/>
                  </a:lnTo>
                  <a:lnTo>
                    <a:pt x="676" y="2028"/>
                  </a:lnTo>
                  <a:lnTo>
                    <a:pt x="672" y="2096"/>
                  </a:lnTo>
                  <a:lnTo>
                    <a:pt x="671" y="2165"/>
                  </a:lnTo>
                  <a:lnTo>
                    <a:pt x="674" y="2234"/>
                  </a:lnTo>
                  <a:lnTo>
                    <a:pt x="679" y="2304"/>
                  </a:lnTo>
                  <a:lnTo>
                    <a:pt x="687" y="2374"/>
                  </a:lnTo>
                  <a:lnTo>
                    <a:pt x="698" y="2444"/>
                  </a:lnTo>
                  <a:lnTo>
                    <a:pt x="671" y="2448"/>
                  </a:lnTo>
                  <a:lnTo>
                    <a:pt x="645" y="2453"/>
                  </a:lnTo>
                  <a:lnTo>
                    <a:pt x="619" y="2459"/>
                  </a:lnTo>
                  <a:lnTo>
                    <a:pt x="593" y="2467"/>
                  </a:lnTo>
                  <a:lnTo>
                    <a:pt x="569" y="2475"/>
                  </a:lnTo>
                  <a:lnTo>
                    <a:pt x="544" y="2486"/>
                  </a:lnTo>
                  <a:lnTo>
                    <a:pt x="519" y="2497"/>
                  </a:lnTo>
                  <a:lnTo>
                    <a:pt x="496" y="2510"/>
                  </a:lnTo>
                  <a:lnTo>
                    <a:pt x="471" y="2523"/>
                  </a:lnTo>
                  <a:lnTo>
                    <a:pt x="449" y="2537"/>
                  </a:lnTo>
                  <a:lnTo>
                    <a:pt x="426" y="2554"/>
                  </a:lnTo>
                  <a:lnTo>
                    <a:pt x="403" y="2570"/>
                  </a:lnTo>
                  <a:lnTo>
                    <a:pt x="381" y="2588"/>
                  </a:lnTo>
                  <a:lnTo>
                    <a:pt x="360" y="2607"/>
                  </a:lnTo>
                  <a:lnTo>
                    <a:pt x="339" y="2628"/>
                  </a:lnTo>
                  <a:lnTo>
                    <a:pt x="318" y="2648"/>
                  </a:lnTo>
                  <a:lnTo>
                    <a:pt x="299" y="2670"/>
                  </a:lnTo>
                  <a:lnTo>
                    <a:pt x="279" y="2694"/>
                  </a:lnTo>
                  <a:lnTo>
                    <a:pt x="259" y="2718"/>
                  </a:lnTo>
                  <a:lnTo>
                    <a:pt x="241" y="2743"/>
                  </a:lnTo>
                  <a:lnTo>
                    <a:pt x="223" y="2770"/>
                  </a:lnTo>
                  <a:lnTo>
                    <a:pt x="206" y="2796"/>
                  </a:lnTo>
                  <a:lnTo>
                    <a:pt x="189" y="2824"/>
                  </a:lnTo>
                  <a:lnTo>
                    <a:pt x="173" y="2853"/>
                  </a:lnTo>
                  <a:lnTo>
                    <a:pt x="157" y="2883"/>
                  </a:lnTo>
                  <a:lnTo>
                    <a:pt x="142" y="2914"/>
                  </a:lnTo>
                  <a:lnTo>
                    <a:pt x="127" y="2946"/>
                  </a:lnTo>
                  <a:lnTo>
                    <a:pt x="113" y="2979"/>
                  </a:lnTo>
                  <a:lnTo>
                    <a:pt x="100" y="3012"/>
                  </a:lnTo>
                  <a:lnTo>
                    <a:pt x="88" y="3047"/>
                  </a:lnTo>
                  <a:lnTo>
                    <a:pt x="76" y="3082"/>
                  </a:lnTo>
                  <a:lnTo>
                    <a:pt x="64" y="3118"/>
                  </a:lnTo>
                  <a:lnTo>
                    <a:pt x="50" y="3172"/>
                  </a:lnTo>
                  <a:lnTo>
                    <a:pt x="37" y="3225"/>
                  </a:lnTo>
                  <a:lnTo>
                    <a:pt x="26" y="3279"/>
                  </a:lnTo>
                  <a:lnTo>
                    <a:pt x="17" y="3334"/>
                  </a:lnTo>
                  <a:lnTo>
                    <a:pt x="10" y="3389"/>
                  </a:lnTo>
                  <a:lnTo>
                    <a:pt x="5" y="3444"/>
                  </a:lnTo>
                  <a:lnTo>
                    <a:pt x="2" y="3498"/>
                  </a:lnTo>
                  <a:lnTo>
                    <a:pt x="0" y="3553"/>
                  </a:lnTo>
                  <a:lnTo>
                    <a:pt x="0" y="3608"/>
                  </a:lnTo>
                  <a:lnTo>
                    <a:pt x="2" y="3663"/>
                  </a:lnTo>
                  <a:lnTo>
                    <a:pt x="5" y="3717"/>
                  </a:lnTo>
                  <a:lnTo>
                    <a:pt x="11" y="3770"/>
                  </a:lnTo>
                  <a:lnTo>
                    <a:pt x="17" y="3824"/>
                  </a:lnTo>
                  <a:lnTo>
                    <a:pt x="26" y="3877"/>
                  </a:lnTo>
                  <a:lnTo>
                    <a:pt x="36" y="3929"/>
                  </a:lnTo>
                  <a:lnTo>
                    <a:pt x="48" y="3980"/>
                  </a:lnTo>
                  <a:lnTo>
                    <a:pt x="61" y="4030"/>
                  </a:lnTo>
                  <a:lnTo>
                    <a:pt x="76" y="4080"/>
                  </a:lnTo>
                  <a:lnTo>
                    <a:pt x="93" y="4129"/>
                  </a:lnTo>
                  <a:lnTo>
                    <a:pt x="110" y="4175"/>
                  </a:lnTo>
                  <a:lnTo>
                    <a:pt x="129" y="4222"/>
                  </a:lnTo>
                  <a:lnTo>
                    <a:pt x="151" y="4267"/>
                  </a:lnTo>
                  <a:lnTo>
                    <a:pt x="173" y="4309"/>
                  </a:lnTo>
                  <a:lnTo>
                    <a:pt x="197" y="4351"/>
                  </a:lnTo>
                  <a:lnTo>
                    <a:pt x="222" y="4390"/>
                  </a:lnTo>
                  <a:lnTo>
                    <a:pt x="248" y="4429"/>
                  </a:lnTo>
                  <a:lnTo>
                    <a:pt x="277" y="4466"/>
                  </a:lnTo>
                  <a:lnTo>
                    <a:pt x="306" y="4500"/>
                  </a:lnTo>
                  <a:lnTo>
                    <a:pt x="335" y="4533"/>
                  </a:lnTo>
                  <a:lnTo>
                    <a:pt x="368" y="4563"/>
                  </a:lnTo>
                  <a:lnTo>
                    <a:pt x="400" y="4591"/>
                  </a:lnTo>
                  <a:lnTo>
                    <a:pt x="435" y="4617"/>
                  </a:lnTo>
                  <a:lnTo>
                    <a:pt x="433" y="4617"/>
                  </a:lnTo>
                  <a:lnTo>
                    <a:pt x="431" y="4663"/>
                  </a:lnTo>
                  <a:lnTo>
                    <a:pt x="431" y="4708"/>
                  </a:lnTo>
                  <a:lnTo>
                    <a:pt x="432" y="4753"/>
                  </a:lnTo>
                  <a:lnTo>
                    <a:pt x="435" y="4796"/>
                  </a:lnTo>
                  <a:lnTo>
                    <a:pt x="439" y="4840"/>
                  </a:lnTo>
                  <a:lnTo>
                    <a:pt x="444" y="4884"/>
                  </a:lnTo>
                  <a:lnTo>
                    <a:pt x="450" y="4926"/>
                  </a:lnTo>
                  <a:lnTo>
                    <a:pt x="458" y="4968"/>
                  </a:lnTo>
                  <a:lnTo>
                    <a:pt x="467" y="5011"/>
                  </a:lnTo>
                  <a:lnTo>
                    <a:pt x="479" y="5052"/>
                  </a:lnTo>
                  <a:lnTo>
                    <a:pt x="491" y="5093"/>
                  </a:lnTo>
                  <a:lnTo>
                    <a:pt x="504" y="5134"/>
                  </a:lnTo>
                  <a:lnTo>
                    <a:pt x="519" y="5175"/>
                  </a:lnTo>
                  <a:lnTo>
                    <a:pt x="535" y="5216"/>
                  </a:lnTo>
                  <a:lnTo>
                    <a:pt x="554" y="5256"/>
                  </a:lnTo>
                  <a:lnTo>
                    <a:pt x="573" y="5297"/>
                  </a:lnTo>
                  <a:lnTo>
                    <a:pt x="602" y="5352"/>
                  </a:lnTo>
                  <a:lnTo>
                    <a:pt x="633" y="5404"/>
                  </a:lnTo>
                  <a:lnTo>
                    <a:pt x="666" y="5455"/>
                  </a:lnTo>
                  <a:lnTo>
                    <a:pt x="701" y="5503"/>
                  </a:lnTo>
                  <a:lnTo>
                    <a:pt x="738" y="5550"/>
                  </a:lnTo>
                  <a:lnTo>
                    <a:pt x="777" y="5592"/>
                  </a:lnTo>
                  <a:lnTo>
                    <a:pt x="818" y="5634"/>
                  </a:lnTo>
                  <a:lnTo>
                    <a:pt x="859" y="5672"/>
                  </a:lnTo>
                  <a:lnTo>
                    <a:pt x="903" y="5709"/>
                  </a:lnTo>
                  <a:lnTo>
                    <a:pt x="948" y="5742"/>
                  </a:lnTo>
                  <a:lnTo>
                    <a:pt x="993" y="5774"/>
                  </a:lnTo>
                  <a:lnTo>
                    <a:pt x="1041" y="5803"/>
                  </a:lnTo>
                  <a:lnTo>
                    <a:pt x="1089" y="5830"/>
                  </a:lnTo>
                  <a:lnTo>
                    <a:pt x="1138" y="5853"/>
                  </a:lnTo>
                  <a:lnTo>
                    <a:pt x="1188" y="5874"/>
                  </a:lnTo>
                  <a:lnTo>
                    <a:pt x="1240" y="5893"/>
                  </a:lnTo>
                  <a:lnTo>
                    <a:pt x="1292" y="5909"/>
                  </a:lnTo>
                  <a:lnTo>
                    <a:pt x="1343" y="5922"/>
                  </a:lnTo>
                  <a:lnTo>
                    <a:pt x="1396" y="5932"/>
                  </a:lnTo>
                  <a:lnTo>
                    <a:pt x="1450" y="5940"/>
                  </a:lnTo>
                  <a:lnTo>
                    <a:pt x="1504" y="5944"/>
                  </a:lnTo>
                  <a:lnTo>
                    <a:pt x="1558" y="5946"/>
                  </a:lnTo>
                  <a:lnTo>
                    <a:pt x="1611" y="5946"/>
                  </a:lnTo>
                  <a:lnTo>
                    <a:pt x="1665" y="5942"/>
                  </a:lnTo>
                  <a:lnTo>
                    <a:pt x="1719" y="5936"/>
                  </a:lnTo>
                  <a:lnTo>
                    <a:pt x="1773" y="5926"/>
                  </a:lnTo>
                  <a:lnTo>
                    <a:pt x="1827" y="5914"/>
                  </a:lnTo>
                  <a:lnTo>
                    <a:pt x="1880" y="5898"/>
                  </a:lnTo>
                  <a:lnTo>
                    <a:pt x="1933" y="5879"/>
                  </a:lnTo>
                  <a:lnTo>
                    <a:pt x="1985" y="5858"/>
                  </a:lnTo>
                  <a:lnTo>
                    <a:pt x="2037" y="5833"/>
                  </a:lnTo>
                  <a:lnTo>
                    <a:pt x="2088" y="5805"/>
                  </a:lnTo>
                  <a:lnTo>
                    <a:pt x="2098" y="5836"/>
                  </a:lnTo>
                  <a:lnTo>
                    <a:pt x="2108" y="5866"/>
                  </a:lnTo>
                  <a:lnTo>
                    <a:pt x="2118" y="5897"/>
                  </a:lnTo>
                  <a:lnTo>
                    <a:pt x="2129" y="5926"/>
                  </a:lnTo>
                  <a:lnTo>
                    <a:pt x="2141" y="5955"/>
                  </a:lnTo>
                  <a:lnTo>
                    <a:pt x="2154" y="5984"/>
                  </a:lnTo>
                  <a:lnTo>
                    <a:pt x="2168" y="6012"/>
                  </a:lnTo>
                  <a:lnTo>
                    <a:pt x="2183" y="6041"/>
                  </a:lnTo>
                  <a:lnTo>
                    <a:pt x="2197" y="6068"/>
                  </a:lnTo>
                  <a:lnTo>
                    <a:pt x="2213" y="6096"/>
                  </a:lnTo>
                  <a:lnTo>
                    <a:pt x="2229" y="6122"/>
                  </a:lnTo>
                  <a:lnTo>
                    <a:pt x="2247" y="6148"/>
                  </a:lnTo>
                  <a:lnTo>
                    <a:pt x="2264" y="6175"/>
                  </a:lnTo>
                  <a:lnTo>
                    <a:pt x="2282" y="6200"/>
                  </a:lnTo>
                  <a:lnTo>
                    <a:pt x="2302" y="6225"/>
                  </a:lnTo>
                  <a:lnTo>
                    <a:pt x="2322" y="6251"/>
                  </a:lnTo>
                  <a:lnTo>
                    <a:pt x="2342" y="6275"/>
                  </a:lnTo>
                  <a:lnTo>
                    <a:pt x="2363" y="6299"/>
                  </a:lnTo>
                  <a:lnTo>
                    <a:pt x="2385" y="6323"/>
                  </a:lnTo>
                  <a:lnTo>
                    <a:pt x="2408" y="6346"/>
                  </a:lnTo>
                  <a:lnTo>
                    <a:pt x="2431" y="6369"/>
                  </a:lnTo>
                  <a:lnTo>
                    <a:pt x="2455" y="6391"/>
                  </a:lnTo>
                  <a:lnTo>
                    <a:pt x="2480" y="6413"/>
                  </a:lnTo>
                  <a:lnTo>
                    <a:pt x="2506" y="6435"/>
                  </a:lnTo>
                  <a:lnTo>
                    <a:pt x="2532" y="6457"/>
                  </a:lnTo>
                  <a:lnTo>
                    <a:pt x="2558" y="6477"/>
                  </a:lnTo>
                  <a:lnTo>
                    <a:pt x="2586" y="6497"/>
                  </a:lnTo>
                  <a:lnTo>
                    <a:pt x="2614" y="6518"/>
                  </a:lnTo>
                  <a:lnTo>
                    <a:pt x="2644" y="6538"/>
                  </a:lnTo>
                  <a:lnTo>
                    <a:pt x="2673" y="6557"/>
                  </a:lnTo>
                  <a:lnTo>
                    <a:pt x="2703" y="6576"/>
                  </a:lnTo>
                  <a:lnTo>
                    <a:pt x="2734" y="6595"/>
                  </a:lnTo>
                  <a:lnTo>
                    <a:pt x="2803" y="6632"/>
                  </a:lnTo>
                  <a:lnTo>
                    <a:pt x="2873" y="6667"/>
                  </a:lnTo>
                  <a:lnTo>
                    <a:pt x="2945" y="6698"/>
                  </a:lnTo>
                  <a:lnTo>
                    <a:pt x="3018" y="6727"/>
                  </a:lnTo>
                  <a:lnTo>
                    <a:pt x="3091" y="6752"/>
                  </a:lnTo>
                  <a:lnTo>
                    <a:pt x="3166" y="6773"/>
                  </a:lnTo>
                  <a:lnTo>
                    <a:pt x="3242" y="6792"/>
                  </a:lnTo>
                  <a:lnTo>
                    <a:pt x="3319" y="6807"/>
                  </a:lnTo>
                  <a:lnTo>
                    <a:pt x="3396" y="6819"/>
                  </a:lnTo>
                  <a:lnTo>
                    <a:pt x="3473" y="6828"/>
                  </a:lnTo>
                  <a:lnTo>
                    <a:pt x="3551" y="6834"/>
                  </a:lnTo>
                  <a:lnTo>
                    <a:pt x="3628" y="6837"/>
                  </a:lnTo>
                  <a:lnTo>
                    <a:pt x="3706" y="6837"/>
                  </a:lnTo>
                  <a:lnTo>
                    <a:pt x="3783" y="6833"/>
                  </a:lnTo>
                  <a:lnTo>
                    <a:pt x="3861" y="6827"/>
                  </a:lnTo>
                  <a:lnTo>
                    <a:pt x="3938" y="6818"/>
                  </a:lnTo>
                  <a:lnTo>
                    <a:pt x="4014" y="6806"/>
                  </a:lnTo>
                  <a:lnTo>
                    <a:pt x="4089" y="6791"/>
                  </a:lnTo>
                  <a:lnTo>
                    <a:pt x="4163" y="6772"/>
                  </a:lnTo>
                  <a:lnTo>
                    <a:pt x="4236" y="6751"/>
                  </a:lnTo>
                  <a:lnTo>
                    <a:pt x="4309" y="6727"/>
                  </a:lnTo>
                  <a:lnTo>
                    <a:pt x="4379" y="6700"/>
                  </a:lnTo>
                  <a:lnTo>
                    <a:pt x="4449" y="6670"/>
                  </a:lnTo>
                  <a:lnTo>
                    <a:pt x="4517" y="6637"/>
                  </a:lnTo>
                  <a:lnTo>
                    <a:pt x="4583" y="6602"/>
                  </a:lnTo>
                  <a:lnTo>
                    <a:pt x="4647" y="6564"/>
                  </a:lnTo>
                  <a:lnTo>
                    <a:pt x="4709" y="6523"/>
                  </a:lnTo>
                  <a:lnTo>
                    <a:pt x="4769" y="6479"/>
                  </a:lnTo>
                  <a:lnTo>
                    <a:pt x="4827" y="6432"/>
                  </a:lnTo>
                  <a:lnTo>
                    <a:pt x="4882" y="6384"/>
                  </a:lnTo>
                  <a:lnTo>
                    <a:pt x="4934" y="6332"/>
                  </a:lnTo>
                  <a:lnTo>
                    <a:pt x="4984" y="6277"/>
                  </a:lnTo>
                  <a:lnTo>
                    <a:pt x="4982" y="6288"/>
                  </a:lnTo>
                  <a:lnTo>
                    <a:pt x="5002" y="6301"/>
                  </a:lnTo>
                  <a:lnTo>
                    <a:pt x="5024" y="6312"/>
                  </a:lnTo>
                  <a:lnTo>
                    <a:pt x="5044" y="6322"/>
                  </a:lnTo>
                  <a:lnTo>
                    <a:pt x="5065" y="6332"/>
                  </a:lnTo>
                  <a:lnTo>
                    <a:pt x="5086" y="6340"/>
                  </a:lnTo>
                  <a:lnTo>
                    <a:pt x="5107" y="6348"/>
                  </a:lnTo>
                  <a:lnTo>
                    <a:pt x="5127" y="6356"/>
                  </a:lnTo>
                  <a:lnTo>
                    <a:pt x="5149" y="6362"/>
                  </a:lnTo>
                  <a:lnTo>
                    <a:pt x="5169" y="6369"/>
                  </a:lnTo>
                  <a:lnTo>
                    <a:pt x="5189" y="6375"/>
                  </a:lnTo>
                  <a:lnTo>
                    <a:pt x="5210" y="6379"/>
                  </a:lnTo>
                  <a:lnTo>
                    <a:pt x="5231" y="6383"/>
                  </a:lnTo>
                  <a:lnTo>
                    <a:pt x="5251" y="6386"/>
                  </a:lnTo>
                  <a:lnTo>
                    <a:pt x="5271" y="6388"/>
                  </a:lnTo>
                  <a:lnTo>
                    <a:pt x="5293" y="6390"/>
                  </a:lnTo>
                  <a:lnTo>
                    <a:pt x="5313" y="6391"/>
                  </a:lnTo>
                  <a:lnTo>
                    <a:pt x="5333" y="6391"/>
                  </a:lnTo>
                  <a:lnTo>
                    <a:pt x="5355" y="6391"/>
                  </a:lnTo>
                  <a:lnTo>
                    <a:pt x="5375" y="6390"/>
                  </a:lnTo>
                  <a:lnTo>
                    <a:pt x="5395" y="6388"/>
                  </a:lnTo>
                  <a:lnTo>
                    <a:pt x="5417" y="6385"/>
                  </a:lnTo>
                  <a:lnTo>
                    <a:pt x="5437" y="6382"/>
                  </a:lnTo>
                  <a:lnTo>
                    <a:pt x="5457" y="6378"/>
                  </a:lnTo>
                  <a:lnTo>
                    <a:pt x="5478" y="6373"/>
                  </a:lnTo>
                  <a:lnTo>
                    <a:pt x="5499" y="6368"/>
                  </a:lnTo>
                  <a:lnTo>
                    <a:pt x="5520" y="6360"/>
                  </a:lnTo>
                  <a:lnTo>
                    <a:pt x="5540" y="6354"/>
                  </a:lnTo>
                  <a:lnTo>
                    <a:pt x="5562" y="6346"/>
                  </a:lnTo>
                  <a:lnTo>
                    <a:pt x="5583" y="6338"/>
                  </a:lnTo>
                  <a:lnTo>
                    <a:pt x="5603" y="6329"/>
                  </a:lnTo>
                  <a:lnTo>
                    <a:pt x="5625" y="6319"/>
                  </a:lnTo>
                  <a:lnTo>
                    <a:pt x="5646" y="6309"/>
                  </a:lnTo>
                  <a:lnTo>
                    <a:pt x="5698" y="6279"/>
                  </a:lnTo>
                  <a:lnTo>
                    <a:pt x="5748" y="6246"/>
                  </a:lnTo>
                  <a:lnTo>
                    <a:pt x="5797" y="6208"/>
                  </a:lnTo>
                  <a:lnTo>
                    <a:pt x="5845" y="6168"/>
                  </a:lnTo>
                  <a:lnTo>
                    <a:pt x="5891" y="6123"/>
                  </a:lnTo>
                  <a:lnTo>
                    <a:pt x="5935" y="6074"/>
                  </a:lnTo>
                  <a:lnTo>
                    <a:pt x="5977" y="6022"/>
                  </a:lnTo>
                  <a:lnTo>
                    <a:pt x="6018" y="5968"/>
                  </a:lnTo>
                  <a:lnTo>
                    <a:pt x="6057" y="5910"/>
                  </a:lnTo>
                  <a:lnTo>
                    <a:pt x="6095" y="5849"/>
                  </a:lnTo>
                  <a:lnTo>
                    <a:pt x="6130" y="5785"/>
                  </a:lnTo>
                  <a:lnTo>
                    <a:pt x="6164" y="5719"/>
                  </a:lnTo>
                  <a:lnTo>
                    <a:pt x="6195" y="5650"/>
                  </a:lnTo>
                  <a:lnTo>
                    <a:pt x="6225" y="5579"/>
                  </a:lnTo>
                  <a:lnTo>
                    <a:pt x="6252" y="5505"/>
                  </a:lnTo>
                  <a:lnTo>
                    <a:pt x="6277" y="5430"/>
                  </a:lnTo>
                  <a:lnTo>
                    <a:pt x="6301" y="5353"/>
                  </a:lnTo>
                  <a:lnTo>
                    <a:pt x="6321" y="5272"/>
                  </a:lnTo>
                  <a:lnTo>
                    <a:pt x="6340" y="5192"/>
                  </a:lnTo>
                  <a:lnTo>
                    <a:pt x="6356" y="5110"/>
                  </a:lnTo>
                  <a:lnTo>
                    <a:pt x="6371" y="5026"/>
                  </a:lnTo>
                  <a:lnTo>
                    <a:pt x="6383" y="4941"/>
                  </a:lnTo>
                  <a:lnTo>
                    <a:pt x="6392" y="4855"/>
                  </a:lnTo>
                  <a:lnTo>
                    <a:pt x="6399" y="4768"/>
                  </a:lnTo>
                  <a:lnTo>
                    <a:pt x="6403" y="4681"/>
                  </a:lnTo>
                  <a:lnTo>
                    <a:pt x="6405" y="4592"/>
                  </a:lnTo>
                  <a:lnTo>
                    <a:pt x="6404" y="4503"/>
                  </a:lnTo>
                  <a:lnTo>
                    <a:pt x="6401" y="4414"/>
                  </a:lnTo>
                  <a:lnTo>
                    <a:pt x="6395" y="4326"/>
                  </a:lnTo>
                  <a:lnTo>
                    <a:pt x="6387" y="4236"/>
                  </a:lnTo>
                  <a:lnTo>
                    <a:pt x="6375" y="4147"/>
                  </a:lnTo>
                  <a:lnTo>
                    <a:pt x="6361" y="4058"/>
                  </a:lnTo>
                  <a:lnTo>
                    <a:pt x="6367" y="4062"/>
                  </a:lnTo>
                  <a:lnTo>
                    <a:pt x="6400" y="4014"/>
                  </a:lnTo>
                  <a:lnTo>
                    <a:pt x="6432" y="3964"/>
                  </a:lnTo>
                  <a:lnTo>
                    <a:pt x="6460" y="3913"/>
                  </a:lnTo>
                  <a:lnTo>
                    <a:pt x="6486" y="3863"/>
                  </a:lnTo>
                  <a:lnTo>
                    <a:pt x="6509" y="3810"/>
                  </a:lnTo>
                  <a:lnTo>
                    <a:pt x="6529" y="3757"/>
                  </a:lnTo>
                  <a:lnTo>
                    <a:pt x="6547" y="3703"/>
                  </a:lnTo>
                  <a:lnTo>
                    <a:pt x="6563" y="3650"/>
                  </a:lnTo>
                  <a:lnTo>
                    <a:pt x="6575" y="3596"/>
                  </a:lnTo>
                  <a:lnTo>
                    <a:pt x="6584" y="3541"/>
                  </a:lnTo>
                  <a:lnTo>
                    <a:pt x="6591" y="3485"/>
                  </a:lnTo>
                  <a:lnTo>
                    <a:pt x="6595" y="3430"/>
                  </a:lnTo>
                  <a:lnTo>
                    <a:pt x="6597" y="3376"/>
                  </a:lnTo>
                  <a:lnTo>
                    <a:pt x="6596" y="3320"/>
                  </a:lnTo>
                  <a:lnTo>
                    <a:pt x="6593" y="3265"/>
                  </a:lnTo>
                  <a:lnTo>
                    <a:pt x="6587" y="3210"/>
                  </a:lnTo>
                  <a:lnTo>
                    <a:pt x="6578" y="3155"/>
                  </a:lnTo>
                  <a:lnTo>
                    <a:pt x="6567" y="3102"/>
                  </a:lnTo>
                  <a:lnTo>
                    <a:pt x="6553" y="3048"/>
                  </a:lnTo>
                  <a:lnTo>
                    <a:pt x="6537" y="2995"/>
                  </a:lnTo>
                  <a:lnTo>
                    <a:pt x="6518" y="2943"/>
                  </a:lnTo>
                  <a:lnTo>
                    <a:pt x="6497" y="2891"/>
                  </a:lnTo>
                  <a:lnTo>
                    <a:pt x="6473" y="2841"/>
                  </a:lnTo>
                  <a:lnTo>
                    <a:pt x="6447" y="2791"/>
                  </a:lnTo>
                  <a:lnTo>
                    <a:pt x="6418" y="2743"/>
                  </a:lnTo>
                  <a:lnTo>
                    <a:pt x="6387" y="2696"/>
                  </a:lnTo>
                  <a:lnTo>
                    <a:pt x="6353" y="2650"/>
                  </a:lnTo>
                  <a:lnTo>
                    <a:pt x="6317" y="2605"/>
                  </a:lnTo>
                  <a:lnTo>
                    <a:pt x="6278" y="2563"/>
                  </a:lnTo>
                  <a:lnTo>
                    <a:pt x="6238" y="2521"/>
                  </a:lnTo>
                  <a:lnTo>
                    <a:pt x="6194" y="2481"/>
                  </a:lnTo>
                  <a:lnTo>
                    <a:pt x="6148" y="2443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60840" y="2193840"/>
              <a:ext cx="374760" cy="389160"/>
            </a:xfrm>
            <a:custGeom>
              <a:avLst/>
              <a:gdLst/>
              <a:ahLst/>
              <a:rect l="l" t="t" r="r" b="b"/>
              <a:pathLst>
                <a:path w="6597" h="6837">
                  <a:moveTo>
                    <a:pt x="6148" y="2443"/>
                  </a:moveTo>
                  <a:lnTo>
                    <a:pt x="6162" y="2421"/>
                  </a:lnTo>
                  <a:lnTo>
                    <a:pt x="6174" y="2398"/>
                  </a:lnTo>
                  <a:lnTo>
                    <a:pt x="6185" y="2376"/>
                  </a:lnTo>
                  <a:lnTo>
                    <a:pt x="6196" y="2354"/>
                  </a:lnTo>
                  <a:lnTo>
                    <a:pt x="6206" y="2330"/>
                  </a:lnTo>
                  <a:lnTo>
                    <a:pt x="6216" y="2308"/>
                  </a:lnTo>
                  <a:lnTo>
                    <a:pt x="6226" y="2285"/>
                  </a:lnTo>
                  <a:lnTo>
                    <a:pt x="6234" y="2261"/>
                  </a:lnTo>
                  <a:lnTo>
                    <a:pt x="6242" y="2239"/>
                  </a:lnTo>
                  <a:lnTo>
                    <a:pt x="6250" y="2216"/>
                  </a:lnTo>
                  <a:lnTo>
                    <a:pt x="6257" y="2192"/>
                  </a:lnTo>
                  <a:lnTo>
                    <a:pt x="6263" y="2169"/>
                  </a:lnTo>
                  <a:lnTo>
                    <a:pt x="6269" y="2145"/>
                  </a:lnTo>
                  <a:lnTo>
                    <a:pt x="6274" y="2121"/>
                  </a:lnTo>
                  <a:lnTo>
                    <a:pt x="6278" y="2098"/>
                  </a:lnTo>
                  <a:lnTo>
                    <a:pt x="6282" y="2073"/>
                  </a:lnTo>
                  <a:lnTo>
                    <a:pt x="6286" y="2050"/>
                  </a:lnTo>
                  <a:lnTo>
                    <a:pt x="6289" y="2026"/>
                  </a:lnTo>
                  <a:lnTo>
                    <a:pt x="6292" y="2001"/>
                  </a:lnTo>
                  <a:lnTo>
                    <a:pt x="6294" y="1977"/>
                  </a:lnTo>
                  <a:lnTo>
                    <a:pt x="6295" y="1953"/>
                  </a:lnTo>
                  <a:lnTo>
                    <a:pt x="6296" y="1928"/>
                  </a:lnTo>
                  <a:lnTo>
                    <a:pt x="6296" y="1904"/>
                  </a:lnTo>
                  <a:lnTo>
                    <a:pt x="6295" y="1880"/>
                  </a:lnTo>
                  <a:lnTo>
                    <a:pt x="6294" y="1855"/>
                  </a:lnTo>
                  <a:lnTo>
                    <a:pt x="6293" y="1830"/>
                  </a:lnTo>
                  <a:lnTo>
                    <a:pt x="6290" y="1806"/>
                  </a:lnTo>
                  <a:lnTo>
                    <a:pt x="6287" y="1780"/>
                  </a:lnTo>
                  <a:lnTo>
                    <a:pt x="6284" y="1755"/>
                  </a:lnTo>
                  <a:lnTo>
                    <a:pt x="6280" y="1730"/>
                  </a:lnTo>
                  <a:lnTo>
                    <a:pt x="6275" y="1705"/>
                  </a:lnTo>
                  <a:lnTo>
                    <a:pt x="6271" y="1680"/>
                  </a:lnTo>
                  <a:lnTo>
                    <a:pt x="6258" y="1626"/>
                  </a:lnTo>
                  <a:lnTo>
                    <a:pt x="6243" y="1574"/>
                  </a:lnTo>
                  <a:lnTo>
                    <a:pt x="6226" y="1524"/>
                  </a:lnTo>
                  <a:lnTo>
                    <a:pt x="6206" y="1475"/>
                  </a:lnTo>
                  <a:lnTo>
                    <a:pt x="6184" y="1427"/>
                  </a:lnTo>
                  <a:lnTo>
                    <a:pt x="6160" y="1381"/>
                  </a:lnTo>
                  <a:lnTo>
                    <a:pt x="6133" y="1336"/>
                  </a:lnTo>
                  <a:lnTo>
                    <a:pt x="6105" y="1293"/>
                  </a:lnTo>
                  <a:lnTo>
                    <a:pt x="6074" y="1251"/>
                  </a:lnTo>
                  <a:lnTo>
                    <a:pt x="6043" y="1211"/>
                  </a:lnTo>
                  <a:lnTo>
                    <a:pt x="6008" y="1172"/>
                  </a:lnTo>
                  <a:lnTo>
                    <a:pt x="5973" y="1136"/>
                  </a:lnTo>
                  <a:lnTo>
                    <a:pt x="5935" y="1101"/>
                  </a:lnTo>
                  <a:lnTo>
                    <a:pt x="5897" y="1069"/>
                  </a:lnTo>
                  <a:lnTo>
                    <a:pt x="5857" y="1037"/>
                  </a:lnTo>
                  <a:lnTo>
                    <a:pt x="5815" y="1008"/>
                  </a:lnTo>
                  <a:lnTo>
                    <a:pt x="5772" y="981"/>
                  </a:lnTo>
                  <a:lnTo>
                    <a:pt x="5728" y="956"/>
                  </a:lnTo>
                  <a:lnTo>
                    <a:pt x="5683" y="934"/>
                  </a:lnTo>
                  <a:lnTo>
                    <a:pt x="5637" y="912"/>
                  </a:lnTo>
                  <a:lnTo>
                    <a:pt x="5589" y="894"/>
                  </a:lnTo>
                  <a:lnTo>
                    <a:pt x="5540" y="878"/>
                  </a:lnTo>
                  <a:lnTo>
                    <a:pt x="5492" y="864"/>
                  </a:lnTo>
                  <a:lnTo>
                    <a:pt x="5442" y="853"/>
                  </a:lnTo>
                  <a:lnTo>
                    <a:pt x="5391" y="843"/>
                  </a:lnTo>
                  <a:lnTo>
                    <a:pt x="5340" y="837"/>
                  </a:lnTo>
                  <a:lnTo>
                    <a:pt x="5289" y="833"/>
                  </a:lnTo>
                  <a:lnTo>
                    <a:pt x="5237" y="831"/>
                  </a:lnTo>
                  <a:lnTo>
                    <a:pt x="5184" y="832"/>
                  </a:lnTo>
                  <a:lnTo>
                    <a:pt x="5132" y="836"/>
                  </a:lnTo>
                  <a:lnTo>
                    <a:pt x="5080" y="843"/>
                  </a:lnTo>
                  <a:lnTo>
                    <a:pt x="5027" y="853"/>
                  </a:lnTo>
                  <a:lnTo>
                    <a:pt x="5011" y="818"/>
                  </a:lnTo>
                  <a:lnTo>
                    <a:pt x="4994" y="784"/>
                  </a:lnTo>
                  <a:lnTo>
                    <a:pt x="4977" y="750"/>
                  </a:lnTo>
                  <a:lnTo>
                    <a:pt x="4959" y="717"/>
                  </a:lnTo>
                  <a:lnTo>
                    <a:pt x="4941" y="684"/>
                  </a:lnTo>
                  <a:lnTo>
                    <a:pt x="4921" y="653"/>
                  </a:lnTo>
                  <a:lnTo>
                    <a:pt x="4901" y="621"/>
                  </a:lnTo>
                  <a:lnTo>
                    <a:pt x="4880" y="591"/>
                  </a:lnTo>
                  <a:lnTo>
                    <a:pt x="4858" y="561"/>
                  </a:lnTo>
                  <a:lnTo>
                    <a:pt x="4835" y="533"/>
                  </a:lnTo>
                  <a:lnTo>
                    <a:pt x="4813" y="504"/>
                  </a:lnTo>
                  <a:lnTo>
                    <a:pt x="4788" y="476"/>
                  </a:lnTo>
                  <a:lnTo>
                    <a:pt x="4764" y="450"/>
                  </a:lnTo>
                  <a:lnTo>
                    <a:pt x="4739" y="423"/>
                  </a:lnTo>
                  <a:lnTo>
                    <a:pt x="4713" y="398"/>
                  </a:lnTo>
                  <a:lnTo>
                    <a:pt x="4686" y="372"/>
                  </a:lnTo>
                  <a:lnTo>
                    <a:pt x="4658" y="348"/>
                  </a:lnTo>
                  <a:lnTo>
                    <a:pt x="4631" y="325"/>
                  </a:lnTo>
                  <a:lnTo>
                    <a:pt x="4602" y="302"/>
                  </a:lnTo>
                  <a:lnTo>
                    <a:pt x="4572" y="280"/>
                  </a:lnTo>
                  <a:lnTo>
                    <a:pt x="4543" y="259"/>
                  </a:lnTo>
                  <a:lnTo>
                    <a:pt x="4511" y="239"/>
                  </a:lnTo>
                  <a:lnTo>
                    <a:pt x="4480" y="218"/>
                  </a:lnTo>
                  <a:lnTo>
                    <a:pt x="4448" y="200"/>
                  </a:lnTo>
                  <a:lnTo>
                    <a:pt x="4415" y="182"/>
                  </a:lnTo>
                  <a:lnTo>
                    <a:pt x="4382" y="163"/>
                  </a:lnTo>
                  <a:lnTo>
                    <a:pt x="4348" y="147"/>
                  </a:lnTo>
                  <a:lnTo>
                    <a:pt x="4313" y="131"/>
                  </a:lnTo>
                  <a:lnTo>
                    <a:pt x="4278" y="116"/>
                  </a:lnTo>
                  <a:lnTo>
                    <a:pt x="4242" y="101"/>
                  </a:lnTo>
                  <a:lnTo>
                    <a:pt x="4206" y="87"/>
                  </a:lnTo>
                  <a:lnTo>
                    <a:pt x="4168" y="75"/>
                  </a:lnTo>
                  <a:lnTo>
                    <a:pt x="4098" y="53"/>
                  </a:lnTo>
                  <a:lnTo>
                    <a:pt x="4027" y="36"/>
                  </a:lnTo>
                  <a:lnTo>
                    <a:pt x="3957" y="21"/>
                  </a:lnTo>
                  <a:lnTo>
                    <a:pt x="3886" y="10"/>
                  </a:lnTo>
                  <a:lnTo>
                    <a:pt x="3815" y="3"/>
                  </a:lnTo>
                  <a:lnTo>
                    <a:pt x="3744" y="0"/>
                  </a:lnTo>
                  <a:lnTo>
                    <a:pt x="3674" y="0"/>
                  </a:lnTo>
                  <a:lnTo>
                    <a:pt x="3604" y="3"/>
                  </a:lnTo>
                  <a:lnTo>
                    <a:pt x="3534" y="9"/>
                  </a:lnTo>
                  <a:lnTo>
                    <a:pt x="3465" y="19"/>
                  </a:lnTo>
                  <a:lnTo>
                    <a:pt x="3396" y="31"/>
                  </a:lnTo>
                  <a:lnTo>
                    <a:pt x="3329" y="48"/>
                  </a:lnTo>
                  <a:lnTo>
                    <a:pt x="3262" y="67"/>
                  </a:lnTo>
                  <a:lnTo>
                    <a:pt x="3197" y="89"/>
                  </a:lnTo>
                  <a:lnTo>
                    <a:pt x="3132" y="114"/>
                  </a:lnTo>
                  <a:lnTo>
                    <a:pt x="3069" y="142"/>
                  </a:lnTo>
                  <a:lnTo>
                    <a:pt x="3008" y="173"/>
                  </a:lnTo>
                  <a:lnTo>
                    <a:pt x="2948" y="206"/>
                  </a:lnTo>
                  <a:lnTo>
                    <a:pt x="2889" y="243"/>
                  </a:lnTo>
                  <a:lnTo>
                    <a:pt x="2832" y="282"/>
                  </a:lnTo>
                  <a:lnTo>
                    <a:pt x="2779" y="324"/>
                  </a:lnTo>
                  <a:lnTo>
                    <a:pt x="2726" y="367"/>
                  </a:lnTo>
                  <a:lnTo>
                    <a:pt x="2675" y="415"/>
                  </a:lnTo>
                  <a:lnTo>
                    <a:pt x="2627" y="464"/>
                  </a:lnTo>
                  <a:lnTo>
                    <a:pt x="2581" y="516"/>
                  </a:lnTo>
                  <a:lnTo>
                    <a:pt x="2538" y="569"/>
                  </a:lnTo>
                  <a:lnTo>
                    <a:pt x="2496" y="625"/>
                  </a:lnTo>
                  <a:lnTo>
                    <a:pt x="2459" y="684"/>
                  </a:lnTo>
                  <a:lnTo>
                    <a:pt x="2423" y="745"/>
                  </a:lnTo>
                  <a:lnTo>
                    <a:pt x="2392" y="808"/>
                  </a:lnTo>
                  <a:lnTo>
                    <a:pt x="2362" y="873"/>
                  </a:lnTo>
                  <a:lnTo>
                    <a:pt x="2337" y="939"/>
                  </a:lnTo>
                  <a:lnTo>
                    <a:pt x="2313" y="922"/>
                  </a:lnTo>
                  <a:lnTo>
                    <a:pt x="2289" y="904"/>
                  </a:lnTo>
                  <a:lnTo>
                    <a:pt x="2265" y="888"/>
                  </a:lnTo>
                  <a:lnTo>
                    <a:pt x="2242" y="873"/>
                  </a:lnTo>
                  <a:lnTo>
                    <a:pt x="2217" y="859"/>
                  </a:lnTo>
                  <a:lnTo>
                    <a:pt x="2193" y="845"/>
                  </a:lnTo>
                  <a:lnTo>
                    <a:pt x="2169" y="832"/>
                  </a:lnTo>
                  <a:lnTo>
                    <a:pt x="2144" y="820"/>
                  </a:lnTo>
                  <a:lnTo>
                    <a:pt x="2120" y="809"/>
                  </a:lnTo>
                  <a:lnTo>
                    <a:pt x="2094" y="799"/>
                  </a:lnTo>
                  <a:lnTo>
                    <a:pt x="2070" y="789"/>
                  </a:lnTo>
                  <a:lnTo>
                    <a:pt x="2045" y="780"/>
                  </a:lnTo>
                  <a:lnTo>
                    <a:pt x="2019" y="772"/>
                  </a:lnTo>
                  <a:lnTo>
                    <a:pt x="1994" y="765"/>
                  </a:lnTo>
                  <a:lnTo>
                    <a:pt x="1970" y="758"/>
                  </a:lnTo>
                  <a:lnTo>
                    <a:pt x="1944" y="753"/>
                  </a:lnTo>
                  <a:lnTo>
                    <a:pt x="1918" y="748"/>
                  </a:lnTo>
                  <a:lnTo>
                    <a:pt x="1892" y="744"/>
                  </a:lnTo>
                  <a:lnTo>
                    <a:pt x="1867" y="741"/>
                  </a:lnTo>
                  <a:lnTo>
                    <a:pt x="1841" y="739"/>
                  </a:lnTo>
                  <a:lnTo>
                    <a:pt x="1815" y="737"/>
                  </a:lnTo>
                  <a:lnTo>
                    <a:pt x="1789" y="737"/>
                  </a:lnTo>
                  <a:lnTo>
                    <a:pt x="1763" y="737"/>
                  </a:lnTo>
                  <a:lnTo>
                    <a:pt x="1736" y="738"/>
                  </a:lnTo>
                  <a:lnTo>
                    <a:pt x="1710" y="740"/>
                  </a:lnTo>
                  <a:lnTo>
                    <a:pt x="1683" y="742"/>
                  </a:lnTo>
                  <a:lnTo>
                    <a:pt x="1657" y="746"/>
                  </a:lnTo>
                  <a:lnTo>
                    <a:pt x="1631" y="750"/>
                  </a:lnTo>
                  <a:lnTo>
                    <a:pt x="1604" y="755"/>
                  </a:lnTo>
                  <a:lnTo>
                    <a:pt x="1578" y="760"/>
                  </a:lnTo>
                  <a:lnTo>
                    <a:pt x="1550" y="767"/>
                  </a:lnTo>
                  <a:lnTo>
                    <a:pt x="1524" y="774"/>
                  </a:lnTo>
                  <a:lnTo>
                    <a:pt x="1469" y="793"/>
                  </a:lnTo>
                  <a:lnTo>
                    <a:pt x="1416" y="814"/>
                  </a:lnTo>
                  <a:lnTo>
                    <a:pt x="1366" y="838"/>
                  </a:lnTo>
                  <a:lnTo>
                    <a:pt x="1315" y="866"/>
                  </a:lnTo>
                  <a:lnTo>
                    <a:pt x="1266" y="896"/>
                  </a:lnTo>
                  <a:lnTo>
                    <a:pt x="1220" y="929"/>
                  </a:lnTo>
                  <a:lnTo>
                    <a:pt x="1174" y="965"/>
                  </a:lnTo>
                  <a:lnTo>
                    <a:pt x="1130" y="1004"/>
                  </a:lnTo>
                  <a:lnTo>
                    <a:pt x="1088" y="1044"/>
                  </a:lnTo>
                  <a:lnTo>
                    <a:pt x="1047" y="1088"/>
                  </a:lnTo>
                  <a:lnTo>
                    <a:pt x="1008" y="1134"/>
                  </a:lnTo>
                  <a:lnTo>
                    <a:pt x="972" y="1182"/>
                  </a:lnTo>
                  <a:lnTo>
                    <a:pt x="936" y="1232"/>
                  </a:lnTo>
                  <a:lnTo>
                    <a:pt x="904" y="1284"/>
                  </a:lnTo>
                  <a:lnTo>
                    <a:pt x="872" y="1339"/>
                  </a:lnTo>
                  <a:lnTo>
                    <a:pt x="843" y="1394"/>
                  </a:lnTo>
                  <a:lnTo>
                    <a:pt x="817" y="1451"/>
                  </a:lnTo>
                  <a:lnTo>
                    <a:pt x="791" y="1511"/>
                  </a:lnTo>
                  <a:lnTo>
                    <a:pt x="769" y="1571"/>
                  </a:lnTo>
                  <a:lnTo>
                    <a:pt x="749" y="1633"/>
                  </a:lnTo>
                  <a:lnTo>
                    <a:pt x="730" y="1697"/>
                  </a:lnTo>
                  <a:lnTo>
                    <a:pt x="714" y="1761"/>
                  </a:lnTo>
                  <a:lnTo>
                    <a:pt x="701" y="1826"/>
                  </a:lnTo>
                  <a:lnTo>
                    <a:pt x="690" y="1893"/>
                  </a:lnTo>
                  <a:lnTo>
                    <a:pt x="682" y="1960"/>
                  </a:lnTo>
                  <a:lnTo>
                    <a:pt x="676" y="2028"/>
                  </a:lnTo>
                  <a:lnTo>
                    <a:pt x="672" y="2096"/>
                  </a:lnTo>
                  <a:lnTo>
                    <a:pt x="671" y="2165"/>
                  </a:lnTo>
                  <a:lnTo>
                    <a:pt x="674" y="2234"/>
                  </a:lnTo>
                  <a:lnTo>
                    <a:pt x="679" y="2304"/>
                  </a:lnTo>
                  <a:lnTo>
                    <a:pt x="687" y="2374"/>
                  </a:lnTo>
                  <a:lnTo>
                    <a:pt x="698" y="2444"/>
                  </a:lnTo>
                  <a:lnTo>
                    <a:pt x="671" y="2448"/>
                  </a:lnTo>
                  <a:lnTo>
                    <a:pt x="645" y="2453"/>
                  </a:lnTo>
                  <a:lnTo>
                    <a:pt x="619" y="2459"/>
                  </a:lnTo>
                  <a:lnTo>
                    <a:pt x="593" y="2467"/>
                  </a:lnTo>
                  <a:lnTo>
                    <a:pt x="569" y="2475"/>
                  </a:lnTo>
                  <a:lnTo>
                    <a:pt x="544" y="2486"/>
                  </a:lnTo>
                  <a:lnTo>
                    <a:pt x="519" y="2497"/>
                  </a:lnTo>
                  <a:lnTo>
                    <a:pt x="496" y="2510"/>
                  </a:lnTo>
                  <a:lnTo>
                    <a:pt x="471" y="2523"/>
                  </a:lnTo>
                  <a:lnTo>
                    <a:pt x="449" y="2537"/>
                  </a:lnTo>
                  <a:lnTo>
                    <a:pt x="426" y="2554"/>
                  </a:lnTo>
                  <a:lnTo>
                    <a:pt x="403" y="2570"/>
                  </a:lnTo>
                  <a:lnTo>
                    <a:pt x="381" y="2588"/>
                  </a:lnTo>
                  <a:lnTo>
                    <a:pt x="360" y="2607"/>
                  </a:lnTo>
                  <a:lnTo>
                    <a:pt x="339" y="2628"/>
                  </a:lnTo>
                  <a:lnTo>
                    <a:pt x="318" y="2648"/>
                  </a:lnTo>
                  <a:lnTo>
                    <a:pt x="299" y="2670"/>
                  </a:lnTo>
                  <a:lnTo>
                    <a:pt x="279" y="2694"/>
                  </a:lnTo>
                  <a:lnTo>
                    <a:pt x="259" y="2718"/>
                  </a:lnTo>
                  <a:lnTo>
                    <a:pt x="241" y="2743"/>
                  </a:lnTo>
                  <a:lnTo>
                    <a:pt x="223" y="2770"/>
                  </a:lnTo>
                  <a:lnTo>
                    <a:pt x="206" y="2796"/>
                  </a:lnTo>
                  <a:lnTo>
                    <a:pt x="189" y="2824"/>
                  </a:lnTo>
                  <a:lnTo>
                    <a:pt x="173" y="2853"/>
                  </a:lnTo>
                  <a:lnTo>
                    <a:pt x="157" y="2883"/>
                  </a:lnTo>
                  <a:lnTo>
                    <a:pt x="142" y="2914"/>
                  </a:lnTo>
                  <a:lnTo>
                    <a:pt x="127" y="2946"/>
                  </a:lnTo>
                  <a:lnTo>
                    <a:pt x="113" y="2979"/>
                  </a:lnTo>
                  <a:lnTo>
                    <a:pt x="100" y="3012"/>
                  </a:lnTo>
                  <a:lnTo>
                    <a:pt x="88" y="3047"/>
                  </a:lnTo>
                  <a:lnTo>
                    <a:pt x="76" y="3082"/>
                  </a:lnTo>
                  <a:lnTo>
                    <a:pt x="64" y="3118"/>
                  </a:lnTo>
                  <a:lnTo>
                    <a:pt x="50" y="3172"/>
                  </a:lnTo>
                  <a:lnTo>
                    <a:pt x="37" y="3225"/>
                  </a:lnTo>
                  <a:lnTo>
                    <a:pt x="26" y="3279"/>
                  </a:lnTo>
                  <a:lnTo>
                    <a:pt x="17" y="3334"/>
                  </a:lnTo>
                  <a:lnTo>
                    <a:pt x="10" y="3389"/>
                  </a:lnTo>
                  <a:lnTo>
                    <a:pt x="5" y="3444"/>
                  </a:lnTo>
                  <a:lnTo>
                    <a:pt x="2" y="3498"/>
                  </a:lnTo>
                  <a:lnTo>
                    <a:pt x="0" y="3553"/>
                  </a:lnTo>
                  <a:lnTo>
                    <a:pt x="0" y="3608"/>
                  </a:lnTo>
                  <a:lnTo>
                    <a:pt x="2" y="3663"/>
                  </a:lnTo>
                  <a:lnTo>
                    <a:pt x="5" y="3717"/>
                  </a:lnTo>
                  <a:lnTo>
                    <a:pt x="11" y="3770"/>
                  </a:lnTo>
                  <a:lnTo>
                    <a:pt x="17" y="3824"/>
                  </a:lnTo>
                  <a:lnTo>
                    <a:pt x="26" y="3877"/>
                  </a:lnTo>
                  <a:lnTo>
                    <a:pt x="36" y="3929"/>
                  </a:lnTo>
                  <a:lnTo>
                    <a:pt x="48" y="3980"/>
                  </a:lnTo>
                  <a:lnTo>
                    <a:pt x="61" y="4030"/>
                  </a:lnTo>
                  <a:lnTo>
                    <a:pt x="76" y="4080"/>
                  </a:lnTo>
                  <a:lnTo>
                    <a:pt x="93" y="4129"/>
                  </a:lnTo>
                  <a:lnTo>
                    <a:pt x="110" y="4175"/>
                  </a:lnTo>
                  <a:lnTo>
                    <a:pt x="129" y="4222"/>
                  </a:lnTo>
                  <a:lnTo>
                    <a:pt x="151" y="4267"/>
                  </a:lnTo>
                  <a:lnTo>
                    <a:pt x="173" y="4309"/>
                  </a:lnTo>
                  <a:lnTo>
                    <a:pt x="197" y="4351"/>
                  </a:lnTo>
                  <a:lnTo>
                    <a:pt x="222" y="4390"/>
                  </a:lnTo>
                  <a:lnTo>
                    <a:pt x="248" y="4429"/>
                  </a:lnTo>
                  <a:lnTo>
                    <a:pt x="277" y="4466"/>
                  </a:lnTo>
                  <a:lnTo>
                    <a:pt x="306" y="4500"/>
                  </a:lnTo>
                  <a:lnTo>
                    <a:pt x="335" y="4533"/>
                  </a:lnTo>
                  <a:lnTo>
                    <a:pt x="368" y="4563"/>
                  </a:lnTo>
                  <a:lnTo>
                    <a:pt x="400" y="4591"/>
                  </a:lnTo>
                  <a:lnTo>
                    <a:pt x="435" y="4617"/>
                  </a:lnTo>
                  <a:lnTo>
                    <a:pt x="433" y="4617"/>
                  </a:lnTo>
                  <a:lnTo>
                    <a:pt x="431" y="4663"/>
                  </a:lnTo>
                  <a:lnTo>
                    <a:pt x="431" y="4708"/>
                  </a:lnTo>
                  <a:lnTo>
                    <a:pt x="432" y="4753"/>
                  </a:lnTo>
                  <a:lnTo>
                    <a:pt x="435" y="4796"/>
                  </a:lnTo>
                  <a:lnTo>
                    <a:pt x="439" y="4840"/>
                  </a:lnTo>
                  <a:lnTo>
                    <a:pt x="444" y="4884"/>
                  </a:lnTo>
                  <a:lnTo>
                    <a:pt x="450" y="4926"/>
                  </a:lnTo>
                  <a:lnTo>
                    <a:pt x="458" y="4968"/>
                  </a:lnTo>
                  <a:lnTo>
                    <a:pt x="467" y="5011"/>
                  </a:lnTo>
                  <a:lnTo>
                    <a:pt x="479" y="5052"/>
                  </a:lnTo>
                  <a:lnTo>
                    <a:pt x="491" y="5093"/>
                  </a:lnTo>
                  <a:lnTo>
                    <a:pt x="504" y="5134"/>
                  </a:lnTo>
                  <a:lnTo>
                    <a:pt x="519" y="5175"/>
                  </a:lnTo>
                  <a:lnTo>
                    <a:pt x="535" y="5216"/>
                  </a:lnTo>
                  <a:lnTo>
                    <a:pt x="554" y="5256"/>
                  </a:lnTo>
                  <a:lnTo>
                    <a:pt x="573" y="5297"/>
                  </a:lnTo>
                  <a:lnTo>
                    <a:pt x="602" y="5352"/>
                  </a:lnTo>
                  <a:lnTo>
                    <a:pt x="633" y="5404"/>
                  </a:lnTo>
                  <a:lnTo>
                    <a:pt x="666" y="5455"/>
                  </a:lnTo>
                  <a:lnTo>
                    <a:pt x="701" y="5503"/>
                  </a:lnTo>
                  <a:lnTo>
                    <a:pt x="738" y="5550"/>
                  </a:lnTo>
                  <a:lnTo>
                    <a:pt x="777" y="5592"/>
                  </a:lnTo>
                  <a:lnTo>
                    <a:pt x="818" y="5634"/>
                  </a:lnTo>
                  <a:lnTo>
                    <a:pt x="859" y="5672"/>
                  </a:lnTo>
                  <a:lnTo>
                    <a:pt x="903" y="5709"/>
                  </a:lnTo>
                  <a:lnTo>
                    <a:pt x="948" y="5742"/>
                  </a:lnTo>
                  <a:lnTo>
                    <a:pt x="993" y="5774"/>
                  </a:lnTo>
                  <a:lnTo>
                    <a:pt x="1041" y="5803"/>
                  </a:lnTo>
                  <a:lnTo>
                    <a:pt x="1089" y="5830"/>
                  </a:lnTo>
                  <a:lnTo>
                    <a:pt x="1138" y="5853"/>
                  </a:lnTo>
                  <a:lnTo>
                    <a:pt x="1188" y="5874"/>
                  </a:lnTo>
                  <a:lnTo>
                    <a:pt x="1240" y="5893"/>
                  </a:lnTo>
                  <a:lnTo>
                    <a:pt x="1292" y="5909"/>
                  </a:lnTo>
                  <a:lnTo>
                    <a:pt x="1343" y="5922"/>
                  </a:lnTo>
                  <a:lnTo>
                    <a:pt x="1396" y="5932"/>
                  </a:lnTo>
                  <a:lnTo>
                    <a:pt x="1450" y="5940"/>
                  </a:lnTo>
                  <a:lnTo>
                    <a:pt x="1504" y="5944"/>
                  </a:lnTo>
                  <a:lnTo>
                    <a:pt x="1558" y="5946"/>
                  </a:lnTo>
                  <a:lnTo>
                    <a:pt x="1611" y="5946"/>
                  </a:lnTo>
                  <a:lnTo>
                    <a:pt x="1665" y="5942"/>
                  </a:lnTo>
                  <a:lnTo>
                    <a:pt x="1719" y="5936"/>
                  </a:lnTo>
                  <a:lnTo>
                    <a:pt x="1773" y="5926"/>
                  </a:lnTo>
                  <a:lnTo>
                    <a:pt x="1827" y="5914"/>
                  </a:lnTo>
                  <a:lnTo>
                    <a:pt x="1880" y="5898"/>
                  </a:lnTo>
                  <a:lnTo>
                    <a:pt x="1933" y="5879"/>
                  </a:lnTo>
                  <a:lnTo>
                    <a:pt x="1985" y="5858"/>
                  </a:lnTo>
                  <a:lnTo>
                    <a:pt x="2037" y="5833"/>
                  </a:lnTo>
                  <a:lnTo>
                    <a:pt x="2088" y="5805"/>
                  </a:lnTo>
                  <a:lnTo>
                    <a:pt x="2098" y="5836"/>
                  </a:lnTo>
                  <a:lnTo>
                    <a:pt x="2108" y="5866"/>
                  </a:lnTo>
                  <a:lnTo>
                    <a:pt x="2118" y="5897"/>
                  </a:lnTo>
                  <a:lnTo>
                    <a:pt x="2129" y="5926"/>
                  </a:lnTo>
                  <a:lnTo>
                    <a:pt x="2141" y="5955"/>
                  </a:lnTo>
                  <a:lnTo>
                    <a:pt x="2154" y="5984"/>
                  </a:lnTo>
                  <a:lnTo>
                    <a:pt x="2168" y="6012"/>
                  </a:lnTo>
                  <a:lnTo>
                    <a:pt x="2183" y="6041"/>
                  </a:lnTo>
                  <a:lnTo>
                    <a:pt x="2197" y="6068"/>
                  </a:lnTo>
                  <a:lnTo>
                    <a:pt x="2213" y="6096"/>
                  </a:lnTo>
                  <a:lnTo>
                    <a:pt x="2229" y="6122"/>
                  </a:lnTo>
                  <a:lnTo>
                    <a:pt x="2247" y="6148"/>
                  </a:lnTo>
                  <a:lnTo>
                    <a:pt x="2264" y="6175"/>
                  </a:lnTo>
                  <a:lnTo>
                    <a:pt x="2282" y="6200"/>
                  </a:lnTo>
                  <a:lnTo>
                    <a:pt x="2302" y="6225"/>
                  </a:lnTo>
                  <a:lnTo>
                    <a:pt x="2322" y="6251"/>
                  </a:lnTo>
                  <a:lnTo>
                    <a:pt x="2342" y="6275"/>
                  </a:lnTo>
                  <a:lnTo>
                    <a:pt x="2363" y="6299"/>
                  </a:lnTo>
                  <a:lnTo>
                    <a:pt x="2385" y="6323"/>
                  </a:lnTo>
                  <a:lnTo>
                    <a:pt x="2408" y="6346"/>
                  </a:lnTo>
                  <a:lnTo>
                    <a:pt x="2431" y="6369"/>
                  </a:lnTo>
                  <a:lnTo>
                    <a:pt x="2455" y="6391"/>
                  </a:lnTo>
                  <a:lnTo>
                    <a:pt x="2480" y="6413"/>
                  </a:lnTo>
                  <a:lnTo>
                    <a:pt x="2506" y="6435"/>
                  </a:lnTo>
                  <a:lnTo>
                    <a:pt x="2532" y="6457"/>
                  </a:lnTo>
                  <a:lnTo>
                    <a:pt x="2558" y="6477"/>
                  </a:lnTo>
                  <a:lnTo>
                    <a:pt x="2586" y="6497"/>
                  </a:lnTo>
                  <a:lnTo>
                    <a:pt x="2614" y="6518"/>
                  </a:lnTo>
                  <a:lnTo>
                    <a:pt x="2644" y="6538"/>
                  </a:lnTo>
                  <a:lnTo>
                    <a:pt x="2673" y="6557"/>
                  </a:lnTo>
                  <a:lnTo>
                    <a:pt x="2703" y="6576"/>
                  </a:lnTo>
                  <a:lnTo>
                    <a:pt x="2734" y="6595"/>
                  </a:lnTo>
                  <a:lnTo>
                    <a:pt x="2803" y="6632"/>
                  </a:lnTo>
                  <a:lnTo>
                    <a:pt x="2873" y="6667"/>
                  </a:lnTo>
                  <a:lnTo>
                    <a:pt x="2945" y="6698"/>
                  </a:lnTo>
                  <a:lnTo>
                    <a:pt x="3018" y="6727"/>
                  </a:lnTo>
                  <a:lnTo>
                    <a:pt x="3091" y="6752"/>
                  </a:lnTo>
                  <a:lnTo>
                    <a:pt x="3166" y="6773"/>
                  </a:lnTo>
                  <a:lnTo>
                    <a:pt x="3242" y="6792"/>
                  </a:lnTo>
                  <a:lnTo>
                    <a:pt x="3319" y="6807"/>
                  </a:lnTo>
                  <a:lnTo>
                    <a:pt x="3396" y="6819"/>
                  </a:lnTo>
                  <a:lnTo>
                    <a:pt x="3473" y="6828"/>
                  </a:lnTo>
                  <a:lnTo>
                    <a:pt x="3551" y="6834"/>
                  </a:lnTo>
                  <a:lnTo>
                    <a:pt x="3628" y="6837"/>
                  </a:lnTo>
                  <a:lnTo>
                    <a:pt x="3706" y="6837"/>
                  </a:lnTo>
                  <a:lnTo>
                    <a:pt x="3783" y="6833"/>
                  </a:lnTo>
                  <a:lnTo>
                    <a:pt x="3861" y="6827"/>
                  </a:lnTo>
                  <a:lnTo>
                    <a:pt x="3938" y="6818"/>
                  </a:lnTo>
                  <a:lnTo>
                    <a:pt x="4014" y="6806"/>
                  </a:lnTo>
                  <a:lnTo>
                    <a:pt x="4089" y="6791"/>
                  </a:lnTo>
                  <a:lnTo>
                    <a:pt x="4163" y="6772"/>
                  </a:lnTo>
                  <a:lnTo>
                    <a:pt x="4236" y="6751"/>
                  </a:lnTo>
                  <a:lnTo>
                    <a:pt x="4309" y="6727"/>
                  </a:lnTo>
                  <a:lnTo>
                    <a:pt x="4379" y="6700"/>
                  </a:lnTo>
                  <a:lnTo>
                    <a:pt x="4449" y="6670"/>
                  </a:lnTo>
                  <a:lnTo>
                    <a:pt x="4517" y="6637"/>
                  </a:lnTo>
                  <a:lnTo>
                    <a:pt x="4583" y="6602"/>
                  </a:lnTo>
                  <a:lnTo>
                    <a:pt x="4647" y="6564"/>
                  </a:lnTo>
                  <a:lnTo>
                    <a:pt x="4709" y="6523"/>
                  </a:lnTo>
                  <a:lnTo>
                    <a:pt x="4769" y="6479"/>
                  </a:lnTo>
                  <a:lnTo>
                    <a:pt x="4827" y="6432"/>
                  </a:lnTo>
                  <a:lnTo>
                    <a:pt x="4882" y="6384"/>
                  </a:lnTo>
                  <a:lnTo>
                    <a:pt x="4934" y="6332"/>
                  </a:lnTo>
                  <a:lnTo>
                    <a:pt x="4984" y="6277"/>
                  </a:lnTo>
                  <a:lnTo>
                    <a:pt x="4982" y="6288"/>
                  </a:lnTo>
                  <a:lnTo>
                    <a:pt x="5002" y="6301"/>
                  </a:lnTo>
                  <a:lnTo>
                    <a:pt x="5024" y="6312"/>
                  </a:lnTo>
                  <a:lnTo>
                    <a:pt x="5044" y="6322"/>
                  </a:lnTo>
                  <a:lnTo>
                    <a:pt x="5065" y="6332"/>
                  </a:lnTo>
                  <a:lnTo>
                    <a:pt x="5086" y="6340"/>
                  </a:lnTo>
                  <a:lnTo>
                    <a:pt x="5107" y="6348"/>
                  </a:lnTo>
                  <a:lnTo>
                    <a:pt x="5127" y="6356"/>
                  </a:lnTo>
                  <a:lnTo>
                    <a:pt x="5149" y="6362"/>
                  </a:lnTo>
                  <a:lnTo>
                    <a:pt x="5169" y="6369"/>
                  </a:lnTo>
                  <a:lnTo>
                    <a:pt x="5189" y="6375"/>
                  </a:lnTo>
                  <a:lnTo>
                    <a:pt x="5210" y="6379"/>
                  </a:lnTo>
                  <a:lnTo>
                    <a:pt x="5231" y="6383"/>
                  </a:lnTo>
                  <a:lnTo>
                    <a:pt x="5251" y="6386"/>
                  </a:lnTo>
                  <a:lnTo>
                    <a:pt x="5271" y="6388"/>
                  </a:lnTo>
                  <a:lnTo>
                    <a:pt x="5293" y="6390"/>
                  </a:lnTo>
                  <a:lnTo>
                    <a:pt x="5313" y="6391"/>
                  </a:lnTo>
                  <a:lnTo>
                    <a:pt x="5333" y="6391"/>
                  </a:lnTo>
                  <a:lnTo>
                    <a:pt x="5355" y="6391"/>
                  </a:lnTo>
                  <a:lnTo>
                    <a:pt x="5375" y="6390"/>
                  </a:lnTo>
                  <a:lnTo>
                    <a:pt x="5395" y="6388"/>
                  </a:lnTo>
                  <a:lnTo>
                    <a:pt x="5417" y="6385"/>
                  </a:lnTo>
                  <a:lnTo>
                    <a:pt x="5437" y="6382"/>
                  </a:lnTo>
                  <a:lnTo>
                    <a:pt x="5457" y="6378"/>
                  </a:lnTo>
                  <a:lnTo>
                    <a:pt x="5478" y="6373"/>
                  </a:lnTo>
                  <a:lnTo>
                    <a:pt x="5499" y="6368"/>
                  </a:lnTo>
                  <a:lnTo>
                    <a:pt x="5520" y="6360"/>
                  </a:lnTo>
                  <a:lnTo>
                    <a:pt x="5540" y="6354"/>
                  </a:lnTo>
                  <a:lnTo>
                    <a:pt x="5562" y="6346"/>
                  </a:lnTo>
                  <a:lnTo>
                    <a:pt x="5583" y="6338"/>
                  </a:lnTo>
                  <a:lnTo>
                    <a:pt x="5603" y="6329"/>
                  </a:lnTo>
                  <a:lnTo>
                    <a:pt x="5625" y="6319"/>
                  </a:lnTo>
                  <a:lnTo>
                    <a:pt x="5646" y="6309"/>
                  </a:lnTo>
                  <a:lnTo>
                    <a:pt x="5698" y="6279"/>
                  </a:lnTo>
                  <a:lnTo>
                    <a:pt x="5748" y="6246"/>
                  </a:lnTo>
                  <a:lnTo>
                    <a:pt x="5797" y="6208"/>
                  </a:lnTo>
                  <a:lnTo>
                    <a:pt x="5845" y="6168"/>
                  </a:lnTo>
                  <a:lnTo>
                    <a:pt x="5891" y="6123"/>
                  </a:lnTo>
                  <a:lnTo>
                    <a:pt x="5935" y="6074"/>
                  </a:lnTo>
                  <a:lnTo>
                    <a:pt x="5977" y="6022"/>
                  </a:lnTo>
                  <a:lnTo>
                    <a:pt x="6018" y="5968"/>
                  </a:lnTo>
                  <a:lnTo>
                    <a:pt x="6057" y="5910"/>
                  </a:lnTo>
                  <a:lnTo>
                    <a:pt x="6095" y="5849"/>
                  </a:lnTo>
                  <a:lnTo>
                    <a:pt x="6130" y="5785"/>
                  </a:lnTo>
                  <a:lnTo>
                    <a:pt x="6164" y="5719"/>
                  </a:lnTo>
                  <a:lnTo>
                    <a:pt x="6195" y="5650"/>
                  </a:lnTo>
                  <a:lnTo>
                    <a:pt x="6225" y="5579"/>
                  </a:lnTo>
                  <a:lnTo>
                    <a:pt x="6252" y="5505"/>
                  </a:lnTo>
                  <a:lnTo>
                    <a:pt x="6277" y="5430"/>
                  </a:lnTo>
                  <a:lnTo>
                    <a:pt x="6301" y="5353"/>
                  </a:lnTo>
                  <a:lnTo>
                    <a:pt x="6321" y="5272"/>
                  </a:lnTo>
                  <a:lnTo>
                    <a:pt x="6340" y="5192"/>
                  </a:lnTo>
                  <a:lnTo>
                    <a:pt x="6356" y="5110"/>
                  </a:lnTo>
                  <a:lnTo>
                    <a:pt x="6371" y="5026"/>
                  </a:lnTo>
                  <a:lnTo>
                    <a:pt x="6383" y="4941"/>
                  </a:lnTo>
                  <a:lnTo>
                    <a:pt x="6392" y="4855"/>
                  </a:lnTo>
                  <a:lnTo>
                    <a:pt x="6399" y="4768"/>
                  </a:lnTo>
                  <a:lnTo>
                    <a:pt x="6403" y="4681"/>
                  </a:lnTo>
                  <a:lnTo>
                    <a:pt x="6405" y="4592"/>
                  </a:lnTo>
                  <a:lnTo>
                    <a:pt x="6404" y="4503"/>
                  </a:lnTo>
                  <a:lnTo>
                    <a:pt x="6401" y="4414"/>
                  </a:lnTo>
                  <a:lnTo>
                    <a:pt x="6395" y="4326"/>
                  </a:lnTo>
                  <a:lnTo>
                    <a:pt x="6387" y="4236"/>
                  </a:lnTo>
                  <a:lnTo>
                    <a:pt x="6375" y="4147"/>
                  </a:lnTo>
                  <a:lnTo>
                    <a:pt x="6361" y="4058"/>
                  </a:lnTo>
                  <a:lnTo>
                    <a:pt x="6367" y="4062"/>
                  </a:lnTo>
                  <a:lnTo>
                    <a:pt x="6400" y="4014"/>
                  </a:lnTo>
                  <a:lnTo>
                    <a:pt x="6432" y="3964"/>
                  </a:lnTo>
                  <a:lnTo>
                    <a:pt x="6460" y="3913"/>
                  </a:lnTo>
                  <a:lnTo>
                    <a:pt x="6486" y="3863"/>
                  </a:lnTo>
                  <a:lnTo>
                    <a:pt x="6509" y="3810"/>
                  </a:lnTo>
                  <a:lnTo>
                    <a:pt x="6529" y="3757"/>
                  </a:lnTo>
                  <a:lnTo>
                    <a:pt x="6547" y="3703"/>
                  </a:lnTo>
                  <a:lnTo>
                    <a:pt x="6563" y="3650"/>
                  </a:lnTo>
                  <a:lnTo>
                    <a:pt x="6575" y="3596"/>
                  </a:lnTo>
                  <a:lnTo>
                    <a:pt x="6584" y="3541"/>
                  </a:lnTo>
                  <a:lnTo>
                    <a:pt x="6591" y="3485"/>
                  </a:lnTo>
                  <a:lnTo>
                    <a:pt x="6595" y="3430"/>
                  </a:lnTo>
                  <a:lnTo>
                    <a:pt x="6597" y="3376"/>
                  </a:lnTo>
                  <a:lnTo>
                    <a:pt x="6596" y="3320"/>
                  </a:lnTo>
                  <a:lnTo>
                    <a:pt x="6593" y="3265"/>
                  </a:lnTo>
                  <a:lnTo>
                    <a:pt x="6587" y="3210"/>
                  </a:lnTo>
                  <a:lnTo>
                    <a:pt x="6578" y="3155"/>
                  </a:lnTo>
                  <a:lnTo>
                    <a:pt x="6567" y="3102"/>
                  </a:lnTo>
                  <a:lnTo>
                    <a:pt x="6553" y="3048"/>
                  </a:lnTo>
                  <a:lnTo>
                    <a:pt x="6537" y="2995"/>
                  </a:lnTo>
                  <a:lnTo>
                    <a:pt x="6518" y="2943"/>
                  </a:lnTo>
                  <a:lnTo>
                    <a:pt x="6497" y="2891"/>
                  </a:lnTo>
                  <a:lnTo>
                    <a:pt x="6473" y="2841"/>
                  </a:lnTo>
                  <a:lnTo>
                    <a:pt x="6447" y="2791"/>
                  </a:lnTo>
                  <a:lnTo>
                    <a:pt x="6418" y="2743"/>
                  </a:lnTo>
                  <a:lnTo>
                    <a:pt x="6387" y="2696"/>
                  </a:lnTo>
                  <a:lnTo>
                    <a:pt x="6353" y="2650"/>
                  </a:lnTo>
                  <a:lnTo>
                    <a:pt x="6317" y="2605"/>
                  </a:lnTo>
                  <a:lnTo>
                    <a:pt x="6278" y="2563"/>
                  </a:lnTo>
                  <a:lnTo>
                    <a:pt x="6238" y="2521"/>
                  </a:lnTo>
                  <a:lnTo>
                    <a:pt x="6194" y="2481"/>
                  </a:lnTo>
                  <a:lnTo>
                    <a:pt x="6148" y="2443"/>
                  </a:lnTo>
                  <a:close/>
                </a:path>
              </a:pathLst>
            </a:custGeom>
            <a:noFill/>
            <a:ln w="792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087880" y="2363760"/>
              <a:ext cx="176400" cy="49320"/>
            </a:xfrm>
            <a:custGeom>
              <a:avLst/>
              <a:gdLst/>
              <a:ahLst/>
              <a:rect l="l" t="t" r="r" b="b"/>
              <a:pathLst>
                <a:path w="3103" h="877">
                  <a:moveTo>
                    <a:pt x="0" y="242"/>
                  </a:moveTo>
                  <a:lnTo>
                    <a:pt x="0" y="636"/>
                  </a:lnTo>
                  <a:lnTo>
                    <a:pt x="2666" y="636"/>
                  </a:lnTo>
                  <a:lnTo>
                    <a:pt x="2666" y="877"/>
                  </a:lnTo>
                  <a:lnTo>
                    <a:pt x="3103" y="444"/>
                  </a:lnTo>
                  <a:lnTo>
                    <a:pt x="2666" y="0"/>
                  </a:lnTo>
                  <a:lnTo>
                    <a:pt x="2666" y="24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76720" y="2266920"/>
              <a:ext cx="163800" cy="96840"/>
            </a:xfrm>
            <a:custGeom>
              <a:avLst/>
              <a:gdLst/>
              <a:ahLst/>
              <a:rect l="l" t="t" r="r" b="b"/>
              <a:pathLst>
                <a:path w="2897" h="1704">
                  <a:moveTo>
                    <a:pt x="2314" y="0"/>
                  </a:moveTo>
                  <a:lnTo>
                    <a:pt x="2417" y="220"/>
                  </a:lnTo>
                  <a:lnTo>
                    <a:pt x="0" y="1347"/>
                  </a:lnTo>
                  <a:lnTo>
                    <a:pt x="165" y="1704"/>
                  </a:lnTo>
                  <a:lnTo>
                    <a:pt x="2582" y="576"/>
                  </a:lnTo>
                  <a:lnTo>
                    <a:pt x="2685" y="794"/>
                  </a:lnTo>
                  <a:lnTo>
                    <a:pt x="2897" y="219"/>
                  </a:lnTo>
                  <a:lnTo>
                    <a:pt x="23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76720" y="2411280"/>
              <a:ext cx="163800" cy="96840"/>
            </a:xfrm>
            <a:custGeom>
              <a:avLst/>
              <a:gdLst/>
              <a:ahLst/>
              <a:rect l="l" t="t" r="r" b="b"/>
              <a:pathLst>
                <a:path w="2897" h="1704">
                  <a:moveTo>
                    <a:pt x="2314" y="1704"/>
                  </a:moveTo>
                  <a:lnTo>
                    <a:pt x="2417" y="1484"/>
                  </a:lnTo>
                  <a:lnTo>
                    <a:pt x="0" y="357"/>
                  </a:lnTo>
                  <a:lnTo>
                    <a:pt x="165" y="0"/>
                  </a:lnTo>
                  <a:lnTo>
                    <a:pt x="2582" y="1128"/>
                  </a:lnTo>
                  <a:lnTo>
                    <a:pt x="2685" y="910"/>
                  </a:lnTo>
                  <a:lnTo>
                    <a:pt x="2897" y="1485"/>
                  </a:lnTo>
                  <a:lnTo>
                    <a:pt x="2314" y="17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091120" y="2367000"/>
              <a:ext cx="176040" cy="50760"/>
            </a:xfrm>
            <a:custGeom>
              <a:avLst/>
              <a:gdLst/>
              <a:ahLst/>
              <a:rect l="l" t="t" r="r" b="b"/>
              <a:pathLst>
                <a:path w="3103" h="877">
                  <a:moveTo>
                    <a:pt x="0" y="243"/>
                  </a:moveTo>
                  <a:lnTo>
                    <a:pt x="0" y="636"/>
                  </a:lnTo>
                  <a:lnTo>
                    <a:pt x="2666" y="636"/>
                  </a:lnTo>
                  <a:lnTo>
                    <a:pt x="2666" y="877"/>
                  </a:lnTo>
                  <a:lnTo>
                    <a:pt x="3103" y="444"/>
                  </a:lnTo>
                  <a:lnTo>
                    <a:pt x="2666" y="0"/>
                  </a:lnTo>
                  <a:lnTo>
                    <a:pt x="2666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079960" y="2270160"/>
              <a:ext cx="165240" cy="96840"/>
            </a:xfrm>
            <a:custGeom>
              <a:avLst/>
              <a:gdLst/>
              <a:ahLst/>
              <a:rect l="l" t="t" r="r" b="b"/>
              <a:pathLst>
                <a:path w="2897" h="1703">
                  <a:moveTo>
                    <a:pt x="2314" y="0"/>
                  </a:moveTo>
                  <a:lnTo>
                    <a:pt x="2417" y="220"/>
                  </a:lnTo>
                  <a:lnTo>
                    <a:pt x="0" y="1346"/>
                  </a:lnTo>
                  <a:lnTo>
                    <a:pt x="166" y="1703"/>
                  </a:lnTo>
                  <a:lnTo>
                    <a:pt x="2583" y="576"/>
                  </a:lnTo>
                  <a:lnTo>
                    <a:pt x="2685" y="794"/>
                  </a:lnTo>
                  <a:lnTo>
                    <a:pt x="2897" y="218"/>
                  </a:lnTo>
                  <a:lnTo>
                    <a:pt x="23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079960" y="2416320"/>
              <a:ext cx="165240" cy="96840"/>
            </a:xfrm>
            <a:custGeom>
              <a:avLst/>
              <a:gdLst/>
              <a:ahLst/>
              <a:rect l="l" t="t" r="r" b="b"/>
              <a:pathLst>
                <a:path w="2897" h="1704">
                  <a:moveTo>
                    <a:pt x="2314" y="1704"/>
                  </a:moveTo>
                  <a:lnTo>
                    <a:pt x="2417" y="1484"/>
                  </a:lnTo>
                  <a:lnTo>
                    <a:pt x="0" y="357"/>
                  </a:lnTo>
                  <a:lnTo>
                    <a:pt x="166" y="0"/>
                  </a:lnTo>
                  <a:lnTo>
                    <a:pt x="2583" y="1128"/>
                  </a:lnTo>
                  <a:lnTo>
                    <a:pt x="2685" y="910"/>
                  </a:lnTo>
                  <a:lnTo>
                    <a:pt x="2897" y="1486"/>
                  </a:lnTo>
                  <a:lnTo>
                    <a:pt x="2314" y="17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640400" y="2363760"/>
              <a:ext cx="174600" cy="49320"/>
            </a:xfrm>
            <a:custGeom>
              <a:avLst/>
              <a:gdLst/>
              <a:ahLst/>
              <a:rect l="l" t="t" r="r" b="b"/>
              <a:pathLst>
                <a:path w="3103" h="877">
                  <a:moveTo>
                    <a:pt x="3103" y="243"/>
                  </a:moveTo>
                  <a:lnTo>
                    <a:pt x="3103" y="636"/>
                  </a:lnTo>
                  <a:lnTo>
                    <a:pt x="436" y="636"/>
                  </a:lnTo>
                  <a:lnTo>
                    <a:pt x="436" y="877"/>
                  </a:lnTo>
                  <a:lnTo>
                    <a:pt x="0" y="444"/>
                  </a:lnTo>
                  <a:lnTo>
                    <a:pt x="436" y="0"/>
                  </a:lnTo>
                  <a:lnTo>
                    <a:pt x="436" y="243"/>
                  </a:lnTo>
                  <a:lnTo>
                    <a:pt x="3103" y="24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662360" y="2266920"/>
              <a:ext cx="163800" cy="96840"/>
            </a:xfrm>
            <a:custGeom>
              <a:avLst/>
              <a:gdLst/>
              <a:ahLst/>
              <a:rect l="l" t="t" r="r" b="b"/>
              <a:pathLst>
                <a:path w="2897" h="1703">
                  <a:moveTo>
                    <a:pt x="582" y="0"/>
                  </a:moveTo>
                  <a:lnTo>
                    <a:pt x="480" y="220"/>
                  </a:lnTo>
                  <a:lnTo>
                    <a:pt x="2897" y="1346"/>
                  </a:lnTo>
                  <a:lnTo>
                    <a:pt x="2731" y="1703"/>
                  </a:lnTo>
                  <a:lnTo>
                    <a:pt x="315" y="576"/>
                  </a:lnTo>
                  <a:lnTo>
                    <a:pt x="212" y="794"/>
                  </a:lnTo>
                  <a:lnTo>
                    <a:pt x="0" y="218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62360" y="2413080"/>
              <a:ext cx="163800" cy="95040"/>
            </a:xfrm>
            <a:custGeom>
              <a:avLst/>
              <a:gdLst/>
              <a:ahLst/>
              <a:rect l="l" t="t" r="r" b="b"/>
              <a:pathLst>
                <a:path w="2897" h="1704">
                  <a:moveTo>
                    <a:pt x="582" y="1704"/>
                  </a:moveTo>
                  <a:lnTo>
                    <a:pt x="480" y="1484"/>
                  </a:lnTo>
                  <a:lnTo>
                    <a:pt x="2897" y="357"/>
                  </a:lnTo>
                  <a:lnTo>
                    <a:pt x="2731" y="0"/>
                  </a:lnTo>
                  <a:lnTo>
                    <a:pt x="315" y="1128"/>
                  </a:lnTo>
                  <a:lnTo>
                    <a:pt x="212" y="910"/>
                  </a:lnTo>
                  <a:lnTo>
                    <a:pt x="0" y="1486"/>
                  </a:lnTo>
                  <a:lnTo>
                    <a:pt x="582" y="170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35360" y="2367000"/>
              <a:ext cx="176400" cy="50760"/>
            </a:xfrm>
            <a:custGeom>
              <a:avLst/>
              <a:gdLst/>
              <a:ahLst/>
              <a:rect l="l" t="t" r="r" b="b"/>
              <a:pathLst>
                <a:path w="3103" h="876">
                  <a:moveTo>
                    <a:pt x="3103" y="242"/>
                  </a:moveTo>
                  <a:lnTo>
                    <a:pt x="3103" y="635"/>
                  </a:lnTo>
                  <a:lnTo>
                    <a:pt x="435" y="635"/>
                  </a:lnTo>
                  <a:lnTo>
                    <a:pt x="435" y="876"/>
                  </a:lnTo>
                  <a:lnTo>
                    <a:pt x="0" y="444"/>
                  </a:lnTo>
                  <a:lnTo>
                    <a:pt x="435" y="0"/>
                  </a:lnTo>
                  <a:lnTo>
                    <a:pt x="435" y="242"/>
                  </a:lnTo>
                  <a:lnTo>
                    <a:pt x="3103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57680" y="2270160"/>
              <a:ext cx="165240" cy="96840"/>
            </a:xfrm>
            <a:custGeom>
              <a:avLst/>
              <a:gdLst/>
              <a:ahLst/>
              <a:rect l="l" t="t" r="r" b="b"/>
              <a:pathLst>
                <a:path w="2898" h="1703">
                  <a:moveTo>
                    <a:pt x="584" y="0"/>
                  </a:moveTo>
                  <a:lnTo>
                    <a:pt x="481" y="220"/>
                  </a:lnTo>
                  <a:lnTo>
                    <a:pt x="2898" y="1346"/>
                  </a:lnTo>
                  <a:lnTo>
                    <a:pt x="2731" y="1703"/>
                  </a:lnTo>
                  <a:lnTo>
                    <a:pt x="315" y="576"/>
                  </a:lnTo>
                  <a:lnTo>
                    <a:pt x="213" y="794"/>
                  </a:lnTo>
                  <a:lnTo>
                    <a:pt x="0" y="218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57680" y="2416320"/>
              <a:ext cx="165240" cy="96840"/>
            </a:xfrm>
            <a:custGeom>
              <a:avLst/>
              <a:gdLst/>
              <a:ahLst/>
              <a:rect l="l" t="t" r="r" b="b"/>
              <a:pathLst>
                <a:path w="2898" h="1703">
                  <a:moveTo>
                    <a:pt x="584" y="1703"/>
                  </a:moveTo>
                  <a:lnTo>
                    <a:pt x="481" y="1483"/>
                  </a:lnTo>
                  <a:lnTo>
                    <a:pt x="2898" y="357"/>
                  </a:lnTo>
                  <a:lnTo>
                    <a:pt x="2731" y="0"/>
                  </a:lnTo>
                  <a:lnTo>
                    <a:pt x="315" y="1128"/>
                  </a:lnTo>
                  <a:lnTo>
                    <a:pt x="213" y="910"/>
                  </a:lnTo>
                  <a:lnTo>
                    <a:pt x="0" y="1485"/>
                  </a:lnTo>
                  <a:lnTo>
                    <a:pt x="584" y="17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849920" y="2346480"/>
              <a:ext cx="201600" cy="66600"/>
            </a:xfrm>
            <a:custGeom>
              <a:avLst/>
              <a:gdLst/>
              <a:ahLst/>
              <a:rect l="l" t="t" r="r" b="b"/>
              <a:pathLst>
                <a:path w="3545" h="1179">
                  <a:moveTo>
                    <a:pt x="3545" y="595"/>
                  </a:moveTo>
                  <a:lnTo>
                    <a:pt x="3109" y="0"/>
                  </a:lnTo>
                  <a:lnTo>
                    <a:pt x="3109" y="244"/>
                  </a:lnTo>
                  <a:lnTo>
                    <a:pt x="436" y="246"/>
                  </a:lnTo>
                  <a:lnTo>
                    <a:pt x="436" y="3"/>
                  </a:lnTo>
                  <a:lnTo>
                    <a:pt x="0" y="597"/>
                  </a:lnTo>
                  <a:lnTo>
                    <a:pt x="436" y="1179"/>
                  </a:lnTo>
                  <a:lnTo>
                    <a:pt x="436" y="938"/>
                  </a:lnTo>
                  <a:lnTo>
                    <a:pt x="3109" y="936"/>
                  </a:lnTo>
                  <a:lnTo>
                    <a:pt x="3109" y="1176"/>
                  </a:lnTo>
                  <a:lnTo>
                    <a:pt x="3545" y="5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853160" y="2349360"/>
              <a:ext cx="199800" cy="66960"/>
            </a:xfrm>
            <a:custGeom>
              <a:avLst/>
              <a:gdLst/>
              <a:ahLst/>
              <a:rect l="l" t="t" r="r" b="b"/>
              <a:pathLst>
                <a:path w="3546" h="1178">
                  <a:moveTo>
                    <a:pt x="3546" y="594"/>
                  </a:moveTo>
                  <a:lnTo>
                    <a:pt x="3109" y="0"/>
                  </a:lnTo>
                  <a:lnTo>
                    <a:pt x="3109" y="243"/>
                  </a:lnTo>
                  <a:lnTo>
                    <a:pt x="437" y="245"/>
                  </a:lnTo>
                  <a:lnTo>
                    <a:pt x="437" y="2"/>
                  </a:lnTo>
                  <a:lnTo>
                    <a:pt x="0" y="596"/>
                  </a:lnTo>
                  <a:lnTo>
                    <a:pt x="437" y="1178"/>
                  </a:lnTo>
                  <a:lnTo>
                    <a:pt x="437" y="937"/>
                  </a:lnTo>
                  <a:lnTo>
                    <a:pt x="3109" y="935"/>
                  </a:lnTo>
                  <a:lnTo>
                    <a:pt x="3109" y="1176"/>
                  </a:lnTo>
                  <a:lnTo>
                    <a:pt x="3546" y="5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3276720" y="5640480"/>
            <a:ext cx="868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4567320" y="2765520"/>
            <a:ext cx="850320" cy="1089000"/>
            <a:chOff x="4567320" y="2765520"/>
            <a:chExt cx="850320" cy="1089000"/>
          </a:xfrm>
        </p:grpSpPr>
        <p:sp>
          <p:nvSpPr>
            <p:cNvPr id="1016" name=""/>
            <p:cNvSpPr/>
            <p:nvPr/>
          </p:nvSpPr>
          <p:spPr>
            <a:xfrm>
              <a:off x="4570200" y="2865600"/>
              <a:ext cx="747360" cy="985680"/>
            </a:xfrm>
            <a:prstGeom prst="rect">
              <a:avLst/>
            </a:pr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67320" y="2865600"/>
              <a:ext cx="6120" cy="988920"/>
            </a:xfrm>
            <a:custGeom>
              <a:avLst/>
              <a:gdLst/>
              <a:ahLst/>
              <a:rect l="l" t="t" r="r" b="b"/>
              <a:pathLst>
                <a:path w="108" h="14952">
                  <a:moveTo>
                    <a:pt x="53" y="14952"/>
                  </a:moveTo>
                  <a:lnTo>
                    <a:pt x="108" y="14898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4898"/>
                  </a:lnTo>
                  <a:lnTo>
                    <a:pt x="53" y="1495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0200" y="3846600"/>
              <a:ext cx="750600" cy="7920"/>
            </a:xfrm>
            <a:custGeom>
              <a:avLst/>
              <a:gdLst/>
              <a:ahLst/>
              <a:rect l="l" t="t" r="r" b="b"/>
              <a:pathLst>
                <a:path w="11357" h="108">
                  <a:moveTo>
                    <a:pt x="11357" y="54"/>
                  </a:moveTo>
                  <a:lnTo>
                    <a:pt x="11302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11302" y="108"/>
                  </a:lnTo>
                  <a:lnTo>
                    <a:pt x="11357" y="54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314680" y="2862360"/>
              <a:ext cx="6120" cy="988920"/>
            </a:xfrm>
            <a:custGeom>
              <a:avLst/>
              <a:gdLst/>
              <a:ahLst/>
              <a:rect l="l" t="t" r="r" b="b"/>
              <a:pathLst>
                <a:path w="108" h="14953">
                  <a:moveTo>
                    <a:pt x="53" y="0"/>
                  </a:moveTo>
                  <a:lnTo>
                    <a:pt x="0" y="55"/>
                  </a:lnTo>
                  <a:lnTo>
                    <a:pt x="0" y="14953"/>
                  </a:lnTo>
                  <a:lnTo>
                    <a:pt x="108" y="14953"/>
                  </a:lnTo>
                  <a:lnTo>
                    <a:pt x="108" y="55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567320" y="2862360"/>
              <a:ext cx="750600" cy="6480"/>
            </a:xfrm>
            <a:custGeom>
              <a:avLst/>
              <a:gdLst/>
              <a:ahLst/>
              <a:rect l="l" t="t" r="r" b="b"/>
              <a:pathLst>
                <a:path w="11355" h="108">
                  <a:moveTo>
                    <a:pt x="0" y="55"/>
                  </a:moveTo>
                  <a:lnTo>
                    <a:pt x="53" y="108"/>
                  </a:lnTo>
                  <a:lnTo>
                    <a:pt x="11355" y="108"/>
                  </a:lnTo>
                  <a:lnTo>
                    <a:pt x="11355" y="0"/>
                  </a:lnTo>
                  <a:lnTo>
                    <a:pt x="5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70200" y="2768760"/>
              <a:ext cx="844200" cy="96840"/>
            </a:xfrm>
            <a:custGeom>
              <a:avLst/>
              <a:gdLst/>
              <a:ahLst/>
              <a:rect l="l" t="t" r="r" b="b"/>
              <a:pathLst>
                <a:path w="12758" h="1458">
                  <a:moveTo>
                    <a:pt x="0" y="1458"/>
                  </a:moveTo>
                  <a:lnTo>
                    <a:pt x="1459" y="0"/>
                  </a:lnTo>
                  <a:lnTo>
                    <a:pt x="12758" y="0"/>
                  </a:lnTo>
                  <a:lnTo>
                    <a:pt x="11302" y="1458"/>
                  </a:lnTo>
                  <a:lnTo>
                    <a:pt x="0" y="1458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68760" y="2765520"/>
              <a:ext cx="101160" cy="103320"/>
            </a:xfrm>
            <a:custGeom>
              <a:avLst/>
              <a:gdLst/>
              <a:ahLst/>
              <a:rect l="l" t="t" r="r" b="b"/>
              <a:pathLst>
                <a:path w="1534" h="1550">
                  <a:moveTo>
                    <a:pt x="1496" y="0"/>
                  </a:moveTo>
                  <a:lnTo>
                    <a:pt x="1458" y="15"/>
                  </a:lnTo>
                  <a:lnTo>
                    <a:pt x="0" y="1474"/>
                  </a:lnTo>
                  <a:lnTo>
                    <a:pt x="75" y="1550"/>
                  </a:lnTo>
                  <a:lnTo>
                    <a:pt x="1534" y="93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667040" y="2765520"/>
              <a:ext cx="748800" cy="7920"/>
            </a:xfrm>
            <a:custGeom>
              <a:avLst/>
              <a:gdLst/>
              <a:ahLst/>
              <a:rect l="l" t="t" r="r" b="b"/>
              <a:pathLst>
                <a:path w="11337" h="108">
                  <a:moveTo>
                    <a:pt x="11337" y="93"/>
                  </a:moveTo>
                  <a:lnTo>
                    <a:pt x="11299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11299" y="108"/>
                  </a:lnTo>
                  <a:lnTo>
                    <a:pt x="11337" y="93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316480" y="2766960"/>
              <a:ext cx="99360" cy="101880"/>
            </a:xfrm>
            <a:custGeom>
              <a:avLst/>
              <a:gdLst/>
              <a:ahLst/>
              <a:rect l="l" t="t" r="r" b="b"/>
              <a:pathLst>
                <a:path w="1532" h="1550">
                  <a:moveTo>
                    <a:pt x="38" y="1550"/>
                  </a:moveTo>
                  <a:lnTo>
                    <a:pt x="76" y="1535"/>
                  </a:lnTo>
                  <a:lnTo>
                    <a:pt x="1532" y="78"/>
                  </a:lnTo>
                  <a:lnTo>
                    <a:pt x="1455" y="0"/>
                  </a:lnTo>
                  <a:lnTo>
                    <a:pt x="0" y="1459"/>
                  </a:lnTo>
                  <a:lnTo>
                    <a:pt x="38" y="155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68760" y="2862360"/>
              <a:ext cx="748800" cy="6480"/>
            </a:xfrm>
            <a:custGeom>
              <a:avLst/>
              <a:gdLst/>
              <a:ahLst/>
              <a:rect l="l" t="t" r="r" b="b"/>
              <a:pathLst>
                <a:path w="11339" h="108">
                  <a:moveTo>
                    <a:pt x="0" y="17"/>
                  </a:moveTo>
                  <a:lnTo>
                    <a:pt x="37" y="108"/>
                  </a:lnTo>
                  <a:lnTo>
                    <a:pt x="11339" y="108"/>
                  </a:lnTo>
                  <a:lnTo>
                    <a:pt x="11339" y="0"/>
                  </a:lnTo>
                  <a:lnTo>
                    <a:pt x="3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17920" y="2768760"/>
              <a:ext cx="96480" cy="1082520"/>
            </a:xfrm>
            <a:custGeom>
              <a:avLst/>
              <a:gdLst/>
              <a:ahLst/>
              <a:rect l="l" t="t" r="r" b="b"/>
              <a:pathLst>
                <a:path w="1456" h="16356">
                  <a:moveTo>
                    <a:pt x="0" y="1458"/>
                  </a:moveTo>
                  <a:lnTo>
                    <a:pt x="1456" y="0"/>
                  </a:lnTo>
                  <a:lnTo>
                    <a:pt x="1456" y="14895"/>
                  </a:lnTo>
                  <a:lnTo>
                    <a:pt x="0" y="16356"/>
                  </a:lnTo>
                  <a:lnTo>
                    <a:pt x="0" y="1458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316480" y="2766960"/>
              <a:ext cx="101160" cy="101880"/>
            </a:xfrm>
            <a:custGeom>
              <a:avLst/>
              <a:gdLst/>
              <a:ahLst/>
              <a:rect l="l" t="t" r="r" b="b"/>
              <a:pathLst>
                <a:path w="1547" h="1535">
                  <a:moveTo>
                    <a:pt x="1547" y="39"/>
                  </a:moveTo>
                  <a:lnTo>
                    <a:pt x="1455" y="0"/>
                  </a:lnTo>
                  <a:lnTo>
                    <a:pt x="0" y="1459"/>
                  </a:lnTo>
                  <a:lnTo>
                    <a:pt x="76" y="1535"/>
                  </a:lnTo>
                  <a:lnTo>
                    <a:pt x="1532" y="78"/>
                  </a:lnTo>
                  <a:lnTo>
                    <a:pt x="1547" y="39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411520" y="2768760"/>
              <a:ext cx="6120" cy="987480"/>
            </a:xfrm>
            <a:custGeom>
              <a:avLst/>
              <a:gdLst/>
              <a:ahLst/>
              <a:rect l="l" t="t" r="r" b="b"/>
              <a:pathLst>
                <a:path w="108" h="14933">
                  <a:moveTo>
                    <a:pt x="93" y="14933"/>
                  </a:moveTo>
                  <a:lnTo>
                    <a:pt x="108" y="14895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14895"/>
                  </a:lnTo>
                  <a:lnTo>
                    <a:pt x="93" y="14933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14680" y="3751200"/>
              <a:ext cx="101160" cy="101880"/>
            </a:xfrm>
            <a:custGeom>
              <a:avLst/>
              <a:gdLst/>
              <a:ahLst/>
              <a:rect l="l" t="t" r="r" b="b"/>
              <a:pathLst>
                <a:path w="1547" h="1537">
                  <a:moveTo>
                    <a:pt x="0" y="1499"/>
                  </a:moveTo>
                  <a:lnTo>
                    <a:pt x="91" y="1537"/>
                  </a:lnTo>
                  <a:lnTo>
                    <a:pt x="1547" y="76"/>
                  </a:lnTo>
                  <a:lnTo>
                    <a:pt x="1470" y="0"/>
                  </a:lnTo>
                  <a:lnTo>
                    <a:pt x="15" y="1461"/>
                  </a:lnTo>
                  <a:lnTo>
                    <a:pt x="0" y="1499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314680" y="2862360"/>
              <a:ext cx="6120" cy="988920"/>
            </a:xfrm>
            <a:custGeom>
              <a:avLst/>
              <a:gdLst/>
              <a:ahLst/>
              <a:rect l="l" t="t" r="r" b="b"/>
              <a:pathLst>
                <a:path w="108" h="14936">
                  <a:moveTo>
                    <a:pt x="15" y="0"/>
                  </a:moveTo>
                  <a:lnTo>
                    <a:pt x="0" y="38"/>
                  </a:lnTo>
                  <a:lnTo>
                    <a:pt x="0" y="14936"/>
                  </a:lnTo>
                  <a:lnTo>
                    <a:pt x="108" y="14936"/>
                  </a:lnTo>
                  <a:lnTo>
                    <a:pt x="108" y="3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33560" y="2919600"/>
              <a:ext cx="595080" cy="877680"/>
            </a:xfrm>
            <a:custGeom>
              <a:avLst/>
              <a:gdLst/>
              <a:ahLst/>
              <a:rect l="l" t="t" r="r" b="b"/>
              <a:pathLst>
                <a:path w="8992" h="13267">
                  <a:moveTo>
                    <a:pt x="6810" y="4249"/>
                  </a:moveTo>
                  <a:lnTo>
                    <a:pt x="8992" y="4249"/>
                  </a:lnTo>
                  <a:lnTo>
                    <a:pt x="8992" y="3278"/>
                  </a:lnTo>
                  <a:lnTo>
                    <a:pt x="6810" y="3278"/>
                  </a:lnTo>
                  <a:lnTo>
                    <a:pt x="6810" y="0"/>
                  </a:lnTo>
                  <a:lnTo>
                    <a:pt x="2004" y="3454"/>
                  </a:lnTo>
                  <a:lnTo>
                    <a:pt x="2004" y="6148"/>
                  </a:lnTo>
                  <a:lnTo>
                    <a:pt x="0" y="6148"/>
                  </a:lnTo>
                  <a:lnTo>
                    <a:pt x="0" y="7127"/>
                  </a:lnTo>
                  <a:lnTo>
                    <a:pt x="2004" y="7127"/>
                  </a:lnTo>
                  <a:lnTo>
                    <a:pt x="2004" y="9819"/>
                  </a:lnTo>
                  <a:lnTo>
                    <a:pt x="6810" y="13267"/>
                  </a:lnTo>
                  <a:lnTo>
                    <a:pt x="6810" y="10011"/>
                  </a:lnTo>
                  <a:lnTo>
                    <a:pt x="8992" y="10011"/>
                  </a:lnTo>
                  <a:lnTo>
                    <a:pt x="8992" y="9041"/>
                  </a:lnTo>
                  <a:lnTo>
                    <a:pt x="6810" y="9041"/>
                  </a:lnTo>
                  <a:lnTo>
                    <a:pt x="6810" y="7129"/>
                  </a:lnTo>
                  <a:lnTo>
                    <a:pt x="8992" y="7129"/>
                  </a:lnTo>
                  <a:lnTo>
                    <a:pt x="8992" y="6160"/>
                  </a:lnTo>
                  <a:lnTo>
                    <a:pt x="6810" y="6160"/>
                  </a:lnTo>
                  <a:lnTo>
                    <a:pt x="6810" y="6148"/>
                  </a:lnTo>
                  <a:lnTo>
                    <a:pt x="6810" y="42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27440" y="2911680"/>
              <a:ext cx="593280" cy="877680"/>
            </a:xfrm>
            <a:custGeom>
              <a:avLst/>
              <a:gdLst/>
              <a:ahLst/>
              <a:rect l="l" t="t" r="r" b="b"/>
              <a:pathLst>
                <a:path w="8992" h="13267">
                  <a:moveTo>
                    <a:pt x="6811" y="4249"/>
                  </a:moveTo>
                  <a:lnTo>
                    <a:pt x="8992" y="4249"/>
                  </a:lnTo>
                  <a:lnTo>
                    <a:pt x="8992" y="3279"/>
                  </a:lnTo>
                  <a:lnTo>
                    <a:pt x="6811" y="3279"/>
                  </a:lnTo>
                  <a:lnTo>
                    <a:pt x="6811" y="0"/>
                  </a:lnTo>
                  <a:lnTo>
                    <a:pt x="2004" y="3454"/>
                  </a:lnTo>
                  <a:lnTo>
                    <a:pt x="2004" y="6149"/>
                  </a:lnTo>
                  <a:lnTo>
                    <a:pt x="0" y="6149"/>
                  </a:lnTo>
                  <a:lnTo>
                    <a:pt x="0" y="7127"/>
                  </a:lnTo>
                  <a:lnTo>
                    <a:pt x="2004" y="7127"/>
                  </a:lnTo>
                  <a:lnTo>
                    <a:pt x="2004" y="9819"/>
                  </a:lnTo>
                  <a:lnTo>
                    <a:pt x="6811" y="13267"/>
                  </a:lnTo>
                  <a:lnTo>
                    <a:pt x="6811" y="10012"/>
                  </a:lnTo>
                  <a:lnTo>
                    <a:pt x="8992" y="10012"/>
                  </a:lnTo>
                  <a:lnTo>
                    <a:pt x="8992" y="9041"/>
                  </a:lnTo>
                  <a:lnTo>
                    <a:pt x="6811" y="9041"/>
                  </a:lnTo>
                  <a:lnTo>
                    <a:pt x="6811" y="7129"/>
                  </a:lnTo>
                  <a:lnTo>
                    <a:pt x="8992" y="7129"/>
                  </a:lnTo>
                  <a:lnTo>
                    <a:pt x="8992" y="6161"/>
                  </a:lnTo>
                  <a:lnTo>
                    <a:pt x="6811" y="6161"/>
                  </a:lnTo>
                  <a:lnTo>
                    <a:pt x="6811" y="6149"/>
                  </a:lnTo>
                  <a:lnTo>
                    <a:pt x="6811" y="4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5526000" y="315756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15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4514760" y="3990960"/>
            <a:ext cx="952200" cy="558360"/>
            <a:chOff x="4514760" y="3990960"/>
            <a:chExt cx="952200" cy="558360"/>
          </a:xfrm>
        </p:grpSpPr>
        <p:sp>
          <p:nvSpPr>
            <p:cNvPr id="1035" name=""/>
            <p:cNvSpPr/>
            <p:nvPr/>
          </p:nvSpPr>
          <p:spPr>
            <a:xfrm>
              <a:off x="4517640" y="4224240"/>
              <a:ext cx="946440" cy="321840"/>
            </a:xfrm>
            <a:custGeom>
              <a:avLst/>
              <a:gdLst/>
              <a:ahLst/>
              <a:rect l="l" t="t" r="r" b="b"/>
              <a:pathLst>
                <a:path w="16100" h="5487">
                  <a:moveTo>
                    <a:pt x="16100" y="2743"/>
                  </a:moveTo>
                  <a:lnTo>
                    <a:pt x="16090" y="2885"/>
                  </a:lnTo>
                  <a:lnTo>
                    <a:pt x="16059" y="3024"/>
                  </a:lnTo>
                  <a:lnTo>
                    <a:pt x="16008" y="3161"/>
                  </a:lnTo>
                  <a:lnTo>
                    <a:pt x="15937" y="3296"/>
                  </a:lnTo>
                  <a:lnTo>
                    <a:pt x="15847" y="3429"/>
                  </a:lnTo>
                  <a:lnTo>
                    <a:pt x="15739" y="3560"/>
                  </a:lnTo>
                  <a:lnTo>
                    <a:pt x="15612" y="3687"/>
                  </a:lnTo>
                  <a:lnTo>
                    <a:pt x="15468" y="3811"/>
                  </a:lnTo>
                  <a:lnTo>
                    <a:pt x="15307" y="3933"/>
                  </a:lnTo>
                  <a:lnTo>
                    <a:pt x="15128" y="4051"/>
                  </a:lnTo>
                  <a:lnTo>
                    <a:pt x="14935" y="4166"/>
                  </a:lnTo>
                  <a:lnTo>
                    <a:pt x="14725" y="4277"/>
                  </a:lnTo>
                  <a:lnTo>
                    <a:pt x="14501" y="4385"/>
                  </a:lnTo>
                  <a:lnTo>
                    <a:pt x="14262" y="4489"/>
                  </a:lnTo>
                  <a:lnTo>
                    <a:pt x="14009" y="4588"/>
                  </a:lnTo>
                  <a:lnTo>
                    <a:pt x="13742" y="4683"/>
                  </a:lnTo>
                  <a:lnTo>
                    <a:pt x="13462" y="4774"/>
                  </a:lnTo>
                  <a:lnTo>
                    <a:pt x="13170" y="4860"/>
                  </a:lnTo>
                  <a:lnTo>
                    <a:pt x="12865" y="4942"/>
                  </a:lnTo>
                  <a:lnTo>
                    <a:pt x="12551" y="5018"/>
                  </a:lnTo>
                  <a:lnTo>
                    <a:pt x="12224" y="5090"/>
                  </a:lnTo>
                  <a:lnTo>
                    <a:pt x="11886" y="5156"/>
                  </a:lnTo>
                  <a:lnTo>
                    <a:pt x="11539" y="5216"/>
                  </a:lnTo>
                  <a:lnTo>
                    <a:pt x="11183" y="5272"/>
                  </a:lnTo>
                  <a:lnTo>
                    <a:pt x="10817" y="5320"/>
                  </a:lnTo>
                  <a:lnTo>
                    <a:pt x="10444" y="5363"/>
                  </a:lnTo>
                  <a:lnTo>
                    <a:pt x="10061" y="5401"/>
                  </a:lnTo>
                  <a:lnTo>
                    <a:pt x="9672" y="5431"/>
                  </a:lnTo>
                  <a:lnTo>
                    <a:pt x="9275" y="5455"/>
                  </a:lnTo>
                  <a:lnTo>
                    <a:pt x="8873" y="5472"/>
                  </a:lnTo>
                  <a:lnTo>
                    <a:pt x="8464" y="5484"/>
                  </a:lnTo>
                  <a:lnTo>
                    <a:pt x="8050" y="5487"/>
                  </a:lnTo>
                  <a:lnTo>
                    <a:pt x="7636" y="5484"/>
                  </a:lnTo>
                  <a:lnTo>
                    <a:pt x="7227" y="5472"/>
                  </a:lnTo>
                  <a:lnTo>
                    <a:pt x="6825" y="5455"/>
                  </a:lnTo>
                  <a:lnTo>
                    <a:pt x="6428" y="5431"/>
                  </a:lnTo>
                  <a:lnTo>
                    <a:pt x="6039" y="5401"/>
                  </a:lnTo>
                  <a:lnTo>
                    <a:pt x="5656" y="5363"/>
                  </a:lnTo>
                  <a:lnTo>
                    <a:pt x="5283" y="5320"/>
                  </a:lnTo>
                  <a:lnTo>
                    <a:pt x="4917" y="5272"/>
                  </a:lnTo>
                  <a:lnTo>
                    <a:pt x="4561" y="5216"/>
                  </a:lnTo>
                  <a:lnTo>
                    <a:pt x="4214" y="5156"/>
                  </a:lnTo>
                  <a:lnTo>
                    <a:pt x="3876" y="5090"/>
                  </a:lnTo>
                  <a:lnTo>
                    <a:pt x="3549" y="5018"/>
                  </a:lnTo>
                  <a:lnTo>
                    <a:pt x="3234" y="4942"/>
                  </a:lnTo>
                  <a:lnTo>
                    <a:pt x="2930" y="4860"/>
                  </a:lnTo>
                  <a:lnTo>
                    <a:pt x="2638" y="4774"/>
                  </a:lnTo>
                  <a:lnTo>
                    <a:pt x="2358" y="4683"/>
                  </a:lnTo>
                  <a:lnTo>
                    <a:pt x="2091" y="4588"/>
                  </a:lnTo>
                  <a:lnTo>
                    <a:pt x="1838" y="4489"/>
                  </a:lnTo>
                  <a:lnTo>
                    <a:pt x="1599" y="4385"/>
                  </a:lnTo>
                  <a:lnTo>
                    <a:pt x="1375" y="4277"/>
                  </a:lnTo>
                  <a:lnTo>
                    <a:pt x="1165" y="4166"/>
                  </a:lnTo>
                  <a:lnTo>
                    <a:pt x="972" y="4051"/>
                  </a:lnTo>
                  <a:lnTo>
                    <a:pt x="793" y="3933"/>
                  </a:lnTo>
                  <a:lnTo>
                    <a:pt x="632" y="3811"/>
                  </a:lnTo>
                  <a:lnTo>
                    <a:pt x="488" y="3687"/>
                  </a:lnTo>
                  <a:lnTo>
                    <a:pt x="361" y="3560"/>
                  </a:lnTo>
                  <a:lnTo>
                    <a:pt x="253" y="3429"/>
                  </a:lnTo>
                  <a:lnTo>
                    <a:pt x="163" y="3296"/>
                  </a:lnTo>
                  <a:lnTo>
                    <a:pt x="92" y="3161"/>
                  </a:lnTo>
                  <a:lnTo>
                    <a:pt x="41" y="3024"/>
                  </a:lnTo>
                  <a:lnTo>
                    <a:pt x="10" y="2885"/>
                  </a:lnTo>
                  <a:lnTo>
                    <a:pt x="0" y="2743"/>
                  </a:lnTo>
                  <a:lnTo>
                    <a:pt x="10" y="2602"/>
                  </a:lnTo>
                  <a:lnTo>
                    <a:pt x="41" y="2463"/>
                  </a:lnTo>
                  <a:lnTo>
                    <a:pt x="92" y="2326"/>
                  </a:lnTo>
                  <a:lnTo>
                    <a:pt x="163" y="2190"/>
                  </a:lnTo>
                  <a:lnTo>
                    <a:pt x="253" y="2058"/>
                  </a:lnTo>
                  <a:lnTo>
                    <a:pt x="361" y="1928"/>
                  </a:lnTo>
                  <a:lnTo>
                    <a:pt x="488" y="1801"/>
                  </a:lnTo>
                  <a:lnTo>
                    <a:pt x="632" y="1676"/>
                  </a:lnTo>
                  <a:lnTo>
                    <a:pt x="793" y="1555"/>
                  </a:lnTo>
                  <a:lnTo>
                    <a:pt x="972" y="1437"/>
                  </a:lnTo>
                  <a:lnTo>
                    <a:pt x="1165" y="1322"/>
                  </a:lnTo>
                  <a:lnTo>
                    <a:pt x="1375" y="1210"/>
                  </a:lnTo>
                  <a:lnTo>
                    <a:pt x="1599" y="1103"/>
                  </a:lnTo>
                  <a:lnTo>
                    <a:pt x="1838" y="999"/>
                  </a:lnTo>
                  <a:lnTo>
                    <a:pt x="2091" y="899"/>
                  </a:lnTo>
                  <a:lnTo>
                    <a:pt x="2358" y="804"/>
                  </a:lnTo>
                  <a:lnTo>
                    <a:pt x="2638" y="713"/>
                  </a:lnTo>
                  <a:lnTo>
                    <a:pt x="2930" y="627"/>
                  </a:lnTo>
                  <a:lnTo>
                    <a:pt x="3234" y="546"/>
                  </a:lnTo>
                  <a:lnTo>
                    <a:pt x="3549" y="469"/>
                  </a:lnTo>
                  <a:lnTo>
                    <a:pt x="3876" y="398"/>
                  </a:lnTo>
                  <a:lnTo>
                    <a:pt x="4214" y="332"/>
                  </a:lnTo>
                  <a:lnTo>
                    <a:pt x="4561" y="270"/>
                  </a:lnTo>
                  <a:lnTo>
                    <a:pt x="4917" y="216"/>
                  </a:lnTo>
                  <a:lnTo>
                    <a:pt x="5283" y="167"/>
                  </a:lnTo>
                  <a:lnTo>
                    <a:pt x="5656" y="123"/>
                  </a:lnTo>
                  <a:lnTo>
                    <a:pt x="6039" y="87"/>
                  </a:lnTo>
                  <a:lnTo>
                    <a:pt x="6428" y="56"/>
                  </a:lnTo>
                  <a:lnTo>
                    <a:pt x="6825" y="31"/>
                  </a:lnTo>
                  <a:lnTo>
                    <a:pt x="7227" y="14"/>
                  </a:lnTo>
                  <a:lnTo>
                    <a:pt x="7636" y="4"/>
                  </a:lnTo>
                  <a:lnTo>
                    <a:pt x="8050" y="0"/>
                  </a:lnTo>
                  <a:lnTo>
                    <a:pt x="8464" y="4"/>
                  </a:lnTo>
                  <a:lnTo>
                    <a:pt x="8873" y="14"/>
                  </a:lnTo>
                  <a:lnTo>
                    <a:pt x="9275" y="31"/>
                  </a:lnTo>
                  <a:lnTo>
                    <a:pt x="9672" y="56"/>
                  </a:lnTo>
                  <a:lnTo>
                    <a:pt x="10061" y="87"/>
                  </a:lnTo>
                  <a:lnTo>
                    <a:pt x="10444" y="123"/>
                  </a:lnTo>
                  <a:lnTo>
                    <a:pt x="10817" y="167"/>
                  </a:lnTo>
                  <a:lnTo>
                    <a:pt x="11183" y="216"/>
                  </a:lnTo>
                  <a:lnTo>
                    <a:pt x="11539" y="270"/>
                  </a:lnTo>
                  <a:lnTo>
                    <a:pt x="11886" y="332"/>
                  </a:lnTo>
                  <a:lnTo>
                    <a:pt x="12224" y="398"/>
                  </a:lnTo>
                  <a:lnTo>
                    <a:pt x="12551" y="469"/>
                  </a:lnTo>
                  <a:lnTo>
                    <a:pt x="12865" y="546"/>
                  </a:lnTo>
                  <a:lnTo>
                    <a:pt x="13170" y="627"/>
                  </a:lnTo>
                  <a:lnTo>
                    <a:pt x="13462" y="713"/>
                  </a:lnTo>
                  <a:lnTo>
                    <a:pt x="13742" y="804"/>
                  </a:lnTo>
                  <a:lnTo>
                    <a:pt x="14009" y="899"/>
                  </a:lnTo>
                  <a:lnTo>
                    <a:pt x="14262" y="999"/>
                  </a:lnTo>
                  <a:lnTo>
                    <a:pt x="14501" y="1103"/>
                  </a:lnTo>
                  <a:lnTo>
                    <a:pt x="14725" y="1210"/>
                  </a:lnTo>
                  <a:lnTo>
                    <a:pt x="14935" y="1322"/>
                  </a:lnTo>
                  <a:lnTo>
                    <a:pt x="15128" y="1437"/>
                  </a:lnTo>
                  <a:lnTo>
                    <a:pt x="15307" y="1555"/>
                  </a:lnTo>
                  <a:lnTo>
                    <a:pt x="15468" y="1676"/>
                  </a:lnTo>
                  <a:lnTo>
                    <a:pt x="15612" y="1801"/>
                  </a:lnTo>
                  <a:lnTo>
                    <a:pt x="15739" y="1928"/>
                  </a:lnTo>
                  <a:lnTo>
                    <a:pt x="15847" y="2058"/>
                  </a:lnTo>
                  <a:lnTo>
                    <a:pt x="15937" y="2190"/>
                  </a:lnTo>
                  <a:lnTo>
                    <a:pt x="16008" y="2326"/>
                  </a:lnTo>
                  <a:lnTo>
                    <a:pt x="16059" y="2463"/>
                  </a:lnTo>
                  <a:lnTo>
                    <a:pt x="16090" y="2602"/>
                  </a:lnTo>
                  <a:lnTo>
                    <a:pt x="16100" y="2743"/>
                  </a:lnTo>
                  <a:close/>
                </a:path>
              </a:pathLst>
            </a:custGeom>
            <a:solidFill>
              <a:srgbClr val="00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987800" y="4385880"/>
              <a:ext cx="479160" cy="163440"/>
            </a:xfrm>
            <a:custGeom>
              <a:avLst/>
              <a:gdLst/>
              <a:ahLst/>
              <a:rect l="l" t="t" r="r" b="b"/>
              <a:pathLst>
                <a:path w="8149" h="2793">
                  <a:moveTo>
                    <a:pt x="49" y="2793"/>
                  </a:moveTo>
                  <a:lnTo>
                    <a:pt x="49" y="2793"/>
                  </a:lnTo>
                  <a:lnTo>
                    <a:pt x="258" y="2792"/>
                  </a:lnTo>
                  <a:lnTo>
                    <a:pt x="464" y="2789"/>
                  </a:lnTo>
                  <a:lnTo>
                    <a:pt x="670" y="2785"/>
                  </a:lnTo>
                  <a:lnTo>
                    <a:pt x="873" y="2779"/>
                  </a:lnTo>
                  <a:lnTo>
                    <a:pt x="1076" y="2771"/>
                  </a:lnTo>
                  <a:lnTo>
                    <a:pt x="1277" y="2761"/>
                  </a:lnTo>
                  <a:lnTo>
                    <a:pt x="1477" y="2750"/>
                  </a:lnTo>
                  <a:lnTo>
                    <a:pt x="1674" y="2738"/>
                  </a:lnTo>
                  <a:lnTo>
                    <a:pt x="1870" y="2722"/>
                  </a:lnTo>
                  <a:lnTo>
                    <a:pt x="2065" y="2706"/>
                  </a:lnTo>
                  <a:lnTo>
                    <a:pt x="2257" y="2688"/>
                  </a:lnTo>
                  <a:lnTo>
                    <a:pt x="2448" y="2669"/>
                  </a:lnTo>
                  <a:lnTo>
                    <a:pt x="2636" y="2649"/>
                  </a:lnTo>
                  <a:lnTo>
                    <a:pt x="2822" y="2627"/>
                  </a:lnTo>
                  <a:lnTo>
                    <a:pt x="3007" y="2602"/>
                  </a:lnTo>
                  <a:lnTo>
                    <a:pt x="3189" y="2577"/>
                  </a:lnTo>
                  <a:lnTo>
                    <a:pt x="3369" y="2550"/>
                  </a:lnTo>
                  <a:lnTo>
                    <a:pt x="3546" y="2522"/>
                  </a:lnTo>
                  <a:lnTo>
                    <a:pt x="3721" y="2492"/>
                  </a:lnTo>
                  <a:lnTo>
                    <a:pt x="3894" y="2461"/>
                  </a:lnTo>
                  <a:lnTo>
                    <a:pt x="4065" y="2429"/>
                  </a:lnTo>
                  <a:lnTo>
                    <a:pt x="4233" y="2394"/>
                  </a:lnTo>
                  <a:lnTo>
                    <a:pt x="4398" y="2359"/>
                  </a:lnTo>
                  <a:lnTo>
                    <a:pt x="4561" y="2323"/>
                  </a:lnTo>
                  <a:lnTo>
                    <a:pt x="4720" y="2286"/>
                  </a:lnTo>
                  <a:lnTo>
                    <a:pt x="4877" y="2246"/>
                  </a:lnTo>
                  <a:lnTo>
                    <a:pt x="5032" y="2206"/>
                  </a:lnTo>
                  <a:lnTo>
                    <a:pt x="5182" y="2164"/>
                  </a:lnTo>
                  <a:lnTo>
                    <a:pt x="5257" y="2143"/>
                  </a:lnTo>
                  <a:lnTo>
                    <a:pt x="5330" y="2122"/>
                  </a:lnTo>
                  <a:lnTo>
                    <a:pt x="5403" y="2100"/>
                  </a:lnTo>
                  <a:lnTo>
                    <a:pt x="5476" y="2078"/>
                  </a:lnTo>
                  <a:lnTo>
                    <a:pt x="5547" y="2055"/>
                  </a:lnTo>
                  <a:lnTo>
                    <a:pt x="5618" y="2032"/>
                  </a:lnTo>
                  <a:lnTo>
                    <a:pt x="5688" y="2010"/>
                  </a:lnTo>
                  <a:lnTo>
                    <a:pt x="5756" y="1987"/>
                  </a:lnTo>
                  <a:lnTo>
                    <a:pt x="5825" y="1963"/>
                  </a:lnTo>
                  <a:lnTo>
                    <a:pt x="5892" y="1939"/>
                  </a:lnTo>
                  <a:lnTo>
                    <a:pt x="5959" y="1915"/>
                  </a:lnTo>
                  <a:lnTo>
                    <a:pt x="6025" y="1891"/>
                  </a:lnTo>
                  <a:lnTo>
                    <a:pt x="6090" y="1866"/>
                  </a:lnTo>
                  <a:lnTo>
                    <a:pt x="6153" y="1842"/>
                  </a:lnTo>
                  <a:lnTo>
                    <a:pt x="6217" y="1816"/>
                  </a:lnTo>
                  <a:lnTo>
                    <a:pt x="6279" y="1790"/>
                  </a:lnTo>
                  <a:lnTo>
                    <a:pt x="6341" y="1765"/>
                  </a:lnTo>
                  <a:lnTo>
                    <a:pt x="6401" y="1739"/>
                  </a:lnTo>
                  <a:lnTo>
                    <a:pt x="6461" y="1712"/>
                  </a:lnTo>
                  <a:lnTo>
                    <a:pt x="6520" y="1686"/>
                  </a:lnTo>
                  <a:lnTo>
                    <a:pt x="6578" y="1659"/>
                  </a:lnTo>
                  <a:lnTo>
                    <a:pt x="6635" y="1633"/>
                  </a:lnTo>
                  <a:lnTo>
                    <a:pt x="6691" y="1606"/>
                  </a:lnTo>
                  <a:lnTo>
                    <a:pt x="6747" y="1578"/>
                  </a:lnTo>
                  <a:lnTo>
                    <a:pt x="6800" y="1550"/>
                  </a:lnTo>
                  <a:lnTo>
                    <a:pt x="6854" y="1522"/>
                  </a:lnTo>
                  <a:lnTo>
                    <a:pt x="6907" y="1494"/>
                  </a:lnTo>
                  <a:lnTo>
                    <a:pt x="6957" y="1465"/>
                  </a:lnTo>
                  <a:lnTo>
                    <a:pt x="7008" y="1437"/>
                  </a:lnTo>
                  <a:lnTo>
                    <a:pt x="7058" y="1408"/>
                  </a:lnTo>
                  <a:lnTo>
                    <a:pt x="7106" y="1378"/>
                  </a:lnTo>
                  <a:lnTo>
                    <a:pt x="7154" y="1349"/>
                  </a:lnTo>
                  <a:lnTo>
                    <a:pt x="7200" y="1320"/>
                  </a:lnTo>
                  <a:lnTo>
                    <a:pt x="7246" y="1290"/>
                  </a:lnTo>
                  <a:lnTo>
                    <a:pt x="7290" y="1259"/>
                  </a:lnTo>
                  <a:lnTo>
                    <a:pt x="7334" y="1229"/>
                  </a:lnTo>
                  <a:lnTo>
                    <a:pt x="7376" y="1199"/>
                  </a:lnTo>
                  <a:lnTo>
                    <a:pt x="7418" y="1169"/>
                  </a:lnTo>
                  <a:lnTo>
                    <a:pt x="7458" y="1137"/>
                  </a:lnTo>
                  <a:lnTo>
                    <a:pt x="7498" y="1106"/>
                  </a:lnTo>
                  <a:lnTo>
                    <a:pt x="7535" y="1075"/>
                  </a:lnTo>
                  <a:lnTo>
                    <a:pt x="7573" y="1044"/>
                  </a:lnTo>
                  <a:lnTo>
                    <a:pt x="7609" y="1011"/>
                  </a:lnTo>
                  <a:lnTo>
                    <a:pt x="7645" y="979"/>
                  </a:lnTo>
                  <a:lnTo>
                    <a:pt x="7678" y="947"/>
                  </a:lnTo>
                  <a:lnTo>
                    <a:pt x="7712" y="914"/>
                  </a:lnTo>
                  <a:lnTo>
                    <a:pt x="7743" y="882"/>
                  </a:lnTo>
                  <a:lnTo>
                    <a:pt x="7774" y="849"/>
                  </a:lnTo>
                  <a:lnTo>
                    <a:pt x="7804" y="817"/>
                  </a:lnTo>
                  <a:lnTo>
                    <a:pt x="7832" y="782"/>
                  </a:lnTo>
                  <a:lnTo>
                    <a:pt x="7859" y="749"/>
                  </a:lnTo>
                  <a:lnTo>
                    <a:pt x="7886" y="716"/>
                  </a:lnTo>
                  <a:lnTo>
                    <a:pt x="7910" y="681"/>
                  </a:lnTo>
                  <a:lnTo>
                    <a:pt x="7934" y="647"/>
                  </a:lnTo>
                  <a:lnTo>
                    <a:pt x="7957" y="613"/>
                  </a:lnTo>
                  <a:lnTo>
                    <a:pt x="7978" y="578"/>
                  </a:lnTo>
                  <a:lnTo>
                    <a:pt x="7998" y="544"/>
                  </a:lnTo>
                  <a:lnTo>
                    <a:pt x="8017" y="509"/>
                  </a:lnTo>
                  <a:lnTo>
                    <a:pt x="8036" y="473"/>
                  </a:lnTo>
                  <a:lnTo>
                    <a:pt x="8052" y="438"/>
                  </a:lnTo>
                  <a:lnTo>
                    <a:pt x="8067" y="403"/>
                  </a:lnTo>
                  <a:lnTo>
                    <a:pt x="8081" y="367"/>
                  </a:lnTo>
                  <a:lnTo>
                    <a:pt x="8093" y="331"/>
                  </a:lnTo>
                  <a:lnTo>
                    <a:pt x="8105" y="295"/>
                  </a:lnTo>
                  <a:lnTo>
                    <a:pt x="8116" y="259"/>
                  </a:lnTo>
                  <a:lnTo>
                    <a:pt x="8124" y="222"/>
                  </a:lnTo>
                  <a:lnTo>
                    <a:pt x="8132" y="186"/>
                  </a:lnTo>
                  <a:lnTo>
                    <a:pt x="8138" y="149"/>
                  </a:lnTo>
                  <a:lnTo>
                    <a:pt x="8143" y="112"/>
                  </a:lnTo>
                  <a:lnTo>
                    <a:pt x="8146" y="75"/>
                  </a:lnTo>
                  <a:lnTo>
                    <a:pt x="8148" y="38"/>
                  </a:lnTo>
                  <a:lnTo>
                    <a:pt x="8149" y="0"/>
                  </a:lnTo>
                  <a:lnTo>
                    <a:pt x="8051" y="0"/>
                  </a:lnTo>
                  <a:lnTo>
                    <a:pt x="8050" y="35"/>
                  </a:lnTo>
                  <a:lnTo>
                    <a:pt x="8048" y="68"/>
                  </a:lnTo>
                  <a:lnTo>
                    <a:pt x="8045" y="101"/>
                  </a:lnTo>
                  <a:lnTo>
                    <a:pt x="8041" y="135"/>
                  </a:lnTo>
                  <a:lnTo>
                    <a:pt x="8036" y="168"/>
                  </a:lnTo>
                  <a:lnTo>
                    <a:pt x="8029" y="201"/>
                  </a:lnTo>
                  <a:lnTo>
                    <a:pt x="8020" y="234"/>
                  </a:lnTo>
                  <a:lnTo>
                    <a:pt x="8011" y="268"/>
                  </a:lnTo>
                  <a:lnTo>
                    <a:pt x="8001" y="300"/>
                  </a:lnTo>
                  <a:lnTo>
                    <a:pt x="7989" y="333"/>
                  </a:lnTo>
                  <a:lnTo>
                    <a:pt x="7976" y="366"/>
                  </a:lnTo>
                  <a:lnTo>
                    <a:pt x="7963" y="399"/>
                  </a:lnTo>
                  <a:lnTo>
                    <a:pt x="7947" y="431"/>
                  </a:lnTo>
                  <a:lnTo>
                    <a:pt x="7930" y="463"/>
                  </a:lnTo>
                  <a:lnTo>
                    <a:pt x="7913" y="496"/>
                  </a:lnTo>
                  <a:lnTo>
                    <a:pt x="7894" y="528"/>
                  </a:lnTo>
                  <a:lnTo>
                    <a:pt x="7875" y="560"/>
                  </a:lnTo>
                  <a:lnTo>
                    <a:pt x="7852" y="593"/>
                  </a:lnTo>
                  <a:lnTo>
                    <a:pt x="7830" y="625"/>
                  </a:lnTo>
                  <a:lnTo>
                    <a:pt x="7807" y="656"/>
                  </a:lnTo>
                  <a:lnTo>
                    <a:pt x="7782" y="688"/>
                  </a:lnTo>
                  <a:lnTo>
                    <a:pt x="7756" y="721"/>
                  </a:lnTo>
                  <a:lnTo>
                    <a:pt x="7730" y="752"/>
                  </a:lnTo>
                  <a:lnTo>
                    <a:pt x="7701" y="783"/>
                  </a:lnTo>
                  <a:lnTo>
                    <a:pt x="7672" y="815"/>
                  </a:lnTo>
                  <a:lnTo>
                    <a:pt x="7642" y="846"/>
                  </a:lnTo>
                  <a:lnTo>
                    <a:pt x="7610" y="877"/>
                  </a:lnTo>
                  <a:lnTo>
                    <a:pt x="7578" y="907"/>
                  </a:lnTo>
                  <a:lnTo>
                    <a:pt x="7544" y="939"/>
                  </a:lnTo>
                  <a:lnTo>
                    <a:pt x="7509" y="969"/>
                  </a:lnTo>
                  <a:lnTo>
                    <a:pt x="7473" y="1000"/>
                  </a:lnTo>
                  <a:lnTo>
                    <a:pt x="7436" y="1030"/>
                  </a:lnTo>
                  <a:lnTo>
                    <a:pt x="7398" y="1061"/>
                  </a:lnTo>
                  <a:lnTo>
                    <a:pt x="7358" y="1090"/>
                  </a:lnTo>
                  <a:lnTo>
                    <a:pt x="7319" y="1120"/>
                  </a:lnTo>
                  <a:lnTo>
                    <a:pt x="7277" y="1149"/>
                  </a:lnTo>
                  <a:lnTo>
                    <a:pt x="7235" y="1180"/>
                  </a:lnTo>
                  <a:lnTo>
                    <a:pt x="7191" y="1209"/>
                  </a:lnTo>
                  <a:lnTo>
                    <a:pt x="7147" y="1238"/>
                  </a:lnTo>
                  <a:lnTo>
                    <a:pt x="7101" y="1267"/>
                  </a:lnTo>
                  <a:lnTo>
                    <a:pt x="7056" y="1296"/>
                  </a:lnTo>
                  <a:lnTo>
                    <a:pt x="7008" y="1324"/>
                  </a:lnTo>
                  <a:lnTo>
                    <a:pt x="6959" y="1352"/>
                  </a:lnTo>
                  <a:lnTo>
                    <a:pt x="6910" y="1381"/>
                  </a:lnTo>
                  <a:lnTo>
                    <a:pt x="6859" y="1408"/>
                  </a:lnTo>
                  <a:lnTo>
                    <a:pt x="6807" y="1436"/>
                  </a:lnTo>
                  <a:lnTo>
                    <a:pt x="6756" y="1463"/>
                  </a:lnTo>
                  <a:lnTo>
                    <a:pt x="6702" y="1490"/>
                  </a:lnTo>
                  <a:lnTo>
                    <a:pt x="6647" y="1518"/>
                  </a:lnTo>
                  <a:lnTo>
                    <a:pt x="6593" y="1544"/>
                  </a:lnTo>
                  <a:lnTo>
                    <a:pt x="6536" y="1571"/>
                  </a:lnTo>
                  <a:lnTo>
                    <a:pt x="6479" y="1597"/>
                  </a:lnTo>
                  <a:lnTo>
                    <a:pt x="6422" y="1624"/>
                  </a:lnTo>
                  <a:lnTo>
                    <a:pt x="6362" y="1649"/>
                  </a:lnTo>
                  <a:lnTo>
                    <a:pt x="6302" y="1675"/>
                  </a:lnTo>
                  <a:lnTo>
                    <a:pt x="6242" y="1700"/>
                  </a:lnTo>
                  <a:lnTo>
                    <a:pt x="6180" y="1726"/>
                  </a:lnTo>
                  <a:lnTo>
                    <a:pt x="6118" y="1750"/>
                  </a:lnTo>
                  <a:lnTo>
                    <a:pt x="6054" y="1775"/>
                  </a:lnTo>
                  <a:lnTo>
                    <a:pt x="5990" y="1799"/>
                  </a:lnTo>
                  <a:lnTo>
                    <a:pt x="5926" y="1823"/>
                  </a:lnTo>
                  <a:lnTo>
                    <a:pt x="5860" y="1848"/>
                  </a:lnTo>
                  <a:lnTo>
                    <a:pt x="5793" y="1871"/>
                  </a:lnTo>
                  <a:lnTo>
                    <a:pt x="5725" y="1894"/>
                  </a:lnTo>
                  <a:lnTo>
                    <a:pt x="5656" y="1917"/>
                  </a:lnTo>
                  <a:lnTo>
                    <a:pt x="5587" y="1939"/>
                  </a:lnTo>
                  <a:lnTo>
                    <a:pt x="5518" y="1963"/>
                  </a:lnTo>
                  <a:lnTo>
                    <a:pt x="5447" y="1985"/>
                  </a:lnTo>
                  <a:lnTo>
                    <a:pt x="5375" y="2006"/>
                  </a:lnTo>
                  <a:lnTo>
                    <a:pt x="5303" y="2028"/>
                  </a:lnTo>
                  <a:lnTo>
                    <a:pt x="5230" y="2049"/>
                  </a:lnTo>
                  <a:lnTo>
                    <a:pt x="5156" y="2071"/>
                  </a:lnTo>
                  <a:lnTo>
                    <a:pt x="5006" y="2111"/>
                  </a:lnTo>
                  <a:lnTo>
                    <a:pt x="4853" y="2151"/>
                  </a:lnTo>
                  <a:lnTo>
                    <a:pt x="4697" y="2191"/>
                  </a:lnTo>
                  <a:lnTo>
                    <a:pt x="4538" y="2228"/>
                  </a:lnTo>
                  <a:lnTo>
                    <a:pt x="4376" y="2264"/>
                  </a:lnTo>
                  <a:lnTo>
                    <a:pt x="4212" y="2299"/>
                  </a:lnTo>
                  <a:lnTo>
                    <a:pt x="4046" y="2332"/>
                  </a:lnTo>
                  <a:lnTo>
                    <a:pt x="3876" y="2365"/>
                  </a:lnTo>
                  <a:lnTo>
                    <a:pt x="3705" y="2395"/>
                  </a:lnTo>
                  <a:lnTo>
                    <a:pt x="3530" y="2425"/>
                  </a:lnTo>
                  <a:lnTo>
                    <a:pt x="3354" y="2453"/>
                  </a:lnTo>
                  <a:lnTo>
                    <a:pt x="3175" y="2480"/>
                  </a:lnTo>
                  <a:lnTo>
                    <a:pt x="2993" y="2505"/>
                  </a:lnTo>
                  <a:lnTo>
                    <a:pt x="2810" y="2529"/>
                  </a:lnTo>
                  <a:lnTo>
                    <a:pt x="2625" y="2551"/>
                  </a:lnTo>
                  <a:lnTo>
                    <a:pt x="2437" y="2572"/>
                  </a:lnTo>
                  <a:lnTo>
                    <a:pt x="2247" y="2591"/>
                  </a:lnTo>
                  <a:lnTo>
                    <a:pt x="2056" y="2608"/>
                  </a:lnTo>
                  <a:lnTo>
                    <a:pt x="1862" y="2625"/>
                  </a:lnTo>
                  <a:lnTo>
                    <a:pt x="1668" y="2640"/>
                  </a:lnTo>
                  <a:lnTo>
                    <a:pt x="1471" y="2653"/>
                  </a:lnTo>
                  <a:lnTo>
                    <a:pt x="1272" y="2664"/>
                  </a:lnTo>
                  <a:lnTo>
                    <a:pt x="1072" y="2673"/>
                  </a:lnTo>
                  <a:lnTo>
                    <a:pt x="870" y="2681"/>
                  </a:lnTo>
                  <a:lnTo>
                    <a:pt x="667" y="2687"/>
                  </a:lnTo>
                  <a:lnTo>
                    <a:pt x="462" y="2692"/>
                  </a:lnTo>
                  <a:lnTo>
                    <a:pt x="257" y="2694"/>
                  </a:lnTo>
                  <a:lnTo>
                    <a:pt x="49" y="2695"/>
                  </a:lnTo>
                  <a:lnTo>
                    <a:pt x="49" y="2695"/>
                  </a:lnTo>
                  <a:lnTo>
                    <a:pt x="49" y="2695"/>
                  </a:lnTo>
                  <a:lnTo>
                    <a:pt x="43" y="2695"/>
                  </a:lnTo>
                  <a:lnTo>
                    <a:pt x="38" y="2696"/>
                  </a:lnTo>
                  <a:lnTo>
                    <a:pt x="33" y="2697"/>
                  </a:lnTo>
                  <a:lnTo>
                    <a:pt x="28" y="2699"/>
                  </a:lnTo>
                  <a:lnTo>
                    <a:pt x="23" y="2701"/>
                  </a:lnTo>
                  <a:lnTo>
                    <a:pt x="19" y="2704"/>
                  </a:lnTo>
                  <a:lnTo>
                    <a:pt x="16" y="2707"/>
                  </a:lnTo>
                  <a:lnTo>
                    <a:pt x="13" y="2710"/>
                  </a:lnTo>
                  <a:lnTo>
                    <a:pt x="6" y="2717"/>
                  </a:lnTo>
                  <a:lnTo>
                    <a:pt x="3" y="2726"/>
                  </a:lnTo>
                  <a:lnTo>
                    <a:pt x="0" y="2734"/>
                  </a:lnTo>
                  <a:lnTo>
                    <a:pt x="0" y="2744"/>
                  </a:lnTo>
                  <a:lnTo>
                    <a:pt x="0" y="2754"/>
                  </a:lnTo>
                  <a:lnTo>
                    <a:pt x="3" y="2762"/>
                  </a:lnTo>
                  <a:lnTo>
                    <a:pt x="6" y="2771"/>
                  </a:lnTo>
                  <a:lnTo>
                    <a:pt x="13" y="2778"/>
                  </a:lnTo>
                  <a:lnTo>
                    <a:pt x="16" y="2781"/>
                  </a:lnTo>
                  <a:lnTo>
                    <a:pt x="19" y="2784"/>
                  </a:lnTo>
                  <a:lnTo>
                    <a:pt x="23" y="2787"/>
                  </a:lnTo>
                  <a:lnTo>
                    <a:pt x="28" y="2789"/>
                  </a:lnTo>
                  <a:lnTo>
                    <a:pt x="33" y="2791"/>
                  </a:lnTo>
                  <a:lnTo>
                    <a:pt x="38" y="2792"/>
                  </a:lnTo>
                  <a:lnTo>
                    <a:pt x="43" y="2793"/>
                  </a:lnTo>
                  <a:lnTo>
                    <a:pt x="49" y="2793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514760" y="4383000"/>
              <a:ext cx="475920" cy="166320"/>
            </a:xfrm>
            <a:custGeom>
              <a:avLst/>
              <a:gdLst/>
              <a:ahLst/>
              <a:rect l="l" t="t" r="r" b="b"/>
              <a:pathLst>
                <a:path w="8100" h="2841">
                  <a:moveTo>
                    <a:pt x="0" y="48"/>
                  </a:moveTo>
                  <a:lnTo>
                    <a:pt x="0" y="48"/>
                  </a:lnTo>
                  <a:lnTo>
                    <a:pt x="1" y="86"/>
                  </a:lnTo>
                  <a:lnTo>
                    <a:pt x="3" y="123"/>
                  </a:lnTo>
                  <a:lnTo>
                    <a:pt x="6" y="160"/>
                  </a:lnTo>
                  <a:lnTo>
                    <a:pt x="11" y="197"/>
                  </a:lnTo>
                  <a:lnTo>
                    <a:pt x="17" y="234"/>
                  </a:lnTo>
                  <a:lnTo>
                    <a:pt x="24" y="270"/>
                  </a:lnTo>
                  <a:lnTo>
                    <a:pt x="33" y="307"/>
                  </a:lnTo>
                  <a:lnTo>
                    <a:pt x="44" y="343"/>
                  </a:lnTo>
                  <a:lnTo>
                    <a:pt x="55" y="379"/>
                  </a:lnTo>
                  <a:lnTo>
                    <a:pt x="68" y="415"/>
                  </a:lnTo>
                  <a:lnTo>
                    <a:pt x="82" y="451"/>
                  </a:lnTo>
                  <a:lnTo>
                    <a:pt x="97" y="486"/>
                  </a:lnTo>
                  <a:lnTo>
                    <a:pt x="113" y="521"/>
                  </a:lnTo>
                  <a:lnTo>
                    <a:pt x="132" y="557"/>
                  </a:lnTo>
                  <a:lnTo>
                    <a:pt x="151" y="592"/>
                  </a:lnTo>
                  <a:lnTo>
                    <a:pt x="171" y="626"/>
                  </a:lnTo>
                  <a:lnTo>
                    <a:pt x="192" y="661"/>
                  </a:lnTo>
                  <a:lnTo>
                    <a:pt x="215" y="695"/>
                  </a:lnTo>
                  <a:lnTo>
                    <a:pt x="239" y="729"/>
                  </a:lnTo>
                  <a:lnTo>
                    <a:pt x="263" y="764"/>
                  </a:lnTo>
                  <a:lnTo>
                    <a:pt x="290" y="797"/>
                  </a:lnTo>
                  <a:lnTo>
                    <a:pt x="317" y="830"/>
                  </a:lnTo>
                  <a:lnTo>
                    <a:pt x="345" y="865"/>
                  </a:lnTo>
                  <a:lnTo>
                    <a:pt x="375" y="897"/>
                  </a:lnTo>
                  <a:lnTo>
                    <a:pt x="406" y="930"/>
                  </a:lnTo>
                  <a:lnTo>
                    <a:pt x="437" y="962"/>
                  </a:lnTo>
                  <a:lnTo>
                    <a:pt x="471" y="995"/>
                  </a:lnTo>
                  <a:lnTo>
                    <a:pt x="504" y="1027"/>
                  </a:lnTo>
                  <a:lnTo>
                    <a:pt x="540" y="1059"/>
                  </a:lnTo>
                  <a:lnTo>
                    <a:pt x="576" y="1092"/>
                  </a:lnTo>
                  <a:lnTo>
                    <a:pt x="613" y="1123"/>
                  </a:lnTo>
                  <a:lnTo>
                    <a:pt x="651" y="1154"/>
                  </a:lnTo>
                  <a:lnTo>
                    <a:pt x="691" y="1185"/>
                  </a:lnTo>
                  <a:lnTo>
                    <a:pt x="731" y="1217"/>
                  </a:lnTo>
                  <a:lnTo>
                    <a:pt x="773" y="1247"/>
                  </a:lnTo>
                  <a:lnTo>
                    <a:pt x="815" y="1277"/>
                  </a:lnTo>
                  <a:lnTo>
                    <a:pt x="859" y="1307"/>
                  </a:lnTo>
                  <a:lnTo>
                    <a:pt x="903" y="1338"/>
                  </a:lnTo>
                  <a:lnTo>
                    <a:pt x="949" y="1368"/>
                  </a:lnTo>
                  <a:lnTo>
                    <a:pt x="995" y="1397"/>
                  </a:lnTo>
                  <a:lnTo>
                    <a:pt x="1043" y="1426"/>
                  </a:lnTo>
                  <a:lnTo>
                    <a:pt x="1091" y="1456"/>
                  </a:lnTo>
                  <a:lnTo>
                    <a:pt x="1141" y="1485"/>
                  </a:lnTo>
                  <a:lnTo>
                    <a:pt x="1191" y="1513"/>
                  </a:lnTo>
                  <a:lnTo>
                    <a:pt x="1242" y="1542"/>
                  </a:lnTo>
                  <a:lnTo>
                    <a:pt x="1295" y="1570"/>
                  </a:lnTo>
                  <a:lnTo>
                    <a:pt x="1349" y="1598"/>
                  </a:lnTo>
                  <a:lnTo>
                    <a:pt x="1402" y="1626"/>
                  </a:lnTo>
                  <a:lnTo>
                    <a:pt x="1458" y="1654"/>
                  </a:lnTo>
                  <a:lnTo>
                    <a:pt x="1514" y="1681"/>
                  </a:lnTo>
                  <a:lnTo>
                    <a:pt x="1571" y="1707"/>
                  </a:lnTo>
                  <a:lnTo>
                    <a:pt x="1629" y="1734"/>
                  </a:lnTo>
                  <a:lnTo>
                    <a:pt x="1688" y="1760"/>
                  </a:lnTo>
                  <a:lnTo>
                    <a:pt x="1748" y="1787"/>
                  </a:lnTo>
                  <a:lnTo>
                    <a:pt x="1808" y="1813"/>
                  </a:lnTo>
                  <a:lnTo>
                    <a:pt x="1870" y="1838"/>
                  </a:lnTo>
                  <a:lnTo>
                    <a:pt x="1932" y="1864"/>
                  </a:lnTo>
                  <a:lnTo>
                    <a:pt x="1995" y="1890"/>
                  </a:lnTo>
                  <a:lnTo>
                    <a:pt x="2059" y="1914"/>
                  </a:lnTo>
                  <a:lnTo>
                    <a:pt x="2124" y="1939"/>
                  </a:lnTo>
                  <a:lnTo>
                    <a:pt x="2190" y="1963"/>
                  </a:lnTo>
                  <a:lnTo>
                    <a:pt x="2257" y="1987"/>
                  </a:lnTo>
                  <a:lnTo>
                    <a:pt x="2324" y="2011"/>
                  </a:lnTo>
                  <a:lnTo>
                    <a:pt x="2393" y="2035"/>
                  </a:lnTo>
                  <a:lnTo>
                    <a:pt x="2461" y="2058"/>
                  </a:lnTo>
                  <a:lnTo>
                    <a:pt x="2531" y="2080"/>
                  </a:lnTo>
                  <a:lnTo>
                    <a:pt x="2602" y="2103"/>
                  </a:lnTo>
                  <a:lnTo>
                    <a:pt x="2673" y="2126"/>
                  </a:lnTo>
                  <a:lnTo>
                    <a:pt x="2745" y="2148"/>
                  </a:lnTo>
                  <a:lnTo>
                    <a:pt x="2819" y="2170"/>
                  </a:lnTo>
                  <a:lnTo>
                    <a:pt x="2892" y="2191"/>
                  </a:lnTo>
                  <a:lnTo>
                    <a:pt x="2967" y="2212"/>
                  </a:lnTo>
                  <a:lnTo>
                    <a:pt x="3117" y="2254"/>
                  </a:lnTo>
                  <a:lnTo>
                    <a:pt x="3272" y="2294"/>
                  </a:lnTo>
                  <a:lnTo>
                    <a:pt x="3429" y="2334"/>
                  </a:lnTo>
                  <a:lnTo>
                    <a:pt x="3588" y="2371"/>
                  </a:lnTo>
                  <a:lnTo>
                    <a:pt x="3751" y="2407"/>
                  </a:lnTo>
                  <a:lnTo>
                    <a:pt x="3916" y="2442"/>
                  </a:lnTo>
                  <a:lnTo>
                    <a:pt x="4084" y="2477"/>
                  </a:lnTo>
                  <a:lnTo>
                    <a:pt x="4255" y="2509"/>
                  </a:lnTo>
                  <a:lnTo>
                    <a:pt x="4428" y="2540"/>
                  </a:lnTo>
                  <a:lnTo>
                    <a:pt x="4603" y="2570"/>
                  </a:lnTo>
                  <a:lnTo>
                    <a:pt x="4780" y="2598"/>
                  </a:lnTo>
                  <a:lnTo>
                    <a:pt x="4960" y="2625"/>
                  </a:lnTo>
                  <a:lnTo>
                    <a:pt x="5142" y="2650"/>
                  </a:lnTo>
                  <a:lnTo>
                    <a:pt x="5327" y="2675"/>
                  </a:lnTo>
                  <a:lnTo>
                    <a:pt x="5513" y="2697"/>
                  </a:lnTo>
                  <a:lnTo>
                    <a:pt x="5701" y="2717"/>
                  </a:lnTo>
                  <a:lnTo>
                    <a:pt x="5892" y="2736"/>
                  </a:lnTo>
                  <a:lnTo>
                    <a:pt x="6084" y="2754"/>
                  </a:lnTo>
                  <a:lnTo>
                    <a:pt x="6279" y="2770"/>
                  </a:lnTo>
                  <a:lnTo>
                    <a:pt x="6475" y="2786"/>
                  </a:lnTo>
                  <a:lnTo>
                    <a:pt x="6672" y="2798"/>
                  </a:lnTo>
                  <a:lnTo>
                    <a:pt x="6872" y="2809"/>
                  </a:lnTo>
                  <a:lnTo>
                    <a:pt x="7073" y="2819"/>
                  </a:lnTo>
                  <a:lnTo>
                    <a:pt x="7276" y="2827"/>
                  </a:lnTo>
                  <a:lnTo>
                    <a:pt x="7479" y="2833"/>
                  </a:lnTo>
                  <a:lnTo>
                    <a:pt x="7685" y="2837"/>
                  </a:lnTo>
                  <a:lnTo>
                    <a:pt x="7892" y="2840"/>
                  </a:lnTo>
                  <a:lnTo>
                    <a:pt x="8100" y="2841"/>
                  </a:lnTo>
                  <a:lnTo>
                    <a:pt x="8100" y="2743"/>
                  </a:lnTo>
                  <a:lnTo>
                    <a:pt x="7892" y="2742"/>
                  </a:lnTo>
                  <a:lnTo>
                    <a:pt x="7687" y="2740"/>
                  </a:lnTo>
                  <a:lnTo>
                    <a:pt x="7482" y="2735"/>
                  </a:lnTo>
                  <a:lnTo>
                    <a:pt x="7279" y="2729"/>
                  </a:lnTo>
                  <a:lnTo>
                    <a:pt x="7077" y="2721"/>
                  </a:lnTo>
                  <a:lnTo>
                    <a:pt x="6877" y="2712"/>
                  </a:lnTo>
                  <a:lnTo>
                    <a:pt x="6678" y="2701"/>
                  </a:lnTo>
                  <a:lnTo>
                    <a:pt x="6481" y="2688"/>
                  </a:lnTo>
                  <a:lnTo>
                    <a:pt x="6287" y="2673"/>
                  </a:lnTo>
                  <a:lnTo>
                    <a:pt x="6093" y="2656"/>
                  </a:lnTo>
                  <a:lnTo>
                    <a:pt x="5902" y="2639"/>
                  </a:lnTo>
                  <a:lnTo>
                    <a:pt x="5712" y="2620"/>
                  </a:lnTo>
                  <a:lnTo>
                    <a:pt x="5524" y="2599"/>
                  </a:lnTo>
                  <a:lnTo>
                    <a:pt x="5339" y="2577"/>
                  </a:lnTo>
                  <a:lnTo>
                    <a:pt x="5156" y="2553"/>
                  </a:lnTo>
                  <a:lnTo>
                    <a:pt x="4974" y="2528"/>
                  </a:lnTo>
                  <a:lnTo>
                    <a:pt x="4795" y="2501"/>
                  </a:lnTo>
                  <a:lnTo>
                    <a:pt x="4619" y="2473"/>
                  </a:lnTo>
                  <a:lnTo>
                    <a:pt x="4444" y="2443"/>
                  </a:lnTo>
                  <a:lnTo>
                    <a:pt x="4273" y="2413"/>
                  </a:lnTo>
                  <a:lnTo>
                    <a:pt x="4103" y="2380"/>
                  </a:lnTo>
                  <a:lnTo>
                    <a:pt x="3937" y="2347"/>
                  </a:lnTo>
                  <a:lnTo>
                    <a:pt x="3772" y="2312"/>
                  </a:lnTo>
                  <a:lnTo>
                    <a:pt x="3611" y="2276"/>
                  </a:lnTo>
                  <a:lnTo>
                    <a:pt x="3452" y="2239"/>
                  </a:lnTo>
                  <a:lnTo>
                    <a:pt x="3296" y="2199"/>
                  </a:lnTo>
                  <a:lnTo>
                    <a:pt x="3143" y="2159"/>
                  </a:lnTo>
                  <a:lnTo>
                    <a:pt x="2993" y="2119"/>
                  </a:lnTo>
                  <a:lnTo>
                    <a:pt x="2919" y="2097"/>
                  </a:lnTo>
                  <a:lnTo>
                    <a:pt x="2846" y="2076"/>
                  </a:lnTo>
                  <a:lnTo>
                    <a:pt x="2774" y="2054"/>
                  </a:lnTo>
                  <a:lnTo>
                    <a:pt x="2702" y="2033"/>
                  </a:lnTo>
                  <a:lnTo>
                    <a:pt x="2631" y="2011"/>
                  </a:lnTo>
                  <a:lnTo>
                    <a:pt x="2562" y="1987"/>
                  </a:lnTo>
                  <a:lnTo>
                    <a:pt x="2493" y="1965"/>
                  </a:lnTo>
                  <a:lnTo>
                    <a:pt x="2424" y="1942"/>
                  </a:lnTo>
                  <a:lnTo>
                    <a:pt x="2356" y="1919"/>
                  </a:lnTo>
                  <a:lnTo>
                    <a:pt x="2289" y="1896"/>
                  </a:lnTo>
                  <a:lnTo>
                    <a:pt x="2223" y="1871"/>
                  </a:lnTo>
                  <a:lnTo>
                    <a:pt x="2159" y="1847"/>
                  </a:lnTo>
                  <a:lnTo>
                    <a:pt x="2095" y="1823"/>
                  </a:lnTo>
                  <a:lnTo>
                    <a:pt x="2031" y="1798"/>
                  </a:lnTo>
                  <a:lnTo>
                    <a:pt x="1968" y="1774"/>
                  </a:lnTo>
                  <a:lnTo>
                    <a:pt x="1907" y="1748"/>
                  </a:lnTo>
                  <a:lnTo>
                    <a:pt x="1847" y="1723"/>
                  </a:lnTo>
                  <a:lnTo>
                    <a:pt x="1787" y="1697"/>
                  </a:lnTo>
                  <a:lnTo>
                    <a:pt x="1727" y="1672"/>
                  </a:lnTo>
                  <a:lnTo>
                    <a:pt x="1670" y="1645"/>
                  </a:lnTo>
                  <a:lnTo>
                    <a:pt x="1613" y="1619"/>
                  </a:lnTo>
                  <a:lnTo>
                    <a:pt x="1556" y="1592"/>
                  </a:lnTo>
                  <a:lnTo>
                    <a:pt x="1502" y="1566"/>
                  </a:lnTo>
                  <a:lnTo>
                    <a:pt x="1447" y="1538"/>
                  </a:lnTo>
                  <a:lnTo>
                    <a:pt x="1393" y="1511"/>
                  </a:lnTo>
                  <a:lnTo>
                    <a:pt x="1342" y="1484"/>
                  </a:lnTo>
                  <a:lnTo>
                    <a:pt x="1290" y="1456"/>
                  </a:lnTo>
                  <a:lnTo>
                    <a:pt x="1239" y="1429"/>
                  </a:lnTo>
                  <a:lnTo>
                    <a:pt x="1190" y="1400"/>
                  </a:lnTo>
                  <a:lnTo>
                    <a:pt x="1141" y="1372"/>
                  </a:lnTo>
                  <a:lnTo>
                    <a:pt x="1094" y="1344"/>
                  </a:lnTo>
                  <a:lnTo>
                    <a:pt x="1047" y="1315"/>
                  </a:lnTo>
                  <a:lnTo>
                    <a:pt x="1002" y="1286"/>
                  </a:lnTo>
                  <a:lnTo>
                    <a:pt x="958" y="1257"/>
                  </a:lnTo>
                  <a:lnTo>
                    <a:pt x="914" y="1228"/>
                  </a:lnTo>
                  <a:lnTo>
                    <a:pt x="872" y="1197"/>
                  </a:lnTo>
                  <a:lnTo>
                    <a:pt x="830" y="1168"/>
                  </a:lnTo>
                  <a:lnTo>
                    <a:pt x="790" y="1138"/>
                  </a:lnTo>
                  <a:lnTo>
                    <a:pt x="751" y="1109"/>
                  </a:lnTo>
                  <a:lnTo>
                    <a:pt x="713" y="1078"/>
                  </a:lnTo>
                  <a:lnTo>
                    <a:pt x="676" y="1048"/>
                  </a:lnTo>
                  <a:lnTo>
                    <a:pt x="640" y="1017"/>
                  </a:lnTo>
                  <a:lnTo>
                    <a:pt x="605" y="987"/>
                  </a:lnTo>
                  <a:lnTo>
                    <a:pt x="571" y="955"/>
                  </a:lnTo>
                  <a:lnTo>
                    <a:pt x="539" y="925"/>
                  </a:lnTo>
                  <a:lnTo>
                    <a:pt x="507" y="894"/>
                  </a:lnTo>
                  <a:lnTo>
                    <a:pt x="477" y="863"/>
                  </a:lnTo>
                  <a:lnTo>
                    <a:pt x="448" y="831"/>
                  </a:lnTo>
                  <a:lnTo>
                    <a:pt x="419" y="800"/>
                  </a:lnTo>
                  <a:lnTo>
                    <a:pt x="393" y="769"/>
                  </a:lnTo>
                  <a:lnTo>
                    <a:pt x="367" y="736"/>
                  </a:lnTo>
                  <a:lnTo>
                    <a:pt x="342" y="705"/>
                  </a:lnTo>
                  <a:lnTo>
                    <a:pt x="318" y="673"/>
                  </a:lnTo>
                  <a:lnTo>
                    <a:pt x="296" y="641"/>
                  </a:lnTo>
                  <a:lnTo>
                    <a:pt x="275" y="608"/>
                  </a:lnTo>
                  <a:lnTo>
                    <a:pt x="255" y="576"/>
                  </a:lnTo>
                  <a:lnTo>
                    <a:pt x="236" y="544"/>
                  </a:lnTo>
                  <a:lnTo>
                    <a:pt x="219" y="511"/>
                  </a:lnTo>
                  <a:lnTo>
                    <a:pt x="201" y="479"/>
                  </a:lnTo>
                  <a:lnTo>
                    <a:pt x="186" y="447"/>
                  </a:lnTo>
                  <a:lnTo>
                    <a:pt x="172" y="414"/>
                  </a:lnTo>
                  <a:lnTo>
                    <a:pt x="160" y="381"/>
                  </a:lnTo>
                  <a:lnTo>
                    <a:pt x="148" y="348"/>
                  </a:lnTo>
                  <a:lnTo>
                    <a:pt x="138" y="316"/>
                  </a:lnTo>
                  <a:lnTo>
                    <a:pt x="129" y="282"/>
                  </a:lnTo>
                  <a:lnTo>
                    <a:pt x="120" y="249"/>
                  </a:lnTo>
                  <a:lnTo>
                    <a:pt x="113" y="216"/>
                  </a:lnTo>
                  <a:lnTo>
                    <a:pt x="108" y="183"/>
                  </a:lnTo>
                  <a:lnTo>
                    <a:pt x="104" y="149"/>
                  </a:lnTo>
                  <a:lnTo>
                    <a:pt x="100" y="116"/>
                  </a:lnTo>
                  <a:lnTo>
                    <a:pt x="99" y="83"/>
                  </a:lnTo>
                  <a:lnTo>
                    <a:pt x="98" y="48"/>
                  </a:lnTo>
                  <a:lnTo>
                    <a:pt x="98" y="48"/>
                  </a:lnTo>
                  <a:lnTo>
                    <a:pt x="98" y="48"/>
                  </a:lnTo>
                  <a:lnTo>
                    <a:pt x="98" y="42"/>
                  </a:lnTo>
                  <a:lnTo>
                    <a:pt x="97" y="37"/>
                  </a:lnTo>
                  <a:lnTo>
                    <a:pt x="96" y="32"/>
                  </a:lnTo>
                  <a:lnTo>
                    <a:pt x="94" y="27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5"/>
                  </a:lnTo>
                  <a:lnTo>
                    <a:pt x="83" y="12"/>
                  </a:lnTo>
                  <a:lnTo>
                    <a:pt x="76" y="7"/>
                  </a:lnTo>
                  <a:lnTo>
                    <a:pt x="67" y="3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31" y="3"/>
                  </a:lnTo>
                  <a:lnTo>
                    <a:pt x="22" y="7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514760" y="4221000"/>
              <a:ext cx="479160" cy="164520"/>
            </a:xfrm>
            <a:custGeom>
              <a:avLst/>
              <a:gdLst/>
              <a:ahLst/>
              <a:rect l="l" t="t" r="r" b="b"/>
              <a:pathLst>
                <a:path w="8150" h="2791">
                  <a:moveTo>
                    <a:pt x="8100" y="0"/>
                  </a:moveTo>
                  <a:lnTo>
                    <a:pt x="8100" y="0"/>
                  </a:lnTo>
                  <a:lnTo>
                    <a:pt x="7892" y="0"/>
                  </a:lnTo>
                  <a:lnTo>
                    <a:pt x="7685" y="3"/>
                  </a:lnTo>
                  <a:lnTo>
                    <a:pt x="7479" y="8"/>
                  </a:lnTo>
                  <a:lnTo>
                    <a:pt x="7276" y="14"/>
                  </a:lnTo>
                  <a:lnTo>
                    <a:pt x="7073" y="22"/>
                  </a:lnTo>
                  <a:lnTo>
                    <a:pt x="6872" y="31"/>
                  </a:lnTo>
                  <a:lnTo>
                    <a:pt x="6672" y="42"/>
                  </a:lnTo>
                  <a:lnTo>
                    <a:pt x="6475" y="55"/>
                  </a:lnTo>
                  <a:lnTo>
                    <a:pt x="6279" y="69"/>
                  </a:lnTo>
                  <a:lnTo>
                    <a:pt x="6084" y="85"/>
                  </a:lnTo>
                  <a:lnTo>
                    <a:pt x="5892" y="104"/>
                  </a:lnTo>
                  <a:lnTo>
                    <a:pt x="5701" y="123"/>
                  </a:lnTo>
                  <a:lnTo>
                    <a:pt x="5513" y="144"/>
                  </a:lnTo>
                  <a:lnTo>
                    <a:pt x="5327" y="166"/>
                  </a:lnTo>
                  <a:lnTo>
                    <a:pt x="5142" y="190"/>
                  </a:lnTo>
                  <a:lnTo>
                    <a:pt x="4960" y="216"/>
                  </a:lnTo>
                  <a:lnTo>
                    <a:pt x="4780" y="243"/>
                  </a:lnTo>
                  <a:lnTo>
                    <a:pt x="4603" y="271"/>
                  </a:lnTo>
                  <a:lnTo>
                    <a:pt x="4428" y="300"/>
                  </a:lnTo>
                  <a:lnTo>
                    <a:pt x="4255" y="332"/>
                  </a:lnTo>
                  <a:lnTo>
                    <a:pt x="4084" y="364"/>
                  </a:lnTo>
                  <a:lnTo>
                    <a:pt x="3916" y="398"/>
                  </a:lnTo>
                  <a:lnTo>
                    <a:pt x="3751" y="432"/>
                  </a:lnTo>
                  <a:lnTo>
                    <a:pt x="3588" y="470"/>
                  </a:lnTo>
                  <a:lnTo>
                    <a:pt x="3429" y="507"/>
                  </a:lnTo>
                  <a:lnTo>
                    <a:pt x="3272" y="546"/>
                  </a:lnTo>
                  <a:lnTo>
                    <a:pt x="3117" y="587"/>
                  </a:lnTo>
                  <a:lnTo>
                    <a:pt x="2967" y="628"/>
                  </a:lnTo>
                  <a:lnTo>
                    <a:pt x="2819" y="671"/>
                  </a:lnTo>
                  <a:lnTo>
                    <a:pt x="2673" y="715"/>
                  </a:lnTo>
                  <a:lnTo>
                    <a:pt x="2602" y="737"/>
                  </a:lnTo>
                  <a:lnTo>
                    <a:pt x="2531" y="759"/>
                  </a:lnTo>
                  <a:lnTo>
                    <a:pt x="2461" y="783"/>
                  </a:lnTo>
                  <a:lnTo>
                    <a:pt x="2393" y="806"/>
                  </a:lnTo>
                  <a:lnTo>
                    <a:pt x="2324" y="829"/>
                  </a:lnTo>
                  <a:lnTo>
                    <a:pt x="2257" y="853"/>
                  </a:lnTo>
                  <a:lnTo>
                    <a:pt x="2190" y="877"/>
                  </a:lnTo>
                  <a:lnTo>
                    <a:pt x="2124" y="902"/>
                  </a:lnTo>
                  <a:lnTo>
                    <a:pt x="2059" y="926"/>
                  </a:lnTo>
                  <a:lnTo>
                    <a:pt x="1995" y="951"/>
                  </a:lnTo>
                  <a:lnTo>
                    <a:pt x="1932" y="976"/>
                  </a:lnTo>
                  <a:lnTo>
                    <a:pt x="1870" y="1001"/>
                  </a:lnTo>
                  <a:lnTo>
                    <a:pt x="1808" y="1028"/>
                  </a:lnTo>
                  <a:lnTo>
                    <a:pt x="1748" y="1053"/>
                  </a:lnTo>
                  <a:lnTo>
                    <a:pt x="1688" y="1079"/>
                  </a:lnTo>
                  <a:lnTo>
                    <a:pt x="1629" y="1106"/>
                  </a:lnTo>
                  <a:lnTo>
                    <a:pt x="1571" y="1133"/>
                  </a:lnTo>
                  <a:lnTo>
                    <a:pt x="1514" y="1160"/>
                  </a:lnTo>
                  <a:lnTo>
                    <a:pt x="1458" y="1187"/>
                  </a:lnTo>
                  <a:lnTo>
                    <a:pt x="1402" y="1214"/>
                  </a:lnTo>
                  <a:lnTo>
                    <a:pt x="1349" y="1243"/>
                  </a:lnTo>
                  <a:lnTo>
                    <a:pt x="1295" y="1270"/>
                  </a:lnTo>
                  <a:lnTo>
                    <a:pt x="1242" y="1298"/>
                  </a:lnTo>
                  <a:lnTo>
                    <a:pt x="1191" y="1326"/>
                  </a:lnTo>
                  <a:lnTo>
                    <a:pt x="1141" y="1356"/>
                  </a:lnTo>
                  <a:lnTo>
                    <a:pt x="1091" y="1384"/>
                  </a:lnTo>
                  <a:lnTo>
                    <a:pt x="1043" y="1413"/>
                  </a:lnTo>
                  <a:lnTo>
                    <a:pt x="995" y="1443"/>
                  </a:lnTo>
                  <a:lnTo>
                    <a:pt x="949" y="1473"/>
                  </a:lnTo>
                  <a:lnTo>
                    <a:pt x="903" y="1503"/>
                  </a:lnTo>
                  <a:lnTo>
                    <a:pt x="859" y="1532"/>
                  </a:lnTo>
                  <a:lnTo>
                    <a:pt x="815" y="1562"/>
                  </a:lnTo>
                  <a:lnTo>
                    <a:pt x="773" y="1594"/>
                  </a:lnTo>
                  <a:lnTo>
                    <a:pt x="731" y="1624"/>
                  </a:lnTo>
                  <a:lnTo>
                    <a:pt x="691" y="1655"/>
                  </a:lnTo>
                  <a:lnTo>
                    <a:pt x="651" y="1686"/>
                  </a:lnTo>
                  <a:lnTo>
                    <a:pt x="613" y="1718"/>
                  </a:lnTo>
                  <a:lnTo>
                    <a:pt x="576" y="1749"/>
                  </a:lnTo>
                  <a:lnTo>
                    <a:pt x="540" y="1781"/>
                  </a:lnTo>
                  <a:lnTo>
                    <a:pt x="504" y="1813"/>
                  </a:lnTo>
                  <a:lnTo>
                    <a:pt x="471" y="1845"/>
                  </a:lnTo>
                  <a:lnTo>
                    <a:pt x="437" y="1877"/>
                  </a:lnTo>
                  <a:lnTo>
                    <a:pt x="406" y="1911"/>
                  </a:lnTo>
                  <a:lnTo>
                    <a:pt x="375" y="1943"/>
                  </a:lnTo>
                  <a:lnTo>
                    <a:pt x="345" y="1976"/>
                  </a:lnTo>
                  <a:lnTo>
                    <a:pt x="317" y="2009"/>
                  </a:lnTo>
                  <a:lnTo>
                    <a:pt x="290" y="2044"/>
                  </a:lnTo>
                  <a:lnTo>
                    <a:pt x="263" y="2077"/>
                  </a:lnTo>
                  <a:lnTo>
                    <a:pt x="239" y="2111"/>
                  </a:lnTo>
                  <a:lnTo>
                    <a:pt x="215" y="2145"/>
                  </a:lnTo>
                  <a:lnTo>
                    <a:pt x="192" y="2179"/>
                  </a:lnTo>
                  <a:lnTo>
                    <a:pt x="171" y="2214"/>
                  </a:lnTo>
                  <a:lnTo>
                    <a:pt x="151" y="2249"/>
                  </a:lnTo>
                  <a:lnTo>
                    <a:pt x="132" y="2284"/>
                  </a:lnTo>
                  <a:lnTo>
                    <a:pt x="113" y="2319"/>
                  </a:lnTo>
                  <a:lnTo>
                    <a:pt x="97" y="2354"/>
                  </a:lnTo>
                  <a:lnTo>
                    <a:pt x="82" y="2390"/>
                  </a:lnTo>
                  <a:lnTo>
                    <a:pt x="68" y="2425"/>
                  </a:lnTo>
                  <a:lnTo>
                    <a:pt x="55" y="2461"/>
                  </a:lnTo>
                  <a:lnTo>
                    <a:pt x="44" y="2498"/>
                  </a:lnTo>
                  <a:lnTo>
                    <a:pt x="33" y="2534"/>
                  </a:lnTo>
                  <a:lnTo>
                    <a:pt x="24" y="2570"/>
                  </a:lnTo>
                  <a:lnTo>
                    <a:pt x="17" y="2607"/>
                  </a:lnTo>
                  <a:lnTo>
                    <a:pt x="11" y="2643"/>
                  </a:lnTo>
                  <a:lnTo>
                    <a:pt x="6" y="2680"/>
                  </a:lnTo>
                  <a:lnTo>
                    <a:pt x="3" y="2718"/>
                  </a:lnTo>
                  <a:lnTo>
                    <a:pt x="1" y="2754"/>
                  </a:lnTo>
                  <a:lnTo>
                    <a:pt x="0" y="2791"/>
                  </a:lnTo>
                  <a:lnTo>
                    <a:pt x="98" y="2791"/>
                  </a:lnTo>
                  <a:lnTo>
                    <a:pt x="99" y="2758"/>
                  </a:lnTo>
                  <a:lnTo>
                    <a:pt x="100" y="2725"/>
                  </a:lnTo>
                  <a:lnTo>
                    <a:pt x="104" y="2691"/>
                  </a:lnTo>
                  <a:lnTo>
                    <a:pt x="108" y="2657"/>
                  </a:lnTo>
                  <a:lnTo>
                    <a:pt x="113" y="2625"/>
                  </a:lnTo>
                  <a:lnTo>
                    <a:pt x="120" y="2592"/>
                  </a:lnTo>
                  <a:lnTo>
                    <a:pt x="129" y="2558"/>
                  </a:lnTo>
                  <a:lnTo>
                    <a:pt x="138" y="2525"/>
                  </a:lnTo>
                  <a:lnTo>
                    <a:pt x="148" y="2493"/>
                  </a:lnTo>
                  <a:lnTo>
                    <a:pt x="160" y="2459"/>
                  </a:lnTo>
                  <a:lnTo>
                    <a:pt x="172" y="2427"/>
                  </a:lnTo>
                  <a:lnTo>
                    <a:pt x="186" y="2394"/>
                  </a:lnTo>
                  <a:lnTo>
                    <a:pt x="201" y="2362"/>
                  </a:lnTo>
                  <a:lnTo>
                    <a:pt x="219" y="2329"/>
                  </a:lnTo>
                  <a:lnTo>
                    <a:pt x="236" y="2296"/>
                  </a:lnTo>
                  <a:lnTo>
                    <a:pt x="255" y="2264"/>
                  </a:lnTo>
                  <a:lnTo>
                    <a:pt x="274" y="2231"/>
                  </a:lnTo>
                  <a:lnTo>
                    <a:pt x="296" y="2200"/>
                  </a:lnTo>
                  <a:lnTo>
                    <a:pt x="318" y="2168"/>
                  </a:lnTo>
                  <a:lnTo>
                    <a:pt x="342" y="2136"/>
                  </a:lnTo>
                  <a:lnTo>
                    <a:pt x="367" y="2104"/>
                  </a:lnTo>
                  <a:lnTo>
                    <a:pt x="393" y="2072"/>
                  </a:lnTo>
                  <a:lnTo>
                    <a:pt x="419" y="2041"/>
                  </a:lnTo>
                  <a:lnTo>
                    <a:pt x="448" y="2009"/>
                  </a:lnTo>
                  <a:lnTo>
                    <a:pt x="477" y="1978"/>
                  </a:lnTo>
                  <a:lnTo>
                    <a:pt x="507" y="1947"/>
                  </a:lnTo>
                  <a:lnTo>
                    <a:pt x="539" y="1916"/>
                  </a:lnTo>
                  <a:lnTo>
                    <a:pt x="571" y="1884"/>
                  </a:lnTo>
                  <a:lnTo>
                    <a:pt x="605" y="1854"/>
                  </a:lnTo>
                  <a:lnTo>
                    <a:pt x="640" y="1823"/>
                  </a:lnTo>
                  <a:lnTo>
                    <a:pt x="676" y="1792"/>
                  </a:lnTo>
                  <a:lnTo>
                    <a:pt x="713" y="1762"/>
                  </a:lnTo>
                  <a:lnTo>
                    <a:pt x="751" y="1732"/>
                  </a:lnTo>
                  <a:lnTo>
                    <a:pt x="790" y="1702"/>
                  </a:lnTo>
                  <a:lnTo>
                    <a:pt x="830" y="1672"/>
                  </a:lnTo>
                  <a:lnTo>
                    <a:pt x="872" y="1642"/>
                  </a:lnTo>
                  <a:lnTo>
                    <a:pt x="914" y="1613"/>
                  </a:lnTo>
                  <a:lnTo>
                    <a:pt x="958" y="1584"/>
                  </a:lnTo>
                  <a:lnTo>
                    <a:pt x="1002" y="1554"/>
                  </a:lnTo>
                  <a:lnTo>
                    <a:pt x="1047" y="1525"/>
                  </a:lnTo>
                  <a:lnTo>
                    <a:pt x="1094" y="1497"/>
                  </a:lnTo>
                  <a:lnTo>
                    <a:pt x="1141" y="1469"/>
                  </a:lnTo>
                  <a:lnTo>
                    <a:pt x="1190" y="1440"/>
                  </a:lnTo>
                  <a:lnTo>
                    <a:pt x="1239" y="1412"/>
                  </a:lnTo>
                  <a:lnTo>
                    <a:pt x="1290" y="1384"/>
                  </a:lnTo>
                  <a:lnTo>
                    <a:pt x="1342" y="1357"/>
                  </a:lnTo>
                  <a:lnTo>
                    <a:pt x="1393" y="1329"/>
                  </a:lnTo>
                  <a:lnTo>
                    <a:pt x="1447" y="1302"/>
                  </a:lnTo>
                  <a:lnTo>
                    <a:pt x="1502" y="1275"/>
                  </a:lnTo>
                  <a:lnTo>
                    <a:pt x="1556" y="1248"/>
                  </a:lnTo>
                  <a:lnTo>
                    <a:pt x="1613" y="1221"/>
                  </a:lnTo>
                  <a:lnTo>
                    <a:pt x="1670" y="1195"/>
                  </a:lnTo>
                  <a:lnTo>
                    <a:pt x="1727" y="1169"/>
                  </a:lnTo>
                  <a:lnTo>
                    <a:pt x="1787" y="1143"/>
                  </a:lnTo>
                  <a:lnTo>
                    <a:pt x="1847" y="1118"/>
                  </a:lnTo>
                  <a:lnTo>
                    <a:pt x="1907" y="1092"/>
                  </a:lnTo>
                  <a:lnTo>
                    <a:pt x="1968" y="1067"/>
                  </a:lnTo>
                  <a:lnTo>
                    <a:pt x="2031" y="1042"/>
                  </a:lnTo>
                  <a:lnTo>
                    <a:pt x="2095" y="1018"/>
                  </a:lnTo>
                  <a:lnTo>
                    <a:pt x="2159" y="993"/>
                  </a:lnTo>
                  <a:lnTo>
                    <a:pt x="2223" y="969"/>
                  </a:lnTo>
                  <a:lnTo>
                    <a:pt x="2289" y="945"/>
                  </a:lnTo>
                  <a:lnTo>
                    <a:pt x="2356" y="922"/>
                  </a:lnTo>
                  <a:lnTo>
                    <a:pt x="2424" y="899"/>
                  </a:lnTo>
                  <a:lnTo>
                    <a:pt x="2493" y="875"/>
                  </a:lnTo>
                  <a:lnTo>
                    <a:pt x="2562" y="852"/>
                  </a:lnTo>
                  <a:lnTo>
                    <a:pt x="2631" y="830"/>
                  </a:lnTo>
                  <a:lnTo>
                    <a:pt x="2702" y="808"/>
                  </a:lnTo>
                  <a:lnTo>
                    <a:pt x="2846" y="764"/>
                  </a:lnTo>
                  <a:lnTo>
                    <a:pt x="2993" y="722"/>
                  </a:lnTo>
                  <a:lnTo>
                    <a:pt x="3143" y="681"/>
                  </a:lnTo>
                  <a:lnTo>
                    <a:pt x="3296" y="641"/>
                  </a:lnTo>
                  <a:lnTo>
                    <a:pt x="3452" y="602"/>
                  </a:lnTo>
                  <a:lnTo>
                    <a:pt x="3611" y="565"/>
                  </a:lnTo>
                  <a:lnTo>
                    <a:pt x="3772" y="528"/>
                  </a:lnTo>
                  <a:lnTo>
                    <a:pt x="3937" y="493"/>
                  </a:lnTo>
                  <a:lnTo>
                    <a:pt x="4103" y="460"/>
                  </a:lnTo>
                  <a:lnTo>
                    <a:pt x="4273" y="427"/>
                  </a:lnTo>
                  <a:lnTo>
                    <a:pt x="4444" y="397"/>
                  </a:lnTo>
                  <a:lnTo>
                    <a:pt x="4619" y="367"/>
                  </a:lnTo>
                  <a:lnTo>
                    <a:pt x="4795" y="339"/>
                  </a:lnTo>
                  <a:lnTo>
                    <a:pt x="4974" y="312"/>
                  </a:lnTo>
                  <a:lnTo>
                    <a:pt x="5156" y="287"/>
                  </a:lnTo>
                  <a:lnTo>
                    <a:pt x="5339" y="263"/>
                  </a:lnTo>
                  <a:lnTo>
                    <a:pt x="5524" y="241"/>
                  </a:lnTo>
                  <a:lnTo>
                    <a:pt x="5712" y="221"/>
                  </a:lnTo>
                  <a:lnTo>
                    <a:pt x="5902" y="201"/>
                  </a:lnTo>
                  <a:lnTo>
                    <a:pt x="6093" y="183"/>
                  </a:lnTo>
                  <a:lnTo>
                    <a:pt x="6287" y="167"/>
                  </a:lnTo>
                  <a:lnTo>
                    <a:pt x="6481" y="153"/>
                  </a:lnTo>
                  <a:lnTo>
                    <a:pt x="6678" y="140"/>
                  </a:lnTo>
                  <a:lnTo>
                    <a:pt x="6877" y="129"/>
                  </a:lnTo>
                  <a:lnTo>
                    <a:pt x="7077" y="119"/>
                  </a:lnTo>
                  <a:lnTo>
                    <a:pt x="7279" y="112"/>
                  </a:lnTo>
                  <a:lnTo>
                    <a:pt x="7482" y="105"/>
                  </a:lnTo>
                  <a:lnTo>
                    <a:pt x="7687" y="101"/>
                  </a:lnTo>
                  <a:lnTo>
                    <a:pt x="7892" y="99"/>
                  </a:lnTo>
                  <a:lnTo>
                    <a:pt x="8100" y="98"/>
                  </a:lnTo>
                  <a:lnTo>
                    <a:pt x="8100" y="98"/>
                  </a:lnTo>
                  <a:lnTo>
                    <a:pt x="8100" y="98"/>
                  </a:lnTo>
                  <a:lnTo>
                    <a:pt x="8106" y="96"/>
                  </a:lnTo>
                  <a:lnTo>
                    <a:pt x="8111" y="96"/>
                  </a:lnTo>
                  <a:lnTo>
                    <a:pt x="8117" y="94"/>
                  </a:lnTo>
                  <a:lnTo>
                    <a:pt x="8121" y="93"/>
                  </a:lnTo>
                  <a:lnTo>
                    <a:pt x="8126" y="90"/>
                  </a:lnTo>
                  <a:lnTo>
                    <a:pt x="8130" y="88"/>
                  </a:lnTo>
                  <a:lnTo>
                    <a:pt x="8133" y="85"/>
                  </a:lnTo>
                  <a:lnTo>
                    <a:pt x="8137" y="81"/>
                  </a:lnTo>
                  <a:lnTo>
                    <a:pt x="8143" y="74"/>
                  </a:lnTo>
                  <a:lnTo>
                    <a:pt x="8147" y="66"/>
                  </a:lnTo>
                  <a:lnTo>
                    <a:pt x="8149" y="57"/>
                  </a:lnTo>
                  <a:lnTo>
                    <a:pt x="8150" y="48"/>
                  </a:lnTo>
                  <a:lnTo>
                    <a:pt x="8149" y="39"/>
                  </a:lnTo>
                  <a:lnTo>
                    <a:pt x="8147" y="30"/>
                  </a:lnTo>
                  <a:lnTo>
                    <a:pt x="8143" y="22"/>
                  </a:lnTo>
                  <a:lnTo>
                    <a:pt x="8137" y="15"/>
                  </a:lnTo>
                  <a:lnTo>
                    <a:pt x="8133" y="12"/>
                  </a:lnTo>
                  <a:lnTo>
                    <a:pt x="8130" y="9"/>
                  </a:lnTo>
                  <a:lnTo>
                    <a:pt x="8126" y="6"/>
                  </a:lnTo>
                  <a:lnTo>
                    <a:pt x="8121" y="4"/>
                  </a:lnTo>
                  <a:lnTo>
                    <a:pt x="8117" y="2"/>
                  </a:lnTo>
                  <a:lnTo>
                    <a:pt x="8111" y="1"/>
                  </a:lnTo>
                  <a:lnTo>
                    <a:pt x="8106" y="0"/>
                  </a:lnTo>
                  <a:lnTo>
                    <a:pt x="8100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90680" y="4221000"/>
              <a:ext cx="476280" cy="164520"/>
            </a:xfrm>
            <a:custGeom>
              <a:avLst/>
              <a:gdLst/>
              <a:ahLst/>
              <a:rect l="l" t="t" r="r" b="b"/>
              <a:pathLst>
                <a:path w="8100" h="2791">
                  <a:moveTo>
                    <a:pt x="8100" y="2791"/>
                  </a:moveTo>
                  <a:lnTo>
                    <a:pt x="8099" y="2754"/>
                  </a:lnTo>
                  <a:lnTo>
                    <a:pt x="8097" y="2718"/>
                  </a:lnTo>
                  <a:lnTo>
                    <a:pt x="8094" y="2680"/>
                  </a:lnTo>
                  <a:lnTo>
                    <a:pt x="8089" y="2643"/>
                  </a:lnTo>
                  <a:lnTo>
                    <a:pt x="8083" y="2607"/>
                  </a:lnTo>
                  <a:lnTo>
                    <a:pt x="8075" y="2570"/>
                  </a:lnTo>
                  <a:lnTo>
                    <a:pt x="8067" y="2534"/>
                  </a:lnTo>
                  <a:lnTo>
                    <a:pt x="8056" y="2498"/>
                  </a:lnTo>
                  <a:lnTo>
                    <a:pt x="8044" y="2461"/>
                  </a:lnTo>
                  <a:lnTo>
                    <a:pt x="8032" y="2425"/>
                  </a:lnTo>
                  <a:lnTo>
                    <a:pt x="8018" y="2390"/>
                  </a:lnTo>
                  <a:lnTo>
                    <a:pt x="8003" y="2354"/>
                  </a:lnTo>
                  <a:lnTo>
                    <a:pt x="7987" y="2319"/>
                  </a:lnTo>
                  <a:lnTo>
                    <a:pt x="7968" y="2284"/>
                  </a:lnTo>
                  <a:lnTo>
                    <a:pt x="7949" y="2249"/>
                  </a:lnTo>
                  <a:lnTo>
                    <a:pt x="7929" y="2214"/>
                  </a:lnTo>
                  <a:lnTo>
                    <a:pt x="7908" y="2179"/>
                  </a:lnTo>
                  <a:lnTo>
                    <a:pt x="7885" y="2145"/>
                  </a:lnTo>
                  <a:lnTo>
                    <a:pt x="7861" y="2111"/>
                  </a:lnTo>
                  <a:lnTo>
                    <a:pt x="7837" y="2077"/>
                  </a:lnTo>
                  <a:lnTo>
                    <a:pt x="7810" y="2043"/>
                  </a:lnTo>
                  <a:lnTo>
                    <a:pt x="7783" y="2009"/>
                  </a:lnTo>
                  <a:lnTo>
                    <a:pt x="7755" y="1976"/>
                  </a:lnTo>
                  <a:lnTo>
                    <a:pt x="7725" y="1943"/>
                  </a:lnTo>
                  <a:lnTo>
                    <a:pt x="7694" y="1911"/>
                  </a:lnTo>
                  <a:lnTo>
                    <a:pt x="7663" y="1877"/>
                  </a:lnTo>
                  <a:lnTo>
                    <a:pt x="7629" y="1845"/>
                  </a:lnTo>
                  <a:lnTo>
                    <a:pt x="7596" y="1813"/>
                  </a:lnTo>
                  <a:lnTo>
                    <a:pt x="7560" y="1781"/>
                  </a:lnTo>
                  <a:lnTo>
                    <a:pt x="7524" y="1749"/>
                  </a:lnTo>
                  <a:lnTo>
                    <a:pt x="7486" y="1718"/>
                  </a:lnTo>
                  <a:lnTo>
                    <a:pt x="7449" y="1686"/>
                  </a:lnTo>
                  <a:lnTo>
                    <a:pt x="7409" y="1655"/>
                  </a:lnTo>
                  <a:lnTo>
                    <a:pt x="7369" y="1624"/>
                  </a:lnTo>
                  <a:lnTo>
                    <a:pt x="7327" y="1594"/>
                  </a:lnTo>
                  <a:lnTo>
                    <a:pt x="7285" y="1562"/>
                  </a:lnTo>
                  <a:lnTo>
                    <a:pt x="7241" y="1532"/>
                  </a:lnTo>
                  <a:lnTo>
                    <a:pt x="7197" y="1503"/>
                  </a:lnTo>
                  <a:lnTo>
                    <a:pt x="7151" y="1473"/>
                  </a:lnTo>
                  <a:lnTo>
                    <a:pt x="7105" y="1443"/>
                  </a:lnTo>
                  <a:lnTo>
                    <a:pt x="7057" y="1413"/>
                  </a:lnTo>
                  <a:lnTo>
                    <a:pt x="7009" y="1384"/>
                  </a:lnTo>
                  <a:lnTo>
                    <a:pt x="6959" y="1356"/>
                  </a:lnTo>
                  <a:lnTo>
                    <a:pt x="6908" y="1326"/>
                  </a:lnTo>
                  <a:lnTo>
                    <a:pt x="6858" y="1298"/>
                  </a:lnTo>
                  <a:lnTo>
                    <a:pt x="6805" y="1270"/>
                  </a:lnTo>
                  <a:lnTo>
                    <a:pt x="6751" y="1243"/>
                  </a:lnTo>
                  <a:lnTo>
                    <a:pt x="6698" y="1214"/>
                  </a:lnTo>
                  <a:lnTo>
                    <a:pt x="6642" y="1187"/>
                  </a:lnTo>
                  <a:lnTo>
                    <a:pt x="6586" y="1160"/>
                  </a:lnTo>
                  <a:lnTo>
                    <a:pt x="6529" y="1133"/>
                  </a:lnTo>
                  <a:lnTo>
                    <a:pt x="6471" y="1106"/>
                  </a:lnTo>
                  <a:lnTo>
                    <a:pt x="6412" y="1079"/>
                  </a:lnTo>
                  <a:lnTo>
                    <a:pt x="6352" y="1053"/>
                  </a:lnTo>
                  <a:lnTo>
                    <a:pt x="6292" y="1028"/>
                  </a:lnTo>
                  <a:lnTo>
                    <a:pt x="6230" y="1001"/>
                  </a:lnTo>
                  <a:lnTo>
                    <a:pt x="6168" y="976"/>
                  </a:lnTo>
                  <a:lnTo>
                    <a:pt x="6104" y="951"/>
                  </a:lnTo>
                  <a:lnTo>
                    <a:pt x="6041" y="926"/>
                  </a:lnTo>
                  <a:lnTo>
                    <a:pt x="5976" y="902"/>
                  </a:lnTo>
                  <a:lnTo>
                    <a:pt x="5910" y="877"/>
                  </a:lnTo>
                  <a:lnTo>
                    <a:pt x="5843" y="853"/>
                  </a:lnTo>
                  <a:lnTo>
                    <a:pt x="5776" y="829"/>
                  </a:lnTo>
                  <a:lnTo>
                    <a:pt x="5707" y="806"/>
                  </a:lnTo>
                  <a:lnTo>
                    <a:pt x="5639" y="783"/>
                  </a:lnTo>
                  <a:lnTo>
                    <a:pt x="5569" y="759"/>
                  </a:lnTo>
                  <a:lnTo>
                    <a:pt x="5498" y="737"/>
                  </a:lnTo>
                  <a:lnTo>
                    <a:pt x="5427" y="715"/>
                  </a:lnTo>
                  <a:lnTo>
                    <a:pt x="5281" y="671"/>
                  </a:lnTo>
                  <a:lnTo>
                    <a:pt x="5133" y="628"/>
                  </a:lnTo>
                  <a:lnTo>
                    <a:pt x="4983" y="587"/>
                  </a:lnTo>
                  <a:lnTo>
                    <a:pt x="4828" y="546"/>
                  </a:lnTo>
                  <a:lnTo>
                    <a:pt x="4671" y="507"/>
                  </a:lnTo>
                  <a:lnTo>
                    <a:pt x="4512" y="470"/>
                  </a:lnTo>
                  <a:lnTo>
                    <a:pt x="4349" y="432"/>
                  </a:lnTo>
                  <a:lnTo>
                    <a:pt x="4184" y="398"/>
                  </a:lnTo>
                  <a:lnTo>
                    <a:pt x="4016" y="364"/>
                  </a:lnTo>
                  <a:lnTo>
                    <a:pt x="3845" y="332"/>
                  </a:lnTo>
                  <a:lnTo>
                    <a:pt x="3672" y="300"/>
                  </a:lnTo>
                  <a:lnTo>
                    <a:pt x="3497" y="271"/>
                  </a:lnTo>
                  <a:lnTo>
                    <a:pt x="3320" y="243"/>
                  </a:lnTo>
                  <a:lnTo>
                    <a:pt x="3140" y="216"/>
                  </a:lnTo>
                  <a:lnTo>
                    <a:pt x="2958" y="190"/>
                  </a:lnTo>
                  <a:lnTo>
                    <a:pt x="2773" y="166"/>
                  </a:lnTo>
                  <a:lnTo>
                    <a:pt x="2587" y="144"/>
                  </a:lnTo>
                  <a:lnTo>
                    <a:pt x="2399" y="123"/>
                  </a:lnTo>
                  <a:lnTo>
                    <a:pt x="2208" y="104"/>
                  </a:lnTo>
                  <a:lnTo>
                    <a:pt x="2016" y="85"/>
                  </a:lnTo>
                  <a:lnTo>
                    <a:pt x="1821" y="69"/>
                  </a:lnTo>
                  <a:lnTo>
                    <a:pt x="1625" y="55"/>
                  </a:lnTo>
                  <a:lnTo>
                    <a:pt x="1428" y="42"/>
                  </a:lnTo>
                  <a:lnTo>
                    <a:pt x="1228" y="31"/>
                  </a:lnTo>
                  <a:lnTo>
                    <a:pt x="1027" y="22"/>
                  </a:lnTo>
                  <a:lnTo>
                    <a:pt x="824" y="14"/>
                  </a:lnTo>
                  <a:lnTo>
                    <a:pt x="621" y="8"/>
                  </a:lnTo>
                  <a:lnTo>
                    <a:pt x="415" y="3"/>
                  </a:lnTo>
                  <a:lnTo>
                    <a:pt x="209" y="0"/>
                  </a:lnTo>
                  <a:lnTo>
                    <a:pt x="0" y="0"/>
                  </a:lnTo>
                  <a:lnTo>
                    <a:pt x="0" y="98"/>
                  </a:lnTo>
                  <a:lnTo>
                    <a:pt x="208" y="99"/>
                  </a:lnTo>
                  <a:lnTo>
                    <a:pt x="413" y="101"/>
                  </a:lnTo>
                  <a:lnTo>
                    <a:pt x="618" y="105"/>
                  </a:lnTo>
                  <a:lnTo>
                    <a:pt x="821" y="112"/>
                  </a:lnTo>
                  <a:lnTo>
                    <a:pt x="1023" y="119"/>
                  </a:lnTo>
                  <a:lnTo>
                    <a:pt x="1223" y="129"/>
                  </a:lnTo>
                  <a:lnTo>
                    <a:pt x="1422" y="140"/>
                  </a:lnTo>
                  <a:lnTo>
                    <a:pt x="1619" y="153"/>
                  </a:lnTo>
                  <a:lnTo>
                    <a:pt x="1813" y="167"/>
                  </a:lnTo>
                  <a:lnTo>
                    <a:pt x="2007" y="183"/>
                  </a:lnTo>
                  <a:lnTo>
                    <a:pt x="2198" y="201"/>
                  </a:lnTo>
                  <a:lnTo>
                    <a:pt x="2388" y="221"/>
                  </a:lnTo>
                  <a:lnTo>
                    <a:pt x="2576" y="241"/>
                  </a:lnTo>
                  <a:lnTo>
                    <a:pt x="2761" y="263"/>
                  </a:lnTo>
                  <a:lnTo>
                    <a:pt x="2944" y="287"/>
                  </a:lnTo>
                  <a:lnTo>
                    <a:pt x="3126" y="312"/>
                  </a:lnTo>
                  <a:lnTo>
                    <a:pt x="3305" y="339"/>
                  </a:lnTo>
                  <a:lnTo>
                    <a:pt x="3481" y="367"/>
                  </a:lnTo>
                  <a:lnTo>
                    <a:pt x="3656" y="397"/>
                  </a:lnTo>
                  <a:lnTo>
                    <a:pt x="3827" y="427"/>
                  </a:lnTo>
                  <a:lnTo>
                    <a:pt x="3997" y="460"/>
                  </a:lnTo>
                  <a:lnTo>
                    <a:pt x="4163" y="493"/>
                  </a:lnTo>
                  <a:lnTo>
                    <a:pt x="4327" y="528"/>
                  </a:lnTo>
                  <a:lnTo>
                    <a:pt x="4489" y="565"/>
                  </a:lnTo>
                  <a:lnTo>
                    <a:pt x="4648" y="602"/>
                  </a:lnTo>
                  <a:lnTo>
                    <a:pt x="4804" y="641"/>
                  </a:lnTo>
                  <a:lnTo>
                    <a:pt x="4957" y="681"/>
                  </a:lnTo>
                  <a:lnTo>
                    <a:pt x="5107" y="722"/>
                  </a:lnTo>
                  <a:lnTo>
                    <a:pt x="5254" y="764"/>
                  </a:lnTo>
                  <a:lnTo>
                    <a:pt x="5398" y="808"/>
                  </a:lnTo>
                  <a:lnTo>
                    <a:pt x="5469" y="830"/>
                  </a:lnTo>
                  <a:lnTo>
                    <a:pt x="5538" y="852"/>
                  </a:lnTo>
                  <a:lnTo>
                    <a:pt x="5607" y="875"/>
                  </a:lnTo>
                  <a:lnTo>
                    <a:pt x="5676" y="899"/>
                  </a:lnTo>
                  <a:lnTo>
                    <a:pt x="5744" y="922"/>
                  </a:lnTo>
                  <a:lnTo>
                    <a:pt x="5811" y="945"/>
                  </a:lnTo>
                  <a:lnTo>
                    <a:pt x="5877" y="969"/>
                  </a:lnTo>
                  <a:lnTo>
                    <a:pt x="5941" y="993"/>
                  </a:lnTo>
                  <a:lnTo>
                    <a:pt x="6005" y="1018"/>
                  </a:lnTo>
                  <a:lnTo>
                    <a:pt x="6069" y="1042"/>
                  </a:lnTo>
                  <a:lnTo>
                    <a:pt x="6132" y="1067"/>
                  </a:lnTo>
                  <a:lnTo>
                    <a:pt x="6193" y="1092"/>
                  </a:lnTo>
                  <a:lnTo>
                    <a:pt x="6253" y="1118"/>
                  </a:lnTo>
                  <a:lnTo>
                    <a:pt x="6313" y="1143"/>
                  </a:lnTo>
                  <a:lnTo>
                    <a:pt x="6373" y="1169"/>
                  </a:lnTo>
                  <a:lnTo>
                    <a:pt x="6430" y="1195"/>
                  </a:lnTo>
                  <a:lnTo>
                    <a:pt x="6487" y="1221"/>
                  </a:lnTo>
                  <a:lnTo>
                    <a:pt x="6544" y="1248"/>
                  </a:lnTo>
                  <a:lnTo>
                    <a:pt x="6598" y="1275"/>
                  </a:lnTo>
                  <a:lnTo>
                    <a:pt x="6653" y="1302"/>
                  </a:lnTo>
                  <a:lnTo>
                    <a:pt x="6707" y="1329"/>
                  </a:lnTo>
                  <a:lnTo>
                    <a:pt x="6758" y="1357"/>
                  </a:lnTo>
                  <a:lnTo>
                    <a:pt x="6810" y="1384"/>
                  </a:lnTo>
                  <a:lnTo>
                    <a:pt x="6861" y="1412"/>
                  </a:lnTo>
                  <a:lnTo>
                    <a:pt x="6910" y="1440"/>
                  </a:lnTo>
                  <a:lnTo>
                    <a:pt x="6959" y="1469"/>
                  </a:lnTo>
                  <a:lnTo>
                    <a:pt x="7007" y="1497"/>
                  </a:lnTo>
                  <a:lnTo>
                    <a:pt x="7052" y="1525"/>
                  </a:lnTo>
                  <a:lnTo>
                    <a:pt x="7098" y="1554"/>
                  </a:lnTo>
                  <a:lnTo>
                    <a:pt x="7142" y="1584"/>
                  </a:lnTo>
                  <a:lnTo>
                    <a:pt x="7186" y="1613"/>
                  </a:lnTo>
                  <a:lnTo>
                    <a:pt x="7228" y="1642"/>
                  </a:lnTo>
                  <a:lnTo>
                    <a:pt x="7270" y="1672"/>
                  </a:lnTo>
                  <a:lnTo>
                    <a:pt x="7309" y="1702"/>
                  </a:lnTo>
                  <a:lnTo>
                    <a:pt x="7349" y="1732"/>
                  </a:lnTo>
                  <a:lnTo>
                    <a:pt x="7387" y="1762"/>
                  </a:lnTo>
                  <a:lnTo>
                    <a:pt x="7424" y="1792"/>
                  </a:lnTo>
                  <a:lnTo>
                    <a:pt x="7460" y="1823"/>
                  </a:lnTo>
                  <a:lnTo>
                    <a:pt x="7495" y="1854"/>
                  </a:lnTo>
                  <a:lnTo>
                    <a:pt x="7529" y="1884"/>
                  </a:lnTo>
                  <a:lnTo>
                    <a:pt x="7561" y="1916"/>
                  </a:lnTo>
                  <a:lnTo>
                    <a:pt x="7593" y="1947"/>
                  </a:lnTo>
                  <a:lnTo>
                    <a:pt x="7623" y="1978"/>
                  </a:lnTo>
                  <a:lnTo>
                    <a:pt x="7652" y="2009"/>
                  </a:lnTo>
                  <a:lnTo>
                    <a:pt x="7681" y="2041"/>
                  </a:lnTo>
                  <a:lnTo>
                    <a:pt x="7707" y="2072"/>
                  </a:lnTo>
                  <a:lnTo>
                    <a:pt x="7733" y="2104"/>
                  </a:lnTo>
                  <a:lnTo>
                    <a:pt x="7758" y="2136"/>
                  </a:lnTo>
                  <a:lnTo>
                    <a:pt x="7781" y="2168"/>
                  </a:lnTo>
                  <a:lnTo>
                    <a:pt x="7803" y="2200"/>
                  </a:lnTo>
                  <a:lnTo>
                    <a:pt x="7826" y="2231"/>
                  </a:lnTo>
                  <a:lnTo>
                    <a:pt x="7845" y="2264"/>
                  </a:lnTo>
                  <a:lnTo>
                    <a:pt x="7864" y="2296"/>
                  </a:lnTo>
                  <a:lnTo>
                    <a:pt x="7881" y="2329"/>
                  </a:lnTo>
                  <a:lnTo>
                    <a:pt x="7898" y="2362"/>
                  </a:lnTo>
                  <a:lnTo>
                    <a:pt x="7914" y="2394"/>
                  </a:lnTo>
                  <a:lnTo>
                    <a:pt x="7927" y="2426"/>
                  </a:lnTo>
                  <a:lnTo>
                    <a:pt x="7940" y="2459"/>
                  </a:lnTo>
                  <a:lnTo>
                    <a:pt x="7952" y="2493"/>
                  </a:lnTo>
                  <a:lnTo>
                    <a:pt x="7962" y="2525"/>
                  </a:lnTo>
                  <a:lnTo>
                    <a:pt x="7971" y="2558"/>
                  </a:lnTo>
                  <a:lnTo>
                    <a:pt x="7980" y="2592"/>
                  </a:lnTo>
                  <a:lnTo>
                    <a:pt x="7987" y="2625"/>
                  </a:lnTo>
                  <a:lnTo>
                    <a:pt x="7992" y="2657"/>
                  </a:lnTo>
                  <a:lnTo>
                    <a:pt x="7996" y="2691"/>
                  </a:lnTo>
                  <a:lnTo>
                    <a:pt x="7999" y="2725"/>
                  </a:lnTo>
                  <a:lnTo>
                    <a:pt x="8001" y="2758"/>
                  </a:lnTo>
                  <a:lnTo>
                    <a:pt x="8002" y="2791"/>
                  </a:lnTo>
                  <a:lnTo>
                    <a:pt x="8100" y="279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516200" y="4159080"/>
              <a:ext cx="947880" cy="229680"/>
            </a:xfrm>
            <a:custGeom>
              <a:avLst/>
              <a:gdLst/>
              <a:ahLst/>
              <a:rect l="l" t="t" r="r" b="b"/>
              <a:pathLst>
                <a:path w="16129" h="3919">
                  <a:moveTo>
                    <a:pt x="0" y="0"/>
                  </a:moveTo>
                  <a:lnTo>
                    <a:pt x="0" y="3919"/>
                  </a:lnTo>
                  <a:lnTo>
                    <a:pt x="16126" y="3919"/>
                  </a:lnTo>
                  <a:lnTo>
                    <a:pt x="1612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17640" y="3993840"/>
              <a:ext cx="946440" cy="321840"/>
            </a:xfrm>
            <a:custGeom>
              <a:avLst/>
              <a:gdLst/>
              <a:ahLst/>
              <a:rect l="l" t="t" r="r" b="b"/>
              <a:pathLst>
                <a:path w="16100" h="5487">
                  <a:moveTo>
                    <a:pt x="16100" y="2744"/>
                  </a:moveTo>
                  <a:lnTo>
                    <a:pt x="16090" y="2885"/>
                  </a:lnTo>
                  <a:lnTo>
                    <a:pt x="16059" y="3024"/>
                  </a:lnTo>
                  <a:lnTo>
                    <a:pt x="16008" y="3161"/>
                  </a:lnTo>
                  <a:lnTo>
                    <a:pt x="15937" y="3297"/>
                  </a:lnTo>
                  <a:lnTo>
                    <a:pt x="15847" y="3429"/>
                  </a:lnTo>
                  <a:lnTo>
                    <a:pt x="15739" y="3559"/>
                  </a:lnTo>
                  <a:lnTo>
                    <a:pt x="15612" y="3686"/>
                  </a:lnTo>
                  <a:lnTo>
                    <a:pt x="15468" y="3811"/>
                  </a:lnTo>
                  <a:lnTo>
                    <a:pt x="15307" y="3932"/>
                  </a:lnTo>
                  <a:lnTo>
                    <a:pt x="15128" y="4051"/>
                  </a:lnTo>
                  <a:lnTo>
                    <a:pt x="14935" y="4165"/>
                  </a:lnTo>
                  <a:lnTo>
                    <a:pt x="14725" y="4277"/>
                  </a:lnTo>
                  <a:lnTo>
                    <a:pt x="14501" y="4384"/>
                  </a:lnTo>
                  <a:lnTo>
                    <a:pt x="14262" y="4488"/>
                  </a:lnTo>
                  <a:lnTo>
                    <a:pt x="14009" y="4588"/>
                  </a:lnTo>
                  <a:lnTo>
                    <a:pt x="13742" y="4683"/>
                  </a:lnTo>
                  <a:lnTo>
                    <a:pt x="13462" y="4774"/>
                  </a:lnTo>
                  <a:lnTo>
                    <a:pt x="13170" y="4860"/>
                  </a:lnTo>
                  <a:lnTo>
                    <a:pt x="12865" y="4942"/>
                  </a:lnTo>
                  <a:lnTo>
                    <a:pt x="12551" y="5018"/>
                  </a:lnTo>
                  <a:lnTo>
                    <a:pt x="12224" y="5089"/>
                  </a:lnTo>
                  <a:lnTo>
                    <a:pt x="11886" y="5156"/>
                  </a:lnTo>
                  <a:lnTo>
                    <a:pt x="11539" y="5217"/>
                  </a:lnTo>
                  <a:lnTo>
                    <a:pt x="11183" y="5271"/>
                  </a:lnTo>
                  <a:lnTo>
                    <a:pt x="10817" y="5320"/>
                  </a:lnTo>
                  <a:lnTo>
                    <a:pt x="10444" y="5364"/>
                  </a:lnTo>
                  <a:lnTo>
                    <a:pt x="10061" y="5400"/>
                  </a:lnTo>
                  <a:lnTo>
                    <a:pt x="9672" y="5431"/>
                  </a:lnTo>
                  <a:lnTo>
                    <a:pt x="9275" y="5456"/>
                  </a:lnTo>
                  <a:lnTo>
                    <a:pt x="8873" y="5473"/>
                  </a:lnTo>
                  <a:lnTo>
                    <a:pt x="8464" y="5483"/>
                  </a:lnTo>
                  <a:lnTo>
                    <a:pt x="8050" y="5487"/>
                  </a:lnTo>
                  <a:lnTo>
                    <a:pt x="7636" y="5483"/>
                  </a:lnTo>
                  <a:lnTo>
                    <a:pt x="7227" y="5473"/>
                  </a:lnTo>
                  <a:lnTo>
                    <a:pt x="6825" y="5456"/>
                  </a:lnTo>
                  <a:lnTo>
                    <a:pt x="6428" y="5431"/>
                  </a:lnTo>
                  <a:lnTo>
                    <a:pt x="6039" y="5400"/>
                  </a:lnTo>
                  <a:lnTo>
                    <a:pt x="5656" y="5364"/>
                  </a:lnTo>
                  <a:lnTo>
                    <a:pt x="5283" y="5320"/>
                  </a:lnTo>
                  <a:lnTo>
                    <a:pt x="4917" y="5271"/>
                  </a:lnTo>
                  <a:lnTo>
                    <a:pt x="4561" y="5217"/>
                  </a:lnTo>
                  <a:lnTo>
                    <a:pt x="4214" y="5156"/>
                  </a:lnTo>
                  <a:lnTo>
                    <a:pt x="3876" y="5089"/>
                  </a:lnTo>
                  <a:lnTo>
                    <a:pt x="3549" y="5018"/>
                  </a:lnTo>
                  <a:lnTo>
                    <a:pt x="3234" y="4942"/>
                  </a:lnTo>
                  <a:lnTo>
                    <a:pt x="2930" y="4860"/>
                  </a:lnTo>
                  <a:lnTo>
                    <a:pt x="2638" y="4774"/>
                  </a:lnTo>
                  <a:lnTo>
                    <a:pt x="2358" y="4683"/>
                  </a:lnTo>
                  <a:lnTo>
                    <a:pt x="2091" y="4588"/>
                  </a:lnTo>
                  <a:lnTo>
                    <a:pt x="1838" y="4488"/>
                  </a:lnTo>
                  <a:lnTo>
                    <a:pt x="1599" y="4384"/>
                  </a:lnTo>
                  <a:lnTo>
                    <a:pt x="1375" y="4277"/>
                  </a:lnTo>
                  <a:lnTo>
                    <a:pt x="1165" y="4165"/>
                  </a:lnTo>
                  <a:lnTo>
                    <a:pt x="972" y="4051"/>
                  </a:lnTo>
                  <a:lnTo>
                    <a:pt x="793" y="3932"/>
                  </a:lnTo>
                  <a:lnTo>
                    <a:pt x="632" y="3811"/>
                  </a:lnTo>
                  <a:lnTo>
                    <a:pt x="488" y="3686"/>
                  </a:lnTo>
                  <a:lnTo>
                    <a:pt x="361" y="3559"/>
                  </a:lnTo>
                  <a:lnTo>
                    <a:pt x="253" y="3429"/>
                  </a:lnTo>
                  <a:lnTo>
                    <a:pt x="163" y="3297"/>
                  </a:lnTo>
                  <a:lnTo>
                    <a:pt x="92" y="3161"/>
                  </a:lnTo>
                  <a:lnTo>
                    <a:pt x="41" y="3024"/>
                  </a:lnTo>
                  <a:lnTo>
                    <a:pt x="10" y="2885"/>
                  </a:lnTo>
                  <a:lnTo>
                    <a:pt x="0" y="2744"/>
                  </a:lnTo>
                  <a:lnTo>
                    <a:pt x="10" y="2602"/>
                  </a:lnTo>
                  <a:lnTo>
                    <a:pt x="41" y="2463"/>
                  </a:lnTo>
                  <a:lnTo>
                    <a:pt x="92" y="2326"/>
                  </a:lnTo>
                  <a:lnTo>
                    <a:pt x="163" y="2191"/>
                  </a:lnTo>
                  <a:lnTo>
                    <a:pt x="253" y="2059"/>
                  </a:lnTo>
                  <a:lnTo>
                    <a:pt x="361" y="1927"/>
                  </a:lnTo>
                  <a:lnTo>
                    <a:pt x="488" y="1800"/>
                  </a:lnTo>
                  <a:lnTo>
                    <a:pt x="632" y="1676"/>
                  </a:lnTo>
                  <a:lnTo>
                    <a:pt x="793" y="1554"/>
                  </a:lnTo>
                  <a:lnTo>
                    <a:pt x="972" y="1436"/>
                  </a:lnTo>
                  <a:lnTo>
                    <a:pt x="1165" y="1321"/>
                  </a:lnTo>
                  <a:lnTo>
                    <a:pt x="1375" y="1210"/>
                  </a:lnTo>
                  <a:lnTo>
                    <a:pt x="1599" y="1102"/>
                  </a:lnTo>
                  <a:lnTo>
                    <a:pt x="1838" y="998"/>
                  </a:lnTo>
                  <a:lnTo>
                    <a:pt x="2091" y="899"/>
                  </a:lnTo>
                  <a:lnTo>
                    <a:pt x="2358" y="804"/>
                  </a:lnTo>
                  <a:lnTo>
                    <a:pt x="2638" y="713"/>
                  </a:lnTo>
                  <a:lnTo>
                    <a:pt x="2930" y="627"/>
                  </a:lnTo>
                  <a:lnTo>
                    <a:pt x="3234" y="545"/>
                  </a:lnTo>
                  <a:lnTo>
                    <a:pt x="3549" y="469"/>
                  </a:lnTo>
                  <a:lnTo>
                    <a:pt x="3876" y="397"/>
                  </a:lnTo>
                  <a:lnTo>
                    <a:pt x="4214" y="331"/>
                  </a:lnTo>
                  <a:lnTo>
                    <a:pt x="4561" y="271"/>
                  </a:lnTo>
                  <a:lnTo>
                    <a:pt x="4917" y="215"/>
                  </a:lnTo>
                  <a:lnTo>
                    <a:pt x="5283" y="167"/>
                  </a:lnTo>
                  <a:lnTo>
                    <a:pt x="5656" y="124"/>
                  </a:lnTo>
                  <a:lnTo>
                    <a:pt x="6039" y="86"/>
                  </a:lnTo>
                  <a:lnTo>
                    <a:pt x="6428" y="56"/>
                  </a:lnTo>
                  <a:lnTo>
                    <a:pt x="6825" y="32"/>
                  </a:lnTo>
                  <a:lnTo>
                    <a:pt x="7227" y="15"/>
                  </a:lnTo>
                  <a:lnTo>
                    <a:pt x="7636" y="3"/>
                  </a:lnTo>
                  <a:lnTo>
                    <a:pt x="8050" y="0"/>
                  </a:lnTo>
                  <a:lnTo>
                    <a:pt x="8464" y="3"/>
                  </a:lnTo>
                  <a:lnTo>
                    <a:pt x="8873" y="15"/>
                  </a:lnTo>
                  <a:lnTo>
                    <a:pt x="9275" y="32"/>
                  </a:lnTo>
                  <a:lnTo>
                    <a:pt x="9672" y="56"/>
                  </a:lnTo>
                  <a:lnTo>
                    <a:pt x="10061" y="86"/>
                  </a:lnTo>
                  <a:lnTo>
                    <a:pt x="10444" y="124"/>
                  </a:lnTo>
                  <a:lnTo>
                    <a:pt x="10817" y="167"/>
                  </a:lnTo>
                  <a:lnTo>
                    <a:pt x="11183" y="215"/>
                  </a:lnTo>
                  <a:lnTo>
                    <a:pt x="11539" y="271"/>
                  </a:lnTo>
                  <a:lnTo>
                    <a:pt x="11886" y="331"/>
                  </a:lnTo>
                  <a:lnTo>
                    <a:pt x="12224" y="397"/>
                  </a:lnTo>
                  <a:lnTo>
                    <a:pt x="12551" y="469"/>
                  </a:lnTo>
                  <a:lnTo>
                    <a:pt x="12865" y="545"/>
                  </a:lnTo>
                  <a:lnTo>
                    <a:pt x="13170" y="627"/>
                  </a:lnTo>
                  <a:lnTo>
                    <a:pt x="13462" y="713"/>
                  </a:lnTo>
                  <a:lnTo>
                    <a:pt x="13742" y="804"/>
                  </a:lnTo>
                  <a:lnTo>
                    <a:pt x="14009" y="899"/>
                  </a:lnTo>
                  <a:lnTo>
                    <a:pt x="14262" y="998"/>
                  </a:lnTo>
                  <a:lnTo>
                    <a:pt x="14501" y="1102"/>
                  </a:lnTo>
                  <a:lnTo>
                    <a:pt x="14725" y="1210"/>
                  </a:lnTo>
                  <a:lnTo>
                    <a:pt x="14935" y="1321"/>
                  </a:lnTo>
                  <a:lnTo>
                    <a:pt x="15128" y="1436"/>
                  </a:lnTo>
                  <a:lnTo>
                    <a:pt x="15307" y="1554"/>
                  </a:lnTo>
                  <a:lnTo>
                    <a:pt x="15468" y="1676"/>
                  </a:lnTo>
                  <a:lnTo>
                    <a:pt x="15612" y="1800"/>
                  </a:lnTo>
                  <a:lnTo>
                    <a:pt x="15739" y="1927"/>
                  </a:lnTo>
                  <a:lnTo>
                    <a:pt x="15847" y="2059"/>
                  </a:lnTo>
                  <a:lnTo>
                    <a:pt x="15937" y="2191"/>
                  </a:lnTo>
                  <a:lnTo>
                    <a:pt x="16008" y="2326"/>
                  </a:lnTo>
                  <a:lnTo>
                    <a:pt x="16059" y="2463"/>
                  </a:lnTo>
                  <a:lnTo>
                    <a:pt x="16090" y="2602"/>
                  </a:lnTo>
                  <a:lnTo>
                    <a:pt x="16100" y="2744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987800" y="4154400"/>
              <a:ext cx="479160" cy="164520"/>
            </a:xfrm>
            <a:custGeom>
              <a:avLst/>
              <a:gdLst/>
              <a:ahLst/>
              <a:rect l="l" t="t" r="r" b="b"/>
              <a:pathLst>
                <a:path w="8149" h="2791">
                  <a:moveTo>
                    <a:pt x="49" y="2791"/>
                  </a:moveTo>
                  <a:lnTo>
                    <a:pt x="49" y="2791"/>
                  </a:lnTo>
                  <a:lnTo>
                    <a:pt x="258" y="2791"/>
                  </a:lnTo>
                  <a:lnTo>
                    <a:pt x="464" y="2788"/>
                  </a:lnTo>
                  <a:lnTo>
                    <a:pt x="670" y="2783"/>
                  </a:lnTo>
                  <a:lnTo>
                    <a:pt x="873" y="2777"/>
                  </a:lnTo>
                  <a:lnTo>
                    <a:pt x="1076" y="2769"/>
                  </a:lnTo>
                  <a:lnTo>
                    <a:pt x="1277" y="2760"/>
                  </a:lnTo>
                  <a:lnTo>
                    <a:pt x="1477" y="2749"/>
                  </a:lnTo>
                  <a:lnTo>
                    <a:pt x="1674" y="2736"/>
                  </a:lnTo>
                  <a:lnTo>
                    <a:pt x="1870" y="2722"/>
                  </a:lnTo>
                  <a:lnTo>
                    <a:pt x="2065" y="2706"/>
                  </a:lnTo>
                  <a:lnTo>
                    <a:pt x="2257" y="2687"/>
                  </a:lnTo>
                  <a:lnTo>
                    <a:pt x="2448" y="2668"/>
                  </a:lnTo>
                  <a:lnTo>
                    <a:pt x="2636" y="2647"/>
                  </a:lnTo>
                  <a:lnTo>
                    <a:pt x="2822" y="2625"/>
                  </a:lnTo>
                  <a:lnTo>
                    <a:pt x="3007" y="2601"/>
                  </a:lnTo>
                  <a:lnTo>
                    <a:pt x="3189" y="2575"/>
                  </a:lnTo>
                  <a:lnTo>
                    <a:pt x="3369" y="2549"/>
                  </a:lnTo>
                  <a:lnTo>
                    <a:pt x="3546" y="2521"/>
                  </a:lnTo>
                  <a:lnTo>
                    <a:pt x="3721" y="2491"/>
                  </a:lnTo>
                  <a:lnTo>
                    <a:pt x="3894" y="2459"/>
                  </a:lnTo>
                  <a:lnTo>
                    <a:pt x="4065" y="2427"/>
                  </a:lnTo>
                  <a:lnTo>
                    <a:pt x="4233" y="2394"/>
                  </a:lnTo>
                  <a:lnTo>
                    <a:pt x="4398" y="2359"/>
                  </a:lnTo>
                  <a:lnTo>
                    <a:pt x="4561" y="2322"/>
                  </a:lnTo>
                  <a:lnTo>
                    <a:pt x="4720" y="2284"/>
                  </a:lnTo>
                  <a:lnTo>
                    <a:pt x="4877" y="2246"/>
                  </a:lnTo>
                  <a:lnTo>
                    <a:pt x="5032" y="2205"/>
                  </a:lnTo>
                  <a:lnTo>
                    <a:pt x="5182" y="2163"/>
                  </a:lnTo>
                  <a:lnTo>
                    <a:pt x="5257" y="2142"/>
                  </a:lnTo>
                  <a:lnTo>
                    <a:pt x="5330" y="2120"/>
                  </a:lnTo>
                  <a:lnTo>
                    <a:pt x="5403" y="2098"/>
                  </a:lnTo>
                  <a:lnTo>
                    <a:pt x="5476" y="2077"/>
                  </a:lnTo>
                  <a:lnTo>
                    <a:pt x="5547" y="2054"/>
                  </a:lnTo>
                  <a:lnTo>
                    <a:pt x="5618" y="2032"/>
                  </a:lnTo>
                  <a:lnTo>
                    <a:pt x="5688" y="2008"/>
                  </a:lnTo>
                  <a:lnTo>
                    <a:pt x="5756" y="1985"/>
                  </a:lnTo>
                  <a:lnTo>
                    <a:pt x="5825" y="1962"/>
                  </a:lnTo>
                  <a:lnTo>
                    <a:pt x="5892" y="1938"/>
                  </a:lnTo>
                  <a:lnTo>
                    <a:pt x="5959" y="1914"/>
                  </a:lnTo>
                  <a:lnTo>
                    <a:pt x="6025" y="1889"/>
                  </a:lnTo>
                  <a:lnTo>
                    <a:pt x="6090" y="1865"/>
                  </a:lnTo>
                  <a:lnTo>
                    <a:pt x="6153" y="1840"/>
                  </a:lnTo>
                  <a:lnTo>
                    <a:pt x="6217" y="1815"/>
                  </a:lnTo>
                  <a:lnTo>
                    <a:pt x="6279" y="1790"/>
                  </a:lnTo>
                  <a:lnTo>
                    <a:pt x="6341" y="1763"/>
                  </a:lnTo>
                  <a:lnTo>
                    <a:pt x="6401" y="1738"/>
                  </a:lnTo>
                  <a:lnTo>
                    <a:pt x="6461" y="1712"/>
                  </a:lnTo>
                  <a:lnTo>
                    <a:pt x="6520" y="1685"/>
                  </a:lnTo>
                  <a:lnTo>
                    <a:pt x="6578" y="1658"/>
                  </a:lnTo>
                  <a:lnTo>
                    <a:pt x="6635" y="1631"/>
                  </a:lnTo>
                  <a:lnTo>
                    <a:pt x="6691" y="1604"/>
                  </a:lnTo>
                  <a:lnTo>
                    <a:pt x="6747" y="1577"/>
                  </a:lnTo>
                  <a:lnTo>
                    <a:pt x="6800" y="1549"/>
                  </a:lnTo>
                  <a:lnTo>
                    <a:pt x="6854" y="1521"/>
                  </a:lnTo>
                  <a:lnTo>
                    <a:pt x="6907" y="1493"/>
                  </a:lnTo>
                  <a:lnTo>
                    <a:pt x="6957" y="1465"/>
                  </a:lnTo>
                  <a:lnTo>
                    <a:pt x="7008" y="1435"/>
                  </a:lnTo>
                  <a:lnTo>
                    <a:pt x="7058" y="1407"/>
                  </a:lnTo>
                  <a:lnTo>
                    <a:pt x="7106" y="1378"/>
                  </a:lnTo>
                  <a:lnTo>
                    <a:pt x="7154" y="1349"/>
                  </a:lnTo>
                  <a:lnTo>
                    <a:pt x="7200" y="1318"/>
                  </a:lnTo>
                  <a:lnTo>
                    <a:pt x="7246" y="1289"/>
                  </a:lnTo>
                  <a:lnTo>
                    <a:pt x="7290" y="1259"/>
                  </a:lnTo>
                  <a:lnTo>
                    <a:pt x="7334" y="1229"/>
                  </a:lnTo>
                  <a:lnTo>
                    <a:pt x="7376" y="1198"/>
                  </a:lnTo>
                  <a:lnTo>
                    <a:pt x="7418" y="1167"/>
                  </a:lnTo>
                  <a:lnTo>
                    <a:pt x="7458" y="1136"/>
                  </a:lnTo>
                  <a:lnTo>
                    <a:pt x="7498" y="1105"/>
                  </a:lnTo>
                  <a:lnTo>
                    <a:pt x="7535" y="1074"/>
                  </a:lnTo>
                  <a:lnTo>
                    <a:pt x="7573" y="1042"/>
                  </a:lnTo>
                  <a:lnTo>
                    <a:pt x="7609" y="1011"/>
                  </a:lnTo>
                  <a:lnTo>
                    <a:pt x="7645" y="978"/>
                  </a:lnTo>
                  <a:lnTo>
                    <a:pt x="7678" y="946"/>
                  </a:lnTo>
                  <a:lnTo>
                    <a:pt x="7712" y="914"/>
                  </a:lnTo>
                  <a:lnTo>
                    <a:pt x="7743" y="880"/>
                  </a:lnTo>
                  <a:lnTo>
                    <a:pt x="7774" y="848"/>
                  </a:lnTo>
                  <a:lnTo>
                    <a:pt x="7804" y="815"/>
                  </a:lnTo>
                  <a:lnTo>
                    <a:pt x="7832" y="782"/>
                  </a:lnTo>
                  <a:lnTo>
                    <a:pt x="7859" y="748"/>
                  </a:lnTo>
                  <a:lnTo>
                    <a:pt x="7886" y="714"/>
                  </a:lnTo>
                  <a:lnTo>
                    <a:pt x="7910" y="681"/>
                  </a:lnTo>
                  <a:lnTo>
                    <a:pt x="7934" y="646"/>
                  </a:lnTo>
                  <a:lnTo>
                    <a:pt x="7957" y="612"/>
                  </a:lnTo>
                  <a:lnTo>
                    <a:pt x="7978" y="577"/>
                  </a:lnTo>
                  <a:lnTo>
                    <a:pt x="7998" y="542"/>
                  </a:lnTo>
                  <a:lnTo>
                    <a:pt x="8017" y="507"/>
                  </a:lnTo>
                  <a:lnTo>
                    <a:pt x="8036" y="472"/>
                  </a:lnTo>
                  <a:lnTo>
                    <a:pt x="8052" y="437"/>
                  </a:lnTo>
                  <a:lnTo>
                    <a:pt x="8067" y="401"/>
                  </a:lnTo>
                  <a:lnTo>
                    <a:pt x="8081" y="366"/>
                  </a:lnTo>
                  <a:lnTo>
                    <a:pt x="8093" y="330"/>
                  </a:lnTo>
                  <a:lnTo>
                    <a:pt x="8105" y="293"/>
                  </a:lnTo>
                  <a:lnTo>
                    <a:pt x="8116" y="258"/>
                  </a:lnTo>
                  <a:lnTo>
                    <a:pt x="8124" y="221"/>
                  </a:lnTo>
                  <a:lnTo>
                    <a:pt x="8132" y="184"/>
                  </a:lnTo>
                  <a:lnTo>
                    <a:pt x="8138" y="148"/>
                  </a:lnTo>
                  <a:lnTo>
                    <a:pt x="8143" y="111"/>
                  </a:lnTo>
                  <a:lnTo>
                    <a:pt x="8146" y="73"/>
                  </a:lnTo>
                  <a:lnTo>
                    <a:pt x="8148" y="37"/>
                  </a:lnTo>
                  <a:lnTo>
                    <a:pt x="8149" y="0"/>
                  </a:lnTo>
                  <a:lnTo>
                    <a:pt x="8051" y="0"/>
                  </a:lnTo>
                  <a:lnTo>
                    <a:pt x="8050" y="33"/>
                  </a:lnTo>
                  <a:lnTo>
                    <a:pt x="8048" y="67"/>
                  </a:lnTo>
                  <a:lnTo>
                    <a:pt x="8045" y="101"/>
                  </a:lnTo>
                  <a:lnTo>
                    <a:pt x="8041" y="134"/>
                  </a:lnTo>
                  <a:lnTo>
                    <a:pt x="8036" y="167"/>
                  </a:lnTo>
                  <a:lnTo>
                    <a:pt x="8029" y="199"/>
                  </a:lnTo>
                  <a:lnTo>
                    <a:pt x="8020" y="233"/>
                  </a:lnTo>
                  <a:lnTo>
                    <a:pt x="8011" y="266"/>
                  </a:lnTo>
                  <a:lnTo>
                    <a:pt x="8001" y="299"/>
                  </a:lnTo>
                  <a:lnTo>
                    <a:pt x="7989" y="332"/>
                  </a:lnTo>
                  <a:lnTo>
                    <a:pt x="7976" y="365"/>
                  </a:lnTo>
                  <a:lnTo>
                    <a:pt x="7963" y="397"/>
                  </a:lnTo>
                  <a:lnTo>
                    <a:pt x="7947" y="429"/>
                  </a:lnTo>
                  <a:lnTo>
                    <a:pt x="7930" y="463"/>
                  </a:lnTo>
                  <a:lnTo>
                    <a:pt x="7913" y="495"/>
                  </a:lnTo>
                  <a:lnTo>
                    <a:pt x="7894" y="527"/>
                  </a:lnTo>
                  <a:lnTo>
                    <a:pt x="7875" y="560"/>
                  </a:lnTo>
                  <a:lnTo>
                    <a:pt x="7852" y="592"/>
                  </a:lnTo>
                  <a:lnTo>
                    <a:pt x="7830" y="623"/>
                  </a:lnTo>
                  <a:lnTo>
                    <a:pt x="7807" y="655"/>
                  </a:lnTo>
                  <a:lnTo>
                    <a:pt x="7782" y="688"/>
                  </a:lnTo>
                  <a:lnTo>
                    <a:pt x="7756" y="719"/>
                  </a:lnTo>
                  <a:lnTo>
                    <a:pt x="7730" y="750"/>
                  </a:lnTo>
                  <a:lnTo>
                    <a:pt x="7701" y="783"/>
                  </a:lnTo>
                  <a:lnTo>
                    <a:pt x="7672" y="814"/>
                  </a:lnTo>
                  <a:lnTo>
                    <a:pt x="7642" y="845"/>
                  </a:lnTo>
                  <a:lnTo>
                    <a:pt x="7610" y="875"/>
                  </a:lnTo>
                  <a:lnTo>
                    <a:pt x="7578" y="907"/>
                  </a:lnTo>
                  <a:lnTo>
                    <a:pt x="7544" y="938"/>
                  </a:lnTo>
                  <a:lnTo>
                    <a:pt x="7509" y="968"/>
                  </a:lnTo>
                  <a:lnTo>
                    <a:pt x="7473" y="999"/>
                  </a:lnTo>
                  <a:lnTo>
                    <a:pt x="7436" y="1029"/>
                  </a:lnTo>
                  <a:lnTo>
                    <a:pt x="7398" y="1059"/>
                  </a:lnTo>
                  <a:lnTo>
                    <a:pt x="7358" y="1089"/>
                  </a:lnTo>
                  <a:lnTo>
                    <a:pt x="7319" y="1119"/>
                  </a:lnTo>
                  <a:lnTo>
                    <a:pt x="7277" y="1149"/>
                  </a:lnTo>
                  <a:lnTo>
                    <a:pt x="7235" y="1178"/>
                  </a:lnTo>
                  <a:lnTo>
                    <a:pt x="7191" y="1207"/>
                  </a:lnTo>
                  <a:lnTo>
                    <a:pt x="7147" y="1237"/>
                  </a:lnTo>
                  <a:lnTo>
                    <a:pt x="7101" y="1266"/>
                  </a:lnTo>
                  <a:lnTo>
                    <a:pt x="7056" y="1294"/>
                  </a:lnTo>
                  <a:lnTo>
                    <a:pt x="7008" y="1322"/>
                  </a:lnTo>
                  <a:lnTo>
                    <a:pt x="6959" y="1351"/>
                  </a:lnTo>
                  <a:lnTo>
                    <a:pt x="6910" y="1379"/>
                  </a:lnTo>
                  <a:lnTo>
                    <a:pt x="6859" y="1407"/>
                  </a:lnTo>
                  <a:lnTo>
                    <a:pt x="6807" y="1434"/>
                  </a:lnTo>
                  <a:lnTo>
                    <a:pt x="6756" y="1463"/>
                  </a:lnTo>
                  <a:lnTo>
                    <a:pt x="6702" y="1490"/>
                  </a:lnTo>
                  <a:lnTo>
                    <a:pt x="6647" y="1516"/>
                  </a:lnTo>
                  <a:lnTo>
                    <a:pt x="6593" y="1543"/>
                  </a:lnTo>
                  <a:lnTo>
                    <a:pt x="6536" y="1570"/>
                  </a:lnTo>
                  <a:lnTo>
                    <a:pt x="6479" y="1596"/>
                  </a:lnTo>
                  <a:lnTo>
                    <a:pt x="6422" y="1622"/>
                  </a:lnTo>
                  <a:lnTo>
                    <a:pt x="6362" y="1648"/>
                  </a:lnTo>
                  <a:lnTo>
                    <a:pt x="6302" y="1673"/>
                  </a:lnTo>
                  <a:lnTo>
                    <a:pt x="6242" y="1699"/>
                  </a:lnTo>
                  <a:lnTo>
                    <a:pt x="6180" y="1724"/>
                  </a:lnTo>
                  <a:lnTo>
                    <a:pt x="6118" y="1749"/>
                  </a:lnTo>
                  <a:lnTo>
                    <a:pt x="6054" y="1773"/>
                  </a:lnTo>
                  <a:lnTo>
                    <a:pt x="5990" y="1799"/>
                  </a:lnTo>
                  <a:lnTo>
                    <a:pt x="5926" y="1822"/>
                  </a:lnTo>
                  <a:lnTo>
                    <a:pt x="5860" y="1846"/>
                  </a:lnTo>
                  <a:lnTo>
                    <a:pt x="5793" y="1869"/>
                  </a:lnTo>
                  <a:lnTo>
                    <a:pt x="5725" y="1892"/>
                  </a:lnTo>
                  <a:lnTo>
                    <a:pt x="5656" y="1916"/>
                  </a:lnTo>
                  <a:lnTo>
                    <a:pt x="5587" y="1939"/>
                  </a:lnTo>
                  <a:lnTo>
                    <a:pt x="5518" y="1961"/>
                  </a:lnTo>
                  <a:lnTo>
                    <a:pt x="5447" y="1983"/>
                  </a:lnTo>
                  <a:lnTo>
                    <a:pt x="5375" y="2005"/>
                  </a:lnTo>
                  <a:lnTo>
                    <a:pt x="5303" y="2027"/>
                  </a:lnTo>
                  <a:lnTo>
                    <a:pt x="5230" y="2048"/>
                  </a:lnTo>
                  <a:lnTo>
                    <a:pt x="5156" y="2069"/>
                  </a:lnTo>
                  <a:lnTo>
                    <a:pt x="5006" y="2110"/>
                  </a:lnTo>
                  <a:lnTo>
                    <a:pt x="4853" y="2151"/>
                  </a:lnTo>
                  <a:lnTo>
                    <a:pt x="4697" y="2189"/>
                  </a:lnTo>
                  <a:lnTo>
                    <a:pt x="4538" y="2226"/>
                  </a:lnTo>
                  <a:lnTo>
                    <a:pt x="4376" y="2263"/>
                  </a:lnTo>
                  <a:lnTo>
                    <a:pt x="4212" y="2298"/>
                  </a:lnTo>
                  <a:lnTo>
                    <a:pt x="4046" y="2331"/>
                  </a:lnTo>
                  <a:lnTo>
                    <a:pt x="3876" y="2364"/>
                  </a:lnTo>
                  <a:lnTo>
                    <a:pt x="3705" y="2395"/>
                  </a:lnTo>
                  <a:lnTo>
                    <a:pt x="3530" y="2424"/>
                  </a:lnTo>
                  <a:lnTo>
                    <a:pt x="3354" y="2452"/>
                  </a:lnTo>
                  <a:lnTo>
                    <a:pt x="3175" y="2479"/>
                  </a:lnTo>
                  <a:lnTo>
                    <a:pt x="2993" y="2504"/>
                  </a:lnTo>
                  <a:lnTo>
                    <a:pt x="2810" y="2528"/>
                  </a:lnTo>
                  <a:lnTo>
                    <a:pt x="2625" y="2550"/>
                  </a:lnTo>
                  <a:lnTo>
                    <a:pt x="2437" y="2570"/>
                  </a:lnTo>
                  <a:lnTo>
                    <a:pt x="2247" y="2591"/>
                  </a:lnTo>
                  <a:lnTo>
                    <a:pt x="2056" y="2608"/>
                  </a:lnTo>
                  <a:lnTo>
                    <a:pt x="1862" y="2624"/>
                  </a:lnTo>
                  <a:lnTo>
                    <a:pt x="1668" y="2638"/>
                  </a:lnTo>
                  <a:lnTo>
                    <a:pt x="1471" y="2651"/>
                  </a:lnTo>
                  <a:lnTo>
                    <a:pt x="1272" y="2662"/>
                  </a:lnTo>
                  <a:lnTo>
                    <a:pt x="1072" y="2672"/>
                  </a:lnTo>
                  <a:lnTo>
                    <a:pt x="870" y="2680"/>
                  </a:lnTo>
                  <a:lnTo>
                    <a:pt x="667" y="2686"/>
                  </a:lnTo>
                  <a:lnTo>
                    <a:pt x="462" y="2690"/>
                  </a:lnTo>
                  <a:lnTo>
                    <a:pt x="257" y="2692"/>
                  </a:lnTo>
                  <a:lnTo>
                    <a:pt x="49" y="2693"/>
                  </a:lnTo>
                  <a:lnTo>
                    <a:pt x="49" y="2693"/>
                  </a:lnTo>
                  <a:lnTo>
                    <a:pt x="49" y="2693"/>
                  </a:lnTo>
                  <a:lnTo>
                    <a:pt x="43" y="2695"/>
                  </a:lnTo>
                  <a:lnTo>
                    <a:pt x="38" y="2695"/>
                  </a:lnTo>
                  <a:lnTo>
                    <a:pt x="33" y="2697"/>
                  </a:lnTo>
                  <a:lnTo>
                    <a:pt x="28" y="2699"/>
                  </a:lnTo>
                  <a:lnTo>
                    <a:pt x="23" y="2701"/>
                  </a:lnTo>
                  <a:lnTo>
                    <a:pt x="19" y="2703"/>
                  </a:lnTo>
                  <a:lnTo>
                    <a:pt x="16" y="2706"/>
                  </a:lnTo>
                  <a:lnTo>
                    <a:pt x="13" y="2710"/>
                  </a:lnTo>
                  <a:lnTo>
                    <a:pt x="6" y="2717"/>
                  </a:lnTo>
                  <a:lnTo>
                    <a:pt x="3" y="2725"/>
                  </a:lnTo>
                  <a:lnTo>
                    <a:pt x="0" y="2734"/>
                  </a:lnTo>
                  <a:lnTo>
                    <a:pt x="0" y="2743"/>
                  </a:lnTo>
                  <a:lnTo>
                    <a:pt x="0" y="2752"/>
                  </a:lnTo>
                  <a:lnTo>
                    <a:pt x="3" y="2761"/>
                  </a:lnTo>
                  <a:lnTo>
                    <a:pt x="6" y="2769"/>
                  </a:lnTo>
                  <a:lnTo>
                    <a:pt x="13" y="2776"/>
                  </a:lnTo>
                  <a:lnTo>
                    <a:pt x="16" y="2780"/>
                  </a:lnTo>
                  <a:lnTo>
                    <a:pt x="19" y="2783"/>
                  </a:lnTo>
                  <a:lnTo>
                    <a:pt x="23" y="2785"/>
                  </a:lnTo>
                  <a:lnTo>
                    <a:pt x="28" y="2787"/>
                  </a:lnTo>
                  <a:lnTo>
                    <a:pt x="33" y="2789"/>
                  </a:lnTo>
                  <a:lnTo>
                    <a:pt x="38" y="2790"/>
                  </a:lnTo>
                  <a:lnTo>
                    <a:pt x="43" y="2791"/>
                  </a:lnTo>
                  <a:lnTo>
                    <a:pt x="49" y="279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514760" y="4152600"/>
              <a:ext cx="475920" cy="166320"/>
            </a:xfrm>
            <a:custGeom>
              <a:avLst/>
              <a:gdLst/>
              <a:ahLst/>
              <a:rect l="l" t="t" r="r" b="b"/>
              <a:pathLst>
                <a:path w="8100" h="2841">
                  <a:moveTo>
                    <a:pt x="0" y="50"/>
                  </a:moveTo>
                  <a:lnTo>
                    <a:pt x="0" y="50"/>
                  </a:lnTo>
                  <a:lnTo>
                    <a:pt x="1" y="87"/>
                  </a:lnTo>
                  <a:lnTo>
                    <a:pt x="3" y="123"/>
                  </a:lnTo>
                  <a:lnTo>
                    <a:pt x="6" y="161"/>
                  </a:lnTo>
                  <a:lnTo>
                    <a:pt x="11" y="198"/>
                  </a:lnTo>
                  <a:lnTo>
                    <a:pt x="17" y="234"/>
                  </a:lnTo>
                  <a:lnTo>
                    <a:pt x="24" y="271"/>
                  </a:lnTo>
                  <a:lnTo>
                    <a:pt x="33" y="308"/>
                  </a:lnTo>
                  <a:lnTo>
                    <a:pt x="44" y="343"/>
                  </a:lnTo>
                  <a:lnTo>
                    <a:pt x="55" y="380"/>
                  </a:lnTo>
                  <a:lnTo>
                    <a:pt x="68" y="416"/>
                  </a:lnTo>
                  <a:lnTo>
                    <a:pt x="82" y="451"/>
                  </a:lnTo>
                  <a:lnTo>
                    <a:pt x="97" y="487"/>
                  </a:lnTo>
                  <a:lnTo>
                    <a:pt x="113" y="522"/>
                  </a:lnTo>
                  <a:lnTo>
                    <a:pt x="132" y="557"/>
                  </a:lnTo>
                  <a:lnTo>
                    <a:pt x="151" y="592"/>
                  </a:lnTo>
                  <a:lnTo>
                    <a:pt x="171" y="627"/>
                  </a:lnTo>
                  <a:lnTo>
                    <a:pt x="192" y="662"/>
                  </a:lnTo>
                  <a:lnTo>
                    <a:pt x="215" y="696"/>
                  </a:lnTo>
                  <a:lnTo>
                    <a:pt x="239" y="731"/>
                  </a:lnTo>
                  <a:lnTo>
                    <a:pt x="263" y="764"/>
                  </a:lnTo>
                  <a:lnTo>
                    <a:pt x="290" y="798"/>
                  </a:lnTo>
                  <a:lnTo>
                    <a:pt x="317" y="832"/>
                  </a:lnTo>
                  <a:lnTo>
                    <a:pt x="345" y="865"/>
                  </a:lnTo>
                  <a:lnTo>
                    <a:pt x="375" y="898"/>
                  </a:lnTo>
                  <a:lnTo>
                    <a:pt x="406" y="930"/>
                  </a:lnTo>
                  <a:lnTo>
                    <a:pt x="437" y="964"/>
                  </a:lnTo>
                  <a:lnTo>
                    <a:pt x="471" y="996"/>
                  </a:lnTo>
                  <a:lnTo>
                    <a:pt x="504" y="1028"/>
                  </a:lnTo>
                  <a:lnTo>
                    <a:pt x="540" y="1061"/>
                  </a:lnTo>
                  <a:lnTo>
                    <a:pt x="576" y="1092"/>
                  </a:lnTo>
                  <a:lnTo>
                    <a:pt x="613" y="1124"/>
                  </a:lnTo>
                  <a:lnTo>
                    <a:pt x="651" y="1155"/>
                  </a:lnTo>
                  <a:lnTo>
                    <a:pt x="691" y="1186"/>
                  </a:lnTo>
                  <a:lnTo>
                    <a:pt x="731" y="1217"/>
                  </a:lnTo>
                  <a:lnTo>
                    <a:pt x="773" y="1248"/>
                  </a:lnTo>
                  <a:lnTo>
                    <a:pt x="815" y="1279"/>
                  </a:lnTo>
                  <a:lnTo>
                    <a:pt x="859" y="1309"/>
                  </a:lnTo>
                  <a:lnTo>
                    <a:pt x="903" y="1339"/>
                  </a:lnTo>
                  <a:lnTo>
                    <a:pt x="949" y="1368"/>
                  </a:lnTo>
                  <a:lnTo>
                    <a:pt x="995" y="1399"/>
                  </a:lnTo>
                  <a:lnTo>
                    <a:pt x="1043" y="1428"/>
                  </a:lnTo>
                  <a:lnTo>
                    <a:pt x="1091" y="1457"/>
                  </a:lnTo>
                  <a:lnTo>
                    <a:pt x="1141" y="1485"/>
                  </a:lnTo>
                  <a:lnTo>
                    <a:pt x="1191" y="1515"/>
                  </a:lnTo>
                  <a:lnTo>
                    <a:pt x="1242" y="1543"/>
                  </a:lnTo>
                  <a:lnTo>
                    <a:pt x="1295" y="1571"/>
                  </a:lnTo>
                  <a:lnTo>
                    <a:pt x="1349" y="1599"/>
                  </a:lnTo>
                  <a:lnTo>
                    <a:pt x="1402" y="1627"/>
                  </a:lnTo>
                  <a:lnTo>
                    <a:pt x="1458" y="1654"/>
                  </a:lnTo>
                  <a:lnTo>
                    <a:pt x="1514" y="1681"/>
                  </a:lnTo>
                  <a:lnTo>
                    <a:pt x="1571" y="1708"/>
                  </a:lnTo>
                  <a:lnTo>
                    <a:pt x="1629" y="1735"/>
                  </a:lnTo>
                  <a:lnTo>
                    <a:pt x="1688" y="1762"/>
                  </a:lnTo>
                  <a:lnTo>
                    <a:pt x="1748" y="1788"/>
                  </a:lnTo>
                  <a:lnTo>
                    <a:pt x="1808" y="1813"/>
                  </a:lnTo>
                  <a:lnTo>
                    <a:pt x="1870" y="1840"/>
                  </a:lnTo>
                  <a:lnTo>
                    <a:pt x="1932" y="1865"/>
                  </a:lnTo>
                  <a:lnTo>
                    <a:pt x="1995" y="1890"/>
                  </a:lnTo>
                  <a:lnTo>
                    <a:pt x="2059" y="1915"/>
                  </a:lnTo>
                  <a:lnTo>
                    <a:pt x="2124" y="1939"/>
                  </a:lnTo>
                  <a:lnTo>
                    <a:pt x="2190" y="1964"/>
                  </a:lnTo>
                  <a:lnTo>
                    <a:pt x="2257" y="1988"/>
                  </a:lnTo>
                  <a:lnTo>
                    <a:pt x="2324" y="2012"/>
                  </a:lnTo>
                  <a:lnTo>
                    <a:pt x="2393" y="2035"/>
                  </a:lnTo>
                  <a:lnTo>
                    <a:pt x="2461" y="2058"/>
                  </a:lnTo>
                  <a:lnTo>
                    <a:pt x="2531" y="2082"/>
                  </a:lnTo>
                  <a:lnTo>
                    <a:pt x="2602" y="2104"/>
                  </a:lnTo>
                  <a:lnTo>
                    <a:pt x="2673" y="2127"/>
                  </a:lnTo>
                  <a:lnTo>
                    <a:pt x="2745" y="2148"/>
                  </a:lnTo>
                  <a:lnTo>
                    <a:pt x="2819" y="2170"/>
                  </a:lnTo>
                  <a:lnTo>
                    <a:pt x="2892" y="2192"/>
                  </a:lnTo>
                  <a:lnTo>
                    <a:pt x="2967" y="2213"/>
                  </a:lnTo>
                  <a:lnTo>
                    <a:pt x="3117" y="2255"/>
                  </a:lnTo>
                  <a:lnTo>
                    <a:pt x="3272" y="2296"/>
                  </a:lnTo>
                  <a:lnTo>
                    <a:pt x="3429" y="2334"/>
                  </a:lnTo>
                  <a:lnTo>
                    <a:pt x="3588" y="2372"/>
                  </a:lnTo>
                  <a:lnTo>
                    <a:pt x="3751" y="2409"/>
                  </a:lnTo>
                  <a:lnTo>
                    <a:pt x="3916" y="2444"/>
                  </a:lnTo>
                  <a:lnTo>
                    <a:pt x="4084" y="2477"/>
                  </a:lnTo>
                  <a:lnTo>
                    <a:pt x="4255" y="2509"/>
                  </a:lnTo>
                  <a:lnTo>
                    <a:pt x="4428" y="2541"/>
                  </a:lnTo>
                  <a:lnTo>
                    <a:pt x="4603" y="2571"/>
                  </a:lnTo>
                  <a:lnTo>
                    <a:pt x="4780" y="2599"/>
                  </a:lnTo>
                  <a:lnTo>
                    <a:pt x="4960" y="2625"/>
                  </a:lnTo>
                  <a:lnTo>
                    <a:pt x="5142" y="2651"/>
                  </a:lnTo>
                  <a:lnTo>
                    <a:pt x="5327" y="2675"/>
                  </a:lnTo>
                  <a:lnTo>
                    <a:pt x="5513" y="2697"/>
                  </a:lnTo>
                  <a:lnTo>
                    <a:pt x="5701" y="2718"/>
                  </a:lnTo>
                  <a:lnTo>
                    <a:pt x="5892" y="2737"/>
                  </a:lnTo>
                  <a:lnTo>
                    <a:pt x="6084" y="2756"/>
                  </a:lnTo>
                  <a:lnTo>
                    <a:pt x="6279" y="2772"/>
                  </a:lnTo>
                  <a:lnTo>
                    <a:pt x="6475" y="2786"/>
                  </a:lnTo>
                  <a:lnTo>
                    <a:pt x="6672" y="2799"/>
                  </a:lnTo>
                  <a:lnTo>
                    <a:pt x="6872" y="2810"/>
                  </a:lnTo>
                  <a:lnTo>
                    <a:pt x="7073" y="2819"/>
                  </a:lnTo>
                  <a:lnTo>
                    <a:pt x="7276" y="2827"/>
                  </a:lnTo>
                  <a:lnTo>
                    <a:pt x="7479" y="2833"/>
                  </a:lnTo>
                  <a:lnTo>
                    <a:pt x="7685" y="2838"/>
                  </a:lnTo>
                  <a:lnTo>
                    <a:pt x="7892" y="2841"/>
                  </a:lnTo>
                  <a:lnTo>
                    <a:pt x="8100" y="2841"/>
                  </a:lnTo>
                  <a:lnTo>
                    <a:pt x="8100" y="2743"/>
                  </a:lnTo>
                  <a:lnTo>
                    <a:pt x="7892" y="2742"/>
                  </a:lnTo>
                  <a:lnTo>
                    <a:pt x="7687" y="2740"/>
                  </a:lnTo>
                  <a:lnTo>
                    <a:pt x="7482" y="2736"/>
                  </a:lnTo>
                  <a:lnTo>
                    <a:pt x="7279" y="2730"/>
                  </a:lnTo>
                  <a:lnTo>
                    <a:pt x="7077" y="2722"/>
                  </a:lnTo>
                  <a:lnTo>
                    <a:pt x="6877" y="2712"/>
                  </a:lnTo>
                  <a:lnTo>
                    <a:pt x="6678" y="2701"/>
                  </a:lnTo>
                  <a:lnTo>
                    <a:pt x="6481" y="2688"/>
                  </a:lnTo>
                  <a:lnTo>
                    <a:pt x="6287" y="2674"/>
                  </a:lnTo>
                  <a:lnTo>
                    <a:pt x="6093" y="2658"/>
                  </a:lnTo>
                  <a:lnTo>
                    <a:pt x="5902" y="2641"/>
                  </a:lnTo>
                  <a:lnTo>
                    <a:pt x="5712" y="2620"/>
                  </a:lnTo>
                  <a:lnTo>
                    <a:pt x="5524" y="2600"/>
                  </a:lnTo>
                  <a:lnTo>
                    <a:pt x="5339" y="2578"/>
                  </a:lnTo>
                  <a:lnTo>
                    <a:pt x="5156" y="2554"/>
                  </a:lnTo>
                  <a:lnTo>
                    <a:pt x="4974" y="2529"/>
                  </a:lnTo>
                  <a:lnTo>
                    <a:pt x="4795" y="2502"/>
                  </a:lnTo>
                  <a:lnTo>
                    <a:pt x="4619" y="2474"/>
                  </a:lnTo>
                  <a:lnTo>
                    <a:pt x="4444" y="2445"/>
                  </a:lnTo>
                  <a:lnTo>
                    <a:pt x="4273" y="2414"/>
                  </a:lnTo>
                  <a:lnTo>
                    <a:pt x="4103" y="2381"/>
                  </a:lnTo>
                  <a:lnTo>
                    <a:pt x="3937" y="2348"/>
                  </a:lnTo>
                  <a:lnTo>
                    <a:pt x="3772" y="2313"/>
                  </a:lnTo>
                  <a:lnTo>
                    <a:pt x="3611" y="2276"/>
                  </a:lnTo>
                  <a:lnTo>
                    <a:pt x="3452" y="2239"/>
                  </a:lnTo>
                  <a:lnTo>
                    <a:pt x="3296" y="2201"/>
                  </a:lnTo>
                  <a:lnTo>
                    <a:pt x="3143" y="2160"/>
                  </a:lnTo>
                  <a:lnTo>
                    <a:pt x="2993" y="2119"/>
                  </a:lnTo>
                  <a:lnTo>
                    <a:pt x="2919" y="2098"/>
                  </a:lnTo>
                  <a:lnTo>
                    <a:pt x="2846" y="2077"/>
                  </a:lnTo>
                  <a:lnTo>
                    <a:pt x="2774" y="2055"/>
                  </a:lnTo>
                  <a:lnTo>
                    <a:pt x="2702" y="2033"/>
                  </a:lnTo>
                  <a:lnTo>
                    <a:pt x="2631" y="2011"/>
                  </a:lnTo>
                  <a:lnTo>
                    <a:pt x="2562" y="1989"/>
                  </a:lnTo>
                  <a:lnTo>
                    <a:pt x="2493" y="1966"/>
                  </a:lnTo>
                  <a:lnTo>
                    <a:pt x="2424" y="1942"/>
                  </a:lnTo>
                  <a:lnTo>
                    <a:pt x="2356" y="1919"/>
                  </a:lnTo>
                  <a:lnTo>
                    <a:pt x="2289" y="1896"/>
                  </a:lnTo>
                  <a:lnTo>
                    <a:pt x="2223" y="1872"/>
                  </a:lnTo>
                  <a:lnTo>
                    <a:pt x="2159" y="1849"/>
                  </a:lnTo>
                  <a:lnTo>
                    <a:pt x="2095" y="1823"/>
                  </a:lnTo>
                  <a:lnTo>
                    <a:pt x="2031" y="1799"/>
                  </a:lnTo>
                  <a:lnTo>
                    <a:pt x="1968" y="1774"/>
                  </a:lnTo>
                  <a:lnTo>
                    <a:pt x="1907" y="1749"/>
                  </a:lnTo>
                  <a:lnTo>
                    <a:pt x="1847" y="1723"/>
                  </a:lnTo>
                  <a:lnTo>
                    <a:pt x="1787" y="1698"/>
                  </a:lnTo>
                  <a:lnTo>
                    <a:pt x="1727" y="1672"/>
                  </a:lnTo>
                  <a:lnTo>
                    <a:pt x="1670" y="1646"/>
                  </a:lnTo>
                  <a:lnTo>
                    <a:pt x="1613" y="1620"/>
                  </a:lnTo>
                  <a:lnTo>
                    <a:pt x="1556" y="1593"/>
                  </a:lnTo>
                  <a:lnTo>
                    <a:pt x="1502" y="1566"/>
                  </a:lnTo>
                  <a:lnTo>
                    <a:pt x="1447" y="1540"/>
                  </a:lnTo>
                  <a:lnTo>
                    <a:pt x="1393" y="1513"/>
                  </a:lnTo>
                  <a:lnTo>
                    <a:pt x="1342" y="1484"/>
                  </a:lnTo>
                  <a:lnTo>
                    <a:pt x="1290" y="1457"/>
                  </a:lnTo>
                  <a:lnTo>
                    <a:pt x="1239" y="1429"/>
                  </a:lnTo>
                  <a:lnTo>
                    <a:pt x="1190" y="1401"/>
                  </a:lnTo>
                  <a:lnTo>
                    <a:pt x="1141" y="1372"/>
                  </a:lnTo>
                  <a:lnTo>
                    <a:pt x="1094" y="1344"/>
                  </a:lnTo>
                  <a:lnTo>
                    <a:pt x="1047" y="1316"/>
                  </a:lnTo>
                  <a:lnTo>
                    <a:pt x="1002" y="1287"/>
                  </a:lnTo>
                  <a:lnTo>
                    <a:pt x="958" y="1257"/>
                  </a:lnTo>
                  <a:lnTo>
                    <a:pt x="914" y="1228"/>
                  </a:lnTo>
                  <a:lnTo>
                    <a:pt x="872" y="1199"/>
                  </a:lnTo>
                  <a:lnTo>
                    <a:pt x="830" y="1169"/>
                  </a:lnTo>
                  <a:lnTo>
                    <a:pt x="790" y="1139"/>
                  </a:lnTo>
                  <a:lnTo>
                    <a:pt x="751" y="1109"/>
                  </a:lnTo>
                  <a:lnTo>
                    <a:pt x="713" y="1079"/>
                  </a:lnTo>
                  <a:lnTo>
                    <a:pt x="676" y="1049"/>
                  </a:lnTo>
                  <a:lnTo>
                    <a:pt x="640" y="1018"/>
                  </a:lnTo>
                  <a:lnTo>
                    <a:pt x="605" y="988"/>
                  </a:lnTo>
                  <a:lnTo>
                    <a:pt x="571" y="957"/>
                  </a:lnTo>
                  <a:lnTo>
                    <a:pt x="539" y="925"/>
                  </a:lnTo>
                  <a:lnTo>
                    <a:pt x="507" y="895"/>
                  </a:lnTo>
                  <a:lnTo>
                    <a:pt x="477" y="864"/>
                  </a:lnTo>
                  <a:lnTo>
                    <a:pt x="448" y="833"/>
                  </a:lnTo>
                  <a:lnTo>
                    <a:pt x="419" y="800"/>
                  </a:lnTo>
                  <a:lnTo>
                    <a:pt x="393" y="769"/>
                  </a:lnTo>
                  <a:lnTo>
                    <a:pt x="367" y="738"/>
                  </a:lnTo>
                  <a:lnTo>
                    <a:pt x="342" y="705"/>
                  </a:lnTo>
                  <a:lnTo>
                    <a:pt x="318" y="673"/>
                  </a:lnTo>
                  <a:lnTo>
                    <a:pt x="296" y="642"/>
                  </a:lnTo>
                  <a:lnTo>
                    <a:pt x="275" y="610"/>
                  </a:lnTo>
                  <a:lnTo>
                    <a:pt x="255" y="577"/>
                  </a:lnTo>
                  <a:lnTo>
                    <a:pt x="236" y="545"/>
                  </a:lnTo>
                  <a:lnTo>
                    <a:pt x="219" y="513"/>
                  </a:lnTo>
                  <a:lnTo>
                    <a:pt x="201" y="479"/>
                  </a:lnTo>
                  <a:lnTo>
                    <a:pt x="186" y="447"/>
                  </a:lnTo>
                  <a:lnTo>
                    <a:pt x="172" y="415"/>
                  </a:lnTo>
                  <a:lnTo>
                    <a:pt x="160" y="382"/>
                  </a:lnTo>
                  <a:lnTo>
                    <a:pt x="148" y="349"/>
                  </a:lnTo>
                  <a:lnTo>
                    <a:pt x="138" y="316"/>
                  </a:lnTo>
                  <a:lnTo>
                    <a:pt x="129" y="283"/>
                  </a:lnTo>
                  <a:lnTo>
                    <a:pt x="120" y="249"/>
                  </a:lnTo>
                  <a:lnTo>
                    <a:pt x="113" y="217"/>
                  </a:lnTo>
                  <a:lnTo>
                    <a:pt x="108" y="184"/>
                  </a:lnTo>
                  <a:lnTo>
                    <a:pt x="104" y="151"/>
                  </a:lnTo>
                  <a:lnTo>
                    <a:pt x="100" y="117"/>
                  </a:lnTo>
                  <a:lnTo>
                    <a:pt x="99" y="83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44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4" y="28"/>
                  </a:lnTo>
                  <a:lnTo>
                    <a:pt x="92" y="23"/>
                  </a:lnTo>
                  <a:lnTo>
                    <a:pt x="89" y="19"/>
                  </a:lnTo>
                  <a:lnTo>
                    <a:pt x="86" y="16"/>
                  </a:lnTo>
                  <a:lnTo>
                    <a:pt x="83" y="12"/>
                  </a:lnTo>
                  <a:lnTo>
                    <a:pt x="76" y="7"/>
                  </a:lnTo>
                  <a:lnTo>
                    <a:pt x="67" y="3"/>
                  </a:lnTo>
                  <a:lnTo>
                    <a:pt x="59" y="1"/>
                  </a:lnTo>
                  <a:lnTo>
                    <a:pt x="50" y="0"/>
                  </a:lnTo>
                  <a:lnTo>
                    <a:pt x="39" y="1"/>
                  </a:lnTo>
                  <a:lnTo>
                    <a:pt x="31" y="3"/>
                  </a:lnTo>
                  <a:lnTo>
                    <a:pt x="22" y="7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4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514760" y="3990960"/>
              <a:ext cx="479160" cy="163440"/>
            </a:xfrm>
            <a:custGeom>
              <a:avLst/>
              <a:gdLst/>
              <a:ahLst/>
              <a:rect l="l" t="t" r="r" b="b"/>
              <a:pathLst>
                <a:path w="8150" h="2793">
                  <a:moveTo>
                    <a:pt x="8100" y="0"/>
                  </a:moveTo>
                  <a:lnTo>
                    <a:pt x="8100" y="0"/>
                  </a:lnTo>
                  <a:lnTo>
                    <a:pt x="7892" y="1"/>
                  </a:lnTo>
                  <a:lnTo>
                    <a:pt x="7685" y="4"/>
                  </a:lnTo>
                  <a:lnTo>
                    <a:pt x="7479" y="8"/>
                  </a:lnTo>
                  <a:lnTo>
                    <a:pt x="7276" y="14"/>
                  </a:lnTo>
                  <a:lnTo>
                    <a:pt x="7073" y="22"/>
                  </a:lnTo>
                  <a:lnTo>
                    <a:pt x="6872" y="32"/>
                  </a:lnTo>
                  <a:lnTo>
                    <a:pt x="6672" y="43"/>
                  </a:lnTo>
                  <a:lnTo>
                    <a:pt x="6475" y="55"/>
                  </a:lnTo>
                  <a:lnTo>
                    <a:pt x="6279" y="71"/>
                  </a:lnTo>
                  <a:lnTo>
                    <a:pt x="6084" y="87"/>
                  </a:lnTo>
                  <a:lnTo>
                    <a:pt x="5892" y="105"/>
                  </a:lnTo>
                  <a:lnTo>
                    <a:pt x="5701" y="124"/>
                  </a:lnTo>
                  <a:lnTo>
                    <a:pt x="5513" y="144"/>
                  </a:lnTo>
                  <a:lnTo>
                    <a:pt x="5327" y="166"/>
                  </a:lnTo>
                  <a:lnTo>
                    <a:pt x="5142" y="191"/>
                  </a:lnTo>
                  <a:lnTo>
                    <a:pt x="4960" y="216"/>
                  </a:lnTo>
                  <a:lnTo>
                    <a:pt x="4780" y="243"/>
                  </a:lnTo>
                  <a:lnTo>
                    <a:pt x="4603" y="271"/>
                  </a:lnTo>
                  <a:lnTo>
                    <a:pt x="4428" y="301"/>
                  </a:lnTo>
                  <a:lnTo>
                    <a:pt x="4255" y="332"/>
                  </a:lnTo>
                  <a:lnTo>
                    <a:pt x="4084" y="364"/>
                  </a:lnTo>
                  <a:lnTo>
                    <a:pt x="3916" y="399"/>
                  </a:lnTo>
                  <a:lnTo>
                    <a:pt x="3751" y="434"/>
                  </a:lnTo>
                  <a:lnTo>
                    <a:pt x="3588" y="470"/>
                  </a:lnTo>
                  <a:lnTo>
                    <a:pt x="3429" y="507"/>
                  </a:lnTo>
                  <a:lnTo>
                    <a:pt x="3272" y="547"/>
                  </a:lnTo>
                  <a:lnTo>
                    <a:pt x="3117" y="587"/>
                  </a:lnTo>
                  <a:lnTo>
                    <a:pt x="2967" y="629"/>
                  </a:lnTo>
                  <a:lnTo>
                    <a:pt x="2819" y="672"/>
                  </a:lnTo>
                  <a:lnTo>
                    <a:pt x="2673" y="715"/>
                  </a:lnTo>
                  <a:lnTo>
                    <a:pt x="2602" y="738"/>
                  </a:lnTo>
                  <a:lnTo>
                    <a:pt x="2531" y="761"/>
                  </a:lnTo>
                  <a:lnTo>
                    <a:pt x="2461" y="783"/>
                  </a:lnTo>
                  <a:lnTo>
                    <a:pt x="2393" y="806"/>
                  </a:lnTo>
                  <a:lnTo>
                    <a:pt x="2324" y="830"/>
                  </a:lnTo>
                  <a:lnTo>
                    <a:pt x="2257" y="854"/>
                  </a:lnTo>
                  <a:lnTo>
                    <a:pt x="2190" y="878"/>
                  </a:lnTo>
                  <a:lnTo>
                    <a:pt x="2124" y="902"/>
                  </a:lnTo>
                  <a:lnTo>
                    <a:pt x="2059" y="927"/>
                  </a:lnTo>
                  <a:lnTo>
                    <a:pt x="1995" y="951"/>
                  </a:lnTo>
                  <a:lnTo>
                    <a:pt x="1932" y="977"/>
                  </a:lnTo>
                  <a:lnTo>
                    <a:pt x="1870" y="1003"/>
                  </a:lnTo>
                  <a:lnTo>
                    <a:pt x="1808" y="1028"/>
                  </a:lnTo>
                  <a:lnTo>
                    <a:pt x="1748" y="1054"/>
                  </a:lnTo>
                  <a:lnTo>
                    <a:pt x="1688" y="1081"/>
                  </a:lnTo>
                  <a:lnTo>
                    <a:pt x="1629" y="1107"/>
                  </a:lnTo>
                  <a:lnTo>
                    <a:pt x="1571" y="1134"/>
                  </a:lnTo>
                  <a:lnTo>
                    <a:pt x="1514" y="1160"/>
                  </a:lnTo>
                  <a:lnTo>
                    <a:pt x="1458" y="1187"/>
                  </a:lnTo>
                  <a:lnTo>
                    <a:pt x="1402" y="1216"/>
                  </a:lnTo>
                  <a:lnTo>
                    <a:pt x="1349" y="1243"/>
                  </a:lnTo>
                  <a:lnTo>
                    <a:pt x="1295" y="1271"/>
                  </a:lnTo>
                  <a:lnTo>
                    <a:pt x="1242" y="1299"/>
                  </a:lnTo>
                  <a:lnTo>
                    <a:pt x="1191" y="1328"/>
                  </a:lnTo>
                  <a:lnTo>
                    <a:pt x="1141" y="1356"/>
                  </a:lnTo>
                  <a:lnTo>
                    <a:pt x="1091" y="1385"/>
                  </a:lnTo>
                  <a:lnTo>
                    <a:pt x="1043" y="1415"/>
                  </a:lnTo>
                  <a:lnTo>
                    <a:pt x="995" y="1444"/>
                  </a:lnTo>
                  <a:lnTo>
                    <a:pt x="949" y="1473"/>
                  </a:lnTo>
                  <a:lnTo>
                    <a:pt x="903" y="1503"/>
                  </a:lnTo>
                  <a:lnTo>
                    <a:pt x="859" y="1534"/>
                  </a:lnTo>
                  <a:lnTo>
                    <a:pt x="815" y="1564"/>
                  </a:lnTo>
                  <a:lnTo>
                    <a:pt x="773" y="1594"/>
                  </a:lnTo>
                  <a:lnTo>
                    <a:pt x="731" y="1624"/>
                  </a:lnTo>
                  <a:lnTo>
                    <a:pt x="691" y="1656"/>
                  </a:lnTo>
                  <a:lnTo>
                    <a:pt x="651" y="1687"/>
                  </a:lnTo>
                  <a:lnTo>
                    <a:pt x="613" y="1718"/>
                  </a:lnTo>
                  <a:lnTo>
                    <a:pt x="576" y="1749"/>
                  </a:lnTo>
                  <a:lnTo>
                    <a:pt x="540" y="1782"/>
                  </a:lnTo>
                  <a:lnTo>
                    <a:pt x="504" y="1814"/>
                  </a:lnTo>
                  <a:lnTo>
                    <a:pt x="471" y="1846"/>
                  </a:lnTo>
                  <a:lnTo>
                    <a:pt x="437" y="1879"/>
                  </a:lnTo>
                  <a:lnTo>
                    <a:pt x="406" y="1911"/>
                  </a:lnTo>
                  <a:lnTo>
                    <a:pt x="375" y="1944"/>
                  </a:lnTo>
                  <a:lnTo>
                    <a:pt x="345" y="1977"/>
                  </a:lnTo>
                  <a:lnTo>
                    <a:pt x="317" y="2011"/>
                  </a:lnTo>
                  <a:lnTo>
                    <a:pt x="290" y="2044"/>
                  </a:lnTo>
                  <a:lnTo>
                    <a:pt x="263" y="2077"/>
                  </a:lnTo>
                  <a:lnTo>
                    <a:pt x="239" y="2112"/>
                  </a:lnTo>
                  <a:lnTo>
                    <a:pt x="215" y="2146"/>
                  </a:lnTo>
                  <a:lnTo>
                    <a:pt x="192" y="2180"/>
                  </a:lnTo>
                  <a:lnTo>
                    <a:pt x="171" y="2215"/>
                  </a:lnTo>
                  <a:lnTo>
                    <a:pt x="151" y="2250"/>
                  </a:lnTo>
                  <a:lnTo>
                    <a:pt x="132" y="2284"/>
                  </a:lnTo>
                  <a:lnTo>
                    <a:pt x="113" y="2320"/>
                  </a:lnTo>
                  <a:lnTo>
                    <a:pt x="97" y="2355"/>
                  </a:lnTo>
                  <a:lnTo>
                    <a:pt x="82" y="2390"/>
                  </a:lnTo>
                  <a:lnTo>
                    <a:pt x="68" y="2426"/>
                  </a:lnTo>
                  <a:lnTo>
                    <a:pt x="55" y="2462"/>
                  </a:lnTo>
                  <a:lnTo>
                    <a:pt x="44" y="2498"/>
                  </a:lnTo>
                  <a:lnTo>
                    <a:pt x="33" y="2534"/>
                  </a:lnTo>
                  <a:lnTo>
                    <a:pt x="24" y="2571"/>
                  </a:lnTo>
                  <a:lnTo>
                    <a:pt x="17" y="2608"/>
                  </a:lnTo>
                  <a:lnTo>
                    <a:pt x="11" y="2644"/>
                  </a:lnTo>
                  <a:lnTo>
                    <a:pt x="6" y="2681"/>
                  </a:lnTo>
                  <a:lnTo>
                    <a:pt x="3" y="2718"/>
                  </a:lnTo>
                  <a:lnTo>
                    <a:pt x="1" y="2755"/>
                  </a:lnTo>
                  <a:lnTo>
                    <a:pt x="0" y="2793"/>
                  </a:lnTo>
                  <a:lnTo>
                    <a:pt x="98" y="2793"/>
                  </a:lnTo>
                  <a:lnTo>
                    <a:pt x="99" y="2758"/>
                  </a:lnTo>
                  <a:lnTo>
                    <a:pt x="100" y="2725"/>
                  </a:lnTo>
                  <a:lnTo>
                    <a:pt x="104" y="2692"/>
                  </a:lnTo>
                  <a:lnTo>
                    <a:pt x="108" y="2658"/>
                  </a:lnTo>
                  <a:lnTo>
                    <a:pt x="113" y="2625"/>
                  </a:lnTo>
                  <a:lnTo>
                    <a:pt x="120" y="2592"/>
                  </a:lnTo>
                  <a:lnTo>
                    <a:pt x="129" y="2559"/>
                  </a:lnTo>
                  <a:lnTo>
                    <a:pt x="138" y="2526"/>
                  </a:lnTo>
                  <a:lnTo>
                    <a:pt x="148" y="2493"/>
                  </a:lnTo>
                  <a:lnTo>
                    <a:pt x="160" y="2461"/>
                  </a:lnTo>
                  <a:lnTo>
                    <a:pt x="172" y="2427"/>
                  </a:lnTo>
                  <a:lnTo>
                    <a:pt x="186" y="2395"/>
                  </a:lnTo>
                  <a:lnTo>
                    <a:pt x="201" y="2362"/>
                  </a:lnTo>
                  <a:lnTo>
                    <a:pt x="219" y="2330"/>
                  </a:lnTo>
                  <a:lnTo>
                    <a:pt x="236" y="2297"/>
                  </a:lnTo>
                  <a:lnTo>
                    <a:pt x="255" y="2265"/>
                  </a:lnTo>
                  <a:lnTo>
                    <a:pt x="274" y="2233"/>
                  </a:lnTo>
                  <a:lnTo>
                    <a:pt x="296" y="2200"/>
                  </a:lnTo>
                  <a:lnTo>
                    <a:pt x="318" y="2168"/>
                  </a:lnTo>
                  <a:lnTo>
                    <a:pt x="342" y="2137"/>
                  </a:lnTo>
                  <a:lnTo>
                    <a:pt x="367" y="2105"/>
                  </a:lnTo>
                  <a:lnTo>
                    <a:pt x="393" y="2073"/>
                  </a:lnTo>
                  <a:lnTo>
                    <a:pt x="419" y="2041"/>
                  </a:lnTo>
                  <a:lnTo>
                    <a:pt x="448" y="2010"/>
                  </a:lnTo>
                  <a:lnTo>
                    <a:pt x="477" y="1978"/>
                  </a:lnTo>
                  <a:lnTo>
                    <a:pt x="507" y="1947"/>
                  </a:lnTo>
                  <a:lnTo>
                    <a:pt x="539" y="1916"/>
                  </a:lnTo>
                  <a:lnTo>
                    <a:pt x="571" y="1886"/>
                  </a:lnTo>
                  <a:lnTo>
                    <a:pt x="605" y="1854"/>
                  </a:lnTo>
                  <a:lnTo>
                    <a:pt x="640" y="1824"/>
                  </a:lnTo>
                  <a:lnTo>
                    <a:pt x="676" y="1793"/>
                  </a:lnTo>
                  <a:lnTo>
                    <a:pt x="713" y="1763"/>
                  </a:lnTo>
                  <a:lnTo>
                    <a:pt x="751" y="1732"/>
                  </a:lnTo>
                  <a:lnTo>
                    <a:pt x="790" y="1703"/>
                  </a:lnTo>
                  <a:lnTo>
                    <a:pt x="830" y="1673"/>
                  </a:lnTo>
                  <a:lnTo>
                    <a:pt x="872" y="1644"/>
                  </a:lnTo>
                  <a:lnTo>
                    <a:pt x="914" y="1614"/>
                  </a:lnTo>
                  <a:lnTo>
                    <a:pt x="958" y="1584"/>
                  </a:lnTo>
                  <a:lnTo>
                    <a:pt x="1002" y="1556"/>
                  </a:lnTo>
                  <a:lnTo>
                    <a:pt x="1047" y="1526"/>
                  </a:lnTo>
                  <a:lnTo>
                    <a:pt x="1094" y="1498"/>
                  </a:lnTo>
                  <a:lnTo>
                    <a:pt x="1141" y="1469"/>
                  </a:lnTo>
                  <a:lnTo>
                    <a:pt x="1190" y="1441"/>
                  </a:lnTo>
                  <a:lnTo>
                    <a:pt x="1239" y="1412"/>
                  </a:lnTo>
                  <a:lnTo>
                    <a:pt x="1290" y="1385"/>
                  </a:lnTo>
                  <a:lnTo>
                    <a:pt x="1342" y="1357"/>
                  </a:lnTo>
                  <a:lnTo>
                    <a:pt x="1393" y="1330"/>
                  </a:lnTo>
                  <a:lnTo>
                    <a:pt x="1447" y="1303"/>
                  </a:lnTo>
                  <a:lnTo>
                    <a:pt x="1502" y="1275"/>
                  </a:lnTo>
                  <a:lnTo>
                    <a:pt x="1556" y="1249"/>
                  </a:lnTo>
                  <a:lnTo>
                    <a:pt x="1613" y="1222"/>
                  </a:lnTo>
                  <a:lnTo>
                    <a:pt x="1670" y="1196"/>
                  </a:lnTo>
                  <a:lnTo>
                    <a:pt x="1727" y="1169"/>
                  </a:lnTo>
                  <a:lnTo>
                    <a:pt x="1787" y="1144"/>
                  </a:lnTo>
                  <a:lnTo>
                    <a:pt x="1847" y="1118"/>
                  </a:lnTo>
                  <a:lnTo>
                    <a:pt x="1907" y="1093"/>
                  </a:lnTo>
                  <a:lnTo>
                    <a:pt x="1968" y="1067"/>
                  </a:lnTo>
                  <a:lnTo>
                    <a:pt x="2031" y="1043"/>
                  </a:lnTo>
                  <a:lnTo>
                    <a:pt x="2095" y="1018"/>
                  </a:lnTo>
                  <a:lnTo>
                    <a:pt x="2159" y="994"/>
                  </a:lnTo>
                  <a:lnTo>
                    <a:pt x="2223" y="970"/>
                  </a:lnTo>
                  <a:lnTo>
                    <a:pt x="2289" y="946"/>
                  </a:lnTo>
                  <a:lnTo>
                    <a:pt x="2356" y="922"/>
                  </a:lnTo>
                  <a:lnTo>
                    <a:pt x="2424" y="899"/>
                  </a:lnTo>
                  <a:lnTo>
                    <a:pt x="2493" y="876"/>
                  </a:lnTo>
                  <a:lnTo>
                    <a:pt x="2562" y="854"/>
                  </a:lnTo>
                  <a:lnTo>
                    <a:pt x="2631" y="830"/>
                  </a:lnTo>
                  <a:lnTo>
                    <a:pt x="2702" y="809"/>
                  </a:lnTo>
                  <a:lnTo>
                    <a:pt x="2846" y="765"/>
                  </a:lnTo>
                  <a:lnTo>
                    <a:pt x="2993" y="722"/>
                  </a:lnTo>
                  <a:lnTo>
                    <a:pt x="3143" y="682"/>
                  </a:lnTo>
                  <a:lnTo>
                    <a:pt x="3296" y="642"/>
                  </a:lnTo>
                  <a:lnTo>
                    <a:pt x="3452" y="603"/>
                  </a:lnTo>
                  <a:lnTo>
                    <a:pt x="3611" y="565"/>
                  </a:lnTo>
                  <a:lnTo>
                    <a:pt x="3772" y="530"/>
                  </a:lnTo>
                  <a:lnTo>
                    <a:pt x="3937" y="494"/>
                  </a:lnTo>
                  <a:lnTo>
                    <a:pt x="4103" y="461"/>
                  </a:lnTo>
                  <a:lnTo>
                    <a:pt x="4273" y="429"/>
                  </a:lnTo>
                  <a:lnTo>
                    <a:pt x="4444" y="398"/>
                  </a:lnTo>
                  <a:lnTo>
                    <a:pt x="4619" y="368"/>
                  </a:lnTo>
                  <a:lnTo>
                    <a:pt x="4795" y="340"/>
                  </a:lnTo>
                  <a:lnTo>
                    <a:pt x="4974" y="313"/>
                  </a:lnTo>
                  <a:lnTo>
                    <a:pt x="5156" y="288"/>
                  </a:lnTo>
                  <a:lnTo>
                    <a:pt x="5339" y="264"/>
                  </a:lnTo>
                  <a:lnTo>
                    <a:pt x="5524" y="242"/>
                  </a:lnTo>
                  <a:lnTo>
                    <a:pt x="5712" y="221"/>
                  </a:lnTo>
                  <a:lnTo>
                    <a:pt x="5902" y="202"/>
                  </a:lnTo>
                  <a:lnTo>
                    <a:pt x="6093" y="185"/>
                  </a:lnTo>
                  <a:lnTo>
                    <a:pt x="6287" y="168"/>
                  </a:lnTo>
                  <a:lnTo>
                    <a:pt x="6481" y="153"/>
                  </a:lnTo>
                  <a:lnTo>
                    <a:pt x="6678" y="140"/>
                  </a:lnTo>
                  <a:lnTo>
                    <a:pt x="6877" y="129"/>
                  </a:lnTo>
                  <a:lnTo>
                    <a:pt x="7077" y="120"/>
                  </a:lnTo>
                  <a:lnTo>
                    <a:pt x="7279" y="112"/>
                  </a:lnTo>
                  <a:lnTo>
                    <a:pt x="7482" y="106"/>
                  </a:lnTo>
                  <a:lnTo>
                    <a:pt x="7687" y="102"/>
                  </a:lnTo>
                  <a:lnTo>
                    <a:pt x="7892" y="99"/>
                  </a:lnTo>
                  <a:lnTo>
                    <a:pt x="8100" y="98"/>
                  </a:lnTo>
                  <a:lnTo>
                    <a:pt x="8100" y="98"/>
                  </a:lnTo>
                  <a:lnTo>
                    <a:pt x="8100" y="98"/>
                  </a:lnTo>
                  <a:lnTo>
                    <a:pt x="8106" y="98"/>
                  </a:lnTo>
                  <a:lnTo>
                    <a:pt x="8111" y="97"/>
                  </a:lnTo>
                  <a:lnTo>
                    <a:pt x="8117" y="96"/>
                  </a:lnTo>
                  <a:lnTo>
                    <a:pt x="8121" y="94"/>
                  </a:lnTo>
                  <a:lnTo>
                    <a:pt x="8126" y="92"/>
                  </a:lnTo>
                  <a:lnTo>
                    <a:pt x="8130" y="89"/>
                  </a:lnTo>
                  <a:lnTo>
                    <a:pt x="8133" y="86"/>
                  </a:lnTo>
                  <a:lnTo>
                    <a:pt x="8137" y="83"/>
                  </a:lnTo>
                  <a:lnTo>
                    <a:pt x="8143" y="76"/>
                  </a:lnTo>
                  <a:lnTo>
                    <a:pt x="8147" y="67"/>
                  </a:lnTo>
                  <a:lnTo>
                    <a:pt x="8149" y="59"/>
                  </a:lnTo>
                  <a:lnTo>
                    <a:pt x="8150" y="49"/>
                  </a:lnTo>
                  <a:lnTo>
                    <a:pt x="8149" y="40"/>
                  </a:lnTo>
                  <a:lnTo>
                    <a:pt x="8147" y="31"/>
                  </a:lnTo>
                  <a:lnTo>
                    <a:pt x="8143" y="23"/>
                  </a:lnTo>
                  <a:lnTo>
                    <a:pt x="8137" y="15"/>
                  </a:lnTo>
                  <a:lnTo>
                    <a:pt x="8133" y="12"/>
                  </a:lnTo>
                  <a:lnTo>
                    <a:pt x="8130" y="9"/>
                  </a:lnTo>
                  <a:lnTo>
                    <a:pt x="8126" y="6"/>
                  </a:lnTo>
                  <a:lnTo>
                    <a:pt x="8121" y="4"/>
                  </a:lnTo>
                  <a:lnTo>
                    <a:pt x="8117" y="2"/>
                  </a:lnTo>
                  <a:lnTo>
                    <a:pt x="8111" y="1"/>
                  </a:lnTo>
                  <a:lnTo>
                    <a:pt x="8106" y="0"/>
                  </a:lnTo>
                  <a:lnTo>
                    <a:pt x="8100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90680" y="3990960"/>
              <a:ext cx="476280" cy="163440"/>
            </a:xfrm>
            <a:custGeom>
              <a:avLst/>
              <a:gdLst/>
              <a:ahLst/>
              <a:rect l="l" t="t" r="r" b="b"/>
              <a:pathLst>
                <a:path w="8100" h="2793">
                  <a:moveTo>
                    <a:pt x="8100" y="2793"/>
                  </a:moveTo>
                  <a:lnTo>
                    <a:pt x="8099" y="2755"/>
                  </a:lnTo>
                  <a:lnTo>
                    <a:pt x="8097" y="2718"/>
                  </a:lnTo>
                  <a:lnTo>
                    <a:pt x="8094" y="2681"/>
                  </a:lnTo>
                  <a:lnTo>
                    <a:pt x="8089" y="2644"/>
                  </a:lnTo>
                  <a:lnTo>
                    <a:pt x="8083" y="2608"/>
                  </a:lnTo>
                  <a:lnTo>
                    <a:pt x="8075" y="2571"/>
                  </a:lnTo>
                  <a:lnTo>
                    <a:pt x="8067" y="2534"/>
                  </a:lnTo>
                  <a:lnTo>
                    <a:pt x="8056" y="2498"/>
                  </a:lnTo>
                  <a:lnTo>
                    <a:pt x="8044" y="2462"/>
                  </a:lnTo>
                  <a:lnTo>
                    <a:pt x="8032" y="2426"/>
                  </a:lnTo>
                  <a:lnTo>
                    <a:pt x="8018" y="2390"/>
                  </a:lnTo>
                  <a:lnTo>
                    <a:pt x="8003" y="2355"/>
                  </a:lnTo>
                  <a:lnTo>
                    <a:pt x="7987" y="2320"/>
                  </a:lnTo>
                  <a:lnTo>
                    <a:pt x="7968" y="2284"/>
                  </a:lnTo>
                  <a:lnTo>
                    <a:pt x="7949" y="2250"/>
                  </a:lnTo>
                  <a:lnTo>
                    <a:pt x="7929" y="2215"/>
                  </a:lnTo>
                  <a:lnTo>
                    <a:pt x="7908" y="2180"/>
                  </a:lnTo>
                  <a:lnTo>
                    <a:pt x="7885" y="2146"/>
                  </a:lnTo>
                  <a:lnTo>
                    <a:pt x="7861" y="2112"/>
                  </a:lnTo>
                  <a:lnTo>
                    <a:pt x="7837" y="2077"/>
                  </a:lnTo>
                  <a:lnTo>
                    <a:pt x="7810" y="2044"/>
                  </a:lnTo>
                  <a:lnTo>
                    <a:pt x="7783" y="2011"/>
                  </a:lnTo>
                  <a:lnTo>
                    <a:pt x="7755" y="1977"/>
                  </a:lnTo>
                  <a:lnTo>
                    <a:pt x="7725" y="1944"/>
                  </a:lnTo>
                  <a:lnTo>
                    <a:pt x="7694" y="1911"/>
                  </a:lnTo>
                  <a:lnTo>
                    <a:pt x="7663" y="1879"/>
                  </a:lnTo>
                  <a:lnTo>
                    <a:pt x="7629" y="1846"/>
                  </a:lnTo>
                  <a:lnTo>
                    <a:pt x="7596" y="1814"/>
                  </a:lnTo>
                  <a:lnTo>
                    <a:pt x="7560" y="1782"/>
                  </a:lnTo>
                  <a:lnTo>
                    <a:pt x="7524" y="1749"/>
                  </a:lnTo>
                  <a:lnTo>
                    <a:pt x="7486" y="1718"/>
                  </a:lnTo>
                  <a:lnTo>
                    <a:pt x="7449" y="1687"/>
                  </a:lnTo>
                  <a:lnTo>
                    <a:pt x="7409" y="1656"/>
                  </a:lnTo>
                  <a:lnTo>
                    <a:pt x="7369" y="1624"/>
                  </a:lnTo>
                  <a:lnTo>
                    <a:pt x="7327" y="1594"/>
                  </a:lnTo>
                  <a:lnTo>
                    <a:pt x="7285" y="1564"/>
                  </a:lnTo>
                  <a:lnTo>
                    <a:pt x="7241" y="1534"/>
                  </a:lnTo>
                  <a:lnTo>
                    <a:pt x="7197" y="1503"/>
                  </a:lnTo>
                  <a:lnTo>
                    <a:pt x="7151" y="1473"/>
                  </a:lnTo>
                  <a:lnTo>
                    <a:pt x="7105" y="1444"/>
                  </a:lnTo>
                  <a:lnTo>
                    <a:pt x="7057" y="1415"/>
                  </a:lnTo>
                  <a:lnTo>
                    <a:pt x="7009" y="1385"/>
                  </a:lnTo>
                  <a:lnTo>
                    <a:pt x="6959" y="1356"/>
                  </a:lnTo>
                  <a:lnTo>
                    <a:pt x="6908" y="1328"/>
                  </a:lnTo>
                  <a:lnTo>
                    <a:pt x="6858" y="1299"/>
                  </a:lnTo>
                  <a:lnTo>
                    <a:pt x="6805" y="1271"/>
                  </a:lnTo>
                  <a:lnTo>
                    <a:pt x="6751" y="1243"/>
                  </a:lnTo>
                  <a:lnTo>
                    <a:pt x="6698" y="1216"/>
                  </a:lnTo>
                  <a:lnTo>
                    <a:pt x="6642" y="1187"/>
                  </a:lnTo>
                  <a:lnTo>
                    <a:pt x="6586" y="1160"/>
                  </a:lnTo>
                  <a:lnTo>
                    <a:pt x="6529" y="1134"/>
                  </a:lnTo>
                  <a:lnTo>
                    <a:pt x="6471" y="1107"/>
                  </a:lnTo>
                  <a:lnTo>
                    <a:pt x="6412" y="1081"/>
                  </a:lnTo>
                  <a:lnTo>
                    <a:pt x="6352" y="1054"/>
                  </a:lnTo>
                  <a:lnTo>
                    <a:pt x="6292" y="1028"/>
                  </a:lnTo>
                  <a:lnTo>
                    <a:pt x="6230" y="1003"/>
                  </a:lnTo>
                  <a:lnTo>
                    <a:pt x="6168" y="977"/>
                  </a:lnTo>
                  <a:lnTo>
                    <a:pt x="6104" y="951"/>
                  </a:lnTo>
                  <a:lnTo>
                    <a:pt x="6041" y="927"/>
                  </a:lnTo>
                  <a:lnTo>
                    <a:pt x="5976" y="902"/>
                  </a:lnTo>
                  <a:lnTo>
                    <a:pt x="5910" y="878"/>
                  </a:lnTo>
                  <a:lnTo>
                    <a:pt x="5843" y="854"/>
                  </a:lnTo>
                  <a:lnTo>
                    <a:pt x="5776" y="830"/>
                  </a:lnTo>
                  <a:lnTo>
                    <a:pt x="5707" y="806"/>
                  </a:lnTo>
                  <a:lnTo>
                    <a:pt x="5639" y="783"/>
                  </a:lnTo>
                  <a:lnTo>
                    <a:pt x="5569" y="761"/>
                  </a:lnTo>
                  <a:lnTo>
                    <a:pt x="5498" y="738"/>
                  </a:lnTo>
                  <a:lnTo>
                    <a:pt x="5427" y="715"/>
                  </a:lnTo>
                  <a:lnTo>
                    <a:pt x="5281" y="672"/>
                  </a:lnTo>
                  <a:lnTo>
                    <a:pt x="5133" y="629"/>
                  </a:lnTo>
                  <a:lnTo>
                    <a:pt x="4983" y="587"/>
                  </a:lnTo>
                  <a:lnTo>
                    <a:pt x="4828" y="547"/>
                  </a:lnTo>
                  <a:lnTo>
                    <a:pt x="4671" y="507"/>
                  </a:lnTo>
                  <a:lnTo>
                    <a:pt x="4512" y="470"/>
                  </a:lnTo>
                  <a:lnTo>
                    <a:pt x="4349" y="434"/>
                  </a:lnTo>
                  <a:lnTo>
                    <a:pt x="4184" y="399"/>
                  </a:lnTo>
                  <a:lnTo>
                    <a:pt x="4016" y="364"/>
                  </a:lnTo>
                  <a:lnTo>
                    <a:pt x="3845" y="332"/>
                  </a:lnTo>
                  <a:lnTo>
                    <a:pt x="3672" y="301"/>
                  </a:lnTo>
                  <a:lnTo>
                    <a:pt x="3497" y="271"/>
                  </a:lnTo>
                  <a:lnTo>
                    <a:pt x="3320" y="243"/>
                  </a:lnTo>
                  <a:lnTo>
                    <a:pt x="3140" y="216"/>
                  </a:lnTo>
                  <a:lnTo>
                    <a:pt x="2958" y="191"/>
                  </a:lnTo>
                  <a:lnTo>
                    <a:pt x="2773" y="166"/>
                  </a:lnTo>
                  <a:lnTo>
                    <a:pt x="2587" y="144"/>
                  </a:lnTo>
                  <a:lnTo>
                    <a:pt x="2399" y="124"/>
                  </a:lnTo>
                  <a:lnTo>
                    <a:pt x="2208" y="105"/>
                  </a:lnTo>
                  <a:lnTo>
                    <a:pt x="2016" y="87"/>
                  </a:lnTo>
                  <a:lnTo>
                    <a:pt x="1821" y="71"/>
                  </a:lnTo>
                  <a:lnTo>
                    <a:pt x="1625" y="55"/>
                  </a:lnTo>
                  <a:lnTo>
                    <a:pt x="1428" y="43"/>
                  </a:lnTo>
                  <a:lnTo>
                    <a:pt x="1228" y="32"/>
                  </a:lnTo>
                  <a:lnTo>
                    <a:pt x="1027" y="22"/>
                  </a:lnTo>
                  <a:lnTo>
                    <a:pt x="824" y="14"/>
                  </a:lnTo>
                  <a:lnTo>
                    <a:pt x="621" y="8"/>
                  </a:lnTo>
                  <a:lnTo>
                    <a:pt x="415" y="4"/>
                  </a:lnTo>
                  <a:lnTo>
                    <a:pt x="209" y="1"/>
                  </a:lnTo>
                  <a:lnTo>
                    <a:pt x="0" y="0"/>
                  </a:lnTo>
                  <a:lnTo>
                    <a:pt x="0" y="98"/>
                  </a:lnTo>
                  <a:lnTo>
                    <a:pt x="208" y="99"/>
                  </a:lnTo>
                  <a:lnTo>
                    <a:pt x="413" y="102"/>
                  </a:lnTo>
                  <a:lnTo>
                    <a:pt x="618" y="106"/>
                  </a:lnTo>
                  <a:lnTo>
                    <a:pt x="821" y="112"/>
                  </a:lnTo>
                  <a:lnTo>
                    <a:pt x="1023" y="120"/>
                  </a:lnTo>
                  <a:lnTo>
                    <a:pt x="1223" y="129"/>
                  </a:lnTo>
                  <a:lnTo>
                    <a:pt x="1422" y="140"/>
                  </a:lnTo>
                  <a:lnTo>
                    <a:pt x="1619" y="153"/>
                  </a:lnTo>
                  <a:lnTo>
                    <a:pt x="1813" y="168"/>
                  </a:lnTo>
                  <a:lnTo>
                    <a:pt x="2007" y="185"/>
                  </a:lnTo>
                  <a:lnTo>
                    <a:pt x="2198" y="202"/>
                  </a:lnTo>
                  <a:lnTo>
                    <a:pt x="2388" y="221"/>
                  </a:lnTo>
                  <a:lnTo>
                    <a:pt x="2576" y="242"/>
                  </a:lnTo>
                  <a:lnTo>
                    <a:pt x="2761" y="264"/>
                  </a:lnTo>
                  <a:lnTo>
                    <a:pt x="2944" y="288"/>
                  </a:lnTo>
                  <a:lnTo>
                    <a:pt x="3126" y="313"/>
                  </a:lnTo>
                  <a:lnTo>
                    <a:pt x="3305" y="340"/>
                  </a:lnTo>
                  <a:lnTo>
                    <a:pt x="3481" y="368"/>
                  </a:lnTo>
                  <a:lnTo>
                    <a:pt x="3656" y="398"/>
                  </a:lnTo>
                  <a:lnTo>
                    <a:pt x="3827" y="429"/>
                  </a:lnTo>
                  <a:lnTo>
                    <a:pt x="3997" y="461"/>
                  </a:lnTo>
                  <a:lnTo>
                    <a:pt x="4163" y="494"/>
                  </a:lnTo>
                  <a:lnTo>
                    <a:pt x="4327" y="530"/>
                  </a:lnTo>
                  <a:lnTo>
                    <a:pt x="4489" y="565"/>
                  </a:lnTo>
                  <a:lnTo>
                    <a:pt x="4648" y="603"/>
                  </a:lnTo>
                  <a:lnTo>
                    <a:pt x="4804" y="642"/>
                  </a:lnTo>
                  <a:lnTo>
                    <a:pt x="4957" y="682"/>
                  </a:lnTo>
                  <a:lnTo>
                    <a:pt x="5107" y="722"/>
                  </a:lnTo>
                  <a:lnTo>
                    <a:pt x="5254" y="765"/>
                  </a:lnTo>
                  <a:lnTo>
                    <a:pt x="5398" y="809"/>
                  </a:lnTo>
                  <a:lnTo>
                    <a:pt x="5469" y="830"/>
                  </a:lnTo>
                  <a:lnTo>
                    <a:pt x="5538" y="854"/>
                  </a:lnTo>
                  <a:lnTo>
                    <a:pt x="5607" y="876"/>
                  </a:lnTo>
                  <a:lnTo>
                    <a:pt x="5676" y="899"/>
                  </a:lnTo>
                  <a:lnTo>
                    <a:pt x="5744" y="922"/>
                  </a:lnTo>
                  <a:lnTo>
                    <a:pt x="5811" y="946"/>
                  </a:lnTo>
                  <a:lnTo>
                    <a:pt x="5877" y="970"/>
                  </a:lnTo>
                  <a:lnTo>
                    <a:pt x="5941" y="994"/>
                  </a:lnTo>
                  <a:lnTo>
                    <a:pt x="6005" y="1018"/>
                  </a:lnTo>
                  <a:lnTo>
                    <a:pt x="6069" y="1043"/>
                  </a:lnTo>
                  <a:lnTo>
                    <a:pt x="6132" y="1067"/>
                  </a:lnTo>
                  <a:lnTo>
                    <a:pt x="6193" y="1093"/>
                  </a:lnTo>
                  <a:lnTo>
                    <a:pt x="6253" y="1118"/>
                  </a:lnTo>
                  <a:lnTo>
                    <a:pt x="6313" y="1144"/>
                  </a:lnTo>
                  <a:lnTo>
                    <a:pt x="6373" y="1169"/>
                  </a:lnTo>
                  <a:lnTo>
                    <a:pt x="6430" y="1196"/>
                  </a:lnTo>
                  <a:lnTo>
                    <a:pt x="6487" y="1222"/>
                  </a:lnTo>
                  <a:lnTo>
                    <a:pt x="6544" y="1249"/>
                  </a:lnTo>
                  <a:lnTo>
                    <a:pt x="6598" y="1275"/>
                  </a:lnTo>
                  <a:lnTo>
                    <a:pt x="6653" y="1303"/>
                  </a:lnTo>
                  <a:lnTo>
                    <a:pt x="6707" y="1330"/>
                  </a:lnTo>
                  <a:lnTo>
                    <a:pt x="6758" y="1357"/>
                  </a:lnTo>
                  <a:lnTo>
                    <a:pt x="6810" y="1385"/>
                  </a:lnTo>
                  <a:lnTo>
                    <a:pt x="6861" y="1412"/>
                  </a:lnTo>
                  <a:lnTo>
                    <a:pt x="6910" y="1441"/>
                  </a:lnTo>
                  <a:lnTo>
                    <a:pt x="6959" y="1469"/>
                  </a:lnTo>
                  <a:lnTo>
                    <a:pt x="7007" y="1498"/>
                  </a:lnTo>
                  <a:lnTo>
                    <a:pt x="7052" y="1526"/>
                  </a:lnTo>
                  <a:lnTo>
                    <a:pt x="7098" y="1556"/>
                  </a:lnTo>
                  <a:lnTo>
                    <a:pt x="7142" y="1584"/>
                  </a:lnTo>
                  <a:lnTo>
                    <a:pt x="7186" y="1614"/>
                  </a:lnTo>
                  <a:lnTo>
                    <a:pt x="7228" y="1644"/>
                  </a:lnTo>
                  <a:lnTo>
                    <a:pt x="7270" y="1673"/>
                  </a:lnTo>
                  <a:lnTo>
                    <a:pt x="7309" y="1703"/>
                  </a:lnTo>
                  <a:lnTo>
                    <a:pt x="7349" y="1732"/>
                  </a:lnTo>
                  <a:lnTo>
                    <a:pt x="7387" y="1763"/>
                  </a:lnTo>
                  <a:lnTo>
                    <a:pt x="7424" y="1793"/>
                  </a:lnTo>
                  <a:lnTo>
                    <a:pt x="7460" y="1824"/>
                  </a:lnTo>
                  <a:lnTo>
                    <a:pt x="7495" y="1854"/>
                  </a:lnTo>
                  <a:lnTo>
                    <a:pt x="7529" y="1886"/>
                  </a:lnTo>
                  <a:lnTo>
                    <a:pt x="7561" y="1916"/>
                  </a:lnTo>
                  <a:lnTo>
                    <a:pt x="7593" y="1947"/>
                  </a:lnTo>
                  <a:lnTo>
                    <a:pt x="7623" y="1978"/>
                  </a:lnTo>
                  <a:lnTo>
                    <a:pt x="7652" y="2010"/>
                  </a:lnTo>
                  <a:lnTo>
                    <a:pt x="7681" y="2041"/>
                  </a:lnTo>
                  <a:lnTo>
                    <a:pt x="7707" y="2073"/>
                  </a:lnTo>
                  <a:lnTo>
                    <a:pt x="7733" y="2105"/>
                  </a:lnTo>
                  <a:lnTo>
                    <a:pt x="7758" y="2137"/>
                  </a:lnTo>
                  <a:lnTo>
                    <a:pt x="7781" y="2168"/>
                  </a:lnTo>
                  <a:lnTo>
                    <a:pt x="7803" y="2200"/>
                  </a:lnTo>
                  <a:lnTo>
                    <a:pt x="7826" y="2233"/>
                  </a:lnTo>
                  <a:lnTo>
                    <a:pt x="7845" y="2265"/>
                  </a:lnTo>
                  <a:lnTo>
                    <a:pt x="7864" y="2297"/>
                  </a:lnTo>
                  <a:lnTo>
                    <a:pt x="7881" y="2330"/>
                  </a:lnTo>
                  <a:lnTo>
                    <a:pt x="7898" y="2362"/>
                  </a:lnTo>
                  <a:lnTo>
                    <a:pt x="7914" y="2395"/>
                  </a:lnTo>
                  <a:lnTo>
                    <a:pt x="7927" y="2427"/>
                  </a:lnTo>
                  <a:lnTo>
                    <a:pt x="7940" y="2461"/>
                  </a:lnTo>
                  <a:lnTo>
                    <a:pt x="7952" y="2493"/>
                  </a:lnTo>
                  <a:lnTo>
                    <a:pt x="7962" y="2526"/>
                  </a:lnTo>
                  <a:lnTo>
                    <a:pt x="7971" y="2559"/>
                  </a:lnTo>
                  <a:lnTo>
                    <a:pt x="7980" y="2592"/>
                  </a:lnTo>
                  <a:lnTo>
                    <a:pt x="7987" y="2625"/>
                  </a:lnTo>
                  <a:lnTo>
                    <a:pt x="7992" y="2658"/>
                  </a:lnTo>
                  <a:lnTo>
                    <a:pt x="7996" y="2692"/>
                  </a:lnTo>
                  <a:lnTo>
                    <a:pt x="7999" y="2725"/>
                  </a:lnTo>
                  <a:lnTo>
                    <a:pt x="8001" y="2758"/>
                  </a:lnTo>
                  <a:lnTo>
                    <a:pt x="8002" y="2793"/>
                  </a:lnTo>
                  <a:lnTo>
                    <a:pt x="8100" y="2793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03640" y="4036680"/>
              <a:ext cx="311040" cy="104400"/>
            </a:xfrm>
            <a:custGeom>
              <a:avLst/>
              <a:gdLst/>
              <a:ahLst/>
              <a:rect l="l" t="t" r="r" b="b"/>
              <a:pathLst>
                <a:path w="5298" h="1782">
                  <a:moveTo>
                    <a:pt x="0" y="1390"/>
                  </a:moveTo>
                  <a:lnTo>
                    <a:pt x="1185" y="1782"/>
                  </a:lnTo>
                  <a:lnTo>
                    <a:pt x="3989" y="670"/>
                  </a:lnTo>
                  <a:lnTo>
                    <a:pt x="5298" y="988"/>
                  </a:lnTo>
                  <a:lnTo>
                    <a:pt x="4607" y="0"/>
                  </a:lnTo>
                  <a:lnTo>
                    <a:pt x="1231" y="0"/>
                  </a:lnTo>
                  <a:lnTo>
                    <a:pt x="2642" y="343"/>
                  </a:lnTo>
                  <a:lnTo>
                    <a:pt x="0" y="13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62360" y="4162320"/>
              <a:ext cx="312480" cy="104400"/>
            </a:xfrm>
            <a:custGeom>
              <a:avLst/>
              <a:gdLst/>
              <a:ahLst/>
              <a:rect l="l" t="t" r="r" b="b"/>
              <a:pathLst>
                <a:path w="5299" h="1782">
                  <a:moveTo>
                    <a:pt x="5299" y="391"/>
                  </a:moveTo>
                  <a:lnTo>
                    <a:pt x="4112" y="0"/>
                  </a:lnTo>
                  <a:lnTo>
                    <a:pt x="1308" y="1112"/>
                  </a:lnTo>
                  <a:lnTo>
                    <a:pt x="0" y="794"/>
                  </a:lnTo>
                  <a:lnTo>
                    <a:pt x="690" y="1782"/>
                  </a:lnTo>
                  <a:lnTo>
                    <a:pt x="4066" y="1782"/>
                  </a:lnTo>
                  <a:lnTo>
                    <a:pt x="2656" y="1439"/>
                  </a:lnTo>
                  <a:lnTo>
                    <a:pt x="5299" y="3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79640" y="4035240"/>
              <a:ext cx="311040" cy="104400"/>
            </a:xfrm>
            <a:custGeom>
              <a:avLst/>
              <a:gdLst/>
              <a:ahLst/>
              <a:rect l="l" t="t" r="r" b="b"/>
              <a:pathLst>
                <a:path w="5298" h="1780">
                  <a:moveTo>
                    <a:pt x="0" y="390"/>
                  </a:moveTo>
                  <a:lnTo>
                    <a:pt x="1186" y="0"/>
                  </a:lnTo>
                  <a:lnTo>
                    <a:pt x="3990" y="1110"/>
                  </a:lnTo>
                  <a:lnTo>
                    <a:pt x="5298" y="793"/>
                  </a:lnTo>
                  <a:lnTo>
                    <a:pt x="4608" y="1780"/>
                  </a:lnTo>
                  <a:lnTo>
                    <a:pt x="1231" y="1780"/>
                  </a:lnTo>
                  <a:lnTo>
                    <a:pt x="2642" y="1437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992480" y="4170240"/>
              <a:ext cx="312840" cy="104400"/>
            </a:xfrm>
            <a:custGeom>
              <a:avLst/>
              <a:gdLst/>
              <a:ahLst/>
              <a:rect l="l" t="t" r="r" b="b"/>
              <a:pathLst>
                <a:path w="5299" h="1781">
                  <a:moveTo>
                    <a:pt x="5299" y="1390"/>
                  </a:moveTo>
                  <a:lnTo>
                    <a:pt x="4113" y="1781"/>
                  </a:lnTo>
                  <a:lnTo>
                    <a:pt x="1310" y="670"/>
                  </a:lnTo>
                  <a:lnTo>
                    <a:pt x="0" y="987"/>
                  </a:lnTo>
                  <a:lnTo>
                    <a:pt x="691" y="0"/>
                  </a:lnTo>
                  <a:lnTo>
                    <a:pt x="4068" y="0"/>
                  </a:lnTo>
                  <a:lnTo>
                    <a:pt x="2656" y="343"/>
                  </a:lnTo>
                  <a:lnTo>
                    <a:pt x="5299" y="13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08320" y="4043160"/>
              <a:ext cx="312840" cy="104400"/>
            </a:xfrm>
            <a:custGeom>
              <a:avLst/>
              <a:gdLst/>
              <a:ahLst/>
              <a:rect l="l" t="t" r="r" b="b"/>
              <a:pathLst>
                <a:path w="5298" h="1782">
                  <a:moveTo>
                    <a:pt x="0" y="1390"/>
                  </a:moveTo>
                  <a:lnTo>
                    <a:pt x="1185" y="1782"/>
                  </a:lnTo>
                  <a:lnTo>
                    <a:pt x="3990" y="670"/>
                  </a:lnTo>
                  <a:lnTo>
                    <a:pt x="5298" y="988"/>
                  </a:lnTo>
                  <a:lnTo>
                    <a:pt x="4608" y="0"/>
                  </a:lnTo>
                  <a:lnTo>
                    <a:pt x="1231" y="0"/>
                  </a:lnTo>
                  <a:lnTo>
                    <a:pt x="2642" y="343"/>
                  </a:lnTo>
                  <a:lnTo>
                    <a:pt x="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68480" y="4168440"/>
              <a:ext cx="311400" cy="104400"/>
            </a:xfrm>
            <a:custGeom>
              <a:avLst/>
              <a:gdLst/>
              <a:ahLst/>
              <a:rect l="l" t="t" r="r" b="b"/>
              <a:pathLst>
                <a:path w="5299" h="1781">
                  <a:moveTo>
                    <a:pt x="5299" y="391"/>
                  </a:moveTo>
                  <a:lnTo>
                    <a:pt x="4112" y="0"/>
                  </a:lnTo>
                  <a:lnTo>
                    <a:pt x="1308" y="1112"/>
                  </a:lnTo>
                  <a:lnTo>
                    <a:pt x="0" y="794"/>
                  </a:lnTo>
                  <a:lnTo>
                    <a:pt x="691" y="1781"/>
                  </a:lnTo>
                  <a:lnTo>
                    <a:pt x="4068" y="1781"/>
                  </a:lnTo>
                  <a:lnTo>
                    <a:pt x="2656" y="1438"/>
                  </a:lnTo>
                  <a:lnTo>
                    <a:pt x="5299" y="3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86120" y="4039920"/>
              <a:ext cx="311040" cy="104400"/>
            </a:xfrm>
            <a:custGeom>
              <a:avLst/>
              <a:gdLst/>
              <a:ahLst/>
              <a:rect l="l" t="t" r="r" b="b"/>
              <a:pathLst>
                <a:path w="5298" h="1781">
                  <a:moveTo>
                    <a:pt x="0" y="391"/>
                  </a:moveTo>
                  <a:lnTo>
                    <a:pt x="1187" y="0"/>
                  </a:lnTo>
                  <a:lnTo>
                    <a:pt x="3990" y="1111"/>
                  </a:lnTo>
                  <a:lnTo>
                    <a:pt x="5298" y="794"/>
                  </a:lnTo>
                  <a:lnTo>
                    <a:pt x="4609" y="1781"/>
                  </a:lnTo>
                  <a:lnTo>
                    <a:pt x="1231" y="1781"/>
                  </a:lnTo>
                  <a:lnTo>
                    <a:pt x="2642" y="1438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998600" y="4176360"/>
              <a:ext cx="311400" cy="104400"/>
            </a:xfrm>
            <a:custGeom>
              <a:avLst/>
              <a:gdLst/>
              <a:ahLst/>
              <a:rect l="l" t="t" r="r" b="b"/>
              <a:pathLst>
                <a:path w="5298" h="1781">
                  <a:moveTo>
                    <a:pt x="5298" y="1390"/>
                  </a:moveTo>
                  <a:lnTo>
                    <a:pt x="4112" y="1781"/>
                  </a:lnTo>
                  <a:lnTo>
                    <a:pt x="1309" y="670"/>
                  </a:lnTo>
                  <a:lnTo>
                    <a:pt x="0" y="987"/>
                  </a:lnTo>
                  <a:lnTo>
                    <a:pt x="690" y="0"/>
                  </a:lnTo>
                  <a:lnTo>
                    <a:pt x="4067" y="0"/>
                  </a:lnTo>
                  <a:lnTo>
                    <a:pt x="2655" y="343"/>
                  </a:lnTo>
                  <a:lnTo>
                    <a:pt x="5298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514760" y="4157280"/>
              <a:ext cx="6120" cy="231480"/>
            </a:xfrm>
            <a:prstGeom prst="rect">
              <a:avLst/>
            </a:pr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905000" y="4464000"/>
              <a:ext cx="171720" cy="51840"/>
            </a:xfrm>
            <a:custGeom>
              <a:avLst/>
              <a:gdLst/>
              <a:ahLst/>
              <a:rect l="l" t="t" r="r" b="b"/>
              <a:pathLst>
                <a:path w="2928" h="884">
                  <a:moveTo>
                    <a:pt x="1464" y="884"/>
                  </a:moveTo>
                  <a:lnTo>
                    <a:pt x="1539" y="884"/>
                  </a:lnTo>
                  <a:lnTo>
                    <a:pt x="1614" y="882"/>
                  </a:lnTo>
                  <a:lnTo>
                    <a:pt x="1687" y="879"/>
                  </a:lnTo>
                  <a:lnTo>
                    <a:pt x="1759" y="875"/>
                  </a:lnTo>
                  <a:lnTo>
                    <a:pt x="1830" y="870"/>
                  </a:lnTo>
                  <a:lnTo>
                    <a:pt x="1899" y="865"/>
                  </a:lnTo>
                  <a:lnTo>
                    <a:pt x="1967" y="858"/>
                  </a:lnTo>
                  <a:lnTo>
                    <a:pt x="2034" y="850"/>
                  </a:lnTo>
                  <a:lnTo>
                    <a:pt x="2099" y="841"/>
                  </a:lnTo>
                  <a:lnTo>
                    <a:pt x="2162" y="831"/>
                  </a:lnTo>
                  <a:lnTo>
                    <a:pt x="2222" y="820"/>
                  </a:lnTo>
                  <a:lnTo>
                    <a:pt x="2282" y="808"/>
                  </a:lnTo>
                  <a:lnTo>
                    <a:pt x="2340" y="796"/>
                  </a:lnTo>
                  <a:lnTo>
                    <a:pt x="2395" y="783"/>
                  </a:lnTo>
                  <a:lnTo>
                    <a:pt x="2448" y="769"/>
                  </a:lnTo>
                  <a:lnTo>
                    <a:pt x="2499" y="755"/>
                  </a:lnTo>
                  <a:lnTo>
                    <a:pt x="2547" y="740"/>
                  </a:lnTo>
                  <a:lnTo>
                    <a:pt x="2593" y="724"/>
                  </a:lnTo>
                  <a:lnTo>
                    <a:pt x="2636" y="706"/>
                  </a:lnTo>
                  <a:lnTo>
                    <a:pt x="2678" y="689"/>
                  </a:lnTo>
                  <a:lnTo>
                    <a:pt x="2715" y="671"/>
                  </a:lnTo>
                  <a:lnTo>
                    <a:pt x="2751" y="653"/>
                  </a:lnTo>
                  <a:lnTo>
                    <a:pt x="2783" y="634"/>
                  </a:lnTo>
                  <a:lnTo>
                    <a:pt x="2813" y="615"/>
                  </a:lnTo>
                  <a:lnTo>
                    <a:pt x="2839" y="594"/>
                  </a:lnTo>
                  <a:lnTo>
                    <a:pt x="2862" y="573"/>
                  </a:lnTo>
                  <a:lnTo>
                    <a:pt x="2882" y="553"/>
                  </a:lnTo>
                  <a:lnTo>
                    <a:pt x="2898" y="531"/>
                  </a:lnTo>
                  <a:lnTo>
                    <a:pt x="2911" y="510"/>
                  </a:lnTo>
                  <a:lnTo>
                    <a:pt x="2920" y="487"/>
                  </a:lnTo>
                  <a:lnTo>
                    <a:pt x="2926" y="465"/>
                  </a:lnTo>
                  <a:lnTo>
                    <a:pt x="2928" y="442"/>
                  </a:lnTo>
                  <a:lnTo>
                    <a:pt x="2926" y="420"/>
                  </a:lnTo>
                  <a:lnTo>
                    <a:pt x="2920" y="397"/>
                  </a:lnTo>
                  <a:lnTo>
                    <a:pt x="2911" y="374"/>
                  </a:lnTo>
                  <a:lnTo>
                    <a:pt x="2898" y="353"/>
                  </a:lnTo>
                  <a:lnTo>
                    <a:pt x="2882" y="332"/>
                  </a:lnTo>
                  <a:lnTo>
                    <a:pt x="2862" y="311"/>
                  </a:lnTo>
                  <a:lnTo>
                    <a:pt x="2839" y="291"/>
                  </a:lnTo>
                  <a:lnTo>
                    <a:pt x="2813" y="271"/>
                  </a:lnTo>
                  <a:lnTo>
                    <a:pt x="2783" y="250"/>
                  </a:lnTo>
                  <a:lnTo>
                    <a:pt x="2751" y="231"/>
                  </a:lnTo>
                  <a:lnTo>
                    <a:pt x="2715" y="213"/>
                  </a:lnTo>
                  <a:lnTo>
                    <a:pt x="2678" y="195"/>
                  </a:lnTo>
                  <a:lnTo>
                    <a:pt x="2636" y="178"/>
                  </a:lnTo>
                  <a:lnTo>
                    <a:pt x="2593" y="161"/>
                  </a:lnTo>
                  <a:lnTo>
                    <a:pt x="2547" y="145"/>
                  </a:lnTo>
                  <a:lnTo>
                    <a:pt x="2499" y="129"/>
                  </a:lnTo>
                  <a:lnTo>
                    <a:pt x="2448" y="115"/>
                  </a:lnTo>
                  <a:lnTo>
                    <a:pt x="2395" y="101"/>
                  </a:lnTo>
                  <a:lnTo>
                    <a:pt x="2340" y="88"/>
                  </a:lnTo>
                  <a:lnTo>
                    <a:pt x="2282" y="76"/>
                  </a:lnTo>
                  <a:lnTo>
                    <a:pt x="2222" y="64"/>
                  </a:lnTo>
                  <a:lnTo>
                    <a:pt x="2162" y="54"/>
                  </a:lnTo>
                  <a:lnTo>
                    <a:pt x="2099" y="44"/>
                  </a:lnTo>
                  <a:lnTo>
                    <a:pt x="2034" y="34"/>
                  </a:lnTo>
                  <a:lnTo>
                    <a:pt x="1967" y="27"/>
                  </a:lnTo>
                  <a:lnTo>
                    <a:pt x="1899" y="20"/>
                  </a:lnTo>
                  <a:lnTo>
                    <a:pt x="1830" y="14"/>
                  </a:lnTo>
                  <a:lnTo>
                    <a:pt x="1759" y="9"/>
                  </a:lnTo>
                  <a:lnTo>
                    <a:pt x="1687" y="5"/>
                  </a:lnTo>
                  <a:lnTo>
                    <a:pt x="1614" y="2"/>
                  </a:lnTo>
                  <a:lnTo>
                    <a:pt x="1539" y="1"/>
                  </a:lnTo>
                  <a:lnTo>
                    <a:pt x="1464" y="0"/>
                  </a:lnTo>
                  <a:lnTo>
                    <a:pt x="1389" y="1"/>
                  </a:lnTo>
                  <a:lnTo>
                    <a:pt x="1314" y="2"/>
                  </a:lnTo>
                  <a:lnTo>
                    <a:pt x="1241" y="5"/>
                  </a:lnTo>
                  <a:lnTo>
                    <a:pt x="1169" y="9"/>
                  </a:lnTo>
                  <a:lnTo>
                    <a:pt x="1099" y="14"/>
                  </a:lnTo>
                  <a:lnTo>
                    <a:pt x="1029" y="20"/>
                  </a:lnTo>
                  <a:lnTo>
                    <a:pt x="961" y="27"/>
                  </a:lnTo>
                  <a:lnTo>
                    <a:pt x="894" y="34"/>
                  </a:lnTo>
                  <a:lnTo>
                    <a:pt x="829" y="44"/>
                  </a:lnTo>
                  <a:lnTo>
                    <a:pt x="766" y="54"/>
                  </a:lnTo>
                  <a:lnTo>
                    <a:pt x="706" y="64"/>
                  </a:lnTo>
                  <a:lnTo>
                    <a:pt x="646" y="76"/>
                  </a:lnTo>
                  <a:lnTo>
                    <a:pt x="588" y="88"/>
                  </a:lnTo>
                  <a:lnTo>
                    <a:pt x="534" y="101"/>
                  </a:lnTo>
                  <a:lnTo>
                    <a:pt x="480" y="115"/>
                  </a:lnTo>
                  <a:lnTo>
                    <a:pt x="429" y="129"/>
                  </a:lnTo>
                  <a:lnTo>
                    <a:pt x="381" y="145"/>
                  </a:lnTo>
                  <a:lnTo>
                    <a:pt x="335" y="161"/>
                  </a:lnTo>
                  <a:lnTo>
                    <a:pt x="292" y="178"/>
                  </a:lnTo>
                  <a:lnTo>
                    <a:pt x="250" y="195"/>
                  </a:lnTo>
                  <a:lnTo>
                    <a:pt x="213" y="213"/>
                  </a:lnTo>
                  <a:lnTo>
                    <a:pt x="177" y="231"/>
                  </a:lnTo>
                  <a:lnTo>
                    <a:pt x="145" y="250"/>
                  </a:lnTo>
                  <a:lnTo>
                    <a:pt x="115" y="271"/>
                  </a:lnTo>
                  <a:lnTo>
                    <a:pt x="89" y="291"/>
                  </a:lnTo>
                  <a:lnTo>
                    <a:pt x="66" y="311"/>
                  </a:lnTo>
                  <a:lnTo>
                    <a:pt x="47" y="332"/>
                  </a:lnTo>
                  <a:lnTo>
                    <a:pt x="30" y="353"/>
                  </a:lnTo>
                  <a:lnTo>
                    <a:pt x="17" y="374"/>
                  </a:lnTo>
                  <a:lnTo>
                    <a:pt x="8" y="397"/>
                  </a:lnTo>
                  <a:lnTo>
                    <a:pt x="2" y="420"/>
                  </a:lnTo>
                  <a:lnTo>
                    <a:pt x="0" y="442"/>
                  </a:lnTo>
                  <a:lnTo>
                    <a:pt x="2" y="465"/>
                  </a:lnTo>
                  <a:lnTo>
                    <a:pt x="8" y="487"/>
                  </a:lnTo>
                  <a:lnTo>
                    <a:pt x="17" y="510"/>
                  </a:lnTo>
                  <a:lnTo>
                    <a:pt x="30" y="531"/>
                  </a:lnTo>
                  <a:lnTo>
                    <a:pt x="47" y="553"/>
                  </a:lnTo>
                  <a:lnTo>
                    <a:pt x="66" y="573"/>
                  </a:lnTo>
                  <a:lnTo>
                    <a:pt x="89" y="594"/>
                  </a:lnTo>
                  <a:lnTo>
                    <a:pt x="115" y="615"/>
                  </a:lnTo>
                  <a:lnTo>
                    <a:pt x="145" y="634"/>
                  </a:lnTo>
                  <a:lnTo>
                    <a:pt x="177" y="653"/>
                  </a:lnTo>
                  <a:lnTo>
                    <a:pt x="213" y="671"/>
                  </a:lnTo>
                  <a:lnTo>
                    <a:pt x="250" y="689"/>
                  </a:lnTo>
                  <a:lnTo>
                    <a:pt x="292" y="706"/>
                  </a:lnTo>
                  <a:lnTo>
                    <a:pt x="335" y="724"/>
                  </a:lnTo>
                  <a:lnTo>
                    <a:pt x="381" y="740"/>
                  </a:lnTo>
                  <a:lnTo>
                    <a:pt x="429" y="755"/>
                  </a:lnTo>
                  <a:lnTo>
                    <a:pt x="480" y="769"/>
                  </a:lnTo>
                  <a:lnTo>
                    <a:pt x="534" y="783"/>
                  </a:lnTo>
                  <a:lnTo>
                    <a:pt x="588" y="796"/>
                  </a:lnTo>
                  <a:lnTo>
                    <a:pt x="646" y="808"/>
                  </a:lnTo>
                  <a:lnTo>
                    <a:pt x="706" y="820"/>
                  </a:lnTo>
                  <a:lnTo>
                    <a:pt x="766" y="831"/>
                  </a:lnTo>
                  <a:lnTo>
                    <a:pt x="829" y="841"/>
                  </a:lnTo>
                  <a:lnTo>
                    <a:pt x="894" y="850"/>
                  </a:lnTo>
                  <a:lnTo>
                    <a:pt x="961" y="858"/>
                  </a:lnTo>
                  <a:lnTo>
                    <a:pt x="1029" y="865"/>
                  </a:lnTo>
                  <a:lnTo>
                    <a:pt x="1099" y="870"/>
                  </a:lnTo>
                  <a:lnTo>
                    <a:pt x="1169" y="875"/>
                  </a:lnTo>
                  <a:lnTo>
                    <a:pt x="1241" y="879"/>
                  </a:lnTo>
                  <a:lnTo>
                    <a:pt x="1314" y="882"/>
                  </a:lnTo>
                  <a:lnTo>
                    <a:pt x="1389" y="884"/>
                  </a:lnTo>
                  <a:lnTo>
                    <a:pt x="1464" y="8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90680" y="4490640"/>
              <a:ext cx="88920" cy="28440"/>
            </a:xfrm>
            <a:custGeom>
              <a:avLst/>
              <a:gdLst/>
              <a:ahLst/>
              <a:rect l="l" t="t" r="r" b="b"/>
              <a:pathLst>
                <a:path w="1513" h="491">
                  <a:moveTo>
                    <a:pt x="1414" y="0"/>
                  </a:moveTo>
                  <a:lnTo>
                    <a:pt x="1414" y="0"/>
                  </a:lnTo>
                  <a:lnTo>
                    <a:pt x="1414" y="7"/>
                  </a:lnTo>
                  <a:lnTo>
                    <a:pt x="1413" y="15"/>
                  </a:lnTo>
                  <a:lnTo>
                    <a:pt x="1411" y="22"/>
                  </a:lnTo>
                  <a:lnTo>
                    <a:pt x="1409" y="29"/>
                  </a:lnTo>
                  <a:lnTo>
                    <a:pt x="1406" y="37"/>
                  </a:lnTo>
                  <a:lnTo>
                    <a:pt x="1403" y="45"/>
                  </a:lnTo>
                  <a:lnTo>
                    <a:pt x="1398" y="54"/>
                  </a:lnTo>
                  <a:lnTo>
                    <a:pt x="1393" y="62"/>
                  </a:lnTo>
                  <a:lnTo>
                    <a:pt x="1387" y="71"/>
                  </a:lnTo>
                  <a:lnTo>
                    <a:pt x="1380" y="79"/>
                  </a:lnTo>
                  <a:lnTo>
                    <a:pt x="1372" y="88"/>
                  </a:lnTo>
                  <a:lnTo>
                    <a:pt x="1364" y="97"/>
                  </a:lnTo>
                  <a:lnTo>
                    <a:pt x="1354" y="106"/>
                  </a:lnTo>
                  <a:lnTo>
                    <a:pt x="1344" y="114"/>
                  </a:lnTo>
                  <a:lnTo>
                    <a:pt x="1332" y="123"/>
                  </a:lnTo>
                  <a:lnTo>
                    <a:pt x="1320" y="132"/>
                  </a:lnTo>
                  <a:lnTo>
                    <a:pt x="1307" y="141"/>
                  </a:lnTo>
                  <a:lnTo>
                    <a:pt x="1293" y="150"/>
                  </a:lnTo>
                  <a:lnTo>
                    <a:pt x="1279" y="159"/>
                  </a:lnTo>
                  <a:lnTo>
                    <a:pt x="1264" y="168"/>
                  </a:lnTo>
                  <a:lnTo>
                    <a:pt x="1230" y="186"/>
                  </a:lnTo>
                  <a:lnTo>
                    <a:pt x="1194" y="203"/>
                  </a:lnTo>
                  <a:lnTo>
                    <a:pt x="1154" y="219"/>
                  </a:lnTo>
                  <a:lnTo>
                    <a:pt x="1113" y="235"/>
                  </a:lnTo>
                  <a:lnTo>
                    <a:pt x="1068" y="251"/>
                  </a:lnTo>
                  <a:lnTo>
                    <a:pt x="1021" y="266"/>
                  </a:lnTo>
                  <a:lnTo>
                    <a:pt x="971" y="281"/>
                  </a:lnTo>
                  <a:lnTo>
                    <a:pt x="919" y="294"/>
                  </a:lnTo>
                  <a:lnTo>
                    <a:pt x="865" y="307"/>
                  </a:lnTo>
                  <a:lnTo>
                    <a:pt x="808" y="319"/>
                  </a:lnTo>
                  <a:lnTo>
                    <a:pt x="750" y="330"/>
                  </a:lnTo>
                  <a:lnTo>
                    <a:pt x="690" y="341"/>
                  </a:lnTo>
                  <a:lnTo>
                    <a:pt x="628" y="350"/>
                  </a:lnTo>
                  <a:lnTo>
                    <a:pt x="563" y="359"/>
                  </a:lnTo>
                  <a:lnTo>
                    <a:pt x="498" y="366"/>
                  </a:lnTo>
                  <a:lnTo>
                    <a:pt x="430" y="373"/>
                  </a:lnTo>
                  <a:lnTo>
                    <a:pt x="362" y="379"/>
                  </a:lnTo>
                  <a:lnTo>
                    <a:pt x="292" y="384"/>
                  </a:lnTo>
                  <a:lnTo>
                    <a:pt x="221" y="389"/>
                  </a:lnTo>
                  <a:lnTo>
                    <a:pt x="148" y="392"/>
                  </a:lnTo>
                  <a:lnTo>
                    <a:pt x="75" y="393"/>
                  </a:lnTo>
                  <a:lnTo>
                    <a:pt x="0" y="394"/>
                  </a:lnTo>
                  <a:lnTo>
                    <a:pt x="0" y="491"/>
                  </a:lnTo>
                  <a:lnTo>
                    <a:pt x="76" y="490"/>
                  </a:lnTo>
                  <a:lnTo>
                    <a:pt x="151" y="488"/>
                  </a:lnTo>
                  <a:lnTo>
                    <a:pt x="225" y="486"/>
                  </a:lnTo>
                  <a:lnTo>
                    <a:pt x="298" y="482"/>
                  </a:lnTo>
                  <a:lnTo>
                    <a:pt x="370" y="477"/>
                  </a:lnTo>
                  <a:lnTo>
                    <a:pt x="439" y="471"/>
                  </a:lnTo>
                  <a:lnTo>
                    <a:pt x="508" y="464"/>
                  </a:lnTo>
                  <a:lnTo>
                    <a:pt x="576" y="456"/>
                  </a:lnTo>
                  <a:lnTo>
                    <a:pt x="641" y="447"/>
                  </a:lnTo>
                  <a:lnTo>
                    <a:pt x="706" y="437"/>
                  </a:lnTo>
                  <a:lnTo>
                    <a:pt x="767" y="426"/>
                  </a:lnTo>
                  <a:lnTo>
                    <a:pt x="828" y="415"/>
                  </a:lnTo>
                  <a:lnTo>
                    <a:pt x="886" y="402"/>
                  </a:lnTo>
                  <a:lnTo>
                    <a:pt x="943" y="389"/>
                  </a:lnTo>
                  <a:lnTo>
                    <a:pt x="997" y="374"/>
                  </a:lnTo>
                  <a:lnTo>
                    <a:pt x="1049" y="359"/>
                  </a:lnTo>
                  <a:lnTo>
                    <a:pt x="1099" y="344"/>
                  </a:lnTo>
                  <a:lnTo>
                    <a:pt x="1146" y="327"/>
                  </a:lnTo>
                  <a:lnTo>
                    <a:pt x="1192" y="310"/>
                  </a:lnTo>
                  <a:lnTo>
                    <a:pt x="1233" y="292"/>
                  </a:lnTo>
                  <a:lnTo>
                    <a:pt x="1274" y="273"/>
                  </a:lnTo>
                  <a:lnTo>
                    <a:pt x="1310" y="254"/>
                  </a:lnTo>
                  <a:lnTo>
                    <a:pt x="1328" y="243"/>
                  </a:lnTo>
                  <a:lnTo>
                    <a:pt x="1346" y="233"/>
                  </a:lnTo>
                  <a:lnTo>
                    <a:pt x="1362" y="223"/>
                  </a:lnTo>
                  <a:lnTo>
                    <a:pt x="1377" y="212"/>
                  </a:lnTo>
                  <a:lnTo>
                    <a:pt x="1392" y="201"/>
                  </a:lnTo>
                  <a:lnTo>
                    <a:pt x="1406" y="190"/>
                  </a:lnTo>
                  <a:lnTo>
                    <a:pt x="1420" y="179"/>
                  </a:lnTo>
                  <a:lnTo>
                    <a:pt x="1432" y="167"/>
                  </a:lnTo>
                  <a:lnTo>
                    <a:pt x="1444" y="154"/>
                  </a:lnTo>
                  <a:lnTo>
                    <a:pt x="1455" y="142"/>
                  </a:lnTo>
                  <a:lnTo>
                    <a:pt x="1465" y="129"/>
                  </a:lnTo>
                  <a:lnTo>
                    <a:pt x="1474" y="116"/>
                  </a:lnTo>
                  <a:lnTo>
                    <a:pt x="1483" y="103"/>
                  </a:lnTo>
                  <a:lnTo>
                    <a:pt x="1490" y="90"/>
                  </a:lnTo>
                  <a:lnTo>
                    <a:pt x="1498" y="76"/>
                  </a:lnTo>
                  <a:lnTo>
                    <a:pt x="1503" y="61"/>
                  </a:lnTo>
                  <a:lnTo>
                    <a:pt x="1507" y="46"/>
                  </a:lnTo>
                  <a:lnTo>
                    <a:pt x="1510" y="31"/>
                  </a:lnTo>
                  <a:lnTo>
                    <a:pt x="1512" y="15"/>
                  </a:lnTo>
                  <a:lnTo>
                    <a:pt x="1513" y="0"/>
                  </a:lnTo>
                  <a:lnTo>
                    <a:pt x="1513" y="0"/>
                  </a:lnTo>
                  <a:lnTo>
                    <a:pt x="1414" y="0"/>
                  </a:lnTo>
                  <a:lnTo>
                    <a:pt x="1414" y="0"/>
                  </a:lnTo>
                  <a:lnTo>
                    <a:pt x="1414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990680" y="4460760"/>
              <a:ext cx="88920" cy="29520"/>
            </a:xfrm>
            <a:custGeom>
              <a:avLst/>
              <a:gdLst/>
              <a:ahLst/>
              <a:rect l="l" t="t" r="r" b="b"/>
              <a:pathLst>
                <a:path w="1513" h="491">
                  <a:moveTo>
                    <a:pt x="0" y="99"/>
                  </a:moveTo>
                  <a:lnTo>
                    <a:pt x="0" y="99"/>
                  </a:lnTo>
                  <a:lnTo>
                    <a:pt x="75" y="99"/>
                  </a:lnTo>
                  <a:lnTo>
                    <a:pt x="148" y="101"/>
                  </a:lnTo>
                  <a:lnTo>
                    <a:pt x="221" y="103"/>
                  </a:lnTo>
                  <a:lnTo>
                    <a:pt x="292" y="107"/>
                  </a:lnTo>
                  <a:lnTo>
                    <a:pt x="362" y="112"/>
                  </a:lnTo>
                  <a:lnTo>
                    <a:pt x="430" y="118"/>
                  </a:lnTo>
                  <a:lnTo>
                    <a:pt x="498" y="125"/>
                  </a:lnTo>
                  <a:lnTo>
                    <a:pt x="563" y="132"/>
                  </a:lnTo>
                  <a:lnTo>
                    <a:pt x="628" y="141"/>
                  </a:lnTo>
                  <a:lnTo>
                    <a:pt x="690" y="151"/>
                  </a:lnTo>
                  <a:lnTo>
                    <a:pt x="750" y="161"/>
                  </a:lnTo>
                  <a:lnTo>
                    <a:pt x="808" y="172"/>
                  </a:lnTo>
                  <a:lnTo>
                    <a:pt x="865" y="184"/>
                  </a:lnTo>
                  <a:lnTo>
                    <a:pt x="919" y="197"/>
                  </a:lnTo>
                  <a:lnTo>
                    <a:pt x="971" y="212"/>
                  </a:lnTo>
                  <a:lnTo>
                    <a:pt x="1021" y="226"/>
                  </a:lnTo>
                  <a:lnTo>
                    <a:pt x="1068" y="241"/>
                  </a:lnTo>
                  <a:lnTo>
                    <a:pt x="1113" y="256"/>
                  </a:lnTo>
                  <a:lnTo>
                    <a:pt x="1154" y="272"/>
                  </a:lnTo>
                  <a:lnTo>
                    <a:pt x="1194" y="288"/>
                  </a:lnTo>
                  <a:lnTo>
                    <a:pt x="1230" y="305"/>
                  </a:lnTo>
                  <a:lnTo>
                    <a:pt x="1264" y="324"/>
                  </a:lnTo>
                  <a:lnTo>
                    <a:pt x="1279" y="332"/>
                  </a:lnTo>
                  <a:lnTo>
                    <a:pt x="1293" y="341"/>
                  </a:lnTo>
                  <a:lnTo>
                    <a:pt x="1307" y="350"/>
                  </a:lnTo>
                  <a:lnTo>
                    <a:pt x="1320" y="359"/>
                  </a:lnTo>
                  <a:lnTo>
                    <a:pt x="1332" y="368"/>
                  </a:lnTo>
                  <a:lnTo>
                    <a:pt x="1344" y="377"/>
                  </a:lnTo>
                  <a:lnTo>
                    <a:pt x="1354" y="386"/>
                  </a:lnTo>
                  <a:lnTo>
                    <a:pt x="1364" y="395"/>
                  </a:lnTo>
                  <a:lnTo>
                    <a:pt x="1372" y="403"/>
                  </a:lnTo>
                  <a:lnTo>
                    <a:pt x="1380" y="412"/>
                  </a:lnTo>
                  <a:lnTo>
                    <a:pt x="1387" y="421"/>
                  </a:lnTo>
                  <a:lnTo>
                    <a:pt x="1393" y="430"/>
                  </a:lnTo>
                  <a:lnTo>
                    <a:pt x="1398" y="438"/>
                  </a:lnTo>
                  <a:lnTo>
                    <a:pt x="1403" y="446"/>
                  </a:lnTo>
                  <a:lnTo>
                    <a:pt x="1406" y="454"/>
                  </a:lnTo>
                  <a:lnTo>
                    <a:pt x="1409" y="462"/>
                  </a:lnTo>
                  <a:lnTo>
                    <a:pt x="1411" y="469"/>
                  </a:lnTo>
                  <a:lnTo>
                    <a:pt x="1413" y="476"/>
                  </a:lnTo>
                  <a:lnTo>
                    <a:pt x="1414" y="484"/>
                  </a:lnTo>
                  <a:lnTo>
                    <a:pt x="1414" y="491"/>
                  </a:lnTo>
                  <a:lnTo>
                    <a:pt x="1513" y="491"/>
                  </a:lnTo>
                  <a:lnTo>
                    <a:pt x="1512" y="476"/>
                  </a:lnTo>
                  <a:lnTo>
                    <a:pt x="1510" y="461"/>
                  </a:lnTo>
                  <a:lnTo>
                    <a:pt x="1507" y="446"/>
                  </a:lnTo>
                  <a:lnTo>
                    <a:pt x="1503" y="431"/>
                  </a:lnTo>
                  <a:lnTo>
                    <a:pt x="1498" y="416"/>
                  </a:lnTo>
                  <a:lnTo>
                    <a:pt x="1490" y="402"/>
                  </a:lnTo>
                  <a:lnTo>
                    <a:pt x="1483" y="388"/>
                  </a:lnTo>
                  <a:lnTo>
                    <a:pt x="1474" y="375"/>
                  </a:lnTo>
                  <a:lnTo>
                    <a:pt x="1465" y="362"/>
                  </a:lnTo>
                  <a:lnTo>
                    <a:pt x="1455" y="349"/>
                  </a:lnTo>
                  <a:lnTo>
                    <a:pt x="1444" y="337"/>
                  </a:lnTo>
                  <a:lnTo>
                    <a:pt x="1432" y="325"/>
                  </a:lnTo>
                  <a:lnTo>
                    <a:pt x="1420" y="314"/>
                  </a:lnTo>
                  <a:lnTo>
                    <a:pt x="1406" y="301"/>
                  </a:lnTo>
                  <a:lnTo>
                    <a:pt x="1392" y="290"/>
                  </a:lnTo>
                  <a:lnTo>
                    <a:pt x="1377" y="279"/>
                  </a:lnTo>
                  <a:lnTo>
                    <a:pt x="1362" y="269"/>
                  </a:lnTo>
                  <a:lnTo>
                    <a:pt x="1346" y="258"/>
                  </a:lnTo>
                  <a:lnTo>
                    <a:pt x="1328" y="248"/>
                  </a:lnTo>
                  <a:lnTo>
                    <a:pt x="1310" y="238"/>
                  </a:lnTo>
                  <a:lnTo>
                    <a:pt x="1274" y="219"/>
                  </a:lnTo>
                  <a:lnTo>
                    <a:pt x="1233" y="200"/>
                  </a:lnTo>
                  <a:lnTo>
                    <a:pt x="1192" y="181"/>
                  </a:lnTo>
                  <a:lnTo>
                    <a:pt x="1146" y="164"/>
                  </a:lnTo>
                  <a:lnTo>
                    <a:pt x="1099" y="148"/>
                  </a:lnTo>
                  <a:lnTo>
                    <a:pt x="1049" y="132"/>
                  </a:lnTo>
                  <a:lnTo>
                    <a:pt x="997" y="117"/>
                  </a:lnTo>
                  <a:lnTo>
                    <a:pt x="943" y="103"/>
                  </a:lnTo>
                  <a:lnTo>
                    <a:pt x="886" y="90"/>
                  </a:lnTo>
                  <a:lnTo>
                    <a:pt x="828" y="76"/>
                  </a:lnTo>
                  <a:lnTo>
                    <a:pt x="767" y="65"/>
                  </a:lnTo>
                  <a:lnTo>
                    <a:pt x="706" y="54"/>
                  </a:lnTo>
                  <a:lnTo>
                    <a:pt x="642" y="44"/>
                  </a:lnTo>
                  <a:lnTo>
                    <a:pt x="576" y="35"/>
                  </a:lnTo>
                  <a:lnTo>
                    <a:pt x="508" y="27"/>
                  </a:lnTo>
                  <a:lnTo>
                    <a:pt x="439" y="21"/>
                  </a:lnTo>
                  <a:lnTo>
                    <a:pt x="370" y="14"/>
                  </a:lnTo>
                  <a:lnTo>
                    <a:pt x="298" y="10"/>
                  </a:lnTo>
                  <a:lnTo>
                    <a:pt x="225" y="6"/>
                  </a:lnTo>
                  <a:lnTo>
                    <a:pt x="151" y="3"/>
                  </a:lnTo>
                  <a:lnTo>
                    <a:pt x="7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01760" y="4460760"/>
              <a:ext cx="88920" cy="29520"/>
            </a:xfrm>
            <a:custGeom>
              <a:avLst/>
              <a:gdLst/>
              <a:ahLst/>
              <a:rect l="l" t="t" r="r" b="b"/>
              <a:pathLst>
                <a:path w="1513" h="491">
                  <a:moveTo>
                    <a:pt x="99" y="491"/>
                  </a:moveTo>
                  <a:lnTo>
                    <a:pt x="99" y="491"/>
                  </a:lnTo>
                  <a:lnTo>
                    <a:pt x="99" y="484"/>
                  </a:lnTo>
                  <a:lnTo>
                    <a:pt x="100" y="476"/>
                  </a:lnTo>
                  <a:lnTo>
                    <a:pt x="102" y="469"/>
                  </a:lnTo>
                  <a:lnTo>
                    <a:pt x="104" y="462"/>
                  </a:lnTo>
                  <a:lnTo>
                    <a:pt x="107" y="454"/>
                  </a:lnTo>
                  <a:lnTo>
                    <a:pt x="110" y="446"/>
                  </a:lnTo>
                  <a:lnTo>
                    <a:pt x="115" y="438"/>
                  </a:lnTo>
                  <a:lnTo>
                    <a:pt x="120" y="430"/>
                  </a:lnTo>
                  <a:lnTo>
                    <a:pt x="126" y="421"/>
                  </a:lnTo>
                  <a:lnTo>
                    <a:pt x="133" y="412"/>
                  </a:lnTo>
                  <a:lnTo>
                    <a:pt x="141" y="403"/>
                  </a:lnTo>
                  <a:lnTo>
                    <a:pt x="149" y="395"/>
                  </a:lnTo>
                  <a:lnTo>
                    <a:pt x="159" y="386"/>
                  </a:lnTo>
                  <a:lnTo>
                    <a:pt x="169" y="377"/>
                  </a:lnTo>
                  <a:lnTo>
                    <a:pt x="181" y="368"/>
                  </a:lnTo>
                  <a:lnTo>
                    <a:pt x="193" y="359"/>
                  </a:lnTo>
                  <a:lnTo>
                    <a:pt x="206" y="350"/>
                  </a:lnTo>
                  <a:lnTo>
                    <a:pt x="220" y="341"/>
                  </a:lnTo>
                  <a:lnTo>
                    <a:pt x="234" y="332"/>
                  </a:lnTo>
                  <a:lnTo>
                    <a:pt x="249" y="324"/>
                  </a:lnTo>
                  <a:lnTo>
                    <a:pt x="283" y="305"/>
                  </a:lnTo>
                  <a:lnTo>
                    <a:pt x="319" y="288"/>
                  </a:lnTo>
                  <a:lnTo>
                    <a:pt x="359" y="272"/>
                  </a:lnTo>
                  <a:lnTo>
                    <a:pt x="400" y="256"/>
                  </a:lnTo>
                  <a:lnTo>
                    <a:pt x="445" y="241"/>
                  </a:lnTo>
                  <a:lnTo>
                    <a:pt x="492" y="226"/>
                  </a:lnTo>
                  <a:lnTo>
                    <a:pt x="542" y="212"/>
                  </a:lnTo>
                  <a:lnTo>
                    <a:pt x="594" y="197"/>
                  </a:lnTo>
                  <a:lnTo>
                    <a:pt x="648" y="184"/>
                  </a:lnTo>
                  <a:lnTo>
                    <a:pt x="705" y="172"/>
                  </a:lnTo>
                  <a:lnTo>
                    <a:pt x="763" y="161"/>
                  </a:lnTo>
                  <a:lnTo>
                    <a:pt x="824" y="151"/>
                  </a:lnTo>
                  <a:lnTo>
                    <a:pt x="885" y="141"/>
                  </a:lnTo>
                  <a:lnTo>
                    <a:pt x="950" y="132"/>
                  </a:lnTo>
                  <a:lnTo>
                    <a:pt x="1015" y="125"/>
                  </a:lnTo>
                  <a:lnTo>
                    <a:pt x="1083" y="118"/>
                  </a:lnTo>
                  <a:lnTo>
                    <a:pt x="1151" y="112"/>
                  </a:lnTo>
                  <a:lnTo>
                    <a:pt x="1221" y="107"/>
                  </a:lnTo>
                  <a:lnTo>
                    <a:pt x="1292" y="103"/>
                  </a:lnTo>
                  <a:lnTo>
                    <a:pt x="1365" y="101"/>
                  </a:lnTo>
                  <a:lnTo>
                    <a:pt x="1438" y="99"/>
                  </a:lnTo>
                  <a:lnTo>
                    <a:pt x="1513" y="99"/>
                  </a:lnTo>
                  <a:lnTo>
                    <a:pt x="1513" y="0"/>
                  </a:lnTo>
                  <a:lnTo>
                    <a:pt x="1437" y="1"/>
                  </a:lnTo>
                  <a:lnTo>
                    <a:pt x="1362" y="3"/>
                  </a:lnTo>
                  <a:lnTo>
                    <a:pt x="1288" y="6"/>
                  </a:lnTo>
                  <a:lnTo>
                    <a:pt x="1215" y="10"/>
                  </a:lnTo>
                  <a:lnTo>
                    <a:pt x="1143" y="14"/>
                  </a:lnTo>
                  <a:lnTo>
                    <a:pt x="1074" y="21"/>
                  </a:lnTo>
                  <a:lnTo>
                    <a:pt x="1005" y="27"/>
                  </a:lnTo>
                  <a:lnTo>
                    <a:pt x="937" y="35"/>
                  </a:lnTo>
                  <a:lnTo>
                    <a:pt x="871" y="44"/>
                  </a:lnTo>
                  <a:lnTo>
                    <a:pt x="807" y="54"/>
                  </a:lnTo>
                  <a:lnTo>
                    <a:pt x="746" y="65"/>
                  </a:lnTo>
                  <a:lnTo>
                    <a:pt x="685" y="76"/>
                  </a:lnTo>
                  <a:lnTo>
                    <a:pt x="627" y="90"/>
                  </a:lnTo>
                  <a:lnTo>
                    <a:pt x="570" y="103"/>
                  </a:lnTo>
                  <a:lnTo>
                    <a:pt x="516" y="117"/>
                  </a:lnTo>
                  <a:lnTo>
                    <a:pt x="464" y="132"/>
                  </a:lnTo>
                  <a:lnTo>
                    <a:pt x="414" y="148"/>
                  </a:lnTo>
                  <a:lnTo>
                    <a:pt x="367" y="164"/>
                  </a:lnTo>
                  <a:lnTo>
                    <a:pt x="321" y="181"/>
                  </a:lnTo>
                  <a:lnTo>
                    <a:pt x="280" y="200"/>
                  </a:lnTo>
                  <a:lnTo>
                    <a:pt x="239" y="219"/>
                  </a:lnTo>
                  <a:lnTo>
                    <a:pt x="203" y="238"/>
                  </a:lnTo>
                  <a:lnTo>
                    <a:pt x="185" y="248"/>
                  </a:lnTo>
                  <a:lnTo>
                    <a:pt x="167" y="258"/>
                  </a:lnTo>
                  <a:lnTo>
                    <a:pt x="151" y="269"/>
                  </a:lnTo>
                  <a:lnTo>
                    <a:pt x="136" y="279"/>
                  </a:lnTo>
                  <a:lnTo>
                    <a:pt x="121" y="290"/>
                  </a:lnTo>
                  <a:lnTo>
                    <a:pt x="107" y="301"/>
                  </a:lnTo>
                  <a:lnTo>
                    <a:pt x="93" y="314"/>
                  </a:lnTo>
                  <a:lnTo>
                    <a:pt x="81" y="325"/>
                  </a:lnTo>
                  <a:lnTo>
                    <a:pt x="69" y="337"/>
                  </a:lnTo>
                  <a:lnTo>
                    <a:pt x="58" y="349"/>
                  </a:lnTo>
                  <a:lnTo>
                    <a:pt x="48" y="362"/>
                  </a:lnTo>
                  <a:lnTo>
                    <a:pt x="39" y="375"/>
                  </a:lnTo>
                  <a:lnTo>
                    <a:pt x="30" y="388"/>
                  </a:lnTo>
                  <a:lnTo>
                    <a:pt x="23" y="402"/>
                  </a:lnTo>
                  <a:lnTo>
                    <a:pt x="16" y="416"/>
                  </a:lnTo>
                  <a:lnTo>
                    <a:pt x="10" y="431"/>
                  </a:lnTo>
                  <a:lnTo>
                    <a:pt x="6" y="446"/>
                  </a:lnTo>
                  <a:lnTo>
                    <a:pt x="2" y="461"/>
                  </a:lnTo>
                  <a:lnTo>
                    <a:pt x="0" y="476"/>
                  </a:lnTo>
                  <a:lnTo>
                    <a:pt x="0" y="491"/>
                  </a:lnTo>
                  <a:lnTo>
                    <a:pt x="0" y="491"/>
                  </a:lnTo>
                  <a:lnTo>
                    <a:pt x="99" y="491"/>
                  </a:lnTo>
                  <a:lnTo>
                    <a:pt x="99" y="491"/>
                  </a:lnTo>
                  <a:lnTo>
                    <a:pt x="99" y="49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01760" y="4490640"/>
              <a:ext cx="88920" cy="28440"/>
            </a:xfrm>
            <a:custGeom>
              <a:avLst/>
              <a:gdLst/>
              <a:ahLst/>
              <a:rect l="l" t="t" r="r" b="b"/>
              <a:pathLst>
                <a:path w="1513" h="491">
                  <a:moveTo>
                    <a:pt x="1513" y="394"/>
                  </a:moveTo>
                  <a:lnTo>
                    <a:pt x="1513" y="394"/>
                  </a:lnTo>
                  <a:lnTo>
                    <a:pt x="1438" y="393"/>
                  </a:lnTo>
                  <a:lnTo>
                    <a:pt x="1365" y="392"/>
                  </a:lnTo>
                  <a:lnTo>
                    <a:pt x="1292" y="389"/>
                  </a:lnTo>
                  <a:lnTo>
                    <a:pt x="1221" y="384"/>
                  </a:lnTo>
                  <a:lnTo>
                    <a:pt x="1151" y="379"/>
                  </a:lnTo>
                  <a:lnTo>
                    <a:pt x="1083" y="373"/>
                  </a:lnTo>
                  <a:lnTo>
                    <a:pt x="1015" y="366"/>
                  </a:lnTo>
                  <a:lnTo>
                    <a:pt x="950" y="359"/>
                  </a:lnTo>
                  <a:lnTo>
                    <a:pt x="885" y="350"/>
                  </a:lnTo>
                  <a:lnTo>
                    <a:pt x="824" y="341"/>
                  </a:lnTo>
                  <a:lnTo>
                    <a:pt x="763" y="330"/>
                  </a:lnTo>
                  <a:lnTo>
                    <a:pt x="705" y="319"/>
                  </a:lnTo>
                  <a:lnTo>
                    <a:pt x="648" y="307"/>
                  </a:lnTo>
                  <a:lnTo>
                    <a:pt x="594" y="294"/>
                  </a:lnTo>
                  <a:lnTo>
                    <a:pt x="542" y="281"/>
                  </a:lnTo>
                  <a:lnTo>
                    <a:pt x="492" y="266"/>
                  </a:lnTo>
                  <a:lnTo>
                    <a:pt x="445" y="251"/>
                  </a:lnTo>
                  <a:lnTo>
                    <a:pt x="400" y="235"/>
                  </a:lnTo>
                  <a:lnTo>
                    <a:pt x="359" y="219"/>
                  </a:lnTo>
                  <a:lnTo>
                    <a:pt x="319" y="203"/>
                  </a:lnTo>
                  <a:lnTo>
                    <a:pt x="283" y="186"/>
                  </a:lnTo>
                  <a:lnTo>
                    <a:pt x="249" y="168"/>
                  </a:lnTo>
                  <a:lnTo>
                    <a:pt x="234" y="159"/>
                  </a:lnTo>
                  <a:lnTo>
                    <a:pt x="220" y="150"/>
                  </a:lnTo>
                  <a:lnTo>
                    <a:pt x="206" y="141"/>
                  </a:lnTo>
                  <a:lnTo>
                    <a:pt x="193" y="132"/>
                  </a:lnTo>
                  <a:lnTo>
                    <a:pt x="181" y="123"/>
                  </a:lnTo>
                  <a:lnTo>
                    <a:pt x="169" y="114"/>
                  </a:lnTo>
                  <a:lnTo>
                    <a:pt x="159" y="106"/>
                  </a:lnTo>
                  <a:lnTo>
                    <a:pt x="149" y="97"/>
                  </a:lnTo>
                  <a:lnTo>
                    <a:pt x="141" y="88"/>
                  </a:lnTo>
                  <a:lnTo>
                    <a:pt x="133" y="79"/>
                  </a:lnTo>
                  <a:lnTo>
                    <a:pt x="126" y="71"/>
                  </a:lnTo>
                  <a:lnTo>
                    <a:pt x="120" y="62"/>
                  </a:lnTo>
                  <a:lnTo>
                    <a:pt x="115" y="54"/>
                  </a:lnTo>
                  <a:lnTo>
                    <a:pt x="110" y="45"/>
                  </a:lnTo>
                  <a:lnTo>
                    <a:pt x="107" y="37"/>
                  </a:lnTo>
                  <a:lnTo>
                    <a:pt x="104" y="29"/>
                  </a:lnTo>
                  <a:lnTo>
                    <a:pt x="102" y="22"/>
                  </a:lnTo>
                  <a:lnTo>
                    <a:pt x="100" y="15"/>
                  </a:lnTo>
                  <a:lnTo>
                    <a:pt x="99" y="8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30"/>
                  </a:lnTo>
                  <a:lnTo>
                    <a:pt x="6" y="46"/>
                  </a:lnTo>
                  <a:lnTo>
                    <a:pt x="10" y="61"/>
                  </a:lnTo>
                  <a:lnTo>
                    <a:pt x="16" y="75"/>
                  </a:lnTo>
                  <a:lnTo>
                    <a:pt x="23" y="90"/>
                  </a:lnTo>
                  <a:lnTo>
                    <a:pt x="30" y="103"/>
                  </a:lnTo>
                  <a:lnTo>
                    <a:pt x="39" y="116"/>
                  </a:lnTo>
                  <a:lnTo>
                    <a:pt x="48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81" y="167"/>
                  </a:lnTo>
                  <a:lnTo>
                    <a:pt x="93" y="179"/>
                  </a:lnTo>
                  <a:lnTo>
                    <a:pt x="107" y="190"/>
                  </a:lnTo>
                  <a:lnTo>
                    <a:pt x="121" y="201"/>
                  </a:lnTo>
                  <a:lnTo>
                    <a:pt x="136" y="212"/>
                  </a:lnTo>
                  <a:lnTo>
                    <a:pt x="151" y="223"/>
                  </a:lnTo>
                  <a:lnTo>
                    <a:pt x="167" y="233"/>
                  </a:lnTo>
                  <a:lnTo>
                    <a:pt x="185" y="243"/>
                  </a:lnTo>
                  <a:lnTo>
                    <a:pt x="203" y="254"/>
                  </a:lnTo>
                  <a:lnTo>
                    <a:pt x="239" y="273"/>
                  </a:lnTo>
                  <a:lnTo>
                    <a:pt x="280" y="292"/>
                  </a:lnTo>
                  <a:lnTo>
                    <a:pt x="321" y="310"/>
                  </a:lnTo>
                  <a:lnTo>
                    <a:pt x="367" y="327"/>
                  </a:lnTo>
                  <a:lnTo>
                    <a:pt x="414" y="344"/>
                  </a:lnTo>
                  <a:lnTo>
                    <a:pt x="464" y="359"/>
                  </a:lnTo>
                  <a:lnTo>
                    <a:pt x="516" y="374"/>
                  </a:lnTo>
                  <a:lnTo>
                    <a:pt x="570" y="389"/>
                  </a:lnTo>
                  <a:lnTo>
                    <a:pt x="627" y="402"/>
                  </a:lnTo>
                  <a:lnTo>
                    <a:pt x="685" y="415"/>
                  </a:lnTo>
                  <a:lnTo>
                    <a:pt x="746" y="426"/>
                  </a:lnTo>
                  <a:lnTo>
                    <a:pt x="807" y="437"/>
                  </a:lnTo>
                  <a:lnTo>
                    <a:pt x="872" y="447"/>
                  </a:lnTo>
                  <a:lnTo>
                    <a:pt x="937" y="456"/>
                  </a:lnTo>
                  <a:lnTo>
                    <a:pt x="1005" y="464"/>
                  </a:lnTo>
                  <a:lnTo>
                    <a:pt x="1074" y="471"/>
                  </a:lnTo>
                  <a:lnTo>
                    <a:pt x="1143" y="477"/>
                  </a:lnTo>
                  <a:lnTo>
                    <a:pt x="1215" y="482"/>
                  </a:lnTo>
                  <a:lnTo>
                    <a:pt x="1288" y="486"/>
                  </a:lnTo>
                  <a:lnTo>
                    <a:pt x="1362" y="488"/>
                  </a:lnTo>
                  <a:lnTo>
                    <a:pt x="1437" y="490"/>
                  </a:lnTo>
                  <a:lnTo>
                    <a:pt x="1513" y="491"/>
                  </a:lnTo>
                  <a:lnTo>
                    <a:pt x="1513" y="491"/>
                  </a:lnTo>
                  <a:lnTo>
                    <a:pt x="1513" y="394"/>
                  </a:lnTo>
                  <a:lnTo>
                    <a:pt x="1513" y="394"/>
                  </a:lnTo>
                  <a:lnTo>
                    <a:pt x="1513" y="394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05000" y="4370040"/>
              <a:ext cx="171720" cy="133200"/>
            </a:xfrm>
            <a:custGeom>
              <a:avLst/>
              <a:gdLst/>
              <a:ahLst/>
              <a:rect l="l" t="t" r="r" b="b"/>
              <a:pathLst>
                <a:path w="2928" h="2269">
                  <a:moveTo>
                    <a:pt x="2928" y="0"/>
                  </a:moveTo>
                  <a:lnTo>
                    <a:pt x="2926" y="22"/>
                  </a:lnTo>
                  <a:lnTo>
                    <a:pt x="2920" y="44"/>
                  </a:lnTo>
                  <a:lnTo>
                    <a:pt x="2911" y="67"/>
                  </a:lnTo>
                  <a:lnTo>
                    <a:pt x="2898" y="89"/>
                  </a:lnTo>
                  <a:lnTo>
                    <a:pt x="2882" y="110"/>
                  </a:lnTo>
                  <a:lnTo>
                    <a:pt x="2862" y="131"/>
                  </a:lnTo>
                  <a:lnTo>
                    <a:pt x="2839" y="151"/>
                  </a:lnTo>
                  <a:lnTo>
                    <a:pt x="2813" y="172"/>
                  </a:lnTo>
                  <a:lnTo>
                    <a:pt x="2783" y="191"/>
                  </a:lnTo>
                  <a:lnTo>
                    <a:pt x="2751" y="210"/>
                  </a:lnTo>
                  <a:lnTo>
                    <a:pt x="2715" y="229"/>
                  </a:lnTo>
                  <a:lnTo>
                    <a:pt x="2678" y="246"/>
                  </a:lnTo>
                  <a:lnTo>
                    <a:pt x="2636" y="264"/>
                  </a:lnTo>
                  <a:lnTo>
                    <a:pt x="2593" y="280"/>
                  </a:lnTo>
                  <a:lnTo>
                    <a:pt x="2547" y="297"/>
                  </a:lnTo>
                  <a:lnTo>
                    <a:pt x="2499" y="312"/>
                  </a:lnTo>
                  <a:lnTo>
                    <a:pt x="2448" y="327"/>
                  </a:lnTo>
                  <a:lnTo>
                    <a:pt x="2395" y="341"/>
                  </a:lnTo>
                  <a:lnTo>
                    <a:pt x="2340" y="354"/>
                  </a:lnTo>
                  <a:lnTo>
                    <a:pt x="2282" y="366"/>
                  </a:lnTo>
                  <a:lnTo>
                    <a:pt x="2222" y="377"/>
                  </a:lnTo>
                  <a:lnTo>
                    <a:pt x="2162" y="388"/>
                  </a:lnTo>
                  <a:lnTo>
                    <a:pt x="2099" y="398"/>
                  </a:lnTo>
                  <a:lnTo>
                    <a:pt x="2034" y="407"/>
                  </a:lnTo>
                  <a:lnTo>
                    <a:pt x="1967" y="415"/>
                  </a:lnTo>
                  <a:lnTo>
                    <a:pt x="1899" y="422"/>
                  </a:lnTo>
                  <a:lnTo>
                    <a:pt x="1830" y="428"/>
                  </a:lnTo>
                  <a:lnTo>
                    <a:pt x="1759" y="433"/>
                  </a:lnTo>
                  <a:lnTo>
                    <a:pt x="1687" y="437"/>
                  </a:lnTo>
                  <a:lnTo>
                    <a:pt x="1614" y="439"/>
                  </a:lnTo>
                  <a:lnTo>
                    <a:pt x="1539" y="441"/>
                  </a:lnTo>
                  <a:lnTo>
                    <a:pt x="1464" y="442"/>
                  </a:lnTo>
                  <a:lnTo>
                    <a:pt x="1389" y="441"/>
                  </a:lnTo>
                  <a:lnTo>
                    <a:pt x="1314" y="439"/>
                  </a:lnTo>
                  <a:lnTo>
                    <a:pt x="1241" y="437"/>
                  </a:lnTo>
                  <a:lnTo>
                    <a:pt x="1169" y="433"/>
                  </a:lnTo>
                  <a:lnTo>
                    <a:pt x="1099" y="428"/>
                  </a:lnTo>
                  <a:lnTo>
                    <a:pt x="1029" y="422"/>
                  </a:lnTo>
                  <a:lnTo>
                    <a:pt x="961" y="415"/>
                  </a:lnTo>
                  <a:lnTo>
                    <a:pt x="894" y="407"/>
                  </a:lnTo>
                  <a:lnTo>
                    <a:pt x="829" y="398"/>
                  </a:lnTo>
                  <a:lnTo>
                    <a:pt x="766" y="388"/>
                  </a:lnTo>
                  <a:lnTo>
                    <a:pt x="706" y="377"/>
                  </a:lnTo>
                  <a:lnTo>
                    <a:pt x="646" y="366"/>
                  </a:lnTo>
                  <a:lnTo>
                    <a:pt x="588" y="354"/>
                  </a:lnTo>
                  <a:lnTo>
                    <a:pt x="534" y="341"/>
                  </a:lnTo>
                  <a:lnTo>
                    <a:pt x="480" y="327"/>
                  </a:lnTo>
                  <a:lnTo>
                    <a:pt x="429" y="312"/>
                  </a:lnTo>
                  <a:lnTo>
                    <a:pt x="381" y="297"/>
                  </a:lnTo>
                  <a:lnTo>
                    <a:pt x="335" y="280"/>
                  </a:lnTo>
                  <a:lnTo>
                    <a:pt x="292" y="264"/>
                  </a:lnTo>
                  <a:lnTo>
                    <a:pt x="250" y="246"/>
                  </a:lnTo>
                  <a:lnTo>
                    <a:pt x="213" y="229"/>
                  </a:lnTo>
                  <a:lnTo>
                    <a:pt x="177" y="210"/>
                  </a:lnTo>
                  <a:lnTo>
                    <a:pt x="145" y="191"/>
                  </a:lnTo>
                  <a:lnTo>
                    <a:pt x="115" y="172"/>
                  </a:lnTo>
                  <a:lnTo>
                    <a:pt x="89" y="151"/>
                  </a:lnTo>
                  <a:lnTo>
                    <a:pt x="66" y="131"/>
                  </a:lnTo>
                  <a:lnTo>
                    <a:pt x="47" y="110"/>
                  </a:lnTo>
                  <a:lnTo>
                    <a:pt x="30" y="89"/>
                  </a:lnTo>
                  <a:lnTo>
                    <a:pt x="17" y="67"/>
                  </a:lnTo>
                  <a:lnTo>
                    <a:pt x="8" y="44"/>
                  </a:lnTo>
                  <a:lnTo>
                    <a:pt x="2" y="22"/>
                  </a:lnTo>
                  <a:lnTo>
                    <a:pt x="0" y="0"/>
                  </a:lnTo>
                  <a:lnTo>
                    <a:pt x="0" y="1827"/>
                  </a:lnTo>
                  <a:lnTo>
                    <a:pt x="2" y="1850"/>
                  </a:lnTo>
                  <a:lnTo>
                    <a:pt x="8" y="1873"/>
                  </a:lnTo>
                  <a:lnTo>
                    <a:pt x="17" y="1895"/>
                  </a:lnTo>
                  <a:lnTo>
                    <a:pt x="30" y="1916"/>
                  </a:lnTo>
                  <a:lnTo>
                    <a:pt x="47" y="1937"/>
                  </a:lnTo>
                  <a:lnTo>
                    <a:pt x="66" y="1958"/>
                  </a:lnTo>
                  <a:lnTo>
                    <a:pt x="89" y="1980"/>
                  </a:lnTo>
                  <a:lnTo>
                    <a:pt x="115" y="1999"/>
                  </a:lnTo>
                  <a:lnTo>
                    <a:pt x="145" y="2019"/>
                  </a:lnTo>
                  <a:lnTo>
                    <a:pt x="177" y="2038"/>
                  </a:lnTo>
                  <a:lnTo>
                    <a:pt x="213" y="2056"/>
                  </a:lnTo>
                  <a:lnTo>
                    <a:pt x="250" y="2074"/>
                  </a:lnTo>
                  <a:lnTo>
                    <a:pt x="292" y="2092"/>
                  </a:lnTo>
                  <a:lnTo>
                    <a:pt x="335" y="2109"/>
                  </a:lnTo>
                  <a:lnTo>
                    <a:pt x="381" y="2124"/>
                  </a:lnTo>
                  <a:lnTo>
                    <a:pt x="429" y="2140"/>
                  </a:lnTo>
                  <a:lnTo>
                    <a:pt x="480" y="2154"/>
                  </a:lnTo>
                  <a:lnTo>
                    <a:pt x="534" y="2168"/>
                  </a:lnTo>
                  <a:lnTo>
                    <a:pt x="588" y="2181"/>
                  </a:lnTo>
                  <a:lnTo>
                    <a:pt x="646" y="2193"/>
                  </a:lnTo>
                  <a:lnTo>
                    <a:pt x="706" y="2206"/>
                  </a:lnTo>
                  <a:lnTo>
                    <a:pt x="766" y="2216"/>
                  </a:lnTo>
                  <a:lnTo>
                    <a:pt x="829" y="2226"/>
                  </a:lnTo>
                  <a:lnTo>
                    <a:pt x="894" y="2235"/>
                  </a:lnTo>
                  <a:lnTo>
                    <a:pt x="961" y="2242"/>
                  </a:lnTo>
                  <a:lnTo>
                    <a:pt x="1029" y="2249"/>
                  </a:lnTo>
                  <a:lnTo>
                    <a:pt x="1099" y="2255"/>
                  </a:lnTo>
                  <a:lnTo>
                    <a:pt x="1169" y="2260"/>
                  </a:lnTo>
                  <a:lnTo>
                    <a:pt x="1241" y="2264"/>
                  </a:lnTo>
                  <a:lnTo>
                    <a:pt x="1314" y="2267"/>
                  </a:lnTo>
                  <a:lnTo>
                    <a:pt x="1389" y="2268"/>
                  </a:lnTo>
                  <a:lnTo>
                    <a:pt x="1464" y="2269"/>
                  </a:lnTo>
                  <a:lnTo>
                    <a:pt x="1539" y="2268"/>
                  </a:lnTo>
                  <a:lnTo>
                    <a:pt x="1614" y="2267"/>
                  </a:lnTo>
                  <a:lnTo>
                    <a:pt x="1687" y="2264"/>
                  </a:lnTo>
                  <a:lnTo>
                    <a:pt x="1759" y="2260"/>
                  </a:lnTo>
                  <a:lnTo>
                    <a:pt x="1830" y="2255"/>
                  </a:lnTo>
                  <a:lnTo>
                    <a:pt x="1899" y="2249"/>
                  </a:lnTo>
                  <a:lnTo>
                    <a:pt x="1967" y="2242"/>
                  </a:lnTo>
                  <a:lnTo>
                    <a:pt x="2034" y="2235"/>
                  </a:lnTo>
                  <a:lnTo>
                    <a:pt x="2099" y="2226"/>
                  </a:lnTo>
                  <a:lnTo>
                    <a:pt x="2162" y="2216"/>
                  </a:lnTo>
                  <a:lnTo>
                    <a:pt x="2222" y="2206"/>
                  </a:lnTo>
                  <a:lnTo>
                    <a:pt x="2282" y="2193"/>
                  </a:lnTo>
                  <a:lnTo>
                    <a:pt x="2340" y="2181"/>
                  </a:lnTo>
                  <a:lnTo>
                    <a:pt x="2395" y="2168"/>
                  </a:lnTo>
                  <a:lnTo>
                    <a:pt x="2448" y="2154"/>
                  </a:lnTo>
                  <a:lnTo>
                    <a:pt x="2499" y="2140"/>
                  </a:lnTo>
                  <a:lnTo>
                    <a:pt x="2547" y="2124"/>
                  </a:lnTo>
                  <a:lnTo>
                    <a:pt x="2593" y="2109"/>
                  </a:lnTo>
                  <a:lnTo>
                    <a:pt x="2636" y="2092"/>
                  </a:lnTo>
                  <a:lnTo>
                    <a:pt x="2678" y="2074"/>
                  </a:lnTo>
                  <a:lnTo>
                    <a:pt x="2715" y="2056"/>
                  </a:lnTo>
                  <a:lnTo>
                    <a:pt x="2751" y="2038"/>
                  </a:lnTo>
                  <a:lnTo>
                    <a:pt x="2783" y="2019"/>
                  </a:lnTo>
                  <a:lnTo>
                    <a:pt x="2813" y="1999"/>
                  </a:lnTo>
                  <a:lnTo>
                    <a:pt x="2839" y="1980"/>
                  </a:lnTo>
                  <a:lnTo>
                    <a:pt x="2862" y="1958"/>
                  </a:lnTo>
                  <a:lnTo>
                    <a:pt x="2882" y="1937"/>
                  </a:lnTo>
                  <a:lnTo>
                    <a:pt x="2898" y="1916"/>
                  </a:lnTo>
                  <a:lnTo>
                    <a:pt x="2911" y="1895"/>
                  </a:lnTo>
                  <a:lnTo>
                    <a:pt x="2920" y="1873"/>
                  </a:lnTo>
                  <a:lnTo>
                    <a:pt x="2926" y="1850"/>
                  </a:lnTo>
                  <a:lnTo>
                    <a:pt x="2928" y="1827"/>
                  </a:lnTo>
                  <a:lnTo>
                    <a:pt x="29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90680" y="4370040"/>
              <a:ext cx="88920" cy="28440"/>
            </a:xfrm>
            <a:custGeom>
              <a:avLst/>
              <a:gdLst/>
              <a:ahLst/>
              <a:rect l="l" t="t" r="r" b="b"/>
              <a:pathLst>
                <a:path w="1513" h="490">
                  <a:moveTo>
                    <a:pt x="0" y="490"/>
                  </a:moveTo>
                  <a:lnTo>
                    <a:pt x="0" y="490"/>
                  </a:lnTo>
                  <a:lnTo>
                    <a:pt x="76" y="490"/>
                  </a:lnTo>
                  <a:lnTo>
                    <a:pt x="151" y="488"/>
                  </a:lnTo>
                  <a:lnTo>
                    <a:pt x="225" y="485"/>
                  </a:lnTo>
                  <a:lnTo>
                    <a:pt x="298" y="481"/>
                  </a:lnTo>
                  <a:lnTo>
                    <a:pt x="370" y="476"/>
                  </a:lnTo>
                  <a:lnTo>
                    <a:pt x="439" y="470"/>
                  </a:lnTo>
                  <a:lnTo>
                    <a:pt x="508" y="463"/>
                  </a:lnTo>
                  <a:lnTo>
                    <a:pt x="576" y="455"/>
                  </a:lnTo>
                  <a:lnTo>
                    <a:pt x="641" y="446"/>
                  </a:lnTo>
                  <a:lnTo>
                    <a:pt x="706" y="437"/>
                  </a:lnTo>
                  <a:lnTo>
                    <a:pt x="767" y="426"/>
                  </a:lnTo>
                  <a:lnTo>
                    <a:pt x="828" y="414"/>
                  </a:lnTo>
                  <a:lnTo>
                    <a:pt x="886" y="402"/>
                  </a:lnTo>
                  <a:lnTo>
                    <a:pt x="943" y="388"/>
                  </a:lnTo>
                  <a:lnTo>
                    <a:pt x="997" y="373"/>
                  </a:lnTo>
                  <a:lnTo>
                    <a:pt x="1049" y="359"/>
                  </a:lnTo>
                  <a:lnTo>
                    <a:pt x="1099" y="343"/>
                  </a:lnTo>
                  <a:lnTo>
                    <a:pt x="1146" y="327"/>
                  </a:lnTo>
                  <a:lnTo>
                    <a:pt x="1192" y="310"/>
                  </a:lnTo>
                  <a:lnTo>
                    <a:pt x="1233" y="292"/>
                  </a:lnTo>
                  <a:lnTo>
                    <a:pt x="1274" y="272"/>
                  </a:lnTo>
                  <a:lnTo>
                    <a:pt x="1310" y="253"/>
                  </a:lnTo>
                  <a:lnTo>
                    <a:pt x="1328" y="243"/>
                  </a:lnTo>
                  <a:lnTo>
                    <a:pt x="1346" y="232"/>
                  </a:lnTo>
                  <a:lnTo>
                    <a:pt x="1362" y="222"/>
                  </a:lnTo>
                  <a:lnTo>
                    <a:pt x="1377" y="212"/>
                  </a:lnTo>
                  <a:lnTo>
                    <a:pt x="1392" y="201"/>
                  </a:lnTo>
                  <a:lnTo>
                    <a:pt x="1406" y="190"/>
                  </a:lnTo>
                  <a:lnTo>
                    <a:pt x="1420" y="178"/>
                  </a:lnTo>
                  <a:lnTo>
                    <a:pt x="1432" y="166"/>
                  </a:lnTo>
                  <a:lnTo>
                    <a:pt x="1444" y="154"/>
                  </a:lnTo>
                  <a:lnTo>
                    <a:pt x="1455" y="141"/>
                  </a:lnTo>
                  <a:lnTo>
                    <a:pt x="1465" y="129"/>
                  </a:lnTo>
                  <a:lnTo>
                    <a:pt x="1474" y="116"/>
                  </a:lnTo>
                  <a:lnTo>
                    <a:pt x="1483" y="103"/>
                  </a:lnTo>
                  <a:lnTo>
                    <a:pt x="1490" y="89"/>
                  </a:lnTo>
                  <a:lnTo>
                    <a:pt x="1498" y="75"/>
                  </a:lnTo>
                  <a:lnTo>
                    <a:pt x="1503" y="61"/>
                  </a:lnTo>
                  <a:lnTo>
                    <a:pt x="1507" y="45"/>
                  </a:lnTo>
                  <a:lnTo>
                    <a:pt x="1510" y="30"/>
                  </a:lnTo>
                  <a:lnTo>
                    <a:pt x="1512" y="15"/>
                  </a:lnTo>
                  <a:lnTo>
                    <a:pt x="1513" y="0"/>
                  </a:lnTo>
                  <a:lnTo>
                    <a:pt x="1414" y="0"/>
                  </a:lnTo>
                  <a:lnTo>
                    <a:pt x="1414" y="7"/>
                  </a:lnTo>
                  <a:lnTo>
                    <a:pt x="1413" y="14"/>
                  </a:lnTo>
                  <a:lnTo>
                    <a:pt x="1411" y="22"/>
                  </a:lnTo>
                  <a:lnTo>
                    <a:pt x="1409" y="29"/>
                  </a:lnTo>
                  <a:lnTo>
                    <a:pt x="1406" y="37"/>
                  </a:lnTo>
                  <a:lnTo>
                    <a:pt x="1403" y="44"/>
                  </a:lnTo>
                  <a:lnTo>
                    <a:pt x="1398" y="53"/>
                  </a:lnTo>
                  <a:lnTo>
                    <a:pt x="1393" y="62"/>
                  </a:lnTo>
                  <a:lnTo>
                    <a:pt x="1387" y="70"/>
                  </a:lnTo>
                  <a:lnTo>
                    <a:pt x="1380" y="79"/>
                  </a:lnTo>
                  <a:lnTo>
                    <a:pt x="1372" y="87"/>
                  </a:lnTo>
                  <a:lnTo>
                    <a:pt x="1364" y="96"/>
                  </a:lnTo>
                  <a:lnTo>
                    <a:pt x="1354" y="105"/>
                  </a:lnTo>
                  <a:lnTo>
                    <a:pt x="1344" y="114"/>
                  </a:lnTo>
                  <a:lnTo>
                    <a:pt x="1332" y="123"/>
                  </a:lnTo>
                  <a:lnTo>
                    <a:pt x="1320" y="132"/>
                  </a:lnTo>
                  <a:lnTo>
                    <a:pt x="1307" y="141"/>
                  </a:lnTo>
                  <a:lnTo>
                    <a:pt x="1293" y="150"/>
                  </a:lnTo>
                  <a:lnTo>
                    <a:pt x="1279" y="158"/>
                  </a:lnTo>
                  <a:lnTo>
                    <a:pt x="1264" y="167"/>
                  </a:lnTo>
                  <a:lnTo>
                    <a:pt x="1230" y="185"/>
                  </a:lnTo>
                  <a:lnTo>
                    <a:pt x="1194" y="202"/>
                  </a:lnTo>
                  <a:lnTo>
                    <a:pt x="1154" y="219"/>
                  </a:lnTo>
                  <a:lnTo>
                    <a:pt x="1113" y="235"/>
                  </a:lnTo>
                  <a:lnTo>
                    <a:pt x="1068" y="250"/>
                  </a:lnTo>
                  <a:lnTo>
                    <a:pt x="1021" y="265"/>
                  </a:lnTo>
                  <a:lnTo>
                    <a:pt x="971" y="279"/>
                  </a:lnTo>
                  <a:lnTo>
                    <a:pt x="919" y="294"/>
                  </a:lnTo>
                  <a:lnTo>
                    <a:pt x="865" y="306"/>
                  </a:lnTo>
                  <a:lnTo>
                    <a:pt x="808" y="318"/>
                  </a:lnTo>
                  <a:lnTo>
                    <a:pt x="750" y="330"/>
                  </a:lnTo>
                  <a:lnTo>
                    <a:pt x="690" y="340"/>
                  </a:lnTo>
                  <a:lnTo>
                    <a:pt x="628" y="349"/>
                  </a:lnTo>
                  <a:lnTo>
                    <a:pt x="563" y="358"/>
                  </a:lnTo>
                  <a:lnTo>
                    <a:pt x="498" y="366"/>
                  </a:lnTo>
                  <a:lnTo>
                    <a:pt x="430" y="373"/>
                  </a:lnTo>
                  <a:lnTo>
                    <a:pt x="362" y="378"/>
                  </a:lnTo>
                  <a:lnTo>
                    <a:pt x="292" y="383"/>
                  </a:lnTo>
                  <a:lnTo>
                    <a:pt x="221" y="387"/>
                  </a:lnTo>
                  <a:lnTo>
                    <a:pt x="148" y="390"/>
                  </a:lnTo>
                  <a:lnTo>
                    <a:pt x="75" y="392"/>
                  </a:lnTo>
                  <a:lnTo>
                    <a:pt x="0" y="392"/>
                  </a:lnTo>
                  <a:lnTo>
                    <a:pt x="0" y="392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01760" y="4370040"/>
              <a:ext cx="88920" cy="28440"/>
            </a:xfrm>
            <a:custGeom>
              <a:avLst/>
              <a:gdLst/>
              <a:ahLst/>
              <a:rect l="l" t="t" r="r" b="b"/>
              <a:pathLst>
                <a:path w="1513" h="490">
                  <a:moveTo>
                    <a:pt x="99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2" y="30"/>
                  </a:lnTo>
                  <a:lnTo>
                    <a:pt x="6" y="45"/>
                  </a:lnTo>
                  <a:lnTo>
                    <a:pt x="10" y="61"/>
                  </a:lnTo>
                  <a:lnTo>
                    <a:pt x="16" y="75"/>
                  </a:lnTo>
                  <a:lnTo>
                    <a:pt x="23" y="89"/>
                  </a:lnTo>
                  <a:lnTo>
                    <a:pt x="30" y="103"/>
                  </a:lnTo>
                  <a:lnTo>
                    <a:pt x="39" y="116"/>
                  </a:lnTo>
                  <a:lnTo>
                    <a:pt x="48" y="129"/>
                  </a:lnTo>
                  <a:lnTo>
                    <a:pt x="58" y="141"/>
                  </a:lnTo>
                  <a:lnTo>
                    <a:pt x="69" y="154"/>
                  </a:lnTo>
                  <a:lnTo>
                    <a:pt x="81" y="166"/>
                  </a:lnTo>
                  <a:lnTo>
                    <a:pt x="93" y="178"/>
                  </a:lnTo>
                  <a:lnTo>
                    <a:pt x="107" y="190"/>
                  </a:lnTo>
                  <a:lnTo>
                    <a:pt x="121" y="201"/>
                  </a:lnTo>
                  <a:lnTo>
                    <a:pt x="136" y="212"/>
                  </a:lnTo>
                  <a:lnTo>
                    <a:pt x="151" y="222"/>
                  </a:lnTo>
                  <a:lnTo>
                    <a:pt x="167" y="232"/>
                  </a:lnTo>
                  <a:lnTo>
                    <a:pt x="185" y="243"/>
                  </a:lnTo>
                  <a:lnTo>
                    <a:pt x="203" y="253"/>
                  </a:lnTo>
                  <a:lnTo>
                    <a:pt x="239" y="272"/>
                  </a:lnTo>
                  <a:lnTo>
                    <a:pt x="280" y="292"/>
                  </a:lnTo>
                  <a:lnTo>
                    <a:pt x="321" y="310"/>
                  </a:lnTo>
                  <a:lnTo>
                    <a:pt x="367" y="327"/>
                  </a:lnTo>
                  <a:lnTo>
                    <a:pt x="414" y="343"/>
                  </a:lnTo>
                  <a:lnTo>
                    <a:pt x="464" y="359"/>
                  </a:lnTo>
                  <a:lnTo>
                    <a:pt x="516" y="373"/>
                  </a:lnTo>
                  <a:lnTo>
                    <a:pt x="570" y="388"/>
                  </a:lnTo>
                  <a:lnTo>
                    <a:pt x="627" y="402"/>
                  </a:lnTo>
                  <a:lnTo>
                    <a:pt x="685" y="414"/>
                  </a:lnTo>
                  <a:lnTo>
                    <a:pt x="746" y="426"/>
                  </a:lnTo>
                  <a:lnTo>
                    <a:pt x="807" y="437"/>
                  </a:lnTo>
                  <a:lnTo>
                    <a:pt x="872" y="446"/>
                  </a:lnTo>
                  <a:lnTo>
                    <a:pt x="937" y="455"/>
                  </a:lnTo>
                  <a:lnTo>
                    <a:pt x="1005" y="463"/>
                  </a:lnTo>
                  <a:lnTo>
                    <a:pt x="1074" y="470"/>
                  </a:lnTo>
                  <a:lnTo>
                    <a:pt x="1143" y="476"/>
                  </a:lnTo>
                  <a:lnTo>
                    <a:pt x="1215" y="481"/>
                  </a:lnTo>
                  <a:lnTo>
                    <a:pt x="1288" y="485"/>
                  </a:lnTo>
                  <a:lnTo>
                    <a:pt x="1362" y="488"/>
                  </a:lnTo>
                  <a:lnTo>
                    <a:pt x="1437" y="490"/>
                  </a:lnTo>
                  <a:lnTo>
                    <a:pt x="1513" y="490"/>
                  </a:lnTo>
                  <a:lnTo>
                    <a:pt x="1513" y="392"/>
                  </a:lnTo>
                  <a:lnTo>
                    <a:pt x="1438" y="392"/>
                  </a:lnTo>
                  <a:lnTo>
                    <a:pt x="1365" y="390"/>
                  </a:lnTo>
                  <a:lnTo>
                    <a:pt x="1292" y="387"/>
                  </a:lnTo>
                  <a:lnTo>
                    <a:pt x="1221" y="383"/>
                  </a:lnTo>
                  <a:lnTo>
                    <a:pt x="1151" y="378"/>
                  </a:lnTo>
                  <a:lnTo>
                    <a:pt x="1083" y="373"/>
                  </a:lnTo>
                  <a:lnTo>
                    <a:pt x="1015" y="366"/>
                  </a:lnTo>
                  <a:lnTo>
                    <a:pt x="950" y="358"/>
                  </a:lnTo>
                  <a:lnTo>
                    <a:pt x="885" y="349"/>
                  </a:lnTo>
                  <a:lnTo>
                    <a:pt x="824" y="340"/>
                  </a:lnTo>
                  <a:lnTo>
                    <a:pt x="763" y="330"/>
                  </a:lnTo>
                  <a:lnTo>
                    <a:pt x="705" y="318"/>
                  </a:lnTo>
                  <a:lnTo>
                    <a:pt x="648" y="306"/>
                  </a:lnTo>
                  <a:lnTo>
                    <a:pt x="594" y="294"/>
                  </a:lnTo>
                  <a:lnTo>
                    <a:pt x="542" y="279"/>
                  </a:lnTo>
                  <a:lnTo>
                    <a:pt x="492" y="265"/>
                  </a:lnTo>
                  <a:lnTo>
                    <a:pt x="445" y="250"/>
                  </a:lnTo>
                  <a:lnTo>
                    <a:pt x="400" y="235"/>
                  </a:lnTo>
                  <a:lnTo>
                    <a:pt x="359" y="219"/>
                  </a:lnTo>
                  <a:lnTo>
                    <a:pt x="319" y="202"/>
                  </a:lnTo>
                  <a:lnTo>
                    <a:pt x="283" y="185"/>
                  </a:lnTo>
                  <a:lnTo>
                    <a:pt x="249" y="167"/>
                  </a:lnTo>
                  <a:lnTo>
                    <a:pt x="234" y="158"/>
                  </a:lnTo>
                  <a:lnTo>
                    <a:pt x="220" y="150"/>
                  </a:lnTo>
                  <a:lnTo>
                    <a:pt x="206" y="141"/>
                  </a:lnTo>
                  <a:lnTo>
                    <a:pt x="193" y="132"/>
                  </a:lnTo>
                  <a:lnTo>
                    <a:pt x="181" y="123"/>
                  </a:lnTo>
                  <a:lnTo>
                    <a:pt x="169" y="114"/>
                  </a:lnTo>
                  <a:lnTo>
                    <a:pt x="159" y="105"/>
                  </a:lnTo>
                  <a:lnTo>
                    <a:pt x="149" y="96"/>
                  </a:lnTo>
                  <a:lnTo>
                    <a:pt x="141" y="87"/>
                  </a:lnTo>
                  <a:lnTo>
                    <a:pt x="133" y="79"/>
                  </a:lnTo>
                  <a:lnTo>
                    <a:pt x="126" y="70"/>
                  </a:lnTo>
                  <a:lnTo>
                    <a:pt x="120" y="62"/>
                  </a:lnTo>
                  <a:lnTo>
                    <a:pt x="115" y="52"/>
                  </a:lnTo>
                  <a:lnTo>
                    <a:pt x="110" y="44"/>
                  </a:lnTo>
                  <a:lnTo>
                    <a:pt x="107" y="37"/>
                  </a:lnTo>
                  <a:lnTo>
                    <a:pt x="104" y="29"/>
                  </a:lnTo>
                  <a:lnTo>
                    <a:pt x="102" y="22"/>
                  </a:lnTo>
                  <a:lnTo>
                    <a:pt x="100" y="14"/>
                  </a:lnTo>
                  <a:lnTo>
                    <a:pt x="99" y="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99" y="0"/>
                  </a:lnTo>
                  <a:lnTo>
                    <a:pt x="49" y="0"/>
                  </a:lnTo>
                  <a:lnTo>
                    <a:pt x="0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01760" y="4370040"/>
              <a:ext cx="6480" cy="107640"/>
            </a:xfrm>
            <a:custGeom>
              <a:avLst/>
              <a:gdLst/>
              <a:ahLst/>
              <a:rect l="l" t="t" r="r" b="b"/>
              <a:pathLst>
                <a:path w="99" h="1827">
                  <a:moveTo>
                    <a:pt x="0" y="1827"/>
                  </a:moveTo>
                  <a:lnTo>
                    <a:pt x="99" y="182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827"/>
                  </a:lnTo>
                  <a:lnTo>
                    <a:pt x="0" y="1827"/>
                  </a:lnTo>
                  <a:lnTo>
                    <a:pt x="99" y="1827"/>
                  </a:lnTo>
                  <a:lnTo>
                    <a:pt x="99" y="1827"/>
                  </a:lnTo>
                  <a:lnTo>
                    <a:pt x="99" y="1827"/>
                  </a:lnTo>
                  <a:lnTo>
                    <a:pt x="0" y="182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901760" y="4478040"/>
              <a:ext cx="88920" cy="28440"/>
            </a:xfrm>
            <a:custGeom>
              <a:avLst/>
              <a:gdLst/>
              <a:ahLst/>
              <a:rect l="l" t="t" r="r" b="b"/>
              <a:pathLst>
                <a:path w="1513" h="492">
                  <a:moveTo>
                    <a:pt x="1513" y="393"/>
                  </a:moveTo>
                  <a:lnTo>
                    <a:pt x="1513" y="393"/>
                  </a:lnTo>
                  <a:lnTo>
                    <a:pt x="1438" y="393"/>
                  </a:lnTo>
                  <a:lnTo>
                    <a:pt x="1365" y="391"/>
                  </a:lnTo>
                  <a:lnTo>
                    <a:pt x="1292" y="389"/>
                  </a:lnTo>
                  <a:lnTo>
                    <a:pt x="1221" y="385"/>
                  </a:lnTo>
                  <a:lnTo>
                    <a:pt x="1151" y="380"/>
                  </a:lnTo>
                  <a:lnTo>
                    <a:pt x="1083" y="373"/>
                  </a:lnTo>
                  <a:lnTo>
                    <a:pt x="1015" y="366"/>
                  </a:lnTo>
                  <a:lnTo>
                    <a:pt x="950" y="359"/>
                  </a:lnTo>
                  <a:lnTo>
                    <a:pt x="885" y="350"/>
                  </a:lnTo>
                  <a:lnTo>
                    <a:pt x="824" y="340"/>
                  </a:lnTo>
                  <a:lnTo>
                    <a:pt x="763" y="330"/>
                  </a:lnTo>
                  <a:lnTo>
                    <a:pt x="705" y="319"/>
                  </a:lnTo>
                  <a:lnTo>
                    <a:pt x="648" y="307"/>
                  </a:lnTo>
                  <a:lnTo>
                    <a:pt x="594" y="294"/>
                  </a:lnTo>
                  <a:lnTo>
                    <a:pt x="542" y="281"/>
                  </a:lnTo>
                  <a:lnTo>
                    <a:pt x="492" y="266"/>
                  </a:lnTo>
                  <a:lnTo>
                    <a:pt x="445" y="251"/>
                  </a:lnTo>
                  <a:lnTo>
                    <a:pt x="400" y="235"/>
                  </a:lnTo>
                  <a:lnTo>
                    <a:pt x="359" y="219"/>
                  </a:lnTo>
                  <a:lnTo>
                    <a:pt x="319" y="203"/>
                  </a:lnTo>
                  <a:lnTo>
                    <a:pt x="283" y="186"/>
                  </a:lnTo>
                  <a:lnTo>
                    <a:pt x="249" y="168"/>
                  </a:lnTo>
                  <a:lnTo>
                    <a:pt x="234" y="160"/>
                  </a:lnTo>
                  <a:lnTo>
                    <a:pt x="220" y="150"/>
                  </a:lnTo>
                  <a:lnTo>
                    <a:pt x="206" y="141"/>
                  </a:lnTo>
                  <a:lnTo>
                    <a:pt x="193" y="132"/>
                  </a:lnTo>
                  <a:lnTo>
                    <a:pt x="181" y="123"/>
                  </a:lnTo>
                  <a:lnTo>
                    <a:pt x="169" y="114"/>
                  </a:lnTo>
                  <a:lnTo>
                    <a:pt x="159" y="105"/>
                  </a:lnTo>
                  <a:lnTo>
                    <a:pt x="149" y="97"/>
                  </a:lnTo>
                  <a:lnTo>
                    <a:pt x="141" y="88"/>
                  </a:lnTo>
                  <a:lnTo>
                    <a:pt x="133" y="79"/>
                  </a:lnTo>
                  <a:lnTo>
                    <a:pt x="126" y="71"/>
                  </a:lnTo>
                  <a:lnTo>
                    <a:pt x="120" y="62"/>
                  </a:lnTo>
                  <a:lnTo>
                    <a:pt x="115" y="54"/>
                  </a:lnTo>
                  <a:lnTo>
                    <a:pt x="110" y="46"/>
                  </a:lnTo>
                  <a:lnTo>
                    <a:pt x="107" y="37"/>
                  </a:lnTo>
                  <a:lnTo>
                    <a:pt x="104" y="29"/>
                  </a:lnTo>
                  <a:lnTo>
                    <a:pt x="102" y="22"/>
                  </a:lnTo>
                  <a:lnTo>
                    <a:pt x="100" y="15"/>
                  </a:lnTo>
                  <a:lnTo>
                    <a:pt x="99" y="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30"/>
                  </a:lnTo>
                  <a:lnTo>
                    <a:pt x="6" y="46"/>
                  </a:lnTo>
                  <a:lnTo>
                    <a:pt x="10" y="61"/>
                  </a:lnTo>
                  <a:lnTo>
                    <a:pt x="16" y="75"/>
                  </a:lnTo>
                  <a:lnTo>
                    <a:pt x="23" y="89"/>
                  </a:lnTo>
                  <a:lnTo>
                    <a:pt x="30" y="103"/>
                  </a:lnTo>
                  <a:lnTo>
                    <a:pt x="39" y="116"/>
                  </a:lnTo>
                  <a:lnTo>
                    <a:pt x="48" y="129"/>
                  </a:lnTo>
                  <a:lnTo>
                    <a:pt x="58" y="142"/>
                  </a:lnTo>
                  <a:lnTo>
                    <a:pt x="69" y="155"/>
                  </a:lnTo>
                  <a:lnTo>
                    <a:pt x="81" y="167"/>
                  </a:lnTo>
                  <a:lnTo>
                    <a:pt x="93" y="179"/>
                  </a:lnTo>
                  <a:lnTo>
                    <a:pt x="107" y="190"/>
                  </a:lnTo>
                  <a:lnTo>
                    <a:pt x="121" y="201"/>
                  </a:lnTo>
                  <a:lnTo>
                    <a:pt x="136" y="212"/>
                  </a:lnTo>
                  <a:lnTo>
                    <a:pt x="151" y="222"/>
                  </a:lnTo>
                  <a:lnTo>
                    <a:pt x="167" y="233"/>
                  </a:lnTo>
                  <a:lnTo>
                    <a:pt x="185" y="243"/>
                  </a:lnTo>
                  <a:lnTo>
                    <a:pt x="203" y="253"/>
                  </a:lnTo>
                  <a:lnTo>
                    <a:pt x="239" y="274"/>
                  </a:lnTo>
                  <a:lnTo>
                    <a:pt x="280" y="292"/>
                  </a:lnTo>
                  <a:lnTo>
                    <a:pt x="321" y="310"/>
                  </a:lnTo>
                  <a:lnTo>
                    <a:pt x="367" y="327"/>
                  </a:lnTo>
                  <a:lnTo>
                    <a:pt x="414" y="343"/>
                  </a:lnTo>
                  <a:lnTo>
                    <a:pt x="464" y="359"/>
                  </a:lnTo>
                  <a:lnTo>
                    <a:pt x="516" y="374"/>
                  </a:lnTo>
                  <a:lnTo>
                    <a:pt x="570" y="389"/>
                  </a:lnTo>
                  <a:lnTo>
                    <a:pt x="627" y="402"/>
                  </a:lnTo>
                  <a:lnTo>
                    <a:pt x="685" y="415"/>
                  </a:lnTo>
                  <a:lnTo>
                    <a:pt x="746" y="426"/>
                  </a:lnTo>
                  <a:lnTo>
                    <a:pt x="807" y="437"/>
                  </a:lnTo>
                  <a:lnTo>
                    <a:pt x="872" y="447"/>
                  </a:lnTo>
                  <a:lnTo>
                    <a:pt x="937" y="456"/>
                  </a:lnTo>
                  <a:lnTo>
                    <a:pt x="1005" y="464"/>
                  </a:lnTo>
                  <a:lnTo>
                    <a:pt x="1074" y="471"/>
                  </a:lnTo>
                  <a:lnTo>
                    <a:pt x="1143" y="477"/>
                  </a:lnTo>
                  <a:lnTo>
                    <a:pt x="1215" y="481"/>
                  </a:lnTo>
                  <a:lnTo>
                    <a:pt x="1288" y="485"/>
                  </a:lnTo>
                  <a:lnTo>
                    <a:pt x="1362" y="488"/>
                  </a:lnTo>
                  <a:lnTo>
                    <a:pt x="1437" y="490"/>
                  </a:lnTo>
                  <a:lnTo>
                    <a:pt x="1513" y="492"/>
                  </a:lnTo>
                  <a:lnTo>
                    <a:pt x="1513" y="492"/>
                  </a:lnTo>
                  <a:lnTo>
                    <a:pt x="1513" y="393"/>
                  </a:lnTo>
                  <a:lnTo>
                    <a:pt x="1513" y="393"/>
                  </a:lnTo>
                  <a:lnTo>
                    <a:pt x="1513" y="393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990680" y="4478040"/>
              <a:ext cx="88920" cy="28440"/>
            </a:xfrm>
            <a:custGeom>
              <a:avLst/>
              <a:gdLst/>
              <a:ahLst/>
              <a:rect l="l" t="t" r="r" b="b"/>
              <a:pathLst>
                <a:path w="1513" h="492">
                  <a:moveTo>
                    <a:pt x="1414" y="0"/>
                  </a:moveTo>
                  <a:lnTo>
                    <a:pt x="1414" y="0"/>
                  </a:lnTo>
                  <a:lnTo>
                    <a:pt x="1414" y="7"/>
                  </a:lnTo>
                  <a:lnTo>
                    <a:pt x="1413" y="15"/>
                  </a:lnTo>
                  <a:lnTo>
                    <a:pt x="1411" y="22"/>
                  </a:lnTo>
                  <a:lnTo>
                    <a:pt x="1409" y="29"/>
                  </a:lnTo>
                  <a:lnTo>
                    <a:pt x="1406" y="37"/>
                  </a:lnTo>
                  <a:lnTo>
                    <a:pt x="1403" y="46"/>
                  </a:lnTo>
                  <a:lnTo>
                    <a:pt x="1398" y="54"/>
                  </a:lnTo>
                  <a:lnTo>
                    <a:pt x="1393" y="62"/>
                  </a:lnTo>
                  <a:lnTo>
                    <a:pt x="1387" y="71"/>
                  </a:lnTo>
                  <a:lnTo>
                    <a:pt x="1380" y="79"/>
                  </a:lnTo>
                  <a:lnTo>
                    <a:pt x="1372" y="88"/>
                  </a:lnTo>
                  <a:lnTo>
                    <a:pt x="1364" y="97"/>
                  </a:lnTo>
                  <a:lnTo>
                    <a:pt x="1354" y="105"/>
                  </a:lnTo>
                  <a:lnTo>
                    <a:pt x="1344" y="114"/>
                  </a:lnTo>
                  <a:lnTo>
                    <a:pt x="1332" y="123"/>
                  </a:lnTo>
                  <a:lnTo>
                    <a:pt x="1320" y="132"/>
                  </a:lnTo>
                  <a:lnTo>
                    <a:pt x="1307" y="141"/>
                  </a:lnTo>
                  <a:lnTo>
                    <a:pt x="1293" y="150"/>
                  </a:lnTo>
                  <a:lnTo>
                    <a:pt x="1279" y="160"/>
                  </a:lnTo>
                  <a:lnTo>
                    <a:pt x="1264" y="168"/>
                  </a:lnTo>
                  <a:lnTo>
                    <a:pt x="1230" y="186"/>
                  </a:lnTo>
                  <a:lnTo>
                    <a:pt x="1194" y="203"/>
                  </a:lnTo>
                  <a:lnTo>
                    <a:pt x="1154" y="219"/>
                  </a:lnTo>
                  <a:lnTo>
                    <a:pt x="1113" y="235"/>
                  </a:lnTo>
                  <a:lnTo>
                    <a:pt x="1068" y="251"/>
                  </a:lnTo>
                  <a:lnTo>
                    <a:pt x="1021" y="266"/>
                  </a:lnTo>
                  <a:lnTo>
                    <a:pt x="971" y="281"/>
                  </a:lnTo>
                  <a:lnTo>
                    <a:pt x="919" y="294"/>
                  </a:lnTo>
                  <a:lnTo>
                    <a:pt x="865" y="307"/>
                  </a:lnTo>
                  <a:lnTo>
                    <a:pt x="808" y="319"/>
                  </a:lnTo>
                  <a:lnTo>
                    <a:pt x="750" y="330"/>
                  </a:lnTo>
                  <a:lnTo>
                    <a:pt x="690" y="340"/>
                  </a:lnTo>
                  <a:lnTo>
                    <a:pt x="628" y="350"/>
                  </a:lnTo>
                  <a:lnTo>
                    <a:pt x="563" y="359"/>
                  </a:lnTo>
                  <a:lnTo>
                    <a:pt x="498" y="366"/>
                  </a:lnTo>
                  <a:lnTo>
                    <a:pt x="430" y="373"/>
                  </a:lnTo>
                  <a:lnTo>
                    <a:pt x="362" y="380"/>
                  </a:lnTo>
                  <a:lnTo>
                    <a:pt x="292" y="385"/>
                  </a:lnTo>
                  <a:lnTo>
                    <a:pt x="221" y="389"/>
                  </a:lnTo>
                  <a:lnTo>
                    <a:pt x="148" y="391"/>
                  </a:lnTo>
                  <a:lnTo>
                    <a:pt x="75" y="393"/>
                  </a:lnTo>
                  <a:lnTo>
                    <a:pt x="0" y="393"/>
                  </a:lnTo>
                  <a:lnTo>
                    <a:pt x="0" y="492"/>
                  </a:lnTo>
                  <a:lnTo>
                    <a:pt x="76" y="490"/>
                  </a:lnTo>
                  <a:lnTo>
                    <a:pt x="151" y="488"/>
                  </a:lnTo>
                  <a:lnTo>
                    <a:pt x="225" y="485"/>
                  </a:lnTo>
                  <a:lnTo>
                    <a:pt x="298" y="481"/>
                  </a:lnTo>
                  <a:lnTo>
                    <a:pt x="370" y="477"/>
                  </a:lnTo>
                  <a:lnTo>
                    <a:pt x="439" y="471"/>
                  </a:lnTo>
                  <a:lnTo>
                    <a:pt x="508" y="464"/>
                  </a:lnTo>
                  <a:lnTo>
                    <a:pt x="576" y="456"/>
                  </a:lnTo>
                  <a:lnTo>
                    <a:pt x="641" y="447"/>
                  </a:lnTo>
                  <a:lnTo>
                    <a:pt x="706" y="437"/>
                  </a:lnTo>
                  <a:lnTo>
                    <a:pt x="767" y="426"/>
                  </a:lnTo>
                  <a:lnTo>
                    <a:pt x="828" y="415"/>
                  </a:lnTo>
                  <a:lnTo>
                    <a:pt x="886" y="402"/>
                  </a:lnTo>
                  <a:lnTo>
                    <a:pt x="943" y="389"/>
                  </a:lnTo>
                  <a:lnTo>
                    <a:pt x="997" y="374"/>
                  </a:lnTo>
                  <a:lnTo>
                    <a:pt x="1049" y="359"/>
                  </a:lnTo>
                  <a:lnTo>
                    <a:pt x="1099" y="343"/>
                  </a:lnTo>
                  <a:lnTo>
                    <a:pt x="1146" y="327"/>
                  </a:lnTo>
                  <a:lnTo>
                    <a:pt x="1192" y="310"/>
                  </a:lnTo>
                  <a:lnTo>
                    <a:pt x="1233" y="292"/>
                  </a:lnTo>
                  <a:lnTo>
                    <a:pt x="1274" y="274"/>
                  </a:lnTo>
                  <a:lnTo>
                    <a:pt x="1310" y="253"/>
                  </a:lnTo>
                  <a:lnTo>
                    <a:pt x="1328" y="243"/>
                  </a:lnTo>
                  <a:lnTo>
                    <a:pt x="1346" y="233"/>
                  </a:lnTo>
                  <a:lnTo>
                    <a:pt x="1362" y="222"/>
                  </a:lnTo>
                  <a:lnTo>
                    <a:pt x="1377" y="212"/>
                  </a:lnTo>
                  <a:lnTo>
                    <a:pt x="1392" y="201"/>
                  </a:lnTo>
                  <a:lnTo>
                    <a:pt x="1406" y="190"/>
                  </a:lnTo>
                  <a:lnTo>
                    <a:pt x="1420" y="179"/>
                  </a:lnTo>
                  <a:lnTo>
                    <a:pt x="1432" y="167"/>
                  </a:lnTo>
                  <a:lnTo>
                    <a:pt x="1444" y="155"/>
                  </a:lnTo>
                  <a:lnTo>
                    <a:pt x="1455" y="142"/>
                  </a:lnTo>
                  <a:lnTo>
                    <a:pt x="1465" y="129"/>
                  </a:lnTo>
                  <a:lnTo>
                    <a:pt x="1474" y="116"/>
                  </a:lnTo>
                  <a:lnTo>
                    <a:pt x="1483" y="103"/>
                  </a:lnTo>
                  <a:lnTo>
                    <a:pt x="1490" y="89"/>
                  </a:lnTo>
                  <a:lnTo>
                    <a:pt x="1498" y="76"/>
                  </a:lnTo>
                  <a:lnTo>
                    <a:pt x="1503" y="61"/>
                  </a:lnTo>
                  <a:lnTo>
                    <a:pt x="1507" y="46"/>
                  </a:lnTo>
                  <a:lnTo>
                    <a:pt x="1510" y="30"/>
                  </a:lnTo>
                  <a:lnTo>
                    <a:pt x="1512" y="15"/>
                  </a:lnTo>
                  <a:lnTo>
                    <a:pt x="1513" y="0"/>
                  </a:lnTo>
                  <a:lnTo>
                    <a:pt x="1513" y="0"/>
                  </a:lnTo>
                  <a:lnTo>
                    <a:pt x="1414" y="0"/>
                  </a:lnTo>
                  <a:lnTo>
                    <a:pt x="1414" y="0"/>
                  </a:lnTo>
                  <a:lnTo>
                    <a:pt x="1414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073480" y="4370040"/>
              <a:ext cx="6120" cy="107640"/>
            </a:xfrm>
            <a:custGeom>
              <a:avLst/>
              <a:gdLst/>
              <a:ahLst/>
              <a:rect l="l" t="t" r="r" b="b"/>
              <a:pathLst>
                <a:path w="99" h="1827">
                  <a:moveTo>
                    <a:pt x="0" y="0"/>
                  </a:moveTo>
                  <a:lnTo>
                    <a:pt x="0" y="0"/>
                  </a:lnTo>
                  <a:lnTo>
                    <a:pt x="0" y="1827"/>
                  </a:lnTo>
                  <a:lnTo>
                    <a:pt x="99" y="182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99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05000" y="4344840"/>
              <a:ext cx="171720" cy="50400"/>
            </a:xfrm>
            <a:custGeom>
              <a:avLst/>
              <a:gdLst/>
              <a:ahLst/>
              <a:rect l="l" t="t" r="r" b="b"/>
              <a:pathLst>
                <a:path w="2928" h="885">
                  <a:moveTo>
                    <a:pt x="1464" y="885"/>
                  </a:moveTo>
                  <a:lnTo>
                    <a:pt x="1539" y="884"/>
                  </a:lnTo>
                  <a:lnTo>
                    <a:pt x="1614" y="882"/>
                  </a:lnTo>
                  <a:lnTo>
                    <a:pt x="1687" y="880"/>
                  </a:lnTo>
                  <a:lnTo>
                    <a:pt x="1759" y="876"/>
                  </a:lnTo>
                  <a:lnTo>
                    <a:pt x="1830" y="871"/>
                  </a:lnTo>
                  <a:lnTo>
                    <a:pt x="1899" y="865"/>
                  </a:lnTo>
                  <a:lnTo>
                    <a:pt x="1967" y="858"/>
                  </a:lnTo>
                  <a:lnTo>
                    <a:pt x="2034" y="850"/>
                  </a:lnTo>
                  <a:lnTo>
                    <a:pt x="2099" y="841"/>
                  </a:lnTo>
                  <a:lnTo>
                    <a:pt x="2162" y="831"/>
                  </a:lnTo>
                  <a:lnTo>
                    <a:pt x="2222" y="820"/>
                  </a:lnTo>
                  <a:lnTo>
                    <a:pt x="2282" y="809"/>
                  </a:lnTo>
                  <a:lnTo>
                    <a:pt x="2340" y="797"/>
                  </a:lnTo>
                  <a:lnTo>
                    <a:pt x="2394" y="784"/>
                  </a:lnTo>
                  <a:lnTo>
                    <a:pt x="2448" y="770"/>
                  </a:lnTo>
                  <a:lnTo>
                    <a:pt x="2499" y="755"/>
                  </a:lnTo>
                  <a:lnTo>
                    <a:pt x="2547" y="740"/>
                  </a:lnTo>
                  <a:lnTo>
                    <a:pt x="2593" y="723"/>
                  </a:lnTo>
                  <a:lnTo>
                    <a:pt x="2636" y="707"/>
                  </a:lnTo>
                  <a:lnTo>
                    <a:pt x="2678" y="689"/>
                  </a:lnTo>
                  <a:lnTo>
                    <a:pt x="2715" y="672"/>
                  </a:lnTo>
                  <a:lnTo>
                    <a:pt x="2751" y="653"/>
                  </a:lnTo>
                  <a:lnTo>
                    <a:pt x="2783" y="634"/>
                  </a:lnTo>
                  <a:lnTo>
                    <a:pt x="2813" y="615"/>
                  </a:lnTo>
                  <a:lnTo>
                    <a:pt x="2839" y="594"/>
                  </a:lnTo>
                  <a:lnTo>
                    <a:pt x="2862" y="574"/>
                  </a:lnTo>
                  <a:lnTo>
                    <a:pt x="2881" y="553"/>
                  </a:lnTo>
                  <a:lnTo>
                    <a:pt x="2898" y="532"/>
                  </a:lnTo>
                  <a:lnTo>
                    <a:pt x="2911" y="510"/>
                  </a:lnTo>
                  <a:lnTo>
                    <a:pt x="2920" y="487"/>
                  </a:lnTo>
                  <a:lnTo>
                    <a:pt x="2926" y="465"/>
                  </a:lnTo>
                  <a:lnTo>
                    <a:pt x="2928" y="443"/>
                  </a:lnTo>
                  <a:lnTo>
                    <a:pt x="2926" y="420"/>
                  </a:lnTo>
                  <a:lnTo>
                    <a:pt x="2920" y="398"/>
                  </a:lnTo>
                  <a:lnTo>
                    <a:pt x="2911" y="375"/>
                  </a:lnTo>
                  <a:lnTo>
                    <a:pt x="2898" y="353"/>
                  </a:lnTo>
                  <a:lnTo>
                    <a:pt x="2881" y="332"/>
                  </a:lnTo>
                  <a:lnTo>
                    <a:pt x="2862" y="311"/>
                  </a:lnTo>
                  <a:lnTo>
                    <a:pt x="2839" y="291"/>
                  </a:lnTo>
                  <a:lnTo>
                    <a:pt x="2813" y="270"/>
                  </a:lnTo>
                  <a:lnTo>
                    <a:pt x="2783" y="251"/>
                  </a:lnTo>
                  <a:lnTo>
                    <a:pt x="2751" y="232"/>
                  </a:lnTo>
                  <a:lnTo>
                    <a:pt x="2715" y="213"/>
                  </a:lnTo>
                  <a:lnTo>
                    <a:pt x="2678" y="196"/>
                  </a:lnTo>
                  <a:lnTo>
                    <a:pt x="2636" y="178"/>
                  </a:lnTo>
                  <a:lnTo>
                    <a:pt x="2593" y="162"/>
                  </a:lnTo>
                  <a:lnTo>
                    <a:pt x="2547" y="145"/>
                  </a:lnTo>
                  <a:lnTo>
                    <a:pt x="2499" y="130"/>
                  </a:lnTo>
                  <a:lnTo>
                    <a:pt x="2448" y="115"/>
                  </a:lnTo>
                  <a:lnTo>
                    <a:pt x="2394" y="101"/>
                  </a:lnTo>
                  <a:lnTo>
                    <a:pt x="2340" y="88"/>
                  </a:lnTo>
                  <a:lnTo>
                    <a:pt x="2282" y="76"/>
                  </a:lnTo>
                  <a:lnTo>
                    <a:pt x="2222" y="65"/>
                  </a:lnTo>
                  <a:lnTo>
                    <a:pt x="2162" y="54"/>
                  </a:lnTo>
                  <a:lnTo>
                    <a:pt x="2099" y="44"/>
                  </a:lnTo>
                  <a:lnTo>
                    <a:pt x="2034" y="35"/>
                  </a:lnTo>
                  <a:lnTo>
                    <a:pt x="1967" y="27"/>
                  </a:lnTo>
                  <a:lnTo>
                    <a:pt x="1899" y="20"/>
                  </a:lnTo>
                  <a:lnTo>
                    <a:pt x="1830" y="14"/>
                  </a:lnTo>
                  <a:lnTo>
                    <a:pt x="1759" y="9"/>
                  </a:lnTo>
                  <a:lnTo>
                    <a:pt x="1687" y="5"/>
                  </a:lnTo>
                  <a:lnTo>
                    <a:pt x="1614" y="3"/>
                  </a:lnTo>
                  <a:lnTo>
                    <a:pt x="1539" y="1"/>
                  </a:lnTo>
                  <a:lnTo>
                    <a:pt x="1464" y="0"/>
                  </a:lnTo>
                  <a:lnTo>
                    <a:pt x="1389" y="1"/>
                  </a:lnTo>
                  <a:lnTo>
                    <a:pt x="1314" y="3"/>
                  </a:lnTo>
                  <a:lnTo>
                    <a:pt x="1241" y="5"/>
                  </a:lnTo>
                  <a:lnTo>
                    <a:pt x="1169" y="9"/>
                  </a:lnTo>
                  <a:lnTo>
                    <a:pt x="1098" y="14"/>
                  </a:lnTo>
                  <a:lnTo>
                    <a:pt x="1029" y="20"/>
                  </a:lnTo>
                  <a:lnTo>
                    <a:pt x="961" y="27"/>
                  </a:lnTo>
                  <a:lnTo>
                    <a:pt x="894" y="35"/>
                  </a:lnTo>
                  <a:lnTo>
                    <a:pt x="829" y="44"/>
                  </a:lnTo>
                  <a:lnTo>
                    <a:pt x="766" y="54"/>
                  </a:lnTo>
                  <a:lnTo>
                    <a:pt x="705" y="65"/>
                  </a:lnTo>
                  <a:lnTo>
                    <a:pt x="646" y="76"/>
                  </a:lnTo>
                  <a:lnTo>
                    <a:pt x="588" y="88"/>
                  </a:lnTo>
                  <a:lnTo>
                    <a:pt x="534" y="101"/>
                  </a:lnTo>
                  <a:lnTo>
                    <a:pt x="480" y="115"/>
                  </a:lnTo>
                  <a:lnTo>
                    <a:pt x="429" y="130"/>
                  </a:lnTo>
                  <a:lnTo>
                    <a:pt x="381" y="145"/>
                  </a:lnTo>
                  <a:lnTo>
                    <a:pt x="335" y="162"/>
                  </a:lnTo>
                  <a:lnTo>
                    <a:pt x="292" y="178"/>
                  </a:lnTo>
                  <a:lnTo>
                    <a:pt x="250" y="196"/>
                  </a:lnTo>
                  <a:lnTo>
                    <a:pt x="213" y="213"/>
                  </a:lnTo>
                  <a:lnTo>
                    <a:pt x="177" y="232"/>
                  </a:lnTo>
                  <a:lnTo>
                    <a:pt x="145" y="251"/>
                  </a:lnTo>
                  <a:lnTo>
                    <a:pt x="115" y="270"/>
                  </a:lnTo>
                  <a:lnTo>
                    <a:pt x="89" y="291"/>
                  </a:lnTo>
                  <a:lnTo>
                    <a:pt x="66" y="311"/>
                  </a:lnTo>
                  <a:lnTo>
                    <a:pt x="46" y="332"/>
                  </a:lnTo>
                  <a:lnTo>
                    <a:pt x="30" y="353"/>
                  </a:lnTo>
                  <a:lnTo>
                    <a:pt x="17" y="375"/>
                  </a:lnTo>
                  <a:lnTo>
                    <a:pt x="8" y="398"/>
                  </a:lnTo>
                  <a:lnTo>
                    <a:pt x="2" y="420"/>
                  </a:lnTo>
                  <a:lnTo>
                    <a:pt x="0" y="443"/>
                  </a:lnTo>
                  <a:lnTo>
                    <a:pt x="2" y="465"/>
                  </a:lnTo>
                  <a:lnTo>
                    <a:pt x="8" y="487"/>
                  </a:lnTo>
                  <a:lnTo>
                    <a:pt x="17" y="510"/>
                  </a:lnTo>
                  <a:lnTo>
                    <a:pt x="30" y="532"/>
                  </a:lnTo>
                  <a:lnTo>
                    <a:pt x="46" y="553"/>
                  </a:lnTo>
                  <a:lnTo>
                    <a:pt x="66" y="574"/>
                  </a:lnTo>
                  <a:lnTo>
                    <a:pt x="89" y="594"/>
                  </a:lnTo>
                  <a:lnTo>
                    <a:pt x="115" y="615"/>
                  </a:lnTo>
                  <a:lnTo>
                    <a:pt x="145" y="634"/>
                  </a:lnTo>
                  <a:lnTo>
                    <a:pt x="177" y="653"/>
                  </a:lnTo>
                  <a:lnTo>
                    <a:pt x="213" y="672"/>
                  </a:lnTo>
                  <a:lnTo>
                    <a:pt x="250" y="689"/>
                  </a:lnTo>
                  <a:lnTo>
                    <a:pt x="292" y="707"/>
                  </a:lnTo>
                  <a:lnTo>
                    <a:pt x="335" y="723"/>
                  </a:lnTo>
                  <a:lnTo>
                    <a:pt x="381" y="740"/>
                  </a:lnTo>
                  <a:lnTo>
                    <a:pt x="429" y="755"/>
                  </a:lnTo>
                  <a:lnTo>
                    <a:pt x="480" y="770"/>
                  </a:lnTo>
                  <a:lnTo>
                    <a:pt x="534" y="784"/>
                  </a:lnTo>
                  <a:lnTo>
                    <a:pt x="588" y="797"/>
                  </a:lnTo>
                  <a:lnTo>
                    <a:pt x="646" y="809"/>
                  </a:lnTo>
                  <a:lnTo>
                    <a:pt x="705" y="820"/>
                  </a:lnTo>
                  <a:lnTo>
                    <a:pt x="766" y="831"/>
                  </a:lnTo>
                  <a:lnTo>
                    <a:pt x="829" y="841"/>
                  </a:lnTo>
                  <a:lnTo>
                    <a:pt x="894" y="850"/>
                  </a:lnTo>
                  <a:lnTo>
                    <a:pt x="961" y="858"/>
                  </a:lnTo>
                  <a:lnTo>
                    <a:pt x="1029" y="865"/>
                  </a:lnTo>
                  <a:lnTo>
                    <a:pt x="1098" y="871"/>
                  </a:lnTo>
                  <a:lnTo>
                    <a:pt x="1169" y="876"/>
                  </a:lnTo>
                  <a:lnTo>
                    <a:pt x="1241" y="880"/>
                  </a:lnTo>
                  <a:lnTo>
                    <a:pt x="1314" y="882"/>
                  </a:lnTo>
                  <a:lnTo>
                    <a:pt x="1389" y="884"/>
                  </a:lnTo>
                  <a:lnTo>
                    <a:pt x="1464" y="8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90680" y="4370040"/>
              <a:ext cx="88920" cy="28440"/>
            </a:xfrm>
            <a:custGeom>
              <a:avLst/>
              <a:gdLst/>
              <a:ahLst/>
              <a:rect l="l" t="t" r="r" b="b"/>
              <a:pathLst>
                <a:path w="1513" h="490">
                  <a:moveTo>
                    <a:pt x="1414" y="0"/>
                  </a:moveTo>
                  <a:lnTo>
                    <a:pt x="1414" y="0"/>
                  </a:lnTo>
                  <a:lnTo>
                    <a:pt x="1414" y="7"/>
                  </a:lnTo>
                  <a:lnTo>
                    <a:pt x="1413" y="14"/>
                  </a:lnTo>
                  <a:lnTo>
                    <a:pt x="1411" y="22"/>
                  </a:lnTo>
                  <a:lnTo>
                    <a:pt x="1409" y="29"/>
                  </a:lnTo>
                  <a:lnTo>
                    <a:pt x="1406" y="37"/>
                  </a:lnTo>
                  <a:lnTo>
                    <a:pt x="1403" y="44"/>
                  </a:lnTo>
                  <a:lnTo>
                    <a:pt x="1398" y="53"/>
                  </a:lnTo>
                  <a:lnTo>
                    <a:pt x="1393" y="62"/>
                  </a:lnTo>
                  <a:lnTo>
                    <a:pt x="1387" y="70"/>
                  </a:lnTo>
                  <a:lnTo>
                    <a:pt x="1380" y="79"/>
                  </a:lnTo>
                  <a:lnTo>
                    <a:pt x="1373" y="87"/>
                  </a:lnTo>
                  <a:lnTo>
                    <a:pt x="1364" y="96"/>
                  </a:lnTo>
                  <a:lnTo>
                    <a:pt x="1354" y="105"/>
                  </a:lnTo>
                  <a:lnTo>
                    <a:pt x="1344" y="114"/>
                  </a:lnTo>
                  <a:lnTo>
                    <a:pt x="1332" y="123"/>
                  </a:lnTo>
                  <a:lnTo>
                    <a:pt x="1320" y="132"/>
                  </a:lnTo>
                  <a:lnTo>
                    <a:pt x="1307" y="141"/>
                  </a:lnTo>
                  <a:lnTo>
                    <a:pt x="1293" y="150"/>
                  </a:lnTo>
                  <a:lnTo>
                    <a:pt x="1279" y="158"/>
                  </a:lnTo>
                  <a:lnTo>
                    <a:pt x="1264" y="167"/>
                  </a:lnTo>
                  <a:lnTo>
                    <a:pt x="1230" y="185"/>
                  </a:lnTo>
                  <a:lnTo>
                    <a:pt x="1194" y="202"/>
                  </a:lnTo>
                  <a:lnTo>
                    <a:pt x="1154" y="219"/>
                  </a:lnTo>
                  <a:lnTo>
                    <a:pt x="1113" y="235"/>
                  </a:lnTo>
                  <a:lnTo>
                    <a:pt x="1068" y="250"/>
                  </a:lnTo>
                  <a:lnTo>
                    <a:pt x="1021" y="265"/>
                  </a:lnTo>
                  <a:lnTo>
                    <a:pt x="971" y="279"/>
                  </a:lnTo>
                  <a:lnTo>
                    <a:pt x="919" y="294"/>
                  </a:lnTo>
                  <a:lnTo>
                    <a:pt x="865" y="306"/>
                  </a:lnTo>
                  <a:lnTo>
                    <a:pt x="809" y="318"/>
                  </a:lnTo>
                  <a:lnTo>
                    <a:pt x="750" y="330"/>
                  </a:lnTo>
                  <a:lnTo>
                    <a:pt x="690" y="340"/>
                  </a:lnTo>
                  <a:lnTo>
                    <a:pt x="628" y="349"/>
                  </a:lnTo>
                  <a:lnTo>
                    <a:pt x="564" y="358"/>
                  </a:lnTo>
                  <a:lnTo>
                    <a:pt x="498" y="366"/>
                  </a:lnTo>
                  <a:lnTo>
                    <a:pt x="430" y="373"/>
                  </a:lnTo>
                  <a:lnTo>
                    <a:pt x="362" y="378"/>
                  </a:lnTo>
                  <a:lnTo>
                    <a:pt x="292" y="383"/>
                  </a:lnTo>
                  <a:lnTo>
                    <a:pt x="221" y="387"/>
                  </a:lnTo>
                  <a:lnTo>
                    <a:pt x="148" y="390"/>
                  </a:lnTo>
                  <a:lnTo>
                    <a:pt x="75" y="392"/>
                  </a:lnTo>
                  <a:lnTo>
                    <a:pt x="0" y="392"/>
                  </a:lnTo>
                  <a:lnTo>
                    <a:pt x="0" y="490"/>
                  </a:lnTo>
                  <a:lnTo>
                    <a:pt x="76" y="490"/>
                  </a:lnTo>
                  <a:lnTo>
                    <a:pt x="151" y="488"/>
                  </a:lnTo>
                  <a:lnTo>
                    <a:pt x="225" y="485"/>
                  </a:lnTo>
                  <a:lnTo>
                    <a:pt x="298" y="481"/>
                  </a:lnTo>
                  <a:lnTo>
                    <a:pt x="370" y="476"/>
                  </a:lnTo>
                  <a:lnTo>
                    <a:pt x="439" y="470"/>
                  </a:lnTo>
                  <a:lnTo>
                    <a:pt x="508" y="463"/>
                  </a:lnTo>
                  <a:lnTo>
                    <a:pt x="576" y="455"/>
                  </a:lnTo>
                  <a:lnTo>
                    <a:pt x="641" y="446"/>
                  </a:lnTo>
                  <a:lnTo>
                    <a:pt x="706" y="437"/>
                  </a:lnTo>
                  <a:lnTo>
                    <a:pt x="767" y="426"/>
                  </a:lnTo>
                  <a:lnTo>
                    <a:pt x="828" y="414"/>
                  </a:lnTo>
                  <a:lnTo>
                    <a:pt x="886" y="402"/>
                  </a:lnTo>
                  <a:lnTo>
                    <a:pt x="943" y="388"/>
                  </a:lnTo>
                  <a:lnTo>
                    <a:pt x="997" y="373"/>
                  </a:lnTo>
                  <a:lnTo>
                    <a:pt x="1049" y="359"/>
                  </a:lnTo>
                  <a:lnTo>
                    <a:pt x="1099" y="343"/>
                  </a:lnTo>
                  <a:lnTo>
                    <a:pt x="1146" y="327"/>
                  </a:lnTo>
                  <a:lnTo>
                    <a:pt x="1192" y="310"/>
                  </a:lnTo>
                  <a:lnTo>
                    <a:pt x="1233" y="292"/>
                  </a:lnTo>
                  <a:lnTo>
                    <a:pt x="1274" y="272"/>
                  </a:lnTo>
                  <a:lnTo>
                    <a:pt x="1310" y="253"/>
                  </a:lnTo>
                  <a:lnTo>
                    <a:pt x="1328" y="243"/>
                  </a:lnTo>
                  <a:lnTo>
                    <a:pt x="1346" y="232"/>
                  </a:lnTo>
                  <a:lnTo>
                    <a:pt x="1362" y="222"/>
                  </a:lnTo>
                  <a:lnTo>
                    <a:pt x="1377" y="212"/>
                  </a:lnTo>
                  <a:lnTo>
                    <a:pt x="1392" y="201"/>
                  </a:lnTo>
                  <a:lnTo>
                    <a:pt x="1406" y="190"/>
                  </a:lnTo>
                  <a:lnTo>
                    <a:pt x="1420" y="178"/>
                  </a:lnTo>
                  <a:lnTo>
                    <a:pt x="1432" y="166"/>
                  </a:lnTo>
                  <a:lnTo>
                    <a:pt x="1444" y="154"/>
                  </a:lnTo>
                  <a:lnTo>
                    <a:pt x="1455" y="141"/>
                  </a:lnTo>
                  <a:lnTo>
                    <a:pt x="1465" y="129"/>
                  </a:lnTo>
                  <a:lnTo>
                    <a:pt x="1475" y="116"/>
                  </a:lnTo>
                  <a:lnTo>
                    <a:pt x="1483" y="103"/>
                  </a:lnTo>
                  <a:lnTo>
                    <a:pt x="1490" y="89"/>
                  </a:lnTo>
                  <a:lnTo>
                    <a:pt x="1497" y="75"/>
                  </a:lnTo>
                  <a:lnTo>
                    <a:pt x="1503" y="61"/>
                  </a:lnTo>
                  <a:lnTo>
                    <a:pt x="1508" y="45"/>
                  </a:lnTo>
                  <a:lnTo>
                    <a:pt x="1511" y="30"/>
                  </a:lnTo>
                  <a:lnTo>
                    <a:pt x="1513" y="15"/>
                  </a:lnTo>
                  <a:lnTo>
                    <a:pt x="1513" y="0"/>
                  </a:lnTo>
                  <a:lnTo>
                    <a:pt x="1513" y="0"/>
                  </a:lnTo>
                  <a:lnTo>
                    <a:pt x="1414" y="0"/>
                  </a:lnTo>
                  <a:lnTo>
                    <a:pt x="1414" y="0"/>
                  </a:lnTo>
                  <a:lnTo>
                    <a:pt x="1414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90680" y="4341600"/>
              <a:ext cx="88920" cy="28080"/>
            </a:xfrm>
            <a:custGeom>
              <a:avLst/>
              <a:gdLst/>
              <a:ahLst/>
              <a:rect l="l" t="t" r="r" b="b"/>
              <a:pathLst>
                <a:path w="1513" h="491">
                  <a:moveTo>
                    <a:pt x="0" y="98"/>
                  </a:moveTo>
                  <a:lnTo>
                    <a:pt x="0" y="98"/>
                  </a:lnTo>
                  <a:lnTo>
                    <a:pt x="75" y="99"/>
                  </a:lnTo>
                  <a:lnTo>
                    <a:pt x="148" y="100"/>
                  </a:lnTo>
                  <a:lnTo>
                    <a:pt x="221" y="103"/>
                  </a:lnTo>
                  <a:lnTo>
                    <a:pt x="292" y="107"/>
                  </a:lnTo>
                  <a:lnTo>
                    <a:pt x="362" y="112"/>
                  </a:lnTo>
                  <a:lnTo>
                    <a:pt x="430" y="117"/>
                  </a:lnTo>
                  <a:lnTo>
                    <a:pt x="498" y="124"/>
                  </a:lnTo>
                  <a:lnTo>
                    <a:pt x="564" y="132"/>
                  </a:lnTo>
                  <a:lnTo>
                    <a:pt x="628" y="141"/>
                  </a:lnTo>
                  <a:lnTo>
                    <a:pt x="690" y="150"/>
                  </a:lnTo>
                  <a:lnTo>
                    <a:pt x="750" y="160"/>
                  </a:lnTo>
                  <a:lnTo>
                    <a:pt x="809" y="172"/>
                  </a:lnTo>
                  <a:lnTo>
                    <a:pt x="865" y="184"/>
                  </a:lnTo>
                  <a:lnTo>
                    <a:pt x="919" y="196"/>
                  </a:lnTo>
                  <a:lnTo>
                    <a:pt x="971" y="211"/>
                  </a:lnTo>
                  <a:lnTo>
                    <a:pt x="1021" y="225"/>
                  </a:lnTo>
                  <a:lnTo>
                    <a:pt x="1068" y="240"/>
                  </a:lnTo>
                  <a:lnTo>
                    <a:pt x="1113" y="255"/>
                  </a:lnTo>
                  <a:lnTo>
                    <a:pt x="1154" y="271"/>
                  </a:lnTo>
                  <a:lnTo>
                    <a:pt x="1194" y="288"/>
                  </a:lnTo>
                  <a:lnTo>
                    <a:pt x="1230" y="305"/>
                  </a:lnTo>
                  <a:lnTo>
                    <a:pt x="1264" y="323"/>
                  </a:lnTo>
                  <a:lnTo>
                    <a:pt x="1293" y="341"/>
                  </a:lnTo>
                  <a:lnTo>
                    <a:pt x="1321" y="359"/>
                  </a:lnTo>
                  <a:lnTo>
                    <a:pt x="1332" y="367"/>
                  </a:lnTo>
                  <a:lnTo>
                    <a:pt x="1344" y="376"/>
                  </a:lnTo>
                  <a:lnTo>
                    <a:pt x="1354" y="385"/>
                  </a:lnTo>
                  <a:lnTo>
                    <a:pt x="1364" y="394"/>
                  </a:lnTo>
                  <a:lnTo>
                    <a:pt x="1372" y="403"/>
                  </a:lnTo>
                  <a:lnTo>
                    <a:pt x="1380" y="411"/>
                  </a:lnTo>
                  <a:lnTo>
                    <a:pt x="1387" y="420"/>
                  </a:lnTo>
                  <a:lnTo>
                    <a:pt x="1393" y="428"/>
                  </a:lnTo>
                  <a:lnTo>
                    <a:pt x="1398" y="437"/>
                  </a:lnTo>
                  <a:lnTo>
                    <a:pt x="1403" y="446"/>
                  </a:lnTo>
                  <a:lnTo>
                    <a:pt x="1406" y="454"/>
                  </a:lnTo>
                  <a:lnTo>
                    <a:pt x="1409" y="461"/>
                  </a:lnTo>
                  <a:lnTo>
                    <a:pt x="1411" y="469"/>
                  </a:lnTo>
                  <a:lnTo>
                    <a:pt x="1413" y="476"/>
                  </a:lnTo>
                  <a:lnTo>
                    <a:pt x="1414" y="483"/>
                  </a:lnTo>
                  <a:lnTo>
                    <a:pt x="1414" y="491"/>
                  </a:lnTo>
                  <a:lnTo>
                    <a:pt x="1513" y="491"/>
                  </a:lnTo>
                  <a:lnTo>
                    <a:pt x="1513" y="475"/>
                  </a:lnTo>
                  <a:lnTo>
                    <a:pt x="1511" y="460"/>
                  </a:lnTo>
                  <a:lnTo>
                    <a:pt x="1508" y="445"/>
                  </a:lnTo>
                  <a:lnTo>
                    <a:pt x="1503" y="429"/>
                  </a:lnTo>
                  <a:lnTo>
                    <a:pt x="1497" y="415"/>
                  </a:lnTo>
                  <a:lnTo>
                    <a:pt x="1490" y="401"/>
                  </a:lnTo>
                  <a:lnTo>
                    <a:pt x="1483" y="388"/>
                  </a:lnTo>
                  <a:lnTo>
                    <a:pt x="1475" y="374"/>
                  </a:lnTo>
                  <a:lnTo>
                    <a:pt x="1465" y="361"/>
                  </a:lnTo>
                  <a:lnTo>
                    <a:pt x="1455" y="349"/>
                  </a:lnTo>
                  <a:lnTo>
                    <a:pt x="1444" y="337"/>
                  </a:lnTo>
                  <a:lnTo>
                    <a:pt x="1432" y="325"/>
                  </a:lnTo>
                  <a:lnTo>
                    <a:pt x="1420" y="312"/>
                  </a:lnTo>
                  <a:lnTo>
                    <a:pt x="1406" y="300"/>
                  </a:lnTo>
                  <a:lnTo>
                    <a:pt x="1392" y="290"/>
                  </a:lnTo>
                  <a:lnTo>
                    <a:pt x="1377" y="278"/>
                  </a:lnTo>
                  <a:lnTo>
                    <a:pt x="1346" y="258"/>
                  </a:lnTo>
                  <a:lnTo>
                    <a:pt x="1311" y="237"/>
                  </a:lnTo>
                  <a:lnTo>
                    <a:pt x="1274" y="218"/>
                  </a:lnTo>
                  <a:lnTo>
                    <a:pt x="1233" y="198"/>
                  </a:lnTo>
                  <a:lnTo>
                    <a:pt x="1192" y="180"/>
                  </a:lnTo>
                  <a:lnTo>
                    <a:pt x="1146" y="163"/>
                  </a:lnTo>
                  <a:lnTo>
                    <a:pt x="1099" y="147"/>
                  </a:lnTo>
                  <a:lnTo>
                    <a:pt x="1049" y="131"/>
                  </a:lnTo>
                  <a:lnTo>
                    <a:pt x="997" y="117"/>
                  </a:lnTo>
                  <a:lnTo>
                    <a:pt x="943" y="102"/>
                  </a:lnTo>
                  <a:lnTo>
                    <a:pt x="886" y="88"/>
                  </a:lnTo>
                  <a:lnTo>
                    <a:pt x="828" y="76"/>
                  </a:lnTo>
                  <a:lnTo>
                    <a:pt x="767" y="64"/>
                  </a:lnTo>
                  <a:lnTo>
                    <a:pt x="706" y="53"/>
                  </a:lnTo>
                  <a:lnTo>
                    <a:pt x="642" y="44"/>
                  </a:lnTo>
                  <a:lnTo>
                    <a:pt x="576" y="35"/>
                  </a:lnTo>
                  <a:lnTo>
                    <a:pt x="508" y="27"/>
                  </a:lnTo>
                  <a:lnTo>
                    <a:pt x="439" y="20"/>
                  </a:lnTo>
                  <a:lnTo>
                    <a:pt x="370" y="14"/>
                  </a:lnTo>
                  <a:lnTo>
                    <a:pt x="298" y="9"/>
                  </a:lnTo>
                  <a:lnTo>
                    <a:pt x="225" y="5"/>
                  </a:lnTo>
                  <a:lnTo>
                    <a:pt x="151" y="2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01760" y="4341600"/>
              <a:ext cx="88920" cy="28080"/>
            </a:xfrm>
            <a:custGeom>
              <a:avLst/>
              <a:gdLst/>
              <a:ahLst/>
              <a:rect l="l" t="t" r="r" b="b"/>
              <a:pathLst>
                <a:path w="1513" h="491">
                  <a:moveTo>
                    <a:pt x="99" y="491"/>
                  </a:moveTo>
                  <a:lnTo>
                    <a:pt x="99" y="491"/>
                  </a:lnTo>
                  <a:lnTo>
                    <a:pt x="99" y="483"/>
                  </a:lnTo>
                  <a:lnTo>
                    <a:pt x="100" y="476"/>
                  </a:lnTo>
                  <a:lnTo>
                    <a:pt x="102" y="469"/>
                  </a:lnTo>
                  <a:lnTo>
                    <a:pt x="104" y="461"/>
                  </a:lnTo>
                  <a:lnTo>
                    <a:pt x="107" y="453"/>
                  </a:lnTo>
                  <a:lnTo>
                    <a:pt x="110" y="446"/>
                  </a:lnTo>
                  <a:lnTo>
                    <a:pt x="115" y="438"/>
                  </a:lnTo>
                  <a:lnTo>
                    <a:pt x="120" y="428"/>
                  </a:lnTo>
                  <a:lnTo>
                    <a:pt x="126" y="420"/>
                  </a:lnTo>
                  <a:lnTo>
                    <a:pt x="133" y="411"/>
                  </a:lnTo>
                  <a:lnTo>
                    <a:pt x="141" y="403"/>
                  </a:lnTo>
                  <a:lnTo>
                    <a:pt x="149" y="394"/>
                  </a:lnTo>
                  <a:lnTo>
                    <a:pt x="159" y="385"/>
                  </a:lnTo>
                  <a:lnTo>
                    <a:pt x="169" y="376"/>
                  </a:lnTo>
                  <a:lnTo>
                    <a:pt x="181" y="367"/>
                  </a:lnTo>
                  <a:lnTo>
                    <a:pt x="193" y="358"/>
                  </a:lnTo>
                  <a:lnTo>
                    <a:pt x="206" y="349"/>
                  </a:lnTo>
                  <a:lnTo>
                    <a:pt x="220" y="341"/>
                  </a:lnTo>
                  <a:lnTo>
                    <a:pt x="234" y="332"/>
                  </a:lnTo>
                  <a:lnTo>
                    <a:pt x="249" y="323"/>
                  </a:lnTo>
                  <a:lnTo>
                    <a:pt x="283" y="305"/>
                  </a:lnTo>
                  <a:lnTo>
                    <a:pt x="319" y="288"/>
                  </a:lnTo>
                  <a:lnTo>
                    <a:pt x="359" y="271"/>
                  </a:lnTo>
                  <a:lnTo>
                    <a:pt x="400" y="255"/>
                  </a:lnTo>
                  <a:lnTo>
                    <a:pt x="445" y="240"/>
                  </a:lnTo>
                  <a:lnTo>
                    <a:pt x="492" y="225"/>
                  </a:lnTo>
                  <a:lnTo>
                    <a:pt x="542" y="211"/>
                  </a:lnTo>
                  <a:lnTo>
                    <a:pt x="594" y="196"/>
                  </a:lnTo>
                  <a:lnTo>
                    <a:pt x="648" y="184"/>
                  </a:lnTo>
                  <a:lnTo>
                    <a:pt x="705" y="172"/>
                  </a:lnTo>
                  <a:lnTo>
                    <a:pt x="763" y="160"/>
                  </a:lnTo>
                  <a:lnTo>
                    <a:pt x="823" y="150"/>
                  </a:lnTo>
                  <a:lnTo>
                    <a:pt x="885" y="141"/>
                  </a:lnTo>
                  <a:lnTo>
                    <a:pt x="950" y="132"/>
                  </a:lnTo>
                  <a:lnTo>
                    <a:pt x="1015" y="124"/>
                  </a:lnTo>
                  <a:lnTo>
                    <a:pt x="1083" y="117"/>
                  </a:lnTo>
                  <a:lnTo>
                    <a:pt x="1151" y="112"/>
                  </a:lnTo>
                  <a:lnTo>
                    <a:pt x="1221" y="107"/>
                  </a:lnTo>
                  <a:lnTo>
                    <a:pt x="1292" y="103"/>
                  </a:lnTo>
                  <a:lnTo>
                    <a:pt x="1365" y="100"/>
                  </a:lnTo>
                  <a:lnTo>
                    <a:pt x="1438" y="99"/>
                  </a:lnTo>
                  <a:lnTo>
                    <a:pt x="1513" y="98"/>
                  </a:lnTo>
                  <a:lnTo>
                    <a:pt x="1513" y="0"/>
                  </a:lnTo>
                  <a:lnTo>
                    <a:pt x="1437" y="0"/>
                  </a:lnTo>
                  <a:lnTo>
                    <a:pt x="1362" y="2"/>
                  </a:lnTo>
                  <a:lnTo>
                    <a:pt x="1288" y="5"/>
                  </a:lnTo>
                  <a:lnTo>
                    <a:pt x="1215" y="9"/>
                  </a:lnTo>
                  <a:lnTo>
                    <a:pt x="1143" y="14"/>
                  </a:lnTo>
                  <a:lnTo>
                    <a:pt x="1074" y="20"/>
                  </a:lnTo>
                  <a:lnTo>
                    <a:pt x="1005" y="27"/>
                  </a:lnTo>
                  <a:lnTo>
                    <a:pt x="937" y="35"/>
                  </a:lnTo>
                  <a:lnTo>
                    <a:pt x="871" y="44"/>
                  </a:lnTo>
                  <a:lnTo>
                    <a:pt x="807" y="53"/>
                  </a:lnTo>
                  <a:lnTo>
                    <a:pt x="746" y="64"/>
                  </a:lnTo>
                  <a:lnTo>
                    <a:pt x="685" y="76"/>
                  </a:lnTo>
                  <a:lnTo>
                    <a:pt x="627" y="88"/>
                  </a:lnTo>
                  <a:lnTo>
                    <a:pt x="570" y="102"/>
                  </a:lnTo>
                  <a:lnTo>
                    <a:pt x="516" y="117"/>
                  </a:lnTo>
                  <a:lnTo>
                    <a:pt x="464" y="131"/>
                  </a:lnTo>
                  <a:lnTo>
                    <a:pt x="414" y="147"/>
                  </a:lnTo>
                  <a:lnTo>
                    <a:pt x="367" y="163"/>
                  </a:lnTo>
                  <a:lnTo>
                    <a:pt x="321" y="180"/>
                  </a:lnTo>
                  <a:lnTo>
                    <a:pt x="280" y="198"/>
                  </a:lnTo>
                  <a:lnTo>
                    <a:pt x="239" y="218"/>
                  </a:lnTo>
                  <a:lnTo>
                    <a:pt x="203" y="237"/>
                  </a:lnTo>
                  <a:lnTo>
                    <a:pt x="185" y="247"/>
                  </a:lnTo>
                  <a:lnTo>
                    <a:pt x="167" y="258"/>
                  </a:lnTo>
                  <a:lnTo>
                    <a:pt x="151" y="268"/>
                  </a:lnTo>
                  <a:lnTo>
                    <a:pt x="136" y="279"/>
                  </a:lnTo>
                  <a:lnTo>
                    <a:pt x="121" y="289"/>
                  </a:lnTo>
                  <a:lnTo>
                    <a:pt x="107" y="300"/>
                  </a:lnTo>
                  <a:lnTo>
                    <a:pt x="93" y="312"/>
                  </a:lnTo>
                  <a:lnTo>
                    <a:pt x="81" y="325"/>
                  </a:lnTo>
                  <a:lnTo>
                    <a:pt x="69" y="337"/>
                  </a:lnTo>
                  <a:lnTo>
                    <a:pt x="58" y="349"/>
                  </a:lnTo>
                  <a:lnTo>
                    <a:pt x="48" y="361"/>
                  </a:lnTo>
                  <a:lnTo>
                    <a:pt x="39" y="374"/>
                  </a:lnTo>
                  <a:lnTo>
                    <a:pt x="30" y="387"/>
                  </a:lnTo>
                  <a:lnTo>
                    <a:pt x="23" y="401"/>
                  </a:lnTo>
                  <a:lnTo>
                    <a:pt x="16" y="415"/>
                  </a:lnTo>
                  <a:lnTo>
                    <a:pt x="10" y="429"/>
                  </a:lnTo>
                  <a:lnTo>
                    <a:pt x="6" y="445"/>
                  </a:lnTo>
                  <a:lnTo>
                    <a:pt x="2" y="460"/>
                  </a:lnTo>
                  <a:lnTo>
                    <a:pt x="0" y="475"/>
                  </a:lnTo>
                  <a:lnTo>
                    <a:pt x="0" y="491"/>
                  </a:lnTo>
                  <a:lnTo>
                    <a:pt x="0" y="491"/>
                  </a:lnTo>
                  <a:lnTo>
                    <a:pt x="99" y="491"/>
                  </a:lnTo>
                  <a:lnTo>
                    <a:pt x="99" y="491"/>
                  </a:lnTo>
                  <a:lnTo>
                    <a:pt x="99" y="491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01760" y="4370040"/>
              <a:ext cx="88920" cy="28440"/>
            </a:xfrm>
            <a:custGeom>
              <a:avLst/>
              <a:gdLst/>
              <a:ahLst/>
              <a:rect l="l" t="t" r="r" b="b"/>
              <a:pathLst>
                <a:path w="1513" h="490">
                  <a:moveTo>
                    <a:pt x="1513" y="392"/>
                  </a:moveTo>
                  <a:lnTo>
                    <a:pt x="1513" y="392"/>
                  </a:lnTo>
                  <a:lnTo>
                    <a:pt x="1438" y="392"/>
                  </a:lnTo>
                  <a:lnTo>
                    <a:pt x="1365" y="390"/>
                  </a:lnTo>
                  <a:lnTo>
                    <a:pt x="1292" y="387"/>
                  </a:lnTo>
                  <a:lnTo>
                    <a:pt x="1221" y="383"/>
                  </a:lnTo>
                  <a:lnTo>
                    <a:pt x="1151" y="378"/>
                  </a:lnTo>
                  <a:lnTo>
                    <a:pt x="1083" y="373"/>
                  </a:lnTo>
                  <a:lnTo>
                    <a:pt x="1015" y="366"/>
                  </a:lnTo>
                  <a:lnTo>
                    <a:pt x="950" y="358"/>
                  </a:lnTo>
                  <a:lnTo>
                    <a:pt x="885" y="349"/>
                  </a:lnTo>
                  <a:lnTo>
                    <a:pt x="823" y="340"/>
                  </a:lnTo>
                  <a:lnTo>
                    <a:pt x="763" y="330"/>
                  </a:lnTo>
                  <a:lnTo>
                    <a:pt x="705" y="318"/>
                  </a:lnTo>
                  <a:lnTo>
                    <a:pt x="648" y="306"/>
                  </a:lnTo>
                  <a:lnTo>
                    <a:pt x="594" y="294"/>
                  </a:lnTo>
                  <a:lnTo>
                    <a:pt x="542" y="279"/>
                  </a:lnTo>
                  <a:lnTo>
                    <a:pt x="492" y="265"/>
                  </a:lnTo>
                  <a:lnTo>
                    <a:pt x="445" y="250"/>
                  </a:lnTo>
                  <a:lnTo>
                    <a:pt x="400" y="235"/>
                  </a:lnTo>
                  <a:lnTo>
                    <a:pt x="359" y="219"/>
                  </a:lnTo>
                  <a:lnTo>
                    <a:pt x="319" y="202"/>
                  </a:lnTo>
                  <a:lnTo>
                    <a:pt x="283" y="185"/>
                  </a:lnTo>
                  <a:lnTo>
                    <a:pt x="249" y="167"/>
                  </a:lnTo>
                  <a:lnTo>
                    <a:pt x="234" y="158"/>
                  </a:lnTo>
                  <a:lnTo>
                    <a:pt x="220" y="150"/>
                  </a:lnTo>
                  <a:lnTo>
                    <a:pt x="206" y="141"/>
                  </a:lnTo>
                  <a:lnTo>
                    <a:pt x="193" y="132"/>
                  </a:lnTo>
                  <a:lnTo>
                    <a:pt x="181" y="123"/>
                  </a:lnTo>
                  <a:lnTo>
                    <a:pt x="169" y="114"/>
                  </a:lnTo>
                  <a:lnTo>
                    <a:pt x="159" y="105"/>
                  </a:lnTo>
                  <a:lnTo>
                    <a:pt x="149" y="96"/>
                  </a:lnTo>
                  <a:lnTo>
                    <a:pt x="141" y="87"/>
                  </a:lnTo>
                  <a:lnTo>
                    <a:pt x="133" y="79"/>
                  </a:lnTo>
                  <a:lnTo>
                    <a:pt x="126" y="70"/>
                  </a:lnTo>
                  <a:lnTo>
                    <a:pt x="120" y="62"/>
                  </a:lnTo>
                  <a:lnTo>
                    <a:pt x="115" y="52"/>
                  </a:lnTo>
                  <a:lnTo>
                    <a:pt x="110" y="44"/>
                  </a:lnTo>
                  <a:lnTo>
                    <a:pt x="107" y="37"/>
                  </a:lnTo>
                  <a:lnTo>
                    <a:pt x="104" y="29"/>
                  </a:lnTo>
                  <a:lnTo>
                    <a:pt x="102" y="22"/>
                  </a:lnTo>
                  <a:lnTo>
                    <a:pt x="100" y="14"/>
                  </a:lnTo>
                  <a:lnTo>
                    <a:pt x="99" y="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" y="30"/>
                  </a:lnTo>
                  <a:lnTo>
                    <a:pt x="6" y="45"/>
                  </a:lnTo>
                  <a:lnTo>
                    <a:pt x="10" y="61"/>
                  </a:lnTo>
                  <a:lnTo>
                    <a:pt x="16" y="75"/>
                  </a:lnTo>
                  <a:lnTo>
                    <a:pt x="23" y="89"/>
                  </a:lnTo>
                  <a:lnTo>
                    <a:pt x="30" y="103"/>
                  </a:lnTo>
                  <a:lnTo>
                    <a:pt x="39" y="116"/>
                  </a:lnTo>
                  <a:lnTo>
                    <a:pt x="48" y="129"/>
                  </a:lnTo>
                  <a:lnTo>
                    <a:pt x="58" y="141"/>
                  </a:lnTo>
                  <a:lnTo>
                    <a:pt x="69" y="154"/>
                  </a:lnTo>
                  <a:lnTo>
                    <a:pt x="81" y="166"/>
                  </a:lnTo>
                  <a:lnTo>
                    <a:pt x="93" y="178"/>
                  </a:lnTo>
                  <a:lnTo>
                    <a:pt x="107" y="190"/>
                  </a:lnTo>
                  <a:lnTo>
                    <a:pt x="121" y="201"/>
                  </a:lnTo>
                  <a:lnTo>
                    <a:pt x="136" y="212"/>
                  </a:lnTo>
                  <a:lnTo>
                    <a:pt x="151" y="222"/>
                  </a:lnTo>
                  <a:lnTo>
                    <a:pt x="167" y="232"/>
                  </a:lnTo>
                  <a:lnTo>
                    <a:pt x="185" y="243"/>
                  </a:lnTo>
                  <a:lnTo>
                    <a:pt x="203" y="253"/>
                  </a:lnTo>
                  <a:lnTo>
                    <a:pt x="239" y="272"/>
                  </a:lnTo>
                  <a:lnTo>
                    <a:pt x="280" y="292"/>
                  </a:lnTo>
                  <a:lnTo>
                    <a:pt x="321" y="310"/>
                  </a:lnTo>
                  <a:lnTo>
                    <a:pt x="367" y="327"/>
                  </a:lnTo>
                  <a:lnTo>
                    <a:pt x="414" y="343"/>
                  </a:lnTo>
                  <a:lnTo>
                    <a:pt x="464" y="359"/>
                  </a:lnTo>
                  <a:lnTo>
                    <a:pt x="516" y="373"/>
                  </a:lnTo>
                  <a:lnTo>
                    <a:pt x="570" y="388"/>
                  </a:lnTo>
                  <a:lnTo>
                    <a:pt x="627" y="402"/>
                  </a:lnTo>
                  <a:lnTo>
                    <a:pt x="685" y="414"/>
                  </a:lnTo>
                  <a:lnTo>
                    <a:pt x="746" y="426"/>
                  </a:lnTo>
                  <a:lnTo>
                    <a:pt x="807" y="437"/>
                  </a:lnTo>
                  <a:lnTo>
                    <a:pt x="872" y="446"/>
                  </a:lnTo>
                  <a:lnTo>
                    <a:pt x="937" y="455"/>
                  </a:lnTo>
                  <a:lnTo>
                    <a:pt x="1005" y="463"/>
                  </a:lnTo>
                  <a:lnTo>
                    <a:pt x="1074" y="470"/>
                  </a:lnTo>
                  <a:lnTo>
                    <a:pt x="1143" y="476"/>
                  </a:lnTo>
                  <a:lnTo>
                    <a:pt x="1215" y="481"/>
                  </a:lnTo>
                  <a:lnTo>
                    <a:pt x="1288" y="485"/>
                  </a:lnTo>
                  <a:lnTo>
                    <a:pt x="1362" y="488"/>
                  </a:lnTo>
                  <a:lnTo>
                    <a:pt x="1437" y="490"/>
                  </a:lnTo>
                  <a:lnTo>
                    <a:pt x="1513" y="490"/>
                  </a:lnTo>
                  <a:lnTo>
                    <a:pt x="1513" y="490"/>
                  </a:lnTo>
                  <a:lnTo>
                    <a:pt x="1513" y="392"/>
                  </a:lnTo>
                  <a:lnTo>
                    <a:pt x="1513" y="392"/>
                  </a:lnTo>
                  <a:lnTo>
                    <a:pt x="1513" y="39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5526000" y="3921120"/>
            <a:ext cx="8683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orag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6786720" y="1349280"/>
            <a:ext cx="1188360" cy="600120"/>
            <a:chOff x="6786720" y="1349280"/>
            <a:chExt cx="1188360" cy="600120"/>
          </a:xfrm>
        </p:grpSpPr>
        <p:sp>
          <p:nvSpPr>
            <p:cNvPr id="1074" name=""/>
            <p:cNvSpPr/>
            <p:nvPr/>
          </p:nvSpPr>
          <p:spPr>
            <a:xfrm>
              <a:off x="6787800" y="1349280"/>
              <a:ext cx="1187280" cy="258840"/>
            </a:xfrm>
            <a:custGeom>
              <a:avLst/>
              <a:gdLst/>
              <a:ahLst/>
              <a:rect l="l" t="t" r="r" b="b"/>
              <a:pathLst>
                <a:path w="16472" h="3586">
                  <a:moveTo>
                    <a:pt x="13128" y="3586"/>
                  </a:moveTo>
                  <a:lnTo>
                    <a:pt x="16472" y="0"/>
                  </a:lnTo>
                  <a:lnTo>
                    <a:pt x="4321" y="0"/>
                  </a:lnTo>
                  <a:lnTo>
                    <a:pt x="0" y="3586"/>
                  </a:lnTo>
                  <a:lnTo>
                    <a:pt x="13128" y="3586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787800" y="1349280"/>
              <a:ext cx="1187280" cy="258840"/>
            </a:xfrm>
            <a:custGeom>
              <a:avLst/>
              <a:gdLst/>
              <a:ahLst/>
              <a:rect l="l" t="t" r="r" b="b"/>
              <a:pathLst>
                <a:path w="16472" h="3586">
                  <a:moveTo>
                    <a:pt x="13128" y="3586"/>
                  </a:moveTo>
                  <a:lnTo>
                    <a:pt x="16472" y="0"/>
                  </a:lnTo>
                  <a:lnTo>
                    <a:pt x="4321" y="0"/>
                  </a:lnTo>
                  <a:lnTo>
                    <a:pt x="0" y="3586"/>
                  </a:lnTo>
                  <a:lnTo>
                    <a:pt x="13128" y="3586"/>
                  </a:lnTo>
                  <a:close/>
                </a:path>
              </a:pathLst>
            </a:custGeom>
            <a:noFill/>
            <a:ln w="792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734240" y="1349280"/>
              <a:ext cx="240840" cy="600120"/>
            </a:xfrm>
            <a:custGeom>
              <a:avLst/>
              <a:gdLst/>
              <a:ahLst/>
              <a:rect l="l" t="t" r="r" b="b"/>
              <a:pathLst>
                <a:path w="3345" h="8334">
                  <a:moveTo>
                    <a:pt x="3345" y="4135"/>
                  </a:moveTo>
                  <a:lnTo>
                    <a:pt x="3344" y="0"/>
                  </a:lnTo>
                  <a:lnTo>
                    <a:pt x="0" y="3586"/>
                  </a:lnTo>
                  <a:lnTo>
                    <a:pt x="0" y="8334"/>
                  </a:lnTo>
                  <a:lnTo>
                    <a:pt x="3345" y="4135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734240" y="1349280"/>
              <a:ext cx="240840" cy="600120"/>
            </a:xfrm>
            <a:custGeom>
              <a:avLst/>
              <a:gdLst/>
              <a:ahLst/>
              <a:rect l="l" t="t" r="r" b="b"/>
              <a:pathLst>
                <a:path w="3345" h="8334">
                  <a:moveTo>
                    <a:pt x="3345" y="4135"/>
                  </a:moveTo>
                  <a:lnTo>
                    <a:pt x="3344" y="0"/>
                  </a:lnTo>
                  <a:lnTo>
                    <a:pt x="0" y="3586"/>
                  </a:lnTo>
                  <a:lnTo>
                    <a:pt x="0" y="8334"/>
                  </a:lnTo>
                  <a:lnTo>
                    <a:pt x="3345" y="4135"/>
                  </a:lnTo>
                  <a:close/>
                </a:path>
              </a:pathLst>
            </a:custGeom>
            <a:noFill/>
            <a:ln w="792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787800" y="1608120"/>
              <a:ext cx="946080" cy="341280"/>
            </a:xfrm>
            <a:custGeom>
              <a:avLst/>
              <a:gdLst/>
              <a:ahLst/>
              <a:rect l="l" t="t" r="r" b="b"/>
              <a:pathLst>
                <a:path w="13129" h="4748">
                  <a:moveTo>
                    <a:pt x="13129" y="4748"/>
                  </a:moveTo>
                  <a:lnTo>
                    <a:pt x="13129" y="0"/>
                  </a:lnTo>
                  <a:lnTo>
                    <a:pt x="0" y="0"/>
                  </a:lnTo>
                  <a:lnTo>
                    <a:pt x="4" y="4748"/>
                  </a:lnTo>
                  <a:lnTo>
                    <a:pt x="13129" y="4748"/>
                  </a:lnTo>
                  <a:close/>
                </a:path>
              </a:pathLst>
            </a:custGeom>
            <a:solidFill>
              <a:srgbClr val="1c9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787800" y="1608120"/>
              <a:ext cx="946080" cy="341280"/>
            </a:xfrm>
            <a:custGeom>
              <a:avLst/>
              <a:gdLst/>
              <a:ahLst/>
              <a:rect l="l" t="t" r="r" b="b"/>
              <a:pathLst>
                <a:path w="13129" h="4748">
                  <a:moveTo>
                    <a:pt x="13129" y="4748"/>
                  </a:moveTo>
                  <a:lnTo>
                    <a:pt x="13129" y="0"/>
                  </a:lnTo>
                  <a:lnTo>
                    <a:pt x="0" y="0"/>
                  </a:lnTo>
                  <a:lnTo>
                    <a:pt x="4" y="4748"/>
                  </a:lnTo>
                  <a:lnTo>
                    <a:pt x="13129" y="4748"/>
                  </a:lnTo>
                  <a:close/>
                </a:path>
              </a:pathLst>
            </a:custGeom>
            <a:noFill/>
            <a:ln w="792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881400" y="1707840"/>
              <a:ext cx="715680" cy="182880"/>
            </a:xfrm>
            <a:custGeom>
              <a:avLst/>
              <a:gdLst/>
              <a:ahLst/>
              <a:rect l="l" t="t" r="r" b="b"/>
              <a:pathLst>
                <a:path w="9907" h="2530">
                  <a:moveTo>
                    <a:pt x="9907" y="2530"/>
                  </a:moveTo>
                  <a:lnTo>
                    <a:pt x="9907" y="0"/>
                  </a:lnTo>
                  <a:lnTo>
                    <a:pt x="0" y="0"/>
                  </a:lnTo>
                  <a:lnTo>
                    <a:pt x="4" y="2530"/>
                  </a:lnTo>
                  <a:lnTo>
                    <a:pt x="9907" y="2530"/>
                  </a:lnTo>
                  <a:close/>
                </a:path>
              </a:pathLst>
            </a:custGeom>
            <a:solidFill>
              <a:srgbClr val="134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81400" y="1707840"/>
              <a:ext cx="715680" cy="182880"/>
            </a:xfrm>
            <a:custGeom>
              <a:avLst/>
              <a:gdLst/>
              <a:ahLst/>
              <a:rect l="l" t="t" r="r" b="b"/>
              <a:pathLst>
                <a:path w="9907" h="2530">
                  <a:moveTo>
                    <a:pt x="9907" y="2530"/>
                  </a:moveTo>
                  <a:lnTo>
                    <a:pt x="9907" y="0"/>
                  </a:lnTo>
                  <a:lnTo>
                    <a:pt x="0" y="0"/>
                  </a:lnTo>
                  <a:lnTo>
                    <a:pt x="4" y="2530"/>
                  </a:lnTo>
                  <a:lnTo>
                    <a:pt x="9907" y="2530"/>
                  </a:lnTo>
                  <a:close/>
                </a:path>
              </a:pathLst>
            </a:custGeom>
            <a:noFill/>
            <a:ln w="792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062480" y="1433520"/>
              <a:ext cx="707760" cy="63360"/>
            </a:xfrm>
            <a:custGeom>
              <a:avLst/>
              <a:gdLst/>
              <a:ahLst/>
              <a:rect l="l" t="t" r="r" b="b"/>
              <a:pathLst>
                <a:path w="9801" h="894">
                  <a:moveTo>
                    <a:pt x="9801" y="452"/>
                  </a:moveTo>
                  <a:lnTo>
                    <a:pt x="7290" y="0"/>
                  </a:lnTo>
                  <a:lnTo>
                    <a:pt x="7130" y="246"/>
                  </a:lnTo>
                  <a:lnTo>
                    <a:pt x="370" y="243"/>
                  </a:lnTo>
                  <a:lnTo>
                    <a:pt x="0" y="555"/>
                  </a:lnTo>
                  <a:lnTo>
                    <a:pt x="6864" y="554"/>
                  </a:lnTo>
                  <a:lnTo>
                    <a:pt x="6709" y="894"/>
                  </a:lnTo>
                  <a:lnTo>
                    <a:pt x="9801" y="4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941880" y="1707840"/>
              <a:ext cx="1080" cy="182880"/>
            </a:xfrm>
            <a:prstGeom prst="line">
              <a:avLst/>
            </a:prstGeom>
            <a:ln w="792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000560" y="1707840"/>
              <a:ext cx="1440" cy="182880"/>
            </a:xfrm>
            <a:prstGeom prst="line">
              <a:avLst/>
            </a:prstGeom>
            <a:ln w="792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61040" y="1707840"/>
              <a:ext cx="1080" cy="182880"/>
            </a:xfrm>
            <a:prstGeom prst="line">
              <a:avLst/>
            </a:prstGeom>
            <a:ln w="792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119720" y="1707840"/>
              <a:ext cx="1080" cy="182880"/>
            </a:xfrm>
            <a:prstGeom prst="line">
              <a:avLst/>
            </a:prstGeom>
            <a:ln w="792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78400" y="1707840"/>
              <a:ext cx="1440" cy="182880"/>
            </a:xfrm>
            <a:prstGeom prst="line">
              <a:avLst/>
            </a:prstGeom>
            <a:ln w="792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38880" y="1707840"/>
              <a:ext cx="1080" cy="182880"/>
            </a:xfrm>
            <a:prstGeom prst="line">
              <a:avLst/>
            </a:prstGeom>
            <a:ln w="792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297560" y="1707840"/>
              <a:ext cx="1080" cy="182880"/>
            </a:xfrm>
            <a:prstGeom prst="line">
              <a:avLst/>
            </a:prstGeom>
            <a:ln w="792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57680" y="1707840"/>
              <a:ext cx="1440" cy="182880"/>
            </a:xfrm>
            <a:prstGeom prst="line">
              <a:avLst/>
            </a:prstGeom>
            <a:ln w="792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16720" y="1707840"/>
              <a:ext cx="1080" cy="182880"/>
            </a:xfrm>
            <a:prstGeom prst="line">
              <a:avLst/>
            </a:prstGeom>
            <a:ln w="792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476840" y="1707840"/>
              <a:ext cx="1440" cy="182880"/>
            </a:xfrm>
            <a:prstGeom prst="line">
              <a:avLst/>
            </a:prstGeom>
            <a:ln w="792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35520" y="1707840"/>
              <a:ext cx="1440" cy="182880"/>
            </a:xfrm>
            <a:prstGeom prst="line">
              <a:avLst/>
            </a:prstGeom>
            <a:ln w="7920">
              <a:solidFill>
                <a:srgbClr val="8dcb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49880" y="1446120"/>
              <a:ext cx="707760" cy="63360"/>
            </a:xfrm>
            <a:custGeom>
              <a:avLst/>
              <a:gdLst/>
              <a:ahLst/>
              <a:rect l="l" t="t" r="r" b="b"/>
              <a:pathLst>
                <a:path w="9801" h="893">
                  <a:moveTo>
                    <a:pt x="9801" y="451"/>
                  </a:moveTo>
                  <a:lnTo>
                    <a:pt x="7291" y="0"/>
                  </a:lnTo>
                  <a:lnTo>
                    <a:pt x="7131" y="245"/>
                  </a:lnTo>
                  <a:lnTo>
                    <a:pt x="370" y="242"/>
                  </a:lnTo>
                  <a:lnTo>
                    <a:pt x="0" y="555"/>
                  </a:lnTo>
                  <a:lnTo>
                    <a:pt x="6865" y="553"/>
                  </a:lnTo>
                  <a:lnTo>
                    <a:pt x="6709" y="893"/>
                  </a:lnTo>
                  <a:lnTo>
                    <a:pt x="9801" y="4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89600" y="1611000"/>
              <a:ext cx="944280" cy="201960"/>
            </a:xfrm>
            <a:custGeom>
              <a:avLst/>
              <a:gdLst/>
              <a:ahLst/>
              <a:rect l="l" t="t" r="r" b="b"/>
              <a:pathLst>
                <a:path w="13085" h="2793">
                  <a:moveTo>
                    <a:pt x="13082" y="2793"/>
                  </a:moveTo>
                  <a:lnTo>
                    <a:pt x="0" y="2793"/>
                  </a:lnTo>
                  <a:lnTo>
                    <a:pt x="4" y="0"/>
                  </a:lnTo>
                  <a:lnTo>
                    <a:pt x="13085" y="0"/>
                  </a:lnTo>
                  <a:lnTo>
                    <a:pt x="13082" y="2793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786720" y="1807920"/>
              <a:ext cx="947520" cy="9720"/>
            </a:xfrm>
            <a:custGeom>
              <a:avLst/>
              <a:gdLst/>
              <a:ahLst/>
              <a:rect l="l" t="t" r="r" b="b"/>
              <a:pathLst>
                <a:path w="13144" h="123">
                  <a:moveTo>
                    <a:pt x="0" y="62"/>
                  </a:moveTo>
                  <a:lnTo>
                    <a:pt x="62" y="123"/>
                  </a:lnTo>
                  <a:lnTo>
                    <a:pt x="13144" y="123"/>
                  </a:lnTo>
                  <a:lnTo>
                    <a:pt x="13144" y="0"/>
                  </a:lnTo>
                  <a:lnTo>
                    <a:pt x="62" y="0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123"/>
                  </a:lnTo>
                  <a:lnTo>
                    <a:pt x="62" y="12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786720" y="1606320"/>
              <a:ext cx="7560" cy="206640"/>
            </a:xfrm>
            <a:custGeom>
              <a:avLst/>
              <a:gdLst/>
              <a:ahLst/>
              <a:rect l="l" t="t" r="r" b="b"/>
              <a:pathLst>
                <a:path w="127" h="2855">
                  <a:moveTo>
                    <a:pt x="66" y="0"/>
                  </a:moveTo>
                  <a:lnTo>
                    <a:pt x="3" y="62"/>
                  </a:lnTo>
                  <a:lnTo>
                    <a:pt x="0" y="2855"/>
                  </a:lnTo>
                  <a:lnTo>
                    <a:pt x="124" y="2855"/>
                  </a:lnTo>
                  <a:lnTo>
                    <a:pt x="127" y="6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3" y="0"/>
                  </a:lnTo>
                  <a:lnTo>
                    <a:pt x="3" y="6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791040" y="1606320"/>
              <a:ext cx="947520" cy="9720"/>
            </a:xfrm>
            <a:custGeom>
              <a:avLst/>
              <a:gdLst/>
              <a:ahLst/>
              <a:rect l="l" t="t" r="r" b="b"/>
              <a:pathLst>
                <a:path w="13142" h="123">
                  <a:moveTo>
                    <a:pt x="13142" y="62"/>
                  </a:moveTo>
                  <a:lnTo>
                    <a:pt x="13081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13081" y="123"/>
                  </a:lnTo>
                  <a:lnTo>
                    <a:pt x="13142" y="62"/>
                  </a:lnTo>
                  <a:lnTo>
                    <a:pt x="13142" y="62"/>
                  </a:lnTo>
                  <a:lnTo>
                    <a:pt x="13142" y="0"/>
                  </a:lnTo>
                  <a:lnTo>
                    <a:pt x="13081" y="0"/>
                  </a:lnTo>
                  <a:lnTo>
                    <a:pt x="13142" y="6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29200" y="1611000"/>
              <a:ext cx="9360" cy="206640"/>
            </a:xfrm>
            <a:custGeom>
              <a:avLst/>
              <a:gdLst/>
              <a:ahLst/>
              <a:rect l="l" t="t" r="r" b="b"/>
              <a:pathLst>
                <a:path w="126" h="2854">
                  <a:moveTo>
                    <a:pt x="62" y="2854"/>
                  </a:moveTo>
                  <a:lnTo>
                    <a:pt x="123" y="2793"/>
                  </a:lnTo>
                  <a:lnTo>
                    <a:pt x="126" y="0"/>
                  </a:lnTo>
                  <a:lnTo>
                    <a:pt x="3" y="0"/>
                  </a:lnTo>
                  <a:lnTo>
                    <a:pt x="0" y="2793"/>
                  </a:lnTo>
                  <a:lnTo>
                    <a:pt x="62" y="2854"/>
                  </a:lnTo>
                  <a:lnTo>
                    <a:pt x="62" y="2854"/>
                  </a:lnTo>
                  <a:lnTo>
                    <a:pt x="123" y="2854"/>
                  </a:lnTo>
                  <a:lnTo>
                    <a:pt x="123" y="2793"/>
                  </a:lnTo>
                  <a:lnTo>
                    <a:pt x="62" y="285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78520" y="1671480"/>
              <a:ext cx="126360" cy="87480"/>
            </a:xfrm>
            <a:custGeom>
              <a:avLst/>
              <a:gdLst/>
              <a:ahLst/>
              <a:rect l="l" t="t" r="r" b="b"/>
              <a:pathLst>
                <a:path w="1752" h="1211">
                  <a:moveTo>
                    <a:pt x="1750" y="1211"/>
                  </a:moveTo>
                  <a:lnTo>
                    <a:pt x="0" y="1211"/>
                  </a:lnTo>
                  <a:lnTo>
                    <a:pt x="2" y="0"/>
                  </a:lnTo>
                  <a:lnTo>
                    <a:pt x="1752" y="0"/>
                  </a:lnTo>
                  <a:lnTo>
                    <a:pt x="1750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878520" y="1671480"/>
              <a:ext cx="126360" cy="87480"/>
            </a:xfrm>
            <a:custGeom>
              <a:avLst/>
              <a:gdLst/>
              <a:ahLst/>
              <a:rect l="l" t="t" r="r" b="b"/>
              <a:pathLst>
                <a:path w="1752" h="1211">
                  <a:moveTo>
                    <a:pt x="1750" y="1211"/>
                  </a:moveTo>
                  <a:lnTo>
                    <a:pt x="0" y="1211"/>
                  </a:lnTo>
                  <a:lnTo>
                    <a:pt x="2" y="0"/>
                  </a:lnTo>
                  <a:lnTo>
                    <a:pt x="1752" y="0"/>
                  </a:lnTo>
                  <a:lnTo>
                    <a:pt x="1750" y="1211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3856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83856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916680" y="1782720"/>
              <a:ext cx="3744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916680" y="1782720"/>
              <a:ext cx="3744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994440" y="1782720"/>
              <a:ext cx="360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994440" y="1782720"/>
              <a:ext cx="36000" cy="1404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07040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07040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4816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14816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2592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2592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0224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30224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8000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8000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5776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45776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53408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53408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1184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5" h="204">
                  <a:moveTo>
                    <a:pt x="525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5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11840" y="1782720"/>
              <a:ext cx="37800" cy="14040"/>
            </a:xfrm>
            <a:custGeom>
              <a:avLst/>
              <a:gdLst/>
              <a:ahLst/>
              <a:rect l="l" t="t" r="r" b="b"/>
              <a:pathLst>
                <a:path w="525" h="204">
                  <a:moveTo>
                    <a:pt x="525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5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838560" y="1631880"/>
              <a:ext cx="37800" cy="14040"/>
            </a:xfrm>
            <a:custGeom>
              <a:avLst/>
              <a:gdLst/>
              <a:ahLst/>
              <a:rect l="l" t="t" r="r" b="b"/>
              <a:pathLst>
                <a:path w="527" h="205">
                  <a:moveTo>
                    <a:pt x="527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7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38560" y="1631880"/>
              <a:ext cx="37800" cy="14040"/>
            </a:xfrm>
            <a:custGeom>
              <a:avLst/>
              <a:gdLst/>
              <a:ahLst/>
              <a:rect l="l" t="t" r="r" b="b"/>
              <a:pathLst>
                <a:path w="527" h="205">
                  <a:moveTo>
                    <a:pt x="527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7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916680" y="1631880"/>
              <a:ext cx="37440" cy="14040"/>
            </a:xfrm>
            <a:custGeom>
              <a:avLst/>
              <a:gdLst/>
              <a:ahLst/>
              <a:rect l="l" t="t" r="r" b="b"/>
              <a:pathLst>
                <a:path w="525" h="205">
                  <a:moveTo>
                    <a:pt x="525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5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916680" y="1631880"/>
              <a:ext cx="37440" cy="14040"/>
            </a:xfrm>
            <a:custGeom>
              <a:avLst/>
              <a:gdLst/>
              <a:ahLst/>
              <a:rect l="l" t="t" r="r" b="b"/>
              <a:pathLst>
                <a:path w="525" h="205">
                  <a:moveTo>
                    <a:pt x="525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5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994440" y="1631880"/>
              <a:ext cx="36000" cy="1404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6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994440" y="1631880"/>
              <a:ext cx="36000" cy="1404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6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070400" y="163188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070400" y="163188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48160" y="1631880"/>
              <a:ext cx="378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148160" y="1631880"/>
              <a:ext cx="37800" cy="1404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225920" y="1631880"/>
              <a:ext cx="378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25920" y="1631880"/>
              <a:ext cx="37800" cy="1404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2240" y="1631880"/>
              <a:ext cx="37800" cy="14040"/>
            </a:xfrm>
            <a:custGeom>
              <a:avLst/>
              <a:gdLst/>
              <a:ahLst/>
              <a:rect l="l" t="t" r="r" b="b"/>
              <a:pathLst>
                <a:path w="525" h="205">
                  <a:moveTo>
                    <a:pt x="524" y="205"/>
                  </a:moveTo>
                  <a:lnTo>
                    <a:pt x="0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4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02240" y="1631880"/>
              <a:ext cx="37800" cy="14040"/>
            </a:xfrm>
            <a:custGeom>
              <a:avLst/>
              <a:gdLst/>
              <a:ahLst/>
              <a:rect l="l" t="t" r="r" b="b"/>
              <a:pathLst>
                <a:path w="525" h="205">
                  <a:moveTo>
                    <a:pt x="524" y="205"/>
                  </a:moveTo>
                  <a:lnTo>
                    <a:pt x="0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4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80000" y="1631880"/>
              <a:ext cx="37800" cy="14040"/>
            </a:xfrm>
            <a:custGeom>
              <a:avLst/>
              <a:gdLst/>
              <a:ahLst/>
              <a:rect l="l" t="t" r="r" b="b"/>
              <a:pathLst>
                <a:path w="527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7" y="0"/>
                  </a:lnTo>
                  <a:lnTo>
                    <a:pt x="526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380000" y="1631880"/>
              <a:ext cx="37800" cy="14040"/>
            </a:xfrm>
            <a:custGeom>
              <a:avLst/>
              <a:gdLst/>
              <a:ahLst/>
              <a:rect l="l" t="t" r="r" b="b"/>
              <a:pathLst>
                <a:path w="527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7" y="0"/>
                  </a:lnTo>
                  <a:lnTo>
                    <a:pt x="526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57760" y="1631880"/>
              <a:ext cx="378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57760" y="1631880"/>
              <a:ext cx="37800" cy="1404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534080" y="163188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34080" y="1631880"/>
              <a:ext cx="37800" cy="1404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611840" y="1631880"/>
              <a:ext cx="378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611840" y="1631880"/>
              <a:ext cx="37800" cy="1404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84800" y="1671480"/>
              <a:ext cx="124920" cy="87480"/>
            </a:xfrm>
            <a:custGeom>
              <a:avLst/>
              <a:gdLst/>
              <a:ahLst/>
              <a:rect l="l" t="t" r="r" b="b"/>
              <a:pathLst>
                <a:path w="1751" h="1211">
                  <a:moveTo>
                    <a:pt x="1749" y="1211"/>
                  </a:moveTo>
                  <a:lnTo>
                    <a:pt x="0" y="1211"/>
                  </a:lnTo>
                  <a:lnTo>
                    <a:pt x="1" y="0"/>
                  </a:lnTo>
                  <a:lnTo>
                    <a:pt x="1751" y="0"/>
                  </a:lnTo>
                  <a:lnTo>
                    <a:pt x="1749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084800" y="1671480"/>
              <a:ext cx="124920" cy="87480"/>
            </a:xfrm>
            <a:custGeom>
              <a:avLst/>
              <a:gdLst/>
              <a:ahLst/>
              <a:rect l="l" t="t" r="r" b="b"/>
              <a:pathLst>
                <a:path w="1751" h="1211">
                  <a:moveTo>
                    <a:pt x="1749" y="1211"/>
                  </a:moveTo>
                  <a:lnTo>
                    <a:pt x="0" y="1211"/>
                  </a:lnTo>
                  <a:lnTo>
                    <a:pt x="1" y="0"/>
                  </a:lnTo>
                  <a:lnTo>
                    <a:pt x="1751" y="0"/>
                  </a:lnTo>
                  <a:lnTo>
                    <a:pt x="1749" y="1211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291080" y="1671480"/>
              <a:ext cx="125280" cy="87480"/>
            </a:xfrm>
            <a:custGeom>
              <a:avLst/>
              <a:gdLst/>
              <a:ahLst/>
              <a:rect l="l" t="t" r="r" b="b"/>
              <a:pathLst>
                <a:path w="1752" h="1211">
                  <a:moveTo>
                    <a:pt x="1750" y="1211"/>
                  </a:moveTo>
                  <a:lnTo>
                    <a:pt x="0" y="1211"/>
                  </a:lnTo>
                  <a:lnTo>
                    <a:pt x="2" y="0"/>
                  </a:lnTo>
                  <a:lnTo>
                    <a:pt x="1752" y="0"/>
                  </a:lnTo>
                  <a:lnTo>
                    <a:pt x="1750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291080" y="1671480"/>
              <a:ext cx="125280" cy="87480"/>
            </a:xfrm>
            <a:custGeom>
              <a:avLst/>
              <a:gdLst/>
              <a:ahLst/>
              <a:rect l="l" t="t" r="r" b="b"/>
              <a:pathLst>
                <a:path w="1752" h="1211">
                  <a:moveTo>
                    <a:pt x="1750" y="1211"/>
                  </a:moveTo>
                  <a:lnTo>
                    <a:pt x="0" y="1211"/>
                  </a:lnTo>
                  <a:lnTo>
                    <a:pt x="2" y="0"/>
                  </a:lnTo>
                  <a:lnTo>
                    <a:pt x="1752" y="0"/>
                  </a:lnTo>
                  <a:lnTo>
                    <a:pt x="1750" y="1211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495920" y="1671480"/>
              <a:ext cx="126720" cy="87480"/>
            </a:xfrm>
            <a:custGeom>
              <a:avLst/>
              <a:gdLst/>
              <a:ahLst/>
              <a:rect l="l" t="t" r="r" b="b"/>
              <a:pathLst>
                <a:path w="1751" h="1211">
                  <a:moveTo>
                    <a:pt x="1749" y="1211"/>
                  </a:moveTo>
                  <a:lnTo>
                    <a:pt x="0" y="1211"/>
                  </a:lnTo>
                  <a:lnTo>
                    <a:pt x="1" y="0"/>
                  </a:lnTo>
                  <a:lnTo>
                    <a:pt x="1751" y="0"/>
                  </a:lnTo>
                  <a:lnTo>
                    <a:pt x="1749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95920" y="1671480"/>
              <a:ext cx="126720" cy="87480"/>
            </a:xfrm>
            <a:custGeom>
              <a:avLst/>
              <a:gdLst/>
              <a:ahLst/>
              <a:rect l="l" t="t" r="r" b="b"/>
              <a:pathLst>
                <a:path w="1751" h="1211">
                  <a:moveTo>
                    <a:pt x="1749" y="1211"/>
                  </a:moveTo>
                  <a:lnTo>
                    <a:pt x="0" y="1211"/>
                  </a:lnTo>
                  <a:lnTo>
                    <a:pt x="1" y="0"/>
                  </a:lnTo>
                  <a:lnTo>
                    <a:pt x="1751" y="0"/>
                  </a:lnTo>
                  <a:lnTo>
                    <a:pt x="1749" y="1211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6786720" y="3308400"/>
            <a:ext cx="1187280" cy="600120"/>
            <a:chOff x="6786720" y="3308400"/>
            <a:chExt cx="1187280" cy="600120"/>
          </a:xfrm>
        </p:grpSpPr>
        <p:sp>
          <p:nvSpPr>
            <p:cNvPr id="1153" name=""/>
            <p:cNvSpPr/>
            <p:nvPr/>
          </p:nvSpPr>
          <p:spPr>
            <a:xfrm>
              <a:off x="6786720" y="3308400"/>
              <a:ext cx="1187280" cy="258840"/>
            </a:xfrm>
            <a:custGeom>
              <a:avLst/>
              <a:gdLst/>
              <a:ahLst/>
              <a:rect l="l" t="t" r="r" b="b"/>
              <a:pathLst>
                <a:path w="16472" h="3586">
                  <a:moveTo>
                    <a:pt x="13128" y="3586"/>
                  </a:moveTo>
                  <a:lnTo>
                    <a:pt x="16472" y="0"/>
                  </a:lnTo>
                  <a:lnTo>
                    <a:pt x="4321" y="0"/>
                  </a:lnTo>
                  <a:lnTo>
                    <a:pt x="0" y="3586"/>
                  </a:lnTo>
                  <a:lnTo>
                    <a:pt x="13128" y="3586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86720" y="3308400"/>
              <a:ext cx="1187280" cy="258840"/>
            </a:xfrm>
            <a:custGeom>
              <a:avLst/>
              <a:gdLst/>
              <a:ahLst/>
              <a:rect l="l" t="t" r="r" b="b"/>
              <a:pathLst>
                <a:path w="16472" h="3586">
                  <a:moveTo>
                    <a:pt x="13128" y="3586"/>
                  </a:moveTo>
                  <a:lnTo>
                    <a:pt x="16472" y="0"/>
                  </a:lnTo>
                  <a:lnTo>
                    <a:pt x="4321" y="0"/>
                  </a:lnTo>
                  <a:lnTo>
                    <a:pt x="0" y="3586"/>
                  </a:lnTo>
                  <a:lnTo>
                    <a:pt x="13128" y="3586"/>
                  </a:lnTo>
                  <a:close/>
                </a:path>
              </a:pathLst>
            </a:custGeom>
            <a:noFill/>
            <a:ln w="792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732800" y="3308400"/>
              <a:ext cx="241200" cy="600120"/>
            </a:xfrm>
            <a:custGeom>
              <a:avLst/>
              <a:gdLst/>
              <a:ahLst/>
              <a:rect l="l" t="t" r="r" b="b"/>
              <a:pathLst>
                <a:path w="3345" h="8334">
                  <a:moveTo>
                    <a:pt x="3345" y="4135"/>
                  </a:moveTo>
                  <a:lnTo>
                    <a:pt x="3344" y="0"/>
                  </a:lnTo>
                  <a:lnTo>
                    <a:pt x="0" y="3586"/>
                  </a:lnTo>
                  <a:lnTo>
                    <a:pt x="0" y="8334"/>
                  </a:lnTo>
                  <a:lnTo>
                    <a:pt x="3345" y="4135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732800" y="3308400"/>
              <a:ext cx="241200" cy="600120"/>
            </a:xfrm>
            <a:custGeom>
              <a:avLst/>
              <a:gdLst/>
              <a:ahLst/>
              <a:rect l="l" t="t" r="r" b="b"/>
              <a:pathLst>
                <a:path w="3345" h="8334">
                  <a:moveTo>
                    <a:pt x="3345" y="4135"/>
                  </a:moveTo>
                  <a:lnTo>
                    <a:pt x="3344" y="0"/>
                  </a:lnTo>
                  <a:lnTo>
                    <a:pt x="0" y="3586"/>
                  </a:lnTo>
                  <a:lnTo>
                    <a:pt x="0" y="8334"/>
                  </a:lnTo>
                  <a:lnTo>
                    <a:pt x="3345" y="4135"/>
                  </a:lnTo>
                  <a:close/>
                </a:path>
              </a:pathLst>
            </a:custGeom>
            <a:noFill/>
            <a:ln w="792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786720" y="3567240"/>
              <a:ext cx="946080" cy="341280"/>
            </a:xfrm>
            <a:custGeom>
              <a:avLst/>
              <a:gdLst/>
              <a:ahLst/>
              <a:rect l="l" t="t" r="r" b="b"/>
              <a:pathLst>
                <a:path w="13129" h="4748">
                  <a:moveTo>
                    <a:pt x="13129" y="4748"/>
                  </a:moveTo>
                  <a:lnTo>
                    <a:pt x="13129" y="0"/>
                  </a:lnTo>
                  <a:lnTo>
                    <a:pt x="0" y="0"/>
                  </a:lnTo>
                  <a:lnTo>
                    <a:pt x="4" y="4748"/>
                  </a:lnTo>
                  <a:lnTo>
                    <a:pt x="13129" y="4748"/>
                  </a:lnTo>
                  <a:close/>
                </a:path>
              </a:pathLst>
            </a:custGeom>
            <a:solidFill>
              <a:srgbClr val="1c9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786720" y="3567240"/>
              <a:ext cx="946080" cy="341280"/>
            </a:xfrm>
            <a:custGeom>
              <a:avLst/>
              <a:gdLst/>
              <a:ahLst/>
              <a:rect l="l" t="t" r="r" b="b"/>
              <a:pathLst>
                <a:path w="13129" h="4748">
                  <a:moveTo>
                    <a:pt x="13129" y="4748"/>
                  </a:moveTo>
                  <a:lnTo>
                    <a:pt x="13129" y="0"/>
                  </a:lnTo>
                  <a:lnTo>
                    <a:pt x="0" y="0"/>
                  </a:lnTo>
                  <a:lnTo>
                    <a:pt x="4" y="4748"/>
                  </a:lnTo>
                  <a:lnTo>
                    <a:pt x="13129" y="4748"/>
                  </a:lnTo>
                  <a:close/>
                </a:path>
              </a:pathLst>
            </a:custGeom>
            <a:noFill/>
            <a:ln w="792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880320" y="3667320"/>
              <a:ext cx="716040" cy="182520"/>
            </a:xfrm>
            <a:custGeom>
              <a:avLst/>
              <a:gdLst/>
              <a:ahLst/>
              <a:rect l="l" t="t" r="r" b="b"/>
              <a:pathLst>
                <a:path w="9907" h="2530">
                  <a:moveTo>
                    <a:pt x="9907" y="2530"/>
                  </a:moveTo>
                  <a:lnTo>
                    <a:pt x="9907" y="0"/>
                  </a:lnTo>
                  <a:lnTo>
                    <a:pt x="0" y="0"/>
                  </a:lnTo>
                  <a:lnTo>
                    <a:pt x="4" y="2530"/>
                  </a:lnTo>
                  <a:lnTo>
                    <a:pt x="9907" y="2530"/>
                  </a:lnTo>
                  <a:close/>
                </a:path>
              </a:pathLst>
            </a:custGeom>
            <a:solidFill>
              <a:srgbClr val="134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80320" y="3667320"/>
              <a:ext cx="716040" cy="182520"/>
            </a:xfrm>
            <a:custGeom>
              <a:avLst/>
              <a:gdLst/>
              <a:ahLst/>
              <a:rect l="l" t="t" r="r" b="b"/>
              <a:pathLst>
                <a:path w="9907" h="2530">
                  <a:moveTo>
                    <a:pt x="9907" y="2530"/>
                  </a:moveTo>
                  <a:lnTo>
                    <a:pt x="9907" y="0"/>
                  </a:lnTo>
                  <a:lnTo>
                    <a:pt x="0" y="0"/>
                  </a:lnTo>
                  <a:lnTo>
                    <a:pt x="4" y="2530"/>
                  </a:lnTo>
                  <a:lnTo>
                    <a:pt x="9907" y="2530"/>
                  </a:lnTo>
                  <a:close/>
                </a:path>
              </a:pathLst>
            </a:custGeom>
            <a:noFill/>
            <a:ln w="792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061400" y="3392640"/>
              <a:ext cx="707760" cy="63360"/>
            </a:xfrm>
            <a:custGeom>
              <a:avLst/>
              <a:gdLst/>
              <a:ahLst/>
              <a:rect l="l" t="t" r="r" b="b"/>
              <a:pathLst>
                <a:path w="9801" h="894">
                  <a:moveTo>
                    <a:pt x="9801" y="452"/>
                  </a:moveTo>
                  <a:lnTo>
                    <a:pt x="7290" y="0"/>
                  </a:lnTo>
                  <a:lnTo>
                    <a:pt x="7130" y="246"/>
                  </a:lnTo>
                  <a:lnTo>
                    <a:pt x="370" y="243"/>
                  </a:lnTo>
                  <a:lnTo>
                    <a:pt x="0" y="555"/>
                  </a:lnTo>
                  <a:lnTo>
                    <a:pt x="6864" y="554"/>
                  </a:lnTo>
                  <a:lnTo>
                    <a:pt x="6709" y="894"/>
                  </a:lnTo>
                  <a:lnTo>
                    <a:pt x="9801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048440" y="3405240"/>
              <a:ext cx="708120" cy="63360"/>
            </a:xfrm>
            <a:custGeom>
              <a:avLst/>
              <a:gdLst/>
              <a:ahLst/>
              <a:rect l="l" t="t" r="r" b="b"/>
              <a:pathLst>
                <a:path w="9801" h="893">
                  <a:moveTo>
                    <a:pt x="9801" y="451"/>
                  </a:moveTo>
                  <a:lnTo>
                    <a:pt x="7291" y="0"/>
                  </a:lnTo>
                  <a:lnTo>
                    <a:pt x="7131" y="245"/>
                  </a:lnTo>
                  <a:lnTo>
                    <a:pt x="370" y="242"/>
                  </a:lnTo>
                  <a:lnTo>
                    <a:pt x="0" y="555"/>
                  </a:lnTo>
                  <a:lnTo>
                    <a:pt x="6865" y="553"/>
                  </a:lnTo>
                  <a:lnTo>
                    <a:pt x="6709" y="893"/>
                  </a:lnTo>
                  <a:lnTo>
                    <a:pt x="9801" y="4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788160" y="3570480"/>
              <a:ext cx="944640" cy="201600"/>
            </a:xfrm>
            <a:custGeom>
              <a:avLst/>
              <a:gdLst/>
              <a:ahLst/>
              <a:rect l="l" t="t" r="r" b="b"/>
              <a:pathLst>
                <a:path w="13085" h="2793">
                  <a:moveTo>
                    <a:pt x="13082" y="2793"/>
                  </a:moveTo>
                  <a:lnTo>
                    <a:pt x="0" y="2793"/>
                  </a:lnTo>
                  <a:lnTo>
                    <a:pt x="4" y="0"/>
                  </a:lnTo>
                  <a:lnTo>
                    <a:pt x="13085" y="0"/>
                  </a:lnTo>
                  <a:lnTo>
                    <a:pt x="13082" y="2793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88160" y="3570480"/>
              <a:ext cx="944640" cy="201600"/>
            </a:xfrm>
            <a:custGeom>
              <a:avLst/>
              <a:gdLst/>
              <a:ahLst/>
              <a:rect l="l" t="t" r="r" b="b"/>
              <a:pathLst>
                <a:path w="13085" h="2793">
                  <a:moveTo>
                    <a:pt x="13082" y="2793"/>
                  </a:moveTo>
                  <a:lnTo>
                    <a:pt x="0" y="2793"/>
                  </a:lnTo>
                  <a:lnTo>
                    <a:pt x="4" y="0"/>
                  </a:lnTo>
                  <a:lnTo>
                    <a:pt x="13085" y="0"/>
                  </a:lnTo>
                  <a:lnTo>
                    <a:pt x="13082" y="2793"/>
                  </a:lnTo>
                  <a:close/>
                </a:path>
              </a:pathLst>
            </a:custGeom>
            <a:noFill/>
            <a:ln w="7920">
              <a:solidFill>
                <a:srgbClr val="8dcb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77080" y="3630600"/>
              <a:ext cx="127080" cy="87480"/>
            </a:xfrm>
            <a:custGeom>
              <a:avLst/>
              <a:gdLst/>
              <a:ahLst/>
              <a:rect l="l" t="t" r="r" b="b"/>
              <a:pathLst>
                <a:path w="1752" h="1211">
                  <a:moveTo>
                    <a:pt x="1750" y="1211"/>
                  </a:moveTo>
                  <a:lnTo>
                    <a:pt x="0" y="1211"/>
                  </a:lnTo>
                  <a:lnTo>
                    <a:pt x="2" y="0"/>
                  </a:lnTo>
                  <a:lnTo>
                    <a:pt x="1752" y="0"/>
                  </a:lnTo>
                  <a:lnTo>
                    <a:pt x="1750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77080" y="3630600"/>
              <a:ext cx="127080" cy="87480"/>
            </a:xfrm>
            <a:custGeom>
              <a:avLst/>
              <a:gdLst/>
              <a:ahLst/>
              <a:rect l="l" t="t" r="r" b="b"/>
              <a:pathLst>
                <a:path w="1752" h="1211">
                  <a:moveTo>
                    <a:pt x="1750" y="1211"/>
                  </a:moveTo>
                  <a:lnTo>
                    <a:pt x="0" y="1211"/>
                  </a:lnTo>
                  <a:lnTo>
                    <a:pt x="2" y="0"/>
                  </a:lnTo>
                  <a:lnTo>
                    <a:pt x="1752" y="0"/>
                  </a:lnTo>
                  <a:lnTo>
                    <a:pt x="1750" y="1211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3748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3748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91524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91524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993000" y="3741840"/>
              <a:ext cx="363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993000" y="3741840"/>
              <a:ext cx="36360" cy="1440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069320" y="3741840"/>
              <a:ext cx="3780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069320" y="3741840"/>
              <a:ext cx="3780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147080" y="3741840"/>
              <a:ext cx="3780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147080" y="3741840"/>
              <a:ext cx="3780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2484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22484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30080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30080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7856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37856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56680" y="3741840"/>
              <a:ext cx="3780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56680" y="3741840"/>
              <a:ext cx="3780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53264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53264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4">
                  <a:moveTo>
                    <a:pt x="526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61040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5" h="204">
                  <a:moveTo>
                    <a:pt x="525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5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610400" y="3741840"/>
              <a:ext cx="38160" cy="14400"/>
            </a:xfrm>
            <a:custGeom>
              <a:avLst/>
              <a:gdLst/>
              <a:ahLst/>
              <a:rect l="l" t="t" r="r" b="b"/>
              <a:pathLst>
                <a:path w="525" h="204">
                  <a:moveTo>
                    <a:pt x="525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5" y="204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37480" y="3591000"/>
              <a:ext cx="38160" cy="14400"/>
            </a:xfrm>
            <a:custGeom>
              <a:avLst/>
              <a:gdLst/>
              <a:ahLst/>
              <a:rect l="l" t="t" r="r" b="b"/>
              <a:pathLst>
                <a:path w="527" h="205">
                  <a:moveTo>
                    <a:pt x="527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7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837480" y="3591000"/>
              <a:ext cx="38160" cy="14400"/>
            </a:xfrm>
            <a:custGeom>
              <a:avLst/>
              <a:gdLst/>
              <a:ahLst/>
              <a:rect l="l" t="t" r="r" b="b"/>
              <a:pathLst>
                <a:path w="527" h="205">
                  <a:moveTo>
                    <a:pt x="527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7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915240" y="3591000"/>
              <a:ext cx="38160" cy="14400"/>
            </a:xfrm>
            <a:custGeom>
              <a:avLst/>
              <a:gdLst/>
              <a:ahLst/>
              <a:rect l="l" t="t" r="r" b="b"/>
              <a:pathLst>
                <a:path w="525" h="205">
                  <a:moveTo>
                    <a:pt x="525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5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915240" y="3591000"/>
              <a:ext cx="38160" cy="14400"/>
            </a:xfrm>
            <a:custGeom>
              <a:avLst/>
              <a:gdLst/>
              <a:ahLst/>
              <a:rect l="l" t="t" r="r" b="b"/>
              <a:pathLst>
                <a:path w="525" h="205">
                  <a:moveTo>
                    <a:pt x="525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5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993000" y="3591000"/>
              <a:ext cx="36360" cy="1440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6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993000" y="3591000"/>
              <a:ext cx="36360" cy="1440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6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069320" y="3591000"/>
              <a:ext cx="37800" cy="1440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069320" y="3591000"/>
              <a:ext cx="37800" cy="1440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147080" y="3591000"/>
              <a:ext cx="378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47080" y="3591000"/>
              <a:ext cx="37800" cy="1440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224840" y="3591000"/>
              <a:ext cx="381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224840" y="3591000"/>
              <a:ext cx="38160" cy="1440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00800" y="3591000"/>
              <a:ext cx="38160" cy="14400"/>
            </a:xfrm>
            <a:custGeom>
              <a:avLst/>
              <a:gdLst/>
              <a:ahLst/>
              <a:rect l="l" t="t" r="r" b="b"/>
              <a:pathLst>
                <a:path w="525" h="205">
                  <a:moveTo>
                    <a:pt x="524" y="205"/>
                  </a:moveTo>
                  <a:lnTo>
                    <a:pt x="0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4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300800" y="3591000"/>
              <a:ext cx="38160" cy="14400"/>
            </a:xfrm>
            <a:custGeom>
              <a:avLst/>
              <a:gdLst/>
              <a:ahLst/>
              <a:rect l="l" t="t" r="r" b="b"/>
              <a:pathLst>
                <a:path w="525" h="205">
                  <a:moveTo>
                    <a:pt x="524" y="205"/>
                  </a:moveTo>
                  <a:lnTo>
                    <a:pt x="0" y="205"/>
                  </a:lnTo>
                  <a:lnTo>
                    <a:pt x="0" y="0"/>
                  </a:lnTo>
                  <a:lnTo>
                    <a:pt x="525" y="0"/>
                  </a:lnTo>
                  <a:lnTo>
                    <a:pt x="524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378560" y="3591000"/>
              <a:ext cx="38160" cy="14400"/>
            </a:xfrm>
            <a:custGeom>
              <a:avLst/>
              <a:gdLst/>
              <a:ahLst/>
              <a:rect l="l" t="t" r="r" b="b"/>
              <a:pathLst>
                <a:path w="527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7" y="0"/>
                  </a:lnTo>
                  <a:lnTo>
                    <a:pt x="526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78560" y="3591000"/>
              <a:ext cx="38160" cy="14400"/>
            </a:xfrm>
            <a:custGeom>
              <a:avLst/>
              <a:gdLst/>
              <a:ahLst/>
              <a:rect l="l" t="t" r="r" b="b"/>
              <a:pathLst>
                <a:path w="527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7" y="0"/>
                  </a:lnTo>
                  <a:lnTo>
                    <a:pt x="526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456680" y="3591000"/>
              <a:ext cx="378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456680" y="3591000"/>
              <a:ext cx="37800" cy="1440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32640" y="359100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532640" y="3591000"/>
              <a:ext cx="38160" cy="14400"/>
            </a:xfrm>
            <a:custGeom>
              <a:avLst/>
              <a:gdLst/>
              <a:ahLst/>
              <a:rect l="l" t="t" r="r" b="b"/>
              <a:pathLst>
                <a:path w="526" h="205">
                  <a:moveTo>
                    <a:pt x="526" y="205"/>
                  </a:moveTo>
                  <a:lnTo>
                    <a:pt x="1" y="205"/>
                  </a:lnTo>
                  <a:lnTo>
                    <a:pt x="0" y="0"/>
                  </a:lnTo>
                  <a:lnTo>
                    <a:pt x="526" y="0"/>
                  </a:lnTo>
                  <a:lnTo>
                    <a:pt x="526" y="205"/>
                  </a:lnTo>
                  <a:close/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610400" y="3591000"/>
              <a:ext cx="381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10400" y="3591000"/>
              <a:ext cx="38160" cy="1440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083360" y="3630600"/>
              <a:ext cx="125640" cy="87480"/>
            </a:xfrm>
            <a:custGeom>
              <a:avLst/>
              <a:gdLst/>
              <a:ahLst/>
              <a:rect l="l" t="t" r="r" b="b"/>
              <a:pathLst>
                <a:path w="1751" h="1211">
                  <a:moveTo>
                    <a:pt x="1749" y="1211"/>
                  </a:moveTo>
                  <a:lnTo>
                    <a:pt x="0" y="1211"/>
                  </a:lnTo>
                  <a:lnTo>
                    <a:pt x="1" y="0"/>
                  </a:lnTo>
                  <a:lnTo>
                    <a:pt x="1751" y="0"/>
                  </a:lnTo>
                  <a:lnTo>
                    <a:pt x="1749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083360" y="3630600"/>
              <a:ext cx="125640" cy="87480"/>
            </a:xfrm>
            <a:custGeom>
              <a:avLst/>
              <a:gdLst/>
              <a:ahLst/>
              <a:rect l="l" t="t" r="r" b="b"/>
              <a:pathLst>
                <a:path w="1751" h="1211">
                  <a:moveTo>
                    <a:pt x="1749" y="1211"/>
                  </a:moveTo>
                  <a:lnTo>
                    <a:pt x="0" y="1211"/>
                  </a:lnTo>
                  <a:lnTo>
                    <a:pt x="1" y="0"/>
                  </a:lnTo>
                  <a:lnTo>
                    <a:pt x="1751" y="0"/>
                  </a:lnTo>
                  <a:lnTo>
                    <a:pt x="1749" y="1211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90000" y="3630600"/>
              <a:ext cx="125280" cy="87480"/>
            </a:xfrm>
            <a:custGeom>
              <a:avLst/>
              <a:gdLst/>
              <a:ahLst/>
              <a:rect l="l" t="t" r="r" b="b"/>
              <a:pathLst>
                <a:path w="1752" h="1211">
                  <a:moveTo>
                    <a:pt x="1750" y="1211"/>
                  </a:moveTo>
                  <a:lnTo>
                    <a:pt x="0" y="1211"/>
                  </a:lnTo>
                  <a:lnTo>
                    <a:pt x="2" y="0"/>
                  </a:lnTo>
                  <a:lnTo>
                    <a:pt x="1752" y="0"/>
                  </a:lnTo>
                  <a:lnTo>
                    <a:pt x="1750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290000" y="3630600"/>
              <a:ext cx="125280" cy="87480"/>
            </a:xfrm>
            <a:custGeom>
              <a:avLst/>
              <a:gdLst/>
              <a:ahLst/>
              <a:rect l="l" t="t" r="r" b="b"/>
              <a:pathLst>
                <a:path w="1752" h="1211">
                  <a:moveTo>
                    <a:pt x="1750" y="1211"/>
                  </a:moveTo>
                  <a:lnTo>
                    <a:pt x="0" y="1211"/>
                  </a:lnTo>
                  <a:lnTo>
                    <a:pt x="2" y="0"/>
                  </a:lnTo>
                  <a:lnTo>
                    <a:pt x="1752" y="0"/>
                  </a:lnTo>
                  <a:lnTo>
                    <a:pt x="1750" y="1211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94480" y="3630600"/>
              <a:ext cx="127080" cy="87480"/>
            </a:xfrm>
            <a:custGeom>
              <a:avLst/>
              <a:gdLst/>
              <a:ahLst/>
              <a:rect l="l" t="t" r="r" b="b"/>
              <a:pathLst>
                <a:path w="1751" h="1211">
                  <a:moveTo>
                    <a:pt x="1749" y="1211"/>
                  </a:moveTo>
                  <a:lnTo>
                    <a:pt x="0" y="1211"/>
                  </a:lnTo>
                  <a:lnTo>
                    <a:pt x="1" y="0"/>
                  </a:lnTo>
                  <a:lnTo>
                    <a:pt x="1751" y="0"/>
                  </a:lnTo>
                  <a:lnTo>
                    <a:pt x="1749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494480" y="3630600"/>
              <a:ext cx="127080" cy="87480"/>
            </a:xfrm>
            <a:custGeom>
              <a:avLst/>
              <a:gdLst/>
              <a:ahLst/>
              <a:rect l="l" t="t" r="r" b="b"/>
              <a:pathLst>
                <a:path w="1751" h="1211">
                  <a:moveTo>
                    <a:pt x="1749" y="1211"/>
                  </a:moveTo>
                  <a:lnTo>
                    <a:pt x="0" y="1211"/>
                  </a:lnTo>
                  <a:lnTo>
                    <a:pt x="1" y="0"/>
                  </a:lnTo>
                  <a:lnTo>
                    <a:pt x="1751" y="0"/>
                  </a:lnTo>
                  <a:lnTo>
                    <a:pt x="1749" y="1211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8002440" y="1398600"/>
            <a:ext cx="98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N 290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001000" y="2363760"/>
            <a:ext cx="99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N 590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8002440" y="3355920"/>
            <a:ext cx="98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N 590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6780240" y="2075040"/>
            <a:ext cx="1202760" cy="1081080"/>
            <a:chOff x="6780240" y="2075040"/>
            <a:chExt cx="1202760" cy="1081080"/>
          </a:xfrm>
        </p:grpSpPr>
        <p:sp>
          <p:nvSpPr>
            <p:cNvPr id="1221" name=""/>
            <p:cNvSpPr/>
            <p:nvPr/>
          </p:nvSpPr>
          <p:spPr>
            <a:xfrm>
              <a:off x="6791040" y="2086200"/>
              <a:ext cx="1182600" cy="258840"/>
            </a:xfrm>
            <a:custGeom>
              <a:avLst/>
              <a:gdLst/>
              <a:ahLst/>
              <a:rect l="l" t="t" r="r" b="b"/>
              <a:pathLst>
                <a:path w="16402" h="3587">
                  <a:moveTo>
                    <a:pt x="13073" y="3587"/>
                  </a:moveTo>
                  <a:lnTo>
                    <a:pt x="16402" y="0"/>
                  </a:lnTo>
                  <a:lnTo>
                    <a:pt x="4304" y="0"/>
                  </a:lnTo>
                  <a:lnTo>
                    <a:pt x="0" y="3587"/>
                  </a:lnTo>
                  <a:lnTo>
                    <a:pt x="13073" y="3587"/>
                  </a:lnTo>
                  <a:close/>
                </a:path>
              </a:pathLst>
            </a:custGeom>
            <a:solidFill>
              <a:srgbClr val="47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731000" y="2081520"/>
              <a:ext cx="252000" cy="264960"/>
            </a:xfrm>
            <a:custGeom>
              <a:avLst/>
              <a:gdLst/>
              <a:ahLst/>
              <a:rect l="l" t="t" r="r" b="b"/>
              <a:pathLst>
                <a:path w="3499" h="3681">
                  <a:moveTo>
                    <a:pt x="3370" y="0"/>
                  </a:moveTo>
                  <a:lnTo>
                    <a:pt x="3330" y="18"/>
                  </a:lnTo>
                  <a:lnTo>
                    <a:pt x="0" y="3604"/>
                  </a:lnTo>
                  <a:lnTo>
                    <a:pt x="83" y="3681"/>
                  </a:lnTo>
                  <a:lnTo>
                    <a:pt x="3412" y="94"/>
                  </a:lnTo>
                  <a:lnTo>
                    <a:pt x="3370" y="0"/>
                  </a:lnTo>
                  <a:lnTo>
                    <a:pt x="3412" y="94"/>
                  </a:lnTo>
                  <a:lnTo>
                    <a:pt x="3499" y="0"/>
                  </a:lnTo>
                  <a:lnTo>
                    <a:pt x="3370" y="0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099200" y="2081520"/>
              <a:ext cx="874440" cy="7920"/>
            </a:xfrm>
            <a:custGeom>
              <a:avLst/>
              <a:gdLst/>
              <a:ahLst/>
              <a:rect l="l" t="t" r="r" b="b"/>
              <a:pathLst>
                <a:path w="12135" h="113">
                  <a:moveTo>
                    <a:pt x="0" y="13"/>
                  </a:moveTo>
                  <a:lnTo>
                    <a:pt x="37" y="113"/>
                  </a:lnTo>
                  <a:lnTo>
                    <a:pt x="12135" y="113"/>
                  </a:lnTo>
                  <a:lnTo>
                    <a:pt x="12135" y="0"/>
                  </a:lnTo>
                  <a:lnTo>
                    <a:pt x="37" y="0"/>
                  </a:lnTo>
                  <a:lnTo>
                    <a:pt x="0" y="13"/>
                  </a:lnTo>
                  <a:lnTo>
                    <a:pt x="37" y="0"/>
                  </a:lnTo>
                  <a:lnTo>
                    <a:pt x="1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80240" y="2082960"/>
              <a:ext cx="323640" cy="264960"/>
            </a:xfrm>
            <a:custGeom>
              <a:avLst/>
              <a:gdLst/>
              <a:ahLst/>
              <a:rect l="l" t="t" r="r" b="b"/>
              <a:pathLst>
                <a:path w="4491" h="3686">
                  <a:moveTo>
                    <a:pt x="152" y="3686"/>
                  </a:moveTo>
                  <a:lnTo>
                    <a:pt x="188" y="3672"/>
                  </a:lnTo>
                  <a:lnTo>
                    <a:pt x="4491" y="87"/>
                  </a:lnTo>
                  <a:lnTo>
                    <a:pt x="4419" y="0"/>
                  </a:lnTo>
                  <a:lnTo>
                    <a:pt x="117" y="3586"/>
                  </a:lnTo>
                  <a:lnTo>
                    <a:pt x="152" y="3686"/>
                  </a:lnTo>
                  <a:lnTo>
                    <a:pt x="117" y="3586"/>
                  </a:lnTo>
                  <a:lnTo>
                    <a:pt x="0" y="3686"/>
                  </a:lnTo>
                  <a:lnTo>
                    <a:pt x="152" y="3686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791040" y="2340000"/>
              <a:ext cx="946080" cy="7920"/>
            </a:xfrm>
            <a:custGeom>
              <a:avLst/>
              <a:gdLst/>
              <a:ahLst/>
              <a:rect l="l" t="t" r="r" b="b"/>
              <a:pathLst>
                <a:path w="13115" h="114">
                  <a:moveTo>
                    <a:pt x="13115" y="96"/>
                  </a:moveTo>
                  <a:lnTo>
                    <a:pt x="13073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13073" y="114"/>
                  </a:lnTo>
                  <a:lnTo>
                    <a:pt x="13115" y="96"/>
                  </a:lnTo>
                  <a:lnTo>
                    <a:pt x="13073" y="114"/>
                  </a:lnTo>
                  <a:lnTo>
                    <a:pt x="13098" y="114"/>
                  </a:lnTo>
                  <a:lnTo>
                    <a:pt x="13115" y="96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734240" y="2086200"/>
              <a:ext cx="239400" cy="1057320"/>
            </a:xfrm>
            <a:custGeom>
              <a:avLst/>
              <a:gdLst/>
              <a:ahLst/>
              <a:rect l="l" t="t" r="r" b="b"/>
              <a:pathLst>
                <a:path w="3330" h="14672">
                  <a:moveTo>
                    <a:pt x="3330" y="10473"/>
                  </a:moveTo>
                  <a:lnTo>
                    <a:pt x="3329" y="0"/>
                  </a:lnTo>
                  <a:lnTo>
                    <a:pt x="0" y="3587"/>
                  </a:lnTo>
                  <a:lnTo>
                    <a:pt x="0" y="14672"/>
                  </a:lnTo>
                  <a:lnTo>
                    <a:pt x="3330" y="10473"/>
                  </a:lnTo>
                  <a:close/>
                </a:path>
              </a:pathLst>
            </a:custGeom>
            <a:solidFill>
              <a:srgbClr val="0c6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970760" y="2075040"/>
              <a:ext cx="7560" cy="766800"/>
            </a:xfrm>
            <a:custGeom>
              <a:avLst/>
              <a:gdLst/>
              <a:ahLst/>
              <a:rect l="l" t="t" r="r" b="b"/>
              <a:pathLst>
                <a:path w="115" h="10614">
                  <a:moveTo>
                    <a:pt x="16" y="103"/>
                  </a:moveTo>
                  <a:lnTo>
                    <a:pt x="0" y="141"/>
                  </a:lnTo>
                  <a:lnTo>
                    <a:pt x="1" y="10614"/>
                  </a:lnTo>
                  <a:lnTo>
                    <a:pt x="115" y="10614"/>
                  </a:lnTo>
                  <a:lnTo>
                    <a:pt x="113" y="141"/>
                  </a:lnTo>
                  <a:lnTo>
                    <a:pt x="16" y="103"/>
                  </a:lnTo>
                  <a:lnTo>
                    <a:pt x="113" y="141"/>
                  </a:lnTo>
                  <a:lnTo>
                    <a:pt x="113" y="0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729200" y="2082960"/>
              <a:ext cx="247320" cy="263520"/>
            </a:xfrm>
            <a:custGeom>
              <a:avLst/>
              <a:gdLst/>
              <a:ahLst/>
              <a:rect l="l" t="t" r="r" b="b"/>
              <a:pathLst>
                <a:path w="3427" h="3663">
                  <a:moveTo>
                    <a:pt x="0" y="3625"/>
                  </a:moveTo>
                  <a:lnTo>
                    <a:pt x="98" y="3663"/>
                  </a:lnTo>
                  <a:lnTo>
                    <a:pt x="3427" y="76"/>
                  </a:lnTo>
                  <a:lnTo>
                    <a:pt x="3345" y="0"/>
                  </a:lnTo>
                  <a:lnTo>
                    <a:pt x="15" y="3586"/>
                  </a:lnTo>
                  <a:lnTo>
                    <a:pt x="0" y="3625"/>
                  </a:lnTo>
                  <a:lnTo>
                    <a:pt x="15" y="3586"/>
                  </a:lnTo>
                  <a:lnTo>
                    <a:pt x="0" y="3603"/>
                  </a:lnTo>
                  <a:lnTo>
                    <a:pt x="0" y="3625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729200" y="2345040"/>
              <a:ext cx="7920" cy="811080"/>
            </a:xfrm>
            <a:custGeom>
              <a:avLst/>
              <a:gdLst/>
              <a:ahLst/>
              <a:rect l="l" t="t" r="r" b="b"/>
              <a:pathLst>
                <a:path w="112" h="11245">
                  <a:moveTo>
                    <a:pt x="100" y="11119"/>
                  </a:moveTo>
                  <a:lnTo>
                    <a:pt x="112" y="11085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085"/>
                  </a:lnTo>
                  <a:lnTo>
                    <a:pt x="100" y="11119"/>
                  </a:lnTo>
                  <a:lnTo>
                    <a:pt x="0" y="11085"/>
                  </a:lnTo>
                  <a:lnTo>
                    <a:pt x="0" y="11245"/>
                  </a:lnTo>
                  <a:lnTo>
                    <a:pt x="100" y="11119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731000" y="2838600"/>
              <a:ext cx="247320" cy="307800"/>
            </a:xfrm>
            <a:custGeom>
              <a:avLst/>
              <a:gdLst/>
              <a:ahLst/>
              <a:rect l="l" t="t" r="r" b="b"/>
              <a:pathLst>
                <a:path w="3431" h="4268">
                  <a:moveTo>
                    <a:pt x="3431" y="35"/>
                  </a:moveTo>
                  <a:lnTo>
                    <a:pt x="3330" y="0"/>
                  </a:lnTo>
                  <a:lnTo>
                    <a:pt x="0" y="4199"/>
                  </a:lnTo>
                  <a:lnTo>
                    <a:pt x="87" y="4268"/>
                  </a:lnTo>
                  <a:lnTo>
                    <a:pt x="3418" y="69"/>
                  </a:lnTo>
                  <a:lnTo>
                    <a:pt x="3431" y="35"/>
                  </a:lnTo>
                  <a:lnTo>
                    <a:pt x="3418" y="69"/>
                  </a:lnTo>
                  <a:lnTo>
                    <a:pt x="3431" y="55"/>
                  </a:lnTo>
                  <a:lnTo>
                    <a:pt x="3431" y="35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91040" y="2345040"/>
              <a:ext cx="942840" cy="798480"/>
            </a:xfrm>
            <a:custGeom>
              <a:avLst/>
              <a:gdLst/>
              <a:ahLst/>
              <a:rect l="l" t="t" r="r" b="b"/>
              <a:pathLst>
                <a:path w="13074" h="11085">
                  <a:moveTo>
                    <a:pt x="13074" y="11085"/>
                  </a:moveTo>
                  <a:lnTo>
                    <a:pt x="13074" y="0"/>
                  </a:lnTo>
                  <a:lnTo>
                    <a:pt x="0" y="0"/>
                  </a:lnTo>
                  <a:lnTo>
                    <a:pt x="4" y="11085"/>
                  </a:lnTo>
                  <a:lnTo>
                    <a:pt x="13074" y="11085"/>
                  </a:lnTo>
                  <a:close/>
                </a:path>
              </a:pathLst>
            </a:custGeom>
            <a:solidFill>
              <a:srgbClr val="21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29200" y="2340000"/>
              <a:ext cx="7920" cy="803520"/>
            </a:xfrm>
            <a:custGeom>
              <a:avLst/>
              <a:gdLst/>
              <a:ahLst/>
              <a:rect l="l" t="t" r="r" b="b"/>
              <a:pathLst>
                <a:path w="112" h="11143">
                  <a:moveTo>
                    <a:pt x="56" y="0"/>
                  </a:moveTo>
                  <a:lnTo>
                    <a:pt x="0" y="58"/>
                  </a:lnTo>
                  <a:lnTo>
                    <a:pt x="0" y="11143"/>
                  </a:lnTo>
                  <a:lnTo>
                    <a:pt x="112" y="11143"/>
                  </a:lnTo>
                  <a:lnTo>
                    <a:pt x="112" y="58"/>
                  </a:lnTo>
                  <a:lnTo>
                    <a:pt x="56" y="0"/>
                  </a:lnTo>
                  <a:lnTo>
                    <a:pt x="112" y="58"/>
                  </a:lnTo>
                  <a:lnTo>
                    <a:pt x="112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786360" y="2340000"/>
              <a:ext cx="947520" cy="7920"/>
            </a:xfrm>
            <a:custGeom>
              <a:avLst/>
              <a:gdLst/>
              <a:ahLst/>
              <a:rect l="l" t="t" r="r" b="b"/>
              <a:pathLst>
                <a:path w="13130" h="114">
                  <a:moveTo>
                    <a:pt x="0" y="58"/>
                  </a:moveTo>
                  <a:lnTo>
                    <a:pt x="56" y="114"/>
                  </a:lnTo>
                  <a:lnTo>
                    <a:pt x="13130" y="114"/>
                  </a:lnTo>
                  <a:lnTo>
                    <a:pt x="13130" y="0"/>
                  </a:lnTo>
                  <a:lnTo>
                    <a:pt x="56" y="0"/>
                  </a:lnTo>
                  <a:lnTo>
                    <a:pt x="0" y="58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786360" y="2345040"/>
              <a:ext cx="7560" cy="803160"/>
            </a:xfrm>
            <a:custGeom>
              <a:avLst/>
              <a:gdLst/>
              <a:ahLst/>
              <a:rect l="l" t="t" r="r" b="b"/>
              <a:pathLst>
                <a:path w="117" h="11141">
                  <a:moveTo>
                    <a:pt x="60" y="11141"/>
                  </a:moveTo>
                  <a:lnTo>
                    <a:pt x="117" y="11085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4" y="11085"/>
                  </a:lnTo>
                  <a:lnTo>
                    <a:pt x="60" y="11141"/>
                  </a:lnTo>
                  <a:lnTo>
                    <a:pt x="4" y="11085"/>
                  </a:lnTo>
                  <a:lnTo>
                    <a:pt x="4" y="11141"/>
                  </a:lnTo>
                  <a:lnTo>
                    <a:pt x="60" y="11141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791040" y="3140280"/>
              <a:ext cx="946080" cy="7920"/>
            </a:xfrm>
            <a:custGeom>
              <a:avLst/>
              <a:gdLst/>
              <a:ahLst/>
              <a:rect l="l" t="t" r="r" b="b"/>
              <a:pathLst>
                <a:path w="13126" h="113">
                  <a:moveTo>
                    <a:pt x="13126" y="57"/>
                  </a:moveTo>
                  <a:lnTo>
                    <a:pt x="13070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13070" y="113"/>
                  </a:lnTo>
                  <a:lnTo>
                    <a:pt x="13126" y="57"/>
                  </a:lnTo>
                  <a:lnTo>
                    <a:pt x="13070" y="113"/>
                  </a:lnTo>
                  <a:lnTo>
                    <a:pt x="13126" y="113"/>
                  </a:lnTo>
                  <a:lnTo>
                    <a:pt x="13126" y="57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884640" y="2419560"/>
              <a:ext cx="711000" cy="639720"/>
            </a:xfrm>
            <a:custGeom>
              <a:avLst/>
              <a:gdLst/>
              <a:ahLst/>
              <a:rect l="l" t="t" r="r" b="b"/>
              <a:pathLst>
                <a:path w="9866" h="8868">
                  <a:moveTo>
                    <a:pt x="9866" y="8868"/>
                  </a:moveTo>
                  <a:lnTo>
                    <a:pt x="9866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9866" y="8868"/>
                  </a:lnTo>
                  <a:close/>
                </a:path>
              </a:pathLst>
            </a:custGeom>
            <a:solidFill>
              <a:srgbClr val="1a51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592760" y="2416320"/>
              <a:ext cx="7560" cy="642960"/>
            </a:xfrm>
            <a:custGeom>
              <a:avLst/>
              <a:gdLst/>
              <a:ahLst/>
              <a:rect l="l" t="t" r="r" b="b"/>
              <a:pathLst>
                <a:path w="113" h="8924">
                  <a:moveTo>
                    <a:pt x="57" y="0"/>
                  </a:moveTo>
                  <a:lnTo>
                    <a:pt x="0" y="56"/>
                  </a:lnTo>
                  <a:lnTo>
                    <a:pt x="0" y="8924"/>
                  </a:lnTo>
                  <a:lnTo>
                    <a:pt x="113" y="8924"/>
                  </a:lnTo>
                  <a:lnTo>
                    <a:pt x="113" y="56"/>
                  </a:lnTo>
                  <a:lnTo>
                    <a:pt x="57" y="0"/>
                  </a:lnTo>
                  <a:lnTo>
                    <a:pt x="113" y="56"/>
                  </a:lnTo>
                  <a:lnTo>
                    <a:pt x="113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79960" y="2416320"/>
              <a:ext cx="715680" cy="7920"/>
            </a:xfrm>
            <a:custGeom>
              <a:avLst/>
              <a:gdLst/>
              <a:ahLst/>
              <a:rect l="l" t="t" r="r" b="b"/>
              <a:pathLst>
                <a:path w="9922" h="113">
                  <a:moveTo>
                    <a:pt x="0" y="56"/>
                  </a:moveTo>
                  <a:lnTo>
                    <a:pt x="56" y="113"/>
                  </a:lnTo>
                  <a:lnTo>
                    <a:pt x="9922" y="113"/>
                  </a:lnTo>
                  <a:lnTo>
                    <a:pt x="9922" y="0"/>
                  </a:lnTo>
                  <a:lnTo>
                    <a:pt x="56" y="0"/>
                  </a:lnTo>
                  <a:lnTo>
                    <a:pt x="0" y="56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879960" y="2419560"/>
              <a:ext cx="9360" cy="644400"/>
            </a:xfrm>
            <a:custGeom>
              <a:avLst/>
              <a:gdLst/>
              <a:ahLst/>
              <a:rect l="l" t="t" r="r" b="b"/>
              <a:pathLst>
                <a:path w="116" h="8925">
                  <a:moveTo>
                    <a:pt x="60" y="8925"/>
                  </a:moveTo>
                  <a:lnTo>
                    <a:pt x="116" y="8868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60" y="8925"/>
                  </a:lnTo>
                  <a:lnTo>
                    <a:pt x="4" y="8868"/>
                  </a:lnTo>
                  <a:lnTo>
                    <a:pt x="4" y="8925"/>
                  </a:lnTo>
                  <a:lnTo>
                    <a:pt x="60" y="8925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884640" y="3056040"/>
              <a:ext cx="715680" cy="7920"/>
            </a:xfrm>
            <a:custGeom>
              <a:avLst/>
              <a:gdLst/>
              <a:ahLst/>
              <a:rect l="l" t="t" r="r" b="b"/>
              <a:pathLst>
                <a:path w="9918" h="113">
                  <a:moveTo>
                    <a:pt x="9918" y="56"/>
                  </a:moveTo>
                  <a:lnTo>
                    <a:pt x="9862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9862" y="113"/>
                  </a:lnTo>
                  <a:lnTo>
                    <a:pt x="9918" y="56"/>
                  </a:lnTo>
                  <a:lnTo>
                    <a:pt x="9862" y="113"/>
                  </a:lnTo>
                  <a:lnTo>
                    <a:pt x="9918" y="113"/>
                  </a:lnTo>
                  <a:lnTo>
                    <a:pt x="9918" y="56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078320" y="2173320"/>
              <a:ext cx="703080" cy="65160"/>
            </a:xfrm>
            <a:custGeom>
              <a:avLst/>
              <a:gdLst/>
              <a:ahLst/>
              <a:rect l="l" t="t" r="r" b="b"/>
              <a:pathLst>
                <a:path w="9759" h="895">
                  <a:moveTo>
                    <a:pt x="9759" y="452"/>
                  </a:moveTo>
                  <a:lnTo>
                    <a:pt x="7258" y="0"/>
                  </a:lnTo>
                  <a:lnTo>
                    <a:pt x="7100" y="246"/>
                  </a:lnTo>
                  <a:lnTo>
                    <a:pt x="368" y="243"/>
                  </a:lnTo>
                  <a:lnTo>
                    <a:pt x="0" y="555"/>
                  </a:lnTo>
                  <a:lnTo>
                    <a:pt x="6835" y="554"/>
                  </a:lnTo>
                  <a:lnTo>
                    <a:pt x="6681" y="895"/>
                  </a:lnTo>
                  <a:lnTo>
                    <a:pt x="9759" y="4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943680" y="2419560"/>
              <a:ext cx="1080" cy="639720"/>
            </a:xfrm>
            <a:prstGeom prst="line">
              <a:avLst/>
            </a:prstGeom>
            <a:ln w="0">
              <a:solidFill>
                <a:srgbClr val="96c6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940440" y="2419560"/>
              <a:ext cx="7560" cy="639720"/>
            </a:xfrm>
            <a:custGeom>
              <a:avLst/>
              <a:gdLst/>
              <a:ahLst/>
              <a:rect l="l" t="t" r="r" b="b"/>
              <a:pathLst>
                <a:path w="117" h="8868">
                  <a:moveTo>
                    <a:pt x="117" y="8868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117" y="886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002360" y="2419560"/>
              <a:ext cx="1080" cy="639720"/>
            </a:xfrm>
            <a:prstGeom prst="line">
              <a:avLst/>
            </a:prstGeom>
            <a:ln w="0">
              <a:solidFill>
                <a:srgbClr val="96c6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999120" y="2419560"/>
              <a:ext cx="7560" cy="639720"/>
            </a:xfrm>
            <a:custGeom>
              <a:avLst/>
              <a:gdLst/>
              <a:ahLst/>
              <a:rect l="l" t="t" r="r" b="b"/>
              <a:pathLst>
                <a:path w="118" h="8868">
                  <a:moveTo>
                    <a:pt x="118" y="8868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5" y="8868"/>
                  </a:lnTo>
                  <a:lnTo>
                    <a:pt x="118" y="886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062480" y="2419560"/>
              <a:ext cx="1440" cy="639720"/>
            </a:xfrm>
            <a:prstGeom prst="line">
              <a:avLst/>
            </a:prstGeom>
            <a:ln w="0">
              <a:solidFill>
                <a:srgbClr val="96c6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057800" y="2419560"/>
              <a:ext cx="9360" cy="639720"/>
            </a:xfrm>
            <a:custGeom>
              <a:avLst/>
              <a:gdLst/>
              <a:ahLst/>
              <a:rect l="l" t="t" r="r" b="b"/>
              <a:pathLst>
                <a:path w="116" h="8868">
                  <a:moveTo>
                    <a:pt x="116" y="8868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116" y="886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21520" y="2419560"/>
              <a:ext cx="1080" cy="639720"/>
            </a:xfrm>
            <a:prstGeom prst="line">
              <a:avLst/>
            </a:prstGeom>
            <a:ln w="0">
              <a:solidFill>
                <a:srgbClr val="96c6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116480" y="2419560"/>
              <a:ext cx="9360" cy="639720"/>
            </a:xfrm>
            <a:custGeom>
              <a:avLst/>
              <a:gdLst/>
              <a:ahLst/>
              <a:rect l="l" t="t" r="r" b="b"/>
              <a:pathLst>
                <a:path w="117" h="8868">
                  <a:moveTo>
                    <a:pt x="117" y="8868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117" y="886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180200" y="2419560"/>
              <a:ext cx="1080" cy="639720"/>
            </a:xfrm>
            <a:prstGeom prst="line">
              <a:avLst/>
            </a:prstGeom>
            <a:ln w="0">
              <a:solidFill>
                <a:srgbClr val="96c6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176960" y="2419560"/>
              <a:ext cx="7560" cy="639720"/>
            </a:xfrm>
            <a:custGeom>
              <a:avLst/>
              <a:gdLst/>
              <a:ahLst/>
              <a:rect l="l" t="t" r="r" b="b"/>
              <a:pathLst>
                <a:path w="117" h="8868">
                  <a:moveTo>
                    <a:pt x="117" y="8868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117" y="886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240320" y="2419560"/>
              <a:ext cx="1440" cy="639720"/>
            </a:xfrm>
            <a:prstGeom prst="line">
              <a:avLst/>
            </a:prstGeom>
            <a:ln w="0">
              <a:solidFill>
                <a:srgbClr val="96c6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235640" y="2419560"/>
              <a:ext cx="7560" cy="639720"/>
            </a:xfrm>
            <a:custGeom>
              <a:avLst/>
              <a:gdLst/>
              <a:ahLst/>
              <a:rect l="l" t="t" r="r" b="b"/>
              <a:pathLst>
                <a:path w="116" h="8868">
                  <a:moveTo>
                    <a:pt x="116" y="8868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116" y="886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299000" y="2419560"/>
              <a:ext cx="1440" cy="639720"/>
            </a:xfrm>
            <a:prstGeom prst="line">
              <a:avLst/>
            </a:prstGeom>
            <a:ln w="0">
              <a:solidFill>
                <a:srgbClr val="96c6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294320" y="2419560"/>
              <a:ext cx="9360" cy="639720"/>
            </a:xfrm>
            <a:custGeom>
              <a:avLst/>
              <a:gdLst/>
              <a:ahLst/>
              <a:rect l="l" t="t" r="r" b="b"/>
              <a:pathLst>
                <a:path w="117" h="8868">
                  <a:moveTo>
                    <a:pt x="117" y="8868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117" y="886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58040" y="2419560"/>
              <a:ext cx="1080" cy="639720"/>
            </a:xfrm>
            <a:prstGeom prst="line">
              <a:avLst/>
            </a:prstGeom>
            <a:ln w="0">
              <a:solidFill>
                <a:srgbClr val="96c6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354800" y="2419560"/>
              <a:ext cx="7560" cy="639720"/>
            </a:xfrm>
            <a:custGeom>
              <a:avLst/>
              <a:gdLst/>
              <a:ahLst/>
              <a:rect l="l" t="t" r="r" b="b"/>
              <a:pathLst>
                <a:path w="116" h="8868">
                  <a:moveTo>
                    <a:pt x="116" y="8868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116" y="886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416720" y="2419560"/>
              <a:ext cx="1080" cy="639720"/>
            </a:xfrm>
            <a:prstGeom prst="line">
              <a:avLst/>
            </a:prstGeom>
            <a:ln w="0">
              <a:solidFill>
                <a:srgbClr val="96c6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413480" y="2419560"/>
              <a:ext cx="7560" cy="639720"/>
            </a:xfrm>
            <a:custGeom>
              <a:avLst/>
              <a:gdLst/>
              <a:ahLst/>
              <a:rect l="l" t="t" r="r" b="b"/>
              <a:pathLst>
                <a:path w="116" h="8868">
                  <a:moveTo>
                    <a:pt x="116" y="8868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116" y="886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476840" y="2419560"/>
              <a:ext cx="1440" cy="639720"/>
            </a:xfrm>
            <a:prstGeom prst="line">
              <a:avLst/>
            </a:prstGeom>
            <a:ln w="0">
              <a:solidFill>
                <a:srgbClr val="96c6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472160" y="2419560"/>
              <a:ext cx="9360" cy="639720"/>
            </a:xfrm>
            <a:custGeom>
              <a:avLst/>
              <a:gdLst/>
              <a:ahLst/>
              <a:rect l="l" t="t" r="r" b="b"/>
              <a:pathLst>
                <a:path w="117" h="8868">
                  <a:moveTo>
                    <a:pt x="117" y="8868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117" y="886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535520" y="2419560"/>
              <a:ext cx="1440" cy="639720"/>
            </a:xfrm>
            <a:prstGeom prst="line">
              <a:avLst/>
            </a:prstGeom>
            <a:ln w="0">
              <a:solidFill>
                <a:srgbClr val="96c6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532640" y="2419560"/>
              <a:ext cx="7560" cy="639720"/>
            </a:xfrm>
            <a:custGeom>
              <a:avLst/>
              <a:gdLst/>
              <a:ahLst/>
              <a:rect l="l" t="t" r="r" b="b"/>
              <a:pathLst>
                <a:path w="116" h="8868">
                  <a:moveTo>
                    <a:pt x="116" y="8868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4" y="8868"/>
                  </a:lnTo>
                  <a:lnTo>
                    <a:pt x="116" y="8868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64280" y="2186280"/>
              <a:ext cx="704520" cy="64800"/>
            </a:xfrm>
            <a:custGeom>
              <a:avLst/>
              <a:gdLst/>
              <a:ahLst/>
              <a:rect l="l" t="t" r="r" b="b"/>
              <a:pathLst>
                <a:path w="9760" h="892">
                  <a:moveTo>
                    <a:pt x="9760" y="450"/>
                  </a:moveTo>
                  <a:lnTo>
                    <a:pt x="7259" y="0"/>
                  </a:lnTo>
                  <a:lnTo>
                    <a:pt x="7101" y="245"/>
                  </a:lnTo>
                  <a:lnTo>
                    <a:pt x="368" y="241"/>
                  </a:lnTo>
                  <a:lnTo>
                    <a:pt x="0" y="554"/>
                  </a:lnTo>
                  <a:lnTo>
                    <a:pt x="6835" y="552"/>
                  </a:lnTo>
                  <a:lnTo>
                    <a:pt x="6682" y="892"/>
                  </a:lnTo>
                  <a:lnTo>
                    <a:pt x="9760" y="4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792840" y="2411640"/>
              <a:ext cx="941040" cy="201600"/>
            </a:xfrm>
            <a:custGeom>
              <a:avLst/>
              <a:gdLst/>
              <a:ahLst/>
              <a:rect l="l" t="t" r="r" b="b"/>
              <a:pathLst>
                <a:path w="13044" h="2793">
                  <a:moveTo>
                    <a:pt x="13039" y="2793"/>
                  </a:moveTo>
                  <a:lnTo>
                    <a:pt x="0" y="2793"/>
                  </a:lnTo>
                  <a:lnTo>
                    <a:pt x="3" y="0"/>
                  </a:lnTo>
                  <a:lnTo>
                    <a:pt x="13044" y="0"/>
                  </a:lnTo>
                  <a:lnTo>
                    <a:pt x="13039" y="2793"/>
                  </a:lnTo>
                  <a:close/>
                </a:path>
              </a:pathLst>
            </a:custGeom>
            <a:solidFill>
              <a:srgbClr val="0c6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788160" y="2608560"/>
              <a:ext cx="945720" cy="7920"/>
            </a:xfrm>
            <a:custGeom>
              <a:avLst/>
              <a:gdLst/>
              <a:ahLst/>
              <a:rect l="l" t="t" r="r" b="b"/>
              <a:pathLst>
                <a:path w="13101" h="122">
                  <a:moveTo>
                    <a:pt x="0" y="61"/>
                  </a:moveTo>
                  <a:lnTo>
                    <a:pt x="62" y="122"/>
                  </a:lnTo>
                  <a:lnTo>
                    <a:pt x="13101" y="122"/>
                  </a:lnTo>
                  <a:lnTo>
                    <a:pt x="13101" y="0"/>
                  </a:lnTo>
                  <a:lnTo>
                    <a:pt x="62" y="0"/>
                  </a:lnTo>
                  <a:lnTo>
                    <a:pt x="0" y="61"/>
                  </a:lnTo>
                  <a:lnTo>
                    <a:pt x="0" y="122"/>
                  </a:lnTo>
                  <a:lnTo>
                    <a:pt x="62" y="12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88160" y="2406960"/>
              <a:ext cx="9000" cy="206280"/>
            </a:xfrm>
            <a:custGeom>
              <a:avLst/>
              <a:gdLst/>
              <a:ahLst/>
              <a:rect l="l" t="t" r="r" b="b"/>
              <a:pathLst>
                <a:path w="126" h="2855">
                  <a:moveTo>
                    <a:pt x="65" y="0"/>
                  </a:moveTo>
                  <a:lnTo>
                    <a:pt x="3" y="62"/>
                  </a:lnTo>
                  <a:lnTo>
                    <a:pt x="0" y="2855"/>
                  </a:lnTo>
                  <a:lnTo>
                    <a:pt x="123" y="2855"/>
                  </a:lnTo>
                  <a:lnTo>
                    <a:pt x="126" y="62"/>
                  </a:lnTo>
                  <a:lnTo>
                    <a:pt x="65" y="0"/>
                  </a:lnTo>
                  <a:lnTo>
                    <a:pt x="3" y="0"/>
                  </a:lnTo>
                  <a:lnTo>
                    <a:pt x="3" y="62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792840" y="2406960"/>
              <a:ext cx="945720" cy="7920"/>
            </a:xfrm>
            <a:custGeom>
              <a:avLst/>
              <a:gdLst/>
              <a:ahLst/>
              <a:rect l="l" t="t" r="r" b="b"/>
              <a:pathLst>
                <a:path w="13102" h="123">
                  <a:moveTo>
                    <a:pt x="13102" y="62"/>
                  </a:moveTo>
                  <a:lnTo>
                    <a:pt x="13041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13041" y="123"/>
                  </a:lnTo>
                  <a:lnTo>
                    <a:pt x="13102" y="62"/>
                  </a:lnTo>
                  <a:lnTo>
                    <a:pt x="13102" y="0"/>
                  </a:lnTo>
                  <a:lnTo>
                    <a:pt x="13041" y="0"/>
                  </a:lnTo>
                  <a:lnTo>
                    <a:pt x="13102" y="62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29200" y="2411640"/>
              <a:ext cx="9360" cy="204840"/>
            </a:xfrm>
            <a:custGeom>
              <a:avLst/>
              <a:gdLst/>
              <a:ahLst/>
              <a:rect l="l" t="t" r="r" b="b"/>
              <a:pathLst>
                <a:path w="127" h="2854">
                  <a:moveTo>
                    <a:pt x="61" y="2854"/>
                  </a:moveTo>
                  <a:lnTo>
                    <a:pt x="124" y="2793"/>
                  </a:lnTo>
                  <a:lnTo>
                    <a:pt x="127" y="0"/>
                  </a:lnTo>
                  <a:lnTo>
                    <a:pt x="3" y="0"/>
                  </a:lnTo>
                  <a:lnTo>
                    <a:pt x="0" y="2793"/>
                  </a:lnTo>
                  <a:lnTo>
                    <a:pt x="61" y="2854"/>
                  </a:lnTo>
                  <a:lnTo>
                    <a:pt x="124" y="2854"/>
                  </a:lnTo>
                  <a:lnTo>
                    <a:pt x="124" y="2793"/>
                  </a:lnTo>
                  <a:lnTo>
                    <a:pt x="61" y="2854"/>
                  </a:lnTo>
                  <a:close/>
                </a:path>
              </a:pathLst>
            </a:custGeom>
            <a:solidFill>
              <a:srgbClr val="ad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883200" y="2465640"/>
              <a:ext cx="126720" cy="87120"/>
            </a:xfrm>
            <a:custGeom>
              <a:avLst/>
              <a:gdLst/>
              <a:ahLst/>
              <a:rect l="l" t="t" r="r" b="b"/>
              <a:pathLst>
                <a:path w="1744" h="1211">
                  <a:moveTo>
                    <a:pt x="1742" y="1211"/>
                  </a:moveTo>
                  <a:lnTo>
                    <a:pt x="0" y="1211"/>
                  </a:lnTo>
                  <a:lnTo>
                    <a:pt x="1" y="0"/>
                  </a:lnTo>
                  <a:lnTo>
                    <a:pt x="1744" y="0"/>
                  </a:lnTo>
                  <a:lnTo>
                    <a:pt x="1742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841800" y="2583000"/>
              <a:ext cx="37800" cy="14400"/>
            </a:xfrm>
            <a:custGeom>
              <a:avLst/>
              <a:gdLst/>
              <a:ahLst/>
              <a:rect l="l" t="t" r="r" b="b"/>
              <a:pathLst>
                <a:path w="523" h="204">
                  <a:moveTo>
                    <a:pt x="523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3" y="0"/>
                  </a:lnTo>
                  <a:lnTo>
                    <a:pt x="52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919920" y="2583000"/>
              <a:ext cx="37440" cy="14400"/>
            </a:xfrm>
            <a:custGeom>
              <a:avLst/>
              <a:gdLst/>
              <a:ahLst/>
              <a:rect l="l" t="t" r="r" b="b"/>
              <a:pathLst>
                <a:path w="524" h="204">
                  <a:moveTo>
                    <a:pt x="524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4" y="0"/>
                  </a:lnTo>
                  <a:lnTo>
                    <a:pt x="524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995880" y="2583000"/>
              <a:ext cx="378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073640" y="2583000"/>
              <a:ext cx="37800" cy="14400"/>
            </a:xfrm>
            <a:custGeom>
              <a:avLst/>
              <a:gdLst/>
              <a:ahLst/>
              <a:rect l="l" t="t" r="r" b="b"/>
              <a:pathLst>
                <a:path w="524" h="204">
                  <a:moveTo>
                    <a:pt x="524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4" y="0"/>
                  </a:lnTo>
                  <a:lnTo>
                    <a:pt x="524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149960" y="2583000"/>
              <a:ext cx="37800" cy="14400"/>
            </a:xfrm>
            <a:custGeom>
              <a:avLst/>
              <a:gdLst/>
              <a:ahLst/>
              <a:rect l="l" t="t" r="r" b="b"/>
              <a:pathLst>
                <a:path w="523" h="204">
                  <a:moveTo>
                    <a:pt x="523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3" y="0"/>
                  </a:lnTo>
                  <a:lnTo>
                    <a:pt x="52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27720" y="2583000"/>
              <a:ext cx="37800" cy="14400"/>
            </a:xfrm>
            <a:custGeom>
              <a:avLst/>
              <a:gdLst/>
              <a:ahLst/>
              <a:rect l="l" t="t" r="r" b="b"/>
              <a:pathLst>
                <a:path w="522" h="204">
                  <a:moveTo>
                    <a:pt x="522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2" y="0"/>
                  </a:lnTo>
                  <a:lnTo>
                    <a:pt x="522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304040" y="2583000"/>
              <a:ext cx="37440" cy="14400"/>
            </a:xfrm>
            <a:custGeom>
              <a:avLst/>
              <a:gdLst/>
              <a:ahLst/>
              <a:rect l="l" t="t" r="r" b="b"/>
              <a:pathLst>
                <a:path w="523" h="204">
                  <a:moveTo>
                    <a:pt x="523" y="204"/>
                  </a:moveTo>
                  <a:lnTo>
                    <a:pt x="0" y="204"/>
                  </a:lnTo>
                  <a:lnTo>
                    <a:pt x="0" y="0"/>
                  </a:lnTo>
                  <a:lnTo>
                    <a:pt x="522" y="0"/>
                  </a:lnTo>
                  <a:lnTo>
                    <a:pt x="52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81800" y="2583000"/>
              <a:ext cx="37800" cy="14400"/>
            </a:xfrm>
            <a:custGeom>
              <a:avLst/>
              <a:gdLst/>
              <a:ahLst/>
              <a:rect l="l" t="t" r="r" b="b"/>
              <a:pathLst>
                <a:path w="523" h="204">
                  <a:moveTo>
                    <a:pt x="523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3" y="0"/>
                  </a:lnTo>
                  <a:lnTo>
                    <a:pt x="52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457760" y="2583000"/>
              <a:ext cx="37800" cy="14400"/>
            </a:xfrm>
            <a:custGeom>
              <a:avLst/>
              <a:gdLst/>
              <a:ahLst/>
              <a:rect l="l" t="t" r="r" b="b"/>
              <a:pathLst>
                <a:path w="523" h="204">
                  <a:moveTo>
                    <a:pt x="523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3" y="0"/>
                  </a:lnTo>
                  <a:lnTo>
                    <a:pt x="52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35520" y="2583000"/>
              <a:ext cx="37800" cy="14400"/>
            </a:xfrm>
            <a:custGeom>
              <a:avLst/>
              <a:gdLst/>
              <a:ahLst/>
              <a:rect l="l" t="t" r="r" b="b"/>
              <a:pathLst>
                <a:path w="523" h="204">
                  <a:moveTo>
                    <a:pt x="523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3" y="0"/>
                  </a:lnTo>
                  <a:lnTo>
                    <a:pt x="52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611840" y="2583000"/>
              <a:ext cx="37800" cy="14400"/>
            </a:xfrm>
            <a:custGeom>
              <a:avLst/>
              <a:gdLst/>
              <a:ahLst/>
              <a:rect l="l" t="t" r="r" b="b"/>
              <a:pathLst>
                <a:path w="523" h="204">
                  <a:moveTo>
                    <a:pt x="523" y="204"/>
                  </a:moveTo>
                  <a:lnTo>
                    <a:pt x="1" y="204"/>
                  </a:lnTo>
                  <a:lnTo>
                    <a:pt x="0" y="0"/>
                  </a:lnTo>
                  <a:lnTo>
                    <a:pt x="522" y="0"/>
                  </a:lnTo>
                  <a:lnTo>
                    <a:pt x="52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45040" y="2425680"/>
              <a:ext cx="37800" cy="14400"/>
            </a:xfrm>
            <a:custGeom>
              <a:avLst/>
              <a:gdLst/>
              <a:ahLst/>
              <a:rect l="l" t="t" r="r" b="b"/>
              <a:pathLst>
                <a:path w="523" h="203">
                  <a:moveTo>
                    <a:pt x="523" y="203"/>
                  </a:moveTo>
                  <a:lnTo>
                    <a:pt x="1" y="203"/>
                  </a:lnTo>
                  <a:lnTo>
                    <a:pt x="0" y="0"/>
                  </a:lnTo>
                  <a:lnTo>
                    <a:pt x="523" y="0"/>
                  </a:lnTo>
                  <a:lnTo>
                    <a:pt x="523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921360" y="2425680"/>
              <a:ext cx="37800" cy="14400"/>
            </a:xfrm>
            <a:custGeom>
              <a:avLst/>
              <a:gdLst/>
              <a:ahLst/>
              <a:rect l="l" t="t" r="r" b="b"/>
              <a:pathLst>
                <a:path w="524" h="203">
                  <a:moveTo>
                    <a:pt x="524" y="203"/>
                  </a:moveTo>
                  <a:lnTo>
                    <a:pt x="1" y="203"/>
                  </a:lnTo>
                  <a:lnTo>
                    <a:pt x="0" y="0"/>
                  </a:lnTo>
                  <a:lnTo>
                    <a:pt x="524" y="0"/>
                  </a:lnTo>
                  <a:lnTo>
                    <a:pt x="52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999120" y="2425680"/>
              <a:ext cx="36000" cy="14400"/>
            </a:xfrm>
            <a:custGeom>
              <a:avLst/>
              <a:gdLst/>
              <a:ahLst/>
              <a:rect l="l" t="t" r="r" b="b"/>
              <a:pathLst>
                <a:path w="524" h="203">
                  <a:moveTo>
                    <a:pt x="524" y="203"/>
                  </a:moveTo>
                  <a:lnTo>
                    <a:pt x="2" y="203"/>
                  </a:lnTo>
                  <a:lnTo>
                    <a:pt x="0" y="0"/>
                  </a:lnTo>
                  <a:lnTo>
                    <a:pt x="523" y="0"/>
                  </a:lnTo>
                  <a:lnTo>
                    <a:pt x="52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75440" y="2425680"/>
              <a:ext cx="37440" cy="14400"/>
            </a:xfrm>
            <a:custGeom>
              <a:avLst/>
              <a:gdLst/>
              <a:ahLst/>
              <a:rect l="l" t="t" r="r" b="b"/>
              <a:pathLst>
                <a:path w="523" h="203">
                  <a:moveTo>
                    <a:pt x="523" y="203"/>
                  </a:moveTo>
                  <a:lnTo>
                    <a:pt x="1" y="203"/>
                  </a:lnTo>
                  <a:lnTo>
                    <a:pt x="0" y="0"/>
                  </a:lnTo>
                  <a:lnTo>
                    <a:pt x="523" y="0"/>
                  </a:lnTo>
                  <a:lnTo>
                    <a:pt x="523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53200" y="2425680"/>
              <a:ext cx="360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229160" y="2425680"/>
              <a:ext cx="37800" cy="14400"/>
            </a:xfrm>
            <a:custGeom>
              <a:avLst/>
              <a:gdLst/>
              <a:ahLst/>
              <a:rect l="l" t="t" r="r" b="b"/>
              <a:pathLst>
                <a:path w="523" h="203">
                  <a:moveTo>
                    <a:pt x="522" y="203"/>
                  </a:moveTo>
                  <a:lnTo>
                    <a:pt x="0" y="203"/>
                  </a:lnTo>
                  <a:lnTo>
                    <a:pt x="0" y="0"/>
                  </a:lnTo>
                  <a:lnTo>
                    <a:pt x="523" y="0"/>
                  </a:lnTo>
                  <a:lnTo>
                    <a:pt x="522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06920" y="2425680"/>
              <a:ext cx="36360" cy="14400"/>
            </a:xfrm>
            <a:custGeom>
              <a:avLst/>
              <a:gdLst/>
              <a:ahLst/>
              <a:rect l="l" t="t" r="r" b="b"/>
              <a:pathLst>
                <a:path w="523" h="203">
                  <a:moveTo>
                    <a:pt x="522" y="203"/>
                  </a:moveTo>
                  <a:lnTo>
                    <a:pt x="0" y="203"/>
                  </a:lnTo>
                  <a:lnTo>
                    <a:pt x="0" y="0"/>
                  </a:lnTo>
                  <a:lnTo>
                    <a:pt x="523" y="0"/>
                  </a:lnTo>
                  <a:lnTo>
                    <a:pt x="522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383240" y="2425680"/>
              <a:ext cx="37800" cy="14400"/>
            </a:xfrm>
            <a:custGeom>
              <a:avLst/>
              <a:gdLst/>
              <a:ahLst/>
              <a:rect l="l" t="t" r="r" b="b"/>
              <a:pathLst>
                <a:path w="524" h="203">
                  <a:moveTo>
                    <a:pt x="524" y="203"/>
                  </a:moveTo>
                  <a:lnTo>
                    <a:pt x="1" y="203"/>
                  </a:lnTo>
                  <a:lnTo>
                    <a:pt x="0" y="0"/>
                  </a:lnTo>
                  <a:lnTo>
                    <a:pt x="524" y="0"/>
                  </a:lnTo>
                  <a:lnTo>
                    <a:pt x="52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61000" y="2425680"/>
              <a:ext cx="363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537320" y="2425680"/>
              <a:ext cx="37800" cy="14400"/>
            </a:xfrm>
            <a:custGeom>
              <a:avLst/>
              <a:gdLst/>
              <a:ahLst/>
              <a:rect l="l" t="t" r="r" b="b"/>
              <a:pathLst>
                <a:path w="524" h="203">
                  <a:moveTo>
                    <a:pt x="522" y="203"/>
                  </a:moveTo>
                  <a:lnTo>
                    <a:pt x="1" y="203"/>
                  </a:lnTo>
                  <a:lnTo>
                    <a:pt x="0" y="0"/>
                  </a:lnTo>
                  <a:lnTo>
                    <a:pt x="524" y="0"/>
                  </a:lnTo>
                  <a:lnTo>
                    <a:pt x="522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615080" y="2425680"/>
              <a:ext cx="360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89480" y="2465640"/>
              <a:ext cx="125280" cy="87120"/>
            </a:xfrm>
            <a:custGeom>
              <a:avLst/>
              <a:gdLst/>
              <a:ahLst/>
              <a:rect l="l" t="t" r="r" b="b"/>
              <a:pathLst>
                <a:path w="1743" h="1211">
                  <a:moveTo>
                    <a:pt x="1741" y="1211"/>
                  </a:moveTo>
                  <a:lnTo>
                    <a:pt x="0" y="1211"/>
                  </a:lnTo>
                  <a:lnTo>
                    <a:pt x="2" y="0"/>
                  </a:lnTo>
                  <a:lnTo>
                    <a:pt x="1743" y="0"/>
                  </a:lnTo>
                  <a:lnTo>
                    <a:pt x="1741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94320" y="2465640"/>
              <a:ext cx="125280" cy="87120"/>
            </a:xfrm>
            <a:custGeom>
              <a:avLst/>
              <a:gdLst/>
              <a:ahLst/>
              <a:rect l="l" t="t" r="r" b="b"/>
              <a:pathLst>
                <a:path w="1743" h="1211">
                  <a:moveTo>
                    <a:pt x="1741" y="1211"/>
                  </a:moveTo>
                  <a:lnTo>
                    <a:pt x="0" y="1211"/>
                  </a:lnTo>
                  <a:lnTo>
                    <a:pt x="1" y="0"/>
                  </a:lnTo>
                  <a:lnTo>
                    <a:pt x="1743" y="0"/>
                  </a:lnTo>
                  <a:lnTo>
                    <a:pt x="1741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99160" y="2465640"/>
              <a:ext cx="126720" cy="87120"/>
            </a:xfrm>
            <a:custGeom>
              <a:avLst/>
              <a:gdLst/>
              <a:ahLst/>
              <a:rect l="l" t="t" r="r" b="b"/>
              <a:pathLst>
                <a:path w="1745" h="1211">
                  <a:moveTo>
                    <a:pt x="1742" y="1211"/>
                  </a:moveTo>
                  <a:lnTo>
                    <a:pt x="0" y="1211"/>
                  </a:lnTo>
                  <a:lnTo>
                    <a:pt x="2" y="0"/>
                  </a:lnTo>
                  <a:lnTo>
                    <a:pt x="1745" y="0"/>
                  </a:lnTo>
                  <a:lnTo>
                    <a:pt x="1742" y="1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2025720" y="3211560"/>
            <a:ext cx="1216080" cy="704880"/>
            <a:chOff x="2025720" y="3211560"/>
            <a:chExt cx="1216080" cy="704880"/>
          </a:xfrm>
        </p:grpSpPr>
        <p:sp>
          <p:nvSpPr>
            <p:cNvPr id="1297" name=""/>
            <p:cNvSpPr/>
            <p:nvPr/>
          </p:nvSpPr>
          <p:spPr>
            <a:xfrm>
              <a:off x="2027520" y="3314520"/>
              <a:ext cx="1103040" cy="601920"/>
            </a:xfrm>
            <a:prstGeom prst="rect">
              <a:avLst/>
            </a:pr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027520" y="3314520"/>
              <a:ext cx="1103040" cy="601920"/>
            </a:xfrm>
            <a:prstGeom prst="rect">
              <a:avLst/>
            </a:prstGeom>
            <a:noFill/>
            <a:ln w="7920">
              <a:solidFill>
                <a:srgbClr val="add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130560" y="3211560"/>
              <a:ext cx="111240" cy="704880"/>
            </a:xfrm>
            <a:custGeom>
              <a:avLst/>
              <a:gdLst/>
              <a:ahLst/>
              <a:rect l="l" t="t" r="r" b="b"/>
              <a:pathLst>
                <a:path w="1473" h="9329">
                  <a:moveTo>
                    <a:pt x="0" y="1365"/>
                  </a:moveTo>
                  <a:lnTo>
                    <a:pt x="0" y="9329"/>
                  </a:lnTo>
                  <a:lnTo>
                    <a:pt x="1473" y="7631"/>
                  </a:lnTo>
                  <a:lnTo>
                    <a:pt x="1473" y="0"/>
                  </a:lnTo>
                  <a:lnTo>
                    <a:pt x="0" y="1365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30560" y="3211560"/>
              <a:ext cx="111240" cy="704880"/>
            </a:xfrm>
            <a:custGeom>
              <a:avLst/>
              <a:gdLst/>
              <a:ahLst/>
              <a:rect l="l" t="t" r="r" b="b"/>
              <a:pathLst>
                <a:path w="1473" h="9329">
                  <a:moveTo>
                    <a:pt x="0" y="1365"/>
                  </a:moveTo>
                  <a:lnTo>
                    <a:pt x="0" y="9329"/>
                  </a:lnTo>
                  <a:lnTo>
                    <a:pt x="1473" y="7631"/>
                  </a:lnTo>
                  <a:lnTo>
                    <a:pt x="1473" y="0"/>
                  </a:lnTo>
                  <a:lnTo>
                    <a:pt x="0" y="1365"/>
                  </a:lnTo>
                  <a:close/>
                </a:path>
              </a:pathLst>
            </a:custGeom>
            <a:noFill/>
            <a:ln w="792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025720" y="3211560"/>
              <a:ext cx="1216080" cy="102960"/>
            </a:xfrm>
            <a:custGeom>
              <a:avLst/>
              <a:gdLst/>
              <a:ahLst/>
              <a:rect l="l" t="t" r="r" b="b"/>
              <a:pathLst>
                <a:path w="16103" h="1373">
                  <a:moveTo>
                    <a:pt x="0" y="1373"/>
                  </a:moveTo>
                  <a:lnTo>
                    <a:pt x="1311" y="0"/>
                  </a:lnTo>
                  <a:lnTo>
                    <a:pt x="16103" y="0"/>
                  </a:lnTo>
                  <a:lnTo>
                    <a:pt x="14630" y="1373"/>
                  </a:lnTo>
                  <a:lnTo>
                    <a:pt x="0" y="1373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025720" y="3211560"/>
              <a:ext cx="1216080" cy="102960"/>
            </a:xfrm>
            <a:custGeom>
              <a:avLst/>
              <a:gdLst/>
              <a:ahLst/>
              <a:rect l="l" t="t" r="r" b="b"/>
              <a:pathLst>
                <a:path w="16103" h="1373">
                  <a:moveTo>
                    <a:pt x="0" y="1373"/>
                  </a:moveTo>
                  <a:lnTo>
                    <a:pt x="1311" y="0"/>
                  </a:lnTo>
                  <a:lnTo>
                    <a:pt x="16103" y="0"/>
                  </a:lnTo>
                  <a:lnTo>
                    <a:pt x="14630" y="1373"/>
                  </a:lnTo>
                  <a:lnTo>
                    <a:pt x="0" y="1373"/>
                  </a:lnTo>
                  <a:close/>
                </a:path>
              </a:pathLst>
            </a:custGeom>
            <a:noFill/>
            <a:ln w="7920">
              <a:solidFill>
                <a:srgbClr val="add7e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449800" y="3687840"/>
              <a:ext cx="258480" cy="98280"/>
            </a:xfrm>
            <a:custGeom>
              <a:avLst/>
              <a:gdLst/>
              <a:ahLst/>
              <a:rect l="l" t="t" r="r" b="b"/>
              <a:pathLst>
                <a:path w="3419" h="1294">
                  <a:moveTo>
                    <a:pt x="3419" y="648"/>
                  </a:moveTo>
                  <a:lnTo>
                    <a:pt x="3416" y="680"/>
                  </a:lnTo>
                  <a:lnTo>
                    <a:pt x="3410" y="714"/>
                  </a:lnTo>
                  <a:lnTo>
                    <a:pt x="3399" y="746"/>
                  </a:lnTo>
                  <a:lnTo>
                    <a:pt x="3383" y="778"/>
                  </a:lnTo>
                  <a:lnTo>
                    <a:pt x="3364" y="809"/>
                  </a:lnTo>
                  <a:lnTo>
                    <a:pt x="3342" y="840"/>
                  </a:lnTo>
                  <a:lnTo>
                    <a:pt x="3315" y="870"/>
                  </a:lnTo>
                  <a:lnTo>
                    <a:pt x="3284" y="900"/>
                  </a:lnTo>
                  <a:lnTo>
                    <a:pt x="3250" y="928"/>
                  </a:lnTo>
                  <a:lnTo>
                    <a:pt x="3212" y="955"/>
                  </a:lnTo>
                  <a:lnTo>
                    <a:pt x="3171" y="983"/>
                  </a:lnTo>
                  <a:lnTo>
                    <a:pt x="3126" y="1009"/>
                  </a:lnTo>
                  <a:lnTo>
                    <a:pt x="3078" y="1035"/>
                  </a:lnTo>
                  <a:lnTo>
                    <a:pt x="3028" y="1059"/>
                  </a:lnTo>
                  <a:lnTo>
                    <a:pt x="2974" y="1082"/>
                  </a:lnTo>
                  <a:lnTo>
                    <a:pt x="2917" y="1105"/>
                  </a:lnTo>
                  <a:lnTo>
                    <a:pt x="2859" y="1127"/>
                  </a:lnTo>
                  <a:lnTo>
                    <a:pt x="2797" y="1147"/>
                  </a:lnTo>
                  <a:lnTo>
                    <a:pt x="2732" y="1167"/>
                  </a:lnTo>
                  <a:lnTo>
                    <a:pt x="2665" y="1184"/>
                  </a:lnTo>
                  <a:lnTo>
                    <a:pt x="2595" y="1201"/>
                  </a:lnTo>
                  <a:lnTo>
                    <a:pt x="2524" y="1216"/>
                  </a:lnTo>
                  <a:lnTo>
                    <a:pt x="2450" y="1231"/>
                  </a:lnTo>
                  <a:lnTo>
                    <a:pt x="2374" y="1244"/>
                  </a:lnTo>
                  <a:lnTo>
                    <a:pt x="2297" y="1255"/>
                  </a:lnTo>
                  <a:lnTo>
                    <a:pt x="2217" y="1266"/>
                  </a:lnTo>
                  <a:lnTo>
                    <a:pt x="2136" y="1274"/>
                  </a:lnTo>
                  <a:lnTo>
                    <a:pt x="2054" y="1281"/>
                  </a:lnTo>
                  <a:lnTo>
                    <a:pt x="1970" y="1287"/>
                  </a:lnTo>
                  <a:lnTo>
                    <a:pt x="1884" y="1291"/>
                  </a:lnTo>
                  <a:lnTo>
                    <a:pt x="1798" y="1293"/>
                  </a:lnTo>
                  <a:lnTo>
                    <a:pt x="1710" y="1294"/>
                  </a:lnTo>
                  <a:lnTo>
                    <a:pt x="1621" y="1293"/>
                  </a:lnTo>
                  <a:lnTo>
                    <a:pt x="1534" y="1291"/>
                  </a:lnTo>
                  <a:lnTo>
                    <a:pt x="1449" y="1287"/>
                  </a:lnTo>
                  <a:lnTo>
                    <a:pt x="1365" y="1281"/>
                  </a:lnTo>
                  <a:lnTo>
                    <a:pt x="1282" y="1274"/>
                  </a:lnTo>
                  <a:lnTo>
                    <a:pt x="1201" y="1266"/>
                  </a:lnTo>
                  <a:lnTo>
                    <a:pt x="1122" y="1255"/>
                  </a:lnTo>
                  <a:lnTo>
                    <a:pt x="1044" y="1244"/>
                  </a:lnTo>
                  <a:lnTo>
                    <a:pt x="969" y="1231"/>
                  </a:lnTo>
                  <a:lnTo>
                    <a:pt x="895" y="1216"/>
                  </a:lnTo>
                  <a:lnTo>
                    <a:pt x="823" y="1201"/>
                  </a:lnTo>
                  <a:lnTo>
                    <a:pt x="754" y="1184"/>
                  </a:lnTo>
                  <a:lnTo>
                    <a:pt x="687" y="1167"/>
                  </a:lnTo>
                  <a:lnTo>
                    <a:pt x="622" y="1147"/>
                  </a:lnTo>
                  <a:lnTo>
                    <a:pt x="560" y="1127"/>
                  </a:lnTo>
                  <a:lnTo>
                    <a:pt x="501" y="1105"/>
                  </a:lnTo>
                  <a:lnTo>
                    <a:pt x="444" y="1082"/>
                  </a:lnTo>
                  <a:lnTo>
                    <a:pt x="390" y="1059"/>
                  </a:lnTo>
                  <a:lnTo>
                    <a:pt x="340" y="1035"/>
                  </a:lnTo>
                  <a:lnTo>
                    <a:pt x="292" y="1009"/>
                  </a:lnTo>
                  <a:lnTo>
                    <a:pt x="247" y="983"/>
                  </a:lnTo>
                  <a:lnTo>
                    <a:pt x="206" y="955"/>
                  </a:lnTo>
                  <a:lnTo>
                    <a:pt x="168" y="928"/>
                  </a:lnTo>
                  <a:lnTo>
                    <a:pt x="134" y="900"/>
                  </a:lnTo>
                  <a:lnTo>
                    <a:pt x="104" y="870"/>
                  </a:lnTo>
                  <a:lnTo>
                    <a:pt x="77" y="840"/>
                  </a:lnTo>
                  <a:lnTo>
                    <a:pt x="54" y="809"/>
                  </a:lnTo>
                  <a:lnTo>
                    <a:pt x="35" y="778"/>
                  </a:lnTo>
                  <a:lnTo>
                    <a:pt x="19" y="746"/>
                  </a:lnTo>
                  <a:lnTo>
                    <a:pt x="9" y="714"/>
                  </a:lnTo>
                  <a:lnTo>
                    <a:pt x="2" y="680"/>
                  </a:lnTo>
                  <a:lnTo>
                    <a:pt x="0" y="648"/>
                  </a:lnTo>
                  <a:lnTo>
                    <a:pt x="2" y="614"/>
                  </a:lnTo>
                  <a:lnTo>
                    <a:pt x="9" y="581"/>
                  </a:lnTo>
                  <a:lnTo>
                    <a:pt x="19" y="549"/>
                  </a:lnTo>
                  <a:lnTo>
                    <a:pt x="35" y="517"/>
                  </a:lnTo>
                  <a:lnTo>
                    <a:pt x="54" y="486"/>
                  </a:lnTo>
                  <a:lnTo>
                    <a:pt x="77" y="455"/>
                  </a:lnTo>
                  <a:lnTo>
                    <a:pt x="104" y="426"/>
                  </a:lnTo>
                  <a:lnTo>
                    <a:pt x="134" y="396"/>
                  </a:lnTo>
                  <a:lnTo>
                    <a:pt x="168" y="367"/>
                  </a:lnTo>
                  <a:lnTo>
                    <a:pt x="206" y="339"/>
                  </a:lnTo>
                  <a:lnTo>
                    <a:pt x="247" y="312"/>
                  </a:lnTo>
                  <a:lnTo>
                    <a:pt x="292" y="286"/>
                  </a:lnTo>
                  <a:lnTo>
                    <a:pt x="340" y="260"/>
                  </a:lnTo>
                  <a:lnTo>
                    <a:pt x="390" y="236"/>
                  </a:lnTo>
                  <a:lnTo>
                    <a:pt x="444" y="212"/>
                  </a:lnTo>
                  <a:lnTo>
                    <a:pt x="501" y="190"/>
                  </a:lnTo>
                  <a:lnTo>
                    <a:pt x="560" y="169"/>
                  </a:lnTo>
                  <a:lnTo>
                    <a:pt x="622" y="149"/>
                  </a:lnTo>
                  <a:lnTo>
                    <a:pt x="687" y="129"/>
                  </a:lnTo>
                  <a:lnTo>
                    <a:pt x="754" y="111"/>
                  </a:lnTo>
                  <a:lnTo>
                    <a:pt x="823" y="94"/>
                  </a:lnTo>
                  <a:lnTo>
                    <a:pt x="895" y="78"/>
                  </a:lnTo>
                  <a:lnTo>
                    <a:pt x="969" y="64"/>
                  </a:lnTo>
                  <a:lnTo>
                    <a:pt x="1044" y="51"/>
                  </a:lnTo>
                  <a:lnTo>
                    <a:pt x="1122" y="40"/>
                  </a:lnTo>
                  <a:lnTo>
                    <a:pt x="1201" y="30"/>
                  </a:lnTo>
                  <a:lnTo>
                    <a:pt x="1282" y="21"/>
                  </a:lnTo>
                  <a:lnTo>
                    <a:pt x="1365" y="14"/>
                  </a:lnTo>
                  <a:lnTo>
                    <a:pt x="1449" y="7"/>
                  </a:lnTo>
                  <a:lnTo>
                    <a:pt x="1534" y="3"/>
                  </a:lnTo>
                  <a:lnTo>
                    <a:pt x="1621" y="1"/>
                  </a:lnTo>
                  <a:lnTo>
                    <a:pt x="1710" y="0"/>
                  </a:lnTo>
                  <a:lnTo>
                    <a:pt x="1798" y="1"/>
                  </a:lnTo>
                  <a:lnTo>
                    <a:pt x="1884" y="3"/>
                  </a:lnTo>
                  <a:lnTo>
                    <a:pt x="1970" y="7"/>
                  </a:lnTo>
                  <a:lnTo>
                    <a:pt x="2054" y="14"/>
                  </a:lnTo>
                  <a:lnTo>
                    <a:pt x="2136" y="21"/>
                  </a:lnTo>
                  <a:lnTo>
                    <a:pt x="2217" y="30"/>
                  </a:lnTo>
                  <a:lnTo>
                    <a:pt x="2297" y="40"/>
                  </a:lnTo>
                  <a:lnTo>
                    <a:pt x="2374" y="51"/>
                  </a:lnTo>
                  <a:lnTo>
                    <a:pt x="2450" y="64"/>
                  </a:lnTo>
                  <a:lnTo>
                    <a:pt x="2524" y="78"/>
                  </a:lnTo>
                  <a:lnTo>
                    <a:pt x="2595" y="94"/>
                  </a:lnTo>
                  <a:lnTo>
                    <a:pt x="2665" y="111"/>
                  </a:lnTo>
                  <a:lnTo>
                    <a:pt x="2732" y="129"/>
                  </a:lnTo>
                  <a:lnTo>
                    <a:pt x="2797" y="149"/>
                  </a:lnTo>
                  <a:lnTo>
                    <a:pt x="2859" y="169"/>
                  </a:lnTo>
                  <a:lnTo>
                    <a:pt x="2917" y="190"/>
                  </a:lnTo>
                  <a:lnTo>
                    <a:pt x="2974" y="212"/>
                  </a:lnTo>
                  <a:lnTo>
                    <a:pt x="3028" y="236"/>
                  </a:lnTo>
                  <a:lnTo>
                    <a:pt x="3078" y="260"/>
                  </a:lnTo>
                  <a:lnTo>
                    <a:pt x="3126" y="286"/>
                  </a:lnTo>
                  <a:lnTo>
                    <a:pt x="3171" y="312"/>
                  </a:lnTo>
                  <a:lnTo>
                    <a:pt x="3212" y="339"/>
                  </a:lnTo>
                  <a:lnTo>
                    <a:pt x="3250" y="367"/>
                  </a:lnTo>
                  <a:lnTo>
                    <a:pt x="3284" y="396"/>
                  </a:lnTo>
                  <a:lnTo>
                    <a:pt x="3315" y="426"/>
                  </a:lnTo>
                  <a:lnTo>
                    <a:pt x="3342" y="455"/>
                  </a:lnTo>
                  <a:lnTo>
                    <a:pt x="3364" y="486"/>
                  </a:lnTo>
                  <a:lnTo>
                    <a:pt x="3383" y="517"/>
                  </a:lnTo>
                  <a:lnTo>
                    <a:pt x="3399" y="549"/>
                  </a:lnTo>
                  <a:lnTo>
                    <a:pt x="3410" y="581"/>
                  </a:lnTo>
                  <a:lnTo>
                    <a:pt x="3416" y="614"/>
                  </a:lnTo>
                  <a:lnTo>
                    <a:pt x="3419" y="648"/>
                  </a:lnTo>
                  <a:close/>
                </a:path>
              </a:pathLst>
            </a:custGeom>
            <a:solidFill>
              <a:srgbClr val="009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449800" y="3701880"/>
              <a:ext cx="258480" cy="98640"/>
            </a:xfrm>
            <a:custGeom>
              <a:avLst/>
              <a:gdLst/>
              <a:ahLst/>
              <a:rect l="l" t="t" r="r" b="b"/>
              <a:pathLst>
                <a:path w="3419" h="1294">
                  <a:moveTo>
                    <a:pt x="3419" y="648"/>
                  </a:moveTo>
                  <a:lnTo>
                    <a:pt x="3416" y="680"/>
                  </a:lnTo>
                  <a:lnTo>
                    <a:pt x="3410" y="714"/>
                  </a:lnTo>
                  <a:lnTo>
                    <a:pt x="3399" y="746"/>
                  </a:lnTo>
                  <a:lnTo>
                    <a:pt x="3383" y="778"/>
                  </a:lnTo>
                  <a:lnTo>
                    <a:pt x="3364" y="809"/>
                  </a:lnTo>
                  <a:lnTo>
                    <a:pt x="3342" y="840"/>
                  </a:lnTo>
                  <a:lnTo>
                    <a:pt x="3315" y="870"/>
                  </a:lnTo>
                  <a:lnTo>
                    <a:pt x="3284" y="900"/>
                  </a:lnTo>
                  <a:lnTo>
                    <a:pt x="3250" y="928"/>
                  </a:lnTo>
                  <a:lnTo>
                    <a:pt x="3212" y="956"/>
                  </a:lnTo>
                  <a:lnTo>
                    <a:pt x="3171" y="983"/>
                  </a:lnTo>
                  <a:lnTo>
                    <a:pt x="3126" y="1009"/>
                  </a:lnTo>
                  <a:lnTo>
                    <a:pt x="3078" y="1035"/>
                  </a:lnTo>
                  <a:lnTo>
                    <a:pt x="3028" y="1059"/>
                  </a:lnTo>
                  <a:lnTo>
                    <a:pt x="2974" y="1082"/>
                  </a:lnTo>
                  <a:lnTo>
                    <a:pt x="2917" y="1105"/>
                  </a:lnTo>
                  <a:lnTo>
                    <a:pt x="2859" y="1127"/>
                  </a:lnTo>
                  <a:lnTo>
                    <a:pt x="2797" y="1147"/>
                  </a:lnTo>
                  <a:lnTo>
                    <a:pt x="2732" y="1166"/>
                  </a:lnTo>
                  <a:lnTo>
                    <a:pt x="2665" y="1184"/>
                  </a:lnTo>
                  <a:lnTo>
                    <a:pt x="2595" y="1201"/>
                  </a:lnTo>
                  <a:lnTo>
                    <a:pt x="2524" y="1216"/>
                  </a:lnTo>
                  <a:lnTo>
                    <a:pt x="2450" y="1230"/>
                  </a:lnTo>
                  <a:lnTo>
                    <a:pt x="2374" y="1244"/>
                  </a:lnTo>
                  <a:lnTo>
                    <a:pt x="2297" y="1256"/>
                  </a:lnTo>
                  <a:lnTo>
                    <a:pt x="2217" y="1266"/>
                  </a:lnTo>
                  <a:lnTo>
                    <a:pt x="2136" y="1274"/>
                  </a:lnTo>
                  <a:lnTo>
                    <a:pt x="2054" y="1281"/>
                  </a:lnTo>
                  <a:lnTo>
                    <a:pt x="1970" y="1287"/>
                  </a:lnTo>
                  <a:lnTo>
                    <a:pt x="1884" y="1291"/>
                  </a:lnTo>
                  <a:lnTo>
                    <a:pt x="1798" y="1293"/>
                  </a:lnTo>
                  <a:lnTo>
                    <a:pt x="1710" y="1294"/>
                  </a:lnTo>
                  <a:lnTo>
                    <a:pt x="1621" y="1293"/>
                  </a:lnTo>
                  <a:lnTo>
                    <a:pt x="1534" y="1291"/>
                  </a:lnTo>
                  <a:lnTo>
                    <a:pt x="1449" y="1287"/>
                  </a:lnTo>
                  <a:lnTo>
                    <a:pt x="1365" y="1281"/>
                  </a:lnTo>
                  <a:lnTo>
                    <a:pt x="1282" y="1274"/>
                  </a:lnTo>
                  <a:lnTo>
                    <a:pt x="1201" y="1266"/>
                  </a:lnTo>
                  <a:lnTo>
                    <a:pt x="1122" y="1256"/>
                  </a:lnTo>
                  <a:lnTo>
                    <a:pt x="1044" y="1244"/>
                  </a:lnTo>
                  <a:lnTo>
                    <a:pt x="969" y="1230"/>
                  </a:lnTo>
                  <a:lnTo>
                    <a:pt x="895" y="1216"/>
                  </a:lnTo>
                  <a:lnTo>
                    <a:pt x="823" y="1201"/>
                  </a:lnTo>
                  <a:lnTo>
                    <a:pt x="754" y="1184"/>
                  </a:lnTo>
                  <a:lnTo>
                    <a:pt x="687" y="1166"/>
                  </a:lnTo>
                  <a:lnTo>
                    <a:pt x="622" y="1147"/>
                  </a:lnTo>
                  <a:lnTo>
                    <a:pt x="560" y="1127"/>
                  </a:lnTo>
                  <a:lnTo>
                    <a:pt x="501" y="1105"/>
                  </a:lnTo>
                  <a:lnTo>
                    <a:pt x="444" y="1082"/>
                  </a:lnTo>
                  <a:lnTo>
                    <a:pt x="390" y="1059"/>
                  </a:lnTo>
                  <a:lnTo>
                    <a:pt x="340" y="1035"/>
                  </a:lnTo>
                  <a:lnTo>
                    <a:pt x="292" y="1009"/>
                  </a:lnTo>
                  <a:lnTo>
                    <a:pt x="247" y="983"/>
                  </a:lnTo>
                  <a:lnTo>
                    <a:pt x="206" y="956"/>
                  </a:lnTo>
                  <a:lnTo>
                    <a:pt x="168" y="928"/>
                  </a:lnTo>
                  <a:lnTo>
                    <a:pt x="134" y="900"/>
                  </a:lnTo>
                  <a:lnTo>
                    <a:pt x="104" y="870"/>
                  </a:lnTo>
                  <a:lnTo>
                    <a:pt x="77" y="840"/>
                  </a:lnTo>
                  <a:lnTo>
                    <a:pt x="54" y="809"/>
                  </a:lnTo>
                  <a:lnTo>
                    <a:pt x="35" y="778"/>
                  </a:lnTo>
                  <a:lnTo>
                    <a:pt x="19" y="746"/>
                  </a:lnTo>
                  <a:lnTo>
                    <a:pt x="9" y="714"/>
                  </a:lnTo>
                  <a:lnTo>
                    <a:pt x="2" y="680"/>
                  </a:lnTo>
                  <a:lnTo>
                    <a:pt x="0" y="648"/>
                  </a:lnTo>
                  <a:lnTo>
                    <a:pt x="2" y="614"/>
                  </a:lnTo>
                  <a:lnTo>
                    <a:pt x="9" y="582"/>
                  </a:lnTo>
                  <a:lnTo>
                    <a:pt x="19" y="549"/>
                  </a:lnTo>
                  <a:lnTo>
                    <a:pt x="35" y="517"/>
                  </a:lnTo>
                  <a:lnTo>
                    <a:pt x="54" y="485"/>
                  </a:lnTo>
                  <a:lnTo>
                    <a:pt x="77" y="455"/>
                  </a:lnTo>
                  <a:lnTo>
                    <a:pt x="104" y="426"/>
                  </a:lnTo>
                  <a:lnTo>
                    <a:pt x="134" y="396"/>
                  </a:lnTo>
                  <a:lnTo>
                    <a:pt x="168" y="367"/>
                  </a:lnTo>
                  <a:lnTo>
                    <a:pt x="206" y="339"/>
                  </a:lnTo>
                  <a:lnTo>
                    <a:pt x="247" y="312"/>
                  </a:lnTo>
                  <a:lnTo>
                    <a:pt x="292" y="285"/>
                  </a:lnTo>
                  <a:lnTo>
                    <a:pt x="340" y="260"/>
                  </a:lnTo>
                  <a:lnTo>
                    <a:pt x="390" y="236"/>
                  </a:lnTo>
                  <a:lnTo>
                    <a:pt x="444" y="212"/>
                  </a:lnTo>
                  <a:lnTo>
                    <a:pt x="501" y="190"/>
                  </a:lnTo>
                  <a:lnTo>
                    <a:pt x="560" y="169"/>
                  </a:lnTo>
                  <a:lnTo>
                    <a:pt x="622" y="148"/>
                  </a:lnTo>
                  <a:lnTo>
                    <a:pt x="687" y="129"/>
                  </a:lnTo>
                  <a:lnTo>
                    <a:pt x="754" y="111"/>
                  </a:lnTo>
                  <a:lnTo>
                    <a:pt x="823" y="95"/>
                  </a:lnTo>
                  <a:lnTo>
                    <a:pt x="895" y="78"/>
                  </a:lnTo>
                  <a:lnTo>
                    <a:pt x="969" y="64"/>
                  </a:lnTo>
                  <a:lnTo>
                    <a:pt x="1044" y="51"/>
                  </a:lnTo>
                  <a:lnTo>
                    <a:pt x="1122" y="40"/>
                  </a:lnTo>
                  <a:lnTo>
                    <a:pt x="1201" y="30"/>
                  </a:lnTo>
                  <a:lnTo>
                    <a:pt x="1282" y="21"/>
                  </a:lnTo>
                  <a:lnTo>
                    <a:pt x="1365" y="13"/>
                  </a:lnTo>
                  <a:lnTo>
                    <a:pt x="1449" y="8"/>
                  </a:lnTo>
                  <a:lnTo>
                    <a:pt x="1534" y="3"/>
                  </a:lnTo>
                  <a:lnTo>
                    <a:pt x="1621" y="1"/>
                  </a:lnTo>
                  <a:lnTo>
                    <a:pt x="1710" y="0"/>
                  </a:lnTo>
                  <a:lnTo>
                    <a:pt x="1798" y="1"/>
                  </a:lnTo>
                  <a:lnTo>
                    <a:pt x="1884" y="3"/>
                  </a:lnTo>
                  <a:lnTo>
                    <a:pt x="1970" y="8"/>
                  </a:lnTo>
                  <a:lnTo>
                    <a:pt x="2054" y="13"/>
                  </a:lnTo>
                  <a:lnTo>
                    <a:pt x="2136" y="21"/>
                  </a:lnTo>
                  <a:lnTo>
                    <a:pt x="2217" y="30"/>
                  </a:lnTo>
                  <a:lnTo>
                    <a:pt x="2297" y="40"/>
                  </a:lnTo>
                  <a:lnTo>
                    <a:pt x="2374" y="51"/>
                  </a:lnTo>
                  <a:lnTo>
                    <a:pt x="2450" y="64"/>
                  </a:lnTo>
                  <a:lnTo>
                    <a:pt x="2524" y="78"/>
                  </a:lnTo>
                  <a:lnTo>
                    <a:pt x="2595" y="95"/>
                  </a:lnTo>
                  <a:lnTo>
                    <a:pt x="2665" y="111"/>
                  </a:lnTo>
                  <a:lnTo>
                    <a:pt x="2732" y="129"/>
                  </a:lnTo>
                  <a:lnTo>
                    <a:pt x="2797" y="148"/>
                  </a:lnTo>
                  <a:lnTo>
                    <a:pt x="2859" y="169"/>
                  </a:lnTo>
                  <a:lnTo>
                    <a:pt x="2917" y="190"/>
                  </a:lnTo>
                  <a:lnTo>
                    <a:pt x="2974" y="212"/>
                  </a:lnTo>
                  <a:lnTo>
                    <a:pt x="3028" y="236"/>
                  </a:lnTo>
                  <a:lnTo>
                    <a:pt x="3078" y="260"/>
                  </a:lnTo>
                  <a:lnTo>
                    <a:pt x="3126" y="285"/>
                  </a:lnTo>
                  <a:lnTo>
                    <a:pt x="3171" y="312"/>
                  </a:lnTo>
                  <a:lnTo>
                    <a:pt x="3212" y="339"/>
                  </a:lnTo>
                  <a:lnTo>
                    <a:pt x="3250" y="367"/>
                  </a:lnTo>
                  <a:lnTo>
                    <a:pt x="3284" y="396"/>
                  </a:lnTo>
                  <a:lnTo>
                    <a:pt x="3315" y="426"/>
                  </a:lnTo>
                  <a:lnTo>
                    <a:pt x="3342" y="455"/>
                  </a:lnTo>
                  <a:lnTo>
                    <a:pt x="3364" y="485"/>
                  </a:lnTo>
                  <a:lnTo>
                    <a:pt x="3383" y="517"/>
                  </a:lnTo>
                  <a:lnTo>
                    <a:pt x="3399" y="549"/>
                  </a:lnTo>
                  <a:lnTo>
                    <a:pt x="3410" y="582"/>
                  </a:lnTo>
                  <a:lnTo>
                    <a:pt x="3416" y="614"/>
                  </a:lnTo>
                  <a:lnTo>
                    <a:pt x="3419" y="648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573280" y="3751200"/>
              <a:ext cx="140040" cy="55440"/>
            </a:xfrm>
            <a:custGeom>
              <a:avLst/>
              <a:gdLst/>
              <a:ahLst/>
              <a:rect l="l" t="t" r="r" b="b"/>
              <a:pathLst>
                <a:path w="1858" h="721">
                  <a:moveTo>
                    <a:pt x="75" y="721"/>
                  </a:moveTo>
                  <a:lnTo>
                    <a:pt x="75" y="721"/>
                  </a:lnTo>
                  <a:lnTo>
                    <a:pt x="164" y="720"/>
                  </a:lnTo>
                  <a:lnTo>
                    <a:pt x="252" y="717"/>
                  </a:lnTo>
                  <a:lnTo>
                    <a:pt x="339" y="713"/>
                  </a:lnTo>
                  <a:lnTo>
                    <a:pt x="424" y="708"/>
                  </a:lnTo>
                  <a:lnTo>
                    <a:pt x="508" y="700"/>
                  </a:lnTo>
                  <a:lnTo>
                    <a:pt x="591" y="692"/>
                  </a:lnTo>
                  <a:lnTo>
                    <a:pt x="672" y="681"/>
                  </a:lnTo>
                  <a:lnTo>
                    <a:pt x="751" y="670"/>
                  </a:lnTo>
                  <a:lnTo>
                    <a:pt x="828" y="657"/>
                  </a:lnTo>
                  <a:lnTo>
                    <a:pt x="903" y="641"/>
                  </a:lnTo>
                  <a:lnTo>
                    <a:pt x="977" y="626"/>
                  </a:lnTo>
                  <a:lnTo>
                    <a:pt x="1048" y="609"/>
                  </a:lnTo>
                  <a:lnTo>
                    <a:pt x="1117" y="590"/>
                  </a:lnTo>
                  <a:lnTo>
                    <a:pt x="1183" y="570"/>
                  </a:lnTo>
                  <a:lnTo>
                    <a:pt x="1248" y="549"/>
                  </a:lnTo>
                  <a:lnTo>
                    <a:pt x="1309" y="528"/>
                  </a:lnTo>
                  <a:lnTo>
                    <a:pt x="1339" y="515"/>
                  </a:lnTo>
                  <a:lnTo>
                    <a:pt x="1367" y="503"/>
                  </a:lnTo>
                  <a:lnTo>
                    <a:pt x="1396" y="491"/>
                  </a:lnTo>
                  <a:lnTo>
                    <a:pt x="1424" y="479"/>
                  </a:lnTo>
                  <a:lnTo>
                    <a:pt x="1451" y="467"/>
                  </a:lnTo>
                  <a:lnTo>
                    <a:pt x="1477" y="454"/>
                  </a:lnTo>
                  <a:lnTo>
                    <a:pt x="1503" y="440"/>
                  </a:lnTo>
                  <a:lnTo>
                    <a:pt x="1528" y="426"/>
                  </a:lnTo>
                  <a:lnTo>
                    <a:pt x="1552" y="413"/>
                  </a:lnTo>
                  <a:lnTo>
                    <a:pt x="1575" y="399"/>
                  </a:lnTo>
                  <a:lnTo>
                    <a:pt x="1597" y="383"/>
                  </a:lnTo>
                  <a:lnTo>
                    <a:pt x="1620" y="369"/>
                  </a:lnTo>
                  <a:lnTo>
                    <a:pt x="1641" y="354"/>
                  </a:lnTo>
                  <a:lnTo>
                    <a:pt x="1660" y="339"/>
                  </a:lnTo>
                  <a:lnTo>
                    <a:pt x="1681" y="324"/>
                  </a:lnTo>
                  <a:lnTo>
                    <a:pt x="1699" y="307"/>
                  </a:lnTo>
                  <a:lnTo>
                    <a:pt x="1717" y="291"/>
                  </a:lnTo>
                  <a:lnTo>
                    <a:pt x="1733" y="274"/>
                  </a:lnTo>
                  <a:lnTo>
                    <a:pt x="1749" y="257"/>
                  </a:lnTo>
                  <a:lnTo>
                    <a:pt x="1765" y="239"/>
                  </a:lnTo>
                  <a:lnTo>
                    <a:pt x="1778" y="221"/>
                  </a:lnTo>
                  <a:lnTo>
                    <a:pt x="1791" y="204"/>
                  </a:lnTo>
                  <a:lnTo>
                    <a:pt x="1803" y="185"/>
                  </a:lnTo>
                  <a:lnTo>
                    <a:pt x="1814" y="165"/>
                  </a:lnTo>
                  <a:lnTo>
                    <a:pt x="1824" y="146"/>
                  </a:lnTo>
                  <a:lnTo>
                    <a:pt x="1833" y="126"/>
                  </a:lnTo>
                  <a:lnTo>
                    <a:pt x="1841" y="106"/>
                  </a:lnTo>
                  <a:lnTo>
                    <a:pt x="1847" y="85"/>
                  </a:lnTo>
                  <a:lnTo>
                    <a:pt x="1852" y="64"/>
                  </a:lnTo>
                  <a:lnTo>
                    <a:pt x="1855" y="42"/>
                  </a:lnTo>
                  <a:lnTo>
                    <a:pt x="1858" y="21"/>
                  </a:lnTo>
                  <a:lnTo>
                    <a:pt x="1858" y="0"/>
                  </a:lnTo>
                  <a:lnTo>
                    <a:pt x="1709" y="0"/>
                  </a:lnTo>
                  <a:lnTo>
                    <a:pt x="1709" y="11"/>
                  </a:lnTo>
                  <a:lnTo>
                    <a:pt x="1708" y="23"/>
                  </a:lnTo>
                  <a:lnTo>
                    <a:pt x="1705" y="34"/>
                  </a:lnTo>
                  <a:lnTo>
                    <a:pt x="1703" y="46"/>
                  </a:lnTo>
                  <a:lnTo>
                    <a:pt x="1699" y="58"/>
                  </a:lnTo>
                  <a:lnTo>
                    <a:pt x="1695" y="70"/>
                  </a:lnTo>
                  <a:lnTo>
                    <a:pt x="1690" y="82"/>
                  </a:lnTo>
                  <a:lnTo>
                    <a:pt x="1683" y="94"/>
                  </a:lnTo>
                  <a:lnTo>
                    <a:pt x="1676" y="106"/>
                  </a:lnTo>
                  <a:lnTo>
                    <a:pt x="1668" y="119"/>
                  </a:lnTo>
                  <a:lnTo>
                    <a:pt x="1659" y="132"/>
                  </a:lnTo>
                  <a:lnTo>
                    <a:pt x="1649" y="145"/>
                  </a:lnTo>
                  <a:lnTo>
                    <a:pt x="1638" y="157"/>
                  </a:lnTo>
                  <a:lnTo>
                    <a:pt x="1626" y="170"/>
                  </a:lnTo>
                  <a:lnTo>
                    <a:pt x="1613" y="183"/>
                  </a:lnTo>
                  <a:lnTo>
                    <a:pt x="1599" y="196"/>
                  </a:lnTo>
                  <a:lnTo>
                    <a:pt x="1584" y="209"/>
                  </a:lnTo>
                  <a:lnTo>
                    <a:pt x="1569" y="221"/>
                  </a:lnTo>
                  <a:lnTo>
                    <a:pt x="1552" y="234"/>
                  </a:lnTo>
                  <a:lnTo>
                    <a:pt x="1535" y="246"/>
                  </a:lnTo>
                  <a:lnTo>
                    <a:pt x="1516" y="260"/>
                  </a:lnTo>
                  <a:lnTo>
                    <a:pt x="1496" y="272"/>
                  </a:lnTo>
                  <a:lnTo>
                    <a:pt x="1476" y="284"/>
                  </a:lnTo>
                  <a:lnTo>
                    <a:pt x="1456" y="296"/>
                  </a:lnTo>
                  <a:lnTo>
                    <a:pt x="1433" y="308"/>
                  </a:lnTo>
                  <a:lnTo>
                    <a:pt x="1410" y="320"/>
                  </a:lnTo>
                  <a:lnTo>
                    <a:pt x="1387" y="332"/>
                  </a:lnTo>
                  <a:lnTo>
                    <a:pt x="1362" y="343"/>
                  </a:lnTo>
                  <a:lnTo>
                    <a:pt x="1337" y="354"/>
                  </a:lnTo>
                  <a:lnTo>
                    <a:pt x="1311" y="365"/>
                  </a:lnTo>
                  <a:lnTo>
                    <a:pt x="1284" y="376"/>
                  </a:lnTo>
                  <a:lnTo>
                    <a:pt x="1257" y="387"/>
                  </a:lnTo>
                  <a:lnTo>
                    <a:pt x="1199" y="408"/>
                  </a:lnTo>
                  <a:lnTo>
                    <a:pt x="1139" y="427"/>
                  </a:lnTo>
                  <a:lnTo>
                    <a:pt x="1077" y="446"/>
                  </a:lnTo>
                  <a:lnTo>
                    <a:pt x="1012" y="464"/>
                  </a:lnTo>
                  <a:lnTo>
                    <a:pt x="944" y="480"/>
                  </a:lnTo>
                  <a:lnTo>
                    <a:pt x="874" y="495"/>
                  </a:lnTo>
                  <a:lnTo>
                    <a:pt x="802" y="509"/>
                  </a:lnTo>
                  <a:lnTo>
                    <a:pt x="728" y="522"/>
                  </a:lnTo>
                  <a:lnTo>
                    <a:pt x="651" y="534"/>
                  </a:lnTo>
                  <a:lnTo>
                    <a:pt x="574" y="543"/>
                  </a:lnTo>
                  <a:lnTo>
                    <a:pt x="494" y="552"/>
                  </a:lnTo>
                  <a:lnTo>
                    <a:pt x="413" y="559"/>
                  </a:lnTo>
                  <a:lnTo>
                    <a:pt x="330" y="564"/>
                  </a:lnTo>
                  <a:lnTo>
                    <a:pt x="247" y="568"/>
                  </a:lnTo>
                  <a:lnTo>
                    <a:pt x="161" y="571"/>
                  </a:lnTo>
                  <a:lnTo>
                    <a:pt x="75" y="571"/>
                  </a:lnTo>
                  <a:lnTo>
                    <a:pt x="75" y="571"/>
                  </a:lnTo>
                  <a:lnTo>
                    <a:pt x="75" y="571"/>
                  </a:lnTo>
                  <a:lnTo>
                    <a:pt x="65" y="572"/>
                  </a:lnTo>
                  <a:lnTo>
                    <a:pt x="57" y="573"/>
                  </a:lnTo>
                  <a:lnTo>
                    <a:pt x="49" y="575"/>
                  </a:lnTo>
                  <a:lnTo>
                    <a:pt x="42" y="578"/>
                  </a:lnTo>
                  <a:lnTo>
                    <a:pt x="35" y="581"/>
                  </a:lnTo>
                  <a:lnTo>
                    <a:pt x="29" y="585"/>
                  </a:lnTo>
                  <a:lnTo>
                    <a:pt x="23" y="591"/>
                  </a:lnTo>
                  <a:lnTo>
                    <a:pt x="19" y="595"/>
                  </a:lnTo>
                  <a:lnTo>
                    <a:pt x="14" y="601"/>
                  </a:lnTo>
                  <a:lnTo>
                    <a:pt x="10" y="607"/>
                  </a:lnTo>
                  <a:lnTo>
                    <a:pt x="7" y="613"/>
                  </a:lnTo>
                  <a:lnTo>
                    <a:pt x="5" y="619"/>
                  </a:lnTo>
                  <a:lnTo>
                    <a:pt x="3" y="626"/>
                  </a:lnTo>
                  <a:lnTo>
                    <a:pt x="1" y="632"/>
                  </a:lnTo>
                  <a:lnTo>
                    <a:pt x="0" y="639"/>
                  </a:lnTo>
                  <a:lnTo>
                    <a:pt x="0" y="646"/>
                  </a:lnTo>
                  <a:lnTo>
                    <a:pt x="0" y="653"/>
                  </a:lnTo>
                  <a:lnTo>
                    <a:pt x="1" y="661"/>
                  </a:lnTo>
                  <a:lnTo>
                    <a:pt x="3" y="668"/>
                  </a:lnTo>
                  <a:lnTo>
                    <a:pt x="5" y="674"/>
                  </a:lnTo>
                  <a:lnTo>
                    <a:pt x="7" y="681"/>
                  </a:lnTo>
                  <a:lnTo>
                    <a:pt x="10" y="687"/>
                  </a:lnTo>
                  <a:lnTo>
                    <a:pt x="14" y="693"/>
                  </a:lnTo>
                  <a:lnTo>
                    <a:pt x="19" y="698"/>
                  </a:lnTo>
                  <a:lnTo>
                    <a:pt x="23" y="703"/>
                  </a:lnTo>
                  <a:lnTo>
                    <a:pt x="29" y="707"/>
                  </a:lnTo>
                  <a:lnTo>
                    <a:pt x="35" y="711"/>
                  </a:lnTo>
                  <a:lnTo>
                    <a:pt x="42" y="715"/>
                  </a:lnTo>
                  <a:lnTo>
                    <a:pt x="49" y="717"/>
                  </a:lnTo>
                  <a:lnTo>
                    <a:pt x="57" y="719"/>
                  </a:lnTo>
                  <a:lnTo>
                    <a:pt x="65" y="721"/>
                  </a:lnTo>
                  <a:lnTo>
                    <a:pt x="75" y="72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443320" y="3746520"/>
              <a:ext cx="135000" cy="60120"/>
            </a:xfrm>
            <a:custGeom>
              <a:avLst/>
              <a:gdLst/>
              <a:ahLst/>
              <a:rect l="l" t="t" r="r" b="b"/>
              <a:pathLst>
                <a:path w="1785" h="796">
                  <a:moveTo>
                    <a:pt x="0" y="75"/>
                  </a:moveTo>
                  <a:lnTo>
                    <a:pt x="0" y="75"/>
                  </a:lnTo>
                  <a:lnTo>
                    <a:pt x="1" y="96"/>
                  </a:lnTo>
                  <a:lnTo>
                    <a:pt x="3" y="117"/>
                  </a:lnTo>
                  <a:lnTo>
                    <a:pt x="6" y="139"/>
                  </a:lnTo>
                  <a:lnTo>
                    <a:pt x="11" y="160"/>
                  </a:lnTo>
                  <a:lnTo>
                    <a:pt x="18" y="180"/>
                  </a:lnTo>
                  <a:lnTo>
                    <a:pt x="26" y="201"/>
                  </a:lnTo>
                  <a:lnTo>
                    <a:pt x="35" y="221"/>
                  </a:lnTo>
                  <a:lnTo>
                    <a:pt x="44" y="240"/>
                  </a:lnTo>
                  <a:lnTo>
                    <a:pt x="55" y="260"/>
                  </a:lnTo>
                  <a:lnTo>
                    <a:pt x="67" y="278"/>
                  </a:lnTo>
                  <a:lnTo>
                    <a:pt x="80" y="297"/>
                  </a:lnTo>
                  <a:lnTo>
                    <a:pt x="94" y="314"/>
                  </a:lnTo>
                  <a:lnTo>
                    <a:pt x="110" y="332"/>
                  </a:lnTo>
                  <a:lnTo>
                    <a:pt x="125" y="349"/>
                  </a:lnTo>
                  <a:lnTo>
                    <a:pt x="142" y="366"/>
                  </a:lnTo>
                  <a:lnTo>
                    <a:pt x="159" y="382"/>
                  </a:lnTo>
                  <a:lnTo>
                    <a:pt x="179" y="399"/>
                  </a:lnTo>
                  <a:lnTo>
                    <a:pt x="198" y="414"/>
                  </a:lnTo>
                  <a:lnTo>
                    <a:pt x="218" y="429"/>
                  </a:lnTo>
                  <a:lnTo>
                    <a:pt x="238" y="444"/>
                  </a:lnTo>
                  <a:lnTo>
                    <a:pt x="261" y="458"/>
                  </a:lnTo>
                  <a:lnTo>
                    <a:pt x="283" y="474"/>
                  </a:lnTo>
                  <a:lnTo>
                    <a:pt x="306" y="488"/>
                  </a:lnTo>
                  <a:lnTo>
                    <a:pt x="330" y="501"/>
                  </a:lnTo>
                  <a:lnTo>
                    <a:pt x="356" y="515"/>
                  </a:lnTo>
                  <a:lnTo>
                    <a:pt x="381" y="529"/>
                  </a:lnTo>
                  <a:lnTo>
                    <a:pt x="408" y="542"/>
                  </a:lnTo>
                  <a:lnTo>
                    <a:pt x="435" y="554"/>
                  </a:lnTo>
                  <a:lnTo>
                    <a:pt x="462" y="566"/>
                  </a:lnTo>
                  <a:lnTo>
                    <a:pt x="491" y="578"/>
                  </a:lnTo>
                  <a:lnTo>
                    <a:pt x="520" y="590"/>
                  </a:lnTo>
                  <a:lnTo>
                    <a:pt x="550" y="603"/>
                  </a:lnTo>
                  <a:lnTo>
                    <a:pt x="611" y="624"/>
                  </a:lnTo>
                  <a:lnTo>
                    <a:pt x="675" y="645"/>
                  </a:lnTo>
                  <a:lnTo>
                    <a:pt x="742" y="665"/>
                  </a:lnTo>
                  <a:lnTo>
                    <a:pt x="811" y="684"/>
                  </a:lnTo>
                  <a:lnTo>
                    <a:pt x="882" y="701"/>
                  </a:lnTo>
                  <a:lnTo>
                    <a:pt x="955" y="716"/>
                  </a:lnTo>
                  <a:lnTo>
                    <a:pt x="1031" y="732"/>
                  </a:lnTo>
                  <a:lnTo>
                    <a:pt x="1108" y="745"/>
                  </a:lnTo>
                  <a:lnTo>
                    <a:pt x="1187" y="756"/>
                  </a:lnTo>
                  <a:lnTo>
                    <a:pt x="1268" y="767"/>
                  </a:lnTo>
                  <a:lnTo>
                    <a:pt x="1350" y="775"/>
                  </a:lnTo>
                  <a:lnTo>
                    <a:pt x="1434" y="783"/>
                  </a:lnTo>
                  <a:lnTo>
                    <a:pt x="1520" y="788"/>
                  </a:lnTo>
                  <a:lnTo>
                    <a:pt x="1607" y="792"/>
                  </a:lnTo>
                  <a:lnTo>
                    <a:pt x="1695" y="795"/>
                  </a:lnTo>
                  <a:lnTo>
                    <a:pt x="1785" y="796"/>
                  </a:lnTo>
                  <a:lnTo>
                    <a:pt x="1785" y="646"/>
                  </a:lnTo>
                  <a:lnTo>
                    <a:pt x="1697" y="646"/>
                  </a:lnTo>
                  <a:lnTo>
                    <a:pt x="1612" y="643"/>
                  </a:lnTo>
                  <a:lnTo>
                    <a:pt x="1528" y="639"/>
                  </a:lnTo>
                  <a:lnTo>
                    <a:pt x="1445" y="634"/>
                  </a:lnTo>
                  <a:lnTo>
                    <a:pt x="1364" y="627"/>
                  </a:lnTo>
                  <a:lnTo>
                    <a:pt x="1285" y="618"/>
                  </a:lnTo>
                  <a:lnTo>
                    <a:pt x="1207" y="609"/>
                  </a:lnTo>
                  <a:lnTo>
                    <a:pt x="1131" y="597"/>
                  </a:lnTo>
                  <a:lnTo>
                    <a:pt x="1057" y="584"/>
                  </a:lnTo>
                  <a:lnTo>
                    <a:pt x="985" y="570"/>
                  </a:lnTo>
                  <a:lnTo>
                    <a:pt x="915" y="555"/>
                  </a:lnTo>
                  <a:lnTo>
                    <a:pt x="847" y="539"/>
                  </a:lnTo>
                  <a:lnTo>
                    <a:pt x="781" y="521"/>
                  </a:lnTo>
                  <a:lnTo>
                    <a:pt x="720" y="502"/>
                  </a:lnTo>
                  <a:lnTo>
                    <a:pt x="660" y="483"/>
                  </a:lnTo>
                  <a:lnTo>
                    <a:pt x="601" y="462"/>
                  </a:lnTo>
                  <a:lnTo>
                    <a:pt x="575" y="451"/>
                  </a:lnTo>
                  <a:lnTo>
                    <a:pt x="547" y="440"/>
                  </a:lnTo>
                  <a:lnTo>
                    <a:pt x="522" y="429"/>
                  </a:lnTo>
                  <a:lnTo>
                    <a:pt x="497" y="418"/>
                  </a:lnTo>
                  <a:lnTo>
                    <a:pt x="471" y="407"/>
                  </a:lnTo>
                  <a:lnTo>
                    <a:pt x="448" y="395"/>
                  </a:lnTo>
                  <a:lnTo>
                    <a:pt x="426" y="383"/>
                  </a:lnTo>
                  <a:lnTo>
                    <a:pt x="403" y="371"/>
                  </a:lnTo>
                  <a:lnTo>
                    <a:pt x="382" y="359"/>
                  </a:lnTo>
                  <a:lnTo>
                    <a:pt x="362" y="347"/>
                  </a:lnTo>
                  <a:lnTo>
                    <a:pt x="343" y="335"/>
                  </a:lnTo>
                  <a:lnTo>
                    <a:pt x="324" y="321"/>
                  </a:lnTo>
                  <a:lnTo>
                    <a:pt x="306" y="309"/>
                  </a:lnTo>
                  <a:lnTo>
                    <a:pt x="290" y="296"/>
                  </a:lnTo>
                  <a:lnTo>
                    <a:pt x="274" y="284"/>
                  </a:lnTo>
                  <a:lnTo>
                    <a:pt x="259" y="271"/>
                  </a:lnTo>
                  <a:lnTo>
                    <a:pt x="245" y="258"/>
                  </a:lnTo>
                  <a:lnTo>
                    <a:pt x="232" y="245"/>
                  </a:lnTo>
                  <a:lnTo>
                    <a:pt x="220" y="232"/>
                  </a:lnTo>
                  <a:lnTo>
                    <a:pt x="209" y="219"/>
                  </a:lnTo>
                  <a:lnTo>
                    <a:pt x="200" y="207"/>
                  </a:lnTo>
                  <a:lnTo>
                    <a:pt x="191" y="195"/>
                  </a:lnTo>
                  <a:lnTo>
                    <a:pt x="183" y="181"/>
                  </a:lnTo>
                  <a:lnTo>
                    <a:pt x="175" y="169"/>
                  </a:lnTo>
                  <a:lnTo>
                    <a:pt x="169" y="157"/>
                  </a:lnTo>
                  <a:lnTo>
                    <a:pt x="164" y="145"/>
                  </a:lnTo>
                  <a:lnTo>
                    <a:pt x="159" y="134"/>
                  </a:lnTo>
                  <a:lnTo>
                    <a:pt x="156" y="121"/>
                  </a:lnTo>
                  <a:lnTo>
                    <a:pt x="153" y="109"/>
                  </a:lnTo>
                  <a:lnTo>
                    <a:pt x="151" y="98"/>
                  </a:lnTo>
                  <a:lnTo>
                    <a:pt x="150" y="87"/>
                  </a:lnTo>
                  <a:lnTo>
                    <a:pt x="150" y="75"/>
                  </a:lnTo>
                  <a:lnTo>
                    <a:pt x="150" y="75"/>
                  </a:lnTo>
                  <a:lnTo>
                    <a:pt x="150" y="75"/>
                  </a:lnTo>
                  <a:lnTo>
                    <a:pt x="149" y="66"/>
                  </a:lnTo>
                  <a:lnTo>
                    <a:pt x="148" y="57"/>
                  </a:lnTo>
                  <a:lnTo>
                    <a:pt x="146" y="49"/>
                  </a:lnTo>
                  <a:lnTo>
                    <a:pt x="143" y="41"/>
                  </a:lnTo>
                  <a:lnTo>
                    <a:pt x="140" y="35"/>
                  </a:lnTo>
                  <a:lnTo>
                    <a:pt x="136" y="29"/>
                  </a:lnTo>
                  <a:lnTo>
                    <a:pt x="131" y="23"/>
                  </a:lnTo>
                  <a:lnTo>
                    <a:pt x="127" y="18"/>
                  </a:lnTo>
                  <a:lnTo>
                    <a:pt x="121" y="14"/>
                  </a:lnTo>
                  <a:lnTo>
                    <a:pt x="115" y="10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5" y="3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3" y="18"/>
                  </a:lnTo>
                  <a:lnTo>
                    <a:pt x="18" y="23"/>
                  </a:lnTo>
                  <a:lnTo>
                    <a:pt x="14" y="29"/>
                  </a:lnTo>
                  <a:lnTo>
                    <a:pt x="10" y="35"/>
                  </a:lnTo>
                  <a:lnTo>
                    <a:pt x="6" y="41"/>
                  </a:lnTo>
                  <a:lnTo>
                    <a:pt x="4" y="49"/>
                  </a:lnTo>
                  <a:lnTo>
                    <a:pt x="2" y="57"/>
                  </a:lnTo>
                  <a:lnTo>
                    <a:pt x="0" y="66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443320" y="3697200"/>
              <a:ext cx="141120" cy="54000"/>
            </a:xfrm>
            <a:custGeom>
              <a:avLst/>
              <a:gdLst/>
              <a:ahLst/>
              <a:rect l="l" t="t" r="r" b="b"/>
              <a:pathLst>
                <a:path w="1859" h="723">
                  <a:moveTo>
                    <a:pt x="1785" y="0"/>
                  </a:moveTo>
                  <a:lnTo>
                    <a:pt x="1785" y="0"/>
                  </a:lnTo>
                  <a:lnTo>
                    <a:pt x="1695" y="1"/>
                  </a:lnTo>
                  <a:lnTo>
                    <a:pt x="1607" y="4"/>
                  </a:lnTo>
                  <a:lnTo>
                    <a:pt x="1520" y="8"/>
                  </a:lnTo>
                  <a:lnTo>
                    <a:pt x="1434" y="14"/>
                  </a:lnTo>
                  <a:lnTo>
                    <a:pt x="1350" y="21"/>
                  </a:lnTo>
                  <a:lnTo>
                    <a:pt x="1268" y="31"/>
                  </a:lnTo>
                  <a:lnTo>
                    <a:pt x="1187" y="41"/>
                  </a:lnTo>
                  <a:lnTo>
                    <a:pt x="1108" y="53"/>
                  </a:lnTo>
                  <a:lnTo>
                    <a:pt x="1031" y="66"/>
                  </a:lnTo>
                  <a:lnTo>
                    <a:pt x="955" y="80"/>
                  </a:lnTo>
                  <a:lnTo>
                    <a:pt x="882" y="97"/>
                  </a:lnTo>
                  <a:lnTo>
                    <a:pt x="811" y="114"/>
                  </a:lnTo>
                  <a:lnTo>
                    <a:pt x="742" y="132"/>
                  </a:lnTo>
                  <a:lnTo>
                    <a:pt x="675" y="152"/>
                  </a:lnTo>
                  <a:lnTo>
                    <a:pt x="611" y="173"/>
                  </a:lnTo>
                  <a:lnTo>
                    <a:pt x="549" y="195"/>
                  </a:lnTo>
                  <a:lnTo>
                    <a:pt x="491" y="218"/>
                  </a:lnTo>
                  <a:lnTo>
                    <a:pt x="435" y="243"/>
                  </a:lnTo>
                  <a:lnTo>
                    <a:pt x="408" y="256"/>
                  </a:lnTo>
                  <a:lnTo>
                    <a:pt x="381" y="269"/>
                  </a:lnTo>
                  <a:lnTo>
                    <a:pt x="356" y="282"/>
                  </a:lnTo>
                  <a:lnTo>
                    <a:pt x="330" y="295"/>
                  </a:lnTo>
                  <a:lnTo>
                    <a:pt x="306" y="310"/>
                  </a:lnTo>
                  <a:lnTo>
                    <a:pt x="283" y="324"/>
                  </a:lnTo>
                  <a:lnTo>
                    <a:pt x="261" y="338"/>
                  </a:lnTo>
                  <a:lnTo>
                    <a:pt x="238" y="352"/>
                  </a:lnTo>
                  <a:lnTo>
                    <a:pt x="218" y="368"/>
                  </a:lnTo>
                  <a:lnTo>
                    <a:pt x="198" y="383"/>
                  </a:lnTo>
                  <a:lnTo>
                    <a:pt x="179" y="399"/>
                  </a:lnTo>
                  <a:lnTo>
                    <a:pt x="159" y="415"/>
                  </a:lnTo>
                  <a:lnTo>
                    <a:pt x="142" y="431"/>
                  </a:lnTo>
                  <a:lnTo>
                    <a:pt x="125" y="448"/>
                  </a:lnTo>
                  <a:lnTo>
                    <a:pt x="110" y="465"/>
                  </a:lnTo>
                  <a:lnTo>
                    <a:pt x="94" y="483"/>
                  </a:lnTo>
                  <a:lnTo>
                    <a:pt x="80" y="501"/>
                  </a:lnTo>
                  <a:lnTo>
                    <a:pt x="67" y="519"/>
                  </a:lnTo>
                  <a:lnTo>
                    <a:pt x="55" y="538"/>
                  </a:lnTo>
                  <a:lnTo>
                    <a:pt x="44" y="556"/>
                  </a:lnTo>
                  <a:lnTo>
                    <a:pt x="35" y="577"/>
                  </a:lnTo>
                  <a:lnTo>
                    <a:pt x="26" y="596"/>
                  </a:lnTo>
                  <a:lnTo>
                    <a:pt x="18" y="616"/>
                  </a:lnTo>
                  <a:lnTo>
                    <a:pt x="11" y="638"/>
                  </a:lnTo>
                  <a:lnTo>
                    <a:pt x="6" y="658"/>
                  </a:lnTo>
                  <a:lnTo>
                    <a:pt x="3" y="679"/>
                  </a:lnTo>
                  <a:lnTo>
                    <a:pt x="1" y="701"/>
                  </a:lnTo>
                  <a:lnTo>
                    <a:pt x="0" y="723"/>
                  </a:lnTo>
                  <a:lnTo>
                    <a:pt x="150" y="723"/>
                  </a:lnTo>
                  <a:lnTo>
                    <a:pt x="150" y="711"/>
                  </a:lnTo>
                  <a:lnTo>
                    <a:pt x="151" y="698"/>
                  </a:lnTo>
                  <a:lnTo>
                    <a:pt x="153" y="687"/>
                  </a:lnTo>
                  <a:lnTo>
                    <a:pt x="156" y="676"/>
                  </a:lnTo>
                  <a:lnTo>
                    <a:pt x="159" y="664"/>
                  </a:lnTo>
                  <a:lnTo>
                    <a:pt x="164" y="652"/>
                  </a:lnTo>
                  <a:lnTo>
                    <a:pt x="169" y="640"/>
                  </a:lnTo>
                  <a:lnTo>
                    <a:pt x="175" y="627"/>
                  </a:lnTo>
                  <a:lnTo>
                    <a:pt x="183" y="615"/>
                  </a:lnTo>
                  <a:lnTo>
                    <a:pt x="191" y="603"/>
                  </a:lnTo>
                  <a:lnTo>
                    <a:pt x="200" y="590"/>
                  </a:lnTo>
                  <a:lnTo>
                    <a:pt x="209" y="578"/>
                  </a:lnTo>
                  <a:lnTo>
                    <a:pt x="220" y="564"/>
                  </a:lnTo>
                  <a:lnTo>
                    <a:pt x="232" y="552"/>
                  </a:lnTo>
                  <a:lnTo>
                    <a:pt x="245" y="539"/>
                  </a:lnTo>
                  <a:lnTo>
                    <a:pt x="259" y="527"/>
                  </a:lnTo>
                  <a:lnTo>
                    <a:pt x="274" y="514"/>
                  </a:lnTo>
                  <a:lnTo>
                    <a:pt x="290" y="501"/>
                  </a:lnTo>
                  <a:lnTo>
                    <a:pt x="306" y="488"/>
                  </a:lnTo>
                  <a:lnTo>
                    <a:pt x="324" y="475"/>
                  </a:lnTo>
                  <a:lnTo>
                    <a:pt x="343" y="463"/>
                  </a:lnTo>
                  <a:lnTo>
                    <a:pt x="362" y="451"/>
                  </a:lnTo>
                  <a:lnTo>
                    <a:pt x="382" y="439"/>
                  </a:lnTo>
                  <a:lnTo>
                    <a:pt x="403" y="426"/>
                  </a:lnTo>
                  <a:lnTo>
                    <a:pt x="425" y="414"/>
                  </a:lnTo>
                  <a:lnTo>
                    <a:pt x="448" y="402"/>
                  </a:lnTo>
                  <a:lnTo>
                    <a:pt x="471" y="391"/>
                  </a:lnTo>
                  <a:lnTo>
                    <a:pt x="496" y="379"/>
                  </a:lnTo>
                  <a:lnTo>
                    <a:pt x="547" y="356"/>
                  </a:lnTo>
                  <a:lnTo>
                    <a:pt x="602" y="335"/>
                  </a:lnTo>
                  <a:lnTo>
                    <a:pt x="660" y="315"/>
                  </a:lnTo>
                  <a:lnTo>
                    <a:pt x="720" y="294"/>
                  </a:lnTo>
                  <a:lnTo>
                    <a:pt x="781" y="276"/>
                  </a:lnTo>
                  <a:lnTo>
                    <a:pt x="847" y="259"/>
                  </a:lnTo>
                  <a:lnTo>
                    <a:pt x="915" y="242"/>
                  </a:lnTo>
                  <a:lnTo>
                    <a:pt x="985" y="226"/>
                  </a:lnTo>
                  <a:lnTo>
                    <a:pt x="1057" y="213"/>
                  </a:lnTo>
                  <a:lnTo>
                    <a:pt x="1131" y="200"/>
                  </a:lnTo>
                  <a:lnTo>
                    <a:pt x="1207" y="189"/>
                  </a:lnTo>
                  <a:lnTo>
                    <a:pt x="1285" y="179"/>
                  </a:lnTo>
                  <a:lnTo>
                    <a:pt x="1364" y="171"/>
                  </a:lnTo>
                  <a:lnTo>
                    <a:pt x="1445" y="164"/>
                  </a:lnTo>
                  <a:lnTo>
                    <a:pt x="1528" y="157"/>
                  </a:lnTo>
                  <a:lnTo>
                    <a:pt x="1612" y="153"/>
                  </a:lnTo>
                  <a:lnTo>
                    <a:pt x="1697" y="151"/>
                  </a:lnTo>
                  <a:lnTo>
                    <a:pt x="1785" y="150"/>
                  </a:lnTo>
                  <a:lnTo>
                    <a:pt x="1785" y="150"/>
                  </a:lnTo>
                  <a:lnTo>
                    <a:pt x="1785" y="150"/>
                  </a:lnTo>
                  <a:lnTo>
                    <a:pt x="1794" y="150"/>
                  </a:lnTo>
                  <a:lnTo>
                    <a:pt x="1802" y="148"/>
                  </a:lnTo>
                  <a:lnTo>
                    <a:pt x="1810" y="146"/>
                  </a:lnTo>
                  <a:lnTo>
                    <a:pt x="1817" y="144"/>
                  </a:lnTo>
                  <a:lnTo>
                    <a:pt x="1824" y="140"/>
                  </a:lnTo>
                  <a:lnTo>
                    <a:pt x="1830" y="136"/>
                  </a:lnTo>
                  <a:lnTo>
                    <a:pt x="1835" y="132"/>
                  </a:lnTo>
                  <a:lnTo>
                    <a:pt x="1840" y="127"/>
                  </a:lnTo>
                  <a:lnTo>
                    <a:pt x="1844" y="122"/>
                  </a:lnTo>
                  <a:lnTo>
                    <a:pt x="1848" y="116"/>
                  </a:lnTo>
                  <a:lnTo>
                    <a:pt x="1851" y="110"/>
                  </a:lnTo>
                  <a:lnTo>
                    <a:pt x="1854" y="103"/>
                  </a:lnTo>
                  <a:lnTo>
                    <a:pt x="1856" y="97"/>
                  </a:lnTo>
                  <a:lnTo>
                    <a:pt x="1857" y="89"/>
                  </a:lnTo>
                  <a:lnTo>
                    <a:pt x="1858" y="82"/>
                  </a:lnTo>
                  <a:lnTo>
                    <a:pt x="1859" y="75"/>
                  </a:lnTo>
                  <a:lnTo>
                    <a:pt x="1858" y="68"/>
                  </a:lnTo>
                  <a:lnTo>
                    <a:pt x="1857" y="61"/>
                  </a:lnTo>
                  <a:lnTo>
                    <a:pt x="1856" y="55"/>
                  </a:lnTo>
                  <a:lnTo>
                    <a:pt x="1854" y="48"/>
                  </a:lnTo>
                  <a:lnTo>
                    <a:pt x="1851" y="42"/>
                  </a:lnTo>
                  <a:lnTo>
                    <a:pt x="1848" y="36"/>
                  </a:lnTo>
                  <a:lnTo>
                    <a:pt x="1844" y="30"/>
                  </a:lnTo>
                  <a:lnTo>
                    <a:pt x="1840" y="23"/>
                  </a:lnTo>
                  <a:lnTo>
                    <a:pt x="1835" y="19"/>
                  </a:lnTo>
                  <a:lnTo>
                    <a:pt x="1830" y="14"/>
                  </a:lnTo>
                  <a:lnTo>
                    <a:pt x="1824" y="10"/>
                  </a:lnTo>
                  <a:lnTo>
                    <a:pt x="1817" y="7"/>
                  </a:lnTo>
                  <a:lnTo>
                    <a:pt x="1810" y="4"/>
                  </a:lnTo>
                  <a:lnTo>
                    <a:pt x="1802" y="2"/>
                  </a:lnTo>
                  <a:lnTo>
                    <a:pt x="1794" y="1"/>
                  </a:lnTo>
                  <a:lnTo>
                    <a:pt x="1785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78320" y="3697200"/>
              <a:ext cx="135000" cy="60480"/>
            </a:xfrm>
            <a:custGeom>
              <a:avLst/>
              <a:gdLst/>
              <a:ahLst/>
              <a:rect l="l" t="t" r="r" b="b"/>
              <a:pathLst>
                <a:path w="1783" h="797">
                  <a:moveTo>
                    <a:pt x="1783" y="723"/>
                  </a:moveTo>
                  <a:lnTo>
                    <a:pt x="1783" y="723"/>
                  </a:lnTo>
                  <a:lnTo>
                    <a:pt x="1783" y="700"/>
                  </a:lnTo>
                  <a:lnTo>
                    <a:pt x="1780" y="679"/>
                  </a:lnTo>
                  <a:lnTo>
                    <a:pt x="1777" y="658"/>
                  </a:lnTo>
                  <a:lnTo>
                    <a:pt x="1772" y="638"/>
                  </a:lnTo>
                  <a:lnTo>
                    <a:pt x="1766" y="616"/>
                  </a:lnTo>
                  <a:lnTo>
                    <a:pt x="1758" y="596"/>
                  </a:lnTo>
                  <a:lnTo>
                    <a:pt x="1749" y="577"/>
                  </a:lnTo>
                  <a:lnTo>
                    <a:pt x="1739" y="556"/>
                  </a:lnTo>
                  <a:lnTo>
                    <a:pt x="1728" y="538"/>
                  </a:lnTo>
                  <a:lnTo>
                    <a:pt x="1716" y="519"/>
                  </a:lnTo>
                  <a:lnTo>
                    <a:pt x="1703" y="501"/>
                  </a:lnTo>
                  <a:lnTo>
                    <a:pt x="1690" y="483"/>
                  </a:lnTo>
                  <a:lnTo>
                    <a:pt x="1674" y="465"/>
                  </a:lnTo>
                  <a:lnTo>
                    <a:pt x="1658" y="448"/>
                  </a:lnTo>
                  <a:lnTo>
                    <a:pt x="1642" y="431"/>
                  </a:lnTo>
                  <a:lnTo>
                    <a:pt x="1624" y="415"/>
                  </a:lnTo>
                  <a:lnTo>
                    <a:pt x="1605" y="399"/>
                  </a:lnTo>
                  <a:lnTo>
                    <a:pt x="1585" y="383"/>
                  </a:lnTo>
                  <a:lnTo>
                    <a:pt x="1566" y="368"/>
                  </a:lnTo>
                  <a:lnTo>
                    <a:pt x="1545" y="352"/>
                  </a:lnTo>
                  <a:lnTo>
                    <a:pt x="1522" y="338"/>
                  </a:lnTo>
                  <a:lnTo>
                    <a:pt x="1500" y="324"/>
                  </a:lnTo>
                  <a:lnTo>
                    <a:pt x="1477" y="310"/>
                  </a:lnTo>
                  <a:lnTo>
                    <a:pt x="1453" y="295"/>
                  </a:lnTo>
                  <a:lnTo>
                    <a:pt x="1427" y="282"/>
                  </a:lnTo>
                  <a:lnTo>
                    <a:pt x="1402" y="269"/>
                  </a:lnTo>
                  <a:lnTo>
                    <a:pt x="1377" y="256"/>
                  </a:lnTo>
                  <a:lnTo>
                    <a:pt x="1348" y="243"/>
                  </a:lnTo>
                  <a:lnTo>
                    <a:pt x="1292" y="218"/>
                  </a:lnTo>
                  <a:lnTo>
                    <a:pt x="1234" y="195"/>
                  </a:lnTo>
                  <a:lnTo>
                    <a:pt x="1173" y="173"/>
                  </a:lnTo>
                  <a:lnTo>
                    <a:pt x="1108" y="152"/>
                  </a:lnTo>
                  <a:lnTo>
                    <a:pt x="1042" y="132"/>
                  </a:lnTo>
                  <a:lnTo>
                    <a:pt x="973" y="114"/>
                  </a:lnTo>
                  <a:lnTo>
                    <a:pt x="902" y="97"/>
                  </a:lnTo>
                  <a:lnTo>
                    <a:pt x="828" y="80"/>
                  </a:lnTo>
                  <a:lnTo>
                    <a:pt x="753" y="66"/>
                  </a:lnTo>
                  <a:lnTo>
                    <a:pt x="676" y="53"/>
                  </a:lnTo>
                  <a:lnTo>
                    <a:pt x="597" y="41"/>
                  </a:lnTo>
                  <a:lnTo>
                    <a:pt x="516" y="31"/>
                  </a:lnTo>
                  <a:lnTo>
                    <a:pt x="433" y="21"/>
                  </a:lnTo>
                  <a:lnTo>
                    <a:pt x="349" y="14"/>
                  </a:lnTo>
                  <a:lnTo>
                    <a:pt x="264" y="8"/>
                  </a:lnTo>
                  <a:lnTo>
                    <a:pt x="177" y="4"/>
                  </a:lnTo>
                  <a:lnTo>
                    <a:pt x="89" y="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86" y="151"/>
                  </a:lnTo>
                  <a:lnTo>
                    <a:pt x="172" y="153"/>
                  </a:lnTo>
                  <a:lnTo>
                    <a:pt x="255" y="157"/>
                  </a:lnTo>
                  <a:lnTo>
                    <a:pt x="338" y="164"/>
                  </a:lnTo>
                  <a:lnTo>
                    <a:pt x="419" y="171"/>
                  </a:lnTo>
                  <a:lnTo>
                    <a:pt x="499" y="179"/>
                  </a:lnTo>
                  <a:lnTo>
                    <a:pt x="576" y="189"/>
                  </a:lnTo>
                  <a:lnTo>
                    <a:pt x="653" y="200"/>
                  </a:lnTo>
                  <a:lnTo>
                    <a:pt x="727" y="213"/>
                  </a:lnTo>
                  <a:lnTo>
                    <a:pt x="799" y="226"/>
                  </a:lnTo>
                  <a:lnTo>
                    <a:pt x="869" y="242"/>
                  </a:lnTo>
                  <a:lnTo>
                    <a:pt x="937" y="259"/>
                  </a:lnTo>
                  <a:lnTo>
                    <a:pt x="1002" y="276"/>
                  </a:lnTo>
                  <a:lnTo>
                    <a:pt x="1064" y="294"/>
                  </a:lnTo>
                  <a:lnTo>
                    <a:pt x="1124" y="315"/>
                  </a:lnTo>
                  <a:lnTo>
                    <a:pt x="1181" y="335"/>
                  </a:lnTo>
                  <a:lnTo>
                    <a:pt x="1236" y="356"/>
                  </a:lnTo>
                  <a:lnTo>
                    <a:pt x="1287" y="379"/>
                  </a:lnTo>
                  <a:lnTo>
                    <a:pt x="1312" y="391"/>
                  </a:lnTo>
                  <a:lnTo>
                    <a:pt x="1335" y="402"/>
                  </a:lnTo>
                  <a:lnTo>
                    <a:pt x="1358" y="414"/>
                  </a:lnTo>
                  <a:lnTo>
                    <a:pt x="1381" y="426"/>
                  </a:lnTo>
                  <a:lnTo>
                    <a:pt x="1401" y="439"/>
                  </a:lnTo>
                  <a:lnTo>
                    <a:pt x="1421" y="451"/>
                  </a:lnTo>
                  <a:lnTo>
                    <a:pt x="1441" y="463"/>
                  </a:lnTo>
                  <a:lnTo>
                    <a:pt x="1460" y="475"/>
                  </a:lnTo>
                  <a:lnTo>
                    <a:pt x="1477" y="488"/>
                  </a:lnTo>
                  <a:lnTo>
                    <a:pt x="1494" y="501"/>
                  </a:lnTo>
                  <a:lnTo>
                    <a:pt x="1509" y="514"/>
                  </a:lnTo>
                  <a:lnTo>
                    <a:pt x="1524" y="527"/>
                  </a:lnTo>
                  <a:lnTo>
                    <a:pt x="1538" y="539"/>
                  </a:lnTo>
                  <a:lnTo>
                    <a:pt x="1551" y="552"/>
                  </a:lnTo>
                  <a:lnTo>
                    <a:pt x="1563" y="564"/>
                  </a:lnTo>
                  <a:lnTo>
                    <a:pt x="1574" y="578"/>
                  </a:lnTo>
                  <a:lnTo>
                    <a:pt x="1584" y="590"/>
                  </a:lnTo>
                  <a:lnTo>
                    <a:pt x="1593" y="603"/>
                  </a:lnTo>
                  <a:lnTo>
                    <a:pt x="1601" y="615"/>
                  </a:lnTo>
                  <a:lnTo>
                    <a:pt x="1608" y="627"/>
                  </a:lnTo>
                  <a:lnTo>
                    <a:pt x="1615" y="640"/>
                  </a:lnTo>
                  <a:lnTo>
                    <a:pt x="1620" y="652"/>
                  </a:lnTo>
                  <a:lnTo>
                    <a:pt x="1624" y="664"/>
                  </a:lnTo>
                  <a:lnTo>
                    <a:pt x="1628" y="676"/>
                  </a:lnTo>
                  <a:lnTo>
                    <a:pt x="1630" y="687"/>
                  </a:lnTo>
                  <a:lnTo>
                    <a:pt x="1633" y="699"/>
                  </a:lnTo>
                  <a:lnTo>
                    <a:pt x="1634" y="711"/>
                  </a:lnTo>
                  <a:lnTo>
                    <a:pt x="1634" y="723"/>
                  </a:lnTo>
                  <a:lnTo>
                    <a:pt x="1634" y="723"/>
                  </a:lnTo>
                  <a:lnTo>
                    <a:pt x="1634" y="723"/>
                  </a:lnTo>
                  <a:lnTo>
                    <a:pt x="1634" y="732"/>
                  </a:lnTo>
                  <a:lnTo>
                    <a:pt x="1636" y="740"/>
                  </a:lnTo>
                  <a:lnTo>
                    <a:pt x="1637" y="748"/>
                  </a:lnTo>
                  <a:lnTo>
                    <a:pt x="1640" y="755"/>
                  </a:lnTo>
                  <a:lnTo>
                    <a:pt x="1643" y="762"/>
                  </a:lnTo>
                  <a:lnTo>
                    <a:pt x="1647" y="768"/>
                  </a:lnTo>
                  <a:lnTo>
                    <a:pt x="1652" y="774"/>
                  </a:lnTo>
                  <a:lnTo>
                    <a:pt x="1657" y="779"/>
                  </a:lnTo>
                  <a:lnTo>
                    <a:pt x="1662" y="783"/>
                  </a:lnTo>
                  <a:lnTo>
                    <a:pt x="1668" y="787"/>
                  </a:lnTo>
                  <a:lnTo>
                    <a:pt x="1674" y="790"/>
                  </a:lnTo>
                  <a:lnTo>
                    <a:pt x="1682" y="793"/>
                  </a:lnTo>
                  <a:lnTo>
                    <a:pt x="1688" y="795"/>
                  </a:lnTo>
                  <a:lnTo>
                    <a:pt x="1695" y="796"/>
                  </a:lnTo>
                  <a:lnTo>
                    <a:pt x="1702" y="797"/>
                  </a:lnTo>
                  <a:lnTo>
                    <a:pt x="1709" y="797"/>
                  </a:lnTo>
                  <a:lnTo>
                    <a:pt x="1716" y="797"/>
                  </a:lnTo>
                  <a:lnTo>
                    <a:pt x="1722" y="796"/>
                  </a:lnTo>
                  <a:lnTo>
                    <a:pt x="1729" y="795"/>
                  </a:lnTo>
                  <a:lnTo>
                    <a:pt x="1736" y="793"/>
                  </a:lnTo>
                  <a:lnTo>
                    <a:pt x="1742" y="790"/>
                  </a:lnTo>
                  <a:lnTo>
                    <a:pt x="1748" y="787"/>
                  </a:lnTo>
                  <a:lnTo>
                    <a:pt x="1754" y="783"/>
                  </a:lnTo>
                  <a:lnTo>
                    <a:pt x="1760" y="779"/>
                  </a:lnTo>
                  <a:lnTo>
                    <a:pt x="1765" y="774"/>
                  </a:lnTo>
                  <a:lnTo>
                    <a:pt x="1770" y="768"/>
                  </a:lnTo>
                  <a:lnTo>
                    <a:pt x="1774" y="762"/>
                  </a:lnTo>
                  <a:lnTo>
                    <a:pt x="1777" y="755"/>
                  </a:lnTo>
                  <a:lnTo>
                    <a:pt x="1780" y="748"/>
                  </a:lnTo>
                  <a:lnTo>
                    <a:pt x="1782" y="740"/>
                  </a:lnTo>
                  <a:lnTo>
                    <a:pt x="1783" y="732"/>
                  </a:lnTo>
                  <a:lnTo>
                    <a:pt x="1783" y="72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49800" y="3592440"/>
              <a:ext cx="258480" cy="157320"/>
            </a:xfrm>
            <a:custGeom>
              <a:avLst/>
              <a:gdLst/>
              <a:ahLst/>
              <a:rect l="l" t="t" r="r" b="b"/>
              <a:pathLst>
                <a:path w="3424" h="2081">
                  <a:moveTo>
                    <a:pt x="0" y="0"/>
                  </a:moveTo>
                  <a:lnTo>
                    <a:pt x="0" y="2081"/>
                  </a:lnTo>
                  <a:lnTo>
                    <a:pt x="3424" y="2081"/>
                  </a:lnTo>
                  <a:lnTo>
                    <a:pt x="342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449800" y="3541680"/>
              <a:ext cx="258480" cy="96840"/>
            </a:xfrm>
            <a:custGeom>
              <a:avLst/>
              <a:gdLst/>
              <a:ahLst/>
              <a:rect l="l" t="t" r="r" b="b"/>
              <a:pathLst>
                <a:path w="3419" h="1294">
                  <a:moveTo>
                    <a:pt x="3419" y="646"/>
                  </a:moveTo>
                  <a:lnTo>
                    <a:pt x="3416" y="680"/>
                  </a:lnTo>
                  <a:lnTo>
                    <a:pt x="3410" y="713"/>
                  </a:lnTo>
                  <a:lnTo>
                    <a:pt x="3399" y="746"/>
                  </a:lnTo>
                  <a:lnTo>
                    <a:pt x="3383" y="777"/>
                  </a:lnTo>
                  <a:lnTo>
                    <a:pt x="3364" y="809"/>
                  </a:lnTo>
                  <a:lnTo>
                    <a:pt x="3342" y="839"/>
                  </a:lnTo>
                  <a:lnTo>
                    <a:pt x="3315" y="869"/>
                  </a:lnTo>
                  <a:lnTo>
                    <a:pt x="3284" y="899"/>
                  </a:lnTo>
                  <a:lnTo>
                    <a:pt x="3250" y="927"/>
                  </a:lnTo>
                  <a:lnTo>
                    <a:pt x="3212" y="955"/>
                  </a:lnTo>
                  <a:lnTo>
                    <a:pt x="3171" y="982"/>
                  </a:lnTo>
                  <a:lnTo>
                    <a:pt x="3126" y="1009"/>
                  </a:lnTo>
                  <a:lnTo>
                    <a:pt x="3078" y="1034"/>
                  </a:lnTo>
                  <a:lnTo>
                    <a:pt x="3028" y="1058"/>
                  </a:lnTo>
                  <a:lnTo>
                    <a:pt x="2974" y="1082"/>
                  </a:lnTo>
                  <a:lnTo>
                    <a:pt x="2917" y="1104"/>
                  </a:lnTo>
                  <a:lnTo>
                    <a:pt x="2859" y="1125"/>
                  </a:lnTo>
                  <a:lnTo>
                    <a:pt x="2797" y="1146"/>
                  </a:lnTo>
                  <a:lnTo>
                    <a:pt x="2732" y="1165"/>
                  </a:lnTo>
                  <a:lnTo>
                    <a:pt x="2665" y="1183"/>
                  </a:lnTo>
                  <a:lnTo>
                    <a:pt x="2595" y="1200"/>
                  </a:lnTo>
                  <a:lnTo>
                    <a:pt x="2524" y="1216"/>
                  </a:lnTo>
                  <a:lnTo>
                    <a:pt x="2450" y="1230"/>
                  </a:lnTo>
                  <a:lnTo>
                    <a:pt x="2374" y="1243"/>
                  </a:lnTo>
                  <a:lnTo>
                    <a:pt x="2297" y="1254"/>
                  </a:lnTo>
                  <a:lnTo>
                    <a:pt x="2217" y="1264"/>
                  </a:lnTo>
                  <a:lnTo>
                    <a:pt x="2136" y="1273"/>
                  </a:lnTo>
                  <a:lnTo>
                    <a:pt x="2054" y="1281"/>
                  </a:lnTo>
                  <a:lnTo>
                    <a:pt x="1970" y="1287"/>
                  </a:lnTo>
                  <a:lnTo>
                    <a:pt x="1884" y="1291"/>
                  </a:lnTo>
                  <a:lnTo>
                    <a:pt x="1798" y="1293"/>
                  </a:lnTo>
                  <a:lnTo>
                    <a:pt x="1710" y="1294"/>
                  </a:lnTo>
                  <a:lnTo>
                    <a:pt x="1621" y="1293"/>
                  </a:lnTo>
                  <a:lnTo>
                    <a:pt x="1534" y="1291"/>
                  </a:lnTo>
                  <a:lnTo>
                    <a:pt x="1449" y="1287"/>
                  </a:lnTo>
                  <a:lnTo>
                    <a:pt x="1365" y="1281"/>
                  </a:lnTo>
                  <a:lnTo>
                    <a:pt x="1282" y="1273"/>
                  </a:lnTo>
                  <a:lnTo>
                    <a:pt x="1201" y="1264"/>
                  </a:lnTo>
                  <a:lnTo>
                    <a:pt x="1122" y="1254"/>
                  </a:lnTo>
                  <a:lnTo>
                    <a:pt x="1044" y="1243"/>
                  </a:lnTo>
                  <a:lnTo>
                    <a:pt x="969" y="1230"/>
                  </a:lnTo>
                  <a:lnTo>
                    <a:pt x="895" y="1216"/>
                  </a:lnTo>
                  <a:lnTo>
                    <a:pt x="823" y="1200"/>
                  </a:lnTo>
                  <a:lnTo>
                    <a:pt x="754" y="1183"/>
                  </a:lnTo>
                  <a:lnTo>
                    <a:pt x="687" y="1165"/>
                  </a:lnTo>
                  <a:lnTo>
                    <a:pt x="622" y="1146"/>
                  </a:lnTo>
                  <a:lnTo>
                    <a:pt x="560" y="1125"/>
                  </a:lnTo>
                  <a:lnTo>
                    <a:pt x="501" y="1104"/>
                  </a:lnTo>
                  <a:lnTo>
                    <a:pt x="444" y="1082"/>
                  </a:lnTo>
                  <a:lnTo>
                    <a:pt x="390" y="1058"/>
                  </a:lnTo>
                  <a:lnTo>
                    <a:pt x="340" y="1034"/>
                  </a:lnTo>
                  <a:lnTo>
                    <a:pt x="292" y="1009"/>
                  </a:lnTo>
                  <a:lnTo>
                    <a:pt x="247" y="982"/>
                  </a:lnTo>
                  <a:lnTo>
                    <a:pt x="206" y="955"/>
                  </a:lnTo>
                  <a:lnTo>
                    <a:pt x="168" y="927"/>
                  </a:lnTo>
                  <a:lnTo>
                    <a:pt x="134" y="899"/>
                  </a:lnTo>
                  <a:lnTo>
                    <a:pt x="104" y="869"/>
                  </a:lnTo>
                  <a:lnTo>
                    <a:pt x="77" y="839"/>
                  </a:lnTo>
                  <a:lnTo>
                    <a:pt x="54" y="809"/>
                  </a:lnTo>
                  <a:lnTo>
                    <a:pt x="35" y="777"/>
                  </a:lnTo>
                  <a:lnTo>
                    <a:pt x="19" y="746"/>
                  </a:lnTo>
                  <a:lnTo>
                    <a:pt x="9" y="713"/>
                  </a:lnTo>
                  <a:lnTo>
                    <a:pt x="2" y="680"/>
                  </a:lnTo>
                  <a:lnTo>
                    <a:pt x="0" y="646"/>
                  </a:lnTo>
                  <a:lnTo>
                    <a:pt x="2" y="614"/>
                  </a:lnTo>
                  <a:lnTo>
                    <a:pt x="9" y="580"/>
                  </a:lnTo>
                  <a:lnTo>
                    <a:pt x="19" y="548"/>
                  </a:lnTo>
                  <a:lnTo>
                    <a:pt x="35" y="516"/>
                  </a:lnTo>
                  <a:lnTo>
                    <a:pt x="54" y="485"/>
                  </a:lnTo>
                  <a:lnTo>
                    <a:pt x="77" y="454"/>
                  </a:lnTo>
                  <a:lnTo>
                    <a:pt x="104" y="424"/>
                  </a:lnTo>
                  <a:lnTo>
                    <a:pt x="134" y="394"/>
                  </a:lnTo>
                  <a:lnTo>
                    <a:pt x="168" y="366"/>
                  </a:lnTo>
                  <a:lnTo>
                    <a:pt x="206" y="339"/>
                  </a:lnTo>
                  <a:lnTo>
                    <a:pt x="247" y="311"/>
                  </a:lnTo>
                  <a:lnTo>
                    <a:pt x="292" y="285"/>
                  </a:lnTo>
                  <a:lnTo>
                    <a:pt x="340" y="259"/>
                  </a:lnTo>
                  <a:lnTo>
                    <a:pt x="390" y="235"/>
                  </a:lnTo>
                  <a:lnTo>
                    <a:pt x="444" y="212"/>
                  </a:lnTo>
                  <a:lnTo>
                    <a:pt x="501" y="189"/>
                  </a:lnTo>
                  <a:lnTo>
                    <a:pt x="560" y="168"/>
                  </a:lnTo>
                  <a:lnTo>
                    <a:pt x="622" y="148"/>
                  </a:lnTo>
                  <a:lnTo>
                    <a:pt x="687" y="128"/>
                  </a:lnTo>
                  <a:lnTo>
                    <a:pt x="754" y="110"/>
                  </a:lnTo>
                  <a:lnTo>
                    <a:pt x="823" y="93"/>
                  </a:lnTo>
                  <a:lnTo>
                    <a:pt x="895" y="78"/>
                  </a:lnTo>
                  <a:lnTo>
                    <a:pt x="969" y="64"/>
                  </a:lnTo>
                  <a:lnTo>
                    <a:pt x="1044" y="50"/>
                  </a:lnTo>
                  <a:lnTo>
                    <a:pt x="1122" y="39"/>
                  </a:lnTo>
                  <a:lnTo>
                    <a:pt x="1201" y="29"/>
                  </a:lnTo>
                  <a:lnTo>
                    <a:pt x="1282" y="20"/>
                  </a:lnTo>
                  <a:lnTo>
                    <a:pt x="1365" y="13"/>
                  </a:lnTo>
                  <a:lnTo>
                    <a:pt x="1449" y="7"/>
                  </a:lnTo>
                  <a:lnTo>
                    <a:pt x="1534" y="3"/>
                  </a:lnTo>
                  <a:lnTo>
                    <a:pt x="1621" y="1"/>
                  </a:lnTo>
                  <a:lnTo>
                    <a:pt x="1710" y="0"/>
                  </a:lnTo>
                  <a:lnTo>
                    <a:pt x="1798" y="1"/>
                  </a:lnTo>
                  <a:lnTo>
                    <a:pt x="1884" y="3"/>
                  </a:lnTo>
                  <a:lnTo>
                    <a:pt x="1970" y="7"/>
                  </a:lnTo>
                  <a:lnTo>
                    <a:pt x="2054" y="13"/>
                  </a:lnTo>
                  <a:lnTo>
                    <a:pt x="2136" y="20"/>
                  </a:lnTo>
                  <a:lnTo>
                    <a:pt x="2217" y="29"/>
                  </a:lnTo>
                  <a:lnTo>
                    <a:pt x="2297" y="39"/>
                  </a:lnTo>
                  <a:lnTo>
                    <a:pt x="2374" y="50"/>
                  </a:lnTo>
                  <a:lnTo>
                    <a:pt x="2450" y="64"/>
                  </a:lnTo>
                  <a:lnTo>
                    <a:pt x="2524" y="78"/>
                  </a:lnTo>
                  <a:lnTo>
                    <a:pt x="2595" y="93"/>
                  </a:lnTo>
                  <a:lnTo>
                    <a:pt x="2665" y="110"/>
                  </a:lnTo>
                  <a:lnTo>
                    <a:pt x="2732" y="128"/>
                  </a:lnTo>
                  <a:lnTo>
                    <a:pt x="2797" y="148"/>
                  </a:lnTo>
                  <a:lnTo>
                    <a:pt x="2859" y="168"/>
                  </a:lnTo>
                  <a:lnTo>
                    <a:pt x="2917" y="189"/>
                  </a:lnTo>
                  <a:lnTo>
                    <a:pt x="2974" y="212"/>
                  </a:lnTo>
                  <a:lnTo>
                    <a:pt x="3028" y="235"/>
                  </a:lnTo>
                  <a:lnTo>
                    <a:pt x="3078" y="259"/>
                  </a:lnTo>
                  <a:lnTo>
                    <a:pt x="3126" y="285"/>
                  </a:lnTo>
                  <a:lnTo>
                    <a:pt x="3171" y="311"/>
                  </a:lnTo>
                  <a:lnTo>
                    <a:pt x="3212" y="339"/>
                  </a:lnTo>
                  <a:lnTo>
                    <a:pt x="3250" y="366"/>
                  </a:lnTo>
                  <a:lnTo>
                    <a:pt x="3284" y="394"/>
                  </a:lnTo>
                  <a:lnTo>
                    <a:pt x="3315" y="424"/>
                  </a:lnTo>
                  <a:lnTo>
                    <a:pt x="3342" y="454"/>
                  </a:lnTo>
                  <a:lnTo>
                    <a:pt x="3364" y="485"/>
                  </a:lnTo>
                  <a:lnTo>
                    <a:pt x="3383" y="516"/>
                  </a:lnTo>
                  <a:lnTo>
                    <a:pt x="3399" y="548"/>
                  </a:lnTo>
                  <a:lnTo>
                    <a:pt x="3410" y="580"/>
                  </a:lnTo>
                  <a:lnTo>
                    <a:pt x="3416" y="614"/>
                  </a:lnTo>
                  <a:lnTo>
                    <a:pt x="3419" y="646"/>
                  </a:lnTo>
                  <a:close/>
                </a:path>
              </a:pathLst>
            </a:custGeom>
            <a:solidFill>
              <a:srgbClr val="0c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573280" y="3591000"/>
              <a:ext cx="140040" cy="54000"/>
            </a:xfrm>
            <a:custGeom>
              <a:avLst/>
              <a:gdLst/>
              <a:ahLst/>
              <a:rect l="l" t="t" r="r" b="b"/>
              <a:pathLst>
                <a:path w="1858" h="723">
                  <a:moveTo>
                    <a:pt x="75" y="723"/>
                  </a:moveTo>
                  <a:lnTo>
                    <a:pt x="75" y="723"/>
                  </a:lnTo>
                  <a:lnTo>
                    <a:pt x="164" y="722"/>
                  </a:lnTo>
                  <a:lnTo>
                    <a:pt x="252" y="719"/>
                  </a:lnTo>
                  <a:lnTo>
                    <a:pt x="339" y="715"/>
                  </a:lnTo>
                  <a:lnTo>
                    <a:pt x="424" y="710"/>
                  </a:lnTo>
                  <a:lnTo>
                    <a:pt x="508" y="702"/>
                  </a:lnTo>
                  <a:lnTo>
                    <a:pt x="591" y="693"/>
                  </a:lnTo>
                  <a:lnTo>
                    <a:pt x="672" y="682"/>
                  </a:lnTo>
                  <a:lnTo>
                    <a:pt x="751" y="671"/>
                  </a:lnTo>
                  <a:lnTo>
                    <a:pt x="828" y="658"/>
                  </a:lnTo>
                  <a:lnTo>
                    <a:pt x="903" y="643"/>
                  </a:lnTo>
                  <a:lnTo>
                    <a:pt x="977" y="627"/>
                  </a:lnTo>
                  <a:lnTo>
                    <a:pt x="1048" y="610"/>
                  </a:lnTo>
                  <a:lnTo>
                    <a:pt x="1117" y="591"/>
                  </a:lnTo>
                  <a:lnTo>
                    <a:pt x="1183" y="572"/>
                  </a:lnTo>
                  <a:lnTo>
                    <a:pt x="1248" y="550"/>
                  </a:lnTo>
                  <a:lnTo>
                    <a:pt x="1309" y="528"/>
                  </a:lnTo>
                  <a:lnTo>
                    <a:pt x="1339" y="517"/>
                  </a:lnTo>
                  <a:lnTo>
                    <a:pt x="1367" y="505"/>
                  </a:lnTo>
                  <a:lnTo>
                    <a:pt x="1396" y="492"/>
                  </a:lnTo>
                  <a:lnTo>
                    <a:pt x="1424" y="480"/>
                  </a:lnTo>
                  <a:lnTo>
                    <a:pt x="1451" y="467"/>
                  </a:lnTo>
                  <a:lnTo>
                    <a:pt x="1477" y="455"/>
                  </a:lnTo>
                  <a:lnTo>
                    <a:pt x="1503" y="442"/>
                  </a:lnTo>
                  <a:lnTo>
                    <a:pt x="1528" y="427"/>
                  </a:lnTo>
                  <a:lnTo>
                    <a:pt x="1552" y="414"/>
                  </a:lnTo>
                  <a:lnTo>
                    <a:pt x="1575" y="400"/>
                  </a:lnTo>
                  <a:lnTo>
                    <a:pt x="1597" y="385"/>
                  </a:lnTo>
                  <a:lnTo>
                    <a:pt x="1620" y="371"/>
                  </a:lnTo>
                  <a:lnTo>
                    <a:pt x="1641" y="355"/>
                  </a:lnTo>
                  <a:lnTo>
                    <a:pt x="1660" y="340"/>
                  </a:lnTo>
                  <a:lnTo>
                    <a:pt x="1681" y="324"/>
                  </a:lnTo>
                  <a:lnTo>
                    <a:pt x="1699" y="309"/>
                  </a:lnTo>
                  <a:lnTo>
                    <a:pt x="1717" y="291"/>
                  </a:lnTo>
                  <a:lnTo>
                    <a:pt x="1733" y="275"/>
                  </a:lnTo>
                  <a:lnTo>
                    <a:pt x="1749" y="258"/>
                  </a:lnTo>
                  <a:lnTo>
                    <a:pt x="1765" y="241"/>
                  </a:lnTo>
                  <a:lnTo>
                    <a:pt x="1778" y="222"/>
                  </a:lnTo>
                  <a:lnTo>
                    <a:pt x="1791" y="204"/>
                  </a:lnTo>
                  <a:lnTo>
                    <a:pt x="1803" y="186"/>
                  </a:lnTo>
                  <a:lnTo>
                    <a:pt x="1814" y="167"/>
                  </a:lnTo>
                  <a:lnTo>
                    <a:pt x="1824" y="147"/>
                  </a:lnTo>
                  <a:lnTo>
                    <a:pt x="1833" y="127"/>
                  </a:lnTo>
                  <a:lnTo>
                    <a:pt x="1841" y="107"/>
                  </a:lnTo>
                  <a:lnTo>
                    <a:pt x="1847" y="86"/>
                  </a:lnTo>
                  <a:lnTo>
                    <a:pt x="1852" y="65"/>
                  </a:lnTo>
                  <a:lnTo>
                    <a:pt x="1855" y="44"/>
                  </a:lnTo>
                  <a:lnTo>
                    <a:pt x="1858" y="22"/>
                  </a:lnTo>
                  <a:lnTo>
                    <a:pt x="1858" y="0"/>
                  </a:lnTo>
                  <a:lnTo>
                    <a:pt x="1709" y="0"/>
                  </a:lnTo>
                  <a:lnTo>
                    <a:pt x="1709" y="12"/>
                  </a:lnTo>
                  <a:lnTo>
                    <a:pt x="1708" y="23"/>
                  </a:lnTo>
                  <a:lnTo>
                    <a:pt x="1705" y="36"/>
                  </a:lnTo>
                  <a:lnTo>
                    <a:pt x="1703" y="48"/>
                  </a:lnTo>
                  <a:lnTo>
                    <a:pt x="1699" y="59"/>
                  </a:lnTo>
                  <a:lnTo>
                    <a:pt x="1695" y="71"/>
                  </a:lnTo>
                  <a:lnTo>
                    <a:pt x="1690" y="83"/>
                  </a:lnTo>
                  <a:lnTo>
                    <a:pt x="1683" y="96"/>
                  </a:lnTo>
                  <a:lnTo>
                    <a:pt x="1676" y="108"/>
                  </a:lnTo>
                  <a:lnTo>
                    <a:pt x="1668" y="120"/>
                  </a:lnTo>
                  <a:lnTo>
                    <a:pt x="1659" y="133"/>
                  </a:lnTo>
                  <a:lnTo>
                    <a:pt x="1649" y="145"/>
                  </a:lnTo>
                  <a:lnTo>
                    <a:pt x="1638" y="158"/>
                  </a:lnTo>
                  <a:lnTo>
                    <a:pt x="1626" y="171"/>
                  </a:lnTo>
                  <a:lnTo>
                    <a:pt x="1613" y="184"/>
                  </a:lnTo>
                  <a:lnTo>
                    <a:pt x="1599" y="197"/>
                  </a:lnTo>
                  <a:lnTo>
                    <a:pt x="1584" y="209"/>
                  </a:lnTo>
                  <a:lnTo>
                    <a:pt x="1569" y="222"/>
                  </a:lnTo>
                  <a:lnTo>
                    <a:pt x="1552" y="235"/>
                  </a:lnTo>
                  <a:lnTo>
                    <a:pt x="1535" y="248"/>
                  </a:lnTo>
                  <a:lnTo>
                    <a:pt x="1516" y="260"/>
                  </a:lnTo>
                  <a:lnTo>
                    <a:pt x="1496" y="273"/>
                  </a:lnTo>
                  <a:lnTo>
                    <a:pt x="1476" y="285"/>
                  </a:lnTo>
                  <a:lnTo>
                    <a:pt x="1456" y="298"/>
                  </a:lnTo>
                  <a:lnTo>
                    <a:pt x="1433" y="309"/>
                  </a:lnTo>
                  <a:lnTo>
                    <a:pt x="1410" y="321"/>
                  </a:lnTo>
                  <a:lnTo>
                    <a:pt x="1387" y="333"/>
                  </a:lnTo>
                  <a:lnTo>
                    <a:pt x="1362" y="344"/>
                  </a:lnTo>
                  <a:lnTo>
                    <a:pt x="1337" y="355"/>
                  </a:lnTo>
                  <a:lnTo>
                    <a:pt x="1311" y="367"/>
                  </a:lnTo>
                  <a:lnTo>
                    <a:pt x="1284" y="378"/>
                  </a:lnTo>
                  <a:lnTo>
                    <a:pt x="1257" y="388"/>
                  </a:lnTo>
                  <a:lnTo>
                    <a:pt x="1199" y="409"/>
                  </a:lnTo>
                  <a:lnTo>
                    <a:pt x="1139" y="428"/>
                  </a:lnTo>
                  <a:lnTo>
                    <a:pt x="1077" y="448"/>
                  </a:lnTo>
                  <a:lnTo>
                    <a:pt x="1012" y="465"/>
                  </a:lnTo>
                  <a:lnTo>
                    <a:pt x="944" y="481"/>
                  </a:lnTo>
                  <a:lnTo>
                    <a:pt x="874" y="496"/>
                  </a:lnTo>
                  <a:lnTo>
                    <a:pt x="802" y="511"/>
                  </a:lnTo>
                  <a:lnTo>
                    <a:pt x="728" y="523"/>
                  </a:lnTo>
                  <a:lnTo>
                    <a:pt x="651" y="535"/>
                  </a:lnTo>
                  <a:lnTo>
                    <a:pt x="574" y="544"/>
                  </a:lnTo>
                  <a:lnTo>
                    <a:pt x="494" y="553"/>
                  </a:lnTo>
                  <a:lnTo>
                    <a:pt x="413" y="560"/>
                  </a:lnTo>
                  <a:lnTo>
                    <a:pt x="330" y="566"/>
                  </a:lnTo>
                  <a:lnTo>
                    <a:pt x="247" y="570"/>
                  </a:lnTo>
                  <a:lnTo>
                    <a:pt x="161" y="572"/>
                  </a:lnTo>
                  <a:lnTo>
                    <a:pt x="75" y="573"/>
                  </a:lnTo>
                  <a:lnTo>
                    <a:pt x="75" y="573"/>
                  </a:lnTo>
                  <a:lnTo>
                    <a:pt x="75" y="573"/>
                  </a:lnTo>
                  <a:lnTo>
                    <a:pt x="65" y="574"/>
                  </a:lnTo>
                  <a:lnTo>
                    <a:pt x="57" y="575"/>
                  </a:lnTo>
                  <a:lnTo>
                    <a:pt x="49" y="577"/>
                  </a:lnTo>
                  <a:lnTo>
                    <a:pt x="42" y="580"/>
                  </a:lnTo>
                  <a:lnTo>
                    <a:pt x="35" y="583"/>
                  </a:lnTo>
                  <a:lnTo>
                    <a:pt x="29" y="587"/>
                  </a:lnTo>
                  <a:lnTo>
                    <a:pt x="23" y="591"/>
                  </a:lnTo>
                  <a:lnTo>
                    <a:pt x="19" y="596"/>
                  </a:lnTo>
                  <a:lnTo>
                    <a:pt x="14" y="602"/>
                  </a:lnTo>
                  <a:lnTo>
                    <a:pt x="10" y="608"/>
                  </a:lnTo>
                  <a:lnTo>
                    <a:pt x="7" y="614"/>
                  </a:lnTo>
                  <a:lnTo>
                    <a:pt x="5" y="620"/>
                  </a:lnTo>
                  <a:lnTo>
                    <a:pt x="3" y="627"/>
                  </a:lnTo>
                  <a:lnTo>
                    <a:pt x="1" y="634"/>
                  </a:lnTo>
                  <a:lnTo>
                    <a:pt x="0" y="641"/>
                  </a:lnTo>
                  <a:lnTo>
                    <a:pt x="0" y="648"/>
                  </a:lnTo>
                  <a:lnTo>
                    <a:pt x="0" y="655"/>
                  </a:lnTo>
                  <a:lnTo>
                    <a:pt x="1" y="662"/>
                  </a:lnTo>
                  <a:lnTo>
                    <a:pt x="3" y="669"/>
                  </a:lnTo>
                  <a:lnTo>
                    <a:pt x="5" y="675"/>
                  </a:lnTo>
                  <a:lnTo>
                    <a:pt x="7" y="682"/>
                  </a:lnTo>
                  <a:lnTo>
                    <a:pt x="10" y="688"/>
                  </a:lnTo>
                  <a:lnTo>
                    <a:pt x="14" y="694"/>
                  </a:lnTo>
                  <a:lnTo>
                    <a:pt x="19" y="700"/>
                  </a:lnTo>
                  <a:lnTo>
                    <a:pt x="23" y="705"/>
                  </a:lnTo>
                  <a:lnTo>
                    <a:pt x="29" y="709"/>
                  </a:lnTo>
                  <a:lnTo>
                    <a:pt x="35" y="713"/>
                  </a:lnTo>
                  <a:lnTo>
                    <a:pt x="42" y="717"/>
                  </a:lnTo>
                  <a:lnTo>
                    <a:pt x="49" y="719"/>
                  </a:lnTo>
                  <a:lnTo>
                    <a:pt x="57" y="721"/>
                  </a:lnTo>
                  <a:lnTo>
                    <a:pt x="65" y="722"/>
                  </a:lnTo>
                  <a:lnTo>
                    <a:pt x="75" y="72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43320" y="3584520"/>
              <a:ext cx="135000" cy="60480"/>
            </a:xfrm>
            <a:custGeom>
              <a:avLst/>
              <a:gdLst/>
              <a:ahLst/>
              <a:rect l="l" t="t" r="r" b="b"/>
              <a:pathLst>
                <a:path w="1785" h="797">
                  <a:moveTo>
                    <a:pt x="0" y="74"/>
                  </a:moveTo>
                  <a:lnTo>
                    <a:pt x="0" y="74"/>
                  </a:lnTo>
                  <a:lnTo>
                    <a:pt x="1" y="96"/>
                  </a:lnTo>
                  <a:lnTo>
                    <a:pt x="3" y="118"/>
                  </a:lnTo>
                  <a:lnTo>
                    <a:pt x="6" y="139"/>
                  </a:lnTo>
                  <a:lnTo>
                    <a:pt x="11" y="160"/>
                  </a:lnTo>
                  <a:lnTo>
                    <a:pt x="18" y="181"/>
                  </a:lnTo>
                  <a:lnTo>
                    <a:pt x="26" y="201"/>
                  </a:lnTo>
                  <a:lnTo>
                    <a:pt x="35" y="221"/>
                  </a:lnTo>
                  <a:lnTo>
                    <a:pt x="44" y="241"/>
                  </a:lnTo>
                  <a:lnTo>
                    <a:pt x="55" y="260"/>
                  </a:lnTo>
                  <a:lnTo>
                    <a:pt x="67" y="278"/>
                  </a:lnTo>
                  <a:lnTo>
                    <a:pt x="80" y="296"/>
                  </a:lnTo>
                  <a:lnTo>
                    <a:pt x="94" y="315"/>
                  </a:lnTo>
                  <a:lnTo>
                    <a:pt x="110" y="332"/>
                  </a:lnTo>
                  <a:lnTo>
                    <a:pt x="125" y="349"/>
                  </a:lnTo>
                  <a:lnTo>
                    <a:pt x="142" y="366"/>
                  </a:lnTo>
                  <a:lnTo>
                    <a:pt x="159" y="383"/>
                  </a:lnTo>
                  <a:lnTo>
                    <a:pt x="179" y="398"/>
                  </a:lnTo>
                  <a:lnTo>
                    <a:pt x="198" y="414"/>
                  </a:lnTo>
                  <a:lnTo>
                    <a:pt x="218" y="429"/>
                  </a:lnTo>
                  <a:lnTo>
                    <a:pt x="238" y="445"/>
                  </a:lnTo>
                  <a:lnTo>
                    <a:pt x="261" y="459"/>
                  </a:lnTo>
                  <a:lnTo>
                    <a:pt x="283" y="474"/>
                  </a:lnTo>
                  <a:lnTo>
                    <a:pt x="306" y="488"/>
                  </a:lnTo>
                  <a:lnTo>
                    <a:pt x="330" y="501"/>
                  </a:lnTo>
                  <a:lnTo>
                    <a:pt x="356" y="516"/>
                  </a:lnTo>
                  <a:lnTo>
                    <a:pt x="381" y="529"/>
                  </a:lnTo>
                  <a:lnTo>
                    <a:pt x="408" y="541"/>
                  </a:lnTo>
                  <a:lnTo>
                    <a:pt x="435" y="554"/>
                  </a:lnTo>
                  <a:lnTo>
                    <a:pt x="462" y="566"/>
                  </a:lnTo>
                  <a:lnTo>
                    <a:pt x="491" y="579"/>
                  </a:lnTo>
                  <a:lnTo>
                    <a:pt x="520" y="591"/>
                  </a:lnTo>
                  <a:lnTo>
                    <a:pt x="550" y="602"/>
                  </a:lnTo>
                  <a:lnTo>
                    <a:pt x="611" y="624"/>
                  </a:lnTo>
                  <a:lnTo>
                    <a:pt x="675" y="646"/>
                  </a:lnTo>
                  <a:lnTo>
                    <a:pt x="742" y="665"/>
                  </a:lnTo>
                  <a:lnTo>
                    <a:pt x="811" y="684"/>
                  </a:lnTo>
                  <a:lnTo>
                    <a:pt x="882" y="701"/>
                  </a:lnTo>
                  <a:lnTo>
                    <a:pt x="955" y="717"/>
                  </a:lnTo>
                  <a:lnTo>
                    <a:pt x="1031" y="732"/>
                  </a:lnTo>
                  <a:lnTo>
                    <a:pt x="1108" y="745"/>
                  </a:lnTo>
                  <a:lnTo>
                    <a:pt x="1187" y="756"/>
                  </a:lnTo>
                  <a:lnTo>
                    <a:pt x="1268" y="767"/>
                  </a:lnTo>
                  <a:lnTo>
                    <a:pt x="1350" y="776"/>
                  </a:lnTo>
                  <a:lnTo>
                    <a:pt x="1434" y="784"/>
                  </a:lnTo>
                  <a:lnTo>
                    <a:pt x="1520" y="789"/>
                  </a:lnTo>
                  <a:lnTo>
                    <a:pt x="1607" y="793"/>
                  </a:lnTo>
                  <a:lnTo>
                    <a:pt x="1695" y="796"/>
                  </a:lnTo>
                  <a:lnTo>
                    <a:pt x="1785" y="797"/>
                  </a:lnTo>
                  <a:lnTo>
                    <a:pt x="1785" y="647"/>
                  </a:lnTo>
                  <a:lnTo>
                    <a:pt x="1697" y="646"/>
                  </a:lnTo>
                  <a:lnTo>
                    <a:pt x="1612" y="644"/>
                  </a:lnTo>
                  <a:lnTo>
                    <a:pt x="1528" y="640"/>
                  </a:lnTo>
                  <a:lnTo>
                    <a:pt x="1445" y="634"/>
                  </a:lnTo>
                  <a:lnTo>
                    <a:pt x="1364" y="627"/>
                  </a:lnTo>
                  <a:lnTo>
                    <a:pt x="1285" y="618"/>
                  </a:lnTo>
                  <a:lnTo>
                    <a:pt x="1207" y="609"/>
                  </a:lnTo>
                  <a:lnTo>
                    <a:pt x="1131" y="597"/>
                  </a:lnTo>
                  <a:lnTo>
                    <a:pt x="1057" y="585"/>
                  </a:lnTo>
                  <a:lnTo>
                    <a:pt x="985" y="570"/>
                  </a:lnTo>
                  <a:lnTo>
                    <a:pt x="915" y="555"/>
                  </a:lnTo>
                  <a:lnTo>
                    <a:pt x="847" y="539"/>
                  </a:lnTo>
                  <a:lnTo>
                    <a:pt x="781" y="522"/>
                  </a:lnTo>
                  <a:lnTo>
                    <a:pt x="720" y="502"/>
                  </a:lnTo>
                  <a:lnTo>
                    <a:pt x="660" y="483"/>
                  </a:lnTo>
                  <a:lnTo>
                    <a:pt x="601" y="462"/>
                  </a:lnTo>
                  <a:lnTo>
                    <a:pt x="575" y="452"/>
                  </a:lnTo>
                  <a:lnTo>
                    <a:pt x="547" y="441"/>
                  </a:lnTo>
                  <a:lnTo>
                    <a:pt x="522" y="429"/>
                  </a:lnTo>
                  <a:lnTo>
                    <a:pt x="497" y="418"/>
                  </a:lnTo>
                  <a:lnTo>
                    <a:pt x="471" y="407"/>
                  </a:lnTo>
                  <a:lnTo>
                    <a:pt x="448" y="395"/>
                  </a:lnTo>
                  <a:lnTo>
                    <a:pt x="426" y="383"/>
                  </a:lnTo>
                  <a:lnTo>
                    <a:pt x="403" y="372"/>
                  </a:lnTo>
                  <a:lnTo>
                    <a:pt x="382" y="359"/>
                  </a:lnTo>
                  <a:lnTo>
                    <a:pt x="362" y="347"/>
                  </a:lnTo>
                  <a:lnTo>
                    <a:pt x="343" y="334"/>
                  </a:lnTo>
                  <a:lnTo>
                    <a:pt x="324" y="322"/>
                  </a:lnTo>
                  <a:lnTo>
                    <a:pt x="306" y="309"/>
                  </a:lnTo>
                  <a:lnTo>
                    <a:pt x="290" y="296"/>
                  </a:lnTo>
                  <a:lnTo>
                    <a:pt x="274" y="283"/>
                  </a:lnTo>
                  <a:lnTo>
                    <a:pt x="259" y="271"/>
                  </a:lnTo>
                  <a:lnTo>
                    <a:pt x="245" y="258"/>
                  </a:lnTo>
                  <a:lnTo>
                    <a:pt x="232" y="245"/>
                  </a:lnTo>
                  <a:lnTo>
                    <a:pt x="220" y="232"/>
                  </a:lnTo>
                  <a:lnTo>
                    <a:pt x="209" y="219"/>
                  </a:lnTo>
                  <a:lnTo>
                    <a:pt x="200" y="207"/>
                  </a:lnTo>
                  <a:lnTo>
                    <a:pt x="191" y="195"/>
                  </a:lnTo>
                  <a:lnTo>
                    <a:pt x="183" y="182"/>
                  </a:lnTo>
                  <a:lnTo>
                    <a:pt x="175" y="170"/>
                  </a:lnTo>
                  <a:lnTo>
                    <a:pt x="169" y="157"/>
                  </a:lnTo>
                  <a:lnTo>
                    <a:pt x="164" y="145"/>
                  </a:lnTo>
                  <a:lnTo>
                    <a:pt x="159" y="133"/>
                  </a:lnTo>
                  <a:lnTo>
                    <a:pt x="156" y="122"/>
                  </a:lnTo>
                  <a:lnTo>
                    <a:pt x="153" y="110"/>
                  </a:lnTo>
                  <a:lnTo>
                    <a:pt x="151" y="99"/>
                  </a:lnTo>
                  <a:lnTo>
                    <a:pt x="150" y="86"/>
                  </a:lnTo>
                  <a:lnTo>
                    <a:pt x="150" y="74"/>
                  </a:lnTo>
                  <a:lnTo>
                    <a:pt x="150" y="74"/>
                  </a:lnTo>
                  <a:lnTo>
                    <a:pt x="150" y="74"/>
                  </a:lnTo>
                  <a:lnTo>
                    <a:pt x="149" y="66"/>
                  </a:lnTo>
                  <a:lnTo>
                    <a:pt x="148" y="57"/>
                  </a:lnTo>
                  <a:lnTo>
                    <a:pt x="146" y="49"/>
                  </a:lnTo>
                  <a:lnTo>
                    <a:pt x="143" y="42"/>
                  </a:lnTo>
                  <a:lnTo>
                    <a:pt x="140" y="36"/>
                  </a:lnTo>
                  <a:lnTo>
                    <a:pt x="136" y="28"/>
                  </a:lnTo>
                  <a:lnTo>
                    <a:pt x="131" y="23"/>
                  </a:lnTo>
                  <a:lnTo>
                    <a:pt x="127" y="18"/>
                  </a:lnTo>
                  <a:lnTo>
                    <a:pt x="121" y="14"/>
                  </a:lnTo>
                  <a:lnTo>
                    <a:pt x="115" y="10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5" y="2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3" y="18"/>
                  </a:lnTo>
                  <a:lnTo>
                    <a:pt x="18" y="23"/>
                  </a:lnTo>
                  <a:lnTo>
                    <a:pt x="14" y="28"/>
                  </a:lnTo>
                  <a:lnTo>
                    <a:pt x="10" y="36"/>
                  </a:lnTo>
                  <a:lnTo>
                    <a:pt x="6" y="42"/>
                  </a:lnTo>
                  <a:lnTo>
                    <a:pt x="4" y="49"/>
                  </a:lnTo>
                  <a:lnTo>
                    <a:pt x="2" y="57"/>
                  </a:lnTo>
                  <a:lnTo>
                    <a:pt x="0" y="6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443320" y="3535200"/>
              <a:ext cx="141120" cy="55800"/>
            </a:xfrm>
            <a:custGeom>
              <a:avLst/>
              <a:gdLst/>
              <a:ahLst/>
              <a:rect l="l" t="t" r="r" b="b"/>
              <a:pathLst>
                <a:path w="1859" h="722">
                  <a:moveTo>
                    <a:pt x="1785" y="0"/>
                  </a:moveTo>
                  <a:lnTo>
                    <a:pt x="1785" y="0"/>
                  </a:lnTo>
                  <a:lnTo>
                    <a:pt x="1695" y="1"/>
                  </a:lnTo>
                  <a:lnTo>
                    <a:pt x="1607" y="5"/>
                  </a:lnTo>
                  <a:lnTo>
                    <a:pt x="1520" y="9"/>
                  </a:lnTo>
                  <a:lnTo>
                    <a:pt x="1434" y="14"/>
                  </a:lnTo>
                  <a:lnTo>
                    <a:pt x="1350" y="22"/>
                  </a:lnTo>
                  <a:lnTo>
                    <a:pt x="1268" y="30"/>
                  </a:lnTo>
                  <a:lnTo>
                    <a:pt x="1187" y="41"/>
                  </a:lnTo>
                  <a:lnTo>
                    <a:pt x="1108" y="52"/>
                  </a:lnTo>
                  <a:lnTo>
                    <a:pt x="1031" y="66"/>
                  </a:lnTo>
                  <a:lnTo>
                    <a:pt x="955" y="81"/>
                  </a:lnTo>
                  <a:lnTo>
                    <a:pt x="882" y="97"/>
                  </a:lnTo>
                  <a:lnTo>
                    <a:pt x="811" y="113"/>
                  </a:lnTo>
                  <a:lnTo>
                    <a:pt x="742" y="132"/>
                  </a:lnTo>
                  <a:lnTo>
                    <a:pt x="675" y="152"/>
                  </a:lnTo>
                  <a:lnTo>
                    <a:pt x="611" y="173"/>
                  </a:lnTo>
                  <a:lnTo>
                    <a:pt x="549" y="195"/>
                  </a:lnTo>
                  <a:lnTo>
                    <a:pt x="491" y="219"/>
                  </a:lnTo>
                  <a:lnTo>
                    <a:pt x="435" y="243"/>
                  </a:lnTo>
                  <a:lnTo>
                    <a:pt x="408" y="256"/>
                  </a:lnTo>
                  <a:lnTo>
                    <a:pt x="381" y="268"/>
                  </a:lnTo>
                  <a:lnTo>
                    <a:pt x="356" y="282"/>
                  </a:lnTo>
                  <a:lnTo>
                    <a:pt x="330" y="296"/>
                  </a:lnTo>
                  <a:lnTo>
                    <a:pt x="306" y="310"/>
                  </a:lnTo>
                  <a:lnTo>
                    <a:pt x="283" y="324"/>
                  </a:lnTo>
                  <a:lnTo>
                    <a:pt x="261" y="338"/>
                  </a:lnTo>
                  <a:lnTo>
                    <a:pt x="238" y="353"/>
                  </a:lnTo>
                  <a:lnTo>
                    <a:pt x="218" y="368"/>
                  </a:lnTo>
                  <a:lnTo>
                    <a:pt x="198" y="383"/>
                  </a:lnTo>
                  <a:lnTo>
                    <a:pt x="179" y="399"/>
                  </a:lnTo>
                  <a:lnTo>
                    <a:pt x="159" y="415"/>
                  </a:lnTo>
                  <a:lnTo>
                    <a:pt x="142" y="432"/>
                  </a:lnTo>
                  <a:lnTo>
                    <a:pt x="125" y="448"/>
                  </a:lnTo>
                  <a:lnTo>
                    <a:pt x="110" y="465"/>
                  </a:lnTo>
                  <a:lnTo>
                    <a:pt x="94" y="483"/>
                  </a:lnTo>
                  <a:lnTo>
                    <a:pt x="80" y="501"/>
                  </a:lnTo>
                  <a:lnTo>
                    <a:pt x="67" y="519"/>
                  </a:lnTo>
                  <a:lnTo>
                    <a:pt x="55" y="537"/>
                  </a:lnTo>
                  <a:lnTo>
                    <a:pt x="44" y="557"/>
                  </a:lnTo>
                  <a:lnTo>
                    <a:pt x="35" y="576"/>
                  </a:lnTo>
                  <a:lnTo>
                    <a:pt x="26" y="596"/>
                  </a:lnTo>
                  <a:lnTo>
                    <a:pt x="18" y="617"/>
                  </a:lnTo>
                  <a:lnTo>
                    <a:pt x="11" y="637"/>
                  </a:lnTo>
                  <a:lnTo>
                    <a:pt x="6" y="658"/>
                  </a:lnTo>
                  <a:lnTo>
                    <a:pt x="3" y="680"/>
                  </a:lnTo>
                  <a:lnTo>
                    <a:pt x="1" y="701"/>
                  </a:lnTo>
                  <a:lnTo>
                    <a:pt x="0" y="722"/>
                  </a:lnTo>
                  <a:lnTo>
                    <a:pt x="150" y="722"/>
                  </a:lnTo>
                  <a:lnTo>
                    <a:pt x="150" y="711"/>
                  </a:lnTo>
                  <a:lnTo>
                    <a:pt x="151" y="699"/>
                  </a:lnTo>
                  <a:lnTo>
                    <a:pt x="153" y="688"/>
                  </a:lnTo>
                  <a:lnTo>
                    <a:pt x="156" y="675"/>
                  </a:lnTo>
                  <a:lnTo>
                    <a:pt x="159" y="664"/>
                  </a:lnTo>
                  <a:lnTo>
                    <a:pt x="164" y="652"/>
                  </a:lnTo>
                  <a:lnTo>
                    <a:pt x="169" y="640"/>
                  </a:lnTo>
                  <a:lnTo>
                    <a:pt x="175" y="628"/>
                  </a:lnTo>
                  <a:lnTo>
                    <a:pt x="183" y="616"/>
                  </a:lnTo>
                  <a:lnTo>
                    <a:pt x="191" y="603"/>
                  </a:lnTo>
                  <a:lnTo>
                    <a:pt x="200" y="590"/>
                  </a:lnTo>
                  <a:lnTo>
                    <a:pt x="209" y="578"/>
                  </a:lnTo>
                  <a:lnTo>
                    <a:pt x="220" y="565"/>
                  </a:lnTo>
                  <a:lnTo>
                    <a:pt x="232" y="553"/>
                  </a:lnTo>
                  <a:lnTo>
                    <a:pt x="245" y="539"/>
                  </a:lnTo>
                  <a:lnTo>
                    <a:pt x="259" y="526"/>
                  </a:lnTo>
                  <a:lnTo>
                    <a:pt x="274" y="514"/>
                  </a:lnTo>
                  <a:lnTo>
                    <a:pt x="290" y="501"/>
                  </a:lnTo>
                  <a:lnTo>
                    <a:pt x="306" y="489"/>
                  </a:lnTo>
                  <a:lnTo>
                    <a:pt x="324" y="475"/>
                  </a:lnTo>
                  <a:lnTo>
                    <a:pt x="343" y="463"/>
                  </a:lnTo>
                  <a:lnTo>
                    <a:pt x="362" y="451"/>
                  </a:lnTo>
                  <a:lnTo>
                    <a:pt x="382" y="438"/>
                  </a:lnTo>
                  <a:lnTo>
                    <a:pt x="403" y="426"/>
                  </a:lnTo>
                  <a:lnTo>
                    <a:pt x="425" y="415"/>
                  </a:lnTo>
                  <a:lnTo>
                    <a:pt x="448" y="402"/>
                  </a:lnTo>
                  <a:lnTo>
                    <a:pt x="471" y="390"/>
                  </a:lnTo>
                  <a:lnTo>
                    <a:pt x="496" y="379"/>
                  </a:lnTo>
                  <a:lnTo>
                    <a:pt x="547" y="357"/>
                  </a:lnTo>
                  <a:lnTo>
                    <a:pt x="602" y="335"/>
                  </a:lnTo>
                  <a:lnTo>
                    <a:pt x="660" y="314"/>
                  </a:lnTo>
                  <a:lnTo>
                    <a:pt x="720" y="295"/>
                  </a:lnTo>
                  <a:lnTo>
                    <a:pt x="781" y="277"/>
                  </a:lnTo>
                  <a:lnTo>
                    <a:pt x="847" y="258"/>
                  </a:lnTo>
                  <a:lnTo>
                    <a:pt x="915" y="242"/>
                  </a:lnTo>
                  <a:lnTo>
                    <a:pt x="985" y="227"/>
                  </a:lnTo>
                  <a:lnTo>
                    <a:pt x="1057" y="213"/>
                  </a:lnTo>
                  <a:lnTo>
                    <a:pt x="1131" y="200"/>
                  </a:lnTo>
                  <a:lnTo>
                    <a:pt x="1207" y="189"/>
                  </a:lnTo>
                  <a:lnTo>
                    <a:pt x="1285" y="179"/>
                  </a:lnTo>
                  <a:lnTo>
                    <a:pt x="1364" y="170"/>
                  </a:lnTo>
                  <a:lnTo>
                    <a:pt x="1445" y="163"/>
                  </a:lnTo>
                  <a:lnTo>
                    <a:pt x="1528" y="158"/>
                  </a:lnTo>
                  <a:lnTo>
                    <a:pt x="1612" y="154"/>
                  </a:lnTo>
                  <a:lnTo>
                    <a:pt x="1697" y="152"/>
                  </a:lnTo>
                  <a:lnTo>
                    <a:pt x="1785" y="151"/>
                  </a:lnTo>
                  <a:lnTo>
                    <a:pt x="1785" y="151"/>
                  </a:lnTo>
                  <a:lnTo>
                    <a:pt x="1785" y="151"/>
                  </a:lnTo>
                  <a:lnTo>
                    <a:pt x="1794" y="150"/>
                  </a:lnTo>
                  <a:lnTo>
                    <a:pt x="1802" y="149"/>
                  </a:lnTo>
                  <a:lnTo>
                    <a:pt x="1810" y="147"/>
                  </a:lnTo>
                  <a:lnTo>
                    <a:pt x="1817" y="144"/>
                  </a:lnTo>
                  <a:lnTo>
                    <a:pt x="1824" y="141"/>
                  </a:lnTo>
                  <a:lnTo>
                    <a:pt x="1830" y="136"/>
                  </a:lnTo>
                  <a:lnTo>
                    <a:pt x="1835" y="132"/>
                  </a:lnTo>
                  <a:lnTo>
                    <a:pt x="1840" y="127"/>
                  </a:lnTo>
                  <a:lnTo>
                    <a:pt x="1844" y="121"/>
                  </a:lnTo>
                  <a:lnTo>
                    <a:pt x="1848" y="116"/>
                  </a:lnTo>
                  <a:lnTo>
                    <a:pt x="1851" y="109"/>
                  </a:lnTo>
                  <a:lnTo>
                    <a:pt x="1854" y="103"/>
                  </a:lnTo>
                  <a:lnTo>
                    <a:pt x="1856" y="97"/>
                  </a:lnTo>
                  <a:lnTo>
                    <a:pt x="1857" y="90"/>
                  </a:lnTo>
                  <a:lnTo>
                    <a:pt x="1858" y="83"/>
                  </a:lnTo>
                  <a:lnTo>
                    <a:pt x="1859" y="76"/>
                  </a:lnTo>
                  <a:lnTo>
                    <a:pt x="1858" y="68"/>
                  </a:lnTo>
                  <a:lnTo>
                    <a:pt x="1857" y="61"/>
                  </a:lnTo>
                  <a:lnTo>
                    <a:pt x="1856" y="55"/>
                  </a:lnTo>
                  <a:lnTo>
                    <a:pt x="1854" y="48"/>
                  </a:lnTo>
                  <a:lnTo>
                    <a:pt x="1851" y="42"/>
                  </a:lnTo>
                  <a:lnTo>
                    <a:pt x="1848" y="35"/>
                  </a:lnTo>
                  <a:lnTo>
                    <a:pt x="1844" y="30"/>
                  </a:lnTo>
                  <a:lnTo>
                    <a:pt x="1840" y="24"/>
                  </a:lnTo>
                  <a:lnTo>
                    <a:pt x="1835" y="19"/>
                  </a:lnTo>
                  <a:lnTo>
                    <a:pt x="1830" y="15"/>
                  </a:lnTo>
                  <a:lnTo>
                    <a:pt x="1824" y="11"/>
                  </a:lnTo>
                  <a:lnTo>
                    <a:pt x="1817" y="8"/>
                  </a:lnTo>
                  <a:lnTo>
                    <a:pt x="1810" y="5"/>
                  </a:lnTo>
                  <a:lnTo>
                    <a:pt x="1802" y="2"/>
                  </a:lnTo>
                  <a:lnTo>
                    <a:pt x="1794" y="1"/>
                  </a:lnTo>
                  <a:lnTo>
                    <a:pt x="1785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578320" y="3535200"/>
              <a:ext cx="135000" cy="60480"/>
            </a:xfrm>
            <a:custGeom>
              <a:avLst/>
              <a:gdLst/>
              <a:ahLst/>
              <a:rect l="l" t="t" r="r" b="b"/>
              <a:pathLst>
                <a:path w="1783" h="797">
                  <a:moveTo>
                    <a:pt x="1783" y="722"/>
                  </a:moveTo>
                  <a:lnTo>
                    <a:pt x="1783" y="722"/>
                  </a:lnTo>
                  <a:lnTo>
                    <a:pt x="1783" y="701"/>
                  </a:lnTo>
                  <a:lnTo>
                    <a:pt x="1780" y="680"/>
                  </a:lnTo>
                  <a:lnTo>
                    <a:pt x="1777" y="658"/>
                  </a:lnTo>
                  <a:lnTo>
                    <a:pt x="1772" y="637"/>
                  </a:lnTo>
                  <a:lnTo>
                    <a:pt x="1766" y="617"/>
                  </a:lnTo>
                  <a:lnTo>
                    <a:pt x="1758" y="596"/>
                  </a:lnTo>
                  <a:lnTo>
                    <a:pt x="1749" y="576"/>
                  </a:lnTo>
                  <a:lnTo>
                    <a:pt x="1739" y="557"/>
                  </a:lnTo>
                  <a:lnTo>
                    <a:pt x="1728" y="537"/>
                  </a:lnTo>
                  <a:lnTo>
                    <a:pt x="1716" y="519"/>
                  </a:lnTo>
                  <a:lnTo>
                    <a:pt x="1703" y="501"/>
                  </a:lnTo>
                  <a:lnTo>
                    <a:pt x="1690" y="483"/>
                  </a:lnTo>
                  <a:lnTo>
                    <a:pt x="1674" y="465"/>
                  </a:lnTo>
                  <a:lnTo>
                    <a:pt x="1658" y="448"/>
                  </a:lnTo>
                  <a:lnTo>
                    <a:pt x="1642" y="432"/>
                  </a:lnTo>
                  <a:lnTo>
                    <a:pt x="1624" y="415"/>
                  </a:lnTo>
                  <a:lnTo>
                    <a:pt x="1605" y="399"/>
                  </a:lnTo>
                  <a:lnTo>
                    <a:pt x="1585" y="383"/>
                  </a:lnTo>
                  <a:lnTo>
                    <a:pt x="1566" y="368"/>
                  </a:lnTo>
                  <a:lnTo>
                    <a:pt x="1545" y="353"/>
                  </a:lnTo>
                  <a:lnTo>
                    <a:pt x="1522" y="338"/>
                  </a:lnTo>
                  <a:lnTo>
                    <a:pt x="1500" y="324"/>
                  </a:lnTo>
                  <a:lnTo>
                    <a:pt x="1477" y="310"/>
                  </a:lnTo>
                  <a:lnTo>
                    <a:pt x="1453" y="296"/>
                  </a:lnTo>
                  <a:lnTo>
                    <a:pt x="1427" y="282"/>
                  </a:lnTo>
                  <a:lnTo>
                    <a:pt x="1402" y="268"/>
                  </a:lnTo>
                  <a:lnTo>
                    <a:pt x="1377" y="256"/>
                  </a:lnTo>
                  <a:lnTo>
                    <a:pt x="1348" y="243"/>
                  </a:lnTo>
                  <a:lnTo>
                    <a:pt x="1292" y="219"/>
                  </a:lnTo>
                  <a:lnTo>
                    <a:pt x="1234" y="195"/>
                  </a:lnTo>
                  <a:lnTo>
                    <a:pt x="1173" y="173"/>
                  </a:lnTo>
                  <a:lnTo>
                    <a:pt x="1108" y="152"/>
                  </a:lnTo>
                  <a:lnTo>
                    <a:pt x="1042" y="132"/>
                  </a:lnTo>
                  <a:lnTo>
                    <a:pt x="973" y="113"/>
                  </a:lnTo>
                  <a:lnTo>
                    <a:pt x="902" y="97"/>
                  </a:lnTo>
                  <a:lnTo>
                    <a:pt x="828" y="81"/>
                  </a:lnTo>
                  <a:lnTo>
                    <a:pt x="753" y="66"/>
                  </a:lnTo>
                  <a:lnTo>
                    <a:pt x="676" y="52"/>
                  </a:lnTo>
                  <a:lnTo>
                    <a:pt x="597" y="41"/>
                  </a:lnTo>
                  <a:lnTo>
                    <a:pt x="516" y="30"/>
                  </a:lnTo>
                  <a:lnTo>
                    <a:pt x="433" y="22"/>
                  </a:lnTo>
                  <a:lnTo>
                    <a:pt x="349" y="14"/>
                  </a:lnTo>
                  <a:lnTo>
                    <a:pt x="264" y="9"/>
                  </a:lnTo>
                  <a:lnTo>
                    <a:pt x="177" y="5"/>
                  </a:lnTo>
                  <a:lnTo>
                    <a:pt x="89" y="1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86" y="152"/>
                  </a:lnTo>
                  <a:lnTo>
                    <a:pt x="172" y="154"/>
                  </a:lnTo>
                  <a:lnTo>
                    <a:pt x="255" y="158"/>
                  </a:lnTo>
                  <a:lnTo>
                    <a:pt x="338" y="163"/>
                  </a:lnTo>
                  <a:lnTo>
                    <a:pt x="419" y="170"/>
                  </a:lnTo>
                  <a:lnTo>
                    <a:pt x="499" y="179"/>
                  </a:lnTo>
                  <a:lnTo>
                    <a:pt x="576" y="189"/>
                  </a:lnTo>
                  <a:lnTo>
                    <a:pt x="653" y="200"/>
                  </a:lnTo>
                  <a:lnTo>
                    <a:pt x="727" y="213"/>
                  </a:lnTo>
                  <a:lnTo>
                    <a:pt x="799" y="227"/>
                  </a:lnTo>
                  <a:lnTo>
                    <a:pt x="869" y="242"/>
                  </a:lnTo>
                  <a:lnTo>
                    <a:pt x="937" y="258"/>
                  </a:lnTo>
                  <a:lnTo>
                    <a:pt x="1002" y="277"/>
                  </a:lnTo>
                  <a:lnTo>
                    <a:pt x="1064" y="295"/>
                  </a:lnTo>
                  <a:lnTo>
                    <a:pt x="1124" y="314"/>
                  </a:lnTo>
                  <a:lnTo>
                    <a:pt x="1181" y="335"/>
                  </a:lnTo>
                  <a:lnTo>
                    <a:pt x="1236" y="357"/>
                  </a:lnTo>
                  <a:lnTo>
                    <a:pt x="1287" y="379"/>
                  </a:lnTo>
                  <a:lnTo>
                    <a:pt x="1312" y="390"/>
                  </a:lnTo>
                  <a:lnTo>
                    <a:pt x="1335" y="402"/>
                  </a:lnTo>
                  <a:lnTo>
                    <a:pt x="1358" y="415"/>
                  </a:lnTo>
                  <a:lnTo>
                    <a:pt x="1381" y="426"/>
                  </a:lnTo>
                  <a:lnTo>
                    <a:pt x="1401" y="438"/>
                  </a:lnTo>
                  <a:lnTo>
                    <a:pt x="1421" y="451"/>
                  </a:lnTo>
                  <a:lnTo>
                    <a:pt x="1441" y="463"/>
                  </a:lnTo>
                  <a:lnTo>
                    <a:pt x="1460" y="475"/>
                  </a:lnTo>
                  <a:lnTo>
                    <a:pt x="1477" y="489"/>
                  </a:lnTo>
                  <a:lnTo>
                    <a:pt x="1494" y="501"/>
                  </a:lnTo>
                  <a:lnTo>
                    <a:pt x="1509" y="514"/>
                  </a:lnTo>
                  <a:lnTo>
                    <a:pt x="1524" y="526"/>
                  </a:lnTo>
                  <a:lnTo>
                    <a:pt x="1538" y="539"/>
                  </a:lnTo>
                  <a:lnTo>
                    <a:pt x="1551" y="553"/>
                  </a:lnTo>
                  <a:lnTo>
                    <a:pt x="1563" y="565"/>
                  </a:lnTo>
                  <a:lnTo>
                    <a:pt x="1574" y="578"/>
                  </a:lnTo>
                  <a:lnTo>
                    <a:pt x="1584" y="590"/>
                  </a:lnTo>
                  <a:lnTo>
                    <a:pt x="1593" y="603"/>
                  </a:lnTo>
                  <a:lnTo>
                    <a:pt x="1601" y="616"/>
                  </a:lnTo>
                  <a:lnTo>
                    <a:pt x="1608" y="628"/>
                  </a:lnTo>
                  <a:lnTo>
                    <a:pt x="1615" y="640"/>
                  </a:lnTo>
                  <a:lnTo>
                    <a:pt x="1620" y="652"/>
                  </a:lnTo>
                  <a:lnTo>
                    <a:pt x="1624" y="664"/>
                  </a:lnTo>
                  <a:lnTo>
                    <a:pt x="1628" y="675"/>
                  </a:lnTo>
                  <a:lnTo>
                    <a:pt x="1630" y="688"/>
                  </a:lnTo>
                  <a:lnTo>
                    <a:pt x="1633" y="699"/>
                  </a:lnTo>
                  <a:lnTo>
                    <a:pt x="1634" y="711"/>
                  </a:lnTo>
                  <a:lnTo>
                    <a:pt x="1634" y="722"/>
                  </a:lnTo>
                  <a:lnTo>
                    <a:pt x="1634" y="722"/>
                  </a:lnTo>
                  <a:lnTo>
                    <a:pt x="1634" y="722"/>
                  </a:lnTo>
                  <a:lnTo>
                    <a:pt x="1634" y="731"/>
                  </a:lnTo>
                  <a:lnTo>
                    <a:pt x="1636" y="740"/>
                  </a:lnTo>
                  <a:lnTo>
                    <a:pt x="1637" y="749"/>
                  </a:lnTo>
                  <a:lnTo>
                    <a:pt x="1640" y="756"/>
                  </a:lnTo>
                  <a:lnTo>
                    <a:pt x="1643" y="762"/>
                  </a:lnTo>
                  <a:lnTo>
                    <a:pt x="1647" y="768"/>
                  </a:lnTo>
                  <a:lnTo>
                    <a:pt x="1652" y="774"/>
                  </a:lnTo>
                  <a:lnTo>
                    <a:pt x="1657" y="779"/>
                  </a:lnTo>
                  <a:lnTo>
                    <a:pt x="1662" y="783"/>
                  </a:lnTo>
                  <a:lnTo>
                    <a:pt x="1668" y="787"/>
                  </a:lnTo>
                  <a:lnTo>
                    <a:pt x="1674" y="790"/>
                  </a:lnTo>
                  <a:lnTo>
                    <a:pt x="1682" y="793"/>
                  </a:lnTo>
                  <a:lnTo>
                    <a:pt x="1688" y="795"/>
                  </a:lnTo>
                  <a:lnTo>
                    <a:pt x="1695" y="796"/>
                  </a:lnTo>
                  <a:lnTo>
                    <a:pt x="1702" y="797"/>
                  </a:lnTo>
                  <a:lnTo>
                    <a:pt x="1709" y="797"/>
                  </a:lnTo>
                  <a:lnTo>
                    <a:pt x="1716" y="797"/>
                  </a:lnTo>
                  <a:lnTo>
                    <a:pt x="1722" y="796"/>
                  </a:lnTo>
                  <a:lnTo>
                    <a:pt x="1729" y="795"/>
                  </a:lnTo>
                  <a:lnTo>
                    <a:pt x="1736" y="793"/>
                  </a:lnTo>
                  <a:lnTo>
                    <a:pt x="1742" y="790"/>
                  </a:lnTo>
                  <a:lnTo>
                    <a:pt x="1748" y="787"/>
                  </a:lnTo>
                  <a:lnTo>
                    <a:pt x="1754" y="783"/>
                  </a:lnTo>
                  <a:lnTo>
                    <a:pt x="1760" y="779"/>
                  </a:lnTo>
                  <a:lnTo>
                    <a:pt x="1765" y="774"/>
                  </a:lnTo>
                  <a:lnTo>
                    <a:pt x="1770" y="768"/>
                  </a:lnTo>
                  <a:lnTo>
                    <a:pt x="1774" y="762"/>
                  </a:lnTo>
                  <a:lnTo>
                    <a:pt x="1777" y="756"/>
                  </a:lnTo>
                  <a:lnTo>
                    <a:pt x="1780" y="749"/>
                  </a:lnTo>
                  <a:lnTo>
                    <a:pt x="1782" y="740"/>
                  </a:lnTo>
                  <a:lnTo>
                    <a:pt x="1783" y="731"/>
                  </a:lnTo>
                  <a:lnTo>
                    <a:pt x="1783" y="72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443320" y="3594240"/>
              <a:ext cx="12600" cy="15048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443320" y="3744720"/>
              <a:ext cx="12600" cy="504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702160" y="3594240"/>
              <a:ext cx="11160" cy="15048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702160" y="3744720"/>
              <a:ext cx="11160" cy="504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786040" y="3589200"/>
              <a:ext cx="324000" cy="133560"/>
            </a:xfrm>
            <a:custGeom>
              <a:avLst/>
              <a:gdLst/>
              <a:ahLst/>
              <a:rect l="l" t="t" r="r" b="b"/>
              <a:pathLst>
                <a:path w="4284" h="1782">
                  <a:moveTo>
                    <a:pt x="2713" y="1106"/>
                  </a:moveTo>
                  <a:lnTo>
                    <a:pt x="0" y="1108"/>
                  </a:lnTo>
                  <a:lnTo>
                    <a:pt x="0" y="676"/>
                  </a:lnTo>
                  <a:lnTo>
                    <a:pt x="2713" y="675"/>
                  </a:lnTo>
                  <a:lnTo>
                    <a:pt x="2714" y="0"/>
                  </a:lnTo>
                  <a:lnTo>
                    <a:pt x="4284" y="891"/>
                  </a:lnTo>
                  <a:lnTo>
                    <a:pt x="2714" y="1782"/>
                  </a:lnTo>
                  <a:lnTo>
                    <a:pt x="2713" y="1106"/>
                  </a:lnTo>
                  <a:close/>
                </a:path>
              </a:pathLst>
            </a:custGeom>
            <a:solidFill>
              <a:srgbClr val="0c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765520" y="3429000"/>
              <a:ext cx="281160" cy="190440"/>
            </a:xfrm>
            <a:custGeom>
              <a:avLst/>
              <a:gdLst/>
              <a:ahLst/>
              <a:rect l="l" t="t" r="r" b="b"/>
              <a:pathLst>
                <a:path w="3710" h="2520">
                  <a:moveTo>
                    <a:pt x="2509" y="1038"/>
                  </a:moveTo>
                  <a:lnTo>
                    <a:pt x="235" y="2520"/>
                  </a:lnTo>
                  <a:lnTo>
                    <a:pt x="0" y="2158"/>
                  </a:lnTo>
                  <a:lnTo>
                    <a:pt x="2274" y="677"/>
                  </a:lnTo>
                  <a:lnTo>
                    <a:pt x="1908" y="110"/>
                  </a:lnTo>
                  <a:lnTo>
                    <a:pt x="3710" y="0"/>
                  </a:lnTo>
                  <a:lnTo>
                    <a:pt x="2877" y="1604"/>
                  </a:lnTo>
                  <a:lnTo>
                    <a:pt x="2509" y="1038"/>
                  </a:lnTo>
                  <a:close/>
                </a:path>
              </a:pathLst>
            </a:custGeom>
            <a:solidFill>
              <a:srgbClr val="0c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765520" y="3691080"/>
              <a:ext cx="281160" cy="190440"/>
            </a:xfrm>
            <a:custGeom>
              <a:avLst/>
              <a:gdLst/>
              <a:ahLst/>
              <a:rect l="l" t="t" r="r" b="b"/>
              <a:pathLst>
                <a:path w="3710" h="2520">
                  <a:moveTo>
                    <a:pt x="2509" y="1482"/>
                  </a:moveTo>
                  <a:lnTo>
                    <a:pt x="235" y="0"/>
                  </a:lnTo>
                  <a:lnTo>
                    <a:pt x="0" y="362"/>
                  </a:lnTo>
                  <a:lnTo>
                    <a:pt x="2274" y="1844"/>
                  </a:lnTo>
                  <a:lnTo>
                    <a:pt x="1908" y="2409"/>
                  </a:lnTo>
                  <a:lnTo>
                    <a:pt x="3710" y="2520"/>
                  </a:lnTo>
                  <a:lnTo>
                    <a:pt x="2877" y="915"/>
                  </a:lnTo>
                  <a:lnTo>
                    <a:pt x="2509" y="1482"/>
                  </a:lnTo>
                  <a:close/>
                </a:path>
              </a:pathLst>
            </a:custGeom>
            <a:solidFill>
              <a:srgbClr val="0c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054520" y="3589200"/>
              <a:ext cx="323640" cy="133560"/>
            </a:xfrm>
            <a:custGeom>
              <a:avLst/>
              <a:gdLst/>
              <a:ahLst/>
              <a:rect l="l" t="t" r="r" b="b"/>
              <a:pathLst>
                <a:path w="4284" h="1782">
                  <a:moveTo>
                    <a:pt x="1571" y="1106"/>
                  </a:moveTo>
                  <a:lnTo>
                    <a:pt x="4284" y="1108"/>
                  </a:lnTo>
                  <a:lnTo>
                    <a:pt x="4284" y="676"/>
                  </a:lnTo>
                  <a:lnTo>
                    <a:pt x="1571" y="675"/>
                  </a:lnTo>
                  <a:lnTo>
                    <a:pt x="1570" y="0"/>
                  </a:lnTo>
                  <a:lnTo>
                    <a:pt x="0" y="891"/>
                  </a:lnTo>
                  <a:lnTo>
                    <a:pt x="1570" y="1782"/>
                  </a:lnTo>
                  <a:lnTo>
                    <a:pt x="1571" y="1106"/>
                  </a:lnTo>
                  <a:close/>
                </a:path>
              </a:pathLst>
            </a:custGeom>
            <a:solidFill>
              <a:srgbClr val="0c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17840" y="3340080"/>
              <a:ext cx="133560" cy="193680"/>
            </a:xfrm>
            <a:custGeom>
              <a:avLst/>
              <a:gdLst/>
              <a:ahLst/>
              <a:rect l="l" t="t" r="r" b="b"/>
              <a:pathLst>
                <a:path w="1779" h="2550">
                  <a:moveTo>
                    <a:pt x="1104" y="976"/>
                  </a:moveTo>
                  <a:lnTo>
                    <a:pt x="1106" y="0"/>
                  </a:lnTo>
                  <a:lnTo>
                    <a:pt x="675" y="0"/>
                  </a:lnTo>
                  <a:lnTo>
                    <a:pt x="674" y="976"/>
                  </a:lnTo>
                  <a:lnTo>
                    <a:pt x="0" y="977"/>
                  </a:lnTo>
                  <a:lnTo>
                    <a:pt x="889" y="2550"/>
                  </a:lnTo>
                  <a:lnTo>
                    <a:pt x="1779" y="977"/>
                  </a:lnTo>
                  <a:lnTo>
                    <a:pt x="1104" y="976"/>
                  </a:lnTo>
                  <a:close/>
                </a:path>
              </a:pathLst>
            </a:custGeom>
            <a:solidFill>
              <a:srgbClr val="0c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117880" y="3429000"/>
              <a:ext cx="279360" cy="190440"/>
            </a:xfrm>
            <a:custGeom>
              <a:avLst/>
              <a:gdLst/>
              <a:ahLst/>
              <a:rect l="l" t="t" r="r" b="b"/>
              <a:pathLst>
                <a:path w="3709" h="2520">
                  <a:moveTo>
                    <a:pt x="1201" y="1038"/>
                  </a:moveTo>
                  <a:lnTo>
                    <a:pt x="3475" y="2520"/>
                  </a:lnTo>
                  <a:lnTo>
                    <a:pt x="3709" y="2158"/>
                  </a:lnTo>
                  <a:lnTo>
                    <a:pt x="1436" y="677"/>
                  </a:lnTo>
                  <a:lnTo>
                    <a:pt x="1802" y="110"/>
                  </a:lnTo>
                  <a:lnTo>
                    <a:pt x="0" y="0"/>
                  </a:lnTo>
                  <a:lnTo>
                    <a:pt x="834" y="1604"/>
                  </a:lnTo>
                  <a:lnTo>
                    <a:pt x="1201" y="1038"/>
                  </a:lnTo>
                  <a:close/>
                </a:path>
              </a:pathLst>
            </a:custGeom>
            <a:solidFill>
              <a:srgbClr val="0c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117880" y="3691080"/>
              <a:ext cx="279360" cy="190440"/>
            </a:xfrm>
            <a:custGeom>
              <a:avLst/>
              <a:gdLst/>
              <a:ahLst/>
              <a:rect l="l" t="t" r="r" b="b"/>
              <a:pathLst>
                <a:path w="3709" h="2520">
                  <a:moveTo>
                    <a:pt x="1201" y="1482"/>
                  </a:moveTo>
                  <a:lnTo>
                    <a:pt x="3475" y="0"/>
                  </a:lnTo>
                  <a:lnTo>
                    <a:pt x="3709" y="362"/>
                  </a:lnTo>
                  <a:lnTo>
                    <a:pt x="1436" y="1844"/>
                  </a:lnTo>
                  <a:lnTo>
                    <a:pt x="1802" y="2409"/>
                  </a:lnTo>
                  <a:lnTo>
                    <a:pt x="0" y="2520"/>
                  </a:lnTo>
                  <a:lnTo>
                    <a:pt x="834" y="915"/>
                  </a:lnTo>
                  <a:lnTo>
                    <a:pt x="1201" y="1482"/>
                  </a:lnTo>
                  <a:close/>
                </a:path>
              </a:pathLst>
            </a:custGeom>
            <a:solidFill>
              <a:srgbClr val="0c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784600" y="3584520"/>
              <a:ext cx="324000" cy="135000"/>
            </a:xfrm>
            <a:custGeom>
              <a:avLst/>
              <a:gdLst/>
              <a:ahLst/>
              <a:rect l="l" t="t" r="r" b="b"/>
              <a:pathLst>
                <a:path w="4284" h="1781">
                  <a:moveTo>
                    <a:pt x="2712" y="1106"/>
                  </a:moveTo>
                  <a:lnTo>
                    <a:pt x="0" y="1107"/>
                  </a:lnTo>
                  <a:lnTo>
                    <a:pt x="0" y="676"/>
                  </a:lnTo>
                  <a:lnTo>
                    <a:pt x="2712" y="674"/>
                  </a:lnTo>
                  <a:lnTo>
                    <a:pt x="2713" y="0"/>
                  </a:lnTo>
                  <a:lnTo>
                    <a:pt x="4284" y="890"/>
                  </a:lnTo>
                  <a:lnTo>
                    <a:pt x="2713" y="1781"/>
                  </a:lnTo>
                  <a:lnTo>
                    <a:pt x="2712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764080" y="3425760"/>
              <a:ext cx="280800" cy="190440"/>
            </a:xfrm>
            <a:custGeom>
              <a:avLst/>
              <a:gdLst/>
              <a:ahLst/>
              <a:rect l="l" t="t" r="r" b="b"/>
              <a:pathLst>
                <a:path w="3709" h="2519">
                  <a:moveTo>
                    <a:pt x="2508" y="1038"/>
                  </a:moveTo>
                  <a:lnTo>
                    <a:pt x="235" y="2519"/>
                  </a:lnTo>
                  <a:lnTo>
                    <a:pt x="0" y="2158"/>
                  </a:lnTo>
                  <a:lnTo>
                    <a:pt x="2273" y="676"/>
                  </a:lnTo>
                  <a:lnTo>
                    <a:pt x="1907" y="109"/>
                  </a:lnTo>
                  <a:lnTo>
                    <a:pt x="3709" y="0"/>
                  </a:lnTo>
                  <a:lnTo>
                    <a:pt x="2876" y="1604"/>
                  </a:lnTo>
                  <a:lnTo>
                    <a:pt x="2508" y="10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764080" y="3686040"/>
              <a:ext cx="280800" cy="190440"/>
            </a:xfrm>
            <a:custGeom>
              <a:avLst/>
              <a:gdLst/>
              <a:ahLst/>
              <a:rect l="l" t="t" r="r" b="b"/>
              <a:pathLst>
                <a:path w="3709" h="2519">
                  <a:moveTo>
                    <a:pt x="2508" y="1481"/>
                  </a:moveTo>
                  <a:lnTo>
                    <a:pt x="235" y="0"/>
                  </a:lnTo>
                  <a:lnTo>
                    <a:pt x="0" y="361"/>
                  </a:lnTo>
                  <a:lnTo>
                    <a:pt x="2273" y="1843"/>
                  </a:lnTo>
                  <a:lnTo>
                    <a:pt x="1907" y="2410"/>
                  </a:lnTo>
                  <a:lnTo>
                    <a:pt x="3709" y="2519"/>
                  </a:lnTo>
                  <a:lnTo>
                    <a:pt x="2876" y="916"/>
                  </a:lnTo>
                  <a:lnTo>
                    <a:pt x="2508" y="14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051280" y="3584520"/>
              <a:ext cx="323640" cy="135000"/>
            </a:xfrm>
            <a:custGeom>
              <a:avLst/>
              <a:gdLst/>
              <a:ahLst/>
              <a:rect l="l" t="t" r="r" b="b"/>
              <a:pathLst>
                <a:path w="4285" h="1781">
                  <a:moveTo>
                    <a:pt x="1573" y="1106"/>
                  </a:moveTo>
                  <a:lnTo>
                    <a:pt x="4285" y="1107"/>
                  </a:lnTo>
                  <a:lnTo>
                    <a:pt x="4285" y="676"/>
                  </a:lnTo>
                  <a:lnTo>
                    <a:pt x="1573" y="674"/>
                  </a:lnTo>
                  <a:lnTo>
                    <a:pt x="1572" y="0"/>
                  </a:lnTo>
                  <a:lnTo>
                    <a:pt x="0" y="890"/>
                  </a:lnTo>
                  <a:lnTo>
                    <a:pt x="1572" y="1781"/>
                  </a:lnTo>
                  <a:lnTo>
                    <a:pt x="1573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14600" y="3336840"/>
              <a:ext cx="135000" cy="192240"/>
            </a:xfrm>
            <a:custGeom>
              <a:avLst/>
              <a:gdLst/>
              <a:ahLst/>
              <a:rect l="l" t="t" r="r" b="b"/>
              <a:pathLst>
                <a:path w="1780" h="2549">
                  <a:moveTo>
                    <a:pt x="1105" y="975"/>
                  </a:moveTo>
                  <a:lnTo>
                    <a:pt x="1107" y="0"/>
                  </a:lnTo>
                  <a:lnTo>
                    <a:pt x="675" y="0"/>
                  </a:lnTo>
                  <a:lnTo>
                    <a:pt x="673" y="975"/>
                  </a:lnTo>
                  <a:lnTo>
                    <a:pt x="0" y="976"/>
                  </a:lnTo>
                  <a:lnTo>
                    <a:pt x="890" y="2549"/>
                  </a:lnTo>
                  <a:lnTo>
                    <a:pt x="1780" y="976"/>
                  </a:lnTo>
                  <a:lnTo>
                    <a:pt x="1105" y="9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14640" y="3425760"/>
              <a:ext cx="281160" cy="190440"/>
            </a:xfrm>
            <a:custGeom>
              <a:avLst/>
              <a:gdLst/>
              <a:ahLst/>
              <a:rect l="l" t="t" r="r" b="b"/>
              <a:pathLst>
                <a:path w="3710" h="2519">
                  <a:moveTo>
                    <a:pt x="1202" y="1038"/>
                  </a:moveTo>
                  <a:lnTo>
                    <a:pt x="3476" y="2519"/>
                  </a:lnTo>
                  <a:lnTo>
                    <a:pt x="3710" y="2158"/>
                  </a:lnTo>
                  <a:lnTo>
                    <a:pt x="1436" y="676"/>
                  </a:lnTo>
                  <a:lnTo>
                    <a:pt x="1803" y="109"/>
                  </a:lnTo>
                  <a:lnTo>
                    <a:pt x="0" y="0"/>
                  </a:lnTo>
                  <a:lnTo>
                    <a:pt x="833" y="1604"/>
                  </a:lnTo>
                  <a:lnTo>
                    <a:pt x="1202" y="10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14640" y="3686040"/>
              <a:ext cx="281160" cy="190440"/>
            </a:xfrm>
            <a:custGeom>
              <a:avLst/>
              <a:gdLst/>
              <a:ahLst/>
              <a:rect l="l" t="t" r="r" b="b"/>
              <a:pathLst>
                <a:path w="3710" h="2519">
                  <a:moveTo>
                    <a:pt x="1202" y="1481"/>
                  </a:moveTo>
                  <a:lnTo>
                    <a:pt x="3476" y="0"/>
                  </a:lnTo>
                  <a:lnTo>
                    <a:pt x="3710" y="361"/>
                  </a:lnTo>
                  <a:lnTo>
                    <a:pt x="1436" y="1843"/>
                  </a:lnTo>
                  <a:lnTo>
                    <a:pt x="1803" y="2410"/>
                  </a:lnTo>
                  <a:lnTo>
                    <a:pt x="0" y="2519"/>
                  </a:lnTo>
                  <a:lnTo>
                    <a:pt x="833" y="916"/>
                  </a:lnTo>
                  <a:lnTo>
                    <a:pt x="1202" y="14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314280" y="5095800"/>
            <a:ext cx="917640" cy="1085760"/>
            <a:chOff x="314280" y="5095800"/>
            <a:chExt cx="917640" cy="1085760"/>
          </a:xfrm>
        </p:grpSpPr>
        <p:sp>
          <p:nvSpPr>
            <p:cNvPr id="1334" name=""/>
            <p:cNvSpPr/>
            <p:nvPr/>
          </p:nvSpPr>
          <p:spPr>
            <a:xfrm>
              <a:off x="320760" y="5359320"/>
              <a:ext cx="452520" cy="817560"/>
            </a:xfrm>
            <a:custGeom>
              <a:avLst/>
              <a:gdLst/>
              <a:ahLst/>
              <a:rect l="l" t="t" r="r" b="b"/>
              <a:pathLst>
                <a:path w="6851" h="12348">
                  <a:moveTo>
                    <a:pt x="6851" y="12348"/>
                  </a:moveTo>
                  <a:lnTo>
                    <a:pt x="0" y="8402"/>
                  </a:lnTo>
                  <a:lnTo>
                    <a:pt x="0" y="0"/>
                  </a:lnTo>
                  <a:lnTo>
                    <a:pt x="6851" y="3945"/>
                  </a:lnTo>
                  <a:lnTo>
                    <a:pt x="6851" y="12348"/>
                  </a:ln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7520" y="5913360"/>
              <a:ext cx="457200" cy="264960"/>
            </a:xfrm>
            <a:custGeom>
              <a:avLst/>
              <a:gdLst/>
              <a:ahLst/>
              <a:rect l="l" t="t" r="r" b="b"/>
              <a:pathLst>
                <a:path w="6916" h="4020">
                  <a:moveTo>
                    <a:pt x="0" y="37"/>
                  </a:moveTo>
                  <a:lnTo>
                    <a:pt x="22" y="74"/>
                  </a:lnTo>
                  <a:lnTo>
                    <a:pt x="6872" y="4020"/>
                  </a:lnTo>
                  <a:lnTo>
                    <a:pt x="6916" y="3946"/>
                  </a:lnTo>
                  <a:lnTo>
                    <a:pt x="64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62"/>
                  </a:lnTo>
                  <a:lnTo>
                    <a:pt x="22" y="7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17520" y="5354640"/>
              <a:ext cx="5040" cy="561960"/>
            </a:xfrm>
            <a:custGeom>
              <a:avLst/>
              <a:gdLst/>
              <a:ahLst/>
              <a:rect l="l" t="t" r="r" b="b"/>
              <a:pathLst>
                <a:path w="86" h="8476">
                  <a:moveTo>
                    <a:pt x="64" y="37"/>
                  </a:moveTo>
                  <a:lnTo>
                    <a:pt x="0" y="74"/>
                  </a:lnTo>
                  <a:lnTo>
                    <a:pt x="0" y="8476"/>
                  </a:lnTo>
                  <a:lnTo>
                    <a:pt x="86" y="8476"/>
                  </a:lnTo>
                  <a:lnTo>
                    <a:pt x="86" y="74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0" y="0"/>
                  </a:lnTo>
                  <a:lnTo>
                    <a:pt x="0" y="74"/>
                  </a:lnTo>
                  <a:lnTo>
                    <a:pt x="64" y="3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19320" y="5357880"/>
              <a:ext cx="457200" cy="264960"/>
            </a:xfrm>
            <a:custGeom>
              <a:avLst/>
              <a:gdLst/>
              <a:ahLst/>
              <a:rect l="l" t="t" r="r" b="b"/>
              <a:pathLst>
                <a:path w="6914" h="4019">
                  <a:moveTo>
                    <a:pt x="6914" y="3982"/>
                  </a:moveTo>
                  <a:lnTo>
                    <a:pt x="6894" y="3945"/>
                  </a:lnTo>
                  <a:lnTo>
                    <a:pt x="42" y="0"/>
                  </a:lnTo>
                  <a:lnTo>
                    <a:pt x="0" y="74"/>
                  </a:lnTo>
                  <a:lnTo>
                    <a:pt x="6850" y="4019"/>
                  </a:lnTo>
                  <a:lnTo>
                    <a:pt x="6914" y="3982"/>
                  </a:lnTo>
                  <a:lnTo>
                    <a:pt x="6914" y="3982"/>
                  </a:lnTo>
                  <a:lnTo>
                    <a:pt x="6914" y="3959"/>
                  </a:lnTo>
                  <a:lnTo>
                    <a:pt x="6894" y="3945"/>
                  </a:lnTo>
                  <a:lnTo>
                    <a:pt x="6914" y="398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70040" y="5621400"/>
              <a:ext cx="6480" cy="560160"/>
            </a:xfrm>
            <a:custGeom>
              <a:avLst/>
              <a:gdLst/>
              <a:ahLst/>
              <a:rect l="l" t="t" r="r" b="b"/>
              <a:pathLst>
                <a:path w="85" h="8477">
                  <a:moveTo>
                    <a:pt x="21" y="8440"/>
                  </a:moveTo>
                  <a:lnTo>
                    <a:pt x="85" y="8403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8403"/>
                  </a:lnTo>
                  <a:lnTo>
                    <a:pt x="21" y="8440"/>
                  </a:lnTo>
                  <a:lnTo>
                    <a:pt x="21" y="8440"/>
                  </a:lnTo>
                  <a:lnTo>
                    <a:pt x="85" y="8477"/>
                  </a:lnTo>
                  <a:lnTo>
                    <a:pt x="85" y="8403"/>
                  </a:lnTo>
                  <a:lnTo>
                    <a:pt x="21" y="844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73280" y="5359320"/>
              <a:ext cx="452520" cy="817560"/>
            </a:xfrm>
            <a:custGeom>
              <a:avLst/>
              <a:gdLst/>
              <a:ahLst/>
              <a:rect l="l" t="t" r="r" b="b"/>
              <a:pathLst>
                <a:path w="6851" h="12348">
                  <a:moveTo>
                    <a:pt x="0" y="12348"/>
                  </a:moveTo>
                  <a:lnTo>
                    <a:pt x="6851" y="8402"/>
                  </a:lnTo>
                  <a:lnTo>
                    <a:pt x="6851" y="0"/>
                  </a:lnTo>
                  <a:lnTo>
                    <a:pt x="0" y="3945"/>
                  </a:lnTo>
                  <a:lnTo>
                    <a:pt x="0" y="1234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20760" y="5099040"/>
              <a:ext cx="905040" cy="522360"/>
            </a:xfrm>
            <a:custGeom>
              <a:avLst/>
              <a:gdLst/>
              <a:ahLst/>
              <a:rect l="l" t="t" r="r" b="b"/>
              <a:pathLst>
                <a:path w="13702" h="7890">
                  <a:moveTo>
                    <a:pt x="6851" y="7890"/>
                  </a:moveTo>
                  <a:lnTo>
                    <a:pt x="13702" y="3945"/>
                  </a:lnTo>
                  <a:lnTo>
                    <a:pt x="6851" y="0"/>
                  </a:lnTo>
                  <a:lnTo>
                    <a:pt x="0" y="3945"/>
                  </a:lnTo>
                  <a:lnTo>
                    <a:pt x="6851" y="7890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1480" y="5357880"/>
              <a:ext cx="460440" cy="264960"/>
            </a:xfrm>
            <a:custGeom>
              <a:avLst/>
              <a:gdLst/>
              <a:ahLst/>
              <a:rect l="l" t="t" r="r" b="b"/>
              <a:pathLst>
                <a:path w="6958" h="4019">
                  <a:moveTo>
                    <a:pt x="6894" y="0"/>
                  </a:moveTo>
                  <a:lnTo>
                    <a:pt x="6852" y="0"/>
                  </a:lnTo>
                  <a:lnTo>
                    <a:pt x="0" y="3945"/>
                  </a:lnTo>
                  <a:lnTo>
                    <a:pt x="43" y="4019"/>
                  </a:lnTo>
                  <a:lnTo>
                    <a:pt x="6894" y="74"/>
                  </a:lnTo>
                  <a:lnTo>
                    <a:pt x="6894" y="0"/>
                  </a:lnTo>
                  <a:lnTo>
                    <a:pt x="6894" y="74"/>
                  </a:lnTo>
                  <a:lnTo>
                    <a:pt x="6958" y="37"/>
                  </a:lnTo>
                  <a:lnTo>
                    <a:pt x="6894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71480" y="5095800"/>
              <a:ext cx="455760" cy="266760"/>
            </a:xfrm>
            <a:custGeom>
              <a:avLst/>
              <a:gdLst/>
              <a:ahLst/>
              <a:rect l="l" t="t" r="r" b="b"/>
              <a:pathLst>
                <a:path w="6894" h="4031">
                  <a:moveTo>
                    <a:pt x="0" y="12"/>
                  </a:moveTo>
                  <a:lnTo>
                    <a:pt x="0" y="86"/>
                  </a:lnTo>
                  <a:lnTo>
                    <a:pt x="6852" y="4031"/>
                  </a:lnTo>
                  <a:lnTo>
                    <a:pt x="6894" y="3957"/>
                  </a:lnTo>
                  <a:lnTo>
                    <a:pt x="43" y="12"/>
                  </a:lnTo>
                  <a:lnTo>
                    <a:pt x="0" y="12"/>
                  </a:lnTo>
                  <a:lnTo>
                    <a:pt x="43" y="12"/>
                  </a:lnTo>
                  <a:lnTo>
                    <a:pt x="2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14280" y="5097240"/>
              <a:ext cx="460440" cy="265320"/>
            </a:xfrm>
            <a:custGeom>
              <a:avLst/>
              <a:gdLst/>
              <a:ahLst/>
              <a:rect l="l" t="t" r="r" b="b"/>
              <a:pathLst>
                <a:path w="6958" h="4019">
                  <a:moveTo>
                    <a:pt x="64" y="4019"/>
                  </a:moveTo>
                  <a:lnTo>
                    <a:pt x="106" y="4019"/>
                  </a:lnTo>
                  <a:lnTo>
                    <a:pt x="6958" y="74"/>
                  </a:lnTo>
                  <a:lnTo>
                    <a:pt x="6914" y="0"/>
                  </a:lnTo>
                  <a:lnTo>
                    <a:pt x="64" y="3945"/>
                  </a:lnTo>
                  <a:lnTo>
                    <a:pt x="64" y="4019"/>
                  </a:lnTo>
                  <a:lnTo>
                    <a:pt x="64" y="3945"/>
                  </a:lnTo>
                  <a:lnTo>
                    <a:pt x="0" y="3982"/>
                  </a:lnTo>
                  <a:lnTo>
                    <a:pt x="64" y="4019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9320" y="5357880"/>
              <a:ext cx="455400" cy="266400"/>
            </a:xfrm>
            <a:custGeom>
              <a:avLst/>
              <a:gdLst/>
              <a:ahLst/>
              <a:rect l="l" t="t" r="r" b="b"/>
              <a:pathLst>
                <a:path w="6894" h="4032">
                  <a:moveTo>
                    <a:pt x="6893" y="4019"/>
                  </a:moveTo>
                  <a:lnTo>
                    <a:pt x="6894" y="3945"/>
                  </a:lnTo>
                  <a:lnTo>
                    <a:pt x="42" y="0"/>
                  </a:lnTo>
                  <a:lnTo>
                    <a:pt x="0" y="74"/>
                  </a:lnTo>
                  <a:lnTo>
                    <a:pt x="6850" y="4019"/>
                  </a:lnTo>
                  <a:lnTo>
                    <a:pt x="6893" y="4019"/>
                  </a:lnTo>
                  <a:lnTo>
                    <a:pt x="6850" y="4019"/>
                  </a:lnTo>
                  <a:lnTo>
                    <a:pt x="6872" y="4032"/>
                  </a:lnTo>
                  <a:lnTo>
                    <a:pt x="6893" y="4019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73280" y="5359320"/>
              <a:ext cx="452520" cy="817560"/>
            </a:xfrm>
            <a:custGeom>
              <a:avLst/>
              <a:gdLst/>
              <a:ahLst/>
              <a:rect l="l" t="t" r="r" b="b"/>
              <a:pathLst>
                <a:path w="6851" h="12348">
                  <a:moveTo>
                    <a:pt x="6851" y="8371"/>
                  </a:moveTo>
                  <a:lnTo>
                    <a:pt x="0" y="12348"/>
                  </a:lnTo>
                  <a:lnTo>
                    <a:pt x="0" y="3977"/>
                  </a:lnTo>
                  <a:lnTo>
                    <a:pt x="6851" y="0"/>
                  </a:lnTo>
                  <a:lnTo>
                    <a:pt x="6851" y="8371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70040" y="5911920"/>
              <a:ext cx="457200" cy="269640"/>
            </a:xfrm>
            <a:custGeom>
              <a:avLst/>
              <a:gdLst/>
              <a:ahLst/>
              <a:rect l="l" t="t" r="r" b="b"/>
              <a:pathLst>
                <a:path w="6915" h="4088">
                  <a:moveTo>
                    <a:pt x="0" y="4014"/>
                  </a:moveTo>
                  <a:lnTo>
                    <a:pt x="65" y="4051"/>
                  </a:lnTo>
                  <a:lnTo>
                    <a:pt x="6915" y="74"/>
                  </a:lnTo>
                  <a:lnTo>
                    <a:pt x="6873" y="0"/>
                  </a:lnTo>
                  <a:lnTo>
                    <a:pt x="21" y="3977"/>
                  </a:lnTo>
                  <a:lnTo>
                    <a:pt x="0" y="4014"/>
                  </a:lnTo>
                  <a:lnTo>
                    <a:pt x="0" y="4014"/>
                  </a:lnTo>
                  <a:lnTo>
                    <a:pt x="0" y="4088"/>
                  </a:lnTo>
                  <a:lnTo>
                    <a:pt x="65" y="4051"/>
                  </a:lnTo>
                  <a:lnTo>
                    <a:pt x="0" y="4014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70040" y="5621400"/>
              <a:ext cx="6480" cy="555480"/>
            </a:xfrm>
            <a:custGeom>
              <a:avLst/>
              <a:gdLst/>
              <a:ahLst/>
              <a:rect l="l" t="t" r="r" b="b"/>
              <a:pathLst>
                <a:path w="85" h="8408">
                  <a:moveTo>
                    <a:pt x="21" y="0"/>
                  </a:moveTo>
                  <a:lnTo>
                    <a:pt x="0" y="37"/>
                  </a:lnTo>
                  <a:lnTo>
                    <a:pt x="0" y="8408"/>
                  </a:lnTo>
                  <a:lnTo>
                    <a:pt x="85" y="8408"/>
                  </a:lnTo>
                  <a:lnTo>
                    <a:pt x="85" y="37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12"/>
                  </a:lnTo>
                  <a:lnTo>
                    <a:pt x="0" y="3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71480" y="5354640"/>
              <a:ext cx="457200" cy="271440"/>
            </a:xfrm>
            <a:custGeom>
              <a:avLst/>
              <a:gdLst/>
              <a:ahLst/>
              <a:rect l="l" t="t" r="r" b="b"/>
              <a:pathLst>
                <a:path w="6916" h="4088">
                  <a:moveTo>
                    <a:pt x="6916" y="74"/>
                  </a:moveTo>
                  <a:lnTo>
                    <a:pt x="6852" y="37"/>
                  </a:lnTo>
                  <a:lnTo>
                    <a:pt x="0" y="4014"/>
                  </a:lnTo>
                  <a:lnTo>
                    <a:pt x="44" y="4088"/>
                  </a:lnTo>
                  <a:lnTo>
                    <a:pt x="6894" y="111"/>
                  </a:lnTo>
                  <a:lnTo>
                    <a:pt x="6916" y="74"/>
                  </a:lnTo>
                  <a:lnTo>
                    <a:pt x="6916" y="74"/>
                  </a:lnTo>
                  <a:lnTo>
                    <a:pt x="6916" y="0"/>
                  </a:lnTo>
                  <a:lnTo>
                    <a:pt x="6852" y="37"/>
                  </a:lnTo>
                  <a:lnTo>
                    <a:pt x="6916" y="74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224000" y="5359320"/>
              <a:ext cx="4680" cy="557280"/>
            </a:xfrm>
            <a:custGeom>
              <a:avLst/>
              <a:gdLst/>
              <a:ahLst/>
              <a:rect l="l" t="t" r="r" b="b"/>
              <a:pathLst>
                <a:path w="86" h="8408">
                  <a:moveTo>
                    <a:pt x="64" y="8408"/>
                  </a:moveTo>
                  <a:lnTo>
                    <a:pt x="86" y="8371"/>
                  </a:lnTo>
                  <a:lnTo>
                    <a:pt x="86" y="0"/>
                  </a:lnTo>
                  <a:lnTo>
                    <a:pt x="0" y="0"/>
                  </a:lnTo>
                  <a:lnTo>
                    <a:pt x="0" y="8371"/>
                  </a:lnTo>
                  <a:lnTo>
                    <a:pt x="64" y="8408"/>
                  </a:lnTo>
                  <a:lnTo>
                    <a:pt x="64" y="8408"/>
                  </a:lnTo>
                  <a:lnTo>
                    <a:pt x="86" y="8396"/>
                  </a:lnTo>
                  <a:lnTo>
                    <a:pt x="86" y="8371"/>
                  </a:lnTo>
                  <a:lnTo>
                    <a:pt x="64" y="8408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35200" y="5438520"/>
              <a:ext cx="349200" cy="517680"/>
            </a:xfrm>
            <a:custGeom>
              <a:avLst/>
              <a:gdLst/>
              <a:ahLst/>
              <a:rect l="l" t="t" r="r" b="b"/>
              <a:pathLst>
                <a:path w="5270" h="7835">
                  <a:moveTo>
                    <a:pt x="5270" y="4774"/>
                  </a:moveTo>
                  <a:lnTo>
                    <a:pt x="5270" y="0"/>
                  </a:lnTo>
                  <a:lnTo>
                    <a:pt x="0" y="3060"/>
                  </a:lnTo>
                  <a:lnTo>
                    <a:pt x="0" y="7835"/>
                  </a:lnTo>
                  <a:lnTo>
                    <a:pt x="5270" y="47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35200" y="5438520"/>
              <a:ext cx="349200" cy="517680"/>
            </a:xfrm>
            <a:custGeom>
              <a:avLst/>
              <a:gdLst/>
              <a:ahLst/>
              <a:rect l="l" t="t" r="r" b="b"/>
              <a:pathLst>
                <a:path w="5270" h="7835">
                  <a:moveTo>
                    <a:pt x="5270" y="4774"/>
                  </a:moveTo>
                  <a:lnTo>
                    <a:pt x="5270" y="0"/>
                  </a:lnTo>
                  <a:lnTo>
                    <a:pt x="0" y="3060"/>
                  </a:lnTo>
                  <a:lnTo>
                    <a:pt x="0" y="7835"/>
                  </a:lnTo>
                  <a:lnTo>
                    <a:pt x="5270" y="4774"/>
                  </a:lnTo>
                  <a:close/>
                </a:path>
              </a:pathLst>
            </a:custGeom>
            <a:noFill/>
            <a:ln w="3240">
              <a:solidFill>
                <a:srgbClr val="008c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57520" y="5499000"/>
              <a:ext cx="303120" cy="404640"/>
            </a:xfrm>
            <a:custGeom>
              <a:avLst/>
              <a:gdLst/>
              <a:ahLst/>
              <a:rect l="l" t="t" r="r" b="b"/>
              <a:pathLst>
                <a:path w="4574" h="6123">
                  <a:moveTo>
                    <a:pt x="437" y="2207"/>
                  </a:moveTo>
                  <a:lnTo>
                    <a:pt x="4138" y="59"/>
                  </a:lnTo>
                  <a:lnTo>
                    <a:pt x="4160" y="46"/>
                  </a:lnTo>
                  <a:lnTo>
                    <a:pt x="4182" y="35"/>
                  </a:lnTo>
                  <a:lnTo>
                    <a:pt x="4203" y="26"/>
                  </a:lnTo>
                  <a:lnTo>
                    <a:pt x="4225" y="19"/>
                  </a:lnTo>
                  <a:lnTo>
                    <a:pt x="4247" y="12"/>
                  </a:lnTo>
                  <a:lnTo>
                    <a:pt x="4267" y="7"/>
                  </a:lnTo>
                  <a:lnTo>
                    <a:pt x="4287" y="3"/>
                  </a:lnTo>
                  <a:lnTo>
                    <a:pt x="4307" y="1"/>
                  </a:lnTo>
                  <a:lnTo>
                    <a:pt x="4326" y="0"/>
                  </a:lnTo>
                  <a:lnTo>
                    <a:pt x="4345" y="1"/>
                  </a:lnTo>
                  <a:lnTo>
                    <a:pt x="4363" y="3"/>
                  </a:lnTo>
                  <a:lnTo>
                    <a:pt x="4381" y="6"/>
                  </a:lnTo>
                  <a:lnTo>
                    <a:pt x="4398" y="12"/>
                  </a:lnTo>
                  <a:lnTo>
                    <a:pt x="4414" y="18"/>
                  </a:lnTo>
                  <a:lnTo>
                    <a:pt x="4431" y="25"/>
                  </a:lnTo>
                  <a:lnTo>
                    <a:pt x="4446" y="33"/>
                  </a:lnTo>
                  <a:lnTo>
                    <a:pt x="4461" y="43"/>
                  </a:lnTo>
                  <a:lnTo>
                    <a:pt x="4474" y="54"/>
                  </a:lnTo>
                  <a:lnTo>
                    <a:pt x="4486" y="66"/>
                  </a:lnTo>
                  <a:lnTo>
                    <a:pt x="4499" y="80"/>
                  </a:lnTo>
                  <a:lnTo>
                    <a:pt x="4510" y="95"/>
                  </a:lnTo>
                  <a:lnTo>
                    <a:pt x="4521" y="110"/>
                  </a:lnTo>
                  <a:lnTo>
                    <a:pt x="4530" y="128"/>
                  </a:lnTo>
                  <a:lnTo>
                    <a:pt x="4539" y="146"/>
                  </a:lnTo>
                  <a:lnTo>
                    <a:pt x="4547" y="164"/>
                  </a:lnTo>
                  <a:lnTo>
                    <a:pt x="4554" y="185"/>
                  </a:lnTo>
                  <a:lnTo>
                    <a:pt x="4559" y="207"/>
                  </a:lnTo>
                  <a:lnTo>
                    <a:pt x="4564" y="229"/>
                  </a:lnTo>
                  <a:lnTo>
                    <a:pt x="4569" y="253"/>
                  </a:lnTo>
                  <a:lnTo>
                    <a:pt x="4572" y="277"/>
                  </a:lnTo>
                  <a:lnTo>
                    <a:pt x="4573" y="303"/>
                  </a:lnTo>
                  <a:lnTo>
                    <a:pt x="4574" y="330"/>
                  </a:lnTo>
                  <a:lnTo>
                    <a:pt x="4574" y="3139"/>
                  </a:lnTo>
                  <a:lnTo>
                    <a:pt x="4573" y="3167"/>
                  </a:lnTo>
                  <a:lnTo>
                    <a:pt x="4572" y="3194"/>
                  </a:lnTo>
                  <a:lnTo>
                    <a:pt x="4569" y="3222"/>
                  </a:lnTo>
                  <a:lnTo>
                    <a:pt x="4564" y="3250"/>
                  </a:lnTo>
                  <a:lnTo>
                    <a:pt x="4559" y="3278"/>
                  </a:lnTo>
                  <a:lnTo>
                    <a:pt x="4554" y="3306"/>
                  </a:lnTo>
                  <a:lnTo>
                    <a:pt x="4547" y="3335"/>
                  </a:lnTo>
                  <a:lnTo>
                    <a:pt x="4539" y="3362"/>
                  </a:lnTo>
                  <a:lnTo>
                    <a:pt x="4530" y="3391"/>
                  </a:lnTo>
                  <a:lnTo>
                    <a:pt x="4521" y="3419"/>
                  </a:lnTo>
                  <a:lnTo>
                    <a:pt x="4510" y="3448"/>
                  </a:lnTo>
                  <a:lnTo>
                    <a:pt x="4499" y="3475"/>
                  </a:lnTo>
                  <a:lnTo>
                    <a:pt x="4486" y="3503"/>
                  </a:lnTo>
                  <a:lnTo>
                    <a:pt x="4474" y="3530"/>
                  </a:lnTo>
                  <a:lnTo>
                    <a:pt x="4461" y="3557"/>
                  </a:lnTo>
                  <a:lnTo>
                    <a:pt x="4446" y="3584"/>
                  </a:lnTo>
                  <a:lnTo>
                    <a:pt x="4431" y="3610"/>
                  </a:lnTo>
                  <a:lnTo>
                    <a:pt x="4414" y="3635"/>
                  </a:lnTo>
                  <a:lnTo>
                    <a:pt x="4398" y="3661"/>
                  </a:lnTo>
                  <a:lnTo>
                    <a:pt x="4381" y="3685"/>
                  </a:lnTo>
                  <a:lnTo>
                    <a:pt x="4363" y="3709"/>
                  </a:lnTo>
                  <a:lnTo>
                    <a:pt x="4345" y="3732"/>
                  </a:lnTo>
                  <a:lnTo>
                    <a:pt x="4326" y="3754"/>
                  </a:lnTo>
                  <a:lnTo>
                    <a:pt x="4307" y="3776"/>
                  </a:lnTo>
                  <a:lnTo>
                    <a:pt x="4287" y="3798"/>
                  </a:lnTo>
                  <a:lnTo>
                    <a:pt x="4267" y="3817"/>
                  </a:lnTo>
                  <a:lnTo>
                    <a:pt x="4247" y="3836"/>
                  </a:lnTo>
                  <a:lnTo>
                    <a:pt x="4225" y="3855"/>
                  </a:lnTo>
                  <a:lnTo>
                    <a:pt x="4203" y="3871"/>
                  </a:lnTo>
                  <a:lnTo>
                    <a:pt x="4182" y="3888"/>
                  </a:lnTo>
                  <a:lnTo>
                    <a:pt x="4160" y="3902"/>
                  </a:lnTo>
                  <a:lnTo>
                    <a:pt x="4138" y="3917"/>
                  </a:lnTo>
                  <a:lnTo>
                    <a:pt x="437" y="6065"/>
                  </a:lnTo>
                  <a:lnTo>
                    <a:pt x="414" y="6077"/>
                  </a:lnTo>
                  <a:lnTo>
                    <a:pt x="391" y="6089"/>
                  </a:lnTo>
                  <a:lnTo>
                    <a:pt x="370" y="6098"/>
                  </a:lnTo>
                  <a:lnTo>
                    <a:pt x="348" y="6106"/>
                  </a:lnTo>
                  <a:lnTo>
                    <a:pt x="328" y="6112"/>
                  </a:lnTo>
                  <a:lnTo>
                    <a:pt x="307" y="6117"/>
                  </a:lnTo>
                  <a:lnTo>
                    <a:pt x="286" y="6120"/>
                  </a:lnTo>
                  <a:lnTo>
                    <a:pt x="267" y="6122"/>
                  </a:lnTo>
                  <a:lnTo>
                    <a:pt x="247" y="6123"/>
                  </a:lnTo>
                  <a:lnTo>
                    <a:pt x="229" y="6122"/>
                  </a:lnTo>
                  <a:lnTo>
                    <a:pt x="210" y="6120"/>
                  </a:lnTo>
                  <a:lnTo>
                    <a:pt x="193" y="6117"/>
                  </a:lnTo>
                  <a:lnTo>
                    <a:pt x="175" y="6113"/>
                  </a:lnTo>
                  <a:lnTo>
                    <a:pt x="159" y="6107"/>
                  </a:lnTo>
                  <a:lnTo>
                    <a:pt x="143" y="6100"/>
                  </a:lnTo>
                  <a:lnTo>
                    <a:pt x="128" y="6091"/>
                  </a:lnTo>
                  <a:lnTo>
                    <a:pt x="114" y="6081"/>
                  </a:lnTo>
                  <a:lnTo>
                    <a:pt x="100" y="6070"/>
                  </a:lnTo>
                  <a:lnTo>
                    <a:pt x="87" y="6058"/>
                  </a:lnTo>
                  <a:lnTo>
                    <a:pt x="75" y="6044"/>
                  </a:lnTo>
                  <a:lnTo>
                    <a:pt x="63" y="6030"/>
                  </a:lnTo>
                  <a:lnTo>
                    <a:pt x="53" y="6014"/>
                  </a:lnTo>
                  <a:lnTo>
                    <a:pt x="44" y="5997"/>
                  </a:lnTo>
                  <a:lnTo>
                    <a:pt x="35" y="5979"/>
                  </a:lnTo>
                  <a:lnTo>
                    <a:pt x="27" y="5959"/>
                  </a:lnTo>
                  <a:lnTo>
                    <a:pt x="20" y="5939"/>
                  </a:lnTo>
                  <a:lnTo>
                    <a:pt x="15" y="5917"/>
                  </a:lnTo>
                  <a:lnTo>
                    <a:pt x="10" y="5896"/>
                  </a:lnTo>
                  <a:lnTo>
                    <a:pt x="6" y="5872"/>
                  </a:lnTo>
                  <a:lnTo>
                    <a:pt x="2" y="5847"/>
                  </a:lnTo>
                  <a:lnTo>
                    <a:pt x="1" y="5822"/>
                  </a:lnTo>
                  <a:lnTo>
                    <a:pt x="0" y="5795"/>
                  </a:lnTo>
                  <a:lnTo>
                    <a:pt x="0" y="2985"/>
                  </a:lnTo>
                  <a:lnTo>
                    <a:pt x="1" y="2958"/>
                  </a:lnTo>
                  <a:lnTo>
                    <a:pt x="2" y="2931"/>
                  </a:lnTo>
                  <a:lnTo>
                    <a:pt x="6" y="2903"/>
                  </a:lnTo>
                  <a:lnTo>
                    <a:pt x="10" y="2874"/>
                  </a:lnTo>
                  <a:lnTo>
                    <a:pt x="15" y="2846"/>
                  </a:lnTo>
                  <a:lnTo>
                    <a:pt x="20" y="2818"/>
                  </a:lnTo>
                  <a:lnTo>
                    <a:pt x="27" y="2790"/>
                  </a:lnTo>
                  <a:lnTo>
                    <a:pt x="35" y="2761"/>
                  </a:lnTo>
                  <a:lnTo>
                    <a:pt x="44" y="2733"/>
                  </a:lnTo>
                  <a:lnTo>
                    <a:pt x="53" y="2705"/>
                  </a:lnTo>
                  <a:lnTo>
                    <a:pt x="63" y="2677"/>
                  </a:lnTo>
                  <a:lnTo>
                    <a:pt x="75" y="2648"/>
                  </a:lnTo>
                  <a:lnTo>
                    <a:pt x="87" y="2621"/>
                  </a:lnTo>
                  <a:lnTo>
                    <a:pt x="100" y="2594"/>
                  </a:lnTo>
                  <a:lnTo>
                    <a:pt x="114" y="2567"/>
                  </a:lnTo>
                  <a:lnTo>
                    <a:pt x="128" y="2541"/>
                  </a:lnTo>
                  <a:lnTo>
                    <a:pt x="143" y="2514"/>
                  </a:lnTo>
                  <a:lnTo>
                    <a:pt x="159" y="2488"/>
                  </a:lnTo>
                  <a:lnTo>
                    <a:pt x="175" y="2464"/>
                  </a:lnTo>
                  <a:lnTo>
                    <a:pt x="193" y="2439"/>
                  </a:lnTo>
                  <a:lnTo>
                    <a:pt x="210" y="2414"/>
                  </a:lnTo>
                  <a:lnTo>
                    <a:pt x="229" y="2392"/>
                  </a:lnTo>
                  <a:lnTo>
                    <a:pt x="247" y="2369"/>
                  </a:lnTo>
                  <a:lnTo>
                    <a:pt x="267" y="2348"/>
                  </a:lnTo>
                  <a:lnTo>
                    <a:pt x="286" y="2326"/>
                  </a:lnTo>
                  <a:lnTo>
                    <a:pt x="307" y="2307"/>
                  </a:lnTo>
                  <a:lnTo>
                    <a:pt x="328" y="2287"/>
                  </a:lnTo>
                  <a:lnTo>
                    <a:pt x="348" y="2270"/>
                  </a:lnTo>
                  <a:lnTo>
                    <a:pt x="370" y="2252"/>
                  </a:lnTo>
                  <a:lnTo>
                    <a:pt x="391" y="2236"/>
                  </a:lnTo>
                  <a:lnTo>
                    <a:pt x="414" y="2222"/>
                  </a:lnTo>
                  <a:lnTo>
                    <a:pt x="437" y="2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57520" y="5499000"/>
              <a:ext cx="303120" cy="404640"/>
            </a:xfrm>
            <a:custGeom>
              <a:avLst/>
              <a:gdLst/>
              <a:ahLst/>
              <a:rect l="l" t="t" r="r" b="b"/>
              <a:pathLst>
                <a:path w="4574" h="6123">
                  <a:moveTo>
                    <a:pt x="437" y="2207"/>
                  </a:moveTo>
                  <a:lnTo>
                    <a:pt x="4138" y="59"/>
                  </a:lnTo>
                  <a:lnTo>
                    <a:pt x="4160" y="46"/>
                  </a:lnTo>
                  <a:lnTo>
                    <a:pt x="4182" y="35"/>
                  </a:lnTo>
                  <a:lnTo>
                    <a:pt x="4203" y="26"/>
                  </a:lnTo>
                  <a:lnTo>
                    <a:pt x="4225" y="19"/>
                  </a:lnTo>
                  <a:lnTo>
                    <a:pt x="4247" y="12"/>
                  </a:lnTo>
                  <a:lnTo>
                    <a:pt x="4267" y="7"/>
                  </a:lnTo>
                  <a:lnTo>
                    <a:pt x="4287" y="3"/>
                  </a:lnTo>
                  <a:lnTo>
                    <a:pt x="4307" y="1"/>
                  </a:lnTo>
                  <a:lnTo>
                    <a:pt x="4326" y="0"/>
                  </a:lnTo>
                  <a:lnTo>
                    <a:pt x="4345" y="1"/>
                  </a:lnTo>
                  <a:lnTo>
                    <a:pt x="4363" y="3"/>
                  </a:lnTo>
                  <a:lnTo>
                    <a:pt x="4381" y="6"/>
                  </a:lnTo>
                  <a:lnTo>
                    <a:pt x="4398" y="12"/>
                  </a:lnTo>
                  <a:lnTo>
                    <a:pt x="4414" y="18"/>
                  </a:lnTo>
                  <a:lnTo>
                    <a:pt x="4431" y="25"/>
                  </a:lnTo>
                  <a:lnTo>
                    <a:pt x="4446" y="33"/>
                  </a:lnTo>
                  <a:lnTo>
                    <a:pt x="4461" y="43"/>
                  </a:lnTo>
                  <a:lnTo>
                    <a:pt x="4474" y="54"/>
                  </a:lnTo>
                  <a:lnTo>
                    <a:pt x="4486" y="66"/>
                  </a:lnTo>
                  <a:lnTo>
                    <a:pt x="4499" y="80"/>
                  </a:lnTo>
                  <a:lnTo>
                    <a:pt x="4510" y="95"/>
                  </a:lnTo>
                  <a:lnTo>
                    <a:pt x="4521" y="110"/>
                  </a:lnTo>
                  <a:lnTo>
                    <a:pt x="4530" y="128"/>
                  </a:lnTo>
                  <a:lnTo>
                    <a:pt x="4539" y="146"/>
                  </a:lnTo>
                  <a:lnTo>
                    <a:pt x="4547" y="164"/>
                  </a:lnTo>
                  <a:lnTo>
                    <a:pt x="4554" y="185"/>
                  </a:lnTo>
                  <a:lnTo>
                    <a:pt x="4559" y="207"/>
                  </a:lnTo>
                  <a:lnTo>
                    <a:pt x="4564" y="229"/>
                  </a:lnTo>
                  <a:lnTo>
                    <a:pt x="4569" y="253"/>
                  </a:lnTo>
                  <a:lnTo>
                    <a:pt x="4572" y="277"/>
                  </a:lnTo>
                  <a:lnTo>
                    <a:pt x="4573" y="303"/>
                  </a:lnTo>
                  <a:lnTo>
                    <a:pt x="4574" y="330"/>
                  </a:lnTo>
                  <a:lnTo>
                    <a:pt x="4574" y="3139"/>
                  </a:lnTo>
                  <a:lnTo>
                    <a:pt x="4573" y="3167"/>
                  </a:lnTo>
                  <a:lnTo>
                    <a:pt x="4572" y="3194"/>
                  </a:lnTo>
                  <a:lnTo>
                    <a:pt x="4569" y="3222"/>
                  </a:lnTo>
                  <a:lnTo>
                    <a:pt x="4564" y="3250"/>
                  </a:lnTo>
                  <a:lnTo>
                    <a:pt x="4559" y="3278"/>
                  </a:lnTo>
                  <a:lnTo>
                    <a:pt x="4554" y="3306"/>
                  </a:lnTo>
                  <a:lnTo>
                    <a:pt x="4547" y="3335"/>
                  </a:lnTo>
                  <a:lnTo>
                    <a:pt x="4539" y="3362"/>
                  </a:lnTo>
                  <a:lnTo>
                    <a:pt x="4530" y="3391"/>
                  </a:lnTo>
                  <a:lnTo>
                    <a:pt x="4521" y="3419"/>
                  </a:lnTo>
                  <a:lnTo>
                    <a:pt x="4510" y="3448"/>
                  </a:lnTo>
                  <a:lnTo>
                    <a:pt x="4499" y="3475"/>
                  </a:lnTo>
                  <a:lnTo>
                    <a:pt x="4486" y="3503"/>
                  </a:lnTo>
                  <a:lnTo>
                    <a:pt x="4474" y="3530"/>
                  </a:lnTo>
                  <a:lnTo>
                    <a:pt x="4461" y="3557"/>
                  </a:lnTo>
                  <a:lnTo>
                    <a:pt x="4446" y="3584"/>
                  </a:lnTo>
                  <a:lnTo>
                    <a:pt x="4431" y="3610"/>
                  </a:lnTo>
                  <a:lnTo>
                    <a:pt x="4414" y="3635"/>
                  </a:lnTo>
                  <a:lnTo>
                    <a:pt x="4398" y="3661"/>
                  </a:lnTo>
                  <a:lnTo>
                    <a:pt x="4381" y="3685"/>
                  </a:lnTo>
                  <a:lnTo>
                    <a:pt x="4363" y="3709"/>
                  </a:lnTo>
                  <a:lnTo>
                    <a:pt x="4345" y="3732"/>
                  </a:lnTo>
                  <a:lnTo>
                    <a:pt x="4326" y="3754"/>
                  </a:lnTo>
                  <a:lnTo>
                    <a:pt x="4307" y="3776"/>
                  </a:lnTo>
                  <a:lnTo>
                    <a:pt x="4287" y="3798"/>
                  </a:lnTo>
                  <a:lnTo>
                    <a:pt x="4267" y="3817"/>
                  </a:lnTo>
                  <a:lnTo>
                    <a:pt x="4247" y="3836"/>
                  </a:lnTo>
                  <a:lnTo>
                    <a:pt x="4225" y="3855"/>
                  </a:lnTo>
                  <a:lnTo>
                    <a:pt x="4203" y="3871"/>
                  </a:lnTo>
                  <a:lnTo>
                    <a:pt x="4182" y="3888"/>
                  </a:lnTo>
                  <a:lnTo>
                    <a:pt x="4160" y="3902"/>
                  </a:lnTo>
                  <a:lnTo>
                    <a:pt x="4138" y="3917"/>
                  </a:lnTo>
                  <a:lnTo>
                    <a:pt x="437" y="6065"/>
                  </a:lnTo>
                  <a:lnTo>
                    <a:pt x="414" y="6077"/>
                  </a:lnTo>
                  <a:lnTo>
                    <a:pt x="391" y="6089"/>
                  </a:lnTo>
                  <a:lnTo>
                    <a:pt x="370" y="6098"/>
                  </a:lnTo>
                  <a:lnTo>
                    <a:pt x="348" y="6106"/>
                  </a:lnTo>
                  <a:lnTo>
                    <a:pt x="328" y="6112"/>
                  </a:lnTo>
                  <a:lnTo>
                    <a:pt x="307" y="6117"/>
                  </a:lnTo>
                  <a:lnTo>
                    <a:pt x="286" y="6120"/>
                  </a:lnTo>
                  <a:lnTo>
                    <a:pt x="267" y="6122"/>
                  </a:lnTo>
                  <a:lnTo>
                    <a:pt x="247" y="6123"/>
                  </a:lnTo>
                  <a:lnTo>
                    <a:pt x="229" y="6122"/>
                  </a:lnTo>
                  <a:lnTo>
                    <a:pt x="210" y="6120"/>
                  </a:lnTo>
                  <a:lnTo>
                    <a:pt x="193" y="6117"/>
                  </a:lnTo>
                  <a:lnTo>
                    <a:pt x="175" y="6113"/>
                  </a:lnTo>
                  <a:lnTo>
                    <a:pt x="159" y="6107"/>
                  </a:lnTo>
                  <a:lnTo>
                    <a:pt x="143" y="6100"/>
                  </a:lnTo>
                  <a:lnTo>
                    <a:pt x="128" y="6091"/>
                  </a:lnTo>
                  <a:lnTo>
                    <a:pt x="114" y="6081"/>
                  </a:lnTo>
                  <a:lnTo>
                    <a:pt x="100" y="6070"/>
                  </a:lnTo>
                  <a:lnTo>
                    <a:pt x="87" y="6058"/>
                  </a:lnTo>
                  <a:lnTo>
                    <a:pt x="75" y="6044"/>
                  </a:lnTo>
                  <a:lnTo>
                    <a:pt x="63" y="6030"/>
                  </a:lnTo>
                  <a:lnTo>
                    <a:pt x="53" y="6014"/>
                  </a:lnTo>
                  <a:lnTo>
                    <a:pt x="44" y="5997"/>
                  </a:lnTo>
                  <a:lnTo>
                    <a:pt x="35" y="5979"/>
                  </a:lnTo>
                  <a:lnTo>
                    <a:pt x="27" y="5959"/>
                  </a:lnTo>
                  <a:lnTo>
                    <a:pt x="20" y="5939"/>
                  </a:lnTo>
                  <a:lnTo>
                    <a:pt x="15" y="5917"/>
                  </a:lnTo>
                  <a:lnTo>
                    <a:pt x="10" y="5896"/>
                  </a:lnTo>
                  <a:lnTo>
                    <a:pt x="6" y="5872"/>
                  </a:lnTo>
                  <a:lnTo>
                    <a:pt x="2" y="5847"/>
                  </a:lnTo>
                  <a:lnTo>
                    <a:pt x="1" y="5822"/>
                  </a:lnTo>
                  <a:lnTo>
                    <a:pt x="0" y="5795"/>
                  </a:lnTo>
                  <a:lnTo>
                    <a:pt x="0" y="2985"/>
                  </a:lnTo>
                  <a:lnTo>
                    <a:pt x="1" y="2958"/>
                  </a:lnTo>
                  <a:lnTo>
                    <a:pt x="2" y="2931"/>
                  </a:lnTo>
                  <a:lnTo>
                    <a:pt x="6" y="2903"/>
                  </a:lnTo>
                  <a:lnTo>
                    <a:pt x="10" y="2874"/>
                  </a:lnTo>
                  <a:lnTo>
                    <a:pt x="15" y="2846"/>
                  </a:lnTo>
                  <a:lnTo>
                    <a:pt x="20" y="2818"/>
                  </a:lnTo>
                  <a:lnTo>
                    <a:pt x="27" y="2790"/>
                  </a:lnTo>
                  <a:lnTo>
                    <a:pt x="35" y="2761"/>
                  </a:lnTo>
                  <a:lnTo>
                    <a:pt x="44" y="2733"/>
                  </a:lnTo>
                  <a:lnTo>
                    <a:pt x="53" y="2705"/>
                  </a:lnTo>
                  <a:lnTo>
                    <a:pt x="63" y="2677"/>
                  </a:lnTo>
                  <a:lnTo>
                    <a:pt x="75" y="2648"/>
                  </a:lnTo>
                  <a:lnTo>
                    <a:pt x="87" y="2621"/>
                  </a:lnTo>
                  <a:lnTo>
                    <a:pt x="100" y="2594"/>
                  </a:lnTo>
                  <a:lnTo>
                    <a:pt x="114" y="2567"/>
                  </a:lnTo>
                  <a:lnTo>
                    <a:pt x="128" y="2541"/>
                  </a:lnTo>
                  <a:lnTo>
                    <a:pt x="143" y="2514"/>
                  </a:lnTo>
                  <a:lnTo>
                    <a:pt x="159" y="2488"/>
                  </a:lnTo>
                  <a:lnTo>
                    <a:pt x="175" y="2464"/>
                  </a:lnTo>
                  <a:lnTo>
                    <a:pt x="193" y="2439"/>
                  </a:lnTo>
                  <a:lnTo>
                    <a:pt x="210" y="2414"/>
                  </a:lnTo>
                  <a:lnTo>
                    <a:pt x="229" y="2392"/>
                  </a:lnTo>
                  <a:lnTo>
                    <a:pt x="247" y="2369"/>
                  </a:lnTo>
                  <a:lnTo>
                    <a:pt x="267" y="2348"/>
                  </a:lnTo>
                  <a:lnTo>
                    <a:pt x="286" y="2326"/>
                  </a:lnTo>
                  <a:lnTo>
                    <a:pt x="307" y="2307"/>
                  </a:lnTo>
                  <a:lnTo>
                    <a:pt x="328" y="2287"/>
                  </a:lnTo>
                  <a:lnTo>
                    <a:pt x="348" y="2270"/>
                  </a:lnTo>
                  <a:lnTo>
                    <a:pt x="370" y="2252"/>
                  </a:lnTo>
                  <a:lnTo>
                    <a:pt x="391" y="2236"/>
                  </a:lnTo>
                  <a:lnTo>
                    <a:pt x="414" y="2222"/>
                  </a:lnTo>
                  <a:lnTo>
                    <a:pt x="437" y="2207"/>
                  </a:lnTo>
                </a:path>
              </a:pathLst>
            </a:custGeom>
            <a:noFill/>
            <a:ln w="3240">
              <a:solidFill>
                <a:srgbClr val="008c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12960" y="5798880"/>
              <a:ext cx="193680" cy="152640"/>
            </a:xfrm>
            <a:custGeom>
              <a:avLst/>
              <a:gdLst/>
              <a:ahLst/>
              <a:rect l="l" t="t" r="r" b="b"/>
              <a:pathLst>
                <a:path w="2945" h="2302">
                  <a:moveTo>
                    <a:pt x="2945" y="591"/>
                  </a:moveTo>
                  <a:lnTo>
                    <a:pt x="0" y="2302"/>
                  </a:lnTo>
                  <a:lnTo>
                    <a:pt x="0" y="1711"/>
                  </a:lnTo>
                  <a:lnTo>
                    <a:pt x="2945" y="0"/>
                  </a:lnTo>
                  <a:lnTo>
                    <a:pt x="2945" y="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912960" y="5798880"/>
              <a:ext cx="193680" cy="152640"/>
            </a:xfrm>
            <a:custGeom>
              <a:avLst/>
              <a:gdLst/>
              <a:ahLst/>
              <a:rect l="l" t="t" r="r" b="b"/>
              <a:pathLst>
                <a:path w="2945" h="2302">
                  <a:moveTo>
                    <a:pt x="2945" y="591"/>
                  </a:moveTo>
                  <a:lnTo>
                    <a:pt x="0" y="2302"/>
                  </a:lnTo>
                  <a:lnTo>
                    <a:pt x="0" y="1711"/>
                  </a:lnTo>
                  <a:lnTo>
                    <a:pt x="2945" y="0"/>
                  </a:lnTo>
                  <a:lnTo>
                    <a:pt x="2945" y="591"/>
                  </a:lnTo>
                  <a:close/>
                </a:path>
              </a:pathLst>
            </a:custGeom>
            <a:noFill/>
            <a:ln w="3240">
              <a:solidFill>
                <a:srgbClr val="008c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5200" y="5794200"/>
              <a:ext cx="349200" cy="293760"/>
            </a:xfrm>
            <a:custGeom>
              <a:avLst/>
              <a:gdLst/>
              <a:ahLst/>
              <a:rect l="l" t="t" r="r" b="b"/>
              <a:pathLst>
                <a:path w="5270" h="4449">
                  <a:moveTo>
                    <a:pt x="5270" y="1389"/>
                  </a:moveTo>
                  <a:lnTo>
                    <a:pt x="0" y="4449"/>
                  </a:lnTo>
                  <a:lnTo>
                    <a:pt x="0" y="3061"/>
                  </a:lnTo>
                  <a:lnTo>
                    <a:pt x="5270" y="0"/>
                  </a:lnTo>
                  <a:lnTo>
                    <a:pt x="5270" y="13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5200" y="5794200"/>
              <a:ext cx="349200" cy="293760"/>
            </a:xfrm>
            <a:custGeom>
              <a:avLst/>
              <a:gdLst/>
              <a:ahLst/>
              <a:rect l="l" t="t" r="r" b="b"/>
              <a:pathLst>
                <a:path w="5270" h="4449">
                  <a:moveTo>
                    <a:pt x="5270" y="1389"/>
                  </a:moveTo>
                  <a:lnTo>
                    <a:pt x="0" y="4449"/>
                  </a:lnTo>
                  <a:lnTo>
                    <a:pt x="0" y="3061"/>
                  </a:lnTo>
                  <a:lnTo>
                    <a:pt x="5270" y="0"/>
                  </a:lnTo>
                  <a:lnTo>
                    <a:pt x="5270" y="1389"/>
                  </a:lnTo>
                  <a:close/>
                </a:path>
              </a:pathLst>
            </a:custGeom>
            <a:noFill/>
            <a:ln w="3240">
              <a:solidFill>
                <a:srgbClr val="008c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24040" y="5859360"/>
              <a:ext cx="371520" cy="254160"/>
            </a:xfrm>
            <a:custGeom>
              <a:avLst/>
              <a:gdLst/>
              <a:ahLst/>
              <a:rect l="l" t="t" r="r" b="b"/>
              <a:pathLst>
                <a:path w="5600" h="3844">
                  <a:moveTo>
                    <a:pt x="5600" y="591"/>
                  </a:moveTo>
                  <a:lnTo>
                    <a:pt x="0" y="3844"/>
                  </a:lnTo>
                  <a:lnTo>
                    <a:pt x="0" y="3254"/>
                  </a:lnTo>
                  <a:lnTo>
                    <a:pt x="5600" y="0"/>
                  </a:lnTo>
                  <a:lnTo>
                    <a:pt x="5600" y="5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24040" y="5859360"/>
              <a:ext cx="371520" cy="254160"/>
            </a:xfrm>
            <a:custGeom>
              <a:avLst/>
              <a:gdLst/>
              <a:ahLst/>
              <a:rect l="l" t="t" r="r" b="b"/>
              <a:pathLst>
                <a:path w="5600" h="3844">
                  <a:moveTo>
                    <a:pt x="5600" y="591"/>
                  </a:moveTo>
                  <a:lnTo>
                    <a:pt x="0" y="3844"/>
                  </a:lnTo>
                  <a:lnTo>
                    <a:pt x="0" y="3254"/>
                  </a:lnTo>
                  <a:lnTo>
                    <a:pt x="5600" y="0"/>
                  </a:lnTo>
                  <a:lnTo>
                    <a:pt x="5600" y="591"/>
                  </a:lnTo>
                  <a:close/>
                </a:path>
              </a:pathLst>
            </a:custGeom>
            <a:noFill/>
            <a:ln w="3240">
              <a:solidFill>
                <a:srgbClr val="008c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978120" y="5632200"/>
              <a:ext cx="98280" cy="162000"/>
            </a:xfrm>
            <a:custGeom>
              <a:avLst/>
              <a:gdLst/>
              <a:ahLst/>
              <a:rect l="l" t="t" r="r" b="b"/>
              <a:pathLst>
                <a:path w="1484" h="2442">
                  <a:moveTo>
                    <a:pt x="618" y="1351"/>
                  </a:moveTo>
                  <a:lnTo>
                    <a:pt x="0" y="2442"/>
                  </a:lnTo>
                  <a:lnTo>
                    <a:pt x="0" y="0"/>
                  </a:lnTo>
                  <a:lnTo>
                    <a:pt x="1484" y="897"/>
                  </a:lnTo>
                  <a:lnTo>
                    <a:pt x="618" y="1351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14480" y="5718240"/>
              <a:ext cx="36720" cy="68040"/>
            </a:xfrm>
            <a:custGeom>
              <a:avLst/>
              <a:gdLst/>
              <a:ahLst/>
              <a:rect l="l" t="t" r="r" b="b"/>
              <a:pathLst>
                <a:path w="537" h="1048">
                  <a:moveTo>
                    <a:pt x="0" y="124"/>
                  </a:moveTo>
                  <a:lnTo>
                    <a:pt x="423" y="1048"/>
                  </a:lnTo>
                  <a:lnTo>
                    <a:pt x="537" y="924"/>
                  </a:lnTo>
                  <a:lnTo>
                    <a:pt x="114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014480" y="5718240"/>
              <a:ext cx="36720" cy="68040"/>
            </a:xfrm>
            <a:custGeom>
              <a:avLst/>
              <a:gdLst/>
              <a:ahLst/>
              <a:rect l="l" t="t" r="r" b="b"/>
              <a:pathLst>
                <a:path w="537" h="1048">
                  <a:moveTo>
                    <a:pt x="0" y="124"/>
                  </a:moveTo>
                  <a:lnTo>
                    <a:pt x="423" y="1048"/>
                  </a:lnTo>
                  <a:lnTo>
                    <a:pt x="537" y="924"/>
                  </a:lnTo>
                  <a:lnTo>
                    <a:pt x="114" y="0"/>
                  </a:lnTo>
                  <a:lnTo>
                    <a:pt x="0" y="124"/>
                  </a:lnTo>
                  <a:close/>
                </a:path>
              </a:pathLst>
            </a:custGeom>
            <a:noFill/>
            <a:ln w="1440">
              <a:solidFill>
                <a:srgbClr val="0068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82920" y="5394240"/>
              <a:ext cx="190440" cy="160200"/>
            </a:xfrm>
            <a:custGeom>
              <a:avLst/>
              <a:gdLst/>
              <a:ahLst/>
              <a:rect l="l" t="t" r="r" b="b"/>
              <a:pathLst>
                <a:path w="2879" h="2426">
                  <a:moveTo>
                    <a:pt x="1439" y="0"/>
                  </a:moveTo>
                  <a:lnTo>
                    <a:pt x="2879" y="847"/>
                  </a:lnTo>
                  <a:lnTo>
                    <a:pt x="2015" y="847"/>
                  </a:lnTo>
                  <a:lnTo>
                    <a:pt x="2015" y="2426"/>
                  </a:lnTo>
                  <a:lnTo>
                    <a:pt x="863" y="2426"/>
                  </a:lnTo>
                  <a:lnTo>
                    <a:pt x="863" y="847"/>
                  </a:lnTo>
                  <a:lnTo>
                    <a:pt x="0" y="847"/>
                  </a:lnTo>
                  <a:lnTo>
                    <a:pt x="14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51040" y="5306760"/>
              <a:ext cx="272880" cy="113040"/>
            </a:xfrm>
            <a:custGeom>
              <a:avLst/>
              <a:gdLst/>
              <a:ahLst/>
              <a:rect l="l" t="t" r="r" b="b"/>
              <a:pathLst>
                <a:path w="4127" h="1692">
                  <a:moveTo>
                    <a:pt x="4127" y="846"/>
                  </a:moveTo>
                  <a:lnTo>
                    <a:pt x="2688" y="1692"/>
                  </a:lnTo>
                  <a:lnTo>
                    <a:pt x="2688" y="1184"/>
                  </a:lnTo>
                  <a:lnTo>
                    <a:pt x="0" y="1184"/>
                  </a:lnTo>
                  <a:lnTo>
                    <a:pt x="0" y="508"/>
                  </a:lnTo>
                  <a:lnTo>
                    <a:pt x="2688" y="508"/>
                  </a:lnTo>
                  <a:lnTo>
                    <a:pt x="2688" y="0"/>
                  </a:lnTo>
                  <a:lnTo>
                    <a:pt x="4127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82920" y="5176800"/>
              <a:ext cx="190440" cy="160200"/>
            </a:xfrm>
            <a:custGeom>
              <a:avLst/>
              <a:gdLst/>
              <a:ahLst/>
              <a:rect l="l" t="t" r="r" b="b"/>
              <a:pathLst>
                <a:path w="2879" h="2425">
                  <a:moveTo>
                    <a:pt x="1439" y="2425"/>
                  </a:moveTo>
                  <a:lnTo>
                    <a:pt x="0" y="1579"/>
                  </a:lnTo>
                  <a:lnTo>
                    <a:pt x="863" y="1579"/>
                  </a:lnTo>
                  <a:lnTo>
                    <a:pt x="863" y="0"/>
                  </a:lnTo>
                  <a:lnTo>
                    <a:pt x="2015" y="0"/>
                  </a:lnTo>
                  <a:lnTo>
                    <a:pt x="2015" y="1579"/>
                  </a:lnTo>
                  <a:lnTo>
                    <a:pt x="2879" y="1579"/>
                  </a:lnTo>
                  <a:lnTo>
                    <a:pt x="1439" y="24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32000" y="5306760"/>
              <a:ext cx="272880" cy="113040"/>
            </a:xfrm>
            <a:custGeom>
              <a:avLst/>
              <a:gdLst/>
              <a:ahLst/>
              <a:rect l="l" t="t" r="r" b="b"/>
              <a:pathLst>
                <a:path w="4126" h="1692">
                  <a:moveTo>
                    <a:pt x="0" y="846"/>
                  </a:moveTo>
                  <a:lnTo>
                    <a:pt x="1440" y="0"/>
                  </a:lnTo>
                  <a:lnTo>
                    <a:pt x="1440" y="508"/>
                  </a:lnTo>
                  <a:lnTo>
                    <a:pt x="4126" y="508"/>
                  </a:lnTo>
                  <a:lnTo>
                    <a:pt x="4126" y="1184"/>
                  </a:lnTo>
                  <a:lnTo>
                    <a:pt x="1440" y="1184"/>
                  </a:lnTo>
                  <a:lnTo>
                    <a:pt x="1440" y="1692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77880" y="5391000"/>
              <a:ext cx="190440" cy="160560"/>
            </a:xfrm>
            <a:custGeom>
              <a:avLst/>
              <a:gdLst/>
              <a:ahLst/>
              <a:rect l="l" t="t" r="r" b="b"/>
              <a:pathLst>
                <a:path w="2879" h="2425">
                  <a:moveTo>
                    <a:pt x="1440" y="0"/>
                  </a:moveTo>
                  <a:lnTo>
                    <a:pt x="2879" y="846"/>
                  </a:lnTo>
                  <a:lnTo>
                    <a:pt x="2016" y="846"/>
                  </a:lnTo>
                  <a:lnTo>
                    <a:pt x="2016" y="2425"/>
                  </a:lnTo>
                  <a:lnTo>
                    <a:pt x="864" y="2425"/>
                  </a:lnTo>
                  <a:lnTo>
                    <a:pt x="864" y="846"/>
                  </a:lnTo>
                  <a:lnTo>
                    <a:pt x="0" y="846"/>
                  </a:lnTo>
                  <a:lnTo>
                    <a:pt x="14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46360" y="5303880"/>
              <a:ext cx="272880" cy="112680"/>
            </a:xfrm>
            <a:custGeom>
              <a:avLst/>
              <a:gdLst/>
              <a:ahLst/>
              <a:rect l="l" t="t" r="r" b="b"/>
              <a:pathLst>
                <a:path w="4127" h="1692">
                  <a:moveTo>
                    <a:pt x="4127" y="845"/>
                  </a:moveTo>
                  <a:lnTo>
                    <a:pt x="2688" y="1692"/>
                  </a:lnTo>
                  <a:lnTo>
                    <a:pt x="2688" y="1184"/>
                  </a:lnTo>
                  <a:lnTo>
                    <a:pt x="0" y="1184"/>
                  </a:lnTo>
                  <a:lnTo>
                    <a:pt x="0" y="508"/>
                  </a:lnTo>
                  <a:lnTo>
                    <a:pt x="2688" y="508"/>
                  </a:lnTo>
                  <a:lnTo>
                    <a:pt x="2688" y="0"/>
                  </a:lnTo>
                  <a:lnTo>
                    <a:pt x="4127" y="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7880" y="5173560"/>
              <a:ext cx="190440" cy="160200"/>
            </a:xfrm>
            <a:custGeom>
              <a:avLst/>
              <a:gdLst/>
              <a:ahLst/>
              <a:rect l="l" t="t" r="r" b="b"/>
              <a:pathLst>
                <a:path w="2879" h="2425">
                  <a:moveTo>
                    <a:pt x="1440" y="2425"/>
                  </a:moveTo>
                  <a:lnTo>
                    <a:pt x="0" y="1579"/>
                  </a:lnTo>
                  <a:lnTo>
                    <a:pt x="864" y="1579"/>
                  </a:lnTo>
                  <a:lnTo>
                    <a:pt x="864" y="0"/>
                  </a:lnTo>
                  <a:lnTo>
                    <a:pt x="2016" y="0"/>
                  </a:lnTo>
                  <a:lnTo>
                    <a:pt x="2016" y="1579"/>
                  </a:lnTo>
                  <a:lnTo>
                    <a:pt x="2879" y="1579"/>
                  </a:lnTo>
                  <a:lnTo>
                    <a:pt x="1440" y="24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27320" y="5303880"/>
              <a:ext cx="272880" cy="112680"/>
            </a:xfrm>
            <a:custGeom>
              <a:avLst/>
              <a:gdLst/>
              <a:ahLst/>
              <a:rect l="l" t="t" r="r" b="b"/>
              <a:pathLst>
                <a:path w="4127" h="1692">
                  <a:moveTo>
                    <a:pt x="0" y="845"/>
                  </a:moveTo>
                  <a:lnTo>
                    <a:pt x="1439" y="0"/>
                  </a:lnTo>
                  <a:lnTo>
                    <a:pt x="1439" y="508"/>
                  </a:lnTo>
                  <a:lnTo>
                    <a:pt x="4127" y="508"/>
                  </a:lnTo>
                  <a:lnTo>
                    <a:pt x="4127" y="1184"/>
                  </a:lnTo>
                  <a:lnTo>
                    <a:pt x="1439" y="1184"/>
                  </a:lnTo>
                  <a:lnTo>
                    <a:pt x="1439" y="1692"/>
                  </a:lnTo>
                  <a:lnTo>
                    <a:pt x="0" y="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71600" y="5664240"/>
              <a:ext cx="144360" cy="336240"/>
            </a:xfrm>
            <a:custGeom>
              <a:avLst/>
              <a:gdLst/>
              <a:ahLst/>
              <a:rect l="l" t="t" r="r" b="b"/>
              <a:pathLst>
                <a:path w="2179" h="5110">
                  <a:moveTo>
                    <a:pt x="2179" y="1222"/>
                  </a:moveTo>
                  <a:lnTo>
                    <a:pt x="2173" y="5110"/>
                  </a:lnTo>
                  <a:lnTo>
                    <a:pt x="0" y="3885"/>
                  </a:lnTo>
                  <a:lnTo>
                    <a:pt x="5" y="0"/>
                  </a:lnTo>
                  <a:lnTo>
                    <a:pt x="2179" y="1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8600" y="5703840"/>
              <a:ext cx="90360" cy="100080"/>
            </a:xfrm>
            <a:custGeom>
              <a:avLst/>
              <a:gdLst/>
              <a:ahLst/>
              <a:rect l="l" t="t" r="r" b="b"/>
              <a:pathLst>
                <a:path w="1380" h="1504">
                  <a:moveTo>
                    <a:pt x="1380" y="1504"/>
                  </a:moveTo>
                  <a:lnTo>
                    <a:pt x="9" y="709"/>
                  </a:lnTo>
                  <a:lnTo>
                    <a:pt x="0" y="0"/>
                  </a:lnTo>
                  <a:lnTo>
                    <a:pt x="1370" y="795"/>
                  </a:lnTo>
                  <a:lnTo>
                    <a:pt x="1380" y="1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98600" y="5703840"/>
              <a:ext cx="90360" cy="100080"/>
            </a:xfrm>
            <a:custGeom>
              <a:avLst/>
              <a:gdLst/>
              <a:ahLst/>
              <a:rect l="l" t="t" r="r" b="b"/>
              <a:pathLst>
                <a:path w="1380" h="1504">
                  <a:moveTo>
                    <a:pt x="1380" y="1504"/>
                  </a:moveTo>
                  <a:lnTo>
                    <a:pt x="9" y="709"/>
                  </a:lnTo>
                  <a:lnTo>
                    <a:pt x="0" y="0"/>
                  </a:lnTo>
                  <a:lnTo>
                    <a:pt x="1370" y="795"/>
                  </a:lnTo>
                  <a:lnTo>
                    <a:pt x="1380" y="1504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98600" y="5792760"/>
              <a:ext cx="92160" cy="169920"/>
            </a:xfrm>
            <a:custGeom>
              <a:avLst/>
              <a:gdLst/>
              <a:ahLst/>
              <a:rect l="l" t="t" r="r" b="b"/>
              <a:pathLst>
                <a:path w="1393" h="2566">
                  <a:moveTo>
                    <a:pt x="1393" y="2566"/>
                  </a:moveTo>
                  <a:lnTo>
                    <a:pt x="23" y="1771"/>
                  </a:lnTo>
                  <a:lnTo>
                    <a:pt x="0" y="0"/>
                  </a:lnTo>
                  <a:lnTo>
                    <a:pt x="1370" y="795"/>
                  </a:lnTo>
                  <a:lnTo>
                    <a:pt x="1393" y="25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98600" y="5792760"/>
              <a:ext cx="92160" cy="169920"/>
            </a:xfrm>
            <a:custGeom>
              <a:avLst/>
              <a:gdLst/>
              <a:ahLst/>
              <a:rect l="l" t="t" r="r" b="b"/>
              <a:pathLst>
                <a:path w="1393" h="2566">
                  <a:moveTo>
                    <a:pt x="1393" y="2566"/>
                  </a:moveTo>
                  <a:lnTo>
                    <a:pt x="23" y="1771"/>
                  </a:lnTo>
                  <a:lnTo>
                    <a:pt x="0" y="0"/>
                  </a:lnTo>
                  <a:lnTo>
                    <a:pt x="1370" y="795"/>
                  </a:lnTo>
                  <a:lnTo>
                    <a:pt x="1393" y="2566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44600" y="5580000"/>
              <a:ext cx="204840" cy="155520"/>
            </a:xfrm>
            <a:custGeom>
              <a:avLst/>
              <a:gdLst/>
              <a:ahLst/>
              <a:rect l="l" t="t" r="r" b="b"/>
              <a:pathLst>
                <a:path w="3090" h="2362">
                  <a:moveTo>
                    <a:pt x="1940" y="1016"/>
                  </a:moveTo>
                  <a:lnTo>
                    <a:pt x="1943" y="1017"/>
                  </a:lnTo>
                  <a:lnTo>
                    <a:pt x="1952" y="1022"/>
                  </a:lnTo>
                  <a:lnTo>
                    <a:pt x="1957" y="1028"/>
                  </a:lnTo>
                  <a:lnTo>
                    <a:pt x="1965" y="1035"/>
                  </a:lnTo>
                  <a:lnTo>
                    <a:pt x="1973" y="1044"/>
                  </a:lnTo>
                  <a:lnTo>
                    <a:pt x="1982" y="1056"/>
                  </a:lnTo>
                  <a:lnTo>
                    <a:pt x="1991" y="1071"/>
                  </a:lnTo>
                  <a:lnTo>
                    <a:pt x="2001" y="1089"/>
                  </a:lnTo>
                  <a:lnTo>
                    <a:pt x="2011" y="1111"/>
                  </a:lnTo>
                  <a:lnTo>
                    <a:pt x="2021" y="1136"/>
                  </a:lnTo>
                  <a:lnTo>
                    <a:pt x="2031" y="1167"/>
                  </a:lnTo>
                  <a:lnTo>
                    <a:pt x="2042" y="1201"/>
                  </a:lnTo>
                  <a:lnTo>
                    <a:pt x="2052" y="1240"/>
                  </a:lnTo>
                  <a:lnTo>
                    <a:pt x="2061" y="1285"/>
                  </a:lnTo>
                  <a:lnTo>
                    <a:pt x="2079" y="1718"/>
                  </a:lnTo>
                  <a:lnTo>
                    <a:pt x="2994" y="2362"/>
                  </a:lnTo>
                  <a:lnTo>
                    <a:pt x="3090" y="2096"/>
                  </a:lnTo>
                  <a:lnTo>
                    <a:pt x="2815" y="1342"/>
                  </a:lnTo>
                  <a:lnTo>
                    <a:pt x="2669" y="1221"/>
                  </a:lnTo>
                  <a:lnTo>
                    <a:pt x="2538" y="1113"/>
                  </a:lnTo>
                  <a:lnTo>
                    <a:pt x="2418" y="1016"/>
                  </a:lnTo>
                  <a:lnTo>
                    <a:pt x="2312" y="931"/>
                  </a:lnTo>
                  <a:lnTo>
                    <a:pt x="2219" y="857"/>
                  </a:lnTo>
                  <a:lnTo>
                    <a:pt x="2136" y="793"/>
                  </a:lnTo>
                  <a:lnTo>
                    <a:pt x="2064" y="737"/>
                  </a:lnTo>
                  <a:lnTo>
                    <a:pt x="2003" y="691"/>
                  </a:lnTo>
                  <a:lnTo>
                    <a:pt x="1951" y="653"/>
                  </a:lnTo>
                  <a:lnTo>
                    <a:pt x="1908" y="621"/>
                  </a:lnTo>
                  <a:lnTo>
                    <a:pt x="1874" y="598"/>
                  </a:lnTo>
                  <a:lnTo>
                    <a:pt x="1847" y="579"/>
                  </a:lnTo>
                  <a:lnTo>
                    <a:pt x="1828" y="566"/>
                  </a:lnTo>
                  <a:lnTo>
                    <a:pt x="1814" y="558"/>
                  </a:lnTo>
                  <a:lnTo>
                    <a:pt x="1806" y="552"/>
                  </a:lnTo>
                  <a:lnTo>
                    <a:pt x="1804" y="551"/>
                  </a:lnTo>
                  <a:lnTo>
                    <a:pt x="1551" y="398"/>
                  </a:lnTo>
                  <a:lnTo>
                    <a:pt x="1544" y="394"/>
                  </a:lnTo>
                  <a:lnTo>
                    <a:pt x="1520" y="384"/>
                  </a:lnTo>
                  <a:lnTo>
                    <a:pt x="1484" y="369"/>
                  </a:lnTo>
                  <a:lnTo>
                    <a:pt x="1436" y="349"/>
                  </a:lnTo>
                  <a:lnTo>
                    <a:pt x="1377" y="325"/>
                  </a:lnTo>
                  <a:lnTo>
                    <a:pt x="1310" y="297"/>
                  </a:lnTo>
                  <a:lnTo>
                    <a:pt x="1235" y="266"/>
                  </a:lnTo>
                  <a:lnTo>
                    <a:pt x="1154" y="234"/>
                  </a:lnTo>
                  <a:lnTo>
                    <a:pt x="1070" y="202"/>
                  </a:lnTo>
                  <a:lnTo>
                    <a:pt x="981" y="168"/>
                  </a:lnTo>
                  <a:lnTo>
                    <a:pt x="892" y="135"/>
                  </a:lnTo>
                  <a:lnTo>
                    <a:pt x="803" y="102"/>
                  </a:lnTo>
                  <a:lnTo>
                    <a:pt x="715" y="72"/>
                  </a:lnTo>
                  <a:lnTo>
                    <a:pt x="631" y="45"/>
                  </a:lnTo>
                  <a:lnTo>
                    <a:pt x="590" y="32"/>
                  </a:lnTo>
                  <a:lnTo>
                    <a:pt x="551" y="21"/>
                  </a:lnTo>
                  <a:lnTo>
                    <a:pt x="513" y="10"/>
                  </a:lnTo>
                  <a:lnTo>
                    <a:pt x="477" y="0"/>
                  </a:lnTo>
                  <a:lnTo>
                    <a:pt x="49" y="285"/>
                  </a:lnTo>
                  <a:lnTo>
                    <a:pt x="0" y="662"/>
                  </a:lnTo>
                  <a:lnTo>
                    <a:pt x="952" y="1026"/>
                  </a:lnTo>
                  <a:lnTo>
                    <a:pt x="959" y="682"/>
                  </a:lnTo>
                  <a:lnTo>
                    <a:pt x="961" y="663"/>
                  </a:lnTo>
                  <a:lnTo>
                    <a:pt x="965" y="647"/>
                  </a:lnTo>
                  <a:lnTo>
                    <a:pt x="969" y="631"/>
                  </a:lnTo>
                  <a:lnTo>
                    <a:pt x="974" y="618"/>
                  </a:lnTo>
                  <a:lnTo>
                    <a:pt x="980" y="607"/>
                  </a:lnTo>
                  <a:lnTo>
                    <a:pt x="986" y="597"/>
                  </a:lnTo>
                  <a:lnTo>
                    <a:pt x="993" y="588"/>
                  </a:lnTo>
                  <a:lnTo>
                    <a:pt x="1000" y="581"/>
                  </a:lnTo>
                  <a:lnTo>
                    <a:pt x="1008" y="575"/>
                  </a:lnTo>
                  <a:lnTo>
                    <a:pt x="1015" y="570"/>
                  </a:lnTo>
                  <a:lnTo>
                    <a:pt x="1023" y="567"/>
                  </a:lnTo>
                  <a:lnTo>
                    <a:pt x="1033" y="564"/>
                  </a:lnTo>
                  <a:lnTo>
                    <a:pt x="1041" y="562"/>
                  </a:lnTo>
                  <a:lnTo>
                    <a:pt x="1049" y="561"/>
                  </a:lnTo>
                  <a:lnTo>
                    <a:pt x="1058" y="561"/>
                  </a:lnTo>
                  <a:lnTo>
                    <a:pt x="1067" y="562"/>
                  </a:lnTo>
                  <a:lnTo>
                    <a:pt x="1084" y="565"/>
                  </a:lnTo>
                  <a:lnTo>
                    <a:pt x="1101" y="569"/>
                  </a:lnTo>
                  <a:lnTo>
                    <a:pt x="1116" y="575"/>
                  </a:lnTo>
                  <a:lnTo>
                    <a:pt x="1129" y="581"/>
                  </a:lnTo>
                  <a:lnTo>
                    <a:pt x="1149" y="592"/>
                  </a:lnTo>
                  <a:lnTo>
                    <a:pt x="1157" y="598"/>
                  </a:lnTo>
                  <a:lnTo>
                    <a:pt x="1940" y="10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 flipV="1">
              <a:off x="498240" y="5771880"/>
              <a:ext cx="90360" cy="52560"/>
            </a:xfrm>
            <a:prstGeom prst="line">
              <a:avLst/>
            </a:prstGeom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55680" y="5568840"/>
              <a:ext cx="85680" cy="128520"/>
            </a:xfrm>
            <a:custGeom>
              <a:avLst/>
              <a:gdLst/>
              <a:ahLst/>
              <a:rect l="l" t="t" r="r" b="b"/>
              <a:pathLst>
                <a:path w="1294" h="1928">
                  <a:moveTo>
                    <a:pt x="895" y="1189"/>
                  </a:moveTo>
                  <a:lnTo>
                    <a:pt x="1291" y="1409"/>
                  </a:lnTo>
                  <a:lnTo>
                    <a:pt x="1294" y="1032"/>
                  </a:lnTo>
                  <a:lnTo>
                    <a:pt x="898" y="806"/>
                  </a:lnTo>
                  <a:lnTo>
                    <a:pt x="890" y="788"/>
                  </a:lnTo>
                  <a:lnTo>
                    <a:pt x="880" y="0"/>
                  </a:lnTo>
                  <a:lnTo>
                    <a:pt x="0" y="495"/>
                  </a:lnTo>
                  <a:lnTo>
                    <a:pt x="905" y="1928"/>
                  </a:lnTo>
                  <a:lnTo>
                    <a:pt x="895" y="1196"/>
                  </a:lnTo>
                  <a:lnTo>
                    <a:pt x="895" y="11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9720" y="5862600"/>
              <a:ext cx="84240" cy="127080"/>
            </a:xfrm>
            <a:custGeom>
              <a:avLst/>
              <a:gdLst/>
              <a:ahLst/>
              <a:rect l="l" t="t" r="r" b="b"/>
              <a:pathLst>
                <a:path w="1293" h="1928">
                  <a:moveTo>
                    <a:pt x="893" y="1188"/>
                  </a:moveTo>
                  <a:lnTo>
                    <a:pt x="1291" y="1408"/>
                  </a:lnTo>
                  <a:lnTo>
                    <a:pt x="1293" y="1031"/>
                  </a:lnTo>
                  <a:lnTo>
                    <a:pt x="897" y="805"/>
                  </a:lnTo>
                  <a:lnTo>
                    <a:pt x="889" y="788"/>
                  </a:lnTo>
                  <a:lnTo>
                    <a:pt x="879" y="0"/>
                  </a:lnTo>
                  <a:lnTo>
                    <a:pt x="0" y="495"/>
                  </a:lnTo>
                  <a:lnTo>
                    <a:pt x="904" y="1928"/>
                  </a:lnTo>
                  <a:lnTo>
                    <a:pt x="895" y="1196"/>
                  </a:lnTo>
                  <a:lnTo>
                    <a:pt x="893" y="1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42960" y="5713200"/>
              <a:ext cx="84240" cy="127080"/>
            </a:xfrm>
            <a:custGeom>
              <a:avLst/>
              <a:gdLst/>
              <a:ahLst/>
              <a:rect l="l" t="t" r="r" b="b"/>
              <a:pathLst>
                <a:path w="1293" h="1928">
                  <a:moveTo>
                    <a:pt x="398" y="739"/>
                  </a:moveTo>
                  <a:lnTo>
                    <a:pt x="2" y="519"/>
                  </a:lnTo>
                  <a:lnTo>
                    <a:pt x="0" y="897"/>
                  </a:lnTo>
                  <a:lnTo>
                    <a:pt x="396" y="1123"/>
                  </a:lnTo>
                  <a:lnTo>
                    <a:pt x="403" y="1141"/>
                  </a:lnTo>
                  <a:lnTo>
                    <a:pt x="413" y="1928"/>
                  </a:lnTo>
                  <a:lnTo>
                    <a:pt x="1293" y="1433"/>
                  </a:lnTo>
                  <a:lnTo>
                    <a:pt x="388" y="0"/>
                  </a:lnTo>
                  <a:lnTo>
                    <a:pt x="398" y="732"/>
                  </a:lnTo>
                  <a:lnTo>
                    <a:pt x="398" y="7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66840" y="5708520"/>
              <a:ext cx="85680" cy="127080"/>
            </a:xfrm>
            <a:custGeom>
              <a:avLst/>
              <a:gdLst/>
              <a:ahLst/>
              <a:rect l="l" t="t" r="r" b="b"/>
              <a:pathLst>
                <a:path w="1294" h="1927">
                  <a:moveTo>
                    <a:pt x="399" y="739"/>
                  </a:moveTo>
                  <a:lnTo>
                    <a:pt x="3" y="519"/>
                  </a:lnTo>
                  <a:lnTo>
                    <a:pt x="0" y="896"/>
                  </a:lnTo>
                  <a:lnTo>
                    <a:pt x="396" y="1122"/>
                  </a:lnTo>
                  <a:lnTo>
                    <a:pt x="403" y="1139"/>
                  </a:lnTo>
                  <a:lnTo>
                    <a:pt x="413" y="1927"/>
                  </a:lnTo>
                  <a:lnTo>
                    <a:pt x="1294" y="1433"/>
                  </a:lnTo>
                  <a:lnTo>
                    <a:pt x="389" y="0"/>
                  </a:lnTo>
                  <a:lnTo>
                    <a:pt x="398" y="732"/>
                  </a:lnTo>
                  <a:lnTo>
                    <a:pt x="399" y="7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68360" y="5661000"/>
              <a:ext cx="142920" cy="336600"/>
            </a:xfrm>
            <a:custGeom>
              <a:avLst/>
              <a:gdLst/>
              <a:ahLst/>
              <a:rect l="l" t="t" r="r" b="b"/>
              <a:pathLst>
                <a:path w="2172" h="5111">
                  <a:moveTo>
                    <a:pt x="2172" y="1222"/>
                  </a:moveTo>
                  <a:lnTo>
                    <a:pt x="2167" y="5111"/>
                  </a:lnTo>
                  <a:lnTo>
                    <a:pt x="3" y="3894"/>
                  </a:lnTo>
                  <a:lnTo>
                    <a:pt x="0" y="0"/>
                  </a:lnTo>
                  <a:lnTo>
                    <a:pt x="2172" y="1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93920" y="5702040"/>
              <a:ext cx="90360" cy="98640"/>
            </a:xfrm>
            <a:custGeom>
              <a:avLst/>
              <a:gdLst/>
              <a:ahLst/>
              <a:rect l="l" t="t" r="r" b="b"/>
              <a:pathLst>
                <a:path w="1372" h="1503">
                  <a:moveTo>
                    <a:pt x="1372" y="1503"/>
                  </a:moveTo>
                  <a:lnTo>
                    <a:pt x="1" y="708"/>
                  </a:lnTo>
                  <a:lnTo>
                    <a:pt x="0" y="0"/>
                  </a:lnTo>
                  <a:lnTo>
                    <a:pt x="1370" y="795"/>
                  </a:lnTo>
                  <a:lnTo>
                    <a:pt x="1372" y="15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3920" y="5702040"/>
              <a:ext cx="90360" cy="98640"/>
            </a:xfrm>
            <a:custGeom>
              <a:avLst/>
              <a:gdLst/>
              <a:ahLst/>
              <a:rect l="l" t="t" r="r" b="b"/>
              <a:pathLst>
                <a:path w="1372" h="1503">
                  <a:moveTo>
                    <a:pt x="1372" y="1503"/>
                  </a:moveTo>
                  <a:lnTo>
                    <a:pt x="1" y="708"/>
                  </a:lnTo>
                  <a:lnTo>
                    <a:pt x="0" y="0"/>
                  </a:lnTo>
                  <a:lnTo>
                    <a:pt x="1370" y="795"/>
                  </a:lnTo>
                  <a:lnTo>
                    <a:pt x="1372" y="1503"/>
                  </a:lnTo>
                  <a:close/>
                </a:path>
              </a:pathLst>
            </a:custGeom>
            <a:noFill/>
            <a:ln w="3240">
              <a:solidFill>
                <a:srgbClr val="008c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95360" y="5789520"/>
              <a:ext cx="90720" cy="169920"/>
            </a:xfrm>
            <a:custGeom>
              <a:avLst/>
              <a:gdLst/>
              <a:ahLst/>
              <a:rect l="l" t="t" r="r" b="b"/>
              <a:pathLst>
                <a:path w="1376" h="2566">
                  <a:moveTo>
                    <a:pt x="1376" y="2566"/>
                  </a:moveTo>
                  <a:lnTo>
                    <a:pt x="6" y="1771"/>
                  </a:lnTo>
                  <a:lnTo>
                    <a:pt x="0" y="0"/>
                  </a:lnTo>
                  <a:lnTo>
                    <a:pt x="1370" y="795"/>
                  </a:lnTo>
                  <a:lnTo>
                    <a:pt x="1376" y="25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5360" y="5789520"/>
              <a:ext cx="90720" cy="169920"/>
            </a:xfrm>
            <a:custGeom>
              <a:avLst/>
              <a:gdLst/>
              <a:ahLst/>
              <a:rect l="l" t="t" r="r" b="b"/>
              <a:pathLst>
                <a:path w="1376" h="2566">
                  <a:moveTo>
                    <a:pt x="1376" y="2566"/>
                  </a:moveTo>
                  <a:lnTo>
                    <a:pt x="6" y="1771"/>
                  </a:lnTo>
                  <a:lnTo>
                    <a:pt x="0" y="0"/>
                  </a:lnTo>
                  <a:lnTo>
                    <a:pt x="1370" y="795"/>
                  </a:lnTo>
                  <a:lnTo>
                    <a:pt x="1376" y="2566"/>
                  </a:lnTo>
                  <a:close/>
                </a:path>
              </a:pathLst>
            </a:custGeom>
            <a:noFill/>
            <a:ln w="3240">
              <a:solidFill>
                <a:srgbClr val="008c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1360" y="5576760"/>
              <a:ext cx="203400" cy="155520"/>
            </a:xfrm>
            <a:custGeom>
              <a:avLst/>
              <a:gdLst/>
              <a:ahLst/>
              <a:rect l="l" t="t" r="r" b="b"/>
              <a:pathLst>
                <a:path w="3090" h="2362">
                  <a:moveTo>
                    <a:pt x="1941" y="1016"/>
                  </a:moveTo>
                  <a:lnTo>
                    <a:pt x="1944" y="1017"/>
                  </a:lnTo>
                  <a:lnTo>
                    <a:pt x="1952" y="1023"/>
                  </a:lnTo>
                  <a:lnTo>
                    <a:pt x="1959" y="1028"/>
                  </a:lnTo>
                  <a:lnTo>
                    <a:pt x="1966" y="1034"/>
                  </a:lnTo>
                  <a:lnTo>
                    <a:pt x="1974" y="1045"/>
                  </a:lnTo>
                  <a:lnTo>
                    <a:pt x="1982" y="1056"/>
                  </a:lnTo>
                  <a:lnTo>
                    <a:pt x="1992" y="1071"/>
                  </a:lnTo>
                  <a:lnTo>
                    <a:pt x="2002" y="1090"/>
                  </a:lnTo>
                  <a:lnTo>
                    <a:pt x="2011" y="1111"/>
                  </a:lnTo>
                  <a:lnTo>
                    <a:pt x="2021" y="1137"/>
                  </a:lnTo>
                  <a:lnTo>
                    <a:pt x="2032" y="1167"/>
                  </a:lnTo>
                  <a:lnTo>
                    <a:pt x="2042" y="1202"/>
                  </a:lnTo>
                  <a:lnTo>
                    <a:pt x="2052" y="1241"/>
                  </a:lnTo>
                  <a:lnTo>
                    <a:pt x="2062" y="1285"/>
                  </a:lnTo>
                  <a:lnTo>
                    <a:pt x="2079" y="1719"/>
                  </a:lnTo>
                  <a:lnTo>
                    <a:pt x="2994" y="2362"/>
                  </a:lnTo>
                  <a:lnTo>
                    <a:pt x="3090" y="2096"/>
                  </a:lnTo>
                  <a:lnTo>
                    <a:pt x="2816" y="1343"/>
                  </a:lnTo>
                  <a:lnTo>
                    <a:pt x="2670" y="1221"/>
                  </a:lnTo>
                  <a:lnTo>
                    <a:pt x="2538" y="1113"/>
                  </a:lnTo>
                  <a:lnTo>
                    <a:pt x="2419" y="1017"/>
                  </a:lnTo>
                  <a:lnTo>
                    <a:pt x="2313" y="932"/>
                  </a:lnTo>
                  <a:lnTo>
                    <a:pt x="2219" y="857"/>
                  </a:lnTo>
                  <a:lnTo>
                    <a:pt x="2137" y="792"/>
                  </a:lnTo>
                  <a:lnTo>
                    <a:pt x="2066" y="738"/>
                  </a:lnTo>
                  <a:lnTo>
                    <a:pt x="2004" y="692"/>
                  </a:lnTo>
                  <a:lnTo>
                    <a:pt x="1952" y="653"/>
                  </a:lnTo>
                  <a:lnTo>
                    <a:pt x="1909" y="622"/>
                  </a:lnTo>
                  <a:lnTo>
                    <a:pt x="1874" y="597"/>
                  </a:lnTo>
                  <a:lnTo>
                    <a:pt x="1847" y="579"/>
                  </a:lnTo>
                  <a:lnTo>
                    <a:pt x="1828" y="566"/>
                  </a:lnTo>
                  <a:lnTo>
                    <a:pt x="1815" y="557"/>
                  </a:lnTo>
                  <a:lnTo>
                    <a:pt x="1807" y="552"/>
                  </a:lnTo>
                  <a:lnTo>
                    <a:pt x="1804" y="551"/>
                  </a:lnTo>
                  <a:lnTo>
                    <a:pt x="1552" y="397"/>
                  </a:lnTo>
                  <a:lnTo>
                    <a:pt x="1544" y="394"/>
                  </a:lnTo>
                  <a:lnTo>
                    <a:pt x="1521" y="385"/>
                  </a:lnTo>
                  <a:lnTo>
                    <a:pt x="1484" y="370"/>
                  </a:lnTo>
                  <a:lnTo>
                    <a:pt x="1437" y="349"/>
                  </a:lnTo>
                  <a:lnTo>
                    <a:pt x="1378" y="324"/>
                  </a:lnTo>
                  <a:lnTo>
                    <a:pt x="1311" y="297"/>
                  </a:lnTo>
                  <a:lnTo>
                    <a:pt x="1235" y="267"/>
                  </a:lnTo>
                  <a:lnTo>
                    <a:pt x="1155" y="234"/>
                  </a:lnTo>
                  <a:lnTo>
                    <a:pt x="1070" y="201"/>
                  </a:lnTo>
                  <a:lnTo>
                    <a:pt x="982" y="168"/>
                  </a:lnTo>
                  <a:lnTo>
                    <a:pt x="893" y="135"/>
                  </a:lnTo>
                  <a:lnTo>
                    <a:pt x="803" y="103"/>
                  </a:lnTo>
                  <a:lnTo>
                    <a:pt x="716" y="72"/>
                  </a:lnTo>
                  <a:lnTo>
                    <a:pt x="632" y="45"/>
                  </a:lnTo>
                  <a:lnTo>
                    <a:pt x="591" y="32"/>
                  </a:lnTo>
                  <a:lnTo>
                    <a:pt x="551" y="21"/>
                  </a:lnTo>
                  <a:lnTo>
                    <a:pt x="514" y="11"/>
                  </a:lnTo>
                  <a:lnTo>
                    <a:pt x="478" y="0"/>
                  </a:lnTo>
                  <a:lnTo>
                    <a:pt x="49" y="285"/>
                  </a:lnTo>
                  <a:lnTo>
                    <a:pt x="0" y="662"/>
                  </a:lnTo>
                  <a:lnTo>
                    <a:pt x="953" y="1027"/>
                  </a:lnTo>
                  <a:lnTo>
                    <a:pt x="959" y="682"/>
                  </a:lnTo>
                  <a:lnTo>
                    <a:pt x="962" y="663"/>
                  </a:lnTo>
                  <a:lnTo>
                    <a:pt x="965" y="647"/>
                  </a:lnTo>
                  <a:lnTo>
                    <a:pt x="970" y="631"/>
                  </a:lnTo>
                  <a:lnTo>
                    <a:pt x="975" y="619"/>
                  </a:lnTo>
                  <a:lnTo>
                    <a:pt x="980" y="607"/>
                  </a:lnTo>
                  <a:lnTo>
                    <a:pt x="987" y="597"/>
                  </a:lnTo>
                  <a:lnTo>
                    <a:pt x="994" y="588"/>
                  </a:lnTo>
                  <a:lnTo>
                    <a:pt x="1001" y="581"/>
                  </a:lnTo>
                  <a:lnTo>
                    <a:pt x="1008" y="575"/>
                  </a:lnTo>
                  <a:lnTo>
                    <a:pt x="1016" y="571"/>
                  </a:lnTo>
                  <a:lnTo>
                    <a:pt x="1025" y="567"/>
                  </a:lnTo>
                  <a:lnTo>
                    <a:pt x="1033" y="564"/>
                  </a:lnTo>
                  <a:lnTo>
                    <a:pt x="1041" y="563"/>
                  </a:lnTo>
                  <a:lnTo>
                    <a:pt x="1050" y="561"/>
                  </a:lnTo>
                  <a:lnTo>
                    <a:pt x="1059" y="561"/>
                  </a:lnTo>
                  <a:lnTo>
                    <a:pt x="1068" y="561"/>
                  </a:lnTo>
                  <a:lnTo>
                    <a:pt x="1085" y="565"/>
                  </a:lnTo>
                  <a:lnTo>
                    <a:pt x="1102" y="570"/>
                  </a:lnTo>
                  <a:lnTo>
                    <a:pt x="1116" y="575"/>
                  </a:lnTo>
                  <a:lnTo>
                    <a:pt x="1130" y="581"/>
                  </a:lnTo>
                  <a:lnTo>
                    <a:pt x="1150" y="592"/>
                  </a:lnTo>
                  <a:lnTo>
                    <a:pt x="1157" y="597"/>
                  </a:lnTo>
                  <a:lnTo>
                    <a:pt x="1941" y="10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493560" y="5768640"/>
              <a:ext cx="90360" cy="52200"/>
            </a:xfrm>
            <a:prstGeom prst="line">
              <a:avLst/>
            </a:prstGeom>
            <a:ln w="3240">
              <a:solidFill>
                <a:srgbClr val="008c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51000" y="5565600"/>
              <a:ext cx="85680" cy="128520"/>
            </a:xfrm>
            <a:custGeom>
              <a:avLst/>
              <a:gdLst/>
              <a:ahLst/>
              <a:rect l="l" t="t" r="r" b="b"/>
              <a:pathLst>
                <a:path w="1294" h="1928">
                  <a:moveTo>
                    <a:pt x="895" y="1188"/>
                  </a:moveTo>
                  <a:lnTo>
                    <a:pt x="1292" y="1409"/>
                  </a:lnTo>
                  <a:lnTo>
                    <a:pt x="1294" y="1031"/>
                  </a:lnTo>
                  <a:lnTo>
                    <a:pt x="898" y="806"/>
                  </a:lnTo>
                  <a:lnTo>
                    <a:pt x="891" y="788"/>
                  </a:lnTo>
                  <a:lnTo>
                    <a:pt x="881" y="0"/>
                  </a:lnTo>
                  <a:lnTo>
                    <a:pt x="0" y="496"/>
                  </a:lnTo>
                  <a:lnTo>
                    <a:pt x="906" y="1928"/>
                  </a:lnTo>
                  <a:lnTo>
                    <a:pt x="896" y="1195"/>
                  </a:lnTo>
                  <a:lnTo>
                    <a:pt x="895" y="1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35040" y="5859360"/>
              <a:ext cx="85680" cy="127080"/>
            </a:xfrm>
            <a:custGeom>
              <a:avLst/>
              <a:gdLst/>
              <a:ahLst/>
              <a:rect l="l" t="t" r="r" b="b"/>
              <a:pathLst>
                <a:path w="1294" h="1927">
                  <a:moveTo>
                    <a:pt x="895" y="1188"/>
                  </a:moveTo>
                  <a:lnTo>
                    <a:pt x="1291" y="1408"/>
                  </a:lnTo>
                  <a:lnTo>
                    <a:pt x="1294" y="1030"/>
                  </a:lnTo>
                  <a:lnTo>
                    <a:pt x="898" y="805"/>
                  </a:lnTo>
                  <a:lnTo>
                    <a:pt x="890" y="788"/>
                  </a:lnTo>
                  <a:lnTo>
                    <a:pt x="879" y="0"/>
                  </a:lnTo>
                  <a:lnTo>
                    <a:pt x="0" y="494"/>
                  </a:lnTo>
                  <a:lnTo>
                    <a:pt x="905" y="1927"/>
                  </a:lnTo>
                  <a:lnTo>
                    <a:pt x="896" y="1195"/>
                  </a:lnTo>
                  <a:lnTo>
                    <a:pt x="895" y="1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38280" y="5710320"/>
              <a:ext cx="85680" cy="126720"/>
            </a:xfrm>
            <a:custGeom>
              <a:avLst/>
              <a:gdLst/>
              <a:ahLst/>
              <a:rect l="l" t="t" r="r" b="b"/>
              <a:pathLst>
                <a:path w="1294" h="1928">
                  <a:moveTo>
                    <a:pt x="399" y="740"/>
                  </a:moveTo>
                  <a:lnTo>
                    <a:pt x="3" y="520"/>
                  </a:lnTo>
                  <a:lnTo>
                    <a:pt x="0" y="897"/>
                  </a:lnTo>
                  <a:lnTo>
                    <a:pt x="396" y="1123"/>
                  </a:lnTo>
                  <a:lnTo>
                    <a:pt x="403" y="1140"/>
                  </a:lnTo>
                  <a:lnTo>
                    <a:pt x="414" y="1928"/>
                  </a:lnTo>
                  <a:lnTo>
                    <a:pt x="1294" y="1433"/>
                  </a:lnTo>
                  <a:lnTo>
                    <a:pt x="389" y="0"/>
                  </a:lnTo>
                  <a:lnTo>
                    <a:pt x="398" y="733"/>
                  </a:lnTo>
                  <a:lnTo>
                    <a:pt x="399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2160" y="5705280"/>
              <a:ext cx="85680" cy="127080"/>
            </a:xfrm>
            <a:custGeom>
              <a:avLst/>
              <a:gdLst/>
              <a:ahLst/>
              <a:rect l="l" t="t" r="r" b="b"/>
              <a:pathLst>
                <a:path w="1293" h="1928">
                  <a:moveTo>
                    <a:pt x="398" y="740"/>
                  </a:moveTo>
                  <a:lnTo>
                    <a:pt x="2" y="520"/>
                  </a:lnTo>
                  <a:lnTo>
                    <a:pt x="0" y="897"/>
                  </a:lnTo>
                  <a:lnTo>
                    <a:pt x="396" y="1123"/>
                  </a:lnTo>
                  <a:lnTo>
                    <a:pt x="403" y="1140"/>
                  </a:lnTo>
                  <a:lnTo>
                    <a:pt x="414" y="1928"/>
                  </a:lnTo>
                  <a:lnTo>
                    <a:pt x="1293" y="1434"/>
                  </a:lnTo>
                  <a:lnTo>
                    <a:pt x="388" y="0"/>
                  </a:lnTo>
                  <a:lnTo>
                    <a:pt x="398" y="733"/>
                  </a:lnTo>
                  <a:lnTo>
                    <a:pt x="39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7113600" y="5337000"/>
            <a:ext cx="533520" cy="1098360"/>
            <a:chOff x="7113600" y="5337000"/>
            <a:chExt cx="533520" cy="1098360"/>
          </a:xfrm>
        </p:grpSpPr>
        <p:sp>
          <p:nvSpPr>
            <p:cNvPr id="1394" name=""/>
            <p:cNvSpPr/>
            <p:nvPr/>
          </p:nvSpPr>
          <p:spPr>
            <a:xfrm>
              <a:off x="7514280" y="5342040"/>
              <a:ext cx="127080" cy="1044360"/>
            </a:xfrm>
            <a:custGeom>
              <a:avLst/>
              <a:gdLst/>
              <a:ahLst/>
              <a:rect l="l" t="t" r="r" b="b"/>
              <a:pathLst>
                <a:path w="1944" h="15894">
                  <a:moveTo>
                    <a:pt x="1935" y="0"/>
                  </a:moveTo>
                  <a:lnTo>
                    <a:pt x="14" y="1810"/>
                  </a:lnTo>
                  <a:lnTo>
                    <a:pt x="0" y="15894"/>
                  </a:lnTo>
                  <a:lnTo>
                    <a:pt x="1944" y="13669"/>
                  </a:lnTo>
                  <a:lnTo>
                    <a:pt x="1935" y="0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10320" y="5338080"/>
              <a:ext cx="133920" cy="127440"/>
            </a:xfrm>
            <a:custGeom>
              <a:avLst/>
              <a:gdLst/>
              <a:ahLst/>
              <a:rect l="l" t="t" r="r" b="b"/>
              <a:pathLst>
                <a:path w="2048" h="1941">
                  <a:moveTo>
                    <a:pt x="1" y="1864"/>
                  </a:moveTo>
                  <a:lnTo>
                    <a:pt x="126" y="1919"/>
                  </a:lnTo>
                  <a:lnTo>
                    <a:pt x="2048" y="109"/>
                  </a:lnTo>
                  <a:lnTo>
                    <a:pt x="1945" y="0"/>
                  </a:lnTo>
                  <a:lnTo>
                    <a:pt x="24" y="1810"/>
                  </a:lnTo>
                  <a:lnTo>
                    <a:pt x="1" y="1864"/>
                  </a:lnTo>
                  <a:lnTo>
                    <a:pt x="24" y="1810"/>
                  </a:lnTo>
                  <a:lnTo>
                    <a:pt x="18" y="1816"/>
                  </a:lnTo>
                  <a:lnTo>
                    <a:pt x="12" y="1824"/>
                  </a:lnTo>
                  <a:lnTo>
                    <a:pt x="8" y="1830"/>
                  </a:lnTo>
                  <a:lnTo>
                    <a:pt x="5" y="1837"/>
                  </a:lnTo>
                  <a:lnTo>
                    <a:pt x="2" y="1845"/>
                  </a:lnTo>
                  <a:lnTo>
                    <a:pt x="1" y="1851"/>
                  </a:lnTo>
                  <a:lnTo>
                    <a:pt x="0" y="1858"/>
                  </a:lnTo>
                  <a:lnTo>
                    <a:pt x="0" y="1865"/>
                  </a:lnTo>
                  <a:lnTo>
                    <a:pt x="0" y="1873"/>
                  </a:lnTo>
                  <a:lnTo>
                    <a:pt x="1" y="1879"/>
                  </a:lnTo>
                  <a:lnTo>
                    <a:pt x="3" y="1886"/>
                  </a:lnTo>
                  <a:lnTo>
                    <a:pt x="6" y="1893"/>
                  </a:lnTo>
                  <a:lnTo>
                    <a:pt x="9" y="1899"/>
                  </a:lnTo>
                  <a:lnTo>
                    <a:pt x="12" y="1905"/>
                  </a:lnTo>
                  <a:lnTo>
                    <a:pt x="17" y="1910"/>
                  </a:lnTo>
                  <a:lnTo>
                    <a:pt x="21" y="1916"/>
                  </a:lnTo>
                  <a:lnTo>
                    <a:pt x="26" y="1921"/>
                  </a:lnTo>
                  <a:lnTo>
                    <a:pt x="31" y="1925"/>
                  </a:lnTo>
                  <a:lnTo>
                    <a:pt x="37" y="1929"/>
                  </a:lnTo>
                  <a:lnTo>
                    <a:pt x="44" y="1932"/>
                  </a:lnTo>
                  <a:lnTo>
                    <a:pt x="50" y="1935"/>
                  </a:lnTo>
                  <a:lnTo>
                    <a:pt x="56" y="1938"/>
                  </a:lnTo>
                  <a:lnTo>
                    <a:pt x="62" y="1940"/>
                  </a:lnTo>
                  <a:lnTo>
                    <a:pt x="70" y="1941"/>
                  </a:lnTo>
                  <a:lnTo>
                    <a:pt x="77" y="1941"/>
                  </a:lnTo>
                  <a:lnTo>
                    <a:pt x="84" y="1940"/>
                  </a:lnTo>
                  <a:lnTo>
                    <a:pt x="92" y="1939"/>
                  </a:lnTo>
                  <a:lnTo>
                    <a:pt x="98" y="1937"/>
                  </a:lnTo>
                  <a:lnTo>
                    <a:pt x="105" y="1933"/>
                  </a:lnTo>
                  <a:lnTo>
                    <a:pt x="113" y="1930"/>
                  </a:lnTo>
                  <a:lnTo>
                    <a:pt x="120" y="1925"/>
                  </a:lnTo>
                  <a:lnTo>
                    <a:pt x="126" y="1919"/>
                  </a:lnTo>
                  <a:lnTo>
                    <a:pt x="1" y="186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508880" y="5461560"/>
              <a:ext cx="10080" cy="929160"/>
            </a:xfrm>
            <a:custGeom>
              <a:avLst/>
              <a:gdLst/>
              <a:ahLst/>
              <a:rect l="l" t="t" r="r" b="b"/>
              <a:pathLst>
                <a:path w="163" h="14158">
                  <a:moveTo>
                    <a:pt x="131" y="14133"/>
                  </a:moveTo>
                  <a:lnTo>
                    <a:pt x="150" y="14084"/>
                  </a:lnTo>
                  <a:lnTo>
                    <a:pt x="163" y="0"/>
                  </a:lnTo>
                  <a:lnTo>
                    <a:pt x="14" y="0"/>
                  </a:lnTo>
                  <a:lnTo>
                    <a:pt x="0" y="14084"/>
                  </a:lnTo>
                  <a:lnTo>
                    <a:pt x="131" y="14133"/>
                  </a:lnTo>
                  <a:lnTo>
                    <a:pt x="0" y="14084"/>
                  </a:lnTo>
                  <a:lnTo>
                    <a:pt x="0" y="14092"/>
                  </a:lnTo>
                  <a:lnTo>
                    <a:pt x="1" y="14101"/>
                  </a:lnTo>
                  <a:lnTo>
                    <a:pt x="3" y="14109"/>
                  </a:lnTo>
                  <a:lnTo>
                    <a:pt x="7" y="14116"/>
                  </a:lnTo>
                  <a:lnTo>
                    <a:pt x="10" y="14123"/>
                  </a:lnTo>
                  <a:lnTo>
                    <a:pt x="14" y="14129"/>
                  </a:lnTo>
                  <a:lnTo>
                    <a:pt x="18" y="14135"/>
                  </a:lnTo>
                  <a:lnTo>
                    <a:pt x="23" y="14139"/>
                  </a:lnTo>
                  <a:lnTo>
                    <a:pt x="28" y="14144"/>
                  </a:lnTo>
                  <a:lnTo>
                    <a:pt x="35" y="14148"/>
                  </a:lnTo>
                  <a:lnTo>
                    <a:pt x="41" y="14151"/>
                  </a:lnTo>
                  <a:lnTo>
                    <a:pt x="47" y="14154"/>
                  </a:lnTo>
                  <a:lnTo>
                    <a:pt x="54" y="14156"/>
                  </a:lnTo>
                  <a:lnTo>
                    <a:pt x="61" y="14157"/>
                  </a:lnTo>
                  <a:lnTo>
                    <a:pt x="68" y="14158"/>
                  </a:lnTo>
                  <a:lnTo>
                    <a:pt x="74" y="14158"/>
                  </a:lnTo>
                  <a:lnTo>
                    <a:pt x="82" y="14158"/>
                  </a:lnTo>
                  <a:lnTo>
                    <a:pt x="89" y="14157"/>
                  </a:lnTo>
                  <a:lnTo>
                    <a:pt x="95" y="14156"/>
                  </a:lnTo>
                  <a:lnTo>
                    <a:pt x="103" y="14154"/>
                  </a:lnTo>
                  <a:lnTo>
                    <a:pt x="109" y="14151"/>
                  </a:lnTo>
                  <a:lnTo>
                    <a:pt x="115" y="14148"/>
                  </a:lnTo>
                  <a:lnTo>
                    <a:pt x="120" y="14144"/>
                  </a:lnTo>
                  <a:lnTo>
                    <a:pt x="127" y="14139"/>
                  </a:lnTo>
                  <a:lnTo>
                    <a:pt x="131" y="14135"/>
                  </a:lnTo>
                  <a:lnTo>
                    <a:pt x="136" y="14129"/>
                  </a:lnTo>
                  <a:lnTo>
                    <a:pt x="140" y="14123"/>
                  </a:lnTo>
                  <a:lnTo>
                    <a:pt x="143" y="14116"/>
                  </a:lnTo>
                  <a:lnTo>
                    <a:pt x="145" y="14109"/>
                  </a:lnTo>
                  <a:lnTo>
                    <a:pt x="148" y="14101"/>
                  </a:lnTo>
                  <a:lnTo>
                    <a:pt x="150" y="14092"/>
                  </a:lnTo>
                  <a:lnTo>
                    <a:pt x="150" y="14084"/>
                  </a:lnTo>
                  <a:lnTo>
                    <a:pt x="131" y="1413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510320" y="6235560"/>
              <a:ext cx="136800" cy="153720"/>
            </a:xfrm>
            <a:custGeom>
              <a:avLst/>
              <a:gdLst/>
              <a:ahLst/>
              <a:rect l="l" t="t" r="r" b="b"/>
              <a:pathLst>
                <a:path w="2075" h="2350">
                  <a:moveTo>
                    <a:pt x="2074" y="76"/>
                  </a:moveTo>
                  <a:lnTo>
                    <a:pt x="1942" y="27"/>
                  </a:lnTo>
                  <a:lnTo>
                    <a:pt x="0" y="2251"/>
                  </a:lnTo>
                  <a:lnTo>
                    <a:pt x="112" y="2350"/>
                  </a:lnTo>
                  <a:lnTo>
                    <a:pt x="2055" y="125"/>
                  </a:lnTo>
                  <a:lnTo>
                    <a:pt x="2074" y="76"/>
                  </a:lnTo>
                  <a:lnTo>
                    <a:pt x="2055" y="125"/>
                  </a:lnTo>
                  <a:lnTo>
                    <a:pt x="2060" y="118"/>
                  </a:lnTo>
                  <a:lnTo>
                    <a:pt x="2066" y="111"/>
                  </a:lnTo>
                  <a:lnTo>
                    <a:pt x="2069" y="104"/>
                  </a:lnTo>
                  <a:lnTo>
                    <a:pt x="2072" y="97"/>
                  </a:lnTo>
                  <a:lnTo>
                    <a:pt x="2074" y="90"/>
                  </a:lnTo>
                  <a:lnTo>
                    <a:pt x="2075" y="82"/>
                  </a:lnTo>
                  <a:lnTo>
                    <a:pt x="2075" y="75"/>
                  </a:lnTo>
                  <a:lnTo>
                    <a:pt x="2074" y="68"/>
                  </a:lnTo>
                  <a:lnTo>
                    <a:pt x="2073" y="61"/>
                  </a:lnTo>
                  <a:lnTo>
                    <a:pt x="2071" y="54"/>
                  </a:lnTo>
                  <a:lnTo>
                    <a:pt x="2069" y="48"/>
                  </a:lnTo>
                  <a:lnTo>
                    <a:pt x="2066" y="42"/>
                  </a:lnTo>
                  <a:lnTo>
                    <a:pt x="2062" y="35"/>
                  </a:lnTo>
                  <a:lnTo>
                    <a:pt x="2058" y="30"/>
                  </a:lnTo>
                  <a:lnTo>
                    <a:pt x="2053" y="25"/>
                  </a:lnTo>
                  <a:lnTo>
                    <a:pt x="2048" y="20"/>
                  </a:lnTo>
                  <a:lnTo>
                    <a:pt x="2043" y="15"/>
                  </a:lnTo>
                  <a:lnTo>
                    <a:pt x="2037" y="11"/>
                  </a:lnTo>
                  <a:lnTo>
                    <a:pt x="2031" y="8"/>
                  </a:lnTo>
                  <a:lnTo>
                    <a:pt x="2025" y="5"/>
                  </a:lnTo>
                  <a:lnTo>
                    <a:pt x="2018" y="3"/>
                  </a:lnTo>
                  <a:lnTo>
                    <a:pt x="2011" y="2"/>
                  </a:lnTo>
                  <a:lnTo>
                    <a:pt x="2004" y="1"/>
                  </a:lnTo>
                  <a:lnTo>
                    <a:pt x="1998" y="0"/>
                  </a:lnTo>
                  <a:lnTo>
                    <a:pt x="1990" y="1"/>
                  </a:lnTo>
                  <a:lnTo>
                    <a:pt x="1983" y="2"/>
                  </a:lnTo>
                  <a:lnTo>
                    <a:pt x="1976" y="4"/>
                  </a:lnTo>
                  <a:lnTo>
                    <a:pt x="1970" y="7"/>
                  </a:lnTo>
                  <a:lnTo>
                    <a:pt x="1962" y="10"/>
                  </a:lnTo>
                  <a:lnTo>
                    <a:pt x="1956" y="14"/>
                  </a:lnTo>
                  <a:lnTo>
                    <a:pt x="1949" y="21"/>
                  </a:lnTo>
                  <a:lnTo>
                    <a:pt x="1942" y="27"/>
                  </a:lnTo>
                  <a:lnTo>
                    <a:pt x="2074" y="7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636680" y="5337000"/>
              <a:ext cx="10080" cy="902520"/>
            </a:xfrm>
            <a:custGeom>
              <a:avLst/>
              <a:gdLst/>
              <a:ahLst/>
              <a:rect l="l" t="t" r="r" b="b"/>
              <a:pathLst>
                <a:path w="159" h="13744">
                  <a:moveTo>
                    <a:pt x="24" y="21"/>
                  </a:moveTo>
                  <a:lnTo>
                    <a:pt x="0" y="75"/>
                  </a:lnTo>
                  <a:lnTo>
                    <a:pt x="10" y="13744"/>
                  </a:lnTo>
                  <a:lnTo>
                    <a:pt x="159" y="13744"/>
                  </a:lnTo>
                  <a:lnTo>
                    <a:pt x="150" y="75"/>
                  </a:lnTo>
                  <a:lnTo>
                    <a:pt x="24" y="21"/>
                  </a:lnTo>
                  <a:lnTo>
                    <a:pt x="150" y="75"/>
                  </a:lnTo>
                  <a:lnTo>
                    <a:pt x="150" y="66"/>
                  </a:lnTo>
                  <a:lnTo>
                    <a:pt x="149" y="58"/>
                  </a:lnTo>
                  <a:lnTo>
                    <a:pt x="146" y="50"/>
                  </a:lnTo>
                  <a:lnTo>
                    <a:pt x="143" y="43"/>
                  </a:lnTo>
                  <a:lnTo>
                    <a:pt x="140" y="36"/>
                  </a:lnTo>
                  <a:lnTo>
                    <a:pt x="136" y="29"/>
                  </a:lnTo>
                  <a:lnTo>
                    <a:pt x="132" y="24"/>
                  </a:lnTo>
                  <a:lnTo>
                    <a:pt x="127" y="19"/>
                  </a:lnTo>
                  <a:lnTo>
                    <a:pt x="121" y="15"/>
                  </a:lnTo>
                  <a:lnTo>
                    <a:pt x="115" y="11"/>
                  </a:lnTo>
                  <a:lnTo>
                    <a:pt x="109" y="8"/>
                  </a:lnTo>
                  <a:lnTo>
                    <a:pt x="103" y="5"/>
                  </a:lnTo>
                  <a:lnTo>
                    <a:pt x="96" y="3"/>
                  </a:lnTo>
                  <a:lnTo>
                    <a:pt x="89" y="1"/>
                  </a:lnTo>
                  <a:lnTo>
                    <a:pt x="82" y="1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5" y="3"/>
                  </a:lnTo>
                  <a:lnTo>
                    <a:pt x="47" y="5"/>
                  </a:lnTo>
                  <a:lnTo>
                    <a:pt x="41" y="8"/>
                  </a:lnTo>
                  <a:lnTo>
                    <a:pt x="35" y="11"/>
                  </a:lnTo>
                  <a:lnTo>
                    <a:pt x="29" y="15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10" y="36"/>
                  </a:lnTo>
                  <a:lnTo>
                    <a:pt x="6" y="43"/>
                  </a:lnTo>
                  <a:lnTo>
                    <a:pt x="4" y="50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118640" y="5342040"/>
              <a:ext cx="523080" cy="142920"/>
            </a:xfrm>
            <a:custGeom>
              <a:avLst/>
              <a:gdLst/>
              <a:ahLst/>
              <a:rect l="l" t="t" r="r" b="b"/>
              <a:pathLst>
                <a:path w="7956" h="2185">
                  <a:moveTo>
                    <a:pt x="1797" y="0"/>
                  </a:moveTo>
                  <a:lnTo>
                    <a:pt x="7956" y="4"/>
                  </a:lnTo>
                  <a:lnTo>
                    <a:pt x="6035" y="1814"/>
                  </a:lnTo>
                  <a:lnTo>
                    <a:pt x="6007" y="1824"/>
                  </a:lnTo>
                  <a:lnTo>
                    <a:pt x="5923" y="1851"/>
                  </a:lnTo>
                  <a:lnTo>
                    <a:pt x="5861" y="1869"/>
                  </a:lnTo>
                  <a:lnTo>
                    <a:pt x="5784" y="1890"/>
                  </a:lnTo>
                  <a:lnTo>
                    <a:pt x="5697" y="1914"/>
                  </a:lnTo>
                  <a:lnTo>
                    <a:pt x="5595" y="1938"/>
                  </a:lnTo>
                  <a:lnTo>
                    <a:pt x="5482" y="1964"/>
                  </a:lnTo>
                  <a:lnTo>
                    <a:pt x="5355" y="1991"/>
                  </a:lnTo>
                  <a:lnTo>
                    <a:pt x="5218" y="2018"/>
                  </a:lnTo>
                  <a:lnTo>
                    <a:pt x="5068" y="2044"/>
                  </a:lnTo>
                  <a:lnTo>
                    <a:pt x="4907" y="2070"/>
                  </a:lnTo>
                  <a:lnTo>
                    <a:pt x="4735" y="2094"/>
                  </a:lnTo>
                  <a:lnTo>
                    <a:pt x="4552" y="2117"/>
                  </a:lnTo>
                  <a:lnTo>
                    <a:pt x="4358" y="2137"/>
                  </a:lnTo>
                  <a:lnTo>
                    <a:pt x="4154" y="2155"/>
                  </a:lnTo>
                  <a:lnTo>
                    <a:pt x="3939" y="2169"/>
                  </a:lnTo>
                  <a:lnTo>
                    <a:pt x="3715" y="2179"/>
                  </a:lnTo>
                  <a:lnTo>
                    <a:pt x="3481" y="2184"/>
                  </a:lnTo>
                  <a:lnTo>
                    <a:pt x="3238" y="2185"/>
                  </a:lnTo>
                  <a:lnTo>
                    <a:pt x="2984" y="2181"/>
                  </a:lnTo>
                  <a:lnTo>
                    <a:pt x="2722" y="2171"/>
                  </a:lnTo>
                  <a:lnTo>
                    <a:pt x="2451" y="2154"/>
                  </a:lnTo>
                  <a:lnTo>
                    <a:pt x="2172" y="2131"/>
                  </a:lnTo>
                  <a:lnTo>
                    <a:pt x="1885" y="2100"/>
                  </a:lnTo>
                  <a:lnTo>
                    <a:pt x="1590" y="2061"/>
                  </a:lnTo>
                  <a:lnTo>
                    <a:pt x="1286" y="2014"/>
                  </a:lnTo>
                  <a:lnTo>
                    <a:pt x="976" y="1959"/>
                  </a:lnTo>
                  <a:lnTo>
                    <a:pt x="657" y="1893"/>
                  </a:lnTo>
                  <a:lnTo>
                    <a:pt x="332" y="1818"/>
                  </a:lnTo>
                  <a:lnTo>
                    <a:pt x="0" y="1732"/>
                  </a:lnTo>
                  <a:lnTo>
                    <a:pt x="1797" y="0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236720" y="5337000"/>
              <a:ext cx="408960" cy="10080"/>
            </a:xfrm>
            <a:custGeom>
              <a:avLst/>
              <a:gdLst/>
              <a:ahLst/>
              <a:rect l="l" t="t" r="r" b="b"/>
              <a:pathLst>
                <a:path w="6234" h="155">
                  <a:moveTo>
                    <a:pt x="6211" y="134"/>
                  </a:moveTo>
                  <a:lnTo>
                    <a:pt x="6159" y="4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6159" y="155"/>
                  </a:lnTo>
                  <a:lnTo>
                    <a:pt x="6211" y="134"/>
                  </a:lnTo>
                  <a:lnTo>
                    <a:pt x="6159" y="155"/>
                  </a:lnTo>
                  <a:lnTo>
                    <a:pt x="6168" y="154"/>
                  </a:lnTo>
                  <a:lnTo>
                    <a:pt x="6177" y="153"/>
                  </a:lnTo>
                  <a:lnTo>
                    <a:pt x="6184" y="151"/>
                  </a:lnTo>
                  <a:lnTo>
                    <a:pt x="6192" y="148"/>
                  </a:lnTo>
                  <a:lnTo>
                    <a:pt x="6199" y="144"/>
                  </a:lnTo>
                  <a:lnTo>
                    <a:pt x="6204" y="141"/>
                  </a:lnTo>
                  <a:lnTo>
                    <a:pt x="6211" y="136"/>
                  </a:lnTo>
                  <a:lnTo>
                    <a:pt x="6216" y="131"/>
                  </a:lnTo>
                  <a:lnTo>
                    <a:pt x="6220" y="125"/>
                  </a:lnTo>
                  <a:lnTo>
                    <a:pt x="6223" y="120"/>
                  </a:lnTo>
                  <a:lnTo>
                    <a:pt x="6226" y="114"/>
                  </a:lnTo>
                  <a:lnTo>
                    <a:pt x="6229" y="107"/>
                  </a:lnTo>
                  <a:lnTo>
                    <a:pt x="6231" y="100"/>
                  </a:lnTo>
                  <a:lnTo>
                    <a:pt x="6233" y="93"/>
                  </a:lnTo>
                  <a:lnTo>
                    <a:pt x="6234" y="87"/>
                  </a:lnTo>
                  <a:lnTo>
                    <a:pt x="6234" y="79"/>
                  </a:lnTo>
                  <a:lnTo>
                    <a:pt x="6234" y="72"/>
                  </a:lnTo>
                  <a:lnTo>
                    <a:pt x="6233" y="66"/>
                  </a:lnTo>
                  <a:lnTo>
                    <a:pt x="6231" y="59"/>
                  </a:lnTo>
                  <a:lnTo>
                    <a:pt x="6229" y="52"/>
                  </a:lnTo>
                  <a:lnTo>
                    <a:pt x="6226" y="46"/>
                  </a:lnTo>
                  <a:lnTo>
                    <a:pt x="6223" y="40"/>
                  </a:lnTo>
                  <a:lnTo>
                    <a:pt x="6220" y="33"/>
                  </a:lnTo>
                  <a:lnTo>
                    <a:pt x="6216" y="28"/>
                  </a:lnTo>
                  <a:lnTo>
                    <a:pt x="6211" y="23"/>
                  </a:lnTo>
                  <a:lnTo>
                    <a:pt x="6204" y="19"/>
                  </a:lnTo>
                  <a:lnTo>
                    <a:pt x="6199" y="15"/>
                  </a:lnTo>
                  <a:lnTo>
                    <a:pt x="6192" y="10"/>
                  </a:lnTo>
                  <a:lnTo>
                    <a:pt x="6184" y="8"/>
                  </a:lnTo>
                  <a:lnTo>
                    <a:pt x="6177" y="6"/>
                  </a:lnTo>
                  <a:lnTo>
                    <a:pt x="6168" y="5"/>
                  </a:lnTo>
                  <a:lnTo>
                    <a:pt x="6159" y="4"/>
                  </a:lnTo>
                  <a:lnTo>
                    <a:pt x="6211" y="13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10320" y="5338080"/>
              <a:ext cx="133920" cy="127440"/>
            </a:xfrm>
            <a:custGeom>
              <a:avLst/>
              <a:gdLst/>
              <a:ahLst/>
              <a:rect l="l" t="t" r="r" b="b"/>
              <a:pathLst>
                <a:path w="2048" h="1941">
                  <a:moveTo>
                    <a:pt x="101" y="1934"/>
                  </a:moveTo>
                  <a:lnTo>
                    <a:pt x="126" y="1919"/>
                  </a:lnTo>
                  <a:lnTo>
                    <a:pt x="2048" y="109"/>
                  </a:lnTo>
                  <a:lnTo>
                    <a:pt x="1945" y="0"/>
                  </a:lnTo>
                  <a:lnTo>
                    <a:pt x="24" y="1810"/>
                  </a:lnTo>
                  <a:lnTo>
                    <a:pt x="101" y="1934"/>
                  </a:lnTo>
                  <a:lnTo>
                    <a:pt x="24" y="1810"/>
                  </a:lnTo>
                  <a:lnTo>
                    <a:pt x="18" y="1816"/>
                  </a:lnTo>
                  <a:lnTo>
                    <a:pt x="12" y="1824"/>
                  </a:lnTo>
                  <a:lnTo>
                    <a:pt x="8" y="1830"/>
                  </a:lnTo>
                  <a:lnTo>
                    <a:pt x="5" y="1837"/>
                  </a:lnTo>
                  <a:lnTo>
                    <a:pt x="2" y="1845"/>
                  </a:lnTo>
                  <a:lnTo>
                    <a:pt x="1" y="1851"/>
                  </a:lnTo>
                  <a:lnTo>
                    <a:pt x="0" y="1858"/>
                  </a:lnTo>
                  <a:lnTo>
                    <a:pt x="0" y="1865"/>
                  </a:lnTo>
                  <a:lnTo>
                    <a:pt x="0" y="1873"/>
                  </a:lnTo>
                  <a:lnTo>
                    <a:pt x="1" y="1879"/>
                  </a:lnTo>
                  <a:lnTo>
                    <a:pt x="3" y="1886"/>
                  </a:lnTo>
                  <a:lnTo>
                    <a:pt x="6" y="1893"/>
                  </a:lnTo>
                  <a:lnTo>
                    <a:pt x="9" y="1899"/>
                  </a:lnTo>
                  <a:lnTo>
                    <a:pt x="12" y="1905"/>
                  </a:lnTo>
                  <a:lnTo>
                    <a:pt x="17" y="1910"/>
                  </a:lnTo>
                  <a:lnTo>
                    <a:pt x="21" y="1916"/>
                  </a:lnTo>
                  <a:lnTo>
                    <a:pt x="26" y="1921"/>
                  </a:lnTo>
                  <a:lnTo>
                    <a:pt x="31" y="1925"/>
                  </a:lnTo>
                  <a:lnTo>
                    <a:pt x="37" y="1929"/>
                  </a:lnTo>
                  <a:lnTo>
                    <a:pt x="44" y="1932"/>
                  </a:lnTo>
                  <a:lnTo>
                    <a:pt x="50" y="1935"/>
                  </a:lnTo>
                  <a:lnTo>
                    <a:pt x="56" y="1938"/>
                  </a:lnTo>
                  <a:lnTo>
                    <a:pt x="62" y="1940"/>
                  </a:lnTo>
                  <a:lnTo>
                    <a:pt x="70" y="1941"/>
                  </a:lnTo>
                  <a:lnTo>
                    <a:pt x="77" y="1941"/>
                  </a:lnTo>
                  <a:lnTo>
                    <a:pt x="84" y="1940"/>
                  </a:lnTo>
                  <a:lnTo>
                    <a:pt x="92" y="1939"/>
                  </a:lnTo>
                  <a:lnTo>
                    <a:pt x="98" y="1937"/>
                  </a:lnTo>
                  <a:lnTo>
                    <a:pt x="105" y="1933"/>
                  </a:lnTo>
                  <a:lnTo>
                    <a:pt x="113" y="1930"/>
                  </a:lnTo>
                  <a:lnTo>
                    <a:pt x="120" y="1925"/>
                  </a:lnTo>
                  <a:lnTo>
                    <a:pt x="126" y="1919"/>
                  </a:lnTo>
                  <a:lnTo>
                    <a:pt x="101" y="193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113600" y="5451120"/>
              <a:ext cx="403560" cy="39240"/>
            </a:xfrm>
            <a:custGeom>
              <a:avLst/>
              <a:gdLst/>
              <a:ahLst/>
              <a:rect l="l" t="t" r="r" b="b"/>
              <a:pathLst>
                <a:path w="6136" h="604">
                  <a:moveTo>
                    <a:pt x="24" y="22"/>
                  </a:moveTo>
                  <a:lnTo>
                    <a:pt x="56" y="147"/>
                  </a:lnTo>
                  <a:lnTo>
                    <a:pt x="140" y="170"/>
                  </a:lnTo>
                  <a:lnTo>
                    <a:pt x="224" y="192"/>
                  </a:lnTo>
                  <a:lnTo>
                    <a:pt x="307" y="213"/>
                  </a:lnTo>
                  <a:lnTo>
                    <a:pt x="390" y="234"/>
                  </a:lnTo>
                  <a:lnTo>
                    <a:pt x="472" y="254"/>
                  </a:lnTo>
                  <a:lnTo>
                    <a:pt x="554" y="272"/>
                  </a:lnTo>
                  <a:lnTo>
                    <a:pt x="635" y="291"/>
                  </a:lnTo>
                  <a:lnTo>
                    <a:pt x="717" y="309"/>
                  </a:lnTo>
                  <a:lnTo>
                    <a:pt x="877" y="343"/>
                  </a:lnTo>
                  <a:lnTo>
                    <a:pt x="1036" y="375"/>
                  </a:lnTo>
                  <a:lnTo>
                    <a:pt x="1194" y="404"/>
                  </a:lnTo>
                  <a:lnTo>
                    <a:pt x="1348" y="431"/>
                  </a:lnTo>
                  <a:lnTo>
                    <a:pt x="1502" y="455"/>
                  </a:lnTo>
                  <a:lnTo>
                    <a:pt x="1654" y="478"/>
                  </a:lnTo>
                  <a:lnTo>
                    <a:pt x="1804" y="499"/>
                  </a:lnTo>
                  <a:lnTo>
                    <a:pt x="1951" y="517"/>
                  </a:lnTo>
                  <a:lnTo>
                    <a:pt x="2097" y="534"/>
                  </a:lnTo>
                  <a:lnTo>
                    <a:pt x="2240" y="548"/>
                  </a:lnTo>
                  <a:lnTo>
                    <a:pt x="2382" y="561"/>
                  </a:lnTo>
                  <a:lnTo>
                    <a:pt x="2521" y="572"/>
                  </a:lnTo>
                  <a:lnTo>
                    <a:pt x="2659" y="582"/>
                  </a:lnTo>
                  <a:lnTo>
                    <a:pt x="2794" y="589"/>
                  </a:lnTo>
                  <a:lnTo>
                    <a:pt x="2926" y="594"/>
                  </a:lnTo>
                  <a:lnTo>
                    <a:pt x="3057" y="598"/>
                  </a:lnTo>
                  <a:lnTo>
                    <a:pt x="3185" y="602"/>
                  </a:lnTo>
                  <a:lnTo>
                    <a:pt x="3311" y="604"/>
                  </a:lnTo>
                  <a:lnTo>
                    <a:pt x="3436" y="604"/>
                  </a:lnTo>
                  <a:lnTo>
                    <a:pt x="3557" y="603"/>
                  </a:lnTo>
                  <a:lnTo>
                    <a:pt x="3676" y="600"/>
                  </a:lnTo>
                  <a:lnTo>
                    <a:pt x="3793" y="596"/>
                  </a:lnTo>
                  <a:lnTo>
                    <a:pt x="3907" y="592"/>
                  </a:lnTo>
                  <a:lnTo>
                    <a:pt x="4018" y="586"/>
                  </a:lnTo>
                  <a:lnTo>
                    <a:pt x="4128" y="580"/>
                  </a:lnTo>
                  <a:lnTo>
                    <a:pt x="4235" y="572"/>
                  </a:lnTo>
                  <a:lnTo>
                    <a:pt x="4339" y="564"/>
                  </a:lnTo>
                  <a:lnTo>
                    <a:pt x="4440" y="555"/>
                  </a:lnTo>
                  <a:lnTo>
                    <a:pt x="4539" y="545"/>
                  </a:lnTo>
                  <a:lnTo>
                    <a:pt x="4636" y="535"/>
                  </a:lnTo>
                  <a:lnTo>
                    <a:pt x="4730" y="523"/>
                  </a:lnTo>
                  <a:lnTo>
                    <a:pt x="4820" y="512"/>
                  </a:lnTo>
                  <a:lnTo>
                    <a:pt x="4908" y="499"/>
                  </a:lnTo>
                  <a:lnTo>
                    <a:pt x="4994" y="488"/>
                  </a:lnTo>
                  <a:lnTo>
                    <a:pt x="5076" y="474"/>
                  </a:lnTo>
                  <a:lnTo>
                    <a:pt x="5156" y="462"/>
                  </a:lnTo>
                  <a:lnTo>
                    <a:pt x="5233" y="448"/>
                  </a:lnTo>
                  <a:lnTo>
                    <a:pt x="5306" y="434"/>
                  </a:lnTo>
                  <a:lnTo>
                    <a:pt x="5378" y="421"/>
                  </a:lnTo>
                  <a:lnTo>
                    <a:pt x="5446" y="407"/>
                  </a:lnTo>
                  <a:lnTo>
                    <a:pt x="5572" y="380"/>
                  </a:lnTo>
                  <a:lnTo>
                    <a:pt x="5687" y="354"/>
                  </a:lnTo>
                  <a:lnTo>
                    <a:pt x="5789" y="329"/>
                  </a:lnTo>
                  <a:lnTo>
                    <a:pt x="5879" y="306"/>
                  </a:lnTo>
                  <a:lnTo>
                    <a:pt x="5955" y="284"/>
                  </a:lnTo>
                  <a:lnTo>
                    <a:pt x="6019" y="265"/>
                  </a:lnTo>
                  <a:lnTo>
                    <a:pt x="6105" y="238"/>
                  </a:lnTo>
                  <a:lnTo>
                    <a:pt x="6136" y="227"/>
                  </a:lnTo>
                  <a:lnTo>
                    <a:pt x="6085" y="87"/>
                  </a:lnTo>
                  <a:lnTo>
                    <a:pt x="6059" y="96"/>
                  </a:lnTo>
                  <a:lnTo>
                    <a:pt x="5976" y="122"/>
                  </a:lnTo>
                  <a:lnTo>
                    <a:pt x="5915" y="140"/>
                  </a:lnTo>
                  <a:lnTo>
                    <a:pt x="5841" y="161"/>
                  </a:lnTo>
                  <a:lnTo>
                    <a:pt x="5753" y="184"/>
                  </a:lnTo>
                  <a:lnTo>
                    <a:pt x="5654" y="209"/>
                  </a:lnTo>
                  <a:lnTo>
                    <a:pt x="5541" y="234"/>
                  </a:lnTo>
                  <a:lnTo>
                    <a:pt x="5416" y="261"/>
                  </a:lnTo>
                  <a:lnTo>
                    <a:pt x="5349" y="273"/>
                  </a:lnTo>
                  <a:lnTo>
                    <a:pt x="5280" y="287"/>
                  </a:lnTo>
                  <a:lnTo>
                    <a:pt x="5207" y="301"/>
                  </a:lnTo>
                  <a:lnTo>
                    <a:pt x="5132" y="313"/>
                  </a:lnTo>
                  <a:lnTo>
                    <a:pt x="5052" y="327"/>
                  </a:lnTo>
                  <a:lnTo>
                    <a:pt x="4972" y="339"/>
                  </a:lnTo>
                  <a:lnTo>
                    <a:pt x="4887" y="352"/>
                  </a:lnTo>
                  <a:lnTo>
                    <a:pt x="4801" y="363"/>
                  </a:lnTo>
                  <a:lnTo>
                    <a:pt x="4711" y="375"/>
                  </a:lnTo>
                  <a:lnTo>
                    <a:pt x="4619" y="385"/>
                  </a:lnTo>
                  <a:lnTo>
                    <a:pt x="4524" y="396"/>
                  </a:lnTo>
                  <a:lnTo>
                    <a:pt x="4427" y="406"/>
                  </a:lnTo>
                  <a:lnTo>
                    <a:pt x="4326" y="414"/>
                  </a:lnTo>
                  <a:lnTo>
                    <a:pt x="4223" y="423"/>
                  </a:lnTo>
                  <a:lnTo>
                    <a:pt x="4119" y="430"/>
                  </a:lnTo>
                  <a:lnTo>
                    <a:pt x="4010" y="437"/>
                  </a:lnTo>
                  <a:lnTo>
                    <a:pt x="3900" y="443"/>
                  </a:lnTo>
                  <a:lnTo>
                    <a:pt x="3788" y="447"/>
                  </a:lnTo>
                  <a:lnTo>
                    <a:pt x="3673" y="451"/>
                  </a:lnTo>
                  <a:lnTo>
                    <a:pt x="3555" y="453"/>
                  </a:lnTo>
                  <a:lnTo>
                    <a:pt x="3435" y="454"/>
                  </a:lnTo>
                  <a:lnTo>
                    <a:pt x="3313" y="454"/>
                  </a:lnTo>
                  <a:lnTo>
                    <a:pt x="3188" y="452"/>
                  </a:lnTo>
                  <a:lnTo>
                    <a:pt x="3061" y="450"/>
                  </a:lnTo>
                  <a:lnTo>
                    <a:pt x="2931" y="445"/>
                  </a:lnTo>
                  <a:lnTo>
                    <a:pt x="2801" y="440"/>
                  </a:lnTo>
                  <a:lnTo>
                    <a:pt x="2667" y="432"/>
                  </a:lnTo>
                  <a:lnTo>
                    <a:pt x="2531" y="423"/>
                  </a:lnTo>
                  <a:lnTo>
                    <a:pt x="2394" y="412"/>
                  </a:lnTo>
                  <a:lnTo>
                    <a:pt x="2255" y="400"/>
                  </a:lnTo>
                  <a:lnTo>
                    <a:pt x="2113" y="385"/>
                  </a:lnTo>
                  <a:lnTo>
                    <a:pt x="1969" y="368"/>
                  </a:lnTo>
                  <a:lnTo>
                    <a:pt x="1822" y="351"/>
                  </a:lnTo>
                  <a:lnTo>
                    <a:pt x="1675" y="330"/>
                  </a:lnTo>
                  <a:lnTo>
                    <a:pt x="1525" y="308"/>
                  </a:lnTo>
                  <a:lnTo>
                    <a:pt x="1373" y="284"/>
                  </a:lnTo>
                  <a:lnTo>
                    <a:pt x="1220" y="257"/>
                  </a:lnTo>
                  <a:lnTo>
                    <a:pt x="1064" y="227"/>
                  </a:lnTo>
                  <a:lnTo>
                    <a:pt x="908" y="196"/>
                  </a:lnTo>
                  <a:lnTo>
                    <a:pt x="748" y="163"/>
                  </a:lnTo>
                  <a:lnTo>
                    <a:pt x="668" y="145"/>
                  </a:lnTo>
                  <a:lnTo>
                    <a:pt x="587" y="127"/>
                  </a:lnTo>
                  <a:lnTo>
                    <a:pt x="507" y="107"/>
                  </a:lnTo>
                  <a:lnTo>
                    <a:pt x="425" y="88"/>
                  </a:lnTo>
                  <a:lnTo>
                    <a:pt x="343" y="68"/>
                  </a:lnTo>
                  <a:lnTo>
                    <a:pt x="260" y="47"/>
                  </a:lnTo>
                  <a:lnTo>
                    <a:pt x="178" y="25"/>
                  </a:lnTo>
                  <a:lnTo>
                    <a:pt x="95" y="3"/>
                  </a:lnTo>
                  <a:lnTo>
                    <a:pt x="128" y="129"/>
                  </a:lnTo>
                  <a:lnTo>
                    <a:pt x="95" y="3"/>
                  </a:lnTo>
                  <a:lnTo>
                    <a:pt x="86" y="1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2"/>
                  </a:lnTo>
                  <a:lnTo>
                    <a:pt x="47" y="4"/>
                  </a:lnTo>
                  <a:lnTo>
                    <a:pt x="41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4" y="19"/>
                  </a:lnTo>
                  <a:lnTo>
                    <a:pt x="19" y="25"/>
                  </a:lnTo>
                  <a:lnTo>
                    <a:pt x="15" y="30"/>
                  </a:lnTo>
                  <a:lnTo>
                    <a:pt x="12" y="36"/>
                  </a:lnTo>
                  <a:lnTo>
                    <a:pt x="9" y="42"/>
                  </a:lnTo>
                  <a:lnTo>
                    <a:pt x="5" y="49"/>
                  </a:lnTo>
                  <a:lnTo>
                    <a:pt x="3" y="55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3" y="97"/>
                  </a:lnTo>
                  <a:lnTo>
                    <a:pt x="5" y="103"/>
                  </a:lnTo>
                  <a:lnTo>
                    <a:pt x="7" y="110"/>
                  </a:lnTo>
                  <a:lnTo>
                    <a:pt x="12" y="117"/>
                  </a:lnTo>
                  <a:lnTo>
                    <a:pt x="16" y="122"/>
                  </a:lnTo>
                  <a:lnTo>
                    <a:pt x="20" y="127"/>
                  </a:lnTo>
                  <a:lnTo>
                    <a:pt x="26" y="132"/>
                  </a:lnTo>
                  <a:lnTo>
                    <a:pt x="33" y="138"/>
                  </a:lnTo>
                  <a:lnTo>
                    <a:pt x="40" y="141"/>
                  </a:lnTo>
                  <a:lnTo>
                    <a:pt x="47" y="145"/>
                  </a:lnTo>
                  <a:lnTo>
                    <a:pt x="56" y="147"/>
                  </a:lnTo>
                  <a:lnTo>
                    <a:pt x="24" y="2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14680" y="5337000"/>
              <a:ext cx="127440" cy="122040"/>
            </a:xfrm>
            <a:custGeom>
              <a:avLst/>
              <a:gdLst/>
              <a:ahLst/>
              <a:rect l="l" t="t" r="r" b="b"/>
              <a:pathLst>
                <a:path w="1925" h="1862">
                  <a:moveTo>
                    <a:pt x="1848" y="1"/>
                  </a:moveTo>
                  <a:lnTo>
                    <a:pt x="1796" y="22"/>
                  </a:lnTo>
                  <a:lnTo>
                    <a:pt x="0" y="1755"/>
                  </a:lnTo>
                  <a:lnTo>
                    <a:pt x="104" y="1862"/>
                  </a:lnTo>
                  <a:lnTo>
                    <a:pt x="1901" y="130"/>
                  </a:lnTo>
                  <a:lnTo>
                    <a:pt x="1848" y="1"/>
                  </a:lnTo>
                  <a:lnTo>
                    <a:pt x="1901" y="130"/>
                  </a:lnTo>
                  <a:lnTo>
                    <a:pt x="1907" y="123"/>
                  </a:lnTo>
                  <a:lnTo>
                    <a:pt x="1912" y="117"/>
                  </a:lnTo>
                  <a:lnTo>
                    <a:pt x="1916" y="110"/>
                  </a:lnTo>
                  <a:lnTo>
                    <a:pt x="1920" y="102"/>
                  </a:lnTo>
                  <a:lnTo>
                    <a:pt x="1922" y="95"/>
                  </a:lnTo>
                  <a:lnTo>
                    <a:pt x="1924" y="89"/>
                  </a:lnTo>
                  <a:lnTo>
                    <a:pt x="1925" y="82"/>
                  </a:lnTo>
                  <a:lnTo>
                    <a:pt x="1925" y="74"/>
                  </a:lnTo>
                  <a:lnTo>
                    <a:pt x="1924" y="67"/>
                  </a:lnTo>
                  <a:lnTo>
                    <a:pt x="1923" y="61"/>
                  </a:lnTo>
                  <a:lnTo>
                    <a:pt x="1921" y="53"/>
                  </a:lnTo>
                  <a:lnTo>
                    <a:pt x="1918" y="47"/>
                  </a:lnTo>
                  <a:lnTo>
                    <a:pt x="1914" y="41"/>
                  </a:lnTo>
                  <a:lnTo>
                    <a:pt x="1911" y="36"/>
                  </a:lnTo>
                  <a:lnTo>
                    <a:pt x="1907" y="29"/>
                  </a:lnTo>
                  <a:lnTo>
                    <a:pt x="1903" y="24"/>
                  </a:lnTo>
                  <a:lnTo>
                    <a:pt x="1898" y="20"/>
                  </a:lnTo>
                  <a:lnTo>
                    <a:pt x="1891" y="15"/>
                  </a:lnTo>
                  <a:lnTo>
                    <a:pt x="1886" y="11"/>
                  </a:lnTo>
                  <a:lnTo>
                    <a:pt x="1880" y="7"/>
                  </a:lnTo>
                  <a:lnTo>
                    <a:pt x="1874" y="5"/>
                  </a:lnTo>
                  <a:lnTo>
                    <a:pt x="1867" y="3"/>
                  </a:lnTo>
                  <a:lnTo>
                    <a:pt x="1860" y="1"/>
                  </a:lnTo>
                  <a:lnTo>
                    <a:pt x="1854" y="0"/>
                  </a:lnTo>
                  <a:lnTo>
                    <a:pt x="1846" y="0"/>
                  </a:lnTo>
                  <a:lnTo>
                    <a:pt x="1839" y="1"/>
                  </a:lnTo>
                  <a:lnTo>
                    <a:pt x="1832" y="2"/>
                  </a:lnTo>
                  <a:lnTo>
                    <a:pt x="1824" y="4"/>
                  </a:lnTo>
                  <a:lnTo>
                    <a:pt x="1817" y="7"/>
                  </a:lnTo>
                  <a:lnTo>
                    <a:pt x="1811" y="11"/>
                  </a:lnTo>
                  <a:lnTo>
                    <a:pt x="1804" y="17"/>
                  </a:lnTo>
                  <a:lnTo>
                    <a:pt x="1796" y="22"/>
                  </a:lnTo>
                  <a:lnTo>
                    <a:pt x="1848" y="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233120" y="5337000"/>
              <a:ext cx="9000" cy="10080"/>
            </a:xfrm>
            <a:custGeom>
              <a:avLst/>
              <a:gdLst/>
              <a:ahLst/>
              <a:rect l="l" t="t" r="r" b="b"/>
              <a:pathLst>
                <a:path w="129" h="152">
                  <a:moveTo>
                    <a:pt x="52" y="152"/>
                  </a:moveTo>
                  <a:lnTo>
                    <a:pt x="52" y="7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152"/>
                  </a:lnTo>
                  <a:lnTo>
                    <a:pt x="105" y="130"/>
                  </a:lnTo>
                  <a:lnTo>
                    <a:pt x="111" y="123"/>
                  </a:lnTo>
                  <a:lnTo>
                    <a:pt x="116" y="117"/>
                  </a:lnTo>
                  <a:lnTo>
                    <a:pt x="120" y="110"/>
                  </a:lnTo>
                  <a:lnTo>
                    <a:pt x="124" y="102"/>
                  </a:lnTo>
                  <a:lnTo>
                    <a:pt x="126" y="95"/>
                  </a:lnTo>
                  <a:lnTo>
                    <a:pt x="128" y="89"/>
                  </a:lnTo>
                  <a:lnTo>
                    <a:pt x="129" y="82"/>
                  </a:lnTo>
                  <a:lnTo>
                    <a:pt x="129" y="74"/>
                  </a:lnTo>
                  <a:lnTo>
                    <a:pt x="128" y="67"/>
                  </a:lnTo>
                  <a:lnTo>
                    <a:pt x="127" y="61"/>
                  </a:lnTo>
                  <a:lnTo>
                    <a:pt x="125" y="53"/>
                  </a:lnTo>
                  <a:lnTo>
                    <a:pt x="122" y="47"/>
                  </a:lnTo>
                  <a:lnTo>
                    <a:pt x="118" y="41"/>
                  </a:lnTo>
                  <a:lnTo>
                    <a:pt x="115" y="36"/>
                  </a:lnTo>
                  <a:lnTo>
                    <a:pt x="111" y="29"/>
                  </a:lnTo>
                  <a:lnTo>
                    <a:pt x="107" y="24"/>
                  </a:lnTo>
                  <a:lnTo>
                    <a:pt x="102" y="20"/>
                  </a:lnTo>
                  <a:lnTo>
                    <a:pt x="95" y="15"/>
                  </a:lnTo>
                  <a:lnTo>
                    <a:pt x="90" y="11"/>
                  </a:lnTo>
                  <a:lnTo>
                    <a:pt x="84" y="7"/>
                  </a:lnTo>
                  <a:lnTo>
                    <a:pt x="78" y="5"/>
                  </a:lnTo>
                  <a:lnTo>
                    <a:pt x="71" y="3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21" y="7"/>
                  </a:lnTo>
                  <a:lnTo>
                    <a:pt x="15" y="11"/>
                  </a:lnTo>
                  <a:lnTo>
                    <a:pt x="8" y="17"/>
                  </a:lnTo>
                  <a:lnTo>
                    <a:pt x="0" y="22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512840" y="5411520"/>
              <a:ext cx="131400" cy="128880"/>
            </a:xfrm>
            <a:custGeom>
              <a:avLst/>
              <a:gdLst/>
              <a:ahLst/>
              <a:rect l="l" t="t" r="r" b="b"/>
              <a:pathLst>
                <a:path w="2007" h="1953">
                  <a:moveTo>
                    <a:pt x="1903" y="0"/>
                  </a:moveTo>
                  <a:lnTo>
                    <a:pt x="0" y="1846"/>
                  </a:lnTo>
                  <a:lnTo>
                    <a:pt x="105" y="1953"/>
                  </a:lnTo>
                  <a:lnTo>
                    <a:pt x="2007" y="107"/>
                  </a:lnTo>
                  <a:lnTo>
                    <a:pt x="190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122600" y="5537880"/>
              <a:ext cx="391680" cy="892080"/>
            </a:xfrm>
            <a:custGeom>
              <a:avLst/>
              <a:gdLst/>
              <a:ahLst/>
              <a:rect l="l" t="t" r="r" b="b"/>
              <a:pathLst>
                <a:path w="5960" h="13594">
                  <a:moveTo>
                    <a:pt x="508" y="13514"/>
                  </a:moveTo>
                  <a:lnTo>
                    <a:pt x="1305" y="13594"/>
                  </a:lnTo>
                  <a:lnTo>
                    <a:pt x="4635" y="13594"/>
                  </a:lnTo>
                  <a:lnTo>
                    <a:pt x="5450" y="13506"/>
                  </a:lnTo>
                  <a:lnTo>
                    <a:pt x="5903" y="13155"/>
                  </a:lnTo>
                  <a:lnTo>
                    <a:pt x="5946" y="12966"/>
                  </a:lnTo>
                  <a:lnTo>
                    <a:pt x="5960" y="0"/>
                  </a:lnTo>
                  <a:lnTo>
                    <a:pt x="11" y="0"/>
                  </a:lnTo>
                  <a:lnTo>
                    <a:pt x="0" y="13141"/>
                  </a:lnTo>
                  <a:lnTo>
                    <a:pt x="508" y="13514"/>
                  </a:ln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155360" y="6420960"/>
              <a:ext cx="57600" cy="14400"/>
            </a:xfrm>
            <a:custGeom>
              <a:avLst/>
              <a:gdLst/>
              <a:ahLst/>
              <a:rect l="l" t="t" r="r" b="b"/>
              <a:pathLst>
                <a:path w="879" h="229">
                  <a:moveTo>
                    <a:pt x="804" y="229"/>
                  </a:moveTo>
                  <a:lnTo>
                    <a:pt x="811" y="80"/>
                  </a:lnTo>
                  <a:lnTo>
                    <a:pt x="14" y="0"/>
                  </a:lnTo>
                  <a:lnTo>
                    <a:pt x="0" y="149"/>
                  </a:lnTo>
                  <a:lnTo>
                    <a:pt x="796" y="228"/>
                  </a:lnTo>
                  <a:lnTo>
                    <a:pt x="804" y="229"/>
                  </a:lnTo>
                  <a:lnTo>
                    <a:pt x="796" y="228"/>
                  </a:lnTo>
                  <a:lnTo>
                    <a:pt x="806" y="229"/>
                  </a:lnTo>
                  <a:lnTo>
                    <a:pt x="814" y="228"/>
                  </a:lnTo>
                  <a:lnTo>
                    <a:pt x="822" y="227"/>
                  </a:lnTo>
                  <a:lnTo>
                    <a:pt x="830" y="225"/>
                  </a:lnTo>
                  <a:lnTo>
                    <a:pt x="836" y="223"/>
                  </a:lnTo>
                  <a:lnTo>
                    <a:pt x="843" y="220"/>
                  </a:lnTo>
                  <a:lnTo>
                    <a:pt x="848" y="215"/>
                  </a:lnTo>
                  <a:lnTo>
                    <a:pt x="855" y="210"/>
                  </a:lnTo>
                  <a:lnTo>
                    <a:pt x="859" y="206"/>
                  </a:lnTo>
                  <a:lnTo>
                    <a:pt x="863" y="200"/>
                  </a:lnTo>
                  <a:lnTo>
                    <a:pt x="867" y="195"/>
                  </a:lnTo>
                  <a:lnTo>
                    <a:pt x="870" y="188"/>
                  </a:lnTo>
                  <a:lnTo>
                    <a:pt x="874" y="182"/>
                  </a:lnTo>
                  <a:lnTo>
                    <a:pt x="876" y="175"/>
                  </a:lnTo>
                  <a:lnTo>
                    <a:pt x="877" y="168"/>
                  </a:lnTo>
                  <a:lnTo>
                    <a:pt x="878" y="161"/>
                  </a:lnTo>
                  <a:lnTo>
                    <a:pt x="879" y="155"/>
                  </a:lnTo>
                  <a:lnTo>
                    <a:pt x="878" y="147"/>
                  </a:lnTo>
                  <a:lnTo>
                    <a:pt x="878" y="140"/>
                  </a:lnTo>
                  <a:lnTo>
                    <a:pt x="876" y="134"/>
                  </a:lnTo>
                  <a:lnTo>
                    <a:pt x="874" y="127"/>
                  </a:lnTo>
                  <a:lnTo>
                    <a:pt x="871" y="120"/>
                  </a:lnTo>
                  <a:lnTo>
                    <a:pt x="868" y="114"/>
                  </a:lnTo>
                  <a:lnTo>
                    <a:pt x="864" y="109"/>
                  </a:lnTo>
                  <a:lnTo>
                    <a:pt x="860" y="103"/>
                  </a:lnTo>
                  <a:lnTo>
                    <a:pt x="855" y="98"/>
                  </a:lnTo>
                  <a:lnTo>
                    <a:pt x="850" y="93"/>
                  </a:lnTo>
                  <a:lnTo>
                    <a:pt x="843" y="89"/>
                  </a:lnTo>
                  <a:lnTo>
                    <a:pt x="836" y="86"/>
                  </a:lnTo>
                  <a:lnTo>
                    <a:pt x="829" y="83"/>
                  </a:lnTo>
                  <a:lnTo>
                    <a:pt x="820" y="81"/>
                  </a:lnTo>
                  <a:lnTo>
                    <a:pt x="811" y="80"/>
                  </a:lnTo>
                  <a:lnTo>
                    <a:pt x="804" y="22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209360" y="6426360"/>
              <a:ext cx="223200" cy="9000"/>
            </a:xfrm>
            <a:custGeom>
              <a:avLst/>
              <a:gdLst/>
              <a:ahLst/>
              <a:rect l="l" t="t" r="r" b="b"/>
              <a:pathLst>
                <a:path w="3404" h="149">
                  <a:moveTo>
                    <a:pt x="3337" y="148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3330" y="149"/>
                  </a:lnTo>
                  <a:lnTo>
                    <a:pt x="3337" y="148"/>
                  </a:lnTo>
                  <a:lnTo>
                    <a:pt x="3330" y="149"/>
                  </a:lnTo>
                  <a:lnTo>
                    <a:pt x="3338" y="149"/>
                  </a:lnTo>
                  <a:lnTo>
                    <a:pt x="3347" y="147"/>
                  </a:lnTo>
                  <a:lnTo>
                    <a:pt x="3355" y="145"/>
                  </a:lnTo>
                  <a:lnTo>
                    <a:pt x="3362" y="143"/>
                  </a:lnTo>
                  <a:lnTo>
                    <a:pt x="3369" y="140"/>
                  </a:lnTo>
                  <a:lnTo>
                    <a:pt x="3375" y="135"/>
                  </a:lnTo>
                  <a:lnTo>
                    <a:pt x="3381" y="130"/>
                  </a:lnTo>
                  <a:lnTo>
                    <a:pt x="3386" y="126"/>
                  </a:lnTo>
                  <a:lnTo>
                    <a:pt x="3390" y="120"/>
                  </a:lnTo>
                  <a:lnTo>
                    <a:pt x="3393" y="115"/>
                  </a:lnTo>
                  <a:lnTo>
                    <a:pt x="3396" y="108"/>
                  </a:lnTo>
                  <a:lnTo>
                    <a:pt x="3400" y="102"/>
                  </a:lnTo>
                  <a:lnTo>
                    <a:pt x="3402" y="95"/>
                  </a:lnTo>
                  <a:lnTo>
                    <a:pt x="3403" y="88"/>
                  </a:lnTo>
                  <a:lnTo>
                    <a:pt x="3404" y="81"/>
                  </a:lnTo>
                  <a:lnTo>
                    <a:pt x="3404" y="74"/>
                  </a:lnTo>
                  <a:lnTo>
                    <a:pt x="3404" y="67"/>
                  </a:lnTo>
                  <a:lnTo>
                    <a:pt x="3403" y="60"/>
                  </a:lnTo>
                  <a:lnTo>
                    <a:pt x="3402" y="53"/>
                  </a:lnTo>
                  <a:lnTo>
                    <a:pt x="3400" y="47"/>
                  </a:lnTo>
                  <a:lnTo>
                    <a:pt x="3396" y="40"/>
                  </a:lnTo>
                  <a:lnTo>
                    <a:pt x="3393" y="34"/>
                  </a:lnTo>
                  <a:lnTo>
                    <a:pt x="3390" y="28"/>
                  </a:lnTo>
                  <a:lnTo>
                    <a:pt x="3386" y="23"/>
                  </a:lnTo>
                  <a:lnTo>
                    <a:pt x="3381" y="17"/>
                  </a:lnTo>
                  <a:lnTo>
                    <a:pt x="3375" y="13"/>
                  </a:lnTo>
                  <a:lnTo>
                    <a:pt x="3369" y="9"/>
                  </a:lnTo>
                  <a:lnTo>
                    <a:pt x="3362" y="6"/>
                  </a:lnTo>
                  <a:lnTo>
                    <a:pt x="3355" y="3"/>
                  </a:lnTo>
                  <a:lnTo>
                    <a:pt x="3347" y="1"/>
                  </a:lnTo>
                  <a:lnTo>
                    <a:pt x="3338" y="0"/>
                  </a:lnTo>
                  <a:lnTo>
                    <a:pt x="3330" y="0"/>
                  </a:lnTo>
                  <a:lnTo>
                    <a:pt x="3337" y="14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27520" y="6419880"/>
              <a:ext cx="58680" cy="15480"/>
            </a:xfrm>
            <a:custGeom>
              <a:avLst/>
              <a:gdLst/>
              <a:ahLst/>
              <a:rect l="l" t="t" r="r" b="b"/>
              <a:pathLst>
                <a:path w="898" h="236">
                  <a:moveTo>
                    <a:pt x="870" y="134"/>
                  </a:moveTo>
                  <a:lnTo>
                    <a:pt x="816" y="0"/>
                  </a:lnTo>
                  <a:lnTo>
                    <a:pt x="0" y="88"/>
                  </a:lnTo>
                  <a:lnTo>
                    <a:pt x="16" y="236"/>
                  </a:lnTo>
                  <a:lnTo>
                    <a:pt x="832" y="148"/>
                  </a:lnTo>
                  <a:lnTo>
                    <a:pt x="870" y="134"/>
                  </a:lnTo>
                  <a:lnTo>
                    <a:pt x="832" y="148"/>
                  </a:lnTo>
                  <a:lnTo>
                    <a:pt x="841" y="147"/>
                  </a:lnTo>
                  <a:lnTo>
                    <a:pt x="849" y="145"/>
                  </a:lnTo>
                  <a:lnTo>
                    <a:pt x="857" y="142"/>
                  </a:lnTo>
                  <a:lnTo>
                    <a:pt x="864" y="139"/>
                  </a:lnTo>
                  <a:lnTo>
                    <a:pt x="870" y="135"/>
                  </a:lnTo>
                  <a:lnTo>
                    <a:pt x="875" y="130"/>
                  </a:lnTo>
                  <a:lnTo>
                    <a:pt x="881" y="125"/>
                  </a:lnTo>
                  <a:lnTo>
                    <a:pt x="885" y="119"/>
                  </a:lnTo>
                  <a:lnTo>
                    <a:pt x="889" y="114"/>
                  </a:lnTo>
                  <a:lnTo>
                    <a:pt x="892" y="107"/>
                  </a:lnTo>
                  <a:lnTo>
                    <a:pt x="894" y="101"/>
                  </a:lnTo>
                  <a:lnTo>
                    <a:pt x="896" y="94"/>
                  </a:lnTo>
                  <a:lnTo>
                    <a:pt x="898" y="88"/>
                  </a:lnTo>
                  <a:lnTo>
                    <a:pt x="898" y="80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7" y="59"/>
                  </a:lnTo>
                  <a:lnTo>
                    <a:pt x="895" y="53"/>
                  </a:lnTo>
                  <a:lnTo>
                    <a:pt x="893" y="46"/>
                  </a:lnTo>
                  <a:lnTo>
                    <a:pt x="891" y="39"/>
                  </a:lnTo>
                  <a:lnTo>
                    <a:pt x="888" y="33"/>
                  </a:lnTo>
                  <a:lnTo>
                    <a:pt x="884" y="28"/>
                  </a:lnTo>
                  <a:lnTo>
                    <a:pt x="880" y="22"/>
                  </a:lnTo>
                  <a:lnTo>
                    <a:pt x="874" y="18"/>
                  </a:lnTo>
                  <a:lnTo>
                    <a:pt x="869" y="12"/>
                  </a:lnTo>
                  <a:lnTo>
                    <a:pt x="863" y="9"/>
                  </a:lnTo>
                  <a:lnTo>
                    <a:pt x="857" y="5"/>
                  </a:lnTo>
                  <a:lnTo>
                    <a:pt x="849" y="3"/>
                  </a:lnTo>
                  <a:lnTo>
                    <a:pt x="842" y="1"/>
                  </a:lnTo>
                  <a:lnTo>
                    <a:pt x="834" y="0"/>
                  </a:lnTo>
                  <a:lnTo>
                    <a:pt x="825" y="0"/>
                  </a:lnTo>
                  <a:lnTo>
                    <a:pt x="816" y="0"/>
                  </a:lnTo>
                  <a:lnTo>
                    <a:pt x="870" y="13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79000" y="6396120"/>
              <a:ext cx="36360" cy="32760"/>
            </a:xfrm>
            <a:custGeom>
              <a:avLst/>
              <a:gdLst/>
              <a:ahLst/>
              <a:rect l="l" t="t" r="r" b="b"/>
              <a:pathLst>
                <a:path w="575" h="487">
                  <a:moveTo>
                    <a:pt x="571" y="93"/>
                  </a:moveTo>
                  <a:lnTo>
                    <a:pt x="453" y="16"/>
                  </a:lnTo>
                  <a:lnTo>
                    <a:pt x="0" y="368"/>
                  </a:lnTo>
                  <a:lnTo>
                    <a:pt x="92" y="487"/>
                  </a:lnTo>
                  <a:lnTo>
                    <a:pt x="544" y="135"/>
                  </a:lnTo>
                  <a:lnTo>
                    <a:pt x="571" y="93"/>
                  </a:lnTo>
                  <a:lnTo>
                    <a:pt x="544" y="135"/>
                  </a:lnTo>
                  <a:lnTo>
                    <a:pt x="552" y="129"/>
                  </a:lnTo>
                  <a:lnTo>
                    <a:pt x="558" y="123"/>
                  </a:lnTo>
                  <a:lnTo>
                    <a:pt x="562" y="117"/>
                  </a:lnTo>
                  <a:lnTo>
                    <a:pt x="566" y="110"/>
                  </a:lnTo>
                  <a:lnTo>
                    <a:pt x="569" y="103"/>
                  </a:lnTo>
                  <a:lnTo>
                    <a:pt x="573" y="97"/>
                  </a:lnTo>
                  <a:lnTo>
                    <a:pt x="574" y="89"/>
                  </a:lnTo>
                  <a:lnTo>
                    <a:pt x="575" y="82"/>
                  </a:lnTo>
                  <a:lnTo>
                    <a:pt x="575" y="75"/>
                  </a:lnTo>
                  <a:lnTo>
                    <a:pt x="575" y="69"/>
                  </a:lnTo>
                  <a:lnTo>
                    <a:pt x="573" y="61"/>
                  </a:lnTo>
                  <a:lnTo>
                    <a:pt x="571" y="55"/>
                  </a:lnTo>
                  <a:lnTo>
                    <a:pt x="568" y="49"/>
                  </a:lnTo>
                  <a:lnTo>
                    <a:pt x="565" y="42"/>
                  </a:lnTo>
                  <a:lnTo>
                    <a:pt x="562" y="36"/>
                  </a:lnTo>
                  <a:lnTo>
                    <a:pt x="558" y="30"/>
                  </a:lnTo>
                  <a:lnTo>
                    <a:pt x="554" y="25"/>
                  </a:lnTo>
                  <a:lnTo>
                    <a:pt x="548" y="19"/>
                  </a:lnTo>
                  <a:lnTo>
                    <a:pt x="543" y="15"/>
                  </a:lnTo>
                  <a:lnTo>
                    <a:pt x="538" y="11"/>
                  </a:lnTo>
                  <a:lnTo>
                    <a:pt x="532" y="8"/>
                  </a:lnTo>
                  <a:lnTo>
                    <a:pt x="526" y="5"/>
                  </a:lnTo>
                  <a:lnTo>
                    <a:pt x="518" y="3"/>
                  </a:lnTo>
                  <a:lnTo>
                    <a:pt x="512" y="1"/>
                  </a:lnTo>
                  <a:lnTo>
                    <a:pt x="505" y="0"/>
                  </a:lnTo>
                  <a:lnTo>
                    <a:pt x="497" y="0"/>
                  </a:lnTo>
                  <a:lnTo>
                    <a:pt x="490" y="1"/>
                  </a:lnTo>
                  <a:lnTo>
                    <a:pt x="483" y="2"/>
                  </a:lnTo>
                  <a:lnTo>
                    <a:pt x="475" y="4"/>
                  </a:lnTo>
                  <a:lnTo>
                    <a:pt x="468" y="7"/>
                  </a:lnTo>
                  <a:lnTo>
                    <a:pt x="461" y="11"/>
                  </a:lnTo>
                  <a:lnTo>
                    <a:pt x="453" y="16"/>
                  </a:lnTo>
                  <a:lnTo>
                    <a:pt x="571" y="9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506360" y="6384240"/>
              <a:ext cx="12960" cy="18000"/>
            </a:xfrm>
            <a:custGeom>
              <a:avLst/>
              <a:gdLst/>
              <a:ahLst/>
              <a:rect l="l" t="t" r="r" b="b"/>
              <a:pathLst>
                <a:path w="191" h="282">
                  <a:moveTo>
                    <a:pt x="191" y="76"/>
                  </a:moveTo>
                  <a:lnTo>
                    <a:pt x="43" y="59"/>
                  </a:lnTo>
                  <a:lnTo>
                    <a:pt x="0" y="248"/>
                  </a:lnTo>
                  <a:lnTo>
                    <a:pt x="145" y="282"/>
                  </a:lnTo>
                  <a:lnTo>
                    <a:pt x="189" y="92"/>
                  </a:lnTo>
                  <a:lnTo>
                    <a:pt x="191" y="76"/>
                  </a:lnTo>
                  <a:lnTo>
                    <a:pt x="189" y="92"/>
                  </a:lnTo>
                  <a:lnTo>
                    <a:pt x="190" y="84"/>
                  </a:lnTo>
                  <a:lnTo>
                    <a:pt x="191" y="75"/>
                  </a:lnTo>
                  <a:lnTo>
                    <a:pt x="191" y="67"/>
                  </a:lnTo>
                  <a:lnTo>
                    <a:pt x="190" y="59"/>
                  </a:lnTo>
                  <a:lnTo>
                    <a:pt x="188" y="52"/>
                  </a:lnTo>
                  <a:lnTo>
                    <a:pt x="186" y="45"/>
                  </a:lnTo>
                  <a:lnTo>
                    <a:pt x="183" y="39"/>
                  </a:lnTo>
                  <a:lnTo>
                    <a:pt x="179" y="33"/>
                  </a:lnTo>
                  <a:lnTo>
                    <a:pt x="175" y="28"/>
                  </a:lnTo>
                  <a:lnTo>
                    <a:pt x="169" y="22"/>
                  </a:lnTo>
                  <a:lnTo>
                    <a:pt x="164" y="18"/>
                  </a:lnTo>
                  <a:lnTo>
                    <a:pt x="159" y="14"/>
                  </a:lnTo>
                  <a:lnTo>
                    <a:pt x="153" y="10"/>
                  </a:lnTo>
                  <a:lnTo>
                    <a:pt x="147" y="8"/>
                  </a:lnTo>
                  <a:lnTo>
                    <a:pt x="140" y="5"/>
                  </a:lnTo>
                  <a:lnTo>
                    <a:pt x="133" y="3"/>
                  </a:lnTo>
                  <a:lnTo>
                    <a:pt x="127" y="2"/>
                  </a:lnTo>
                  <a:lnTo>
                    <a:pt x="119" y="2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8" y="3"/>
                  </a:lnTo>
                  <a:lnTo>
                    <a:pt x="92" y="5"/>
                  </a:lnTo>
                  <a:lnTo>
                    <a:pt x="85" y="7"/>
                  </a:lnTo>
                  <a:lnTo>
                    <a:pt x="79" y="10"/>
                  </a:lnTo>
                  <a:lnTo>
                    <a:pt x="72" y="13"/>
                  </a:lnTo>
                  <a:lnTo>
                    <a:pt x="67" y="18"/>
                  </a:lnTo>
                  <a:lnTo>
                    <a:pt x="62" y="23"/>
                  </a:lnTo>
                  <a:lnTo>
                    <a:pt x="57" y="29"/>
                  </a:lnTo>
                  <a:lnTo>
                    <a:pt x="53" y="35"/>
                  </a:lnTo>
                  <a:lnTo>
                    <a:pt x="49" y="42"/>
                  </a:lnTo>
                  <a:lnTo>
                    <a:pt x="46" y="51"/>
                  </a:lnTo>
                  <a:lnTo>
                    <a:pt x="43" y="59"/>
                  </a:lnTo>
                  <a:lnTo>
                    <a:pt x="191" y="7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08880" y="5532480"/>
              <a:ext cx="10080" cy="856440"/>
            </a:xfrm>
            <a:custGeom>
              <a:avLst/>
              <a:gdLst/>
              <a:ahLst/>
              <a:rect l="l" t="t" r="r" b="b"/>
              <a:pathLst>
                <a:path w="164" h="13041">
                  <a:moveTo>
                    <a:pt x="89" y="0"/>
                  </a:moveTo>
                  <a:lnTo>
                    <a:pt x="14" y="75"/>
                  </a:lnTo>
                  <a:lnTo>
                    <a:pt x="0" y="13041"/>
                  </a:lnTo>
                  <a:lnTo>
                    <a:pt x="150" y="13041"/>
                  </a:lnTo>
                  <a:lnTo>
                    <a:pt x="164" y="75"/>
                  </a:lnTo>
                  <a:lnTo>
                    <a:pt x="89" y="0"/>
                  </a:lnTo>
                  <a:lnTo>
                    <a:pt x="164" y="75"/>
                  </a:lnTo>
                  <a:lnTo>
                    <a:pt x="163" y="66"/>
                  </a:lnTo>
                  <a:lnTo>
                    <a:pt x="162" y="58"/>
                  </a:lnTo>
                  <a:lnTo>
                    <a:pt x="160" y="49"/>
                  </a:lnTo>
                  <a:lnTo>
                    <a:pt x="158" y="42"/>
                  </a:lnTo>
                  <a:lnTo>
                    <a:pt x="154" y="36"/>
                  </a:lnTo>
                  <a:lnTo>
                    <a:pt x="149" y="29"/>
                  </a:lnTo>
                  <a:lnTo>
                    <a:pt x="145" y="24"/>
                  </a:lnTo>
                  <a:lnTo>
                    <a:pt x="140" y="19"/>
                  </a:lnTo>
                  <a:lnTo>
                    <a:pt x="135" y="15"/>
                  </a:lnTo>
                  <a:lnTo>
                    <a:pt x="128" y="11"/>
                  </a:lnTo>
                  <a:lnTo>
                    <a:pt x="122" y="7"/>
                  </a:lnTo>
                  <a:lnTo>
                    <a:pt x="116" y="4"/>
                  </a:lnTo>
                  <a:lnTo>
                    <a:pt x="110" y="2"/>
                  </a:lnTo>
                  <a:lnTo>
                    <a:pt x="102" y="1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5" y="1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4" y="7"/>
                  </a:lnTo>
                  <a:lnTo>
                    <a:pt x="48" y="11"/>
                  </a:lnTo>
                  <a:lnTo>
                    <a:pt x="43" y="15"/>
                  </a:lnTo>
                  <a:lnTo>
                    <a:pt x="38" y="19"/>
                  </a:lnTo>
                  <a:lnTo>
                    <a:pt x="32" y="24"/>
                  </a:lnTo>
                  <a:lnTo>
                    <a:pt x="27" y="29"/>
                  </a:lnTo>
                  <a:lnTo>
                    <a:pt x="24" y="36"/>
                  </a:lnTo>
                  <a:lnTo>
                    <a:pt x="20" y="42"/>
                  </a:lnTo>
                  <a:lnTo>
                    <a:pt x="18" y="49"/>
                  </a:lnTo>
                  <a:lnTo>
                    <a:pt x="16" y="58"/>
                  </a:lnTo>
                  <a:lnTo>
                    <a:pt x="15" y="66"/>
                  </a:lnTo>
                  <a:lnTo>
                    <a:pt x="14" y="75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118640" y="5532480"/>
              <a:ext cx="395640" cy="9000"/>
            </a:xfrm>
            <a:custGeom>
              <a:avLst/>
              <a:gdLst/>
              <a:ahLst/>
              <a:rect l="l" t="t" r="r" b="b"/>
              <a:pathLst>
                <a:path w="6024" h="150">
                  <a:moveTo>
                    <a:pt x="0" y="75"/>
                  </a:moveTo>
                  <a:lnTo>
                    <a:pt x="75" y="150"/>
                  </a:lnTo>
                  <a:lnTo>
                    <a:pt x="6024" y="150"/>
                  </a:lnTo>
                  <a:lnTo>
                    <a:pt x="6024" y="0"/>
                  </a:lnTo>
                  <a:lnTo>
                    <a:pt x="75" y="0"/>
                  </a:lnTo>
                  <a:lnTo>
                    <a:pt x="0" y="75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49" y="3"/>
                  </a:lnTo>
                  <a:lnTo>
                    <a:pt x="41" y="6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4" y="18"/>
                  </a:lnTo>
                  <a:lnTo>
                    <a:pt x="18" y="23"/>
                  </a:lnTo>
                  <a:lnTo>
                    <a:pt x="14" y="29"/>
                  </a:lnTo>
                  <a:lnTo>
                    <a:pt x="10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6"/>
                  </a:lnTo>
                  <a:lnTo>
                    <a:pt x="4" y="103"/>
                  </a:lnTo>
                  <a:lnTo>
                    <a:pt x="7" y="109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8" y="127"/>
                  </a:lnTo>
                  <a:lnTo>
                    <a:pt x="24" y="132"/>
                  </a:lnTo>
                  <a:lnTo>
                    <a:pt x="29" y="136"/>
                  </a:lnTo>
                  <a:lnTo>
                    <a:pt x="35" y="140"/>
                  </a:lnTo>
                  <a:lnTo>
                    <a:pt x="41" y="143"/>
                  </a:lnTo>
                  <a:lnTo>
                    <a:pt x="49" y="146"/>
                  </a:lnTo>
                  <a:lnTo>
                    <a:pt x="57" y="149"/>
                  </a:lnTo>
                  <a:lnTo>
                    <a:pt x="65" y="150"/>
                  </a:lnTo>
                  <a:lnTo>
                    <a:pt x="75" y="15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118640" y="5537880"/>
              <a:ext cx="10440" cy="866880"/>
            </a:xfrm>
            <a:custGeom>
              <a:avLst/>
              <a:gdLst/>
              <a:ahLst/>
              <a:rect l="l" t="t" r="r" b="b"/>
              <a:pathLst>
                <a:path w="160" h="13217">
                  <a:moveTo>
                    <a:pt x="30" y="13202"/>
                  </a:moveTo>
                  <a:lnTo>
                    <a:pt x="151" y="13141"/>
                  </a:lnTo>
                  <a:lnTo>
                    <a:pt x="160" y="0"/>
                  </a:lnTo>
                  <a:lnTo>
                    <a:pt x="11" y="0"/>
                  </a:lnTo>
                  <a:lnTo>
                    <a:pt x="0" y="13141"/>
                  </a:lnTo>
                  <a:lnTo>
                    <a:pt x="30" y="13202"/>
                  </a:lnTo>
                  <a:lnTo>
                    <a:pt x="0" y="13141"/>
                  </a:lnTo>
                  <a:lnTo>
                    <a:pt x="0" y="13151"/>
                  </a:lnTo>
                  <a:lnTo>
                    <a:pt x="2" y="13159"/>
                  </a:lnTo>
                  <a:lnTo>
                    <a:pt x="4" y="13167"/>
                  </a:lnTo>
                  <a:lnTo>
                    <a:pt x="6" y="13175"/>
                  </a:lnTo>
                  <a:lnTo>
                    <a:pt x="10" y="13181"/>
                  </a:lnTo>
                  <a:lnTo>
                    <a:pt x="14" y="13187"/>
                  </a:lnTo>
                  <a:lnTo>
                    <a:pt x="19" y="13192"/>
                  </a:lnTo>
                  <a:lnTo>
                    <a:pt x="23" y="13198"/>
                  </a:lnTo>
                  <a:lnTo>
                    <a:pt x="29" y="13202"/>
                  </a:lnTo>
                  <a:lnTo>
                    <a:pt x="35" y="13206"/>
                  </a:lnTo>
                  <a:lnTo>
                    <a:pt x="41" y="13209"/>
                  </a:lnTo>
                  <a:lnTo>
                    <a:pt x="47" y="13212"/>
                  </a:lnTo>
                  <a:lnTo>
                    <a:pt x="54" y="13214"/>
                  </a:lnTo>
                  <a:lnTo>
                    <a:pt x="61" y="13215"/>
                  </a:lnTo>
                  <a:lnTo>
                    <a:pt x="68" y="13217"/>
                  </a:lnTo>
                  <a:lnTo>
                    <a:pt x="75" y="13217"/>
                  </a:lnTo>
                  <a:lnTo>
                    <a:pt x="82" y="13217"/>
                  </a:lnTo>
                  <a:lnTo>
                    <a:pt x="89" y="13215"/>
                  </a:lnTo>
                  <a:lnTo>
                    <a:pt x="96" y="13214"/>
                  </a:lnTo>
                  <a:lnTo>
                    <a:pt x="102" y="13212"/>
                  </a:lnTo>
                  <a:lnTo>
                    <a:pt x="109" y="13209"/>
                  </a:lnTo>
                  <a:lnTo>
                    <a:pt x="115" y="13206"/>
                  </a:lnTo>
                  <a:lnTo>
                    <a:pt x="121" y="13202"/>
                  </a:lnTo>
                  <a:lnTo>
                    <a:pt x="126" y="13198"/>
                  </a:lnTo>
                  <a:lnTo>
                    <a:pt x="132" y="13192"/>
                  </a:lnTo>
                  <a:lnTo>
                    <a:pt x="136" y="13187"/>
                  </a:lnTo>
                  <a:lnTo>
                    <a:pt x="140" y="13181"/>
                  </a:lnTo>
                  <a:lnTo>
                    <a:pt x="143" y="13175"/>
                  </a:lnTo>
                  <a:lnTo>
                    <a:pt x="146" y="13167"/>
                  </a:lnTo>
                  <a:lnTo>
                    <a:pt x="148" y="13159"/>
                  </a:lnTo>
                  <a:lnTo>
                    <a:pt x="149" y="13151"/>
                  </a:lnTo>
                  <a:lnTo>
                    <a:pt x="151" y="13141"/>
                  </a:lnTo>
                  <a:lnTo>
                    <a:pt x="30" y="1320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120080" y="6397560"/>
              <a:ext cx="41760" cy="32760"/>
            </a:xfrm>
            <a:custGeom>
              <a:avLst/>
              <a:gdLst/>
              <a:ahLst/>
              <a:rect l="l" t="t" r="r" b="b"/>
              <a:pathLst>
                <a:path w="628" h="509">
                  <a:moveTo>
                    <a:pt x="546" y="507"/>
                  </a:moveTo>
                  <a:lnTo>
                    <a:pt x="597" y="372"/>
                  </a:lnTo>
                  <a:lnTo>
                    <a:pt x="89" y="0"/>
                  </a:lnTo>
                  <a:lnTo>
                    <a:pt x="0" y="120"/>
                  </a:lnTo>
                  <a:lnTo>
                    <a:pt x="509" y="493"/>
                  </a:lnTo>
                  <a:lnTo>
                    <a:pt x="546" y="507"/>
                  </a:lnTo>
                  <a:lnTo>
                    <a:pt x="509" y="493"/>
                  </a:lnTo>
                  <a:lnTo>
                    <a:pt x="516" y="497"/>
                  </a:lnTo>
                  <a:lnTo>
                    <a:pt x="524" y="501"/>
                  </a:lnTo>
                  <a:lnTo>
                    <a:pt x="531" y="504"/>
                  </a:lnTo>
                  <a:lnTo>
                    <a:pt x="538" y="507"/>
                  </a:lnTo>
                  <a:lnTo>
                    <a:pt x="546" y="508"/>
                  </a:lnTo>
                  <a:lnTo>
                    <a:pt x="553" y="509"/>
                  </a:lnTo>
                  <a:lnTo>
                    <a:pt x="560" y="508"/>
                  </a:lnTo>
                  <a:lnTo>
                    <a:pt x="567" y="507"/>
                  </a:lnTo>
                  <a:lnTo>
                    <a:pt x="574" y="505"/>
                  </a:lnTo>
                  <a:lnTo>
                    <a:pt x="581" y="502"/>
                  </a:lnTo>
                  <a:lnTo>
                    <a:pt x="587" y="499"/>
                  </a:lnTo>
                  <a:lnTo>
                    <a:pt x="593" y="496"/>
                  </a:lnTo>
                  <a:lnTo>
                    <a:pt x="599" y="492"/>
                  </a:lnTo>
                  <a:lnTo>
                    <a:pt x="604" y="487"/>
                  </a:lnTo>
                  <a:lnTo>
                    <a:pt x="608" y="481"/>
                  </a:lnTo>
                  <a:lnTo>
                    <a:pt x="613" y="476"/>
                  </a:lnTo>
                  <a:lnTo>
                    <a:pt x="617" y="471"/>
                  </a:lnTo>
                  <a:lnTo>
                    <a:pt x="620" y="465"/>
                  </a:lnTo>
                  <a:lnTo>
                    <a:pt x="623" y="458"/>
                  </a:lnTo>
                  <a:lnTo>
                    <a:pt x="625" y="451"/>
                  </a:lnTo>
                  <a:lnTo>
                    <a:pt x="627" y="445"/>
                  </a:lnTo>
                  <a:lnTo>
                    <a:pt x="628" y="438"/>
                  </a:lnTo>
                  <a:lnTo>
                    <a:pt x="628" y="431"/>
                  </a:lnTo>
                  <a:lnTo>
                    <a:pt x="628" y="424"/>
                  </a:lnTo>
                  <a:lnTo>
                    <a:pt x="627" y="417"/>
                  </a:lnTo>
                  <a:lnTo>
                    <a:pt x="625" y="410"/>
                  </a:lnTo>
                  <a:lnTo>
                    <a:pt x="623" y="403"/>
                  </a:lnTo>
                  <a:lnTo>
                    <a:pt x="620" y="397"/>
                  </a:lnTo>
                  <a:lnTo>
                    <a:pt x="615" y="389"/>
                  </a:lnTo>
                  <a:lnTo>
                    <a:pt x="610" y="383"/>
                  </a:lnTo>
                  <a:lnTo>
                    <a:pt x="604" y="378"/>
                  </a:lnTo>
                  <a:lnTo>
                    <a:pt x="597" y="372"/>
                  </a:lnTo>
                  <a:lnTo>
                    <a:pt x="546" y="50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118640" y="5455080"/>
              <a:ext cx="396720" cy="102240"/>
            </a:xfrm>
            <a:custGeom>
              <a:avLst/>
              <a:gdLst/>
              <a:ahLst/>
              <a:rect l="l" t="t" r="r" b="b"/>
              <a:pathLst>
                <a:path w="6039" h="1558">
                  <a:moveTo>
                    <a:pt x="4" y="0"/>
                  </a:moveTo>
                  <a:lnTo>
                    <a:pt x="287" y="81"/>
                  </a:lnTo>
                  <a:lnTo>
                    <a:pt x="569" y="153"/>
                  </a:lnTo>
                  <a:lnTo>
                    <a:pt x="850" y="215"/>
                  </a:lnTo>
                  <a:lnTo>
                    <a:pt x="1130" y="268"/>
                  </a:lnTo>
                  <a:lnTo>
                    <a:pt x="1407" y="313"/>
                  </a:lnTo>
                  <a:lnTo>
                    <a:pt x="1681" y="351"/>
                  </a:lnTo>
                  <a:lnTo>
                    <a:pt x="1953" y="380"/>
                  </a:lnTo>
                  <a:lnTo>
                    <a:pt x="2220" y="402"/>
                  </a:lnTo>
                  <a:lnTo>
                    <a:pt x="2483" y="419"/>
                  </a:lnTo>
                  <a:lnTo>
                    <a:pt x="2741" y="428"/>
                  </a:lnTo>
                  <a:lnTo>
                    <a:pt x="2993" y="432"/>
                  </a:lnTo>
                  <a:lnTo>
                    <a:pt x="3239" y="432"/>
                  </a:lnTo>
                  <a:lnTo>
                    <a:pt x="3480" y="426"/>
                  </a:lnTo>
                  <a:lnTo>
                    <a:pt x="3712" y="417"/>
                  </a:lnTo>
                  <a:lnTo>
                    <a:pt x="3937" y="404"/>
                  </a:lnTo>
                  <a:lnTo>
                    <a:pt x="4153" y="388"/>
                  </a:lnTo>
                  <a:lnTo>
                    <a:pt x="4361" y="369"/>
                  </a:lnTo>
                  <a:lnTo>
                    <a:pt x="4559" y="347"/>
                  </a:lnTo>
                  <a:lnTo>
                    <a:pt x="4747" y="324"/>
                  </a:lnTo>
                  <a:lnTo>
                    <a:pt x="4926" y="300"/>
                  </a:lnTo>
                  <a:lnTo>
                    <a:pt x="5092" y="275"/>
                  </a:lnTo>
                  <a:lnTo>
                    <a:pt x="5247" y="250"/>
                  </a:lnTo>
                  <a:lnTo>
                    <a:pt x="5391" y="225"/>
                  </a:lnTo>
                  <a:lnTo>
                    <a:pt x="5521" y="199"/>
                  </a:lnTo>
                  <a:lnTo>
                    <a:pt x="5638" y="176"/>
                  </a:lnTo>
                  <a:lnTo>
                    <a:pt x="5741" y="155"/>
                  </a:lnTo>
                  <a:lnTo>
                    <a:pt x="5830" y="135"/>
                  </a:lnTo>
                  <a:lnTo>
                    <a:pt x="5904" y="117"/>
                  </a:lnTo>
                  <a:lnTo>
                    <a:pt x="6005" y="92"/>
                  </a:lnTo>
                  <a:lnTo>
                    <a:pt x="6039" y="82"/>
                  </a:lnTo>
                  <a:lnTo>
                    <a:pt x="6039" y="1189"/>
                  </a:lnTo>
                  <a:lnTo>
                    <a:pt x="6006" y="1198"/>
                  </a:lnTo>
                  <a:lnTo>
                    <a:pt x="5908" y="1225"/>
                  </a:lnTo>
                  <a:lnTo>
                    <a:pt x="5836" y="1242"/>
                  </a:lnTo>
                  <a:lnTo>
                    <a:pt x="5751" y="1263"/>
                  </a:lnTo>
                  <a:lnTo>
                    <a:pt x="5651" y="1286"/>
                  </a:lnTo>
                  <a:lnTo>
                    <a:pt x="5537" y="1310"/>
                  </a:lnTo>
                  <a:lnTo>
                    <a:pt x="5409" y="1336"/>
                  </a:lnTo>
                  <a:lnTo>
                    <a:pt x="5269" y="1363"/>
                  </a:lnTo>
                  <a:lnTo>
                    <a:pt x="5118" y="1389"/>
                  </a:lnTo>
                  <a:lnTo>
                    <a:pt x="4955" y="1415"/>
                  </a:lnTo>
                  <a:lnTo>
                    <a:pt x="4781" y="1441"/>
                  </a:lnTo>
                  <a:lnTo>
                    <a:pt x="4595" y="1465"/>
                  </a:lnTo>
                  <a:lnTo>
                    <a:pt x="4400" y="1487"/>
                  </a:lnTo>
                  <a:lnTo>
                    <a:pt x="4195" y="1508"/>
                  </a:lnTo>
                  <a:lnTo>
                    <a:pt x="3981" y="1525"/>
                  </a:lnTo>
                  <a:lnTo>
                    <a:pt x="3758" y="1539"/>
                  </a:lnTo>
                  <a:lnTo>
                    <a:pt x="3528" y="1550"/>
                  </a:lnTo>
                  <a:lnTo>
                    <a:pt x="3288" y="1556"/>
                  </a:lnTo>
                  <a:lnTo>
                    <a:pt x="3042" y="1558"/>
                  </a:lnTo>
                  <a:lnTo>
                    <a:pt x="2789" y="1554"/>
                  </a:lnTo>
                  <a:lnTo>
                    <a:pt x="2530" y="1544"/>
                  </a:lnTo>
                  <a:lnTo>
                    <a:pt x="2266" y="1530"/>
                  </a:lnTo>
                  <a:lnTo>
                    <a:pt x="1996" y="1508"/>
                  </a:lnTo>
                  <a:lnTo>
                    <a:pt x="1721" y="1479"/>
                  </a:lnTo>
                  <a:lnTo>
                    <a:pt x="1442" y="1442"/>
                  </a:lnTo>
                  <a:lnTo>
                    <a:pt x="1159" y="1397"/>
                  </a:lnTo>
                  <a:lnTo>
                    <a:pt x="873" y="1343"/>
                  </a:lnTo>
                  <a:lnTo>
                    <a:pt x="585" y="1280"/>
                  </a:lnTo>
                  <a:lnTo>
                    <a:pt x="294" y="1208"/>
                  </a:lnTo>
                  <a:lnTo>
                    <a:pt x="0" y="112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17200" y="5451120"/>
              <a:ext cx="402120" cy="37800"/>
            </a:xfrm>
            <a:custGeom>
              <a:avLst/>
              <a:gdLst/>
              <a:ahLst/>
              <a:rect l="l" t="t" r="r" b="b"/>
              <a:pathLst>
                <a:path w="6132" h="579">
                  <a:moveTo>
                    <a:pt x="6132" y="153"/>
                  </a:moveTo>
                  <a:lnTo>
                    <a:pt x="6037" y="81"/>
                  </a:lnTo>
                  <a:lnTo>
                    <a:pt x="6005" y="90"/>
                  </a:lnTo>
                  <a:lnTo>
                    <a:pt x="5905" y="115"/>
                  </a:lnTo>
                  <a:lnTo>
                    <a:pt x="5831" y="133"/>
                  </a:lnTo>
                  <a:lnTo>
                    <a:pt x="5744" y="151"/>
                  </a:lnTo>
                  <a:lnTo>
                    <a:pt x="5640" y="173"/>
                  </a:lnTo>
                  <a:lnTo>
                    <a:pt x="5524" y="197"/>
                  </a:lnTo>
                  <a:lnTo>
                    <a:pt x="5395" y="221"/>
                  </a:lnTo>
                  <a:lnTo>
                    <a:pt x="5253" y="246"/>
                  </a:lnTo>
                  <a:lnTo>
                    <a:pt x="5178" y="259"/>
                  </a:lnTo>
                  <a:lnTo>
                    <a:pt x="5098" y="273"/>
                  </a:lnTo>
                  <a:lnTo>
                    <a:pt x="5017" y="284"/>
                  </a:lnTo>
                  <a:lnTo>
                    <a:pt x="4932" y="297"/>
                  </a:lnTo>
                  <a:lnTo>
                    <a:pt x="4846" y="309"/>
                  </a:lnTo>
                  <a:lnTo>
                    <a:pt x="4756" y="322"/>
                  </a:lnTo>
                  <a:lnTo>
                    <a:pt x="4664" y="332"/>
                  </a:lnTo>
                  <a:lnTo>
                    <a:pt x="4569" y="344"/>
                  </a:lnTo>
                  <a:lnTo>
                    <a:pt x="4472" y="355"/>
                  </a:lnTo>
                  <a:lnTo>
                    <a:pt x="4372" y="366"/>
                  </a:lnTo>
                  <a:lnTo>
                    <a:pt x="4269" y="375"/>
                  </a:lnTo>
                  <a:lnTo>
                    <a:pt x="4165" y="384"/>
                  </a:lnTo>
                  <a:lnTo>
                    <a:pt x="4058" y="393"/>
                  </a:lnTo>
                  <a:lnTo>
                    <a:pt x="3950" y="400"/>
                  </a:lnTo>
                  <a:lnTo>
                    <a:pt x="3839" y="407"/>
                  </a:lnTo>
                  <a:lnTo>
                    <a:pt x="3726" y="414"/>
                  </a:lnTo>
                  <a:lnTo>
                    <a:pt x="3611" y="419"/>
                  </a:lnTo>
                  <a:lnTo>
                    <a:pt x="3496" y="423"/>
                  </a:lnTo>
                  <a:lnTo>
                    <a:pt x="3378" y="426"/>
                  </a:lnTo>
                  <a:lnTo>
                    <a:pt x="3256" y="428"/>
                  </a:lnTo>
                  <a:lnTo>
                    <a:pt x="3135" y="429"/>
                  </a:lnTo>
                  <a:lnTo>
                    <a:pt x="3012" y="429"/>
                  </a:lnTo>
                  <a:lnTo>
                    <a:pt x="2887" y="427"/>
                  </a:lnTo>
                  <a:lnTo>
                    <a:pt x="2761" y="425"/>
                  </a:lnTo>
                  <a:lnTo>
                    <a:pt x="2633" y="421"/>
                  </a:lnTo>
                  <a:lnTo>
                    <a:pt x="2505" y="415"/>
                  </a:lnTo>
                  <a:lnTo>
                    <a:pt x="2375" y="407"/>
                  </a:lnTo>
                  <a:lnTo>
                    <a:pt x="2243" y="399"/>
                  </a:lnTo>
                  <a:lnTo>
                    <a:pt x="2111" y="389"/>
                  </a:lnTo>
                  <a:lnTo>
                    <a:pt x="1978" y="377"/>
                  </a:lnTo>
                  <a:lnTo>
                    <a:pt x="1844" y="362"/>
                  </a:lnTo>
                  <a:lnTo>
                    <a:pt x="1709" y="347"/>
                  </a:lnTo>
                  <a:lnTo>
                    <a:pt x="1573" y="330"/>
                  </a:lnTo>
                  <a:lnTo>
                    <a:pt x="1436" y="310"/>
                  </a:lnTo>
                  <a:lnTo>
                    <a:pt x="1298" y="289"/>
                  </a:lnTo>
                  <a:lnTo>
                    <a:pt x="1161" y="266"/>
                  </a:lnTo>
                  <a:lnTo>
                    <a:pt x="1022" y="240"/>
                  </a:lnTo>
                  <a:lnTo>
                    <a:pt x="883" y="213"/>
                  </a:lnTo>
                  <a:lnTo>
                    <a:pt x="814" y="198"/>
                  </a:lnTo>
                  <a:lnTo>
                    <a:pt x="744" y="184"/>
                  </a:lnTo>
                  <a:lnTo>
                    <a:pt x="675" y="168"/>
                  </a:lnTo>
                  <a:lnTo>
                    <a:pt x="605" y="151"/>
                  </a:lnTo>
                  <a:lnTo>
                    <a:pt x="534" y="135"/>
                  </a:lnTo>
                  <a:lnTo>
                    <a:pt x="464" y="117"/>
                  </a:lnTo>
                  <a:lnTo>
                    <a:pt x="394" y="99"/>
                  </a:lnTo>
                  <a:lnTo>
                    <a:pt x="324" y="80"/>
                  </a:lnTo>
                  <a:lnTo>
                    <a:pt x="254" y="61"/>
                  </a:lnTo>
                  <a:lnTo>
                    <a:pt x="184" y="41"/>
                  </a:lnTo>
                  <a:lnTo>
                    <a:pt x="114" y="21"/>
                  </a:lnTo>
                  <a:lnTo>
                    <a:pt x="44" y="0"/>
                  </a:lnTo>
                  <a:lnTo>
                    <a:pt x="0" y="142"/>
                  </a:lnTo>
                  <a:lnTo>
                    <a:pt x="72" y="164"/>
                  </a:lnTo>
                  <a:lnTo>
                    <a:pt x="143" y="185"/>
                  </a:lnTo>
                  <a:lnTo>
                    <a:pt x="215" y="205"/>
                  </a:lnTo>
                  <a:lnTo>
                    <a:pt x="286" y="224"/>
                  </a:lnTo>
                  <a:lnTo>
                    <a:pt x="358" y="243"/>
                  </a:lnTo>
                  <a:lnTo>
                    <a:pt x="429" y="262"/>
                  </a:lnTo>
                  <a:lnTo>
                    <a:pt x="500" y="280"/>
                  </a:lnTo>
                  <a:lnTo>
                    <a:pt x="571" y="297"/>
                  </a:lnTo>
                  <a:lnTo>
                    <a:pt x="642" y="313"/>
                  </a:lnTo>
                  <a:lnTo>
                    <a:pt x="712" y="329"/>
                  </a:lnTo>
                  <a:lnTo>
                    <a:pt x="783" y="345"/>
                  </a:lnTo>
                  <a:lnTo>
                    <a:pt x="854" y="359"/>
                  </a:lnTo>
                  <a:lnTo>
                    <a:pt x="995" y="387"/>
                  </a:lnTo>
                  <a:lnTo>
                    <a:pt x="1136" y="414"/>
                  </a:lnTo>
                  <a:lnTo>
                    <a:pt x="1275" y="437"/>
                  </a:lnTo>
                  <a:lnTo>
                    <a:pt x="1414" y="459"/>
                  </a:lnTo>
                  <a:lnTo>
                    <a:pt x="1553" y="478"/>
                  </a:lnTo>
                  <a:lnTo>
                    <a:pt x="1691" y="496"/>
                  </a:lnTo>
                  <a:lnTo>
                    <a:pt x="1828" y="512"/>
                  </a:lnTo>
                  <a:lnTo>
                    <a:pt x="1964" y="525"/>
                  </a:lnTo>
                  <a:lnTo>
                    <a:pt x="2099" y="538"/>
                  </a:lnTo>
                  <a:lnTo>
                    <a:pt x="2233" y="548"/>
                  </a:lnTo>
                  <a:lnTo>
                    <a:pt x="2366" y="557"/>
                  </a:lnTo>
                  <a:lnTo>
                    <a:pt x="2497" y="564"/>
                  </a:lnTo>
                  <a:lnTo>
                    <a:pt x="2628" y="569"/>
                  </a:lnTo>
                  <a:lnTo>
                    <a:pt x="2757" y="575"/>
                  </a:lnTo>
                  <a:lnTo>
                    <a:pt x="2885" y="577"/>
                  </a:lnTo>
                  <a:lnTo>
                    <a:pt x="3011" y="579"/>
                  </a:lnTo>
                  <a:lnTo>
                    <a:pt x="3135" y="579"/>
                  </a:lnTo>
                  <a:lnTo>
                    <a:pt x="3258" y="578"/>
                  </a:lnTo>
                  <a:lnTo>
                    <a:pt x="3380" y="576"/>
                  </a:lnTo>
                  <a:lnTo>
                    <a:pt x="3500" y="572"/>
                  </a:lnTo>
                  <a:lnTo>
                    <a:pt x="3618" y="568"/>
                  </a:lnTo>
                  <a:lnTo>
                    <a:pt x="3734" y="563"/>
                  </a:lnTo>
                  <a:lnTo>
                    <a:pt x="3847" y="557"/>
                  </a:lnTo>
                  <a:lnTo>
                    <a:pt x="3960" y="549"/>
                  </a:lnTo>
                  <a:lnTo>
                    <a:pt x="4070" y="542"/>
                  </a:lnTo>
                  <a:lnTo>
                    <a:pt x="4177" y="533"/>
                  </a:lnTo>
                  <a:lnTo>
                    <a:pt x="4283" y="523"/>
                  </a:lnTo>
                  <a:lnTo>
                    <a:pt x="4386" y="514"/>
                  </a:lnTo>
                  <a:lnTo>
                    <a:pt x="4488" y="503"/>
                  </a:lnTo>
                  <a:lnTo>
                    <a:pt x="4586" y="493"/>
                  </a:lnTo>
                  <a:lnTo>
                    <a:pt x="4682" y="482"/>
                  </a:lnTo>
                  <a:lnTo>
                    <a:pt x="4775" y="469"/>
                  </a:lnTo>
                  <a:lnTo>
                    <a:pt x="4866" y="458"/>
                  </a:lnTo>
                  <a:lnTo>
                    <a:pt x="4954" y="445"/>
                  </a:lnTo>
                  <a:lnTo>
                    <a:pt x="5039" y="432"/>
                  </a:lnTo>
                  <a:lnTo>
                    <a:pt x="5121" y="420"/>
                  </a:lnTo>
                  <a:lnTo>
                    <a:pt x="5201" y="407"/>
                  </a:lnTo>
                  <a:lnTo>
                    <a:pt x="5278" y="394"/>
                  </a:lnTo>
                  <a:lnTo>
                    <a:pt x="5421" y="369"/>
                  </a:lnTo>
                  <a:lnTo>
                    <a:pt x="5553" y="344"/>
                  </a:lnTo>
                  <a:lnTo>
                    <a:pt x="5671" y="321"/>
                  </a:lnTo>
                  <a:lnTo>
                    <a:pt x="5775" y="299"/>
                  </a:lnTo>
                  <a:lnTo>
                    <a:pt x="5864" y="278"/>
                  </a:lnTo>
                  <a:lnTo>
                    <a:pt x="5939" y="260"/>
                  </a:lnTo>
                  <a:lnTo>
                    <a:pt x="6041" y="235"/>
                  </a:lnTo>
                  <a:lnTo>
                    <a:pt x="6078" y="226"/>
                  </a:lnTo>
                  <a:lnTo>
                    <a:pt x="5983" y="153"/>
                  </a:lnTo>
                  <a:lnTo>
                    <a:pt x="6078" y="226"/>
                  </a:lnTo>
                  <a:lnTo>
                    <a:pt x="6086" y="222"/>
                  </a:lnTo>
                  <a:lnTo>
                    <a:pt x="6094" y="219"/>
                  </a:lnTo>
                  <a:lnTo>
                    <a:pt x="6101" y="215"/>
                  </a:lnTo>
                  <a:lnTo>
                    <a:pt x="6107" y="211"/>
                  </a:lnTo>
                  <a:lnTo>
                    <a:pt x="6112" y="206"/>
                  </a:lnTo>
                  <a:lnTo>
                    <a:pt x="6118" y="200"/>
                  </a:lnTo>
                  <a:lnTo>
                    <a:pt x="6122" y="194"/>
                  </a:lnTo>
                  <a:lnTo>
                    <a:pt x="6125" y="188"/>
                  </a:lnTo>
                  <a:lnTo>
                    <a:pt x="6128" y="182"/>
                  </a:lnTo>
                  <a:lnTo>
                    <a:pt x="6130" y="175"/>
                  </a:lnTo>
                  <a:lnTo>
                    <a:pt x="6131" y="168"/>
                  </a:lnTo>
                  <a:lnTo>
                    <a:pt x="6132" y="162"/>
                  </a:lnTo>
                  <a:lnTo>
                    <a:pt x="6132" y="154"/>
                  </a:lnTo>
                  <a:lnTo>
                    <a:pt x="6132" y="147"/>
                  </a:lnTo>
                  <a:lnTo>
                    <a:pt x="6131" y="141"/>
                  </a:lnTo>
                  <a:lnTo>
                    <a:pt x="6129" y="134"/>
                  </a:lnTo>
                  <a:lnTo>
                    <a:pt x="6127" y="127"/>
                  </a:lnTo>
                  <a:lnTo>
                    <a:pt x="6125" y="120"/>
                  </a:lnTo>
                  <a:lnTo>
                    <a:pt x="6122" y="115"/>
                  </a:lnTo>
                  <a:lnTo>
                    <a:pt x="6118" y="108"/>
                  </a:lnTo>
                  <a:lnTo>
                    <a:pt x="6113" y="103"/>
                  </a:lnTo>
                  <a:lnTo>
                    <a:pt x="6108" y="98"/>
                  </a:lnTo>
                  <a:lnTo>
                    <a:pt x="6103" y="93"/>
                  </a:lnTo>
                  <a:lnTo>
                    <a:pt x="6098" y="89"/>
                  </a:lnTo>
                  <a:lnTo>
                    <a:pt x="6091" y="85"/>
                  </a:lnTo>
                  <a:lnTo>
                    <a:pt x="6085" y="82"/>
                  </a:lnTo>
                  <a:lnTo>
                    <a:pt x="6078" y="80"/>
                  </a:lnTo>
                  <a:lnTo>
                    <a:pt x="6071" y="79"/>
                  </a:lnTo>
                  <a:lnTo>
                    <a:pt x="6063" y="78"/>
                  </a:lnTo>
                  <a:lnTo>
                    <a:pt x="6055" y="78"/>
                  </a:lnTo>
                  <a:lnTo>
                    <a:pt x="6047" y="79"/>
                  </a:lnTo>
                  <a:lnTo>
                    <a:pt x="6037" y="81"/>
                  </a:lnTo>
                  <a:lnTo>
                    <a:pt x="6132" y="15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10320" y="5461560"/>
              <a:ext cx="9000" cy="77400"/>
            </a:xfrm>
            <a:custGeom>
              <a:avLst/>
              <a:gdLst/>
              <a:ahLst/>
              <a:rect l="l" t="t" r="r" b="b"/>
              <a:pathLst>
                <a:path w="150" h="1182">
                  <a:moveTo>
                    <a:pt x="97" y="1178"/>
                  </a:moveTo>
                  <a:lnTo>
                    <a:pt x="150" y="1107"/>
                  </a:lnTo>
                  <a:lnTo>
                    <a:pt x="150" y="0"/>
                  </a:lnTo>
                  <a:lnTo>
                    <a:pt x="1" y="0"/>
                  </a:lnTo>
                  <a:lnTo>
                    <a:pt x="0" y="1107"/>
                  </a:lnTo>
                  <a:lnTo>
                    <a:pt x="97" y="1178"/>
                  </a:lnTo>
                  <a:lnTo>
                    <a:pt x="0" y="1107"/>
                  </a:lnTo>
                  <a:lnTo>
                    <a:pt x="1" y="1115"/>
                  </a:lnTo>
                  <a:lnTo>
                    <a:pt x="2" y="1125"/>
                  </a:lnTo>
                  <a:lnTo>
                    <a:pt x="4" y="1132"/>
                  </a:lnTo>
                  <a:lnTo>
                    <a:pt x="6" y="1139"/>
                  </a:lnTo>
                  <a:lnTo>
                    <a:pt x="10" y="1147"/>
                  </a:lnTo>
                  <a:lnTo>
                    <a:pt x="14" y="1153"/>
                  </a:lnTo>
                  <a:lnTo>
                    <a:pt x="19" y="1158"/>
                  </a:lnTo>
                  <a:lnTo>
                    <a:pt x="24" y="1163"/>
                  </a:lnTo>
                  <a:lnTo>
                    <a:pt x="29" y="1168"/>
                  </a:lnTo>
                  <a:lnTo>
                    <a:pt x="35" y="1171"/>
                  </a:lnTo>
                  <a:lnTo>
                    <a:pt x="41" y="1175"/>
                  </a:lnTo>
                  <a:lnTo>
                    <a:pt x="48" y="1177"/>
                  </a:lnTo>
                  <a:lnTo>
                    <a:pt x="54" y="1179"/>
                  </a:lnTo>
                  <a:lnTo>
                    <a:pt x="61" y="1180"/>
                  </a:lnTo>
                  <a:lnTo>
                    <a:pt x="68" y="1181"/>
                  </a:lnTo>
                  <a:lnTo>
                    <a:pt x="75" y="1182"/>
                  </a:lnTo>
                  <a:lnTo>
                    <a:pt x="82" y="1181"/>
                  </a:lnTo>
                  <a:lnTo>
                    <a:pt x="89" y="1180"/>
                  </a:lnTo>
                  <a:lnTo>
                    <a:pt x="96" y="1179"/>
                  </a:lnTo>
                  <a:lnTo>
                    <a:pt x="102" y="1177"/>
                  </a:lnTo>
                  <a:lnTo>
                    <a:pt x="109" y="1175"/>
                  </a:lnTo>
                  <a:lnTo>
                    <a:pt x="115" y="1171"/>
                  </a:lnTo>
                  <a:lnTo>
                    <a:pt x="121" y="1168"/>
                  </a:lnTo>
                  <a:lnTo>
                    <a:pt x="126" y="1163"/>
                  </a:lnTo>
                  <a:lnTo>
                    <a:pt x="131" y="1158"/>
                  </a:lnTo>
                  <a:lnTo>
                    <a:pt x="136" y="1153"/>
                  </a:lnTo>
                  <a:lnTo>
                    <a:pt x="140" y="1147"/>
                  </a:lnTo>
                  <a:lnTo>
                    <a:pt x="144" y="1139"/>
                  </a:lnTo>
                  <a:lnTo>
                    <a:pt x="146" y="1132"/>
                  </a:lnTo>
                  <a:lnTo>
                    <a:pt x="148" y="1125"/>
                  </a:lnTo>
                  <a:lnTo>
                    <a:pt x="149" y="1115"/>
                  </a:lnTo>
                  <a:lnTo>
                    <a:pt x="150" y="1107"/>
                  </a:lnTo>
                  <a:lnTo>
                    <a:pt x="97" y="117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113600" y="5524920"/>
              <a:ext cx="403560" cy="37800"/>
            </a:xfrm>
            <a:custGeom>
              <a:avLst/>
              <a:gdLst/>
              <a:ahLst/>
              <a:rect l="l" t="t" r="r" b="b"/>
              <a:pathLst>
                <a:path w="6136" h="582">
                  <a:moveTo>
                    <a:pt x="0" y="75"/>
                  </a:moveTo>
                  <a:lnTo>
                    <a:pt x="53" y="147"/>
                  </a:lnTo>
                  <a:lnTo>
                    <a:pt x="127" y="169"/>
                  </a:lnTo>
                  <a:lnTo>
                    <a:pt x="202" y="190"/>
                  </a:lnTo>
                  <a:lnTo>
                    <a:pt x="276" y="211"/>
                  </a:lnTo>
                  <a:lnTo>
                    <a:pt x="349" y="230"/>
                  </a:lnTo>
                  <a:lnTo>
                    <a:pt x="423" y="250"/>
                  </a:lnTo>
                  <a:lnTo>
                    <a:pt x="496" y="269"/>
                  </a:lnTo>
                  <a:lnTo>
                    <a:pt x="569" y="285"/>
                  </a:lnTo>
                  <a:lnTo>
                    <a:pt x="643" y="303"/>
                  </a:lnTo>
                  <a:lnTo>
                    <a:pt x="715" y="320"/>
                  </a:lnTo>
                  <a:lnTo>
                    <a:pt x="788" y="337"/>
                  </a:lnTo>
                  <a:lnTo>
                    <a:pt x="861" y="351"/>
                  </a:lnTo>
                  <a:lnTo>
                    <a:pt x="934" y="367"/>
                  </a:lnTo>
                  <a:lnTo>
                    <a:pt x="1078" y="394"/>
                  </a:lnTo>
                  <a:lnTo>
                    <a:pt x="1222" y="420"/>
                  </a:lnTo>
                  <a:lnTo>
                    <a:pt x="1365" y="444"/>
                  </a:lnTo>
                  <a:lnTo>
                    <a:pt x="1507" y="465"/>
                  </a:lnTo>
                  <a:lnTo>
                    <a:pt x="1648" y="485"/>
                  </a:lnTo>
                  <a:lnTo>
                    <a:pt x="1788" y="503"/>
                  </a:lnTo>
                  <a:lnTo>
                    <a:pt x="1927" y="518"/>
                  </a:lnTo>
                  <a:lnTo>
                    <a:pt x="2064" y="532"/>
                  </a:lnTo>
                  <a:lnTo>
                    <a:pt x="2201" y="543"/>
                  </a:lnTo>
                  <a:lnTo>
                    <a:pt x="2336" y="554"/>
                  </a:lnTo>
                  <a:lnTo>
                    <a:pt x="2470" y="562"/>
                  </a:lnTo>
                  <a:lnTo>
                    <a:pt x="2602" y="570"/>
                  </a:lnTo>
                  <a:lnTo>
                    <a:pt x="2734" y="575"/>
                  </a:lnTo>
                  <a:lnTo>
                    <a:pt x="2863" y="579"/>
                  </a:lnTo>
                  <a:lnTo>
                    <a:pt x="2991" y="581"/>
                  </a:lnTo>
                  <a:lnTo>
                    <a:pt x="3117" y="582"/>
                  </a:lnTo>
                  <a:lnTo>
                    <a:pt x="3241" y="582"/>
                  </a:lnTo>
                  <a:lnTo>
                    <a:pt x="3365" y="581"/>
                  </a:lnTo>
                  <a:lnTo>
                    <a:pt x="3486" y="578"/>
                  </a:lnTo>
                  <a:lnTo>
                    <a:pt x="3605" y="575"/>
                  </a:lnTo>
                  <a:lnTo>
                    <a:pt x="3722" y="570"/>
                  </a:lnTo>
                  <a:lnTo>
                    <a:pt x="3838" y="563"/>
                  </a:lnTo>
                  <a:lnTo>
                    <a:pt x="3950" y="557"/>
                  </a:lnTo>
                  <a:lnTo>
                    <a:pt x="4061" y="550"/>
                  </a:lnTo>
                  <a:lnTo>
                    <a:pt x="4170" y="541"/>
                  </a:lnTo>
                  <a:lnTo>
                    <a:pt x="4276" y="532"/>
                  </a:lnTo>
                  <a:lnTo>
                    <a:pt x="4381" y="522"/>
                  </a:lnTo>
                  <a:lnTo>
                    <a:pt x="4483" y="511"/>
                  </a:lnTo>
                  <a:lnTo>
                    <a:pt x="4582" y="501"/>
                  </a:lnTo>
                  <a:lnTo>
                    <a:pt x="4679" y="489"/>
                  </a:lnTo>
                  <a:lnTo>
                    <a:pt x="4774" y="477"/>
                  </a:lnTo>
                  <a:lnTo>
                    <a:pt x="4865" y="465"/>
                  </a:lnTo>
                  <a:lnTo>
                    <a:pt x="4955" y="452"/>
                  </a:lnTo>
                  <a:lnTo>
                    <a:pt x="5041" y="439"/>
                  </a:lnTo>
                  <a:lnTo>
                    <a:pt x="5124" y="425"/>
                  </a:lnTo>
                  <a:lnTo>
                    <a:pt x="5206" y="413"/>
                  </a:lnTo>
                  <a:lnTo>
                    <a:pt x="5283" y="399"/>
                  </a:lnTo>
                  <a:lnTo>
                    <a:pt x="5358" y="386"/>
                  </a:lnTo>
                  <a:lnTo>
                    <a:pt x="5498" y="360"/>
                  </a:lnTo>
                  <a:lnTo>
                    <a:pt x="5626" y="333"/>
                  </a:lnTo>
                  <a:lnTo>
                    <a:pt x="5741" y="309"/>
                  </a:lnTo>
                  <a:lnTo>
                    <a:pt x="5843" y="286"/>
                  </a:lnTo>
                  <a:lnTo>
                    <a:pt x="5929" y="266"/>
                  </a:lnTo>
                  <a:lnTo>
                    <a:pt x="6002" y="247"/>
                  </a:lnTo>
                  <a:lnTo>
                    <a:pt x="6100" y="221"/>
                  </a:lnTo>
                  <a:lnTo>
                    <a:pt x="6136" y="210"/>
                  </a:lnTo>
                  <a:lnTo>
                    <a:pt x="6093" y="67"/>
                  </a:lnTo>
                  <a:lnTo>
                    <a:pt x="6061" y="76"/>
                  </a:lnTo>
                  <a:lnTo>
                    <a:pt x="5965" y="102"/>
                  </a:lnTo>
                  <a:lnTo>
                    <a:pt x="5894" y="120"/>
                  </a:lnTo>
                  <a:lnTo>
                    <a:pt x="5809" y="140"/>
                  </a:lnTo>
                  <a:lnTo>
                    <a:pt x="5709" y="163"/>
                  </a:lnTo>
                  <a:lnTo>
                    <a:pt x="5596" y="187"/>
                  </a:lnTo>
                  <a:lnTo>
                    <a:pt x="5471" y="212"/>
                  </a:lnTo>
                  <a:lnTo>
                    <a:pt x="5331" y="238"/>
                  </a:lnTo>
                  <a:lnTo>
                    <a:pt x="5258" y="252"/>
                  </a:lnTo>
                  <a:lnTo>
                    <a:pt x="5180" y="266"/>
                  </a:lnTo>
                  <a:lnTo>
                    <a:pt x="5101" y="278"/>
                  </a:lnTo>
                  <a:lnTo>
                    <a:pt x="5019" y="291"/>
                  </a:lnTo>
                  <a:lnTo>
                    <a:pt x="4933" y="304"/>
                  </a:lnTo>
                  <a:lnTo>
                    <a:pt x="4845" y="317"/>
                  </a:lnTo>
                  <a:lnTo>
                    <a:pt x="4754" y="329"/>
                  </a:lnTo>
                  <a:lnTo>
                    <a:pt x="4661" y="341"/>
                  </a:lnTo>
                  <a:lnTo>
                    <a:pt x="4565" y="352"/>
                  </a:lnTo>
                  <a:lnTo>
                    <a:pt x="4467" y="363"/>
                  </a:lnTo>
                  <a:lnTo>
                    <a:pt x="4366" y="373"/>
                  </a:lnTo>
                  <a:lnTo>
                    <a:pt x="4264" y="383"/>
                  </a:lnTo>
                  <a:lnTo>
                    <a:pt x="4158" y="392"/>
                  </a:lnTo>
                  <a:lnTo>
                    <a:pt x="4051" y="400"/>
                  </a:lnTo>
                  <a:lnTo>
                    <a:pt x="3941" y="408"/>
                  </a:lnTo>
                  <a:lnTo>
                    <a:pt x="3829" y="415"/>
                  </a:lnTo>
                  <a:lnTo>
                    <a:pt x="3715" y="420"/>
                  </a:lnTo>
                  <a:lnTo>
                    <a:pt x="3599" y="425"/>
                  </a:lnTo>
                  <a:lnTo>
                    <a:pt x="3481" y="429"/>
                  </a:lnTo>
                  <a:lnTo>
                    <a:pt x="3362" y="432"/>
                  </a:lnTo>
                  <a:lnTo>
                    <a:pt x="3241" y="433"/>
                  </a:lnTo>
                  <a:lnTo>
                    <a:pt x="3117" y="433"/>
                  </a:lnTo>
                  <a:lnTo>
                    <a:pt x="2993" y="432"/>
                  </a:lnTo>
                  <a:lnTo>
                    <a:pt x="2866" y="430"/>
                  </a:lnTo>
                  <a:lnTo>
                    <a:pt x="2739" y="425"/>
                  </a:lnTo>
                  <a:lnTo>
                    <a:pt x="2609" y="420"/>
                  </a:lnTo>
                  <a:lnTo>
                    <a:pt x="2478" y="413"/>
                  </a:lnTo>
                  <a:lnTo>
                    <a:pt x="2346" y="404"/>
                  </a:lnTo>
                  <a:lnTo>
                    <a:pt x="2213" y="395"/>
                  </a:lnTo>
                  <a:lnTo>
                    <a:pt x="2078" y="384"/>
                  </a:lnTo>
                  <a:lnTo>
                    <a:pt x="1942" y="369"/>
                  </a:lnTo>
                  <a:lnTo>
                    <a:pt x="1805" y="354"/>
                  </a:lnTo>
                  <a:lnTo>
                    <a:pt x="1667" y="337"/>
                  </a:lnTo>
                  <a:lnTo>
                    <a:pt x="1528" y="318"/>
                  </a:lnTo>
                  <a:lnTo>
                    <a:pt x="1388" y="296"/>
                  </a:lnTo>
                  <a:lnTo>
                    <a:pt x="1247" y="273"/>
                  </a:lnTo>
                  <a:lnTo>
                    <a:pt x="1106" y="248"/>
                  </a:lnTo>
                  <a:lnTo>
                    <a:pt x="963" y="220"/>
                  </a:lnTo>
                  <a:lnTo>
                    <a:pt x="892" y="205"/>
                  </a:lnTo>
                  <a:lnTo>
                    <a:pt x="820" y="189"/>
                  </a:lnTo>
                  <a:lnTo>
                    <a:pt x="749" y="174"/>
                  </a:lnTo>
                  <a:lnTo>
                    <a:pt x="676" y="158"/>
                  </a:lnTo>
                  <a:lnTo>
                    <a:pt x="604" y="141"/>
                  </a:lnTo>
                  <a:lnTo>
                    <a:pt x="532" y="123"/>
                  </a:lnTo>
                  <a:lnTo>
                    <a:pt x="459" y="105"/>
                  </a:lnTo>
                  <a:lnTo>
                    <a:pt x="387" y="86"/>
                  </a:lnTo>
                  <a:lnTo>
                    <a:pt x="314" y="66"/>
                  </a:lnTo>
                  <a:lnTo>
                    <a:pt x="242" y="46"/>
                  </a:lnTo>
                  <a:lnTo>
                    <a:pt x="169" y="26"/>
                  </a:lnTo>
                  <a:lnTo>
                    <a:pt x="96" y="4"/>
                  </a:lnTo>
                  <a:lnTo>
                    <a:pt x="150" y="76"/>
                  </a:lnTo>
                  <a:lnTo>
                    <a:pt x="96" y="4"/>
                  </a:lnTo>
                  <a:lnTo>
                    <a:pt x="88" y="2"/>
                  </a:lnTo>
                  <a:lnTo>
                    <a:pt x="79" y="1"/>
                  </a:lnTo>
                  <a:lnTo>
                    <a:pt x="71" y="0"/>
                  </a:lnTo>
                  <a:lnTo>
                    <a:pt x="64" y="1"/>
                  </a:lnTo>
                  <a:lnTo>
                    <a:pt x="55" y="2"/>
                  </a:lnTo>
                  <a:lnTo>
                    <a:pt x="49" y="4"/>
                  </a:lnTo>
                  <a:lnTo>
                    <a:pt x="42" y="7"/>
                  </a:lnTo>
                  <a:lnTo>
                    <a:pt x="36" y="11"/>
                  </a:lnTo>
                  <a:lnTo>
                    <a:pt x="30" y="15"/>
                  </a:lnTo>
                  <a:lnTo>
                    <a:pt x="25" y="19"/>
                  </a:lnTo>
                  <a:lnTo>
                    <a:pt x="20" y="24"/>
                  </a:lnTo>
                  <a:lnTo>
                    <a:pt x="16" y="29"/>
                  </a:lnTo>
                  <a:lnTo>
                    <a:pt x="11" y="36"/>
                  </a:lnTo>
                  <a:lnTo>
                    <a:pt x="8" y="42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6" y="109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9" y="127"/>
                  </a:lnTo>
                  <a:lnTo>
                    <a:pt x="24" y="132"/>
                  </a:lnTo>
                  <a:lnTo>
                    <a:pt x="30" y="137"/>
                  </a:lnTo>
                  <a:lnTo>
                    <a:pt x="38" y="141"/>
                  </a:lnTo>
                  <a:lnTo>
                    <a:pt x="45" y="144"/>
                  </a:lnTo>
                  <a:lnTo>
                    <a:pt x="53" y="14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113600" y="5451120"/>
              <a:ext cx="10080" cy="78480"/>
            </a:xfrm>
            <a:custGeom>
              <a:avLst/>
              <a:gdLst/>
              <a:ahLst/>
              <a:rect l="l" t="t" r="r" b="b"/>
              <a:pathLst>
                <a:path w="155" h="1201">
                  <a:moveTo>
                    <a:pt x="101" y="4"/>
                  </a:moveTo>
                  <a:lnTo>
                    <a:pt x="4" y="75"/>
                  </a:lnTo>
                  <a:lnTo>
                    <a:pt x="0" y="1200"/>
                  </a:lnTo>
                  <a:lnTo>
                    <a:pt x="150" y="1201"/>
                  </a:lnTo>
                  <a:lnTo>
                    <a:pt x="155" y="75"/>
                  </a:lnTo>
                  <a:lnTo>
                    <a:pt x="101" y="4"/>
                  </a:lnTo>
                  <a:lnTo>
                    <a:pt x="155" y="75"/>
                  </a:lnTo>
                  <a:lnTo>
                    <a:pt x="154" y="66"/>
                  </a:lnTo>
                  <a:lnTo>
                    <a:pt x="152" y="58"/>
                  </a:lnTo>
                  <a:lnTo>
                    <a:pt x="150" y="50"/>
                  </a:lnTo>
                  <a:lnTo>
                    <a:pt x="148" y="42"/>
                  </a:lnTo>
                  <a:lnTo>
                    <a:pt x="145" y="36"/>
                  </a:lnTo>
                  <a:lnTo>
                    <a:pt x="141" y="30"/>
                  </a:lnTo>
                  <a:lnTo>
                    <a:pt x="136" y="24"/>
                  </a:lnTo>
                  <a:lnTo>
                    <a:pt x="132" y="19"/>
                  </a:lnTo>
                  <a:lnTo>
                    <a:pt x="125" y="14"/>
                  </a:lnTo>
                  <a:lnTo>
                    <a:pt x="120" y="11"/>
                  </a:lnTo>
                  <a:lnTo>
                    <a:pt x="114" y="8"/>
                  </a:lnTo>
                  <a:lnTo>
                    <a:pt x="108" y="5"/>
                  </a:lnTo>
                  <a:lnTo>
                    <a:pt x="100" y="3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6" y="1"/>
                  </a:lnTo>
                  <a:lnTo>
                    <a:pt x="58" y="3"/>
                  </a:lnTo>
                  <a:lnTo>
                    <a:pt x="52" y="5"/>
                  </a:lnTo>
                  <a:lnTo>
                    <a:pt x="46" y="7"/>
                  </a:lnTo>
                  <a:lnTo>
                    <a:pt x="40" y="10"/>
                  </a:lnTo>
                  <a:lnTo>
                    <a:pt x="33" y="14"/>
                  </a:lnTo>
                  <a:lnTo>
                    <a:pt x="28" y="18"/>
                  </a:lnTo>
                  <a:lnTo>
                    <a:pt x="23" y="24"/>
                  </a:lnTo>
                  <a:lnTo>
                    <a:pt x="19" y="29"/>
                  </a:lnTo>
                  <a:lnTo>
                    <a:pt x="15" y="35"/>
                  </a:lnTo>
                  <a:lnTo>
                    <a:pt x="11" y="41"/>
                  </a:lnTo>
                  <a:lnTo>
                    <a:pt x="8" y="49"/>
                  </a:lnTo>
                  <a:lnTo>
                    <a:pt x="6" y="57"/>
                  </a:lnTo>
                  <a:lnTo>
                    <a:pt x="5" y="65"/>
                  </a:lnTo>
                  <a:lnTo>
                    <a:pt x="4" y="75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23680" y="5804640"/>
              <a:ext cx="391680" cy="10080"/>
            </a:xfrm>
            <a:custGeom>
              <a:avLst/>
              <a:gdLst/>
              <a:ahLst/>
              <a:rect l="l" t="t" r="r" b="b"/>
              <a:pathLst>
                <a:path w="5965" h="149">
                  <a:moveTo>
                    <a:pt x="0" y="75"/>
                  </a:moveTo>
                  <a:lnTo>
                    <a:pt x="76" y="149"/>
                  </a:lnTo>
                  <a:lnTo>
                    <a:pt x="5965" y="149"/>
                  </a:lnTo>
                  <a:lnTo>
                    <a:pt x="5965" y="0"/>
                  </a:lnTo>
                  <a:lnTo>
                    <a:pt x="76" y="0"/>
                  </a:lnTo>
                  <a:lnTo>
                    <a:pt x="0" y="75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123680" y="5810040"/>
              <a:ext cx="9000" cy="1152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125120" y="5665320"/>
              <a:ext cx="387720" cy="1044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125120" y="5665320"/>
              <a:ext cx="387720" cy="1044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125120" y="5665320"/>
              <a:ext cx="387720" cy="1044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125120" y="5734800"/>
              <a:ext cx="387720" cy="1008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125120" y="5734800"/>
              <a:ext cx="387720" cy="1008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121160" y="5847840"/>
              <a:ext cx="36720" cy="3132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1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4" y="469"/>
                  </a:lnTo>
                  <a:lnTo>
                    <a:pt x="491" y="485"/>
                  </a:lnTo>
                  <a:lnTo>
                    <a:pt x="454" y="469"/>
                  </a:lnTo>
                  <a:lnTo>
                    <a:pt x="470" y="482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153920" y="5870160"/>
              <a:ext cx="55440" cy="15480"/>
            </a:xfrm>
            <a:custGeom>
              <a:avLst/>
              <a:gdLst/>
              <a:ahLst/>
              <a:rect l="l" t="t" r="r" b="b"/>
              <a:pathLst>
                <a:path w="831" h="237">
                  <a:moveTo>
                    <a:pt x="831" y="87"/>
                  </a:moveTo>
                  <a:lnTo>
                    <a:pt x="16" y="0"/>
                  </a:lnTo>
                  <a:lnTo>
                    <a:pt x="0" y="149"/>
                  </a:lnTo>
                  <a:lnTo>
                    <a:pt x="816" y="237"/>
                  </a:lnTo>
                  <a:lnTo>
                    <a:pt x="831" y="8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147440" y="5594400"/>
              <a:ext cx="347040" cy="47160"/>
            </a:xfrm>
            <a:prstGeom prst="rect">
              <a:avLst/>
            </a:prstGeom>
            <a:solidFill>
              <a:srgbClr val="10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142400" y="5636160"/>
              <a:ext cx="352080" cy="10440"/>
            </a:xfrm>
            <a:custGeom>
              <a:avLst/>
              <a:gdLst/>
              <a:ahLst/>
              <a:rect l="l" t="t" r="r" b="b"/>
              <a:pathLst>
                <a:path w="5352" h="149">
                  <a:moveTo>
                    <a:pt x="0" y="75"/>
                  </a:moveTo>
                  <a:lnTo>
                    <a:pt x="75" y="149"/>
                  </a:lnTo>
                  <a:lnTo>
                    <a:pt x="5352" y="149"/>
                  </a:lnTo>
                  <a:lnTo>
                    <a:pt x="5352" y="0"/>
                  </a:lnTo>
                  <a:lnTo>
                    <a:pt x="75" y="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149"/>
                  </a:lnTo>
                  <a:lnTo>
                    <a:pt x="75" y="14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142400" y="5589360"/>
              <a:ext cx="10080" cy="52200"/>
            </a:xfrm>
            <a:custGeom>
              <a:avLst/>
              <a:gdLst/>
              <a:ahLst/>
              <a:rect l="l" t="t" r="r" b="b"/>
              <a:pathLst>
                <a:path w="150" h="794">
                  <a:moveTo>
                    <a:pt x="75" y="0"/>
                  </a:moveTo>
                  <a:lnTo>
                    <a:pt x="0" y="75"/>
                  </a:lnTo>
                  <a:lnTo>
                    <a:pt x="0" y="794"/>
                  </a:lnTo>
                  <a:lnTo>
                    <a:pt x="150" y="794"/>
                  </a:lnTo>
                  <a:lnTo>
                    <a:pt x="150" y="7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147440" y="5589360"/>
              <a:ext cx="352080" cy="10080"/>
            </a:xfrm>
            <a:custGeom>
              <a:avLst/>
              <a:gdLst/>
              <a:ahLst/>
              <a:rect l="l" t="t" r="r" b="b"/>
              <a:pathLst>
                <a:path w="5352" h="150">
                  <a:moveTo>
                    <a:pt x="5352" y="75"/>
                  </a:moveTo>
                  <a:lnTo>
                    <a:pt x="5277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5277" y="150"/>
                  </a:lnTo>
                  <a:lnTo>
                    <a:pt x="5352" y="75"/>
                  </a:lnTo>
                  <a:lnTo>
                    <a:pt x="5352" y="75"/>
                  </a:lnTo>
                  <a:lnTo>
                    <a:pt x="5352" y="0"/>
                  </a:lnTo>
                  <a:lnTo>
                    <a:pt x="5277" y="0"/>
                  </a:lnTo>
                  <a:lnTo>
                    <a:pt x="5352" y="7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89440" y="5594400"/>
              <a:ext cx="10080" cy="52560"/>
            </a:xfrm>
            <a:custGeom>
              <a:avLst/>
              <a:gdLst/>
              <a:ahLst/>
              <a:rect l="l" t="t" r="r" b="b"/>
              <a:pathLst>
                <a:path w="150" h="793">
                  <a:moveTo>
                    <a:pt x="75" y="793"/>
                  </a:moveTo>
                  <a:lnTo>
                    <a:pt x="150" y="719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0" y="719"/>
                  </a:lnTo>
                  <a:lnTo>
                    <a:pt x="75" y="793"/>
                  </a:lnTo>
                  <a:lnTo>
                    <a:pt x="75" y="793"/>
                  </a:lnTo>
                  <a:lnTo>
                    <a:pt x="150" y="793"/>
                  </a:lnTo>
                  <a:lnTo>
                    <a:pt x="150" y="719"/>
                  </a:lnTo>
                  <a:lnTo>
                    <a:pt x="75" y="79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207920" y="5834880"/>
              <a:ext cx="219600" cy="10440"/>
            </a:xfrm>
            <a:custGeom>
              <a:avLst/>
              <a:gdLst/>
              <a:ahLst/>
              <a:rect l="l" t="t" r="r" b="b"/>
              <a:pathLst>
                <a:path w="3337" h="151">
                  <a:moveTo>
                    <a:pt x="3337" y="150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3330" y="151"/>
                  </a:lnTo>
                  <a:lnTo>
                    <a:pt x="3337" y="150"/>
                  </a:lnTo>
                  <a:lnTo>
                    <a:pt x="3330" y="151"/>
                  </a:lnTo>
                  <a:lnTo>
                    <a:pt x="3333" y="151"/>
                  </a:lnTo>
                  <a:lnTo>
                    <a:pt x="3337" y="1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26080" y="582984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6">
                  <a:moveTo>
                    <a:pt x="869" y="132"/>
                  </a:moveTo>
                  <a:lnTo>
                    <a:pt x="815" y="0"/>
                  </a:lnTo>
                  <a:lnTo>
                    <a:pt x="0" y="88"/>
                  </a:lnTo>
                  <a:lnTo>
                    <a:pt x="15" y="236"/>
                  </a:lnTo>
                  <a:lnTo>
                    <a:pt x="831" y="148"/>
                  </a:lnTo>
                  <a:lnTo>
                    <a:pt x="869" y="132"/>
                  </a:lnTo>
                  <a:lnTo>
                    <a:pt x="831" y="148"/>
                  </a:lnTo>
                  <a:lnTo>
                    <a:pt x="853" y="146"/>
                  </a:lnTo>
                  <a:lnTo>
                    <a:pt x="869" y="13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477560" y="5807520"/>
              <a:ext cx="35280" cy="29880"/>
            </a:xfrm>
            <a:custGeom>
              <a:avLst/>
              <a:gdLst/>
              <a:ahLst/>
              <a:rect l="l" t="t" r="r" b="b"/>
              <a:pathLst>
                <a:path w="544" h="469">
                  <a:moveTo>
                    <a:pt x="453" y="0"/>
                  </a:moveTo>
                  <a:lnTo>
                    <a:pt x="0" y="351"/>
                  </a:lnTo>
                  <a:lnTo>
                    <a:pt x="91" y="469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207920" y="5875560"/>
              <a:ext cx="219600" cy="10080"/>
            </a:xfrm>
            <a:custGeom>
              <a:avLst/>
              <a:gdLst/>
              <a:ahLst/>
              <a:rect l="l" t="t" r="r" b="b"/>
              <a:pathLst>
                <a:path w="3337" h="151">
                  <a:moveTo>
                    <a:pt x="3337" y="150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3330" y="151"/>
                  </a:lnTo>
                  <a:lnTo>
                    <a:pt x="3337" y="150"/>
                  </a:lnTo>
                  <a:lnTo>
                    <a:pt x="3330" y="151"/>
                  </a:lnTo>
                  <a:lnTo>
                    <a:pt x="3333" y="151"/>
                  </a:lnTo>
                  <a:lnTo>
                    <a:pt x="3337" y="1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426080" y="587016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6">
                  <a:moveTo>
                    <a:pt x="869" y="132"/>
                  </a:moveTo>
                  <a:lnTo>
                    <a:pt x="815" y="0"/>
                  </a:lnTo>
                  <a:lnTo>
                    <a:pt x="0" y="87"/>
                  </a:lnTo>
                  <a:lnTo>
                    <a:pt x="15" y="236"/>
                  </a:lnTo>
                  <a:lnTo>
                    <a:pt x="831" y="148"/>
                  </a:lnTo>
                  <a:lnTo>
                    <a:pt x="869" y="132"/>
                  </a:lnTo>
                  <a:lnTo>
                    <a:pt x="831" y="148"/>
                  </a:lnTo>
                  <a:lnTo>
                    <a:pt x="853" y="146"/>
                  </a:lnTo>
                  <a:lnTo>
                    <a:pt x="869" y="13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477560" y="5847840"/>
              <a:ext cx="35280" cy="31320"/>
            </a:xfrm>
            <a:custGeom>
              <a:avLst/>
              <a:gdLst/>
              <a:ahLst/>
              <a:rect l="l" t="t" r="r" b="b"/>
              <a:pathLst>
                <a:path w="544" h="469">
                  <a:moveTo>
                    <a:pt x="453" y="0"/>
                  </a:moveTo>
                  <a:lnTo>
                    <a:pt x="0" y="351"/>
                  </a:lnTo>
                  <a:lnTo>
                    <a:pt x="91" y="469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121160" y="5807520"/>
              <a:ext cx="35280" cy="3132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1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3" y="469"/>
                  </a:lnTo>
                  <a:lnTo>
                    <a:pt x="491" y="485"/>
                  </a:lnTo>
                  <a:lnTo>
                    <a:pt x="453" y="469"/>
                  </a:lnTo>
                  <a:lnTo>
                    <a:pt x="470" y="483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153920" y="5829840"/>
              <a:ext cx="53640" cy="15480"/>
            </a:xfrm>
            <a:custGeom>
              <a:avLst/>
              <a:gdLst/>
              <a:ahLst/>
              <a:rect l="l" t="t" r="r" b="b"/>
              <a:pathLst>
                <a:path w="832" h="236">
                  <a:moveTo>
                    <a:pt x="832" y="88"/>
                  </a:moveTo>
                  <a:lnTo>
                    <a:pt x="17" y="0"/>
                  </a:lnTo>
                  <a:lnTo>
                    <a:pt x="0" y="148"/>
                  </a:lnTo>
                  <a:lnTo>
                    <a:pt x="817" y="236"/>
                  </a:lnTo>
                  <a:lnTo>
                    <a:pt x="832" y="8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121160" y="5933520"/>
              <a:ext cx="36720" cy="3132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1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4" y="469"/>
                  </a:lnTo>
                  <a:lnTo>
                    <a:pt x="491" y="485"/>
                  </a:lnTo>
                  <a:lnTo>
                    <a:pt x="454" y="469"/>
                  </a:lnTo>
                  <a:lnTo>
                    <a:pt x="470" y="483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153920" y="5955840"/>
              <a:ext cx="55440" cy="14400"/>
            </a:xfrm>
            <a:custGeom>
              <a:avLst/>
              <a:gdLst/>
              <a:ahLst/>
              <a:rect l="l" t="t" r="r" b="b"/>
              <a:pathLst>
                <a:path w="831" h="237">
                  <a:moveTo>
                    <a:pt x="831" y="89"/>
                  </a:moveTo>
                  <a:lnTo>
                    <a:pt x="16" y="0"/>
                  </a:lnTo>
                  <a:lnTo>
                    <a:pt x="0" y="150"/>
                  </a:lnTo>
                  <a:lnTo>
                    <a:pt x="816" y="237"/>
                  </a:lnTo>
                  <a:lnTo>
                    <a:pt x="831" y="8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07920" y="5920200"/>
              <a:ext cx="219600" cy="9000"/>
            </a:xfrm>
            <a:custGeom>
              <a:avLst/>
              <a:gdLst/>
              <a:ahLst/>
              <a:rect l="l" t="t" r="r" b="b"/>
              <a:pathLst>
                <a:path w="3337" h="151">
                  <a:moveTo>
                    <a:pt x="3337" y="150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3330" y="151"/>
                  </a:lnTo>
                  <a:lnTo>
                    <a:pt x="3337" y="150"/>
                  </a:lnTo>
                  <a:lnTo>
                    <a:pt x="3330" y="151"/>
                  </a:lnTo>
                  <a:lnTo>
                    <a:pt x="3333" y="151"/>
                  </a:lnTo>
                  <a:lnTo>
                    <a:pt x="3337" y="1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426080" y="591372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7">
                  <a:moveTo>
                    <a:pt x="869" y="134"/>
                  </a:moveTo>
                  <a:lnTo>
                    <a:pt x="815" y="0"/>
                  </a:lnTo>
                  <a:lnTo>
                    <a:pt x="0" y="88"/>
                  </a:lnTo>
                  <a:lnTo>
                    <a:pt x="15" y="237"/>
                  </a:lnTo>
                  <a:lnTo>
                    <a:pt x="831" y="149"/>
                  </a:lnTo>
                  <a:lnTo>
                    <a:pt x="869" y="134"/>
                  </a:lnTo>
                  <a:lnTo>
                    <a:pt x="831" y="149"/>
                  </a:lnTo>
                  <a:lnTo>
                    <a:pt x="853" y="147"/>
                  </a:lnTo>
                  <a:lnTo>
                    <a:pt x="869" y="13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477560" y="5891400"/>
              <a:ext cx="35280" cy="31320"/>
            </a:xfrm>
            <a:custGeom>
              <a:avLst/>
              <a:gdLst/>
              <a:ahLst/>
              <a:rect l="l" t="t" r="r" b="b"/>
              <a:pathLst>
                <a:path w="544" h="470">
                  <a:moveTo>
                    <a:pt x="453" y="0"/>
                  </a:moveTo>
                  <a:lnTo>
                    <a:pt x="0" y="351"/>
                  </a:lnTo>
                  <a:lnTo>
                    <a:pt x="91" y="470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207920" y="5961240"/>
              <a:ext cx="219600" cy="9000"/>
            </a:xfrm>
            <a:custGeom>
              <a:avLst/>
              <a:gdLst/>
              <a:ahLst/>
              <a:rect l="l" t="t" r="r" b="b"/>
              <a:pathLst>
                <a:path w="3337" h="150">
                  <a:moveTo>
                    <a:pt x="3337" y="149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3330" y="150"/>
                  </a:lnTo>
                  <a:lnTo>
                    <a:pt x="3337" y="149"/>
                  </a:lnTo>
                  <a:lnTo>
                    <a:pt x="3330" y="150"/>
                  </a:lnTo>
                  <a:lnTo>
                    <a:pt x="3333" y="150"/>
                  </a:lnTo>
                  <a:lnTo>
                    <a:pt x="3337" y="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426080" y="595476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6">
                  <a:moveTo>
                    <a:pt x="869" y="134"/>
                  </a:moveTo>
                  <a:lnTo>
                    <a:pt x="815" y="0"/>
                  </a:lnTo>
                  <a:lnTo>
                    <a:pt x="0" y="88"/>
                  </a:lnTo>
                  <a:lnTo>
                    <a:pt x="15" y="236"/>
                  </a:lnTo>
                  <a:lnTo>
                    <a:pt x="831" y="149"/>
                  </a:lnTo>
                  <a:lnTo>
                    <a:pt x="869" y="134"/>
                  </a:lnTo>
                  <a:lnTo>
                    <a:pt x="831" y="149"/>
                  </a:lnTo>
                  <a:lnTo>
                    <a:pt x="853" y="146"/>
                  </a:lnTo>
                  <a:lnTo>
                    <a:pt x="869" y="13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477560" y="5933520"/>
              <a:ext cx="35280" cy="29880"/>
            </a:xfrm>
            <a:custGeom>
              <a:avLst/>
              <a:gdLst/>
              <a:ahLst/>
              <a:rect l="l" t="t" r="r" b="b"/>
              <a:pathLst>
                <a:path w="544" h="470">
                  <a:moveTo>
                    <a:pt x="453" y="0"/>
                  </a:moveTo>
                  <a:lnTo>
                    <a:pt x="0" y="351"/>
                  </a:lnTo>
                  <a:lnTo>
                    <a:pt x="91" y="470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121160" y="5891400"/>
              <a:ext cx="35280" cy="3276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1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3" y="470"/>
                  </a:lnTo>
                  <a:lnTo>
                    <a:pt x="491" y="485"/>
                  </a:lnTo>
                  <a:lnTo>
                    <a:pt x="453" y="470"/>
                  </a:lnTo>
                  <a:lnTo>
                    <a:pt x="470" y="483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153920" y="5913720"/>
              <a:ext cx="53640" cy="15480"/>
            </a:xfrm>
            <a:custGeom>
              <a:avLst/>
              <a:gdLst/>
              <a:ahLst/>
              <a:rect l="l" t="t" r="r" b="b"/>
              <a:pathLst>
                <a:path w="832" h="237">
                  <a:moveTo>
                    <a:pt x="832" y="88"/>
                  </a:moveTo>
                  <a:lnTo>
                    <a:pt x="17" y="0"/>
                  </a:lnTo>
                  <a:lnTo>
                    <a:pt x="0" y="149"/>
                  </a:lnTo>
                  <a:lnTo>
                    <a:pt x="817" y="237"/>
                  </a:lnTo>
                  <a:lnTo>
                    <a:pt x="832" y="8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121160" y="6017400"/>
              <a:ext cx="36720" cy="3276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2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4" y="470"/>
                  </a:lnTo>
                  <a:lnTo>
                    <a:pt x="491" y="485"/>
                  </a:lnTo>
                  <a:lnTo>
                    <a:pt x="454" y="470"/>
                  </a:lnTo>
                  <a:lnTo>
                    <a:pt x="470" y="483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153920" y="6039720"/>
              <a:ext cx="55440" cy="15480"/>
            </a:xfrm>
            <a:custGeom>
              <a:avLst/>
              <a:gdLst/>
              <a:ahLst/>
              <a:rect l="l" t="t" r="r" b="b"/>
              <a:pathLst>
                <a:path w="831" h="236">
                  <a:moveTo>
                    <a:pt x="831" y="88"/>
                  </a:moveTo>
                  <a:lnTo>
                    <a:pt x="16" y="0"/>
                  </a:lnTo>
                  <a:lnTo>
                    <a:pt x="0" y="148"/>
                  </a:lnTo>
                  <a:lnTo>
                    <a:pt x="816" y="236"/>
                  </a:lnTo>
                  <a:lnTo>
                    <a:pt x="831" y="8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207920" y="6004440"/>
              <a:ext cx="219600" cy="10080"/>
            </a:xfrm>
            <a:custGeom>
              <a:avLst/>
              <a:gdLst/>
              <a:ahLst/>
              <a:rect l="l" t="t" r="r" b="b"/>
              <a:pathLst>
                <a:path w="3337" h="150">
                  <a:moveTo>
                    <a:pt x="3337" y="149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3330" y="150"/>
                  </a:lnTo>
                  <a:lnTo>
                    <a:pt x="3337" y="149"/>
                  </a:lnTo>
                  <a:lnTo>
                    <a:pt x="3330" y="150"/>
                  </a:lnTo>
                  <a:lnTo>
                    <a:pt x="3333" y="150"/>
                  </a:lnTo>
                  <a:lnTo>
                    <a:pt x="3337" y="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426080" y="599940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6">
                  <a:moveTo>
                    <a:pt x="869" y="134"/>
                  </a:moveTo>
                  <a:lnTo>
                    <a:pt x="815" y="0"/>
                  </a:lnTo>
                  <a:lnTo>
                    <a:pt x="0" y="88"/>
                  </a:lnTo>
                  <a:lnTo>
                    <a:pt x="15" y="236"/>
                  </a:lnTo>
                  <a:lnTo>
                    <a:pt x="831" y="148"/>
                  </a:lnTo>
                  <a:lnTo>
                    <a:pt x="869" y="134"/>
                  </a:lnTo>
                  <a:lnTo>
                    <a:pt x="831" y="148"/>
                  </a:lnTo>
                  <a:lnTo>
                    <a:pt x="853" y="146"/>
                  </a:lnTo>
                  <a:lnTo>
                    <a:pt x="869" y="13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77560" y="5977080"/>
              <a:ext cx="35280" cy="30960"/>
            </a:xfrm>
            <a:custGeom>
              <a:avLst/>
              <a:gdLst/>
              <a:ahLst/>
              <a:rect l="l" t="t" r="r" b="b"/>
              <a:pathLst>
                <a:path w="544" h="471">
                  <a:moveTo>
                    <a:pt x="453" y="0"/>
                  </a:moveTo>
                  <a:lnTo>
                    <a:pt x="0" y="353"/>
                  </a:lnTo>
                  <a:lnTo>
                    <a:pt x="91" y="471"/>
                  </a:lnTo>
                  <a:lnTo>
                    <a:pt x="544" y="12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207920" y="6045120"/>
              <a:ext cx="219600" cy="10080"/>
            </a:xfrm>
            <a:custGeom>
              <a:avLst/>
              <a:gdLst/>
              <a:ahLst/>
              <a:rect l="l" t="t" r="r" b="b"/>
              <a:pathLst>
                <a:path w="3337" h="150">
                  <a:moveTo>
                    <a:pt x="3337" y="149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3330" y="150"/>
                  </a:lnTo>
                  <a:lnTo>
                    <a:pt x="3337" y="149"/>
                  </a:lnTo>
                  <a:lnTo>
                    <a:pt x="3330" y="150"/>
                  </a:lnTo>
                  <a:lnTo>
                    <a:pt x="3333" y="150"/>
                  </a:lnTo>
                  <a:lnTo>
                    <a:pt x="3337" y="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26080" y="603972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6">
                  <a:moveTo>
                    <a:pt x="869" y="134"/>
                  </a:moveTo>
                  <a:lnTo>
                    <a:pt x="815" y="0"/>
                  </a:lnTo>
                  <a:lnTo>
                    <a:pt x="0" y="88"/>
                  </a:lnTo>
                  <a:lnTo>
                    <a:pt x="15" y="236"/>
                  </a:lnTo>
                  <a:lnTo>
                    <a:pt x="831" y="148"/>
                  </a:lnTo>
                  <a:lnTo>
                    <a:pt x="869" y="134"/>
                  </a:lnTo>
                  <a:lnTo>
                    <a:pt x="831" y="148"/>
                  </a:lnTo>
                  <a:lnTo>
                    <a:pt x="853" y="146"/>
                  </a:lnTo>
                  <a:lnTo>
                    <a:pt x="869" y="13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477560" y="6017400"/>
              <a:ext cx="35280" cy="31320"/>
            </a:xfrm>
            <a:custGeom>
              <a:avLst/>
              <a:gdLst/>
              <a:ahLst/>
              <a:rect l="l" t="t" r="r" b="b"/>
              <a:pathLst>
                <a:path w="544" h="471">
                  <a:moveTo>
                    <a:pt x="453" y="0"/>
                  </a:moveTo>
                  <a:lnTo>
                    <a:pt x="0" y="352"/>
                  </a:lnTo>
                  <a:lnTo>
                    <a:pt x="91" y="471"/>
                  </a:lnTo>
                  <a:lnTo>
                    <a:pt x="544" y="119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121160" y="5977080"/>
              <a:ext cx="35280" cy="3096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3"/>
                  </a:lnTo>
                  <a:lnTo>
                    <a:pt x="92" y="0"/>
                  </a:lnTo>
                  <a:lnTo>
                    <a:pt x="0" y="120"/>
                  </a:lnTo>
                  <a:lnTo>
                    <a:pt x="453" y="471"/>
                  </a:lnTo>
                  <a:lnTo>
                    <a:pt x="491" y="485"/>
                  </a:lnTo>
                  <a:lnTo>
                    <a:pt x="453" y="471"/>
                  </a:lnTo>
                  <a:lnTo>
                    <a:pt x="470" y="483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153920" y="5999400"/>
              <a:ext cx="53640" cy="15480"/>
            </a:xfrm>
            <a:custGeom>
              <a:avLst/>
              <a:gdLst/>
              <a:ahLst/>
              <a:rect l="l" t="t" r="r" b="b"/>
              <a:pathLst>
                <a:path w="832" h="236">
                  <a:moveTo>
                    <a:pt x="832" y="88"/>
                  </a:moveTo>
                  <a:lnTo>
                    <a:pt x="17" y="0"/>
                  </a:lnTo>
                  <a:lnTo>
                    <a:pt x="0" y="148"/>
                  </a:lnTo>
                  <a:lnTo>
                    <a:pt x="817" y="236"/>
                  </a:lnTo>
                  <a:lnTo>
                    <a:pt x="832" y="8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121160" y="6103080"/>
              <a:ext cx="36720" cy="3132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1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4" y="470"/>
                  </a:lnTo>
                  <a:lnTo>
                    <a:pt x="491" y="485"/>
                  </a:lnTo>
                  <a:lnTo>
                    <a:pt x="454" y="470"/>
                  </a:lnTo>
                  <a:lnTo>
                    <a:pt x="470" y="483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53920" y="6125400"/>
              <a:ext cx="55440" cy="15480"/>
            </a:xfrm>
            <a:custGeom>
              <a:avLst/>
              <a:gdLst/>
              <a:ahLst/>
              <a:rect l="l" t="t" r="r" b="b"/>
              <a:pathLst>
                <a:path w="831" h="236">
                  <a:moveTo>
                    <a:pt x="831" y="87"/>
                  </a:moveTo>
                  <a:lnTo>
                    <a:pt x="16" y="0"/>
                  </a:lnTo>
                  <a:lnTo>
                    <a:pt x="0" y="148"/>
                  </a:lnTo>
                  <a:lnTo>
                    <a:pt x="816" y="236"/>
                  </a:lnTo>
                  <a:lnTo>
                    <a:pt x="831" y="8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07920" y="6089760"/>
              <a:ext cx="219600" cy="9000"/>
            </a:xfrm>
            <a:custGeom>
              <a:avLst/>
              <a:gdLst/>
              <a:ahLst/>
              <a:rect l="l" t="t" r="r" b="b"/>
              <a:pathLst>
                <a:path w="3337" h="150">
                  <a:moveTo>
                    <a:pt x="3337" y="150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3330" y="150"/>
                  </a:lnTo>
                  <a:lnTo>
                    <a:pt x="3337" y="150"/>
                  </a:lnTo>
                  <a:lnTo>
                    <a:pt x="3330" y="150"/>
                  </a:lnTo>
                  <a:lnTo>
                    <a:pt x="3333" y="150"/>
                  </a:lnTo>
                  <a:lnTo>
                    <a:pt x="3337" y="1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426080" y="608328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7">
                  <a:moveTo>
                    <a:pt x="869" y="133"/>
                  </a:moveTo>
                  <a:lnTo>
                    <a:pt x="815" y="0"/>
                  </a:lnTo>
                  <a:lnTo>
                    <a:pt x="0" y="87"/>
                  </a:lnTo>
                  <a:lnTo>
                    <a:pt x="15" y="237"/>
                  </a:lnTo>
                  <a:lnTo>
                    <a:pt x="831" y="148"/>
                  </a:lnTo>
                  <a:lnTo>
                    <a:pt x="869" y="133"/>
                  </a:lnTo>
                  <a:lnTo>
                    <a:pt x="831" y="148"/>
                  </a:lnTo>
                  <a:lnTo>
                    <a:pt x="853" y="146"/>
                  </a:lnTo>
                  <a:lnTo>
                    <a:pt x="869" y="13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477560" y="6062040"/>
              <a:ext cx="35280" cy="30240"/>
            </a:xfrm>
            <a:custGeom>
              <a:avLst/>
              <a:gdLst/>
              <a:ahLst/>
              <a:rect l="l" t="t" r="r" b="b"/>
              <a:pathLst>
                <a:path w="544" h="469">
                  <a:moveTo>
                    <a:pt x="453" y="0"/>
                  </a:moveTo>
                  <a:lnTo>
                    <a:pt x="0" y="351"/>
                  </a:lnTo>
                  <a:lnTo>
                    <a:pt x="91" y="469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207920" y="6130440"/>
              <a:ext cx="219600" cy="9000"/>
            </a:xfrm>
            <a:custGeom>
              <a:avLst/>
              <a:gdLst/>
              <a:ahLst/>
              <a:rect l="l" t="t" r="r" b="b"/>
              <a:pathLst>
                <a:path w="3337" h="150">
                  <a:moveTo>
                    <a:pt x="3337" y="150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3330" y="150"/>
                  </a:lnTo>
                  <a:lnTo>
                    <a:pt x="3337" y="150"/>
                  </a:lnTo>
                  <a:lnTo>
                    <a:pt x="3330" y="150"/>
                  </a:lnTo>
                  <a:lnTo>
                    <a:pt x="3333" y="150"/>
                  </a:lnTo>
                  <a:lnTo>
                    <a:pt x="3337" y="1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426080" y="6125400"/>
              <a:ext cx="56520" cy="14040"/>
            </a:xfrm>
            <a:custGeom>
              <a:avLst/>
              <a:gdLst/>
              <a:ahLst/>
              <a:rect l="l" t="t" r="r" b="b"/>
              <a:pathLst>
                <a:path w="869" h="238">
                  <a:moveTo>
                    <a:pt x="869" y="134"/>
                  </a:moveTo>
                  <a:lnTo>
                    <a:pt x="815" y="0"/>
                  </a:lnTo>
                  <a:lnTo>
                    <a:pt x="0" y="88"/>
                  </a:lnTo>
                  <a:lnTo>
                    <a:pt x="15" y="238"/>
                  </a:lnTo>
                  <a:lnTo>
                    <a:pt x="831" y="149"/>
                  </a:lnTo>
                  <a:lnTo>
                    <a:pt x="869" y="134"/>
                  </a:lnTo>
                  <a:lnTo>
                    <a:pt x="831" y="149"/>
                  </a:lnTo>
                  <a:lnTo>
                    <a:pt x="853" y="147"/>
                  </a:lnTo>
                  <a:lnTo>
                    <a:pt x="869" y="13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477560" y="6103080"/>
              <a:ext cx="35280" cy="29880"/>
            </a:xfrm>
            <a:custGeom>
              <a:avLst/>
              <a:gdLst/>
              <a:ahLst/>
              <a:rect l="l" t="t" r="r" b="b"/>
              <a:pathLst>
                <a:path w="544" h="469">
                  <a:moveTo>
                    <a:pt x="453" y="0"/>
                  </a:moveTo>
                  <a:lnTo>
                    <a:pt x="0" y="351"/>
                  </a:lnTo>
                  <a:lnTo>
                    <a:pt x="91" y="469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121160" y="6062040"/>
              <a:ext cx="35280" cy="31320"/>
            </a:xfrm>
            <a:custGeom>
              <a:avLst/>
              <a:gdLst/>
              <a:ahLst/>
              <a:rect l="l" t="t" r="r" b="b"/>
              <a:pathLst>
                <a:path w="545" h="484">
                  <a:moveTo>
                    <a:pt x="491" y="484"/>
                  </a:moveTo>
                  <a:lnTo>
                    <a:pt x="545" y="351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3" y="469"/>
                  </a:lnTo>
                  <a:lnTo>
                    <a:pt x="491" y="484"/>
                  </a:lnTo>
                  <a:lnTo>
                    <a:pt x="453" y="469"/>
                  </a:lnTo>
                  <a:lnTo>
                    <a:pt x="470" y="482"/>
                  </a:lnTo>
                  <a:lnTo>
                    <a:pt x="491" y="48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153920" y="6083280"/>
              <a:ext cx="53640" cy="15480"/>
            </a:xfrm>
            <a:custGeom>
              <a:avLst/>
              <a:gdLst/>
              <a:ahLst/>
              <a:rect l="l" t="t" r="r" b="b"/>
              <a:pathLst>
                <a:path w="832" h="237">
                  <a:moveTo>
                    <a:pt x="832" y="87"/>
                  </a:moveTo>
                  <a:lnTo>
                    <a:pt x="17" y="0"/>
                  </a:lnTo>
                  <a:lnTo>
                    <a:pt x="0" y="148"/>
                  </a:lnTo>
                  <a:lnTo>
                    <a:pt x="817" y="237"/>
                  </a:lnTo>
                  <a:lnTo>
                    <a:pt x="832" y="8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21160" y="6186960"/>
              <a:ext cx="36720" cy="3276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2"/>
                  </a:lnTo>
                  <a:lnTo>
                    <a:pt x="92" y="0"/>
                  </a:lnTo>
                  <a:lnTo>
                    <a:pt x="0" y="119"/>
                  </a:lnTo>
                  <a:lnTo>
                    <a:pt x="454" y="470"/>
                  </a:lnTo>
                  <a:lnTo>
                    <a:pt x="491" y="485"/>
                  </a:lnTo>
                  <a:lnTo>
                    <a:pt x="454" y="470"/>
                  </a:lnTo>
                  <a:lnTo>
                    <a:pt x="470" y="482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153920" y="6209280"/>
              <a:ext cx="55440" cy="15480"/>
            </a:xfrm>
            <a:custGeom>
              <a:avLst/>
              <a:gdLst/>
              <a:ahLst/>
              <a:rect l="l" t="t" r="r" b="b"/>
              <a:pathLst>
                <a:path w="831" h="236">
                  <a:moveTo>
                    <a:pt x="831" y="88"/>
                  </a:moveTo>
                  <a:lnTo>
                    <a:pt x="16" y="0"/>
                  </a:lnTo>
                  <a:lnTo>
                    <a:pt x="0" y="149"/>
                  </a:lnTo>
                  <a:lnTo>
                    <a:pt x="816" y="236"/>
                  </a:lnTo>
                  <a:lnTo>
                    <a:pt x="831" y="8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207920" y="6174000"/>
              <a:ext cx="219600" cy="10080"/>
            </a:xfrm>
            <a:custGeom>
              <a:avLst/>
              <a:gdLst/>
              <a:ahLst/>
              <a:rect l="l" t="t" r="r" b="b"/>
              <a:pathLst>
                <a:path w="3337" h="149">
                  <a:moveTo>
                    <a:pt x="3337" y="149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3330" y="149"/>
                  </a:lnTo>
                  <a:lnTo>
                    <a:pt x="3337" y="149"/>
                  </a:lnTo>
                  <a:lnTo>
                    <a:pt x="3330" y="149"/>
                  </a:lnTo>
                  <a:lnTo>
                    <a:pt x="3333" y="149"/>
                  </a:lnTo>
                  <a:lnTo>
                    <a:pt x="3337" y="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426080" y="616860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7">
                  <a:moveTo>
                    <a:pt x="869" y="134"/>
                  </a:moveTo>
                  <a:lnTo>
                    <a:pt x="815" y="0"/>
                  </a:lnTo>
                  <a:lnTo>
                    <a:pt x="0" y="88"/>
                  </a:lnTo>
                  <a:lnTo>
                    <a:pt x="15" y="237"/>
                  </a:lnTo>
                  <a:lnTo>
                    <a:pt x="831" y="150"/>
                  </a:lnTo>
                  <a:lnTo>
                    <a:pt x="869" y="134"/>
                  </a:lnTo>
                  <a:lnTo>
                    <a:pt x="831" y="150"/>
                  </a:lnTo>
                  <a:lnTo>
                    <a:pt x="853" y="147"/>
                  </a:lnTo>
                  <a:lnTo>
                    <a:pt x="869" y="13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477560" y="6146280"/>
              <a:ext cx="35280" cy="31320"/>
            </a:xfrm>
            <a:custGeom>
              <a:avLst/>
              <a:gdLst/>
              <a:ahLst/>
              <a:rect l="l" t="t" r="r" b="b"/>
              <a:pathLst>
                <a:path w="544" h="469">
                  <a:moveTo>
                    <a:pt x="453" y="0"/>
                  </a:moveTo>
                  <a:lnTo>
                    <a:pt x="0" y="351"/>
                  </a:lnTo>
                  <a:lnTo>
                    <a:pt x="91" y="469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07920" y="6216120"/>
              <a:ext cx="219600" cy="9000"/>
            </a:xfrm>
            <a:custGeom>
              <a:avLst/>
              <a:gdLst/>
              <a:ahLst/>
              <a:rect l="l" t="t" r="r" b="b"/>
              <a:pathLst>
                <a:path w="3337" h="149">
                  <a:moveTo>
                    <a:pt x="3337" y="149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3330" y="149"/>
                  </a:lnTo>
                  <a:lnTo>
                    <a:pt x="3337" y="149"/>
                  </a:lnTo>
                  <a:lnTo>
                    <a:pt x="3330" y="149"/>
                  </a:lnTo>
                  <a:lnTo>
                    <a:pt x="3333" y="149"/>
                  </a:lnTo>
                  <a:lnTo>
                    <a:pt x="3337" y="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426080" y="620928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7">
                  <a:moveTo>
                    <a:pt x="869" y="134"/>
                  </a:moveTo>
                  <a:lnTo>
                    <a:pt x="815" y="0"/>
                  </a:lnTo>
                  <a:lnTo>
                    <a:pt x="0" y="88"/>
                  </a:lnTo>
                  <a:lnTo>
                    <a:pt x="15" y="237"/>
                  </a:lnTo>
                  <a:lnTo>
                    <a:pt x="831" y="149"/>
                  </a:lnTo>
                  <a:lnTo>
                    <a:pt x="869" y="134"/>
                  </a:lnTo>
                  <a:lnTo>
                    <a:pt x="831" y="149"/>
                  </a:lnTo>
                  <a:lnTo>
                    <a:pt x="853" y="146"/>
                  </a:lnTo>
                  <a:lnTo>
                    <a:pt x="869" y="134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477560" y="6186960"/>
              <a:ext cx="35280" cy="31320"/>
            </a:xfrm>
            <a:custGeom>
              <a:avLst/>
              <a:gdLst/>
              <a:ahLst/>
              <a:rect l="l" t="t" r="r" b="b"/>
              <a:pathLst>
                <a:path w="544" h="469">
                  <a:moveTo>
                    <a:pt x="453" y="0"/>
                  </a:moveTo>
                  <a:lnTo>
                    <a:pt x="0" y="351"/>
                  </a:lnTo>
                  <a:lnTo>
                    <a:pt x="91" y="469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121160" y="6146280"/>
              <a:ext cx="35280" cy="3276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1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3" y="469"/>
                  </a:lnTo>
                  <a:lnTo>
                    <a:pt x="491" y="485"/>
                  </a:lnTo>
                  <a:lnTo>
                    <a:pt x="453" y="469"/>
                  </a:lnTo>
                  <a:lnTo>
                    <a:pt x="470" y="482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153920" y="6168600"/>
              <a:ext cx="53640" cy="15480"/>
            </a:xfrm>
            <a:custGeom>
              <a:avLst/>
              <a:gdLst/>
              <a:ahLst/>
              <a:rect l="l" t="t" r="r" b="b"/>
              <a:pathLst>
                <a:path w="832" h="237">
                  <a:moveTo>
                    <a:pt x="832" y="88"/>
                  </a:moveTo>
                  <a:lnTo>
                    <a:pt x="17" y="0"/>
                  </a:lnTo>
                  <a:lnTo>
                    <a:pt x="0" y="150"/>
                  </a:lnTo>
                  <a:lnTo>
                    <a:pt x="817" y="237"/>
                  </a:lnTo>
                  <a:lnTo>
                    <a:pt x="832" y="8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121160" y="6272640"/>
              <a:ext cx="36720" cy="3132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1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4" y="470"/>
                  </a:lnTo>
                  <a:lnTo>
                    <a:pt x="491" y="485"/>
                  </a:lnTo>
                  <a:lnTo>
                    <a:pt x="454" y="470"/>
                  </a:lnTo>
                  <a:lnTo>
                    <a:pt x="470" y="482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153920" y="6294960"/>
              <a:ext cx="55440" cy="15480"/>
            </a:xfrm>
            <a:custGeom>
              <a:avLst/>
              <a:gdLst/>
              <a:ahLst/>
              <a:rect l="l" t="t" r="r" b="b"/>
              <a:pathLst>
                <a:path w="831" h="237">
                  <a:moveTo>
                    <a:pt x="831" y="88"/>
                  </a:moveTo>
                  <a:lnTo>
                    <a:pt x="16" y="0"/>
                  </a:lnTo>
                  <a:lnTo>
                    <a:pt x="0" y="149"/>
                  </a:lnTo>
                  <a:lnTo>
                    <a:pt x="816" y="237"/>
                  </a:lnTo>
                  <a:lnTo>
                    <a:pt x="831" y="8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207920" y="6259320"/>
              <a:ext cx="219600" cy="10080"/>
            </a:xfrm>
            <a:custGeom>
              <a:avLst/>
              <a:gdLst/>
              <a:ahLst/>
              <a:rect l="l" t="t" r="r" b="b"/>
              <a:pathLst>
                <a:path w="3337" h="149">
                  <a:moveTo>
                    <a:pt x="3337" y="149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3330" y="149"/>
                  </a:lnTo>
                  <a:lnTo>
                    <a:pt x="3337" y="149"/>
                  </a:lnTo>
                  <a:lnTo>
                    <a:pt x="3330" y="149"/>
                  </a:lnTo>
                  <a:lnTo>
                    <a:pt x="3333" y="149"/>
                  </a:lnTo>
                  <a:lnTo>
                    <a:pt x="3337" y="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426080" y="625428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6">
                  <a:moveTo>
                    <a:pt x="869" y="133"/>
                  </a:moveTo>
                  <a:lnTo>
                    <a:pt x="815" y="0"/>
                  </a:lnTo>
                  <a:lnTo>
                    <a:pt x="0" y="88"/>
                  </a:lnTo>
                  <a:lnTo>
                    <a:pt x="15" y="236"/>
                  </a:lnTo>
                  <a:lnTo>
                    <a:pt x="831" y="148"/>
                  </a:lnTo>
                  <a:lnTo>
                    <a:pt x="869" y="133"/>
                  </a:lnTo>
                  <a:lnTo>
                    <a:pt x="831" y="148"/>
                  </a:lnTo>
                  <a:lnTo>
                    <a:pt x="853" y="146"/>
                  </a:lnTo>
                  <a:lnTo>
                    <a:pt x="869" y="13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477560" y="6231600"/>
              <a:ext cx="35280" cy="29880"/>
            </a:xfrm>
            <a:custGeom>
              <a:avLst/>
              <a:gdLst/>
              <a:ahLst/>
              <a:rect l="l" t="t" r="r" b="b"/>
              <a:pathLst>
                <a:path w="544" h="470">
                  <a:moveTo>
                    <a:pt x="453" y="0"/>
                  </a:moveTo>
                  <a:lnTo>
                    <a:pt x="0" y="352"/>
                  </a:lnTo>
                  <a:lnTo>
                    <a:pt x="91" y="470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207920" y="6300000"/>
              <a:ext cx="219600" cy="10440"/>
            </a:xfrm>
            <a:custGeom>
              <a:avLst/>
              <a:gdLst/>
              <a:ahLst/>
              <a:rect l="l" t="t" r="r" b="b"/>
              <a:pathLst>
                <a:path w="3337" h="150">
                  <a:moveTo>
                    <a:pt x="3337" y="150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3330" y="150"/>
                  </a:lnTo>
                  <a:lnTo>
                    <a:pt x="3337" y="150"/>
                  </a:lnTo>
                  <a:lnTo>
                    <a:pt x="3330" y="150"/>
                  </a:lnTo>
                  <a:lnTo>
                    <a:pt x="3333" y="150"/>
                  </a:lnTo>
                  <a:lnTo>
                    <a:pt x="3337" y="1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426080" y="629496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6">
                  <a:moveTo>
                    <a:pt x="869" y="132"/>
                  </a:moveTo>
                  <a:lnTo>
                    <a:pt x="815" y="0"/>
                  </a:lnTo>
                  <a:lnTo>
                    <a:pt x="0" y="87"/>
                  </a:lnTo>
                  <a:lnTo>
                    <a:pt x="15" y="236"/>
                  </a:lnTo>
                  <a:lnTo>
                    <a:pt x="831" y="148"/>
                  </a:lnTo>
                  <a:lnTo>
                    <a:pt x="869" y="132"/>
                  </a:lnTo>
                  <a:lnTo>
                    <a:pt x="831" y="148"/>
                  </a:lnTo>
                  <a:lnTo>
                    <a:pt x="853" y="146"/>
                  </a:lnTo>
                  <a:lnTo>
                    <a:pt x="869" y="13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477560" y="6272640"/>
              <a:ext cx="35280" cy="29880"/>
            </a:xfrm>
            <a:custGeom>
              <a:avLst/>
              <a:gdLst/>
              <a:ahLst/>
              <a:rect l="l" t="t" r="r" b="b"/>
              <a:pathLst>
                <a:path w="544" h="469">
                  <a:moveTo>
                    <a:pt x="453" y="0"/>
                  </a:moveTo>
                  <a:lnTo>
                    <a:pt x="0" y="351"/>
                  </a:lnTo>
                  <a:lnTo>
                    <a:pt x="91" y="469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21160" y="6231600"/>
              <a:ext cx="35280" cy="3132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2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3" y="470"/>
                  </a:lnTo>
                  <a:lnTo>
                    <a:pt x="491" y="485"/>
                  </a:lnTo>
                  <a:lnTo>
                    <a:pt x="453" y="470"/>
                  </a:lnTo>
                  <a:lnTo>
                    <a:pt x="470" y="483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153920" y="6254280"/>
              <a:ext cx="53640" cy="15480"/>
            </a:xfrm>
            <a:custGeom>
              <a:avLst/>
              <a:gdLst/>
              <a:ahLst/>
              <a:rect l="l" t="t" r="r" b="b"/>
              <a:pathLst>
                <a:path w="832" h="236">
                  <a:moveTo>
                    <a:pt x="832" y="88"/>
                  </a:moveTo>
                  <a:lnTo>
                    <a:pt x="17" y="0"/>
                  </a:lnTo>
                  <a:lnTo>
                    <a:pt x="0" y="148"/>
                  </a:lnTo>
                  <a:lnTo>
                    <a:pt x="817" y="236"/>
                  </a:lnTo>
                  <a:lnTo>
                    <a:pt x="832" y="8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121160" y="6357960"/>
              <a:ext cx="36720" cy="3132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1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4" y="469"/>
                  </a:lnTo>
                  <a:lnTo>
                    <a:pt x="491" y="485"/>
                  </a:lnTo>
                  <a:lnTo>
                    <a:pt x="454" y="469"/>
                  </a:lnTo>
                  <a:lnTo>
                    <a:pt x="470" y="482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153920" y="6378840"/>
              <a:ext cx="55440" cy="15480"/>
            </a:xfrm>
            <a:custGeom>
              <a:avLst/>
              <a:gdLst/>
              <a:ahLst/>
              <a:rect l="l" t="t" r="r" b="b"/>
              <a:pathLst>
                <a:path w="831" h="238">
                  <a:moveTo>
                    <a:pt x="831" y="88"/>
                  </a:moveTo>
                  <a:lnTo>
                    <a:pt x="16" y="0"/>
                  </a:lnTo>
                  <a:lnTo>
                    <a:pt x="0" y="150"/>
                  </a:lnTo>
                  <a:lnTo>
                    <a:pt x="816" y="238"/>
                  </a:lnTo>
                  <a:lnTo>
                    <a:pt x="831" y="8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207920" y="6344640"/>
              <a:ext cx="219600" cy="9000"/>
            </a:xfrm>
            <a:custGeom>
              <a:avLst/>
              <a:gdLst/>
              <a:ahLst/>
              <a:rect l="l" t="t" r="r" b="b"/>
              <a:pathLst>
                <a:path w="3337" h="151">
                  <a:moveTo>
                    <a:pt x="3337" y="150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3330" y="151"/>
                  </a:lnTo>
                  <a:lnTo>
                    <a:pt x="3337" y="150"/>
                  </a:lnTo>
                  <a:lnTo>
                    <a:pt x="3330" y="151"/>
                  </a:lnTo>
                  <a:lnTo>
                    <a:pt x="3333" y="151"/>
                  </a:lnTo>
                  <a:lnTo>
                    <a:pt x="3337" y="15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426080" y="633816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6">
                  <a:moveTo>
                    <a:pt x="869" y="132"/>
                  </a:moveTo>
                  <a:lnTo>
                    <a:pt x="815" y="0"/>
                  </a:lnTo>
                  <a:lnTo>
                    <a:pt x="0" y="87"/>
                  </a:lnTo>
                  <a:lnTo>
                    <a:pt x="15" y="236"/>
                  </a:lnTo>
                  <a:lnTo>
                    <a:pt x="831" y="148"/>
                  </a:lnTo>
                  <a:lnTo>
                    <a:pt x="869" y="132"/>
                  </a:lnTo>
                  <a:lnTo>
                    <a:pt x="831" y="148"/>
                  </a:lnTo>
                  <a:lnTo>
                    <a:pt x="853" y="146"/>
                  </a:lnTo>
                  <a:lnTo>
                    <a:pt x="869" y="13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477560" y="6315840"/>
              <a:ext cx="35280" cy="31320"/>
            </a:xfrm>
            <a:custGeom>
              <a:avLst/>
              <a:gdLst/>
              <a:ahLst/>
              <a:rect l="l" t="t" r="r" b="b"/>
              <a:pathLst>
                <a:path w="544" h="469">
                  <a:moveTo>
                    <a:pt x="453" y="0"/>
                  </a:moveTo>
                  <a:lnTo>
                    <a:pt x="0" y="351"/>
                  </a:lnTo>
                  <a:lnTo>
                    <a:pt x="91" y="469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207920" y="6385680"/>
              <a:ext cx="219600" cy="9000"/>
            </a:xfrm>
            <a:custGeom>
              <a:avLst/>
              <a:gdLst/>
              <a:ahLst/>
              <a:rect l="l" t="t" r="r" b="b"/>
              <a:pathLst>
                <a:path w="3337" h="151">
                  <a:moveTo>
                    <a:pt x="3337" y="149"/>
                  </a:moveTo>
                  <a:lnTo>
                    <a:pt x="3330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3330" y="151"/>
                  </a:lnTo>
                  <a:lnTo>
                    <a:pt x="3337" y="149"/>
                  </a:lnTo>
                  <a:lnTo>
                    <a:pt x="3330" y="151"/>
                  </a:lnTo>
                  <a:lnTo>
                    <a:pt x="3333" y="151"/>
                  </a:lnTo>
                  <a:lnTo>
                    <a:pt x="3337" y="14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426080" y="6378840"/>
              <a:ext cx="56520" cy="15480"/>
            </a:xfrm>
            <a:custGeom>
              <a:avLst/>
              <a:gdLst/>
              <a:ahLst/>
              <a:rect l="l" t="t" r="r" b="b"/>
              <a:pathLst>
                <a:path w="869" h="236">
                  <a:moveTo>
                    <a:pt x="869" y="133"/>
                  </a:moveTo>
                  <a:lnTo>
                    <a:pt x="815" y="0"/>
                  </a:lnTo>
                  <a:lnTo>
                    <a:pt x="0" y="88"/>
                  </a:lnTo>
                  <a:lnTo>
                    <a:pt x="15" y="236"/>
                  </a:lnTo>
                  <a:lnTo>
                    <a:pt x="831" y="149"/>
                  </a:lnTo>
                  <a:lnTo>
                    <a:pt x="869" y="133"/>
                  </a:lnTo>
                  <a:lnTo>
                    <a:pt x="831" y="149"/>
                  </a:lnTo>
                  <a:lnTo>
                    <a:pt x="853" y="147"/>
                  </a:lnTo>
                  <a:lnTo>
                    <a:pt x="869" y="13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477560" y="6357960"/>
              <a:ext cx="35280" cy="30240"/>
            </a:xfrm>
            <a:custGeom>
              <a:avLst/>
              <a:gdLst/>
              <a:ahLst/>
              <a:rect l="l" t="t" r="r" b="b"/>
              <a:pathLst>
                <a:path w="544" h="469">
                  <a:moveTo>
                    <a:pt x="453" y="0"/>
                  </a:moveTo>
                  <a:lnTo>
                    <a:pt x="0" y="351"/>
                  </a:lnTo>
                  <a:lnTo>
                    <a:pt x="91" y="469"/>
                  </a:lnTo>
                  <a:lnTo>
                    <a:pt x="544" y="11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121160" y="6315840"/>
              <a:ext cx="35280" cy="32760"/>
            </a:xfrm>
            <a:custGeom>
              <a:avLst/>
              <a:gdLst/>
              <a:ahLst/>
              <a:rect l="l" t="t" r="r" b="b"/>
              <a:pathLst>
                <a:path w="545" h="485">
                  <a:moveTo>
                    <a:pt x="491" y="485"/>
                  </a:moveTo>
                  <a:lnTo>
                    <a:pt x="545" y="351"/>
                  </a:lnTo>
                  <a:lnTo>
                    <a:pt x="92" y="0"/>
                  </a:lnTo>
                  <a:lnTo>
                    <a:pt x="0" y="118"/>
                  </a:lnTo>
                  <a:lnTo>
                    <a:pt x="453" y="469"/>
                  </a:lnTo>
                  <a:lnTo>
                    <a:pt x="491" y="485"/>
                  </a:lnTo>
                  <a:lnTo>
                    <a:pt x="453" y="469"/>
                  </a:lnTo>
                  <a:lnTo>
                    <a:pt x="470" y="483"/>
                  </a:lnTo>
                  <a:lnTo>
                    <a:pt x="491" y="48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153920" y="6338160"/>
              <a:ext cx="53640" cy="15480"/>
            </a:xfrm>
            <a:custGeom>
              <a:avLst/>
              <a:gdLst/>
              <a:ahLst/>
              <a:rect l="l" t="t" r="r" b="b"/>
              <a:pathLst>
                <a:path w="832" h="236">
                  <a:moveTo>
                    <a:pt x="832" y="87"/>
                  </a:moveTo>
                  <a:lnTo>
                    <a:pt x="17" y="0"/>
                  </a:lnTo>
                  <a:lnTo>
                    <a:pt x="0" y="148"/>
                  </a:lnTo>
                  <a:lnTo>
                    <a:pt x="817" y="236"/>
                  </a:lnTo>
                  <a:lnTo>
                    <a:pt x="832" y="8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"/>
          <p:cNvSpPr/>
          <p:nvPr/>
        </p:nvSpPr>
        <p:spPr>
          <a:xfrm>
            <a:off x="7620120" y="5734080"/>
            <a:ext cx="53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C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533920" y="2190600"/>
            <a:ext cx="154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SS 11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2546280" y="5356080"/>
            <a:ext cx="695520" cy="1069920"/>
            <a:chOff x="2546280" y="5356080"/>
            <a:chExt cx="695520" cy="1069920"/>
          </a:xfrm>
        </p:grpSpPr>
        <p:sp>
          <p:nvSpPr>
            <p:cNvPr id="1506" name=""/>
            <p:cNvSpPr/>
            <p:nvPr/>
          </p:nvSpPr>
          <p:spPr>
            <a:xfrm>
              <a:off x="3162240" y="5742000"/>
              <a:ext cx="76320" cy="679320"/>
            </a:xfrm>
            <a:custGeom>
              <a:avLst/>
              <a:gdLst/>
              <a:ahLst/>
              <a:rect l="l" t="t" r="r" b="b"/>
              <a:pathLst>
                <a:path w="1139" h="10269">
                  <a:moveTo>
                    <a:pt x="0" y="1141"/>
                  </a:moveTo>
                  <a:lnTo>
                    <a:pt x="1139" y="0"/>
                  </a:lnTo>
                  <a:lnTo>
                    <a:pt x="1139" y="9126"/>
                  </a:lnTo>
                  <a:lnTo>
                    <a:pt x="0" y="10269"/>
                  </a:lnTo>
                  <a:lnTo>
                    <a:pt x="0" y="1141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157560" y="5742000"/>
              <a:ext cx="81000" cy="81000"/>
            </a:xfrm>
            <a:custGeom>
              <a:avLst/>
              <a:gdLst/>
              <a:ahLst/>
              <a:rect l="l" t="t" r="r" b="b"/>
              <a:pathLst>
                <a:path w="1228" h="1216">
                  <a:moveTo>
                    <a:pt x="1228" y="38"/>
                  </a:moveTo>
                  <a:lnTo>
                    <a:pt x="1139" y="0"/>
                  </a:lnTo>
                  <a:lnTo>
                    <a:pt x="0" y="1142"/>
                  </a:lnTo>
                  <a:lnTo>
                    <a:pt x="73" y="1216"/>
                  </a:lnTo>
                  <a:lnTo>
                    <a:pt x="1213" y="74"/>
                  </a:lnTo>
                  <a:lnTo>
                    <a:pt x="1228" y="3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232080" y="5745240"/>
              <a:ext cx="6480" cy="604800"/>
            </a:xfrm>
            <a:custGeom>
              <a:avLst/>
              <a:gdLst/>
              <a:ahLst/>
              <a:rect l="l" t="t" r="r" b="b"/>
              <a:pathLst>
                <a:path w="104" h="9162">
                  <a:moveTo>
                    <a:pt x="89" y="9162"/>
                  </a:moveTo>
                  <a:lnTo>
                    <a:pt x="104" y="9124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9124"/>
                  </a:lnTo>
                  <a:lnTo>
                    <a:pt x="89" y="916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157560" y="6345360"/>
              <a:ext cx="81000" cy="80640"/>
            </a:xfrm>
            <a:custGeom>
              <a:avLst/>
              <a:gdLst/>
              <a:ahLst/>
              <a:rect l="l" t="t" r="r" b="b"/>
              <a:pathLst>
                <a:path w="1229" h="1217">
                  <a:moveTo>
                    <a:pt x="0" y="1181"/>
                  </a:moveTo>
                  <a:lnTo>
                    <a:pt x="89" y="1217"/>
                  </a:lnTo>
                  <a:lnTo>
                    <a:pt x="1229" y="74"/>
                  </a:lnTo>
                  <a:lnTo>
                    <a:pt x="1155" y="0"/>
                  </a:lnTo>
                  <a:lnTo>
                    <a:pt x="16" y="1143"/>
                  </a:lnTo>
                  <a:lnTo>
                    <a:pt x="0" y="118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157560" y="5818320"/>
              <a:ext cx="6480" cy="604800"/>
            </a:xfrm>
            <a:custGeom>
              <a:avLst/>
              <a:gdLst/>
              <a:ahLst/>
              <a:rect l="l" t="t" r="r" b="b"/>
              <a:pathLst>
                <a:path w="104" h="9165">
                  <a:moveTo>
                    <a:pt x="16" y="0"/>
                  </a:moveTo>
                  <a:lnTo>
                    <a:pt x="0" y="36"/>
                  </a:lnTo>
                  <a:lnTo>
                    <a:pt x="0" y="9165"/>
                  </a:lnTo>
                  <a:lnTo>
                    <a:pt x="104" y="9165"/>
                  </a:lnTo>
                  <a:lnTo>
                    <a:pt x="104" y="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550960" y="6038640"/>
              <a:ext cx="613080" cy="38268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548080" y="6418080"/>
              <a:ext cx="615960" cy="6480"/>
            </a:xfrm>
            <a:custGeom>
              <a:avLst/>
              <a:gdLst/>
              <a:ahLst/>
              <a:rect l="l" t="t" r="r" b="b"/>
              <a:pathLst>
                <a:path w="9321" h="104">
                  <a:moveTo>
                    <a:pt x="0" y="51"/>
                  </a:moveTo>
                  <a:lnTo>
                    <a:pt x="53" y="104"/>
                  </a:lnTo>
                  <a:lnTo>
                    <a:pt x="9321" y="104"/>
                  </a:lnTo>
                  <a:lnTo>
                    <a:pt x="9321" y="0"/>
                  </a:lnTo>
                  <a:lnTo>
                    <a:pt x="53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548080" y="6035760"/>
              <a:ext cx="6120" cy="385560"/>
            </a:xfrm>
            <a:custGeom>
              <a:avLst/>
              <a:gdLst/>
              <a:ahLst/>
              <a:rect l="l" t="t" r="r" b="b"/>
              <a:pathLst>
                <a:path w="104" h="5846">
                  <a:moveTo>
                    <a:pt x="53" y="0"/>
                  </a:moveTo>
                  <a:lnTo>
                    <a:pt x="0" y="51"/>
                  </a:lnTo>
                  <a:lnTo>
                    <a:pt x="0" y="5846"/>
                  </a:lnTo>
                  <a:lnTo>
                    <a:pt x="104" y="5846"/>
                  </a:lnTo>
                  <a:lnTo>
                    <a:pt x="104" y="5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50960" y="6035760"/>
              <a:ext cx="615960" cy="6120"/>
            </a:xfrm>
            <a:custGeom>
              <a:avLst/>
              <a:gdLst/>
              <a:ahLst/>
              <a:rect l="l" t="t" r="r" b="b"/>
              <a:pathLst>
                <a:path w="9321" h="104">
                  <a:moveTo>
                    <a:pt x="9321" y="51"/>
                  </a:moveTo>
                  <a:lnTo>
                    <a:pt x="9268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9268" y="104"/>
                  </a:lnTo>
                  <a:lnTo>
                    <a:pt x="9321" y="5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160800" y="6038640"/>
              <a:ext cx="6120" cy="385920"/>
            </a:xfrm>
            <a:custGeom>
              <a:avLst/>
              <a:gdLst/>
              <a:ahLst/>
              <a:rect l="l" t="t" r="r" b="b"/>
              <a:pathLst>
                <a:path w="105" h="5848">
                  <a:moveTo>
                    <a:pt x="52" y="5848"/>
                  </a:moveTo>
                  <a:lnTo>
                    <a:pt x="105" y="5795"/>
                  </a:lnTo>
                  <a:lnTo>
                    <a:pt x="105" y="0"/>
                  </a:lnTo>
                  <a:lnTo>
                    <a:pt x="0" y="0"/>
                  </a:lnTo>
                  <a:lnTo>
                    <a:pt x="0" y="5795"/>
                  </a:lnTo>
                  <a:lnTo>
                    <a:pt x="52" y="584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550960" y="5973840"/>
              <a:ext cx="677880" cy="64800"/>
            </a:xfrm>
            <a:custGeom>
              <a:avLst/>
              <a:gdLst/>
              <a:ahLst/>
              <a:rect l="l" t="t" r="r" b="b"/>
              <a:pathLst>
                <a:path w="10246" h="979">
                  <a:moveTo>
                    <a:pt x="9268" y="979"/>
                  </a:moveTo>
                  <a:lnTo>
                    <a:pt x="10246" y="0"/>
                  </a:lnTo>
                  <a:lnTo>
                    <a:pt x="980" y="0"/>
                  </a:lnTo>
                  <a:lnTo>
                    <a:pt x="0" y="979"/>
                  </a:lnTo>
                  <a:lnTo>
                    <a:pt x="9268" y="979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162240" y="5970600"/>
              <a:ext cx="69840" cy="69840"/>
            </a:xfrm>
            <a:custGeom>
              <a:avLst/>
              <a:gdLst/>
              <a:ahLst/>
              <a:rect l="l" t="t" r="r" b="b"/>
              <a:pathLst>
                <a:path w="1052" h="1069">
                  <a:moveTo>
                    <a:pt x="1015" y="0"/>
                  </a:moveTo>
                  <a:lnTo>
                    <a:pt x="978" y="15"/>
                  </a:lnTo>
                  <a:lnTo>
                    <a:pt x="0" y="995"/>
                  </a:lnTo>
                  <a:lnTo>
                    <a:pt x="75" y="1069"/>
                  </a:lnTo>
                  <a:lnTo>
                    <a:pt x="1052" y="89"/>
                  </a:lnTo>
                  <a:lnTo>
                    <a:pt x="1015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12880" y="5970600"/>
              <a:ext cx="615960" cy="6120"/>
            </a:xfrm>
            <a:custGeom>
              <a:avLst/>
              <a:gdLst/>
              <a:ahLst/>
              <a:rect l="l" t="t" r="r" b="b"/>
              <a:pathLst>
                <a:path w="9304" h="104">
                  <a:moveTo>
                    <a:pt x="0" y="15"/>
                  </a:moveTo>
                  <a:lnTo>
                    <a:pt x="38" y="104"/>
                  </a:lnTo>
                  <a:lnTo>
                    <a:pt x="9304" y="104"/>
                  </a:lnTo>
                  <a:lnTo>
                    <a:pt x="9304" y="0"/>
                  </a:lnTo>
                  <a:lnTo>
                    <a:pt x="3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549520" y="5972040"/>
              <a:ext cx="68400" cy="69840"/>
            </a:xfrm>
            <a:custGeom>
              <a:avLst/>
              <a:gdLst/>
              <a:ahLst/>
              <a:rect l="l" t="t" r="r" b="b"/>
              <a:pathLst>
                <a:path w="1054" h="1069">
                  <a:moveTo>
                    <a:pt x="38" y="1069"/>
                  </a:moveTo>
                  <a:lnTo>
                    <a:pt x="74" y="1054"/>
                  </a:lnTo>
                  <a:lnTo>
                    <a:pt x="1054" y="74"/>
                  </a:lnTo>
                  <a:lnTo>
                    <a:pt x="980" y="0"/>
                  </a:lnTo>
                  <a:lnTo>
                    <a:pt x="0" y="980"/>
                  </a:lnTo>
                  <a:lnTo>
                    <a:pt x="38" y="106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550960" y="6035760"/>
              <a:ext cx="615960" cy="6120"/>
            </a:xfrm>
            <a:custGeom>
              <a:avLst/>
              <a:gdLst/>
              <a:ahLst/>
              <a:rect l="l" t="t" r="r" b="b"/>
              <a:pathLst>
                <a:path w="9306" h="104">
                  <a:moveTo>
                    <a:pt x="9306" y="89"/>
                  </a:moveTo>
                  <a:lnTo>
                    <a:pt x="9268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9268" y="104"/>
                  </a:lnTo>
                  <a:lnTo>
                    <a:pt x="9306" y="8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603520" y="6195960"/>
              <a:ext cx="231840" cy="65160"/>
            </a:xfrm>
            <a:custGeom>
              <a:avLst/>
              <a:gdLst/>
              <a:ahLst/>
              <a:rect l="l" t="t" r="r" b="b"/>
              <a:pathLst>
                <a:path w="3497" h="990">
                  <a:moveTo>
                    <a:pt x="0" y="274"/>
                  </a:moveTo>
                  <a:lnTo>
                    <a:pt x="0" y="718"/>
                  </a:lnTo>
                  <a:lnTo>
                    <a:pt x="3006" y="718"/>
                  </a:lnTo>
                  <a:lnTo>
                    <a:pt x="3006" y="990"/>
                  </a:lnTo>
                  <a:lnTo>
                    <a:pt x="3497" y="502"/>
                  </a:lnTo>
                  <a:lnTo>
                    <a:pt x="3006" y="0"/>
                  </a:lnTo>
                  <a:lnTo>
                    <a:pt x="3006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874960" y="6195960"/>
              <a:ext cx="231840" cy="65160"/>
            </a:xfrm>
            <a:custGeom>
              <a:avLst/>
              <a:gdLst/>
              <a:ahLst/>
              <a:rect l="l" t="t" r="r" b="b"/>
              <a:pathLst>
                <a:path w="3498" h="990">
                  <a:moveTo>
                    <a:pt x="0" y="274"/>
                  </a:moveTo>
                  <a:lnTo>
                    <a:pt x="0" y="718"/>
                  </a:lnTo>
                  <a:lnTo>
                    <a:pt x="3005" y="718"/>
                  </a:lnTo>
                  <a:lnTo>
                    <a:pt x="3005" y="990"/>
                  </a:lnTo>
                  <a:lnTo>
                    <a:pt x="3498" y="502"/>
                  </a:lnTo>
                  <a:lnTo>
                    <a:pt x="3005" y="0"/>
                  </a:lnTo>
                  <a:lnTo>
                    <a:pt x="3005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860560" y="6068880"/>
              <a:ext cx="216000" cy="127080"/>
            </a:xfrm>
            <a:custGeom>
              <a:avLst/>
              <a:gdLst/>
              <a:ahLst/>
              <a:rect l="l" t="t" r="r" b="b"/>
              <a:pathLst>
                <a:path w="3266" h="1923">
                  <a:moveTo>
                    <a:pt x="0" y="1521"/>
                  </a:moveTo>
                  <a:lnTo>
                    <a:pt x="187" y="1923"/>
                  </a:lnTo>
                  <a:lnTo>
                    <a:pt x="2911" y="651"/>
                  </a:lnTo>
                  <a:lnTo>
                    <a:pt x="3025" y="897"/>
                  </a:lnTo>
                  <a:lnTo>
                    <a:pt x="3266" y="247"/>
                  </a:lnTo>
                  <a:lnTo>
                    <a:pt x="2609" y="0"/>
                  </a:lnTo>
                  <a:lnTo>
                    <a:pt x="2724" y="249"/>
                  </a:lnTo>
                  <a:lnTo>
                    <a:pt x="0" y="15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60560" y="6259320"/>
              <a:ext cx="216000" cy="128880"/>
            </a:xfrm>
            <a:custGeom>
              <a:avLst/>
              <a:gdLst/>
              <a:ahLst/>
              <a:rect l="l" t="t" r="r" b="b"/>
              <a:pathLst>
                <a:path w="3266" h="1924">
                  <a:moveTo>
                    <a:pt x="0" y="402"/>
                  </a:moveTo>
                  <a:lnTo>
                    <a:pt x="187" y="0"/>
                  </a:lnTo>
                  <a:lnTo>
                    <a:pt x="2911" y="1273"/>
                  </a:lnTo>
                  <a:lnTo>
                    <a:pt x="3025" y="1026"/>
                  </a:lnTo>
                  <a:lnTo>
                    <a:pt x="3266" y="1677"/>
                  </a:lnTo>
                  <a:lnTo>
                    <a:pt x="2609" y="1924"/>
                  </a:lnTo>
                  <a:lnTo>
                    <a:pt x="2724" y="1675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608200" y="6200640"/>
              <a:ext cx="231840" cy="66600"/>
            </a:xfrm>
            <a:custGeom>
              <a:avLst/>
              <a:gdLst/>
              <a:ahLst/>
              <a:rect l="l" t="t" r="r" b="b"/>
              <a:pathLst>
                <a:path w="3497" h="991">
                  <a:moveTo>
                    <a:pt x="0" y="275"/>
                  </a:moveTo>
                  <a:lnTo>
                    <a:pt x="0" y="719"/>
                  </a:lnTo>
                  <a:lnTo>
                    <a:pt x="3006" y="719"/>
                  </a:lnTo>
                  <a:lnTo>
                    <a:pt x="3006" y="991"/>
                  </a:lnTo>
                  <a:lnTo>
                    <a:pt x="3497" y="502"/>
                  </a:lnTo>
                  <a:lnTo>
                    <a:pt x="3006" y="0"/>
                  </a:lnTo>
                  <a:lnTo>
                    <a:pt x="3006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79640" y="6200640"/>
              <a:ext cx="231840" cy="66600"/>
            </a:xfrm>
            <a:custGeom>
              <a:avLst/>
              <a:gdLst/>
              <a:ahLst/>
              <a:rect l="l" t="t" r="r" b="b"/>
              <a:pathLst>
                <a:path w="3498" h="991">
                  <a:moveTo>
                    <a:pt x="0" y="275"/>
                  </a:moveTo>
                  <a:lnTo>
                    <a:pt x="0" y="719"/>
                  </a:lnTo>
                  <a:lnTo>
                    <a:pt x="3006" y="719"/>
                  </a:lnTo>
                  <a:lnTo>
                    <a:pt x="3006" y="991"/>
                  </a:lnTo>
                  <a:lnTo>
                    <a:pt x="3498" y="502"/>
                  </a:lnTo>
                  <a:lnTo>
                    <a:pt x="3006" y="0"/>
                  </a:lnTo>
                  <a:lnTo>
                    <a:pt x="3006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65600" y="6073560"/>
              <a:ext cx="215640" cy="127080"/>
            </a:xfrm>
            <a:custGeom>
              <a:avLst/>
              <a:gdLst/>
              <a:ahLst/>
              <a:rect l="l" t="t" r="r" b="b"/>
              <a:pathLst>
                <a:path w="3266" h="1924">
                  <a:moveTo>
                    <a:pt x="0" y="1521"/>
                  </a:moveTo>
                  <a:lnTo>
                    <a:pt x="187" y="1924"/>
                  </a:lnTo>
                  <a:lnTo>
                    <a:pt x="2912" y="651"/>
                  </a:lnTo>
                  <a:lnTo>
                    <a:pt x="3026" y="898"/>
                  </a:lnTo>
                  <a:lnTo>
                    <a:pt x="3266" y="247"/>
                  </a:lnTo>
                  <a:lnTo>
                    <a:pt x="2608" y="0"/>
                  </a:lnTo>
                  <a:lnTo>
                    <a:pt x="2724" y="249"/>
                  </a:lnTo>
                  <a:lnTo>
                    <a:pt x="0" y="15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865600" y="6264360"/>
              <a:ext cx="215640" cy="128520"/>
            </a:xfrm>
            <a:custGeom>
              <a:avLst/>
              <a:gdLst/>
              <a:ahLst/>
              <a:rect l="l" t="t" r="r" b="b"/>
              <a:pathLst>
                <a:path w="3266" h="1924">
                  <a:moveTo>
                    <a:pt x="0" y="403"/>
                  </a:moveTo>
                  <a:lnTo>
                    <a:pt x="187" y="0"/>
                  </a:lnTo>
                  <a:lnTo>
                    <a:pt x="2912" y="1273"/>
                  </a:lnTo>
                  <a:lnTo>
                    <a:pt x="3026" y="1027"/>
                  </a:lnTo>
                  <a:lnTo>
                    <a:pt x="3266" y="1678"/>
                  </a:lnTo>
                  <a:lnTo>
                    <a:pt x="2608" y="1924"/>
                  </a:lnTo>
                  <a:lnTo>
                    <a:pt x="2724" y="1676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549520" y="5435640"/>
              <a:ext cx="612720" cy="60300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546280" y="5435640"/>
              <a:ext cx="6480" cy="606240"/>
            </a:xfrm>
            <a:custGeom>
              <a:avLst/>
              <a:gdLst/>
              <a:ahLst/>
              <a:rect l="l" t="t" r="r" b="b"/>
              <a:pathLst>
                <a:path w="104" h="9181">
                  <a:moveTo>
                    <a:pt x="52" y="9181"/>
                  </a:moveTo>
                  <a:lnTo>
                    <a:pt x="104" y="9128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9128"/>
                  </a:lnTo>
                  <a:lnTo>
                    <a:pt x="52" y="918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549520" y="6035760"/>
              <a:ext cx="617400" cy="6120"/>
            </a:xfrm>
            <a:custGeom>
              <a:avLst/>
              <a:gdLst/>
              <a:ahLst/>
              <a:rect l="l" t="t" r="r" b="b"/>
              <a:pathLst>
                <a:path w="9321" h="105">
                  <a:moveTo>
                    <a:pt x="9321" y="52"/>
                  </a:moveTo>
                  <a:lnTo>
                    <a:pt x="926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9269" y="105"/>
                  </a:lnTo>
                  <a:lnTo>
                    <a:pt x="9321" y="5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159000" y="5432400"/>
              <a:ext cx="7920" cy="606240"/>
            </a:xfrm>
            <a:custGeom>
              <a:avLst/>
              <a:gdLst/>
              <a:ahLst/>
              <a:rect l="l" t="t" r="r" b="b"/>
              <a:pathLst>
                <a:path w="104" h="9180">
                  <a:moveTo>
                    <a:pt x="52" y="0"/>
                  </a:moveTo>
                  <a:lnTo>
                    <a:pt x="0" y="52"/>
                  </a:lnTo>
                  <a:lnTo>
                    <a:pt x="0" y="9180"/>
                  </a:lnTo>
                  <a:lnTo>
                    <a:pt x="104" y="9180"/>
                  </a:lnTo>
                  <a:lnTo>
                    <a:pt x="104" y="5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46280" y="5432400"/>
              <a:ext cx="615960" cy="6480"/>
            </a:xfrm>
            <a:custGeom>
              <a:avLst/>
              <a:gdLst/>
              <a:ahLst/>
              <a:rect l="l" t="t" r="r" b="b"/>
              <a:pathLst>
                <a:path w="9321" h="105">
                  <a:moveTo>
                    <a:pt x="0" y="52"/>
                  </a:moveTo>
                  <a:lnTo>
                    <a:pt x="52" y="105"/>
                  </a:lnTo>
                  <a:lnTo>
                    <a:pt x="9321" y="105"/>
                  </a:lnTo>
                  <a:lnTo>
                    <a:pt x="9321" y="0"/>
                  </a:lnTo>
                  <a:lnTo>
                    <a:pt x="5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549520" y="5359320"/>
              <a:ext cx="689040" cy="76320"/>
            </a:xfrm>
            <a:custGeom>
              <a:avLst/>
              <a:gdLst/>
              <a:ahLst/>
              <a:rect l="l" t="t" r="r" b="b"/>
              <a:pathLst>
                <a:path w="10408" h="1140">
                  <a:moveTo>
                    <a:pt x="0" y="1140"/>
                  </a:moveTo>
                  <a:lnTo>
                    <a:pt x="1142" y="0"/>
                  </a:lnTo>
                  <a:lnTo>
                    <a:pt x="10408" y="0"/>
                  </a:lnTo>
                  <a:lnTo>
                    <a:pt x="9269" y="1140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548080" y="5356080"/>
              <a:ext cx="79200" cy="81000"/>
            </a:xfrm>
            <a:custGeom>
              <a:avLst/>
              <a:gdLst/>
              <a:ahLst/>
              <a:rect l="l" t="t" r="r" b="b"/>
              <a:pathLst>
                <a:path w="1215" h="1230">
                  <a:moveTo>
                    <a:pt x="1179" y="0"/>
                  </a:moveTo>
                  <a:lnTo>
                    <a:pt x="1141" y="15"/>
                  </a:lnTo>
                  <a:lnTo>
                    <a:pt x="0" y="1157"/>
                  </a:lnTo>
                  <a:lnTo>
                    <a:pt x="74" y="1230"/>
                  </a:lnTo>
                  <a:lnTo>
                    <a:pt x="1215" y="89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625840" y="5356080"/>
              <a:ext cx="614160" cy="6480"/>
            </a:xfrm>
            <a:custGeom>
              <a:avLst/>
              <a:gdLst/>
              <a:ahLst/>
              <a:rect l="l" t="t" r="r" b="b"/>
              <a:pathLst>
                <a:path w="9303" h="104">
                  <a:moveTo>
                    <a:pt x="9303" y="89"/>
                  </a:moveTo>
                  <a:lnTo>
                    <a:pt x="9266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9266" y="104"/>
                  </a:lnTo>
                  <a:lnTo>
                    <a:pt x="9303" y="89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160800" y="5357880"/>
              <a:ext cx="79200" cy="81000"/>
            </a:xfrm>
            <a:custGeom>
              <a:avLst/>
              <a:gdLst/>
              <a:ahLst/>
              <a:rect l="l" t="t" r="r" b="b"/>
              <a:pathLst>
                <a:path w="1213" h="1231">
                  <a:moveTo>
                    <a:pt x="37" y="1231"/>
                  </a:moveTo>
                  <a:lnTo>
                    <a:pt x="74" y="1215"/>
                  </a:lnTo>
                  <a:lnTo>
                    <a:pt x="1213" y="74"/>
                  </a:lnTo>
                  <a:lnTo>
                    <a:pt x="1139" y="0"/>
                  </a:lnTo>
                  <a:lnTo>
                    <a:pt x="0" y="1142"/>
                  </a:lnTo>
                  <a:lnTo>
                    <a:pt x="37" y="123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48080" y="5432400"/>
              <a:ext cx="614160" cy="6480"/>
            </a:xfrm>
            <a:custGeom>
              <a:avLst/>
              <a:gdLst/>
              <a:ahLst/>
              <a:rect l="l" t="t" r="r" b="b"/>
              <a:pathLst>
                <a:path w="9306" h="105">
                  <a:moveTo>
                    <a:pt x="0" y="16"/>
                  </a:moveTo>
                  <a:lnTo>
                    <a:pt x="37" y="105"/>
                  </a:lnTo>
                  <a:lnTo>
                    <a:pt x="9306" y="105"/>
                  </a:lnTo>
                  <a:lnTo>
                    <a:pt x="9306" y="0"/>
                  </a:lnTo>
                  <a:lnTo>
                    <a:pt x="3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162240" y="5359320"/>
              <a:ext cx="76320" cy="679320"/>
            </a:xfrm>
            <a:custGeom>
              <a:avLst/>
              <a:gdLst/>
              <a:ahLst/>
              <a:rect l="l" t="t" r="r" b="b"/>
              <a:pathLst>
                <a:path w="1139" h="10268">
                  <a:moveTo>
                    <a:pt x="0" y="1140"/>
                  </a:moveTo>
                  <a:lnTo>
                    <a:pt x="1139" y="0"/>
                  </a:lnTo>
                  <a:lnTo>
                    <a:pt x="1139" y="9125"/>
                  </a:lnTo>
                  <a:lnTo>
                    <a:pt x="0" y="10268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160800" y="5357880"/>
              <a:ext cx="81000" cy="79200"/>
            </a:xfrm>
            <a:custGeom>
              <a:avLst/>
              <a:gdLst/>
              <a:ahLst/>
              <a:rect l="l" t="t" r="r" b="b"/>
              <a:pathLst>
                <a:path w="1228" h="1215">
                  <a:moveTo>
                    <a:pt x="1228" y="38"/>
                  </a:moveTo>
                  <a:lnTo>
                    <a:pt x="1139" y="0"/>
                  </a:lnTo>
                  <a:lnTo>
                    <a:pt x="0" y="1142"/>
                  </a:lnTo>
                  <a:lnTo>
                    <a:pt x="74" y="1215"/>
                  </a:lnTo>
                  <a:lnTo>
                    <a:pt x="1213" y="74"/>
                  </a:lnTo>
                  <a:lnTo>
                    <a:pt x="1228" y="3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235320" y="5359320"/>
              <a:ext cx="6480" cy="606600"/>
            </a:xfrm>
            <a:custGeom>
              <a:avLst/>
              <a:gdLst/>
              <a:ahLst/>
              <a:rect l="l" t="t" r="r" b="b"/>
              <a:pathLst>
                <a:path w="104" h="9161">
                  <a:moveTo>
                    <a:pt x="89" y="9161"/>
                  </a:moveTo>
                  <a:lnTo>
                    <a:pt x="104" y="9125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9125"/>
                  </a:lnTo>
                  <a:lnTo>
                    <a:pt x="89" y="916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159000" y="5960880"/>
              <a:ext cx="81000" cy="81000"/>
            </a:xfrm>
            <a:custGeom>
              <a:avLst/>
              <a:gdLst/>
              <a:ahLst/>
              <a:rect l="l" t="t" r="r" b="b"/>
              <a:pathLst>
                <a:path w="1228" h="1218">
                  <a:moveTo>
                    <a:pt x="0" y="1181"/>
                  </a:moveTo>
                  <a:lnTo>
                    <a:pt x="89" y="1218"/>
                  </a:lnTo>
                  <a:lnTo>
                    <a:pt x="1228" y="74"/>
                  </a:lnTo>
                  <a:lnTo>
                    <a:pt x="1154" y="0"/>
                  </a:lnTo>
                  <a:lnTo>
                    <a:pt x="15" y="1144"/>
                  </a:lnTo>
                  <a:lnTo>
                    <a:pt x="0" y="118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159000" y="5432400"/>
              <a:ext cx="7920" cy="606240"/>
            </a:xfrm>
            <a:custGeom>
              <a:avLst/>
              <a:gdLst/>
              <a:ahLst/>
              <a:rect l="l" t="t" r="r" b="b"/>
              <a:pathLst>
                <a:path w="104" h="9164">
                  <a:moveTo>
                    <a:pt x="15" y="0"/>
                  </a:moveTo>
                  <a:lnTo>
                    <a:pt x="0" y="36"/>
                  </a:lnTo>
                  <a:lnTo>
                    <a:pt x="0" y="9164"/>
                  </a:lnTo>
                  <a:lnTo>
                    <a:pt x="104" y="9164"/>
                  </a:lnTo>
                  <a:lnTo>
                    <a:pt x="104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573280" y="5680080"/>
              <a:ext cx="214200" cy="95040"/>
            </a:xfrm>
            <a:custGeom>
              <a:avLst/>
              <a:gdLst/>
              <a:ahLst/>
              <a:rect l="l" t="t" r="r" b="b"/>
              <a:pathLst>
                <a:path w="3237" h="1427">
                  <a:moveTo>
                    <a:pt x="3237" y="349"/>
                  </a:moveTo>
                  <a:lnTo>
                    <a:pt x="716" y="349"/>
                  </a:lnTo>
                  <a:lnTo>
                    <a:pt x="716" y="0"/>
                  </a:lnTo>
                  <a:lnTo>
                    <a:pt x="0" y="708"/>
                  </a:lnTo>
                  <a:lnTo>
                    <a:pt x="716" y="1427"/>
                  </a:lnTo>
                  <a:lnTo>
                    <a:pt x="716" y="1068"/>
                  </a:lnTo>
                  <a:lnTo>
                    <a:pt x="3237" y="1068"/>
                  </a:lnTo>
                  <a:lnTo>
                    <a:pt x="3237" y="3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652840" y="5537160"/>
              <a:ext cx="168120" cy="166680"/>
            </a:xfrm>
            <a:custGeom>
              <a:avLst/>
              <a:gdLst/>
              <a:ahLst/>
              <a:rect l="l" t="t" r="r" b="b"/>
              <a:pathLst>
                <a:path w="2543" h="2536">
                  <a:moveTo>
                    <a:pt x="2543" y="2028"/>
                  </a:moveTo>
                  <a:lnTo>
                    <a:pt x="760" y="242"/>
                  </a:lnTo>
                  <a:lnTo>
                    <a:pt x="1007" y="17"/>
                  </a:lnTo>
                  <a:lnTo>
                    <a:pt x="0" y="0"/>
                  </a:lnTo>
                  <a:lnTo>
                    <a:pt x="0" y="1005"/>
                  </a:lnTo>
                  <a:lnTo>
                    <a:pt x="254" y="751"/>
                  </a:lnTo>
                  <a:lnTo>
                    <a:pt x="2036" y="2536"/>
                  </a:lnTo>
                  <a:lnTo>
                    <a:pt x="2543" y="20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797200" y="5456160"/>
              <a:ext cx="93600" cy="214200"/>
            </a:xfrm>
            <a:custGeom>
              <a:avLst/>
              <a:gdLst/>
              <a:ahLst/>
              <a:rect l="l" t="t" r="r" b="b"/>
              <a:pathLst>
                <a:path w="1424" h="3244">
                  <a:moveTo>
                    <a:pt x="1076" y="3244"/>
                  </a:moveTo>
                  <a:lnTo>
                    <a:pt x="1076" y="719"/>
                  </a:lnTo>
                  <a:lnTo>
                    <a:pt x="1424" y="719"/>
                  </a:lnTo>
                  <a:lnTo>
                    <a:pt x="717" y="0"/>
                  </a:lnTo>
                  <a:lnTo>
                    <a:pt x="0" y="719"/>
                  </a:lnTo>
                  <a:lnTo>
                    <a:pt x="359" y="719"/>
                  </a:lnTo>
                  <a:lnTo>
                    <a:pt x="359" y="3244"/>
                  </a:lnTo>
                  <a:lnTo>
                    <a:pt x="1076" y="32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868480" y="5535720"/>
              <a:ext cx="166680" cy="168120"/>
            </a:xfrm>
            <a:custGeom>
              <a:avLst/>
              <a:gdLst/>
              <a:ahLst/>
              <a:rect l="l" t="t" r="r" b="b"/>
              <a:pathLst>
                <a:path w="2532" h="2546">
                  <a:moveTo>
                    <a:pt x="508" y="2546"/>
                  </a:moveTo>
                  <a:lnTo>
                    <a:pt x="2289" y="761"/>
                  </a:lnTo>
                  <a:lnTo>
                    <a:pt x="2525" y="1008"/>
                  </a:lnTo>
                  <a:lnTo>
                    <a:pt x="2532" y="0"/>
                  </a:lnTo>
                  <a:lnTo>
                    <a:pt x="1529" y="0"/>
                  </a:lnTo>
                  <a:lnTo>
                    <a:pt x="1782" y="253"/>
                  </a:lnTo>
                  <a:lnTo>
                    <a:pt x="0" y="2039"/>
                  </a:lnTo>
                  <a:lnTo>
                    <a:pt x="508" y="25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901960" y="5681520"/>
              <a:ext cx="214200" cy="93600"/>
            </a:xfrm>
            <a:custGeom>
              <a:avLst/>
              <a:gdLst/>
              <a:ahLst/>
              <a:rect l="l" t="t" r="r" b="b"/>
              <a:pathLst>
                <a:path w="3237" h="1427">
                  <a:moveTo>
                    <a:pt x="0" y="1078"/>
                  </a:moveTo>
                  <a:lnTo>
                    <a:pt x="2519" y="1078"/>
                  </a:lnTo>
                  <a:lnTo>
                    <a:pt x="2519" y="1427"/>
                  </a:lnTo>
                  <a:lnTo>
                    <a:pt x="3237" y="719"/>
                  </a:lnTo>
                  <a:lnTo>
                    <a:pt x="2519" y="0"/>
                  </a:lnTo>
                  <a:lnTo>
                    <a:pt x="2519" y="359"/>
                  </a:lnTo>
                  <a:lnTo>
                    <a:pt x="0" y="359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868480" y="5751360"/>
              <a:ext cx="166680" cy="168480"/>
            </a:xfrm>
            <a:custGeom>
              <a:avLst/>
              <a:gdLst/>
              <a:ahLst/>
              <a:rect l="l" t="t" r="r" b="b"/>
              <a:pathLst>
                <a:path w="2542" h="2530">
                  <a:moveTo>
                    <a:pt x="0" y="509"/>
                  </a:moveTo>
                  <a:lnTo>
                    <a:pt x="1782" y="2294"/>
                  </a:lnTo>
                  <a:lnTo>
                    <a:pt x="1536" y="2530"/>
                  </a:lnTo>
                  <a:lnTo>
                    <a:pt x="2542" y="2516"/>
                  </a:lnTo>
                  <a:lnTo>
                    <a:pt x="2542" y="1532"/>
                  </a:lnTo>
                  <a:lnTo>
                    <a:pt x="2289" y="1786"/>
                  </a:lnTo>
                  <a:lnTo>
                    <a:pt x="507" y="0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797200" y="5784840"/>
              <a:ext cx="95400" cy="216000"/>
            </a:xfrm>
            <a:custGeom>
              <a:avLst/>
              <a:gdLst/>
              <a:ahLst/>
              <a:rect l="l" t="t" r="r" b="b"/>
              <a:pathLst>
                <a:path w="1424" h="3243">
                  <a:moveTo>
                    <a:pt x="349" y="0"/>
                  </a:moveTo>
                  <a:lnTo>
                    <a:pt x="349" y="2524"/>
                  </a:lnTo>
                  <a:lnTo>
                    <a:pt x="0" y="2524"/>
                  </a:lnTo>
                  <a:lnTo>
                    <a:pt x="708" y="3243"/>
                  </a:lnTo>
                  <a:lnTo>
                    <a:pt x="1424" y="2524"/>
                  </a:lnTo>
                  <a:lnTo>
                    <a:pt x="1066" y="2524"/>
                  </a:lnTo>
                  <a:lnTo>
                    <a:pt x="1066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654280" y="5751360"/>
              <a:ext cx="166680" cy="168480"/>
            </a:xfrm>
            <a:custGeom>
              <a:avLst/>
              <a:gdLst/>
              <a:ahLst/>
              <a:rect l="l" t="t" r="r" b="b"/>
              <a:pathLst>
                <a:path w="2535" h="2547">
                  <a:moveTo>
                    <a:pt x="2027" y="0"/>
                  </a:moveTo>
                  <a:lnTo>
                    <a:pt x="245" y="1785"/>
                  </a:lnTo>
                  <a:lnTo>
                    <a:pt x="0" y="1539"/>
                  </a:lnTo>
                  <a:lnTo>
                    <a:pt x="3" y="2547"/>
                  </a:lnTo>
                  <a:lnTo>
                    <a:pt x="1006" y="2547"/>
                  </a:lnTo>
                  <a:lnTo>
                    <a:pt x="752" y="2293"/>
                  </a:lnTo>
                  <a:lnTo>
                    <a:pt x="2535" y="508"/>
                  </a:lnTo>
                  <a:lnTo>
                    <a:pt x="202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579760" y="5686560"/>
              <a:ext cx="214200" cy="93600"/>
            </a:xfrm>
            <a:custGeom>
              <a:avLst/>
              <a:gdLst/>
              <a:ahLst/>
              <a:rect l="l" t="t" r="r" b="b"/>
              <a:pathLst>
                <a:path w="3238" h="1427">
                  <a:moveTo>
                    <a:pt x="3238" y="349"/>
                  </a:moveTo>
                  <a:lnTo>
                    <a:pt x="717" y="349"/>
                  </a:lnTo>
                  <a:lnTo>
                    <a:pt x="717" y="0"/>
                  </a:lnTo>
                  <a:lnTo>
                    <a:pt x="0" y="708"/>
                  </a:lnTo>
                  <a:lnTo>
                    <a:pt x="717" y="1427"/>
                  </a:lnTo>
                  <a:lnTo>
                    <a:pt x="717" y="1067"/>
                  </a:lnTo>
                  <a:lnTo>
                    <a:pt x="3238" y="1067"/>
                  </a:lnTo>
                  <a:lnTo>
                    <a:pt x="3238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658960" y="5541840"/>
              <a:ext cx="168480" cy="168480"/>
            </a:xfrm>
            <a:custGeom>
              <a:avLst/>
              <a:gdLst/>
              <a:ahLst/>
              <a:rect l="l" t="t" r="r" b="b"/>
              <a:pathLst>
                <a:path w="2543" h="2536">
                  <a:moveTo>
                    <a:pt x="2543" y="2029"/>
                  </a:moveTo>
                  <a:lnTo>
                    <a:pt x="761" y="243"/>
                  </a:lnTo>
                  <a:lnTo>
                    <a:pt x="1007" y="18"/>
                  </a:lnTo>
                  <a:lnTo>
                    <a:pt x="0" y="0"/>
                  </a:lnTo>
                  <a:lnTo>
                    <a:pt x="0" y="1006"/>
                  </a:lnTo>
                  <a:lnTo>
                    <a:pt x="254" y="752"/>
                  </a:lnTo>
                  <a:lnTo>
                    <a:pt x="2036" y="2536"/>
                  </a:lnTo>
                  <a:lnTo>
                    <a:pt x="2543" y="20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803680" y="5460840"/>
              <a:ext cx="93600" cy="216000"/>
            </a:xfrm>
            <a:custGeom>
              <a:avLst/>
              <a:gdLst/>
              <a:ahLst/>
              <a:rect l="l" t="t" r="r" b="b"/>
              <a:pathLst>
                <a:path w="1423" h="3244">
                  <a:moveTo>
                    <a:pt x="1075" y="3244"/>
                  </a:moveTo>
                  <a:lnTo>
                    <a:pt x="1075" y="718"/>
                  </a:lnTo>
                  <a:lnTo>
                    <a:pt x="1423" y="718"/>
                  </a:lnTo>
                  <a:lnTo>
                    <a:pt x="717" y="0"/>
                  </a:lnTo>
                  <a:lnTo>
                    <a:pt x="0" y="718"/>
                  </a:lnTo>
                  <a:lnTo>
                    <a:pt x="358" y="718"/>
                  </a:lnTo>
                  <a:lnTo>
                    <a:pt x="358" y="3244"/>
                  </a:lnTo>
                  <a:lnTo>
                    <a:pt x="1075" y="3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873520" y="5541840"/>
              <a:ext cx="168120" cy="168480"/>
            </a:xfrm>
            <a:custGeom>
              <a:avLst/>
              <a:gdLst/>
              <a:ahLst/>
              <a:rect l="l" t="t" r="r" b="b"/>
              <a:pathLst>
                <a:path w="2532" h="2548">
                  <a:moveTo>
                    <a:pt x="506" y="2548"/>
                  </a:moveTo>
                  <a:lnTo>
                    <a:pt x="2288" y="763"/>
                  </a:lnTo>
                  <a:lnTo>
                    <a:pt x="2524" y="1009"/>
                  </a:lnTo>
                  <a:lnTo>
                    <a:pt x="2532" y="0"/>
                  </a:lnTo>
                  <a:lnTo>
                    <a:pt x="1528" y="0"/>
                  </a:lnTo>
                  <a:lnTo>
                    <a:pt x="1782" y="255"/>
                  </a:lnTo>
                  <a:lnTo>
                    <a:pt x="0" y="2041"/>
                  </a:lnTo>
                  <a:lnTo>
                    <a:pt x="506" y="2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906640" y="5686560"/>
              <a:ext cx="214560" cy="95040"/>
            </a:xfrm>
            <a:custGeom>
              <a:avLst/>
              <a:gdLst/>
              <a:ahLst/>
              <a:rect l="l" t="t" r="r" b="b"/>
              <a:pathLst>
                <a:path w="3238" h="1426">
                  <a:moveTo>
                    <a:pt x="0" y="1078"/>
                  </a:moveTo>
                  <a:lnTo>
                    <a:pt x="2520" y="1078"/>
                  </a:lnTo>
                  <a:lnTo>
                    <a:pt x="2520" y="1426"/>
                  </a:lnTo>
                  <a:lnTo>
                    <a:pt x="3238" y="718"/>
                  </a:lnTo>
                  <a:lnTo>
                    <a:pt x="2520" y="0"/>
                  </a:lnTo>
                  <a:lnTo>
                    <a:pt x="2520" y="359"/>
                  </a:lnTo>
                  <a:lnTo>
                    <a:pt x="0" y="359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873520" y="5757840"/>
              <a:ext cx="168120" cy="166680"/>
            </a:xfrm>
            <a:custGeom>
              <a:avLst/>
              <a:gdLst/>
              <a:ahLst/>
              <a:rect l="l" t="t" r="r" b="b"/>
              <a:pathLst>
                <a:path w="2542" h="2530">
                  <a:moveTo>
                    <a:pt x="0" y="508"/>
                  </a:moveTo>
                  <a:lnTo>
                    <a:pt x="1781" y="2293"/>
                  </a:lnTo>
                  <a:lnTo>
                    <a:pt x="1535" y="2530"/>
                  </a:lnTo>
                  <a:lnTo>
                    <a:pt x="2542" y="2515"/>
                  </a:lnTo>
                  <a:lnTo>
                    <a:pt x="2542" y="1532"/>
                  </a:lnTo>
                  <a:lnTo>
                    <a:pt x="2288" y="1785"/>
                  </a:lnTo>
                  <a:lnTo>
                    <a:pt x="506" y="0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803680" y="5791320"/>
              <a:ext cx="93600" cy="214200"/>
            </a:xfrm>
            <a:custGeom>
              <a:avLst/>
              <a:gdLst/>
              <a:ahLst/>
              <a:rect l="l" t="t" r="r" b="b"/>
              <a:pathLst>
                <a:path w="1424" h="3243">
                  <a:moveTo>
                    <a:pt x="348" y="0"/>
                  </a:moveTo>
                  <a:lnTo>
                    <a:pt x="348" y="2524"/>
                  </a:lnTo>
                  <a:lnTo>
                    <a:pt x="0" y="2524"/>
                  </a:lnTo>
                  <a:lnTo>
                    <a:pt x="707" y="3243"/>
                  </a:lnTo>
                  <a:lnTo>
                    <a:pt x="1424" y="2524"/>
                  </a:lnTo>
                  <a:lnTo>
                    <a:pt x="1065" y="2524"/>
                  </a:lnTo>
                  <a:lnTo>
                    <a:pt x="1065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658960" y="5757840"/>
              <a:ext cx="168480" cy="168120"/>
            </a:xfrm>
            <a:custGeom>
              <a:avLst/>
              <a:gdLst/>
              <a:ahLst/>
              <a:rect l="l" t="t" r="r" b="b"/>
              <a:pathLst>
                <a:path w="2535" h="2548">
                  <a:moveTo>
                    <a:pt x="2029" y="0"/>
                  </a:moveTo>
                  <a:lnTo>
                    <a:pt x="247" y="1785"/>
                  </a:lnTo>
                  <a:lnTo>
                    <a:pt x="0" y="1540"/>
                  </a:lnTo>
                  <a:lnTo>
                    <a:pt x="3" y="2548"/>
                  </a:lnTo>
                  <a:lnTo>
                    <a:pt x="1008" y="2548"/>
                  </a:lnTo>
                  <a:lnTo>
                    <a:pt x="754" y="2294"/>
                  </a:lnTo>
                  <a:lnTo>
                    <a:pt x="2535" y="509"/>
                  </a:lnTo>
                  <a:lnTo>
                    <a:pt x="20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752560" y="5645160"/>
              <a:ext cx="184320" cy="183960"/>
            </a:xfrm>
            <a:custGeom>
              <a:avLst/>
              <a:gdLst/>
              <a:ahLst/>
              <a:rect l="l" t="t" r="r" b="b"/>
              <a:pathLst>
                <a:path w="2783" h="2790">
                  <a:moveTo>
                    <a:pt x="2783" y="1396"/>
                  </a:moveTo>
                  <a:lnTo>
                    <a:pt x="2781" y="1467"/>
                  </a:lnTo>
                  <a:lnTo>
                    <a:pt x="2776" y="1538"/>
                  </a:lnTo>
                  <a:lnTo>
                    <a:pt x="2767" y="1608"/>
                  </a:lnTo>
                  <a:lnTo>
                    <a:pt x="2755" y="1676"/>
                  </a:lnTo>
                  <a:lnTo>
                    <a:pt x="2740" y="1743"/>
                  </a:lnTo>
                  <a:lnTo>
                    <a:pt x="2721" y="1810"/>
                  </a:lnTo>
                  <a:lnTo>
                    <a:pt x="2699" y="1875"/>
                  </a:lnTo>
                  <a:lnTo>
                    <a:pt x="2674" y="1938"/>
                  </a:lnTo>
                  <a:lnTo>
                    <a:pt x="2646" y="1999"/>
                  </a:lnTo>
                  <a:lnTo>
                    <a:pt x="2616" y="2060"/>
                  </a:lnTo>
                  <a:lnTo>
                    <a:pt x="2582" y="2119"/>
                  </a:lnTo>
                  <a:lnTo>
                    <a:pt x="2545" y="2175"/>
                  </a:lnTo>
                  <a:lnTo>
                    <a:pt x="2507" y="2230"/>
                  </a:lnTo>
                  <a:lnTo>
                    <a:pt x="2466" y="2282"/>
                  </a:lnTo>
                  <a:lnTo>
                    <a:pt x="2422" y="2333"/>
                  </a:lnTo>
                  <a:lnTo>
                    <a:pt x="2376" y="2381"/>
                  </a:lnTo>
                  <a:lnTo>
                    <a:pt x="2327" y="2428"/>
                  </a:lnTo>
                  <a:lnTo>
                    <a:pt x="2277" y="2471"/>
                  </a:lnTo>
                  <a:lnTo>
                    <a:pt x="2224" y="2513"/>
                  </a:lnTo>
                  <a:lnTo>
                    <a:pt x="2170" y="2551"/>
                  </a:lnTo>
                  <a:lnTo>
                    <a:pt x="2113" y="2588"/>
                  </a:lnTo>
                  <a:lnTo>
                    <a:pt x="2055" y="2621"/>
                  </a:lnTo>
                  <a:lnTo>
                    <a:pt x="1995" y="2652"/>
                  </a:lnTo>
                  <a:lnTo>
                    <a:pt x="1934" y="2681"/>
                  </a:lnTo>
                  <a:lnTo>
                    <a:pt x="1870" y="2705"/>
                  </a:lnTo>
                  <a:lnTo>
                    <a:pt x="1806" y="2727"/>
                  </a:lnTo>
                  <a:lnTo>
                    <a:pt x="1739" y="2746"/>
                  </a:lnTo>
                  <a:lnTo>
                    <a:pt x="1672" y="2762"/>
                  </a:lnTo>
                  <a:lnTo>
                    <a:pt x="1604" y="2774"/>
                  </a:lnTo>
                  <a:lnTo>
                    <a:pt x="1534" y="2783"/>
                  </a:lnTo>
                  <a:lnTo>
                    <a:pt x="1463" y="2788"/>
                  </a:lnTo>
                  <a:lnTo>
                    <a:pt x="1392" y="2790"/>
                  </a:lnTo>
                  <a:lnTo>
                    <a:pt x="1320" y="2788"/>
                  </a:lnTo>
                  <a:lnTo>
                    <a:pt x="1250" y="2783"/>
                  </a:lnTo>
                  <a:lnTo>
                    <a:pt x="1180" y="2774"/>
                  </a:lnTo>
                  <a:lnTo>
                    <a:pt x="1111" y="2762"/>
                  </a:lnTo>
                  <a:lnTo>
                    <a:pt x="1044" y="2746"/>
                  </a:lnTo>
                  <a:lnTo>
                    <a:pt x="978" y="2727"/>
                  </a:lnTo>
                  <a:lnTo>
                    <a:pt x="914" y="2705"/>
                  </a:lnTo>
                  <a:lnTo>
                    <a:pt x="850" y="2681"/>
                  </a:lnTo>
                  <a:lnTo>
                    <a:pt x="788" y="2652"/>
                  </a:lnTo>
                  <a:lnTo>
                    <a:pt x="729" y="2621"/>
                  </a:lnTo>
                  <a:lnTo>
                    <a:pt x="670" y="2588"/>
                  </a:lnTo>
                  <a:lnTo>
                    <a:pt x="614" y="2551"/>
                  </a:lnTo>
                  <a:lnTo>
                    <a:pt x="559" y="2513"/>
                  </a:lnTo>
                  <a:lnTo>
                    <a:pt x="507" y="2471"/>
                  </a:lnTo>
                  <a:lnTo>
                    <a:pt x="456" y="2428"/>
                  </a:lnTo>
                  <a:lnTo>
                    <a:pt x="408" y="2381"/>
                  </a:lnTo>
                  <a:lnTo>
                    <a:pt x="362" y="2333"/>
                  </a:lnTo>
                  <a:lnTo>
                    <a:pt x="318" y="2282"/>
                  </a:lnTo>
                  <a:lnTo>
                    <a:pt x="277" y="2230"/>
                  </a:lnTo>
                  <a:lnTo>
                    <a:pt x="237" y="2175"/>
                  </a:lnTo>
                  <a:lnTo>
                    <a:pt x="201" y="2119"/>
                  </a:lnTo>
                  <a:lnTo>
                    <a:pt x="168" y="2060"/>
                  </a:lnTo>
                  <a:lnTo>
                    <a:pt x="137" y="1999"/>
                  </a:lnTo>
                  <a:lnTo>
                    <a:pt x="109" y="1938"/>
                  </a:lnTo>
                  <a:lnTo>
                    <a:pt x="84" y="1875"/>
                  </a:lnTo>
                  <a:lnTo>
                    <a:pt x="63" y="1810"/>
                  </a:lnTo>
                  <a:lnTo>
                    <a:pt x="44" y="1743"/>
                  </a:lnTo>
                  <a:lnTo>
                    <a:pt x="29" y="1676"/>
                  </a:lnTo>
                  <a:lnTo>
                    <a:pt x="15" y="1608"/>
                  </a:lnTo>
                  <a:lnTo>
                    <a:pt x="7" y="1538"/>
                  </a:lnTo>
                  <a:lnTo>
                    <a:pt x="1" y="1467"/>
                  </a:lnTo>
                  <a:lnTo>
                    <a:pt x="0" y="1396"/>
                  </a:lnTo>
                  <a:lnTo>
                    <a:pt x="1" y="1324"/>
                  </a:lnTo>
                  <a:lnTo>
                    <a:pt x="7" y="1253"/>
                  </a:lnTo>
                  <a:lnTo>
                    <a:pt x="15" y="1183"/>
                  </a:lnTo>
                  <a:lnTo>
                    <a:pt x="29" y="1115"/>
                  </a:lnTo>
                  <a:lnTo>
                    <a:pt x="44" y="1047"/>
                  </a:lnTo>
                  <a:lnTo>
                    <a:pt x="63" y="981"/>
                  </a:lnTo>
                  <a:lnTo>
                    <a:pt x="84" y="916"/>
                  </a:lnTo>
                  <a:lnTo>
                    <a:pt x="109" y="853"/>
                  </a:lnTo>
                  <a:lnTo>
                    <a:pt x="137" y="791"/>
                  </a:lnTo>
                  <a:lnTo>
                    <a:pt x="168" y="730"/>
                  </a:lnTo>
                  <a:lnTo>
                    <a:pt x="201" y="673"/>
                  </a:lnTo>
                  <a:lnTo>
                    <a:pt x="237" y="616"/>
                  </a:lnTo>
                  <a:lnTo>
                    <a:pt x="277" y="562"/>
                  </a:lnTo>
                  <a:lnTo>
                    <a:pt x="318" y="508"/>
                  </a:lnTo>
                  <a:lnTo>
                    <a:pt x="362" y="457"/>
                  </a:lnTo>
                  <a:lnTo>
                    <a:pt x="408" y="409"/>
                  </a:lnTo>
                  <a:lnTo>
                    <a:pt x="456" y="363"/>
                  </a:lnTo>
                  <a:lnTo>
                    <a:pt x="507" y="319"/>
                  </a:lnTo>
                  <a:lnTo>
                    <a:pt x="559" y="277"/>
                  </a:lnTo>
                  <a:lnTo>
                    <a:pt x="614" y="239"/>
                  </a:lnTo>
                  <a:lnTo>
                    <a:pt x="670" y="203"/>
                  </a:lnTo>
                  <a:lnTo>
                    <a:pt x="729" y="169"/>
                  </a:lnTo>
                  <a:lnTo>
                    <a:pt x="788" y="138"/>
                  </a:lnTo>
                  <a:lnTo>
                    <a:pt x="850" y="111"/>
                  </a:lnTo>
                  <a:lnTo>
                    <a:pt x="914" y="85"/>
                  </a:lnTo>
                  <a:lnTo>
                    <a:pt x="978" y="63"/>
                  </a:lnTo>
                  <a:lnTo>
                    <a:pt x="1044" y="45"/>
                  </a:lnTo>
                  <a:lnTo>
                    <a:pt x="1111" y="29"/>
                  </a:lnTo>
                  <a:lnTo>
                    <a:pt x="1180" y="17"/>
                  </a:lnTo>
                  <a:lnTo>
                    <a:pt x="1250" y="8"/>
                  </a:lnTo>
                  <a:lnTo>
                    <a:pt x="1320" y="2"/>
                  </a:lnTo>
                  <a:lnTo>
                    <a:pt x="1392" y="0"/>
                  </a:lnTo>
                  <a:lnTo>
                    <a:pt x="1463" y="2"/>
                  </a:lnTo>
                  <a:lnTo>
                    <a:pt x="1534" y="8"/>
                  </a:lnTo>
                  <a:lnTo>
                    <a:pt x="1604" y="17"/>
                  </a:lnTo>
                  <a:lnTo>
                    <a:pt x="1672" y="29"/>
                  </a:lnTo>
                  <a:lnTo>
                    <a:pt x="1739" y="45"/>
                  </a:lnTo>
                  <a:lnTo>
                    <a:pt x="1806" y="63"/>
                  </a:lnTo>
                  <a:lnTo>
                    <a:pt x="1870" y="85"/>
                  </a:lnTo>
                  <a:lnTo>
                    <a:pt x="1934" y="111"/>
                  </a:lnTo>
                  <a:lnTo>
                    <a:pt x="1995" y="138"/>
                  </a:lnTo>
                  <a:lnTo>
                    <a:pt x="2055" y="169"/>
                  </a:lnTo>
                  <a:lnTo>
                    <a:pt x="2113" y="203"/>
                  </a:lnTo>
                  <a:lnTo>
                    <a:pt x="2170" y="239"/>
                  </a:lnTo>
                  <a:lnTo>
                    <a:pt x="2224" y="277"/>
                  </a:lnTo>
                  <a:lnTo>
                    <a:pt x="2277" y="319"/>
                  </a:lnTo>
                  <a:lnTo>
                    <a:pt x="2327" y="363"/>
                  </a:lnTo>
                  <a:lnTo>
                    <a:pt x="2376" y="409"/>
                  </a:lnTo>
                  <a:lnTo>
                    <a:pt x="2422" y="457"/>
                  </a:lnTo>
                  <a:lnTo>
                    <a:pt x="2466" y="508"/>
                  </a:lnTo>
                  <a:lnTo>
                    <a:pt x="2507" y="562"/>
                  </a:lnTo>
                  <a:lnTo>
                    <a:pt x="2545" y="616"/>
                  </a:lnTo>
                  <a:lnTo>
                    <a:pt x="2582" y="673"/>
                  </a:lnTo>
                  <a:lnTo>
                    <a:pt x="2616" y="730"/>
                  </a:lnTo>
                  <a:lnTo>
                    <a:pt x="2646" y="791"/>
                  </a:lnTo>
                  <a:lnTo>
                    <a:pt x="2674" y="853"/>
                  </a:lnTo>
                  <a:lnTo>
                    <a:pt x="2699" y="916"/>
                  </a:lnTo>
                  <a:lnTo>
                    <a:pt x="2721" y="981"/>
                  </a:lnTo>
                  <a:lnTo>
                    <a:pt x="2740" y="1047"/>
                  </a:lnTo>
                  <a:lnTo>
                    <a:pt x="2755" y="1115"/>
                  </a:lnTo>
                  <a:lnTo>
                    <a:pt x="2767" y="1183"/>
                  </a:lnTo>
                  <a:lnTo>
                    <a:pt x="2776" y="1253"/>
                  </a:lnTo>
                  <a:lnTo>
                    <a:pt x="2781" y="1324"/>
                  </a:lnTo>
                  <a:lnTo>
                    <a:pt x="2783" y="13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752560" y="5645160"/>
              <a:ext cx="184320" cy="183960"/>
            </a:xfrm>
            <a:custGeom>
              <a:avLst/>
              <a:gdLst/>
              <a:ahLst/>
              <a:rect l="l" t="t" r="r" b="b"/>
              <a:pathLst>
                <a:path w="2783" h="2790">
                  <a:moveTo>
                    <a:pt x="2783" y="1396"/>
                  </a:moveTo>
                  <a:lnTo>
                    <a:pt x="2781" y="1467"/>
                  </a:lnTo>
                  <a:lnTo>
                    <a:pt x="2776" y="1538"/>
                  </a:lnTo>
                  <a:lnTo>
                    <a:pt x="2767" y="1608"/>
                  </a:lnTo>
                  <a:lnTo>
                    <a:pt x="2755" y="1676"/>
                  </a:lnTo>
                  <a:lnTo>
                    <a:pt x="2740" y="1743"/>
                  </a:lnTo>
                  <a:lnTo>
                    <a:pt x="2721" y="1810"/>
                  </a:lnTo>
                  <a:lnTo>
                    <a:pt x="2699" y="1875"/>
                  </a:lnTo>
                  <a:lnTo>
                    <a:pt x="2674" y="1938"/>
                  </a:lnTo>
                  <a:lnTo>
                    <a:pt x="2646" y="1999"/>
                  </a:lnTo>
                  <a:lnTo>
                    <a:pt x="2616" y="2060"/>
                  </a:lnTo>
                  <a:lnTo>
                    <a:pt x="2582" y="2119"/>
                  </a:lnTo>
                  <a:lnTo>
                    <a:pt x="2545" y="2175"/>
                  </a:lnTo>
                  <a:lnTo>
                    <a:pt x="2507" y="2230"/>
                  </a:lnTo>
                  <a:lnTo>
                    <a:pt x="2466" y="2282"/>
                  </a:lnTo>
                  <a:lnTo>
                    <a:pt x="2422" y="2333"/>
                  </a:lnTo>
                  <a:lnTo>
                    <a:pt x="2376" y="2381"/>
                  </a:lnTo>
                  <a:lnTo>
                    <a:pt x="2327" y="2428"/>
                  </a:lnTo>
                  <a:lnTo>
                    <a:pt x="2277" y="2471"/>
                  </a:lnTo>
                  <a:lnTo>
                    <a:pt x="2224" y="2513"/>
                  </a:lnTo>
                  <a:lnTo>
                    <a:pt x="2170" y="2551"/>
                  </a:lnTo>
                  <a:lnTo>
                    <a:pt x="2113" y="2588"/>
                  </a:lnTo>
                  <a:lnTo>
                    <a:pt x="2055" y="2621"/>
                  </a:lnTo>
                  <a:lnTo>
                    <a:pt x="1995" y="2652"/>
                  </a:lnTo>
                  <a:lnTo>
                    <a:pt x="1934" y="2681"/>
                  </a:lnTo>
                  <a:lnTo>
                    <a:pt x="1870" y="2705"/>
                  </a:lnTo>
                  <a:lnTo>
                    <a:pt x="1806" y="2727"/>
                  </a:lnTo>
                  <a:lnTo>
                    <a:pt x="1739" y="2746"/>
                  </a:lnTo>
                  <a:lnTo>
                    <a:pt x="1672" y="2762"/>
                  </a:lnTo>
                  <a:lnTo>
                    <a:pt x="1604" y="2774"/>
                  </a:lnTo>
                  <a:lnTo>
                    <a:pt x="1534" y="2783"/>
                  </a:lnTo>
                  <a:lnTo>
                    <a:pt x="1463" y="2788"/>
                  </a:lnTo>
                  <a:lnTo>
                    <a:pt x="1392" y="2790"/>
                  </a:lnTo>
                  <a:lnTo>
                    <a:pt x="1320" y="2788"/>
                  </a:lnTo>
                  <a:lnTo>
                    <a:pt x="1250" y="2783"/>
                  </a:lnTo>
                  <a:lnTo>
                    <a:pt x="1180" y="2774"/>
                  </a:lnTo>
                  <a:lnTo>
                    <a:pt x="1111" y="2762"/>
                  </a:lnTo>
                  <a:lnTo>
                    <a:pt x="1044" y="2746"/>
                  </a:lnTo>
                  <a:lnTo>
                    <a:pt x="978" y="2727"/>
                  </a:lnTo>
                  <a:lnTo>
                    <a:pt x="914" y="2705"/>
                  </a:lnTo>
                  <a:lnTo>
                    <a:pt x="850" y="2681"/>
                  </a:lnTo>
                  <a:lnTo>
                    <a:pt x="788" y="2652"/>
                  </a:lnTo>
                  <a:lnTo>
                    <a:pt x="729" y="2621"/>
                  </a:lnTo>
                  <a:lnTo>
                    <a:pt x="670" y="2588"/>
                  </a:lnTo>
                  <a:lnTo>
                    <a:pt x="614" y="2551"/>
                  </a:lnTo>
                  <a:lnTo>
                    <a:pt x="559" y="2513"/>
                  </a:lnTo>
                  <a:lnTo>
                    <a:pt x="507" y="2471"/>
                  </a:lnTo>
                  <a:lnTo>
                    <a:pt x="456" y="2428"/>
                  </a:lnTo>
                  <a:lnTo>
                    <a:pt x="408" y="2381"/>
                  </a:lnTo>
                  <a:lnTo>
                    <a:pt x="362" y="2333"/>
                  </a:lnTo>
                  <a:lnTo>
                    <a:pt x="318" y="2282"/>
                  </a:lnTo>
                  <a:lnTo>
                    <a:pt x="277" y="2230"/>
                  </a:lnTo>
                  <a:lnTo>
                    <a:pt x="237" y="2175"/>
                  </a:lnTo>
                  <a:lnTo>
                    <a:pt x="201" y="2119"/>
                  </a:lnTo>
                  <a:lnTo>
                    <a:pt x="168" y="2060"/>
                  </a:lnTo>
                  <a:lnTo>
                    <a:pt x="137" y="1999"/>
                  </a:lnTo>
                  <a:lnTo>
                    <a:pt x="109" y="1938"/>
                  </a:lnTo>
                  <a:lnTo>
                    <a:pt x="84" y="1875"/>
                  </a:lnTo>
                  <a:lnTo>
                    <a:pt x="63" y="1810"/>
                  </a:lnTo>
                  <a:lnTo>
                    <a:pt x="44" y="1743"/>
                  </a:lnTo>
                  <a:lnTo>
                    <a:pt x="29" y="1676"/>
                  </a:lnTo>
                  <a:lnTo>
                    <a:pt x="15" y="1608"/>
                  </a:lnTo>
                  <a:lnTo>
                    <a:pt x="7" y="1538"/>
                  </a:lnTo>
                  <a:lnTo>
                    <a:pt x="1" y="1467"/>
                  </a:lnTo>
                  <a:lnTo>
                    <a:pt x="0" y="1396"/>
                  </a:lnTo>
                  <a:lnTo>
                    <a:pt x="1" y="1324"/>
                  </a:lnTo>
                  <a:lnTo>
                    <a:pt x="7" y="1253"/>
                  </a:lnTo>
                  <a:lnTo>
                    <a:pt x="15" y="1183"/>
                  </a:lnTo>
                  <a:lnTo>
                    <a:pt x="29" y="1115"/>
                  </a:lnTo>
                  <a:lnTo>
                    <a:pt x="44" y="1047"/>
                  </a:lnTo>
                  <a:lnTo>
                    <a:pt x="63" y="981"/>
                  </a:lnTo>
                  <a:lnTo>
                    <a:pt x="84" y="916"/>
                  </a:lnTo>
                  <a:lnTo>
                    <a:pt x="109" y="853"/>
                  </a:lnTo>
                  <a:lnTo>
                    <a:pt x="137" y="791"/>
                  </a:lnTo>
                  <a:lnTo>
                    <a:pt x="168" y="730"/>
                  </a:lnTo>
                  <a:lnTo>
                    <a:pt x="201" y="673"/>
                  </a:lnTo>
                  <a:lnTo>
                    <a:pt x="237" y="616"/>
                  </a:lnTo>
                  <a:lnTo>
                    <a:pt x="277" y="562"/>
                  </a:lnTo>
                  <a:lnTo>
                    <a:pt x="318" y="508"/>
                  </a:lnTo>
                  <a:lnTo>
                    <a:pt x="362" y="457"/>
                  </a:lnTo>
                  <a:lnTo>
                    <a:pt x="408" y="409"/>
                  </a:lnTo>
                  <a:lnTo>
                    <a:pt x="456" y="363"/>
                  </a:lnTo>
                  <a:lnTo>
                    <a:pt x="507" y="319"/>
                  </a:lnTo>
                  <a:lnTo>
                    <a:pt x="559" y="277"/>
                  </a:lnTo>
                  <a:lnTo>
                    <a:pt x="614" y="239"/>
                  </a:lnTo>
                  <a:lnTo>
                    <a:pt x="670" y="203"/>
                  </a:lnTo>
                  <a:lnTo>
                    <a:pt x="729" y="169"/>
                  </a:lnTo>
                  <a:lnTo>
                    <a:pt x="788" y="138"/>
                  </a:lnTo>
                  <a:lnTo>
                    <a:pt x="850" y="111"/>
                  </a:lnTo>
                  <a:lnTo>
                    <a:pt x="914" y="85"/>
                  </a:lnTo>
                  <a:lnTo>
                    <a:pt x="978" y="63"/>
                  </a:lnTo>
                  <a:lnTo>
                    <a:pt x="1044" y="45"/>
                  </a:lnTo>
                  <a:lnTo>
                    <a:pt x="1111" y="29"/>
                  </a:lnTo>
                  <a:lnTo>
                    <a:pt x="1180" y="17"/>
                  </a:lnTo>
                  <a:lnTo>
                    <a:pt x="1250" y="8"/>
                  </a:lnTo>
                  <a:lnTo>
                    <a:pt x="1320" y="2"/>
                  </a:lnTo>
                  <a:lnTo>
                    <a:pt x="1392" y="0"/>
                  </a:lnTo>
                  <a:lnTo>
                    <a:pt x="1463" y="2"/>
                  </a:lnTo>
                  <a:lnTo>
                    <a:pt x="1534" y="8"/>
                  </a:lnTo>
                  <a:lnTo>
                    <a:pt x="1604" y="17"/>
                  </a:lnTo>
                  <a:lnTo>
                    <a:pt x="1672" y="29"/>
                  </a:lnTo>
                  <a:lnTo>
                    <a:pt x="1739" y="45"/>
                  </a:lnTo>
                  <a:lnTo>
                    <a:pt x="1806" y="63"/>
                  </a:lnTo>
                  <a:lnTo>
                    <a:pt x="1870" y="85"/>
                  </a:lnTo>
                  <a:lnTo>
                    <a:pt x="1934" y="111"/>
                  </a:lnTo>
                  <a:lnTo>
                    <a:pt x="1995" y="138"/>
                  </a:lnTo>
                  <a:lnTo>
                    <a:pt x="2055" y="169"/>
                  </a:lnTo>
                  <a:lnTo>
                    <a:pt x="2113" y="203"/>
                  </a:lnTo>
                  <a:lnTo>
                    <a:pt x="2170" y="239"/>
                  </a:lnTo>
                  <a:lnTo>
                    <a:pt x="2224" y="277"/>
                  </a:lnTo>
                  <a:lnTo>
                    <a:pt x="2277" y="319"/>
                  </a:lnTo>
                  <a:lnTo>
                    <a:pt x="2327" y="363"/>
                  </a:lnTo>
                  <a:lnTo>
                    <a:pt x="2376" y="409"/>
                  </a:lnTo>
                  <a:lnTo>
                    <a:pt x="2422" y="457"/>
                  </a:lnTo>
                  <a:lnTo>
                    <a:pt x="2466" y="508"/>
                  </a:lnTo>
                  <a:lnTo>
                    <a:pt x="2507" y="562"/>
                  </a:lnTo>
                  <a:lnTo>
                    <a:pt x="2545" y="616"/>
                  </a:lnTo>
                  <a:lnTo>
                    <a:pt x="2582" y="673"/>
                  </a:lnTo>
                  <a:lnTo>
                    <a:pt x="2616" y="730"/>
                  </a:lnTo>
                  <a:lnTo>
                    <a:pt x="2646" y="791"/>
                  </a:lnTo>
                  <a:lnTo>
                    <a:pt x="2674" y="853"/>
                  </a:lnTo>
                  <a:lnTo>
                    <a:pt x="2699" y="916"/>
                  </a:lnTo>
                  <a:lnTo>
                    <a:pt x="2721" y="981"/>
                  </a:lnTo>
                  <a:lnTo>
                    <a:pt x="2740" y="1047"/>
                  </a:lnTo>
                  <a:lnTo>
                    <a:pt x="2755" y="1115"/>
                  </a:lnTo>
                  <a:lnTo>
                    <a:pt x="2767" y="1183"/>
                  </a:lnTo>
                  <a:lnTo>
                    <a:pt x="2776" y="1253"/>
                  </a:lnTo>
                  <a:lnTo>
                    <a:pt x="2781" y="1324"/>
                  </a:lnTo>
                  <a:lnTo>
                    <a:pt x="2783" y="1396"/>
                  </a:lnTo>
                </a:path>
              </a:pathLst>
            </a:custGeom>
            <a:noFill/>
            <a:ln w="1440">
              <a:solidFill>
                <a:srgbClr val="a42b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763720" y="5656320"/>
              <a:ext cx="184320" cy="183960"/>
            </a:xfrm>
            <a:custGeom>
              <a:avLst/>
              <a:gdLst/>
              <a:ahLst/>
              <a:rect l="l" t="t" r="r" b="b"/>
              <a:pathLst>
                <a:path w="2784" h="2790">
                  <a:moveTo>
                    <a:pt x="2784" y="1395"/>
                  </a:moveTo>
                  <a:lnTo>
                    <a:pt x="2782" y="1467"/>
                  </a:lnTo>
                  <a:lnTo>
                    <a:pt x="2776" y="1538"/>
                  </a:lnTo>
                  <a:lnTo>
                    <a:pt x="2768" y="1608"/>
                  </a:lnTo>
                  <a:lnTo>
                    <a:pt x="2755" y="1677"/>
                  </a:lnTo>
                  <a:lnTo>
                    <a:pt x="2740" y="1743"/>
                  </a:lnTo>
                  <a:lnTo>
                    <a:pt x="2720" y="1810"/>
                  </a:lnTo>
                  <a:lnTo>
                    <a:pt x="2699" y="1875"/>
                  </a:lnTo>
                  <a:lnTo>
                    <a:pt x="2674" y="1938"/>
                  </a:lnTo>
                  <a:lnTo>
                    <a:pt x="2646" y="2000"/>
                  </a:lnTo>
                  <a:lnTo>
                    <a:pt x="2615" y="2060"/>
                  </a:lnTo>
                  <a:lnTo>
                    <a:pt x="2582" y="2118"/>
                  </a:lnTo>
                  <a:lnTo>
                    <a:pt x="2546" y="2175"/>
                  </a:lnTo>
                  <a:lnTo>
                    <a:pt x="2506" y="2230"/>
                  </a:lnTo>
                  <a:lnTo>
                    <a:pt x="2465" y="2282"/>
                  </a:lnTo>
                  <a:lnTo>
                    <a:pt x="2422" y="2333"/>
                  </a:lnTo>
                  <a:lnTo>
                    <a:pt x="2375" y="2381"/>
                  </a:lnTo>
                  <a:lnTo>
                    <a:pt x="2327" y="2428"/>
                  </a:lnTo>
                  <a:lnTo>
                    <a:pt x="2276" y="2471"/>
                  </a:lnTo>
                  <a:lnTo>
                    <a:pt x="2224" y="2513"/>
                  </a:lnTo>
                  <a:lnTo>
                    <a:pt x="2169" y="2552"/>
                  </a:lnTo>
                  <a:lnTo>
                    <a:pt x="2113" y="2587"/>
                  </a:lnTo>
                  <a:lnTo>
                    <a:pt x="2054" y="2622"/>
                  </a:lnTo>
                  <a:lnTo>
                    <a:pt x="1995" y="2652"/>
                  </a:lnTo>
                  <a:lnTo>
                    <a:pt x="1933" y="2680"/>
                  </a:lnTo>
                  <a:lnTo>
                    <a:pt x="1870" y="2706"/>
                  </a:lnTo>
                  <a:lnTo>
                    <a:pt x="1805" y="2727"/>
                  </a:lnTo>
                  <a:lnTo>
                    <a:pt x="1739" y="2746"/>
                  </a:lnTo>
                  <a:lnTo>
                    <a:pt x="1672" y="2761"/>
                  </a:lnTo>
                  <a:lnTo>
                    <a:pt x="1603" y="2773"/>
                  </a:lnTo>
                  <a:lnTo>
                    <a:pt x="1534" y="2783"/>
                  </a:lnTo>
                  <a:lnTo>
                    <a:pt x="1463" y="2788"/>
                  </a:lnTo>
                  <a:lnTo>
                    <a:pt x="1391" y="2790"/>
                  </a:lnTo>
                  <a:lnTo>
                    <a:pt x="1320" y="2788"/>
                  </a:lnTo>
                  <a:lnTo>
                    <a:pt x="1249" y="2783"/>
                  </a:lnTo>
                  <a:lnTo>
                    <a:pt x="1179" y="2773"/>
                  </a:lnTo>
                  <a:lnTo>
                    <a:pt x="1111" y="2761"/>
                  </a:lnTo>
                  <a:lnTo>
                    <a:pt x="1044" y="2746"/>
                  </a:lnTo>
                  <a:lnTo>
                    <a:pt x="978" y="2727"/>
                  </a:lnTo>
                  <a:lnTo>
                    <a:pt x="913" y="2706"/>
                  </a:lnTo>
                  <a:lnTo>
                    <a:pt x="849" y="2680"/>
                  </a:lnTo>
                  <a:lnTo>
                    <a:pt x="788" y="2652"/>
                  </a:lnTo>
                  <a:lnTo>
                    <a:pt x="728" y="2622"/>
                  </a:lnTo>
                  <a:lnTo>
                    <a:pt x="670" y="2587"/>
                  </a:lnTo>
                  <a:lnTo>
                    <a:pt x="613" y="2552"/>
                  </a:lnTo>
                  <a:lnTo>
                    <a:pt x="559" y="2513"/>
                  </a:lnTo>
                  <a:lnTo>
                    <a:pt x="506" y="2471"/>
                  </a:lnTo>
                  <a:lnTo>
                    <a:pt x="456" y="2428"/>
                  </a:lnTo>
                  <a:lnTo>
                    <a:pt x="407" y="2381"/>
                  </a:lnTo>
                  <a:lnTo>
                    <a:pt x="361" y="2333"/>
                  </a:lnTo>
                  <a:lnTo>
                    <a:pt x="318" y="2282"/>
                  </a:lnTo>
                  <a:lnTo>
                    <a:pt x="276" y="2230"/>
                  </a:lnTo>
                  <a:lnTo>
                    <a:pt x="237" y="2175"/>
                  </a:lnTo>
                  <a:lnTo>
                    <a:pt x="202" y="2118"/>
                  </a:lnTo>
                  <a:lnTo>
                    <a:pt x="167" y="2060"/>
                  </a:lnTo>
                  <a:lnTo>
                    <a:pt x="137" y="2000"/>
                  </a:lnTo>
                  <a:lnTo>
                    <a:pt x="109" y="1938"/>
                  </a:lnTo>
                  <a:lnTo>
                    <a:pt x="85" y="1875"/>
                  </a:lnTo>
                  <a:lnTo>
                    <a:pt x="62" y="1810"/>
                  </a:lnTo>
                  <a:lnTo>
                    <a:pt x="43" y="1743"/>
                  </a:lnTo>
                  <a:lnTo>
                    <a:pt x="28" y="1677"/>
                  </a:lnTo>
                  <a:lnTo>
                    <a:pt x="16" y="1608"/>
                  </a:lnTo>
                  <a:lnTo>
                    <a:pt x="7" y="1538"/>
                  </a:lnTo>
                  <a:lnTo>
                    <a:pt x="2" y="1467"/>
                  </a:lnTo>
                  <a:lnTo>
                    <a:pt x="0" y="1395"/>
                  </a:lnTo>
                  <a:lnTo>
                    <a:pt x="2" y="1324"/>
                  </a:lnTo>
                  <a:lnTo>
                    <a:pt x="7" y="1253"/>
                  </a:lnTo>
                  <a:lnTo>
                    <a:pt x="16" y="1183"/>
                  </a:lnTo>
                  <a:lnTo>
                    <a:pt x="28" y="1114"/>
                  </a:lnTo>
                  <a:lnTo>
                    <a:pt x="43" y="1047"/>
                  </a:lnTo>
                  <a:lnTo>
                    <a:pt x="62" y="981"/>
                  </a:lnTo>
                  <a:lnTo>
                    <a:pt x="85" y="916"/>
                  </a:lnTo>
                  <a:lnTo>
                    <a:pt x="109" y="853"/>
                  </a:lnTo>
                  <a:lnTo>
                    <a:pt x="137" y="791"/>
                  </a:lnTo>
                  <a:lnTo>
                    <a:pt x="167" y="730"/>
                  </a:lnTo>
                  <a:lnTo>
                    <a:pt x="202" y="673"/>
                  </a:lnTo>
                  <a:lnTo>
                    <a:pt x="237" y="616"/>
                  </a:lnTo>
                  <a:lnTo>
                    <a:pt x="276" y="561"/>
                  </a:lnTo>
                  <a:lnTo>
                    <a:pt x="318" y="509"/>
                  </a:lnTo>
                  <a:lnTo>
                    <a:pt x="361" y="458"/>
                  </a:lnTo>
                  <a:lnTo>
                    <a:pt x="407" y="410"/>
                  </a:lnTo>
                  <a:lnTo>
                    <a:pt x="456" y="363"/>
                  </a:lnTo>
                  <a:lnTo>
                    <a:pt x="506" y="320"/>
                  </a:lnTo>
                  <a:lnTo>
                    <a:pt x="559" y="278"/>
                  </a:lnTo>
                  <a:lnTo>
                    <a:pt x="613" y="239"/>
                  </a:lnTo>
                  <a:lnTo>
                    <a:pt x="670" y="203"/>
                  </a:lnTo>
                  <a:lnTo>
                    <a:pt x="728" y="169"/>
                  </a:lnTo>
                  <a:lnTo>
                    <a:pt x="788" y="139"/>
                  </a:lnTo>
                  <a:lnTo>
                    <a:pt x="849" y="111"/>
                  </a:lnTo>
                  <a:lnTo>
                    <a:pt x="913" y="85"/>
                  </a:lnTo>
                  <a:lnTo>
                    <a:pt x="978" y="64"/>
                  </a:lnTo>
                  <a:lnTo>
                    <a:pt x="1044" y="45"/>
                  </a:lnTo>
                  <a:lnTo>
                    <a:pt x="1111" y="30"/>
                  </a:lnTo>
                  <a:lnTo>
                    <a:pt x="1179" y="16"/>
                  </a:lnTo>
                  <a:lnTo>
                    <a:pt x="1249" y="8"/>
                  </a:lnTo>
                  <a:lnTo>
                    <a:pt x="1320" y="2"/>
                  </a:lnTo>
                  <a:lnTo>
                    <a:pt x="1391" y="0"/>
                  </a:lnTo>
                  <a:lnTo>
                    <a:pt x="1463" y="2"/>
                  </a:lnTo>
                  <a:lnTo>
                    <a:pt x="1534" y="8"/>
                  </a:lnTo>
                  <a:lnTo>
                    <a:pt x="1603" y="16"/>
                  </a:lnTo>
                  <a:lnTo>
                    <a:pt x="1672" y="30"/>
                  </a:lnTo>
                  <a:lnTo>
                    <a:pt x="1739" y="45"/>
                  </a:lnTo>
                  <a:lnTo>
                    <a:pt x="1805" y="64"/>
                  </a:lnTo>
                  <a:lnTo>
                    <a:pt x="1870" y="85"/>
                  </a:lnTo>
                  <a:lnTo>
                    <a:pt x="1933" y="111"/>
                  </a:lnTo>
                  <a:lnTo>
                    <a:pt x="1995" y="139"/>
                  </a:lnTo>
                  <a:lnTo>
                    <a:pt x="2054" y="169"/>
                  </a:lnTo>
                  <a:lnTo>
                    <a:pt x="2113" y="203"/>
                  </a:lnTo>
                  <a:lnTo>
                    <a:pt x="2169" y="239"/>
                  </a:lnTo>
                  <a:lnTo>
                    <a:pt x="2224" y="278"/>
                  </a:lnTo>
                  <a:lnTo>
                    <a:pt x="2276" y="320"/>
                  </a:lnTo>
                  <a:lnTo>
                    <a:pt x="2327" y="363"/>
                  </a:lnTo>
                  <a:lnTo>
                    <a:pt x="2375" y="410"/>
                  </a:lnTo>
                  <a:lnTo>
                    <a:pt x="2422" y="458"/>
                  </a:lnTo>
                  <a:lnTo>
                    <a:pt x="2465" y="509"/>
                  </a:lnTo>
                  <a:lnTo>
                    <a:pt x="2506" y="561"/>
                  </a:lnTo>
                  <a:lnTo>
                    <a:pt x="2546" y="616"/>
                  </a:lnTo>
                  <a:lnTo>
                    <a:pt x="2582" y="673"/>
                  </a:lnTo>
                  <a:lnTo>
                    <a:pt x="2615" y="730"/>
                  </a:lnTo>
                  <a:lnTo>
                    <a:pt x="2646" y="791"/>
                  </a:lnTo>
                  <a:lnTo>
                    <a:pt x="2674" y="853"/>
                  </a:lnTo>
                  <a:lnTo>
                    <a:pt x="2699" y="916"/>
                  </a:lnTo>
                  <a:lnTo>
                    <a:pt x="2720" y="981"/>
                  </a:lnTo>
                  <a:lnTo>
                    <a:pt x="2740" y="1047"/>
                  </a:lnTo>
                  <a:lnTo>
                    <a:pt x="2755" y="1114"/>
                  </a:lnTo>
                  <a:lnTo>
                    <a:pt x="2768" y="1183"/>
                  </a:lnTo>
                  <a:lnTo>
                    <a:pt x="2776" y="1253"/>
                  </a:lnTo>
                  <a:lnTo>
                    <a:pt x="2782" y="1324"/>
                  </a:lnTo>
                  <a:lnTo>
                    <a:pt x="2784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759040" y="5649840"/>
              <a:ext cx="184320" cy="185760"/>
            </a:xfrm>
            <a:custGeom>
              <a:avLst/>
              <a:gdLst/>
              <a:ahLst/>
              <a:rect l="l" t="t" r="r" b="b"/>
              <a:pathLst>
                <a:path w="2784" h="2790">
                  <a:moveTo>
                    <a:pt x="2784" y="1395"/>
                  </a:moveTo>
                  <a:lnTo>
                    <a:pt x="2782" y="1466"/>
                  </a:lnTo>
                  <a:lnTo>
                    <a:pt x="2777" y="1537"/>
                  </a:lnTo>
                  <a:lnTo>
                    <a:pt x="2768" y="1607"/>
                  </a:lnTo>
                  <a:lnTo>
                    <a:pt x="2756" y="1676"/>
                  </a:lnTo>
                  <a:lnTo>
                    <a:pt x="2740" y="1743"/>
                  </a:lnTo>
                  <a:lnTo>
                    <a:pt x="2722" y="1809"/>
                  </a:lnTo>
                  <a:lnTo>
                    <a:pt x="2699" y="1874"/>
                  </a:lnTo>
                  <a:lnTo>
                    <a:pt x="2674" y="1937"/>
                  </a:lnTo>
                  <a:lnTo>
                    <a:pt x="2647" y="1999"/>
                  </a:lnTo>
                  <a:lnTo>
                    <a:pt x="2616" y="2060"/>
                  </a:lnTo>
                  <a:lnTo>
                    <a:pt x="2582" y="2117"/>
                  </a:lnTo>
                  <a:lnTo>
                    <a:pt x="2546" y="2174"/>
                  </a:lnTo>
                  <a:lnTo>
                    <a:pt x="2508" y="2229"/>
                  </a:lnTo>
                  <a:lnTo>
                    <a:pt x="2466" y="2282"/>
                  </a:lnTo>
                  <a:lnTo>
                    <a:pt x="2422" y="2333"/>
                  </a:lnTo>
                  <a:lnTo>
                    <a:pt x="2376" y="2380"/>
                  </a:lnTo>
                  <a:lnTo>
                    <a:pt x="2328" y="2427"/>
                  </a:lnTo>
                  <a:lnTo>
                    <a:pt x="2278" y="2471"/>
                  </a:lnTo>
                  <a:lnTo>
                    <a:pt x="2225" y="2513"/>
                  </a:lnTo>
                  <a:lnTo>
                    <a:pt x="2170" y="2551"/>
                  </a:lnTo>
                  <a:lnTo>
                    <a:pt x="2113" y="2588"/>
                  </a:lnTo>
                  <a:lnTo>
                    <a:pt x="2056" y="2621"/>
                  </a:lnTo>
                  <a:lnTo>
                    <a:pt x="1995" y="2652"/>
                  </a:lnTo>
                  <a:lnTo>
                    <a:pt x="1933" y="2680"/>
                  </a:lnTo>
                  <a:lnTo>
                    <a:pt x="1871" y="2705"/>
                  </a:lnTo>
                  <a:lnTo>
                    <a:pt x="1805" y="2727"/>
                  </a:lnTo>
                  <a:lnTo>
                    <a:pt x="1740" y="2745"/>
                  </a:lnTo>
                  <a:lnTo>
                    <a:pt x="1672" y="2761"/>
                  </a:lnTo>
                  <a:lnTo>
                    <a:pt x="1604" y="2774"/>
                  </a:lnTo>
                  <a:lnTo>
                    <a:pt x="1534" y="2783"/>
                  </a:lnTo>
                  <a:lnTo>
                    <a:pt x="1463" y="2788"/>
                  </a:lnTo>
                  <a:lnTo>
                    <a:pt x="1393" y="2790"/>
                  </a:lnTo>
                  <a:lnTo>
                    <a:pt x="1321" y="2788"/>
                  </a:lnTo>
                  <a:lnTo>
                    <a:pt x="1250" y="2783"/>
                  </a:lnTo>
                  <a:lnTo>
                    <a:pt x="1181" y="2774"/>
                  </a:lnTo>
                  <a:lnTo>
                    <a:pt x="1112" y="2761"/>
                  </a:lnTo>
                  <a:lnTo>
                    <a:pt x="1044" y="2745"/>
                  </a:lnTo>
                  <a:lnTo>
                    <a:pt x="979" y="2727"/>
                  </a:lnTo>
                  <a:lnTo>
                    <a:pt x="913" y="2705"/>
                  </a:lnTo>
                  <a:lnTo>
                    <a:pt x="851" y="2680"/>
                  </a:lnTo>
                  <a:lnTo>
                    <a:pt x="789" y="2652"/>
                  </a:lnTo>
                  <a:lnTo>
                    <a:pt x="729" y="2621"/>
                  </a:lnTo>
                  <a:lnTo>
                    <a:pt x="670" y="2588"/>
                  </a:lnTo>
                  <a:lnTo>
                    <a:pt x="614" y="2551"/>
                  </a:lnTo>
                  <a:lnTo>
                    <a:pt x="559" y="2513"/>
                  </a:lnTo>
                  <a:lnTo>
                    <a:pt x="507" y="2471"/>
                  </a:lnTo>
                  <a:lnTo>
                    <a:pt x="456" y="2427"/>
                  </a:lnTo>
                  <a:lnTo>
                    <a:pt x="408" y="2380"/>
                  </a:lnTo>
                  <a:lnTo>
                    <a:pt x="362" y="2333"/>
                  </a:lnTo>
                  <a:lnTo>
                    <a:pt x="318" y="2282"/>
                  </a:lnTo>
                  <a:lnTo>
                    <a:pt x="277" y="2229"/>
                  </a:lnTo>
                  <a:lnTo>
                    <a:pt x="238" y="2174"/>
                  </a:lnTo>
                  <a:lnTo>
                    <a:pt x="202" y="2117"/>
                  </a:lnTo>
                  <a:lnTo>
                    <a:pt x="169" y="2060"/>
                  </a:lnTo>
                  <a:lnTo>
                    <a:pt x="137" y="1999"/>
                  </a:lnTo>
                  <a:lnTo>
                    <a:pt x="110" y="1937"/>
                  </a:lnTo>
                  <a:lnTo>
                    <a:pt x="85" y="1874"/>
                  </a:lnTo>
                  <a:lnTo>
                    <a:pt x="63" y="1809"/>
                  </a:lnTo>
                  <a:lnTo>
                    <a:pt x="44" y="1743"/>
                  </a:lnTo>
                  <a:lnTo>
                    <a:pt x="28" y="1676"/>
                  </a:lnTo>
                  <a:lnTo>
                    <a:pt x="16" y="1607"/>
                  </a:lnTo>
                  <a:lnTo>
                    <a:pt x="7" y="1537"/>
                  </a:lnTo>
                  <a:lnTo>
                    <a:pt x="2" y="1466"/>
                  </a:lnTo>
                  <a:lnTo>
                    <a:pt x="0" y="1395"/>
                  </a:lnTo>
                  <a:lnTo>
                    <a:pt x="2" y="1323"/>
                  </a:lnTo>
                  <a:lnTo>
                    <a:pt x="7" y="1252"/>
                  </a:lnTo>
                  <a:lnTo>
                    <a:pt x="16" y="1182"/>
                  </a:lnTo>
                  <a:lnTo>
                    <a:pt x="28" y="1114"/>
                  </a:lnTo>
                  <a:lnTo>
                    <a:pt x="44" y="1047"/>
                  </a:lnTo>
                  <a:lnTo>
                    <a:pt x="63" y="980"/>
                  </a:lnTo>
                  <a:lnTo>
                    <a:pt x="85" y="915"/>
                  </a:lnTo>
                  <a:lnTo>
                    <a:pt x="110" y="852"/>
                  </a:lnTo>
                  <a:lnTo>
                    <a:pt x="137" y="790"/>
                  </a:lnTo>
                  <a:lnTo>
                    <a:pt x="169" y="730"/>
                  </a:lnTo>
                  <a:lnTo>
                    <a:pt x="202" y="672"/>
                  </a:lnTo>
                  <a:lnTo>
                    <a:pt x="238" y="615"/>
                  </a:lnTo>
                  <a:lnTo>
                    <a:pt x="277" y="560"/>
                  </a:lnTo>
                  <a:lnTo>
                    <a:pt x="318" y="508"/>
                  </a:lnTo>
                  <a:lnTo>
                    <a:pt x="362" y="457"/>
                  </a:lnTo>
                  <a:lnTo>
                    <a:pt x="408" y="409"/>
                  </a:lnTo>
                  <a:lnTo>
                    <a:pt x="456" y="362"/>
                  </a:lnTo>
                  <a:lnTo>
                    <a:pt x="507" y="319"/>
                  </a:lnTo>
                  <a:lnTo>
                    <a:pt x="559" y="277"/>
                  </a:lnTo>
                  <a:lnTo>
                    <a:pt x="614" y="239"/>
                  </a:lnTo>
                  <a:lnTo>
                    <a:pt x="670" y="203"/>
                  </a:lnTo>
                  <a:lnTo>
                    <a:pt x="729" y="168"/>
                  </a:lnTo>
                  <a:lnTo>
                    <a:pt x="789" y="138"/>
                  </a:lnTo>
                  <a:lnTo>
                    <a:pt x="851" y="110"/>
                  </a:lnTo>
                  <a:lnTo>
                    <a:pt x="913" y="85"/>
                  </a:lnTo>
                  <a:lnTo>
                    <a:pt x="979" y="63"/>
                  </a:lnTo>
                  <a:lnTo>
                    <a:pt x="1044" y="44"/>
                  </a:lnTo>
                  <a:lnTo>
                    <a:pt x="1112" y="29"/>
                  </a:lnTo>
                  <a:lnTo>
                    <a:pt x="1181" y="17"/>
                  </a:lnTo>
                  <a:lnTo>
                    <a:pt x="1250" y="7"/>
                  </a:lnTo>
                  <a:lnTo>
                    <a:pt x="1321" y="2"/>
                  </a:lnTo>
                  <a:lnTo>
                    <a:pt x="1393" y="0"/>
                  </a:lnTo>
                  <a:lnTo>
                    <a:pt x="1463" y="2"/>
                  </a:lnTo>
                  <a:lnTo>
                    <a:pt x="1534" y="7"/>
                  </a:lnTo>
                  <a:lnTo>
                    <a:pt x="1604" y="17"/>
                  </a:lnTo>
                  <a:lnTo>
                    <a:pt x="1672" y="29"/>
                  </a:lnTo>
                  <a:lnTo>
                    <a:pt x="1740" y="44"/>
                  </a:lnTo>
                  <a:lnTo>
                    <a:pt x="1805" y="63"/>
                  </a:lnTo>
                  <a:lnTo>
                    <a:pt x="1871" y="85"/>
                  </a:lnTo>
                  <a:lnTo>
                    <a:pt x="1933" y="110"/>
                  </a:lnTo>
                  <a:lnTo>
                    <a:pt x="1995" y="138"/>
                  </a:lnTo>
                  <a:lnTo>
                    <a:pt x="2056" y="168"/>
                  </a:lnTo>
                  <a:lnTo>
                    <a:pt x="2113" y="203"/>
                  </a:lnTo>
                  <a:lnTo>
                    <a:pt x="2170" y="239"/>
                  </a:lnTo>
                  <a:lnTo>
                    <a:pt x="2225" y="277"/>
                  </a:lnTo>
                  <a:lnTo>
                    <a:pt x="2278" y="319"/>
                  </a:lnTo>
                  <a:lnTo>
                    <a:pt x="2328" y="362"/>
                  </a:lnTo>
                  <a:lnTo>
                    <a:pt x="2376" y="409"/>
                  </a:lnTo>
                  <a:lnTo>
                    <a:pt x="2422" y="457"/>
                  </a:lnTo>
                  <a:lnTo>
                    <a:pt x="2466" y="508"/>
                  </a:lnTo>
                  <a:lnTo>
                    <a:pt x="2508" y="560"/>
                  </a:lnTo>
                  <a:lnTo>
                    <a:pt x="2546" y="615"/>
                  </a:lnTo>
                  <a:lnTo>
                    <a:pt x="2582" y="672"/>
                  </a:lnTo>
                  <a:lnTo>
                    <a:pt x="2616" y="730"/>
                  </a:lnTo>
                  <a:lnTo>
                    <a:pt x="2647" y="790"/>
                  </a:lnTo>
                  <a:lnTo>
                    <a:pt x="2674" y="852"/>
                  </a:lnTo>
                  <a:lnTo>
                    <a:pt x="2699" y="915"/>
                  </a:lnTo>
                  <a:lnTo>
                    <a:pt x="2722" y="980"/>
                  </a:lnTo>
                  <a:lnTo>
                    <a:pt x="2740" y="1047"/>
                  </a:lnTo>
                  <a:lnTo>
                    <a:pt x="2756" y="1114"/>
                  </a:lnTo>
                  <a:lnTo>
                    <a:pt x="2768" y="1182"/>
                  </a:lnTo>
                  <a:lnTo>
                    <a:pt x="2777" y="1252"/>
                  </a:lnTo>
                  <a:lnTo>
                    <a:pt x="2782" y="1323"/>
                  </a:lnTo>
                  <a:lnTo>
                    <a:pt x="2784" y="1395"/>
                  </a:lnTo>
                  <a:close/>
                </a:path>
              </a:pathLst>
            </a:custGeom>
            <a:solidFill>
              <a:srgbClr val="db4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759040" y="5649840"/>
              <a:ext cx="184320" cy="185760"/>
            </a:xfrm>
            <a:custGeom>
              <a:avLst/>
              <a:gdLst/>
              <a:ahLst/>
              <a:rect l="l" t="t" r="r" b="b"/>
              <a:pathLst>
                <a:path w="2784" h="2790">
                  <a:moveTo>
                    <a:pt x="2784" y="1395"/>
                  </a:moveTo>
                  <a:lnTo>
                    <a:pt x="2782" y="1466"/>
                  </a:lnTo>
                  <a:lnTo>
                    <a:pt x="2777" y="1537"/>
                  </a:lnTo>
                  <a:lnTo>
                    <a:pt x="2768" y="1607"/>
                  </a:lnTo>
                  <a:lnTo>
                    <a:pt x="2756" y="1676"/>
                  </a:lnTo>
                  <a:lnTo>
                    <a:pt x="2740" y="1743"/>
                  </a:lnTo>
                  <a:lnTo>
                    <a:pt x="2722" y="1809"/>
                  </a:lnTo>
                  <a:lnTo>
                    <a:pt x="2699" y="1874"/>
                  </a:lnTo>
                  <a:lnTo>
                    <a:pt x="2674" y="1937"/>
                  </a:lnTo>
                  <a:lnTo>
                    <a:pt x="2647" y="1999"/>
                  </a:lnTo>
                  <a:lnTo>
                    <a:pt x="2616" y="2060"/>
                  </a:lnTo>
                  <a:lnTo>
                    <a:pt x="2582" y="2117"/>
                  </a:lnTo>
                  <a:lnTo>
                    <a:pt x="2546" y="2174"/>
                  </a:lnTo>
                  <a:lnTo>
                    <a:pt x="2508" y="2229"/>
                  </a:lnTo>
                  <a:lnTo>
                    <a:pt x="2466" y="2282"/>
                  </a:lnTo>
                  <a:lnTo>
                    <a:pt x="2422" y="2333"/>
                  </a:lnTo>
                  <a:lnTo>
                    <a:pt x="2376" y="2380"/>
                  </a:lnTo>
                  <a:lnTo>
                    <a:pt x="2328" y="2427"/>
                  </a:lnTo>
                  <a:lnTo>
                    <a:pt x="2278" y="2471"/>
                  </a:lnTo>
                  <a:lnTo>
                    <a:pt x="2225" y="2513"/>
                  </a:lnTo>
                  <a:lnTo>
                    <a:pt x="2170" y="2551"/>
                  </a:lnTo>
                  <a:lnTo>
                    <a:pt x="2113" y="2588"/>
                  </a:lnTo>
                  <a:lnTo>
                    <a:pt x="2056" y="2621"/>
                  </a:lnTo>
                  <a:lnTo>
                    <a:pt x="1995" y="2652"/>
                  </a:lnTo>
                  <a:lnTo>
                    <a:pt x="1933" y="2680"/>
                  </a:lnTo>
                  <a:lnTo>
                    <a:pt x="1871" y="2705"/>
                  </a:lnTo>
                  <a:lnTo>
                    <a:pt x="1805" y="2727"/>
                  </a:lnTo>
                  <a:lnTo>
                    <a:pt x="1740" y="2745"/>
                  </a:lnTo>
                  <a:lnTo>
                    <a:pt x="1672" y="2761"/>
                  </a:lnTo>
                  <a:lnTo>
                    <a:pt x="1604" y="2774"/>
                  </a:lnTo>
                  <a:lnTo>
                    <a:pt x="1534" y="2783"/>
                  </a:lnTo>
                  <a:lnTo>
                    <a:pt x="1463" y="2788"/>
                  </a:lnTo>
                  <a:lnTo>
                    <a:pt x="1393" y="2790"/>
                  </a:lnTo>
                  <a:lnTo>
                    <a:pt x="1321" y="2788"/>
                  </a:lnTo>
                  <a:lnTo>
                    <a:pt x="1250" y="2783"/>
                  </a:lnTo>
                  <a:lnTo>
                    <a:pt x="1181" y="2774"/>
                  </a:lnTo>
                  <a:lnTo>
                    <a:pt x="1112" y="2761"/>
                  </a:lnTo>
                  <a:lnTo>
                    <a:pt x="1044" y="2745"/>
                  </a:lnTo>
                  <a:lnTo>
                    <a:pt x="979" y="2727"/>
                  </a:lnTo>
                  <a:lnTo>
                    <a:pt x="913" y="2705"/>
                  </a:lnTo>
                  <a:lnTo>
                    <a:pt x="851" y="2680"/>
                  </a:lnTo>
                  <a:lnTo>
                    <a:pt x="789" y="2652"/>
                  </a:lnTo>
                  <a:lnTo>
                    <a:pt x="729" y="2621"/>
                  </a:lnTo>
                  <a:lnTo>
                    <a:pt x="670" y="2588"/>
                  </a:lnTo>
                  <a:lnTo>
                    <a:pt x="614" y="2551"/>
                  </a:lnTo>
                  <a:lnTo>
                    <a:pt x="559" y="2513"/>
                  </a:lnTo>
                  <a:lnTo>
                    <a:pt x="507" y="2471"/>
                  </a:lnTo>
                  <a:lnTo>
                    <a:pt x="456" y="2427"/>
                  </a:lnTo>
                  <a:lnTo>
                    <a:pt x="408" y="2380"/>
                  </a:lnTo>
                  <a:lnTo>
                    <a:pt x="362" y="2333"/>
                  </a:lnTo>
                  <a:lnTo>
                    <a:pt x="318" y="2282"/>
                  </a:lnTo>
                  <a:lnTo>
                    <a:pt x="277" y="2229"/>
                  </a:lnTo>
                  <a:lnTo>
                    <a:pt x="238" y="2174"/>
                  </a:lnTo>
                  <a:lnTo>
                    <a:pt x="202" y="2117"/>
                  </a:lnTo>
                  <a:lnTo>
                    <a:pt x="169" y="2060"/>
                  </a:lnTo>
                  <a:lnTo>
                    <a:pt x="137" y="1999"/>
                  </a:lnTo>
                  <a:lnTo>
                    <a:pt x="110" y="1937"/>
                  </a:lnTo>
                  <a:lnTo>
                    <a:pt x="85" y="1874"/>
                  </a:lnTo>
                  <a:lnTo>
                    <a:pt x="63" y="1809"/>
                  </a:lnTo>
                  <a:lnTo>
                    <a:pt x="44" y="1743"/>
                  </a:lnTo>
                  <a:lnTo>
                    <a:pt x="28" y="1676"/>
                  </a:lnTo>
                  <a:lnTo>
                    <a:pt x="16" y="1607"/>
                  </a:lnTo>
                  <a:lnTo>
                    <a:pt x="7" y="1537"/>
                  </a:lnTo>
                  <a:lnTo>
                    <a:pt x="2" y="1466"/>
                  </a:lnTo>
                  <a:lnTo>
                    <a:pt x="0" y="1395"/>
                  </a:lnTo>
                  <a:lnTo>
                    <a:pt x="2" y="1323"/>
                  </a:lnTo>
                  <a:lnTo>
                    <a:pt x="7" y="1252"/>
                  </a:lnTo>
                  <a:lnTo>
                    <a:pt x="16" y="1182"/>
                  </a:lnTo>
                  <a:lnTo>
                    <a:pt x="28" y="1114"/>
                  </a:lnTo>
                  <a:lnTo>
                    <a:pt x="44" y="1047"/>
                  </a:lnTo>
                  <a:lnTo>
                    <a:pt x="63" y="980"/>
                  </a:lnTo>
                  <a:lnTo>
                    <a:pt x="85" y="915"/>
                  </a:lnTo>
                  <a:lnTo>
                    <a:pt x="110" y="852"/>
                  </a:lnTo>
                  <a:lnTo>
                    <a:pt x="137" y="790"/>
                  </a:lnTo>
                  <a:lnTo>
                    <a:pt x="169" y="730"/>
                  </a:lnTo>
                  <a:lnTo>
                    <a:pt x="202" y="672"/>
                  </a:lnTo>
                  <a:lnTo>
                    <a:pt x="238" y="615"/>
                  </a:lnTo>
                  <a:lnTo>
                    <a:pt x="277" y="560"/>
                  </a:lnTo>
                  <a:lnTo>
                    <a:pt x="318" y="508"/>
                  </a:lnTo>
                  <a:lnTo>
                    <a:pt x="362" y="457"/>
                  </a:lnTo>
                  <a:lnTo>
                    <a:pt x="408" y="409"/>
                  </a:lnTo>
                  <a:lnTo>
                    <a:pt x="456" y="362"/>
                  </a:lnTo>
                  <a:lnTo>
                    <a:pt x="507" y="319"/>
                  </a:lnTo>
                  <a:lnTo>
                    <a:pt x="559" y="277"/>
                  </a:lnTo>
                  <a:lnTo>
                    <a:pt x="614" y="239"/>
                  </a:lnTo>
                  <a:lnTo>
                    <a:pt x="670" y="203"/>
                  </a:lnTo>
                  <a:lnTo>
                    <a:pt x="729" y="168"/>
                  </a:lnTo>
                  <a:lnTo>
                    <a:pt x="789" y="138"/>
                  </a:lnTo>
                  <a:lnTo>
                    <a:pt x="851" y="110"/>
                  </a:lnTo>
                  <a:lnTo>
                    <a:pt x="913" y="85"/>
                  </a:lnTo>
                  <a:lnTo>
                    <a:pt x="979" y="63"/>
                  </a:lnTo>
                  <a:lnTo>
                    <a:pt x="1044" y="44"/>
                  </a:lnTo>
                  <a:lnTo>
                    <a:pt x="1112" y="29"/>
                  </a:lnTo>
                  <a:lnTo>
                    <a:pt x="1181" y="17"/>
                  </a:lnTo>
                  <a:lnTo>
                    <a:pt x="1250" y="7"/>
                  </a:lnTo>
                  <a:lnTo>
                    <a:pt x="1321" y="2"/>
                  </a:lnTo>
                  <a:lnTo>
                    <a:pt x="1393" y="0"/>
                  </a:lnTo>
                  <a:lnTo>
                    <a:pt x="1463" y="2"/>
                  </a:lnTo>
                  <a:lnTo>
                    <a:pt x="1534" y="7"/>
                  </a:lnTo>
                  <a:lnTo>
                    <a:pt x="1604" y="17"/>
                  </a:lnTo>
                  <a:lnTo>
                    <a:pt x="1672" y="29"/>
                  </a:lnTo>
                  <a:lnTo>
                    <a:pt x="1740" y="44"/>
                  </a:lnTo>
                  <a:lnTo>
                    <a:pt x="1805" y="63"/>
                  </a:lnTo>
                  <a:lnTo>
                    <a:pt x="1871" y="85"/>
                  </a:lnTo>
                  <a:lnTo>
                    <a:pt x="1933" y="110"/>
                  </a:lnTo>
                  <a:lnTo>
                    <a:pt x="1995" y="138"/>
                  </a:lnTo>
                  <a:lnTo>
                    <a:pt x="2056" y="168"/>
                  </a:lnTo>
                  <a:lnTo>
                    <a:pt x="2113" y="203"/>
                  </a:lnTo>
                  <a:lnTo>
                    <a:pt x="2170" y="239"/>
                  </a:lnTo>
                  <a:lnTo>
                    <a:pt x="2225" y="277"/>
                  </a:lnTo>
                  <a:lnTo>
                    <a:pt x="2278" y="319"/>
                  </a:lnTo>
                  <a:lnTo>
                    <a:pt x="2328" y="362"/>
                  </a:lnTo>
                  <a:lnTo>
                    <a:pt x="2376" y="409"/>
                  </a:lnTo>
                  <a:lnTo>
                    <a:pt x="2422" y="457"/>
                  </a:lnTo>
                  <a:lnTo>
                    <a:pt x="2466" y="508"/>
                  </a:lnTo>
                  <a:lnTo>
                    <a:pt x="2508" y="560"/>
                  </a:lnTo>
                  <a:lnTo>
                    <a:pt x="2546" y="615"/>
                  </a:lnTo>
                  <a:lnTo>
                    <a:pt x="2582" y="672"/>
                  </a:lnTo>
                  <a:lnTo>
                    <a:pt x="2616" y="730"/>
                  </a:lnTo>
                  <a:lnTo>
                    <a:pt x="2647" y="790"/>
                  </a:lnTo>
                  <a:lnTo>
                    <a:pt x="2674" y="852"/>
                  </a:lnTo>
                  <a:lnTo>
                    <a:pt x="2699" y="915"/>
                  </a:lnTo>
                  <a:lnTo>
                    <a:pt x="2722" y="980"/>
                  </a:lnTo>
                  <a:lnTo>
                    <a:pt x="2740" y="1047"/>
                  </a:lnTo>
                  <a:lnTo>
                    <a:pt x="2756" y="1114"/>
                  </a:lnTo>
                  <a:lnTo>
                    <a:pt x="2768" y="1182"/>
                  </a:lnTo>
                  <a:lnTo>
                    <a:pt x="2777" y="1252"/>
                  </a:lnTo>
                  <a:lnTo>
                    <a:pt x="2782" y="1323"/>
                  </a:lnTo>
                  <a:lnTo>
                    <a:pt x="2784" y="1395"/>
                  </a:lnTo>
                </a:path>
              </a:pathLst>
            </a:custGeom>
            <a:noFill/>
            <a:ln w="1440">
              <a:solidFill>
                <a:srgbClr val="a42b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5" name="" descr=""/>
          <p:cNvPicPr/>
          <p:nvPr/>
        </p:nvPicPr>
        <p:blipFill>
          <a:blip r:embed="rId1"/>
          <a:stretch/>
        </p:blipFill>
        <p:spPr>
          <a:xfrm>
            <a:off x="2309760" y="2252520"/>
            <a:ext cx="932040" cy="84780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3240000" y="2394000"/>
            <a:ext cx="1103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SL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in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" descr=""/>
          <p:cNvPicPr/>
          <p:nvPr/>
        </p:nvPicPr>
        <p:blipFill>
          <a:blip r:embed="rId2"/>
          <a:stretch/>
        </p:blipFill>
        <p:spPr>
          <a:xfrm>
            <a:off x="4610160" y="4781520"/>
            <a:ext cx="887400" cy="660600"/>
          </a:xfrm>
          <a:prstGeom prst="rect">
            <a:avLst/>
          </a:prstGeom>
          <a:ln w="0">
            <a:noFill/>
          </a:ln>
        </p:spPr>
      </p:pic>
      <p:sp>
        <p:nvSpPr>
          <p:cNvPr id="1568" name=""/>
          <p:cNvSpPr/>
          <p:nvPr/>
        </p:nvSpPr>
        <p:spPr>
          <a:xfrm>
            <a:off x="5526000" y="4781520"/>
            <a:ext cx="8762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ic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3"/>
          <a:stretch/>
        </p:blipFill>
        <p:spPr>
          <a:xfrm>
            <a:off x="4546440" y="5664240"/>
            <a:ext cx="951120" cy="627120"/>
          </a:xfrm>
          <a:prstGeom prst="rect">
            <a:avLst/>
          </a:prstGeom>
          <a:ln w="0">
            <a:noFill/>
          </a:ln>
        </p:spPr>
      </p:pic>
      <p:sp>
        <p:nvSpPr>
          <p:cNvPr id="1570" name=""/>
          <p:cNvSpPr/>
          <p:nvPr/>
        </p:nvSpPr>
        <p:spPr>
          <a:xfrm>
            <a:off x="5526000" y="5649840"/>
            <a:ext cx="14274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ation Eng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" descr=""/>
          <p:cNvPicPr/>
          <p:nvPr/>
        </p:nvPicPr>
        <p:blipFill>
          <a:blip r:embed="rId4"/>
          <a:stretch/>
        </p:blipFill>
        <p:spPr>
          <a:xfrm>
            <a:off x="6932520" y="4033800"/>
            <a:ext cx="898560" cy="1168560"/>
          </a:xfrm>
          <a:prstGeom prst="rect">
            <a:avLst/>
          </a:prstGeom>
          <a:ln w="0">
            <a:noFill/>
          </a:ln>
        </p:spPr>
      </p:pic>
      <p:sp>
        <p:nvSpPr>
          <p:cNvPr id="1572" name=""/>
          <p:cNvSpPr/>
          <p:nvPr/>
        </p:nvSpPr>
        <p:spPr>
          <a:xfrm>
            <a:off x="8002440" y="4191120"/>
            <a:ext cx="989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fied Presenc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3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1190520" cy="583920"/>
          </a:xfrm>
          <a:prstGeom prst="rect">
            <a:avLst/>
          </a:prstGeom>
          <a:ln w="0">
            <a:noFill/>
          </a:ln>
        </p:spPr>
      </p:pic>
      <p:pic>
        <p:nvPicPr>
          <p:cNvPr id="1574" name="" descr=""/>
          <p:cNvPicPr/>
          <p:nvPr/>
        </p:nvPicPr>
        <p:blipFill>
          <a:blip r:embed="rId2"/>
          <a:stretch/>
        </p:blipFill>
        <p:spPr>
          <a:xfrm>
            <a:off x="7620120" y="2835360"/>
            <a:ext cx="1218960" cy="593640"/>
          </a:xfrm>
          <a:prstGeom prst="rect">
            <a:avLst/>
          </a:prstGeom>
          <a:ln w="0">
            <a:noFill/>
          </a:ln>
        </p:spPr>
      </p:pic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76" name="" descr=""/>
          <p:cNvPicPr/>
          <p:nvPr/>
        </p:nvPicPr>
        <p:blipFill>
          <a:blip r:embed="rId3"/>
          <a:stretch/>
        </p:blipFill>
        <p:spPr>
          <a:xfrm>
            <a:off x="501480" y="5334120"/>
            <a:ext cx="1009800" cy="1095120"/>
          </a:xfrm>
          <a:prstGeom prst="rect">
            <a:avLst/>
          </a:prstGeom>
          <a:ln w="0">
            <a:noFill/>
          </a:ln>
        </p:spPr>
      </p:pic>
      <p:pic>
        <p:nvPicPr>
          <p:cNvPr id="1577" name="" descr=""/>
          <p:cNvPicPr/>
          <p:nvPr/>
        </p:nvPicPr>
        <p:blipFill>
          <a:blip r:embed="rId4"/>
          <a:stretch/>
        </p:blipFill>
        <p:spPr>
          <a:xfrm>
            <a:off x="419040" y="1457280"/>
            <a:ext cx="1114560" cy="590760"/>
          </a:xfrm>
          <a:prstGeom prst="rect">
            <a:avLst/>
          </a:prstGeom>
          <a:ln w="0">
            <a:noFill/>
          </a:ln>
        </p:spPr>
      </p:pic>
      <p:pic>
        <p:nvPicPr>
          <p:cNvPr id="1578" name="" descr=""/>
          <p:cNvPicPr/>
          <p:nvPr/>
        </p:nvPicPr>
        <p:blipFill>
          <a:blip r:embed="rId5"/>
          <a:stretch/>
        </p:blipFill>
        <p:spPr>
          <a:xfrm>
            <a:off x="304920" y="4525920"/>
            <a:ext cx="1206360" cy="947880"/>
          </a:xfrm>
          <a:prstGeom prst="rect">
            <a:avLst/>
          </a:prstGeom>
          <a:ln w="0">
            <a:noFill/>
          </a:ln>
        </p:spPr>
      </p:pic>
      <p:sp>
        <p:nvSpPr>
          <p:cNvPr id="1579" name=""/>
          <p:cNvSpPr/>
          <p:nvPr/>
        </p:nvSpPr>
        <p:spPr>
          <a:xfrm>
            <a:off x="1638360" y="5729400"/>
            <a:ext cx="1143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therCli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638360" y="2362320"/>
            <a:ext cx="1270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638360" y="160020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2" name="" descr=""/>
          <p:cNvPicPr/>
          <p:nvPr/>
        </p:nvPicPr>
        <p:blipFill>
          <a:blip r:embed="rId6"/>
          <a:stretch/>
        </p:blipFill>
        <p:spPr>
          <a:xfrm>
            <a:off x="2854440" y="1308240"/>
            <a:ext cx="1334880" cy="676080"/>
          </a:xfrm>
          <a:prstGeom prst="rect">
            <a:avLst/>
          </a:prstGeom>
          <a:ln w="0">
            <a:noFill/>
          </a:ln>
        </p:spPr>
      </p:pic>
      <p:sp>
        <p:nvSpPr>
          <p:cNvPr id="1583" name=""/>
          <p:cNvSpPr/>
          <p:nvPr/>
        </p:nvSpPr>
        <p:spPr>
          <a:xfrm>
            <a:off x="4191120" y="1495440"/>
            <a:ext cx="76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1638360" y="484812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191120" y="2273400"/>
            <a:ext cx="99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reles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2933640" y="2065320"/>
            <a:ext cx="1177920" cy="885960"/>
            <a:chOff x="2933640" y="2065320"/>
            <a:chExt cx="1177920" cy="885960"/>
          </a:xfrm>
        </p:grpSpPr>
        <p:sp>
          <p:nvSpPr>
            <p:cNvPr id="1587" name=""/>
            <p:cNvSpPr/>
            <p:nvPr/>
          </p:nvSpPr>
          <p:spPr>
            <a:xfrm>
              <a:off x="2955600" y="2071800"/>
              <a:ext cx="1132200" cy="857160"/>
            </a:xfrm>
            <a:custGeom>
              <a:avLst/>
              <a:gdLst/>
              <a:ahLst/>
              <a:rect l="l" t="t" r="r" b="b"/>
              <a:pathLst>
                <a:path w="15689" h="11880">
                  <a:moveTo>
                    <a:pt x="13256" y="11880"/>
                  </a:moveTo>
                  <a:lnTo>
                    <a:pt x="1486" y="11880"/>
                  </a:lnTo>
                  <a:lnTo>
                    <a:pt x="1530" y="11759"/>
                  </a:lnTo>
                  <a:lnTo>
                    <a:pt x="1568" y="11641"/>
                  </a:lnTo>
                  <a:lnTo>
                    <a:pt x="1601" y="11529"/>
                  </a:lnTo>
                  <a:lnTo>
                    <a:pt x="1627" y="11421"/>
                  </a:lnTo>
                  <a:lnTo>
                    <a:pt x="1647" y="11317"/>
                  </a:lnTo>
                  <a:lnTo>
                    <a:pt x="1661" y="11217"/>
                  </a:lnTo>
                  <a:lnTo>
                    <a:pt x="1669" y="11121"/>
                  </a:lnTo>
                  <a:lnTo>
                    <a:pt x="1671" y="11032"/>
                  </a:lnTo>
                  <a:lnTo>
                    <a:pt x="1667" y="10945"/>
                  </a:lnTo>
                  <a:lnTo>
                    <a:pt x="1658" y="10863"/>
                  </a:lnTo>
                  <a:lnTo>
                    <a:pt x="1643" y="10785"/>
                  </a:lnTo>
                  <a:lnTo>
                    <a:pt x="1622" y="10713"/>
                  </a:lnTo>
                  <a:lnTo>
                    <a:pt x="1596" y="10643"/>
                  </a:lnTo>
                  <a:lnTo>
                    <a:pt x="1564" y="10579"/>
                  </a:lnTo>
                  <a:lnTo>
                    <a:pt x="1526" y="10520"/>
                  </a:lnTo>
                  <a:lnTo>
                    <a:pt x="1484" y="10463"/>
                  </a:lnTo>
                  <a:lnTo>
                    <a:pt x="1436" y="10412"/>
                  </a:lnTo>
                  <a:lnTo>
                    <a:pt x="1382" y="10366"/>
                  </a:lnTo>
                  <a:lnTo>
                    <a:pt x="1323" y="10324"/>
                  </a:lnTo>
                  <a:lnTo>
                    <a:pt x="1259" y="10286"/>
                  </a:lnTo>
                  <a:lnTo>
                    <a:pt x="1190" y="10252"/>
                  </a:lnTo>
                  <a:lnTo>
                    <a:pt x="1116" y="10223"/>
                  </a:lnTo>
                  <a:lnTo>
                    <a:pt x="1037" y="10199"/>
                  </a:lnTo>
                  <a:lnTo>
                    <a:pt x="953" y="10178"/>
                  </a:lnTo>
                  <a:lnTo>
                    <a:pt x="864" y="10162"/>
                  </a:lnTo>
                  <a:lnTo>
                    <a:pt x="770" y="10151"/>
                  </a:lnTo>
                  <a:lnTo>
                    <a:pt x="672" y="10144"/>
                  </a:lnTo>
                  <a:lnTo>
                    <a:pt x="568" y="10141"/>
                  </a:lnTo>
                  <a:lnTo>
                    <a:pt x="461" y="10142"/>
                  </a:lnTo>
                  <a:lnTo>
                    <a:pt x="349" y="10148"/>
                  </a:lnTo>
                  <a:lnTo>
                    <a:pt x="232" y="10158"/>
                  </a:lnTo>
                  <a:lnTo>
                    <a:pt x="110" y="10173"/>
                  </a:lnTo>
                  <a:lnTo>
                    <a:pt x="0" y="2053"/>
                  </a:lnTo>
                  <a:lnTo>
                    <a:pt x="252" y="1813"/>
                  </a:lnTo>
                  <a:lnTo>
                    <a:pt x="487" y="1586"/>
                  </a:lnTo>
                  <a:lnTo>
                    <a:pt x="706" y="1374"/>
                  </a:lnTo>
                  <a:lnTo>
                    <a:pt x="910" y="1176"/>
                  </a:lnTo>
                  <a:lnTo>
                    <a:pt x="1007" y="1083"/>
                  </a:lnTo>
                  <a:lnTo>
                    <a:pt x="1101" y="993"/>
                  </a:lnTo>
                  <a:lnTo>
                    <a:pt x="1192" y="906"/>
                  </a:lnTo>
                  <a:lnTo>
                    <a:pt x="1281" y="824"/>
                  </a:lnTo>
                  <a:lnTo>
                    <a:pt x="1365" y="746"/>
                  </a:lnTo>
                  <a:lnTo>
                    <a:pt x="1448" y="670"/>
                  </a:lnTo>
                  <a:lnTo>
                    <a:pt x="1528" y="600"/>
                  </a:lnTo>
                  <a:lnTo>
                    <a:pt x="1607" y="532"/>
                  </a:lnTo>
                  <a:lnTo>
                    <a:pt x="1684" y="469"/>
                  </a:lnTo>
                  <a:lnTo>
                    <a:pt x="1758" y="409"/>
                  </a:lnTo>
                  <a:lnTo>
                    <a:pt x="1830" y="353"/>
                  </a:lnTo>
                  <a:lnTo>
                    <a:pt x="1902" y="302"/>
                  </a:lnTo>
                  <a:lnTo>
                    <a:pt x="1971" y="254"/>
                  </a:lnTo>
                  <a:lnTo>
                    <a:pt x="2040" y="210"/>
                  </a:lnTo>
                  <a:lnTo>
                    <a:pt x="2108" y="170"/>
                  </a:lnTo>
                  <a:lnTo>
                    <a:pt x="2174" y="136"/>
                  </a:lnTo>
                  <a:lnTo>
                    <a:pt x="2240" y="104"/>
                  </a:lnTo>
                  <a:lnTo>
                    <a:pt x="2305" y="76"/>
                  </a:lnTo>
                  <a:lnTo>
                    <a:pt x="2370" y="53"/>
                  </a:lnTo>
                  <a:lnTo>
                    <a:pt x="2434" y="35"/>
                  </a:lnTo>
                  <a:lnTo>
                    <a:pt x="2500" y="19"/>
                  </a:lnTo>
                  <a:lnTo>
                    <a:pt x="2564" y="9"/>
                  </a:lnTo>
                  <a:lnTo>
                    <a:pt x="2628" y="2"/>
                  </a:lnTo>
                  <a:lnTo>
                    <a:pt x="2695" y="0"/>
                  </a:lnTo>
                  <a:lnTo>
                    <a:pt x="14663" y="0"/>
                  </a:lnTo>
                  <a:lnTo>
                    <a:pt x="14703" y="1"/>
                  </a:lnTo>
                  <a:lnTo>
                    <a:pt x="14742" y="3"/>
                  </a:lnTo>
                  <a:lnTo>
                    <a:pt x="14780" y="5"/>
                  </a:lnTo>
                  <a:lnTo>
                    <a:pt x="14819" y="9"/>
                  </a:lnTo>
                  <a:lnTo>
                    <a:pt x="14857" y="15"/>
                  </a:lnTo>
                  <a:lnTo>
                    <a:pt x="14895" y="21"/>
                  </a:lnTo>
                  <a:lnTo>
                    <a:pt x="14932" y="28"/>
                  </a:lnTo>
                  <a:lnTo>
                    <a:pt x="14969" y="38"/>
                  </a:lnTo>
                  <a:lnTo>
                    <a:pt x="15006" y="47"/>
                  </a:lnTo>
                  <a:lnTo>
                    <a:pt x="15042" y="58"/>
                  </a:lnTo>
                  <a:lnTo>
                    <a:pt x="15077" y="69"/>
                  </a:lnTo>
                  <a:lnTo>
                    <a:pt x="15113" y="83"/>
                  </a:lnTo>
                  <a:lnTo>
                    <a:pt x="15148" y="96"/>
                  </a:lnTo>
                  <a:lnTo>
                    <a:pt x="15181" y="111"/>
                  </a:lnTo>
                  <a:lnTo>
                    <a:pt x="15215" y="127"/>
                  </a:lnTo>
                  <a:lnTo>
                    <a:pt x="15248" y="143"/>
                  </a:lnTo>
                  <a:lnTo>
                    <a:pt x="15280" y="160"/>
                  </a:lnTo>
                  <a:lnTo>
                    <a:pt x="15313" y="180"/>
                  </a:lnTo>
                  <a:lnTo>
                    <a:pt x="15344" y="199"/>
                  </a:lnTo>
                  <a:lnTo>
                    <a:pt x="15374" y="218"/>
                  </a:lnTo>
                  <a:lnTo>
                    <a:pt x="15405" y="240"/>
                  </a:lnTo>
                  <a:lnTo>
                    <a:pt x="15434" y="262"/>
                  </a:lnTo>
                  <a:lnTo>
                    <a:pt x="15463" y="285"/>
                  </a:lnTo>
                  <a:lnTo>
                    <a:pt x="15492" y="308"/>
                  </a:lnTo>
                  <a:lnTo>
                    <a:pt x="15518" y="333"/>
                  </a:lnTo>
                  <a:lnTo>
                    <a:pt x="15545" y="358"/>
                  </a:lnTo>
                  <a:lnTo>
                    <a:pt x="15571" y="384"/>
                  </a:lnTo>
                  <a:lnTo>
                    <a:pt x="15597" y="411"/>
                  </a:lnTo>
                  <a:lnTo>
                    <a:pt x="15620" y="438"/>
                  </a:lnTo>
                  <a:lnTo>
                    <a:pt x="15645" y="466"/>
                  </a:lnTo>
                  <a:lnTo>
                    <a:pt x="15667" y="495"/>
                  </a:lnTo>
                  <a:lnTo>
                    <a:pt x="15689" y="524"/>
                  </a:lnTo>
                  <a:lnTo>
                    <a:pt x="13256" y="11880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062160" y="2922480"/>
              <a:ext cx="850680" cy="12960"/>
            </a:xfrm>
            <a:prstGeom prst="rect">
              <a:avLst/>
            </a:prstGeom>
            <a:solidFill>
              <a:srgbClr val="68c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962080" y="2797200"/>
              <a:ext cx="120600" cy="133200"/>
            </a:xfrm>
            <a:custGeom>
              <a:avLst/>
              <a:gdLst/>
              <a:ahLst/>
              <a:rect l="l" t="t" r="r" b="b"/>
              <a:pathLst>
                <a:path w="1660" h="1859">
                  <a:moveTo>
                    <a:pt x="24" y="207"/>
                  </a:moveTo>
                  <a:lnTo>
                    <a:pt x="83" y="199"/>
                  </a:lnTo>
                  <a:lnTo>
                    <a:pt x="142" y="193"/>
                  </a:lnTo>
                  <a:lnTo>
                    <a:pt x="199" y="188"/>
                  </a:lnTo>
                  <a:lnTo>
                    <a:pt x="256" y="183"/>
                  </a:lnTo>
                  <a:lnTo>
                    <a:pt x="311" y="180"/>
                  </a:lnTo>
                  <a:lnTo>
                    <a:pt x="364" y="177"/>
                  </a:lnTo>
                  <a:lnTo>
                    <a:pt x="417" y="175"/>
                  </a:lnTo>
                  <a:lnTo>
                    <a:pt x="469" y="175"/>
                  </a:lnTo>
                  <a:lnTo>
                    <a:pt x="519" y="177"/>
                  </a:lnTo>
                  <a:lnTo>
                    <a:pt x="568" y="178"/>
                  </a:lnTo>
                  <a:lnTo>
                    <a:pt x="616" y="181"/>
                  </a:lnTo>
                  <a:lnTo>
                    <a:pt x="663" y="185"/>
                  </a:lnTo>
                  <a:lnTo>
                    <a:pt x="708" y="190"/>
                  </a:lnTo>
                  <a:lnTo>
                    <a:pt x="752" y="196"/>
                  </a:lnTo>
                  <a:lnTo>
                    <a:pt x="795" y="203"/>
                  </a:lnTo>
                  <a:lnTo>
                    <a:pt x="837" y="211"/>
                  </a:lnTo>
                  <a:lnTo>
                    <a:pt x="876" y="220"/>
                  </a:lnTo>
                  <a:lnTo>
                    <a:pt x="914" y="230"/>
                  </a:lnTo>
                  <a:lnTo>
                    <a:pt x="952" y="241"/>
                  </a:lnTo>
                  <a:lnTo>
                    <a:pt x="989" y="253"/>
                  </a:lnTo>
                  <a:lnTo>
                    <a:pt x="1022" y="266"/>
                  </a:lnTo>
                  <a:lnTo>
                    <a:pt x="1056" y="280"/>
                  </a:lnTo>
                  <a:lnTo>
                    <a:pt x="1089" y="295"/>
                  </a:lnTo>
                  <a:lnTo>
                    <a:pt x="1118" y="310"/>
                  </a:lnTo>
                  <a:lnTo>
                    <a:pt x="1148" y="327"/>
                  </a:lnTo>
                  <a:lnTo>
                    <a:pt x="1176" y="344"/>
                  </a:lnTo>
                  <a:lnTo>
                    <a:pt x="1203" y="362"/>
                  </a:lnTo>
                  <a:lnTo>
                    <a:pt x="1228" y="382"/>
                  </a:lnTo>
                  <a:lnTo>
                    <a:pt x="1253" y="402"/>
                  </a:lnTo>
                  <a:lnTo>
                    <a:pt x="1275" y="423"/>
                  </a:lnTo>
                  <a:lnTo>
                    <a:pt x="1297" y="445"/>
                  </a:lnTo>
                  <a:lnTo>
                    <a:pt x="1318" y="468"/>
                  </a:lnTo>
                  <a:lnTo>
                    <a:pt x="1338" y="492"/>
                  </a:lnTo>
                  <a:lnTo>
                    <a:pt x="1355" y="517"/>
                  </a:lnTo>
                  <a:lnTo>
                    <a:pt x="1372" y="542"/>
                  </a:lnTo>
                  <a:lnTo>
                    <a:pt x="1389" y="569"/>
                  </a:lnTo>
                  <a:lnTo>
                    <a:pt x="1403" y="596"/>
                  </a:lnTo>
                  <a:lnTo>
                    <a:pt x="1416" y="626"/>
                  </a:lnTo>
                  <a:lnTo>
                    <a:pt x="1428" y="656"/>
                  </a:lnTo>
                  <a:lnTo>
                    <a:pt x="1440" y="687"/>
                  </a:lnTo>
                  <a:lnTo>
                    <a:pt x="1450" y="719"/>
                  </a:lnTo>
                  <a:lnTo>
                    <a:pt x="1458" y="753"/>
                  </a:lnTo>
                  <a:lnTo>
                    <a:pt x="1466" y="787"/>
                  </a:lnTo>
                  <a:lnTo>
                    <a:pt x="1472" y="823"/>
                  </a:lnTo>
                  <a:lnTo>
                    <a:pt x="1477" y="860"/>
                  </a:lnTo>
                  <a:lnTo>
                    <a:pt x="1480" y="899"/>
                  </a:lnTo>
                  <a:lnTo>
                    <a:pt x="1484" y="939"/>
                  </a:lnTo>
                  <a:lnTo>
                    <a:pt x="1485" y="979"/>
                  </a:lnTo>
                  <a:lnTo>
                    <a:pt x="1484" y="1021"/>
                  </a:lnTo>
                  <a:lnTo>
                    <a:pt x="1482" y="1064"/>
                  </a:lnTo>
                  <a:lnTo>
                    <a:pt x="1479" y="1108"/>
                  </a:lnTo>
                  <a:lnTo>
                    <a:pt x="1474" y="1154"/>
                  </a:lnTo>
                  <a:lnTo>
                    <a:pt x="1469" y="1201"/>
                  </a:lnTo>
                  <a:lnTo>
                    <a:pt x="1461" y="1249"/>
                  </a:lnTo>
                  <a:lnTo>
                    <a:pt x="1453" y="1298"/>
                  </a:lnTo>
                  <a:lnTo>
                    <a:pt x="1442" y="1348"/>
                  </a:lnTo>
                  <a:lnTo>
                    <a:pt x="1430" y="1400"/>
                  </a:lnTo>
                  <a:lnTo>
                    <a:pt x="1417" y="1454"/>
                  </a:lnTo>
                  <a:lnTo>
                    <a:pt x="1402" y="1508"/>
                  </a:lnTo>
                  <a:lnTo>
                    <a:pt x="1386" y="1563"/>
                  </a:lnTo>
                  <a:lnTo>
                    <a:pt x="1368" y="1619"/>
                  </a:lnTo>
                  <a:lnTo>
                    <a:pt x="1349" y="1676"/>
                  </a:lnTo>
                  <a:lnTo>
                    <a:pt x="1327" y="1736"/>
                  </a:lnTo>
                  <a:lnTo>
                    <a:pt x="1305" y="1796"/>
                  </a:lnTo>
                  <a:lnTo>
                    <a:pt x="1468" y="1859"/>
                  </a:lnTo>
                  <a:lnTo>
                    <a:pt x="1492" y="1796"/>
                  </a:lnTo>
                  <a:lnTo>
                    <a:pt x="1514" y="1735"/>
                  </a:lnTo>
                  <a:lnTo>
                    <a:pt x="1535" y="1673"/>
                  </a:lnTo>
                  <a:lnTo>
                    <a:pt x="1554" y="1614"/>
                  </a:lnTo>
                  <a:lnTo>
                    <a:pt x="1571" y="1556"/>
                  </a:lnTo>
                  <a:lnTo>
                    <a:pt x="1587" y="1499"/>
                  </a:lnTo>
                  <a:lnTo>
                    <a:pt x="1601" y="1441"/>
                  </a:lnTo>
                  <a:lnTo>
                    <a:pt x="1614" y="1386"/>
                  </a:lnTo>
                  <a:lnTo>
                    <a:pt x="1625" y="1331"/>
                  </a:lnTo>
                  <a:lnTo>
                    <a:pt x="1635" y="1278"/>
                  </a:lnTo>
                  <a:lnTo>
                    <a:pt x="1643" y="1225"/>
                  </a:lnTo>
                  <a:lnTo>
                    <a:pt x="1649" y="1174"/>
                  </a:lnTo>
                  <a:lnTo>
                    <a:pt x="1654" y="1124"/>
                  </a:lnTo>
                  <a:lnTo>
                    <a:pt x="1658" y="1074"/>
                  </a:lnTo>
                  <a:lnTo>
                    <a:pt x="1660" y="1026"/>
                  </a:lnTo>
                  <a:lnTo>
                    <a:pt x="1660" y="977"/>
                  </a:lnTo>
                  <a:lnTo>
                    <a:pt x="1659" y="930"/>
                  </a:lnTo>
                  <a:lnTo>
                    <a:pt x="1656" y="885"/>
                  </a:lnTo>
                  <a:lnTo>
                    <a:pt x="1652" y="841"/>
                  </a:lnTo>
                  <a:lnTo>
                    <a:pt x="1646" y="797"/>
                  </a:lnTo>
                  <a:lnTo>
                    <a:pt x="1639" y="754"/>
                  </a:lnTo>
                  <a:lnTo>
                    <a:pt x="1629" y="712"/>
                  </a:lnTo>
                  <a:lnTo>
                    <a:pt x="1618" y="671"/>
                  </a:lnTo>
                  <a:lnTo>
                    <a:pt x="1606" y="631"/>
                  </a:lnTo>
                  <a:lnTo>
                    <a:pt x="1593" y="593"/>
                  </a:lnTo>
                  <a:lnTo>
                    <a:pt x="1577" y="556"/>
                  </a:lnTo>
                  <a:lnTo>
                    <a:pt x="1560" y="519"/>
                  </a:lnTo>
                  <a:lnTo>
                    <a:pt x="1542" y="484"/>
                  </a:lnTo>
                  <a:lnTo>
                    <a:pt x="1521" y="449"/>
                  </a:lnTo>
                  <a:lnTo>
                    <a:pt x="1500" y="417"/>
                  </a:lnTo>
                  <a:lnTo>
                    <a:pt x="1476" y="385"/>
                  </a:lnTo>
                  <a:lnTo>
                    <a:pt x="1451" y="354"/>
                  </a:lnTo>
                  <a:lnTo>
                    <a:pt x="1425" y="325"/>
                  </a:lnTo>
                  <a:lnTo>
                    <a:pt x="1397" y="297"/>
                  </a:lnTo>
                  <a:lnTo>
                    <a:pt x="1368" y="269"/>
                  </a:lnTo>
                  <a:lnTo>
                    <a:pt x="1337" y="244"/>
                  </a:lnTo>
                  <a:lnTo>
                    <a:pt x="1305" y="220"/>
                  </a:lnTo>
                  <a:lnTo>
                    <a:pt x="1272" y="197"/>
                  </a:lnTo>
                  <a:lnTo>
                    <a:pt x="1238" y="175"/>
                  </a:lnTo>
                  <a:lnTo>
                    <a:pt x="1202" y="155"/>
                  </a:lnTo>
                  <a:lnTo>
                    <a:pt x="1164" y="137"/>
                  </a:lnTo>
                  <a:lnTo>
                    <a:pt x="1126" y="119"/>
                  </a:lnTo>
                  <a:lnTo>
                    <a:pt x="1087" y="102"/>
                  </a:lnTo>
                  <a:lnTo>
                    <a:pt x="1046" y="88"/>
                  </a:lnTo>
                  <a:lnTo>
                    <a:pt x="1004" y="73"/>
                  </a:lnTo>
                  <a:lnTo>
                    <a:pt x="961" y="61"/>
                  </a:lnTo>
                  <a:lnTo>
                    <a:pt x="917" y="50"/>
                  </a:lnTo>
                  <a:lnTo>
                    <a:pt x="872" y="39"/>
                  </a:lnTo>
                  <a:lnTo>
                    <a:pt x="825" y="30"/>
                  </a:lnTo>
                  <a:lnTo>
                    <a:pt x="779" y="22"/>
                  </a:lnTo>
                  <a:lnTo>
                    <a:pt x="730" y="15"/>
                  </a:lnTo>
                  <a:lnTo>
                    <a:pt x="680" y="10"/>
                  </a:lnTo>
                  <a:lnTo>
                    <a:pt x="629" y="6"/>
                  </a:lnTo>
                  <a:lnTo>
                    <a:pt x="578" y="3"/>
                  </a:lnTo>
                  <a:lnTo>
                    <a:pt x="524" y="1"/>
                  </a:lnTo>
                  <a:lnTo>
                    <a:pt x="470" y="0"/>
                  </a:lnTo>
                  <a:lnTo>
                    <a:pt x="415" y="0"/>
                  </a:lnTo>
                  <a:lnTo>
                    <a:pt x="359" y="2"/>
                  </a:lnTo>
                  <a:lnTo>
                    <a:pt x="302" y="4"/>
                  </a:lnTo>
                  <a:lnTo>
                    <a:pt x="244" y="7"/>
                  </a:lnTo>
                  <a:lnTo>
                    <a:pt x="184" y="12"/>
                  </a:lnTo>
                  <a:lnTo>
                    <a:pt x="124" y="18"/>
                  </a:lnTo>
                  <a:lnTo>
                    <a:pt x="62" y="24"/>
                  </a:lnTo>
                  <a:lnTo>
                    <a:pt x="0" y="33"/>
                  </a:lnTo>
                  <a:lnTo>
                    <a:pt x="24" y="207"/>
                  </a:lnTo>
                  <a:close/>
                </a:path>
              </a:pathLst>
            </a:custGeom>
            <a:solidFill>
              <a:srgbClr val="68c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49480" y="2219400"/>
              <a:ext cx="20520" cy="585720"/>
            </a:xfrm>
            <a:custGeom>
              <a:avLst/>
              <a:gdLst/>
              <a:ahLst/>
              <a:rect l="l" t="t" r="r" b="b"/>
              <a:pathLst>
                <a:path w="285" h="8122">
                  <a:moveTo>
                    <a:pt x="0" y="2"/>
                  </a:moveTo>
                  <a:lnTo>
                    <a:pt x="110" y="8122"/>
                  </a:lnTo>
                  <a:lnTo>
                    <a:pt x="285" y="8120"/>
                  </a:lnTo>
                  <a:lnTo>
                    <a:pt x="17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c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50920" y="2065320"/>
              <a:ext cx="198360" cy="158760"/>
            </a:xfrm>
            <a:custGeom>
              <a:avLst/>
              <a:gdLst/>
              <a:ahLst/>
              <a:rect l="l" t="t" r="r" b="b"/>
              <a:pathLst>
                <a:path w="2755" h="2205">
                  <a:moveTo>
                    <a:pt x="2755" y="0"/>
                  </a:moveTo>
                  <a:lnTo>
                    <a:pt x="2719" y="1"/>
                  </a:lnTo>
                  <a:lnTo>
                    <a:pt x="2683" y="2"/>
                  </a:lnTo>
                  <a:lnTo>
                    <a:pt x="2647" y="5"/>
                  </a:lnTo>
                  <a:lnTo>
                    <a:pt x="2613" y="9"/>
                  </a:lnTo>
                  <a:lnTo>
                    <a:pt x="2577" y="15"/>
                  </a:lnTo>
                  <a:lnTo>
                    <a:pt x="2542" y="21"/>
                  </a:lnTo>
                  <a:lnTo>
                    <a:pt x="2508" y="29"/>
                  </a:lnTo>
                  <a:lnTo>
                    <a:pt x="2473" y="37"/>
                  </a:lnTo>
                  <a:lnTo>
                    <a:pt x="2437" y="47"/>
                  </a:lnTo>
                  <a:lnTo>
                    <a:pt x="2403" y="58"/>
                  </a:lnTo>
                  <a:lnTo>
                    <a:pt x="2368" y="69"/>
                  </a:lnTo>
                  <a:lnTo>
                    <a:pt x="2333" y="83"/>
                  </a:lnTo>
                  <a:lnTo>
                    <a:pt x="2299" y="96"/>
                  </a:lnTo>
                  <a:lnTo>
                    <a:pt x="2264" y="111"/>
                  </a:lnTo>
                  <a:lnTo>
                    <a:pt x="2229" y="128"/>
                  </a:lnTo>
                  <a:lnTo>
                    <a:pt x="2194" y="145"/>
                  </a:lnTo>
                  <a:lnTo>
                    <a:pt x="2160" y="163"/>
                  </a:lnTo>
                  <a:lnTo>
                    <a:pt x="2124" y="182"/>
                  </a:lnTo>
                  <a:lnTo>
                    <a:pt x="2089" y="202"/>
                  </a:lnTo>
                  <a:lnTo>
                    <a:pt x="2055" y="224"/>
                  </a:lnTo>
                  <a:lnTo>
                    <a:pt x="2019" y="245"/>
                  </a:lnTo>
                  <a:lnTo>
                    <a:pt x="1983" y="269"/>
                  </a:lnTo>
                  <a:lnTo>
                    <a:pt x="1948" y="293"/>
                  </a:lnTo>
                  <a:lnTo>
                    <a:pt x="1911" y="318"/>
                  </a:lnTo>
                  <a:lnTo>
                    <a:pt x="1875" y="344"/>
                  </a:lnTo>
                  <a:lnTo>
                    <a:pt x="1838" y="371"/>
                  </a:lnTo>
                  <a:lnTo>
                    <a:pt x="1801" y="399"/>
                  </a:lnTo>
                  <a:lnTo>
                    <a:pt x="1764" y="428"/>
                  </a:lnTo>
                  <a:lnTo>
                    <a:pt x="1688" y="488"/>
                  </a:lnTo>
                  <a:lnTo>
                    <a:pt x="1611" y="553"/>
                  </a:lnTo>
                  <a:lnTo>
                    <a:pt x="1531" y="621"/>
                  </a:lnTo>
                  <a:lnTo>
                    <a:pt x="1450" y="693"/>
                  </a:lnTo>
                  <a:lnTo>
                    <a:pt x="1366" y="768"/>
                  </a:lnTo>
                  <a:lnTo>
                    <a:pt x="1280" y="848"/>
                  </a:lnTo>
                  <a:lnTo>
                    <a:pt x="1192" y="931"/>
                  </a:lnTo>
                  <a:lnTo>
                    <a:pt x="1101" y="1017"/>
                  </a:lnTo>
                  <a:lnTo>
                    <a:pt x="1007" y="1107"/>
                  </a:lnTo>
                  <a:lnTo>
                    <a:pt x="909" y="1200"/>
                  </a:lnTo>
                  <a:lnTo>
                    <a:pt x="705" y="1399"/>
                  </a:lnTo>
                  <a:lnTo>
                    <a:pt x="487" y="1611"/>
                  </a:lnTo>
                  <a:lnTo>
                    <a:pt x="252" y="1838"/>
                  </a:lnTo>
                  <a:lnTo>
                    <a:pt x="0" y="2078"/>
                  </a:lnTo>
                  <a:lnTo>
                    <a:pt x="121" y="2205"/>
                  </a:lnTo>
                  <a:lnTo>
                    <a:pt x="373" y="1965"/>
                  </a:lnTo>
                  <a:lnTo>
                    <a:pt x="608" y="1738"/>
                  </a:lnTo>
                  <a:lnTo>
                    <a:pt x="827" y="1525"/>
                  </a:lnTo>
                  <a:lnTo>
                    <a:pt x="1031" y="1327"/>
                  </a:lnTo>
                  <a:lnTo>
                    <a:pt x="1128" y="1234"/>
                  </a:lnTo>
                  <a:lnTo>
                    <a:pt x="1221" y="1144"/>
                  </a:lnTo>
                  <a:lnTo>
                    <a:pt x="1312" y="1058"/>
                  </a:lnTo>
                  <a:lnTo>
                    <a:pt x="1400" y="976"/>
                  </a:lnTo>
                  <a:lnTo>
                    <a:pt x="1484" y="898"/>
                  </a:lnTo>
                  <a:lnTo>
                    <a:pt x="1567" y="823"/>
                  </a:lnTo>
                  <a:lnTo>
                    <a:pt x="1647" y="754"/>
                  </a:lnTo>
                  <a:lnTo>
                    <a:pt x="1724" y="687"/>
                  </a:lnTo>
                  <a:lnTo>
                    <a:pt x="1799" y="624"/>
                  </a:lnTo>
                  <a:lnTo>
                    <a:pt x="1872" y="566"/>
                  </a:lnTo>
                  <a:lnTo>
                    <a:pt x="1908" y="538"/>
                  </a:lnTo>
                  <a:lnTo>
                    <a:pt x="1942" y="512"/>
                  </a:lnTo>
                  <a:lnTo>
                    <a:pt x="1978" y="486"/>
                  </a:lnTo>
                  <a:lnTo>
                    <a:pt x="2012" y="462"/>
                  </a:lnTo>
                  <a:lnTo>
                    <a:pt x="2047" y="438"/>
                  </a:lnTo>
                  <a:lnTo>
                    <a:pt x="2080" y="416"/>
                  </a:lnTo>
                  <a:lnTo>
                    <a:pt x="2113" y="394"/>
                  </a:lnTo>
                  <a:lnTo>
                    <a:pt x="2145" y="374"/>
                  </a:lnTo>
                  <a:lnTo>
                    <a:pt x="2178" y="353"/>
                  </a:lnTo>
                  <a:lnTo>
                    <a:pt x="2211" y="335"/>
                  </a:lnTo>
                  <a:lnTo>
                    <a:pt x="2242" y="318"/>
                  </a:lnTo>
                  <a:lnTo>
                    <a:pt x="2274" y="301"/>
                  </a:lnTo>
                  <a:lnTo>
                    <a:pt x="2305" y="286"/>
                  </a:lnTo>
                  <a:lnTo>
                    <a:pt x="2335" y="272"/>
                  </a:lnTo>
                  <a:lnTo>
                    <a:pt x="2366" y="258"/>
                  </a:lnTo>
                  <a:lnTo>
                    <a:pt x="2396" y="246"/>
                  </a:lnTo>
                  <a:lnTo>
                    <a:pt x="2427" y="235"/>
                  </a:lnTo>
                  <a:lnTo>
                    <a:pt x="2458" y="225"/>
                  </a:lnTo>
                  <a:lnTo>
                    <a:pt x="2487" y="216"/>
                  </a:lnTo>
                  <a:lnTo>
                    <a:pt x="2517" y="207"/>
                  </a:lnTo>
                  <a:lnTo>
                    <a:pt x="2546" y="200"/>
                  </a:lnTo>
                  <a:lnTo>
                    <a:pt x="2576" y="194"/>
                  </a:lnTo>
                  <a:lnTo>
                    <a:pt x="2606" y="188"/>
                  </a:lnTo>
                  <a:lnTo>
                    <a:pt x="2635" y="184"/>
                  </a:lnTo>
                  <a:lnTo>
                    <a:pt x="2665" y="180"/>
                  </a:lnTo>
                  <a:lnTo>
                    <a:pt x="2694" y="178"/>
                  </a:lnTo>
                  <a:lnTo>
                    <a:pt x="2724" y="177"/>
                  </a:lnTo>
                  <a:lnTo>
                    <a:pt x="2755" y="176"/>
                  </a:lnTo>
                  <a:lnTo>
                    <a:pt x="2755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149280" y="2065320"/>
              <a:ext cx="863640" cy="1260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012920" y="2065320"/>
              <a:ext cx="79560" cy="47520"/>
            </a:xfrm>
            <a:custGeom>
              <a:avLst/>
              <a:gdLst/>
              <a:ahLst/>
              <a:rect l="l" t="t" r="r" b="b"/>
              <a:pathLst>
                <a:path w="1097" h="664">
                  <a:moveTo>
                    <a:pt x="1097" y="561"/>
                  </a:moveTo>
                  <a:lnTo>
                    <a:pt x="1073" y="529"/>
                  </a:lnTo>
                  <a:lnTo>
                    <a:pt x="1049" y="499"/>
                  </a:lnTo>
                  <a:lnTo>
                    <a:pt x="1023" y="469"/>
                  </a:lnTo>
                  <a:lnTo>
                    <a:pt x="998" y="439"/>
                  </a:lnTo>
                  <a:lnTo>
                    <a:pt x="970" y="411"/>
                  </a:lnTo>
                  <a:lnTo>
                    <a:pt x="943" y="383"/>
                  </a:lnTo>
                  <a:lnTo>
                    <a:pt x="915" y="357"/>
                  </a:lnTo>
                  <a:lnTo>
                    <a:pt x="886" y="330"/>
                  </a:lnTo>
                  <a:lnTo>
                    <a:pt x="855" y="304"/>
                  </a:lnTo>
                  <a:lnTo>
                    <a:pt x="824" y="280"/>
                  </a:lnTo>
                  <a:lnTo>
                    <a:pt x="793" y="257"/>
                  </a:lnTo>
                  <a:lnTo>
                    <a:pt x="761" y="234"/>
                  </a:lnTo>
                  <a:lnTo>
                    <a:pt x="728" y="213"/>
                  </a:lnTo>
                  <a:lnTo>
                    <a:pt x="695" y="192"/>
                  </a:lnTo>
                  <a:lnTo>
                    <a:pt x="660" y="172"/>
                  </a:lnTo>
                  <a:lnTo>
                    <a:pt x="626" y="153"/>
                  </a:lnTo>
                  <a:lnTo>
                    <a:pt x="590" y="136"/>
                  </a:lnTo>
                  <a:lnTo>
                    <a:pt x="554" y="119"/>
                  </a:lnTo>
                  <a:lnTo>
                    <a:pt x="518" y="103"/>
                  </a:lnTo>
                  <a:lnTo>
                    <a:pt x="481" y="88"/>
                  </a:lnTo>
                  <a:lnTo>
                    <a:pt x="443" y="75"/>
                  </a:lnTo>
                  <a:lnTo>
                    <a:pt x="405" y="62"/>
                  </a:lnTo>
                  <a:lnTo>
                    <a:pt x="366" y="50"/>
                  </a:lnTo>
                  <a:lnTo>
                    <a:pt x="328" y="40"/>
                  </a:lnTo>
                  <a:lnTo>
                    <a:pt x="288" y="31"/>
                  </a:lnTo>
                  <a:lnTo>
                    <a:pt x="248" y="22"/>
                  </a:lnTo>
                  <a:lnTo>
                    <a:pt x="207" y="16"/>
                  </a:lnTo>
                  <a:lnTo>
                    <a:pt x="166" y="10"/>
                  </a:lnTo>
                  <a:lnTo>
                    <a:pt x="126" y="6"/>
                  </a:lnTo>
                  <a:lnTo>
                    <a:pt x="84" y="3"/>
                  </a:lnTo>
                  <a:lnTo>
                    <a:pt x="42" y="1"/>
                  </a:lnTo>
                  <a:lnTo>
                    <a:pt x="0" y="0"/>
                  </a:lnTo>
                  <a:lnTo>
                    <a:pt x="0" y="176"/>
                  </a:lnTo>
                  <a:lnTo>
                    <a:pt x="38" y="177"/>
                  </a:lnTo>
                  <a:lnTo>
                    <a:pt x="74" y="178"/>
                  </a:lnTo>
                  <a:lnTo>
                    <a:pt x="110" y="181"/>
                  </a:lnTo>
                  <a:lnTo>
                    <a:pt x="146" y="185"/>
                  </a:lnTo>
                  <a:lnTo>
                    <a:pt x="182" y="190"/>
                  </a:lnTo>
                  <a:lnTo>
                    <a:pt x="216" y="195"/>
                  </a:lnTo>
                  <a:lnTo>
                    <a:pt x="251" y="202"/>
                  </a:lnTo>
                  <a:lnTo>
                    <a:pt x="286" y="210"/>
                  </a:lnTo>
                  <a:lnTo>
                    <a:pt x="319" y="220"/>
                  </a:lnTo>
                  <a:lnTo>
                    <a:pt x="353" y="230"/>
                  </a:lnTo>
                  <a:lnTo>
                    <a:pt x="386" y="241"/>
                  </a:lnTo>
                  <a:lnTo>
                    <a:pt x="418" y="252"/>
                  </a:lnTo>
                  <a:lnTo>
                    <a:pt x="451" y="266"/>
                  </a:lnTo>
                  <a:lnTo>
                    <a:pt x="483" y="279"/>
                  </a:lnTo>
                  <a:lnTo>
                    <a:pt x="514" y="293"/>
                  </a:lnTo>
                  <a:lnTo>
                    <a:pt x="545" y="310"/>
                  </a:lnTo>
                  <a:lnTo>
                    <a:pt x="575" y="326"/>
                  </a:lnTo>
                  <a:lnTo>
                    <a:pt x="604" y="342"/>
                  </a:lnTo>
                  <a:lnTo>
                    <a:pt x="634" y="361"/>
                  </a:lnTo>
                  <a:lnTo>
                    <a:pt x="662" y="379"/>
                  </a:lnTo>
                  <a:lnTo>
                    <a:pt x="690" y="399"/>
                  </a:lnTo>
                  <a:lnTo>
                    <a:pt x="717" y="420"/>
                  </a:lnTo>
                  <a:lnTo>
                    <a:pt x="745" y="441"/>
                  </a:lnTo>
                  <a:lnTo>
                    <a:pt x="770" y="463"/>
                  </a:lnTo>
                  <a:lnTo>
                    <a:pt x="796" y="485"/>
                  </a:lnTo>
                  <a:lnTo>
                    <a:pt x="821" y="509"/>
                  </a:lnTo>
                  <a:lnTo>
                    <a:pt x="845" y="533"/>
                  </a:lnTo>
                  <a:lnTo>
                    <a:pt x="868" y="558"/>
                  </a:lnTo>
                  <a:lnTo>
                    <a:pt x="892" y="583"/>
                  </a:lnTo>
                  <a:lnTo>
                    <a:pt x="913" y="610"/>
                  </a:lnTo>
                  <a:lnTo>
                    <a:pt x="935" y="636"/>
                  </a:lnTo>
                  <a:lnTo>
                    <a:pt x="955" y="664"/>
                  </a:lnTo>
                  <a:lnTo>
                    <a:pt x="1097" y="56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912840" y="2109960"/>
              <a:ext cx="192240" cy="819000"/>
            </a:xfrm>
            <a:custGeom>
              <a:avLst/>
              <a:gdLst/>
              <a:ahLst/>
              <a:rect l="l" t="t" r="r" b="b"/>
              <a:pathLst>
                <a:path w="2673" h="11356">
                  <a:moveTo>
                    <a:pt x="2433" y="0"/>
                  </a:moveTo>
                  <a:lnTo>
                    <a:pt x="2461" y="40"/>
                  </a:lnTo>
                  <a:lnTo>
                    <a:pt x="2487" y="81"/>
                  </a:lnTo>
                  <a:lnTo>
                    <a:pt x="2511" y="123"/>
                  </a:lnTo>
                  <a:lnTo>
                    <a:pt x="2535" y="165"/>
                  </a:lnTo>
                  <a:lnTo>
                    <a:pt x="2556" y="209"/>
                  </a:lnTo>
                  <a:lnTo>
                    <a:pt x="2575" y="254"/>
                  </a:lnTo>
                  <a:lnTo>
                    <a:pt x="2594" y="299"/>
                  </a:lnTo>
                  <a:lnTo>
                    <a:pt x="2610" y="346"/>
                  </a:lnTo>
                  <a:lnTo>
                    <a:pt x="2624" y="393"/>
                  </a:lnTo>
                  <a:lnTo>
                    <a:pt x="2637" y="441"/>
                  </a:lnTo>
                  <a:lnTo>
                    <a:pt x="2648" y="490"/>
                  </a:lnTo>
                  <a:lnTo>
                    <a:pt x="2657" y="539"/>
                  </a:lnTo>
                  <a:lnTo>
                    <a:pt x="2664" y="589"/>
                  </a:lnTo>
                  <a:lnTo>
                    <a:pt x="2669" y="641"/>
                  </a:lnTo>
                  <a:lnTo>
                    <a:pt x="2671" y="666"/>
                  </a:lnTo>
                  <a:lnTo>
                    <a:pt x="2672" y="692"/>
                  </a:lnTo>
                  <a:lnTo>
                    <a:pt x="2673" y="717"/>
                  </a:lnTo>
                  <a:lnTo>
                    <a:pt x="2673" y="744"/>
                  </a:lnTo>
                  <a:lnTo>
                    <a:pt x="2673" y="8769"/>
                  </a:lnTo>
                  <a:lnTo>
                    <a:pt x="2672" y="8834"/>
                  </a:lnTo>
                  <a:lnTo>
                    <a:pt x="2670" y="8898"/>
                  </a:lnTo>
                  <a:lnTo>
                    <a:pt x="2665" y="8961"/>
                  </a:lnTo>
                  <a:lnTo>
                    <a:pt x="2659" y="9024"/>
                  </a:lnTo>
                  <a:lnTo>
                    <a:pt x="2649" y="9086"/>
                  </a:lnTo>
                  <a:lnTo>
                    <a:pt x="2638" y="9148"/>
                  </a:lnTo>
                  <a:lnTo>
                    <a:pt x="2622" y="9210"/>
                  </a:lnTo>
                  <a:lnTo>
                    <a:pt x="2604" y="9271"/>
                  </a:lnTo>
                  <a:lnTo>
                    <a:pt x="2581" y="9334"/>
                  </a:lnTo>
                  <a:lnTo>
                    <a:pt x="2556" y="9396"/>
                  </a:lnTo>
                  <a:lnTo>
                    <a:pt x="2526" y="9459"/>
                  </a:lnTo>
                  <a:lnTo>
                    <a:pt x="2493" y="9524"/>
                  </a:lnTo>
                  <a:lnTo>
                    <a:pt x="2454" y="9589"/>
                  </a:lnTo>
                  <a:lnTo>
                    <a:pt x="2410" y="9655"/>
                  </a:lnTo>
                  <a:lnTo>
                    <a:pt x="2362" y="9724"/>
                  </a:lnTo>
                  <a:lnTo>
                    <a:pt x="2308" y="9793"/>
                  </a:lnTo>
                  <a:lnTo>
                    <a:pt x="2249" y="9865"/>
                  </a:lnTo>
                  <a:lnTo>
                    <a:pt x="2184" y="9938"/>
                  </a:lnTo>
                  <a:lnTo>
                    <a:pt x="2112" y="10014"/>
                  </a:lnTo>
                  <a:lnTo>
                    <a:pt x="2035" y="10092"/>
                  </a:lnTo>
                  <a:lnTo>
                    <a:pt x="1950" y="10172"/>
                  </a:lnTo>
                  <a:lnTo>
                    <a:pt x="1859" y="10256"/>
                  </a:lnTo>
                  <a:lnTo>
                    <a:pt x="1760" y="10342"/>
                  </a:lnTo>
                  <a:lnTo>
                    <a:pt x="1655" y="10432"/>
                  </a:lnTo>
                  <a:lnTo>
                    <a:pt x="1541" y="10525"/>
                  </a:lnTo>
                  <a:lnTo>
                    <a:pt x="1420" y="10621"/>
                  </a:lnTo>
                  <a:lnTo>
                    <a:pt x="1291" y="10721"/>
                  </a:lnTo>
                  <a:lnTo>
                    <a:pt x="1153" y="10824"/>
                  </a:lnTo>
                  <a:lnTo>
                    <a:pt x="1006" y="10933"/>
                  </a:lnTo>
                  <a:lnTo>
                    <a:pt x="851" y="11045"/>
                  </a:lnTo>
                  <a:lnTo>
                    <a:pt x="687" y="11161"/>
                  </a:lnTo>
                  <a:lnTo>
                    <a:pt x="512" y="11283"/>
                  </a:lnTo>
                  <a:lnTo>
                    <a:pt x="0" y="11356"/>
                  </a:lnTo>
                  <a:lnTo>
                    <a:pt x="220" y="1676"/>
                  </a:lnTo>
                  <a:lnTo>
                    <a:pt x="2433" y="0"/>
                  </a:lnTo>
                  <a:close/>
                </a:path>
              </a:pathLst>
            </a:custGeom>
            <a:solidFill>
              <a:srgbClr val="07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082760" y="2104920"/>
              <a:ext cx="28800" cy="58680"/>
            </a:xfrm>
            <a:custGeom>
              <a:avLst/>
              <a:gdLst/>
              <a:ahLst/>
              <a:rect l="l" t="t" r="r" b="b"/>
              <a:pathLst>
                <a:path w="399" h="795">
                  <a:moveTo>
                    <a:pt x="399" y="795"/>
                  </a:moveTo>
                  <a:lnTo>
                    <a:pt x="399" y="767"/>
                  </a:lnTo>
                  <a:lnTo>
                    <a:pt x="398" y="740"/>
                  </a:lnTo>
                  <a:lnTo>
                    <a:pt x="396" y="712"/>
                  </a:lnTo>
                  <a:lnTo>
                    <a:pt x="394" y="683"/>
                  </a:lnTo>
                  <a:lnTo>
                    <a:pt x="389" y="630"/>
                  </a:lnTo>
                  <a:lnTo>
                    <a:pt x="382" y="577"/>
                  </a:lnTo>
                  <a:lnTo>
                    <a:pt x="371" y="524"/>
                  </a:lnTo>
                  <a:lnTo>
                    <a:pt x="360" y="472"/>
                  </a:lnTo>
                  <a:lnTo>
                    <a:pt x="347" y="421"/>
                  </a:lnTo>
                  <a:lnTo>
                    <a:pt x="331" y="370"/>
                  </a:lnTo>
                  <a:lnTo>
                    <a:pt x="313" y="320"/>
                  </a:lnTo>
                  <a:lnTo>
                    <a:pt x="294" y="272"/>
                  </a:lnTo>
                  <a:lnTo>
                    <a:pt x="274" y="224"/>
                  </a:lnTo>
                  <a:lnTo>
                    <a:pt x="250" y="177"/>
                  </a:lnTo>
                  <a:lnTo>
                    <a:pt x="226" y="131"/>
                  </a:lnTo>
                  <a:lnTo>
                    <a:pt x="200" y="87"/>
                  </a:lnTo>
                  <a:lnTo>
                    <a:pt x="171" y="43"/>
                  </a:lnTo>
                  <a:lnTo>
                    <a:pt x="142" y="0"/>
                  </a:lnTo>
                  <a:lnTo>
                    <a:pt x="0" y="103"/>
                  </a:lnTo>
                  <a:lnTo>
                    <a:pt x="26" y="140"/>
                  </a:lnTo>
                  <a:lnTo>
                    <a:pt x="50" y="178"/>
                  </a:lnTo>
                  <a:lnTo>
                    <a:pt x="73" y="216"/>
                  </a:lnTo>
                  <a:lnTo>
                    <a:pt x="94" y="256"/>
                  </a:lnTo>
                  <a:lnTo>
                    <a:pt x="114" y="297"/>
                  </a:lnTo>
                  <a:lnTo>
                    <a:pt x="133" y="339"/>
                  </a:lnTo>
                  <a:lnTo>
                    <a:pt x="149" y="381"/>
                  </a:lnTo>
                  <a:lnTo>
                    <a:pt x="164" y="425"/>
                  </a:lnTo>
                  <a:lnTo>
                    <a:pt x="178" y="469"/>
                  </a:lnTo>
                  <a:lnTo>
                    <a:pt x="190" y="513"/>
                  </a:lnTo>
                  <a:lnTo>
                    <a:pt x="200" y="559"/>
                  </a:lnTo>
                  <a:lnTo>
                    <a:pt x="208" y="605"/>
                  </a:lnTo>
                  <a:lnTo>
                    <a:pt x="214" y="651"/>
                  </a:lnTo>
                  <a:lnTo>
                    <a:pt x="219" y="699"/>
                  </a:lnTo>
                  <a:lnTo>
                    <a:pt x="221" y="722"/>
                  </a:lnTo>
                  <a:lnTo>
                    <a:pt x="222" y="746"/>
                  </a:lnTo>
                  <a:lnTo>
                    <a:pt x="222" y="770"/>
                  </a:lnTo>
                  <a:lnTo>
                    <a:pt x="224" y="795"/>
                  </a:lnTo>
                  <a:lnTo>
                    <a:pt x="399" y="79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098600" y="2163600"/>
              <a:ext cx="12960" cy="57816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46320" y="2741760"/>
              <a:ext cx="165240" cy="187200"/>
            </a:xfrm>
            <a:custGeom>
              <a:avLst/>
              <a:gdLst/>
              <a:ahLst/>
              <a:rect l="l" t="t" r="r" b="b"/>
              <a:pathLst>
                <a:path w="2299" h="2586">
                  <a:moveTo>
                    <a:pt x="100" y="2586"/>
                  </a:moveTo>
                  <a:lnTo>
                    <a:pt x="275" y="2464"/>
                  </a:lnTo>
                  <a:lnTo>
                    <a:pt x="440" y="2347"/>
                  </a:lnTo>
                  <a:lnTo>
                    <a:pt x="596" y="2234"/>
                  </a:lnTo>
                  <a:lnTo>
                    <a:pt x="743" y="2126"/>
                  </a:lnTo>
                  <a:lnTo>
                    <a:pt x="882" y="2021"/>
                  </a:lnTo>
                  <a:lnTo>
                    <a:pt x="1011" y="1921"/>
                  </a:lnTo>
                  <a:lnTo>
                    <a:pt x="1074" y="1872"/>
                  </a:lnTo>
                  <a:lnTo>
                    <a:pt x="1134" y="1823"/>
                  </a:lnTo>
                  <a:lnTo>
                    <a:pt x="1192" y="1776"/>
                  </a:lnTo>
                  <a:lnTo>
                    <a:pt x="1248" y="1730"/>
                  </a:lnTo>
                  <a:lnTo>
                    <a:pt x="1303" y="1684"/>
                  </a:lnTo>
                  <a:lnTo>
                    <a:pt x="1355" y="1639"/>
                  </a:lnTo>
                  <a:lnTo>
                    <a:pt x="1406" y="1595"/>
                  </a:lnTo>
                  <a:lnTo>
                    <a:pt x="1455" y="1553"/>
                  </a:lnTo>
                  <a:lnTo>
                    <a:pt x="1502" y="1510"/>
                  </a:lnTo>
                  <a:lnTo>
                    <a:pt x="1547" y="1468"/>
                  </a:lnTo>
                  <a:lnTo>
                    <a:pt x="1591" y="1427"/>
                  </a:lnTo>
                  <a:lnTo>
                    <a:pt x="1634" y="1386"/>
                  </a:lnTo>
                  <a:lnTo>
                    <a:pt x="1674" y="1345"/>
                  </a:lnTo>
                  <a:lnTo>
                    <a:pt x="1712" y="1306"/>
                  </a:lnTo>
                  <a:lnTo>
                    <a:pt x="1750" y="1267"/>
                  </a:lnTo>
                  <a:lnTo>
                    <a:pt x="1786" y="1229"/>
                  </a:lnTo>
                  <a:lnTo>
                    <a:pt x="1821" y="1191"/>
                  </a:lnTo>
                  <a:lnTo>
                    <a:pt x="1853" y="1153"/>
                  </a:lnTo>
                  <a:lnTo>
                    <a:pt x="1884" y="1116"/>
                  </a:lnTo>
                  <a:lnTo>
                    <a:pt x="1914" y="1080"/>
                  </a:lnTo>
                  <a:lnTo>
                    <a:pt x="1943" y="1043"/>
                  </a:lnTo>
                  <a:lnTo>
                    <a:pt x="1970" y="1007"/>
                  </a:lnTo>
                  <a:lnTo>
                    <a:pt x="1996" y="971"/>
                  </a:lnTo>
                  <a:lnTo>
                    <a:pt x="2020" y="937"/>
                  </a:lnTo>
                  <a:lnTo>
                    <a:pt x="2044" y="901"/>
                  </a:lnTo>
                  <a:lnTo>
                    <a:pt x="2066" y="867"/>
                  </a:lnTo>
                  <a:lnTo>
                    <a:pt x="2087" y="832"/>
                  </a:lnTo>
                  <a:lnTo>
                    <a:pt x="2107" y="798"/>
                  </a:lnTo>
                  <a:lnTo>
                    <a:pt x="2126" y="764"/>
                  </a:lnTo>
                  <a:lnTo>
                    <a:pt x="2143" y="730"/>
                  </a:lnTo>
                  <a:lnTo>
                    <a:pt x="2159" y="696"/>
                  </a:lnTo>
                  <a:lnTo>
                    <a:pt x="2175" y="663"/>
                  </a:lnTo>
                  <a:lnTo>
                    <a:pt x="2188" y="629"/>
                  </a:lnTo>
                  <a:lnTo>
                    <a:pt x="2202" y="596"/>
                  </a:lnTo>
                  <a:lnTo>
                    <a:pt x="2213" y="563"/>
                  </a:lnTo>
                  <a:lnTo>
                    <a:pt x="2226" y="530"/>
                  </a:lnTo>
                  <a:lnTo>
                    <a:pt x="2236" y="496"/>
                  </a:lnTo>
                  <a:lnTo>
                    <a:pt x="2245" y="464"/>
                  </a:lnTo>
                  <a:lnTo>
                    <a:pt x="2253" y="431"/>
                  </a:lnTo>
                  <a:lnTo>
                    <a:pt x="2261" y="397"/>
                  </a:lnTo>
                  <a:lnTo>
                    <a:pt x="2267" y="364"/>
                  </a:lnTo>
                  <a:lnTo>
                    <a:pt x="2273" y="332"/>
                  </a:lnTo>
                  <a:lnTo>
                    <a:pt x="2279" y="299"/>
                  </a:lnTo>
                  <a:lnTo>
                    <a:pt x="2284" y="265"/>
                  </a:lnTo>
                  <a:lnTo>
                    <a:pt x="2287" y="233"/>
                  </a:lnTo>
                  <a:lnTo>
                    <a:pt x="2291" y="200"/>
                  </a:lnTo>
                  <a:lnTo>
                    <a:pt x="2293" y="167"/>
                  </a:lnTo>
                  <a:lnTo>
                    <a:pt x="2295" y="134"/>
                  </a:lnTo>
                  <a:lnTo>
                    <a:pt x="2298" y="67"/>
                  </a:lnTo>
                  <a:lnTo>
                    <a:pt x="2299" y="0"/>
                  </a:lnTo>
                  <a:lnTo>
                    <a:pt x="2124" y="0"/>
                  </a:lnTo>
                  <a:lnTo>
                    <a:pt x="2122" y="63"/>
                  </a:lnTo>
                  <a:lnTo>
                    <a:pt x="2120" y="125"/>
                  </a:lnTo>
                  <a:lnTo>
                    <a:pt x="2118" y="155"/>
                  </a:lnTo>
                  <a:lnTo>
                    <a:pt x="2116" y="185"/>
                  </a:lnTo>
                  <a:lnTo>
                    <a:pt x="2113" y="214"/>
                  </a:lnTo>
                  <a:lnTo>
                    <a:pt x="2109" y="244"/>
                  </a:lnTo>
                  <a:lnTo>
                    <a:pt x="2105" y="272"/>
                  </a:lnTo>
                  <a:lnTo>
                    <a:pt x="2101" y="302"/>
                  </a:lnTo>
                  <a:lnTo>
                    <a:pt x="2095" y="332"/>
                  </a:lnTo>
                  <a:lnTo>
                    <a:pt x="2089" y="360"/>
                  </a:lnTo>
                  <a:lnTo>
                    <a:pt x="2083" y="389"/>
                  </a:lnTo>
                  <a:lnTo>
                    <a:pt x="2076" y="418"/>
                  </a:lnTo>
                  <a:lnTo>
                    <a:pt x="2067" y="447"/>
                  </a:lnTo>
                  <a:lnTo>
                    <a:pt x="2058" y="475"/>
                  </a:lnTo>
                  <a:lnTo>
                    <a:pt x="2048" y="504"/>
                  </a:lnTo>
                  <a:lnTo>
                    <a:pt x="2038" y="533"/>
                  </a:lnTo>
                  <a:lnTo>
                    <a:pt x="2027" y="563"/>
                  </a:lnTo>
                  <a:lnTo>
                    <a:pt x="2013" y="592"/>
                  </a:lnTo>
                  <a:lnTo>
                    <a:pt x="2000" y="622"/>
                  </a:lnTo>
                  <a:lnTo>
                    <a:pt x="1986" y="651"/>
                  </a:lnTo>
                  <a:lnTo>
                    <a:pt x="1970" y="682"/>
                  </a:lnTo>
                  <a:lnTo>
                    <a:pt x="1954" y="712"/>
                  </a:lnTo>
                  <a:lnTo>
                    <a:pt x="1936" y="742"/>
                  </a:lnTo>
                  <a:lnTo>
                    <a:pt x="1917" y="774"/>
                  </a:lnTo>
                  <a:lnTo>
                    <a:pt x="1897" y="806"/>
                  </a:lnTo>
                  <a:lnTo>
                    <a:pt x="1876" y="837"/>
                  </a:lnTo>
                  <a:lnTo>
                    <a:pt x="1853" y="870"/>
                  </a:lnTo>
                  <a:lnTo>
                    <a:pt x="1830" y="903"/>
                  </a:lnTo>
                  <a:lnTo>
                    <a:pt x="1804" y="935"/>
                  </a:lnTo>
                  <a:lnTo>
                    <a:pt x="1778" y="969"/>
                  </a:lnTo>
                  <a:lnTo>
                    <a:pt x="1750" y="1004"/>
                  </a:lnTo>
                  <a:lnTo>
                    <a:pt x="1719" y="1039"/>
                  </a:lnTo>
                  <a:lnTo>
                    <a:pt x="1689" y="1073"/>
                  </a:lnTo>
                  <a:lnTo>
                    <a:pt x="1656" y="1110"/>
                  </a:lnTo>
                  <a:lnTo>
                    <a:pt x="1623" y="1147"/>
                  </a:lnTo>
                  <a:lnTo>
                    <a:pt x="1587" y="1184"/>
                  </a:lnTo>
                  <a:lnTo>
                    <a:pt x="1549" y="1222"/>
                  </a:lnTo>
                  <a:lnTo>
                    <a:pt x="1510" y="1260"/>
                  </a:lnTo>
                  <a:lnTo>
                    <a:pt x="1471" y="1299"/>
                  </a:lnTo>
                  <a:lnTo>
                    <a:pt x="1428" y="1339"/>
                  </a:lnTo>
                  <a:lnTo>
                    <a:pt x="1384" y="1380"/>
                  </a:lnTo>
                  <a:lnTo>
                    <a:pt x="1338" y="1422"/>
                  </a:lnTo>
                  <a:lnTo>
                    <a:pt x="1291" y="1464"/>
                  </a:lnTo>
                  <a:lnTo>
                    <a:pt x="1241" y="1507"/>
                  </a:lnTo>
                  <a:lnTo>
                    <a:pt x="1190" y="1551"/>
                  </a:lnTo>
                  <a:lnTo>
                    <a:pt x="1137" y="1595"/>
                  </a:lnTo>
                  <a:lnTo>
                    <a:pt x="1081" y="1640"/>
                  </a:lnTo>
                  <a:lnTo>
                    <a:pt x="1025" y="1687"/>
                  </a:lnTo>
                  <a:lnTo>
                    <a:pt x="965" y="1734"/>
                  </a:lnTo>
                  <a:lnTo>
                    <a:pt x="904" y="1782"/>
                  </a:lnTo>
                  <a:lnTo>
                    <a:pt x="776" y="1882"/>
                  </a:lnTo>
                  <a:lnTo>
                    <a:pt x="639" y="1985"/>
                  </a:lnTo>
                  <a:lnTo>
                    <a:pt x="493" y="2093"/>
                  </a:lnTo>
                  <a:lnTo>
                    <a:pt x="338" y="2204"/>
                  </a:lnTo>
                  <a:lnTo>
                    <a:pt x="174" y="2321"/>
                  </a:lnTo>
                  <a:lnTo>
                    <a:pt x="0" y="2441"/>
                  </a:lnTo>
                  <a:lnTo>
                    <a:pt x="100" y="258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904920" y="2917800"/>
              <a:ext cx="44640" cy="19080"/>
            </a:xfrm>
            <a:custGeom>
              <a:avLst/>
              <a:gdLst/>
              <a:ahLst/>
              <a:rect l="l" t="t" r="r" b="b"/>
              <a:pathLst>
                <a:path w="615" h="262">
                  <a:moveTo>
                    <a:pt x="2" y="158"/>
                  </a:moveTo>
                  <a:lnTo>
                    <a:pt x="102" y="247"/>
                  </a:lnTo>
                  <a:lnTo>
                    <a:pt x="615" y="174"/>
                  </a:lnTo>
                  <a:lnTo>
                    <a:pt x="590" y="0"/>
                  </a:lnTo>
                  <a:lnTo>
                    <a:pt x="78" y="73"/>
                  </a:lnTo>
                  <a:lnTo>
                    <a:pt x="2" y="158"/>
                  </a:lnTo>
                  <a:lnTo>
                    <a:pt x="2" y="158"/>
                  </a:lnTo>
                  <a:lnTo>
                    <a:pt x="0" y="262"/>
                  </a:lnTo>
                  <a:lnTo>
                    <a:pt x="102" y="247"/>
                  </a:lnTo>
                  <a:lnTo>
                    <a:pt x="2" y="158"/>
                  </a:lnTo>
                  <a:close/>
                </a:path>
              </a:pathLst>
            </a:custGeom>
            <a:solidFill>
              <a:srgbClr val="68c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906720" y="2230560"/>
              <a:ext cx="27000" cy="698400"/>
            </a:xfrm>
            <a:custGeom>
              <a:avLst/>
              <a:gdLst/>
              <a:ahLst/>
              <a:rect l="l" t="t" r="r" b="b"/>
              <a:pathLst>
                <a:path w="395" h="9684">
                  <a:moveTo>
                    <a:pt x="220" y="0"/>
                  </a:moveTo>
                  <a:lnTo>
                    <a:pt x="0" y="9680"/>
                  </a:lnTo>
                  <a:lnTo>
                    <a:pt x="176" y="9684"/>
                  </a:lnTo>
                  <a:lnTo>
                    <a:pt x="395" y="3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68c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39760" y="2182680"/>
              <a:ext cx="1046160" cy="762120"/>
            </a:xfrm>
            <a:custGeom>
              <a:avLst/>
              <a:gdLst/>
              <a:ahLst/>
              <a:rect l="l" t="t" r="r" b="b"/>
              <a:pathLst>
                <a:path w="14501" h="10560">
                  <a:moveTo>
                    <a:pt x="14262" y="528"/>
                  </a:moveTo>
                  <a:lnTo>
                    <a:pt x="14289" y="567"/>
                  </a:lnTo>
                  <a:lnTo>
                    <a:pt x="14315" y="607"/>
                  </a:lnTo>
                  <a:lnTo>
                    <a:pt x="14339" y="649"/>
                  </a:lnTo>
                  <a:lnTo>
                    <a:pt x="14363" y="692"/>
                  </a:lnTo>
                  <a:lnTo>
                    <a:pt x="14384" y="736"/>
                  </a:lnTo>
                  <a:lnTo>
                    <a:pt x="14404" y="780"/>
                  </a:lnTo>
                  <a:lnTo>
                    <a:pt x="14421" y="826"/>
                  </a:lnTo>
                  <a:lnTo>
                    <a:pt x="14437" y="872"/>
                  </a:lnTo>
                  <a:lnTo>
                    <a:pt x="14452" y="919"/>
                  </a:lnTo>
                  <a:lnTo>
                    <a:pt x="14465" y="967"/>
                  </a:lnTo>
                  <a:lnTo>
                    <a:pt x="14475" y="1015"/>
                  </a:lnTo>
                  <a:lnTo>
                    <a:pt x="14484" y="1064"/>
                  </a:lnTo>
                  <a:lnTo>
                    <a:pt x="14491" y="1114"/>
                  </a:lnTo>
                  <a:lnTo>
                    <a:pt x="14496" y="1165"/>
                  </a:lnTo>
                  <a:lnTo>
                    <a:pt x="14497" y="1191"/>
                  </a:lnTo>
                  <a:lnTo>
                    <a:pt x="14500" y="1216"/>
                  </a:lnTo>
                  <a:lnTo>
                    <a:pt x="14500" y="1242"/>
                  </a:lnTo>
                  <a:lnTo>
                    <a:pt x="14501" y="1267"/>
                  </a:lnTo>
                  <a:lnTo>
                    <a:pt x="14501" y="9293"/>
                  </a:lnTo>
                  <a:lnTo>
                    <a:pt x="14499" y="9359"/>
                  </a:lnTo>
                  <a:lnTo>
                    <a:pt x="14493" y="9423"/>
                  </a:lnTo>
                  <a:lnTo>
                    <a:pt x="14485" y="9486"/>
                  </a:lnTo>
                  <a:lnTo>
                    <a:pt x="14475" y="9549"/>
                  </a:lnTo>
                  <a:lnTo>
                    <a:pt x="14461" y="9610"/>
                  </a:lnTo>
                  <a:lnTo>
                    <a:pt x="14443" y="9670"/>
                  </a:lnTo>
                  <a:lnTo>
                    <a:pt x="14423" y="9729"/>
                  </a:lnTo>
                  <a:lnTo>
                    <a:pt x="14401" y="9786"/>
                  </a:lnTo>
                  <a:lnTo>
                    <a:pt x="14375" y="9842"/>
                  </a:lnTo>
                  <a:lnTo>
                    <a:pt x="14348" y="9897"/>
                  </a:lnTo>
                  <a:lnTo>
                    <a:pt x="14317" y="9950"/>
                  </a:lnTo>
                  <a:lnTo>
                    <a:pt x="14284" y="10001"/>
                  </a:lnTo>
                  <a:lnTo>
                    <a:pt x="14249" y="10051"/>
                  </a:lnTo>
                  <a:lnTo>
                    <a:pt x="14211" y="10099"/>
                  </a:lnTo>
                  <a:lnTo>
                    <a:pt x="14171" y="10145"/>
                  </a:lnTo>
                  <a:lnTo>
                    <a:pt x="14129" y="10189"/>
                  </a:lnTo>
                  <a:lnTo>
                    <a:pt x="14085" y="10231"/>
                  </a:lnTo>
                  <a:lnTo>
                    <a:pt x="14039" y="10271"/>
                  </a:lnTo>
                  <a:lnTo>
                    <a:pt x="13991" y="10309"/>
                  </a:lnTo>
                  <a:lnTo>
                    <a:pt x="13942" y="10344"/>
                  </a:lnTo>
                  <a:lnTo>
                    <a:pt x="13890" y="10376"/>
                  </a:lnTo>
                  <a:lnTo>
                    <a:pt x="13837" y="10407"/>
                  </a:lnTo>
                  <a:lnTo>
                    <a:pt x="13783" y="10435"/>
                  </a:lnTo>
                  <a:lnTo>
                    <a:pt x="13727" y="10460"/>
                  </a:lnTo>
                  <a:lnTo>
                    <a:pt x="13670" y="10484"/>
                  </a:lnTo>
                  <a:lnTo>
                    <a:pt x="13611" y="10503"/>
                  </a:lnTo>
                  <a:lnTo>
                    <a:pt x="13551" y="10520"/>
                  </a:lnTo>
                  <a:lnTo>
                    <a:pt x="13489" y="10535"/>
                  </a:lnTo>
                  <a:lnTo>
                    <a:pt x="13427" y="10546"/>
                  </a:lnTo>
                  <a:lnTo>
                    <a:pt x="13364" y="10554"/>
                  </a:lnTo>
                  <a:lnTo>
                    <a:pt x="13300" y="10558"/>
                  </a:lnTo>
                  <a:lnTo>
                    <a:pt x="13234" y="10560"/>
                  </a:lnTo>
                  <a:lnTo>
                    <a:pt x="1265" y="10560"/>
                  </a:lnTo>
                  <a:lnTo>
                    <a:pt x="1201" y="10558"/>
                  </a:lnTo>
                  <a:lnTo>
                    <a:pt x="1136" y="10554"/>
                  </a:lnTo>
                  <a:lnTo>
                    <a:pt x="1072" y="10546"/>
                  </a:lnTo>
                  <a:lnTo>
                    <a:pt x="1010" y="10535"/>
                  </a:lnTo>
                  <a:lnTo>
                    <a:pt x="949" y="10520"/>
                  </a:lnTo>
                  <a:lnTo>
                    <a:pt x="889" y="10503"/>
                  </a:lnTo>
                  <a:lnTo>
                    <a:pt x="830" y="10484"/>
                  </a:lnTo>
                  <a:lnTo>
                    <a:pt x="773" y="10460"/>
                  </a:lnTo>
                  <a:lnTo>
                    <a:pt x="717" y="10435"/>
                  </a:lnTo>
                  <a:lnTo>
                    <a:pt x="662" y="10407"/>
                  </a:lnTo>
                  <a:lnTo>
                    <a:pt x="609" y="10376"/>
                  </a:lnTo>
                  <a:lnTo>
                    <a:pt x="558" y="10344"/>
                  </a:lnTo>
                  <a:lnTo>
                    <a:pt x="508" y="10309"/>
                  </a:lnTo>
                  <a:lnTo>
                    <a:pt x="461" y="10271"/>
                  </a:lnTo>
                  <a:lnTo>
                    <a:pt x="414" y="10231"/>
                  </a:lnTo>
                  <a:lnTo>
                    <a:pt x="370" y="10189"/>
                  </a:lnTo>
                  <a:lnTo>
                    <a:pt x="328" y="10145"/>
                  </a:lnTo>
                  <a:lnTo>
                    <a:pt x="288" y="10099"/>
                  </a:lnTo>
                  <a:lnTo>
                    <a:pt x="252" y="10051"/>
                  </a:lnTo>
                  <a:lnTo>
                    <a:pt x="216" y="10001"/>
                  </a:lnTo>
                  <a:lnTo>
                    <a:pt x="183" y="9950"/>
                  </a:lnTo>
                  <a:lnTo>
                    <a:pt x="153" y="9897"/>
                  </a:lnTo>
                  <a:lnTo>
                    <a:pt x="124" y="9842"/>
                  </a:lnTo>
                  <a:lnTo>
                    <a:pt x="100" y="9786"/>
                  </a:lnTo>
                  <a:lnTo>
                    <a:pt x="76" y="9729"/>
                  </a:lnTo>
                  <a:lnTo>
                    <a:pt x="57" y="9670"/>
                  </a:lnTo>
                  <a:lnTo>
                    <a:pt x="40" y="9610"/>
                  </a:lnTo>
                  <a:lnTo>
                    <a:pt x="25" y="9549"/>
                  </a:lnTo>
                  <a:lnTo>
                    <a:pt x="14" y="9486"/>
                  </a:lnTo>
                  <a:lnTo>
                    <a:pt x="6" y="9423"/>
                  </a:lnTo>
                  <a:lnTo>
                    <a:pt x="2" y="9359"/>
                  </a:lnTo>
                  <a:lnTo>
                    <a:pt x="0" y="9293"/>
                  </a:lnTo>
                  <a:lnTo>
                    <a:pt x="0" y="1267"/>
                  </a:lnTo>
                  <a:lnTo>
                    <a:pt x="2" y="1202"/>
                  </a:lnTo>
                  <a:lnTo>
                    <a:pt x="6" y="1138"/>
                  </a:lnTo>
                  <a:lnTo>
                    <a:pt x="14" y="1074"/>
                  </a:lnTo>
                  <a:lnTo>
                    <a:pt x="25" y="1012"/>
                  </a:lnTo>
                  <a:lnTo>
                    <a:pt x="40" y="951"/>
                  </a:lnTo>
                  <a:lnTo>
                    <a:pt x="57" y="890"/>
                  </a:lnTo>
                  <a:lnTo>
                    <a:pt x="76" y="832"/>
                  </a:lnTo>
                  <a:lnTo>
                    <a:pt x="100" y="774"/>
                  </a:lnTo>
                  <a:lnTo>
                    <a:pt x="124" y="718"/>
                  </a:lnTo>
                  <a:lnTo>
                    <a:pt x="153" y="664"/>
                  </a:lnTo>
                  <a:lnTo>
                    <a:pt x="183" y="610"/>
                  </a:lnTo>
                  <a:lnTo>
                    <a:pt x="216" y="559"/>
                  </a:lnTo>
                  <a:lnTo>
                    <a:pt x="252" y="509"/>
                  </a:lnTo>
                  <a:lnTo>
                    <a:pt x="288" y="461"/>
                  </a:lnTo>
                  <a:lnTo>
                    <a:pt x="328" y="415"/>
                  </a:lnTo>
                  <a:lnTo>
                    <a:pt x="370" y="371"/>
                  </a:lnTo>
                  <a:lnTo>
                    <a:pt x="414" y="329"/>
                  </a:lnTo>
                  <a:lnTo>
                    <a:pt x="461" y="290"/>
                  </a:lnTo>
                  <a:lnTo>
                    <a:pt x="508" y="252"/>
                  </a:lnTo>
                  <a:lnTo>
                    <a:pt x="558" y="216"/>
                  </a:lnTo>
                  <a:lnTo>
                    <a:pt x="609" y="183"/>
                  </a:lnTo>
                  <a:lnTo>
                    <a:pt x="662" y="153"/>
                  </a:lnTo>
                  <a:lnTo>
                    <a:pt x="717" y="125"/>
                  </a:lnTo>
                  <a:lnTo>
                    <a:pt x="773" y="100"/>
                  </a:lnTo>
                  <a:lnTo>
                    <a:pt x="830" y="77"/>
                  </a:lnTo>
                  <a:lnTo>
                    <a:pt x="889" y="57"/>
                  </a:lnTo>
                  <a:lnTo>
                    <a:pt x="949" y="40"/>
                  </a:lnTo>
                  <a:lnTo>
                    <a:pt x="1010" y="26"/>
                  </a:lnTo>
                  <a:lnTo>
                    <a:pt x="1072" y="15"/>
                  </a:lnTo>
                  <a:lnTo>
                    <a:pt x="1136" y="7"/>
                  </a:lnTo>
                  <a:lnTo>
                    <a:pt x="1201" y="2"/>
                  </a:lnTo>
                  <a:lnTo>
                    <a:pt x="1265" y="0"/>
                  </a:lnTo>
                  <a:lnTo>
                    <a:pt x="13234" y="0"/>
                  </a:lnTo>
                  <a:lnTo>
                    <a:pt x="13274" y="0"/>
                  </a:lnTo>
                  <a:lnTo>
                    <a:pt x="13313" y="3"/>
                  </a:lnTo>
                  <a:lnTo>
                    <a:pt x="13353" y="6"/>
                  </a:lnTo>
                  <a:lnTo>
                    <a:pt x="13391" y="10"/>
                  </a:lnTo>
                  <a:lnTo>
                    <a:pt x="13429" y="15"/>
                  </a:lnTo>
                  <a:lnTo>
                    <a:pt x="13467" y="21"/>
                  </a:lnTo>
                  <a:lnTo>
                    <a:pt x="13505" y="29"/>
                  </a:lnTo>
                  <a:lnTo>
                    <a:pt x="13542" y="37"/>
                  </a:lnTo>
                  <a:lnTo>
                    <a:pt x="13578" y="47"/>
                  </a:lnTo>
                  <a:lnTo>
                    <a:pt x="13614" y="58"/>
                  </a:lnTo>
                  <a:lnTo>
                    <a:pt x="13650" y="70"/>
                  </a:lnTo>
                  <a:lnTo>
                    <a:pt x="13685" y="83"/>
                  </a:lnTo>
                  <a:lnTo>
                    <a:pt x="13720" y="97"/>
                  </a:lnTo>
                  <a:lnTo>
                    <a:pt x="13754" y="112"/>
                  </a:lnTo>
                  <a:lnTo>
                    <a:pt x="13787" y="127"/>
                  </a:lnTo>
                  <a:lnTo>
                    <a:pt x="13821" y="144"/>
                  </a:lnTo>
                  <a:lnTo>
                    <a:pt x="13854" y="162"/>
                  </a:lnTo>
                  <a:lnTo>
                    <a:pt x="13885" y="180"/>
                  </a:lnTo>
                  <a:lnTo>
                    <a:pt x="13917" y="200"/>
                  </a:lnTo>
                  <a:lnTo>
                    <a:pt x="13948" y="220"/>
                  </a:lnTo>
                  <a:lnTo>
                    <a:pt x="13977" y="242"/>
                  </a:lnTo>
                  <a:lnTo>
                    <a:pt x="14007" y="264"/>
                  </a:lnTo>
                  <a:lnTo>
                    <a:pt x="14036" y="287"/>
                  </a:lnTo>
                  <a:lnTo>
                    <a:pt x="14064" y="310"/>
                  </a:lnTo>
                  <a:lnTo>
                    <a:pt x="14091" y="335"/>
                  </a:lnTo>
                  <a:lnTo>
                    <a:pt x="14118" y="360"/>
                  </a:lnTo>
                  <a:lnTo>
                    <a:pt x="14144" y="387"/>
                  </a:lnTo>
                  <a:lnTo>
                    <a:pt x="14169" y="413"/>
                  </a:lnTo>
                  <a:lnTo>
                    <a:pt x="14193" y="441"/>
                  </a:lnTo>
                  <a:lnTo>
                    <a:pt x="14217" y="469"/>
                  </a:lnTo>
                  <a:lnTo>
                    <a:pt x="14240" y="498"/>
                  </a:lnTo>
                  <a:lnTo>
                    <a:pt x="14262" y="528"/>
                  </a:lnTo>
                  <a:close/>
                </a:path>
              </a:pathLst>
            </a:custGeom>
            <a:solidFill>
              <a:srgbClr val="1c9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963960" y="2217600"/>
              <a:ext cx="28440" cy="57240"/>
            </a:xfrm>
            <a:custGeom>
              <a:avLst/>
              <a:gdLst/>
              <a:ahLst/>
              <a:rect l="l" t="t" r="r" b="b"/>
              <a:pathLst>
                <a:path w="397" h="790">
                  <a:moveTo>
                    <a:pt x="397" y="790"/>
                  </a:moveTo>
                  <a:lnTo>
                    <a:pt x="397" y="763"/>
                  </a:lnTo>
                  <a:lnTo>
                    <a:pt x="396" y="735"/>
                  </a:lnTo>
                  <a:lnTo>
                    <a:pt x="394" y="709"/>
                  </a:lnTo>
                  <a:lnTo>
                    <a:pt x="392" y="680"/>
                  </a:lnTo>
                  <a:lnTo>
                    <a:pt x="387" y="627"/>
                  </a:lnTo>
                  <a:lnTo>
                    <a:pt x="380" y="574"/>
                  </a:lnTo>
                  <a:lnTo>
                    <a:pt x="371" y="522"/>
                  </a:lnTo>
                  <a:lnTo>
                    <a:pt x="359" y="470"/>
                  </a:lnTo>
                  <a:lnTo>
                    <a:pt x="345" y="418"/>
                  </a:lnTo>
                  <a:lnTo>
                    <a:pt x="330" y="367"/>
                  </a:lnTo>
                  <a:lnTo>
                    <a:pt x="313" y="318"/>
                  </a:lnTo>
                  <a:lnTo>
                    <a:pt x="293" y="269"/>
                  </a:lnTo>
                  <a:lnTo>
                    <a:pt x="273" y="222"/>
                  </a:lnTo>
                  <a:lnTo>
                    <a:pt x="249" y="175"/>
                  </a:lnTo>
                  <a:lnTo>
                    <a:pt x="225" y="129"/>
                  </a:lnTo>
                  <a:lnTo>
                    <a:pt x="199" y="85"/>
                  </a:lnTo>
                  <a:lnTo>
                    <a:pt x="172" y="41"/>
                  </a:lnTo>
                  <a:lnTo>
                    <a:pt x="142" y="0"/>
                  </a:lnTo>
                  <a:lnTo>
                    <a:pt x="0" y="102"/>
                  </a:lnTo>
                  <a:lnTo>
                    <a:pt x="25" y="139"/>
                  </a:lnTo>
                  <a:lnTo>
                    <a:pt x="49" y="176"/>
                  </a:lnTo>
                  <a:lnTo>
                    <a:pt x="72" y="215"/>
                  </a:lnTo>
                  <a:lnTo>
                    <a:pt x="93" y="255"/>
                  </a:lnTo>
                  <a:lnTo>
                    <a:pt x="113" y="296"/>
                  </a:lnTo>
                  <a:lnTo>
                    <a:pt x="131" y="337"/>
                  </a:lnTo>
                  <a:lnTo>
                    <a:pt x="148" y="380"/>
                  </a:lnTo>
                  <a:lnTo>
                    <a:pt x="163" y="423"/>
                  </a:lnTo>
                  <a:lnTo>
                    <a:pt x="176" y="466"/>
                  </a:lnTo>
                  <a:lnTo>
                    <a:pt x="188" y="510"/>
                  </a:lnTo>
                  <a:lnTo>
                    <a:pt x="198" y="555"/>
                  </a:lnTo>
                  <a:lnTo>
                    <a:pt x="207" y="601"/>
                  </a:lnTo>
                  <a:lnTo>
                    <a:pt x="213" y="647"/>
                  </a:lnTo>
                  <a:lnTo>
                    <a:pt x="218" y="695"/>
                  </a:lnTo>
                  <a:lnTo>
                    <a:pt x="220" y="719"/>
                  </a:lnTo>
                  <a:lnTo>
                    <a:pt x="221" y="742"/>
                  </a:lnTo>
                  <a:lnTo>
                    <a:pt x="221" y="766"/>
                  </a:lnTo>
                  <a:lnTo>
                    <a:pt x="222" y="790"/>
                  </a:lnTo>
                  <a:lnTo>
                    <a:pt x="397" y="79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979800" y="2274840"/>
              <a:ext cx="12600" cy="57780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895560" y="2852640"/>
              <a:ext cx="96840" cy="98640"/>
            </a:xfrm>
            <a:custGeom>
              <a:avLst/>
              <a:gdLst/>
              <a:ahLst/>
              <a:rect l="l" t="t" r="r" b="b"/>
              <a:pathLst>
                <a:path w="1354" h="1355">
                  <a:moveTo>
                    <a:pt x="0" y="1355"/>
                  </a:moveTo>
                  <a:lnTo>
                    <a:pt x="35" y="1355"/>
                  </a:lnTo>
                  <a:lnTo>
                    <a:pt x="70" y="1353"/>
                  </a:lnTo>
                  <a:lnTo>
                    <a:pt x="104" y="1351"/>
                  </a:lnTo>
                  <a:lnTo>
                    <a:pt x="138" y="1348"/>
                  </a:lnTo>
                  <a:lnTo>
                    <a:pt x="173" y="1344"/>
                  </a:lnTo>
                  <a:lnTo>
                    <a:pt x="207" y="1340"/>
                  </a:lnTo>
                  <a:lnTo>
                    <a:pt x="240" y="1334"/>
                  </a:lnTo>
                  <a:lnTo>
                    <a:pt x="273" y="1327"/>
                  </a:lnTo>
                  <a:lnTo>
                    <a:pt x="305" y="1320"/>
                  </a:lnTo>
                  <a:lnTo>
                    <a:pt x="338" y="1312"/>
                  </a:lnTo>
                  <a:lnTo>
                    <a:pt x="371" y="1304"/>
                  </a:lnTo>
                  <a:lnTo>
                    <a:pt x="402" y="1294"/>
                  </a:lnTo>
                  <a:lnTo>
                    <a:pt x="434" y="1283"/>
                  </a:lnTo>
                  <a:lnTo>
                    <a:pt x="466" y="1272"/>
                  </a:lnTo>
                  <a:lnTo>
                    <a:pt x="497" y="1261"/>
                  </a:lnTo>
                  <a:lnTo>
                    <a:pt x="527" y="1248"/>
                  </a:lnTo>
                  <a:lnTo>
                    <a:pt x="557" y="1235"/>
                  </a:lnTo>
                  <a:lnTo>
                    <a:pt x="587" y="1221"/>
                  </a:lnTo>
                  <a:lnTo>
                    <a:pt x="617" y="1207"/>
                  </a:lnTo>
                  <a:lnTo>
                    <a:pt x="645" y="1192"/>
                  </a:lnTo>
                  <a:lnTo>
                    <a:pt x="674" y="1175"/>
                  </a:lnTo>
                  <a:lnTo>
                    <a:pt x="702" y="1159"/>
                  </a:lnTo>
                  <a:lnTo>
                    <a:pt x="730" y="1141"/>
                  </a:lnTo>
                  <a:lnTo>
                    <a:pt x="757" y="1123"/>
                  </a:lnTo>
                  <a:lnTo>
                    <a:pt x="784" y="1105"/>
                  </a:lnTo>
                  <a:lnTo>
                    <a:pt x="811" y="1086"/>
                  </a:lnTo>
                  <a:lnTo>
                    <a:pt x="836" y="1066"/>
                  </a:lnTo>
                  <a:lnTo>
                    <a:pt x="862" y="1045"/>
                  </a:lnTo>
                  <a:lnTo>
                    <a:pt x="886" y="1024"/>
                  </a:lnTo>
                  <a:lnTo>
                    <a:pt x="910" y="1003"/>
                  </a:lnTo>
                  <a:lnTo>
                    <a:pt x="934" y="981"/>
                  </a:lnTo>
                  <a:lnTo>
                    <a:pt x="957" y="958"/>
                  </a:lnTo>
                  <a:lnTo>
                    <a:pt x="980" y="935"/>
                  </a:lnTo>
                  <a:lnTo>
                    <a:pt x="1002" y="911"/>
                  </a:lnTo>
                  <a:lnTo>
                    <a:pt x="1024" y="887"/>
                  </a:lnTo>
                  <a:lnTo>
                    <a:pt x="1045" y="862"/>
                  </a:lnTo>
                  <a:lnTo>
                    <a:pt x="1066" y="837"/>
                  </a:lnTo>
                  <a:lnTo>
                    <a:pt x="1085" y="810"/>
                  </a:lnTo>
                  <a:lnTo>
                    <a:pt x="1104" y="784"/>
                  </a:lnTo>
                  <a:lnTo>
                    <a:pt x="1123" y="757"/>
                  </a:lnTo>
                  <a:lnTo>
                    <a:pt x="1141" y="731"/>
                  </a:lnTo>
                  <a:lnTo>
                    <a:pt x="1157" y="702"/>
                  </a:lnTo>
                  <a:lnTo>
                    <a:pt x="1175" y="675"/>
                  </a:lnTo>
                  <a:lnTo>
                    <a:pt x="1191" y="646"/>
                  </a:lnTo>
                  <a:lnTo>
                    <a:pt x="1205" y="616"/>
                  </a:lnTo>
                  <a:lnTo>
                    <a:pt x="1221" y="588"/>
                  </a:lnTo>
                  <a:lnTo>
                    <a:pt x="1234" y="557"/>
                  </a:lnTo>
                  <a:lnTo>
                    <a:pt x="1247" y="527"/>
                  </a:lnTo>
                  <a:lnTo>
                    <a:pt x="1260" y="497"/>
                  </a:lnTo>
                  <a:lnTo>
                    <a:pt x="1272" y="466"/>
                  </a:lnTo>
                  <a:lnTo>
                    <a:pt x="1283" y="435"/>
                  </a:lnTo>
                  <a:lnTo>
                    <a:pt x="1293" y="403"/>
                  </a:lnTo>
                  <a:lnTo>
                    <a:pt x="1302" y="371"/>
                  </a:lnTo>
                  <a:lnTo>
                    <a:pt x="1311" y="338"/>
                  </a:lnTo>
                  <a:lnTo>
                    <a:pt x="1320" y="306"/>
                  </a:lnTo>
                  <a:lnTo>
                    <a:pt x="1327" y="273"/>
                  </a:lnTo>
                  <a:lnTo>
                    <a:pt x="1333" y="239"/>
                  </a:lnTo>
                  <a:lnTo>
                    <a:pt x="1338" y="206"/>
                  </a:lnTo>
                  <a:lnTo>
                    <a:pt x="1343" y="173"/>
                  </a:lnTo>
                  <a:lnTo>
                    <a:pt x="1347" y="138"/>
                  </a:lnTo>
                  <a:lnTo>
                    <a:pt x="1350" y="105"/>
                  </a:lnTo>
                  <a:lnTo>
                    <a:pt x="1352" y="70"/>
                  </a:lnTo>
                  <a:lnTo>
                    <a:pt x="1353" y="35"/>
                  </a:lnTo>
                  <a:lnTo>
                    <a:pt x="1354" y="0"/>
                  </a:lnTo>
                  <a:lnTo>
                    <a:pt x="1179" y="0"/>
                  </a:lnTo>
                  <a:lnTo>
                    <a:pt x="1178" y="31"/>
                  </a:lnTo>
                  <a:lnTo>
                    <a:pt x="1177" y="61"/>
                  </a:lnTo>
                  <a:lnTo>
                    <a:pt x="1175" y="91"/>
                  </a:lnTo>
                  <a:lnTo>
                    <a:pt x="1173" y="121"/>
                  </a:lnTo>
                  <a:lnTo>
                    <a:pt x="1169" y="150"/>
                  </a:lnTo>
                  <a:lnTo>
                    <a:pt x="1165" y="180"/>
                  </a:lnTo>
                  <a:lnTo>
                    <a:pt x="1160" y="210"/>
                  </a:lnTo>
                  <a:lnTo>
                    <a:pt x="1154" y="238"/>
                  </a:lnTo>
                  <a:lnTo>
                    <a:pt x="1148" y="267"/>
                  </a:lnTo>
                  <a:lnTo>
                    <a:pt x="1141" y="296"/>
                  </a:lnTo>
                  <a:lnTo>
                    <a:pt x="1134" y="323"/>
                  </a:lnTo>
                  <a:lnTo>
                    <a:pt x="1126" y="351"/>
                  </a:lnTo>
                  <a:lnTo>
                    <a:pt x="1117" y="378"/>
                  </a:lnTo>
                  <a:lnTo>
                    <a:pt x="1107" y="406"/>
                  </a:lnTo>
                  <a:lnTo>
                    <a:pt x="1096" y="432"/>
                  </a:lnTo>
                  <a:lnTo>
                    <a:pt x="1086" y="459"/>
                  </a:lnTo>
                  <a:lnTo>
                    <a:pt x="1075" y="486"/>
                  </a:lnTo>
                  <a:lnTo>
                    <a:pt x="1063" y="511"/>
                  </a:lnTo>
                  <a:lnTo>
                    <a:pt x="1049" y="537"/>
                  </a:lnTo>
                  <a:lnTo>
                    <a:pt x="1036" y="562"/>
                  </a:lnTo>
                  <a:lnTo>
                    <a:pt x="1023" y="587"/>
                  </a:lnTo>
                  <a:lnTo>
                    <a:pt x="1008" y="611"/>
                  </a:lnTo>
                  <a:lnTo>
                    <a:pt x="993" y="636"/>
                  </a:lnTo>
                  <a:lnTo>
                    <a:pt x="977" y="659"/>
                  </a:lnTo>
                  <a:lnTo>
                    <a:pt x="962" y="683"/>
                  </a:lnTo>
                  <a:lnTo>
                    <a:pt x="944" y="705"/>
                  </a:lnTo>
                  <a:lnTo>
                    <a:pt x="927" y="728"/>
                  </a:lnTo>
                  <a:lnTo>
                    <a:pt x="909" y="750"/>
                  </a:lnTo>
                  <a:lnTo>
                    <a:pt x="891" y="772"/>
                  </a:lnTo>
                  <a:lnTo>
                    <a:pt x="873" y="793"/>
                  </a:lnTo>
                  <a:lnTo>
                    <a:pt x="853" y="814"/>
                  </a:lnTo>
                  <a:lnTo>
                    <a:pt x="833" y="834"/>
                  </a:lnTo>
                  <a:lnTo>
                    <a:pt x="814" y="853"/>
                  </a:lnTo>
                  <a:lnTo>
                    <a:pt x="793" y="873"/>
                  </a:lnTo>
                  <a:lnTo>
                    <a:pt x="772" y="892"/>
                  </a:lnTo>
                  <a:lnTo>
                    <a:pt x="749" y="910"/>
                  </a:lnTo>
                  <a:lnTo>
                    <a:pt x="728" y="928"/>
                  </a:lnTo>
                  <a:lnTo>
                    <a:pt x="705" y="945"/>
                  </a:lnTo>
                  <a:lnTo>
                    <a:pt x="682" y="962"/>
                  </a:lnTo>
                  <a:lnTo>
                    <a:pt x="660" y="978"/>
                  </a:lnTo>
                  <a:lnTo>
                    <a:pt x="635" y="993"/>
                  </a:lnTo>
                  <a:lnTo>
                    <a:pt x="612" y="1009"/>
                  </a:lnTo>
                  <a:lnTo>
                    <a:pt x="587" y="1023"/>
                  </a:lnTo>
                  <a:lnTo>
                    <a:pt x="562" y="1037"/>
                  </a:lnTo>
                  <a:lnTo>
                    <a:pt x="537" y="1051"/>
                  </a:lnTo>
                  <a:lnTo>
                    <a:pt x="512" y="1063"/>
                  </a:lnTo>
                  <a:lnTo>
                    <a:pt x="485" y="1075"/>
                  </a:lnTo>
                  <a:lnTo>
                    <a:pt x="460" y="1086"/>
                  </a:lnTo>
                  <a:lnTo>
                    <a:pt x="432" y="1098"/>
                  </a:lnTo>
                  <a:lnTo>
                    <a:pt x="405" y="1108"/>
                  </a:lnTo>
                  <a:lnTo>
                    <a:pt x="378" y="1117"/>
                  </a:lnTo>
                  <a:lnTo>
                    <a:pt x="351" y="1126"/>
                  </a:lnTo>
                  <a:lnTo>
                    <a:pt x="323" y="1134"/>
                  </a:lnTo>
                  <a:lnTo>
                    <a:pt x="295" y="1141"/>
                  </a:lnTo>
                  <a:lnTo>
                    <a:pt x="267" y="1149"/>
                  </a:lnTo>
                  <a:lnTo>
                    <a:pt x="238" y="1156"/>
                  </a:lnTo>
                  <a:lnTo>
                    <a:pt x="210" y="1161"/>
                  </a:lnTo>
                  <a:lnTo>
                    <a:pt x="180" y="1166"/>
                  </a:lnTo>
                  <a:lnTo>
                    <a:pt x="150" y="1170"/>
                  </a:lnTo>
                  <a:lnTo>
                    <a:pt x="122" y="1173"/>
                  </a:lnTo>
                  <a:lnTo>
                    <a:pt x="91" y="1176"/>
                  </a:lnTo>
                  <a:lnTo>
                    <a:pt x="62" y="1177"/>
                  </a:lnTo>
                  <a:lnTo>
                    <a:pt x="31" y="1178"/>
                  </a:lnTo>
                  <a:lnTo>
                    <a:pt x="0" y="1179"/>
                  </a:lnTo>
                  <a:lnTo>
                    <a:pt x="0" y="135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030480" y="2938320"/>
              <a:ext cx="865080" cy="1296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933640" y="2852640"/>
              <a:ext cx="96840" cy="98640"/>
            </a:xfrm>
            <a:custGeom>
              <a:avLst/>
              <a:gdLst/>
              <a:ahLst/>
              <a:rect l="l" t="t" r="r" b="b"/>
              <a:pathLst>
                <a:path w="1353" h="1355">
                  <a:moveTo>
                    <a:pt x="0" y="0"/>
                  </a:moveTo>
                  <a:lnTo>
                    <a:pt x="0" y="35"/>
                  </a:lnTo>
                  <a:lnTo>
                    <a:pt x="2" y="70"/>
                  </a:lnTo>
                  <a:lnTo>
                    <a:pt x="4" y="105"/>
                  </a:lnTo>
                  <a:lnTo>
                    <a:pt x="7" y="138"/>
                  </a:lnTo>
                  <a:lnTo>
                    <a:pt x="11" y="173"/>
                  </a:lnTo>
                  <a:lnTo>
                    <a:pt x="15" y="206"/>
                  </a:lnTo>
                  <a:lnTo>
                    <a:pt x="21" y="239"/>
                  </a:lnTo>
                  <a:lnTo>
                    <a:pt x="28" y="273"/>
                  </a:lnTo>
                  <a:lnTo>
                    <a:pt x="35" y="306"/>
                  </a:lnTo>
                  <a:lnTo>
                    <a:pt x="43" y="338"/>
                  </a:lnTo>
                  <a:lnTo>
                    <a:pt x="51" y="371"/>
                  </a:lnTo>
                  <a:lnTo>
                    <a:pt x="61" y="403"/>
                  </a:lnTo>
                  <a:lnTo>
                    <a:pt x="71" y="435"/>
                  </a:lnTo>
                  <a:lnTo>
                    <a:pt x="83" y="466"/>
                  </a:lnTo>
                  <a:lnTo>
                    <a:pt x="94" y="497"/>
                  </a:lnTo>
                  <a:lnTo>
                    <a:pt x="107" y="527"/>
                  </a:lnTo>
                  <a:lnTo>
                    <a:pt x="119" y="557"/>
                  </a:lnTo>
                  <a:lnTo>
                    <a:pt x="134" y="588"/>
                  </a:lnTo>
                  <a:lnTo>
                    <a:pt x="148" y="616"/>
                  </a:lnTo>
                  <a:lnTo>
                    <a:pt x="163" y="646"/>
                  </a:lnTo>
                  <a:lnTo>
                    <a:pt x="180" y="675"/>
                  </a:lnTo>
                  <a:lnTo>
                    <a:pt x="196" y="702"/>
                  </a:lnTo>
                  <a:lnTo>
                    <a:pt x="213" y="731"/>
                  </a:lnTo>
                  <a:lnTo>
                    <a:pt x="232" y="757"/>
                  </a:lnTo>
                  <a:lnTo>
                    <a:pt x="250" y="784"/>
                  </a:lnTo>
                  <a:lnTo>
                    <a:pt x="269" y="810"/>
                  </a:lnTo>
                  <a:lnTo>
                    <a:pt x="289" y="837"/>
                  </a:lnTo>
                  <a:lnTo>
                    <a:pt x="309" y="862"/>
                  </a:lnTo>
                  <a:lnTo>
                    <a:pt x="331" y="887"/>
                  </a:lnTo>
                  <a:lnTo>
                    <a:pt x="352" y="911"/>
                  </a:lnTo>
                  <a:lnTo>
                    <a:pt x="373" y="935"/>
                  </a:lnTo>
                  <a:lnTo>
                    <a:pt x="397" y="958"/>
                  </a:lnTo>
                  <a:lnTo>
                    <a:pt x="419" y="981"/>
                  </a:lnTo>
                  <a:lnTo>
                    <a:pt x="444" y="1003"/>
                  </a:lnTo>
                  <a:lnTo>
                    <a:pt x="468" y="1024"/>
                  </a:lnTo>
                  <a:lnTo>
                    <a:pt x="493" y="1045"/>
                  </a:lnTo>
                  <a:lnTo>
                    <a:pt x="517" y="1066"/>
                  </a:lnTo>
                  <a:lnTo>
                    <a:pt x="544" y="1086"/>
                  </a:lnTo>
                  <a:lnTo>
                    <a:pt x="570" y="1105"/>
                  </a:lnTo>
                  <a:lnTo>
                    <a:pt x="597" y="1123"/>
                  </a:lnTo>
                  <a:lnTo>
                    <a:pt x="623" y="1141"/>
                  </a:lnTo>
                  <a:lnTo>
                    <a:pt x="652" y="1159"/>
                  </a:lnTo>
                  <a:lnTo>
                    <a:pt x="679" y="1175"/>
                  </a:lnTo>
                  <a:lnTo>
                    <a:pt x="708" y="1192"/>
                  </a:lnTo>
                  <a:lnTo>
                    <a:pt x="738" y="1207"/>
                  </a:lnTo>
                  <a:lnTo>
                    <a:pt x="766" y="1221"/>
                  </a:lnTo>
                  <a:lnTo>
                    <a:pt x="797" y="1235"/>
                  </a:lnTo>
                  <a:lnTo>
                    <a:pt x="826" y="1248"/>
                  </a:lnTo>
                  <a:lnTo>
                    <a:pt x="857" y="1261"/>
                  </a:lnTo>
                  <a:lnTo>
                    <a:pt x="888" y="1272"/>
                  </a:lnTo>
                  <a:lnTo>
                    <a:pt x="919" y="1283"/>
                  </a:lnTo>
                  <a:lnTo>
                    <a:pt x="951" y="1294"/>
                  </a:lnTo>
                  <a:lnTo>
                    <a:pt x="983" y="1304"/>
                  </a:lnTo>
                  <a:lnTo>
                    <a:pt x="1015" y="1312"/>
                  </a:lnTo>
                  <a:lnTo>
                    <a:pt x="1048" y="1320"/>
                  </a:lnTo>
                  <a:lnTo>
                    <a:pt x="1080" y="1327"/>
                  </a:lnTo>
                  <a:lnTo>
                    <a:pt x="1114" y="1334"/>
                  </a:lnTo>
                  <a:lnTo>
                    <a:pt x="1148" y="1340"/>
                  </a:lnTo>
                  <a:lnTo>
                    <a:pt x="1181" y="1344"/>
                  </a:lnTo>
                  <a:lnTo>
                    <a:pt x="1215" y="1348"/>
                  </a:lnTo>
                  <a:lnTo>
                    <a:pt x="1250" y="1351"/>
                  </a:lnTo>
                  <a:lnTo>
                    <a:pt x="1283" y="1353"/>
                  </a:lnTo>
                  <a:lnTo>
                    <a:pt x="1318" y="1355"/>
                  </a:lnTo>
                  <a:lnTo>
                    <a:pt x="1353" y="1355"/>
                  </a:lnTo>
                  <a:lnTo>
                    <a:pt x="1353" y="1179"/>
                  </a:lnTo>
                  <a:lnTo>
                    <a:pt x="1322" y="1178"/>
                  </a:lnTo>
                  <a:lnTo>
                    <a:pt x="1293" y="1177"/>
                  </a:lnTo>
                  <a:lnTo>
                    <a:pt x="1262" y="1176"/>
                  </a:lnTo>
                  <a:lnTo>
                    <a:pt x="1232" y="1173"/>
                  </a:lnTo>
                  <a:lnTo>
                    <a:pt x="1203" y="1170"/>
                  </a:lnTo>
                  <a:lnTo>
                    <a:pt x="1173" y="1166"/>
                  </a:lnTo>
                  <a:lnTo>
                    <a:pt x="1145" y="1161"/>
                  </a:lnTo>
                  <a:lnTo>
                    <a:pt x="1116" y="1156"/>
                  </a:lnTo>
                  <a:lnTo>
                    <a:pt x="1088" y="1149"/>
                  </a:lnTo>
                  <a:lnTo>
                    <a:pt x="1059" y="1141"/>
                  </a:lnTo>
                  <a:lnTo>
                    <a:pt x="1030" y="1134"/>
                  </a:lnTo>
                  <a:lnTo>
                    <a:pt x="1003" y="1126"/>
                  </a:lnTo>
                  <a:lnTo>
                    <a:pt x="975" y="1117"/>
                  </a:lnTo>
                  <a:lnTo>
                    <a:pt x="949" y="1108"/>
                  </a:lnTo>
                  <a:lnTo>
                    <a:pt x="921" y="1098"/>
                  </a:lnTo>
                  <a:lnTo>
                    <a:pt x="895" y="1086"/>
                  </a:lnTo>
                  <a:lnTo>
                    <a:pt x="868" y="1075"/>
                  </a:lnTo>
                  <a:lnTo>
                    <a:pt x="843" y="1063"/>
                  </a:lnTo>
                  <a:lnTo>
                    <a:pt x="817" y="1051"/>
                  </a:lnTo>
                  <a:lnTo>
                    <a:pt x="792" y="1037"/>
                  </a:lnTo>
                  <a:lnTo>
                    <a:pt x="767" y="1023"/>
                  </a:lnTo>
                  <a:lnTo>
                    <a:pt x="743" y="1009"/>
                  </a:lnTo>
                  <a:lnTo>
                    <a:pt x="718" y="993"/>
                  </a:lnTo>
                  <a:lnTo>
                    <a:pt x="695" y="978"/>
                  </a:lnTo>
                  <a:lnTo>
                    <a:pt x="671" y="962"/>
                  </a:lnTo>
                  <a:lnTo>
                    <a:pt x="649" y="945"/>
                  </a:lnTo>
                  <a:lnTo>
                    <a:pt x="626" y="928"/>
                  </a:lnTo>
                  <a:lnTo>
                    <a:pt x="604" y="910"/>
                  </a:lnTo>
                  <a:lnTo>
                    <a:pt x="583" y="892"/>
                  </a:lnTo>
                  <a:lnTo>
                    <a:pt x="561" y="873"/>
                  </a:lnTo>
                  <a:lnTo>
                    <a:pt x="541" y="853"/>
                  </a:lnTo>
                  <a:lnTo>
                    <a:pt x="520" y="834"/>
                  </a:lnTo>
                  <a:lnTo>
                    <a:pt x="501" y="814"/>
                  </a:lnTo>
                  <a:lnTo>
                    <a:pt x="482" y="793"/>
                  </a:lnTo>
                  <a:lnTo>
                    <a:pt x="463" y="772"/>
                  </a:lnTo>
                  <a:lnTo>
                    <a:pt x="445" y="750"/>
                  </a:lnTo>
                  <a:lnTo>
                    <a:pt x="426" y="728"/>
                  </a:lnTo>
                  <a:lnTo>
                    <a:pt x="410" y="705"/>
                  </a:lnTo>
                  <a:lnTo>
                    <a:pt x="393" y="683"/>
                  </a:lnTo>
                  <a:lnTo>
                    <a:pt x="376" y="659"/>
                  </a:lnTo>
                  <a:lnTo>
                    <a:pt x="361" y="636"/>
                  </a:lnTo>
                  <a:lnTo>
                    <a:pt x="346" y="611"/>
                  </a:lnTo>
                  <a:lnTo>
                    <a:pt x="332" y="587"/>
                  </a:lnTo>
                  <a:lnTo>
                    <a:pt x="317" y="562"/>
                  </a:lnTo>
                  <a:lnTo>
                    <a:pt x="304" y="537"/>
                  </a:lnTo>
                  <a:lnTo>
                    <a:pt x="292" y="511"/>
                  </a:lnTo>
                  <a:lnTo>
                    <a:pt x="280" y="486"/>
                  </a:lnTo>
                  <a:lnTo>
                    <a:pt x="268" y="459"/>
                  </a:lnTo>
                  <a:lnTo>
                    <a:pt x="257" y="432"/>
                  </a:lnTo>
                  <a:lnTo>
                    <a:pt x="247" y="406"/>
                  </a:lnTo>
                  <a:lnTo>
                    <a:pt x="238" y="378"/>
                  </a:lnTo>
                  <a:lnTo>
                    <a:pt x="229" y="351"/>
                  </a:lnTo>
                  <a:lnTo>
                    <a:pt x="220" y="323"/>
                  </a:lnTo>
                  <a:lnTo>
                    <a:pt x="213" y="296"/>
                  </a:lnTo>
                  <a:lnTo>
                    <a:pt x="206" y="267"/>
                  </a:lnTo>
                  <a:lnTo>
                    <a:pt x="199" y="238"/>
                  </a:lnTo>
                  <a:lnTo>
                    <a:pt x="194" y="209"/>
                  </a:lnTo>
                  <a:lnTo>
                    <a:pt x="189" y="180"/>
                  </a:lnTo>
                  <a:lnTo>
                    <a:pt x="185" y="150"/>
                  </a:lnTo>
                  <a:lnTo>
                    <a:pt x="182" y="121"/>
                  </a:lnTo>
                  <a:lnTo>
                    <a:pt x="179" y="91"/>
                  </a:lnTo>
                  <a:lnTo>
                    <a:pt x="178" y="61"/>
                  </a:lnTo>
                  <a:lnTo>
                    <a:pt x="177" y="31"/>
                  </a:lnTo>
                  <a:lnTo>
                    <a:pt x="1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933640" y="2274840"/>
              <a:ext cx="12600" cy="57780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933640" y="2176560"/>
              <a:ext cx="96840" cy="98280"/>
            </a:xfrm>
            <a:custGeom>
              <a:avLst/>
              <a:gdLst/>
              <a:ahLst/>
              <a:rect l="l" t="t" r="r" b="b"/>
              <a:pathLst>
                <a:path w="1353" h="1355">
                  <a:moveTo>
                    <a:pt x="1353" y="0"/>
                  </a:moveTo>
                  <a:lnTo>
                    <a:pt x="1318" y="1"/>
                  </a:lnTo>
                  <a:lnTo>
                    <a:pt x="1283" y="2"/>
                  </a:lnTo>
                  <a:lnTo>
                    <a:pt x="1250" y="4"/>
                  </a:lnTo>
                  <a:lnTo>
                    <a:pt x="1215" y="8"/>
                  </a:lnTo>
                  <a:lnTo>
                    <a:pt x="1181" y="11"/>
                  </a:lnTo>
                  <a:lnTo>
                    <a:pt x="1148" y="16"/>
                  </a:lnTo>
                  <a:lnTo>
                    <a:pt x="1114" y="21"/>
                  </a:lnTo>
                  <a:lnTo>
                    <a:pt x="1080" y="28"/>
                  </a:lnTo>
                  <a:lnTo>
                    <a:pt x="1048" y="35"/>
                  </a:lnTo>
                  <a:lnTo>
                    <a:pt x="1015" y="43"/>
                  </a:lnTo>
                  <a:lnTo>
                    <a:pt x="984" y="52"/>
                  </a:lnTo>
                  <a:lnTo>
                    <a:pt x="951" y="61"/>
                  </a:lnTo>
                  <a:lnTo>
                    <a:pt x="919" y="71"/>
                  </a:lnTo>
                  <a:lnTo>
                    <a:pt x="888" y="82"/>
                  </a:lnTo>
                  <a:lnTo>
                    <a:pt x="857" y="95"/>
                  </a:lnTo>
                  <a:lnTo>
                    <a:pt x="826" y="107"/>
                  </a:lnTo>
                  <a:lnTo>
                    <a:pt x="797" y="120"/>
                  </a:lnTo>
                  <a:lnTo>
                    <a:pt x="766" y="134"/>
                  </a:lnTo>
                  <a:lnTo>
                    <a:pt x="738" y="149"/>
                  </a:lnTo>
                  <a:lnTo>
                    <a:pt x="709" y="164"/>
                  </a:lnTo>
                  <a:lnTo>
                    <a:pt x="679" y="180"/>
                  </a:lnTo>
                  <a:lnTo>
                    <a:pt x="652" y="197"/>
                  </a:lnTo>
                  <a:lnTo>
                    <a:pt x="623" y="214"/>
                  </a:lnTo>
                  <a:lnTo>
                    <a:pt x="597" y="232"/>
                  </a:lnTo>
                  <a:lnTo>
                    <a:pt x="570" y="251"/>
                  </a:lnTo>
                  <a:lnTo>
                    <a:pt x="544" y="269"/>
                  </a:lnTo>
                  <a:lnTo>
                    <a:pt x="517" y="290"/>
                  </a:lnTo>
                  <a:lnTo>
                    <a:pt x="493" y="310"/>
                  </a:lnTo>
                  <a:lnTo>
                    <a:pt x="468" y="331"/>
                  </a:lnTo>
                  <a:lnTo>
                    <a:pt x="444" y="352"/>
                  </a:lnTo>
                  <a:lnTo>
                    <a:pt x="419" y="375"/>
                  </a:lnTo>
                  <a:lnTo>
                    <a:pt x="397" y="397"/>
                  </a:lnTo>
                  <a:lnTo>
                    <a:pt x="373" y="421"/>
                  </a:lnTo>
                  <a:lnTo>
                    <a:pt x="352" y="444"/>
                  </a:lnTo>
                  <a:lnTo>
                    <a:pt x="331" y="469"/>
                  </a:lnTo>
                  <a:lnTo>
                    <a:pt x="309" y="493"/>
                  </a:lnTo>
                  <a:lnTo>
                    <a:pt x="289" y="519"/>
                  </a:lnTo>
                  <a:lnTo>
                    <a:pt x="269" y="544"/>
                  </a:lnTo>
                  <a:lnTo>
                    <a:pt x="250" y="571"/>
                  </a:lnTo>
                  <a:lnTo>
                    <a:pt x="232" y="597"/>
                  </a:lnTo>
                  <a:lnTo>
                    <a:pt x="213" y="625"/>
                  </a:lnTo>
                  <a:lnTo>
                    <a:pt x="196" y="652"/>
                  </a:lnTo>
                  <a:lnTo>
                    <a:pt x="180" y="681"/>
                  </a:lnTo>
                  <a:lnTo>
                    <a:pt x="163" y="710"/>
                  </a:lnTo>
                  <a:lnTo>
                    <a:pt x="148" y="738"/>
                  </a:lnTo>
                  <a:lnTo>
                    <a:pt x="134" y="768"/>
                  </a:lnTo>
                  <a:lnTo>
                    <a:pt x="119" y="798"/>
                  </a:lnTo>
                  <a:lnTo>
                    <a:pt x="107" y="828"/>
                  </a:lnTo>
                  <a:lnTo>
                    <a:pt x="94" y="859"/>
                  </a:lnTo>
                  <a:lnTo>
                    <a:pt x="83" y="889"/>
                  </a:lnTo>
                  <a:lnTo>
                    <a:pt x="71" y="921"/>
                  </a:lnTo>
                  <a:lnTo>
                    <a:pt x="61" y="953"/>
                  </a:lnTo>
                  <a:lnTo>
                    <a:pt x="51" y="984"/>
                  </a:lnTo>
                  <a:lnTo>
                    <a:pt x="43" y="1017"/>
                  </a:lnTo>
                  <a:lnTo>
                    <a:pt x="35" y="1050"/>
                  </a:lnTo>
                  <a:lnTo>
                    <a:pt x="28" y="1083"/>
                  </a:lnTo>
                  <a:lnTo>
                    <a:pt x="21" y="1115"/>
                  </a:lnTo>
                  <a:lnTo>
                    <a:pt x="15" y="1149"/>
                  </a:lnTo>
                  <a:lnTo>
                    <a:pt x="11" y="1183"/>
                  </a:lnTo>
                  <a:lnTo>
                    <a:pt x="7" y="1217"/>
                  </a:lnTo>
                  <a:lnTo>
                    <a:pt x="4" y="1251"/>
                  </a:lnTo>
                  <a:lnTo>
                    <a:pt x="2" y="1286"/>
                  </a:lnTo>
                  <a:lnTo>
                    <a:pt x="0" y="1321"/>
                  </a:lnTo>
                  <a:lnTo>
                    <a:pt x="0" y="1355"/>
                  </a:lnTo>
                  <a:lnTo>
                    <a:pt x="175" y="1355"/>
                  </a:lnTo>
                  <a:lnTo>
                    <a:pt x="177" y="1325"/>
                  </a:lnTo>
                  <a:lnTo>
                    <a:pt x="178" y="1294"/>
                  </a:lnTo>
                  <a:lnTo>
                    <a:pt x="179" y="1264"/>
                  </a:lnTo>
                  <a:lnTo>
                    <a:pt x="182" y="1235"/>
                  </a:lnTo>
                  <a:lnTo>
                    <a:pt x="185" y="1205"/>
                  </a:lnTo>
                  <a:lnTo>
                    <a:pt x="189" y="1176"/>
                  </a:lnTo>
                  <a:lnTo>
                    <a:pt x="194" y="1147"/>
                  </a:lnTo>
                  <a:lnTo>
                    <a:pt x="199" y="1117"/>
                  </a:lnTo>
                  <a:lnTo>
                    <a:pt x="206" y="1089"/>
                  </a:lnTo>
                  <a:lnTo>
                    <a:pt x="213" y="1060"/>
                  </a:lnTo>
                  <a:lnTo>
                    <a:pt x="220" y="1032"/>
                  </a:lnTo>
                  <a:lnTo>
                    <a:pt x="229" y="1005"/>
                  </a:lnTo>
                  <a:lnTo>
                    <a:pt x="238" y="977"/>
                  </a:lnTo>
                  <a:lnTo>
                    <a:pt x="247" y="950"/>
                  </a:lnTo>
                  <a:lnTo>
                    <a:pt x="257" y="923"/>
                  </a:lnTo>
                  <a:lnTo>
                    <a:pt x="268" y="896"/>
                  </a:lnTo>
                  <a:lnTo>
                    <a:pt x="280" y="870"/>
                  </a:lnTo>
                  <a:lnTo>
                    <a:pt x="292" y="845"/>
                  </a:lnTo>
                  <a:lnTo>
                    <a:pt x="304" y="818"/>
                  </a:lnTo>
                  <a:lnTo>
                    <a:pt x="317" y="793"/>
                  </a:lnTo>
                  <a:lnTo>
                    <a:pt x="332" y="768"/>
                  </a:lnTo>
                  <a:lnTo>
                    <a:pt x="346" y="743"/>
                  </a:lnTo>
                  <a:lnTo>
                    <a:pt x="361" y="720"/>
                  </a:lnTo>
                  <a:lnTo>
                    <a:pt x="376" y="696"/>
                  </a:lnTo>
                  <a:lnTo>
                    <a:pt x="393" y="673"/>
                  </a:lnTo>
                  <a:lnTo>
                    <a:pt x="410" y="649"/>
                  </a:lnTo>
                  <a:lnTo>
                    <a:pt x="426" y="627"/>
                  </a:lnTo>
                  <a:lnTo>
                    <a:pt x="445" y="605"/>
                  </a:lnTo>
                  <a:lnTo>
                    <a:pt x="463" y="584"/>
                  </a:lnTo>
                  <a:lnTo>
                    <a:pt x="482" y="563"/>
                  </a:lnTo>
                  <a:lnTo>
                    <a:pt x="501" y="541"/>
                  </a:lnTo>
                  <a:lnTo>
                    <a:pt x="520" y="522"/>
                  </a:lnTo>
                  <a:lnTo>
                    <a:pt x="541" y="501"/>
                  </a:lnTo>
                  <a:lnTo>
                    <a:pt x="561" y="482"/>
                  </a:lnTo>
                  <a:lnTo>
                    <a:pt x="583" y="463"/>
                  </a:lnTo>
                  <a:lnTo>
                    <a:pt x="604" y="445"/>
                  </a:lnTo>
                  <a:lnTo>
                    <a:pt x="626" y="428"/>
                  </a:lnTo>
                  <a:lnTo>
                    <a:pt x="649" y="410"/>
                  </a:lnTo>
                  <a:lnTo>
                    <a:pt x="671" y="393"/>
                  </a:lnTo>
                  <a:lnTo>
                    <a:pt x="695" y="378"/>
                  </a:lnTo>
                  <a:lnTo>
                    <a:pt x="718" y="361"/>
                  </a:lnTo>
                  <a:lnTo>
                    <a:pt x="743" y="347"/>
                  </a:lnTo>
                  <a:lnTo>
                    <a:pt x="767" y="332"/>
                  </a:lnTo>
                  <a:lnTo>
                    <a:pt x="792" y="318"/>
                  </a:lnTo>
                  <a:lnTo>
                    <a:pt x="817" y="305"/>
                  </a:lnTo>
                  <a:lnTo>
                    <a:pt x="843" y="292"/>
                  </a:lnTo>
                  <a:lnTo>
                    <a:pt x="868" y="281"/>
                  </a:lnTo>
                  <a:lnTo>
                    <a:pt x="895" y="268"/>
                  </a:lnTo>
                  <a:lnTo>
                    <a:pt x="921" y="258"/>
                  </a:lnTo>
                  <a:lnTo>
                    <a:pt x="949" y="248"/>
                  </a:lnTo>
                  <a:lnTo>
                    <a:pt x="975" y="238"/>
                  </a:lnTo>
                  <a:lnTo>
                    <a:pt x="1003" y="228"/>
                  </a:lnTo>
                  <a:lnTo>
                    <a:pt x="1030" y="220"/>
                  </a:lnTo>
                  <a:lnTo>
                    <a:pt x="1059" y="213"/>
                  </a:lnTo>
                  <a:lnTo>
                    <a:pt x="1088" y="206"/>
                  </a:lnTo>
                  <a:lnTo>
                    <a:pt x="1116" y="200"/>
                  </a:lnTo>
                  <a:lnTo>
                    <a:pt x="1145" y="195"/>
                  </a:lnTo>
                  <a:lnTo>
                    <a:pt x="1173" y="190"/>
                  </a:lnTo>
                  <a:lnTo>
                    <a:pt x="1203" y="186"/>
                  </a:lnTo>
                  <a:lnTo>
                    <a:pt x="1232" y="181"/>
                  </a:lnTo>
                  <a:lnTo>
                    <a:pt x="1262" y="179"/>
                  </a:lnTo>
                  <a:lnTo>
                    <a:pt x="1293" y="177"/>
                  </a:lnTo>
                  <a:lnTo>
                    <a:pt x="1322" y="176"/>
                  </a:lnTo>
                  <a:lnTo>
                    <a:pt x="1353" y="176"/>
                  </a:lnTo>
                  <a:lnTo>
                    <a:pt x="1353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30480" y="2176560"/>
              <a:ext cx="865080" cy="12600"/>
            </a:xfrm>
            <a:prstGeom prst="rect">
              <a:avLst/>
            </a:pr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95560" y="2176560"/>
              <a:ext cx="79200" cy="47520"/>
            </a:xfrm>
            <a:custGeom>
              <a:avLst/>
              <a:gdLst/>
              <a:ahLst/>
              <a:rect l="l" t="t" r="r" b="b"/>
              <a:pathLst>
                <a:path w="1099" h="667">
                  <a:moveTo>
                    <a:pt x="1099" y="565"/>
                  </a:moveTo>
                  <a:lnTo>
                    <a:pt x="1076" y="533"/>
                  </a:lnTo>
                  <a:lnTo>
                    <a:pt x="1051" y="501"/>
                  </a:lnTo>
                  <a:lnTo>
                    <a:pt x="1026" y="472"/>
                  </a:lnTo>
                  <a:lnTo>
                    <a:pt x="1000" y="442"/>
                  </a:lnTo>
                  <a:lnTo>
                    <a:pt x="973" y="413"/>
                  </a:lnTo>
                  <a:lnTo>
                    <a:pt x="945" y="386"/>
                  </a:lnTo>
                  <a:lnTo>
                    <a:pt x="917" y="358"/>
                  </a:lnTo>
                  <a:lnTo>
                    <a:pt x="887" y="332"/>
                  </a:lnTo>
                  <a:lnTo>
                    <a:pt x="857" y="306"/>
                  </a:lnTo>
                  <a:lnTo>
                    <a:pt x="827" y="283"/>
                  </a:lnTo>
                  <a:lnTo>
                    <a:pt x="795" y="258"/>
                  </a:lnTo>
                  <a:lnTo>
                    <a:pt x="763" y="236"/>
                  </a:lnTo>
                  <a:lnTo>
                    <a:pt x="730" y="214"/>
                  </a:lnTo>
                  <a:lnTo>
                    <a:pt x="696" y="193"/>
                  </a:lnTo>
                  <a:lnTo>
                    <a:pt x="663" y="173"/>
                  </a:lnTo>
                  <a:lnTo>
                    <a:pt x="628" y="154"/>
                  </a:lnTo>
                  <a:lnTo>
                    <a:pt x="592" y="137"/>
                  </a:lnTo>
                  <a:lnTo>
                    <a:pt x="556" y="119"/>
                  </a:lnTo>
                  <a:lnTo>
                    <a:pt x="520" y="104"/>
                  </a:lnTo>
                  <a:lnTo>
                    <a:pt x="482" y="88"/>
                  </a:lnTo>
                  <a:lnTo>
                    <a:pt x="444" y="75"/>
                  </a:lnTo>
                  <a:lnTo>
                    <a:pt x="406" y="62"/>
                  </a:lnTo>
                  <a:lnTo>
                    <a:pt x="368" y="51"/>
                  </a:lnTo>
                  <a:lnTo>
                    <a:pt x="329" y="40"/>
                  </a:lnTo>
                  <a:lnTo>
                    <a:pt x="289" y="31"/>
                  </a:lnTo>
                  <a:lnTo>
                    <a:pt x="248" y="23"/>
                  </a:lnTo>
                  <a:lnTo>
                    <a:pt x="209" y="16"/>
                  </a:lnTo>
                  <a:lnTo>
                    <a:pt x="168" y="10"/>
                  </a:lnTo>
                  <a:lnTo>
                    <a:pt x="126" y="6"/>
                  </a:lnTo>
                  <a:lnTo>
                    <a:pt x="84" y="3"/>
                  </a:lnTo>
                  <a:lnTo>
                    <a:pt x="43" y="1"/>
                  </a:lnTo>
                  <a:lnTo>
                    <a:pt x="0" y="0"/>
                  </a:lnTo>
                  <a:lnTo>
                    <a:pt x="0" y="176"/>
                  </a:lnTo>
                  <a:lnTo>
                    <a:pt x="37" y="176"/>
                  </a:lnTo>
                  <a:lnTo>
                    <a:pt x="74" y="178"/>
                  </a:lnTo>
                  <a:lnTo>
                    <a:pt x="111" y="181"/>
                  </a:lnTo>
                  <a:lnTo>
                    <a:pt x="146" y="185"/>
                  </a:lnTo>
                  <a:lnTo>
                    <a:pt x="182" y="190"/>
                  </a:lnTo>
                  <a:lnTo>
                    <a:pt x="217" y="196"/>
                  </a:lnTo>
                  <a:lnTo>
                    <a:pt x="251" y="203"/>
                  </a:lnTo>
                  <a:lnTo>
                    <a:pt x="286" y="211"/>
                  </a:lnTo>
                  <a:lnTo>
                    <a:pt x="321" y="220"/>
                  </a:lnTo>
                  <a:lnTo>
                    <a:pt x="354" y="230"/>
                  </a:lnTo>
                  <a:lnTo>
                    <a:pt x="387" y="241"/>
                  </a:lnTo>
                  <a:lnTo>
                    <a:pt x="420" y="253"/>
                  </a:lnTo>
                  <a:lnTo>
                    <a:pt x="452" y="266"/>
                  </a:lnTo>
                  <a:lnTo>
                    <a:pt x="484" y="280"/>
                  </a:lnTo>
                  <a:lnTo>
                    <a:pt x="516" y="295"/>
                  </a:lnTo>
                  <a:lnTo>
                    <a:pt x="546" y="309"/>
                  </a:lnTo>
                  <a:lnTo>
                    <a:pt x="577" y="327"/>
                  </a:lnTo>
                  <a:lnTo>
                    <a:pt x="606" y="344"/>
                  </a:lnTo>
                  <a:lnTo>
                    <a:pt x="635" y="362"/>
                  </a:lnTo>
                  <a:lnTo>
                    <a:pt x="665" y="381"/>
                  </a:lnTo>
                  <a:lnTo>
                    <a:pt x="692" y="401"/>
                  </a:lnTo>
                  <a:lnTo>
                    <a:pt x="720" y="422"/>
                  </a:lnTo>
                  <a:lnTo>
                    <a:pt x="746" y="443"/>
                  </a:lnTo>
                  <a:lnTo>
                    <a:pt x="773" y="464"/>
                  </a:lnTo>
                  <a:lnTo>
                    <a:pt x="798" y="488"/>
                  </a:lnTo>
                  <a:lnTo>
                    <a:pt x="823" y="511"/>
                  </a:lnTo>
                  <a:lnTo>
                    <a:pt x="847" y="536"/>
                  </a:lnTo>
                  <a:lnTo>
                    <a:pt x="871" y="560"/>
                  </a:lnTo>
                  <a:lnTo>
                    <a:pt x="893" y="586"/>
                  </a:lnTo>
                  <a:lnTo>
                    <a:pt x="916" y="613"/>
                  </a:lnTo>
                  <a:lnTo>
                    <a:pt x="936" y="639"/>
                  </a:lnTo>
                  <a:lnTo>
                    <a:pt x="957" y="667"/>
                  </a:lnTo>
                  <a:lnTo>
                    <a:pt x="1099" y="56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46360" y="2414520"/>
              <a:ext cx="79200" cy="320760"/>
            </a:xfrm>
            <a:custGeom>
              <a:avLst/>
              <a:gdLst/>
              <a:ahLst/>
              <a:rect l="l" t="t" r="r" b="b"/>
              <a:pathLst>
                <a:path w="1102" h="4447">
                  <a:moveTo>
                    <a:pt x="0" y="3669"/>
                  </a:moveTo>
                  <a:lnTo>
                    <a:pt x="29" y="3637"/>
                  </a:lnTo>
                  <a:lnTo>
                    <a:pt x="58" y="3605"/>
                  </a:lnTo>
                  <a:lnTo>
                    <a:pt x="85" y="3570"/>
                  </a:lnTo>
                  <a:lnTo>
                    <a:pt x="111" y="3534"/>
                  </a:lnTo>
                  <a:lnTo>
                    <a:pt x="136" y="3497"/>
                  </a:lnTo>
                  <a:lnTo>
                    <a:pt x="160" y="3460"/>
                  </a:lnTo>
                  <a:lnTo>
                    <a:pt x="182" y="3421"/>
                  </a:lnTo>
                  <a:lnTo>
                    <a:pt x="204" y="3381"/>
                  </a:lnTo>
                  <a:lnTo>
                    <a:pt x="224" y="3340"/>
                  </a:lnTo>
                  <a:lnTo>
                    <a:pt x="243" y="3298"/>
                  </a:lnTo>
                  <a:lnTo>
                    <a:pt x="262" y="3255"/>
                  </a:lnTo>
                  <a:lnTo>
                    <a:pt x="279" y="3212"/>
                  </a:lnTo>
                  <a:lnTo>
                    <a:pt x="294" y="3167"/>
                  </a:lnTo>
                  <a:lnTo>
                    <a:pt x="310" y="3122"/>
                  </a:lnTo>
                  <a:lnTo>
                    <a:pt x="324" y="3076"/>
                  </a:lnTo>
                  <a:lnTo>
                    <a:pt x="337" y="3030"/>
                  </a:lnTo>
                  <a:lnTo>
                    <a:pt x="349" y="2982"/>
                  </a:lnTo>
                  <a:lnTo>
                    <a:pt x="361" y="2935"/>
                  </a:lnTo>
                  <a:lnTo>
                    <a:pt x="371" y="2886"/>
                  </a:lnTo>
                  <a:lnTo>
                    <a:pt x="380" y="2837"/>
                  </a:lnTo>
                  <a:lnTo>
                    <a:pt x="389" y="2788"/>
                  </a:lnTo>
                  <a:lnTo>
                    <a:pt x="396" y="2738"/>
                  </a:lnTo>
                  <a:lnTo>
                    <a:pt x="404" y="2688"/>
                  </a:lnTo>
                  <a:lnTo>
                    <a:pt x="410" y="2637"/>
                  </a:lnTo>
                  <a:lnTo>
                    <a:pt x="415" y="2586"/>
                  </a:lnTo>
                  <a:lnTo>
                    <a:pt x="420" y="2535"/>
                  </a:lnTo>
                  <a:lnTo>
                    <a:pt x="424" y="2484"/>
                  </a:lnTo>
                  <a:lnTo>
                    <a:pt x="427" y="2432"/>
                  </a:lnTo>
                  <a:lnTo>
                    <a:pt x="429" y="2381"/>
                  </a:lnTo>
                  <a:lnTo>
                    <a:pt x="430" y="2329"/>
                  </a:lnTo>
                  <a:lnTo>
                    <a:pt x="431" y="2277"/>
                  </a:lnTo>
                  <a:lnTo>
                    <a:pt x="432" y="2224"/>
                  </a:lnTo>
                  <a:lnTo>
                    <a:pt x="431" y="2172"/>
                  </a:lnTo>
                  <a:lnTo>
                    <a:pt x="430" y="2120"/>
                  </a:lnTo>
                  <a:lnTo>
                    <a:pt x="429" y="2068"/>
                  </a:lnTo>
                  <a:lnTo>
                    <a:pt x="427" y="2016"/>
                  </a:lnTo>
                  <a:lnTo>
                    <a:pt x="424" y="1964"/>
                  </a:lnTo>
                  <a:lnTo>
                    <a:pt x="420" y="1913"/>
                  </a:lnTo>
                  <a:lnTo>
                    <a:pt x="415" y="1862"/>
                  </a:lnTo>
                  <a:lnTo>
                    <a:pt x="410" y="1811"/>
                  </a:lnTo>
                  <a:lnTo>
                    <a:pt x="404" y="1760"/>
                  </a:lnTo>
                  <a:lnTo>
                    <a:pt x="396" y="1710"/>
                  </a:lnTo>
                  <a:lnTo>
                    <a:pt x="389" y="1659"/>
                  </a:lnTo>
                  <a:lnTo>
                    <a:pt x="380" y="1610"/>
                  </a:lnTo>
                  <a:lnTo>
                    <a:pt x="371" y="1561"/>
                  </a:lnTo>
                  <a:lnTo>
                    <a:pt x="361" y="1513"/>
                  </a:lnTo>
                  <a:lnTo>
                    <a:pt x="349" y="1465"/>
                  </a:lnTo>
                  <a:lnTo>
                    <a:pt x="337" y="1418"/>
                  </a:lnTo>
                  <a:lnTo>
                    <a:pt x="324" y="1371"/>
                  </a:lnTo>
                  <a:lnTo>
                    <a:pt x="310" y="1325"/>
                  </a:lnTo>
                  <a:lnTo>
                    <a:pt x="294" y="1280"/>
                  </a:lnTo>
                  <a:lnTo>
                    <a:pt x="279" y="1235"/>
                  </a:lnTo>
                  <a:lnTo>
                    <a:pt x="262" y="1193"/>
                  </a:lnTo>
                  <a:lnTo>
                    <a:pt x="243" y="1150"/>
                  </a:lnTo>
                  <a:lnTo>
                    <a:pt x="224" y="1108"/>
                  </a:lnTo>
                  <a:lnTo>
                    <a:pt x="204" y="1067"/>
                  </a:lnTo>
                  <a:lnTo>
                    <a:pt x="182" y="1027"/>
                  </a:lnTo>
                  <a:lnTo>
                    <a:pt x="160" y="988"/>
                  </a:lnTo>
                  <a:lnTo>
                    <a:pt x="136" y="950"/>
                  </a:lnTo>
                  <a:lnTo>
                    <a:pt x="111" y="914"/>
                  </a:lnTo>
                  <a:lnTo>
                    <a:pt x="85" y="878"/>
                  </a:lnTo>
                  <a:lnTo>
                    <a:pt x="58" y="843"/>
                  </a:lnTo>
                  <a:lnTo>
                    <a:pt x="29" y="810"/>
                  </a:lnTo>
                  <a:lnTo>
                    <a:pt x="0" y="779"/>
                  </a:lnTo>
                  <a:lnTo>
                    <a:pt x="432" y="0"/>
                  </a:lnTo>
                  <a:lnTo>
                    <a:pt x="472" y="52"/>
                  </a:lnTo>
                  <a:lnTo>
                    <a:pt x="512" y="107"/>
                  </a:lnTo>
                  <a:lnTo>
                    <a:pt x="550" y="163"/>
                  </a:lnTo>
                  <a:lnTo>
                    <a:pt x="588" y="219"/>
                  </a:lnTo>
                  <a:lnTo>
                    <a:pt x="626" y="276"/>
                  </a:lnTo>
                  <a:lnTo>
                    <a:pt x="662" y="335"/>
                  </a:lnTo>
                  <a:lnTo>
                    <a:pt x="697" y="396"/>
                  </a:lnTo>
                  <a:lnTo>
                    <a:pt x="731" y="457"/>
                  </a:lnTo>
                  <a:lnTo>
                    <a:pt x="765" y="519"/>
                  </a:lnTo>
                  <a:lnTo>
                    <a:pt x="796" y="583"/>
                  </a:lnTo>
                  <a:lnTo>
                    <a:pt x="827" y="648"/>
                  </a:lnTo>
                  <a:lnTo>
                    <a:pt x="857" y="713"/>
                  </a:lnTo>
                  <a:lnTo>
                    <a:pt x="884" y="781"/>
                  </a:lnTo>
                  <a:lnTo>
                    <a:pt x="911" y="848"/>
                  </a:lnTo>
                  <a:lnTo>
                    <a:pt x="936" y="917"/>
                  </a:lnTo>
                  <a:lnTo>
                    <a:pt x="960" y="987"/>
                  </a:lnTo>
                  <a:lnTo>
                    <a:pt x="982" y="1058"/>
                  </a:lnTo>
                  <a:lnTo>
                    <a:pt x="1002" y="1129"/>
                  </a:lnTo>
                  <a:lnTo>
                    <a:pt x="1021" y="1203"/>
                  </a:lnTo>
                  <a:lnTo>
                    <a:pt x="1038" y="1276"/>
                  </a:lnTo>
                  <a:lnTo>
                    <a:pt x="1052" y="1351"/>
                  </a:lnTo>
                  <a:lnTo>
                    <a:pt x="1066" y="1427"/>
                  </a:lnTo>
                  <a:lnTo>
                    <a:pt x="1077" y="1502"/>
                  </a:lnTo>
                  <a:lnTo>
                    <a:pt x="1086" y="1580"/>
                  </a:lnTo>
                  <a:lnTo>
                    <a:pt x="1093" y="1657"/>
                  </a:lnTo>
                  <a:lnTo>
                    <a:pt x="1098" y="1736"/>
                  </a:lnTo>
                  <a:lnTo>
                    <a:pt x="1101" y="1816"/>
                  </a:lnTo>
                  <a:lnTo>
                    <a:pt x="1102" y="1895"/>
                  </a:lnTo>
                  <a:lnTo>
                    <a:pt x="1100" y="1977"/>
                  </a:lnTo>
                  <a:lnTo>
                    <a:pt x="1096" y="2059"/>
                  </a:lnTo>
                  <a:lnTo>
                    <a:pt x="1090" y="2141"/>
                  </a:lnTo>
                  <a:lnTo>
                    <a:pt x="1082" y="2224"/>
                  </a:lnTo>
                  <a:lnTo>
                    <a:pt x="1081" y="2307"/>
                  </a:lnTo>
                  <a:lnTo>
                    <a:pt x="1079" y="2390"/>
                  </a:lnTo>
                  <a:lnTo>
                    <a:pt x="1076" y="2472"/>
                  </a:lnTo>
                  <a:lnTo>
                    <a:pt x="1072" y="2552"/>
                  </a:lnTo>
                  <a:lnTo>
                    <a:pt x="1066" y="2632"/>
                  </a:lnTo>
                  <a:lnTo>
                    <a:pt x="1059" y="2712"/>
                  </a:lnTo>
                  <a:lnTo>
                    <a:pt x="1050" y="2790"/>
                  </a:lnTo>
                  <a:lnTo>
                    <a:pt x="1041" y="2868"/>
                  </a:lnTo>
                  <a:lnTo>
                    <a:pt x="1030" y="2946"/>
                  </a:lnTo>
                  <a:lnTo>
                    <a:pt x="1018" y="3022"/>
                  </a:lnTo>
                  <a:lnTo>
                    <a:pt x="1004" y="3098"/>
                  </a:lnTo>
                  <a:lnTo>
                    <a:pt x="990" y="3171"/>
                  </a:lnTo>
                  <a:lnTo>
                    <a:pt x="974" y="3246"/>
                  </a:lnTo>
                  <a:lnTo>
                    <a:pt x="958" y="3319"/>
                  </a:lnTo>
                  <a:lnTo>
                    <a:pt x="939" y="3390"/>
                  </a:lnTo>
                  <a:lnTo>
                    <a:pt x="919" y="3461"/>
                  </a:lnTo>
                  <a:lnTo>
                    <a:pt x="898" y="3531"/>
                  </a:lnTo>
                  <a:lnTo>
                    <a:pt x="876" y="3600"/>
                  </a:lnTo>
                  <a:lnTo>
                    <a:pt x="852" y="3668"/>
                  </a:lnTo>
                  <a:lnTo>
                    <a:pt x="828" y="3734"/>
                  </a:lnTo>
                  <a:lnTo>
                    <a:pt x="801" y="3800"/>
                  </a:lnTo>
                  <a:lnTo>
                    <a:pt x="775" y="3865"/>
                  </a:lnTo>
                  <a:lnTo>
                    <a:pt x="746" y="3929"/>
                  </a:lnTo>
                  <a:lnTo>
                    <a:pt x="716" y="3991"/>
                  </a:lnTo>
                  <a:lnTo>
                    <a:pt x="685" y="4052"/>
                  </a:lnTo>
                  <a:lnTo>
                    <a:pt x="653" y="4112"/>
                  </a:lnTo>
                  <a:lnTo>
                    <a:pt x="619" y="4172"/>
                  </a:lnTo>
                  <a:lnTo>
                    <a:pt x="584" y="4229"/>
                  </a:lnTo>
                  <a:lnTo>
                    <a:pt x="548" y="4286"/>
                  </a:lnTo>
                  <a:lnTo>
                    <a:pt x="511" y="4341"/>
                  </a:lnTo>
                  <a:lnTo>
                    <a:pt x="472" y="4395"/>
                  </a:lnTo>
                  <a:lnTo>
                    <a:pt x="432" y="4447"/>
                  </a:lnTo>
                  <a:lnTo>
                    <a:pt x="0" y="36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25640" y="2381400"/>
              <a:ext cx="77760" cy="401400"/>
            </a:xfrm>
            <a:custGeom>
              <a:avLst/>
              <a:gdLst/>
              <a:ahLst/>
              <a:rect l="l" t="t" r="r" b="b"/>
              <a:pathLst>
                <a:path w="1082" h="5560">
                  <a:moveTo>
                    <a:pt x="0" y="4671"/>
                  </a:moveTo>
                  <a:lnTo>
                    <a:pt x="30" y="4628"/>
                  </a:lnTo>
                  <a:lnTo>
                    <a:pt x="58" y="4584"/>
                  </a:lnTo>
                  <a:lnTo>
                    <a:pt x="86" y="4540"/>
                  </a:lnTo>
                  <a:lnTo>
                    <a:pt x="112" y="4493"/>
                  </a:lnTo>
                  <a:lnTo>
                    <a:pt x="137" y="4446"/>
                  </a:lnTo>
                  <a:lnTo>
                    <a:pt x="160" y="4398"/>
                  </a:lnTo>
                  <a:lnTo>
                    <a:pt x="184" y="4348"/>
                  </a:lnTo>
                  <a:lnTo>
                    <a:pt x="205" y="4297"/>
                  </a:lnTo>
                  <a:lnTo>
                    <a:pt x="225" y="4245"/>
                  </a:lnTo>
                  <a:lnTo>
                    <a:pt x="245" y="4192"/>
                  </a:lnTo>
                  <a:lnTo>
                    <a:pt x="262" y="4138"/>
                  </a:lnTo>
                  <a:lnTo>
                    <a:pt x="279" y="4082"/>
                  </a:lnTo>
                  <a:lnTo>
                    <a:pt x="296" y="4026"/>
                  </a:lnTo>
                  <a:lnTo>
                    <a:pt x="311" y="3968"/>
                  </a:lnTo>
                  <a:lnTo>
                    <a:pt x="325" y="3910"/>
                  </a:lnTo>
                  <a:lnTo>
                    <a:pt x="339" y="3850"/>
                  </a:lnTo>
                  <a:lnTo>
                    <a:pt x="351" y="3790"/>
                  </a:lnTo>
                  <a:lnTo>
                    <a:pt x="362" y="3729"/>
                  </a:lnTo>
                  <a:lnTo>
                    <a:pt x="372" y="3667"/>
                  </a:lnTo>
                  <a:lnTo>
                    <a:pt x="382" y="3603"/>
                  </a:lnTo>
                  <a:lnTo>
                    <a:pt x="391" y="3539"/>
                  </a:lnTo>
                  <a:lnTo>
                    <a:pt x="399" y="3474"/>
                  </a:lnTo>
                  <a:lnTo>
                    <a:pt x="405" y="3408"/>
                  </a:lnTo>
                  <a:lnTo>
                    <a:pt x="411" y="3342"/>
                  </a:lnTo>
                  <a:lnTo>
                    <a:pt x="417" y="3274"/>
                  </a:lnTo>
                  <a:lnTo>
                    <a:pt x="421" y="3206"/>
                  </a:lnTo>
                  <a:lnTo>
                    <a:pt x="425" y="3136"/>
                  </a:lnTo>
                  <a:lnTo>
                    <a:pt x="428" y="3067"/>
                  </a:lnTo>
                  <a:lnTo>
                    <a:pt x="430" y="2996"/>
                  </a:lnTo>
                  <a:lnTo>
                    <a:pt x="433" y="2925"/>
                  </a:lnTo>
                  <a:lnTo>
                    <a:pt x="434" y="2853"/>
                  </a:lnTo>
                  <a:lnTo>
                    <a:pt x="434" y="2781"/>
                  </a:lnTo>
                  <a:lnTo>
                    <a:pt x="434" y="2717"/>
                  </a:lnTo>
                  <a:lnTo>
                    <a:pt x="433" y="2654"/>
                  </a:lnTo>
                  <a:lnTo>
                    <a:pt x="430" y="2590"/>
                  </a:lnTo>
                  <a:lnTo>
                    <a:pt x="428" y="2525"/>
                  </a:lnTo>
                  <a:lnTo>
                    <a:pt x="425" y="2461"/>
                  </a:lnTo>
                  <a:lnTo>
                    <a:pt x="421" y="2397"/>
                  </a:lnTo>
                  <a:lnTo>
                    <a:pt x="417" y="2331"/>
                  </a:lnTo>
                  <a:lnTo>
                    <a:pt x="411" y="2266"/>
                  </a:lnTo>
                  <a:lnTo>
                    <a:pt x="405" y="2200"/>
                  </a:lnTo>
                  <a:lnTo>
                    <a:pt x="399" y="2136"/>
                  </a:lnTo>
                  <a:lnTo>
                    <a:pt x="391" y="2071"/>
                  </a:lnTo>
                  <a:lnTo>
                    <a:pt x="382" y="2006"/>
                  </a:lnTo>
                  <a:lnTo>
                    <a:pt x="372" y="1942"/>
                  </a:lnTo>
                  <a:lnTo>
                    <a:pt x="362" y="1878"/>
                  </a:lnTo>
                  <a:lnTo>
                    <a:pt x="351" y="1814"/>
                  </a:lnTo>
                  <a:lnTo>
                    <a:pt x="339" y="1752"/>
                  </a:lnTo>
                  <a:lnTo>
                    <a:pt x="325" y="1690"/>
                  </a:lnTo>
                  <a:lnTo>
                    <a:pt x="311" y="1628"/>
                  </a:lnTo>
                  <a:lnTo>
                    <a:pt x="296" y="1567"/>
                  </a:lnTo>
                  <a:lnTo>
                    <a:pt x="279" y="1508"/>
                  </a:lnTo>
                  <a:lnTo>
                    <a:pt x="262" y="1449"/>
                  </a:lnTo>
                  <a:lnTo>
                    <a:pt x="245" y="1391"/>
                  </a:lnTo>
                  <a:lnTo>
                    <a:pt x="225" y="1334"/>
                  </a:lnTo>
                  <a:lnTo>
                    <a:pt x="205" y="1279"/>
                  </a:lnTo>
                  <a:lnTo>
                    <a:pt x="184" y="1225"/>
                  </a:lnTo>
                  <a:lnTo>
                    <a:pt x="160" y="1173"/>
                  </a:lnTo>
                  <a:lnTo>
                    <a:pt x="137" y="1121"/>
                  </a:lnTo>
                  <a:lnTo>
                    <a:pt x="112" y="1072"/>
                  </a:lnTo>
                  <a:lnTo>
                    <a:pt x="86" y="1024"/>
                  </a:lnTo>
                  <a:lnTo>
                    <a:pt x="58" y="977"/>
                  </a:lnTo>
                  <a:lnTo>
                    <a:pt x="30" y="933"/>
                  </a:lnTo>
                  <a:lnTo>
                    <a:pt x="0" y="890"/>
                  </a:lnTo>
                  <a:lnTo>
                    <a:pt x="434" y="0"/>
                  </a:lnTo>
                  <a:lnTo>
                    <a:pt x="473" y="74"/>
                  </a:lnTo>
                  <a:lnTo>
                    <a:pt x="512" y="149"/>
                  </a:lnTo>
                  <a:lnTo>
                    <a:pt x="550" y="225"/>
                  </a:lnTo>
                  <a:lnTo>
                    <a:pt x="586" y="302"/>
                  </a:lnTo>
                  <a:lnTo>
                    <a:pt x="620" y="381"/>
                  </a:lnTo>
                  <a:lnTo>
                    <a:pt x="654" y="461"/>
                  </a:lnTo>
                  <a:lnTo>
                    <a:pt x="687" y="540"/>
                  </a:lnTo>
                  <a:lnTo>
                    <a:pt x="717" y="622"/>
                  </a:lnTo>
                  <a:lnTo>
                    <a:pt x="747" y="705"/>
                  </a:lnTo>
                  <a:lnTo>
                    <a:pt x="775" y="789"/>
                  </a:lnTo>
                  <a:lnTo>
                    <a:pt x="803" y="872"/>
                  </a:lnTo>
                  <a:lnTo>
                    <a:pt x="828" y="958"/>
                  </a:lnTo>
                  <a:lnTo>
                    <a:pt x="854" y="1044"/>
                  </a:lnTo>
                  <a:lnTo>
                    <a:pt x="877" y="1131"/>
                  </a:lnTo>
                  <a:lnTo>
                    <a:pt x="899" y="1219"/>
                  </a:lnTo>
                  <a:lnTo>
                    <a:pt x="920" y="1307"/>
                  </a:lnTo>
                  <a:lnTo>
                    <a:pt x="940" y="1395"/>
                  </a:lnTo>
                  <a:lnTo>
                    <a:pt x="958" y="1485"/>
                  </a:lnTo>
                  <a:lnTo>
                    <a:pt x="975" y="1575"/>
                  </a:lnTo>
                  <a:lnTo>
                    <a:pt x="991" y="1666"/>
                  </a:lnTo>
                  <a:lnTo>
                    <a:pt x="1006" y="1757"/>
                  </a:lnTo>
                  <a:lnTo>
                    <a:pt x="1019" y="1849"/>
                  </a:lnTo>
                  <a:lnTo>
                    <a:pt x="1031" y="1941"/>
                  </a:lnTo>
                  <a:lnTo>
                    <a:pt x="1042" y="2033"/>
                  </a:lnTo>
                  <a:lnTo>
                    <a:pt x="1051" y="2126"/>
                  </a:lnTo>
                  <a:lnTo>
                    <a:pt x="1060" y="2219"/>
                  </a:lnTo>
                  <a:lnTo>
                    <a:pt x="1066" y="2312"/>
                  </a:lnTo>
                  <a:lnTo>
                    <a:pt x="1072" y="2406"/>
                  </a:lnTo>
                  <a:lnTo>
                    <a:pt x="1076" y="2499"/>
                  </a:lnTo>
                  <a:lnTo>
                    <a:pt x="1080" y="2593"/>
                  </a:lnTo>
                  <a:lnTo>
                    <a:pt x="1081" y="2687"/>
                  </a:lnTo>
                  <a:lnTo>
                    <a:pt x="1082" y="2781"/>
                  </a:lnTo>
                  <a:lnTo>
                    <a:pt x="1081" y="2874"/>
                  </a:lnTo>
                  <a:lnTo>
                    <a:pt x="1080" y="2968"/>
                  </a:lnTo>
                  <a:lnTo>
                    <a:pt x="1076" y="3062"/>
                  </a:lnTo>
                  <a:lnTo>
                    <a:pt x="1072" y="3155"/>
                  </a:lnTo>
                  <a:lnTo>
                    <a:pt x="1066" y="3249"/>
                  </a:lnTo>
                  <a:lnTo>
                    <a:pt x="1060" y="3342"/>
                  </a:lnTo>
                  <a:lnTo>
                    <a:pt x="1051" y="3435"/>
                  </a:lnTo>
                  <a:lnTo>
                    <a:pt x="1042" y="3528"/>
                  </a:lnTo>
                  <a:lnTo>
                    <a:pt x="1031" y="3620"/>
                  </a:lnTo>
                  <a:lnTo>
                    <a:pt x="1019" y="3711"/>
                  </a:lnTo>
                  <a:lnTo>
                    <a:pt x="1006" y="3803"/>
                  </a:lnTo>
                  <a:lnTo>
                    <a:pt x="991" y="3894"/>
                  </a:lnTo>
                  <a:lnTo>
                    <a:pt x="975" y="3985"/>
                  </a:lnTo>
                  <a:lnTo>
                    <a:pt x="958" y="4075"/>
                  </a:lnTo>
                  <a:lnTo>
                    <a:pt x="940" y="4164"/>
                  </a:lnTo>
                  <a:lnTo>
                    <a:pt x="920" y="4253"/>
                  </a:lnTo>
                  <a:lnTo>
                    <a:pt x="899" y="4342"/>
                  </a:lnTo>
                  <a:lnTo>
                    <a:pt x="877" y="4430"/>
                  </a:lnTo>
                  <a:lnTo>
                    <a:pt x="854" y="4517"/>
                  </a:lnTo>
                  <a:lnTo>
                    <a:pt x="828" y="4602"/>
                  </a:lnTo>
                  <a:lnTo>
                    <a:pt x="803" y="4687"/>
                  </a:lnTo>
                  <a:lnTo>
                    <a:pt x="775" y="4772"/>
                  </a:lnTo>
                  <a:lnTo>
                    <a:pt x="747" y="4856"/>
                  </a:lnTo>
                  <a:lnTo>
                    <a:pt x="717" y="4938"/>
                  </a:lnTo>
                  <a:lnTo>
                    <a:pt x="687" y="5019"/>
                  </a:lnTo>
                  <a:lnTo>
                    <a:pt x="654" y="5100"/>
                  </a:lnTo>
                  <a:lnTo>
                    <a:pt x="620" y="5180"/>
                  </a:lnTo>
                  <a:lnTo>
                    <a:pt x="586" y="5258"/>
                  </a:lnTo>
                  <a:lnTo>
                    <a:pt x="550" y="5336"/>
                  </a:lnTo>
                  <a:lnTo>
                    <a:pt x="512" y="5411"/>
                  </a:lnTo>
                  <a:lnTo>
                    <a:pt x="473" y="5486"/>
                  </a:lnTo>
                  <a:lnTo>
                    <a:pt x="434" y="5560"/>
                  </a:lnTo>
                  <a:lnTo>
                    <a:pt x="0" y="467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281040" y="2414520"/>
              <a:ext cx="77760" cy="320760"/>
            </a:xfrm>
            <a:custGeom>
              <a:avLst/>
              <a:gdLst/>
              <a:ahLst/>
              <a:rect l="l" t="t" r="r" b="b"/>
              <a:pathLst>
                <a:path w="1081" h="4447">
                  <a:moveTo>
                    <a:pt x="1081" y="3669"/>
                  </a:moveTo>
                  <a:lnTo>
                    <a:pt x="1062" y="3637"/>
                  </a:lnTo>
                  <a:lnTo>
                    <a:pt x="1041" y="3605"/>
                  </a:lnTo>
                  <a:lnTo>
                    <a:pt x="1021" y="3570"/>
                  </a:lnTo>
                  <a:lnTo>
                    <a:pt x="1000" y="3534"/>
                  </a:lnTo>
                  <a:lnTo>
                    <a:pt x="981" y="3497"/>
                  </a:lnTo>
                  <a:lnTo>
                    <a:pt x="962" y="3460"/>
                  </a:lnTo>
                  <a:lnTo>
                    <a:pt x="941" y="3421"/>
                  </a:lnTo>
                  <a:lnTo>
                    <a:pt x="923" y="3381"/>
                  </a:lnTo>
                  <a:lnTo>
                    <a:pt x="903" y="3340"/>
                  </a:lnTo>
                  <a:lnTo>
                    <a:pt x="885" y="3298"/>
                  </a:lnTo>
                  <a:lnTo>
                    <a:pt x="867" y="3255"/>
                  </a:lnTo>
                  <a:lnTo>
                    <a:pt x="849" y="3212"/>
                  </a:lnTo>
                  <a:lnTo>
                    <a:pt x="832" y="3167"/>
                  </a:lnTo>
                  <a:lnTo>
                    <a:pt x="816" y="3122"/>
                  </a:lnTo>
                  <a:lnTo>
                    <a:pt x="799" y="3076"/>
                  </a:lnTo>
                  <a:lnTo>
                    <a:pt x="784" y="3030"/>
                  </a:lnTo>
                  <a:lnTo>
                    <a:pt x="769" y="2982"/>
                  </a:lnTo>
                  <a:lnTo>
                    <a:pt x="755" y="2935"/>
                  </a:lnTo>
                  <a:lnTo>
                    <a:pt x="741" y="2886"/>
                  </a:lnTo>
                  <a:lnTo>
                    <a:pt x="729" y="2837"/>
                  </a:lnTo>
                  <a:lnTo>
                    <a:pt x="717" y="2788"/>
                  </a:lnTo>
                  <a:lnTo>
                    <a:pt x="706" y="2738"/>
                  </a:lnTo>
                  <a:lnTo>
                    <a:pt x="695" y="2688"/>
                  </a:lnTo>
                  <a:lnTo>
                    <a:pt x="686" y="2637"/>
                  </a:lnTo>
                  <a:lnTo>
                    <a:pt x="678" y="2586"/>
                  </a:lnTo>
                  <a:lnTo>
                    <a:pt x="670" y="2535"/>
                  </a:lnTo>
                  <a:lnTo>
                    <a:pt x="664" y="2484"/>
                  </a:lnTo>
                  <a:lnTo>
                    <a:pt x="659" y="2432"/>
                  </a:lnTo>
                  <a:lnTo>
                    <a:pt x="655" y="2381"/>
                  </a:lnTo>
                  <a:lnTo>
                    <a:pt x="651" y="2329"/>
                  </a:lnTo>
                  <a:lnTo>
                    <a:pt x="649" y="2277"/>
                  </a:lnTo>
                  <a:lnTo>
                    <a:pt x="649" y="2224"/>
                  </a:lnTo>
                  <a:lnTo>
                    <a:pt x="649" y="2172"/>
                  </a:lnTo>
                  <a:lnTo>
                    <a:pt x="651" y="2120"/>
                  </a:lnTo>
                  <a:lnTo>
                    <a:pt x="655" y="2068"/>
                  </a:lnTo>
                  <a:lnTo>
                    <a:pt x="659" y="2016"/>
                  </a:lnTo>
                  <a:lnTo>
                    <a:pt x="664" y="1964"/>
                  </a:lnTo>
                  <a:lnTo>
                    <a:pt x="670" y="1913"/>
                  </a:lnTo>
                  <a:lnTo>
                    <a:pt x="678" y="1862"/>
                  </a:lnTo>
                  <a:lnTo>
                    <a:pt x="686" y="1811"/>
                  </a:lnTo>
                  <a:lnTo>
                    <a:pt x="695" y="1760"/>
                  </a:lnTo>
                  <a:lnTo>
                    <a:pt x="706" y="1710"/>
                  </a:lnTo>
                  <a:lnTo>
                    <a:pt x="717" y="1659"/>
                  </a:lnTo>
                  <a:lnTo>
                    <a:pt x="729" y="1610"/>
                  </a:lnTo>
                  <a:lnTo>
                    <a:pt x="741" y="1561"/>
                  </a:lnTo>
                  <a:lnTo>
                    <a:pt x="755" y="1513"/>
                  </a:lnTo>
                  <a:lnTo>
                    <a:pt x="769" y="1465"/>
                  </a:lnTo>
                  <a:lnTo>
                    <a:pt x="784" y="1418"/>
                  </a:lnTo>
                  <a:lnTo>
                    <a:pt x="799" y="1371"/>
                  </a:lnTo>
                  <a:lnTo>
                    <a:pt x="816" y="1325"/>
                  </a:lnTo>
                  <a:lnTo>
                    <a:pt x="832" y="1280"/>
                  </a:lnTo>
                  <a:lnTo>
                    <a:pt x="849" y="1235"/>
                  </a:lnTo>
                  <a:lnTo>
                    <a:pt x="867" y="1193"/>
                  </a:lnTo>
                  <a:lnTo>
                    <a:pt x="885" y="1150"/>
                  </a:lnTo>
                  <a:lnTo>
                    <a:pt x="903" y="1108"/>
                  </a:lnTo>
                  <a:lnTo>
                    <a:pt x="923" y="1067"/>
                  </a:lnTo>
                  <a:lnTo>
                    <a:pt x="941" y="1027"/>
                  </a:lnTo>
                  <a:lnTo>
                    <a:pt x="962" y="988"/>
                  </a:lnTo>
                  <a:lnTo>
                    <a:pt x="981" y="950"/>
                  </a:lnTo>
                  <a:lnTo>
                    <a:pt x="1000" y="914"/>
                  </a:lnTo>
                  <a:lnTo>
                    <a:pt x="1021" y="878"/>
                  </a:lnTo>
                  <a:lnTo>
                    <a:pt x="1041" y="843"/>
                  </a:lnTo>
                  <a:lnTo>
                    <a:pt x="1062" y="810"/>
                  </a:lnTo>
                  <a:lnTo>
                    <a:pt x="1081" y="779"/>
                  </a:lnTo>
                  <a:lnTo>
                    <a:pt x="649" y="0"/>
                  </a:lnTo>
                  <a:lnTo>
                    <a:pt x="609" y="52"/>
                  </a:lnTo>
                  <a:lnTo>
                    <a:pt x="570" y="107"/>
                  </a:lnTo>
                  <a:lnTo>
                    <a:pt x="533" y="163"/>
                  </a:lnTo>
                  <a:lnTo>
                    <a:pt x="496" y="219"/>
                  </a:lnTo>
                  <a:lnTo>
                    <a:pt x="462" y="276"/>
                  </a:lnTo>
                  <a:lnTo>
                    <a:pt x="428" y="335"/>
                  </a:lnTo>
                  <a:lnTo>
                    <a:pt x="395" y="396"/>
                  </a:lnTo>
                  <a:lnTo>
                    <a:pt x="365" y="457"/>
                  </a:lnTo>
                  <a:lnTo>
                    <a:pt x="334" y="519"/>
                  </a:lnTo>
                  <a:lnTo>
                    <a:pt x="306" y="583"/>
                  </a:lnTo>
                  <a:lnTo>
                    <a:pt x="279" y="648"/>
                  </a:lnTo>
                  <a:lnTo>
                    <a:pt x="253" y="713"/>
                  </a:lnTo>
                  <a:lnTo>
                    <a:pt x="228" y="781"/>
                  </a:lnTo>
                  <a:lnTo>
                    <a:pt x="205" y="848"/>
                  </a:lnTo>
                  <a:lnTo>
                    <a:pt x="182" y="917"/>
                  </a:lnTo>
                  <a:lnTo>
                    <a:pt x="162" y="987"/>
                  </a:lnTo>
                  <a:lnTo>
                    <a:pt x="141" y="1058"/>
                  </a:lnTo>
                  <a:lnTo>
                    <a:pt x="123" y="1129"/>
                  </a:lnTo>
                  <a:lnTo>
                    <a:pt x="107" y="1203"/>
                  </a:lnTo>
                  <a:lnTo>
                    <a:pt x="90" y="1276"/>
                  </a:lnTo>
                  <a:lnTo>
                    <a:pt x="76" y="1351"/>
                  </a:lnTo>
                  <a:lnTo>
                    <a:pt x="63" y="1427"/>
                  </a:lnTo>
                  <a:lnTo>
                    <a:pt x="51" y="1502"/>
                  </a:lnTo>
                  <a:lnTo>
                    <a:pt x="39" y="1580"/>
                  </a:lnTo>
                  <a:lnTo>
                    <a:pt x="30" y="1657"/>
                  </a:lnTo>
                  <a:lnTo>
                    <a:pt x="22" y="1736"/>
                  </a:lnTo>
                  <a:lnTo>
                    <a:pt x="15" y="1816"/>
                  </a:lnTo>
                  <a:lnTo>
                    <a:pt x="10" y="1895"/>
                  </a:lnTo>
                  <a:lnTo>
                    <a:pt x="5" y="1977"/>
                  </a:lnTo>
                  <a:lnTo>
                    <a:pt x="2" y="2059"/>
                  </a:lnTo>
                  <a:lnTo>
                    <a:pt x="0" y="2141"/>
                  </a:lnTo>
                  <a:lnTo>
                    <a:pt x="0" y="2224"/>
                  </a:lnTo>
                  <a:lnTo>
                    <a:pt x="0" y="2307"/>
                  </a:lnTo>
                  <a:lnTo>
                    <a:pt x="2" y="2390"/>
                  </a:lnTo>
                  <a:lnTo>
                    <a:pt x="5" y="2472"/>
                  </a:lnTo>
                  <a:lnTo>
                    <a:pt x="10" y="2552"/>
                  </a:lnTo>
                  <a:lnTo>
                    <a:pt x="15" y="2632"/>
                  </a:lnTo>
                  <a:lnTo>
                    <a:pt x="22" y="2712"/>
                  </a:lnTo>
                  <a:lnTo>
                    <a:pt x="30" y="2790"/>
                  </a:lnTo>
                  <a:lnTo>
                    <a:pt x="39" y="2868"/>
                  </a:lnTo>
                  <a:lnTo>
                    <a:pt x="51" y="2946"/>
                  </a:lnTo>
                  <a:lnTo>
                    <a:pt x="63" y="3022"/>
                  </a:lnTo>
                  <a:lnTo>
                    <a:pt x="76" y="3098"/>
                  </a:lnTo>
                  <a:lnTo>
                    <a:pt x="90" y="3171"/>
                  </a:lnTo>
                  <a:lnTo>
                    <a:pt x="107" y="3246"/>
                  </a:lnTo>
                  <a:lnTo>
                    <a:pt x="123" y="3319"/>
                  </a:lnTo>
                  <a:lnTo>
                    <a:pt x="141" y="3390"/>
                  </a:lnTo>
                  <a:lnTo>
                    <a:pt x="162" y="3461"/>
                  </a:lnTo>
                  <a:lnTo>
                    <a:pt x="182" y="3531"/>
                  </a:lnTo>
                  <a:lnTo>
                    <a:pt x="205" y="3600"/>
                  </a:lnTo>
                  <a:lnTo>
                    <a:pt x="228" y="3668"/>
                  </a:lnTo>
                  <a:lnTo>
                    <a:pt x="253" y="3734"/>
                  </a:lnTo>
                  <a:lnTo>
                    <a:pt x="279" y="3800"/>
                  </a:lnTo>
                  <a:lnTo>
                    <a:pt x="306" y="3865"/>
                  </a:lnTo>
                  <a:lnTo>
                    <a:pt x="334" y="3929"/>
                  </a:lnTo>
                  <a:lnTo>
                    <a:pt x="365" y="3991"/>
                  </a:lnTo>
                  <a:lnTo>
                    <a:pt x="395" y="4052"/>
                  </a:lnTo>
                  <a:lnTo>
                    <a:pt x="428" y="4112"/>
                  </a:lnTo>
                  <a:lnTo>
                    <a:pt x="462" y="4172"/>
                  </a:lnTo>
                  <a:lnTo>
                    <a:pt x="496" y="4229"/>
                  </a:lnTo>
                  <a:lnTo>
                    <a:pt x="533" y="4286"/>
                  </a:lnTo>
                  <a:lnTo>
                    <a:pt x="570" y="4341"/>
                  </a:lnTo>
                  <a:lnTo>
                    <a:pt x="609" y="4395"/>
                  </a:lnTo>
                  <a:lnTo>
                    <a:pt x="649" y="4447"/>
                  </a:lnTo>
                  <a:lnTo>
                    <a:pt x="1081" y="36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124080" y="2381400"/>
              <a:ext cx="79200" cy="401400"/>
            </a:xfrm>
            <a:custGeom>
              <a:avLst/>
              <a:gdLst/>
              <a:ahLst/>
              <a:rect l="l" t="t" r="r" b="b"/>
              <a:pathLst>
                <a:path w="1082" h="5560">
                  <a:moveTo>
                    <a:pt x="1082" y="4671"/>
                  </a:moveTo>
                  <a:lnTo>
                    <a:pt x="1062" y="4628"/>
                  </a:lnTo>
                  <a:lnTo>
                    <a:pt x="1041" y="4584"/>
                  </a:lnTo>
                  <a:lnTo>
                    <a:pt x="1021" y="4540"/>
                  </a:lnTo>
                  <a:lnTo>
                    <a:pt x="1001" y="4493"/>
                  </a:lnTo>
                  <a:lnTo>
                    <a:pt x="981" y="4446"/>
                  </a:lnTo>
                  <a:lnTo>
                    <a:pt x="962" y="4398"/>
                  </a:lnTo>
                  <a:lnTo>
                    <a:pt x="942" y="4348"/>
                  </a:lnTo>
                  <a:lnTo>
                    <a:pt x="923" y="4297"/>
                  </a:lnTo>
                  <a:lnTo>
                    <a:pt x="905" y="4245"/>
                  </a:lnTo>
                  <a:lnTo>
                    <a:pt x="886" y="4192"/>
                  </a:lnTo>
                  <a:lnTo>
                    <a:pt x="868" y="4138"/>
                  </a:lnTo>
                  <a:lnTo>
                    <a:pt x="850" y="4082"/>
                  </a:lnTo>
                  <a:lnTo>
                    <a:pt x="833" y="4026"/>
                  </a:lnTo>
                  <a:lnTo>
                    <a:pt x="816" y="3968"/>
                  </a:lnTo>
                  <a:lnTo>
                    <a:pt x="800" y="3910"/>
                  </a:lnTo>
                  <a:lnTo>
                    <a:pt x="784" y="3850"/>
                  </a:lnTo>
                  <a:lnTo>
                    <a:pt x="770" y="3790"/>
                  </a:lnTo>
                  <a:lnTo>
                    <a:pt x="756" y="3729"/>
                  </a:lnTo>
                  <a:lnTo>
                    <a:pt x="742" y="3667"/>
                  </a:lnTo>
                  <a:lnTo>
                    <a:pt x="729" y="3603"/>
                  </a:lnTo>
                  <a:lnTo>
                    <a:pt x="717" y="3539"/>
                  </a:lnTo>
                  <a:lnTo>
                    <a:pt x="707" y="3474"/>
                  </a:lnTo>
                  <a:lnTo>
                    <a:pt x="695" y="3408"/>
                  </a:lnTo>
                  <a:lnTo>
                    <a:pt x="686" y="3342"/>
                  </a:lnTo>
                  <a:lnTo>
                    <a:pt x="678" y="3274"/>
                  </a:lnTo>
                  <a:lnTo>
                    <a:pt x="671" y="3206"/>
                  </a:lnTo>
                  <a:lnTo>
                    <a:pt x="665" y="3136"/>
                  </a:lnTo>
                  <a:lnTo>
                    <a:pt x="659" y="3067"/>
                  </a:lnTo>
                  <a:lnTo>
                    <a:pt x="655" y="2996"/>
                  </a:lnTo>
                  <a:lnTo>
                    <a:pt x="651" y="2925"/>
                  </a:lnTo>
                  <a:lnTo>
                    <a:pt x="650" y="2853"/>
                  </a:lnTo>
                  <a:lnTo>
                    <a:pt x="649" y="2781"/>
                  </a:lnTo>
                  <a:lnTo>
                    <a:pt x="650" y="2717"/>
                  </a:lnTo>
                  <a:lnTo>
                    <a:pt x="651" y="2654"/>
                  </a:lnTo>
                  <a:lnTo>
                    <a:pt x="655" y="2590"/>
                  </a:lnTo>
                  <a:lnTo>
                    <a:pt x="659" y="2525"/>
                  </a:lnTo>
                  <a:lnTo>
                    <a:pt x="665" y="2461"/>
                  </a:lnTo>
                  <a:lnTo>
                    <a:pt x="671" y="2397"/>
                  </a:lnTo>
                  <a:lnTo>
                    <a:pt x="678" y="2331"/>
                  </a:lnTo>
                  <a:lnTo>
                    <a:pt x="686" y="2266"/>
                  </a:lnTo>
                  <a:lnTo>
                    <a:pt x="695" y="2200"/>
                  </a:lnTo>
                  <a:lnTo>
                    <a:pt x="707" y="2136"/>
                  </a:lnTo>
                  <a:lnTo>
                    <a:pt x="717" y="2071"/>
                  </a:lnTo>
                  <a:lnTo>
                    <a:pt x="729" y="2006"/>
                  </a:lnTo>
                  <a:lnTo>
                    <a:pt x="742" y="1942"/>
                  </a:lnTo>
                  <a:lnTo>
                    <a:pt x="756" y="1878"/>
                  </a:lnTo>
                  <a:lnTo>
                    <a:pt x="770" y="1814"/>
                  </a:lnTo>
                  <a:lnTo>
                    <a:pt x="784" y="1752"/>
                  </a:lnTo>
                  <a:lnTo>
                    <a:pt x="800" y="1690"/>
                  </a:lnTo>
                  <a:lnTo>
                    <a:pt x="816" y="1628"/>
                  </a:lnTo>
                  <a:lnTo>
                    <a:pt x="833" y="1567"/>
                  </a:lnTo>
                  <a:lnTo>
                    <a:pt x="850" y="1508"/>
                  </a:lnTo>
                  <a:lnTo>
                    <a:pt x="868" y="1449"/>
                  </a:lnTo>
                  <a:lnTo>
                    <a:pt x="886" y="1391"/>
                  </a:lnTo>
                  <a:lnTo>
                    <a:pt x="905" y="1334"/>
                  </a:lnTo>
                  <a:lnTo>
                    <a:pt x="923" y="1279"/>
                  </a:lnTo>
                  <a:lnTo>
                    <a:pt x="942" y="1225"/>
                  </a:lnTo>
                  <a:lnTo>
                    <a:pt x="962" y="1173"/>
                  </a:lnTo>
                  <a:lnTo>
                    <a:pt x="981" y="1121"/>
                  </a:lnTo>
                  <a:lnTo>
                    <a:pt x="1001" y="1072"/>
                  </a:lnTo>
                  <a:lnTo>
                    <a:pt x="1021" y="1024"/>
                  </a:lnTo>
                  <a:lnTo>
                    <a:pt x="1041" y="977"/>
                  </a:lnTo>
                  <a:lnTo>
                    <a:pt x="1062" y="933"/>
                  </a:lnTo>
                  <a:lnTo>
                    <a:pt x="1082" y="890"/>
                  </a:lnTo>
                  <a:lnTo>
                    <a:pt x="649" y="0"/>
                  </a:lnTo>
                  <a:lnTo>
                    <a:pt x="610" y="74"/>
                  </a:lnTo>
                  <a:lnTo>
                    <a:pt x="571" y="149"/>
                  </a:lnTo>
                  <a:lnTo>
                    <a:pt x="533" y="225"/>
                  </a:lnTo>
                  <a:lnTo>
                    <a:pt x="497" y="302"/>
                  </a:lnTo>
                  <a:lnTo>
                    <a:pt x="462" y="381"/>
                  </a:lnTo>
                  <a:lnTo>
                    <a:pt x="428" y="461"/>
                  </a:lnTo>
                  <a:lnTo>
                    <a:pt x="396" y="540"/>
                  </a:lnTo>
                  <a:lnTo>
                    <a:pt x="365" y="622"/>
                  </a:lnTo>
                  <a:lnTo>
                    <a:pt x="335" y="705"/>
                  </a:lnTo>
                  <a:lnTo>
                    <a:pt x="307" y="789"/>
                  </a:lnTo>
                  <a:lnTo>
                    <a:pt x="279" y="872"/>
                  </a:lnTo>
                  <a:lnTo>
                    <a:pt x="254" y="958"/>
                  </a:lnTo>
                  <a:lnTo>
                    <a:pt x="228" y="1044"/>
                  </a:lnTo>
                  <a:lnTo>
                    <a:pt x="205" y="1131"/>
                  </a:lnTo>
                  <a:lnTo>
                    <a:pt x="183" y="1219"/>
                  </a:lnTo>
                  <a:lnTo>
                    <a:pt x="162" y="1307"/>
                  </a:lnTo>
                  <a:lnTo>
                    <a:pt x="142" y="1395"/>
                  </a:lnTo>
                  <a:lnTo>
                    <a:pt x="124" y="1485"/>
                  </a:lnTo>
                  <a:lnTo>
                    <a:pt x="107" y="1575"/>
                  </a:lnTo>
                  <a:lnTo>
                    <a:pt x="91" y="1666"/>
                  </a:lnTo>
                  <a:lnTo>
                    <a:pt x="76" y="1757"/>
                  </a:lnTo>
                  <a:lnTo>
                    <a:pt x="63" y="1849"/>
                  </a:lnTo>
                  <a:lnTo>
                    <a:pt x="51" y="1941"/>
                  </a:lnTo>
                  <a:lnTo>
                    <a:pt x="40" y="2033"/>
                  </a:lnTo>
                  <a:lnTo>
                    <a:pt x="31" y="2126"/>
                  </a:lnTo>
                  <a:lnTo>
                    <a:pt x="22" y="2219"/>
                  </a:lnTo>
                  <a:lnTo>
                    <a:pt x="16" y="2312"/>
                  </a:lnTo>
                  <a:lnTo>
                    <a:pt x="10" y="2406"/>
                  </a:lnTo>
                  <a:lnTo>
                    <a:pt x="6" y="2499"/>
                  </a:lnTo>
                  <a:lnTo>
                    <a:pt x="3" y="2593"/>
                  </a:lnTo>
                  <a:lnTo>
                    <a:pt x="1" y="2687"/>
                  </a:lnTo>
                  <a:lnTo>
                    <a:pt x="0" y="2781"/>
                  </a:lnTo>
                  <a:lnTo>
                    <a:pt x="1" y="2874"/>
                  </a:lnTo>
                  <a:lnTo>
                    <a:pt x="3" y="2968"/>
                  </a:lnTo>
                  <a:lnTo>
                    <a:pt x="6" y="3062"/>
                  </a:lnTo>
                  <a:lnTo>
                    <a:pt x="10" y="3155"/>
                  </a:lnTo>
                  <a:lnTo>
                    <a:pt x="16" y="3249"/>
                  </a:lnTo>
                  <a:lnTo>
                    <a:pt x="22" y="3342"/>
                  </a:lnTo>
                  <a:lnTo>
                    <a:pt x="31" y="3435"/>
                  </a:lnTo>
                  <a:lnTo>
                    <a:pt x="40" y="3528"/>
                  </a:lnTo>
                  <a:lnTo>
                    <a:pt x="51" y="3620"/>
                  </a:lnTo>
                  <a:lnTo>
                    <a:pt x="63" y="3711"/>
                  </a:lnTo>
                  <a:lnTo>
                    <a:pt x="76" y="3803"/>
                  </a:lnTo>
                  <a:lnTo>
                    <a:pt x="91" y="3894"/>
                  </a:lnTo>
                  <a:lnTo>
                    <a:pt x="107" y="3985"/>
                  </a:lnTo>
                  <a:lnTo>
                    <a:pt x="124" y="4075"/>
                  </a:lnTo>
                  <a:lnTo>
                    <a:pt x="142" y="4164"/>
                  </a:lnTo>
                  <a:lnTo>
                    <a:pt x="162" y="4253"/>
                  </a:lnTo>
                  <a:lnTo>
                    <a:pt x="183" y="4342"/>
                  </a:lnTo>
                  <a:lnTo>
                    <a:pt x="205" y="4430"/>
                  </a:lnTo>
                  <a:lnTo>
                    <a:pt x="228" y="4517"/>
                  </a:lnTo>
                  <a:lnTo>
                    <a:pt x="254" y="4602"/>
                  </a:lnTo>
                  <a:lnTo>
                    <a:pt x="279" y="4687"/>
                  </a:lnTo>
                  <a:lnTo>
                    <a:pt x="307" y="4772"/>
                  </a:lnTo>
                  <a:lnTo>
                    <a:pt x="335" y="4856"/>
                  </a:lnTo>
                  <a:lnTo>
                    <a:pt x="365" y="4938"/>
                  </a:lnTo>
                  <a:lnTo>
                    <a:pt x="396" y="5019"/>
                  </a:lnTo>
                  <a:lnTo>
                    <a:pt x="428" y="5100"/>
                  </a:lnTo>
                  <a:lnTo>
                    <a:pt x="462" y="5180"/>
                  </a:lnTo>
                  <a:lnTo>
                    <a:pt x="497" y="5258"/>
                  </a:lnTo>
                  <a:lnTo>
                    <a:pt x="533" y="5336"/>
                  </a:lnTo>
                  <a:lnTo>
                    <a:pt x="571" y="5411"/>
                  </a:lnTo>
                  <a:lnTo>
                    <a:pt x="610" y="5486"/>
                  </a:lnTo>
                  <a:lnTo>
                    <a:pt x="649" y="5560"/>
                  </a:lnTo>
                  <a:lnTo>
                    <a:pt x="1082" y="467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436920" y="2598840"/>
              <a:ext cx="25200" cy="239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416040" y="2543040"/>
              <a:ext cx="61920" cy="61920"/>
            </a:xfrm>
            <a:custGeom>
              <a:avLst/>
              <a:gdLst/>
              <a:ahLst/>
              <a:rect l="l" t="t" r="r" b="b"/>
              <a:pathLst>
                <a:path w="854" h="855">
                  <a:moveTo>
                    <a:pt x="854" y="428"/>
                  </a:moveTo>
                  <a:lnTo>
                    <a:pt x="854" y="450"/>
                  </a:lnTo>
                  <a:lnTo>
                    <a:pt x="852" y="472"/>
                  </a:lnTo>
                  <a:lnTo>
                    <a:pt x="849" y="494"/>
                  </a:lnTo>
                  <a:lnTo>
                    <a:pt x="846" y="514"/>
                  </a:lnTo>
                  <a:lnTo>
                    <a:pt x="841" y="535"/>
                  </a:lnTo>
                  <a:lnTo>
                    <a:pt x="834" y="555"/>
                  </a:lnTo>
                  <a:lnTo>
                    <a:pt x="828" y="576"/>
                  </a:lnTo>
                  <a:lnTo>
                    <a:pt x="820" y="595"/>
                  </a:lnTo>
                  <a:lnTo>
                    <a:pt x="812" y="613"/>
                  </a:lnTo>
                  <a:lnTo>
                    <a:pt x="803" y="632"/>
                  </a:lnTo>
                  <a:lnTo>
                    <a:pt x="792" y="650"/>
                  </a:lnTo>
                  <a:lnTo>
                    <a:pt x="781" y="667"/>
                  </a:lnTo>
                  <a:lnTo>
                    <a:pt x="769" y="684"/>
                  </a:lnTo>
                  <a:lnTo>
                    <a:pt x="757" y="700"/>
                  </a:lnTo>
                  <a:lnTo>
                    <a:pt x="743" y="715"/>
                  </a:lnTo>
                  <a:lnTo>
                    <a:pt x="729" y="731"/>
                  </a:lnTo>
                  <a:lnTo>
                    <a:pt x="714" y="745"/>
                  </a:lnTo>
                  <a:lnTo>
                    <a:pt x="699" y="758"/>
                  </a:lnTo>
                  <a:lnTo>
                    <a:pt x="682" y="771"/>
                  </a:lnTo>
                  <a:lnTo>
                    <a:pt x="666" y="783"/>
                  </a:lnTo>
                  <a:lnTo>
                    <a:pt x="649" y="794"/>
                  </a:lnTo>
                  <a:lnTo>
                    <a:pt x="630" y="804"/>
                  </a:lnTo>
                  <a:lnTo>
                    <a:pt x="612" y="814"/>
                  </a:lnTo>
                  <a:lnTo>
                    <a:pt x="594" y="823"/>
                  </a:lnTo>
                  <a:lnTo>
                    <a:pt x="573" y="830"/>
                  </a:lnTo>
                  <a:lnTo>
                    <a:pt x="554" y="837"/>
                  </a:lnTo>
                  <a:lnTo>
                    <a:pt x="533" y="842"/>
                  </a:lnTo>
                  <a:lnTo>
                    <a:pt x="513" y="847"/>
                  </a:lnTo>
                  <a:lnTo>
                    <a:pt x="492" y="851"/>
                  </a:lnTo>
                  <a:lnTo>
                    <a:pt x="470" y="853"/>
                  </a:lnTo>
                  <a:lnTo>
                    <a:pt x="449" y="855"/>
                  </a:lnTo>
                  <a:lnTo>
                    <a:pt x="427" y="855"/>
                  </a:lnTo>
                  <a:lnTo>
                    <a:pt x="405" y="855"/>
                  </a:lnTo>
                  <a:lnTo>
                    <a:pt x="383" y="853"/>
                  </a:lnTo>
                  <a:lnTo>
                    <a:pt x="362" y="851"/>
                  </a:lnTo>
                  <a:lnTo>
                    <a:pt x="341" y="847"/>
                  </a:lnTo>
                  <a:lnTo>
                    <a:pt x="320" y="842"/>
                  </a:lnTo>
                  <a:lnTo>
                    <a:pt x="300" y="837"/>
                  </a:lnTo>
                  <a:lnTo>
                    <a:pt x="279" y="830"/>
                  </a:lnTo>
                  <a:lnTo>
                    <a:pt x="261" y="823"/>
                  </a:lnTo>
                  <a:lnTo>
                    <a:pt x="242" y="814"/>
                  </a:lnTo>
                  <a:lnTo>
                    <a:pt x="223" y="804"/>
                  </a:lnTo>
                  <a:lnTo>
                    <a:pt x="205" y="794"/>
                  </a:lnTo>
                  <a:lnTo>
                    <a:pt x="188" y="783"/>
                  </a:lnTo>
                  <a:lnTo>
                    <a:pt x="171" y="771"/>
                  </a:lnTo>
                  <a:lnTo>
                    <a:pt x="155" y="758"/>
                  </a:lnTo>
                  <a:lnTo>
                    <a:pt x="140" y="745"/>
                  </a:lnTo>
                  <a:lnTo>
                    <a:pt x="125" y="731"/>
                  </a:lnTo>
                  <a:lnTo>
                    <a:pt x="111" y="715"/>
                  </a:lnTo>
                  <a:lnTo>
                    <a:pt x="97" y="700"/>
                  </a:lnTo>
                  <a:lnTo>
                    <a:pt x="85" y="684"/>
                  </a:lnTo>
                  <a:lnTo>
                    <a:pt x="72" y="667"/>
                  </a:lnTo>
                  <a:lnTo>
                    <a:pt x="61" y="650"/>
                  </a:lnTo>
                  <a:lnTo>
                    <a:pt x="51" y="632"/>
                  </a:lnTo>
                  <a:lnTo>
                    <a:pt x="42" y="613"/>
                  </a:lnTo>
                  <a:lnTo>
                    <a:pt x="34" y="595"/>
                  </a:lnTo>
                  <a:lnTo>
                    <a:pt x="25" y="576"/>
                  </a:lnTo>
                  <a:lnTo>
                    <a:pt x="19" y="555"/>
                  </a:lnTo>
                  <a:lnTo>
                    <a:pt x="13" y="535"/>
                  </a:lnTo>
                  <a:lnTo>
                    <a:pt x="9" y="514"/>
                  </a:lnTo>
                  <a:lnTo>
                    <a:pt x="5" y="494"/>
                  </a:lnTo>
                  <a:lnTo>
                    <a:pt x="2" y="472"/>
                  </a:lnTo>
                  <a:lnTo>
                    <a:pt x="1" y="450"/>
                  </a:lnTo>
                  <a:lnTo>
                    <a:pt x="0" y="428"/>
                  </a:lnTo>
                  <a:lnTo>
                    <a:pt x="1" y="406"/>
                  </a:lnTo>
                  <a:lnTo>
                    <a:pt x="2" y="384"/>
                  </a:lnTo>
                  <a:lnTo>
                    <a:pt x="5" y="363"/>
                  </a:lnTo>
                  <a:lnTo>
                    <a:pt x="9" y="342"/>
                  </a:lnTo>
                  <a:lnTo>
                    <a:pt x="13" y="321"/>
                  </a:lnTo>
                  <a:lnTo>
                    <a:pt x="19" y="301"/>
                  </a:lnTo>
                  <a:lnTo>
                    <a:pt x="25" y="281"/>
                  </a:lnTo>
                  <a:lnTo>
                    <a:pt x="34" y="262"/>
                  </a:lnTo>
                  <a:lnTo>
                    <a:pt x="42" y="242"/>
                  </a:lnTo>
                  <a:lnTo>
                    <a:pt x="51" y="224"/>
                  </a:lnTo>
                  <a:lnTo>
                    <a:pt x="61" y="207"/>
                  </a:lnTo>
                  <a:lnTo>
                    <a:pt x="72" y="189"/>
                  </a:lnTo>
                  <a:lnTo>
                    <a:pt x="85" y="172"/>
                  </a:lnTo>
                  <a:lnTo>
                    <a:pt x="97" y="156"/>
                  </a:lnTo>
                  <a:lnTo>
                    <a:pt x="111" y="140"/>
                  </a:lnTo>
                  <a:lnTo>
                    <a:pt x="125" y="126"/>
                  </a:lnTo>
                  <a:lnTo>
                    <a:pt x="140" y="112"/>
                  </a:lnTo>
                  <a:lnTo>
                    <a:pt x="155" y="98"/>
                  </a:lnTo>
                  <a:lnTo>
                    <a:pt x="171" y="85"/>
                  </a:lnTo>
                  <a:lnTo>
                    <a:pt x="188" y="74"/>
                  </a:lnTo>
                  <a:lnTo>
                    <a:pt x="205" y="63"/>
                  </a:lnTo>
                  <a:lnTo>
                    <a:pt x="223" y="52"/>
                  </a:lnTo>
                  <a:lnTo>
                    <a:pt x="242" y="42"/>
                  </a:lnTo>
                  <a:lnTo>
                    <a:pt x="261" y="34"/>
                  </a:lnTo>
                  <a:lnTo>
                    <a:pt x="279" y="27"/>
                  </a:lnTo>
                  <a:lnTo>
                    <a:pt x="300" y="20"/>
                  </a:lnTo>
                  <a:lnTo>
                    <a:pt x="320" y="14"/>
                  </a:lnTo>
                  <a:lnTo>
                    <a:pt x="341" y="10"/>
                  </a:lnTo>
                  <a:lnTo>
                    <a:pt x="362" y="5"/>
                  </a:lnTo>
                  <a:lnTo>
                    <a:pt x="383" y="2"/>
                  </a:lnTo>
                  <a:lnTo>
                    <a:pt x="405" y="1"/>
                  </a:lnTo>
                  <a:lnTo>
                    <a:pt x="427" y="0"/>
                  </a:lnTo>
                  <a:lnTo>
                    <a:pt x="449" y="1"/>
                  </a:lnTo>
                  <a:lnTo>
                    <a:pt x="470" y="2"/>
                  </a:lnTo>
                  <a:lnTo>
                    <a:pt x="492" y="5"/>
                  </a:lnTo>
                  <a:lnTo>
                    <a:pt x="513" y="10"/>
                  </a:lnTo>
                  <a:lnTo>
                    <a:pt x="533" y="14"/>
                  </a:lnTo>
                  <a:lnTo>
                    <a:pt x="554" y="20"/>
                  </a:lnTo>
                  <a:lnTo>
                    <a:pt x="573" y="27"/>
                  </a:lnTo>
                  <a:lnTo>
                    <a:pt x="594" y="34"/>
                  </a:lnTo>
                  <a:lnTo>
                    <a:pt x="612" y="42"/>
                  </a:lnTo>
                  <a:lnTo>
                    <a:pt x="630" y="52"/>
                  </a:lnTo>
                  <a:lnTo>
                    <a:pt x="649" y="63"/>
                  </a:lnTo>
                  <a:lnTo>
                    <a:pt x="666" y="74"/>
                  </a:lnTo>
                  <a:lnTo>
                    <a:pt x="682" y="85"/>
                  </a:lnTo>
                  <a:lnTo>
                    <a:pt x="699" y="98"/>
                  </a:lnTo>
                  <a:lnTo>
                    <a:pt x="714" y="112"/>
                  </a:lnTo>
                  <a:lnTo>
                    <a:pt x="729" y="126"/>
                  </a:lnTo>
                  <a:lnTo>
                    <a:pt x="743" y="140"/>
                  </a:lnTo>
                  <a:lnTo>
                    <a:pt x="757" y="156"/>
                  </a:lnTo>
                  <a:lnTo>
                    <a:pt x="769" y="172"/>
                  </a:lnTo>
                  <a:lnTo>
                    <a:pt x="781" y="189"/>
                  </a:lnTo>
                  <a:lnTo>
                    <a:pt x="792" y="207"/>
                  </a:lnTo>
                  <a:lnTo>
                    <a:pt x="803" y="224"/>
                  </a:lnTo>
                  <a:lnTo>
                    <a:pt x="812" y="242"/>
                  </a:lnTo>
                  <a:lnTo>
                    <a:pt x="820" y="262"/>
                  </a:lnTo>
                  <a:lnTo>
                    <a:pt x="828" y="281"/>
                  </a:lnTo>
                  <a:lnTo>
                    <a:pt x="834" y="301"/>
                  </a:lnTo>
                  <a:lnTo>
                    <a:pt x="841" y="321"/>
                  </a:lnTo>
                  <a:lnTo>
                    <a:pt x="846" y="342"/>
                  </a:lnTo>
                  <a:lnTo>
                    <a:pt x="849" y="363"/>
                  </a:lnTo>
                  <a:lnTo>
                    <a:pt x="852" y="384"/>
                  </a:lnTo>
                  <a:lnTo>
                    <a:pt x="854" y="406"/>
                  </a:lnTo>
                  <a:lnTo>
                    <a:pt x="854" y="4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535200" y="2403360"/>
              <a:ext cx="79200" cy="320760"/>
            </a:xfrm>
            <a:custGeom>
              <a:avLst/>
              <a:gdLst/>
              <a:ahLst/>
              <a:rect l="l" t="t" r="r" b="b"/>
              <a:pathLst>
                <a:path w="1103" h="4449">
                  <a:moveTo>
                    <a:pt x="0" y="3670"/>
                  </a:moveTo>
                  <a:lnTo>
                    <a:pt x="29" y="3638"/>
                  </a:lnTo>
                  <a:lnTo>
                    <a:pt x="58" y="3606"/>
                  </a:lnTo>
                  <a:lnTo>
                    <a:pt x="85" y="3571"/>
                  </a:lnTo>
                  <a:lnTo>
                    <a:pt x="112" y="3535"/>
                  </a:lnTo>
                  <a:lnTo>
                    <a:pt x="136" y="3498"/>
                  </a:lnTo>
                  <a:lnTo>
                    <a:pt x="160" y="3461"/>
                  </a:lnTo>
                  <a:lnTo>
                    <a:pt x="183" y="3422"/>
                  </a:lnTo>
                  <a:lnTo>
                    <a:pt x="205" y="3382"/>
                  </a:lnTo>
                  <a:lnTo>
                    <a:pt x="225" y="3341"/>
                  </a:lnTo>
                  <a:lnTo>
                    <a:pt x="243" y="3299"/>
                  </a:lnTo>
                  <a:lnTo>
                    <a:pt x="262" y="3256"/>
                  </a:lnTo>
                  <a:lnTo>
                    <a:pt x="279" y="3212"/>
                  </a:lnTo>
                  <a:lnTo>
                    <a:pt x="296" y="3168"/>
                  </a:lnTo>
                  <a:lnTo>
                    <a:pt x="311" y="3123"/>
                  </a:lnTo>
                  <a:lnTo>
                    <a:pt x="325" y="3077"/>
                  </a:lnTo>
                  <a:lnTo>
                    <a:pt x="337" y="3030"/>
                  </a:lnTo>
                  <a:lnTo>
                    <a:pt x="350" y="2984"/>
                  </a:lnTo>
                  <a:lnTo>
                    <a:pt x="361" y="2935"/>
                  </a:lnTo>
                  <a:lnTo>
                    <a:pt x="372" y="2887"/>
                  </a:lnTo>
                  <a:lnTo>
                    <a:pt x="381" y="2838"/>
                  </a:lnTo>
                  <a:lnTo>
                    <a:pt x="389" y="2789"/>
                  </a:lnTo>
                  <a:lnTo>
                    <a:pt x="398" y="2739"/>
                  </a:lnTo>
                  <a:lnTo>
                    <a:pt x="405" y="2689"/>
                  </a:lnTo>
                  <a:lnTo>
                    <a:pt x="411" y="2638"/>
                  </a:lnTo>
                  <a:lnTo>
                    <a:pt x="416" y="2587"/>
                  </a:lnTo>
                  <a:lnTo>
                    <a:pt x="420" y="2536"/>
                  </a:lnTo>
                  <a:lnTo>
                    <a:pt x="424" y="2485"/>
                  </a:lnTo>
                  <a:lnTo>
                    <a:pt x="427" y="2433"/>
                  </a:lnTo>
                  <a:lnTo>
                    <a:pt x="429" y="2381"/>
                  </a:lnTo>
                  <a:lnTo>
                    <a:pt x="431" y="2329"/>
                  </a:lnTo>
                  <a:lnTo>
                    <a:pt x="432" y="2277"/>
                  </a:lnTo>
                  <a:lnTo>
                    <a:pt x="432" y="2224"/>
                  </a:lnTo>
                  <a:lnTo>
                    <a:pt x="432" y="2172"/>
                  </a:lnTo>
                  <a:lnTo>
                    <a:pt x="431" y="2120"/>
                  </a:lnTo>
                  <a:lnTo>
                    <a:pt x="429" y="2069"/>
                  </a:lnTo>
                  <a:lnTo>
                    <a:pt x="427" y="2017"/>
                  </a:lnTo>
                  <a:lnTo>
                    <a:pt x="424" y="1965"/>
                  </a:lnTo>
                  <a:lnTo>
                    <a:pt x="420" y="1914"/>
                  </a:lnTo>
                  <a:lnTo>
                    <a:pt x="416" y="1863"/>
                  </a:lnTo>
                  <a:lnTo>
                    <a:pt x="411" y="1812"/>
                  </a:lnTo>
                  <a:lnTo>
                    <a:pt x="405" y="1761"/>
                  </a:lnTo>
                  <a:lnTo>
                    <a:pt x="398" y="1711"/>
                  </a:lnTo>
                  <a:lnTo>
                    <a:pt x="389" y="1660"/>
                  </a:lnTo>
                  <a:lnTo>
                    <a:pt x="381" y="1611"/>
                  </a:lnTo>
                  <a:lnTo>
                    <a:pt x="372" y="1562"/>
                  </a:lnTo>
                  <a:lnTo>
                    <a:pt x="361" y="1513"/>
                  </a:lnTo>
                  <a:lnTo>
                    <a:pt x="350" y="1466"/>
                  </a:lnTo>
                  <a:lnTo>
                    <a:pt x="337" y="1418"/>
                  </a:lnTo>
                  <a:lnTo>
                    <a:pt x="325" y="1372"/>
                  </a:lnTo>
                  <a:lnTo>
                    <a:pt x="311" y="1326"/>
                  </a:lnTo>
                  <a:lnTo>
                    <a:pt x="296" y="1281"/>
                  </a:lnTo>
                  <a:lnTo>
                    <a:pt x="279" y="1236"/>
                  </a:lnTo>
                  <a:lnTo>
                    <a:pt x="262" y="1194"/>
                  </a:lnTo>
                  <a:lnTo>
                    <a:pt x="243" y="1151"/>
                  </a:lnTo>
                  <a:lnTo>
                    <a:pt x="225" y="1109"/>
                  </a:lnTo>
                  <a:lnTo>
                    <a:pt x="205" y="1068"/>
                  </a:lnTo>
                  <a:lnTo>
                    <a:pt x="183" y="1028"/>
                  </a:lnTo>
                  <a:lnTo>
                    <a:pt x="160" y="989"/>
                  </a:lnTo>
                  <a:lnTo>
                    <a:pt x="136" y="951"/>
                  </a:lnTo>
                  <a:lnTo>
                    <a:pt x="112" y="915"/>
                  </a:lnTo>
                  <a:lnTo>
                    <a:pt x="85" y="879"/>
                  </a:lnTo>
                  <a:lnTo>
                    <a:pt x="58" y="844"/>
                  </a:lnTo>
                  <a:lnTo>
                    <a:pt x="29" y="811"/>
                  </a:lnTo>
                  <a:lnTo>
                    <a:pt x="0" y="779"/>
                  </a:lnTo>
                  <a:lnTo>
                    <a:pt x="432" y="0"/>
                  </a:lnTo>
                  <a:lnTo>
                    <a:pt x="473" y="53"/>
                  </a:lnTo>
                  <a:lnTo>
                    <a:pt x="513" y="108"/>
                  </a:lnTo>
                  <a:lnTo>
                    <a:pt x="552" y="163"/>
                  </a:lnTo>
                  <a:lnTo>
                    <a:pt x="589" y="220"/>
                  </a:lnTo>
                  <a:lnTo>
                    <a:pt x="626" y="277"/>
                  </a:lnTo>
                  <a:lnTo>
                    <a:pt x="663" y="336"/>
                  </a:lnTo>
                  <a:lnTo>
                    <a:pt x="697" y="397"/>
                  </a:lnTo>
                  <a:lnTo>
                    <a:pt x="732" y="458"/>
                  </a:lnTo>
                  <a:lnTo>
                    <a:pt x="765" y="520"/>
                  </a:lnTo>
                  <a:lnTo>
                    <a:pt x="796" y="584"/>
                  </a:lnTo>
                  <a:lnTo>
                    <a:pt x="827" y="649"/>
                  </a:lnTo>
                  <a:lnTo>
                    <a:pt x="857" y="714"/>
                  </a:lnTo>
                  <a:lnTo>
                    <a:pt x="885" y="781"/>
                  </a:lnTo>
                  <a:lnTo>
                    <a:pt x="912" y="849"/>
                  </a:lnTo>
                  <a:lnTo>
                    <a:pt x="936" y="918"/>
                  </a:lnTo>
                  <a:lnTo>
                    <a:pt x="961" y="988"/>
                  </a:lnTo>
                  <a:lnTo>
                    <a:pt x="982" y="1059"/>
                  </a:lnTo>
                  <a:lnTo>
                    <a:pt x="1003" y="1130"/>
                  </a:lnTo>
                  <a:lnTo>
                    <a:pt x="1021" y="1203"/>
                  </a:lnTo>
                  <a:lnTo>
                    <a:pt x="1038" y="1277"/>
                  </a:lnTo>
                  <a:lnTo>
                    <a:pt x="1054" y="1352"/>
                  </a:lnTo>
                  <a:lnTo>
                    <a:pt x="1067" y="1427"/>
                  </a:lnTo>
                  <a:lnTo>
                    <a:pt x="1078" y="1503"/>
                  </a:lnTo>
                  <a:lnTo>
                    <a:pt x="1087" y="1581"/>
                  </a:lnTo>
                  <a:lnTo>
                    <a:pt x="1094" y="1658"/>
                  </a:lnTo>
                  <a:lnTo>
                    <a:pt x="1099" y="1737"/>
                  </a:lnTo>
                  <a:lnTo>
                    <a:pt x="1103" y="1817"/>
                  </a:lnTo>
                  <a:lnTo>
                    <a:pt x="1103" y="1896"/>
                  </a:lnTo>
                  <a:lnTo>
                    <a:pt x="1102" y="1978"/>
                  </a:lnTo>
                  <a:lnTo>
                    <a:pt x="1097" y="2060"/>
                  </a:lnTo>
                  <a:lnTo>
                    <a:pt x="1091" y="2142"/>
                  </a:lnTo>
                  <a:lnTo>
                    <a:pt x="1082" y="2224"/>
                  </a:lnTo>
                  <a:lnTo>
                    <a:pt x="1081" y="2308"/>
                  </a:lnTo>
                  <a:lnTo>
                    <a:pt x="1080" y="2390"/>
                  </a:lnTo>
                  <a:lnTo>
                    <a:pt x="1076" y="2472"/>
                  </a:lnTo>
                  <a:lnTo>
                    <a:pt x="1072" y="2553"/>
                  </a:lnTo>
                  <a:lnTo>
                    <a:pt x="1066" y="2633"/>
                  </a:lnTo>
                  <a:lnTo>
                    <a:pt x="1060" y="2713"/>
                  </a:lnTo>
                  <a:lnTo>
                    <a:pt x="1051" y="2791"/>
                  </a:lnTo>
                  <a:lnTo>
                    <a:pt x="1041" y="2869"/>
                  </a:lnTo>
                  <a:lnTo>
                    <a:pt x="1031" y="2947"/>
                  </a:lnTo>
                  <a:lnTo>
                    <a:pt x="1019" y="3023"/>
                  </a:lnTo>
                  <a:lnTo>
                    <a:pt x="1006" y="3098"/>
                  </a:lnTo>
                  <a:lnTo>
                    <a:pt x="991" y="3173"/>
                  </a:lnTo>
                  <a:lnTo>
                    <a:pt x="975" y="3246"/>
                  </a:lnTo>
                  <a:lnTo>
                    <a:pt x="958" y="3320"/>
                  </a:lnTo>
                  <a:lnTo>
                    <a:pt x="939" y="3391"/>
                  </a:lnTo>
                  <a:lnTo>
                    <a:pt x="920" y="3462"/>
                  </a:lnTo>
                  <a:lnTo>
                    <a:pt x="898" y="3532"/>
                  </a:lnTo>
                  <a:lnTo>
                    <a:pt x="877" y="3601"/>
                  </a:lnTo>
                  <a:lnTo>
                    <a:pt x="854" y="3668"/>
                  </a:lnTo>
                  <a:lnTo>
                    <a:pt x="828" y="3735"/>
                  </a:lnTo>
                  <a:lnTo>
                    <a:pt x="803" y="3801"/>
                  </a:lnTo>
                  <a:lnTo>
                    <a:pt x="775" y="3866"/>
                  </a:lnTo>
                  <a:lnTo>
                    <a:pt x="746" y="3930"/>
                  </a:lnTo>
                  <a:lnTo>
                    <a:pt x="717" y="3992"/>
                  </a:lnTo>
                  <a:lnTo>
                    <a:pt x="685" y="4053"/>
                  </a:lnTo>
                  <a:lnTo>
                    <a:pt x="654" y="4113"/>
                  </a:lnTo>
                  <a:lnTo>
                    <a:pt x="620" y="4172"/>
                  </a:lnTo>
                  <a:lnTo>
                    <a:pt x="585" y="4230"/>
                  </a:lnTo>
                  <a:lnTo>
                    <a:pt x="549" y="4286"/>
                  </a:lnTo>
                  <a:lnTo>
                    <a:pt x="511" y="4341"/>
                  </a:lnTo>
                  <a:lnTo>
                    <a:pt x="472" y="4395"/>
                  </a:lnTo>
                  <a:lnTo>
                    <a:pt x="432" y="4449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716280" y="2371680"/>
              <a:ext cx="77760" cy="401760"/>
            </a:xfrm>
            <a:custGeom>
              <a:avLst/>
              <a:gdLst/>
              <a:ahLst/>
              <a:rect l="l" t="t" r="r" b="b"/>
              <a:pathLst>
                <a:path w="1083" h="5560">
                  <a:moveTo>
                    <a:pt x="0" y="4670"/>
                  </a:moveTo>
                  <a:lnTo>
                    <a:pt x="30" y="4628"/>
                  </a:lnTo>
                  <a:lnTo>
                    <a:pt x="58" y="4584"/>
                  </a:lnTo>
                  <a:lnTo>
                    <a:pt x="86" y="4539"/>
                  </a:lnTo>
                  <a:lnTo>
                    <a:pt x="111" y="4493"/>
                  </a:lnTo>
                  <a:lnTo>
                    <a:pt x="137" y="4446"/>
                  </a:lnTo>
                  <a:lnTo>
                    <a:pt x="160" y="4397"/>
                  </a:lnTo>
                  <a:lnTo>
                    <a:pt x="183" y="4348"/>
                  </a:lnTo>
                  <a:lnTo>
                    <a:pt x="204" y="4297"/>
                  </a:lnTo>
                  <a:lnTo>
                    <a:pt x="225" y="4245"/>
                  </a:lnTo>
                  <a:lnTo>
                    <a:pt x="244" y="4192"/>
                  </a:lnTo>
                  <a:lnTo>
                    <a:pt x="262" y="4138"/>
                  </a:lnTo>
                  <a:lnTo>
                    <a:pt x="280" y="4082"/>
                  </a:lnTo>
                  <a:lnTo>
                    <a:pt x="296" y="4025"/>
                  </a:lnTo>
                  <a:lnTo>
                    <a:pt x="310" y="3968"/>
                  </a:lnTo>
                  <a:lnTo>
                    <a:pt x="324" y="3910"/>
                  </a:lnTo>
                  <a:lnTo>
                    <a:pt x="338" y="3850"/>
                  </a:lnTo>
                  <a:lnTo>
                    <a:pt x="350" y="3790"/>
                  </a:lnTo>
                  <a:lnTo>
                    <a:pt x="361" y="3729"/>
                  </a:lnTo>
                  <a:lnTo>
                    <a:pt x="372" y="3667"/>
                  </a:lnTo>
                  <a:lnTo>
                    <a:pt x="382" y="3603"/>
                  </a:lnTo>
                  <a:lnTo>
                    <a:pt x="390" y="3539"/>
                  </a:lnTo>
                  <a:lnTo>
                    <a:pt x="398" y="3473"/>
                  </a:lnTo>
                  <a:lnTo>
                    <a:pt x="405" y="3408"/>
                  </a:lnTo>
                  <a:lnTo>
                    <a:pt x="411" y="3342"/>
                  </a:lnTo>
                  <a:lnTo>
                    <a:pt x="416" y="3274"/>
                  </a:lnTo>
                  <a:lnTo>
                    <a:pt x="421" y="3206"/>
                  </a:lnTo>
                  <a:lnTo>
                    <a:pt x="424" y="3136"/>
                  </a:lnTo>
                  <a:lnTo>
                    <a:pt x="428" y="3067"/>
                  </a:lnTo>
                  <a:lnTo>
                    <a:pt x="431" y="2996"/>
                  </a:lnTo>
                  <a:lnTo>
                    <a:pt x="432" y="2925"/>
                  </a:lnTo>
                  <a:lnTo>
                    <a:pt x="433" y="2852"/>
                  </a:lnTo>
                  <a:lnTo>
                    <a:pt x="434" y="2780"/>
                  </a:lnTo>
                  <a:lnTo>
                    <a:pt x="433" y="2717"/>
                  </a:lnTo>
                  <a:lnTo>
                    <a:pt x="432" y="2654"/>
                  </a:lnTo>
                  <a:lnTo>
                    <a:pt x="431" y="2590"/>
                  </a:lnTo>
                  <a:lnTo>
                    <a:pt x="428" y="2525"/>
                  </a:lnTo>
                  <a:lnTo>
                    <a:pt x="424" y="2461"/>
                  </a:lnTo>
                  <a:lnTo>
                    <a:pt x="421" y="2396"/>
                  </a:lnTo>
                  <a:lnTo>
                    <a:pt x="416" y="2331"/>
                  </a:lnTo>
                  <a:lnTo>
                    <a:pt x="411" y="2266"/>
                  </a:lnTo>
                  <a:lnTo>
                    <a:pt x="405" y="2201"/>
                  </a:lnTo>
                  <a:lnTo>
                    <a:pt x="398" y="2136"/>
                  </a:lnTo>
                  <a:lnTo>
                    <a:pt x="390" y="2071"/>
                  </a:lnTo>
                  <a:lnTo>
                    <a:pt x="382" y="2006"/>
                  </a:lnTo>
                  <a:lnTo>
                    <a:pt x="372" y="1942"/>
                  </a:lnTo>
                  <a:lnTo>
                    <a:pt x="361" y="1878"/>
                  </a:lnTo>
                  <a:lnTo>
                    <a:pt x="350" y="1814"/>
                  </a:lnTo>
                  <a:lnTo>
                    <a:pt x="338" y="1751"/>
                  </a:lnTo>
                  <a:lnTo>
                    <a:pt x="324" y="1690"/>
                  </a:lnTo>
                  <a:lnTo>
                    <a:pt x="310" y="1627"/>
                  </a:lnTo>
                  <a:lnTo>
                    <a:pt x="296" y="1567"/>
                  </a:lnTo>
                  <a:lnTo>
                    <a:pt x="280" y="1508"/>
                  </a:lnTo>
                  <a:lnTo>
                    <a:pt x="262" y="1449"/>
                  </a:lnTo>
                  <a:lnTo>
                    <a:pt x="244" y="1391"/>
                  </a:lnTo>
                  <a:lnTo>
                    <a:pt x="225" y="1334"/>
                  </a:lnTo>
                  <a:lnTo>
                    <a:pt x="204" y="1279"/>
                  </a:lnTo>
                  <a:lnTo>
                    <a:pt x="183" y="1225"/>
                  </a:lnTo>
                  <a:lnTo>
                    <a:pt x="160" y="1172"/>
                  </a:lnTo>
                  <a:lnTo>
                    <a:pt x="137" y="1121"/>
                  </a:lnTo>
                  <a:lnTo>
                    <a:pt x="111" y="1072"/>
                  </a:lnTo>
                  <a:lnTo>
                    <a:pt x="86" y="1024"/>
                  </a:lnTo>
                  <a:lnTo>
                    <a:pt x="58" y="977"/>
                  </a:lnTo>
                  <a:lnTo>
                    <a:pt x="30" y="933"/>
                  </a:lnTo>
                  <a:lnTo>
                    <a:pt x="0" y="890"/>
                  </a:lnTo>
                  <a:lnTo>
                    <a:pt x="434" y="0"/>
                  </a:lnTo>
                  <a:lnTo>
                    <a:pt x="473" y="73"/>
                  </a:lnTo>
                  <a:lnTo>
                    <a:pt x="511" y="149"/>
                  </a:lnTo>
                  <a:lnTo>
                    <a:pt x="549" y="225"/>
                  </a:lnTo>
                  <a:lnTo>
                    <a:pt x="586" y="302"/>
                  </a:lnTo>
                  <a:lnTo>
                    <a:pt x="620" y="380"/>
                  </a:lnTo>
                  <a:lnTo>
                    <a:pt x="654" y="460"/>
                  </a:lnTo>
                  <a:lnTo>
                    <a:pt x="686" y="540"/>
                  </a:lnTo>
                  <a:lnTo>
                    <a:pt x="717" y="622"/>
                  </a:lnTo>
                  <a:lnTo>
                    <a:pt x="747" y="705"/>
                  </a:lnTo>
                  <a:lnTo>
                    <a:pt x="775" y="789"/>
                  </a:lnTo>
                  <a:lnTo>
                    <a:pt x="802" y="872"/>
                  </a:lnTo>
                  <a:lnTo>
                    <a:pt x="828" y="958"/>
                  </a:lnTo>
                  <a:lnTo>
                    <a:pt x="853" y="1044"/>
                  </a:lnTo>
                  <a:lnTo>
                    <a:pt x="876" y="1131"/>
                  </a:lnTo>
                  <a:lnTo>
                    <a:pt x="899" y="1219"/>
                  </a:lnTo>
                  <a:lnTo>
                    <a:pt x="919" y="1307"/>
                  </a:lnTo>
                  <a:lnTo>
                    <a:pt x="940" y="1395"/>
                  </a:lnTo>
                  <a:lnTo>
                    <a:pt x="958" y="1485"/>
                  </a:lnTo>
                  <a:lnTo>
                    <a:pt x="974" y="1575"/>
                  </a:lnTo>
                  <a:lnTo>
                    <a:pt x="991" y="1666"/>
                  </a:lnTo>
                  <a:lnTo>
                    <a:pt x="1005" y="1757"/>
                  </a:lnTo>
                  <a:lnTo>
                    <a:pt x="1018" y="1849"/>
                  </a:lnTo>
                  <a:lnTo>
                    <a:pt x="1031" y="1941"/>
                  </a:lnTo>
                  <a:lnTo>
                    <a:pt x="1042" y="2033"/>
                  </a:lnTo>
                  <a:lnTo>
                    <a:pt x="1051" y="2126"/>
                  </a:lnTo>
                  <a:lnTo>
                    <a:pt x="1059" y="2219"/>
                  </a:lnTo>
                  <a:lnTo>
                    <a:pt x="1066" y="2312"/>
                  </a:lnTo>
                  <a:lnTo>
                    <a:pt x="1072" y="2405"/>
                  </a:lnTo>
                  <a:lnTo>
                    <a:pt x="1076" y="2499"/>
                  </a:lnTo>
                  <a:lnTo>
                    <a:pt x="1079" y="2593"/>
                  </a:lnTo>
                  <a:lnTo>
                    <a:pt x="1082" y="2687"/>
                  </a:lnTo>
                  <a:lnTo>
                    <a:pt x="1083" y="2780"/>
                  </a:lnTo>
                  <a:lnTo>
                    <a:pt x="1082" y="2874"/>
                  </a:lnTo>
                  <a:lnTo>
                    <a:pt x="1079" y="2968"/>
                  </a:lnTo>
                  <a:lnTo>
                    <a:pt x="1076" y="3062"/>
                  </a:lnTo>
                  <a:lnTo>
                    <a:pt x="1072" y="3155"/>
                  </a:lnTo>
                  <a:lnTo>
                    <a:pt x="1066" y="3249"/>
                  </a:lnTo>
                  <a:lnTo>
                    <a:pt x="1059" y="3342"/>
                  </a:lnTo>
                  <a:lnTo>
                    <a:pt x="1051" y="3435"/>
                  </a:lnTo>
                  <a:lnTo>
                    <a:pt x="1042" y="3527"/>
                  </a:lnTo>
                  <a:lnTo>
                    <a:pt x="1031" y="3620"/>
                  </a:lnTo>
                  <a:lnTo>
                    <a:pt x="1018" y="3712"/>
                  </a:lnTo>
                  <a:lnTo>
                    <a:pt x="1005" y="3803"/>
                  </a:lnTo>
                  <a:lnTo>
                    <a:pt x="991" y="3894"/>
                  </a:lnTo>
                  <a:lnTo>
                    <a:pt x="974" y="3984"/>
                  </a:lnTo>
                  <a:lnTo>
                    <a:pt x="958" y="4075"/>
                  </a:lnTo>
                  <a:lnTo>
                    <a:pt x="940" y="4164"/>
                  </a:lnTo>
                  <a:lnTo>
                    <a:pt x="919" y="4253"/>
                  </a:lnTo>
                  <a:lnTo>
                    <a:pt x="899" y="4342"/>
                  </a:lnTo>
                  <a:lnTo>
                    <a:pt x="876" y="4429"/>
                  </a:lnTo>
                  <a:lnTo>
                    <a:pt x="853" y="4516"/>
                  </a:lnTo>
                  <a:lnTo>
                    <a:pt x="828" y="4602"/>
                  </a:lnTo>
                  <a:lnTo>
                    <a:pt x="802" y="4687"/>
                  </a:lnTo>
                  <a:lnTo>
                    <a:pt x="775" y="4772"/>
                  </a:lnTo>
                  <a:lnTo>
                    <a:pt x="747" y="4856"/>
                  </a:lnTo>
                  <a:lnTo>
                    <a:pt x="717" y="4937"/>
                  </a:lnTo>
                  <a:lnTo>
                    <a:pt x="686" y="5019"/>
                  </a:lnTo>
                  <a:lnTo>
                    <a:pt x="654" y="5100"/>
                  </a:lnTo>
                  <a:lnTo>
                    <a:pt x="620" y="5180"/>
                  </a:lnTo>
                  <a:lnTo>
                    <a:pt x="586" y="5258"/>
                  </a:lnTo>
                  <a:lnTo>
                    <a:pt x="549" y="5335"/>
                  </a:lnTo>
                  <a:lnTo>
                    <a:pt x="511" y="5412"/>
                  </a:lnTo>
                  <a:lnTo>
                    <a:pt x="473" y="5486"/>
                  </a:lnTo>
                  <a:lnTo>
                    <a:pt x="434" y="5560"/>
                  </a:lnTo>
                  <a:lnTo>
                    <a:pt x="0" y="4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270240" y="2403360"/>
              <a:ext cx="77760" cy="320760"/>
            </a:xfrm>
            <a:custGeom>
              <a:avLst/>
              <a:gdLst/>
              <a:ahLst/>
              <a:rect l="l" t="t" r="r" b="b"/>
              <a:pathLst>
                <a:path w="1082" h="4449">
                  <a:moveTo>
                    <a:pt x="1082" y="3670"/>
                  </a:moveTo>
                  <a:lnTo>
                    <a:pt x="1062" y="3638"/>
                  </a:lnTo>
                  <a:lnTo>
                    <a:pt x="1041" y="3606"/>
                  </a:lnTo>
                  <a:lnTo>
                    <a:pt x="1021" y="3571"/>
                  </a:lnTo>
                  <a:lnTo>
                    <a:pt x="1002" y="3535"/>
                  </a:lnTo>
                  <a:lnTo>
                    <a:pt x="981" y="3498"/>
                  </a:lnTo>
                  <a:lnTo>
                    <a:pt x="962" y="3461"/>
                  </a:lnTo>
                  <a:lnTo>
                    <a:pt x="942" y="3422"/>
                  </a:lnTo>
                  <a:lnTo>
                    <a:pt x="923" y="3382"/>
                  </a:lnTo>
                  <a:lnTo>
                    <a:pt x="905" y="3341"/>
                  </a:lnTo>
                  <a:lnTo>
                    <a:pt x="886" y="3299"/>
                  </a:lnTo>
                  <a:lnTo>
                    <a:pt x="868" y="3256"/>
                  </a:lnTo>
                  <a:lnTo>
                    <a:pt x="851" y="3212"/>
                  </a:lnTo>
                  <a:lnTo>
                    <a:pt x="833" y="3168"/>
                  </a:lnTo>
                  <a:lnTo>
                    <a:pt x="816" y="3123"/>
                  </a:lnTo>
                  <a:lnTo>
                    <a:pt x="801" y="3077"/>
                  </a:lnTo>
                  <a:lnTo>
                    <a:pt x="784" y="3030"/>
                  </a:lnTo>
                  <a:lnTo>
                    <a:pt x="770" y="2984"/>
                  </a:lnTo>
                  <a:lnTo>
                    <a:pt x="756" y="2935"/>
                  </a:lnTo>
                  <a:lnTo>
                    <a:pt x="742" y="2887"/>
                  </a:lnTo>
                  <a:lnTo>
                    <a:pt x="729" y="2838"/>
                  </a:lnTo>
                  <a:lnTo>
                    <a:pt x="717" y="2789"/>
                  </a:lnTo>
                  <a:lnTo>
                    <a:pt x="707" y="2739"/>
                  </a:lnTo>
                  <a:lnTo>
                    <a:pt x="695" y="2689"/>
                  </a:lnTo>
                  <a:lnTo>
                    <a:pt x="686" y="2638"/>
                  </a:lnTo>
                  <a:lnTo>
                    <a:pt x="678" y="2587"/>
                  </a:lnTo>
                  <a:lnTo>
                    <a:pt x="671" y="2536"/>
                  </a:lnTo>
                  <a:lnTo>
                    <a:pt x="665" y="2485"/>
                  </a:lnTo>
                  <a:lnTo>
                    <a:pt x="659" y="2433"/>
                  </a:lnTo>
                  <a:lnTo>
                    <a:pt x="655" y="2381"/>
                  </a:lnTo>
                  <a:lnTo>
                    <a:pt x="652" y="2329"/>
                  </a:lnTo>
                  <a:lnTo>
                    <a:pt x="651" y="2277"/>
                  </a:lnTo>
                  <a:lnTo>
                    <a:pt x="650" y="2224"/>
                  </a:lnTo>
                  <a:lnTo>
                    <a:pt x="651" y="2172"/>
                  </a:lnTo>
                  <a:lnTo>
                    <a:pt x="652" y="2120"/>
                  </a:lnTo>
                  <a:lnTo>
                    <a:pt x="655" y="2069"/>
                  </a:lnTo>
                  <a:lnTo>
                    <a:pt x="659" y="2017"/>
                  </a:lnTo>
                  <a:lnTo>
                    <a:pt x="665" y="1965"/>
                  </a:lnTo>
                  <a:lnTo>
                    <a:pt x="671" y="1914"/>
                  </a:lnTo>
                  <a:lnTo>
                    <a:pt x="678" y="1863"/>
                  </a:lnTo>
                  <a:lnTo>
                    <a:pt x="686" y="1812"/>
                  </a:lnTo>
                  <a:lnTo>
                    <a:pt x="695" y="1761"/>
                  </a:lnTo>
                  <a:lnTo>
                    <a:pt x="707" y="1711"/>
                  </a:lnTo>
                  <a:lnTo>
                    <a:pt x="717" y="1660"/>
                  </a:lnTo>
                  <a:lnTo>
                    <a:pt x="729" y="1611"/>
                  </a:lnTo>
                  <a:lnTo>
                    <a:pt x="742" y="1562"/>
                  </a:lnTo>
                  <a:lnTo>
                    <a:pt x="756" y="1513"/>
                  </a:lnTo>
                  <a:lnTo>
                    <a:pt x="770" y="1466"/>
                  </a:lnTo>
                  <a:lnTo>
                    <a:pt x="784" y="1418"/>
                  </a:lnTo>
                  <a:lnTo>
                    <a:pt x="801" y="1372"/>
                  </a:lnTo>
                  <a:lnTo>
                    <a:pt x="816" y="1326"/>
                  </a:lnTo>
                  <a:lnTo>
                    <a:pt x="833" y="1281"/>
                  </a:lnTo>
                  <a:lnTo>
                    <a:pt x="851" y="1236"/>
                  </a:lnTo>
                  <a:lnTo>
                    <a:pt x="868" y="1194"/>
                  </a:lnTo>
                  <a:lnTo>
                    <a:pt x="886" y="1151"/>
                  </a:lnTo>
                  <a:lnTo>
                    <a:pt x="905" y="1109"/>
                  </a:lnTo>
                  <a:lnTo>
                    <a:pt x="923" y="1068"/>
                  </a:lnTo>
                  <a:lnTo>
                    <a:pt x="942" y="1028"/>
                  </a:lnTo>
                  <a:lnTo>
                    <a:pt x="962" y="989"/>
                  </a:lnTo>
                  <a:lnTo>
                    <a:pt x="981" y="951"/>
                  </a:lnTo>
                  <a:lnTo>
                    <a:pt x="1002" y="915"/>
                  </a:lnTo>
                  <a:lnTo>
                    <a:pt x="1021" y="879"/>
                  </a:lnTo>
                  <a:lnTo>
                    <a:pt x="1041" y="844"/>
                  </a:lnTo>
                  <a:lnTo>
                    <a:pt x="1062" y="811"/>
                  </a:lnTo>
                  <a:lnTo>
                    <a:pt x="1082" y="779"/>
                  </a:lnTo>
                  <a:lnTo>
                    <a:pt x="650" y="0"/>
                  </a:lnTo>
                  <a:lnTo>
                    <a:pt x="610" y="53"/>
                  </a:lnTo>
                  <a:lnTo>
                    <a:pt x="571" y="108"/>
                  </a:lnTo>
                  <a:lnTo>
                    <a:pt x="533" y="163"/>
                  </a:lnTo>
                  <a:lnTo>
                    <a:pt x="498" y="220"/>
                  </a:lnTo>
                  <a:lnTo>
                    <a:pt x="462" y="277"/>
                  </a:lnTo>
                  <a:lnTo>
                    <a:pt x="428" y="336"/>
                  </a:lnTo>
                  <a:lnTo>
                    <a:pt x="397" y="397"/>
                  </a:lnTo>
                  <a:lnTo>
                    <a:pt x="365" y="458"/>
                  </a:lnTo>
                  <a:lnTo>
                    <a:pt x="335" y="520"/>
                  </a:lnTo>
                  <a:lnTo>
                    <a:pt x="307" y="584"/>
                  </a:lnTo>
                  <a:lnTo>
                    <a:pt x="279" y="649"/>
                  </a:lnTo>
                  <a:lnTo>
                    <a:pt x="254" y="714"/>
                  </a:lnTo>
                  <a:lnTo>
                    <a:pt x="228" y="781"/>
                  </a:lnTo>
                  <a:lnTo>
                    <a:pt x="205" y="849"/>
                  </a:lnTo>
                  <a:lnTo>
                    <a:pt x="183" y="918"/>
                  </a:lnTo>
                  <a:lnTo>
                    <a:pt x="162" y="988"/>
                  </a:lnTo>
                  <a:lnTo>
                    <a:pt x="142" y="1059"/>
                  </a:lnTo>
                  <a:lnTo>
                    <a:pt x="124" y="1130"/>
                  </a:lnTo>
                  <a:lnTo>
                    <a:pt x="107" y="1203"/>
                  </a:lnTo>
                  <a:lnTo>
                    <a:pt x="91" y="1277"/>
                  </a:lnTo>
                  <a:lnTo>
                    <a:pt x="76" y="1352"/>
                  </a:lnTo>
                  <a:lnTo>
                    <a:pt x="63" y="1427"/>
                  </a:lnTo>
                  <a:lnTo>
                    <a:pt x="51" y="1503"/>
                  </a:lnTo>
                  <a:lnTo>
                    <a:pt x="40" y="1581"/>
                  </a:lnTo>
                  <a:lnTo>
                    <a:pt x="31" y="1658"/>
                  </a:lnTo>
                  <a:lnTo>
                    <a:pt x="22" y="1737"/>
                  </a:lnTo>
                  <a:lnTo>
                    <a:pt x="16" y="1817"/>
                  </a:lnTo>
                  <a:lnTo>
                    <a:pt x="10" y="1896"/>
                  </a:lnTo>
                  <a:lnTo>
                    <a:pt x="6" y="1978"/>
                  </a:lnTo>
                  <a:lnTo>
                    <a:pt x="3" y="2060"/>
                  </a:lnTo>
                  <a:lnTo>
                    <a:pt x="1" y="2142"/>
                  </a:lnTo>
                  <a:lnTo>
                    <a:pt x="0" y="2224"/>
                  </a:lnTo>
                  <a:lnTo>
                    <a:pt x="1" y="2308"/>
                  </a:lnTo>
                  <a:lnTo>
                    <a:pt x="3" y="2390"/>
                  </a:lnTo>
                  <a:lnTo>
                    <a:pt x="6" y="2472"/>
                  </a:lnTo>
                  <a:lnTo>
                    <a:pt x="10" y="2553"/>
                  </a:lnTo>
                  <a:lnTo>
                    <a:pt x="16" y="2633"/>
                  </a:lnTo>
                  <a:lnTo>
                    <a:pt x="22" y="2713"/>
                  </a:lnTo>
                  <a:lnTo>
                    <a:pt x="31" y="2791"/>
                  </a:lnTo>
                  <a:lnTo>
                    <a:pt x="40" y="2869"/>
                  </a:lnTo>
                  <a:lnTo>
                    <a:pt x="51" y="2947"/>
                  </a:lnTo>
                  <a:lnTo>
                    <a:pt x="63" y="3023"/>
                  </a:lnTo>
                  <a:lnTo>
                    <a:pt x="76" y="3098"/>
                  </a:lnTo>
                  <a:lnTo>
                    <a:pt x="91" y="3173"/>
                  </a:lnTo>
                  <a:lnTo>
                    <a:pt x="107" y="3246"/>
                  </a:lnTo>
                  <a:lnTo>
                    <a:pt x="124" y="3320"/>
                  </a:lnTo>
                  <a:lnTo>
                    <a:pt x="142" y="3391"/>
                  </a:lnTo>
                  <a:lnTo>
                    <a:pt x="162" y="3462"/>
                  </a:lnTo>
                  <a:lnTo>
                    <a:pt x="183" y="3532"/>
                  </a:lnTo>
                  <a:lnTo>
                    <a:pt x="205" y="3601"/>
                  </a:lnTo>
                  <a:lnTo>
                    <a:pt x="228" y="3668"/>
                  </a:lnTo>
                  <a:lnTo>
                    <a:pt x="254" y="3735"/>
                  </a:lnTo>
                  <a:lnTo>
                    <a:pt x="279" y="3801"/>
                  </a:lnTo>
                  <a:lnTo>
                    <a:pt x="307" y="3866"/>
                  </a:lnTo>
                  <a:lnTo>
                    <a:pt x="335" y="3930"/>
                  </a:lnTo>
                  <a:lnTo>
                    <a:pt x="365" y="3992"/>
                  </a:lnTo>
                  <a:lnTo>
                    <a:pt x="397" y="4053"/>
                  </a:lnTo>
                  <a:lnTo>
                    <a:pt x="428" y="4113"/>
                  </a:lnTo>
                  <a:lnTo>
                    <a:pt x="462" y="4172"/>
                  </a:lnTo>
                  <a:lnTo>
                    <a:pt x="498" y="4230"/>
                  </a:lnTo>
                  <a:lnTo>
                    <a:pt x="533" y="4286"/>
                  </a:lnTo>
                  <a:lnTo>
                    <a:pt x="571" y="4341"/>
                  </a:lnTo>
                  <a:lnTo>
                    <a:pt x="610" y="4395"/>
                  </a:lnTo>
                  <a:lnTo>
                    <a:pt x="650" y="4449"/>
                  </a:lnTo>
                  <a:lnTo>
                    <a:pt x="1082" y="3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14360" y="2371680"/>
              <a:ext cx="77760" cy="401760"/>
            </a:xfrm>
            <a:custGeom>
              <a:avLst/>
              <a:gdLst/>
              <a:ahLst/>
              <a:rect l="l" t="t" r="r" b="b"/>
              <a:pathLst>
                <a:path w="1081" h="5560">
                  <a:moveTo>
                    <a:pt x="1081" y="4670"/>
                  </a:moveTo>
                  <a:lnTo>
                    <a:pt x="1062" y="4628"/>
                  </a:lnTo>
                  <a:lnTo>
                    <a:pt x="1041" y="4584"/>
                  </a:lnTo>
                  <a:lnTo>
                    <a:pt x="1021" y="4539"/>
                  </a:lnTo>
                  <a:lnTo>
                    <a:pt x="1001" y="4493"/>
                  </a:lnTo>
                  <a:lnTo>
                    <a:pt x="981" y="4446"/>
                  </a:lnTo>
                  <a:lnTo>
                    <a:pt x="962" y="4397"/>
                  </a:lnTo>
                  <a:lnTo>
                    <a:pt x="941" y="4348"/>
                  </a:lnTo>
                  <a:lnTo>
                    <a:pt x="923" y="4297"/>
                  </a:lnTo>
                  <a:lnTo>
                    <a:pt x="904" y="4245"/>
                  </a:lnTo>
                  <a:lnTo>
                    <a:pt x="885" y="4192"/>
                  </a:lnTo>
                  <a:lnTo>
                    <a:pt x="867" y="4138"/>
                  </a:lnTo>
                  <a:lnTo>
                    <a:pt x="850" y="4082"/>
                  </a:lnTo>
                  <a:lnTo>
                    <a:pt x="832" y="4025"/>
                  </a:lnTo>
                  <a:lnTo>
                    <a:pt x="816" y="3968"/>
                  </a:lnTo>
                  <a:lnTo>
                    <a:pt x="800" y="3910"/>
                  </a:lnTo>
                  <a:lnTo>
                    <a:pt x="784" y="3850"/>
                  </a:lnTo>
                  <a:lnTo>
                    <a:pt x="769" y="3790"/>
                  </a:lnTo>
                  <a:lnTo>
                    <a:pt x="755" y="3729"/>
                  </a:lnTo>
                  <a:lnTo>
                    <a:pt x="741" y="3667"/>
                  </a:lnTo>
                  <a:lnTo>
                    <a:pt x="729" y="3603"/>
                  </a:lnTo>
                  <a:lnTo>
                    <a:pt x="717" y="3539"/>
                  </a:lnTo>
                  <a:lnTo>
                    <a:pt x="706" y="3473"/>
                  </a:lnTo>
                  <a:lnTo>
                    <a:pt x="695" y="3408"/>
                  </a:lnTo>
                  <a:lnTo>
                    <a:pt x="686" y="3342"/>
                  </a:lnTo>
                  <a:lnTo>
                    <a:pt x="678" y="3274"/>
                  </a:lnTo>
                  <a:lnTo>
                    <a:pt x="670" y="3206"/>
                  </a:lnTo>
                  <a:lnTo>
                    <a:pt x="664" y="3136"/>
                  </a:lnTo>
                  <a:lnTo>
                    <a:pt x="659" y="3067"/>
                  </a:lnTo>
                  <a:lnTo>
                    <a:pt x="655" y="2996"/>
                  </a:lnTo>
                  <a:lnTo>
                    <a:pt x="652" y="2925"/>
                  </a:lnTo>
                  <a:lnTo>
                    <a:pt x="650" y="2852"/>
                  </a:lnTo>
                  <a:lnTo>
                    <a:pt x="650" y="2780"/>
                  </a:lnTo>
                  <a:lnTo>
                    <a:pt x="650" y="2717"/>
                  </a:lnTo>
                  <a:lnTo>
                    <a:pt x="652" y="2654"/>
                  </a:lnTo>
                  <a:lnTo>
                    <a:pt x="655" y="2590"/>
                  </a:lnTo>
                  <a:lnTo>
                    <a:pt x="659" y="2525"/>
                  </a:lnTo>
                  <a:lnTo>
                    <a:pt x="664" y="2461"/>
                  </a:lnTo>
                  <a:lnTo>
                    <a:pt x="670" y="2396"/>
                  </a:lnTo>
                  <a:lnTo>
                    <a:pt x="678" y="2331"/>
                  </a:lnTo>
                  <a:lnTo>
                    <a:pt x="686" y="2266"/>
                  </a:lnTo>
                  <a:lnTo>
                    <a:pt x="695" y="2201"/>
                  </a:lnTo>
                  <a:lnTo>
                    <a:pt x="706" y="2136"/>
                  </a:lnTo>
                  <a:lnTo>
                    <a:pt x="717" y="2071"/>
                  </a:lnTo>
                  <a:lnTo>
                    <a:pt x="729" y="2006"/>
                  </a:lnTo>
                  <a:lnTo>
                    <a:pt x="741" y="1942"/>
                  </a:lnTo>
                  <a:lnTo>
                    <a:pt x="755" y="1878"/>
                  </a:lnTo>
                  <a:lnTo>
                    <a:pt x="769" y="1814"/>
                  </a:lnTo>
                  <a:lnTo>
                    <a:pt x="784" y="1751"/>
                  </a:lnTo>
                  <a:lnTo>
                    <a:pt x="800" y="1690"/>
                  </a:lnTo>
                  <a:lnTo>
                    <a:pt x="816" y="1627"/>
                  </a:lnTo>
                  <a:lnTo>
                    <a:pt x="832" y="1567"/>
                  </a:lnTo>
                  <a:lnTo>
                    <a:pt x="850" y="1508"/>
                  </a:lnTo>
                  <a:lnTo>
                    <a:pt x="867" y="1449"/>
                  </a:lnTo>
                  <a:lnTo>
                    <a:pt x="885" y="1391"/>
                  </a:lnTo>
                  <a:lnTo>
                    <a:pt x="904" y="1334"/>
                  </a:lnTo>
                  <a:lnTo>
                    <a:pt x="923" y="1279"/>
                  </a:lnTo>
                  <a:lnTo>
                    <a:pt x="941" y="1225"/>
                  </a:lnTo>
                  <a:lnTo>
                    <a:pt x="962" y="1172"/>
                  </a:lnTo>
                  <a:lnTo>
                    <a:pt x="981" y="1121"/>
                  </a:lnTo>
                  <a:lnTo>
                    <a:pt x="1001" y="1072"/>
                  </a:lnTo>
                  <a:lnTo>
                    <a:pt x="1021" y="1024"/>
                  </a:lnTo>
                  <a:lnTo>
                    <a:pt x="1041" y="977"/>
                  </a:lnTo>
                  <a:lnTo>
                    <a:pt x="1062" y="933"/>
                  </a:lnTo>
                  <a:lnTo>
                    <a:pt x="1081" y="890"/>
                  </a:lnTo>
                  <a:lnTo>
                    <a:pt x="650" y="0"/>
                  </a:lnTo>
                  <a:lnTo>
                    <a:pt x="609" y="73"/>
                  </a:lnTo>
                  <a:lnTo>
                    <a:pt x="570" y="149"/>
                  </a:lnTo>
                  <a:lnTo>
                    <a:pt x="533" y="225"/>
                  </a:lnTo>
                  <a:lnTo>
                    <a:pt x="497" y="302"/>
                  </a:lnTo>
                  <a:lnTo>
                    <a:pt x="462" y="380"/>
                  </a:lnTo>
                  <a:lnTo>
                    <a:pt x="428" y="460"/>
                  </a:lnTo>
                  <a:lnTo>
                    <a:pt x="396" y="540"/>
                  </a:lnTo>
                  <a:lnTo>
                    <a:pt x="365" y="622"/>
                  </a:lnTo>
                  <a:lnTo>
                    <a:pt x="334" y="705"/>
                  </a:lnTo>
                  <a:lnTo>
                    <a:pt x="306" y="789"/>
                  </a:lnTo>
                  <a:lnTo>
                    <a:pt x="279" y="872"/>
                  </a:lnTo>
                  <a:lnTo>
                    <a:pt x="253" y="958"/>
                  </a:lnTo>
                  <a:lnTo>
                    <a:pt x="228" y="1044"/>
                  </a:lnTo>
                  <a:lnTo>
                    <a:pt x="205" y="1131"/>
                  </a:lnTo>
                  <a:lnTo>
                    <a:pt x="182" y="1219"/>
                  </a:lnTo>
                  <a:lnTo>
                    <a:pt x="162" y="1307"/>
                  </a:lnTo>
                  <a:lnTo>
                    <a:pt x="141" y="1395"/>
                  </a:lnTo>
                  <a:lnTo>
                    <a:pt x="123" y="1485"/>
                  </a:lnTo>
                  <a:lnTo>
                    <a:pt x="107" y="1575"/>
                  </a:lnTo>
                  <a:lnTo>
                    <a:pt x="90" y="1666"/>
                  </a:lnTo>
                  <a:lnTo>
                    <a:pt x="76" y="1757"/>
                  </a:lnTo>
                  <a:lnTo>
                    <a:pt x="63" y="1849"/>
                  </a:lnTo>
                  <a:lnTo>
                    <a:pt x="51" y="1941"/>
                  </a:lnTo>
                  <a:lnTo>
                    <a:pt x="39" y="2033"/>
                  </a:lnTo>
                  <a:lnTo>
                    <a:pt x="30" y="2126"/>
                  </a:lnTo>
                  <a:lnTo>
                    <a:pt x="22" y="2219"/>
                  </a:lnTo>
                  <a:lnTo>
                    <a:pt x="15" y="2312"/>
                  </a:lnTo>
                  <a:lnTo>
                    <a:pt x="10" y="2405"/>
                  </a:lnTo>
                  <a:lnTo>
                    <a:pt x="5" y="2499"/>
                  </a:lnTo>
                  <a:lnTo>
                    <a:pt x="2" y="2593"/>
                  </a:lnTo>
                  <a:lnTo>
                    <a:pt x="0" y="2687"/>
                  </a:lnTo>
                  <a:lnTo>
                    <a:pt x="0" y="2780"/>
                  </a:lnTo>
                  <a:lnTo>
                    <a:pt x="0" y="2874"/>
                  </a:lnTo>
                  <a:lnTo>
                    <a:pt x="2" y="2968"/>
                  </a:lnTo>
                  <a:lnTo>
                    <a:pt x="5" y="3062"/>
                  </a:lnTo>
                  <a:lnTo>
                    <a:pt x="10" y="3155"/>
                  </a:lnTo>
                  <a:lnTo>
                    <a:pt x="15" y="3249"/>
                  </a:lnTo>
                  <a:lnTo>
                    <a:pt x="22" y="3342"/>
                  </a:lnTo>
                  <a:lnTo>
                    <a:pt x="30" y="3435"/>
                  </a:lnTo>
                  <a:lnTo>
                    <a:pt x="39" y="3527"/>
                  </a:lnTo>
                  <a:lnTo>
                    <a:pt x="51" y="3620"/>
                  </a:lnTo>
                  <a:lnTo>
                    <a:pt x="63" y="3712"/>
                  </a:lnTo>
                  <a:lnTo>
                    <a:pt x="76" y="3803"/>
                  </a:lnTo>
                  <a:lnTo>
                    <a:pt x="90" y="3894"/>
                  </a:lnTo>
                  <a:lnTo>
                    <a:pt x="107" y="3984"/>
                  </a:lnTo>
                  <a:lnTo>
                    <a:pt x="123" y="4075"/>
                  </a:lnTo>
                  <a:lnTo>
                    <a:pt x="141" y="4164"/>
                  </a:lnTo>
                  <a:lnTo>
                    <a:pt x="162" y="4253"/>
                  </a:lnTo>
                  <a:lnTo>
                    <a:pt x="182" y="4342"/>
                  </a:lnTo>
                  <a:lnTo>
                    <a:pt x="205" y="4429"/>
                  </a:lnTo>
                  <a:lnTo>
                    <a:pt x="228" y="4516"/>
                  </a:lnTo>
                  <a:lnTo>
                    <a:pt x="253" y="4602"/>
                  </a:lnTo>
                  <a:lnTo>
                    <a:pt x="279" y="4687"/>
                  </a:lnTo>
                  <a:lnTo>
                    <a:pt x="306" y="4772"/>
                  </a:lnTo>
                  <a:lnTo>
                    <a:pt x="334" y="4856"/>
                  </a:lnTo>
                  <a:lnTo>
                    <a:pt x="365" y="4937"/>
                  </a:lnTo>
                  <a:lnTo>
                    <a:pt x="396" y="5019"/>
                  </a:lnTo>
                  <a:lnTo>
                    <a:pt x="428" y="5100"/>
                  </a:lnTo>
                  <a:lnTo>
                    <a:pt x="462" y="5180"/>
                  </a:lnTo>
                  <a:lnTo>
                    <a:pt x="497" y="5258"/>
                  </a:lnTo>
                  <a:lnTo>
                    <a:pt x="533" y="5335"/>
                  </a:lnTo>
                  <a:lnTo>
                    <a:pt x="570" y="5412"/>
                  </a:lnTo>
                  <a:lnTo>
                    <a:pt x="609" y="5486"/>
                  </a:lnTo>
                  <a:lnTo>
                    <a:pt x="650" y="5560"/>
                  </a:lnTo>
                  <a:lnTo>
                    <a:pt x="1081" y="4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425760" y="2587680"/>
              <a:ext cx="25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06680" y="2533680"/>
              <a:ext cx="60120" cy="61920"/>
            </a:xfrm>
            <a:custGeom>
              <a:avLst/>
              <a:gdLst/>
              <a:ahLst/>
              <a:rect l="l" t="t" r="r" b="b"/>
              <a:pathLst>
                <a:path w="854" h="855">
                  <a:moveTo>
                    <a:pt x="854" y="427"/>
                  </a:moveTo>
                  <a:lnTo>
                    <a:pt x="853" y="450"/>
                  </a:lnTo>
                  <a:lnTo>
                    <a:pt x="852" y="471"/>
                  </a:lnTo>
                  <a:lnTo>
                    <a:pt x="849" y="493"/>
                  </a:lnTo>
                  <a:lnTo>
                    <a:pt x="845" y="514"/>
                  </a:lnTo>
                  <a:lnTo>
                    <a:pt x="840" y="535"/>
                  </a:lnTo>
                  <a:lnTo>
                    <a:pt x="835" y="555"/>
                  </a:lnTo>
                  <a:lnTo>
                    <a:pt x="827" y="576"/>
                  </a:lnTo>
                  <a:lnTo>
                    <a:pt x="820" y="594"/>
                  </a:lnTo>
                  <a:lnTo>
                    <a:pt x="811" y="613"/>
                  </a:lnTo>
                  <a:lnTo>
                    <a:pt x="802" y="632"/>
                  </a:lnTo>
                  <a:lnTo>
                    <a:pt x="792" y="650"/>
                  </a:lnTo>
                  <a:lnTo>
                    <a:pt x="780" y="668"/>
                  </a:lnTo>
                  <a:lnTo>
                    <a:pt x="768" y="684"/>
                  </a:lnTo>
                  <a:lnTo>
                    <a:pt x="756" y="700"/>
                  </a:lnTo>
                  <a:lnTo>
                    <a:pt x="743" y="716"/>
                  </a:lnTo>
                  <a:lnTo>
                    <a:pt x="728" y="731"/>
                  </a:lnTo>
                  <a:lnTo>
                    <a:pt x="713" y="744"/>
                  </a:lnTo>
                  <a:lnTo>
                    <a:pt x="698" y="758"/>
                  </a:lnTo>
                  <a:lnTo>
                    <a:pt x="681" y="771"/>
                  </a:lnTo>
                  <a:lnTo>
                    <a:pt x="665" y="783"/>
                  </a:lnTo>
                  <a:lnTo>
                    <a:pt x="648" y="794"/>
                  </a:lnTo>
                  <a:lnTo>
                    <a:pt x="629" y="804"/>
                  </a:lnTo>
                  <a:lnTo>
                    <a:pt x="611" y="814"/>
                  </a:lnTo>
                  <a:lnTo>
                    <a:pt x="593" y="822"/>
                  </a:lnTo>
                  <a:lnTo>
                    <a:pt x="573" y="830"/>
                  </a:lnTo>
                  <a:lnTo>
                    <a:pt x="553" y="836"/>
                  </a:lnTo>
                  <a:lnTo>
                    <a:pt x="534" y="842"/>
                  </a:lnTo>
                  <a:lnTo>
                    <a:pt x="512" y="847"/>
                  </a:lnTo>
                  <a:lnTo>
                    <a:pt x="492" y="850"/>
                  </a:lnTo>
                  <a:lnTo>
                    <a:pt x="470" y="853"/>
                  </a:lnTo>
                  <a:lnTo>
                    <a:pt x="449" y="855"/>
                  </a:lnTo>
                  <a:lnTo>
                    <a:pt x="426" y="855"/>
                  </a:lnTo>
                  <a:lnTo>
                    <a:pt x="404" y="855"/>
                  </a:lnTo>
                  <a:lnTo>
                    <a:pt x="383" y="853"/>
                  </a:lnTo>
                  <a:lnTo>
                    <a:pt x="361" y="850"/>
                  </a:lnTo>
                  <a:lnTo>
                    <a:pt x="341" y="847"/>
                  </a:lnTo>
                  <a:lnTo>
                    <a:pt x="319" y="842"/>
                  </a:lnTo>
                  <a:lnTo>
                    <a:pt x="299" y="836"/>
                  </a:lnTo>
                  <a:lnTo>
                    <a:pt x="280" y="830"/>
                  </a:lnTo>
                  <a:lnTo>
                    <a:pt x="260" y="822"/>
                  </a:lnTo>
                  <a:lnTo>
                    <a:pt x="241" y="814"/>
                  </a:lnTo>
                  <a:lnTo>
                    <a:pt x="222" y="804"/>
                  </a:lnTo>
                  <a:lnTo>
                    <a:pt x="205" y="794"/>
                  </a:lnTo>
                  <a:lnTo>
                    <a:pt x="188" y="783"/>
                  </a:lnTo>
                  <a:lnTo>
                    <a:pt x="170" y="771"/>
                  </a:lnTo>
                  <a:lnTo>
                    <a:pt x="155" y="758"/>
                  </a:lnTo>
                  <a:lnTo>
                    <a:pt x="139" y="744"/>
                  </a:lnTo>
                  <a:lnTo>
                    <a:pt x="124" y="731"/>
                  </a:lnTo>
                  <a:lnTo>
                    <a:pt x="110" y="716"/>
                  </a:lnTo>
                  <a:lnTo>
                    <a:pt x="97" y="700"/>
                  </a:lnTo>
                  <a:lnTo>
                    <a:pt x="85" y="684"/>
                  </a:lnTo>
                  <a:lnTo>
                    <a:pt x="72" y="668"/>
                  </a:lnTo>
                  <a:lnTo>
                    <a:pt x="61" y="650"/>
                  </a:lnTo>
                  <a:lnTo>
                    <a:pt x="51" y="632"/>
                  </a:lnTo>
                  <a:lnTo>
                    <a:pt x="42" y="613"/>
                  </a:lnTo>
                  <a:lnTo>
                    <a:pt x="33" y="594"/>
                  </a:lnTo>
                  <a:lnTo>
                    <a:pt x="25" y="576"/>
                  </a:lnTo>
                  <a:lnTo>
                    <a:pt x="18" y="555"/>
                  </a:lnTo>
                  <a:lnTo>
                    <a:pt x="13" y="535"/>
                  </a:lnTo>
                  <a:lnTo>
                    <a:pt x="8" y="514"/>
                  </a:lnTo>
                  <a:lnTo>
                    <a:pt x="4" y="493"/>
                  </a:lnTo>
                  <a:lnTo>
                    <a:pt x="2" y="471"/>
                  </a:lnTo>
                  <a:lnTo>
                    <a:pt x="0" y="450"/>
                  </a:lnTo>
                  <a:lnTo>
                    <a:pt x="0" y="427"/>
                  </a:lnTo>
                  <a:lnTo>
                    <a:pt x="0" y="406"/>
                  </a:lnTo>
                  <a:lnTo>
                    <a:pt x="2" y="385"/>
                  </a:lnTo>
                  <a:lnTo>
                    <a:pt x="4" y="363"/>
                  </a:lnTo>
                  <a:lnTo>
                    <a:pt x="8" y="342"/>
                  </a:lnTo>
                  <a:lnTo>
                    <a:pt x="13" y="321"/>
                  </a:lnTo>
                  <a:lnTo>
                    <a:pt x="18" y="301"/>
                  </a:lnTo>
                  <a:lnTo>
                    <a:pt x="25" y="281"/>
                  </a:lnTo>
                  <a:lnTo>
                    <a:pt x="33" y="262"/>
                  </a:lnTo>
                  <a:lnTo>
                    <a:pt x="42" y="243"/>
                  </a:lnTo>
                  <a:lnTo>
                    <a:pt x="51" y="224"/>
                  </a:lnTo>
                  <a:lnTo>
                    <a:pt x="61" y="207"/>
                  </a:lnTo>
                  <a:lnTo>
                    <a:pt x="72" y="189"/>
                  </a:lnTo>
                  <a:lnTo>
                    <a:pt x="85" y="172"/>
                  </a:lnTo>
                  <a:lnTo>
                    <a:pt x="97" y="156"/>
                  </a:lnTo>
                  <a:lnTo>
                    <a:pt x="110" y="140"/>
                  </a:lnTo>
                  <a:lnTo>
                    <a:pt x="124" y="126"/>
                  </a:lnTo>
                  <a:lnTo>
                    <a:pt x="139" y="112"/>
                  </a:lnTo>
                  <a:lnTo>
                    <a:pt x="155" y="98"/>
                  </a:lnTo>
                  <a:lnTo>
                    <a:pt x="170" y="85"/>
                  </a:lnTo>
                  <a:lnTo>
                    <a:pt x="188" y="73"/>
                  </a:lnTo>
                  <a:lnTo>
                    <a:pt x="205" y="63"/>
                  </a:lnTo>
                  <a:lnTo>
                    <a:pt x="222" y="52"/>
                  </a:lnTo>
                  <a:lnTo>
                    <a:pt x="241" y="42"/>
                  </a:lnTo>
                  <a:lnTo>
                    <a:pt x="260" y="34"/>
                  </a:lnTo>
                  <a:lnTo>
                    <a:pt x="280" y="26"/>
                  </a:lnTo>
                  <a:lnTo>
                    <a:pt x="299" y="20"/>
                  </a:lnTo>
                  <a:lnTo>
                    <a:pt x="319" y="14"/>
                  </a:lnTo>
                  <a:lnTo>
                    <a:pt x="341" y="9"/>
                  </a:lnTo>
                  <a:lnTo>
                    <a:pt x="361" y="5"/>
                  </a:lnTo>
                  <a:lnTo>
                    <a:pt x="383" y="2"/>
                  </a:lnTo>
                  <a:lnTo>
                    <a:pt x="404" y="1"/>
                  </a:lnTo>
                  <a:lnTo>
                    <a:pt x="426" y="0"/>
                  </a:lnTo>
                  <a:lnTo>
                    <a:pt x="449" y="1"/>
                  </a:lnTo>
                  <a:lnTo>
                    <a:pt x="470" y="2"/>
                  </a:lnTo>
                  <a:lnTo>
                    <a:pt x="492" y="5"/>
                  </a:lnTo>
                  <a:lnTo>
                    <a:pt x="512" y="9"/>
                  </a:lnTo>
                  <a:lnTo>
                    <a:pt x="534" y="14"/>
                  </a:lnTo>
                  <a:lnTo>
                    <a:pt x="553" y="20"/>
                  </a:lnTo>
                  <a:lnTo>
                    <a:pt x="573" y="26"/>
                  </a:lnTo>
                  <a:lnTo>
                    <a:pt x="593" y="34"/>
                  </a:lnTo>
                  <a:lnTo>
                    <a:pt x="611" y="42"/>
                  </a:lnTo>
                  <a:lnTo>
                    <a:pt x="629" y="52"/>
                  </a:lnTo>
                  <a:lnTo>
                    <a:pt x="648" y="63"/>
                  </a:lnTo>
                  <a:lnTo>
                    <a:pt x="665" y="73"/>
                  </a:lnTo>
                  <a:lnTo>
                    <a:pt x="681" y="85"/>
                  </a:lnTo>
                  <a:lnTo>
                    <a:pt x="698" y="98"/>
                  </a:lnTo>
                  <a:lnTo>
                    <a:pt x="713" y="112"/>
                  </a:lnTo>
                  <a:lnTo>
                    <a:pt x="728" y="126"/>
                  </a:lnTo>
                  <a:lnTo>
                    <a:pt x="743" y="140"/>
                  </a:lnTo>
                  <a:lnTo>
                    <a:pt x="756" y="156"/>
                  </a:lnTo>
                  <a:lnTo>
                    <a:pt x="768" y="172"/>
                  </a:lnTo>
                  <a:lnTo>
                    <a:pt x="780" y="189"/>
                  </a:lnTo>
                  <a:lnTo>
                    <a:pt x="792" y="207"/>
                  </a:lnTo>
                  <a:lnTo>
                    <a:pt x="802" y="224"/>
                  </a:lnTo>
                  <a:lnTo>
                    <a:pt x="811" y="243"/>
                  </a:lnTo>
                  <a:lnTo>
                    <a:pt x="820" y="262"/>
                  </a:lnTo>
                  <a:lnTo>
                    <a:pt x="827" y="281"/>
                  </a:lnTo>
                  <a:lnTo>
                    <a:pt x="835" y="301"/>
                  </a:lnTo>
                  <a:lnTo>
                    <a:pt x="840" y="321"/>
                  </a:lnTo>
                  <a:lnTo>
                    <a:pt x="845" y="342"/>
                  </a:lnTo>
                  <a:lnTo>
                    <a:pt x="849" y="363"/>
                  </a:lnTo>
                  <a:lnTo>
                    <a:pt x="852" y="385"/>
                  </a:lnTo>
                  <a:lnTo>
                    <a:pt x="853" y="406"/>
                  </a:lnTo>
                  <a:lnTo>
                    <a:pt x="854" y="4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2" name="" descr=""/>
          <p:cNvPicPr/>
          <p:nvPr/>
        </p:nvPicPr>
        <p:blipFill>
          <a:blip r:embed="rId7"/>
          <a:stretch/>
        </p:blipFill>
        <p:spPr>
          <a:xfrm>
            <a:off x="355680" y="2270160"/>
            <a:ext cx="1117440" cy="485640"/>
          </a:xfrm>
          <a:prstGeom prst="rect">
            <a:avLst/>
          </a:prstGeom>
          <a:ln w="0">
            <a:noFill/>
          </a:ln>
        </p:spPr>
      </p:pic>
      <p:pic>
        <p:nvPicPr>
          <p:cNvPr id="1623" name="" descr=""/>
          <p:cNvPicPr/>
          <p:nvPr/>
        </p:nvPicPr>
        <p:blipFill>
          <a:blip r:embed="rId8"/>
          <a:stretch/>
        </p:blipFill>
        <p:spPr>
          <a:xfrm>
            <a:off x="2971800" y="2955960"/>
            <a:ext cx="1211400" cy="990720"/>
          </a:xfrm>
          <a:prstGeom prst="rect">
            <a:avLst/>
          </a:prstGeom>
          <a:ln w="0">
            <a:noFill/>
          </a:ln>
        </p:spPr>
      </p:pic>
      <p:sp>
        <p:nvSpPr>
          <p:cNvPr id="1624" name=""/>
          <p:cNvSpPr/>
          <p:nvPr/>
        </p:nvSpPr>
        <p:spPr>
          <a:xfrm>
            <a:off x="4191120" y="3314880"/>
            <a:ext cx="927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reles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" descr=""/>
          <p:cNvPicPr/>
          <p:nvPr/>
        </p:nvPicPr>
        <p:blipFill>
          <a:blip r:embed="rId9"/>
          <a:stretch/>
        </p:blipFill>
        <p:spPr>
          <a:xfrm>
            <a:off x="355680" y="3152880"/>
            <a:ext cx="1117440" cy="749160"/>
          </a:xfrm>
          <a:prstGeom prst="rect">
            <a:avLst/>
          </a:prstGeom>
          <a:ln w="0">
            <a:noFill/>
          </a:ln>
        </p:spPr>
      </p:pic>
      <p:sp>
        <p:nvSpPr>
          <p:cNvPr id="1626" name=""/>
          <p:cNvSpPr/>
          <p:nvPr/>
        </p:nvSpPr>
        <p:spPr>
          <a:xfrm>
            <a:off x="1638360" y="3276720"/>
            <a:ext cx="1307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al-Mod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7" name="" descr="Wireless Router, Added 04/20/2004"/>
          <p:cNvPicPr/>
          <p:nvPr/>
        </p:nvPicPr>
        <p:blipFill>
          <a:blip r:embed="rId10"/>
          <a:stretch/>
        </p:blipFill>
        <p:spPr>
          <a:xfrm>
            <a:off x="5499000" y="3352680"/>
            <a:ext cx="809640" cy="720720"/>
          </a:xfrm>
          <a:prstGeom prst="rect">
            <a:avLst/>
          </a:prstGeom>
          <a:ln w="0">
            <a:noFill/>
          </a:ln>
        </p:spPr>
      </p:pic>
      <p:sp>
        <p:nvSpPr>
          <p:cNvPr id="1628" name=""/>
          <p:cNvSpPr/>
          <p:nvPr/>
        </p:nvSpPr>
        <p:spPr>
          <a:xfrm>
            <a:off x="6400800" y="3467160"/>
            <a:ext cx="90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791320" y="4724280"/>
            <a:ext cx="1295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reles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nectivity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fferen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"/>
          <p:cNvGrpSpPr/>
          <p:nvPr/>
        </p:nvGrpSpPr>
        <p:grpSpPr>
          <a:xfrm>
            <a:off x="7003440" y="4781520"/>
            <a:ext cx="1567440" cy="1563120"/>
            <a:chOff x="7003440" y="4781520"/>
            <a:chExt cx="1567440" cy="1563120"/>
          </a:xfrm>
        </p:grpSpPr>
        <p:sp>
          <p:nvSpPr>
            <p:cNvPr id="1631" name=""/>
            <p:cNvSpPr/>
            <p:nvPr/>
          </p:nvSpPr>
          <p:spPr>
            <a:xfrm>
              <a:off x="7022160" y="4781520"/>
              <a:ext cx="1548720" cy="1540440"/>
            </a:xfrm>
            <a:custGeom>
              <a:avLst/>
              <a:gdLst/>
              <a:ahLst/>
              <a:rect l="l" t="t" r="r" b="b"/>
              <a:pathLst>
                <a:path w="1498" h="1492">
                  <a:moveTo>
                    <a:pt x="0" y="22"/>
                  </a:moveTo>
                  <a:lnTo>
                    <a:pt x="24" y="12"/>
                  </a:lnTo>
                  <a:lnTo>
                    <a:pt x="56" y="2"/>
                  </a:lnTo>
                  <a:lnTo>
                    <a:pt x="72" y="0"/>
                  </a:lnTo>
                  <a:lnTo>
                    <a:pt x="92" y="0"/>
                  </a:lnTo>
                  <a:lnTo>
                    <a:pt x="108" y="6"/>
                  </a:lnTo>
                  <a:lnTo>
                    <a:pt x="120" y="18"/>
                  </a:lnTo>
                  <a:lnTo>
                    <a:pt x="128" y="30"/>
                  </a:lnTo>
                  <a:lnTo>
                    <a:pt x="132" y="48"/>
                  </a:lnTo>
                  <a:lnTo>
                    <a:pt x="132" y="68"/>
                  </a:lnTo>
                  <a:lnTo>
                    <a:pt x="130" y="88"/>
                  </a:lnTo>
                  <a:lnTo>
                    <a:pt x="120" y="112"/>
                  </a:lnTo>
                  <a:lnTo>
                    <a:pt x="110" y="142"/>
                  </a:lnTo>
                  <a:lnTo>
                    <a:pt x="102" y="166"/>
                  </a:lnTo>
                  <a:lnTo>
                    <a:pt x="96" y="194"/>
                  </a:lnTo>
                  <a:lnTo>
                    <a:pt x="96" y="214"/>
                  </a:lnTo>
                  <a:lnTo>
                    <a:pt x="100" y="234"/>
                  </a:lnTo>
                  <a:lnTo>
                    <a:pt x="112" y="250"/>
                  </a:lnTo>
                  <a:lnTo>
                    <a:pt x="120" y="256"/>
                  </a:lnTo>
                  <a:lnTo>
                    <a:pt x="130" y="262"/>
                  </a:lnTo>
                  <a:lnTo>
                    <a:pt x="156" y="266"/>
                  </a:lnTo>
                  <a:lnTo>
                    <a:pt x="152" y="266"/>
                  </a:lnTo>
                  <a:lnTo>
                    <a:pt x="176" y="264"/>
                  </a:lnTo>
                  <a:lnTo>
                    <a:pt x="206" y="254"/>
                  </a:lnTo>
                  <a:lnTo>
                    <a:pt x="234" y="248"/>
                  </a:lnTo>
                  <a:lnTo>
                    <a:pt x="262" y="240"/>
                  </a:lnTo>
                  <a:lnTo>
                    <a:pt x="284" y="236"/>
                  </a:lnTo>
                  <a:lnTo>
                    <a:pt x="308" y="234"/>
                  </a:lnTo>
                  <a:lnTo>
                    <a:pt x="330" y="240"/>
                  </a:lnTo>
                  <a:lnTo>
                    <a:pt x="348" y="250"/>
                  </a:lnTo>
                  <a:lnTo>
                    <a:pt x="354" y="262"/>
                  </a:lnTo>
                  <a:lnTo>
                    <a:pt x="356" y="272"/>
                  </a:lnTo>
                  <a:lnTo>
                    <a:pt x="356" y="284"/>
                  </a:lnTo>
                  <a:lnTo>
                    <a:pt x="358" y="296"/>
                  </a:lnTo>
                  <a:lnTo>
                    <a:pt x="352" y="322"/>
                  </a:lnTo>
                  <a:lnTo>
                    <a:pt x="342" y="352"/>
                  </a:lnTo>
                  <a:lnTo>
                    <a:pt x="336" y="372"/>
                  </a:lnTo>
                  <a:lnTo>
                    <a:pt x="328" y="392"/>
                  </a:lnTo>
                  <a:lnTo>
                    <a:pt x="322" y="422"/>
                  </a:lnTo>
                  <a:lnTo>
                    <a:pt x="324" y="446"/>
                  </a:lnTo>
                  <a:lnTo>
                    <a:pt x="328" y="460"/>
                  </a:lnTo>
                  <a:lnTo>
                    <a:pt x="334" y="472"/>
                  </a:lnTo>
                  <a:lnTo>
                    <a:pt x="346" y="482"/>
                  </a:lnTo>
                  <a:lnTo>
                    <a:pt x="360" y="488"/>
                  </a:lnTo>
                  <a:lnTo>
                    <a:pt x="376" y="492"/>
                  </a:lnTo>
                  <a:lnTo>
                    <a:pt x="396" y="488"/>
                  </a:lnTo>
                  <a:lnTo>
                    <a:pt x="420" y="482"/>
                  </a:lnTo>
                  <a:lnTo>
                    <a:pt x="452" y="470"/>
                  </a:lnTo>
                  <a:lnTo>
                    <a:pt x="480" y="460"/>
                  </a:lnTo>
                  <a:lnTo>
                    <a:pt x="494" y="458"/>
                  </a:lnTo>
                  <a:lnTo>
                    <a:pt x="508" y="456"/>
                  </a:lnTo>
                  <a:lnTo>
                    <a:pt x="524" y="456"/>
                  </a:lnTo>
                  <a:lnTo>
                    <a:pt x="532" y="456"/>
                  </a:lnTo>
                  <a:lnTo>
                    <a:pt x="548" y="458"/>
                  </a:lnTo>
                  <a:lnTo>
                    <a:pt x="562" y="462"/>
                  </a:lnTo>
                  <a:lnTo>
                    <a:pt x="574" y="470"/>
                  </a:lnTo>
                  <a:lnTo>
                    <a:pt x="580" y="480"/>
                  </a:lnTo>
                  <a:lnTo>
                    <a:pt x="586" y="496"/>
                  </a:lnTo>
                  <a:lnTo>
                    <a:pt x="588" y="518"/>
                  </a:lnTo>
                  <a:lnTo>
                    <a:pt x="580" y="546"/>
                  </a:lnTo>
                  <a:lnTo>
                    <a:pt x="568" y="590"/>
                  </a:lnTo>
                  <a:lnTo>
                    <a:pt x="558" y="620"/>
                  </a:lnTo>
                  <a:lnTo>
                    <a:pt x="554" y="642"/>
                  </a:lnTo>
                  <a:lnTo>
                    <a:pt x="552" y="658"/>
                  </a:lnTo>
                  <a:lnTo>
                    <a:pt x="552" y="682"/>
                  </a:lnTo>
                  <a:lnTo>
                    <a:pt x="556" y="692"/>
                  </a:lnTo>
                  <a:lnTo>
                    <a:pt x="562" y="702"/>
                  </a:lnTo>
                  <a:lnTo>
                    <a:pt x="576" y="712"/>
                  </a:lnTo>
                  <a:lnTo>
                    <a:pt x="592" y="718"/>
                  </a:lnTo>
                  <a:lnTo>
                    <a:pt x="608" y="716"/>
                  </a:lnTo>
                  <a:lnTo>
                    <a:pt x="628" y="714"/>
                  </a:lnTo>
                  <a:lnTo>
                    <a:pt x="646" y="708"/>
                  </a:lnTo>
                  <a:lnTo>
                    <a:pt x="666" y="702"/>
                  </a:lnTo>
                  <a:lnTo>
                    <a:pt x="688" y="694"/>
                  </a:lnTo>
                  <a:lnTo>
                    <a:pt x="718" y="684"/>
                  </a:lnTo>
                  <a:lnTo>
                    <a:pt x="744" y="680"/>
                  </a:lnTo>
                  <a:lnTo>
                    <a:pt x="764" y="682"/>
                  </a:lnTo>
                  <a:lnTo>
                    <a:pt x="780" y="686"/>
                  </a:lnTo>
                  <a:lnTo>
                    <a:pt x="790" y="690"/>
                  </a:lnTo>
                  <a:lnTo>
                    <a:pt x="800" y="694"/>
                  </a:lnTo>
                  <a:lnTo>
                    <a:pt x="806" y="702"/>
                  </a:lnTo>
                  <a:lnTo>
                    <a:pt x="812" y="716"/>
                  </a:lnTo>
                  <a:lnTo>
                    <a:pt x="816" y="734"/>
                  </a:lnTo>
                  <a:lnTo>
                    <a:pt x="816" y="744"/>
                  </a:lnTo>
                  <a:lnTo>
                    <a:pt x="812" y="758"/>
                  </a:lnTo>
                  <a:lnTo>
                    <a:pt x="802" y="794"/>
                  </a:lnTo>
                  <a:lnTo>
                    <a:pt x="790" y="824"/>
                  </a:lnTo>
                  <a:lnTo>
                    <a:pt x="784" y="844"/>
                  </a:lnTo>
                  <a:lnTo>
                    <a:pt x="778" y="860"/>
                  </a:lnTo>
                  <a:lnTo>
                    <a:pt x="776" y="884"/>
                  </a:lnTo>
                  <a:lnTo>
                    <a:pt x="778" y="898"/>
                  </a:lnTo>
                  <a:lnTo>
                    <a:pt x="778" y="904"/>
                  </a:lnTo>
                  <a:lnTo>
                    <a:pt x="782" y="910"/>
                  </a:lnTo>
                  <a:lnTo>
                    <a:pt x="784" y="918"/>
                  </a:lnTo>
                  <a:lnTo>
                    <a:pt x="788" y="926"/>
                  </a:lnTo>
                  <a:lnTo>
                    <a:pt x="796" y="930"/>
                  </a:lnTo>
                  <a:lnTo>
                    <a:pt x="804" y="936"/>
                  </a:lnTo>
                  <a:lnTo>
                    <a:pt x="812" y="940"/>
                  </a:lnTo>
                  <a:lnTo>
                    <a:pt x="822" y="942"/>
                  </a:lnTo>
                  <a:lnTo>
                    <a:pt x="828" y="944"/>
                  </a:lnTo>
                  <a:lnTo>
                    <a:pt x="840" y="944"/>
                  </a:lnTo>
                  <a:lnTo>
                    <a:pt x="858" y="942"/>
                  </a:lnTo>
                  <a:lnTo>
                    <a:pt x="884" y="936"/>
                  </a:lnTo>
                  <a:lnTo>
                    <a:pt x="914" y="924"/>
                  </a:lnTo>
                  <a:lnTo>
                    <a:pt x="940" y="914"/>
                  </a:lnTo>
                  <a:lnTo>
                    <a:pt x="956" y="910"/>
                  </a:lnTo>
                  <a:lnTo>
                    <a:pt x="974" y="908"/>
                  </a:lnTo>
                  <a:lnTo>
                    <a:pt x="994" y="910"/>
                  </a:lnTo>
                  <a:lnTo>
                    <a:pt x="1004" y="910"/>
                  </a:lnTo>
                  <a:lnTo>
                    <a:pt x="1010" y="912"/>
                  </a:lnTo>
                  <a:lnTo>
                    <a:pt x="1012" y="914"/>
                  </a:lnTo>
                  <a:lnTo>
                    <a:pt x="1008" y="912"/>
                  </a:lnTo>
                  <a:lnTo>
                    <a:pt x="1018" y="916"/>
                  </a:lnTo>
                  <a:lnTo>
                    <a:pt x="1026" y="920"/>
                  </a:lnTo>
                  <a:lnTo>
                    <a:pt x="1034" y="932"/>
                  </a:lnTo>
                  <a:lnTo>
                    <a:pt x="1038" y="940"/>
                  </a:lnTo>
                  <a:lnTo>
                    <a:pt x="1040" y="950"/>
                  </a:lnTo>
                  <a:lnTo>
                    <a:pt x="1040" y="964"/>
                  </a:lnTo>
                  <a:lnTo>
                    <a:pt x="1038" y="990"/>
                  </a:lnTo>
                  <a:lnTo>
                    <a:pt x="1032" y="1010"/>
                  </a:lnTo>
                  <a:lnTo>
                    <a:pt x="1024" y="1040"/>
                  </a:lnTo>
                  <a:lnTo>
                    <a:pt x="1012" y="1074"/>
                  </a:lnTo>
                  <a:lnTo>
                    <a:pt x="1008" y="1102"/>
                  </a:lnTo>
                  <a:lnTo>
                    <a:pt x="1006" y="1128"/>
                  </a:lnTo>
                  <a:lnTo>
                    <a:pt x="1010" y="1140"/>
                  </a:lnTo>
                  <a:lnTo>
                    <a:pt x="1018" y="1154"/>
                  </a:lnTo>
                  <a:lnTo>
                    <a:pt x="1036" y="1164"/>
                  </a:lnTo>
                  <a:lnTo>
                    <a:pt x="1052" y="1168"/>
                  </a:lnTo>
                  <a:lnTo>
                    <a:pt x="1058" y="1168"/>
                  </a:lnTo>
                  <a:lnTo>
                    <a:pt x="1082" y="1166"/>
                  </a:lnTo>
                  <a:lnTo>
                    <a:pt x="1108" y="1162"/>
                  </a:lnTo>
                  <a:lnTo>
                    <a:pt x="1128" y="1156"/>
                  </a:lnTo>
                  <a:lnTo>
                    <a:pt x="1150" y="1148"/>
                  </a:lnTo>
                  <a:lnTo>
                    <a:pt x="1174" y="1140"/>
                  </a:lnTo>
                  <a:lnTo>
                    <a:pt x="1198" y="1134"/>
                  </a:lnTo>
                  <a:lnTo>
                    <a:pt x="1222" y="1136"/>
                  </a:lnTo>
                  <a:lnTo>
                    <a:pt x="1232" y="1140"/>
                  </a:lnTo>
                  <a:lnTo>
                    <a:pt x="1242" y="1142"/>
                  </a:lnTo>
                  <a:lnTo>
                    <a:pt x="1250" y="1148"/>
                  </a:lnTo>
                  <a:lnTo>
                    <a:pt x="1258" y="1158"/>
                  </a:lnTo>
                  <a:lnTo>
                    <a:pt x="1264" y="1170"/>
                  </a:lnTo>
                  <a:lnTo>
                    <a:pt x="1268" y="1182"/>
                  </a:lnTo>
                  <a:lnTo>
                    <a:pt x="1268" y="1198"/>
                  </a:lnTo>
                  <a:lnTo>
                    <a:pt x="1268" y="1204"/>
                  </a:lnTo>
                  <a:lnTo>
                    <a:pt x="1262" y="1224"/>
                  </a:lnTo>
                  <a:lnTo>
                    <a:pt x="1258" y="1242"/>
                  </a:lnTo>
                  <a:lnTo>
                    <a:pt x="1250" y="1270"/>
                  </a:lnTo>
                  <a:lnTo>
                    <a:pt x="1242" y="1294"/>
                  </a:lnTo>
                  <a:lnTo>
                    <a:pt x="1236" y="1320"/>
                  </a:lnTo>
                  <a:lnTo>
                    <a:pt x="1234" y="1344"/>
                  </a:lnTo>
                  <a:lnTo>
                    <a:pt x="1236" y="1358"/>
                  </a:lnTo>
                  <a:lnTo>
                    <a:pt x="1238" y="1372"/>
                  </a:lnTo>
                  <a:lnTo>
                    <a:pt x="1246" y="1386"/>
                  </a:lnTo>
                  <a:lnTo>
                    <a:pt x="1258" y="1394"/>
                  </a:lnTo>
                  <a:lnTo>
                    <a:pt x="1272" y="1400"/>
                  </a:lnTo>
                  <a:lnTo>
                    <a:pt x="1284" y="1402"/>
                  </a:lnTo>
                  <a:lnTo>
                    <a:pt x="1310" y="1396"/>
                  </a:lnTo>
                  <a:lnTo>
                    <a:pt x="1334" y="1388"/>
                  </a:lnTo>
                  <a:lnTo>
                    <a:pt x="1354" y="1382"/>
                  </a:lnTo>
                  <a:lnTo>
                    <a:pt x="1370" y="1372"/>
                  </a:lnTo>
                  <a:lnTo>
                    <a:pt x="1386" y="1368"/>
                  </a:lnTo>
                  <a:lnTo>
                    <a:pt x="1406" y="1362"/>
                  </a:lnTo>
                  <a:lnTo>
                    <a:pt x="1426" y="1360"/>
                  </a:lnTo>
                  <a:lnTo>
                    <a:pt x="1440" y="1360"/>
                  </a:lnTo>
                  <a:lnTo>
                    <a:pt x="1464" y="1368"/>
                  </a:lnTo>
                  <a:lnTo>
                    <a:pt x="1486" y="1380"/>
                  </a:lnTo>
                  <a:lnTo>
                    <a:pt x="1494" y="1396"/>
                  </a:lnTo>
                  <a:lnTo>
                    <a:pt x="1498" y="1402"/>
                  </a:lnTo>
                  <a:lnTo>
                    <a:pt x="1496" y="1418"/>
                  </a:lnTo>
                  <a:lnTo>
                    <a:pt x="1494" y="1434"/>
                  </a:lnTo>
                  <a:lnTo>
                    <a:pt x="1488" y="1462"/>
                  </a:lnTo>
                  <a:lnTo>
                    <a:pt x="1482" y="1482"/>
                  </a:lnTo>
                  <a:lnTo>
                    <a:pt x="1478" y="1492"/>
                  </a:lnTo>
                </a:path>
              </a:pathLst>
            </a:custGeom>
            <a:noFill/>
            <a:ln w="3816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003440" y="4797720"/>
              <a:ext cx="1542600" cy="1546920"/>
            </a:xfrm>
            <a:custGeom>
              <a:avLst/>
              <a:gdLst/>
              <a:ahLst/>
              <a:rect l="l" t="t" r="r" b="b"/>
              <a:pathLst>
                <a:path w="1492" h="1498">
                  <a:moveTo>
                    <a:pt x="22" y="0"/>
                  </a:moveTo>
                  <a:lnTo>
                    <a:pt x="12" y="24"/>
                  </a:lnTo>
                  <a:lnTo>
                    <a:pt x="2" y="56"/>
                  </a:lnTo>
                  <a:lnTo>
                    <a:pt x="0" y="72"/>
                  </a:lnTo>
                  <a:lnTo>
                    <a:pt x="0" y="92"/>
                  </a:lnTo>
                  <a:lnTo>
                    <a:pt x="6" y="108"/>
                  </a:lnTo>
                  <a:lnTo>
                    <a:pt x="18" y="120"/>
                  </a:lnTo>
                  <a:lnTo>
                    <a:pt x="30" y="128"/>
                  </a:lnTo>
                  <a:lnTo>
                    <a:pt x="48" y="132"/>
                  </a:lnTo>
                  <a:lnTo>
                    <a:pt x="68" y="132"/>
                  </a:lnTo>
                  <a:lnTo>
                    <a:pt x="88" y="130"/>
                  </a:lnTo>
                  <a:lnTo>
                    <a:pt x="112" y="120"/>
                  </a:lnTo>
                  <a:lnTo>
                    <a:pt x="142" y="110"/>
                  </a:lnTo>
                  <a:lnTo>
                    <a:pt x="166" y="102"/>
                  </a:lnTo>
                  <a:lnTo>
                    <a:pt x="194" y="96"/>
                  </a:lnTo>
                  <a:lnTo>
                    <a:pt x="214" y="96"/>
                  </a:lnTo>
                  <a:lnTo>
                    <a:pt x="234" y="100"/>
                  </a:lnTo>
                  <a:lnTo>
                    <a:pt x="250" y="112"/>
                  </a:lnTo>
                  <a:lnTo>
                    <a:pt x="256" y="120"/>
                  </a:lnTo>
                  <a:lnTo>
                    <a:pt x="262" y="130"/>
                  </a:lnTo>
                  <a:lnTo>
                    <a:pt x="266" y="156"/>
                  </a:lnTo>
                  <a:lnTo>
                    <a:pt x="266" y="152"/>
                  </a:lnTo>
                  <a:lnTo>
                    <a:pt x="264" y="176"/>
                  </a:lnTo>
                  <a:lnTo>
                    <a:pt x="254" y="206"/>
                  </a:lnTo>
                  <a:lnTo>
                    <a:pt x="248" y="234"/>
                  </a:lnTo>
                  <a:lnTo>
                    <a:pt x="240" y="262"/>
                  </a:lnTo>
                  <a:lnTo>
                    <a:pt x="236" y="284"/>
                  </a:lnTo>
                  <a:lnTo>
                    <a:pt x="234" y="308"/>
                  </a:lnTo>
                  <a:lnTo>
                    <a:pt x="240" y="330"/>
                  </a:lnTo>
                  <a:lnTo>
                    <a:pt x="250" y="348"/>
                  </a:lnTo>
                  <a:lnTo>
                    <a:pt x="262" y="354"/>
                  </a:lnTo>
                  <a:lnTo>
                    <a:pt x="272" y="356"/>
                  </a:lnTo>
                  <a:lnTo>
                    <a:pt x="284" y="356"/>
                  </a:lnTo>
                  <a:lnTo>
                    <a:pt x="296" y="358"/>
                  </a:lnTo>
                  <a:lnTo>
                    <a:pt x="322" y="352"/>
                  </a:lnTo>
                  <a:lnTo>
                    <a:pt x="352" y="342"/>
                  </a:lnTo>
                  <a:lnTo>
                    <a:pt x="372" y="336"/>
                  </a:lnTo>
                  <a:lnTo>
                    <a:pt x="392" y="328"/>
                  </a:lnTo>
                  <a:lnTo>
                    <a:pt x="422" y="322"/>
                  </a:lnTo>
                  <a:lnTo>
                    <a:pt x="446" y="324"/>
                  </a:lnTo>
                  <a:lnTo>
                    <a:pt x="460" y="328"/>
                  </a:lnTo>
                  <a:lnTo>
                    <a:pt x="472" y="334"/>
                  </a:lnTo>
                  <a:lnTo>
                    <a:pt x="482" y="346"/>
                  </a:lnTo>
                  <a:lnTo>
                    <a:pt x="488" y="360"/>
                  </a:lnTo>
                  <a:lnTo>
                    <a:pt x="492" y="376"/>
                  </a:lnTo>
                  <a:lnTo>
                    <a:pt x="488" y="396"/>
                  </a:lnTo>
                  <a:lnTo>
                    <a:pt x="482" y="420"/>
                  </a:lnTo>
                  <a:lnTo>
                    <a:pt x="470" y="452"/>
                  </a:lnTo>
                  <a:lnTo>
                    <a:pt x="460" y="480"/>
                  </a:lnTo>
                  <a:lnTo>
                    <a:pt x="458" y="494"/>
                  </a:lnTo>
                  <a:lnTo>
                    <a:pt x="456" y="508"/>
                  </a:lnTo>
                  <a:lnTo>
                    <a:pt x="456" y="524"/>
                  </a:lnTo>
                  <a:lnTo>
                    <a:pt x="456" y="532"/>
                  </a:lnTo>
                  <a:lnTo>
                    <a:pt x="458" y="548"/>
                  </a:lnTo>
                  <a:lnTo>
                    <a:pt x="462" y="562"/>
                  </a:lnTo>
                  <a:lnTo>
                    <a:pt x="470" y="574"/>
                  </a:lnTo>
                  <a:lnTo>
                    <a:pt x="480" y="580"/>
                  </a:lnTo>
                  <a:lnTo>
                    <a:pt x="496" y="586"/>
                  </a:lnTo>
                  <a:lnTo>
                    <a:pt x="518" y="588"/>
                  </a:lnTo>
                  <a:lnTo>
                    <a:pt x="546" y="580"/>
                  </a:lnTo>
                  <a:lnTo>
                    <a:pt x="590" y="568"/>
                  </a:lnTo>
                  <a:lnTo>
                    <a:pt x="620" y="558"/>
                  </a:lnTo>
                  <a:lnTo>
                    <a:pt x="642" y="554"/>
                  </a:lnTo>
                  <a:lnTo>
                    <a:pt x="658" y="552"/>
                  </a:lnTo>
                  <a:lnTo>
                    <a:pt x="682" y="552"/>
                  </a:lnTo>
                  <a:lnTo>
                    <a:pt x="692" y="556"/>
                  </a:lnTo>
                  <a:lnTo>
                    <a:pt x="702" y="562"/>
                  </a:lnTo>
                  <a:lnTo>
                    <a:pt x="712" y="576"/>
                  </a:lnTo>
                  <a:lnTo>
                    <a:pt x="718" y="592"/>
                  </a:lnTo>
                  <a:lnTo>
                    <a:pt x="716" y="608"/>
                  </a:lnTo>
                  <a:lnTo>
                    <a:pt x="714" y="628"/>
                  </a:lnTo>
                  <a:lnTo>
                    <a:pt x="708" y="646"/>
                  </a:lnTo>
                  <a:lnTo>
                    <a:pt x="702" y="666"/>
                  </a:lnTo>
                  <a:lnTo>
                    <a:pt x="694" y="688"/>
                  </a:lnTo>
                  <a:lnTo>
                    <a:pt x="684" y="718"/>
                  </a:lnTo>
                  <a:lnTo>
                    <a:pt x="680" y="744"/>
                  </a:lnTo>
                  <a:lnTo>
                    <a:pt x="682" y="764"/>
                  </a:lnTo>
                  <a:lnTo>
                    <a:pt x="686" y="780"/>
                  </a:lnTo>
                  <a:lnTo>
                    <a:pt x="690" y="790"/>
                  </a:lnTo>
                  <a:lnTo>
                    <a:pt x="694" y="800"/>
                  </a:lnTo>
                  <a:lnTo>
                    <a:pt x="702" y="806"/>
                  </a:lnTo>
                  <a:lnTo>
                    <a:pt x="716" y="812"/>
                  </a:lnTo>
                  <a:lnTo>
                    <a:pt x="734" y="816"/>
                  </a:lnTo>
                  <a:lnTo>
                    <a:pt x="744" y="816"/>
                  </a:lnTo>
                  <a:lnTo>
                    <a:pt x="758" y="812"/>
                  </a:lnTo>
                  <a:lnTo>
                    <a:pt x="794" y="802"/>
                  </a:lnTo>
                  <a:lnTo>
                    <a:pt x="824" y="790"/>
                  </a:lnTo>
                  <a:lnTo>
                    <a:pt x="844" y="784"/>
                  </a:lnTo>
                  <a:lnTo>
                    <a:pt x="860" y="778"/>
                  </a:lnTo>
                  <a:lnTo>
                    <a:pt x="884" y="776"/>
                  </a:lnTo>
                  <a:lnTo>
                    <a:pt x="898" y="778"/>
                  </a:lnTo>
                  <a:lnTo>
                    <a:pt x="904" y="778"/>
                  </a:lnTo>
                  <a:lnTo>
                    <a:pt x="910" y="782"/>
                  </a:lnTo>
                  <a:lnTo>
                    <a:pt x="918" y="784"/>
                  </a:lnTo>
                  <a:lnTo>
                    <a:pt x="926" y="788"/>
                  </a:lnTo>
                  <a:lnTo>
                    <a:pt x="930" y="796"/>
                  </a:lnTo>
                  <a:lnTo>
                    <a:pt x="936" y="804"/>
                  </a:lnTo>
                  <a:lnTo>
                    <a:pt x="940" y="812"/>
                  </a:lnTo>
                  <a:lnTo>
                    <a:pt x="942" y="822"/>
                  </a:lnTo>
                  <a:lnTo>
                    <a:pt x="944" y="828"/>
                  </a:lnTo>
                  <a:lnTo>
                    <a:pt x="944" y="840"/>
                  </a:lnTo>
                  <a:lnTo>
                    <a:pt x="942" y="858"/>
                  </a:lnTo>
                  <a:lnTo>
                    <a:pt x="936" y="884"/>
                  </a:lnTo>
                  <a:lnTo>
                    <a:pt x="924" y="914"/>
                  </a:lnTo>
                  <a:lnTo>
                    <a:pt x="914" y="940"/>
                  </a:lnTo>
                  <a:lnTo>
                    <a:pt x="910" y="956"/>
                  </a:lnTo>
                  <a:lnTo>
                    <a:pt x="908" y="974"/>
                  </a:lnTo>
                  <a:lnTo>
                    <a:pt x="910" y="994"/>
                  </a:lnTo>
                  <a:lnTo>
                    <a:pt x="910" y="1004"/>
                  </a:lnTo>
                  <a:lnTo>
                    <a:pt x="912" y="1010"/>
                  </a:lnTo>
                  <a:lnTo>
                    <a:pt x="914" y="1012"/>
                  </a:lnTo>
                  <a:lnTo>
                    <a:pt x="912" y="1008"/>
                  </a:lnTo>
                  <a:lnTo>
                    <a:pt x="916" y="1018"/>
                  </a:lnTo>
                  <a:lnTo>
                    <a:pt x="920" y="1026"/>
                  </a:lnTo>
                  <a:lnTo>
                    <a:pt x="932" y="1034"/>
                  </a:lnTo>
                  <a:lnTo>
                    <a:pt x="940" y="1038"/>
                  </a:lnTo>
                  <a:lnTo>
                    <a:pt x="950" y="1040"/>
                  </a:lnTo>
                  <a:lnTo>
                    <a:pt x="964" y="1040"/>
                  </a:lnTo>
                  <a:lnTo>
                    <a:pt x="990" y="1038"/>
                  </a:lnTo>
                  <a:lnTo>
                    <a:pt x="1010" y="1032"/>
                  </a:lnTo>
                  <a:lnTo>
                    <a:pt x="1040" y="1024"/>
                  </a:lnTo>
                  <a:lnTo>
                    <a:pt x="1074" y="1012"/>
                  </a:lnTo>
                  <a:lnTo>
                    <a:pt x="1102" y="1008"/>
                  </a:lnTo>
                  <a:lnTo>
                    <a:pt x="1128" y="1006"/>
                  </a:lnTo>
                  <a:lnTo>
                    <a:pt x="1140" y="1010"/>
                  </a:lnTo>
                  <a:lnTo>
                    <a:pt x="1154" y="1018"/>
                  </a:lnTo>
                  <a:lnTo>
                    <a:pt x="1164" y="1036"/>
                  </a:lnTo>
                  <a:lnTo>
                    <a:pt x="1168" y="1052"/>
                  </a:lnTo>
                  <a:lnTo>
                    <a:pt x="1168" y="1058"/>
                  </a:lnTo>
                  <a:lnTo>
                    <a:pt x="1166" y="1082"/>
                  </a:lnTo>
                  <a:lnTo>
                    <a:pt x="1162" y="1108"/>
                  </a:lnTo>
                  <a:lnTo>
                    <a:pt x="1156" y="1128"/>
                  </a:lnTo>
                  <a:lnTo>
                    <a:pt x="1148" y="1150"/>
                  </a:lnTo>
                  <a:lnTo>
                    <a:pt x="1140" y="1174"/>
                  </a:lnTo>
                  <a:lnTo>
                    <a:pt x="1134" y="1198"/>
                  </a:lnTo>
                  <a:lnTo>
                    <a:pt x="1136" y="1222"/>
                  </a:lnTo>
                  <a:lnTo>
                    <a:pt x="1140" y="1232"/>
                  </a:lnTo>
                  <a:lnTo>
                    <a:pt x="1142" y="1242"/>
                  </a:lnTo>
                  <a:lnTo>
                    <a:pt x="1148" y="1250"/>
                  </a:lnTo>
                  <a:lnTo>
                    <a:pt x="1158" y="1258"/>
                  </a:lnTo>
                  <a:lnTo>
                    <a:pt x="1170" y="1264"/>
                  </a:lnTo>
                  <a:lnTo>
                    <a:pt x="1182" y="1268"/>
                  </a:lnTo>
                  <a:lnTo>
                    <a:pt x="1198" y="1268"/>
                  </a:lnTo>
                  <a:lnTo>
                    <a:pt x="1204" y="1268"/>
                  </a:lnTo>
                  <a:lnTo>
                    <a:pt x="1224" y="1262"/>
                  </a:lnTo>
                  <a:lnTo>
                    <a:pt x="1242" y="1258"/>
                  </a:lnTo>
                  <a:lnTo>
                    <a:pt x="1270" y="1250"/>
                  </a:lnTo>
                  <a:lnTo>
                    <a:pt x="1294" y="1242"/>
                  </a:lnTo>
                  <a:lnTo>
                    <a:pt x="1320" y="1236"/>
                  </a:lnTo>
                  <a:lnTo>
                    <a:pt x="1344" y="1234"/>
                  </a:lnTo>
                  <a:lnTo>
                    <a:pt x="1358" y="1236"/>
                  </a:lnTo>
                  <a:lnTo>
                    <a:pt x="1372" y="1238"/>
                  </a:lnTo>
                  <a:lnTo>
                    <a:pt x="1386" y="1246"/>
                  </a:lnTo>
                  <a:lnTo>
                    <a:pt x="1394" y="1258"/>
                  </a:lnTo>
                  <a:lnTo>
                    <a:pt x="1400" y="1272"/>
                  </a:lnTo>
                  <a:lnTo>
                    <a:pt x="1402" y="1284"/>
                  </a:lnTo>
                  <a:lnTo>
                    <a:pt x="1396" y="1310"/>
                  </a:lnTo>
                  <a:lnTo>
                    <a:pt x="1388" y="1334"/>
                  </a:lnTo>
                  <a:lnTo>
                    <a:pt x="1382" y="1354"/>
                  </a:lnTo>
                  <a:lnTo>
                    <a:pt x="1372" y="1370"/>
                  </a:lnTo>
                  <a:lnTo>
                    <a:pt x="1368" y="1386"/>
                  </a:lnTo>
                  <a:lnTo>
                    <a:pt x="1362" y="1406"/>
                  </a:lnTo>
                  <a:lnTo>
                    <a:pt x="1360" y="1426"/>
                  </a:lnTo>
                  <a:lnTo>
                    <a:pt x="1360" y="1440"/>
                  </a:lnTo>
                  <a:lnTo>
                    <a:pt x="1368" y="1464"/>
                  </a:lnTo>
                  <a:lnTo>
                    <a:pt x="1380" y="1486"/>
                  </a:lnTo>
                  <a:lnTo>
                    <a:pt x="1396" y="1494"/>
                  </a:lnTo>
                  <a:lnTo>
                    <a:pt x="1402" y="1498"/>
                  </a:lnTo>
                  <a:lnTo>
                    <a:pt x="1418" y="1496"/>
                  </a:lnTo>
                  <a:lnTo>
                    <a:pt x="1434" y="1494"/>
                  </a:lnTo>
                  <a:lnTo>
                    <a:pt x="1462" y="1488"/>
                  </a:lnTo>
                  <a:lnTo>
                    <a:pt x="1482" y="1482"/>
                  </a:lnTo>
                  <a:lnTo>
                    <a:pt x="1492" y="1478"/>
                  </a:lnTo>
                </a:path>
              </a:pathLst>
            </a:custGeom>
            <a:noFill/>
            <a:ln w="1584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13040" y="4538160"/>
            <a:ext cx="2155680" cy="179280"/>
            <a:chOff x="6413040" y="4538160"/>
            <a:chExt cx="2155680" cy="179280"/>
          </a:xfrm>
        </p:grpSpPr>
        <p:sp>
          <p:nvSpPr>
            <p:cNvPr id="1634" name=""/>
            <p:cNvSpPr/>
            <p:nvPr/>
          </p:nvSpPr>
          <p:spPr>
            <a:xfrm>
              <a:off x="6415200" y="4538160"/>
              <a:ext cx="2153520" cy="179280"/>
            </a:xfrm>
            <a:custGeom>
              <a:avLst/>
              <a:gdLst/>
              <a:ahLst/>
              <a:rect l="l" t="t" r="r" b="b"/>
              <a:pathLst>
                <a:path w="2084" h="174">
                  <a:moveTo>
                    <a:pt x="2084" y="84"/>
                  </a:moveTo>
                  <a:lnTo>
                    <a:pt x="2074" y="108"/>
                  </a:lnTo>
                  <a:lnTo>
                    <a:pt x="2058" y="138"/>
                  </a:lnTo>
                  <a:lnTo>
                    <a:pt x="2048" y="152"/>
                  </a:lnTo>
                  <a:lnTo>
                    <a:pt x="2034" y="164"/>
                  </a:lnTo>
                  <a:lnTo>
                    <a:pt x="2018" y="172"/>
                  </a:lnTo>
                  <a:lnTo>
                    <a:pt x="2002" y="172"/>
                  </a:lnTo>
                  <a:lnTo>
                    <a:pt x="1988" y="170"/>
                  </a:lnTo>
                  <a:lnTo>
                    <a:pt x="1972" y="160"/>
                  </a:lnTo>
                  <a:lnTo>
                    <a:pt x="1958" y="146"/>
                  </a:lnTo>
                  <a:lnTo>
                    <a:pt x="1946" y="130"/>
                  </a:lnTo>
                  <a:lnTo>
                    <a:pt x="1934" y="106"/>
                  </a:lnTo>
                  <a:lnTo>
                    <a:pt x="1922" y="78"/>
                  </a:lnTo>
                  <a:lnTo>
                    <a:pt x="1910" y="54"/>
                  </a:lnTo>
                  <a:lnTo>
                    <a:pt x="1894" y="30"/>
                  </a:lnTo>
                  <a:lnTo>
                    <a:pt x="1882" y="16"/>
                  </a:lnTo>
                  <a:lnTo>
                    <a:pt x="1864" y="6"/>
                  </a:lnTo>
                  <a:lnTo>
                    <a:pt x="1844" y="2"/>
                  </a:lnTo>
                  <a:lnTo>
                    <a:pt x="1834" y="4"/>
                  </a:lnTo>
                  <a:lnTo>
                    <a:pt x="1822" y="6"/>
                  </a:lnTo>
                  <a:lnTo>
                    <a:pt x="1800" y="22"/>
                  </a:lnTo>
                  <a:lnTo>
                    <a:pt x="1804" y="20"/>
                  </a:lnTo>
                  <a:lnTo>
                    <a:pt x="1788" y="38"/>
                  </a:lnTo>
                  <a:lnTo>
                    <a:pt x="1774" y="66"/>
                  </a:lnTo>
                  <a:lnTo>
                    <a:pt x="1760" y="90"/>
                  </a:lnTo>
                  <a:lnTo>
                    <a:pt x="1746" y="116"/>
                  </a:lnTo>
                  <a:lnTo>
                    <a:pt x="1732" y="134"/>
                  </a:lnTo>
                  <a:lnTo>
                    <a:pt x="1716" y="152"/>
                  </a:lnTo>
                  <a:lnTo>
                    <a:pt x="1698" y="164"/>
                  </a:lnTo>
                  <a:lnTo>
                    <a:pt x="1676" y="170"/>
                  </a:lnTo>
                  <a:lnTo>
                    <a:pt x="1662" y="164"/>
                  </a:lnTo>
                  <a:lnTo>
                    <a:pt x="1656" y="160"/>
                  </a:lnTo>
                  <a:lnTo>
                    <a:pt x="1646" y="150"/>
                  </a:lnTo>
                  <a:lnTo>
                    <a:pt x="1638" y="142"/>
                  </a:lnTo>
                  <a:lnTo>
                    <a:pt x="1624" y="122"/>
                  </a:lnTo>
                  <a:lnTo>
                    <a:pt x="1608" y="92"/>
                  </a:lnTo>
                  <a:lnTo>
                    <a:pt x="1600" y="74"/>
                  </a:lnTo>
                  <a:lnTo>
                    <a:pt x="1590" y="54"/>
                  </a:lnTo>
                  <a:lnTo>
                    <a:pt x="1574" y="30"/>
                  </a:lnTo>
                  <a:lnTo>
                    <a:pt x="1556" y="14"/>
                  </a:lnTo>
                  <a:lnTo>
                    <a:pt x="1544" y="6"/>
                  </a:lnTo>
                  <a:lnTo>
                    <a:pt x="1530" y="2"/>
                  </a:lnTo>
                  <a:lnTo>
                    <a:pt x="1514" y="2"/>
                  </a:lnTo>
                  <a:lnTo>
                    <a:pt x="1500" y="8"/>
                  </a:lnTo>
                  <a:lnTo>
                    <a:pt x="1486" y="18"/>
                  </a:lnTo>
                  <a:lnTo>
                    <a:pt x="1474" y="34"/>
                  </a:lnTo>
                  <a:lnTo>
                    <a:pt x="1462" y="56"/>
                  </a:lnTo>
                  <a:lnTo>
                    <a:pt x="1448" y="88"/>
                  </a:lnTo>
                  <a:lnTo>
                    <a:pt x="1434" y="114"/>
                  </a:lnTo>
                  <a:lnTo>
                    <a:pt x="1426" y="126"/>
                  </a:lnTo>
                  <a:lnTo>
                    <a:pt x="1418" y="138"/>
                  </a:lnTo>
                  <a:lnTo>
                    <a:pt x="1406" y="148"/>
                  </a:lnTo>
                  <a:lnTo>
                    <a:pt x="1402" y="154"/>
                  </a:lnTo>
                  <a:lnTo>
                    <a:pt x="1388" y="162"/>
                  </a:lnTo>
                  <a:lnTo>
                    <a:pt x="1374" y="170"/>
                  </a:lnTo>
                  <a:lnTo>
                    <a:pt x="1360" y="172"/>
                  </a:lnTo>
                  <a:lnTo>
                    <a:pt x="1350" y="170"/>
                  </a:lnTo>
                  <a:lnTo>
                    <a:pt x="1334" y="162"/>
                  </a:lnTo>
                  <a:lnTo>
                    <a:pt x="1318" y="150"/>
                  </a:lnTo>
                  <a:lnTo>
                    <a:pt x="1302" y="124"/>
                  </a:lnTo>
                  <a:lnTo>
                    <a:pt x="1280" y="84"/>
                  </a:lnTo>
                  <a:lnTo>
                    <a:pt x="1266" y="56"/>
                  </a:lnTo>
                  <a:lnTo>
                    <a:pt x="1254" y="38"/>
                  </a:lnTo>
                  <a:lnTo>
                    <a:pt x="1244" y="26"/>
                  </a:lnTo>
                  <a:lnTo>
                    <a:pt x="1226" y="8"/>
                  </a:lnTo>
                  <a:lnTo>
                    <a:pt x="1216" y="4"/>
                  </a:lnTo>
                  <a:lnTo>
                    <a:pt x="1204" y="0"/>
                  </a:lnTo>
                  <a:lnTo>
                    <a:pt x="1188" y="4"/>
                  </a:lnTo>
                  <a:lnTo>
                    <a:pt x="1174" y="12"/>
                  </a:lnTo>
                  <a:lnTo>
                    <a:pt x="1162" y="24"/>
                  </a:lnTo>
                  <a:lnTo>
                    <a:pt x="1152" y="38"/>
                  </a:lnTo>
                  <a:lnTo>
                    <a:pt x="1142" y="56"/>
                  </a:lnTo>
                  <a:lnTo>
                    <a:pt x="1132" y="76"/>
                  </a:lnTo>
                  <a:lnTo>
                    <a:pt x="1122" y="96"/>
                  </a:lnTo>
                  <a:lnTo>
                    <a:pt x="1108" y="122"/>
                  </a:lnTo>
                  <a:lnTo>
                    <a:pt x="1092" y="146"/>
                  </a:lnTo>
                  <a:lnTo>
                    <a:pt x="1078" y="158"/>
                  </a:lnTo>
                  <a:lnTo>
                    <a:pt x="1062" y="166"/>
                  </a:lnTo>
                  <a:lnTo>
                    <a:pt x="1054" y="170"/>
                  </a:lnTo>
                  <a:lnTo>
                    <a:pt x="1044" y="174"/>
                  </a:lnTo>
                  <a:lnTo>
                    <a:pt x="1032" y="174"/>
                  </a:lnTo>
                  <a:lnTo>
                    <a:pt x="1018" y="166"/>
                  </a:lnTo>
                  <a:lnTo>
                    <a:pt x="1004" y="158"/>
                  </a:lnTo>
                  <a:lnTo>
                    <a:pt x="996" y="150"/>
                  </a:lnTo>
                  <a:lnTo>
                    <a:pt x="990" y="138"/>
                  </a:lnTo>
                  <a:lnTo>
                    <a:pt x="972" y="106"/>
                  </a:lnTo>
                  <a:lnTo>
                    <a:pt x="958" y="76"/>
                  </a:lnTo>
                  <a:lnTo>
                    <a:pt x="950" y="56"/>
                  </a:lnTo>
                  <a:lnTo>
                    <a:pt x="940" y="42"/>
                  </a:lnTo>
                  <a:lnTo>
                    <a:pt x="926" y="24"/>
                  </a:lnTo>
                  <a:lnTo>
                    <a:pt x="916" y="14"/>
                  </a:lnTo>
                  <a:lnTo>
                    <a:pt x="910" y="12"/>
                  </a:lnTo>
                  <a:lnTo>
                    <a:pt x="902" y="8"/>
                  </a:lnTo>
                  <a:lnTo>
                    <a:pt x="896" y="4"/>
                  </a:lnTo>
                  <a:lnTo>
                    <a:pt x="888" y="2"/>
                  </a:lnTo>
                  <a:lnTo>
                    <a:pt x="878" y="4"/>
                  </a:lnTo>
                  <a:lnTo>
                    <a:pt x="870" y="6"/>
                  </a:lnTo>
                  <a:lnTo>
                    <a:pt x="860" y="10"/>
                  </a:lnTo>
                  <a:lnTo>
                    <a:pt x="852" y="14"/>
                  </a:lnTo>
                  <a:lnTo>
                    <a:pt x="846" y="18"/>
                  </a:lnTo>
                  <a:lnTo>
                    <a:pt x="838" y="26"/>
                  </a:lnTo>
                  <a:lnTo>
                    <a:pt x="826" y="40"/>
                  </a:lnTo>
                  <a:lnTo>
                    <a:pt x="812" y="64"/>
                  </a:lnTo>
                  <a:lnTo>
                    <a:pt x="800" y="94"/>
                  </a:lnTo>
                  <a:lnTo>
                    <a:pt x="788" y="118"/>
                  </a:lnTo>
                  <a:lnTo>
                    <a:pt x="780" y="132"/>
                  </a:lnTo>
                  <a:lnTo>
                    <a:pt x="770" y="146"/>
                  </a:lnTo>
                  <a:lnTo>
                    <a:pt x="754" y="160"/>
                  </a:lnTo>
                  <a:lnTo>
                    <a:pt x="746" y="166"/>
                  </a:lnTo>
                  <a:lnTo>
                    <a:pt x="740" y="168"/>
                  </a:lnTo>
                  <a:lnTo>
                    <a:pt x="738" y="170"/>
                  </a:lnTo>
                  <a:lnTo>
                    <a:pt x="742" y="168"/>
                  </a:lnTo>
                  <a:lnTo>
                    <a:pt x="732" y="172"/>
                  </a:lnTo>
                  <a:lnTo>
                    <a:pt x="724" y="174"/>
                  </a:lnTo>
                  <a:lnTo>
                    <a:pt x="710" y="172"/>
                  </a:lnTo>
                  <a:lnTo>
                    <a:pt x="700" y="168"/>
                  </a:lnTo>
                  <a:lnTo>
                    <a:pt x="692" y="162"/>
                  </a:lnTo>
                  <a:lnTo>
                    <a:pt x="682" y="154"/>
                  </a:lnTo>
                  <a:lnTo>
                    <a:pt x="666" y="134"/>
                  </a:lnTo>
                  <a:lnTo>
                    <a:pt x="656" y="116"/>
                  </a:lnTo>
                  <a:lnTo>
                    <a:pt x="640" y="88"/>
                  </a:lnTo>
                  <a:lnTo>
                    <a:pt x="624" y="56"/>
                  </a:lnTo>
                  <a:lnTo>
                    <a:pt x="608" y="34"/>
                  </a:lnTo>
                  <a:lnTo>
                    <a:pt x="590" y="12"/>
                  </a:lnTo>
                  <a:lnTo>
                    <a:pt x="578" y="8"/>
                  </a:lnTo>
                  <a:lnTo>
                    <a:pt x="564" y="4"/>
                  </a:lnTo>
                  <a:lnTo>
                    <a:pt x="544" y="8"/>
                  </a:lnTo>
                  <a:lnTo>
                    <a:pt x="530" y="18"/>
                  </a:lnTo>
                  <a:lnTo>
                    <a:pt x="526" y="22"/>
                  </a:lnTo>
                  <a:lnTo>
                    <a:pt x="510" y="40"/>
                  </a:lnTo>
                  <a:lnTo>
                    <a:pt x="494" y="62"/>
                  </a:lnTo>
                  <a:lnTo>
                    <a:pt x="484" y="80"/>
                  </a:lnTo>
                  <a:lnTo>
                    <a:pt x="474" y="102"/>
                  </a:lnTo>
                  <a:lnTo>
                    <a:pt x="464" y="124"/>
                  </a:lnTo>
                  <a:lnTo>
                    <a:pt x="450" y="146"/>
                  </a:lnTo>
                  <a:lnTo>
                    <a:pt x="432" y="160"/>
                  </a:lnTo>
                  <a:lnTo>
                    <a:pt x="422" y="166"/>
                  </a:lnTo>
                  <a:lnTo>
                    <a:pt x="414" y="170"/>
                  </a:lnTo>
                  <a:lnTo>
                    <a:pt x="404" y="172"/>
                  </a:lnTo>
                  <a:lnTo>
                    <a:pt x="390" y="170"/>
                  </a:lnTo>
                  <a:lnTo>
                    <a:pt x="378" y="166"/>
                  </a:lnTo>
                  <a:lnTo>
                    <a:pt x="368" y="160"/>
                  </a:lnTo>
                  <a:lnTo>
                    <a:pt x="356" y="150"/>
                  </a:lnTo>
                  <a:lnTo>
                    <a:pt x="350" y="144"/>
                  </a:lnTo>
                  <a:lnTo>
                    <a:pt x="342" y="128"/>
                  </a:lnTo>
                  <a:lnTo>
                    <a:pt x="332" y="112"/>
                  </a:lnTo>
                  <a:lnTo>
                    <a:pt x="318" y="86"/>
                  </a:lnTo>
                  <a:lnTo>
                    <a:pt x="306" y="64"/>
                  </a:lnTo>
                  <a:lnTo>
                    <a:pt x="292" y="42"/>
                  </a:lnTo>
                  <a:lnTo>
                    <a:pt x="276" y="22"/>
                  </a:lnTo>
                  <a:lnTo>
                    <a:pt x="266" y="12"/>
                  </a:lnTo>
                  <a:lnTo>
                    <a:pt x="254" y="4"/>
                  </a:lnTo>
                  <a:lnTo>
                    <a:pt x="240" y="0"/>
                  </a:lnTo>
                  <a:lnTo>
                    <a:pt x="224" y="4"/>
                  </a:lnTo>
                  <a:lnTo>
                    <a:pt x="212" y="8"/>
                  </a:lnTo>
                  <a:lnTo>
                    <a:pt x="200" y="18"/>
                  </a:lnTo>
                  <a:lnTo>
                    <a:pt x="186" y="38"/>
                  </a:lnTo>
                  <a:lnTo>
                    <a:pt x="174" y="62"/>
                  </a:lnTo>
                  <a:lnTo>
                    <a:pt x="166" y="80"/>
                  </a:lnTo>
                  <a:lnTo>
                    <a:pt x="160" y="98"/>
                  </a:lnTo>
                  <a:lnTo>
                    <a:pt x="152" y="112"/>
                  </a:lnTo>
                  <a:lnTo>
                    <a:pt x="142" y="132"/>
                  </a:lnTo>
                  <a:lnTo>
                    <a:pt x="130" y="146"/>
                  </a:lnTo>
                  <a:lnTo>
                    <a:pt x="120" y="156"/>
                  </a:lnTo>
                  <a:lnTo>
                    <a:pt x="96" y="168"/>
                  </a:lnTo>
                  <a:lnTo>
                    <a:pt x="72" y="174"/>
                  </a:lnTo>
                  <a:lnTo>
                    <a:pt x="56" y="168"/>
                  </a:lnTo>
                  <a:lnTo>
                    <a:pt x="50" y="166"/>
                  </a:lnTo>
                  <a:lnTo>
                    <a:pt x="40" y="156"/>
                  </a:lnTo>
                  <a:lnTo>
                    <a:pt x="30" y="142"/>
                  </a:lnTo>
                  <a:lnTo>
                    <a:pt x="14" y="118"/>
                  </a:lnTo>
                  <a:lnTo>
                    <a:pt x="4" y="10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413040" y="4538160"/>
              <a:ext cx="2155680" cy="179280"/>
            </a:xfrm>
            <a:custGeom>
              <a:avLst/>
              <a:gdLst/>
              <a:ahLst/>
              <a:rect l="l" t="t" r="r" b="b"/>
              <a:pathLst>
                <a:path w="2086" h="174">
                  <a:moveTo>
                    <a:pt x="2086" y="90"/>
                  </a:moveTo>
                  <a:lnTo>
                    <a:pt x="2076" y="66"/>
                  </a:lnTo>
                  <a:lnTo>
                    <a:pt x="2060" y="36"/>
                  </a:lnTo>
                  <a:lnTo>
                    <a:pt x="2050" y="22"/>
                  </a:lnTo>
                  <a:lnTo>
                    <a:pt x="2036" y="10"/>
                  </a:lnTo>
                  <a:lnTo>
                    <a:pt x="2020" y="2"/>
                  </a:lnTo>
                  <a:lnTo>
                    <a:pt x="2004" y="2"/>
                  </a:lnTo>
                  <a:lnTo>
                    <a:pt x="1990" y="4"/>
                  </a:lnTo>
                  <a:lnTo>
                    <a:pt x="1974" y="14"/>
                  </a:lnTo>
                  <a:lnTo>
                    <a:pt x="1960" y="28"/>
                  </a:lnTo>
                  <a:lnTo>
                    <a:pt x="1948" y="44"/>
                  </a:lnTo>
                  <a:lnTo>
                    <a:pt x="1936" y="68"/>
                  </a:lnTo>
                  <a:lnTo>
                    <a:pt x="1924" y="96"/>
                  </a:lnTo>
                  <a:lnTo>
                    <a:pt x="1912" y="120"/>
                  </a:lnTo>
                  <a:lnTo>
                    <a:pt x="1896" y="144"/>
                  </a:lnTo>
                  <a:lnTo>
                    <a:pt x="1882" y="158"/>
                  </a:lnTo>
                  <a:lnTo>
                    <a:pt x="1866" y="168"/>
                  </a:lnTo>
                  <a:lnTo>
                    <a:pt x="1846" y="172"/>
                  </a:lnTo>
                  <a:lnTo>
                    <a:pt x="1834" y="170"/>
                  </a:lnTo>
                  <a:lnTo>
                    <a:pt x="1824" y="168"/>
                  </a:lnTo>
                  <a:lnTo>
                    <a:pt x="1802" y="152"/>
                  </a:lnTo>
                  <a:lnTo>
                    <a:pt x="1806" y="154"/>
                  </a:lnTo>
                  <a:lnTo>
                    <a:pt x="1790" y="136"/>
                  </a:lnTo>
                  <a:lnTo>
                    <a:pt x="1774" y="108"/>
                  </a:lnTo>
                  <a:lnTo>
                    <a:pt x="1760" y="84"/>
                  </a:lnTo>
                  <a:lnTo>
                    <a:pt x="1746" y="58"/>
                  </a:lnTo>
                  <a:lnTo>
                    <a:pt x="1734" y="40"/>
                  </a:lnTo>
                  <a:lnTo>
                    <a:pt x="1718" y="22"/>
                  </a:lnTo>
                  <a:lnTo>
                    <a:pt x="1698" y="10"/>
                  </a:lnTo>
                  <a:lnTo>
                    <a:pt x="1678" y="4"/>
                  </a:lnTo>
                  <a:lnTo>
                    <a:pt x="1664" y="10"/>
                  </a:lnTo>
                  <a:lnTo>
                    <a:pt x="1658" y="14"/>
                  </a:lnTo>
                  <a:lnTo>
                    <a:pt x="1648" y="24"/>
                  </a:lnTo>
                  <a:lnTo>
                    <a:pt x="1638" y="32"/>
                  </a:lnTo>
                  <a:lnTo>
                    <a:pt x="1624" y="52"/>
                  </a:lnTo>
                  <a:lnTo>
                    <a:pt x="1610" y="82"/>
                  </a:lnTo>
                  <a:lnTo>
                    <a:pt x="1600" y="100"/>
                  </a:lnTo>
                  <a:lnTo>
                    <a:pt x="1592" y="120"/>
                  </a:lnTo>
                  <a:lnTo>
                    <a:pt x="1576" y="144"/>
                  </a:lnTo>
                  <a:lnTo>
                    <a:pt x="1558" y="160"/>
                  </a:lnTo>
                  <a:lnTo>
                    <a:pt x="1544" y="168"/>
                  </a:lnTo>
                  <a:lnTo>
                    <a:pt x="1532" y="172"/>
                  </a:lnTo>
                  <a:lnTo>
                    <a:pt x="1514" y="170"/>
                  </a:lnTo>
                  <a:lnTo>
                    <a:pt x="1502" y="166"/>
                  </a:lnTo>
                  <a:lnTo>
                    <a:pt x="1488" y="156"/>
                  </a:lnTo>
                  <a:lnTo>
                    <a:pt x="1476" y="140"/>
                  </a:lnTo>
                  <a:lnTo>
                    <a:pt x="1464" y="118"/>
                  </a:lnTo>
                  <a:lnTo>
                    <a:pt x="1448" y="86"/>
                  </a:lnTo>
                  <a:lnTo>
                    <a:pt x="1436" y="60"/>
                  </a:lnTo>
                  <a:lnTo>
                    <a:pt x="1428" y="48"/>
                  </a:lnTo>
                  <a:lnTo>
                    <a:pt x="1420" y="36"/>
                  </a:lnTo>
                  <a:lnTo>
                    <a:pt x="1408" y="26"/>
                  </a:lnTo>
                  <a:lnTo>
                    <a:pt x="1402" y="20"/>
                  </a:lnTo>
                  <a:lnTo>
                    <a:pt x="1390" y="12"/>
                  </a:lnTo>
                  <a:lnTo>
                    <a:pt x="1376" y="4"/>
                  </a:lnTo>
                  <a:lnTo>
                    <a:pt x="1362" y="2"/>
                  </a:lnTo>
                  <a:lnTo>
                    <a:pt x="1352" y="4"/>
                  </a:lnTo>
                  <a:lnTo>
                    <a:pt x="1336" y="10"/>
                  </a:lnTo>
                  <a:lnTo>
                    <a:pt x="1320" y="24"/>
                  </a:lnTo>
                  <a:lnTo>
                    <a:pt x="1304" y="50"/>
                  </a:lnTo>
                  <a:lnTo>
                    <a:pt x="1282" y="90"/>
                  </a:lnTo>
                  <a:lnTo>
                    <a:pt x="1268" y="118"/>
                  </a:lnTo>
                  <a:lnTo>
                    <a:pt x="1256" y="136"/>
                  </a:lnTo>
                  <a:lnTo>
                    <a:pt x="1246" y="148"/>
                  </a:lnTo>
                  <a:lnTo>
                    <a:pt x="1228" y="166"/>
                  </a:lnTo>
                  <a:lnTo>
                    <a:pt x="1218" y="170"/>
                  </a:lnTo>
                  <a:lnTo>
                    <a:pt x="1206" y="174"/>
                  </a:lnTo>
                  <a:lnTo>
                    <a:pt x="1190" y="170"/>
                  </a:lnTo>
                  <a:lnTo>
                    <a:pt x="1174" y="162"/>
                  </a:lnTo>
                  <a:lnTo>
                    <a:pt x="1164" y="150"/>
                  </a:lnTo>
                  <a:lnTo>
                    <a:pt x="1152" y="136"/>
                  </a:lnTo>
                  <a:lnTo>
                    <a:pt x="1144" y="118"/>
                  </a:lnTo>
                  <a:lnTo>
                    <a:pt x="1134" y="98"/>
                  </a:lnTo>
                  <a:lnTo>
                    <a:pt x="1124" y="78"/>
                  </a:lnTo>
                  <a:lnTo>
                    <a:pt x="1110" y="52"/>
                  </a:lnTo>
                  <a:lnTo>
                    <a:pt x="1094" y="28"/>
                  </a:lnTo>
                  <a:lnTo>
                    <a:pt x="1078" y="16"/>
                  </a:lnTo>
                  <a:lnTo>
                    <a:pt x="1064" y="8"/>
                  </a:lnTo>
                  <a:lnTo>
                    <a:pt x="1056" y="4"/>
                  </a:lnTo>
                  <a:lnTo>
                    <a:pt x="1044" y="0"/>
                  </a:lnTo>
                  <a:lnTo>
                    <a:pt x="1034" y="0"/>
                  </a:lnTo>
                  <a:lnTo>
                    <a:pt x="1018" y="6"/>
                  </a:lnTo>
                  <a:lnTo>
                    <a:pt x="1006" y="16"/>
                  </a:lnTo>
                  <a:lnTo>
                    <a:pt x="998" y="24"/>
                  </a:lnTo>
                  <a:lnTo>
                    <a:pt x="990" y="36"/>
                  </a:lnTo>
                  <a:lnTo>
                    <a:pt x="972" y="68"/>
                  </a:lnTo>
                  <a:lnTo>
                    <a:pt x="960" y="98"/>
                  </a:lnTo>
                  <a:lnTo>
                    <a:pt x="950" y="116"/>
                  </a:lnTo>
                  <a:lnTo>
                    <a:pt x="942" y="132"/>
                  </a:lnTo>
                  <a:lnTo>
                    <a:pt x="928" y="150"/>
                  </a:lnTo>
                  <a:lnTo>
                    <a:pt x="916" y="160"/>
                  </a:lnTo>
                  <a:lnTo>
                    <a:pt x="912" y="162"/>
                  </a:lnTo>
                  <a:lnTo>
                    <a:pt x="904" y="166"/>
                  </a:lnTo>
                  <a:lnTo>
                    <a:pt x="896" y="168"/>
                  </a:lnTo>
                  <a:lnTo>
                    <a:pt x="890" y="172"/>
                  </a:lnTo>
                  <a:lnTo>
                    <a:pt x="880" y="170"/>
                  </a:lnTo>
                  <a:lnTo>
                    <a:pt x="872" y="168"/>
                  </a:lnTo>
                  <a:lnTo>
                    <a:pt x="862" y="164"/>
                  </a:lnTo>
                  <a:lnTo>
                    <a:pt x="852" y="160"/>
                  </a:lnTo>
                  <a:lnTo>
                    <a:pt x="848" y="156"/>
                  </a:lnTo>
                  <a:lnTo>
                    <a:pt x="838" y="148"/>
                  </a:lnTo>
                  <a:lnTo>
                    <a:pt x="828" y="134"/>
                  </a:lnTo>
                  <a:lnTo>
                    <a:pt x="814" y="110"/>
                  </a:lnTo>
                  <a:lnTo>
                    <a:pt x="802" y="80"/>
                  </a:lnTo>
                  <a:lnTo>
                    <a:pt x="790" y="56"/>
                  </a:lnTo>
                  <a:lnTo>
                    <a:pt x="780" y="42"/>
                  </a:lnTo>
                  <a:lnTo>
                    <a:pt x="770" y="28"/>
                  </a:lnTo>
                  <a:lnTo>
                    <a:pt x="754" y="14"/>
                  </a:lnTo>
                  <a:lnTo>
                    <a:pt x="746" y="8"/>
                  </a:lnTo>
                  <a:lnTo>
                    <a:pt x="740" y="4"/>
                  </a:lnTo>
                  <a:lnTo>
                    <a:pt x="738" y="4"/>
                  </a:lnTo>
                  <a:lnTo>
                    <a:pt x="744" y="6"/>
                  </a:lnTo>
                  <a:lnTo>
                    <a:pt x="734" y="2"/>
                  </a:lnTo>
                  <a:lnTo>
                    <a:pt x="724" y="0"/>
                  </a:lnTo>
                  <a:lnTo>
                    <a:pt x="712" y="2"/>
                  </a:lnTo>
                  <a:lnTo>
                    <a:pt x="702" y="6"/>
                  </a:lnTo>
                  <a:lnTo>
                    <a:pt x="694" y="10"/>
                  </a:lnTo>
                  <a:lnTo>
                    <a:pt x="684" y="20"/>
                  </a:lnTo>
                  <a:lnTo>
                    <a:pt x="668" y="40"/>
                  </a:lnTo>
                  <a:lnTo>
                    <a:pt x="658" y="58"/>
                  </a:lnTo>
                  <a:lnTo>
                    <a:pt x="642" y="86"/>
                  </a:lnTo>
                  <a:lnTo>
                    <a:pt x="626" y="118"/>
                  </a:lnTo>
                  <a:lnTo>
                    <a:pt x="610" y="140"/>
                  </a:lnTo>
                  <a:lnTo>
                    <a:pt x="592" y="162"/>
                  </a:lnTo>
                  <a:lnTo>
                    <a:pt x="578" y="166"/>
                  </a:lnTo>
                  <a:lnTo>
                    <a:pt x="566" y="170"/>
                  </a:lnTo>
                  <a:lnTo>
                    <a:pt x="546" y="166"/>
                  </a:lnTo>
                  <a:lnTo>
                    <a:pt x="532" y="156"/>
                  </a:lnTo>
                  <a:lnTo>
                    <a:pt x="528" y="152"/>
                  </a:lnTo>
                  <a:lnTo>
                    <a:pt x="512" y="134"/>
                  </a:lnTo>
                  <a:lnTo>
                    <a:pt x="496" y="112"/>
                  </a:lnTo>
                  <a:lnTo>
                    <a:pt x="486" y="94"/>
                  </a:lnTo>
                  <a:lnTo>
                    <a:pt x="476" y="72"/>
                  </a:lnTo>
                  <a:lnTo>
                    <a:pt x="464" y="50"/>
                  </a:lnTo>
                  <a:lnTo>
                    <a:pt x="452" y="28"/>
                  </a:lnTo>
                  <a:lnTo>
                    <a:pt x="434" y="14"/>
                  </a:lnTo>
                  <a:lnTo>
                    <a:pt x="422" y="8"/>
                  </a:lnTo>
                  <a:lnTo>
                    <a:pt x="414" y="4"/>
                  </a:lnTo>
                  <a:lnTo>
                    <a:pt x="404" y="2"/>
                  </a:lnTo>
                  <a:lnTo>
                    <a:pt x="392" y="4"/>
                  </a:lnTo>
                  <a:lnTo>
                    <a:pt x="380" y="8"/>
                  </a:lnTo>
                  <a:lnTo>
                    <a:pt x="368" y="14"/>
                  </a:lnTo>
                  <a:lnTo>
                    <a:pt x="358" y="24"/>
                  </a:lnTo>
                  <a:lnTo>
                    <a:pt x="352" y="30"/>
                  </a:lnTo>
                  <a:lnTo>
                    <a:pt x="342" y="46"/>
                  </a:lnTo>
                  <a:lnTo>
                    <a:pt x="332" y="62"/>
                  </a:lnTo>
                  <a:lnTo>
                    <a:pt x="320" y="88"/>
                  </a:lnTo>
                  <a:lnTo>
                    <a:pt x="308" y="110"/>
                  </a:lnTo>
                  <a:lnTo>
                    <a:pt x="294" y="132"/>
                  </a:lnTo>
                  <a:lnTo>
                    <a:pt x="278" y="152"/>
                  </a:lnTo>
                  <a:lnTo>
                    <a:pt x="266" y="162"/>
                  </a:lnTo>
                  <a:lnTo>
                    <a:pt x="256" y="170"/>
                  </a:lnTo>
                  <a:lnTo>
                    <a:pt x="240" y="174"/>
                  </a:lnTo>
                  <a:lnTo>
                    <a:pt x="226" y="170"/>
                  </a:lnTo>
                  <a:lnTo>
                    <a:pt x="212" y="164"/>
                  </a:lnTo>
                  <a:lnTo>
                    <a:pt x="202" y="156"/>
                  </a:lnTo>
                  <a:lnTo>
                    <a:pt x="188" y="136"/>
                  </a:lnTo>
                  <a:lnTo>
                    <a:pt x="176" y="112"/>
                  </a:lnTo>
                  <a:lnTo>
                    <a:pt x="166" y="94"/>
                  </a:lnTo>
                  <a:lnTo>
                    <a:pt x="162" y="76"/>
                  </a:lnTo>
                  <a:lnTo>
                    <a:pt x="154" y="62"/>
                  </a:lnTo>
                  <a:lnTo>
                    <a:pt x="144" y="42"/>
                  </a:lnTo>
                  <a:lnTo>
                    <a:pt x="132" y="28"/>
                  </a:lnTo>
                  <a:lnTo>
                    <a:pt x="122" y="18"/>
                  </a:lnTo>
                  <a:lnTo>
                    <a:pt x="98" y="6"/>
                  </a:lnTo>
                  <a:lnTo>
                    <a:pt x="74" y="0"/>
                  </a:lnTo>
                  <a:lnTo>
                    <a:pt x="58" y="4"/>
                  </a:lnTo>
                  <a:lnTo>
                    <a:pt x="50" y="8"/>
                  </a:lnTo>
                  <a:lnTo>
                    <a:pt x="40" y="18"/>
                  </a:lnTo>
                  <a:lnTo>
                    <a:pt x="30" y="32"/>
                  </a:lnTo>
                  <a:lnTo>
                    <a:pt x="16" y="56"/>
                  </a:lnTo>
                  <a:lnTo>
                    <a:pt x="6" y="74"/>
                  </a:lnTo>
                  <a:lnTo>
                    <a:pt x="0" y="84"/>
                  </a:lnTo>
                </a:path>
              </a:pathLst>
            </a:custGeom>
            <a:noFill/>
            <a:ln w="1584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7005240" y="4780080"/>
            <a:ext cx="1563480" cy="1563120"/>
            <a:chOff x="7005240" y="4780080"/>
            <a:chExt cx="1563480" cy="1563120"/>
          </a:xfrm>
        </p:grpSpPr>
        <p:sp>
          <p:nvSpPr>
            <p:cNvPr id="1637" name=""/>
            <p:cNvSpPr/>
            <p:nvPr/>
          </p:nvSpPr>
          <p:spPr>
            <a:xfrm>
              <a:off x="7005240" y="4780080"/>
              <a:ext cx="1542960" cy="1546920"/>
            </a:xfrm>
            <a:custGeom>
              <a:avLst/>
              <a:gdLst/>
              <a:ahLst/>
              <a:rect l="l" t="t" r="r" b="b"/>
              <a:pathLst>
                <a:path w="1494" h="1498">
                  <a:moveTo>
                    <a:pt x="24" y="1498"/>
                  </a:moveTo>
                  <a:lnTo>
                    <a:pt x="12" y="1472"/>
                  </a:lnTo>
                  <a:lnTo>
                    <a:pt x="4" y="1440"/>
                  </a:lnTo>
                  <a:lnTo>
                    <a:pt x="0" y="1424"/>
                  </a:lnTo>
                  <a:lnTo>
                    <a:pt x="2" y="1404"/>
                  </a:lnTo>
                  <a:lnTo>
                    <a:pt x="8" y="1388"/>
                  </a:lnTo>
                  <a:lnTo>
                    <a:pt x="20" y="1378"/>
                  </a:lnTo>
                  <a:lnTo>
                    <a:pt x="30" y="1368"/>
                  </a:lnTo>
                  <a:lnTo>
                    <a:pt x="48" y="1364"/>
                  </a:lnTo>
                  <a:lnTo>
                    <a:pt x="68" y="1364"/>
                  </a:lnTo>
                  <a:lnTo>
                    <a:pt x="88" y="1368"/>
                  </a:lnTo>
                  <a:lnTo>
                    <a:pt x="114" y="1376"/>
                  </a:lnTo>
                  <a:lnTo>
                    <a:pt x="142" y="1388"/>
                  </a:lnTo>
                  <a:lnTo>
                    <a:pt x="168" y="1396"/>
                  </a:lnTo>
                  <a:lnTo>
                    <a:pt x="196" y="1402"/>
                  </a:lnTo>
                  <a:lnTo>
                    <a:pt x="214" y="1402"/>
                  </a:lnTo>
                  <a:lnTo>
                    <a:pt x="234" y="1396"/>
                  </a:lnTo>
                  <a:lnTo>
                    <a:pt x="250" y="1386"/>
                  </a:lnTo>
                  <a:lnTo>
                    <a:pt x="258" y="1376"/>
                  </a:lnTo>
                  <a:lnTo>
                    <a:pt x="264" y="1366"/>
                  </a:lnTo>
                  <a:lnTo>
                    <a:pt x="268" y="1340"/>
                  </a:lnTo>
                  <a:lnTo>
                    <a:pt x="266" y="1344"/>
                  </a:lnTo>
                  <a:lnTo>
                    <a:pt x="266" y="1320"/>
                  </a:lnTo>
                  <a:lnTo>
                    <a:pt x="256" y="1290"/>
                  </a:lnTo>
                  <a:lnTo>
                    <a:pt x="248" y="1264"/>
                  </a:lnTo>
                  <a:lnTo>
                    <a:pt x="240" y="1234"/>
                  </a:lnTo>
                  <a:lnTo>
                    <a:pt x="236" y="1214"/>
                  </a:lnTo>
                  <a:lnTo>
                    <a:pt x="236" y="1190"/>
                  </a:lnTo>
                  <a:lnTo>
                    <a:pt x="240" y="1168"/>
                  </a:lnTo>
                  <a:lnTo>
                    <a:pt x="250" y="1148"/>
                  </a:lnTo>
                  <a:lnTo>
                    <a:pt x="264" y="1142"/>
                  </a:lnTo>
                  <a:lnTo>
                    <a:pt x="272" y="1140"/>
                  </a:lnTo>
                  <a:lnTo>
                    <a:pt x="286" y="1140"/>
                  </a:lnTo>
                  <a:lnTo>
                    <a:pt x="298" y="1140"/>
                  </a:lnTo>
                  <a:lnTo>
                    <a:pt x="322" y="1144"/>
                  </a:lnTo>
                  <a:lnTo>
                    <a:pt x="354" y="1154"/>
                  </a:lnTo>
                  <a:lnTo>
                    <a:pt x="372" y="1162"/>
                  </a:lnTo>
                  <a:lnTo>
                    <a:pt x="394" y="1168"/>
                  </a:lnTo>
                  <a:lnTo>
                    <a:pt x="422" y="1174"/>
                  </a:lnTo>
                  <a:lnTo>
                    <a:pt x="446" y="1174"/>
                  </a:lnTo>
                  <a:lnTo>
                    <a:pt x="460" y="1170"/>
                  </a:lnTo>
                  <a:lnTo>
                    <a:pt x="472" y="1162"/>
                  </a:lnTo>
                  <a:lnTo>
                    <a:pt x="484" y="1150"/>
                  </a:lnTo>
                  <a:lnTo>
                    <a:pt x="490" y="1138"/>
                  </a:lnTo>
                  <a:lnTo>
                    <a:pt x="492" y="1120"/>
                  </a:lnTo>
                  <a:lnTo>
                    <a:pt x="490" y="1102"/>
                  </a:lnTo>
                  <a:lnTo>
                    <a:pt x="482" y="1078"/>
                  </a:lnTo>
                  <a:lnTo>
                    <a:pt x="470" y="1044"/>
                  </a:lnTo>
                  <a:lnTo>
                    <a:pt x="462" y="1016"/>
                  </a:lnTo>
                  <a:lnTo>
                    <a:pt x="458" y="1002"/>
                  </a:lnTo>
                  <a:lnTo>
                    <a:pt x="456" y="988"/>
                  </a:lnTo>
                  <a:lnTo>
                    <a:pt x="456" y="972"/>
                  </a:lnTo>
                  <a:lnTo>
                    <a:pt x="456" y="964"/>
                  </a:lnTo>
                  <a:lnTo>
                    <a:pt x="460" y="950"/>
                  </a:lnTo>
                  <a:lnTo>
                    <a:pt x="464" y="934"/>
                  </a:lnTo>
                  <a:lnTo>
                    <a:pt x="472" y="924"/>
                  </a:lnTo>
                  <a:lnTo>
                    <a:pt x="480" y="916"/>
                  </a:lnTo>
                  <a:lnTo>
                    <a:pt x="496" y="912"/>
                  </a:lnTo>
                  <a:lnTo>
                    <a:pt x="518" y="910"/>
                  </a:lnTo>
                  <a:lnTo>
                    <a:pt x="548" y="916"/>
                  </a:lnTo>
                  <a:lnTo>
                    <a:pt x="592" y="928"/>
                  </a:lnTo>
                  <a:lnTo>
                    <a:pt x="620" y="938"/>
                  </a:lnTo>
                  <a:lnTo>
                    <a:pt x="642" y="942"/>
                  </a:lnTo>
                  <a:lnTo>
                    <a:pt x="658" y="944"/>
                  </a:lnTo>
                  <a:lnTo>
                    <a:pt x="682" y="944"/>
                  </a:lnTo>
                  <a:lnTo>
                    <a:pt x="694" y="940"/>
                  </a:lnTo>
                  <a:lnTo>
                    <a:pt x="704" y="934"/>
                  </a:lnTo>
                  <a:lnTo>
                    <a:pt x="714" y="920"/>
                  </a:lnTo>
                  <a:lnTo>
                    <a:pt x="718" y="904"/>
                  </a:lnTo>
                  <a:lnTo>
                    <a:pt x="718" y="888"/>
                  </a:lnTo>
                  <a:lnTo>
                    <a:pt x="714" y="870"/>
                  </a:lnTo>
                  <a:lnTo>
                    <a:pt x="710" y="852"/>
                  </a:lnTo>
                  <a:lnTo>
                    <a:pt x="702" y="830"/>
                  </a:lnTo>
                  <a:lnTo>
                    <a:pt x="694" y="808"/>
                  </a:lnTo>
                  <a:lnTo>
                    <a:pt x="686" y="780"/>
                  </a:lnTo>
                  <a:lnTo>
                    <a:pt x="680" y="752"/>
                  </a:lnTo>
                  <a:lnTo>
                    <a:pt x="682" y="732"/>
                  </a:lnTo>
                  <a:lnTo>
                    <a:pt x="686" y="716"/>
                  </a:lnTo>
                  <a:lnTo>
                    <a:pt x="690" y="708"/>
                  </a:lnTo>
                  <a:lnTo>
                    <a:pt x="696" y="698"/>
                  </a:lnTo>
                  <a:lnTo>
                    <a:pt x="704" y="690"/>
                  </a:lnTo>
                  <a:lnTo>
                    <a:pt x="718" y="684"/>
                  </a:lnTo>
                  <a:lnTo>
                    <a:pt x="734" y="682"/>
                  </a:lnTo>
                  <a:lnTo>
                    <a:pt x="746" y="682"/>
                  </a:lnTo>
                  <a:lnTo>
                    <a:pt x="760" y="684"/>
                  </a:lnTo>
                  <a:lnTo>
                    <a:pt x="794" y="694"/>
                  </a:lnTo>
                  <a:lnTo>
                    <a:pt x="826" y="706"/>
                  </a:lnTo>
                  <a:lnTo>
                    <a:pt x="844" y="714"/>
                  </a:lnTo>
                  <a:lnTo>
                    <a:pt x="862" y="718"/>
                  </a:lnTo>
                  <a:lnTo>
                    <a:pt x="884" y="720"/>
                  </a:lnTo>
                  <a:lnTo>
                    <a:pt x="898" y="720"/>
                  </a:lnTo>
                  <a:lnTo>
                    <a:pt x="904" y="718"/>
                  </a:lnTo>
                  <a:lnTo>
                    <a:pt x="912" y="716"/>
                  </a:lnTo>
                  <a:lnTo>
                    <a:pt x="920" y="712"/>
                  </a:lnTo>
                  <a:lnTo>
                    <a:pt x="926" y="708"/>
                  </a:lnTo>
                  <a:lnTo>
                    <a:pt x="932" y="700"/>
                  </a:lnTo>
                  <a:lnTo>
                    <a:pt x="936" y="694"/>
                  </a:lnTo>
                  <a:lnTo>
                    <a:pt x="940" y="684"/>
                  </a:lnTo>
                  <a:lnTo>
                    <a:pt x="944" y="674"/>
                  </a:lnTo>
                  <a:lnTo>
                    <a:pt x="944" y="668"/>
                  </a:lnTo>
                  <a:lnTo>
                    <a:pt x="946" y="656"/>
                  </a:lnTo>
                  <a:lnTo>
                    <a:pt x="944" y="638"/>
                  </a:lnTo>
                  <a:lnTo>
                    <a:pt x="936" y="612"/>
                  </a:lnTo>
                  <a:lnTo>
                    <a:pt x="924" y="582"/>
                  </a:lnTo>
                  <a:lnTo>
                    <a:pt x="916" y="556"/>
                  </a:lnTo>
                  <a:lnTo>
                    <a:pt x="912" y="540"/>
                  </a:lnTo>
                  <a:lnTo>
                    <a:pt x="908" y="522"/>
                  </a:lnTo>
                  <a:lnTo>
                    <a:pt x="910" y="502"/>
                  </a:lnTo>
                  <a:lnTo>
                    <a:pt x="912" y="492"/>
                  </a:lnTo>
                  <a:lnTo>
                    <a:pt x="914" y="486"/>
                  </a:lnTo>
                  <a:lnTo>
                    <a:pt x="914" y="484"/>
                  </a:lnTo>
                  <a:lnTo>
                    <a:pt x="912" y="488"/>
                  </a:lnTo>
                  <a:lnTo>
                    <a:pt x="916" y="478"/>
                  </a:lnTo>
                  <a:lnTo>
                    <a:pt x="920" y="470"/>
                  </a:lnTo>
                  <a:lnTo>
                    <a:pt x="932" y="464"/>
                  </a:lnTo>
                  <a:lnTo>
                    <a:pt x="942" y="460"/>
                  </a:lnTo>
                  <a:lnTo>
                    <a:pt x="950" y="458"/>
                  </a:lnTo>
                  <a:lnTo>
                    <a:pt x="966" y="456"/>
                  </a:lnTo>
                  <a:lnTo>
                    <a:pt x="990" y="460"/>
                  </a:lnTo>
                  <a:lnTo>
                    <a:pt x="1010" y="464"/>
                  </a:lnTo>
                  <a:lnTo>
                    <a:pt x="1042" y="474"/>
                  </a:lnTo>
                  <a:lnTo>
                    <a:pt x="1076" y="484"/>
                  </a:lnTo>
                  <a:lnTo>
                    <a:pt x="1102" y="488"/>
                  </a:lnTo>
                  <a:lnTo>
                    <a:pt x="1130" y="492"/>
                  </a:lnTo>
                  <a:lnTo>
                    <a:pt x="1142" y="486"/>
                  </a:lnTo>
                  <a:lnTo>
                    <a:pt x="1154" y="480"/>
                  </a:lnTo>
                  <a:lnTo>
                    <a:pt x="1166" y="462"/>
                  </a:lnTo>
                  <a:lnTo>
                    <a:pt x="1168" y="446"/>
                  </a:lnTo>
                  <a:lnTo>
                    <a:pt x="1168" y="440"/>
                  </a:lnTo>
                  <a:lnTo>
                    <a:pt x="1168" y="416"/>
                  </a:lnTo>
                  <a:lnTo>
                    <a:pt x="1164" y="388"/>
                  </a:lnTo>
                  <a:lnTo>
                    <a:pt x="1158" y="368"/>
                  </a:lnTo>
                  <a:lnTo>
                    <a:pt x="1150" y="346"/>
                  </a:lnTo>
                  <a:lnTo>
                    <a:pt x="1140" y="322"/>
                  </a:lnTo>
                  <a:lnTo>
                    <a:pt x="1134" y="298"/>
                  </a:lnTo>
                  <a:lnTo>
                    <a:pt x="1138" y="274"/>
                  </a:lnTo>
                  <a:lnTo>
                    <a:pt x="1140" y="264"/>
                  </a:lnTo>
                  <a:lnTo>
                    <a:pt x="1144" y="256"/>
                  </a:lnTo>
                  <a:lnTo>
                    <a:pt x="1150" y="246"/>
                  </a:lnTo>
                  <a:lnTo>
                    <a:pt x="1160" y="238"/>
                  </a:lnTo>
                  <a:lnTo>
                    <a:pt x="1172" y="234"/>
                  </a:lnTo>
                  <a:lnTo>
                    <a:pt x="1184" y="230"/>
                  </a:lnTo>
                  <a:lnTo>
                    <a:pt x="1198" y="228"/>
                  </a:lnTo>
                  <a:lnTo>
                    <a:pt x="1206" y="228"/>
                  </a:lnTo>
                  <a:lnTo>
                    <a:pt x="1224" y="234"/>
                  </a:lnTo>
                  <a:lnTo>
                    <a:pt x="1244" y="238"/>
                  </a:lnTo>
                  <a:lnTo>
                    <a:pt x="1270" y="248"/>
                  </a:lnTo>
                  <a:lnTo>
                    <a:pt x="1294" y="254"/>
                  </a:lnTo>
                  <a:lnTo>
                    <a:pt x="1320" y="260"/>
                  </a:lnTo>
                  <a:lnTo>
                    <a:pt x="1344" y="262"/>
                  </a:lnTo>
                  <a:lnTo>
                    <a:pt x="1360" y="262"/>
                  </a:lnTo>
                  <a:lnTo>
                    <a:pt x="1374" y="260"/>
                  </a:lnTo>
                  <a:lnTo>
                    <a:pt x="1386" y="252"/>
                  </a:lnTo>
                  <a:lnTo>
                    <a:pt x="1396" y="238"/>
                  </a:lnTo>
                  <a:lnTo>
                    <a:pt x="1400" y="226"/>
                  </a:lnTo>
                  <a:lnTo>
                    <a:pt x="1402" y="212"/>
                  </a:lnTo>
                  <a:lnTo>
                    <a:pt x="1398" y="188"/>
                  </a:lnTo>
                  <a:lnTo>
                    <a:pt x="1390" y="162"/>
                  </a:lnTo>
                  <a:lnTo>
                    <a:pt x="1382" y="144"/>
                  </a:lnTo>
                  <a:lnTo>
                    <a:pt x="1374" y="126"/>
                  </a:lnTo>
                  <a:lnTo>
                    <a:pt x="1368" y="110"/>
                  </a:lnTo>
                  <a:lnTo>
                    <a:pt x="1362" y="90"/>
                  </a:lnTo>
                  <a:lnTo>
                    <a:pt x="1360" y="72"/>
                  </a:lnTo>
                  <a:lnTo>
                    <a:pt x="1362" y="58"/>
                  </a:lnTo>
                  <a:lnTo>
                    <a:pt x="1370" y="32"/>
                  </a:lnTo>
                  <a:lnTo>
                    <a:pt x="1382" y="10"/>
                  </a:lnTo>
                  <a:lnTo>
                    <a:pt x="1396" y="4"/>
                  </a:lnTo>
                  <a:lnTo>
                    <a:pt x="1404" y="0"/>
                  </a:lnTo>
                  <a:lnTo>
                    <a:pt x="1418" y="0"/>
                  </a:lnTo>
                  <a:lnTo>
                    <a:pt x="1434" y="2"/>
                  </a:lnTo>
                  <a:lnTo>
                    <a:pt x="1462" y="10"/>
                  </a:lnTo>
                  <a:lnTo>
                    <a:pt x="1482" y="16"/>
                  </a:lnTo>
                  <a:lnTo>
                    <a:pt x="1494" y="18"/>
                  </a:lnTo>
                </a:path>
              </a:pathLst>
            </a:custGeom>
            <a:noFill/>
            <a:ln w="3816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021800" y="4800600"/>
              <a:ext cx="1546920" cy="1542600"/>
            </a:xfrm>
            <a:custGeom>
              <a:avLst/>
              <a:gdLst/>
              <a:ahLst/>
              <a:rect l="l" t="t" r="r" b="b"/>
              <a:pathLst>
                <a:path w="1498" h="1494">
                  <a:moveTo>
                    <a:pt x="0" y="1470"/>
                  </a:moveTo>
                  <a:lnTo>
                    <a:pt x="26" y="1480"/>
                  </a:lnTo>
                  <a:lnTo>
                    <a:pt x="56" y="1490"/>
                  </a:lnTo>
                  <a:lnTo>
                    <a:pt x="74" y="1494"/>
                  </a:lnTo>
                  <a:lnTo>
                    <a:pt x="94" y="1492"/>
                  </a:lnTo>
                  <a:lnTo>
                    <a:pt x="110" y="1486"/>
                  </a:lnTo>
                  <a:lnTo>
                    <a:pt x="120" y="1474"/>
                  </a:lnTo>
                  <a:lnTo>
                    <a:pt x="130" y="1464"/>
                  </a:lnTo>
                  <a:lnTo>
                    <a:pt x="134" y="1444"/>
                  </a:lnTo>
                  <a:lnTo>
                    <a:pt x="134" y="1426"/>
                  </a:lnTo>
                  <a:lnTo>
                    <a:pt x="130" y="1406"/>
                  </a:lnTo>
                  <a:lnTo>
                    <a:pt x="122" y="1380"/>
                  </a:lnTo>
                  <a:lnTo>
                    <a:pt x="110" y="1352"/>
                  </a:lnTo>
                  <a:lnTo>
                    <a:pt x="102" y="1326"/>
                  </a:lnTo>
                  <a:lnTo>
                    <a:pt x="96" y="1298"/>
                  </a:lnTo>
                  <a:lnTo>
                    <a:pt x="96" y="1280"/>
                  </a:lnTo>
                  <a:lnTo>
                    <a:pt x="100" y="1260"/>
                  </a:lnTo>
                  <a:lnTo>
                    <a:pt x="112" y="1242"/>
                  </a:lnTo>
                  <a:lnTo>
                    <a:pt x="122" y="1236"/>
                  </a:lnTo>
                  <a:lnTo>
                    <a:pt x="132" y="1230"/>
                  </a:lnTo>
                  <a:lnTo>
                    <a:pt x="158" y="1226"/>
                  </a:lnTo>
                  <a:lnTo>
                    <a:pt x="154" y="1228"/>
                  </a:lnTo>
                  <a:lnTo>
                    <a:pt x="178" y="1228"/>
                  </a:lnTo>
                  <a:lnTo>
                    <a:pt x="208" y="1238"/>
                  </a:lnTo>
                  <a:lnTo>
                    <a:pt x="234" y="1244"/>
                  </a:lnTo>
                  <a:lnTo>
                    <a:pt x="262" y="1254"/>
                  </a:lnTo>
                  <a:lnTo>
                    <a:pt x="284" y="1256"/>
                  </a:lnTo>
                  <a:lnTo>
                    <a:pt x="308" y="1258"/>
                  </a:lnTo>
                  <a:lnTo>
                    <a:pt x="330" y="1254"/>
                  </a:lnTo>
                  <a:lnTo>
                    <a:pt x="350" y="1242"/>
                  </a:lnTo>
                  <a:lnTo>
                    <a:pt x="356" y="1230"/>
                  </a:lnTo>
                  <a:lnTo>
                    <a:pt x="356" y="1222"/>
                  </a:lnTo>
                  <a:lnTo>
                    <a:pt x="358" y="1208"/>
                  </a:lnTo>
                  <a:lnTo>
                    <a:pt x="358" y="1196"/>
                  </a:lnTo>
                  <a:lnTo>
                    <a:pt x="354" y="1172"/>
                  </a:lnTo>
                  <a:lnTo>
                    <a:pt x="344" y="1140"/>
                  </a:lnTo>
                  <a:lnTo>
                    <a:pt x="336" y="1120"/>
                  </a:lnTo>
                  <a:lnTo>
                    <a:pt x="330" y="1100"/>
                  </a:lnTo>
                  <a:lnTo>
                    <a:pt x="322" y="1072"/>
                  </a:lnTo>
                  <a:lnTo>
                    <a:pt x="324" y="1048"/>
                  </a:lnTo>
                  <a:lnTo>
                    <a:pt x="328" y="1034"/>
                  </a:lnTo>
                  <a:lnTo>
                    <a:pt x="334" y="1022"/>
                  </a:lnTo>
                  <a:lnTo>
                    <a:pt x="348" y="1010"/>
                  </a:lnTo>
                  <a:lnTo>
                    <a:pt x="360" y="1004"/>
                  </a:lnTo>
                  <a:lnTo>
                    <a:pt x="376" y="1002"/>
                  </a:lnTo>
                  <a:lnTo>
                    <a:pt x="396" y="1004"/>
                  </a:lnTo>
                  <a:lnTo>
                    <a:pt x="420" y="1010"/>
                  </a:lnTo>
                  <a:lnTo>
                    <a:pt x="454" y="1022"/>
                  </a:lnTo>
                  <a:lnTo>
                    <a:pt x="482" y="1032"/>
                  </a:lnTo>
                  <a:lnTo>
                    <a:pt x="496" y="1034"/>
                  </a:lnTo>
                  <a:lnTo>
                    <a:pt x="510" y="1038"/>
                  </a:lnTo>
                  <a:lnTo>
                    <a:pt x="526" y="1038"/>
                  </a:lnTo>
                  <a:lnTo>
                    <a:pt x="532" y="1036"/>
                  </a:lnTo>
                  <a:lnTo>
                    <a:pt x="548" y="1034"/>
                  </a:lnTo>
                  <a:lnTo>
                    <a:pt x="564" y="1030"/>
                  </a:lnTo>
                  <a:lnTo>
                    <a:pt x="574" y="1022"/>
                  </a:lnTo>
                  <a:lnTo>
                    <a:pt x="580" y="1012"/>
                  </a:lnTo>
                  <a:lnTo>
                    <a:pt x="586" y="998"/>
                  </a:lnTo>
                  <a:lnTo>
                    <a:pt x="588" y="976"/>
                  </a:lnTo>
                  <a:lnTo>
                    <a:pt x="582" y="946"/>
                  </a:lnTo>
                  <a:lnTo>
                    <a:pt x="568" y="902"/>
                  </a:lnTo>
                  <a:lnTo>
                    <a:pt x="560" y="872"/>
                  </a:lnTo>
                  <a:lnTo>
                    <a:pt x="556" y="852"/>
                  </a:lnTo>
                  <a:lnTo>
                    <a:pt x="554" y="836"/>
                  </a:lnTo>
                  <a:lnTo>
                    <a:pt x="554" y="810"/>
                  </a:lnTo>
                  <a:lnTo>
                    <a:pt x="558" y="800"/>
                  </a:lnTo>
                  <a:lnTo>
                    <a:pt x="564" y="790"/>
                  </a:lnTo>
                  <a:lnTo>
                    <a:pt x="578" y="780"/>
                  </a:lnTo>
                  <a:lnTo>
                    <a:pt x="594" y="776"/>
                  </a:lnTo>
                  <a:lnTo>
                    <a:pt x="610" y="776"/>
                  </a:lnTo>
                  <a:lnTo>
                    <a:pt x="628" y="778"/>
                  </a:lnTo>
                  <a:lnTo>
                    <a:pt x="646" y="784"/>
                  </a:lnTo>
                  <a:lnTo>
                    <a:pt x="668" y="792"/>
                  </a:lnTo>
                  <a:lnTo>
                    <a:pt x="690" y="800"/>
                  </a:lnTo>
                  <a:lnTo>
                    <a:pt x="718" y="808"/>
                  </a:lnTo>
                  <a:lnTo>
                    <a:pt x="746" y="812"/>
                  </a:lnTo>
                  <a:lnTo>
                    <a:pt x="766" y="812"/>
                  </a:lnTo>
                  <a:lnTo>
                    <a:pt x="782" y="808"/>
                  </a:lnTo>
                  <a:lnTo>
                    <a:pt x="790" y="804"/>
                  </a:lnTo>
                  <a:lnTo>
                    <a:pt x="800" y="798"/>
                  </a:lnTo>
                  <a:lnTo>
                    <a:pt x="808" y="790"/>
                  </a:lnTo>
                  <a:lnTo>
                    <a:pt x="814" y="776"/>
                  </a:lnTo>
                  <a:lnTo>
                    <a:pt x="816" y="760"/>
                  </a:lnTo>
                  <a:lnTo>
                    <a:pt x="816" y="748"/>
                  </a:lnTo>
                  <a:lnTo>
                    <a:pt x="812" y="734"/>
                  </a:lnTo>
                  <a:lnTo>
                    <a:pt x="802" y="698"/>
                  </a:lnTo>
                  <a:lnTo>
                    <a:pt x="790" y="668"/>
                  </a:lnTo>
                  <a:lnTo>
                    <a:pt x="784" y="650"/>
                  </a:lnTo>
                  <a:lnTo>
                    <a:pt x="780" y="632"/>
                  </a:lnTo>
                  <a:lnTo>
                    <a:pt x="776" y="610"/>
                  </a:lnTo>
                  <a:lnTo>
                    <a:pt x="778" y="594"/>
                  </a:lnTo>
                  <a:lnTo>
                    <a:pt x="780" y="590"/>
                  </a:lnTo>
                  <a:lnTo>
                    <a:pt x="782" y="582"/>
                  </a:lnTo>
                  <a:lnTo>
                    <a:pt x="786" y="574"/>
                  </a:lnTo>
                  <a:lnTo>
                    <a:pt x="788" y="568"/>
                  </a:lnTo>
                  <a:lnTo>
                    <a:pt x="798" y="562"/>
                  </a:lnTo>
                  <a:lnTo>
                    <a:pt x="804" y="558"/>
                  </a:lnTo>
                  <a:lnTo>
                    <a:pt x="814" y="552"/>
                  </a:lnTo>
                  <a:lnTo>
                    <a:pt x="824" y="550"/>
                  </a:lnTo>
                  <a:lnTo>
                    <a:pt x="830" y="550"/>
                  </a:lnTo>
                  <a:lnTo>
                    <a:pt x="842" y="548"/>
                  </a:lnTo>
                  <a:lnTo>
                    <a:pt x="858" y="550"/>
                  </a:lnTo>
                  <a:lnTo>
                    <a:pt x="886" y="556"/>
                  </a:lnTo>
                  <a:lnTo>
                    <a:pt x="916" y="570"/>
                  </a:lnTo>
                  <a:lnTo>
                    <a:pt x="940" y="578"/>
                  </a:lnTo>
                  <a:lnTo>
                    <a:pt x="958" y="582"/>
                  </a:lnTo>
                  <a:lnTo>
                    <a:pt x="974" y="586"/>
                  </a:lnTo>
                  <a:lnTo>
                    <a:pt x="996" y="584"/>
                  </a:lnTo>
                  <a:lnTo>
                    <a:pt x="1004" y="582"/>
                  </a:lnTo>
                  <a:lnTo>
                    <a:pt x="1012" y="580"/>
                  </a:lnTo>
                  <a:lnTo>
                    <a:pt x="1014" y="578"/>
                  </a:lnTo>
                  <a:lnTo>
                    <a:pt x="1008" y="580"/>
                  </a:lnTo>
                  <a:lnTo>
                    <a:pt x="1020" y="578"/>
                  </a:lnTo>
                  <a:lnTo>
                    <a:pt x="1028" y="572"/>
                  </a:lnTo>
                  <a:lnTo>
                    <a:pt x="1034" y="562"/>
                  </a:lnTo>
                  <a:lnTo>
                    <a:pt x="1038" y="552"/>
                  </a:lnTo>
                  <a:lnTo>
                    <a:pt x="1040" y="542"/>
                  </a:lnTo>
                  <a:lnTo>
                    <a:pt x="1042" y="528"/>
                  </a:lnTo>
                  <a:lnTo>
                    <a:pt x="1038" y="504"/>
                  </a:lnTo>
                  <a:lnTo>
                    <a:pt x="1032" y="484"/>
                  </a:lnTo>
                  <a:lnTo>
                    <a:pt x="1024" y="452"/>
                  </a:lnTo>
                  <a:lnTo>
                    <a:pt x="1012" y="418"/>
                  </a:lnTo>
                  <a:lnTo>
                    <a:pt x="1008" y="392"/>
                  </a:lnTo>
                  <a:lnTo>
                    <a:pt x="1006" y="364"/>
                  </a:lnTo>
                  <a:lnTo>
                    <a:pt x="1012" y="352"/>
                  </a:lnTo>
                  <a:lnTo>
                    <a:pt x="1018" y="340"/>
                  </a:lnTo>
                  <a:lnTo>
                    <a:pt x="1036" y="328"/>
                  </a:lnTo>
                  <a:lnTo>
                    <a:pt x="1052" y="324"/>
                  </a:lnTo>
                  <a:lnTo>
                    <a:pt x="1058" y="324"/>
                  </a:lnTo>
                  <a:lnTo>
                    <a:pt x="1082" y="326"/>
                  </a:lnTo>
                  <a:lnTo>
                    <a:pt x="1110" y="330"/>
                  </a:lnTo>
                  <a:lnTo>
                    <a:pt x="1128" y="336"/>
                  </a:lnTo>
                  <a:lnTo>
                    <a:pt x="1152" y="344"/>
                  </a:lnTo>
                  <a:lnTo>
                    <a:pt x="1176" y="354"/>
                  </a:lnTo>
                  <a:lnTo>
                    <a:pt x="1200" y="358"/>
                  </a:lnTo>
                  <a:lnTo>
                    <a:pt x="1222" y="356"/>
                  </a:lnTo>
                  <a:lnTo>
                    <a:pt x="1234" y="354"/>
                  </a:lnTo>
                  <a:lnTo>
                    <a:pt x="1242" y="350"/>
                  </a:lnTo>
                  <a:lnTo>
                    <a:pt x="1252" y="344"/>
                  </a:lnTo>
                  <a:lnTo>
                    <a:pt x="1260" y="334"/>
                  </a:lnTo>
                  <a:lnTo>
                    <a:pt x="1264" y="322"/>
                  </a:lnTo>
                  <a:lnTo>
                    <a:pt x="1268" y="310"/>
                  </a:lnTo>
                  <a:lnTo>
                    <a:pt x="1268" y="296"/>
                  </a:lnTo>
                  <a:lnTo>
                    <a:pt x="1268" y="288"/>
                  </a:lnTo>
                  <a:lnTo>
                    <a:pt x="1264" y="270"/>
                  </a:lnTo>
                  <a:lnTo>
                    <a:pt x="1260" y="250"/>
                  </a:lnTo>
                  <a:lnTo>
                    <a:pt x="1250" y="224"/>
                  </a:lnTo>
                  <a:lnTo>
                    <a:pt x="1244" y="200"/>
                  </a:lnTo>
                  <a:lnTo>
                    <a:pt x="1238" y="174"/>
                  </a:lnTo>
                  <a:lnTo>
                    <a:pt x="1236" y="148"/>
                  </a:lnTo>
                  <a:lnTo>
                    <a:pt x="1236" y="134"/>
                  </a:lnTo>
                  <a:lnTo>
                    <a:pt x="1238" y="120"/>
                  </a:lnTo>
                  <a:lnTo>
                    <a:pt x="1246" y="108"/>
                  </a:lnTo>
                  <a:lnTo>
                    <a:pt x="1260" y="98"/>
                  </a:lnTo>
                  <a:lnTo>
                    <a:pt x="1272" y="94"/>
                  </a:lnTo>
                  <a:lnTo>
                    <a:pt x="1286" y="92"/>
                  </a:lnTo>
                  <a:lnTo>
                    <a:pt x="1310" y="96"/>
                  </a:lnTo>
                  <a:lnTo>
                    <a:pt x="1336" y="104"/>
                  </a:lnTo>
                  <a:lnTo>
                    <a:pt x="1354" y="112"/>
                  </a:lnTo>
                  <a:lnTo>
                    <a:pt x="1370" y="120"/>
                  </a:lnTo>
                  <a:lnTo>
                    <a:pt x="1388" y="126"/>
                  </a:lnTo>
                  <a:lnTo>
                    <a:pt x="1408" y="132"/>
                  </a:lnTo>
                  <a:lnTo>
                    <a:pt x="1426" y="134"/>
                  </a:lnTo>
                  <a:lnTo>
                    <a:pt x="1440" y="132"/>
                  </a:lnTo>
                  <a:lnTo>
                    <a:pt x="1466" y="124"/>
                  </a:lnTo>
                  <a:lnTo>
                    <a:pt x="1488" y="112"/>
                  </a:lnTo>
                  <a:lnTo>
                    <a:pt x="1494" y="98"/>
                  </a:lnTo>
                  <a:lnTo>
                    <a:pt x="1498" y="90"/>
                  </a:lnTo>
                  <a:lnTo>
                    <a:pt x="1498" y="76"/>
                  </a:lnTo>
                  <a:lnTo>
                    <a:pt x="1496" y="60"/>
                  </a:lnTo>
                  <a:lnTo>
                    <a:pt x="1488" y="30"/>
                  </a:lnTo>
                  <a:lnTo>
                    <a:pt x="1482" y="10"/>
                  </a:lnTo>
                  <a:lnTo>
                    <a:pt x="1478" y="0"/>
                  </a:lnTo>
                </a:path>
              </a:pathLst>
            </a:custGeom>
            <a:noFill/>
            <a:ln w="1584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8660880" y="4225320"/>
            <a:ext cx="179640" cy="2154960"/>
            <a:chOff x="8660880" y="4225320"/>
            <a:chExt cx="179640" cy="2154960"/>
          </a:xfrm>
        </p:grpSpPr>
        <p:sp>
          <p:nvSpPr>
            <p:cNvPr id="1640" name=""/>
            <p:cNvSpPr/>
            <p:nvPr/>
          </p:nvSpPr>
          <p:spPr>
            <a:xfrm>
              <a:off x="8660880" y="4225320"/>
              <a:ext cx="179640" cy="2154960"/>
            </a:xfrm>
            <a:custGeom>
              <a:avLst/>
              <a:gdLst/>
              <a:ahLst/>
              <a:rect l="l" t="t" r="r" b="b"/>
              <a:pathLst>
                <a:path w="174" h="2086">
                  <a:moveTo>
                    <a:pt x="92" y="2086"/>
                  </a:moveTo>
                  <a:lnTo>
                    <a:pt x="66" y="2076"/>
                  </a:lnTo>
                  <a:lnTo>
                    <a:pt x="38" y="2060"/>
                  </a:lnTo>
                  <a:lnTo>
                    <a:pt x="24" y="2050"/>
                  </a:lnTo>
                  <a:lnTo>
                    <a:pt x="10" y="2036"/>
                  </a:lnTo>
                  <a:lnTo>
                    <a:pt x="4" y="2020"/>
                  </a:lnTo>
                  <a:lnTo>
                    <a:pt x="4" y="2004"/>
                  </a:lnTo>
                  <a:lnTo>
                    <a:pt x="6" y="1990"/>
                  </a:lnTo>
                  <a:lnTo>
                    <a:pt x="16" y="1974"/>
                  </a:lnTo>
                  <a:lnTo>
                    <a:pt x="30" y="1960"/>
                  </a:lnTo>
                  <a:lnTo>
                    <a:pt x="46" y="1948"/>
                  </a:lnTo>
                  <a:lnTo>
                    <a:pt x="70" y="1936"/>
                  </a:lnTo>
                  <a:lnTo>
                    <a:pt x="98" y="1924"/>
                  </a:lnTo>
                  <a:lnTo>
                    <a:pt x="122" y="1912"/>
                  </a:lnTo>
                  <a:lnTo>
                    <a:pt x="146" y="1896"/>
                  </a:lnTo>
                  <a:lnTo>
                    <a:pt x="158" y="1882"/>
                  </a:lnTo>
                  <a:lnTo>
                    <a:pt x="170" y="1866"/>
                  </a:lnTo>
                  <a:lnTo>
                    <a:pt x="174" y="1846"/>
                  </a:lnTo>
                  <a:lnTo>
                    <a:pt x="172" y="1834"/>
                  </a:lnTo>
                  <a:lnTo>
                    <a:pt x="168" y="1824"/>
                  </a:lnTo>
                  <a:lnTo>
                    <a:pt x="154" y="1802"/>
                  </a:lnTo>
                  <a:lnTo>
                    <a:pt x="156" y="1806"/>
                  </a:lnTo>
                  <a:lnTo>
                    <a:pt x="138" y="1790"/>
                  </a:lnTo>
                  <a:lnTo>
                    <a:pt x="110" y="1774"/>
                  </a:lnTo>
                  <a:lnTo>
                    <a:pt x="86" y="1760"/>
                  </a:lnTo>
                  <a:lnTo>
                    <a:pt x="60" y="1746"/>
                  </a:lnTo>
                  <a:lnTo>
                    <a:pt x="42" y="1734"/>
                  </a:lnTo>
                  <a:lnTo>
                    <a:pt x="24" y="1718"/>
                  </a:lnTo>
                  <a:lnTo>
                    <a:pt x="12" y="1698"/>
                  </a:lnTo>
                  <a:lnTo>
                    <a:pt x="6" y="1678"/>
                  </a:lnTo>
                  <a:lnTo>
                    <a:pt x="10" y="1664"/>
                  </a:lnTo>
                  <a:lnTo>
                    <a:pt x="16" y="1658"/>
                  </a:lnTo>
                  <a:lnTo>
                    <a:pt x="24" y="1648"/>
                  </a:lnTo>
                  <a:lnTo>
                    <a:pt x="32" y="1638"/>
                  </a:lnTo>
                  <a:lnTo>
                    <a:pt x="54" y="1624"/>
                  </a:lnTo>
                  <a:lnTo>
                    <a:pt x="82" y="1610"/>
                  </a:lnTo>
                  <a:lnTo>
                    <a:pt x="102" y="1602"/>
                  </a:lnTo>
                  <a:lnTo>
                    <a:pt x="120" y="1592"/>
                  </a:lnTo>
                  <a:lnTo>
                    <a:pt x="146" y="1576"/>
                  </a:lnTo>
                  <a:lnTo>
                    <a:pt x="162" y="1558"/>
                  </a:lnTo>
                  <a:lnTo>
                    <a:pt x="168" y="1544"/>
                  </a:lnTo>
                  <a:lnTo>
                    <a:pt x="172" y="1532"/>
                  </a:lnTo>
                  <a:lnTo>
                    <a:pt x="172" y="1514"/>
                  </a:lnTo>
                  <a:lnTo>
                    <a:pt x="166" y="1502"/>
                  </a:lnTo>
                  <a:lnTo>
                    <a:pt x="158" y="1488"/>
                  </a:lnTo>
                  <a:lnTo>
                    <a:pt x="142" y="1476"/>
                  </a:lnTo>
                  <a:lnTo>
                    <a:pt x="120" y="1464"/>
                  </a:lnTo>
                  <a:lnTo>
                    <a:pt x="88" y="1448"/>
                  </a:lnTo>
                  <a:lnTo>
                    <a:pt x="62" y="1436"/>
                  </a:lnTo>
                  <a:lnTo>
                    <a:pt x="50" y="1428"/>
                  </a:lnTo>
                  <a:lnTo>
                    <a:pt x="38" y="1420"/>
                  </a:lnTo>
                  <a:lnTo>
                    <a:pt x="28" y="1408"/>
                  </a:lnTo>
                  <a:lnTo>
                    <a:pt x="22" y="1402"/>
                  </a:lnTo>
                  <a:lnTo>
                    <a:pt x="12" y="1390"/>
                  </a:lnTo>
                  <a:lnTo>
                    <a:pt x="4" y="1376"/>
                  </a:lnTo>
                  <a:lnTo>
                    <a:pt x="2" y="1362"/>
                  </a:lnTo>
                  <a:lnTo>
                    <a:pt x="4" y="1352"/>
                  </a:lnTo>
                  <a:lnTo>
                    <a:pt x="12" y="1336"/>
                  </a:lnTo>
                  <a:lnTo>
                    <a:pt x="26" y="1320"/>
                  </a:lnTo>
                  <a:lnTo>
                    <a:pt x="52" y="1304"/>
                  </a:lnTo>
                  <a:lnTo>
                    <a:pt x="92" y="1282"/>
                  </a:lnTo>
                  <a:lnTo>
                    <a:pt x="118" y="1268"/>
                  </a:lnTo>
                  <a:lnTo>
                    <a:pt x="136" y="1256"/>
                  </a:lnTo>
                  <a:lnTo>
                    <a:pt x="150" y="1246"/>
                  </a:lnTo>
                  <a:lnTo>
                    <a:pt x="168" y="1228"/>
                  </a:lnTo>
                  <a:lnTo>
                    <a:pt x="172" y="1218"/>
                  </a:lnTo>
                  <a:lnTo>
                    <a:pt x="174" y="1206"/>
                  </a:lnTo>
                  <a:lnTo>
                    <a:pt x="172" y="1190"/>
                  </a:lnTo>
                  <a:lnTo>
                    <a:pt x="164" y="1174"/>
                  </a:lnTo>
                  <a:lnTo>
                    <a:pt x="152" y="1164"/>
                  </a:lnTo>
                  <a:lnTo>
                    <a:pt x="136" y="1152"/>
                  </a:lnTo>
                  <a:lnTo>
                    <a:pt x="120" y="1144"/>
                  </a:lnTo>
                  <a:lnTo>
                    <a:pt x="100" y="1134"/>
                  </a:lnTo>
                  <a:lnTo>
                    <a:pt x="78" y="1124"/>
                  </a:lnTo>
                  <a:lnTo>
                    <a:pt x="52" y="1110"/>
                  </a:lnTo>
                  <a:lnTo>
                    <a:pt x="30" y="1094"/>
                  </a:lnTo>
                  <a:lnTo>
                    <a:pt x="16" y="1078"/>
                  </a:lnTo>
                  <a:lnTo>
                    <a:pt x="8" y="1064"/>
                  </a:lnTo>
                  <a:lnTo>
                    <a:pt x="4" y="1056"/>
                  </a:lnTo>
                  <a:lnTo>
                    <a:pt x="2" y="1044"/>
                  </a:lnTo>
                  <a:lnTo>
                    <a:pt x="2" y="1034"/>
                  </a:lnTo>
                  <a:lnTo>
                    <a:pt x="8" y="1020"/>
                  </a:lnTo>
                  <a:lnTo>
                    <a:pt x="18" y="1006"/>
                  </a:lnTo>
                  <a:lnTo>
                    <a:pt x="24" y="998"/>
                  </a:lnTo>
                  <a:lnTo>
                    <a:pt x="38" y="990"/>
                  </a:lnTo>
                  <a:lnTo>
                    <a:pt x="70" y="972"/>
                  </a:lnTo>
                  <a:lnTo>
                    <a:pt x="100" y="960"/>
                  </a:lnTo>
                  <a:lnTo>
                    <a:pt x="118" y="952"/>
                  </a:lnTo>
                  <a:lnTo>
                    <a:pt x="134" y="942"/>
                  </a:lnTo>
                  <a:lnTo>
                    <a:pt x="152" y="928"/>
                  </a:lnTo>
                  <a:lnTo>
                    <a:pt x="160" y="916"/>
                  </a:lnTo>
                  <a:lnTo>
                    <a:pt x="164" y="912"/>
                  </a:lnTo>
                  <a:lnTo>
                    <a:pt x="166" y="904"/>
                  </a:lnTo>
                  <a:lnTo>
                    <a:pt x="170" y="898"/>
                  </a:lnTo>
                  <a:lnTo>
                    <a:pt x="172" y="890"/>
                  </a:lnTo>
                  <a:lnTo>
                    <a:pt x="170" y="880"/>
                  </a:lnTo>
                  <a:lnTo>
                    <a:pt x="168" y="872"/>
                  </a:lnTo>
                  <a:lnTo>
                    <a:pt x="166" y="862"/>
                  </a:lnTo>
                  <a:lnTo>
                    <a:pt x="160" y="852"/>
                  </a:lnTo>
                  <a:lnTo>
                    <a:pt x="156" y="848"/>
                  </a:lnTo>
                  <a:lnTo>
                    <a:pt x="148" y="838"/>
                  </a:lnTo>
                  <a:lnTo>
                    <a:pt x="136" y="828"/>
                  </a:lnTo>
                  <a:lnTo>
                    <a:pt x="112" y="814"/>
                  </a:lnTo>
                  <a:lnTo>
                    <a:pt x="82" y="802"/>
                  </a:lnTo>
                  <a:lnTo>
                    <a:pt x="58" y="790"/>
                  </a:lnTo>
                  <a:lnTo>
                    <a:pt x="42" y="780"/>
                  </a:lnTo>
                  <a:lnTo>
                    <a:pt x="28" y="770"/>
                  </a:lnTo>
                  <a:lnTo>
                    <a:pt x="14" y="754"/>
                  </a:lnTo>
                  <a:lnTo>
                    <a:pt x="10" y="748"/>
                  </a:lnTo>
                  <a:lnTo>
                    <a:pt x="6" y="742"/>
                  </a:lnTo>
                  <a:lnTo>
                    <a:pt x="6" y="738"/>
                  </a:lnTo>
                  <a:lnTo>
                    <a:pt x="8" y="744"/>
                  </a:lnTo>
                  <a:lnTo>
                    <a:pt x="2" y="734"/>
                  </a:lnTo>
                  <a:lnTo>
                    <a:pt x="0" y="726"/>
                  </a:lnTo>
                  <a:lnTo>
                    <a:pt x="4" y="712"/>
                  </a:lnTo>
                  <a:lnTo>
                    <a:pt x="6" y="702"/>
                  </a:lnTo>
                  <a:lnTo>
                    <a:pt x="12" y="694"/>
                  </a:lnTo>
                  <a:lnTo>
                    <a:pt x="22" y="684"/>
                  </a:lnTo>
                  <a:lnTo>
                    <a:pt x="42" y="668"/>
                  </a:lnTo>
                  <a:lnTo>
                    <a:pt x="60" y="658"/>
                  </a:lnTo>
                  <a:lnTo>
                    <a:pt x="88" y="642"/>
                  </a:lnTo>
                  <a:lnTo>
                    <a:pt x="120" y="626"/>
                  </a:lnTo>
                  <a:lnTo>
                    <a:pt x="142" y="610"/>
                  </a:lnTo>
                  <a:lnTo>
                    <a:pt x="162" y="592"/>
                  </a:lnTo>
                  <a:lnTo>
                    <a:pt x="168" y="580"/>
                  </a:lnTo>
                  <a:lnTo>
                    <a:pt x="172" y="566"/>
                  </a:lnTo>
                  <a:lnTo>
                    <a:pt x="166" y="546"/>
                  </a:lnTo>
                  <a:lnTo>
                    <a:pt x="158" y="532"/>
                  </a:lnTo>
                  <a:lnTo>
                    <a:pt x="154" y="528"/>
                  </a:lnTo>
                  <a:lnTo>
                    <a:pt x="136" y="512"/>
                  </a:lnTo>
                  <a:lnTo>
                    <a:pt x="114" y="496"/>
                  </a:lnTo>
                  <a:lnTo>
                    <a:pt x="96" y="486"/>
                  </a:lnTo>
                  <a:lnTo>
                    <a:pt x="74" y="476"/>
                  </a:lnTo>
                  <a:lnTo>
                    <a:pt x="50" y="464"/>
                  </a:lnTo>
                  <a:lnTo>
                    <a:pt x="30" y="452"/>
                  </a:lnTo>
                  <a:lnTo>
                    <a:pt x="14" y="434"/>
                  </a:lnTo>
                  <a:lnTo>
                    <a:pt x="10" y="424"/>
                  </a:lnTo>
                  <a:lnTo>
                    <a:pt x="6" y="416"/>
                  </a:lnTo>
                  <a:lnTo>
                    <a:pt x="4" y="404"/>
                  </a:lnTo>
                  <a:lnTo>
                    <a:pt x="4" y="392"/>
                  </a:lnTo>
                  <a:lnTo>
                    <a:pt x="10" y="380"/>
                  </a:lnTo>
                  <a:lnTo>
                    <a:pt x="16" y="368"/>
                  </a:lnTo>
                  <a:lnTo>
                    <a:pt x="26" y="358"/>
                  </a:lnTo>
                  <a:lnTo>
                    <a:pt x="30" y="352"/>
                  </a:lnTo>
                  <a:lnTo>
                    <a:pt x="48" y="342"/>
                  </a:lnTo>
                  <a:lnTo>
                    <a:pt x="64" y="332"/>
                  </a:lnTo>
                  <a:lnTo>
                    <a:pt x="90" y="320"/>
                  </a:lnTo>
                  <a:lnTo>
                    <a:pt x="112" y="308"/>
                  </a:lnTo>
                  <a:lnTo>
                    <a:pt x="134" y="294"/>
                  </a:lnTo>
                  <a:lnTo>
                    <a:pt x="152" y="278"/>
                  </a:lnTo>
                  <a:lnTo>
                    <a:pt x="162" y="266"/>
                  </a:lnTo>
                  <a:lnTo>
                    <a:pt x="170" y="256"/>
                  </a:lnTo>
                  <a:lnTo>
                    <a:pt x="174" y="240"/>
                  </a:lnTo>
                  <a:lnTo>
                    <a:pt x="172" y="226"/>
                  </a:lnTo>
                  <a:lnTo>
                    <a:pt x="166" y="212"/>
                  </a:lnTo>
                  <a:lnTo>
                    <a:pt x="158" y="202"/>
                  </a:lnTo>
                  <a:lnTo>
                    <a:pt x="136" y="188"/>
                  </a:lnTo>
                  <a:lnTo>
                    <a:pt x="114" y="176"/>
                  </a:lnTo>
                  <a:lnTo>
                    <a:pt x="96" y="168"/>
                  </a:lnTo>
                  <a:lnTo>
                    <a:pt x="78" y="162"/>
                  </a:lnTo>
                  <a:lnTo>
                    <a:pt x="62" y="154"/>
                  </a:lnTo>
                  <a:lnTo>
                    <a:pt x="44" y="144"/>
                  </a:lnTo>
                  <a:lnTo>
                    <a:pt x="30" y="132"/>
                  </a:lnTo>
                  <a:lnTo>
                    <a:pt x="20" y="122"/>
                  </a:lnTo>
                  <a:lnTo>
                    <a:pt x="8" y="98"/>
                  </a:lnTo>
                  <a:lnTo>
                    <a:pt x="0" y="74"/>
                  </a:lnTo>
                  <a:lnTo>
                    <a:pt x="6" y="58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32" y="30"/>
                  </a:lnTo>
                  <a:lnTo>
                    <a:pt x="58" y="16"/>
                  </a:lnTo>
                  <a:lnTo>
                    <a:pt x="76" y="6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660880" y="4225320"/>
              <a:ext cx="179640" cy="2152800"/>
            </a:xfrm>
            <a:custGeom>
              <a:avLst/>
              <a:gdLst/>
              <a:ahLst/>
              <a:rect l="l" t="t" r="r" b="b"/>
              <a:pathLst>
                <a:path w="174" h="2084">
                  <a:moveTo>
                    <a:pt x="82" y="2084"/>
                  </a:moveTo>
                  <a:lnTo>
                    <a:pt x="108" y="2074"/>
                  </a:lnTo>
                  <a:lnTo>
                    <a:pt x="136" y="2058"/>
                  </a:lnTo>
                  <a:lnTo>
                    <a:pt x="150" y="2048"/>
                  </a:lnTo>
                  <a:lnTo>
                    <a:pt x="164" y="2034"/>
                  </a:lnTo>
                  <a:lnTo>
                    <a:pt x="170" y="2018"/>
                  </a:lnTo>
                  <a:lnTo>
                    <a:pt x="170" y="2002"/>
                  </a:lnTo>
                  <a:lnTo>
                    <a:pt x="168" y="1988"/>
                  </a:lnTo>
                  <a:lnTo>
                    <a:pt x="158" y="1972"/>
                  </a:lnTo>
                  <a:lnTo>
                    <a:pt x="144" y="1958"/>
                  </a:lnTo>
                  <a:lnTo>
                    <a:pt x="128" y="1946"/>
                  </a:lnTo>
                  <a:lnTo>
                    <a:pt x="104" y="1934"/>
                  </a:lnTo>
                  <a:lnTo>
                    <a:pt x="76" y="1922"/>
                  </a:lnTo>
                  <a:lnTo>
                    <a:pt x="52" y="1910"/>
                  </a:lnTo>
                  <a:lnTo>
                    <a:pt x="28" y="1894"/>
                  </a:lnTo>
                  <a:lnTo>
                    <a:pt x="16" y="1882"/>
                  </a:lnTo>
                  <a:lnTo>
                    <a:pt x="4" y="1864"/>
                  </a:lnTo>
                  <a:lnTo>
                    <a:pt x="0" y="1844"/>
                  </a:lnTo>
                  <a:lnTo>
                    <a:pt x="2" y="1834"/>
                  </a:lnTo>
                  <a:lnTo>
                    <a:pt x="6" y="1822"/>
                  </a:lnTo>
                  <a:lnTo>
                    <a:pt x="20" y="1800"/>
                  </a:lnTo>
                  <a:lnTo>
                    <a:pt x="18" y="1804"/>
                  </a:lnTo>
                  <a:lnTo>
                    <a:pt x="36" y="1788"/>
                  </a:lnTo>
                  <a:lnTo>
                    <a:pt x="64" y="1774"/>
                  </a:lnTo>
                  <a:lnTo>
                    <a:pt x="88" y="1760"/>
                  </a:lnTo>
                  <a:lnTo>
                    <a:pt x="114" y="1746"/>
                  </a:lnTo>
                  <a:lnTo>
                    <a:pt x="132" y="1732"/>
                  </a:lnTo>
                  <a:lnTo>
                    <a:pt x="150" y="1716"/>
                  </a:lnTo>
                  <a:lnTo>
                    <a:pt x="162" y="1698"/>
                  </a:lnTo>
                  <a:lnTo>
                    <a:pt x="168" y="1676"/>
                  </a:lnTo>
                  <a:lnTo>
                    <a:pt x="164" y="1664"/>
                  </a:lnTo>
                  <a:lnTo>
                    <a:pt x="158" y="1656"/>
                  </a:lnTo>
                  <a:lnTo>
                    <a:pt x="150" y="1646"/>
                  </a:lnTo>
                  <a:lnTo>
                    <a:pt x="142" y="1638"/>
                  </a:lnTo>
                  <a:lnTo>
                    <a:pt x="120" y="1624"/>
                  </a:lnTo>
                  <a:lnTo>
                    <a:pt x="92" y="1608"/>
                  </a:lnTo>
                  <a:lnTo>
                    <a:pt x="72" y="1600"/>
                  </a:lnTo>
                  <a:lnTo>
                    <a:pt x="54" y="1590"/>
                  </a:lnTo>
                  <a:lnTo>
                    <a:pt x="28" y="1574"/>
                  </a:lnTo>
                  <a:lnTo>
                    <a:pt x="12" y="1556"/>
                  </a:lnTo>
                  <a:lnTo>
                    <a:pt x="6" y="1544"/>
                  </a:lnTo>
                  <a:lnTo>
                    <a:pt x="2" y="1530"/>
                  </a:lnTo>
                  <a:lnTo>
                    <a:pt x="2" y="1514"/>
                  </a:lnTo>
                  <a:lnTo>
                    <a:pt x="8" y="1500"/>
                  </a:lnTo>
                  <a:lnTo>
                    <a:pt x="16" y="1486"/>
                  </a:lnTo>
                  <a:lnTo>
                    <a:pt x="32" y="1474"/>
                  </a:lnTo>
                  <a:lnTo>
                    <a:pt x="54" y="1462"/>
                  </a:lnTo>
                  <a:lnTo>
                    <a:pt x="86" y="1448"/>
                  </a:lnTo>
                  <a:lnTo>
                    <a:pt x="112" y="1434"/>
                  </a:lnTo>
                  <a:lnTo>
                    <a:pt x="124" y="1426"/>
                  </a:lnTo>
                  <a:lnTo>
                    <a:pt x="136" y="1418"/>
                  </a:lnTo>
                  <a:lnTo>
                    <a:pt x="146" y="1408"/>
                  </a:lnTo>
                  <a:lnTo>
                    <a:pt x="152" y="1402"/>
                  </a:lnTo>
                  <a:lnTo>
                    <a:pt x="162" y="1388"/>
                  </a:lnTo>
                  <a:lnTo>
                    <a:pt x="170" y="1374"/>
                  </a:lnTo>
                  <a:lnTo>
                    <a:pt x="172" y="1362"/>
                  </a:lnTo>
                  <a:lnTo>
                    <a:pt x="170" y="1350"/>
                  </a:lnTo>
                  <a:lnTo>
                    <a:pt x="162" y="1336"/>
                  </a:lnTo>
                  <a:lnTo>
                    <a:pt x="148" y="1318"/>
                  </a:lnTo>
                  <a:lnTo>
                    <a:pt x="122" y="1302"/>
                  </a:lnTo>
                  <a:lnTo>
                    <a:pt x="82" y="1280"/>
                  </a:lnTo>
                  <a:lnTo>
                    <a:pt x="56" y="1266"/>
                  </a:lnTo>
                  <a:lnTo>
                    <a:pt x="38" y="1254"/>
                  </a:lnTo>
                  <a:lnTo>
                    <a:pt x="24" y="1244"/>
                  </a:lnTo>
                  <a:lnTo>
                    <a:pt x="6" y="1228"/>
                  </a:lnTo>
                  <a:lnTo>
                    <a:pt x="2" y="1216"/>
                  </a:lnTo>
                  <a:lnTo>
                    <a:pt x="0" y="1206"/>
                  </a:lnTo>
                  <a:lnTo>
                    <a:pt x="2" y="1188"/>
                  </a:lnTo>
                  <a:lnTo>
                    <a:pt x="10" y="1174"/>
                  </a:lnTo>
                  <a:lnTo>
                    <a:pt x="22" y="1162"/>
                  </a:lnTo>
                  <a:lnTo>
                    <a:pt x="38" y="1152"/>
                  </a:lnTo>
                  <a:lnTo>
                    <a:pt x="54" y="1142"/>
                  </a:lnTo>
                  <a:lnTo>
                    <a:pt x="74" y="1132"/>
                  </a:lnTo>
                  <a:lnTo>
                    <a:pt x="96" y="1122"/>
                  </a:lnTo>
                  <a:lnTo>
                    <a:pt x="122" y="1108"/>
                  </a:lnTo>
                  <a:lnTo>
                    <a:pt x="144" y="1092"/>
                  </a:lnTo>
                  <a:lnTo>
                    <a:pt x="158" y="1078"/>
                  </a:lnTo>
                  <a:lnTo>
                    <a:pt x="166" y="1064"/>
                  </a:lnTo>
                  <a:lnTo>
                    <a:pt x="170" y="1054"/>
                  </a:lnTo>
                  <a:lnTo>
                    <a:pt x="172" y="1044"/>
                  </a:lnTo>
                  <a:lnTo>
                    <a:pt x="172" y="1032"/>
                  </a:lnTo>
                  <a:lnTo>
                    <a:pt x="166" y="1018"/>
                  </a:lnTo>
                  <a:lnTo>
                    <a:pt x="156" y="1004"/>
                  </a:lnTo>
                  <a:lnTo>
                    <a:pt x="150" y="998"/>
                  </a:lnTo>
                  <a:lnTo>
                    <a:pt x="136" y="990"/>
                  </a:lnTo>
                  <a:lnTo>
                    <a:pt x="104" y="972"/>
                  </a:lnTo>
                  <a:lnTo>
                    <a:pt x="74" y="958"/>
                  </a:lnTo>
                  <a:lnTo>
                    <a:pt x="56" y="950"/>
                  </a:lnTo>
                  <a:lnTo>
                    <a:pt x="40" y="940"/>
                  </a:lnTo>
                  <a:lnTo>
                    <a:pt x="22" y="926"/>
                  </a:lnTo>
                  <a:lnTo>
                    <a:pt x="14" y="916"/>
                  </a:lnTo>
                  <a:lnTo>
                    <a:pt x="10" y="910"/>
                  </a:lnTo>
                  <a:lnTo>
                    <a:pt x="8" y="904"/>
                  </a:lnTo>
                  <a:lnTo>
                    <a:pt x="4" y="896"/>
                  </a:lnTo>
                  <a:lnTo>
                    <a:pt x="2" y="888"/>
                  </a:lnTo>
                  <a:lnTo>
                    <a:pt x="4" y="878"/>
                  </a:lnTo>
                  <a:lnTo>
                    <a:pt x="6" y="870"/>
                  </a:lnTo>
                  <a:lnTo>
                    <a:pt x="8" y="860"/>
                  </a:lnTo>
                  <a:lnTo>
                    <a:pt x="14" y="852"/>
                  </a:lnTo>
                  <a:lnTo>
                    <a:pt x="18" y="846"/>
                  </a:lnTo>
                  <a:lnTo>
                    <a:pt x="26" y="838"/>
                  </a:lnTo>
                  <a:lnTo>
                    <a:pt x="38" y="826"/>
                  </a:lnTo>
                  <a:lnTo>
                    <a:pt x="62" y="812"/>
                  </a:lnTo>
                  <a:lnTo>
                    <a:pt x="92" y="800"/>
                  </a:lnTo>
                  <a:lnTo>
                    <a:pt x="116" y="788"/>
                  </a:lnTo>
                  <a:lnTo>
                    <a:pt x="132" y="780"/>
                  </a:lnTo>
                  <a:lnTo>
                    <a:pt x="146" y="770"/>
                  </a:lnTo>
                  <a:lnTo>
                    <a:pt x="160" y="754"/>
                  </a:lnTo>
                  <a:lnTo>
                    <a:pt x="164" y="746"/>
                  </a:lnTo>
                  <a:lnTo>
                    <a:pt x="168" y="740"/>
                  </a:lnTo>
                  <a:lnTo>
                    <a:pt x="168" y="738"/>
                  </a:lnTo>
                  <a:lnTo>
                    <a:pt x="166" y="742"/>
                  </a:lnTo>
                  <a:lnTo>
                    <a:pt x="172" y="732"/>
                  </a:lnTo>
                  <a:lnTo>
                    <a:pt x="174" y="724"/>
                  </a:lnTo>
                  <a:lnTo>
                    <a:pt x="170" y="710"/>
                  </a:lnTo>
                  <a:lnTo>
                    <a:pt x="168" y="702"/>
                  </a:lnTo>
                  <a:lnTo>
                    <a:pt x="162" y="694"/>
                  </a:lnTo>
                  <a:lnTo>
                    <a:pt x="152" y="682"/>
                  </a:lnTo>
                  <a:lnTo>
                    <a:pt x="132" y="666"/>
                  </a:lnTo>
                  <a:lnTo>
                    <a:pt x="114" y="656"/>
                  </a:lnTo>
                  <a:lnTo>
                    <a:pt x="86" y="640"/>
                  </a:lnTo>
                  <a:lnTo>
                    <a:pt x="54" y="624"/>
                  </a:lnTo>
                  <a:lnTo>
                    <a:pt x="32" y="608"/>
                  </a:lnTo>
                  <a:lnTo>
                    <a:pt x="12" y="590"/>
                  </a:lnTo>
                  <a:lnTo>
                    <a:pt x="6" y="578"/>
                  </a:lnTo>
                  <a:lnTo>
                    <a:pt x="2" y="564"/>
                  </a:lnTo>
                  <a:lnTo>
                    <a:pt x="8" y="544"/>
                  </a:lnTo>
                  <a:lnTo>
                    <a:pt x="16" y="530"/>
                  </a:lnTo>
                  <a:lnTo>
                    <a:pt x="20" y="526"/>
                  </a:lnTo>
                  <a:lnTo>
                    <a:pt x="38" y="510"/>
                  </a:lnTo>
                  <a:lnTo>
                    <a:pt x="60" y="494"/>
                  </a:lnTo>
                  <a:lnTo>
                    <a:pt x="78" y="484"/>
                  </a:lnTo>
                  <a:lnTo>
                    <a:pt x="100" y="474"/>
                  </a:lnTo>
                  <a:lnTo>
                    <a:pt x="124" y="464"/>
                  </a:lnTo>
                  <a:lnTo>
                    <a:pt x="144" y="450"/>
                  </a:lnTo>
                  <a:lnTo>
                    <a:pt x="160" y="432"/>
                  </a:lnTo>
                  <a:lnTo>
                    <a:pt x="164" y="422"/>
                  </a:lnTo>
                  <a:lnTo>
                    <a:pt x="168" y="414"/>
                  </a:lnTo>
                  <a:lnTo>
                    <a:pt x="170" y="404"/>
                  </a:lnTo>
                  <a:lnTo>
                    <a:pt x="170" y="390"/>
                  </a:lnTo>
                  <a:lnTo>
                    <a:pt x="164" y="378"/>
                  </a:lnTo>
                  <a:lnTo>
                    <a:pt x="158" y="368"/>
                  </a:lnTo>
                  <a:lnTo>
                    <a:pt x="148" y="356"/>
                  </a:lnTo>
                  <a:lnTo>
                    <a:pt x="144" y="352"/>
                  </a:lnTo>
                  <a:lnTo>
                    <a:pt x="126" y="342"/>
                  </a:lnTo>
                  <a:lnTo>
                    <a:pt x="110" y="332"/>
                  </a:lnTo>
                  <a:lnTo>
                    <a:pt x="84" y="318"/>
                  </a:lnTo>
                  <a:lnTo>
                    <a:pt x="62" y="306"/>
                  </a:lnTo>
                  <a:lnTo>
                    <a:pt x="40" y="292"/>
                  </a:lnTo>
                  <a:lnTo>
                    <a:pt x="22" y="276"/>
                  </a:lnTo>
                  <a:lnTo>
                    <a:pt x="12" y="266"/>
                  </a:lnTo>
                  <a:lnTo>
                    <a:pt x="4" y="254"/>
                  </a:lnTo>
                  <a:lnTo>
                    <a:pt x="0" y="240"/>
                  </a:lnTo>
                  <a:lnTo>
                    <a:pt x="2" y="224"/>
                  </a:lnTo>
                  <a:lnTo>
                    <a:pt x="8" y="212"/>
                  </a:lnTo>
                  <a:lnTo>
                    <a:pt x="16" y="200"/>
                  </a:lnTo>
                  <a:lnTo>
                    <a:pt x="38" y="186"/>
                  </a:lnTo>
                  <a:lnTo>
                    <a:pt x="60" y="174"/>
                  </a:lnTo>
                  <a:lnTo>
                    <a:pt x="78" y="166"/>
                  </a:lnTo>
                  <a:lnTo>
                    <a:pt x="96" y="160"/>
                  </a:lnTo>
                  <a:lnTo>
                    <a:pt x="112" y="154"/>
                  </a:lnTo>
                  <a:lnTo>
                    <a:pt x="130" y="142"/>
                  </a:lnTo>
                  <a:lnTo>
                    <a:pt x="144" y="132"/>
                  </a:lnTo>
                  <a:lnTo>
                    <a:pt x="154" y="120"/>
                  </a:lnTo>
                  <a:lnTo>
                    <a:pt x="166" y="96"/>
                  </a:lnTo>
                  <a:lnTo>
                    <a:pt x="174" y="72"/>
                  </a:lnTo>
                  <a:lnTo>
                    <a:pt x="168" y="58"/>
                  </a:lnTo>
                  <a:lnTo>
                    <a:pt x="166" y="50"/>
                  </a:lnTo>
                  <a:lnTo>
                    <a:pt x="154" y="40"/>
                  </a:lnTo>
                  <a:lnTo>
                    <a:pt x="142" y="30"/>
                  </a:lnTo>
                  <a:lnTo>
                    <a:pt x="116" y="14"/>
                  </a:lnTo>
                  <a:lnTo>
                    <a:pt x="98" y="4"/>
                  </a:lnTo>
                  <a:lnTo>
                    <a:pt x="88" y="0"/>
                  </a:lnTo>
                </a:path>
              </a:pathLst>
            </a:custGeom>
            <a:noFill/>
            <a:ln w="15840">
              <a:solidFill>
                <a:srgbClr val="0096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2" name="" descr=""/>
          <p:cNvPicPr/>
          <p:nvPr/>
        </p:nvPicPr>
        <p:blipFill>
          <a:blip r:embed="rId11"/>
          <a:stretch/>
        </p:blipFill>
        <p:spPr>
          <a:xfrm>
            <a:off x="3040200" y="4840200"/>
            <a:ext cx="1143000" cy="639720"/>
          </a:xfrm>
          <a:prstGeom prst="rect">
            <a:avLst/>
          </a:prstGeom>
          <a:ln w="0">
            <a:noFill/>
          </a:ln>
        </p:spPr>
      </p:pic>
      <p:pic>
        <p:nvPicPr>
          <p:cNvPr id="1643" name="" descr=""/>
          <p:cNvPicPr/>
          <p:nvPr/>
        </p:nvPicPr>
        <p:blipFill>
          <a:blip r:embed="rId12"/>
          <a:stretch/>
        </p:blipFill>
        <p:spPr>
          <a:xfrm>
            <a:off x="2992320" y="5727600"/>
            <a:ext cx="1190880" cy="58428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13"/>
          <a:stretch/>
        </p:blipFill>
        <p:spPr>
          <a:xfrm>
            <a:off x="2992320" y="4095720"/>
            <a:ext cx="1190880" cy="584280"/>
          </a:xfrm>
          <a:prstGeom prst="rect">
            <a:avLst/>
          </a:prstGeom>
          <a:ln w="0">
            <a:noFill/>
          </a:ln>
        </p:spPr>
      </p:pic>
      <p:sp>
        <p:nvSpPr>
          <p:cNvPr id="1645" name=""/>
          <p:cNvSpPr/>
          <p:nvPr/>
        </p:nvSpPr>
        <p:spPr>
          <a:xfrm>
            <a:off x="6400800" y="2533680"/>
            <a:ext cx="10843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reless Location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191120" y="4037040"/>
            <a:ext cx="1295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weight Single-Radi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191120" y="5867280"/>
            <a:ext cx="1563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LAN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191120" y="4809960"/>
            <a:ext cx="1563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weigh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uble-Radio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14"/>
          <a:stretch/>
        </p:blipFill>
        <p:spPr>
          <a:xfrm>
            <a:off x="5181480" y="1281240"/>
            <a:ext cx="1127160" cy="9777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6400800" y="1662120"/>
            <a:ext cx="1022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-Fi Ta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467480" y="3429000"/>
            <a:ext cx="1524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h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696080" y="243828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S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15"/>
          <a:stretch/>
        </p:blipFill>
        <p:spPr>
          <a:xfrm>
            <a:off x="7785000" y="1371600"/>
            <a:ext cx="8892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335240" y="2411280"/>
            <a:ext cx="13716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SC3000 Virtual Switch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" descr=""/>
          <p:cNvPicPr/>
          <p:nvPr/>
        </p:nvPicPr>
        <p:blipFill>
          <a:blip r:embed="rId1"/>
          <a:stretch/>
        </p:blipFill>
        <p:spPr>
          <a:xfrm>
            <a:off x="471600" y="3332160"/>
            <a:ext cx="868320" cy="1154160"/>
          </a:xfrm>
          <a:prstGeom prst="rect">
            <a:avLst/>
          </a:prstGeom>
          <a:ln w="0">
            <a:noFill/>
          </a:ln>
        </p:spPr>
      </p:pic>
      <p:sp>
        <p:nvSpPr>
          <p:cNvPr id="1657" name=""/>
          <p:cNvSpPr/>
          <p:nvPr/>
        </p:nvSpPr>
        <p:spPr>
          <a:xfrm>
            <a:off x="1335240" y="1397160"/>
            <a:ext cx="1523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2200 Signaling Control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335240" y="3659040"/>
            <a:ext cx="1295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SC3000 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2200 Ho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865080" y="2273400"/>
            <a:ext cx="474840" cy="974160"/>
            <a:chOff x="865080" y="2273400"/>
            <a:chExt cx="474840" cy="974160"/>
          </a:xfrm>
        </p:grpSpPr>
        <p:sp>
          <p:nvSpPr>
            <p:cNvPr id="1660" name=""/>
            <p:cNvSpPr/>
            <p:nvPr/>
          </p:nvSpPr>
          <p:spPr>
            <a:xfrm>
              <a:off x="868320" y="2361960"/>
              <a:ext cx="382680" cy="88236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65080" y="2361960"/>
              <a:ext cx="6480" cy="885600"/>
            </a:xfrm>
            <a:custGeom>
              <a:avLst/>
              <a:gdLst/>
              <a:ahLst/>
              <a:rect l="l" t="t" r="r" b="b"/>
              <a:pathLst>
                <a:path w="109" h="15056">
                  <a:moveTo>
                    <a:pt x="54" y="15056"/>
                  </a:moveTo>
                  <a:lnTo>
                    <a:pt x="109" y="15002"/>
                  </a:lnTo>
                  <a:lnTo>
                    <a:pt x="109" y="0"/>
                  </a:lnTo>
                  <a:lnTo>
                    <a:pt x="0" y="0"/>
                  </a:lnTo>
                  <a:lnTo>
                    <a:pt x="0" y="15002"/>
                  </a:lnTo>
                  <a:lnTo>
                    <a:pt x="54" y="15056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68320" y="3241440"/>
              <a:ext cx="385560" cy="6120"/>
            </a:xfrm>
            <a:custGeom>
              <a:avLst/>
              <a:gdLst/>
              <a:ahLst/>
              <a:rect l="l" t="t" r="r" b="b"/>
              <a:pathLst>
                <a:path w="6554" h="109">
                  <a:moveTo>
                    <a:pt x="6554" y="55"/>
                  </a:moveTo>
                  <a:lnTo>
                    <a:pt x="6499" y="0"/>
                  </a:lnTo>
                  <a:lnTo>
                    <a:pt x="0" y="0"/>
                  </a:lnTo>
                  <a:lnTo>
                    <a:pt x="0" y="109"/>
                  </a:lnTo>
                  <a:lnTo>
                    <a:pt x="6499" y="109"/>
                  </a:lnTo>
                  <a:lnTo>
                    <a:pt x="6554" y="5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247760" y="2359080"/>
              <a:ext cx="6120" cy="885240"/>
            </a:xfrm>
            <a:custGeom>
              <a:avLst/>
              <a:gdLst/>
              <a:ahLst/>
              <a:rect l="l" t="t" r="r" b="b"/>
              <a:pathLst>
                <a:path w="109" h="15057">
                  <a:moveTo>
                    <a:pt x="54" y="0"/>
                  </a:moveTo>
                  <a:lnTo>
                    <a:pt x="0" y="55"/>
                  </a:lnTo>
                  <a:lnTo>
                    <a:pt x="0" y="15057"/>
                  </a:lnTo>
                  <a:lnTo>
                    <a:pt x="109" y="15057"/>
                  </a:lnTo>
                  <a:lnTo>
                    <a:pt x="109" y="55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65080" y="2359080"/>
              <a:ext cx="385920" cy="5760"/>
            </a:xfrm>
            <a:custGeom>
              <a:avLst/>
              <a:gdLst/>
              <a:ahLst/>
              <a:rect l="l" t="t" r="r" b="b"/>
              <a:pathLst>
                <a:path w="6553" h="109">
                  <a:moveTo>
                    <a:pt x="0" y="55"/>
                  </a:moveTo>
                  <a:lnTo>
                    <a:pt x="54" y="109"/>
                  </a:lnTo>
                  <a:lnTo>
                    <a:pt x="6553" y="109"/>
                  </a:lnTo>
                  <a:lnTo>
                    <a:pt x="6553" y="0"/>
                  </a:lnTo>
                  <a:lnTo>
                    <a:pt x="54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68320" y="2276280"/>
              <a:ext cx="468360" cy="85320"/>
            </a:xfrm>
            <a:custGeom>
              <a:avLst/>
              <a:gdLst/>
              <a:ahLst/>
              <a:rect l="l" t="t" r="r" b="b"/>
              <a:pathLst>
                <a:path w="7965" h="1468">
                  <a:moveTo>
                    <a:pt x="0" y="1468"/>
                  </a:moveTo>
                  <a:lnTo>
                    <a:pt x="1469" y="0"/>
                  </a:lnTo>
                  <a:lnTo>
                    <a:pt x="7965" y="0"/>
                  </a:lnTo>
                  <a:lnTo>
                    <a:pt x="6499" y="1468"/>
                  </a:lnTo>
                  <a:lnTo>
                    <a:pt x="0" y="1468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6520" y="2273400"/>
              <a:ext cx="90720" cy="91800"/>
            </a:xfrm>
            <a:custGeom>
              <a:avLst/>
              <a:gdLst/>
              <a:ahLst/>
              <a:rect l="l" t="t" r="r" b="b"/>
              <a:pathLst>
                <a:path w="1544" h="1560">
                  <a:moveTo>
                    <a:pt x="1506" y="0"/>
                  </a:moveTo>
                  <a:lnTo>
                    <a:pt x="1468" y="16"/>
                  </a:lnTo>
                  <a:lnTo>
                    <a:pt x="0" y="1484"/>
                  </a:lnTo>
                  <a:lnTo>
                    <a:pt x="75" y="1560"/>
                  </a:lnTo>
                  <a:lnTo>
                    <a:pt x="1544" y="93"/>
                  </a:lnTo>
                  <a:lnTo>
                    <a:pt x="1506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954000" y="2273400"/>
              <a:ext cx="384120" cy="6120"/>
            </a:xfrm>
            <a:custGeom>
              <a:avLst/>
              <a:gdLst/>
              <a:ahLst/>
              <a:rect l="l" t="t" r="r" b="b"/>
              <a:pathLst>
                <a:path w="6534" h="109">
                  <a:moveTo>
                    <a:pt x="6534" y="93"/>
                  </a:moveTo>
                  <a:lnTo>
                    <a:pt x="6496" y="0"/>
                  </a:lnTo>
                  <a:lnTo>
                    <a:pt x="0" y="0"/>
                  </a:lnTo>
                  <a:lnTo>
                    <a:pt x="0" y="109"/>
                  </a:lnTo>
                  <a:lnTo>
                    <a:pt x="6496" y="109"/>
                  </a:lnTo>
                  <a:lnTo>
                    <a:pt x="6534" y="9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247760" y="2274840"/>
              <a:ext cx="90360" cy="90000"/>
            </a:xfrm>
            <a:custGeom>
              <a:avLst/>
              <a:gdLst/>
              <a:ahLst/>
              <a:rect l="l" t="t" r="r" b="b"/>
              <a:pathLst>
                <a:path w="1542" h="1560">
                  <a:moveTo>
                    <a:pt x="38" y="1560"/>
                  </a:moveTo>
                  <a:lnTo>
                    <a:pt x="76" y="1544"/>
                  </a:lnTo>
                  <a:lnTo>
                    <a:pt x="1542" y="77"/>
                  </a:lnTo>
                  <a:lnTo>
                    <a:pt x="1465" y="0"/>
                  </a:lnTo>
                  <a:lnTo>
                    <a:pt x="0" y="1468"/>
                  </a:lnTo>
                  <a:lnTo>
                    <a:pt x="38" y="156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66520" y="2359080"/>
              <a:ext cx="384480" cy="5760"/>
            </a:xfrm>
            <a:custGeom>
              <a:avLst/>
              <a:gdLst/>
              <a:ahLst/>
              <a:rect l="l" t="t" r="r" b="b"/>
              <a:pathLst>
                <a:path w="6536" h="109">
                  <a:moveTo>
                    <a:pt x="0" y="17"/>
                  </a:moveTo>
                  <a:lnTo>
                    <a:pt x="37" y="109"/>
                  </a:lnTo>
                  <a:lnTo>
                    <a:pt x="6536" y="109"/>
                  </a:lnTo>
                  <a:lnTo>
                    <a:pt x="6536" y="0"/>
                  </a:lnTo>
                  <a:lnTo>
                    <a:pt x="3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251000" y="2276280"/>
              <a:ext cx="85680" cy="968040"/>
            </a:xfrm>
            <a:custGeom>
              <a:avLst/>
              <a:gdLst/>
              <a:ahLst/>
              <a:rect l="l" t="t" r="r" b="b"/>
              <a:pathLst>
                <a:path w="1466" h="16470">
                  <a:moveTo>
                    <a:pt x="0" y="1468"/>
                  </a:moveTo>
                  <a:lnTo>
                    <a:pt x="1466" y="0"/>
                  </a:lnTo>
                  <a:lnTo>
                    <a:pt x="1466" y="14999"/>
                  </a:lnTo>
                  <a:lnTo>
                    <a:pt x="0" y="16470"/>
                  </a:lnTo>
                  <a:lnTo>
                    <a:pt x="0" y="1468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47760" y="2274840"/>
              <a:ext cx="92160" cy="90000"/>
            </a:xfrm>
            <a:custGeom>
              <a:avLst/>
              <a:gdLst/>
              <a:ahLst/>
              <a:rect l="l" t="t" r="r" b="b"/>
              <a:pathLst>
                <a:path w="1558" h="1544">
                  <a:moveTo>
                    <a:pt x="1558" y="38"/>
                  </a:moveTo>
                  <a:lnTo>
                    <a:pt x="1465" y="0"/>
                  </a:lnTo>
                  <a:lnTo>
                    <a:pt x="0" y="1468"/>
                  </a:lnTo>
                  <a:lnTo>
                    <a:pt x="76" y="1544"/>
                  </a:lnTo>
                  <a:lnTo>
                    <a:pt x="1542" y="77"/>
                  </a:lnTo>
                  <a:lnTo>
                    <a:pt x="1558" y="3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333440" y="2276280"/>
              <a:ext cx="6480" cy="884160"/>
            </a:xfrm>
            <a:custGeom>
              <a:avLst/>
              <a:gdLst/>
              <a:ahLst/>
              <a:rect l="l" t="t" r="r" b="b"/>
              <a:pathLst>
                <a:path w="109" h="15037">
                  <a:moveTo>
                    <a:pt x="93" y="15037"/>
                  </a:moveTo>
                  <a:lnTo>
                    <a:pt x="109" y="14999"/>
                  </a:lnTo>
                  <a:lnTo>
                    <a:pt x="109" y="0"/>
                  </a:lnTo>
                  <a:lnTo>
                    <a:pt x="0" y="0"/>
                  </a:lnTo>
                  <a:lnTo>
                    <a:pt x="0" y="14999"/>
                  </a:lnTo>
                  <a:lnTo>
                    <a:pt x="93" y="1503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47760" y="3155760"/>
              <a:ext cx="90360" cy="90360"/>
            </a:xfrm>
            <a:custGeom>
              <a:avLst/>
              <a:gdLst/>
              <a:ahLst/>
              <a:rect l="l" t="t" r="r" b="b"/>
              <a:pathLst>
                <a:path w="1558" h="1547">
                  <a:moveTo>
                    <a:pt x="0" y="1510"/>
                  </a:moveTo>
                  <a:lnTo>
                    <a:pt x="92" y="1547"/>
                  </a:lnTo>
                  <a:lnTo>
                    <a:pt x="1558" y="77"/>
                  </a:lnTo>
                  <a:lnTo>
                    <a:pt x="1481" y="0"/>
                  </a:lnTo>
                  <a:lnTo>
                    <a:pt x="16" y="1472"/>
                  </a:lnTo>
                  <a:lnTo>
                    <a:pt x="0" y="151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47760" y="2360520"/>
              <a:ext cx="6120" cy="883800"/>
            </a:xfrm>
            <a:custGeom>
              <a:avLst/>
              <a:gdLst/>
              <a:ahLst/>
              <a:rect l="l" t="t" r="r" b="b"/>
              <a:pathLst>
                <a:path w="109" h="15040">
                  <a:moveTo>
                    <a:pt x="16" y="0"/>
                  </a:moveTo>
                  <a:lnTo>
                    <a:pt x="0" y="38"/>
                  </a:lnTo>
                  <a:lnTo>
                    <a:pt x="0" y="15040"/>
                  </a:lnTo>
                  <a:lnTo>
                    <a:pt x="109" y="15040"/>
                  </a:lnTo>
                  <a:lnTo>
                    <a:pt x="109" y="3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917640" y="2444760"/>
              <a:ext cx="117360" cy="177480"/>
            </a:xfrm>
            <a:custGeom>
              <a:avLst/>
              <a:gdLst/>
              <a:ahLst/>
              <a:rect l="l" t="t" r="r" b="b"/>
              <a:pathLst>
                <a:path w="2007" h="3005">
                  <a:moveTo>
                    <a:pt x="1597" y="0"/>
                  </a:moveTo>
                  <a:lnTo>
                    <a:pt x="1181" y="270"/>
                  </a:lnTo>
                  <a:lnTo>
                    <a:pt x="1008" y="415"/>
                  </a:lnTo>
                  <a:lnTo>
                    <a:pt x="844" y="623"/>
                  </a:lnTo>
                  <a:lnTo>
                    <a:pt x="738" y="814"/>
                  </a:lnTo>
                  <a:lnTo>
                    <a:pt x="639" y="1004"/>
                  </a:lnTo>
                  <a:lnTo>
                    <a:pt x="566" y="1215"/>
                  </a:lnTo>
                  <a:lnTo>
                    <a:pt x="521" y="1446"/>
                  </a:lnTo>
                  <a:lnTo>
                    <a:pt x="502" y="1663"/>
                  </a:lnTo>
                  <a:lnTo>
                    <a:pt x="525" y="1901"/>
                  </a:lnTo>
                  <a:lnTo>
                    <a:pt x="557" y="2146"/>
                  </a:lnTo>
                  <a:lnTo>
                    <a:pt x="616" y="2485"/>
                  </a:lnTo>
                  <a:lnTo>
                    <a:pt x="0" y="3005"/>
                  </a:lnTo>
                  <a:lnTo>
                    <a:pt x="1436" y="2959"/>
                  </a:lnTo>
                  <a:lnTo>
                    <a:pt x="2007" y="1197"/>
                  </a:lnTo>
                  <a:lnTo>
                    <a:pt x="1400" y="1753"/>
                  </a:lnTo>
                  <a:lnTo>
                    <a:pt x="1366" y="1562"/>
                  </a:lnTo>
                  <a:lnTo>
                    <a:pt x="1332" y="1346"/>
                  </a:lnTo>
                  <a:lnTo>
                    <a:pt x="1336" y="1061"/>
                  </a:lnTo>
                  <a:lnTo>
                    <a:pt x="1359" y="777"/>
                  </a:lnTo>
                  <a:lnTo>
                    <a:pt x="1414" y="496"/>
                  </a:lnTo>
                  <a:lnTo>
                    <a:pt x="1482" y="270"/>
                  </a:lnTo>
                  <a:lnTo>
                    <a:pt x="15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17640" y="2444760"/>
              <a:ext cx="117360" cy="177480"/>
            </a:xfrm>
            <a:custGeom>
              <a:avLst/>
              <a:gdLst/>
              <a:ahLst/>
              <a:rect l="l" t="t" r="r" b="b"/>
              <a:pathLst>
                <a:path w="2007" h="3005">
                  <a:moveTo>
                    <a:pt x="1597" y="0"/>
                  </a:moveTo>
                  <a:lnTo>
                    <a:pt x="1181" y="270"/>
                  </a:lnTo>
                  <a:lnTo>
                    <a:pt x="1008" y="415"/>
                  </a:lnTo>
                  <a:lnTo>
                    <a:pt x="844" y="623"/>
                  </a:lnTo>
                  <a:lnTo>
                    <a:pt x="738" y="814"/>
                  </a:lnTo>
                  <a:lnTo>
                    <a:pt x="639" y="1004"/>
                  </a:lnTo>
                  <a:lnTo>
                    <a:pt x="566" y="1215"/>
                  </a:lnTo>
                  <a:lnTo>
                    <a:pt x="521" y="1446"/>
                  </a:lnTo>
                  <a:lnTo>
                    <a:pt x="502" y="1663"/>
                  </a:lnTo>
                  <a:lnTo>
                    <a:pt x="525" y="1901"/>
                  </a:lnTo>
                  <a:lnTo>
                    <a:pt x="557" y="2146"/>
                  </a:lnTo>
                  <a:lnTo>
                    <a:pt x="616" y="2485"/>
                  </a:lnTo>
                  <a:lnTo>
                    <a:pt x="0" y="3005"/>
                  </a:lnTo>
                  <a:lnTo>
                    <a:pt x="1436" y="2959"/>
                  </a:lnTo>
                  <a:lnTo>
                    <a:pt x="2007" y="1197"/>
                  </a:lnTo>
                  <a:lnTo>
                    <a:pt x="1400" y="1753"/>
                  </a:lnTo>
                  <a:lnTo>
                    <a:pt x="1366" y="1562"/>
                  </a:lnTo>
                  <a:lnTo>
                    <a:pt x="1332" y="1346"/>
                  </a:lnTo>
                  <a:lnTo>
                    <a:pt x="1336" y="1061"/>
                  </a:lnTo>
                  <a:lnTo>
                    <a:pt x="1359" y="777"/>
                  </a:lnTo>
                  <a:lnTo>
                    <a:pt x="1414" y="496"/>
                  </a:lnTo>
                  <a:lnTo>
                    <a:pt x="1482" y="270"/>
                  </a:lnTo>
                  <a:lnTo>
                    <a:pt x="1597" y="0"/>
                  </a:lnTo>
                  <a:close/>
                </a:path>
              </a:pathLst>
            </a:cu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990360" y="2411280"/>
              <a:ext cx="243000" cy="63360"/>
            </a:xfrm>
            <a:custGeom>
              <a:avLst/>
              <a:gdLst/>
              <a:ahLst/>
              <a:rect l="l" t="t" r="r" b="b"/>
              <a:pathLst>
                <a:path w="4127" h="1084">
                  <a:moveTo>
                    <a:pt x="4127" y="0"/>
                  </a:moveTo>
                  <a:lnTo>
                    <a:pt x="809" y="0"/>
                  </a:lnTo>
                  <a:lnTo>
                    <a:pt x="0" y="791"/>
                  </a:lnTo>
                  <a:lnTo>
                    <a:pt x="479" y="588"/>
                  </a:lnTo>
                  <a:lnTo>
                    <a:pt x="661" y="565"/>
                  </a:lnTo>
                  <a:lnTo>
                    <a:pt x="894" y="575"/>
                  </a:lnTo>
                  <a:lnTo>
                    <a:pt x="1118" y="633"/>
                  </a:lnTo>
                  <a:lnTo>
                    <a:pt x="1290" y="697"/>
                  </a:lnTo>
                  <a:lnTo>
                    <a:pt x="1450" y="814"/>
                  </a:lnTo>
                  <a:lnTo>
                    <a:pt x="1597" y="950"/>
                  </a:lnTo>
                  <a:lnTo>
                    <a:pt x="1733" y="1084"/>
                  </a:lnTo>
                  <a:lnTo>
                    <a:pt x="2303" y="610"/>
                  </a:lnTo>
                  <a:lnTo>
                    <a:pt x="3512" y="610"/>
                  </a:lnTo>
                  <a:lnTo>
                    <a:pt x="41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990360" y="2411280"/>
              <a:ext cx="243000" cy="63360"/>
            </a:xfrm>
            <a:custGeom>
              <a:avLst/>
              <a:gdLst/>
              <a:ahLst/>
              <a:rect l="l" t="t" r="r" b="b"/>
              <a:pathLst>
                <a:path w="4127" h="1084">
                  <a:moveTo>
                    <a:pt x="4127" y="0"/>
                  </a:moveTo>
                  <a:lnTo>
                    <a:pt x="809" y="0"/>
                  </a:lnTo>
                  <a:lnTo>
                    <a:pt x="0" y="791"/>
                  </a:lnTo>
                  <a:lnTo>
                    <a:pt x="479" y="588"/>
                  </a:lnTo>
                  <a:lnTo>
                    <a:pt x="661" y="565"/>
                  </a:lnTo>
                  <a:lnTo>
                    <a:pt x="894" y="575"/>
                  </a:lnTo>
                  <a:lnTo>
                    <a:pt x="1118" y="633"/>
                  </a:lnTo>
                  <a:lnTo>
                    <a:pt x="1290" y="697"/>
                  </a:lnTo>
                  <a:lnTo>
                    <a:pt x="1450" y="814"/>
                  </a:lnTo>
                  <a:lnTo>
                    <a:pt x="1597" y="950"/>
                  </a:lnTo>
                  <a:lnTo>
                    <a:pt x="1733" y="1084"/>
                  </a:lnTo>
                  <a:lnTo>
                    <a:pt x="2303" y="610"/>
                  </a:lnTo>
                  <a:lnTo>
                    <a:pt x="3512" y="610"/>
                  </a:lnTo>
                  <a:lnTo>
                    <a:pt x="4127" y="0"/>
                  </a:lnTo>
                  <a:close/>
                </a:path>
              </a:pathLst>
            </a:cu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992160" y="2606760"/>
              <a:ext cx="147600" cy="61200"/>
            </a:xfrm>
            <a:custGeom>
              <a:avLst/>
              <a:gdLst/>
              <a:ahLst/>
              <a:rect l="l" t="t" r="r" b="b"/>
              <a:pathLst>
                <a:path w="2503" h="1077">
                  <a:moveTo>
                    <a:pt x="671" y="0"/>
                  </a:moveTo>
                  <a:lnTo>
                    <a:pt x="0" y="575"/>
                  </a:lnTo>
                  <a:lnTo>
                    <a:pt x="109" y="685"/>
                  </a:lnTo>
                  <a:lnTo>
                    <a:pt x="261" y="798"/>
                  </a:lnTo>
                  <a:lnTo>
                    <a:pt x="443" y="893"/>
                  </a:lnTo>
                  <a:lnTo>
                    <a:pt x="694" y="994"/>
                  </a:lnTo>
                  <a:lnTo>
                    <a:pt x="968" y="1062"/>
                  </a:lnTo>
                  <a:lnTo>
                    <a:pt x="1119" y="1077"/>
                  </a:lnTo>
                  <a:lnTo>
                    <a:pt x="1249" y="1062"/>
                  </a:lnTo>
                  <a:lnTo>
                    <a:pt x="1522" y="1002"/>
                  </a:lnTo>
                  <a:lnTo>
                    <a:pt x="1728" y="886"/>
                  </a:lnTo>
                  <a:lnTo>
                    <a:pt x="1865" y="791"/>
                  </a:lnTo>
                  <a:lnTo>
                    <a:pt x="2063" y="625"/>
                  </a:lnTo>
                  <a:lnTo>
                    <a:pt x="2238" y="489"/>
                  </a:lnTo>
                  <a:lnTo>
                    <a:pt x="2503" y="219"/>
                  </a:lnTo>
                  <a:lnTo>
                    <a:pt x="2287" y="343"/>
                  </a:lnTo>
                  <a:lnTo>
                    <a:pt x="2093" y="425"/>
                  </a:lnTo>
                  <a:lnTo>
                    <a:pt x="1902" y="489"/>
                  </a:lnTo>
                  <a:lnTo>
                    <a:pt x="1788" y="508"/>
                  </a:lnTo>
                  <a:lnTo>
                    <a:pt x="1630" y="505"/>
                  </a:lnTo>
                  <a:lnTo>
                    <a:pt x="1482" y="484"/>
                  </a:lnTo>
                  <a:lnTo>
                    <a:pt x="1309" y="445"/>
                  </a:lnTo>
                  <a:lnTo>
                    <a:pt x="1149" y="384"/>
                  </a:lnTo>
                  <a:lnTo>
                    <a:pt x="999" y="296"/>
                  </a:lnTo>
                  <a:lnTo>
                    <a:pt x="869" y="189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992160" y="2606760"/>
              <a:ext cx="147600" cy="61200"/>
            </a:xfrm>
            <a:custGeom>
              <a:avLst/>
              <a:gdLst/>
              <a:ahLst/>
              <a:rect l="l" t="t" r="r" b="b"/>
              <a:pathLst>
                <a:path w="2503" h="1077">
                  <a:moveTo>
                    <a:pt x="671" y="0"/>
                  </a:moveTo>
                  <a:lnTo>
                    <a:pt x="0" y="575"/>
                  </a:lnTo>
                  <a:lnTo>
                    <a:pt x="109" y="685"/>
                  </a:lnTo>
                  <a:lnTo>
                    <a:pt x="261" y="798"/>
                  </a:lnTo>
                  <a:lnTo>
                    <a:pt x="443" y="893"/>
                  </a:lnTo>
                  <a:lnTo>
                    <a:pt x="694" y="994"/>
                  </a:lnTo>
                  <a:lnTo>
                    <a:pt x="968" y="1062"/>
                  </a:lnTo>
                  <a:lnTo>
                    <a:pt x="1119" y="1077"/>
                  </a:lnTo>
                  <a:lnTo>
                    <a:pt x="1249" y="1062"/>
                  </a:lnTo>
                  <a:lnTo>
                    <a:pt x="1522" y="1002"/>
                  </a:lnTo>
                  <a:lnTo>
                    <a:pt x="1728" y="886"/>
                  </a:lnTo>
                  <a:lnTo>
                    <a:pt x="1865" y="791"/>
                  </a:lnTo>
                  <a:lnTo>
                    <a:pt x="2063" y="625"/>
                  </a:lnTo>
                  <a:lnTo>
                    <a:pt x="2238" y="489"/>
                  </a:lnTo>
                  <a:lnTo>
                    <a:pt x="2503" y="219"/>
                  </a:lnTo>
                  <a:lnTo>
                    <a:pt x="2287" y="343"/>
                  </a:lnTo>
                  <a:lnTo>
                    <a:pt x="2093" y="425"/>
                  </a:lnTo>
                  <a:lnTo>
                    <a:pt x="1902" y="489"/>
                  </a:lnTo>
                  <a:lnTo>
                    <a:pt x="1788" y="508"/>
                  </a:lnTo>
                  <a:lnTo>
                    <a:pt x="1630" y="505"/>
                  </a:lnTo>
                  <a:lnTo>
                    <a:pt x="1482" y="484"/>
                  </a:lnTo>
                  <a:lnTo>
                    <a:pt x="1309" y="445"/>
                  </a:lnTo>
                  <a:lnTo>
                    <a:pt x="1149" y="384"/>
                  </a:lnTo>
                  <a:lnTo>
                    <a:pt x="999" y="296"/>
                  </a:lnTo>
                  <a:lnTo>
                    <a:pt x="869" y="189"/>
                  </a:lnTo>
                  <a:lnTo>
                    <a:pt x="671" y="0"/>
                  </a:lnTo>
                  <a:close/>
                </a:path>
              </a:pathLst>
            </a:cu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89000" y="2457360"/>
              <a:ext cx="117360" cy="194760"/>
            </a:xfrm>
            <a:custGeom>
              <a:avLst/>
              <a:gdLst/>
              <a:ahLst/>
              <a:rect l="l" t="t" r="r" b="b"/>
              <a:pathLst>
                <a:path w="2006" h="3321">
                  <a:moveTo>
                    <a:pt x="228" y="3321"/>
                  </a:moveTo>
                  <a:lnTo>
                    <a:pt x="637" y="2987"/>
                  </a:lnTo>
                  <a:lnTo>
                    <a:pt x="879" y="2749"/>
                  </a:lnTo>
                  <a:lnTo>
                    <a:pt x="1026" y="2576"/>
                  </a:lnTo>
                  <a:lnTo>
                    <a:pt x="1163" y="2395"/>
                  </a:lnTo>
                  <a:lnTo>
                    <a:pt x="1286" y="2205"/>
                  </a:lnTo>
                  <a:lnTo>
                    <a:pt x="1368" y="1988"/>
                  </a:lnTo>
                  <a:lnTo>
                    <a:pt x="1440" y="1763"/>
                  </a:lnTo>
                  <a:lnTo>
                    <a:pt x="1486" y="1505"/>
                  </a:lnTo>
                  <a:lnTo>
                    <a:pt x="1508" y="1251"/>
                  </a:lnTo>
                  <a:lnTo>
                    <a:pt x="1507" y="1027"/>
                  </a:lnTo>
                  <a:lnTo>
                    <a:pt x="1481" y="801"/>
                  </a:lnTo>
                  <a:lnTo>
                    <a:pt x="1391" y="519"/>
                  </a:lnTo>
                  <a:lnTo>
                    <a:pt x="2006" y="0"/>
                  </a:lnTo>
                  <a:lnTo>
                    <a:pt x="570" y="46"/>
                  </a:lnTo>
                  <a:lnTo>
                    <a:pt x="0" y="1807"/>
                  </a:lnTo>
                  <a:lnTo>
                    <a:pt x="593" y="1265"/>
                  </a:lnTo>
                  <a:lnTo>
                    <a:pt x="641" y="1463"/>
                  </a:lnTo>
                  <a:lnTo>
                    <a:pt x="677" y="1701"/>
                  </a:lnTo>
                  <a:lnTo>
                    <a:pt x="684" y="1943"/>
                  </a:lnTo>
                  <a:lnTo>
                    <a:pt x="661" y="2214"/>
                  </a:lnTo>
                  <a:lnTo>
                    <a:pt x="606" y="2481"/>
                  </a:lnTo>
                  <a:lnTo>
                    <a:pt x="538" y="2720"/>
                  </a:lnTo>
                  <a:lnTo>
                    <a:pt x="441" y="2975"/>
                  </a:lnTo>
                  <a:lnTo>
                    <a:pt x="228" y="3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089000" y="2457360"/>
              <a:ext cx="117360" cy="194760"/>
            </a:xfrm>
            <a:custGeom>
              <a:avLst/>
              <a:gdLst/>
              <a:ahLst/>
              <a:rect l="l" t="t" r="r" b="b"/>
              <a:pathLst>
                <a:path w="2006" h="3321">
                  <a:moveTo>
                    <a:pt x="228" y="3321"/>
                  </a:moveTo>
                  <a:lnTo>
                    <a:pt x="637" y="2987"/>
                  </a:lnTo>
                  <a:lnTo>
                    <a:pt x="879" y="2749"/>
                  </a:lnTo>
                  <a:lnTo>
                    <a:pt x="1026" y="2576"/>
                  </a:lnTo>
                  <a:lnTo>
                    <a:pt x="1163" y="2395"/>
                  </a:lnTo>
                  <a:lnTo>
                    <a:pt x="1286" y="2205"/>
                  </a:lnTo>
                  <a:lnTo>
                    <a:pt x="1368" y="1988"/>
                  </a:lnTo>
                  <a:lnTo>
                    <a:pt x="1440" y="1763"/>
                  </a:lnTo>
                  <a:lnTo>
                    <a:pt x="1486" y="1505"/>
                  </a:lnTo>
                  <a:lnTo>
                    <a:pt x="1508" y="1251"/>
                  </a:lnTo>
                  <a:lnTo>
                    <a:pt x="1507" y="1027"/>
                  </a:lnTo>
                  <a:lnTo>
                    <a:pt x="1481" y="801"/>
                  </a:lnTo>
                  <a:lnTo>
                    <a:pt x="1391" y="519"/>
                  </a:lnTo>
                  <a:lnTo>
                    <a:pt x="2006" y="0"/>
                  </a:lnTo>
                  <a:lnTo>
                    <a:pt x="570" y="46"/>
                  </a:lnTo>
                  <a:lnTo>
                    <a:pt x="0" y="1807"/>
                  </a:lnTo>
                  <a:lnTo>
                    <a:pt x="593" y="1265"/>
                  </a:lnTo>
                  <a:lnTo>
                    <a:pt x="641" y="1463"/>
                  </a:lnTo>
                  <a:lnTo>
                    <a:pt x="677" y="1701"/>
                  </a:lnTo>
                  <a:lnTo>
                    <a:pt x="684" y="1943"/>
                  </a:lnTo>
                  <a:lnTo>
                    <a:pt x="661" y="2214"/>
                  </a:lnTo>
                  <a:lnTo>
                    <a:pt x="606" y="2481"/>
                  </a:lnTo>
                  <a:lnTo>
                    <a:pt x="538" y="2720"/>
                  </a:lnTo>
                  <a:lnTo>
                    <a:pt x="441" y="2975"/>
                  </a:lnTo>
                  <a:lnTo>
                    <a:pt x="228" y="3321"/>
                  </a:lnTo>
                  <a:close/>
                </a:path>
              </a:pathLst>
            </a:cu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947520" y="2697120"/>
              <a:ext cx="71640" cy="148680"/>
            </a:xfrm>
            <a:custGeom>
              <a:avLst/>
              <a:gdLst/>
              <a:ahLst/>
              <a:rect l="l" t="t" r="r" b="b"/>
              <a:pathLst>
                <a:path w="1226" h="2534">
                  <a:moveTo>
                    <a:pt x="91" y="2534"/>
                  </a:moveTo>
                  <a:lnTo>
                    <a:pt x="938" y="1811"/>
                  </a:lnTo>
                  <a:lnTo>
                    <a:pt x="881" y="1570"/>
                  </a:lnTo>
                  <a:lnTo>
                    <a:pt x="840" y="1372"/>
                  </a:lnTo>
                  <a:lnTo>
                    <a:pt x="825" y="1133"/>
                  </a:lnTo>
                  <a:lnTo>
                    <a:pt x="845" y="937"/>
                  </a:lnTo>
                  <a:lnTo>
                    <a:pt x="875" y="757"/>
                  </a:lnTo>
                  <a:lnTo>
                    <a:pt x="901" y="606"/>
                  </a:lnTo>
                  <a:lnTo>
                    <a:pt x="936" y="466"/>
                  </a:lnTo>
                  <a:lnTo>
                    <a:pt x="992" y="335"/>
                  </a:lnTo>
                  <a:lnTo>
                    <a:pt x="1063" y="214"/>
                  </a:lnTo>
                  <a:lnTo>
                    <a:pt x="1226" y="0"/>
                  </a:lnTo>
                  <a:lnTo>
                    <a:pt x="760" y="238"/>
                  </a:lnTo>
                  <a:lnTo>
                    <a:pt x="619" y="354"/>
                  </a:lnTo>
                  <a:lnTo>
                    <a:pt x="501" y="471"/>
                  </a:lnTo>
                  <a:lnTo>
                    <a:pt x="410" y="591"/>
                  </a:lnTo>
                  <a:lnTo>
                    <a:pt x="334" y="697"/>
                  </a:lnTo>
                  <a:lnTo>
                    <a:pt x="273" y="802"/>
                  </a:lnTo>
                  <a:lnTo>
                    <a:pt x="201" y="923"/>
                  </a:lnTo>
                  <a:lnTo>
                    <a:pt x="136" y="1073"/>
                  </a:lnTo>
                  <a:lnTo>
                    <a:pt x="91" y="1239"/>
                  </a:lnTo>
                  <a:lnTo>
                    <a:pt x="45" y="1465"/>
                  </a:lnTo>
                  <a:lnTo>
                    <a:pt x="15" y="1661"/>
                  </a:lnTo>
                  <a:lnTo>
                    <a:pt x="0" y="1901"/>
                  </a:lnTo>
                  <a:lnTo>
                    <a:pt x="15" y="2142"/>
                  </a:lnTo>
                  <a:lnTo>
                    <a:pt x="91" y="2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947520" y="2697120"/>
              <a:ext cx="71640" cy="148680"/>
            </a:xfrm>
            <a:custGeom>
              <a:avLst/>
              <a:gdLst/>
              <a:ahLst/>
              <a:rect l="l" t="t" r="r" b="b"/>
              <a:pathLst>
                <a:path w="1226" h="2534">
                  <a:moveTo>
                    <a:pt x="91" y="2534"/>
                  </a:moveTo>
                  <a:lnTo>
                    <a:pt x="938" y="1811"/>
                  </a:lnTo>
                  <a:lnTo>
                    <a:pt x="881" y="1570"/>
                  </a:lnTo>
                  <a:lnTo>
                    <a:pt x="840" y="1372"/>
                  </a:lnTo>
                  <a:lnTo>
                    <a:pt x="825" y="1133"/>
                  </a:lnTo>
                  <a:lnTo>
                    <a:pt x="845" y="937"/>
                  </a:lnTo>
                  <a:lnTo>
                    <a:pt x="875" y="757"/>
                  </a:lnTo>
                  <a:lnTo>
                    <a:pt x="901" y="606"/>
                  </a:lnTo>
                  <a:lnTo>
                    <a:pt x="936" y="466"/>
                  </a:lnTo>
                  <a:lnTo>
                    <a:pt x="992" y="335"/>
                  </a:lnTo>
                  <a:lnTo>
                    <a:pt x="1063" y="214"/>
                  </a:lnTo>
                  <a:lnTo>
                    <a:pt x="1226" y="0"/>
                  </a:lnTo>
                  <a:lnTo>
                    <a:pt x="760" y="238"/>
                  </a:lnTo>
                  <a:lnTo>
                    <a:pt x="619" y="354"/>
                  </a:lnTo>
                  <a:lnTo>
                    <a:pt x="501" y="471"/>
                  </a:lnTo>
                  <a:lnTo>
                    <a:pt x="410" y="591"/>
                  </a:lnTo>
                  <a:lnTo>
                    <a:pt x="334" y="697"/>
                  </a:lnTo>
                  <a:lnTo>
                    <a:pt x="273" y="802"/>
                  </a:lnTo>
                  <a:lnTo>
                    <a:pt x="201" y="923"/>
                  </a:lnTo>
                  <a:lnTo>
                    <a:pt x="136" y="1073"/>
                  </a:lnTo>
                  <a:lnTo>
                    <a:pt x="91" y="1239"/>
                  </a:lnTo>
                  <a:lnTo>
                    <a:pt x="45" y="1465"/>
                  </a:lnTo>
                  <a:lnTo>
                    <a:pt x="15" y="1661"/>
                  </a:lnTo>
                  <a:lnTo>
                    <a:pt x="0" y="1901"/>
                  </a:lnTo>
                  <a:lnTo>
                    <a:pt x="15" y="2142"/>
                  </a:lnTo>
                  <a:lnTo>
                    <a:pt x="91" y="2534"/>
                  </a:lnTo>
                  <a:close/>
                </a:path>
              </a:pathLst>
            </a:cu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993600" y="2644560"/>
              <a:ext cx="136440" cy="85320"/>
            </a:xfrm>
            <a:custGeom>
              <a:avLst/>
              <a:gdLst/>
              <a:ahLst/>
              <a:rect l="l" t="t" r="r" b="b"/>
              <a:pathLst>
                <a:path w="2323" h="1461">
                  <a:moveTo>
                    <a:pt x="0" y="1114"/>
                  </a:moveTo>
                  <a:lnTo>
                    <a:pt x="745" y="467"/>
                  </a:lnTo>
                  <a:lnTo>
                    <a:pt x="865" y="424"/>
                  </a:lnTo>
                  <a:lnTo>
                    <a:pt x="971" y="407"/>
                  </a:lnTo>
                  <a:lnTo>
                    <a:pt x="1092" y="392"/>
                  </a:lnTo>
                  <a:lnTo>
                    <a:pt x="1233" y="381"/>
                  </a:lnTo>
                  <a:lnTo>
                    <a:pt x="1381" y="405"/>
                  </a:lnTo>
                  <a:lnTo>
                    <a:pt x="1513" y="427"/>
                  </a:lnTo>
                  <a:lnTo>
                    <a:pt x="1610" y="465"/>
                  </a:lnTo>
                  <a:lnTo>
                    <a:pt x="1762" y="558"/>
                  </a:lnTo>
                  <a:lnTo>
                    <a:pt x="2323" y="0"/>
                  </a:lnTo>
                  <a:lnTo>
                    <a:pt x="2080" y="1431"/>
                  </a:lnTo>
                  <a:lnTo>
                    <a:pt x="697" y="1461"/>
                  </a:lnTo>
                  <a:lnTo>
                    <a:pt x="1138" y="1070"/>
                  </a:lnTo>
                  <a:lnTo>
                    <a:pt x="1012" y="1009"/>
                  </a:lnTo>
                  <a:lnTo>
                    <a:pt x="895" y="979"/>
                  </a:lnTo>
                  <a:lnTo>
                    <a:pt x="754" y="953"/>
                  </a:lnTo>
                  <a:lnTo>
                    <a:pt x="636" y="953"/>
                  </a:lnTo>
                  <a:lnTo>
                    <a:pt x="515" y="964"/>
                  </a:lnTo>
                  <a:lnTo>
                    <a:pt x="393" y="984"/>
                  </a:lnTo>
                  <a:lnTo>
                    <a:pt x="286" y="1009"/>
                  </a:lnTo>
                  <a:lnTo>
                    <a:pt x="165" y="1048"/>
                  </a:lnTo>
                  <a:lnTo>
                    <a:pt x="0" y="1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993600" y="2644560"/>
              <a:ext cx="136440" cy="85320"/>
            </a:xfrm>
            <a:custGeom>
              <a:avLst/>
              <a:gdLst/>
              <a:ahLst/>
              <a:rect l="l" t="t" r="r" b="b"/>
              <a:pathLst>
                <a:path w="2323" h="1461">
                  <a:moveTo>
                    <a:pt x="0" y="1114"/>
                  </a:moveTo>
                  <a:lnTo>
                    <a:pt x="745" y="467"/>
                  </a:lnTo>
                  <a:lnTo>
                    <a:pt x="865" y="424"/>
                  </a:lnTo>
                  <a:lnTo>
                    <a:pt x="971" y="407"/>
                  </a:lnTo>
                  <a:lnTo>
                    <a:pt x="1092" y="392"/>
                  </a:lnTo>
                  <a:lnTo>
                    <a:pt x="1233" y="381"/>
                  </a:lnTo>
                  <a:lnTo>
                    <a:pt x="1381" y="405"/>
                  </a:lnTo>
                  <a:lnTo>
                    <a:pt x="1513" y="427"/>
                  </a:lnTo>
                  <a:lnTo>
                    <a:pt x="1610" y="465"/>
                  </a:lnTo>
                  <a:lnTo>
                    <a:pt x="1762" y="558"/>
                  </a:lnTo>
                  <a:lnTo>
                    <a:pt x="2323" y="0"/>
                  </a:lnTo>
                  <a:lnTo>
                    <a:pt x="2080" y="1431"/>
                  </a:lnTo>
                  <a:lnTo>
                    <a:pt x="697" y="1461"/>
                  </a:lnTo>
                  <a:lnTo>
                    <a:pt x="1138" y="1070"/>
                  </a:lnTo>
                  <a:lnTo>
                    <a:pt x="1012" y="1009"/>
                  </a:lnTo>
                  <a:lnTo>
                    <a:pt x="895" y="979"/>
                  </a:lnTo>
                  <a:lnTo>
                    <a:pt x="754" y="953"/>
                  </a:lnTo>
                  <a:lnTo>
                    <a:pt x="636" y="953"/>
                  </a:lnTo>
                  <a:lnTo>
                    <a:pt x="515" y="964"/>
                  </a:lnTo>
                  <a:lnTo>
                    <a:pt x="393" y="984"/>
                  </a:lnTo>
                  <a:lnTo>
                    <a:pt x="286" y="1009"/>
                  </a:lnTo>
                  <a:lnTo>
                    <a:pt x="165" y="1048"/>
                  </a:lnTo>
                  <a:lnTo>
                    <a:pt x="0" y="1114"/>
                  </a:lnTo>
                  <a:close/>
                </a:path>
              </a:pathLst>
            </a:cu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958680" y="2832120"/>
              <a:ext cx="165240" cy="102600"/>
            </a:xfrm>
            <a:custGeom>
              <a:avLst/>
              <a:gdLst/>
              <a:ahLst/>
              <a:rect l="l" t="t" r="r" b="b"/>
              <a:pathLst>
                <a:path w="2812" h="1763">
                  <a:moveTo>
                    <a:pt x="1277" y="588"/>
                  </a:moveTo>
                  <a:lnTo>
                    <a:pt x="1961" y="0"/>
                  </a:lnTo>
                  <a:lnTo>
                    <a:pt x="578" y="31"/>
                  </a:lnTo>
                  <a:lnTo>
                    <a:pt x="0" y="1763"/>
                  </a:lnTo>
                  <a:lnTo>
                    <a:pt x="654" y="1175"/>
                  </a:lnTo>
                  <a:lnTo>
                    <a:pt x="790" y="1296"/>
                  </a:lnTo>
                  <a:lnTo>
                    <a:pt x="913" y="1386"/>
                  </a:lnTo>
                  <a:lnTo>
                    <a:pt x="1095" y="1483"/>
                  </a:lnTo>
                  <a:lnTo>
                    <a:pt x="1231" y="1537"/>
                  </a:lnTo>
                  <a:lnTo>
                    <a:pt x="1368" y="1567"/>
                  </a:lnTo>
                  <a:lnTo>
                    <a:pt x="1581" y="1593"/>
                  </a:lnTo>
                  <a:lnTo>
                    <a:pt x="1779" y="1597"/>
                  </a:lnTo>
                  <a:lnTo>
                    <a:pt x="1982" y="1571"/>
                  </a:lnTo>
                  <a:lnTo>
                    <a:pt x="2189" y="1522"/>
                  </a:lnTo>
                  <a:lnTo>
                    <a:pt x="2335" y="1431"/>
                  </a:lnTo>
                  <a:lnTo>
                    <a:pt x="2450" y="1352"/>
                  </a:lnTo>
                  <a:lnTo>
                    <a:pt x="2553" y="1251"/>
                  </a:lnTo>
                  <a:lnTo>
                    <a:pt x="2812" y="995"/>
                  </a:lnTo>
                  <a:lnTo>
                    <a:pt x="2542" y="1070"/>
                  </a:lnTo>
                  <a:lnTo>
                    <a:pt x="2375" y="1081"/>
                  </a:lnTo>
                  <a:lnTo>
                    <a:pt x="2209" y="1070"/>
                  </a:lnTo>
                  <a:lnTo>
                    <a:pt x="1967" y="1009"/>
                  </a:lnTo>
                  <a:lnTo>
                    <a:pt x="1751" y="921"/>
                  </a:lnTo>
                  <a:lnTo>
                    <a:pt x="1577" y="816"/>
                  </a:lnTo>
                  <a:lnTo>
                    <a:pt x="1429" y="725"/>
                  </a:lnTo>
                  <a:lnTo>
                    <a:pt x="1277" y="5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958680" y="2832120"/>
              <a:ext cx="165240" cy="102600"/>
            </a:xfrm>
            <a:custGeom>
              <a:avLst/>
              <a:gdLst/>
              <a:ahLst/>
              <a:rect l="l" t="t" r="r" b="b"/>
              <a:pathLst>
                <a:path w="2812" h="1763">
                  <a:moveTo>
                    <a:pt x="1277" y="588"/>
                  </a:moveTo>
                  <a:lnTo>
                    <a:pt x="1961" y="0"/>
                  </a:lnTo>
                  <a:lnTo>
                    <a:pt x="578" y="31"/>
                  </a:lnTo>
                  <a:lnTo>
                    <a:pt x="0" y="1763"/>
                  </a:lnTo>
                  <a:lnTo>
                    <a:pt x="654" y="1175"/>
                  </a:lnTo>
                  <a:lnTo>
                    <a:pt x="790" y="1296"/>
                  </a:lnTo>
                  <a:lnTo>
                    <a:pt x="913" y="1386"/>
                  </a:lnTo>
                  <a:lnTo>
                    <a:pt x="1095" y="1483"/>
                  </a:lnTo>
                  <a:lnTo>
                    <a:pt x="1231" y="1537"/>
                  </a:lnTo>
                  <a:lnTo>
                    <a:pt x="1368" y="1567"/>
                  </a:lnTo>
                  <a:lnTo>
                    <a:pt x="1581" y="1593"/>
                  </a:lnTo>
                  <a:lnTo>
                    <a:pt x="1779" y="1597"/>
                  </a:lnTo>
                  <a:lnTo>
                    <a:pt x="1982" y="1571"/>
                  </a:lnTo>
                  <a:lnTo>
                    <a:pt x="2189" y="1522"/>
                  </a:lnTo>
                  <a:lnTo>
                    <a:pt x="2335" y="1431"/>
                  </a:lnTo>
                  <a:lnTo>
                    <a:pt x="2450" y="1352"/>
                  </a:lnTo>
                  <a:lnTo>
                    <a:pt x="2553" y="1251"/>
                  </a:lnTo>
                  <a:lnTo>
                    <a:pt x="2812" y="995"/>
                  </a:lnTo>
                  <a:lnTo>
                    <a:pt x="2542" y="1070"/>
                  </a:lnTo>
                  <a:lnTo>
                    <a:pt x="2375" y="1081"/>
                  </a:lnTo>
                  <a:lnTo>
                    <a:pt x="2209" y="1070"/>
                  </a:lnTo>
                  <a:lnTo>
                    <a:pt x="1967" y="1009"/>
                  </a:lnTo>
                  <a:lnTo>
                    <a:pt x="1751" y="921"/>
                  </a:lnTo>
                  <a:lnTo>
                    <a:pt x="1577" y="816"/>
                  </a:lnTo>
                  <a:lnTo>
                    <a:pt x="1429" y="725"/>
                  </a:lnTo>
                  <a:lnTo>
                    <a:pt x="1277" y="588"/>
                  </a:lnTo>
                  <a:close/>
                </a:path>
              </a:pathLst>
            </a:cu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103040" y="2708280"/>
              <a:ext cx="73080" cy="201240"/>
            </a:xfrm>
            <a:custGeom>
              <a:avLst/>
              <a:gdLst/>
              <a:ahLst/>
              <a:rect l="l" t="t" r="r" b="b"/>
              <a:pathLst>
                <a:path w="1246" h="3448">
                  <a:moveTo>
                    <a:pt x="115" y="737"/>
                  </a:moveTo>
                  <a:lnTo>
                    <a:pt x="905" y="0"/>
                  </a:lnTo>
                  <a:lnTo>
                    <a:pt x="986" y="146"/>
                  </a:lnTo>
                  <a:lnTo>
                    <a:pt x="1068" y="316"/>
                  </a:lnTo>
                  <a:lnTo>
                    <a:pt x="1129" y="490"/>
                  </a:lnTo>
                  <a:lnTo>
                    <a:pt x="1194" y="767"/>
                  </a:lnTo>
                  <a:lnTo>
                    <a:pt x="1231" y="1008"/>
                  </a:lnTo>
                  <a:lnTo>
                    <a:pt x="1246" y="1279"/>
                  </a:lnTo>
                  <a:lnTo>
                    <a:pt x="1225" y="1655"/>
                  </a:lnTo>
                  <a:lnTo>
                    <a:pt x="1170" y="1942"/>
                  </a:lnTo>
                  <a:lnTo>
                    <a:pt x="1073" y="2228"/>
                  </a:lnTo>
                  <a:lnTo>
                    <a:pt x="953" y="2452"/>
                  </a:lnTo>
                  <a:lnTo>
                    <a:pt x="839" y="2612"/>
                  </a:lnTo>
                  <a:lnTo>
                    <a:pt x="747" y="2736"/>
                  </a:lnTo>
                  <a:lnTo>
                    <a:pt x="571" y="2906"/>
                  </a:lnTo>
                  <a:lnTo>
                    <a:pt x="0" y="3448"/>
                  </a:lnTo>
                  <a:lnTo>
                    <a:pt x="237" y="3056"/>
                  </a:lnTo>
                  <a:lnTo>
                    <a:pt x="358" y="2800"/>
                  </a:lnTo>
                  <a:lnTo>
                    <a:pt x="419" y="2544"/>
                  </a:lnTo>
                  <a:lnTo>
                    <a:pt x="461" y="2349"/>
                  </a:lnTo>
                  <a:lnTo>
                    <a:pt x="475" y="2043"/>
                  </a:lnTo>
                  <a:lnTo>
                    <a:pt x="461" y="1789"/>
                  </a:lnTo>
                  <a:lnTo>
                    <a:pt x="436" y="1588"/>
                  </a:lnTo>
                  <a:lnTo>
                    <a:pt x="389" y="1397"/>
                  </a:lnTo>
                  <a:lnTo>
                    <a:pt x="304" y="1114"/>
                  </a:lnTo>
                  <a:lnTo>
                    <a:pt x="206" y="903"/>
                  </a:lnTo>
                  <a:lnTo>
                    <a:pt x="115" y="7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103040" y="2708280"/>
              <a:ext cx="73080" cy="201240"/>
            </a:xfrm>
            <a:custGeom>
              <a:avLst/>
              <a:gdLst/>
              <a:ahLst/>
              <a:rect l="l" t="t" r="r" b="b"/>
              <a:pathLst>
                <a:path w="1246" h="3448">
                  <a:moveTo>
                    <a:pt x="115" y="737"/>
                  </a:moveTo>
                  <a:lnTo>
                    <a:pt x="905" y="0"/>
                  </a:lnTo>
                  <a:lnTo>
                    <a:pt x="986" y="146"/>
                  </a:lnTo>
                  <a:lnTo>
                    <a:pt x="1068" y="316"/>
                  </a:lnTo>
                  <a:lnTo>
                    <a:pt x="1129" y="490"/>
                  </a:lnTo>
                  <a:lnTo>
                    <a:pt x="1194" y="767"/>
                  </a:lnTo>
                  <a:lnTo>
                    <a:pt x="1231" y="1008"/>
                  </a:lnTo>
                  <a:lnTo>
                    <a:pt x="1246" y="1279"/>
                  </a:lnTo>
                  <a:lnTo>
                    <a:pt x="1225" y="1655"/>
                  </a:lnTo>
                  <a:lnTo>
                    <a:pt x="1170" y="1942"/>
                  </a:lnTo>
                  <a:lnTo>
                    <a:pt x="1073" y="2228"/>
                  </a:lnTo>
                  <a:lnTo>
                    <a:pt x="953" y="2452"/>
                  </a:lnTo>
                  <a:lnTo>
                    <a:pt x="839" y="2612"/>
                  </a:lnTo>
                  <a:lnTo>
                    <a:pt x="747" y="2736"/>
                  </a:lnTo>
                  <a:lnTo>
                    <a:pt x="571" y="2906"/>
                  </a:lnTo>
                  <a:lnTo>
                    <a:pt x="0" y="3448"/>
                  </a:lnTo>
                  <a:lnTo>
                    <a:pt x="237" y="3056"/>
                  </a:lnTo>
                  <a:lnTo>
                    <a:pt x="358" y="2800"/>
                  </a:lnTo>
                  <a:lnTo>
                    <a:pt x="419" y="2544"/>
                  </a:lnTo>
                  <a:lnTo>
                    <a:pt x="461" y="2349"/>
                  </a:lnTo>
                  <a:lnTo>
                    <a:pt x="475" y="2043"/>
                  </a:lnTo>
                  <a:lnTo>
                    <a:pt x="461" y="1789"/>
                  </a:lnTo>
                  <a:lnTo>
                    <a:pt x="436" y="1588"/>
                  </a:lnTo>
                  <a:lnTo>
                    <a:pt x="389" y="1397"/>
                  </a:lnTo>
                  <a:lnTo>
                    <a:pt x="304" y="1114"/>
                  </a:lnTo>
                  <a:lnTo>
                    <a:pt x="206" y="903"/>
                  </a:lnTo>
                  <a:lnTo>
                    <a:pt x="115" y="737"/>
                  </a:lnTo>
                  <a:close/>
                </a:path>
              </a:pathLst>
            </a:cu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949320" y="2944800"/>
              <a:ext cx="77760" cy="93240"/>
            </a:xfrm>
            <a:custGeom>
              <a:avLst/>
              <a:gdLst/>
              <a:ahLst/>
              <a:rect l="l" t="t" r="r" b="b"/>
              <a:pathLst>
                <a:path w="1323" h="1596">
                  <a:moveTo>
                    <a:pt x="0" y="1596"/>
                  </a:moveTo>
                  <a:lnTo>
                    <a:pt x="836" y="918"/>
                  </a:lnTo>
                  <a:lnTo>
                    <a:pt x="861" y="766"/>
                  </a:lnTo>
                  <a:lnTo>
                    <a:pt x="894" y="622"/>
                  </a:lnTo>
                  <a:lnTo>
                    <a:pt x="949" y="498"/>
                  </a:lnTo>
                  <a:lnTo>
                    <a:pt x="1014" y="366"/>
                  </a:lnTo>
                  <a:lnTo>
                    <a:pt x="1095" y="256"/>
                  </a:lnTo>
                  <a:lnTo>
                    <a:pt x="1323" y="0"/>
                  </a:lnTo>
                  <a:lnTo>
                    <a:pt x="821" y="360"/>
                  </a:lnTo>
                  <a:lnTo>
                    <a:pt x="650" y="482"/>
                  </a:lnTo>
                  <a:lnTo>
                    <a:pt x="498" y="596"/>
                  </a:lnTo>
                  <a:lnTo>
                    <a:pt x="385" y="722"/>
                  </a:lnTo>
                  <a:lnTo>
                    <a:pt x="278" y="880"/>
                  </a:lnTo>
                  <a:lnTo>
                    <a:pt x="187" y="1038"/>
                  </a:lnTo>
                  <a:lnTo>
                    <a:pt x="122" y="1189"/>
                  </a:lnTo>
                  <a:lnTo>
                    <a:pt x="61" y="1351"/>
                  </a:lnTo>
                  <a:lnTo>
                    <a:pt x="0" y="1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949320" y="2944800"/>
              <a:ext cx="77760" cy="93240"/>
            </a:xfrm>
            <a:custGeom>
              <a:avLst/>
              <a:gdLst/>
              <a:ahLst/>
              <a:rect l="l" t="t" r="r" b="b"/>
              <a:pathLst>
                <a:path w="1323" h="1596">
                  <a:moveTo>
                    <a:pt x="0" y="1596"/>
                  </a:moveTo>
                  <a:lnTo>
                    <a:pt x="836" y="918"/>
                  </a:lnTo>
                  <a:lnTo>
                    <a:pt x="861" y="766"/>
                  </a:lnTo>
                  <a:lnTo>
                    <a:pt x="894" y="622"/>
                  </a:lnTo>
                  <a:lnTo>
                    <a:pt x="949" y="498"/>
                  </a:lnTo>
                  <a:lnTo>
                    <a:pt x="1014" y="366"/>
                  </a:lnTo>
                  <a:lnTo>
                    <a:pt x="1095" y="256"/>
                  </a:lnTo>
                  <a:lnTo>
                    <a:pt x="1323" y="0"/>
                  </a:lnTo>
                  <a:lnTo>
                    <a:pt x="821" y="360"/>
                  </a:lnTo>
                  <a:lnTo>
                    <a:pt x="650" y="482"/>
                  </a:lnTo>
                  <a:lnTo>
                    <a:pt x="498" y="596"/>
                  </a:lnTo>
                  <a:lnTo>
                    <a:pt x="385" y="722"/>
                  </a:lnTo>
                  <a:lnTo>
                    <a:pt x="278" y="880"/>
                  </a:lnTo>
                  <a:lnTo>
                    <a:pt x="187" y="1038"/>
                  </a:lnTo>
                  <a:lnTo>
                    <a:pt x="122" y="1189"/>
                  </a:lnTo>
                  <a:lnTo>
                    <a:pt x="61" y="1351"/>
                  </a:lnTo>
                  <a:lnTo>
                    <a:pt x="0" y="1596"/>
                  </a:lnTo>
                  <a:close/>
                </a:path>
              </a:pathLst>
            </a:cu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995400" y="2925720"/>
              <a:ext cx="180720" cy="110880"/>
            </a:xfrm>
            <a:custGeom>
              <a:avLst/>
              <a:gdLst/>
              <a:ahLst/>
              <a:rect l="l" t="t" r="r" b="b"/>
              <a:pathLst>
                <a:path w="3070" h="1893">
                  <a:moveTo>
                    <a:pt x="0" y="734"/>
                  </a:moveTo>
                  <a:lnTo>
                    <a:pt x="714" y="41"/>
                  </a:lnTo>
                  <a:lnTo>
                    <a:pt x="875" y="15"/>
                  </a:lnTo>
                  <a:lnTo>
                    <a:pt x="1048" y="0"/>
                  </a:lnTo>
                  <a:lnTo>
                    <a:pt x="1322" y="11"/>
                  </a:lnTo>
                  <a:lnTo>
                    <a:pt x="1565" y="41"/>
                  </a:lnTo>
                  <a:lnTo>
                    <a:pt x="1747" y="101"/>
                  </a:lnTo>
                  <a:lnTo>
                    <a:pt x="1935" y="177"/>
                  </a:lnTo>
                  <a:lnTo>
                    <a:pt x="2072" y="234"/>
                  </a:lnTo>
                  <a:lnTo>
                    <a:pt x="2198" y="312"/>
                  </a:lnTo>
                  <a:lnTo>
                    <a:pt x="2331" y="418"/>
                  </a:lnTo>
                  <a:lnTo>
                    <a:pt x="2462" y="568"/>
                  </a:lnTo>
                  <a:lnTo>
                    <a:pt x="2599" y="750"/>
                  </a:lnTo>
                  <a:lnTo>
                    <a:pt x="3070" y="312"/>
                  </a:lnTo>
                  <a:lnTo>
                    <a:pt x="2644" y="1893"/>
                  </a:lnTo>
                  <a:lnTo>
                    <a:pt x="1383" y="1819"/>
                  </a:lnTo>
                  <a:lnTo>
                    <a:pt x="1925" y="1341"/>
                  </a:lnTo>
                  <a:lnTo>
                    <a:pt x="1819" y="1186"/>
                  </a:lnTo>
                  <a:lnTo>
                    <a:pt x="1714" y="1057"/>
                  </a:lnTo>
                  <a:lnTo>
                    <a:pt x="1625" y="952"/>
                  </a:lnTo>
                  <a:lnTo>
                    <a:pt x="1526" y="878"/>
                  </a:lnTo>
                  <a:lnTo>
                    <a:pt x="1368" y="788"/>
                  </a:lnTo>
                  <a:lnTo>
                    <a:pt x="1186" y="704"/>
                  </a:lnTo>
                  <a:lnTo>
                    <a:pt x="988" y="644"/>
                  </a:lnTo>
                  <a:lnTo>
                    <a:pt x="805" y="598"/>
                  </a:lnTo>
                  <a:lnTo>
                    <a:pt x="638" y="584"/>
                  </a:lnTo>
                  <a:lnTo>
                    <a:pt x="441" y="584"/>
                  </a:lnTo>
                  <a:lnTo>
                    <a:pt x="267" y="618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995400" y="2925720"/>
              <a:ext cx="180720" cy="110880"/>
            </a:xfrm>
            <a:custGeom>
              <a:avLst/>
              <a:gdLst/>
              <a:ahLst/>
              <a:rect l="l" t="t" r="r" b="b"/>
              <a:pathLst>
                <a:path w="3070" h="1893">
                  <a:moveTo>
                    <a:pt x="0" y="734"/>
                  </a:moveTo>
                  <a:lnTo>
                    <a:pt x="714" y="41"/>
                  </a:lnTo>
                  <a:lnTo>
                    <a:pt x="875" y="15"/>
                  </a:lnTo>
                  <a:lnTo>
                    <a:pt x="1048" y="0"/>
                  </a:lnTo>
                  <a:lnTo>
                    <a:pt x="1322" y="11"/>
                  </a:lnTo>
                  <a:lnTo>
                    <a:pt x="1565" y="41"/>
                  </a:lnTo>
                  <a:lnTo>
                    <a:pt x="1747" y="101"/>
                  </a:lnTo>
                  <a:lnTo>
                    <a:pt x="1935" y="177"/>
                  </a:lnTo>
                  <a:lnTo>
                    <a:pt x="2072" y="234"/>
                  </a:lnTo>
                  <a:lnTo>
                    <a:pt x="2198" y="312"/>
                  </a:lnTo>
                  <a:lnTo>
                    <a:pt x="2331" y="418"/>
                  </a:lnTo>
                  <a:lnTo>
                    <a:pt x="2462" y="568"/>
                  </a:lnTo>
                  <a:lnTo>
                    <a:pt x="2599" y="750"/>
                  </a:lnTo>
                  <a:lnTo>
                    <a:pt x="3070" y="312"/>
                  </a:lnTo>
                  <a:lnTo>
                    <a:pt x="2644" y="1893"/>
                  </a:lnTo>
                  <a:lnTo>
                    <a:pt x="1383" y="1819"/>
                  </a:lnTo>
                  <a:lnTo>
                    <a:pt x="1925" y="1341"/>
                  </a:lnTo>
                  <a:lnTo>
                    <a:pt x="1819" y="1186"/>
                  </a:lnTo>
                  <a:lnTo>
                    <a:pt x="1714" y="1057"/>
                  </a:lnTo>
                  <a:lnTo>
                    <a:pt x="1625" y="952"/>
                  </a:lnTo>
                  <a:lnTo>
                    <a:pt x="1526" y="878"/>
                  </a:lnTo>
                  <a:lnTo>
                    <a:pt x="1368" y="788"/>
                  </a:lnTo>
                  <a:lnTo>
                    <a:pt x="1186" y="704"/>
                  </a:lnTo>
                  <a:lnTo>
                    <a:pt x="988" y="644"/>
                  </a:lnTo>
                  <a:lnTo>
                    <a:pt x="805" y="598"/>
                  </a:lnTo>
                  <a:lnTo>
                    <a:pt x="638" y="584"/>
                  </a:lnTo>
                  <a:lnTo>
                    <a:pt x="441" y="584"/>
                  </a:lnTo>
                  <a:lnTo>
                    <a:pt x="267" y="6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69760" y="3024000"/>
              <a:ext cx="306360" cy="168120"/>
            </a:xfrm>
            <a:custGeom>
              <a:avLst/>
              <a:gdLst/>
              <a:ahLst/>
              <a:rect l="l" t="t" r="r" b="b"/>
              <a:pathLst>
                <a:path w="5209" h="2847">
                  <a:moveTo>
                    <a:pt x="5198" y="0"/>
                  </a:moveTo>
                  <a:lnTo>
                    <a:pt x="4377" y="753"/>
                  </a:lnTo>
                  <a:lnTo>
                    <a:pt x="4393" y="964"/>
                  </a:lnTo>
                  <a:lnTo>
                    <a:pt x="4393" y="1175"/>
                  </a:lnTo>
                  <a:lnTo>
                    <a:pt x="4362" y="1400"/>
                  </a:lnTo>
                  <a:lnTo>
                    <a:pt x="4326" y="1588"/>
                  </a:lnTo>
                  <a:lnTo>
                    <a:pt x="4255" y="1822"/>
                  </a:lnTo>
                  <a:lnTo>
                    <a:pt x="4195" y="1972"/>
                  </a:lnTo>
                  <a:lnTo>
                    <a:pt x="4104" y="2124"/>
                  </a:lnTo>
                  <a:lnTo>
                    <a:pt x="3830" y="2154"/>
                  </a:lnTo>
                  <a:lnTo>
                    <a:pt x="3541" y="2124"/>
                  </a:lnTo>
                  <a:lnTo>
                    <a:pt x="3358" y="2063"/>
                  </a:lnTo>
                  <a:lnTo>
                    <a:pt x="3207" y="1988"/>
                  </a:lnTo>
                  <a:lnTo>
                    <a:pt x="3027" y="1888"/>
                  </a:lnTo>
                  <a:lnTo>
                    <a:pt x="2872" y="1762"/>
                  </a:lnTo>
                  <a:lnTo>
                    <a:pt x="2734" y="1599"/>
                  </a:lnTo>
                  <a:lnTo>
                    <a:pt x="2629" y="1461"/>
                  </a:lnTo>
                  <a:lnTo>
                    <a:pt x="2544" y="1322"/>
                  </a:lnTo>
                  <a:lnTo>
                    <a:pt x="2466" y="1179"/>
                  </a:lnTo>
                  <a:lnTo>
                    <a:pt x="2356" y="964"/>
                  </a:lnTo>
                  <a:lnTo>
                    <a:pt x="2279" y="738"/>
                  </a:lnTo>
                  <a:lnTo>
                    <a:pt x="2751" y="347"/>
                  </a:lnTo>
                  <a:lnTo>
                    <a:pt x="1763" y="60"/>
                  </a:lnTo>
                  <a:lnTo>
                    <a:pt x="1170" y="1716"/>
                  </a:lnTo>
                  <a:lnTo>
                    <a:pt x="1656" y="1265"/>
                  </a:lnTo>
                  <a:lnTo>
                    <a:pt x="1778" y="1491"/>
                  </a:lnTo>
                  <a:lnTo>
                    <a:pt x="1869" y="1626"/>
                  </a:lnTo>
                  <a:lnTo>
                    <a:pt x="1976" y="1768"/>
                  </a:lnTo>
                  <a:lnTo>
                    <a:pt x="2087" y="1894"/>
                  </a:lnTo>
                  <a:lnTo>
                    <a:pt x="2203" y="1992"/>
                  </a:lnTo>
                  <a:lnTo>
                    <a:pt x="2378" y="2108"/>
                  </a:lnTo>
                  <a:lnTo>
                    <a:pt x="1443" y="2108"/>
                  </a:lnTo>
                  <a:lnTo>
                    <a:pt x="1824" y="1808"/>
                  </a:lnTo>
                  <a:lnTo>
                    <a:pt x="0" y="2364"/>
                  </a:lnTo>
                  <a:lnTo>
                    <a:pt x="714" y="2847"/>
                  </a:lnTo>
                  <a:lnTo>
                    <a:pt x="897" y="2636"/>
                  </a:lnTo>
                  <a:lnTo>
                    <a:pt x="3405" y="2636"/>
                  </a:lnTo>
                  <a:lnTo>
                    <a:pt x="3693" y="2590"/>
                  </a:lnTo>
                  <a:lnTo>
                    <a:pt x="3862" y="2500"/>
                  </a:lnTo>
                  <a:lnTo>
                    <a:pt x="4008" y="2395"/>
                  </a:lnTo>
                  <a:lnTo>
                    <a:pt x="4196" y="2274"/>
                  </a:lnTo>
                  <a:lnTo>
                    <a:pt x="4364" y="2138"/>
                  </a:lnTo>
                  <a:lnTo>
                    <a:pt x="4505" y="2004"/>
                  </a:lnTo>
                  <a:lnTo>
                    <a:pt x="4681" y="1822"/>
                  </a:lnTo>
                  <a:lnTo>
                    <a:pt x="4879" y="1596"/>
                  </a:lnTo>
                  <a:lnTo>
                    <a:pt x="4990" y="1426"/>
                  </a:lnTo>
                  <a:lnTo>
                    <a:pt x="5060" y="1271"/>
                  </a:lnTo>
                  <a:lnTo>
                    <a:pt x="5102" y="1151"/>
                  </a:lnTo>
                  <a:lnTo>
                    <a:pt x="5152" y="912"/>
                  </a:lnTo>
                  <a:lnTo>
                    <a:pt x="5186" y="693"/>
                  </a:lnTo>
                  <a:lnTo>
                    <a:pt x="5209" y="527"/>
                  </a:lnTo>
                  <a:lnTo>
                    <a:pt x="5209" y="241"/>
                  </a:lnTo>
                  <a:lnTo>
                    <a:pt x="5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69760" y="3024000"/>
              <a:ext cx="306360" cy="168120"/>
            </a:xfrm>
            <a:custGeom>
              <a:avLst/>
              <a:gdLst/>
              <a:ahLst/>
              <a:rect l="l" t="t" r="r" b="b"/>
              <a:pathLst>
                <a:path w="5209" h="2847">
                  <a:moveTo>
                    <a:pt x="5198" y="0"/>
                  </a:moveTo>
                  <a:lnTo>
                    <a:pt x="4377" y="753"/>
                  </a:lnTo>
                  <a:lnTo>
                    <a:pt x="4393" y="964"/>
                  </a:lnTo>
                  <a:lnTo>
                    <a:pt x="4393" y="1175"/>
                  </a:lnTo>
                  <a:lnTo>
                    <a:pt x="4362" y="1400"/>
                  </a:lnTo>
                  <a:lnTo>
                    <a:pt x="4326" y="1588"/>
                  </a:lnTo>
                  <a:lnTo>
                    <a:pt x="4255" y="1822"/>
                  </a:lnTo>
                  <a:lnTo>
                    <a:pt x="4195" y="1972"/>
                  </a:lnTo>
                  <a:lnTo>
                    <a:pt x="4104" y="2124"/>
                  </a:lnTo>
                  <a:lnTo>
                    <a:pt x="3830" y="2154"/>
                  </a:lnTo>
                  <a:lnTo>
                    <a:pt x="3541" y="2124"/>
                  </a:lnTo>
                  <a:lnTo>
                    <a:pt x="3358" y="2063"/>
                  </a:lnTo>
                  <a:lnTo>
                    <a:pt x="3207" y="1988"/>
                  </a:lnTo>
                  <a:lnTo>
                    <a:pt x="3027" y="1888"/>
                  </a:lnTo>
                  <a:lnTo>
                    <a:pt x="2872" y="1762"/>
                  </a:lnTo>
                  <a:lnTo>
                    <a:pt x="2734" y="1599"/>
                  </a:lnTo>
                  <a:lnTo>
                    <a:pt x="2629" y="1461"/>
                  </a:lnTo>
                  <a:lnTo>
                    <a:pt x="2544" y="1322"/>
                  </a:lnTo>
                  <a:lnTo>
                    <a:pt x="2466" y="1179"/>
                  </a:lnTo>
                  <a:lnTo>
                    <a:pt x="2356" y="964"/>
                  </a:lnTo>
                  <a:lnTo>
                    <a:pt x="2279" y="738"/>
                  </a:lnTo>
                  <a:lnTo>
                    <a:pt x="2751" y="347"/>
                  </a:lnTo>
                  <a:lnTo>
                    <a:pt x="1763" y="60"/>
                  </a:lnTo>
                  <a:lnTo>
                    <a:pt x="1170" y="1716"/>
                  </a:lnTo>
                  <a:lnTo>
                    <a:pt x="1656" y="1265"/>
                  </a:lnTo>
                  <a:lnTo>
                    <a:pt x="1778" y="1491"/>
                  </a:lnTo>
                  <a:lnTo>
                    <a:pt x="1869" y="1626"/>
                  </a:lnTo>
                  <a:lnTo>
                    <a:pt x="1976" y="1768"/>
                  </a:lnTo>
                  <a:lnTo>
                    <a:pt x="2087" y="1894"/>
                  </a:lnTo>
                  <a:lnTo>
                    <a:pt x="2203" y="1992"/>
                  </a:lnTo>
                  <a:lnTo>
                    <a:pt x="2378" y="2108"/>
                  </a:lnTo>
                  <a:lnTo>
                    <a:pt x="1443" y="2108"/>
                  </a:lnTo>
                  <a:lnTo>
                    <a:pt x="1824" y="1808"/>
                  </a:lnTo>
                  <a:lnTo>
                    <a:pt x="0" y="2364"/>
                  </a:lnTo>
                  <a:lnTo>
                    <a:pt x="714" y="2847"/>
                  </a:lnTo>
                  <a:lnTo>
                    <a:pt x="897" y="2636"/>
                  </a:lnTo>
                  <a:lnTo>
                    <a:pt x="3405" y="2636"/>
                  </a:lnTo>
                  <a:lnTo>
                    <a:pt x="3693" y="2590"/>
                  </a:lnTo>
                  <a:lnTo>
                    <a:pt x="3862" y="2500"/>
                  </a:lnTo>
                  <a:lnTo>
                    <a:pt x="4008" y="2395"/>
                  </a:lnTo>
                  <a:lnTo>
                    <a:pt x="4196" y="2274"/>
                  </a:lnTo>
                  <a:lnTo>
                    <a:pt x="4364" y="2138"/>
                  </a:lnTo>
                  <a:lnTo>
                    <a:pt x="4505" y="2004"/>
                  </a:lnTo>
                  <a:lnTo>
                    <a:pt x="4681" y="1822"/>
                  </a:lnTo>
                  <a:lnTo>
                    <a:pt x="4879" y="1596"/>
                  </a:lnTo>
                  <a:lnTo>
                    <a:pt x="4990" y="1426"/>
                  </a:lnTo>
                  <a:lnTo>
                    <a:pt x="5060" y="1271"/>
                  </a:lnTo>
                  <a:lnTo>
                    <a:pt x="5102" y="1151"/>
                  </a:lnTo>
                  <a:lnTo>
                    <a:pt x="5152" y="912"/>
                  </a:lnTo>
                  <a:lnTo>
                    <a:pt x="5186" y="693"/>
                  </a:lnTo>
                  <a:lnTo>
                    <a:pt x="5209" y="527"/>
                  </a:lnTo>
                  <a:lnTo>
                    <a:pt x="5209" y="241"/>
                  </a:lnTo>
                  <a:lnTo>
                    <a:pt x="5198" y="0"/>
                  </a:lnTo>
                  <a:close/>
                </a:path>
              </a:pathLst>
            </a:cu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600120" y="1276200"/>
            <a:ext cx="739800" cy="939960"/>
            <a:chOff x="600120" y="1276200"/>
            <a:chExt cx="739800" cy="939960"/>
          </a:xfrm>
        </p:grpSpPr>
        <p:sp>
          <p:nvSpPr>
            <p:cNvPr id="1698" name=""/>
            <p:cNvSpPr/>
            <p:nvPr/>
          </p:nvSpPr>
          <p:spPr>
            <a:xfrm>
              <a:off x="623880" y="1520640"/>
              <a:ext cx="111240" cy="92160"/>
            </a:xfrm>
            <a:custGeom>
              <a:avLst/>
              <a:gdLst/>
              <a:ahLst/>
              <a:rect l="l" t="t" r="r" b="b"/>
              <a:pathLst>
                <a:path w="1959" h="1618">
                  <a:moveTo>
                    <a:pt x="1959" y="0"/>
                  </a:moveTo>
                  <a:lnTo>
                    <a:pt x="1724" y="0"/>
                  </a:lnTo>
                  <a:lnTo>
                    <a:pt x="0" y="0"/>
                  </a:lnTo>
                  <a:lnTo>
                    <a:pt x="0" y="1618"/>
                  </a:lnTo>
                  <a:lnTo>
                    <a:pt x="1724" y="1613"/>
                  </a:lnTo>
                  <a:lnTo>
                    <a:pt x="1929" y="1613"/>
                  </a:lnTo>
                  <a:lnTo>
                    <a:pt x="19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16040" y="1515960"/>
              <a:ext cx="19080" cy="11160"/>
            </a:xfrm>
            <a:custGeom>
              <a:avLst/>
              <a:gdLst/>
              <a:ahLst/>
              <a:rect l="l" t="t" r="r" b="b"/>
              <a:pathLst>
                <a:path w="343" h="216">
                  <a:moveTo>
                    <a:pt x="108" y="0"/>
                  </a:moveTo>
                  <a:lnTo>
                    <a:pt x="108" y="216"/>
                  </a:lnTo>
                  <a:lnTo>
                    <a:pt x="343" y="216"/>
                  </a:lnTo>
                  <a:lnTo>
                    <a:pt x="343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94" y="0"/>
                  </a:lnTo>
                  <a:lnTo>
                    <a:pt x="82" y="3"/>
                  </a:lnTo>
                  <a:lnTo>
                    <a:pt x="70" y="6"/>
                  </a:lnTo>
                  <a:lnTo>
                    <a:pt x="60" y="10"/>
                  </a:lnTo>
                  <a:lnTo>
                    <a:pt x="51" y="15"/>
                  </a:lnTo>
                  <a:lnTo>
                    <a:pt x="41" y="20"/>
                  </a:lnTo>
                  <a:lnTo>
                    <a:pt x="34" y="26"/>
                  </a:lnTo>
                  <a:lnTo>
                    <a:pt x="27" y="34"/>
                  </a:lnTo>
                  <a:lnTo>
                    <a:pt x="21" y="42"/>
                  </a:lnTo>
                  <a:lnTo>
                    <a:pt x="15" y="50"/>
                  </a:lnTo>
                  <a:lnTo>
                    <a:pt x="10" y="60"/>
                  </a:lnTo>
                  <a:lnTo>
                    <a:pt x="6" y="69"/>
                  </a:lnTo>
                  <a:lnTo>
                    <a:pt x="3" y="78"/>
                  </a:lnTo>
                  <a:lnTo>
                    <a:pt x="1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1" y="128"/>
                  </a:lnTo>
                  <a:lnTo>
                    <a:pt x="3" y="138"/>
                  </a:lnTo>
                  <a:lnTo>
                    <a:pt x="6" y="148"/>
                  </a:lnTo>
                  <a:lnTo>
                    <a:pt x="10" y="157"/>
                  </a:lnTo>
                  <a:lnTo>
                    <a:pt x="15" y="166"/>
                  </a:lnTo>
                  <a:lnTo>
                    <a:pt x="21" y="175"/>
                  </a:lnTo>
                  <a:lnTo>
                    <a:pt x="27" y="182"/>
                  </a:lnTo>
                  <a:lnTo>
                    <a:pt x="34" y="189"/>
                  </a:lnTo>
                  <a:lnTo>
                    <a:pt x="41" y="196"/>
                  </a:lnTo>
                  <a:lnTo>
                    <a:pt x="51" y="201"/>
                  </a:lnTo>
                  <a:lnTo>
                    <a:pt x="60" y="207"/>
                  </a:lnTo>
                  <a:lnTo>
                    <a:pt x="70" y="211"/>
                  </a:lnTo>
                  <a:lnTo>
                    <a:pt x="82" y="213"/>
                  </a:lnTo>
                  <a:lnTo>
                    <a:pt x="94" y="215"/>
                  </a:lnTo>
                  <a:lnTo>
                    <a:pt x="108" y="21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7760" y="1515960"/>
              <a:ext cx="102960" cy="11160"/>
            </a:xfrm>
            <a:custGeom>
              <a:avLst/>
              <a:gdLst/>
              <a:ahLst/>
              <a:rect l="l" t="t" r="r" b="b"/>
              <a:pathLst>
                <a:path w="1831" h="216">
                  <a:moveTo>
                    <a:pt x="0" y="108"/>
                  </a:moveTo>
                  <a:lnTo>
                    <a:pt x="107" y="216"/>
                  </a:lnTo>
                  <a:lnTo>
                    <a:pt x="1831" y="216"/>
                  </a:lnTo>
                  <a:lnTo>
                    <a:pt x="1831" y="0"/>
                  </a:lnTo>
                  <a:lnTo>
                    <a:pt x="107" y="0"/>
                  </a:lnTo>
                  <a:lnTo>
                    <a:pt x="0" y="108"/>
                  </a:lnTo>
                  <a:lnTo>
                    <a:pt x="107" y="0"/>
                  </a:lnTo>
                  <a:lnTo>
                    <a:pt x="94" y="0"/>
                  </a:lnTo>
                  <a:lnTo>
                    <a:pt x="81" y="3"/>
                  </a:lnTo>
                  <a:lnTo>
                    <a:pt x="70" y="6"/>
                  </a:lnTo>
                  <a:lnTo>
                    <a:pt x="60" y="10"/>
                  </a:lnTo>
                  <a:lnTo>
                    <a:pt x="50" y="15"/>
                  </a:lnTo>
                  <a:lnTo>
                    <a:pt x="41" y="20"/>
                  </a:lnTo>
                  <a:lnTo>
                    <a:pt x="34" y="26"/>
                  </a:lnTo>
                  <a:lnTo>
                    <a:pt x="27" y="34"/>
                  </a:lnTo>
                  <a:lnTo>
                    <a:pt x="20" y="42"/>
                  </a:lnTo>
                  <a:lnTo>
                    <a:pt x="14" y="50"/>
                  </a:lnTo>
                  <a:lnTo>
                    <a:pt x="10" y="60"/>
                  </a:lnTo>
                  <a:lnTo>
                    <a:pt x="6" y="69"/>
                  </a:lnTo>
                  <a:lnTo>
                    <a:pt x="3" y="78"/>
                  </a:lnTo>
                  <a:lnTo>
                    <a:pt x="1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1" y="128"/>
                  </a:lnTo>
                  <a:lnTo>
                    <a:pt x="3" y="138"/>
                  </a:lnTo>
                  <a:lnTo>
                    <a:pt x="6" y="148"/>
                  </a:lnTo>
                  <a:lnTo>
                    <a:pt x="10" y="157"/>
                  </a:lnTo>
                  <a:lnTo>
                    <a:pt x="14" y="166"/>
                  </a:lnTo>
                  <a:lnTo>
                    <a:pt x="20" y="175"/>
                  </a:lnTo>
                  <a:lnTo>
                    <a:pt x="27" y="182"/>
                  </a:lnTo>
                  <a:lnTo>
                    <a:pt x="34" y="189"/>
                  </a:lnTo>
                  <a:lnTo>
                    <a:pt x="41" y="196"/>
                  </a:lnTo>
                  <a:lnTo>
                    <a:pt x="50" y="201"/>
                  </a:lnTo>
                  <a:lnTo>
                    <a:pt x="60" y="207"/>
                  </a:lnTo>
                  <a:lnTo>
                    <a:pt x="70" y="211"/>
                  </a:lnTo>
                  <a:lnTo>
                    <a:pt x="81" y="213"/>
                  </a:lnTo>
                  <a:lnTo>
                    <a:pt x="94" y="215"/>
                  </a:lnTo>
                  <a:lnTo>
                    <a:pt x="107" y="216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7760" y="1520640"/>
              <a:ext cx="12600" cy="98640"/>
            </a:xfrm>
            <a:custGeom>
              <a:avLst/>
              <a:gdLst/>
              <a:ahLst/>
              <a:rect l="l" t="t" r="r" b="b"/>
              <a:pathLst>
                <a:path w="215" h="1726">
                  <a:moveTo>
                    <a:pt x="107" y="1726"/>
                  </a:moveTo>
                  <a:lnTo>
                    <a:pt x="215" y="1618"/>
                  </a:lnTo>
                  <a:lnTo>
                    <a:pt x="215" y="0"/>
                  </a:lnTo>
                  <a:lnTo>
                    <a:pt x="0" y="0"/>
                  </a:lnTo>
                  <a:lnTo>
                    <a:pt x="0" y="1618"/>
                  </a:lnTo>
                  <a:lnTo>
                    <a:pt x="107" y="1726"/>
                  </a:lnTo>
                  <a:lnTo>
                    <a:pt x="0" y="1618"/>
                  </a:lnTo>
                  <a:lnTo>
                    <a:pt x="0" y="1631"/>
                  </a:lnTo>
                  <a:lnTo>
                    <a:pt x="2" y="1643"/>
                  </a:lnTo>
                  <a:lnTo>
                    <a:pt x="5" y="1655"/>
                  </a:lnTo>
                  <a:lnTo>
                    <a:pt x="9" y="1665"/>
                  </a:lnTo>
                  <a:lnTo>
                    <a:pt x="13" y="1674"/>
                  </a:lnTo>
                  <a:lnTo>
                    <a:pt x="19" y="1684"/>
                  </a:lnTo>
                  <a:lnTo>
                    <a:pt x="26" y="1692"/>
                  </a:lnTo>
                  <a:lnTo>
                    <a:pt x="33" y="1699"/>
                  </a:lnTo>
                  <a:lnTo>
                    <a:pt x="41" y="1705"/>
                  </a:lnTo>
                  <a:lnTo>
                    <a:pt x="49" y="1711"/>
                  </a:lnTo>
                  <a:lnTo>
                    <a:pt x="58" y="1715"/>
                  </a:lnTo>
                  <a:lnTo>
                    <a:pt x="67" y="1719"/>
                  </a:lnTo>
                  <a:lnTo>
                    <a:pt x="77" y="1722"/>
                  </a:lnTo>
                  <a:lnTo>
                    <a:pt x="87" y="1724"/>
                  </a:lnTo>
                  <a:lnTo>
                    <a:pt x="97" y="1725"/>
                  </a:lnTo>
                  <a:lnTo>
                    <a:pt x="107" y="1726"/>
                  </a:lnTo>
                  <a:lnTo>
                    <a:pt x="117" y="1725"/>
                  </a:lnTo>
                  <a:lnTo>
                    <a:pt x="127" y="1724"/>
                  </a:lnTo>
                  <a:lnTo>
                    <a:pt x="137" y="1722"/>
                  </a:lnTo>
                  <a:lnTo>
                    <a:pt x="147" y="1719"/>
                  </a:lnTo>
                  <a:lnTo>
                    <a:pt x="156" y="1715"/>
                  </a:lnTo>
                  <a:lnTo>
                    <a:pt x="164" y="1711"/>
                  </a:lnTo>
                  <a:lnTo>
                    <a:pt x="174" y="1705"/>
                  </a:lnTo>
                  <a:lnTo>
                    <a:pt x="181" y="1699"/>
                  </a:lnTo>
                  <a:lnTo>
                    <a:pt x="188" y="1692"/>
                  </a:lnTo>
                  <a:lnTo>
                    <a:pt x="194" y="1684"/>
                  </a:lnTo>
                  <a:lnTo>
                    <a:pt x="201" y="1674"/>
                  </a:lnTo>
                  <a:lnTo>
                    <a:pt x="206" y="1665"/>
                  </a:lnTo>
                  <a:lnTo>
                    <a:pt x="210" y="1655"/>
                  </a:lnTo>
                  <a:lnTo>
                    <a:pt x="212" y="1643"/>
                  </a:lnTo>
                  <a:lnTo>
                    <a:pt x="214" y="1631"/>
                  </a:lnTo>
                  <a:lnTo>
                    <a:pt x="215" y="1618"/>
                  </a:lnTo>
                  <a:lnTo>
                    <a:pt x="107" y="172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23880" y="1606680"/>
              <a:ext cx="103320" cy="12600"/>
            </a:xfrm>
            <a:custGeom>
              <a:avLst/>
              <a:gdLst/>
              <a:ahLst/>
              <a:rect l="l" t="t" r="r" b="b"/>
              <a:pathLst>
                <a:path w="1831" h="220">
                  <a:moveTo>
                    <a:pt x="1724" y="215"/>
                  </a:moveTo>
                  <a:lnTo>
                    <a:pt x="1724" y="0"/>
                  </a:lnTo>
                  <a:lnTo>
                    <a:pt x="0" y="5"/>
                  </a:lnTo>
                  <a:lnTo>
                    <a:pt x="0" y="220"/>
                  </a:lnTo>
                  <a:lnTo>
                    <a:pt x="1724" y="215"/>
                  </a:lnTo>
                  <a:lnTo>
                    <a:pt x="1724" y="215"/>
                  </a:lnTo>
                  <a:lnTo>
                    <a:pt x="1724" y="215"/>
                  </a:lnTo>
                  <a:lnTo>
                    <a:pt x="1736" y="215"/>
                  </a:lnTo>
                  <a:lnTo>
                    <a:pt x="1749" y="213"/>
                  </a:lnTo>
                  <a:lnTo>
                    <a:pt x="1760" y="210"/>
                  </a:lnTo>
                  <a:lnTo>
                    <a:pt x="1770" y="206"/>
                  </a:lnTo>
                  <a:lnTo>
                    <a:pt x="1781" y="202"/>
                  </a:lnTo>
                  <a:lnTo>
                    <a:pt x="1789" y="195"/>
                  </a:lnTo>
                  <a:lnTo>
                    <a:pt x="1797" y="189"/>
                  </a:lnTo>
                  <a:lnTo>
                    <a:pt x="1805" y="182"/>
                  </a:lnTo>
                  <a:lnTo>
                    <a:pt x="1811" y="174"/>
                  </a:lnTo>
                  <a:lnTo>
                    <a:pt x="1816" y="165"/>
                  </a:lnTo>
                  <a:lnTo>
                    <a:pt x="1821" y="156"/>
                  </a:lnTo>
                  <a:lnTo>
                    <a:pt x="1824" y="147"/>
                  </a:lnTo>
                  <a:lnTo>
                    <a:pt x="1827" y="137"/>
                  </a:lnTo>
                  <a:lnTo>
                    <a:pt x="1829" y="128"/>
                  </a:lnTo>
                  <a:lnTo>
                    <a:pt x="1830" y="118"/>
                  </a:lnTo>
                  <a:lnTo>
                    <a:pt x="1831" y="107"/>
                  </a:lnTo>
                  <a:lnTo>
                    <a:pt x="1830" y="97"/>
                  </a:lnTo>
                  <a:lnTo>
                    <a:pt x="1829" y="88"/>
                  </a:lnTo>
                  <a:lnTo>
                    <a:pt x="1827" y="77"/>
                  </a:lnTo>
                  <a:lnTo>
                    <a:pt x="1824" y="68"/>
                  </a:lnTo>
                  <a:lnTo>
                    <a:pt x="1821" y="59"/>
                  </a:lnTo>
                  <a:lnTo>
                    <a:pt x="1816" y="49"/>
                  </a:lnTo>
                  <a:lnTo>
                    <a:pt x="1811" y="41"/>
                  </a:lnTo>
                  <a:lnTo>
                    <a:pt x="1805" y="34"/>
                  </a:lnTo>
                  <a:lnTo>
                    <a:pt x="1797" y="26"/>
                  </a:lnTo>
                  <a:lnTo>
                    <a:pt x="1789" y="19"/>
                  </a:lnTo>
                  <a:lnTo>
                    <a:pt x="1781" y="14"/>
                  </a:lnTo>
                  <a:lnTo>
                    <a:pt x="1770" y="9"/>
                  </a:lnTo>
                  <a:lnTo>
                    <a:pt x="1760" y="5"/>
                  </a:lnTo>
                  <a:lnTo>
                    <a:pt x="1749" y="2"/>
                  </a:lnTo>
                  <a:lnTo>
                    <a:pt x="1736" y="1"/>
                  </a:lnTo>
                  <a:lnTo>
                    <a:pt x="1724" y="0"/>
                  </a:lnTo>
                  <a:lnTo>
                    <a:pt x="1724" y="2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20720" y="1606680"/>
              <a:ext cx="19080" cy="12600"/>
            </a:xfrm>
            <a:custGeom>
              <a:avLst/>
              <a:gdLst/>
              <a:ahLst/>
              <a:rect l="l" t="t" r="r" b="b"/>
              <a:pathLst>
                <a:path w="313" h="215">
                  <a:moveTo>
                    <a:pt x="312" y="109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215"/>
                  </a:lnTo>
                  <a:lnTo>
                    <a:pt x="205" y="215"/>
                  </a:lnTo>
                  <a:lnTo>
                    <a:pt x="312" y="109"/>
                  </a:lnTo>
                  <a:lnTo>
                    <a:pt x="205" y="215"/>
                  </a:lnTo>
                  <a:lnTo>
                    <a:pt x="217" y="215"/>
                  </a:lnTo>
                  <a:lnTo>
                    <a:pt x="230" y="213"/>
                  </a:lnTo>
                  <a:lnTo>
                    <a:pt x="241" y="210"/>
                  </a:lnTo>
                  <a:lnTo>
                    <a:pt x="251" y="206"/>
                  </a:lnTo>
                  <a:lnTo>
                    <a:pt x="261" y="202"/>
                  </a:lnTo>
                  <a:lnTo>
                    <a:pt x="270" y="195"/>
                  </a:lnTo>
                  <a:lnTo>
                    <a:pt x="278" y="189"/>
                  </a:lnTo>
                  <a:lnTo>
                    <a:pt x="285" y="182"/>
                  </a:lnTo>
                  <a:lnTo>
                    <a:pt x="292" y="174"/>
                  </a:lnTo>
                  <a:lnTo>
                    <a:pt x="297" y="165"/>
                  </a:lnTo>
                  <a:lnTo>
                    <a:pt x="301" y="156"/>
                  </a:lnTo>
                  <a:lnTo>
                    <a:pt x="305" y="147"/>
                  </a:lnTo>
                  <a:lnTo>
                    <a:pt x="308" y="137"/>
                  </a:lnTo>
                  <a:lnTo>
                    <a:pt x="310" y="128"/>
                  </a:lnTo>
                  <a:lnTo>
                    <a:pt x="312" y="118"/>
                  </a:lnTo>
                  <a:lnTo>
                    <a:pt x="313" y="107"/>
                  </a:lnTo>
                  <a:lnTo>
                    <a:pt x="312" y="97"/>
                  </a:lnTo>
                  <a:lnTo>
                    <a:pt x="310" y="88"/>
                  </a:lnTo>
                  <a:lnTo>
                    <a:pt x="308" y="77"/>
                  </a:lnTo>
                  <a:lnTo>
                    <a:pt x="305" y="68"/>
                  </a:lnTo>
                  <a:lnTo>
                    <a:pt x="301" y="59"/>
                  </a:lnTo>
                  <a:lnTo>
                    <a:pt x="297" y="49"/>
                  </a:lnTo>
                  <a:lnTo>
                    <a:pt x="292" y="41"/>
                  </a:lnTo>
                  <a:lnTo>
                    <a:pt x="285" y="34"/>
                  </a:lnTo>
                  <a:lnTo>
                    <a:pt x="278" y="26"/>
                  </a:lnTo>
                  <a:lnTo>
                    <a:pt x="270" y="19"/>
                  </a:lnTo>
                  <a:lnTo>
                    <a:pt x="261" y="14"/>
                  </a:lnTo>
                  <a:lnTo>
                    <a:pt x="251" y="9"/>
                  </a:lnTo>
                  <a:lnTo>
                    <a:pt x="241" y="5"/>
                  </a:lnTo>
                  <a:lnTo>
                    <a:pt x="230" y="2"/>
                  </a:lnTo>
                  <a:lnTo>
                    <a:pt x="217" y="1"/>
                  </a:lnTo>
                  <a:lnTo>
                    <a:pt x="205" y="0"/>
                  </a:lnTo>
                  <a:lnTo>
                    <a:pt x="312" y="10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27200" y="1515960"/>
              <a:ext cx="14040" cy="96840"/>
            </a:xfrm>
            <a:custGeom>
              <a:avLst/>
              <a:gdLst/>
              <a:ahLst/>
              <a:rect l="l" t="t" r="r" b="b"/>
              <a:pathLst>
                <a:path w="246" h="1723">
                  <a:moveTo>
                    <a:pt x="138" y="0"/>
                  </a:moveTo>
                  <a:lnTo>
                    <a:pt x="31" y="106"/>
                  </a:lnTo>
                  <a:lnTo>
                    <a:pt x="0" y="1719"/>
                  </a:lnTo>
                  <a:lnTo>
                    <a:pt x="215" y="1723"/>
                  </a:lnTo>
                  <a:lnTo>
                    <a:pt x="246" y="109"/>
                  </a:lnTo>
                  <a:lnTo>
                    <a:pt x="138" y="0"/>
                  </a:lnTo>
                  <a:lnTo>
                    <a:pt x="246" y="109"/>
                  </a:lnTo>
                  <a:lnTo>
                    <a:pt x="245" y="97"/>
                  </a:lnTo>
                  <a:lnTo>
                    <a:pt x="244" y="84"/>
                  </a:lnTo>
                  <a:lnTo>
                    <a:pt x="240" y="73"/>
                  </a:lnTo>
                  <a:lnTo>
                    <a:pt x="236" y="63"/>
                  </a:lnTo>
                  <a:lnTo>
                    <a:pt x="232" y="53"/>
                  </a:lnTo>
                  <a:lnTo>
                    <a:pt x="226" y="44"/>
                  </a:lnTo>
                  <a:lnTo>
                    <a:pt x="220" y="36"/>
                  </a:lnTo>
                  <a:lnTo>
                    <a:pt x="212" y="28"/>
                  </a:lnTo>
                  <a:lnTo>
                    <a:pt x="205" y="22"/>
                  </a:lnTo>
                  <a:lnTo>
                    <a:pt x="197" y="17"/>
                  </a:lnTo>
                  <a:lnTo>
                    <a:pt x="188" y="12"/>
                  </a:lnTo>
                  <a:lnTo>
                    <a:pt x="179" y="8"/>
                  </a:lnTo>
                  <a:lnTo>
                    <a:pt x="169" y="5"/>
                  </a:lnTo>
                  <a:lnTo>
                    <a:pt x="160" y="3"/>
                  </a:lnTo>
                  <a:lnTo>
                    <a:pt x="149" y="2"/>
                  </a:lnTo>
                  <a:lnTo>
                    <a:pt x="140" y="0"/>
                  </a:lnTo>
                  <a:lnTo>
                    <a:pt x="130" y="2"/>
                  </a:lnTo>
                  <a:lnTo>
                    <a:pt x="119" y="3"/>
                  </a:lnTo>
                  <a:lnTo>
                    <a:pt x="110" y="5"/>
                  </a:lnTo>
                  <a:lnTo>
                    <a:pt x="101" y="7"/>
                  </a:lnTo>
                  <a:lnTo>
                    <a:pt x="90" y="11"/>
                  </a:lnTo>
                  <a:lnTo>
                    <a:pt x="82" y="15"/>
                  </a:lnTo>
                  <a:lnTo>
                    <a:pt x="74" y="20"/>
                  </a:lnTo>
                  <a:lnTo>
                    <a:pt x="65" y="26"/>
                  </a:lnTo>
                  <a:lnTo>
                    <a:pt x="58" y="34"/>
                  </a:lnTo>
                  <a:lnTo>
                    <a:pt x="52" y="41"/>
                  </a:lnTo>
                  <a:lnTo>
                    <a:pt x="46" y="50"/>
                  </a:lnTo>
                  <a:lnTo>
                    <a:pt x="41" y="60"/>
                  </a:lnTo>
                  <a:lnTo>
                    <a:pt x="36" y="70"/>
                  </a:lnTo>
                  <a:lnTo>
                    <a:pt x="33" y="81"/>
                  </a:lnTo>
                  <a:lnTo>
                    <a:pt x="31" y="94"/>
                  </a:lnTo>
                  <a:lnTo>
                    <a:pt x="31" y="106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198440" y="1520640"/>
              <a:ext cx="135000" cy="181080"/>
            </a:xfrm>
            <a:custGeom>
              <a:avLst/>
              <a:gdLst/>
              <a:ahLst/>
              <a:rect l="l" t="t" r="r" b="b"/>
              <a:pathLst>
                <a:path w="2382" h="3167">
                  <a:moveTo>
                    <a:pt x="149" y="1613"/>
                  </a:moveTo>
                  <a:lnTo>
                    <a:pt x="379" y="1613"/>
                  </a:lnTo>
                  <a:lnTo>
                    <a:pt x="537" y="1617"/>
                  </a:lnTo>
                  <a:lnTo>
                    <a:pt x="686" y="1631"/>
                  </a:lnTo>
                  <a:lnTo>
                    <a:pt x="828" y="1652"/>
                  </a:lnTo>
                  <a:lnTo>
                    <a:pt x="961" y="1681"/>
                  </a:lnTo>
                  <a:lnTo>
                    <a:pt x="1087" y="1716"/>
                  </a:lnTo>
                  <a:lnTo>
                    <a:pt x="1205" y="1757"/>
                  </a:lnTo>
                  <a:lnTo>
                    <a:pt x="1317" y="1804"/>
                  </a:lnTo>
                  <a:lnTo>
                    <a:pt x="1420" y="1856"/>
                  </a:lnTo>
                  <a:lnTo>
                    <a:pt x="1517" y="1913"/>
                  </a:lnTo>
                  <a:lnTo>
                    <a:pt x="1609" y="1974"/>
                  </a:lnTo>
                  <a:lnTo>
                    <a:pt x="1694" y="2038"/>
                  </a:lnTo>
                  <a:lnTo>
                    <a:pt x="1771" y="2105"/>
                  </a:lnTo>
                  <a:lnTo>
                    <a:pt x="1844" y="2175"/>
                  </a:lnTo>
                  <a:lnTo>
                    <a:pt x="1911" y="2245"/>
                  </a:lnTo>
                  <a:lnTo>
                    <a:pt x="1972" y="2318"/>
                  </a:lnTo>
                  <a:lnTo>
                    <a:pt x="2028" y="2390"/>
                  </a:lnTo>
                  <a:lnTo>
                    <a:pt x="2079" y="2463"/>
                  </a:lnTo>
                  <a:lnTo>
                    <a:pt x="2125" y="2535"/>
                  </a:lnTo>
                  <a:lnTo>
                    <a:pt x="2167" y="2606"/>
                  </a:lnTo>
                  <a:lnTo>
                    <a:pt x="2203" y="2675"/>
                  </a:lnTo>
                  <a:lnTo>
                    <a:pt x="2236" y="2743"/>
                  </a:lnTo>
                  <a:lnTo>
                    <a:pt x="2265" y="2807"/>
                  </a:lnTo>
                  <a:lnTo>
                    <a:pt x="2290" y="2868"/>
                  </a:lnTo>
                  <a:lnTo>
                    <a:pt x="2312" y="2925"/>
                  </a:lnTo>
                  <a:lnTo>
                    <a:pt x="2330" y="2977"/>
                  </a:lnTo>
                  <a:lnTo>
                    <a:pt x="2345" y="3023"/>
                  </a:lnTo>
                  <a:lnTo>
                    <a:pt x="2357" y="3065"/>
                  </a:lnTo>
                  <a:lnTo>
                    <a:pt x="2367" y="3100"/>
                  </a:lnTo>
                  <a:lnTo>
                    <a:pt x="2378" y="3150"/>
                  </a:lnTo>
                  <a:lnTo>
                    <a:pt x="2382" y="3167"/>
                  </a:lnTo>
                  <a:lnTo>
                    <a:pt x="2382" y="1553"/>
                  </a:lnTo>
                  <a:lnTo>
                    <a:pt x="2378" y="1537"/>
                  </a:lnTo>
                  <a:lnTo>
                    <a:pt x="2367" y="1487"/>
                  </a:lnTo>
                  <a:lnTo>
                    <a:pt x="2357" y="1452"/>
                  </a:lnTo>
                  <a:lnTo>
                    <a:pt x="2345" y="1410"/>
                  </a:lnTo>
                  <a:lnTo>
                    <a:pt x="2330" y="1364"/>
                  </a:lnTo>
                  <a:lnTo>
                    <a:pt x="2312" y="1311"/>
                  </a:lnTo>
                  <a:lnTo>
                    <a:pt x="2290" y="1254"/>
                  </a:lnTo>
                  <a:lnTo>
                    <a:pt x="2265" y="1194"/>
                  </a:lnTo>
                  <a:lnTo>
                    <a:pt x="2236" y="1129"/>
                  </a:lnTo>
                  <a:lnTo>
                    <a:pt x="2204" y="1062"/>
                  </a:lnTo>
                  <a:lnTo>
                    <a:pt x="2167" y="993"/>
                  </a:lnTo>
                  <a:lnTo>
                    <a:pt x="2125" y="922"/>
                  </a:lnTo>
                  <a:lnTo>
                    <a:pt x="2079" y="850"/>
                  </a:lnTo>
                  <a:lnTo>
                    <a:pt x="2028" y="777"/>
                  </a:lnTo>
                  <a:lnTo>
                    <a:pt x="1972" y="704"/>
                  </a:lnTo>
                  <a:lnTo>
                    <a:pt x="1911" y="632"/>
                  </a:lnTo>
                  <a:lnTo>
                    <a:pt x="1845" y="561"/>
                  </a:lnTo>
                  <a:lnTo>
                    <a:pt x="1772" y="491"/>
                  </a:lnTo>
                  <a:lnTo>
                    <a:pt x="1694" y="425"/>
                  </a:lnTo>
                  <a:lnTo>
                    <a:pt x="1609" y="361"/>
                  </a:lnTo>
                  <a:lnTo>
                    <a:pt x="1518" y="300"/>
                  </a:lnTo>
                  <a:lnTo>
                    <a:pt x="1421" y="243"/>
                  </a:lnTo>
                  <a:lnTo>
                    <a:pt x="1317" y="191"/>
                  </a:lnTo>
                  <a:lnTo>
                    <a:pt x="1206" y="143"/>
                  </a:lnTo>
                  <a:lnTo>
                    <a:pt x="1087" y="102"/>
                  </a:lnTo>
                  <a:lnTo>
                    <a:pt x="961" y="67"/>
                  </a:lnTo>
                  <a:lnTo>
                    <a:pt x="828" y="39"/>
                  </a:lnTo>
                  <a:lnTo>
                    <a:pt x="686" y="18"/>
                  </a:lnTo>
                  <a:lnTo>
                    <a:pt x="537" y="4"/>
                  </a:lnTo>
                  <a:lnTo>
                    <a:pt x="379" y="0"/>
                  </a:lnTo>
                  <a:lnTo>
                    <a:pt x="0" y="0"/>
                  </a:lnTo>
                  <a:lnTo>
                    <a:pt x="149" y="16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206720" y="1606680"/>
              <a:ext cx="18720" cy="12600"/>
            </a:xfrm>
            <a:custGeom>
              <a:avLst/>
              <a:gdLst/>
              <a:ahLst/>
              <a:rect l="l" t="t" r="r" b="b"/>
              <a:pathLst>
                <a:path w="338" h="215">
                  <a:moveTo>
                    <a:pt x="230" y="215"/>
                  </a:moveTo>
                  <a:lnTo>
                    <a:pt x="230" y="0"/>
                  </a:lnTo>
                  <a:lnTo>
                    <a:pt x="0" y="0"/>
                  </a:lnTo>
                  <a:lnTo>
                    <a:pt x="0" y="215"/>
                  </a:lnTo>
                  <a:lnTo>
                    <a:pt x="230" y="215"/>
                  </a:lnTo>
                  <a:lnTo>
                    <a:pt x="230" y="215"/>
                  </a:lnTo>
                  <a:lnTo>
                    <a:pt x="230" y="215"/>
                  </a:lnTo>
                  <a:lnTo>
                    <a:pt x="243" y="215"/>
                  </a:lnTo>
                  <a:lnTo>
                    <a:pt x="255" y="213"/>
                  </a:lnTo>
                  <a:lnTo>
                    <a:pt x="266" y="210"/>
                  </a:lnTo>
                  <a:lnTo>
                    <a:pt x="277" y="206"/>
                  </a:lnTo>
                  <a:lnTo>
                    <a:pt x="287" y="202"/>
                  </a:lnTo>
                  <a:lnTo>
                    <a:pt x="295" y="195"/>
                  </a:lnTo>
                  <a:lnTo>
                    <a:pt x="304" y="189"/>
                  </a:lnTo>
                  <a:lnTo>
                    <a:pt x="311" y="182"/>
                  </a:lnTo>
                  <a:lnTo>
                    <a:pt x="317" y="174"/>
                  </a:lnTo>
                  <a:lnTo>
                    <a:pt x="322" y="165"/>
                  </a:lnTo>
                  <a:lnTo>
                    <a:pt x="328" y="156"/>
                  </a:lnTo>
                  <a:lnTo>
                    <a:pt x="331" y="147"/>
                  </a:lnTo>
                  <a:lnTo>
                    <a:pt x="334" y="137"/>
                  </a:lnTo>
                  <a:lnTo>
                    <a:pt x="336" y="128"/>
                  </a:lnTo>
                  <a:lnTo>
                    <a:pt x="337" y="118"/>
                  </a:lnTo>
                  <a:lnTo>
                    <a:pt x="338" y="107"/>
                  </a:lnTo>
                  <a:lnTo>
                    <a:pt x="337" y="97"/>
                  </a:lnTo>
                  <a:lnTo>
                    <a:pt x="336" y="88"/>
                  </a:lnTo>
                  <a:lnTo>
                    <a:pt x="334" y="77"/>
                  </a:lnTo>
                  <a:lnTo>
                    <a:pt x="331" y="68"/>
                  </a:lnTo>
                  <a:lnTo>
                    <a:pt x="328" y="59"/>
                  </a:lnTo>
                  <a:lnTo>
                    <a:pt x="322" y="49"/>
                  </a:lnTo>
                  <a:lnTo>
                    <a:pt x="317" y="41"/>
                  </a:lnTo>
                  <a:lnTo>
                    <a:pt x="311" y="34"/>
                  </a:lnTo>
                  <a:lnTo>
                    <a:pt x="304" y="26"/>
                  </a:lnTo>
                  <a:lnTo>
                    <a:pt x="295" y="19"/>
                  </a:lnTo>
                  <a:lnTo>
                    <a:pt x="287" y="14"/>
                  </a:lnTo>
                  <a:lnTo>
                    <a:pt x="277" y="9"/>
                  </a:lnTo>
                  <a:lnTo>
                    <a:pt x="266" y="5"/>
                  </a:lnTo>
                  <a:lnTo>
                    <a:pt x="255" y="2"/>
                  </a:lnTo>
                  <a:lnTo>
                    <a:pt x="243" y="1"/>
                  </a:lnTo>
                  <a:lnTo>
                    <a:pt x="230" y="0"/>
                  </a:lnTo>
                  <a:lnTo>
                    <a:pt x="230" y="2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220760" y="1606680"/>
              <a:ext cx="119160" cy="99720"/>
            </a:xfrm>
            <a:custGeom>
              <a:avLst/>
              <a:gdLst/>
              <a:ahLst/>
              <a:rect l="l" t="t" r="r" b="b"/>
              <a:pathLst>
                <a:path w="2111" h="1769">
                  <a:moveTo>
                    <a:pt x="1896" y="1661"/>
                  </a:moveTo>
                  <a:lnTo>
                    <a:pt x="2109" y="1643"/>
                  </a:lnTo>
                  <a:lnTo>
                    <a:pt x="2104" y="1620"/>
                  </a:lnTo>
                  <a:lnTo>
                    <a:pt x="2092" y="1568"/>
                  </a:lnTo>
                  <a:lnTo>
                    <a:pt x="2082" y="1530"/>
                  </a:lnTo>
                  <a:lnTo>
                    <a:pt x="2069" y="1486"/>
                  </a:lnTo>
                  <a:lnTo>
                    <a:pt x="2053" y="1436"/>
                  </a:lnTo>
                  <a:lnTo>
                    <a:pt x="2033" y="1382"/>
                  </a:lnTo>
                  <a:lnTo>
                    <a:pt x="2011" y="1323"/>
                  </a:lnTo>
                  <a:lnTo>
                    <a:pt x="1985" y="1259"/>
                  </a:lnTo>
                  <a:lnTo>
                    <a:pt x="1970" y="1225"/>
                  </a:lnTo>
                  <a:lnTo>
                    <a:pt x="1955" y="1191"/>
                  </a:lnTo>
                  <a:lnTo>
                    <a:pt x="1938" y="1157"/>
                  </a:lnTo>
                  <a:lnTo>
                    <a:pt x="1920" y="1120"/>
                  </a:lnTo>
                  <a:lnTo>
                    <a:pt x="1901" y="1084"/>
                  </a:lnTo>
                  <a:lnTo>
                    <a:pt x="1881" y="1048"/>
                  </a:lnTo>
                  <a:lnTo>
                    <a:pt x="1860" y="1011"/>
                  </a:lnTo>
                  <a:lnTo>
                    <a:pt x="1838" y="973"/>
                  </a:lnTo>
                  <a:lnTo>
                    <a:pt x="1814" y="936"/>
                  </a:lnTo>
                  <a:lnTo>
                    <a:pt x="1789" y="898"/>
                  </a:lnTo>
                  <a:lnTo>
                    <a:pt x="1763" y="859"/>
                  </a:lnTo>
                  <a:lnTo>
                    <a:pt x="1736" y="821"/>
                  </a:lnTo>
                  <a:lnTo>
                    <a:pt x="1707" y="783"/>
                  </a:lnTo>
                  <a:lnTo>
                    <a:pt x="1677" y="743"/>
                  </a:lnTo>
                  <a:lnTo>
                    <a:pt x="1645" y="706"/>
                  </a:lnTo>
                  <a:lnTo>
                    <a:pt x="1612" y="668"/>
                  </a:lnTo>
                  <a:lnTo>
                    <a:pt x="1578" y="630"/>
                  </a:lnTo>
                  <a:lnTo>
                    <a:pt x="1541" y="593"/>
                  </a:lnTo>
                  <a:lnTo>
                    <a:pt x="1504" y="556"/>
                  </a:lnTo>
                  <a:lnTo>
                    <a:pt x="1465" y="520"/>
                  </a:lnTo>
                  <a:lnTo>
                    <a:pt x="1424" y="483"/>
                  </a:lnTo>
                  <a:lnTo>
                    <a:pt x="1382" y="448"/>
                  </a:lnTo>
                  <a:lnTo>
                    <a:pt x="1337" y="414"/>
                  </a:lnTo>
                  <a:lnTo>
                    <a:pt x="1292" y="381"/>
                  </a:lnTo>
                  <a:lnTo>
                    <a:pt x="1245" y="348"/>
                  </a:lnTo>
                  <a:lnTo>
                    <a:pt x="1195" y="316"/>
                  </a:lnTo>
                  <a:lnTo>
                    <a:pt x="1146" y="285"/>
                  </a:lnTo>
                  <a:lnTo>
                    <a:pt x="1093" y="255"/>
                  </a:lnTo>
                  <a:lnTo>
                    <a:pt x="1038" y="227"/>
                  </a:lnTo>
                  <a:lnTo>
                    <a:pt x="982" y="201"/>
                  </a:lnTo>
                  <a:lnTo>
                    <a:pt x="924" y="175"/>
                  </a:lnTo>
                  <a:lnTo>
                    <a:pt x="865" y="151"/>
                  </a:lnTo>
                  <a:lnTo>
                    <a:pt x="803" y="128"/>
                  </a:lnTo>
                  <a:lnTo>
                    <a:pt x="740" y="106"/>
                  </a:lnTo>
                  <a:lnTo>
                    <a:pt x="674" y="88"/>
                  </a:lnTo>
                  <a:lnTo>
                    <a:pt x="607" y="70"/>
                  </a:lnTo>
                  <a:lnTo>
                    <a:pt x="539" y="54"/>
                  </a:lnTo>
                  <a:lnTo>
                    <a:pt x="468" y="40"/>
                  </a:lnTo>
                  <a:lnTo>
                    <a:pt x="431" y="34"/>
                  </a:lnTo>
                  <a:lnTo>
                    <a:pt x="394" y="28"/>
                  </a:lnTo>
                  <a:lnTo>
                    <a:pt x="356" y="23"/>
                  </a:lnTo>
                  <a:lnTo>
                    <a:pt x="319" y="18"/>
                  </a:lnTo>
                  <a:lnTo>
                    <a:pt x="281" y="14"/>
                  </a:lnTo>
                  <a:lnTo>
                    <a:pt x="243" y="10"/>
                  </a:lnTo>
                  <a:lnTo>
                    <a:pt x="203" y="7"/>
                  </a:lnTo>
                  <a:lnTo>
                    <a:pt x="164" y="5"/>
                  </a:lnTo>
                  <a:lnTo>
                    <a:pt x="123" y="3"/>
                  </a:lnTo>
                  <a:lnTo>
                    <a:pt x="83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15"/>
                  </a:lnTo>
                  <a:lnTo>
                    <a:pt x="39" y="215"/>
                  </a:lnTo>
                  <a:lnTo>
                    <a:pt x="77" y="216"/>
                  </a:lnTo>
                  <a:lnTo>
                    <a:pt x="115" y="217"/>
                  </a:lnTo>
                  <a:lnTo>
                    <a:pt x="151" y="219"/>
                  </a:lnTo>
                  <a:lnTo>
                    <a:pt x="189" y="221"/>
                  </a:lnTo>
                  <a:lnTo>
                    <a:pt x="224" y="224"/>
                  </a:lnTo>
                  <a:lnTo>
                    <a:pt x="260" y="227"/>
                  </a:lnTo>
                  <a:lnTo>
                    <a:pt x="294" y="232"/>
                  </a:lnTo>
                  <a:lnTo>
                    <a:pt x="330" y="236"/>
                  </a:lnTo>
                  <a:lnTo>
                    <a:pt x="363" y="241"/>
                  </a:lnTo>
                  <a:lnTo>
                    <a:pt x="397" y="246"/>
                  </a:lnTo>
                  <a:lnTo>
                    <a:pt x="429" y="251"/>
                  </a:lnTo>
                  <a:lnTo>
                    <a:pt x="494" y="265"/>
                  </a:lnTo>
                  <a:lnTo>
                    <a:pt x="556" y="278"/>
                  </a:lnTo>
                  <a:lnTo>
                    <a:pt x="616" y="295"/>
                  </a:lnTo>
                  <a:lnTo>
                    <a:pt x="675" y="312"/>
                  </a:lnTo>
                  <a:lnTo>
                    <a:pt x="732" y="331"/>
                  </a:lnTo>
                  <a:lnTo>
                    <a:pt x="787" y="351"/>
                  </a:lnTo>
                  <a:lnTo>
                    <a:pt x="841" y="372"/>
                  </a:lnTo>
                  <a:lnTo>
                    <a:pt x="892" y="395"/>
                  </a:lnTo>
                  <a:lnTo>
                    <a:pt x="943" y="419"/>
                  </a:lnTo>
                  <a:lnTo>
                    <a:pt x="990" y="445"/>
                  </a:lnTo>
                  <a:lnTo>
                    <a:pt x="1037" y="471"/>
                  </a:lnTo>
                  <a:lnTo>
                    <a:pt x="1083" y="498"/>
                  </a:lnTo>
                  <a:lnTo>
                    <a:pt x="1125" y="526"/>
                  </a:lnTo>
                  <a:lnTo>
                    <a:pt x="1167" y="556"/>
                  </a:lnTo>
                  <a:lnTo>
                    <a:pt x="1208" y="585"/>
                  </a:lnTo>
                  <a:lnTo>
                    <a:pt x="1247" y="616"/>
                  </a:lnTo>
                  <a:lnTo>
                    <a:pt x="1284" y="647"/>
                  </a:lnTo>
                  <a:lnTo>
                    <a:pt x="1321" y="678"/>
                  </a:lnTo>
                  <a:lnTo>
                    <a:pt x="1355" y="711"/>
                  </a:lnTo>
                  <a:lnTo>
                    <a:pt x="1389" y="744"/>
                  </a:lnTo>
                  <a:lnTo>
                    <a:pt x="1421" y="778"/>
                  </a:lnTo>
                  <a:lnTo>
                    <a:pt x="1452" y="811"/>
                  </a:lnTo>
                  <a:lnTo>
                    <a:pt x="1481" y="845"/>
                  </a:lnTo>
                  <a:lnTo>
                    <a:pt x="1509" y="879"/>
                  </a:lnTo>
                  <a:lnTo>
                    <a:pt x="1537" y="913"/>
                  </a:lnTo>
                  <a:lnTo>
                    <a:pt x="1562" y="947"/>
                  </a:lnTo>
                  <a:lnTo>
                    <a:pt x="1587" y="982"/>
                  </a:lnTo>
                  <a:lnTo>
                    <a:pt x="1611" y="1017"/>
                  </a:lnTo>
                  <a:lnTo>
                    <a:pt x="1634" y="1051"/>
                  </a:lnTo>
                  <a:lnTo>
                    <a:pt x="1654" y="1085"/>
                  </a:lnTo>
                  <a:lnTo>
                    <a:pt x="1674" y="1118"/>
                  </a:lnTo>
                  <a:lnTo>
                    <a:pt x="1694" y="1153"/>
                  </a:lnTo>
                  <a:lnTo>
                    <a:pt x="1712" y="1186"/>
                  </a:lnTo>
                  <a:lnTo>
                    <a:pt x="1729" y="1218"/>
                  </a:lnTo>
                  <a:lnTo>
                    <a:pt x="1745" y="1251"/>
                  </a:lnTo>
                  <a:lnTo>
                    <a:pt x="1760" y="1282"/>
                  </a:lnTo>
                  <a:lnTo>
                    <a:pt x="1774" y="1313"/>
                  </a:lnTo>
                  <a:lnTo>
                    <a:pt x="1788" y="1342"/>
                  </a:lnTo>
                  <a:lnTo>
                    <a:pt x="1812" y="1401"/>
                  </a:lnTo>
                  <a:lnTo>
                    <a:pt x="1832" y="1455"/>
                  </a:lnTo>
                  <a:lnTo>
                    <a:pt x="1849" y="1505"/>
                  </a:lnTo>
                  <a:lnTo>
                    <a:pt x="1863" y="1549"/>
                  </a:lnTo>
                  <a:lnTo>
                    <a:pt x="1875" y="1589"/>
                  </a:lnTo>
                  <a:lnTo>
                    <a:pt x="1883" y="1621"/>
                  </a:lnTo>
                  <a:lnTo>
                    <a:pt x="1895" y="1667"/>
                  </a:lnTo>
                  <a:lnTo>
                    <a:pt x="1897" y="1680"/>
                  </a:lnTo>
                  <a:lnTo>
                    <a:pt x="2111" y="1661"/>
                  </a:lnTo>
                  <a:lnTo>
                    <a:pt x="1897" y="1680"/>
                  </a:lnTo>
                  <a:lnTo>
                    <a:pt x="1900" y="1692"/>
                  </a:lnTo>
                  <a:lnTo>
                    <a:pt x="1904" y="1704"/>
                  </a:lnTo>
                  <a:lnTo>
                    <a:pt x="1908" y="1715"/>
                  </a:lnTo>
                  <a:lnTo>
                    <a:pt x="1914" y="1724"/>
                  </a:lnTo>
                  <a:lnTo>
                    <a:pt x="1920" y="1733"/>
                  </a:lnTo>
                  <a:lnTo>
                    <a:pt x="1928" y="1741"/>
                  </a:lnTo>
                  <a:lnTo>
                    <a:pt x="1936" y="1747"/>
                  </a:lnTo>
                  <a:lnTo>
                    <a:pt x="1944" y="1753"/>
                  </a:lnTo>
                  <a:lnTo>
                    <a:pt x="1953" y="1759"/>
                  </a:lnTo>
                  <a:lnTo>
                    <a:pt x="1962" y="1762"/>
                  </a:lnTo>
                  <a:lnTo>
                    <a:pt x="1971" y="1765"/>
                  </a:lnTo>
                  <a:lnTo>
                    <a:pt x="1982" y="1767"/>
                  </a:lnTo>
                  <a:lnTo>
                    <a:pt x="1991" y="1769"/>
                  </a:lnTo>
                  <a:lnTo>
                    <a:pt x="2001" y="1769"/>
                  </a:lnTo>
                  <a:lnTo>
                    <a:pt x="2012" y="1768"/>
                  </a:lnTo>
                  <a:lnTo>
                    <a:pt x="2022" y="1767"/>
                  </a:lnTo>
                  <a:lnTo>
                    <a:pt x="2031" y="1765"/>
                  </a:lnTo>
                  <a:lnTo>
                    <a:pt x="2041" y="1762"/>
                  </a:lnTo>
                  <a:lnTo>
                    <a:pt x="2050" y="1759"/>
                  </a:lnTo>
                  <a:lnTo>
                    <a:pt x="2059" y="1753"/>
                  </a:lnTo>
                  <a:lnTo>
                    <a:pt x="2067" y="1748"/>
                  </a:lnTo>
                  <a:lnTo>
                    <a:pt x="2076" y="1742"/>
                  </a:lnTo>
                  <a:lnTo>
                    <a:pt x="2083" y="1736"/>
                  </a:lnTo>
                  <a:lnTo>
                    <a:pt x="2089" y="1728"/>
                  </a:lnTo>
                  <a:lnTo>
                    <a:pt x="2095" y="1719"/>
                  </a:lnTo>
                  <a:lnTo>
                    <a:pt x="2101" y="1711"/>
                  </a:lnTo>
                  <a:lnTo>
                    <a:pt x="2105" y="1701"/>
                  </a:lnTo>
                  <a:lnTo>
                    <a:pt x="2108" y="1690"/>
                  </a:lnTo>
                  <a:lnTo>
                    <a:pt x="2110" y="1680"/>
                  </a:lnTo>
                  <a:lnTo>
                    <a:pt x="2111" y="1667"/>
                  </a:lnTo>
                  <a:lnTo>
                    <a:pt x="2111" y="1655"/>
                  </a:lnTo>
                  <a:lnTo>
                    <a:pt x="2109" y="1643"/>
                  </a:lnTo>
                  <a:lnTo>
                    <a:pt x="1896" y="16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327320" y="1603440"/>
              <a:ext cx="12600" cy="98280"/>
            </a:xfrm>
            <a:custGeom>
              <a:avLst/>
              <a:gdLst/>
              <a:ahLst/>
              <a:rect l="l" t="t" r="r" b="b"/>
              <a:pathLst>
                <a:path w="215" h="1721">
                  <a:moveTo>
                    <a:pt x="213" y="90"/>
                  </a:moveTo>
                  <a:lnTo>
                    <a:pt x="0" y="107"/>
                  </a:lnTo>
                  <a:lnTo>
                    <a:pt x="0" y="1721"/>
                  </a:lnTo>
                  <a:lnTo>
                    <a:pt x="215" y="1721"/>
                  </a:lnTo>
                  <a:lnTo>
                    <a:pt x="215" y="107"/>
                  </a:lnTo>
                  <a:lnTo>
                    <a:pt x="213" y="90"/>
                  </a:lnTo>
                  <a:lnTo>
                    <a:pt x="215" y="107"/>
                  </a:lnTo>
                  <a:lnTo>
                    <a:pt x="214" y="95"/>
                  </a:lnTo>
                  <a:lnTo>
                    <a:pt x="212" y="82"/>
                  </a:lnTo>
                  <a:lnTo>
                    <a:pt x="210" y="71"/>
                  </a:lnTo>
                  <a:lnTo>
                    <a:pt x="206" y="61"/>
                  </a:lnTo>
                  <a:lnTo>
                    <a:pt x="200" y="51"/>
                  </a:lnTo>
                  <a:lnTo>
                    <a:pt x="194" y="42"/>
                  </a:lnTo>
                  <a:lnTo>
                    <a:pt x="188" y="34"/>
                  </a:lnTo>
                  <a:lnTo>
                    <a:pt x="181" y="27"/>
                  </a:lnTo>
                  <a:lnTo>
                    <a:pt x="174" y="20"/>
                  </a:lnTo>
                  <a:lnTo>
                    <a:pt x="164" y="15"/>
                  </a:lnTo>
                  <a:lnTo>
                    <a:pt x="156" y="11"/>
                  </a:lnTo>
                  <a:lnTo>
                    <a:pt x="147" y="7"/>
                  </a:lnTo>
                  <a:lnTo>
                    <a:pt x="137" y="4"/>
                  </a:lnTo>
                  <a:lnTo>
                    <a:pt x="127" y="2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7" y="2"/>
                  </a:lnTo>
                  <a:lnTo>
                    <a:pt x="77" y="4"/>
                  </a:lnTo>
                  <a:lnTo>
                    <a:pt x="67" y="7"/>
                  </a:lnTo>
                  <a:lnTo>
                    <a:pt x="58" y="11"/>
                  </a:lnTo>
                  <a:lnTo>
                    <a:pt x="49" y="15"/>
                  </a:lnTo>
                  <a:lnTo>
                    <a:pt x="41" y="20"/>
                  </a:lnTo>
                  <a:lnTo>
                    <a:pt x="33" y="27"/>
                  </a:lnTo>
                  <a:lnTo>
                    <a:pt x="25" y="34"/>
                  </a:lnTo>
                  <a:lnTo>
                    <a:pt x="19" y="42"/>
                  </a:lnTo>
                  <a:lnTo>
                    <a:pt x="13" y="51"/>
                  </a:lnTo>
                  <a:lnTo>
                    <a:pt x="9" y="61"/>
                  </a:lnTo>
                  <a:lnTo>
                    <a:pt x="5" y="71"/>
                  </a:lnTo>
                  <a:lnTo>
                    <a:pt x="2" y="82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213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214640" y="1515960"/>
              <a:ext cx="125280" cy="95400"/>
            </a:xfrm>
            <a:custGeom>
              <a:avLst/>
              <a:gdLst/>
              <a:ahLst/>
              <a:rect l="l" t="t" r="r" b="b"/>
              <a:pathLst>
                <a:path w="2217" h="1680">
                  <a:moveTo>
                    <a:pt x="108" y="216"/>
                  </a:moveTo>
                  <a:lnTo>
                    <a:pt x="108" y="216"/>
                  </a:lnTo>
                  <a:lnTo>
                    <a:pt x="147" y="216"/>
                  </a:lnTo>
                  <a:lnTo>
                    <a:pt x="185" y="216"/>
                  </a:lnTo>
                  <a:lnTo>
                    <a:pt x="223" y="218"/>
                  </a:lnTo>
                  <a:lnTo>
                    <a:pt x="259" y="220"/>
                  </a:lnTo>
                  <a:lnTo>
                    <a:pt x="297" y="222"/>
                  </a:lnTo>
                  <a:lnTo>
                    <a:pt x="332" y="225"/>
                  </a:lnTo>
                  <a:lnTo>
                    <a:pt x="368" y="228"/>
                  </a:lnTo>
                  <a:lnTo>
                    <a:pt x="403" y="233"/>
                  </a:lnTo>
                  <a:lnTo>
                    <a:pt x="438" y="237"/>
                  </a:lnTo>
                  <a:lnTo>
                    <a:pt x="472" y="242"/>
                  </a:lnTo>
                  <a:lnTo>
                    <a:pt x="505" y="247"/>
                  </a:lnTo>
                  <a:lnTo>
                    <a:pt x="538" y="252"/>
                  </a:lnTo>
                  <a:lnTo>
                    <a:pt x="570" y="258"/>
                  </a:lnTo>
                  <a:lnTo>
                    <a:pt x="602" y="265"/>
                  </a:lnTo>
                  <a:lnTo>
                    <a:pt x="633" y="272"/>
                  </a:lnTo>
                  <a:lnTo>
                    <a:pt x="663" y="279"/>
                  </a:lnTo>
                  <a:lnTo>
                    <a:pt x="725" y="295"/>
                  </a:lnTo>
                  <a:lnTo>
                    <a:pt x="785" y="312"/>
                  </a:lnTo>
                  <a:lnTo>
                    <a:pt x="840" y="331"/>
                  </a:lnTo>
                  <a:lnTo>
                    <a:pt x="895" y="352"/>
                  </a:lnTo>
                  <a:lnTo>
                    <a:pt x="949" y="373"/>
                  </a:lnTo>
                  <a:lnTo>
                    <a:pt x="1001" y="396"/>
                  </a:lnTo>
                  <a:lnTo>
                    <a:pt x="1051" y="420"/>
                  </a:lnTo>
                  <a:lnTo>
                    <a:pt x="1099" y="446"/>
                  </a:lnTo>
                  <a:lnTo>
                    <a:pt x="1145" y="472"/>
                  </a:lnTo>
                  <a:lnTo>
                    <a:pt x="1191" y="499"/>
                  </a:lnTo>
                  <a:lnTo>
                    <a:pt x="1234" y="527"/>
                  </a:lnTo>
                  <a:lnTo>
                    <a:pt x="1275" y="556"/>
                  </a:lnTo>
                  <a:lnTo>
                    <a:pt x="1316" y="586"/>
                  </a:lnTo>
                  <a:lnTo>
                    <a:pt x="1355" y="616"/>
                  </a:lnTo>
                  <a:lnTo>
                    <a:pt x="1392" y="647"/>
                  </a:lnTo>
                  <a:lnTo>
                    <a:pt x="1429" y="679"/>
                  </a:lnTo>
                  <a:lnTo>
                    <a:pt x="1464" y="711"/>
                  </a:lnTo>
                  <a:lnTo>
                    <a:pt x="1497" y="744"/>
                  </a:lnTo>
                  <a:lnTo>
                    <a:pt x="1529" y="777"/>
                  </a:lnTo>
                  <a:lnTo>
                    <a:pt x="1560" y="812"/>
                  </a:lnTo>
                  <a:lnTo>
                    <a:pt x="1589" y="846"/>
                  </a:lnTo>
                  <a:lnTo>
                    <a:pt x="1617" y="879"/>
                  </a:lnTo>
                  <a:lnTo>
                    <a:pt x="1645" y="914"/>
                  </a:lnTo>
                  <a:lnTo>
                    <a:pt x="1671" y="948"/>
                  </a:lnTo>
                  <a:lnTo>
                    <a:pt x="1696" y="983"/>
                  </a:lnTo>
                  <a:lnTo>
                    <a:pt x="1719" y="1018"/>
                  </a:lnTo>
                  <a:lnTo>
                    <a:pt x="1742" y="1051"/>
                  </a:lnTo>
                  <a:lnTo>
                    <a:pt x="1762" y="1086"/>
                  </a:lnTo>
                  <a:lnTo>
                    <a:pt x="1783" y="1119"/>
                  </a:lnTo>
                  <a:lnTo>
                    <a:pt x="1802" y="1153"/>
                  </a:lnTo>
                  <a:lnTo>
                    <a:pt x="1820" y="1187"/>
                  </a:lnTo>
                  <a:lnTo>
                    <a:pt x="1837" y="1219"/>
                  </a:lnTo>
                  <a:lnTo>
                    <a:pt x="1852" y="1251"/>
                  </a:lnTo>
                  <a:lnTo>
                    <a:pt x="1868" y="1283"/>
                  </a:lnTo>
                  <a:lnTo>
                    <a:pt x="1882" y="1313"/>
                  </a:lnTo>
                  <a:lnTo>
                    <a:pt x="1896" y="1343"/>
                  </a:lnTo>
                  <a:lnTo>
                    <a:pt x="1920" y="1402"/>
                  </a:lnTo>
                  <a:lnTo>
                    <a:pt x="1940" y="1456"/>
                  </a:lnTo>
                  <a:lnTo>
                    <a:pt x="1957" y="1506"/>
                  </a:lnTo>
                  <a:lnTo>
                    <a:pt x="1971" y="1550"/>
                  </a:lnTo>
                  <a:lnTo>
                    <a:pt x="1983" y="1589"/>
                  </a:lnTo>
                  <a:lnTo>
                    <a:pt x="1991" y="1621"/>
                  </a:lnTo>
                  <a:lnTo>
                    <a:pt x="2003" y="1668"/>
                  </a:lnTo>
                  <a:lnTo>
                    <a:pt x="2005" y="1680"/>
                  </a:lnTo>
                  <a:lnTo>
                    <a:pt x="2217" y="1644"/>
                  </a:lnTo>
                  <a:lnTo>
                    <a:pt x="2212" y="1621"/>
                  </a:lnTo>
                  <a:lnTo>
                    <a:pt x="2200" y="1569"/>
                  </a:lnTo>
                  <a:lnTo>
                    <a:pt x="2190" y="1531"/>
                  </a:lnTo>
                  <a:lnTo>
                    <a:pt x="2177" y="1487"/>
                  </a:lnTo>
                  <a:lnTo>
                    <a:pt x="2161" y="1437"/>
                  </a:lnTo>
                  <a:lnTo>
                    <a:pt x="2142" y="1383"/>
                  </a:lnTo>
                  <a:lnTo>
                    <a:pt x="2120" y="1322"/>
                  </a:lnTo>
                  <a:lnTo>
                    <a:pt x="2094" y="1259"/>
                  </a:lnTo>
                  <a:lnTo>
                    <a:pt x="2078" y="1226"/>
                  </a:lnTo>
                  <a:lnTo>
                    <a:pt x="2063" y="1192"/>
                  </a:lnTo>
                  <a:lnTo>
                    <a:pt x="2046" y="1157"/>
                  </a:lnTo>
                  <a:lnTo>
                    <a:pt x="2028" y="1121"/>
                  </a:lnTo>
                  <a:lnTo>
                    <a:pt x="2010" y="1085"/>
                  </a:lnTo>
                  <a:lnTo>
                    <a:pt x="1989" y="1049"/>
                  </a:lnTo>
                  <a:lnTo>
                    <a:pt x="1968" y="1012"/>
                  </a:lnTo>
                  <a:lnTo>
                    <a:pt x="1946" y="974"/>
                  </a:lnTo>
                  <a:lnTo>
                    <a:pt x="1923" y="936"/>
                  </a:lnTo>
                  <a:lnTo>
                    <a:pt x="1898" y="898"/>
                  </a:lnTo>
                  <a:lnTo>
                    <a:pt x="1871" y="860"/>
                  </a:lnTo>
                  <a:lnTo>
                    <a:pt x="1844" y="821"/>
                  </a:lnTo>
                  <a:lnTo>
                    <a:pt x="1815" y="783"/>
                  </a:lnTo>
                  <a:lnTo>
                    <a:pt x="1785" y="744"/>
                  </a:lnTo>
                  <a:lnTo>
                    <a:pt x="1754" y="707"/>
                  </a:lnTo>
                  <a:lnTo>
                    <a:pt x="1720" y="669"/>
                  </a:lnTo>
                  <a:lnTo>
                    <a:pt x="1686" y="630"/>
                  </a:lnTo>
                  <a:lnTo>
                    <a:pt x="1649" y="593"/>
                  </a:lnTo>
                  <a:lnTo>
                    <a:pt x="1612" y="557"/>
                  </a:lnTo>
                  <a:lnTo>
                    <a:pt x="1573" y="521"/>
                  </a:lnTo>
                  <a:lnTo>
                    <a:pt x="1532" y="484"/>
                  </a:lnTo>
                  <a:lnTo>
                    <a:pt x="1490" y="449"/>
                  </a:lnTo>
                  <a:lnTo>
                    <a:pt x="1446" y="415"/>
                  </a:lnTo>
                  <a:lnTo>
                    <a:pt x="1401" y="381"/>
                  </a:lnTo>
                  <a:lnTo>
                    <a:pt x="1353" y="349"/>
                  </a:lnTo>
                  <a:lnTo>
                    <a:pt x="1304" y="316"/>
                  </a:lnTo>
                  <a:lnTo>
                    <a:pt x="1254" y="285"/>
                  </a:lnTo>
                  <a:lnTo>
                    <a:pt x="1201" y="256"/>
                  </a:lnTo>
                  <a:lnTo>
                    <a:pt x="1147" y="228"/>
                  </a:lnTo>
                  <a:lnTo>
                    <a:pt x="1091" y="201"/>
                  </a:lnTo>
                  <a:lnTo>
                    <a:pt x="1032" y="176"/>
                  </a:lnTo>
                  <a:lnTo>
                    <a:pt x="973" y="152"/>
                  </a:lnTo>
                  <a:lnTo>
                    <a:pt x="912" y="129"/>
                  </a:lnTo>
                  <a:lnTo>
                    <a:pt x="848" y="107"/>
                  </a:lnTo>
                  <a:lnTo>
                    <a:pt x="782" y="89"/>
                  </a:lnTo>
                  <a:lnTo>
                    <a:pt x="716" y="71"/>
                  </a:lnTo>
                  <a:lnTo>
                    <a:pt x="681" y="63"/>
                  </a:lnTo>
                  <a:lnTo>
                    <a:pt x="647" y="54"/>
                  </a:lnTo>
                  <a:lnTo>
                    <a:pt x="612" y="47"/>
                  </a:lnTo>
                  <a:lnTo>
                    <a:pt x="575" y="41"/>
                  </a:lnTo>
                  <a:lnTo>
                    <a:pt x="539" y="35"/>
                  </a:lnTo>
                  <a:lnTo>
                    <a:pt x="503" y="28"/>
                  </a:lnTo>
                  <a:lnTo>
                    <a:pt x="466" y="23"/>
                  </a:lnTo>
                  <a:lnTo>
                    <a:pt x="427" y="19"/>
                  </a:lnTo>
                  <a:lnTo>
                    <a:pt x="389" y="15"/>
                  </a:lnTo>
                  <a:lnTo>
                    <a:pt x="351" y="11"/>
                  </a:lnTo>
                  <a:lnTo>
                    <a:pt x="311" y="8"/>
                  </a:lnTo>
                  <a:lnTo>
                    <a:pt x="272" y="6"/>
                  </a:lnTo>
                  <a:lnTo>
                    <a:pt x="231" y="4"/>
                  </a:lnTo>
                  <a:lnTo>
                    <a:pt x="191" y="2"/>
                  </a:lnTo>
                  <a:lnTo>
                    <a:pt x="150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2" y="3"/>
                  </a:lnTo>
                  <a:lnTo>
                    <a:pt x="71" y="6"/>
                  </a:lnTo>
                  <a:lnTo>
                    <a:pt x="61" y="10"/>
                  </a:lnTo>
                  <a:lnTo>
                    <a:pt x="51" y="15"/>
                  </a:lnTo>
                  <a:lnTo>
                    <a:pt x="42" y="20"/>
                  </a:lnTo>
                  <a:lnTo>
                    <a:pt x="35" y="26"/>
                  </a:lnTo>
                  <a:lnTo>
                    <a:pt x="27" y="34"/>
                  </a:lnTo>
                  <a:lnTo>
                    <a:pt x="21" y="42"/>
                  </a:lnTo>
                  <a:lnTo>
                    <a:pt x="15" y="50"/>
                  </a:lnTo>
                  <a:lnTo>
                    <a:pt x="11" y="60"/>
                  </a:lnTo>
                  <a:lnTo>
                    <a:pt x="7" y="69"/>
                  </a:lnTo>
                  <a:lnTo>
                    <a:pt x="4" y="78"/>
                  </a:lnTo>
                  <a:lnTo>
                    <a:pt x="2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2" y="128"/>
                  </a:lnTo>
                  <a:lnTo>
                    <a:pt x="4" y="138"/>
                  </a:lnTo>
                  <a:lnTo>
                    <a:pt x="7" y="148"/>
                  </a:lnTo>
                  <a:lnTo>
                    <a:pt x="11" y="157"/>
                  </a:lnTo>
                  <a:lnTo>
                    <a:pt x="15" y="166"/>
                  </a:lnTo>
                  <a:lnTo>
                    <a:pt x="21" y="175"/>
                  </a:lnTo>
                  <a:lnTo>
                    <a:pt x="27" y="182"/>
                  </a:lnTo>
                  <a:lnTo>
                    <a:pt x="35" y="189"/>
                  </a:lnTo>
                  <a:lnTo>
                    <a:pt x="42" y="196"/>
                  </a:lnTo>
                  <a:lnTo>
                    <a:pt x="51" y="201"/>
                  </a:lnTo>
                  <a:lnTo>
                    <a:pt x="61" y="207"/>
                  </a:lnTo>
                  <a:lnTo>
                    <a:pt x="71" y="211"/>
                  </a:lnTo>
                  <a:lnTo>
                    <a:pt x="82" y="213"/>
                  </a:lnTo>
                  <a:lnTo>
                    <a:pt x="95" y="215"/>
                  </a:lnTo>
                  <a:lnTo>
                    <a:pt x="108" y="21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192320" y="1515960"/>
              <a:ext cx="28440" cy="11160"/>
            </a:xfrm>
            <a:custGeom>
              <a:avLst/>
              <a:gdLst/>
              <a:ahLst/>
              <a:rect l="l" t="t" r="r" b="b"/>
              <a:pathLst>
                <a:path w="487" h="216">
                  <a:moveTo>
                    <a:pt x="1" y="118"/>
                  </a:moveTo>
                  <a:lnTo>
                    <a:pt x="108" y="216"/>
                  </a:lnTo>
                  <a:lnTo>
                    <a:pt x="487" y="216"/>
                  </a:lnTo>
                  <a:lnTo>
                    <a:pt x="487" y="0"/>
                  </a:lnTo>
                  <a:lnTo>
                    <a:pt x="108" y="0"/>
                  </a:lnTo>
                  <a:lnTo>
                    <a:pt x="1" y="118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2" y="3"/>
                  </a:lnTo>
                  <a:lnTo>
                    <a:pt x="71" y="6"/>
                  </a:lnTo>
                  <a:lnTo>
                    <a:pt x="60" y="10"/>
                  </a:lnTo>
                  <a:lnTo>
                    <a:pt x="51" y="15"/>
                  </a:lnTo>
                  <a:lnTo>
                    <a:pt x="42" y="20"/>
                  </a:lnTo>
                  <a:lnTo>
                    <a:pt x="35" y="26"/>
                  </a:lnTo>
                  <a:lnTo>
                    <a:pt x="27" y="34"/>
                  </a:lnTo>
                  <a:lnTo>
                    <a:pt x="21" y="42"/>
                  </a:lnTo>
                  <a:lnTo>
                    <a:pt x="15" y="50"/>
                  </a:lnTo>
                  <a:lnTo>
                    <a:pt x="11" y="60"/>
                  </a:lnTo>
                  <a:lnTo>
                    <a:pt x="7" y="69"/>
                  </a:lnTo>
                  <a:lnTo>
                    <a:pt x="4" y="78"/>
                  </a:lnTo>
                  <a:lnTo>
                    <a:pt x="1" y="88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1" y="128"/>
                  </a:lnTo>
                  <a:lnTo>
                    <a:pt x="4" y="138"/>
                  </a:lnTo>
                  <a:lnTo>
                    <a:pt x="7" y="148"/>
                  </a:lnTo>
                  <a:lnTo>
                    <a:pt x="11" y="157"/>
                  </a:lnTo>
                  <a:lnTo>
                    <a:pt x="15" y="166"/>
                  </a:lnTo>
                  <a:lnTo>
                    <a:pt x="21" y="175"/>
                  </a:lnTo>
                  <a:lnTo>
                    <a:pt x="27" y="182"/>
                  </a:lnTo>
                  <a:lnTo>
                    <a:pt x="35" y="189"/>
                  </a:lnTo>
                  <a:lnTo>
                    <a:pt x="42" y="196"/>
                  </a:lnTo>
                  <a:lnTo>
                    <a:pt x="51" y="201"/>
                  </a:lnTo>
                  <a:lnTo>
                    <a:pt x="60" y="207"/>
                  </a:lnTo>
                  <a:lnTo>
                    <a:pt x="71" y="211"/>
                  </a:lnTo>
                  <a:lnTo>
                    <a:pt x="82" y="213"/>
                  </a:lnTo>
                  <a:lnTo>
                    <a:pt x="95" y="215"/>
                  </a:lnTo>
                  <a:lnTo>
                    <a:pt x="108" y="216"/>
                  </a:lnTo>
                  <a:lnTo>
                    <a:pt x="1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192320" y="1520640"/>
              <a:ext cx="20520" cy="98640"/>
            </a:xfrm>
            <a:custGeom>
              <a:avLst/>
              <a:gdLst/>
              <a:ahLst/>
              <a:rect l="l" t="t" r="r" b="b"/>
              <a:pathLst>
                <a:path w="364" h="1731">
                  <a:moveTo>
                    <a:pt x="256" y="1731"/>
                  </a:moveTo>
                  <a:lnTo>
                    <a:pt x="363" y="1614"/>
                  </a:lnTo>
                  <a:lnTo>
                    <a:pt x="214" y="0"/>
                  </a:lnTo>
                  <a:lnTo>
                    <a:pt x="0" y="20"/>
                  </a:lnTo>
                  <a:lnTo>
                    <a:pt x="150" y="1633"/>
                  </a:lnTo>
                  <a:lnTo>
                    <a:pt x="256" y="1731"/>
                  </a:lnTo>
                  <a:lnTo>
                    <a:pt x="150" y="1633"/>
                  </a:lnTo>
                  <a:lnTo>
                    <a:pt x="151" y="1646"/>
                  </a:lnTo>
                  <a:lnTo>
                    <a:pt x="154" y="1657"/>
                  </a:lnTo>
                  <a:lnTo>
                    <a:pt x="158" y="1669"/>
                  </a:lnTo>
                  <a:lnTo>
                    <a:pt x="163" y="1679"/>
                  </a:lnTo>
                  <a:lnTo>
                    <a:pt x="168" y="1689"/>
                  </a:lnTo>
                  <a:lnTo>
                    <a:pt x="174" y="1697"/>
                  </a:lnTo>
                  <a:lnTo>
                    <a:pt x="182" y="1704"/>
                  </a:lnTo>
                  <a:lnTo>
                    <a:pt x="190" y="1710"/>
                  </a:lnTo>
                  <a:lnTo>
                    <a:pt x="198" y="1715"/>
                  </a:lnTo>
                  <a:lnTo>
                    <a:pt x="208" y="1721"/>
                  </a:lnTo>
                  <a:lnTo>
                    <a:pt x="216" y="1724"/>
                  </a:lnTo>
                  <a:lnTo>
                    <a:pt x="226" y="1727"/>
                  </a:lnTo>
                  <a:lnTo>
                    <a:pt x="236" y="1729"/>
                  </a:lnTo>
                  <a:lnTo>
                    <a:pt x="246" y="1730"/>
                  </a:lnTo>
                  <a:lnTo>
                    <a:pt x="255" y="1731"/>
                  </a:lnTo>
                  <a:lnTo>
                    <a:pt x="266" y="1730"/>
                  </a:lnTo>
                  <a:lnTo>
                    <a:pt x="276" y="1729"/>
                  </a:lnTo>
                  <a:lnTo>
                    <a:pt x="285" y="1727"/>
                  </a:lnTo>
                  <a:lnTo>
                    <a:pt x="295" y="1724"/>
                  </a:lnTo>
                  <a:lnTo>
                    <a:pt x="304" y="1720"/>
                  </a:lnTo>
                  <a:lnTo>
                    <a:pt x="313" y="1715"/>
                  </a:lnTo>
                  <a:lnTo>
                    <a:pt x="322" y="1710"/>
                  </a:lnTo>
                  <a:lnTo>
                    <a:pt x="330" y="1704"/>
                  </a:lnTo>
                  <a:lnTo>
                    <a:pt x="337" y="1697"/>
                  </a:lnTo>
                  <a:lnTo>
                    <a:pt x="343" y="1690"/>
                  </a:lnTo>
                  <a:lnTo>
                    <a:pt x="349" y="1680"/>
                  </a:lnTo>
                  <a:lnTo>
                    <a:pt x="354" y="1671"/>
                  </a:lnTo>
                  <a:lnTo>
                    <a:pt x="358" y="1662"/>
                  </a:lnTo>
                  <a:lnTo>
                    <a:pt x="361" y="1650"/>
                  </a:lnTo>
                  <a:lnTo>
                    <a:pt x="363" y="1639"/>
                  </a:lnTo>
                  <a:lnTo>
                    <a:pt x="364" y="1626"/>
                  </a:lnTo>
                  <a:lnTo>
                    <a:pt x="363" y="1614"/>
                  </a:lnTo>
                  <a:lnTo>
                    <a:pt x="256" y="17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206720" y="1606680"/>
              <a:ext cx="14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327320" y="1609560"/>
              <a:ext cx="12600" cy="9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198440" y="1515960"/>
              <a:ext cx="22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06600" y="1859040"/>
              <a:ext cx="131760" cy="179280"/>
            </a:xfrm>
            <a:custGeom>
              <a:avLst/>
              <a:gdLst/>
              <a:ahLst/>
              <a:rect l="l" t="t" r="r" b="b"/>
              <a:pathLst>
                <a:path w="2325" h="3167">
                  <a:moveTo>
                    <a:pt x="2325" y="1554"/>
                  </a:moveTo>
                  <a:lnTo>
                    <a:pt x="1980" y="1554"/>
                  </a:lnTo>
                  <a:lnTo>
                    <a:pt x="1823" y="1549"/>
                  </a:lnTo>
                  <a:lnTo>
                    <a:pt x="1673" y="1536"/>
                  </a:lnTo>
                  <a:lnTo>
                    <a:pt x="1532" y="1516"/>
                  </a:lnTo>
                  <a:lnTo>
                    <a:pt x="1399" y="1487"/>
                  </a:lnTo>
                  <a:lnTo>
                    <a:pt x="1274" y="1451"/>
                  </a:lnTo>
                  <a:lnTo>
                    <a:pt x="1156" y="1410"/>
                  </a:lnTo>
                  <a:lnTo>
                    <a:pt x="1046" y="1363"/>
                  </a:lnTo>
                  <a:lnTo>
                    <a:pt x="942" y="1311"/>
                  </a:lnTo>
                  <a:lnTo>
                    <a:pt x="845" y="1254"/>
                  </a:lnTo>
                  <a:lnTo>
                    <a:pt x="755" y="1193"/>
                  </a:lnTo>
                  <a:lnTo>
                    <a:pt x="672" y="1129"/>
                  </a:lnTo>
                  <a:lnTo>
                    <a:pt x="594" y="1062"/>
                  </a:lnTo>
                  <a:lnTo>
                    <a:pt x="523" y="992"/>
                  </a:lnTo>
                  <a:lnTo>
                    <a:pt x="458" y="922"/>
                  </a:lnTo>
                  <a:lnTo>
                    <a:pt x="397" y="849"/>
                  </a:lnTo>
                  <a:lnTo>
                    <a:pt x="343" y="777"/>
                  </a:lnTo>
                  <a:lnTo>
                    <a:pt x="292" y="703"/>
                  </a:lnTo>
                  <a:lnTo>
                    <a:pt x="247" y="632"/>
                  </a:lnTo>
                  <a:lnTo>
                    <a:pt x="207" y="560"/>
                  </a:lnTo>
                  <a:lnTo>
                    <a:pt x="171" y="491"/>
                  </a:lnTo>
                  <a:lnTo>
                    <a:pt x="139" y="425"/>
                  </a:lnTo>
                  <a:lnTo>
                    <a:pt x="111" y="361"/>
                  </a:lnTo>
                  <a:lnTo>
                    <a:pt x="87" y="299"/>
                  </a:lnTo>
                  <a:lnTo>
                    <a:pt x="66" y="242"/>
                  </a:lnTo>
                  <a:lnTo>
                    <a:pt x="48" y="191"/>
                  </a:lnTo>
                  <a:lnTo>
                    <a:pt x="34" y="143"/>
                  </a:lnTo>
                  <a:lnTo>
                    <a:pt x="23" y="102"/>
                  </a:lnTo>
                  <a:lnTo>
                    <a:pt x="14" y="66"/>
                  </a:lnTo>
                  <a:lnTo>
                    <a:pt x="3" y="18"/>
                  </a:lnTo>
                  <a:lnTo>
                    <a:pt x="0" y="0"/>
                  </a:lnTo>
                  <a:lnTo>
                    <a:pt x="0" y="1613"/>
                  </a:lnTo>
                  <a:lnTo>
                    <a:pt x="3" y="1631"/>
                  </a:lnTo>
                  <a:lnTo>
                    <a:pt x="14" y="1680"/>
                  </a:lnTo>
                  <a:lnTo>
                    <a:pt x="23" y="1716"/>
                  </a:lnTo>
                  <a:lnTo>
                    <a:pt x="34" y="1757"/>
                  </a:lnTo>
                  <a:lnTo>
                    <a:pt x="48" y="1804"/>
                  </a:lnTo>
                  <a:lnTo>
                    <a:pt x="66" y="1855"/>
                  </a:lnTo>
                  <a:lnTo>
                    <a:pt x="87" y="1912"/>
                  </a:lnTo>
                  <a:lnTo>
                    <a:pt x="111" y="1974"/>
                  </a:lnTo>
                  <a:lnTo>
                    <a:pt x="139" y="2038"/>
                  </a:lnTo>
                  <a:lnTo>
                    <a:pt x="171" y="2105"/>
                  </a:lnTo>
                  <a:lnTo>
                    <a:pt x="207" y="2175"/>
                  </a:lnTo>
                  <a:lnTo>
                    <a:pt x="247" y="2245"/>
                  </a:lnTo>
                  <a:lnTo>
                    <a:pt x="292" y="2318"/>
                  </a:lnTo>
                  <a:lnTo>
                    <a:pt x="343" y="2390"/>
                  </a:lnTo>
                  <a:lnTo>
                    <a:pt x="397" y="2463"/>
                  </a:lnTo>
                  <a:lnTo>
                    <a:pt x="458" y="2535"/>
                  </a:lnTo>
                  <a:lnTo>
                    <a:pt x="523" y="2607"/>
                  </a:lnTo>
                  <a:lnTo>
                    <a:pt x="594" y="2676"/>
                  </a:lnTo>
                  <a:lnTo>
                    <a:pt x="672" y="2742"/>
                  </a:lnTo>
                  <a:lnTo>
                    <a:pt x="755" y="2807"/>
                  </a:lnTo>
                  <a:lnTo>
                    <a:pt x="845" y="2868"/>
                  </a:lnTo>
                  <a:lnTo>
                    <a:pt x="942" y="2925"/>
                  </a:lnTo>
                  <a:lnTo>
                    <a:pt x="1046" y="2976"/>
                  </a:lnTo>
                  <a:lnTo>
                    <a:pt x="1156" y="3024"/>
                  </a:lnTo>
                  <a:lnTo>
                    <a:pt x="1274" y="3066"/>
                  </a:lnTo>
                  <a:lnTo>
                    <a:pt x="1399" y="3101"/>
                  </a:lnTo>
                  <a:lnTo>
                    <a:pt x="1532" y="3129"/>
                  </a:lnTo>
                  <a:lnTo>
                    <a:pt x="1673" y="3149"/>
                  </a:lnTo>
                  <a:lnTo>
                    <a:pt x="1823" y="3163"/>
                  </a:lnTo>
                  <a:lnTo>
                    <a:pt x="1980" y="3167"/>
                  </a:lnTo>
                  <a:lnTo>
                    <a:pt x="2296" y="3167"/>
                  </a:lnTo>
                  <a:lnTo>
                    <a:pt x="2325" y="15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12800" y="1941480"/>
              <a:ext cx="25560" cy="1116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108" y="0"/>
                  </a:moveTo>
                  <a:lnTo>
                    <a:pt x="108" y="216"/>
                  </a:lnTo>
                  <a:lnTo>
                    <a:pt x="453" y="216"/>
                  </a:lnTo>
                  <a:lnTo>
                    <a:pt x="453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3" y="2"/>
                  </a:lnTo>
                  <a:lnTo>
                    <a:pt x="72" y="5"/>
                  </a:lnTo>
                  <a:lnTo>
                    <a:pt x="60" y="10"/>
                  </a:lnTo>
                  <a:lnTo>
                    <a:pt x="51" y="14"/>
                  </a:lnTo>
                  <a:lnTo>
                    <a:pt x="43" y="20"/>
                  </a:lnTo>
                  <a:lnTo>
                    <a:pt x="34" y="26"/>
                  </a:lnTo>
                  <a:lnTo>
                    <a:pt x="27" y="33"/>
                  </a:lnTo>
                  <a:lnTo>
                    <a:pt x="21" y="42"/>
                  </a:lnTo>
                  <a:lnTo>
                    <a:pt x="16" y="50"/>
                  </a:lnTo>
                  <a:lnTo>
                    <a:pt x="11" y="58"/>
                  </a:lnTo>
                  <a:lnTo>
                    <a:pt x="8" y="68"/>
                  </a:lnTo>
                  <a:lnTo>
                    <a:pt x="4" y="78"/>
                  </a:lnTo>
                  <a:lnTo>
                    <a:pt x="2" y="87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2" y="128"/>
                  </a:lnTo>
                  <a:lnTo>
                    <a:pt x="4" y="138"/>
                  </a:lnTo>
                  <a:lnTo>
                    <a:pt x="8" y="147"/>
                  </a:lnTo>
                  <a:lnTo>
                    <a:pt x="11" y="157"/>
                  </a:lnTo>
                  <a:lnTo>
                    <a:pt x="16" y="165"/>
                  </a:lnTo>
                  <a:lnTo>
                    <a:pt x="21" y="174"/>
                  </a:lnTo>
                  <a:lnTo>
                    <a:pt x="27" y="182"/>
                  </a:lnTo>
                  <a:lnTo>
                    <a:pt x="34" y="189"/>
                  </a:lnTo>
                  <a:lnTo>
                    <a:pt x="43" y="195"/>
                  </a:lnTo>
                  <a:lnTo>
                    <a:pt x="51" y="201"/>
                  </a:lnTo>
                  <a:lnTo>
                    <a:pt x="60" y="206"/>
                  </a:lnTo>
                  <a:lnTo>
                    <a:pt x="72" y="210"/>
                  </a:lnTo>
                  <a:lnTo>
                    <a:pt x="83" y="213"/>
                  </a:lnTo>
                  <a:lnTo>
                    <a:pt x="95" y="215"/>
                  </a:lnTo>
                  <a:lnTo>
                    <a:pt x="108" y="21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00120" y="1852560"/>
              <a:ext cx="119160" cy="100080"/>
            </a:xfrm>
            <a:custGeom>
              <a:avLst/>
              <a:gdLst/>
              <a:ahLst/>
              <a:rect l="l" t="t" r="r" b="b"/>
              <a:pathLst>
                <a:path w="2088" h="1770">
                  <a:moveTo>
                    <a:pt x="215" y="108"/>
                  </a:moveTo>
                  <a:lnTo>
                    <a:pt x="2" y="125"/>
                  </a:lnTo>
                  <a:lnTo>
                    <a:pt x="6" y="147"/>
                  </a:lnTo>
                  <a:lnTo>
                    <a:pt x="18" y="199"/>
                  </a:lnTo>
                  <a:lnTo>
                    <a:pt x="27" y="237"/>
                  </a:lnTo>
                  <a:lnTo>
                    <a:pt x="39" y="281"/>
                  </a:lnTo>
                  <a:lnTo>
                    <a:pt x="55" y="331"/>
                  </a:lnTo>
                  <a:lnTo>
                    <a:pt x="73" y="386"/>
                  </a:lnTo>
                  <a:lnTo>
                    <a:pt x="94" y="446"/>
                  </a:lnTo>
                  <a:lnTo>
                    <a:pt x="119" y="509"/>
                  </a:lnTo>
                  <a:lnTo>
                    <a:pt x="134" y="543"/>
                  </a:lnTo>
                  <a:lnTo>
                    <a:pt x="149" y="576"/>
                  </a:lnTo>
                  <a:lnTo>
                    <a:pt x="165" y="611"/>
                  </a:lnTo>
                  <a:lnTo>
                    <a:pt x="182" y="647"/>
                  </a:lnTo>
                  <a:lnTo>
                    <a:pt x="201" y="683"/>
                  </a:lnTo>
                  <a:lnTo>
                    <a:pt x="221" y="720"/>
                  </a:lnTo>
                  <a:lnTo>
                    <a:pt x="241" y="758"/>
                  </a:lnTo>
                  <a:lnTo>
                    <a:pt x="263" y="795"/>
                  </a:lnTo>
                  <a:lnTo>
                    <a:pt x="286" y="832"/>
                  </a:lnTo>
                  <a:lnTo>
                    <a:pt x="311" y="870"/>
                  </a:lnTo>
                  <a:lnTo>
                    <a:pt x="336" y="909"/>
                  </a:lnTo>
                  <a:lnTo>
                    <a:pt x="364" y="947"/>
                  </a:lnTo>
                  <a:lnTo>
                    <a:pt x="392" y="985"/>
                  </a:lnTo>
                  <a:lnTo>
                    <a:pt x="421" y="1024"/>
                  </a:lnTo>
                  <a:lnTo>
                    <a:pt x="452" y="1062"/>
                  </a:lnTo>
                  <a:lnTo>
                    <a:pt x="485" y="1100"/>
                  </a:lnTo>
                  <a:lnTo>
                    <a:pt x="518" y="1138"/>
                  </a:lnTo>
                  <a:lnTo>
                    <a:pt x="554" y="1176"/>
                  </a:lnTo>
                  <a:lnTo>
                    <a:pt x="591" y="1212"/>
                  </a:lnTo>
                  <a:lnTo>
                    <a:pt x="630" y="1249"/>
                  </a:lnTo>
                  <a:lnTo>
                    <a:pt x="670" y="1285"/>
                  </a:lnTo>
                  <a:lnTo>
                    <a:pt x="712" y="1320"/>
                  </a:lnTo>
                  <a:lnTo>
                    <a:pt x="755" y="1355"/>
                  </a:lnTo>
                  <a:lnTo>
                    <a:pt x="801" y="1388"/>
                  </a:lnTo>
                  <a:lnTo>
                    <a:pt x="847" y="1422"/>
                  </a:lnTo>
                  <a:lnTo>
                    <a:pt x="896" y="1453"/>
                  </a:lnTo>
                  <a:lnTo>
                    <a:pt x="947" y="1484"/>
                  </a:lnTo>
                  <a:lnTo>
                    <a:pt x="998" y="1513"/>
                  </a:lnTo>
                  <a:lnTo>
                    <a:pt x="1052" y="1542"/>
                  </a:lnTo>
                  <a:lnTo>
                    <a:pt x="1108" y="1569"/>
                  </a:lnTo>
                  <a:lnTo>
                    <a:pt x="1165" y="1595"/>
                  </a:lnTo>
                  <a:lnTo>
                    <a:pt x="1225" y="1618"/>
                  </a:lnTo>
                  <a:lnTo>
                    <a:pt x="1286" y="1641"/>
                  </a:lnTo>
                  <a:lnTo>
                    <a:pt x="1349" y="1662"/>
                  </a:lnTo>
                  <a:lnTo>
                    <a:pt x="1382" y="1672"/>
                  </a:lnTo>
                  <a:lnTo>
                    <a:pt x="1415" y="1682"/>
                  </a:lnTo>
                  <a:lnTo>
                    <a:pt x="1448" y="1691"/>
                  </a:lnTo>
                  <a:lnTo>
                    <a:pt x="1481" y="1699"/>
                  </a:lnTo>
                  <a:lnTo>
                    <a:pt x="1515" y="1708"/>
                  </a:lnTo>
                  <a:lnTo>
                    <a:pt x="1550" y="1715"/>
                  </a:lnTo>
                  <a:lnTo>
                    <a:pt x="1586" y="1722"/>
                  </a:lnTo>
                  <a:lnTo>
                    <a:pt x="1621" y="1729"/>
                  </a:lnTo>
                  <a:lnTo>
                    <a:pt x="1657" y="1736"/>
                  </a:lnTo>
                  <a:lnTo>
                    <a:pt x="1694" y="1741"/>
                  </a:lnTo>
                  <a:lnTo>
                    <a:pt x="1731" y="1746"/>
                  </a:lnTo>
                  <a:lnTo>
                    <a:pt x="1769" y="1751"/>
                  </a:lnTo>
                  <a:lnTo>
                    <a:pt x="1806" y="1755"/>
                  </a:lnTo>
                  <a:lnTo>
                    <a:pt x="1846" y="1759"/>
                  </a:lnTo>
                  <a:lnTo>
                    <a:pt x="1885" y="1762"/>
                  </a:lnTo>
                  <a:lnTo>
                    <a:pt x="1924" y="1765"/>
                  </a:lnTo>
                  <a:lnTo>
                    <a:pt x="1965" y="1767"/>
                  </a:lnTo>
                  <a:lnTo>
                    <a:pt x="2005" y="1768"/>
                  </a:lnTo>
                  <a:lnTo>
                    <a:pt x="2047" y="1769"/>
                  </a:lnTo>
                  <a:lnTo>
                    <a:pt x="2088" y="1770"/>
                  </a:lnTo>
                  <a:lnTo>
                    <a:pt x="2088" y="1554"/>
                  </a:lnTo>
                  <a:lnTo>
                    <a:pt x="2049" y="1553"/>
                  </a:lnTo>
                  <a:lnTo>
                    <a:pt x="2011" y="1553"/>
                  </a:lnTo>
                  <a:lnTo>
                    <a:pt x="1973" y="1552"/>
                  </a:lnTo>
                  <a:lnTo>
                    <a:pt x="1936" y="1550"/>
                  </a:lnTo>
                  <a:lnTo>
                    <a:pt x="1900" y="1547"/>
                  </a:lnTo>
                  <a:lnTo>
                    <a:pt x="1864" y="1544"/>
                  </a:lnTo>
                  <a:lnTo>
                    <a:pt x="1828" y="1542"/>
                  </a:lnTo>
                  <a:lnTo>
                    <a:pt x="1793" y="1538"/>
                  </a:lnTo>
                  <a:lnTo>
                    <a:pt x="1759" y="1534"/>
                  </a:lnTo>
                  <a:lnTo>
                    <a:pt x="1726" y="1528"/>
                  </a:lnTo>
                  <a:lnTo>
                    <a:pt x="1691" y="1523"/>
                  </a:lnTo>
                  <a:lnTo>
                    <a:pt x="1659" y="1517"/>
                  </a:lnTo>
                  <a:lnTo>
                    <a:pt x="1627" y="1511"/>
                  </a:lnTo>
                  <a:lnTo>
                    <a:pt x="1595" y="1505"/>
                  </a:lnTo>
                  <a:lnTo>
                    <a:pt x="1564" y="1498"/>
                  </a:lnTo>
                  <a:lnTo>
                    <a:pt x="1533" y="1490"/>
                  </a:lnTo>
                  <a:lnTo>
                    <a:pt x="1502" y="1483"/>
                  </a:lnTo>
                  <a:lnTo>
                    <a:pt x="1473" y="1474"/>
                  </a:lnTo>
                  <a:lnTo>
                    <a:pt x="1443" y="1466"/>
                  </a:lnTo>
                  <a:lnTo>
                    <a:pt x="1415" y="1458"/>
                  </a:lnTo>
                  <a:lnTo>
                    <a:pt x="1358" y="1438"/>
                  </a:lnTo>
                  <a:lnTo>
                    <a:pt x="1303" y="1419"/>
                  </a:lnTo>
                  <a:lnTo>
                    <a:pt x="1250" y="1397"/>
                  </a:lnTo>
                  <a:lnTo>
                    <a:pt x="1198" y="1373"/>
                  </a:lnTo>
                  <a:lnTo>
                    <a:pt x="1149" y="1350"/>
                  </a:lnTo>
                  <a:lnTo>
                    <a:pt x="1101" y="1324"/>
                  </a:lnTo>
                  <a:lnTo>
                    <a:pt x="1054" y="1298"/>
                  </a:lnTo>
                  <a:lnTo>
                    <a:pt x="1011" y="1271"/>
                  </a:lnTo>
                  <a:lnTo>
                    <a:pt x="967" y="1242"/>
                  </a:lnTo>
                  <a:lnTo>
                    <a:pt x="926" y="1214"/>
                  </a:lnTo>
                  <a:lnTo>
                    <a:pt x="886" y="1184"/>
                  </a:lnTo>
                  <a:lnTo>
                    <a:pt x="847" y="1153"/>
                  </a:lnTo>
                  <a:lnTo>
                    <a:pt x="810" y="1122"/>
                  </a:lnTo>
                  <a:lnTo>
                    <a:pt x="775" y="1091"/>
                  </a:lnTo>
                  <a:lnTo>
                    <a:pt x="741" y="1059"/>
                  </a:lnTo>
                  <a:lnTo>
                    <a:pt x="707" y="1026"/>
                  </a:lnTo>
                  <a:lnTo>
                    <a:pt x="676" y="993"/>
                  </a:lnTo>
                  <a:lnTo>
                    <a:pt x="646" y="959"/>
                  </a:lnTo>
                  <a:lnTo>
                    <a:pt x="617" y="924"/>
                  </a:lnTo>
                  <a:lnTo>
                    <a:pt x="589" y="890"/>
                  </a:lnTo>
                  <a:lnTo>
                    <a:pt x="562" y="856"/>
                  </a:lnTo>
                  <a:lnTo>
                    <a:pt x="538" y="822"/>
                  </a:lnTo>
                  <a:lnTo>
                    <a:pt x="514" y="788"/>
                  </a:lnTo>
                  <a:lnTo>
                    <a:pt x="490" y="753"/>
                  </a:lnTo>
                  <a:lnTo>
                    <a:pt x="468" y="719"/>
                  </a:lnTo>
                  <a:lnTo>
                    <a:pt x="447" y="685"/>
                  </a:lnTo>
                  <a:lnTo>
                    <a:pt x="428" y="651"/>
                  </a:lnTo>
                  <a:lnTo>
                    <a:pt x="409" y="618"/>
                  </a:lnTo>
                  <a:lnTo>
                    <a:pt x="392" y="585"/>
                  </a:lnTo>
                  <a:lnTo>
                    <a:pt x="375" y="551"/>
                  </a:lnTo>
                  <a:lnTo>
                    <a:pt x="359" y="519"/>
                  </a:lnTo>
                  <a:lnTo>
                    <a:pt x="345" y="488"/>
                  </a:lnTo>
                  <a:lnTo>
                    <a:pt x="330" y="457"/>
                  </a:lnTo>
                  <a:lnTo>
                    <a:pt x="319" y="428"/>
                  </a:lnTo>
                  <a:lnTo>
                    <a:pt x="295" y="369"/>
                  </a:lnTo>
                  <a:lnTo>
                    <a:pt x="276" y="315"/>
                  </a:lnTo>
                  <a:lnTo>
                    <a:pt x="259" y="265"/>
                  </a:lnTo>
                  <a:lnTo>
                    <a:pt x="245" y="221"/>
                  </a:lnTo>
                  <a:lnTo>
                    <a:pt x="235" y="182"/>
                  </a:lnTo>
                  <a:lnTo>
                    <a:pt x="227" y="150"/>
                  </a:lnTo>
                  <a:lnTo>
                    <a:pt x="216" y="103"/>
                  </a:lnTo>
                  <a:lnTo>
                    <a:pt x="213" y="90"/>
                  </a:lnTo>
                  <a:lnTo>
                    <a:pt x="0" y="108"/>
                  </a:lnTo>
                  <a:lnTo>
                    <a:pt x="213" y="90"/>
                  </a:lnTo>
                  <a:lnTo>
                    <a:pt x="211" y="78"/>
                  </a:lnTo>
                  <a:lnTo>
                    <a:pt x="207" y="67"/>
                  </a:lnTo>
                  <a:lnTo>
                    <a:pt x="203" y="55"/>
                  </a:lnTo>
                  <a:lnTo>
                    <a:pt x="197" y="46"/>
                  </a:lnTo>
                  <a:lnTo>
                    <a:pt x="191" y="36"/>
                  </a:lnTo>
                  <a:lnTo>
                    <a:pt x="183" y="29"/>
                  </a:lnTo>
                  <a:lnTo>
                    <a:pt x="176" y="22"/>
                  </a:lnTo>
                  <a:lnTo>
                    <a:pt x="168" y="17"/>
                  </a:lnTo>
                  <a:lnTo>
                    <a:pt x="158" y="12"/>
                  </a:lnTo>
                  <a:lnTo>
                    <a:pt x="150" y="7"/>
                  </a:lnTo>
                  <a:lnTo>
                    <a:pt x="140" y="4"/>
                  </a:lnTo>
                  <a:lnTo>
                    <a:pt x="131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1"/>
                  </a:lnTo>
                  <a:lnTo>
                    <a:pt x="81" y="3"/>
                  </a:lnTo>
                  <a:lnTo>
                    <a:pt x="70" y="6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4" y="20"/>
                  </a:lnTo>
                  <a:lnTo>
                    <a:pt x="36" y="26"/>
                  </a:lnTo>
                  <a:lnTo>
                    <a:pt x="29" y="32"/>
                  </a:lnTo>
                  <a:lnTo>
                    <a:pt x="22" y="40"/>
                  </a:lnTo>
                  <a:lnTo>
                    <a:pt x="16" y="48"/>
                  </a:lnTo>
                  <a:lnTo>
                    <a:pt x="10" y="57"/>
                  </a:lnTo>
                  <a:lnTo>
                    <a:pt x="6" y="67"/>
                  </a:lnTo>
                  <a:lnTo>
                    <a:pt x="3" y="77"/>
                  </a:lnTo>
                  <a:lnTo>
                    <a:pt x="1" y="88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" y="125"/>
                  </a:lnTo>
                  <a:lnTo>
                    <a:pt x="215" y="1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00120" y="1859040"/>
              <a:ext cx="12600" cy="96840"/>
            </a:xfrm>
            <a:custGeom>
              <a:avLst/>
              <a:gdLst/>
              <a:ahLst/>
              <a:rect l="l" t="t" r="r" b="b"/>
              <a:pathLst>
                <a:path w="215" h="1721">
                  <a:moveTo>
                    <a:pt x="2" y="1631"/>
                  </a:moveTo>
                  <a:lnTo>
                    <a:pt x="215" y="1613"/>
                  </a:lnTo>
                  <a:lnTo>
                    <a:pt x="215" y="0"/>
                  </a:lnTo>
                  <a:lnTo>
                    <a:pt x="0" y="0"/>
                  </a:lnTo>
                  <a:lnTo>
                    <a:pt x="0" y="1613"/>
                  </a:lnTo>
                  <a:lnTo>
                    <a:pt x="2" y="1631"/>
                  </a:lnTo>
                  <a:lnTo>
                    <a:pt x="0" y="1613"/>
                  </a:lnTo>
                  <a:lnTo>
                    <a:pt x="1" y="1626"/>
                  </a:lnTo>
                  <a:lnTo>
                    <a:pt x="2" y="1638"/>
                  </a:lnTo>
                  <a:lnTo>
                    <a:pt x="5" y="1649"/>
                  </a:lnTo>
                  <a:lnTo>
                    <a:pt x="9" y="1661"/>
                  </a:lnTo>
                  <a:lnTo>
                    <a:pt x="15" y="1670"/>
                  </a:lnTo>
                  <a:lnTo>
                    <a:pt x="20" y="1678"/>
                  </a:lnTo>
                  <a:lnTo>
                    <a:pt x="26" y="1687"/>
                  </a:lnTo>
                  <a:lnTo>
                    <a:pt x="33" y="1694"/>
                  </a:lnTo>
                  <a:lnTo>
                    <a:pt x="41" y="1700"/>
                  </a:lnTo>
                  <a:lnTo>
                    <a:pt x="50" y="1705"/>
                  </a:lnTo>
                  <a:lnTo>
                    <a:pt x="59" y="1710"/>
                  </a:lnTo>
                  <a:lnTo>
                    <a:pt x="68" y="1715"/>
                  </a:lnTo>
                  <a:lnTo>
                    <a:pt x="78" y="1717"/>
                  </a:lnTo>
                  <a:lnTo>
                    <a:pt x="88" y="1719"/>
                  </a:lnTo>
                  <a:lnTo>
                    <a:pt x="97" y="1721"/>
                  </a:lnTo>
                  <a:lnTo>
                    <a:pt x="108" y="1721"/>
                  </a:lnTo>
                  <a:lnTo>
                    <a:pt x="118" y="1721"/>
                  </a:lnTo>
                  <a:lnTo>
                    <a:pt x="127" y="1719"/>
                  </a:lnTo>
                  <a:lnTo>
                    <a:pt x="138" y="1717"/>
                  </a:lnTo>
                  <a:lnTo>
                    <a:pt x="147" y="1715"/>
                  </a:lnTo>
                  <a:lnTo>
                    <a:pt x="156" y="1710"/>
                  </a:lnTo>
                  <a:lnTo>
                    <a:pt x="166" y="1705"/>
                  </a:lnTo>
                  <a:lnTo>
                    <a:pt x="174" y="1700"/>
                  </a:lnTo>
                  <a:lnTo>
                    <a:pt x="181" y="1694"/>
                  </a:lnTo>
                  <a:lnTo>
                    <a:pt x="189" y="1687"/>
                  </a:lnTo>
                  <a:lnTo>
                    <a:pt x="196" y="1678"/>
                  </a:lnTo>
                  <a:lnTo>
                    <a:pt x="201" y="1670"/>
                  </a:lnTo>
                  <a:lnTo>
                    <a:pt x="206" y="1661"/>
                  </a:lnTo>
                  <a:lnTo>
                    <a:pt x="210" y="1649"/>
                  </a:lnTo>
                  <a:lnTo>
                    <a:pt x="213" y="1638"/>
                  </a:lnTo>
                  <a:lnTo>
                    <a:pt x="214" y="1626"/>
                  </a:lnTo>
                  <a:lnTo>
                    <a:pt x="215" y="1613"/>
                  </a:lnTo>
                  <a:lnTo>
                    <a:pt x="2" y="16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00120" y="1949400"/>
              <a:ext cx="123840" cy="95400"/>
            </a:xfrm>
            <a:custGeom>
              <a:avLst/>
              <a:gdLst/>
              <a:ahLst/>
              <a:rect l="l" t="t" r="r" b="b"/>
              <a:pathLst>
                <a:path w="2194" h="1680">
                  <a:moveTo>
                    <a:pt x="2086" y="1464"/>
                  </a:moveTo>
                  <a:lnTo>
                    <a:pt x="2086" y="1464"/>
                  </a:lnTo>
                  <a:lnTo>
                    <a:pt x="2047" y="1464"/>
                  </a:lnTo>
                  <a:lnTo>
                    <a:pt x="2009" y="1463"/>
                  </a:lnTo>
                  <a:lnTo>
                    <a:pt x="1971" y="1462"/>
                  </a:lnTo>
                  <a:lnTo>
                    <a:pt x="1934" y="1460"/>
                  </a:lnTo>
                  <a:lnTo>
                    <a:pt x="1898" y="1458"/>
                  </a:lnTo>
                  <a:lnTo>
                    <a:pt x="1862" y="1455"/>
                  </a:lnTo>
                  <a:lnTo>
                    <a:pt x="1826" y="1452"/>
                  </a:lnTo>
                  <a:lnTo>
                    <a:pt x="1791" y="1448"/>
                  </a:lnTo>
                  <a:lnTo>
                    <a:pt x="1757" y="1444"/>
                  </a:lnTo>
                  <a:lnTo>
                    <a:pt x="1724" y="1438"/>
                  </a:lnTo>
                  <a:lnTo>
                    <a:pt x="1689" y="1434"/>
                  </a:lnTo>
                  <a:lnTo>
                    <a:pt x="1657" y="1428"/>
                  </a:lnTo>
                  <a:lnTo>
                    <a:pt x="1625" y="1422"/>
                  </a:lnTo>
                  <a:lnTo>
                    <a:pt x="1593" y="1416"/>
                  </a:lnTo>
                  <a:lnTo>
                    <a:pt x="1562" y="1408"/>
                  </a:lnTo>
                  <a:lnTo>
                    <a:pt x="1531" y="1401"/>
                  </a:lnTo>
                  <a:lnTo>
                    <a:pt x="1500" y="1394"/>
                  </a:lnTo>
                  <a:lnTo>
                    <a:pt x="1471" y="1386"/>
                  </a:lnTo>
                  <a:lnTo>
                    <a:pt x="1441" y="1376"/>
                  </a:lnTo>
                  <a:lnTo>
                    <a:pt x="1413" y="1368"/>
                  </a:lnTo>
                  <a:lnTo>
                    <a:pt x="1356" y="1349"/>
                  </a:lnTo>
                  <a:lnTo>
                    <a:pt x="1301" y="1329"/>
                  </a:lnTo>
                  <a:lnTo>
                    <a:pt x="1248" y="1307"/>
                  </a:lnTo>
                  <a:lnTo>
                    <a:pt x="1196" y="1284"/>
                  </a:lnTo>
                  <a:lnTo>
                    <a:pt x="1147" y="1260"/>
                  </a:lnTo>
                  <a:lnTo>
                    <a:pt x="1099" y="1235"/>
                  </a:lnTo>
                  <a:lnTo>
                    <a:pt x="1052" y="1209"/>
                  </a:lnTo>
                  <a:lnTo>
                    <a:pt x="1009" y="1181"/>
                  </a:lnTo>
                  <a:lnTo>
                    <a:pt x="965" y="1153"/>
                  </a:lnTo>
                  <a:lnTo>
                    <a:pt x="924" y="1124"/>
                  </a:lnTo>
                  <a:lnTo>
                    <a:pt x="884" y="1094"/>
                  </a:lnTo>
                  <a:lnTo>
                    <a:pt x="845" y="1064"/>
                  </a:lnTo>
                  <a:lnTo>
                    <a:pt x="808" y="1033"/>
                  </a:lnTo>
                  <a:lnTo>
                    <a:pt x="773" y="1001"/>
                  </a:lnTo>
                  <a:lnTo>
                    <a:pt x="739" y="969"/>
                  </a:lnTo>
                  <a:lnTo>
                    <a:pt x="705" y="936"/>
                  </a:lnTo>
                  <a:lnTo>
                    <a:pt x="674" y="903"/>
                  </a:lnTo>
                  <a:lnTo>
                    <a:pt x="644" y="870"/>
                  </a:lnTo>
                  <a:lnTo>
                    <a:pt x="615" y="835"/>
                  </a:lnTo>
                  <a:lnTo>
                    <a:pt x="587" y="801"/>
                  </a:lnTo>
                  <a:lnTo>
                    <a:pt x="560" y="767"/>
                  </a:lnTo>
                  <a:lnTo>
                    <a:pt x="536" y="733"/>
                  </a:lnTo>
                  <a:lnTo>
                    <a:pt x="512" y="699"/>
                  </a:lnTo>
                  <a:lnTo>
                    <a:pt x="488" y="663"/>
                  </a:lnTo>
                  <a:lnTo>
                    <a:pt x="466" y="629"/>
                  </a:lnTo>
                  <a:lnTo>
                    <a:pt x="445" y="595"/>
                  </a:lnTo>
                  <a:lnTo>
                    <a:pt x="426" y="562"/>
                  </a:lnTo>
                  <a:lnTo>
                    <a:pt x="407" y="528"/>
                  </a:lnTo>
                  <a:lnTo>
                    <a:pt x="390" y="495"/>
                  </a:lnTo>
                  <a:lnTo>
                    <a:pt x="373" y="462"/>
                  </a:lnTo>
                  <a:lnTo>
                    <a:pt x="357" y="429"/>
                  </a:lnTo>
                  <a:lnTo>
                    <a:pt x="343" y="398"/>
                  </a:lnTo>
                  <a:lnTo>
                    <a:pt x="328" y="367"/>
                  </a:lnTo>
                  <a:lnTo>
                    <a:pt x="317" y="338"/>
                  </a:lnTo>
                  <a:lnTo>
                    <a:pt x="293" y="279"/>
                  </a:lnTo>
                  <a:lnTo>
                    <a:pt x="274" y="225"/>
                  </a:lnTo>
                  <a:lnTo>
                    <a:pt x="257" y="176"/>
                  </a:lnTo>
                  <a:lnTo>
                    <a:pt x="243" y="132"/>
                  </a:lnTo>
                  <a:lnTo>
                    <a:pt x="233" y="93"/>
                  </a:lnTo>
                  <a:lnTo>
                    <a:pt x="225" y="61"/>
                  </a:lnTo>
                  <a:lnTo>
                    <a:pt x="214" y="13"/>
                  </a:lnTo>
                  <a:lnTo>
                    <a:pt x="211" y="0"/>
                  </a:lnTo>
                  <a:lnTo>
                    <a:pt x="0" y="36"/>
                  </a:lnTo>
                  <a:lnTo>
                    <a:pt x="4" y="57"/>
                  </a:lnTo>
                  <a:lnTo>
                    <a:pt x="16" y="109"/>
                  </a:lnTo>
                  <a:lnTo>
                    <a:pt x="25" y="148"/>
                  </a:lnTo>
                  <a:lnTo>
                    <a:pt x="37" y="191"/>
                  </a:lnTo>
                  <a:lnTo>
                    <a:pt x="53" y="242"/>
                  </a:lnTo>
                  <a:lnTo>
                    <a:pt x="71" y="297"/>
                  </a:lnTo>
                  <a:lnTo>
                    <a:pt x="92" y="356"/>
                  </a:lnTo>
                  <a:lnTo>
                    <a:pt x="117" y="419"/>
                  </a:lnTo>
                  <a:lnTo>
                    <a:pt x="132" y="453"/>
                  </a:lnTo>
                  <a:lnTo>
                    <a:pt x="147" y="487"/>
                  </a:lnTo>
                  <a:lnTo>
                    <a:pt x="163" y="523"/>
                  </a:lnTo>
                  <a:lnTo>
                    <a:pt x="180" y="558"/>
                  </a:lnTo>
                  <a:lnTo>
                    <a:pt x="199" y="593"/>
                  </a:lnTo>
                  <a:lnTo>
                    <a:pt x="219" y="630"/>
                  </a:lnTo>
                  <a:lnTo>
                    <a:pt x="239" y="668"/>
                  </a:lnTo>
                  <a:lnTo>
                    <a:pt x="261" y="705"/>
                  </a:lnTo>
                  <a:lnTo>
                    <a:pt x="284" y="743"/>
                  </a:lnTo>
                  <a:lnTo>
                    <a:pt x="309" y="782"/>
                  </a:lnTo>
                  <a:lnTo>
                    <a:pt x="334" y="820"/>
                  </a:lnTo>
                  <a:lnTo>
                    <a:pt x="362" y="858"/>
                  </a:lnTo>
                  <a:lnTo>
                    <a:pt x="390" y="897"/>
                  </a:lnTo>
                  <a:lnTo>
                    <a:pt x="419" y="935"/>
                  </a:lnTo>
                  <a:lnTo>
                    <a:pt x="450" y="973"/>
                  </a:lnTo>
                  <a:lnTo>
                    <a:pt x="483" y="1011"/>
                  </a:lnTo>
                  <a:lnTo>
                    <a:pt x="516" y="1049"/>
                  </a:lnTo>
                  <a:lnTo>
                    <a:pt x="552" y="1086"/>
                  </a:lnTo>
                  <a:lnTo>
                    <a:pt x="589" y="1123"/>
                  </a:lnTo>
                  <a:lnTo>
                    <a:pt x="628" y="1160"/>
                  </a:lnTo>
                  <a:lnTo>
                    <a:pt x="668" y="1196"/>
                  </a:lnTo>
                  <a:lnTo>
                    <a:pt x="710" y="1231"/>
                  </a:lnTo>
                  <a:lnTo>
                    <a:pt x="753" y="1265"/>
                  </a:lnTo>
                  <a:lnTo>
                    <a:pt x="799" y="1299"/>
                  </a:lnTo>
                  <a:lnTo>
                    <a:pt x="845" y="1332"/>
                  </a:lnTo>
                  <a:lnTo>
                    <a:pt x="894" y="1364"/>
                  </a:lnTo>
                  <a:lnTo>
                    <a:pt x="945" y="1394"/>
                  </a:lnTo>
                  <a:lnTo>
                    <a:pt x="996" y="1424"/>
                  </a:lnTo>
                  <a:lnTo>
                    <a:pt x="1050" y="1452"/>
                  </a:lnTo>
                  <a:lnTo>
                    <a:pt x="1106" y="1479"/>
                  </a:lnTo>
                  <a:lnTo>
                    <a:pt x="1163" y="1505"/>
                  </a:lnTo>
                  <a:lnTo>
                    <a:pt x="1223" y="1529"/>
                  </a:lnTo>
                  <a:lnTo>
                    <a:pt x="1284" y="1551"/>
                  </a:lnTo>
                  <a:lnTo>
                    <a:pt x="1347" y="1573"/>
                  </a:lnTo>
                  <a:lnTo>
                    <a:pt x="1380" y="1582"/>
                  </a:lnTo>
                  <a:lnTo>
                    <a:pt x="1413" y="1592"/>
                  </a:lnTo>
                  <a:lnTo>
                    <a:pt x="1446" y="1601"/>
                  </a:lnTo>
                  <a:lnTo>
                    <a:pt x="1479" y="1609"/>
                  </a:lnTo>
                  <a:lnTo>
                    <a:pt x="1513" y="1618"/>
                  </a:lnTo>
                  <a:lnTo>
                    <a:pt x="1548" y="1626"/>
                  </a:lnTo>
                  <a:lnTo>
                    <a:pt x="1584" y="1633"/>
                  </a:lnTo>
                  <a:lnTo>
                    <a:pt x="1619" y="1639"/>
                  </a:lnTo>
                  <a:lnTo>
                    <a:pt x="1655" y="1646"/>
                  </a:lnTo>
                  <a:lnTo>
                    <a:pt x="1692" y="1652"/>
                  </a:lnTo>
                  <a:lnTo>
                    <a:pt x="1729" y="1657"/>
                  </a:lnTo>
                  <a:lnTo>
                    <a:pt x="1767" y="1661"/>
                  </a:lnTo>
                  <a:lnTo>
                    <a:pt x="1804" y="1665"/>
                  </a:lnTo>
                  <a:lnTo>
                    <a:pt x="1844" y="1669"/>
                  </a:lnTo>
                  <a:lnTo>
                    <a:pt x="1883" y="1673"/>
                  </a:lnTo>
                  <a:lnTo>
                    <a:pt x="1922" y="1675"/>
                  </a:lnTo>
                  <a:lnTo>
                    <a:pt x="1963" y="1677"/>
                  </a:lnTo>
                  <a:lnTo>
                    <a:pt x="2003" y="1679"/>
                  </a:lnTo>
                  <a:lnTo>
                    <a:pt x="2045" y="1680"/>
                  </a:lnTo>
                  <a:lnTo>
                    <a:pt x="2086" y="1680"/>
                  </a:lnTo>
                  <a:lnTo>
                    <a:pt x="2086" y="1680"/>
                  </a:lnTo>
                  <a:lnTo>
                    <a:pt x="2086" y="1680"/>
                  </a:lnTo>
                  <a:lnTo>
                    <a:pt x="2099" y="1680"/>
                  </a:lnTo>
                  <a:lnTo>
                    <a:pt x="2111" y="1678"/>
                  </a:lnTo>
                  <a:lnTo>
                    <a:pt x="2122" y="1675"/>
                  </a:lnTo>
                  <a:lnTo>
                    <a:pt x="2133" y="1670"/>
                  </a:lnTo>
                  <a:lnTo>
                    <a:pt x="2143" y="1666"/>
                  </a:lnTo>
                  <a:lnTo>
                    <a:pt x="2151" y="1660"/>
                  </a:lnTo>
                  <a:lnTo>
                    <a:pt x="2160" y="1654"/>
                  </a:lnTo>
                  <a:lnTo>
                    <a:pt x="2167" y="1647"/>
                  </a:lnTo>
                  <a:lnTo>
                    <a:pt x="2173" y="1638"/>
                  </a:lnTo>
                  <a:lnTo>
                    <a:pt x="2178" y="1630"/>
                  </a:lnTo>
                  <a:lnTo>
                    <a:pt x="2183" y="1621"/>
                  </a:lnTo>
                  <a:lnTo>
                    <a:pt x="2186" y="1611"/>
                  </a:lnTo>
                  <a:lnTo>
                    <a:pt x="2190" y="1602"/>
                  </a:lnTo>
                  <a:lnTo>
                    <a:pt x="2192" y="1593"/>
                  </a:lnTo>
                  <a:lnTo>
                    <a:pt x="2194" y="1582"/>
                  </a:lnTo>
                  <a:lnTo>
                    <a:pt x="2194" y="1572"/>
                  </a:lnTo>
                  <a:lnTo>
                    <a:pt x="2194" y="1562"/>
                  </a:lnTo>
                  <a:lnTo>
                    <a:pt x="2192" y="1552"/>
                  </a:lnTo>
                  <a:lnTo>
                    <a:pt x="2190" y="1542"/>
                  </a:lnTo>
                  <a:lnTo>
                    <a:pt x="2186" y="1533"/>
                  </a:lnTo>
                  <a:lnTo>
                    <a:pt x="2183" y="1523"/>
                  </a:lnTo>
                  <a:lnTo>
                    <a:pt x="2178" y="1514"/>
                  </a:lnTo>
                  <a:lnTo>
                    <a:pt x="2173" y="1506"/>
                  </a:lnTo>
                  <a:lnTo>
                    <a:pt x="2167" y="1498"/>
                  </a:lnTo>
                  <a:lnTo>
                    <a:pt x="2160" y="1491"/>
                  </a:lnTo>
                  <a:lnTo>
                    <a:pt x="2151" y="1484"/>
                  </a:lnTo>
                  <a:lnTo>
                    <a:pt x="2143" y="1479"/>
                  </a:lnTo>
                  <a:lnTo>
                    <a:pt x="2133" y="1474"/>
                  </a:lnTo>
                  <a:lnTo>
                    <a:pt x="2122" y="1469"/>
                  </a:lnTo>
                  <a:lnTo>
                    <a:pt x="2111" y="1467"/>
                  </a:lnTo>
                  <a:lnTo>
                    <a:pt x="2099" y="1465"/>
                  </a:lnTo>
                  <a:lnTo>
                    <a:pt x="2086" y="146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9280" y="2031840"/>
              <a:ext cx="23760" cy="12960"/>
            </a:xfrm>
            <a:custGeom>
              <a:avLst/>
              <a:gdLst/>
              <a:ahLst/>
              <a:rect l="l" t="t" r="r" b="b"/>
              <a:pathLst>
                <a:path w="424" h="216">
                  <a:moveTo>
                    <a:pt x="424" y="110"/>
                  </a:moveTo>
                  <a:lnTo>
                    <a:pt x="316" y="0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316" y="216"/>
                  </a:lnTo>
                  <a:lnTo>
                    <a:pt x="424" y="110"/>
                  </a:lnTo>
                  <a:lnTo>
                    <a:pt x="316" y="216"/>
                  </a:lnTo>
                  <a:lnTo>
                    <a:pt x="329" y="216"/>
                  </a:lnTo>
                  <a:lnTo>
                    <a:pt x="342" y="214"/>
                  </a:lnTo>
                  <a:lnTo>
                    <a:pt x="352" y="211"/>
                  </a:lnTo>
                  <a:lnTo>
                    <a:pt x="364" y="206"/>
                  </a:lnTo>
                  <a:lnTo>
                    <a:pt x="373" y="202"/>
                  </a:lnTo>
                  <a:lnTo>
                    <a:pt x="382" y="196"/>
                  </a:lnTo>
                  <a:lnTo>
                    <a:pt x="389" y="190"/>
                  </a:lnTo>
                  <a:lnTo>
                    <a:pt x="397" y="183"/>
                  </a:lnTo>
                  <a:lnTo>
                    <a:pt x="403" y="174"/>
                  </a:lnTo>
                  <a:lnTo>
                    <a:pt x="409" y="166"/>
                  </a:lnTo>
                  <a:lnTo>
                    <a:pt x="413" y="157"/>
                  </a:lnTo>
                  <a:lnTo>
                    <a:pt x="417" y="147"/>
                  </a:lnTo>
                  <a:lnTo>
                    <a:pt x="419" y="138"/>
                  </a:lnTo>
                  <a:lnTo>
                    <a:pt x="423" y="129"/>
                  </a:lnTo>
                  <a:lnTo>
                    <a:pt x="424" y="118"/>
                  </a:lnTo>
                  <a:lnTo>
                    <a:pt x="424" y="108"/>
                  </a:lnTo>
                  <a:lnTo>
                    <a:pt x="424" y="98"/>
                  </a:lnTo>
                  <a:lnTo>
                    <a:pt x="423" y="88"/>
                  </a:lnTo>
                  <a:lnTo>
                    <a:pt x="419" y="78"/>
                  </a:lnTo>
                  <a:lnTo>
                    <a:pt x="417" y="69"/>
                  </a:lnTo>
                  <a:lnTo>
                    <a:pt x="413" y="59"/>
                  </a:lnTo>
                  <a:lnTo>
                    <a:pt x="409" y="50"/>
                  </a:lnTo>
                  <a:lnTo>
                    <a:pt x="403" y="42"/>
                  </a:lnTo>
                  <a:lnTo>
                    <a:pt x="397" y="34"/>
                  </a:lnTo>
                  <a:lnTo>
                    <a:pt x="389" y="27"/>
                  </a:lnTo>
                  <a:lnTo>
                    <a:pt x="382" y="20"/>
                  </a:lnTo>
                  <a:lnTo>
                    <a:pt x="373" y="15"/>
                  </a:lnTo>
                  <a:lnTo>
                    <a:pt x="364" y="10"/>
                  </a:lnTo>
                  <a:lnTo>
                    <a:pt x="352" y="5"/>
                  </a:lnTo>
                  <a:lnTo>
                    <a:pt x="342" y="3"/>
                  </a:lnTo>
                  <a:lnTo>
                    <a:pt x="329" y="1"/>
                  </a:lnTo>
                  <a:lnTo>
                    <a:pt x="316" y="0"/>
                  </a:lnTo>
                  <a:lnTo>
                    <a:pt x="424" y="11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0440" y="1941480"/>
              <a:ext cx="14040" cy="96840"/>
            </a:xfrm>
            <a:custGeom>
              <a:avLst/>
              <a:gdLst/>
              <a:ahLst/>
              <a:rect l="l" t="t" r="r" b="b"/>
              <a:pathLst>
                <a:path w="244" h="1723">
                  <a:moveTo>
                    <a:pt x="136" y="0"/>
                  </a:moveTo>
                  <a:lnTo>
                    <a:pt x="29" y="106"/>
                  </a:lnTo>
                  <a:lnTo>
                    <a:pt x="0" y="1720"/>
                  </a:lnTo>
                  <a:lnTo>
                    <a:pt x="215" y="1723"/>
                  </a:lnTo>
                  <a:lnTo>
                    <a:pt x="244" y="109"/>
                  </a:lnTo>
                  <a:lnTo>
                    <a:pt x="136" y="0"/>
                  </a:lnTo>
                  <a:lnTo>
                    <a:pt x="244" y="109"/>
                  </a:lnTo>
                  <a:lnTo>
                    <a:pt x="244" y="97"/>
                  </a:lnTo>
                  <a:lnTo>
                    <a:pt x="242" y="84"/>
                  </a:lnTo>
                  <a:lnTo>
                    <a:pt x="238" y="73"/>
                  </a:lnTo>
                  <a:lnTo>
                    <a:pt x="235" y="62"/>
                  </a:lnTo>
                  <a:lnTo>
                    <a:pt x="230" y="52"/>
                  </a:lnTo>
                  <a:lnTo>
                    <a:pt x="225" y="44"/>
                  </a:lnTo>
                  <a:lnTo>
                    <a:pt x="219" y="35"/>
                  </a:lnTo>
                  <a:lnTo>
                    <a:pt x="212" y="28"/>
                  </a:lnTo>
                  <a:lnTo>
                    <a:pt x="203" y="22"/>
                  </a:lnTo>
                  <a:lnTo>
                    <a:pt x="195" y="17"/>
                  </a:lnTo>
                  <a:lnTo>
                    <a:pt x="187" y="12"/>
                  </a:lnTo>
                  <a:lnTo>
                    <a:pt x="177" y="7"/>
                  </a:lnTo>
                  <a:lnTo>
                    <a:pt x="168" y="4"/>
                  </a:lnTo>
                  <a:lnTo>
                    <a:pt x="158" y="2"/>
                  </a:lnTo>
                  <a:lnTo>
                    <a:pt x="148" y="1"/>
                  </a:lnTo>
                  <a:lnTo>
                    <a:pt x="138" y="0"/>
                  </a:lnTo>
                  <a:lnTo>
                    <a:pt x="128" y="0"/>
                  </a:lnTo>
                  <a:lnTo>
                    <a:pt x="118" y="1"/>
                  </a:lnTo>
                  <a:lnTo>
                    <a:pt x="108" y="3"/>
                  </a:lnTo>
                  <a:lnTo>
                    <a:pt x="99" y="6"/>
                  </a:lnTo>
                  <a:lnTo>
                    <a:pt x="89" y="10"/>
                  </a:lnTo>
                  <a:lnTo>
                    <a:pt x="80" y="15"/>
                  </a:lnTo>
                  <a:lnTo>
                    <a:pt x="72" y="20"/>
                  </a:lnTo>
                  <a:lnTo>
                    <a:pt x="63" y="26"/>
                  </a:lnTo>
                  <a:lnTo>
                    <a:pt x="56" y="33"/>
                  </a:lnTo>
                  <a:lnTo>
                    <a:pt x="50" y="41"/>
                  </a:lnTo>
                  <a:lnTo>
                    <a:pt x="44" y="50"/>
                  </a:lnTo>
                  <a:lnTo>
                    <a:pt x="39" y="59"/>
                  </a:lnTo>
                  <a:lnTo>
                    <a:pt x="35" y="70"/>
                  </a:lnTo>
                  <a:lnTo>
                    <a:pt x="32" y="81"/>
                  </a:lnTo>
                  <a:lnTo>
                    <a:pt x="30" y="92"/>
                  </a:lnTo>
                  <a:lnTo>
                    <a:pt x="29" y="10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19280" y="1941480"/>
              <a:ext cx="190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0120" y="1859040"/>
              <a:ext cx="12600" cy="9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19280" y="2031840"/>
              <a:ext cx="172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217520" y="1944720"/>
              <a:ext cx="96840" cy="92160"/>
            </a:xfrm>
            <a:custGeom>
              <a:avLst/>
              <a:gdLst/>
              <a:ahLst/>
              <a:rect l="l" t="t" r="r" b="b"/>
              <a:pathLst>
                <a:path w="1724" h="1618">
                  <a:moveTo>
                    <a:pt x="0" y="1618"/>
                  </a:moveTo>
                  <a:lnTo>
                    <a:pt x="1724" y="1618"/>
                  </a:lnTo>
                  <a:lnTo>
                    <a:pt x="1724" y="0"/>
                  </a:lnTo>
                  <a:lnTo>
                    <a:pt x="0" y="5"/>
                  </a:lnTo>
                  <a:lnTo>
                    <a:pt x="0" y="16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217520" y="2030400"/>
              <a:ext cx="103320" cy="12600"/>
            </a:xfrm>
            <a:custGeom>
              <a:avLst/>
              <a:gdLst/>
              <a:ahLst/>
              <a:rect l="l" t="t" r="r" b="b"/>
              <a:pathLst>
                <a:path w="1832" h="216">
                  <a:moveTo>
                    <a:pt x="1832" y="108"/>
                  </a:moveTo>
                  <a:lnTo>
                    <a:pt x="1724" y="0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1724" y="216"/>
                  </a:lnTo>
                  <a:lnTo>
                    <a:pt x="1832" y="108"/>
                  </a:lnTo>
                  <a:lnTo>
                    <a:pt x="1724" y="216"/>
                  </a:lnTo>
                  <a:lnTo>
                    <a:pt x="1736" y="215"/>
                  </a:lnTo>
                  <a:lnTo>
                    <a:pt x="1749" y="214"/>
                  </a:lnTo>
                  <a:lnTo>
                    <a:pt x="1760" y="210"/>
                  </a:lnTo>
                  <a:lnTo>
                    <a:pt x="1770" y="206"/>
                  </a:lnTo>
                  <a:lnTo>
                    <a:pt x="1781" y="201"/>
                  </a:lnTo>
                  <a:lnTo>
                    <a:pt x="1789" y="196"/>
                  </a:lnTo>
                  <a:lnTo>
                    <a:pt x="1797" y="190"/>
                  </a:lnTo>
                  <a:lnTo>
                    <a:pt x="1805" y="182"/>
                  </a:lnTo>
                  <a:lnTo>
                    <a:pt x="1811" y="174"/>
                  </a:lnTo>
                  <a:lnTo>
                    <a:pt x="1816" y="166"/>
                  </a:lnTo>
                  <a:lnTo>
                    <a:pt x="1820" y="157"/>
                  </a:lnTo>
                  <a:lnTo>
                    <a:pt x="1824" y="147"/>
                  </a:lnTo>
                  <a:lnTo>
                    <a:pt x="1827" y="138"/>
                  </a:lnTo>
                  <a:lnTo>
                    <a:pt x="1830" y="128"/>
                  </a:lnTo>
                  <a:lnTo>
                    <a:pt x="1831" y="118"/>
                  </a:lnTo>
                  <a:lnTo>
                    <a:pt x="1832" y="108"/>
                  </a:lnTo>
                  <a:lnTo>
                    <a:pt x="1831" y="97"/>
                  </a:lnTo>
                  <a:lnTo>
                    <a:pt x="1830" y="88"/>
                  </a:lnTo>
                  <a:lnTo>
                    <a:pt x="1827" y="78"/>
                  </a:lnTo>
                  <a:lnTo>
                    <a:pt x="1824" y="68"/>
                  </a:lnTo>
                  <a:lnTo>
                    <a:pt x="1820" y="59"/>
                  </a:lnTo>
                  <a:lnTo>
                    <a:pt x="1816" y="50"/>
                  </a:lnTo>
                  <a:lnTo>
                    <a:pt x="1811" y="42"/>
                  </a:lnTo>
                  <a:lnTo>
                    <a:pt x="1805" y="34"/>
                  </a:lnTo>
                  <a:lnTo>
                    <a:pt x="1797" y="27"/>
                  </a:lnTo>
                  <a:lnTo>
                    <a:pt x="1789" y="20"/>
                  </a:lnTo>
                  <a:lnTo>
                    <a:pt x="1781" y="15"/>
                  </a:lnTo>
                  <a:lnTo>
                    <a:pt x="1770" y="9"/>
                  </a:lnTo>
                  <a:lnTo>
                    <a:pt x="1760" y="5"/>
                  </a:lnTo>
                  <a:lnTo>
                    <a:pt x="1749" y="2"/>
                  </a:lnTo>
                  <a:lnTo>
                    <a:pt x="1736" y="1"/>
                  </a:lnTo>
                  <a:lnTo>
                    <a:pt x="1724" y="0"/>
                  </a:lnTo>
                  <a:lnTo>
                    <a:pt x="1832" y="1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09680" y="1938240"/>
              <a:ext cx="11160" cy="98640"/>
            </a:xfrm>
            <a:custGeom>
              <a:avLst/>
              <a:gdLst/>
              <a:ahLst/>
              <a:rect l="l" t="t" r="r" b="b"/>
              <a:pathLst>
                <a:path w="216" h="1725">
                  <a:moveTo>
                    <a:pt x="108" y="0"/>
                  </a:moveTo>
                  <a:lnTo>
                    <a:pt x="0" y="107"/>
                  </a:lnTo>
                  <a:lnTo>
                    <a:pt x="0" y="1725"/>
                  </a:lnTo>
                  <a:lnTo>
                    <a:pt x="216" y="1725"/>
                  </a:lnTo>
                  <a:lnTo>
                    <a:pt x="216" y="107"/>
                  </a:lnTo>
                  <a:lnTo>
                    <a:pt x="108" y="0"/>
                  </a:lnTo>
                  <a:lnTo>
                    <a:pt x="216" y="107"/>
                  </a:lnTo>
                  <a:lnTo>
                    <a:pt x="215" y="94"/>
                  </a:lnTo>
                  <a:lnTo>
                    <a:pt x="212" y="82"/>
                  </a:lnTo>
                  <a:lnTo>
                    <a:pt x="210" y="70"/>
                  </a:lnTo>
                  <a:lnTo>
                    <a:pt x="206" y="60"/>
                  </a:lnTo>
                  <a:lnTo>
                    <a:pt x="201" y="51"/>
                  </a:lnTo>
                  <a:lnTo>
                    <a:pt x="195" y="41"/>
                  </a:lnTo>
                  <a:lnTo>
                    <a:pt x="189" y="33"/>
                  </a:lnTo>
                  <a:lnTo>
                    <a:pt x="181" y="27"/>
                  </a:lnTo>
                  <a:lnTo>
                    <a:pt x="174" y="21"/>
                  </a:lnTo>
                  <a:lnTo>
                    <a:pt x="165" y="14"/>
                  </a:lnTo>
                  <a:lnTo>
                    <a:pt x="157" y="10"/>
                  </a:lnTo>
                  <a:lnTo>
                    <a:pt x="147" y="6"/>
                  </a:lnTo>
                  <a:lnTo>
                    <a:pt x="138" y="3"/>
                  </a:lnTo>
                  <a:lnTo>
                    <a:pt x="128" y="1"/>
                  </a:lnTo>
                  <a:lnTo>
                    <a:pt x="117" y="0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7" y="1"/>
                  </a:lnTo>
                  <a:lnTo>
                    <a:pt x="78" y="3"/>
                  </a:lnTo>
                  <a:lnTo>
                    <a:pt x="67" y="6"/>
                  </a:lnTo>
                  <a:lnTo>
                    <a:pt x="58" y="10"/>
                  </a:lnTo>
                  <a:lnTo>
                    <a:pt x="50" y="14"/>
                  </a:lnTo>
                  <a:lnTo>
                    <a:pt x="42" y="21"/>
                  </a:lnTo>
                  <a:lnTo>
                    <a:pt x="33" y="27"/>
                  </a:lnTo>
                  <a:lnTo>
                    <a:pt x="26" y="33"/>
                  </a:lnTo>
                  <a:lnTo>
                    <a:pt x="20" y="41"/>
                  </a:lnTo>
                  <a:lnTo>
                    <a:pt x="14" y="51"/>
                  </a:lnTo>
                  <a:lnTo>
                    <a:pt x="9" y="60"/>
                  </a:lnTo>
                  <a:lnTo>
                    <a:pt x="5" y="70"/>
                  </a:lnTo>
                  <a:lnTo>
                    <a:pt x="2" y="82"/>
                  </a:lnTo>
                  <a:lnTo>
                    <a:pt x="0" y="94"/>
                  </a:lnTo>
                  <a:lnTo>
                    <a:pt x="0" y="10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211400" y="1938240"/>
              <a:ext cx="102960" cy="12600"/>
            </a:xfrm>
            <a:custGeom>
              <a:avLst/>
              <a:gdLst/>
              <a:ahLst/>
              <a:rect l="l" t="t" r="r" b="b"/>
              <a:pathLst>
                <a:path w="1831" h="220">
                  <a:moveTo>
                    <a:pt x="0" y="112"/>
                  </a:moveTo>
                  <a:lnTo>
                    <a:pt x="107" y="220"/>
                  </a:lnTo>
                  <a:lnTo>
                    <a:pt x="1831" y="214"/>
                  </a:lnTo>
                  <a:lnTo>
                    <a:pt x="1831" y="0"/>
                  </a:lnTo>
                  <a:lnTo>
                    <a:pt x="107" y="4"/>
                  </a:lnTo>
                  <a:lnTo>
                    <a:pt x="0" y="112"/>
                  </a:lnTo>
                  <a:lnTo>
                    <a:pt x="107" y="4"/>
                  </a:lnTo>
                  <a:lnTo>
                    <a:pt x="94" y="4"/>
                  </a:lnTo>
                  <a:lnTo>
                    <a:pt x="83" y="6"/>
                  </a:lnTo>
                  <a:lnTo>
                    <a:pt x="71" y="9"/>
                  </a:lnTo>
                  <a:lnTo>
                    <a:pt x="60" y="13"/>
                  </a:lnTo>
                  <a:lnTo>
                    <a:pt x="50" y="19"/>
                  </a:lnTo>
                  <a:lnTo>
                    <a:pt x="42" y="24"/>
                  </a:lnTo>
                  <a:lnTo>
                    <a:pt x="34" y="30"/>
                  </a:lnTo>
                  <a:lnTo>
                    <a:pt x="27" y="37"/>
                  </a:lnTo>
                  <a:lnTo>
                    <a:pt x="20" y="45"/>
                  </a:lnTo>
                  <a:lnTo>
                    <a:pt x="15" y="54"/>
                  </a:lnTo>
                  <a:lnTo>
                    <a:pt x="10" y="63"/>
                  </a:lnTo>
                  <a:lnTo>
                    <a:pt x="6" y="72"/>
                  </a:lnTo>
                  <a:lnTo>
                    <a:pt x="4" y="82"/>
                  </a:lnTo>
                  <a:lnTo>
                    <a:pt x="2" y="91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2" y="131"/>
                  </a:lnTo>
                  <a:lnTo>
                    <a:pt x="4" y="142"/>
                  </a:lnTo>
                  <a:lnTo>
                    <a:pt x="6" y="151"/>
                  </a:lnTo>
                  <a:lnTo>
                    <a:pt x="10" y="160"/>
                  </a:lnTo>
                  <a:lnTo>
                    <a:pt x="15" y="170"/>
                  </a:lnTo>
                  <a:lnTo>
                    <a:pt x="20" y="178"/>
                  </a:lnTo>
                  <a:lnTo>
                    <a:pt x="27" y="185"/>
                  </a:lnTo>
                  <a:lnTo>
                    <a:pt x="34" y="193"/>
                  </a:lnTo>
                  <a:lnTo>
                    <a:pt x="42" y="200"/>
                  </a:lnTo>
                  <a:lnTo>
                    <a:pt x="50" y="205"/>
                  </a:lnTo>
                  <a:lnTo>
                    <a:pt x="60" y="210"/>
                  </a:lnTo>
                  <a:lnTo>
                    <a:pt x="71" y="214"/>
                  </a:lnTo>
                  <a:lnTo>
                    <a:pt x="83" y="216"/>
                  </a:lnTo>
                  <a:lnTo>
                    <a:pt x="94" y="218"/>
                  </a:lnTo>
                  <a:lnTo>
                    <a:pt x="107" y="22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211400" y="1944720"/>
              <a:ext cx="12600" cy="98280"/>
            </a:xfrm>
            <a:custGeom>
              <a:avLst/>
              <a:gdLst/>
              <a:ahLst/>
              <a:rect l="l" t="t" r="r" b="b"/>
              <a:pathLst>
                <a:path w="215" h="1721">
                  <a:moveTo>
                    <a:pt x="107" y="1721"/>
                  </a:moveTo>
                  <a:lnTo>
                    <a:pt x="215" y="1613"/>
                  </a:lnTo>
                  <a:lnTo>
                    <a:pt x="215" y="0"/>
                  </a:lnTo>
                  <a:lnTo>
                    <a:pt x="0" y="0"/>
                  </a:lnTo>
                  <a:lnTo>
                    <a:pt x="0" y="1613"/>
                  </a:lnTo>
                  <a:lnTo>
                    <a:pt x="107" y="1721"/>
                  </a:lnTo>
                  <a:lnTo>
                    <a:pt x="0" y="1613"/>
                  </a:lnTo>
                  <a:lnTo>
                    <a:pt x="1" y="1626"/>
                  </a:lnTo>
                  <a:lnTo>
                    <a:pt x="2" y="1638"/>
                  </a:lnTo>
                  <a:lnTo>
                    <a:pt x="5" y="1649"/>
                  </a:lnTo>
                  <a:lnTo>
                    <a:pt x="9" y="1660"/>
                  </a:lnTo>
                  <a:lnTo>
                    <a:pt x="14" y="1670"/>
                  </a:lnTo>
                  <a:lnTo>
                    <a:pt x="19" y="1678"/>
                  </a:lnTo>
                  <a:lnTo>
                    <a:pt x="26" y="1686"/>
                  </a:lnTo>
                  <a:lnTo>
                    <a:pt x="33" y="1694"/>
                  </a:lnTo>
                  <a:lnTo>
                    <a:pt x="41" y="1700"/>
                  </a:lnTo>
                  <a:lnTo>
                    <a:pt x="49" y="1705"/>
                  </a:lnTo>
                  <a:lnTo>
                    <a:pt x="59" y="1710"/>
                  </a:lnTo>
                  <a:lnTo>
                    <a:pt x="68" y="1713"/>
                  </a:lnTo>
                  <a:lnTo>
                    <a:pt x="77" y="1716"/>
                  </a:lnTo>
                  <a:lnTo>
                    <a:pt x="87" y="1719"/>
                  </a:lnTo>
                  <a:lnTo>
                    <a:pt x="97" y="1721"/>
                  </a:lnTo>
                  <a:lnTo>
                    <a:pt x="107" y="1721"/>
                  </a:lnTo>
                  <a:lnTo>
                    <a:pt x="118" y="1721"/>
                  </a:lnTo>
                  <a:lnTo>
                    <a:pt x="127" y="1719"/>
                  </a:lnTo>
                  <a:lnTo>
                    <a:pt x="137" y="1716"/>
                  </a:lnTo>
                  <a:lnTo>
                    <a:pt x="147" y="1713"/>
                  </a:lnTo>
                  <a:lnTo>
                    <a:pt x="156" y="1710"/>
                  </a:lnTo>
                  <a:lnTo>
                    <a:pt x="165" y="1705"/>
                  </a:lnTo>
                  <a:lnTo>
                    <a:pt x="174" y="1700"/>
                  </a:lnTo>
                  <a:lnTo>
                    <a:pt x="181" y="1694"/>
                  </a:lnTo>
                  <a:lnTo>
                    <a:pt x="188" y="1686"/>
                  </a:lnTo>
                  <a:lnTo>
                    <a:pt x="195" y="1678"/>
                  </a:lnTo>
                  <a:lnTo>
                    <a:pt x="201" y="1670"/>
                  </a:lnTo>
                  <a:lnTo>
                    <a:pt x="206" y="1660"/>
                  </a:lnTo>
                  <a:lnTo>
                    <a:pt x="210" y="1649"/>
                  </a:lnTo>
                  <a:lnTo>
                    <a:pt x="213" y="1638"/>
                  </a:lnTo>
                  <a:lnTo>
                    <a:pt x="214" y="1626"/>
                  </a:lnTo>
                  <a:lnTo>
                    <a:pt x="215" y="1613"/>
                  </a:lnTo>
                  <a:lnTo>
                    <a:pt x="107" y="17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17480" y="1365120"/>
              <a:ext cx="427320" cy="844560"/>
            </a:xfrm>
            <a:prstGeom prst="rect">
              <a:avLst/>
            </a:prstGeom>
            <a:solidFill>
              <a:srgbClr val="1c9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11360" y="1365120"/>
              <a:ext cx="12600" cy="851040"/>
            </a:xfrm>
            <a:custGeom>
              <a:avLst/>
              <a:gdLst/>
              <a:ahLst/>
              <a:rect l="l" t="t" r="r" b="b"/>
              <a:pathLst>
                <a:path w="215" h="15008">
                  <a:moveTo>
                    <a:pt x="108" y="15008"/>
                  </a:moveTo>
                  <a:lnTo>
                    <a:pt x="215" y="14900"/>
                  </a:lnTo>
                  <a:lnTo>
                    <a:pt x="215" y="0"/>
                  </a:lnTo>
                  <a:lnTo>
                    <a:pt x="0" y="0"/>
                  </a:lnTo>
                  <a:lnTo>
                    <a:pt x="0" y="14900"/>
                  </a:lnTo>
                  <a:lnTo>
                    <a:pt x="108" y="15008"/>
                  </a:lnTo>
                  <a:lnTo>
                    <a:pt x="0" y="14900"/>
                  </a:lnTo>
                  <a:lnTo>
                    <a:pt x="0" y="14913"/>
                  </a:lnTo>
                  <a:lnTo>
                    <a:pt x="2" y="14925"/>
                  </a:lnTo>
                  <a:lnTo>
                    <a:pt x="5" y="14936"/>
                  </a:lnTo>
                  <a:lnTo>
                    <a:pt x="9" y="14947"/>
                  </a:lnTo>
                  <a:lnTo>
                    <a:pt x="13" y="14956"/>
                  </a:lnTo>
                  <a:lnTo>
                    <a:pt x="20" y="14965"/>
                  </a:lnTo>
                  <a:lnTo>
                    <a:pt x="26" y="14974"/>
                  </a:lnTo>
                  <a:lnTo>
                    <a:pt x="33" y="14981"/>
                  </a:lnTo>
                  <a:lnTo>
                    <a:pt x="41" y="14987"/>
                  </a:lnTo>
                  <a:lnTo>
                    <a:pt x="50" y="14992"/>
                  </a:lnTo>
                  <a:lnTo>
                    <a:pt x="59" y="14997"/>
                  </a:lnTo>
                  <a:lnTo>
                    <a:pt x="68" y="15001"/>
                  </a:lnTo>
                  <a:lnTo>
                    <a:pt x="78" y="15004"/>
                  </a:lnTo>
                  <a:lnTo>
                    <a:pt x="87" y="15006"/>
                  </a:lnTo>
                  <a:lnTo>
                    <a:pt x="97" y="15007"/>
                  </a:lnTo>
                  <a:lnTo>
                    <a:pt x="108" y="15008"/>
                  </a:lnTo>
                  <a:lnTo>
                    <a:pt x="117" y="15007"/>
                  </a:lnTo>
                  <a:lnTo>
                    <a:pt x="127" y="15006"/>
                  </a:lnTo>
                  <a:lnTo>
                    <a:pt x="138" y="15004"/>
                  </a:lnTo>
                  <a:lnTo>
                    <a:pt x="147" y="15001"/>
                  </a:lnTo>
                  <a:lnTo>
                    <a:pt x="156" y="14997"/>
                  </a:lnTo>
                  <a:lnTo>
                    <a:pt x="166" y="14992"/>
                  </a:lnTo>
                  <a:lnTo>
                    <a:pt x="174" y="14987"/>
                  </a:lnTo>
                  <a:lnTo>
                    <a:pt x="181" y="14981"/>
                  </a:lnTo>
                  <a:lnTo>
                    <a:pt x="188" y="14974"/>
                  </a:lnTo>
                  <a:lnTo>
                    <a:pt x="196" y="14965"/>
                  </a:lnTo>
                  <a:lnTo>
                    <a:pt x="201" y="14956"/>
                  </a:lnTo>
                  <a:lnTo>
                    <a:pt x="206" y="14947"/>
                  </a:lnTo>
                  <a:lnTo>
                    <a:pt x="210" y="14936"/>
                  </a:lnTo>
                  <a:lnTo>
                    <a:pt x="212" y="14925"/>
                  </a:lnTo>
                  <a:lnTo>
                    <a:pt x="214" y="14913"/>
                  </a:lnTo>
                  <a:lnTo>
                    <a:pt x="215" y="14900"/>
                  </a:lnTo>
                  <a:lnTo>
                    <a:pt x="108" y="1500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17480" y="2203560"/>
              <a:ext cx="433440" cy="12600"/>
            </a:xfrm>
            <a:custGeom>
              <a:avLst/>
              <a:gdLst/>
              <a:ahLst/>
              <a:rect l="l" t="t" r="r" b="b"/>
              <a:pathLst>
                <a:path w="7648" h="216">
                  <a:moveTo>
                    <a:pt x="7648" y="108"/>
                  </a:moveTo>
                  <a:lnTo>
                    <a:pt x="7541" y="0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7541" y="216"/>
                  </a:lnTo>
                  <a:lnTo>
                    <a:pt x="7648" y="108"/>
                  </a:lnTo>
                  <a:lnTo>
                    <a:pt x="7541" y="216"/>
                  </a:lnTo>
                  <a:lnTo>
                    <a:pt x="7554" y="215"/>
                  </a:lnTo>
                  <a:lnTo>
                    <a:pt x="7567" y="213"/>
                  </a:lnTo>
                  <a:lnTo>
                    <a:pt x="7578" y="210"/>
                  </a:lnTo>
                  <a:lnTo>
                    <a:pt x="7588" y="207"/>
                  </a:lnTo>
                  <a:lnTo>
                    <a:pt x="7598" y="201"/>
                  </a:lnTo>
                  <a:lnTo>
                    <a:pt x="7607" y="195"/>
                  </a:lnTo>
                  <a:lnTo>
                    <a:pt x="7614" y="189"/>
                  </a:lnTo>
                  <a:lnTo>
                    <a:pt x="7621" y="182"/>
                  </a:lnTo>
                  <a:lnTo>
                    <a:pt x="7628" y="175"/>
                  </a:lnTo>
                  <a:lnTo>
                    <a:pt x="7634" y="165"/>
                  </a:lnTo>
                  <a:lnTo>
                    <a:pt x="7638" y="157"/>
                  </a:lnTo>
                  <a:lnTo>
                    <a:pt x="7642" y="148"/>
                  </a:lnTo>
                  <a:lnTo>
                    <a:pt x="7645" y="138"/>
                  </a:lnTo>
                  <a:lnTo>
                    <a:pt x="7647" y="128"/>
                  </a:lnTo>
                  <a:lnTo>
                    <a:pt x="7648" y="118"/>
                  </a:lnTo>
                  <a:lnTo>
                    <a:pt x="7648" y="108"/>
                  </a:lnTo>
                  <a:lnTo>
                    <a:pt x="7648" y="98"/>
                  </a:lnTo>
                  <a:lnTo>
                    <a:pt x="7647" y="88"/>
                  </a:lnTo>
                  <a:lnTo>
                    <a:pt x="7645" y="78"/>
                  </a:lnTo>
                  <a:lnTo>
                    <a:pt x="7642" y="68"/>
                  </a:lnTo>
                  <a:lnTo>
                    <a:pt x="7638" y="60"/>
                  </a:lnTo>
                  <a:lnTo>
                    <a:pt x="7634" y="50"/>
                  </a:lnTo>
                  <a:lnTo>
                    <a:pt x="7628" y="42"/>
                  </a:lnTo>
                  <a:lnTo>
                    <a:pt x="7621" y="34"/>
                  </a:lnTo>
                  <a:lnTo>
                    <a:pt x="7614" y="26"/>
                  </a:lnTo>
                  <a:lnTo>
                    <a:pt x="7607" y="20"/>
                  </a:lnTo>
                  <a:lnTo>
                    <a:pt x="7598" y="14"/>
                  </a:lnTo>
                  <a:lnTo>
                    <a:pt x="7588" y="10"/>
                  </a:lnTo>
                  <a:lnTo>
                    <a:pt x="7578" y="6"/>
                  </a:lnTo>
                  <a:lnTo>
                    <a:pt x="7567" y="3"/>
                  </a:lnTo>
                  <a:lnTo>
                    <a:pt x="7554" y="0"/>
                  </a:lnTo>
                  <a:lnTo>
                    <a:pt x="7541" y="0"/>
                  </a:lnTo>
                  <a:lnTo>
                    <a:pt x="7648" y="108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139760" y="1359000"/>
              <a:ext cx="11160" cy="850680"/>
            </a:xfrm>
            <a:custGeom>
              <a:avLst/>
              <a:gdLst/>
              <a:ahLst/>
              <a:rect l="l" t="t" r="r" b="b"/>
              <a:pathLst>
                <a:path w="215" h="15007">
                  <a:moveTo>
                    <a:pt x="108" y="0"/>
                  </a:moveTo>
                  <a:lnTo>
                    <a:pt x="0" y="107"/>
                  </a:lnTo>
                  <a:lnTo>
                    <a:pt x="0" y="15007"/>
                  </a:lnTo>
                  <a:lnTo>
                    <a:pt x="215" y="15007"/>
                  </a:lnTo>
                  <a:lnTo>
                    <a:pt x="215" y="107"/>
                  </a:lnTo>
                  <a:lnTo>
                    <a:pt x="108" y="0"/>
                  </a:lnTo>
                  <a:lnTo>
                    <a:pt x="215" y="107"/>
                  </a:lnTo>
                  <a:lnTo>
                    <a:pt x="215" y="94"/>
                  </a:lnTo>
                  <a:lnTo>
                    <a:pt x="213" y="83"/>
                  </a:lnTo>
                  <a:lnTo>
                    <a:pt x="210" y="71"/>
                  </a:lnTo>
                  <a:lnTo>
                    <a:pt x="206" y="60"/>
                  </a:lnTo>
                  <a:lnTo>
                    <a:pt x="202" y="50"/>
                  </a:lnTo>
                  <a:lnTo>
                    <a:pt x="196" y="42"/>
                  </a:lnTo>
                  <a:lnTo>
                    <a:pt x="190" y="34"/>
                  </a:lnTo>
                  <a:lnTo>
                    <a:pt x="182" y="27"/>
                  </a:lnTo>
                  <a:lnTo>
                    <a:pt x="174" y="20"/>
                  </a:lnTo>
                  <a:lnTo>
                    <a:pt x="166" y="15"/>
                  </a:lnTo>
                  <a:lnTo>
                    <a:pt x="157" y="10"/>
                  </a:lnTo>
                  <a:lnTo>
                    <a:pt x="148" y="6"/>
                  </a:lnTo>
                  <a:lnTo>
                    <a:pt x="138" y="4"/>
                  </a:lnTo>
                  <a:lnTo>
                    <a:pt x="128" y="2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8" y="6"/>
                  </a:lnTo>
                  <a:lnTo>
                    <a:pt x="59" y="10"/>
                  </a:lnTo>
                  <a:lnTo>
                    <a:pt x="51" y="15"/>
                  </a:lnTo>
                  <a:lnTo>
                    <a:pt x="41" y="20"/>
                  </a:lnTo>
                  <a:lnTo>
                    <a:pt x="34" y="27"/>
                  </a:lnTo>
                  <a:lnTo>
                    <a:pt x="27" y="34"/>
                  </a:lnTo>
                  <a:lnTo>
                    <a:pt x="21" y="42"/>
                  </a:lnTo>
                  <a:lnTo>
                    <a:pt x="14" y="50"/>
                  </a:lnTo>
                  <a:lnTo>
                    <a:pt x="9" y="60"/>
                  </a:lnTo>
                  <a:lnTo>
                    <a:pt x="6" y="71"/>
                  </a:lnTo>
                  <a:lnTo>
                    <a:pt x="3" y="83"/>
                  </a:lnTo>
                  <a:lnTo>
                    <a:pt x="1" y="94"/>
                  </a:lnTo>
                  <a:lnTo>
                    <a:pt x="0" y="10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1360" y="1359000"/>
              <a:ext cx="433440" cy="12600"/>
            </a:xfrm>
            <a:custGeom>
              <a:avLst/>
              <a:gdLst/>
              <a:ahLst/>
              <a:rect l="l" t="t" r="r" b="b"/>
              <a:pathLst>
                <a:path w="7649" h="215">
                  <a:moveTo>
                    <a:pt x="0" y="107"/>
                  </a:moveTo>
                  <a:lnTo>
                    <a:pt x="108" y="215"/>
                  </a:lnTo>
                  <a:lnTo>
                    <a:pt x="7649" y="215"/>
                  </a:lnTo>
                  <a:lnTo>
                    <a:pt x="7649" y="0"/>
                  </a:lnTo>
                  <a:lnTo>
                    <a:pt x="108" y="0"/>
                  </a:lnTo>
                  <a:lnTo>
                    <a:pt x="0" y="107"/>
                  </a:lnTo>
                  <a:lnTo>
                    <a:pt x="108" y="0"/>
                  </a:lnTo>
                  <a:lnTo>
                    <a:pt x="94" y="1"/>
                  </a:lnTo>
                  <a:lnTo>
                    <a:pt x="82" y="2"/>
                  </a:lnTo>
                  <a:lnTo>
                    <a:pt x="70" y="5"/>
                  </a:lnTo>
                  <a:lnTo>
                    <a:pt x="60" y="9"/>
                  </a:lnTo>
                  <a:lnTo>
                    <a:pt x="51" y="14"/>
                  </a:lnTo>
                  <a:lnTo>
                    <a:pt x="41" y="19"/>
                  </a:lnTo>
                  <a:lnTo>
                    <a:pt x="34" y="26"/>
                  </a:lnTo>
                  <a:lnTo>
                    <a:pt x="27" y="33"/>
                  </a:lnTo>
                  <a:lnTo>
                    <a:pt x="21" y="41"/>
                  </a:lnTo>
                  <a:lnTo>
                    <a:pt x="14" y="49"/>
                  </a:lnTo>
                  <a:lnTo>
                    <a:pt x="10" y="59"/>
                  </a:lnTo>
                  <a:lnTo>
                    <a:pt x="6" y="68"/>
                  </a:lnTo>
                  <a:lnTo>
                    <a:pt x="3" y="77"/>
                  </a:lnTo>
                  <a:lnTo>
                    <a:pt x="1" y="88"/>
                  </a:lnTo>
                  <a:lnTo>
                    <a:pt x="0" y="97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6" y="147"/>
                  </a:lnTo>
                  <a:lnTo>
                    <a:pt x="10" y="156"/>
                  </a:lnTo>
                  <a:lnTo>
                    <a:pt x="14" y="165"/>
                  </a:lnTo>
                  <a:lnTo>
                    <a:pt x="21" y="174"/>
                  </a:lnTo>
                  <a:lnTo>
                    <a:pt x="27" y="181"/>
                  </a:lnTo>
                  <a:lnTo>
                    <a:pt x="34" y="188"/>
                  </a:lnTo>
                  <a:lnTo>
                    <a:pt x="41" y="196"/>
                  </a:lnTo>
                  <a:lnTo>
                    <a:pt x="51" y="201"/>
                  </a:lnTo>
                  <a:lnTo>
                    <a:pt x="60" y="206"/>
                  </a:lnTo>
                  <a:lnTo>
                    <a:pt x="70" y="210"/>
                  </a:lnTo>
                  <a:lnTo>
                    <a:pt x="82" y="213"/>
                  </a:lnTo>
                  <a:lnTo>
                    <a:pt x="94" y="214"/>
                  </a:lnTo>
                  <a:lnTo>
                    <a:pt x="108" y="215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17480" y="1282680"/>
              <a:ext cx="511200" cy="82440"/>
            </a:xfrm>
            <a:custGeom>
              <a:avLst/>
              <a:gdLst/>
              <a:ahLst/>
              <a:rect l="l" t="t" r="r" b="b"/>
              <a:pathLst>
                <a:path w="8998" h="1457">
                  <a:moveTo>
                    <a:pt x="0" y="1457"/>
                  </a:moveTo>
                  <a:lnTo>
                    <a:pt x="1460" y="0"/>
                  </a:lnTo>
                  <a:lnTo>
                    <a:pt x="8998" y="0"/>
                  </a:lnTo>
                  <a:lnTo>
                    <a:pt x="7541" y="1457"/>
                  </a:lnTo>
                  <a:lnTo>
                    <a:pt x="0" y="1457"/>
                  </a:lnTo>
                  <a:close/>
                </a:path>
              </a:pathLst>
            </a:custGeom>
            <a:solidFill>
              <a:srgbClr val="3ca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12800" y="1276200"/>
              <a:ext cx="93600" cy="93960"/>
            </a:xfrm>
            <a:custGeom>
              <a:avLst/>
              <a:gdLst/>
              <a:ahLst/>
              <a:rect l="l" t="t" r="r" b="b"/>
              <a:pathLst>
                <a:path w="1645" h="1643">
                  <a:moveTo>
                    <a:pt x="1536" y="2"/>
                  </a:moveTo>
                  <a:lnTo>
                    <a:pt x="1460" y="33"/>
                  </a:lnTo>
                  <a:lnTo>
                    <a:pt x="0" y="1491"/>
                  </a:lnTo>
                  <a:lnTo>
                    <a:pt x="151" y="1643"/>
                  </a:lnTo>
                  <a:lnTo>
                    <a:pt x="1612" y="185"/>
                  </a:lnTo>
                  <a:lnTo>
                    <a:pt x="1536" y="2"/>
                  </a:lnTo>
                  <a:lnTo>
                    <a:pt x="1612" y="185"/>
                  </a:lnTo>
                  <a:lnTo>
                    <a:pt x="1620" y="176"/>
                  </a:lnTo>
                  <a:lnTo>
                    <a:pt x="1627" y="166"/>
                  </a:lnTo>
                  <a:lnTo>
                    <a:pt x="1633" y="156"/>
                  </a:lnTo>
                  <a:lnTo>
                    <a:pt x="1639" y="146"/>
                  </a:lnTo>
                  <a:lnTo>
                    <a:pt x="1642" y="136"/>
                  </a:lnTo>
                  <a:lnTo>
                    <a:pt x="1644" y="125"/>
                  </a:lnTo>
                  <a:lnTo>
                    <a:pt x="1645" y="115"/>
                  </a:lnTo>
                  <a:lnTo>
                    <a:pt x="1645" y="105"/>
                  </a:lnTo>
                  <a:lnTo>
                    <a:pt x="1644" y="95"/>
                  </a:lnTo>
                  <a:lnTo>
                    <a:pt x="1642" y="85"/>
                  </a:lnTo>
                  <a:lnTo>
                    <a:pt x="1639" y="76"/>
                  </a:lnTo>
                  <a:lnTo>
                    <a:pt x="1634" y="66"/>
                  </a:lnTo>
                  <a:lnTo>
                    <a:pt x="1630" y="58"/>
                  </a:lnTo>
                  <a:lnTo>
                    <a:pt x="1625" y="50"/>
                  </a:lnTo>
                  <a:lnTo>
                    <a:pt x="1619" y="41"/>
                  </a:lnTo>
                  <a:lnTo>
                    <a:pt x="1612" y="34"/>
                  </a:lnTo>
                  <a:lnTo>
                    <a:pt x="1604" y="27"/>
                  </a:lnTo>
                  <a:lnTo>
                    <a:pt x="1596" y="21"/>
                  </a:lnTo>
                  <a:lnTo>
                    <a:pt x="1588" y="16"/>
                  </a:lnTo>
                  <a:lnTo>
                    <a:pt x="1579" y="10"/>
                  </a:lnTo>
                  <a:lnTo>
                    <a:pt x="1570" y="7"/>
                  </a:lnTo>
                  <a:lnTo>
                    <a:pt x="1561" y="4"/>
                  </a:lnTo>
                  <a:lnTo>
                    <a:pt x="1550" y="2"/>
                  </a:lnTo>
                  <a:lnTo>
                    <a:pt x="1541" y="0"/>
                  </a:lnTo>
                  <a:lnTo>
                    <a:pt x="1531" y="0"/>
                  </a:lnTo>
                  <a:lnTo>
                    <a:pt x="1520" y="1"/>
                  </a:lnTo>
                  <a:lnTo>
                    <a:pt x="1510" y="3"/>
                  </a:lnTo>
                  <a:lnTo>
                    <a:pt x="1500" y="7"/>
                  </a:lnTo>
                  <a:lnTo>
                    <a:pt x="1489" y="11"/>
                  </a:lnTo>
                  <a:lnTo>
                    <a:pt x="1480" y="18"/>
                  </a:lnTo>
                  <a:lnTo>
                    <a:pt x="1470" y="25"/>
                  </a:lnTo>
                  <a:lnTo>
                    <a:pt x="1460" y="33"/>
                  </a:lnTo>
                  <a:lnTo>
                    <a:pt x="1536" y="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00280" y="1276200"/>
              <a:ext cx="433080" cy="12960"/>
            </a:xfrm>
            <a:custGeom>
              <a:avLst/>
              <a:gdLst/>
              <a:ahLst/>
              <a:rect l="l" t="t" r="r" b="b"/>
              <a:pathLst>
                <a:path w="7646" h="216">
                  <a:moveTo>
                    <a:pt x="7615" y="183"/>
                  </a:moveTo>
                  <a:lnTo>
                    <a:pt x="7538" y="0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7538" y="216"/>
                  </a:lnTo>
                  <a:lnTo>
                    <a:pt x="7615" y="183"/>
                  </a:lnTo>
                  <a:lnTo>
                    <a:pt x="7538" y="216"/>
                  </a:lnTo>
                  <a:lnTo>
                    <a:pt x="7551" y="215"/>
                  </a:lnTo>
                  <a:lnTo>
                    <a:pt x="7564" y="212"/>
                  </a:lnTo>
                  <a:lnTo>
                    <a:pt x="7575" y="210"/>
                  </a:lnTo>
                  <a:lnTo>
                    <a:pt x="7586" y="206"/>
                  </a:lnTo>
                  <a:lnTo>
                    <a:pt x="7595" y="201"/>
                  </a:lnTo>
                  <a:lnTo>
                    <a:pt x="7604" y="196"/>
                  </a:lnTo>
                  <a:lnTo>
                    <a:pt x="7611" y="189"/>
                  </a:lnTo>
                  <a:lnTo>
                    <a:pt x="7619" y="181"/>
                  </a:lnTo>
                  <a:lnTo>
                    <a:pt x="7625" y="174"/>
                  </a:lnTo>
                  <a:lnTo>
                    <a:pt x="7631" y="166"/>
                  </a:lnTo>
                  <a:lnTo>
                    <a:pt x="7635" y="157"/>
                  </a:lnTo>
                  <a:lnTo>
                    <a:pt x="7639" y="147"/>
                  </a:lnTo>
                  <a:lnTo>
                    <a:pt x="7643" y="138"/>
                  </a:lnTo>
                  <a:lnTo>
                    <a:pt x="7645" y="128"/>
                  </a:lnTo>
                  <a:lnTo>
                    <a:pt x="7646" y="117"/>
                  </a:lnTo>
                  <a:lnTo>
                    <a:pt x="7646" y="108"/>
                  </a:lnTo>
                  <a:lnTo>
                    <a:pt x="7646" y="97"/>
                  </a:lnTo>
                  <a:lnTo>
                    <a:pt x="7645" y="87"/>
                  </a:lnTo>
                  <a:lnTo>
                    <a:pt x="7643" y="78"/>
                  </a:lnTo>
                  <a:lnTo>
                    <a:pt x="7639" y="68"/>
                  </a:lnTo>
                  <a:lnTo>
                    <a:pt x="7635" y="59"/>
                  </a:lnTo>
                  <a:lnTo>
                    <a:pt x="7631" y="50"/>
                  </a:lnTo>
                  <a:lnTo>
                    <a:pt x="7625" y="42"/>
                  </a:lnTo>
                  <a:lnTo>
                    <a:pt x="7619" y="33"/>
                  </a:lnTo>
                  <a:lnTo>
                    <a:pt x="7611" y="26"/>
                  </a:lnTo>
                  <a:lnTo>
                    <a:pt x="7604" y="20"/>
                  </a:lnTo>
                  <a:lnTo>
                    <a:pt x="7595" y="14"/>
                  </a:lnTo>
                  <a:lnTo>
                    <a:pt x="7586" y="9"/>
                  </a:lnTo>
                  <a:lnTo>
                    <a:pt x="7575" y="5"/>
                  </a:lnTo>
                  <a:lnTo>
                    <a:pt x="7564" y="2"/>
                  </a:lnTo>
                  <a:lnTo>
                    <a:pt x="7551" y="0"/>
                  </a:lnTo>
                  <a:lnTo>
                    <a:pt x="7538" y="0"/>
                  </a:lnTo>
                  <a:lnTo>
                    <a:pt x="7615" y="183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139760" y="1278000"/>
              <a:ext cx="92160" cy="93600"/>
            </a:xfrm>
            <a:custGeom>
              <a:avLst/>
              <a:gdLst/>
              <a:ahLst/>
              <a:rect l="l" t="t" r="r" b="b"/>
              <a:pathLst>
                <a:path w="1643" h="1644">
                  <a:moveTo>
                    <a:pt x="109" y="1642"/>
                  </a:moveTo>
                  <a:lnTo>
                    <a:pt x="185" y="1610"/>
                  </a:lnTo>
                  <a:lnTo>
                    <a:pt x="1643" y="152"/>
                  </a:lnTo>
                  <a:lnTo>
                    <a:pt x="1490" y="0"/>
                  </a:lnTo>
                  <a:lnTo>
                    <a:pt x="33" y="1458"/>
                  </a:lnTo>
                  <a:lnTo>
                    <a:pt x="109" y="1642"/>
                  </a:lnTo>
                  <a:lnTo>
                    <a:pt x="33" y="1458"/>
                  </a:lnTo>
                  <a:lnTo>
                    <a:pt x="24" y="1468"/>
                  </a:lnTo>
                  <a:lnTo>
                    <a:pt x="17" y="1477"/>
                  </a:lnTo>
                  <a:lnTo>
                    <a:pt x="11" y="1488"/>
                  </a:lnTo>
                  <a:lnTo>
                    <a:pt x="6" y="1498"/>
                  </a:lnTo>
                  <a:lnTo>
                    <a:pt x="3" y="1509"/>
                  </a:lnTo>
                  <a:lnTo>
                    <a:pt x="1" y="1519"/>
                  </a:lnTo>
                  <a:lnTo>
                    <a:pt x="0" y="1529"/>
                  </a:lnTo>
                  <a:lnTo>
                    <a:pt x="0" y="1539"/>
                  </a:lnTo>
                  <a:lnTo>
                    <a:pt x="1" y="1549"/>
                  </a:lnTo>
                  <a:lnTo>
                    <a:pt x="3" y="1559"/>
                  </a:lnTo>
                  <a:lnTo>
                    <a:pt x="6" y="1569"/>
                  </a:lnTo>
                  <a:lnTo>
                    <a:pt x="10" y="1578"/>
                  </a:lnTo>
                  <a:lnTo>
                    <a:pt x="14" y="1586"/>
                  </a:lnTo>
                  <a:lnTo>
                    <a:pt x="20" y="1596"/>
                  </a:lnTo>
                  <a:lnTo>
                    <a:pt x="26" y="1603"/>
                  </a:lnTo>
                  <a:lnTo>
                    <a:pt x="33" y="1610"/>
                  </a:lnTo>
                  <a:lnTo>
                    <a:pt x="40" y="1617"/>
                  </a:lnTo>
                  <a:lnTo>
                    <a:pt x="49" y="1624"/>
                  </a:lnTo>
                  <a:lnTo>
                    <a:pt x="57" y="1629"/>
                  </a:lnTo>
                  <a:lnTo>
                    <a:pt x="66" y="1634"/>
                  </a:lnTo>
                  <a:lnTo>
                    <a:pt x="75" y="1638"/>
                  </a:lnTo>
                  <a:lnTo>
                    <a:pt x="85" y="1640"/>
                  </a:lnTo>
                  <a:lnTo>
                    <a:pt x="94" y="1643"/>
                  </a:lnTo>
                  <a:lnTo>
                    <a:pt x="105" y="1644"/>
                  </a:lnTo>
                  <a:lnTo>
                    <a:pt x="115" y="1644"/>
                  </a:lnTo>
                  <a:lnTo>
                    <a:pt x="125" y="1643"/>
                  </a:lnTo>
                  <a:lnTo>
                    <a:pt x="136" y="1641"/>
                  </a:lnTo>
                  <a:lnTo>
                    <a:pt x="145" y="1637"/>
                  </a:lnTo>
                  <a:lnTo>
                    <a:pt x="155" y="1633"/>
                  </a:lnTo>
                  <a:lnTo>
                    <a:pt x="166" y="1627"/>
                  </a:lnTo>
                  <a:lnTo>
                    <a:pt x="176" y="1619"/>
                  </a:lnTo>
                  <a:lnTo>
                    <a:pt x="185" y="1610"/>
                  </a:lnTo>
                  <a:lnTo>
                    <a:pt x="109" y="1642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11360" y="1359000"/>
              <a:ext cx="433440" cy="12600"/>
            </a:xfrm>
            <a:custGeom>
              <a:avLst/>
              <a:gdLst/>
              <a:ahLst/>
              <a:rect l="l" t="t" r="r" b="b"/>
              <a:pathLst>
                <a:path w="7649" h="215">
                  <a:moveTo>
                    <a:pt x="32" y="31"/>
                  </a:moveTo>
                  <a:lnTo>
                    <a:pt x="108" y="215"/>
                  </a:lnTo>
                  <a:lnTo>
                    <a:pt x="7649" y="215"/>
                  </a:lnTo>
                  <a:lnTo>
                    <a:pt x="7649" y="0"/>
                  </a:lnTo>
                  <a:lnTo>
                    <a:pt x="108" y="0"/>
                  </a:lnTo>
                  <a:lnTo>
                    <a:pt x="32" y="31"/>
                  </a:lnTo>
                  <a:lnTo>
                    <a:pt x="108" y="0"/>
                  </a:lnTo>
                  <a:lnTo>
                    <a:pt x="94" y="1"/>
                  </a:lnTo>
                  <a:lnTo>
                    <a:pt x="82" y="2"/>
                  </a:lnTo>
                  <a:lnTo>
                    <a:pt x="70" y="5"/>
                  </a:lnTo>
                  <a:lnTo>
                    <a:pt x="60" y="9"/>
                  </a:lnTo>
                  <a:lnTo>
                    <a:pt x="51" y="14"/>
                  </a:lnTo>
                  <a:lnTo>
                    <a:pt x="41" y="19"/>
                  </a:lnTo>
                  <a:lnTo>
                    <a:pt x="34" y="26"/>
                  </a:lnTo>
                  <a:lnTo>
                    <a:pt x="27" y="33"/>
                  </a:lnTo>
                  <a:lnTo>
                    <a:pt x="21" y="41"/>
                  </a:lnTo>
                  <a:lnTo>
                    <a:pt x="14" y="49"/>
                  </a:lnTo>
                  <a:lnTo>
                    <a:pt x="10" y="59"/>
                  </a:lnTo>
                  <a:lnTo>
                    <a:pt x="6" y="68"/>
                  </a:lnTo>
                  <a:lnTo>
                    <a:pt x="3" y="77"/>
                  </a:lnTo>
                  <a:lnTo>
                    <a:pt x="1" y="88"/>
                  </a:lnTo>
                  <a:lnTo>
                    <a:pt x="0" y="97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1" y="127"/>
                  </a:lnTo>
                  <a:lnTo>
                    <a:pt x="3" y="138"/>
                  </a:lnTo>
                  <a:lnTo>
                    <a:pt x="6" y="147"/>
                  </a:lnTo>
                  <a:lnTo>
                    <a:pt x="10" y="156"/>
                  </a:lnTo>
                  <a:lnTo>
                    <a:pt x="14" y="165"/>
                  </a:lnTo>
                  <a:lnTo>
                    <a:pt x="21" y="174"/>
                  </a:lnTo>
                  <a:lnTo>
                    <a:pt x="27" y="181"/>
                  </a:lnTo>
                  <a:lnTo>
                    <a:pt x="34" y="188"/>
                  </a:lnTo>
                  <a:lnTo>
                    <a:pt x="41" y="196"/>
                  </a:lnTo>
                  <a:lnTo>
                    <a:pt x="51" y="201"/>
                  </a:lnTo>
                  <a:lnTo>
                    <a:pt x="60" y="206"/>
                  </a:lnTo>
                  <a:lnTo>
                    <a:pt x="70" y="210"/>
                  </a:lnTo>
                  <a:lnTo>
                    <a:pt x="82" y="213"/>
                  </a:lnTo>
                  <a:lnTo>
                    <a:pt x="94" y="214"/>
                  </a:lnTo>
                  <a:lnTo>
                    <a:pt x="108" y="215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144800" y="1282680"/>
              <a:ext cx="83880" cy="927000"/>
            </a:xfrm>
            <a:custGeom>
              <a:avLst/>
              <a:gdLst/>
              <a:ahLst/>
              <a:rect l="l" t="t" r="r" b="b"/>
              <a:pathLst>
                <a:path w="1457" h="16357">
                  <a:moveTo>
                    <a:pt x="0" y="1457"/>
                  </a:moveTo>
                  <a:lnTo>
                    <a:pt x="1457" y="0"/>
                  </a:lnTo>
                  <a:lnTo>
                    <a:pt x="1457" y="14895"/>
                  </a:lnTo>
                  <a:lnTo>
                    <a:pt x="0" y="16357"/>
                  </a:lnTo>
                  <a:lnTo>
                    <a:pt x="0" y="1457"/>
                  </a:lnTo>
                  <a:close/>
                </a:path>
              </a:pathLst>
            </a:custGeom>
            <a:solidFill>
              <a:srgbClr val="0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141560" y="1276200"/>
              <a:ext cx="91800" cy="93960"/>
            </a:xfrm>
            <a:custGeom>
              <a:avLst/>
              <a:gdLst/>
              <a:ahLst/>
              <a:rect l="l" t="t" r="r" b="b"/>
              <a:pathLst>
                <a:path w="1643" h="1643">
                  <a:moveTo>
                    <a:pt x="1641" y="110"/>
                  </a:moveTo>
                  <a:lnTo>
                    <a:pt x="1457" y="33"/>
                  </a:lnTo>
                  <a:lnTo>
                    <a:pt x="0" y="1491"/>
                  </a:lnTo>
                  <a:lnTo>
                    <a:pt x="152" y="1643"/>
                  </a:lnTo>
                  <a:lnTo>
                    <a:pt x="1610" y="185"/>
                  </a:lnTo>
                  <a:lnTo>
                    <a:pt x="1641" y="110"/>
                  </a:lnTo>
                  <a:lnTo>
                    <a:pt x="1610" y="185"/>
                  </a:lnTo>
                  <a:lnTo>
                    <a:pt x="1618" y="176"/>
                  </a:lnTo>
                  <a:lnTo>
                    <a:pt x="1625" y="166"/>
                  </a:lnTo>
                  <a:lnTo>
                    <a:pt x="1631" y="156"/>
                  </a:lnTo>
                  <a:lnTo>
                    <a:pt x="1637" y="146"/>
                  </a:lnTo>
                  <a:lnTo>
                    <a:pt x="1640" y="136"/>
                  </a:lnTo>
                  <a:lnTo>
                    <a:pt x="1642" y="125"/>
                  </a:lnTo>
                  <a:lnTo>
                    <a:pt x="1643" y="115"/>
                  </a:lnTo>
                  <a:lnTo>
                    <a:pt x="1643" y="105"/>
                  </a:lnTo>
                  <a:lnTo>
                    <a:pt x="1642" y="94"/>
                  </a:lnTo>
                  <a:lnTo>
                    <a:pt x="1640" y="85"/>
                  </a:lnTo>
                  <a:lnTo>
                    <a:pt x="1637" y="76"/>
                  </a:lnTo>
                  <a:lnTo>
                    <a:pt x="1632" y="66"/>
                  </a:lnTo>
                  <a:lnTo>
                    <a:pt x="1628" y="57"/>
                  </a:lnTo>
                  <a:lnTo>
                    <a:pt x="1622" y="49"/>
                  </a:lnTo>
                  <a:lnTo>
                    <a:pt x="1616" y="40"/>
                  </a:lnTo>
                  <a:lnTo>
                    <a:pt x="1610" y="33"/>
                  </a:lnTo>
                  <a:lnTo>
                    <a:pt x="1602" y="27"/>
                  </a:lnTo>
                  <a:lnTo>
                    <a:pt x="1594" y="21"/>
                  </a:lnTo>
                  <a:lnTo>
                    <a:pt x="1586" y="15"/>
                  </a:lnTo>
                  <a:lnTo>
                    <a:pt x="1576" y="10"/>
                  </a:lnTo>
                  <a:lnTo>
                    <a:pt x="1567" y="6"/>
                  </a:lnTo>
                  <a:lnTo>
                    <a:pt x="1558" y="3"/>
                  </a:lnTo>
                  <a:lnTo>
                    <a:pt x="1548" y="1"/>
                  </a:lnTo>
                  <a:lnTo>
                    <a:pt x="1538" y="0"/>
                  </a:lnTo>
                  <a:lnTo>
                    <a:pt x="1528" y="0"/>
                  </a:lnTo>
                  <a:lnTo>
                    <a:pt x="1517" y="1"/>
                  </a:lnTo>
                  <a:lnTo>
                    <a:pt x="1507" y="3"/>
                  </a:lnTo>
                  <a:lnTo>
                    <a:pt x="1497" y="6"/>
                  </a:lnTo>
                  <a:lnTo>
                    <a:pt x="1486" y="11"/>
                  </a:lnTo>
                  <a:lnTo>
                    <a:pt x="1477" y="18"/>
                  </a:lnTo>
                  <a:lnTo>
                    <a:pt x="1467" y="25"/>
                  </a:lnTo>
                  <a:lnTo>
                    <a:pt x="1457" y="33"/>
                  </a:lnTo>
                  <a:lnTo>
                    <a:pt x="1641" y="110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222560" y="1282680"/>
              <a:ext cx="10800" cy="851040"/>
            </a:xfrm>
            <a:custGeom>
              <a:avLst/>
              <a:gdLst/>
              <a:ahLst/>
              <a:rect l="l" t="t" r="r" b="b"/>
              <a:pathLst>
                <a:path w="216" h="15003">
                  <a:moveTo>
                    <a:pt x="185" y="14971"/>
                  </a:moveTo>
                  <a:lnTo>
                    <a:pt x="216" y="14895"/>
                  </a:lnTo>
                  <a:lnTo>
                    <a:pt x="216" y="0"/>
                  </a:lnTo>
                  <a:lnTo>
                    <a:pt x="0" y="0"/>
                  </a:lnTo>
                  <a:lnTo>
                    <a:pt x="0" y="14895"/>
                  </a:lnTo>
                  <a:lnTo>
                    <a:pt x="185" y="14971"/>
                  </a:lnTo>
                  <a:lnTo>
                    <a:pt x="0" y="14895"/>
                  </a:lnTo>
                  <a:lnTo>
                    <a:pt x="1" y="14909"/>
                  </a:lnTo>
                  <a:lnTo>
                    <a:pt x="3" y="14921"/>
                  </a:lnTo>
                  <a:lnTo>
                    <a:pt x="5" y="14933"/>
                  </a:lnTo>
                  <a:lnTo>
                    <a:pt x="10" y="14943"/>
                  </a:lnTo>
                  <a:lnTo>
                    <a:pt x="15" y="14952"/>
                  </a:lnTo>
                  <a:lnTo>
                    <a:pt x="20" y="14962"/>
                  </a:lnTo>
                  <a:lnTo>
                    <a:pt x="27" y="14970"/>
                  </a:lnTo>
                  <a:lnTo>
                    <a:pt x="34" y="14976"/>
                  </a:lnTo>
                  <a:lnTo>
                    <a:pt x="42" y="14983"/>
                  </a:lnTo>
                  <a:lnTo>
                    <a:pt x="51" y="14989"/>
                  </a:lnTo>
                  <a:lnTo>
                    <a:pt x="59" y="14993"/>
                  </a:lnTo>
                  <a:lnTo>
                    <a:pt x="69" y="14997"/>
                  </a:lnTo>
                  <a:lnTo>
                    <a:pt x="78" y="15000"/>
                  </a:lnTo>
                  <a:lnTo>
                    <a:pt x="88" y="15002"/>
                  </a:lnTo>
                  <a:lnTo>
                    <a:pt x="99" y="15003"/>
                  </a:lnTo>
                  <a:lnTo>
                    <a:pt x="108" y="15003"/>
                  </a:lnTo>
                  <a:lnTo>
                    <a:pt x="118" y="15003"/>
                  </a:lnTo>
                  <a:lnTo>
                    <a:pt x="129" y="15002"/>
                  </a:lnTo>
                  <a:lnTo>
                    <a:pt x="138" y="15000"/>
                  </a:lnTo>
                  <a:lnTo>
                    <a:pt x="147" y="14997"/>
                  </a:lnTo>
                  <a:lnTo>
                    <a:pt x="157" y="14993"/>
                  </a:lnTo>
                  <a:lnTo>
                    <a:pt x="166" y="14989"/>
                  </a:lnTo>
                  <a:lnTo>
                    <a:pt x="174" y="14983"/>
                  </a:lnTo>
                  <a:lnTo>
                    <a:pt x="183" y="14976"/>
                  </a:lnTo>
                  <a:lnTo>
                    <a:pt x="190" y="14970"/>
                  </a:lnTo>
                  <a:lnTo>
                    <a:pt x="196" y="14962"/>
                  </a:lnTo>
                  <a:lnTo>
                    <a:pt x="202" y="14952"/>
                  </a:lnTo>
                  <a:lnTo>
                    <a:pt x="206" y="14943"/>
                  </a:lnTo>
                  <a:lnTo>
                    <a:pt x="210" y="14933"/>
                  </a:lnTo>
                  <a:lnTo>
                    <a:pt x="214" y="14921"/>
                  </a:lnTo>
                  <a:lnTo>
                    <a:pt x="216" y="14909"/>
                  </a:lnTo>
                  <a:lnTo>
                    <a:pt x="216" y="14895"/>
                  </a:lnTo>
                  <a:lnTo>
                    <a:pt x="185" y="1497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139760" y="2122560"/>
              <a:ext cx="92160" cy="93600"/>
            </a:xfrm>
            <a:custGeom>
              <a:avLst/>
              <a:gdLst/>
              <a:ahLst/>
              <a:rect l="l" t="t" r="r" b="b"/>
              <a:pathLst>
                <a:path w="1643" h="1646">
                  <a:moveTo>
                    <a:pt x="1" y="1537"/>
                  </a:moveTo>
                  <a:lnTo>
                    <a:pt x="185" y="1613"/>
                  </a:lnTo>
                  <a:lnTo>
                    <a:pt x="1643" y="151"/>
                  </a:lnTo>
                  <a:lnTo>
                    <a:pt x="1490" y="0"/>
                  </a:lnTo>
                  <a:lnTo>
                    <a:pt x="33" y="1461"/>
                  </a:lnTo>
                  <a:lnTo>
                    <a:pt x="1" y="1537"/>
                  </a:lnTo>
                  <a:lnTo>
                    <a:pt x="33" y="1461"/>
                  </a:lnTo>
                  <a:lnTo>
                    <a:pt x="25" y="1471"/>
                  </a:lnTo>
                  <a:lnTo>
                    <a:pt x="17" y="1480"/>
                  </a:lnTo>
                  <a:lnTo>
                    <a:pt x="11" y="1491"/>
                  </a:lnTo>
                  <a:lnTo>
                    <a:pt x="6" y="1501"/>
                  </a:lnTo>
                  <a:lnTo>
                    <a:pt x="3" y="1511"/>
                  </a:lnTo>
                  <a:lnTo>
                    <a:pt x="1" y="1522"/>
                  </a:lnTo>
                  <a:lnTo>
                    <a:pt x="0" y="1532"/>
                  </a:lnTo>
                  <a:lnTo>
                    <a:pt x="0" y="1541"/>
                  </a:lnTo>
                  <a:lnTo>
                    <a:pt x="1" y="1552"/>
                  </a:lnTo>
                  <a:lnTo>
                    <a:pt x="3" y="1562"/>
                  </a:lnTo>
                  <a:lnTo>
                    <a:pt x="6" y="1571"/>
                  </a:lnTo>
                  <a:lnTo>
                    <a:pt x="10" y="1581"/>
                  </a:lnTo>
                  <a:lnTo>
                    <a:pt x="14" y="1589"/>
                  </a:lnTo>
                  <a:lnTo>
                    <a:pt x="21" y="1597"/>
                  </a:lnTo>
                  <a:lnTo>
                    <a:pt x="27" y="1606"/>
                  </a:lnTo>
                  <a:lnTo>
                    <a:pt x="33" y="1613"/>
                  </a:lnTo>
                  <a:lnTo>
                    <a:pt x="41" y="1620"/>
                  </a:lnTo>
                  <a:lnTo>
                    <a:pt x="49" y="1626"/>
                  </a:lnTo>
                  <a:lnTo>
                    <a:pt x="57" y="1631"/>
                  </a:lnTo>
                  <a:lnTo>
                    <a:pt x="66" y="1636"/>
                  </a:lnTo>
                  <a:lnTo>
                    <a:pt x="76" y="1640"/>
                  </a:lnTo>
                  <a:lnTo>
                    <a:pt x="85" y="1643"/>
                  </a:lnTo>
                  <a:lnTo>
                    <a:pt x="94" y="1645"/>
                  </a:lnTo>
                  <a:lnTo>
                    <a:pt x="105" y="1646"/>
                  </a:lnTo>
                  <a:lnTo>
                    <a:pt x="115" y="1646"/>
                  </a:lnTo>
                  <a:lnTo>
                    <a:pt x="125" y="1645"/>
                  </a:lnTo>
                  <a:lnTo>
                    <a:pt x="136" y="1643"/>
                  </a:lnTo>
                  <a:lnTo>
                    <a:pt x="146" y="1640"/>
                  </a:lnTo>
                  <a:lnTo>
                    <a:pt x="155" y="1635"/>
                  </a:lnTo>
                  <a:lnTo>
                    <a:pt x="166" y="1628"/>
                  </a:lnTo>
                  <a:lnTo>
                    <a:pt x="176" y="1621"/>
                  </a:lnTo>
                  <a:lnTo>
                    <a:pt x="185" y="1613"/>
                  </a:lnTo>
                  <a:lnTo>
                    <a:pt x="1" y="1537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139760" y="1359000"/>
              <a:ext cx="11160" cy="850680"/>
            </a:xfrm>
            <a:custGeom>
              <a:avLst/>
              <a:gdLst/>
              <a:ahLst/>
              <a:rect l="l" t="t" r="r" b="b"/>
              <a:pathLst>
                <a:path w="215" h="15007">
                  <a:moveTo>
                    <a:pt x="32" y="31"/>
                  </a:moveTo>
                  <a:lnTo>
                    <a:pt x="0" y="107"/>
                  </a:lnTo>
                  <a:lnTo>
                    <a:pt x="0" y="15007"/>
                  </a:lnTo>
                  <a:lnTo>
                    <a:pt x="215" y="15007"/>
                  </a:lnTo>
                  <a:lnTo>
                    <a:pt x="215" y="107"/>
                  </a:lnTo>
                  <a:lnTo>
                    <a:pt x="32" y="31"/>
                  </a:lnTo>
                  <a:lnTo>
                    <a:pt x="215" y="107"/>
                  </a:lnTo>
                  <a:lnTo>
                    <a:pt x="215" y="94"/>
                  </a:lnTo>
                  <a:lnTo>
                    <a:pt x="213" y="83"/>
                  </a:lnTo>
                  <a:lnTo>
                    <a:pt x="210" y="71"/>
                  </a:lnTo>
                  <a:lnTo>
                    <a:pt x="206" y="60"/>
                  </a:lnTo>
                  <a:lnTo>
                    <a:pt x="202" y="50"/>
                  </a:lnTo>
                  <a:lnTo>
                    <a:pt x="196" y="42"/>
                  </a:lnTo>
                  <a:lnTo>
                    <a:pt x="190" y="34"/>
                  </a:lnTo>
                  <a:lnTo>
                    <a:pt x="182" y="27"/>
                  </a:lnTo>
                  <a:lnTo>
                    <a:pt x="174" y="20"/>
                  </a:lnTo>
                  <a:lnTo>
                    <a:pt x="166" y="15"/>
                  </a:lnTo>
                  <a:lnTo>
                    <a:pt x="157" y="10"/>
                  </a:lnTo>
                  <a:lnTo>
                    <a:pt x="148" y="6"/>
                  </a:lnTo>
                  <a:lnTo>
                    <a:pt x="138" y="4"/>
                  </a:lnTo>
                  <a:lnTo>
                    <a:pt x="128" y="2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8" y="6"/>
                  </a:lnTo>
                  <a:lnTo>
                    <a:pt x="59" y="10"/>
                  </a:lnTo>
                  <a:lnTo>
                    <a:pt x="51" y="15"/>
                  </a:lnTo>
                  <a:lnTo>
                    <a:pt x="41" y="20"/>
                  </a:lnTo>
                  <a:lnTo>
                    <a:pt x="34" y="27"/>
                  </a:lnTo>
                  <a:lnTo>
                    <a:pt x="27" y="34"/>
                  </a:lnTo>
                  <a:lnTo>
                    <a:pt x="21" y="42"/>
                  </a:lnTo>
                  <a:lnTo>
                    <a:pt x="14" y="50"/>
                  </a:lnTo>
                  <a:lnTo>
                    <a:pt x="9" y="60"/>
                  </a:lnTo>
                  <a:lnTo>
                    <a:pt x="6" y="71"/>
                  </a:lnTo>
                  <a:lnTo>
                    <a:pt x="3" y="83"/>
                  </a:lnTo>
                  <a:lnTo>
                    <a:pt x="1" y="94"/>
                  </a:lnTo>
                  <a:lnTo>
                    <a:pt x="0" y="107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add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946080" y="1604880"/>
              <a:ext cx="387360" cy="325440"/>
            </a:xfrm>
            <a:custGeom>
              <a:avLst/>
              <a:gdLst/>
              <a:ahLst/>
              <a:rect l="l" t="t" r="r" b="b"/>
              <a:pathLst>
                <a:path w="6842" h="5736">
                  <a:moveTo>
                    <a:pt x="6842" y="0"/>
                  </a:moveTo>
                  <a:lnTo>
                    <a:pt x="6842" y="1913"/>
                  </a:lnTo>
                  <a:lnTo>
                    <a:pt x="6813" y="2119"/>
                  </a:lnTo>
                  <a:lnTo>
                    <a:pt x="6764" y="2310"/>
                  </a:lnTo>
                  <a:lnTo>
                    <a:pt x="6694" y="2490"/>
                  </a:lnTo>
                  <a:lnTo>
                    <a:pt x="6607" y="2656"/>
                  </a:lnTo>
                  <a:lnTo>
                    <a:pt x="6503" y="2812"/>
                  </a:lnTo>
                  <a:lnTo>
                    <a:pt x="6383" y="2954"/>
                  </a:lnTo>
                  <a:lnTo>
                    <a:pt x="6250" y="3085"/>
                  </a:lnTo>
                  <a:lnTo>
                    <a:pt x="6105" y="3207"/>
                  </a:lnTo>
                  <a:lnTo>
                    <a:pt x="5947" y="3317"/>
                  </a:lnTo>
                  <a:lnTo>
                    <a:pt x="5782" y="3418"/>
                  </a:lnTo>
                  <a:lnTo>
                    <a:pt x="5608" y="3509"/>
                  </a:lnTo>
                  <a:lnTo>
                    <a:pt x="5426" y="3591"/>
                  </a:lnTo>
                  <a:lnTo>
                    <a:pt x="5240" y="3664"/>
                  </a:lnTo>
                  <a:lnTo>
                    <a:pt x="5050" y="3731"/>
                  </a:lnTo>
                  <a:lnTo>
                    <a:pt x="4859" y="3789"/>
                  </a:lnTo>
                  <a:lnTo>
                    <a:pt x="4665" y="3840"/>
                  </a:lnTo>
                  <a:lnTo>
                    <a:pt x="4473" y="3884"/>
                  </a:lnTo>
                  <a:lnTo>
                    <a:pt x="4282" y="3922"/>
                  </a:lnTo>
                  <a:lnTo>
                    <a:pt x="4096" y="3955"/>
                  </a:lnTo>
                  <a:lnTo>
                    <a:pt x="3913" y="3981"/>
                  </a:lnTo>
                  <a:lnTo>
                    <a:pt x="3737" y="4004"/>
                  </a:lnTo>
                  <a:lnTo>
                    <a:pt x="3568" y="4022"/>
                  </a:lnTo>
                  <a:lnTo>
                    <a:pt x="3410" y="4036"/>
                  </a:lnTo>
                  <a:lnTo>
                    <a:pt x="3262" y="4047"/>
                  </a:lnTo>
                  <a:lnTo>
                    <a:pt x="3125" y="4054"/>
                  </a:lnTo>
                  <a:lnTo>
                    <a:pt x="3002" y="4059"/>
                  </a:lnTo>
                  <a:lnTo>
                    <a:pt x="2894" y="4062"/>
                  </a:lnTo>
                  <a:lnTo>
                    <a:pt x="2803" y="4064"/>
                  </a:lnTo>
                  <a:lnTo>
                    <a:pt x="2675" y="4064"/>
                  </a:lnTo>
                  <a:lnTo>
                    <a:pt x="2630" y="4063"/>
                  </a:lnTo>
                  <a:lnTo>
                    <a:pt x="2630" y="4183"/>
                  </a:lnTo>
                  <a:lnTo>
                    <a:pt x="2630" y="5736"/>
                  </a:lnTo>
                  <a:lnTo>
                    <a:pt x="0" y="3107"/>
                  </a:lnTo>
                  <a:lnTo>
                    <a:pt x="2630" y="478"/>
                  </a:lnTo>
                  <a:lnTo>
                    <a:pt x="2630" y="2152"/>
                  </a:lnTo>
                  <a:lnTo>
                    <a:pt x="2676" y="2152"/>
                  </a:lnTo>
                  <a:lnTo>
                    <a:pt x="2806" y="2152"/>
                  </a:lnTo>
                  <a:lnTo>
                    <a:pt x="2898" y="2151"/>
                  </a:lnTo>
                  <a:lnTo>
                    <a:pt x="3008" y="2148"/>
                  </a:lnTo>
                  <a:lnTo>
                    <a:pt x="3132" y="2143"/>
                  </a:lnTo>
                  <a:lnTo>
                    <a:pt x="3271" y="2134"/>
                  </a:lnTo>
                  <a:lnTo>
                    <a:pt x="3421" y="2124"/>
                  </a:lnTo>
                  <a:lnTo>
                    <a:pt x="3583" y="2109"/>
                  </a:lnTo>
                  <a:lnTo>
                    <a:pt x="3753" y="2092"/>
                  </a:lnTo>
                  <a:lnTo>
                    <a:pt x="3931" y="2069"/>
                  </a:lnTo>
                  <a:lnTo>
                    <a:pt x="4115" y="2042"/>
                  </a:lnTo>
                  <a:lnTo>
                    <a:pt x="4304" y="2010"/>
                  </a:lnTo>
                  <a:lnTo>
                    <a:pt x="4496" y="1972"/>
                  </a:lnTo>
                  <a:lnTo>
                    <a:pt x="4691" y="1927"/>
                  </a:lnTo>
                  <a:lnTo>
                    <a:pt x="4886" y="1876"/>
                  </a:lnTo>
                  <a:lnTo>
                    <a:pt x="5078" y="1818"/>
                  </a:lnTo>
                  <a:lnTo>
                    <a:pt x="5270" y="1752"/>
                  </a:lnTo>
                  <a:lnTo>
                    <a:pt x="5456" y="1678"/>
                  </a:lnTo>
                  <a:lnTo>
                    <a:pt x="5638" y="1597"/>
                  </a:lnTo>
                  <a:lnTo>
                    <a:pt x="5812" y="1505"/>
                  </a:lnTo>
                  <a:lnTo>
                    <a:pt x="5977" y="1405"/>
                  </a:lnTo>
                  <a:lnTo>
                    <a:pt x="6133" y="1294"/>
                  </a:lnTo>
                  <a:lnTo>
                    <a:pt x="6277" y="1174"/>
                  </a:lnTo>
                  <a:lnTo>
                    <a:pt x="6408" y="1042"/>
                  </a:lnTo>
                  <a:lnTo>
                    <a:pt x="6525" y="899"/>
                  </a:lnTo>
                  <a:lnTo>
                    <a:pt x="6627" y="745"/>
                  </a:lnTo>
                  <a:lnTo>
                    <a:pt x="6710" y="578"/>
                  </a:lnTo>
                  <a:lnTo>
                    <a:pt x="6775" y="399"/>
                  </a:lnTo>
                  <a:lnTo>
                    <a:pt x="6819" y="206"/>
                  </a:lnTo>
                  <a:lnTo>
                    <a:pt x="68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327320" y="1604880"/>
              <a:ext cx="12600" cy="114480"/>
            </a:xfrm>
            <a:custGeom>
              <a:avLst/>
              <a:gdLst/>
              <a:ahLst/>
              <a:rect l="l" t="t" r="r" b="b"/>
              <a:pathLst>
                <a:path w="215" h="2020">
                  <a:moveTo>
                    <a:pt x="214" y="1921"/>
                  </a:moveTo>
                  <a:lnTo>
                    <a:pt x="215" y="1913"/>
                  </a:lnTo>
                  <a:lnTo>
                    <a:pt x="215" y="0"/>
                  </a:lnTo>
                  <a:lnTo>
                    <a:pt x="0" y="0"/>
                  </a:lnTo>
                  <a:lnTo>
                    <a:pt x="0" y="1913"/>
                  </a:lnTo>
                  <a:lnTo>
                    <a:pt x="214" y="1921"/>
                  </a:lnTo>
                  <a:lnTo>
                    <a:pt x="0" y="1913"/>
                  </a:lnTo>
                  <a:lnTo>
                    <a:pt x="0" y="1925"/>
                  </a:lnTo>
                  <a:lnTo>
                    <a:pt x="2" y="1937"/>
                  </a:lnTo>
                  <a:lnTo>
                    <a:pt x="5" y="1949"/>
                  </a:lnTo>
                  <a:lnTo>
                    <a:pt x="9" y="1959"/>
                  </a:lnTo>
                  <a:lnTo>
                    <a:pt x="13" y="1970"/>
                  </a:lnTo>
                  <a:lnTo>
                    <a:pt x="19" y="1978"/>
                  </a:lnTo>
                  <a:lnTo>
                    <a:pt x="25" y="1986"/>
                  </a:lnTo>
                  <a:lnTo>
                    <a:pt x="33" y="1993"/>
                  </a:lnTo>
                  <a:lnTo>
                    <a:pt x="41" y="2000"/>
                  </a:lnTo>
                  <a:lnTo>
                    <a:pt x="49" y="2005"/>
                  </a:lnTo>
                  <a:lnTo>
                    <a:pt x="58" y="2010"/>
                  </a:lnTo>
                  <a:lnTo>
                    <a:pt x="67" y="2013"/>
                  </a:lnTo>
                  <a:lnTo>
                    <a:pt x="77" y="2016"/>
                  </a:lnTo>
                  <a:lnTo>
                    <a:pt x="87" y="2018"/>
                  </a:lnTo>
                  <a:lnTo>
                    <a:pt x="97" y="2019"/>
                  </a:lnTo>
                  <a:lnTo>
                    <a:pt x="107" y="2020"/>
                  </a:lnTo>
                  <a:lnTo>
                    <a:pt x="117" y="2019"/>
                  </a:lnTo>
                  <a:lnTo>
                    <a:pt x="127" y="2018"/>
                  </a:lnTo>
                  <a:lnTo>
                    <a:pt x="137" y="2016"/>
                  </a:lnTo>
                  <a:lnTo>
                    <a:pt x="147" y="2013"/>
                  </a:lnTo>
                  <a:lnTo>
                    <a:pt x="156" y="2010"/>
                  </a:lnTo>
                  <a:lnTo>
                    <a:pt x="164" y="2005"/>
                  </a:lnTo>
                  <a:lnTo>
                    <a:pt x="174" y="2000"/>
                  </a:lnTo>
                  <a:lnTo>
                    <a:pt x="181" y="1993"/>
                  </a:lnTo>
                  <a:lnTo>
                    <a:pt x="188" y="1986"/>
                  </a:lnTo>
                  <a:lnTo>
                    <a:pt x="194" y="1978"/>
                  </a:lnTo>
                  <a:lnTo>
                    <a:pt x="200" y="1970"/>
                  </a:lnTo>
                  <a:lnTo>
                    <a:pt x="206" y="1959"/>
                  </a:lnTo>
                  <a:lnTo>
                    <a:pt x="210" y="1949"/>
                  </a:lnTo>
                  <a:lnTo>
                    <a:pt x="212" y="1937"/>
                  </a:lnTo>
                  <a:lnTo>
                    <a:pt x="214" y="1925"/>
                  </a:lnTo>
                  <a:lnTo>
                    <a:pt x="215" y="1913"/>
                  </a:lnTo>
                  <a:lnTo>
                    <a:pt x="214" y="19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089000" y="1712880"/>
              <a:ext cx="250920" cy="128520"/>
            </a:xfrm>
            <a:custGeom>
              <a:avLst/>
              <a:gdLst/>
              <a:ahLst/>
              <a:rect l="l" t="t" r="r" b="b"/>
              <a:pathLst>
                <a:path w="4427" h="2269">
                  <a:moveTo>
                    <a:pt x="216" y="2160"/>
                  </a:moveTo>
                  <a:lnTo>
                    <a:pt x="105" y="2268"/>
                  </a:lnTo>
                  <a:lnTo>
                    <a:pt x="153" y="2269"/>
                  </a:lnTo>
                  <a:lnTo>
                    <a:pt x="281" y="2269"/>
                  </a:lnTo>
                  <a:lnTo>
                    <a:pt x="374" y="2267"/>
                  </a:lnTo>
                  <a:lnTo>
                    <a:pt x="484" y="2264"/>
                  </a:lnTo>
                  <a:lnTo>
                    <a:pt x="608" y="2259"/>
                  </a:lnTo>
                  <a:lnTo>
                    <a:pt x="746" y="2251"/>
                  </a:lnTo>
                  <a:lnTo>
                    <a:pt x="820" y="2246"/>
                  </a:lnTo>
                  <a:lnTo>
                    <a:pt x="896" y="2240"/>
                  </a:lnTo>
                  <a:lnTo>
                    <a:pt x="975" y="2234"/>
                  </a:lnTo>
                  <a:lnTo>
                    <a:pt x="1057" y="2226"/>
                  </a:lnTo>
                  <a:lnTo>
                    <a:pt x="1142" y="2217"/>
                  </a:lnTo>
                  <a:lnTo>
                    <a:pt x="1228" y="2208"/>
                  </a:lnTo>
                  <a:lnTo>
                    <a:pt x="1316" y="2197"/>
                  </a:lnTo>
                  <a:lnTo>
                    <a:pt x="1406" y="2185"/>
                  </a:lnTo>
                  <a:lnTo>
                    <a:pt x="1497" y="2172"/>
                  </a:lnTo>
                  <a:lnTo>
                    <a:pt x="1590" y="2157"/>
                  </a:lnTo>
                  <a:lnTo>
                    <a:pt x="1684" y="2142"/>
                  </a:lnTo>
                  <a:lnTo>
                    <a:pt x="1780" y="2125"/>
                  </a:lnTo>
                  <a:lnTo>
                    <a:pt x="1876" y="2106"/>
                  </a:lnTo>
                  <a:lnTo>
                    <a:pt x="1973" y="2086"/>
                  </a:lnTo>
                  <a:lnTo>
                    <a:pt x="2071" y="2064"/>
                  </a:lnTo>
                  <a:lnTo>
                    <a:pt x="2169" y="2041"/>
                  </a:lnTo>
                  <a:lnTo>
                    <a:pt x="2267" y="2016"/>
                  </a:lnTo>
                  <a:lnTo>
                    <a:pt x="2366" y="1989"/>
                  </a:lnTo>
                  <a:lnTo>
                    <a:pt x="2464" y="1960"/>
                  </a:lnTo>
                  <a:lnTo>
                    <a:pt x="2561" y="1930"/>
                  </a:lnTo>
                  <a:lnTo>
                    <a:pt x="2610" y="1914"/>
                  </a:lnTo>
                  <a:lnTo>
                    <a:pt x="2659" y="1897"/>
                  </a:lnTo>
                  <a:lnTo>
                    <a:pt x="2708" y="1881"/>
                  </a:lnTo>
                  <a:lnTo>
                    <a:pt x="2755" y="1863"/>
                  </a:lnTo>
                  <a:lnTo>
                    <a:pt x="2804" y="1844"/>
                  </a:lnTo>
                  <a:lnTo>
                    <a:pt x="2852" y="1826"/>
                  </a:lnTo>
                  <a:lnTo>
                    <a:pt x="2899" y="1807"/>
                  </a:lnTo>
                  <a:lnTo>
                    <a:pt x="2946" y="1787"/>
                  </a:lnTo>
                  <a:lnTo>
                    <a:pt x="2994" y="1767"/>
                  </a:lnTo>
                  <a:lnTo>
                    <a:pt x="3040" y="1746"/>
                  </a:lnTo>
                  <a:lnTo>
                    <a:pt x="3087" y="1724"/>
                  </a:lnTo>
                  <a:lnTo>
                    <a:pt x="3132" y="1702"/>
                  </a:lnTo>
                  <a:lnTo>
                    <a:pt x="3178" y="1680"/>
                  </a:lnTo>
                  <a:lnTo>
                    <a:pt x="3223" y="1657"/>
                  </a:lnTo>
                  <a:lnTo>
                    <a:pt x="3268" y="1633"/>
                  </a:lnTo>
                  <a:lnTo>
                    <a:pt x="3313" y="1608"/>
                  </a:lnTo>
                  <a:lnTo>
                    <a:pt x="3356" y="1583"/>
                  </a:lnTo>
                  <a:lnTo>
                    <a:pt x="3400" y="1557"/>
                  </a:lnTo>
                  <a:lnTo>
                    <a:pt x="3442" y="1531"/>
                  </a:lnTo>
                  <a:lnTo>
                    <a:pt x="3484" y="1505"/>
                  </a:lnTo>
                  <a:lnTo>
                    <a:pt x="3526" y="1477"/>
                  </a:lnTo>
                  <a:lnTo>
                    <a:pt x="3567" y="1448"/>
                  </a:lnTo>
                  <a:lnTo>
                    <a:pt x="3608" y="1419"/>
                  </a:lnTo>
                  <a:lnTo>
                    <a:pt x="3648" y="1388"/>
                  </a:lnTo>
                  <a:lnTo>
                    <a:pt x="3686" y="1358"/>
                  </a:lnTo>
                  <a:lnTo>
                    <a:pt x="3726" y="1327"/>
                  </a:lnTo>
                  <a:lnTo>
                    <a:pt x="3763" y="1295"/>
                  </a:lnTo>
                  <a:lnTo>
                    <a:pt x="3800" y="1263"/>
                  </a:lnTo>
                  <a:lnTo>
                    <a:pt x="3837" y="1229"/>
                  </a:lnTo>
                  <a:lnTo>
                    <a:pt x="3872" y="1195"/>
                  </a:lnTo>
                  <a:lnTo>
                    <a:pt x="3906" y="1161"/>
                  </a:lnTo>
                  <a:lnTo>
                    <a:pt x="3940" y="1124"/>
                  </a:lnTo>
                  <a:lnTo>
                    <a:pt x="3973" y="1088"/>
                  </a:lnTo>
                  <a:lnTo>
                    <a:pt x="4005" y="1050"/>
                  </a:lnTo>
                  <a:lnTo>
                    <a:pt x="4036" y="1012"/>
                  </a:lnTo>
                  <a:lnTo>
                    <a:pt x="4067" y="973"/>
                  </a:lnTo>
                  <a:lnTo>
                    <a:pt x="4096" y="933"/>
                  </a:lnTo>
                  <a:lnTo>
                    <a:pt x="4125" y="893"/>
                  </a:lnTo>
                  <a:lnTo>
                    <a:pt x="4151" y="851"/>
                  </a:lnTo>
                  <a:lnTo>
                    <a:pt x="4177" y="809"/>
                  </a:lnTo>
                  <a:lnTo>
                    <a:pt x="4202" y="766"/>
                  </a:lnTo>
                  <a:lnTo>
                    <a:pt x="4226" y="722"/>
                  </a:lnTo>
                  <a:lnTo>
                    <a:pt x="4249" y="677"/>
                  </a:lnTo>
                  <a:lnTo>
                    <a:pt x="4271" y="631"/>
                  </a:lnTo>
                  <a:lnTo>
                    <a:pt x="4290" y="586"/>
                  </a:lnTo>
                  <a:lnTo>
                    <a:pt x="4310" y="538"/>
                  </a:lnTo>
                  <a:lnTo>
                    <a:pt x="4328" y="489"/>
                  </a:lnTo>
                  <a:lnTo>
                    <a:pt x="4344" y="441"/>
                  </a:lnTo>
                  <a:lnTo>
                    <a:pt x="4359" y="391"/>
                  </a:lnTo>
                  <a:lnTo>
                    <a:pt x="4373" y="340"/>
                  </a:lnTo>
                  <a:lnTo>
                    <a:pt x="4386" y="288"/>
                  </a:lnTo>
                  <a:lnTo>
                    <a:pt x="4397" y="235"/>
                  </a:lnTo>
                  <a:lnTo>
                    <a:pt x="4406" y="183"/>
                  </a:lnTo>
                  <a:lnTo>
                    <a:pt x="4415" y="129"/>
                  </a:lnTo>
                  <a:lnTo>
                    <a:pt x="4422" y="74"/>
                  </a:lnTo>
                  <a:lnTo>
                    <a:pt x="4427" y="18"/>
                  </a:lnTo>
                  <a:lnTo>
                    <a:pt x="4213" y="0"/>
                  </a:lnTo>
                  <a:lnTo>
                    <a:pt x="4208" y="50"/>
                  </a:lnTo>
                  <a:lnTo>
                    <a:pt x="4202" y="100"/>
                  </a:lnTo>
                  <a:lnTo>
                    <a:pt x="4195" y="147"/>
                  </a:lnTo>
                  <a:lnTo>
                    <a:pt x="4186" y="195"/>
                  </a:lnTo>
                  <a:lnTo>
                    <a:pt x="4176" y="242"/>
                  </a:lnTo>
                  <a:lnTo>
                    <a:pt x="4165" y="286"/>
                  </a:lnTo>
                  <a:lnTo>
                    <a:pt x="4152" y="331"/>
                  </a:lnTo>
                  <a:lnTo>
                    <a:pt x="4139" y="375"/>
                  </a:lnTo>
                  <a:lnTo>
                    <a:pt x="4125" y="418"/>
                  </a:lnTo>
                  <a:lnTo>
                    <a:pt x="4109" y="460"/>
                  </a:lnTo>
                  <a:lnTo>
                    <a:pt x="4092" y="502"/>
                  </a:lnTo>
                  <a:lnTo>
                    <a:pt x="4075" y="543"/>
                  </a:lnTo>
                  <a:lnTo>
                    <a:pt x="4056" y="582"/>
                  </a:lnTo>
                  <a:lnTo>
                    <a:pt x="4035" y="622"/>
                  </a:lnTo>
                  <a:lnTo>
                    <a:pt x="4015" y="661"/>
                  </a:lnTo>
                  <a:lnTo>
                    <a:pt x="3993" y="698"/>
                  </a:lnTo>
                  <a:lnTo>
                    <a:pt x="3969" y="736"/>
                  </a:lnTo>
                  <a:lnTo>
                    <a:pt x="3945" y="772"/>
                  </a:lnTo>
                  <a:lnTo>
                    <a:pt x="3920" y="808"/>
                  </a:lnTo>
                  <a:lnTo>
                    <a:pt x="3895" y="844"/>
                  </a:lnTo>
                  <a:lnTo>
                    <a:pt x="3868" y="879"/>
                  </a:lnTo>
                  <a:lnTo>
                    <a:pt x="3841" y="912"/>
                  </a:lnTo>
                  <a:lnTo>
                    <a:pt x="3812" y="945"/>
                  </a:lnTo>
                  <a:lnTo>
                    <a:pt x="3783" y="978"/>
                  </a:lnTo>
                  <a:lnTo>
                    <a:pt x="3753" y="1010"/>
                  </a:lnTo>
                  <a:lnTo>
                    <a:pt x="3722" y="1041"/>
                  </a:lnTo>
                  <a:lnTo>
                    <a:pt x="3690" y="1072"/>
                  </a:lnTo>
                  <a:lnTo>
                    <a:pt x="3656" y="1103"/>
                  </a:lnTo>
                  <a:lnTo>
                    <a:pt x="3622" y="1133"/>
                  </a:lnTo>
                  <a:lnTo>
                    <a:pt x="3588" y="1162"/>
                  </a:lnTo>
                  <a:lnTo>
                    <a:pt x="3553" y="1191"/>
                  </a:lnTo>
                  <a:lnTo>
                    <a:pt x="3518" y="1219"/>
                  </a:lnTo>
                  <a:lnTo>
                    <a:pt x="3480" y="1246"/>
                  </a:lnTo>
                  <a:lnTo>
                    <a:pt x="3444" y="1272"/>
                  </a:lnTo>
                  <a:lnTo>
                    <a:pt x="3406" y="1298"/>
                  </a:lnTo>
                  <a:lnTo>
                    <a:pt x="3367" y="1324"/>
                  </a:lnTo>
                  <a:lnTo>
                    <a:pt x="3328" y="1349"/>
                  </a:lnTo>
                  <a:lnTo>
                    <a:pt x="3289" y="1373"/>
                  </a:lnTo>
                  <a:lnTo>
                    <a:pt x="3248" y="1398"/>
                  </a:lnTo>
                  <a:lnTo>
                    <a:pt x="3207" y="1421"/>
                  </a:lnTo>
                  <a:lnTo>
                    <a:pt x="3165" y="1443"/>
                  </a:lnTo>
                  <a:lnTo>
                    <a:pt x="3124" y="1466"/>
                  </a:lnTo>
                  <a:lnTo>
                    <a:pt x="3082" y="1488"/>
                  </a:lnTo>
                  <a:lnTo>
                    <a:pt x="3038" y="1509"/>
                  </a:lnTo>
                  <a:lnTo>
                    <a:pt x="2995" y="1530"/>
                  </a:lnTo>
                  <a:lnTo>
                    <a:pt x="2952" y="1550"/>
                  </a:lnTo>
                  <a:lnTo>
                    <a:pt x="2908" y="1570"/>
                  </a:lnTo>
                  <a:lnTo>
                    <a:pt x="2863" y="1589"/>
                  </a:lnTo>
                  <a:lnTo>
                    <a:pt x="2817" y="1608"/>
                  </a:lnTo>
                  <a:lnTo>
                    <a:pt x="2773" y="1626"/>
                  </a:lnTo>
                  <a:lnTo>
                    <a:pt x="2727" y="1643"/>
                  </a:lnTo>
                  <a:lnTo>
                    <a:pt x="2682" y="1661"/>
                  </a:lnTo>
                  <a:lnTo>
                    <a:pt x="2635" y="1678"/>
                  </a:lnTo>
                  <a:lnTo>
                    <a:pt x="2589" y="1694"/>
                  </a:lnTo>
                  <a:lnTo>
                    <a:pt x="2542" y="1710"/>
                  </a:lnTo>
                  <a:lnTo>
                    <a:pt x="2496" y="1725"/>
                  </a:lnTo>
                  <a:lnTo>
                    <a:pt x="2401" y="1754"/>
                  </a:lnTo>
                  <a:lnTo>
                    <a:pt x="2308" y="1782"/>
                  </a:lnTo>
                  <a:lnTo>
                    <a:pt x="2213" y="1808"/>
                  </a:lnTo>
                  <a:lnTo>
                    <a:pt x="2117" y="1832"/>
                  </a:lnTo>
                  <a:lnTo>
                    <a:pt x="2023" y="1855"/>
                  </a:lnTo>
                  <a:lnTo>
                    <a:pt x="1929" y="1875"/>
                  </a:lnTo>
                  <a:lnTo>
                    <a:pt x="1835" y="1895"/>
                  </a:lnTo>
                  <a:lnTo>
                    <a:pt x="1741" y="1914"/>
                  </a:lnTo>
                  <a:lnTo>
                    <a:pt x="1648" y="1930"/>
                  </a:lnTo>
                  <a:lnTo>
                    <a:pt x="1556" y="1946"/>
                  </a:lnTo>
                  <a:lnTo>
                    <a:pt x="1466" y="1959"/>
                  </a:lnTo>
                  <a:lnTo>
                    <a:pt x="1377" y="1972"/>
                  </a:lnTo>
                  <a:lnTo>
                    <a:pt x="1289" y="1984"/>
                  </a:lnTo>
                  <a:lnTo>
                    <a:pt x="1203" y="1995"/>
                  </a:lnTo>
                  <a:lnTo>
                    <a:pt x="1119" y="2004"/>
                  </a:lnTo>
                  <a:lnTo>
                    <a:pt x="1037" y="2012"/>
                  </a:lnTo>
                  <a:lnTo>
                    <a:pt x="957" y="2019"/>
                  </a:lnTo>
                  <a:lnTo>
                    <a:pt x="880" y="2026"/>
                  </a:lnTo>
                  <a:lnTo>
                    <a:pt x="805" y="2032"/>
                  </a:lnTo>
                  <a:lnTo>
                    <a:pt x="734" y="2036"/>
                  </a:lnTo>
                  <a:lnTo>
                    <a:pt x="598" y="2044"/>
                  </a:lnTo>
                  <a:lnTo>
                    <a:pt x="477" y="2049"/>
                  </a:lnTo>
                  <a:lnTo>
                    <a:pt x="370" y="2053"/>
                  </a:lnTo>
                  <a:lnTo>
                    <a:pt x="281" y="2054"/>
                  </a:lnTo>
                  <a:lnTo>
                    <a:pt x="154" y="2054"/>
                  </a:lnTo>
                  <a:lnTo>
                    <a:pt x="111" y="2054"/>
                  </a:lnTo>
                  <a:lnTo>
                    <a:pt x="0" y="2160"/>
                  </a:lnTo>
                  <a:lnTo>
                    <a:pt x="111" y="2054"/>
                  </a:lnTo>
                  <a:lnTo>
                    <a:pt x="98" y="2054"/>
                  </a:lnTo>
                  <a:lnTo>
                    <a:pt x="85" y="2055"/>
                  </a:lnTo>
                  <a:lnTo>
                    <a:pt x="74" y="2058"/>
                  </a:lnTo>
                  <a:lnTo>
                    <a:pt x="63" y="2061"/>
                  </a:lnTo>
                  <a:lnTo>
                    <a:pt x="54" y="2066"/>
                  </a:lnTo>
                  <a:lnTo>
                    <a:pt x="45" y="2071"/>
                  </a:lnTo>
                  <a:lnTo>
                    <a:pt x="37" y="2077"/>
                  </a:lnTo>
                  <a:lnTo>
                    <a:pt x="29" y="2085"/>
                  </a:lnTo>
                  <a:lnTo>
                    <a:pt x="23" y="2092"/>
                  </a:lnTo>
                  <a:lnTo>
                    <a:pt x="17" y="2100"/>
                  </a:lnTo>
                  <a:lnTo>
                    <a:pt x="13" y="2110"/>
                  </a:lnTo>
                  <a:lnTo>
                    <a:pt x="9" y="2118"/>
                  </a:lnTo>
                  <a:lnTo>
                    <a:pt x="5" y="2128"/>
                  </a:lnTo>
                  <a:lnTo>
                    <a:pt x="2" y="2137"/>
                  </a:lnTo>
                  <a:lnTo>
                    <a:pt x="1" y="2148"/>
                  </a:lnTo>
                  <a:lnTo>
                    <a:pt x="0" y="2157"/>
                  </a:lnTo>
                  <a:lnTo>
                    <a:pt x="0" y="2168"/>
                  </a:lnTo>
                  <a:lnTo>
                    <a:pt x="1" y="2178"/>
                  </a:lnTo>
                  <a:lnTo>
                    <a:pt x="3" y="2187"/>
                  </a:lnTo>
                  <a:lnTo>
                    <a:pt x="7" y="2198"/>
                  </a:lnTo>
                  <a:lnTo>
                    <a:pt x="10" y="2207"/>
                  </a:lnTo>
                  <a:lnTo>
                    <a:pt x="14" y="2215"/>
                  </a:lnTo>
                  <a:lnTo>
                    <a:pt x="19" y="2225"/>
                  </a:lnTo>
                  <a:lnTo>
                    <a:pt x="25" y="2232"/>
                  </a:lnTo>
                  <a:lnTo>
                    <a:pt x="32" y="2239"/>
                  </a:lnTo>
                  <a:lnTo>
                    <a:pt x="40" y="2246"/>
                  </a:lnTo>
                  <a:lnTo>
                    <a:pt x="49" y="2252"/>
                  </a:lnTo>
                  <a:lnTo>
                    <a:pt x="58" y="2258"/>
                  </a:lnTo>
                  <a:lnTo>
                    <a:pt x="69" y="2262"/>
                  </a:lnTo>
                  <a:lnTo>
                    <a:pt x="80" y="2265"/>
                  </a:lnTo>
                  <a:lnTo>
                    <a:pt x="91" y="2267"/>
                  </a:lnTo>
                  <a:lnTo>
                    <a:pt x="105" y="2268"/>
                  </a:lnTo>
                  <a:lnTo>
                    <a:pt x="216" y="216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89000" y="1835280"/>
              <a:ext cx="12600" cy="12600"/>
            </a:xfrm>
            <a:custGeom>
              <a:avLst/>
              <a:gdLst/>
              <a:ahLst/>
              <a:rect l="l" t="t" r="r" b="b"/>
              <a:pathLst>
                <a:path w="216" h="228">
                  <a:moveTo>
                    <a:pt x="0" y="120"/>
                  </a:moveTo>
                  <a:lnTo>
                    <a:pt x="216" y="120"/>
                  </a:lnTo>
                  <a:lnTo>
                    <a:pt x="216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2" y="145"/>
                  </a:lnTo>
                  <a:lnTo>
                    <a:pt x="5" y="157"/>
                  </a:lnTo>
                  <a:lnTo>
                    <a:pt x="10" y="167"/>
                  </a:lnTo>
                  <a:lnTo>
                    <a:pt x="14" y="177"/>
                  </a:lnTo>
                  <a:lnTo>
                    <a:pt x="20" y="186"/>
                  </a:lnTo>
                  <a:lnTo>
                    <a:pt x="26" y="194"/>
                  </a:lnTo>
                  <a:lnTo>
                    <a:pt x="33" y="201"/>
                  </a:lnTo>
                  <a:lnTo>
                    <a:pt x="42" y="207"/>
                  </a:lnTo>
                  <a:lnTo>
                    <a:pt x="50" y="213"/>
                  </a:lnTo>
                  <a:lnTo>
                    <a:pt x="59" y="218"/>
                  </a:lnTo>
                  <a:lnTo>
                    <a:pt x="69" y="221"/>
                  </a:lnTo>
                  <a:lnTo>
                    <a:pt x="78" y="224"/>
                  </a:lnTo>
                  <a:lnTo>
                    <a:pt x="87" y="226"/>
                  </a:lnTo>
                  <a:lnTo>
                    <a:pt x="98" y="227"/>
                  </a:lnTo>
                  <a:lnTo>
                    <a:pt x="108" y="228"/>
                  </a:lnTo>
                  <a:lnTo>
                    <a:pt x="117" y="227"/>
                  </a:lnTo>
                  <a:lnTo>
                    <a:pt x="128" y="226"/>
                  </a:lnTo>
                  <a:lnTo>
                    <a:pt x="138" y="224"/>
                  </a:lnTo>
                  <a:lnTo>
                    <a:pt x="147" y="221"/>
                  </a:lnTo>
                  <a:lnTo>
                    <a:pt x="157" y="218"/>
                  </a:lnTo>
                  <a:lnTo>
                    <a:pt x="165" y="213"/>
                  </a:lnTo>
                  <a:lnTo>
                    <a:pt x="174" y="207"/>
                  </a:lnTo>
                  <a:lnTo>
                    <a:pt x="182" y="201"/>
                  </a:lnTo>
                  <a:lnTo>
                    <a:pt x="189" y="194"/>
                  </a:lnTo>
                  <a:lnTo>
                    <a:pt x="196" y="186"/>
                  </a:lnTo>
                  <a:lnTo>
                    <a:pt x="201" y="177"/>
                  </a:lnTo>
                  <a:lnTo>
                    <a:pt x="206" y="167"/>
                  </a:lnTo>
                  <a:lnTo>
                    <a:pt x="211" y="157"/>
                  </a:lnTo>
                  <a:lnTo>
                    <a:pt x="213" y="145"/>
                  </a:lnTo>
                  <a:lnTo>
                    <a:pt x="215" y="133"/>
                  </a:lnTo>
                  <a:lnTo>
                    <a:pt x="216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89000" y="1841400"/>
              <a:ext cx="12600" cy="93600"/>
            </a:xfrm>
            <a:custGeom>
              <a:avLst/>
              <a:gdLst/>
              <a:ahLst/>
              <a:rect l="l" t="t" r="r" b="b"/>
              <a:pathLst>
                <a:path w="216" h="1661">
                  <a:moveTo>
                    <a:pt x="31" y="1630"/>
                  </a:moveTo>
                  <a:lnTo>
                    <a:pt x="216" y="1553"/>
                  </a:lnTo>
                  <a:lnTo>
                    <a:pt x="216" y="0"/>
                  </a:lnTo>
                  <a:lnTo>
                    <a:pt x="0" y="0"/>
                  </a:lnTo>
                  <a:lnTo>
                    <a:pt x="0" y="1553"/>
                  </a:lnTo>
                  <a:lnTo>
                    <a:pt x="31" y="1630"/>
                  </a:lnTo>
                  <a:lnTo>
                    <a:pt x="0" y="1553"/>
                  </a:lnTo>
                  <a:lnTo>
                    <a:pt x="0" y="1567"/>
                  </a:lnTo>
                  <a:lnTo>
                    <a:pt x="2" y="1579"/>
                  </a:lnTo>
                  <a:lnTo>
                    <a:pt x="5" y="1590"/>
                  </a:lnTo>
                  <a:lnTo>
                    <a:pt x="10" y="1601"/>
                  </a:lnTo>
                  <a:lnTo>
                    <a:pt x="14" y="1610"/>
                  </a:lnTo>
                  <a:lnTo>
                    <a:pt x="20" y="1620"/>
                  </a:lnTo>
                  <a:lnTo>
                    <a:pt x="26" y="1627"/>
                  </a:lnTo>
                  <a:lnTo>
                    <a:pt x="33" y="1634"/>
                  </a:lnTo>
                  <a:lnTo>
                    <a:pt x="42" y="1640"/>
                  </a:lnTo>
                  <a:lnTo>
                    <a:pt x="50" y="1646"/>
                  </a:lnTo>
                  <a:lnTo>
                    <a:pt x="59" y="1651"/>
                  </a:lnTo>
                  <a:lnTo>
                    <a:pt x="69" y="1655"/>
                  </a:lnTo>
                  <a:lnTo>
                    <a:pt x="78" y="1657"/>
                  </a:lnTo>
                  <a:lnTo>
                    <a:pt x="87" y="1659"/>
                  </a:lnTo>
                  <a:lnTo>
                    <a:pt x="98" y="1661"/>
                  </a:lnTo>
                  <a:lnTo>
                    <a:pt x="108" y="1661"/>
                  </a:lnTo>
                  <a:lnTo>
                    <a:pt x="117" y="1661"/>
                  </a:lnTo>
                  <a:lnTo>
                    <a:pt x="128" y="1659"/>
                  </a:lnTo>
                  <a:lnTo>
                    <a:pt x="138" y="1657"/>
                  </a:lnTo>
                  <a:lnTo>
                    <a:pt x="147" y="1655"/>
                  </a:lnTo>
                  <a:lnTo>
                    <a:pt x="157" y="1651"/>
                  </a:lnTo>
                  <a:lnTo>
                    <a:pt x="165" y="1646"/>
                  </a:lnTo>
                  <a:lnTo>
                    <a:pt x="174" y="1640"/>
                  </a:lnTo>
                  <a:lnTo>
                    <a:pt x="182" y="1634"/>
                  </a:lnTo>
                  <a:lnTo>
                    <a:pt x="189" y="1627"/>
                  </a:lnTo>
                  <a:lnTo>
                    <a:pt x="196" y="1620"/>
                  </a:lnTo>
                  <a:lnTo>
                    <a:pt x="201" y="1610"/>
                  </a:lnTo>
                  <a:lnTo>
                    <a:pt x="206" y="1601"/>
                  </a:lnTo>
                  <a:lnTo>
                    <a:pt x="211" y="1590"/>
                  </a:lnTo>
                  <a:lnTo>
                    <a:pt x="213" y="1579"/>
                  </a:lnTo>
                  <a:lnTo>
                    <a:pt x="215" y="1567"/>
                  </a:lnTo>
                  <a:lnTo>
                    <a:pt x="216" y="1553"/>
                  </a:lnTo>
                  <a:lnTo>
                    <a:pt x="31" y="16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939960" y="1774800"/>
              <a:ext cx="158760" cy="158760"/>
            </a:xfrm>
            <a:custGeom>
              <a:avLst/>
              <a:gdLst/>
              <a:ahLst/>
              <a:rect l="l" t="t" r="r" b="b"/>
              <a:pathLst>
                <a:path w="2814" h="2816">
                  <a:moveTo>
                    <a:pt x="33" y="34"/>
                  </a:moveTo>
                  <a:lnTo>
                    <a:pt x="33" y="187"/>
                  </a:lnTo>
                  <a:lnTo>
                    <a:pt x="2661" y="2816"/>
                  </a:lnTo>
                  <a:lnTo>
                    <a:pt x="2814" y="2664"/>
                  </a:lnTo>
                  <a:lnTo>
                    <a:pt x="185" y="34"/>
                  </a:lnTo>
                  <a:lnTo>
                    <a:pt x="33" y="34"/>
                  </a:lnTo>
                  <a:lnTo>
                    <a:pt x="185" y="34"/>
                  </a:lnTo>
                  <a:lnTo>
                    <a:pt x="176" y="25"/>
                  </a:lnTo>
                  <a:lnTo>
                    <a:pt x="165" y="18"/>
                  </a:lnTo>
                  <a:lnTo>
                    <a:pt x="155" y="12"/>
                  </a:lnTo>
                  <a:lnTo>
                    <a:pt x="145" y="7"/>
                  </a:lnTo>
                  <a:lnTo>
                    <a:pt x="135" y="4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4" y="0"/>
                  </a:lnTo>
                  <a:lnTo>
                    <a:pt x="94" y="2"/>
                  </a:lnTo>
                  <a:lnTo>
                    <a:pt x="84" y="4"/>
                  </a:lnTo>
                  <a:lnTo>
                    <a:pt x="74" y="7"/>
                  </a:lnTo>
                  <a:lnTo>
                    <a:pt x="66" y="11"/>
                  </a:lnTo>
                  <a:lnTo>
                    <a:pt x="57" y="16"/>
                  </a:lnTo>
                  <a:lnTo>
                    <a:pt x="48" y="21"/>
                  </a:lnTo>
                  <a:lnTo>
                    <a:pt x="40" y="27"/>
                  </a:lnTo>
                  <a:lnTo>
                    <a:pt x="33" y="34"/>
                  </a:lnTo>
                  <a:lnTo>
                    <a:pt x="25" y="42"/>
                  </a:lnTo>
                  <a:lnTo>
                    <a:pt x="19" y="50"/>
                  </a:lnTo>
                  <a:lnTo>
                    <a:pt x="14" y="58"/>
                  </a:lnTo>
                  <a:lnTo>
                    <a:pt x="10" y="67"/>
                  </a:lnTo>
                  <a:lnTo>
                    <a:pt x="6" y="76"/>
                  </a:lnTo>
                  <a:lnTo>
                    <a:pt x="3" y="85"/>
                  </a:lnTo>
                  <a:lnTo>
                    <a:pt x="1" y="96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" y="126"/>
                  </a:lnTo>
                  <a:lnTo>
                    <a:pt x="3" y="136"/>
                  </a:lnTo>
                  <a:lnTo>
                    <a:pt x="6" y="146"/>
                  </a:lnTo>
                  <a:lnTo>
                    <a:pt x="11" y="157"/>
                  </a:lnTo>
                  <a:lnTo>
                    <a:pt x="16" y="167"/>
                  </a:lnTo>
                  <a:lnTo>
                    <a:pt x="23" y="176"/>
                  </a:lnTo>
                  <a:lnTo>
                    <a:pt x="33" y="187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941400" y="1625400"/>
              <a:ext cx="160200" cy="158760"/>
            </a:xfrm>
            <a:custGeom>
              <a:avLst/>
              <a:gdLst/>
              <a:ahLst/>
              <a:rect l="l" t="t" r="r" b="b"/>
              <a:pathLst>
                <a:path w="2814" h="2815">
                  <a:moveTo>
                    <a:pt x="2813" y="109"/>
                  </a:moveTo>
                  <a:lnTo>
                    <a:pt x="2629" y="33"/>
                  </a:lnTo>
                  <a:lnTo>
                    <a:pt x="0" y="2662"/>
                  </a:lnTo>
                  <a:lnTo>
                    <a:pt x="152" y="2815"/>
                  </a:lnTo>
                  <a:lnTo>
                    <a:pt x="2781" y="185"/>
                  </a:lnTo>
                  <a:lnTo>
                    <a:pt x="2813" y="109"/>
                  </a:lnTo>
                  <a:lnTo>
                    <a:pt x="2781" y="185"/>
                  </a:lnTo>
                  <a:lnTo>
                    <a:pt x="2789" y="176"/>
                  </a:lnTo>
                  <a:lnTo>
                    <a:pt x="2796" y="166"/>
                  </a:lnTo>
                  <a:lnTo>
                    <a:pt x="2802" y="156"/>
                  </a:lnTo>
                  <a:lnTo>
                    <a:pt x="2808" y="146"/>
                  </a:lnTo>
                  <a:lnTo>
                    <a:pt x="2811" y="136"/>
                  </a:lnTo>
                  <a:lnTo>
                    <a:pt x="2813" y="125"/>
                  </a:lnTo>
                  <a:lnTo>
                    <a:pt x="2814" y="115"/>
                  </a:lnTo>
                  <a:lnTo>
                    <a:pt x="2814" y="105"/>
                  </a:lnTo>
                  <a:lnTo>
                    <a:pt x="2813" y="95"/>
                  </a:lnTo>
                  <a:lnTo>
                    <a:pt x="2811" y="85"/>
                  </a:lnTo>
                  <a:lnTo>
                    <a:pt x="2808" y="76"/>
                  </a:lnTo>
                  <a:lnTo>
                    <a:pt x="2803" y="66"/>
                  </a:lnTo>
                  <a:lnTo>
                    <a:pt x="2799" y="57"/>
                  </a:lnTo>
                  <a:lnTo>
                    <a:pt x="2794" y="49"/>
                  </a:lnTo>
                  <a:lnTo>
                    <a:pt x="2788" y="41"/>
                  </a:lnTo>
                  <a:lnTo>
                    <a:pt x="2781" y="33"/>
                  </a:lnTo>
                  <a:lnTo>
                    <a:pt x="2773" y="27"/>
                  </a:lnTo>
                  <a:lnTo>
                    <a:pt x="2765" y="21"/>
                  </a:lnTo>
                  <a:lnTo>
                    <a:pt x="2757" y="15"/>
                  </a:lnTo>
                  <a:lnTo>
                    <a:pt x="2749" y="10"/>
                  </a:lnTo>
                  <a:lnTo>
                    <a:pt x="2739" y="6"/>
                  </a:lnTo>
                  <a:lnTo>
                    <a:pt x="2730" y="3"/>
                  </a:lnTo>
                  <a:lnTo>
                    <a:pt x="2720" y="1"/>
                  </a:lnTo>
                  <a:lnTo>
                    <a:pt x="2710" y="0"/>
                  </a:lnTo>
                  <a:lnTo>
                    <a:pt x="2700" y="0"/>
                  </a:lnTo>
                  <a:lnTo>
                    <a:pt x="2689" y="1"/>
                  </a:lnTo>
                  <a:lnTo>
                    <a:pt x="2679" y="3"/>
                  </a:lnTo>
                  <a:lnTo>
                    <a:pt x="2669" y="6"/>
                  </a:lnTo>
                  <a:lnTo>
                    <a:pt x="2658" y="11"/>
                  </a:lnTo>
                  <a:lnTo>
                    <a:pt x="2649" y="16"/>
                  </a:lnTo>
                  <a:lnTo>
                    <a:pt x="2639" y="25"/>
                  </a:lnTo>
                  <a:lnTo>
                    <a:pt x="2629" y="33"/>
                  </a:lnTo>
                  <a:lnTo>
                    <a:pt x="2813" y="10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089000" y="1631880"/>
              <a:ext cx="12600" cy="100080"/>
            </a:xfrm>
            <a:custGeom>
              <a:avLst/>
              <a:gdLst/>
              <a:ahLst/>
              <a:rect l="l" t="t" r="r" b="b"/>
              <a:pathLst>
                <a:path w="216" h="1782">
                  <a:moveTo>
                    <a:pt x="105" y="1781"/>
                  </a:moveTo>
                  <a:lnTo>
                    <a:pt x="216" y="1674"/>
                  </a:lnTo>
                  <a:lnTo>
                    <a:pt x="216" y="0"/>
                  </a:lnTo>
                  <a:lnTo>
                    <a:pt x="0" y="0"/>
                  </a:lnTo>
                  <a:lnTo>
                    <a:pt x="0" y="1674"/>
                  </a:lnTo>
                  <a:lnTo>
                    <a:pt x="105" y="1781"/>
                  </a:lnTo>
                  <a:lnTo>
                    <a:pt x="0" y="1674"/>
                  </a:lnTo>
                  <a:lnTo>
                    <a:pt x="0" y="1686"/>
                  </a:lnTo>
                  <a:lnTo>
                    <a:pt x="2" y="1699"/>
                  </a:lnTo>
                  <a:lnTo>
                    <a:pt x="5" y="1710"/>
                  </a:lnTo>
                  <a:lnTo>
                    <a:pt x="10" y="1720"/>
                  </a:lnTo>
                  <a:lnTo>
                    <a:pt x="14" y="1730"/>
                  </a:lnTo>
                  <a:lnTo>
                    <a:pt x="20" y="1739"/>
                  </a:lnTo>
                  <a:lnTo>
                    <a:pt x="26" y="1747"/>
                  </a:lnTo>
                  <a:lnTo>
                    <a:pt x="33" y="1755"/>
                  </a:lnTo>
                  <a:lnTo>
                    <a:pt x="42" y="1761"/>
                  </a:lnTo>
                  <a:lnTo>
                    <a:pt x="50" y="1766"/>
                  </a:lnTo>
                  <a:lnTo>
                    <a:pt x="59" y="1770"/>
                  </a:lnTo>
                  <a:lnTo>
                    <a:pt x="69" y="1774"/>
                  </a:lnTo>
                  <a:lnTo>
                    <a:pt x="78" y="1777"/>
                  </a:lnTo>
                  <a:lnTo>
                    <a:pt x="87" y="1780"/>
                  </a:lnTo>
                  <a:lnTo>
                    <a:pt x="98" y="1781"/>
                  </a:lnTo>
                  <a:lnTo>
                    <a:pt x="108" y="1782"/>
                  </a:lnTo>
                  <a:lnTo>
                    <a:pt x="117" y="1781"/>
                  </a:lnTo>
                  <a:lnTo>
                    <a:pt x="128" y="1780"/>
                  </a:lnTo>
                  <a:lnTo>
                    <a:pt x="138" y="1777"/>
                  </a:lnTo>
                  <a:lnTo>
                    <a:pt x="147" y="1774"/>
                  </a:lnTo>
                  <a:lnTo>
                    <a:pt x="157" y="1770"/>
                  </a:lnTo>
                  <a:lnTo>
                    <a:pt x="165" y="1766"/>
                  </a:lnTo>
                  <a:lnTo>
                    <a:pt x="174" y="1761"/>
                  </a:lnTo>
                  <a:lnTo>
                    <a:pt x="182" y="1755"/>
                  </a:lnTo>
                  <a:lnTo>
                    <a:pt x="189" y="1747"/>
                  </a:lnTo>
                  <a:lnTo>
                    <a:pt x="196" y="1739"/>
                  </a:lnTo>
                  <a:lnTo>
                    <a:pt x="201" y="1730"/>
                  </a:lnTo>
                  <a:lnTo>
                    <a:pt x="206" y="1720"/>
                  </a:lnTo>
                  <a:lnTo>
                    <a:pt x="211" y="1710"/>
                  </a:lnTo>
                  <a:lnTo>
                    <a:pt x="213" y="1699"/>
                  </a:lnTo>
                  <a:lnTo>
                    <a:pt x="215" y="1686"/>
                  </a:lnTo>
                  <a:lnTo>
                    <a:pt x="216" y="1674"/>
                  </a:lnTo>
                  <a:lnTo>
                    <a:pt x="105" y="178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095480" y="1598760"/>
              <a:ext cx="244440" cy="133200"/>
            </a:xfrm>
            <a:custGeom>
              <a:avLst/>
              <a:gdLst/>
              <a:ahLst/>
              <a:rect l="l" t="t" r="r" b="b"/>
              <a:pathLst>
                <a:path w="4323" h="2368">
                  <a:moveTo>
                    <a:pt x="4323" y="108"/>
                  </a:moveTo>
                  <a:lnTo>
                    <a:pt x="4108" y="103"/>
                  </a:lnTo>
                  <a:lnTo>
                    <a:pt x="4104" y="153"/>
                  </a:lnTo>
                  <a:lnTo>
                    <a:pt x="4099" y="201"/>
                  </a:lnTo>
                  <a:lnTo>
                    <a:pt x="4094" y="249"/>
                  </a:lnTo>
                  <a:lnTo>
                    <a:pt x="4086" y="297"/>
                  </a:lnTo>
                  <a:lnTo>
                    <a:pt x="4078" y="342"/>
                  </a:lnTo>
                  <a:lnTo>
                    <a:pt x="4068" y="388"/>
                  </a:lnTo>
                  <a:lnTo>
                    <a:pt x="4057" y="432"/>
                  </a:lnTo>
                  <a:lnTo>
                    <a:pt x="4044" y="476"/>
                  </a:lnTo>
                  <a:lnTo>
                    <a:pt x="4031" y="519"/>
                  </a:lnTo>
                  <a:lnTo>
                    <a:pt x="4016" y="561"/>
                  </a:lnTo>
                  <a:lnTo>
                    <a:pt x="4001" y="602"/>
                  </a:lnTo>
                  <a:lnTo>
                    <a:pt x="3984" y="644"/>
                  </a:lnTo>
                  <a:lnTo>
                    <a:pt x="3967" y="683"/>
                  </a:lnTo>
                  <a:lnTo>
                    <a:pt x="3948" y="722"/>
                  </a:lnTo>
                  <a:lnTo>
                    <a:pt x="3927" y="761"/>
                  </a:lnTo>
                  <a:lnTo>
                    <a:pt x="3907" y="799"/>
                  </a:lnTo>
                  <a:lnTo>
                    <a:pt x="3884" y="836"/>
                  </a:lnTo>
                  <a:lnTo>
                    <a:pt x="3861" y="873"/>
                  </a:lnTo>
                  <a:lnTo>
                    <a:pt x="3837" y="908"/>
                  </a:lnTo>
                  <a:lnTo>
                    <a:pt x="3811" y="943"/>
                  </a:lnTo>
                  <a:lnTo>
                    <a:pt x="3785" y="978"/>
                  </a:lnTo>
                  <a:lnTo>
                    <a:pt x="3759" y="1011"/>
                  </a:lnTo>
                  <a:lnTo>
                    <a:pt x="3731" y="1045"/>
                  </a:lnTo>
                  <a:lnTo>
                    <a:pt x="3702" y="1078"/>
                  </a:lnTo>
                  <a:lnTo>
                    <a:pt x="3673" y="1110"/>
                  </a:lnTo>
                  <a:lnTo>
                    <a:pt x="3641" y="1141"/>
                  </a:lnTo>
                  <a:lnTo>
                    <a:pt x="3610" y="1172"/>
                  </a:lnTo>
                  <a:lnTo>
                    <a:pt x="3578" y="1202"/>
                  </a:lnTo>
                  <a:lnTo>
                    <a:pt x="3545" y="1232"/>
                  </a:lnTo>
                  <a:lnTo>
                    <a:pt x="3511" y="1261"/>
                  </a:lnTo>
                  <a:lnTo>
                    <a:pt x="3476" y="1289"/>
                  </a:lnTo>
                  <a:lnTo>
                    <a:pt x="3441" y="1317"/>
                  </a:lnTo>
                  <a:lnTo>
                    <a:pt x="3404" y="1344"/>
                  </a:lnTo>
                  <a:lnTo>
                    <a:pt x="3367" y="1371"/>
                  </a:lnTo>
                  <a:lnTo>
                    <a:pt x="3330" y="1397"/>
                  </a:lnTo>
                  <a:lnTo>
                    <a:pt x="3291" y="1423"/>
                  </a:lnTo>
                  <a:lnTo>
                    <a:pt x="3252" y="1448"/>
                  </a:lnTo>
                  <a:lnTo>
                    <a:pt x="3213" y="1473"/>
                  </a:lnTo>
                  <a:lnTo>
                    <a:pt x="3172" y="1496"/>
                  </a:lnTo>
                  <a:lnTo>
                    <a:pt x="3132" y="1519"/>
                  </a:lnTo>
                  <a:lnTo>
                    <a:pt x="3090" y="1542"/>
                  </a:lnTo>
                  <a:lnTo>
                    <a:pt x="3049" y="1565"/>
                  </a:lnTo>
                  <a:lnTo>
                    <a:pt x="3007" y="1586"/>
                  </a:lnTo>
                  <a:lnTo>
                    <a:pt x="2963" y="1608"/>
                  </a:lnTo>
                  <a:lnTo>
                    <a:pt x="2921" y="1629"/>
                  </a:lnTo>
                  <a:lnTo>
                    <a:pt x="2876" y="1649"/>
                  </a:lnTo>
                  <a:lnTo>
                    <a:pt x="2833" y="1668"/>
                  </a:lnTo>
                  <a:lnTo>
                    <a:pt x="2788" y="1688"/>
                  </a:lnTo>
                  <a:lnTo>
                    <a:pt x="2742" y="1707"/>
                  </a:lnTo>
                  <a:lnTo>
                    <a:pt x="2697" y="1724"/>
                  </a:lnTo>
                  <a:lnTo>
                    <a:pt x="2651" y="1742"/>
                  </a:lnTo>
                  <a:lnTo>
                    <a:pt x="2606" y="1759"/>
                  </a:lnTo>
                  <a:lnTo>
                    <a:pt x="2559" y="1776"/>
                  </a:lnTo>
                  <a:lnTo>
                    <a:pt x="2513" y="1793"/>
                  </a:lnTo>
                  <a:lnTo>
                    <a:pt x="2466" y="1809"/>
                  </a:lnTo>
                  <a:lnTo>
                    <a:pt x="2419" y="1824"/>
                  </a:lnTo>
                  <a:lnTo>
                    <a:pt x="2324" y="1853"/>
                  </a:lnTo>
                  <a:lnTo>
                    <a:pt x="2230" y="1881"/>
                  </a:lnTo>
                  <a:lnTo>
                    <a:pt x="2135" y="1907"/>
                  </a:lnTo>
                  <a:lnTo>
                    <a:pt x="2038" y="1931"/>
                  </a:lnTo>
                  <a:lnTo>
                    <a:pt x="1943" y="1953"/>
                  </a:lnTo>
                  <a:lnTo>
                    <a:pt x="1848" y="1975"/>
                  </a:lnTo>
                  <a:lnTo>
                    <a:pt x="1752" y="1994"/>
                  </a:lnTo>
                  <a:lnTo>
                    <a:pt x="1658" y="2012"/>
                  </a:lnTo>
                  <a:lnTo>
                    <a:pt x="1564" y="2029"/>
                  </a:lnTo>
                  <a:lnTo>
                    <a:pt x="1472" y="2044"/>
                  </a:lnTo>
                  <a:lnTo>
                    <a:pt x="1379" y="2058"/>
                  </a:lnTo>
                  <a:lnTo>
                    <a:pt x="1289" y="2071"/>
                  </a:lnTo>
                  <a:lnTo>
                    <a:pt x="1201" y="2083"/>
                  </a:lnTo>
                  <a:lnTo>
                    <a:pt x="1113" y="2093"/>
                  </a:lnTo>
                  <a:lnTo>
                    <a:pt x="1028" y="2102"/>
                  </a:lnTo>
                  <a:lnTo>
                    <a:pt x="946" y="2111"/>
                  </a:lnTo>
                  <a:lnTo>
                    <a:pt x="865" y="2118"/>
                  </a:lnTo>
                  <a:lnTo>
                    <a:pt x="786" y="2125"/>
                  </a:lnTo>
                  <a:lnTo>
                    <a:pt x="710" y="2130"/>
                  </a:lnTo>
                  <a:lnTo>
                    <a:pt x="638" y="2136"/>
                  </a:lnTo>
                  <a:lnTo>
                    <a:pt x="501" y="2143"/>
                  </a:lnTo>
                  <a:lnTo>
                    <a:pt x="377" y="2148"/>
                  </a:lnTo>
                  <a:lnTo>
                    <a:pt x="269" y="2151"/>
                  </a:lnTo>
                  <a:lnTo>
                    <a:pt x="178" y="2152"/>
                  </a:lnTo>
                  <a:lnTo>
                    <a:pt x="50" y="2152"/>
                  </a:lnTo>
                  <a:lnTo>
                    <a:pt x="6" y="2152"/>
                  </a:lnTo>
                  <a:lnTo>
                    <a:pt x="0" y="2367"/>
                  </a:lnTo>
                  <a:lnTo>
                    <a:pt x="49" y="2368"/>
                  </a:lnTo>
                  <a:lnTo>
                    <a:pt x="179" y="2368"/>
                  </a:lnTo>
                  <a:lnTo>
                    <a:pt x="273" y="2366"/>
                  </a:lnTo>
                  <a:lnTo>
                    <a:pt x="385" y="2362"/>
                  </a:lnTo>
                  <a:lnTo>
                    <a:pt x="511" y="2357"/>
                  </a:lnTo>
                  <a:lnTo>
                    <a:pt x="650" y="2350"/>
                  </a:lnTo>
                  <a:lnTo>
                    <a:pt x="725" y="2345"/>
                  </a:lnTo>
                  <a:lnTo>
                    <a:pt x="803" y="2340"/>
                  </a:lnTo>
                  <a:lnTo>
                    <a:pt x="883" y="2332"/>
                  </a:lnTo>
                  <a:lnTo>
                    <a:pt x="965" y="2325"/>
                  </a:lnTo>
                  <a:lnTo>
                    <a:pt x="1050" y="2316"/>
                  </a:lnTo>
                  <a:lnTo>
                    <a:pt x="1138" y="2306"/>
                  </a:lnTo>
                  <a:lnTo>
                    <a:pt x="1227" y="2296"/>
                  </a:lnTo>
                  <a:lnTo>
                    <a:pt x="1318" y="2284"/>
                  </a:lnTo>
                  <a:lnTo>
                    <a:pt x="1411" y="2271"/>
                  </a:lnTo>
                  <a:lnTo>
                    <a:pt x="1505" y="2257"/>
                  </a:lnTo>
                  <a:lnTo>
                    <a:pt x="1600" y="2241"/>
                  </a:lnTo>
                  <a:lnTo>
                    <a:pt x="1696" y="2224"/>
                  </a:lnTo>
                  <a:lnTo>
                    <a:pt x="1794" y="2205"/>
                  </a:lnTo>
                  <a:lnTo>
                    <a:pt x="1892" y="2185"/>
                  </a:lnTo>
                  <a:lnTo>
                    <a:pt x="1991" y="2164"/>
                  </a:lnTo>
                  <a:lnTo>
                    <a:pt x="2089" y="2140"/>
                  </a:lnTo>
                  <a:lnTo>
                    <a:pt x="2188" y="2115"/>
                  </a:lnTo>
                  <a:lnTo>
                    <a:pt x="2288" y="2088"/>
                  </a:lnTo>
                  <a:lnTo>
                    <a:pt x="2386" y="2059"/>
                  </a:lnTo>
                  <a:lnTo>
                    <a:pt x="2485" y="2029"/>
                  </a:lnTo>
                  <a:lnTo>
                    <a:pt x="2533" y="2012"/>
                  </a:lnTo>
                  <a:lnTo>
                    <a:pt x="2582" y="1996"/>
                  </a:lnTo>
                  <a:lnTo>
                    <a:pt x="2631" y="1979"/>
                  </a:lnTo>
                  <a:lnTo>
                    <a:pt x="2679" y="1962"/>
                  </a:lnTo>
                  <a:lnTo>
                    <a:pt x="2728" y="1944"/>
                  </a:lnTo>
                  <a:lnTo>
                    <a:pt x="2776" y="1925"/>
                  </a:lnTo>
                  <a:lnTo>
                    <a:pt x="2823" y="1906"/>
                  </a:lnTo>
                  <a:lnTo>
                    <a:pt x="2871" y="1886"/>
                  </a:lnTo>
                  <a:lnTo>
                    <a:pt x="2919" y="1865"/>
                  </a:lnTo>
                  <a:lnTo>
                    <a:pt x="2965" y="1844"/>
                  </a:lnTo>
                  <a:lnTo>
                    <a:pt x="3011" y="1823"/>
                  </a:lnTo>
                  <a:lnTo>
                    <a:pt x="3057" y="1801"/>
                  </a:lnTo>
                  <a:lnTo>
                    <a:pt x="3103" y="1778"/>
                  </a:lnTo>
                  <a:lnTo>
                    <a:pt x="3148" y="1755"/>
                  </a:lnTo>
                  <a:lnTo>
                    <a:pt x="3193" y="1732"/>
                  </a:lnTo>
                  <a:lnTo>
                    <a:pt x="3238" y="1707"/>
                  </a:lnTo>
                  <a:lnTo>
                    <a:pt x="3281" y="1682"/>
                  </a:lnTo>
                  <a:lnTo>
                    <a:pt x="3325" y="1656"/>
                  </a:lnTo>
                  <a:lnTo>
                    <a:pt x="3367" y="1630"/>
                  </a:lnTo>
                  <a:lnTo>
                    <a:pt x="3409" y="1603"/>
                  </a:lnTo>
                  <a:lnTo>
                    <a:pt x="3451" y="1575"/>
                  </a:lnTo>
                  <a:lnTo>
                    <a:pt x="3491" y="1546"/>
                  </a:lnTo>
                  <a:lnTo>
                    <a:pt x="3532" y="1517"/>
                  </a:lnTo>
                  <a:lnTo>
                    <a:pt x="3572" y="1487"/>
                  </a:lnTo>
                  <a:lnTo>
                    <a:pt x="3610" y="1457"/>
                  </a:lnTo>
                  <a:lnTo>
                    <a:pt x="3649" y="1426"/>
                  </a:lnTo>
                  <a:lnTo>
                    <a:pt x="3686" y="1394"/>
                  </a:lnTo>
                  <a:lnTo>
                    <a:pt x="3722" y="1361"/>
                  </a:lnTo>
                  <a:lnTo>
                    <a:pt x="3759" y="1327"/>
                  </a:lnTo>
                  <a:lnTo>
                    <a:pt x="3794" y="1293"/>
                  </a:lnTo>
                  <a:lnTo>
                    <a:pt x="3828" y="1258"/>
                  </a:lnTo>
                  <a:lnTo>
                    <a:pt x="3861" y="1222"/>
                  </a:lnTo>
                  <a:lnTo>
                    <a:pt x="3893" y="1186"/>
                  </a:lnTo>
                  <a:lnTo>
                    <a:pt x="3925" y="1148"/>
                  </a:lnTo>
                  <a:lnTo>
                    <a:pt x="3955" y="1110"/>
                  </a:lnTo>
                  <a:lnTo>
                    <a:pt x="3985" y="1071"/>
                  </a:lnTo>
                  <a:lnTo>
                    <a:pt x="4013" y="1031"/>
                  </a:lnTo>
                  <a:lnTo>
                    <a:pt x="4041" y="990"/>
                  </a:lnTo>
                  <a:lnTo>
                    <a:pt x="4067" y="948"/>
                  </a:lnTo>
                  <a:lnTo>
                    <a:pt x="4092" y="907"/>
                  </a:lnTo>
                  <a:lnTo>
                    <a:pt x="4117" y="863"/>
                  </a:lnTo>
                  <a:lnTo>
                    <a:pt x="4140" y="819"/>
                  </a:lnTo>
                  <a:lnTo>
                    <a:pt x="4161" y="774"/>
                  </a:lnTo>
                  <a:lnTo>
                    <a:pt x="4182" y="729"/>
                  </a:lnTo>
                  <a:lnTo>
                    <a:pt x="4201" y="682"/>
                  </a:lnTo>
                  <a:lnTo>
                    <a:pt x="4218" y="634"/>
                  </a:lnTo>
                  <a:lnTo>
                    <a:pt x="4236" y="586"/>
                  </a:lnTo>
                  <a:lnTo>
                    <a:pt x="4250" y="537"/>
                  </a:lnTo>
                  <a:lnTo>
                    <a:pt x="4265" y="487"/>
                  </a:lnTo>
                  <a:lnTo>
                    <a:pt x="4277" y="435"/>
                  </a:lnTo>
                  <a:lnTo>
                    <a:pt x="4289" y="385"/>
                  </a:lnTo>
                  <a:lnTo>
                    <a:pt x="4298" y="332"/>
                  </a:lnTo>
                  <a:lnTo>
                    <a:pt x="4306" y="279"/>
                  </a:lnTo>
                  <a:lnTo>
                    <a:pt x="4314" y="224"/>
                  </a:lnTo>
                  <a:lnTo>
                    <a:pt x="4319" y="169"/>
                  </a:lnTo>
                  <a:lnTo>
                    <a:pt x="4322" y="113"/>
                  </a:lnTo>
                  <a:lnTo>
                    <a:pt x="4108" y="108"/>
                  </a:lnTo>
                  <a:lnTo>
                    <a:pt x="4322" y="113"/>
                  </a:lnTo>
                  <a:lnTo>
                    <a:pt x="4322" y="101"/>
                  </a:lnTo>
                  <a:lnTo>
                    <a:pt x="4321" y="88"/>
                  </a:lnTo>
                  <a:lnTo>
                    <a:pt x="4319" y="77"/>
                  </a:lnTo>
                  <a:lnTo>
                    <a:pt x="4316" y="67"/>
                  </a:lnTo>
                  <a:lnTo>
                    <a:pt x="4311" y="56"/>
                  </a:lnTo>
                  <a:lnTo>
                    <a:pt x="4305" y="47"/>
                  </a:lnTo>
                  <a:lnTo>
                    <a:pt x="4299" y="39"/>
                  </a:lnTo>
                  <a:lnTo>
                    <a:pt x="4293" y="31"/>
                  </a:lnTo>
                  <a:lnTo>
                    <a:pt x="4286" y="25"/>
                  </a:lnTo>
                  <a:lnTo>
                    <a:pt x="4277" y="19"/>
                  </a:lnTo>
                  <a:lnTo>
                    <a:pt x="4268" y="14"/>
                  </a:lnTo>
                  <a:lnTo>
                    <a:pt x="4260" y="10"/>
                  </a:lnTo>
                  <a:lnTo>
                    <a:pt x="4250" y="7"/>
                  </a:lnTo>
                  <a:lnTo>
                    <a:pt x="4240" y="3"/>
                  </a:lnTo>
                  <a:lnTo>
                    <a:pt x="4231" y="1"/>
                  </a:lnTo>
                  <a:lnTo>
                    <a:pt x="4220" y="0"/>
                  </a:lnTo>
                  <a:lnTo>
                    <a:pt x="4210" y="0"/>
                  </a:lnTo>
                  <a:lnTo>
                    <a:pt x="4201" y="1"/>
                  </a:lnTo>
                  <a:lnTo>
                    <a:pt x="4190" y="3"/>
                  </a:lnTo>
                  <a:lnTo>
                    <a:pt x="4181" y="6"/>
                  </a:lnTo>
                  <a:lnTo>
                    <a:pt x="4171" y="9"/>
                  </a:lnTo>
                  <a:lnTo>
                    <a:pt x="4162" y="13"/>
                  </a:lnTo>
                  <a:lnTo>
                    <a:pt x="4153" y="18"/>
                  </a:lnTo>
                  <a:lnTo>
                    <a:pt x="4145" y="24"/>
                  </a:lnTo>
                  <a:lnTo>
                    <a:pt x="4138" y="30"/>
                  </a:lnTo>
                  <a:lnTo>
                    <a:pt x="4130" y="39"/>
                  </a:lnTo>
                  <a:lnTo>
                    <a:pt x="4124" y="47"/>
                  </a:lnTo>
                  <a:lnTo>
                    <a:pt x="4119" y="56"/>
                  </a:lnTo>
                  <a:lnTo>
                    <a:pt x="4115" y="67"/>
                  </a:lnTo>
                  <a:lnTo>
                    <a:pt x="4112" y="78"/>
                  </a:lnTo>
                  <a:lnTo>
                    <a:pt x="4109" y="89"/>
                  </a:lnTo>
                  <a:lnTo>
                    <a:pt x="4108" y="103"/>
                  </a:lnTo>
                  <a:lnTo>
                    <a:pt x="4323" y="1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06600" y="1630440"/>
              <a:ext cx="311040" cy="325440"/>
            </a:xfrm>
            <a:custGeom>
              <a:avLst/>
              <a:gdLst/>
              <a:ahLst/>
              <a:rect l="l" t="t" r="r" b="b"/>
              <a:pathLst>
                <a:path w="5498" h="5736">
                  <a:moveTo>
                    <a:pt x="0" y="5736"/>
                  </a:moveTo>
                  <a:lnTo>
                    <a:pt x="0" y="3824"/>
                  </a:lnTo>
                  <a:lnTo>
                    <a:pt x="19" y="3618"/>
                  </a:lnTo>
                  <a:lnTo>
                    <a:pt x="52" y="3426"/>
                  </a:lnTo>
                  <a:lnTo>
                    <a:pt x="98" y="3247"/>
                  </a:lnTo>
                  <a:lnTo>
                    <a:pt x="157" y="3080"/>
                  </a:lnTo>
                  <a:lnTo>
                    <a:pt x="228" y="2925"/>
                  </a:lnTo>
                  <a:lnTo>
                    <a:pt x="310" y="2783"/>
                  </a:lnTo>
                  <a:lnTo>
                    <a:pt x="400" y="2651"/>
                  </a:lnTo>
                  <a:lnTo>
                    <a:pt x="499" y="2530"/>
                  </a:lnTo>
                  <a:lnTo>
                    <a:pt x="605" y="2420"/>
                  </a:lnTo>
                  <a:lnTo>
                    <a:pt x="719" y="2318"/>
                  </a:lnTo>
                  <a:lnTo>
                    <a:pt x="837" y="2227"/>
                  </a:lnTo>
                  <a:lnTo>
                    <a:pt x="960" y="2145"/>
                  </a:lnTo>
                  <a:lnTo>
                    <a:pt x="1088" y="2072"/>
                  </a:lnTo>
                  <a:lnTo>
                    <a:pt x="1216" y="2006"/>
                  </a:lnTo>
                  <a:lnTo>
                    <a:pt x="1347" y="1948"/>
                  </a:lnTo>
                  <a:lnTo>
                    <a:pt x="1479" y="1897"/>
                  </a:lnTo>
                  <a:lnTo>
                    <a:pt x="1611" y="1852"/>
                  </a:lnTo>
                  <a:lnTo>
                    <a:pt x="1740" y="1814"/>
                  </a:lnTo>
                  <a:lnTo>
                    <a:pt x="1868" y="1782"/>
                  </a:lnTo>
                  <a:lnTo>
                    <a:pt x="1993" y="1755"/>
                  </a:lnTo>
                  <a:lnTo>
                    <a:pt x="2113" y="1732"/>
                  </a:lnTo>
                  <a:lnTo>
                    <a:pt x="2227" y="1714"/>
                  </a:lnTo>
                  <a:lnTo>
                    <a:pt x="2336" y="1700"/>
                  </a:lnTo>
                  <a:lnTo>
                    <a:pt x="2437" y="1690"/>
                  </a:lnTo>
                  <a:lnTo>
                    <a:pt x="2530" y="1682"/>
                  </a:lnTo>
                  <a:lnTo>
                    <a:pt x="2614" y="1677"/>
                  </a:lnTo>
                  <a:lnTo>
                    <a:pt x="2688" y="1674"/>
                  </a:lnTo>
                  <a:lnTo>
                    <a:pt x="2750" y="1672"/>
                  </a:lnTo>
                  <a:lnTo>
                    <a:pt x="2838" y="1672"/>
                  </a:lnTo>
                  <a:lnTo>
                    <a:pt x="2868" y="1673"/>
                  </a:lnTo>
                  <a:lnTo>
                    <a:pt x="2868" y="1554"/>
                  </a:lnTo>
                  <a:lnTo>
                    <a:pt x="2868" y="0"/>
                  </a:lnTo>
                  <a:lnTo>
                    <a:pt x="5498" y="2628"/>
                  </a:lnTo>
                  <a:lnTo>
                    <a:pt x="2868" y="5258"/>
                  </a:lnTo>
                  <a:lnTo>
                    <a:pt x="2868" y="3584"/>
                  </a:lnTo>
                  <a:lnTo>
                    <a:pt x="2838" y="3583"/>
                  </a:lnTo>
                  <a:lnTo>
                    <a:pt x="2750" y="3583"/>
                  </a:lnTo>
                  <a:lnTo>
                    <a:pt x="2688" y="3585"/>
                  </a:lnTo>
                  <a:lnTo>
                    <a:pt x="2614" y="3589"/>
                  </a:lnTo>
                  <a:lnTo>
                    <a:pt x="2530" y="3594"/>
                  </a:lnTo>
                  <a:lnTo>
                    <a:pt x="2437" y="3601"/>
                  </a:lnTo>
                  <a:lnTo>
                    <a:pt x="2336" y="3612"/>
                  </a:lnTo>
                  <a:lnTo>
                    <a:pt x="2227" y="3626"/>
                  </a:lnTo>
                  <a:lnTo>
                    <a:pt x="2113" y="3644"/>
                  </a:lnTo>
                  <a:lnTo>
                    <a:pt x="1993" y="3666"/>
                  </a:lnTo>
                  <a:lnTo>
                    <a:pt x="1868" y="3694"/>
                  </a:lnTo>
                  <a:lnTo>
                    <a:pt x="1740" y="3726"/>
                  </a:lnTo>
                  <a:lnTo>
                    <a:pt x="1611" y="3765"/>
                  </a:lnTo>
                  <a:lnTo>
                    <a:pt x="1479" y="3808"/>
                  </a:lnTo>
                  <a:lnTo>
                    <a:pt x="1347" y="3860"/>
                  </a:lnTo>
                  <a:lnTo>
                    <a:pt x="1216" y="3918"/>
                  </a:lnTo>
                  <a:lnTo>
                    <a:pt x="1088" y="3983"/>
                  </a:lnTo>
                  <a:lnTo>
                    <a:pt x="960" y="4058"/>
                  </a:lnTo>
                  <a:lnTo>
                    <a:pt x="837" y="4140"/>
                  </a:lnTo>
                  <a:lnTo>
                    <a:pt x="719" y="4231"/>
                  </a:lnTo>
                  <a:lnTo>
                    <a:pt x="605" y="4331"/>
                  </a:lnTo>
                  <a:lnTo>
                    <a:pt x="499" y="4442"/>
                  </a:lnTo>
                  <a:lnTo>
                    <a:pt x="400" y="4562"/>
                  </a:lnTo>
                  <a:lnTo>
                    <a:pt x="310" y="4694"/>
                  </a:lnTo>
                  <a:lnTo>
                    <a:pt x="228" y="4837"/>
                  </a:lnTo>
                  <a:lnTo>
                    <a:pt x="157" y="4991"/>
                  </a:lnTo>
                  <a:lnTo>
                    <a:pt x="98" y="5158"/>
                  </a:lnTo>
                  <a:lnTo>
                    <a:pt x="52" y="5338"/>
                  </a:lnTo>
                  <a:lnTo>
                    <a:pt x="19" y="5530"/>
                  </a:lnTo>
                  <a:lnTo>
                    <a:pt x="0" y="57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00120" y="1841400"/>
              <a:ext cx="12600" cy="114480"/>
            </a:xfrm>
            <a:custGeom>
              <a:avLst/>
              <a:gdLst/>
              <a:ahLst/>
              <a:rect l="l" t="t" r="r" b="b"/>
              <a:pathLst>
                <a:path w="216" h="2020">
                  <a:moveTo>
                    <a:pt x="1" y="103"/>
                  </a:moveTo>
                  <a:lnTo>
                    <a:pt x="0" y="108"/>
                  </a:lnTo>
                  <a:lnTo>
                    <a:pt x="0" y="2020"/>
                  </a:lnTo>
                  <a:lnTo>
                    <a:pt x="216" y="2020"/>
                  </a:lnTo>
                  <a:lnTo>
                    <a:pt x="216" y="108"/>
                  </a:lnTo>
                  <a:lnTo>
                    <a:pt x="1" y="103"/>
                  </a:lnTo>
                  <a:lnTo>
                    <a:pt x="216" y="108"/>
                  </a:lnTo>
                  <a:lnTo>
                    <a:pt x="216" y="95"/>
                  </a:lnTo>
                  <a:lnTo>
                    <a:pt x="214" y="83"/>
                  </a:lnTo>
                  <a:lnTo>
                    <a:pt x="211" y="71"/>
                  </a:lnTo>
                  <a:lnTo>
                    <a:pt x="206" y="61"/>
                  </a:lnTo>
                  <a:lnTo>
                    <a:pt x="202" y="51"/>
                  </a:lnTo>
                  <a:lnTo>
                    <a:pt x="196" y="42"/>
                  </a:lnTo>
                  <a:lnTo>
                    <a:pt x="190" y="34"/>
                  </a:lnTo>
                  <a:lnTo>
                    <a:pt x="183" y="27"/>
                  </a:lnTo>
                  <a:lnTo>
                    <a:pt x="174" y="21"/>
                  </a:lnTo>
                  <a:lnTo>
                    <a:pt x="166" y="16"/>
                  </a:lnTo>
                  <a:lnTo>
                    <a:pt x="157" y="10"/>
                  </a:lnTo>
                  <a:lnTo>
                    <a:pt x="148" y="7"/>
                  </a:lnTo>
                  <a:lnTo>
                    <a:pt x="138" y="4"/>
                  </a:lnTo>
                  <a:lnTo>
                    <a:pt x="129" y="2"/>
                  </a:lnTo>
                  <a:lnTo>
                    <a:pt x="118" y="1"/>
                  </a:lnTo>
                  <a:lnTo>
                    <a:pt x="108" y="0"/>
                  </a:lnTo>
                  <a:lnTo>
                    <a:pt x="99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9" y="7"/>
                  </a:lnTo>
                  <a:lnTo>
                    <a:pt x="59" y="10"/>
                  </a:lnTo>
                  <a:lnTo>
                    <a:pt x="51" y="16"/>
                  </a:lnTo>
                  <a:lnTo>
                    <a:pt x="42" y="21"/>
                  </a:lnTo>
                  <a:lnTo>
                    <a:pt x="34" y="27"/>
                  </a:lnTo>
                  <a:lnTo>
                    <a:pt x="27" y="34"/>
                  </a:lnTo>
                  <a:lnTo>
                    <a:pt x="21" y="42"/>
                  </a:lnTo>
                  <a:lnTo>
                    <a:pt x="15" y="51"/>
                  </a:lnTo>
                  <a:lnTo>
                    <a:pt x="10" y="61"/>
                  </a:lnTo>
                  <a:lnTo>
                    <a:pt x="7" y="71"/>
                  </a:lnTo>
                  <a:lnTo>
                    <a:pt x="3" y="83"/>
                  </a:lnTo>
                  <a:lnTo>
                    <a:pt x="1" y="95"/>
                  </a:lnTo>
                  <a:lnTo>
                    <a:pt x="0" y="108"/>
                  </a:lnTo>
                  <a:lnTo>
                    <a:pt x="1" y="10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00120" y="1719360"/>
              <a:ext cx="174600" cy="128520"/>
            </a:xfrm>
            <a:custGeom>
              <a:avLst/>
              <a:gdLst/>
              <a:ahLst/>
              <a:rect l="l" t="t" r="r" b="b"/>
              <a:pathLst>
                <a:path w="3083" h="2265">
                  <a:moveTo>
                    <a:pt x="2867" y="109"/>
                  </a:moveTo>
                  <a:lnTo>
                    <a:pt x="2980" y="1"/>
                  </a:lnTo>
                  <a:lnTo>
                    <a:pt x="2945" y="0"/>
                  </a:lnTo>
                  <a:lnTo>
                    <a:pt x="2856" y="0"/>
                  </a:lnTo>
                  <a:lnTo>
                    <a:pt x="2792" y="2"/>
                  </a:lnTo>
                  <a:lnTo>
                    <a:pt x="2715" y="5"/>
                  </a:lnTo>
                  <a:lnTo>
                    <a:pt x="2629" y="11"/>
                  </a:lnTo>
                  <a:lnTo>
                    <a:pt x="2535" y="18"/>
                  </a:lnTo>
                  <a:lnTo>
                    <a:pt x="2483" y="24"/>
                  </a:lnTo>
                  <a:lnTo>
                    <a:pt x="2430" y="29"/>
                  </a:lnTo>
                  <a:lnTo>
                    <a:pt x="2376" y="36"/>
                  </a:lnTo>
                  <a:lnTo>
                    <a:pt x="2319" y="44"/>
                  </a:lnTo>
                  <a:lnTo>
                    <a:pt x="2261" y="53"/>
                  </a:lnTo>
                  <a:lnTo>
                    <a:pt x="2201" y="62"/>
                  </a:lnTo>
                  <a:lnTo>
                    <a:pt x="2140" y="74"/>
                  </a:lnTo>
                  <a:lnTo>
                    <a:pt x="2078" y="85"/>
                  </a:lnTo>
                  <a:lnTo>
                    <a:pt x="2015" y="99"/>
                  </a:lnTo>
                  <a:lnTo>
                    <a:pt x="1951" y="113"/>
                  </a:lnTo>
                  <a:lnTo>
                    <a:pt x="1885" y="129"/>
                  </a:lnTo>
                  <a:lnTo>
                    <a:pt x="1819" y="147"/>
                  </a:lnTo>
                  <a:lnTo>
                    <a:pt x="1753" y="166"/>
                  </a:lnTo>
                  <a:lnTo>
                    <a:pt x="1685" y="186"/>
                  </a:lnTo>
                  <a:lnTo>
                    <a:pt x="1618" y="208"/>
                  </a:lnTo>
                  <a:lnTo>
                    <a:pt x="1550" y="232"/>
                  </a:lnTo>
                  <a:lnTo>
                    <a:pt x="1481" y="257"/>
                  </a:lnTo>
                  <a:lnTo>
                    <a:pt x="1413" y="285"/>
                  </a:lnTo>
                  <a:lnTo>
                    <a:pt x="1346" y="314"/>
                  </a:lnTo>
                  <a:lnTo>
                    <a:pt x="1277" y="345"/>
                  </a:lnTo>
                  <a:lnTo>
                    <a:pt x="1210" y="378"/>
                  </a:lnTo>
                  <a:lnTo>
                    <a:pt x="1144" y="414"/>
                  </a:lnTo>
                  <a:lnTo>
                    <a:pt x="1110" y="431"/>
                  </a:lnTo>
                  <a:lnTo>
                    <a:pt x="1076" y="451"/>
                  </a:lnTo>
                  <a:lnTo>
                    <a:pt x="1043" y="471"/>
                  </a:lnTo>
                  <a:lnTo>
                    <a:pt x="1010" y="490"/>
                  </a:lnTo>
                  <a:lnTo>
                    <a:pt x="978" y="511"/>
                  </a:lnTo>
                  <a:lnTo>
                    <a:pt x="946" y="532"/>
                  </a:lnTo>
                  <a:lnTo>
                    <a:pt x="914" y="554"/>
                  </a:lnTo>
                  <a:lnTo>
                    <a:pt x="882" y="576"/>
                  </a:lnTo>
                  <a:lnTo>
                    <a:pt x="850" y="599"/>
                  </a:lnTo>
                  <a:lnTo>
                    <a:pt x="819" y="623"/>
                  </a:lnTo>
                  <a:lnTo>
                    <a:pt x="787" y="647"/>
                  </a:lnTo>
                  <a:lnTo>
                    <a:pt x="756" y="672"/>
                  </a:lnTo>
                  <a:lnTo>
                    <a:pt x="726" y="697"/>
                  </a:lnTo>
                  <a:lnTo>
                    <a:pt x="696" y="723"/>
                  </a:lnTo>
                  <a:lnTo>
                    <a:pt x="667" y="750"/>
                  </a:lnTo>
                  <a:lnTo>
                    <a:pt x="638" y="778"/>
                  </a:lnTo>
                  <a:lnTo>
                    <a:pt x="609" y="806"/>
                  </a:lnTo>
                  <a:lnTo>
                    <a:pt x="580" y="835"/>
                  </a:lnTo>
                  <a:lnTo>
                    <a:pt x="553" y="864"/>
                  </a:lnTo>
                  <a:lnTo>
                    <a:pt x="525" y="894"/>
                  </a:lnTo>
                  <a:lnTo>
                    <a:pt x="499" y="925"/>
                  </a:lnTo>
                  <a:lnTo>
                    <a:pt x="473" y="956"/>
                  </a:lnTo>
                  <a:lnTo>
                    <a:pt x="447" y="989"/>
                  </a:lnTo>
                  <a:lnTo>
                    <a:pt x="421" y="1023"/>
                  </a:lnTo>
                  <a:lnTo>
                    <a:pt x="396" y="1056"/>
                  </a:lnTo>
                  <a:lnTo>
                    <a:pt x="372" y="1090"/>
                  </a:lnTo>
                  <a:lnTo>
                    <a:pt x="348" y="1125"/>
                  </a:lnTo>
                  <a:lnTo>
                    <a:pt x="326" y="1162"/>
                  </a:lnTo>
                  <a:lnTo>
                    <a:pt x="303" y="1198"/>
                  </a:lnTo>
                  <a:lnTo>
                    <a:pt x="281" y="1235"/>
                  </a:lnTo>
                  <a:lnTo>
                    <a:pt x="260" y="1273"/>
                  </a:lnTo>
                  <a:lnTo>
                    <a:pt x="240" y="1312"/>
                  </a:lnTo>
                  <a:lnTo>
                    <a:pt x="220" y="1352"/>
                  </a:lnTo>
                  <a:lnTo>
                    <a:pt x="201" y="1393"/>
                  </a:lnTo>
                  <a:lnTo>
                    <a:pt x="183" y="1433"/>
                  </a:lnTo>
                  <a:lnTo>
                    <a:pt x="165" y="1475"/>
                  </a:lnTo>
                  <a:lnTo>
                    <a:pt x="148" y="1518"/>
                  </a:lnTo>
                  <a:lnTo>
                    <a:pt x="133" y="1561"/>
                  </a:lnTo>
                  <a:lnTo>
                    <a:pt x="117" y="1606"/>
                  </a:lnTo>
                  <a:lnTo>
                    <a:pt x="103" y="1652"/>
                  </a:lnTo>
                  <a:lnTo>
                    <a:pt x="89" y="1697"/>
                  </a:lnTo>
                  <a:lnTo>
                    <a:pt x="77" y="1744"/>
                  </a:lnTo>
                  <a:lnTo>
                    <a:pt x="65" y="1790"/>
                  </a:lnTo>
                  <a:lnTo>
                    <a:pt x="54" y="1839"/>
                  </a:lnTo>
                  <a:lnTo>
                    <a:pt x="44" y="1888"/>
                  </a:lnTo>
                  <a:lnTo>
                    <a:pt x="35" y="1938"/>
                  </a:lnTo>
                  <a:lnTo>
                    <a:pt x="26" y="1988"/>
                  </a:lnTo>
                  <a:lnTo>
                    <a:pt x="20" y="2040"/>
                  </a:lnTo>
                  <a:lnTo>
                    <a:pt x="13" y="2092"/>
                  </a:lnTo>
                  <a:lnTo>
                    <a:pt x="8" y="2146"/>
                  </a:lnTo>
                  <a:lnTo>
                    <a:pt x="3" y="2200"/>
                  </a:lnTo>
                  <a:lnTo>
                    <a:pt x="0" y="2255"/>
                  </a:lnTo>
                  <a:lnTo>
                    <a:pt x="215" y="2265"/>
                  </a:lnTo>
                  <a:lnTo>
                    <a:pt x="218" y="2215"/>
                  </a:lnTo>
                  <a:lnTo>
                    <a:pt x="222" y="2164"/>
                  </a:lnTo>
                  <a:lnTo>
                    <a:pt x="227" y="2116"/>
                  </a:lnTo>
                  <a:lnTo>
                    <a:pt x="232" y="2068"/>
                  </a:lnTo>
                  <a:lnTo>
                    <a:pt x="240" y="2020"/>
                  </a:lnTo>
                  <a:lnTo>
                    <a:pt x="247" y="1974"/>
                  </a:lnTo>
                  <a:lnTo>
                    <a:pt x="255" y="1928"/>
                  </a:lnTo>
                  <a:lnTo>
                    <a:pt x="264" y="1884"/>
                  </a:lnTo>
                  <a:lnTo>
                    <a:pt x="275" y="1840"/>
                  </a:lnTo>
                  <a:lnTo>
                    <a:pt x="285" y="1798"/>
                  </a:lnTo>
                  <a:lnTo>
                    <a:pt x="297" y="1755"/>
                  </a:lnTo>
                  <a:lnTo>
                    <a:pt x="309" y="1714"/>
                  </a:lnTo>
                  <a:lnTo>
                    <a:pt x="321" y="1673"/>
                  </a:lnTo>
                  <a:lnTo>
                    <a:pt x="335" y="1633"/>
                  </a:lnTo>
                  <a:lnTo>
                    <a:pt x="349" y="1594"/>
                  </a:lnTo>
                  <a:lnTo>
                    <a:pt x="365" y="1556"/>
                  </a:lnTo>
                  <a:lnTo>
                    <a:pt x="380" y="1518"/>
                  </a:lnTo>
                  <a:lnTo>
                    <a:pt x="396" y="1482"/>
                  </a:lnTo>
                  <a:lnTo>
                    <a:pt x="414" y="1445"/>
                  </a:lnTo>
                  <a:lnTo>
                    <a:pt x="431" y="1410"/>
                  </a:lnTo>
                  <a:lnTo>
                    <a:pt x="449" y="1375"/>
                  </a:lnTo>
                  <a:lnTo>
                    <a:pt x="468" y="1341"/>
                  </a:lnTo>
                  <a:lnTo>
                    <a:pt x="487" y="1308"/>
                  </a:lnTo>
                  <a:lnTo>
                    <a:pt x="507" y="1276"/>
                  </a:lnTo>
                  <a:lnTo>
                    <a:pt x="529" y="1243"/>
                  </a:lnTo>
                  <a:lnTo>
                    <a:pt x="549" y="1212"/>
                  </a:lnTo>
                  <a:lnTo>
                    <a:pt x="570" y="1181"/>
                  </a:lnTo>
                  <a:lnTo>
                    <a:pt x="593" y="1151"/>
                  </a:lnTo>
                  <a:lnTo>
                    <a:pt x="616" y="1122"/>
                  </a:lnTo>
                  <a:lnTo>
                    <a:pt x="638" y="1093"/>
                  </a:lnTo>
                  <a:lnTo>
                    <a:pt x="662" y="1065"/>
                  </a:lnTo>
                  <a:lnTo>
                    <a:pt x="686" y="1037"/>
                  </a:lnTo>
                  <a:lnTo>
                    <a:pt x="711" y="1010"/>
                  </a:lnTo>
                  <a:lnTo>
                    <a:pt x="736" y="984"/>
                  </a:lnTo>
                  <a:lnTo>
                    <a:pt x="761" y="958"/>
                  </a:lnTo>
                  <a:lnTo>
                    <a:pt x="786" y="933"/>
                  </a:lnTo>
                  <a:lnTo>
                    <a:pt x="812" y="909"/>
                  </a:lnTo>
                  <a:lnTo>
                    <a:pt x="839" y="884"/>
                  </a:lnTo>
                  <a:lnTo>
                    <a:pt x="866" y="861"/>
                  </a:lnTo>
                  <a:lnTo>
                    <a:pt x="894" y="837"/>
                  </a:lnTo>
                  <a:lnTo>
                    <a:pt x="921" y="816"/>
                  </a:lnTo>
                  <a:lnTo>
                    <a:pt x="950" y="793"/>
                  </a:lnTo>
                  <a:lnTo>
                    <a:pt x="978" y="772"/>
                  </a:lnTo>
                  <a:lnTo>
                    <a:pt x="1006" y="751"/>
                  </a:lnTo>
                  <a:lnTo>
                    <a:pt x="1035" y="731"/>
                  </a:lnTo>
                  <a:lnTo>
                    <a:pt x="1064" y="711"/>
                  </a:lnTo>
                  <a:lnTo>
                    <a:pt x="1094" y="691"/>
                  </a:lnTo>
                  <a:lnTo>
                    <a:pt x="1124" y="673"/>
                  </a:lnTo>
                  <a:lnTo>
                    <a:pt x="1154" y="655"/>
                  </a:lnTo>
                  <a:lnTo>
                    <a:pt x="1184" y="636"/>
                  </a:lnTo>
                  <a:lnTo>
                    <a:pt x="1214" y="620"/>
                  </a:lnTo>
                  <a:lnTo>
                    <a:pt x="1244" y="602"/>
                  </a:lnTo>
                  <a:lnTo>
                    <a:pt x="1306" y="570"/>
                  </a:lnTo>
                  <a:lnTo>
                    <a:pt x="1370" y="539"/>
                  </a:lnTo>
                  <a:lnTo>
                    <a:pt x="1432" y="511"/>
                  </a:lnTo>
                  <a:lnTo>
                    <a:pt x="1496" y="483"/>
                  </a:lnTo>
                  <a:lnTo>
                    <a:pt x="1559" y="458"/>
                  </a:lnTo>
                  <a:lnTo>
                    <a:pt x="1622" y="434"/>
                  </a:lnTo>
                  <a:lnTo>
                    <a:pt x="1685" y="411"/>
                  </a:lnTo>
                  <a:lnTo>
                    <a:pt x="1750" y="391"/>
                  </a:lnTo>
                  <a:lnTo>
                    <a:pt x="1813" y="372"/>
                  </a:lnTo>
                  <a:lnTo>
                    <a:pt x="1876" y="353"/>
                  </a:lnTo>
                  <a:lnTo>
                    <a:pt x="1938" y="338"/>
                  </a:lnTo>
                  <a:lnTo>
                    <a:pt x="1999" y="322"/>
                  </a:lnTo>
                  <a:lnTo>
                    <a:pt x="2060" y="309"/>
                  </a:lnTo>
                  <a:lnTo>
                    <a:pt x="2120" y="295"/>
                  </a:lnTo>
                  <a:lnTo>
                    <a:pt x="2179" y="284"/>
                  </a:lnTo>
                  <a:lnTo>
                    <a:pt x="2237" y="275"/>
                  </a:lnTo>
                  <a:lnTo>
                    <a:pt x="2293" y="264"/>
                  </a:lnTo>
                  <a:lnTo>
                    <a:pt x="2349" y="257"/>
                  </a:lnTo>
                  <a:lnTo>
                    <a:pt x="2403" y="249"/>
                  </a:lnTo>
                  <a:lnTo>
                    <a:pt x="2455" y="243"/>
                  </a:lnTo>
                  <a:lnTo>
                    <a:pt x="2505" y="237"/>
                  </a:lnTo>
                  <a:lnTo>
                    <a:pt x="2553" y="233"/>
                  </a:lnTo>
                  <a:lnTo>
                    <a:pt x="2645" y="225"/>
                  </a:lnTo>
                  <a:lnTo>
                    <a:pt x="2726" y="220"/>
                  </a:lnTo>
                  <a:lnTo>
                    <a:pt x="2798" y="217"/>
                  </a:lnTo>
                  <a:lnTo>
                    <a:pt x="2858" y="216"/>
                  </a:lnTo>
                  <a:lnTo>
                    <a:pt x="2944" y="216"/>
                  </a:lnTo>
                  <a:lnTo>
                    <a:pt x="2971" y="216"/>
                  </a:lnTo>
                  <a:lnTo>
                    <a:pt x="3083" y="109"/>
                  </a:lnTo>
                  <a:lnTo>
                    <a:pt x="2971" y="216"/>
                  </a:lnTo>
                  <a:lnTo>
                    <a:pt x="2983" y="216"/>
                  </a:lnTo>
                  <a:lnTo>
                    <a:pt x="2996" y="215"/>
                  </a:lnTo>
                  <a:lnTo>
                    <a:pt x="3007" y="213"/>
                  </a:lnTo>
                  <a:lnTo>
                    <a:pt x="3018" y="208"/>
                  </a:lnTo>
                  <a:lnTo>
                    <a:pt x="3028" y="204"/>
                  </a:lnTo>
                  <a:lnTo>
                    <a:pt x="3037" y="199"/>
                  </a:lnTo>
                  <a:lnTo>
                    <a:pt x="3045" y="193"/>
                  </a:lnTo>
                  <a:lnTo>
                    <a:pt x="3053" y="186"/>
                  </a:lnTo>
                  <a:lnTo>
                    <a:pt x="3059" y="178"/>
                  </a:lnTo>
                  <a:lnTo>
                    <a:pt x="3065" y="170"/>
                  </a:lnTo>
                  <a:lnTo>
                    <a:pt x="3070" y="162"/>
                  </a:lnTo>
                  <a:lnTo>
                    <a:pt x="3074" y="152"/>
                  </a:lnTo>
                  <a:lnTo>
                    <a:pt x="3077" y="143"/>
                  </a:lnTo>
                  <a:lnTo>
                    <a:pt x="3080" y="133"/>
                  </a:lnTo>
                  <a:lnTo>
                    <a:pt x="3082" y="123"/>
                  </a:lnTo>
                  <a:lnTo>
                    <a:pt x="3083" y="113"/>
                  </a:lnTo>
                  <a:lnTo>
                    <a:pt x="3083" y="103"/>
                  </a:lnTo>
                  <a:lnTo>
                    <a:pt x="3082" y="93"/>
                  </a:lnTo>
                  <a:lnTo>
                    <a:pt x="3080" y="83"/>
                  </a:lnTo>
                  <a:lnTo>
                    <a:pt x="3077" y="74"/>
                  </a:lnTo>
                  <a:lnTo>
                    <a:pt x="3074" y="64"/>
                  </a:lnTo>
                  <a:lnTo>
                    <a:pt x="3070" y="55"/>
                  </a:lnTo>
                  <a:lnTo>
                    <a:pt x="3065" y="47"/>
                  </a:lnTo>
                  <a:lnTo>
                    <a:pt x="3059" y="39"/>
                  </a:lnTo>
                  <a:lnTo>
                    <a:pt x="3053" y="31"/>
                  </a:lnTo>
                  <a:lnTo>
                    <a:pt x="3044" y="24"/>
                  </a:lnTo>
                  <a:lnTo>
                    <a:pt x="3036" y="18"/>
                  </a:lnTo>
                  <a:lnTo>
                    <a:pt x="3027" y="13"/>
                  </a:lnTo>
                  <a:lnTo>
                    <a:pt x="3016" y="8"/>
                  </a:lnTo>
                  <a:lnTo>
                    <a:pt x="3005" y="5"/>
                  </a:lnTo>
                  <a:lnTo>
                    <a:pt x="2993" y="2"/>
                  </a:lnTo>
                  <a:lnTo>
                    <a:pt x="2980" y="1"/>
                  </a:lnTo>
                  <a:lnTo>
                    <a:pt x="2867" y="10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63560" y="1712880"/>
              <a:ext cx="11160" cy="12600"/>
            </a:xfrm>
            <a:custGeom>
              <a:avLst/>
              <a:gdLst/>
              <a:ahLst/>
              <a:rect l="l" t="t" r="r" b="b"/>
              <a:pathLst>
                <a:path w="216" h="227">
                  <a:moveTo>
                    <a:pt x="216" y="108"/>
                  </a:moveTo>
                  <a:lnTo>
                    <a:pt x="0" y="108"/>
                  </a:lnTo>
                  <a:lnTo>
                    <a:pt x="0" y="227"/>
                  </a:lnTo>
                  <a:lnTo>
                    <a:pt x="216" y="227"/>
                  </a:lnTo>
                  <a:lnTo>
                    <a:pt x="216" y="108"/>
                  </a:lnTo>
                  <a:lnTo>
                    <a:pt x="216" y="108"/>
                  </a:lnTo>
                  <a:lnTo>
                    <a:pt x="216" y="108"/>
                  </a:lnTo>
                  <a:lnTo>
                    <a:pt x="216" y="94"/>
                  </a:lnTo>
                  <a:lnTo>
                    <a:pt x="214" y="82"/>
                  </a:lnTo>
                  <a:lnTo>
                    <a:pt x="210" y="71"/>
                  </a:lnTo>
                  <a:lnTo>
                    <a:pt x="206" y="60"/>
                  </a:lnTo>
                  <a:lnTo>
                    <a:pt x="202" y="51"/>
                  </a:lnTo>
                  <a:lnTo>
                    <a:pt x="196" y="42"/>
                  </a:lnTo>
                  <a:lnTo>
                    <a:pt x="190" y="34"/>
                  </a:lnTo>
                  <a:lnTo>
                    <a:pt x="182" y="27"/>
                  </a:lnTo>
                  <a:lnTo>
                    <a:pt x="174" y="21"/>
                  </a:lnTo>
                  <a:lnTo>
                    <a:pt x="166" y="15"/>
                  </a:lnTo>
                  <a:lnTo>
                    <a:pt x="157" y="10"/>
                  </a:lnTo>
                  <a:lnTo>
                    <a:pt x="148" y="6"/>
                  </a:lnTo>
                  <a:lnTo>
                    <a:pt x="138" y="3"/>
                  </a:lnTo>
                  <a:lnTo>
                    <a:pt x="129" y="1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9" y="10"/>
                  </a:lnTo>
                  <a:lnTo>
                    <a:pt x="51" y="15"/>
                  </a:lnTo>
                  <a:lnTo>
                    <a:pt x="42" y="21"/>
                  </a:lnTo>
                  <a:lnTo>
                    <a:pt x="34" y="27"/>
                  </a:lnTo>
                  <a:lnTo>
                    <a:pt x="27" y="34"/>
                  </a:lnTo>
                  <a:lnTo>
                    <a:pt x="21" y="42"/>
                  </a:lnTo>
                  <a:lnTo>
                    <a:pt x="15" y="51"/>
                  </a:lnTo>
                  <a:lnTo>
                    <a:pt x="10" y="60"/>
                  </a:lnTo>
                  <a:lnTo>
                    <a:pt x="6" y="71"/>
                  </a:lnTo>
                  <a:lnTo>
                    <a:pt x="3" y="82"/>
                  </a:lnTo>
                  <a:lnTo>
                    <a:pt x="1" y="94"/>
                  </a:lnTo>
                  <a:lnTo>
                    <a:pt x="0" y="108"/>
                  </a:lnTo>
                  <a:lnTo>
                    <a:pt x="216" y="1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63560" y="1623960"/>
              <a:ext cx="11160" cy="93600"/>
            </a:xfrm>
            <a:custGeom>
              <a:avLst/>
              <a:gdLst/>
              <a:ahLst/>
              <a:rect l="l" t="t" r="r" b="b"/>
              <a:pathLst>
                <a:path w="216" h="1662">
                  <a:moveTo>
                    <a:pt x="185" y="31"/>
                  </a:moveTo>
                  <a:lnTo>
                    <a:pt x="0" y="108"/>
                  </a:lnTo>
                  <a:lnTo>
                    <a:pt x="0" y="1662"/>
                  </a:lnTo>
                  <a:lnTo>
                    <a:pt x="216" y="1662"/>
                  </a:lnTo>
                  <a:lnTo>
                    <a:pt x="216" y="108"/>
                  </a:lnTo>
                  <a:lnTo>
                    <a:pt x="185" y="31"/>
                  </a:lnTo>
                  <a:lnTo>
                    <a:pt x="216" y="108"/>
                  </a:lnTo>
                  <a:lnTo>
                    <a:pt x="216" y="94"/>
                  </a:lnTo>
                  <a:lnTo>
                    <a:pt x="214" y="82"/>
                  </a:lnTo>
                  <a:lnTo>
                    <a:pt x="210" y="71"/>
                  </a:lnTo>
                  <a:lnTo>
                    <a:pt x="206" y="60"/>
                  </a:lnTo>
                  <a:lnTo>
                    <a:pt x="202" y="51"/>
                  </a:lnTo>
                  <a:lnTo>
                    <a:pt x="196" y="42"/>
                  </a:lnTo>
                  <a:lnTo>
                    <a:pt x="190" y="34"/>
                  </a:lnTo>
                  <a:lnTo>
                    <a:pt x="182" y="27"/>
                  </a:lnTo>
                  <a:lnTo>
                    <a:pt x="174" y="21"/>
                  </a:lnTo>
                  <a:lnTo>
                    <a:pt x="166" y="15"/>
                  </a:lnTo>
                  <a:lnTo>
                    <a:pt x="157" y="10"/>
                  </a:lnTo>
                  <a:lnTo>
                    <a:pt x="148" y="6"/>
                  </a:lnTo>
                  <a:lnTo>
                    <a:pt x="138" y="3"/>
                  </a:lnTo>
                  <a:lnTo>
                    <a:pt x="129" y="1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9" y="10"/>
                  </a:lnTo>
                  <a:lnTo>
                    <a:pt x="51" y="15"/>
                  </a:lnTo>
                  <a:lnTo>
                    <a:pt x="42" y="21"/>
                  </a:lnTo>
                  <a:lnTo>
                    <a:pt x="34" y="27"/>
                  </a:lnTo>
                  <a:lnTo>
                    <a:pt x="27" y="34"/>
                  </a:lnTo>
                  <a:lnTo>
                    <a:pt x="21" y="42"/>
                  </a:lnTo>
                  <a:lnTo>
                    <a:pt x="15" y="51"/>
                  </a:lnTo>
                  <a:lnTo>
                    <a:pt x="10" y="60"/>
                  </a:lnTo>
                  <a:lnTo>
                    <a:pt x="6" y="71"/>
                  </a:lnTo>
                  <a:lnTo>
                    <a:pt x="3" y="82"/>
                  </a:lnTo>
                  <a:lnTo>
                    <a:pt x="1" y="94"/>
                  </a:lnTo>
                  <a:lnTo>
                    <a:pt x="0" y="108"/>
                  </a:lnTo>
                  <a:lnTo>
                    <a:pt x="185" y="3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65360" y="1625400"/>
              <a:ext cx="158760" cy="160560"/>
            </a:xfrm>
            <a:custGeom>
              <a:avLst/>
              <a:gdLst/>
              <a:ahLst/>
              <a:rect l="l" t="t" r="r" b="b"/>
              <a:pathLst>
                <a:path w="2814" h="2815">
                  <a:moveTo>
                    <a:pt x="2781" y="2782"/>
                  </a:moveTo>
                  <a:lnTo>
                    <a:pt x="2781" y="2630"/>
                  </a:lnTo>
                  <a:lnTo>
                    <a:pt x="153" y="0"/>
                  </a:lnTo>
                  <a:lnTo>
                    <a:pt x="0" y="152"/>
                  </a:lnTo>
                  <a:lnTo>
                    <a:pt x="2630" y="2782"/>
                  </a:lnTo>
                  <a:lnTo>
                    <a:pt x="2781" y="2782"/>
                  </a:lnTo>
                  <a:lnTo>
                    <a:pt x="2630" y="2782"/>
                  </a:lnTo>
                  <a:lnTo>
                    <a:pt x="2639" y="2790"/>
                  </a:lnTo>
                  <a:lnTo>
                    <a:pt x="2649" y="2797"/>
                  </a:lnTo>
                  <a:lnTo>
                    <a:pt x="2659" y="2804"/>
                  </a:lnTo>
                  <a:lnTo>
                    <a:pt x="2669" y="2809"/>
                  </a:lnTo>
                  <a:lnTo>
                    <a:pt x="2680" y="2812"/>
                  </a:lnTo>
                  <a:lnTo>
                    <a:pt x="2690" y="2814"/>
                  </a:lnTo>
                  <a:lnTo>
                    <a:pt x="2700" y="2815"/>
                  </a:lnTo>
                  <a:lnTo>
                    <a:pt x="2710" y="2815"/>
                  </a:lnTo>
                  <a:lnTo>
                    <a:pt x="2720" y="2814"/>
                  </a:lnTo>
                  <a:lnTo>
                    <a:pt x="2730" y="2812"/>
                  </a:lnTo>
                  <a:lnTo>
                    <a:pt x="2740" y="2809"/>
                  </a:lnTo>
                  <a:lnTo>
                    <a:pt x="2749" y="2805"/>
                  </a:lnTo>
                  <a:lnTo>
                    <a:pt x="2757" y="2799"/>
                  </a:lnTo>
                  <a:lnTo>
                    <a:pt x="2766" y="2794"/>
                  </a:lnTo>
                  <a:lnTo>
                    <a:pt x="2774" y="2788"/>
                  </a:lnTo>
                  <a:lnTo>
                    <a:pt x="2781" y="2781"/>
                  </a:lnTo>
                  <a:lnTo>
                    <a:pt x="2788" y="2774"/>
                  </a:lnTo>
                  <a:lnTo>
                    <a:pt x="2795" y="2766"/>
                  </a:lnTo>
                  <a:lnTo>
                    <a:pt x="2800" y="2758"/>
                  </a:lnTo>
                  <a:lnTo>
                    <a:pt x="2804" y="2749"/>
                  </a:lnTo>
                  <a:lnTo>
                    <a:pt x="2808" y="2739"/>
                  </a:lnTo>
                  <a:lnTo>
                    <a:pt x="2811" y="2730"/>
                  </a:lnTo>
                  <a:lnTo>
                    <a:pt x="2813" y="2720"/>
                  </a:lnTo>
                  <a:lnTo>
                    <a:pt x="2814" y="2710"/>
                  </a:lnTo>
                  <a:lnTo>
                    <a:pt x="2814" y="2700"/>
                  </a:lnTo>
                  <a:lnTo>
                    <a:pt x="2813" y="2690"/>
                  </a:lnTo>
                  <a:lnTo>
                    <a:pt x="2811" y="2679"/>
                  </a:lnTo>
                  <a:lnTo>
                    <a:pt x="2808" y="2669"/>
                  </a:lnTo>
                  <a:lnTo>
                    <a:pt x="2803" y="2659"/>
                  </a:lnTo>
                  <a:lnTo>
                    <a:pt x="2797" y="2649"/>
                  </a:lnTo>
                  <a:lnTo>
                    <a:pt x="2789" y="2639"/>
                  </a:lnTo>
                  <a:lnTo>
                    <a:pt x="2781" y="2630"/>
                  </a:lnTo>
                  <a:lnTo>
                    <a:pt x="2781" y="278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63560" y="1774800"/>
              <a:ext cx="158760" cy="160200"/>
            </a:xfrm>
            <a:custGeom>
              <a:avLst/>
              <a:gdLst/>
              <a:ahLst/>
              <a:rect l="l" t="t" r="r" b="b"/>
              <a:pathLst>
                <a:path w="2814" h="2814">
                  <a:moveTo>
                    <a:pt x="1" y="2705"/>
                  </a:moveTo>
                  <a:lnTo>
                    <a:pt x="186" y="2781"/>
                  </a:lnTo>
                  <a:lnTo>
                    <a:pt x="2814" y="152"/>
                  </a:lnTo>
                  <a:lnTo>
                    <a:pt x="2662" y="0"/>
                  </a:lnTo>
                  <a:lnTo>
                    <a:pt x="33" y="2629"/>
                  </a:lnTo>
                  <a:lnTo>
                    <a:pt x="1" y="2705"/>
                  </a:lnTo>
                  <a:lnTo>
                    <a:pt x="33" y="2629"/>
                  </a:lnTo>
                  <a:lnTo>
                    <a:pt x="24" y="2638"/>
                  </a:lnTo>
                  <a:lnTo>
                    <a:pt x="17" y="2649"/>
                  </a:lnTo>
                  <a:lnTo>
                    <a:pt x="11" y="2658"/>
                  </a:lnTo>
                  <a:lnTo>
                    <a:pt x="6" y="2668"/>
                  </a:lnTo>
                  <a:lnTo>
                    <a:pt x="3" y="2679"/>
                  </a:lnTo>
                  <a:lnTo>
                    <a:pt x="1" y="2689"/>
                  </a:lnTo>
                  <a:lnTo>
                    <a:pt x="0" y="2699"/>
                  </a:lnTo>
                  <a:lnTo>
                    <a:pt x="0" y="2710"/>
                  </a:lnTo>
                  <a:lnTo>
                    <a:pt x="1" y="2720"/>
                  </a:lnTo>
                  <a:lnTo>
                    <a:pt x="3" y="2729"/>
                  </a:lnTo>
                  <a:lnTo>
                    <a:pt x="6" y="2739"/>
                  </a:lnTo>
                  <a:lnTo>
                    <a:pt x="9" y="2748"/>
                  </a:lnTo>
                  <a:lnTo>
                    <a:pt x="15" y="2757"/>
                  </a:lnTo>
                  <a:lnTo>
                    <a:pt x="20" y="2766"/>
                  </a:lnTo>
                  <a:lnTo>
                    <a:pt x="26" y="2774"/>
                  </a:lnTo>
                  <a:lnTo>
                    <a:pt x="33" y="2781"/>
                  </a:lnTo>
                  <a:lnTo>
                    <a:pt x="41" y="2787"/>
                  </a:lnTo>
                  <a:lnTo>
                    <a:pt x="49" y="2794"/>
                  </a:lnTo>
                  <a:lnTo>
                    <a:pt x="57" y="2800"/>
                  </a:lnTo>
                  <a:lnTo>
                    <a:pt x="65" y="2804"/>
                  </a:lnTo>
                  <a:lnTo>
                    <a:pt x="75" y="2808"/>
                  </a:lnTo>
                  <a:lnTo>
                    <a:pt x="85" y="2811"/>
                  </a:lnTo>
                  <a:lnTo>
                    <a:pt x="94" y="2813"/>
                  </a:lnTo>
                  <a:lnTo>
                    <a:pt x="105" y="2814"/>
                  </a:lnTo>
                  <a:lnTo>
                    <a:pt x="115" y="2814"/>
                  </a:lnTo>
                  <a:lnTo>
                    <a:pt x="125" y="2813"/>
                  </a:lnTo>
                  <a:lnTo>
                    <a:pt x="135" y="2811"/>
                  </a:lnTo>
                  <a:lnTo>
                    <a:pt x="145" y="2808"/>
                  </a:lnTo>
                  <a:lnTo>
                    <a:pt x="156" y="2803"/>
                  </a:lnTo>
                  <a:lnTo>
                    <a:pt x="166" y="2797"/>
                  </a:lnTo>
                  <a:lnTo>
                    <a:pt x="176" y="2789"/>
                  </a:lnTo>
                  <a:lnTo>
                    <a:pt x="186" y="2781"/>
                  </a:lnTo>
                  <a:lnTo>
                    <a:pt x="1" y="270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63560" y="1827360"/>
              <a:ext cx="11160" cy="101520"/>
            </a:xfrm>
            <a:custGeom>
              <a:avLst/>
              <a:gdLst/>
              <a:ahLst/>
              <a:rect l="l" t="t" r="r" b="b"/>
              <a:pathLst>
                <a:path w="216" h="1781">
                  <a:moveTo>
                    <a:pt x="113" y="0"/>
                  </a:moveTo>
                  <a:lnTo>
                    <a:pt x="0" y="107"/>
                  </a:lnTo>
                  <a:lnTo>
                    <a:pt x="0" y="1781"/>
                  </a:lnTo>
                  <a:lnTo>
                    <a:pt x="216" y="1781"/>
                  </a:lnTo>
                  <a:lnTo>
                    <a:pt x="216" y="107"/>
                  </a:lnTo>
                  <a:lnTo>
                    <a:pt x="113" y="0"/>
                  </a:lnTo>
                  <a:lnTo>
                    <a:pt x="216" y="107"/>
                  </a:lnTo>
                  <a:lnTo>
                    <a:pt x="216" y="94"/>
                  </a:lnTo>
                  <a:lnTo>
                    <a:pt x="214" y="83"/>
                  </a:lnTo>
                  <a:lnTo>
                    <a:pt x="210" y="71"/>
                  </a:lnTo>
                  <a:lnTo>
                    <a:pt x="206" y="61"/>
                  </a:lnTo>
                  <a:lnTo>
                    <a:pt x="202" y="50"/>
                  </a:lnTo>
                  <a:lnTo>
                    <a:pt x="196" y="42"/>
                  </a:lnTo>
                  <a:lnTo>
                    <a:pt x="190" y="34"/>
                  </a:lnTo>
                  <a:lnTo>
                    <a:pt x="182" y="27"/>
                  </a:lnTo>
                  <a:lnTo>
                    <a:pt x="174" y="20"/>
                  </a:lnTo>
                  <a:lnTo>
                    <a:pt x="166" y="15"/>
                  </a:lnTo>
                  <a:lnTo>
                    <a:pt x="157" y="10"/>
                  </a:lnTo>
                  <a:lnTo>
                    <a:pt x="148" y="7"/>
                  </a:lnTo>
                  <a:lnTo>
                    <a:pt x="138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99" y="0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9" y="7"/>
                  </a:lnTo>
                  <a:lnTo>
                    <a:pt x="59" y="10"/>
                  </a:lnTo>
                  <a:lnTo>
                    <a:pt x="51" y="15"/>
                  </a:lnTo>
                  <a:lnTo>
                    <a:pt x="42" y="20"/>
                  </a:lnTo>
                  <a:lnTo>
                    <a:pt x="34" y="27"/>
                  </a:lnTo>
                  <a:lnTo>
                    <a:pt x="27" y="34"/>
                  </a:lnTo>
                  <a:lnTo>
                    <a:pt x="21" y="42"/>
                  </a:lnTo>
                  <a:lnTo>
                    <a:pt x="15" y="50"/>
                  </a:lnTo>
                  <a:lnTo>
                    <a:pt x="10" y="61"/>
                  </a:lnTo>
                  <a:lnTo>
                    <a:pt x="6" y="71"/>
                  </a:lnTo>
                  <a:lnTo>
                    <a:pt x="3" y="83"/>
                  </a:lnTo>
                  <a:lnTo>
                    <a:pt x="1" y="94"/>
                  </a:lnTo>
                  <a:lnTo>
                    <a:pt x="0" y="107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00120" y="1827360"/>
              <a:ext cx="169920" cy="134640"/>
            </a:xfrm>
            <a:custGeom>
              <a:avLst/>
              <a:gdLst/>
              <a:ahLst/>
              <a:rect l="l" t="t" r="r" b="b"/>
              <a:pathLst>
                <a:path w="2981" h="2368">
                  <a:moveTo>
                    <a:pt x="0" y="2260"/>
                  </a:moveTo>
                  <a:lnTo>
                    <a:pt x="216" y="2265"/>
                  </a:lnTo>
                  <a:lnTo>
                    <a:pt x="219" y="2215"/>
                  </a:lnTo>
                  <a:lnTo>
                    <a:pt x="223" y="2165"/>
                  </a:lnTo>
                  <a:lnTo>
                    <a:pt x="228" y="2116"/>
                  </a:lnTo>
                  <a:lnTo>
                    <a:pt x="233" y="2069"/>
                  </a:lnTo>
                  <a:lnTo>
                    <a:pt x="241" y="2021"/>
                  </a:lnTo>
                  <a:lnTo>
                    <a:pt x="248" y="1974"/>
                  </a:lnTo>
                  <a:lnTo>
                    <a:pt x="256" y="1929"/>
                  </a:lnTo>
                  <a:lnTo>
                    <a:pt x="265" y="1884"/>
                  </a:lnTo>
                  <a:lnTo>
                    <a:pt x="276" y="1841"/>
                  </a:lnTo>
                  <a:lnTo>
                    <a:pt x="286" y="1797"/>
                  </a:lnTo>
                  <a:lnTo>
                    <a:pt x="298" y="1756"/>
                  </a:lnTo>
                  <a:lnTo>
                    <a:pt x="310" y="1713"/>
                  </a:lnTo>
                  <a:lnTo>
                    <a:pt x="322" y="1674"/>
                  </a:lnTo>
                  <a:lnTo>
                    <a:pt x="336" y="1633"/>
                  </a:lnTo>
                  <a:lnTo>
                    <a:pt x="350" y="1594"/>
                  </a:lnTo>
                  <a:lnTo>
                    <a:pt x="366" y="1556"/>
                  </a:lnTo>
                  <a:lnTo>
                    <a:pt x="381" y="1518"/>
                  </a:lnTo>
                  <a:lnTo>
                    <a:pt x="397" y="1482"/>
                  </a:lnTo>
                  <a:lnTo>
                    <a:pt x="415" y="1446"/>
                  </a:lnTo>
                  <a:lnTo>
                    <a:pt x="432" y="1410"/>
                  </a:lnTo>
                  <a:lnTo>
                    <a:pt x="450" y="1375"/>
                  </a:lnTo>
                  <a:lnTo>
                    <a:pt x="469" y="1341"/>
                  </a:lnTo>
                  <a:lnTo>
                    <a:pt x="488" y="1308"/>
                  </a:lnTo>
                  <a:lnTo>
                    <a:pt x="508" y="1275"/>
                  </a:lnTo>
                  <a:lnTo>
                    <a:pt x="530" y="1244"/>
                  </a:lnTo>
                  <a:lnTo>
                    <a:pt x="550" y="1212"/>
                  </a:lnTo>
                  <a:lnTo>
                    <a:pt x="571" y="1182"/>
                  </a:lnTo>
                  <a:lnTo>
                    <a:pt x="594" y="1152"/>
                  </a:lnTo>
                  <a:lnTo>
                    <a:pt x="617" y="1122"/>
                  </a:lnTo>
                  <a:lnTo>
                    <a:pt x="639" y="1094"/>
                  </a:lnTo>
                  <a:lnTo>
                    <a:pt x="663" y="1065"/>
                  </a:lnTo>
                  <a:lnTo>
                    <a:pt x="687" y="1038"/>
                  </a:lnTo>
                  <a:lnTo>
                    <a:pt x="712" y="1011"/>
                  </a:lnTo>
                  <a:lnTo>
                    <a:pt x="737" y="984"/>
                  </a:lnTo>
                  <a:lnTo>
                    <a:pt x="762" y="958"/>
                  </a:lnTo>
                  <a:lnTo>
                    <a:pt x="787" y="933"/>
                  </a:lnTo>
                  <a:lnTo>
                    <a:pt x="813" y="908"/>
                  </a:lnTo>
                  <a:lnTo>
                    <a:pt x="840" y="884"/>
                  </a:lnTo>
                  <a:lnTo>
                    <a:pt x="867" y="861"/>
                  </a:lnTo>
                  <a:lnTo>
                    <a:pt x="895" y="838"/>
                  </a:lnTo>
                  <a:lnTo>
                    <a:pt x="922" y="815"/>
                  </a:lnTo>
                  <a:lnTo>
                    <a:pt x="951" y="793"/>
                  </a:lnTo>
                  <a:lnTo>
                    <a:pt x="979" y="771"/>
                  </a:lnTo>
                  <a:lnTo>
                    <a:pt x="1007" y="751"/>
                  </a:lnTo>
                  <a:lnTo>
                    <a:pt x="1036" y="731"/>
                  </a:lnTo>
                  <a:lnTo>
                    <a:pt x="1066" y="710"/>
                  </a:lnTo>
                  <a:lnTo>
                    <a:pt x="1095" y="692"/>
                  </a:lnTo>
                  <a:lnTo>
                    <a:pt x="1125" y="673"/>
                  </a:lnTo>
                  <a:lnTo>
                    <a:pt x="1155" y="654"/>
                  </a:lnTo>
                  <a:lnTo>
                    <a:pt x="1185" y="637"/>
                  </a:lnTo>
                  <a:lnTo>
                    <a:pt x="1215" y="619"/>
                  </a:lnTo>
                  <a:lnTo>
                    <a:pt x="1245" y="603"/>
                  </a:lnTo>
                  <a:lnTo>
                    <a:pt x="1307" y="569"/>
                  </a:lnTo>
                  <a:lnTo>
                    <a:pt x="1371" y="539"/>
                  </a:lnTo>
                  <a:lnTo>
                    <a:pt x="1433" y="510"/>
                  </a:lnTo>
                  <a:lnTo>
                    <a:pt x="1497" y="483"/>
                  </a:lnTo>
                  <a:lnTo>
                    <a:pt x="1560" y="458"/>
                  </a:lnTo>
                  <a:lnTo>
                    <a:pt x="1623" y="434"/>
                  </a:lnTo>
                  <a:lnTo>
                    <a:pt x="1686" y="412"/>
                  </a:lnTo>
                  <a:lnTo>
                    <a:pt x="1751" y="391"/>
                  </a:lnTo>
                  <a:lnTo>
                    <a:pt x="1814" y="372"/>
                  </a:lnTo>
                  <a:lnTo>
                    <a:pt x="1877" y="354"/>
                  </a:lnTo>
                  <a:lnTo>
                    <a:pt x="1939" y="337"/>
                  </a:lnTo>
                  <a:lnTo>
                    <a:pt x="2000" y="323"/>
                  </a:lnTo>
                  <a:lnTo>
                    <a:pt x="2061" y="308"/>
                  </a:lnTo>
                  <a:lnTo>
                    <a:pt x="2121" y="296"/>
                  </a:lnTo>
                  <a:lnTo>
                    <a:pt x="2180" y="285"/>
                  </a:lnTo>
                  <a:lnTo>
                    <a:pt x="2238" y="274"/>
                  </a:lnTo>
                  <a:lnTo>
                    <a:pt x="2294" y="265"/>
                  </a:lnTo>
                  <a:lnTo>
                    <a:pt x="2350" y="257"/>
                  </a:lnTo>
                  <a:lnTo>
                    <a:pt x="2404" y="249"/>
                  </a:lnTo>
                  <a:lnTo>
                    <a:pt x="2456" y="243"/>
                  </a:lnTo>
                  <a:lnTo>
                    <a:pt x="2506" y="237"/>
                  </a:lnTo>
                  <a:lnTo>
                    <a:pt x="2554" y="233"/>
                  </a:lnTo>
                  <a:lnTo>
                    <a:pt x="2646" y="224"/>
                  </a:lnTo>
                  <a:lnTo>
                    <a:pt x="2727" y="219"/>
                  </a:lnTo>
                  <a:lnTo>
                    <a:pt x="2799" y="216"/>
                  </a:lnTo>
                  <a:lnTo>
                    <a:pt x="2859" y="215"/>
                  </a:lnTo>
                  <a:lnTo>
                    <a:pt x="2945" y="215"/>
                  </a:lnTo>
                  <a:lnTo>
                    <a:pt x="2972" y="216"/>
                  </a:lnTo>
                  <a:lnTo>
                    <a:pt x="2981" y="1"/>
                  </a:lnTo>
                  <a:lnTo>
                    <a:pt x="2946" y="0"/>
                  </a:lnTo>
                  <a:lnTo>
                    <a:pt x="2857" y="0"/>
                  </a:lnTo>
                  <a:lnTo>
                    <a:pt x="2793" y="2"/>
                  </a:lnTo>
                  <a:lnTo>
                    <a:pt x="2716" y="5"/>
                  </a:lnTo>
                  <a:lnTo>
                    <a:pt x="2630" y="10"/>
                  </a:lnTo>
                  <a:lnTo>
                    <a:pt x="2536" y="18"/>
                  </a:lnTo>
                  <a:lnTo>
                    <a:pt x="2484" y="23"/>
                  </a:lnTo>
                  <a:lnTo>
                    <a:pt x="2431" y="30"/>
                  </a:lnTo>
                  <a:lnTo>
                    <a:pt x="2377" y="36"/>
                  </a:lnTo>
                  <a:lnTo>
                    <a:pt x="2320" y="44"/>
                  </a:lnTo>
                  <a:lnTo>
                    <a:pt x="2262" y="52"/>
                  </a:lnTo>
                  <a:lnTo>
                    <a:pt x="2202" y="62"/>
                  </a:lnTo>
                  <a:lnTo>
                    <a:pt x="2141" y="73"/>
                  </a:lnTo>
                  <a:lnTo>
                    <a:pt x="2079" y="86"/>
                  </a:lnTo>
                  <a:lnTo>
                    <a:pt x="2016" y="98"/>
                  </a:lnTo>
                  <a:lnTo>
                    <a:pt x="1952" y="113"/>
                  </a:lnTo>
                  <a:lnTo>
                    <a:pt x="1886" y="129"/>
                  </a:lnTo>
                  <a:lnTo>
                    <a:pt x="1820" y="147"/>
                  </a:lnTo>
                  <a:lnTo>
                    <a:pt x="1754" y="165"/>
                  </a:lnTo>
                  <a:lnTo>
                    <a:pt x="1686" y="186"/>
                  </a:lnTo>
                  <a:lnTo>
                    <a:pt x="1619" y="208"/>
                  </a:lnTo>
                  <a:lnTo>
                    <a:pt x="1551" y="232"/>
                  </a:lnTo>
                  <a:lnTo>
                    <a:pt x="1482" y="258"/>
                  </a:lnTo>
                  <a:lnTo>
                    <a:pt x="1414" y="285"/>
                  </a:lnTo>
                  <a:lnTo>
                    <a:pt x="1347" y="314"/>
                  </a:lnTo>
                  <a:lnTo>
                    <a:pt x="1278" y="345"/>
                  </a:lnTo>
                  <a:lnTo>
                    <a:pt x="1211" y="378"/>
                  </a:lnTo>
                  <a:lnTo>
                    <a:pt x="1145" y="413"/>
                  </a:lnTo>
                  <a:lnTo>
                    <a:pt x="1111" y="432"/>
                  </a:lnTo>
                  <a:lnTo>
                    <a:pt x="1077" y="450"/>
                  </a:lnTo>
                  <a:lnTo>
                    <a:pt x="1044" y="470"/>
                  </a:lnTo>
                  <a:lnTo>
                    <a:pt x="1011" y="490"/>
                  </a:lnTo>
                  <a:lnTo>
                    <a:pt x="979" y="510"/>
                  </a:lnTo>
                  <a:lnTo>
                    <a:pt x="947" y="532"/>
                  </a:lnTo>
                  <a:lnTo>
                    <a:pt x="915" y="554"/>
                  </a:lnTo>
                  <a:lnTo>
                    <a:pt x="883" y="577"/>
                  </a:lnTo>
                  <a:lnTo>
                    <a:pt x="851" y="599"/>
                  </a:lnTo>
                  <a:lnTo>
                    <a:pt x="820" y="623"/>
                  </a:lnTo>
                  <a:lnTo>
                    <a:pt x="788" y="647"/>
                  </a:lnTo>
                  <a:lnTo>
                    <a:pt x="757" y="672"/>
                  </a:lnTo>
                  <a:lnTo>
                    <a:pt x="727" y="698"/>
                  </a:lnTo>
                  <a:lnTo>
                    <a:pt x="697" y="724"/>
                  </a:lnTo>
                  <a:lnTo>
                    <a:pt x="668" y="751"/>
                  </a:lnTo>
                  <a:lnTo>
                    <a:pt x="639" y="778"/>
                  </a:lnTo>
                  <a:lnTo>
                    <a:pt x="610" y="806"/>
                  </a:lnTo>
                  <a:lnTo>
                    <a:pt x="581" y="835"/>
                  </a:lnTo>
                  <a:lnTo>
                    <a:pt x="554" y="865"/>
                  </a:lnTo>
                  <a:lnTo>
                    <a:pt x="526" y="895"/>
                  </a:lnTo>
                  <a:lnTo>
                    <a:pt x="500" y="926"/>
                  </a:lnTo>
                  <a:lnTo>
                    <a:pt x="474" y="957"/>
                  </a:lnTo>
                  <a:lnTo>
                    <a:pt x="448" y="989"/>
                  </a:lnTo>
                  <a:lnTo>
                    <a:pt x="422" y="1022"/>
                  </a:lnTo>
                  <a:lnTo>
                    <a:pt x="397" y="1056"/>
                  </a:lnTo>
                  <a:lnTo>
                    <a:pt x="373" y="1091"/>
                  </a:lnTo>
                  <a:lnTo>
                    <a:pt x="349" y="1126"/>
                  </a:lnTo>
                  <a:lnTo>
                    <a:pt x="327" y="1162"/>
                  </a:lnTo>
                  <a:lnTo>
                    <a:pt x="304" y="1198"/>
                  </a:lnTo>
                  <a:lnTo>
                    <a:pt x="282" y="1236"/>
                  </a:lnTo>
                  <a:lnTo>
                    <a:pt x="261" y="1274"/>
                  </a:lnTo>
                  <a:lnTo>
                    <a:pt x="241" y="1312"/>
                  </a:lnTo>
                  <a:lnTo>
                    <a:pt x="221" y="1352"/>
                  </a:lnTo>
                  <a:lnTo>
                    <a:pt x="202" y="1392"/>
                  </a:lnTo>
                  <a:lnTo>
                    <a:pt x="184" y="1433"/>
                  </a:lnTo>
                  <a:lnTo>
                    <a:pt x="166" y="1475"/>
                  </a:lnTo>
                  <a:lnTo>
                    <a:pt x="149" y="1518"/>
                  </a:lnTo>
                  <a:lnTo>
                    <a:pt x="134" y="1562"/>
                  </a:lnTo>
                  <a:lnTo>
                    <a:pt x="118" y="1606"/>
                  </a:lnTo>
                  <a:lnTo>
                    <a:pt x="104" y="1651"/>
                  </a:lnTo>
                  <a:lnTo>
                    <a:pt x="90" y="1698"/>
                  </a:lnTo>
                  <a:lnTo>
                    <a:pt x="78" y="1743"/>
                  </a:lnTo>
                  <a:lnTo>
                    <a:pt x="66" y="1791"/>
                  </a:lnTo>
                  <a:lnTo>
                    <a:pt x="55" y="1840"/>
                  </a:lnTo>
                  <a:lnTo>
                    <a:pt x="45" y="1888"/>
                  </a:lnTo>
                  <a:lnTo>
                    <a:pt x="36" y="1938"/>
                  </a:lnTo>
                  <a:lnTo>
                    <a:pt x="27" y="1989"/>
                  </a:lnTo>
                  <a:lnTo>
                    <a:pt x="21" y="2041"/>
                  </a:lnTo>
                  <a:lnTo>
                    <a:pt x="14" y="2092"/>
                  </a:lnTo>
                  <a:lnTo>
                    <a:pt x="9" y="2146"/>
                  </a:lnTo>
                  <a:lnTo>
                    <a:pt x="4" y="2200"/>
                  </a:lnTo>
                  <a:lnTo>
                    <a:pt x="1" y="2255"/>
                  </a:lnTo>
                  <a:lnTo>
                    <a:pt x="216" y="2260"/>
                  </a:lnTo>
                  <a:lnTo>
                    <a:pt x="1" y="2255"/>
                  </a:lnTo>
                  <a:lnTo>
                    <a:pt x="1" y="2267"/>
                  </a:lnTo>
                  <a:lnTo>
                    <a:pt x="2" y="2280"/>
                  </a:lnTo>
                  <a:lnTo>
                    <a:pt x="4" y="2291"/>
                  </a:lnTo>
                  <a:lnTo>
                    <a:pt x="8" y="2303"/>
                  </a:lnTo>
                  <a:lnTo>
                    <a:pt x="13" y="2312"/>
                  </a:lnTo>
                  <a:lnTo>
                    <a:pt x="18" y="2321"/>
                  </a:lnTo>
                  <a:lnTo>
                    <a:pt x="24" y="2330"/>
                  </a:lnTo>
                  <a:lnTo>
                    <a:pt x="30" y="2337"/>
                  </a:lnTo>
                  <a:lnTo>
                    <a:pt x="38" y="2344"/>
                  </a:lnTo>
                  <a:lnTo>
                    <a:pt x="46" y="2349"/>
                  </a:lnTo>
                  <a:lnTo>
                    <a:pt x="55" y="2354"/>
                  </a:lnTo>
                  <a:lnTo>
                    <a:pt x="63" y="2359"/>
                  </a:lnTo>
                  <a:lnTo>
                    <a:pt x="73" y="2363"/>
                  </a:lnTo>
                  <a:lnTo>
                    <a:pt x="83" y="2365"/>
                  </a:lnTo>
                  <a:lnTo>
                    <a:pt x="92" y="2367"/>
                  </a:lnTo>
                  <a:lnTo>
                    <a:pt x="103" y="2368"/>
                  </a:lnTo>
                  <a:lnTo>
                    <a:pt x="113" y="2368"/>
                  </a:lnTo>
                  <a:lnTo>
                    <a:pt x="123" y="2367"/>
                  </a:lnTo>
                  <a:lnTo>
                    <a:pt x="133" y="2366"/>
                  </a:lnTo>
                  <a:lnTo>
                    <a:pt x="142" y="2363"/>
                  </a:lnTo>
                  <a:lnTo>
                    <a:pt x="153" y="2360"/>
                  </a:lnTo>
                  <a:lnTo>
                    <a:pt x="161" y="2355"/>
                  </a:lnTo>
                  <a:lnTo>
                    <a:pt x="170" y="2350"/>
                  </a:lnTo>
                  <a:lnTo>
                    <a:pt x="178" y="2344"/>
                  </a:lnTo>
                  <a:lnTo>
                    <a:pt x="186" y="2338"/>
                  </a:lnTo>
                  <a:lnTo>
                    <a:pt x="193" y="2331"/>
                  </a:lnTo>
                  <a:lnTo>
                    <a:pt x="199" y="2321"/>
                  </a:lnTo>
                  <a:lnTo>
                    <a:pt x="204" y="2312"/>
                  </a:lnTo>
                  <a:lnTo>
                    <a:pt x="208" y="2302"/>
                  </a:lnTo>
                  <a:lnTo>
                    <a:pt x="212" y="2291"/>
                  </a:lnTo>
                  <a:lnTo>
                    <a:pt x="215" y="2279"/>
                  </a:lnTo>
                  <a:lnTo>
                    <a:pt x="216" y="2265"/>
                  </a:lnTo>
                  <a:lnTo>
                    <a:pt x="0" y="226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3" name="" descr=""/>
          <p:cNvPicPr/>
          <p:nvPr/>
        </p:nvPicPr>
        <p:blipFill>
          <a:blip r:embed="rId2"/>
          <a:stretch/>
        </p:blipFill>
        <p:spPr>
          <a:xfrm>
            <a:off x="3030480" y="2320920"/>
            <a:ext cx="1398600" cy="784080"/>
          </a:xfrm>
          <a:prstGeom prst="rect">
            <a:avLst/>
          </a:prstGeom>
          <a:ln w="0">
            <a:noFill/>
          </a:ln>
        </p:spPr>
      </p:pic>
      <p:sp>
        <p:nvSpPr>
          <p:cNvPr id="1764" name=""/>
          <p:cNvSpPr/>
          <p:nvPr/>
        </p:nvSpPr>
        <p:spPr>
          <a:xfrm>
            <a:off x="4441680" y="2362320"/>
            <a:ext cx="10540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/TV Broadcas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3"/>
          <a:stretch/>
        </p:blipFill>
        <p:spPr>
          <a:xfrm>
            <a:off x="3030480" y="1382760"/>
            <a:ext cx="1398600" cy="784080"/>
          </a:xfrm>
          <a:prstGeom prst="rect">
            <a:avLst/>
          </a:prstGeom>
          <a:ln w="0">
            <a:noFill/>
          </a:ln>
        </p:spPr>
      </p:pic>
      <p:sp>
        <p:nvSpPr>
          <p:cNvPr id="1766" name=""/>
          <p:cNvSpPr/>
          <p:nvPr/>
        </p:nvSpPr>
        <p:spPr>
          <a:xfrm>
            <a:off x="4441680" y="1523880"/>
            <a:ext cx="1359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/TV Content Mana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7" name="" descr=""/>
          <p:cNvPicPr/>
          <p:nvPr/>
        </p:nvPicPr>
        <p:blipFill>
          <a:blip r:embed="rId4"/>
          <a:stretch/>
        </p:blipFill>
        <p:spPr>
          <a:xfrm>
            <a:off x="6219720" y="3395520"/>
            <a:ext cx="1306440" cy="685800"/>
          </a:xfrm>
          <a:prstGeom prst="rect">
            <a:avLst/>
          </a:prstGeom>
          <a:ln w="0">
            <a:noFill/>
          </a:ln>
        </p:spPr>
      </p:pic>
      <p:sp>
        <p:nvSpPr>
          <p:cNvPr id="1768" name=""/>
          <p:cNvSpPr/>
          <p:nvPr/>
        </p:nvSpPr>
        <p:spPr>
          <a:xfrm>
            <a:off x="7543800" y="3586320"/>
            <a:ext cx="1130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C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" descr=""/>
          <p:cNvPicPr/>
          <p:nvPr/>
        </p:nvPicPr>
        <p:blipFill>
          <a:blip r:embed="rId5"/>
          <a:stretch/>
        </p:blipFill>
        <p:spPr>
          <a:xfrm>
            <a:off x="6418440" y="4232160"/>
            <a:ext cx="1107720" cy="1162080"/>
          </a:xfrm>
          <a:prstGeom prst="rect">
            <a:avLst/>
          </a:prstGeom>
          <a:ln w="0">
            <a:noFill/>
          </a:ln>
        </p:spPr>
      </p:pic>
      <p:sp>
        <p:nvSpPr>
          <p:cNvPr id="1770" name=""/>
          <p:cNvSpPr/>
          <p:nvPr/>
        </p:nvSpPr>
        <p:spPr>
          <a:xfrm>
            <a:off x="7543800" y="4562640"/>
            <a:ext cx="1265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lliSwitch S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1447920"/>
            <a:ext cx="8128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bil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" descr="Service Control.ai, December 22, 2004"/>
          <p:cNvPicPr/>
          <p:nvPr/>
        </p:nvPicPr>
        <p:blipFill>
          <a:blip r:embed="rId6"/>
          <a:stretch/>
        </p:blipFill>
        <p:spPr>
          <a:xfrm>
            <a:off x="6446880" y="5545080"/>
            <a:ext cx="1079280" cy="689040"/>
          </a:xfrm>
          <a:prstGeom prst="rect">
            <a:avLst/>
          </a:prstGeom>
          <a:ln w="0">
            <a:noFill/>
          </a:ln>
        </p:spPr>
      </p:pic>
      <p:sp>
        <p:nvSpPr>
          <p:cNvPr id="1773" name=""/>
          <p:cNvSpPr/>
          <p:nvPr/>
        </p:nvSpPr>
        <p:spPr>
          <a:xfrm>
            <a:off x="7543800" y="5638680"/>
            <a:ext cx="7970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ic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4" name="" descr=""/>
          <p:cNvPicPr/>
          <p:nvPr/>
        </p:nvPicPr>
        <p:blipFill>
          <a:blip r:embed="rId7"/>
          <a:stretch/>
        </p:blipFill>
        <p:spPr>
          <a:xfrm>
            <a:off x="3568680" y="3222720"/>
            <a:ext cx="860400" cy="847800"/>
          </a:xfrm>
          <a:prstGeom prst="rect">
            <a:avLst/>
          </a:prstGeom>
          <a:ln w="0">
            <a:noFill/>
          </a:ln>
        </p:spPr>
      </p:pic>
      <p:sp>
        <p:nvSpPr>
          <p:cNvPr id="1775" name=""/>
          <p:cNvSpPr/>
          <p:nvPr/>
        </p:nvSpPr>
        <p:spPr>
          <a:xfrm>
            <a:off x="4403880" y="3395520"/>
            <a:ext cx="965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versal 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6" name="" descr=""/>
          <p:cNvPicPr/>
          <p:nvPr/>
        </p:nvPicPr>
        <p:blipFill>
          <a:blip r:embed="rId8"/>
          <a:stretch/>
        </p:blipFill>
        <p:spPr>
          <a:xfrm>
            <a:off x="6027840" y="1379520"/>
            <a:ext cx="1498320" cy="836640"/>
          </a:xfrm>
          <a:prstGeom prst="rect">
            <a:avLst/>
          </a:prstGeom>
          <a:ln w="0">
            <a:noFill/>
          </a:ln>
        </p:spPr>
      </p:pic>
      <p:pic>
        <p:nvPicPr>
          <p:cNvPr id="1777" name="" descr=""/>
          <p:cNvPicPr/>
          <p:nvPr/>
        </p:nvPicPr>
        <p:blipFill>
          <a:blip r:embed="rId9"/>
          <a:stretch/>
        </p:blipFill>
        <p:spPr>
          <a:xfrm>
            <a:off x="2637000" y="4229280"/>
            <a:ext cx="645840" cy="1022040"/>
          </a:xfrm>
          <a:prstGeom prst="rect">
            <a:avLst/>
          </a:prstGeom>
          <a:ln w="0">
            <a:noFill/>
          </a:ln>
        </p:spPr>
      </p:pic>
      <p:sp>
        <p:nvSpPr>
          <p:cNvPr id="1778" name=""/>
          <p:cNvSpPr/>
          <p:nvPr/>
        </p:nvSpPr>
        <p:spPr>
          <a:xfrm>
            <a:off x="5151600" y="4290840"/>
            <a:ext cx="10666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isco Bran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246480" y="448956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ic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0" name="" descr=""/>
          <p:cNvPicPr/>
          <p:nvPr/>
        </p:nvPicPr>
        <p:blipFill>
          <a:blip r:embed="rId10"/>
          <a:stretch/>
        </p:blipFill>
        <p:spPr>
          <a:xfrm>
            <a:off x="274680" y="5753160"/>
            <a:ext cx="1065240" cy="682560"/>
          </a:xfrm>
          <a:prstGeom prst="rect">
            <a:avLst/>
          </a:prstGeom>
          <a:ln w="0">
            <a:noFill/>
          </a:ln>
        </p:spPr>
      </p:pic>
      <p:sp>
        <p:nvSpPr>
          <p:cNvPr id="1781" name=""/>
          <p:cNvSpPr/>
          <p:nvPr/>
        </p:nvSpPr>
        <p:spPr>
          <a:xfrm>
            <a:off x="1335240" y="594360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11"/>
          <a:stretch/>
        </p:blipFill>
        <p:spPr>
          <a:xfrm>
            <a:off x="3166920" y="5537160"/>
            <a:ext cx="1262160" cy="684360"/>
          </a:xfrm>
          <a:prstGeom prst="rect">
            <a:avLst/>
          </a:prstGeom>
          <a:ln w="0">
            <a:noFill/>
          </a:ln>
        </p:spPr>
      </p:pic>
      <p:sp>
        <p:nvSpPr>
          <p:cNvPr id="1783" name=""/>
          <p:cNvSpPr/>
          <p:nvPr/>
        </p:nvSpPr>
        <p:spPr>
          <a:xfrm>
            <a:off x="4403880" y="5727600"/>
            <a:ext cx="76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4" name="" descr=""/>
          <p:cNvPicPr/>
          <p:nvPr/>
        </p:nvPicPr>
        <p:blipFill>
          <a:blip r:embed="rId12"/>
          <a:stretch/>
        </p:blipFill>
        <p:spPr>
          <a:xfrm>
            <a:off x="4483080" y="4226040"/>
            <a:ext cx="649440" cy="1027080"/>
          </a:xfrm>
          <a:prstGeom prst="rect">
            <a:avLst/>
          </a:prstGeom>
          <a:ln w="0">
            <a:noFill/>
          </a:ln>
        </p:spPr>
      </p:pic>
      <p:pic>
        <p:nvPicPr>
          <p:cNvPr id="1785" name="" descr=""/>
          <p:cNvPicPr/>
          <p:nvPr/>
        </p:nvPicPr>
        <p:blipFill>
          <a:blip r:embed="rId13"/>
          <a:stretch/>
        </p:blipFill>
        <p:spPr>
          <a:xfrm>
            <a:off x="6708600" y="2367000"/>
            <a:ext cx="817560" cy="877680"/>
          </a:xfrm>
          <a:prstGeom prst="rect">
            <a:avLst/>
          </a:prstGeom>
          <a:ln w="0">
            <a:noFill/>
          </a:ln>
        </p:spPr>
      </p:pic>
      <p:sp>
        <p:nvSpPr>
          <p:cNvPr id="1786" name=""/>
          <p:cNvSpPr/>
          <p:nvPr/>
        </p:nvSpPr>
        <p:spPr>
          <a:xfrm>
            <a:off x="7543800" y="2455920"/>
            <a:ext cx="12952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Carrier Routing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335240" y="4888080"/>
            <a:ext cx="1066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TS 10200 Soft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609480" y="4572000"/>
            <a:ext cx="730080" cy="1135080"/>
            <a:chOff x="609480" y="4572000"/>
            <a:chExt cx="730080" cy="1135080"/>
          </a:xfrm>
        </p:grpSpPr>
        <p:sp>
          <p:nvSpPr>
            <p:cNvPr id="1789" name=""/>
            <p:cNvSpPr/>
            <p:nvPr/>
          </p:nvSpPr>
          <p:spPr>
            <a:xfrm>
              <a:off x="620640" y="4722840"/>
              <a:ext cx="566640" cy="973440"/>
            </a:xfrm>
            <a:prstGeom prst="rect">
              <a:avLst/>
            </a:pr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15960" y="4718160"/>
              <a:ext cx="9360" cy="978120"/>
            </a:xfrm>
            <a:custGeom>
              <a:avLst/>
              <a:gdLst/>
              <a:ahLst/>
              <a:rect l="l" t="t" r="r" b="b"/>
              <a:pathLst>
                <a:path w="132" h="14163">
                  <a:moveTo>
                    <a:pt x="66" y="0"/>
                  </a:moveTo>
                  <a:lnTo>
                    <a:pt x="0" y="67"/>
                  </a:lnTo>
                  <a:lnTo>
                    <a:pt x="0" y="14163"/>
                  </a:lnTo>
                  <a:lnTo>
                    <a:pt x="132" y="14163"/>
                  </a:lnTo>
                  <a:lnTo>
                    <a:pt x="132" y="67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20640" y="4718160"/>
              <a:ext cx="571320" cy="9720"/>
            </a:xfrm>
            <a:custGeom>
              <a:avLst/>
              <a:gdLst/>
              <a:ahLst/>
              <a:rect l="l" t="t" r="r" b="b"/>
              <a:pathLst>
                <a:path w="8289" h="133">
                  <a:moveTo>
                    <a:pt x="8289" y="67"/>
                  </a:moveTo>
                  <a:lnTo>
                    <a:pt x="8223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8223" y="133"/>
                  </a:lnTo>
                  <a:lnTo>
                    <a:pt x="8289" y="67"/>
                  </a:lnTo>
                  <a:lnTo>
                    <a:pt x="8289" y="67"/>
                  </a:lnTo>
                  <a:lnTo>
                    <a:pt x="8289" y="0"/>
                  </a:lnTo>
                  <a:lnTo>
                    <a:pt x="8223" y="0"/>
                  </a:lnTo>
                  <a:lnTo>
                    <a:pt x="8289" y="6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182600" y="4722840"/>
              <a:ext cx="9360" cy="978120"/>
            </a:xfrm>
            <a:custGeom>
              <a:avLst/>
              <a:gdLst/>
              <a:ahLst/>
              <a:rect l="l" t="t" r="r" b="b"/>
              <a:pathLst>
                <a:path w="132" h="14162">
                  <a:moveTo>
                    <a:pt x="66" y="14162"/>
                  </a:moveTo>
                  <a:lnTo>
                    <a:pt x="132" y="14096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14096"/>
                  </a:lnTo>
                  <a:lnTo>
                    <a:pt x="66" y="14162"/>
                  </a:lnTo>
                  <a:lnTo>
                    <a:pt x="66" y="14162"/>
                  </a:lnTo>
                  <a:lnTo>
                    <a:pt x="132" y="14162"/>
                  </a:lnTo>
                  <a:lnTo>
                    <a:pt x="132" y="14096"/>
                  </a:lnTo>
                  <a:lnTo>
                    <a:pt x="66" y="1416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15960" y="5691240"/>
              <a:ext cx="571320" cy="9720"/>
            </a:xfrm>
            <a:custGeom>
              <a:avLst/>
              <a:gdLst/>
              <a:ahLst/>
              <a:rect l="l" t="t" r="r" b="b"/>
              <a:pathLst>
                <a:path w="8289" h="133">
                  <a:moveTo>
                    <a:pt x="0" y="67"/>
                  </a:moveTo>
                  <a:lnTo>
                    <a:pt x="66" y="133"/>
                  </a:lnTo>
                  <a:lnTo>
                    <a:pt x="8289" y="133"/>
                  </a:lnTo>
                  <a:lnTo>
                    <a:pt x="8289" y="0"/>
                  </a:lnTo>
                  <a:lnTo>
                    <a:pt x="66" y="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133"/>
                  </a:lnTo>
                  <a:lnTo>
                    <a:pt x="66" y="13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0640" y="4578480"/>
              <a:ext cx="708120" cy="144360"/>
            </a:xfrm>
            <a:custGeom>
              <a:avLst/>
              <a:gdLst/>
              <a:ahLst/>
              <a:rect l="l" t="t" r="r" b="b"/>
              <a:pathLst>
                <a:path w="10268" h="2102">
                  <a:moveTo>
                    <a:pt x="2015" y="0"/>
                  </a:moveTo>
                  <a:lnTo>
                    <a:pt x="0" y="2102"/>
                  </a:lnTo>
                  <a:lnTo>
                    <a:pt x="8223" y="2102"/>
                  </a:lnTo>
                  <a:lnTo>
                    <a:pt x="10268" y="63"/>
                  </a:lnTo>
                  <a:lnTo>
                    <a:pt x="2015" y="0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09480" y="4575240"/>
              <a:ext cx="152280" cy="152640"/>
            </a:xfrm>
            <a:custGeom>
              <a:avLst/>
              <a:gdLst/>
              <a:ahLst/>
              <a:rect l="l" t="t" r="r" b="b"/>
              <a:pathLst>
                <a:path w="2217" h="2214">
                  <a:moveTo>
                    <a:pt x="154" y="2214"/>
                  </a:moveTo>
                  <a:lnTo>
                    <a:pt x="202" y="2194"/>
                  </a:lnTo>
                  <a:lnTo>
                    <a:pt x="2217" y="92"/>
                  </a:lnTo>
                  <a:lnTo>
                    <a:pt x="2121" y="0"/>
                  </a:lnTo>
                  <a:lnTo>
                    <a:pt x="107" y="2102"/>
                  </a:lnTo>
                  <a:lnTo>
                    <a:pt x="154" y="2214"/>
                  </a:lnTo>
                  <a:lnTo>
                    <a:pt x="107" y="2102"/>
                  </a:lnTo>
                  <a:lnTo>
                    <a:pt x="0" y="2214"/>
                  </a:lnTo>
                  <a:lnTo>
                    <a:pt x="154" y="2214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20640" y="4718160"/>
              <a:ext cx="569880" cy="9720"/>
            </a:xfrm>
            <a:custGeom>
              <a:avLst/>
              <a:gdLst/>
              <a:ahLst/>
              <a:rect l="l" t="t" r="r" b="b"/>
              <a:pathLst>
                <a:path w="8269" h="133">
                  <a:moveTo>
                    <a:pt x="8269" y="114"/>
                  </a:moveTo>
                  <a:lnTo>
                    <a:pt x="8223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8223" y="133"/>
                  </a:lnTo>
                  <a:lnTo>
                    <a:pt x="8269" y="114"/>
                  </a:lnTo>
                  <a:lnTo>
                    <a:pt x="8223" y="133"/>
                  </a:lnTo>
                  <a:lnTo>
                    <a:pt x="8250" y="133"/>
                  </a:lnTo>
                  <a:lnTo>
                    <a:pt x="8269" y="114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184040" y="4578480"/>
              <a:ext cx="155520" cy="147600"/>
            </a:xfrm>
            <a:custGeom>
              <a:avLst/>
              <a:gdLst/>
              <a:ahLst/>
              <a:rect l="l" t="t" r="r" b="b"/>
              <a:pathLst>
                <a:path w="2249" h="2153">
                  <a:moveTo>
                    <a:pt x="2092" y="0"/>
                  </a:moveTo>
                  <a:lnTo>
                    <a:pt x="2045" y="20"/>
                  </a:lnTo>
                  <a:lnTo>
                    <a:pt x="0" y="2059"/>
                  </a:lnTo>
                  <a:lnTo>
                    <a:pt x="93" y="2153"/>
                  </a:lnTo>
                  <a:lnTo>
                    <a:pt x="2139" y="114"/>
                  </a:lnTo>
                  <a:lnTo>
                    <a:pt x="2092" y="0"/>
                  </a:lnTo>
                  <a:lnTo>
                    <a:pt x="2139" y="114"/>
                  </a:lnTo>
                  <a:lnTo>
                    <a:pt x="2249" y="2"/>
                  </a:lnTo>
                  <a:lnTo>
                    <a:pt x="2092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55640" y="4573800"/>
              <a:ext cx="573120" cy="12600"/>
            </a:xfrm>
            <a:custGeom>
              <a:avLst/>
              <a:gdLst/>
              <a:ahLst/>
              <a:rect l="l" t="t" r="r" b="b"/>
              <a:pathLst>
                <a:path w="8301" h="194">
                  <a:moveTo>
                    <a:pt x="0" y="20"/>
                  </a:moveTo>
                  <a:lnTo>
                    <a:pt x="48" y="133"/>
                  </a:lnTo>
                  <a:lnTo>
                    <a:pt x="8301" y="194"/>
                  </a:lnTo>
                  <a:lnTo>
                    <a:pt x="8301" y="62"/>
                  </a:lnTo>
                  <a:lnTo>
                    <a:pt x="48" y="0"/>
                  </a:lnTo>
                  <a:lnTo>
                    <a:pt x="0" y="20"/>
                  </a:lnTo>
                  <a:lnTo>
                    <a:pt x="48" y="0"/>
                  </a:lnTo>
                  <a:lnTo>
                    <a:pt x="2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187280" y="4583160"/>
              <a:ext cx="141480" cy="1113120"/>
            </a:xfrm>
            <a:custGeom>
              <a:avLst/>
              <a:gdLst/>
              <a:ahLst/>
              <a:rect l="l" t="t" r="r" b="b"/>
              <a:pathLst>
                <a:path w="2045" h="16135">
                  <a:moveTo>
                    <a:pt x="2045" y="14083"/>
                  </a:moveTo>
                  <a:lnTo>
                    <a:pt x="2045" y="0"/>
                  </a:lnTo>
                  <a:lnTo>
                    <a:pt x="0" y="2052"/>
                  </a:lnTo>
                  <a:lnTo>
                    <a:pt x="0" y="16135"/>
                  </a:lnTo>
                  <a:lnTo>
                    <a:pt x="2045" y="14083"/>
                  </a:lnTo>
                  <a:close/>
                </a:path>
              </a:pathLst>
            </a:custGeom>
            <a:solidFill>
              <a:srgbClr val="00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323720" y="4572000"/>
              <a:ext cx="9720" cy="982800"/>
            </a:xfrm>
            <a:custGeom>
              <a:avLst/>
              <a:gdLst/>
              <a:ahLst/>
              <a:rect l="l" t="t" r="r" b="b"/>
              <a:pathLst>
                <a:path w="133" h="14243">
                  <a:moveTo>
                    <a:pt x="20" y="113"/>
                  </a:moveTo>
                  <a:lnTo>
                    <a:pt x="0" y="160"/>
                  </a:lnTo>
                  <a:lnTo>
                    <a:pt x="0" y="14243"/>
                  </a:lnTo>
                  <a:lnTo>
                    <a:pt x="133" y="14243"/>
                  </a:lnTo>
                  <a:lnTo>
                    <a:pt x="133" y="160"/>
                  </a:lnTo>
                  <a:lnTo>
                    <a:pt x="20" y="113"/>
                  </a:lnTo>
                  <a:lnTo>
                    <a:pt x="133" y="160"/>
                  </a:lnTo>
                  <a:lnTo>
                    <a:pt x="133" y="0"/>
                  </a:lnTo>
                  <a:lnTo>
                    <a:pt x="20" y="113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182600" y="4579920"/>
              <a:ext cx="149040" cy="147960"/>
            </a:xfrm>
            <a:custGeom>
              <a:avLst/>
              <a:gdLst/>
              <a:ahLst/>
              <a:rect l="l" t="t" r="r" b="b"/>
              <a:pathLst>
                <a:path w="2158" h="2146">
                  <a:moveTo>
                    <a:pt x="0" y="2099"/>
                  </a:moveTo>
                  <a:lnTo>
                    <a:pt x="113" y="2146"/>
                  </a:lnTo>
                  <a:lnTo>
                    <a:pt x="2158" y="93"/>
                  </a:lnTo>
                  <a:lnTo>
                    <a:pt x="2064" y="0"/>
                  </a:lnTo>
                  <a:lnTo>
                    <a:pt x="19" y="2053"/>
                  </a:lnTo>
                  <a:lnTo>
                    <a:pt x="0" y="2099"/>
                  </a:lnTo>
                  <a:lnTo>
                    <a:pt x="19" y="2053"/>
                  </a:lnTo>
                  <a:lnTo>
                    <a:pt x="0" y="2073"/>
                  </a:lnTo>
                  <a:lnTo>
                    <a:pt x="0" y="2099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182600" y="4724640"/>
              <a:ext cx="9360" cy="982440"/>
            </a:xfrm>
            <a:custGeom>
              <a:avLst/>
              <a:gdLst/>
              <a:ahLst/>
              <a:rect l="l" t="t" r="r" b="b"/>
              <a:pathLst>
                <a:path w="132" h="14242">
                  <a:moveTo>
                    <a:pt x="113" y="14130"/>
                  </a:moveTo>
                  <a:lnTo>
                    <a:pt x="132" y="14083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0" y="14083"/>
                  </a:lnTo>
                  <a:lnTo>
                    <a:pt x="113" y="14130"/>
                  </a:lnTo>
                  <a:lnTo>
                    <a:pt x="0" y="14083"/>
                  </a:lnTo>
                  <a:lnTo>
                    <a:pt x="0" y="14242"/>
                  </a:lnTo>
                  <a:lnTo>
                    <a:pt x="113" y="1413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184040" y="5551560"/>
              <a:ext cx="149400" cy="147600"/>
            </a:xfrm>
            <a:custGeom>
              <a:avLst/>
              <a:gdLst/>
              <a:ahLst/>
              <a:rect l="l" t="t" r="r" b="b"/>
              <a:pathLst>
                <a:path w="2158" h="2146">
                  <a:moveTo>
                    <a:pt x="2158" y="47"/>
                  </a:moveTo>
                  <a:lnTo>
                    <a:pt x="2045" y="0"/>
                  </a:lnTo>
                  <a:lnTo>
                    <a:pt x="0" y="2052"/>
                  </a:lnTo>
                  <a:lnTo>
                    <a:pt x="94" y="2146"/>
                  </a:lnTo>
                  <a:lnTo>
                    <a:pt x="2139" y="94"/>
                  </a:lnTo>
                  <a:lnTo>
                    <a:pt x="2158" y="47"/>
                  </a:lnTo>
                  <a:lnTo>
                    <a:pt x="2139" y="94"/>
                  </a:lnTo>
                  <a:lnTo>
                    <a:pt x="2158" y="75"/>
                  </a:lnTo>
                  <a:lnTo>
                    <a:pt x="2158" y="47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31800" y="4743720"/>
              <a:ext cx="542880" cy="933480"/>
            </a:xfrm>
            <a:custGeom>
              <a:avLst/>
              <a:gdLst/>
              <a:ahLst/>
              <a:rect l="l" t="t" r="r" b="b"/>
              <a:pathLst>
                <a:path w="7880" h="13518">
                  <a:moveTo>
                    <a:pt x="3940" y="0"/>
                  </a:moveTo>
                  <a:lnTo>
                    <a:pt x="0" y="6759"/>
                  </a:lnTo>
                  <a:lnTo>
                    <a:pt x="3940" y="13518"/>
                  </a:lnTo>
                  <a:lnTo>
                    <a:pt x="7880" y="6759"/>
                  </a:lnTo>
                  <a:lnTo>
                    <a:pt x="3940" y="0"/>
                  </a:lnTo>
                  <a:close/>
                </a:path>
              </a:pathLst>
            </a:custGeom>
            <a:solidFill>
              <a:srgbClr val="009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28560" y="4741920"/>
              <a:ext cx="276120" cy="470160"/>
            </a:xfrm>
            <a:custGeom>
              <a:avLst/>
              <a:gdLst/>
              <a:ahLst/>
              <a:rect l="l" t="t" r="r" b="b"/>
              <a:pathLst>
                <a:path w="4007" h="6793">
                  <a:moveTo>
                    <a:pt x="10" y="6793"/>
                  </a:moveTo>
                  <a:lnTo>
                    <a:pt x="67" y="6793"/>
                  </a:lnTo>
                  <a:lnTo>
                    <a:pt x="4007" y="34"/>
                  </a:lnTo>
                  <a:lnTo>
                    <a:pt x="3950" y="0"/>
                  </a:lnTo>
                  <a:lnTo>
                    <a:pt x="10" y="6759"/>
                  </a:lnTo>
                  <a:lnTo>
                    <a:pt x="10" y="6793"/>
                  </a:lnTo>
                  <a:lnTo>
                    <a:pt x="10" y="6759"/>
                  </a:lnTo>
                  <a:lnTo>
                    <a:pt x="0" y="6776"/>
                  </a:lnTo>
                  <a:lnTo>
                    <a:pt x="10" y="6793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30000" y="5208840"/>
              <a:ext cx="274680" cy="473040"/>
            </a:xfrm>
            <a:custGeom>
              <a:avLst/>
              <a:gdLst/>
              <a:ahLst/>
              <a:rect l="l" t="t" r="r" b="b"/>
              <a:pathLst>
                <a:path w="3997" h="6841">
                  <a:moveTo>
                    <a:pt x="3997" y="6792"/>
                  </a:moveTo>
                  <a:lnTo>
                    <a:pt x="3997" y="6759"/>
                  </a:lnTo>
                  <a:lnTo>
                    <a:pt x="57" y="0"/>
                  </a:lnTo>
                  <a:lnTo>
                    <a:pt x="0" y="34"/>
                  </a:lnTo>
                  <a:lnTo>
                    <a:pt x="3940" y="6792"/>
                  </a:lnTo>
                  <a:lnTo>
                    <a:pt x="3997" y="6792"/>
                  </a:lnTo>
                  <a:lnTo>
                    <a:pt x="3940" y="6792"/>
                  </a:lnTo>
                  <a:lnTo>
                    <a:pt x="3968" y="6841"/>
                  </a:lnTo>
                  <a:lnTo>
                    <a:pt x="3997" y="6792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901440" y="5208840"/>
              <a:ext cx="276480" cy="468360"/>
            </a:xfrm>
            <a:custGeom>
              <a:avLst/>
              <a:gdLst/>
              <a:ahLst/>
              <a:rect l="l" t="t" r="r" b="b"/>
              <a:pathLst>
                <a:path w="4006" h="6792">
                  <a:moveTo>
                    <a:pt x="3996" y="0"/>
                  </a:moveTo>
                  <a:lnTo>
                    <a:pt x="3939" y="0"/>
                  </a:lnTo>
                  <a:lnTo>
                    <a:pt x="0" y="6759"/>
                  </a:lnTo>
                  <a:lnTo>
                    <a:pt x="57" y="6792"/>
                  </a:lnTo>
                  <a:lnTo>
                    <a:pt x="3996" y="34"/>
                  </a:lnTo>
                  <a:lnTo>
                    <a:pt x="3996" y="0"/>
                  </a:lnTo>
                  <a:lnTo>
                    <a:pt x="3996" y="34"/>
                  </a:lnTo>
                  <a:lnTo>
                    <a:pt x="4006" y="17"/>
                  </a:lnTo>
                  <a:lnTo>
                    <a:pt x="3996" y="0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901440" y="4738680"/>
              <a:ext cx="276480" cy="473400"/>
            </a:xfrm>
            <a:custGeom>
              <a:avLst/>
              <a:gdLst/>
              <a:ahLst/>
              <a:rect l="l" t="t" r="r" b="b"/>
              <a:pathLst>
                <a:path w="3996" h="6842">
                  <a:moveTo>
                    <a:pt x="0" y="49"/>
                  </a:moveTo>
                  <a:lnTo>
                    <a:pt x="0" y="83"/>
                  </a:lnTo>
                  <a:lnTo>
                    <a:pt x="3939" y="6842"/>
                  </a:lnTo>
                  <a:lnTo>
                    <a:pt x="3996" y="6808"/>
                  </a:lnTo>
                  <a:lnTo>
                    <a:pt x="57" y="49"/>
                  </a:lnTo>
                  <a:lnTo>
                    <a:pt x="0" y="49"/>
                  </a:lnTo>
                  <a:lnTo>
                    <a:pt x="57" y="49"/>
                  </a:lnTo>
                  <a:lnTo>
                    <a:pt x="28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dc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44480" y="5253120"/>
              <a:ext cx="306360" cy="173160"/>
            </a:xfrm>
            <a:custGeom>
              <a:avLst/>
              <a:gdLst/>
              <a:ahLst/>
              <a:rect l="l" t="t" r="r" b="b"/>
              <a:pathLst>
                <a:path w="4419" h="2517">
                  <a:moveTo>
                    <a:pt x="1862" y="832"/>
                  </a:moveTo>
                  <a:lnTo>
                    <a:pt x="2779" y="3"/>
                  </a:lnTo>
                  <a:lnTo>
                    <a:pt x="2615" y="1"/>
                  </a:lnTo>
                  <a:lnTo>
                    <a:pt x="2460" y="0"/>
                  </a:lnTo>
                  <a:lnTo>
                    <a:pt x="2314" y="0"/>
                  </a:lnTo>
                  <a:lnTo>
                    <a:pt x="2176" y="1"/>
                  </a:lnTo>
                  <a:lnTo>
                    <a:pt x="2045" y="3"/>
                  </a:lnTo>
                  <a:lnTo>
                    <a:pt x="1919" y="6"/>
                  </a:lnTo>
                  <a:lnTo>
                    <a:pt x="1800" y="9"/>
                  </a:lnTo>
                  <a:lnTo>
                    <a:pt x="1685" y="14"/>
                  </a:lnTo>
                  <a:lnTo>
                    <a:pt x="1573" y="19"/>
                  </a:lnTo>
                  <a:lnTo>
                    <a:pt x="1464" y="25"/>
                  </a:lnTo>
                  <a:lnTo>
                    <a:pt x="1357" y="31"/>
                  </a:lnTo>
                  <a:lnTo>
                    <a:pt x="1251" y="39"/>
                  </a:lnTo>
                  <a:lnTo>
                    <a:pt x="1145" y="47"/>
                  </a:lnTo>
                  <a:lnTo>
                    <a:pt x="1039" y="55"/>
                  </a:lnTo>
                  <a:lnTo>
                    <a:pt x="932" y="64"/>
                  </a:lnTo>
                  <a:lnTo>
                    <a:pt x="822" y="73"/>
                  </a:lnTo>
                  <a:lnTo>
                    <a:pt x="768" y="271"/>
                  </a:lnTo>
                  <a:lnTo>
                    <a:pt x="716" y="459"/>
                  </a:lnTo>
                  <a:lnTo>
                    <a:pt x="664" y="639"/>
                  </a:lnTo>
                  <a:lnTo>
                    <a:pt x="613" y="810"/>
                  </a:lnTo>
                  <a:lnTo>
                    <a:pt x="562" y="973"/>
                  </a:lnTo>
                  <a:lnTo>
                    <a:pt x="512" y="1132"/>
                  </a:lnTo>
                  <a:lnTo>
                    <a:pt x="462" y="1283"/>
                  </a:lnTo>
                  <a:lnTo>
                    <a:pt x="412" y="1430"/>
                  </a:lnTo>
                  <a:lnTo>
                    <a:pt x="362" y="1573"/>
                  </a:lnTo>
                  <a:lnTo>
                    <a:pt x="312" y="1711"/>
                  </a:lnTo>
                  <a:lnTo>
                    <a:pt x="261" y="1847"/>
                  </a:lnTo>
                  <a:lnTo>
                    <a:pt x="210" y="1982"/>
                  </a:lnTo>
                  <a:lnTo>
                    <a:pt x="159" y="2116"/>
                  </a:lnTo>
                  <a:lnTo>
                    <a:pt x="107" y="2248"/>
                  </a:lnTo>
                  <a:lnTo>
                    <a:pt x="54" y="2382"/>
                  </a:lnTo>
                  <a:lnTo>
                    <a:pt x="0" y="2517"/>
                  </a:lnTo>
                  <a:lnTo>
                    <a:pt x="960" y="1648"/>
                  </a:lnTo>
                  <a:lnTo>
                    <a:pt x="1025" y="1707"/>
                  </a:lnTo>
                  <a:lnTo>
                    <a:pt x="1090" y="1762"/>
                  </a:lnTo>
                  <a:lnTo>
                    <a:pt x="1156" y="1814"/>
                  </a:lnTo>
                  <a:lnTo>
                    <a:pt x="1224" y="1864"/>
                  </a:lnTo>
                  <a:lnTo>
                    <a:pt x="1292" y="1911"/>
                  </a:lnTo>
                  <a:lnTo>
                    <a:pt x="1360" y="1955"/>
                  </a:lnTo>
                  <a:lnTo>
                    <a:pt x="1430" y="1997"/>
                  </a:lnTo>
                  <a:lnTo>
                    <a:pt x="1499" y="2036"/>
                  </a:lnTo>
                  <a:lnTo>
                    <a:pt x="1569" y="2072"/>
                  </a:lnTo>
                  <a:lnTo>
                    <a:pt x="1640" y="2104"/>
                  </a:lnTo>
                  <a:lnTo>
                    <a:pt x="1711" y="2134"/>
                  </a:lnTo>
                  <a:lnTo>
                    <a:pt x="1783" y="2161"/>
                  </a:lnTo>
                  <a:lnTo>
                    <a:pt x="1855" y="2186"/>
                  </a:lnTo>
                  <a:lnTo>
                    <a:pt x="1926" y="2207"/>
                  </a:lnTo>
                  <a:lnTo>
                    <a:pt x="1999" y="2227"/>
                  </a:lnTo>
                  <a:lnTo>
                    <a:pt x="2071" y="2242"/>
                  </a:lnTo>
                  <a:lnTo>
                    <a:pt x="2144" y="2255"/>
                  </a:lnTo>
                  <a:lnTo>
                    <a:pt x="2216" y="2266"/>
                  </a:lnTo>
                  <a:lnTo>
                    <a:pt x="2288" y="2274"/>
                  </a:lnTo>
                  <a:lnTo>
                    <a:pt x="2361" y="2278"/>
                  </a:lnTo>
                  <a:lnTo>
                    <a:pt x="2433" y="2280"/>
                  </a:lnTo>
                  <a:lnTo>
                    <a:pt x="2504" y="2279"/>
                  </a:lnTo>
                  <a:lnTo>
                    <a:pt x="2577" y="2276"/>
                  </a:lnTo>
                  <a:lnTo>
                    <a:pt x="2648" y="2269"/>
                  </a:lnTo>
                  <a:lnTo>
                    <a:pt x="2720" y="2259"/>
                  </a:lnTo>
                  <a:lnTo>
                    <a:pt x="2790" y="2247"/>
                  </a:lnTo>
                  <a:lnTo>
                    <a:pt x="2860" y="2232"/>
                  </a:lnTo>
                  <a:lnTo>
                    <a:pt x="2931" y="2213"/>
                  </a:lnTo>
                  <a:lnTo>
                    <a:pt x="3000" y="2193"/>
                  </a:lnTo>
                  <a:lnTo>
                    <a:pt x="3068" y="2170"/>
                  </a:lnTo>
                  <a:lnTo>
                    <a:pt x="3137" y="2143"/>
                  </a:lnTo>
                  <a:lnTo>
                    <a:pt x="3204" y="2113"/>
                  </a:lnTo>
                  <a:lnTo>
                    <a:pt x="3219" y="2100"/>
                  </a:lnTo>
                  <a:lnTo>
                    <a:pt x="3236" y="2088"/>
                  </a:lnTo>
                  <a:lnTo>
                    <a:pt x="3251" y="2075"/>
                  </a:lnTo>
                  <a:lnTo>
                    <a:pt x="3266" y="2061"/>
                  </a:lnTo>
                  <a:lnTo>
                    <a:pt x="4419" y="1019"/>
                  </a:lnTo>
                  <a:lnTo>
                    <a:pt x="4349" y="1080"/>
                  </a:lnTo>
                  <a:lnTo>
                    <a:pt x="4278" y="1136"/>
                  </a:lnTo>
                  <a:lnTo>
                    <a:pt x="4204" y="1187"/>
                  </a:lnTo>
                  <a:lnTo>
                    <a:pt x="4130" y="1235"/>
                  </a:lnTo>
                  <a:lnTo>
                    <a:pt x="4053" y="1278"/>
                  </a:lnTo>
                  <a:lnTo>
                    <a:pt x="3976" y="1316"/>
                  </a:lnTo>
                  <a:lnTo>
                    <a:pt x="3897" y="1351"/>
                  </a:lnTo>
                  <a:lnTo>
                    <a:pt x="3819" y="1382"/>
                  </a:lnTo>
                  <a:lnTo>
                    <a:pt x="3738" y="1408"/>
                  </a:lnTo>
                  <a:lnTo>
                    <a:pt x="3657" y="1430"/>
                  </a:lnTo>
                  <a:lnTo>
                    <a:pt x="3575" y="1447"/>
                  </a:lnTo>
                  <a:lnTo>
                    <a:pt x="3493" y="1460"/>
                  </a:lnTo>
                  <a:lnTo>
                    <a:pt x="3409" y="1469"/>
                  </a:lnTo>
                  <a:lnTo>
                    <a:pt x="3325" y="1475"/>
                  </a:lnTo>
                  <a:lnTo>
                    <a:pt x="3242" y="1475"/>
                  </a:lnTo>
                  <a:lnTo>
                    <a:pt x="3157" y="1472"/>
                  </a:lnTo>
                  <a:lnTo>
                    <a:pt x="3072" y="1463"/>
                  </a:lnTo>
                  <a:lnTo>
                    <a:pt x="2989" y="1451"/>
                  </a:lnTo>
                  <a:lnTo>
                    <a:pt x="2904" y="1435"/>
                  </a:lnTo>
                  <a:lnTo>
                    <a:pt x="2820" y="1413"/>
                  </a:lnTo>
                  <a:lnTo>
                    <a:pt x="2736" y="1389"/>
                  </a:lnTo>
                  <a:lnTo>
                    <a:pt x="2652" y="1359"/>
                  </a:lnTo>
                  <a:lnTo>
                    <a:pt x="2570" y="1326"/>
                  </a:lnTo>
                  <a:lnTo>
                    <a:pt x="2487" y="1288"/>
                  </a:lnTo>
                  <a:lnTo>
                    <a:pt x="2406" y="1246"/>
                  </a:lnTo>
                  <a:lnTo>
                    <a:pt x="2325" y="1199"/>
                  </a:lnTo>
                  <a:lnTo>
                    <a:pt x="2244" y="1149"/>
                  </a:lnTo>
                  <a:lnTo>
                    <a:pt x="2166" y="1094"/>
                  </a:lnTo>
                  <a:lnTo>
                    <a:pt x="2087" y="1035"/>
                  </a:lnTo>
                  <a:lnTo>
                    <a:pt x="2011" y="971"/>
                  </a:lnTo>
                  <a:lnTo>
                    <a:pt x="1935" y="904"/>
                  </a:lnTo>
                  <a:lnTo>
                    <a:pt x="1862" y="8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71560" y="5249880"/>
              <a:ext cx="71280" cy="61920"/>
            </a:xfrm>
            <a:custGeom>
              <a:avLst/>
              <a:gdLst/>
              <a:ahLst/>
              <a:rect l="l" t="t" r="r" b="b"/>
              <a:pathLst>
                <a:path w="1021" h="887">
                  <a:moveTo>
                    <a:pt x="940" y="0"/>
                  </a:moveTo>
                  <a:lnTo>
                    <a:pt x="917" y="9"/>
                  </a:lnTo>
                  <a:lnTo>
                    <a:pt x="0" y="838"/>
                  </a:lnTo>
                  <a:lnTo>
                    <a:pt x="43" y="887"/>
                  </a:lnTo>
                  <a:lnTo>
                    <a:pt x="961" y="58"/>
                  </a:lnTo>
                  <a:lnTo>
                    <a:pt x="940" y="0"/>
                  </a:lnTo>
                  <a:lnTo>
                    <a:pt x="961" y="58"/>
                  </a:lnTo>
                  <a:lnTo>
                    <a:pt x="1021" y="2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99920" y="5249880"/>
              <a:ext cx="136440" cy="9720"/>
            </a:xfrm>
            <a:custGeom>
              <a:avLst/>
              <a:gdLst/>
              <a:ahLst/>
              <a:rect l="l" t="t" r="r" b="b"/>
              <a:pathLst>
                <a:path w="1991" h="141">
                  <a:moveTo>
                    <a:pt x="65" y="116"/>
                  </a:moveTo>
                  <a:lnTo>
                    <a:pt x="35" y="141"/>
                  </a:lnTo>
                  <a:lnTo>
                    <a:pt x="145" y="132"/>
                  </a:lnTo>
                  <a:lnTo>
                    <a:pt x="253" y="123"/>
                  </a:lnTo>
                  <a:lnTo>
                    <a:pt x="359" y="114"/>
                  </a:lnTo>
                  <a:lnTo>
                    <a:pt x="464" y="106"/>
                  </a:lnTo>
                  <a:lnTo>
                    <a:pt x="570" y="99"/>
                  </a:lnTo>
                  <a:lnTo>
                    <a:pt x="677" y="92"/>
                  </a:lnTo>
                  <a:lnTo>
                    <a:pt x="785" y="86"/>
                  </a:lnTo>
                  <a:lnTo>
                    <a:pt x="897" y="81"/>
                  </a:lnTo>
                  <a:lnTo>
                    <a:pt x="1012" y="77"/>
                  </a:lnTo>
                  <a:lnTo>
                    <a:pt x="1131" y="73"/>
                  </a:lnTo>
                  <a:lnTo>
                    <a:pt x="1256" y="69"/>
                  </a:lnTo>
                  <a:lnTo>
                    <a:pt x="1387" y="67"/>
                  </a:lnTo>
                  <a:lnTo>
                    <a:pt x="1525" y="66"/>
                  </a:lnTo>
                  <a:lnTo>
                    <a:pt x="1671" y="66"/>
                  </a:lnTo>
                  <a:lnTo>
                    <a:pt x="1826" y="67"/>
                  </a:lnTo>
                  <a:lnTo>
                    <a:pt x="1990" y="69"/>
                  </a:lnTo>
                  <a:lnTo>
                    <a:pt x="1991" y="3"/>
                  </a:lnTo>
                  <a:lnTo>
                    <a:pt x="1826" y="1"/>
                  </a:lnTo>
                  <a:lnTo>
                    <a:pt x="1671" y="0"/>
                  </a:lnTo>
                  <a:lnTo>
                    <a:pt x="1525" y="0"/>
                  </a:lnTo>
                  <a:lnTo>
                    <a:pt x="1386" y="1"/>
                  </a:lnTo>
                  <a:lnTo>
                    <a:pt x="1255" y="4"/>
                  </a:lnTo>
                  <a:lnTo>
                    <a:pt x="1130" y="6"/>
                  </a:lnTo>
                  <a:lnTo>
                    <a:pt x="1010" y="10"/>
                  </a:lnTo>
                  <a:lnTo>
                    <a:pt x="895" y="14"/>
                  </a:lnTo>
                  <a:lnTo>
                    <a:pt x="782" y="20"/>
                  </a:lnTo>
                  <a:lnTo>
                    <a:pt x="673" y="26"/>
                  </a:lnTo>
                  <a:lnTo>
                    <a:pt x="566" y="33"/>
                  </a:lnTo>
                  <a:lnTo>
                    <a:pt x="460" y="40"/>
                  </a:lnTo>
                  <a:lnTo>
                    <a:pt x="354" y="48"/>
                  </a:lnTo>
                  <a:lnTo>
                    <a:pt x="248" y="56"/>
                  </a:lnTo>
                  <a:lnTo>
                    <a:pt x="140" y="65"/>
                  </a:lnTo>
                  <a:lnTo>
                    <a:pt x="30" y="75"/>
                  </a:lnTo>
                  <a:lnTo>
                    <a:pt x="0" y="99"/>
                  </a:lnTo>
                  <a:lnTo>
                    <a:pt x="30" y="75"/>
                  </a:lnTo>
                  <a:lnTo>
                    <a:pt x="6" y="77"/>
                  </a:lnTo>
                  <a:lnTo>
                    <a:pt x="0" y="99"/>
                  </a:lnTo>
                  <a:lnTo>
                    <a:pt x="65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39800" y="5256360"/>
              <a:ext cx="64800" cy="177840"/>
            </a:xfrm>
            <a:custGeom>
              <a:avLst/>
              <a:gdLst/>
              <a:ahLst/>
              <a:rect l="l" t="t" r="r" b="b"/>
              <a:pathLst>
                <a:path w="934" h="2565">
                  <a:moveTo>
                    <a:pt x="58" y="2427"/>
                  </a:moveTo>
                  <a:lnTo>
                    <a:pt x="111" y="2464"/>
                  </a:lnTo>
                  <a:lnTo>
                    <a:pt x="165" y="2329"/>
                  </a:lnTo>
                  <a:lnTo>
                    <a:pt x="218" y="2195"/>
                  </a:lnTo>
                  <a:lnTo>
                    <a:pt x="270" y="2063"/>
                  </a:lnTo>
                  <a:lnTo>
                    <a:pt x="321" y="1929"/>
                  </a:lnTo>
                  <a:lnTo>
                    <a:pt x="372" y="1794"/>
                  </a:lnTo>
                  <a:lnTo>
                    <a:pt x="423" y="1658"/>
                  </a:lnTo>
                  <a:lnTo>
                    <a:pt x="473" y="1518"/>
                  </a:lnTo>
                  <a:lnTo>
                    <a:pt x="523" y="1375"/>
                  </a:lnTo>
                  <a:lnTo>
                    <a:pt x="574" y="1228"/>
                  </a:lnTo>
                  <a:lnTo>
                    <a:pt x="624" y="1077"/>
                  </a:lnTo>
                  <a:lnTo>
                    <a:pt x="674" y="919"/>
                  </a:lnTo>
                  <a:lnTo>
                    <a:pt x="724" y="754"/>
                  </a:lnTo>
                  <a:lnTo>
                    <a:pt x="775" y="583"/>
                  </a:lnTo>
                  <a:lnTo>
                    <a:pt x="827" y="403"/>
                  </a:lnTo>
                  <a:lnTo>
                    <a:pt x="879" y="215"/>
                  </a:lnTo>
                  <a:lnTo>
                    <a:pt x="934" y="17"/>
                  </a:lnTo>
                  <a:lnTo>
                    <a:pt x="869" y="0"/>
                  </a:lnTo>
                  <a:lnTo>
                    <a:pt x="816" y="198"/>
                  </a:lnTo>
                  <a:lnTo>
                    <a:pt x="764" y="386"/>
                  </a:lnTo>
                  <a:lnTo>
                    <a:pt x="712" y="564"/>
                  </a:lnTo>
                  <a:lnTo>
                    <a:pt x="661" y="735"/>
                  </a:lnTo>
                  <a:lnTo>
                    <a:pt x="610" y="899"/>
                  </a:lnTo>
                  <a:lnTo>
                    <a:pt x="560" y="1056"/>
                  </a:lnTo>
                  <a:lnTo>
                    <a:pt x="510" y="1207"/>
                  </a:lnTo>
                  <a:lnTo>
                    <a:pt x="460" y="1353"/>
                  </a:lnTo>
                  <a:lnTo>
                    <a:pt x="410" y="1496"/>
                  </a:lnTo>
                  <a:lnTo>
                    <a:pt x="360" y="1635"/>
                  </a:lnTo>
                  <a:lnTo>
                    <a:pt x="310" y="1771"/>
                  </a:lnTo>
                  <a:lnTo>
                    <a:pt x="259" y="1906"/>
                  </a:lnTo>
                  <a:lnTo>
                    <a:pt x="207" y="2038"/>
                  </a:lnTo>
                  <a:lnTo>
                    <a:pt x="155" y="2172"/>
                  </a:lnTo>
                  <a:lnTo>
                    <a:pt x="102" y="2305"/>
                  </a:lnTo>
                  <a:lnTo>
                    <a:pt x="49" y="2439"/>
                  </a:lnTo>
                  <a:lnTo>
                    <a:pt x="101" y="2476"/>
                  </a:lnTo>
                  <a:lnTo>
                    <a:pt x="49" y="2439"/>
                  </a:lnTo>
                  <a:lnTo>
                    <a:pt x="0" y="2565"/>
                  </a:lnTo>
                  <a:lnTo>
                    <a:pt x="101" y="2476"/>
                  </a:lnTo>
                  <a:lnTo>
                    <a:pt x="58" y="24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42680" y="5362560"/>
              <a:ext cx="69840" cy="65160"/>
            </a:xfrm>
            <a:custGeom>
              <a:avLst/>
              <a:gdLst/>
              <a:ahLst/>
              <a:rect l="l" t="t" r="r" b="b"/>
              <a:pathLst>
                <a:path w="1004" h="937">
                  <a:moveTo>
                    <a:pt x="1004" y="21"/>
                  </a:moveTo>
                  <a:lnTo>
                    <a:pt x="960" y="20"/>
                  </a:lnTo>
                  <a:lnTo>
                    <a:pt x="0" y="888"/>
                  </a:lnTo>
                  <a:lnTo>
                    <a:pt x="43" y="937"/>
                  </a:lnTo>
                  <a:lnTo>
                    <a:pt x="1004" y="69"/>
                  </a:lnTo>
                  <a:lnTo>
                    <a:pt x="1004" y="21"/>
                  </a:lnTo>
                  <a:lnTo>
                    <a:pt x="1004" y="21"/>
                  </a:lnTo>
                  <a:lnTo>
                    <a:pt x="983" y="0"/>
                  </a:lnTo>
                  <a:lnTo>
                    <a:pt x="960" y="20"/>
                  </a:lnTo>
                  <a:lnTo>
                    <a:pt x="100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09640" y="5364360"/>
              <a:ext cx="158760" cy="47520"/>
            </a:xfrm>
            <a:custGeom>
              <a:avLst/>
              <a:gdLst/>
              <a:ahLst/>
              <a:rect l="l" t="t" r="r" b="b"/>
              <a:pathLst>
                <a:path w="2288" h="689">
                  <a:moveTo>
                    <a:pt x="2246" y="463"/>
                  </a:moveTo>
                  <a:lnTo>
                    <a:pt x="2253" y="458"/>
                  </a:lnTo>
                  <a:lnTo>
                    <a:pt x="2220" y="473"/>
                  </a:lnTo>
                  <a:lnTo>
                    <a:pt x="2187" y="487"/>
                  </a:lnTo>
                  <a:lnTo>
                    <a:pt x="2154" y="501"/>
                  </a:lnTo>
                  <a:lnTo>
                    <a:pt x="2120" y="513"/>
                  </a:lnTo>
                  <a:lnTo>
                    <a:pt x="2087" y="525"/>
                  </a:lnTo>
                  <a:lnTo>
                    <a:pt x="2053" y="536"/>
                  </a:lnTo>
                  <a:lnTo>
                    <a:pt x="2018" y="547"/>
                  </a:lnTo>
                  <a:lnTo>
                    <a:pt x="1985" y="557"/>
                  </a:lnTo>
                  <a:lnTo>
                    <a:pt x="1950" y="566"/>
                  </a:lnTo>
                  <a:lnTo>
                    <a:pt x="1916" y="574"/>
                  </a:lnTo>
                  <a:lnTo>
                    <a:pt x="1882" y="582"/>
                  </a:lnTo>
                  <a:lnTo>
                    <a:pt x="1847" y="590"/>
                  </a:lnTo>
                  <a:lnTo>
                    <a:pt x="1812" y="596"/>
                  </a:lnTo>
                  <a:lnTo>
                    <a:pt x="1778" y="602"/>
                  </a:lnTo>
                  <a:lnTo>
                    <a:pt x="1743" y="607"/>
                  </a:lnTo>
                  <a:lnTo>
                    <a:pt x="1707" y="611"/>
                  </a:lnTo>
                  <a:lnTo>
                    <a:pt x="1673" y="614"/>
                  </a:lnTo>
                  <a:lnTo>
                    <a:pt x="1637" y="617"/>
                  </a:lnTo>
                  <a:lnTo>
                    <a:pt x="1602" y="619"/>
                  </a:lnTo>
                  <a:lnTo>
                    <a:pt x="1566" y="621"/>
                  </a:lnTo>
                  <a:lnTo>
                    <a:pt x="1532" y="622"/>
                  </a:lnTo>
                  <a:lnTo>
                    <a:pt x="1496" y="622"/>
                  </a:lnTo>
                  <a:lnTo>
                    <a:pt x="1460" y="621"/>
                  </a:lnTo>
                  <a:lnTo>
                    <a:pt x="1425" y="620"/>
                  </a:lnTo>
                  <a:lnTo>
                    <a:pt x="1389" y="618"/>
                  </a:lnTo>
                  <a:lnTo>
                    <a:pt x="1354" y="616"/>
                  </a:lnTo>
                  <a:lnTo>
                    <a:pt x="1319" y="612"/>
                  </a:lnTo>
                  <a:lnTo>
                    <a:pt x="1283" y="608"/>
                  </a:lnTo>
                  <a:lnTo>
                    <a:pt x="1247" y="604"/>
                  </a:lnTo>
                  <a:lnTo>
                    <a:pt x="1212" y="598"/>
                  </a:lnTo>
                  <a:lnTo>
                    <a:pt x="1176" y="592"/>
                  </a:lnTo>
                  <a:lnTo>
                    <a:pt x="1140" y="585"/>
                  </a:lnTo>
                  <a:lnTo>
                    <a:pt x="1105" y="577"/>
                  </a:lnTo>
                  <a:lnTo>
                    <a:pt x="1069" y="569"/>
                  </a:lnTo>
                  <a:lnTo>
                    <a:pt x="1034" y="561"/>
                  </a:lnTo>
                  <a:lnTo>
                    <a:pt x="998" y="551"/>
                  </a:lnTo>
                  <a:lnTo>
                    <a:pt x="963" y="541"/>
                  </a:lnTo>
                  <a:lnTo>
                    <a:pt x="927" y="529"/>
                  </a:lnTo>
                  <a:lnTo>
                    <a:pt x="892" y="518"/>
                  </a:lnTo>
                  <a:lnTo>
                    <a:pt x="857" y="506"/>
                  </a:lnTo>
                  <a:lnTo>
                    <a:pt x="822" y="493"/>
                  </a:lnTo>
                  <a:lnTo>
                    <a:pt x="786" y="478"/>
                  </a:lnTo>
                  <a:lnTo>
                    <a:pt x="752" y="464"/>
                  </a:lnTo>
                  <a:lnTo>
                    <a:pt x="716" y="449"/>
                  </a:lnTo>
                  <a:lnTo>
                    <a:pt x="681" y="433"/>
                  </a:lnTo>
                  <a:lnTo>
                    <a:pt x="647" y="416"/>
                  </a:lnTo>
                  <a:lnTo>
                    <a:pt x="612" y="400"/>
                  </a:lnTo>
                  <a:lnTo>
                    <a:pt x="577" y="381"/>
                  </a:lnTo>
                  <a:lnTo>
                    <a:pt x="544" y="363"/>
                  </a:lnTo>
                  <a:lnTo>
                    <a:pt x="509" y="344"/>
                  </a:lnTo>
                  <a:lnTo>
                    <a:pt x="474" y="323"/>
                  </a:lnTo>
                  <a:lnTo>
                    <a:pt x="441" y="303"/>
                  </a:lnTo>
                  <a:lnTo>
                    <a:pt x="407" y="281"/>
                  </a:lnTo>
                  <a:lnTo>
                    <a:pt x="373" y="259"/>
                  </a:lnTo>
                  <a:lnTo>
                    <a:pt x="340" y="236"/>
                  </a:lnTo>
                  <a:lnTo>
                    <a:pt x="306" y="213"/>
                  </a:lnTo>
                  <a:lnTo>
                    <a:pt x="272" y="188"/>
                  </a:lnTo>
                  <a:lnTo>
                    <a:pt x="240" y="164"/>
                  </a:lnTo>
                  <a:lnTo>
                    <a:pt x="207" y="138"/>
                  </a:lnTo>
                  <a:lnTo>
                    <a:pt x="175" y="112"/>
                  </a:lnTo>
                  <a:lnTo>
                    <a:pt x="142" y="84"/>
                  </a:lnTo>
                  <a:lnTo>
                    <a:pt x="109" y="57"/>
                  </a:lnTo>
                  <a:lnTo>
                    <a:pt x="78" y="28"/>
                  </a:lnTo>
                  <a:lnTo>
                    <a:pt x="45" y="0"/>
                  </a:lnTo>
                  <a:lnTo>
                    <a:pt x="0" y="48"/>
                  </a:lnTo>
                  <a:lnTo>
                    <a:pt x="33" y="77"/>
                  </a:lnTo>
                  <a:lnTo>
                    <a:pt x="66" y="107"/>
                  </a:lnTo>
                  <a:lnTo>
                    <a:pt x="99" y="135"/>
                  </a:lnTo>
                  <a:lnTo>
                    <a:pt x="133" y="163"/>
                  </a:lnTo>
                  <a:lnTo>
                    <a:pt x="166" y="189"/>
                  </a:lnTo>
                  <a:lnTo>
                    <a:pt x="200" y="216"/>
                  </a:lnTo>
                  <a:lnTo>
                    <a:pt x="234" y="241"/>
                  </a:lnTo>
                  <a:lnTo>
                    <a:pt x="267" y="266"/>
                  </a:lnTo>
                  <a:lnTo>
                    <a:pt x="302" y="290"/>
                  </a:lnTo>
                  <a:lnTo>
                    <a:pt x="337" y="314"/>
                  </a:lnTo>
                  <a:lnTo>
                    <a:pt x="371" y="336"/>
                  </a:lnTo>
                  <a:lnTo>
                    <a:pt x="406" y="359"/>
                  </a:lnTo>
                  <a:lnTo>
                    <a:pt x="441" y="380"/>
                  </a:lnTo>
                  <a:lnTo>
                    <a:pt x="476" y="401"/>
                  </a:lnTo>
                  <a:lnTo>
                    <a:pt x="511" y="421"/>
                  </a:lnTo>
                  <a:lnTo>
                    <a:pt x="547" y="439"/>
                  </a:lnTo>
                  <a:lnTo>
                    <a:pt x="582" y="458"/>
                  </a:lnTo>
                  <a:lnTo>
                    <a:pt x="618" y="476"/>
                  </a:lnTo>
                  <a:lnTo>
                    <a:pt x="654" y="494"/>
                  </a:lnTo>
                  <a:lnTo>
                    <a:pt x="689" y="510"/>
                  </a:lnTo>
                  <a:lnTo>
                    <a:pt x="726" y="525"/>
                  </a:lnTo>
                  <a:lnTo>
                    <a:pt x="762" y="540"/>
                  </a:lnTo>
                  <a:lnTo>
                    <a:pt x="799" y="554"/>
                  </a:lnTo>
                  <a:lnTo>
                    <a:pt x="834" y="568"/>
                  </a:lnTo>
                  <a:lnTo>
                    <a:pt x="871" y="580"/>
                  </a:lnTo>
                  <a:lnTo>
                    <a:pt x="908" y="593"/>
                  </a:lnTo>
                  <a:lnTo>
                    <a:pt x="944" y="604"/>
                  </a:lnTo>
                  <a:lnTo>
                    <a:pt x="980" y="615"/>
                  </a:lnTo>
                  <a:lnTo>
                    <a:pt x="1017" y="624"/>
                  </a:lnTo>
                  <a:lnTo>
                    <a:pt x="1054" y="633"/>
                  </a:lnTo>
                  <a:lnTo>
                    <a:pt x="1090" y="643"/>
                  </a:lnTo>
                  <a:lnTo>
                    <a:pt x="1128" y="650"/>
                  </a:lnTo>
                  <a:lnTo>
                    <a:pt x="1165" y="657"/>
                  </a:lnTo>
                  <a:lnTo>
                    <a:pt x="1201" y="663"/>
                  </a:lnTo>
                  <a:lnTo>
                    <a:pt x="1238" y="669"/>
                  </a:lnTo>
                  <a:lnTo>
                    <a:pt x="1275" y="674"/>
                  </a:lnTo>
                  <a:lnTo>
                    <a:pt x="1312" y="678"/>
                  </a:lnTo>
                  <a:lnTo>
                    <a:pt x="1348" y="681"/>
                  </a:lnTo>
                  <a:lnTo>
                    <a:pt x="1385" y="684"/>
                  </a:lnTo>
                  <a:lnTo>
                    <a:pt x="1422" y="686"/>
                  </a:lnTo>
                  <a:lnTo>
                    <a:pt x="1458" y="687"/>
                  </a:lnTo>
                  <a:lnTo>
                    <a:pt x="1496" y="689"/>
                  </a:lnTo>
                  <a:lnTo>
                    <a:pt x="1532" y="689"/>
                  </a:lnTo>
                  <a:lnTo>
                    <a:pt x="1569" y="687"/>
                  </a:lnTo>
                  <a:lnTo>
                    <a:pt x="1605" y="685"/>
                  </a:lnTo>
                  <a:lnTo>
                    <a:pt x="1642" y="683"/>
                  </a:lnTo>
                  <a:lnTo>
                    <a:pt x="1679" y="680"/>
                  </a:lnTo>
                  <a:lnTo>
                    <a:pt x="1714" y="676"/>
                  </a:lnTo>
                  <a:lnTo>
                    <a:pt x="1751" y="672"/>
                  </a:lnTo>
                  <a:lnTo>
                    <a:pt x="1788" y="667"/>
                  </a:lnTo>
                  <a:lnTo>
                    <a:pt x="1823" y="661"/>
                  </a:lnTo>
                  <a:lnTo>
                    <a:pt x="1859" y="655"/>
                  </a:lnTo>
                  <a:lnTo>
                    <a:pt x="1895" y="647"/>
                  </a:lnTo>
                  <a:lnTo>
                    <a:pt x="1931" y="640"/>
                  </a:lnTo>
                  <a:lnTo>
                    <a:pt x="1966" y="630"/>
                  </a:lnTo>
                  <a:lnTo>
                    <a:pt x="2002" y="620"/>
                  </a:lnTo>
                  <a:lnTo>
                    <a:pt x="2038" y="611"/>
                  </a:lnTo>
                  <a:lnTo>
                    <a:pt x="2073" y="600"/>
                  </a:lnTo>
                  <a:lnTo>
                    <a:pt x="2108" y="587"/>
                  </a:lnTo>
                  <a:lnTo>
                    <a:pt x="2143" y="575"/>
                  </a:lnTo>
                  <a:lnTo>
                    <a:pt x="2177" y="562"/>
                  </a:lnTo>
                  <a:lnTo>
                    <a:pt x="2212" y="549"/>
                  </a:lnTo>
                  <a:lnTo>
                    <a:pt x="2247" y="533"/>
                  </a:lnTo>
                  <a:lnTo>
                    <a:pt x="2280" y="518"/>
                  </a:lnTo>
                  <a:lnTo>
                    <a:pt x="2288" y="514"/>
                  </a:lnTo>
                  <a:lnTo>
                    <a:pt x="2280" y="518"/>
                  </a:lnTo>
                  <a:lnTo>
                    <a:pt x="2285" y="516"/>
                  </a:lnTo>
                  <a:lnTo>
                    <a:pt x="2288" y="514"/>
                  </a:lnTo>
                  <a:lnTo>
                    <a:pt x="2246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965160" y="5392800"/>
              <a:ext cx="6120" cy="792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61" y="0"/>
                  </a:moveTo>
                  <a:lnTo>
                    <a:pt x="62" y="0"/>
                  </a:lnTo>
                  <a:lnTo>
                    <a:pt x="47" y="12"/>
                  </a:lnTo>
                  <a:lnTo>
                    <a:pt x="32" y="24"/>
                  </a:lnTo>
                  <a:lnTo>
                    <a:pt x="16" y="38"/>
                  </a:lnTo>
                  <a:lnTo>
                    <a:pt x="0" y="51"/>
                  </a:lnTo>
                  <a:lnTo>
                    <a:pt x="42" y="102"/>
                  </a:lnTo>
                  <a:lnTo>
                    <a:pt x="58" y="89"/>
                  </a:lnTo>
                  <a:lnTo>
                    <a:pt x="73" y="76"/>
                  </a:lnTo>
                  <a:lnTo>
                    <a:pt x="89" y="63"/>
                  </a:lnTo>
                  <a:lnTo>
                    <a:pt x="106" y="50"/>
                  </a:lnTo>
                  <a:lnTo>
                    <a:pt x="106" y="49"/>
                  </a:lnTo>
                  <a:lnTo>
                    <a:pt x="106" y="50"/>
                  </a:lnTo>
                  <a:lnTo>
                    <a:pt x="106" y="49"/>
                  </a:lnTo>
                  <a:lnTo>
                    <a:pt x="106" y="4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968400" y="5321520"/>
              <a:ext cx="82440" cy="74520"/>
            </a:xfrm>
            <a:custGeom>
              <a:avLst/>
              <a:gdLst/>
              <a:ahLst/>
              <a:rect l="l" t="t" r="r" b="b"/>
              <a:pathLst>
                <a:path w="1197" h="1091">
                  <a:moveTo>
                    <a:pt x="1153" y="0"/>
                  </a:moveTo>
                  <a:lnTo>
                    <a:pt x="1153" y="0"/>
                  </a:lnTo>
                  <a:lnTo>
                    <a:pt x="0" y="1042"/>
                  </a:lnTo>
                  <a:lnTo>
                    <a:pt x="45" y="1091"/>
                  </a:lnTo>
                  <a:lnTo>
                    <a:pt x="1197" y="49"/>
                  </a:lnTo>
                  <a:lnTo>
                    <a:pt x="1153" y="0"/>
                  </a:lnTo>
                  <a:lnTo>
                    <a:pt x="1197" y="49"/>
                  </a:lnTo>
                  <a:lnTo>
                    <a:pt x="1175" y="24"/>
                  </a:lnTo>
                  <a:lnTo>
                    <a:pt x="115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69760" y="5308920"/>
              <a:ext cx="181080" cy="47520"/>
            </a:xfrm>
            <a:custGeom>
              <a:avLst/>
              <a:gdLst/>
              <a:ahLst/>
              <a:rect l="l" t="t" r="r" b="b"/>
              <a:pathLst>
                <a:path w="2627" h="701">
                  <a:moveTo>
                    <a:pt x="26" y="0"/>
                  </a:moveTo>
                  <a:lnTo>
                    <a:pt x="25" y="48"/>
                  </a:lnTo>
                  <a:lnTo>
                    <a:pt x="61" y="85"/>
                  </a:lnTo>
                  <a:lnTo>
                    <a:pt x="99" y="122"/>
                  </a:lnTo>
                  <a:lnTo>
                    <a:pt x="137" y="156"/>
                  </a:lnTo>
                  <a:lnTo>
                    <a:pt x="176" y="190"/>
                  </a:lnTo>
                  <a:lnTo>
                    <a:pt x="214" y="223"/>
                  </a:lnTo>
                  <a:lnTo>
                    <a:pt x="253" y="254"/>
                  </a:lnTo>
                  <a:lnTo>
                    <a:pt x="293" y="284"/>
                  </a:lnTo>
                  <a:lnTo>
                    <a:pt x="333" y="313"/>
                  </a:lnTo>
                  <a:lnTo>
                    <a:pt x="372" y="342"/>
                  </a:lnTo>
                  <a:lnTo>
                    <a:pt x="412" y="370"/>
                  </a:lnTo>
                  <a:lnTo>
                    <a:pt x="453" y="395"/>
                  </a:lnTo>
                  <a:lnTo>
                    <a:pt x="494" y="421"/>
                  </a:lnTo>
                  <a:lnTo>
                    <a:pt x="534" y="445"/>
                  </a:lnTo>
                  <a:lnTo>
                    <a:pt x="576" y="468"/>
                  </a:lnTo>
                  <a:lnTo>
                    <a:pt x="617" y="490"/>
                  </a:lnTo>
                  <a:lnTo>
                    <a:pt x="659" y="510"/>
                  </a:lnTo>
                  <a:lnTo>
                    <a:pt x="701" y="530"/>
                  </a:lnTo>
                  <a:lnTo>
                    <a:pt x="742" y="549"/>
                  </a:lnTo>
                  <a:lnTo>
                    <a:pt x="785" y="567"/>
                  </a:lnTo>
                  <a:lnTo>
                    <a:pt x="827" y="583"/>
                  </a:lnTo>
                  <a:lnTo>
                    <a:pt x="870" y="598"/>
                  </a:lnTo>
                  <a:lnTo>
                    <a:pt x="912" y="612"/>
                  </a:lnTo>
                  <a:lnTo>
                    <a:pt x="955" y="626"/>
                  </a:lnTo>
                  <a:lnTo>
                    <a:pt x="997" y="638"/>
                  </a:lnTo>
                  <a:lnTo>
                    <a:pt x="1040" y="649"/>
                  </a:lnTo>
                  <a:lnTo>
                    <a:pt x="1083" y="659"/>
                  </a:lnTo>
                  <a:lnTo>
                    <a:pt x="1126" y="669"/>
                  </a:lnTo>
                  <a:lnTo>
                    <a:pt x="1169" y="677"/>
                  </a:lnTo>
                  <a:lnTo>
                    <a:pt x="1212" y="683"/>
                  </a:lnTo>
                  <a:lnTo>
                    <a:pt x="1254" y="689"/>
                  </a:lnTo>
                  <a:lnTo>
                    <a:pt x="1298" y="693"/>
                  </a:lnTo>
                  <a:lnTo>
                    <a:pt x="1341" y="697"/>
                  </a:lnTo>
                  <a:lnTo>
                    <a:pt x="1384" y="699"/>
                  </a:lnTo>
                  <a:lnTo>
                    <a:pt x="1427" y="701"/>
                  </a:lnTo>
                  <a:lnTo>
                    <a:pt x="1470" y="701"/>
                  </a:lnTo>
                  <a:lnTo>
                    <a:pt x="1512" y="700"/>
                  </a:lnTo>
                  <a:lnTo>
                    <a:pt x="1555" y="698"/>
                  </a:lnTo>
                  <a:lnTo>
                    <a:pt x="1598" y="695"/>
                  </a:lnTo>
                  <a:lnTo>
                    <a:pt x="1640" y="691"/>
                  </a:lnTo>
                  <a:lnTo>
                    <a:pt x="1683" y="686"/>
                  </a:lnTo>
                  <a:lnTo>
                    <a:pt x="1725" y="680"/>
                  </a:lnTo>
                  <a:lnTo>
                    <a:pt x="1767" y="673"/>
                  </a:lnTo>
                  <a:lnTo>
                    <a:pt x="1809" y="665"/>
                  </a:lnTo>
                  <a:lnTo>
                    <a:pt x="1851" y="654"/>
                  </a:lnTo>
                  <a:lnTo>
                    <a:pt x="1892" y="644"/>
                  </a:lnTo>
                  <a:lnTo>
                    <a:pt x="1934" y="633"/>
                  </a:lnTo>
                  <a:lnTo>
                    <a:pt x="1974" y="620"/>
                  </a:lnTo>
                  <a:lnTo>
                    <a:pt x="2015" y="606"/>
                  </a:lnTo>
                  <a:lnTo>
                    <a:pt x="2056" y="591"/>
                  </a:lnTo>
                  <a:lnTo>
                    <a:pt x="2097" y="575"/>
                  </a:lnTo>
                  <a:lnTo>
                    <a:pt x="2136" y="558"/>
                  </a:lnTo>
                  <a:lnTo>
                    <a:pt x="2176" y="540"/>
                  </a:lnTo>
                  <a:lnTo>
                    <a:pt x="2216" y="521"/>
                  </a:lnTo>
                  <a:lnTo>
                    <a:pt x="2255" y="500"/>
                  </a:lnTo>
                  <a:lnTo>
                    <a:pt x="2295" y="479"/>
                  </a:lnTo>
                  <a:lnTo>
                    <a:pt x="2332" y="456"/>
                  </a:lnTo>
                  <a:lnTo>
                    <a:pt x="2371" y="433"/>
                  </a:lnTo>
                  <a:lnTo>
                    <a:pt x="2409" y="407"/>
                  </a:lnTo>
                  <a:lnTo>
                    <a:pt x="2446" y="382"/>
                  </a:lnTo>
                  <a:lnTo>
                    <a:pt x="2483" y="355"/>
                  </a:lnTo>
                  <a:lnTo>
                    <a:pt x="2520" y="327"/>
                  </a:lnTo>
                  <a:lnTo>
                    <a:pt x="2556" y="298"/>
                  </a:lnTo>
                  <a:lnTo>
                    <a:pt x="2591" y="267"/>
                  </a:lnTo>
                  <a:lnTo>
                    <a:pt x="2627" y="237"/>
                  </a:lnTo>
                  <a:lnTo>
                    <a:pt x="2583" y="188"/>
                  </a:lnTo>
                  <a:lnTo>
                    <a:pt x="2548" y="217"/>
                  </a:lnTo>
                  <a:lnTo>
                    <a:pt x="2514" y="247"/>
                  </a:lnTo>
                  <a:lnTo>
                    <a:pt x="2479" y="275"/>
                  </a:lnTo>
                  <a:lnTo>
                    <a:pt x="2443" y="302"/>
                  </a:lnTo>
                  <a:lnTo>
                    <a:pt x="2408" y="328"/>
                  </a:lnTo>
                  <a:lnTo>
                    <a:pt x="2372" y="352"/>
                  </a:lnTo>
                  <a:lnTo>
                    <a:pt x="2335" y="377"/>
                  </a:lnTo>
                  <a:lnTo>
                    <a:pt x="2299" y="399"/>
                  </a:lnTo>
                  <a:lnTo>
                    <a:pt x="2262" y="421"/>
                  </a:lnTo>
                  <a:lnTo>
                    <a:pt x="2224" y="442"/>
                  </a:lnTo>
                  <a:lnTo>
                    <a:pt x="2186" y="461"/>
                  </a:lnTo>
                  <a:lnTo>
                    <a:pt x="2149" y="480"/>
                  </a:lnTo>
                  <a:lnTo>
                    <a:pt x="2110" y="497"/>
                  </a:lnTo>
                  <a:lnTo>
                    <a:pt x="2071" y="513"/>
                  </a:lnTo>
                  <a:lnTo>
                    <a:pt x="2032" y="529"/>
                  </a:lnTo>
                  <a:lnTo>
                    <a:pt x="1994" y="543"/>
                  </a:lnTo>
                  <a:lnTo>
                    <a:pt x="1954" y="557"/>
                  </a:lnTo>
                  <a:lnTo>
                    <a:pt x="1915" y="570"/>
                  </a:lnTo>
                  <a:lnTo>
                    <a:pt x="1875" y="581"/>
                  </a:lnTo>
                  <a:lnTo>
                    <a:pt x="1836" y="591"/>
                  </a:lnTo>
                  <a:lnTo>
                    <a:pt x="1795" y="599"/>
                  </a:lnTo>
                  <a:lnTo>
                    <a:pt x="1755" y="607"/>
                  </a:lnTo>
                  <a:lnTo>
                    <a:pt x="1714" y="614"/>
                  </a:lnTo>
                  <a:lnTo>
                    <a:pt x="1674" y="621"/>
                  </a:lnTo>
                  <a:lnTo>
                    <a:pt x="1633" y="626"/>
                  </a:lnTo>
                  <a:lnTo>
                    <a:pt x="1592" y="630"/>
                  </a:lnTo>
                  <a:lnTo>
                    <a:pt x="1551" y="633"/>
                  </a:lnTo>
                  <a:lnTo>
                    <a:pt x="1510" y="634"/>
                  </a:lnTo>
                  <a:lnTo>
                    <a:pt x="1470" y="635"/>
                  </a:lnTo>
                  <a:lnTo>
                    <a:pt x="1428" y="635"/>
                  </a:lnTo>
                  <a:lnTo>
                    <a:pt x="1387" y="634"/>
                  </a:lnTo>
                  <a:lnTo>
                    <a:pt x="1345" y="631"/>
                  </a:lnTo>
                  <a:lnTo>
                    <a:pt x="1304" y="628"/>
                  </a:lnTo>
                  <a:lnTo>
                    <a:pt x="1263" y="624"/>
                  </a:lnTo>
                  <a:lnTo>
                    <a:pt x="1221" y="618"/>
                  </a:lnTo>
                  <a:lnTo>
                    <a:pt x="1180" y="611"/>
                  </a:lnTo>
                  <a:lnTo>
                    <a:pt x="1138" y="603"/>
                  </a:lnTo>
                  <a:lnTo>
                    <a:pt x="1097" y="595"/>
                  </a:lnTo>
                  <a:lnTo>
                    <a:pt x="1056" y="585"/>
                  </a:lnTo>
                  <a:lnTo>
                    <a:pt x="1015" y="575"/>
                  </a:lnTo>
                  <a:lnTo>
                    <a:pt x="973" y="562"/>
                  </a:lnTo>
                  <a:lnTo>
                    <a:pt x="932" y="550"/>
                  </a:lnTo>
                  <a:lnTo>
                    <a:pt x="891" y="536"/>
                  </a:lnTo>
                  <a:lnTo>
                    <a:pt x="851" y="522"/>
                  </a:lnTo>
                  <a:lnTo>
                    <a:pt x="810" y="505"/>
                  </a:lnTo>
                  <a:lnTo>
                    <a:pt x="769" y="488"/>
                  </a:lnTo>
                  <a:lnTo>
                    <a:pt x="728" y="471"/>
                  </a:lnTo>
                  <a:lnTo>
                    <a:pt x="687" y="451"/>
                  </a:lnTo>
                  <a:lnTo>
                    <a:pt x="648" y="431"/>
                  </a:lnTo>
                  <a:lnTo>
                    <a:pt x="608" y="409"/>
                  </a:lnTo>
                  <a:lnTo>
                    <a:pt x="567" y="387"/>
                  </a:lnTo>
                  <a:lnTo>
                    <a:pt x="527" y="364"/>
                  </a:lnTo>
                  <a:lnTo>
                    <a:pt x="489" y="340"/>
                  </a:lnTo>
                  <a:lnTo>
                    <a:pt x="449" y="314"/>
                  </a:lnTo>
                  <a:lnTo>
                    <a:pt x="410" y="288"/>
                  </a:lnTo>
                  <a:lnTo>
                    <a:pt x="371" y="260"/>
                  </a:lnTo>
                  <a:lnTo>
                    <a:pt x="333" y="232"/>
                  </a:lnTo>
                  <a:lnTo>
                    <a:pt x="294" y="202"/>
                  </a:lnTo>
                  <a:lnTo>
                    <a:pt x="256" y="172"/>
                  </a:lnTo>
                  <a:lnTo>
                    <a:pt x="218" y="139"/>
                  </a:lnTo>
                  <a:lnTo>
                    <a:pt x="182" y="106"/>
                  </a:lnTo>
                  <a:lnTo>
                    <a:pt x="144" y="73"/>
                  </a:lnTo>
                  <a:lnTo>
                    <a:pt x="107" y="38"/>
                  </a:lnTo>
                  <a:lnTo>
                    <a:pt x="72" y="2"/>
                  </a:lnTo>
                  <a:lnTo>
                    <a:pt x="69" y="49"/>
                  </a:lnTo>
                  <a:lnTo>
                    <a:pt x="26" y="0"/>
                  </a:lnTo>
                  <a:lnTo>
                    <a:pt x="0" y="24"/>
                  </a:lnTo>
                  <a:lnTo>
                    <a:pt x="25" y="4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30080" y="4999320"/>
              <a:ext cx="136440" cy="279360"/>
            </a:xfrm>
            <a:custGeom>
              <a:avLst/>
              <a:gdLst/>
              <a:ahLst/>
              <a:rect l="l" t="t" r="r" b="b"/>
              <a:pathLst>
                <a:path w="1982" h="4050">
                  <a:moveTo>
                    <a:pt x="1268" y="3033"/>
                  </a:moveTo>
                  <a:lnTo>
                    <a:pt x="1247" y="2945"/>
                  </a:lnTo>
                  <a:lnTo>
                    <a:pt x="1228" y="2857"/>
                  </a:lnTo>
                  <a:lnTo>
                    <a:pt x="1211" y="2769"/>
                  </a:lnTo>
                  <a:lnTo>
                    <a:pt x="1196" y="2681"/>
                  </a:lnTo>
                  <a:lnTo>
                    <a:pt x="1184" y="2592"/>
                  </a:lnTo>
                  <a:lnTo>
                    <a:pt x="1172" y="2503"/>
                  </a:lnTo>
                  <a:lnTo>
                    <a:pt x="1164" y="2414"/>
                  </a:lnTo>
                  <a:lnTo>
                    <a:pt x="1158" y="2325"/>
                  </a:lnTo>
                  <a:lnTo>
                    <a:pt x="1154" y="2236"/>
                  </a:lnTo>
                  <a:lnTo>
                    <a:pt x="1152" y="2147"/>
                  </a:lnTo>
                  <a:lnTo>
                    <a:pt x="1153" y="2058"/>
                  </a:lnTo>
                  <a:lnTo>
                    <a:pt x="1155" y="1969"/>
                  </a:lnTo>
                  <a:lnTo>
                    <a:pt x="1159" y="1881"/>
                  </a:lnTo>
                  <a:lnTo>
                    <a:pt x="1166" y="1794"/>
                  </a:lnTo>
                  <a:lnTo>
                    <a:pt x="1176" y="1706"/>
                  </a:lnTo>
                  <a:lnTo>
                    <a:pt x="1187" y="1619"/>
                  </a:lnTo>
                  <a:lnTo>
                    <a:pt x="1200" y="1532"/>
                  </a:lnTo>
                  <a:lnTo>
                    <a:pt x="1215" y="1447"/>
                  </a:lnTo>
                  <a:lnTo>
                    <a:pt x="1234" y="1362"/>
                  </a:lnTo>
                  <a:lnTo>
                    <a:pt x="1253" y="1278"/>
                  </a:lnTo>
                  <a:lnTo>
                    <a:pt x="1275" y="1195"/>
                  </a:lnTo>
                  <a:lnTo>
                    <a:pt x="1300" y="1113"/>
                  </a:lnTo>
                  <a:lnTo>
                    <a:pt x="1326" y="1031"/>
                  </a:lnTo>
                  <a:lnTo>
                    <a:pt x="1356" y="952"/>
                  </a:lnTo>
                  <a:lnTo>
                    <a:pt x="1387" y="872"/>
                  </a:lnTo>
                  <a:lnTo>
                    <a:pt x="1420" y="794"/>
                  </a:lnTo>
                  <a:lnTo>
                    <a:pt x="1456" y="718"/>
                  </a:lnTo>
                  <a:lnTo>
                    <a:pt x="1494" y="643"/>
                  </a:lnTo>
                  <a:lnTo>
                    <a:pt x="1533" y="570"/>
                  </a:lnTo>
                  <a:lnTo>
                    <a:pt x="1575" y="497"/>
                  </a:lnTo>
                  <a:lnTo>
                    <a:pt x="1620" y="427"/>
                  </a:lnTo>
                  <a:lnTo>
                    <a:pt x="1667" y="359"/>
                  </a:lnTo>
                  <a:lnTo>
                    <a:pt x="1704" y="309"/>
                  </a:lnTo>
                  <a:lnTo>
                    <a:pt x="1741" y="260"/>
                  </a:lnTo>
                  <a:lnTo>
                    <a:pt x="1779" y="213"/>
                  </a:lnTo>
                  <a:lnTo>
                    <a:pt x="1819" y="167"/>
                  </a:lnTo>
                  <a:lnTo>
                    <a:pt x="1859" y="123"/>
                  </a:lnTo>
                  <a:lnTo>
                    <a:pt x="1899" y="80"/>
                  </a:lnTo>
                  <a:lnTo>
                    <a:pt x="1940" y="40"/>
                  </a:lnTo>
                  <a:lnTo>
                    <a:pt x="1982" y="0"/>
                  </a:lnTo>
                  <a:lnTo>
                    <a:pt x="830" y="1044"/>
                  </a:lnTo>
                  <a:lnTo>
                    <a:pt x="787" y="1082"/>
                  </a:lnTo>
                  <a:lnTo>
                    <a:pt x="746" y="1123"/>
                  </a:lnTo>
                  <a:lnTo>
                    <a:pt x="705" y="1166"/>
                  </a:lnTo>
                  <a:lnTo>
                    <a:pt x="666" y="1210"/>
                  </a:lnTo>
                  <a:lnTo>
                    <a:pt x="627" y="1256"/>
                  </a:lnTo>
                  <a:lnTo>
                    <a:pt x="588" y="1303"/>
                  </a:lnTo>
                  <a:lnTo>
                    <a:pt x="550" y="1352"/>
                  </a:lnTo>
                  <a:lnTo>
                    <a:pt x="515" y="1402"/>
                  </a:lnTo>
                  <a:lnTo>
                    <a:pt x="468" y="1470"/>
                  </a:lnTo>
                  <a:lnTo>
                    <a:pt x="424" y="1540"/>
                  </a:lnTo>
                  <a:lnTo>
                    <a:pt x="381" y="1611"/>
                  </a:lnTo>
                  <a:lnTo>
                    <a:pt x="341" y="1683"/>
                  </a:lnTo>
                  <a:lnTo>
                    <a:pt x="304" y="1758"/>
                  </a:lnTo>
                  <a:lnTo>
                    <a:pt x="269" y="1833"/>
                  </a:lnTo>
                  <a:lnTo>
                    <a:pt x="235" y="1910"/>
                  </a:lnTo>
                  <a:lnTo>
                    <a:pt x="205" y="1989"/>
                  </a:lnTo>
                  <a:lnTo>
                    <a:pt x="176" y="2068"/>
                  </a:lnTo>
                  <a:lnTo>
                    <a:pt x="150" y="2148"/>
                  </a:lnTo>
                  <a:lnTo>
                    <a:pt x="125" y="2229"/>
                  </a:lnTo>
                  <a:lnTo>
                    <a:pt x="103" y="2312"/>
                  </a:lnTo>
                  <a:lnTo>
                    <a:pt x="82" y="2395"/>
                  </a:lnTo>
                  <a:lnTo>
                    <a:pt x="65" y="2480"/>
                  </a:lnTo>
                  <a:lnTo>
                    <a:pt x="49" y="2564"/>
                  </a:lnTo>
                  <a:lnTo>
                    <a:pt x="35" y="2650"/>
                  </a:lnTo>
                  <a:lnTo>
                    <a:pt x="24" y="2736"/>
                  </a:lnTo>
                  <a:lnTo>
                    <a:pt x="15" y="2822"/>
                  </a:lnTo>
                  <a:lnTo>
                    <a:pt x="8" y="2909"/>
                  </a:lnTo>
                  <a:lnTo>
                    <a:pt x="3" y="2997"/>
                  </a:lnTo>
                  <a:lnTo>
                    <a:pt x="0" y="3085"/>
                  </a:lnTo>
                  <a:lnTo>
                    <a:pt x="0" y="3173"/>
                  </a:lnTo>
                  <a:lnTo>
                    <a:pt x="1" y="3260"/>
                  </a:lnTo>
                  <a:lnTo>
                    <a:pt x="5" y="3349"/>
                  </a:lnTo>
                  <a:lnTo>
                    <a:pt x="10" y="3437"/>
                  </a:lnTo>
                  <a:lnTo>
                    <a:pt x="18" y="3526"/>
                  </a:lnTo>
                  <a:lnTo>
                    <a:pt x="28" y="3613"/>
                  </a:lnTo>
                  <a:lnTo>
                    <a:pt x="41" y="3701"/>
                  </a:lnTo>
                  <a:lnTo>
                    <a:pt x="55" y="3789"/>
                  </a:lnTo>
                  <a:lnTo>
                    <a:pt x="71" y="3877"/>
                  </a:lnTo>
                  <a:lnTo>
                    <a:pt x="90" y="3964"/>
                  </a:lnTo>
                  <a:lnTo>
                    <a:pt x="110" y="4050"/>
                  </a:lnTo>
                  <a:lnTo>
                    <a:pt x="1268" y="30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07840" y="5021280"/>
              <a:ext cx="39600" cy="187560"/>
            </a:xfrm>
            <a:custGeom>
              <a:avLst/>
              <a:gdLst/>
              <a:ahLst/>
              <a:rect l="l" t="t" r="r" b="b"/>
              <a:pathLst>
                <a:path w="575" h="2702">
                  <a:moveTo>
                    <a:pt x="521" y="0"/>
                  </a:moveTo>
                  <a:lnTo>
                    <a:pt x="521" y="0"/>
                  </a:lnTo>
                  <a:lnTo>
                    <a:pt x="497" y="35"/>
                  </a:lnTo>
                  <a:lnTo>
                    <a:pt x="474" y="71"/>
                  </a:lnTo>
                  <a:lnTo>
                    <a:pt x="450" y="105"/>
                  </a:lnTo>
                  <a:lnTo>
                    <a:pt x="429" y="142"/>
                  </a:lnTo>
                  <a:lnTo>
                    <a:pt x="406" y="178"/>
                  </a:lnTo>
                  <a:lnTo>
                    <a:pt x="386" y="215"/>
                  </a:lnTo>
                  <a:lnTo>
                    <a:pt x="364" y="251"/>
                  </a:lnTo>
                  <a:lnTo>
                    <a:pt x="345" y="289"/>
                  </a:lnTo>
                  <a:lnTo>
                    <a:pt x="326" y="327"/>
                  </a:lnTo>
                  <a:lnTo>
                    <a:pt x="306" y="365"/>
                  </a:lnTo>
                  <a:lnTo>
                    <a:pt x="288" y="403"/>
                  </a:lnTo>
                  <a:lnTo>
                    <a:pt x="271" y="442"/>
                  </a:lnTo>
                  <a:lnTo>
                    <a:pt x="253" y="481"/>
                  </a:lnTo>
                  <a:lnTo>
                    <a:pt x="237" y="521"/>
                  </a:lnTo>
                  <a:lnTo>
                    <a:pt x="221" y="561"/>
                  </a:lnTo>
                  <a:lnTo>
                    <a:pt x="205" y="600"/>
                  </a:lnTo>
                  <a:lnTo>
                    <a:pt x="191" y="641"/>
                  </a:lnTo>
                  <a:lnTo>
                    <a:pt x="176" y="682"/>
                  </a:lnTo>
                  <a:lnTo>
                    <a:pt x="163" y="723"/>
                  </a:lnTo>
                  <a:lnTo>
                    <a:pt x="149" y="764"/>
                  </a:lnTo>
                  <a:lnTo>
                    <a:pt x="137" y="806"/>
                  </a:lnTo>
                  <a:lnTo>
                    <a:pt x="125" y="847"/>
                  </a:lnTo>
                  <a:lnTo>
                    <a:pt x="114" y="889"/>
                  </a:lnTo>
                  <a:lnTo>
                    <a:pt x="102" y="931"/>
                  </a:lnTo>
                  <a:lnTo>
                    <a:pt x="92" y="973"/>
                  </a:lnTo>
                  <a:lnTo>
                    <a:pt x="82" y="1016"/>
                  </a:lnTo>
                  <a:lnTo>
                    <a:pt x="73" y="1059"/>
                  </a:lnTo>
                  <a:lnTo>
                    <a:pt x="64" y="1102"/>
                  </a:lnTo>
                  <a:lnTo>
                    <a:pt x="57" y="1145"/>
                  </a:lnTo>
                  <a:lnTo>
                    <a:pt x="48" y="1188"/>
                  </a:lnTo>
                  <a:lnTo>
                    <a:pt x="41" y="1232"/>
                  </a:lnTo>
                  <a:lnTo>
                    <a:pt x="35" y="1275"/>
                  </a:lnTo>
                  <a:lnTo>
                    <a:pt x="29" y="1319"/>
                  </a:lnTo>
                  <a:lnTo>
                    <a:pt x="24" y="1363"/>
                  </a:lnTo>
                  <a:lnTo>
                    <a:pt x="19" y="1408"/>
                  </a:lnTo>
                  <a:lnTo>
                    <a:pt x="15" y="1452"/>
                  </a:lnTo>
                  <a:lnTo>
                    <a:pt x="11" y="1495"/>
                  </a:lnTo>
                  <a:lnTo>
                    <a:pt x="8" y="1540"/>
                  </a:lnTo>
                  <a:lnTo>
                    <a:pt x="6" y="1585"/>
                  </a:lnTo>
                  <a:lnTo>
                    <a:pt x="4" y="1629"/>
                  </a:lnTo>
                  <a:lnTo>
                    <a:pt x="1" y="1674"/>
                  </a:lnTo>
                  <a:lnTo>
                    <a:pt x="0" y="1719"/>
                  </a:lnTo>
                  <a:lnTo>
                    <a:pt x="0" y="1764"/>
                  </a:lnTo>
                  <a:lnTo>
                    <a:pt x="0" y="1809"/>
                  </a:lnTo>
                  <a:lnTo>
                    <a:pt x="1" y="1854"/>
                  </a:lnTo>
                  <a:lnTo>
                    <a:pt x="2" y="1899"/>
                  </a:lnTo>
                  <a:lnTo>
                    <a:pt x="4" y="1944"/>
                  </a:lnTo>
                  <a:lnTo>
                    <a:pt x="7" y="1988"/>
                  </a:lnTo>
                  <a:lnTo>
                    <a:pt x="10" y="2033"/>
                  </a:lnTo>
                  <a:lnTo>
                    <a:pt x="13" y="2078"/>
                  </a:lnTo>
                  <a:lnTo>
                    <a:pt x="17" y="2123"/>
                  </a:lnTo>
                  <a:lnTo>
                    <a:pt x="21" y="2168"/>
                  </a:lnTo>
                  <a:lnTo>
                    <a:pt x="26" y="2213"/>
                  </a:lnTo>
                  <a:lnTo>
                    <a:pt x="32" y="2258"/>
                  </a:lnTo>
                  <a:lnTo>
                    <a:pt x="38" y="2303"/>
                  </a:lnTo>
                  <a:lnTo>
                    <a:pt x="44" y="2347"/>
                  </a:lnTo>
                  <a:lnTo>
                    <a:pt x="51" y="2392"/>
                  </a:lnTo>
                  <a:lnTo>
                    <a:pt x="60" y="2437"/>
                  </a:lnTo>
                  <a:lnTo>
                    <a:pt x="68" y="2480"/>
                  </a:lnTo>
                  <a:lnTo>
                    <a:pt x="77" y="2525"/>
                  </a:lnTo>
                  <a:lnTo>
                    <a:pt x="86" y="2569"/>
                  </a:lnTo>
                  <a:lnTo>
                    <a:pt x="96" y="2614"/>
                  </a:lnTo>
                  <a:lnTo>
                    <a:pt x="106" y="2658"/>
                  </a:lnTo>
                  <a:lnTo>
                    <a:pt x="118" y="2702"/>
                  </a:lnTo>
                  <a:lnTo>
                    <a:pt x="182" y="2686"/>
                  </a:lnTo>
                  <a:lnTo>
                    <a:pt x="171" y="2643"/>
                  </a:lnTo>
                  <a:lnTo>
                    <a:pt x="161" y="2599"/>
                  </a:lnTo>
                  <a:lnTo>
                    <a:pt x="150" y="2556"/>
                  </a:lnTo>
                  <a:lnTo>
                    <a:pt x="141" y="2512"/>
                  </a:lnTo>
                  <a:lnTo>
                    <a:pt x="133" y="2468"/>
                  </a:lnTo>
                  <a:lnTo>
                    <a:pt x="125" y="2424"/>
                  </a:lnTo>
                  <a:lnTo>
                    <a:pt x="117" y="2381"/>
                  </a:lnTo>
                  <a:lnTo>
                    <a:pt x="110" y="2336"/>
                  </a:lnTo>
                  <a:lnTo>
                    <a:pt x="103" y="2293"/>
                  </a:lnTo>
                  <a:lnTo>
                    <a:pt x="97" y="2249"/>
                  </a:lnTo>
                  <a:lnTo>
                    <a:pt x="92" y="2205"/>
                  </a:lnTo>
                  <a:lnTo>
                    <a:pt x="87" y="2161"/>
                  </a:lnTo>
                  <a:lnTo>
                    <a:pt x="82" y="2117"/>
                  </a:lnTo>
                  <a:lnTo>
                    <a:pt x="79" y="2073"/>
                  </a:lnTo>
                  <a:lnTo>
                    <a:pt x="75" y="2028"/>
                  </a:lnTo>
                  <a:lnTo>
                    <a:pt x="72" y="1984"/>
                  </a:lnTo>
                  <a:lnTo>
                    <a:pt x="70" y="1940"/>
                  </a:lnTo>
                  <a:lnTo>
                    <a:pt x="68" y="1896"/>
                  </a:lnTo>
                  <a:lnTo>
                    <a:pt x="67" y="1852"/>
                  </a:lnTo>
                  <a:lnTo>
                    <a:pt x="67" y="1808"/>
                  </a:lnTo>
                  <a:lnTo>
                    <a:pt x="67" y="1764"/>
                  </a:lnTo>
                  <a:lnTo>
                    <a:pt x="67" y="1720"/>
                  </a:lnTo>
                  <a:lnTo>
                    <a:pt x="68" y="1676"/>
                  </a:lnTo>
                  <a:lnTo>
                    <a:pt x="69" y="1632"/>
                  </a:lnTo>
                  <a:lnTo>
                    <a:pt x="71" y="1588"/>
                  </a:lnTo>
                  <a:lnTo>
                    <a:pt x="74" y="1544"/>
                  </a:lnTo>
                  <a:lnTo>
                    <a:pt x="77" y="1501"/>
                  </a:lnTo>
                  <a:lnTo>
                    <a:pt x="80" y="1458"/>
                  </a:lnTo>
                  <a:lnTo>
                    <a:pt x="84" y="1414"/>
                  </a:lnTo>
                  <a:lnTo>
                    <a:pt x="89" y="1371"/>
                  </a:lnTo>
                  <a:lnTo>
                    <a:pt x="94" y="1328"/>
                  </a:lnTo>
                  <a:lnTo>
                    <a:pt x="100" y="1284"/>
                  </a:lnTo>
                  <a:lnTo>
                    <a:pt x="106" y="1242"/>
                  </a:lnTo>
                  <a:lnTo>
                    <a:pt x="114" y="1200"/>
                  </a:lnTo>
                  <a:lnTo>
                    <a:pt x="121" y="1157"/>
                  </a:lnTo>
                  <a:lnTo>
                    <a:pt x="129" y="1115"/>
                  </a:lnTo>
                  <a:lnTo>
                    <a:pt x="137" y="1072"/>
                  </a:lnTo>
                  <a:lnTo>
                    <a:pt x="146" y="1030"/>
                  </a:lnTo>
                  <a:lnTo>
                    <a:pt x="156" y="988"/>
                  </a:lnTo>
                  <a:lnTo>
                    <a:pt x="167" y="947"/>
                  </a:lnTo>
                  <a:lnTo>
                    <a:pt x="177" y="906"/>
                  </a:lnTo>
                  <a:lnTo>
                    <a:pt x="188" y="865"/>
                  </a:lnTo>
                  <a:lnTo>
                    <a:pt x="200" y="824"/>
                  </a:lnTo>
                  <a:lnTo>
                    <a:pt x="213" y="783"/>
                  </a:lnTo>
                  <a:lnTo>
                    <a:pt x="226" y="743"/>
                  </a:lnTo>
                  <a:lnTo>
                    <a:pt x="239" y="703"/>
                  </a:lnTo>
                  <a:lnTo>
                    <a:pt x="253" y="664"/>
                  </a:lnTo>
                  <a:lnTo>
                    <a:pt x="268" y="624"/>
                  </a:lnTo>
                  <a:lnTo>
                    <a:pt x="283" y="585"/>
                  </a:lnTo>
                  <a:lnTo>
                    <a:pt x="298" y="546"/>
                  </a:lnTo>
                  <a:lnTo>
                    <a:pt x="315" y="508"/>
                  </a:lnTo>
                  <a:lnTo>
                    <a:pt x="331" y="469"/>
                  </a:lnTo>
                  <a:lnTo>
                    <a:pt x="348" y="431"/>
                  </a:lnTo>
                  <a:lnTo>
                    <a:pt x="367" y="393"/>
                  </a:lnTo>
                  <a:lnTo>
                    <a:pt x="385" y="356"/>
                  </a:lnTo>
                  <a:lnTo>
                    <a:pt x="403" y="320"/>
                  </a:lnTo>
                  <a:lnTo>
                    <a:pt x="423" y="283"/>
                  </a:lnTo>
                  <a:lnTo>
                    <a:pt x="443" y="247"/>
                  </a:lnTo>
                  <a:lnTo>
                    <a:pt x="463" y="212"/>
                  </a:lnTo>
                  <a:lnTo>
                    <a:pt x="485" y="176"/>
                  </a:lnTo>
                  <a:lnTo>
                    <a:pt x="506" y="141"/>
                  </a:lnTo>
                  <a:lnTo>
                    <a:pt x="529" y="106"/>
                  </a:lnTo>
                  <a:lnTo>
                    <a:pt x="551" y="73"/>
                  </a:lnTo>
                  <a:lnTo>
                    <a:pt x="575" y="39"/>
                  </a:lnTo>
                  <a:lnTo>
                    <a:pt x="575" y="39"/>
                  </a:lnTo>
                  <a:lnTo>
                    <a:pt x="521" y="0"/>
                  </a:lnTo>
                  <a:lnTo>
                    <a:pt x="521" y="0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42760" y="4997520"/>
              <a:ext cx="25560" cy="27000"/>
            </a:xfrm>
            <a:custGeom>
              <a:avLst/>
              <a:gdLst/>
              <a:ahLst/>
              <a:rect l="l" t="t" r="r" b="b"/>
              <a:pathLst>
                <a:path w="365" h="402">
                  <a:moveTo>
                    <a:pt x="365" y="49"/>
                  </a:moveTo>
                  <a:lnTo>
                    <a:pt x="320" y="0"/>
                  </a:lnTo>
                  <a:lnTo>
                    <a:pt x="277" y="40"/>
                  </a:lnTo>
                  <a:lnTo>
                    <a:pt x="235" y="82"/>
                  </a:lnTo>
                  <a:lnTo>
                    <a:pt x="194" y="124"/>
                  </a:lnTo>
                  <a:lnTo>
                    <a:pt x="153" y="169"/>
                  </a:lnTo>
                  <a:lnTo>
                    <a:pt x="114" y="215"/>
                  </a:lnTo>
                  <a:lnTo>
                    <a:pt x="75" y="263"/>
                  </a:lnTo>
                  <a:lnTo>
                    <a:pt x="37" y="312"/>
                  </a:lnTo>
                  <a:lnTo>
                    <a:pt x="0" y="363"/>
                  </a:lnTo>
                  <a:lnTo>
                    <a:pt x="54" y="402"/>
                  </a:lnTo>
                  <a:lnTo>
                    <a:pt x="90" y="352"/>
                  </a:lnTo>
                  <a:lnTo>
                    <a:pt x="127" y="304"/>
                  </a:lnTo>
                  <a:lnTo>
                    <a:pt x="165" y="258"/>
                  </a:lnTo>
                  <a:lnTo>
                    <a:pt x="203" y="212"/>
                  </a:lnTo>
                  <a:lnTo>
                    <a:pt x="242" y="169"/>
                  </a:lnTo>
                  <a:lnTo>
                    <a:pt x="282" y="128"/>
                  </a:lnTo>
                  <a:lnTo>
                    <a:pt x="323" y="88"/>
                  </a:lnTo>
                  <a:lnTo>
                    <a:pt x="365" y="49"/>
                  </a:lnTo>
                  <a:lnTo>
                    <a:pt x="320" y="0"/>
                  </a:lnTo>
                  <a:lnTo>
                    <a:pt x="365" y="49"/>
                  </a:lnTo>
                  <a:lnTo>
                    <a:pt x="363" y="24"/>
                  </a:lnTo>
                  <a:lnTo>
                    <a:pt x="320" y="0"/>
                  </a:lnTo>
                  <a:lnTo>
                    <a:pt x="365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85520" y="4997520"/>
              <a:ext cx="82800" cy="74520"/>
            </a:xfrm>
            <a:custGeom>
              <a:avLst/>
              <a:gdLst/>
              <a:ahLst/>
              <a:rect l="l" t="t" r="r" b="b"/>
              <a:pathLst>
                <a:path w="1198" h="1092">
                  <a:moveTo>
                    <a:pt x="0" y="1043"/>
                  </a:moveTo>
                  <a:lnTo>
                    <a:pt x="44" y="1092"/>
                  </a:lnTo>
                  <a:lnTo>
                    <a:pt x="1198" y="49"/>
                  </a:lnTo>
                  <a:lnTo>
                    <a:pt x="1153" y="0"/>
                  </a:lnTo>
                  <a:lnTo>
                    <a:pt x="0" y="1043"/>
                  </a:lnTo>
                  <a:lnTo>
                    <a:pt x="0" y="1043"/>
                  </a:lnTo>
                  <a:lnTo>
                    <a:pt x="44" y="1092"/>
                  </a:lnTo>
                  <a:lnTo>
                    <a:pt x="44" y="1092"/>
                  </a:lnTo>
                  <a:lnTo>
                    <a:pt x="44" y="1092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63560" y="5069160"/>
              <a:ext cx="25200" cy="27000"/>
            </a:xfrm>
            <a:custGeom>
              <a:avLst/>
              <a:gdLst/>
              <a:ahLst/>
              <a:rect l="l" t="t" r="r" b="b"/>
              <a:pathLst>
                <a:path w="364" h="402">
                  <a:moveTo>
                    <a:pt x="54" y="402"/>
                  </a:moveTo>
                  <a:lnTo>
                    <a:pt x="54" y="402"/>
                  </a:lnTo>
                  <a:lnTo>
                    <a:pt x="90" y="352"/>
                  </a:lnTo>
                  <a:lnTo>
                    <a:pt x="128" y="304"/>
                  </a:lnTo>
                  <a:lnTo>
                    <a:pt x="165" y="258"/>
                  </a:lnTo>
                  <a:lnTo>
                    <a:pt x="203" y="213"/>
                  </a:lnTo>
                  <a:lnTo>
                    <a:pt x="243" y="169"/>
                  </a:lnTo>
                  <a:lnTo>
                    <a:pt x="283" y="128"/>
                  </a:lnTo>
                  <a:lnTo>
                    <a:pt x="323" y="88"/>
                  </a:lnTo>
                  <a:lnTo>
                    <a:pt x="364" y="49"/>
                  </a:lnTo>
                  <a:lnTo>
                    <a:pt x="320" y="0"/>
                  </a:lnTo>
                  <a:lnTo>
                    <a:pt x="278" y="40"/>
                  </a:lnTo>
                  <a:lnTo>
                    <a:pt x="236" y="82"/>
                  </a:lnTo>
                  <a:lnTo>
                    <a:pt x="194" y="125"/>
                  </a:lnTo>
                  <a:lnTo>
                    <a:pt x="154" y="169"/>
                  </a:lnTo>
                  <a:lnTo>
                    <a:pt x="114" y="215"/>
                  </a:lnTo>
                  <a:lnTo>
                    <a:pt x="76" y="263"/>
                  </a:lnTo>
                  <a:lnTo>
                    <a:pt x="38" y="312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54" y="402"/>
                  </a:lnTo>
                  <a:lnTo>
                    <a:pt x="54" y="402"/>
                  </a:lnTo>
                  <a:lnTo>
                    <a:pt x="54" y="4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26840" y="5094360"/>
              <a:ext cx="39960" cy="187560"/>
            </a:xfrm>
            <a:custGeom>
              <a:avLst/>
              <a:gdLst/>
              <a:ahLst/>
              <a:rect l="l" t="t" r="r" b="b"/>
              <a:pathLst>
                <a:path w="575" h="2728">
                  <a:moveTo>
                    <a:pt x="121" y="2644"/>
                  </a:moveTo>
                  <a:lnTo>
                    <a:pt x="176" y="2660"/>
                  </a:lnTo>
                  <a:lnTo>
                    <a:pt x="165" y="2617"/>
                  </a:lnTo>
                  <a:lnTo>
                    <a:pt x="155" y="2574"/>
                  </a:lnTo>
                  <a:lnTo>
                    <a:pt x="146" y="2532"/>
                  </a:lnTo>
                  <a:lnTo>
                    <a:pt x="137" y="2489"/>
                  </a:lnTo>
                  <a:lnTo>
                    <a:pt x="129" y="2445"/>
                  </a:lnTo>
                  <a:lnTo>
                    <a:pt x="121" y="2402"/>
                  </a:lnTo>
                  <a:lnTo>
                    <a:pt x="113" y="2358"/>
                  </a:lnTo>
                  <a:lnTo>
                    <a:pt x="107" y="2315"/>
                  </a:lnTo>
                  <a:lnTo>
                    <a:pt x="101" y="2271"/>
                  </a:lnTo>
                  <a:lnTo>
                    <a:pt x="95" y="2227"/>
                  </a:lnTo>
                  <a:lnTo>
                    <a:pt x="90" y="2183"/>
                  </a:lnTo>
                  <a:lnTo>
                    <a:pt x="85" y="2141"/>
                  </a:lnTo>
                  <a:lnTo>
                    <a:pt x="81" y="2097"/>
                  </a:lnTo>
                  <a:lnTo>
                    <a:pt x="78" y="2053"/>
                  </a:lnTo>
                  <a:lnTo>
                    <a:pt x="75" y="2009"/>
                  </a:lnTo>
                  <a:lnTo>
                    <a:pt x="72" y="1965"/>
                  </a:lnTo>
                  <a:lnTo>
                    <a:pt x="69" y="1921"/>
                  </a:lnTo>
                  <a:lnTo>
                    <a:pt x="68" y="1877"/>
                  </a:lnTo>
                  <a:lnTo>
                    <a:pt x="67" y="1834"/>
                  </a:lnTo>
                  <a:lnTo>
                    <a:pt x="66" y="1791"/>
                  </a:lnTo>
                  <a:lnTo>
                    <a:pt x="66" y="1747"/>
                  </a:lnTo>
                  <a:lnTo>
                    <a:pt x="67" y="1703"/>
                  </a:lnTo>
                  <a:lnTo>
                    <a:pt x="68" y="1660"/>
                  </a:lnTo>
                  <a:lnTo>
                    <a:pt x="70" y="1616"/>
                  </a:lnTo>
                  <a:lnTo>
                    <a:pt x="73" y="1573"/>
                  </a:lnTo>
                  <a:lnTo>
                    <a:pt x="75" y="1529"/>
                  </a:lnTo>
                  <a:lnTo>
                    <a:pt x="79" y="1486"/>
                  </a:lnTo>
                  <a:lnTo>
                    <a:pt x="82" y="1444"/>
                  </a:lnTo>
                  <a:lnTo>
                    <a:pt x="86" y="1401"/>
                  </a:lnTo>
                  <a:lnTo>
                    <a:pt x="91" y="1358"/>
                  </a:lnTo>
                  <a:lnTo>
                    <a:pt x="96" y="1315"/>
                  </a:lnTo>
                  <a:lnTo>
                    <a:pt x="102" y="1272"/>
                  </a:lnTo>
                  <a:lnTo>
                    <a:pt x="108" y="1230"/>
                  </a:lnTo>
                  <a:lnTo>
                    <a:pt x="115" y="1187"/>
                  </a:lnTo>
                  <a:lnTo>
                    <a:pt x="124" y="1145"/>
                  </a:lnTo>
                  <a:lnTo>
                    <a:pt x="132" y="1104"/>
                  </a:lnTo>
                  <a:lnTo>
                    <a:pt x="140" y="1062"/>
                  </a:lnTo>
                  <a:lnTo>
                    <a:pt x="149" y="1020"/>
                  </a:lnTo>
                  <a:lnTo>
                    <a:pt x="158" y="979"/>
                  </a:lnTo>
                  <a:lnTo>
                    <a:pt x="168" y="938"/>
                  </a:lnTo>
                  <a:lnTo>
                    <a:pt x="180" y="897"/>
                  </a:lnTo>
                  <a:lnTo>
                    <a:pt x="191" y="857"/>
                  </a:lnTo>
                  <a:lnTo>
                    <a:pt x="202" y="816"/>
                  </a:lnTo>
                  <a:lnTo>
                    <a:pt x="215" y="776"/>
                  </a:lnTo>
                  <a:lnTo>
                    <a:pt x="228" y="736"/>
                  </a:lnTo>
                  <a:lnTo>
                    <a:pt x="241" y="696"/>
                  </a:lnTo>
                  <a:lnTo>
                    <a:pt x="255" y="658"/>
                  </a:lnTo>
                  <a:lnTo>
                    <a:pt x="269" y="618"/>
                  </a:lnTo>
                  <a:lnTo>
                    <a:pt x="285" y="579"/>
                  </a:lnTo>
                  <a:lnTo>
                    <a:pt x="300" y="541"/>
                  </a:lnTo>
                  <a:lnTo>
                    <a:pt x="316" y="503"/>
                  </a:lnTo>
                  <a:lnTo>
                    <a:pt x="333" y="465"/>
                  </a:lnTo>
                  <a:lnTo>
                    <a:pt x="350" y="427"/>
                  </a:lnTo>
                  <a:lnTo>
                    <a:pt x="368" y="390"/>
                  </a:lnTo>
                  <a:lnTo>
                    <a:pt x="387" y="353"/>
                  </a:lnTo>
                  <a:lnTo>
                    <a:pt x="405" y="317"/>
                  </a:lnTo>
                  <a:lnTo>
                    <a:pt x="424" y="281"/>
                  </a:lnTo>
                  <a:lnTo>
                    <a:pt x="445" y="245"/>
                  </a:lnTo>
                  <a:lnTo>
                    <a:pt x="465" y="210"/>
                  </a:lnTo>
                  <a:lnTo>
                    <a:pt x="486" y="175"/>
                  </a:lnTo>
                  <a:lnTo>
                    <a:pt x="507" y="140"/>
                  </a:lnTo>
                  <a:lnTo>
                    <a:pt x="529" y="105"/>
                  </a:lnTo>
                  <a:lnTo>
                    <a:pt x="552" y="72"/>
                  </a:lnTo>
                  <a:lnTo>
                    <a:pt x="575" y="39"/>
                  </a:lnTo>
                  <a:lnTo>
                    <a:pt x="521" y="0"/>
                  </a:lnTo>
                  <a:lnTo>
                    <a:pt x="498" y="35"/>
                  </a:lnTo>
                  <a:lnTo>
                    <a:pt x="474" y="70"/>
                  </a:lnTo>
                  <a:lnTo>
                    <a:pt x="452" y="104"/>
                  </a:lnTo>
                  <a:lnTo>
                    <a:pt x="429" y="140"/>
                  </a:lnTo>
                  <a:lnTo>
                    <a:pt x="408" y="176"/>
                  </a:lnTo>
                  <a:lnTo>
                    <a:pt x="387" y="213"/>
                  </a:lnTo>
                  <a:lnTo>
                    <a:pt x="366" y="249"/>
                  </a:lnTo>
                  <a:lnTo>
                    <a:pt x="347" y="286"/>
                  </a:lnTo>
                  <a:lnTo>
                    <a:pt x="327" y="324"/>
                  </a:lnTo>
                  <a:lnTo>
                    <a:pt x="308" y="362"/>
                  </a:lnTo>
                  <a:lnTo>
                    <a:pt x="290" y="399"/>
                  </a:lnTo>
                  <a:lnTo>
                    <a:pt x="272" y="438"/>
                  </a:lnTo>
                  <a:lnTo>
                    <a:pt x="255" y="477"/>
                  </a:lnTo>
                  <a:lnTo>
                    <a:pt x="239" y="516"/>
                  </a:lnTo>
                  <a:lnTo>
                    <a:pt x="223" y="555"/>
                  </a:lnTo>
                  <a:lnTo>
                    <a:pt x="208" y="594"/>
                  </a:lnTo>
                  <a:lnTo>
                    <a:pt x="193" y="635"/>
                  </a:lnTo>
                  <a:lnTo>
                    <a:pt x="179" y="675"/>
                  </a:lnTo>
                  <a:lnTo>
                    <a:pt x="165" y="716"/>
                  </a:lnTo>
                  <a:lnTo>
                    <a:pt x="152" y="757"/>
                  </a:lnTo>
                  <a:lnTo>
                    <a:pt x="139" y="797"/>
                  </a:lnTo>
                  <a:lnTo>
                    <a:pt x="127" y="838"/>
                  </a:lnTo>
                  <a:lnTo>
                    <a:pt x="115" y="880"/>
                  </a:lnTo>
                  <a:lnTo>
                    <a:pt x="104" y="922"/>
                  </a:lnTo>
                  <a:lnTo>
                    <a:pt x="94" y="964"/>
                  </a:lnTo>
                  <a:lnTo>
                    <a:pt x="85" y="1006"/>
                  </a:lnTo>
                  <a:lnTo>
                    <a:pt x="76" y="1049"/>
                  </a:lnTo>
                  <a:lnTo>
                    <a:pt x="66" y="1090"/>
                  </a:lnTo>
                  <a:lnTo>
                    <a:pt x="58" y="1133"/>
                  </a:lnTo>
                  <a:lnTo>
                    <a:pt x="50" y="1176"/>
                  </a:lnTo>
                  <a:lnTo>
                    <a:pt x="44" y="1220"/>
                  </a:lnTo>
                  <a:lnTo>
                    <a:pt x="37" y="1263"/>
                  </a:lnTo>
                  <a:lnTo>
                    <a:pt x="31" y="1306"/>
                  </a:lnTo>
                  <a:lnTo>
                    <a:pt x="26" y="1350"/>
                  </a:lnTo>
                  <a:lnTo>
                    <a:pt x="21" y="1394"/>
                  </a:lnTo>
                  <a:lnTo>
                    <a:pt x="16" y="1437"/>
                  </a:lnTo>
                  <a:lnTo>
                    <a:pt x="12" y="1481"/>
                  </a:lnTo>
                  <a:lnTo>
                    <a:pt x="9" y="1525"/>
                  </a:lnTo>
                  <a:lnTo>
                    <a:pt x="6" y="1569"/>
                  </a:lnTo>
                  <a:lnTo>
                    <a:pt x="4" y="1613"/>
                  </a:lnTo>
                  <a:lnTo>
                    <a:pt x="2" y="1658"/>
                  </a:lnTo>
                  <a:lnTo>
                    <a:pt x="1" y="1702"/>
                  </a:lnTo>
                  <a:lnTo>
                    <a:pt x="0" y="1747"/>
                  </a:lnTo>
                  <a:lnTo>
                    <a:pt x="0" y="1791"/>
                  </a:lnTo>
                  <a:lnTo>
                    <a:pt x="1" y="1835"/>
                  </a:lnTo>
                  <a:lnTo>
                    <a:pt x="2" y="1879"/>
                  </a:lnTo>
                  <a:lnTo>
                    <a:pt x="3" y="1924"/>
                  </a:lnTo>
                  <a:lnTo>
                    <a:pt x="6" y="1968"/>
                  </a:lnTo>
                  <a:lnTo>
                    <a:pt x="8" y="2013"/>
                  </a:lnTo>
                  <a:lnTo>
                    <a:pt x="11" y="2058"/>
                  </a:lnTo>
                  <a:lnTo>
                    <a:pt x="15" y="2102"/>
                  </a:lnTo>
                  <a:lnTo>
                    <a:pt x="19" y="2147"/>
                  </a:lnTo>
                  <a:lnTo>
                    <a:pt x="25" y="2192"/>
                  </a:lnTo>
                  <a:lnTo>
                    <a:pt x="30" y="2236"/>
                  </a:lnTo>
                  <a:lnTo>
                    <a:pt x="35" y="2280"/>
                  </a:lnTo>
                  <a:lnTo>
                    <a:pt x="42" y="2324"/>
                  </a:lnTo>
                  <a:lnTo>
                    <a:pt x="48" y="2368"/>
                  </a:lnTo>
                  <a:lnTo>
                    <a:pt x="56" y="2413"/>
                  </a:lnTo>
                  <a:lnTo>
                    <a:pt x="63" y="2457"/>
                  </a:lnTo>
                  <a:lnTo>
                    <a:pt x="73" y="2501"/>
                  </a:lnTo>
                  <a:lnTo>
                    <a:pt x="82" y="2545"/>
                  </a:lnTo>
                  <a:lnTo>
                    <a:pt x="91" y="2589"/>
                  </a:lnTo>
                  <a:lnTo>
                    <a:pt x="101" y="2633"/>
                  </a:lnTo>
                  <a:lnTo>
                    <a:pt x="111" y="2676"/>
                  </a:lnTo>
                  <a:lnTo>
                    <a:pt x="165" y="2693"/>
                  </a:lnTo>
                  <a:lnTo>
                    <a:pt x="111" y="2676"/>
                  </a:lnTo>
                  <a:lnTo>
                    <a:pt x="125" y="2728"/>
                  </a:lnTo>
                  <a:lnTo>
                    <a:pt x="165" y="2693"/>
                  </a:lnTo>
                  <a:lnTo>
                    <a:pt x="121" y="26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36560" y="5205600"/>
              <a:ext cx="83880" cy="74520"/>
            </a:xfrm>
            <a:custGeom>
              <a:avLst/>
              <a:gdLst/>
              <a:ahLst/>
              <a:rect l="l" t="t" r="r" b="b"/>
              <a:pathLst>
                <a:path w="1218" h="1068">
                  <a:moveTo>
                    <a:pt x="1214" y="18"/>
                  </a:moveTo>
                  <a:lnTo>
                    <a:pt x="1160" y="0"/>
                  </a:lnTo>
                  <a:lnTo>
                    <a:pt x="0" y="1019"/>
                  </a:lnTo>
                  <a:lnTo>
                    <a:pt x="44" y="1068"/>
                  </a:lnTo>
                  <a:lnTo>
                    <a:pt x="1203" y="50"/>
                  </a:lnTo>
                  <a:lnTo>
                    <a:pt x="1214" y="18"/>
                  </a:lnTo>
                  <a:lnTo>
                    <a:pt x="1203" y="50"/>
                  </a:lnTo>
                  <a:lnTo>
                    <a:pt x="1218" y="37"/>
                  </a:lnTo>
                  <a:lnTo>
                    <a:pt x="1214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87320" y="4948560"/>
              <a:ext cx="243000" cy="139680"/>
            </a:xfrm>
            <a:custGeom>
              <a:avLst/>
              <a:gdLst/>
              <a:ahLst/>
              <a:rect l="l" t="t" r="r" b="b"/>
              <a:pathLst>
                <a:path w="3509" h="2017">
                  <a:moveTo>
                    <a:pt x="2713" y="698"/>
                  </a:moveTo>
                  <a:lnTo>
                    <a:pt x="2670" y="679"/>
                  </a:lnTo>
                  <a:lnTo>
                    <a:pt x="2627" y="660"/>
                  </a:lnTo>
                  <a:lnTo>
                    <a:pt x="2583" y="643"/>
                  </a:lnTo>
                  <a:lnTo>
                    <a:pt x="2539" y="626"/>
                  </a:lnTo>
                  <a:lnTo>
                    <a:pt x="2495" y="611"/>
                  </a:lnTo>
                  <a:lnTo>
                    <a:pt x="2451" y="597"/>
                  </a:lnTo>
                  <a:lnTo>
                    <a:pt x="2407" y="584"/>
                  </a:lnTo>
                  <a:lnTo>
                    <a:pt x="2363" y="571"/>
                  </a:lnTo>
                  <a:lnTo>
                    <a:pt x="2319" y="560"/>
                  </a:lnTo>
                  <a:lnTo>
                    <a:pt x="2274" y="550"/>
                  </a:lnTo>
                  <a:lnTo>
                    <a:pt x="2230" y="541"/>
                  </a:lnTo>
                  <a:lnTo>
                    <a:pt x="2186" y="533"/>
                  </a:lnTo>
                  <a:lnTo>
                    <a:pt x="2141" y="525"/>
                  </a:lnTo>
                  <a:lnTo>
                    <a:pt x="2097" y="520"/>
                  </a:lnTo>
                  <a:lnTo>
                    <a:pt x="2053" y="515"/>
                  </a:lnTo>
                  <a:lnTo>
                    <a:pt x="2009" y="511"/>
                  </a:lnTo>
                  <a:lnTo>
                    <a:pt x="1964" y="509"/>
                  </a:lnTo>
                  <a:lnTo>
                    <a:pt x="1920" y="507"/>
                  </a:lnTo>
                  <a:lnTo>
                    <a:pt x="1875" y="507"/>
                  </a:lnTo>
                  <a:lnTo>
                    <a:pt x="1831" y="507"/>
                  </a:lnTo>
                  <a:lnTo>
                    <a:pt x="1787" y="509"/>
                  </a:lnTo>
                  <a:lnTo>
                    <a:pt x="1744" y="511"/>
                  </a:lnTo>
                  <a:lnTo>
                    <a:pt x="1700" y="515"/>
                  </a:lnTo>
                  <a:lnTo>
                    <a:pt x="1656" y="519"/>
                  </a:lnTo>
                  <a:lnTo>
                    <a:pt x="1612" y="525"/>
                  </a:lnTo>
                  <a:lnTo>
                    <a:pt x="1568" y="533"/>
                  </a:lnTo>
                  <a:lnTo>
                    <a:pt x="1525" y="541"/>
                  </a:lnTo>
                  <a:lnTo>
                    <a:pt x="1483" y="549"/>
                  </a:lnTo>
                  <a:lnTo>
                    <a:pt x="1439" y="559"/>
                  </a:lnTo>
                  <a:lnTo>
                    <a:pt x="1396" y="570"/>
                  </a:lnTo>
                  <a:lnTo>
                    <a:pt x="1354" y="583"/>
                  </a:lnTo>
                  <a:lnTo>
                    <a:pt x="1311" y="596"/>
                  </a:lnTo>
                  <a:lnTo>
                    <a:pt x="1291" y="611"/>
                  </a:lnTo>
                  <a:lnTo>
                    <a:pt x="1270" y="626"/>
                  </a:lnTo>
                  <a:lnTo>
                    <a:pt x="1251" y="642"/>
                  </a:lnTo>
                  <a:lnTo>
                    <a:pt x="1231" y="658"/>
                  </a:lnTo>
                  <a:lnTo>
                    <a:pt x="1211" y="674"/>
                  </a:lnTo>
                  <a:lnTo>
                    <a:pt x="1191" y="691"/>
                  </a:lnTo>
                  <a:lnTo>
                    <a:pt x="1172" y="707"/>
                  </a:lnTo>
                  <a:lnTo>
                    <a:pt x="1152" y="724"/>
                  </a:lnTo>
                  <a:lnTo>
                    <a:pt x="0" y="1768"/>
                  </a:lnTo>
                  <a:lnTo>
                    <a:pt x="50" y="1724"/>
                  </a:lnTo>
                  <a:lnTo>
                    <a:pt x="100" y="1683"/>
                  </a:lnTo>
                  <a:lnTo>
                    <a:pt x="152" y="1643"/>
                  </a:lnTo>
                  <a:lnTo>
                    <a:pt x="205" y="1606"/>
                  </a:lnTo>
                  <a:lnTo>
                    <a:pt x="258" y="1572"/>
                  </a:lnTo>
                  <a:lnTo>
                    <a:pt x="312" y="1539"/>
                  </a:lnTo>
                  <a:lnTo>
                    <a:pt x="366" y="1508"/>
                  </a:lnTo>
                  <a:lnTo>
                    <a:pt x="422" y="1480"/>
                  </a:lnTo>
                  <a:lnTo>
                    <a:pt x="478" y="1453"/>
                  </a:lnTo>
                  <a:lnTo>
                    <a:pt x="534" y="1430"/>
                  </a:lnTo>
                  <a:lnTo>
                    <a:pt x="591" y="1408"/>
                  </a:lnTo>
                  <a:lnTo>
                    <a:pt x="648" y="1389"/>
                  </a:lnTo>
                  <a:lnTo>
                    <a:pt x="707" y="1372"/>
                  </a:lnTo>
                  <a:lnTo>
                    <a:pt x="766" y="1356"/>
                  </a:lnTo>
                  <a:lnTo>
                    <a:pt x="824" y="1343"/>
                  </a:lnTo>
                  <a:lnTo>
                    <a:pt x="883" y="1333"/>
                  </a:lnTo>
                  <a:lnTo>
                    <a:pt x="943" y="1325"/>
                  </a:lnTo>
                  <a:lnTo>
                    <a:pt x="1002" y="1318"/>
                  </a:lnTo>
                  <a:lnTo>
                    <a:pt x="1062" y="1314"/>
                  </a:lnTo>
                  <a:lnTo>
                    <a:pt x="1123" y="1312"/>
                  </a:lnTo>
                  <a:lnTo>
                    <a:pt x="1183" y="1312"/>
                  </a:lnTo>
                  <a:lnTo>
                    <a:pt x="1243" y="1314"/>
                  </a:lnTo>
                  <a:lnTo>
                    <a:pt x="1304" y="1319"/>
                  </a:lnTo>
                  <a:lnTo>
                    <a:pt x="1364" y="1327"/>
                  </a:lnTo>
                  <a:lnTo>
                    <a:pt x="1424" y="1336"/>
                  </a:lnTo>
                  <a:lnTo>
                    <a:pt x="1486" y="1347"/>
                  </a:lnTo>
                  <a:lnTo>
                    <a:pt x="1546" y="1360"/>
                  </a:lnTo>
                  <a:lnTo>
                    <a:pt x="1606" y="1376"/>
                  </a:lnTo>
                  <a:lnTo>
                    <a:pt x="1666" y="1393"/>
                  </a:lnTo>
                  <a:lnTo>
                    <a:pt x="1726" y="1413"/>
                  </a:lnTo>
                  <a:lnTo>
                    <a:pt x="1786" y="1436"/>
                  </a:lnTo>
                  <a:lnTo>
                    <a:pt x="1846" y="1460"/>
                  </a:lnTo>
                  <a:lnTo>
                    <a:pt x="1212" y="2017"/>
                  </a:lnTo>
                  <a:lnTo>
                    <a:pt x="3170" y="1967"/>
                  </a:lnTo>
                  <a:lnTo>
                    <a:pt x="3509" y="0"/>
                  </a:lnTo>
                  <a:lnTo>
                    <a:pt x="2713" y="6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876240" y="4981680"/>
              <a:ext cx="100080" cy="17640"/>
            </a:xfrm>
            <a:custGeom>
              <a:avLst/>
              <a:gdLst/>
              <a:ahLst/>
              <a:rect l="l" t="t" r="r" b="b"/>
              <a:pathLst>
                <a:path w="1436" h="256">
                  <a:moveTo>
                    <a:pt x="39" y="149"/>
                  </a:moveTo>
                  <a:lnTo>
                    <a:pt x="29" y="154"/>
                  </a:lnTo>
                  <a:lnTo>
                    <a:pt x="71" y="141"/>
                  </a:lnTo>
                  <a:lnTo>
                    <a:pt x="113" y="129"/>
                  </a:lnTo>
                  <a:lnTo>
                    <a:pt x="155" y="119"/>
                  </a:lnTo>
                  <a:lnTo>
                    <a:pt x="198" y="109"/>
                  </a:lnTo>
                  <a:lnTo>
                    <a:pt x="239" y="100"/>
                  </a:lnTo>
                  <a:lnTo>
                    <a:pt x="282" y="92"/>
                  </a:lnTo>
                  <a:lnTo>
                    <a:pt x="325" y="85"/>
                  </a:lnTo>
                  <a:lnTo>
                    <a:pt x="368" y="80"/>
                  </a:lnTo>
                  <a:lnTo>
                    <a:pt x="411" y="75"/>
                  </a:lnTo>
                  <a:lnTo>
                    <a:pt x="454" y="72"/>
                  </a:lnTo>
                  <a:lnTo>
                    <a:pt x="496" y="69"/>
                  </a:lnTo>
                  <a:lnTo>
                    <a:pt x="540" y="67"/>
                  </a:lnTo>
                  <a:lnTo>
                    <a:pt x="583" y="67"/>
                  </a:lnTo>
                  <a:lnTo>
                    <a:pt x="627" y="67"/>
                  </a:lnTo>
                  <a:lnTo>
                    <a:pt x="671" y="69"/>
                  </a:lnTo>
                  <a:lnTo>
                    <a:pt x="714" y="72"/>
                  </a:lnTo>
                  <a:lnTo>
                    <a:pt x="758" y="75"/>
                  </a:lnTo>
                  <a:lnTo>
                    <a:pt x="801" y="80"/>
                  </a:lnTo>
                  <a:lnTo>
                    <a:pt x="844" y="86"/>
                  </a:lnTo>
                  <a:lnTo>
                    <a:pt x="888" y="92"/>
                  </a:lnTo>
                  <a:lnTo>
                    <a:pt x="932" y="100"/>
                  </a:lnTo>
                  <a:lnTo>
                    <a:pt x="976" y="110"/>
                  </a:lnTo>
                  <a:lnTo>
                    <a:pt x="1019" y="119"/>
                  </a:lnTo>
                  <a:lnTo>
                    <a:pt x="1062" y="130"/>
                  </a:lnTo>
                  <a:lnTo>
                    <a:pt x="1106" y="142"/>
                  </a:lnTo>
                  <a:lnTo>
                    <a:pt x="1149" y="155"/>
                  </a:lnTo>
                  <a:lnTo>
                    <a:pt x="1193" y="169"/>
                  </a:lnTo>
                  <a:lnTo>
                    <a:pt x="1236" y="184"/>
                  </a:lnTo>
                  <a:lnTo>
                    <a:pt x="1279" y="200"/>
                  </a:lnTo>
                  <a:lnTo>
                    <a:pt x="1322" y="218"/>
                  </a:lnTo>
                  <a:lnTo>
                    <a:pt x="1365" y="236"/>
                  </a:lnTo>
                  <a:lnTo>
                    <a:pt x="1408" y="256"/>
                  </a:lnTo>
                  <a:lnTo>
                    <a:pt x="1436" y="195"/>
                  </a:lnTo>
                  <a:lnTo>
                    <a:pt x="1391" y="175"/>
                  </a:lnTo>
                  <a:lnTo>
                    <a:pt x="1347" y="157"/>
                  </a:lnTo>
                  <a:lnTo>
                    <a:pt x="1303" y="139"/>
                  </a:lnTo>
                  <a:lnTo>
                    <a:pt x="1258" y="122"/>
                  </a:lnTo>
                  <a:lnTo>
                    <a:pt x="1213" y="107"/>
                  </a:lnTo>
                  <a:lnTo>
                    <a:pt x="1168" y="92"/>
                  </a:lnTo>
                  <a:lnTo>
                    <a:pt x="1124" y="79"/>
                  </a:lnTo>
                  <a:lnTo>
                    <a:pt x="1080" y="66"/>
                  </a:lnTo>
                  <a:lnTo>
                    <a:pt x="1034" y="54"/>
                  </a:lnTo>
                  <a:lnTo>
                    <a:pt x="989" y="44"/>
                  </a:lnTo>
                  <a:lnTo>
                    <a:pt x="944" y="35"/>
                  </a:lnTo>
                  <a:lnTo>
                    <a:pt x="899" y="27"/>
                  </a:lnTo>
                  <a:lnTo>
                    <a:pt x="854" y="20"/>
                  </a:lnTo>
                  <a:lnTo>
                    <a:pt x="808" y="14"/>
                  </a:lnTo>
                  <a:lnTo>
                    <a:pt x="764" y="10"/>
                  </a:lnTo>
                  <a:lnTo>
                    <a:pt x="719" y="5"/>
                  </a:lnTo>
                  <a:lnTo>
                    <a:pt x="674" y="2"/>
                  </a:lnTo>
                  <a:lnTo>
                    <a:pt x="628" y="1"/>
                  </a:lnTo>
                  <a:lnTo>
                    <a:pt x="583" y="0"/>
                  </a:lnTo>
                  <a:lnTo>
                    <a:pt x="538" y="1"/>
                  </a:lnTo>
                  <a:lnTo>
                    <a:pt x="493" y="2"/>
                  </a:lnTo>
                  <a:lnTo>
                    <a:pt x="449" y="5"/>
                  </a:lnTo>
                  <a:lnTo>
                    <a:pt x="405" y="10"/>
                  </a:lnTo>
                  <a:lnTo>
                    <a:pt x="360" y="14"/>
                  </a:lnTo>
                  <a:lnTo>
                    <a:pt x="315" y="20"/>
                  </a:lnTo>
                  <a:lnTo>
                    <a:pt x="271" y="27"/>
                  </a:lnTo>
                  <a:lnTo>
                    <a:pt x="227" y="35"/>
                  </a:lnTo>
                  <a:lnTo>
                    <a:pt x="183" y="44"/>
                  </a:lnTo>
                  <a:lnTo>
                    <a:pt x="140" y="54"/>
                  </a:lnTo>
                  <a:lnTo>
                    <a:pt x="96" y="66"/>
                  </a:lnTo>
                  <a:lnTo>
                    <a:pt x="52" y="78"/>
                  </a:lnTo>
                  <a:lnTo>
                    <a:pt x="9" y="91"/>
                  </a:lnTo>
                  <a:lnTo>
                    <a:pt x="0" y="96"/>
                  </a:lnTo>
                  <a:lnTo>
                    <a:pt x="9" y="91"/>
                  </a:lnTo>
                  <a:lnTo>
                    <a:pt x="4" y="93"/>
                  </a:lnTo>
                  <a:lnTo>
                    <a:pt x="0" y="96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65080" y="4988160"/>
              <a:ext cx="14400" cy="12600"/>
            </a:xfrm>
            <a:custGeom>
              <a:avLst/>
              <a:gdLst/>
              <a:ahLst/>
              <a:rect l="l" t="t" r="r" b="b"/>
              <a:pathLst>
                <a:path w="201" h="180">
                  <a:moveTo>
                    <a:pt x="45" y="180"/>
                  </a:moveTo>
                  <a:lnTo>
                    <a:pt x="44" y="180"/>
                  </a:lnTo>
                  <a:lnTo>
                    <a:pt x="63" y="164"/>
                  </a:lnTo>
                  <a:lnTo>
                    <a:pt x="82" y="147"/>
                  </a:lnTo>
                  <a:lnTo>
                    <a:pt x="102" y="131"/>
                  </a:lnTo>
                  <a:lnTo>
                    <a:pt x="121" y="115"/>
                  </a:lnTo>
                  <a:lnTo>
                    <a:pt x="141" y="99"/>
                  </a:lnTo>
                  <a:lnTo>
                    <a:pt x="161" y="84"/>
                  </a:lnTo>
                  <a:lnTo>
                    <a:pt x="181" y="69"/>
                  </a:lnTo>
                  <a:lnTo>
                    <a:pt x="201" y="53"/>
                  </a:lnTo>
                  <a:lnTo>
                    <a:pt x="162" y="0"/>
                  </a:lnTo>
                  <a:lnTo>
                    <a:pt x="141" y="16"/>
                  </a:lnTo>
                  <a:lnTo>
                    <a:pt x="121" y="31"/>
                  </a:lnTo>
                  <a:lnTo>
                    <a:pt x="101" y="47"/>
                  </a:lnTo>
                  <a:lnTo>
                    <a:pt x="80" y="63"/>
                  </a:lnTo>
                  <a:lnTo>
                    <a:pt x="60" y="80"/>
                  </a:lnTo>
                  <a:lnTo>
                    <a:pt x="39" y="96"/>
                  </a:lnTo>
                  <a:lnTo>
                    <a:pt x="20" y="114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45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5520" y="4997520"/>
              <a:ext cx="82800" cy="74520"/>
            </a:xfrm>
            <a:custGeom>
              <a:avLst/>
              <a:gdLst/>
              <a:ahLst/>
              <a:rect l="l" t="t" r="r" b="b"/>
              <a:pathLst>
                <a:path w="1198" h="1092">
                  <a:moveTo>
                    <a:pt x="44" y="1092"/>
                  </a:moveTo>
                  <a:lnTo>
                    <a:pt x="44" y="1092"/>
                  </a:lnTo>
                  <a:lnTo>
                    <a:pt x="1198" y="49"/>
                  </a:lnTo>
                  <a:lnTo>
                    <a:pt x="1153" y="0"/>
                  </a:lnTo>
                  <a:lnTo>
                    <a:pt x="0" y="1043"/>
                  </a:lnTo>
                  <a:lnTo>
                    <a:pt x="44" y="1092"/>
                  </a:lnTo>
                  <a:lnTo>
                    <a:pt x="0" y="1043"/>
                  </a:lnTo>
                  <a:lnTo>
                    <a:pt x="23" y="1068"/>
                  </a:lnTo>
                  <a:lnTo>
                    <a:pt x="44" y="10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85520" y="5037120"/>
              <a:ext cx="133560" cy="34920"/>
            </a:xfrm>
            <a:custGeom>
              <a:avLst/>
              <a:gdLst/>
              <a:ahLst/>
              <a:rect l="l" t="t" r="r" b="b"/>
              <a:pathLst>
                <a:path w="1930" h="513">
                  <a:moveTo>
                    <a:pt x="1890" y="206"/>
                  </a:moveTo>
                  <a:lnTo>
                    <a:pt x="1882" y="151"/>
                  </a:lnTo>
                  <a:lnTo>
                    <a:pt x="1851" y="137"/>
                  </a:lnTo>
                  <a:lnTo>
                    <a:pt x="1821" y="126"/>
                  </a:lnTo>
                  <a:lnTo>
                    <a:pt x="1791" y="114"/>
                  </a:lnTo>
                  <a:lnTo>
                    <a:pt x="1760" y="103"/>
                  </a:lnTo>
                  <a:lnTo>
                    <a:pt x="1730" y="93"/>
                  </a:lnTo>
                  <a:lnTo>
                    <a:pt x="1699" y="82"/>
                  </a:lnTo>
                  <a:lnTo>
                    <a:pt x="1669" y="73"/>
                  </a:lnTo>
                  <a:lnTo>
                    <a:pt x="1638" y="65"/>
                  </a:lnTo>
                  <a:lnTo>
                    <a:pt x="1608" y="57"/>
                  </a:lnTo>
                  <a:lnTo>
                    <a:pt x="1577" y="49"/>
                  </a:lnTo>
                  <a:lnTo>
                    <a:pt x="1545" y="41"/>
                  </a:lnTo>
                  <a:lnTo>
                    <a:pt x="1515" y="35"/>
                  </a:lnTo>
                  <a:lnTo>
                    <a:pt x="1484" y="29"/>
                  </a:lnTo>
                  <a:lnTo>
                    <a:pt x="1454" y="24"/>
                  </a:lnTo>
                  <a:lnTo>
                    <a:pt x="1422" y="19"/>
                  </a:lnTo>
                  <a:lnTo>
                    <a:pt x="1391" y="15"/>
                  </a:lnTo>
                  <a:lnTo>
                    <a:pt x="1361" y="11"/>
                  </a:lnTo>
                  <a:lnTo>
                    <a:pt x="1330" y="8"/>
                  </a:lnTo>
                  <a:lnTo>
                    <a:pt x="1299" y="5"/>
                  </a:lnTo>
                  <a:lnTo>
                    <a:pt x="1268" y="3"/>
                  </a:lnTo>
                  <a:lnTo>
                    <a:pt x="1237" y="2"/>
                  </a:lnTo>
                  <a:lnTo>
                    <a:pt x="1207" y="0"/>
                  </a:lnTo>
                  <a:lnTo>
                    <a:pt x="1176" y="0"/>
                  </a:lnTo>
                  <a:lnTo>
                    <a:pt x="1146" y="0"/>
                  </a:lnTo>
                  <a:lnTo>
                    <a:pt x="1114" y="1"/>
                  </a:lnTo>
                  <a:lnTo>
                    <a:pt x="1083" y="2"/>
                  </a:lnTo>
                  <a:lnTo>
                    <a:pt x="1053" y="4"/>
                  </a:lnTo>
                  <a:lnTo>
                    <a:pt x="1022" y="6"/>
                  </a:lnTo>
                  <a:lnTo>
                    <a:pt x="992" y="9"/>
                  </a:lnTo>
                  <a:lnTo>
                    <a:pt x="962" y="12"/>
                  </a:lnTo>
                  <a:lnTo>
                    <a:pt x="931" y="16"/>
                  </a:lnTo>
                  <a:lnTo>
                    <a:pt x="901" y="21"/>
                  </a:lnTo>
                  <a:lnTo>
                    <a:pt x="870" y="26"/>
                  </a:lnTo>
                  <a:lnTo>
                    <a:pt x="841" y="32"/>
                  </a:lnTo>
                  <a:lnTo>
                    <a:pt x="810" y="38"/>
                  </a:lnTo>
                  <a:lnTo>
                    <a:pt x="781" y="45"/>
                  </a:lnTo>
                  <a:lnTo>
                    <a:pt x="751" y="53"/>
                  </a:lnTo>
                  <a:lnTo>
                    <a:pt x="721" y="61"/>
                  </a:lnTo>
                  <a:lnTo>
                    <a:pt x="692" y="69"/>
                  </a:lnTo>
                  <a:lnTo>
                    <a:pt x="662" y="78"/>
                  </a:lnTo>
                  <a:lnTo>
                    <a:pt x="633" y="87"/>
                  </a:lnTo>
                  <a:lnTo>
                    <a:pt x="603" y="98"/>
                  </a:lnTo>
                  <a:lnTo>
                    <a:pt x="573" y="109"/>
                  </a:lnTo>
                  <a:lnTo>
                    <a:pt x="545" y="120"/>
                  </a:lnTo>
                  <a:lnTo>
                    <a:pt x="516" y="132"/>
                  </a:lnTo>
                  <a:lnTo>
                    <a:pt x="487" y="145"/>
                  </a:lnTo>
                  <a:lnTo>
                    <a:pt x="458" y="157"/>
                  </a:lnTo>
                  <a:lnTo>
                    <a:pt x="430" y="171"/>
                  </a:lnTo>
                  <a:lnTo>
                    <a:pt x="402" y="185"/>
                  </a:lnTo>
                  <a:lnTo>
                    <a:pt x="374" y="200"/>
                  </a:lnTo>
                  <a:lnTo>
                    <a:pt x="346" y="215"/>
                  </a:lnTo>
                  <a:lnTo>
                    <a:pt x="319" y="230"/>
                  </a:lnTo>
                  <a:lnTo>
                    <a:pt x="290" y="247"/>
                  </a:lnTo>
                  <a:lnTo>
                    <a:pt x="263" y="264"/>
                  </a:lnTo>
                  <a:lnTo>
                    <a:pt x="236" y="281"/>
                  </a:lnTo>
                  <a:lnTo>
                    <a:pt x="208" y="300"/>
                  </a:lnTo>
                  <a:lnTo>
                    <a:pt x="182" y="318"/>
                  </a:lnTo>
                  <a:lnTo>
                    <a:pt x="155" y="337"/>
                  </a:lnTo>
                  <a:lnTo>
                    <a:pt x="129" y="357"/>
                  </a:lnTo>
                  <a:lnTo>
                    <a:pt x="102" y="377"/>
                  </a:lnTo>
                  <a:lnTo>
                    <a:pt x="77" y="398"/>
                  </a:lnTo>
                  <a:lnTo>
                    <a:pt x="51" y="419"/>
                  </a:lnTo>
                  <a:lnTo>
                    <a:pt x="26" y="442"/>
                  </a:lnTo>
                  <a:lnTo>
                    <a:pt x="0" y="464"/>
                  </a:lnTo>
                  <a:lnTo>
                    <a:pt x="44" y="513"/>
                  </a:lnTo>
                  <a:lnTo>
                    <a:pt x="69" y="492"/>
                  </a:lnTo>
                  <a:lnTo>
                    <a:pt x="94" y="470"/>
                  </a:lnTo>
                  <a:lnTo>
                    <a:pt x="119" y="450"/>
                  </a:lnTo>
                  <a:lnTo>
                    <a:pt x="143" y="429"/>
                  </a:lnTo>
                  <a:lnTo>
                    <a:pt x="169" y="410"/>
                  </a:lnTo>
                  <a:lnTo>
                    <a:pt x="194" y="391"/>
                  </a:lnTo>
                  <a:lnTo>
                    <a:pt x="220" y="372"/>
                  </a:lnTo>
                  <a:lnTo>
                    <a:pt x="246" y="354"/>
                  </a:lnTo>
                  <a:lnTo>
                    <a:pt x="272" y="336"/>
                  </a:lnTo>
                  <a:lnTo>
                    <a:pt x="298" y="320"/>
                  </a:lnTo>
                  <a:lnTo>
                    <a:pt x="325" y="304"/>
                  </a:lnTo>
                  <a:lnTo>
                    <a:pt x="351" y="288"/>
                  </a:lnTo>
                  <a:lnTo>
                    <a:pt x="378" y="273"/>
                  </a:lnTo>
                  <a:lnTo>
                    <a:pt x="405" y="258"/>
                  </a:lnTo>
                  <a:lnTo>
                    <a:pt x="432" y="244"/>
                  </a:lnTo>
                  <a:lnTo>
                    <a:pt x="459" y="230"/>
                  </a:lnTo>
                  <a:lnTo>
                    <a:pt x="487" y="217"/>
                  </a:lnTo>
                  <a:lnTo>
                    <a:pt x="514" y="205"/>
                  </a:lnTo>
                  <a:lnTo>
                    <a:pt x="542" y="193"/>
                  </a:lnTo>
                  <a:lnTo>
                    <a:pt x="569" y="181"/>
                  </a:lnTo>
                  <a:lnTo>
                    <a:pt x="597" y="171"/>
                  </a:lnTo>
                  <a:lnTo>
                    <a:pt x="626" y="160"/>
                  </a:lnTo>
                  <a:lnTo>
                    <a:pt x="653" y="151"/>
                  </a:lnTo>
                  <a:lnTo>
                    <a:pt x="682" y="141"/>
                  </a:lnTo>
                  <a:lnTo>
                    <a:pt x="710" y="132"/>
                  </a:lnTo>
                  <a:lnTo>
                    <a:pt x="739" y="124"/>
                  </a:lnTo>
                  <a:lnTo>
                    <a:pt x="767" y="117"/>
                  </a:lnTo>
                  <a:lnTo>
                    <a:pt x="796" y="110"/>
                  </a:lnTo>
                  <a:lnTo>
                    <a:pt x="824" y="103"/>
                  </a:lnTo>
                  <a:lnTo>
                    <a:pt x="854" y="97"/>
                  </a:lnTo>
                  <a:lnTo>
                    <a:pt x="882" y="91"/>
                  </a:lnTo>
                  <a:lnTo>
                    <a:pt x="911" y="86"/>
                  </a:lnTo>
                  <a:lnTo>
                    <a:pt x="941" y="82"/>
                  </a:lnTo>
                  <a:lnTo>
                    <a:pt x="969" y="78"/>
                  </a:lnTo>
                  <a:lnTo>
                    <a:pt x="999" y="75"/>
                  </a:lnTo>
                  <a:lnTo>
                    <a:pt x="1028" y="72"/>
                  </a:lnTo>
                  <a:lnTo>
                    <a:pt x="1058" y="70"/>
                  </a:lnTo>
                  <a:lnTo>
                    <a:pt x="1086" y="68"/>
                  </a:lnTo>
                  <a:lnTo>
                    <a:pt x="1116" y="67"/>
                  </a:lnTo>
                  <a:lnTo>
                    <a:pt x="1146" y="66"/>
                  </a:lnTo>
                  <a:lnTo>
                    <a:pt x="1175" y="66"/>
                  </a:lnTo>
                  <a:lnTo>
                    <a:pt x="1205" y="66"/>
                  </a:lnTo>
                  <a:lnTo>
                    <a:pt x="1234" y="67"/>
                  </a:lnTo>
                  <a:lnTo>
                    <a:pt x="1264" y="69"/>
                  </a:lnTo>
                  <a:lnTo>
                    <a:pt x="1294" y="71"/>
                  </a:lnTo>
                  <a:lnTo>
                    <a:pt x="1324" y="73"/>
                  </a:lnTo>
                  <a:lnTo>
                    <a:pt x="1354" y="76"/>
                  </a:lnTo>
                  <a:lnTo>
                    <a:pt x="1383" y="80"/>
                  </a:lnTo>
                  <a:lnTo>
                    <a:pt x="1413" y="84"/>
                  </a:lnTo>
                  <a:lnTo>
                    <a:pt x="1442" y="89"/>
                  </a:lnTo>
                  <a:lnTo>
                    <a:pt x="1472" y="95"/>
                  </a:lnTo>
                  <a:lnTo>
                    <a:pt x="1501" y="100"/>
                  </a:lnTo>
                  <a:lnTo>
                    <a:pt x="1531" y="106"/>
                  </a:lnTo>
                  <a:lnTo>
                    <a:pt x="1562" y="113"/>
                  </a:lnTo>
                  <a:lnTo>
                    <a:pt x="1591" y="120"/>
                  </a:lnTo>
                  <a:lnTo>
                    <a:pt x="1621" y="128"/>
                  </a:lnTo>
                  <a:lnTo>
                    <a:pt x="1650" y="137"/>
                  </a:lnTo>
                  <a:lnTo>
                    <a:pt x="1680" y="146"/>
                  </a:lnTo>
                  <a:lnTo>
                    <a:pt x="1709" y="156"/>
                  </a:lnTo>
                  <a:lnTo>
                    <a:pt x="1738" y="166"/>
                  </a:lnTo>
                  <a:lnTo>
                    <a:pt x="1768" y="176"/>
                  </a:lnTo>
                  <a:lnTo>
                    <a:pt x="1797" y="187"/>
                  </a:lnTo>
                  <a:lnTo>
                    <a:pt x="1827" y="199"/>
                  </a:lnTo>
                  <a:lnTo>
                    <a:pt x="1855" y="211"/>
                  </a:lnTo>
                  <a:lnTo>
                    <a:pt x="1847" y="156"/>
                  </a:lnTo>
                  <a:lnTo>
                    <a:pt x="1890" y="206"/>
                  </a:lnTo>
                  <a:lnTo>
                    <a:pt x="1930" y="171"/>
                  </a:lnTo>
                  <a:lnTo>
                    <a:pt x="1882" y="151"/>
                  </a:lnTo>
                  <a:lnTo>
                    <a:pt x="1890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65080" y="5048280"/>
              <a:ext cx="50760" cy="41400"/>
            </a:xfrm>
            <a:custGeom>
              <a:avLst/>
              <a:gdLst/>
              <a:ahLst/>
              <a:rect l="l" t="t" r="r" b="b"/>
              <a:pathLst>
                <a:path w="742" h="616">
                  <a:moveTo>
                    <a:pt x="88" y="615"/>
                  </a:moveTo>
                  <a:lnTo>
                    <a:pt x="109" y="607"/>
                  </a:lnTo>
                  <a:lnTo>
                    <a:pt x="742" y="50"/>
                  </a:lnTo>
                  <a:lnTo>
                    <a:pt x="699" y="0"/>
                  </a:lnTo>
                  <a:lnTo>
                    <a:pt x="66" y="557"/>
                  </a:lnTo>
                  <a:lnTo>
                    <a:pt x="88" y="615"/>
                  </a:lnTo>
                  <a:lnTo>
                    <a:pt x="66" y="557"/>
                  </a:lnTo>
                  <a:lnTo>
                    <a:pt x="0" y="616"/>
                  </a:lnTo>
                  <a:lnTo>
                    <a:pt x="88" y="6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71560" y="5081760"/>
              <a:ext cx="136440" cy="7920"/>
            </a:xfrm>
            <a:custGeom>
              <a:avLst/>
              <a:gdLst/>
              <a:ahLst/>
              <a:rect l="l" t="t" r="r" b="b"/>
              <a:pathLst>
                <a:path w="1992" h="117">
                  <a:moveTo>
                    <a:pt x="1992" y="39"/>
                  </a:moveTo>
                  <a:lnTo>
                    <a:pt x="1958" y="0"/>
                  </a:lnTo>
                  <a:lnTo>
                    <a:pt x="0" y="51"/>
                  </a:lnTo>
                  <a:lnTo>
                    <a:pt x="2" y="117"/>
                  </a:lnTo>
                  <a:lnTo>
                    <a:pt x="1960" y="66"/>
                  </a:lnTo>
                  <a:lnTo>
                    <a:pt x="1992" y="39"/>
                  </a:lnTo>
                  <a:lnTo>
                    <a:pt x="1960" y="66"/>
                  </a:lnTo>
                  <a:lnTo>
                    <a:pt x="1987" y="66"/>
                  </a:lnTo>
                  <a:lnTo>
                    <a:pt x="199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003320" y="4943520"/>
              <a:ext cx="29880" cy="141480"/>
            </a:xfrm>
            <a:custGeom>
              <a:avLst/>
              <a:gdLst/>
              <a:ahLst/>
              <a:rect l="l" t="t" r="r" b="b"/>
              <a:pathLst>
                <a:path w="419" h="2057">
                  <a:moveTo>
                    <a:pt x="349" y="60"/>
                  </a:moveTo>
                  <a:lnTo>
                    <a:pt x="339" y="80"/>
                  </a:lnTo>
                  <a:lnTo>
                    <a:pt x="0" y="2045"/>
                  </a:lnTo>
                  <a:lnTo>
                    <a:pt x="65" y="2057"/>
                  </a:lnTo>
                  <a:lnTo>
                    <a:pt x="403" y="91"/>
                  </a:lnTo>
                  <a:lnTo>
                    <a:pt x="349" y="60"/>
                  </a:lnTo>
                  <a:lnTo>
                    <a:pt x="403" y="91"/>
                  </a:lnTo>
                  <a:lnTo>
                    <a:pt x="419" y="0"/>
                  </a:lnTo>
                  <a:lnTo>
                    <a:pt x="349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973080" y="4946760"/>
              <a:ext cx="57240" cy="52560"/>
            </a:xfrm>
            <a:custGeom>
              <a:avLst/>
              <a:gdLst/>
              <a:ahLst/>
              <a:rect l="l" t="t" r="r" b="b"/>
              <a:pathLst>
                <a:path w="839" h="762">
                  <a:moveTo>
                    <a:pt x="8" y="754"/>
                  </a:moveTo>
                  <a:lnTo>
                    <a:pt x="43" y="747"/>
                  </a:lnTo>
                  <a:lnTo>
                    <a:pt x="839" y="50"/>
                  </a:lnTo>
                  <a:lnTo>
                    <a:pt x="795" y="0"/>
                  </a:lnTo>
                  <a:lnTo>
                    <a:pt x="0" y="698"/>
                  </a:lnTo>
                  <a:lnTo>
                    <a:pt x="8" y="754"/>
                  </a:lnTo>
                  <a:lnTo>
                    <a:pt x="8" y="754"/>
                  </a:lnTo>
                  <a:lnTo>
                    <a:pt x="27" y="762"/>
                  </a:lnTo>
                  <a:lnTo>
                    <a:pt x="43" y="747"/>
                  </a:lnTo>
                  <a:lnTo>
                    <a:pt x="8" y="7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69840" y="5045400"/>
              <a:ext cx="136440" cy="349200"/>
            </a:xfrm>
            <a:custGeom>
              <a:avLst/>
              <a:gdLst/>
              <a:ahLst/>
              <a:rect l="l" t="t" r="r" b="b"/>
              <a:pathLst>
                <a:path w="1972" h="5066">
                  <a:moveTo>
                    <a:pt x="1530" y="0"/>
                  </a:moveTo>
                  <a:lnTo>
                    <a:pt x="1594" y="137"/>
                  </a:lnTo>
                  <a:lnTo>
                    <a:pt x="1654" y="274"/>
                  </a:lnTo>
                  <a:lnTo>
                    <a:pt x="1707" y="409"/>
                  </a:lnTo>
                  <a:lnTo>
                    <a:pt x="1756" y="545"/>
                  </a:lnTo>
                  <a:lnTo>
                    <a:pt x="1799" y="680"/>
                  </a:lnTo>
                  <a:lnTo>
                    <a:pt x="1837" y="815"/>
                  </a:lnTo>
                  <a:lnTo>
                    <a:pt x="1870" y="948"/>
                  </a:lnTo>
                  <a:lnTo>
                    <a:pt x="1898" y="1081"/>
                  </a:lnTo>
                  <a:lnTo>
                    <a:pt x="1921" y="1213"/>
                  </a:lnTo>
                  <a:lnTo>
                    <a:pt x="1941" y="1343"/>
                  </a:lnTo>
                  <a:lnTo>
                    <a:pt x="1955" y="1473"/>
                  </a:lnTo>
                  <a:lnTo>
                    <a:pt x="1965" y="1600"/>
                  </a:lnTo>
                  <a:lnTo>
                    <a:pt x="1970" y="1727"/>
                  </a:lnTo>
                  <a:lnTo>
                    <a:pt x="1972" y="1851"/>
                  </a:lnTo>
                  <a:lnTo>
                    <a:pt x="1970" y="1974"/>
                  </a:lnTo>
                  <a:lnTo>
                    <a:pt x="1964" y="2095"/>
                  </a:lnTo>
                  <a:lnTo>
                    <a:pt x="1955" y="2214"/>
                  </a:lnTo>
                  <a:lnTo>
                    <a:pt x="1942" y="2331"/>
                  </a:lnTo>
                  <a:lnTo>
                    <a:pt x="1925" y="2445"/>
                  </a:lnTo>
                  <a:lnTo>
                    <a:pt x="1906" y="2558"/>
                  </a:lnTo>
                  <a:lnTo>
                    <a:pt x="1883" y="2667"/>
                  </a:lnTo>
                  <a:lnTo>
                    <a:pt x="1857" y="2773"/>
                  </a:lnTo>
                  <a:lnTo>
                    <a:pt x="1829" y="2877"/>
                  </a:lnTo>
                  <a:lnTo>
                    <a:pt x="1798" y="2978"/>
                  </a:lnTo>
                  <a:lnTo>
                    <a:pt x="1764" y="3076"/>
                  </a:lnTo>
                  <a:lnTo>
                    <a:pt x="1728" y="3171"/>
                  </a:lnTo>
                  <a:lnTo>
                    <a:pt x="1689" y="3263"/>
                  </a:lnTo>
                  <a:lnTo>
                    <a:pt x="1649" y="3351"/>
                  </a:lnTo>
                  <a:lnTo>
                    <a:pt x="1606" y="3435"/>
                  </a:lnTo>
                  <a:lnTo>
                    <a:pt x="1561" y="3516"/>
                  </a:lnTo>
                  <a:lnTo>
                    <a:pt x="1516" y="3594"/>
                  </a:lnTo>
                  <a:lnTo>
                    <a:pt x="1468" y="3666"/>
                  </a:lnTo>
                  <a:lnTo>
                    <a:pt x="1431" y="3717"/>
                  </a:lnTo>
                  <a:lnTo>
                    <a:pt x="1394" y="3765"/>
                  </a:lnTo>
                  <a:lnTo>
                    <a:pt x="1355" y="3812"/>
                  </a:lnTo>
                  <a:lnTo>
                    <a:pt x="1317" y="3858"/>
                  </a:lnTo>
                  <a:lnTo>
                    <a:pt x="1277" y="3902"/>
                  </a:lnTo>
                  <a:lnTo>
                    <a:pt x="1236" y="3944"/>
                  </a:lnTo>
                  <a:lnTo>
                    <a:pt x="1195" y="3985"/>
                  </a:lnTo>
                  <a:lnTo>
                    <a:pt x="1153" y="4024"/>
                  </a:lnTo>
                  <a:lnTo>
                    <a:pt x="0" y="5066"/>
                  </a:lnTo>
                  <a:lnTo>
                    <a:pt x="42" y="5028"/>
                  </a:lnTo>
                  <a:lnTo>
                    <a:pt x="84" y="4987"/>
                  </a:lnTo>
                  <a:lnTo>
                    <a:pt x="125" y="4945"/>
                  </a:lnTo>
                  <a:lnTo>
                    <a:pt x="164" y="4901"/>
                  </a:lnTo>
                  <a:lnTo>
                    <a:pt x="203" y="4855"/>
                  </a:lnTo>
                  <a:lnTo>
                    <a:pt x="242" y="4808"/>
                  </a:lnTo>
                  <a:lnTo>
                    <a:pt x="279" y="4759"/>
                  </a:lnTo>
                  <a:lnTo>
                    <a:pt x="315" y="4708"/>
                  </a:lnTo>
                  <a:lnTo>
                    <a:pt x="399" y="4579"/>
                  </a:lnTo>
                  <a:lnTo>
                    <a:pt x="474" y="4449"/>
                  </a:lnTo>
                  <a:lnTo>
                    <a:pt x="542" y="4320"/>
                  </a:lnTo>
                  <a:lnTo>
                    <a:pt x="601" y="4191"/>
                  </a:lnTo>
                  <a:lnTo>
                    <a:pt x="653" y="4062"/>
                  </a:lnTo>
                  <a:lnTo>
                    <a:pt x="698" y="3934"/>
                  </a:lnTo>
                  <a:lnTo>
                    <a:pt x="736" y="3806"/>
                  </a:lnTo>
                  <a:lnTo>
                    <a:pt x="768" y="3679"/>
                  </a:lnTo>
                  <a:lnTo>
                    <a:pt x="794" y="3553"/>
                  </a:lnTo>
                  <a:lnTo>
                    <a:pt x="813" y="3427"/>
                  </a:lnTo>
                  <a:lnTo>
                    <a:pt x="826" y="3302"/>
                  </a:lnTo>
                  <a:lnTo>
                    <a:pt x="835" y="3178"/>
                  </a:lnTo>
                  <a:lnTo>
                    <a:pt x="839" y="3056"/>
                  </a:lnTo>
                  <a:lnTo>
                    <a:pt x="838" y="2934"/>
                  </a:lnTo>
                  <a:lnTo>
                    <a:pt x="833" y="2814"/>
                  </a:lnTo>
                  <a:lnTo>
                    <a:pt x="825" y="2694"/>
                  </a:lnTo>
                  <a:lnTo>
                    <a:pt x="813" y="2577"/>
                  </a:lnTo>
                  <a:lnTo>
                    <a:pt x="797" y="2461"/>
                  </a:lnTo>
                  <a:lnTo>
                    <a:pt x="778" y="2345"/>
                  </a:lnTo>
                  <a:lnTo>
                    <a:pt x="757" y="2233"/>
                  </a:lnTo>
                  <a:lnTo>
                    <a:pt x="733" y="2122"/>
                  </a:lnTo>
                  <a:lnTo>
                    <a:pt x="707" y="2012"/>
                  </a:lnTo>
                  <a:lnTo>
                    <a:pt x="680" y="1905"/>
                  </a:lnTo>
                  <a:lnTo>
                    <a:pt x="651" y="1798"/>
                  </a:lnTo>
                  <a:lnTo>
                    <a:pt x="621" y="1695"/>
                  </a:lnTo>
                  <a:lnTo>
                    <a:pt x="591" y="1594"/>
                  </a:lnTo>
                  <a:lnTo>
                    <a:pt x="560" y="1495"/>
                  </a:lnTo>
                  <a:lnTo>
                    <a:pt x="528" y="1398"/>
                  </a:lnTo>
                  <a:lnTo>
                    <a:pt x="468" y="1212"/>
                  </a:lnTo>
                  <a:lnTo>
                    <a:pt x="410" y="1036"/>
                  </a:lnTo>
                  <a:lnTo>
                    <a:pt x="15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069920" y="5043600"/>
              <a:ext cx="39600" cy="255600"/>
            </a:xfrm>
            <a:custGeom>
              <a:avLst/>
              <a:gdLst/>
              <a:ahLst/>
              <a:rect l="l" t="t" r="r" b="b"/>
              <a:pathLst>
                <a:path w="565" h="3700">
                  <a:moveTo>
                    <a:pt x="54" y="3700"/>
                  </a:moveTo>
                  <a:lnTo>
                    <a:pt x="54" y="3698"/>
                  </a:lnTo>
                  <a:lnTo>
                    <a:pt x="79" y="3663"/>
                  </a:lnTo>
                  <a:lnTo>
                    <a:pt x="103" y="3625"/>
                  </a:lnTo>
                  <a:lnTo>
                    <a:pt x="127" y="3586"/>
                  </a:lnTo>
                  <a:lnTo>
                    <a:pt x="150" y="3546"/>
                  </a:lnTo>
                  <a:lnTo>
                    <a:pt x="172" y="3507"/>
                  </a:lnTo>
                  <a:lnTo>
                    <a:pt x="195" y="3465"/>
                  </a:lnTo>
                  <a:lnTo>
                    <a:pt x="216" y="3423"/>
                  </a:lnTo>
                  <a:lnTo>
                    <a:pt x="238" y="3379"/>
                  </a:lnTo>
                  <a:lnTo>
                    <a:pt x="258" y="3335"/>
                  </a:lnTo>
                  <a:lnTo>
                    <a:pt x="279" y="3290"/>
                  </a:lnTo>
                  <a:lnTo>
                    <a:pt x="298" y="3244"/>
                  </a:lnTo>
                  <a:lnTo>
                    <a:pt x="317" y="3197"/>
                  </a:lnTo>
                  <a:lnTo>
                    <a:pt x="336" y="3150"/>
                  </a:lnTo>
                  <a:lnTo>
                    <a:pt x="354" y="3101"/>
                  </a:lnTo>
                  <a:lnTo>
                    <a:pt x="371" y="3052"/>
                  </a:lnTo>
                  <a:lnTo>
                    <a:pt x="388" y="3002"/>
                  </a:lnTo>
                  <a:lnTo>
                    <a:pt x="404" y="2952"/>
                  </a:lnTo>
                  <a:lnTo>
                    <a:pt x="419" y="2900"/>
                  </a:lnTo>
                  <a:lnTo>
                    <a:pt x="435" y="2848"/>
                  </a:lnTo>
                  <a:lnTo>
                    <a:pt x="449" y="2795"/>
                  </a:lnTo>
                  <a:lnTo>
                    <a:pt x="462" y="2742"/>
                  </a:lnTo>
                  <a:lnTo>
                    <a:pt x="474" y="2688"/>
                  </a:lnTo>
                  <a:lnTo>
                    <a:pt x="487" y="2633"/>
                  </a:lnTo>
                  <a:lnTo>
                    <a:pt x="498" y="2578"/>
                  </a:lnTo>
                  <a:lnTo>
                    <a:pt x="508" y="2522"/>
                  </a:lnTo>
                  <a:lnTo>
                    <a:pt x="517" y="2465"/>
                  </a:lnTo>
                  <a:lnTo>
                    <a:pt x="525" y="2407"/>
                  </a:lnTo>
                  <a:lnTo>
                    <a:pt x="533" y="2349"/>
                  </a:lnTo>
                  <a:lnTo>
                    <a:pt x="541" y="2290"/>
                  </a:lnTo>
                  <a:lnTo>
                    <a:pt x="547" y="2231"/>
                  </a:lnTo>
                  <a:lnTo>
                    <a:pt x="552" y="2172"/>
                  </a:lnTo>
                  <a:lnTo>
                    <a:pt x="557" y="2111"/>
                  </a:lnTo>
                  <a:lnTo>
                    <a:pt x="560" y="2050"/>
                  </a:lnTo>
                  <a:lnTo>
                    <a:pt x="562" y="1989"/>
                  </a:lnTo>
                  <a:lnTo>
                    <a:pt x="564" y="1928"/>
                  </a:lnTo>
                  <a:lnTo>
                    <a:pt x="565" y="1865"/>
                  </a:lnTo>
                  <a:lnTo>
                    <a:pt x="564" y="1803"/>
                  </a:lnTo>
                  <a:lnTo>
                    <a:pt x="563" y="1740"/>
                  </a:lnTo>
                  <a:lnTo>
                    <a:pt x="560" y="1677"/>
                  </a:lnTo>
                  <a:lnTo>
                    <a:pt x="557" y="1612"/>
                  </a:lnTo>
                  <a:lnTo>
                    <a:pt x="553" y="1548"/>
                  </a:lnTo>
                  <a:lnTo>
                    <a:pt x="547" y="1484"/>
                  </a:lnTo>
                  <a:lnTo>
                    <a:pt x="541" y="1418"/>
                  </a:lnTo>
                  <a:lnTo>
                    <a:pt x="532" y="1353"/>
                  </a:lnTo>
                  <a:lnTo>
                    <a:pt x="523" y="1288"/>
                  </a:lnTo>
                  <a:lnTo>
                    <a:pt x="513" y="1221"/>
                  </a:lnTo>
                  <a:lnTo>
                    <a:pt x="502" y="1155"/>
                  </a:lnTo>
                  <a:lnTo>
                    <a:pt x="490" y="1089"/>
                  </a:lnTo>
                  <a:lnTo>
                    <a:pt x="476" y="1021"/>
                  </a:lnTo>
                  <a:lnTo>
                    <a:pt x="461" y="955"/>
                  </a:lnTo>
                  <a:lnTo>
                    <a:pt x="446" y="888"/>
                  </a:lnTo>
                  <a:lnTo>
                    <a:pt x="428" y="820"/>
                  </a:lnTo>
                  <a:lnTo>
                    <a:pt x="410" y="752"/>
                  </a:lnTo>
                  <a:lnTo>
                    <a:pt x="390" y="685"/>
                  </a:lnTo>
                  <a:lnTo>
                    <a:pt x="369" y="616"/>
                  </a:lnTo>
                  <a:lnTo>
                    <a:pt x="347" y="548"/>
                  </a:lnTo>
                  <a:lnTo>
                    <a:pt x="322" y="479"/>
                  </a:lnTo>
                  <a:lnTo>
                    <a:pt x="298" y="411"/>
                  </a:lnTo>
                  <a:lnTo>
                    <a:pt x="271" y="343"/>
                  </a:lnTo>
                  <a:lnTo>
                    <a:pt x="244" y="274"/>
                  </a:lnTo>
                  <a:lnTo>
                    <a:pt x="214" y="206"/>
                  </a:lnTo>
                  <a:lnTo>
                    <a:pt x="184" y="137"/>
                  </a:lnTo>
                  <a:lnTo>
                    <a:pt x="152" y="68"/>
                  </a:lnTo>
                  <a:lnTo>
                    <a:pt x="118" y="0"/>
                  </a:lnTo>
                  <a:lnTo>
                    <a:pt x="59" y="29"/>
                  </a:lnTo>
                  <a:lnTo>
                    <a:pt x="92" y="97"/>
                  </a:lnTo>
                  <a:lnTo>
                    <a:pt x="124" y="164"/>
                  </a:lnTo>
                  <a:lnTo>
                    <a:pt x="154" y="232"/>
                  </a:lnTo>
                  <a:lnTo>
                    <a:pt x="183" y="300"/>
                  </a:lnTo>
                  <a:lnTo>
                    <a:pt x="210" y="367"/>
                  </a:lnTo>
                  <a:lnTo>
                    <a:pt x="236" y="435"/>
                  </a:lnTo>
                  <a:lnTo>
                    <a:pt x="260" y="502"/>
                  </a:lnTo>
                  <a:lnTo>
                    <a:pt x="284" y="569"/>
                  </a:lnTo>
                  <a:lnTo>
                    <a:pt x="306" y="637"/>
                  </a:lnTo>
                  <a:lnTo>
                    <a:pt x="326" y="703"/>
                  </a:lnTo>
                  <a:lnTo>
                    <a:pt x="346" y="770"/>
                  </a:lnTo>
                  <a:lnTo>
                    <a:pt x="364" y="837"/>
                  </a:lnTo>
                  <a:lnTo>
                    <a:pt x="382" y="903"/>
                  </a:lnTo>
                  <a:lnTo>
                    <a:pt x="397" y="969"/>
                  </a:lnTo>
                  <a:lnTo>
                    <a:pt x="411" y="1036"/>
                  </a:lnTo>
                  <a:lnTo>
                    <a:pt x="425" y="1101"/>
                  </a:lnTo>
                  <a:lnTo>
                    <a:pt x="437" y="1166"/>
                  </a:lnTo>
                  <a:lnTo>
                    <a:pt x="448" y="1232"/>
                  </a:lnTo>
                  <a:lnTo>
                    <a:pt x="458" y="1297"/>
                  </a:lnTo>
                  <a:lnTo>
                    <a:pt x="467" y="1361"/>
                  </a:lnTo>
                  <a:lnTo>
                    <a:pt x="474" y="1426"/>
                  </a:lnTo>
                  <a:lnTo>
                    <a:pt x="481" y="1490"/>
                  </a:lnTo>
                  <a:lnTo>
                    <a:pt x="487" y="1553"/>
                  </a:lnTo>
                  <a:lnTo>
                    <a:pt x="491" y="1616"/>
                  </a:lnTo>
                  <a:lnTo>
                    <a:pt x="495" y="1679"/>
                  </a:lnTo>
                  <a:lnTo>
                    <a:pt x="497" y="1742"/>
                  </a:lnTo>
                  <a:lnTo>
                    <a:pt x="498" y="1803"/>
                  </a:lnTo>
                  <a:lnTo>
                    <a:pt x="499" y="1865"/>
                  </a:lnTo>
                  <a:lnTo>
                    <a:pt x="498" y="1927"/>
                  </a:lnTo>
                  <a:lnTo>
                    <a:pt x="497" y="1987"/>
                  </a:lnTo>
                  <a:lnTo>
                    <a:pt x="494" y="2047"/>
                  </a:lnTo>
                  <a:lnTo>
                    <a:pt x="491" y="2107"/>
                  </a:lnTo>
                  <a:lnTo>
                    <a:pt x="487" y="2167"/>
                  </a:lnTo>
                  <a:lnTo>
                    <a:pt x="481" y="2225"/>
                  </a:lnTo>
                  <a:lnTo>
                    <a:pt x="475" y="2283"/>
                  </a:lnTo>
                  <a:lnTo>
                    <a:pt x="468" y="2341"/>
                  </a:lnTo>
                  <a:lnTo>
                    <a:pt x="460" y="2397"/>
                  </a:lnTo>
                  <a:lnTo>
                    <a:pt x="452" y="2454"/>
                  </a:lnTo>
                  <a:lnTo>
                    <a:pt x="443" y="2509"/>
                  </a:lnTo>
                  <a:lnTo>
                    <a:pt x="432" y="2565"/>
                  </a:lnTo>
                  <a:lnTo>
                    <a:pt x="421" y="2620"/>
                  </a:lnTo>
                  <a:lnTo>
                    <a:pt x="410" y="2674"/>
                  </a:lnTo>
                  <a:lnTo>
                    <a:pt x="398" y="2727"/>
                  </a:lnTo>
                  <a:lnTo>
                    <a:pt x="385" y="2779"/>
                  </a:lnTo>
                  <a:lnTo>
                    <a:pt x="370" y="2831"/>
                  </a:lnTo>
                  <a:lnTo>
                    <a:pt x="356" y="2882"/>
                  </a:lnTo>
                  <a:lnTo>
                    <a:pt x="341" y="2933"/>
                  </a:lnTo>
                  <a:lnTo>
                    <a:pt x="325" y="2982"/>
                  </a:lnTo>
                  <a:lnTo>
                    <a:pt x="309" y="3031"/>
                  </a:lnTo>
                  <a:lnTo>
                    <a:pt x="292" y="3079"/>
                  </a:lnTo>
                  <a:lnTo>
                    <a:pt x="274" y="3127"/>
                  </a:lnTo>
                  <a:lnTo>
                    <a:pt x="256" y="3173"/>
                  </a:lnTo>
                  <a:lnTo>
                    <a:pt x="238" y="3219"/>
                  </a:lnTo>
                  <a:lnTo>
                    <a:pt x="218" y="3264"/>
                  </a:lnTo>
                  <a:lnTo>
                    <a:pt x="198" y="3308"/>
                  </a:lnTo>
                  <a:lnTo>
                    <a:pt x="178" y="3350"/>
                  </a:lnTo>
                  <a:lnTo>
                    <a:pt x="157" y="3393"/>
                  </a:lnTo>
                  <a:lnTo>
                    <a:pt x="136" y="3434"/>
                  </a:lnTo>
                  <a:lnTo>
                    <a:pt x="114" y="3474"/>
                  </a:lnTo>
                  <a:lnTo>
                    <a:pt x="92" y="3514"/>
                  </a:lnTo>
                  <a:lnTo>
                    <a:pt x="69" y="3553"/>
                  </a:lnTo>
                  <a:lnTo>
                    <a:pt x="47" y="3590"/>
                  </a:lnTo>
                  <a:lnTo>
                    <a:pt x="24" y="3626"/>
                  </a:lnTo>
                  <a:lnTo>
                    <a:pt x="0" y="3662"/>
                  </a:lnTo>
                  <a:lnTo>
                    <a:pt x="0" y="3661"/>
                  </a:lnTo>
                  <a:lnTo>
                    <a:pt x="54" y="3700"/>
                  </a:lnTo>
                  <a:lnTo>
                    <a:pt x="54" y="3700"/>
                  </a:lnTo>
                  <a:lnTo>
                    <a:pt x="54" y="3698"/>
                  </a:lnTo>
                  <a:lnTo>
                    <a:pt x="54" y="37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049040" y="5297760"/>
              <a:ext cx="24120" cy="27000"/>
            </a:xfrm>
            <a:custGeom>
              <a:avLst/>
              <a:gdLst/>
              <a:ahLst/>
              <a:rect l="l" t="t" r="r" b="b"/>
              <a:pathLst>
                <a:path w="364" h="402">
                  <a:moveTo>
                    <a:pt x="44" y="402"/>
                  </a:moveTo>
                  <a:lnTo>
                    <a:pt x="44" y="402"/>
                  </a:lnTo>
                  <a:lnTo>
                    <a:pt x="87" y="362"/>
                  </a:lnTo>
                  <a:lnTo>
                    <a:pt x="129" y="320"/>
                  </a:lnTo>
                  <a:lnTo>
                    <a:pt x="170" y="277"/>
                  </a:lnTo>
                  <a:lnTo>
                    <a:pt x="210" y="232"/>
                  </a:lnTo>
                  <a:lnTo>
                    <a:pt x="250" y="187"/>
                  </a:lnTo>
                  <a:lnTo>
                    <a:pt x="289" y="139"/>
                  </a:lnTo>
                  <a:lnTo>
                    <a:pt x="326" y="90"/>
                  </a:lnTo>
                  <a:lnTo>
                    <a:pt x="364" y="39"/>
                  </a:lnTo>
                  <a:lnTo>
                    <a:pt x="310" y="0"/>
                  </a:lnTo>
                  <a:lnTo>
                    <a:pt x="274" y="50"/>
                  </a:lnTo>
                  <a:lnTo>
                    <a:pt x="237" y="98"/>
                  </a:lnTo>
                  <a:lnTo>
                    <a:pt x="199" y="145"/>
                  </a:lnTo>
                  <a:lnTo>
                    <a:pt x="161" y="189"/>
                  </a:lnTo>
                  <a:lnTo>
                    <a:pt x="121" y="232"/>
                  </a:lnTo>
                  <a:lnTo>
                    <a:pt x="82" y="274"/>
                  </a:lnTo>
                  <a:lnTo>
                    <a:pt x="41" y="314"/>
                  </a:lnTo>
                  <a:lnTo>
                    <a:pt x="0" y="353"/>
                  </a:lnTo>
                  <a:lnTo>
                    <a:pt x="0" y="353"/>
                  </a:lnTo>
                  <a:lnTo>
                    <a:pt x="44" y="402"/>
                  </a:lnTo>
                  <a:lnTo>
                    <a:pt x="44" y="402"/>
                  </a:lnTo>
                  <a:lnTo>
                    <a:pt x="44" y="4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968400" y="5321520"/>
              <a:ext cx="82440" cy="74520"/>
            </a:xfrm>
            <a:custGeom>
              <a:avLst/>
              <a:gdLst/>
              <a:ahLst/>
              <a:rect l="l" t="t" r="r" b="b"/>
              <a:pathLst>
                <a:path w="1197" h="1091">
                  <a:moveTo>
                    <a:pt x="45" y="1091"/>
                  </a:moveTo>
                  <a:lnTo>
                    <a:pt x="45" y="1091"/>
                  </a:lnTo>
                  <a:lnTo>
                    <a:pt x="1197" y="49"/>
                  </a:lnTo>
                  <a:lnTo>
                    <a:pt x="1153" y="0"/>
                  </a:lnTo>
                  <a:lnTo>
                    <a:pt x="0" y="1042"/>
                  </a:lnTo>
                  <a:lnTo>
                    <a:pt x="45" y="1091"/>
                  </a:lnTo>
                  <a:lnTo>
                    <a:pt x="0" y="1042"/>
                  </a:lnTo>
                  <a:lnTo>
                    <a:pt x="7" y="1082"/>
                  </a:lnTo>
                  <a:lnTo>
                    <a:pt x="45" y="10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968400" y="5369040"/>
              <a:ext cx="25200" cy="27000"/>
            </a:xfrm>
            <a:custGeom>
              <a:avLst/>
              <a:gdLst/>
              <a:ahLst/>
              <a:rect l="l" t="t" r="r" b="b"/>
              <a:pathLst>
                <a:path w="364" h="401">
                  <a:moveTo>
                    <a:pt x="309" y="0"/>
                  </a:moveTo>
                  <a:lnTo>
                    <a:pt x="310" y="0"/>
                  </a:lnTo>
                  <a:lnTo>
                    <a:pt x="273" y="49"/>
                  </a:lnTo>
                  <a:lnTo>
                    <a:pt x="236" y="98"/>
                  </a:lnTo>
                  <a:lnTo>
                    <a:pt x="199" y="144"/>
                  </a:lnTo>
                  <a:lnTo>
                    <a:pt x="160" y="189"/>
                  </a:lnTo>
                  <a:lnTo>
                    <a:pt x="121" y="233"/>
                  </a:lnTo>
                  <a:lnTo>
                    <a:pt x="81" y="273"/>
                  </a:lnTo>
                  <a:lnTo>
                    <a:pt x="41" y="314"/>
                  </a:lnTo>
                  <a:lnTo>
                    <a:pt x="0" y="352"/>
                  </a:lnTo>
                  <a:lnTo>
                    <a:pt x="44" y="401"/>
                  </a:lnTo>
                  <a:lnTo>
                    <a:pt x="86" y="362"/>
                  </a:lnTo>
                  <a:lnTo>
                    <a:pt x="128" y="320"/>
                  </a:lnTo>
                  <a:lnTo>
                    <a:pt x="170" y="277"/>
                  </a:lnTo>
                  <a:lnTo>
                    <a:pt x="210" y="233"/>
                  </a:lnTo>
                  <a:lnTo>
                    <a:pt x="250" y="187"/>
                  </a:lnTo>
                  <a:lnTo>
                    <a:pt x="288" y="139"/>
                  </a:lnTo>
                  <a:lnTo>
                    <a:pt x="326" y="89"/>
                  </a:lnTo>
                  <a:lnTo>
                    <a:pt x="364" y="38"/>
                  </a:lnTo>
                  <a:lnTo>
                    <a:pt x="364" y="38"/>
                  </a:lnTo>
                  <a:lnTo>
                    <a:pt x="364" y="38"/>
                  </a:lnTo>
                  <a:lnTo>
                    <a:pt x="364" y="38"/>
                  </a:lnTo>
                  <a:lnTo>
                    <a:pt x="364" y="38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990360" y="5115240"/>
              <a:ext cx="39960" cy="257040"/>
            </a:xfrm>
            <a:custGeom>
              <a:avLst/>
              <a:gdLst/>
              <a:ahLst/>
              <a:rect l="l" t="t" r="r" b="b"/>
              <a:pathLst>
                <a:path w="585" h="3717">
                  <a:moveTo>
                    <a:pt x="100" y="0"/>
                  </a:moveTo>
                  <a:lnTo>
                    <a:pt x="91" y="35"/>
                  </a:lnTo>
                  <a:lnTo>
                    <a:pt x="149" y="211"/>
                  </a:lnTo>
                  <a:lnTo>
                    <a:pt x="210" y="398"/>
                  </a:lnTo>
                  <a:lnTo>
                    <a:pt x="240" y="493"/>
                  </a:lnTo>
                  <a:lnTo>
                    <a:pt x="271" y="592"/>
                  </a:lnTo>
                  <a:lnTo>
                    <a:pt x="302" y="693"/>
                  </a:lnTo>
                  <a:lnTo>
                    <a:pt x="331" y="797"/>
                  </a:lnTo>
                  <a:lnTo>
                    <a:pt x="360" y="902"/>
                  </a:lnTo>
                  <a:lnTo>
                    <a:pt x="387" y="1009"/>
                  </a:lnTo>
                  <a:lnTo>
                    <a:pt x="401" y="1063"/>
                  </a:lnTo>
                  <a:lnTo>
                    <a:pt x="413" y="1118"/>
                  </a:lnTo>
                  <a:lnTo>
                    <a:pt x="425" y="1173"/>
                  </a:lnTo>
                  <a:lnTo>
                    <a:pt x="436" y="1228"/>
                  </a:lnTo>
                  <a:lnTo>
                    <a:pt x="447" y="1284"/>
                  </a:lnTo>
                  <a:lnTo>
                    <a:pt x="458" y="1341"/>
                  </a:lnTo>
                  <a:lnTo>
                    <a:pt x="467" y="1398"/>
                  </a:lnTo>
                  <a:lnTo>
                    <a:pt x="476" y="1454"/>
                  </a:lnTo>
                  <a:lnTo>
                    <a:pt x="484" y="1512"/>
                  </a:lnTo>
                  <a:lnTo>
                    <a:pt x="491" y="1569"/>
                  </a:lnTo>
                  <a:lnTo>
                    <a:pt x="498" y="1627"/>
                  </a:lnTo>
                  <a:lnTo>
                    <a:pt x="505" y="1687"/>
                  </a:lnTo>
                  <a:lnTo>
                    <a:pt x="509" y="1745"/>
                  </a:lnTo>
                  <a:lnTo>
                    <a:pt x="513" y="1804"/>
                  </a:lnTo>
                  <a:lnTo>
                    <a:pt x="516" y="1864"/>
                  </a:lnTo>
                  <a:lnTo>
                    <a:pt x="518" y="1923"/>
                  </a:lnTo>
                  <a:lnTo>
                    <a:pt x="519" y="1984"/>
                  </a:lnTo>
                  <a:lnTo>
                    <a:pt x="518" y="2044"/>
                  </a:lnTo>
                  <a:lnTo>
                    <a:pt x="517" y="2105"/>
                  </a:lnTo>
                  <a:lnTo>
                    <a:pt x="515" y="2165"/>
                  </a:lnTo>
                  <a:lnTo>
                    <a:pt x="511" y="2226"/>
                  </a:lnTo>
                  <a:lnTo>
                    <a:pt x="506" y="2288"/>
                  </a:lnTo>
                  <a:lnTo>
                    <a:pt x="499" y="2350"/>
                  </a:lnTo>
                  <a:lnTo>
                    <a:pt x="492" y="2411"/>
                  </a:lnTo>
                  <a:lnTo>
                    <a:pt x="483" y="2473"/>
                  </a:lnTo>
                  <a:lnTo>
                    <a:pt x="473" y="2536"/>
                  </a:lnTo>
                  <a:lnTo>
                    <a:pt x="461" y="2598"/>
                  </a:lnTo>
                  <a:lnTo>
                    <a:pt x="447" y="2660"/>
                  </a:lnTo>
                  <a:lnTo>
                    <a:pt x="432" y="2724"/>
                  </a:lnTo>
                  <a:lnTo>
                    <a:pt x="416" y="2787"/>
                  </a:lnTo>
                  <a:lnTo>
                    <a:pt x="399" y="2849"/>
                  </a:lnTo>
                  <a:lnTo>
                    <a:pt x="379" y="2912"/>
                  </a:lnTo>
                  <a:lnTo>
                    <a:pt x="358" y="2976"/>
                  </a:lnTo>
                  <a:lnTo>
                    <a:pt x="334" y="3040"/>
                  </a:lnTo>
                  <a:lnTo>
                    <a:pt x="310" y="3103"/>
                  </a:lnTo>
                  <a:lnTo>
                    <a:pt x="283" y="3166"/>
                  </a:lnTo>
                  <a:lnTo>
                    <a:pt x="255" y="3231"/>
                  </a:lnTo>
                  <a:lnTo>
                    <a:pt x="224" y="3294"/>
                  </a:lnTo>
                  <a:lnTo>
                    <a:pt x="192" y="3358"/>
                  </a:lnTo>
                  <a:lnTo>
                    <a:pt x="158" y="3423"/>
                  </a:lnTo>
                  <a:lnTo>
                    <a:pt x="121" y="3487"/>
                  </a:lnTo>
                  <a:lnTo>
                    <a:pt x="83" y="3551"/>
                  </a:lnTo>
                  <a:lnTo>
                    <a:pt x="43" y="3615"/>
                  </a:lnTo>
                  <a:lnTo>
                    <a:pt x="0" y="3679"/>
                  </a:lnTo>
                  <a:lnTo>
                    <a:pt x="55" y="3717"/>
                  </a:lnTo>
                  <a:lnTo>
                    <a:pt x="98" y="3650"/>
                  </a:lnTo>
                  <a:lnTo>
                    <a:pt x="140" y="3585"/>
                  </a:lnTo>
                  <a:lnTo>
                    <a:pt x="178" y="3520"/>
                  </a:lnTo>
                  <a:lnTo>
                    <a:pt x="216" y="3454"/>
                  </a:lnTo>
                  <a:lnTo>
                    <a:pt x="251" y="3389"/>
                  </a:lnTo>
                  <a:lnTo>
                    <a:pt x="283" y="3324"/>
                  </a:lnTo>
                  <a:lnTo>
                    <a:pt x="315" y="3258"/>
                  </a:lnTo>
                  <a:lnTo>
                    <a:pt x="343" y="3193"/>
                  </a:lnTo>
                  <a:lnTo>
                    <a:pt x="371" y="3128"/>
                  </a:lnTo>
                  <a:lnTo>
                    <a:pt x="396" y="3062"/>
                  </a:lnTo>
                  <a:lnTo>
                    <a:pt x="420" y="2998"/>
                  </a:lnTo>
                  <a:lnTo>
                    <a:pt x="441" y="2933"/>
                  </a:lnTo>
                  <a:lnTo>
                    <a:pt x="462" y="2868"/>
                  </a:lnTo>
                  <a:lnTo>
                    <a:pt x="480" y="2804"/>
                  </a:lnTo>
                  <a:lnTo>
                    <a:pt x="496" y="2740"/>
                  </a:lnTo>
                  <a:lnTo>
                    <a:pt x="512" y="2676"/>
                  </a:lnTo>
                  <a:lnTo>
                    <a:pt x="526" y="2611"/>
                  </a:lnTo>
                  <a:lnTo>
                    <a:pt x="538" y="2547"/>
                  </a:lnTo>
                  <a:lnTo>
                    <a:pt x="548" y="2484"/>
                  </a:lnTo>
                  <a:lnTo>
                    <a:pt x="558" y="2420"/>
                  </a:lnTo>
                  <a:lnTo>
                    <a:pt x="565" y="2357"/>
                  </a:lnTo>
                  <a:lnTo>
                    <a:pt x="572" y="2294"/>
                  </a:lnTo>
                  <a:lnTo>
                    <a:pt x="577" y="2232"/>
                  </a:lnTo>
                  <a:lnTo>
                    <a:pt x="580" y="2169"/>
                  </a:lnTo>
                  <a:lnTo>
                    <a:pt x="583" y="2107"/>
                  </a:lnTo>
                  <a:lnTo>
                    <a:pt x="584" y="2045"/>
                  </a:lnTo>
                  <a:lnTo>
                    <a:pt x="585" y="1984"/>
                  </a:lnTo>
                  <a:lnTo>
                    <a:pt x="584" y="1922"/>
                  </a:lnTo>
                  <a:lnTo>
                    <a:pt x="582" y="1861"/>
                  </a:lnTo>
                  <a:lnTo>
                    <a:pt x="579" y="1801"/>
                  </a:lnTo>
                  <a:lnTo>
                    <a:pt x="575" y="1741"/>
                  </a:lnTo>
                  <a:lnTo>
                    <a:pt x="570" y="1680"/>
                  </a:lnTo>
                  <a:lnTo>
                    <a:pt x="564" y="1621"/>
                  </a:lnTo>
                  <a:lnTo>
                    <a:pt x="558" y="1562"/>
                  </a:lnTo>
                  <a:lnTo>
                    <a:pt x="549" y="1503"/>
                  </a:lnTo>
                  <a:lnTo>
                    <a:pt x="541" y="1445"/>
                  </a:lnTo>
                  <a:lnTo>
                    <a:pt x="532" y="1386"/>
                  </a:lnTo>
                  <a:lnTo>
                    <a:pt x="523" y="1329"/>
                  </a:lnTo>
                  <a:lnTo>
                    <a:pt x="512" y="1272"/>
                  </a:lnTo>
                  <a:lnTo>
                    <a:pt x="502" y="1215"/>
                  </a:lnTo>
                  <a:lnTo>
                    <a:pt x="489" y="1159"/>
                  </a:lnTo>
                  <a:lnTo>
                    <a:pt x="477" y="1104"/>
                  </a:lnTo>
                  <a:lnTo>
                    <a:pt x="465" y="1048"/>
                  </a:lnTo>
                  <a:lnTo>
                    <a:pt x="452" y="993"/>
                  </a:lnTo>
                  <a:lnTo>
                    <a:pt x="424" y="885"/>
                  </a:lnTo>
                  <a:lnTo>
                    <a:pt x="395" y="779"/>
                  </a:lnTo>
                  <a:lnTo>
                    <a:pt x="365" y="675"/>
                  </a:lnTo>
                  <a:lnTo>
                    <a:pt x="334" y="573"/>
                  </a:lnTo>
                  <a:lnTo>
                    <a:pt x="304" y="474"/>
                  </a:lnTo>
                  <a:lnTo>
                    <a:pt x="272" y="377"/>
                  </a:lnTo>
                  <a:lnTo>
                    <a:pt x="211" y="190"/>
                  </a:lnTo>
                  <a:lnTo>
                    <a:pt x="154" y="15"/>
                  </a:lnTo>
                  <a:lnTo>
                    <a:pt x="145" y="49"/>
                  </a:lnTo>
                  <a:lnTo>
                    <a:pt x="100" y="0"/>
                  </a:lnTo>
                  <a:lnTo>
                    <a:pt x="84" y="15"/>
                  </a:lnTo>
                  <a:lnTo>
                    <a:pt x="91" y="35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96840" y="5042160"/>
              <a:ext cx="81000" cy="75960"/>
            </a:xfrm>
            <a:custGeom>
              <a:avLst/>
              <a:gdLst/>
              <a:ahLst/>
              <a:rect l="l" t="t" r="r" b="b"/>
              <a:pathLst>
                <a:path w="1171" h="1114">
                  <a:moveTo>
                    <a:pt x="1171" y="40"/>
                  </a:moveTo>
                  <a:lnTo>
                    <a:pt x="1119" y="30"/>
                  </a:lnTo>
                  <a:lnTo>
                    <a:pt x="0" y="1065"/>
                  </a:lnTo>
                  <a:lnTo>
                    <a:pt x="45" y="1114"/>
                  </a:lnTo>
                  <a:lnTo>
                    <a:pt x="1164" y="79"/>
                  </a:lnTo>
                  <a:lnTo>
                    <a:pt x="1171" y="40"/>
                  </a:lnTo>
                  <a:lnTo>
                    <a:pt x="1171" y="40"/>
                  </a:lnTo>
                  <a:lnTo>
                    <a:pt x="1151" y="0"/>
                  </a:lnTo>
                  <a:lnTo>
                    <a:pt x="1119" y="30"/>
                  </a:lnTo>
                  <a:lnTo>
                    <a:pt x="1171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cons: Cisco Products (Cont.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42" name="" descr="SwitchVirtualLayer.ai, December 30, 2004"/>
          <p:cNvPicPr/>
          <p:nvPr/>
        </p:nvPicPr>
        <p:blipFill>
          <a:blip r:embed="rId1"/>
          <a:stretch/>
        </p:blipFill>
        <p:spPr>
          <a:xfrm>
            <a:off x="738360" y="1301760"/>
            <a:ext cx="790560" cy="1154160"/>
          </a:xfrm>
          <a:prstGeom prst="rect">
            <a:avLst/>
          </a:prstGeom>
          <a:ln w="0">
            <a:noFill/>
          </a:ln>
        </p:spPr>
      </p:pic>
      <p:pic>
        <p:nvPicPr>
          <p:cNvPr id="1843" name="" descr="Multilayer Remote Switch.ai, December 30, 2004"/>
          <p:cNvPicPr/>
          <p:nvPr/>
        </p:nvPicPr>
        <p:blipFill>
          <a:blip r:embed="rId2"/>
          <a:stretch/>
        </p:blipFill>
        <p:spPr>
          <a:xfrm>
            <a:off x="738360" y="2579760"/>
            <a:ext cx="790560" cy="115416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1600200" y="1566720"/>
            <a:ext cx="1523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rtual Layer Swit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600200" y="2806560"/>
            <a:ext cx="99072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ltilayer Remot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600200" y="3809880"/>
            <a:ext cx="1523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yer 2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ote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7" name="" descr="Layer 2 Remote Switch.ai, December 30, 2004"/>
          <p:cNvPicPr/>
          <p:nvPr/>
        </p:nvPicPr>
        <p:blipFill>
          <a:blip r:embed="rId3"/>
          <a:stretch/>
        </p:blipFill>
        <p:spPr>
          <a:xfrm>
            <a:off x="609480" y="3859200"/>
            <a:ext cx="919440" cy="457200"/>
          </a:xfrm>
          <a:prstGeom prst="rect">
            <a:avLst/>
          </a:prstGeom>
          <a:ln w="0">
            <a:noFill/>
          </a:ln>
        </p:spPr>
      </p:pic>
      <p:pic>
        <p:nvPicPr>
          <p:cNvPr id="1848" name="" descr=""/>
          <p:cNvPicPr/>
          <p:nvPr/>
        </p:nvPicPr>
        <p:blipFill>
          <a:blip r:embed="rId4"/>
          <a:stretch/>
        </p:blipFill>
        <p:spPr>
          <a:xfrm>
            <a:off x="5551560" y="4405320"/>
            <a:ext cx="3219480" cy="73080"/>
          </a:xfrm>
          <a:prstGeom prst="rect">
            <a:avLst/>
          </a:prstGeom>
          <a:ln w="0">
            <a:noFill/>
          </a:ln>
        </p:spPr>
      </p:pic>
      <p:sp>
        <p:nvSpPr>
          <p:cNvPr id="1849" name=""/>
          <p:cNvSpPr/>
          <p:nvPr/>
        </p:nvSpPr>
        <p:spPr>
          <a:xfrm>
            <a:off x="5969160" y="449424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WDM Network L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0" name="" descr=""/>
          <p:cNvPicPr/>
          <p:nvPr/>
        </p:nvPicPr>
        <p:blipFill>
          <a:blip r:embed="rId5"/>
          <a:stretch/>
        </p:blipFill>
        <p:spPr>
          <a:xfrm>
            <a:off x="5873760" y="3279600"/>
            <a:ext cx="2575080" cy="1013040"/>
          </a:xfrm>
          <a:prstGeom prst="rect">
            <a:avLst/>
          </a:prstGeom>
          <a:ln w="0">
            <a:noFill/>
          </a:ln>
        </p:spPr>
      </p:pic>
      <p:sp>
        <p:nvSpPr>
          <p:cNvPr id="1851" name=""/>
          <p:cNvSpPr/>
          <p:nvPr/>
        </p:nvSpPr>
        <p:spPr>
          <a:xfrm>
            <a:off x="5904000" y="3633840"/>
            <a:ext cx="251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WDM 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2" name="" descr=""/>
          <p:cNvPicPr/>
          <p:nvPr/>
        </p:nvPicPr>
        <p:blipFill>
          <a:blip r:embed="rId6"/>
          <a:stretch/>
        </p:blipFill>
        <p:spPr>
          <a:xfrm>
            <a:off x="5641920" y="2406600"/>
            <a:ext cx="771480" cy="1136880"/>
          </a:xfrm>
          <a:prstGeom prst="rect">
            <a:avLst/>
          </a:prstGeom>
          <a:ln w="0">
            <a:noFill/>
          </a:ln>
        </p:spPr>
      </p:pic>
      <p:sp>
        <p:nvSpPr>
          <p:cNvPr id="1853" name=""/>
          <p:cNvSpPr/>
          <p:nvPr/>
        </p:nvSpPr>
        <p:spPr>
          <a:xfrm>
            <a:off x="6470640" y="2820960"/>
            <a:ext cx="125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WDM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" descr=""/>
          <p:cNvPicPr/>
          <p:nvPr/>
        </p:nvPicPr>
        <p:blipFill>
          <a:blip r:embed="rId7"/>
          <a:stretch/>
        </p:blipFill>
        <p:spPr>
          <a:xfrm>
            <a:off x="735120" y="4440240"/>
            <a:ext cx="793800" cy="1149480"/>
          </a:xfrm>
          <a:prstGeom prst="rect">
            <a:avLst/>
          </a:prstGeom>
          <a:ln w="0">
            <a:noFill/>
          </a:ln>
        </p:spPr>
      </p:pic>
      <p:pic>
        <p:nvPicPr>
          <p:cNvPr id="1855" name="" descr=""/>
          <p:cNvPicPr/>
          <p:nvPr/>
        </p:nvPicPr>
        <p:blipFill>
          <a:blip r:embed="rId8"/>
          <a:stretch/>
        </p:blipFill>
        <p:spPr>
          <a:xfrm>
            <a:off x="735120" y="5715000"/>
            <a:ext cx="793800" cy="781200"/>
          </a:xfrm>
          <a:prstGeom prst="rect">
            <a:avLst/>
          </a:prstGeom>
          <a:ln w="0">
            <a:noFill/>
          </a:ln>
        </p:spPr>
      </p:pic>
      <p:sp>
        <p:nvSpPr>
          <p:cNvPr id="1856" name=""/>
          <p:cNvSpPr/>
          <p:nvPr/>
        </p:nvSpPr>
        <p:spPr>
          <a:xfrm>
            <a:off x="1600200" y="4805280"/>
            <a:ext cx="1295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ltifabric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600200" y="5946840"/>
            <a:ext cx="152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 Swi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8" name="" descr=""/>
          <p:cNvPicPr/>
          <p:nvPr/>
        </p:nvPicPr>
        <p:blipFill>
          <a:blip r:embed="rId9"/>
          <a:stretch/>
        </p:blipFill>
        <p:spPr>
          <a:xfrm>
            <a:off x="3270240" y="1189080"/>
            <a:ext cx="1241280" cy="121608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4506840" y="1666800"/>
            <a:ext cx="1752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PC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fied Personal Communic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0" name="" descr=""/>
          <p:cNvPicPr/>
          <p:nvPr/>
        </p:nvPicPr>
        <p:blipFill>
          <a:blip r:embed="rId10"/>
          <a:stretch/>
        </p:blipFill>
        <p:spPr>
          <a:xfrm>
            <a:off x="3276720" y="3768840"/>
            <a:ext cx="1234800" cy="1003320"/>
          </a:xfrm>
          <a:prstGeom prst="rect">
            <a:avLst/>
          </a:prstGeom>
          <a:ln w="0">
            <a:noFill/>
          </a:ln>
        </p:spPr>
      </p:pic>
      <p:sp>
        <p:nvSpPr>
          <p:cNvPr id="1861" name=""/>
          <p:cNvSpPr/>
          <p:nvPr/>
        </p:nvSpPr>
        <p:spPr>
          <a:xfrm>
            <a:off x="4572000" y="3811680"/>
            <a:ext cx="1295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506840" y="5091120"/>
            <a:ext cx="979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eam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4506840" y="5969160"/>
            <a:ext cx="979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aul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4" name="" descr=""/>
          <p:cNvPicPr/>
          <p:nvPr/>
        </p:nvPicPr>
        <p:blipFill>
          <a:blip r:embed="rId11"/>
          <a:stretch/>
        </p:blipFill>
        <p:spPr>
          <a:xfrm>
            <a:off x="5943600" y="5772240"/>
            <a:ext cx="1031760" cy="709560"/>
          </a:xfrm>
          <a:prstGeom prst="rect">
            <a:avLst/>
          </a:prstGeom>
          <a:ln w="0">
            <a:noFill/>
          </a:ln>
        </p:spPr>
      </p:pic>
      <p:pic>
        <p:nvPicPr>
          <p:cNvPr id="1865" name="" descr=""/>
          <p:cNvPicPr/>
          <p:nvPr/>
        </p:nvPicPr>
        <p:blipFill>
          <a:blip r:embed="rId12"/>
          <a:stretch/>
        </p:blipFill>
        <p:spPr>
          <a:xfrm>
            <a:off x="3370320" y="4867200"/>
            <a:ext cx="1041480" cy="709560"/>
          </a:xfrm>
          <a:prstGeom prst="rect">
            <a:avLst/>
          </a:prstGeom>
          <a:ln w="0">
            <a:noFill/>
          </a:ln>
        </p:spPr>
      </p:pic>
      <p:pic>
        <p:nvPicPr>
          <p:cNvPr id="1866" name="" descr=""/>
          <p:cNvPicPr/>
          <p:nvPr/>
        </p:nvPicPr>
        <p:blipFill>
          <a:blip r:embed="rId13"/>
          <a:stretch/>
        </p:blipFill>
        <p:spPr>
          <a:xfrm>
            <a:off x="5924520" y="4867200"/>
            <a:ext cx="1041480" cy="709560"/>
          </a:xfrm>
          <a:prstGeom prst="rect">
            <a:avLst/>
          </a:prstGeom>
          <a:ln w="0">
            <a:noFill/>
          </a:ln>
        </p:spPr>
      </p:pic>
      <p:pic>
        <p:nvPicPr>
          <p:cNvPr id="1867" name="" descr=""/>
          <p:cNvPicPr/>
          <p:nvPr/>
        </p:nvPicPr>
        <p:blipFill>
          <a:blip r:embed="rId14"/>
          <a:stretch/>
        </p:blipFill>
        <p:spPr>
          <a:xfrm>
            <a:off x="3375000" y="5772240"/>
            <a:ext cx="1031760" cy="70956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7097760" y="5091120"/>
            <a:ext cx="166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eamer (Half-Ful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7097760" y="5969160"/>
            <a:ext cx="1563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ault (Half-Ful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506840" y="2900520"/>
            <a:ext cx="1752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M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5"/>
          <a:stretch/>
        </p:blipFill>
        <p:spPr>
          <a:xfrm>
            <a:off x="3274920" y="2494080"/>
            <a:ext cx="1236600" cy="1120680"/>
          </a:xfrm>
          <a:prstGeom prst="rect">
            <a:avLst/>
          </a:prstGeom>
          <a:ln w="0">
            <a:noFill/>
          </a:ln>
        </p:spPr>
      </p:pic>
      <p:sp>
        <p:nvSpPr>
          <p:cNvPr id="1872" name=""/>
          <p:cNvSpPr/>
          <p:nvPr/>
        </p:nvSpPr>
        <p:spPr>
          <a:xfrm>
            <a:off x="7099200" y="1285920"/>
            <a:ext cx="17146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sco Unified Communications 500 Series for Small 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16"/>
          <a:stretch/>
        </p:blipFill>
        <p:spPr>
          <a:xfrm>
            <a:off x="6099120" y="1274760"/>
            <a:ext cx="1003320" cy="99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20:53:38Z</dcterms:created>
  <dc:creator>Cisco Systems, Inc.</dc:creator>
  <dc:description>Jenita Varela 8/30: Added icons to slides 9, 10, 20, and 22; changed label "Cisco CallManager" to "Cisco Unified Communications Manager"</dc:description>
  <cp:keywords/>
  <dc:language>en-US</dc:language>
  <cp:lastModifiedBy>Charles</cp:lastModifiedBy>
  <cp:lastPrinted>1999-01-27T00:54:54Z</cp:lastPrinted>
  <dcterms:modified xsi:type="dcterms:W3CDTF">2008-07-21T05:31:14Z</dcterms:modified>
  <cp:revision>22</cp:revision>
  <dc:subject>Guide for Creating Powerpoint Presentations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